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1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3  Uni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419200" y="1639800"/>
            <a:ext cx="4662720" cy="4810320"/>
            <a:chOff x="2419200" y="1639800"/>
            <a:chExt cx="4662720" cy="4810320"/>
          </a:xfrm>
        </p:grpSpPr>
        <p:sp>
          <p:nvSpPr>
            <p:cNvPr id="42" name=""/>
            <p:cNvSpPr/>
            <p:nvPr/>
          </p:nvSpPr>
          <p:spPr>
            <a:xfrm>
              <a:off x="2822400" y="1676520"/>
              <a:ext cx="2268720" cy="2352600"/>
            </a:xfrm>
            <a:custGeom>
              <a:avLst/>
              <a:gdLst/>
              <a:ahLst/>
              <a:rect l="l" t="t" r="r" b="b"/>
              <a:pathLst>
                <a:path w="1429" h="1482">
                  <a:moveTo>
                    <a:pt x="745" y="1471"/>
                  </a:moveTo>
                  <a:lnTo>
                    <a:pt x="715" y="1456"/>
                  </a:lnTo>
                  <a:lnTo>
                    <a:pt x="683" y="1437"/>
                  </a:lnTo>
                  <a:lnTo>
                    <a:pt x="649" y="1419"/>
                  </a:lnTo>
                  <a:lnTo>
                    <a:pt x="614" y="1398"/>
                  </a:lnTo>
                  <a:lnTo>
                    <a:pt x="577" y="1377"/>
                  </a:lnTo>
                  <a:lnTo>
                    <a:pt x="540" y="1354"/>
                  </a:lnTo>
                  <a:lnTo>
                    <a:pt x="503" y="1331"/>
                  </a:lnTo>
                  <a:lnTo>
                    <a:pt x="467" y="1307"/>
                  </a:lnTo>
                  <a:lnTo>
                    <a:pt x="432" y="1283"/>
                  </a:lnTo>
                  <a:lnTo>
                    <a:pt x="398" y="1258"/>
                  </a:lnTo>
                  <a:lnTo>
                    <a:pt x="365" y="1233"/>
                  </a:lnTo>
                  <a:lnTo>
                    <a:pt x="336" y="1209"/>
                  </a:lnTo>
                  <a:lnTo>
                    <a:pt x="311" y="1186"/>
                  </a:lnTo>
                  <a:lnTo>
                    <a:pt x="288" y="1161"/>
                  </a:lnTo>
                  <a:lnTo>
                    <a:pt x="271" y="1138"/>
                  </a:lnTo>
                  <a:lnTo>
                    <a:pt x="257" y="1116"/>
                  </a:lnTo>
                  <a:lnTo>
                    <a:pt x="208" y="1115"/>
                  </a:lnTo>
                  <a:lnTo>
                    <a:pt x="163" y="1104"/>
                  </a:lnTo>
                  <a:lnTo>
                    <a:pt x="123" y="1087"/>
                  </a:lnTo>
                  <a:lnTo>
                    <a:pt x="89" y="1065"/>
                  </a:lnTo>
                  <a:lnTo>
                    <a:pt x="60" y="1038"/>
                  </a:lnTo>
                  <a:lnTo>
                    <a:pt x="35" y="1007"/>
                  </a:lnTo>
                  <a:lnTo>
                    <a:pt x="17" y="971"/>
                  </a:lnTo>
                  <a:lnTo>
                    <a:pt x="5" y="936"/>
                  </a:lnTo>
                  <a:lnTo>
                    <a:pt x="0" y="899"/>
                  </a:lnTo>
                  <a:lnTo>
                    <a:pt x="0" y="862"/>
                  </a:lnTo>
                  <a:lnTo>
                    <a:pt x="8" y="826"/>
                  </a:lnTo>
                  <a:lnTo>
                    <a:pt x="22" y="792"/>
                  </a:lnTo>
                  <a:lnTo>
                    <a:pt x="43" y="762"/>
                  </a:lnTo>
                  <a:lnTo>
                    <a:pt x="72" y="735"/>
                  </a:lnTo>
                  <a:lnTo>
                    <a:pt x="109" y="714"/>
                  </a:lnTo>
                  <a:lnTo>
                    <a:pt x="154" y="698"/>
                  </a:lnTo>
                  <a:lnTo>
                    <a:pt x="156" y="637"/>
                  </a:lnTo>
                  <a:lnTo>
                    <a:pt x="163" y="572"/>
                  </a:lnTo>
                  <a:lnTo>
                    <a:pt x="176" y="502"/>
                  </a:lnTo>
                  <a:lnTo>
                    <a:pt x="193" y="435"/>
                  </a:lnTo>
                  <a:lnTo>
                    <a:pt x="216" y="371"/>
                  </a:lnTo>
                  <a:lnTo>
                    <a:pt x="247" y="313"/>
                  </a:lnTo>
                  <a:lnTo>
                    <a:pt x="284" y="262"/>
                  </a:lnTo>
                  <a:lnTo>
                    <a:pt x="328" y="223"/>
                  </a:lnTo>
                  <a:lnTo>
                    <a:pt x="327" y="222"/>
                  </a:lnTo>
                  <a:lnTo>
                    <a:pt x="321" y="219"/>
                  </a:lnTo>
                  <a:lnTo>
                    <a:pt x="310" y="216"/>
                  </a:lnTo>
                  <a:lnTo>
                    <a:pt x="296" y="212"/>
                  </a:lnTo>
                  <a:lnTo>
                    <a:pt x="279" y="211"/>
                  </a:lnTo>
                  <a:lnTo>
                    <a:pt x="259" y="211"/>
                  </a:lnTo>
                  <a:lnTo>
                    <a:pt x="236" y="216"/>
                  </a:lnTo>
                  <a:lnTo>
                    <a:pt x="210" y="223"/>
                  </a:lnTo>
                  <a:lnTo>
                    <a:pt x="234" y="196"/>
                  </a:lnTo>
                  <a:lnTo>
                    <a:pt x="259" y="169"/>
                  </a:lnTo>
                  <a:lnTo>
                    <a:pt x="285" y="146"/>
                  </a:lnTo>
                  <a:lnTo>
                    <a:pt x="315" y="123"/>
                  </a:lnTo>
                  <a:lnTo>
                    <a:pt x="342" y="103"/>
                  </a:lnTo>
                  <a:lnTo>
                    <a:pt x="373" y="86"/>
                  </a:lnTo>
                  <a:lnTo>
                    <a:pt x="404" y="69"/>
                  </a:lnTo>
                  <a:lnTo>
                    <a:pt x="436" y="55"/>
                  </a:lnTo>
                  <a:lnTo>
                    <a:pt x="459" y="46"/>
                  </a:lnTo>
                  <a:lnTo>
                    <a:pt x="484" y="37"/>
                  </a:lnTo>
                  <a:lnTo>
                    <a:pt x="509" y="29"/>
                  </a:lnTo>
                  <a:lnTo>
                    <a:pt x="532" y="23"/>
                  </a:lnTo>
                  <a:lnTo>
                    <a:pt x="557" y="17"/>
                  </a:lnTo>
                  <a:lnTo>
                    <a:pt x="583" y="12"/>
                  </a:lnTo>
                  <a:lnTo>
                    <a:pt x="608" y="7"/>
                  </a:lnTo>
                  <a:lnTo>
                    <a:pt x="632" y="4"/>
                  </a:lnTo>
                  <a:lnTo>
                    <a:pt x="657" y="1"/>
                  </a:lnTo>
                  <a:lnTo>
                    <a:pt x="682" y="1"/>
                  </a:lnTo>
                  <a:lnTo>
                    <a:pt x="708" y="0"/>
                  </a:lnTo>
                  <a:lnTo>
                    <a:pt x="732" y="0"/>
                  </a:lnTo>
                  <a:lnTo>
                    <a:pt x="756" y="1"/>
                  </a:lnTo>
                  <a:lnTo>
                    <a:pt x="780" y="3"/>
                  </a:lnTo>
                  <a:lnTo>
                    <a:pt x="805" y="6"/>
                  </a:lnTo>
                  <a:lnTo>
                    <a:pt x="828" y="9"/>
                  </a:lnTo>
                  <a:lnTo>
                    <a:pt x="857" y="14"/>
                  </a:lnTo>
                  <a:lnTo>
                    <a:pt x="887" y="21"/>
                  </a:lnTo>
                  <a:lnTo>
                    <a:pt x="916" y="29"/>
                  </a:lnTo>
                  <a:lnTo>
                    <a:pt x="942" y="37"/>
                  </a:lnTo>
                  <a:lnTo>
                    <a:pt x="968" y="47"/>
                  </a:lnTo>
                  <a:lnTo>
                    <a:pt x="993" y="58"/>
                  </a:lnTo>
                  <a:lnTo>
                    <a:pt x="1018" y="71"/>
                  </a:lnTo>
                  <a:lnTo>
                    <a:pt x="1039" y="83"/>
                  </a:lnTo>
                  <a:lnTo>
                    <a:pt x="1059" y="98"/>
                  </a:lnTo>
                  <a:lnTo>
                    <a:pt x="1079" y="114"/>
                  </a:lnTo>
                  <a:lnTo>
                    <a:pt x="1096" y="129"/>
                  </a:lnTo>
                  <a:lnTo>
                    <a:pt x="1112" y="146"/>
                  </a:lnTo>
                  <a:lnTo>
                    <a:pt x="1126" y="165"/>
                  </a:lnTo>
                  <a:lnTo>
                    <a:pt x="1136" y="183"/>
                  </a:lnTo>
                  <a:lnTo>
                    <a:pt x="1146" y="203"/>
                  </a:lnTo>
                  <a:lnTo>
                    <a:pt x="1153" y="223"/>
                  </a:lnTo>
                  <a:lnTo>
                    <a:pt x="1213" y="271"/>
                  </a:lnTo>
                  <a:lnTo>
                    <a:pt x="1263" y="320"/>
                  </a:lnTo>
                  <a:lnTo>
                    <a:pt x="1301" y="373"/>
                  </a:lnTo>
                  <a:lnTo>
                    <a:pt x="1329" y="425"/>
                  </a:lnTo>
                  <a:lnTo>
                    <a:pt x="1348" y="476"/>
                  </a:lnTo>
                  <a:lnTo>
                    <a:pt x="1358" y="526"/>
                  </a:lnTo>
                  <a:lnTo>
                    <a:pt x="1363" y="572"/>
                  </a:lnTo>
                  <a:lnTo>
                    <a:pt x="1362" y="613"/>
                  </a:lnTo>
                  <a:lnTo>
                    <a:pt x="1357" y="677"/>
                  </a:lnTo>
                  <a:lnTo>
                    <a:pt x="1360" y="721"/>
                  </a:lnTo>
                  <a:lnTo>
                    <a:pt x="1371" y="754"/>
                  </a:lnTo>
                  <a:lnTo>
                    <a:pt x="1389" y="788"/>
                  </a:lnTo>
                  <a:lnTo>
                    <a:pt x="1395" y="797"/>
                  </a:lnTo>
                  <a:lnTo>
                    <a:pt x="1402" y="808"/>
                  </a:lnTo>
                  <a:lnTo>
                    <a:pt x="1409" y="820"/>
                  </a:lnTo>
                  <a:lnTo>
                    <a:pt x="1417" y="834"/>
                  </a:lnTo>
                  <a:lnTo>
                    <a:pt x="1422" y="851"/>
                  </a:lnTo>
                  <a:lnTo>
                    <a:pt x="1426" y="869"/>
                  </a:lnTo>
                  <a:lnTo>
                    <a:pt x="1429" y="893"/>
                  </a:lnTo>
                  <a:lnTo>
                    <a:pt x="1428" y="919"/>
                  </a:lnTo>
                  <a:lnTo>
                    <a:pt x="1425" y="951"/>
                  </a:lnTo>
                  <a:lnTo>
                    <a:pt x="1417" y="987"/>
                  </a:lnTo>
                  <a:lnTo>
                    <a:pt x="1403" y="1028"/>
                  </a:lnTo>
                  <a:lnTo>
                    <a:pt x="1386" y="1075"/>
                  </a:lnTo>
                  <a:lnTo>
                    <a:pt x="1363" y="1129"/>
                  </a:lnTo>
                  <a:lnTo>
                    <a:pt x="1334" y="1187"/>
                  </a:lnTo>
                  <a:lnTo>
                    <a:pt x="1297" y="1255"/>
                  </a:lnTo>
                  <a:lnTo>
                    <a:pt x="1252" y="1329"/>
                  </a:lnTo>
                  <a:lnTo>
                    <a:pt x="1247" y="1331"/>
                  </a:lnTo>
                  <a:lnTo>
                    <a:pt x="1232" y="1337"/>
                  </a:lnTo>
                  <a:lnTo>
                    <a:pt x="1209" y="1348"/>
                  </a:lnTo>
                  <a:lnTo>
                    <a:pt x="1178" y="1360"/>
                  </a:lnTo>
                  <a:lnTo>
                    <a:pt x="1141" y="1374"/>
                  </a:lnTo>
                  <a:lnTo>
                    <a:pt x="1101" y="1389"/>
                  </a:lnTo>
                  <a:lnTo>
                    <a:pt x="1056" y="1405"/>
                  </a:lnTo>
                  <a:lnTo>
                    <a:pt x="1011" y="1422"/>
                  </a:lnTo>
                  <a:lnTo>
                    <a:pt x="965" y="1437"/>
                  </a:lnTo>
                  <a:lnTo>
                    <a:pt x="921" y="1451"/>
                  </a:lnTo>
                  <a:lnTo>
                    <a:pt x="877" y="1463"/>
                  </a:lnTo>
                  <a:lnTo>
                    <a:pt x="839" y="1472"/>
                  </a:lnTo>
                  <a:lnTo>
                    <a:pt x="805" y="1479"/>
                  </a:lnTo>
                  <a:lnTo>
                    <a:pt x="776" y="1482"/>
                  </a:lnTo>
                  <a:lnTo>
                    <a:pt x="756" y="1479"/>
                  </a:lnTo>
                  <a:lnTo>
                    <a:pt x="745" y="147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19200" y="1639800"/>
              <a:ext cx="4662720" cy="4810320"/>
            </a:xfrm>
            <a:custGeom>
              <a:avLst/>
              <a:gdLst/>
              <a:ahLst/>
              <a:rect l="l" t="t" r="r" b="b"/>
              <a:pathLst>
                <a:path w="2937" h="3030">
                  <a:moveTo>
                    <a:pt x="464" y="664"/>
                  </a:moveTo>
                  <a:lnTo>
                    <a:pt x="470" y="653"/>
                  </a:lnTo>
                  <a:lnTo>
                    <a:pt x="479" y="647"/>
                  </a:lnTo>
                  <a:lnTo>
                    <a:pt x="490" y="643"/>
                  </a:lnTo>
                  <a:lnTo>
                    <a:pt x="504" y="641"/>
                  </a:lnTo>
                  <a:lnTo>
                    <a:pt x="518" y="640"/>
                  </a:lnTo>
                  <a:lnTo>
                    <a:pt x="532" y="640"/>
                  </a:lnTo>
                  <a:lnTo>
                    <a:pt x="544" y="638"/>
                  </a:lnTo>
                  <a:lnTo>
                    <a:pt x="553" y="635"/>
                  </a:lnTo>
                  <a:lnTo>
                    <a:pt x="565" y="635"/>
                  </a:lnTo>
                  <a:lnTo>
                    <a:pt x="579" y="636"/>
                  </a:lnTo>
                  <a:lnTo>
                    <a:pt x="593" y="636"/>
                  </a:lnTo>
                  <a:lnTo>
                    <a:pt x="609" y="636"/>
                  </a:lnTo>
                  <a:lnTo>
                    <a:pt x="623" y="635"/>
                  </a:lnTo>
                  <a:lnTo>
                    <a:pt x="635" y="632"/>
                  </a:lnTo>
                  <a:lnTo>
                    <a:pt x="643" y="627"/>
                  </a:lnTo>
                  <a:lnTo>
                    <a:pt x="647" y="618"/>
                  </a:lnTo>
                  <a:lnTo>
                    <a:pt x="468" y="613"/>
                  </a:lnTo>
                  <a:lnTo>
                    <a:pt x="485" y="603"/>
                  </a:lnTo>
                  <a:lnTo>
                    <a:pt x="508" y="595"/>
                  </a:lnTo>
                  <a:lnTo>
                    <a:pt x="536" y="592"/>
                  </a:lnTo>
                  <a:lnTo>
                    <a:pt x="565" y="589"/>
                  </a:lnTo>
                  <a:lnTo>
                    <a:pt x="595" y="587"/>
                  </a:lnTo>
                  <a:lnTo>
                    <a:pt x="623" y="584"/>
                  </a:lnTo>
                  <a:lnTo>
                    <a:pt x="647" y="579"/>
                  </a:lnTo>
                  <a:lnTo>
                    <a:pt x="666" y="572"/>
                  </a:lnTo>
                  <a:lnTo>
                    <a:pt x="555" y="572"/>
                  </a:lnTo>
                  <a:lnTo>
                    <a:pt x="544" y="569"/>
                  </a:lnTo>
                  <a:lnTo>
                    <a:pt x="535" y="569"/>
                  </a:lnTo>
                  <a:lnTo>
                    <a:pt x="525" y="572"/>
                  </a:lnTo>
                  <a:lnTo>
                    <a:pt x="518" y="573"/>
                  </a:lnTo>
                  <a:lnTo>
                    <a:pt x="510" y="575"/>
                  </a:lnTo>
                  <a:lnTo>
                    <a:pt x="501" y="573"/>
                  </a:lnTo>
                  <a:lnTo>
                    <a:pt x="491" y="569"/>
                  </a:lnTo>
                  <a:lnTo>
                    <a:pt x="482" y="558"/>
                  </a:lnTo>
                  <a:lnTo>
                    <a:pt x="647" y="549"/>
                  </a:lnTo>
                  <a:lnTo>
                    <a:pt x="647" y="530"/>
                  </a:lnTo>
                  <a:lnTo>
                    <a:pt x="632" y="521"/>
                  </a:lnTo>
                  <a:lnTo>
                    <a:pt x="615" y="518"/>
                  </a:lnTo>
                  <a:lnTo>
                    <a:pt x="595" y="516"/>
                  </a:lnTo>
                  <a:lnTo>
                    <a:pt x="575" y="519"/>
                  </a:lnTo>
                  <a:lnTo>
                    <a:pt x="553" y="522"/>
                  </a:lnTo>
                  <a:lnTo>
                    <a:pt x="532" y="527"/>
                  </a:lnTo>
                  <a:lnTo>
                    <a:pt x="511" y="532"/>
                  </a:lnTo>
                  <a:lnTo>
                    <a:pt x="491" y="535"/>
                  </a:lnTo>
                  <a:lnTo>
                    <a:pt x="468" y="518"/>
                  </a:lnTo>
                  <a:lnTo>
                    <a:pt x="471" y="487"/>
                  </a:lnTo>
                  <a:lnTo>
                    <a:pt x="479" y="458"/>
                  </a:lnTo>
                  <a:lnTo>
                    <a:pt x="488" y="428"/>
                  </a:lnTo>
                  <a:lnTo>
                    <a:pt x="501" y="400"/>
                  </a:lnTo>
                  <a:lnTo>
                    <a:pt x="513" y="374"/>
                  </a:lnTo>
                  <a:lnTo>
                    <a:pt x="527" y="350"/>
                  </a:lnTo>
                  <a:lnTo>
                    <a:pt x="541" y="325"/>
                  </a:lnTo>
                  <a:lnTo>
                    <a:pt x="555" y="302"/>
                  </a:lnTo>
                  <a:lnTo>
                    <a:pt x="578" y="277"/>
                  </a:lnTo>
                  <a:lnTo>
                    <a:pt x="602" y="256"/>
                  </a:lnTo>
                  <a:lnTo>
                    <a:pt x="630" y="239"/>
                  </a:lnTo>
                  <a:lnTo>
                    <a:pt x="658" y="225"/>
                  </a:lnTo>
                  <a:lnTo>
                    <a:pt x="689" y="215"/>
                  </a:lnTo>
                  <a:lnTo>
                    <a:pt x="720" y="208"/>
                  </a:lnTo>
                  <a:lnTo>
                    <a:pt x="754" y="203"/>
                  </a:lnTo>
                  <a:lnTo>
                    <a:pt x="786" y="202"/>
                  </a:lnTo>
                  <a:lnTo>
                    <a:pt x="821" y="202"/>
                  </a:lnTo>
                  <a:lnTo>
                    <a:pt x="855" y="205"/>
                  </a:lnTo>
                  <a:lnTo>
                    <a:pt x="891" y="208"/>
                  </a:lnTo>
                  <a:lnTo>
                    <a:pt x="925" y="214"/>
                  </a:lnTo>
                  <a:lnTo>
                    <a:pt x="959" y="220"/>
                  </a:lnTo>
                  <a:lnTo>
                    <a:pt x="993" y="226"/>
                  </a:lnTo>
                  <a:lnTo>
                    <a:pt x="1026" y="234"/>
                  </a:lnTo>
                  <a:lnTo>
                    <a:pt x="1059" y="242"/>
                  </a:lnTo>
                  <a:lnTo>
                    <a:pt x="1059" y="225"/>
                  </a:lnTo>
                  <a:lnTo>
                    <a:pt x="1051" y="219"/>
                  </a:lnTo>
                  <a:lnTo>
                    <a:pt x="1043" y="215"/>
                  </a:lnTo>
                  <a:lnTo>
                    <a:pt x="1034" y="209"/>
                  </a:lnTo>
                  <a:lnTo>
                    <a:pt x="1026" y="202"/>
                  </a:lnTo>
                  <a:lnTo>
                    <a:pt x="999" y="189"/>
                  </a:lnTo>
                  <a:lnTo>
                    <a:pt x="969" y="178"/>
                  </a:lnTo>
                  <a:lnTo>
                    <a:pt x="939" y="171"/>
                  </a:lnTo>
                  <a:lnTo>
                    <a:pt x="906" y="165"/>
                  </a:lnTo>
                  <a:lnTo>
                    <a:pt x="872" y="160"/>
                  </a:lnTo>
                  <a:lnTo>
                    <a:pt x="838" y="158"/>
                  </a:lnTo>
                  <a:lnTo>
                    <a:pt x="803" y="158"/>
                  </a:lnTo>
                  <a:lnTo>
                    <a:pt x="769" y="160"/>
                  </a:lnTo>
                  <a:lnTo>
                    <a:pt x="734" y="165"/>
                  </a:lnTo>
                  <a:lnTo>
                    <a:pt x="700" y="171"/>
                  </a:lnTo>
                  <a:lnTo>
                    <a:pt x="667" y="178"/>
                  </a:lnTo>
                  <a:lnTo>
                    <a:pt x="635" y="189"/>
                  </a:lnTo>
                  <a:lnTo>
                    <a:pt x="604" y="200"/>
                  </a:lnTo>
                  <a:lnTo>
                    <a:pt x="575" y="214"/>
                  </a:lnTo>
                  <a:lnTo>
                    <a:pt x="549" y="229"/>
                  </a:lnTo>
                  <a:lnTo>
                    <a:pt x="524" y="246"/>
                  </a:lnTo>
                  <a:lnTo>
                    <a:pt x="582" y="246"/>
                  </a:lnTo>
                  <a:lnTo>
                    <a:pt x="545" y="271"/>
                  </a:lnTo>
                  <a:lnTo>
                    <a:pt x="510" y="297"/>
                  </a:lnTo>
                  <a:lnTo>
                    <a:pt x="479" y="326"/>
                  </a:lnTo>
                  <a:lnTo>
                    <a:pt x="453" y="360"/>
                  </a:lnTo>
                  <a:lnTo>
                    <a:pt x="430" y="396"/>
                  </a:lnTo>
                  <a:lnTo>
                    <a:pt x="413" y="434"/>
                  </a:lnTo>
                  <a:lnTo>
                    <a:pt x="399" y="478"/>
                  </a:lnTo>
                  <a:lnTo>
                    <a:pt x="391" y="522"/>
                  </a:lnTo>
                  <a:lnTo>
                    <a:pt x="387" y="558"/>
                  </a:lnTo>
                  <a:lnTo>
                    <a:pt x="388" y="603"/>
                  </a:lnTo>
                  <a:lnTo>
                    <a:pt x="393" y="650"/>
                  </a:lnTo>
                  <a:lnTo>
                    <a:pt x="393" y="695"/>
                  </a:lnTo>
                  <a:lnTo>
                    <a:pt x="380" y="698"/>
                  </a:lnTo>
                  <a:lnTo>
                    <a:pt x="371" y="701"/>
                  </a:lnTo>
                  <a:lnTo>
                    <a:pt x="360" y="704"/>
                  </a:lnTo>
                  <a:lnTo>
                    <a:pt x="351" y="709"/>
                  </a:lnTo>
                  <a:lnTo>
                    <a:pt x="339" y="715"/>
                  </a:lnTo>
                  <a:lnTo>
                    <a:pt x="325" y="723"/>
                  </a:lnTo>
                  <a:lnTo>
                    <a:pt x="310" y="734"/>
                  </a:lnTo>
                  <a:lnTo>
                    <a:pt x="289" y="746"/>
                  </a:lnTo>
                  <a:lnTo>
                    <a:pt x="266" y="774"/>
                  </a:lnTo>
                  <a:lnTo>
                    <a:pt x="249" y="803"/>
                  </a:lnTo>
                  <a:lnTo>
                    <a:pt x="237" y="832"/>
                  </a:lnTo>
                  <a:lnTo>
                    <a:pt x="232" y="862"/>
                  </a:lnTo>
                  <a:lnTo>
                    <a:pt x="231" y="891"/>
                  </a:lnTo>
                  <a:lnTo>
                    <a:pt x="235" y="922"/>
                  </a:lnTo>
                  <a:lnTo>
                    <a:pt x="243" y="954"/>
                  </a:lnTo>
                  <a:lnTo>
                    <a:pt x="256" y="985"/>
                  </a:lnTo>
                  <a:lnTo>
                    <a:pt x="277" y="1020"/>
                  </a:lnTo>
                  <a:lnTo>
                    <a:pt x="302" y="1053"/>
                  </a:lnTo>
                  <a:lnTo>
                    <a:pt x="328" y="1082"/>
                  </a:lnTo>
                  <a:lnTo>
                    <a:pt x="357" y="1107"/>
                  </a:lnTo>
                  <a:lnTo>
                    <a:pt x="390" y="1127"/>
                  </a:lnTo>
                  <a:lnTo>
                    <a:pt x="424" y="1141"/>
                  </a:lnTo>
                  <a:lnTo>
                    <a:pt x="459" y="1148"/>
                  </a:lnTo>
                  <a:lnTo>
                    <a:pt x="496" y="1148"/>
                  </a:lnTo>
                  <a:lnTo>
                    <a:pt x="519" y="1169"/>
                  </a:lnTo>
                  <a:lnTo>
                    <a:pt x="539" y="1190"/>
                  </a:lnTo>
                  <a:lnTo>
                    <a:pt x="559" y="1213"/>
                  </a:lnTo>
                  <a:lnTo>
                    <a:pt x="579" y="1238"/>
                  </a:lnTo>
                  <a:lnTo>
                    <a:pt x="599" y="1261"/>
                  </a:lnTo>
                  <a:lnTo>
                    <a:pt x="621" y="1283"/>
                  </a:lnTo>
                  <a:lnTo>
                    <a:pt x="644" y="1304"/>
                  </a:lnTo>
                  <a:lnTo>
                    <a:pt x="670" y="1323"/>
                  </a:lnTo>
                  <a:lnTo>
                    <a:pt x="684" y="1337"/>
                  </a:lnTo>
                  <a:lnTo>
                    <a:pt x="700" y="1349"/>
                  </a:lnTo>
                  <a:lnTo>
                    <a:pt x="715" y="1360"/>
                  </a:lnTo>
                  <a:lnTo>
                    <a:pt x="730" y="1371"/>
                  </a:lnTo>
                  <a:lnTo>
                    <a:pt x="747" y="1380"/>
                  </a:lnTo>
                  <a:lnTo>
                    <a:pt x="764" y="1389"/>
                  </a:lnTo>
                  <a:lnTo>
                    <a:pt x="781" y="1398"/>
                  </a:lnTo>
                  <a:lnTo>
                    <a:pt x="798" y="1408"/>
                  </a:lnTo>
                  <a:lnTo>
                    <a:pt x="815" y="1417"/>
                  </a:lnTo>
                  <a:lnTo>
                    <a:pt x="832" y="1426"/>
                  </a:lnTo>
                  <a:lnTo>
                    <a:pt x="848" y="1435"/>
                  </a:lnTo>
                  <a:lnTo>
                    <a:pt x="863" y="1445"/>
                  </a:lnTo>
                  <a:lnTo>
                    <a:pt x="878" y="1455"/>
                  </a:lnTo>
                  <a:lnTo>
                    <a:pt x="892" y="1466"/>
                  </a:lnTo>
                  <a:lnTo>
                    <a:pt x="905" y="1479"/>
                  </a:lnTo>
                  <a:lnTo>
                    <a:pt x="917" y="1492"/>
                  </a:lnTo>
                  <a:lnTo>
                    <a:pt x="878" y="1500"/>
                  </a:lnTo>
                  <a:lnTo>
                    <a:pt x="838" y="1509"/>
                  </a:lnTo>
                  <a:lnTo>
                    <a:pt x="798" y="1519"/>
                  </a:lnTo>
                  <a:lnTo>
                    <a:pt x="757" y="1528"/>
                  </a:lnTo>
                  <a:lnTo>
                    <a:pt x="717" y="1539"/>
                  </a:lnTo>
                  <a:lnTo>
                    <a:pt x="676" y="1549"/>
                  </a:lnTo>
                  <a:lnTo>
                    <a:pt x="636" y="1562"/>
                  </a:lnTo>
                  <a:lnTo>
                    <a:pt x="596" y="1576"/>
                  </a:lnTo>
                  <a:lnTo>
                    <a:pt x="558" y="1590"/>
                  </a:lnTo>
                  <a:lnTo>
                    <a:pt x="521" y="1605"/>
                  </a:lnTo>
                  <a:lnTo>
                    <a:pt x="484" y="1624"/>
                  </a:lnTo>
                  <a:lnTo>
                    <a:pt x="450" y="1642"/>
                  </a:lnTo>
                  <a:lnTo>
                    <a:pt x="417" y="1662"/>
                  </a:lnTo>
                  <a:lnTo>
                    <a:pt x="387" y="1685"/>
                  </a:lnTo>
                  <a:lnTo>
                    <a:pt x="357" y="1710"/>
                  </a:lnTo>
                  <a:lnTo>
                    <a:pt x="331" y="1738"/>
                  </a:lnTo>
                  <a:lnTo>
                    <a:pt x="305" y="1738"/>
                  </a:lnTo>
                  <a:lnTo>
                    <a:pt x="282" y="1731"/>
                  </a:lnTo>
                  <a:lnTo>
                    <a:pt x="260" y="1725"/>
                  </a:lnTo>
                  <a:lnTo>
                    <a:pt x="240" y="1716"/>
                  </a:lnTo>
                  <a:lnTo>
                    <a:pt x="219" y="1708"/>
                  </a:lnTo>
                  <a:lnTo>
                    <a:pt x="195" y="1702"/>
                  </a:lnTo>
                  <a:lnTo>
                    <a:pt x="171" y="1699"/>
                  </a:lnTo>
                  <a:lnTo>
                    <a:pt x="143" y="1701"/>
                  </a:lnTo>
                  <a:lnTo>
                    <a:pt x="120" y="1714"/>
                  </a:lnTo>
                  <a:lnTo>
                    <a:pt x="101" y="1733"/>
                  </a:lnTo>
                  <a:lnTo>
                    <a:pt x="87" y="1755"/>
                  </a:lnTo>
                  <a:lnTo>
                    <a:pt x="75" y="1776"/>
                  </a:lnTo>
                  <a:lnTo>
                    <a:pt x="64" y="1801"/>
                  </a:lnTo>
                  <a:lnTo>
                    <a:pt x="54" y="1824"/>
                  </a:lnTo>
                  <a:lnTo>
                    <a:pt x="41" y="1846"/>
                  </a:lnTo>
                  <a:lnTo>
                    <a:pt x="24" y="1866"/>
                  </a:lnTo>
                  <a:lnTo>
                    <a:pt x="10" y="1884"/>
                  </a:lnTo>
                  <a:lnTo>
                    <a:pt x="3" y="1903"/>
                  </a:lnTo>
                  <a:lnTo>
                    <a:pt x="0" y="1921"/>
                  </a:lnTo>
                  <a:lnTo>
                    <a:pt x="3" y="1938"/>
                  </a:lnTo>
                  <a:lnTo>
                    <a:pt x="9" y="1955"/>
                  </a:lnTo>
                  <a:lnTo>
                    <a:pt x="18" y="1972"/>
                  </a:lnTo>
                  <a:lnTo>
                    <a:pt x="29" y="1987"/>
                  </a:lnTo>
                  <a:lnTo>
                    <a:pt x="43" y="2003"/>
                  </a:lnTo>
                  <a:lnTo>
                    <a:pt x="40" y="2018"/>
                  </a:lnTo>
                  <a:lnTo>
                    <a:pt x="41" y="2032"/>
                  </a:lnTo>
                  <a:lnTo>
                    <a:pt x="46" y="2043"/>
                  </a:lnTo>
                  <a:lnTo>
                    <a:pt x="52" y="2051"/>
                  </a:lnTo>
                  <a:lnTo>
                    <a:pt x="61" y="2060"/>
                  </a:lnTo>
                  <a:lnTo>
                    <a:pt x="72" y="2068"/>
                  </a:lnTo>
                  <a:lnTo>
                    <a:pt x="83" y="2077"/>
                  </a:lnTo>
                  <a:lnTo>
                    <a:pt x="94" y="2086"/>
                  </a:lnTo>
                  <a:lnTo>
                    <a:pt x="94" y="2119"/>
                  </a:lnTo>
                  <a:lnTo>
                    <a:pt x="106" y="2139"/>
                  </a:lnTo>
                  <a:lnTo>
                    <a:pt x="126" y="2151"/>
                  </a:lnTo>
                  <a:lnTo>
                    <a:pt x="151" y="2159"/>
                  </a:lnTo>
                  <a:lnTo>
                    <a:pt x="177" y="2166"/>
                  </a:lnTo>
                  <a:lnTo>
                    <a:pt x="202" y="2179"/>
                  </a:lnTo>
                  <a:lnTo>
                    <a:pt x="219" y="2197"/>
                  </a:lnTo>
                  <a:lnTo>
                    <a:pt x="226" y="2228"/>
                  </a:lnTo>
                  <a:lnTo>
                    <a:pt x="246" y="2236"/>
                  </a:lnTo>
                  <a:lnTo>
                    <a:pt x="265" y="2236"/>
                  </a:lnTo>
                  <a:lnTo>
                    <a:pt x="282" y="2231"/>
                  </a:lnTo>
                  <a:lnTo>
                    <a:pt x="299" y="2225"/>
                  </a:lnTo>
                  <a:lnTo>
                    <a:pt x="314" y="2217"/>
                  </a:lnTo>
                  <a:lnTo>
                    <a:pt x="330" y="2211"/>
                  </a:lnTo>
                  <a:lnTo>
                    <a:pt x="345" y="2210"/>
                  </a:lnTo>
                  <a:lnTo>
                    <a:pt x="359" y="2214"/>
                  </a:lnTo>
                  <a:lnTo>
                    <a:pt x="402" y="2191"/>
                  </a:lnTo>
                  <a:lnTo>
                    <a:pt x="445" y="2166"/>
                  </a:lnTo>
                  <a:lnTo>
                    <a:pt x="487" y="2142"/>
                  </a:lnTo>
                  <a:lnTo>
                    <a:pt x="528" y="2115"/>
                  </a:lnTo>
                  <a:lnTo>
                    <a:pt x="570" y="2091"/>
                  </a:lnTo>
                  <a:lnTo>
                    <a:pt x="612" y="2065"/>
                  </a:lnTo>
                  <a:lnTo>
                    <a:pt x="653" y="2038"/>
                  </a:lnTo>
                  <a:lnTo>
                    <a:pt x="695" y="2014"/>
                  </a:lnTo>
                  <a:lnTo>
                    <a:pt x="738" y="1987"/>
                  </a:lnTo>
                  <a:lnTo>
                    <a:pt x="780" y="1963"/>
                  </a:lnTo>
                  <a:lnTo>
                    <a:pt x="823" y="1938"/>
                  </a:lnTo>
                  <a:lnTo>
                    <a:pt x="866" y="1915"/>
                  </a:lnTo>
                  <a:lnTo>
                    <a:pt x="911" y="1892"/>
                  </a:lnTo>
                  <a:lnTo>
                    <a:pt x="956" y="1870"/>
                  </a:lnTo>
                  <a:lnTo>
                    <a:pt x="1002" y="1850"/>
                  </a:lnTo>
                  <a:lnTo>
                    <a:pt x="1050" y="1830"/>
                  </a:lnTo>
                  <a:lnTo>
                    <a:pt x="1067" y="1849"/>
                  </a:lnTo>
                  <a:lnTo>
                    <a:pt x="1085" y="1861"/>
                  </a:lnTo>
                  <a:lnTo>
                    <a:pt x="1105" y="1873"/>
                  </a:lnTo>
                  <a:lnTo>
                    <a:pt x="1125" y="1884"/>
                  </a:lnTo>
                  <a:lnTo>
                    <a:pt x="1144" y="1895"/>
                  </a:lnTo>
                  <a:lnTo>
                    <a:pt x="1159" y="1909"/>
                  </a:lnTo>
                  <a:lnTo>
                    <a:pt x="1173" y="1926"/>
                  </a:lnTo>
                  <a:lnTo>
                    <a:pt x="1182" y="1949"/>
                  </a:lnTo>
                  <a:lnTo>
                    <a:pt x="1165" y="1964"/>
                  </a:lnTo>
                  <a:lnTo>
                    <a:pt x="1148" y="1980"/>
                  </a:lnTo>
                  <a:lnTo>
                    <a:pt x="1130" y="1994"/>
                  </a:lnTo>
                  <a:lnTo>
                    <a:pt x="1110" y="2009"/>
                  </a:lnTo>
                  <a:lnTo>
                    <a:pt x="1091" y="2021"/>
                  </a:lnTo>
                  <a:lnTo>
                    <a:pt x="1071" y="2035"/>
                  </a:lnTo>
                  <a:lnTo>
                    <a:pt x="1051" y="2049"/>
                  </a:lnTo>
                  <a:lnTo>
                    <a:pt x="1031" y="2063"/>
                  </a:lnTo>
                  <a:lnTo>
                    <a:pt x="1011" y="2075"/>
                  </a:lnTo>
                  <a:lnTo>
                    <a:pt x="991" y="2089"/>
                  </a:lnTo>
                  <a:lnTo>
                    <a:pt x="971" y="2105"/>
                  </a:lnTo>
                  <a:lnTo>
                    <a:pt x="952" y="2119"/>
                  </a:lnTo>
                  <a:lnTo>
                    <a:pt x="934" y="2134"/>
                  </a:lnTo>
                  <a:lnTo>
                    <a:pt x="917" y="2151"/>
                  </a:lnTo>
                  <a:lnTo>
                    <a:pt x="900" y="2168"/>
                  </a:lnTo>
                  <a:lnTo>
                    <a:pt x="885" y="2186"/>
                  </a:lnTo>
                  <a:lnTo>
                    <a:pt x="902" y="2203"/>
                  </a:lnTo>
                  <a:lnTo>
                    <a:pt x="923" y="2219"/>
                  </a:lnTo>
                  <a:lnTo>
                    <a:pt x="945" y="2233"/>
                  </a:lnTo>
                  <a:lnTo>
                    <a:pt x="969" y="2245"/>
                  </a:lnTo>
                  <a:lnTo>
                    <a:pt x="994" y="2256"/>
                  </a:lnTo>
                  <a:lnTo>
                    <a:pt x="1020" y="2267"/>
                  </a:lnTo>
                  <a:lnTo>
                    <a:pt x="1045" y="2279"/>
                  </a:lnTo>
                  <a:lnTo>
                    <a:pt x="1068" y="2291"/>
                  </a:lnTo>
                  <a:lnTo>
                    <a:pt x="1034" y="2316"/>
                  </a:lnTo>
                  <a:lnTo>
                    <a:pt x="1000" y="2344"/>
                  </a:lnTo>
                  <a:lnTo>
                    <a:pt x="969" y="2373"/>
                  </a:lnTo>
                  <a:lnTo>
                    <a:pt x="940" y="2404"/>
                  </a:lnTo>
                  <a:lnTo>
                    <a:pt x="912" y="2436"/>
                  </a:lnTo>
                  <a:lnTo>
                    <a:pt x="886" y="2470"/>
                  </a:lnTo>
                  <a:lnTo>
                    <a:pt x="862" y="2506"/>
                  </a:lnTo>
                  <a:lnTo>
                    <a:pt x="838" y="2541"/>
                  </a:lnTo>
                  <a:lnTo>
                    <a:pt x="817" y="2580"/>
                  </a:lnTo>
                  <a:lnTo>
                    <a:pt x="797" y="2618"/>
                  </a:lnTo>
                  <a:lnTo>
                    <a:pt x="780" y="2657"/>
                  </a:lnTo>
                  <a:lnTo>
                    <a:pt x="763" y="2697"/>
                  </a:lnTo>
                  <a:lnTo>
                    <a:pt x="749" y="2737"/>
                  </a:lnTo>
                  <a:lnTo>
                    <a:pt x="735" y="2779"/>
                  </a:lnTo>
                  <a:lnTo>
                    <a:pt x="724" y="2819"/>
                  </a:lnTo>
                  <a:lnTo>
                    <a:pt x="715" y="2860"/>
                  </a:lnTo>
                  <a:lnTo>
                    <a:pt x="710" y="2877"/>
                  </a:lnTo>
                  <a:lnTo>
                    <a:pt x="700" y="2887"/>
                  </a:lnTo>
                  <a:lnTo>
                    <a:pt x="686" y="2893"/>
                  </a:lnTo>
                  <a:lnTo>
                    <a:pt x="670" y="2896"/>
                  </a:lnTo>
                  <a:lnTo>
                    <a:pt x="655" y="2899"/>
                  </a:lnTo>
                  <a:lnTo>
                    <a:pt x="639" y="2904"/>
                  </a:lnTo>
                  <a:lnTo>
                    <a:pt x="627" y="2913"/>
                  </a:lnTo>
                  <a:lnTo>
                    <a:pt x="619" y="2928"/>
                  </a:lnTo>
                  <a:lnTo>
                    <a:pt x="607" y="2950"/>
                  </a:lnTo>
                  <a:lnTo>
                    <a:pt x="602" y="2975"/>
                  </a:lnTo>
                  <a:lnTo>
                    <a:pt x="607" y="2999"/>
                  </a:lnTo>
                  <a:lnTo>
                    <a:pt x="619" y="3019"/>
                  </a:lnTo>
                  <a:lnTo>
                    <a:pt x="644" y="3024"/>
                  </a:lnTo>
                  <a:lnTo>
                    <a:pt x="670" y="3027"/>
                  </a:lnTo>
                  <a:lnTo>
                    <a:pt x="697" y="3030"/>
                  </a:lnTo>
                  <a:lnTo>
                    <a:pt x="724" y="3030"/>
                  </a:lnTo>
                  <a:lnTo>
                    <a:pt x="752" y="3030"/>
                  </a:lnTo>
                  <a:lnTo>
                    <a:pt x="781" y="3028"/>
                  </a:lnTo>
                  <a:lnTo>
                    <a:pt x="811" y="3025"/>
                  </a:lnTo>
                  <a:lnTo>
                    <a:pt x="840" y="3021"/>
                  </a:lnTo>
                  <a:lnTo>
                    <a:pt x="868" y="3015"/>
                  </a:lnTo>
                  <a:lnTo>
                    <a:pt x="895" y="3007"/>
                  </a:lnTo>
                  <a:lnTo>
                    <a:pt x="923" y="2998"/>
                  </a:lnTo>
                  <a:lnTo>
                    <a:pt x="951" y="2987"/>
                  </a:lnTo>
                  <a:lnTo>
                    <a:pt x="976" y="2975"/>
                  </a:lnTo>
                  <a:lnTo>
                    <a:pt x="1000" y="2959"/>
                  </a:lnTo>
                  <a:lnTo>
                    <a:pt x="1023" y="2942"/>
                  </a:lnTo>
                  <a:lnTo>
                    <a:pt x="1045" y="2924"/>
                  </a:lnTo>
                  <a:lnTo>
                    <a:pt x="1050" y="2942"/>
                  </a:lnTo>
                  <a:lnTo>
                    <a:pt x="1054" y="2961"/>
                  </a:lnTo>
                  <a:lnTo>
                    <a:pt x="1064" y="2971"/>
                  </a:lnTo>
                  <a:lnTo>
                    <a:pt x="1082" y="2970"/>
                  </a:lnTo>
                  <a:lnTo>
                    <a:pt x="1101" y="2970"/>
                  </a:lnTo>
                  <a:lnTo>
                    <a:pt x="1116" y="2965"/>
                  </a:lnTo>
                  <a:lnTo>
                    <a:pt x="1128" y="2956"/>
                  </a:lnTo>
                  <a:lnTo>
                    <a:pt x="1138" y="2945"/>
                  </a:lnTo>
                  <a:lnTo>
                    <a:pt x="1145" y="2933"/>
                  </a:lnTo>
                  <a:lnTo>
                    <a:pt x="1151" y="2917"/>
                  </a:lnTo>
                  <a:lnTo>
                    <a:pt x="1156" y="2902"/>
                  </a:lnTo>
                  <a:lnTo>
                    <a:pt x="1159" y="2887"/>
                  </a:lnTo>
                  <a:lnTo>
                    <a:pt x="1195" y="2843"/>
                  </a:lnTo>
                  <a:lnTo>
                    <a:pt x="1232" y="2802"/>
                  </a:lnTo>
                  <a:lnTo>
                    <a:pt x="1269" y="2762"/>
                  </a:lnTo>
                  <a:lnTo>
                    <a:pt x="1306" y="2722"/>
                  </a:lnTo>
                  <a:lnTo>
                    <a:pt x="1346" y="2683"/>
                  </a:lnTo>
                  <a:lnTo>
                    <a:pt x="1386" y="2646"/>
                  </a:lnTo>
                  <a:lnTo>
                    <a:pt x="1427" y="2611"/>
                  </a:lnTo>
                  <a:lnTo>
                    <a:pt x="1471" y="2578"/>
                  </a:lnTo>
                  <a:lnTo>
                    <a:pt x="1515" y="2549"/>
                  </a:lnTo>
                  <a:lnTo>
                    <a:pt x="1563" y="2521"/>
                  </a:lnTo>
                  <a:lnTo>
                    <a:pt x="1612" y="2496"/>
                  </a:lnTo>
                  <a:lnTo>
                    <a:pt x="1663" y="2475"/>
                  </a:lnTo>
                  <a:lnTo>
                    <a:pt x="1717" y="2456"/>
                  </a:lnTo>
                  <a:lnTo>
                    <a:pt x="1774" y="2442"/>
                  </a:lnTo>
                  <a:lnTo>
                    <a:pt x="1833" y="2432"/>
                  </a:lnTo>
                  <a:lnTo>
                    <a:pt x="1895" y="2425"/>
                  </a:lnTo>
                  <a:lnTo>
                    <a:pt x="1910" y="2430"/>
                  </a:lnTo>
                  <a:lnTo>
                    <a:pt x="1924" y="2436"/>
                  </a:lnTo>
                  <a:lnTo>
                    <a:pt x="1936" y="2442"/>
                  </a:lnTo>
                  <a:lnTo>
                    <a:pt x="1947" y="2450"/>
                  </a:lnTo>
                  <a:lnTo>
                    <a:pt x="1958" y="2459"/>
                  </a:lnTo>
                  <a:lnTo>
                    <a:pt x="1967" y="2470"/>
                  </a:lnTo>
                  <a:lnTo>
                    <a:pt x="1975" y="2484"/>
                  </a:lnTo>
                  <a:lnTo>
                    <a:pt x="1982" y="2498"/>
                  </a:lnTo>
                  <a:lnTo>
                    <a:pt x="1987" y="2526"/>
                  </a:lnTo>
                  <a:lnTo>
                    <a:pt x="1987" y="2553"/>
                  </a:lnTo>
                  <a:lnTo>
                    <a:pt x="1981" y="2578"/>
                  </a:lnTo>
                  <a:lnTo>
                    <a:pt x="1972" y="2601"/>
                  </a:lnTo>
                  <a:lnTo>
                    <a:pt x="1959" y="2624"/>
                  </a:lnTo>
                  <a:lnTo>
                    <a:pt x="1947" y="2646"/>
                  </a:lnTo>
                  <a:lnTo>
                    <a:pt x="1933" y="2669"/>
                  </a:lnTo>
                  <a:lnTo>
                    <a:pt x="1922" y="2691"/>
                  </a:lnTo>
                  <a:lnTo>
                    <a:pt x="1941" y="2694"/>
                  </a:lnTo>
                  <a:lnTo>
                    <a:pt x="1950" y="2703"/>
                  </a:lnTo>
                  <a:lnTo>
                    <a:pt x="1955" y="2715"/>
                  </a:lnTo>
                  <a:lnTo>
                    <a:pt x="1956" y="2732"/>
                  </a:lnTo>
                  <a:lnTo>
                    <a:pt x="1955" y="2751"/>
                  </a:lnTo>
                  <a:lnTo>
                    <a:pt x="1952" y="2769"/>
                  </a:lnTo>
                  <a:lnTo>
                    <a:pt x="1952" y="2788"/>
                  </a:lnTo>
                  <a:lnTo>
                    <a:pt x="1955" y="2805"/>
                  </a:lnTo>
                  <a:lnTo>
                    <a:pt x="2064" y="2809"/>
                  </a:lnTo>
                  <a:lnTo>
                    <a:pt x="2069" y="2793"/>
                  </a:lnTo>
                  <a:lnTo>
                    <a:pt x="2072" y="2772"/>
                  </a:lnTo>
                  <a:lnTo>
                    <a:pt x="2077" y="2752"/>
                  </a:lnTo>
                  <a:lnTo>
                    <a:pt x="2092" y="2735"/>
                  </a:lnTo>
                  <a:lnTo>
                    <a:pt x="2120" y="2735"/>
                  </a:lnTo>
                  <a:lnTo>
                    <a:pt x="2147" y="2737"/>
                  </a:lnTo>
                  <a:lnTo>
                    <a:pt x="2174" y="2739"/>
                  </a:lnTo>
                  <a:lnTo>
                    <a:pt x="2200" y="2740"/>
                  </a:lnTo>
                  <a:lnTo>
                    <a:pt x="2225" y="2742"/>
                  </a:lnTo>
                  <a:lnTo>
                    <a:pt x="2251" y="2742"/>
                  </a:lnTo>
                  <a:lnTo>
                    <a:pt x="2275" y="2743"/>
                  </a:lnTo>
                  <a:lnTo>
                    <a:pt x="2299" y="2743"/>
                  </a:lnTo>
                  <a:lnTo>
                    <a:pt x="2323" y="2743"/>
                  </a:lnTo>
                  <a:lnTo>
                    <a:pt x="2346" y="2742"/>
                  </a:lnTo>
                  <a:lnTo>
                    <a:pt x="2369" y="2740"/>
                  </a:lnTo>
                  <a:lnTo>
                    <a:pt x="2393" y="2735"/>
                  </a:lnTo>
                  <a:lnTo>
                    <a:pt x="2416" y="2731"/>
                  </a:lnTo>
                  <a:lnTo>
                    <a:pt x="2439" y="2725"/>
                  </a:lnTo>
                  <a:lnTo>
                    <a:pt x="2462" y="2715"/>
                  </a:lnTo>
                  <a:lnTo>
                    <a:pt x="2485" y="2705"/>
                  </a:lnTo>
                  <a:lnTo>
                    <a:pt x="2502" y="2694"/>
                  </a:lnTo>
                  <a:lnTo>
                    <a:pt x="2521" y="2683"/>
                  </a:lnTo>
                  <a:lnTo>
                    <a:pt x="2541" y="2671"/>
                  </a:lnTo>
                  <a:lnTo>
                    <a:pt x="2558" y="2658"/>
                  </a:lnTo>
                  <a:lnTo>
                    <a:pt x="2570" y="2644"/>
                  </a:lnTo>
                  <a:lnTo>
                    <a:pt x="2576" y="2629"/>
                  </a:lnTo>
                  <a:lnTo>
                    <a:pt x="2571" y="2612"/>
                  </a:lnTo>
                  <a:lnTo>
                    <a:pt x="2555" y="2594"/>
                  </a:lnTo>
                  <a:lnTo>
                    <a:pt x="2539" y="2580"/>
                  </a:lnTo>
                  <a:lnTo>
                    <a:pt x="2519" y="2572"/>
                  </a:lnTo>
                  <a:lnTo>
                    <a:pt x="2497" y="2567"/>
                  </a:lnTo>
                  <a:lnTo>
                    <a:pt x="2476" y="2566"/>
                  </a:lnTo>
                  <a:lnTo>
                    <a:pt x="2454" y="2564"/>
                  </a:lnTo>
                  <a:lnTo>
                    <a:pt x="2436" y="2561"/>
                  </a:lnTo>
                  <a:lnTo>
                    <a:pt x="2419" y="2555"/>
                  </a:lnTo>
                  <a:lnTo>
                    <a:pt x="2408" y="2544"/>
                  </a:lnTo>
                  <a:lnTo>
                    <a:pt x="2422" y="2509"/>
                  </a:lnTo>
                  <a:lnTo>
                    <a:pt x="2437" y="2472"/>
                  </a:lnTo>
                  <a:lnTo>
                    <a:pt x="2451" y="2436"/>
                  </a:lnTo>
                  <a:lnTo>
                    <a:pt x="2465" y="2399"/>
                  </a:lnTo>
                  <a:lnTo>
                    <a:pt x="2477" y="2362"/>
                  </a:lnTo>
                  <a:lnTo>
                    <a:pt x="2488" y="2324"/>
                  </a:lnTo>
                  <a:lnTo>
                    <a:pt x="2497" y="2284"/>
                  </a:lnTo>
                  <a:lnTo>
                    <a:pt x="2504" y="2242"/>
                  </a:lnTo>
                  <a:lnTo>
                    <a:pt x="2504" y="2210"/>
                  </a:lnTo>
                  <a:lnTo>
                    <a:pt x="2497" y="2179"/>
                  </a:lnTo>
                  <a:lnTo>
                    <a:pt x="2484" y="2151"/>
                  </a:lnTo>
                  <a:lnTo>
                    <a:pt x="2464" y="2126"/>
                  </a:lnTo>
                  <a:lnTo>
                    <a:pt x="2440" y="2103"/>
                  </a:lnTo>
                  <a:lnTo>
                    <a:pt x="2416" y="2082"/>
                  </a:lnTo>
                  <a:lnTo>
                    <a:pt x="2388" y="2063"/>
                  </a:lnTo>
                  <a:lnTo>
                    <a:pt x="2362" y="2045"/>
                  </a:lnTo>
                  <a:lnTo>
                    <a:pt x="2320" y="2038"/>
                  </a:lnTo>
                  <a:lnTo>
                    <a:pt x="2279" y="2032"/>
                  </a:lnTo>
                  <a:lnTo>
                    <a:pt x="2237" y="2029"/>
                  </a:lnTo>
                  <a:lnTo>
                    <a:pt x="2198" y="2028"/>
                  </a:lnTo>
                  <a:lnTo>
                    <a:pt x="2158" y="2028"/>
                  </a:lnTo>
                  <a:lnTo>
                    <a:pt x="2120" y="2029"/>
                  </a:lnTo>
                  <a:lnTo>
                    <a:pt x="2081" y="2031"/>
                  </a:lnTo>
                  <a:lnTo>
                    <a:pt x="2044" y="2034"/>
                  </a:lnTo>
                  <a:lnTo>
                    <a:pt x="2006" y="2038"/>
                  </a:lnTo>
                  <a:lnTo>
                    <a:pt x="1967" y="2043"/>
                  </a:lnTo>
                  <a:lnTo>
                    <a:pt x="1930" y="2048"/>
                  </a:lnTo>
                  <a:lnTo>
                    <a:pt x="1892" y="2052"/>
                  </a:lnTo>
                  <a:lnTo>
                    <a:pt x="1853" y="2057"/>
                  </a:lnTo>
                  <a:lnTo>
                    <a:pt x="1814" y="2063"/>
                  </a:lnTo>
                  <a:lnTo>
                    <a:pt x="1774" y="2068"/>
                  </a:lnTo>
                  <a:lnTo>
                    <a:pt x="1734" y="2072"/>
                  </a:lnTo>
                  <a:lnTo>
                    <a:pt x="1753" y="2054"/>
                  </a:lnTo>
                  <a:lnTo>
                    <a:pt x="1771" y="2034"/>
                  </a:lnTo>
                  <a:lnTo>
                    <a:pt x="1790" y="2014"/>
                  </a:lnTo>
                  <a:lnTo>
                    <a:pt x="1808" y="1992"/>
                  </a:lnTo>
                  <a:lnTo>
                    <a:pt x="1825" y="1972"/>
                  </a:lnTo>
                  <a:lnTo>
                    <a:pt x="1844" y="1950"/>
                  </a:lnTo>
                  <a:lnTo>
                    <a:pt x="1861" y="1927"/>
                  </a:lnTo>
                  <a:lnTo>
                    <a:pt x="1878" y="1906"/>
                  </a:lnTo>
                  <a:lnTo>
                    <a:pt x="1893" y="1883"/>
                  </a:lnTo>
                  <a:lnTo>
                    <a:pt x="1908" y="1859"/>
                  </a:lnTo>
                  <a:lnTo>
                    <a:pt x="1924" y="1836"/>
                  </a:lnTo>
                  <a:lnTo>
                    <a:pt x="1938" y="1812"/>
                  </a:lnTo>
                  <a:lnTo>
                    <a:pt x="1950" y="1789"/>
                  </a:lnTo>
                  <a:lnTo>
                    <a:pt x="1962" y="1764"/>
                  </a:lnTo>
                  <a:lnTo>
                    <a:pt x="1973" y="1739"/>
                  </a:lnTo>
                  <a:lnTo>
                    <a:pt x="1982" y="1714"/>
                  </a:lnTo>
                  <a:lnTo>
                    <a:pt x="1982" y="1681"/>
                  </a:lnTo>
                  <a:lnTo>
                    <a:pt x="1973" y="1653"/>
                  </a:lnTo>
                  <a:lnTo>
                    <a:pt x="1955" y="1631"/>
                  </a:lnTo>
                  <a:lnTo>
                    <a:pt x="1932" y="1611"/>
                  </a:lnTo>
                  <a:lnTo>
                    <a:pt x="1907" y="1594"/>
                  </a:lnTo>
                  <a:lnTo>
                    <a:pt x="1882" y="1577"/>
                  </a:lnTo>
                  <a:lnTo>
                    <a:pt x="1862" y="1559"/>
                  </a:lnTo>
                  <a:lnTo>
                    <a:pt x="1850" y="1537"/>
                  </a:lnTo>
                  <a:lnTo>
                    <a:pt x="1879" y="1523"/>
                  </a:lnTo>
                  <a:lnTo>
                    <a:pt x="1908" y="1512"/>
                  </a:lnTo>
                  <a:lnTo>
                    <a:pt x="1939" y="1502"/>
                  </a:lnTo>
                  <a:lnTo>
                    <a:pt x="1969" y="1494"/>
                  </a:lnTo>
                  <a:lnTo>
                    <a:pt x="1998" y="1485"/>
                  </a:lnTo>
                  <a:lnTo>
                    <a:pt x="2029" y="1475"/>
                  </a:lnTo>
                  <a:lnTo>
                    <a:pt x="2058" y="1466"/>
                  </a:lnTo>
                  <a:lnTo>
                    <a:pt x="2087" y="1455"/>
                  </a:lnTo>
                  <a:lnTo>
                    <a:pt x="2138" y="1440"/>
                  </a:lnTo>
                  <a:lnTo>
                    <a:pt x="2184" y="1421"/>
                  </a:lnTo>
                  <a:lnTo>
                    <a:pt x="2229" y="1398"/>
                  </a:lnTo>
                  <a:lnTo>
                    <a:pt x="2271" y="1372"/>
                  </a:lnTo>
                  <a:lnTo>
                    <a:pt x="2311" y="1344"/>
                  </a:lnTo>
                  <a:lnTo>
                    <a:pt x="2349" y="1314"/>
                  </a:lnTo>
                  <a:lnTo>
                    <a:pt x="2386" y="1283"/>
                  </a:lnTo>
                  <a:lnTo>
                    <a:pt x="2423" y="1252"/>
                  </a:lnTo>
                  <a:lnTo>
                    <a:pt x="2460" y="1219"/>
                  </a:lnTo>
                  <a:lnTo>
                    <a:pt x="2499" y="1189"/>
                  </a:lnTo>
                  <a:lnTo>
                    <a:pt x="2538" y="1159"/>
                  </a:lnTo>
                  <a:lnTo>
                    <a:pt x="2578" y="1132"/>
                  </a:lnTo>
                  <a:lnTo>
                    <a:pt x="2621" y="1107"/>
                  </a:lnTo>
                  <a:lnTo>
                    <a:pt x="2666" y="1085"/>
                  </a:lnTo>
                  <a:lnTo>
                    <a:pt x="2713" y="1067"/>
                  </a:lnTo>
                  <a:lnTo>
                    <a:pt x="2764" y="1053"/>
                  </a:lnTo>
                  <a:lnTo>
                    <a:pt x="2781" y="1057"/>
                  </a:lnTo>
                  <a:lnTo>
                    <a:pt x="2800" y="1061"/>
                  </a:lnTo>
                  <a:lnTo>
                    <a:pt x="2818" y="1059"/>
                  </a:lnTo>
                  <a:lnTo>
                    <a:pt x="2837" y="1056"/>
                  </a:lnTo>
                  <a:lnTo>
                    <a:pt x="2855" y="1051"/>
                  </a:lnTo>
                  <a:lnTo>
                    <a:pt x="2872" y="1044"/>
                  </a:lnTo>
                  <a:lnTo>
                    <a:pt x="2888" y="1034"/>
                  </a:lnTo>
                  <a:lnTo>
                    <a:pt x="2901" y="1025"/>
                  </a:lnTo>
                  <a:lnTo>
                    <a:pt x="2917" y="1017"/>
                  </a:lnTo>
                  <a:lnTo>
                    <a:pt x="2928" y="1011"/>
                  </a:lnTo>
                  <a:lnTo>
                    <a:pt x="2934" y="1004"/>
                  </a:lnTo>
                  <a:lnTo>
                    <a:pt x="2937" y="996"/>
                  </a:lnTo>
                  <a:lnTo>
                    <a:pt x="2935" y="983"/>
                  </a:lnTo>
                  <a:lnTo>
                    <a:pt x="2929" y="971"/>
                  </a:lnTo>
                  <a:lnTo>
                    <a:pt x="2920" y="959"/>
                  </a:lnTo>
                  <a:lnTo>
                    <a:pt x="2912" y="945"/>
                  </a:lnTo>
                  <a:lnTo>
                    <a:pt x="2905" y="931"/>
                  </a:lnTo>
                  <a:lnTo>
                    <a:pt x="2903" y="916"/>
                  </a:lnTo>
                  <a:lnTo>
                    <a:pt x="2908" y="900"/>
                  </a:lnTo>
                  <a:lnTo>
                    <a:pt x="2920" y="883"/>
                  </a:lnTo>
                  <a:lnTo>
                    <a:pt x="2911" y="842"/>
                  </a:lnTo>
                  <a:lnTo>
                    <a:pt x="2914" y="801"/>
                  </a:lnTo>
                  <a:lnTo>
                    <a:pt x="2914" y="758"/>
                  </a:lnTo>
                  <a:lnTo>
                    <a:pt x="2901" y="709"/>
                  </a:lnTo>
                  <a:lnTo>
                    <a:pt x="2895" y="697"/>
                  </a:lnTo>
                  <a:lnTo>
                    <a:pt x="2886" y="686"/>
                  </a:lnTo>
                  <a:lnTo>
                    <a:pt x="2872" y="678"/>
                  </a:lnTo>
                  <a:lnTo>
                    <a:pt x="2858" y="670"/>
                  </a:lnTo>
                  <a:lnTo>
                    <a:pt x="2843" y="663"/>
                  </a:lnTo>
                  <a:lnTo>
                    <a:pt x="2832" y="652"/>
                  </a:lnTo>
                  <a:lnTo>
                    <a:pt x="2823" y="636"/>
                  </a:lnTo>
                  <a:lnTo>
                    <a:pt x="2820" y="618"/>
                  </a:lnTo>
                  <a:lnTo>
                    <a:pt x="2804" y="609"/>
                  </a:lnTo>
                  <a:lnTo>
                    <a:pt x="2789" y="598"/>
                  </a:lnTo>
                  <a:lnTo>
                    <a:pt x="2775" y="586"/>
                  </a:lnTo>
                  <a:lnTo>
                    <a:pt x="2760" y="575"/>
                  </a:lnTo>
                  <a:lnTo>
                    <a:pt x="2744" y="566"/>
                  </a:lnTo>
                  <a:lnTo>
                    <a:pt x="2727" y="559"/>
                  </a:lnTo>
                  <a:lnTo>
                    <a:pt x="2710" y="558"/>
                  </a:lnTo>
                  <a:lnTo>
                    <a:pt x="2692" y="562"/>
                  </a:lnTo>
                  <a:lnTo>
                    <a:pt x="2661" y="582"/>
                  </a:lnTo>
                  <a:lnTo>
                    <a:pt x="2636" y="604"/>
                  </a:lnTo>
                  <a:lnTo>
                    <a:pt x="2616" y="627"/>
                  </a:lnTo>
                  <a:lnTo>
                    <a:pt x="2599" y="653"/>
                  </a:lnTo>
                  <a:lnTo>
                    <a:pt x="2585" y="681"/>
                  </a:lnTo>
                  <a:lnTo>
                    <a:pt x="2573" y="710"/>
                  </a:lnTo>
                  <a:lnTo>
                    <a:pt x="2564" y="743"/>
                  </a:lnTo>
                  <a:lnTo>
                    <a:pt x="2555" y="778"/>
                  </a:lnTo>
                  <a:lnTo>
                    <a:pt x="2197" y="974"/>
                  </a:lnTo>
                  <a:lnTo>
                    <a:pt x="2189" y="979"/>
                  </a:lnTo>
                  <a:lnTo>
                    <a:pt x="2174" y="987"/>
                  </a:lnTo>
                  <a:lnTo>
                    <a:pt x="2152" y="999"/>
                  </a:lnTo>
                  <a:lnTo>
                    <a:pt x="2121" y="1014"/>
                  </a:lnTo>
                  <a:lnTo>
                    <a:pt x="2087" y="1033"/>
                  </a:lnTo>
                  <a:lnTo>
                    <a:pt x="2047" y="1054"/>
                  </a:lnTo>
                  <a:lnTo>
                    <a:pt x="2003" y="1076"/>
                  </a:lnTo>
                  <a:lnTo>
                    <a:pt x="1956" y="1101"/>
                  </a:lnTo>
                  <a:lnTo>
                    <a:pt x="1905" y="1125"/>
                  </a:lnTo>
                  <a:lnTo>
                    <a:pt x="1856" y="1150"/>
                  </a:lnTo>
                  <a:lnTo>
                    <a:pt x="1804" y="1176"/>
                  </a:lnTo>
                  <a:lnTo>
                    <a:pt x="1753" y="1199"/>
                  </a:lnTo>
                  <a:lnTo>
                    <a:pt x="1703" y="1223"/>
                  </a:lnTo>
                  <a:lnTo>
                    <a:pt x="1656" y="1244"/>
                  </a:lnTo>
                  <a:lnTo>
                    <a:pt x="1611" y="1264"/>
                  </a:lnTo>
                  <a:lnTo>
                    <a:pt x="1571" y="1281"/>
                  </a:lnTo>
                  <a:lnTo>
                    <a:pt x="1552" y="1272"/>
                  </a:lnTo>
                  <a:lnTo>
                    <a:pt x="1575" y="1229"/>
                  </a:lnTo>
                  <a:lnTo>
                    <a:pt x="1602" y="1187"/>
                  </a:lnTo>
                  <a:lnTo>
                    <a:pt x="1629" y="1145"/>
                  </a:lnTo>
                  <a:lnTo>
                    <a:pt x="1654" y="1102"/>
                  </a:lnTo>
                  <a:lnTo>
                    <a:pt x="1677" y="1057"/>
                  </a:lnTo>
                  <a:lnTo>
                    <a:pt x="1696" y="1011"/>
                  </a:lnTo>
                  <a:lnTo>
                    <a:pt x="1708" y="962"/>
                  </a:lnTo>
                  <a:lnTo>
                    <a:pt x="1713" y="911"/>
                  </a:lnTo>
                  <a:lnTo>
                    <a:pt x="1714" y="883"/>
                  </a:lnTo>
                  <a:lnTo>
                    <a:pt x="1708" y="859"/>
                  </a:lnTo>
                  <a:lnTo>
                    <a:pt x="1697" y="837"/>
                  </a:lnTo>
                  <a:lnTo>
                    <a:pt x="1683" y="817"/>
                  </a:lnTo>
                  <a:lnTo>
                    <a:pt x="1666" y="798"/>
                  </a:lnTo>
                  <a:lnTo>
                    <a:pt x="1649" y="780"/>
                  </a:lnTo>
                  <a:lnTo>
                    <a:pt x="1634" y="761"/>
                  </a:lnTo>
                  <a:lnTo>
                    <a:pt x="1620" y="741"/>
                  </a:lnTo>
                  <a:lnTo>
                    <a:pt x="1631" y="661"/>
                  </a:lnTo>
                  <a:lnTo>
                    <a:pt x="1631" y="584"/>
                  </a:lnTo>
                  <a:lnTo>
                    <a:pt x="1622" y="510"/>
                  </a:lnTo>
                  <a:lnTo>
                    <a:pt x="1602" y="441"/>
                  </a:lnTo>
                  <a:lnTo>
                    <a:pt x="1572" y="376"/>
                  </a:lnTo>
                  <a:lnTo>
                    <a:pt x="1534" y="317"/>
                  </a:lnTo>
                  <a:lnTo>
                    <a:pt x="1488" y="266"/>
                  </a:lnTo>
                  <a:lnTo>
                    <a:pt x="1430" y="225"/>
                  </a:lnTo>
                  <a:lnTo>
                    <a:pt x="1414" y="203"/>
                  </a:lnTo>
                  <a:lnTo>
                    <a:pt x="1397" y="183"/>
                  </a:lnTo>
                  <a:lnTo>
                    <a:pt x="1380" y="163"/>
                  </a:lnTo>
                  <a:lnTo>
                    <a:pt x="1363" y="146"/>
                  </a:lnTo>
                  <a:lnTo>
                    <a:pt x="1344" y="128"/>
                  </a:lnTo>
                  <a:lnTo>
                    <a:pt x="1327" y="112"/>
                  </a:lnTo>
                  <a:lnTo>
                    <a:pt x="1309" y="97"/>
                  </a:lnTo>
                  <a:lnTo>
                    <a:pt x="1290" y="81"/>
                  </a:lnTo>
                  <a:lnTo>
                    <a:pt x="1272" y="67"/>
                  </a:lnTo>
                  <a:lnTo>
                    <a:pt x="1252" y="55"/>
                  </a:lnTo>
                  <a:lnTo>
                    <a:pt x="1230" y="44"/>
                  </a:lnTo>
                  <a:lnTo>
                    <a:pt x="1208" y="33"/>
                  </a:lnTo>
                  <a:lnTo>
                    <a:pt x="1185" y="24"/>
                  </a:lnTo>
                  <a:lnTo>
                    <a:pt x="1162" y="16"/>
                  </a:lnTo>
                  <a:lnTo>
                    <a:pt x="1136" y="10"/>
                  </a:lnTo>
                  <a:lnTo>
                    <a:pt x="1110" y="4"/>
                  </a:lnTo>
                  <a:lnTo>
                    <a:pt x="1068" y="1"/>
                  </a:lnTo>
                  <a:lnTo>
                    <a:pt x="1025" y="0"/>
                  </a:lnTo>
                  <a:lnTo>
                    <a:pt x="982" y="1"/>
                  </a:lnTo>
                  <a:lnTo>
                    <a:pt x="940" y="4"/>
                  </a:lnTo>
                  <a:lnTo>
                    <a:pt x="897" y="10"/>
                  </a:lnTo>
                  <a:lnTo>
                    <a:pt x="855" y="18"/>
                  </a:lnTo>
                  <a:lnTo>
                    <a:pt x="814" y="26"/>
                  </a:lnTo>
                  <a:lnTo>
                    <a:pt x="774" y="37"/>
                  </a:lnTo>
                  <a:lnTo>
                    <a:pt x="734" y="49"/>
                  </a:lnTo>
                  <a:lnTo>
                    <a:pt x="693" y="63"/>
                  </a:lnTo>
                  <a:lnTo>
                    <a:pt x="656" y="78"/>
                  </a:lnTo>
                  <a:lnTo>
                    <a:pt x="619" y="94"/>
                  </a:lnTo>
                  <a:lnTo>
                    <a:pt x="586" y="111"/>
                  </a:lnTo>
                  <a:lnTo>
                    <a:pt x="552" y="129"/>
                  </a:lnTo>
                  <a:lnTo>
                    <a:pt x="521" y="149"/>
                  </a:lnTo>
                  <a:lnTo>
                    <a:pt x="491" y="169"/>
                  </a:lnTo>
                  <a:lnTo>
                    <a:pt x="487" y="180"/>
                  </a:lnTo>
                  <a:lnTo>
                    <a:pt x="479" y="189"/>
                  </a:lnTo>
                  <a:lnTo>
                    <a:pt x="471" y="198"/>
                  </a:lnTo>
                  <a:lnTo>
                    <a:pt x="464" y="208"/>
                  </a:lnTo>
                  <a:lnTo>
                    <a:pt x="458" y="217"/>
                  </a:lnTo>
                  <a:lnTo>
                    <a:pt x="454" y="228"/>
                  </a:lnTo>
                  <a:lnTo>
                    <a:pt x="456" y="237"/>
                  </a:lnTo>
                  <a:lnTo>
                    <a:pt x="464" y="246"/>
                  </a:lnTo>
                  <a:lnTo>
                    <a:pt x="493" y="220"/>
                  </a:lnTo>
                  <a:lnTo>
                    <a:pt x="524" y="197"/>
                  </a:lnTo>
                  <a:lnTo>
                    <a:pt x="559" y="177"/>
                  </a:lnTo>
                  <a:lnTo>
                    <a:pt x="595" y="160"/>
                  </a:lnTo>
                  <a:lnTo>
                    <a:pt x="633" y="146"/>
                  </a:lnTo>
                  <a:lnTo>
                    <a:pt x="673" y="134"/>
                  </a:lnTo>
                  <a:lnTo>
                    <a:pt x="713" y="124"/>
                  </a:lnTo>
                  <a:lnTo>
                    <a:pt x="755" y="117"/>
                  </a:lnTo>
                  <a:lnTo>
                    <a:pt x="797" y="112"/>
                  </a:lnTo>
                  <a:lnTo>
                    <a:pt x="838" y="111"/>
                  </a:lnTo>
                  <a:lnTo>
                    <a:pt x="880" y="109"/>
                  </a:lnTo>
                  <a:lnTo>
                    <a:pt x="920" y="111"/>
                  </a:lnTo>
                  <a:lnTo>
                    <a:pt x="960" y="114"/>
                  </a:lnTo>
                  <a:lnTo>
                    <a:pt x="999" y="118"/>
                  </a:lnTo>
                  <a:lnTo>
                    <a:pt x="1034" y="124"/>
                  </a:lnTo>
                  <a:lnTo>
                    <a:pt x="1068" y="132"/>
                  </a:lnTo>
                  <a:lnTo>
                    <a:pt x="1099" y="137"/>
                  </a:lnTo>
                  <a:lnTo>
                    <a:pt x="1127" y="149"/>
                  </a:lnTo>
                  <a:lnTo>
                    <a:pt x="1151" y="165"/>
                  </a:lnTo>
                  <a:lnTo>
                    <a:pt x="1173" y="183"/>
                  </a:lnTo>
                  <a:lnTo>
                    <a:pt x="1195" y="202"/>
                  </a:lnTo>
                  <a:lnTo>
                    <a:pt x="1216" y="220"/>
                  </a:lnTo>
                  <a:lnTo>
                    <a:pt x="1239" y="235"/>
                  </a:lnTo>
                  <a:lnTo>
                    <a:pt x="1265" y="246"/>
                  </a:lnTo>
                  <a:lnTo>
                    <a:pt x="1255" y="229"/>
                  </a:lnTo>
                  <a:lnTo>
                    <a:pt x="1242" y="211"/>
                  </a:lnTo>
                  <a:lnTo>
                    <a:pt x="1228" y="195"/>
                  </a:lnTo>
                  <a:lnTo>
                    <a:pt x="1213" y="180"/>
                  </a:lnTo>
                  <a:lnTo>
                    <a:pt x="1198" y="165"/>
                  </a:lnTo>
                  <a:lnTo>
                    <a:pt x="1181" y="149"/>
                  </a:lnTo>
                  <a:lnTo>
                    <a:pt x="1162" y="137"/>
                  </a:lnTo>
                  <a:lnTo>
                    <a:pt x="1144" y="123"/>
                  </a:lnTo>
                  <a:lnTo>
                    <a:pt x="1124" y="112"/>
                  </a:lnTo>
                  <a:lnTo>
                    <a:pt x="1102" y="100"/>
                  </a:lnTo>
                  <a:lnTo>
                    <a:pt x="1080" y="91"/>
                  </a:lnTo>
                  <a:lnTo>
                    <a:pt x="1059" y="81"/>
                  </a:lnTo>
                  <a:lnTo>
                    <a:pt x="1036" y="74"/>
                  </a:lnTo>
                  <a:lnTo>
                    <a:pt x="1013" y="66"/>
                  </a:lnTo>
                  <a:lnTo>
                    <a:pt x="988" y="60"/>
                  </a:lnTo>
                  <a:lnTo>
                    <a:pt x="963" y="55"/>
                  </a:lnTo>
                  <a:lnTo>
                    <a:pt x="996" y="50"/>
                  </a:lnTo>
                  <a:lnTo>
                    <a:pt x="1028" y="47"/>
                  </a:lnTo>
                  <a:lnTo>
                    <a:pt x="1059" y="49"/>
                  </a:lnTo>
                  <a:lnTo>
                    <a:pt x="1090" y="52"/>
                  </a:lnTo>
                  <a:lnTo>
                    <a:pt x="1119" y="60"/>
                  </a:lnTo>
                  <a:lnTo>
                    <a:pt x="1148" y="67"/>
                  </a:lnTo>
                  <a:lnTo>
                    <a:pt x="1176" y="80"/>
                  </a:lnTo>
                  <a:lnTo>
                    <a:pt x="1204" y="92"/>
                  </a:lnTo>
                  <a:lnTo>
                    <a:pt x="1230" y="107"/>
                  </a:lnTo>
                  <a:lnTo>
                    <a:pt x="1255" y="124"/>
                  </a:lnTo>
                  <a:lnTo>
                    <a:pt x="1279" y="141"/>
                  </a:lnTo>
                  <a:lnTo>
                    <a:pt x="1302" y="161"/>
                  </a:lnTo>
                  <a:lnTo>
                    <a:pt x="1324" y="181"/>
                  </a:lnTo>
                  <a:lnTo>
                    <a:pt x="1344" y="203"/>
                  </a:lnTo>
                  <a:lnTo>
                    <a:pt x="1363" y="225"/>
                  </a:lnTo>
                  <a:lnTo>
                    <a:pt x="1380" y="246"/>
                  </a:lnTo>
                  <a:lnTo>
                    <a:pt x="1407" y="246"/>
                  </a:lnTo>
                  <a:lnTo>
                    <a:pt x="1430" y="271"/>
                  </a:lnTo>
                  <a:lnTo>
                    <a:pt x="1455" y="294"/>
                  </a:lnTo>
                  <a:lnTo>
                    <a:pt x="1480" y="320"/>
                  </a:lnTo>
                  <a:lnTo>
                    <a:pt x="1504" y="347"/>
                  </a:lnTo>
                  <a:lnTo>
                    <a:pt x="1526" y="374"/>
                  </a:lnTo>
                  <a:lnTo>
                    <a:pt x="1546" y="405"/>
                  </a:lnTo>
                  <a:lnTo>
                    <a:pt x="1562" y="439"/>
                  </a:lnTo>
                  <a:lnTo>
                    <a:pt x="1571" y="476"/>
                  </a:lnTo>
                  <a:lnTo>
                    <a:pt x="1591" y="519"/>
                  </a:lnTo>
                  <a:lnTo>
                    <a:pt x="1595" y="564"/>
                  </a:lnTo>
                  <a:lnTo>
                    <a:pt x="1589" y="610"/>
                  </a:lnTo>
                  <a:lnTo>
                    <a:pt x="1582" y="657"/>
                  </a:lnTo>
                  <a:lnTo>
                    <a:pt x="1575" y="701"/>
                  </a:lnTo>
                  <a:lnTo>
                    <a:pt x="1580" y="743"/>
                  </a:lnTo>
                  <a:lnTo>
                    <a:pt x="1600" y="780"/>
                  </a:lnTo>
                  <a:lnTo>
                    <a:pt x="1643" y="811"/>
                  </a:lnTo>
                  <a:lnTo>
                    <a:pt x="1665" y="859"/>
                  </a:lnTo>
                  <a:lnTo>
                    <a:pt x="1673" y="908"/>
                  </a:lnTo>
                  <a:lnTo>
                    <a:pt x="1668" y="959"/>
                  </a:lnTo>
                  <a:lnTo>
                    <a:pt x="1656" y="1010"/>
                  </a:lnTo>
                  <a:lnTo>
                    <a:pt x="1637" y="1059"/>
                  </a:lnTo>
                  <a:lnTo>
                    <a:pt x="1616" y="1105"/>
                  </a:lnTo>
                  <a:lnTo>
                    <a:pt x="1594" y="1150"/>
                  </a:lnTo>
                  <a:lnTo>
                    <a:pt x="1575" y="1190"/>
                  </a:lnTo>
                  <a:lnTo>
                    <a:pt x="1558" y="1227"/>
                  </a:lnTo>
                  <a:lnTo>
                    <a:pt x="1538" y="1260"/>
                  </a:lnTo>
                  <a:lnTo>
                    <a:pt x="1515" y="1287"/>
                  </a:lnTo>
                  <a:lnTo>
                    <a:pt x="1489" y="1312"/>
                  </a:lnTo>
                  <a:lnTo>
                    <a:pt x="1460" y="1332"/>
                  </a:lnTo>
                  <a:lnTo>
                    <a:pt x="1429" y="1351"/>
                  </a:lnTo>
                  <a:lnTo>
                    <a:pt x="1395" y="1366"/>
                  </a:lnTo>
                  <a:lnTo>
                    <a:pt x="1361" y="1380"/>
                  </a:lnTo>
                  <a:lnTo>
                    <a:pt x="1326" y="1392"/>
                  </a:lnTo>
                  <a:lnTo>
                    <a:pt x="1289" y="1405"/>
                  </a:lnTo>
                  <a:lnTo>
                    <a:pt x="1252" y="1415"/>
                  </a:lnTo>
                  <a:lnTo>
                    <a:pt x="1213" y="1426"/>
                  </a:lnTo>
                  <a:lnTo>
                    <a:pt x="1176" y="1438"/>
                  </a:lnTo>
                  <a:lnTo>
                    <a:pt x="1139" y="1452"/>
                  </a:lnTo>
                  <a:lnTo>
                    <a:pt x="1104" y="1466"/>
                  </a:lnTo>
                  <a:lnTo>
                    <a:pt x="1068" y="1483"/>
                  </a:lnTo>
                  <a:lnTo>
                    <a:pt x="1028" y="1474"/>
                  </a:lnTo>
                  <a:lnTo>
                    <a:pt x="989" y="1460"/>
                  </a:lnTo>
                  <a:lnTo>
                    <a:pt x="951" y="1446"/>
                  </a:lnTo>
                  <a:lnTo>
                    <a:pt x="915" y="1429"/>
                  </a:lnTo>
                  <a:lnTo>
                    <a:pt x="880" y="1411"/>
                  </a:lnTo>
                  <a:lnTo>
                    <a:pt x="845" y="1391"/>
                  </a:lnTo>
                  <a:lnTo>
                    <a:pt x="812" y="1367"/>
                  </a:lnTo>
                  <a:lnTo>
                    <a:pt x="780" y="1344"/>
                  </a:lnTo>
                  <a:lnTo>
                    <a:pt x="747" y="1320"/>
                  </a:lnTo>
                  <a:lnTo>
                    <a:pt x="717" y="1295"/>
                  </a:lnTo>
                  <a:lnTo>
                    <a:pt x="687" y="1269"/>
                  </a:lnTo>
                  <a:lnTo>
                    <a:pt x="660" y="1243"/>
                  </a:lnTo>
                  <a:lnTo>
                    <a:pt x="632" y="1215"/>
                  </a:lnTo>
                  <a:lnTo>
                    <a:pt x="606" y="1189"/>
                  </a:lnTo>
                  <a:lnTo>
                    <a:pt x="579" y="1161"/>
                  </a:lnTo>
                  <a:lnTo>
                    <a:pt x="555" y="1135"/>
                  </a:lnTo>
                  <a:lnTo>
                    <a:pt x="561" y="1115"/>
                  </a:lnTo>
                  <a:lnTo>
                    <a:pt x="573" y="1095"/>
                  </a:lnTo>
                  <a:lnTo>
                    <a:pt x="584" y="1073"/>
                  </a:lnTo>
                  <a:lnTo>
                    <a:pt x="582" y="1044"/>
                  </a:lnTo>
                  <a:lnTo>
                    <a:pt x="555" y="1013"/>
                  </a:lnTo>
                  <a:lnTo>
                    <a:pt x="542" y="1010"/>
                  </a:lnTo>
                  <a:lnTo>
                    <a:pt x="536" y="1024"/>
                  </a:lnTo>
                  <a:lnTo>
                    <a:pt x="536" y="1050"/>
                  </a:lnTo>
                  <a:lnTo>
                    <a:pt x="533" y="1079"/>
                  </a:lnTo>
                  <a:lnTo>
                    <a:pt x="525" y="1104"/>
                  </a:lnTo>
                  <a:lnTo>
                    <a:pt x="505" y="1116"/>
                  </a:lnTo>
                  <a:lnTo>
                    <a:pt x="468" y="1108"/>
                  </a:lnTo>
                  <a:lnTo>
                    <a:pt x="441" y="1099"/>
                  </a:lnTo>
                  <a:lnTo>
                    <a:pt x="416" y="1088"/>
                  </a:lnTo>
                  <a:lnTo>
                    <a:pt x="393" y="1076"/>
                  </a:lnTo>
                  <a:lnTo>
                    <a:pt x="373" y="1062"/>
                  </a:lnTo>
                  <a:lnTo>
                    <a:pt x="354" y="1045"/>
                  </a:lnTo>
                  <a:lnTo>
                    <a:pt x="337" y="1027"/>
                  </a:lnTo>
                  <a:lnTo>
                    <a:pt x="322" y="1007"/>
                  </a:lnTo>
                  <a:lnTo>
                    <a:pt x="308" y="983"/>
                  </a:lnTo>
                  <a:lnTo>
                    <a:pt x="297" y="959"/>
                  </a:lnTo>
                  <a:lnTo>
                    <a:pt x="297" y="940"/>
                  </a:lnTo>
                  <a:lnTo>
                    <a:pt x="305" y="925"/>
                  </a:lnTo>
                  <a:lnTo>
                    <a:pt x="316" y="913"/>
                  </a:lnTo>
                  <a:lnTo>
                    <a:pt x="330" y="899"/>
                  </a:lnTo>
                  <a:lnTo>
                    <a:pt x="340" y="885"/>
                  </a:lnTo>
                  <a:lnTo>
                    <a:pt x="347" y="868"/>
                  </a:lnTo>
                  <a:lnTo>
                    <a:pt x="345" y="846"/>
                  </a:lnTo>
                  <a:lnTo>
                    <a:pt x="354" y="837"/>
                  </a:lnTo>
                  <a:lnTo>
                    <a:pt x="367" y="831"/>
                  </a:lnTo>
                  <a:lnTo>
                    <a:pt x="380" y="829"/>
                  </a:lnTo>
                  <a:lnTo>
                    <a:pt x="394" y="829"/>
                  </a:lnTo>
                  <a:lnTo>
                    <a:pt x="408" y="834"/>
                  </a:lnTo>
                  <a:lnTo>
                    <a:pt x="421" y="838"/>
                  </a:lnTo>
                  <a:lnTo>
                    <a:pt x="433" y="845"/>
                  </a:lnTo>
                  <a:lnTo>
                    <a:pt x="441" y="851"/>
                  </a:lnTo>
                  <a:lnTo>
                    <a:pt x="453" y="863"/>
                  </a:lnTo>
                  <a:lnTo>
                    <a:pt x="458" y="876"/>
                  </a:lnTo>
                  <a:lnTo>
                    <a:pt x="456" y="889"/>
                  </a:lnTo>
                  <a:lnTo>
                    <a:pt x="450" y="902"/>
                  </a:lnTo>
                  <a:lnTo>
                    <a:pt x="442" y="914"/>
                  </a:lnTo>
                  <a:lnTo>
                    <a:pt x="431" y="923"/>
                  </a:lnTo>
                  <a:lnTo>
                    <a:pt x="419" y="933"/>
                  </a:lnTo>
                  <a:lnTo>
                    <a:pt x="408" y="939"/>
                  </a:lnTo>
                  <a:lnTo>
                    <a:pt x="402" y="960"/>
                  </a:lnTo>
                  <a:lnTo>
                    <a:pt x="402" y="982"/>
                  </a:lnTo>
                  <a:lnTo>
                    <a:pt x="410" y="1002"/>
                  </a:lnTo>
                  <a:lnTo>
                    <a:pt x="422" y="1020"/>
                  </a:lnTo>
                  <a:lnTo>
                    <a:pt x="431" y="1024"/>
                  </a:lnTo>
                  <a:lnTo>
                    <a:pt x="442" y="1028"/>
                  </a:lnTo>
                  <a:lnTo>
                    <a:pt x="454" y="1030"/>
                  </a:lnTo>
                  <a:lnTo>
                    <a:pt x="467" y="1031"/>
                  </a:lnTo>
                  <a:lnTo>
                    <a:pt x="478" y="1031"/>
                  </a:lnTo>
                  <a:lnTo>
                    <a:pt x="488" y="1030"/>
                  </a:lnTo>
                  <a:lnTo>
                    <a:pt x="496" y="1025"/>
                  </a:lnTo>
                  <a:lnTo>
                    <a:pt x="501" y="1016"/>
                  </a:lnTo>
                  <a:lnTo>
                    <a:pt x="493" y="1010"/>
                  </a:lnTo>
                  <a:lnTo>
                    <a:pt x="484" y="1005"/>
                  </a:lnTo>
                  <a:lnTo>
                    <a:pt x="471" y="1004"/>
                  </a:lnTo>
                  <a:lnTo>
                    <a:pt x="459" y="1002"/>
                  </a:lnTo>
                  <a:lnTo>
                    <a:pt x="448" y="999"/>
                  </a:lnTo>
                  <a:lnTo>
                    <a:pt x="441" y="993"/>
                  </a:lnTo>
                  <a:lnTo>
                    <a:pt x="436" y="983"/>
                  </a:lnTo>
                  <a:lnTo>
                    <a:pt x="436" y="970"/>
                  </a:lnTo>
                  <a:lnTo>
                    <a:pt x="434" y="960"/>
                  </a:lnTo>
                  <a:lnTo>
                    <a:pt x="436" y="954"/>
                  </a:lnTo>
                  <a:lnTo>
                    <a:pt x="441" y="948"/>
                  </a:lnTo>
                  <a:lnTo>
                    <a:pt x="445" y="943"/>
                  </a:lnTo>
                  <a:lnTo>
                    <a:pt x="453" y="940"/>
                  </a:lnTo>
                  <a:lnTo>
                    <a:pt x="461" y="937"/>
                  </a:lnTo>
                  <a:lnTo>
                    <a:pt x="467" y="936"/>
                  </a:lnTo>
                  <a:lnTo>
                    <a:pt x="473" y="934"/>
                  </a:lnTo>
                  <a:lnTo>
                    <a:pt x="482" y="920"/>
                  </a:lnTo>
                  <a:lnTo>
                    <a:pt x="488" y="905"/>
                  </a:lnTo>
                  <a:lnTo>
                    <a:pt x="490" y="886"/>
                  </a:lnTo>
                  <a:lnTo>
                    <a:pt x="487" y="868"/>
                  </a:lnTo>
                  <a:lnTo>
                    <a:pt x="482" y="851"/>
                  </a:lnTo>
                  <a:lnTo>
                    <a:pt x="473" y="834"/>
                  </a:lnTo>
                  <a:lnTo>
                    <a:pt x="462" y="822"/>
                  </a:lnTo>
                  <a:lnTo>
                    <a:pt x="450" y="811"/>
                  </a:lnTo>
                  <a:lnTo>
                    <a:pt x="433" y="800"/>
                  </a:lnTo>
                  <a:lnTo>
                    <a:pt x="414" y="797"/>
                  </a:lnTo>
                  <a:lnTo>
                    <a:pt x="394" y="797"/>
                  </a:lnTo>
                  <a:lnTo>
                    <a:pt x="374" y="801"/>
                  </a:lnTo>
                  <a:lnTo>
                    <a:pt x="354" y="808"/>
                  </a:lnTo>
                  <a:lnTo>
                    <a:pt x="336" y="817"/>
                  </a:lnTo>
                  <a:lnTo>
                    <a:pt x="319" y="825"/>
                  </a:lnTo>
                  <a:lnTo>
                    <a:pt x="303" y="832"/>
                  </a:lnTo>
                  <a:lnTo>
                    <a:pt x="303" y="820"/>
                  </a:lnTo>
                  <a:lnTo>
                    <a:pt x="308" y="801"/>
                  </a:lnTo>
                  <a:lnTo>
                    <a:pt x="316" y="785"/>
                  </a:lnTo>
                  <a:lnTo>
                    <a:pt x="326" y="772"/>
                  </a:lnTo>
                  <a:lnTo>
                    <a:pt x="340" y="761"/>
                  </a:lnTo>
                  <a:lnTo>
                    <a:pt x="357" y="755"/>
                  </a:lnTo>
                  <a:lnTo>
                    <a:pt x="374" y="749"/>
                  </a:lnTo>
                  <a:lnTo>
                    <a:pt x="391" y="748"/>
                  </a:lnTo>
                  <a:lnTo>
                    <a:pt x="408" y="746"/>
                  </a:lnTo>
                  <a:lnTo>
                    <a:pt x="430" y="752"/>
                  </a:lnTo>
                  <a:lnTo>
                    <a:pt x="450" y="764"/>
                  </a:lnTo>
                  <a:lnTo>
                    <a:pt x="467" y="778"/>
                  </a:lnTo>
                  <a:lnTo>
                    <a:pt x="485" y="795"/>
                  </a:lnTo>
                  <a:lnTo>
                    <a:pt x="501" y="814"/>
                  </a:lnTo>
                  <a:lnTo>
                    <a:pt x="516" y="829"/>
                  </a:lnTo>
                  <a:lnTo>
                    <a:pt x="532" y="845"/>
                  </a:lnTo>
                  <a:lnTo>
                    <a:pt x="547" y="855"/>
                  </a:lnTo>
                  <a:lnTo>
                    <a:pt x="555" y="838"/>
                  </a:lnTo>
                  <a:lnTo>
                    <a:pt x="569" y="828"/>
                  </a:lnTo>
                  <a:lnTo>
                    <a:pt x="587" y="822"/>
                  </a:lnTo>
                  <a:lnTo>
                    <a:pt x="609" y="818"/>
                  </a:lnTo>
                  <a:lnTo>
                    <a:pt x="630" y="818"/>
                  </a:lnTo>
                  <a:lnTo>
                    <a:pt x="653" y="820"/>
                  </a:lnTo>
                  <a:lnTo>
                    <a:pt x="672" y="820"/>
                  </a:lnTo>
                  <a:lnTo>
                    <a:pt x="689" y="820"/>
                  </a:lnTo>
                  <a:lnTo>
                    <a:pt x="689" y="806"/>
                  </a:lnTo>
                  <a:lnTo>
                    <a:pt x="684" y="801"/>
                  </a:lnTo>
                  <a:lnTo>
                    <a:pt x="680" y="800"/>
                  </a:lnTo>
                  <a:lnTo>
                    <a:pt x="672" y="801"/>
                  </a:lnTo>
                  <a:lnTo>
                    <a:pt x="666" y="801"/>
                  </a:lnTo>
                  <a:lnTo>
                    <a:pt x="647" y="801"/>
                  </a:lnTo>
                  <a:lnTo>
                    <a:pt x="629" y="801"/>
                  </a:lnTo>
                  <a:lnTo>
                    <a:pt x="610" y="805"/>
                  </a:lnTo>
                  <a:lnTo>
                    <a:pt x="593" y="806"/>
                  </a:lnTo>
                  <a:lnTo>
                    <a:pt x="578" y="808"/>
                  </a:lnTo>
                  <a:lnTo>
                    <a:pt x="562" y="806"/>
                  </a:lnTo>
                  <a:lnTo>
                    <a:pt x="547" y="803"/>
                  </a:lnTo>
                  <a:lnTo>
                    <a:pt x="533" y="797"/>
                  </a:lnTo>
                  <a:lnTo>
                    <a:pt x="552" y="791"/>
                  </a:lnTo>
                  <a:lnTo>
                    <a:pt x="570" y="786"/>
                  </a:lnTo>
                  <a:lnTo>
                    <a:pt x="587" y="783"/>
                  </a:lnTo>
                  <a:lnTo>
                    <a:pt x="602" y="780"/>
                  </a:lnTo>
                  <a:lnTo>
                    <a:pt x="619" y="780"/>
                  </a:lnTo>
                  <a:lnTo>
                    <a:pt x="639" y="778"/>
                  </a:lnTo>
                  <a:lnTo>
                    <a:pt x="660" y="778"/>
                  </a:lnTo>
                  <a:lnTo>
                    <a:pt x="684" y="778"/>
                  </a:lnTo>
                  <a:lnTo>
                    <a:pt x="684" y="764"/>
                  </a:lnTo>
                  <a:lnTo>
                    <a:pt x="482" y="764"/>
                  </a:lnTo>
                  <a:lnTo>
                    <a:pt x="482" y="751"/>
                  </a:lnTo>
                  <a:lnTo>
                    <a:pt x="507" y="738"/>
                  </a:lnTo>
                  <a:lnTo>
                    <a:pt x="532" y="734"/>
                  </a:lnTo>
                  <a:lnTo>
                    <a:pt x="558" y="734"/>
                  </a:lnTo>
                  <a:lnTo>
                    <a:pt x="584" y="735"/>
                  </a:lnTo>
                  <a:lnTo>
                    <a:pt x="609" y="738"/>
                  </a:lnTo>
                  <a:lnTo>
                    <a:pt x="635" y="738"/>
                  </a:lnTo>
                  <a:lnTo>
                    <a:pt x="660" y="737"/>
                  </a:lnTo>
                  <a:lnTo>
                    <a:pt x="684" y="727"/>
                  </a:lnTo>
                  <a:lnTo>
                    <a:pt x="684" y="714"/>
                  </a:lnTo>
                  <a:lnTo>
                    <a:pt x="478" y="723"/>
                  </a:lnTo>
                  <a:lnTo>
                    <a:pt x="454" y="709"/>
                  </a:lnTo>
                  <a:lnTo>
                    <a:pt x="481" y="698"/>
                  </a:lnTo>
                  <a:lnTo>
                    <a:pt x="505" y="692"/>
                  </a:lnTo>
                  <a:lnTo>
                    <a:pt x="532" y="689"/>
                  </a:lnTo>
                  <a:lnTo>
                    <a:pt x="558" y="687"/>
                  </a:lnTo>
                  <a:lnTo>
                    <a:pt x="584" y="687"/>
                  </a:lnTo>
                  <a:lnTo>
                    <a:pt x="610" y="686"/>
                  </a:lnTo>
                  <a:lnTo>
                    <a:pt x="638" y="684"/>
                  </a:lnTo>
                  <a:lnTo>
                    <a:pt x="666" y="681"/>
                  </a:lnTo>
                  <a:lnTo>
                    <a:pt x="669" y="669"/>
                  </a:lnTo>
                  <a:lnTo>
                    <a:pt x="655" y="661"/>
                  </a:lnTo>
                  <a:lnTo>
                    <a:pt x="632" y="658"/>
                  </a:lnTo>
                  <a:lnTo>
                    <a:pt x="602" y="658"/>
                  </a:lnTo>
                  <a:lnTo>
                    <a:pt x="570" y="660"/>
                  </a:lnTo>
                  <a:lnTo>
                    <a:pt x="536" y="663"/>
                  </a:lnTo>
                  <a:lnTo>
                    <a:pt x="507" y="666"/>
                  </a:lnTo>
                  <a:lnTo>
                    <a:pt x="481" y="666"/>
                  </a:lnTo>
                  <a:lnTo>
                    <a:pt x="464" y="66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02160" y="2373480"/>
              <a:ext cx="374760" cy="392040"/>
            </a:xfrm>
            <a:custGeom>
              <a:avLst/>
              <a:gdLst/>
              <a:ahLst/>
              <a:rect l="l" t="t" r="r" b="b"/>
              <a:pathLst>
                <a:path w="236" h="247">
                  <a:moveTo>
                    <a:pt x="236" y="114"/>
                  </a:moveTo>
                  <a:lnTo>
                    <a:pt x="205" y="93"/>
                  </a:lnTo>
                  <a:lnTo>
                    <a:pt x="179" y="91"/>
                  </a:lnTo>
                  <a:lnTo>
                    <a:pt x="157" y="104"/>
                  </a:lnTo>
                  <a:lnTo>
                    <a:pt x="139" y="125"/>
                  </a:lnTo>
                  <a:lnTo>
                    <a:pt x="122" y="153"/>
                  </a:lnTo>
                  <a:lnTo>
                    <a:pt x="105" y="182"/>
                  </a:lnTo>
                  <a:lnTo>
                    <a:pt x="85" y="207"/>
                  </a:lnTo>
                  <a:lnTo>
                    <a:pt x="63" y="224"/>
                  </a:lnTo>
                  <a:lnTo>
                    <a:pt x="35" y="247"/>
                  </a:lnTo>
                  <a:lnTo>
                    <a:pt x="29" y="233"/>
                  </a:lnTo>
                  <a:lnTo>
                    <a:pt x="21" y="219"/>
                  </a:lnTo>
                  <a:lnTo>
                    <a:pt x="12" y="205"/>
                  </a:lnTo>
                  <a:lnTo>
                    <a:pt x="6" y="191"/>
                  </a:lnTo>
                  <a:lnTo>
                    <a:pt x="1" y="178"/>
                  </a:lnTo>
                  <a:lnTo>
                    <a:pt x="0" y="164"/>
                  </a:lnTo>
                  <a:lnTo>
                    <a:pt x="4" y="150"/>
                  </a:lnTo>
                  <a:lnTo>
                    <a:pt x="17" y="137"/>
                  </a:lnTo>
                  <a:lnTo>
                    <a:pt x="37" y="120"/>
                  </a:lnTo>
                  <a:lnTo>
                    <a:pt x="55" y="104"/>
                  </a:lnTo>
                  <a:lnTo>
                    <a:pt x="74" y="85"/>
                  </a:lnTo>
                  <a:lnTo>
                    <a:pt x="91" y="65"/>
                  </a:lnTo>
                  <a:lnTo>
                    <a:pt x="109" y="46"/>
                  </a:lnTo>
                  <a:lnTo>
                    <a:pt x="126" y="29"/>
                  </a:lnTo>
                  <a:lnTo>
                    <a:pt x="146" y="14"/>
                  </a:lnTo>
                  <a:lnTo>
                    <a:pt x="166" y="0"/>
                  </a:lnTo>
                  <a:lnTo>
                    <a:pt x="182" y="11"/>
                  </a:lnTo>
                  <a:lnTo>
                    <a:pt x="196" y="23"/>
                  </a:lnTo>
                  <a:lnTo>
                    <a:pt x="208" y="36"/>
                  </a:lnTo>
                  <a:lnTo>
                    <a:pt x="217" y="50"/>
                  </a:lnTo>
                  <a:lnTo>
                    <a:pt x="223" y="65"/>
                  </a:lnTo>
                  <a:lnTo>
                    <a:pt x="229" y="80"/>
                  </a:lnTo>
                  <a:lnTo>
                    <a:pt x="233" y="97"/>
                  </a:lnTo>
                  <a:lnTo>
                    <a:pt x="236" y="1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30800" y="2403360"/>
              <a:ext cx="420840" cy="276480"/>
            </a:xfrm>
            <a:custGeom>
              <a:avLst/>
              <a:gdLst/>
              <a:ahLst/>
              <a:rect l="l" t="t" r="r" b="b"/>
              <a:pathLst>
                <a:path w="265" h="174">
                  <a:moveTo>
                    <a:pt x="265" y="23"/>
                  </a:moveTo>
                  <a:lnTo>
                    <a:pt x="252" y="35"/>
                  </a:lnTo>
                  <a:lnTo>
                    <a:pt x="236" y="46"/>
                  </a:lnTo>
                  <a:lnTo>
                    <a:pt x="221" y="57"/>
                  </a:lnTo>
                  <a:lnTo>
                    <a:pt x="205" y="69"/>
                  </a:lnTo>
                  <a:lnTo>
                    <a:pt x="190" y="80"/>
                  </a:lnTo>
                  <a:lnTo>
                    <a:pt x="173" y="89"/>
                  </a:lnTo>
                  <a:lnTo>
                    <a:pt x="158" y="100"/>
                  </a:lnTo>
                  <a:lnTo>
                    <a:pt x="141" y="109"/>
                  </a:lnTo>
                  <a:lnTo>
                    <a:pt x="124" y="120"/>
                  </a:lnTo>
                  <a:lnTo>
                    <a:pt x="107" y="129"/>
                  </a:lnTo>
                  <a:lnTo>
                    <a:pt x="90" y="137"/>
                  </a:lnTo>
                  <a:lnTo>
                    <a:pt x="71" y="146"/>
                  </a:lnTo>
                  <a:lnTo>
                    <a:pt x="54" y="154"/>
                  </a:lnTo>
                  <a:lnTo>
                    <a:pt x="36" y="160"/>
                  </a:lnTo>
                  <a:lnTo>
                    <a:pt x="19" y="168"/>
                  </a:lnTo>
                  <a:lnTo>
                    <a:pt x="0" y="174"/>
                  </a:lnTo>
                  <a:lnTo>
                    <a:pt x="13" y="160"/>
                  </a:lnTo>
                  <a:lnTo>
                    <a:pt x="25" y="148"/>
                  </a:lnTo>
                  <a:lnTo>
                    <a:pt x="39" y="134"/>
                  </a:lnTo>
                  <a:lnTo>
                    <a:pt x="53" y="122"/>
                  </a:lnTo>
                  <a:lnTo>
                    <a:pt x="67" y="111"/>
                  </a:lnTo>
                  <a:lnTo>
                    <a:pt x="82" y="98"/>
                  </a:lnTo>
                  <a:lnTo>
                    <a:pt x="99" y="88"/>
                  </a:lnTo>
                  <a:lnTo>
                    <a:pt x="116" y="77"/>
                  </a:lnTo>
                  <a:lnTo>
                    <a:pt x="133" y="66"/>
                  </a:lnTo>
                  <a:lnTo>
                    <a:pt x="150" y="55"/>
                  </a:lnTo>
                  <a:lnTo>
                    <a:pt x="168" y="46"/>
                  </a:lnTo>
                  <a:lnTo>
                    <a:pt x="187" y="37"/>
                  </a:lnTo>
                  <a:lnTo>
                    <a:pt x="205" y="26"/>
                  </a:lnTo>
                  <a:lnTo>
                    <a:pt x="224" y="17"/>
                  </a:lnTo>
                  <a:lnTo>
                    <a:pt x="242" y="9"/>
                  </a:lnTo>
                  <a:lnTo>
                    <a:pt x="261" y="0"/>
                  </a:lnTo>
                  <a:lnTo>
                    <a:pt x="265" y="2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08440" y="2457360"/>
              <a:ext cx="495360" cy="376200"/>
            </a:xfrm>
            <a:custGeom>
              <a:avLst/>
              <a:gdLst/>
              <a:ahLst/>
              <a:rect l="l" t="t" r="r" b="b"/>
              <a:pathLst>
                <a:path w="312" h="237">
                  <a:moveTo>
                    <a:pt x="312" y="175"/>
                  </a:moveTo>
                  <a:lnTo>
                    <a:pt x="300" y="182"/>
                  </a:lnTo>
                  <a:lnTo>
                    <a:pt x="287" y="194"/>
                  </a:lnTo>
                  <a:lnTo>
                    <a:pt x="275" y="208"/>
                  </a:lnTo>
                  <a:lnTo>
                    <a:pt x="261" y="223"/>
                  </a:lnTo>
                  <a:lnTo>
                    <a:pt x="249" y="234"/>
                  </a:lnTo>
                  <a:lnTo>
                    <a:pt x="235" y="237"/>
                  </a:lnTo>
                  <a:lnTo>
                    <a:pt x="221" y="229"/>
                  </a:lnTo>
                  <a:lnTo>
                    <a:pt x="207" y="208"/>
                  </a:lnTo>
                  <a:lnTo>
                    <a:pt x="195" y="191"/>
                  </a:lnTo>
                  <a:lnTo>
                    <a:pt x="184" y="172"/>
                  </a:lnTo>
                  <a:lnTo>
                    <a:pt x="172" y="152"/>
                  </a:lnTo>
                  <a:lnTo>
                    <a:pt x="158" y="132"/>
                  </a:lnTo>
                  <a:lnTo>
                    <a:pt x="144" y="114"/>
                  </a:lnTo>
                  <a:lnTo>
                    <a:pt x="128" y="95"/>
                  </a:lnTo>
                  <a:lnTo>
                    <a:pt x="111" y="81"/>
                  </a:lnTo>
                  <a:lnTo>
                    <a:pt x="93" y="71"/>
                  </a:lnTo>
                  <a:lnTo>
                    <a:pt x="0" y="154"/>
                  </a:lnTo>
                  <a:lnTo>
                    <a:pt x="0" y="135"/>
                  </a:lnTo>
                  <a:lnTo>
                    <a:pt x="5" y="117"/>
                  </a:lnTo>
                  <a:lnTo>
                    <a:pt x="13" y="97"/>
                  </a:lnTo>
                  <a:lnTo>
                    <a:pt x="27" y="77"/>
                  </a:lnTo>
                  <a:lnTo>
                    <a:pt x="40" y="58"/>
                  </a:lnTo>
                  <a:lnTo>
                    <a:pt x="57" y="41"/>
                  </a:lnTo>
                  <a:lnTo>
                    <a:pt x="76" y="24"/>
                  </a:lnTo>
                  <a:lnTo>
                    <a:pt x="93" y="12"/>
                  </a:lnTo>
                  <a:lnTo>
                    <a:pt x="135" y="0"/>
                  </a:lnTo>
                  <a:lnTo>
                    <a:pt x="167" y="3"/>
                  </a:lnTo>
                  <a:lnTo>
                    <a:pt x="193" y="18"/>
                  </a:lnTo>
                  <a:lnTo>
                    <a:pt x="215" y="41"/>
                  </a:lnTo>
                  <a:lnTo>
                    <a:pt x="235" y="71"/>
                  </a:lnTo>
                  <a:lnTo>
                    <a:pt x="255" y="100"/>
                  </a:lnTo>
                  <a:lnTo>
                    <a:pt x="276" y="126"/>
                  </a:lnTo>
                  <a:lnTo>
                    <a:pt x="303" y="145"/>
                  </a:lnTo>
                  <a:lnTo>
                    <a:pt x="312" y="17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48400" y="2598840"/>
              <a:ext cx="330120" cy="276120"/>
            </a:xfrm>
            <a:custGeom>
              <a:avLst/>
              <a:gdLst/>
              <a:ahLst/>
              <a:rect l="l" t="t" r="r" b="b"/>
              <a:pathLst>
                <a:path w="208" h="174">
                  <a:moveTo>
                    <a:pt x="205" y="69"/>
                  </a:moveTo>
                  <a:lnTo>
                    <a:pt x="208" y="88"/>
                  </a:lnTo>
                  <a:lnTo>
                    <a:pt x="206" y="105"/>
                  </a:lnTo>
                  <a:lnTo>
                    <a:pt x="202" y="120"/>
                  </a:lnTo>
                  <a:lnTo>
                    <a:pt x="196" y="136"/>
                  </a:lnTo>
                  <a:lnTo>
                    <a:pt x="186" y="148"/>
                  </a:lnTo>
                  <a:lnTo>
                    <a:pt x="176" y="159"/>
                  </a:lnTo>
                  <a:lnTo>
                    <a:pt x="165" y="168"/>
                  </a:lnTo>
                  <a:lnTo>
                    <a:pt x="154" y="174"/>
                  </a:lnTo>
                  <a:lnTo>
                    <a:pt x="146" y="174"/>
                  </a:lnTo>
                  <a:lnTo>
                    <a:pt x="149" y="133"/>
                  </a:lnTo>
                  <a:lnTo>
                    <a:pt x="100" y="160"/>
                  </a:lnTo>
                  <a:lnTo>
                    <a:pt x="98" y="140"/>
                  </a:lnTo>
                  <a:lnTo>
                    <a:pt x="105" y="116"/>
                  </a:lnTo>
                  <a:lnTo>
                    <a:pt x="117" y="97"/>
                  </a:lnTo>
                  <a:lnTo>
                    <a:pt x="132" y="86"/>
                  </a:lnTo>
                  <a:lnTo>
                    <a:pt x="146" y="86"/>
                  </a:lnTo>
                  <a:lnTo>
                    <a:pt x="146" y="76"/>
                  </a:lnTo>
                  <a:lnTo>
                    <a:pt x="145" y="66"/>
                  </a:lnTo>
                  <a:lnTo>
                    <a:pt x="139" y="59"/>
                  </a:lnTo>
                  <a:lnTo>
                    <a:pt x="128" y="56"/>
                  </a:lnTo>
                  <a:lnTo>
                    <a:pt x="7" y="142"/>
                  </a:lnTo>
                  <a:lnTo>
                    <a:pt x="0" y="117"/>
                  </a:lnTo>
                  <a:lnTo>
                    <a:pt x="6" y="94"/>
                  </a:lnTo>
                  <a:lnTo>
                    <a:pt x="17" y="71"/>
                  </a:lnTo>
                  <a:lnTo>
                    <a:pt x="26" y="51"/>
                  </a:lnTo>
                  <a:lnTo>
                    <a:pt x="40" y="42"/>
                  </a:lnTo>
                  <a:lnTo>
                    <a:pt x="54" y="34"/>
                  </a:lnTo>
                  <a:lnTo>
                    <a:pt x="66" y="25"/>
                  </a:lnTo>
                  <a:lnTo>
                    <a:pt x="80" y="17"/>
                  </a:lnTo>
                  <a:lnTo>
                    <a:pt x="94" y="9"/>
                  </a:lnTo>
                  <a:lnTo>
                    <a:pt x="108" y="5"/>
                  </a:lnTo>
                  <a:lnTo>
                    <a:pt x="122" y="2"/>
                  </a:lnTo>
                  <a:lnTo>
                    <a:pt x="137" y="0"/>
                  </a:lnTo>
                  <a:lnTo>
                    <a:pt x="151" y="3"/>
                  </a:lnTo>
                  <a:lnTo>
                    <a:pt x="163" y="9"/>
                  </a:lnTo>
                  <a:lnTo>
                    <a:pt x="174" y="17"/>
                  </a:lnTo>
                  <a:lnTo>
                    <a:pt x="183" y="26"/>
                  </a:lnTo>
                  <a:lnTo>
                    <a:pt x="189" y="37"/>
                  </a:lnTo>
                  <a:lnTo>
                    <a:pt x="196" y="48"/>
                  </a:lnTo>
                  <a:lnTo>
                    <a:pt x="200" y="59"/>
                  </a:lnTo>
                  <a:lnTo>
                    <a:pt x="205" y="6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89480" y="2679840"/>
              <a:ext cx="459000" cy="158760"/>
            </a:xfrm>
            <a:custGeom>
              <a:avLst/>
              <a:gdLst/>
              <a:ahLst/>
              <a:rect l="l" t="t" r="r" b="b"/>
              <a:pathLst>
                <a:path w="289" h="100">
                  <a:moveTo>
                    <a:pt x="289" y="18"/>
                  </a:moveTo>
                  <a:lnTo>
                    <a:pt x="270" y="23"/>
                  </a:lnTo>
                  <a:lnTo>
                    <a:pt x="253" y="29"/>
                  </a:lnTo>
                  <a:lnTo>
                    <a:pt x="235" y="35"/>
                  </a:lnTo>
                  <a:lnTo>
                    <a:pt x="216" y="42"/>
                  </a:lnTo>
                  <a:lnTo>
                    <a:pt x="198" y="48"/>
                  </a:lnTo>
                  <a:lnTo>
                    <a:pt x="179" y="54"/>
                  </a:lnTo>
                  <a:lnTo>
                    <a:pt x="161" y="62"/>
                  </a:lnTo>
                  <a:lnTo>
                    <a:pt x="142" y="68"/>
                  </a:lnTo>
                  <a:lnTo>
                    <a:pt x="125" y="74"/>
                  </a:lnTo>
                  <a:lnTo>
                    <a:pt x="107" y="79"/>
                  </a:lnTo>
                  <a:lnTo>
                    <a:pt x="88" y="85"/>
                  </a:lnTo>
                  <a:lnTo>
                    <a:pt x="70" y="89"/>
                  </a:lnTo>
                  <a:lnTo>
                    <a:pt x="53" y="93"/>
                  </a:lnTo>
                  <a:lnTo>
                    <a:pt x="34" y="97"/>
                  </a:lnTo>
                  <a:lnTo>
                    <a:pt x="17" y="99"/>
                  </a:lnTo>
                  <a:lnTo>
                    <a:pt x="0" y="100"/>
                  </a:lnTo>
                  <a:lnTo>
                    <a:pt x="0" y="86"/>
                  </a:lnTo>
                  <a:lnTo>
                    <a:pt x="20" y="80"/>
                  </a:lnTo>
                  <a:lnTo>
                    <a:pt x="39" y="72"/>
                  </a:lnTo>
                  <a:lnTo>
                    <a:pt x="57" y="66"/>
                  </a:lnTo>
                  <a:lnTo>
                    <a:pt x="76" y="60"/>
                  </a:lnTo>
                  <a:lnTo>
                    <a:pt x="93" y="54"/>
                  </a:lnTo>
                  <a:lnTo>
                    <a:pt x="111" y="48"/>
                  </a:lnTo>
                  <a:lnTo>
                    <a:pt x="128" y="42"/>
                  </a:lnTo>
                  <a:lnTo>
                    <a:pt x="147" y="35"/>
                  </a:lnTo>
                  <a:lnTo>
                    <a:pt x="164" y="31"/>
                  </a:lnTo>
                  <a:lnTo>
                    <a:pt x="181" y="26"/>
                  </a:lnTo>
                  <a:lnTo>
                    <a:pt x="199" y="20"/>
                  </a:lnTo>
                  <a:lnTo>
                    <a:pt x="216" y="15"/>
                  </a:lnTo>
                  <a:lnTo>
                    <a:pt x="233" y="12"/>
                  </a:lnTo>
                  <a:lnTo>
                    <a:pt x="252" y="8"/>
                  </a:lnTo>
                  <a:lnTo>
                    <a:pt x="270" y="3"/>
                  </a:lnTo>
                  <a:lnTo>
                    <a:pt x="289" y="0"/>
                  </a:lnTo>
                  <a:lnTo>
                    <a:pt x="289" y="1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1520" y="2773440"/>
              <a:ext cx="104760" cy="12384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65" y="0"/>
                  </a:moveTo>
                  <a:lnTo>
                    <a:pt x="66" y="15"/>
                  </a:lnTo>
                  <a:lnTo>
                    <a:pt x="65" y="27"/>
                  </a:lnTo>
                  <a:lnTo>
                    <a:pt x="62" y="40"/>
                  </a:lnTo>
                  <a:lnTo>
                    <a:pt x="55" y="49"/>
                  </a:lnTo>
                  <a:lnTo>
                    <a:pt x="49" y="58"/>
                  </a:lnTo>
                  <a:lnTo>
                    <a:pt x="40" y="66"/>
                  </a:lnTo>
                  <a:lnTo>
                    <a:pt x="32" y="72"/>
                  </a:lnTo>
                  <a:lnTo>
                    <a:pt x="23" y="78"/>
                  </a:lnTo>
                  <a:lnTo>
                    <a:pt x="0" y="78"/>
                  </a:lnTo>
                  <a:lnTo>
                    <a:pt x="8" y="67"/>
                  </a:lnTo>
                  <a:lnTo>
                    <a:pt x="15" y="57"/>
                  </a:lnTo>
                  <a:lnTo>
                    <a:pt x="22" y="44"/>
                  </a:lnTo>
                  <a:lnTo>
                    <a:pt x="28" y="34"/>
                  </a:lnTo>
                  <a:lnTo>
                    <a:pt x="34" y="23"/>
                  </a:lnTo>
                  <a:lnTo>
                    <a:pt x="42" y="13"/>
                  </a:lnTo>
                  <a:lnTo>
                    <a:pt x="52" y="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0920" y="2816280"/>
              <a:ext cx="100080" cy="10296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59" y="42"/>
                  </a:moveTo>
                  <a:lnTo>
                    <a:pt x="52" y="53"/>
                  </a:lnTo>
                  <a:lnTo>
                    <a:pt x="45" y="62"/>
                  </a:lnTo>
                  <a:lnTo>
                    <a:pt x="35" y="65"/>
                  </a:lnTo>
                  <a:lnTo>
                    <a:pt x="20" y="65"/>
                  </a:lnTo>
                  <a:lnTo>
                    <a:pt x="12" y="64"/>
                  </a:lnTo>
                  <a:lnTo>
                    <a:pt x="6" y="56"/>
                  </a:lnTo>
                  <a:lnTo>
                    <a:pt x="2" y="44"/>
                  </a:lnTo>
                  <a:lnTo>
                    <a:pt x="0" y="33"/>
                  </a:lnTo>
                  <a:lnTo>
                    <a:pt x="6" y="20"/>
                  </a:lnTo>
                  <a:lnTo>
                    <a:pt x="15" y="10"/>
                  </a:lnTo>
                  <a:lnTo>
                    <a:pt x="28" y="3"/>
                  </a:lnTo>
                  <a:lnTo>
                    <a:pt x="42" y="0"/>
                  </a:lnTo>
                  <a:lnTo>
                    <a:pt x="52" y="3"/>
                  </a:lnTo>
                  <a:lnTo>
                    <a:pt x="60" y="10"/>
                  </a:lnTo>
                  <a:lnTo>
                    <a:pt x="63" y="23"/>
                  </a:lnTo>
                  <a:lnTo>
                    <a:pt x="59" y="4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2852640"/>
              <a:ext cx="560520" cy="322200"/>
            </a:xfrm>
            <a:custGeom>
              <a:avLst/>
              <a:gdLst/>
              <a:ahLst/>
              <a:rect l="l" t="t" r="r" b="b"/>
              <a:pathLst>
                <a:path w="353" h="203">
                  <a:moveTo>
                    <a:pt x="353" y="47"/>
                  </a:moveTo>
                  <a:lnTo>
                    <a:pt x="0" y="203"/>
                  </a:lnTo>
                  <a:lnTo>
                    <a:pt x="21" y="190"/>
                  </a:lnTo>
                  <a:lnTo>
                    <a:pt x="44" y="176"/>
                  </a:lnTo>
                  <a:lnTo>
                    <a:pt x="64" y="164"/>
                  </a:lnTo>
                  <a:lnTo>
                    <a:pt x="86" y="150"/>
                  </a:lnTo>
                  <a:lnTo>
                    <a:pt x="106" y="138"/>
                  </a:lnTo>
                  <a:lnTo>
                    <a:pt x="126" y="125"/>
                  </a:lnTo>
                  <a:lnTo>
                    <a:pt x="148" y="112"/>
                  </a:lnTo>
                  <a:lnTo>
                    <a:pt x="168" y="99"/>
                  </a:lnTo>
                  <a:lnTo>
                    <a:pt x="186" y="87"/>
                  </a:lnTo>
                  <a:lnTo>
                    <a:pt x="206" y="74"/>
                  </a:lnTo>
                  <a:lnTo>
                    <a:pt x="226" y="61"/>
                  </a:lnTo>
                  <a:lnTo>
                    <a:pt x="246" y="48"/>
                  </a:lnTo>
                  <a:lnTo>
                    <a:pt x="266" y="36"/>
                  </a:lnTo>
                  <a:lnTo>
                    <a:pt x="288" y="25"/>
                  </a:lnTo>
                  <a:lnTo>
                    <a:pt x="308" y="13"/>
                  </a:lnTo>
                  <a:lnTo>
                    <a:pt x="329" y="0"/>
                  </a:lnTo>
                  <a:lnTo>
                    <a:pt x="337" y="8"/>
                  </a:lnTo>
                  <a:lnTo>
                    <a:pt x="343" y="22"/>
                  </a:lnTo>
                  <a:lnTo>
                    <a:pt x="346" y="36"/>
                  </a:lnTo>
                  <a:lnTo>
                    <a:pt x="353" y="4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54560" y="2882880"/>
              <a:ext cx="360360" cy="447840"/>
            </a:xfrm>
            <a:custGeom>
              <a:avLst/>
              <a:gdLst/>
              <a:ahLst/>
              <a:rect l="l" t="t" r="r" b="b"/>
              <a:pathLst>
                <a:path w="227" h="282">
                  <a:moveTo>
                    <a:pt x="207" y="137"/>
                  </a:moveTo>
                  <a:lnTo>
                    <a:pt x="219" y="159"/>
                  </a:lnTo>
                  <a:lnTo>
                    <a:pt x="227" y="182"/>
                  </a:lnTo>
                  <a:lnTo>
                    <a:pt x="227" y="207"/>
                  </a:lnTo>
                  <a:lnTo>
                    <a:pt x="219" y="233"/>
                  </a:lnTo>
                  <a:lnTo>
                    <a:pt x="207" y="259"/>
                  </a:lnTo>
                  <a:lnTo>
                    <a:pt x="188" y="276"/>
                  </a:lnTo>
                  <a:lnTo>
                    <a:pt x="165" y="282"/>
                  </a:lnTo>
                  <a:lnTo>
                    <a:pt x="137" y="282"/>
                  </a:lnTo>
                  <a:lnTo>
                    <a:pt x="108" y="278"/>
                  </a:lnTo>
                  <a:lnTo>
                    <a:pt x="79" y="270"/>
                  </a:lnTo>
                  <a:lnTo>
                    <a:pt x="53" y="262"/>
                  </a:lnTo>
                  <a:lnTo>
                    <a:pt x="28" y="256"/>
                  </a:lnTo>
                  <a:lnTo>
                    <a:pt x="0" y="219"/>
                  </a:lnTo>
                  <a:lnTo>
                    <a:pt x="20" y="217"/>
                  </a:lnTo>
                  <a:lnTo>
                    <a:pt x="46" y="224"/>
                  </a:lnTo>
                  <a:lnTo>
                    <a:pt x="76" y="233"/>
                  </a:lnTo>
                  <a:lnTo>
                    <a:pt x="107" y="242"/>
                  </a:lnTo>
                  <a:lnTo>
                    <a:pt x="136" y="248"/>
                  </a:lnTo>
                  <a:lnTo>
                    <a:pt x="165" y="247"/>
                  </a:lnTo>
                  <a:lnTo>
                    <a:pt x="191" y="234"/>
                  </a:lnTo>
                  <a:lnTo>
                    <a:pt x="211" y="210"/>
                  </a:lnTo>
                  <a:lnTo>
                    <a:pt x="205" y="177"/>
                  </a:lnTo>
                  <a:lnTo>
                    <a:pt x="188" y="151"/>
                  </a:lnTo>
                  <a:lnTo>
                    <a:pt x="167" y="130"/>
                  </a:lnTo>
                  <a:lnTo>
                    <a:pt x="142" y="109"/>
                  </a:lnTo>
                  <a:lnTo>
                    <a:pt x="119" y="89"/>
                  </a:lnTo>
                  <a:lnTo>
                    <a:pt x="100" y="66"/>
                  </a:lnTo>
                  <a:lnTo>
                    <a:pt x="91" y="37"/>
                  </a:lnTo>
                  <a:lnTo>
                    <a:pt x="96" y="0"/>
                  </a:lnTo>
                  <a:lnTo>
                    <a:pt x="104" y="20"/>
                  </a:lnTo>
                  <a:lnTo>
                    <a:pt x="114" y="40"/>
                  </a:lnTo>
                  <a:lnTo>
                    <a:pt x="125" y="59"/>
                  </a:lnTo>
                  <a:lnTo>
                    <a:pt x="139" y="77"/>
                  </a:lnTo>
                  <a:lnTo>
                    <a:pt x="154" y="94"/>
                  </a:lnTo>
                  <a:lnTo>
                    <a:pt x="171" y="109"/>
                  </a:lnTo>
                  <a:lnTo>
                    <a:pt x="188" y="125"/>
                  </a:lnTo>
                  <a:lnTo>
                    <a:pt x="207" y="1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99240" y="2882880"/>
              <a:ext cx="289080" cy="131760"/>
            </a:xfrm>
            <a:custGeom>
              <a:avLst/>
              <a:gdLst/>
              <a:ahLst/>
              <a:rect l="l" t="t" r="r" b="b"/>
              <a:pathLst>
                <a:path w="182" h="83">
                  <a:moveTo>
                    <a:pt x="110" y="82"/>
                  </a:moveTo>
                  <a:lnTo>
                    <a:pt x="98" y="83"/>
                  </a:lnTo>
                  <a:lnTo>
                    <a:pt x="82" y="83"/>
                  </a:lnTo>
                  <a:lnTo>
                    <a:pt x="67" y="83"/>
                  </a:lnTo>
                  <a:lnTo>
                    <a:pt x="51" y="83"/>
                  </a:lnTo>
                  <a:lnTo>
                    <a:pt x="37" y="80"/>
                  </a:lnTo>
                  <a:lnTo>
                    <a:pt x="22" y="77"/>
                  </a:lnTo>
                  <a:lnTo>
                    <a:pt x="10" y="71"/>
                  </a:lnTo>
                  <a:lnTo>
                    <a:pt x="0" y="63"/>
                  </a:lnTo>
                  <a:lnTo>
                    <a:pt x="0" y="40"/>
                  </a:lnTo>
                  <a:lnTo>
                    <a:pt x="22" y="40"/>
                  </a:lnTo>
                  <a:lnTo>
                    <a:pt x="45" y="40"/>
                  </a:lnTo>
                  <a:lnTo>
                    <a:pt x="68" y="40"/>
                  </a:lnTo>
                  <a:lnTo>
                    <a:pt x="93" y="39"/>
                  </a:lnTo>
                  <a:lnTo>
                    <a:pt x="116" y="35"/>
                  </a:lnTo>
                  <a:lnTo>
                    <a:pt x="139" y="29"/>
                  </a:lnTo>
                  <a:lnTo>
                    <a:pt x="161" y="17"/>
                  </a:lnTo>
                  <a:lnTo>
                    <a:pt x="179" y="0"/>
                  </a:lnTo>
                  <a:lnTo>
                    <a:pt x="182" y="15"/>
                  </a:lnTo>
                  <a:lnTo>
                    <a:pt x="181" y="31"/>
                  </a:lnTo>
                  <a:lnTo>
                    <a:pt x="173" y="43"/>
                  </a:lnTo>
                  <a:lnTo>
                    <a:pt x="162" y="54"/>
                  </a:lnTo>
                  <a:lnTo>
                    <a:pt x="148" y="63"/>
                  </a:lnTo>
                  <a:lnTo>
                    <a:pt x="135" y="71"/>
                  </a:lnTo>
                  <a:lnTo>
                    <a:pt x="122" y="77"/>
                  </a:lnTo>
                  <a:lnTo>
                    <a:pt x="110" y="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60800" y="2922480"/>
              <a:ext cx="106560" cy="133560"/>
            </a:xfrm>
            <a:custGeom>
              <a:avLst/>
              <a:gdLst/>
              <a:ahLst/>
              <a:rect l="l" t="t" r="r" b="b"/>
              <a:pathLst>
                <a:path w="67" h="84">
                  <a:moveTo>
                    <a:pt x="62" y="47"/>
                  </a:moveTo>
                  <a:lnTo>
                    <a:pt x="54" y="57"/>
                  </a:lnTo>
                  <a:lnTo>
                    <a:pt x="46" y="68"/>
                  </a:lnTo>
                  <a:lnTo>
                    <a:pt x="37" y="78"/>
                  </a:lnTo>
                  <a:lnTo>
                    <a:pt x="25" y="84"/>
                  </a:lnTo>
                  <a:lnTo>
                    <a:pt x="3" y="74"/>
                  </a:lnTo>
                  <a:lnTo>
                    <a:pt x="0" y="55"/>
                  </a:lnTo>
                  <a:lnTo>
                    <a:pt x="5" y="32"/>
                  </a:lnTo>
                  <a:lnTo>
                    <a:pt x="16" y="12"/>
                  </a:lnTo>
                  <a:lnTo>
                    <a:pt x="26" y="3"/>
                  </a:lnTo>
                  <a:lnTo>
                    <a:pt x="37" y="0"/>
                  </a:lnTo>
                  <a:lnTo>
                    <a:pt x="48" y="1"/>
                  </a:lnTo>
                  <a:lnTo>
                    <a:pt x="56" y="7"/>
                  </a:lnTo>
                  <a:lnTo>
                    <a:pt x="63" y="15"/>
                  </a:lnTo>
                  <a:lnTo>
                    <a:pt x="67" y="26"/>
                  </a:lnTo>
                  <a:lnTo>
                    <a:pt x="67" y="37"/>
                  </a:lnTo>
                  <a:lnTo>
                    <a:pt x="62" y="4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10240" y="2936880"/>
              <a:ext cx="252360" cy="11412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19" y="3"/>
                  </a:moveTo>
                  <a:lnTo>
                    <a:pt x="117" y="12"/>
                  </a:lnTo>
                  <a:lnTo>
                    <a:pt x="109" y="18"/>
                  </a:lnTo>
                  <a:lnTo>
                    <a:pt x="98" y="23"/>
                  </a:lnTo>
                  <a:lnTo>
                    <a:pt x="85" y="25"/>
                  </a:lnTo>
                  <a:lnTo>
                    <a:pt x="71" y="28"/>
                  </a:lnTo>
                  <a:lnTo>
                    <a:pt x="58" y="31"/>
                  </a:lnTo>
                  <a:lnTo>
                    <a:pt x="48" y="34"/>
                  </a:lnTo>
                  <a:lnTo>
                    <a:pt x="41" y="42"/>
                  </a:lnTo>
                  <a:lnTo>
                    <a:pt x="54" y="49"/>
                  </a:lnTo>
                  <a:lnTo>
                    <a:pt x="68" y="51"/>
                  </a:lnTo>
                  <a:lnTo>
                    <a:pt x="83" y="51"/>
                  </a:lnTo>
                  <a:lnTo>
                    <a:pt x="98" y="46"/>
                  </a:lnTo>
                  <a:lnTo>
                    <a:pt x="114" y="43"/>
                  </a:lnTo>
                  <a:lnTo>
                    <a:pt x="129" y="38"/>
                  </a:lnTo>
                  <a:lnTo>
                    <a:pt x="145" y="37"/>
                  </a:lnTo>
                  <a:lnTo>
                    <a:pt x="159" y="38"/>
                  </a:lnTo>
                  <a:lnTo>
                    <a:pt x="159" y="57"/>
                  </a:lnTo>
                  <a:lnTo>
                    <a:pt x="61" y="72"/>
                  </a:lnTo>
                  <a:lnTo>
                    <a:pt x="32" y="71"/>
                  </a:lnTo>
                  <a:lnTo>
                    <a:pt x="0" y="57"/>
                  </a:lnTo>
                  <a:lnTo>
                    <a:pt x="12" y="42"/>
                  </a:lnTo>
                  <a:lnTo>
                    <a:pt x="26" y="29"/>
                  </a:lnTo>
                  <a:lnTo>
                    <a:pt x="38" y="18"/>
                  </a:lnTo>
                  <a:lnTo>
                    <a:pt x="52" y="9"/>
                  </a:lnTo>
                  <a:lnTo>
                    <a:pt x="66" y="3"/>
                  </a:lnTo>
                  <a:lnTo>
                    <a:pt x="82" y="0"/>
                  </a:lnTo>
                  <a:lnTo>
                    <a:pt x="98" y="0"/>
                  </a:lnTo>
                  <a:lnTo>
                    <a:pt x="119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84320" y="3005280"/>
              <a:ext cx="3859560" cy="2039760"/>
            </a:xfrm>
            <a:custGeom>
              <a:avLst/>
              <a:gdLst/>
              <a:ahLst/>
              <a:rect l="l" t="t" r="r" b="b"/>
              <a:pathLst>
                <a:path w="2431" h="1285">
                  <a:moveTo>
                    <a:pt x="2001" y="363"/>
                  </a:moveTo>
                  <a:lnTo>
                    <a:pt x="1986" y="367"/>
                  </a:lnTo>
                  <a:lnTo>
                    <a:pt x="1970" y="372"/>
                  </a:lnTo>
                  <a:lnTo>
                    <a:pt x="1956" y="373"/>
                  </a:lnTo>
                  <a:lnTo>
                    <a:pt x="1944" y="375"/>
                  </a:lnTo>
                  <a:lnTo>
                    <a:pt x="1933" y="376"/>
                  </a:lnTo>
                  <a:lnTo>
                    <a:pt x="1924" y="375"/>
                  </a:lnTo>
                  <a:lnTo>
                    <a:pt x="1915" y="372"/>
                  </a:lnTo>
                  <a:lnTo>
                    <a:pt x="1908" y="369"/>
                  </a:lnTo>
                  <a:lnTo>
                    <a:pt x="1873" y="376"/>
                  </a:lnTo>
                  <a:lnTo>
                    <a:pt x="1837" y="386"/>
                  </a:lnTo>
                  <a:lnTo>
                    <a:pt x="1802" y="398"/>
                  </a:lnTo>
                  <a:lnTo>
                    <a:pt x="1768" y="410"/>
                  </a:lnTo>
                  <a:lnTo>
                    <a:pt x="1734" y="424"/>
                  </a:lnTo>
                  <a:lnTo>
                    <a:pt x="1700" y="440"/>
                  </a:lnTo>
                  <a:lnTo>
                    <a:pt x="1668" y="455"/>
                  </a:lnTo>
                  <a:lnTo>
                    <a:pt x="1634" y="470"/>
                  </a:lnTo>
                  <a:lnTo>
                    <a:pt x="1602" y="486"/>
                  </a:lnTo>
                  <a:lnTo>
                    <a:pt x="1569" y="501"/>
                  </a:lnTo>
                  <a:lnTo>
                    <a:pt x="1537" y="517"/>
                  </a:lnTo>
                  <a:lnTo>
                    <a:pt x="1506" y="529"/>
                  </a:lnTo>
                  <a:lnTo>
                    <a:pt x="1474" y="541"/>
                  </a:lnTo>
                  <a:lnTo>
                    <a:pt x="1441" y="552"/>
                  </a:lnTo>
                  <a:lnTo>
                    <a:pt x="1410" y="561"/>
                  </a:lnTo>
                  <a:lnTo>
                    <a:pt x="1378" y="568"/>
                  </a:lnTo>
                  <a:lnTo>
                    <a:pt x="1378" y="549"/>
                  </a:lnTo>
                  <a:lnTo>
                    <a:pt x="1739" y="390"/>
                  </a:lnTo>
                  <a:lnTo>
                    <a:pt x="1762" y="372"/>
                  </a:lnTo>
                  <a:lnTo>
                    <a:pt x="1790" y="359"/>
                  </a:lnTo>
                  <a:lnTo>
                    <a:pt x="1819" y="350"/>
                  </a:lnTo>
                  <a:lnTo>
                    <a:pt x="1848" y="342"/>
                  </a:lnTo>
                  <a:lnTo>
                    <a:pt x="1876" y="333"/>
                  </a:lnTo>
                  <a:lnTo>
                    <a:pt x="1901" y="321"/>
                  </a:lnTo>
                  <a:lnTo>
                    <a:pt x="1922" y="302"/>
                  </a:lnTo>
                  <a:lnTo>
                    <a:pt x="1936" y="275"/>
                  </a:lnTo>
                  <a:lnTo>
                    <a:pt x="1921" y="282"/>
                  </a:lnTo>
                  <a:lnTo>
                    <a:pt x="1905" y="288"/>
                  </a:lnTo>
                  <a:lnTo>
                    <a:pt x="1891" y="295"/>
                  </a:lnTo>
                  <a:lnTo>
                    <a:pt x="1879" y="298"/>
                  </a:lnTo>
                  <a:lnTo>
                    <a:pt x="1865" y="298"/>
                  </a:lnTo>
                  <a:lnTo>
                    <a:pt x="1853" y="295"/>
                  </a:lnTo>
                  <a:lnTo>
                    <a:pt x="1841" y="288"/>
                  </a:lnTo>
                  <a:lnTo>
                    <a:pt x="1827" y="279"/>
                  </a:lnTo>
                  <a:lnTo>
                    <a:pt x="1819" y="265"/>
                  </a:lnTo>
                  <a:lnTo>
                    <a:pt x="1819" y="253"/>
                  </a:lnTo>
                  <a:lnTo>
                    <a:pt x="1822" y="239"/>
                  </a:lnTo>
                  <a:lnTo>
                    <a:pt x="1830" y="227"/>
                  </a:lnTo>
                  <a:lnTo>
                    <a:pt x="1837" y="216"/>
                  </a:lnTo>
                  <a:lnTo>
                    <a:pt x="1847" y="205"/>
                  </a:lnTo>
                  <a:lnTo>
                    <a:pt x="1854" y="196"/>
                  </a:lnTo>
                  <a:lnTo>
                    <a:pt x="1859" y="188"/>
                  </a:lnTo>
                  <a:lnTo>
                    <a:pt x="1804" y="213"/>
                  </a:lnTo>
                  <a:lnTo>
                    <a:pt x="1748" y="239"/>
                  </a:lnTo>
                  <a:lnTo>
                    <a:pt x="1693" y="265"/>
                  </a:lnTo>
                  <a:lnTo>
                    <a:pt x="1637" y="290"/>
                  </a:lnTo>
                  <a:lnTo>
                    <a:pt x="1582" y="316"/>
                  </a:lnTo>
                  <a:lnTo>
                    <a:pt x="1524" y="341"/>
                  </a:lnTo>
                  <a:lnTo>
                    <a:pt x="1469" y="367"/>
                  </a:lnTo>
                  <a:lnTo>
                    <a:pt x="1413" y="393"/>
                  </a:lnTo>
                  <a:lnTo>
                    <a:pt x="1356" y="418"/>
                  </a:lnTo>
                  <a:lnTo>
                    <a:pt x="1301" y="444"/>
                  </a:lnTo>
                  <a:lnTo>
                    <a:pt x="1244" y="469"/>
                  </a:lnTo>
                  <a:lnTo>
                    <a:pt x="1187" y="494"/>
                  </a:lnTo>
                  <a:lnTo>
                    <a:pt x="1131" y="518"/>
                  </a:lnTo>
                  <a:lnTo>
                    <a:pt x="1074" y="543"/>
                  </a:lnTo>
                  <a:lnTo>
                    <a:pt x="1017" y="568"/>
                  </a:lnTo>
                  <a:lnTo>
                    <a:pt x="960" y="591"/>
                  </a:lnTo>
                  <a:lnTo>
                    <a:pt x="903" y="615"/>
                  </a:lnTo>
                  <a:lnTo>
                    <a:pt x="846" y="639"/>
                  </a:lnTo>
                  <a:lnTo>
                    <a:pt x="789" y="660"/>
                  </a:lnTo>
                  <a:lnTo>
                    <a:pt x="730" y="683"/>
                  </a:lnTo>
                  <a:lnTo>
                    <a:pt x="673" y="705"/>
                  </a:lnTo>
                  <a:lnTo>
                    <a:pt x="616" y="726"/>
                  </a:lnTo>
                  <a:lnTo>
                    <a:pt x="558" y="747"/>
                  </a:lnTo>
                  <a:lnTo>
                    <a:pt x="501" y="768"/>
                  </a:lnTo>
                  <a:lnTo>
                    <a:pt x="442" y="787"/>
                  </a:lnTo>
                  <a:lnTo>
                    <a:pt x="385" y="807"/>
                  </a:lnTo>
                  <a:lnTo>
                    <a:pt x="326" y="825"/>
                  </a:lnTo>
                  <a:lnTo>
                    <a:pt x="268" y="842"/>
                  </a:lnTo>
                  <a:lnTo>
                    <a:pt x="209" y="859"/>
                  </a:lnTo>
                  <a:lnTo>
                    <a:pt x="151" y="876"/>
                  </a:lnTo>
                  <a:lnTo>
                    <a:pt x="92" y="892"/>
                  </a:lnTo>
                  <a:lnTo>
                    <a:pt x="33" y="905"/>
                  </a:lnTo>
                  <a:lnTo>
                    <a:pt x="41" y="936"/>
                  </a:lnTo>
                  <a:lnTo>
                    <a:pt x="38" y="962"/>
                  </a:lnTo>
                  <a:lnTo>
                    <a:pt x="29" y="986"/>
                  </a:lnTo>
                  <a:lnTo>
                    <a:pt x="17" y="1009"/>
                  </a:lnTo>
                  <a:lnTo>
                    <a:pt x="6" y="1030"/>
                  </a:lnTo>
                  <a:lnTo>
                    <a:pt x="0" y="1053"/>
                  </a:lnTo>
                  <a:lnTo>
                    <a:pt x="4" y="1077"/>
                  </a:lnTo>
                  <a:lnTo>
                    <a:pt x="20" y="1103"/>
                  </a:lnTo>
                  <a:lnTo>
                    <a:pt x="21" y="1134"/>
                  </a:lnTo>
                  <a:lnTo>
                    <a:pt x="29" y="1160"/>
                  </a:lnTo>
                  <a:lnTo>
                    <a:pt x="43" y="1181"/>
                  </a:lnTo>
                  <a:lnTo>
                    <a:pt x="60" y="1200"/>
                  </a:lnTo>
                  <a:lnTo>
                    <a:pt x="77" y="1220"/>
                  </a:lnTo>
                  <a:lnTo>
                    <a:pt x="94" y="1239"/>
                  </a:lnTo>
                  <a:lnTo>
                    <a:pt x="107" y="1260"/>
                  </a:lnTo>
                  <a:lnTo>
                    <a:pt x="115" y="1285"/>
                  </a:lnTo>
                  <a:lnTo>
                    <a:pt x="183" y="1243"/>
                  </a:lnTo>
                  <a:lnTo>
                    <a:pt x="252" y="1203"/>
                  </a:lnTo>
                  <a:lnTo>
                    <a:pt x="320" y="1163"/>
                  </a:lnTo>
                  <a:lnTo>
                    <a:pt x="391" y="1124"/>
                  </a:lnTo>
                  <a:lnTo>
                    <a:pt x="461" y="1086"/>
                  </a:lnTo>
                  <a:lnTo>
                    <a:pt x="530" y="1047"/>
                  </a:lnTo>
                  <a:lnTo>
                    <a:pt x="601" y="1010"/>
                  </a:lnTo>
                  <a:lnTo>
                    <a:pt x="672" y="975"/>
                  </a:lnTo>
                  <a:lnTo>
                    <a:pt x="743" y="938"/>
                  </a:lnTo>
                  <a:lnTo>
                    <a:pt x="815" y="904"/>
                  </a:lnTo>
                  <a:lnTo>
                    <a:pt x="886" y="868"/>
                  </a:lnTo>
                  <a:lnTo>
                    <a:pt x="959" y="834"/>
                  </a:lnTo>
                  <a:lnTo>
                    <a:pt x="1031" y="801"/>
                  </a:lnTo>
                  <a:lnTo>
                    <a:pt x="1104" y="767"/>
                  </a:lnTo>
                  <a:lnTo>
                    <a:pt x="1176" y="733"/>
                  </a:lnTo>
                  <a:lnTo>
                    <a:pt x="1250" y="700"/>
                  </a:lnTo>
                  <a:lnTo>
                    <a:pt x="1323" y="668"/>
                  </a:lnTo>
                  <a:lnTo>
                    <a:pt x="1397" y="635"/>
                  </a:lnTo>
                  <a:lnTo>
                    <a:pt x="1469" y="603"/>
                  </a:lnTo>
                  <a:lnTo>
                    <a:pt x="1543" y="571"/>
                  </a:lnTo>
                  <a:lnTo>
                    <a:pt x="1617" y="538"/>
                  </a:lnTo>
                  <a:lnTo>
                    <a:pt x="1691" y="506"/>
                  </a:lnTo>
                  <a:lnTo>
                    <a:pt x="1765" y="474"/>
                  </a:lnTo>
                  <a:lnTo>
                    <a:pt x="1839" y="441"/>
                  </a:lnTo>
                  <a:lnTo>
                    <a:pt x="1913" y="410"/>
                  </a:lnTo>
                  <a:lnTo>
                    <a:pt x="1987" y="378"/>
                  </a:lnTo>
                  <a:lnTo>
                    <a:pt x="2061" y="346"/>
                  </a:lnTo>
                  <a:lnTo>
                    <a:pt x="2135" y="312"/>
                  </a:lnTo>
                  <a:lnTo>
                    <a:pt x="2209" y="279"/>
                  </a:lnTo>
                  <a:lnTo>
                    <a:pt x="2283" y="247"/>
                  </a:lnTo>
                  <a:lnTo>
                    <a:pt x="2357" y="213"/>
                  </a:lnTo>
                  <a:lnTo>
                    <a:pt x="2431" y="179"/>
                  </a:lnTo>
                  <a:lnTo>
                    <a:pt x="2431" y="142"/>
                  </a:lnTo>
                  <a:lnTo>
                    <a:pt x="2405" y="144"/>
                  </a:lnTo>
                  <a:lnTo>
                    <a:pt x="2380" y="148"/>
                  </a:lnTo>
                  <a:lnTo>
                    <a:pt x="2359" y="156"/>
                  </a:lnTo>
                  <a:lnTo>
                    <a:pt x="2337" y="165"/>
                  </a:lnTo>
                  <a:lnTo>
                    <a:pt x="2315" y="174"/>
                  </a:lnTo>
                  <a:lnTo>
                    <a:pt x="2294" y="181"/>
                  </a:lnTo>
                  <a:lnTo>
                    <a:pt x="2272" y="182"/>
                  </a:lnTo>
                  <a:lnTo>
                    <a:pt x="2248" y="179"/>
                  </a:lnTo>
                  <a:lnTo>
                    <a:pt x="2263" y="164"/>
                  </a:lnTo>
                  <a:lnTo>
                    <a:pt x="2280" y="151"/>
                  </a:lnTo>
                  <a:lnTo>
                    <a:pt x="2300" y="142"/>
                  </a:lnTo>
                  <a:lnTo>
                    <a:pt x="2322" y="134"/>
                  </a:lnTo>
                  <a:lnTo>
                    <a:pt x="2343" y="128"/>
                  </a:lnTo>
                  <a:lnTo>
                    <a:pt x="2365" y="122"/>
                  </a:lnTo>
                  <a:lnTo>
                    <a:pt x="2386" y="116"/>
                  </a:lnTo>
                  <a:lnTo>
                    <a:pt x="2408" y="110"/>
                  </a:lnTo>
                  <a:lnTo>
                    <a:pt x="2390" y="19"/>
                  </a:lnTo>
                  <a:lnTo>
                    <a:pt x="2362" y="3"/>
                  </a:lnTo>
                  <a:lnTo>
                    <a:pt x="2337" y="0"/>
                  </a:lnTo>
                  <a:lnTo>
                    <a:pt x="2312" y="6"/>
                  </a:lnTo>
                  <a:lnTo>
                    <a:pt x="2289" y="17"/>
                  </a:lnTo>
                  <a:lnTo>
                    <a:pt x="2265" y="32"/>
                  </a:lnTo>
                  <a:lnTo>
                    <a:pt x="2240" y="49"/>
                  </a:lnTo>
                  <a:lnTo>
                    <a:pt x="2211" y="63"/>
                  </a:lnTo>
                  <a:lnTo>
                    <a:pt x="2178" y="74"/>
                  </a:lnTo>
                  <a:lnTo>
                    <a:pt x="2172" y="93"/>
                  </a:lnTo>
                  <a:lnTo>
                    <a:pt x="2161" y="103"/>
                  </a:lnTo>
                  <a:lnTo>
                    <a:pt x="2147" y="110"/>
                  </a:lnTo>
                  <a:lnTo>
                    <a:pt x="2132" y="111"/>
                  </a:lnTo>
                  <a:lnTo>
                    <a:pt x="2115" y="111"/>
                  </a:lnTo>
                  <a:lnTo>
                    <a:pt x="2098" y="111"/>
                  </a:lnTo>
                  <a:lnTo>
                    <a:pt x="2083" y="116"/>
                  </a:lnTo>
                  <a:lnTo>
                    <a:pt x="2069" y="123"/>
                  </a:lnTo>
                  <a:lnTo>
                    <a:pt x="2063" y="128"/>
                  </a:lnTo>
                  <a:lnTo>
                    <a:pt x="2052" y="130"/>
                  </a:lnTo>
                  <a:lnTo>
                    <a:pt x="2041" y="131"/>
                  </a:lnTo>
                  <a:lnTo>
                    <a:pt x="2035" y="134"/>
                  </a:lnTo>
                  <a:lnTo>
                    <a:pt x="2041" y="150"/>
                  </a:lnTo>
                  <a:lnTo>
                    <a:pt x="2049" y="162"/>
                  </a:lnTo>
                  <a:lnTo>
                    <a:pt x="2053" y="168"/>
                  </a:lnTo>
                  <a:lnTo>
                    <a:pt x="2056" y="171"/>
                  </a:lnTo>
                  <a:lnTo>
                    <a:pt x="2076" y="167"/>
                  </a:lnTo>
                  <a:lnTo>
                    <a:pt x="2093" y="164"/>
                  </a:lnTo>
                  <a:lnTo>
                    <a:pt x="2109" y="162"/>
                  </a:lnTo>
                  <a:lnTo>
                    <a:pt x="2123" y="162"/>
                  </a:lnTo>
                  <a:lnTo>
                    <a:pt x="2135" y="167"/>
                  </a:lnTo>
                  <a:lnTo>
                    <a:pt x="2146" y="173"/>
                  </a:lnTo>
                  <a:lnTo>
                    <a:pt x="2157" y="184"/>
                  </a:lnTo>
                  <a:lnTo>
                    <a:pt x="2167" y="197"/>
                  </a:lnTo>
                  <a:lnTo>
                    <a:pt x="2172" y="208"/>
                  </a:lnTo>
                  <a:lnTo>
                    <a:pt x="2174" y="219"/>
                  </a:lnTo>
                  <a:lnTo>
                    <a:pt x="2172" y="230"/>
                  </a:lnTo>
                  <a:lnTo>
                    <a:pt x="2169" y="241"/>
                  </a:lnTo>
                  <a:lnTo>
                    <a:pt x="2163" y="250"/>
                  </a:lnTo>
                  <a:lnTo>
                    <a:pt x="2155" y="259"/>
                  </a:lnTo>
                  <a:lnTo>
                    <a:pt x="2146" y="267"/>
                  </a:lnTo>
                  <a:lnTo>
                    <a:pt x="2135" y="275"/>
                  </a:lnTo>
                  <a:lnTo>
                    <a:pt x="2138" y="281"/>
                  </a:lnTo>
                  <a:lnTo>
                    <a:pt x="2143" y="287"/>
                  </a:lnTo>
                  <a:lnTo>
                    <a:pt x="2144" y="292"/>
                  </a:lnTo>
                  <a:lnTo>
                    <a:pt x="2146" y="293"/>
                  </a:lnTo>
                  <a:lnTo>
                    <a:pt x="2103" y="309"/>
                  </a:lnTo>
                  <a:lnTo>
                    <a:pt x="2093" y="295"/>
                  </a:lnTo>
                  <a:lnTo>
                    <a:pt x="2086" y="296"/>
                  </a:lnTo>
                  <a:lnTo>
                    <a:pt x="2075" y="301"/>
                  </a:lnTo>
                  <a:lnTo>
                    <a:pt x="2061" y="305"/>
                  </a:lnTo>
                  <a:lnTo>
                    <a:pt x="2047" y="310"/>
                  </a:lnTo>
                  <a:lnTo>
                    <a:pt x="2033" y="316"/>
                  </a:lnTo>
                  <a:lnTo>
                    <a:pt x="2023" y="321"/>
                  </a:lnTo>
                  <a:lnTo>
                    <a:pt x="2013" y="326"/>
                  </a:lnTo>
                  <a:lnTo>
                    <a:pt x="2009" y="327"/>
                  </a:lnTo>
                  <a:lnTo>
                    <a:pt x="2024" y="349"/>
                  </a:lnTo>
                  <a:lnTo>
                    <a:pt x="2001" y="36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42040" y="2997360"/>
              <a:ext cx="406440" cy="83880"/>
            </a:xfrm>
            <a:custGeom>
              <a:avLst/>
              <a:gdLst/>
              <a:ahLst/>
              <a:rect l="l" t="t" r="r" b="b"/>
              <a:pathLst>
                <a:path w="256" h="53">
                  <a:moveTo>
                    <a:pt x="256" y="51"/>
                  </a:moveTo>
                  <a:lnTo>
                    <a:pt x="240" y="51"/>
                  </a:lnTo>
                  <a:lnTo>
                    <a:pt x="225" y="53"/>
                  </a:lnTo>
                  <a:lnTo>
                    <a:pt x="209" y="51"/>
                  </a:lnTo>
                  <a:lnTo>
                    <a:pt x="194" y="51"/>
                  </a:lnTo>
                  <a:lnTo>
                    <a:pt x="178" y="51"/>
                  </a:lnTo>
                  <a:lnTo>
                    <a:pt x="163" y="50"/>
                  </a:lnTo>
                  <a:lnTo>
                    <a:pt x="148" y="48"/>
                  </a:lnTo>
                  <a:lnTo>
                    <a:pt x="132" y="47"/>
                  </a:lnTo>
                  <a:lnTo>
                    <a:pt x="115" y="44"/>
                  </a:lnTo>
                  <a:lnTo>
                    <a:pt x="100" y="42"/>
                  </a:lnTo>
                  <a:lnTo>
                    <a:pt x="84" y="39"/>
                  </a:lnTo>
                  <a:lnTo>
                    <a:pt x="69" y="36"/>
                  </a:lnTo>
                  <a:lnTo>
                    <a:pt x="52" y="33"/>
                  </a:lnTo>
                  <a:lnTo>
                    <a:pt x="37" y="30"/>
                  </a:lnTo>
                  <a:lnTo>
                    <a:pt x="20" y="27"/>
                  </a:lnTo>
                  <a:lnTo>
                    <a:pt x="4" y="24"/>
                  </a:lnTo>
                  <a:lnTo>
                    <a:pt x="0" y="0"/>
                  </a:lnTo>
                  <a:lnTo>
                    <a:pt x="256" y="28"/>
                  </a:lnTo>
                  <a:lnTo>
                    <a:pt x="256" y="5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51800" y="3035160"/>
              <a:ext cx="245880" cy="109800"/>
            </a:xfrm>
            <a:custGeom>
              <a:avLst/>
              <a:gdLst/>
              <a:ahLst/>
              <a:rect l="l" t="t" r="r" b="b"/>
              <a:pathLst>
                <a:path w="155" h="69">
                  <a:moveTo>
                    <a:pt x="155" y="4"/>
                  </a:moveTo>
                  <a:lnTo>
                    <a:pt x="154" y="23"/>
                  </a:lnTo>
                  <a:lnTo>
                    <a:pt x="149" y="35"/>
                  </a:lnTo>
                  <a:lnTo>
                    <a:pt x="140" y="46"/>
                  </a:lnTo>
                  <a:lnTo>
                    <a:pt x="128" y="52"/>
                  </a:lnTo>
                  <a:lnTo>
                    <a:pt x="114" y="57"/>
                  </a:lnTo>
                  <a:lnTo>
                    <a:pt x="100" y="61"/>
                  </a:lnTo>
                  <a:lnTo>
                    <a:pt x="85" y="64"/>
                  </a:lnTo>
                  <a:lnTo>
                    <a:pt x="72" y="69"/>
                  </a:lnTo>
                  <a:lnTo>
                    <a:pt x="63" y="66"/>
                  </a:lnTo>
                  <a:lnTo>
                    <a:pt x="52" y="64"/>
                  </a:lnTo>
                  <a:lnTo>
                    <a:pt x="40" y="64"/>
                  </a:lnTo>
                  <a:lnTo>
                    <a:pt x="29" y="64"/>
                  </a:lnTo>
                  <a:lnTo>
                    <a:pt x="18" y="63"/>
                  </a:lnTo>
                  <a:lnTo>
                    <a:pt x="11" y="60"/>
                  </a:lnTo>
                  <a:lnTo>
                    <a:pt x="3" y="52"/>
                  </a:lnTo>
                  <a:lnTo>
                    <a:pt x="0" y="41"/>
                  </a:lnTo>
                  <a:lnTo>
                    <a:pt x="9" y="27"/>
                  </a:lnTo>
                  <a:lnTo>
                    <a:pt x="23" y="18"/>
                  </a:lnTo>
                  <a:lnTo>
                    <a:pt x="38" y="13"/>
                  </a:lnTo>
                  <a:lnTo>
                    <a:pt x="55" y="12"/>
                  </a:lnTo>
                  <a:lnTo>
                    <a:pt x="74" y="10"/>
                  </a:lnTo>
                  <a:lnTo>
                    <a:pt x="94" y="9"/>
                  </a:lnTo>
                  <a:lnTo>
                    <a:pt x="112" y="6"/>
                  </a:lnTo>
                  <a:lnTo>
                    <a:pt x="132" y="0"/>
                  </a:lnTo>
                  <a:lnTo>
                    <a:pt x="155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75040" y="3094200"/>
              <a:ext cx="211320" cy="91800"/>
            </a:xfrm>
            <a:custGeom>
              <a:avLst/>
              <a:gdLst/>
              <a:ahLst/>
              <a:rect l="l" t="t" r="r" b="b"/>
              <a:pathLst>
                <a:path w="133" h="58">
                  <a:moveTo>
                    <a:pt x="133" y="0"/>
                  </a:moveTo>
                  <a:lnTo>
                    <a:pt x="123" y="13"/>
                  </a:lnTo>
                  <a:lnTo>
                    <a:pt x="111" y="23"/>
                  </a:lnTo>
                  <a:lnTo>
                    <a:pt x="96" y="29"/>
                  </a:lnTo>
                  <a:lnTo>
                    <a:pt x="79" y="35"/>
                  </a:lnTo>
                  <a:lnTo>
                    <a:pt x="60" y="40"/>
                  </a:lnTo>
                  <a:lnTo>
                    <a:pt x="43" y="44"/>
                  </a:lnTo>
                  <a:lnTo>
                    <a:pt x="28" y="51"/>
                  </a:lnTo>
                  <a:lnTo>
                    <a:pt x="14" y="58"/>
                  </a:lnTo>
                  <a:lnTo>
                    <a:pt x="0" y="51"/>
                  </a:lnTo>
                  <a:lnTo>
                    <a:pt x="11" y="38"/>
                  </a:lnTo>
                  <a:lnTo>
                    <a:pt x="23" y="30"/>
                  </a:lnTo>
                  <a:lnTo>
                    <a:pt x="37" y="27"/>
                  </a:lnTo>
                  <a:lnTo>
                    <a:pt x="52" y="24"/>
                  </a:lnTo>
                  <a:lnTo>
                    <a:pt x="69" y="23"/>
                  </a:lnTo>
                  <a:lnTo>
                    <a:pt x="83" y="20"/>
                  </a:lnTo>
                  <a:lnTo>
                    <a:pt x="97" y="12"/>
                  </a:lnTo>
                  <a:lnTo>
                    <a:pt x="10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25800" y="3144960"/>
              <a:ext cx="284400" cy="122040"/>
            </a:xfrm>
            <a:custGeom>
              <a:avLst/>
              <a:gdLst/>
              <a:ahLst/>
              <a:rect l="l" t="t" r="r" b="b"/>
              <a:pathLst>
                <a:path w="179" h="77">
                  <a:moveTo>
                    <a:pt x="161" y="19"/>
                  </a:moveTo>
                  <a:lnTo>
                    <a:pt x="179" y="22"/>
                  </a:lnTo>
                  <a:lnTo>
                    <a:pt x="164" y="31"/>
                  </a:lnTo>
                  <a:lnTo>
                    <a:pt x="145" y="40"/>
                  </a:lnTo>
                  <a:lnTo>
                    <a:pt x="127" y="49"/>
                  </a:lnTo>
                  <a:lnTo>
                    <a:pt x="107" y="59"/>
                  </a:lnTo>
                  <a:lnTo>
                    <a:pt x="87" y="66"/>
                  </a:lnTo>
                  <a:lnTo>
                    <a:pt x="67" y="71"/>
                  </a:lnTo>
                  <a:lnTo>
                    <a:pt x="51" y="76"/>
                  </a:lnTo>
                  <a:lnTo>
                    <a:pt x="37" y="77"/>
                  </a:lnTo>
                  <a:lnTo>
                    <a:pt x="37" y="69"/>
                  </a:lnTo>
                  <a:lnTo>
                    <a:pt x="40" y="65"/>
                  </a:lnTo>
                  <a:lnTo>
                    <a:pt x="45" y="60"/>
                  </a:lnTo>
                  <a:lnTo>
                    <a:pt x="53" y="57"/>
                  </a:lnTo>
                  <a:lnTo>
                    <a:pt x="61" y="54"/>
                  </a:lnTo>
                  <a:lnTo>
                    <a:pt x="68" y="51"/>
                  </a:lnTo>
                  <a:lnTo>
                    <a:pt x="76" y="46"/>
                  </a:lnTo>
                  <a:lnTo>
                    <a:pt x="82" y="40"/>
                  </a:lnTo>
                  <a:lnTo>
                    <a:pt x="0" y="45"/>
                  </a:lnTo>
                  <a:lnTo>
                    <a:pt x="10" y="39"/>
                  </a:lnTo>
                  <a:lnTo>
                    <a:pt x="22" y="34"/>
                  </a:lnTo>
                  <a:lnTo>
                    <a:pt x="34" y="26"/>
                  </a:lnTo>
                  <a:lnTo>
                    <a:pt x="48" y="20"/>
                  </a:lnTo>
                  <a:lnTo>
                    <a:pt x="62" y="14"/>
                  </a:lnTo>
                  <a:lnTo>
                    <a:pt x="76" y="9"/>
                  </a:lnTo>
                  <a:lnTo>
                    <a:pt x="90" y="5"/>
                  </a:lnTo>
                  <a:lnTo>
                    <a:pt x="101" y="0"/>
                  </a:lnTo>
                  <a:lnTo>
                    <a:pt x="104" y="6"/>
                  </a:lnTo>
                  <a:lnTo>
                    <a:pt x="107" y="12"/>
                  </a:lnTo>
                  <a:lnTo>
                    <a:pt x="113" y="17"/>
                  </a:lnTo>
                  <a:lnTo>
                    <a:pt x="121" y="20"/>
                  </a:lnTo>
                  <a:lnTo>
                    <a:pt x="128" y="23"/>
                  </a:lnTo>
                  <a:lnTo>
                    <a:pt x="138" y="23"/>
                  </a:lnTo>
                  <a:lnTo>
                    <a:pt x="148" y="22"/>
                  </a:lnTo>
                  <a:lnTo>
                    <a:pt x="161" y="1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00760" y="3174840"/>
              <a:ext cx="204840" cy="92160"/>
            </a:xfrm>
            <a:custGeom>
              <a:avLst/>
              <a:gdLst/>
              <a:ahLst/>
              <a:rect l="l" t="t" r="r" b="b"/>
              <a:pathLst>
                <a:path w="129" h="58">
                  <a:moveTo>
                    <a:pt x="124" y="35"/>
                  </a:moveTo>
                  <a:lnTo>
                    <a:pt x="109" y="40"/>
                  </a:lnTo>
                  <a:lnTo>
                    <a:pt x="92" y="46"/>
                  </a:lnTo>
                  <a:lnTo>
                    <a:pt x="75" y="52"/>
                  </a:lnTo>
                  <a:lnTo>
                    <a:pt x="58" y="55"/>
                  </a:lnTo>
                  <a:lnTo>
                    <a:pt x="43" y="58"/>
                  </a:lnTo>
                  <a:lnTo>
                    <a:pt x="27" y="55"/>
                  </a:lnTo>
                  <a:lnTo>
                    <a:pt x="12" y="49"/>
                  </a:lnTo>
                  <a:lnTo>
                    <a:pt x="0" y="35"/>
                  </a:lnTo>
                  <a:lnTo>
                    <a:pt x="6" y="24"/>
                  </a:lnTo>
                  <a:lnTo>
                    <a:pt x="15" y="18"/>
                  </a:lnTo>
                  <a:lnTo>
                    <a:pt x="27" y="13"/>
                  </a:lnTo>
                  <a:lnTo>
                    <a:pt x="41" y="12"/>
                  </a:lnTo>
                  <a:lnTo>
                    <a:pt x="57" y="10"/>
                  </a:lnTo>
                  <a:lnTo>
                    <a:pt x="74" y="9"/>
                  </a:lnTo>
                  <a:lnTo>
                    <a:pt x="87" y="6"/>
                  </a:lnTo>
                  <a:lnTo>
                    <a:pt x="101" y="0"/>
                  </a:lnTo>
                  <a:lnTo>
                    <a:pt x="115" y="3"/>
                  </a:lnTo>
                  <a:lnTo>
                    <a:pt x="124" y="10"/>
                  </a:lnTo>
                  <a:lnTo>
                    <a:pt x="129" y="21"/>
                  </a:lnTo>
                  <a:lnTo>
                    <a:pt x="124" y="3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29200" y="3200400"/>
              <a:ext cx="95400" cy="5256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60" y="0"/>
                  </a:moveTo>
                  <a:lnTo>
                    <a:pt x="0" y="33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40360" y="3235320"/>
              <a:ext cx="162000" cy="122400"/>
            </a:xfrm>
            <a:custGeom>
              <a:avLst/>
              <a:gdLst/>
              <a:ahLst/>
              <a:rect l="l" t="t" r="r" b="b"/>
              <a:pathLst>
                <a:path w="102" h="77">
                  <a:moveTo>
                    <a:pt x="102" y="39"/>
                  </a:moveTo>
                  <a:lnTo>
                    <a:pt x="88" y="45"/>
                  </a:lnTo>
                  <a:lnTo>
                    <a:pt x="77" y="49"/>
                  </a:lnTo>
                  <a:lnTo>
                    <a:pt x="70" y="54"/>
                  </a:lnTo>
                  <a:lnTo>
                    <a:pt x="61" y="59"/>
                  </a:lnTo>
                  <a:lnTo>
                    <a:pt x="53" y="63"/>
                  </a:lnTo>
                  <a:lnTo>
                    <a:pt x="45" y="66"/>
                  </a:lnTo>
                  <a:lnTo>
                    <a:pt x="37" y="73"/>
                  </a:lnTo>
                  <a:lnTo>
                    <a:pt x="27" y="77"/>
                  </a:lnTo>
                  <a:lnTo>
                    <a:pt x="0" y="43"/>
                  </a:lnTo>
                  <a:lnTo>
                    <a:pt x="7" y="37"/>
                  </a:lnTo>
                  <a:lnTo>
                    <a:pt x="16" y="32"/>
                  </a:lnTo>
                  <a:lnTo>
                    <a:pt x="27" y="26"/>
                  </a:lnTo>
                  <a:lnTo>
                    <a:pt x="37" y="20"/>
                  </a:lnTo>
                  <a:lnTo>
                    <a:pt x="50" y="15"/>
                  </a:lnTo>
                  <a:lnTo>
                    <a:pt x="61" y="9"/>
                  </a:lnTo>
                  <a:lnTo>
                    <a:pt x="71" y="5"/>
                  </a:lnTo>
                  <a:lnTo>
                    <a:pt x="77" y="0"/>
                  </a:lnTo>
                  <a:lnTo>
                    <a:pt x="84" y="11"/>
                  </a:lnTo>
                  <a:lnTo>
                    <a:pt x="90" y="20"/>
                  </a:lnTo>
                  <a:lnTo>
                    <a:pt x="94" y="29"/>
                  </a:lnTo>
                  <a:lnTo>
                    <a:pt x="102" y="3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9960" y="3267000"/>
              <a:ext cx="59040" cy="181080"/>
            </a:xfrm>
            <a:custGeom>
              <a:avLst/>
              <a:gdLst/>
              <a:ahLst/>
              <a:rect l="l" t="t" r="r" b="b"/>
              <a:pathLst>
                <a:path w="37" h="114">
                  <a:moveTo>
                    <a:pt x="37" y="79"/>
                  </a:moveTo>
                  <a:lnTo>
                    <a:pt x="32" y="114"/>
                  </a:lnTo>
                  <a:lnTo>
                    <a:pt x="20" y="93"/>
                  </a:lnTo>
                  <a:lnTo>
                    <a:pt x="9" y="63"/>
                  </a:lnTo>
                  <a:lnTo>
                    <a:pt x="3" y="32"/>
                  </a:lnTo>
                  <a:lnTo>
                    <a:pt x="0" y="0"/>
                  </a:lnTo>
                  <a:lnTo>
                    <a:pt x="20" y="11"/>
                  </a:lnTo>
                  <a:lnTo>
                    <a:pt x="31" y="29"/>
                  </a:lnTo>
                  <a:lnTo>
                    <a:pt x="35" y="53"/>
                  </a:lnTo>
                  <a:lnTo>
                    <a:pt x="37" y="7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79800" y="3303720"/>
              <a:ext cx="801720" cy="533160"/>
            </a:xfrm>
            <a:custGeom>
              <a:avLst/>
              <a:gdLst/>
              <a:ahLst/>
              <a:rect l="l" t="t" r="r" b="b"/>
              <a:pathLst>
                <a:path w="505" h="336">
                  <a:moveTo>
                    <a:pt x="176" y="19"/>
                  </a:moveTo>
                  <a:lnTo>
                    <a:pt x="150" y="34"/>
                  </a:lnTo>
                  <a:lnTo>
                    <a:pt x="127" y="53"/>
                  </a:lnTo>
                  <a:lnTo>
                    <a:pt x="107" y="73"/>
                  </a:lnTo>
                  <a:lnTo>
                    <a:pt x="90" y="96"/>
                  </a:lnTo>
                  <a:lnTo>
                    <a:pt x="74" y="121"/>
                  </a:lnTo>
                  <a:lnTo>
                    <a:pt x="62" y="148"/>
                  </a:lnTo>
                  <a:lnTo>
                    <a:pt x="51" y="176"/>
                  </a:lnTo>
                  <a:lnTo>
                    <a:pt x="43" y="207"/>
                  </a:lnTo>
                  <a:lnTo>
                    <a:pt x="64" y="187"/>
                  </a:lnTo>
                  <a:lnTo>
                    <a:pt x="85" y="168"/>
                  </a:lnTo>
                  <a:lnTo>
                    <a:pt x="108" y="153"/>
                  </a:lnTo>
                  <a:lnTo>
                    <a:pt x="134" y="138"/>
                  </a:lnTo>
                  <a:lnTo>
                    <a:pt x="161" y="124"/>
                  </a:lnTo>
                  <a:lnTo>
                    <a:pt x="190" y="113"/>
                  </a:lnTo>
                  <a:lnTo>
                    <a:pt x="219" y="102"/>
                  </a:lnTo>
                  <a:lnTo>
                    <a:pt x="249" y="91"/>
                  </a:lnTo>
                  <a:lnTo>
                    <a:pt x="279" y="84"/>
                  </a:lnTo>
                  <a:lnTo>
                    <a:pt x="310" y="76"/>
                  </a:lnTo>
                  <a:lnTo>
                    <a:pt x="341" y="70"/>
                  </a:lnTo>
                  <a:lnTo>
                    <a:pt x="372" y="63"/>
                  </a:lnTo>
                  <a:lnTo>
                    <a:pt x="403" y="59"/>
                  </a:lnTo>
                  <a:lnTo>
                    <a:pt x="432" y="54"/>
                  </a:lnTo>
                  <a:lnTo>
                    <a:pt x="460" y="50"/>
                  </a:lnTo>
                  <a:lnTo>
                    <a:pt x="488" y="47"/>
                  </a:lnTo>
                  <a:lnTo>
                    <a:pt x="505" y="67"/>
                  </a:lnTo>
                  <a:lnTo>
                    <a:pt x="501" y="87"/>
                  </a:lnTo>
                  <a:lnTo>
                    <a:pt x="491" y="110"/>
                  </a:lnTo>
                  <a:lnTo>
                    <a:pt x="488" y="138"/>
                  </a:lnTo>
                  <a:lnTo>
                    <a:pt x="472" y="159"/>
                  </a:lnTo>
                  <a:lnTo>
                    <a:pt x="455" y="181"/>
                  </a:lnTo>
                  <a:lnTo>
                    <a:pt x="437" y="201"/>
                  </a:lnTo>
                  <a:lnTo>
                    <a:pt x="415" y="221"/>
                  </a:lnTo>
                  <a:lnTo>
                    <a:pt x="394" y="239"/>
                  </a:lnTo>
                  <a:lnTo>
                    <a:pt x="370" y="258"/>
                  </a:lnTo>
                  <a:lnTo>
                    <a:pt x="346" y="273"/>
                  </a:lnTo>
                  <a:lnTo>
                    <a:pt x="321" y="287"/>
                  </a:lnTo>
                  <a:lnTo>
                    <a:pt x="295" y="301"/>
                  </a:lnTo>
                  <a:lnTo>
                    <a:pt x="269" y="312"/>
                  </a:lnTo>
                  <a:lnTo>
                    <a:pt x="241" y="321"/>
                  </a:lnTo>
                  <a:lnTo>
                    <a:pt x="213" y="329"/>
                  </a:lnTo>
                  <a:lnTo>
                    <a:pt x="184" y="333"/>
                  </a:lnTo>
                  <a:lnTo>
                    <a:pt x="156" y="336"/>
                  </a:lnTo>
                  <a:lnTo>
                    <a:pt x="127" y="336"/>
                  </a:lnTo>
                  <a:lnTo>
                    <a:pt x="99" y="335"/>
                  </a:lnTo>
                  <a:lnTo>
                    <a:pt x="48" y="279"/>
                  </a:lnTo>
                  <a:lnTo>
                    <a:pt x="43" y="286"/>
                  </a:lnTo>
                  <a:lnTo>
                    <a:pt x="39" y="289"/>
                  </a:lnTo>
                  <a:lnTo>
                    <a:pt x="34" y="292"/>
                  </a:lnTo>
                  <a:lnTo>
                    <a:pt x="30" y="298"/>
                  </a:lnTo>
                  <a:lnTo>
                    <a:pt x="6" y="267"/>
                  </a:lnTo>
                  <a:lnTo>
                    <a:pt x="0" y="219"/>
                  </a:lnTo>
                  <a:lnTo>
                    <a:pt x="5" y="165"/>
                  </a:lnTo>
                  <a:lnTo>
                    <a:pt x="16" y="119"/>
                  </a:lnTo>
                  <a:lnTo>
                    <a:pt x="33" y="100"/>
                  </a:lnTo>
                  <a:lnTo>
                    <a:pt x="50" y="82"/>
                  </a:lnTo>
                  <a:lnTo>
                    <a:pt x="68" y="63"/>
                  </a:lnTo>
                  <a:lnTo>
                    <a:pt x="87" y="45"/>
                  </a:lnTo>
                  <a:lnTo>
                    <a:pt x="105" y="30"/>
                  </a:lnTo>
                  <a:lnTo>
                    <a:pt x="127" y="16"/>
                  </a:lnTo>
                  <a:lnTo>
                    <a:pt x="150" y="6"/>
                  </a:lnTo>
                  <a:lnTo>
                    <a:pt x="176" y="0"/>
                  </a:lnTo>
                  <a:lnTo>
                    <a:pt x="176" y="1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86600" y="3328920"/>
              <a:ext cx="82440" cy="6840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52" y="10"/>
                  </a:moveTo>
                  <a:lnTo>
                    <a:pt x="50" y="26"/>
                  </a:lnTo>
                  <a:lnTo>
                    <a:pt x="43" y="37"/>
                  </a:lnTo>
                  <a:lnTo>
                    <a:pt x="32" y="41"/>
                  </a:lnTo>
                  <a:lnTo>
                    <a:pt x="21" y="43"/>
                  </a:lnTo>
                  <a:lnTo>
                    <a:pt x="0" y="12"/>
                  </a:lnTo>
                  <a:lnTo>
                    <a:pt x="9" y="7"/>
                  </a:lnTo>
                  <a:lnTo>
                    <a:pt x="18" y="4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49" y="6"/>
                  </a:lnTo>
                  <a:lnTo>
                    <a:pt x="52" y="1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40280" y="3335400"/>
              <a:ext cx="85680" cy="712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26" y="0"/>
                  </a:moveTo>
                  <a:lnTo>
                    <a:pt x="33" y="3"/>
                  </a:lnTo>
                  <a:lnTo>
                    <a:pt x="40" y="11"/>
                  </a:lnTo>
                  <a:lnTo>
                    <a:pt x="46" y="20"/>
                  </a:lnTo>
                  <a:lnTo>
                    <a:pt x="54" y="30"/>
                  </a:lnTo>
                  <a:lnTo>
                    <a:pt x="48" y="34"/>
                  </a:lnTo>
                  <a:lnTo>
                    <a:pt x="42" y="37"/>
                  </a:lnTo>
                  <a:lnTo>
                    <a:pt x="34" y="42"/>
                  </a:lnTo>
                  <a:lnTo>
                    <a:pt x="25" y="45"/>
                  </a:lnTo>
                  <a:lnTo>
                    <a:pt x="17" y="45"/>
                  </a:lnTo>
                  <a:lnTo>
                    <a:pt x="11" y="43"/>
                  </a:lnTo>
                  <a:lnTo>
                    <a:pt x="5" y="37"/>
                  </a:lnTo>
                  <a:lnTo>
                    <a:pt x="0" y="28"/>
                  </a:lnTo>
                  <a:lnTo>
                    <a:pt x="6" y="16"/>
                  </a:lnTo>
                  <a:lnTo>
                    <a:pt x="13" y="10"/>
                  </a:lnTo>
                  <a:lnTo>
                    <a:pt x="19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94360" y="3362400"/>
              <a:ext cx="179280" cy="122040"/>
            </a:xfrm>
            <a:custGeom>
              <a:avLst/>
              <a:gdLst/>
              <a:ahLst/>
              <a:rect l="l" t="t" r="r" b="b"/>
              <a:pathLst>
                <a:path w="113" h="77">
                  <a:moveTo>
                    <a:pt x="90" y="0"/>
                  </a:moveTo>
                  <a:lnTo>
                    <a:pt x="113" y="37"/>
                  </a:lnTo>
                  <a:lnTo>
                    <a:pt x="105" y="42"/>
                  </a:lnTo>
                  <a:lnTo>
                    <a:pt x="96" y="47"/>
                  </a:lnTo>
                  <a:lnTo>
                    <a:pt x="85" y="51"/>
                  </a:lnTo>
                  <a:lnTo>
                    <a:pt x="74" y="57"/>
                  </a:lnTo>
                  <a:lnTo>
                    <a:pt x="62" y="62"/>
                  </a:lnTo>
                  <a:lnTo>
                    <a:pt x="51" y="67"/>
                  </a:lnTo>
                  <a:lnTo>
                    <a:pt x="39" y="73"/>
                  </a:lnTo>
                  <a:lnTo>
                    <a:pt x="28" y="77"/>
                  </a:lnTo>
                  <a:lnTo>
                    <a:pt x="0" y="40"/>
                  </a:lnTo>
                  <a:lnTo>
                    <a:pt x="11" y="34"/>
                  </a:lnTo>
                  <a:lnTo>
                    <a:pt x="23" y="28"/>
                  </a:lnTo>
                  <a:lnTo>
                    <a:pt x="34" y="22"/>
                  </a:lnTo>
                  <a:lnTo>
                    <a:pt x="45" y="16"/>
                  </a:lnTo>
                  <a:lnTo>
                    <a:pt x="57" y="11"/>
                  </a:lnTo>
                  <a:lnTo>
                    <a:pt x="68" y="6"/>
                  </a:lnTo>
                  <a:lnTo>
                    <a:pt x="79" y="2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0560" y="3425760"/>
              <a:ext cx="161640" cy="243000"/>
            </a:xfrm>
            <a:custGeom>
              <a:avLst/>
              <a:gdLst/>
              <a:ahLst/>
              <a:rect l="l" t="t" r="r" b="b"/>
              <a:pathLst>
                <a:path w="102" h="153">
                  <a:moveTo>
                    <a:pt x="102" y="0"/>
                  </a:moveTo>
                  <a:lnTo>
                    <a:pt x="96" y="22"/>
                  </a:lnTo>
                  <a:lnTo>
                    <a:pt x="86" y="44"/>
                  </a:lnTo>
                  <a:lnTo>
                    <a:pt x="75" y="65"/>
                  </a:lnTo>
                  <a:lnTo>
                    <a:pt x="63" y="85"/>
                  </a:lnTo>
                  <a:lnTo>
                    <a:pt x="49" y="105"/>
                  </a:lnTo>
                  <a:lnTo>
                    <a:pt x="34" y="124"/>
                  </a:lnTo>
                  <a:lnTo>
                    <a:pt x="17" y="139"/>
                  </a:lnTo>
                  <a:lnTo>
                    <a:pt x="0" y="153"/>
                  </a:lnTo>
                  <a:lnTo>
                    <a:pt x="6" y="114"/>
                  </a:lnTo>
                  <a:lnTo>
                    <a:pt x="14" y="82"/>
                  </a:lnTo>
                  <a:lnTo>
                    <a:pt x="25" y="51"/>
                  </a:lnTo>
                  <a:lnTo>
                    <a:pt x="42" y="22"/>
                  </a:lnTo>
                  <a:lnTo>
                    <a:pt x="46" y="17"/>
                  </a:lnTo>
                  <a:lnTo>
                    <a:pt x="55" y="13"/>
                  </a:lnTo>
                  <a:lnTo>
                    <a:pt x="65" y="10"/>
                  </a:lnTo>
                  <a:lnTo>
                    <a:pt x="75" y="7"/>
                  </a:lnTo>
                  <a:lnTo>
                    <a:pt x="85" y="3"/>
                  </a:lnTo>
                  <a:lnTo>
                    <a:pt x="94" y="2"/>
                  </a:lnTo>
                  <a:lnTo>
                    <a:pt x="100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98840" y="3470400"/>
              <a:ext cx="173160" cy="276120"/>
            </a:xfrm>
            <a:custGeom>
              <a:avLst/>
              <a:gdLst/>
              <a:ahLst/>
              <a:rect l="l" t="t" r="r" b="b"/>
              <a:pathLst>
                <a:path w="109" h="174">
                  <a:moveTo>
                    <a:pt x="40" y="12"/>
                  </a:moveTo>
                  <a:lnTo>
                    <a:pt x="46" y="11"/>
                  </a:lnTo>
                  <a:lnTo>
                    <a:pt x="54" y="9"/>
                  </a:lnTo>
                  <a:lnTo>
                    <a:pt x="62" y="6"/>
                  </a:lnTo>
                  <a:lnTo>
                    <a:pt x="69" y="5"/>
                  </a:lnTo>
                  <a:lnTo>
                    <a:pt x="77" y="3"/>
                  </a:lnTo>
                  <a:lnTo>
                    <a:pt x="86" y="2"/>
                  </a:lnTo>
                  <a:lnTo>
                    <a:pt x="97" y="2"/>
                  </a:lnTo>
                  <a:lnTo>
                    <a:pt x="109" y="0"/>
                  </a:lnTo>
                  <a:lnTo>
                    <a:pt x="99" y="22"/>
                  </a:lnTo>
                  <a:lnTo>
                    <a:pt x="91" y="43"/>
                  </a:lnTo>
                  <a:lnTo>
                    <a:pt x="85" y="65"/>
                  </a:lnTo>
                  <a:lnTo>
                    <a:pt x="79" y="86"/>
                  </a:lnTo>
                  <a:lnTo>
                    <a:pt x="74" y="107"/>
                  </a:lnTo>
                  <a:lnTo>
                    <a:pt x="68" y="127"/>
                  </a:lnTo>
                  <a:lnTo>
                    <a:pt x="62" y="144"/>
                  </a:lnTo>
                  <a:lnTo>
                    <a:pt x="52" y="159"/>
                  </a:lnTo>
                  <a:lnTo>
                    <a:pt x="0" y="174"/>
                  </a:lnTo>
                  <a:lnTo>
                    <a:pt x="12" y="137"/>
                  </a:lnTo>
                  <a:lnTo>
                    <a:pt x="20" y="94"/>
                  </a:lnTo>
                  <a:lnTo>
                    <a:pt x="29" y="49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75040" y="3478320"/>
              <a:ext cx="82440" cy="331560"/>
            </a:xfrm>
            <a:custGeom>
              <a:avLst/>
              <a:gdLst/>
              <a:ahLst/>
              <a:rect l="l" t="t" r="r" b="b"/>
              <a:pathLst>
                <a:path w="52" h="209">
                  <a:moveTo>
                    <a:pt x="46" y="0"/>
                  </a:moveTo>
                  <a:lnTo>
                    <a:pt x="52" y="26"/>
                  </a:lnTo>
                  <a:lnTo>
                    <a:pt x="51" y="52"/>
                  </a:lnTo>
                  <a:lnTo>
                    <a:pt x="45" y="75"/>
                  </a:lnTo>
                  <a:lnTo>
                    <a:pt x="37" y="98"/>
                  </a:lnTo>
                  <a:lnTo>
                    <a:pt x="31" y="122"/>
                  </a:lnTo>
                  <a:lnTo>
                    <a:pt x="29" y="143"/>
                  </a:lnTo>
                  <a:lnTo>
                    <a:pt x="34" y="166"/>
                  </a:lnTo>
                  <a:lnTo>
                    <a:pt x="51" y="188"/>
                  </a:lnTo>
                  <a:lnTo>
                    <a:pt x="48" y="199"/>
                  </a:lnTo>
                  <a:lnTo>
                    <a:pt x="42" y="206"/>
                  </a:lnTo>
                  <a:lnTo>
                    <a:pt x="34" y="209"/>
                  </a:lnTo>
                  <a:lnTo>
                    <a:pt x="23" y="202"/>
                  </a:lnTo>
                  <a:lnTo>
                    <a:pt x="3" y="171"/>
                  </a:lnTo>
                  <a:lnTo>
                    <a:pt x="0" y="131"/>
                  </a:lnTo>
                  <a:lnTo>
                    <a:pt x="2" y="88"/>
                  </a:lnTo>
                  <a:lnTo>
                    <a:pt x="0" y="46"/>
                  </a:lnTo>
                  <a:lnTo>
                    <a:pt x="8" y="40"/>
                  </a:lnTo>
                  <a:lnTo>
                    <a:pt x="12" y="34"/>
                  </a:lnTo>
                  <a:lnTo>
                    <a:pt x="17" y="26"/>
                  </a:lnTo>
                  <a:lnTo>
                    <a:pt x="22" y="20"/>
                  </a:lnTo>
                  <a:lnTo>
                    <a:pt x="26" y="12"/>
                  </a:lnTo>
                  <a:lnTo>
                    <a:pt x="31" y="7"/>
                  </a:lnTo>
                  <a:lnTo>
                    <a:pt x="37" y="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2400" y="3506760"/>
              <a:ext cx="141480" cy="270000"/>
            </a:xfrm>
            <a:custGeom>
              <a:avLst/>
              <a:gdLst/>
              <a:ahLst/>
              <a:rect l="l" t="t" r="r" b="b"/>
              <a:pathLst>
                <a:path w="89" h="170">
                  <a:moveTo>
                    <a:pt x="89" y="0"/>
                  </a:moveTo>
                  <a:lnTo>
                    <a:pt x="80" y="33"/>
                  </a:lnTo>
                  <a:lnTo>
                    <a:pt x="72" y="73"/>
                  </a:lnTo>
                  <a:lnTo>
                    <a:pt x="63" y="114"/>
                  </a:lnTo>
                  <a:lnTo>
                    <a:pt x="49" y="150"/>
                  </a:lnTo>
                  <a:lnTo>
                    <a:pt x="44" y="156"/>
                  </a:lnTo>
                  <a:lnTo>
                    <a:pt x="40" y="161"/>
                  </a:lnTo>
                  <a:lnTo>
                    <a:pt x="35" y="164"/>
                  </a:lnTo>
                  <a:lnTo>
                    <a:pt x="30" y="165"/>
                  </a:lnTo>
                  <a:lnTo>
                    <a:pt x="24" y="167"/>
                  </a:lnTo>
                  <a:lnTo>
                    <a:pt x="18" y="168"/>
                  </a:lnTo>
                  <a:lnTo>
                    <a:pt x="10" y="170"/>
                  </a:lnTo>
                  <a:lnTo>
                    <a:pt x="3" y="170"/>
                  </a:lnTo>
                  <a:lnTo>
                    <a:pt x="0" y="136"/>
                  </a:lnTo>
                  <a:lnTo>
                    <a:pt x="4" y="97"/>
                  </a:lnTo>
                  <a:lnTo>
                    <a:pt x="10" y="56"/>
                  </a:lnTo>
                  <a:lnTo>
                    <a:pt x="15" y="16"/>
                  </a:lnTo>
                  <a:lnTo>
                    <a:pt x="26" y="11"/>
                  </a:lnTo>
                  <a:lnTo>
                    <a:pt x="37" y="8"/>
                  </a:lnTo>
                  <a:lnTo>
                    <a:pt x="47" y="5"/>
                  </a:lnTo>
                  <a:lnTo>
                    <a:pt x="58" y="3"/>
                  </a:lnTo>
                  <a:lnTo>
                    <a:pt x="67" y="2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35680" y="3529080"/>
              <a:ext cx="47520" cy="302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8" y="0"/>
                  </a:moveTo>
                  <a:lnTo>
                    <a:pt x="30" y="11"/>
                  </a:lnTo>
                  <a:lnTo>
                    <a:pt x="23" y="14"/>
                  </a:lnTo>
                  <a:lnTo>
                    <a:pt x="11" y="17"/>
                  </a:lnTo>
                  <a:lnTo>
                    <a:pt x="0" y="19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0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18040" y="3559320"/>
              <a:ext cx="112680" cy="22536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71" y="0"/>
                  </a:moveTo>
                  <a:lnTo>
                    <a:pt x="68" y="40"/>
                  </a:lnTo>
                  <a:lnTo>
                    <a:pt x="63" y="81"/>
                  </a:lnTo>
                  <a:lnTo>
                    <a:pt x="52" y="117"/>
                  </a:lnTo>
                  <a:lnTo>
                    <a:pt x="31" y="142"/>
                  </a:lnTo>
                  <a:lnTo>
                    <a:pt x="17" y="131"/>
                  </a:lnTo>
                  <a:lnTo>
                    <a:pt x="7" y="120"/>
                  </a:lnTo>
                  <a:lnTo>
                    <a:pt x="1" y="108"/>
                  </a:lnTo>
                  <a:lnTo>
                    <a:pt x="0" y="97"/>
                  </a:lnTo>
                  <a:lnTo>
                    <a:pt x="0" y="83"/>
                  </a:lnTo>
                  <a:lnTo>
                    <a:pt x="1" y="69"/>
                  </a:lnTo>
                  <a:lnTo>
                    <a:pt x="4" y="55"/>
                  </a:lnTo>
                  <a:lnTo>
                    <a:pt x="4" y="38"/>
                  </a:lnTo>
                  <a:lnTo>
                    <a:pt x="14" y="32"/>
                  </a:lnTo>
                  <a:lnTo>
                    <a:pt x="23" y="26"/>
                  </a:lnTo>
                  <a:lnTo>
                    <a:pt x="31" y="20"/>
                  </a:lnTo>
                  <a:lnTo>
                    <a:pt x="38" y="15"/>
                  </a:lnTo>
                  <a:lnTo>
                    <a:pt x="46" y="10"/>
                  </a:lnTo>
                  <a:lnTo>
                    <a:pt x="54" y="7"/>
                  </a:lnTo>
                  <a:lnTo>
                    <a:pt x="61" y="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41720" y="4102200"/>
              <a:ext cx="101880" cy="311040"/>
            </a:xfrm>
            <a:custGeom>
              <a:avLst/>
              <a:gdLst/>
              <a:ahLst/>
              <a:rect l="l" t="t" r="r" b="b"/>
              <a:pathLst>
                <a:path w="64" h="196">
                  <a:moveTo>
                    <a:pt x="64" y="59"/>
                  </a:moveTo>
                  <a:lnTo>
                    <a:pt x="64" y="22"/>
                  </a:lnTo>
                  <a:lnTo>
                    <a:pt x="59" y="9"/>
                  </a:lnTo>
                  <a:lnTo>
                    <a:pt x="53" y="2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2" y="5"/>
                  </a:lnTo>
                  <a:lnTo>
                    <a:pt x="13" y="11"/>
                  </a:lnTo>
                  <a:lnTo>
                    <a:pt x="6" y="17"/>
                  </a:lnTo>
                  <a:lnTo>
                    <a:pt x="3" y="26"/>
                  </a:lnTo>
                  <a:lnTo>
                    <a:pt x="19" y="45"/>
                  </a:lnTo>
                  <a:lnTo>
                    <a:pt x="27" y="68"/>
                  </a:lnTo>
                  <a:lnTo>
                    <a:pt x="25" y="93"/>
                  </a:lnTo>
                  <a:lnTo>
                    <a:pt x="13" y="117"/>
                  </a:lnTo>
                  <a:lnTo>
                    <a:pt x="5" y="140"/>
                  </a:lnTo>
                  <a:lnTo>
                    <a:pt x="0" y="159"/>
                  </a:lnTo>
                  <a:lnTo>
                    <a:pt x="2" y="177"/>
                  </a:lnTo>
                  <a:lnTo>
                    <a:pt x="13" y="196"/>
                  </a:lnTo>
                  <a:lnTo>
                    <a:pt x="20" y="184"/>
                  </a:lnTo>
                  <a:lnTo>
                    <a:pt x="28" y="170"/>
                  </a:lnTo>
                  <a:lnTo>
                    <a:pt x="37" y="153"/>
                  </a:lnTo>
                  <a:lnTo>
                    <a:pt x="45" y="134"/>
                  </a:lnTo>
                  <a:lnTo>
                    <a:pt x="53" y="114"/>
                  </a:lnTo>
                  <a:lnTo>
                    <a:pt x="59" y="96"/>
                  </a:lnTo>
                  <a:lnTo>
                    <a:pt x="62" y="76"/>
                  </a:lnTo>
                  <a:lnTo>
                    <a:pt x="64" y="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05200" y="4211640"/>
              <a:ext cx="119160" cy="12060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55" y="0"/>
                  </a:moveTo>
                  <a:lnTo>
                    <a:pt x="55" y="11"/>
                  </a:lnTo>
                  <a:lnTo>
                    <a:pt x="58" y="22"/>
                  </a:lnTo>
                  <a:lnTo>
                    <a:pt x="63" y="34"/>
                  </a:lnTo>
                  <a:lnTo>
                    <a:pt x="75" y="50"/>
                  </a:lnTo>
                  <a:lnTo>
                    <a:pt x="72" y="56"/>
                  </a:lnTo>
                  <a:lnTo>
                    <a:pt x="68" y="62"/>
                  </a:lnTo>
                  <a:lnTo>
                    <a:pt x="63" y="70"/>
                  </a:lnTo>
                  <a:lnTo>
                    <a:pt x="57" y="76"/>
                  </a:lnTo>
                  <a:lnTo>
                    <a:pt x="49" y="74"/>
                  </a:lnTo>
                  <a:lnTo>
                    <a:pt x="40" y="70"/>
                  </a:lnTo>
                  <a:lnTo>
                    <a:pt x="34" y="62"/>
                  </a:lnTo>
                  <a:lnTo>
                    <a:pt x="26" y="54"/>
                  </a:lnTo>
                  <a:lnTo>
                    <a:pt x="20" y="47"/>
                  </a:lnTo>
                  <a:lnTo>
                    <a:pt x="12" y="39"/>
                  </a:lnTo>
                  <a:lnTo>
                    <a:pt x="6" y="31"/>
                  </a:lnTo>
                  <a:lnTo>
                    <a:pt x="0" y="27"/>
                  </a:lnTo>
                  <a:lnTo>
                    <a:pt x="6" y="22"/>
                  </a:lnTo>
                  <a:lnTo>
                    <a:pt x="12" y="17"/>
                  </a:lnTo>
                  <a:lnTo>
                    <a:pt x="20" y="14"/>
                  </a:lnTo>
                  <a:lnTo>
                    <a:pt x="27" y="11"/>
                  </a:lnTo>
                  <a:lnTo>
                    <a:pt x="34" y="8"/>
                  </a:lnTo>
                  <a:lnTo>
                    <a:pt x="41" y="5"/>
                  </a:lnTo>
                  <a:lnTo>
                    <a:pt x="4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98760" y="4400640"/>
              <a:ext cx="372960" cy="382320"/>
            </a:xfrm>
            <a:custGeom>
              <a:avLst/>
              <a:gdLst/>
              <a:ahLst/>
              <a:rect l="l" t="t" r="r" b="b"/>
              <a:pathLst>
                <a:path w="235" h="241">
                  <a:moveTo>
                    <a:pt x="235" y="73"/>
                  </a:moveTo>
                  <a:lnTo>
                    <a:pt x="235" y="82"/>
                  </a:lnTo>
                  <a:lnTo>
                    <a:pt x="230" y="80"/>
                  </a:lnTo>
                  <a:lnTo>
                    <a:pt x="226" y="77"/>
                  </a:lnTo>
                  <a:lnTo>
                    <a:pt x="219" y="73"/>
                  </a:lnTo>
                  <a:lnTo>
                    <a:pt x="213" y="70"/>
                  </a:lnTo>
                  <a:lnTo>
                    <a:pt x="207" y="68"/>
                  </a:lnTo>
                  <a:lnTo>
                    <a:pt x="199" y="68"/>
                  </a:lnTo>
                  <a:lnTo>
                    <a:pt x="193" y="70"/>
                  </a:lnTo>
                  <a:lnTo>
                    <a:pt x="185" y="73"/>
                  </a:lnTo>
                  <a:lnTo>
                    <a:pt x="204" y="108"/>
                  </a:lnTo>
                  <a:lnTo>
                    <a:pt x="193" y="114"/>
                  </a:lnTo>
                  <a:lnTo>
                    <a:pt x="182" y="111"/>
                  </a:lnTo>
                  <a:lnTo>
                    <a:pt x="175" y="104"/>
                  </a:lnTo>
                  <a:lnTo>
                    <a:pt x="172" y="91"/>
                  </a:lnTo>
                  <a:lnTo>
                    <a:pt x="155" y="90"/>
                  </a:lnTo>
                  <a:lnTo>
                    <a:pt x="141" y="83"/>
                  </a:lnTo>
                  <a:lnTo>
                    <a:pt x="127" y="76"/>
                  </a:lnTo>
                  <a:lnTo>
                    <a:pt x="115" y="70"/>
                  </a:lnTo>
                  <a:lnTo>
                    <a:pt x="102" y="65"/>
                  </a:lnTo>
                  <a:lnTo>
                    <a:pt x="91" y="66"/>
                  </a:lnTo>
                  <a:lnTo>
                    <a:pt x="79" y="73"/>
                  </a:lnTo>
                  <a:lnTo>
                    <a:pt x="65" y="87"/>
                  </a:lnTo>
                  <a:lnTo>
                    <a:pt x="71" y="97"/>
                  </a:lnTo>
                  <a:lnTo>
                    <a:pt x="73" y="110"/>
                  </a:lnTo>
                  <a:lnTo>
                    <a:pt x="71" y="125"/>
                  </a:lnTo>
                  <a:lnTo>
                    <a:pt x="68" y="141"/>
                  </a:lnTo>
                  <a:lnTo>
                    <a:pt x="65" y="156"/>
                  </a:lnTo>
                  <a:lnTo>
                    <a:pt x="68" y="167"/>
                  </a:lnTo>
                  <a:lnTo>
                    <a:pt x="76" y="173"/>
                  </a:lnTo>
                  <a:lnTo>
                    <a:pt x="93" y="173"/>
                  </a:lnTo>
                  <a:lnTo>
                    <a:pt x="107" y="167"/>
                  </a:lnTo>
                  <a:lnTo>
                    <a:pt x="119" y="162"/>
                  </a:lnTo>
                  <a:lnTo>
                    <a:pt x="132" y="162"/>
                  </a:lnTo>
                  <a:lnTo>
                    <a:pt x="142" y="165"/>
                  </a:lnTo>
                  <a:lnTo>
                    <a:pt x="153" y="170"/>
                  </a:lnTo>
                  <a:lnTo>
                    <a:pt x="164" y="176"/>
                  </a:lnTo>
                  <a:lnTo>
                    <a:pt x="175" y="184"/>
                  </a:lnTo>
                  <a:lnTo>
                    <a:pt x="185" y="191"/>
                  </a:lnTo>
                  <a:lnTo>
                    <a:pt x="176" y="210"/>
                  </a:lnTo>
                  <a:lnTo>
                    <a:pt x="162" y="224"/>
                  </a:lnTo>
                  <a:lnTo>
                    <a:pt x="144" y="233"/>
                  </a:lnTo>
                  <a:lnTo>
                    <a:pt x="121" y="239"/>
                  </a:lnTo>
                  <a:lnTo>
                    <a:pt x="98" y="241"/>
                  </a:lnTo>
                  <a:lnTo>
                    <a:pt x="73" y="241"/>
                  </a:lnTo>
                  <a:lnTo>
                    <a:pt x="50" y="236"/>
                  </a:lnTo>
                  <a:lnTo>
                    <a:pt x="30" y="228"/>
                  </a:lnTo>
                  <a:lnTo>
                    <a:pt x="24" y="221"/>
                  </a:lnTo>
                  <a:lnTo>
                    <a:pt x="17" y="211"/>
                  </a:lnTo>
                  <a:lnTo>
                    <a:pt x="11" y="199"/>
                  </a:lnTo>
                  <a:lnTo>
                    <a:pt x="5" y="188"/>
                  </a:lnTo>
                  <a:lnTo>
                    <a:pt x="2" y="176"/>
                  </a:lnTo>
                  <a:lnTo>
                    <a:pt x="0" y="164"/>
                  </a:lnTo>
                  <a:lnTo>
                    <a:pt x="4" y="151"/>
                  </a:lnTo>
                  <a:lnTo>
                    <a:pt x="11" y="141"/>
                  </a:lnTo>
                  <a:lnTo>
                    <a:pt x="30" y="127"/>
                  </a:lnTo>
                  <a:lnTo>
                    <a:pt x="42" y="108"/>
                  </a:lnTo>
                  <a:lnTo>
                    <a:pt x="48" y="90"/>
                  </a:lnTo>
                  <a:lnTo>
                    <a:pt x="53" y="68"/>
                  </a:lnTo>
                  <a:lnTo>
                    <a:pt x="59" y="48"/>
                  </a:lnTo>
                  <a:lnTo>
                    <a:pt x="68" y="29"/>
                  </a:lnTo>
                  <a:lnTo>
                    <a:pt x="85" y="14"/>
                  </a:lnTo>
                  <a:lnTo>
                    <a:pt x="111" y="3"/>
                  </a:lnTo>
                  <a:lnTo>
                    <a:pt x="136" y="0"/>
                  </a:lnTo>
                  <a:lnTo>
                    <a:pt x="156" y="2"/>
                  </a:lnTo>
                  <a:lnTo>
                    <a:pt x="173" y="8"/>
                  </a:lnTo>
                  <a:lnTo>
                    <a:pt x="187" y="17"/>
                  </a:lnTo>
                  <a:lnTo>
                    <a:pt x="201" y="29"/>
                  </a:lnTo>
                  <a:lnTo>
                    <a:pt x="212" y="43"/>
                  </a:lnTo>
                  <a:lnTo>
                    <a:pt x="224" y="59"/>
                  </a:lnTo>
                  <a:lnTo>
                    <a:pt x="235" y="7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78120" y="460836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45" y="0"/>
                  </a:moveTo>
                  <a:lnTo>
                    <a:pt x="37" y="10"/>
                  </a:lnTo>
                  <a:lnTo>
                    <a:pt x="26" y="14"/>
                  </a:lnTo>
                  <a:lnTo>
                    <a:pt x="14" y="16"/>
                  </a:lnTo>
                  <a:lnTo>
                    <a:pt x="0" y="14"/>
                  </a:lnTo>
                  <a:lnTo>
                    <a:pt x="5" y="10"/>
                  </a:lnTo>
                  <a:lnTo>
                    <a:pt x="16" y="5"/>
                  </a:lnTo>
                  <a:lnTo>
                    <a:pt x="31" y="2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73280" y="4762440"/>
              <a:ext cx="298440" cy="152640"/>
            </a:xfrm>
            <a:custGeom>
              <a:avLst/>
              <a:gdLst/>
              <a:ahLst/>
              <a:rect l="l" t="t" r="r" b="b"/>
              <a:pathLst>
                <a:path w="188" h="96">
                  <a:moveTo>
                    <a:pt x="183" y="54"/>
                  </a:moveTo>
                  <a:lnTo>
                    <a:pt x="169" y="71"/>
                  </a:lnTo>
                  <a:lnTo>
                    <a:pt x="151" y="84"/>
                  </a:lnTo>
                  <a:lnTo>
                    <a:pt x="129" y="91"/>
                  </a:lnTo>
                  <a:lnTo>
                    <a:pt x="106" y="96"/>
                  </a:lnTo>
                  <a:lnTo>
                    <a:pt x="81" y="96"/>
                  </a:lnTo>
                  <a:lnTo>
                    <a:pt x="58" y="96"/>
                  </a:lnTo>
                  <a:lnTo>
                    <a:pt x="35" y="93"/>
                  </a:lnTo>
                  <a:lnTo>
                    <a:pt x="15" y="91"/>
                  </a:lnTo>
                  <a:lnTo>
                    <a:pt x="11" y="78"/>
                  </a:lnTo>
                  <a:lnTo>
                    <a:pt x="3" y="67"/>
                  </a:lnTo>
                  <a:lnTo>
                    <a:pt x="0" y="57"/>
                  </a:lnTo>
                  <a:lnTo>
                    <a:pt x="11" y="45"/>
                  </a:lnTo>
                  <a:lnTo>
                    <a:pt x="31" y="44"/>
                  </a:lnTo>
                  <a:lnTo>
                    <a:pt x="52" y="42"/>
                  </a:lnTo>
                  <a:lnTo>
                    <a:pt x="72" y="39"/>
                  </a:lnTo>
                  <a:lnTo>
                    <a:pt x="92" y="36"/>
                  </a:lnTo>
                  <a:lnTo>
                    <a:pt x="112" y="31"/>
                  </a:lnTo>
                  <a:lnTo>
                    <a:pt x="129" y="24"/>
                  </a:lnTo>
                  <a:lnTo>
                    <a:pt x="146" y="14"/>
                  </a:lnTo>
                  <a:lnTo>
                    <a:pt x="162" y="0"/>
                  </a:lnTo>
                  <a:lnTo>
                    <a:pt x="177" y="7"/>
                  </a:lnTo>
                  <a:lnTo>
                    <a:pt x="186" y="20"/>
                  </a:lnTo>
                  <a:lnTo>
                    <a:pt x="188" y="37"/>
                  </a:lnTo>
                  <a:lnTo>
                    <a:pt x="183" y="5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74800" y="4919760"/>
              <a:ext cx="225720" cy="117360"/>
            </a:xfrm>
            <a:custGeom>
              <a:avLst/>
              <a:gdLst/>
              <a:ahLst/>
              <a:rect l="l" t="t" r="r" b="b"/>
              <a:pathLst>
                <a:path w="142" h="74">
                  <a:moveTo>
                    <a:pt x="142" y="20"/>
                  </a:moveTo>
                  <a:lnTo>
                    <a:pt x="138" y="33"/>
                  </a:lnTo>
                  <a:lnTo>
                    <a:pt x="132" y="43"/>
                  </a:lnTo>
                  <a:lnTo>
                    <a:pt x="122" y="53"/>
                  </a:lnTo>
                  <a:lnTo>
                    <a:pt x="112" y="60"/>
                  </a:lnTo>
                  <a:lnTo>
                    <a:pt x="101" y="65"/>
                  </a:lnTo>
                  <a:lnTo>
                    <a:pt x="88" y="70"/>
                  </a:lnTo>
                  <a:lnTo>
                    <a:pt x="74" y="73"/>
                  </a:lnTo>
                  <a:lnTo>
                    <a:pt x="61" y="74"/>
                  </a:lnTo>
                  <a:lnTo>
                    <a:pt x="51" y="71"/>
                  </a:lnTo>
                  <a:lnTo>
                    <a:pt x="41" y="70"/>
                  </a:lnTo>
                  <a:lnTo>
                    <a:pt x="30" y="68"/>
                  </a:lnTo>
                  <a:lnTo>
                    <a:pt x="21" y="65"/>
                  </a:lnTo>
                  <a:lnTo>
                    <a:pt x="11" y="62"/>
                  </a:lnTo>
                  <a:lnTo>
                    <a:pt x="5" y="57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24" y="40"/>
                  </a:lnTo>
                  <a:lnTo>
                    <a:pt x="45" y="36"/>
                  </a:lnTo>
                  <a:lnTo>
                    <a:pt x="65" y="25"/>
                  </a:lnTo>
                  <a:lnTo>
                    <a:pt x="84" y="14"/>
                  </a:lnTo>
                  <a:lnTo>
                    <a:pt x="101" y="5"/>
                  </a:lnTo>
                  <a:lnTo>
                    <a:pt x="116" y="0"/>
                  </a:lnTo>
                  <a:lnTo>
                    <a:pt x="130" y="5"/>
                  </a:lnTo>
                  <a:lnTo>
                    <a:pt x="142" y="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13480" y="4906800"/>
              <a:ext cx="149400" cy="727200"/>
            </a:xfrm>
            <a:custGeom>
              <a:avLst/>
              <a:gdLst/>
              <a:ahLst/>
              <a:rect l="l" t="t" r="r" b="b"/>
              <a:pathLst>
                <a:path w="94" h="458">
                  <a:moveTo>
                    <a:pt x="71" y="363"/>
                  </a:moveTo>
                  <a:lnTo>
                    <a:pt x="8" y="458"/>
                  </a:lnTo>
                  <a:lnTo>
                    <a:pt x="17" y="417"/>
                  </a:lnTo>
                  <a:lnTo>
                    <a:pt x="28" y="372"/>
                  </a:lnTo>
                  <a:lnTo>
                    <a:pt x="37" y="323"/>
                  </a:lnTo>
                  <a:lnTo>
                    <a:pt x="46" y="272"/>
                  </a:lnTo>
                  <a:lnTo>
                    <a:pt x="51" y="221"/>
                  </a:lnTo>
                  <a:lnTo>
                    <a:pt x="51" y="169"/>
                  </a:lnTo>
                  <a:lnTo>
                    <a:pt x="43" y="116"/>
                  </a:lnTo>
                  <a:lnTo>
                    <a:pt x="29" y="65"/>
                  </a:lnTo>
                  <a:lnTo>
                    <a:pt x="26" y="56"/>
                  </a:lnTo>
                  <a:lnTo>
                    <a:pt x="20" y="48"/>
                  </a:lnTo>
                  <a:lnTo>
                    <a:pt x="14" y="39"/>
                  </a:lnTo>
                  <a:lnTo>
                    <a:pt x="8" y="31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3" y="8"/>
                  </a:lnTo>
                  <a:lnTo>
                    <a:pt x="13" y="0"/>
                  </a:lnTo>
                  <a:lnTo>
                    <a:pt x="43" y="37"/>
                  </a:lnTo>
                  <a:lnTo>
                    <a:pt x="66" y="79"/>
                  </a:lnTo>
                  <a:lnTo>
                    <a:pt x="83" y="122"/>
                  </a:lnTo>
                  <a:lnTo>
                    <a:pt x="91" y="169"/>
                  </a:lnTo>
                  <a:lnTo>
                    <a:pt x="94" y="216"/>
                  </a:lnTo>
                  <a:lnTo>
                    <a:pt x="91" y="266"/>
                  </a:lnTo>
                  <a:lnTo>
                    <a:pt x="83" y="313"/>
                  </a:lnTo>
                  <a:lnTo>
                    <a:pt x="71" y="36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93960" y="4938840"/>
              <a:ext cx="2633760" cy="1276200"/>
            </a:xfrm>
            <a:custGeom>
              <a:avLst/>
              <a:gdLst/>
              <a:ahLst/>
              <a:rect l="l" t="t" r="r" b="b"/>
              <a:pathLst>
                <a:path w="1659" h="804">
                  <a:moveTo>
                    <a:pt x="1619" y="76"/>
                  </a:moveTo>
                  <a:lnTo>
                    <a:pt x="1648" y="133"/>
                  </a:lnTo>
                  <a:lnTo>
                    <a:pt x="1659" y="189"/>
                  </a:lnTo>
                  <a:lnTo>
                    <a:pt x="1653" y="244"/>
                  </a:lnTo>
                  <a:lnTo>
                    <a:pt x="1637" y="298"/>
                  </a:lnTo>
                  <a:lnTo>
                    <a:pt x="1614" y="352"/>
                  </a:lnTo>
                  <a:lnTo>
                    <a:pt x="1591" y="405"/>
                  </a:lnTo>
                  <a:lnTo>
                    <a:pt x="1571" y="455"/>
                  </a:lnTo>
                  <a:lnTo>
                    <a:pt x="1559" y="506"/>
                  </a:lnTo>
                  <a:lnTo>
                    <a:pt x="1203" y="585"/>
                  </a:lnTo>
                  <a:lnTo>
                    <a:pt x="1212" y="560"/>
                  </a:lnTo>
                  <a:lnTo>
                    <a:pt x="1224" y="537"/>
                  </a:lnTo>
                  <a:lnTo>
                    <a:pt x="1238" y="514"/>
                  </a:lnTo>
                  <a:lnTo>
                    <a:pt x="1250" y="491"/>
                  </a:lnTo>
                  <a:lnTo>
                    <a:pt x="1263" y="466"/>
                  </a:lnTo>
                  <a:lnTo>
                    <a:pt x="1270" y="440"/>
                  </a:lnTo>
                  <a:lnTo>
                    <a:pt x="1272" y="411"/>
                  </a:lnTo>
                  <a:lnTo>
                    <a:pt x="1266" y="378"/>
                  </a:lnTo>
                  <a:lnTo>
                    <a:pt x="1249" y="357"/>
                  </a:lnTo>
                  <a:lnTo>
                    <a:pt x="1230" y="340"/>
                  </a:lnTo>
                  <a:lnTo>
                    <a:pt x="1210" y="326"/>
                  </a:lnTo>
                  <a:lnTo>
                    <a:pt x="1190" y="315"/>
                  </a:lnTo>
                  <a:lnTo>
                    <a:pt x="1169" y="309"/>
                  </a:lnTo>
                  <a:lnTo>
                    <a:pt x="1146" y="304"/>
                  </a:lnTo>
                  <a:lnTo>
                    <a:pt x="1121" y="303"/>
                  </a:lnTo>
                  <a:lnTo>
                    <a:pt x="1098" y="304"/>
                  </a:lnTo>
                  <a:lnTo>
                    <a:pt x="1072" y="306"/>
                  </a:lnTo>
                  <a:lnTo>
                    <a:pt x="1047" y="310"/>
                  </a:lnTo>
                  <a:lnTo>
                    <a:pt x="1021" y="315"/>
                  </a:lnTo>
                  <a:lnTo>
                    <a:pt x="993" y="321"/>
                  </a:lnTo>
                  <a:lnTo>
                    <a:pt x="967" y="326"/>
                  </a:lnTo>
                  <a:lnTo>
                    <a:pt x="940" y="332"/>
                  </a:lnTo>
                  <a:lnTo>
                    <a:pt x="913" y="338"/>
                  </a:lnTo>
                  <a:lnTo>
                    <a:pt x="887" y="343"/>
                  </a:lnTo>
                  <a:lnTo>
                    <a:pt x="843" y="358"/>
                  </a:lnTo>
                  <a:lnTo>
                    <a:pt x="800" y="375"/>
                  </a:lnTo>
                  <a:lnTo>
                    <a:pt x="760" y="395"/>
                  </a:lnTo>
                  <a:lnTo>
                    <a:pt x="720" y="418"/>
                  </a:lnTo>
                  <a:lnTo>
                    <a:pt x="683" y="442"/>
                  </a:lnTo>
                  <a:lnTo>
                    <a:pt x="646" y="468"/>
                  </a:lnTo>
                  <a:lnTo>
                    <a:pt x="609" y="496"/>
                  </a:lnTo>
                  <a:lnTo>
                    <a:pt x="574" y="525"/>
                  </a:lnTo>
                  <a:lnTo>
                    <a:pt x="540" y="554"/>
                  </a:lnTo>
                  <a:lnTo>
                    <a:pt x="506" y="585"/>
                  </a:lnTo>
                  <a:lnTo>
                    <a:pt x="472" y="616"/>
                  </a:lnTo>
                  <a:lnTo>
                    <a:pt x="439" y="647"/>
                  </a:lnTo>
                  <a:lnTo>
                    <a:pt x="405" y="678"/>
                  </a:lnTo>
                  <a:lnTo>
                    <a:pt x="373" y="708"/>
                  </a:lnTo>
                  <a:lnTo>
                    <a:pt x="339" y="739"/>
                  </a:lnTo>
                  <a:lnTo>
                    <a:pt x="307" y="769"/>
                  </a:lnTo>
                  <a:lnTo>
                    <a:pt x="0" y="804"/>
                  </a:lnTo>
                  <a:lnTo>
                    <a:pt x="8" y="762"/>
                  </a:lnTo>
                  <a:lnTo>
                    <a:pt x="17" y="722"/>
                  </a:lnTo>
                  <a:lnTo>
                    <a:pt x="29" y="681"/>
                  </a:lnTo>
                  <a:lnTo>
                    <a:pt x="43" y="641"/>
                  </a:lnTo>
                  <a:lnTo>
                    <a:pt x="60" y="600"/>
                  </a:lnTo>
                  <a:lnTo>
                    <a:pt x="77" y="560"/>
                  </a:lnTo>
                  <a:lnTo>
                    <a:pt x="97" y="522"/>
                  </a:lnTo>
                  <a:lnTo>
                    <a:pt x="119" y="483"/>
                  </a:lnTo>
                  <a:lnTo>
                    <a:pt x="140" y="446"/>
                  </a:lnTo>
                  <a:lnTo>
                    <a:pt x="165" y="409"/>
                  </a:lnTo>
                  <a:lnTo>
                    <a:pt x="190" y="374"/>
                  </a:lnTo>
                  <a:lnTo>
                    <a:pt x="216" y="338"/>
                  </a:lnTo>
                  <a:lnTo>
                    <a:pt x="242" y="306"/>
                  </a:lnTo>
                  <a:lnTo>
                    <a:pt x="270" y="273"/>
                  </a:lnTo>
                  <a:lnTo>
                    <a:pt x="298" y="243"/>
                  </a:lnTo>
                  <a:lnTo>
                    <a:pt x="325" y="213"/>
                  </a:lnTo>
                  <a:lnTo>
                    <a:pt x="521" y="201"/>
                  </a:lnTo>
                  <a:lnTo>
                    <a:pt x="553" y="187"/>
                  </a:lnTo>
                  <a:lnTo>
                    <a:pt x="586" y="172"/>
                  </a:lnTo>
                  <a:lnTo>
                    <a:pt x="617" y="153"/>
                  </a:lnTo>
                  <a:lnTo>
                    <a:pt x="648" y="133"/>
                  </a:lnTo>
                  <a:lnTo>
                    <a:pt x="677" y="113"/>
                  </a:lnTo>
                  <a:lnTo>
                    <a:pt x="705" y="91"/>
                  </a:lnTo>
                  <a:lnTo>
                    <a:pt x="732" y="70"/>
                  </a:lnTo>
                  <a:lnTo>
                    <a:pt x="759" y="50"/>
                  </a:lnTo>
                  <a:lnTo>
                    <a:pt x="805" y="45"/>
                  </a:lnTo>
                  <a:lnTo>
                    <a:pt x="853" y="41"/>
                  </a:lnTo>
                  <a:lnTo>
                    <a:pt x="900" y="36"/>
                  </a:lnTo>
                  <a:lnTo>
                    <a:pt x="948" y="30"/>
                  </a:lnTo>
                  <a:lnTo>
                    <a:pt x="998" y="25"/>
                  </a:lnTo>
                  <a:lnTo>
                    <a:pt x="1047" y="19"/>
                  </a:lnTo>
                  <a:lnTo>
                    <a:pt x="1096" y="14"/>
                  </a:lnTo>
                  <a:lnTo>
                    <a:pt x="1146" y="10"/>
                  </a:lnTo>
                  <a:lnTo>
                    <a:pt x="1195" y="5"/>
                  </a:lnTo>
                  <a:lnTo>
                    <a:pt x="1244" y="2"/>
                  </a:lnTo>
                  <a:lnTo>
                    <a:pt x="1294" y="0"/>
                  </a:lnTo>
                  <a:lnTo>
                    <a:pt x="1343" y="0"/>
                  </a:lnTo>
                  <a:lnTo>
                    <a:pt x="1392" y="2"/>
                  </a:lnTo>
                  <a:lnTo>
                    <a:pt x="1440" y="5"/>
                  </a:lnTo>
                  <a:lnTo>
                    <a:pt x="1488" y="10"/>
                  </a:lnTo>
                  <a:lnTo>
                    <a:pt x="1536" y="17"/>
                  </a:lnTo>
                  <a:lnTo>
                    <a:pt x="1619" y="7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14480" y="5003640"/>
              <a:ext cx="166680" cy="122400"/>
            </a:xfrm>
            <a:custGeom>
              <a:avLst/>
              <a:gdLst/>
              <a:ahLst/>
              <a:rect l="l" t="t" r="r" b="b"/>
              <a:pathLst>
                <a:path w="105" h="77">
                  <a:moveTo>
                    <a:pt x="105" y="4"/>
                  </a:moveTo>
                  <a:lnTo>
                    <a:pt x="105" y="18"/>
                  </a:lnTo>
                  <a:lnTo>
                    <a:pt x="104" y="32"/>
                  </a:lnTo>
                  <a:lnTo>
                    <a:pt x="99" y="44"/>
                  </a:lnTo>
                  <a:lnTo>
                    <a:pt x="93" y="54"/>
                  </a:lnTo>
                  <a:lnTo>
                    <a:pt x="85" y="63"/>
                  </a:lnTo>
                  <a:lnTo>
                    <a:pt x="74" y="69"/>
                  </a:lnTo>
                  <a:lnTo>
                    <a:pt x="64" y="74"/>
                  </a:lnTo>
                  <a:lnTo>
                    <a:pt x="50" y="77"/>
                  </a:lnTo>
                  <a:lnTo>
                    <a:pt x="40" y="75"/>
                  </a:lnTo>
                  <a:lnTo>
                    <a:pt x="31" y="75"/>
                  </a:lnTo>
                  <a:lnTo>
                    <a:pt x="25" y="75"/>
                  </a:lnTo>
                  <a:lnTo>
                    <a:pt x="19" y="77"/>
                  </a:lnTo>
                  <a:lnTo>
                    <a:pt x="13" y="75"/>
                  </a:lnTo>
                  <a:lnTo>
                    <a:pt x="8" y="74"/>
                  </a:lnTo>
                  <a:lnTo>
                    <a:pt x="3" y="67"/>
                  </a:lnTo>
                  <a:lnTo>
                    <a:pt x="0" y="58"/>
                  </a:lnTo>
                  <a:lnTo>
                    <a:pt x="13" y="54"/>
                  </a:lnTo>
                  <a:lnTo>
                    <a:pt x="25" y="44"/>
                  </a:lnTo>
                  <a:lnTo>
                    <a:pt x="36" y="33"/>
                  </a:lnTo>
                  <a:lnTo>
                    <a:pt x="47" y="21"/>
                  </a:lnTo>
                  <a:lnTo>
                    <a:pt x="59" y="10"/>
                  </a:lnTo>
                  <a:lnTo>
                    <a:pt x="73" y="3"/>
                  </a:lnTo>
                  <a:lnTo>
                    <a:pt x="88" y="0"/>
                  </a:lnTo>
                  <a:lnTo>
                    <a:pt x="105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67480" y="5605560"/>
              <a:ext cx="208080" cy="369720"/>
            </a:xfrm>
            <a:custGeom>
              <a:avLst/>
              <a:gdLst/>
              <a:ahLst/>
              <a:rect l="l" t="t" r="r" b="b"/>
              <a:pathLst>
                <a:path w="131" h="233">
                  <a:moveTo>
                    <a:pt x="116" y="96"/>
                  </a:moveTo>
                  <a:lnTo>
                    <a:pt x="103" y="114"/>
                  </a:lnTo>
                  <a:lnTo>
                    <a:pt x="91" y="134"/>
                  </a:lnTo>
                  <a:lnTo>
                    <a:pt x="77" y="154"/>
                  </a:lnTo>
                  <a:lnTo>
                    <a:pt x="63" y="176"/>
                  </a:lnTo>
                  <a:lnTo>
                    <a:pt x="48" y="194"/>
                  </a:lnTo>
                  <a:lnTo>
                    <a:pt x="32" y="211"/>
                  </a:lnTo>
                  <a:lnTo>
                    <a:pt x="17" y="224"/>
                  </a:lnTo>
                  <a:lnTo>
                    <a:pt x="0" y="233"/>
                  </a:lnTo>
                  <a:lnTo>
                    <a:pt x="16" y="210"/>
                  </a:lnTo>
                  <a:lnTo>
                    <a:pt x="31" y="185"/>
                  </a:lnTo>
                  <a:lnTo>
                    <a:pt x="48" y="162"/>
                  </a:lnTo>
                  <a:lnTo>
                    <a:pt x="65" y="136"/>
                  </a:lnTo>
                  <a:lnTo>
                    <a:pt x="79" y="109"/>
                  </a:lnTo>
                  <a:lnTo>
                    <a:pt x="90" y="82"/>
                  </a:lnTo>
                  <a:lnTo>
                    <a:pt x="96" y="51"/>
                  </a:lnTo>
                  <a:lnTo>
                    <a:pt x="97" y="18"/>
                  </a:lnTo>
                  <a:lnTo>
                    <a:pt x="116" y="0"/>
                  </a:lnTo>
                  <a:lnTo>
                    <a:pt x="130" y="18"/>
                  </a:lnTo>
                  <a:lnTo>
                    <a:pt x="131" y="45"/>
                  </a:lnTo>
                  <a:lnTo>
                    <a:pt x="123" y="74"/>
                  </a:lnTo>
                  <a:lnTo>
                    <a:pt x="116" y="9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66040" y="5823000"/>
              <a:ext cx="255600" cy="330120"/>
            </a:xfrm>
            <a:custGeom>
              <a:avLst/>
              <a:gdLst/>
              <a:ahLst/>
              <a:rect l="l" t="t" r="r" b="b"/>
              <a:pathLst>
                <a:path w="161" h="208">
                  <a:moveTo>
                    <a:pt x="161" y="0"/>
                  </a:moveTo>
                  <a:lnTo>
                    <a:pt x="155" y="30"/>
                  </a:lnTo>
                  <a:lnTo>
                    <a:pt x="146" y="57"/>
                  </a:lnTo>
                  <a:lnTo>
                    <a:pt x="134" y="85"/>
                  </a:lnTo>
                  <a:lnTo>
                    <a:pt x="118" y="113"/>
                  </a:lnTo>
                  <a:lnTo>
                    <a:pt x="98" y="137"/>
                  </a:lnTo>
                  <a:lnTo>
                    <a:pt x="78" y="162"/>
                  </a:lnTo>
                  <a:lnTo>
                    <a:pt x="54" y="185"/>
                  </a:lnTo>
                  <a:lnTo>
                    <a:pt x="29" y="207"/>
                  </a:lnTo>
                  <a:lnTo>
                    <a:pt x="15" y="208"/>
                  </a:lnTo>
                  <a:lnTo>
                    <a:pt x="4" y="204"/>
                  </a:lnTo>
                  <a:lnTo>
                    <a:pt x="0" y="195"/>
                  </a:lnTo>
                  <a:lnTo>
                    <a:pt x="1" y="179"/>
                  </a:lnTo>
                  <a:lnTo>
                    <a:pt x="27" y="164"/>
                  </a:lnTo>
                  <a:lnTo>
                    <a:pt x="49" y="144"/>
                  </a:lnTo>
                  <a:lnTo>
                    <a:pt x="67" y="122"/>
                  </a:lnTo>
                  <a:lnTo>
                    <a:pt x="83" y="99"/>
                  </a:lnTo>
                  <a:lnTo>
                    <a:pt x="97" y="74"/>
                  </a:lnTo>
                  <a:lnTo>
                    <a:pt x="111" y="48"/>
                  </a:lnTo>
                  <a:lnTo>
                    <a:pt x="126" y="23"/>
                  </a:lnTo>
                  <a:lnTo>
                    <a:pt x="143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02040" y="4246560"/>
              <a:ext cx="1017360" cy="644400"/>
            </a:xfrm>
            <a:custGeom>
              <a:avLst/>
              <a:gdLst/>
              <a:ahLst/>
              <a:rect l="l" t="t" r="r" b="b"/>
              <a:pathLst>
                <a:path w="641" h="406">
                  <a:moveTo>
                    <a:pt x="243" y="96"/>
                  </a:moveTo>
                  <a:lnTo>
                    <a:pt x="232" y="102"/>
                  </a:lnTo>
                  <a:lnTo>
                    <a:pt x="222" y="110"/>
                  </a:lnTo>
                  <a:lnTo>
                    <a:pt x="209" y="119"/>
                  </a:lnTo>
                  <a:lnTo>
                    <a:pt x="197" y="130"/>
                  </a:lnTo>
                  <a:lnTo>
                    <a:pt x="185" y="142"/>
                  </a:lnTo>
                  <a:lnTo>
                    <a:pt x="174" y="153"/>
                  </a:lnTo>
                  <a:lnTo>
                    <a:pt x="165" y="165"/>
                  </a:lnTo>
                  <a:lnTo>
                    <a:pt x="158" y="174"/>
                  </a:lnTo>
                  <a:lnTo>
                    <a:pt x="155" y="185"/>
                  </a:lnTo>
                  <a:lnTo>
                    <a:pt x="157" y="194"/>
                  </a:lnTo>
                  <a:lnTo>
                    <a:pt x="163" y="205"/>
                  </a:lnTo>
                  <a:lnTo>
                    <a:pt x="174" y="213"/>
                  </a:lnTo>
                  <a:lnTo>
                    <a:pt x="191" y="219"/>
                  </a:lnTo>
                  <a:lnTo>
                    <a:pt x="214" y="219"/>
                  </a:lnTo>
                  <a:lnTo>
                    <a:pt x="245" y="213"/>
                  </a:lnTo>
                  <a:lnTo>
                    <a:pt x="283" y="201"/>
                  </a:lnTo>
                  <a:lnTo>
                    <a:pt x="297" y="244"/>
                  </a:lnTo>
                  <a:lnTo>
                    <a:pt x="282" y="251"/>
                  </a:lnTo>
                  <a:lnTo>
                    <a:pt x="266" y="261"/>
                  </a:lnTo>
                  <a:lnTo>
                    <a:pt x="248" y="270"/>
                  </a:lnTo>
                  <a:lnTo>
                    <a:pt x="231" y="281"/>
                  </a:lnTo>
                  <a:lnTo>
                    <a:pt x="211" y="290"/>
                  </a:lnTo>
                  <a:lnTo>
                    <a:pt x="192" y="301"/>
                  </a:lnTo>
                  <a:lnTo>
                    <a:pt x="172" y="308"/>
                  </a:lnTo>
                  <a:lnTo>
                    <a:pt x="154" y="316"/>
                  </a:lnTo>
                  <a:lnTo>
                    <a:pt x="134" y="324"/>
                  </a:lnTo>
                  <a:lnTo>
                    <a:pt x="111" y="333"/>
                  </a:lnTo>
                  <a:lnTo>
                    <a:pt x="87" y="344"/>
                  </a:lnTo>
                  <a:lnTo>
                    <a:pt x="63" y="355"/>
                  </a:lnTo>
                  <a:lnTo>
                    <a:pt x="41" y="367"/>
                  </a:lnTo>
                  <a:lnTo>
                    <a:pt x="23" y="381"/>
                  </a:lnTo>
                  <a:lnTo>
                    <a:pt x="7" y="393"/>
                  </a:lnTo>
                  <a:lnTo>
                    <a:pt x="0" y="406"/>
                  </a:lnTo>
                  <a:lnTo>
                    <a:pt x="15" y="404"/>
                  </a:lnTo>
                  <a:lnTo>
                    <a:pt x="32" y="401"/>
                  </a:lnTo>
                  <a:lnTo>
                    <a:pt x="47" y="398"/>
                  </a:lnTo>
                  <a:lnTo>
                    <a:pt x="63" y="393"/>
                  </a:lnTo>
                  <a:lnTo>
                    <a:pt x="78" y="389"/>
                  </a:lnTo>
                  <a:lnTo>
                    <a:pt x="94" y="382"/>
                  </a:lnTo>
                  <a:lnTo>
                    <a:pt x="107" y="376"/>
                  </a:lnTo>
                  <a:lnTo>
                    <a:pt x="121" y="370"/>
                  </a:lnTo>
                  <a:lnTo>
                    <a:pt x="138" y="361"/>
                  </a:lnTo>
                  <a:lnTo>
                    <a:pt x="161" y="349"/>
                  </a:lnTo>
                  <a:lnTo>
                    <a:pt x="189" y="335"/>
                  </a:lnTo>
                  <a:lnTo>
                    <a:pt x="219" y="321"/>
                  </a:lnTo>
                  <a:lnTo>
                    <a:pt x="248" y="307"/>
                  </a:lnTo>
                  <a:lnTo>
                    <a:pt x="274" y="295"/>
                  </a:lnTo>
                  <a:lnTo>
                    <a:pt x="294" y="285"/>
                  </a:lnTo>
                  <a:lnTo>
                    <a:pt x="308" y="279"/>
                  </a:lnTo>
                  <a:lnTo>
                    <a:pt x="313" y="285"/>
                  </a:lnTo>
                  <a:lnTo>
                    <a:pt x="319" y="293"/>
                  </a:lnTo>
                  <a:lnTo>
                    <a:pt x="325" y="299"/>
                  </a:lnTo>
                  <a:lnTo>
                    <a:pt x="330" y="307"/>
                  </a:lnTo>
                  <a:lnTo>
                    <a:pt x="336" y="312"/>
                  </a:lnTo>
                  <a:lnTo>
                    <a:pt x="345" y="312"/>
                  </a:lnTo>
                  <a:lnTo>
                    <a:pt x="353" y="308"/>
                  </a:lnTo>
                  <a:lnTo>
                    <a:pt x="357" y="302"/>
                  </a:lnTo>
                  <a:lnTo>
                    <a:pt x="356" y="293"/>
                  </a:lnTo>
                  <a:lnTo>
                    <a:pt x="353" y="281"/>
                  </a:lnTo>
                  <a:lnTo>
                    <a:pt x="348" y="270"/>
                  </a:lnTo>
                  <a:lnTo>
                    <a:pt x="345" y="261"/>
                  </a:lnTo>
                  <a:lnTo>
                    <a:pt x="353" y="258"/>
                  </a:lnTo>
                  <a:lnTo>
                    <a:pt x="363" y="253"/>
                  </a:lnTo>
                  <a:lnTo>
                    <a:pt x="377" y="248"/>
                  </a:lnTo>
                  <a:lnTo>
                    <a:pt x="393" y="242"/>
                  </a:lnTo>
                  <a:lnTo>
                    <a:pt x="410" y="234"/>
                  </a:lnTo>
                  <a:lnTo>
                    <a:pt x="427" y="227"/>
                  </a:lnTo>
                  <a:lnTo>
                    <a:pt x="445" y="221"/>
                  </a:lnTo>
                  <a:lnTo>
                    <a:pt x="464" y="214"/>
                  </a:lnTo>
                  <a:lnTo>
                    <a:pt x="465" y="221"/>
                  </a:lnTo>
                  <a:lnTo>
                    <a:pt x="467" y="227"/>
                  </a:lnTo>
                  <a:lnTo>
                    <a:pt x="470" y="233"/>
                  </a:lnTo>
                  <a:lnTo>
                    <a:pt x="474" y="239"/>
                  </a:lnTo>
                  <a:lnTo>
                    <a:pt x="482" y="241"/>
                  </a:lnTo>
                  <a:lnTo>
                    <a:pt x="496" y="233"/>
                  </a:lnTo>
                  <a:lnTo>
                    <a:pt x="507" y="222"/>
                  </a:lnTo>
                  <a:lnTo>
                    <a:pt x="508" y="210"/>
                  </a:lnTo>
                  <a:lnTo>
                    <a:pt x="505" y="199"/>
                  </a:lnTo>
                  <a:lnTo>
                    <a:pt x="505" y="190"/>
                  </a:lnTo>
                  <a:lnTo>
                    <a:pt x="508" y="180"/>
                  </a:lnTo>
                  <a:lnTo>
                    <a:pt x="518" y="174"/>
                  </a:lnTo>
                  <a:lnTo>
                    <a:pt x="527" y="171"/>
                  </a:lnTo>
                  <a:lnTo>
                    <a:pt x="539" y="165"/>
                  </a:lnTo>
                  <a:lnTo>
                    <a:pt x="556" y="159"/>
                  </a:lnTo>
                  <a:lnTo>
                    <a:pt x="575" y="150"/>
                  </a:lnTo>
                  <a:lnTo>
                    <a:pt x="593" y="140"/>
                  </a:lnTo>
                  <a:lnTo>
                    <a:pt x="612" y="128"/>
                  </a:lnTo>
                  <a:lnTo>
                    <a:pt x="627" y="116"/>
                  </a:lnTo>
                  <a:lnTo>
                    <a:pt x="641" y="102"/>
                  </a:lnTo>
                  <a:lnTo>
                    <a:pt x="632" y="100"/>
                  </a:lnTo>
                  <a:lnTo>
                    <a:pt x="624" y="100"/>
                  </a:lnTo>
                  <a:lnTo>
                    <a:pt x="618" y="100"/>
                  </a:lnTo>
                  <a:lnTo>
                    <a:pt x="612" y="100"/>
                  </a:lnTo>
                  <a:lnTo>
                    <a:pt x="607" y="100"/>
                  </a:lnTo>
                  <a:lnTo>
                    <a:pt x="602" y="102"/>
                  </a:lnTo>
                  <a:lnTo>
                    <a:pt x="598" y="103"/>
                  </a:lnTo>
                  <a:lnTo>
                    <a:pt x="593" y="105"/>
                  </a:lnTo>
                  <a:lnTo>
                    <a:pt x="581" y="99"/>
                  </a:lnTo>
                  <a:lnTo>
                    <a:pt x="570" y="96"/>
                  </a:lnTo>
                  <a:lnTo>
                    <a:pt x="559" y="94"/>
                  </a:lnTo>
                  <a:lnTo>
                    <a:pt x="550" y="93"/>
                  </a:lnTo>
                  <a:lnTo>
                    <a:pt x="541" y="94"/>
                  </a:lnTo>
                  <a:lnTo>
                    <a:pt x="532" y="96"/>
                  </a:lnTo>
                  <a:lnTo>
                    <a:pt x="524" y="97"/>
                  </a:lnTo>
                  <a:lnTo>
                    <a:pt x="516" y="99"/>
                  </a:lnTo>
                  <a:lnTo>
                    <a:pt x="510" y="100"/>
                  </a:lnTo>
                  <a:lnTo>
                    <a:pt x="502" y="103"/>
                  </a:lnTo>
                  <a:lnTo>
                    <a:pt x="496" y="106"/>
                  </a:lnTo>
                  <a:lnTo>
                    <a:pt x="490" y="108"/>
                  </a:lnTo>
                  <a:lnTo>
                    <a:pt x="482" y="110"/>
                  </a:lnTo>
                  <a:lnTo>
                    <a:pt x="476" y="111"/>
                  </a:lnTo>
                  <a:lnTo>
                    <a:pt x="470" y="110"/>
                  </a:lnTo>
                  <a:lnTo>
                    <a:pt x="464" y="108"/>
                  </a:lnTo>
                  <a:lnTo>
                    <a:pt x="447" y="60"/>
                  </a:lnTo>
                  <a:lnTo>
                    <a:pt x="454" y="59"/>
                  </a:lnTo>
                  <a:lnTo>
                    <a:pt x="464" y="59"/>
                  </a:lnTo>
                  <a:lnTo>
                    <a:pt x="473" y="57"/>
                  </a:lnTo>
                  <a:lnTo>
                    <a:pt x="482" y="57"/>
                  </a:lnTo>
                  <a:lnTo>
                    <a:pt x="491" y="57"/>
                  </a:lnTo>
                  <a:lnTo>
                    <a:pt x="499" y="57"/>
                  </a:lnTo>
                  <a:lnTo>
                    <a:pt x="505" y="59"/>
                  </a:lnTo>
                  <a:lnTo>
                    <a:pt x="511" y="60"/>
                  </a:lnTo>
                  <a:lnTo>
                    <a:pt x="521" y="57"/>
                  </a:lnTo>
                  <a:lnTo>
                    <a:pt x="527" y="45"/>
                  </a:lnTo>
                  <a:lnTo>
                    <a:pt x="527" y="34"/>
                  </a:lnTo>
                  <a:lnTo>
                    <a:pt x="518" y="29"/>
                  </a:lnTo>
                  <a:lnTo>
                    <a:pt x="510" y="29"/>
                  </a:lnTo>
                  <a:lnTo>
                    <a:pt x="501" y="31"/>
                  </a:lnTo>
                  <a:lnTo>
                    <a:pt x="493" y="31"/>
                  </a:lnTo>
                  <a:lnTo>
                    <a:pt x="484" y="31"/>
                  </a:lnTo>
                  <a:lnTo>
                    <a:pt x="473" y="31"/>
                  </a:lnTo>
                  <a:lnTo>
                    <a:pt x="464" y="31"/>
                  </a:lnTo>
                  <a:lnTo>
                    <a:pt x="453" y="32"/>
                  </a:lnTo>
                  <a:lnTo>
                    <a:pt x="441" y="32"/>
                  </a:lnTo>
                  <a:lnTo>
                    <a:pt x="436" y="22"/>
                  </a:lnTo>
                  <a:lnTo>
                    <a:pt x="431" y="11"/>
                  </a:lnTo>
                  <a:lnTo>
                    <a:pt x="425" y="3"/>
                  </a:lnTo>
                  <a:lnTo>
                    <a:pt x="421" y="0"/>
                  </a:lnTo>
                  <a:lnTo>
                    <a:pt x="413" y="2"/>
                  </a:lnTo>
                  <a:lnTo>
                    <a:pt x="400" y="6"/>
                  </a:lnTo>
                  <a:lnTo>
                    <a:pt x="388" y="12"/>
                  </a:lnTo>
                  <a:lnTo>
                    <a:pt x="385" y="19"/>
                  </a:lnTo>
                  <a:lnTo>
                    <a:pt x="388" y="25"/>
                  </a:lnTo>
                  <a:lnTo>
                    <a:pt x="390" y="32"/>
                  </a:lnTo>
                  <a:lnTo>
                    <a:pt x="393" y="40"/>
                  </a:lnTo>
                  <a:lnTo>
                    <a:pt x="393" y="43"/>
                  </a:lnTo>
                  <a:lnTo>
                    <a:pt x="380" y="45"/>
                  </a:lnTo>
                  <a:lnTo>
                    <a:pt x="367" y="48"/>
                  </a:lnTo>
                  <a:lnTo>
                    <a:pt x="350" y="52"/>
                  </a:lnTo>
                  <a:lnTo>
                    <a:pt x="334" y="57"/>
                  </a:lnTo>
                  <a:lnTo>
                    <a:pt x="319" y="63"/>
                  </a:lnTo>
                  <a:lnTo>
                    <a:pt x="305" y="69"/>
                  </a:lnTo>
                  <a:lnTo>
                    <a:pt x="293" y="76"/>
                  </a:lnTo>
                  <a:lnTo>
                    <a:pt x="285" y="80"/>
                  </a:lnTo>
                  <a:lnTo>
                    <a:pt x="283" y="71"/>
                  </a:lnTo>
                  <a:lnTo>
                    <a:pt x="280" y="60"/>
                  </a:lnTo>
                  <a:lnTo>
                    <a:pt x="277" y="51"/>
                  </a:lnTo>
                  <a:lnTo>
                    <a:pt x="272" y="46"/>
                  </a:lnTo>
                  <a:lnTo>
                    <a:pt x="263" y="48"/>
                  </a:lnTo>
                  <a:lnTo>
                    <a:pt x="251" y="52"/>
                  </a:lnTo>
                  <a:lnTo>
                    <a:pt x="240" y="59"/>
                  </a:lnTo>
                  <a:lnTo>
                    <a:pt x="237" y="65"/>
                  </a:lnTo>
                  <a:lnTo>
                    <a:pt x="239" y="72"/>
                  </a:lnTo>
                  <a:lnTo>
                    <a:pt x="240" y="80"/>
                  </a:lnTo>
                  <a:lnTo>
                    <a:pt x="240" y="88"/>
                  </a:lnTo>
                  <a:lnTo>
                    <a:pt x="243" y="9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06600" y="4449600"/>
              <a:ext cx="120960" cy="103320"/>
            </a:xfrm>
            <a:custGeom>
              <a:avLst/>
              <a:gdLst/>
              <a:ahLst/>
              <a:rect l="l" t="t" r="r" b="b"/>
              <a:pathLst>
                <a:path w="76" h="65">
                  <a:moveTo>
                    <a:pt x="56" y="0"/>
                  </a:moveTo>
                  <a:lnTo>
                    <a:pt x="48" y="3"/>
                  </a:lnTo>
                  <a:lnTo>
                    <a:pt x="39" y="8"/>
                  </a:lnTo>
                  <a:lnTo>
                    <a:pt x="30" y="15"/>
                  </a:lnTo>
                  <a:lnTo>
                    <a:pt x="20" y="22"/>
                  </a:lnTo>
                  <a:lnTo>
                    <a:pt x="13" y="29"/>
                  </a:lnTo>
                  <a:lnTo>
                    <a:pt x="5" y="37"/>
                  </a:lnTo>
                  <a:lnTo>
                    <a:pt x="2" y="45"/>
                  </a:lnTo>
                  <a:lnTo>
                    <a:pt x="0" y="51"/>
                  </a:lnTo>
                  <a:lnTo>
                    <a:pt x="3" y="56"/>
                  </a:lnTo>
                  <a:lnTo>
                    <a:pt x="10" y="60"/>
                  </a:lnTo>
                  <a:lnTo>
                    <a:pt x="17" y="62"/>
                  </a:lnTo>
                  <a:lnTo>
                    <a:pt x="28" y="63"/>
                  </a:lnTo>
                  <a:lnTo>
                    <a:pt x="40" y="65"/>
                  </a:lnTo>
                  <a:lnTo>
                    <a:pt x="53" y="63"/>
                  </a:lnTo>
                  <a:lnTo>
                    <a:pt x="65" y="59"/>
                  </a:lnTo>
                  <a:lnTo>
                    <a:pt x="76" y="54"/>
                  </a:lnTo>
                  <a:lnTo>
                    <a:pt x="71" y="40"/>
                  </a:lnTo>
                  <a:lnTo>
                    <a:pt x="67" y="25"/>
                  </a:lnTo>
                  <a:lnTo>
                    <a:pt x="60" y="1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73280" y="4361040"/>
              <a:ext cx="189000" cy="150480"/>
            </a:xfrm>
            <a:custGeom>
              <a:avLst/>
              <a:gdLst/>
              <a:ahLst/>
              <a:rect l="l" t="t" r="r" b="b"/>
              <a:pathLst>
                <a:path w="119" h="95">
                  <a:moveTo>
                    <a:pt x="0" y="33"/>
                  </a:moveTo>
                  <a:lnTo>
                    <a:pt x="3" y="45"/>
                  </a:lnTo>
                  <a:lnTo>
                    <a:pt x="8" y="64"/>
                  </a:lnTo>
                  <a:lnTo>
                    <a:pt x="12" y="82"/>
                  </a:lnTo>
                  <a:lnTo>
                    <a:pt x="17" y="95"/>
                  </a:lnTo>
                  <a:lnTo>
                    <a:pt x="26" y="88"/>
                  </a:lnTo>
                  <a:lnTo>
                    <a:pt x="37" y="82"/>
                  </a:lnTo>
                  <a:lnTo>
                    <a:pt x="51" y="76"/>
                  </a:lnTo>
                  <a:lnTo>
                    <a:pt x="65" y="68"/>
                  </a:lnTo>
                  <a:lnTo>
                    <a:pt x="80" y="61"/>
                  </a:lnTo>
                  <a:lnTo>
                    <a:pt x="94" y="54"/>
                  </a:lnTo>
                  <a:lnTo>
                    <a:pt x="108" y="51"/>
                  </a:lnTo>
                  <a:lnTo>
                    <a:pt x="119" y="48"/>
                  </a:lnTo>
                  <a:lnTo>
                    <a:pt x="114" y="34"/>
                  </a:lnTo>
                  <a:lnTo>
                    <a:pt x="107" y="19"/>
                  </a:lnTo>
                  <a:lnTo>
                    <a:pt x="100" y="5"/>
                  </a:lnTo>
                  <a:lnTo>
                    <a:pt x="97" y="0"/>
                  </a:lnTo>
                  <a:lnTo>
                    <a:pt x="88" y="2"/>
                  </a:lnTo>
                  <a:lnTo>
                    <a:pt x="76" y="4"/>
                  </a:lnTo>
                  <a:lnTo>
                    <a:pt x="62" y="5"/>
                  </a:lnTo>
                  <a:lnTo>
                    <a:pt x="48" y="10"/>
                  </a:lnTo>
                  <a:lnTo>
                    <a:pt x="34" y="13"/>
                  </a:lnTo>
                  <a:lnTo>
                    <a:pt x="20" y="19"/>
                  </a:lnTo>
                  <a:lnTo>
                    <a:pt x="9" y="2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13240" y="4476600"/>
              <a:ext cx="203040" cy="136800"/>
            </a:xfrm>
            <a:custGeom>
              <a:avLst/>
              <a:gdLst/>
              <a:ahLst/>
              <a:rect l="l" t="t" r="r" b="b"/>
              <a:pathLst>
                <a:path w="128" h="86">
                  <a:moveTo>
                    <a:pt x="0" y="45"/>
                  </a:moveTo>
                  <a:lnTo>
                    <a:pt x="8" y="40"/>
                  </a:lnTo>
                  <a:lnTo>
                    <a:pt x="20" y="34"/>
                  </a:lnTo>
                  <a:lnTo>
                    <a:pt x="35" y="26"/>
                  </a:lnTo>
                  <a:lnTo>
                    <a:pt x="51" y="20"/>
                  </a:lnTo>
                  <a:lnTo>
                    <a:pt x="68" y="12"/>
                  </a:lnTo>
                  <a:lnTo>
                    <a:pt x="85" y="6"/>
                  </a:lnTo>
                  <a:lnTo>
                    <a:pt x="99" y="2"/>
                  </a:lnTo>
                  <a:lnTo>
                    <a:pt x="109" y="0"/>
                  </a:lnTo>
                  <a:lnTo>
                    <a:pt x="115" y="9"/>
                  </a:lnTo>
                  <a:lnTo>
                    <a:pt x="122" y="23"/>
                  </a:lnTo>
                  <a:lnTo>
                    <a:pt x="126" y="35"/>
                  </a:lnTo>
                  <a:lnTo>
                    <a:pt x="128" y="40"/>
                  </a:lnTo>
                  <a:lnTo>
                    <a:pt x="120" y="45"/>
                  </a:lnTo>
                  <a:lnTo>
                    <a:pt x="108" y="49"/>
                  </a:lnTo>
                  <a:lnTo>
                    <a:pt x="92" y="56"/>
                  </a:lnTo>
                  <a:lnTo>
                    <a:pt x="77" y="63"/>
                  </a:lnTo>
                  <a:lnTo>
                    <a:pt x="58" y="71"/>
                  </a:lnTo>
                  <a:lnTo>
                    <a:pt x="43" y="77"/>
                  </a:lnTo>
                  <a:lnTo>
                    <a:pt x="29" y="82"/>
                  </a:lnTo>
                  <a:lnTo>
                    <a:pt x="20" y="86"/>
                  </a:lnTo>
                  <a:lnTo>
                    <a:pt x="14" y="79"/>
                  </a:lnTo>
                  <a:lnTo>
                    <a:pt x="8" y="68"/>
                  </a:lnTo>
                  <a:lnTo>
                    <a:pt x="4" y="56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762360" y="4444920"/>
              <a:ext cx="112680" cy="66600"/>
            </a:xfrm>
            <a:custGeom>
              <a:avLst/>
              <a:gdLst/>
              <a:ahLst/>
              <a:rect l="l" t="t" r="r" b="b"/>
              <a:pathLst>
                <a:path w="71" h="42">
                  <a:moveTo>
                    <a:pt x="0" y="8"/>
                  </a:moveTo>
                  <a:lnTo>
                    <a:pt x="11" y="42"/>
                  </a:lnTo>
                  <a:lnTo>
                    <a:pt x="22" y="37"/>
                  </a:lnTo>
                  <a:lnTo>
                    <a:pt x="32" y="32"/>
                  </a:lnTo>
                  <a:lnTo>
                    <a:pt x="45" y="28"/>
                  </a:lnTo>
                  <a:lnTo>
                    <a:pt x="56" y="22"/>
                  </a:lnTo>
                  <a:lnTo>
                    <a:pt x="63" y="17"/>
                  </a:lnTo>
                  <a:lnTo>
                    <a:pt x="69" y="12"/>
                  </a:lnTo>
                  <a:lnTo>
                    <a:pt x="71" y="8"/>
                  </a:lnTo>
                  <a:lnTo>
                    <a:pt x="66" y="3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4" y="1"/>
                  </a:lnTo>
                  <a:lnTo>
                    <a:pt x="25" y="3"/>
                  </a:lnTo>
                  <a:lnTo>
                    <a:pt x="16" y="5"/>
                  </a:lnTo>
                  <a:lnTo>
                    <a:pt x="8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447920" y="1155600"/>
            <a:ext cx="6095880" cy="52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Percent </a:t>
            </a:r>
            <a:br>
              <a:rPr sz="6600"/>
            </a:b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of</a:t>
            </a:r>
            <a:br>
              <a:rPr sz="6600"/>
            </a:br>
            <a:r>
              <a:rPr b="0" lang="en-US" sz="9600" spc="-1" strike="noStrike">
                <a:solidFill>
                  <a:srgbClr val="3333cc"/>
                </a:solidFill>
                <a:latin typeface="Comic Sans MS"/>
              </a:rPr>
              <a:t>Increase</a:t>
            </a:r>
            <a:br>
              <a:rPr sz="6600"/>
            </a:b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&amp;</a:t>
            </a:r>
            <a:br>
              <a:rPr sz="6600"/>
            </a:b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Decr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160640" y="3168720"/>
            <a:ext cx="67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the initial bill was $20,000.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07440" y="4311720"/>
            <a:ext cx="668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n $100.00 more is only a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99760" y="5130720"/>
            <a:ext cx="7936200" cy="1043280"/>
            <a:chOff x="599760" y="5130720"/>
            <a:chExt cx="7936200" cy="1043280"/>
          </a:xfrm>
        </p:grpSpPr>
        <p:grpSp>
          <p:nvGrpSpPr>
            <p:cNvPr id="280" name=""/>
            <p:cNvGrpSpPr/>
            <p:nvPr/>
          </p:nvGrpSpPr>
          <p:grpSpPr>
            <a:xfrm>
              <a:off x="599760" y="5130720"/>
              <a:ext cx="1456200" cy="1043280"/>
              <a:chOff x="599760" y="5130720"/>
              <a:chExt cx="1456200" cy="1043280"/>
            </a:xfrm>
          </p:grpSpPr>
          <p:sp>
            <p:nvSpPr>
              <p:cNvPr id="281" name=""/>
              <p:cNvSpPr/>
              <p:nvPr/>
            </p:nvSpPr>
            <p:spPr>
              <a:xfrm>
                <a:off x="888120" y="5130720"/>
                <a:ext cx="88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99760" y="5592600"/>
                <a:ext cx="1456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0,0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89040" y="5638680"/>
                <a:ext cx="127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2080440" y="5330880"/>
              <a:ext cx="363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0.005 = 0.5%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58440" y="5330880"/>
              <a:ext cx="247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% incre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788440" y="5130720"/>
              <a:ext cx="414720" cy="1043280"/>
              <a:chOff x="5788440" y="5130720"/>
              <a:chExt cx="414720" cy="1043280"/>
            </a:xfrm>
          </p:grpSpPr>
          <p:sp>
            <p:nvSpPr>
              <p:cNvPr id="287" name=""/>
              <p:cNvSpPr/>
              <p:nvPr/>
            </p:nvSpPr>
            <p:spPr>
              <a:xfrm>
                <a:off x="5788440" y="51307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789160" y="5592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797800" y="5638680"/>
                <a:ext cx="3985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71680" y="1600200"/>
            <a:ext cx="8038440" cy="1191240"/>
            <a:chOff x="571680" y="1600200"/>
            <a:chExt cx="8038440" cy="1191240"/>
          </a:xfrm>
        </p:grpSpPr>
        <p:sp>
          <p:nvSpPr>
            <p:cNvPr id="292" name=""/>
            <p:cNvSpPr/>
            <p:nvPr/>
          </p:nvSpPr>
          <p:spPr>
            <a:xfrm>
              <a:off x="571680" y="1600200"/>
              <a:ext cx="2133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ercent Incre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076920" y="1631520"/>
              <a:ext cx="3886920" cy="1127160"/>
              <a:chOff x="3076920" y="1631520"/>
              <a:chExt cx="3886920" cy="1127160"/>
            </a:xfrm>
          </p:grpSpPr>
          <p:sp>
            <p:nvSpPr>
              <p:cNvPr id="294" name=""/>
              <p:cNvSpPr/>
              <p:nvPr/>
            </p:nvSpPr>
            <p:spPr>
              <a:xfrm>
                <a:off x="3076920" y="1631520"/>
                <a:ext cx="388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amount of increa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01440" y="2177280"/>
                <a:ext cx="2838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initial amoun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46040" y="2177280"/>
                <a:ext cx="374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972120" y="1873080"/>
              <a:ext cx="163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16120" y="18730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3520" y="16002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the sales tax on a $45 blouse is $3.15, what is the percent of increase in the price of the blouse (the sales tax as a percent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3889440"/>
            <a:ext cx="3264840" cy="2438280"/>
            <a:chOff x="533520" y="3889440"/>
            <a:chExt cx="3264840" cy="2438280"/>
          </a:xfrm>
        </p:grpSpPr>
        <p:grpSp>
          <p:nvGrpSpPr>
            <p:cNvPr id="301" name=""/>
            <p:cNvGrpSpPr/>
            <p:nvPr/>
          </p:nvGrpSpPr>
          <p:grpSpPr>
            <a:xfrm>
              <a:off x="533520" y="5032080"/>
              <a:ext cx="1122120" cy="966600"/>
              <a:chOff x="533520" y="5032080"/>
              <a:chExt cx="1122120" cy="966600"/>
            </a:xfrm>
          </p:grpSpPr>
          <p:pic>
            <p:nvPicPr>
              <p:cNvPr id="3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5032080"/>
                <a:ext cx="112212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19128600">
                <a:off x="605520" y="5396400"/>
                <a:ext cx="76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$4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1535040" y="3889440"/>
              <a:ext cx="2263320" cy="243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/>
          <p:cNvSpPr/>
          <p:nvPr/>
        </p:nvSpPr>
        <p:spPr>
          <a:xfrm>
            <a:off x="533520" y="16002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the sales tax on a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45 blouse is $3.1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what is the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percent of increase in the pric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the blouse (the sales tax as a percent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297040" y="4461120"/>
            <a:ext cx="2352240" cy="1038240"/>
            <a:chOff x="5297040" y="4461120"/>
            <a:chExt cx="2352240" cy="1038240"/>
          </a:xfrm>
        </p:grpSpPr>
        <p:sp>
          <p:nvSpPr>
            <p:cNvPr id="308" name=""/>
            <p:cNvSpPr/>
            <p:nvPr/>
          </p:nvSpPr>
          <p:spPr>
            <a:xfrm rot="20897400">
              <a:off x="5335920" y="4675320"/>
              <a:ext cx="217440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20897400">
              <a:off x="5334120" y="471276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33520" y="2119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$45 blo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$3.15 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8640" y="5334120"/>
            <a:ext cx="602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percent of increase (sales tax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1880" y="480060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9720" y="155268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572000" y="1538280"/>
            <a:ext cx="4145400" cy="3490920"/>
            <a:chOff x="4572000" y="1538280"/>
            <a:chExt cx="4145400" cy="3490920"/>
          </a:xfrm>
        </p:grpSpPr>
        <p:sp>
          <p:nvSpPr>
            <p:cNvPr id="315" name=""/>
            <p:cNvSpPr/>
            <p:nvPr/>
          </p:nvSpPr>
          <p:spPr>
            <a:xfrm>
              <a:off x="4572000" y="1552680"/>
              <a:ext cx="1905120" cy="3476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66ccff"/>
                  </a:solidFill>
                  <a:latin typeface="Comic Sans MS"/>
                </a:rPr>
                <a:t>$4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72000" y="1552680"/>
              <a:ext cx="1905120" cy="57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3.1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77120" y="1552680"/>
              <a:ext cx="914400" cy="56664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14760 h 566640"/>
                <a:gd name="textAreaBottom" fmla="*/ 551880 h 56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77120" y="2131920"/>
              <a:ext cx="914400" cy="289728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75240 h 2897280"/>
                <a:gd name="textAreaBottom" fmla="*/ 2822040 h 28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389000" y="1538280"/>
              <a:ext cx="13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% Inc.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80360" y="3352680"/>
              <a:ext cx="108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457200" y="1600200"/>
            <a:ext cx="8038800" cy="1191240"/>
            <a:chOff x="457200" y="1600200"/>
            <a:chExt cx="8038800" cy="1191240"/>
          </a:xfrm>
        </p:grpSpPr>
        <p:sp>
          <p:nvSpPr>
            <p:cNvPr id="323" name=""/>
            <p:cNvSpPr/>
            <p:nvPr/>
          </p:nvSpPr>
          <p:spPr>
            <a:xfrm>
              <a:off x="457200" y="160020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ercent Incre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2962800" y="1631520"/>
              <a:ext cx="3886920" cy="1127160"/>
              <a:chOff x="2962800" y="1631520"/>
              <a:chExt cx="3886920" cy="1127160"/>
            </a:xfrm>
          </p:grpSpPr>
          <p:sp>
            <p:nvSpPr>
              <p:cNvPr id="325" name=""/>
              <p:cNvSpPr/>
              <p:nvPr/>
            </p:nvSpPr>
            <p:spPr>
              <a:xfrm>
                <a:off x="2962800" y="1631520"/>
                <a:ext cx="388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amount of increa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87680" y="2177280"/>
                <a:ext cx="2838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initial amoun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32280" y="2177280"/>
                <a:ext cx="3749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858000" y="1873080"/>
              <a:ext cx="163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02000" y="18730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33520" y="2971800"/>
            <a:ext cx="8038800" cy="1191240"/>
            <a:chOff x="533520" y="2971800"/>
            <a:chExt cx="8038800" cy="1191240"/>
          </a:xfrm>
        </p:grpSpPr>
        <p:sp>
          <p:nvSpPr>
            <p:cNvPr id="331" name=""/>
            <p:cNvSpPr/>
            <p:nvPr/>
          </p:nvSpPr>
          <p:spPr>
            <a:xfrm>
              <a:off x="533520" y="297180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ercent Incre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2685960" y="3003120"/>
              <a:ext cx="4172040" cy="1127160"/>
              <a:chOff x="2685960" y="3003120"/>
              <a:chExt cx="4172040" cy="1127160"/>
            </a:xfrm>
          </p:grpSpPr>
          <p:sp>
            <p:nvSpPr>
              <p:cNvPr id="333" name=""/>
              <p:cNvSpPr/>
              <p:nvPr/>
            </p:nvSpPr>
            <p:spPr>
              <a:xfrm>
                <a:off x="2685960" y="3003120"/>
                <a:ext cx="2800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               </a:t>
                </a:r>
                <a:r>
                  <a:rPr b="0" lang="en-US" sz="3200" spc="-1" strike="noStrike">
                    <a:solidFill>
                      <a:srgbClr val="3333cc"/>
                    </a:solidFill>
                    <a:latin typeface="Comic Sans MS"/>
                  </a:rPr>
                  <a:t>$3.1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713760" y="3548880"/>
                <a:ext cx="198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     </a:t>
                </a:r>
                <a:r>
                  <a:rPr b="0" lang="en-US" sz="3200" spc="-1" strike="noStrike">
                    <a:solidFill>
                      <a:srgbClr val="3333cc"/>
                    </a:solidFill>
                    <a:latin typeface="Comic Sans MS"/>
                  </a:rPr>
                  <a:t>$45.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108600" y="3548880"/>
                <a:ext cx="3749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6934320" y="3244680"/>
              <a:ext cx="163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78320" y="3244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202120" y="4419720"/>
            <a:ext cx="45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crease 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0.07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7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60640" y="5334120"/>
            <a:ext cx="727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sales tax increased the price 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of the blouse by 7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139840" y="1371600"/>
            <a:ext cx="481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ice + Tax = Total b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3120" y="205740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$45 + $3.15 = $48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057400" y="2743200"/>
            <a:ext cx="4647960" cy="2971800"/>
            <a:chOff x="2057400" y="2743200"/>
            <a:chExt cx="4647960" cy="2971800"/>
          </a:xfrm>
        </p:grpSpPr>
        <p:pic>
          <p:nvPicPr>
            <p:cNvPr id="344" name="" descr=""/>
            <p:cNvPicPr/>
            <p:nvPr/>
          </p:nvPicPr>
          <p:blipFill>
            <a:blip r:embed="rId1"/>
            <a:stretch/>
          </p:blipFill>
          <p:spPr>
            <a:xfrm>
              <a:off x="2057400" y="2743200"/>
              <a:ext cx="464796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 rot="941400">
              <a:off x="4123080" y="321732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$48.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40520" y="5715000"/>
            <a:ext cx="574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$48.15 = </a:t>
            </a:r>
            <a:r>
              <a:rPr b="0" lang="en-US" sz="4400" spc="-1" strike="noStrike">
                <a:solidFill>
                  <a:srgbClr val="339966"/>
                </a:solidFill>
                <a:latin typeface="Comic Sans MS"/>
              </a:rPr>
              <a:t>107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$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478960" y="309240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.07 x $45 = $3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86400" y="2133720"/>
            <a:ext cx="41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hat is 7% of $45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12520" y="1300320"/>
            <a:ext cx="161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28160" y="5119560"/>
            <a:ext cx="103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94760" y="3930480"/>
            <a:ext cx="53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$3.15 given as sales tax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084840" y="137160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alary Ra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00400" y="2225520"/>
            <a:ext cx="4952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overnor to Raise Pay Levels of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ate Employees by Executive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484668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plan will raise the entry level wage of all pay grades an additional 7.4% 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1844640" cy="28335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981080" y="1447920"/>
            <a:ext cx="1067040" cy="777600"/>
          </a:xfrm>
          <a:prstGeom prst="wedgeEllipseCallout">
            <a:avLst>
              <a:gd name="adj1" fmla="val -61162"/>
              <a:gd name="adj2" fmla="val 3612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143240" y="2251080"/>
            <a:ext cx="461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is the new salary for a worker receiving a wage increase of 7.4% if the starting wage is $8.00/h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/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09760" y="2373480"/>
            <a:ext cx="3452760" cy="33415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4143240" y="2251080"/>
            <a:ext cx="461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new salar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or a worker receiving a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age increase of 7.4%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f the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tarting wage is $8.00/h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77200" y="1203480"/>
            <a:ext cx="3172320" cy="1199880"/>
            <a:chOff x="277200" y="1203480"/>
            <a:chExt cx="3172320" cy="1199880"/>
          </a:xfrm>
        </p:grpSpPr>
        <p:sp>
          <p:nvSpPr>
            <p:cNvPr id="365" name=""/>
            <p:cNvSpPr/>
            <p:nvPr/>
          </p:nvSpPr>
          <p:spPr>
            <a:xfrm rot="20897400">
              <a:off x="307800" y="1498320"/>
              <a:ext cx="297180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20897400">
              <a:off x="304920" y="153648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22716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$8/hr w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7.4% in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27480" y="548640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New w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4160" y="495288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2360" y="170496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747880" y="1766880"/>
            <a:ext cx="5723280" cy="3490920"/>
            <a:chOff x="2747880" y="1766880"/>
            <a:chExt cx="5723280" cy="3490920"/>
          </a:xfrm>
        </p:grpSpPr>
        <p:grpSp>
          <p:nvGrpSpPr>
            <p:cNvPr id="373" name=""/>
            <p:cNvGrpSpPr/>
            <p:nvPr/>
          </p:nvGrpSpPr>
          <p:grpSpPr>
            <a:xfrm>
              <a:off x="4495680" y="1766880"/>
              <a:ext cx="3975480" cy="3490920"/>
              <a:chOff x="4495680" y="1766880"/>
              <a:chExt cx="3975480" cy="3490920"/>
            </a:xfrm>
          </p:grpSpPr>
          <p:sp>
            <p:nvSpPr>
              <p:cNvPr id="374" name=""/>
              <p:cNvSpPr/>
              <p:nvPr/>
            </p:nvSpPr>
            <p:spPr>
              <a:xfrm>
                <a:off x="4495680" y="1781280"/>
                <a:ext cx="1905120" cy="3476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66ccff"/>
                    </a:solidFill>
                    <a:latin typeface="Comic Sans MS"/>
                  </a:rPr>
                  <a:t>$8/hr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495680" y="1781280"/>
                <a:ext cx="1905120" cy="5792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.4%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400800" y="1781280"/>
                <a:ext cx="914400" cy="566640"/>
              </a:xfrm>
              <a:custGeom>
                <a:avLst/>
                <a:gdLst>
                  <a:gd name="textAreaLeft" fmla="*/ 0 w 914400"/>
                  <a:gd name="textAreaRight" fmla="*/ 330120 w 914400"/>
                  <a:gd name="textAreaTop" fmla="*/ 14760 h 566640"/>
                  <a:gd name="textAreaBottom" fmla="*/ 551880 h 566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0800" y="2360520"/>
                <a:ext cx="914400" cy="2897280"/>
              </a:xfrm>
              <a:custGeom>
                <a:avLst/>
                <a:gdLst>
                  <a:gd name="textAreaLeft" fmla="*/ 0 w 914400"/>
                  <a:gd name="textAreaRight" fmla="*/ 330120 w 914400"/>
                  <a:gd name="textAreaTop" fmla="*/ 75240 h 2897280"/>
                  <a:gd name="textAreaBottom" fmla="*/ 2822040 h 289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296840" y="1766880"/>
                <a:ext cx="1174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Comic Sans MS"/>
                  </a:rPr>
                  <a:t>% Inc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04040" y="3581280"/>
                <a:ext cx="1084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Comic Sans MS"/>
                  </a:rPr>
                  <a:t>100%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3809880" y="1766880"/>
              <a:ext cx="685800" cy="349092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90720 h 3490920"/>
                <a:gd name="textAreaBottom" fmla="*/ 3400200 h 34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5910"/>
                  </a:lnTo>
                  <a:cubicBezTo>
                    <a:pt x="10800" y="16810"/>
                    <a:pt x="5400" y="17710"/>
                    <a:pt x="0" y="17710"/>
                  </a:cubicBezTo>
                  <a:cubicBezTo>
                    <a:pt x="5400" y="17710"/>
                    <a:pt x="10800" y="18610"/>
                    <a:pt x="10800" y="1951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47880" y="4343400"/>
              <a:ext cx="108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Comic Sans MS"/>
                </a:rPr>
                <a:t>New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134136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percent of incre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s 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the initial amou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he amount of in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7120" y="3197160"/>
            <a:ext cx="25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7.4%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9966"/>
                </a:solidFill>
                <a:latin typeface="Comic Sans MS"/>
              </a:rPr>
              <a:t>$8.0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30760" y="3886200"/>
            <a:ext cx="26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0.07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9966"/>
                </a:solidFill>
                <a:latin typeface="Comic Sans MS"/>
              </a:rPr>
              <a:t>$8.0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71320" y="4662360"/>
            <a:ext cx="42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$0.5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crease in 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83880" y="5683320"/>
            <a:ext cx="68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w hourly rate of pay = $8.5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93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2286000"/>
            <a:ext cx="5562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 percent increase and de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problems involving percent increase and percent de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68120" y="5257800"/>
            <a:ext cx="68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w hourly rate of pay = $8.5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0880" y="1447920"/>
            <a:ext cx="835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the old amoun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he amount of increase =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new am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478520" y="2743200"/>
            <a:ext cx="679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66"/>
                </a:solidFill>
                <a:latin typeface="Comic Sans MS"/>
              </a:rPr>
              <a:t>$8.0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+          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$0.59        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67000" y="3809880"/>
            <a:ext cx="173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$8.5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8400" y="1376280"/>
            <a:ext cx="17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he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57200" y="2209680"/>
            <a:ext cx="8038800" cy="1191240"/>
            <a:chOff x="457200" y="2209680"/>
            <a:chExt cx="8038800" cy="1191240"/>
          </a:xfrm>
        </p:grpSpPr>
        <p:sp>
          <p:nvSpPr>
            <p:cNvPr id="396" name=""/>
            <p:cNvSpPr/>
            <p:nvPr/>
          </p:nvSpPr>
          <p:spPr>
            <a:xfrm>
              <a:off x="457200" y="220968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ercent Incre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2962800" y="2241360"/>
              <a:ext cx="3886920" cy="1127160"/>
              <a:chOff x="2962800" y="2241360"/>
              <a:chExt cx="3886920" cy="1127160"/>
            </a:xfrm>
          </p:grpSpPr>
          <p:sp>
            <p:nvSpPr>
              <p:cNvPr id="398" name=""/>
              <p:cNvSpPr/>
              <p:nvPr/>
            </p:nvSpPr>
            <p:spPr>
              <a:xfrm>
                <a:off x="2962800" y="2241360"/>
                <a:ext cx="388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amount of increa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487680" y="2787120"/>
                <a:ext cx="2838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initial amoun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032280" y="2787120"/>
                <a:ext cx="3749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6858000" y="2482920"/>
              <a:ext cx="163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02000" y="24829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95360" y="3581280"/>
            <a:ext cx="8038800" cy="1191240"/>
            <a:chOff x="495360" y="3581280"/>
            <a:chExt cx="8038800" cy="1191240"/>
          </a:xfrm>
        </p:grpSpPr>
        <p:sp>
          <p:nvSpPr>
            <p:cNvPr id="404" name=""/>
            <p:cNvSpPr/>
            <p:nvPr/>
          </p:nvSpPr>
          <p:spPr>
            <a:xfrm>
              <a:off x="495360" y="358128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ercent Incre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3070440" y="3612960"/>
              <a:ext cx="3749400" cy="1127160"/>
              <a:chOff x="3070440" y="3612960"/>
              <a:chExt cx="3749400" cy="1127160"/>
            </a:xfrm>
          </p:grpSpPr>
          <p:sp>
            <p:nvSpPr>
              <p:cNvPr id="406" name=""/>
              <p:cNvSpPr/>
              <p:nvPr/>
            </p:nvSpPr>
            <p:spPr>
              <a:xfrm>
                <a:off x="3171960" y="3612960"/>
                <a:ext cx="2169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       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$0.5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668040" y="4158720"/>
                <a:ext cx="1749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   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$8.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070440" y="4158720"/>
                <a:ext cx="3749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6896160" y="3854520"/>
              <a:ext cx="163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40160" y="3854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2555280" y="5334120"/>
            <a:ext cx="361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 .074 = 7.4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66560" y="5310360"/>
            <a:ext cx="124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O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4362480" y="1584360"/>
            <a:ext cx="4400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ulia received an 8% raise this year and now makes $28,000 per year.  What was her salary last ye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494160" cy="35211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4362480" y="1584360"/>
            <a:ext cx="4400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ulia received an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8% raise this yea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now makes $28,000 per year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What was her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salary last ye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77200" y="1203480"/>
            <a:ext cx="3172320" cy="1199880"/>
            <a:chOff x="277200" y="1203480"/>
            <a:chExt cx="3172320" cy="1199880"/>
          </a:xfrm>
        </p:grpSpPr>
        <p:sp>
          <p:nvSpPr>
            <p:cNvPr id="418" name=""/>
            <p:cNvSpPr/>
            <p:nvPr/>
          </p:nvSpPr>
          <p:spPr>
            <a:xfrm rot="20897400">
              <a:off x="307800" y="1498320"/>
              <a:ext cx="297180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20897400">
              <a:off x="304920" y="153648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22716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$28,000 new sala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8% in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95520" y="5486400"/>
            <a:ext cx="20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Old sa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4160" y="495288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2360" y="170496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408760" y="1905120"/>
            <a:ext cx="6138720" cy="3504600"/>
            <a:chOff x="2408760" y="1905120"/>
            <a:chExt cx="6138720" cy="3504600"/>
          </a:xfrm>
        </p:grpSpPr>
        <p:sp>
          <p:nvSpPr>
            <p:cNvPr id="426" name=""/>
            <p:cNvSpPr/>
            <p:nvPr/>
          </p:nvSpPr>
          <p:spPr>
            <a:xfrm>
              <a:off x="3886200" y="1919160"/>
              <a:ext cx="685800" cy="349056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90720 h 3490560"/>
                <a:gd name="textAreaBottom" fmla="*/ 3399840 h 34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5910"/>
                  </a:lnTo>
                  <a:cubicBezTo>
                    <a:pt x="10800" y="16810"/>
                    <a:pt x="5400" y="17710"/>
                    <a:pt x="0" y="17710"/>
                  </a:cubicBezTo>
                  <a:cubicBezTo>
                    <a:pt x="5400" y="17710"/>
                    <a:pt x="10800" y="18610"/>
                    <a:pt x="10800" y="1951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2408760" y="1905120"/>
              <a:ext cx="6138720" cy="3490200"/>
              <a:chOff x="2408760" y="1905120"/>
              <a:chExt cx="6138720" cy="349020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4572000" y="1905120"/>
                <a:ext cx="3975480" cy="3490200"/>
                <a:chOff x="4572000" y="1905120"/>
                <a:chExt cx="3975480" cy="349020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4572000" y="1919160"/>
                  <a:ext cx="1905120" cy="34761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66ccff"/>
                      </a:solidFill>
                      <a:latin typeface="Comic Sans MS"/>
                    </a:rPr>
                    <a:t>Old</a:t>
                  </a:r>
                  <a:br>
                    <a:rPr sz="4400"/>
                  </a:br>
                  <a:r>
                    <a:rPr b="0" lang="en-US" sz="4400" spc="-1" strike="noStrike">
                      <a:solidFill>
                        <a:srgbClr val="66ccff"/>
                      </a:solidFill>
                      <a:latin typeface="Comic Sans MS"/>
                    </a:rPr>
                    <a:t>salary</a:t>
                  </a:r>
                  <a:br>
                    <a:rPr sz="4400"/>
                  </a:br>
                  <a:r>
                    <a:rPr b="0" lang="en-US" sz="4400" spc="-1" strike="noStrike">
                      <a:solidFill>
                        <a:srgbClr val="66ccff"/>
                      </a:solidFill>
                      <a:latin typeface="Comic Sans MS"/>
                    </a:rPr>
                    <a:t>?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572000" y="1919160"/>
                  <a:ext cx="1905120" cy="5788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8%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477120" y="1919160"/>
                  <a:ext cx="914400" cy="566280"/>
                </a:xfrm>
                <a:custGeom>
                  <a:avLst/>
                  <a:gdLst>
                    <a:gd name="textAreaLeft" fmla="*/ 0 w 914400"/>
                    <a:gd name="textAreaRight" fmla="*/ 330120 w 914400"/>
                    <a:gd name="textAreaTop" fmla="*/ 14760 h 566280"/>
                    <a:gd name="textAreaBottom" fmla="*/ 551520 h 566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477120" y="2498400"/>
                  <a:ext cx="914400" cy="2896920"/>
                </a:xfrm>
                <a:custGeom>
                  <a:avLst/>
                  <a:gdLst>
                    <a:gd name="textAreaLeft" fmla="*/ 0 w 914400"/>
                    <a:gd name="textAreaRight" fmla="*/ 330120 w 914400"/>
                    <a:gd name="textAreaTop" fmla="*/ 75240 h 2896920"/>
                    <a:gd name="textAreaBottom" fmla="*/ 2821680 h 289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373160" y="1905120"/>
                  <a:ext cx="1174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3333cc"/>
                      </a:solidFill>
                      <a:latin typeface="Comic Sans MS"/>
                    </a:rPr>
                    <a:t>% Inc.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380360" y="3719160"/>
                  <a:ext cx="1084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3333cc"/>
                      </a:solidFill>
                      <a:latin typeface="Comic Sans MS"/>
                    </a:rPr>
                    <a:t>100%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408760" y="4495680"/>
                <a:ext cx="1491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Comic Sans MS"/>
                  </a:rPr>
                  <a:t>$28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85800" y="21337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t f = $ amount of Julia’s former salary (unknown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52480" y="4159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new salar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 </a:t>
            </a: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+   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0.08 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4800" y="49212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1f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+   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0.08 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81080" y="57913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28,0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= (</a:t>
            </a: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0.08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f = 1.08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4360" y="1295280"/>
            <a:ext cx="22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alys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35268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new salar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ol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incr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551520" y="13716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know Julia’s new salary = $28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840040" y="2482920"/>
            <a:ext cx="3508920" cy="909360"/>
            <a:chOff x="2840040" y="2482920"/>
            <a:chExt cx="3508920" cy="909360"/>
          </a:xfrm>
        </p:grpSpPr>
        <p:sp>
          <p:nvSpPr>
            <p:cNvPr id="445" name=""/>
            <p:cNvSpPr/>
            <p:nvPr/>
          </p:nvSpPr>
          <p:spPr>
            <a:xfrm>
              <a:off x="4572000" y="2749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840040" y="2482920"/>
              <a:ext cx="161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8,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03000" y="2482920"/>
              <a:ext cx="124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.08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809800" y="3048120"/>
            <a:ext cx="3562560" cy="642600"/>
            <a:chOff x="2809800" y="3048120"/>
            <a:chExt cx="3562560" cy="642600"/>
          </a:xfrm>
        </p:grpSpPr>
        <p:sp>
          <p:nvSpPr>
            <p:cNvPr id="449" name=""/>
            <p:cNvSpPr/>
            <p:nvPr/>
          </p:nvSpPr>
          <p:spPr>
            <a:xfrm>
              <a:off x="3102120" y="3048120"/>
              <a:ext cx="108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.0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809800" y="3101760"/>
              <a:ext cx="167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81840" y="3048120"/>
              <a:ext cx="108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.0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1760" y="3101760"/>
              <a:ext cx="12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076200" y="4159080"/>
            <a:ext cx="301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5,925.93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98800" y="5257800"/>
            <a:ext cx="66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Julia’s former salary </a:t>
            </a:r>
            <a:r>
              <a:rPr b="0" lang="en-US" sz="3600" spc="-1" strike="noStrike">
                <a:solidFill>
                  <a:srgbClr val="339966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 $25,92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22960" y="14446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46520" y="2178000"/>
            <a:ext cx="66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Julia’s former salary </a:t>
            </a:r>
            <a:r>
              <a:rPr b="0" lang="en-US" sz="3600" spc="-1" strike="noStrike">
                <a:solidFill>
                  <a:srgbClr val="339966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 $25,92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30320" y="3024360"/>
            <a:ext cx="6056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e 8%: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.0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$25,926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07320" y="345132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$207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57360" y="4419720"/>
            <a:ext cx="60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$25,926 +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$2,074 = $28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694920" y="5246640"/>
            <a:ext cx="114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O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685800" y="1714680"/>
            <a:ext cx="6629400" cy="42289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65" name=""/>
          <p:cNvSpPr/>
          <p:nvPr/>
        </p:nvSpPr>
        <p:spPr>
          <a:xfrm>
            <a:off x="5105520" y="2254320"/>
            <a:ext cx="3581280" cy="393336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CC website reports that in  Fall ’01 the enrollment was 18,027 students.  19,400 are budgeted for Spring.  What percent of increase is assume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105520" y="2247840"/>
            <a:ext cx="3581280" cy="393336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CC website reports that in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all ’01 the enrollment was 18,027 student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9,400 are budgeted for Sp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800" spc="-1" strike="noStrike">
                <a:solidFill>
                  <a:srgbClr val="00cc99"/>
                </a:solidFill>
                <a:latin typeface="Comic Sans MS"/>
              </a:rPr>
              <a:t>What percent of increase is assumed?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77200" y="1203480"/>
            <a:ext cx="3172320" cy="1199880"/>
            <a:chOff x="277200" y="1203480"/>
            <a:chExt cx="3172320" cy="1199880"/>
          </a:xfrm>
        </p:grpSpPr>
        <p:sp>
          <p:nvSpPr>
            <p:cNvPr id="468" name=""/>
            <p:cNvSpPr/>
            <p:nvPr/>
          </p:nvSpPr>
          <p:spPr>
            <a:xfrm rot="20897400">
              <a:off x="307800" y="1498320"/>
              <a:ext cx="297180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20897400">
              <a:off x="304920" y="153648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14080" y="12780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7160" y="53481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8360" y="5958000"/>
            <a:ext cx="39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mic Sans MS"/>
              </a:rPr>
              <a:t>Assumed % increa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921400" y="2590920"/>
            <a:ext cx="5726160" cy="3504600"/>
            <a:chOff x="2921400" y="2590920"/>
            <a:chExt cx="5726160" cy="3504600"/>
          </a:xfrm>
        </p:grpSpPr>
        <p:sp>
          <p:nvSpPr>
            <p:cNvPr id="475" name=""/>
            <p:cNvSpPr/>
            <p:nvPr/>
          </p:nvSpPr>
          <p:spPr>
            <a:xfrm>
              <a:off x="4250520" y="2604960"/>
              <a:ext cx="603360" cy="3490560"/>
            </a:xfrm>
            <a:custGeom>
              <a:avLst/>
              <a:gdLst>
                <a:gd name="textAreaLeft" fmla="*/ 385560 w 603360"/>
                <a:gd name="textAreaRight" fmla="*/ 603360 w 603360"/>
                <a:gd name="textAreaTop" fmla="*/ 90720 h 3490560"/>
                <a:gd name="textAreaBottom" fmla="*/ 3399840 h 34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5910"/>
                  </a:lnTo>
                  <a:cubicBezTo>
                    <a:pt x="10800" y="16810"/>
                    <a:pt x="5400" y="17710"/>
                    <a:pt x="0" y="17710"/>
                  </a:cubicBezTo>
                  <a:cubicBezTo>
                    <a:pt x="5400" y="17710"/>
                    <a:pt x="10800" y="18610"/>
                    <a:pt x="10800" y="1951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2921400" y="2590920"/>
              <a:ext cx="5726160" cy="3490200"/>
              <a:chOff x="2921400" y="2590920"/>
              <a:chExt cx="5726160" cy="3490200"/>
            </a:xfrm>
          </p:grpSpPr>
          <p:grpSp>
            <p:nvGrpSpPr>
              <p:cNvPr id="477" name=""/>
              <p:cNvGrpSpPr/>
              <p:nvPr/>
            </p:nvGrpSpPr>
            <p:grpSpPr>
              <a:xfrm>
                <a:off x="4854240" y="2590920"/>
                <a:ext cx="3793320" cy="3490200"/>
                <a:chOff x="4854240" y="2590920"/>
                <a:chExt cx="3793320" cy="349020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4854240" y="2604960"/>
                  <a:ext cx="1676520" cy="3476160"/>
                </a:xfrm>
                <a:prstGeom prst="rect">
                  <a:avLst/>
                </a:prstGeom>
                <a:solidFill>
                  <a:srgbClr val="3333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66ccff"/>
                      </a:solidFill>
                      <a:latin typeface="Comic Sans MS"/>
                    </a:rPr>
                    <a:t>Fall</a:t>
                  </a:r>
                  <a:br>
                    <a:rPr sz="4400"/>
                  </a:br>
                  <a:r>
                    <a:rPr b="0" lang="en-US" sz="4400" spc="-1" strike="noStrike">
                      <a:solidFill>
                        <a:srgbClr val="66ccff"/>
                      </a:solidFill>
                      <a:latin typeface="Comic Sans MS"/>
                    </a:rPr>
                    <a:t>enroll-</a:t>
                  </a:r>
                  <a:br>
                    <a:rPr sz="4400"/>
                  </a:br>
                  <a:r>
                    <a:rPr b="0" lang="en-US" sz="4400" spc="-1" strike="noStrike">
                      <a:solidFill>
                        <a:srgbClr val="66ccff"/>
                      </a:solidFill>
                      <a:latin typeface="Comic Sans MS"/>
                    </a:rPr>
                    <a:t>ment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854240" y="2604960"/>
                  <a:ext cx="1676520" cy="578880"/>
                </a:xfrm>
                <a:prstGeom prst="rect">
                  <a:avLst/>
                </a:prstGeom>
                <a:solidFill>
                  <a:srgbClr val="00cc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Spring?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530760" y="2604960"/>
                  <a:ext cx="804600" cy="566280"/>
                </a:xfrm>
                <a:custGeom>
                  <a:avLst/>
                  <a:gdLst>
                    <a:gd name="textAreaLeft" fmla="*/ 0 w 804600"/>
                    <a:gd name="textAreaRight" fmla="*/ 290520 w 804600"/>
                    <a:gd name="textAreaTop" fmla="*/ 14760 h 566280"/>
                    <a:gd name="textAreaBottom" fmla="*/ 551520 h 566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530760" y="3184200"/>
                  <a:ext cx="804600" cy="2896920"/>
                </a:xfrm>
                <a:custGeom>
                  <a:avLst/>
                  <a:gdLst>
                    <a:gd name="textAreaLeft" fmla="*/ 0 w 804600"/>
                    <a:gd name="textAreaRight" fmla="*/ 290520 w 804600"/>
                    <a:gd name="textAreaTop" fmla="*/ 75240 h 2896920"/>
                    <a:gd name="textAreaBottom" fmla="*/ 2821680 h 289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338600" y="2590920"/>
                  <a:ext cx="1174320" cy="520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3333cc"/>
                      </a:solidFill>
                      <a:latin typeface="Comic Sans MS"/>
                    </a:rPr>
                    <a:t>% Inc.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358760" y="4404960"/>
                  <a:ext cx="1288800" cy="520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3333cc"/>
                      </a:solidFill>
                      <a:latin typeface="Comic Sans MS"/>
                    </a:rPr>
                    <a:t>18,027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2921400" y="5181480"/>
                <a:ext cx="1288800" cy="520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Comic Sans MS"/>
                  </a:rPr>
                  <a:t>19,4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5" name=""/>
          <p:cNvGrpSpPr/>
          <p:nvPr/>
        </p:nvGrpSpPr>
        <p:grpSpPr>
          <a:xfrm>
            <a:off x="533520" y="1278000"/>
            <a:ext cx="5224320" cy="2423520"/>
            <a:chOff x="533520" y="1278000"/>
            <a:chExt cx="5224320" cy="2423520"/>
          </a:xfrm>
        </p:grpSpPr>
        <p:pic>
          <p:nvPicPr>
            <p:cNvPr id="486" name="" descr=""/>
            <p:cNvPicPr/>
            <p:nvPr/>
          </p:nvPicPr>
          <p:blipFill>
            <a:blip r:embed="rId1"/>
            <a:stretch/>
          </p:blipFill>
          <p:spPr>
            <a:xfrm>
              <a:off x="533520" y="1835280"/>
              <a:ext cx="522432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3453120" y="1278000"/>
              <a:ext cx="220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Fall    Spr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7600" y="2754360"/>
              <a:ext cx="3603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FTSE – Full Time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Student Equivalent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1219320" y="2285640"/>
              <a:ext cx="822240" cy="4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2162160"/>
            <a:ext cx="7488360" cy="134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0400" y="144468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57200" y="2162160"/>
            <a:ext cx="7714440" cy="1134000"/>
            <a:chOff x="457200" y="2162160"/>
            <a:chExt cx="7714440" cy="1134000"/>
          </a:xfrm>
        </p:grpSpPr>
        <p:sp>
          <p:nvSpPr>
            <p:cNvPr id="494" name=""/>
            <p:cNvSpPr/>
            <p:nvPr/>
          </p:nvSpPr>
          <p:spPr>
            <a:xfrm>
              <a:off x="457200" y="2162160"/>
              <a:ext cx="2133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ercent Increa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008160" y="2290680"/>
              <a:ext cx="3773520" cy="1005480"/>
              <a:chOff x="3008160" y="2290680"/>
              <a:chExt cx="3773520" cy="1005480"/>
            </a:xfrm>
          </p:grpSpPr>
          <p:sp>
            <p:nvSpPr>
              <p:cNvPr id="496" name=""/>
              <p:cNvSpPr/>
              <p:nvPr/>
            </p:nvSpPr>
            <p:spPr>
              <a:xfrm>
                <a:off x="3008160" y="2290680"/>
                <a:ext cx="343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amount of increa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501000" y="2836440"/>
                <a:ext cx="21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initial amou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32280" y="2739600"/>
                <a:ext cx="3749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6860160" y="2532240"/>
              <a:ext cx="131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05600" y="2532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2700360" y="1447920"/>
            <a:ext cx="5224320" cy="603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654840" y="3505320"/>
            <a:ext cx="72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mount of increase = 19,400 – 18,0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15400" y="414504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1,37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609480" y="4800600"/>
            <a:ext cx="5831640" cy="1121400"/>
            <a:chOff x="609480" y="4800600"/>
            <a:chExt cx="5831640" cy="1121400"/>
          </a:xfrm>
        </p:grpSpPr>
        <p:sp>
          <p:nvSpPr>
            <p:cNvPr id="505" name=""/>
            <p:cNvSpPr/>
            <p:nvPr/>
          </p:nvSpPr>
          <p:spPr>
            <a:xfrm>
              <a:off x="609480" y="4800600"/>
              <a:ext cx="1560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ercent Incre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2492280" y="4977000"/>
              <a:ext cx="2741760" cy="945000"/>
              <a:chOff x="2492280" y="4977000"/>
              <a:chExt cx="2741760" cy="945000"/>
            </a:xfrm>
          </p:grpSpPr>
          <p:sp>
            <p:nvSpPr>
              <p:cNvPr id="507" name=""/>
              <p:cNvSpPr/>
              <p:nvPr/>
            </p:nvSpPr>
            <p:spPr>
              <a:xfrm>
                <a:off x="2530080" y="4977000"/>
                <a:ext cx="142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137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885400" y="5523120"/>
                <a:ext cx="117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18,02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492280" y="5378400"/>
                <a:ext cx="274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292360" y="5219640"/>
              <a:ext cx="114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05640" y="5219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6653520" y="5181480"/>
            <a:ext cx="13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0.0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28800" y="5861160"/>
            <a:ext cx="24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= 7.6% in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5008680" y="1577880"/>
            <a:ext cx="2900160" cy="4209840"/>
            <a:chOff x="5008680" y="1577880"/>
            <a:chExt cx="2900160" cy="4209840"/>
          </a:xfrm>
        </p:grpSpPr>
        <p:sp>
          <p:nvSpPr>
            <p:cNvPr id="154" name=""/>
            <p:cNvSpPr/>
            <p:nvPr/>
          </p:nvSpPr>
          <p:spPr>
            <a:xfrm>
              <a:off x="5613120" y="1846800"/>
              <a:ext cx="1715760" cy="3940920"/>
            </a:xfrm>
            <a:custGeom>
              <a:avLst/>
              <a:gdLst/>
              <a:ahLst/>
              <a:rect l="l" t="t" r="r" b="b"/>
              <a:pathLst>
                <a:path w="2162" h="3988">
                  <a:moveTo>
                    <a:pt x="305" y="721"/>
                  </a:moveTo>
                  <a:lnTo>
                    <a:pt x="305" y="2125"/>
                  </a:lnTo>
                  <a:lnTo>
                    <a:pt x="152" y="3342"/>
                  </a:lnTo>
                  <a:lnTo>
                    <a:pt x="0" y="3834"/>
                  </a:lnTo>
                  <a:lnTo>
                    <a:pt x="1061" y="3190"/>
                  </a:lnTo>
                  <a:lnTo>
                    <a:pt x="1325" y="3988"/>
                  </a:lnTo>
                  <a:lnTo>
                    <a:pt x="1896" y="3418"/>
                  </a:lnTo>
                  <a:lnTo>
                    <a:pt x="2162" y="2353"/>
                  </a:lnTo>
                  <a:lnTo>
                    <a:pt x="2084" y="949"/>
                  </a:lnTo>
                  <a:lnTo>
                    <a:pt x="949" y="0"/>
                  </a:lnTo>
                  <a:lnTo>
                    <a:pt x="305" y="721"/>
                  </a:lnTo>
                  <a:lnTo>
                    <a:pt x="305" y="721"/>
                  </a:lnTo>
                  <a:lnTo>
                    <a:pt x="305" y="721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08680" y="1577880"/>
              <a:ext cx="2900160" cy="3733920"/>
            </a:xfrm>
            <a:custGeom>
              <a:avLst/>
              <a:gdLst/>
              <a:ahLst/>
              <a:rect l="l" t="t" r="r" b="b"/>
              <a:pathLst>
                <a:path w="3654" h="3777">
                  <a:moveTo>
                    <a:pt x="1578" y="0"/>
                  </a:moveTo>
                  <a:lnTo>
                    <a:pt x="1184" y="508"/>
                  </a:lnTo>
                  <a:lnTo>
                    <a:pt x="530" y="1006"/>
                  </a:lnTo>
                  <a:lnTo>
                    <a:pt x="0" y="1320"/>
                  </a:lnTo>
                  <a:lnTo>
                    <a:pt x="1019" y="1439"/>
                  </a:lnTo>
                  <a:lnTo>
                    <a:pt x="1203" y="2230"/>
                  </a:lnTo>
                  <a:lnTo>
                    <a:pt x="1184" y="2912"/>
                  </a:lnTo>
                  <a:lnTo>
                    <a:pt x="1120" y="3741"/>
                  </a:lnTo>
                  <a:lnTo>
                    <a:pt x="1441" y="2985"/>
                  </a:lnTo>
                  <a:lnTo>
                    <a:pt x="1671" y="2112"/>
                  </a:lnTo>
                  <a:lnTo>
                    <a:pt x="1779" y="1363"/>
                  </a:lnTo>
                  <a:lnTo>
                    <a:pt x="1772" y="500"/>
                  </a:lnTo>
                  <a:lnTo>
                    <a:pt x="2257" y="1264"/>
                  </a:lnTo>
                  <a:lnTo>
                    <a:pt x="2479" y="2165"/>
                  </a:lnTo>
                  <a:lnTo>
                    <a:pt x="2496" y="3150"/>
                  </a:lnTo>
                  <a:lnTo>
                    <a:pt x="2479" y="3777"/>
                  </a:lnTo>
                  <a:lnTo>
                    <a:pt x="2810" y="2718"/>
                  </a:lnTo>
                  <a:lnTo>
                    <a:pt x="2930" y="1990"/>
                  </a:lnTo>
                  <a:lnTo>
                    <a:pt x="2920" y="1411"/>
                  </a:lnTo>
                  <a:lnTo>
                    <a:pt x="3654" y="1291"/>
                  </a:lnTo>
                  <a:lnTo>
                    <a:pt x="2856" y="683"/>
                  </a:lnTo>
                  <a:lnTo>
                    <a:pt x="2002" y="204"/>
                  </a:lnTo>
                  <a:lnTo>
                    <a:pt x="1578" y="0"/>
                  </a:lnTo>
                  <a:lnTo>
                    <a:pt x="1578" y="0"/>
                  </a:lnTo>
                  <a:lnTo>
                    <a:pt x="157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014480" y="1577880"/>
            <a:ext cx="5562000" cy="4705200"/>
            <a:chOff x="1014480" y="1577880"/>
            <a:chExt cx="5562000" cy="4705200"/>
          </a:xfrm>
        </p:grpSpPr>
        <p:sp>
          <p:nvSpPr>
            <p:cNvPr id="157" name=""/>
            <p:cNvSpPr/>
            <p:nvPr/>
          </p:nvSpPr>
          <p:spPr>
            <a:xfrm>
              <a:off x="5008320" y="4146480"/>
              <a:ext cx="1568160" cy="2131920"/>
            </a:xfrm>
            <a:custGeom>
              <a:avLst/>
              <a:gdLst/>
              <a:ahLst/>
              <a:rect l="l" t="t" r="r" b="b"/>
              <a:pathLst>
                <a:path w="1401" h="1952">
                  <a:moveTo>
                    <a:pt x="0" y="1789"/>
                  </a:moveTo>
                  <a:lnTo>
                    <a:pt x="0" y="1952"/>
                  </a:lnTo>
                  <a:lnTo>
                    <a:pt x="121" y="1943"/>
                  </a:lnTo>
                  <a:lnTo>
                    <a:pt x="329" y="1880"/>
                  </a:lnTo>
                  <a:lnTo>
                    <a:pt x="422" y="1834"/>
                  </a:lnTo>
                  <a:lnTo>
                    <a:pt x="466" y="1808"/>
                  </a:lnTo>
                  <a:lnTo>
                    <a:pt x="509" y="1777"/>
                  </a:lnTo>
                  <a:lnTo>
                    <a:pt x="551" y="1747"/>
                  </a:lnTo>
                  <a:lnTo>
                    <a:pt x="589" y="1713"/>
                  </a:lnTo>
                  <a:lnTo>
                    <a:pt x="627" y="1675"/>
                  </a:lnTo>
                  <a:lnTo>
                    <a:pt x="663" y="1637"/>
                  </a:lnTo>
                  <a:lnTo>
                    <a:pt x="697" y="1597"/>
                  </a:lnTo>
                  <a:lnTo>
                    <a:pt x="730" y="1553"/>
                  </a:lnTo>
                  <a:lnTo>
                    <a:pt x="760" y="1507"/>
                  </a:lnTo>
                  <a:lnTo>
                    <a:pt x="787" y="1462"/>
                  </a:lnTo>
                  <a:lnTo>
                    <a:pt x="813" y="1409"/>
                  </a:lnTo>
                  <a:lnTo>
                    <a:pt x="836" y="1355"/>
                  </a:lnTo>
                  <a:lnTo>
                    <a:pt x="871" y="1251"/>
                  </a:lnTo>
                  <a:lnTo>
                    <a:pt x="907" y="1028"/>
                  </a:lnTo>
                  <a:lnTo>
                    <a:pt x="1009" y="983"/>
                  </a:lnTo>
                  <a:lnTo>
                    <a:pt x="1101" y="945"/>
                  </a:lnTo>
                  <a:lnTo>
                    <a:pt x="1171" y="920"/>
                  </a:lnTo>
                  <a:lnTo>
                    <a:pt x="1241" y="895"/>
                  </a:lnTo>
                  <a:lnTo>
                    <a:pt x="1384" y="854"/>
                  </a:lnTo>
                  <a:lnTo>
                    <a:pt x="1401" y="624"/>
                  </a:lnTo>
                  <a:lnTo>
                    <a:pt x="1274" y="658"/>
                  </a:lnTo>
                  <a:lnTo>
                    <a:pt x="1146" y="698"/>
                  </a:lnTo>
                  <a:lnTo>
                    <a:pt x="1021" y="741"/>
                  </a:lnTo>
                  <a:lnTo>
                    <a:pt x="895" y="783"/>
                  </a:lnTo>
                  <a:lnTo>
                    <a:pt x="882" y="724"/>
                  </a:lnTo>
                  <a:lnTo>
                    <a:pt x="865" y="656"/>
                  </a:lnTo>
                  <a:lnTo>
                    <a:pt x="840" y="589"/>
                  </a:lnTo>
                  <a:lnTo>
                    <a:pt x="812" y="525"/>
                  </a:lnTo>
                  <a:lnTo>
                    <a:pt x="777" y="462"/>
                  </a:lnTo>
                  <a:lnTo>
                    <a:pt x="758" y="432"/>
                  </a:lnTo>
                  <a:lnTo>
                    <a:pt x="739" y="401"/>
                  </a:lnTo>
                  <a:lnTo>
                    <a:pt x="718" y="373"/>
                  </a:lnTo>
                  <a:lnTo>
                    <a:pt x="696" y="346"/>
                  </a:lnTo>
                  <a:lnTo>
                    <a:pt x="673" y="317"/>
                  </a:lnTo>
                  <a:lnTo>
                    <a:pt x="650" y="293"/>
                  </a:lnTo>
                  <a:lnTo>
                    <a:pt x="625" y="266"/>
                  </a:lnTo>
                  <a:lnTo>
                    <a:pt x="599" y="241"/>
                  </a:lnTo>
                  <a:lnTo>
                    <a:pt x="568" y="215"/>
                  </a:lnTo>
                  <a:lnTo>
                    <a:pt x="536" y="188"/>
                  </a:lnTo>
                  <a:lnTo>
                    <a:pt x="502" y="164"/>
                  </a:lnTo>
                  <a:lnTo>
                    <a:pt x="467" y="141"/>
                  </a:lnTo>
                  <a:lnTo>
                    <a:pt x="395" y="101"/>
                  </a:lnTo>
                  <a:lnTo>
                    <a:pt x="321" y="67"/>
                  </a:lnTo>
                  <a:lnTo>
                    <a:pt x="243" y="40"/>
                  </a:lnTo>
                  <a:lnTo>
                    <a:pt x="163" y="21"/>
                  </a:lnTo>
                  <a:lnTo>
                    <a:pt x="0" y="0"/>
                  </a:lnTo>
                  <a:lnTo>
                    <a:pt x="0" y="167"/>
                  </a:lnTo>
                  <a:lnTo>
                    <a:pt x="114" y="230"/>
                  </a:lnTo>
                  <a:lnTo>
                    <a:pt x="156" y="281"/>
                  </a:lnTo>
                  <a:lnTo>
                    <a:pt x="188" y="342"/>
                  </a:lnTo>
                  <a:lnTo>
                    <a:pt x="235" y="500"/>
                  </a:lnTo>
                  <a:lnTo>
                    <a:pt x="262" y="669"/>
                  </a:lnTo>
                  <a:lnTo>
                    <a:pt x="272" y="1006"/>
                  </a:lnTo>
                  <a:lnTo>
                    <a:pt x="205" y="1032"/>
                  </a:lnTo>
                  <a:lnTo>
                    <a:pt x="137" y="1057"/>
                  </a:lnTo>
                  <a:lnTo>
                    <a:pt x="68" y="1082"/>
                  </a:lnTo>
                  <a:lnTo>
                    <a:pt x="0" y="1106"/>
                  </a:lnTo>
                  <a:lnTo>
                    <a:pt x="0" y="1553"/>
                  </a:lnTo>
                  <a:lnTo>
                    <a:pt x="45" y="1524"/>
                  </a:lnTo>
                  <a:lnTo>
                    <a:pt x="89" y="1498"/>
                  </a:lnTo>
                  <a:lnTo>
                    <a:pt x="133" y="1469"/>
                  </a:lnTo>
                  <a:lnTo>
                    <a:pt x="177" y="1441"/>
                  </a:lnTo>
                  <a:lnTo>
                    <a:pt x="247" y="1399"/>
                  </a:lnTo>
                  <a:lnTo>
                    <a:pt x="218" y="1519"/>
                  </a:lnTo>
                  <a:lnTo>
                    <a:pt x="199" y="1580"/>
                  </a:lnTo>
                  <a:lnTo>
                    <a:pt x="175" y="1637"/>
                  </a:lnTo>
                  <a:lnTo>
                    <a:pt x="159" y="1663"/>
                  </a:lnTo>
                  <a:lnTo>
                    <a:pt x="144" y="1688"/>
                  </a:lnTo>
                  <a:lnTo>
                    <a:pt x="125" y="1713"/>
                  </a:lnTo>
                  <a:lnTo>
                    <a:pt x="106" y="1734"/>
                  </a:lnTo>
                  <a:lnTo>
                    <a:pt x="59" y="1768"/>
                  </a:lnTo>
                  <a:lnTo>
                    <a:pt x="0" y="1789"/>
                  </a:lnTo>
                  <a:lnTo>
                    <a:pt x="0" y="1789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17280" y="1741320"/>
              <a:ext cx="3774600" cy="4541760"/>
            </a:xfrm>
            <a:custGeom>
              <a:avLst/>
              <a:gdLst/>
              <a:ahLst/>
              <a:rect l="l" t="t" r="r" b="b"/>
              <a:pathLst>
                <a:path w="3373" h="4157">
                  <a:moveTo>
                    <a:pt x="2852" y="2617"/>
                  </a:moveTo>
                  <a:lnTo>
                    <a:pt x="2882" y="2671"/>
                  </a:lnTo>
                  <a:lnTo>
                    <a:pt x="2895" y="2728"/>
                  </a:lnTo>
                  <a:lnTo>
                    <a:pt x="2890" y="2855"/>
                  </a:lnTo>
                  <a:lnTo>
                    <a:pt x="2873" y="2914"/>
                  </a:lnTo>
                  <a:lnTo>
                    <a:pt x="2852" y="2971"/>
                  </a:lnTo>
                  <a:lnTo>
                    <a:pt x="2825" y="3041"/>
                  </a:lnTo>
                  <a:lnTo>
                    <a:pt x="2793" y="3108"/>
                  </a:lnTo>
                  <a:lnTo>
                    <a:pt x="2776" y="3140"/>
                  </a:lnTo>
                  <a:lnTo>
                    <a:pt x="2755" y="3170"/>
                  </a:lnTo>
                  <a:lnTo>
                    <a:pt x="2736" y="3201"/>
                  </a:lnTo>
                  <a:lnTo>
                    <a:pt x="2713" y="3229"/>
                  </a:lnTo>
                  <a:lnTo>
                    <a:pt x="2690" y="3254"/>
                  </a:lnTo>
                  <a:lnTo>
                    <a:pt x="2665" y="3279"/>
                  </a:lnTo>
                  <a:lnTo>
                    <a:pt x="2643" y="3304"/>
                  </a:lnTo>
                  <a:lnTo>
                    <a:pt x="2618" y="3328"/>
                  </a:lnTo>
                  <a:lnTo>
                    <a:pt x="2595" y="3353"/>
                  </a:lnTo>
                  <a:lnTo>
                    <a:pt x="2570" y="3378"/>
                  </a:lnTo>
                  <a:lnTo>
                    <a:pt x="2547" y="3402"/>
                  </a:lnTo>
                  <a:lnTo>
                    <a:pt x="2523" y="3427"/>
                  </a:lnTo>
                  <a:lnTo>
                    <a:pt x="2605" y="3399"/>
                  </a:lnTo>
                  <a:lnTo>
                    <a:pt x="2686" y="3368"/>
                  </a:lnTo>
                  <a:lnTo>
                    <a:pt x="2770" y="3338"/>
                  </a:lnTo>
                  <a:lnTo>
                    <a:pt x="2852" y="3307"/>
                  </a:lnTo>
                  <a:lnTo>
                    <a:pt x="3373" y="3300"/>
                  </a:lnTo>
                  <a:lnTo>
                    <a:pt x="2852" y="3754"/>
                  </a:lnTo>
                  <a:lnTo>
                    <a:pt x="2791" y="3792"/>
                  </a:lnTo>
                  <a:lnTo>
                    <a:pt x="2728" y="3828"/>
                  </a:lnTo>
                  <a:lnTo>
                    <a:pt x="2665" y="3864"/>
                  </a:lnTo>
                  <a:lnTo>
                    <a:pt x="2605" y="3898"/>
                  </a:lnTo>
                  <a:lnTo>
                    <a:pt x="2654" y="3942"/>
                  </a:lnTo>
                  <a:lnTo>
                    <a:pt x="2703" y="3973"/>
                  </a:lnTo>
                  <a:lnTo>
                    <a:pt x="2759" y="3990"/>
                  </a:lnTo>
                  <a:lnTo>
                    <a:pt x="2825" y="3994"/>
                  </a:lnTo>
                  <a:lnTo>
                    <a:pt x="2852" y="3990"/>
                  </a:lnTo>
                  <a:lnTo>
                    <a:pt x="3308" y="3948"/>
                  </a:lnTo>
                  <a:lnTo>
                    <a:pt x="2852" y="4153"/>
                  </a:lnTo>
                  <a:lnTo>
                    <a:pt x="2601" y="4138"/>
                  </a:lnTo>
                  <a:lnTo>
                    <a:pt x="2365" y="4056"/>
                  </a:lnTo>
                  <a:lnTo>
                    <a:pt x="2331" y="4039"/>
                  </a:lnTo>
                  <a:lnTo>
                    <a:pt x="2228" y="4079"/>
                  </a:lnTo>
                  <a:lnTo>
                    <a:pt x="2125" y="4111"/>
                  </a:lnTo>
                  <a:lnTo>
                    <a:pt x="2019" y="4130"/>
                  </a:lnTo>
                  <a:lnTo>
                    <a:pt x="1911" y="4130"/>
                  </a:lnTo>
                  <a:lnTo>
                    <a:pt x="1848" y="4104"/>
                  </a:lnTo>
                  <a:lnTo>
                    <a:pt x="1787" y="4073"/>
                  </a:lnTo>
                  <a:lnTo>
                    <a:pt x="1728" y="4037"/>
                  </a:lnTo>
                  <a:lnTo>
                    <a:pt x="1675" y="3995"/>
                  </a:lnTo>
                  <a:lnTo>
                    <a:pt x="1631" y="3948"/>
                  </a:lnTo>
                  <a:lnTo>
                    <a:pt x="1601" y="3893"/>
                  </a:lnTo>
                  <a:lnTo>
                    <a:pt x="1584" y="3828"/>
                  </a:lnTo>
                  <a:lnTo>
                    <a:pt x="1585" y="3756"/>
                  </a:lnTo>
                  <a:lnTo>
                    <a:pt x="1603" y="3697"/>
                  </a:lnTo>
                  <a:lnTo>
                    <a:pt x="1627" y="3642"/>
                  </a:lnTo>
                  <a:lnTo>
                    <a:pt x="1658" y="3589"/>
                  </a:lnTo>
                  <a:lnTo>
                    <a:pt x="1675" y="3562"/>
                  </a:lnTo>
                  <a:lnTo>
                    <a:pt x="1692" y="3537"/>
                  </a:lnTo>
                  <a:lnTo>
                    <a:pt x="1711" y="3513"/>
                  </a:lnTo>
                  <a:lnTo>
                    <a:pt x="1730" y="3488"/>
                  </a:lnTo>
                  <a:lnTo>
                    <a:pt x="1751" y="3463"/>
                  </a:lnTo>
                  <a:lnTo>
                    <a:pt x="1772" y="3440"/>
                  </a:lnTo>
                  <a:lnTo>
                    <a:pt x="1814" y="3395"/>
                  </a:lnTo>
                  <a:lnTo>
                    <a:pt x="1853" y="3353"/>
                  </a:lnTo>
                  <a:lnTo>
                    <a:pt x="1842" y="3131"/>
                  </a:lnTo>
                  <a:lnTo>
                    <a:pt x="1848" y="3055"/>
                  </a:lnTo>
                  <a:lnTo>
                    <a:pt x="1768" y="3079"/>
                  </a:lnTo>
                  <a:lnTo>
                    <a:pt x="1688" y="3106"/>
                  </a:lnTo>
                  <a:lnTo>
                    <a:pt x="1608" y="3131"/>
                  </a:lnTo>
                  <a:lnTo>
                    <a:pt x="1528" y="3157"/>
                  </a:lnTo>
                  <a:lnTo>
                    <a:pt x="1449" y="3182"/>
                  </a:lnTo>
                  <a:lnTo>
                    <a:pt x="1369" y="3207"/>
                  </a:lnTo>
                  <a:lnTo>
                    <a:pt x="1207" y="3252"/>
                  </a:lnTo>
                  <a:lnTo>
                    <a:pt x="1080" y="3286"/>
                  </a:lnTo>
                  <a:lnTo>
                    <a:pt x="614" y="4007"/>
                  </a:lnTo>
                  <a:lnTo>
                    <a:pt x="517" y="4157"/>
                  </a:lnTo>
                  <a:lnTo>
                    <a:pt x="91" y="4157"/>
                  </a:lnTo>
                  <a:lnTo>
                    <a:pt x="591" y="3385"/>
                  </a:lnTo>
                  <a:lnTo>
                    <a:pt x="424" y="3397"/>
                  </a:lnTo>
                  <a:lnTo>
                    <a:pt x="256" y="3383"/>
                  </a:lnTo>
                  <a:lnTo>
                    <a:pt x="108" y="3321"/>
                  </a:lnTo>
                  <a:lnTo>
                    <a:pt x="47" y="3265"/>
                  </a:lnTo>
                  <a:lnTo>
                    <a:pt x="23" y="3229"/>
                  </a:lnTo>
                  <a:lnTo>
                    <a:pt x="0" y="3188"/>
                  </a:lnTo>
                  <a:lnTo>
                    <a:pt x="0" y="3066"/>
                  </a:lnTo>
                  <a:lnTo>
                    <a:pt x="17" y="3011"/>
                  </a:lnTo>
                  <a:lnTo>
                    <a:pt x="43" y="2958"/>
                  </a:lnTo>
                  <a:lnTo>
                    <a:pt x="59" y="2933"/>
                  </a:lnTo>
                  <a:lnTo>
                    <a:pt x="76" y="2908"/>
                  </a:lnTo>
                  <a:lnTo>
                    <a:pt x="95" y="2883"/>
                  </a:lnTo>
                  <a:lnTo>
                    <a:pt x="114" y="2859"/>
                  </a:lnTo>
                  <a:lnTo>
                    <a:pt x="156" y="2813"/>
                  </a:lnTo>
                  <a:lnTo>
                    <a:pt x="196" y="2769"/>
                  </a:lnTo>
                  <a:lnTo>
                    <a:pt x="245" y="2726"/>
                  </a:lnTo>
                  <a:lnTo>
                    <a:pt x="294" y="2682"/>
                  </a:lnTo>
                  <a:lnTo>
                    <a:pt x="346" y="2640"/>
                  </a:lnTo>
                  <a:lnTo>
                    <a:pt x="397" y="2598"/>
                  </a:lnTo>
                  <a:lnTo>
                    <a:pt x="450" y="2558"/>
                  </a:lnTo>
                  <a:lnTo>
                    <a:pt x="504" y="2518"/>
                  </a:lnTo>
                  <a:lnTo>
                    <a:pt x="559" y="2480"/>
                  </a:lnTo>
                  <a:lnTo>
                    <a:pt x="614" y="2442"/>
                  </a:lnTo>
                  <a:lnTo>
                    <a:pt x="661" y="2412"/>
                  </a:lnTo>
                  <a:lnTo>
                    <a:pt x="709" y="2380"/>
                  </a:lnTo>
                  <a:lnTo>
                    <a:pt x="758" y="2349"/>
                  </a:lnTo>
                  <a:lnTo>
                    <a:pt x="806" y="2319"/>
                  </a:lnTo>
                  <a:lnTo>
                    <a:pt x="855" y="2290"/>
                  </a:lnTo>
                  <a:lnTo>
                    <a:pt x="905" y="2260"/>
                  </a:lnTo>
                  <a:lnTo>
                    <a:pt x="954" y="2231"/>
                  </a:lnTo>
                  <a:lnTo>
                    <a:pt x="1004" y="2201"/>
                  </a:lnTo>
                  <a:lnTo>
                    <a:pt x="1053" y="2173"/>
                  </a:lnTo>
                  <a:lnTo>
                    <a:pt x="1102" y="2144"/>
                  </a:lnTo>
                  <a:lnTo>
                    <a:pt x="1152" y="2115"/>
                  </a:lnTo>
                  <a:lnTo>
                    <a:pt x="1201" y="2087"/>
                  </a:lnTo>
                  <a:lnTo>
                    <a:pt x="1251" y="2058"/>
                  </a:lnTo>
                  <a:lnTo>
                    <a:pt x="1300" y="2030"/>
                  </a:lnTo>
                  <a:lnTo>
                    <a:pt x="1350" y="2001"/>
                  </a:lnTo>
                  <a:lnTo>
                    <a:pt x="1397" y="1973"/>
                  </a:lnTo>
                  <a:lnTo>
                    <a:pt x="1201" y="2007"/>
                  </a:lnTo>
                  <a:lnTo>
                    <a:pt x="1006" y="2043"/>
                  </a:lnTo>
                  <a:lnTo>
                    <a:pt x="810" y="2077"/>
                  </a:lnTo>
                  <a:lnTo>
                    <a:pt x="614" y="2112"/>
                  </a:lnTo>
                  <a:lnTo>
                    <a:pt x="614" y="1555"/>
                  </a:lnTo>
                  <a:lnTo>
                    <a:pt x="774" y="1519"/>
                  </a:lnTo>
                  <a:lnTo>
                    <a:pt x="813" y="1260"/>
                  </a:lnTo>
                  <a:lnTo>
                    <a:pt x="827" y="998"/>
                  </a:lnTo>
                  <a:lnTo>
                    <a:pt x="796" y="1034"/>
                  </a:lnTo>
                  <a:lnTo>
                    <a:pt x="764" y="1070"/>
                  </a:lnTo>
                  <a:lnTo>
                    <a:pt x="734" y="1104"/>
                  </a:lnTo>
                  <a:lnTo>
                    <a:pt x="701" y="1140"/>
                  </a:lnTo>
                  <a:lnTo>
                    <a:pt x="678" y="1167"/>
                  </a:lnTo>
                  <a:lnTo>
                    <a:pt x="656" y="1194"/>
                  </a:lnTo>
                  <a:lnTo>
                    <a:pt x="635" y="1222"/>
                  </a:lnTo>
                  <a:lnTo>
                    <a:pt x="614" y="1251"/>
                  </a:lnTo>
                  <a:lnTo>
                    <a:pt x="614" y="777"/>
                  </a:lnTo>
                  <a:lnTo>
                    <a:pt x="661" y="743"/>
                  </a:lnTo>
                  <a:lnTo>
                    <a:pt x="711" y="709"/>
                  </a:lnTo>
                  <a:lnTo>
                    <a:pt x="760" y="673"/>
                  </a:lnTo>
                  <a:lnTo>
                    <a:pt x="810" y="640"/>
                  </a:lnTo>
                  <a:lnTo>
                    <a:pt x="793" y="519"/>
                  </a:lnTo>
                  <a:lnTo>
                    <a:pt x="777" y="454"/>
                  </a:lnTo>
                  <a:lnTo>
                    <a:pt x="758" y="391"/>
                  </a:lnTo>
                  <a:lnTo>
                    <a:pt x="734" y="331"/>
                  </a:lnTo>
                  <a:lnTo>
                    <a:pt x="717" y="302"/>
                  </a:lnTo>
                  <a:lnTo>
                    <a:pt x="701" y="275"/>
                  </a:lnTo>
                  <a:lnTo>
                    <a:pt x="682" y="253"/>
                  </a:lnTo>
                  <a:lnTo>
                    <a:pt x="661" y="230"/>
                  </a:lnTo>
                  <a:lnTo>
                    <a:pt x="614" y="194"/>
                  </a:lnTo>
                  <a:lnTo>
                    <a:pt x="614" y="7"/>
                  </a:lnTo>
                  <a:lnTo>
                    <a:pt x="880" y="70"/>
                  </a:lnTo>
                  <a:lnTo>
                    <a:pt x="986" y="123"/>
                  </a:lnTo>
                  <a:lnTo>
                    <a:pt x="1038" y="154"/>
                  </a:lnTo>
                  <a:lnTo>
                    <a:pt x="1085" y="188"/>
                  </a:lnTo>
                  <a:lnTo>
                    <a:pt x="1131" y="224"/>
                  </a:lnTo>
                  <a:lnTo>
                    <a:pt x="1173" y="264"/>
                  </a:lnTo>
                  <a:lnTo>
                    <a:pt x="1215" y="306"/>
                  </a:lnTo>
                  <a:lnTo>
                    <a:pt x="1255" y="350"/>
                  </a:lnTo>
                  <a:lnTo>
                    <a:pt x="1319" y="312"/>
                  </a:lnTo>
                  <a:lnTo>
                    <a:pt x="1384" y="274"/>
                  </a:lnTo>
                  <a:lnTo>
                    <a:pt x="1450" y="236"/>
                  </a:lnTo>
                  <a:lnTo>
                    <a:pt x="1517" y="199"/>
                  </a:lnTo>
                  <a:lnTo>
                    <a:pt x="1585" y="165"/>
                  </a:lnTo>
                  <a:lnTo>
                    <a:pt x="1654" y="131"/>
                  </a:lnTo>
                  <a:lnTo>
                    <a:pt x="1722" y="101"/>
                  </a:lnTo>
                  <a:lnTo>
                    <a:pt x="1793" y="74"/>
                  </a:lnTo>
                  <a:lnTo>
                    <a:pt x="1796" y="74"/>
                  </a:lnTo>
                  <a:lnTo>
                    <a:pt x="1844" y="268"/>
                  </a:lnTo>
                  <a:lnTo>
                    <a:pt x="1719" y="323"/>
                  </a:lnTo>
                  <a:lnTo>
                    <a:pt x="1660" y="353"/>
                  </a:lnTo>
                  <a:lnTo>
                    <a:pt x="1599" y="388"/>
                  </a:lnTo>
                  <a:lnTo>
                    <a:pt x="1542" y="422"/>
                  </a:lnTo>
                  <a:lnTo>
                    <a:pt x="1483" y="458"/>
                  </a:lnTo>
                  <a:lnTo>
                    <a:pt x="1426" y="494"/>
                  </a:lnTo>
                  <a:lnTo>
                    <a:pt x="1369" y="532"/>
                  </a:lnTo>
                  <a:lnTo>
                    <a:pt x="1391" y="589"/>
                  </a:lnTo>
                  <a:lnTo>
                    <a:pt x="1412" y="646"/>
                  </a:lnTo>
                  <a:lnTo>
                    <a:pt x="1460" y="922"/>
                  </a:lnTo>
                  <a:lnTo>
                    <a:pt x="1458" y="1062"/>
                  </a:lnTo>
                  <a:lnTo>
                    <a:pt x="1439" y="1199"/>
                  </a:lnTo>
                  <a:lnTo>
                    <a:pt x="1428" y="1249"/>
                  </a:lnTo>
                  <a:lnTo>
                    <a:pt x="1412" y="1300"/>
                  </a:lnTo>
                  <a:lnTo>
                    <a:pt x="1378" y="1397"/>
                  </a:lnTo>
                  <a:lnTo>
                    <a:pt x="1519" y="1370"/>
                  </a:lnTo>
                  <a:lnTo>
                    <a:pt x="1660" y="1348"/>
                  </a:lnTo>
                  <a:lnTo>
                    <a:pt x="1941" y="1300"/>
                  </a:lnTo>
                  <a:lnTo>
                    <a:pt x="2783" y="0"/>
                  </a:lnTo>
                  <a:lnTo>
                    <a:pt x="2852" y="0"/>
                  </a:lnTo>
                  <a:lnTo>
                    <a:pt x="3209" y="0"/>
                  </a:lnTo>
                  <a:lnTo>
                    <a:pt x="2852" y="549"/>
                  </a:lnTo>
                  <a:lnTo>
                    <a:pt x="2401" y="1247"/>
                  </a:lnTo>
                  <a:lnTo>
                    <a:pt x="2793" y="1235"/>
                  </a:lnTo>
                  <a:lnTo>
                    <a:pt x="2852" y="1239"/>
                  </a:lnTo>
                  <a:lnTo>
                    <a:pt x="3040" y="1275"/>
                  </a:lnTo>
                  <a:lnTo>
                    <a:pt x="3110" y="1321"/>
                  </a:lnTo>
                  <a:lnTo>
                    <a:pt x="3127" y="1355"/>
                  </a:lnTo>
                  <a:lnTo>
                    <a:pt x="3129" y="1397"/>
                  </a:lnTo>
                  <a:lnTo>
                    <a:pt x="3116" y="1435"/>
                  </a:lnTo>
                  <a:lnTo>
                    <a:pt x="3095" y="1471"/>
                  </a:lnTo>
                  <a:lnTo>
                    <a:pt x="3072" y="1507"/>
                  </a:lnTo>
                  <a:lnTo>
                    <a:pt x="3044" y="1541"/>
                  </a:lnTo>
                  <a:lnTo>
                    <a:pt x="3013" y="1574"/>
                  </a:lnTo>
                  <a:lnTo>
                    <a:pt x="2983" y="1606"/>
                  </a:lnTo>
                  <a:lnTo>
                    <a:pt x="2951" y="1635"/>
                  </a:lnTo>
                  <a:lnTo>
                    <a:pt x="2922" y="1661"/>
                  </a:lnTo>
                  <a:lnTo>
                    <a:pt x="2888" y="1692"/>
                  </a:lnTo>
                  <a:lnTo>
                    <a:pt x="2852" y="1720"/>
                  </a:lnTo>
                  <a:lnTo>
                    <a:pt x="2816" y="1751"/>
                  </a:lnTo>
                  <a:lnTo>
                    <a:pt x="2778" y="1781"/>
                  </a:lnTo>
                  <a:lnTo>
                    <a:pt x="2740" y="1811"/>
                  </a:lnTo>
                  <a:lnTo>
                    <a:pt x="2701" y="1842"/>
                  </a:lnTo>
                  <a:lnTo>
                    <a:pt x="2663" y="1872"/>
                  </a:lnTo>
                  <a:lnTo>
                    <a:pt x="2625" y="1901"/>
                  </a:lnTo>
                  <a:lnTo>
                    <a:pt x="2587" y="1929"/>
                  </a:lnTo>
                  <a:lnTo>
                    <a:pt x="2549" y="1960"/>
                  </a:lnTo>
                  <a:lnTo>
                    <a:pt x="2509" y="1988"/>
                  </a:lnTo>
                  <a:lnTo>
                    <a:pt x="2471" y="2015"/>
                  </a:lnTo>
                  <a:lnTo>
                    <a:pt x="2433" y="2045"/>
                  </a:lnTo>
                  <a:lnTo>
                    <a:pt x="2393" y="2072"/>
                  </a:lnTo>
                  <a:lnTo>
                    <a:pt x="2354" y="2100"/>
                  </a:lnTo>
                  <a:lnTo>
                    <a:pt x="2316" y="2129"/>
                  </a:lnTo>
                  <a:lnTo>
                    <a:pt x="2276" y="2155"/>
                  </a:lnTo>
                  <a:lnTo>
                    <a:pt x="2236" y="2184"/>
                  </a:lnTo>
                  <a:lnTo>
                    <a:pt x="2196" y="2211"/>
                  </a:lnTo>
                  <a:lnTo>
                    <a:pt x="2158" y="2237"/>
                  </a:lnTo>
                  <a:lnTo>
                    <a:pt x="2118" y="2266"/>
                  </a:lnTo>
                  <a:lnTo>
                    <a:pt x="2078" y="2292"/>
                  </a:lnTo>
                  <a:lnTo>
                    <a:pt x="2038" y="2319"/>
                  </a:lnTo>
                  <a:lnTo>
                    <a:pt x="1998" y="2347"/>
                  </a:lnTo>
                  <a:lnTo>
                    <a:pt x="1958" y="2374"/>
                  </a:lnTo>
                  <a:lnTo>
                    <a:pt x="1918" y="2401"/>
                  </a:lnTo>
                  <a:lnTo>
                    <a:pt x="1878" y="2427"/>
                  </a:lnTo>
                  <a:lnTo>
                    <a:pt x="1838" y="2454"/>
                  </a:lnTo>
                  <a:lnTo>
                    <a:pt x="1798" y="2482"/>
                  </a:lnTo>
                  <a:lnTo>
                    <a:pt x="1758" y="2509"/>
                  </a:lnTo>
                  <a:lnTo>
                    <a:pt x="1719" y="2536"/>
                  </a:lnTo>
                  <a:lnTo>
                    <a:pt x="1679" y="2562"/>
                  </a:lnTo>
                  <a:lnTo>
                    <a:pt x="1639" y="2591"/>
                  </a:lnTo>
                  <a:lnTo>
                    <a:pt x="1601" y="2617"/>
                  </a:lnTo>
                  <a:lnTo>
                    <a:pt x="1720" y="2583"/>
                  </a:lnTo>
                  <a:lnTo>
                    <a:pt x="1840" y="2551"/>
                  </a:lnTo>
                  <a:lnTo>
                    <a:pt x="1962" y="2522"/>
                  </a:lnTo>
                  <a:lnTo>
                    <a:pt x="2085" y="2501"/>
                  </a:lnTo>
                  <a:lnTo>
                    <a:pt x="2110" y="2479"/>
                  </a:lnTo>
                  <a:lnTo>
                    <a:pt x="2135" y="2454"/>
                  </a:lnTo>
                  <a:lnTo>
                    <a:pt x="2186" y="2410"/>
                  </a:lnTo>
                  <a:lnTo>
                    <a:pt x="2241" y="2368"/>
                  </a:lnTo>
                  <a:lnTo>
                    <a:pt x="2298" y="2328"/>
                  </a:lnTo>
                  <a:lnTo>
                    <a:pt x="2359" y="2294"/>
                  </a:lnTo>
                  <a:lnTo>
                    <a:pt x="2420" y="2266"/>
                  </a:lnTo>
                  <a:lnTo>
                    <a:pt x="2485" y="2243"/>
                  </a:lnTo>
                  <a:lnTo>
                    <a:pt x="2553" y="2228"/>
                  </a:lnTo>
                  <a:lnTo>
                    <a:pt x="2701" y="2205"/>
                  </a:lnTo>
                  <a:lnTo>
                    <a:pt x="2852" y="2201"/>
                  </a:lnTo>
                  <a:lnTo>
                    <a:pt x="3183" y="2351"/>
                  </a:lnTo>
                  <a:lnTo>
                    <a:pt x="2852" y="2368"/>
                  </a:lnTo>
                  <a:lnTo>
                    <a:pt x="2825" y="2363"/>
                  </a:lnTo>
                  <a:lnTo>
                    <a:pt x="2690" y="2391"/>
                  </a:lnTo>
                  <a:lnTo>
                    <a:pt x="2639" y="2431"/>
                  </a:lnTo>
                  <a:lnTo>
                    <a:pt x="2587" y="2484"/>
                  </a:lnTo>
                  <a:lnTo>
                    <a:pt x="2713" y="2518"/>
                  </a:lnTo>
                  <a:lnTo>
                    <a:pt x="2823" y="2581"/>
                  </a:lnTo>
                  <a:lnTo>
                    <a:pt x="2852" y="2617"/>
                  </a:lnTo>
                  <a:lnTo>
                    <a:pt x="2852" y="2617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91240" y="1749960"/>
              <a:ext cx="1782720" cy="2383200"/>
            </a:xfrm>
            <a:custGeom>
              <a:avLst/>
              <a:gdLst/>
              <a:ahLst/>
              <a:rect l="l" t="t" r="r" b="b"/>
              <a:pathLst>
                <a:path w="1593" h="2183">
                  <a:moveTo>
                    <a:pt x="1175" y="187"/>
                  </a:moveTo>
                  <a:lnTo>
                    <a:pt x="1498" y="128"/>
                  </a:lnTo>
                  <a:lnTo>
                    <a:pt x="1175" y="0"/>
                  </a:lnTo>
                  <a:lnTo>
                    <a:pt x="926" y="4"/>
                  </a:lnTo>
                  <a:lnTo>
                    <a:pt x="680" y="63"/>
                  </a:lnTo>
                  <a:lnTo>
                    <a:pt x="593" y="105"/>
                  </a:lnTo>
                  <a:lnTo>
                    <a:pt x="507" y="158"/>
                  </a:lnTo>
                  <a:lnTo>
                    <a:pt x="468" y="187"/>
                  </a:lnTo>
                  <a:lnTo>
                    <a:pt x="430" y="219"/>
                  </a:lnTo>
                  <a:lnTo>
                    <a:pt x="391" y="253"/>
                  </a:lnTo>
                  <a:lnTo>
                    <a:pt x="357" y="288"/>
                  </a:lnTo>
                  <a:lnTo>
                    <a:pt x="323" y="326"/>
                  </a:lnTo>
                  <a:lnTo>
                    <a:pt x="293" y="364"/>
                  </a:lnTo>
                  <a:lnTo>
                    <a:pt x="262" y="403"/>
                  </a:lnTo>
                  <a:lnTo>
                    <a:pt x="236" y="447"/>
                  </a:lnTo>
                  <a:lnTo>
                    <a:pt x="190" y="535"/>
                  </a:lnTo>
                  <a:lnTo>
                    <a:pt x="154" y="626"/>
                  </a:lnTo>
                  <a:lnTo>
                    <a:pt x="118" y="765"/>
                  </a:lnTo>
                  <a:lnTo>
                    <a:pt x="102" y="909"/>
                  </a:lnTo>
                  <a:lnTo>
                    <a:pt x="106" y="1057"/>
                  </a:lnTo>
                  <a:lnTo>
                    <a:pt x="125" y="1198"/>
                  </a:lnTo>
                  <a:lnTo>
                    <a:pt x="135" y="1246"/>
                  </a:lnTo>
                  <a:lnTo>
                    <a:pt x="148" y="1291"/>
                  </a:lnTo>
                  <a:lnTo>
                    <a:pt x="163" y="1335"/>
                  </a:lnTo>
                  <a:lnTo>
                    <a:pt x="182" y="1379"/>
                  </a:lnTo>
                  <a:lnTo>
                    <a:pt x="201" y="1420"/>
                  </a:lnTo>
                  <a:lnTo>
                    <a:pt x="224" y="1462"/>
                  </a:lnTo>
                  <a:lnTo>
                    <a:pt x="247" y="1504"/>
                  </a:lnTo>
                  <a:lnTo>
                    <a:pt x="272" y="1546"/>
                  </a:lnTo>
                  <a:lnTo>
                    <a:pt x="232" y="1591"/>
                  </a:lnTo>
                  <a:lnTo>
                    <a:pt x="190" y="1639"/>
                  </a:lnTo>
                  <a:lnTo>
                    <a:pt x="152" y="1688"/>
                  </a:lnTo>
                  <a:lnTo>
                    <a:pt x="114" y="1738"/>
                  </a:lnTo>
                  <a:lnTo>
                    <a:pt x="80" y="1789"/>
                  </a:lnTo>
                  <a:lnTo>
                    <a:pt x="49" y="1844"/>
                  </a:lnTo>
                  <a:lnTo>
                    <a:pt x="23" y="1901"/>
                  </a:lnTo>
                  <a:lnTo>
                    <a:pt x="2" y="1960"/>
                  </a:lnTo>
                  <a:lnTo>
                    <a:pt x="0" y="2025"/>
                  </a:lnTo>
                  <a:lnTo>
                    <a:pt x="13" y="2074"/>
                  </a:lnTo>
                  <a:lnTo>
                    <a:pt x="28" y="2095"/>
                  </a:lnTo>
                  <a:lnTo>
                    <a:pt x="47" y="2112"/>
                  </a:lnTo>
                  <a:lnTo>
                    <a:pt x="102" y="2147"/>
                  </a:lnTo>
                  <a:lnTo>
                    <a:pt x="232" y="2175"/>
                  </a:lnTo>
                  <a:lnTo>
                    <a:pt x="365" y="2183"/>
                  </a:lnTo>
                  <a:lnTo>
                    <a:pt x="631" y="2175"/>
                  </a:lnTo>
                  <a:lnTo>
                    <a:pt x="903" y="2145"/>
                  </a:lnTo>
                  <a:lnTo>
                    <a:pt x="1175" y="2105"/>
                  </a:lnTo>
                  <a:lnTo>
                    <a:pt x="1593" y="1821"/>
                  </a:lnTo>
                  <a:lnTo>
                    <a:pt x="1175" y="1548"/>
                  </a:lnTo>
                  <a:lnTo>
                    <a:pt x="1076" y="1569"/>
                  </a:lnTo>
                  <a:lnTo>
                    <a:pt x="977" y="1590"/>
                  </a:lnTo>
                  <a:lnTo>
                    <a:pt x="998" y="1542"/>
                  </a:lnTo>
                  <a:lnTo>
                    <a:pt x="1019" y="1498"/>
                  </a:lnTo>
                  <a:lnTo>
                    <a:pt x="1042" y="1453"/>
                  </a:lnTo>
                  <a:lnTo>
                    <a:pt x="1065" y="1409"/>
                  </a:lnTo>
                  <a:lnTo>
                    <a:pt x="1091" y="1367"/>
                  </a:lnTo>
                  <a:lnTo>
                    <a:pt x="1118" y="1325"/>
                  </a:lnTo>
                  <a:lnTo>
                    <a:pt x="1144" y="1284"/>
                  </a:lnTo>
                  <a:lnTo>
                    <a:pt x="1175" y="1244"/>
                  </a:lnTo>
                  <a:lnTo>
                    <a:pt x="1498" y="808"/>
                  </a:lnTo>
                  <a:lnTo>
                    <a:pt x="1175" y="770"/>
                  </a:lnTo>
                  <a:lnTo>
                    <a:pt x="1118" y="812"/>
                  </a:lnTo>
                  <a:lnTo>
                    <a:pt x="1061" y="856"/>
                  </a:lnTo>
                  <a:lnTo>
                    <a:pt x="1006" y="898"/>
                  </a:lnTo>
                  <a:lnTo>
                    <a:pt x="950" y="941"/>
                  </a:lnTo>
                  <a:lnTo>
                    <a:pt x="897" y="983"/>
                  </a:lnTo>
                  <a:lnTo>
                    <a:pt x="844" y="1025"/>
                  </a:lnTo>
                  <a:lnTo>
                    <a:pt x="791" y="1067"/>
                  </a:lnTo>
                  <a:lnTo>
                    <a:pt x="739" y="1111"/>
                  </a:lnTo>
                  <a:lnTo>
                    <a:pt x="738" y="945"/>
                  </a:lnTo>
                  <a:lnTo>
                    <a:pt x="739" y="780"/>
                  </a:lnTo>
                  <a:lnTo>
                    <a:pt x="753" y="599"/>
                  </a:lnTo>
                  <a:lnTo>
                    <a:pt x="770" y="500"/>
                  </a:lnTo>
                  <a:lnTo>
                    <a:pt x="781" y="451"/>
                  </a:lnTo>
                  <a:lnTo>
                    <a:pt x="795" y="402"/>
                  </a:lnTo>
                  <a:lnTo>
                    <a:pt x="812" y="356"/>
                  </a:lnTo>
                  <a:lnTo>
                    <a:pt x="833" y="312"/>
                  </a:lnTo>
                  <a:lnTo>
                    <a:pt x="855" y="272"/>
                  </a:lnTo>
                  <a:lnTo>
                    <a:pt x="884" y="236"/>
                  </a:lnTo>
                  <a:lnTo>
                    <a:pt x="916" y="208"/>
                  </a:lnTo>
                  <a:lnTo>
                    <a:pt x="954" y="183"/>
                  </a:lnTo>
                  <a:lnTo>
                    <a:pt x="1042" y="156"/>
                  </a:lnTo>
                  <a:lnTo>
                    <a:pt x="1175" y="187"/>
                  </a:lnTo>
                  <a:lnTo>
                    <a:pt x="1175" y="187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76200" y="1931400"/>
              <a:ext cx="4731840" cy="4146480"/>
            </a:xfrm>
            <a:custGeom>
              <a:avLst/>
              <a:gdLst/>
              <a:ahLst/>
              <a:rect l="l" t="t" r="r" b="b"/>
              <a:pathLst>
                <a:path w="4230" h="3796">
                  <a:moveTo>
                    <a:pt x="1494" y="0"/>
                  </a:moveTo>
                  <a:lnTo>
                    <a:pt x="1838" y="64"/>
                  </a:lnTo>
                  <a:lnTo>
                    <a:pt x="1652" y="409"/>
                  </a:lnTo>
                  <a:lnTo>
                    <a:pt x="1247" y="802"/>
                  </a:lnTo>
                  <a:lnTo>
                    <a:pt x="1053" y="696"/>
                  </a:lnTo>
                  <a:lnTo>
                    <a:pt x="741" y="1203"/>
                  </a:lnTo>
                  <a:lnTo>
                    <a:pt x="812" y="1340"/>
                  </a:lnTo>
                  <a:lnTo>
                    <a:pt x="1055" y="1249"/>
                  </a:lnTo>
                  <a:lnTo>
                    <a:pt x="1215" y="1089"/>
                  </a:lnTo>
                  <a:lnTo>
                    <a:pt x="1684" y="967"/>
                  </a:lnTo>
                  <a:lnTo>
                    <a:pt x="1818" y="1146"/>
                  </a:lnTo>
                  <a:lnTo>
                    <a:pt x="2143" y="1068"/>
                  </a:lnTo>
                  <a:lnTo>
                    <a:pt x="2386" y="908"/>
                  </a:lnTo>
                  <a:lnTo>
                    <a:pt x="2804" y="863"/>
                  </a:lnTo>
                  <a:lnTo>
                    <a:pt x="2778" y="1013"/>
                  </a:lnTo>
                  <a:lnTo>
                    <a:pt x="1985" y="2311"/>
                  </a:lnTo>
                  <a:lnTo>
                    <a:pt x="2367" y="2211"/>
                  </a:lnTo>
                  <a:lnTo>
                    <a:pt x="2591" y="2106"/>
                  </a:lnTo>
                  <a:lnTo>
                    <a:pt x="2956" y="2019"/>
                  </a:lnTo>
                  <a:lnTo>
                    <a:pt x="2991" y="2266"/>
                  </a:lnTo>
                  <a:lnTo>
                    <a:pt x="2924" y="3246"/>
                  </a:lnTo>
                  <a:lnTo>
                    <a:pt x="3015" y="3724"/>
                  </a:lnTo>
                  <a:lnTo>
                    <a:pt x="3401" y="3725"/>
                  </a:lnTo>
                  <a:lnTo>
                    <a:pt x="3517" y="3353"/>
                  </a:lnTo>
                  <a:lnTo>
                    <a:pt x="3297" y="3340"/>
                  </a:lnTo>
                  <a:lnTo>
                    <a:pt x="3369" y="3034"/>
                  </a:lnTo>
                  <a:lnTo>
                    <a:pt x="3580" y="2682"/>
                  </a:lnTo>
                  <a:lnTo>
                    <a:pt x="4025" y="2577"/>
                  </a:lnTo>
                  <a:lnTo>
                    <a:pt x="4230" y="2766"/>
                  </a:lnTo>
                  <a:lnTo>
                    <a:pt x="4160" y="2897"/>
                  </a:lnTo>
                  <a:lnTo>
                    <a:pt x="4012" y="3113"/>
                  </a:lnTo>
                  <a:lnTo>
                    <a:pt x="3487" y="3705"/>
                  </a:lnTo>
                  <a:lnTo>
                    <a:pt x="3335" y="3792"/>
                  </a:lnTo>
                  <a:lnTo>
                    <a:pt x="2991" y="3784"/>
                  </a:lnTo>
                  <a:lnTo>
                    <a:pt x="2791" y="3744"/>
                  </a:lnTo>
                  <a:lnTo>
                    <a:pt x="2472" y="3796"/>
                  </a:lnTo>
                  <a:lnTo>
                    <a:pt x="2088" y="3254"/>
                  </a:lnTo>
                  <a:lnTo>
                    <a:pt x="2238" y="2918"/>
                  </a:lnTo>
                  <a:lnTo>
                    <a:pt x="2217" y="2821"/>
                  </a:lnTo>
                  <a:lnTo>
                    <a:pt x="2048" y="2682"/>
                  </a:lnTo>
                  <a:lnTo>
                    <a:pt x="1570" y="2902"/>
                  </a:lnTo>
                  <a:lnTo>
                    <a:pt x="1272" y="3134"/>
                  </a:lnTo>
                  <a:lnTo>
                    <a:pt x="901" y="3214"/>
                  </a:lnTo>
                  <a:lnTo>
                    <a:pt x="893" y="2956"/>
                  </a:lnTo>
                  <a:lnTo>
                    <a:pt x="1816" y="1534"/>
                  </a:lnTo>
                  <a:lnTo>
                    <a:pt x="987" y="1714"/>
                  </a:lnTo>
                  <a:lnTo>
                    <a:pt x="40" y="1635"/>
                  </a:lnTo>
                  <a:lnTo>
                    <a:pt x="51" y="1317"/>
                  </a:lnTo>
                  <a:lnTo>
                    <a:pt x="0" y="1083"/>
                  </a:lnTo>
                  <a:lnTo>
                    <a:pt x="430" y="711"/>
                  </a:lnTo>
                  <a:lnTo>
                    <a:pt x="667" y="836"/>
                  </a:lnTo>
                  <a:lnTo>
                    <a:pt x="1101" y="426"/>
                  </a:lnTo>
                  <a:lnTo>
                    <a:pt x="1226" y="87"/>
                  </a:lnTo>
                  <a:lnTo>
                    <a:pt x="1494" y="0"/>
                  </a:lnTo>
                  <a:lnTo>
                    <a:pt x="1494" y="0"/>
                  </a:lnTo>
                  <a:close/>
                </a:path>
              </a:pathLst>
            </a:custGeom>
            <a:solidFill>
              <a:srgbClr val="5c5c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13160" y="5256720"/>
              <a:ext cx="860760" cy="880200"/>
            </a:xfrm>
            <a:custGeom>
              <a:avLst/>
              <a:gdLst/>
              <a:ahLst/>
              <a:rect l="l" t="t" r="r" b="b"/>
              <a:pathLst>
                <a:path w="770" h="806">
                  <a:moveTo>
                    <a:pt x="770" y="717"/>
                  </a:moveTo>
                  <a:lnTo>
                    <a:pt x="711" y="743"/>
                  </a:lnTo>
                  <a:lnTo>
                    <a:pt x="654" y="762"/>
                  </a:lnTo>
                  <a:lnTo>
                    <a:pt x="543" y="795"/>
                  </a:lnTo>
                  <a:lnTo>
                    <a:pt x="346" y="806"/>
                  </a:lnTo>
                  <a:lnTo>
                    <a:pt x="253" y="766"/>
                  </a:lnTo>
                  <a:lnTo>
                    <a:pt x="177" y="724"/>
                  </a:lnTo>
                  <a:lnTo>
                    <a:pt x="114" y="679"/>
                  </a:lnTo>
                  <a:lnTo>
                    <a:pt x="66" y="633"/>
                  </a:lnTo>
                  <a:lnTo>
                    <a:pt x="11" y="536"/>
                  </a:lnTo>
                  <a:lnTo>
                    <a:pt x="0" y="433"/>
                  </a:lnTo>
                  <a:lnTo>
                    <a:pt x="11" y="380"/>
                  </a:lnTo>
                  <a:lnTo>
                    <a:pt x="28" y="327"/>
                  </a:lnTo>
                  <a:lnTo>
                    <a:pt x="55" y="274"/>
                  </a:lnTo>
                  <a:lnTo>
                    <a:pt x="70" y="245"/>
                  </a:lnTo>
                  <a:lnTo>
                    <a:pt x="89" y="219"/>
                  </a:lnTo>
                  <a:lnTo>
                    <a:pt x="106" y="192"/>
                  </a:lnTo>
                  <a:lnTo>
                    <a:pt x="127" y="164"/>
                  </a:lnTo>
                  <a:lnTo>
                    <a:pt x="148" y="137"/>
                  </a:lnTo>
                  <a:lnTo>
                    <a:pt x="171" y="110"/>
                  </a:lnTo>
                  <a:lnTo>
                    <a:pt x="196" y="82"/>
                  </a:lnTo>
                  <a:lnTo>
                    <a:pt x="220" y="55"/>
                  </a:lnTo>
                  <a:lnTo>
                    <a:pt x="245" y="27"/>
                  </a:lnTo>
                  <a:lnTo>
                    <a:pt x="272" y="0"/>
                  </a:lnTo>
                  <a:lnTo>
                    <a:pt x="285" y="78"/>
                  </a:lnTo>
                  <a:lnTo>
                    <a:pt x="306" y="154"/>
                  </a:lnTo>
                  <a:lnTo>
                    <a:pt x="317" y="190"/>
                  </a:lnTo>
                  <a:lnTo>
                    <a:pt x="332" y="226"/>
                  </a:lnTo>
                  <a:lnTo>
                    <a:pt x="363" y="295"/>
                  </a:lnTo>
                  <a:lnTo>
                    <a:pt x="399" y="363"/>
                  </a:lnTo>
                  <a:lnTo>
                    <a:pt x="420" y="395"/>
                  </a:lnTo>
                  <a:lnTo>
                    <a:pt x="443" y="426"/>
                  </a:lnTo>
                  <a:lnTo>
                    <a:pt x="466" y="456"/>
                  </a:lnTo>
                  <a:lnTo>
                    <a:pt x="490" y="487"/>
                  </a:lnTo>
                  <a:lnTo>
                    <a:pt x="517" y="517"/>
                  </a:lnTo>
                  <a:lnTo>
                    <a:pt x="543" y="546"/>
                  </a:lnTo>
                  <a:lnTo>
                    <a:pt x="570" y="572"/>
                  </a:lnTo>
                  <a:lnTo>
                    <a:pt x="597" y="597"/>
                  </a:lnTo>
                  <a:lnTo>
                    <a:pt x="625" y="620"/>
                  </a:lnTo>
                  <a:lnTo>
                    <a:pt x="652" y="641"/>
                  </a:lnTo>
                  <a:lnTo>
                    <a:pt x="711" y="682"/>
                  </a:lnTo>
                  <a:lnTo>
                    <a:pt x="770" y="717"/>
                  </a:lnTo>
                  <a:lnTo>
                    <a:pt x="770" y="717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78440" y="4657680"/>
              <a:ext cx="574560" cy="487440"/>
            </a:xfrm>
            <a:custGeom>
              <a:avLst/>
              <a:gdLst/>
              <a:ahLst/>
              <a:rect l="l" t="t" r="r" b="b"/>
              <a:pathLst>
                <a:path w="514" h="446">
                  <a:moveTo>
                    <a:pt x="0" y="159"/>
                  </a:moveTo>
                  <a:lnTo>
                    <a:pt x="73" y="135"/>
                  </a:lnTo>
                  <a:lnTo>
                    <a:pt x="143" y="110"/>
                  </a:lnTo>
                  <a:lnTo>
                    <a:pt x="278" y="66"/>
                  </a:lnTo>
                  <a:lnTo>
                    <a:pt x="403" y="30"/>
                  </a:lnTo>
                  <a:lnTo>
                    <a:pt x="514" y="0"/>
                  </a:lnTo>
                  <a:lnTo>
                    <a:pt x="493" y="273"/>
                  </a:lnTo>
                  <a:lnTo>
                    <a:pt x="375" y="306"/>
                  </a:lnTo>
                  <a:lnTo>
                    <a:pt x="257" y="346"/>
                  </a:lnTo>
                  <a:lnTo>
                    <a:pt x="137" y="393"/>
                  </a:lnTo>
                  <a:lnTo>
                    <a:pt x="76" y="418"/>
                  </a:lnTo>
                  <a:lnTo>
                    <a:pt x="16" y="446"/>
                  </a:lnTo>
                  <a:lnTo>
                    <a:pt x="19" y="372"/>
                  </a:lnTo>
                  <a:lnTo>
                    <a:pt x="14" y="262"/>
                  </a:lnTo>
                  <a:lnTo>
                    <a:pt x="0" y="159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59680" y="4302000"/>
              <a:ext cx="682200" cy="1563840"/>
            </a:xfrm>
            <a:custGeom>
              <a:avLst/>
              <a:gdLst/>
              <a:ahLst/>
              <a:rect l="l" t="t" r="r" b="b"/>
              <a:pathLst>
                <a:path w="610" h="1431">
                  <a:moveTo>
                    <a:pt x="131" y="0"/>
                  </a:moveTo>
                  <a:lnTo>
                    <a:pt x="283" y="51"/>
                  </a:lnTo>
                  <a:lnTo>
                    <a:pt x="388" y="146"/>
                  </a:lnTo>
                  <a:lnTo>
                    <a:pt x="417" y="212"/>
                  </a:lnTo>
                  <a:lnTo>
                    <a:pt x="426" y="292"/>
                  </a:lnTo>
                  <a:lnTo>
                    <a:pt x="415" y="387"/>
                  </a:lnTo>
                  <a:lnTo>
                    <a:pt x="401" y="441"/>
                  </a:lnTo>
                  <a:lnTo>
                    <a:pt x="382" y="498"/>
                  </a:lnTo>
                  <a:lnTo>
                    <a:pt x="363" y="547"/>
                  </a:lnTo>
                  <a:lnTo>
                    <a:pt x="344" y="589"/>
                  </a:lnTo>
                  <a:lnTo>
                    <a:pt x="308" y="661"/>
                  </a:lnTo>
                  <a:lnTo>
                    <a:pt x="291" y="691"/>
                  </a:lnTo>
                  <a:lnTo>
                    <a:pt x="274" y="716"/>
                  </a:lnTo>
                  <a:lnTo>
                    <a:pt x="242" y="762"/>
                  </a:lnTo>
                  <a:lnTo>
                    <a:pt x="209" y="798"/>
                  </a:lnTo>
                  <a:lnTo>
                    <a:pt x="175" y="832"/>
                  </a:lnTo>
                  <a:lnTo>
                    <a:pt x="143" y="866"/>
                  </a:lnTo>
                  <a:lnTo>
                    <a:pt x="107" y="904"/>
                  </a:lnTo>
                  <a:lnTo>
                    <a:pt x="213" y="864"/>
                  </a:lnTo>
                  <a:lnTo>
                    <a:pt x="335" y="821"/>
                  </a:lnTo>
                  <a:lnTo>
                    <a:pt x="399" y="796"/>
                  </a:lnTo>
                  <a:lnTo>
                    <a:pt x="468" y="771"/>
                  </a:lnTo>
                  <a:lnTo>
                    <a:pt x="538" y="747"/>
                  </a:lnTo>
                  <a:lnTo>
                    <a:pt x="610" y="720"/>
                  </a:lnTo>
                  <a:lnTo>
                    <a:pt x="601" y="971"/>
                  </a:lnTo>
                  <a:lnTo>
                    <a:pt x="590" y="1077"/>
                  </a:lnTo>
                  <a:lnTo>
                    <a:pt x="574" y="1171"/>
                  </a:lnTo>
                  <a:lnTo>
                    <a:pt x="519" y="1207"/>
                  </a:lnTo>
                  <a:lnTo>
                    <a:pt x="464" y="1239"/>
                  </a:lnTo>
                  <a:lnTo>
                    <a:pt x="409" y="1273"/>
                  </a:lnTo>
                  <a:lnTo>
                    <a:pt x="356" y="1305"/>
                  </a:lnTo>
                  <a:lnTo>
                    <a:pt x="302" y="1338"/>
                  </a:lnTo>
                  <a:lnTo>
                    <a:pt x="249" y="1370"/>
                  </a:lnTo>
                  <a:lnTo>
                    <a:pt x="198" y="1401"/>
                  </a:lnTo>
                  <a:lnTo>
                    <a:pt x="147" y="1431"/>
                  </a:lnTo>
                  <a:lnTo>
                    <a:pt x="72" y="1302"/>
                  </a:lnTo>
                  <a:lnTo>
                    <a:pt x="42" y="1188"/>
                  </a:lnTo>
                  <a:lnTo>
                    <a:pt x="19" y="1039"/>
                  </a:lnTo>
                  <a:lnTo>
                    <a:pt x="0" y="648"/>
                  </a:lnTo>
                  <a:lnTo>
                    <a:pt x="6" y="475"/>
                  </a:lnTo>
                  <a:lnTo>
                    <a:pt x="21" y="325"/>
                  </a:lnTo>
                  <a:lnTo>
                    <a:pt x="44" y="197"/>
                  </a:lnTo>
                  <a:lnTo>
                    <a:pt x="59" y="144"/>
                  </a:lnTo>
                  <a:lnTo>
                    <a:pt x="78" y="95"/>
                  </a:lnTo>
                  <a:lnTo>
                    <a:pt x="103" y="43"/>
                  </a:lnTo>
                  <a:lnTo>
                    <a:pt x="116" y="21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91520" y="2927520"/>
              <a:ext cx="2297520" cy="2284560"/>
            </a:xfrm>
            <a:custGeom>
              <a:avLst/>
              <a:gdLst/>
              <a:ahLst/>
              <a:rect l="l" t="t" r="r" b="b"/>
              <a:pathLst>
                <a:path w="2053" h="2091">
                  <a:moveTo>
                    <a:pt x="1348" y="8"/>
                  </a:moveTo>
                  <a:lnTo>
                    <a:pt x="1743" y="0"/>
                  </a:lnTo>
                  <a:lnTo>
                    <a:pt x="1892" y="21"/>
                  </a:lnTo>
                  <a:lnTo>
                    <a:pt x="1998" y="61"/>
                  </a:lnTo>
                  <a:lnTo>
                    <a:pt x="2053" y="122"/>
                  </a:lnTo>
                  <a:lnTo>
                    <a:pt x="2050" y="207"/>
                  </a:lnTo>
                  <a:lnTo>
                    <a:pt x="2025" y="261"/>
                  </a:lnTo>
                  <a:lnTo>
                    <a:pt x="2006" y="289"/>
                  </a:lnTo>
                  <a:lnTo>
                    <a:pt x="1983" y="321"/>
                  </a:lnTo>
                  <a:lnTo>
                    <a:pt x="1954" y="354"/>
                  </a:lnTo>
                  <a:lnTo>
                    <a:pt x="1922" y="388"/>
                  </a:lnTo>
                  <a:lnTo>
                    <a:pt x="1884" y="424"/>
                  </a:lnTo>
                  <a:lnTo>
                    <a:pt x="1842" y="462"/>
                  </a:lnTo>
                  <a:lnTo>
                    <a:pt x="1804" y="494"/>
                  </a:lnTo>
                  <a:lnTo>
                    <a:pt x="1768" y="527"/>
                  </a:lnTo>
                  <a:lnTo>
                    <a:pt x="1730" y="557"/>
                  </a:lnTo>
                  <a:lnTo>
                    <a:pt x="1694" y="588"/>
                  </a:lnTo>
                  <a:lnTo>
                    <a:pt x="1656" y="616"/>
                  </a:lnTo>
                  <a:lnTo>
                    <a:pt x="1620" y="647"/>
                  </a:lnTo>
                  <a:lnTo>
                    <a:pt x="1584" y="675"/>
                  </a:lnTo>
                  <a:lnTo>
                    <a:pt x="1546" y="704"/>
                  </a:lnTo>
                  <a:lnTo>
                    <a:pt x="1510" y="732"/>
                  </a:lnTo>
                  <a:lnTo>
                    <a:pt x="1472" y="761"/>
                  </a:lnTo>
                  <a:lnTo>
                    <a:pt x="1435" y="787"/>
                  </a:lnTo>
                  <a:lnTo>
                    <a:pt x="1397" y="814"/>
                  </a:lnTo>
                  <a:lnTo>
                    <a:pt x="1361" y="840"/>
                  </a:lnTo>
                  <a:lnTo>
                    <a:pt x="1323" y="867"/>
                  </a:lnTo>
                  <a:lnTo>
                    <a:pt x="1287" y="894"/>
                  </a:lnTo>
                  <a:lnTo>
                    <a:pt x="1249" y="920"/>
                  </a:lnTo>
                  <a:lnTo>
                    <a:pt x="1211" y="947"/>
                  </a:lnTo>
                  <a:lnTo>
                    <a:pt x="1175" y="973"/>
                  </a:lnTo>
                  <a:lnTo>
                    <a:pt x="1137" y="998"/>
                  </a:lnTo>
                  <a:lnTo>
                    <a:pt x="1099" y="1025"/>
                  </a:lnTo>
                  <a:lnTo>
                    <a:pt x="1061" y="1051"/>
                  </a:lnTo>
                  <a:lnTo>
                    <a:pt x="1023" y="1076"/>
                  </a:lnTo>
                  <a:lnTo>
                    <a:pt x="983" y="1103"/>
                  </a:lnTo>
                  <a:lnTo>
                    <a:pt x="945" y="1129"/>
                  </a:lnTo>
                  <a:lnTo>
                    <a:pt x="905" y="1154"/>
                  </a:lnTo>
                  <a:lnTo>
                    <a:pt x="867" y="1181"/>
                  </a:lnTo>
                  <a:lnTo>
                    <a:pt x="827" y="1207"/>
                  </a:lnTo>
                  <a:lnTo>
                    <a:pt x="787" y="1234"/>
                  </a:lnTo>
                  <a:lnTo>
                    <a:pt x="747" y="1262"/>
                  </a:lnTo>
                  <a:lnTo>
                    <a:pt x="707" y="1289"/>
                  </a:lnTo>
                  <a:lnTo>
                    <a:pt x="667" y="1318"/>
                  </a:lnTo>
                  <a:lnTo>
                    <a:pt x="627" y="1344"/>
                  </a:lnTo>
                  <a:lnTo>
                    <a:pt x="772" y="1308"/>
                  </a:lnTo>
                  <a:lnTo>
                    <a:pt x="873" y="1287"/>
                  </a:lnTo>
                  <a:lnTo>
                    <a:pt x="985" y="1268"/>
                  </a:lnTo>
                  <a:lnTo>
                    <a:pt x="956" y="1299"/>
                  </a:lnTo>
                  <a:lnTo>
                    <a:pt x="930" y="1331"/>
                  </a:lnTo>
                  <a:lnTo>
                    <a:pt x="905" y="1365"/>
                  </a:lnTo>
                  <a:lnTo>
                    <a:pt x="882" y="1399"/>
                  </a:lnTo>
                  <a:lnTo>
                    <a:pt x="861" y="1433"/>
                  </a:lnTo>
                  <a:lnTo>
                    <a:pt x="840" y="1468"/>
                  </a:lnTo>
                  <a:lnTo>
                    <a:pt x="804" y="1542"/>
                  </a:lnTo>
                  <a:lnTo>
                    <a:pt x="755" y="1700"/>
                  </a:lnTo>
                  <a:lnTo>
                    <a:pt x="728" y="1871"/>
                  </a:lnTo>
                  <a:lnTo>
                    <a:pt x="644" y="1897"/>
                  </a:lnTo>
                  <a:lnTo>
                    <a:pt x="557" y="1926"/>
                  </a:lnTo>
                  <a:lnTo>
                    <a:pt x="468" y="1952"/>
                  </a:lnTo>
                  <a:lnTo>
                    <a:pt x="376" y="1981"/>
                  </a:lnTo>
                  <a:lnTo>
                    <a:pt x="283" y="2009"/>
                  </a:lnTo>
                  <a:lnTo>
                    <a:pt x="188" y="2038"/>
                  </a:lnTo>
                  <a:lnTo>
                    <a:pt x="93" y="2065"/>
                  </a:lnTo>
                  <a:lnTo>
                    <a:pt x="0" y="2091"/>
                  </a:lnTo>
                  <a:lnTo>
                    <a:pt x="1348" y="8"/>
                  </a:lnTo>
                  <a:lnTo>
                    <a:pt x="1348" y="8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14480" y="2999520"/>
              <a:ext cx="2811960" cy="2330640"/>
            </a:xfrm>
            <a:custGeom>
              <a:avLst/>
              <a:gdLst/>
              <a:ahLst/>
              <a:rect l="l" t="t" r="r" b="b"/>
              <a:pathLst>
                <a:path w="2514" h="2133">
                  <a:moveTo>
                    <a:pt x="1994" y="87"/>
                  </a:moveTo>
                  <a:lnTo>
                    <a:pt x="2251" y="42"/>
                  </a:lnTo>
                  <a:lnTo>
                    <a:pt x="2514" y="0"/>
                  </a:lnTo>
                  <a:lnTo>
                    <a:pt x="1133" y="2131"/>
                  </a:lnTo>
                  <a:lnTo>
                    <a:pt x="894" y="2133"/>
                  </a:lnTo>
                  <a:lnTo>
                    <a:pt x="715" y="2079"/>
                  </a:lnTo>
                  <a:lnTo>
                    <a:pt x="660" y="2041"/>
                  </a:lnTo>
                  <a:lnTo>
                    <a:pt x="616" y="2001"/>
                  </a:lnTo>
                  <a:lnTo>
                    <a:pt x="565" y="1914"/>
                  </a:lnTo>
                  <a:lnTo>
                    <a:pt x="553" y="1823"/>
                  </a:lnTo>
                  <a:lnTo>
                    <a:pt x="561" y="1775"/>
                  </a:lnTo>
                  <a:lnTo>
                    <a:pt x="578" y="1726"/>
                  </a:lnTo>
                  <a:lnTo>
                    <a:pt x="603" y="1676"/>
                  </a:lnTo>
                  <a:lnTo>
                    <a:pt x="618" y="1652"/>
                  </a:lnTo>
                  <a:lnTo>
                    <a:pt x="635" y="1627"/>
                  </a:lnTo>
                  <a:lnTo>
                    <a:pt x="652" y="1602"/>
                  </a:lnTo>
                  <a:lnTo>
                    <a:pt x="673" y="1576"/>
                  </a:lnTo>
                  <a:lnTo>
                    <a:pt x="694" y="1551"/>
                  </a:lnTo>
                  <a:lnTo>
                    <a:pt x="717" y="1526"/>
                  </a:lnTo>
                  <a:lnTo>
                    <a:pt x="740" y="1500"/>
                  </a:lnTo>
                  <a:lnTo>
                    <a:pt x="766" y="1475"/>
                  </a:lnTo>
                  <a:lnTo>
                    <a:pt x="793" y="1450"/>
                  </a:lnTo>
                  <a:lnTo>
                    <a:pt x="819" y="1423"/>
                  </a:lnTo>
                  <a:lnTo>
                    <a:pt x="848" y="1399"/>
                  </a:lnTo>
                  <a:lnTo>
                    <a:pt x="878" y="1374"/>
                  </a:lnTo>
                  <a:lnTo>
                    <a:pt x="909" y="1347"/>
                  </a:lnTo>
                  <a:lnTo>
                    <a:pt x="939" y="1323"/>
                  </a:lnTo>
                  <a:lnTo>
                    <a:pt x="972" y="1298"/>
                  </a:lnTo>
                  <a:lnTo>
                    <a:pt x="1004" y="1273"/>
                  </a:lnTo>
                  <a:lnTo>
                    <a:pt x="1036" y="1251"/>
                  </a:lnTo>
                  <a:lnTo>
                    <a:pt x="1070" y="1226"/>
                  </a:lnTo>
                  <a:lnTo>
                    <a:pt x="1137" y="1178"/>
                  </a:lnTo>
                  <a:lnTo>
                    <a:pt x="1207" y="1133"/>
                  </a:lnTo>
                  <a:lnTo>
                    <a:pt x="1276" y="1087"/>
                  </a:lnTo>
                  <a:lnTo>
                    <a:pt x="1344" y="1043"/>
                  </a:lnTo>
                  <a:lnTo>
                    <a:pt x="1413" y="1002"/>
                  </a:lnTo>
                  <a:lnTo>
                    <a:pt x="1479" y="962"/>
                  </a:lnTo>
                  <a:lnTo>
                    <a:pt x="1542" y="924"/>
                  </a:lnTo>
                  <a:lnTo>
                    <a:pt x="1603" y="887"/>
                  </a:lnTo>
                  <a:lnTo>
                    <a:pt x="1662" y="853"/>
                  </a:lnTo>
                  <a:lnTo>
                    <a:pt x="1715" y="823"/>
                  </a:lnTo>
                  <a:lnTo>
                    <a:pt x="1763" y="796"/>
                  </a:lnTo>
                  <a:lnTo>
                    <a:pt x="1806" y="770"/>
                  </a:lnTo>
                  <a:lnTo>
                    <a:pt x="1875" y="728"/>
                  </a:lnTo>
                  <a:lnTo>
                    <a:pt x="1664" y="766"/>
                  </a:lnTo>
                  <a:lnTo>
                    <a:pt x="1462" y="804"/>
                  </a:lnTo>
                  <a:lnTo>
                    <a:pt x="1266" y="840"/>
                  </a:lnTo>
                  <a:lnTo>
                    <a:pt x="1076" y="872"/>
                  </a:lnTo>
                  <a:lnTo>
                    <a:pt x="888" y="899"/>
                  </a:lnTo>
                  <a:lnTo>
                    <a:pt x="702" y="918"/>
                  </a:lnTo>
                  <a:lnTo>
                    <a:pt x="325" y="927"/>
                  </a:lnTo>
                  <a:lnTo>
                    <a:pt x="175" y="910"/>
                  </a:lnTo>
                  <a:lnTo>
                    <a:pt x="72" y="868"/>
                  </a:lnTo>
                  <a:lnTo>
                    <a:pt x="15" y="808"/>
                  </a:lnTo>
                  <a:lnTo>
                    <a:pt x="0" y="728"/>
                  </a:lnTo>
                  <a:lnTo>
                    <a:pt x="4" y="680"/>
                  </a:lnTo>
                  <a:lnTo>
                    <a:pt x="19" y="631"/>
                  </a:lnTo>
                  <a:lnTo>
                    <a:pt x="42" y="578"/>
                  </a:lnTo>
                  <a:lnTo>
                    <a:pt x="74" y="521"/>
                  </a:lnTo>
                  <a:lnTo>
                    <a:pt x="93" y="490"/>
                  </a:lnTo>
                  <a:lnTo>
                    <a:pt x="112" y="462"/>
                  </a:lnTo>
                  <a:lnTo>
                    <a:pt x="135" y="429"/>
                  </a:lnTo>
                  <a:lnTo>
                    <a:pt x="158" y="399"/>
                  </a:lnTo>
                  <a:lnTo>
                    <a:pt x="184" y="367"/>
                  </a:lnTo>
                  <a:lnTo>
                    <a:pt x="211" y="334"/>
                  </a:lnTo>
                  <a:lnTo>
                    <a:pt x="240" y="300"/>
                  </a:lnTo>
                  <a:lnTo>
                    <a:pt x="270" y="268"/>
                  </a:lnTo>
                  <a:lnTo>
                    <a:pt x="295" y="304"/>
                  </a:lnTo>
                  <a:lnTo>
                    <a:pt x="323" y="340"/>
                  </a:lnTo>
                  <a:lnTo>
                    <a:pt x="354" y="374"/>
                  </a:lnTo>
                  <a:lnTo>
                    <a:pt x="384" y="408"/>
                  </a:lnTo>
                  <a:lnTo>
                    <a:pt x="420" y="443"/>
                  </a:lnTo>
                  <a:lnTo>
                    <a:pt x="456" y="475"/>
                  </a:lnTo>
                  <a:lnTo>
                    <a:pt x="494" y="505"/>
                  </a:lnTo>
                  <a:lnTo>
                    <a:pt x="534" y="534"/>
                  </a:lnTo>
                  <a:lnTo>
                    <a:pt x="574" y="561"/>
                  </a:lnTo>
                  <a:lnTo>
                    <a:pt x="614" y="583"/>
                  </a:lnTo>
                  <a:lnTo>
                    <a:pt x="700" y="623"/>
                  </a:lnTo>
                  <a:lnTo>
                    <a:pt x="789" y="656"/>
                  </a:lnTo>
                  <a:lnTo>
                    <a:pt x="882" y="676"/>
                  </a:lnTo>
                  <a:lnTo>
                    <a:pt x="1084" y="695"/>
                  </a:lnTo>
                  <a:lnTo>
                    <a:pt x="1281" y="676"/>
                  </a:lnTo>
                  <a:lnTo>
                    <a:pt x="1464" y="623"/>
                  </a:lnTo>
                  <a:lnTo>
                    <a:pt x="1550" y="583"/>
                  </a:lnTo>
                  <a:lnTo>
                    <a:pt x="1631" y="534"/>
                  </a:lnTo>
                  <a:lnTo>
                    <a:pt x="1669" y="505"/>
                  </a:lnTo>
                  <a:lnTo>
                    <a:pt x="1709" y="475"/>
                  </a:lnTo>
                  <a:lnTo>
                    <a:pt x="1745" y="441"/>
                  </a:lnTo>
                  <a:lnTo>
                    <a:pt x="1782" y="407"/>
                  </a:lnTo>
                  <a:lnTo>
                    <a:pt x="1816" y="370"/>
                  </a:lnTo>
                  <a:lnTo>
                    <a:pt x="1848" y="332"/>
                  </a:lnTo>
                  <a:lnTo>
                    <a:pt x="1877" y="294"/>
                  </a:lnTo>
                  <a:lnTo>
                    <a:pt x="1905" y="254"/>
                  </a:lnTo>
                  <a:lnTo>
                    <a:pt x="1930" y="215"/>
                  </a:lnTo>
                  <a:lnTo>
                    <a:pt x="1955" y="173"/>
                  </a:lnTo>
                  <a:lnTo>
                    <a:pt x="1994" y="87"/>
                  </a:lnTo>
                  <a:lnTo>
                    <a:pt x="1994" y="87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89640" y="2287800"/>
              <a:ext cx="679680" cy="1251720"/>
            </a:xfrm>
            <a:custGeom>
              <a:avLst/>
              <a:gdLst/>
              <a:ahLst/>
              <a:rect l="l" t="t" r="r" b="b"/>
              <a:pathLst>
                <a:path w="609" h="1144">
                  <a:moveTo>
                    <a:pt x="607" y="424"/>
                  </a:moveTo>
                  <a:lnTo>
                    <a:pt x="578" y="458"/>
                  </a:lnTo>
                  <a:lnTo>
                    <a:pt x="548" y="490"/>
                  </a:lnTo>
                  <a:lnTo>
                    <a:pt x="520" y="524"/>
                  </a:lnTo>
                  <a:lnTo>
                    <a:pt x="493" y="557"/>
                  </a:lnTo>
                  <a:lnTo>
                    <a:pt x="466" y="589"/>
                  </a:lnTo>
                  <a:lnTo>
                    <a:pt x="442" y="623"/>
                  </a:lnTo>
                  <a:lnTo>
                    <a:pt x="417" y="656"/>
                  </a:lnTo>
                  <a:lnTo>
                    <a:pt x="394" y="688"/>
                  </a:lnTo>
                  <a:lnTo>
                    <a:pt x="371" y="720"/>
                  </a:lnTo>
                  <a:lnTo>
                    <a:pt x="350" y="753"/>
                  </a:lnTo>
                  <a:lnTo>
                    <a:pt x="331" y="785"/>
                  </a:lnTo>
                  <a:lnTo>
                    <a:pt x="312" y="815"/>
                  </a:lnTo>
                  <a:lnTo>
                    <a:pt x="280" y="876"/>
                  </a:lnTo>
                  <a:lnTo>
                    <a:pt x="253" y="937"/>
                  </a:lnTo>
                  <a:lnTo>
                    <a:pt x="352" y="916"/>
                  </a:lnTo>
                  <a:lnTo>
                    <a:pt x="559" y="870"/>
                  </a:lnTo>
                  <a:lnTo>
                    <a:pt x="535" y="952"/>
                  </a:lnTo>
                  <a:lnTo>
                    <a:pt x="514" y="996"/>
                  </a:lnTo>
                  <a:lnTo>
                    <a:pt x="491" y="1036"/>
                  </a:lnTo>
                  <a:lnTo>
                    <a:pt x="466" y="1068"/>
                  </a:lnTo>
                  <a:lnTo>
                    <a:pt x="440" y="1097"/>
                  </a:lnTo>
                  <a:lnTo>
                    <a:pt x="409" y="1117"/>
                  </a:lnTo>
                  <a:lnTo>
                    <a:pt x="377" y="1133"/>
                  </a:lnTo>
                  <a:lnTo>
                    <a:pt x="305" y="1144"/>
                  </a:lnTo>
                  <a:lnTo>
                    <a:pt x="229" y="1133"/>
                  </a:lnTo>
                  <a:lnTo>
                    <a:pt x="164" y="1097"/>
                  </a:lnTo>
                  <a:lnTo>
                    <a:pt x="111" y="1036"/>
                  </a:lnTo>
                  <a:lnTo>
                    <a:pt x="71" y="950"/>
                  </a:lnTo>
                  <a:lnTo>
                    <a:pt x="23" y="743"/>
                  </a:lnTo>
                  <a:lnTo>
                    <a:pt x="0" y="443"/>
                  </a:lnTo>
                  <a:lnTo>
                    <a:pt x="37" y="414"/>
                  </a:lnTo>
                  <a:lnTo>
                    <a:pt x="73" y="386"/>
                  </a:lnTo>
                  <a:lnTo>
                    <a:pt x="107" y="357"/>
                  </a:lnTo>
                  <a:lnTo>
                    <a:pt x="143" y="329"/>
                  </a:lnTo>
                  <a:lnTo>
                    <a:pt x="181" y="300"/>
                  </a:lnTo>
                  <a:lnTo>
                    <a:pt x="217" y="272"/>
                  </a:lnTo>
                  <a:lnTo>
                    <a:pt x="253" y="243"/>
                  </a:lnTo>
                  <a:lnTo>
                    <a:pt x="291" y="216"/>
                  </a:lnTo>
                  <a:lnTo>
                    <a:pt x="327" y="188"/>
                  </a:lnTo>
                  <a:lnTo>
                    <a:pt x="366" y="159"/>
                  </a:lnTo>
                  <a:lnTo>
                    <a:pt x="404" y="133"/>
                  </a:lnTo>
                  <a:lnTo>
                    <a:pt x="440" y="106"/>
                  </a:lnTo>
                  <a:lnTo>
                    <a:pt x="478" y="80"/>
                  </a:lnTo>
                  <a:lnTo>
                    <a:pt x="516" y="51"/>
                  </a:lnTo>
                  <a:lnTo>
                    <a:pt x="554" y="25"/>
                  </a:lnTo>
                  <a:lnTo>
                    <a:pt x="590" y="0"/>
                  </a:lnTo>
                  <a:lnTo>
                    <a:pt x="609" y="350"/>
                  </a:lnTo>
                  <a:lnTo>
                    <a:pt x="607" y="424"/>
                  </a:lnTo>
                  <a:lnTo>
                    <a:pt x="607" y="424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75120" y="1652040"/>
              <a:ext cx="684360" cy="536760"/>
            </a:xfrm>
            <a:custGeom>
              <a:avLst/>
              <a:gdLst/>
              <a:ahLst/>
              <a:rect l="l" t="t" r="r" b="b"/>
              <a:pathLst>
                <a:path w="613" h="493">
                  <a:moveTo>
                    <a:pt x="613" y="236"/>
                  </a:moveTo>
                  <a:lnTo>
                    <a:pt x="502" y="280"/>
                  </a:lnTo>
                  <a:lnTo>
                    <a:pt x="445" y="306"/>
                  </a:lnTo>
                  <a:lnTo>
                    <a:pt x="384" y="337"/>
                  </a:lnTo>
                  <a:lnTo>
                    <a:pt x="324" y="371"/>
                  </a:lnTo>
                  <a:lnTo>
                    <a:pt x="263" y="409"/>
                  </a:lnTo>
                  <a:lnTo>
                    <a:pt x="200" y="449"/>
                  </a:lnTo>
                  <a:lnTo>
                    <a:pt x="135" y="493"/>
                  </a:lnTo>
                  <a:lnTo>
                    <a:pt x="109" y="436"/>
                  </a:lnTo>
                  <a:lnTo>
                    <a:pt x="94" y="409"/>
                  </a:lnTo>
                  <a:lnTo>
                    <a:pt x="76" y="380"/>
                  </a:lnTo>
                  <a:lnTo>
                    <a:pt x="59" y="354"/>
                  </a:lnTo>
                  <a:lnTo>
                    <a:pt x="40" y="327"/>
                  </a:lnTo>
                  <a:lnTo>
                    <a:pt x="21" y="302"/>
                  </a:lnTo>
                  <a:lnTo>
                    <a:pt x="0" y="278"/>
                  </a:lnTo>
                  <a:lnTo>
                    <a:pt x="42" y="253"/>
                  </a:lnTo>
                  <a:lnTo>
                    <a:pt x="84" y="228"/>
                  </a:lnTo>
                  <a:lnTo>
                    <a:pt x="164" y="183"/>
                  </a:lnTo>
                  <a:lnTo>
                    <a:pt x="242" y="141"/>
                  </a:lnTo>
                  <a:lnTo>
                    <a:pt x="314" y="103"/>
                  </a:lnTo>
                  <a:lnTo>
                    <a:pt x="383" y="71"/>
                  </a:lnTo>
                  <a:lnTo>
                    <a:pt x="445" y="42"/>
                  </a:lnTo>
                  <a:lnTo>
                    <a:pt x="554" y="0"/>
                  </a:lnTo>
                  <a:lnTo>
                    <a:pt x="613" y="236"/>
                  </a:lnTo>
                  <a:lnTo>
                    <a:pt x="613" y="236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74280" y="5145120"/>
              <a:ext cx="1624320" cy="1019880"/>
            </a:xfrm>
            <a:custGeom>
              <a:avLst/>
              <a:gdLst/>
              <a:ahLst/>
              <a:rect l="l" t="t" r="r" b="b"/>
              <a:pathLst>
                <a:path w="1450" h="934">
                  <a:moveTo>
                    <a:pt x="1450" y="0"/>
                  </a:moveTo>
                  <a:lnTo>
                    <a:pt x="1441" y="93"/>
                  </a:lnTo>
                  <a:lnTo>
                    <a:pt x="1424" y="183"/>
                  </a:lnTo>
                  <a:lnTo>
                    <a:pt x="1399" y="268"/>
                  </a:lnTo>
                  <a:lnTo>
                    <a:pt x="1386" y="310"/>
                  </a:lnTo>
                  <a:lnTo>
                    <a:pt x="1369" y="352"/>
                  </a:lnTo>
                  <a:lnTo>
                    <a:pt x="1350" y="390"/>
                  </a:lnTo>
                  <a:lnTo>
                    <a:pt x="1331" y="430"/>
                  </a:lnTo>
                  <a:lnTo>
                    <a:pt x="1308" y="468"/>
                  </a:lnTo>
                  <a:lnTo>
                    <a:pt x="1283" y="506"/>
                  </a:lnTo>
                  <a:lnTo>
                    <a:pt x="1258" y="540"/>
                  </a:lnTo>
                  <a:lnTo>
                    <a:pt x="1230" y="576"/>
                  </a:lnTo>
                  <a:lnTo>
                    <a:pt x="1201" y="610"/>
                  </a:lnTo>
                  <a:lnTo>
                    <a:pt x="1169" y="645"/>
                  </a:lnTo>
                  <a:lnTo>
                    <a:pt x="1133" y="679"/>
                  </a:lnTo>
                  <a:lnTo>
                    <a:pt x="1097" y="711"/>
                  </a:lnTo>
                  <a:lnTo>
                    <a:pt x="1059" y="742"/>
                  </a:lnTo>
                  <a:lnTo>
                    <a:pt x="1021" y="772"/>
                  </a:lnTo>
                  <a:lnTo>
                    <a:pt x="981" y="797"/>
                  </a:lnTo>
                  <a:lnTo>
                    <a:pt x="939" y="821"/>
                  </a:lnTo>
                  <a:lnTo>
                    <a:pt x="855" y="861"/>
                  </a:lnTo>
                  <a:lnTo>
                    <a:pt x="766" y="894"/>
                  </a:lnTo>
                  <a:lnTo>
                    <a:pt x="673" y="917"/>
                  </a:lnTo>
                  <a:lnTo>
                    <a:pt x="475" y="934"/>
                  </a:lnTo>
                  <a:lnTo>
                    <a:pt x="224" y="905"/>
                  </a:lnTo>
                  <a:lnTo>
                    <a:pt x="110" y="869"/>
                  </a:lnTo>
                  <a:lnTo>
                    <a:pt x="0" y="820"/>
                  </a:lnTo>
                  <a:lnTo>
                    <a:pt x="76" y="785"/>
                  </a:lnTo>
                  <a:lnTo>
                    <a:pt x="152" y="747"/>
                  </a:lnTo>
                  <a:lnTo>
                    <a:pt x="230" y="706"/>
                  </a:lnTo>
                  <a:lnTo>
                    <a:pt x="312" y="660"/>
                  </a:lnTo>
                  <a:lnTo>
                    <a:pt x="346" y="690"/>
                  </a:lnTo>
                  <a:lnTo>
                    <a:pt x="386" y="713"/>
                  </a:lnTo>
                  <a:lnTo>
                    <a:pt x="475" y="730"/>
                  </a:lnTo>
                  <a:lnTo>
                    <a:pt x="547" y="719"/>
                  </a:lnTo>
                  <a:lnTo>
                    <a:pt x="608" y="683"/>
                  </a:lnTo>
                  <a:lnTo>
                    <a:pt x="659" y="622"/>
                  </a:lnTo>
                  <a:lnTo>
                    <a:pt x="701" y="538"/>
                  </a:lnTo>
                  <a:lnTo>
                    <a:pt x="739" y="401"/>
                  </a:lnTo>
                  <a:lnTo>
                    <a:pt x="783" y="375"/>
                  </a:lnTo>
                  <a:lnTo>
                    <a:pt x="827" y="348"/>
                  </a:lnTo>
                  <a:lnTo>
                    <a:pt x="871" y="322"/>
                  </a:lnTo>
                  <a:lnTo>
                    <a:pt x="914" y="295"/>
                  </a:lnTo>
                  <a:lnTo>
                    <a:pt x="958" y="268"/>
                  </a:lnTo>
                  <a:lnTo>
                    <a:pt x="1002" y="242"/>
                  </a:lnTo>
                  <a:lnTo>
                    <a:pt x="1047" y="215"/>
                  </a:lnTo>
                  <a:lnTo>
                    <a:pt x="1091" y="190"/>
                  </a:lnTo>
                  <a:lnTo>
                    <a:pt x="1135" y="164"/>
                  </a:lnTo>
                  <a:lnTo>
                    <a:pt x="1180" y="139"/>
                  </a:lnTo>
                  <a:lnTo>
                    <a:pt x="1226" y="114"/>
                  </a:lnTo>
                  <a:lnTo>
                    <a:pt x="1270" y="92"/>
                  </a:lnTo>
                  <a:lnTo>
                    <a:pt x="1359" y="44"/>
                  </a:lnTo>
                  <a:lnTo>
                    <a:pt x="1450" y="0"/>
                  </a:lnTo>
                  <a:lnTo>
                    <a:pt x="1450" y="0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94560" y="3983040"/>
              <a:ext cx="1883520" cy="1107000"/>
            </a:xfrm>
            <a:custGeom>
              <a:avLst/>
              <a:gdLst/>
              <a:ahLst/>
              <a:rect l="l" t="t" r="r" b="b"/>
              <a:pathLst>
                <a:path w="1684" h="1013">
                  <a:moveTo>
                    <a:pt x="0" y="302"/>
                  </a:moveTo>
                  <a:lnTo>
                    <a:pt x="19" y="281"/>
                  </a:lnTo>
                  <a:lnTo>
                    <a:pt x="55" y="249"/>
                  </a:lnTo>
                  <a:lnTo>
                    <a:pt x="91" y="217"/>
                  </a:lnTo>
                  <a:lnTo>
                    <a:pt x="129" y="186"/>
                  </a:lnTo>
                  <a:lnTo>
                    <a:pt x="167" y="160"/>
                  </a:lnTo>
                  <a:lnTo>
                    <a:pt x="207" y="133"/>
                  </a:lnTo>
                  <a:lnTo>
                    <a:pt x="247" y="110"/>
                  </a:lnTo>
                  <a:lnTo>
                    <a:pt x="332" y="70"/>
                  </a:lnTo>
                  <a:lnTo>
                    <a:pt x="424" y="40"/>
                  </a:lnTo>
                  <a:lnTo>
                    <a:pt x="517" y="17"/>
                  </a:lnTo>
                  <a:lnTo>
                    <a:pt x="720" y="0"/>
                  </a:lnTo>
                  <a:lnTo>
                    <a:pt x="924" y="17"/>
                  </a:lnTo>
                  <a:lnTo>
                    <a:pt x="1108" y="70"/>
                  </a:lnTo>
                  <a:lnTo>
                    <a:pt x="1194" y="110"/>
                  </a:lnTo>
                  <a:lnTo>
                    <a:pt x="1276" y="160"/>
                  </a:lnTo>
                  <a:lnTo>
                    <a:pt x="1314" y="186"/>
                  </a:lnTo>
                  <a:lnTo>
                    <a:pt x="1352" y="217"/>
                  </a:lnTo>
                  <a:lnTo>
                    <a:pt x="1388" y="249"/>
                  </a:lnTo>
                  <a:lnTo>
                    <a:pt x="1424" y="281"/>
                  </a:lnTo>
                  <a:lnTo>
                    <a:pt x="1449" y="308"/>
                  </a:lnTo>
                  <a:lnTo>
                    <a:pt x="1473" y="336"/>
                  </a:lnTo>
                  <a:lnTo>
                    <a:pt x="1496" y="363"/>
                  </a:lnTo>
                  <a:lnTo>
                    <a:pt x="1517" y="391"/>
                  </a:lnTo>
                  <a:lnTo>
                    <a:pt x="1538" y="420"/>
                  </a:lnTo>
                  <a:lnTo>
                    <a:pt x="1557" y="450"/>
                  </a:lnTo>
                  <a:lnTo>
                    <a:pt x="1591" y="511"/>
                  </a:lnTo>
                  <a:lnTo>
                    <a:pt x="1622" y="574"/>
                  </a:lnTo>
                  <a:lnTo>
                    <a:pt x="1646" y="639"/>
                  </a:lnTo>
                  <a:lnTo>
                    <a:pt x="1684" y="777"/>
                  </a:lnTo>
                  <a:lnTo>
                    <a:pt x="1603" y="806"/>
                  </a:lnTo>
                  <a:lnTo>
                    <a:pt x="1521" y="834"/>
                  </a:lnTo>
                  <a:lnTo>
                    <a:pt x="1437" y="863"/>
                  </a:lnTo>
                  <a:lnTo>
                    <a:pt x="1355" y="893"/>
                  </a:lnTo>
                  <a:lnTo>
                    <a:pt x="1272" y="924"/>
                  </a:lnTo>
                  <a:lnTo>
                    <a:pt x="1188" y="954"/>
                  </a:lnTo>
                  <a:lnTo>
                    <a:pt x="1106" y="983"/>
                  </a:lnTo>
                  <a:lnTo>
                    <a:pt x="1026" y="1013"/>
                  </a:lnTo>
                  <a:lnTo>
                    <a:pt x="1026" y="998"/>
                  </a:lnTo>
                  <a:lnTo>
                    <a:pt x="1021" y="806"/>
                  </a:lnTo>
                  <a:lnTo>
                    <a:pt x="1007" y="642"/>
                  </a:lnTo>
                  <a:lnTo>
                    <a:pt x="985" y="505"/>
                  </a:lnTo>
                  <a:lnTo>
                    <a:pt x="969" y="447"/>
                  </a:lnTo>
                  <a:lnTo>
                    <a:pt x="952" y="395"/>
                  </a:lnTo>
                  <a:lnTo>
                    <a:pt x="933" y="352"/>
                  </a:lnTo>
                  <a:lnTo>
                    <a:pt x="910" y="312"/>
                  </a:lnTo>
                  <a:lnTo>
                    <a:pt x="888" y="277"/>
                  </a:lnTo>
                  <a:lnTo>
                    <a:pt x="859" y="251"/>
                  </a:lnTo>
                  <a:lnTo>
                    <a:pt x="831" y="230"/>
                  </a:lnTo>
                  <a:lnTo>
                    <a:pt x="798" y="215"/>
                  </a:lnTo>
                  <a:lnTo>
                    <a:pt x="726" y="203"/>
                  </a:lnTo>
                  <a:lnTo>
                    <a:pt x="627" y="226"/>
                  </a:lnTo>
                  <a:lnTo>
                    <a:pt x="547" y="293"/>
                  </a:lnTo>
                  <a:lnTo>
                    <a:pt x="279" y="275"/>
                  </a:lnTo>
                  <a:lnTo>
                    <a:pt x="0" y="302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05840" y="4839120"/>
              <a:ext cx="465120" cy="417600"/>
            </a:xfrm>
            <a:custGeom>
              <a:avLst/>
              <a:gdLst/>
              <a:ahLst/>
              <a:rect l="l" t="t" r="r" b="b"/>
              <a:pathLst>
                <a:path w="417" h="384">
                  <a:moveTo>
                    <a:pt x="0" y="213"/>
                  </a:moveTo>
                  <a:lnTo>
                    <a:pt x="2" y="122"/>
                  </a:lnTo>
                  <a:lnTo>
                    <a:pt x="124" y="84"/>
                  </a:lnTo>
                  <a:lnTo>
                    <a:pt x="234" y="49"/>
                  </a:lnTo>
                  <a:lnTo>
                    <a:pt x="333" y="21"/>
                  </a:lnTo>
                  <a:lnTo>
                    <a:pt x="417" y="0"/>
                  </a:lnTo>
                  <a:lnTo>
                    <a:pt x="373" y="42"/>
                  </a:lnTo>
                  <a:lnTo>
                    <a:pt x="325" y="87"/>
                  </a:lnTo>
                  <a:lnTo>
                    <a:pt x="276" y="135"/>
                  </a:lnTo>
                  <a:lnTo>
                    <a:pt x="223" y="182"/>
                  </a:lnTo>
                  <a:lnTo>
                    <a:pt x="196" y="205"/>
                  </a:lnTo>
                  <a:lnTo>
                    <a:pt x="169" y="230"/>
                  </a:lnTo>
                  <a:lnTo>
                    <a:pt x="143" y="257"/>
                  </a:lnTo>
                  <a:lnTo>
                    <a:pt x="116" y="281"/>
                  </a:lnTo>
                  <a:lnTo>
                    <a:pt x="90" y="306"/>
                  </a:lnTo>
                  <a:lnTo>
                    <a:pt x="63" y="331"/>
                  </a:lnTo>
                  <a:lnTo>
                    <a:pt x="38" y="357"/>
                  </a:lnTo>
                  <a:lnTo>
                    <a:pt x="12" y="384"/>
                  </a:lnTo>
                  <a:lnTo>
                    <a:pt x="0" y="213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29320" y="1577880"/>
              <a:ext cx="1474200" cy="1421640"/>
            </a:xfrm>
            <a:custGeom>
              <a:avLst/>
              <a:gdLst/>
              <a:ahLst/>
              <a:rect l="l" t="t" r="r" b="b"/>
              <a:pathLst>
                <a:path w="1318" h="1302">
                  <a:moveTo>
                    <a:pt x="0" y="1302"/>
                  </a:moveTo>
                  <a:lnTo>
                    <a:pt x="843" y="0"/>
                  </a:lnTo>
                  <a:lnTo>
                    <a:pt x="1318" y="0"/>
                  </a:lnTo>
                  <a:lnTo>
                    <a:pt x="514" y="1243"/>
                  </a:lnTo>
                  <a:lnTo>
                    <a:pt x="0" y="1302"/>
                  </a:lnTo>
                  <a:lnTo>
                    <a:pt x="0" y="1302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26200" y="5212440"/>
              <a:ext cx="1165320" cy="952560"/>
            </a:xfrm>
            <a:custGeom>
              <a:avLst/>
              <a:gdLst/>
              <a:ahLst/>
              <a:rect l="l" t="t" r="r" b="b"/>
              <a:pathLst>
                <a:path w="1042" h="873">
                  <a:moveTo>
                    <a:pt x="0" y="873"/>
                  </a:moveTo>
                  <a:lnTo>
                    <a:pt x="498" y="107"/>
                  </a:lnTo>
                  <a:lnTo>
                    <a:pt x="759" y="67"/>
                  </a:lnTo>
                  <a:lnTo>
                    <a:pt x="899" y="34"/>
                  </a:lnTo>
                  <a:lnTo>
                    <a:pt x="1042" y="0"/>
                  </a:lnTo>
                  <a:lnTo>
                    <a:pt x="475" y="873"/>
                  </a:lnTo>
                  <a:lnTo>
                    <a:pt x="0" y="873"/>
                  </a:lnTo>
                  <a:lnTo>
                    <a:pt x="0" y="873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3520" y="2189160"/>
              <a:ext cx="812160" cy="1050480"/>
            </a:xfrm>
            <a:custGeom>
              <a:avLst/>
              <a:gdLst/>
              <a:ahLst/>
              <a:rect l="l" t="t" r="r" b="b"/>
              <a:pathLst>
                <a:path w="727" h="961">
                  <a:moveTo>
                    <a:pt x="639" y="0"/>
                  </a:moveTo>
                  <a:lnTo>
                    <a:pt x="660" y="49"/>
                  </a:lnTo>
                  <a:lnTo>
                    <a:pt x="677" y="100"/>
                  </a:lnTo>
                  <a:lnTo>
                    <a:pt x="704" y="207"/>
                  </a:lnTo>
                  <a:lnTo>
                    <a:pt x="727" y="435"/>
                  </a:lnTo>
                  <a:lnTo>
                    <a:pt x="721" y="539"/>
                  </a:lnTo>
                  <a:lnTo>
                    <a:pt x="708" y="640"/>
                  </a:lnTo>
                  <a:lnTo>
                    <a:pt x="685" y="737"/>
                  </a:lnTo>
                  <a:lnTo>
                    <a:pt x="654" y="830"/>
                  </a:lnTo>
                  <a:lnTo>
                    <a:pt x="470" y="864"/>
                  </a:lnTo>
                  <a:lnTo>
                    <a:pt x="299" y="899"/>
                  </a:lnTo>
                  <a:lnTo>
                    <a:pt x="141" y="931"/>
                  </a:lnTo>
                  <a:lnTo>
                    <a:pt x="0" y="961"/>
                  </a:lnTo>
                  <a:lnTo>
                    <a:pt x="35" y="766"/>
                  </a:lnTo>
                  <a:lnTo>
                    <a:pt x="48" y="517"/>
                  </a:lnTo>
                  <a:lnTo>
                    <a:pt x="82" y="480"/>
                  </a:lnTo>
                  <a:lnTo>
                    <a:pt x="115" y="446"/>
                  </a:lnTo>
                  <a:lnTo>
                    <a:pt x="151" y="410"/>
                  </a:lnTo>
                  <a:lnTo>
                    <a:pt x="185" y="376"/>
                  </a:lnTo>
                  <a:lnTo>
                    <a:pt x="221" y="342"/>
                  </a:lnTo>
                  <a:lnTo>
                    <a:pt x="257" y="307"/>
                  </a:lnTo>
                  <a:lnTo>
                    <a:pt x="295" y="275"/>
                  </a:lnTo>
                  <a:lnTo>
                    <a:pt x="331" y="241"/>
                  </a:lnTo>
                  <a:lnTo>
                    <a:pt x="369" y="209"/>
                  </a:lnTo>
                  <a:lnTo>
                    <a:pt x="407" y="176"/>
                  </a:lnTo>
                  <a:lnTo>
                    <a:pt x="445" y="146"/>
                  </a:lnTo>
                  <a:lnTo>
                    <a:pt x="483" y="116"/>
                  </a:lnTo>
                  <a:lnTo>
                    <a:pt x="523" y="85"/>
                  </a:lnTo>
                  <a:lnTo>
                    <a:pt x="561" y="57"/>
                  </a:lnTo>
                  <a:lnTo>
                    <a:pt x="599" y="28"/>
                  </a:lnTo>
                  <a:lnTo>
                    <a:pt x="639" y="0"/>
                  </a:lnTo>
                  <a:lnTo>
                    <a:pt x="639" y="0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31120" y="1577880"/>
              <a:ext cx="1944000" cy="1714320"/>
            </a:xfrm>
            <a:custGeom>
              <a:avLst/>
              <a:gdLst/>
              <a:ahLst/>
              <a:rect l="l" t="t" r="r" b="b"/>
              <a:pathLst>
                <a:path w="1737" h="1570">
                  <a:moveTo>
                    <a:pt x="0" y="994"/>
                  </a:moveTo>
                  <a:lnTo>
                    <a:pt x="3" y="889"/>
                  </a:lnTo>
                  <a:lnTo>
                    <a:pt x="17" y="789"/>
                  </a:lnTo>
                  <a:lnTo>
                    <a:pt x="38" y="694"/>
                  </a:lnTo>
                  <a:lnTo>
                    <a:pt x="68" y="602"/>
                  </a:lnTo>
                  <a:lnTo>
                    <a:pt x="87" y="557"/>
                  </a:lnTo>
                  <a:lnTo>
                    <a:pt x="108" y="515"/>
                  </a:lnTo>
                  <a:lnTo>
                    <a:pt x="131" y="473"/>
                  </a:lnTo>
                  <a:lnTo>
                    <a:pt x="155" y="433"/>
                  </a:lnTo>
                  <a:lnTo>
                    <a:pt x="182" y="393"/>
                  </a:lnTo>
                  <a:lnTo>
                    <a:pt x="213" y="355"/>
                  </a:lnTo>
                  <a:lnTo>
                    <a:pt x="243" y="317"/>
                  </a:lnTo>
                  <a:lnTo>
                    <a:pt x="277" y="283"/>
                  </a:lnTo>
                  <a:lnTo>
                    <a:pt x="311" y="249"/>
                  </a:lnTo>
                  <a:lnTo>
                    <a:pt x="349" y="216"/>
                  </a:lnTo>
                  <a:lnTo>
                    <a:pt x="386" y="186"/>
                  </a:lnTo>
                  <a:lnTo>
                    <a:pt x="425" y="159"/>
                  </a:lnTo>
                  <a:lnTo>
                    <a:pt x="465" y="133"/>
                  </a:lnTo>
                  <a:lnTo>
                    <a:pt x="505" y="110"/>
                  </a:lnTo>
                  <a:lnTo>
                    <a:pt x="591" y="70"/>
                  </a:lnTo>
                  <a:lnTo>
                    <a:pt x="682" y="40"/>
                  </a:lnTo>
                  <a:lnTo>
                    <a:pt x="775" y="17"/>
                  </a:lnTo>
                  <a:lnTo>
                    <a:pt x="979" y="0"/>
                  </a:lnTo>
                  <a:lnTo>
                    <a:pt x="1180" y="17"/>
                  </a:lnTo>
                  <a:lnTo>
                    <a:pt x="1367" y="70"/>
                  </a:lnTo>
                  <a:lnTo>
                    <a:pt x="1452" y="110"/>
                  </a:lnTo>
                  <a:lnTo>
                    <a:pt x="1532" y="159"/>
                  </a:lnTo>
                  <a:lnTo>
                    <a:pt x="1572" y="186"/>
                  </a:lnTo>
                  <a:lnTo>
                    <a:pt x="1610" y="216"/>
                  </a:lnTo>
                  <a:lnTo>
                    <a:pt x="1646" y="249"/>
                  </a:lnTo>
                  <a:lnTo>
                    <a:pt x="1682" y="283"/>
                  </a:lnTo>
                  <a:lnTo>
                    <a:pt x="1711" y="313"/>
                  </a:lnTo>
                  <a:lnTo>
                    <a:pt x="1737" y="344"/>
                  </a:lnTo>
                  <a:lnTo>
                    <a:pt x="1682" y="378"/>
                  </a:lnTo>
                  <a:lnTo>
                    <a:pt x="1625" y="412"/>
                  </a:lnTo>
                  <a:lnTo>
                    <a:pt x="1566" y="450"/>
                  </a:lnTo>
                  <a:lnTo>
                    <a:pt x="1507" y="488"/>
                  </a:lnTo>
                  <a:lnTo>
                    <a:pt x="1448" y="526"/>
                  </a:lnTo>
                  <a:lnTo>
                    <a:pt x="1388" y="566"/>
                  </a:lnTo>
                  <a:lnTo>
                    <a:pt x="1329" y="608"/>
                  </a:lnTo>
                  <a:lnTo>
                    <a:pt x="1268" y="650"/>
                  </a:lnTo>
                  <a:lnTo>
                    <a:pt x="1243" y="509"/>
                  </a:lnTo>
                  <a:lnTo>
                    <a:pt x="1228" y="448"/>
                  </a:lnTo>
                  <a:lnTo>
                    <a:pt x="1211" y="395"/>
                  </a:lnTo>
                  <a:lnTo>
                    <a:pt x="1190" y="349"/>
                  </a:lnTo>
                  <a:lnTo>
                    <a:pt x="1169" y="311"/>
                  </a:lnTo>
                  <a:lnTo>
                    <a:pt x="1144" y="277"/>
                  </a:lnTo>
                  <a:lnTo>
                    <a:pt x="1116" y="251"/>
                  </a:lnTo>
                  <a:lnTo>
                    <a:pt x="1087" y="230"/>
                  </a:lnTo>
                  <a:lnTo>
                    <a:pt x="1053" y="215"/>
                  </a:lnTo>
                  <a:lnTo>
                    <a:pt x="983" y="203"/>
                  </a:lnTo>
                  <a:lnTo>
                    <a:pt x="910" y="215"/>
                  </a:lnTo>
                  <a:lnTo>
                    <a:pt x="848" y="249"/>
                  </a:lnTo>
                  <a:lnTo>
                    <a:pt x="794" y="306"/>
                  </a:lnTo>
                  <a:lnTo>
                    <a:pt x="751" y="386"/>
                  </a:lnTo>
                  <a:lnTo>
                    <a:pt x="695" y="616"/>
                  </a:lnTo>
                  <a:lnTo>
                    <a:pt x="676" y="941"/>
                  </a:lnTo>
                  <a:lnTo>
                    <a:pt x="678" y="1093"/>
                  </a:lnTo>
                  <a:lnTo>
                    <a:pt x="640" y="1125"/>
                  </a:lnTo>
                  <a:lnTo>
                    <a:pt x="604" y="1154"/>
                  </a:lnTo>
                  <a:lnTo>
                    <a:pt x="570" y="1184"/>
                  </a:lnTo>
                  <a:lnTo>
                    <a:pt x="534" y="1216"/>
                  </a:lnTo>
                  <a:lnTo>
                    <a:pt x="500" y="1247"/>
                  </a:lnTo>
                  <a:lnTo>
                    <a:pt x="465" y="1275"/>
                  </a:lnTo>
                  <a:lnTo>
                    <a:pt x="431" y="1306"/>
                  </a:lnTo>
                  <a:lnTo>
                    <a:pt x="399" y="1336"/>
                  </a:lnTo>
                  <a:lnTo>
                    <a:pt x="367" y="1366"/>
                  </a:lnTo>
                  <a:lnTo>
                    <a:pt x="336" y="1395"/>
                  </a:lnTo>
                  <a:lnTo>
                    <a:pt x="306" y="1425"/>
                  </a:lnTo>
                  <a:lnTo>
                    <a:pt x="275" y="1456"/>
                  </a:lnTo>
                  <a:lnTo>
                    <a:pt x="247" y="1484"/>
                  </a:lnTo>
                  <a:lnTo>
                    <a:pt x="218" y="1513"/>
                  </a:lnTo>
                  <a:lnTo>
                    <a:pt x="192" y="1541"/>
                  </a:lnTo>
                  <a:lnTo>
                    <a:pt x="165" y="1570"/>
                  </a:lnTo>
                  <a:lnTo>
                    <a:pt x="144" y="1539"/>
                  </a:lnTo>
                  <a:lnTo>
                    <a:pt x="127" y="1507"/>
                  </a:lnTo>
                  <a:lnTo>
                    <a:pt x="93" y="1442"/>
                  </a:lnTo>
                  <a:lnTo>
                    <a:pt x="64" y="1374"/>
                  </a:lnTo>
                  <a:lnTo>
                    <a:pt x="40" y="1304"/>
                  </a:lnTo>
                  <a:lnTo>
                    <a:pt x="9" y="1154"/>
                  </a:lnTo>
                  <a:lnTo>
                    <a:pt x="0" y="994"/>
                  </a:lnTo>
                  <a:lnTo>
                    <a:pt x="0" y="994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 txBox="1"/>
          <p:nvPr/>
        </p:nvSpPr>
        <p:spPr>
          <a:xfrm>
            <a:off x="1295280" y="1676520"/>
            <a:ext cx="65358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ercent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Increas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68720" y="2424240"/>
            <a:ext cx="3240" cy="360"/>
          </a:xfrm>
          <a:custGeom>
            <a:avLst/>
            <a:gdLst/>
            <a:ahLst/>
            <a:rect l="l" t="t" r="r" b="b"/>
            <a:pathLst>
              <a:path w="10" h="4">
                <a:moveTo>
                  <a:pt x="10" y="4"/>
                </a:moveTo>
                <a:lnTo>
                  <a:pt x="0" y="0"/>
                </a:lnTo>
                <a:lnTo>
                  <a:pt x="10" y="0"/>
                </a:lnTo>
                <a:lnTo>
                  <a:pt x="10" y="4"/>
                </a:lnTo>
                <a:close/>
              </a:path>
            </a:pathLst>
          </a:custGeom>
          <a:solidFill>
            <a:srgbClr val="ffde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680" y="152100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2700360" y="1447920"/>
            <a:ext cx="5224320" cy="6030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296000" y="2482920"/>
            <a:ext cx="543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8,027 + </a:t>
            </a: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7.6%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x 18,027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21480" y="3701880"/>
            <a:ext cx="36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8,027 + </a:t>
            </a: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1,37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887720" y="370188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9,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71200" y="4952880"/>
            <a:ext cx="96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"/>
          <p:cNvGrpSpPr/>
          <p:nvPr/>
        </p:nvGrpSpPr>
        <p:grpSpPr>
          <a:xfrm>
            <a:off x="5595120" y="1489320"/>
            <a:ext cx="3341520" cy="4462200"/>
            <a:chOff x="5595120" y="1489320"/>
            <a:chExt cx="3341520" cy="4462200"/>
          </a:xfrm>
        </p:grpSpPr>
        <p:sp>
          <p:nvSpPr>
            <p:cNvPr id="522" name=""/>
            <p:cNvSpPr/>
            <p:nvPr/>
          </p:nvSpPr>
          <p:spPr>
            <a:xfrm rot="10372200">
              <a:off x="6348960" y="1580400"/>
              <a:ext cx="1716120" cy="3940920"/>
            </a:xfrm>
            <a:custGeom>
              <a:avLst/>
              <a:gdLst/>
              <a:ahLst/>
              <a:rect l="l" t="t" r="r" b="b"/>
              <a:pathLst>
                <a:path w="2162" h="3988">
                  <a:moveTo>
                    <a:pt x="305" y="721"/>
                  </a:moveTo>
                  <a:lnTo>
                    <a:pt x="305" y="2125"/>
                  </a:lnTo>
                  <a:lnTo>
                    <a:pt x="152" y="3342"/>
                  </a:lnTo>
                  <a:lnTo>
                    <a:pt x="0" y="3834"/>
                  </a:lnTo>
                  <a:lnTo>
                    <a:pt x="1061" y="3190"/>
                  </a:lnTo>
                  <a:lnTo>
                    <a:pt x="1325" y="3988"/>
                  </a:lnTo>
                  <a:lnTo>
                    <a:pt x="1896" y="3418"/>
                  </a:lnTo>
                  <a:lnTo>
                    <a:pt x="2162" y="2353"/>
                  </a:lnTo>
                  <a:lnTo>
                    <a:pt x="2084" y="949"/>
                  </a:lnTo>
                  <a:lnTo>
                    <a:pt x="949" y="0"/>
                  </a:lnTo>
                  <a:lnTo>
                    <a:pt x="305" y="721"/>
                  </a:lnTo>
                  <a:lnTo>
                    <a:pt x="305" y="721"/>
                  </a:lnTo>
                  <a:lnTo>
                    <a:pt x="305" y="721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10372200">
              <a:off x="5815440" y="2052000"/>
              <a:ext cx="2900520" cy="3733920"/>
            </a:xfrm>
            <a:custGeom>
              <a:avLst/>
              <a:gdLst/>
              <a:ahLst/>
              <a:rect l="l" t="t" r="r" b="b"/>
              <a:pathLst>
                <a:path w="3654" h="3777">
                  <a:moveTo>
                    <a:pt x="1578" y="0"/>
                  </a:moveTo>
                  <a:lnTo>
                    <a:pt x="1184" y="508"/>
                  </a:lnTo>
                  <a:lnTo>
                    <a:pt x="530" y="1006"/>
                  </a:lnTo>
                  <a:lnTo>
                    <a:pt x="0" y="1320"/>
                  </a:lnTo>
                  <a:lnTo>
                    <a:pt x="1019" y="1439"/>
                  </a:lnTo>
                  <a:lnTo>
                    <a:pt x="1203" y="2230"/>
                  </a:lnTo>
                  <a:lnTo>
                    <a:pt x="1184" y="2912"/>
                  </a:lnTo>
                  <a:lnTo>
                    <a:pt x="1120" y="3741"/>
                  </a:lnTo>
                  <a:lnTo>
                    <a:pt x="1441" y="2985"/>
                  </a:lnTo>
                  <a:lnTo>
                    <a:pt x="1671" y="2112"/>
                  </a:lnTo>
                  <a:lnTo>
                    <a:pt x="1779" y="1363"/>
                  </a:lnTo>
                  <a:lnTo>
                    <a:pt x="1772" y="500"/>
                  </a:lnTo>
                  <a:lnTo>
                    <a:pt x="2257" y="1264"/>
                  </a:lnTo>
                  <a:lnTo>
                    <a:pt x="2479" y="2165"/>
                  </a:lnTo>
                  <a:lnTo>
                    <a:pt x="2496" y="3150"/>
                  </a:lnTo>
                  <a:lnTo>
                    <a:pt x="2479" y="3777"/>
                  </a:lnTo>
                  <a:lnTo>
                    <a:pt x="2810" y="2718"/>
                  </a:lnTo>
                  <a:lnTo>
                    <a:pt x="2930" y="1990"/>
                  </a:lnTo>
                  <a:lnTo>
                    <a:pt x="2920" y="1411"/>
                  </a:lnTo>
                  <a:lnTo>
                    <a:pt x="3654" y="1291"/>
                  </a:lnTo>
                  <a:lnTo>
                    <a:pt x="2856" y="683"/>
                  </a:lnTo>
                  <a:lnTo>
                    <a:pt x="2002" y="204"/>
                  </a:lnTo>
                  <a:lnTo>
                    <a:pt x="1578" y="0"/>
                  </a:lnTo>
                  <a:lnTo>
                    <a:pt x="1578" y="0"/>
                  </a:lnTo>
                  <a:lnTo>
                    <a:pt x="157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14280" y="1116720"/>
            <a:ext cx="5684760" cy="5610960"/>
            <a:chOff x="314280" y="1116720"/>
            <a:chExt cx="5684760" cy="5610960"/>
          </a:xfrm>
        </p:grpSpPr>
        <p:sp>
          <p:nvSpPr>
            <p:cNvPr id="525" name=""/>
            <p:cNvSpPr/>
            <p:nvPr/>
          </p:nvSpPr>
          <p:spPr>
            <a:xfrm rot="11427600">
              <a:off x="494640" y="1240920"/>
              <a:ext cx="1568160" cy="2131920"/>
            </a:xfrm>
            <a:custGeom>
              <a:avLst/>
              <a:gdLst/>
              <a:ahLst/>
              <a:rect l="l" t="t" r="r" b="b"/>
              <a:pathLst>
                <a:path w="1401" h="1952">
                  <a:moveTo>
                    <a:pt x="0" y="1789"/>
                  </a:moveTo>
                  <a:lnTo>
                    <a:pt x="0" y="1952"/>
                  </a:lnTo>
                  <a:lnTo>
                    <a:pt x="121" y="1943"/>
                  </a:lnTo>
                  <a:lnTo>
                    <a:pt x="329" y="1880"/>
                  </a:lnTo>
                  <a:lnTo>
                    <a:pt x="422" y="1834"/>
                  </a:lnTo>
                  <a:lnTo>
                    <a:pt x="466" y="1808"/>
                  </a:lnTo>
                  <a:lnTo>
                    <a:pt x="509" y="1777"/>
                  </a:lnTo>
                  <a:lnTo>
                    <a:pt x="551" y="1747"/>
                  </a:lnTo>
                  <a:lnTo>
                    <a:pt x="589" y="1713"/>
                  </a:lnTo>
                  <a:lnTo>
                    <a:pt x="627" y="1675"/>
                  </a:lnTo>
                  <a:lnTo>
                    <a:pt x="663" y="1637"/>
                  </a:lnTo>
                  <a:lnTo>
                    <a:pt x="697" y="1597"/>
                  </a:lnTo>
                  <a:lnTo>
                    <a:pt x="730" y="1553"/>
                  </a:lnTo>
                  <a:lnTo>
                    <a:pt x="760" y="1507"/>
                  </a:lnTo>
                  <a:lnTo>
                    <a:pt x="787" y="1462"/>
                  </a:lnTo>
                  <a:lnTo>
                    <a:pt x="813" y="1409"/>
                  </a:lnTo>
                  <a:lnTo>
                    <a:pt x="836" y="1355"/>
                  </a:lnTo>
                  <a:lnTo>
                    <a:pt x="871" y="1251"/>
                  </a:lnTo>
                  <a:lnTo>
                    <a:pt x="907" y="1028"/>
                  </a:lnTo>
                  <a:lnTo>
                    <a:pt x="1009" y="983"/>
                  </a:lnTo>
                  <a:lnTo>
                    <a:pt x="1101" y="945"/>
                  </a:lnTo>
                  <a:lnTo>
                    <a:pt x="1171" y="920"/>
                  </a:lnTo>
                  <a:lnTo>
                    <a:pt x="1241" y="895"/>
                  </a:lnTo>
                  <a:lnTo>
                    <a:pt x="1384" y="854"/>
                  </a:lnTo>
                  <a:lnTo>
                    <a:pt x="1401" y="624"/>
                  </a:lnTo>
                  <a:lnTo>
                    <a:pt x="1274" y="658"/>
                  </a:lnTo>
                  <a:lnTo>
                    <a:pt x="1146" y="698"/>
                  </a:lnTo>
                  <a:lnTo>
                    <a:pt x="1021" y="741"/>
                  </a:lnTo>
                  <a:lnTo>
                    <a:pt x="895" y="783"/>
                  </a:lnTo>
                  <a:lnTo>
                    <a:pt x="882" y="724"/>
                  </a:lnTo>
                  <a:lnTo>
                    <a:pt x="865" y="656"/>
                  </a:lnTo>
                  <a:lnTo>
                    <a:pt x="840" y="589"/>
                  </a:lnTo>
                  <a:lnTo>
                    <a:pt x="812" y="525"/>
                  </a:lnTo>
                  <a:lnTo>
                    <a:pt x="777" y="462"/>
                  </a:lnTo>
                  <a:lnTo>
                    <a:pt x="758" y="432"/>
                  </a:lnTo>
                  <a:lnTo>
                    <a:pt x="739" y="401"/>
                  </a:lnTo>
                  <a:lnTo>
                    <a:pt x="718" y="373"/>
                  </a:lnTo>
                  <a:lnTo>
                    <a:pt x="696" y="346"/>
                  </a:lnTo>
                  <a:lnTo>
                    <a:pt x="673" y="317"/>
                  </a:lnTo>
                  <a:lnTo>
                    <a:pt x="650" y="293"/>
                  </a:lnTo>
                  <a:lnTo>
                    <a:pt x="625" y="266"/>
                  </a:lnTo>
                  <a:lnTo>
                    <a:pt x="599" y="241"/>
                  </a:lnTo>
                  <a:lnTo>
                    <a:pt x="568" y="215"/>
                  </a:lnTo>
                  <a:lnTo>
                    <a:pt x="536" y="188"/>
                  </a:lnTo>
                  <a:lnTo>
                    <a:pt x="502" y="164"/>
                  </a:lnTo>
                  <a:lnTo>
                    <a:pt x="467" y="141"/>
                  </a:lnTo>
                  <a:lnTo>
                    <a:pt x="395" y="101"/>
                  </a:lnTo>
                  <a:lnTo>
                    <a:pt x="321" y="67"/>
                  </a:lnTo>
                  <a:lnTo>
                    <a:pt x="243" y="40"/>
                  </a:lnTo>
                  <a:lnTo>
                    <a:pt x="163" y="21"/>
                  </a:lnTo>
                  <a:lnTo>
                    <a:pt x="0" y="0"/>
                  </a:lnTo>
                  <a:lnTo>
                    <a:pt x="0" y="167"/>
                  </a:lnTo>
                  <a:lnTo>
                    <a:pt x="114" y="230"/>
                  </a:lnTo>
                  <a:lnTo>
                    <a:pt x="156" y="281"/>
                  </a:lnTo>
                  <a:lnTo>
                    <a:pt x="188" y="342"/>
                  </a:lnTo>
                  <a:lnTo>
                    <a:pt x="235" y="500"/>
                  </a:lnTo>
                  <a:lnTo>
                    <a:pt x="262" y="669"/>
                  </a:lnTo>
                  <a:lnTo>
                    <a:pt x="272" y="1006"/>
                  </a:lnTo>
                  <a:lnTo>
                    <a:pt x="205" y="1032"/>
                  </a:lnTo>
                  <a:lnTo>
                    <a:pt x="137" y="1057"/>
                  </a:lnTo>
                  <a:lnTo>
                    <a:pt x="68" y="1082"/>
                  </a:lnTo>
                  <a:lnTo>
                    <a:pt x="0" y="1106"/>
                  </a:lnTo>
                  <a:lnTo>
                    <a:pt x="0" y="1553"/>
                  </a:lnTo>
                  <a:lnTo>
                    <a:pt x="45" y="1524"/>
                  </a:lnTo>
                  <a:lnTo>
                    <a:pt x="89" y="1498"/>
                  </a:lnTo>
                  <a:lnTo>
                    <a:pt x="133" y="1469"/>
                  </a:lnTo>
                  <a:lnTo>
                    <a:pt x="177" y="1441"/>
                  </a:lnTo>
                  <a:lnTo>
                    <a:pt x="247" y="1399"/>
                  </a:lnTo>
                  <a:lnTo>
                    <a:pt x="218" y="1519"/>
                  </a:lnTo>
                  <a:lnTo>
                    <a:pt x="199" y="1580"/>
                  </a:lnTo>
                  <a:lnTo>
                    <a:pt x="175" y="1637"/>
                  </a:lnTo>
                  <a:lnTo>
                    <a:pt x="159" y="1663"/>
                  </a:lnTo>
                  <a:lnTo>
                    <a:pt x="144" y="1688"/>
                  </a:lnTo>
                  <a:lnTo>
                    <a:pt x="125" y="1713"/>
                  </a:lnTo>
                  <a:lnTo>
                    <a:pt x="106" y="1734"/>
                  </a:lnTo>
                  <a:lnTo>
                    <a:pt x="59" y="1768"/>
                  </a:lnTo>
                  <a:lnTo>
                    <a:pt x="0" y="1789"/>
                  </a:lnTo>
                  <a:lnTo>
                    <a:pt x="0" y="1789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11427600">
              <a:off x="1226520" y="1595520"/>
              <a:ext cx="3774960" cy="4541760"/>
            </a:xfrm>
            <a:custGeom>
              <a:avLst/>
              <a:gdLst/>
              <a:ahLst/>
              <a:rect l="l" t="t" r="r" b="b"/>
              <a:pathLst>
                <a:path w="3373" h="4157">
                  <a:moveTo>
                    <a:pt x="2852" y="2617"/>
                  </a:moveTo>
                  <a:lnTo>
                    <a:pt x="2882" y="2671"/>
                  </a:lnTo>
                  <a:lnTo>
                    <a:pt x="2895" y="2728"/>
                  </a:lnTo>
                  <a:lnTo>
                    <a:pt x="2890" y="2855"/>
                  </a:lnTo>
                  <a:lnTo>
                    <a:pt x="2873" y="2914"/>
                  </a:lnTo>
                  <a:lnTo>
                    <a:pt x="2852" y="2971"/>
                  </a:lnTo>
                  <a:lnTo>
                    <a:pt x="2825" y="3041"/>
                  </a:lnTo>
                  <a:lnTo>
                    <a:pt x="2793" y="3108"/>
                  </a:lnTo>
                  <a:lnTo>
                    <a:pt x="2776" y="3140"/>
                  </a:lnTo>
                  <a:lnTo>
                    <a:pt x="2755" y="3170"/>
                  </a:lnTo>
                  <a:lnTo>
                    <a:pt x="2736" y="3201"/>
                  </a:lnTo>
                  <a:lnTo>
                    <a:pt x="2713" y="3229"/>
                  </a:lnTo>
                  <a:lnTo>
                    <a:pt x="2690" y="3254"/>
                  </a:lnTo>
                  <a:lnTo>
                    <a:pt x="2665" y="3279"/>
                  </a:lnTo>
                  <a:lnTo>
                    <a:pt x="2643" y="3304"/>
                  </a:lnTo>
                  <a:lnTo>
                    <a:pt x="2618" y="3328"/>
                  </a:lnTo>
                  <a:lnTo>
                    <a:pt x="2595" y="3353"/>
                  </a:lnTo>
                  <a:lnTo>
                    <a:pt x="2570" y="3378"/>
                  </a:lnTo>
                  <a:lnTo>
                    <a:pt x="2547" y="3402"/>
                  </a:lnTo>
                  <a:lnTo>
                    <a:pt x="2523" y="3427"/>
                  </a:lnTo>
                  <a:lnTo>
                    <a:pt x="2605" y="3399"/>
                  </a:lnTo>
                  <a:lnTo>
                    <a:pt x="2686" y="3368"/>
                  </a:lnTo>
                  <a:lnTo>
                    <a:pt x="2770" y="3338"/>
                  </a:lnTo>
                  <a:lnTo>
                    <a:pt x="2852" y="3307"/>
                  </a:lnTo>
                  <a:lnTo>
                    <a:pt x="3373" y="3300"/>
                  </a:lnTo>
                  <a:lnTo>
                    <a:pt x="2852" y="3754"/>
                  </a:lnTo>
                  <a:lnTo>
                    <a:pt x="2791" y="3792"/>
                  </a:lnTo>
                  <a:lnTo>
                    <a:pt x="2728" y="3828"/>
                  </a:lnTo>
                  <a:lnTo>
                    <a:pt x="2665" y="3864"/>
                  </a:lnTo>
                  <a:lnTo>
                    <a:pt x="2605" y="3898"/>
                  </a:lnTo>
                  <a:lnTo>
                    <a:pt x="2654" y="3942"/>
                  </a:lnTo>
                  <a:lnTo>
                    <a:pt x="2703" y="3973"/>
                  </a:lnTo>
                  <a:lnTo>
                    <a:pt x="2759" y="3990"/>
                  </a:lnTo>
                  <a:lnTo>
                    <a:pt x="2825" y="3994"/>
                  </a:lnTo>
                  <a:lnTo>
                    <a:pt x="2852" y="3990"/>
                  </a:lnTo>
                  <a:lnTo>
                    <a:pt x="3308" y="3948"/>
                  </a:lnTo>
                  <a:lnTo>
                    <a:pt x="2852" y="4153"/>
                  </a:lnTo>
                  <a:lnTo>
                    <a:pt x="2601" y="4138"/>
                  </a:lnTo>
                  <a:lnTo>
                    <a:pt x="2365" y="4056"/>
                  </a:lnTo>
                  <a:lnTo>
                    <a:pt x="2331" y="4039"/>
                  </a:lnTo>
                  <a:lnTo>
                    <a:pt x="2228" y="4079"/>
                  </a:lnTo>
                  <a:lnTo>
                    <a:pt x="2125" y="4111"/>
                  </a:lnTo>
                  <a:lnTo>
                    <a:pt x="2019" y="4130"/>
                  </a:lnTo>
                  <a:lnTo>
                    <a:pt x="1911" y="4130"/>
                  </a:lnTo>
                  <a:lnTo>
                    <a:pt x="1848" y="4104"/>
                  </a:lnTo>
                  <a:lnTo>
                    <a:pt x="1787" y="4073"/>
                  </a:lnTo>
                  <a:lnTo>
                    <a:pt x="1728" y="4037"/>
                  </a:lnTo>
                  <a:lnTo>
                    <a:pt x="1675" y="3995"/>
                  </a:lnTo>
                  <a:lnTo>
                    <a:pt x="1631" y="3948"/>
                  </a:lnTo>
                  <a:lnTo>
                    <a:pt x="1601" y="3893"/>
                  </a:lnTo>
                  <a:lnTo>
                    <a:pt x="1584" y="3828"/>
                  </a:lnTo>
                  <a:lnTo>
                    <a:pt x="1585" y="3756"/>
                  </a:lnTo>
                  <a:lnTo>
                    <a:pt x="1603" y="3697"/>
                  </a:lnTo>
                  <a:lnTo>
                    <a:pt x="1627" y="3642"/>
                  </a:lnTo>
                  <a:lnTo>
                    <a:pt x="1658" y="3589"/>
                  </a:lnTo>
                  <a:lnTo>
                    <a:pt x="1675" y="3562"/>
                  </a:lnTo>
                  <a:lnTo>
                    <a:pt x="1692" y="3537"/>
                  </a:lnTo>
                  <a:lnTo>
                    <a:pt x="1711" y="3513"/>
                  </a:lnTo>
                  <a:lnTo>
                    <a:pt x="1730" y="3488"/>
                  </a:lnTo>
                  <a:lnTo>
                    <a:pt x="1751" y="3463"/>
                  </a:lnTo>
                  <a:lnTo>
                    <a:pt x="1772" y="3440"/>
                  </a:lnTo>
                  <a:lnTo>
                    <a:pt x="1814" y="3395"/>
                  </a:lnTo>
                  <a:lnTo>
                    <a:pt x="1853" y="3353"/>
                  </a:lnTo>
                  <a:lnTo>
                    <a:pt x="1842" y="3131"/>
                  </a:lnTo>
                  <a:lnTo>
                    <a:pt x="1848" y="3055"/>
                  </a:lnTo>
                  <a:lnTo>
                    <a:pt x="1768" y="3079"/>
                  </a:lnTo>
                  <a:lnTo>
                    <a:pt x="1688" y="3106"/>
                  </a:lnTo>
                  <a:lnTo>
                    <a:pt x="1608" y="3131"/>
                  </a:lnTo>
                  <a:lnTo>
                    <a:pt x="1528" y="3157"/>
                  </a:lnTo>
                  <a:lnTo>
                    <a:pt x="1449" y="3182"/>
                  </a:lnTo>
                  <a:lnTo>
                    <a:pt x="1369" y="3207"/>
                  </a:lnTo>
                  <a:lnTo>
                    <a:pt x="1207" y="3252"/>
                  </a:lnTo>
                  <a:lnTo>
                    <a:pt x="1080" y="3286"/>
                  </a:lnTo>
                  <a:lnTo>
                    <a:pt x="614" y="4007"/>
                  </a:lnTo>
                  <a:lnTo>
                    <a:pt x="517" y="4157"/>
                  </a:lnTo>
                  <a:lnTo>
                    <a:pt x="91" y="4157"/>
                  </a:lnTo>
                  <a:lnTo>
                    <a:pt x="591" y="3385"/>
                  </a:lnTo>
                  <a:lnTo>
                    <a:pt x="424" y="3397"/>
                  </a:lnTo>
                  <a:lnTo>
                    <a:pt x="256" y="3383"/>
                  </a:lnTo>
                  <a:lnTo>
                    <a:pt x="108" y="3321"/>
                  </a:lnTo>
                  <a:lnTo>
                    <a:pt x="47" y="3265"/>
                  </a:lnTo>
                  <a:lnTo>
                    <a:pt x="23" y="3229"/>
                  </a:lnTo>
                  <a:lnTo>
                    <a:pt x="0" y="3188"/>
                  </a:lnTo>
                  <a:lnTo>
                    <a:pt x="0" y="3066"/>
                  </a:lnTo>
                  <a:lnTo>
                    <a:pt x="17" y="3011"/>
                  </a:lnTo>
                  <a:lnTo>
                    <a:pt x="43" y="2958"/>
                  </a:lnTo>
                  <a:lnTo>
                    <a:pt x="59" y="2933"/>
                  </a:lnTo>
                  <a:lnTo>
                    <a:pt x="76" y="2908"/>
                  </a:lnTo>
                  <a:lnTo>
                    <a:pt x="95" y="2883"/>
                  </a:lnTo>
                  <a:lnTo>
                    <a:pt x="114" y="2859"/>
                  </a:lnTo>
                  <a:lnTo>
                    <a:pt x="156" y="2813"/>
                  </a:lnTo>
                  <a:lnTo>
                    <a:pt x="196" y="2769"/>
                  </a:lnTo>
                  <a:lnTo>
                    <a:pt x="245" y="2726"/>
                  </a:lnTo>
                  <a:lnTo>
                    <a:pt x="294" y="2682"/>
                  </a:lnTo>
                  <a:lnTo>
                    <a:pt x="346" y="2640"/>
                  </a:lnTo>
                  <a:lnTo>
                    <a:pt x="397" y="2598"/>
                  </a:lnTo>
                  <a:lnTo>
                    <a:pt x="450" y="2558"/>
                  </a:lnTo>
                  <a:lnTo>
                    <a:pt x="504" y="2518"/>
                  </a:lnTo>
                  <a:lnTo>
                    <a:pt x="559" y="2480"/>
                  </a:lnTo>
                  <a:lnTo>
                    <a:pt x="614" y="2442"/>
                  </a:lnTo>
                  <a:lnTo>
                    <a:pt x="661" y="2412"/>
                  </a:lnTo>
                  <a:lnTo>
                    <a:pt x="709" y="2380"/>
                  </a:lnTo>
                  <a:lnTo>
                    <a:pt x="758" y="2349"/>
                  </a:lnTo>
                  <a:lnTo>
                    <a:pt x="806" y="2319"/>
                  </a:lnTo>
                  <a:lnTo>
                    <a:pt x="855" y="2290"/>
                  </a:lnTo>
                  <a:lnTo>
                    <a:pt x="905" y="2260"/>
                  </a:lnTo>
                  <a:lnTo>
                    <a:pt x="954" y="2231"/>
                  </a:lnTo>
                  <a:lnTo>
                    <a:pt x="1004" y="2201"/>
                  </a:lnTo>
                  <a:lnTo>
                    <a:pt x="1053" y="2173"/>
                  </a:lnTo>
                  <a:lnTo>
                    <a:pt x="1102" y="2144"/>
                  </a:lnTo>
                  <a:lnTo>
                    <a:pt x="1152" y="2115"/>
                  </a:lnTo>
                  <a:lnTo>
                    <a:pt x="1201" y="2087"/>
                  </a:lnTo>
                  <a:lnTo>
                    <a:pt x="1251" y="2058"/>
                  </a:lnTo>
                  <a:lnTo>
                    <a:pt x="1300" y="2030"/>
                  </a:lnTo>
                  <a:lnTo>
                    <a:pt x="1350" y="2001"/>
                  </a:lnTo>
                  <a:lnTo>
                    <a:pt x="1397" y="1973"/>
                  </a:lnTo>
                  <a:lnTo>
                    <a:pt x="1201" y="2007"/>
                  </a:lnTo>
                  <a:lnTo>
                    <a:pt x="1006" y="2043"/>
                  </a:lnTo>
                  <a:lnTo>
                    <a:pt x="810" y="2077"/>
                  </a:lnTo>
                  <a:lnTo>
                    <a:pt x="614" y="2112"/>
                  </a:lnTo>
                  <a:lnTo>
                    <a:pt x="614" y="1555"/>
                  </a:lnTo>
                  <a:lnTo>
                    <a:pt x="774" y="1519"/>
                  </a:lnTo>
                  <a:lnTo>
                    <a:pt x="813" y="1260"/>
                  </a:lnTo>
                  <a:lnTo>
                    <a:pt x="827" y="998"/>
                  </a:lnTo>
                  <a:lnTo>
                    <a:pt x="796" y="1034"/>
                  </a:lnTo>
                  <a:lnTo>
                    <a:pt x="764" y="1070"/>
                  </a:lnTo>
                  <a:lnTo>
                    <a:pt x="734" y="1104"/>
                  </a:lnTo>
                  <a:lnTo>
                    <a:pt x="701" y="1140"/>
                  </a:lnTo>
                  <a:lnTo>
                    <a:pt x="678" y="1167"/>
                  </a:lnTo>
                  <a:lnTo>
                    <a:pt x="656" y="1194"/>
                  </a:lnTo>
                  <a:lnTo>
                    <a:pt x="635" y="1222"/>
                  </a:lnTo>
                  <a:lnTo>
                    <a:pt x="614" y="1251"/>
                  </a:lnTo>
                  <a:lnTo>
                    <a:pt x="614" y="777"/>
                  </a:lnTo>
                  <a:lnTo>
                    <a:pt x="661" y="743"/>
                  </a:lnTo>
                  <a:lnTo>
                    <a:pt x="711" y="709"/>
                  </a:lnTo>
                  <a:lnTo>
                    <a:pt x="760" y="673"/>
                  </a:lnTo>
                  <a:lnTo>
                    <a:pt x="810" y="640"/>
                  </a:lnTo>
                  <a:lnTo>
                    <a:pt x="793" y="519"/>
                  </a:lnTo>
                  <a:lnTo>
                    <a:pt x="777" y="454"/>
                  </a:lnTo>
                  <a:lnTo>
                    <a:pt x="758" y="391"/>
                  </a:lnTo>
                  <a:lnTo>
                    <a:pt x="734" y="331"/>
                  </a:lnTo>
                  <a:lnTo>
                    <a:pt x="717" y="302"/>
                  </a:lnTo>
                  <a:lnTo>
                    <a:pt x="701" y="275"/>
                  </a:lnTo>
                  <a:lnTo>
                    <a:pt x="682" y="253"/>
                  </a:lnTo>
                  <a:lnTo>
                    <a:pt x="661" y="230"/>
                  </a:lnTo>
                  <a:lnTo>
                    <a:pt x="614" y="194"/>
                  </a:lnTo>
                  <a:lnTo>
                    <a:pt x="614" y="7"/>
                  </a:lnTo>
                  <a:lnTo>
                    <a:pt x="880" y="70"/>
                  </a:lnTo>
                  <a:lnTo>
                    <a:pt x="986" y="123"/>
                  </a:lnTo>
                  <a:lnTo>
                    <a:pt x="1038" y="154"/>
                  </a:lnTo>
                  <a:lnTo>
                    <a:pt x="1085" y="188"/>
                  </a:lnTo>
                  <a:lnTo>
                    <a:pt x="1131" y="224"/>
                  </a:lnTo>
                  <a:lnTo>
                    <a:pt x="1173" y="264"/>
                  </a:lnTo>
                  <a:lnTo>
                    <a:pt x="1215" y="306"/>
                  </a:lnTo>
                  <a:lnTo>
                    <a:pt x="1255" y="350"/>
                  </a:lnTo>
                  <a:lnTo>
                    <a:pt x="1319" y="312"/>
                  </a:lnTo>
                  <a:lnTo>
                    <a:pt x="1384" y="274"/>
                  </a:lnTo>
                  <a:lnTo>
                    <a:pt x="1450" y="236"/>
                  </a:lnTo>
                  <a:lnTo>
                    <a:pt x="1517" y="199"/>
                  </a:lnTo>
                  <a:lnTo>
                    <a:pt x="1585" y="165"/>
                  </a:lnTo>
                  <a:lnTo>
                    <a:pt x="1654" y="131"/>
                  </a:lnTo>
                  <a:lnTo>
                    <a:pt x="1722" y="101"/>
                  </a:lnTo>
                  <a:lnTo>
                    <a:pt x="1793" y="74"/>
                  </a:lnTo>
                  <a:lnTo>
                    <a:pt x="1796" y="74"/>
                  </a:lnTo>
                  <a:lnTo>
                    <a:pt x="1844" y="268"/>
                  </a:lnTo>
                  <a:lnTo>
                    <a:pt x="1719" y="323"/>
                  </a:lnTo>
                  <a:lnTo>
                    <a:pt x="1660" y="353"/>
                  </a:lnTo>
                  <a:lnTo>
                    <a:pt x="1599" y="388"/>
                  </a:lnTo>
                  <a:lnTo>
                    <a:pt x="1542" y="422"/>
                  </a:lnTo>
                  <a:lnTo>
                    <a:pt x="1483" y="458"/>
                  </a:lnTo>
                  <a:lnTo>
                    <a:pt x="1426" y="494"/>
                  </a:lnTo>
                  <a:lnTo>
                    <a:pt x="1369" y="532"/>
                  </a:lnTo>
                  <a:lnTo>
                    <a:pt x="1391" y="589"/>
                  </a:lnTo>
                  <a:lnTo>
                    <a:pt x="1412" y="646"/>
                  </a:lnTo>
                  <a:lnTo>
                    <a:pt x="1460" y="922"/>
                  </a:lnTo>
                  <a:lnTo>
                    <a:pt x="1458" y="1062"/>
                  </a:lnTo>
                  <a:lnTo>
                    <a:pt x="1439" y="1199"/>
                  </a:lnTo>
                  <a:lnTo>
                    <a:pt x="1428" y="1249"/>
                  </a:lnTo>
                  <a:lnTo>
                    <a:pt x="1412" y="1300"/>
                  </a:lnTo>
                  <a:lnTo>
                    <a:pt x="1378" y="1397"/>
                  </a:lnTo>
                  <a:lnTo>
                    <a:pt x="1519" y="1370"/>
                  </a:lnTo>
                  <a:lnTo>
                    <a:pt x="1660" y="1348"/>
                  </a:lnTo>
                  <a:lnTo>
                    <a:pt x="1941" y="1300"/>
                  </a:lnTo>
                  <a:lnTo>
                    <a:pt x="2783" y="0"/>
                  </a:lnTo>
                  <a:lnTo>
                    <a:pt x="2852" y="0"/>
                  </a:lnTo>
                  <a:lnTo>
                    <a:pt x="3209" y="0"/>
                  </a:lnTo>
                  <a:lnTo>
                    <a:pt x="2852" y="549"/>
                  </a:lnTo>
                  <a:lnTo>
                    <a:pt x="2401" y="1247"/>
                  </a:lnTo>
                  <a:lnTo>
                    <a:pt x="2793" y="1235"/>
                  </a:lnTo>
                  <a:lnTo>
                    <a:pt x="2852" y="1239"/>
                  </a:lnTo>
                  <a:lnTo>
                    <a:pt x="3040" y="1275"/>
                  </a:lnTo>
                  <a:lnTo>
                    <a:pt x="3110" y="1321"/>
                  </a:lnTo>
                  <a:lnTo>
                    <a:pt x="3127" y="1355"/>
                  </a:lnTo>
                  <a:lnTo>
                    <a:pt x="3129" y="1397"/>
                  </a:lnTo>
                  <a:lnTo>
                    <a:pt x="3116" y="1435"/>
                  </a:lnTo>
                  <a:lnTo>
                    <a:pt x="3095" y="1471"/>
                  </a:lnTo>
                  <a:lnTo>
                    <a:pt x="3072" y="1507"/>
                  </a:lnTo>
                  <a:lnTo>
                    <a:pt x="3044" y="1541"/>
                  </a:lnTo>
                  <a:lnTo>
                    <a:pt x="3013" y="1574"/>
                  </a:lnTo>
                  <a:lnTo>
                    <a:pt x="2983" y="1606"/>
                  </a:lnTo>
                  <a:lnTo>
                    <a:pt x="2951" y="1635"/>
                  </a:lnTo>
                  <a:lnTo>
                    <a:pt x="2922" y="1661"/>
                  </a:lnTo>
                  <a:lnTo>
                    <a:pt x="2888" y="1692"/>
                  </a:lnTo>
                  <a:lnTo>
                    <a:pt x="2852" y="1720"/>
                  </a:lnTo>
                  <a:lnTo>
                    <a:pt x="2816" y="1751"/>
                  </a:lnTo>
                  <a:lnTo>
                    <a:pt x="2778" y="1781"/>
                  </a:lnTo>
                  <a:lnTo>
                    <a:pt x="2740" y="1811"/>
                  </a:lnTo>
                  <a:lnTo>
                    <a:pt x="2701" y="1842"/>
                  </a:lnTo>
                  <a:lnTo>
                    <a:pt x="2663" y="1872"/>
                  </a:lnTo>
                  <a:lnTo>
                    <a:pt x="2625" y="1901"/>
                  </a:lnTo>
                  <a:lnTo>
                    <a:pt x="2587" y="1929"/>
                  </a:lnTo>
                  <a:lnTo>
                    <a:pt x="2549" y="1960"/>
                  </a:lnTo>
                  <a:lnTo>
                    <a:pt x="2509" y="1988"/>
                  </a:lnTo>
                  <a:lnTo>
                    <a:pt x="2471" y="2015"/>
                  </a:lnTo>
                  <a:lnTo>
                    <a:pt x="2433" y="2045"/>
                  </a:lnTo>
                  <a:lnTo>
                    <a:pt x="2393" y="2072"/>
                  </a:lnTo>
                  <a:lnTo>
                    <a:pt x="2354" y="2100"/>
                  </a:lnTo>
                  <a:lnTo>
                    <a:pt x="2316" y="2129"/>
                  </a:lnTo>
                  <a:lnTo>
                    <a:pt x="2276" y="2155"/>
                  </a:lnTo>
                  <a:lnTo>
                    <a:pt x="2236" y="2184"/>
                  </a:lnTo>
                  <a:lnTo>
                    <a:pt x="2196" y="2211"/>
                  </a:lnTo>
                  <a:lnTo>
                    <a:pt x="2158" y="2237"/>
                  </a:lnTo>
                  <a:lnTo>
                    <a:pt x="2118" y="2266"/>
                  </a:lnTo>
                  <a:lnTo>
                    <a:pt x="2078" y="2292"/>
                  </a:lnTo>
                  <a:lnTo>
                    <a:pt x="2038" y="2319"/>
                  </a:lnTo>
                  <a:lnTo>
                    <a:pt x="1998" y="2347"/>
                  </a:lnTo>
                  <a:lnTo>
                    <a:pt x="1958" y="2374"/>
                  </a:lnTo>
                  <a:lnTo>
                    <a:pt x="1918" y="2401"/>
                  </a:lnTo>
                  <a:lnTo>
                    <a:pt x="1878" y="2427"/>
                  </a:lnTo>
                  <a:lnTo>
                    <a:pt x="1838" y="2454"/>
                  </a:lnTo>
                  <a:lnTo>
                    <a:pt x="1798" y="2482"/>
                  </a:lnTo>
                  <a:lnTo>
                    <a:pt x="1758" y="2509"/>
                  </a:lnTo>
                  <a:lnTo>
                    <a:pt x="1719" y="2536"/>
                  </a:lnTo>
                  <a:lnTo>
                    <a:pt x="1679" y="2562"/>
                  </a:lnTo>
                  <a:lnTo>
                    <a:pt x="1639" y="2591"/>
                  </a:lnTo>
                  <a:lnTo>
                    <a:pt x="1601" y="2617"/>
                  </a:lnTo>
                  <a:lnTo>
                    <a:pt x="1720" y="2583"/>
                  </a:lnTo>
                  <a:lnTo>
                    <a:pt x="1840" y="2551"/>
                  </a:lnTo>
                  <a:lnTo>
                    <a:pt x="1962" y="2522"/>
                  </a:lnTo>
                  <a:lnTo>
                    <a:pt x="2085" y="2501"/>
                  </a:lnTo>
                  <a:lnTo>
                    <a:pt x="2110" y="2479"/>
                  </a:lnTo>
                  <a:lnTo>
                    <a:pt x="2135" y="2454"/>
                  </a:lnTo>
                  <a:lnTo>
                    <a:pt x="2186" y="2410"/>
                  </a:lnTo>
                  <a:lnTo>
                    <a:pt x="2241" y="2368"/>
                  </a:lnTo>
                  <a:lnTo>
                    <a:pt x="2298" y="2328"/>
                  </a:lnTo>
                  <a:lnTo>
                    <a:pt x="2359" y="2294"/>
                  </a:lnTo>
                  <a:lnTo>
                    <a:pt x="2420" y="2266"/>
                  </a:lnTo>
                  <a:lnTo>
                    <a:pt x="2485" y="2243"/>
                  </a:lnTo>
                  <a:lnTo>
                    <a:pt x="2553" y="2228"/>
                  </a:lnTo>
                  <a:lnTo>
                    <a:pt x="2701" y="2205"/>
                  </a:lnTo>
                  <a:lnTo>
                    <a:pt x="2852" y="2201"/>
                  </a:lnTo>
                  <a:lnTo>
                    <a:pt x="3183" y="2351"/>
                  </a:lnTo>
                  <a:lnTo>
                    <a:pt x="2852" y="2368"/>
                  </a:lnTo>
                  <a:lnTo>
                    <a:pt x="2825" y="2363"/>
                  </a:lnTo>
                  <a:lnTo>
                    <a:pt x="2690" y="2391"/>
                  </a:lnTo>
                  <a:lnTo>
                    <a:pt x="2639" y="2431"/>
                  </a:lnTo>
                  <a:lnTo>
                    <a:pt x="2587" y="2484"/>
                  </a:lnTo>
                  <a:lnTo>
                    <a:pt x="2713" y="2518"/>
                  </a:lnTo>
                  <a:lnTo>
                    <a:pt x="2823" y="2581"/>
                  </a:lnTo>
                  <a:lnTo>
                    <a:pt x="2852" y="2617"/>
                  </a:lnTo>
                  <a:lnTo>
                    <a:pt x="2852" y="2617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1427600">
              <a:off x="3623760" y="4022280"/>
              <a:ext cx="1782720" cy="2383200"/>
            </a:xfrm>
            <a:custGeom>
              <a:avLst/>
              <a:gdLst/>
              <a:ahLst/>
              <a:rect l="l" t="t" r="r" b="b"/>
              <a:pathLst>
                <a:path w="1593" h="2183">
                  <a:moveTo>
                    <a:pt x="1175" y="187"/>
                  </a:moveTo>
                  <a:lnTo>
                    <a:pt x="1498" y="128"/>
                  </a:lnTo>
                  <a:lnTo>
                    <a:pt x="1175" y="0"/>
                  </a:lnTo>
                  <a:lnTo>
                    <a:pt x="926" y="4"/>
                  </a:lnTo>
                  <a:lnTo>
                    <a:pt x="680" y="63"/>
                  </a:lnTo>
                  <a:lnTo>
                    <a:pt x="593" y="105"/>
                  </a:lnTo>
                  <a:lnTo>
                    <a:pt x="507" y="158"/>
                  </a:lnTo>
                  <a:lnTo>
                    <a:pt x="468" y="187"/>
                  </a:lnTo>
                  <a:lnTo>
                    <a:pt x="430" y="219"/>
                  </a:lnTo>
                  <a:lnTo>
                    <a:pt x="391" y="253"/>
                  </a:lnTo>
                  <a:lnTo>
                    <a:pt x="357" y="288"/>
                  </a:lnTo>
                  <a:lnTo>
                    <a:pt x="323" y="326"/>
                  </a:lnTo>
                  <a:lnTo>
                    <a:pt x="293" y="364"/>
                  </a:lnTo>
                  <a:lnTo>
                    <a:pt x="262" y="403"/>
                  </a:lnTo>
                  <a:lnTo>
                    <a:pt x="236" y="447"/>
                  </a:lnTo>
                  <a:lnTo>
                    <a:pt x="190" y="535"/>
                  </a:lnTo>
                  <a:lnTo>
                    <a:pt x="154" y="626"/>
                  </a:lnTo>
                  <a:lnTo>
                    <a:pt x="118" y="765"/>
                  </a:lnTo>
                  <a:lnTo>
                    <a:pt x="102" y="909"/>
                  </a:lnTo>
                  <a:lnTo>
                    <a:pt x="106" y="1057"/>
                  </a:lnTo>
                  <a:lnTo>
                    <a:pt x="125" y="1198"/>
                  </a:lnTo>
                  <a:lnTo>
                    <a:pt x="135" y="1246"/>
                  </a:lnTo>
                  <a:lnTo>
                    <a:pt x="148" y="1291"/>
                  </a:lnTo>
                  <a:lnTo>
                    <a:pt x="163" y="1335"/>
                  </a:lnTo>
                  <a:lnTo>
                    <a:pt x="182" y="1379"/>
                  </a:lnTo>
                  <a:lnTo>
                    <a:pt x="201" y="1420"/>
                  </a:lnTo>
                  <a:lnTo>
                    <a:pt x="224" y="1462"/>
                  </a:lnTo>
                  <a:lnTo>
                    <a:pt x="247" y="1504"/>
                  </a:lnTo>
                  <a:lnTo>
                    <a:pt x="272" y="1546"/>
                  </a:lnTo>
                  <a:lnTo>
                    <a:pt x="232" y="1591"/>
                  </a:lnTo>
                  <a:lnTo>
                    <a:pt x="190" y="1639"/>
                  </a:lnTo>
                  <a:lnTo>
                    <a:pt x="152" y="1688"/>
                  </a:lnTo>
                  <a:lnTo>
                    <a:pt x="114" y="1738"/>
                  </a:lnTo>
                  <a:lnTo>
                    <a:pt x="80" y="1789"/>
                  </a:lnTo>
                  <a:lnTo>
                    <a:pt x="49" y="1844"/>
                  </a:lnTo>
                  <a:lnTo>
                    <a:pt x="23" y="1901"/>
                  </a:lnTo>
                  <a:lnTo>
                    <a:pt x="2" y="1960"/>
                  </a:lnTo>
                  <a:lnTo>
                    <a:pt x="0" y="2025"/>
                  </a:lnTo>
                  <a:lnTo>
                    <a:pt x="13" y="2074"/>
                  </a:lnTo>
                  <a:lnTo>
                    <a:pt x="28" y="2095"/>
                  </a:lnTo>
                  <a:lnTo>
                    <a:pt x="47" y="2112"/>
                  </a:lnTo>
                  <a:lnTo>
                    <a:pt x="102" y="2147"/>
                  </a:lnTo>
                  <a:lnTo>
                    <a:pt x="232" y="2175"/>
                  </a:lnTo>
                  <a:lnTo>
                    <a:pt x="365" y="2183"/>
                  </a:lnTo>
                  <a:lnTo>
                    <a:pt x="631" y="2175"/>
                  </a:lnTo>
                  <a:lnTo>
                    <a:pt x="903" y="2145"/>
                  </a:lnTo>
                  <a:lnTo>
                    <a:pt x="1175" y="2105"/>
                  </a:lnTo>
                  <a:lnTo>
                    <a:pt x="1593" y="1821"/>
                  </a:lnTo>
                  <a:lnTo>
                    <a:pt x="1175" y="1548"/>
                  </a:lnTo>
                  <a:lnTo>
                    <a:pt x="1076" y="1569"/>
                  </a:lnTo>
                  <a:lnTo>
                    <a:pt x="977" y="1590"/>
                  </a:lnTo>
                  <a:lnTo>
                    <a:pt x="998" y="1542"/>
                  </a:lnTo>
                  <a:lnTo>
                    <a:pt x="1019" y="1498"/>
                  </a:lnTo>
                  <a:lnTo>
                    <a:pt x="1042" y="1453"/>
                  </a:lnTo>
                  <a:lnTo>
                    <a:pt x="1065" y="1409"/>
                  </a:lnTo>
                  <a:lnTo>
                    <a:pt x="1091" y="1367"/>
                  </a:lnTo>
                  <a:lnTo>
                    <a:pt x="1118" y="1325"/>
                  </a:lnTo>
                  <a:lnTo>
                    <a:pt x="1144" y="1284"/>
                  </a:lnTo>
                  <a:lnTo>
                    <a:pt x="1175" y="1244"/>
                  </a:lnTo>
                  <a:lnTo>
                    <a:pt x="1498" y="808"/>
                  </a:lnTo>
                  <a:lnTo>
                    <a:pt x="1175" y="770"/>
                  </a:lnTo>
                  <a:lnTo>
                    <a:pt x="1118" y="812"/>
                  </a:lnTo>
                  <a:lnTo>
                    <a:pt x="1061" y="856"/>
                  </a:lnTo>
                  <a:lnTo>
                    <a:pt x="1006" y="898"/>
                  </a:lnTo>
                  <a:lnTo>
                    <a:pt x="950" y="941"/>
                  </a:lnTo>
                  <a:lnTo>
                    <a:pt x="897" y="983"/>
                  </a:lnTo>
                  <a:lnTo>
                    <a:pt x="844" y="1025"/>
                  </a:lnTo>
                  <a:lnTo>
                    <a:pt x="791" y="1067"/>
                  </a:lnTo>
                  <a:lnTo>
                    <a:pt x="739" y="1111"/>
                  </a:lnTo>
                  <a:lnTo>
                    <a:pt x="738" y="945"/>
                  </a:lnTo>
                  <a:lnTo>
                    <a:pt x="739" y="780"/>
                  </a:lnTo>
                  <a:lnTo>
                    <a:pt x="753" y="599"/>
                  </a:lnTo>
                  <a:lnTo>
                    <a:pt x="770" y="500"/>
                  </a:lnTo>
                  <a:lnTo>
                    <a:pt x="781" y="451"/>
                  </a:lnTo>
                  <a:lnTo>
                    <a:pt x="795" y="402"/>
                  </a:lnTo>
                  <a:lnTo>
                    <a:pt x="812" y="356"/>
                  </a:lnTo>
                  <a:lnTo>
                    <a:pt x="833" y="312"/>
                  </a:lnTo>
                  <a:lnTo>
                    <a:pt x="855" y="272"/>
                  </a:lnTo>
                  <a:lnTo>
                    <a:pt x="884" y="236"/>
                  </a:lnTo>
                  <a:lnTo>
                    <a:pt x="916" y="208"/>
                  </a:lnTo>
                  <a:lnTo>
                    <a:pt x="954" y="183"/>
                  </a:lnTo>
                  <a:lnTo>
                    <a:pt x="1042" y="156"/>
                  </a:lnTo>
                  <a:lnTo>
                    <a:pt x="1175" y="187"/>
                  </a:lnTo>
                  <a:lnTo>
                    <a:pt x="1175" y="187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11427600">
              <a:off x="808200" y="1811880"/>
              <a:ext cx="4732200" cy="4146480"/>
            </a:xfrm>
            <a:custGeom>
              <a:avLst/>
              <a:gdLst/>
              <a:ahLst/>
              <a:rect l="l" t="t" r="r" b="b"/>
              <a:pathLst>
                <a:path w="4230" h="3796">
                  <a:moveTo>
                    <a:pt x="1494" y="0"/>
                  </a:moveTo>
                  <a:lnTo>
                    <a:pt x="1838" y="64"/>
                  </a:lnTo>
                  <a:lnTo>
                    <a:pt x="1652" y="409"/>
                  </a:lnTo>
                  <a:lnTo>
                    <a:pt x="1247" y="802"/>
                  </a:lnTo>
                  <a:lnTo>
                    <a:pt x="1053" y="696"/>
                  </a:lnTo>
                  <a:lnTo>
                    <a:pt x="741" y="1203"/>
                  </a:lnTo>
                  <a:lnTo>
                    <a:pt x="812" y="1340"/>
                  </a:lnTo>
                  <a:lnTo>
                    <a:pt x="1055" y="1249"/>
                  </a:lnTo>
                  <a:lnTo>
                    <a:pt x="1215" y="1089"/>
                  </a:lnTo>
                  <a:lnTo>
                    <a:pt x="1684" y="967"/>
                  </a:lnTo>
                  <a:lnTo>
                    <a:pt x="1818" y="1146"/>
                  </a:lnTo>
                  <a:lnTo>
                    <a:pt x="2143" y="1068"/>
                  </a:lnTo>
                  <a:lnTo>
                    <a:pt x="2386" y="908"/>
                  </a:lnTo>
                  <a:lnTo>
                    <a:pt x="2804" y="863"/>
                  </a:lnTo>
                  <a:lnTo>
                    <a:pt x="2778" y="1013"/>
                  </a:lnTo>
                  <a:lnTo>
                    <a:pt x="1985" y="2311"/>
                  </a:lnTo>
                  <a:lnTo>
                    <a:pt x="2367" y="2211"/>
                  </a:lnTo>
                  <a:lnTo>
                    <a:pt x="2591" y="2106"/>
                  </a:lnTo>
                  <a:lnTo>
                    <a:pt x="2956" y="2019"/>
                  </a:lnTo>
                  <a:lnTo>
                    <a:pt x="2991" y="2266"/>
                  </a:lnTo>
                  <a:lnTo>
                    <a:pt x="2924" y="3246"/>
                  </a:lnTo>
                  <a:lnTo>
                    <a:pt x="3015" y="3724"/>
                  </a:lnTo>
                  <a:lnTo>
                    <a:pt x="3401" y="3725"/>
                  </a:lnTo>
                  <a:lnTo>
                    <a:pt x="3517" y="3353"/>
                  </a:lnTo>
                  <a:lnTo>
                    <a:pt x="3297" y="3340"/>
                  </a:lnTo>
                  <a:lnTo>
                    <a:pt x="3369" y="3034"/>
                  </a:lnTo>
                  <a:lnTo>
                    <a:pt x="3580" y="2682"/>
                  </a:lnTo>
                  <a:lnTo>
                    <a:pt x="4025" y="2577"/>
                  </a:lnTo>
                  <a:lnTo>
                    <a:pt x="4230" y="2766"/>
                  </a:lnTo>
                  <a:lnTo>
                    <a:pt x="4160" y="2897"/>
                  </a:lnTo>
                  <a:lnTo>
                    <a:pt x="4012" y="3113"/>
                  </a:lnTo>
                  <a:lnTo>
                    <a:pt x="3487" y="3705"/>
                  </a:lnTo>
                  <a:lnTo>
                    <a:pt x="3335" y="3792"/>
                  </a:lnTo>
                  <a:lnTo>
                    <a:pt x="2991" y="3784"/>
                  </a:lnTo>
                  <a:lnTo>
                    <a:pt x="2791" y="3744"/>
                  </a:lnTo>
                  <a:lnTo>
                    <a:pt x="2472" y="3796"/>
                  </a:lnTo>
                  <a:lnTo>
                    <a:pt x="2088" y="3254"/>
                  </a:lnTo>
                  <a:lnTo>
                    <a:pt x="2238" y="2918"/>
                  </a:lnTo>
                  <a:lnTo>
                    <a:pt x="2217" y="2821"/>
                  </a:lnTo>
                  <a:lnTo>
                    <a:pt x="2048" y="2682"/>
                  </a:lnTo>
                  <a:lnTo>
                    <a:pt x="1570" y="2902"/>
                  </a:lnTo>
                  <a:lnTo>
                    <a:pt x="1272" y="3134"/>
                  </a:lnTo>
                  <a:lnTo>
                    <a:pt x="901" y="3214"/>
                  </a:lnTo>
                  <a:lnTo>
                    <a:pt x="893" y="2956"/>
                  </a:lnTo>
                  <a:lnTo>
                    <a:pt x="1816" y="1534"/>
                  </a:lnTo>
                  <a:lnTo>
                    <a:pt x="987" y="1714"/>
                  </a:lnTo>
                  <a:lnTo>
                    <a:pt x="40" y="1635"/>
                  </a:lnTo>
                  <a:lnTo>
                    <a:pt x="51" y="1317"/>
                  </a:lnTo>
                  <a:lnTo>
                    <a:pt x="0" y="1083"/>
                  </a:lnTo>
                  <a:lnTo>
                    <a:pt x="430" y="711"/>
                  </a:lnTo>
                  <a:lnTo>
                    <a:pt x="667" y="836"/>
                  </a:lnTo>
                  <a:lnTo>
                    <a:pt x="1101" y="426"/>
                  </a:lnTo>
                  <a:lnTo>
                    <a:pt x="1226" y="87"/>
                  </a:lnTo>
                  <a:lnTo>
                    <a:pt x="1494" y="0"/>
                  </a:lnTo>
                  <a:lnTo>
                    <a:pt x="1494" y="0"/>
                  </a:lnTo>
                  <a:close/>
                </a:path>
              </a:pathLst>
            </a:custGeom>
            <a:solidFill>
              <a:srgbClr val="5c5c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11427600">
              <a:off x="2853000" y="1744560"/>
              <a:ext cx="860760" cy="880200"/>
            </a:xfrm>
            <a:custGeom>
              <a:avLst/>
              <a:gdLst/>
              <a:ahLst/>
              <a:rect l="l" t="t" r="r" b="b"/>
              <a:pathLst>
                <a:path w="770" h="806">
                  <a:moveTo>
                    <a:pt x="770" y="717"/>
                  </a:moveTo>
                  <a:lnTo>
                    <a:pt x="711" y="743"/>
                  </a:lnTo>
                  <a:lnTo>
                    <a:pt x="654" y="762"/>
                  </a:lnTo>
                  <a:lnTo>
                    <a:pt x="543" y="795"/>
                  </a:lnTo>
                  <a:lnTo>
                    <a:pt x="346" y="806"/>
                  </a:lnTo>
                  <a:lnTo>
                    <a:pt x="253" y="766"/>
                  </a:lnTo>
                  <a:lnTo>
                    <a:pt x="177" y="724"/>
                  </a:lnTo>
                  <a:lnTo>
                    <a:pt x="114" y="679"/>
                  </a:lnTo>
                  <a:lnTo>
                    <a:pt x="66" y="633"/>
                  </a:lnTo>
                  <a:lnTo>
                    <a:pt x="11" y="536"/>
                  </a:lnTo>
                  <a:lnTo>
                    <a:pt x="0" y="433"/>
                  </a:lnTo>
                  <a:lnTo>
                    <a:pt x="11" y="380"/>
                  </a:lnTo>
                  <a:lnTo>
                    <a:pt x="28" y="327"/>
                  </a:lnTo>
                  <a:lnTo>
                    <a:pt x="55" y="274"/>
                  </a:lnTo>
                  <a:lnTo>
                    <a:pt x="70" y="245"/>
                  </a:lnTo>
                  <a:lnTo>
                    <a:pt x="89" y="219"/>
                  </a:lnTo>
                  <a:lnTo>
                    <a:pt x="106" y="192"/>
                  </a:lnTo>
                  <a:lnTo>
                    <a:pt x="127" y="164"/>
                  </a:lnTo>
                  <a:lnTo>
                    <a:pt x="148" y="137"/>
                  </a:lnTo>
                  <a:lnTo>
                    <a:pt x="171" y="110"/>
                  </a:lnTo>
                  <a:lnTo>
                    <a:pt x="196" y="82"/>
                  </a:lnTo>
                  <a:lnTo>
                    <a:pt x="220" y="55"/>
                  </a:lnTo>
                  <a:lnTo>
                    <a:pt x="245" y="27"/>
                  </a:lnTo>
                  <a:lnTo>
                    <a:pt x="272" y="0"/>
                  </a:lnTo>
                  <a:lnTo>
                    <a:pt x="285" y="78"/>
                  </a:lnTo>
                  <a:lnTo>
                    <a:pt x="306" y="154"/>
                  </a:lnTo>
                  <a:lnTo>
                    <a:pt x="317" y="190"/>
                  </a:lnTo>
                  <a:lnTo>
                    <a:pt x="332" y="226"/>
                  </a:lnTo>
                  <a:lnTo>
                    <a:pt x="363" y="295"/>
                  </a:lnTo>
                  <a:lnTo>
                    <a:pt x="399" y="363"/>
                  </a:lnTo>
                  <a:lnTo>
                    <a:pt x="420" y="395"/>
                  </a:lnTo>
                  <a:lnTo>
                    <a:pt x="443" y="426"/>
                  </a:lnTo>
                  <a:lnTo>
                    <a:pt x="466" y="456"/>
                  </a:lnTo>
                  <a:lnTo>
                    <a:pt x="490" y="487"/>
                  </a:lnTo>
                  <a:lnTo>
                    <a:pt x="517" y="517"/>
                  </a:lnTo>
                  <a:lnTo>
                    <a:pt x="543" y="546"/>
                  </a:lnTo>
                  <a:lnTo>
                    <a:pt x="570" y="572"/>
                  </a:lnTo>
                  <a:lnTo>
                    <a:pt x="597" y="597"/>
                  </a:lnTo>
                  <a:lnTo>
                    <a:pt x="625" y="620"/>
                  </a:lnTo>
                  <a:lnTo>
                    <a:pt x="652" y="641"/>
                  </a:lnTo>
                  <a:lnTo>
                    <a:pt x="711" y="682"/>
                  </a:lnTo>
                  <a:lnTo>
                    <a:pt x="770" y="717"/>
                  </a:lnTo>
                  <a:lnTo>
                    <a:pt x="770" y="717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11427600">
              <a:off x="568080" y="2301480"/>
              <a:ext cx="574560" cy="487440"/>
            </a:xfrm>
            <a:custGeom>
              <a:avLst/>
              <a:gdLst/>
              <a:ahLst/>
              <a:rect l="l" t="t" r="r" b="b"/>
              <a:pathLst>
                <a:path w="514" h="446">
                  <a:moveTo>
                    <a:pt x="0" y="159"/>
                  </a:moveTo>
                  <a:lnTo>
                    <a:pt x="73" y="135"/>
                  </a:lnTo>
                  <a:lnTo>
                    <a:pt x="143" y="110"/>
                  </a:lnTo>
                  <a:lnTo>
                    <a:pt x="278" y="66"/>
                  </a:lnTo>
                  <a:lnTo>
                    <a:pt x="403" y="30"/>
                  </a:lnTo>
                  <a:lnTo>
                    <a:pt x="514" y="0"/>
                  </a:lnTo>
                  <a:lnTo>
                    <a:pt x="493" y="273"/>
                  </a:lnTo>
                  <a:lnTo>
                    <a:pt x="375" y="306"/>
                  </a:lnTo>
                  <a:lnTo>
                    <a:pt x="257" y="346"/>
                  </a:lnTo>
                  <a:lnTo>
                    <a:pt x="137" y="393"/>
                  </a:lnTo>
                  <a:lnTo>
                    <a:pt x="76" y="418"/>
                  </a:lnTo>
                  <a:lnTo>
                    <a:pt x="16" y="446"/>
                  </a:lnTo>
                  <a:lnTo>
                    <a:pt x="19" y="372"/>
                  </a:lnTo>
                  <a:lnTo>
                    <a:pt x="14" y="262"/>
                  </a:lnTo>
                  <a:lnTo>
                    <a:pt x="0" y="159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1427600">
              <a:off x="1889640" y="1831680"/>
              <a:ext cx="682200" cy="1563840"/>
            </a:xfrm>
            <a:custGeom>
              <a:avLst/>
              <a:gdLst/>
              <a:ahLst/>
              <a:rect l="l" t="t" r="r" b="b"/>
              <a:pathLst>
                <a:path w="610" h="1431">
                  <a:moveTo>
                    <a:pt x="131" y="0"/>
                  </a:moveTo>
                  <a:lnTo>
                    <a:pt x="283" y="51"/>
                  </a:lnTo>
                  <a:lnTo>
                    <a:pt x="388" y="146"/>
                  </a:lnTo>
                  <a:lnTo>
                    <a:pt x="417" y="212"/>
                  </a:lnTo>
                  <a:lnTo>
                    <a:pt x="426" y="292"/>
                  </a:lnTo>
                  <a:lnTo>
                    <a:pt x="415" y="387"/>
                  </a:lnTo>
                  <a:lnTo>
                    <a:pt x="401" y="441"/>
                  </a:lnTo>
                  <a:lnTo>
                    <a:pt x="382" y="498"/>
                  </a:lnTo>
                  <a:lnTo>
                    <a:pt x="363" y="547"/>
                  </a:lnTo>
                  <a:lnTo>
                    <a:pt x="344" y="589"/>
                  </a:lnTo>
                  <a:lnTo>
                    <a:pt x="308" y="661"/>
                  </a:lnTo>
                  <a:lnTo>
                    <a:pt x="291" y="691"/>
                  </a:lnTo>
                  <a:lnTo>
                    <a:pt x="274" y="716"/>
                  </a:lnTo>
                  <a:lnTo>
                    <a:pt x="242" y="762"/>
                  </a:lnTo>
                  <a:lnTo>
                    <a:pt x="209" y="798"/>
                  </a:lnTo>
                  <a:lnTo>
                    <a:pt x="175" y="832"/>
                  </a:lnTo>
                  <a:lnTo>
                    <a:pt x="143" y="866"/>
                  </a:lnTo>
                  <a:lnTo>
                    <a:pt x="107" y="904"/>
                  </a:lnTo>
                  <a:lnTo>
                    <a:pt x="213" y="864"/>
                  </a:lnTo>
                  <a:lnTo>
                    <a:pt x="335" y="821"/>
                  </a:lnTo>
                  <a:lnTo>
                    <a:pt x="399" y="796"/>
                  </a:lnTo>
                  <a:lnTo>
                    <a:pt x="468" y="771"/>
                  </a:lnTo>
                  <a:lnTo>
                    <a:pt x="538" y="747"/>
                  </a:lnTo>
                  <a:lnTo>
                    <a:pt x="610" y="720"/>
                  </a:lnTo>
                  <a:lnTo>
                    <a:pt x="601" y="971"/>
                  </a:lnTo>
                  <a:lnTo>
                    <a:pt x="590" y="1077"/>
                  </a:lnTo>
                  <a:lnTo>
                    <a:pt x="574" y="1171"/>
                  </a:lnTo>
                  <a:lnTo>
                    <a:pt x="519" y="1207"/>
                  </a:lnTo>
                  <a:lnTo>
                    <a:pt x="464" y="1239"/>
                  </a:lnTo>
                  <a:lnTo>
                    <a:pt x="409" y="1273"/>
                  </a:lnTo>
                  <a:lnTo>
                    <a:pt x="356" y="1305"/>
                  </a:lnTo>
                  <a:lnTo>
                    <a:pt x="302" y="1338"/>
                  </a:lnTo>
                  <a:lnTo>
                    <a:pt x="249" y="1370"/>
                  </a:lnTo>
                  <a:lnTo>
                    <a:pt x="198" y="1401"/>
                  </a:lnTo>
                  <a:lnTo>
                    <a:pt x="147" y="1431"/>
                  </a:lnTo>
                  <a:lnTo>
                    <a:pt x="72" y="1302"/>
                  </a:lnTo>
                  <a:lnTo>
                    <a:pt x="42" y="1188"/>
                  </a:lnTo>
                  <a:lnTo>
                    <a:pt x="19" y="1039"/>
                  </a:lnTo>
                  <a:lnTo>
                    <a:pt x="0" y="648"/>
                  </a:lnTo>
                  <a:lnTo>
                    <a:pt x="6" y="475"/>
                  </a:lnTo>
                  <a:lnTo>
                    <a:pt x="21" y="325"/>
                  </a:lnTo>
                  <a:lnTo>
                    <a:pt x="44" y="197"/>
                  </a:lnTo>
                  <a:lnTo>
                    <a:pt x="59" y="144"/>
                  </a:lnTo>
                  <a:lnTo>
                    <a:pt x="78" y="95"/>
                  </a:lnTo>
                  <a:lnTo>
                    <a:pt x="103" y="43"/>
                  </a:lnTo>
                  <a:lnTo>
                    <a:pt x="116" y="21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1427600">
              <a:off x="1645560" y="2606760"/>
              <a:ext cx="2297880" cy="2284560"/>
            </a:xfrm>
            <a:custGeom>
              <a:avLst/>
              <a:gdLst/>
              <a:ahLst/>
              <a:rect l="l" t="t" r="r" b="b"/>
              <a:pathLst>
                <a:path w="2053" h="2091">
                  <a:moveTo>
                    <a:pt x="1348" y="8"/>
                  </a:moveTo>
                  <a:lnTo>
                    <a:pt x="1743" y="0"/>
                  </a:lnTo>
                  <a:lnTo>
                    <a:pt x="1892" y="21"/>
                  </a:lnTo>
                  <a:lnTo>
                    <a:pt x="1998" y="61"/>
                  </a:lnTo>
                  <a:lnTo>
                    <a:pt x="2053" y="122"/>
                  </a:lnTo>
                  <a:lnTo>
                    <a:pt x="2050" y="207"/>
                  </a:lnTo>
                  <a:lnTo>
                    <a:pt x="2025" y="261"/>
                  </a:lnTo>
                  <a:lnTo>
                    <a:pt x="2006" y="289"/>
                  </a:lnTo>
                  <a:lnTo>
                    <a:pt x="1983" y="321"/>
                  </a:lnTo>
                  <a:lnTo>
                    <a:pt x="1954" y="354"/>
                  </a:lnTo>
                  <a:lnTo>
                    <a:pt x="1922" y="388"/>
                  </a:lnTo>
                  <a:lnTo>
                    <a:pt x="1884" y="424"/>
                  </a:lnTo>
                  <a:lnTo>
                    <a:pt x="1842" y="462"/>
                  </a:lnTo>
                  <a:lnTo>
                    <a:pt x="1804" y="494"/>
                  </a:lnTo>
                  <a:lnTo>
                    <a:pt x="1768" y="527"/>
                  </a:lnTo>
                  <a:lnTo>
                    <a:pt x="1730" y="557"/>
                  </a:lnTo>
                  <a:lnTo>
                    <a:pt x="1694" y="588"/>
                  </a:lnTo>
                  <a:lnTo>
                    <a:pt x="1656" y="616"/>
                  </a:lnTo>
                  <a:lnTo>
                    <a:pt x="1620" y="647"/>
                  </a:lnTo>
                  <a:lnTo>
                    <a:pt x="1584" y="675"/>
                  </a:lnTo>
                  <a:lnTo>
                    <a:pt x="1546" y="704"/>
                  </a:lnTo>
                  <a:lnTo>
                    <a:pt x="1510" y="732"/>
                  </a:lnTo>
                  <a:lnTo>
                    <a:pt x="1472" y="761"/>
                  </a:lnTo>
                  <a:lnTo>
                    <a:pt x="1435" y="787"/>
                  </a:lnTo>
                  <a:lnTo>
                    <a:pt x="1397" y="814"/>
                  </a:lnTo>
                  <a:lnTo>
                    <a:pt x="1361" y="840"/>
                  </a:lnTo>
                  <a:lnTo>
                    <a:pt x="1323" y="867"/>
                  </a:lnTo>
                  <a:lnTo>
                    <a:pt x="1287" y="894"/>
                  </a:lnTo>
                  <a:lnTo>
                    <a:pt x="1249" y="920"/>
                  </a:lnTo>
                  <a:lnTo>
                    <a:pt x="1211" y="947"/>
                  </a:lnTo>
                  <a:lnTo>
                    <a:pt x="1175" y="973"/>
                  </a:lnTo>
                  <a:lnTo>
                    <a:pt x="1137" y="998"/>
                  </a:lnTo>
                  <a:lnTo>
                    <a:pt x="1099" y="1025"/>
                  </a:lnTo>
                  <a:lnTo>
                    <a:pt x="1061" y="1051"/>
                  </a:lnTo>
                  <a:lnTo>
                    <a:pt x="1023" y="1076"/>
                  </a:lnTo>
                  <a:lnTo>
                    <a:pt x="983" y="1103"/>
                  </a:lnTo>
                  <a:lnTo>
                    <a:pt x="945" y="1129"/>
                  </a:lnTo>
                  <a:lnTo>
                    <a:pt x="905" y="1154"/>
                  </a:lnTo>
                  <a:lnTo>
                    <a:pt x="867" y="1181"/>
                  </a:lnTo>
                  <a:lnTo>
                    <a:pt x="827" y="1207"/>
                  </a:lnTo>
                  <a:lnTo>
                    <a:pt x="787" y="1234"/>
                  </a:lnTo>
                  <a:lnTo>
                    <a:pt x="747" y="1262"/>
                  </a:lnTo>
                  <a:lnTo>
                    <a:pt x="707" y="1289"/>
                  </a:lnTo>
                  <a:lnTo>
                    <a:pt x="667" y="1318"/>
                  </a:lnTo>
                  <a:lnTo>
                    <a:pt x="627" y="1344"/>
                  </a:lnTo>
                  <a:lnTo>
                    <a:pt x="772" y="1308"/>
                  </a:lnTo>
                  <a:lnTo>
                    <a:pt x="873" y="1287"/>
                  </a:lnTo>
                  <a:lnTo>
                    <a:pt x="985" y="1268"/>
                  </a:lnTo>
                  <a:lnTo>
                    <a:pt x="956" y="1299"/>
                  </a:lnTo>
                  <a:lnTo>
                    <a:pt x="930" y="1331"/>
                  </a:lnTo>
                  <a:lnTo>
                    <a:pt x="905" y="1365"/>
                  </a:lnTo>
                  <a:lnTo>
                    <a:pt x="882" y="1399"/>
                  </a:lnTo>
                  <a:lnTo>
                    <a:pt x="861" y="1433"/>
                  </a:lnTo>
                  <a:lnTo>
                    <a:pt x="840" y="1468"/>
                  </a:lnTo>
                  <a:lnTo>
                    <a:pt x="804" y="1542"/>
                  </a:lnTo>
                  <a:lnTo>
                    <a:pt x="755" y="1700"/>
                  </a:lnTo>
                  <a:lnTo>
                    <a:pt x="728" y="1871"/>
                  </a:lnTo>
                  <a:lnTo>
                    <a:pt x="644" y="1897"/>
                  </a:lnTo>
                  <a:lnTo>
                    <a:pt x="557" y="1926"/>
                  </a:lnTo>
                  <a:lnTo>
                    <a:pt x="468" y="1952"/>
                  </a:lnTo>
                  <a:lnTo>
                    <a:pt x="376" y="1981"/>
                  </a:lnTo>
                  <a:lnTo>
                    <a:pt x="283" y="2009"/>
                  </a:lnTo>
                  <a:lnTo>
                    <a:pt x="188" y="2038"/>
                  </a:lnTo>
                  <a:lnTo>
                    <a:pt x="93" y="2065"/>
                  </a:lnTo>
                  <a:lnTo>
                    <a:pt x="0" y="2091"/>
                  </a:lnTo>
                  <a:lnTo>
                    <a:pt x="1348" y="8"/>
                  </a:lnTo>
                  <a:lnTo>
                    <a:pt x="1348" y="8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1427600">
              <a:off x="2998440" y="2784240"/>
              <a:ext cx="2812320" cy="2330640"/>
            </a:xfrm>
            <a:custGeom>
              <a:avLst/>
              <a:gdLst/>
              <a:ahLst/>
              <a:rect l="l" t="t" r="r" b="b"/>
              <a:pathLst>
                <a:path w="2514" h="2133">
                  <a:moveTo>
                    <a:pt x="1994" y="87"/>
                  </a:moveTo>
                  <a:lnTo>
                    <a:pt x="2251" y="42"/>
                  </a:lnTo>
                  <a:lnTo>
                    <a:pt x="2514" y="0"/>
                  </a:lnTo>
                  <a:lnTo>
                    <a:pt x="1133" y="2131"/>
                  </a:lnTo>
                  <a:lnTo>
                    <a:pt x="894" y="2133"/>
                  </a:lnTo>
                  <a:lnTo>
                    <a:pt x="715" y="2079"/>
                  </a:lnTo>
                  <a:lnTo>
                    <a:pt x="660" y="2041"/>
                  </a:lnTo>
                  <a:lnTo>
                    <a:pt x="616" y="2001"/>
                  </a:lnTo>
                  <a:lnTo>
                    <a:pt x="565" y="1914"/>
                  </a:lnTo>
                  <a:lnTo>
                    <a:pt x="553" y="1823"/>
                  </a:lnTo>
                  <a:lnTo>
                    <a:pt x="561" y="1775"/>
                  </a:lnTo>
                  <a:lnTo>
                    <a:pt x="578" y="1726"/>
                  </a:lnTo>
                  <a:lnTo>
                    <a:pt x="603" y="1676"/>
                  </a:lnTo>
                  <a:lnTo>
                    <a:pt x="618" y="1652"/>
                  </a:lnTo>
                  <a:lnTo>
                    <a:pt x="635" y="1627"/>
                  </a:lnTo>
                  <a:lnTo>
                    <a:pt x="652" y="1602"/>
                  </a:lnTo>
                  <a:lnTo>
                    <a:pt x="673" y="1576"/>
                  </a:lnTo>
                  <a:lnTo>
                    <a:pt x="694" y="1551"/>
                  </a:lnTo>
                  <a:lnTo>
                    <a:pt x="717" y="1526"/>
                  </a:lnTo>
                  <a:lnTo>
                    <a:pt x="740" y="1500"/>
                  </a:lnTo>
                  <a:lnTo>
                    <a:pt x="766" y="1475"/>
                  </a:lnTo>
                  <a:lnTo>
                    <a:pt x="793" y="1450"/>
                  </a:lnTo>
                  <a:lnTo>
                    <a:pt x="819" y="1423"/>
                  </a:lnTo>
                  <a:lnTo>
                    <a:pt x="848" y="1399"/>
                  </a:lnTo>
                  <a:lnTo>
                    <a:pt x="878" y="1374"/>
                  </a:lnTo>
                  <a:lnTo>
                    <a:pt x="909" y="1347"/>
                  </a:lnTo>
                  <a:lnTo>
                    <a:pt x="939" y="1323"/>
                  </a:lnTo>
                  <a:lnTo>
                    <a:pt x="972" y="1298"/>
                  </a:lnTo>
                  <a:lnTo>
                    <a:pt x="1004" y="1273"/>
                  </a:lnTo>
                  <a:lnTo>
                    <a:pt x="1036" y="1251"/>
                  </a:lnTo>
                  <a:lnTo>
                    <a:pt x="1070" y="1226"/>
                  </a:lnTo>
                  <a:lnTo>
                    <a:pt x="1137" y="1178"/>
                  </a:lnTo>
                  <a:lnTo>
                    <a:pt x="1207" y="1133"/>
                  </a:lnTo>
                  <a:lnTo>
                    <a:pt x="1276" y="1087"/>
                  </a:lnTo>
                  <a:lnTo>
                    <a:pt x="1344" y="1043"/>
                  </a:lnTo>
                  <a:lnTo>
                    <a:pt x="1413" y="1002"/>
                  </a:lnTo>
                  <a:lnTo>
                    <a:pt x="1479" y="962"/>
                  </a:lnTo>
                  <a:lnTo>
                    <a:pt x="1542" y="924"/>
                  </a:lnTo>
                  <a:lnTo>
                    <a:pt x="1603" y="887"/>
                  </a:lnTo>
                  <a:lnTo>
                    <a:pt x="1662" y="853"/>
                  </a:lnTo>
                  <a:lnTo>
                    <a:pt x="1715" y="823"/>
                  </a:lnTo>
                  <a:lnTo>
                    <a:pt x="1763" y="796"/>
                  </a:lnTo>
                  <a:lnTo>
                    <a:pt x="1806" y="770"/>
                  </a:lnTo>
                  <a:lnTo>
                    <a:pt x="1875" y="728"/>
                  </a:lnTo>
                  <a:lnTo>
                    <a:pt x="1664" y="766"/>
                  </a:lnTo>
                  <a:lnTo>
                    <a:pt x="1462" y="804"/>
                  </a:lnTo>
                  <a:lnTo>
                    <a:pt x="1266" y="840"/>
                  </a:lnTo>
                  <a:lnTo>
                    <a:pt x="1076" y="872"/>
                  </a:lnTo>
                  <a:lnTo>
                    <a:pt x="888" y="899"/>
                  </a:lnTo>
                  <a:lnTo>
                    <a:pt x="702" y="918"/>
                  </a:lnTo>
                  <a:lnTo>
                    <a:pt x="325" y="927"/>
                  </a:lnTo>
                  <a:lnTo>
                    <a:pt x="175" y="910"/>
                  </a:lnTo>
                  <a:lnTo>
                    <a:pt x="72" y="868"/>
                  </a:lnTo>
                  <a:lnTo>
                    <a:pt x="15" y="808"/>
                  </a:lnTo>
                  <a:lnTo>
                    <a:pt x="0" y="728"/>
                  </a:lnTo>
                  <a:lnTo>
                    <a:pt x="4" y="680"/>
                  </a:lnTo>
                  <a:lnTo>
                    <a:pt x="19" y="631"/>
                  </a:lnTo>
                  <a:lnTo>
                    <a:pt x="42" y="578"/>
                  </a:lnTo>
                  <a:lnTo>
                    <a:pt x="74" y="521"/>
                  </a:lnTo>
                  <a:lnTo>
                    <a:pt x="93" y="490"/>
                  </a:lnTo>
                  <a:lnTo>
                    <a:pt x="112" y="462"/>
                  </a:lnTo>
                  <a:lnTo>
                    <a:pt x="135" y="429"/>
                  </a:lnTo>
                  <a:lnTo>
                    <a:pt x="158" y="399"/>
                  </a:lnTo>
                  <a:lnTo>
                    <a:pt x="184" y="367"/>
                  </a:lnTo>
                  <a:lnTo>
                    <a:pt x="211" y="334"/>
                  </a:lnTo>
                  <a:lnTo>
                    <a:pt x="240" y="300"/>
                  </a:lnTo>
                  <a:lnTo>
                    <a:pt x="270" y="268"/>
                  </a:lnTo>
                  <a:lnTo>
                    <a:pt x="295" y="304"/>
                  </a:lnTo>
                  <a:lnTo>
                    <a:pt x="323" y="340"/>
                  </a:lnTo>
                  <a:lnTo>
                    <a:pt x="354" y="374"/>
                  </a:lnTo>
                  <a:lnTo>
                    <a:pt x="384" y="408"/>
                  </a:lnTo>
                  <a:lnTo>
                    <a:pt x="420" y="443"/>
                  </a:lnTo>
                  <a:lnTo>
                    <a:pt x="456" y="475"/>
                  </a:lnTo>
                  <a:lnTo>
                    <a:pt x="494" y="505"/>
                  </a:lnTo>
                  <a:lnTo>
                    <a:pt x="534" y="534"/>
                  </a:lnTo>
                  <a:lnTo>
                    <a:pt x="574" y="561"/>
                  </a:lnTo>
                  <a:lnTo>
                    <a:pt x="614" y="583"/>
                  </a:lnTo>
                  <a:lnTo>
                    <a:pt x="700" y="623"/>
                  </a:lnTo>
                  <a:lnTo>
                    <a:pt x="789" y="656"/>
                  </a:lnTo>
                  <a:lnTo>
                    <a:pt x="882" y="676"/>
                  </a:lnTo>
                  <a:lnTo>
                    <a:pt x="1084" y="695"/>
                  </a:lnTo>
                  <a:lnTo>
                    <a:pt x="1281" y="676"/>
                  </a:lnTo>
                  <a:lnTo>
                    <a:pt x="1464" y="623"/>
                  </a:lnTo>
                  <a:lnTo>
                    <a:pt x="1550" y="583"/>
                  </a:lnTo>
                  <a:lnTo>
                    <a:pt x="1631" y="534"/>
                  </a:lnTo>
                  <a:lnTo>
                    <a:pt x="1669" y="505"/>
                  </a:lnTo>
                  <a:lnTo>
                    <a:pt x="1709" y="475"/>
                  </a:lnTo>
                  <a:lnTo>
                    <a:pt x="1745" y="441"/>
                  </a:lnTo>
                  <a:lnTo>
                    <a:pt x="1782" y="407"/>
                  </a:lnTo>
                  <a:lnTo>
                    <a:pt x="1816" y="370"/>
                  </a:lnTo>
                  <a:lnTo>
                    <a:pt x="1848" y="332"/>
                  </a:lnTo>
                  <a:lnTo>
                    <a:pt x="1877" y="294"/>
                  </a:lnTo>
                  <a:lnTo>
                    <a:pt x="1905" y="254"/>
                  </a:lnTo>
                  <a:lnTo>
                    <a:pt x="1930" y="215"/>
                  </a:lnTo>
                  <a:lnTo>
                    <a:pt x="1955" y="173"/>
                  </a:lnTo>
                  <a:lnTo>
                    <a:pt x="1994" y="87"/>
                  </a:lnTo>
                  <a:lnTo>
                    <a:pt x="1994" y="87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1427600">
              <a:off x="4025880" y="4588560"/>
              <a:ext cx="679680" cy="1251720"/>
            </a:xfrm>
            <a:custGeom>
              <a:avLst/>
              <a:gdLst/>
              <a:ahLst/>
              <a:rect l="l" t="t" r="r" b="b"/>
              <a:pathLst>
                <a:path w="609" h="1144">
                  <a:moveTo>
                    <a:pt x="607" y="424"/>
                  </a:moveTo>
                  <a:lnTo>
                    <a:pt x="578" y="458"/>
                  </a:lnTo>
                  <a:lnTo>
                    <a:pt x="548" y="490"/>
                  </a:lnTo>
                  <a:lnTo>
                    <a:pt x="520" y="524"/>
                  </a:lnTo>
                  <a:lnTo>
                    <a:pt x="493" y="557"/>
                  </a:lnTo>
                  <a:lnTo>
                    <a:pt x="466" y="589"/>
                  </a:lnTo>
                  <a:lnTo>
                    <a:pt x="442" y="623"/>
                  </a:lnTo>
                  <a:lnTo>
                    <a:pt x="417" y="656"/>
                  </a:lnTo>
                  <a:lnTo>
                    <a:pt x="394" y="688"/>
                  </a:lnTo>
                  <a:lnTo>
                    <a:pt x="371" y="720"/>
                  </a:lnTo>
                  <a:lnTo>
                    <a:pt x="350" y="753"/>
                  </a:lnTo>
                  <a:lnTo>
                    <a:pt x="331" y="785"/>
                  </a:lnTo>
                  <a:lnTo>
                    <a:pt x="312" y="815"/>
                  </a:lnTo>
                  <a:lnTo>
                    <a:pt x="280" y="876"/>
                  </a:lnTo>
                  <a:lnTo>
                    <a:pt x="253" y="937"/>
                  </a:lnTo>
                  <a:lnTo>
                    <a:pt x="352" y="916"/>
                  </a:lnTo>
                  <a:lnTo>
                    <a:pt x="559" y="870"/>
                  </a:lnTo>
                  <a:lnTo>
                    <a:pt x="535" y="952"/>
                  </a:lnTo>
                  <a:lnTo>
                    <a:pt x="514" y="996"/>
                  </a:lnTo>
                  <a:lnTo>
                    <a:pt x="491" y="1036"/>
                  </a:lnTo>
                  <a:lnTo>
                    <a:pt x="466" y="1068"/>
                  </a:lnTo>
                  <a:lnTo>
                    <a:pt x="440" y="1097"/>
                  </a:lnTo>
                  <a:lnTo>
                    <a:pt x="409" y="1117"/>
                  </a:lnTo>
                  <a:lnTo>
                    <a:pt x="377" y="1133"/>
                  </a:lnTo>
                  <a:lnTo>
                    <a:pt x="305" y="1144"/>
                  </a:lnTo>
                  <a:lnTo>
                    <a:pt x="229" y="1133"/>
                  </a:lnTo>
                  <a:lnTo>
                    <a:pt x="164" y="1097"/>
                  </a:lnTo>
                  <a:lnTo>
                    <a:pt x="111" y="1036"/>
                  </a:lnTo>
                  <a:lnTo>
                    <a:pt x="71" y="950"/>
                  </a:lnTo>
                  <a:lnTo>
                    <a:pt x="23" y="743"/>
                  </a:lnTo>
                  <a:lnTo>
                    <a:pt x="0" y="443"/>
                  </a:lnTo>
                  <a:lnTo>
                    <a:pt x="37" y="414"/>
                  </a:lnTo>
                  <a:lnTo>
                    <a:pt x="73" y="386"/>
                  </a:lnTo>
                  <a:lnTo>
                    <a:pt x="107" y="357"/>
                  </a:lnTo>
                  <a:lnTo>
                    <a:pt x="143" y="329"/>
                  </a:lnTo>
                  <a:lnTo>
                    <a:pt x="181" y="300"/>
                  </a:lnTo>
                  <a:lnTo>
                    <a:pt x="217" y="272"/>
                  </a:lnTo>
                  <a:lnTo>
                    <a:pt x="253" y="243"/>
                  </a:lnTo>
                  <a:lnTo>
                    <a:pt x="291" y="216"/>
                  </a:lnTo>
                  <a:lnTo>
                    <a:pt x="327" y="188"/>
                  </a:lnTo>
                  <a:lnTo>
                    <a:pt x="366" y="159"/>
                  </a:lnTo>
                  <a:lnTo>
                    <a:pt x="404" y="133"/>
                  </a:lnTo>
                  <a:lnTo>
                    <a:pt x="440" y="106"/>
                  </a:lnTo>
                  <a:lnTo>
                    <a:pt x="478" y="80"/>
                  </a:lnTo>
                  <a:lnTo>
                    <a:pt x="516" y="51"/>
                  </a:lnTo>
                  <a:lnTo>
                    <a:pt x="554" y="25"/>
                  </a:lnTo>
                  <a:lnTo>
                    <a:pt x="590" y="0"/>
                  </a:lnTo>
                  <a:lnTo>
                    <a:pt x="609" y="350"/>
                  </a:lnTo>
                  <a:lnTo>
                    <a:pt x="607" y="424"/>
                  </a:lnTo>
                  <a:lnTo>
                    <a:pt x="607" y="424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1427600">
              <a:off x="2674800" y="5707080"/>
              <a:ext cx="684360" cy="536760"/>
            </a:xfrm>
            <a:custGeom>
              <a:avLst/>
              <a:gdLst/>
              <a:ahLst/>
              <a:rect l="l" t="t" r="r" b="b"/>
              <a:pathLst>
                <a:path w="613" h="493">
                  <a:moveTo>
                    <a:pt x="613" y="236"/>
                  </a:moveTo>
                  <a:lnTo>
                    <a:pt x="502" y="280"/>
                  </a:lnTo>
                  <a:lnTo>
                    <a:pt x="445" y="306"/>
                  </a:lnTo>
                  <a:lnTo>
                    <a:pt x="384" y="337"/>
                  </a:lnTo>
                  <a:lnTo>
                    <a:pt x="324" y="371"/>
                  </a:lnTo>
                  <a:lnTo>
                    <a:pt x="263" y="409"/>
                  </a:lnTo>
                  <a:lnTo>
                    <a:pt x="200" y="449"/>
                  </a:lnTo>
                  <a:lnTo>
                    <a:pt x="135" y="493"/>
                  </a:lnTo>
                  <a:lnTo>
                    <a:pt x="109" y="436"/>
                  </a:lnTo>
                  <a:lnTo>
                    <a:pt x="94" y="409"/>
                  </a:lnTo>
                  <a:lnTo>
                    <a:pt x="76" y="380"/>
                  </a:lnTo>
                  <a:lnTo>
                    <a:pt x="59" y="354"/>
                  </a:lnTo>
                  <a:lnTo>
                    <a:pt x="40" y="327"/>
                  </a:lnTo>
                  <a:lnTo>
                    <a:pt x="21" y="302"/>
                  </a:lnTo>
                  <a:lnTo>
                    <a:pt x="0" y="278"/>
                  </a:lnTo>
                  <a:lnTo>
                    <a:pt x="42" y="253"/>
                  </a:lnTo>
                  <a:lnTo>
                    <a:pt x="84" y="228"/>
                  </a:lnTo>
                  <a:lnTo>
                    <a:pt x="164" y="183"/>
                  </a:lnTo>
                  <a:lnTo>
                    <a:pt x="242" y="141"/>
                  </a:lnTo>
                  <a:lnTo>
                    <a:pt x="314" y="103"/>
                  </a:lnTo>
                  <a:lnTo>
                    <a:pt x="383" y="71"/>
                  </a:lnTo>
                  <a:lnTo>
                    <a:pt x="445" y="42"/>
                  </a:lnTo>
                  <a:lnTo>
                    <a:pt x="554" y="0"/>
                  </a:lnTo>
                  <a:lnTo>
                    <a:pt x="613" y="236"/>
                  </a:lnTo>
                  <a:lnTo>
                    <a:pt x="613" y="236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1427600">
              <a:off x="1241640" y="1490040"/>
              <a:ext cx="1624320" cy="1019880"/>
            </a:xfrm>
            <a:custGeom>
              <a:avLst/>
              <a:gdLst/>
              <a:ahLst/>
              <a:rect l="l" t="t" r="r" b="b"/>
              <a:pathLst>
                <a:path w="1450" h="934">
                  <a:moveTo>
                    <a:pt x="1450" y="0"/>
                  </a:moveTo>
                  <a:lnTo>
                    <a:pt x="1441" y="93"/>
                  </a:lnTo>
                  <a:lnTo>
                    <a:pt x="1424" y="183"/>
                  </a:lnTo>
                  <a:lnTo>
                    <a:pt x="1399" y="268"/>
                  </a:lnTo>
                  <a:lnTo>
                    <a:pt x="1386" y="310"/>
                  </a:lnTo>
                  <a:lnTo>
                    <a:pt x="1369" y="352"/>
                  </a:lnTo>
                  <a:lnTo>
                    <a:pt x="1350" y="390"/>
                  </a:lnTo>
                  <a:lnTo>
                    <a:pt x="1331" y="430"/>
                  </a:lnTo>
                  <a:lnTo>
                    <a:pt x="1308" y="468"/>
                  </a:lnTo>
                  <a:lnTo>
                    <a:pt x="1283" y="506"/>
                  </a:lnTo>
                  <a:lnTo>
                    <a:pt x="1258" y="540"/>
                  </a:lnTo>
                  <a:lnTo>
                    <a:pt x="1230" y="576"/>
                  </a:lnTo>
                  <a:lnTo>
                    <a:pt x="1201" y="610"/>
                  </a:lnTo>
                  <a:lnTo>
                    <a:pt x="1169" y="645"/>
                  </a:lnTo>
                  <a:lnTo>
                    <a:pt x="1133" y="679"/>
                  </a:lnTo>
                  <a:lnTo>
                    <a:pt x="1097" y="711"/>
                  </a:lnTo>
                  <a:lnTo>
                    <a:pt x="1059" y="742"/>
                  </a:lnTo>
                  <a:lnTo>
                    <a:pt x="1021" y="772"/>
                  </a:lnTo>
                  <a:lnTo>
                    <a:pt x="981" y="797"/>
                  </a:lnTo>
                  <a:lnTo>
                    <a:pt x="939" y="821"/>
                  </a:lnTo>
                  <a:lnTo>
                    <a:pt x="855" y="861"/>
                  </a:lnTo>
                  <a:lnTo>
                    <a:pt x="766" y="894"/>
                  </a:lnTo>
                  <a:lnTo>
                    <a:pt x="673" y="917"/>
                  </a:lnTo>
                  <a:lnTo>
                    <a:pt x="475" y="934"/>
                  </a:lnTo>
                  <a:lnTo>
                    <a:pt x="224" y="905"/>
                  </a:lnTo>
                  <a:lnTo>
                    <a:pt x="110" y="869"/>
                  </a:lnTo>
                  <a:lnTo>
                    <a:pt x="0" y="820"/>
                  </a:lnTo>
                  <a:lnTo>
                    <a:pt x="76" y="785"/>
                  </a:lnTo>
                  <a:lnTo>
                    <a:pt x="152" y="747"/>
                  </a:lnTo>
                  <a:lnTo>
                    <a:pt x="230" y="706"/>
                  </a:lnTo>
                  <a:lnTo>
                    <a:pt x="312" y="660"/>
                  </a:lnTo>
                  <a:lnTo>
                    <a:pt x="346" y="690"/>
                  </a:lnTo>
                  <a:lnTo>
                    <a:pt x="386" y="713"/>
                  </a:lnTo>
                  <a:lnTo>
                    <a:pt x="475" y="730"/>
                  </a:lnTo>
                  <a:lnTo>
                    <a:pt x="547" y="719"/>
                  </a:lnTo>
                  <a:lnTo>
                    <a:pt x="608" y="683"/>
                  </a:lnTo>
                  <a:lnTo>
                    <a:pt x="659" y="622"/>
                  </a:lnTo>
                  <a:lnTo>
                    <a:pt x="701" y="538"/>
                  </a:lnTo>
                  <a:lnTo>
                    <a:pt x="739" y="401"/>
                  </a:lnTo>
                  <a:lnTo>
                    <a:pt x="783" y="375"/>
                  </a:lnTo>
                  <a:lnTo>
                    <a:pt x="827" y="348"/>
                  </a:lnTo>
                  <a:lnTo>
                    <a:pt x="871" y="322"/>
                  </a:lnTo>
                  <a:lnTo>
                    <a:pt x="914" y="295"/>
                  </a:lnTo>
                  <a:lnTo>
                    <a:pt x="958" y="268"/>
                  </a:lnTo>
                  <a:lnTo>
                    <a:pt x="1002" y="242"/>
                  </a:lnTo>
                  <a:lnTo>
                    <a:pt x="1047" y="215"/>
                  </a:lnTo>
                  <a:lnTo>
                    <a:pt x="1091" y="190"/>
                  </a:lnTo>
                  <a:lnTo>
                    <a:pt x="1135" y="164"/>
                  </a:lnTo>
                  <a:lnTo>
                    <a:pt x="1180" y="139"/>
                  </a:lnTo>
                  <a:lnTo>
                    <a:pt x="1226" y="114"/>
                  </a:lnTo>
                  <a:lnTo>
                    <a:pt x="1270" y="92"/>
                  </a:lnTo>
                  <a:lnTo>
                    <a:pt x="1359" y="44"/>
                  </a:lnTo>
                  <a:lnTo>
                    <a:pt x="1450" y="0"/>
                  </a:lnTo>
                  <a:lnTo>
                    <a:pt x="1450" y="0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1427600">
              <a:off x="1056240" y="2573640"/>
              <a:ext cx="1883880" cy="1107000"/>
            </a:xfrm>
            <a:custGeom>
              <a:avLst/>
              <a:gdLst/>
              <a:ahLst/>
              <a:rect l="l" t="t" r="r" b="b"/>
              <a:pathLst>
                <a:path w="1684" h="1013">
                  <a:moveTo>
                    <a:pt x="0" y="302"/>
                  </a:moveTo>
                  <a:lnTo>
                    <a:pt x="19" y="281"/>
                  </a:lnTo>
                  <a:lnTo>
                    <a:pt x="55" y="249"/>
                  </a:lnTo>
                  <a:lnTo>
                    <a:pt x="91" y="217"/>
                  </a:lnTo>
                  <a:lnTo>
                    <a:pt x="129" y="186"/>
                  </a:lnTo>
                  <a:lnTo>
                    <a:pt x="167" y="160"/>
                  </a:lnTo>
                  <a:lnTo>
                    <a:pt x="207" y="133"/>
                  </a:lnTo>
                  <a:lnTo>
                    <a:pt x="247" y="110"/>
                  </a:lnTo>
                  <a:lnTo>
                    <a:pt x="332" y="70"/>
                  </a:lnTo>
                  <a:lnTo>
                    <a:pt x="424" y="40"/>
                  </a:lnTo>
                  <a:lnTo>
                    <a:pt x="517" y="17"/>
                  </a:lnTo>
                  <a:lnTo>
                    <a:pt x="720" y="0"/>
                  </a:lnTo>
                  <a:lnTo>
                    <a:pt x="924" y="17"/>
                  </a:lnTo>
                  <a:lnTo>
                    <a:pt x="1108" y="70"/>
                  </a:lnTo>
                  <a:lnTo>
                    <a:pt x="1194" y="110"/>
                  </a:lnTo>
                  <a:lnTo>
                    <a:pt x="1276" y="160"/>
                  </a:lnTo>
                  <a:lnTo>
                    <a:pt x="1314" y="186"/>
                  </a:lnTo>
                  <a:lnTo>
                    <a:pt x="1352" y="217"/>
                  </a:lnTo>
                  <a:lnTo>
                    <a:pt x="1388" y="249"/>
                  </a:lnTo>
                  <a:lnTo>
                    <a:pt x="1424" y="281"/>
                  </a:lnTo>
                  <a:lnTo>
                    <a:pt x="1449" y="308"/>
                  </a:lnTo>
                  <a:lnTo>
                    <a:pt x="1473" y="336"/>
                  </a:lnTo>
                  <a:lnTo>
                    <a:pt x="1496" y="363"/>
                  </a:lnTo>
                  <a:lnTo>
                    <a:pt x="1517" y="391"/>
                  </a:lnTo>
                  <a:lnTo>
                    <a:pt x="1538" y="420"/>
                  </a:lnTo>
                  <a:lnTo>
                    <a:pt x="1557" y="450"/>
                  </a:lnTo>
                  <a:lnTo>
                    <a:pt x="1591" y="511"/>
                  </a:lnTo>
                  <a:lnTo>
                    <a:pt x="1622" y="574"/>
                  </a:lnTo>
                  <a:lnTo>
                    <a:pt x="1646" y="639"/>
                  </a:lnTo>
                  <a:lnTo>
                    <a:pt x="1684" y="777"/>
                  </a:lnTo>
                  <a:lnTo>
                    <a:pt x="1603" y="806"/>
                  </a:lnTo>
                  <a:lnTo>
                    <a:pt x="1521" y="834"/>
                  </a:lnTo>
                  <a:lnTo>
                    <a:pt x="1437" y="863"/>
                  </a:lnTo>
                  <a:lnTo>
                    <a:pt x="1355" y="893"/>
                  </a:lnTo>
                  <a:lnTo>
                    <a:pt x="1272" y="924"/>
                  </a:lnTo>
                  <a:lnTo>
                    <a:pt x="1188" y="954"/>
                  </a:lnTo>
                  <a:lnTo>
                    <a:pt x="1106" y="983"/>
                  </a:lnTo>
                  <a:lnTo>
                    <a:pt x="1026" y="1013"/>
                  </a:lnTo>
                  <a:lnTo>
                    <a:pt x="1026" y="998"/>
                  </a:lnTo>
                  <a:lnTo>
                    <a:pt x="1021" y="806"/>
                  </a:lnTo>
                  <a:lnTo>
                    <a:pt x="1007" y="642"/>
                  </a:lnTo>
                  <a:lnTo>
                    <a:pt x="985" y="505"/>
                  </a:lnTo>
                  <a:lnTo>
                    <a:pt x="969" y="447"/>
                  </a:lnTo>
                  <a:lnTo>
                    <a:pt x="952" y="395"/>
                  </a:lnTo>
                  <a:lnTo>
                    <a:pt x="933" y="352"/>
                  </a:lnTo>
                  <a:lnTo>
                    <a:pt x="910" y="312"/>
                  </a:lnTo>
                  <a:lnTo>
                    <a:pt x="888" y="277"/>
                  </a:lnTo>
                  <a:lnTo>
                    <a:pt x="859" y="251"/>
                  </a:lnTo>
                  <a:lnTo>
                    <a:pt x="831" y="230"/>
                  </a:lnTo>
                  <a:lnTo>
                    <a:pt x="798" y="215"/>
                  </a:lnTo>
                  <a:lnTo>
                    <a:pt x="726" y="203"/>
                  </a:lnTo>
                  <a:lnTo>
                    <a:pt x="627" y="226"/>
                  </a:lnTo>
                  <a:lnTo>
                    <a:pt x="547" y="293"/>
                  </a:lnTo>
                  <a:lnTo>
                    <a:pt x="279" y="275"/>
                  </a:lnTo>
                  <a:lnTo>
                    <a:pt x="0" y="302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1427600">
              <a:off x="2839680" y="2596680"/>
              <a:ext cx="465120" cy="417600"/>
            </a:xfrm>
            <a:custGeom>
              <a:avLst/>
              <a:gdLst/>
              <a:ahLst/>
              <a:rect l="l" t="t" r="r" b="b"/>
              <a:pathLst>
                <a:path w="417" h="384">
                  <a:moveTo>
                    <a:pt x="0" y="213"/>
                  </a:moveTo>
                  <a:lnTo>
                    <a:pt x="2" y="122"/>
                  </a:lnTo>
                  <a:lnTo>
                    <a:pt x="124" y="84"/>
                  </a:lnTo>
                  <a:lnTo>
                    <a:pt x="234" y="49"/>
                  </a:lnTo>
                  <a:lnTo>
                    <a:pt x="333" y="21"/>
                  </a:lnTo>
                  <a:lnTo>
                    <a:pt x="417" y="0"/>
                  </a:lnTo>
                  <a:lnTo>
                    <a:pt x="373" y="42"/>
                  </a:lnTo>
                  <a:lnTo>
                    <a:pt x="325" y="87"/>
                  </a:lnTo>
                  <a:lnTo>
                    <a:pt x="276" y="135"/>
                  </a:lnTo>
                  <a:lnTo>
                    <a:pt x="223" y="182"/>
                  </a:lnTo>
                  <a:lnTo>
                    <a:pt x="196" y="205"/>
                  </a:lnTo>
                  <a:lnTo>
                    <a:pt x="169" y="230"/>
                  </a:lnTo>
                  <a:lnTo>
                    <a:pt x="143" y="257"/>
                  </a:lnTo>
                  <a:lnTo>
                    <a:pt x="116" y="281"/>
                  </a:lnTo>
                  <a:lnTo>
                    <a:pt x="90" y="306"/>
                  </a:lnTo>
                  <a:lnTo>
                    <a:pt x="63" y="331"/>
                  </a:lnTo>
                  <a:lnTo>
                    <a:pt x="38" y="357"/>
                  </a:lnTo>
                  <a:lnTo>
                    <a:pt x="12" y="384"/>
                  </a:lnTo>
                  <a:lnTo>
                    <a:pt x="0" y="213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11427600">
              <a:off x="1216800" y="4694400"/>
              <a:ext cx="1474200" cy="1421640"/>
            </a:xfrm>
            <a:custGeom>
              <a:avLst/>
              <a:gdLst/>
              <a:ahLst/>
              <a:rect l="l" t="t" r="r" b="b"/>
              <a:pathLst>
                <a:path w="1318" h="1302">
                  <a:moveTo>
                    <a:pt x="0" y="1302"/>
                  </a:moveTo>
                  <a:lnTo>
                    <a:pt x="843" y="0"/>
                  </a:lnTo>
                  <a:lnTo>
                    <a:pt x="1318" y="0"/>
                  </a:lnTo>
                  <a:lnTo>
                    <a:pt x="514" y="1243"/>
                  </a:lnTo>
                  <a:lnTo>
                    <a:pt x="0" y="1302"/>
                  </a:lnTo>
                  <a:lnTo>
                    <a:pt x="0" y="1302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1427600">
              <a:off x="4208760" y="1995120"/>
              <a:ext cx="1165320" cy="952560"/>
            </a:xfrm>
            <a:custGeom>
              <a:avLst/>
              <a:gdLst/>
              <a:ahLst/>
              <a:rect l="l" t="t" r="r" b="b"/>
              <a:pathLst>
                <a:path w="1042" h="873">
                  <a:moveTo>
                    <a:pt x="0" y="873"/>
                  </a:moveTo>
                  <a:lnTo>
                    <a:pt x="498" y="107"/>
                  </a:lnTo>
                  <a:lnTo>
                    <a:pt x="759" y="67"/>
                  </a:lnTo>
                  <a:lnTo>
                    <a:pt x="899" y="34"/>
                  </a:lnTo>
                  <a:lnTo>
                    <a:pt x="1042" y="0"/>
                  </a:lnTo>
                  <a:lnTo>
                    <a:pt x="475" y="873"/>
                  </a:lnTo>
                  <a:lnTo>
                    <a:pt x="0" y="873"/>
                  </a:lnTo>
                  <a:lnTo>
                    <a:pt x="0" y="873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11427600">
              <a:off x="3244680" y="4759920"/>
              <a:ext cx="812160" cy="1050480"/>
            </a:xfrm>
            <a:custGeom>
              <a:avLst/>
              <a:gdLst/>
              <a:ahLst/>
              <a:rect l="l" t="t" r="r" b="b"/>
              <a:pathLst>
                <a:path w="727" h="961">
                  <a:moveTo>
                    <a:pt x="639" y="0"/>
                  </a:moveTo>
                  <a:lnTo>
                    <a:pt x="660" y="49"/>
                  </a:lnTo>
                  <a:lnTo>
                    <a:pt x="677" y="100"/>
                  </a:lnTo>
                  <a:lnTo>
                    <a:pt x="704" y="207"/>
                  </a:lnTo>
                  <a:lnTo>
                    <a:pt x="727" y="435"/>
                  </a:lnTo>
                  <a:lnTo>
                    <a:pt x="721" y="539"/>
                  </a:lnTo>
                  <a:lnTo>
                    <a:pt x="708" y="640"/>
                  </a:lnTo>
                  <a:lnTo>
                    <a:pt x="685" y="737"/>
                  </a:lnTo>
                  <a:lnTo>
                    <a:pt x="654" y="830"/>
                  </a:lnTo>
                  <a:lnTo>
                    <a:pt x="470" y="864"/>
                  </a:lnTo>
                  <a:lnTo>
                    <a:pt x="299" y="899"/>
                  </a:lnTo>
                  <a:lnTo>
                    <a:pt x="141" y="931"/>
                  </a:lnTo>
                  <a:lnTo>
                    <a:pt x="0" y="961"/>
                  </a:lnTo>
                  <a:lnTo>
                    <a:pt x="35" y="766"/>
                  </a:lnTo>
                  <a:lnTo>
                    <a:pt x="48" y="517"/>
                  </a:lnTo>
                  <a:lnTo>
                    <a:pt x="82" y="480"/>
                  </a:lnTo>
                  <a:lnTo>
                    <a:pt x="115" y="446"/>
                  </a:lnTo>
                  <a:lnTo>
                    <a:pt x="151" y="410"/>
                  </a:lnTo>
                  <a:lnTo>
                    <a:pt x="185" y="376"/>
                  </a:lnTo>
                  <a:lnTo>
                    <a:pt x="221" y="342"/>
                  </a:lnTo>
                  <a:lnTo>
                    <a:pt x="257" y="307"/>
                  </a:lnTo>
                  <a:lnTo>
                    <a:pt x="295" y="275"/>
                  </a:lnTo>
                  <a:lnTo>
                    <a:pt x="331" y="241"/>
                  </a:lnTo>
                  <a:lnTo>
                    <a:pt x="369" y="209"/>
                  </a:lnTo>
                  <a:lnTo>
                    <a:pt x="407" y="176"/>
                  </a:lnTo>
                  <a:lnTo>
                    <a:pt x="445" y="146"/>
                  </a:lnTo>
                  <a:lnTo>
                    <a:pt x="483" y="116"/>
                  </a:lnTo>
                  <a:lnTo>
                    <a:pt x="523" y="85"/>
                  </a:lnTo>
                  <a:lnTo>
                    <a:pt x="561" y="57"/>
                  </a:lnTo>
                  <a:lnTo>
                    <a:pt x="599" y="28"/>
                  </a:lnTo>
                  <a:lnTo>
                    <a:pt x="639" y="0"/>
                  </a:lnTo>
                  <a:lnTo>
                    <a:pt x="639" y="0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11427600">
              <a:off x="3431160" y="4851000"/>
              <a:ext cx="1944000" cy="1714320"/>
            </a:xfrm>
            <a:custGeom>
              <a:avLst/>
              <a:gdLst/>
              <a:ahLst/>
              <a:rect l="l" t="t" r="r" b="b"/>
              <a:pathLst>
                <a:path w="1737" h="1570">
                  <a:moveTo>
                    <a:pt x="0" y="994"/>
                  </a:moveTo>
                  <a:lnTo>
                    <a:pt x="3" y="889"/>
                  </a:lnTo>
                  <a:lnTo>
                    <a:pt x="17" y="789"/>
                  </a:lnTo>
                  <a:lnTo>
                    <a:pt x="38" y="694"/>
                  </a:lnTo>
                  <a:lnTo>
                    <a:pt x="68" y="602"/>
                  </a:lnTo>
                  <a:lnTo>
                    <a:pt x="87" y="557"/>
                  </a:lnTo>
                  <a:lnTo>
                    <a:pt x="108" y="515"/>
                  </a:lnTo>
                  <a:lnTo>
                    <a:pt x="131" y="473"/>
                  </a:lnTo>
                  <a:lnTo>
                    <a:pt x="155" y="433"/>
                  </a:lnTo>
                  <a:lnTo>
                    <a:pt x="182" y="393"/>
                  </a:lnTo>
                  <a:lnTo>
                    <a:pt x="213" y="355"/>
                  </a:lnTo>
                  <a:lnTo>
                    <a:pt x="243" y="317"/>
                  </a:lnTo>
                  <a:lnTo>
                    <a:pt x="277" y="283"/>
                  </a:lnTo>
                  <a:lnTo>
                    <a:pt x="311" y="249"/>
                  </a:lnTo>
                  <a:lnTo>
                    <a:pt x="349" y="216"/>
                  </a:lnTo>
                  <a:lnTo>
                    <a:pt x="386" y="186"/>
                  </a:lnTo>
                  <a:lnTo>
                    <a:pt x="425" y="159"/>
                  </a:lnTo>
                  <a:lnTo>
                    <a:pt x="465" y="133"/>
                  </a:lnTo>
                  <a:lnTo>
                    <a:pt x="505" y="110"/>
                  </a:lnTo>
                  <a:lnTo>
                    <a:pt x="591" y="70"/>
                  </a:lnTo>
                  <a:lnTo>
                    <a:pt x="682" y="40"/>
                  </a:lnTo>
                  <a:lnTo>
                    <a:pt x="775" y="17"/>
                  </a:lnTo>
                  <a:lnTo>
                    <a:pt x="979" y="0"/>
                  </a:lnTo>
                  <a:lnTo>
                    <a:pt x="1180" y="17"/>
                  </a:lnTo>
                  <a:lnTo>
                    <a:pt x="1367" y="70"/>
                  </a:lnTo>
                  <a:lnTo>
                    <a:pt x="1452" y="110"/>
                  </a:lnTo>
                  <a:lnTo>
                    <a:pt x="1532" y="159"/>
                  </a:lnTo>
                  <a:lnTo>
                    <a:pt x="1572" y="186"/>
                  </a:lnTo>
                  <a:lnTo>
                    <a:pt x="1610" y="216"/>
                  </a:lnTo>
                  <a:lnTo>
                    <a:pt x="1646" y="249"/>
                  </a:lnTo>
                  <a:lnTo>
                    <a:pt x="1682" y="283"/>
                  </a:lnTo>
                  <a:lnTo>
                    <a:pt x="1711" y="313"/>
                  </a:lnTo>
                  <a:lnTo>
                    <a:pt x="1737" y="344"/>
                  </a:lnTo>
                  <a:lnTo>
                    <a:pt x="1682" y="378"/>
                  </a:lnTo>
                  <a:lnTo>
                    <a:pt x="1625" y="412"/>
                  </a:lnTo>
                  <a:lnTo>
                    <a:pt x="1566" y="450"/>
                  </a:lnTo>
                  <a:lnTo>
                    <a:pt x="1507" y="488"/>
                  </a:lnTo>
                  <a:lnTo>
                    <a:pt x="1448" y="526"/>
                  </a:lnTo>
                  <a:lnTo>
                    <a:pt x="1388" y="566"/>
                  </a:lnTo>
                  <a:lnTo>
                    <a:pt x="1329" y="608"/>
                  </a:lnTo>
                  <a:lnTo>
                    <a:pt x="1268" y="650"/>
                  </a:lnTo>
                  <a:lnTo>
                    <a:pt x="1243" y="509"/>
                  </a:lnTo>
                  <a:lnTo>
                    <a:pt x="1228" y="448"/>
                  </a:lnTo>
                  <a:lnTo>
                    <a:pt x="1211" y="395"/>
                  </a:lnTo>
                  <a:lnTo>
                    <a:pt x="1190" y="349"/>
                  </a:lnTo>
                  <a:lnTo>
                    <a:pt x="1169" y="311"/>
                  </a:lnTo>
                  <a:lnTo>
                    <a:pt x="1144" y="277"/>
                  </a:lnTo>
                  <a:lnTo>
                    <a:pt x="1116" y="251"/>
                  </a:lnTo>
                  <a:lnTo>
                    <a:pt x="1087" y="230"/>
                  </a:lnTo>
                  <a:lnTo>
                    <a:pt x="1053" y="215"/>
                  </a:lnTo>
                  <a:lnTo>
                    <a:pt x="983" y="203"/>
                  </a:lnTo>
                  <a:lnTo>
                    <a:pt x="910" y="215"/>
                  </a:lnTo>
                  <a:lnTo>
                    <a:pt x="848" y="249"/>
                  </a:lnTo>
                  <a:lnTo>
                    <a:pt x="794" y="306"/>
                  </a:lnTo>
                  <a:lnTo>
                    <a:pt x="751" y="386"/>
                  </a:lnTo>
                  <a:lnTo>
                    <a:pt x="695" y="616"/>
                  </a:lnTo>
                  <a:lnTo>
                    <a:pt x="676" y="941"/>
                  </a:lnTo>
                  <a:lnTo>
                    <a:pt x="678" y="1093"/>
                  </a:lnTo>
                  <a:lnTo>
                    <a:pt x="640" y="1125"/>
                  </a:lnTo>
                  <a:lnTo>
                    <a:pt x="604" y="1154"/>
                  </a:lnTo>
                  <a:lnTo>
                    <a:pt x="570" y="1184"/>
                  </a:lnTo>
                  <a:lnTo>
                    <a:pt x="534" y="1216"/>
                  </a:lnTo>
                  <a:lnTo>
                    <a:pt x="500" y="1247"/>
                  </a:lnTo>
                  <a:lnTo>
                    <a:pt x="465" y="1275"/>
                  </a:lnTo>
                  <a:lnTo>
                    <a:pt x="431" y="1306"/>
                  </a:lnTo>
                  <a:lnTo>
                    <a:pt x="399" y="1336"/>
                  </a:lnTo>
                  <a:lnTo>
                    <a:pt x="367" y="1366"/>
                  </a:lnTo>
                  <a:lnTo>
                    <a:pt x="336" y="1395"/>
                  </a:lnTo>
                  <a:lnTo>
                    <a:pt x="306" y="1425"/>
                  </a:lnTo>
                  <a:lnTo>
                    <a:pt x="275" y="1456"/>
                  </a:lnTo>
                  <a:lnTo>
                    <a:pt x="247" y="1484"/>
                  </a:lnTo>
                  <a:lnTo>
                    <a:pt x="218" y="1513"/>
                  </a:lnTo>
                  <a:lnTo>
                    <a:pt x="192" y="1541"/>
                  </a:lnTo>
                  <a:lnTo>
                    <a:pt x="165" y="1570"/>
                  </a:lnTo>
                  <a:lnTo>
                    <a:pt x="144" y="1539"/>
                  </a:lnTo>
                  <a:lnTo>
                    <a:pt x="127" y="1507"/>
                  </a:lnTo>
                  <a:lnTo>
                    <a:pt x="93" y="1442"/>
                  </a:lnTo>
                  <a:lnTo>
                    <a:pt x="64" y="1374"/>
                  </a:lnTo>
                  <a:lnTo>
                    <a:pt x="40" y="1304"/>
                  </a:lnTo>
                  <a:lnTo>
                    <a:pt x="9" y="1154"/>
                  </a:lnTo>
                  <a:lnTo>
                    <a:pt x="0" y="994"/>
                  </a:lnTo>
                  <a:lnTo>
                    <a:pt x="0" y="994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 txBox="1"/>
          <p:nvPr/>
        </p:nvSpPr>
        <p:spPr>
          <a:xfrm>
            <a:off x="1295280" y="1676520"/>
            <a:ext cx="65358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ercent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ecreas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68720" y="2424240"/>
            <a:ext cx="3240" cy="360"/>
          </a:xfrm>
          <a:custGeom>
            <a:avLst/>
            <a:gdLst/>
            <a:ahLst/>
            <a:rect l="l" t="t" r="r" b="b"/>
            <a:pathLst>
              <a:path w="10" h="4">
                <a:moveTo>
                  <a:pt x="10" y="4"/>
                </a:moveTo>
                <a:lnTo>
                  <a:pt x="0" y="0"/>
                </a:lnTo>
                <a:lnTo>
                  <a:pt x="10" y="0"/>
                </a:lnTo>
                <a:lnTo>
                  <a:pt x="10" y="4"/>
                </a:lnTo>
                <a:close/>
              </a:path>
            </a:pathLst>
          </a:custGeom>
          <a:solidFill>
            <a:srgbClr val="ffde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533520" y="1447920"/>
            <a:ext cx="8038800" cy="1191240"/>
            <a:chOff x="533520" y="1447920"/>
            <a:chExt cx="8038800" cy="1191240"/>
          </a:xfrm>
        </p:grpSpPr>
        <p:sp>
          <p:nvSpPr>
            <p:cNvPr id="547" name=""/>
            <p:cNvSpPr/>
            <p:nvPr/>
          </p:nvSpPr>
          <p:spPr>
            <a:xfrm>
              <a:off x="533520" y="1447920"/>
              <a:ext cx="22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ercent Decre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3002760" y="1479600"/>
              <a:ext cx="4010400" cy="1127520"/>
              <a:chOff x="3002760" y="1479600"/>
              <a:chExt cx="4010400" cy="1127520"/>
            </a:xfrm>
          </p:grpSpPr>
          <p:sp>
            <p:nvSpPr>
              <p:cNvPr id="549" name=""/>
              <p:cNvSpPr/>
              <p:nvPr/>
            </p:nvSpPr>
            <p:spPr>
              <a:xfrm>
                <a:off x="3002760" y="1479600"/>
                <a:ext cx="4010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amount of decrea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587400" y="2025720"/>
                <a:ext cx="2838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initial amoun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132000" y="2025720"/>
                <a:ext cx="374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6934320" y="1720800"/>
              <a:ext cx="163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54280" y="1720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700440" y="3490920"/>
            <a:ext cx="491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percent of decre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s </a:t>
            </a:r>
            <a:br>
              <a:rPr sz="3200"/>
            </a:b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the initial amou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he amount of de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533520" y="3422520"/>
            <a:ext cx="2895480" cy="267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752400" y="34434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Class 12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perc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the who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he 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 flipV="1">
            <a:off x="621360" y="1556640"/>
            <a:ext cx="1616040" cy="1531800"/>
          </a:xfrm>
          <a:custGeom>
            <a:avLst/>
            <a:gdLst/>
            <a:ahLst/>
            <a:rect l="l" t="t" r="r" b="b"/>
            <a:pathLst>
              <a:path w="2383" h="2526">
                <a:moveTo>
                  <a:pt x="0" y="1236"/>
                </a:moveTo>
                <a:lnTo>
                  <a:pt x="419" y="1250"/>
                </a:lnTo>
                <a:lnTo>
                  <a:pt x="1052" y="1635"/>
                </a:lnTo>
                <a:lnTo>
                  <a:pt x="902" y="1874"/>
                </a:lnTo>
                <a:lnTo>
                  <a:pt x="711" y="2189"/>
                </a:lnTo>
                <a:lnTo>
                  <a:pt x="795" y="2400"/>
                </a:lnTo>
                <a:lnTo>
                  <a:pt x="1081" y="2526"/>
                </a:lnTo>
                <a:lnTo>
                  <a:pt x="1499" y="2498"/>
                </a:lnTo>
                <a:lnTo>
                  <a:pt x="1726" y="2267"/>
                </a:lnTo>
                <a:lnTo>
                  <a:pt x="1942" y="1158"/>
                </a:lnTo>
                <a:lnTo>
                  <a:pt x="2383" y="289"/>
                </a:lnTo>
                <a:lnTo>
                  <a:pt x="2317" y="183"/>
                </a:lnTo>
                <a:lnTo>
                  <a:pt x="1966" y="43"/>
                </a:lnTo>
                <a:lnTo>
                  <a:pt x="1428" y="0"/>
                </a:lnTo>
                <a:lnTo>
                  <a:pt x="789" y="141"/>
                </a:lnTo>
                <a:lnTo>
                  <a:pt x="311" y="568"/>
                </a:lnTo>
                <a:lnTo>
                  <a:pt x="90" y="969"/>
                </a:lnTo>
                <a:lnTo>
                  <a:pt x="0" y="1236"/>
                </a:lnTo>
                <a:lnTo>
                  <a:pt x="0" y="1236"/>
                </a:lnTo>
                <a:close/>
              </a:path>
            </a:pathLst>
          </a:custGeom>
          <a:solidFill>
            <a:srgbClr val="fbd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982800" y="2592360"/>
            <a:ext cx="723600" cy="325440"/>
          </a:xfrm>
          <a:custGeom>
            <a:avLst/>
            <a:gdLst/>
            <a:ahLst/>
            <a:rect l="l" t="t" r="r" b="b"/>
            <a:pathLst>
              <a:path w="1068" h="540">
                <a:moveTo>
                  <a:pt x="0" y="273"/>
                </a:moveTo>
                <a:lnTo>
                  <a:pt x="173" y="471"/>
                </a:lnTo>
                <a:lnTo>
                  <a:pt x="550" y="540"/>
                </a:lnTo>
                <a:lnTo>
                  <a:pt x="926" y="428"/>
                </a:lnTo>
                <a:lnTo>
                  <a:pt x="1068" y="351"/>
                </a:lnTo>
                <a:lnTo>
                  <a:pt x="943" y="148"/>
                </a:lnTo>
                <a:lnTo>
                  <a:pt x="615" y="0"/>
                </a:lnTo>
                <a:lnTo>
                  <a:pt x="298" y="28"/>
                </a:lnTo>
                <a:lnTo>
                  <a:pt x="0" y="273"/>
                </a:lnTo>
                <a:lnTo>
                  <a:pt x="0" y="2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 flipV="1">
            <a:off x="1231200" y="2631240"/>
            <a:ext cx="230040" cy="236520"/>
          </a:xfrm>
          <a:custGeom>
            <a:avLst/>
            <a:gdLst/>
            <a:ahLst/>
            <a:rect l="l" t="t" r="r" b="b"/>
            <a:pathLst>
              <a:path w="341" h="387">
                <a:moveTo>
                  <a:pt x="233" y="0"/>
                </a:moveTo>
                <a:lnTo>
                  <a:pt x="96" y="0"/>
                </a:lnTo>
                <a:lnTo>
                  <a:pt x="0" y="163"/>
                </a:lnTo>
                <a:lnTo>
                  <a:pt x="60" y="330"/>
                </a:lnTo>
                <a:lnTo>
                  <a:pt x="228" y="387"/>
                </a:lnTo>
                <a:lnTo>
                  <a:pt x="341" y="211"/>
                </a:lnTo>
                <a:lnTo>
                  <a:pt x="233" y="0"/>
                </a:lnTo>
                <a:lnTo>
                  <a:pt x="233" y="0"/>
                </a:lnTo>
                <a:close/>
              </a:path>
            </a:pathLst>
          </a:custGeom>
          <a:solidFill>
            <a:srgbClr val="99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1480320" y="1654920"/>
            <a:ext cx="265320" cy="150840"/>
          </a:xfrm>
          <a:custGeom>
            <a:avLst/>
            <a:gdLst/>
            <a:ahLst/>
            <a:rect l="l" t="t" r="r" b="b"/>
            <a:pathLst>
              <a:path w="393" h="250">
                <a:moveTo>
                  <a:pt x="53" y="250"/>
                </a:moveTo>
                <a:lnTo>
                  <a:pt x="0" y="116"/>
                </a:lnTo>
                <a:lnTo>
                  <a:pt x="53" y="0"/>
                </a:lnTo>
                <a:lnTo>
                  <a:pt x="308" y="60"/>
                </a:lnTo>
                <a:lnTo>
                  <a:pt x="371" y="92"/>
                </a:lnTo>
                <a:lnTo>
                  <a:pt x="393" y="122"/>
                </a:lnTo>
                <a:lnTo>
                  <a:pt x="371" y="154"/>
                </a:lnTo>
                <a:lnTo>
                  <a:pt x="308" y="186"/>
                </a:lnTo>
                <a:lnTo>
                  <a:pt x="202" y="218"/>
                </a:lnTo>
                <a:lnTo>
                  <a:pt x="53" y="250"/>
                </a:lnTo>
                <a:lnTo>
                  <a:pt x="53" y="250"/>
                </a:lnTo>
                <a:close/>
              </a:path>
            </a:pathLst>
          </a:custGeom>
          <a:solidFill>
            <a:srgbClr val="d422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flipV="1">
            <a:off x="1305720" y="2079720"/>
            <a:ext cx="973080" cy="441360"/>
          </a:xfrm>
          <a:custGeom>
            <a:avLst/>
            <a:gdLst/>
            <a:ahLst/>
            <a:rect l="l" t="t" r="r" b="b"/>
            <a:pathLst>
              <a:path w="1434" h="727">
                <a:moveTo>
                  <a:pt x="38" y="406"/>
                </a:moveTo>
                <a:lnTo>
                  <a:pt x="228" y="394"/>
                </a:lnTo>
                <a:lnTo>
                  <a:pt x="483" y="411"/>
                </a:lnTo>
                <a:lnTo>
                  <a:pt x="622" y="478"/>
                </a:lnTo>
                <a:lnTo>
                  <a:pt x="701" y="528"/>
                </a:lnTo>
                <a:lnTo>
                  <a:pt x="779" y="582"/>
                </a:lnTo>
                <a:lnTo>
                  <a:pt x="857" y="633"/>
                </a:lnTo>
                <a:lnTo>
                  <a:pt x="931" y="679"/>
                </a:lnTo>
                <a:lnTo>
                  <a:pt x="998" y="711"/>
                </a:lnTo>
                <a:lnTo>
                  <a:pt x="1055" y="727"/>
                </a:lnTo>
                <a:lnTo>
                  <a:pt x="1202" y="708"/>
                </a:lnTo>
                <a:lnTo>
                  <a:pt x="1323" y="616"/>
                </a:lnTo>
                <a:lnTo>
                  <a:pt x="1403" y="474"/>
                </a:lnTo>
                <a:lnTo>
                  <a:pt x="1434" y="305"/>
                </a:lnTo>
                <a:lnTo>
                  <a:pt x="1413" y="164"/>
                </a:lnTo>
                <a:lnTo>
                  <a:pt x="1388" y="108"/>
                </a:lnTo>
                <a:lnTo>
                  <a:pt x="1354" y="64"/>
                </a:lnTo>
                <a:lnTo>
                  <a:pt x="1313" y="28"/>
                </a:lnTo>
                <a:lnTo>
                  <a:pt x="1264" y="6"/>
                </a:lnTo>
                <a:lnTo>
                  <a:pt x="1144" y="0"/>
                </a:lnTo>
                <a:lnTo>
                  <a:pt x="1051" y="44"/>
                </a:lnTo>
                <a:lnTo>
                  <a:pt x="983" y="136"/>
                </a:lnTo>
                <a:lnTo>
                  <a:pt x="943" y="246"/>
                </a:lnTo>
                <a:lnTo>
                  <a:pt x="932" y="344"/>
                </a:lnTo>
                <a:lnTo>
                  <a:pt x="943" y="385"/>
                </a:lnTo>
                <a:lnTo>
                  <a:pt x="966" y="413"/>
                </a:lnTo>
                <a:lnTo>
                  <a:pt x="1034" y="431"/>
                </a:lnTo>
                <a:lnTo>
                  <a:pt x="1101" y="399"/>
                </a:lnTo>
                <a:lnTo>
                  <a:pt x="1136" y="321"/>
                </a:lnTo>
                <a:lnTo>
                  <a:pt x="1127" y="249"/>
                </a:lnTo>
                <a:lnTo>
                  <a:pt x="1104" y="206"/>
                </a:lnTo>
                <a:lnTo>
                  <a:pt x="1074" y="149"/>
                </a:lnTo>
                <a:lnTo>
                  <a:pt x="1085" y="115"/>
                </a:lnTo>
                <a:lnTo>
                  <a:pt x="1109" y="89"/>
                </a:lnTo>
                <a:lnTo>
                  <a:pt x="1168" y="66"/>
                </a:lnTo>
                <a:lnTo>
                  <a:pt x="1235" y="87"/>
                </a:lnTo>
                <a:lnTo>
                  <a:pt x="1287" y="138"/>
                </a:lnTo>
                <a:lnTo>
                  <a:pt x="1335" y="288"/>
                </a:lnTo>
                <a:lnTo>
                  <a:pt x="1323" y="384"/>
                </a:lnTo>
                <a:lnTo>
                  <a:pt x="1290" y="476"/>
                </a:lnTo>
                <a:lnTo>
                  <a:pt x="1266" y="515"/>
                </a:lnTo>
                <a:lnTo>
                  <a:pt x="1240" y="550"/>
                </a:lnTo>
                <a:lnTo>
                  <a:pt x="1211" y="574"/>
                </a:lnTo>
                <a:lnTo>
                  <a:pt x="1178" y="588"/>
                </a:lnTo>
                <a:lnTo>
                  <a:pt x="1030" y="573"/>
                </a:lnTo>
                <a:lnTo>
                  <a:pt x="961" y="536"/>
                </a:lnTo>
                <a:lnTo>
                  <a:pt x="894" y="489"/>
                </a:lnTo>
                <a:lnTo>
                  <a:pt x="830" y="436"/>
                </a:lnTo>
                <a:lnTo>
                  <a:pt x="768" y="384"/>
                </a:lnTo>
                <a:lnTo>
                  <a:pt x="709" y="338"/>
                </a:lnTo>
                <a:lnTo>
                  <a:pt x="653" y="305"/>
                </a:lnTo>
                <a:lnTo>
                  <a:pt x="537" y="264"/>
                </a:lnTo>
                <a:lnTo>
                  <a:pt x="408" y="235"/>
                </a:lnTo>
                <a:lnTo>
                  <a:pt x="141" y="227"/>
                </a:lnTo>
                <a:lnTo>
                  <a:pt x="75" y="260"/>
                </a:lnTo>
                <a:lnTo>
                  <a:pt x="0" y="370"/>
                </a:lnTo>
                <a:lnTo>
                  <a:pt x="38" y="406"/>
                </a:lnTo>
                <a:lnTo>
                  <a:pt x="38" y="4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595080" y="1523880"/>
            <a:ext cx="1684080" cy="1586160"/>
          </a:xfrm>
          <a:custGeom>
            <a:avLst/>
            <a:gdLst/>
            <a:ahLst/>
            <a:rect l="l" t="t" r="r" b="b"/>
            <a:pathLst>
              <a:path w="2484" h="2618">
                <a:moveTo>
                  <a:pt x="141" y="1270"/>
                </a:moveTo>
                <a:lnTo>
                  <a:pt x="184" y="1121"/>
                </a:lnTo>
                <a:lnTo>
                  <a:pt x="212" y="1040"/>
                </a:lnTo>
                <a:lnTo>
                  <a:pt x="245" y="956"/>
                </a:lnTo>
                <a:lnTo>
                  <a:pt x="284" y="869"/>
                </a:lnTo>
                <a:lnTo>
                  <a:pt x="331" y="782"/>
                </a:lnTo>
                <a:lnTo>
                  <a:pt x="385" y="694"/>
                </a:lnTo>
                <a:lnTo>
                  <a:pt x="449" y="608"/>
                </a:lnTo>
                <a:lnTo>
                  <a:pt x="523" y="525"/>
                </a:lnTo>
                <a:lnTo>
                  <a:pt x="608" y="446"/>
                </a:lnTo>
                <a:lnTo>
                  <a:pt x="655" y="408"/>
                </a:lnTo>
                <a:lnTo>
                  <a:pt x="705" y="371"/>
                </a:lnTo>
                <a:lnTo>
                  <a:pt x="758" y="337"/>
                </a:lnTo>
                <a:lnTo>
                  <a:pt x="814" y="303"/>
                </a:lnTo>
                <a:lnTo>
                  <a:pt x="874" y="273"/>
                </a:lnTo>
                <a:lnTo>
                  <a:pt x="937" y="243"/>
                </a:lnTo>
                <a:lnTo>
                  <a:pt x="1003" y="217"/>
                </a:lnTo>
                <a:lnTo>
                  <a:pt x="1074" y="191"/>
                </a:lnTo>
                <a:lnTo>
                  <a:pt x="1227" y="149"/>
                </a:lnTo>
                <a:lnTo>
                  <a:pt x="1396" y="118"/>
                </a:lnTo>
                <a:lnTo>
                  <a:pt x="1641" y="102"/>
                </a:lnTo>
                <a:lnTo>
                  <a:pt x="1909" y="122"/>
                </a:lnTo>
                <a:lnTo>
                  <a:pt x="2170" y="190"/>
                </a:lnTo>
                <a:lnTo>
                  <a:pt x="2289" y="243"/>
                </a:lnTo>
                <a:lnTo>
                  <a:pt x="2394" y="314"/>
                </a:lnTo>
                <a:lnTo>
                  <a:pt x="2388" y="348"/>
                </a:lnTo>
                <a:lnTo>
                  <a:pt x="2349" y="425"/>
                </a:lnTo>
                <a:lnTo>
                  <a:pt x="2320" y="476"/>
                </a:lnTo>
                <a:lnTo>
                  <a:pt x="2288" y="533"/>
                </a:lnTo>
                <a:lnTo>
                  <a:pt x="2251" y="597"/>
                </a:lnTo>
                <a:lnTo>
                  <a:pt x="2212" y="665"/>
                </a:lnTo>
                <a:lnTo>
                  <a:pt x="2170" y="736"/>
                </a:lnTo>
                <a:lnTo>
                  <a:pt x="2128" y="809"/>
                </a:lnTo>
                <a:lnTo>
                  <a:pt x="2087" y="884"/>
                </a:lnTo>
                <a:lnTo>
                  <a:pt x="2047" y="957"/>
                </a:lnTo>
                <a:lnTo>
                  <a:pt x="2010" y="1030"/>
                </a:lnTo>
                <a:lnTo>
                  <a:pt x="1977" y="1099"/>
                </a:lnTo>
                <a:lnTo>
                  <a:pt x="1926" y="1225"/>
                </a:lnTo>
                <a:lnTo>
                  <a:pt x="1860" y="1467"/>
                </a:lnTo>
                <a:lnTo>
                  <a:pt x="1808" y="1726"/>
                </a:lnTo>
                <a:lnTo>
                  <a:pt x="1761" y="1989"/>
                </a:lnTo>
                <a:lnTo>
                  <a:pt x="1712" y="2242"/>
                </a:lnTo>
                <a:lnTo>
                  <a:pt x="1697" y="2285"/>
                </a:lnTo>
                <a:lnTo>
                  <a:pt x="1669" y="2339"/>
                </a:lnTo>
                <a:lnTo>
                  <a:pt x="1635" y="2389"/>
                </a:lnTo>
                <a:lnTo>
                  <a:pt x="1604" y="2419"/>
                </a:lnTo>
                <a:lnTo>
                  <a:pt x="1550" y="2451"/>
                </a:lnTo>
                <a:lnTo>
                  <a:pt x="1483" y="2481"/>
                </a:lnTo>
                <a:lnTo>
                  <a:pt x="1358" y="2509"/>
                </a:lnTo>
                <a:lnTo>
                  <a:pt x="1057" y="2477"/>
                </a:lnTo>
                <a:lnTo>
                  <a:pt x="936" y="2419"/>
                </a:lnTo>
                <a:lnTo>
                  <a:pt x="870" y="2308"/>
                </a:lnTo>
                <a:lnTo>
                  <a:pt x="872" y="2183"/>
                </a:lnTo>
                <a:lnTo>
                  <a:pt x="892" y="2119"/>
                </a:lnTo>
                <a:lnTo>
                  <a:pt x="920" y="2056"/>
                </a:lnTo>
                <a:lnTo>
                  <a:pt x="958" y="1993"/>
                </a:lnTo>
                <a:lnTo>
                  <a:pt x="1001" y="1933"/>
                </a:lnTo>
                <a:lnTo>
                  <a:pt x="1050" y="1877"/>
                </a:lnTo>
                <a:lnTo>
                  <a:pt x="1102" y="1825"/>
                </a:lnTo>
                <a:lnTo>
                  <a:pt x="1163" y="1766"/>
                </a:lnTo>
                <a:lnTo>
                  <a:pt x="1234" y="1692"/>
                </a:lnTo>
                <a:lnTo>
                  <a:pt x="1308" y="1604"/>
                </a:lnTo>
                <a:lnTo>
                  <a:pt x="1377" y="1502"/>
                </a:lnTo>
                <a:lnTo>
                  <a:pt x="1045" y="1664"/>
                </a:lnTo>
                <a:lnTo>
                  <a:pt x="1030" y="1742"/>
                </a:lnTo>
                <a:lnTo>
                  <a:pt x="995" y="1822"/>
                </a:lnTo>
                <a:lnTo>
                  <a:pt x="946" y="1905"/>
                </a:lnTo>
                <a:lnTo>
                  <a:pt x="890" y="1987"/>
                </a:lnTo>
                <a:lnTo>
                  <a:pt x="834" y="2068"/>
                </a:lnTo>
                <a:lnTo>
                  <a:pt x="785" y="2150"/>
                </a:lnTo>
                <a:lnTo>
                  <a:pt x="739" y="2302"/>
                </a:lnTo>
                <a:lnTo>
                  <a:pt x="746" y="2350"/>
                </a:lnTo>
                <a:lnTo>
                  <a:pt x="767" y="2396"/>
                </a:lnTo>
                <a:lnTo>
                  <a:pt x="797" y="2441"/>
                </a:lnTo>
                <a:lnTo>
                  <a:pt x="836" y="2481"/>
                </a:lnTo>
                <a:lnTo>
                  <a:pt x="879" y="2516"/>
                </a:lnTo>
                <a:lnTo>
                  <a:pt x="921" y="2546"/>
                </a:lnTo>
                <a:lnTo>
                  <a:pt x="998" y="2580"/>
                </a:lnTo>
                <a:lnTo>
                  <a:pt x="1128" y="2604"/>
                </a:lnTo>
                <a:lnTo>
                  <a:pt x="1270" y="2618"/>
                </a:lnTo>
                <a:lnTo>
                  <a:pt x="1537" y="2597"/>
                </a:lnTo>
                <a:lnTo>
                  <a:pt x="1639" y="2552"/>
                </a:lnTo>
                <a:lnTo>
                  <a:pt x="1733" y="2467"/>
                </a:lnTo>
                <a:lnTo>
                  <a:pt x="1812" y="2357"/>
                </a:lnTo>
                <a:lnTo>
                  <a:pt x="1869" y="2236"/>
                </a:lnTo>
                <a:lnTo>
                  <a:pt x="1931" y="2006"/>
                </a:lnTo>
                <a:lnTo>
                  <a:pt x="1977" y="1746"/>
                </a:lnTo>
                <a:lnTo>
                  <a:pt x="2018" y="1483"/>
                </a:lnTo>
                <a:lnTo>
                  <a:pt x="2042" y="1359"/>
                </a:lnTo>
                <a:lnTo>
                  <a:pt x="2067" y="1247"/>
                </a:lnTo>
                <a:lnTo>
                  <a:pt x="2104" y="1134"/>
                </a:lnTo>
                <a:lnTo>
                  <a:pt x="2152" y="1022"/>
                </a:lnTo>
                <a:lnTo>
                  <a:pt x="2208" y="908"/>
                </a:lnTo>
                <a:lnTo>
                  <a:pt x="2268" y="796"/>
                </a:lnTo>
                <a:lnTo>
                  <a:pt x="2299" y="739"/>
                </a:lnTo>
                <a:lnTo>
                  <a:pt x="2330" y="682"/>
                </a:lnTo>
                <a:lnTo>
                  <a:pt x="2388" y="569"/>
                </a:lnTo>
                <a:lnTo>
                  <a:pt x="2440" y="455"/>
                </a:lnTo>
                <a:lnTo>
                  <a:pt x="2484" y="342"/>
                </a:lnTo>
                <a:lnTo>
                  <a:pt x="2471" y="255"/>
                </a:lnTo>
                <a:lnTo>
                  <a:pt x="2446" y="175"/>
                </a:lnTo>
                <a:lnTo>
                  <a:pt x="2377" y="146"/>
                </a:lnTo>
                <a:lnTo>
                  <a:pt x="2309" y="122"/>
                </a:lnTo>
                <a:lnTo>
                  <a:pt x="2170" y="79"/>
                </a:lnTo>
                <a:lnTo>
                  <a:pt x="2030" y="46"/>
                </a:lnTo>
                <a:lnTo>
                  <a:pt x="1890" y="23"/>
                </a:lnTo>
                <a:lnTo>
                  <a:pt x="1610" y="0"/>
                </a:lnTo>
                <a:lnTo>
                  <a:pt x="1335" y="7"/>
                </a:lnTo>
                <a:lnTo>
                  <a:pt x="1067" y="57"/>
                </a:lnTo>
                <a:lnTo>
                  <a:pt x="941" y="102"/>
                </a:lnTo>
                <a:lnTo>
                  <a:pt x="819" y="158"/>
                </a:lnTo>
                <a:lnTo>
                  <a:pt x="760" y="190"/>
                </a:lnTo>
                <a:lnTo>
                  <a:pt x="703" y="224"/>
                </a:lnTo>
                <a:lnTo>
                  <a:pt x="647" y="261"/>
                </a:lnTo>
                <a:lnTo>
                  <a:pt x="593" y="300"/>
                </a:lnTo>
                <a:lnTo>
                  <a:pt x="541" y="342"/>
                </a:lnTo>
                <a:lnTo>
                  <a:pt x="491" y="385"/>
                </a:lnTo>
                <a:lnTo>
                  <a:pt x="396" y="477"/>
                </a:lnTo>
                <a:lnTo>
                  <a:pt x="309" y="575"/>
                </a:lnTo>
                <a:lnTo>
                  <a:pt x="232" y="679"/>
                </a:lnTo>
                <a:lnTo>
                  <a:pt x="197" y="732"/>
                </a:lnTo>
                <a:lnTo>
                  <a:pt x="164" y="786"/>
                </a:lnTo>
                <a:lnTo>
                  <a:pt x="108" y="897"/>
                </a:lnTo>
                <a:lnTo>
                  <a:pt x="28" y="1123"/>
                </a:lnTo>
                <a:lnTo>
                  <a:pt x="0" y="1347"/>
                </a:lnTo>
                <a:lnTo>
                  <a:pt x="141" y="1270"/>
                </a:lnTo>
                <a:lnTo>
                  <a:pt x="141" y="12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 flipV="1">
            <a:off x="899280" y="2561400"/>
            <a:ext cx="854280" cy="392040"/>
          </a:xfrm>
          <a:custGeom>
            <a:avLst/>
            <a:gdLst/>
            <a:ahLst/>
            <a:rect l="l" t="t" r="r" b="b"/>
            <a:pathLst>
              <a:path w="1258" h="646">
                <a:moveTo>
                  <a:pt x="1055" y="465"/>
                </a:moveTo>
                <a:lnTo>
                  <a:pt x="1001" y="498"/>
                </a:lnTo>
                <a:lnTo>
                  <a:pt x="943" y="531"/>
                </a:lnTo>
                <a:lnTo>
                  <a:pt x="881" y="562"/>
                </a:lnTo>
                <a:lnTo>
                  <a:pt x="816" y="588"/>
                </a:lnTo>
                <a:lnTo>
                  <a:pt x="677" y="629"/>
                </a:lnTo>
                <a:lnTo>
                  <a:pt x="535" y="646"/>
                </a:lnTo>
                <a:lnTo>
                  <a:pt x="390" y="632"/>
                </a:lnTo>
                <a:lnTo>
                  <a:pt x="250" y="577"/>
                </a:lnTo>
                <a:lnTo>
                  <a:pt x="182" y="532"/>
                </a:lnTo>
                <a:lnTo>
                  <a:pt x="118" y="476"/>
                </a:lnTo>
                <a:lnTo>
                  <a:pt x="57" y="405"/>
                </a:lnTo>
                <a:lnTo>
                  <a:pt x="0" y="320"/>
                </a:lnTo>
                <a:lnTo>
                  <a:pt x="30" y="276"/>
                </a:lnTo>
                <a:lnTo>
                  <a:pt x="62" y="235"/>
                </a:lnTo>
                <a:lnTo>
                  <a:pt x="128" y="163"/>
                </a:lnTo>
                <a:lnTo>
                  <a:pt x="163" y="133"/>
                </a:lnTo>
                <a:lnTo>
                  <a:pt x="200" y="106"/>
                </a:lnTo>
                <a:lnTo>
                  <a:pt x="275" y="61"/>
                </a:lnTo>
                <a:lnTo>
                  <a:pt x="354" y="29"/>
                </a:lnTo>
                <a:lnTo>
                  <a:pt x="436" y="9"/>
                </a:lnTo>
                <a:lnTo>
                  <a:pt x="605" y="0"/>
                </a:lnTo>
                <a:lnTo>
                  <a:pt x="776" y="28"/>
                </a:lnTo>
                <a:lnTo>
                  <a:pt x="946" y="91"/>
                </a:lnTo>
                <a:lnTo>
                  <a:pt x="1029" y="133"/>
                </a:lnTo>
                <a:lnTo>
                  <a:pt x="1108" y="180"/>
                </a:lnTo>
                <a:lnTo>
                  <a:pt x="1185" y="234"/>
                </a:lnTo>
                <a:lnTo>
                  <a:pt x="1258" y="292"/>
                </a:lnTo>
                <a:lnTo>
                  <a:pt x="1197" y="361"/>
                </a:lnTo>
                <a:lnTo>
                  <a:pt x="1140" y="425"/>
                </a:lnTo>
                <a:lnTo>
                  <a:pt x="1088" y="375"/>
                </a:lnTo>
                <a:lnTo>
                  <a:pt x="1032" y="328"/>
                </a:lnTo>
                <a:lnTo>
                  <a:pt x="973" y="283"/>
                </a:lnTo>
                <a:lnTo>
                  <a:pt x="911" y="241"/>
                </a:lnTo>
                <a:lnTo>
                  <a:pt x="848" y="203"/>
                </a:lnTo>
                <a:lnTo>
                  <a:pt x="784" y="171"/>
                </a:lnTo>
                <a:lnTo>
                  <a:pt x="718" y="144"/>
                </a:lnTo>
                <a:lnTo>
                  <a:pt x="651" y="125"/>
                </a:lnTo>
                <a:lnTo>
                  <a:pt x="518" y="111"/>
                </a:lnTo>
                <a:lnTo>
                  <a:pt x="387" y="134"/>
                </a:lnTo>
                <a:lnTo>
                  <a:pt x="264" y="204"/>
                </a:lnTo>
                <a:lnTo>
                  <a:pt x="151" y="325"/>
                </a:lnTo>
                <a:lnTo>
                  <a:pt x="181" y="378"/>
                </a:lnTo>
                <a:lnTo>
                  <a:pt x="219" y="421"/>
                </a:lnTo>
                <a:lnTo>
                  <a:pt x="265" y="454"/>
                </a:lnTo>
                <a:lnTo>
                  <a:pt x="317" y="481"/>
                </a:lnTo>
                <a:lnTo>
                  <a:pt x="435" y="513"/>
                </a:lnTo>
                <a:lnTo>
                  <a:pt x="566" y="522"/>
                </a:lnTo>
                <a:lnTo>
                  <a:pt x="833" y="499"/>
                </a:lnTo>
                <a:lnTo>
                  <a:pt x="1055" y="465"/>
                </a:lnTo>
                <a:lnTo>
                  <a:pt x="1055" y="4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1324080" y="2780640"/>
            <a:ext cx="69840" cy="74520"/>
          </a:xfrm>
          <a:custGeom>
            <a:avLst/>
            <a:gdLst/>
            <a:ahLst/>
            <a:rect l="l" t="t" r="r" b="b"/>
            <a:pathLst>
              <a:path w="103" h="122">
                <a:moveTo>
                  <a:pt x="52" y="0"/>
                </a:moveTo>
                <a:lnTo>
                  <a:pt x="88" y="19"/>
                </a:lnTo>
                <a:lnTo>
                  <a:pt x="103" y="61"/>
                </a:lnTo>
                <a:lnTo>
                  <a:pt x="88" y="104"/>
                </a:lnTo>
                <a:lnTo>
                  <a:pt x="52" y="122"/>
                </a:lnTo>
                <a:lnTo>
                  <a:pt x="15" y="104"/>
                </a:lnTo>
                <a:lnTo>
                  <a:pt x="0" y="61"/>
                </a:lnTo>
                <a:lnTo>
                  <a:pt x="15" y="19"/>
                </a:lnTo>
                <a:lnTo>
                  <a:pt x="52" y="0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1208160" y="2617200"/>
            <a:ext cx="185760" cy="290520"/>
          </a:xfrm>
          <a:custGeom>
            <a:avLst/>
            <a:gdLst/>
            <a:ahLst/>
            <a:rect l="l" t="t" r="r" b="b"/>
            <a:pathLst>
              <a:path w="275" h="478">
                <a:moveTo>
                  <a:pt x="72" y="478"/>
                </a:moveTo>
                <a:lnTo>
                  <a:pt x="0" y="423"/>
                </a:lnTo>
                <a:lnTo>
                  <a:pt x="72" y="373"/>
                </a:lnTo>
                <a:lnTo>
                  <a:pt x="154" y="332"/>
                </a:lnTo>
                <a:lnTo>
                  <a:pt x="190" y="234"/>
                </a:lnTo>
                <a:lnTo>
                  <a:pt x="180" y="180"/>
                </a:lnTo>
                <a:lnTo>
                  <a:pt x="154" y="134"/>
                </a:lnTo>
                <a:lnTo>
                  <a:pt x="116" y="101"/>
                </a:lnTo>
                <a:lnTo>
                  <a:pt x="72" y="90"/>
                </a:lnTo>
                <a:lnTo>
                  <a:pt x="0" y="50"/>
                </a:lnTo>
                <a:lnTo>
                  <a:pt x="72" y="0"/>
                </a:lnTo>
                <a:lnTo>
                  <a:pt x="152" y="19"/>
                </a:lnTo>
                <a:lnTo>
                  <a:pt x="216" y="69"/>
                </a:lnTo>
                <a:lnTo>
                  <a:pt x="259" y="146"/>
                </a:lnTo>
                <a:lnTo>
                  <a:pt x="275" y="239"/>
                </a:lnTo>
                <a:lnTo>
                  <a:pt x="259" y="332"/>
                </a:lnTo>
                <a:lnTo>
                  <a:pt x="241" y="374"/>
                </a:lnTo>
                <a:lnTo>
                  <a:pt x="216" y="409"/>
                </a:lnTo>
                <a:lnTo>
                  <a:pt x="185" y="438"/>
                </a:lnTo>
                <a:lnTo>
                  <a:pt x="152" y="460"/>
                </a:lnTo>
                <a:lnTo>
                  <a:pt x="72" y="478"/>
                </a:lnTo>
                <a:lnTo>
                  <a:pt x="72" y="4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1297080" y="2617200"/>
            <a:ext cx="187200" cy="290520"/>
          </a:xfrm>
          <a:custGeom>
            <a:avLst/>
            <a:gdLst/>
            <a:ahLst/>
            <a:rect l="l" t="t" r="r" b="b"/>
            <a:pathLst>
              <a:path w="275" h="478">
                <a:moveTo>
                  <a:pt x="204" y="478"/>
                </a:moveTo>
                <a:lnTo>
                  <a:pt x="275" y="423"/>
                </a:lnTo>
                <a:lnTo>
                  <a:pt x="204" y="373"/>
                </a:lnTo>
                <a:lnTo>
                  <a:pt x="124" y="332"/>
                </a:lnTo>
                <a:lnTo>
                  <a:pt x="90" y="234"/>
                </a:lnTo>
                <a:lnTo>
                  <a:pt x="100" y="180"/>
                </a:lnTo>
                <a:lnTo>
                  <a:pt x="124" y="134"/>
                </a:lnTo>
                <a:lnTo>
                  <a:pt x="160" y="101"/>
                </a:lnTo>
                <a:lnTo>
                  <a:pt x="204" y="90"/>
                </a:lnTo>
                <a:lnTo>
                  <a:pt x="275" y="50"/>
                </a:lnTo>
                <a:lnTo>
                  <a:pt x="204" y="0"/>
                </a:lnTo>
                <a:lnTo>
                  <a:pt x="124" y="19"/>
                </a:lnTo>
                <a:lnTo>
                  <a:pt x="60" y="69"/>
                </a:lnTo>
                <a:lnTo>
                  <a:pt x="16" y="146"/>
                </a:lnTo>
                <a:lnTo>
                  <a:pt x="0" y="239"/>
                </a:lnTo>
                <a:lnTo>
                  <a:pt x="16" y="332"/>
                </a:lnTo>
                <a:lnTo>
                  <a:pt x="35" y="374"/>
                </a:lnTo>
                <a:lnTo>
                  <a:pt x="60" y="409"/>
                </a:lnTo>
                <a:lnTo>
                  <a:pt x="90" y="438"/>
                </a:lnTo>
                <a:lnTo>
                  <a:pt x="124" y="460"/>
                </a:lnTo>
                <a:lnTo>
                  <a:pt x="204" y="478"/>
                </a:lnTo>
                <a:lnTo>
                  <a:pt x="204" y="4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825480" y="2705040"/>
            <a:ext cx="295200" cy="239760"/>
          </a:xfrm>
          <a:custGeom>
            <a:avLst/>
            <a:gdLst/>
            <a:ahLst/>
            <a:rect l="l" t="t" r="r" b="b"/>
            <a:pathLst>
              <a:path w="435" h="394">
                <a:moveTo>
                  <a:pt x="218" y="394"/>
                </a:moveTo>
                <a:lnTo>
                  <a:pt x="435" y="177"/>
                </a:lnTo>
                <a:lnTo>
                  <a:pt x="256" y="212"/>
                </a:lnTo>
                <a:lnTo>
                  <a:pt x="302" y="61"/>
                </a:lnTo>
                <a:lnTo>
                  <a:pt x="137" y="144"/>
                </a:lnTo>
                <a:lnTo>
                  <a:pt x="157" y="0"/>
                </a:lnTo>
                <a:lnTo>
                  <a:pt x="0" y="106"/>
                </a:lnTo>
                <a:lnTo>
                  <a:pt x="218" y="394"/>
                </a:lnTo>
                <a:lnTo>
                  <a:pt x="218" y="3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1185120" y="3075120"/>
            <a:ext cx="104760" cy="196560"/>
          </a:xfrm>
          <a:custGeom>
            <a:avLst/>
            <a:gdLst/>
            <a:ahLst/>
            <a:rect l="l" t="t" r="r" b="b"/>
            <a:pathLst>
              <a:path w="154" h="325">
                <a:moveTo>
                  <a:pt x="13" y="311"/>
                </a:moveTo>
                <a:lnTo>
                  <a:pt x="0" y="213"/>
                </a:lnTo>
                <a:lnTo>
                  <a:pt x="18" y="116"/>
                </a:lnTo>
                <a:lnTo>
                  <a:pt x="41" y="72"/>
                </a:lnTo>
                <a:lnTo>
                  <a:pt x="72" y="33"/>
                </a:lnTo>
                <a:lnTo>
                  <a:pt x="107" y="5"/>
                </a:lnTo>
                <a:lnTo>
                  <a:pt x="146" y="0"/>
                </a:lnTo>
                <a:lnTo>
                  <a:pt x="154" y="16"/>
                </a:lnTo>
                <a:lnTo>
                  <a:pt x="136" y="52"/>
                </a:lnTo>
                <a:lnTo>
                  <a:pt x="89" y="132"/>
                </a:lnTo>
                <a:lnTo>
                  <a:pt x="85" y="305"/>
                </a:lnTo>
                <a:lnTo>
                  <a:pt x="49" y="325"/>
                </a:lnTo>
                <a:lnTo>
                  <a:pt x="13" y="311"/>
                </a:lnTo>
                <a:lnTo>
                  <a:pt x="13" y="3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1024920" y="3083040"/>
            <a:ext cx="122040" cy="188640"/>
          </a:xfrm>
          <a:custGeom>
            <a:avLst/>
            <a:gdLst/>
            <a:ahLst/>
            <a:rect l="l" t="t" r="r" b="b"/>
            <a:pathLst>
              <a:path w="183" h="311">
                <a:moveTo>
                  <a:pt x="7" y="305"/>
                </a:moveTo>
                <a:lnTo>
                  <a:pt x="0" y="205"/>
                </a:lnTo>
                <a:lnTo>
                  <a:pt x="26" y="111"/>
                </a:lnTo>
                <a:lnTo>
                  <a:pt x="55" y="66"/>
                </a:lnTo>
                <a:lnTo>
                  <a:pt x="92" y="26"/>
                </a:lnTo>
                <a:lnTo>
                  <a:pt x="135" y="0"/>
                </a:lnTo>
                <a:lnTo>
                  <a:pt x="177" y="0"/>
                </a:lnTo>
                <a:lnTo>
                  <a:pt x="183" y="17"/>
                </a:lnTo>
                <a:lnTo>
                  <a:pt x="156" y="52"/>
                </a:lnTo>
                <a:lnTo>
                  <a:pt x="97" y="132"/>
                </a:lnTo>
                <a:lnTo>
                  <a:pt x="73" y="311"/>
                </a:lnTo>
                <a:lnTo>
                  <a:pt x="7" y="305"/>
                </a:lnTo>
                <a:lnTo>
                  <a:pt x="7" y="3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861840" y="3083040"/>
            <a:ext cx="146160" cy="193680"/>
          </a:xfrm>
          <a:custGeom>
            <a:avLst/>
            <a:gdLst/>
            <a:ahLst/>
            <a:rect l="l" t="t" r="r" b="b"/>
            <a:pathLst>
              <a:path w="217" h="320">
                <a:moveTo>
                  <a:pt x="0" y="308"/>
                </a:moveTo>
                <a:lnTo>
                  <a:pt x="5" y="206"/>
                </a:lnTo>
                <a:lnTo>
                  <a:pt x="38" y="108"/>
                </a:lnTo>
                <a:lnTo>
                  <a:pt x="73" y="65"/>
                </a:lnTo>
                <a:lnTo>
                  <a:pt x="118" y="24"/>
                </a:lnTo>
                <a:lnTo>
                  <a:pt x="166" y="0"/>
                </a:lnTo>
                <a:lnTo>
                  <a:pt x="209" y="3"/>
                </a:lnTo>
                <a:lnTo>
                  <a:pt x="217" y="29"/>
                </a:lnTo>
                <a:lnTo>
                  <a:pt x="185" y="63"/>
                </a:lnTo>
                <a:lnTo>
                  <a:pt x="109" y="141"/>
                </a:lnTo>
                <a:lnTo>
                  <a:pt x="62" y="320"/>
                </a:lnTo>
                <a:lnTo>
                  <a:pt x="0" y="308"/>
                </a:lnTo>
                <a:lnTo>
                  <a:pt x="0" y="3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701640" y="3042360"/>
            <a:ext cx="169920" cy="203400"/>
          </a:xfrm>
          <a:custGeom>
            <a:avLst/>
            <a:gdLst/>
            <a:ahLst/>
            <a:rect l="l" t="t" r="r" b="b"/>
            <a:pathLst>
              <a:path w="251" h="336">
                <a:moveTo>
                  <a:pt x="0" y="314"/>
                </a:moveTo>
                <a:lnTo>
                  <a:pt x="9" y="206"/>
                </a:lnTo>
                <a:lnTo>
                  <a:pt x="25" y="154"/>
                </a:lnTo>
                <a:lnTo>
                  <a:pt x="52" y="109"/>
                </a:lnTo>
                <a:lnTo>
                  <a:pt x="94" y="64"/>
                </a:lnTo>
                <a:lnTo>
                  <a:pt x="146" y="23"/>
                </a:lnTo>
                <a:lnTo>
                  <a:pt x="199" y="0"/>
                </a:lnTo>
                <a:lnTo>
                  <a:pt x="246" y="9"/>
                </a:lnTo>
                <a:lnTo>
                  <a:pt x="251" y="37"/>
                </a:lnTo>
                <a:lnTo>
                  <a:pt x="212" y="71"/>
                </a:lnTo>
                <a:lnTo>
                  <a:pt x="159" y="108"/>
                </a:lnTo>
                <a:lnTo>
                  <a:pt x="118" y="148"/>
                </a:lnTo>
                <a:lnTo>
                  <a:pt x="56" y="331"/>
                </a:lnTo>
                <a:lnTo>
                  <a:pt x="24" y="336"/>
                </a:lnTo>
                <a:lnTo>
                  <a:pt x="0" y="314"/>
                </a:lnTo>
                <a:lnTo>
                  <a:pt x="0" y="3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557280" y="2990880"/>
            <a:ext cx="195120" cy="208080"/>
          </a:xfrm>
          <a:custGeom>
            <a:avLst/>
            <a:gdLst/>
            <a:ahLst/>
            <a:rect l="l" t="t" r="r" b="b"/>
            <a:pathLst>
              <a:path w="288" h="342">
                <a:moveTo>
                  <a:pt x="0" y="314"/>
                </a:moveTo>
                <a:lnTo>
                  <a:pt x="20" y="206"/>
                </a:lnTo>
                <a:lnTo>
                  <a:pt x="41" y="153"/>
                </a:lnTo>
                <a:lnTo>
                  <a:pt x="71" y="109"/>
                </a:lnTo>
                <a:lnTo>
                  <a:pt x="119" y="64"/>
                </a:lnTo>
                <a:lnTo>
                  <a:pt x="175" y="22"/>
                </a:lnTo>
                <a:lnTo>
                  <a:pt x="234" y="0"/>
                </a:lnTo>
                <a:lnTo>
                  <a:pt x="284" y="14"/>
                </a:lnTo>
                <a:lnTo>
                  <a:pt x="288" y="47"/>
                </a:lnTo>
                <a:lnTo>
                  <a:pt x="245" y="79"/>
                </a:lnTo>
                <a:lnTo>
                  <a:pt x="184" y="115"/>
                </a:lnTo>
                <a:lnTo>
                  <a:pt x="137" y="153"/>
                </a:lnTo>
                <a:lnTo>
                  <a:pt x="97" y="252"/>
                </a:lnTo>
                <a:lnTo>
                  <a:pt x="78" y="301"/>
                </a:lnTo>
                <a:lnTo>
                  <a:pt x="52" y="342"/>
                </a:lnTo>
                <a:lnTo>
                  <a:pt x="0" y="314"/>
                </a:lnTo>
                <a:lnTo>
                  <a:pt x="0" y="3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38280" y="2154240"/>
            <a:ext cx="60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ing at it a different wa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954080" y="4770360"/>
            <a:ext cx="508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percent of decre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s 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the initial amou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he amount of de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 flipV="1">
            <a:off x="621360" y="1556640"/>
            <a:ext cx="1616040" cy="1531800"/>
          </a:xfrm>
          <a:custGeom>
            <a:avLst/>
            <a:gdLst/>
            <a:ahLst/>
            <a:rect l="l" t="t" r="r" b="b"/>
            <a:pathLst>
              <a:path w="2383" h="2526">
                <a:moveTo>
                  <a:pt x="0" y="1236"/>
                </a:moveTo>
                <a:lnTo>
                  <a:pt x="419" y="1250"/>
                </a:lnTo>
                <a:lnTo>
                  <a:pt x="1052" y="1635"/>
                </a:lnTo>
                <a:lnTo>
                  <a:pt x="902" y="1874"/>
                </a:lnTo>
                <a:lnTo>
                  <a:pt x="711" y="2189"/>
                </a:lnTo>
                <a:lnTo>
                  <a:pt x="795" y="2400"/>
                </a:lnTo>
                <a:lnTo>
                  <a:pt x="1081" y="2526"/>
                </a:lnTo>
                <a:lnTo>
                  <a:pt x="1499" y="2498"/>
                </a:lnTo>
                <a:lnTo>
                  <a:pt x="1726" y="2267"/>
                </a:lnTo>
                <a:lnTo>
                  <a:pt x="1942" y="1158"/>
                </a:lnTo>
                <a:lnTo>
                  <a:pt x="2383" y="289"/>
                </a:lnTo>
                <a:lnTo>
                  <a:pt x="2317" y="183"/>
                </a:lnTo>
                <a:lnTo>
                  <a:pt x="1966" y="43"/>
                </a:lnTo>
                <a:lnTo>
                  <a:pt x="1428" y="0"/>
                </a:lnTo>
                <a:lnTo>
                  <a:pt x="789" y="141"/>
                </a:lnTo>
                <a:lnTo>
                  <a:pt x="311" y="568"/>
                </a:lnTo>
                <a:lnTo>
                  <a:pt x="90" y="969"/>
                </a:lnTo>
                <a:lnTo>
                  <a:pt x="0" y="1236"/>
                </a:lnTo>
                <a:lnTo>
                  <a:pt x="0" y="1236"/>
                </a:lnTo>
                <a:close/>
              </a:path>
            </a:pathLst>
          </a:custGeom>
          <a:solidFill>
            <a:srgbClr val="fbd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982800" y="2592360"/>
            <a:ext cx="723600" cy="325440"/>
          </a:xfrm>
          <a:custGeom>
            <a:avLst/>
            <a:gdLst/>
            <a:ahLst/>
            <a:rect l="l" t="t" r="r" b="b"/>
            <a:pathLst>
              <a:path w="1068" h="540">
                <a:moveTo>
                  <a:pt x="0" y="273"/>
                </a:moveTo>
                <a:lnTo>
                  <a:pt x="173" y="471"/>
                </a:lnTo>
                <a:lnTo>
                  <a:pt x="550" y="540"/>
                </a:lnTo>
                <a:lnTo>
                  <a:pt x="926" y="428"/>
                </a:lnTo>
                <a:lnTo>
                  <a:pt x="1068" y="351"/>
                </a:lnTo>
                <a:lnTo>
                  <a:pt x="943" y="148"/>
                </a:lnTo>
                <a:lnTo>
                  <a:pt x="615" y="0"/>
                </a:lnTo>
                <a:lnTo>
                  <a:pt x="298" y="28"/>
                </a:lnTo>
                <a:lnTo>
                  <a:pt x="0" y="273"/>
                </a:lnTo>
                <a:lnTo>
                  <a:pt x="0" y="2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1231200" y="2631240"/>
            <a:ext cx="230040" cy="236520"/>
          </a:xfrm>
          <a:custGeom>
            <a:avLst/>
            <a:gdLst/>
            <a:ahLst/>
            <a:rect l="l" t="t" r="r" b="b"/>
            <a:pathLst>
              <a:path w="341" h="387">
                <a:moveTo>
                  <a:pt x="233" y="0"/>
                </a:moveTo>
                <a:lnTo>
                  <a:pt x="96" y="0"/>
                </a:lnTo>
                <a:lnTo>
                  <a:pt x="0" y="163"/>
                </a:lnTo>
                <a:lnTo>
                  <a:pt x="60" y="330"/>
                </a:lnTo>
                <a:lnTo>
                  <a:pt x="228" y="387"/>
                </a:lnTo>
                <a:lnTo>
                  <a:pt x="341" y="211"/>
                </a:lnTo>
                <a:lnTo>
                  <a:pt x="233" y="0"/>
                </a:lnTo>
                <a:lnTo>
                  <a:pt x="233" y="0"/>
                </a:lnTo>
                <a:close/>
              </a:path>
            </a:pathLst>
          </a:custGeom>
          <a:solidFill>
            <a:srgbClr val="99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1480320" y="1654920"/>
            <a:ext cx="265320" cy="150840"/>
          </a:xfrm>
          <a:custGeom>
            <a:avLst/>
            <a:gdLst/>
            <a:ahLst/>
            <a:rect l="l" t="t" r="r" b="b"/>
            <a:pathLst>
              <a:path w="393" h="250">
                <a:moveTo>
                  <a:pt x="53" y="250"/>
                </a:moveTo>
                <a:lnTo>
                  <a:pt x="0" y="116"/>
                </a:lnTo>
                <a:lnTo>
                  <a:pt x="53" y="0"/>
                </a:lnTo>
                <a:lnTo>
                  <a:pt x="308" y="60"/>
                </a:lnTo>
                <a:lnTo>
                  <a:pt x="371" y="92"/>
                </a:lnTo>
                <a:lnTo>
                  <a:pt x="393" y="122"/>
                </a:lnTo>
                <a:lnTo>
                  <a:pt x="371" y="154"/>
                </a:lnTo>
                <a:lnTo>
                  <a:pt x="308" y="186"/>
                </a:lnTo>
                <a:lnTo>
                  <a:pt x="202" y="218"/>
                </a:lnTo>
                <a:lnTo>
                  <a:pt x="53" y="250"/>
                </a:lnTo>
                <a:lnTo>
                  <a:pt x="53" y="250"/>
                </a:lnTo>
                <a:close/>
              </a:path>
            </a:pathLst>
          </a:custGeom>
          <a:solidFill>
            <a:srgbClr val="d422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1305720" y="2079720"/>
            <a:ext cx="973080" cy="441360"/>
          </a:xfrm>
          <a:custGeom>
            <a:avLst/>
            <a:gdLst/>
            <a:ahLst/>
            <a:rect l="l" t="t" r="r" b="b"/>
            <a:pathLst>
              <a:path w="1434" h="727">
                <a:moveTo>
                  <a:pt x="38" y="406"/>
                </a:moveTo>
                <a:lnTo>
                  <a:pt x="228" y="394"/>
                </a:lnTo>
                <a:lnTo>
                  <a:pt x="483" y="411"/>
                </a:lnTo>
                <a:lnTo>
                  <a:pt x="622" y="478"/>
                </a:lnTo>
                <a:lnTo>
                  <a:pt x="701" y="528"/>
                </a:lnTo>
                <a:lnTo>
                  <a:pt x="779" y="582"/>
                </a:lnTo>
                <a:lnTo>
                  <a:pt x="857" y="633"/>
                </a:lnTo>
                <a:lnTo>
                  <a:pt x="931" y="679"/>
                </a:lnTo>
                <a:lnTo>
                  <a:pt x="998" y="711"/>
                </a:lnTo>
                <a:lnTo>
                  <a:pt x="1055" y="727"/>
                </a:lnTo>
                <a:lnTo>
                  <a:pt x="1202" y="708"/>
                </a:lnTo>
                <a:lnTo>
                  <a:pt x="1323" y="616"/>
                </a:lnTo>
                <a:lnTo>
                  <a:pt x="1403" y="474"/>
                </a:lnTo>
                <a:lnTo>
                  <a:pt x="1434" y="305"/>
                </a:lnTo>
                <a:lnTo>
                  <a:pt x="1413" y="164"/>
                </a:lnTo>
                <a:lnTo>
                  <a:pt x="1388" y="108"/>
                </a:lnTo>
                <a:lnTo>
                  <a:pt x="1354" y="64"/>
                </a:lnTo>
                <a:lnTo>
                  <a:pt x="1313" y="28"/>
                </a:lnTo>
                <a:lnTo>
                  <a:pt x="1264" y="6"/>
                </a:lnTo>
                <a:lnTo>
                  <a:pt x="1144" y="0"/>
                </a:lnTo>
                <a:lnTo>
                  <a:pt x="1051" y="44"/>
                </a:lnTo>
                <a:lnTo>
                  <a:pt x="983" y="136"/>
                </a:lnTo>
                <a:lnTo>
                  <a:pt x="943" y="246"/>
                </a:lnTo>
                <a:lnTo>
                  <a:pt x="932" y="344"/>
                </a:lnTo>
                <a:lnTo>
                  <a:pt x="943" y="385"/>
                </a:lnTo>
                <a:lnTo>
                  <a:pt x="966" y="413"/>
                </a:lnTo>
                <a:lnTo>
                  <a:pt x="1034" y="431"/>
                </a:lnTo>
                <a:lnTo>
                  <a:pt x="1101" y="399"/>
                </a:lnTo>
                <a:lnTo>
                  <a:pt x="1136" y="321"/>
                </a:lnTo>
                <a:lnTo>
                  <a:pt x="1127" y="249"/>
                </a:lnTo>
                <a:lnTo>
                  <a:pt x="1104" y="206"/>
                </a:lnTo>
                <a:lnTo>
                  <a:pt x="1074" y="149"/>
                </a:lnTo>
                <a:lnTo>
                  <a:pt x="1085" y="115"/>
                </a:lnTo>
                <a:lnTo>
                  <a:pt x="1109" y="89"/>
                </a:lnTo>
                <a:lnTo>
                  <a:pt x="1168" y="66"/>
                </a:lnTo>
                <a:lnTo>
                  <a:pt x="1235" y="87"/>
                </a:lnTo>
                <a:lnTo>
                  <a:pt x="1287" y="138"/>
                </a:lnTo>
                <a:lnTo>
                  <a:pt x="1335" y="288"/>
                </a:lnTo>
                <a:lnTo>
                  <a:pt x="1323" y="384"/>
                </a:lnTo>
                <a:lnTo>
                  <a:pt x="1290" y="476"/>
                </a:lnTo>
                <a:lnTo>
                  <a:pt x="1266" y="515"/>
                </a:lnTo>
                <a:lnTo>
                  <a:pt x="1240" y="550"/>
                </a:lnTo>
                <a:lnTo>
                  <a:pt x="1211" y="574"/>
                </a:lnTo>
                <a:lnTo>
                  <a:pt x="1178" y="588"/>
                </a:lnTo>
                <a:lnTo>
                  <a:pt x="1030" y="573"/>
                </a:lnTo>
                <a:lnTo>
                  <a:pt x="961" y="536"/>
                </a:lnTo>
                <a:lnTo>
                  <a:pt x="894" y="489"/>
                </a:lnTo>
                <a:lnTo>
                  <a:pt x="830" y="436"/>
                </a:lnTo>
                <a:lnTo>
                  <a:pt x="768" y="384"/>
                </a:lnTo>
                <a:lnTo>
                  <a:pt x="709" y="338"/>
                </a:lnTo>
                <a:lnTo>
                  <a:pt x="653" y="305"/>
                </a:lnTo>
                <a:lnTo>
                  <a:pt x="537" y="264"/>
                </a:lnTo>
                <a:lnTo>
                  <a:pt x="408" y="235"/>
                </a:lnTo>
                <a:lnTo>
                  <a:pt x="141" y="227"/>
                </a:lnTo>
                <a:lnTo>
                  <a:pt x="75" y="260"/>
                </a:lnTo>
                <a:lnTo>
                  <a:pt x="0" y="370"/>
                </a:lnTo>
                <a:lnTo>
                  <a:pt x="38" y="406"/>
                </a:lnTo>
                <a:lnTo>
                  <a:pt x="38" y="4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595080" y="1523880"/>
            <a:ext cx="1684080" cy="1586160"/>
          </a:xfrm>
          <a:custGeom>
            <a:avLst/>
            <a:gdLst/>
            <a:ahLst/>
            <a:rect l="l" t="t" r="r" b="b"/>
            <a:pathLst>
              <a:path w="2484" h="2618">
                <a:moveTo>
                  <a:pt x="141" y="1270"/>
                </a:moveTo>
                <a:lnTo>
                  <a:pt x="184" y="1121"/>
                </a:lnTo>
                <a:lnTo>
                  <a:pt x="212" y="1040"/>
                </a:lnTo>
                <a:lnTo>
                  <a:pt x="245" y="956"/>
                </a:lnTo>
                <a:lnTo>
                  <a:pt x="284" y="869"/>
                </a:lnTo>
                <a:lnTo>
                  <a:pt x="331" y="782"/>
                </a:lnTo>
                <a:lnTo>
                  <a:pt x="385" y="694"/>
                </a:lnTo>
                <a:lnTo>
                  <a:pt x="449" y="608"/>
                </a:lnTo>
                <a:lnTo>
                  <a:pt x="523" y="525"/>
                </a:lnTo>
                <a:lnTo>
                  <a:pt x="608" y="446"/>
                </a:lnTo>
                <a:lnTo>
                  <a:pt x="655" y="408"/>
                </a:lnTo>
                <a:lnTo>
                  <a:pt x="705" y="371"/>
                </a:lnTo>
                <a:lnTo>
                  <a:pt x="758" y="337"/>
                </a:lnTo>
                <a:lnTo>
                  <a:pt x="814" y="303"/>
                </a:lnTo>
                <a:lnTo>
                  <a:pt x="874" y="273"/>
                </a:lnTo>
                <a:lnTo>
                  <a:pt x="937" y="243"/>
                </a:lnTo>
                <a:lnTo>
                  <a:pt x="1003" y="217"/>
                </a:lnTo>
                <a:lnTo>
                  <a:pt x="1074" y="191"/>
                </a:lnTo>
                <a:lnTo>
                  <a:pt x="1227" y="149"/>
                </a:lnTo>
                <a:lnTo>
                  <a:pt x="1396" y="118"/>
                </a:lnTo>
                <a:lnTo>
                  <a:pt x="1641" y="102"/>
                </a:lnTo>
                <a:lnTo>
                  <a:pt x="1909" y="122"/>
                </a:lnTo>
                <a:lnTo>
                  <a:pt x="2170" y="190"/>
                </a:lnTo>
                <a:lnTo>
                  <a:pt x="2289" y="243"/>
                </a:lnTo>
                <a:lnTo>
                  <a:pt x="2394" y="314"/>
                </a:lnTo>
                <a:lnTo>
                  <a:pt x="2388" y="348"/>
                </a:lnTo>
                <a:lnTo>
                  <a:pt x="2349" y="425"/>
                </a:lnTo>
                <a:lnTo>
                  <a:pt x="2320" y="476"/>
                </a:lnTo>
                <a:lnTo>
                  <a:pt x="2288" y="533"/>
                </a:lnTo>
                <a:lnTo>
                  <a:pt x="2251" y="597"/>
                </a:lnTo>
                <a:lnTo>
                  <a:pt x="2212" y="665"/>
                </a:lnTo>
                <a:lnTo>
                  <a:pt x="2170" y="736"/>
                </a:lnTo>
                <a:lnTo>
                  <a:pt x="2128" y="809"/>
                </a:lnTo>
                <a:lnTo>
                  <a:pt x="2087" y="884"/>
                </a:lnTo>
                <a:lnTo>
                  <a:pt x="2047" y="957"/>
                </a:lnTo>
                <a:lnTo>
                  <a:pt x="2010" y="1030"/>
                </a:lnTo>
                <a:lnTo>
                  <a:pt x="1977" y="1099"/>
                </a:lnTo>
                <a:lnTo>
                  <a:pt x="1926" y="1225"/>
                </a:lnTo>
                <a:lnTo>
                  <a:pt x="1860" y="1467"/>
                </a:lnTo>
                <a:lnTo>
                  <a:pt x="1808" y="1726"/>
                </a:lnTo>
                <a:lnTo>
                  <a:pt x="1761" y="1989"/>
                </a:lnTo>
                <a:lnTo>
                  <a:pt x="1712" y="2242"/>
                </a:lnTo>
                <a:lnTo>
                  <a:pt x="1697" y="2285"/>
                </a:lnTo>
                <a:lnTo>
                  <a:pt x="1669" y="2339"/>
                </a:lnTo>
                <a:lnTo>
                  <a:pt x="1635" y="2389"/>
                </a:lnTo>
                <a:lnTo>
                  <a:pt x="1604" y="2419"/>
                </a:lnTo>
                <a:lnTo>
                  <a:pt x="1550" y="2451"/>
                </a:lnTo>
                <a:lnTo>
                  <a:pt x="1483" y="2481"/>
                </a:lnTo>
                <a:lnTo>
                  <a:pt x="1358" y="2509"/>
                </a:lnTo>
                <a:lnTo>
                  <a:pt x="1057" y="2477"/>
                </a:lnTo>
                <a:lnTo>
                  <a:pt x="936" y="2419"/>
                </a:lnTo>
                <a:lnTo>
                  <a:pt x="870" y="2308"/>
                </a:lnTo>
                <a:lnTo>
                  <a:pt x="872" y="2183"/>
                </a:lnTo>
                <a:lnTo>
                  <a:pt x="892" y="2119"/>
                </a:lnTo>
                <a:lnTo>
                  <a:pt x="920" y="2056"/>
                </a:lnTo>
                <a:lnTo>
                  <a:pt x="958" y="1993"/>
                </a:lnTo>
                <a:lnTo>
                  <a:pt x="1001" y="1933"/>
                </a:lnTo>
                <a:lnTo>
                  <a:pt x="1050" y="1877"/>
                </a:lnTo>
                <a:lnTo>
                  <a:pt x="1102" y="1825"/>
                </a:lnTo>
                <a:lnTo>
                  <a:pt x="1163" y="1766"/>
                </a:lnTo>
                <a:lnTo>
                  <a:pt x="1234" y="1692"/>
                </a:lnTo>
                <a:lnTo>
                  <a:pt x="1308" y="1604"/>
                </a:lnTo>
                <a:lnTo>
                  <a:pt x="1377" y="1502"/>
                </a:lnTo>
                <a:lnTo>
                  <a:pt x="1045" y="1664"/>
                </a:lnTo>
                <a:lnTo>
                  <a:pt x="1030" y="1742"/>
                </a:lnTo>
                <a:lnTo>
                  <a:pt x="995" y="1822"/>
                </a:lnTo>
                <a:lnTo>
                  <a:pt x="946" y="1905"/>
                </a:lnTo>
                <a:lnTo>
                  <a:pt x="890" y="1987"/>
                </a:lnTo>
                <a:lnTo>
                  <a:pt x="834" y="2068"/>
                </a:lnTo>
                <a:lnTo>
                  <a:pt x="785" y="2150"/>
                </a:lnTo>
                <a:lnTo>
                  <a:pt x="739" y="2302"/>
                </a:lnTo>
                <a:lnTo>
                  <a:pt x="746" y="2350"/>
                </a:lnTo>
                <a:lnTo>
                  <a:pt x="767" y="2396"/>
                </a:lnTo>
                <a:lnTo>
                  <a:pt x="797" y="2441"/>
                </a:lnTo>
                <a:lnTo>
                  <a:pt x="836" y="2481"/>
                </a:lnTo>
                <a:lnTo>
                  <a:pt x="879" y="2516"/>
                </a:lnTo>
                <a:lnTo>
                  <a:pt x="921" y="2546"/>
                </a:lnTo>
                <a:lnTo>
                  <a:pt x="998" y="2580"/>
                </a:lnTo>
                <a:lnTo>
                  <a:pt x="1128" y="2604"/>
                </a:lnTo>
                <a:lnTo>
                  <a:pt x="1270" y="2618"/>
                </a:lnTo>
                <a:lnTo>
                  <a:pt x="1537" y="2597"/>
                </a:lnTo>
                <a:lnTo>
                  <a:pt x="1639" y="2552"/>
                </a:lnTo>
                <a:lnTo>
                  <a:pt x="1733" y="2467"/>
                </a:lnTo>
                <a:lnTo>
                  <a:pt x="1812" y="2357"/>
                </a:lnTo>
                <a:lnTo>
                  <a:pt x="1869" y="2236"/>
                </a:lnTo>
                <a:lnTo>
                  <a:pt x="1931" y="2006"/>
                </a:lnTo>
                <a:lnTo>
                  <a:pt x="1977" y="1746"/>
                </a:lnTo>
                <a:lnTo>
                  <a:pt x="2018" y="1483"/>
                </a:lnTo>
                <a:lnTo>
                  <a:pt x="2042" y="1359"/>
                </a:lnTo>
                <a:lnTo>
                  <a:pt x="2067" y="1247"/>
                </a:lnTo>
                <a:lnTo>
                  <a:pt x="2104" y="1134"/>
                </a:lnTo>
                <a:lnTo>
                  <a:pt x="2152" y="1022"/>
                </a:lnTo>
                <a:lnTo>
                  <a:pt x="2208" y="908"/>
                </a:lnTo>
                <a:lnTo>
                  <a:pt x="2268" y="796"/>
                </a:lnTo>
                <a:lnTo>
                  <a:pt x="2299" y="739"/>
                </a:lnTo>
                <a:lnTo>
                  <a:pt x="2330" y="682"/>
                </a:lnTo>
                <a:lnTo>
                  <a:pt x="2388" y="569"/>
                </a:lnTo>
                <a:lnTo>
                  <a:pt x="2440" y="455"/>
                </a:lnTo>
                <a:lnTo>
                  <a:pt x="2484" y="342"/>
                </a:lnTo>
                <a:lnTo>
                  <a:pt x="2471" y="255"/>
                </a:lnTo>
                <a:lnTo>
                  <a:pt x="2446" y="175"/>
                </a:lnTo>
                <a:lnTo>
                  <a:pt x="2377" y="146"/>
                </a:lnTo>
                <a:lnTo>
                  <a:pt x="2309" y="122"/>
                </a:lnTo>
                <a:lnTo>
                  <a:pt x="2170" y="79"/>
                </a:lnTo>
                <a:lnTo>
                  <a:pt x="2030" y="46"/>
                </a:lnTo>
                <a:lnTo>
                  <a:pt x="1890" y="23"/>
                </a:lnTo>
                <a:lnTo>
                  <a:pt x="1610" y="0"/>
                </a:lnTo>
                <a:lnTo>
                  <a:pt x="1335" y="7"/>
                </a:lnTo>
                <a:lnTo>
                  <a:pt x="1067" y="57"/>
                </a:lnTo>
                <a:lnTo>
                  <a:pt x="941" y="102"/>
                </a:lnTo>
                <a:lnTo>
                  <a:pt x="819" y="158"/>
                </a:lnTo>
                <a:lnTo>
                  <a:pt x="760" y="190"/>
                </a:lnTo>
                <a:lnTo>
                  <a:pt x="703" y="224"/>
                </a:lnTo>
                <a:lnTo>
                  <a:pt x="647" y="261"/>
                </a:lnTo>
                <a:lnTo>
                  <a:pt x="593" y="300"/>
                </a:lnTo>
                <a:lnTo>
                  <a:pt x="541" y="342"/>
                </a:lnTo>
                <a:lnTo>
                  <a:pt x="491" y="385"/>
                </a:lnTo>
                <a:lnTo>
                  <a:pt x="396" y="477"/>
                </a:lnTo>
                <a:lnTo>
                  <a:pt x="309" y="575"/>
                </a:lnTo>
                <a:lnTo>
                  <a:pt x="232" y="679"/>
                </a:lnTo>
                <a:lnTo>
                  <a:pt x="197" y="732"/>
                </a:lnTo>
                <a:lnTo>
                  <a:pt x="164" y="786"/>
                </a:lnTo>
                <a:lnTo>
                  <a:pt x="108" y="897"/>
                </a:lnTo>
                <a:lnTo>
                  <a:pt x="28" y="1123"/>
                </a:lnTo>
                <a:lnTo>
                  <a:pt x="0" y="1347"/>
                </a:lnTo>
                <a:lnTo>
                  <a:pt x="141" y="1270"/>
                </a:lnTo>
                <a:lnTo>
                  <a:pt x="141" y="12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899280" y="2561400"/>
            <a:ext cx="854280" cy="392040"/>
          </a:xfrm>
          <a:custGeom>
            <a:avLst/>
            <a:gdLst/>
            <a:ahLst/>
            <a:rect l="l" t="t" r="r" b="b"/>
            <a:pathLst>
              <a:path w="1258" h="646">
                <a:moveTo>
                  <a:pt x="1055" y="465"/>
                </a:moveTo>
                <a:lnTo>
                  <a:pt x="1001" y="498"/>
                </a:lnTo>
                <a:lnTo>
                  <a:pt x="943" y="531"/>
                </a:lnTo>
                <a:lnTo>
                  <a:pt x="881" y="562"/>
                </a:lnTo>
                <a:lnTo>
                  <a:pt x="816" y="588"/>
                </a:lnTo>
                <a:lnTo>
                  <a:pt x="677" y="629"/>
                </a:lnTo>
                <a:lnTo>
                  <a:pt x="535" y="646"/>
                </a:lnTo>
                <a:lnTo>
                  <a:pt x="390" y="632"/>
                </a:lnTo>
                <a:lnTo>
                  <a:pt x="250" y="577"/>
                </a:lnTo>
                <a:lnTo>
                  <a:pt x="182" y="532"/>
                </a:lnTo>
                <a:lnTo>
                  <a:pt x="118" y="476"/>
                </a:lnTo>
                <a:lnTo>
                  <a:pt x="57" y="405"/>
                </a:lnTo>
                <a:lnTo>
                  <a:pt x="0" y="320"/>
                </a:lnTo>
                <a:lnTo>
                  <a:pt x="30" y="276"/>
                </a:lnTo>
                <a:lnTo>
                  <a:pt x="62" y="235"/>
                </a:lnTo>
                <a:lnTo>
                  <a:pt x="128" y="163"/>
                </a:lnTo>
                <a:lnTo>
                  <a:pt x="163" y="133"/>
                </a:lnTo>
                <a:lnTo>
                  <a:pt x="200" y="106"/>
                </a:lnTo>
                <a:lnTo>
                  <a:pt x="275" y="61"/>
                </a:lnTo>
                <a:lnTo>
                  <a:pt x="354" y="29"/>
                </a:lnTo>
                <a:lnTo>
                  <a:pt x="436" y="9"/>
                </a:lnTo>
                <a:lnTo>
                  <a:pt x="605" y="0"/>
                </a:lnTo>
                <a:lnTo>
                  <a:pt x="776" y="28"/>
                </a:lnTo>
                <a:lnTo>
                  <a:pt x="946" y="91"/>
                </a:lnTo>
                <a:lnTo>
                  <a:pt x="1029" y="133"/>
                </a:lnTo>
                <a:lnTo>
                  <a:pt x="1108" y="180"/>
                </a:lnTo>
                <a:lnTo>
                  <a:pt x="1185" y="234"/>
                </a:lnTo>
                <a:lnTo>
                  <a:pt x="1258" y="292"/>
                </a:lnTo>
                <a:lnTo>
                  <a:pt x="1197" y="361"/>
                </a:lnTo>
                <a:lnTo>
                  <a:pt x="1140" y="425"/>
                </a:lnTo>
                <a:lnTo>
                  <a:pt x="1088" y="375"/>
                </a:lnTo>
                <a:lnTo>
                  <a:pt x="1032" y="328"/>
                </a:lnTo>
                <a:lnTo>
                  <a:pt x="973" y="283"/>
                </a:lnTo>
                <a:lnTo>
                  <a:pt x="911" y="241"/>
                </a:lnTo>
                <a:lnTo>
                  <a:pt x="848" y="203"/>
                </a:lnTo>
                <a:lnTo>
                  <a:pt x="784" y="171"/>
                </a:lnTo>
                <a:lnTo>
                  <a:pt x="718" y="144"/>
                </a:lnTo>
                <a:lnTo>
                  <a:pt x="651" y="125"/>
                </a:lnTo>
                <a:lnTo>
                  <a:pt x="518" y="111"/>
                </a:lnTo>
                <a:lnTo>
                  <a:pt x="387" y="134"/>
                </a:lnTo>
                <a:lnTo>
                  <a:pt x="264" y="204"/>
                </a:lnTo>
                <a:lnTo>
                  <a:pt x="151" y="325"/>
                </a:lnTo>
                <a:lnTo>
                  <a:pt x="181" y="378"/>
                </a:lnTo>
                <a:lnTo>
                  <a:pt x="219" y="421"/>
                </a:lnTo>
                <a:lnTo>
                  <a:pt x="265" y="454"/>
                </a:lnTo>
                <a:lnTo>
                  <a:pt x="317" y="481"/>
                </a:lnTo>
                <a:lnTo>
                  <a:pt x="435" y="513"/>
                </a:lnTo>
                <a:lnTo>
                  <a:pt x="566" y="522"/>
                </a:lnTo>
                <a:lnTo>
                  <a:pt x="833" y="499"/>
                </a:lnTo>
                <a:lnTo>
                  <a:pt x="1055" y="465"/>
                </a:lnTo>
                <a:lnTo>
                  <a:pt x="1055" y="4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 flipV="1">
            <a:off x="1324080" y="2780640"/>
            <a:ext cx="69840" cy="74520"/>
          </a:xfrm>
          <a:custGeom>
            <a:avLst/>
            <a:gdLst/>
            <a:ahLst/>
            <a:rect l="l" t="t" r="r" b="b"/>
            <a:pathLst>
              <a:path w="103" h="122">
                <a:moveTo>
                  <a:pt x="52" y="0"/>
                </a:moveTo>
                <a:lnTo>
                  <a:pt x="88" y="19"/>
                </a:lnTo>
                <a:lnTo>
                  <a:pt x="103" y="61"/>
                </a:lnTo>
                <a:lnTo>
                  <a:pt x="88" y="104"/>
                </a:lnTo>
                <a:lnTo>
                  <a:pt x="52" y="122"/>
                </a:lnTo>
                <a:lnTo>
                  <a:pt x="15" y="104"/>
                </a:lnTo>
                <a:lnTo>
                  <a:pt x="0" y="61"/>
                </a:lnTo>
                <a:lnTo>
                  <a:pt x="15" y="19"/>
                </a:lnTo>
                <a:lnTo>
                  <a:pt x="52" y="0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1208160" y="2617200"/>
            <a:ext cx="185760" cy="290520"/>
          </a:xfrm>
          <a:custGeom>
            <a:avLst/>
            <a:gdLst/>
            <a:ahLst/>
            <a:rect l="l" t="t" r="r" b="b"/>
            <a:pathLst>
              <a:path w="275" h="478">
                <a:moveTo>
                  <a:pt x="72" y="478"/>
                </a:moveTo>
                <a:lnTo>
                  <a:pt x="0" y="423"/>
                </a:lnTo>
                <a:lnTo>
                  <a:pt x="72" y="373"/>
                </a:lnTo>
                <a:lnTo>
                  <a:pt x="154" y="332"/>
                </a:lnTo>
                <a:lnTo>
                  <a:pt x="190" y="234"/>
                </a:lnTo>
                <a:lnTo>
                  <a:pt x="180" y="180"/>
                </a:lnTo>
                <a:lnTo>
                  <a:pt x="154" y="134"/>
                </a:lnTo>
                <a:lnTo>
                  <a:pt x="116" y="101"/>
                </a:lnTo>
                <a:lnTo>
                  <a:pt x="72" y="90"/>
                </a:lnTo>
                <a:lnTo>
                  <a:pt x="0" y="50"/>
                </a:lnTo>
                <a:lnTo>
                  <a:pt x="72" y="0"/>
                </a:lnTo>
                <a:lnTo>
                  <a:pt x="152" y="19"/>
                </a:lnTo>
                <a:lnTo>
                  <a:pt x="216" y="69"/>
                </a:lnTo>
                <a:lnTo>
                  <a:pt x="259" y="146"/>
                </a:lnTo>
                <a:lnTo>
                  <a:pt x="275" y="239"/>
                </a:lnTo>
                <a:lnTo>
                  <a:pt x="259" y="332"/>
                </a:lnTo>
                <a:lnTo>
                  <a:pt x="241" y="374"/>
                </a:lnTo>
                <a:lnTo>
                  <a:pt x="216" y="409"/>
                </a:lnTo>
                <a:lnTo>
                  <a:pt x="185" y="438"/>
                </a:lnTo>
                <a:lnTo>
                  <a:pt x="152" y="460"/>
                </a:lnTo>
                <a:lnTo>
                  <a:pt x="72" y="478"/>
                </a:lnTo>
                <a:lnTo>
                  <a:pt x="72" y="4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1297080" y="2617200"/>
            <a:ext cx="187200" cy="290520"/>
          </a:xfrm>
          <a:custGeom>
            <a:avLst/>
            <a:gdLst/>
            <a:ahLst/>
            <a:rect l="l" t="t" r="r" b="b"/>
            <a:pathLst>
              <a:path w="275" h="478">
                <a:moveTo>
                  <a:pt x="204" y="478"/>
                </a:moveTo>
                <a:lnTo>
                  <a:pt x="275" y="423"/>
                </a:lnTo>
                <a:lnTo>
                  <a:pt x="204" y="373"/>
                </a:lnTo>
                <a:lnTo>
                  <a:pt x="124" y="332"/>
                </a:lnTo>
                <a:lnTo>
                  <a:pt x="90" y="234"/>
                </a:lnTo>
                <a:lnTo>
                  <a:pt x="100" y="180"/>
                </a:lnTo>
                <a:lnTo>
                  <a:pt x="124" y="134"/>
                </a:lnTo>
                <a:lnTo>
                  <a:pt x="160" y="101"/>
                </a:lnTo>
                <a:lnTo>
                  <a:pt x="204" y="90"/>
                </a:lnTo>
                <a:lnTo>
                  <a:pt x="275" y="50"/>
                </a:lnTo>
                <a:lnTo>
                  <a:pt x="204" y="0"/>
                </a:lnTo>
                <a:lnTo>
                  <a:pt x="124" y="19"/>
                </a:lnTo>
                <a:lnTo>
                  <a:pt x="60" y="69"/>
                </a:lnTo>
                <a:lnTo>
                  <a:pt x="16" y="146"/>
                </a:lnTo>
                <a:lnTo>
                  <a:pt x="0" y="239"/>
                </a:lnTo>
                <a:lnTo>
                  <a:pt x="16" y="332"/>
                </a:lnTo>
                <a:lnTo>
                  <a:pt x="35" y="374"/>
                </a:lnTo>
                <a:lnTo>
                  <a:pt x="60" y="409"/>
                </a:lnTo>
                <a:lnTo>
                  <a:pt x="90" y="438"/>
                </a:lnTo>
                <a:lnTo>
                  <a:pt x="124" y="460"/>
                </a:lnTo>
                <a:lnTo>
                  <a:pt x="204" y="478"/>
                </a:lnTo>
                <a:lnTo>
                  <a:pt x="204" y="4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825480" y="2705040"/>
            <a:ext cx="295200" cy="239760"/>
          </a:xfrm>
          <a:custGeom>
            <a:avLst/>
            <a:gdLst/>
            <a:ahLst/>
            <a:rect l="l" t="t" r="r" b="b"/>
            <a:pathLst>
              <a:path w="435" h="394">
                <a:moveTo>
                  <a:pt x="218" y="394"/>
                </a:moveTo>
                <a:lnTo>
                  <a:pt x="435" y="177"/>
                </a:lnTo>
                <a:lnTo>
                  <a:pt x="256" y="212"/>
                </a:lnTo>
                <a:lnTo>
                  <a:pt x="302" y="61"/>
                </a:lnTo>
                <a:lnTo>
                  <a:pt x="137" y="144"/>
                </a:lnTo>
                <a:lnTo>
                  <a:pt x="157" y="0"/>
                </a:lnTo>
                <a:lnTo>
                  <a:pt x="0" y="106"/>
                </a:lnTo>
                <a:lnTo>
                  <a:pt x="218" y="394"/>
                </a:lnTo>
                <a:lnTo>
                  <a:pt x="218" y="3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1185120" y="3075120"/>
            <a:ext cx="104760" cy="196560"/>
          </a:xfrm>
          <a:custGeom>
            <a:avLst/>
            <a:gdLst/>
            <a:ahLst/>
            <a:rect l="l" t="t" r="r" b="b"/>
            <a:pathLst>
              <a:path w="154" h="325">
                <a:moveTo>
                  <a:pt x="13" y="311"/>
                </a:moveTo>
                <a:lnTo>
                  <a:pt x="0" y="213"/>
                </a:lnTo>
                <a:lnTo>
                  <a:pt x="18" y="116"/>
                </a:lnTo>
                <a:lnTo>
                  <a:pt x="41" y="72"/>
                </a:lnTo>
                <a:lnTo>
                  <a:pt x="72" y="33"/>
                </a:lnTo>
                <a:lnTo>
                  <a:pt x="107" y="5"/>
                </a:lnTo>
                <a:lnTo>
                  <a:pt x="146" y="0"/>
                </a:lnTo>
                <a:lnTo>
                  <a:pt x="154" y="16"/>
                </a:lnTo>
                <a:lnTo>
                  <a:pt x="136" y="52"/>
                </a:lnTo>
                <a:lnTo>
                  <a:pt x="89" y="132"/>
                </a:lnTo>
                <a:lnTo>
                  <a:pt x="85" y="305"/>
                </a:lnTo>
                <a:lnTo>
                  <a:pt x="49" y="325"/>
                </a:lnTo>
                <a:lnTo>
                  <a:pt x="13" y="311"/>
                </a:lnTo>
                <a:lnTo>
                  <a:pt x="13" y="3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 flipV="1">
            <a:off x="1024920" y="3083040"/>
            <a:ext cx="122040" cy="188640"/>
          </a:xfrm>
          <a:custGeom>
            <a:avLst/>
            <a:gdLst/>
            <a:ahLst/>
            <a:rect l="l" t="t" r="r" b="b"/>
            <a:pathLst>
              <a:path w="183" h="311">
                <a:moveTo>
                  <a:pt x="7" y="305"/>
                </a:moveTo>
                <a:lnTo>
                  <a:pt x="0" y="205"/>
                </a:lnTo>
                <a:lnTo>
                  <a:pt x="26" y="111"/>
                </a:lnTo>
                <a:lnTo>
                  <a:pt x="55" y="66"/>
                </a:lnTo>
                <a:lnTo>
                  <a:pt x="92" y="26"/>
                </a:lnTo>
                <a:lnTo>
                  <a:pt x="135" y="0"/>
                </a:lnTo>
                <a:lnTo>
                  <a:pt x="177" y="0"/>
                </a:lnTo>
                <a:lnTo>
                  <a:pt x="183" y="17"/>
                </a:lnTo>
                <a:lnTo>
                  <a:pt x="156" y="52"/>
                </a:lnTo>
                <a:lnTo>
                  <a:pt x="97" y="132"/>
                </a:lnTo>
                <a:lnTo>
                  <a:pt x="73" y="311"/>
                </a:lnTo>
                <a:lnTo>
                  <a:pt x="7" y="305"/>
                </a:lnTo>
                <a:lnTo>
                  <a:pt x="7" y="3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861840" y="3083040"/>
            <a:ext cx="146160" cy="193680"/>
          </a:xfrm>
          <a:custGeom>
            <a:avLst/>
            <a:gdLst/>
            <a:ahLst/>
            <a:rect l="l" t="t" r="r" b="b"/>
            <a:pathLst>
              <a:path w="217" h="320">
                <a:moveTo>
                  <a:pt x="0" y="308"/>
                </a:moveTo>
                <a:lnTo>
                  <a:pt x="5" y="206"/>
                </a:lnTo>
                <a:lnTo>
                  <a:pt x="38" y="108"/>
                </a:lnTo>
                <a:lnTo>
                  <a:pt x="73" y="65"/>
                </a:lnTo>
                <a:lnTo>
                  <a:pt x="118" y="24"/>
                </a:lnTo>
                <a:lnTo>
                  <a:pt x="166" y="0"/>
                </a:lnTo>
                <a:lnTo>
                  <a:pt x="209" y="3"/>
                </a:lnTo>
                <a:lnTo>
                  <a:pt x="217" y="29"/>
                </a:lnTo>
                <a:lnTo>
                  <a:pt x="185" y="63"/>
                </a:lnTo>
                <a:lnTo>
                  <a:pt x="109" y="141"/>
                </a:lnTo>
                <a:lnTo>
                  <a:pt x="62" y="320"/>
                </a:lnTo>
                <a:lnTo>
                  <a:pt x="0" y="308"/>
                </a:lnTo>
                <a:lnTo>
                  <a:pt x="0" y="3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701640" y="3042360"/>
            <a:ext cx="169920" cy="203400"/>
          </a:xfrm>
          <a:custGeom>
            <a:avLst/>
            <a:gdLst/>
            <a:ahLst/>
            <a:rect l="l" t="t" r="r" b="b"/>
            <a:pathLst>
              <a:path w="251" h="336">
                <a:moveTo>
                  <a:pt x="0" y="314"/>
                </a:moveTo>
                <a:lnTo>
                  <a:pt x="9" y="206"/>
                </a:lnTo>
                <a:lnTo>
                  <a:pt x="25" y="154"/>
                </a:lnTo>
                <a:lnTo>
                  <a:pt x="52" y="109"/>
                </a:lnTo>
                <a:lnTo>
                  <a:pt x="94" y="64"/>
                </a:lnTo>
                <a:lnTo>
                  <a:pt x="146" y="23"/>
                </a:lnTo>
                <a:lnTo>
                  <a:pt x="199" y="0"/>
                </a:lnTo>
                <a:lnTo>
                  <a:pt x="246" y="9"/>
                </a:lnTo>
                <a:lnTo>
                  <a:pt x="251" y="37"/>
                </a:lnTo>
                <a:lnTo>
                  <a:pt x="212" y="71"/>
                </a:lnTo>
                <a:lnTo>
                  <a:pt x="159" y="108"/>
                </a:lnTo>
                <a:lnTo>
                  <a:pt x="118" y="148"/>
                </a:lnTo>
                <a:lnTo>
                  <a:pt x="56" y="331"/>
                </a:lnTo>
                <a:lnTo>
                  <a:pt x="24" y="336"/>
                </a:lnTo>
                <a:lnTo>
                  <a:pt x="0" y="314"/>
                </a:lnTo>
                <a:lnTo>
                  <a:pt x="0" y="3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57280" y="2990880"/>
            <a:ext cx="195120" cy="208080"/>
          </a:xfrm>
          <a:custGeom>
            <a:avLst/>
            <a:gdLst/>
            <a:ahLst/>
            <a:rect l="l" t="t" r="r" b="b"/>
            <a:pathLst>
              <a:path w="288" h="342">
                <a:moveTo>
                  <a:pt x="0" y="314"/>
                </a:moveTo>
                <a:lnTo>
                  <a:pt x="20" y="206"/>
                </a:lnTo>
                <a:lnTo>
                  <a:pt x="41" y="153"/>
                </a:lnTo>
                <a:lnTo>
                  <a:pt x="71" y="109"/>
                </a:lnTo>
                <a:lnTo>
                  <a:pt x="119" y="64"/>
                </a:lnTo>
                <a:lnTo>
                  <a:pt x="175" y="22"/>
                </a:lnTo>
                <a:lnTo>
                  <a:pt x="234" y="0"/>
                </a:lnTo>
                <a:lnTo>
                  <a:pt x="284" y="14"/>
                </a:lnTo>
                <a:lnTo>
                  <a:pt x="288" y="47"/>
                </a:lnTo>
                <a:lnTo>
                  <a:pt x="245" y="79"/>
                </a:lnTo>
                <a:lnTo>
                  <a:pt x="184" y="115"/>
                </a:lnTo>
                <a:lnTo>
                  <a:pt x="137" y="153"/>
                </a:lnTo>
                <a:lnTo>
                  <a:pt x="97" y="252"/>
                </a:lnTo>
                <a:lnTo>
                  <a:pt x="78" y="301"/>
                </a:lnTo>
                <a:lnTo>
                  <a:pt x="52" y="342"/>
                </a:lnTo>
                <a:lnTo>
                  <a:pt x="0" y="314"/>
                </a:lnTo>
                <a:lnTo>
                  <a:pt x="0" y="3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438280" y="2154240"/>
            <a:ext cx="60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ing at it a different wa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566000" y="3048120"/>
            <a:ext cx="587448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66"/>
                </a:solidFill>
                <a:latin typeface="Comic Sans MS"/>
              </a:rPr>
              <a:t>the new amount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the old amount </a:t>
            </a:r>
            <a:br>
              <a:rPr sz="4000"/>
            </a:b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-</a:t>
            </a:r>
            <a:br>
              <a:rPr sz="5400"/>
            </a:b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the amount of decr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581280" y="4876920"/>
            <a:ext cx="19814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4191120" y="22669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a $45 blouse is on sale (discounted) at $25. What is the percent of decrease for this sa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457200" y="3673440"/>
            <a:ext cx="1752480" cy="1413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 rot="19128600">
            <a:off x="762840" y="4115520"/>
            <a:ext cx="76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$4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$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851120" y="2530440"/>
            <a:ext cx="2263680" cy="243828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762120" y="4116240"/>
            <a:ext cx="457200" cy="5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191120" y="22669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a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45 blous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on sale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(discounted) at $25.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What is the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percent of decreas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or this sa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277200" y="1203480"/>
            <a:ext cx="3172320" cy="1199880"/>
            <a:chOff x="277200" y="1203480"/>
            <a:chExt cx="3172320" cy="1199880"/>
          </a:xfrm>
        </p:grpSpPr>
        <p:sp>
          <p:nvSpPr>
            <p:cNvPr id="605" name=""/>
            <p:cNvSpPr/>
            <p:nvPr/>
          </p:nvSpPr>
          <p:spPr>
            <a:xfrm rot="20897400">
              <a:off x="307800" y="1498320"/>
              <a:ext cx="297180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0897400">
              <a:off x="304920" y="153648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14080" y="12780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7160" y="53481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100320" y="2057400"/>
            <a:ext cx="5380920" cy="3505320"/>
            <a:chOff x="3100320" y="2057400"/>
            <a:chExt cx="5380920" cy="3505320"/>
          </a:xfrm>
        </p:grpSpPr>
        <p:sp>
          <p:nvSpPr>
            <p:cNvPr id="611" name=""/>
            <p:cNvSpPr/>
            <p:nvPr/>
          </p:nvSpPr>
          <p:spPr>
            <a:xfrm>
              <a:off x="4277880" y="2071800"/>
              <a:ext cx="547560" cy="3490920"/>
            </a:xfrm>
            <a:custGeom>
              <a:avLst/>
              <a:gdLst>
                <a:gd name="textAreaLeft" fmla="*/ 349920 w 547560"/>
                <a:gd name="textAreaRight" fmla="*/ 547920 w 547560"/>
                <a:gd name="textAreaTop" fmla="*/ 90720 h 3490920"/>
                <a:gd name="textAreaBottom" fmla="*/ 3400200 h 34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5910"/>
                  </a:lnTo>
                  <a:cubicBezTo>
                    <a:pt x="10800" y="16810"/>
                    <a:pt x="5400" y="17710"/>
                    <a:pt x="0" y="17710"/>
                  </a:cubicBezTo>
                  <a:cubicBezTo>
                    <a:pt x="5400" y="17710"/>
                    <a:pt x="10800" y="18610"/>
                    <a:pt x="10800" y="1951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3100320" y="2057400"/>
              <a:ext cx="5380920" cy="3490920"/>
              <a:chOff x="3100320" y="2057400"/>
              <a:chExt cx="5380920" cy="349092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4825440" y="2057400"/>
                <a:ext cx="3655800" cy="3490920"/>
                <a:chOff x="4825440" y="2057400"/>
                <a:chExt cx="3655800" cy="349092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4825440" y="2071800"/>
                  <a:ext cx="1521360" cy="3476520"/>
                </a:xfrm>
                <a:prstGeom prst="rect">
                  <a:avLst/>
                </a:prstGeom>
                <a:solidFill>
                  <a:srgbClr val="3333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66ccff"/>
                      </a:solidFill>
                      <a:latin typeface="Comic Sans MS"/>
                    </a:rPr>
                    <a:t>Dis-</a:t>
                  </a:r>
                  <a:br>
                    <a:rPr sz="3200"/>
                  </a:br>
                  <a:r>
                    <a:rPr b="0" lang="en-US" sz="3200" spc="-1" strike="noStrike">
                      <a:solidFill>
                        <a:srgbClr val="66ccff"/>
                      </a:solidFill>
                      <a:latin typeface="Comic Sans MS"/>
                    </a:rPr>
                    <a:t>counted</a:t>
                  </a:r>
                  <a:br>
                    <a:rPr sz="3200"/>
                  </a:br>
                  <a:r>
                    <a:rPr b="0" lang="en-US" sz="3200" spc="-1" strike="noStrike">
                      <a:solidFill>
                        <a:srgbClr val="66ccff"/>
                      </a:solidFill>
                      <a:latin typeface="Comic Sans MS"/>
                    </a:rPr>
                    <a:t>price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825440" y="2071800"/>
                  <a:ext cx="1521360" cy="579240"/>
                </a:xfrm>
                <a:prstGeom prst="rect">
                  <a:avLst/>
                </a:prstGeom>
                <a:solidFill>
                  <a:srgbClr val="00cc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decreas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346800" y="2071800"/>
                  <a:ext cx="730080" cy="566640"/>
                </a:xfrm>
                <a:custGeom>
                  <a:avLst/>
                  <a:gdLst>
                    <a:gd name="textAreaLeft" fmla="*/ 0 w 730080"/>
                    <a:gd name="textAreaRight" fmla="*/ 263520 w 730080"/>
                    <a:gd name="textAreaTop" fmla="*/ 14760 h 566640"/>
                    <a:gd name="textAreaBottom" fmla="*/ 551880 h 56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6346800" y="2651040"/>
                  <a:ext cx="730080" cy="2897280"/>
                </a:xfrm>
                <a:custGeom>
                  <a:avLst/>
                  <a:gdLst>
                    <a:gd name="textAreaLeft" fmla="*/ 0 w 730080"/>
                    <a:gd name="textAreaRight" fmla="*/ 263520 w 730080"/>
                    <a:gd name="textAreaTop" fmla="*/ 75240 h 2897280"/>
                    <a:gd name="textAreaBottom" fmla="*/ 2822040 h 2897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075080" y="2057400"/>
                  <a:ext cx="1406160" cy="520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3333cc"/>
                      </a:solidFill>
                      <a:latin typeface="Comic Sans MS"/>
                    </a:rPr>
                    <a:t>% dec.?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127280" y="3871800"/>
                  <a:ext cx="788760" cy="520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3333cc"/>
                      </a:solidFill>
                      <a:latin typeface="Comic Sans MS"/>
                    </a:rPr>
                    <a:t>$2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0" name=""/>
              <p:cNvSpPr/>
              <p:nvPr/>
            </p:nvSpPr>
            <p:spPr>
              <a:xfrm>
                <a:off x="3100320" y="4648320"/>
                <a:ext cx="788760" cy="520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Comic Sans MS"/>
                  </a:rPr>
                  <a:t>$4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1" name=""/>
          <p:cNvSpPr/>
          <p:nvPr/>
        </p:nvSpPr>
        <p:spPr>
          <a:xfrm>
            <a:off x="669960" y="17971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$45 blou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$2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discounte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16400" y="5791320"/>
            <a:ext cx="39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percent of de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"/>
          <p:cNvGrpSpPr/>
          <p:nvPr/>
        </p:nvGrpSpPr>
        <p:grpSpPr>
          <a:xfrm>
            <a:off x="533520" y="1447920"/>
            <a:ext cx="8038800" cy="1191240"/>
            <a:chOff x="533520" y="1447920"/>
            <a:chExt cx="8038800" cy="1191240"/>
          </a:xfrm>
        </p:grpSpPr>
        <p:sp>
          <p:nvSpPr>
            <p:cNvPr id="624" name=""/>
            <p:cNvSpPr/>
            <p:nvPr/>
          </p:nvSpPr>
          <p:spPr>
            <a:xfrm>
              <a:off x="533520" y="1447920"/>
              <a:ext cx="22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ercent Decre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002760" y="1479600"/>
              <a:ext cx="4010400" cy="1127520"/>
              <a:chOff x="3002760" y="1479600"/>
              <a:chExt cx="4010400" cy="1127520"/>
            </a:xfrm>
          </p:grpSpPr>
          <p:sp>
            <p:nvSpPr>
              <p:cNvPr id="626" name=""/>
              <p:cNvSpPr/>
              <p:nvPr/>
            </p:nvSpPr>
            <p:spPr>
              <a:xfrm>
                <a:off x="3002760" y="1479600"/>
                <a:ext cx="4010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amount of decrea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587400" y="2025720"/>
                <a:ext cx="2838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initial amoun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132000" y="2025720"/>
                <a:ext cx="374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6934320" y="1720800"/>
              <a:ext cx="163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54280" y="1720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49120" y="2743200"/>
            <a:ext cx="69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ount of decrease 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4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68760" y="3429000"/>
            <a:ext cx="13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609480" y="4219560"/>
            <a:ext cx="8038800" cy="1191240"/>
            <a:chOff x="609480" y="4219560"/>
            <a:chExt cx="8038800" cy="1191240"/>
          </a:xfrm>
        </p:grpSpPr>
        <p:sp>
          <p:nvSpPr>
            <p:cNvPr id="635" name=""/>
            <p:cNvSpPr/>
            <p:nvPr/>
          </p:nvSpPr>
          <p:spPr>
            <a:xfrm>
              <a:off x="609480" y="4219560"/>
              <a:ext cx="22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ercent Decre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3208320" y="4251240"/>
              <a:ext cx="3749400" cy="1127520"/>
              <a:chOff x="3208320" y="4251240"/>
              <a:chExt cx="3749400" cy="1127520"/>
            </a:xfrm>
          </p:grpSpPr>
          <p:sp>
            <p:nvSpPr>
              <p:cNvPr id="637" name=""/>
              <p:cNvSpPr/>
              <p:nvPr/>
            </p:nvSpPr>
            <p:spPr>
              <a:xfrm>
                <a:off x="3258720" y="4251240"/>
                <a:ext cx="203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           </a:t>
                </a:r>
                <a:r>
                  <a:rPr b="0" lang="en-US" sz="3200" spc="-1" strike="noStrike">
                    <a:solidFill>
                      <a:srgbClr val="3333cc"/>
                    </a:solidFill>
                    <a:latin typeface="Comic Sans MS"/>
                  </a:rPr>
                  <a:t>$2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811320" y="4797360"/>
                <a:ext cx="1511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      </a:t>
                </a:r>
                <a:r>
                  <a:rPr b="0" lang="en-US" sz="3200" spc="-1" strike="noStrike">
                    <a:solidFill>
                      <a:srgbClr val="3333cc"/>
                    </a:solidFill>
                    <a:latin typeface="Comic Sans MS"/>
                  </a:rPr>
                  <a:t>$4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208320" y="4797360"/>
                <a:ext cx="3749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>
              <a:off x="7010280" y="4492440"/>
              <a:ext cx="163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730240" y="4492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2800080" y="5759280"/>
            <a:ext cx="49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0.44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44%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decr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42680" y="1295280"/>
            <a:ext cx="191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442240" y="2347920"/>
            <a:ext cx="383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44% of $45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94880" y="3657600"/>
            <a:ext cx="765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0.44 x  $45 =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$19.80 </a:t>
            </a:r>
            <a:r>
              <a:rPr b="0" lang="en-US" sz="4800" spc="-1" strike="noStrike">
                <a:solidFill>
                  <a:srgbClr val="3333cc"/>
                </a:solidFill>
                <a:latin typeface="Symbol"/>
                <a:ea typeface="Symbol"/>
              </a:rPr>
              <a:t>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$2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04120" y="5195880"/>
            <a:ext cx="103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38080" y="3733920"/>
            <a:ext cx="7467840" cy="2531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·cou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amount subtracted from a price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discount on this item is 10 percent off the retail price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reduce a price by an amount: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ore discounted the item by 10 perc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04880" y="2819520"/>
            <a:ext cx="22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scou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800600" cy="125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533520" y="1704960"/>
            <a:ext cx="8038800" cy="1191240"/>
            <a:chOff x="533520" y="1704960"/>
            <a:chExt cx="8038800" cy="1191240"/>
          </a:xfrm>
        </p:grpSpPr>
        <p:sp>
          <p:nvSpPr>
            <p:cNvPr id="179" name=""/>
            <p:cNvSpPr/>
            <p:nvPr/>
          </p:nvSpPr>
          <p:spPr>
            <a:xfrm>
              <a:off x="533520" y="170496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ercent Incre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3039120" y="1736280"/>
              <a:ext cx="3886920" cy="1127160"/>
              <a:chOff x="3039120" y="1736280"/>
              <a:chExt cx="3886920" cy="1127160"/>
            </a:xfrm>
          </p:grpSpPr>
          <p:sp>
            <p:nvSpPr>
              <p:cNvPr id="181" name=""/>
              <p:cNvSpPr/>
              <p:nvPr/>
            </p:nvSpPr>
            <p:spPr>
              <a:xfrm>
                <a:off x="3039120" y="1736280"/>
                <a:ext cx="388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amount of increa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64000" y="2282040"/>
                <a:ext cx="2838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initial amoun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08600" y="2282040"/>
                <a:ext cx="3749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6934320" y="1977840"/>
              <a:ext cx="163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78320" y="1977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33520" y="4921200"/>
            <a:ext cx="8038800" cy="1191240"/>
            <a:chOff x="533520" y="4921200"/>
            <a:chExt cx="8038800" cy="1191240"/>
          </a:xfrm>
        </p:grpSpPr>
        <p:sp>
          <p:nvSpPr>
            <p:cNvPr id="188" name=""/>
            <p:cNvSpPr/>
            <p:nvPr/>
          </p:nvSpPr>
          <p:spPr>
            <a:xfrm>
              <a:off x="533520" y="492120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ercent Incre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3049200" y="5000400"/>
              <a:ext cx="3943440" cy="1079280"/>
              <a:chOff x="3049200" y="5000400"/>
              <a:chExt cx="3943440" cy="10792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49200" y="5000400"/>
                <a:ext cx="394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new amt.  – initial amt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64000" y="5498280"/>
                <a:ext cx="2838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initial amoun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08600" y="5498280"/>
                <a:ext cx="3749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934320" y="5194080"/>
              <a:ext cx="163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78320" y="51940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387520" y="2346840"/>
            <a:ext cx="4425480" cy="3160080"/>
            <a:chOff x="2387520" y="2346840"/>
            <a:chExt cx="4425480" cy="3160080"/>
          </a:xfrm>
        </p:grpSpPr>
        <p:sp>
          <p:nvSpPr>
            <p:cNvPr id="196" name=""/>
            <p:cNvSpPr/>
            <p:nvPr/>
          </p:nvSpPr>
          <p:spPr>
            <a:xfrm rot="3963000">
              <a:off x="3872160" y="2114280"/>
              <a:ext cx="1064160" cy="3940920"/>
            </a:xfrm>
            <a:custGeom>
              <a:avLst/>
              <a:gdLst/>
              <a:ahLst/>
              <a:rect l="l" t="t" r="r" b="b"/>
              <a:pathLst>
                <a:path w="2162" h="3988">
                  <a:moveTo>
                    <a:pt x="305" y="721"/>
                  </a:moveTo>
                  <a:lnTo>
                    <a:pt x="305" y="2125"/>
                  </a:lnTo>
                  <a:lnTo>
                    <a:pt x="152" y="3342"/>
                  </a:lnTo>
                  <a:lnTo>
                    <a:pt x="0" y="3834"/>
                  </a:lnTo>
                  <a:lnTo>
                    <a:pt x="1061" y="3190"/>
                  </a:lnTo>
                  <a:lnTo>
                    <a:pt x="1325" y="3988"/>
                  </a:lnTo>
                  <a:lnTo>
                    <a:pt x="1896" y="3418"/>
                  </a:lnTo>
                  <a:lnTo>
                    <a:pt x="2162" y="2353"/>
                  </a:lnTo>
                  <a:lnTo>
                    <a:pt x="2084" y="949"/>
                  </a:lnTo>
                  <a:lnTo>
                    <a:pt x="949" y="0"/>
                  </a:lnTo>
                  <a:lnTo>
                    <a:pt x="305" y="721"/>
                  </a:lnTo>
                  <a:lnTo>
                    <a:pt x="305" y="721"/>
                  </a:lnTo>
                  <a:lnTo>
                    <a:pt x="305" y="721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3963000">
              <a:off x="3842280" y="2059920"/>
              <a:ext cx="1798920" cy="3733920"/>
            </a:xfrm>
            <a:custGeom>
              <a:avLst/>
              <a:gdLst/>
              <a:ahLst/>
              <a:rect l="l" t="t" r="r" b="b"/>
              <a:pathLst>
                <a:path w="3654" h="3777">
                  <a:moveTo>
                    <a:pt x="1578" y="0"/>
                  </a:moveTo>
                  <a:lnTo>
                    <a:pt x="1184" y="508"/>
                  </a:lnTo>
                  <a:lnTo>
                    <a:pt x="530" y="1006"/>
                  </a:lnTo>
                  <a:lnTo>
                    <a:pt x="0" y="1320"/>
                  </a:lnTo>
                  <a:lnTo>
                    <a:pt x="1019" y="1439"/>
                  </a:lnTo>
                  <a:lnTo>
                    <a:pt x="1203" y="2230"/>
                  </a:lnTo>
                  <a:lnTo>
                    <a:pt x="1184" y="2912"/>
                  </a:lnTo>
                  <a:lnTo>
                    <a:pt x="1120" y="3741"/>
                  </a:lnTo>
                  <a:lnTo>
                    <a:pt x="1441" y="2985"/>
                  </a:lnTo>
                  <a:lnTo>
                    <a:pt x="1671" y="2112"/>
                  </a:lnTo>
                  <a:lnTo>
                    <a:pt x="1779" y="1363"/>
                  </a:lnTo>
                  <a:lnTo>
                    <a:pt x="1772" y="500"/>
                  </a:lnTo>
                  <a:lnTo>
                    <a:pt x="2257" y="1264"/>
                  </a:lnTo>
                  <a:lnTo>
                    <a:pt x="2479" y="2165"/>
                  </a:lnTo>
                  <a:lnTo>
                    <a:pt x="2496" y="3150"/>
                  </a:lnTo>
                  <a:lnTo>
                    <a:pt x="2479" y="3777"/>
                  </a:lnTo>
                  <a:lnTo>
                    <a:pt x="2810" y="2718"/>
                  </a:lnTo>
                  <a:lnTo>
                    <a:pt x="2930" y="1990"/>
                  </a:lnTo>
                  <a:lnTo>
                    <a:pt x="2920" y="1411"/>
                  </a:lnTo>
                  <a:lnTo>
                    <a:pt x="3654" y="1291"/>
                  </a:lnTo>
                  <a:lnTo>
                    <a:pt x="2856" y="683"/>
                  </a:lnTo>
                  <a:lnTo>
                    <a:pt x="2002" y="204"/>
                  </a:lnTo>
                  <a:lnTo>
                    <a:pt x="1578" y="0"/>
                  </a:lnTo>
                  <a:lnTo>
                    <a:pt x="1578" y="0"/>
                  </a:lnTo>
                  <a:lnTo>
                    <a:pt x="157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276720" y="1587600"/>
            <a:ext cx="5486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25% discount is applied to a $70.00 camera. What is the final pric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447920" y="700200"/>
            <a:ext cx="624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635200" cy="420516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3276720" y="1600200"/>
            <a:ext cx="5486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25% discount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is applied to a </a:t>
            </a: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$70.00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camera. What is the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final pric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77200" y="1203480"/>
            <a:ext cx="3172320" cy="1199880"/>
            <a:chOff x="277200" y="1203480"/>
            <a:chExt cx="3172320" cy="1199880"/>
          </a:xfrm>
        </p:grpSpPr>
        <p:sp>
          <p:nvSpPr>
            <p:cNvPr id="658" name=""/>
            <p:cNvSpPr/>
            <p:nvPr/>
          </p:nvSpPr>
          <p:spPr>
            <a:xfrm rot="20897400">
              <a:off x="307800" y="1498320"/>
              <a:ext cx="297180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20897400">
              <a:off x="304920" y="153648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4080" y="12780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77160" y="53481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100320" y="2057400"/>
            <a:ext cx="4851720" cy="3505320"/>
            <a:chOff x="3100320" y="2057400"/>
            <a:chExt cx="4851720" cy="3505320"/>
          </a:xfrm>
        </p:grpSpPr>
        <p:sp>
          <p:nvSpPr>
            <p:cNvPr id="664" name=""/>
            <p:cNvSpPr/>
            <p:nvPr/>
          </p:nvSpPr>
          <p:spPr>
            <a:xfrm>
              <a:off x="4277880" y="2071800"/>
              <a:ext cx="547560" cy="3490920"/>
            </a:xfrm>
            <a:custGeom>
              <a:avLst/>
              <a:gdLst>
                <a:gd name="textAreaLeft" fmla="*/ 349920 w 547560"/>
                <a:gd name="textAreaRight" fmla="*/ 547920 w 547560"/>
                <a:gd name="textAreaTop" fmla="*/ 90720 h 3490920"/>
                <a:gd name="textAreaBottom" fmla="*/ 3400200 h 349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5910"/>
                  </a:lnTo>
                  <a:cubicBezTo>
                    <a:pt x="10800" y="16810"/>
                    <a:pt x="5400" y="17710"/>
                    <a:pt x="0" y="17710"/>
                  </a:cubicBezTo>
                  <a:cubicBezTo>
                    <a:pt x="5400" y="17710"/>
                    <a:pt x="10800" y="18610"/>
                    <a:pt x="10800" y="1951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3100320" y="2057400"/>
              <a:ext cx="4851720" cy="3490920"/>
              <a:chOff x="3100320" y="2057400"/>
              <a:chExt cx="4851720" cy="3490920"/>
            </a:xfrm>
          </p:grpSpPr>
          <p:grpSp>
            <p:nvGrpSpPr>
              <p:cNvPr id="666" name=""/>
              <p:cNvGrpSpPr/>
              <p:nvPr/>
            </p:nvGrpSpPr>
            <p:grpSpPr>
              <a:xfrm>
                <a:off x="4825440" y="2057400"/>
                <a:ext cx="3126600" cy="3490920"/>
                <a:chOff x="4825440" y="2057400"/>
                <a:chExt cx="3126600" cy="34909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4825440" y="2071800"/>
                  <a:ext cx="1521720" cy="3476520"/>
                </a:xfrm>
                <a:prstGeom prst="rect">
                  <a:avLst/>
                </a:prstGeom>
                <a:solidFill>
                  <a:srgbClr val="3333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cc99"/>
                      </a:solidFill>
                      <a:latin typeface="Comic Sans MS"/>
                    </a:rPr>
                    <a:t>Dis-</a:t>
                  </a:r>
                  <a:br>
                    <a:rPr sz="3200"/>
                  </a:br>
                  <a:r>
                    <a:rPr b="0" lang="en-US" sz="3200" spc="-1" strike="noStrike">
                      <a:solidFill>
                        <a:srgbClr val="00cc99"/>
                      </a:solidFill>
                      <a:latin typeface="Comic Sans MS"/>
                    </a:rPr>
                    <a:t>counted</a:t>
                  </a:r>
                  <a:br>
                    <a:rPr sz="3200"/>
                  </a:br>
                  <a:r>
                    <a:rPr b="0" lang="en-US" sz="3200" spc="-1" strike="noStrike">
                      <a:solidFill>
                        <a:srgbClr val="00cc99"/>
                      </a:solidFill>
                      <a:latin typeface="Comic Sans MS"/>
                    </a:rPr>
                    <a:t>price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825440" y="2071800"/>
                  <a:ext cx="1521720" cy="579240"/>
                </a:xfrm>
                <a:prstGeom prst="rect">
                  <a:avLst/>
                </a:prstGeom>
                <a:solidFill>
                  <a:srgbClr val="00cc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3333cc"/>
                      </a:solidFill>
                      <a:latin typeface="Comic Sans MS"/>
                    </a:rPr>
                    <a:t>decreas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6347160" y="2071800"/>
                  <a:ext cx="730080" cy="566640"/>
                </a:xfrm>
                <a:custGeom>
                  <a:avLst/>
                  <a:gdLst>
                    <a:gd name="textAreaLeft" fmla="*/ 0 w 730080"/>
                    <a:gd name="textAreaRight" fmla="*/ 263520 w 730080"/>
                    <a:gd name="textAreaTop" fmla="*/ 14760 h 566640"/>
                    <a:gd name="textAreaBottom" fmla="*/ 551880 h 566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6347160" y="2651040"/>
                  <a:ext cx="730080" cy="2897280"/>
                </a:xfrm>
                <a:custGeom>
                  <a:avLst/>
                  <a:gdLst>
                    <a:gd name="textAreaLeft" fmla="*/ 0 w 730080"/>
                    <a:gd name="textAreaRight" fmla="*/ 263520 w 730080"/>
                    <a:gd name="textAreaTop" fmla="*/ 75240 h 2897280"/>
                    <a:gd name="textAreaBottom" fmla="*/ 2822040 h 2897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7070400" y="2057400"/>
                  <a:ext cx="881640" cy="520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3333cc"/>
                      </a:solidFill>
                      <a:latin typeface="Comic Sans MS"/>
                    </a:rPr>
                    <a:t>25%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7144200" y="3871800"/>
                  <a:ext cx="691200" cy="520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cc99"/>
                      </a:solidFill>
                      <a:latin typeface="Comic Sans MS"/>
                    </a:rPr>
                    <a:t>$??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3" name=""/>
              <p:cNvSpPr/>
              <p:nvPr/>
            </p:nvSpPr>
            <p:spPr>
              <a:xfrm>
                <a:off x="3100320" y="4648320"/>
                <a:ext cx="788760" cy="520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Comic Sans MS"/>
                  </a:rPr>
                  <a:t>$7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4" name=""/>
          <p:cNvSpPr/>
          <p:nvPr/>
        </p:nvSpPr>
        <p:spPr>
          <a:xfrm>
            <a:off x="669960" y="17971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$70 came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25% dis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14600" y="5791320"/>
            <a:ext cx="231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Final pr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685800" y="1752480"/>
            <a:ext cx="7808760" cy="1556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percent of decreas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s 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the initial amou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he amount of de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913680" y="3579840"/>
            <a:ext cx="42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5% x $70 = .25 x $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1600" y="3000240"/>
            <a:ext cx="50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amount of decre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658120" y="3581280"/>
            <a:ext cx="17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$17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52480" y="5745240"/>
            <a:ext cx="30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$70.00 - $17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02720" y="4402080"/>
            <a:ext cx="22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 pr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77720" y="5745240"/>
            <a:ext cx="17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$52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0720" y="5029200"/>
            <a:ext cx="74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itial price – discount (amount of decr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9920" y="121608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815040" y="2027160"/>
            <a:ext cx="74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ounted price = Original price - Dis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100160" y="2844720"/>
            <a:ext cx="27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1p – 0.2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142640" y="3882960"/>
            <a:ext cx="17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0.7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235400" y="389880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(0.75)($7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99400" y="4997520"/>
            <a:ext cx="19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$52.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447920" y="70020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133520" y="2844720"/>
            <a:ext cx="34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(1.00 – 0.25)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16040" y="5607000"/>
            <a:ext cx="77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pay 100% minus the discount percent of the price of the i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33520" y="12952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other way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2133720" y="7002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36160" y="3048120"/>
            <a:ext cx="28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du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14400" y="3962520"/>
            <a:ext cx="7543800" cy="2288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·duc·tio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  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 amount taken away, a subtraction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an I get a tax deduction if I give money to The Cancer Fund?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2133720" y="1457280"/>
            <a:ext cx="4800600" cy="1257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2133720" y="7002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27160" y="1978200"/>
            <a:ext cx="7331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886200" y="197820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ll makes $850 per week (gross income).  30% is deducted each week for income tax, health insurance, and retirement.  How much “real” cash (net income) does he actually receive after the dedu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685800" y="2130480"/>
            <a:ext cx="2971800" cy="335592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3886200" y="198108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ll make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850 per week (gross income)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30% is deduc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ch week for income tax, health insurance, and retirement.  </a:t>
            </a:r>
            <a:r>
              <a:rPr b="0" lang="en-US" sz="2800" spc="-1" strike="noStrike">
                <a:solidFill>
                  <a:srgbClr val="00cc99"/>
                </a:solidFill>
                <a:latin typeface="Comic Sans MS"/>
              </a:rPr>
              <a:t>How much “real” cash (net incom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oes he actually receive after the dedu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77200" y="1203480"/>
            <a:ext cx="3172320" cy="1199880"/>
            <a:chOff x="277200" y="1203480"/>
            <a:chExt cx="3172320" cy="1199880"/>
          </a:xfrm>
        </p:grpSpPr>
        <p:sp>
          <p:nvSpPr>
            <p:cNvPr id="705" name=""/>
            <p:cNvSpPr/>
            <p:nvPr/>
          </p:nvSpPr>
          <p:spPr>
            <a:xfrm rot="20897400">
              <a:off x="307800" y="1498320"/>
              <a:ext cx="297180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20897400">
              <a:off x="304920" y="153648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823320" y="491004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Ask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204920" y="1981080"/>
            <a:ext cx="3945240" cy="1054080"/>
            <a:chOff x="1204920" y="1981080"/>
            <a:chExt cx="3945240" cy="1054080"/>
          </a:xfrm>
        </p:grpSpPr>
        <p:sp>
          <p:nvSpPr>
            <p:cNvPr id="709" name=""/>
            <p:cNvSpPr/>
            <p:nvPr/>
          </p:nvSpPr>
          <p:spPr>
            <a:xfrm>
              <a:off x="1204920" y="2514600"/>
              <a:ext cx="294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deduction = 3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267560" y="1981080"/>
              <a:ext cx="388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gross salary = $500.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6021360" y="37670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3720" y="7002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930960" y="150012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117440" y="5486400"/>
            <a:ext cx="20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net sa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3583800" y="2590920"/>
            <a:ext cx="4844520" cy="3504600"/>
            <a:chOff x="3583800" y="2590920"/>
            <a:chExt cx="4844520" cy="3504600"/>
          </a:xfrm>
        </p:grpSpPr>
        <p:sp>
          <p:nvSpPr>
            <p:cNvPr id="716" name=""/>
            <p:cNvSpPr/>
            <p:nvPr/>
          </p:nvSpPr>
          <p:spPr>
            <a:xfrm>
              <a:off x="4754160" y="2604960"/>
              <a:ext cx="547560" cy="3490560"/>
            </a:xfrm>
            <a:custGeom>
              <a:avLst/>
              <a:gdLst>
                <a:gd name="textAreaLeft" fmla="*/ 349920 w 547560"/>
                <a:gd name="textAreaRight" fmla="*/ 547920 w 547560"/>
                <a:gd name="textAreaTop" fmla="*/ 90720 h 3490560"/>
                <a:gd name="textAreaBottom" fmla="*/ 3399840 h 34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5910"/>
                  </a:lnTo>
                  <a:cubicBezTo>
                    <a:pt x="10800" y="16810"/>
                    <a:pt x="5400" y="17710"/>
                    <a:pt x="0" y="17710"/>
                  </a:cubicBezTo>
                  <a:cubicBezTo>
                    <a:pt x="5400" y="17710"/>
                    <a:pt x="10800" y="18610"/>
                    <a:pt x="10800" y="1951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3583800" y="2590920"/>
              <a:ext cx="4844520" cy="3490200"/>
              <a:chOff x="3583800" y="2590920"/>
              <a:chExt cx="4844520" cy="3490200"/>
            </a:xfrm>
          </p:grpSpPr>
          <p:grpSp>
            <p:nvGrpSpPr>
              <p:cNvPr id="718" name=""/>
              <p:cNvGrpSpPr/>
              <p:nvPr/>
            </p:nvGrpSpPr>
            <p:grpSpPr>
              <a:xfrm>
                <a:off x="5301720" y="2590920"/>
                <a:ext cx="3126600" cy="3490200"/>
                <a:chOff x="5301720" y="2590920"/>
                <a:chExt cx="3126600" cy="349020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5301720" y="2604960"/>
                  <a:ext cx="1521720" cy="3476160"/>
                </a:xfrm>
                <a:prstGeom prst="rect">
                  <a:avLst/>
                </a:prstGeom>
                <a:solidFill>
                  <a:srgbClr val="3333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cc99"/>
                      </a:solidFill>
                      <a:latin typeface="Comic Sans MS"/>
                    </a:rPr>
                    <a:t>Net</a:t>
                  </a:r>
                  <a:br>
                    <a:rPr sz="3200"/>
                  </a:br>
                  <a:r>
                    <a:rPr b="0" lang="en-US" sz="3200" spc="-1" strike="noStrike">
                      <a:solidFill>
                        <a:srgbClr val="00cc99"/>
                      </a:solidFill>
                      <a:latin typeface="Comic Sans MS"/>
                    </a:rPr>
                    <a:t>salary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301720" y="2604960"/>
                  <a:ext cx="1521720" cy="578880"/>
                </a:xfrm>
                <a:prstGeom prst="rect">
                  <a:avLst/>
                </a:prstGeom>
                <a:solidFill>
                  <a:srgbClr val="00cc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cc"/>
                      </a:solidFill>
                      <a:latin typeface="Comic Sans MS"/>
                    </a:rPr>
                    <a:t>deduc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823440" y="2604960"/>
                  <a:ext cx="730080" cy="566280"/>
                </a:xfrm>
                <a:custGeom>
                  <a:avLst/>
                  <a:gdLst>
                    <a:gd name="textAreaLeft" fmla="*/ 0 w 730080"/>
                    <a:gd name="textAreaRight" fmla="*/ 263520 w 730080"/>
                    <a:gd name="textAreaTop" fmla="*/ 14760 h 566280"/>
                    <a:gd name="textAreaBottom" fmla="*/ 551520 h 566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823440" y="3184200"/>
                  <a:ext cx="730080" cy="2896920"/>
                </a:xfrm>
                <a:custGeom>
                  <a:avLst/>
                  <a:gdLst>
                    <a:gd name="textAreaLeft" fmla="*/ 0 w 730080"/>
                    <a:gd name="textAreaRight" fmla="*/ 263520 w 730080"/>
                    <a:gd name="textAreaTop" fmla="*/ 75240 h 2896920"/>
                    <a:gd name="textAreaBottom" fmla="*/ 2821680 h 289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7546680" y="2590920"/>
                  <a:ext cx="881640" cy="520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3333cc"/>
                      </a:solidFill>
                      <a:latin typeface="Comic Sans MS"/>
                    </a:rPr>
                    <a:t>30%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7620480" y="4404960"/>
                  <a:ext cx="691200" cy="520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cc99"/>
                      </a:solidFill>
                      <a:latin typeface="Comic Sans MS"/>
                    </a:rPr>
                    <a:t>$??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5" name=""/>
              <p:cNvSpPr/>
              <p:nvPr/>
            </p:nvSpPr>
            <p:spPr>
              <a:xfrm>
                <a:off x="3583800" y="5181480"/>
                <a:ext cx="991440" cy="520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Comic Sans MS"/>
                  </a:rPr>
                  <a:t>$5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over dir="d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70320" y="1461960"/>
            <a:ext cx="29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duction = 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16840" y="144792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ss salary = $500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25760" y="2178000"/>
            <a:ext cx="654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ount of decrease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inal amount x percent of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87680" y="3429000"/>
            <a:ext cx="329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$500 x 0.30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420160" y="341316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$15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086200" y="4952880"/>
            <a:ext cx="47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duction = $1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54320" y="1503360"/>
            <a:ext cx="49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oss salary = $500.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514800" y="2533680"/>
            <a:ext cx="7960320" cy="605160"/>
            <a:chOff x="514800" y="2533680"/>
            <a:chExt cx="7960320" cy="605160"/>
          </a:xfrm>
        </p:grpSpPr>
        <p:sp>
          <p:nvSpPr>
            <p:cNvPr id="736" name=""/>
            <p:cNvSpPr/>
            <p:nvPr/>
          </p:nvSpPr>
          <p:spPr>
            <a:xfrm>
              <a:off x="514800" y="2557440"/>
              <a:ext cx="335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duction = 30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91760" y="2533680"/>
              <a:ext cx="348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duction = $15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032360" y="2871720"/>
              <a:ext cx="76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642600" y="3352680"/>
            <a:ext cx="79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t salary = gross salary - de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896760" y="4184640"/>
            <a:ext cx="71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t salary =    $500         -     $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563560" y="5257800"/>
            <a:ext cx="42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t salary =    $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09680" y="54100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051560" y="174960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505160" y="2558880"/>
            <a:ext cx="57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es $150 = 30% of $500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10920" y="3662280"/>
            <a:ext cx="133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$15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135960" y="3886200"/>
            <a:ext cx="131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0.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746240" y="3886200"/>
            <a:ext cx="160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0.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687720" y="3946680"/>
            <a:ext cx="160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= 3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199560" y="5195880"/>
            <a:ext cx="103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52400" y="34434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Class 12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perc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the who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he 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621360" y="1556640"/>
            <a:ext cx="1616040" cy="1531800"/>
          </a:xfrm>
          <a:custGeom>
            <a:avLst/>
            <a:gdLst/>
            <a:ahLst/>
            <a:rect l="l" t="t" r="r" b="b"/>
            <a:pathLst>
              <a:path w="2383" h="2526">
                <a:moveTo>
                  <a:pt x="0" y="1236"/>
                </a:moveTo>
                <a:lnTo>
                  <a:pt x="419" y="1250"/>
                </a:lnTo>
                <a:lnTo>
                  <a:pt x="1052" y="1635"/>
                </a:lnTo>
                <a:lnTo>
                  <a:pt x="902" y="1874"/>
                </a:lnTo>
                <a:lnTo>
                  <a:pt x="711" y="2189"/>
                </a:lnTo>
                <a:lnTo>
                  <a:pt x="795" y="2400"/>
                </a:lnTo>
                <a:lnTo>
                  <a:pt x="1081" y="2526"/>
                </a:lnTo>
                <a:lnTo>
                  <a:pt x="1499" y="2498"/>
                </a:lnTo>
                <a:lnTo>
                  <a:pt x="1726" y="2267"/>
                </a:lnTo>
                <a:lnTo>
                  <a:pt x="1942" y="1158"/>
                </a:lnTo>
                <a:lnTo>
                  <a:pt x="2383" y="289"/>
                </a:lnTo>
                <a:lnTo>
                  <a:pt x="2317" y="183"/>
                </a:lnTo>
                <a:lnTo>
                  <a:pt x="1966" y="43"/>
                </a:lnTo>
                <a:lnTo>
                  <a:pt x="1428" y="0"/>
                </a:lnTo>
                <a:lnTo>
                  <a:pt x="789" y="141"/>
                </a:lnTo>
                <a:lnTo>
                  <a:pt x="311" y="568"/>
                </a:lnTo>
                <a:lnTo>
                  <a:pt x="90" y="969"/>
                </a:lnTo>
                <a:lnTo>
                  <a:pt x="0" y="1236"/>
                </a:lnTo>
                <a:lnTo>
                  <a:pt x="0" y="1236"/>
                </a:lnTo>
                <a:close/>
              </a:path>
            </a:pathLst>
          </a:custGeom>
          <a:solidFill>
            <a:srgbClr val="fbd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982800" y="2592360"/>
            <a:ext cx="723600" cy="325440"/>
          </a:xfrm>
          <a:custGeom>
            <a:avLst/>
            <a:gdLst/>
            <a:ahLst/>
            <a:rect l="l" t="t" r="r" b="b"/>
            <a:pathLst>
              <a:path w="1068" h="540">
                <a:moveTo>
                  <a:pt x="0" y="273"/>
                </a:moveTo>
                <a:lnTo>
                  <a:pt x="173" y="471"/>
                </a:lnTo>
                <a:lnTo>
                  <a:pt x="550" y="540"/>
                </a:lnTo>
                <a:lnTo>
                  <a:pt x="926" y="428"/>
                </a:lnTo>
                <a:lnTo>
                  <a:pt x="1068" y="351"/>
                </a:lnTo>
                <a:lnTo>
                  <a:pt x="943" y="148"/>
                </a:lnTo>
                <a:lnTo>
                  <a:pt x="615" y="0"/>
                </a:lnTo>
                <a:lnTo>
                  <a:pt x="298" y="28"/>
                </a:lnTo>
                <a:lnTo>
                  <a:pt x="0" y="273"/>
                </a:lnTo>
                <a:lnTo>
                  <a:pt x="0" y="2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1231200" y="2631240"/>
            <a:ext cx="230040" cy="236520"/>
          </a:xfrm>
          <a:custGeom>
            <a:avLst/>
            <a:gdLst/>
            <a:ahLst/>
            <a:rect l="l" t="t" r="r" b="b"/>
            <a:pathLst>
              <a:path w="341" h="387">
                <a:moveTo>
                  <a:pt x="233" y="0"/>
                </a:moveTo>
                <a:lnTo>
                  <a:pt x="96" y="0"/>
                </a:lnTo>
                <a:lnTo>
                  <a:pt x="0" y="163"/>
                </a:lnTo>
                <a:lnTo>
                  <a:pt x="60" y="330"/>
                </a:lnTo>
                <a:lnTo>
                  <a:pt x="228" y="387"/>
                </a:lnTo>
                <a:lnTo>
                  <a:pt x="341" y="211"/>
                </a:lnTo>
                <a:lnTo>
                  <a:pt x="233" y="0"/>
                </a:lnTo>
                <a:lnTo>
                  <a:pt x="233" y="0"/>
                </a:lnTo>
                <a:close/>
              </a:path>
            </a:pathLst>
          </a:custGeom>
          <a:solidFill>
            <a:srgbClr val="99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1480320" y="1654920"/>
            <a:ext cx="265320" cy="150840"/>
          </a:xfrm>
          <a:custGeom>
            <a:avLst/>
            <a:gdLst/>
            <a:ahLst/>
            <a:rect l="l" t="t" r="r" b="b"/>
            <a:pathLst>
              <a:path w="393" h="250">
                <a:moveTo>
                  <a:pt x="53" y="250"/>
                </a:moveTo>
                <a:lnTo>
                  <a:pt x="0" y="116"/>
                </a:lnTo>
                <a:lnTo>
                  <a:pt x="53" y="0"/>
                </a:lnTo>
                <a:lnTo>
                  <a:pt x="308" y="60"/>
                </a:lnTo>
                <a:lnTo>
                  <a:pt x="371" y="92"/>
                </a:lnTo>
                <a:lnTo>
                  <a:pt x="393" y="122"/>
                </a:lnTo>
                <a:lnTo>
                  <a:pt x="371" y="154"/>
                </a:lnTo>
                <a:lnTo>
                  <a:pt x="308" y="186"/>
                </a:lnTo>
                <a:lnTo>
                  <a:pt x="202" y="218"/>
                </a:lnTo>
                <a:lnTo>
                  <a:pt x="53" y="250"/>
                </a:lnTo>
                <a:lnTo>
                  <a:pt x="53" y="250"/>
                </a:lnTo>
                <a:close/>
              </a:path>
            </a:pathLst>
          </a:custGeom>
          <a:solidFill>
            <a:srgbClr val="d422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1305720" y="2079720"/>
            <a:ext cx="973080" cy="441360"/>
          </a:xfrm>
          <a:custGeom>
            <a:avLst/>
            <a:gdLst/>
            <a:ahLst/>
            <a:rect l="l" t="t" r="r" b="b"/>
            <a:pathLst>
              <a:path w="1434" h="727">
                <a:moveTo>
                  <a:pt x="38" y="406"/>
                </a:moveTo>
                <a:lnTo>
                  <a:pt x="228" y="394"/>
                </a:lnTo>
                <a:lnTo>
                  <a:pt x="483" y="411"/>
                </a:lnTo>
                <a:lnTo>
                  <a:pt x="622" y="478"/>
                </a:lnTo>
                <a:lnTo>
                  <a:pt x="701" y="528"/>
                </a:lnTo>
                <a:lnTo>
                  <a:pt x="779" y="582"/>
                </a:lnTo>
                <a:lnTo>
                  <a:pt x="857" y="633"/>
                </a:lnTo>
                <a:lnTo>
                  <a:pt x="931" y="679"/>
                </a:lnTo>
                <a:lnTo>
                  <a:pt x="998" y="711"/>
                </a:lnTo>
                <a:lnTo>
                  <a:pt x="1055" y="727"/>
                </a:lnTo>
                <a:lnTo>
                  <a:pt x="1202" y="708"/>
                </a:lnTo>
                <a:lnTo>
                  <a:pt x="1323" y="616"/>
                </a:lnTo>
                <a:lnTo>
                  <a:pt x="1403" y="474"/>
                </a:lnTo>
                <a:lnTo>
                  <a:pt x="1434" y="305"/>
                </a:lnTo>
                <a:lnTo>
                  <a:pt x="1413" y="164"/>
                </a:lnTo>
                <a:lnTo>
                  <a:pt x="1388" y="108"/>
                </a:lnTo>
                <a:lnTo>
                  <a:pt x="1354" y="64"/>
                </a:lnTo>
                <a:lnTo>
                  <a:pt x="1313" y="28"/>
                </a:lnTo>
                <a:lnTo>
                  <a:pt x="1264" y="6"/>
                </a:lnTo>
                <a:lnTo>
                  <a:pt x="1144" y="0"/>
                </a:lnTo>
                <a:lnTo>
                  <a:pt x="1051" y="44"/>
                </a:lnTo>
                <a:lnTo>
                  <a:pt x="983" y="136"/>
                </a:lnTo>
                <a:lnTo>
                  <a:pt x="943" y="246"/>
                </a:lnTo>
                <a:lnTo>
                  <a:pt x="932" y="344"/>
                </a:lnTo>
                <a:lnTo>
                  <a:pt x="943" y="385"/>
                </a:lnTo>
                <a:lnTo>
                  <a:pt x="966" y="413"/>
                </a:lnTo>
                <a:lnTo>
                  <a:pt x="1034" y="431"/>
                </a:lnTo>
                <a:lnTo>
                  <a:pt x="1101" y="399"/>
                </a:lnTo>
                <a:lnTo>
                  <a:pt x="1136" y="321"/>
                </a:lnTo>
                <a:lnTo>
                  <a:pt x="1127" y="249"/>
                </a:lnTo>
                <a:lnTo>
                  <a:pt x="1104" y="206"/>
                </a:lnTo>
                <a:lnTo>
                  <a:pt x="1074" y="149"/>
                </a:lnTo>
                <a:lnTo>
                  <a:pt x="1085" y="115"/>
                </a:lnTo>
                <a:lnTo>
                  <a:pt x="1109" y="89"/>
                </a:lnTo>
                <a:lnTo>
                  <a:pt x="1168" y="66"/>
                </a:lnTo>
                <a:lnTo>
                  <a:pt x="1235" y="87"/>
                </a:lnTo>
                <a:lnTo>
                  <a:pt x="1287" y="138"/>
                </a:lnTo>
                <a:lnTo>
                  <a:pt x="1335" y="288"/>
                </a:lnTo>
                <a:lnTo>
                  <a:pt x="1323" y="384"/>
                </a:lnTo>
                <a:lnTo>
                  <a:pt x="1290" y="476"/>
                </a:lnTo>
                <a:lnTo>
                  <a:pt x="1266" y="515"/>
                </a:lnTo>
                <a:lnTo>
                  <a:pt x="1240" y="550"/>
                </a:lnTo>
                <a:lnTo>
                  <a:pt x="1211" y="574"/>
                </a:lnTo>
                <a:lnTo>
                  <a:pt x="1178" y="588"/>
                </a:lnTo>
                <a:lnTo>
                  <a:pt x="1030" y="573"/>
                </a:lnTo>
                <a:lnTo>
                  <a:pt x="961" y="536"/>
                </a:lnTo>
                <a:lnTo>
                  <a:pt x="894" y="489"/>
                </a:lnTo>
                <a:lnTo>
                  <a:pt x="830" y="436"/>
                </a:lnTo>
                <a:lnTo>
                  <a:pt x="768" y="384"/>
                </a:lnTo>
                <a:lnTo>
                  <a:pt x="709" y="338"/>
                </a:lnTo>
                <a:lnTo>
                  <a:pt x="653" y="305"/>
                </a:lnTo>
                <a:lnTo>
                  <a:pt x="537" y="264"/>
                </a:lnTo>
                <a:lnTo>
                  <a:pt x="408" y="235"/>
                </a:lnTo>
                <a:lnTo>
                  <a:pt x="141" y="227"/>
                </a:lnTo>
                <a:lnTo>
                  <a:pt x="75" y="260"/>
                </a:lnTo>
                <a:lnTo>
                  <a:pt x="0" y="370"/>
                </a:lnTo>
                <a:lnTo>
                  <a:pt x="38" y="406"/>
                </a:lnTo>
                <a:lnTo>
                  <a:pt x="38" y="4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95080" y="1523880"/>
            <a:ext cx="1684080" cy="1586160"/>
          </a:xfrm>
          <a:custGeom>
            <a:avLst/>
            <a:gdLst/>
            <a:ahLst/>
            <a:rect l="l" t="t" r="r" b="b"/>
            <a:pathLst>
              <a:path w="2484" h="2618">
                <a:moveTo>
                  <a:pt x="141" y="1270"/>
                </a:moveTo>
                <a:lnTo>
                  <a:pt x="184" y="1121"/>
                </a:lnTo>
                <a:lnTo>
                  <a:pt x="212" y="1040"/>
                </a:lnTo>
                <a:lnTo>
                  <a:pt x="245" y="956"/>
                </a:lnTo>
                <a:lnTo>
                  <a:pt x="284" y="869"/>
                </a:lnTo>
                <a:lnTo>
                  <a:pt x="331" y="782"/>
                </a:lnTo>
                <a:lnTo>
                  <a:pt x="385" y="694"/>
                </a:lnTo>
                <a:lnTo>
                  <a:pt x="449" y="608"/>
                </a:lnTo>
                <a:lnTo>
                  <a:pt x="523" y="525"/>
                </a:lnTo>
                <a:lnTo>
                  <a:pt x="608" y="446"/>
                </a:lnTo>
                <a:lnTo>
                  <a:pt x="655" y="408"/>
                </a:lnTo>
                <a:lnTo>
                  <a:pt x="705" y="371"/>
                </a:lnTo>
                <a:lnTo>
                  <a:pt x="758" y="337"/>
                </a:lnTo>
                <a:lnTo>
                  <a:pt x="814" y="303"/>
                </a:lnTo>
                <a:lnTo>
                  <a:pt x="874" y="273"/>
                </a:lnTo>
                <a:lnTo>
                  <a:pt x="937" y="243"/>
                </a:lnTo>
                <a:lnTo>
                  <a:pt x="1003" y="217"/>
                </a:lnTo>
                <a:lnTo>
                  <a:pt x="1074" y="191"/>
                </a:lnTo>
                <a:lnTo>
                  <a:pt x="1227" y="149"/>
                </a:lnTo>
                <a:lnTo>
                  <a:pt x="1396" y="118"/>
                </a:lnTo>
                <a:lnTo>
                  <a:pt x="1641" y="102"/>
                </a:lnTo>
                <a:lnTo>
                  <a:pt x="1909" y="122"/>
                </a:lnTo>
                <a:lnTo>
                  <a:pt x="2170" y="190"/>
                </a:lnTo>
                <a:lnTo>
                  <a:pt x="2289" y="243"/>
                </a:lnTo>
                <a:lnTo>
                  <a:pt x="2394" y="314"/>
                </a:lnTo>
                <a:lnTo>
                  <a:pt x="2388" y="348"/>
                </a:lnTo>
                <a:lnTo>
                  <a:pt x="2349" y="425"/>
                </a:lnTo>
                <a:lnTo>
                  <a:pt x="2320" y="476"/>
                </a:lnTo>
                <a:lnTo>
                  <a:pt x="2288" y="533"/>
                </a:lnTo>
                <a:lnTo>
                  <a:pt x="2251" y="597"/>
                </a:lnTo>
                <a:lnTo>
                  <a:pt x="2212" y="665"/>
                </a:lnTo>
                <a:lnTo>
                  <a:pt x="2170" y="736"/>
                </a:lnTo>
                <a:lnTo>
                  <a:pt x="2128" y="809"/>
                </a:lnTo>
                <a:lnTo>
                  <a:pt x="2087" y="884"/>
                </a:lnTo>
                <a:lnTo>
                  <a:pt x="2047" y="957"/>
                </a:lnTo>
                <a:lnTo>
                  <a:pt x="2010" y="1030"/>
                </a:lnTo>
                <a:lnTo>
                  <a:pt x="1977" y="1099"/>
                </a:lnTo>
                <a:lnTo>
                  <a:pt x="1926" y="1225"/>
                </a:lnTo>
                <a:lnTo>
                  <a:pt x="1860" y="1467"/>
                </a:lnTo>
                <a:lnTo>
                  <a:pt x="1808" y="1726"/>
                </a:lnTo>
                <a:lnTo>
                  <a:pt x="1761" y="1989"/>
                </a:lnTo>
                <a:lnTo>
                  <a:pt x="1712" y="2242"/>
                </a:lnTo>
                <a:lnTo>
                  <a:pt x="1697" y="2285"/>
                </a:lnTo>
                <a:lnTo>
                  <a:pt x="1669" y="2339"/>
                </a:lnTo>
                <a:lnTo>
                  <a:pt x="1635" y="2389"/>
                </a:lnTo>
                <a:lnTo>
                  <a:pt x="1604" y="2419"/>
                </a:lnTo>
                <a:lnTo>
                  <a:pt x="1550" y="2451"/>
                </a:lnTo>
                <a:lnTo>
                  <a:pt x="1483" y="2481"/>
                </a:lnTo>
                <a:lnTo>
                  <a:pt x="1358" y="2509"/>
                </a:lnTo>
                <a:lnTo>
                  <a:pt x="1057" y="2477"/>
                </a:lnTo>
                <a:lnTo>
                  <a:pt x="936" y="2419"/>
                </a:lnTo>
                <a:lnTo>
                  <a:pt x="870" y="2308"/>
                </a:lnTo>
                <a:lnTo>
                  <a:pt x="872" y="2183"/>
                </a:lnTo>
                <a:lnTo>
                  <a:pt x="892" y="2119"/>
                </a:lnTo>
                <a:lnTo>
                  <a:pt x="920" y="2056"/>
                </a:lnTo>
                <a:lnTo>
                  <a:pt x="958" y="1993"/>
                </a:lnTo>
                <a:lnTo>
                  <a:pt x="1001" y="1933"/>
                </a:lnTo>
                <a:lnTo>
                  <a:pt x="1050" y="1877"/>
                </a:lnTo>
                <a:lnTo>
                  <a:pt x="1102" y="1825"/>
                </a:lnTo>
                <a:lnTo>
                  <a:pt x="1163" y="1766"/>
                </a:lnTo>
                <a:lnTo>
                  <a:pt x="1234" y="1692"/>
                </a:lnTo>
                <a:lnTo>
                  <a:pt x="1308" y="1604"/>
                </a:lnTo>
                <a:lnTo>
                  <a:pt x="1377" y="1502"/>
                </a:lnTo>
                <a:lnTo>
                  <a:pt x="1045" y="1664"/>
                </a:lnTo>
                <a:lnTo>
                  <a:pt x="1030" y="1742"/>
                </a:lnTo>
                <a:lnTo>
                  <a:pt x="995" y="1822"/>
                </a:lnTo>
                <a:lnTo>
                  <a:pt x="946" y="1905"/>
                </a:lnTo>
                <a:lnTo>
                  <a:pt x="890" y="1987"/>
                </a:lnTo>
                <a:lnTo>
                  <a:pt x="834" y="2068"/>
                </a:lnTo>
                <a:lnTo>
                  <a:pt x="785" y="2150"/>
                </a:lnTo>
                <a:lnTo>
                  <a:pt x="739" y="2302"/>
                </a:lnTo>
                <a:lnTo>
                  <a:pt x="746" y="2350"/>
                </a:lnTo>
                <a:lnTo>
                  <a:pt x="767" y="2396"/>
                </a:lnTo>
                <a:lnTo>
                  <a:pt x="797" y="2441"/>
                </a:lnTo>
                <a:lnTo>
                  <a:pt x="836" y="2481"/>
                </a:lnTo>
                <a:lnTo>
                  <a:pt x="879" y="2516"/>
                </a:lnTo>
                <a:lnTo>
                  <a:pt x="921" y="2546"/>
                </a:lnTo>
                <a:lnTo>
                  <a:pt x="998" y="2580"/>
                </a:lnTo>
                <a:lnTo>
                  <a:pt x="1128" y="2604"/>
                </a:lnTo>
                <a:lnTo>
                  <a:pt x="1270" y="2618"/>
                </a:lnTo>
                <a:lnTo>
                  <a:pt x="1537" y="2597"/>
                </a:lnTo>
                <a:lnTo>
                  <a:pt x="1639" y="2552"/>
                </a:lnTo>
                <a:lnTo>
                  <a:pt x="1733" y="2467"/>
                </a:lnTo>
                <a:lnTo>
                  <a:pt x="1812" y="2357"/>
                </a:lnTo>
                <a:lnTo>
                  <a:pt x="1869" y="2236"/>
                </a:lnTo>
                <a:lnTo>
                  <a:pt x="1931" y="2006"/>
                </a:lnTo>
                <a:lnTo>
                  <a:pt x="1977" y="1746"/>
                </a:lnTo>
                <a:lnTo>
                  <a:pt x="2018" y="1483"/>
                </a:lnTo>
                <a:lnTo>
                  <a:pt x="2042" y="1359"/>
                </a:lnTo>
                <a:lnTo>
                  <a:pt x="2067" y="1247"/>
                </a:lnTo>
                <a:lnTo>
                  <a:pt x="2104" y="1134"/>
                </a:lnTo>
                <a:lnTo>
                  <a:pt x="2152" y="1022"/>
                </a:lnTo>
                <a:lnTo>
                  <a:pt x="2208" y="908"/>
                </a:lnTo>
                <a:lnTo>
                  <a:pt x="2268" y="796"/>
                </a:lnTo>
                <a:lnTo>
                  <a:pt x="2299" y="739"/>
                </a:lnTo>
                <a:lnTo>
                  <a:pt x="2330" y="682"/>
                </a:lnTo>
                <a:lnTo>
                  <a:pt x="2388" y="569"/>
                </a:lnTo>
                <a:lnTo>
                  <a:pt x="2440" y="455"/>
                </a:lnTo>
                <a:lnTo>
                  <a:pt x="2484" y="342"/>
                </a:lnTo>
                <a:lnTo>
                  <a:pt x="2471" y="255"/>
                </a:lnTo>
                <a:lnTo>
                  <a:pt x="2446" y="175"/>
                </a:lnTo>
                <a:lnTo>
                  <a:pt x="2377" y="146"/>
                </a:lnTo>
                <a:lnTo>
                  <a:pt x="2309" y="122"/>
                </a:lnTo>
                <a:lnTo>
                  <a:pt x="2170" y="79"/>
                </a:lnTo>
                <a:lnTo>
                  <a:pt x="2030" y="46"/>
                </a:lnTo>
                <a:lnTo>
                  <a:pt x="1890" y="23"/>
                </a:lnTo>
                <a:lnTo>
                  <a:pt x="1610" y="0"/>
                </a:lnTo>
                <a:lnTo>
                  <a:pt x="1335" y="7"/>
                </a:lnTo>
                <a:lnTo>
                  <a:pt x="1067" y="57"/>
                </a:lnTo>
                <a:lnTo>
                  <a:pt x="941" y="102"/>
                </a:lnTo>
                <a:lnTo>
                  <a:pt x="819" y="158"/>
                </a:lnTo>
                <a:lnTo>
                  <a:pt x="760" y="190"/>
                </a:lnTo>
                <a:lnTo>
                  <a:pt x="703" y="224"/>
                </a:lnTo>
                <a:lnTo>
                  <a:pt x="647" y="261"/>
                </a:lnTo>
                <a:lnTo>
                  <a:pt x="593" y="300"/>
                </a:lnTo>
                <a:lnTo>
                  <a:pt x="541" y="342"/>
                </a:lnTo>
                <a:lnTo>
                  <a:pt x="491" y="385"/>
                </a:lnTo>
                <a:lnTo>
                  <a:pt x="396" y="477"/>
                </a:lnTo>
                <a:lnTo>
                  <a:pt x="309" y="575"/>
                </a:lnTo>
                <a:lnTo>
                  <a:pt x="232" y="679"/>
                </a:lnTo>
                <a:lnTo>
                  <a:pt x="197" y="732"/>
                </a:lnTo>
                <a:lnTo>
                  <a:pt x="164" y="786"/>
                </a:lnTo>
                <a:lnTo>
                  <a:pt x="108" y="897"/>
                </a:lnTo>
                <a:lnTo>
                  <a:pt x="28" y="1123"/>
                </a:lnTo>
                <a:lnTo>
                  <a:pt x="0" y="1347"/>
                </a:lnTo>
                <a:lnTo>
                  <a:pt x="141" y="1270"/>
                </a:lnTo>
                <a:lnTo>
                  <a:pt x="141" y="12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899280" y="2561400"/>
            <a:ext cx="854280" cy="392040"/>
          </a:xfrm>
          <a:custGeom>
            <a:avLst/>
            <a:gdLst/>
            <a:ahLst/>
            <a:rect l="l" t="t" r="r" b="b"/>
            <a:pathLst>
              <a:path w="1258" h="646">
                <a:moveTo>
                  <a:pt x="1055" y="465"/>
                </a:moveTo>
                <a:lnTo>
                  <a:pt x="1001" y="498"/>
                </a:lnTo>
                <a:lnTo>
                  <a:pt x="943" y="531"/>
                </a:lnTo>
                <a:lnTo>
                  <a:pt x="881" y="562"/>
                </a:lnTo>
                <a:lnTo>
                  <a:pt x="816" y="588"/>
                </a:lnTo>
                <a:lnTo>
                  <a:pt x="677" y="629"/>
                </a:lnTo>
                <a:lnTo>
                  <a:pt x="535" y="646"/>
                </a:lnTo>
                <a:lnTo>
                  <a:pt x="390" y="632"/>
                </a:lnTo>
                <a:lnTo>
                  <a:pt x="250" y="577"/>
                </a:lnTo>
                <a:lnTo>
                  <a:pt x="182" y="532"/>
                </a:lnTo>
                <a:lnTo>
                  <a:pt x="118" y="476"/>
                </a:lnTo>
                <a:lnTo>
                  <a:pt x="57" y="405"/>
                </a:lnTo>
                <a:lnTo>
                  <a:pt x="0" y="320"/>
                </a:lnTo>
                <a:lnTo>
                  <a:pt x="30" y="276"/>
                </a:lnTo>
                <a:lnTo>
                  <a:pt x="62" y="235"/>
                </a:lnTo>
                <a:lnTo>
                  <a:pt x="128" y="163"/>
                </a:lnTo>
                <a:lnTo>
                  <a:pt x="163" y="133"/>
                </a:lnTo>
                <a:lnTo>
                  <a:pt x="200" y="106"/>
                </a:lnTo>
                <a:lnTo>
                  <a:pt x="275" y="61"/>
                </a:lnTo>
                <a:lnTo>
                  <a:pt x="354" y="29"/>
                </a:lnTo>
                <a:lnTo>
                  <a:pt x="436" y="9"/>
                </a:lnTo>
                <a:lnTo>
                  <a:pt x="605" y="0"/>
                </a:lnTo>
                <a:lnTo>
                  <a:pt x="776" y="28"/>
                </a:lnTo>
                <a:lnTo>
                  <a:pt x="946" y="91"/>
                </a:lnTo>
                <a:lnTo>
                  <a:pt x="1029" y="133"/>
                </a:lnTo>
                <a:lnTo>
                  <a:pt x="1108" y="180"/>
                </a:lnTo>
                <a:lnTo>
                  <a:pt x="1185" y="234"/>
                </a:lnTo>
                <a:lnTo>
                  <a:pt x="1258" y="292"/>
                </a:lnTo>
                <a:lnTo>
                  <a:pt x="1197" y="361"/>
                </a:lnTo>
                <a:lnTo>
                  <a:pt x="1140" y="425"/>
                </a:lnTo>
                <a:lnTo>
                  <a:pt x="1088" y="375"/>
                </a:lnTo>
                <a:lnTo>
                  <a:pt x="1032" y="328"/>
                </a:lnTo>
                <a:lnTo>
                  <a:pt x="973" y="283"/>
                </a:lnTo>
                <a:lnTo>
                  <a:pt x="911" y="241"/>
                </a:lnTo>
                <a:lnTo>
                  <a:pt x="848" y="203"/>
                </a:lnTo>
                <a:lnTo>
                  <a:pt x="784" y="171"/>
                </a:lnTo>
                <a:lnTo>
                  <a:pt x="718" y="144"/>
                </a:lnTo>
                <a:lnTo>
                  <a:pt x="651" y="125"/>
                </a:lnTo>
                <a:lnTo>
                  <a:pt x="518" y="111"/>
                </a:lnTo>
                <a:lnTo>
                  <a:pt x="387" y="134"/>
                </a:lnTo>
                <a:lnTo>
                  <a:pt x="264" y="204"/>
                </a:lnTo>
                <a:lnTo>
                  <a:pt x="151" y="325"/>
                </a:lnTo>
                <a:lnTo>
                  <a:pt x="181" y="378"/>
                </a:lnTo>
                <a:lnTo>
                  <a:pt x="219" y="421"/>
                </a:lnTo>
                <a:lnTo>
                  <a:pt x="265" y="454"/>
                </a:lnTo>
                <a:lnTo>
                  <a:pt x="317" y="481"/>
                </a:lnTo>
                <a:lnTo>
                  <a:pt x="435" y="513"/>
                </a:lnTo>
                <a:lnTo>
                  <a:pt x="566" y="522"/>
                </a:lnTo>
                <a:lnTo>
                  <a:pt x="833" y="499"/>
                </a:lnTo>
                <a:lnTo>
                  <a:pt x="1055" y="465"/>
                </a:lnTo>
                <a:lnTo>
                  <a:pt x="1055" y="4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1324080" y="2780640"/>
            <a:ext cx="69840" cy="74520"/>
          </a:xfrm>
          <a:custGeom>
            <a:avLst/>
            <a:gdLst/>
            <a:ahLst/>
            <a:rect l="l" t="t" r="r" b="b"/>
            <a:pathLst>
              <a:path w="103" h="122">
                <a:moveTo>
                  <a:pt x="52" y="0"/>
                </a:moveTo>
                <a:lnTo>
                  <a:pt x="88" y="19"/>
                </a:lnTo>
                <a:lnTo>
                  <a:pt x="103" y="61"/>
                </a:lnTo>
                <a:lnTo>
                  <a:pt x="88" y="104"/>
                </a:lnTo>
                <a:lnTo>
                  <a:pt x="52" y="122"/>
                </a:lnTo>
                <a:lnTo>
                  <a:pt x="15" y="104"/>
                </a:lnTo>
                <a:lnTo>
                  <a:pt x="0" y="61"/>
                </a:lnTo>
                <a:lnTo>
                  <a:pt x="15" y="19"/>
                </a:lnTo>
                <a:lnTo>
                  <a:pt x="52" y="0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1208160" y="2617200"/>
            <a:ext cx="185760" cy="290520"/>
          </a:xfrm>
          <a:custGeom>
            <a:avLst/>
            <a:gdLst/>
            <a:ahLst/>
            <a:rect l="l" t="t" r="r" b="b"/>
            <a:pathLst>
              <a:path w="275" h="478">
                <a:moveTo>
                  <a:pt x="72" y="478"/>
                </a:moveTo>
                <a:lnTo>
                  <a:pt x="0" y="423"/>
                </a:lnTo>
                <a:lnTo>
                  <a:pt x="72" y="373"/>
                </a:lnTo>
                <a:lnTo>
                  <a:pt x="154" y="332"/>
                </a:lnTo>
                <a:lnTo>
                  <a:pt x="190" y="234"/>
                </a:lnTo>
                <a:lnTo>
                  <a:pt x="180" y="180"/>
                </a:lnTo>
                <a:lnTo>
                  <a:pt x="154" y="134"/>
                </a:lnTo>
                <a:lnTo>
                  <a:pt x="116" y="101"/>
                </a:lnTo>
                <a:lnTo>
                  <a:pt x="72" y="90"/>
                </a:lnTo>
                <a:lnTo>
                  <a:pt x="0" y="50"/>
                </a:lnTo>
                <a:lnTo>
                  <a:pt x="72" y="0"/>
                </a:lnTo>
                <a:lnTo>
                  <a:pt x="152" y="19"/>
                </a:lnTo>
                <a:lnTo>
                  <a:pt x="216" y="69"/>
                </a:lnTo>
                <a:lnTo>
                  <a:pt x="259" y="146"/>
                </a:lnTo>
                <a:lnTo>
                  <a:pt x="275" y="239"/>
                </a:lnTo>
                <a:lnTo>
                  <a:pt x="259" y="332"/>
                </a:lnTo>
                <a:lnTo>
                  <a:pt x="241" y="374"/>
                </a:lnTo>
                <a:lnTo>
                  <a:pt x="216" y="409"/>
                </a:lnTo>
                <a:lnTo>
                  <a:pt x="185" y="438"/>
                </a:lnTo>
                <a:lnTo>
                  <a:pt x="152" y="460"/>
                </a:lnTo>
                <a:lnTo>
                  <a:pt x="72" y="478"/>
                </a:lnTo>
                <a:lnTo>
                  <a:pt x="72" y="4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1297080" y="2617200"/>
            <a:ext cx="187200" cy="290520"/>
          </a:xfrm>
          <a:custGeom>
            <a:avLst/>
            <a:gdLst/>
            <a:ahLst/>
            <a:rect l="l" t="t" r="r" b="b"/>
            <a:pathLst>
              <a:path w="275" h="478">
                <a:moveTo>
                  <a:pt x="204" y="478"/>
                </a:moveTo>
                <a:lnTo>
                  <a:pt x="275" y="423"/>
                </a:lnTo>
                <a:lnTo>
                  <a:pt x="204" y="373"/>
                </a:lnTo>
                <a:lnTo>
                  <a:pt x="124" y="332"/>
                </a:lnTo>
                <a:lnTo>
                  <a:pt x="90" y="234"/>
                </a:lnTo>
                <a:lnTo>
                  <a:pt x="100" y="180"/>
                </a:lnTo>
                <a:lnTo>
                  <a:pt x="124" y="134"/>
                </a:lnTo>
                <a:lnTo>
                  <a:pt x="160" y="101"/>
                </a:lnTo>
                <a:lnTo>
                  <a:pt x="204" y="90"/>
                </a:lnTo>
                <a:lnTo>
                  <a:pt x="275" y="50"/>
                </a:lnTo>
                <a:lnTo>
                  <a:pt x="204" y="0"/>
                </a:lnTo>
                <a:lnTo>
                  <a:pt x="124" y="19"/>
                </a:lnTo>
                <a:lnTo>
                  <a:pt x="60" y="69"/>
                </a:lnTo>
                <a:lnTo>
                  <a:pt x="16" y="146"/>
                </a:lnTo>
                <a:lnTo>
                  <a:pt x="0" y="239"/>
                </a:lnTo>
                <a:lnTo>
                  <a:pt x="16" y="332"/>
                </a:lnTo>
                <a:lnTo>
                  <a:pt x="35" y="374"/>
                </a:lnTo>
                <a:lnTo>
                  <a:pt x="60" y="409"/>
                </a:lnTo>
                <a:lnTo>
                  <a:pt x="90" y="438"/>
                </a:lnTo>
                <a:lnTo>
                  <a:pt x="124" y="460"/>
                </a:lnTo>
                <a:lnTo>
                  <a:pt x="204" y="478"/>
                </a:lnTo>
                <a:lnTo>
                  <a:pt x="204" y="4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825480" y="2705040"/>
            <a:ext cx="295200" cy="239760"/>
          </a:xfrm>
          <a:custGeom>
            <a:avLst/>
            <a:gdLst/>
            <a:ahLst/>
            <a:rect l="l" t="t" r="r" b="b"/>
            <a:pathLst>
              <a:path w="435" h="394">
                <a:moveTo>
                  <a:pt x="218" y="394"/>
                </a:moveTo>
                <a:lnTo>
                  <a:pt x="435" y="177"/>
                </a:lnTo>
                <a:lnTo>
                  <a:pt x="256" y="212"/>
                </a:lnTo>
                <a:lnTo>
                  <a:pt x="302" y="61"/>
                </a:lnTo>
                <a:lnTo>
                  <a:pt x="137" y="144"/>
                </a:lnTo>
                <a:lnTo>
                  <a:pt x="157" y="0"/>
                </a:lnTo>
                <a:lnTo>
                  <a:pt x="0" y="106"/>
                </a:lnTo>
                <a:lnTo>
                  <a:pt x="218" y="394"/>
                </a:lnTo>
                <a:lnTo>
                  <a:pt x="218" y="3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1185120" y="3075120"/>
            <a:ext cx="104760" cy="196560"/>
          </a:xfrm>
          <a:custGeom>
            <a:avLst/>
            <a:gdLst/>
            <a:ahLst/>
            <a:rect l="l" t="t" r="r" b="b"/>
            <a:pathLst>
              <a:path w="154" h="325">
                <a:moveTo>
                  <a:pt x="13" y="311"/>
                </a:moveTo>
                <a:lnTo>
                  <a:pt x="0" y="213"/>
                </a:lnTo>
                <a:lnTo>
                  <a:pt x="18" y="116"/>
                </a:lnTo>
                <a:lnTo>
                  <a:pt x="41" y="72"/>
                </a:lnTo>
                <a:lnTo>
                  <a:pt x="72" y="33"/>
                </a:lnTo>
                <a:lnTo>
                  <a:pt x="107" y="5"/>
                </a:lnTo>
                <a:lnTo>
                  <a:pt x="146" y="0"/>
                </a:lnTo>
                <a:lnTo>
                  <a:pt x="154" y="16"/>
                </a:lnTo>
                <a:lnTo>
                  <a:pt x="136" y="52"/>
                </a:lnTo>
                <a:lnTo>
                  <a:pt x="89" y="132"/>
                </a:lnTo>
                <a:lnTo>
                  <a:pt x="85" y="305"/>
                </a:lnTo>
                <a:lnTo>
                  <a:pt x="49" y="325"/>
                </a:lnTo>
                <a:lnTo>
                  <a:pt x="13" y="311"/>
                </a:lnTo>
                <a:lnTo>
                  <a:pt x="13" y="3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1024920" y="3083040"/>
            <a:ext cx="122040" cy="188640"/>
          </a:xfrm>
          <a:custGeom>
            <a:avLst/>
            <a:gdLst/>
            <a:ahLst/>
            <a:rect l="l" t="t" r="r" b="b"/>
            <a:pathLst>
              <a:path w="183" h="311">
                <a:moveTo>
                  <a:pt x="7" y="305"/>
                </a:moveTo>
                <a:lnTo>
                  <a:pt x="0" y="205"/>
                </a:lnTo>
                <a:lnTo>
                  <a:pt x="26" y="111"/>
                </a:lnTo>
                <a:lnTo>
                  <a:pt x="55" y="66"/>
                </a:lnTo>
                <a:lnTo>
                  <a:pt x="92" y="26"/>
                </a:lnTo>
                <a:lnTo>
                  <a:pt x="135" y="0"/>
                </a:lnTo>
                <a:lnTo>
                  <a:pt x="177" y="0"/>
                </a:lnTo>
                <a:lnTo>
                  <a:pt x="183" y="17"/>
                </a:lnTo>
                <a:lnTo>
                  <a:pt x="156" y="52"/>
                </a:lnTo>
                <a:lnTo>
                  <a:pt x="97" y="132"/>
                </a:lnTo>
                <a:lnTo>
                  <a:pt x="73" y="311"/>
                </a:lnTo>
                <a:lnTo>
                  <a:pt x="7" y="305"/>
                </a:lnTo>
                <a:lnTo>
                  <a:pt x="7" y="3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861840" y="3083040"/>
            <a:ext cx="146160" cy="193680"/>
          </a:xfrm>
          <a:custGeom>
            <a:avLst/>
            <a:gdLst/>
            <a:ahLst/>
            <a:rect l="l" t="t" r="r" b="b"/>
            <a:pathLst>
              <a:path w="217" h="320">
                <a:moveTo>
                  <a:pt x="0" y="308"/>
                </a:moveTo>
                <a:lnTo>
                  <a:pt x="5" y="206"/>
                </a:lnTo>
                <a:lnTo>
                  <a:pt x="38" y="108"/>
                </a:lnTo>
                <a:lnTo>
                  <a:pt x="73" y="65"/>
                </a:lnTo>
                <a:lnTo>
                  <a:pt x="118" y="24"/>
                </a:lnTo>
                <a:lnTo>
                  <a:pt x="166" y="0"/>
                </a:lnTo>
                <a:lnTo>
                  <a:pt x="209" y="3"/>
                </a:lnTo>
                <a:lnTo>
                  <a:pt x="217" y="29"/>
                </a:lnTo>
                <a:lnTo>
                  <a:pt x="185" y="63"/>
                </a:lnTo>
                <a:lnTo>
                  <a:pt x="109" y="141"/>
                </a:lnTo>
                <a:lnTo>
                  <a:pt x="62" y="320"/>
                </a:lnTo>
                <a:lnTo>
                  <a:pt x="0" y="308"/>
                </a:lnTo>
                <a:lnTo>
                  <a:pt x="0" y="3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701640" y="3042360"/>
            <a:ext cx="169920" cy="203400"/>
          </a:xfrm>
          <a:custGeom>
            <a:avLst/>
            <a:gdLst/>
            <a:ahLst/>
            <a:rect l="l" t="t" r="r" b="b"/>
            <a:pathLst>
              <a:path w="251" h="336">
                <a:moveTo>
                  <a:pt x="0" y="314"/>
                </a:moveTo>
                <a:lnTo>
                  <a:pt x="9" y="206"/>
                </a:lnTo>
                <a:lnTo>
                  <a:pt x="25" y="154"/>
                </a:lnTo>
                <a:lnTo>
                  <a:pt x="52" y="109"/>
                </a:lnTo>
                <a:lnTo>
                  <a:pt x="94" y="64"/>
                </a:lnTo>
                <a:lnTo>
                  <a:pt x="146" y="23"/>
                </a:lnTo>
                <a:lnTo>
                  <a:pt x="199" y="0"/>
                </a:lnTo>
                <a:lnTo>
                  <a:pt x="246" y="9"/>
                </a:lnTo>
                <a:lnTo>
                  <a:pt x="251" y="37"/>
                </a:lnTo>
                <a:lnTo>
                  <a:pt x="212" y="71"/>
                </a:lnTo>
                <a:lnTo>
                  <a:pt x="159" y="108"/>
                </a:lnTo>
                <a:lnTo>
                  <a:pt x="118" y="148"/>
                </a:lnTo>
                <a:lnTo>
                  <a:pt x="56" y="331"/>
                </a:lnTo>
                <a:lnTo>
                  <a:pt x="24" y="336"/>
                </a:lnTo>
                <a:lnTo>
                  <a:pt x="0" y="314"/>
                </a:lnTo>
                <a:lnTo>
                  <a:pt x="0" y="3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557280" y="2990880"/>
            <a:ext cx="195120" cy="208080"/>
          </a:xfrm>
          <a:custGeom>
            <a:avLst/>
            <a:gdLst/>
            <a:ahLst/>
            <a:rect l="l" t="t" r="r" b="b"/>
            <a:pathLst>
              <a:path w="288" h="342">
                <a:moveTo>
                  <a:pt x="0" y="314"/>
                </a:moveTo>
                <a:lnTo>
                  <a:pt x="20" y="206"/>
                </a:lnTo>
                <a:lnTo>
                  <a:pt x="41" y="153"/>
                </a:lnTo>
                <a:lnTo>
                  <a:pt x="71" y="109"/>
                </a:lnTo>
                <a:lnTo>
                  <a:pt x="119" y="64"/>
                </a:lnTo>
                <a:lnTo>
                  <a:pt x="175" y="22"/>
                </a:lnTo>
                <a:lnTo>
                  <a:pt x="234" y="0"/>
                </a:lnTo>
                <a:lnTo>
                  <a:pt x="284" y="14"/>
                </a:lnTo>
                <a:lnTo>
                  <a:pt x="288" y="47"/>
                </a:lnTo>
                <a:lnTo>
                  <a:pt x="245" y="79"/>
                </a:lnTo>
                <a:lnTo>
                  <a:pt x="184" y="115"/>
                </a:lnTo>
                <a:lnTo>
                  <a:pt x="137" y="153"/>
                </a:lnTo>
                <a:lnTo>
                  <a:pt x="97" y="252"/>
                </a:lnTo>
                <a:lnTo>
                  <a:pt x="78" y="301"/>
                </a:lnTo>
                <a:lnTo>
                  <a:pt x="52" y="342"/>
                </a:lnTo>
                <a:lnTo>
                  <a:pt x="0" y="314"/>
                </a:lnTo>
                <a:lnTo>
                  <a:pt x="0" y="3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8280" y="2154240"/>
            <a:ext cx="60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ing at it a different wa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14200" y="4770360"/>
            <a:ext cx="495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percent of incre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s 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the initial amou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he amount of in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5067360" cy="27669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752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753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e percent increase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133720" y="7002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3309840" y="3125880"/>
            <a:ext cx="5072040" cy="31226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814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815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743200" y="205740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problems involving percent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increase and percent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133720" y="7002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621360" y="1556640"/>
            <a:ext cx="1616040" cy="1531800"/>
          </a:xfrm>
          <a:custGeom>
            <a:avLst/>
            <a:gdLst/>
            <a:ahLst/>
            <a:rect l="l" t="t" r="r" b="b"/>
            <a:pathLst>
              <a:path w="2383" h="2526">
                <a:moveTo>
                  <a:pt x="0" y="1236"/>
                </a:moveTo>
                <a:lnTo>
                  <a:pt x="419" y="1250"/>
                </a:lnTo>
                <a:lnTo>
                  <a:pt x="1052" y="1635"/>
                </a:lnTo>
                <a:lnTo>
                  <a:pt x="902" y="1874"/>
                </a:lnTo>
                <a:lnTo>
                  <a:pt x="711" y="2189"/>
                </a:lnTo>
                <a:lnTo>
                  <a:pt x="795" y="2400"/>
                </a:lnTo>
                <a:lnTo>
                  <a:pt x="1081" y="2526"/>
                </a:lnTo>
                <a:lnTo>
                  <a:pt x="1499" y="2498"/>
                </a:lnTo>
                <a:lnTo>
                  <a:pt x="1726" y="2267"/>
                </a:lnTo>
                <a:lnTo>
                  <a:pt x="1942" y="1158"/>
                </a:lnTo>
                <a:lnTo>
                  <a:pt x="2383" y="289"/>
                </a:lnTo>
                <a:lnTo>
                  <a:pt x="2317" y="183"/>
                </a:lnTo>
                <a:lnTo>
                  <a:pt x="1966" y="43"/>
                </a:lnTo>
                <a:lnTo>
                  <a:pt x="1428" y="0"/>
                </a:lnTo>
                <a:lnTo>
                  <a:pt x="789" y="141"/>
                </a:lnTo>
                <a:lnTo>
                  <a:pt x="311" y="568"/>
                </a:lnTo>
                <a:lnTo>
                  <a:pt x="90" y="969"/>
                </a:lnTo>
                <a:lnTo>
                  <a:pt x="0" y="1236"/>
                </a:lnTo>
                <a:lnTo>
                  <a:pt x="0" y="1236"/>
                </a:lnTo>
                <a:close/>
              </a:path>
            </a:pathLst>
          </a:custGeom>
          <a:solidFill>
            <a:srgbClr val="fbd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982800" y="2592360"/>
            <a:ext cx="723600" cy="325440"/>
          </a:xfrm>
          <a:custGeom>
            <a:avLst/>
            <a:gdLst/>
            <a:ahLst/>
            <a:rect l="l" t="t" r="r" b="b"/>
            <a:pathLst>
              <a:path w="1068" h="540">
                <a:moveTo>
                  <a:pt x="0" y="273"/>
                </a:moveTo>
                <a:lnTo>
                  <a:pt x="173" y="471"/>
                </a:lnTo>
                <a:lnTo>
                  <a:pt x="550" y="540"/>
                </a:lnTo>
                <a:lnTo>
                  <a:pt x="926" y="428"/>
                </a:lnTo>
                <a:lnTo>
                  <a:pt x="1068" y="351"/>
                </a:lnTo>
                <a:lnTo>
                  <a:pt x="943" y="148"/>
                </a:lnTo>
                <a:lnTo>
                  <a:pt x="615" y="0"/>
                </a:lnTo>
                <a:lnTo>
                  <a:pt x="298" y="28"/>
                </a:lnTo>
                <a:lnTo>
                  <a:pt x="0" y="273"/>
                </a:lnTo>
                <a:lnTo>
                  <a:pt x="0" y="2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1231200" y="2631240"/>
            <a:ext cx="230040" cy="236520"/>
          </a:xfrm>
          <a:custGeom>
            <a:avLst/>
            <a:gdLst/>
            <a:ahLst/>
            <a:rect l="l" t="t" r="r" b="b"/>
            <a:pathLst>
              <a:path w="341" h="387">
                <a:moveTo>
                  <a:pt x="233" y="0"/>
                </a:moveTo>
                <a:lnTo>
                  <a:pt x="96" y="0"/>
                </a:lnTo>
                <a:lnTo>
                  <a:pt x="0" y="163"/>
                </a:lnTo>
                <a:lnTo>
                  <a:pt x="60" y="330"/>
                </a:lnTo>
                <a:lnTo>
                  <a:pt x="228" y="387"/>
                </a:lnTo>
                <a:lnTo>
                  <a:pt x="341" y="211"/>
                </a:lnTo>
                <a:lnTo>
                  <a:pt x="233" y="0"/>
                </a:lnTo>
                <a:lnTo>
                  <a:pt x="233" y="0"/>
                </a:lnTo>
                <a:close/>
              </a:path>
            </a:pathLst>
          </a:custGeom>
          <a:solidFill>
            <a:srgbClr val="99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1480320" y="1654920"/>
            <a:ext cx="265320" cy="150840"/>
          </a:xfrm>
          <a:custGeom>
            <a:avLst/>
            <a:gdLst/>
            <a:ahLst/>
            <a:rect l="l" t="t" r="r" b="b"/>
            <a:pathLst>
              <a:path w="393" h="250">
                <a:moveTo>
                  <a:pt x="53" y="250"/>
                </a:moveTo>
                <a:lnTo>
                  <a:pt x="0" y="116"/>
                </a:lnTo>
                <a:lnTo>
                  <a:pt x="53" y="0"/>
                </a:lnTo>
                <a:lnTo>
                  <a:pt x="308" y="60"/>
                </a:lnTo>
                <a:lnTo>
                  <a:pt x="371" y="92"/>
                </a:lnTo>
                <a:lnTo>
                  <a:pt x="393" y="122"/>
                </a:lnTo>
                <a:lnTo>
                  <a:pt x="371" y="154"/>
                </a:lnTo>
                <a:lnTo>
                  <a:pt x="308" y="186"/>
                </a:lnTo>
                <a:lnTo>
                  <a:pt x="202" y="218"/>
                </a:lnTo>
                <a:lnTo>
                  <a:pt x="53" y="250"/>
                </a:lnTo>
                <a:lnTo>
                  <a:pt x="53" y="250"/>
                </a:lnTo>
                <a:close/>
              </a:path>
            </a:pathLst>
          </a:custGeom>
          <a:solidFill>
            <a:srgbClr val="d422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1305720" y="2079720"/>
            <a:ext cx="973080" cy="441360"/>
          </a:xfrm>
          <a:custGeom>
            <a:avLst/>
            <a:gdLst/>
            <a:ahLst/>
            <a:rect l="l" t="t" r="r" b="b"/>
            <a:pathLst>
              <a:path w="1434" h="727">
                <a:moveTo>
                  <a:pt x="38" y="406"/>
                </a:moveTo>
                <a:lnTo>
                  <a:pt x="228" y="394"/>
                </a:lnTo>
                <a:lnTo>
                  <a:pt x="483" y="411"/>
                </a:lnTo>
                <a:lnTo>
                  <a:pt x="622" y="478"/>
                </a:lnTo>
                <a:lnTo>
                  <a:pt x="701" y="528"/>
                </a:lnTo>
                <a:lnTo>
                  <a:pt x="779" y="582"/>
                </a:lnTo>
                <a:lnTo>
                  <a:pt x="857" y="633"/>
                </a:lnTo>
                <a:lnTo>
                  <a:pt x="931" y="679"/>
                </a:lnTo>
                <a:lnTo>
                  <a:pt x="998" y="711"/>
                </a:lnTo>
                <a:lnTo>
                  <a:pt x="1055" y="727"/>
                </a:lnTo>
                <a:lnTo>
                  <a:pt x="1202" y="708"/>
                </a:lnTo>
                <a:lnTo>
                  <a:pt x="1323" y="616"/>
                </a:lnTo>
                <a:lnTo>
                  <a:pt x="1403" y="474"/>
                </a:lnTo>
                <a:lnTo>
                  <a:pt x="1434" y="305"/>
                </a:lnTo>
                <a:lnTo>
                  <a:pt x="1413" y="164"/>
                </a:lnTo>
                <a:lnTo>
                  <a:pt x="1388" y="108"/>
                </a:lnTo>
                <a:lnTo>
                  <a:pt x="1354" y="64"/>
                </a:lnTo>
                <a:lnTo>
                  <a:pt x="1313" y="28"/>
                </a:lnTo>
                <a:lnTo>
                  <a:pt x="1264" y="6"/>
                </a:lnTo>
                <a:lnTo>
                  <a:pt x="1144" y="0"/>
                </a:lnTo>
                <a:lnTo>
                  <a:pt x="1051" y="44"/>
                </a:lnTo>
                <a:lnTo>
                  <a:pt x="983" y="136"/>
                </a:lnTo>
                <a:lnTo>
                  <a:pt x="943" y="246"/>
                </a:lnTo>
                <a:lnTo>
                  <a:pt x="932" y="344"/>
                </a:lnTo>
                <a:lnTo>
                  <a:pt x="943" y="385"/>
                </a:lnTo>
                <a:lnTo>
                  <a:pt x="966" y="413"/>
                </a:lnTo>
                <a:lnTo>
                  <a:pt x="1034" y="431"/>
                </a:lnTo>
                <a:lnTo>
                  <a:pt x="1101" y="399"/>
                </a:lnTo>
                <a:lnTo>
                  <a:pt x="1136" y="321"/>
                </a:lnTo>
                <a:lnTo>
                  <a:pt x="1127" y="249"/>
                </a:lnTo>
                <a:lnTo>
                  <a:pt x="1104" y="206"/>
                </a:lnTo>
                <a:lnTo>
                  <a:pt x="1074" y="149"/>
                </a:lnTo>
                <a:lnTo>
                  <a:pt x="1085" y="115"/>
                </a:lnTo>
                <a:lnTo>
                  <a:pt x="1109" y="89"/>
                </a:lnTo>
                <a:lnTo>
                  <a:pt x="1168" y="66"/>
                </a:lnTo>
                <a:lnTo>
                  <a:pt x="1235" y="87"/>
                </a:lnTo>
                <a:lnTo>
                  <a:pt x="1287" y="138"/>
                </a:lnTo>
                <a:lnTo>
                  <a:pt x="1335" y="288"/>
                </a:lnTo>
                <a:lnTo>
                  <a:pt x="1323" y="384"/>
                </a:lnTo>
                <a:lnTo>
                  <a:pt x="1290" y="476"/>
                </a:lnTo>
                <a:lnTo>
                  <a:pt x="1266" y="515"/>
                </a:lnTo>
                <a:lnTo>
                  <a:pt x="1240" y="550"/>
                </a:lnTo>
                <a:lnTo>
                  <a:pt x="1211" y="574"/>
                </a:lnTo>
                <a:lnTo>
                  <a:pt x="1178" y="588"/>
                </a:lnTo>
                <a:lnTo>
                  <a:pt x="1030" y="573"/>
                </a:lnTo>
                <a:lnTo>
                  <a:pt x="961" y="536"/>
                </a:lnTo>
                <a:lnTo>
                  <a:pt x="894" y="489"/>
                </a:lnTo>
                <a:lnTo>
                  <a:pt x="830" y="436"/>
                </a:lnTo>
                <a:lnTo>
                  <a:pt x="768" y="384"/>
                </a:lnTo>
                <a:lnTo>
                  <a:pt x="709" y="338"/>
                </a:lnTo>
                <a:lnTo>
                  <a:pt x="653" y="305"/>
                </a:lnTo>
                <a:lnTo>
                  <a:pt x="537" y="264"/>
                </a:lnTo>
                <a:lnTo>
                  <a:pt x="408" y="235"/>
                </a:lnTo>
                <a:lnTo>
                  <a:pt x="141" y="227"/>
                </a:lnTo>
                <a:lnTo>
                  <a:pt x="75" y="260"/>
                </a:lnTo>
                <a:lnTo>
                  <a:pt x="0" y="370"/>
                </a:lnTo>
                <a:lnTo>
                  <a:pt x="38" y="406"/>
                </a:lnTo>
                <a:lnTo>
                  <a:pt x="38" y="4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595080" y="1523880"/>
            <a:ext cx="1684080" cy="1586160"/>
          </a:xfrm>
          <a:custGeom>
            <a:avLst/>
            <a:gdLst/>
            <a:ahLst/>
            <a:rect l="l" t="t" r="r" b="b"/>
            <a:pathLst>
              <a:path w="2484" h="2618">
                <a:moveTo>
                  <a:pt x="141" y="1270"/>
                </a:moveTo>
                <a:lnTo>
                  <a:pt x="184" y="1121"/>
                </a:lnTo>
                <a:lnTo>
                  <a:pt x="212" y="1040"/>
                </a:lnTo>
                <a:lnTo>
                  <a:pt x="245" y="956"/>
                </a:lnTo>
                <a:lnTo>
                  <a:pt x="284" y="869"/>
                </a:lnTo>
                <a:lnTo>
                  <a:pt x="331" y="782"/>
                </a:lnTo>
                <a:lnTo>
                  <a:pt x="385" y="694"/>
                </a:lnTo>
                <a:lnTo>
                  <a:pt x="449" y="608"/>
                </a:lnTo>
                <a:lnTo>
                  <a:pt x="523" y="525"/>
                </a:lnTo>
                <a:lnTo>
                  <a:pt x="608" y="446"/>
                </a:lnTo>
                <a:lnTo>
                  <a:pt x="655" y="408"/>
                </a:lnTo>
                <a:lnTo>
                  <a:pt x="705" y="371"/>
                </a:lnTo>
                <a:lnTo>
                  <a:pt x="758" y="337"/>
                </a:lnTo>
                <a:lnTo>
                  <a:pt x="814" y="303"/>
                </a:lnTo>
                <a:lnTo>
                  <a:pt x="874" y="273"/>
                </a:lnTo>
                <a:lnTo>
                  <a:pt x="937" y="243"/>
                </a:lnTo>
                <a:lnTo>
                  <a:pt x="1003" y="217"/>
                </a:lnTo>
                <a:lnTo>
                  <a:pt x="1074" y="191"/>
                </a:lnTo>
                <a:lnTo>
                  <a:pt x="1227" y="149"/>
                </a:lnTo>
                <a:lnTo>
                  <a:pt x="1396" y="118"/>
                </a:lnTo>
                <a:lnTo>
                  <a:pt x="1641" y="102"/>
                </a:lnTo>
                <a:lnTo>
                  <a:pt x="1909" y="122"/>
                </a:lnTo>
                <a:lnTo>
                  <a:pt x="2170" y="190"/>
                </a:lnTo>
                <a:lnTo>
                  <a:pt x="2289" y="243"/>
                </a:lnTo>
                <a:lnTo>
                  <a:pt x="2394" y="314"/>
                </a:lnTo>
                <a:lnTo>
                  <a:pt x="2388" y="348"/>
                </a:lnTo>
                <a:lnTo>
                  <a:pt x="2349" y="425"/>
                </a:lnTo>
                <a:lnTo>
                  <a:pt x="2320" y="476"/>
                </a:lnTo>
                <a:lnTo>
                  <a:pt x="2288" y="533"/>
                </a:lnTo>
                <a:lnTo>
                  <a:pt x="2251" y="597"/>
                </a:lnTo>
                <a:lnTo>
                  <a:pt x="2212" y="665"/>
                </a:lnTo>
                <a:lnTo>
                  <a:pt x="2170" y="736"/>
                </a:lnTo>
                <a:lnTo>
                  <a:pt x="2128" y="809"/>
                </a:lnTo>
                <a:lnTo>
                  <a:pt x="2087" y="884"/>
                </a:lnTo>
                <a:lnTo>
                  <a:pt x="2047" y="957"/>
                </a:lnTo>
                <a:lnTo>
                  <a:pt x="2010" y="1030"/>
                </a:lnTo>
                <a:lnTo>
                  <a:pt x="1977" y="1099"/>
                </a:lnTo>
                <a:lnTo>
                  <a:pt x="1926" y="1225"/>
                </a:lnTo>
                <a:lnTo>
                  <a:pt x="1860" y="1467"/>
                </a:lnTo>
                <a:lnTo>
                  <a:pt x="1808" y="1726"/>
                </a:lnTo>
                <a:lnTo>
                  <a:pt x="1761" y="1989"/>
                </a:lnTo>
                <a:lnTo>
                  <a:pt x="1712" y="2242"/>
                </a:lnTo>
                <a:lnTo>
                  <a:pt x="1697" y="2285"/>
                </a:lnTo>
                <a:lnTo>
                  <a:pt x="1669" y="2339"/>
                </a:lnTo>
                <a:lnTo>
                  <a:pt x="1635" y="2389"/>
                </a:lnTo>
                <a:lnTo>
                  <a:pt x="1604" y="2419"/>
                </a:lnTo>
                <a:lnTo>
                  <a:pt x="1550" y="2451"/>
                </a:lnTo>
                <a:lnTo>
                  <a:pt x="1483" y="2481"/>
                </a:lnTo>
                <a:lnTo>
                  <a:pt x="1358" y="2509"/>
                </a:lnTo>
                <a:lnTo>
                  <a:pt x="1057" y="2477"/>
                </a:lnTo>
                <a:lnTo>
                  <a:pt x="936" y="2419"/>
                </a:lnTo>
                <a:lnTo>
                  <a:pt x="870" y="2308"/>
                </a:lnTo>
                <a:lnTo>
                  <a:pt x="872" y="2183"/>
                </a:lnTo>
                <a:lnTo>
                  <a:pt x="892" y="2119"/>
                </a:lnTo>
                <a:lnTo>
                  <a:pt x="920" y="2056"/>
                </a:lnTo>
                <a:lnTo>
                  <a:pt x="958" y="1993"/>
                </a:lnTo>
                <a:lnTo>
                  <a:pt x="1001" y="1933"/>
                </a:lnTo>
                <a:lnTo>
                  <a:pt x="1050" y="1877"/>
                </a:lnTo>
                <a:lnTo>
                  <a:pt x="1102" y="1825"/>
                </a:lnTo>
                <a:lnTo>
                  <a:pt x="1163" y="1766"/>
                </a:lnTo>
                <a:lnTo>
                  <a:pt x="1234" y="1692"/>
                </a:lnTo>
                <a:lnTo>
                  <a:pt x="1308" y="1604"/>
                </a:lnTo>
                <a:lnTo>
                  <a:pt x="1377" y="1502"/>
                </a:lnTo>
                <a:lnTo>
                  <a:pt x="1045" y="1664"/>
                </a:lnTo>
                <a:lnTo>
                  <a:pt x="1030" y="1742"/>
                </a:lnTo>
                <a:lnTo>
                  <a:pt x="995" y="1822"/>
                </a:lnTo>
                <a:lnTo>
                  <a:pt x="946" y="1905"/>
                </a:lnTo>
                <a:lnTo>
                  <a:pt x="890" y="1987"/>
                </a:lnTo>
                <a:lnTo>
                  <a:pt x="834" y="2068"/>
                </a:lnTo>
                <a:lnTo>
                  <a:pt x="785" y="2150"/>
                </a:lnTo>
                <a:lnTo>
                  <a:pt x="739" y="2302"/>
                </a:lnTo>
                <a:lnTo>
                  <a:pt x="746" y="2350"/>
                </a:lnTo>
                <a:lnTo>
                  <a:pt x="767" y="2396"/>
                </a:lnTo>
                <a:lnTo>
                  <a:pt x="797" y="2441"/>
                </a:lnTo>
                <a:lnTo>
                  <a:pt x="836" y="2481"/>
                </a:lnTo>
                <a:lnTo>
                  <a:pt x="879" y="2516"/>
                </a:lnTo>
                <a:lnTo>
                  <a:pt x="921" y="2546"/>
                </a:lnTo>
                <a:lnTo>
                  <a:pt x="998" y="2580"/>
                </a:lnTo>
                <a:lnTo>
                  <a:pt x="1128" y="2604"/>
                </a:lnTo>
                <a:lnTo>
                  <a:pt x="1270" y="2618"/>
                </a:lnTo>
                <a:lnTo>
                  <a:pt x="1537" y="2597"/>
                </a:lnTo>
                <a:lnTo>
                  <a:pt x="1639" y="2552"/>
                </a:lnTo>
                <a:lnTo>
                  <a:pt x="1733" y="2467"/>
                </a:lnTo>
                <a:lnTo>
                  <a:pt x="1812" y="2357"/>
                </a:lnTo>
                <a:lnTo>
                  <a:pt x="1869" y="2236"/>
                </a:lnTo>
                <a:lnTo>
                  <a:pt x="1931" y="2006"/>
                </a:lnTo>
                <a:lnTo>
                  <a:pt x="1977" y="1746"/>
                </a:lnTo>
                <a:lnTo>
                  <a:pt x="2018" y="1483"/>
                </a:lnTo>
                <a:lnTo>
                  <a:pt x="2042" y="1359"/>
                </a:lnTo>
                <a:lnTo>
                  <a:pt x="2067" y="1247"/>
                </a:lnTo>
                <a:lnTo>
                  <a:pt x="2104" y="1134"/>
                </a:lnTo>
                <a:lnTo>
                  <a:pt x="2152" y="1022"/>
                </a:lnTo>
                <a:lnTo>
                  <a:pt x="2208" y="908"/>
                </a:lnTo>
                <a:lnTo>
                  <a:pt x="2268" y="796"/>
                </a:lnTo>
                <a:lnTo>
                  <a:pt x="2299" y="739"/>
                </a:lnTo>
                <a:lnTo>
                  <a:pt x="2330" y="682"/>
                </a:lnTo>
                <a:lnTo>
                  <a:pt x="2388" y="569"/>
                </a:lnTo>
                <a:lnTo>
                  <a:pt x="2440" y="455"/>
                </a:lnTo>
                <a:lnTo>
                  <a:pt x="2484" y="342"/>
                </a:lnTo>
                <a:lnTo>
                  <a:pt x="2471" y="255"/>
                </a:lnTo>
                <a:lnTo>
                  <a:pt x="2446" y="175"/>
                </a:lnTo>
                <a:lnTo>
                  <a:pt x="2377" y="146"/>
                </a:lnTo>
                <a:lnTo>
                  <a:pt x="2309" y="122"/>
                </a:lnTo>
                <a:lnTo>
                  <a:pt x="2170" y="79"/>
                </a:lnTo>
                <a:lnTo>
                  <a:pt x="2030" y="46"/>
                </a:lnTo>
                <a:lnTo>
                  <a:pt x="1890" y="23"/>
                </a:lnTo>
                <a:lnTo>
                  <a:pt x="1610" y="0"/>
                </a:lnTo>
                <a:lnTo>
                  <a:pt x="1335" y="7"/>
                </a:lnTo>
                <a:lnTo>
                  <a:pt x="1067" y="57"/>
                </a:lnTo>
                <a:lnTo>
                  <a:pt x="941" y="102"/>
                </a:lnTo>
                <a:lnTo>
                  <a:pt x="819" y="158"/>
                </a:lnTo>
                <a:lnTo>
                  <a:pt x="760" y="190"/>
                </a:lnTo>
                <a:lnTo>
                  <a:pt x="703" y="224"/>
                </a:lnTo>
                <a:lnTo>
                  <a:pt x="647" y="261"/>
                </a:lnTo>
                <a:lnTo>
                  <a:pt x="593" y="300"/>
                </a:lnTo>
                <a:lnTo>
                  <a:pt x="541" y="342"/>
                </a:lnTo>
                <a:lnTo>
                  <a:pt x="491" y="385"/>
                </a:lnTo>
                <a:lnTo>
                  <a:pt x="396" y="477"/>
                </a:lnTo>
                <a:lnTo>
                  <a:pt x="309" y="575"/>
                </a:lnTo>
                <a:lnTo>
                  <a:pt x="232" y="679"/>
                </a:lnTo>
                <a:lnTo>
                  <a:pt x="197" y="732"/>
                </a:lnTo>
                <a:lnTo>
                  <a:pt x="164" y="786"/>
                </a:lnTo>
                <a:lnTo>
                  <a:pt x="108" y="897"/>
                </a:lnTo>
                <a:lnTo>
                  <a:pt x="28" y="1123"/>
                </a:lnTo>
                <a:lnTo>
                  <a:pt x="0" y="1347"/>
                </a:lnTo>
                <a:lnTo>
                  <a:pt x="141" y="1270"/>
                </a:lnTo>
                <a:lnTo>
                  <a:pt x="141" y="12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899280" y="2561400"/>
            <a:ext cx="854280" cy="392040"/>
          </a:xfrm>
          <a:custGeom>
            <a:avLst/>
            <a:gdLst/>
            <a:ahLst/>
            <a:rect l="l" t="t" r="r" b="b"/>
            <a:pathLst>
              <a:path w="1258" h="646">
                <a:moveTo>
                  <a:pt x="1055" y="465"/>
                </a:moveTo>
                <a:lnTo>
                  <a:pt x="1001" y="498"/>
                </a:lnTo>
                <a:lnTo>
                  <a:pt x="943" y="531"/>
                </a:lnTo>
                <a:lnTo>
                  <a:pt x="881" y="562"/>
                </a:lnTo>
                <a:lnTo>
                  <a:pt x="816" y="588"/>
                </a:lnTo>
                <a:lnTo>
                  <a:pt x="677" y="629"/>
                </a:lnTo>
                <a:lnTo>
                  <a:pt x="535" y="646"/>
                </a:lnTo>
                <a:lnTo>
                  <a:pt x="390" y="632"/>
                </a:lnTo>
                <a:lnTo>
                  <a:pt x="250" y="577"/>
                </a:lnTo>
                <a:lnTo>
                  <a:pt x="182" y="532"/>
                </a:lnTo>
                <a:lnTo>
                  <a:pt x="118" y="476"/>
                </a:lnTo>
                <a:lnTo>
                  <a:pt x="57" y="405"/>
                </a:lnTo>
                <a:lnTo>
                  <a:pt x="0" y="320"/>
                </a:lnTo>
                <a:lnTo>
                  <a:pt x="30" y="276"/>
                </a:lnTo>
                <a:lnTo>
                  <a:pt x="62" y="235"/>
                </a:lnTo>
                <a:lnTo>
                  <a:pt x="128" y="163"/>
                </a:lnTo>
                <a:lnTo>
                  <a:pt x="163" y="133"/>
                </a:lnTo>
                <a:lnTo>
                  <a:pt x="200" y="106"/>
                </a:lnTo>
                <a:lnTo>
                  <a:pt x="275" y="61"/>
                </a:lnTo>
                <a:lnTo>
                  <a:pt x="354" y="29"/>
                </a:lnTo>
                <a:lnTo>
                  <a:pt x="436" y="9"/>
                </a:lnTo>
                <a:lnTo>
                  <a:pt x="605" y="0"/>
                </a:lnTo>
                <a:lnTo>
                  <a:pt x="776" y="28"/>
                </a:lnTo>
                <a:lnTo>
                  <a:pt x="946" y="91"/>
                </a:lnTo>
                <a:lnTo>
                  <a:pt x="1029" y="133"/>
                </a:lnTo>
                <a:lnTo>
                  <a:pt x="1108" y="180"/>
                </a:lnTo>
                <a:lnTo>
                  <a:pt x="1185" y="234"/>
                </a:lnTo>
                <a:lnTo>
                  <a:pt x="1258" y="292"/>
                </a:lnTo>
                <a:lnTo>
                  <a:pt x="1197" y="361"/>
                </a:lnTo>
                <a:lnTo>
                  <a:pt x="1140" y="425"/>
                </a:lnTo>
                <a:lnTo>
                  <a:pt x="1088" y="375"/>
                </a:lnTo>
                <a:lnTo>
                  <a:pt x="1032" y="328"/>
                </a:lnTo>
                <a:lnTo>
                  <a:pt x="973" y="283"/>
                </a:lnTo>
                <a:lnTo>
                  <a:pt x="911" y="241"/>
                </a:lnTo>
                <a:lnTo>
                  <a:pt x="848" y="203"/>
                </a:lnTo>
                <a:lnTo>
                  <a:pt x="784" y="171"/>
                </a:lnTo>
                <a:lnTo>
                  <a:pt x="718" y="144"/>
                </a:lnTo>
                <a:lnTo>
                  <a:pt x="651" y="125"/>
                </a:lnTo>
                <a:lnTo>
                  <a:pt x="518" y="111"/>
                </a:lnTo>
                <a:lnTo>
                  <a:pt x="387" y="134"/>
                </a:lnTo>
                <a:lnTo>
                  <a:pt x="264" y="204"/>
                </a:lnTo>
                <a:lnTo>
                  <a:pt x="151" y="325"/>
                </a:lnTo>
                <a:lnTo>
                  <a:pt x="181" y="378"/>
                </a:lnTo>
                <a:lnTo>
                  <a:pt x="219" y="421"/>
                </a:lnTo>
                <a:lnTo>
                  <a:pt x="265" y="454"/>
                </a:lnTo>
                <a:lnTo>
                  <a:pt x="317" y="481"/>
                </a:lnTo>
                <a:lnTo>
                  <a:pt x="435" y="513"/>
                </a:lnTo>
                <a:lnTo>
                  <a:pt x="566" y="522"/>
                </a:lnTo>
                <a:lnTo>
                  <a:pt x="833" y="499"/>
                </a:lnTo>
                <a:lnTo>
                  <a:pt x="1055" y="465"/>
                </a:lnTo>
                <a:lnTo>
                  <a:pt x="1055" y="4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324080" y="2780640"/>
            <a:ext cx="69840" cy="74520"/>
          </a:xfrm>
          <a:custGeom>
            <a:avLst/>
            <a:gdLst/>
            <a:ahLst/>
            <a:rect l="l" t="t" r="r" b="b"/>
            <a:pathLst>
              <a:path w="103" h="122">
                <a:moveTo>
                  <a:pt x="52" y="0"/>
                </a:moveTo>
                <a:lnTo>
                  <a:pt x="88" y="19"/>
                </a:lnTo>
                <a:lnTo>
                  <a:pt x="103" y="61"/>
                </a:lnTo>
                <a:lnTo>
                  <a:pt x="88" y="104"/>
                </a:lnTo>
                <a:lnTo>
                  <a:pt x="52" y="122"/>
                </a:lnTo>
                <a:lnTo>
                  <a:pt x="15" y="104"/>
                </a:lnTo>
                <a:lnTo>
                  <a:pt x="0" y="61"/>
                </a:lnTo>
                <a:lnTo>
                  <a:pt x="15" y="19"/>
                </a:lnTo>
                <a:lnTo>
                  <a:pt x="52" y="0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1208160" y="2617200"/>
            <a:ext cx="185760" cy="290520"/>
          </a:xfrm>
          <a:custGeom>
            <a:avLst/>
            <a:gdLst/>
            <a:ahLst/>
            <a:rect l="l" t="t" r="r" b="b"/>
            <a:pathLst>
              <a:path w="275" h="478">
                <a:moveTo>
                  <a:pt x="72" y="478"/>
                </a:moveTo>
                <a:lnTo>
                  <a:pt x="0" y="423"/>
                </a:lnTo>
                <a:lnTo>
                  <a:pt x="72" y="373"/>
                </a:lnTo>
                <a:lnTo>
                  <a:pt x="154" y="332"/>
                </a:lnTo>
                <a:lnTo>
                  <a:pt x="190" y="234"/>
                </a:lnTo>
                <a:lnTo>
                  <a:pt x="180" y="180"/>
                </a:lnTo>
                <a:lnTo>
                  <a:pt x="154" y="134"/>
                </a:lnTo>
                <a:lnTo>
                  <a:pt x="116" y="101"/>
                </a:lnTo>
                <a:lnTo>
                  <a:pt x="72" y="90"/>
                </a:lnTo>
                <a:lnTo>
                  <a:pt x="0" y="50"/>
                </a:lnTo>
                <a:lnTo>
                  <a:pt x="72" y="0"/>
                </a:lnTo>
                <a:lnTo>
                  <a:pt x="152" y="19"/>
                </a:lnTo>
                <a:lnTo>
                  <a:pt x="216" y="69"/>
                </a:lnTo>
                <a:lnTo>
                  <a:pt x="259" y="146"/>
                </a:lnTo>
                <a:lnTo>
                  <a:pt x="275" y="239"/>
                </a:lnTo>
                <a:lnTo>
                  <a:pt x="259" y="332"/>
                </a:lnTo>
                <a:lnTo>
                  <a:pt x="241" y="374"/>
                </a:lnTo>
                <a:lnTo>
                  <a:pt x="216" y="409"/>
                </a:lnTo>
                <a:lnTo>
                  <a:pt x="185" y="438"/>
                </a:lnTo>
                <a:lnTo>
                  <a:pt x="152" y="460"/>
                </a:lnTo>
                <a:lnTo>
                  <a:pt x="72" y="478"/>
                </a:lnTo>
                <a:lnTo>
                  <a:pt x="72" y="4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297080" y="2617200"/>
            <a:ext cx="187200" cy="290520"/>
          </a:xfrm>
          <a:custGeom>
            <a:avLst/>
            <a:gdLst/>
            <a:ahLst/>
            <a:rect l="l" t="t" r="r" b="b"/>
            <a:pathLst>
              <a:path w="275" h="478">
                <a:moveTo>
                  <a:pt x="204" y="478"/>
                </a:moveTo>
                <a:lnTo>
                  <a:pt x="275" y="423"/>
                </a:lnTo>
                <a:lnTo>
                  <a:pt x="204" y="373"/>
                </a:lnTo>
                <a:lnTo>
                  <a:pt x="124" y="332"/>
                </a:lnTo>
                <a:lnTo>
                  <a:pt x="90" y="234"/>
                </a:lnTo>
                <a:lnTo>
                  <a:pt x="100" y="180"/>
                </a:lnTo>
                <a:lnTo>
                  <a:pt x="124" y="134"/>
                </a:lnTo>
                <a:lnTo>
                  <a:pt x="160" y="101"/>
                </a:lnTo>
                <a:lnTo>
                  <a:pt x="204" y="90"/>
                </a:lnTo>
                <a:lnTo>
                  <a:pt x="275" y="50"/>
                </a:lnTo>
                <a:lnTo>
                  <a:pt x="204" y="0"/>
                </a:lnTo>
                <a:lnTo>
                  <a:pt x="124" y="19"/>
                </a:lnTo>
                <a:lnTo>
                  <a:pt x="60" y="69"/>
                </a:lnTo>
                <a:lnTo>
                  <a:pt x="16" y="146"/>
                </a:lnTo>
                <a:lnTo>
                  <a:pt x="0" y="239"/>
                </a:lnTo>
                <a:lnTo>
                  <a:pt x="16" y="332"/>
                </a:lnTo>
                <a:lnTo>
                  <a:pt x="35" y="374"/>
                </a:lnTo>
                <a:lnTo>
                  <a:pt x="60" y="409"/>
                </a:lnTo>
                <a:lnTo>
                  <a:pt x="90" y="438"/>
                </a:lnTo>
                <a:lnTo>
                  <a:pt x="124" y="460"/>
                </a:lnTo>
                <a:lnTo>
                  <a:pt x="204" y="478"/>
                </a:lnTo>
                <a:lnTo>
                  <a:pt x="204" y="4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825480" y="2705040"/>
            <a:ext cx="295200" cy="239760"/>
          </a:xfrm>
          <a:custGeom>
            <a:avLst/>
            <a:gdLst/>
            <a:ahLst/>
            <a:rect l="l" t="t" r="r" b="b"/>
            <a:pathLst>
              <a:path w="435" h="394">
                <a:moveTo>
                  <a:pt x="218" y="394"/>
                </a:moveTo>
                <a:lnTo>
                  <a:pt x="435" y="177"/>
                </a:lnTo>
                <a:lnTo>
                  <a:pt x="256" y="212"/>
                </a:lnTo>
                <a:lnTo>
                  <a:pt x="302" y="61"/>
                </a:lnTo>
                <a:lnTo>
                  <a:pt x="137" y="144"/>
                </a:lnTo>
                <a:lnTo>
                  <a:pt x="157" y="0"/>
                </a:lnTo>
                <a:lnTo>
                  <a:pt x="0" y="106"/>
                </a:lnTo>
                <a:lnTo>
                  <a:pt x="218" y="394"/>
                </a:lnTo>
                <a:lnTo>
                  <a:pt x="218" y="3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185120" y="3075120"/>
            <a:ext cx="104760" cy="196560"/>
          </a:xfrm>
          <a:custGeom>
            <a:avLst/>
            <a:gdLst/>
            <a:ahLst/>
            <a:rect l="l" t="t" r="r" b="b"/>
            <a:pathLst>
              <a:path w="154" h="325">
                <a:moveTo>
                  <a:pt x="13" y="311"/>
                </a:moveTo>
                <a:lnTo>
                  <a:pt x="0" y="213"/>
                </a:lnTo>
                <a:lnTo>
                  <a:pt x="18" y="116"/>
                </a:lnTo>
                <a:lnTo>
                  <a:pt x="41" y="72"/>
                </a:lnTo>
                <a:lnTo>
                  <a:pt x="72" y="33"/>
                </a:lnTo>
                <a:lnTo>
                  <a:pt x="107" y="5"/>
                </a:lnTo>
                <a:lnTo>
                  <a:pt x="146" y="0"/>
                </a:lnTo>
                <a:lnTo>
                  <a:pt x="154" y="16"/>
                </a:lnTo>
                <a:lnTo>
                  <a:pt x="136" y="52"/>
                </a:lnTo>
                <a:lnTo>
                  <a:pt x="89" y="132"/>
                </a:lnTo>
                <a:lnTo>
                  <a:pt x="85" y="305"/>
                </a:lnTo>
                <a:lnTo>
                  <a:pt x="49" y="325"/>
                </a:lnTo>
                <a:lnTo>
                  <a:pt x="13" y="311"/>
                </a:lnTo>
                <a:lnTo>
                  <a:pt x="13" y="3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1024920" y="3083040"/>
            <a:ext cx="122040" cy="188640"/>
          </a:xfrm>
          <a:custGeom>
            <a:avLst/>
            <a:gdLst/>
            <a:ahLst/>
            <a:rect l="l" t="t" r="r" b="b"/>
            <a:pathLst>
              <a:path w="183" h="311">
                <a:moveTo>
                  <a:pt x="7" y="305"/>
                </a:moveTo>
                <a:lnTo>
                  <a:pt x="0" y="205"/>
                </a:lnTo>
                <a:lnTo>
                  <a:pt x="26" y="111"/>
                </a:lnTo>
                <a:lnTo>
                  <a:pt x="55" y="66"/>
                </a:lnTo>
                <a:lnTo>
                  <a:pt x="92" y="26"/>
                </a:lnTo>
                <a:lnTo>
                  <a:pt x="135" y="0"/>
                </a:lnTo>
                <a:lnTo>
                  <a:pt x="177" y="0"/>
                </a:lnTo>
                <a:lnTo>
                  <a:pt x="183" y="17"/>
                </a:lnTo>
                <a:lnTo>
                  <a:pt x="156" y="52"/>
                </a:lnTo>
                <a:lnTo>
                  <a:pt x="97" y="132"/>
                </a:lnTo>
                <a:lnTo>
                  <a:pt x="73" y="311"/>
                </a:lnTo>
                <a:lnTo>
                  <a:pt x="7" y="305"/>
                </a:lnTo>
                <a:lnTo>
                  <a:pt x="7" y="3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861840" y="3083040"/>
            <a:ext cx="146160" cy="193680"/>
          </a:xfrm>
          <a:custGeom>
            <a:avLst/>
            <a:gdLst/>
            <a:ahLst/>
            <a:rect l="l" t="t" r="r" b="b"/>
            <a:pathLst>
              <a:path w="217" h="320">
                <a:moveTo>
                  <a:pt x="0" y="308"/>
                </a:moveTo>
                <a:lnTo>
                  <a:pt x="5" y="206"/>
                </a:lnTo>
                <a:lnTo>
                  <a:pt x="38" y="108"/>
                </a:lnTo>
                <a:lnTo>
                  <a:pt x="73" y="65"/>
                </a:lnTo>
                <a:lnTo>
                  <a:pt x="118" y="24"/>
                </a:lnTo>
                <a:lnTo>
                  <a:pt x="166" y="0"/>
                </a:lnTo>
                <a:lnTo>
                  <a:pt x="209" y="3"/>
                </a:lnTo>
                <a:lnTo>
                  <a:pt x="217" y="29"/>
                </a:lnTo>
                <a:lnTo>
                  <a:pt x="185" y="63"/>
                </a:lnTo>
                <a:lnTo>
                  <a:pt x="109" y="141"/>
                </a:lnTo>
                <a:lnTo>
                  <a:pt x="62" y="320"/>
                </a:lnTo>
                <a:lnTo>
                  <a:pt x="0" y="308"/>
                </a:lnTo>
                <a:lnTo>
                  <a:pt x="0" y="3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701640" y="3042360"/>
            <a:ext cx="169920" cy="203400"/>
          </a:xfrm>
          <a:custGeom>
            <a:avLst/>
            <a:gdLst/>
            <a:ahLst/>
            <a:rect l="l" t="t" r="r" b="b"/>
            <a:pathLst>
              <a:path w="251" h="336">
                <a:moveTo>
                  <a:pt x="0" y="314"/>
                </a:moveTo>
                <a:lnTo>
                  <a:pt x="9" y="206"/>
                </a:lnTo>
                <a:lnTo>
                  <a:pt x="25" y="154"/>
                </a:lnTo>
                <a:lnTo>
                  <a:pt x="52" y="109"/>
                </a:lnTo>
                <a:lnTo>
                  <a:pt x="94" y="64"/>
                </a:lnTo>
                <a:lnTo>
                  <a:pt x="146" y="23"/>
                </a:lnTo>
                <a:lnTo>
                  <a:pt x="199" y="0"/>
                </a:lnTo>
                <a:lnTo>
                  <a:pt x="246" y="9"/>
                </a:lnTo>
                <a:lnTo>
                  <a:pt x="251" y="37"/>
                </a:lnTo>
                <a:lnTo>
                  <a:pt x="212" y="71"/>
                </a:lnTo>
                <a:lnTo>
                  <a:pt x="159" y="108"/>
                </a:lnTo>
                <a:lnTo>
                  <a:pt x="118" y="148"/>
                </a:lnTo>
                <a:lnTo>
                  <a:pt x="56" y="331"/>
                </a:lnTo>
                <a:lnTo>
                  <a:pt x="24" y="336"/>
                </a:lnTo>
                <a:lnTo>
                  <a:pt x="0" y="314"/>
                </a:lnTo>
                <a:lnTo>
                  <a:pt x="0" y="3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557280" y="2990880"/>
            <a:ext cx="195120" cy="208080"/>
          </a:xfrm>
          <a:custGeom>
            <a:avLst/>
            <a:gdLst/>
            <a:ahLst/>
            <a:rect l="l" t="t" r="r" b="b"/>
            <a:pathLst>
              <a:path w="288" h="342">
                <a:moveTo>
                  <a:pt x="0" y="314"/>
                </a:moveTo>
                <a:lnTo>
                  <a:pt x="20" y="206"/>
                </a:lnTo>
                <a:lnTo>
                  <a:pt x="41" y="153"/>
                </a:lnTo>
                <a:lnTo>
                  <a:pt x="71" y="109"/>
                </a:lnTo>
                <a:lnTo>
                  <a:pt x="119" y="64"/>
                </a:lnTo>
                <a:lnTo>
                  <a:pt x="175" y="22"/>
                </a:lnTo>
                <a:lnTo>
                  <a:pt x="234" y="0"/>
                </a:lnTo>
                <a:lnTo>
                  <a:pt x="284" y="14"/>
                </a:lnTo>
                <a:lnTo>
                  <a:pt x="288" y="47"/>
                </a:lnTo>
                <a:lnTo>
                  <a:pt x="245" y="79"/>
                </a:lnTo>
                <a:lnTo>
                  <a:pt x="184" y="115"/>
                </a:lnTo>
                <a:lnTo>
                  <a:pt x="137" y="153"/>
                </a:lnTo>
                <a:lnTo>
                  <a:pt x="97" y="252"/>
                </a:lnTo>
                <a:lnTo>
                  <a:pt x="78" y="301"/>
                </a:lnTo>
                <a:lnTo>
                  <a:pt x="52" y="342"/>
                </a:lnTo>
                <a:lnTo>
                  <a:pt x="0" y="314"/>
                </a:lnTo>
                <a:lnTo>
                  <a:pt x="0" y="3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154240"/>
            <a:ext cx="60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ing at it a different wa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0520" y="3108240"/>
            <a:ext cx="5720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e new amou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br>
              <a:rPr sz="4000"/>
            </a:br>
            <a:r>
              <a:rPr b="0" lang="en-US" sz="4000" spc="-1" strike="noStrike">
                <a:solidFill>
                  <a:srgbClr val="339966"/>
                </a:solidFill>
                <a:latin typeface="Comic Sans MS"/>
              </a:rPr>
              <a:t>the old amou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the amount of incr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05120" y="1447920"/>
            <a:ext cx="3657600" cy="1752480"/>
          </a:xfrm>
          <a:prstGeom prst="wedgeEllipseCallout">
            <a:avLst>
              <a:gd name="adj1" fmla="val -34893"/>
              <a:gd name="adj2" fmla="val 63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17305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’m sorry, I added incorrectly- your bill is $100 m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257800" y="3124080"/>
            <a:ext cx="1905120" cy="114300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$100 mo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80880" y="3046320"/>
            <a:ext cx="2855880" cy="2973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477120" y="4267080"/>
            <a:ext cx="1827000" cy="18860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470960" y="3124080"/>
            <a:ext cx="61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the initial bill was $200.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65080" y="4114800"/>
            <a:ext cx="56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n $100.00 more is a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827360" y="4978440"/>
            <a:ext cx="5523840" cy="1042920"/>
            <a:chOff x="1827360" y="4978440"/>
            <a:chExt cx="5523840" cy="1042920"/>
          </a:xfrm>
        </p:grpSpPr>
        <p:grpSp>
          <p:nvGrpSpPr>
            <p:cNvPr id="246" name=""/>
            <p:cNvGrpSpPr/>
            <p:nvPr/>
          </p:nvGrpSpPr>
          <p:grpSpPr>
            <a:xfrm>
              <a:off x="1827360" y="4978440"/>
              <a:ext cx="880920" cy="1042920"/>
              <a:chOff x="1827360" y="4978440"/>
              <a:chExt cx="880920" cy="1042920"/>
            </a:xfrm>
          </p:grpSpPr>
          <p:sp>
            <p:nvSpPr>
              <p:cNvPr id="247" name=""/>
              <p:cNvSpPr/>
              <p:nvPr/>
            </p:nvSpPr>
            <p:spPr>
              <a:xfrm>
                <a:off x="1827360" y="4978440"/>
                <a:ext cx="88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28080" y="5439960"/>
                <a:ext cx="88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38160" y="5486040"/>
                <a:ext cx="86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822400" y="5178240"/>
              <a:ext cx="45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0.5 =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50% incre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71680" y="1600200"/>
            <a:ext cx="8038440" cy="1191240"/>
            <a:chOff x="571680" y="1600200"/>
            <a:chExt cx="8038440" cy="1191240"/>
          </a:xfrm>
        </p:grpSpPr>
        <p:sp>
          <p:nvSpPr>
            <p:cNvPr id="253" name=""/>
            <p:cNvSpPr/>
            <p:nvPr/>
          </p:nvSpPr>
          <p:spPr>
            <a:xfrm>
              <a:off x="571680" y="1600200"/>
              <a:ext cx="2133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ercent Incre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3076920" y="1631520"/>
              <a:ext cx="3886920" cy="1127160"/>
              <a:chOff x="3076920" y="1631520"/>
              <a:chExt cx="3886920" cy="1127160"/>
            </a:xfrm>
          </p:grpSpPr>
          <p:sp>
            <p:nvSpPr>
              <p:cNvPr id="255" name=""/>
              <p:cNvSpPr/>
              <p:nvPr/>
            </p:nvSpPr>
            <p:spPr>
              <a:xfrm>
                <a:off x="3076920" y="1631520"/>
                <a:ext cx="388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amount of increa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601440" y="2177280"/>
                <a:ext cx="2838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initial amoun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146040" y="2177280"/>
                <a:ext cx="374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972120" y="1873080"/>
              <a:ext cx="163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16120" y="18730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353600" y="3473280"/>
            <a:ext cx="65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the initial bill was $2,000.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69360" y="4387680"/>
            <a:ext cx="668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n $100.00 more is only a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727640" y="5130720"/>
            <a:ext cx="5768280" cy="1043280"/>
            <a:chOff x="1727640" y="5130720"/>
            <a:chExt cx="5768280" cy="1043280"/>
          </a:xfrm>
        </p:grpSpPr>
        <p:grpSp>
          <p:nvGrpSpPr>
            <p:cNvPr id="263" name=""/>
            <p:cNvGrpSpPr/>
            <p:nvPr/>
          </p:nvGrpSpPr>
          <p:grpSpPr>
            <a:xfrm>
              <a:off x="1727640" y="5130720"/>
              <a:ext cx="1223280" cy="1043280"/>
              <a:chOff x="1727640" y="5130720"/>
              <a:chExt cx="1223280" cy="1043280"/>
            </a:xfrm>
          </p:grpSpPr>
          <p:sp>
            <p:nvSpPr>
              <p:cNvPr id="264" name=""/>
              <p:cNvSpPr/>
              <p:nvPr/>
            </p:nvSpPr>
            <p:spPr>
              <a:xfrm>
                <a:off x="1899000" y="5130720"/>
                <a:ext cx="88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727640" y="5592600"/>
                <a:ext cx="122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,0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830240" y="5638680"/>
                <a:ext cx="1017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2967120" y="5330880"/>
              <a:ext cx="45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0.05 =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5% incre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71680" y="1600200"/>
            <a:ext cx="8038440" cy="1191240"/>
            <a:chOff x="571680" y="1600200"/>
            <a:chExt cx="8038440" cy="1191240"/>
          </a:xfrm>
        </p:grpSpPr>
        <p:sp>
          <p:nvSpPr>
            <p:cNvPr id="270" name=""/>
            <p:cNvSpPr/>
            <p:nvPr/>
          </p:nvSpPr>
          <p:spPr>
            <a:xfrm>
              <a:off x="571680" y="1600200"/>
              <a:ext cx="2133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ercent Incre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3076920" y="1631520"/>
              <a:ext cx="3886920" cy="1127160"/>
              <a:chOff x="3076920" y="1631520"/>
              <a:chExt cx="3886920" cy="1127160"/>
            </a:xfrm>
          </p:grpSpPr>
          <p:sp>
            <p:nvSpPr>
              <p:cNvPr id="272" name=""/>
              <p:cNvSpPr/>
              <p:nvPr/>
            </p:nvSpPr>
            <p:spPr>
              <a:xfrm>
                <a:off x="3076920" y="1631520"/>
                <a:ext cx="388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amount of increa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601440" y="2177280"/>
                <a:ext cx="2838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initial amoun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46040" y="2177280"/>
                <a:ext cx="374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972120" y="1873080"/>
              <a:ext cx="163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16120" y="18730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9:36:47Z</dcterms:modified>
  <cp:revision>314</cp:revision>
  <dc:subject/>
  <dc:title>PowerPoint Presentation</dc:title>
</cp:coreProperties>
</file>