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7080" y="457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8 Uni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cs.xaonline.com/gu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cs.xaonline.com/gu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cs.xaonline.com/gu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cs.xaonline.com/gun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limpton 322"/>
          <p:cNvPicPr/>
          <p:nvPr/>
        </p:nvPicPr>
        <p:blipFill>
          <a:blip r:embed="rId1"/>
          <a:stretch/>
        </p:blipFill>
        <p:spPr>
          <a:xfrm>
            <a:off x="450720" y="1523880"/>
            <a:ext cx="8194680" cy="469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14400" y="1066680"/>
            <a:ext cx="739152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olving Problem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nvolving Fra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5800" y="1946160"/>
            <a:ext cx="7924680" cy="3385800"/>
            <a:chOff x="685800" y="1946160"/>
            <a:chExt cx="7924680" cy="3385800"/>
          </a:xfrm>
        </p:grpSpPr>
        <p:sp>
          <p:nvSpPr>
            <p:cNvPr id="226" name=""/>
            <p:cNvSpPr/>
            <p:nvPr/>
          </p:nvSpPr>
          <p:spPr>
            <a:xfrm>
              <a:off x="685800" y="1946160"/>
              <a:ext cx="7924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Your warehouse supervisor informs you that you have a total of 1    rolls of a certain kind of paper. One job requires     roll, another     roll, and the third,     . Are you overstocked or understocked? By how much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066080" y="2438280"/>
              <a:ext cx="401400" cy="764640"/>
              <a:chOff x="7066080" y="2438280"/>
              <a:chExt cx="401400" cy="764640"/>
            </a:xfrm>
          </p:grpSpPr>
          <p:sp>
            <p:nvSpPr>
              <p:cNvPr id="228" name=""/>
              <p:cNvSpPr/>
              <p:nvPr/>
            </p:nvSpPr>
            <p:spPr>
              <a:xfrm>
                <a:off x="7073640" y="243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3640" y="2743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66080" y="2813040"/>
                <a:ext cx="40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666880" y="3581280"/>
              <a:ext cx="401760" cy="764640"/>
              <a:chOff x="2666880" y="3581280"/>
              <a:chExt cx="401760" cy="764640"/>
            </a:xfrm>
          </p:grpSpPr>
          <p:sp>
            <p:nvSpPr>
              <p:cNvPr id="232" name=""/>
              <p:cNvSpPr/>
              <p:nvPr/>
            </p:nvSpPr>
            <p:spPr>
              <a:xfrm>
                <a:off x="2695320" y="3581280"/>
                <a:ext cx="34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74440" y="3886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66880" y="3956040"/>
                <a:ext cx="40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019920" y="3581280"/>
              <a:ext cx="401400" cy="764640"/>
              <a:chOff x="6019920" y="3581280"/>
              <a:chExt cx="401400" cy="764640"/>
            </a:xfrm>
          </p:grpSpPr>
          <p:sp>
            <p:nvSpPr>
              <p:cNvPr id="236" name=""/>
              <p:cNvSpPr/>
              <p:nvPr/>
            </p:nvSpPr>
            <p:spPr>
              <a:xfrm>
                <a:off x="602748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27480" y="3886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19920" y="3956040"/>
                <a:ext cx="40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027240" y="4114800"/>
              <a:ext cx="401760" cy="764640"/>
              <a:chOff x="3027240" y="4114800"/>
              <a:chExt cx="401760" cy="764640"/>
            </a:xfrm>
          </p:grpSpPr>
          <p:sp>
            <p:nvSpPr>
              <p:cNvPr id="240" name=""/>
              <p:cNvSpPr/>
              <p:nvPr/>
            </p:nvSpPr>
            <p:spPr>
              <a:xfrm>
                <a:off x="3034800" y="4114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034800" y="4419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7240" y="4489560"/>
                <a:ext cx="40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685800" y="1946160"/>
            <a:ext cx="7924680" cy="3385800"/>
            <a:chOff x="685800" y="1946160"/>
            <a:chExt cx="7924680" cy="3385800"/>
          </a:xfrm>
        </p:grpSpPr>
        <p:sp>
          <p:nvSpPr>
            <p:cNvPr id="244" name=""/>
            <p:cNvSpPr/>
            <p:nvPr/>
          </p:nvSpPr>
          <p:spPr>
            <a:xfrm>
              <a:off x="685800" y="1946160"/>
              <a:ext cx="7924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Your warehouse supervisor informs you that you have a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total of 1    rolls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of a certain kind of paper. One job requires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oll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 another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oll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 and the third,     . 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re you overstocked or understocked? By how much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73640" y="243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7364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66080" y="2813040"/>
              <a:ext cx="401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95680" y="3581280"/>
              <a:ext cx="3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74440" y="388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3956040"/>
              <a:ext cx="401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27480" y="3581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27480" y="388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3956040"/>
              <a:ext cx="401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3480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34800" y="441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7240" y="4489560"/>
              <a:ext cx="401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38080" y="3962520"/>
            <a:ext cx="5639040" cy="1296360"/>
            <a:chOff x="838080" y="3962520"/>
            <a:chExt cx="5639040" cy="1296360"/>
          </a:xfrm>
        </p:grpSpPr>
        <p:sp>
          <p:nvSpPr>
            <p:cNvPr id="260" name=""/>
            <p:cNvSpPr/>
            <p:nvPr/>
          </p:nvSpPr>
          <p:spPr>
            <a:xfrm>
              <a:off x="838080" y="39625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3000" y="461628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enough paper for job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1995480"/>
            <a:ext cx="5715000" cy="1815840"/>
            <a:chOff x="1143000" y="1995480"/>
            <a:chExt cx="5715000" cy="1815840"/>
          </a:xfrm>
        </p:grpSpPr>
        <p:grpSp>
          <p:nvGrpSpPr>
            <p:cNvPr id="263" name=""/>
            <p:cNvGrpSpPr/>
            <p:nvPr/>
          </p:nvGrpSpPr>
          <p:grpSpPr>
            <a:xfrm>
              <a:off x="1143000" y="1995480"/>
              <a:ext cx="3657600" cy="1359720"/>
              <a:chOff x="1143000" y="1995480"/>
              <a:chExt cx="3657600" cy="13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1143000" y="2163960"/>
                <a:ext cx="3657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    rolls on han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1503360" y="1995480"/>
                <a:ext cx="401760" cy="977760"/>
                <a:chOff x="1503360" y="1995480"/>
                <a:chExt cx="401760" cy="9777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512360" y="19954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12360" y="24526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503360" y="2467080"/>
                  <a:ext cx="401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1143000" y="2832120"/>
              <a:ext cx="5715000" cy="979200"/>
              <a:chOff x="1143000" y="2832120"/>
              <a:chExt cx="5715000" cy="979200"/>
            </a:xfrm>
          </p:grpSpPr>
          <p:sp>
            <p:nvSpPr>
              <p:cNvPr id="270" name=""/>
              <p:cNvSpPr/>
              <p:nvPr/>
            </p:nvSpPr>
            <p:spPr>
              <a:xfrm>
                <a:off x="1143000" y="3000240"/>
                <a:ext cx="571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jobs:     roll,     roll,     rol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417760" y="2833560"/>
                <a:ext cx="401760" cy="977760"/>
                <a:chOff x="2417760" y="2833560"/>
                <a:chExt cx="401760" cy="9777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446200" y="2833560"/>
                  <a:ext cx="344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426760" y="3290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17760" y="3305160"/>
                  <a:ext cx="401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962520" y="2832120"/>
                <a:ext cx="401400" cy="977760"/>
                <a:chOff x="3962520" y="2832120"/>
                <a:chExt cx="401400" cy="977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971520" y="28321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971520" y="32893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962520" y="3303720"/>
                  <a:ext cx="4014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486400" y="2833560"/>
                <a:ext cx="401760" cy="977760"/>
                <a:chOff x="5486400" y="2833560"/>
                <a:chExt cx="401760" cy="977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495400" y="2833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495400" y="32907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486400" y="3305160"/>
                  <a:ext cx="4017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1080" y="1447920"/>
            <a:ext cx="5181840" cy="1114560"/>
            <a:chOff x="1981080" y="1447920"/>
            <a:chExt cx="5181840" cy="1114560"/>
          </a:xfrm>
        </p:grpSpPr>
        <p:grpSp>
          <p:nvGrpSpPr>
            <p:cNvPr id="285" name=""/>
            <p:cNvGrpSpPr/>
            <p:nvPr/>
          </p:nvGrpSpPr>
          <p:grpSpPr>
            <a:xfrm>
              <a:off x="2362320" y="1447920"/>
              <a:ext cx="380880" cy="1114560"/>
              <a:chOff x="2362320" y="1447920"/>
              <a:chExt cx="380880" cy="1114560"/>
            </a:xfrm>
          </p:grpSpPr>
          <p:sp>
            <p:nvSpPr>
              <p:cNvPr id="286" name=""/>
              <p:cNvSpPr/>
              <p:nvPr/>
            </p:nvSpPr>
            <p:spPr>
              <a:xfrm>
                <a:off x="2362320" y="1447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62320" y="1981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62320" y="2011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505320" y="1447920"/>
              <a:ext cx="380880" cy="1114560"/>
              <a:chOff x="3505320" y="1447920"/>
              <a:chExt cx="380880" cy="1114560"/>
            </a:xfrm>
          </p:grpSpPr>
          <p:sp>
            <p:nvSpPr>
              <p:cNvPr id="290" name=""/>
              <p:cNvSpPr/>
              <p:nvPr/>
            </p:nvSpPr>
            <p:spPr>
              <a:xfrm>
                <a:off x="3505320" y="1447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05320" y="1981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05320" y="2011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819520" y="168444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(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1684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62520" y="1682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572000" y="1447920"/>
              <a:ext cx="380880" cy="1114560"/>
              <a:chOff x="4572000" y="1447920"/>
              <a:chExt cx="380880" cy="1114560"/>
            </a:xfrm>
          </p:grpSpPr>
          <p:sp>
            <p:nvSpPr>
              <p:cNvPr id="297" name=""/>
              <p:cNvSpPr/>
              <p:nvPr/>
            </p:nvSpPr>
            <p:spPr>
              <a:xfrm>
                <a:off x="4572000" y="1447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2000" y="1981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2011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943600" y="168264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 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638680" y="1447920"/>
              <a:ext cx="380880" cy="1114560"/>
              <a:chOff x="5638680" y="1447920"/>
              <a:chExt cx="380880" cy="111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5638680" y="1447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38680" y="1981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38680" y="20113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029200" y="1676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171880" y="2560680"/>
            <a:ext cx="4838400" cy="1401840"/>
            <a:chOff x="2171880" y="2560680"/>
            <a:chExt cx="4838400" cy="1401840"/>
          </a:xfrm>
        </p:grpSpPr>
        <p:sp>
          <p:nvSpPr>
            <p:cNvPr id="307" name=""/>
            <p:cNvSpPr/>
            <p:nvPr/>
          </p:nvSpPr>
          <p:spPr>
            <a:xfrm>
              <a:off x="2171880" y="2560680"/>
              <a:ext cx="4838400" cy="1401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43240" y="2697120"/>
              <a:ext cx="4495680" cy="1114920"/>
              <a:chOff x="2343240" y="2697120"/>
              <a:chExt cx="4495680" cy="11149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2343240" y="2697120"/>
                <a:ext cx="380880" cy="1114920"/>
                <a:chOff x="2343240" y="2697120"/>
                <a:chExt cx="380880" cy="11149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343240" y="269712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43240" y="323064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343240" y="326088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409920" y="2697120"/>
                <a:ext cx="380880" cy="1114560"/>
                <a:chOff x="3409920" y="2697120"/>
                <a:chExt cx="380880" cy="11145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409920" y="269712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09920" y="323028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409920" y="32605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800440" y="2933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867120" y="29322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476960" y="2697120"/>
                <a:ext cx="380880" cy="1114560"/>
                <a:chOff x="4476960" y="2697120"/>
                <a:chExt cx="380880" cy="11145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476960" y="269712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476960" y="323028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76960" y="32605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6000840" y="29322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5543640" y="2697120"/>
                <a:ext cx="380880" cy="1114560"/>
                <a:chOff x="5543640" y="2697120"/>
                <a:chExt cx="380880" cy="1114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543640" y="269712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543640" y="323028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543640" y="32605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4934160" y="29257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3352680" y="3962520"/>
            <a:ext cx="2362320" cy="1114560"/>
            <a:chOff x="3352680" y="3962520"/>
            <a:chExt cx="2362320" cy="1114560"/>
          </a:xfrm>
        </p:grpSpPr>
        <p:grpSp>
          <p:nvGrpSpPr>
            <p:cNvPr id="330" name=""/>
            <p:cNvGrpSpPr/>
            <p:nvPr/>
          </p:nvGrpSpPr>
          <p:grpSpPr>
            <a:xfrm>
              <a:off x="3352680" y="3962520"/>
              <a:ext cx="380880" cy="1114560"/>
              <a:chOff x="3352680" y="3962520"/>
              <a:chExt cx="380880" cy="1114560"/>
            </a:xfrm>
          </p:grpSpPr>
          <p:sp>
            <p:nvSpPr>
              <p:cNvPr id="331" name=""/>
              <p:cNvSpPr/>
              <p:nvPr/>
            </p:nvSpPr>
            <p:spPr>
              <a:xfrm>
                <a:off x="3352680" y="3962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52680" y="4495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52680" y="4525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4876920" y="41972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419720" y="3962520"/>
              <a:ext cx="380880" cy="1114560"/>
              <a:chOff x="4419720" y="3962520"/>
              <a:chExt cx="380880" cy="1114560"/>
            </a:xfrm>
          </p:grpSpPr>
          <p:sp>
            <p:nvSpPr>
              <p:cNvPr id="336" name=""/>
              <p:cNvSpPr/>
              <p:nvPr/>
            </p:nvSpPr>
            <p:spPr>
              <a:xfrm>
                <a:off x="4419720" y="3962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19720" y="4495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419720" y="4525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809880" y="41972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6248520" y="4229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CD is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590920" y="5075280"/>
            <a:ext cx="3962160" cy="1401840"/>
            <a:chOff x="2590920" y="5075280"/>
            <a:chExt cx="3962160" cy="1401840"/>
          </a:xfrm>
        </p:grpSpPr>
        <p:sp>
          <p:nvSpPr>
            <p:cNvPr id="342" name=""/>
            <p:cNvSpPr/>
            <p:nvPr/>
          </p:nvSpPr>
          <p:spPr>
            <a:xfrm>
              <a:off x="2590920" y="5075280"/>
              <a:ext cx="3962160" cy="1401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705040" y="5257800"/>
              <a:ext cx="3733920" cy="1114560"/>
              <a:chOff x="2705040" y="5257800"/>
              <a:chExt cx="3733920" cy="11145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2705040" y="5257800"/>
                <a:ext cx="1066320" cy="1114560"/>
                <a:chOff x="2705040" y="5257800"/>
                <a:chExt cx="1066320" cy="11145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705040" y="5257800"/>
                  <a:ext cx="1066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(5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705040" y="5790960"/>
                  <a:ext cx="1066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(5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05040" y="5821200"/>
                  <a:ext cx="106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5600880" y="54928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457880" y="5257800"/>
                <a:ext cx="1027800" cy="1114560"/>
                <a:chOff x="4457880" y="5257800"/>
                <a:chExt cx="1027800" cy="1114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457880" y="5257800"/>
                  <a:ext cx="1027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(4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57880" y="5790960"/>
                  <a:ext cx="1027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(4)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57880" y="5821200"/>
                  <a:ext cx="1027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3" name=""/>
              <p:cNvSpPr/>
              <p:nvPr/>
            </p:nvSpPr>
            <p:spPr>
              <a:xfrm>
                <a:off x="3848040" y="5492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971800" y="3260880"/>
            <a:ext cx="3200400" cy="1114920"/>
            <a:chOff x="2971800" y="3260880"/>
            <a:chExt cx="3200400" cy="1114920"/>
          </a:xfrm>
        </p:grpSpPr>
        <p:grpSp>
          <p:nvGrpSpPr>
            <p:cNvPr id="356" name=""/>
            <p:cNvGrpSpPr/>
            <p:nvPr/>
          </p:nvGrpSpPr>
          <p:grpSpPr>
            <a:xfrm>
              <a:off x="2971800" y="3260880"/>
              <a:ext cx="838440" cy="1114920"/>
              <a:chOff x="2971800" y="3260880"/>
              <a:chExt cx="838440" cy="1114920"/>
            </a:xfrm>
          </p:grpSpPr>
          <p:sp>
            <p:nvSpPr>
              <p:cNvPr id="357" name=""/>
              <p:cNvSpPr/>
              <p:nvPr/>
            </p:nvSpPr>
            <p:spPr>
              <a:xfrm>
                <a:off x="2971800" y="3260880"/>
                <a:ext cx="83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71800" y="3794400"/>
                <a:ext cx="838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71800" y="382464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3924360" y="3495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534200" y="3260880"/>
              <a:ext cx="723240" cy="1114560"/>
              <a:chOff x="4534200" y="3260880"/>
              <a:chExt cx="723240" cy="1114560"/>
            </a:xfrm>
          </p:grpSpPr>
          <p:sp>
            <p:nvSpPr>
              <p:cNvPr id="362" name=""/>
              <p:cNvSpPr/>
              <p:nvPr/>
            </p:nvSpPr>
            <p:spPr>
              <a:xfrm>
                <a:off x="4534200" y="326088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34200" y="379404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534200" y="3824280"/>
                <a:ext cx="72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5334120" y="349596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124080" y="4952880"/>
            <a:ext cx="762120" cy="1114560"/>
            <a:chOff x="3124080" y="4952880"/>
            <a:chExt cx="762120" cy="1114560"/>
          </a:xfrm>
        </p:grpSpPr>
        <p:sp>
          <p:nvSpPr>
            <p:cNvPr id="367" name=""/>
            <p:cNvSpPr/>
            <p:nvPr/>
          </p:nvSpPr>
          <p:spPr>
            <a:xfrm>
              <a:off x="3124080" y="4952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24080" y="54860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81320" y="5516280"/>
              <a:ext cx="64764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886200" y="4952880"/>
            <a:ext cx="2133720" cy="1114560"/>
            <a:chOff x="3886200" y="4952880"/>
            <a:chExt cx="2133720" cy="1114560"/>
          </a:xfrm>
        </p:grpSpPr>
        <p:sp>
          <p:nvSpPr>
            <p:cNvPr id="371" name=""/>
            <p:cNvSpPr/>
            <p:nvPr/>
          </p:nvSpPr>
          <p:spPr>
            <a:xfrm>
              <a:off x="5181840" y="51876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419720" y="4952880"/>
              <a:ext cx="762120" cy="1114560"/>
              <a:chOff x="4419720" y="4952880"/>
              <a:chExt cx="762120" cy="11145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19720" y="49528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19720" y="548604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05400" y="5532120"/>
                <a:ext cx="590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3886200" y="5187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666880" y="1523880"/>
            <a:ext cx="3733920" cy="1114560"/>
            <a:chOff x="2666880" y="1523880"/>
            <a:chExt cx="3733920" cy="1114560"/>
          </a:xfrm>
        </p:grpSpPr>
        <p:grpSp>
          <p:nvGrpSpPr>
            <p:cNvPr id="378" name=""/>
            <p:cNvGrpSpPr/>
            <p:nvPr/>
          </p:nvGrpSpPr>
          <p:grpSpPr>
            <a:xfrm>
              <a:off x="2666880" y="1523880"/>
              <a:ext cx="1066320" cy="1114560"/>
              <a:chOff x="2666880" y="1523880"/>
              <a:chExt cx="1066320" cy="1114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666880" y="152388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(5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66880" y="205704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(5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666880" y="208728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5562720" y="175896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4419720" y="1523880"/>
              <a:ext cx="1027800" cy="1114560"/>
              <a:chOff x="4419720" y="1523880"/>
              <a:chExt cx="1027800" cy="1114560"/>
            </a:xfrm>
          </p:grpSpPr>
          <p:sp>
            <p:nvSpPr>
              <p:cNvPr id="384" name=""/>
              <p:cNvSpPr/>
              <p:nvPr/>
            </p:nvSpPr>
            <p:spPr>
              <a:xfrm>
                <a:off x="4419720" y="1523880"/>
                <a:ext cx="102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(4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19720" y="2057040"/>
                <a:ext cx="102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(4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2087280"/>
                <a:ext cx="102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809880" y="1758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809880" y="1676520"/>
            <a:ext cx="1524240" cy="1114560"/>
            <a:chOff x="3809880" y="1676520"/>
            <a:chExt cx="1524240" cy="1114560"/>
          </a:xfrm>
        </p:grpSpPr>
        <p:sp>
          <p:nvSpPr>
            <p:cNvPr id="390" name=""/>
            <p:cNvSpPr/>
            <p:nvPr/>
          </p:nvSpPr>
          <p:spPr>
            <a:xfrm>
              <a:off x="3809880" y="191124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572000" y="1676520"/>
              <a:ext cx="762120" cy="1114560"/>
              <a:chOff x="4572000" y="1676520"/>
              <a:chExt cx="762120" cy="1114560"/>
            </a:xfrm>
          </p:grpSpPr>
          <p:sp>
            <p:nvSpPr>
              <p:cNvPr id="392" name=""/>
              <p:cNvSpPr/>
              <p:nvPr/>
            </p:nvSpPr>
            <p:spPr>
              <a:xfrm>
                <a:off x="4572000" y="16765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2000" y="22096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57680" y="2255760"/>
                <a:ext cx="5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1066680" y="2925720"/>
            <a:ext cx="7010280" cy="1114560"/>
            <a:chOff x="1066680" y="2925720"/>
            <a:chExt cx="7010280" cy="1114560"/>
          </a:xfrm>
        </p:grpSpPr>
        <p:sp>
          <p:nvSpPr>
            <p:cNvPr id="396" name=""/>
            <p:cNvSpPr/>
            <p:nvPr/>
          </p:nvSpPr>
          <p:spPr>
            <a:xfrm>
              <a:off x="1066680" y="316224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mount on hand – jobs = 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o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400800" y="2925720"/>
              <a:ext cx="761760" cy="1114560"/>
              <a:chOff x="6400800" y="2925720"/>
              <a:chExt cx="761760" cy="1114560"/>
            </a:xfrm>
          </p:grpSpPr>
          <p:sp>
            <p:nvSpPr>
              <p:cNvPr id="398" name=""/>
              <p:cNvSpPr/>
              <p:nvPr/>
            </p:nvSpPr>
            <p:spPr>
              <a:xfrm>
                <a:off x="6400800" y="292572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0080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6120" y="3504960"/>
                <a:ext cx="590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914400" y="4343400"/>
            <a:ext cx="7315200" cy="1648080"/>
            <a:chOff x="914400" y="4343400"/>
            <a:chExt cx="7315200" cy="1648080"/>
          </a:xfrm>
        </p:grpSpPr>
        <p:grpSp>
          <p:nvGrpSpPr>
            <p:cNvPr id="402" name=""/>
            <p:cNvGrpSpPr/>
            <p:nvPr/>
          </p:nvGrpSpPr>
          <p:grpSpPr>
            <a:xfrm>
              <a:off x="1828800" y="4876920"/>
              <a:ext cx="762120" cy="1114560"/>
              <a:chOff x="1828800" y="4876920"/>
              <a:chExt cx="762120" cy="11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1828800" y="4876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28800" y="54100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14480" y="5456160"/>
                <a:ext cx="5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914400" y="4343400"/>
              <a:ext cx="731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answer is positive, therefo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42560" y="5111640"/>
              <a:ext cx="340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      is extra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19461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travel agent is booking air travel for a family. The adult round trip fare is $420, and children fly at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/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normal fare. Determine the cost of the tickets for a family of two adults and three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19461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travel agent is booking air travel for a family.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dult round trip fare is $4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and children fly at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2/3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the normal f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Determine the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cost of the tickets for a family of two adults and three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4403880"/>
            <a:ext cx="5639040" cy="1845360"/>
            <a:chOff x="838080" y="4403880"/>
            <a:chExt cx="5639040" cy="1845360"/>
          </a:xfrm>
        </p:grpSpPr>
        <p:sp>
          <p:nvSpPr>
            <p:cNvPr id="414" name=""/>
            <p:cNvSpPr/>
            <p:nvPr/>
          </p:nvSpPr>
          <p:spPr>
            <a:xfrm>
              <a:off x="838080" y="440388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5058000"/>
              <a:ext cx="533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cost for 2 adults and 3 children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143000" y="1981080"/>
            <a:ext cx="6858000" cy="1967760"/>
            <a:chOff x="1143000" y="1981080"/>
            <a:chExt cx="6858000" cy="1967760"/>
          </a:xfrm>
        </p:grpSpPr>
        <p:sp>
          <p:nvSpPr>
            <p:cNvPr id="417" name=""/>
            <p:cNvSpPr/>
            <p:nvPr/>
          </p:nvSpPr>
          <p:spPr>
            <a:xfrm>
              <a:off x="1143000" y="19810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Adult ticket = $4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43000" y="2757600"/>
              <a:ext cx="685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child’s ticket = </a:t>
              </a:r>
              <a:r>
                <a:rPr b="1" lang="en-US" sz="3600" spc="-1" strike="noStrike">
                  <a:solidFill>
                    <a:srgbClr val="0000ff"/>
                  </a:solidFill>
                  <a:latin typeface="Comic Sans MS"/>
                </a:rPr>
                <a:t>2/3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of adult tick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828800" y="1782720"/>
            <a:ext cx="5410080" cy="1114560"/>
            <a:chOff x="1828800" y="1782720"/>
            <a:chExt cx="5410080" cy="1114560"/>
          </a:xfrm>
        </p:grpSpPr>
        <p:sp>
          <p:nvSpPr>
            <p:cNvPr id="421" name=""/>
            <p:cNvSpPr/>
            <p:nvPr/>
          </p:nvSpPr>
          <p:spPr>
            <a:xfrm>
              <a:off x="1828800" y="2019240"/>
              <a:ext cx="281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(420) + 3 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4724280" y="1782720"/>
              <a:ext cx="380880" cy="1114560"/>
              <a:chOff x="4724280" y="1782720"/>
              <a:chExt cx="380880" cy="1114560"/>
            </a:xfrm>
          </p:grpSpPr>
          <p:sp>
            <p:nvSpPr>
              <p:cNvPr id="423" name=""/>
              <p:cNvSpPr/>
              <p:nvPr/>
            </p:nvSpPr>
            <p:spPr>
              <a:xfrm>
                <a:off x="4724280" y="1782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24280" y="2315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24280" y="23461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029200" y="201744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420) =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981080" y="3459240"/>
            <a:ext cx="5143680" cy="1114560"/>
            <a:chOff x="1981080" y="3459240"/>
            <a:chExt cx="5143680" cy="1114560"/>
          </a:xfrm>
        </p:grpSpPr>
        <p:sp>
          <p:nvSpPr>
            <p:cNvPr id="428" name=""/>
            <p:cNvSpPr/>
            <p:nvPr/>
          </p:nvSpPr>
          <p:spPr>
            <a:xfrm>
              <a:off x="1981080" y="36943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40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3543480" y="3459240"/>
              <a:ext cx="380880" cy="1114560"/>
              <a:chOff x="3543480" y="3459240"/>
              <a:chExt cx="380880" cy="1114560"/>
            </a:xfrm>
          </p:grpSpPr>
          <p:sp>
            <p:nvSpPr>
              <p:cNvPr id="430" name=""/>
              <p:cNvSpPr/>
              <p:nvPr/>
            </p:nvSpPr>
            <p:spPr>
              <a:xfrm>
                <a:off x="3543480" y="34592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43480" y="3992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43480" y="40226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952880" y="3694320"/>
              <a:ext cx="21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420) = 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610160" y="3459240"/>
              <a:ext cx="380880" cy="1114560"/>
              <a:chOff x="4610160" y="3459240"/>
              <a:chExt cx="380880" cy="111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4610160" y="34592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10160" y="3992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10160" y="40226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000680" y="36943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666880" y="52261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40 + 2(420) =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581280" y="3580920"/>
            <a:ext cx="1447920" cy="838080"/>
            <a:chOff x="3581280" y="3580920"/>
            <a:chExt cx="1447920" cy="838080"/>
          </a:xfrm>
        </p:grpSpPr>
        <p:sp>
          <p:nvSpPr>
            <p:cNvPr id="441" name=""/>
            <p:cNvSpPr/>
            <p:nvPr/>
          </p:nvSpPr>
          <p:spPr>
            <a:xfrm flipV="1">
              <a:off x="3581280" y="3580920"/>
              <a:ext cx="38124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648320" y="4120560"/>
              <a:ext cx="38088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20257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40 + 2(420) =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93840" y="36957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40 + 8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9360" y="3695760"/>
            <a:ext cx="23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68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5203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total cost is $168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3880" y="2286000"/>
            <a:ext cx="6477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y towing rope was cut in hal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and half was thrown awa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half was cut aga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one third along the wa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onger part (ten metres length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is what I use toda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 how long was my towing rop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before this cutting fray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5440" y="135576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 po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2286000"/>
            <a:ext cx="6477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y towing rope wa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and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lf was cut again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     one third along the 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nger part (ten metres length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     is what I use toda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how long was my towing rope</a:t>
            </a:r>
            <a:br>
              <a:rPr sz="2800"/>
            </a:b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     before this cutting fr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2286000"/>
            <a:ext cx="5334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applications involving one un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applications involving two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523880" y="190512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ut again by one third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nger part 10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720" y="15382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78280" y="5729400"/>
            <a:ext cx="57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how long was my original 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3000" y="51195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3880" y="4419720"/>
            <a:ext cx="655344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360" y="446400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23520" y="4711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38520" y="4738680"/>
            <a:ext cx="43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523880" y="190512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ut again by one third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nger part 10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2720" y="15382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78280" y="5729400"/>
            <a:ext cx="57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how long was my original 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3000" y="51195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32360" y="446400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523520" y="4711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0760" y="390204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523880" y="4419720"/>
            <a:ext cx="289584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4419720"/>
            <a:ext cx="330516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38520" y="4738680"/>
            <a:ext cx="43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1523880" y="190512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ut again by one third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nger part 10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2720" y="15382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78280" y="5729400"/>
            <a:ext cx="57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how long was my original 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3000" y="51195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360" y="446400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523520" y="4711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0760" y="3902040"/>
            <a:ext cx="1752480" cy="13143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724280" y="4419720"/>
            <a:ext cx="330516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38520" y="4738680"/>
            <a:ext cx="43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243480" y="3321000"/>
                <a:ext cx="69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 flipH="1">
            <a:off x="4723920" y="3902040"/>
            <a:ext cx="138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37200" y="388620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523880" y="190512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again by one third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onger part 10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2720" y="15382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78280" y="5729400"/>
            <a:ext cx="57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how long was my original 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000" y="51195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90204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638680" y="4419720"/>
            <a:ext cx="239076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6243480" y="3321000"/>
                <a:ext cx="69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1" name=""/>
          <p:cNvSpPr/>
          <p:nvPr/>
        </p:nvSpPr>
        <p:spPr>
          <a:xfrm flipH="1">
            <a:off x="4723920" y="3902040"/>
            <a:ext cx="138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37200" y="388620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419720"/>
            <a:ext cx="7146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342120" y="4495680"/>
                <a:ext cx="1201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 flipH="1">
            <a:off x="5638680" y="5029200"/>
            <a:ext cx="62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43800" y="5029200"/>
            <a:ext cx="48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480" y="17524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in half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half was thrown 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cut again by one third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longer part 10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400" y="13096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028960"/>
            <a:ext cx="1752840" cy="1314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095880" y="2546280"/>
            <a:ext cx="239076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6700680" y="1447920"/>
                <a:ext cx="6937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 flipH="1">
            <a:off x="5181120" y="2028960"/>
            <a:ext cx="1389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94400" y="2013120"/>
            <a:ext cx="1092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81480" y="2546280"/>
            <a:ext cx="71460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799320" y="2622600"/>
                <a:ext cx="1201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 flipH="1">
            <a:off x="6095880" y="3156120"/>
            <a:ext cx="62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01000" y="3156120"/>
            <a:ext cx="48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762120" y="4186080"/>
                <a:ext cx="1201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2117880" y="42433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1963800" y="4406760"/>
                <a:ext cx="761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3276720" y="4125960"/>
                <a:ext cx="1676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L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78560" y="4145040"/>
                <a:ext cx="15080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762120" y="5540400"/>
                <a:ext cx="1963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352680" y="5638680"/>
                <a:ext cx="2314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914400" y="2133720"/>
            <a:ext cx="74390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olving Applications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ith Two Unknowns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26668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s involving two unknow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3581280"/>
            <a:ext cx="8153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information – stated or understood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o help solve for the unknow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derstood information coul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nclude facts (i.e., 12 inches = 1 fo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3520" y="15210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daughter is 2/5 the age of her father. If their combined ages are 56, what are their individual a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215040" y="2209680"/>
            <a:ext cx="2166840" cy="3962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33520" y="1521000"/>
            <a:ext cx="60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daughter i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/5 the age of her fath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If their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mbined ages are 5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what are their individual a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838080" y="3809880"/>
            <a:ext cx="3886200" cy="2394000"/>
            <a:chOff x="838080" y="3809880"/>
            <a:chExt cx="3886200" cy="2394000"/>
          </a:xfrm>
        </p:grpSpPr>
        <p:sp>
          <p:nvSpPr>
            <p:cNvPr id="527" name=""/>
            <p:cNvSpPr/>
            <p:nvPr/>
          </p:nvSpPr>
          <p:spPr>
            <a:xfrm>
              <a:off x="838080" y="380988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3000" y="4464000"/>
              <a:ext cx="3581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what are their individual age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143000" y="2163600"/>
            <a:ext cx="6248520" cy="1419120"/>
            <a:chOff x="1143000" y="2163600"/>
            <a:chExt cx="6248520" cy="1419120"/>
          </a:xfrm>
        </p:grpSpPr>
        <p:sp>
          <p:nvSpPr>
            <p:cNvPr id="530" name=""/>
            <p:cNvSpPr/>
            <p:nvPr/>
          </p:nvSpPr>
          <p:spPr>
            <a:xfrm>
              <a:off x="1143000" y="216360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aughter = 2/5 father’s ag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43000" y="294012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aughter + father = 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062760" y="2209680"/>
            <a:ext cx="216684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00200" y="1295280"/>
            <a:ext cx="1905120" cy="1114920"/>
            <a:chOff x="1600200" y="1295280"/>
            <a:chExt cx="1905120" cy="1114920"/>
          </a:xfrm>
        </p:grpSpPr>
        <p:sp>
          <p:nvSpPr>
            <p:cNvPr id="536" name=""/>
            <p:cNvSpPr/>
            <p:nvPr/>
          </p:nvSpPr>
          <p:spPr>
            <a:xfrm>
              <a:off x="1600200" y="15303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 =     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541600" y="1295280"/>
              <a:ext cx="426960" cy="1114920"/>
              <a:chOff x="2541600" y="1295280"/>
              <a:chExt cx="426960" cy="1114920"/>
            </a:xfrm>
          </p:grpSpPr>
          <p:sp>
            <p:nvSpPr>
              <p:cNvPr id="538" name=""/>
              <p:cNvSpPr/>
              <p:nvPr/>
            </p:nvSpPr>
            <p:spPr>
              <a:xfrm>
                <a:off x="2547000" y="129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48800" y="1828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41600" y="185904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5105520" y="15303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+ f = 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048120" y="2408400"/>
            <a:ext cx="3047760" cy="1218960"/>
            <a:chOff x="3048120" y="2408400"/>
            <a:chExt cx="3047760" cy="1218960"/>
          </a:xfrm>
        </p:grpSpPr>
        <p:sp>
          <p:nvSpPr>
            <p:cNvPr id="543" name=""/>
            <p:cNvSpPr/>
            <p:nvPr/>
          </p:nvSpPr>
          <p:spPr>
            <a:xfrm>
              <a:off x="3048120" y="2408400"/>
              <a:ext cx="3047760" cy="1218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3177720" y="2462040"/>
              <a:ext cx="2792880" cy="1114920"/>
              <a:chOff x="3177720" y="2462040"/>
              <a:chExt cx="2792880" cy="111492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3177720" y="2462040"/>
                <a:ext cx="427320" cy="1114920"/>
                <a:chOff x="3177720" y="2462040"/>
                <a:chExt cx="427320" cy="11149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3183480" y="2462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185280" y="2995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177720" y="3025800"/>
                  <a:ext cx="427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3532320" y="2698560"/>
                <a:ext cx="243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f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+ f = 5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0" name=""/>
          <p:cNvGrpSpPr/>
          <p:nvPr/>
        </p:nvGrpSpPr>
        <p:grpSpPr>
          <a:xfrm>
            <a:off x="2898720" y="3886200"/>
            <a:ext cx="3249720" cy="1114560"/>
            <a:chOff x="2898720" y="3886200"/>
            <a:chExt cx="3249720" cy="1114560"/>
          </a:xfrm>
        </p:grpSpPr>
        <p:grpSp>
          <p:nvGrpSpPr>
            <p:cNvPr id="551" name=""/>
            <p:cNvGrpSpPr/>
            <p:nvPr/>
          </p:nvGrpSpPr>
          <p:grpSpPr>
            <a:xfrm>
              <a:off x="2898720" y="3886200"/>
              <a:ext cx="427320" cy="1114560"/>
              <a:chOff x="2898720" y="3886200"/>
              <a:chExt cx="427320" cy="1114560"/>
            </a:xfrm>
          </p:grpSpPr>
          <p:sp>
            <p:nvSpPr>
              <p:cNvPr id="552" name=""/>
              <p:cNvSpPr/>
              <p:nvPr/>
            </p:nvSpPr>
            <p:spPr>
              <a:xfrm>
                <a:off x="2904480" y="3886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05920" y="441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98720" y="4449600"/>
                <a:ext cx="42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4548240" y="41227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 = 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55200" y="4120920"/>
              <a:ext cx="7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170240" y="3886200"/>
              <a:ext cx="426960" cy="1114560"/>
              <a:chOff x="4170240" y="3886200"/>
              <a:chExt cx="426960" cy="1114560"/>
            </a:xfrm>
          </p:grpSpPr>
          <p:sp>
            <p:nvSpPr>
              <p:cNvPr id="558" name=""/>
              <p:cNvSpPr/>
              <p:nvPr/>
            </p:nvSpPr>
            <p:spPr>
              <a:xfrm>
                <a:off x="4176000" y="3886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177440" y="441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170240" y="444960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3429000" y="5257800"/>
            <a:ext cx="2236680" cy="1219320"/>
            <a:chOff x="3429000" y="5257800"/>
            <a:chExt cx="2236680" cy="1219320"/>
          </a:xfrm>
        </p:grpSpPr>
        <p:sp>
          <p:nvSpPr>
            <p:cNvPr id="562" name=""/>
            <p:cNvSpPr/>
            <p:nvPr/>
          </p:nvSpPr>
          <p:spPr>
            <a:xfrm>
              <a:off x="3429000" y="5257800"/>
              <a:ext cx="223668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560400" y="5311800"/>
              <a:ext cx="1978200" cy="1114560"/>
              <a:chOff x="3560400" y="5311800"/>
              <a:chExt cx="1978200" cy="1114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938400" y="5547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f = 5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3560400" y="5311800"/>
                <a:ext cx="426960" cy="1114560"/>
                <a:chOff x="3560400" y="5311800"/>
                <a:chExt cx="426960" cy="1114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566160" y="5311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67600" y="5844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560400" y="5875200"/>
                  <a:ext cx="42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9320" y="1905120"/>
            <a:ext cx="67053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Application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One Unknown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352680" y="4221000"/>
            <a:ext cx="2511720" cy="1114560"/>
            <a:chOff x="3352680" y="4221000"/>
            <a:chExt cx="2511720" cy="1114560"/>
          </a:xfrm>
        </p:grpSpPr>
        <p:grpSp>
          <p:nvGrpSpPr>
            <p:cNvPr id="571" name=""/>
            <p:cNvGrpSpPr/>
            <p:nvPr/>
          </p:nvGrpSpPr>
          <p:grpSpPr>
            <a:xfrm>
              <a:off x="4281480" y="4221000"/>
              <a:ext cx="664920" cy="1114560"/>
              <a:chOff x="4281480" y="4221000"/>
              <a:chExt cx="664920" cy="1114560"/>
            </a:xfrm>
          </p:grpSpPr>
          <p:sp>
            <p:nvSpPr>
              <p:cNvPr id="572" name=""/>
              <p:cNvSpPr/>
              <p:nvPr/>
            </p:nvSpPr>
            <p:spPr>
              <a:xfrm>
                <a:off x="4289760" y="4221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05320" y="4754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81480" y="4784400"/>
                <a:ext cx="66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352680" y="4457520"/>
              <a:ext cx="9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76280" y="44337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5437080" y="4221000"/>
              <a:ext cx="427320" cy="1114560"/>
              <a:chOff x="5437080" y="4221000"/>
              <a:chExt cx="427320" cy="1114560"/>
            </a:xfrm>
          </p:grpSpPr>
          <p:sp>
            <p:nvSpPr>
              <p:cNvPr id="578" name=""/>
              <p:cNvSpPr/>
              <p:nvPr/>
            </p:nvSpPr>
            <p:spPr>
              <a:xfrm>
                <a:off x="5442840" y="4221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44280" y="4754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37080" y="4784400"/>
                <a:ext cx="42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3024360" y="5432400"/>
            <a:ext cx="2995560" cy="892080"/>
            <a:chOff x="3024360" y="5432400"/>
            <a:chExt cx="2995560" cy="892080"/>
          </a:xfrm>
        </p:grpSpPr>
        <p:sp>
          <p:nvSpPr>
            <p:cNvPr id="582" name=""/>
            <p:cNvSpPr/>
            <p:nvPr/>
          </p:nvSpPr>
          <p:spPr>
            <a:xfrm>
              <a:off x="3024360" y="5432400"/>
              <a:ext cx="2995560" cy="892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75120" y="55576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0 yea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584520" y="1295280"/>
            <a:ext cx="1978200" cy="1114560"/>
            <a:chOff x="3584520" y="1295280"/>
            <a:chExt cx="1978200" cy="1114560"/>
          </a:xfrm>
        </p:grpSpPr>
        <p:sp>
          <p:nvSpPr>
            <p:cNvPr id="585" name=""/>
            <p:cNvSpPr/>
            <p:nvPr/>
          </p:nvSpPr>
          <p:spPr>
            <a:xfrm>
              <a:off x="3962520" y="15318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f = 5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3584520" y="1295280"/>
              <a:ext cx="427320" cy="1114560"/>
              <a:chOff x="3584520" y="1295280"/>
              <a:chExt cx="427320" cy="1114560"/>
            </a:xfrm>
          </p:grpSpPr>
          <p:sp>
            <p:nvSpPr>
              <p:cNvPr id="587" name=""/>
              <p:cNvSpPr/>
              <p:nvPr/>
            </p:nvSpPr>
            <p:spPr>
              <a:xfrm>
                <a:off x="3590280" y="129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91720" y="1828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4520" y="1858680"/>
                <a:ext cx="42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2514600" y="2476440"/>
            <a:ext cx="4191120" cy="1333440"/>
            <a:chOff x="2514600" y="2476440"/>
            <a:chExt cx="4191120" cy="1333440"/>
          </a:xfrm>
        </p:grpSpPr>
        <p:sp>
          <p:nvSpPr>
            <p:cNvPr id="591" name=""/>
            <p:cNvSpPr/>
            <p:nvPr/>
          </p:nvSpPr>
          <p:spPr>
            <a:xfrm>
              <a:off x="2514600" y="2476440"/>
              <a:ext cx="4191120" cy="1333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631600" y="2587680"/>
              <a:ext cx="3955680" cy="1114920"/>
              <a:chOff x="2631600" y="2587680"/>
              <a:chExt cx="3955680" cy="111492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2631600" y="2587680"/>
                <a:ext cx="426960" cy="1114920"/>
                <a:chOff x="2631600" y="2587680"/>
                <a:chExt cx="426960" cy="11149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2637720" y="2587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638800" y="3121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631600" y="3151440"/>
                  <a:ext cx="4269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4152960" y="2824200"/>
                <a:ext cx="198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f) = 56 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6160320" y="2587680"/>
                <a:ext cx="426960" cy="1114920"/>
                <a:chOff x="6160320" y="2587680"/>
                <a:chExt cx="426960" cy="11149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6166440" y="2587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67520" y="3121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160320" y="3151440"/>
                  <a:ext cx="4269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3062160" y="2830320"/>
                <a:ext cx="709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3722400" y="2587680"/>
                <a:ext cx="426960" cy="1114560"/>
                <a:chOff x="3722400" y="2587680"/>
                <a:chExt cx="426960" cy="111456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728160" y="2587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729600" y="312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722400" y="3151080"/>
                  <a:ext cx="426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7" name=""/>
          <p:cNvGrpSpPr/>
          <p:nvPr/>
        </p:nvGrpSpPr>
        <p:grpSpPr>
          <a:xfrm>
            <a:off x="2590920" y="2750760"/>
            <a:ext cx="1523880" cy="830520"/>
            <a:chOff x="2590920" y="2750760"/>
            <a:chExt cx="1523880" cy="830520"/>
          </a:xfrm>
        </p:grpSpPr>
        <p:sp>
          <p:nvSpPr>
            <p:cNvPr id="608" name=""/>
            <p:cNvSpPr/>
            <p:nvPr/>
          </p:nvSpPr>
          <p:spPr>
            <a:xfrm flipV="1">
              <a:off x="2590920" y="2750760"/>
              <a:ext cx="433440" cy="297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590920" y="3284640"/>
              <a:ext cx="433440" cy="296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681360" y="2750760"/>
              <a:ext cx="433440" cy="297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681360" y="3284640"/>
              <a:ext cx="433440" cy="296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343400" y="3960720"/>
            <a:ext cx="1523880" cy="1208160"/>
            <a:chOff x="4343400" y="3960720"/>
            <a:chExt cx="1523880" cy="1208160"/>
          </a:xfrm>
        </p:grpSpPr>
        <p:sp>
          <p:nvSpPr>
            <p:cNvPr id="613" name=""/>
            <p:cNvSpPr/>
            <p:nvPr/>
          </p:nvSpPr>
          <p:spPr>
            <a:xfrm flipV="1">
              <a:off x="4343400" y="4381200"/>
              <a:ext cx="579600" cy="297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433840" y="4872240"/>
              <a:ext cx="433440" cy="296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04920" y="3960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124080" y="1523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 = 40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666880" y="2514600"/>
            <a:ext cx="1905120" cy="1114560"/>
            <a:chOff x="2666880" y="2514600"/>
            <a:chExt cx="1905120" cy="1114560"/>
          </a:xfrm>
        </p:grpSpPr>
        <p:sp>
          <p:nvSpPr>
            <p:cNvPr id="619" name=""/>
            <p:cNvSpPr/>
            <p:nvPr/>
          </p:nvSpPr>
          <p:spPr>
            <a:xfrm>
              <a:off x="2666880" y="2751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 =     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608280" y="2514600"/>
              <a:ext cx="426960" cy="1114560"/>
              <a:chOff x="3608280" y="2514600"/>
              <a:chExt cx="426960" cy="1114560"/>
            </a:xfrm>
          </p:grpSpPr>
          <p:sp>
            <p:nvSpPr>
              <p:cNvPr id="621" name=""/>
              <p:cNvSpPr/>
              <p:nvPr/>
            </p:nvSpPr>
            <p:spPr>
              <a:xfrm>
                <a:off x="3613680" y="2514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615480" y="3047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608280" y="307800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4" name=""/>
          <p:cNvGrpSpPr/>
          <p:nvPr/>
        </p:nvGrpSpPr>
        <p:grpSpPr>
          <a:xfrm>
            <a:off x="4419720" y="2516040"/>
            <a:ext cx="2057400" cy="1114560"/>
            <a:chOff x="4419720" y="2516040"/>
            <a:chExt cx="2057400" cy="1114560"/>
          </a:xfrm>
        </p:grpSpPr>
        <p:sp>
          <p:nvSpPr>
            <p:cNvPr id="625" name=""/>
            <p:cNvSpPr/>
            <p:nvPr/>
          </p:nvSpPr>
          <p:spPr>
            <a:xfrm>
              <a:off x="4419720" y="275076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    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4903920" y="2516040"/>
              <a:ext cx="426960" cy="1114560"/>
              <a:chOff x="4903920" y="2516040"/>
              <a:chExt cx="426960" cy="1114560"/>
            </a:xfrm>
          </p:grpSpPr>
          <p:sp>
            <p:nvSpPr>
              <p:cNvPr id="627" name=""/>
              <p:cNvSpPr/>
              <p:nvPr/>
            </p:nvSpPr>
            <p:spPr>
              <a:xfrm>
                <a:off x="4909320" y="2516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911120" y="304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903920" y="307944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4200120" y="4038480"/>
            <a:ext cx="676440" cy="1114560"/>
            <a:chOff x="4200120" y="4038480"/>
            <a:chExt cx="676440" cy="1114560"/>
          </a:xfrm>
        </p:grpSpPr>
        <p:sp>
          <p:nvSpPr>
            <p:cNvPr id="631" name=""/>
            <p:cNvSpPr/>
            <p:nvPr/>
          </p:nvSpPr>
          <p:spPr>
            <a:xfrm>
              <a:off x="4213440" y="40384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29720" y="4571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00120" y="4601880"/>
              <a:ext cx="67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286000" y="560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ughter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6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38160" y="1592280"/>
            <a:ext cx="16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87480" y="236232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aughter + father = 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48400" y="3276720"/>
            <a:ext cx="38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6    +   40     = 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788440" y="504180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O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457200" y="13716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wner of a store predicts that a second store she will open will earn ¾ of the amount her first store does. If she hopes to have sales totaling $90,000, what will each store need to take 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" y="13716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owner of a store predicts that a second store she will open will ear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¾ of the amount her first sto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es. If she hopes to hav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les totaling $90,0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what will each store need to take 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38520" cy="1990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495680" y="1447920"/>
            <a:ext cx="3886200" cy="1845360"/>
            <a:chOff x="4495680" y="1447920"/>
            <a:chExt cx="3886200" cy="1845360"/>
          </a:xfrm>
        </p:grpSpPr>
        <p:sp>
          <p:nvSpPr>
            <p:cNvPr id="646" name=""/>
            <p:cNvSpPr/>
            <p:nvPr/>
          </p:nvSpPr>
          <p:spPr>
            <a:xfrm>
              <a:off x="4495680" y="14479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00600" y="2102040"/>
              <a:ext cx="358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what are each store’s sale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143000" y="2163600"/>
            <a:ext cx="3581280" cy="1419120"/>
            <a:chOff x="1143000" y="2163600"/>
            <a:chExt cx="3581280" cy="1419120"/>
          </a:xfrm>
        </p:grpSpPr>
        <p:sp>
          <p:nvSpPr>
            <p:cNvPr id="649" name=""/>
            <p:cNvSpPr/>
            <p:nvPr/>
          </p:nvSpPr>
          <p:spPr>
            <a:xfrm>
              <a:off x="1143000" y="21636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 = ¾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43000" y="294012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a + b = $9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38520" cy="199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1752480" y="1295280"/>
            <a:ext cx="1905120" cy="1114920"/>
            <a:chOff x="1752480" y="1295280"/>
            <a:chExt cx="1905120" cy="1114920"/>
          </a:xfrm>
        </p:grpSpPr>
        <p:sp>
          <p:nvSpPr>
            <p:cNvPr id="655" name=""/>
            <p:cNvSpPr/>
            <p:nvPr/>
          </p:nvSpPr>
          <p:spPr>
            <a:xfrm>
              <a:off x="1752480" y="15303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 =    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693880" y="1295280"/>
              <a:ext cx="426960" cy="1114920"/>
              <a:chOff x="2693880" y="1295280"/>
              <a:chExt cx="426960" cy="1114920"/>
            </a:xfrm>
          </p:grpSpPr>
          <p:sp>
            <p:nvSpPr>
              <p:cNvPr id="657" name=""/>
              <p:cNvSpPr/>
              <p:nvPr/>
            </p:nvSpPr>
            <p:spPr>
              <a:xfrm>
                <a:off x="2699280" y="129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01080" y="1828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93880" y="185904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0" name=""/>
          <p:cNvSpPr/>
          <p:nvPr/>
        </p:nvSpPr>
        <p:spPr>
          <a:xfrm>
            <a:off x="4572000" y="1530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+ b = $9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441520" y="3992400"/>
            <a:ext cx="4235400" cy="1114560"/>
            <a:chOff x="2441520" y="3992400"/>
            <a:chExt cx="4235400" cy="1114560"/>
          </a:xfrm>
        </p:grpSpPr>
        <p:grpSp>
          <p:nvGrpSpPr>
            <p:cNvPr id="662" name=""/>
            <p:cNvGrpSpPr/>
            <p:nvPr/>
          </p:nvGrpSpPr>
          <p:grpSpPr>
            <a:xfrm>
              <a:off x="2441520" y="3992400"/>
              <a:ext cx="426960" cy="1114560"/>
              <a:chOff x="2441520" y="3992400"/>
              <a:chExt cx="426960" cy="1114560"/>
            </a:xfrm>
          </p:grpSpPr>
          <p:sp>
            <p:nvSpPr>
              <p:cNvPr id="663" name=""/>
              <p:cNvSpPr/>
              <p:nvPr/>
            </p:nvSpPr>
            <p:spPr>
              <a:xfrm>
                <a:off x="2447280" y="3992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448720" y="4525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441520" y="4555800"/>
                <a:ext cx="4269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114800" y="4228920"/>
              <a:ext cx="25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 9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48680" y="4227120"/>
              <a:ext cx="81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713040" y="3992400"/>
              <a:ext cx="426960" cy="1114560"/>
              <a:chOff x="3713040" y="3992400"/>
              <a:chExt cx="426960" cy="1114560"/>
            </a:xfrm>
          </p:grpSpPr>
          <p:sp>
            <p:nvSpPr>
              <p:cNvPr id="669" name=""/>
              <p:cNvSpPr/>
              <p:nvPr/>
            </p:nvSpPr>
            <p:spPr>
              <a:xfrm>
                <a:off x="3718800" y="3992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720240" y="4525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713040" y="455580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2971800" y="5288040"/>
            <a:ext cx="3151080" cy="1114560"/>
            <a:chOff x="2971800" y="5288040"/>
            <a:chExt cx="3151080" cy="1114560"/>
          </a:xfrm>
        </p:grpSpPr>
        <p:sp>
          <p:nvSpPr>
            <p:cNvPr id="673" name=""/>
            <p:cNvSpPr/>
            <p:nvPr/>
          </p:nvSpPr>
          <p:spPr>
            <a:xfrm>
              <a:off x="2971800" y="5288040"/>
              <a:ext cx="3151080" cy="1112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065400" y="5288040"/>
              <a:ext cx="2968560" cy="1114560"/>
              <a:chOff x="3065400" y="5288040"/>
              <a:chExt cx="2968560" cy="1114560"/>
            </a:xfrm>
          </p:grpSpPr>
          <p:sp>
            <p:nvSpPr>
              <p:cNvPr id="675" name=""/>
              <p:cNvSpPr/>
              <p:nvPr/>
            </p:nvSpPr>
            <p:spPr>
              <a:xfrm>
                <a:off x="3519360" y="55242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 = 90,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065400" y="5288040"/>
                <a:ext cx="427320" cy="1114560"/>
                <a:chOff x="3065400" y="5288040"/>
                <a:chExt cx="427320" cy="11145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071160" y="5288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072600" y="5821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065400" y="5851440"/>
                  <a:ext cx="427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0" name=""/>
          <p:cNvGrpSpPr/>
          <p:nvPr/>
        </p:nvGrpSpPr>
        <p:grpSpPr>
          <a:xfrm>
            <a:off x="2668320" y="2543040"/>
            <a:ext cx="3808800" cy="1116360"/>
            <a:chOff x="2668320" y="2543040"/>
            <a:chExt cx="3808800" cy="1116360"/>
          </a:xfrm>
        </p:grpSpPr>
        <p:sp>
          <p:nvSpPr>
            <p:cNvPr id="681" name=""/>
            <p:cNvSpPr/>
            <p:nvPr/>
          </p:nvSpPr>
          <p:spPr>
            <a:xfrm>
              <a:off x="2690640" y="2543040"/>
              <a:ext cx="3786480" cy="1112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2668320" y="2544480"/>
              <a:ext cx="3808440" cy="1114920"/>
              <a:chOff x="2668320" y="2544480"/>
              <a:chExt cx="3808440" cy="111492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555360" y="2544480"/>
                <a:ext cx="427320" cy="1114920"/>
                <a:chOff x="3555360" y="2544480"/>
                <a:chExt cx="427320" cy="1114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3561120" y="2544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562920" y="3078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555360" y="3108240"/>
                  <a:ext cx="427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>
                <a:off x="3985920" y="2781000"/>
                <a:ext cx="249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a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= 90,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68320" y="2779200"/>
                <a:ext cx="81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 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895480" y="4145040"/>
            <a:ext cx="3402360" cy="1114560"/>
            <a:chOff x="2895480" y="4145040"/>
            <a:chExt cx="3402360" cy="1114560"/>
          </a:xfrm>
        </p:grpSpPr>
        <p:grpSp>
          <p:nvGrpSpPr>
            <p:cNvPr id="691" name=""/>
            <p:cNvGrpSpPr/>
            <p:nvPr/>
          </p:nvGrpSpPr>
          <p:grpSpPr>
            <a:xfrm>
              <a:off x="3733920" y="4145040"/>
              <a:ext cx="1596960" cy="1114560"/>
              <a:chOff x="3733920" y="4145040"/>
              <a:chExt cx="1596960" cy="111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3733920" y="4145040"/>
                <a:ext cx="1596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0,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324320" y="4678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09880" y="4724280"/>
                <a:ext cx="144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2895480" y="438156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60760" y="4381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5870520" y="4145040"/>
              <a:ext cx="427320" cy="1114560"/>
              <a:chOff x="5870520" y="4145040"/>
              <a:chExt cx="427320" cy="1114560"/>
            </a:xfrm>
          </p:grpSpPr>
          <p:sp>
            <p:nvSpPr>
              <p:cNvPr id="698" name=""/>
              <p:cNvSpPr/>
              <p:nvPr/>
            </p:nvSpPr>
            <p:spPr>
              <a:xfrm>
                <a:off x="5876280" y="4145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77720" y="4678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70520" y="4708440"/>
                <a:ext cx="42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1" name=""/>
          <p:cNvGrpSpPr/>
          <p:nvPr/>
        </p:nvGrpSpPr>
        <p:grpSpPr>
          <a:xfrm>
            <a:off x="3051360" y="1295280"/>
            <a:ext cx="2968560" cy="1114560"/>
            <a:chOff x="3051360" y="1295280"/>
            <a:chExt cx="2968560" cy="1114560"/>
          </a:xfrm>
        </p:grpSpPr>
        <p:sp>
          <p:nvSpPr>
            <p:cNvPr id="702" name=""/>
            <p:cNvSpPr/>
            <p:nvPr/>
          </p:nvSpPr>
          <p:spPr>
            <a:xfrm>
              <a:off x="3505320" y="15318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 9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051360" y="1295280"/>
              <a:ext cx="427320" cy="1114560"/>
              <a:chOff x="3051360" y="1295280"/>
              <a:chExt cx="427320" cy="1114560"/>
            </a:xfrm>
          </p:grpSpPr>
          <p:sp>
            <p:nvSpPr>
              <p:cNvPr id="704" name=""/>
              <p:cNvSpPr/>
              <p:nvPr/>
            </p:nvSpPr>
            <p:spPr>
              <a:xfrm>
                <a:off x="3057120" y="129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58560" y="1828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51360" y="1858680"/>
                <a:ext cx="42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1928880" y="2514600"/>
            <a:ext cx="5310000" cy="1219320"/>
            <a:chOff x="1928880" y="2514600"/>
            <a:chExt cx="5310000" cy="1219320"/>
          </a:xfrm>
        </p:grpSpPr>
        <p:sp>
          <p:nvSpPr>
            <p:cNvPr id="708" name=""/>
            <p:cNvSpPr/>
            <p:nvPr/>
          </p:nvSpPr>
          <p:spPr>
            <a:xfrm>
              <a:off x="1928880" y="2514600"/>
              <a:ext cx="531000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084400" y="2568600"/>
              <a:ext cx="4998960" cy="1114560"/>
              <a:chOff x="2084400" y="2568600"/>
              <a:chExt cx="4998960" cy="111456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3198600" y="2568600"/>
                <a:ext cx="426600" cy="1114560"/>
                <a:chOff x="3198600" y="2568600"/>
                <a:chExt cx="426600" cy="1114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3204360" y="2568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205440" y="3101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198600" y="3132000"/>
                  <a:ext cx="426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" name=""/>
              <p:cNvSpPr/>
              <p:nvPr/>
            </p:nvSpPr>
            <p:spPr>
              <a:xfrm>
                <a:off x="3605040" y="2805120"/>
                <a:ext cx="302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) = 90,000 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586960" y="2803320"/>
                <a:ext cx="60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2084400" y="2568600"/>
                <a:ext cx="426960" cy="1114560"/>
                <a:chOff x="2084400" y="2568600"/>
                <a:chExt cx="426960" cy="1114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2090160" y="2568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91600" y="3101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084400" y="3132000"/>
                  <a:ext cx="42696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656400" y="2568600"/>
                <a:ext cx="426960" cy="1114560"/>
                <a:chOff x="6656400" y="2568600"/>
                <a:chExt cx="426960" cy="11145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662160" y="2568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63600" y="3101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80808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56400" y="3132000"/>
                  <a:ext cx="42696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4" name=""/>
          <p:cNvGrpSpPr/>
          <p:nvPr/>
        </p:nvGrpSpPr>
        <p:grpSpPr>
          <a:xfrm>
            <a:off x="2057400" y="2750760"/>
            <a:ext cx="1523880" cy="830520"/>
            <a:chOff x="2057400" y="2750760"/>
            <a:chExt cx="1523880" cy="830520"/>
          </a:xfrm>
        </p:grpSpPr>
        <p:sp>
          <p:nvSpPr>
            <p:cNvPr id="725" name=""/>
            <p:cNvSpPr/>
            <p:nvPr/>
          </p:nvSpPr>
          <p:spPr>
            <a:xfrm flipV="1">
              <a:off x="2057400" y="2750760"/>
              <a:ext cx="433440" cy="297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2057400" y="3284640"/>
              <a:ext cx="433440" cy="29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147840" y="2750760"/>
              <a:ext cx="433440" cy="297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3147840" y="3284640"/>
              <a:ext cx="433440" cy="29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3048120" y="5486400"/>
            <a:ext cx="3124080" cy="870120"/>
            <a:chOff x="3048120" y="5486400"/>
            <a:chExt cx="3124080" cy="870120"/>
          </a:xfrm>
        </p:grpSpPr>
        <p:sp>
          <p:nvSpPr>
            <p:cNvPr id="730" name=""/>
            <p:cNvSpPr/>
            <p:nvPr/>
          </p:nvSpPr>
          <p:spPr>
            <a:xfrm>
              <a:off x="3048120" y="5486400"/>
              <a:ext cx="3124080" cy="870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25960" y="560088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51,4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24080" y="2057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$51,4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743200" y="3473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+ b = $9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38,5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57200" y="177804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friends agree to meet to talk about their Math 086 homework. One, jogging, leaves her house at 5 mph. The other, driving through traffic, leaves her house at 25 mph. How long will it take for them to meet up if they are 3 miles ap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77804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friends agree to meet to talk about their Math 086 homework. One, jogging, leaves her house at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 mp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The other, driving through traffic, leaves her house at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5 mp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How long will it take for them to mee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p if they ar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 miles apa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4572000" y="1447920"/>
            <a:ext cx="4114800" cy="1845000"/>
            <a:chOff x="4572000" y="1447920"/>
            <a:chExt cx="4114800" cy="1845000"/>
          </a:xfrm>
        </p:grpSpPr>
        <p:sp>
          <p:nvSpPr>
            <p:cNvPr id="741" name=""/>
            <p:cNvSpPr/>
            <p:nvPr/>
          </p:nvSpPr>
          <p:spPr>
            <a:xfrm>
              <a:off x="4572000" y="14479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876560" y="2101680"/>
              <a:ext cx="381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how long before they meet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143000" y="2163600"/>
            <a:ext cx="3429000" cy="2180880"/>
            <a:chOff x="1143000" y="2163600"/>
            <a:chExt cx="3429000" cy="2180880"/>
          </a:xfrm>
        </p:grpSpPr>
        <p:sp>
          <p:nvSpPr>
            <p:cNvPr id="745" name=""/>
            <p:cNvSpPr/>
            <p:nvPr/>
          </p:nvSpPr>
          <p:spPr>
            <a:xfrm>
              <a:off x="1143000" y="216360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jogging 5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3000" y="294012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riving 25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43000" y="370188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 miles a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00040" y="4579920"/>
            <a:ext cx="8136000" cy="1833480"/>
            <a:chOff x="500040" y="4579920"/>
            <a:chExt cx="8136000" cy="1833480"/>
          </a:xfrm>
        </p:grpSpPr>
        <p:grpSp>
          <p:nvGrpSpPr>
            <p:cNvPr id="749" name=""/>
            <p:cNvGrpSpPr/>
            <p:nvPr/>
          </p:nvGrpSpPr>
          <p:grpSpPr>
            <a:xfrm>
              <a:off x="1331640" y="4579920"/>
              <a:ext cx="6019200" cy="1833480"/>
              <a:chOff x="1331640" y="4579920"/>
              <a:chExt cx="6019200" cy="1833480"/>
            </a:xfrm>
          </p:grpSpPr>
          <p:pic>
            <p:nvPicPr>
              <p:cNvPr id="7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78040" y="4592520"/>
                <a:ext cx="197280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1640" y="4579920"/>
                <a:ext cx="1388880" cy="174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2" name=""/>
              <p:cNvGrpSpPr/>
              <p:nvPr/>
            </p:nvGrpSpPr>
            <p:grpSpPr>
              <a:xfrm>
                <a:off x="2702880" y="5867280"/>
                <a:ext cx="2674800" cy="546120"/>
                <a:chOff x="2702880" y="5867280"/>
                <a:chExt cx="2674800" cy="546120"/>
              </a:xfrm>
            </p:grpSpPr>
            <p:grpSp>
              <p:nvGrpSpPr>
                <p:cNvPr id="753" name=""/>
                <p:cNvGrpSpPr/>
                <p:nvPr/>
              </p:nvGrpSpPr>
              <p:grpSpPr>
                <a:xfrm>
                  <a:off x="2702880" y="6248520"/>
                  <a:ext cx="2674800" cy="164880"/>
                  <a:chOff x="2702880" y="6248520"/>
                  <a:chExt cx="2674800" cy="16488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2720160" y="6330960"/>
                    <a:ext cx="265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>
                    <a:off x="53776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V="1">
                    <a:off x="27028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7" name=""/>
                <p:cNvSpPr/>
                <p:nvPr/>
              </p:nvSpPr>
              <p:spPr>
                <a:xfrm>
                  <a:off x="3277440" y="5867280"/>
                  <a:ext cx="152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 mile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8" name=""/>
            <p:cNvSpPr/>
            <p:nvPr/>
          </p:nvSpPr>
          <p:spPr>
            <a:xfrm>
              <a:off x="500040" y="519588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87400" y="519588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5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523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key to solving word problems is to alw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971800"/>
            <a:ext cx="67816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what’s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what’s being as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helpful words (of, increased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creased, etc.) that indica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he operation(s) you will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7524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underst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057400" y="2711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= rate •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3701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500040" y="4579920"/>
            <a:ext cx="8136000" cy="1833480"/>
            <a:chOff x="500040" y="4579920"/>
            <a:chExt cx="8136000" cy="1833480"/>
          </a:xfrm>
        </p:grpSpPr>
        <p:grpSp>
          <p:nvGrpSpPr>
            <p:cNvPr id="765" name=""/>
            <p:cNvGrpSpPr/>
            <p:nvPr/>
          </p:nvGrpSpPr>
          <p:grpSpPr>
            <a:xfrm>
              <a:off x="1331640" y="4579920"/>
              <a:ext cx="6019200" cy="1833480"/>
              <a:chOff x="1331640" y="4579920"/>
              <a:chExt cx="6019200" cy="1833480"/>
            </a:xfrm>
          </p:grpSpPr>
          <p:pic>
            <p:nvPicPr>
              <p:cNvPr id="7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78040" y="4592520"/>
                <a:ext cx="197280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1640" y="4579920"/>
                <a:ext cx="1388880" cy="1744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8" name=""/>
              <p:cNvGrpSpPr/>
              <p:nvPr/>
            </p:nvGrpSpPr>
            <p:grpSpPr>
              <a:xfrm>
                <a:off x="2702880" y="5867280"/>
                <a:ext cx="2674800" cy="546120"/>
                <a:chOff x="2702880" y="5867280"/>
                <a:chExt cx="2674800" cy="546120"/>
              </a:xfrm>
            </p:grpSpPr>
            <p:grpSp>
              <p:nvGrpSpPr>
                <p:cNvPr id="769" name=""/>
                <p:cNvGrpSpPr/>
                <p:nvPr/>
              </p:nvGrpSpPr>
              <p:grpSpPr>
                <a:xfrm>
                  <a:off x="2702880" y="6248520"/>
                  <a:ext cx="2674800" cy="164880"/>
                  <a:chOff x="2702880" y="6248520"/>
                  <a:chExt cx="2674800" cy="16488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2720160" y="6330960"/>
                    <a:ext cx="265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53776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27028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"/>
                <p:cNvSpPr/>
                <p:nvPr/>
              </p:nvSpPr>
              <p:spPr>
                <a:xfrm>
                  <a:off x="3277440" y="5867280"/>
                  <a:ext cx="152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3 mile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"/>
            <p:cNvSpPr/>
            <p:nvPr/>
          </p:nvSpPr>
          <p:spPr>
            <a:xfrm>
              <a:off x="500040" y="5195880"/>
              <a:ext cx="12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7400" y="519588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5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666880" y="2635200"/>
            <a:ext cx="1752840" cy="1800720"/>
            <a:chOff x="2666880" y="2635200"/>
            <a:chExt cx="1752840" cy="1800720"/>
          </a:xfrm>
        </p:grpSpPr>
        <p:sp>
          <p:nvSpPr>
            <p:cNvPr id="778" name=""/>
            <p:cNvSpPr/>
            <p:nvPr/>
          </p:nvSpPr>
          <p:spPr>
            <a:xfrm>
              <a:off x="2743200" y="26352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66880" y="324468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5143680" y="2635200"/>
            <a:ext cx="457200" cy="1252080"/>
            <a:chOff x="5143680" y="2635200"/>
            <a:chExt cx="457200" cy="1252080"/>
          </a:xfrm>
        </p:grpSpPr>
        <p:sp>
          <p:nvSpPr>
            <p:cNvPr id="781" name=""/>
            <p:cNvSpPr/>
            <p:nvPr/>
          </p:nvSpPr>
          <p:spPr>
            <a:xfrm>
              <a:off x="5143680" y="2635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43680" y="32446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858000" y="2635200"/>
            <a:ext cx="1066680" cy="1252080"/>
            <a:chOff x="6858000" y="2635200"/>
            <a:chExt cx="1066680" cy="1252080"/>
          </a:xfrm>
        </p:grpSpPr>
        <p:sp>
          <p:nvSpPr>
            <p:cNvPr id="784" name=""/>
            <p:cNvSpPr/>
            <p:nvPr/>
          </p:nvSpPr>
          <p:spPr>
            <a:xfrm>
              <a:off x="6972480" y="26352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58000" y="3244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5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09480" y="1447920"/>
            <a:ext cx="7848720" cy="2439360"/>
            <a:chOff x="609480" y="1447920"/>
            <a:chExt cx="7848720" cy="2439360"/>
          </a:xfrm>
        </p:grpSpPr>
        <p:sp>
          <p:nvSpPr>
            <p:cNvPr id="787" name=""/>
            <p:cNvSpPr/>
            <p:nvPr/>
          </p:nvSpPr>
          <p:spPr>
            <a:xfrm>
              <a:off x="609480" y="1996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tud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933640" y="1996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19720" y="14479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me (hours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24480" y="19969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st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09480" y="2635200"/>
              <a:ext cx="784872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257480" y="26352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327636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257480" y="32446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609480" y="3870000"/>
              <a:ext cx="784872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66880" y="14479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1972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2448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45820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9480" y="14479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09480" y="1447920"/>
              <a:ext cx="784872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3581280" y="4006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r •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14600" y="4844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= 3 m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5683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t + 25t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57600" y="3168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0t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1905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t + 25t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981080" y="4525920"/>
            <a:ext cx="1600200" cy="1114920"/>
            <a:chOff x="1981080" y="4525920"/>
            <a:chExt cx="1600200" cy="1114920"/>
          </a:xfrm>
        </p:grpSpPr>
        <p:sp>
          <p:nvSpPr>
            <p:cNvPr id="809" name=""/>
            <p:cNvSpPr/>
            <p:nvPr/>
          </p:nvSpPr>
          <p:spPr>
            <a:xfrm>
              <a:off x="1981080" y="476244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2819520" y="4525920"/>
              <a:ext cx="761760" cy="1114920"/>
              <a:chOff x="2819520" y="4525920"/>
              <a:chExt cx="761760" cy="1114920"/>
            </a:xfrm>
          </p:grpSpPr>
          <p:sp>
            <p:nvSpPr>
              <p:cNvPr id="811" name=""/>
              <p:cNvSpPr/>
              <p:nvPr/>
            </p:nvSpPr>
            <p:spPr>
              <a:xfrm>
                <a:off x="3009960" y="4525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819520" y="50594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14560" y="50734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3581280" y="4525920"/>
            <a:ext cx="1218960" cy="1114920"/>
            <a:chOff x="3581280" y="4525920"/>
            <a:chExt cx="1218960" cy="1114920"/>
          </a:xfrm>
        </p:grpSpPr>
        <p:sp>
          <p:nvSpPr>
            <p:cNvPr id="815" name=""/>
            <p:cNvSpPr/>
            <p:nvPr/>
          </p:nvSpPr>
          <p:spPr>
            <a:xfrm>
              <a:off x="3581280" y="47624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038480" y="4525920"/>
              <a:ext cx="761760" cy="1114920"/>
              <a:chOff x="4038480" y="4525920"/>
              <a:chExt cx="761760" cy="1114920"/>
            </a:xfrm>
          </p:grpSpPr>
          <p:sp>
            <p:nvSpPr>
              <p:cNvPr id="817" name=""/>
              <p:cNvSpPr/>
              <p:nvPr/>
            </p:nvSpPr>
            <p:spPr>
              <a:xfrm>
                <a:off x="4228920" y="45259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38480" y="50594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133520" y="50734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0" name=""/>
          <p:cNvSpPr/>
          <p:nvPr/>
        </p:nvSpPr>
        <p:spPr>
          <a:xfrm>
            <a:off x="4800600" y="476244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an hou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0" y="1797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underst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2755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hour = 60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1790640" y="3732120"/>
            <a:ext cx="3124440" cy="1427760"/>
            <a:chOff x="1790640" y="3732120"/>
            <a:chExt cx="3124440" cy="1427760"/>
          </a:xfrm>
        </p:grpSpPr>
        <p:grpSp>
          <p:nvGrpSpPr>
            <p:cNvPr id="825" name=""/>
            <p:cNvGrpSpPr/>
            <p:nvPr/>
          </p:nvGrpSpPr>
          <p:grpSpPr>
            <a:xfrm>
              <a:off x="1790640" y="3732120"/>
              <a:ext cx="761760" cy="1114920"/>
              <a:chOff x="1790640" y="3732120"/>
              <a:chExt cx="761760" cy="1114920"/>
            </a:xfrm>
          </p:grpSpPr>
          <p:sp>
            <p:nvSpPr>
              <p:cNvPr id="826" name=""/>
              <p:cNvSpPr/>
              <p:nvPr/>
            </p:nvSpPr>
            <p:spPr>
              <a:xfrm>
                <a:off x="1981080" y="373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790640" y="42656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885680" y="42796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552760" y="39686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f an hou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915080" y="3732120"/>
            <a:ext cx="2476440" cy="1114920"/>
            <a:chOff x="4915080" y="3732120"/>
            <a:chExt cx="2476440" cy="1114920"/>
          </a:xfrm>
        </p:grpSpPr>
        <p:sp>
          <p:nvSpPr>
            <p:cNvPr id="831" name=""/>
            <p:cNvSpPr/>
            <p:nvPr/>
          </p:nvSpPr>
          <p:spPr>
            <a:xfrm>
              <a:off x="4915080" y="3968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5448240" y="3732120"/>
              <a:ext cx="761760" cy="1114920"/>
              <a:chOff x="5448240" y="3732120"/>
              <a:chExt cx="761760" cy="1114920"/>
            </a:xfrm>
          </p:grpSpPr>
          <p:sp>
            <p:nvSpPr>
              <p:cNvPr id="833" name=""/>
              <p:cNvSpPr/>
              <p:nvPr/>
            </p:nvSpPr>
            <p:spPr>
              <a:xfrm>
                <a:off x="5638680" y="373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448240" y="42656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543280" y="42796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34040" y="3968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667560" y="3732120"/>
              <a:ext cx="723960" cy="1114560"/>
              <a:chOff x="6667560" y="3732120"/>
              <a:chExt cx="723960" cy="1114560"/>
            </a:xfrm>
          </p:grpSpPr>
          <p:sp>
            <p:nvSpPr>
              <p:cNvPr id="838" name=""/>
              <p:cNvSpPr/>
              <p:nvPr/>
            </p:nvSpPr>
            <p:spPr>
              <a:xfrm>
                <a:off x="6667560" y="3732120"/>
                <a:ext cx="723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91400" y="426528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743880" y="4279680"/>
                <a:ext cx="571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1" name=""/>
          <p:cNvSpPr/>
          <p:nvPr/>
        </p:nvSpPr>
        <p:spPr>
          <a:xfrm>
            <a:off x="3352680" y="5149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457200" y="1523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 car leaves Phoenix traveling at 50 mph towards Tucson, and another leaves Phoenix at 70 mph towards Flagstaff, how long will it take for them to be 250 miles ap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7200" y="15238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a car leaves Phoenix traveling at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0 mp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wards Tucson, and another leaves Phoenix at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70 mp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wards Flagstaff,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how long will it tak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them to b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50 miles apar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150920" y="4581360"/>
            <a:ext cx="6773400" cy="1832040"/>
            <a:chOff x="1150920" y="4581360"/>
            <a:chExt cx="6773400" cy="1832040"/>
          </a:xfrm>
        </p:grpSpPr>
        <p:grpSp>
          <p:nvGrpSpPr>
            <p:cNvPr id="846" name=""/>
            <p:cNvGrpSpPr/>
            <p:nvPr/>
          </p:nvGrpSpPr>
          <p:grpSpPr>
            <a:xfrm>
              <a:off x="5957640" y="4583160"/>
              <a:ext cx="1966680" cy="1719360"/>
              <a:chOff x="5957640" y="4583160"/>
              <a:chExt cx="1966680" cy="1719360"/>
            </a:xfrm>
          </p:grpSpPr>
          <p:sp>
            <p:nvSpPr>
              <p:cNvPr id="847" name=""/>
              <p:cNvSpPr/>
              <p:nvPr/>
            </p:nvSpPr>
            <p:spPr>
              <a:xfrm flipH="1">
                <a:off x="6537960" y="5159520"/>
                <a:ext cx="85320" cy="109440"/>
              </a:xfrm>
              <a:custGeom>
                <a:avLst/>
                <a:gdLst/>
                <a:ahLst/>
                <a:rect l="l" t="t" r="r" b="b"/>
                <a:pathLst>
                  <a:path w="107" h="137">
                    <a:moveTo>
                      <a:pt x="0" y="94"/>
                    </a:moveTo>
                    <a:lnTo>
                      <a:pt x="47" y="0"/>
                    </a:lnTo>
                    <a:lnTo>
                      <a:pt x="107" y="17"/>
                    </a:lnTo>
                    <a:lnTo>
                      <a:pt x="56" y="13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266520" y="6060960"/>
                <a:ext cx="202680" cy="109800"/>
              </a:xfrm>
              <a:custGeom>
                <a:avLst/>
                <a:gdLst/>
                <a:ahLst/>
                <a:rect l="l" t="t" r="r" b="b"/>
                <a:pathLst>
                  <a:path w="256" h="137">
                    <a:moveTo>
                      <a:pt x="37" y="37"/>
                    </a:moveTo>
                    <a:lnTo>
                      <a:pt x="26" y="51"/>
                    </a:lnTo>
                    <a:lnTo>
                      <a:pt x="15" y="69"/>
                    </a:lnTo>
                    <a:lnTo>
                      <a:pt x="5" y="86"/>
                    </a:lnTo>
                    <a:lnTo>
                      <a:pt x="0" y="101"/>
                    </a:lnTo>
                    <a:lnTo>
                      <a:pt x="2" y="117"/>
                    </a:lnTo>
                    <a:lnTo>
                      <a:pt x="12" y="128"/>
                    </a:lnTo>
                    <a:lnTo>
                      <a:pt x="32" y="136"/>
                    </a:lnTo>
                    <a:lnTo>
                      <a:pt x="63" y="137"/>
                    </a:lnTo>
                    <a:lnTo>
                      <a:pt x="100" y="134"/>
                    </a:lnTo>
                    <a:lnTo>
                      <a:pt x="135" y="130"/>
                    </a:lnTo>
                    <a:lnTo>
                      <a:pt x="165" y="124"/>
                    </a:lnTo>
                    <a:lnTo>
                      <a:pt x="192" y="114"/>
                    </a:lnTo>
                    <a:lnTo>
                      <a:pt x="214" y="100"/>
                    </a:lnTo>
                    <a:lnTo>
                      <a:pt x="233" y="81"/>
                    </a:lnTo>
                    <a:lnTo>
                      <a:pt x="247" y="59"/>
                    </a:lnTo>
                    <a:lnTo>
                      <a:pt x="256" y="29"/>
                    </a:lnTo>
                    <a:lnTo>
                      <a:pt x="234" y="17"/>
                    </a:lnTo>
                    <a:lnTo>
                      <a:pt x="207" y="9"/>
                    </a:lnTo>
                    <a:lnTo>
                      <a:pt x="177" y="3"/>
                    </a:lnTo>
                    <a:lnTo>
                      <a:pt x="145" y="0"/>
                    </a:lnTo>
                    <a:lnTo>
                      <a:pt x="113" y="3"/>
                    </a:lnTo>
                    <a:lnTo>
                      <a:pt x="83" y="9"/>
                    </a:lnTo>
                    <a:lnTo>
                      <a:pt x="57" y="20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5992560" y="4583160"/>
                <a:ext cx="1931760" cy="1719360"/>
              </a:xfrm>
              <a:custGeom>
                <a:avLst/>
                <a:gdLst/>
                <a:ahLst/>
                <a:rect l="l" t="t" r="r" b="b"/>
                <a:pathLst>
                  <a:path w="2435" h="2166">
                    <a:moveTo>
                      <a:pt x="2236" y="1455"/>
                    </a:moveTo>
                    <a:lnTo>
                      <a:pt x="2221" y="1453"/>
                    </a:lnTo>
                    <a:lnTo>
                      <a:pt x="2205" y="1448"/>
                    </a:lnTo>
                    <a:lnTo>
                      <a:pt x="2189" y="1443"/>
                    </a:lnTo>
                    <a:lnTo>
                      <a:pt x="2173" y="1437"/>
                    </a:lnTo>
                    <a:lnTo>
                      <a:pt x="2156" y="1431"/>
                    </a:lnTo>
                    <a:lnTo>
                      <a:pt x="2141" y="1427"/>
                    </a:lnTo>
                    <a:lnTo>
                      <a:pt x="2125" y="1424"/>
                    </a:lnTo>
                    <a:lnTo>
                      <a:pt x="2109" y="1424"/>
                    </a:lnTo>
                    <a:lnTo>
                      <a:pt x="2116" y="1443"/>
                    </a:lnTo>
                    <a:lnTo>
                      <a:pt x="2122" y="1464"/>
                    </a:lnTo>
                    <a:lnTo>
                      <a:pt x="2128" y="1487"/>
                    </a:lnTo>
                    <a:lnTo>
                      <a:pt x="2135" y="1508"/>
                    </a:lnTo>
                    <a:lnTo>
                      <a:pt x="2142" y="1530"/>
                    </a:lnTo>
                    <a:lnTo>
                      <a:pt x="2152" y="1550"/>
                    </a:lnTo>
                    <a:lnTo>
                      <a:pt x="2165" y="1567"/>
                    </a:lnTo>
                    <a:lnTo>
                      <a:pt x="2182" y="1580"/>
                    </a:lnTo>
                    <a:lnTo>
                      <a:pt x="2192" y="1591"/>
                    </a:lnTo>
                    <a:lnTo>
                      <a:pt x="2198" y="1607"/>
                    </a:lnTo>
                    <a:lnTo>
                      <a:pt x="2201" y="1624"/>
                    </a:lnTo>
                    <a:lnTo>
                      <a:pt x="2203" y="1641"/>
                    </a:lnTo>
                    <a:lnTo>
                      <a:pt x="2206" y="1657"/>
                    </a:lnTo>
                    <a:lnTo>
                      <a:pt x="2215" y="1668"/>
                    </a:lnTo>
                    <a:lnTo>
                      <a:pt x="2228" y="1674"/>
                    </a:lnTo>
                    <a:lnTo>
                      <a:pt x="2249" y="1671"/>
                    </a:lnTo>
                    <a:lnTo>
                      <a:pt x="2258" y="1671"/>
                    </a:lnTo>
                    <a:lnTo>
                      <a:pt x="2268" y="1672"/>
                    </a:lnTo>
                    <a:lnTo>
                      <a:pt x="2275" y="1677"/>
                    </a:lnTo>
                    <a:lnTo>
                      <a:pt x="2278" y="1685"/>
                    </a:lnTo>
                    <a:lnTo>
                      <a:pt x="2271" y="1691"/>
                    </a:lnTo>
                    <a:lnTo>
                      <a:pt x="2262" y="1694"/>
                    </a:lnTo>
                    <a:lnTo>
                      <a:pt x="2252" y="1695"/>
                    </a:lnTo>
                    <a:lnTo>
                      <a:pt x="2242" y="1695"/>
                    </a:lnTo>
                    <a:lnTo>
                      <a:pt x="2232" y="1695"/>
                    </a:lnTo>
                    <a:lnTo>
                      <a:pt x="2222" y="1695"/>
                    </a:lnTo>
                    <a:lnTo>
                      <a:pt x="2212" y="1695"/>
                    </a:lnTo>
                    <a:lnTo>
                      <a:pt x="2205" y="1698"/>
                    </a:lnTo>
                    <a:lnTo>
                      <a:pt x="2203" y="1717"/>
                    </a:lnTo>
                    <a:lnTo>
                      <a:pt x="2202" y="1738"/>
                    </a:lnTo>
                    <a:lnTo>
                      <a:pt x="2198" y="1758"/>
                    </a:lnTo>
                    <a:lnTo>
                      <a:pt x="2189" y="1775"/>
                    </a:lnTo>
                    <a:lnTo>
                      <a:pt x="2183" y="1796"/>
                    </a:lnTo>
                    <a:lnTo>
                      <a:pt x="2175" y="1819"/>
                    </a:lnTo>
                    <a:lnTo>
                      <a:pt x="2165" y="1842"/>
                    </a:lnTo>
                    <a:lnTo>
                      <a:pt x="2151" y="1862"/>
                    </a:lnTo>
                    <a:lnTo>
                      <a:pt x="2139" y="1862"/>
                    </a:lnTo>
                    <a:lnTo>
                      <a:pt x="2128" y="1866"/>
                    </a:lnTo>
                    <a:lnTo>
                      <a:pt x="2119" y="1872"/>
                    </a:lnTo>
                    <a:lnTo>
                      <a:pt x="2109" y="1881"/>
                    </a:lnTo>
                    <a:lnTo>
                      <a:pt x="2101" y="1889"/>
                    </a:lnTo>
                    <a:lnTo>
                      <a:pt x="2092" y="1898"/>
                    </a:lnTo>
                    <a:lnTo>
                      <a:pt x="2084" y="1905"/>
                    </a:lnTo>
                    <a:lnTo>
                      <a:pt x="2074" y="1911"/>
                    </a:lnTo>
                    <a:lnTo>
                      <a:pt x="2066" y="1898"/>
                    </a:lnTo>
                    <a:lnTo>
                      <a:pt x="2038" y="1901"/>
                    </a:lnTo>
                    <a:lnTo>
                      <a:pt x="2008" y="1903"/>
                    </a:lnTo>
                    <a:lnTo>
                      <a:pt x="1979" y="1906"/>
                    </a:lnTo>
                    <a:lnTo>
                      <a:pt x="1951" y="1912"/>
                    </a:lnTo>
                    <a:lnTo>
                      <a:pt x="1924" y="1918"/>
                    </a:lnTo>
                    <a:lnTo>
                      <a:pt x="1897" y="1928"/>
                    </a:lnTo>
                    <a:lnTo>
                      <a:pt x="1871" y="1941"/>
                    </a:lnTo>
                    <a:lnTo>
                      <a:pt x="1847" y="1958"/>
                    </a:lnTo>
                    <a:lnTo>
                      <a:pt x="1847" y="1971"/>
                    </a:lnTo>
                    <a:lnTo>
                      <a:pt x="1872" y="1969"/>
                    </a:lnTo>
                    <a:lnTo>
                      <a:pt x="1898" y="1966"/>
                    </a:lnTo>
                    <a:lnTo>
                      <a:pt x="1924" y="1963"/>
                    </a:lnTo>
                    <a:lnTo>
                      <a:pt x="1949" y="1959"/>
                    </a:lnTo>
                    <a:lnTo>
                      <a:pt x="1974" y="1955"/>
                    </a:lnTo>
                    <a:lnTo>
                      <a:pt x="1999" y="1952"/>
                    </a:lnTo>
                    <a:lnTo>
                      <a:pt x="2025" y="1948"/>
                    </a:lnTo>
                    <a:lnTo>
                      <a:pt x="2051" y="1945"/>
                    </a:lnTo>
                    <a:lnTo>
                      <a:pt x="2074" y="1923"/>
                    </a:lnTo>
                    <a:lnTo>
                      <a:pt x="2076" y="1932"/>
                    </a:lnTo>
                    <a:lnTo>
                      <a:pt x="2198" y="1919"/>
                    </a:lnTo>
                    <a:lnTo>
                      <a:pt x="2202" y="1902"/>
                    </a:lnTo>
                    <a:lnTo>
                      <a:pt x="2203" y="1885"/>
                    </a:lnTo>
                    <a:lnTo>
                      <a:pt x="2202" y="1868"/>
                    </a:lnTo>
                    <a:lnTo>
                      <a:pt x="2202" y="1849"/>
                    </a:lnTo>
                    <a:lnTo>
                      <a:pt x="2209" y="1844"/>
                    </a:lnTo>
                    <a:lnTo>
                      <a:pt x="2218" y="1838"/>
                    </a:lnTo>
                    <a:lnTo>
                      <a:pt x="2225" y="1831"/>
                    </a:lnTo>
                    <a:lnTo>
                      <a:pt x="2232" y="1825"/>
                    </a:lnTo>
                    <a:lnTo>
                      <a:pt x="2239" y="1821"/>
                    </a:lnTo>
                    <a:lnTo>
                      <a:pt x="2248" y="1816"/>
                    </a:lnTo>
                    <a:lnTo>
                      <a:pt x="2256" y="1816"/>
                    </a:lnTo>
                    <a:lnTo>
                      <a:pt x="2265" y="1818"/>
                    </a:lnTo>
                    <a:lnTo>
                      <a:pt x="2259" y="1832"/>
                    </a:lnTo>
                    <a:lnTo>
                      <a:pt x="2251" y="1841"/>
                    </a:lnTo>
                    <a:lnTo>
                      <a:pt x="2242" y="1848"/>
                    </a:lnTo>
                    <a:lnTo>
                      <a:pt x="2232" y="1854"/>
                    </a:lnTo>
                    <a:lnTo>
                      <a:pt x="2225" y="1861"/>
                    </a:lnTo>
                    <a:lnTo>
                      <a:pt x="2219" y="1869"/>
                    </a:lnTo>
                    <a:lnTo>
                      <a:pt x="2218" y="1881"/>
                    </a:lnTo>
                    <a:lnTo>
                      <a:pt x="2221" y="1898"/>
                    </a:lnTo>
                    <a:lnTo>
                      <a:pt x="2231" y="1905"/>
                    </a:lnTo>
                    <a:lnTo>
                      <a:pt x="2241" y="1909"/>
                    </a:lnTo>
                    <a:lnTo>
                      <a:pt x="2252" y="1911"/>
                    </a:lnTo>
                    <a:lnTo>
                      <a:pt x="2265" y="1911"/>
                    </a:lnTo>
                    <a:lnTo>
                      <a:pt x="2276" y="1908"/>
                    </a:lnTo>
                    <a:lnTo>
                      <a:pt x="2289" y="1905"/>
                    </a:lnTo>
                    <a:lnTo>
                      <a:pt x="2300" y="1901"/>
                    </a:lnTo>
                    <a:lnTo>
                      <a:pt x="2310" y="1898"/>
                    </a:lnTo>
                    <a:lnTo>
                      <a:pt x="2315" y="1905"/>
                    </a:lnTo>
                    <a:lnTo>
                      <a:pt x="2320" y="1909"/>
                    </a:lnTo>
                    <a:lnTo>
                      <a:pt x="2325" y="1915"/>
                    </a:lnTo>
                    <a:lnTo>
                      <a:pt x="2320" y="1923"/>
                    </a:lnTo>
                    <a:lnTo>
                      <a:pt x="2300" y="1931"/>
                    </a:lnTo>
                    <a:lnTo>
                      <a:pt x="2280" y="1935"/>
                    </a:lnTo>
                    <a:lnTo>
                      <a:pt x="2259" y="1939"/>
                    </a:lnTo>
                    <a:lnTo>
                      <a:pt x="2236" y="1942"/>
                    </a:lnTo>
                    <a:lnTo>
                      <a:pt x="2213" y="1943"/>
                    </a:lnTo>
                    <a:lnTo>
                      <a:pt x="2192" y="1946"/>
                    </a:lnTo>
                    <a:lnTo>
                      <a:pt x="2169" y="1948"/>
                    </a:lnTo>
                    <a:lnTo>
                      <a:pt x="2148" y="1949"/>
                    </a:lnTo>
                    <a:lnTo>
                      <a:pt x="2125" y="1952"/>
                    </a:lnTo>
                    <a:lnTo>
                      <a:pt x="2105" y="1956"/>
                    </a:lnTo>
                    <a:lnTo>
                      <a:pt x="2084" y="1962"/>
                    </a:lnTo>
                    <a:lnTo>
                      <a:pt x="2065" y="1969"/>
                    </a:lnTo>
                    <a:lnTo>
                      <a:pt x="2048" y="1978"/>
                    </a:lnTo>
                    <a:lnTo>
                      <a:pt x="2031" y="1990"/>
                    </a:lnTo>
                    <a:lnTo>
                      <a:pt x="2016" y="2005"/>
                    </a:lnTo>
                    <a:lnTo>
                      <a:pt x="2004" y="2022"/>
                    </a:lnTo>
                    <a:lnTo>
                      <a:pt x="1988" y="2033"/>
                    </a:lnTo>
                    <a:lnTo>
                      <a:pt x="1971" y="2042"/>
                    </a:lnTo>
                    <a:lnTo>
                      <a:pt x="1951" y="2049"/>
                    </a:lnTo>
                    <a:lnTo>
                      <a:pt x="1931" y="2053"/>
                    </a:lnTo>
                    <a:lnTo>
                      <a:pt x="1911" y="2053"/>
                    </a:lnTo>
                    <a:lnTo>
                      <a:pt x="1889" y="2052"/>
                    </a:lnTo>
                    <a:lnTo>
                      <a:pt x="1869" y="2046"/>
                    </a:lnTo>
                    <a:lnTo>
                      <a:pt x="1850" y="2038"/>
                    </a:lnTo>
                    <a:lnTo>
                      <a:pt x="1798" y="2000"/>
                    </a:lnTo>
                    <a:lnTo>
                      <a:pt x="1770" y="1978"/>
                    </a:lnTo>
                    <a:lnTo>
                      <a:pt x="1777" y="1975"/>
                    </a:lnTo>
                    <a:lnTo>
                      <a:pt x="1781" y="1971"/>
                    </a:lnTo>
                    <a:lnTo>
                      <a:pt x="1782" y="1965"/>
                    </a:lnTo>
                    <a:lnTo>
                      <a:pt x="1782" y="1958"/>
                    </a:lnTo>
                    <a:lnTo>
                      <a:pt x="1778" y="1932"/>
                    </a:lnTo>
                    <a:lnTo>
                      <a:pt x="1764" y="1916"/>
                    </a:lnTo>
                    <a:lnTo>
                      <a:pt x="1745" y="1908"/>
                    </a:lnTo>
                    <a:lnTo>
                      <a:pt x="1721" y="1905"/>
                    </a:lnTo>
                    <a:lnTo>
                      <a:pt x="1694" y="1905"/>
                    </a:lnTo>
                    <a:lnTo>
                      <a:pt x="1668" y="1906"/>
                    </a:lnTo>
                    <a:lnTo>
                      <a:pt x="1644" y="1905"/>
                    </a:lnTo>
                    <a:lnTo>
                      <a:pt x="1623" y="1899"/>
                    </a:lnTo>
                    <a:lnTo>
                      <a:pt x="1608" y="1902"/>
                    </a:lnTo>
                    <a:lnTo>
                      <a:pt x="1597" y="1909"/>
                    </a:lnTo>
                    <a:lnTo>
                      <a:pt x="1588" y="1919"/>
                    </a:lnTo>
                    <a:lnTo>
                      <a:pt x="1581" y="1929"/>
                    </a:lnTo>
                    <a:lnTo>
                      <a:pt x="1576" y="1942"/>
                    </a:lnTo>
                    <a:lnTo>
                      <a:pt x="1570" y="1953"/>
                    </a:lnTo>
                    <a:lnTo>
                      <a:pt x="1564" y="1965"/>
                    </a:lnTo>
                    <a:lnTo>
                      <a:pt x="1557" y="1975"/>
                    </a:lnTo>
                    <a:lnTo>
                      <a:pt x="1550" y="1981"/>
                    </a:lnTo>
                    <a:lnTo>
                      <a:pt x="1543" y="1992"/>
                    </a:lnTo>
                    <a:lnTo>
                      <a:pt x="1536" y="2005"/>
                    </a:lnTo>
                    <a:lnTo>
                      <a:pt x="1527" y="2016"/>
                    </a:lnTo>
                    <a:lnTo>
                      <a:pt x="1541" y="2012"/>
                    </a:lnTo>
                    <a:lnTo>
                      <a:pt x="1556" y="2009"/>
                    </a:lnTo>
                    <a:lnTo>
                      <a:pt x="1570" y="2006"/>
                    </a:lnTo>
                    <a:lnTo>
                      <a:pt x="1586" y="2003"/>
                    </a:lnTo>
                    <a:lnTo>
                      <a:pt x="1600" y="2000"/>
                    </a:lnTo>
                    <a:lnTo>
                      <a:pt x="1614" y="1998"/>
                    </a:lnTo>
                    <a:lnTo>
                      <a:pt x="1630" y="1995"/>
                    </a:lnTo>
                    <a:lnTo>
                      <a:pt x="1644" y="1993"/>
                    </a:lnTo>
                    <a:lnTo>
                      <a:pt x="1660" y="1990"/>
                    </a:lnTo>
                    <a:lnTo>
                      <a:pt x="1674" y="1989"/>
                    </a:lnTo>
                    <a:lnTo>
                      <a:pt x="1690" y="1988"/>
                    </a:lnTo>
                    <a:lnTo>
                      <a:pt x="1705" y="1985"/>
                    </a:lnTo>
                    <a:lnTo>
                      <a:pt x="1721" y="1983"/>
                    </a:lnTo>
                    <a:lnTo>
                      <a:pt x="1737" y="1982"/>
                    </a:lnTo>
                    <a:lnTo>
                      <a:pt x="1752" y="1979"/>
                    </a:lnTo>
                    <a:lnTo>
                      <a:pt x="1770" y="1978"/>
                    </a:lnTo>
                    <a:lnTo>
                      <a:pt x="1798" y="2000"/>
                    </a:lnTo>
                    <a:lnTo>
                      <a:pt x="1771" y="2006"/>
                    </a:lnTo>
                    <a:lnTo>
                      <a:pt x="1742" y="2010"/>
                    </a:lnTo>
                    <a:lnTo>
                      <a:pt x="1715" y="2015"/>
                    </a:lnTo>
                    <a:lnTo>
                      <a:pt x="1688" y="2018"/>
                    </a:lnTo>
                    <a:lnTo>
                      <a:pt x="1661" y="2020"/>
                    </a:lnTo>
                    <a:lnTo>
                      <a:pt x="1634" y="2023"/>
                    </a:lnTo>
                    <a:lnTo>
                      <a:pt x="1607" y="2026"/>
                    </a:lnTo>
                    <a:lnTo>
                      <a:pt x="1580" y="2030"/>
                    </a:lnTo>
                    <a:lnTo>
                      <a:pt x="1554" y="2035"/>
                    </a:lnTo>
                    <a:lnTo>
                      <a:pt x="1528" y="2039"/>
                    </a:lnTo>
                    <a:lnTo>
                      <a:pt x="1501" y="2045"/>
                    </a:lnTo>
                    <a:lnTo>
                      <a:pt x="1477" y="2052"/>
                    </a:lnTo>
                    <a:lnTo>
                      <a:pt x="1451" y="2060"/>
                    </a:lnTo>
                    <a:lnTo>
                      <a:pt x="1427" y="2070"/>
                    </a:lnTo>
                    <a:lnTo>
                      <a:pt x="1403" y="2082"/>
                    </a:lnTo>
                    <a:lnTo>
                      <a:pt x="1379" y="2096"/>
                    </a:lnTo>
                    <a:lnTo>
                      <a:pt x="1406" y="2098"/>
                    </a:lnTo>
                    <a:lnTo>
                      <a:pt x="1433" y="2099"/>
                    </a:lnTo>
                    <a:lnTo>
                      <a:pt x="1458" y="2099"/>
                    </a:lnTo>
                    <a:lnTo>
                      <a:pt x="1486" y="2099"/>
                    </a:lnTo>
                    <a:lnTo>
                      <a:pt x="1511" y="2099"/>
                    </a:lnTo>
                    <a:lnTo>
                      <a:pt x="1537" y="2099"/>
                    </a:lnTo>
                    <a:lnTo>
                      <a:pt x="1563" y="2099"/>
                    </a:lnTo>
                    <a:lnTo>
                      <a:pt x="1588" y="2098"/>
                    </a:lnTo>
                    <a:lnTo>
                      <a:pt x="1614" y="2098"/>
                    </a:lnTo>
                    <a:lnTo>
                      <a:pt x="1640" y="2096"/>
                    </a:lnTo>
                    <a:lnTo>
                      <a:pt x="1665" y="2096"/>
                    </a:lnTo>
                    <a:lnTo>
                      <a:pt x="1691" y="2096"/>
                    </a:lnTo>
                    <a:lnTo>
                      <a:pt x="1717" y="2095"/>
                    </a:lnTo>
                    <a:lnTo>
                      <a:pt x="1742" y="2095"/>
                    </a:lnTo>
                    <a:lnTo>
                      <a:pt x="1768" y="2096"/>
                    </a:lnTo>
                    <a:lnTo>
                      <a:pt x="1794" y="2096"/>
                    </a:lnTo>
                    <a:lnTo>
                      <a:pt x="1802" y="2102"/>
                    </a:lnTo>
                    <a:lnTo>
                      <a:pt x="1810" y="2109"/>
                    </a:lnTo>
                    <a:lnTo>
                      <a:pt x="1811" y="2117"/>
                    </a:lnTo>
                    <a:lnTo>
                      <a:pt x="1811" y="2130"/>
                    </a:lnTo>
                    <a:lnTo>
                      <a:pt x="1794" y="2140"/>
                    </a:lnTo>
                    <a:lnTo>
                      <a:pt x="1790" y="2140"/>
                    </a:lnTo>
                    <a:lnTo>
                      <a:pt x="1777" y="2140"/>
                    </a:lnTo>
                    <a:lnTo>
                      <a:pt x="1757" y="2140"/>
                    </a:lnTo>
                    <a:lnTo>
                      <a:pt x="1728" y="2140"/>
                    </a:lnTo>
                    <a:lnTo>
                      <a:pt x="1694" y="2140"/>
                    </a:lnTo>
                    <a:lnTo>
                      <a:pt x="1653" y="2142"/>
                    </a:lnTo>
                    <a:lnTo>
                      <a:pt x="1605" y="2142"/>
                    </a:lnTo>
                    <a:lnTo>
                      <a:pt x="1554" y="2142"/>
                    </a:lnTo>
                    <a:lnTo>
                      <a:pt x="1497" y="2142"/>
                    </a:lnTo>
                    <a:lnTo>
                      <a:pt x="1436" y="2143"/>
                    </a:lnTo>
                    <a:lnTo>
                      <a:pt x="1371" y="2143"/>
                    </a:lnTo>
                    <a:lnTo>
                      <a:pt x="1304" y="2143"/>
                    </a:lnTo>
                    <a:lnTo>
                      <a:pt x="1234" y="2145"/>
                    </a:lnTo>
                    <a:lnTo>
                      <a:pt x="1162" y="2145"/>
                    </a:lnTo>
                    <a:lnTo>
                      <a:pt x="1087" y="2146"/>
                    </a:lnTo>
                    <a:lnTo>
                      <a:pt x="1013" y="2146"/>
                    </a:lnTo>
                    <a:lnTo>
                      <a:pt x="938" y="2147"/>
                    </a:lnTo>
                    <a:lnTo>
                      <a:pt x="863" y="2147"/>
                    </a:lnTo>
                    <a:lnTo>
                      <a:pt x="788" y="2149"/>
                    </a:lnTo>
                    <a:lnTo>
                      <a:pt x="715" y="2150"/>
                    </a:lnTo>
                    <a:lnTo>
                      <a:pt x="644" y="2150"/>
                    </a:lnTo>
                    <a:lnTo>
                      <a:pt x="574" y="2152"/>
                    </a:lnTo>
                    <a:lnTo>
                      <a:pt x="507" y="2153"/>
                    </a:lnTo>
                    <a:lnTo>
                      <a:pt x="442" y="2155"/>
                    </a:lnTo>
                    <a:lnTo>
                      <a:pt x="382" y="2156"/>
                    </a:lnTo>
                    <a:lnTo>
                      <a:pt x="327" y="2157"/>
                    </a:lnTo>
                    <a:lnTo>
                      <a:pt x="277" y="2157"/>
                    </a:lnTo>
                    <a:lnTo>
                      <a:pt x="231" y="2159"/>
                    </a:lnTo>
                    <a:lnTo>
                      <a:pt x="191" y="2162"/>
                    </a:lnTo>
                    <a:lnTo>
                      <a:pt x="158" y="2163"/>
                    </a:lnTo>
                    <a:lnTo>
                      <a:pt x="131" y="2165"/>
                    </a:lnTo>
                    <a:lnTo>
                      <a:pt x="113" y="2166"/>
                    </a:lnTo>
                    <a:lnTo>
                      <a:pt x="104" y="2165"/>
                    </a:lnTo>
                    <a:lnTo>
                      <a:pt x="96" y="2162"/>
                    </a:lnTo>
                    <a:lnTo>
                      <a:pt x="88" y="2157"/>
                    </a:lnTo>
                    <a:lnTo>
                      <a:pt x="81" y="2153"/>
                    </a:lnTo>
                    <a:lnTo>
                      <a:pt x="74" y="2149"/>
                    </a:lnTo>
                    <a:lnTo>
                      <a:pt x="70" y="2143"/>
                    </a:lnTo>
                    <a:lnTo>
                      <a:pt x="66" y="2137"/>
                    </a:lnTo>
                    <a:lnTo>
                      <a:pt x="64" y="2132"/>
                    </a:lnTo>
                    <a:lnTo>
                      <a:pt x="83" y="2102"/>
                    </a:lnTo>
                    <a:lnTo>
                      <a:pt x="86" y="2102"/>
                    </a:lnTo>
                    <a:lnTo>
                      <a:pt x="94" y="2102"/>
                    </a:lnTo>
                    <a:lnTo>
                      <a:pt x="107" y="2102"/>
                    </a:lnTo>
                    <a:lnTo>
                      <a:pt x="126" y="2102"/>
                    </a:lnTo>
                    <a:lnTo>
                      <a:pt x="148" y="2102"/>
                    </a:lnTo>
                    <a:lnTo>
                      <a:pt x="176" y="2103"/>
                    </a:lnTo>
                    <a:lnTo>
                      <a:pt x="206" y="2103"/>
                    </a:lnTo>
                    <a:lnTo>
                      <a:pt x="240" y="2103"/>
                    </a:lnTo>
                    <a:lnTo>
                      <a:pt x="277" y="2103"/>
                    </a:lnTo>
                    <a:lnTo>
                      <a:pt x="317" y="2103"/>
                    </a:lnTo>
                    <a:lnTo>
                      <a:pt x="361" y="2105"/>
                    </a:lnTo>
                    <a:lnTo>
                      <a:pt x="405" y="2105"/>
                    </a:lnTo>
                    <a:lnTo>
                      <a:pt x="452" y="2105"/>
                    </a:lnTo>
                    <a:lnTo>
                      <a:pt x="501" y="2105"/>
                    </a:lnTo>
                    <a:lnTo>
                      <a:pt x="552" y="2105"/>
                    </a:lnTo>
                    <a:lnTo>
                      <a:pt x="604" y="2105"/>
                    </a:lnTo>
                    <a:lnTo>
                      <a:pt x="655" y="2105"/>
                    </a:lnTo>
                    <a:lnTo>
                      <a:pt x="706" y="2106"/>
                    </a:lnTo>
                    <a:lnTo>
                      <a:pt x="759" y="2106"/>
                    </a:lnTo>
                    <a:lnTo>
                      <a:pt x="812" y="2106"/>
                    </a:lnTo>
                    <a:lnTo>
                      <a:pt x="863" y="2106"/>
                    </a:lnTo>
                    <a:lnTo>
                      <a:pt x="913" y="2105"/>
                    </a:lnTo>
                    <a:lnTo>
                      <a:pt x="963" y="2105"/>
                    </a:lnTo>
                    <a:lnTo>
                      <a:pt x="1012" y="2105"/>
                    </a:lnTo>
                    <a:lnTo>
                      <a:pt x="1057" y="2105"/>
                    </a:lnTo>
                    <a:lnTo>
                      <a:pt x="1102" y="2105"/>
                    </a:lnTo>
                    <a:lnTo>
                      <a:pt x="1143" y="2103"/>
                    </a:lnTo>
                    <a:lnTo>
                      <a:pt x="1182" y="2103"/>
                    </a:lnTo>
                    <a:lnTo>
                      <a:pt x="1217" y="2102"/>
                    </a:lnTo>
                    <a:lnTo>
                      <a:pt x="1250" y="2102"/>
                    </a:lnTo>
                    <a:lnTo>
                      <a:pt x="1279" y="2100"/>
                    </a:lnTo>
                    <a:lnTo>
                      <a:pt x="1303" y="2099"/>
                    </a:lnTo>
                    <a:lnTo>
                      <a:pt x="1262" y="2088"/>
                    </a:lnTo>
                    <a:lnTo>
                      <a:pt x="1223" y="2070"/>
                    </a:lnTo>
                    <a:lnTo>
                      <a:pt x="1187" y="2049"/>
                    </a:lnTo>
                    <a:lnTo>
                      <a:pt x="1156" y="2023"/>
                    </a:lnTo>
                    <a:lnTo>
                      <a:pt x="1129" y="1993"/>
                    </a:lnTo>
                    <a:lnTo>
                      <a:pt x="1106" y="1959"/>
                    </a:lnTo>
                    <a:lnTo>
                      <a:pt x="1090" y="1922"/>
                    </a:lnTo>
                    <a:lnTo>
                      <a:pt x="1079" y="1881"/>
                    </a:lnTo>
                    <a:lnTo>
                      <a:pt x="1075" y="1859"/>
                    </a:lnTo>
                    <a:lnTo>
                      <a:pt x="1073" y="1839"/>
                    </a:lnTo>
                    <a:lnTo>
                      <a:pt x="1073" y="1822"/>
                    </a:lnTo>
                    <a:lnTo>
                      <a:pt x="1073" y="1805"/>
                    </a:lnTo>
                    <a:lnTo>
                      <a:pt x="1053" y="1796"/>
                    </a:lnTo>
                    <a:lnTo>
                      <a:pt x="1035" y="1786"/>
                    </a:lnTo>
                    <a:lnTo>
                      <a:pt x="1016" y="1776"/>
                    </a:lnTo>
                    <a:lnTo>
                      <a:pt x="998" y="1766"/>
                    </a:lnTo>
                    <a:lnTo>
                      <a:pt x="979" y="1758"/>
                    </a:lnTo>
                    <a:lnTo>
                      <a:pt x="959" y="1752"/>
                    </a:lnTo>
                    <a:lnTo>
                      <a:pt x="936" y="1748"/>
                    </a:lnTo>
                    <a:lnTo>
                      <a:pt x="913" y="1746"/>
                    </a:lnTo>
                    <a:lnTo>
                      <a:pt x="903" y="1759"/>
                    </a:lnTo>
                    <a:lnTo>
                      <a:pt x="899" y="1778"/>
                    </a:lnTo>
                    <a:lnTo>
                      <a:pt x="892" y="1794"/>
                    </a:lnTo>
                    <a:lnTo>
                      <a:pt x="875" y="1804"/>
                    </a:lnTo>
                    <a:lnTo>
                      <a:pt x="865" y="1804"/>
                    </a:lnTo>
                    <a:lnTo>
                      <a:pt x="855" y="1801"/>
                    </a:lnTo>
                    <a:lnTo>
                      <a:pt x="846" y="1796"/>
                    </a:lnTo>
                    <a:lnTo>
                      <a:pt x="841" y="1792"/>
                    </a:lnTo>
                    <a:lnTo>
                      <a:pt x="835" y="1785"/>
                    </a:lnTo>
                    <a:lnTo>
                      <a:pt x="829" y="1778"/>
                    </a:lnTo>
                    <a:lnTo>
                      <a:pt x="826" y="1769"/>
                    </a:lnTo>
                    <a:lnTo>
                      <a:pt x="823" y="1759"/>
                    </a:lnTo>
                    <a:lnTo>
                      <a:pt x="825" y="1745"/>
                    </a:lnTo>
                    <a:lnTo>
                      <a:pt x="821" y="1734"/>
                    </a:lnTo>
                    <a:lnTo>
                      <a:pt x="812" y="1724"/>
                    </a:lnTo>
                    <a:lnTo>
                      <a:pt x="803" y="1715"/>
                    </a:lnTo>
                    <a:lnTo>
                      <a:pt x="785" y="1717"/>
                    </a:lnTo>
                    <a:lnTo>
                      <a:pt x="766" y="1715"/>
                    </a:lnTo>
                    <a:lnTo>
                      <a:pt x="746" y="1711"/>
                    </a:lnTo>
                    <a:lnTo>
                      <a:pt x="728" y="1707"/>
                    </a:lnTo>
                    <a:lnTo>
                      <a:pt x="711" y="1707"/>
                    </a:lnTo>
                    <a:lnTo>
                      <a:pt x="695" y="1709"/>
                    </a:lnTo>
                    <a:lnTo>
                      <a:pt x="682" y="1719"/>
                    </a:lnTo>
                    <a:lnTo>
                      <a:pt x="672" y="1738"/>
                    </a:lnTo>
                    <a:lnTo>
                      <a:pt x="664" y="1759"/>
                    </a:lnTo>
                    <a:lnTo>
                      <a:pt x="652" y="1779"/>
                    </a:lnTo>
                    <a:lnTo>
                      <a:pt x="639" y="1796"/>
                    </a:lnTo>
                    <a:lnTo>
                      <a:pt x="625" y="1812"/>
                    </a:lnTo>
                    <a:lnTo>
                      <a:pt x="609" y="1828"/>
                    </a:lnTo>
                    <a:lnTo>
                      <a:pt x="594" y="1842"/>
                    </a:lnTo>
                    <a:lnTo>
                      <a:pt x="575" y="1856"/>
                    </a:lnTo>
                    <a:lnTo>
                      <a:pt x="557" y="1869"/>
                    </a:lnTo>
                    <a:lnTo>
                      <a:pt x="574" y="1871"/>
                    </a:lnTo>
                    <a:lnTo>
                      <a:pt x="591" y="1872"/>
                    </a:lnTo>
                    <a:lnTo>
                      <a:pt x="608" y="1872"/>
                    </a:lnTo>
                    <a:lnTo>
                      <a:pt x="625" y="1872"/>
                    </a:lnTo>
                    <a:lnTo>
                      <a:pt x="642" y="1871"/>
                    </a:lnTo>
                    <a:lnTo>
                      <a:pt x="659" y="1869"/>
                    </a:lnTo>
                    <a:lnTo>
                      <a:pt x="676" y="1868"/>
                    </a:lnTo>
                    <a:lnTo>
                      <a:pt x="694" y="1865"/>
                    </a:lnTo>
                    <a:lnTo>
                      <a:pt x="711" y="1864"/>
                    </a:lnTo>
                    <a:lnTo>
                      <a:pt x="728" y="1862"/>
                    </a:lnTo>
                    <a:lnTo>
                      <a:pt x="745" y="1859"/>
                    </a:lnTo>
                    <a:lnTo>
                      <a:pt x="762" y="1858"/>
                    </a:lnTo>
                    <a:lnTo>
                      <a:pt x="779" y="1856"/>
                    </a:lnTo>
                    <a:lnTo>
                      <a:pt x="795" y="1856"/>
                    </a:lnTo>
                    <a:lnTo>
                      <a:pt x="812" y="1856"/>
                    </a:lnTo>
                    <a:lnTo>
                      <a:pt x="829" y="1856"/>
                    </a:lnTo>
                    <a:lnTo>
                      <a:pt x="829" y="1872"/>
                    </a:lnTo>
                    <a:lnTo>
                      <a:pt x="809" y="1875"/>
                    </a:lnTo>
                    <a:lnTo>
                      <a:pt x="789" y="1876"/>
                    </a:lnTo>
                    <a:lnTo>
                      <a:pt x="769" y="1879"/>
                    </a:lnTo>
                    <a:lnTo>
                      <a:pt x="749" y="1881"/>
                    </a:lnTo>
                    <a:lnTo>
                      <a:pt x="728" y="1882"/>
                    </a:lnTo>
                    <a:lnTo>
                      <a:pt x="708" y="1882"/>
                    </a:lnTo>
                    <a:lnTo>
                      <a:pt x="688" y="1883"/>
                    </a:lnTo>
                    <a:lnTo>
                      <a:pt x="666" y="1883"/>
                    </a:lnTo>
                    <a:lnTo>
                      <a:pt x="645" y="1885"/>
                    </a:lnTo>
                    <a:lnTo>
                      <a:pt x="625" y="1885"/>
                    </a:lnTo>
                    <a:lnTo>
                      <a:pt x="604" y="1886"/>
                    </a:lnTo>
                    <a:lnTo>
                      <a:pt x="584" y="1886"/>
                    </a:lnTo>
                    <a:lnTo>
                      <a:pt x="562" y="1888"/>
                    </a:lnTo>
                    <a:lnTo>
                      <a:pt x="541" y="1889"/>
                    </a:lnTo>
                    <a:lnTo>
                      <a:pt x="521" y="1891"/>
                    </a:lnTo>
                    <a:lnTo>
                      <a:pt x="499" y="1893"/>
                    </a:lnTo>
                    <a:lnTo>
                      <a:pt x="481" y="1901"/>
                    </a:lnTo>
                    <a:lnTo>
                      <a:pt x="461" y="1906"/>
                    </a:lnTo>
                    <a:lnTo>
                      <a:pt x="441" y="1909"/>
                    </a:lnTo>
                    <a:lnTo>
                      <a:pt x="421" y="1911"/>
                    </a:lnTo>
                    <a:lnTo>
                      <a:pt x="401" y="1911"/>
                    </a:lnTo>
                    <a:lnTo>
                      <a:pt x="381" y="1909"/>
                    </a:lnTo>
                    <a:lnTo>
                      <a:pt x="361" y="1906"/>
                    </a:lnTo>
                    <a:lnTo>
                      <a:pt x="343" y="1903"/>
                    </a:lnTo>
                    <a:lnTo>
                      <a:pt x="323" y="1898"/>
                    </a:lnTo>
                    <a:lnTo>
                      <a:pt x="304" y="1892"/>
                    </a:lnTo>
                    <a:lnTo>
                      <a:pt x="287" y="1883"/>
                    </a:lnTo>
                    <a:lnTo>
                      <a:pt x="270" y="1876"/>
                    </a:lnTo>
                    <a:lnTo>
                      <a:pt x="253" y="1866"/>
                    </a:lnTo>
                    <a:lnTo>
                      <a:pt x="238" y="1858"/>
                    </a:lnTo>
                    <a:lnTo>
                      <a:pt x="224" y="1848"/>
                    </a:lnTo>
                    <a:lnTo>
                      <a:pt x="211" y="1836"/>
                    </a:lnTo>
                    <a:lnTo>
                      <a:pt x="193" y="1814"/>
                    </a:lnTo>
                    <a:lnTo>
                      <a:pt x="177" y="1789"/>
                    </a:lnTo>
                    <a:lnTo>
                      <a:pt x="161" y="1762"/>
                    </a:lnTo>
                    <a:lnTo>
                      <a:pt x="148" y="1734"/>
                    </a:lnTo>
                    <a:lnTo>
                      <a:pt x="137" y="1704"/>
                    </a:lnTo>
                    <a:lnTo>
                      <a:pt x="130" y="1672"/>
                    </a:lnTo>
                    <a:lnTo>
                      <a:pt x="127" y="1638"/>
                    </a:lnTo>
                    <a:lnTo>
                      <a:pt x="128" y="1602"/>
                    </a:lnTo>
                    <a:lnTo>
                      <a:pt x="107" y="1594"/>
                    </a:lnTo>
                    <a:lnTo>
                      <a:pt x="87" y="1584"/>
                    </a:lnTo>
                    <a:lnTo>
                      <a:pt x="70" y="1572"/>
                    </a:lnTo>
                    <a:lnTo>
                      <a:pt x="53" y="1560"/>
                    </a:lnTo>
                    <a:lnTo>
                      <a:pt x="37" y="1547"/>
                    </a:lnTo>
                    <a:lnTo>
                      <a:pt x="24" y="1532"/>
                    </a:lnTo>
                    <a:lnTo>
                      <a:pt x="11" y="1517"/>
                    </a:lnTo>
                    <a:lnTo>
                      <a:pt x="0" y="1500"/>
                    </a:lnTo>
                    <a:lnTo>
                      <a:pt x="1" y="1473"/>
                    </a:lnTo>
                    <a:lnTo>
                      <a:pt x="4" y="1445"/>
                    </a:lnTo>
                    <a:lnTo>
                      <a:pt x="10" y="1421"/>
                    </a:lnTo>
                    <a:lnTo>
                      <a:pt x="19" y="1398"/>
                    </a:lnTo>
                    <a:lnTo>
                      <a:pt x="29" y="1377"/>
                    </a:lnTo>
                    <a:lnTo>
                      <a:pt x="41" y="1357"/>
                    </a:lnTo>
                    <a:lnTo>
                      <a:pt x="56" y="1338"/>
                    </a:lnTo>
                    <a:lnTo>
                      <a:pt x="73" y="1321"/>
                    </a:lnTo>
                    <a:lnTo>
                      <a:pt x="73" y="1306"/>
                    </a:lnTo>
                    <a:lnTo>
                      <a:pt x="90" y="1286"/>
                    </a:lnTo>
                    <a:lnTo>
                      <a:pt x="104" y="1264"/>
                    </a:lnTo>
                    <a:lnTo>
                      <a:pt x="120" y="1241"/>
                    </a:lnTo>
                    <a:lnTo>
                      <a:pt x="136" y="1220"/>
                    </a:lnTo>
                    <a:lnTo>
                      <a:pt x="153" y="1199"/>
                    </a:lnTo>
                    <a:lnTo>
                      <a:pt x="171" y="1180"/>
                    </a:lnTo>
                    <a:lnTo>
                      <a:pt x="193" y="1164"/>
                    </a:lnTo>
                    <a:lnTo>
                      <a:pt x="217" y="1153"/>
                    </a:lnTo>
                    <a:lnTo>
                      <a:pt x="228" y="1126"/>
                    </a:lnTo>
                    <a:lnTo>
                      <a:pt x="235" y="1097"/>
                    </a:lnTo>
                    <a:lnTo>
                      <a:pt x="243" y="1067"/>
                    </a:lnTo>
                    <a:lnTo>
                      <a:pt x="253" y="1042"/>
                    </a:lnTo>
                    <a:lnTo>
                      <a:pt x="261" y="1029"/>
                    </a:lnTo>
                    <a:lnTo>
                      <a:pt x="270" y="1016"/>
                    </a:lnTo>
                    <a:lnTo>
                      <a:pt x="278" y="1005"/>
                    </a:lnTo>
                    <a:lnTo>
                      <a:pt x="290" y="995"/>
                    </a:lnTo>
                    <a:lnTo>
                      <a:pt x="301" y="985"/>
                    </a:lnTo>
                    <a:lnTo>
                      <a:pt x="314" y="976"/>
                    </a:lnTo>
                    <a:lnTo>
                      <a:pt x="328" y="970"/>
                    </a:lnTo>
                    <a:lnTo>
                      <a:pt x="343" y="965"/>
                    </a:lnTo>
                    <a:lnTo>
                      <a:pt x="370" y="970"/>
                    </a:lnTo>
                    <a:lnTo>
                      <a:pt x="397" y="977"/>
                    </a:lnTo>
                    <a:lnTo>
                      <a:pt x="424" y="986"/>
                    </a:lnTo>
                    <a:lnTo>
                      <a:pt x="450" y="996"/>
                    </a:lnTo>
                    <a:lnTo>
                      <a:pt x="475" y="1009"/>
                    </a:lnTo>
                    <a:lnTo>
                      <a:pt x="498" y="1024"/>
                    </a:lnTo>
                    <a:lnTo>
                      <a:pt x="518" y="1043"/>
                    </a:lnTo>
                    <a:lnTo>
                      <a:pt x="535" y="1066"/>
                    </a:lnTo>
                    <a:lnTo>
                      <a:pt x="544" y="1066"/>
                    </a:lnTo>
                    <a:lnTo>
                      <a:pt x="552" y="1069"/>
                    </a:lnTo>
                    <a:lnTo>
                      <a:pt x="561" y="1070"/>
                    </a:lnTo>
                    <a:lnTo>
                      <a:pt x="568" y="1072"/>
                    </a:lnTo>
                    <a:lnTo>
                      <a:pt x="577" y="1073"/>
                    </a:lnTo>
                    <a:lnTo>
                      <a:pt x="584" y="1072"/>
                    </a:lnTo>
                    <a:lnTo>
                      <a:pt x="589" y="1069"/>
                    </a:lnTo>
                    <a:lnTo>
                      <a:pt x="595" y="1063"/>
                    </a:lnTo>
                    <a:lnTo>
                      <a:pt x="605" y="1047"/>
                    </a:lnTo>
                    <a:lnTo>
                      <a:pt x="609" y="1027"/>
                    </a:lnTo>
                    <a:lnTo>
                      <a:pt x="611" y="1006"/>
                    </a:lnTo>
                    <a:lnTo>
                      <a:pt x="608" y="986"/>
                    </a:lnTo>
                    <a:lnTo>
                      <a:pt x="601" y="976"/>
                    </a:lnTo>
                    <a:lnTo>
                      <a:pt x="601" y="969"/>
                    </a:lnTo>
                    <a:lnTo>
                      <a:pt x="604" y="962"/>
                    </a:lnTo>
                    <a:lnTo>
                      <a:pt x="608" y="955"/>
                    </a:lnTo>
                    <a:lnTo>
                      <a:pt x="615" y="949"/>
                    </a:lnTo>
                    <a:lnTo>
                      <a:pt x="621" y="942"/>
                    </a:lnTo>
                    <a:lnTo>
                      <a:pt x="626" y="935"/>
                    </a:lnTo>
                    <a:lnTo>
                      <a:pt x="628" y="926"/>
                    </a:lnTo>
                    <a:lnTo>
                      <a:pt x="665" y="906"/>
                    </a:lnTo>
                    <a:lnTo>
                      <a:pt x="702" y="889"/>
                    </a:lnTo>
                    <a:lnTo>
                      <a:pt x="744" y="875"/>
                    </a:lnTo>
                    <a:lnTo>
                      <a:pt x="785" y="862"/>
                    </a:lnTo>
                    <a:lnTo>
                      <a:pt x="828" y="850"/>
                    </a:lnTo>
                    <a:lnTo>
                      <a:pt x="872" y="840"/>
                    </a:lnTo>
                    <a:lnTo>
                      <a:pt x="916" y="833"/>
                    </a:lnTo>
                    <a:lnTo>
                      <a:pt x="962" y="828"/>
                    </a:lnTo>
                    <a:lnTo>
                      <a:pt x="1006" y="822"/>
                    </a:lnTo>
                    <a:lnTo>
                      <a:pt x="1052" y="819"/>
                    </a:lnTo>
                    <a:lnTo>
                      <a:pt x="1097" y="816"/>
                    </a:lnTo>
                    <a:lnTo>
                      <a:pt x="1142" y="816"/>
                    </a:lnTo>
                    <a:lnTo>
                      <a:pt x="1184" y="815"/>
                    </a:lnTo>
                    <a:lnTo>
                      <a:pt x="1227" y="816"/>
                    </a:lnTo>
                    <a:lnTo>
                      <a:pt x="1269" y="818"/>
                    </a:lnTo>
                    <a:lnTo>
                      <a:pt x="1309" y="819"/>
                    </a:lnTo>
                    <a:lnTo>
                      <a:pt x="1319" y="802"/>
                    </a:lnTo>
                    <a:lnTo>
                      <a:pt x="1330" y="786"/>
                    </a:lnTo>
                    <a:lnTo>
                      <a:pt x="1344" y="773"/>
                    </a:lnTo>
                    <a:lnTo>
                      <a:pt x="1360" y="762"/>
                    </a:lnTo>
                    <a:lnTo>
                      <a:pt x="1376" y="753"/>
                    </a:lnTo>
                    <a:lnTo>
                      <a:pt x="1394" y="743"/>
                    </a:lnTo>
                    <a:lnTo>
                      <a:pt x="1413" y="736"/>
                    </a:lnTo>
                    <a:lnTo>
                      <a:pt x="1433" y="728"/>
                    </a:lnTo>
                    <a:lnTo>
                      <a:pt x="1450" y="725"/>
                    </a:lnTo>
                    <a:lnTo>
                      <a:pt x="1466" y="726"/>
                    </a:lnTo>
                    <a:lnTo>
                      <a:pt x="1480" y="731"/>
                    </a:lnTo>
                    <a:lnTo>
                      <a:pt x="1494" y="736"/>
                    </a:lnTo>
                    <a:lnTo>
                      <a:pt x="1506" y="745"/>
                    </a:lnTo>
                    <a:lnTo>
                      <a:pt x="1516" y="755"/>
                    </a:lnTo>
                    <a:lnTo>
                      <a:pt x="1524" y="765"/>
                    </a:lnTo>
                    <a:lnTo>
                      <a:pt x="1533" y="775"/>
                    </a:lnTo>
                    <a:lnTo>
                      <a:pt x="1551" y="773"/>
                    </a:lnTo>
                    <a:lnTo>
                      <a:pt x="1570" y="776"/>
                    </a:lnTo>
                    <a:lnTo>
                      <a:pt x="1587" y="781"/>
                    </a:lnTo>
                    <a:lnTo>
                      <a:pt x="1604" y="786"/>
                    </a:lnTo>
                    <a:lnTo>
                      <a:pt x="1620" y="792"/>
                    </a:lnTo>
                    <a:lnTo>
                      <a:pt x="1634" y="795"/>
                    </a:lnTo>
                    <a:lnTo>
                      <a:pt x="1648" y="795"/>
                    </a:lnTo>
                    <a:lnTo>
                      <a:pt x="1661" y="790"/>
                    </a:lnTo>
                    <a:lnTo>
                      <a:pt x="1660" y="790"/>
                    </a:lnTo>
                    <a:lnTo>
                      <a:pt x="1660" y="785"/>
                    </a:lnTo>
                    <a:lnTo>
                      <a:pt x="1661" y="785"/>
                    </a:lnTo>
                    <a:lnTo>
                      <a:pt x="1663" y="796"/>
                    </a:lnTo>
                    <a:lnTo>
                      <a:pt x="1663" y="808"/>
                    </a:lnTo>
                    <a:lnTo>
                      <a:pt x="1665" y="819"/>
                    </a:lnTo>
                    <a:lnTo>
                      <a:pt x="1675" y="826"/>
                    </a:lnTo>
                    <a:lnTo>
                      <a:pt x="1684" y="825"/>
                    </a:lnTo>
                    <a:lnTo>
                      <a:pt x="1688" y="820"/>
                    </a:lnTo>
                    <a:lnTo>
                      <a:pt x="1687" y="813"/>
                    </a:lnTo>
                    <a:lnTo>
                      <a:pt x="1685" y="806"/>
                    </a:lnTo>
                    <a:lnTo>
                      <a:pt x="1684" y="799"/>
                    </a:lnTo>
                    <a:lnTo>
                      <a:pt x="1685" y="792"/>
                    </a:lnTo>
                    <a:lnTo>
                      <a:pt x="1690" y="785"/>
                    </a:lnTo>
                    <a:lnTo>
                      <a:pt x="1701" y="782"/>
                    </a:lnTo>
                    <a:lnTo>
                      <a:pt x="1708" y="772"/>
                    </a:lnTo>
                    <a:lnTo>
                      <a:pt x="1704" y="765"/>
                    </a:lnTo>
                    <a:lnTo>
                      <a:pt x="1694" y="762"/>
                    </a:lnTo>
                    <a:lnTo>
                      <a:pt x="1684" y="763"/>
                    </a:lnTo>
                    <a:lnTo>
                      <a:pt x="1675" y="766"/>
                    </a:lnTo>
                    <a:lnTo>
                      <a:pt x="1673" y="769"/>
                    </a:lnTo>
                    <a:lnTo>
                      <a:pt x="1673" y="772"/>
                    </a:lnTo>
                    <a:lnTo>
                      <a:pt x="1673" y="776"/>
                    </a:lnTo>
                    <a:lnTo>
                      <a:pt x="1673" y="779"/>
                    </a:lnTo>
                    <a:lnTo>
                      <a:pt x="1670" y="772"/>
                    </a:lnTo>
                    <a:lnTo>
                      <a:pt x="1667" y="766"/>
                    </a:lnTo>
                    <a:lnTo>
                      <a:pt x="1661" y="762"/>
                    </a:lnTo>
                    <a:lnTo>
                      <a:pt x="1654" y="759"/>
                    </a:lnTo>
                    <a:lnTo>
                      <a:pt x="1647" y="758"/>
                    </a:lnTo>
                    <a:lnTo>
                      <a:pt x="1640" y="756"/>
                    </a:lnTo>
                    <a:lnTo>
                      <a:pt x="1631" y="755"/>
                    </a:lnTo>
                    <a:lnTo>
                      <a:pt x="1625" y="753"/>
                    </a:lnTo>
                    <a:lnTo>
                      <a:pt x="1588" y="753"/>
                    </a:lnTo>
                    <a:lnTo>
                      <a:pt x="1557" y="746"/>
                    </a:lnTo>
                    <a:lnTo>
                      <a:pt x="1527" y="732"/>
                    </a:lnTo>
                    <a:lnTo>
                      <a:pt x="1501" y="712"/>
                    </a:lnTo>
                    <a:lnTo>
                      <a:pt x="1478" y="689"/>
                    </a:lnTo>
                    <a:lnTo>
                      <a:pt x="1458" y="665"/>
                    </a:lnTo>
                    <a:lnTo>
                      <a:pt x="1441" y="638"/>
                    </a:lnTo>
                    <a:lnTo>
                      <a:pt x="1426" y="612"/>
                    </a:lnTo>
                    <a:lnTo>
                      <a:pt x="1424" y="586"/>
                    </a:lnTo>
                    <a:lnTo>
                      <a:pt x="1427" y="561"/>
                    </a:lnTo>
                    <a:lnTo>
                      <a:pt x="1433" y="535"/>
                    </a:lnTo>
                    <a:lnTo>
                      <a:pt x="1441" y="511"/>
                    </a:lnTo>
                    <a:lnTo>
                      <a:pt x="1453" y="485"/>
                    </a:lnTo>
                    <a:lnTo>
                      <a:pt x="1464" y="461"/>
                    </a:lnTo>
                    <a:lnTo>
                      <a:pt x="1478" y="437"/>
                    </a:lnTo>
                    <a:lnTo>
                      <a:pt x="1491" y="414"/>
                    </a:lnTo>
                    <a:lnTo>
                      <a:pt x="1510" y="390"/>
                    </a:lnTo>
                    <a:lnTo>
                      <a:pt x="1531" y="367"/>
                    </a:lnTo>
                    <a:lnTo>
                      <a:pt x="1553" y="345"/>
                    </a:lnTo>
                    <a:lnTo>
                      <a:pt x="1577" y="325"/>
                    </a:lnTo>
                    <a:lnTo>
                      <a:pt x="1601" y="307"/>
                    </a:lnTo>
                    <a:lnTo>
                      <a:pt x="1627" y="287"/>
                    </a:lnTo>
                    <a:lnTo>
                      <a:pt x="1654" y="268"/>
                    </a:lnTo>
                    <a:lnTo>
                      <a:pt x="1680" y="250"/>
                    </a:lnTo>
                    <a:lnTo>
                      <a:pt x="1665" y="243"/>
                    </a:lnTo>
                    <a:lnTo>
                      <a:pt x="1648" y="241"/>
                    </a:lnTo>
                    <a:lnTo>
                      <a:pt x="1630" y="243"/>
                    </a:lnTo>
                    <a:lnTo>
                      <a:pt x="1613" y="244"/>
                    </a:lnTo>
                    <a:lnTo>
                      <a:pt x="1597" y="245"/>
                    </a:lnTo>
                    <a:lnTo>
                      <a:pt x="1584" y="243"/>
                    </a:lnTo>
                    <a:lnTo>
                      <a:pt x="1578" y="233"/>
                    </a:lnTo>
                    <a:lnTo>
                      <a:pt x="1580" y="215"/>
                    </a:lnTo>
                    <a:lnTo>
                      <a:pt x="1605" y="205"/>
                    </a:lnTo>
                    <a:lnTo>
                      <a:pt x="1633" y="197"/>
                    </a:lnTo>
                    <a:lnTo>
                      <a:pt x="1661" y="188"/>
                    </a:lnTo>
                    <a:lnTo>
                      <a:pt x="1691" y="183"/>
                    </a:lnTo>
                    <a:lnTo>
                      <a:pt x="1720" y="176"/>
                    </a:lnTo>
                    <a:lnTo>
                      <a:pt x="1748" y="170"/>
                    </a:lnTo>
                    <a:lnTo>
                      <a:pt x="1777" y="163"/>
                    </a:lnTo>
                    <a:lnTo>
                      <a:pt x="1804" y="154"/>
                    </a:lnTo>
                    <a:lnTo>
                      <a:pt x="1815" y="133"/>
                    </a:lnTo>
                    <a:lnTo>
                      <a:pt x="1824" y="111"/>
                    </a:lnTo>
                    <a:lnTo>
                      <a:pt x="1831" y="90"/>
                    </a:lnTo>
                    <a:lnTo>
                      <a:pt x="1838" y="68"/>
                    </a:lnTo>
                    <a:lnTo>
                      <a:pt x="1847" y="49"/>
                    </a:lnTo>
                    <a:lnTo>
                      <a:pt x="1858" y="30"/>
                    </a:lnTo>
                    <a:lnTo>
                      <a:pt x="1872" y="14"/>
                    </a:lnTo>
                    <a:lnTo>
                      <a:pt x="1891" y="0"/>
                    </a:lnTo>
                    <a:lnTo>
                      <a:pt x="1909" y="4"/>
                    </a:lnTo>
                    <a:lnTo>
                      <a:pt x="1927" y="10"/>
                    </a:lnTo>
                    <a:lnTo>
                      <a:pt x="1944" y="17"/>
                    </a:lnTo>
                    <a:lnTo>
                      <a:pt x="1961" y="23"/>
                    </a:lnTo>
                    <a:lnTo>
                      <a:pt x="1978" y="31"/>
                    </a:lnTo>
                    <a:lnTo>
                      <a:pt x="1994" y="40"/>
                    </a:lnTo>
                    <a:lnTo>
                      <a:pt x="2009" y="49"/>
                    </a:lnTo>
                    <a:lnTo>
                      <a:pt x="2025" y="57"/>
                    </a:lnTo>
                    <a:lnTo>
                      <a:pt x="2041" y="67"/>
                    </a:lnTo>
                    <a:lnTo>
                      <a:pt x="2055" y="77"/>
                    </a:lnTo>
                    <a:lnTo>
                      <a:pt x="2069" y="87"/>
                    </a:lnTo>
                    <a:lnTo>
                      <a:pt x="2084" y="97"/>
                    </a:lnTo>
                    <a:lnTo>
                      <a:pt x="2096" y="108"/>
                    </a:lnTo>
                    <a:lnTo>
                      <a:pt x="2109" y="120"/>
                    </a:lnTo>
                    <a:lnTo>
                      <a:pt x="2122" y="130"/>
                    </a:lnTo>
                    <a:lnTo>
                      <a:pt x="2135" y="141"/>
                    </a:lnTo>
                    <a:lnTo>
                      <a:pt x="2135" y="154"/>
                    </a:lnTo>
                    <a:lnTo>
                      <a:pt x="2129" y="166"/>
                    </a:lnTo>
                    <a:lnTo>
                      <a:pt x="2124" y="177"/>
                    </a:lnTo>
                    <a:lnTo>
                      <a:pt x="2116" y="187"/>
                    </a:lnTo>
                    <a:lnTo>
                      <a:pt x="2111" y="195"/>
                    </a:lnTo>
                    <a:lnTo>
                      <a:pt x="2109" y="205"/>
                    </a:lnTo>
                    <a:lnTo>
                      <a:pt x="2112" y="214"/>
                    </a:lnTo>
                    <a:lnTo>
                      <a:pt x="2122" y="224"/>
                    </a:lnTo>
                    <a:lnTo>
                      <a:pt x="2149" y="224"/>
                    </a:lnTo>
                    <a:lnTo>
                      <a:pt x="2175" y="221"/>
                    </a:lnTo>
                    <a:lnTo>
                      <a:pt x="2202" y="220"/>
                    </a:lnTo>
                    <a:lnTo>
                      <a:pt x="2228" y="217"/>
                    </a:lnTo>
                    <a:lnTo>
                      <a:pt x="2251" y="218"/>
                    </a:lnTo>
                    <a:lnTo>
                      <a:pt x="2273" y="224"/>
                    </a:lnTo>
                    <a:lnTo>
                      <a:pt x="2293" y="235"/>
                    </a:lnTo>
                    <a:lnTo>
                      <a:pt x="2310" y="254"/>
                    </a:lnTo>
                    <a:lnTo>
                      <a:pt x="2308" y="273"/>
                    </a:lnTo>
                    <a:lnTo>
                      <a:pt x="2300" y="287"/>
                    </a:lnTo>
                    <a:lnTo>
                      <a:pt x="2288" y="295"/>
                    </a:lnTo>
                    <a:lnTo>
                      <a:pt x="2272" y="301"/>
                    </a:lnTo>
                    <a:lnTo>
                      <a:pt x="2253" y="304"/>
                    </a:lnTo>
                    <a:lnTo>
                      <a:pt x="2233" y="308"/>
                    </a:lnTo>
                    <a:lnTo>
                      <a:pt x="2215" y="311"/>
                    </a:lnTo>
                    <a:lnTo>
                      <a:pt x="2198" y="317"/>
                    </a:lnTo>
                    <a:lnTo>
                      <a:pt x="2205" y="341"/>
                    </a:lnTo>
                    <a:lnTo>
                      <a:pt x="2215" y="367"/>
                    </a:lnTo>
                    <a:lnTo>
                      <a:pt x="2219" y="394"/>
                    </a:lnTo>
                    <a:lnTo>
                      <a:pt x="2211" y="424"/>
                    </a:lnTo>
                    <a:lnTo>
                      <a:pt x="2199" y="437"/>
                    </a:lnTo>
                    <a:lnTo>
                      <a:pt x="2186" y="451"/>
                    </a:lnTo>
                    <a:lnTo>
                      <a:pt x="2176" y="467"/>
                    </a:lnTo>
                    <a:lnTo>
                      <a:pt x="2172" y="487"/>
                    </a:lnTo>
                    <a:lnTo>
                      <a:pt x="2183" y="494"/>
                    </a:lnTo>
                    <a:lnTo>
                      <a:pt x="2193" y="502"/>
                    </a:lnTo>
                    <a:lnTo>
                      <a:pt x="2203" y="512"/>
                    </a:lnTo>
                    <a:lnTo>
                      <a:pt x="2213" y="522"/>
                    </a:lnTo>
                    <a:lnTo>
                      <a:pt x="2222" y="532"/>
                    </a:lnTo>
                    <a:lnTo>
                      <a:pt x="2228" y="544"/>
                    </a:lnTo>
                    <a:lnTo>
                      <a:pt x="2232" y="554"/>
                    </a:lnTo>
                    <a:lnTo>
                      <a:pt x="2233" y="564"/>
                    </a:lnTo>
                    <a:lnTo>
                      <a:pt x="2229" y="579"/>
                    </a:lnTo>
                    <a:lnTo>
                      <a:pt x="2221" y="594"/>
                    </a:lnTo>
                    <a:lnTo>
                      <a:pt x="2211" y="606"/>
                    </a:lnTo>
                    <a:lnTo>
                      <a:pt x="2198" y="616"/>
                    </a:lnTo>
                    <a:lnTo>
                      <a:pt x="2183" y="625"/>
                    </a:lnTo>
                    <a:lnTo>
                      <a:pt x="2168" y="634"/>
                    </a:lnTo>
                    <a:lnTo>
                      <a:pt x="2152" y="641"/>
                    </a:lnTo>
                    <a:lnTo>
                      <a:pt x="2135" y="646"/>
                    </a:lnTo>
                    <a:lnTo>
                      <a:pt x="2121" y="651"/>
                    </a:lnTo>
                    <a:lnTo>
                      <a:pt x="2106" y="652"/>
                    </a:lnTo>
                    <a:lnTo>
                      <a:pt x="2092" y="652"/>
                    </a:lnTo>
                    <a:lnTo>
                      <a:pt x="2078" y="651"/>
                    </a:lnTo>
                    <a:lnTo>
                      <a:pt x="2062" y="649"/>
                    </a:lnTo>
                    <a:lnTo>
                      <a:pt x="2048" y="648"/>
                    </a:lnTo>
                    <a:lnTo>
                      <a:pt x="2034" y="645"/>
                    </a:lnTo>
                    <a:lnTo>
                      <a:pt x="2019" y="644"/>
                    </a:lnTo>
                    <a:lnTo>
                      <a:pt x="1847" y="726"/>
                    </a:lnTo>
                    <a:lnTo>
                      <a:pt x="1842" y="735"/>
                    </a:lnTo>
                    <a:lnTo>
                      <a:pt x="1838" y="742"/>
                    </a:lnTo>
                    <a:lnTo>
                      <a:pt x="1832" y="749"/>
                    </a:lnTo>
                    <a:lnTo>
                      <a:pt x="1830" y="759"/>
                    </a:lnTo>
                    <a:lnTo>
                      <a:pt x="1847" y="775"/>
                    </a:lnTo>
                    <a:lnTo>
                      <a:pt x="1882" y="769"/>
                    </a:lnTo>
                    <a:lnTo>
                      <a:pt x="1918" y="763"/>
                    </a:lnTo>
                    <a:lnTo>
                      <a:pt x="1952" y="758"/>
                    </a:lnTo>
                    <a:lnTo>
                      <a:pt x="1988" y="752"/>
                    </a:lnTo>
                    <a:lnTo>
                      <a:pt x="2022" y="746"/>
                    </a:lnTo>
                    <a:lnTo>
                      <a:pt x="2058" y="742"/>
                    </a:lnTo>
                    <a:lnTo>
                      <a:pt x="2092" y="736"/>
                    </a:lnTo>
                    <a:lnTo>
                      <a:pt x="2128" y="732"/>
                    </a:lnTo>
                    <a:lnTo>
                      <a:pt x="2162" y="728"/>
                    </a:lnTo>
                    <a:lnTo>
                      <a:pt x="2196" y="723"/>
                    </a:lnTo>
                    <a:lnTo>
                      <a:pt x="2232" y="719"/>
                    </a:lnTo>
                    <a:lnTo>
                      <a:pt x="2268" y="716"/>
                    </a:lnTo>
                    <a:lnTo>
                      <a:pt x="2303" y="713"/>
                    </a:lnTo>
                    <a:lnTo>
                      <a:pt x="2339" y="711"/>
                    </a:lnTo>
                    <a:lnTo>
                      <a:pt x="2375" y="709"/>
                    </a:lnTo>
                    <a:lnTo>
                      <a:pt x="2412" y="708"/>
                    </a:lnTo>
                    <a:lnTo>
                      <a:pt x="2420" y="709"/>
                    </a:lnTo>
                    <a:lnTo>
                      <a:pt x="2423" y="716"/>
                    </a:lnTo>
                    <a:lnTo>
                      <a:pt x="2422" y="728"/>
                    </a:lnTo>
                    <a:lnTo>
                      <a:pt x="2426" y="736"/>
                    </a:lnTo>
                    <a:lnTo>
                      <a:pt x="2433" y="751"/>
                    </a:lnTo>
                    <a:lnTo>
                      <a:pt x="2435" y="766"/>
                    </a:lnTo>
                    <a:lnTo>
                      <a:pt x="2430" y="782"/>
                    </a:lnTo>
                    <a:lnTo>
                      <a:pt x="2422" y="795"/>
                    </a:lnTo>
                    <a:lnTo>
                      <a:pt x="2349" y="829"/>
                    </a:lnTo>
                    <a:lnTo>
                      <a:pt x="2318" y="823"/>
                    </a:lnTo>
                    <a:lnTo>
                      <a:pt x="2288" y="819"/>
                    </a:lnTo>
                    <a:lnTo>
                      <a:pt x="2256" y="815"/>
                    </a:lnTo>
                    <a:lnTo>
                      <a:pt x="2225" y="812"/>
                    </a:lnTo>
                    <a:lnTo>
                      <a:pt x="2195" y="810"/>
                    </a:lnTo>
                    <a:lnTo>
                      <a:pt x="2163" y="809"/>
                    </a:lnTo>
                    <a:lnTo>
                      <a:pt x="2132" y="809"/>
                    </a:lnTo>
                    <a:lnTo>
                      <a:pt x="2101" y="810"/>
                    </a:lnTo>
                    <a:lnTo>
                      <a:pt x="2071" y="810"/>
                    </a:lnTo>
                    <a:lnTo>
                      <a:pt x="2039" y="812"/>
                    </a:lnTo>
                    <a:lnTo>
                      <a:pt x="2008" y="815"/>
                    </a:lnTo>
                    <a:lnTo>
                      <a:pt x="1978" y="816"/>
                    </a:lnTo>
                    <a:lnTo>
                      <a:pt x="1947" y="819"/>
                    </a:lnTo>
                    <a:lnTo>
                      <a:pt x="1917" y="822"/>
                    </a:lnTo>
                    <a:lnTo>
                      <a:pt x="1885" y="823"/>
                    </a:lnTo>
                    <a:lnTo>
                      <a:pt x="1855" y="826"/>
                    </a:lnTo>
                    <a:lnTo>
                      <a:pt x="1842" y="836"/>
                    </a:lnTo>
                    <a:lnTo>
                      <a:pt x="1862" y="846"/>
                    </a:lnTo>
                    <a:lnTo>
                      <a:pt x="1885" y="852"/>
                    </a:lnTo>
                    <a:lnTo>
                      <a:pt x="1908" y="856"/>
                    </a:lnTo>
                    <a:lnTo>
                      <a:pt x="1931" y="858"/>
                    </a:lnTo>
                    <a:lnTo>
                      <a:pt x="1955" y="860"/>
                    </a:lnTo>
                    <a:lnTo>
                      <a:pt x="1977" y="865"/>
                    </a:lnTo>
                    <a:lnTo>
                      <a:pt x="1997" y="875"/>
                    </a:lnTo>
                    <a:lnTo>
                      <a:pt x="2015" y="890"/>
                    </a:lnTo>
                    <a:lnTo>
                      <a:pt x="2029" y="903"/>
                    </a:lnTo>
                    <a:lnTo>
                      <a:pt x="2039" y="920"/>
                    </a:lnTo>
                    <a:lnTo>
                      <a:pt x="2042" y="939"/>
                    </a:lnTo>
                    <a:lnTo>
                      <a:pt x="2035" y="957"/>
                    </a:lnTo>
                    <a:lnTo>
                      <a:pt x="2025" y="983"/>
                    </a:lnTo>
                    <a:lnTo>
                      <a:pt x="2011" y="1006"/>
                    </a:lnTo>
                    <a:lnTo>
                      <a:pt x="1992" y="1026"/>
                    </a:lnTo>
                    <a:lnTo>
                      <a:pt x="1971" y="1043"/>
                    </a:lnTo>
                    <a:lnTo>
                      <a:pt x="1948" y="1060"/>
                    </a:lnTo>
                    <a:lnTo>
                      <a:pt x="1927" y="1076"/>
                    </a:lnTo>
                    <a:lnTo>
                      <a:pt x="1904" y="1092"/>
                    </a:lnTo>
                    <a:lnTo>
                      <a:pt x="1885" y="1109"/>
                    </a:lnTo>
                    <a:lnTo>
                      <a:pt x="1887" y="1119"/>
                    </a:lnTo>
                    <a:lnTo>
                      <a:pt x="1892" y="1127"/>
                    </a:lnTo>
                    <a:lnTo>
                      <a:pt x="1899" y="1133"/>
                    </a:lnTo>
                    <a:lnTo>
                      <a:pt x="1908" y="1137"/>
                    </a:lnTo>
                    <a:lnTo>
                      <a:pt x="1918" y="1142"/>
                    </a:lnTo>
                    <a:lnTo>
                      <a:pt x="1927" y="1146"/>
                    </a:lnTo>
                    <a:lnTo>
                      <a:pt x="1934" y="1151"/>
                    </a:lnTo>
                    <a:lnTo>
                      <a:pt x="1939" y="1159"/>
                    </a:lnTo>
                    <a:lnTo>
                      <a:pt x="1958" y="1179"/>
                    </a:lnTo>
                    <a:lnTo>
                      <a:pt x="1977" y="1199"/>
                    </a:lnTo>
                    <a:lnTo>
                      <a:pt x="1995" y="1220"/>
                    </a:lnTo>
                    <a:lnTo>
                      <a:pt x="2012" y="1243"/>
                    </a:lnTo>
                    <a:lnTo>
                      <a:pt x="2029" y="1264"/>
                    </a:lnTo>
                    <a:lnTo>
                      <a:pt x="2042" y="1287"/>
                    </a:lnTo>
                    <a:lnTo>
                      <a:pt x="2055" y="1310"/>
                    </a:lnTo>
                    <a:lnTo>
                      <a:pt x="2064" y="1331"/>
                    </a:lnTo>
                    <a:lnTo>
                      <a:pt x="2076" y="1338"/>
                    </a:lnTo>
                    <a:lnTo>
                      <a:pt x="2085" y="1351"/>
                    </a:lnTo>
                    <a:lnTo>
                      <a:pt x="2091" y="1367"/>
                    </a:lnTo>
                    <a:lnTo>
                      <a:pt x="2095" y="1383"/>
                    </a:lnTo>
                    <a:lnTo>
                      <a:pt x="2102" y="1397"/>
                    </a:lnTo>
                    <a:lnTo>
                      <a:pt x="2111" y="1408"/>
                    </a:lnTo>
                    <a:lnTo>
                      <a:pt x="2125" y="1414"/>
                    </a:lnTo>
                    <a:lnTo>
                      <a:pt x="2148" y="1414"/>
                    </a:lnTo>
                    <a:lnTo>
                      <a:pt x="2168" y="1417"/>
                    </a:lnTo>
                    <a:lnTo>
                      <a:pt x="2186" y="1420"/>
                    </a:lnTo>
                    <a:lnTo>
                      <a:pt x="2203" y="1424"/>
                    </a:lnTo>
                    <a:lnTo>
                      <a:pt x="2221" y="1428"/>
                    </a:lnTo>
                    <a:lnTo>
                      <a:pt x="2238" y="1434"/>
                    </a:lnTo>
                    <a:lnTo>
                      <a:pt x="2256" y="1438"/>
                    </a:lnTo>
                    <a:lnTo>
                      <a:pt x="2275" y="1444"/>
                    </a:lnTo>
                    <a:lnTo>
                      <a:pt x="2293" y="1448"/>
                    </a:lnTo>
                    <a:lnTo>
                      <a:pt x="2295" y="1455"/>
                    </a:lnTo>
                    <a:lnTo>
                      <a:pt x="2300" y="1460"/>
                    </a:lnTo>
                    <a:lnTo>
                      <a:pt x="2302" y="1464"/>
                    </a:lnTo>
                    <a:lnTo>
                      <a:pt x="2293" y="1468"/>
                    </a:lnTo>
                    <a:lnTo>
                      <a:pt x="2236" y="1455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249240" y="4621320"/>
                <a:ext cx="209160" cy="110880"/>
              </a:xfrm>
              <a:custGeom>
                <a:avLst/>
                <a:gdLst/>
                <a:ahLst/>
                <a:rect l="l" t="t" r="r" b="b"/>
                <a:pathLst>
                  <a:path w="264" h="139">
                    <a:moveTo>
                      <a:pt x="263" y="115"/>
                    </a:moveTo>
                    <a:lnTo>
                      <a:pt x="259" y="122"/>
                    </a:lnTo>
                    <a:lnTo>
                      <a:pt x="253" y="129"/>
                    </a:lnTo>
                    <a:lnTo>
                      <a:pt x="246" y="134"/>
                    </a:lnTo>
                    <a:lnTo>
                      <a:pt x="237" y="138"/>
                    </a:lnTo>
                    <a:lnTo>
                      <a:pt x="227" y="139"/>
                    </a:lnTo>
                    <a:lnTo>
                      <a:pt x="219" y="139"/>
                    </a:lnTo>
                    <a:lnTo>
                      <a:pt x="210" y="136"/>
                    </a:lnTo>
                    <a:lnTo>
                      <a:pt x="203" y="131"/>
                    </a:lnTo>
                    <a:lnTo>
                      <a:pt x="177" y="121"/>
                    </a:lnTo>
                    <a:lnTo>
                      <a:pt x="150" y="112"/>
                    </a:lnTo>
                    <a:lnTo>
                      <a:pt x="123" y="102"/>
                    </a:lnTo>
                    <a:lnTo>
                      <a:pt x="96" y="94"/>
                    </a:lnTo>
                    <a:lnTo>
                      <a:pt x="70" y="85"/>
                    </a:lnTo>
                    <a:lnTo>
                      <a:pt x="44" y="75"/>
                    </a:lnTo>
                    <a:lnTo>
                      <a:pt x="22" y="67"/>
                    </a:lnTo>
                    <a:lnTo>
                      <a:pt x="0" y="57"/>
                    </a:lnTo>
                    <a:lnTo>
                      <a:pt x="9" y="51"/>
                    </a:lnTo>
                    <a:lnTo>
                      <a:pt x="13" y="42"/>
                    </a:lnTo>
                    <a:lnTo>
                      <a:pt x="17" y="34"/>
                    </a:lnTo>
                    <a:lnTo>
                      <a:pt x="20" y="24"/>
                    </a:lnTo>
                    <a:lnTo>
                      <a:pt x="23" y="15"/>
                    </a:lnTo>
                    <a:lnTo>
                      <a:pt x="29" y="8"/>
                    </a:lnTo>
                    <a:lnTo>
                      <a:pt x="37" y="2"/>
                    </a:lnTo>
                    <a:lnTo>
                      <a:pt x="49" y="0"/>
                    </a:lnTo>
                    <a:lnTo>
                      <a:pt x="63" y="1"/>
                    </a:lnTo>
                    <a:lnTo>
                      <a:pt x="79" y="4"/>
                    </a:lnTo>
                    <a:lnTo>
                      <a:pt x="96" y="8"/>
                    </a:lnTo>
                    <a:lnTo>
                      <a:pt x="114" y="14"/>
                    </a:lnTo>
                    <a:lnTo>
                      <a:pt x="133" y="21"/>
                    </a:lnTo>
                    <a:lnTo>
                      <a:pt x="152" y="28"/>
                    </a:lnTo>
                    <a:lnTo>
                      <a:pt x="170" y="37"/>
                    </a:lnTo>
                    <a:lnTo>
                      <a:pt x="189" y="47"/>
                    </a:lnTo>
                    <a:lnTo>
                      <a:pt x="204" y="55"/>
                    </a:lnTo>
                    <a:lnTo>
                      <a:pt x="220" y="65"/>
                    </a:lnTo>
                    <a:lnTo>
                      <a:pt x="234" y="75"/>
                    </a:lnTo>
                    <a:lnTo>
                      <a:pt x="246" y="84"/>
                    </a:lnTo>
                    <a:lnTo>
                      <a:pt x="254" y="94"/>
                    </a:lnTo>
                    <a:lnTo>
                      <a:pt x="260" y="101"/>
                    </a:lnTo>
                    <a:lnTo>
                      <a:pt x="264" y="109"/>
                    </a:lnTo>
                    <a:lnTo>
                      <a:pt x="26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339600" y="4637160"/>
                <a:ext cx="78840" cy="2700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100" y="35"/>
                    </a:moveTo>
                    <a:lnTo>
                      <a:pt x="88" y="33"/>
                    </a:lnTo>
                    <a:lnTo>
                      <a:pt x="77" y="29"/>
                    </a:lnTo>
                    <a:lnTo>
                      <a:pt x="65" y="23"/>
                    </a:lnTo>
                    <a:lnTo>
                      <a:pt x="55" y="18"/>
                    </a:lnTo>
                    <a:lnTo>
                      <a:pt x="44" y="13"/>
                    </a:lnTo>
                    <a:lnTo>
                      <a:pt x="34" y="12"/>
                    </a:lnTo>
                    <a:lnTo>
                      <a:pt x="22" y="15"/>
                    </a:lnTo>
                    <a:lnTo>
                      <a:pt x="12" y="22"/>
                    </a:lnTo>
                    <a:lnTo>
                      <a:pt x="5" y="20"/>
                    </a:lnTo>
                    <a:lnTo>
                      <a:pt x="2" y="16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14" y="0"/>
                    </a:lnTo>
                    <a:lnTo>
                      <a:pt x="30" y="0"/>
                    </a:lnTo>
                    <a:lnTo>
                      <a:pt x="44" y="2"/>
                    </a:lnTo>
                    <a:lnTo>
                      <a:pt x="60" y="6"/>
                    </a:lnTo>
                    <a:lnTo>
                      <a:pt x="72" y="13"/>
                    </a:lnTo>
                    <a:lnTo>
                      <a:pt x="85" y="19"/>
                    </a:lnTo>
                    <a:lnTo>
                      <a:pt x="94" y="28"/>
                    </a:lnTo>
                    <a:lnTo>
                      <a:pt x="10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6361920" y="4727520"/>
                <a:ext cx="240840" cy="27000"/>
              </a:xfrm>
              <a:custGeom>
                <a:avLst/>
                <a:gdLst/>
                <a:ahLst/>
                <a:rect l="l" t="t" r="r" b="b"/>
                <a:pathLst>
                  <a:path w="304" h="34">
                    <a:moveTo>
                      <a:pt x="304" y="27"/>
                    </a:moveTo>
                    <a:lnTo>
                      <a:pt x="287" y="29"/>
                    </a:lnTo>
                    <a:lnTo>
                      <a:pt x="268" y="30"/>
                    </a:lnTo>
                    <a:lnTo>
                      <a:pt x="250" y="32"/>
                    </a:lnTo>
                    <a:lnTo>
                      <a:pt x="231" y="32"/>
                    </a:lnTo>
                    <a:lnTo>
                      <a:pt x="213" y="32"/>
                    </a:lnTo>
                    <a:lnTo>
                      <a:pt x="194" y="32"/>
                    </a:lnTo>
                    <a:lnTo>
                      <a:pt x="174" y="32"/>
                    </a:lnTo>
                    <a:lnTo>
                      <a:pt x="156" y="32"/>
                    </a:lnTo>
                    <a:lnTo>
                      <a:pt x="136" y="32"/>
                    </a:lnTo>
                    <a:lnTo>
                      <a:pt x="116" y="32"/>
                    </a:lnTo>
                    <a:lnTo>
                      <a:pt x="97" y="32"/>
                    </a:lnTo>
                    <a:lnTo>
                      <a:pt x="77" y="32"/>
                    </a:lnTo>
                    <a:lnTo>
                      <a:pt x="57" y="32"/>
                    </a:lnTo>
                    <a:lnTo>
                      <a:pt x="39" y="33"/>
                    </a:lnTo>
                    <a:lnTo>
                      <a:pt x="19" y="33"/>
                    </a:lnTo>
                    <a:lnTo>
                      <a:pt x="0" y="34"/>
                    </a:lnTo>
                    <a:lnTo>
                      <a:pt x="17" y="30"/>
                    </a:lnTo>
                    <a:lnTo>
                      <a:pt x="36" y="26"/>
                    </a:lnTo>
                    <a:lnTo>
                      <a:pt x="54" y="20"/>
                    </a:lnTo>
                    <a:lnTo>
                      <a:pt x="73" y="16"/>
                    </a:lnTo>
                    <a:lnTo>
                      <a:pt x="93" y="12"/>
                    </a:lnTo>
                    <a:lnTo>
                      <a:pt x="111" y="7"/>
                    </a:lnTo>
                    <a:lnTo>
                      <a:pt x="131" y="4"/>
                    </a:lnTo>
                    <a:lnTo>
                      <a:pt x="151" y="2"/>
                    </a:lnTo>
                    <a:lnTo>
                      <a:pt x="171" y="0"/>
                    </a:lnTo>
                    <a:lnTo>
                      <a:pt x="190" y="0"/>
                    </a:lnTo>
                    <a:lnTo>
                      <a:pt x="210" y="0"/>
                    </a:lnTo>
                    <a:lnTo>
                      <a:pt x="230" y="2"/>
                    </a:lnTo>
                    <a:lnTo>
                      <a:pt x="248" y="6"/>
                    </a:lnTo>
                    <a:lnTo>
                      <a:pt x="267" y="12"/>
                    </a:lnTo>
                    <a:lnTo>
                      <a:pt x="285" y="19"/>
                    </a:lnTo>
                    <a:lnTo>
                      <a:pt x="3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130800" y="4764240"/>
                <a:ext cx="631440" cy="401400"/>
              </a:xfrm>
              <a:custGeom>
                <a:avLst/>
                <a:gdLst/>
                <a:ahLst/>
                <a:rect l="l" t="t" r="r" b="b"/>
                <a:pathLst>
                  <a:path w="795" h="505">
                    <a:moveTo>
                      <a:pt x="792" y="29"/>
                    </a:moveTo>
                    <a:lnTo>
                      <a:pt x="795" y="32"/>
                    </a:lnTo>
                    <a:lnTo>
                      <a:pt x="791" y="39"/>
                    </a:lnTo>
                    <a:lnTo>
                      <a:pt x="782" y="45"/>
                    </a:lnTo>
                    <a:lnTo>
                      <a:pt x="772" y="49"/>
                    </a:lnTo>
                    <a:lnTo>
                      <a:pt x="761" y="52"/>
                    </a:lnTo>
                    <a:lnTo>
                      <a:pt x="748" y="55"/>
                    </a:lnTo>
                    <a:lnTo>
                      <a:pt x="735" y="57"/>
                    </a:lnTo>
                    <a:lnTo>
                      <a:pt x="722" y="59"/>
                    </a:lnTo>
                    <a:lnTo>
                      <a:pt x="711" y="60"/>
                    </a:lnTo>
                    <a:lnTo>
                      <a:pt x="632" y="19"/>
                    </a:lnTo>
                    <a:lnTo>
                      <a:pt x="625" y="26"/>
                    </a:lnTo>
                    <a:lnTo>
                      <a:pt x="640" y="33"/>
                    </a:lnTo>
                    <a:lnTo>
                      <a:pt x="655" y="43"/>
                    </a:lnTo>
                    <a:lnTo>
                      <a:pt x="670" y="53"/>
                    </a:lnTo>
                    <a:lnTo>
                      <a:pt x="684" y="65"/>
                    </a:lnTo>
                    <a:lnTo>
                      <a:pt x="695" y="79"/>
                    </a:lnTo>
                    <a:lnTo>
                      <a:pt x="705" y="94"/>
                    </a:lnTo>
                    <a:lnTo>
                      <a:pt x="712" y="112"/>
                    </a:lnTo>
                    <a:lnTo>
                      <a:pt x="715" y="130"/>
                    </a:lnTo>
                    <a:lnTo>
                      <a:pt x="702" y="136"/>
                    </a:lnTo>
                    <a:lnTo>
                      <a:pt x="691" y="132"/>
                    </a:lnTo>
                    <a:lnTo>
                      <a:pt x="682" y="126"/>
                    </a:lnTo>
                    <a:lnTo>
                      <a:pt x="679" y="122"/>
                    </a:lnTo>
                    <a:lnTo>
                      <a:pt x="684" y="112"/>
                    </a:lnTo>
                    <a:lnTo>
                      <a:pt x="681" y="104"/>
                    </a:lnTo>
                    <a:lnTo>
                      <a:pt x="672" y="99"/>
                    </a:lnTo>
                    <a:lnTo>
                      <a:pt x="664" y="93"/>
                    </a:lnTo>
                    <a:lnTo>
                      <a:pt x="655" y="92"/>
                    </a:lnTo>
                    <a:lnTo>
                      <a:pt x="648" y="90"/>
                    </a:lnTo>
                    <a:lnTo>
                      <a:pt x="640" y="90"/>
                    </a:lnTo>
                    <a:lnTo>
                      <a:pt x="632" y="90"/>
                    </a:lnTo>
                    <a:lnTo>
                      <a:pt x="632" y="97"/>
                    </a:lnTo>
                    <a:lnTo>
                      <a:pt x="635" y="103"/>
                    </a:lnTo>
                    <a:lnTo>
                      <a:pt x="640" y="106"/>
                    </a:lnTo>
                    <a:lnTo>
                      <a:pt x="645" y="109"/>
                    </a:lnTo>
                    <a:lnTo>
                      <a:pt x="654" y="109"/>
                    </a:lnTo>
                    <a:lnTo>
                      <a:pt x="648" y="117"/>
                    </a:lnTo>
                    <a:lnTo>
                      <a:pt x="635" y="119"/>
                    </a:lnTo>
                    <a:lnTo>
                      <a:pt x="625" y="123"/>
                    </a:lnTo>
                    <a:lnTo>
                      <a:pt x="625" y="137"/>
                    </a:lnTo>
                    <a:lnTo>
                      <a:pt x="654" y="150"/>
                    </a:lnTo>
                    <a:lnTo>
                      <a:pt x="647" y="152"/>
                    </a:lnTo>
                    <a:lnTo>
                      <a:pt x="640" y="153"/>
                    </a:lnTo>
                    <a:lnTo>
                      <a:pt x="632" y="154"/>
                    </a:lnTo>
                    <a:lnTo>
                      <a:pt x="628" y="160"/>
                    </a:lnTo>
                    <a:lnTo>
                      <a:pt x="628" y="172"/>
                    </a:lnTo>
                    <a:lnTo>
                      <a:pt x="631" y="183"/>
                    </a:lnTo>
                    <a:lnTo>
                      <a:pt x="637" y="192"/>
                    </a:lnTo>
                    <a:lnTo>
                      <a:pt x="644" y="199"/>
                    </a:lnTo>
                    <a:lnTo>
                      <a:pt x="651" y="204"/>
                    </a:lnTo>
                    <a:lnTo>
                      <a:pt x="661" y="210"/>
                    </a:lnTo>
                    <a:lnTo>
                      <a:pt x="670" y="213"/>
                    </a:lnTo>
                    <a:lnTo>
                      <a:pt x="679" y="214"/>
                    </a:lnTo>
                    <a:lnTo>
                      <a:pt x="684" y="200"/>
                    </a:lnTo>
                    <a:lnTo>
                      <a:pt x="694" y="190"/>
                    </a:lnTo>
                    <a:lnTo>
                      <a:pt x="701" y="180"/>
                    </a:lnTo>
                    <a:lnTo>
                      <a:pt x="702" y="166"/>
                    </a:lnTo>
                    <a:lnTo>
                      <a:pt x="708" y="166"/>
                    </a:lnTo>
                    <a:lnTo>
                      <a:pt x="708" y="182"/>
                    </a:lnTo>
                    <a:lnTo>
                      <a:pt x="707" y="196"/>
                    </a:lnTo>
                    <a:lnTo>
                      <a:pt x="704" y="209"/>
                    </a:lnTo>
                    <a:lnTo>
                      <a:pt x="698" y="221"/>
                    </a:lnTo>
                    <a:lnTo>
                      <a:pt x="692" y="233"/>
                    </a:lnTo>
                    <a:lnTo>
                      <a:pt x="684" y="243"/>
                    </a:lnTo>
                    <a:lnTo>
                      <a:pt x="672" y="253"/>
                    </a:lnTo>
                    <a:lnTo>
                      <a:pt x="661" y="261"/>
                    </a:lnTo>
                    <a:lnTo>
                      <a:pt x="651" y="263"/>
                    </a:lnTo>
                    <a:lnTo>
                      <a:pt x="642" y="266"/>
                    </a:lnTo>
                    <a:lnTo>
                      <a:pt x="634" y="269"/>
                    </a:lnTo>
                    <a:lnTo>
                      <a:pt x="625" y="274"/>
                    </a:lnTo>
                    <a:lnTo>
                      <a:pt x="632" y="283"/>
                    </a:lnTo>
                    <a:lnTo>
                      <a:pt x="642" y="286"/>
                    </a:lnTo>
                    <a:lnTo>
                      <a:pt x="652" y="284"/>
                    </a:lnTo>
                    <a:lnTo>
                      <a:pt x="662" y="283"/>
                    </a:lnTo>
                    <a:lnTo>
                      <a:pt x="674" y="280"/>
                    </a:lnTo>
                    <a:lnTo>
                      <a:pt x="685" y="279"/>
                    </a:lnTo>
                    <a:lnTo>
                      <a:pt x="697" y="279"/>
                    </a:lnTo>
                    <a:lnTo>
                      <a:pt x="708" y="284"/>
                    </a:lnTo>
                    <a:lnTo>
                      <a:pt x="715" y="291"/>
                    </a:lnTo>
                    <a:lnTo>
                      <a:pt x="722" y="299"/>
                    </a:lnTo>
                    <a:lnTo>
                      <a:pt x="729" y="306"/>
                    </a:lnTo>
                    <a:lnTo>
                      <a:pt x="735" y="314"/>
                    </a:lnTo>
                    <a:lnTo>
                      <a:pt x="739" y="323"/>
                    </a:lnTo>
                    <a:lnTo>
                      <a:pt x="742" y="331"/>
                    </a:lnTo>
                    <a:lnTo>
                      <a:pt x="741" y="341"/>
                    </a:lnTo>
                    <a:lnTo>
                      <a:pt x="737" y="351"/>
                    </a:lnTo>
                    <a:lnTo>
                      <a:pt x="728" y="363"/>
                    </a:lnTo>
                    <a:lnTo>
                      <a:pt x="715" y="373"/>
                    </a:lnTo>
                    <a:lnTo>
                      <a:pt x="701" y="381"/>
                    </a:lnTo>
                    <a:lnTo>
                      <a:pt x="684" y="388"/>
                    </a:lnTo>
                    <a:lnTo>
                      <a:pt x="667" y="394"/>
                    </a:lnTo>
                    <a:lnTo>
                      <a:pt x="648" y="398"/>
                    </a:lnTo>
                    <a:lnTo>
                      <a:pt x="630" y="398"/>
                    </a:lnTo>
                    <a:lnTo>
                      <a:pt x="612" y="397"/>
                    </a:lnTo>
                    <a:lnTo>
                      <a:pt x="597" y="393"/>
                    </a:lnTo>
                    <a:lnTo>
                      <a:pt x="584" y="390"/>
                    </a:lnTo>
                    <a:lnTo>
                      <a:pt x="574" y="386"/>
                    </a:lnTo>
                    <a:lnTo>
                      <a:pt x="565" y="381"/>
                    </a:lnTo>
                    <a:lnTo>
                      <a:pt x="560" y="378"/>
                    </a:lnTo>
                    <a:lnTo>
                      <a:pt x="555" y="377"/>
                    </a:lnTo>
                    <a:lnTo>
                      <a:pt x="552" y="374"/>
                    </a:lnTo>
                    <a:lnTo>
                      <a:pt x="552" y="374"/>
                    </a:lnTo>
                    <a:lnTo>
                      <a:pt x="530" y="390"/>
                    </a:lnTo>
                    <a:lnTo>
                      <a:pt x="507" y="406"/>
                    </a:lnTo>
                    <a:lnTo>
                      <a:pt x="483" y="420"/>
                    </a:lnTo>
                    <a:lnTo>
                      <a:pt x="457" y="434"/>
                    </a:lnTo>
                    <a:lnTo>
                      <a:pt x="431" y="448"/>
                    </a:lnTo>
                    <a:lnTo>
                      <a:pt x="404" y="461"/>
                    </a:lnTo>
                    <a:lnTo>
                      <a:pt x="377" y="473"/>
                    </a:lnTo>
                    <a:lnTo>
                      <a:pt x="350" y="483"/>
                    </a:lnTo>
                    <a:lnTo>
                      <a:pt x="321" y="491"/>
                    </a:lnTo>
                    <a:lnTo>
                      <a:pt x="291" y="497"/>
                    </a:lnTo>
                    <a:lnTo>
                      <a:pt x="263" y="503"/>
                    </a:lnTo>
                    <a:lnTo>
                      <a:pt x="233" y="505"/>
                    </a:lnTo>
                    <a:lnTo>
                      <a:pt x="203" y="505"/>
                    </a:lnTo>
                    <a:lnTo>
                      <a:pt x="173" y="504"/>
                    </a:lnTo>
                    <a:lnTo>
                      <a:pt x="143" y="500"/>
                    </a:lnTo>
                    <a:lnTo>
                      <a:pt x="113" y="493"/>
                    </a:lnTo>
                    <a:lnTo>
                      <a:pt x="87" y="483"/>
                    </a:lnTo>
                    <a:lnTo>
                      <a:pt x="64" y="470"/>
                    </a:lnTo>
                    <a:lnTo>
                      <a:pt x="46" y="454"/>
                    </a:lnTo>
                    <a:lnTo>
                      <a:pt x="32" y="437"/>
                    </a:lnTo>
                    <a:lnTo>
                      <a:pt x="19" y="416"/>
                    </a:lnTo>
                    <a:lnTo>
                      <a:pt x="10" y="394"/>
                    </a:lnTo>
                    <a:lnTo>
                      <a:pt x="4" y="368"/>
                    </a:lnTo>
                    <a:lnTo>
                      <a:pt x="0" y="343"/>
                    </a:lnTo>
                    <a:lnTo>
                      <a:pt x="4" y="316"/>
                    </a:lnTo>
                    <a:lnTo>
                      <a:pt x="12" y="290"/>
                    </a:lnTo>
                    <a:lnTo>
                      <a:pt x="22" y="266"/>
                    </a:lnTo>
                    <a:lnTo>
                      <a:pt x="33" y="241"/>
                    </a:lnTo>
                    <a:lnTo>
                      <a:pt x="44" y="219"/>
                    </a:lnTo>
                    <a:lnTo>
                      <a:pt x="59" y="197"/>
                    </a:lnTo>
                    <a:lnTo>
                      <a:pt x="74" y="177"/>
                    </a:lnTo>
                    <a:lnTo>
                      <a:pt x="92" y="157"/>
                    </a:lnTo>
                    <a:lnTo>
                      <a:pt x="109" y="139"/>
                    </a:lnTo>
                    <a:lnTo>
                      <a:pt x="127" y="120"/>
                    </a:lnTo>
                    <a:lnTo>
                      <a:pt x="147" y="102"/>
                    </a:lnTo>
                    <a:lnTo>
                      <a:pt x="167" y="84"/>
                    </a:lnTo>
                    <a:lnTo>
                      <a:pt x="187" y="67"/>
                    </a:lnTo>
                    <a:lnTo>
                      <a:pt x="207" y="52"/>
                    </a:lnTo>
                    <a:lnTo>
                      <a:pt x="227" y="35"/>
                    </a:lnTo>
                    <a:lnTo>
                      <a:pt x="247" y="19"/>
                    </a:lnTo>
                    <a:lnTo>
                      <a:pt x="259" y="16"/>
                    </a:lnTo>
                    <a:lnTo>
                      <a:pt x="270" y="15"/>
                    </a:lnTo>
                    <a:lnTo>
                      <a:pt x="283" y="13"/>
                    </a:lnTo>
                    <a:lnTo>
                      <a:pt x="296" y="12"/>
                    </a:lnTo>
                    <a:lnTo>
                      <a:pt x="308" y="13"/>
                    </a:lnTo>
                    <a:lnTo>
                      <a:pt x="318" y="16"/>
                    </a:lnTo>
                    <a:lnTo>
                      <a:pt x="328" y="20"/>
                    </a:lnTo>
                    <a:lnTo>
                      <a:pt x="337" y="26"/>
                    </a:lnTo>
                    <a:lnTo>
                      <a:pt x="321" y="47"/>
                    </a:lnTo>
                    <a:lnTo>
                      <a:pt x="303" y="66"/>
                    </a:lnTo>
                    <a:lnTo>
                      <a:pt x="281" y="83"/>
                    </a:lnTo>
                    <a:lnTo>
                      <a:pt x="259" y="99"/>
                    </a:lnTo>
                    <a:lnTo>
                      <a:pt x="234" y="113"/>
                    </a:lnTo>
                    <a:lnTo>
                      <a:pt x="210" y="127"/>
                    </a:lnTo>
                    <a:lnTo>
                      <a:pt x="186" y="142"/>
                    </a:lnTo>
                    <a:lnTo>
                      <a:pt x="161" y="156"/>
                    </a:lnTo>
                    <a:lnTo>
                      <a:pt x="163" y="167"/>
                    </a:lnTo>
                    <a:lnTo>
                      <a:pt x="167" y="179"/>
                    </a:lnTo>
                    <a:lnTo>
                      <a:pt x="173" y="190"/>
                    </a:lnTo>
                    <a:lnTo>
                      <a:pt x="180" y="200"/>
                    </a:lnTo>
                    <a:lnTo>
                      <a:pt x="189" y="210"/>
                    </a:lnTo>
                    <a:lnTo>
                      <a:pt x="199" y="219"/>
                    </a:lnTo>
                    <a:lnTo>
                      <a:pt x="209" y="226"/>
                    </a:lnTo>
                    <a:lnTo>
                      <a:pt x="221" y="230"/>
                    </a:lnTo>
                    <a:lnTo>
                      <a:pt x="231" y="231"/>
                    </a:lnTo>
                    <a:lnTo>
                      <a:pt x="239" y="226"/>
                    </a:lnTo>
                    <a:lnTo>
                      <a:pt x="243" y="217"/>
                    </a:lnTo>
                    <a:lnTo>
                      <a:pt x="247" y="211"/>
                    </a:lnTo>
                    <a:lnTo>
                      <a:pt x="193" y="157"/>
                    </a:lnTo>
                    <a:lnTo>
                      <a:pt x="201" y="153"/>
                    </a:lnTo>
                    <a:lnTo>
                      <a:pt x="211" y="149"/>
                    </a:lnTo>
                    <a:lnTo>
                      <a:pt x="220" y="144"/>
                    </a:lnTo>
                    <a:lnTo>
                      <a:pt x="231" y="139"/>
                    </a:lnTo>
                    <a:lnTo>
                      <a:pt x="241" y="134"/>
                    </a:lnTo>
                    <a:lnTo>
                      <a:pt x="251" y="130"/>
                    </a:lnTo>
                    <a:lnTo>
                      <a:pt x="263" y="126"/>
                    </a:lnTo>
                    <a:lnTo>
                      <a:pt x="273" y="122"/>
                    </a:lnTo>
                    <a:lnTo>
                      <a:pt x="288" y="112"/>
                    </a:lnTo>
                    <a:lnTo>
                      <a:pt x="304" y="102"/>
                    </a:lnTo>
                    <a:lnTo>
                      <a:pt x="320" y="90"/>
                    </a:lnTo>
                    <a:lnTo>
                      <a:pt x="334" y="77"/>
                    </a:lnTo>
                    <a:lnTo>
                      <a:pt x="346" y="65"/>
                    </a:lnTo>
                    <a:lnTo>
                      <a:pt x="356" y="49"/>
                    </a:lnTo>
                    <a:lnTo>
                      <a:pt x="364" y="33"/>
                    </a:lnTo>
                    <a:lnTo>
                      <a:pt x="368" y="16"/>
                    </a:lnTo>
                    <a:lnTo>
                      <a:pt x="386" y="17"/>
                    </a:lnTo>
                    <a:lnTo>
                      <a:pt x="403" y="17"/>
                    </a:lnTo>
                    <a:lnTo>
                      <a:pt x="420" y="16"/>
                    </a:lnTo>
                    <a:lnTo>
                      <a:pt x="435" y="15"/>
                    </a:lnTo>
                    <a:lnTo>
                      <a:pt x="451" y="12"/>
                    </a:lnTo>
                    <a:lnTo>
                      <a:pt x="468" y="9"/>
                    </a:lnTo>
                    <a:lnTo>
                      <a:pt x="484" y="5"/>
                    </a:lnTo>
                    <a:lnTo>
                      <a:pt x="501" y="0"/>
                    </a:lnTo>
                    <a:lnTo>
                      <a:pt x="521" y="3"/>
                    </a:lnTo>
                    <a:lnTo>
                      <a:pt x="540" y="5"/>
                    </a:lnTo>
                    <a:lnTo>
                      <a:pt x="558" y="6"/>
                    </a:lnTo>
                    <a:lnTo>
                      <a:pt x="577" y="7"/>
                    </a:lnTo>
                    <a:lnTo>
                      <a:pt x="594" y="9"/>
                    </a:lnTo>
                    <a:lnTo>
                      <a:pt x="612" y="10"/>
                    </a:lnTo>
                    <a:lnTo>
                      <a:pt x="630" y="12"/>
                    </a:lnTo>
                    <a:lnTo>
                      <a:pt x="647" y="13"/>
                    </a:lnTo>
                    <a:lnTo>
                      <a:pt x="665" y="15"/>
                    </a:lnTo>
                    <a:lnTo>
                      <a:pt x="682" y="16"/>
                    </a:lnTo>
                    <a:lnTo>
                      <a:pt x="699" y="17"/>
                    </a:lnTo>
                    <a:lnTo>
                      <a:pt x="718" y="19"/>
                    </a:lnTo>
                    <a:lnTo>
                      <a:pt x="737" y="20"/>
                    </a:lnTo>
                    <a:lnTo>
                      <a:pt x="755" y="23"/>
                    </a:lnTo>
                    <a:lnTo>
                      <a:pt x="774" y="26"/>
                    </a:lnTo>
                    <a:lnTo>
                      <a:pt x="792" y="29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311880" y="4781520"/>
                <a:ext cx="91440" cy="42840"/>
              </a:xfrm>
              <a:custGeom>
                <a:avLst/>
                <a:gdLst/>
                <a:ahLst/>
                <a:rect l="l" t="t" r="r" b="b"/>
                <a:pathLst>
                  <a:path w="117" h="54">
                    <a:moveTo>
                      <a:pt x="117" y="54"/>
                    </a:moveTo>
                    <a:lnTo>
                      <a:pt x="106" y="50"/>
                    </a:lnTo>
                    <a:lnTo>
                      <a:pt x="93" y="45"/>
                    </a:lnTo>
                    <a:lnTo>
                      <a:pt x="80" y="40"/>
                    </a:lnTo>
                    <a:lnTo>
                      <a:pt x="66" y="34"/>
                    </a:lnTo>
                    <a:lnTo>
                      <a:pt x="52" y="30"/>
                    </a:lnTo>
                    <a:lnTo>
                      <a:pt x="36" y="27"/>
                    </a:lnTo>
                    <a:lnTo>
                      <a:pt x="19" y="25"/>
                    </a:lnTo>
                    <a:lnTo>
                      <a:pt x="2" y="28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10" y="8"/>
                    </a:lnTo>
                    <a:lnTo>
                      <a:pt x="17" y="5"/>
                    </a:lnTo>
                    <a:lnTo>
                      <a:pt x="24" y="3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2" y="3"/>
                    </a:lnTo>
                    <a:lnTo>
                      <a:pt x="63" y="5"/>
                    </a:lnTo>
                    <a:lnTo>
                      <a:pt x="76" y="11"/>
                    </a:lnTo>
                    <a:lnTo>
                      <a:pt x="86" y="18"/>
                    </a:lnTo>
                    <a:lnTo>
                      <a:pt x="96" y="25"/>
                    </a:lnTo>
                    <a:lnTo>
                      <a:pt x="104" y="34"/>
                    </a:lnTo>
                    <a:lnTo>
                      <a:pt x="111" y="44"/>
                    </a:lnTo>
                    <a:lnTo>
                      <a:pt x="117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553800" y="4802040"/>
                <a:ext cx="39240" cy="34920"/>
              </a:xfrm>
              <a:custGeom>
                <a:avLst/>
                <a:gdLst/>
                <a:ahLst/>
                <a:rect l="l" t="t" r="r" b="b"/>
                <a:pathLst>
                  <a:path w="52" h="45">
                    <a:moveTo>
                      <a:pt x="52" y="26"/>
                    </a:moveTo>
                    <a:lnTo>
                      <a:pt x="46" y="37"/>
                    </a:lnTo>
                    <a:lnTo>
                      <a:pt x="36" y="43"/>
                    </a:lnTo>
                    <a:lnTo>
                      <a:pt x="23" y="45"/>
                    </a:lnTo>
                    <a:lnTo>
                      <a:pt x="10" y="42"/>
                    </a:lnTo>
                    <a:lnTo>
                      <a:pt x="0" y="32"/>
                    </a:lnTo>
                    <a:lnTo>
                      <a:pt x="2" y="20"/>
                    </a:lnTo>
                    <a:lnTo>
                      <a:pt x="9" y="9"/>
                    </a:lnTo>
                    <a:lnTo>
                      <a:pt x="18" y="0"/>
                    </a:lnTo>
                    <a:lnTo>
                      <a:pt x="30" y="2"/>
                    </a:lnTo>
                    <a:lnTo>
                      <a:pt x="42" y="5"/>
                    </a:lnTo>
                    <a:lnTo>
                      <a:pt x="50" y="13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369840" y="4829040"/>
                <a:ext cx="48600" cy="44640"/>
              </a:xfrm>
              <a:custGeom>
                <a:avLst/>
                <a:gdLst/>
                <a:ahLst/>
                <a:rect l="l" t="t" r="r" b="b"/>
                <a:pathLst>
                  <a:path w="63" h="55">
                    <a:moveTo>
                      <a:pt x="63" y="24"/>
                    </a:moveTo>
                    <a:lnTo>
                      <a:pt x="62" y="34"/>
                    </a:lnTo>
                    <a:lnTo>
                      <a:pt x="59" y="42"/>
                    </a:lnTo>
                    <a:lnTo>
                      <a:pt x="52" y="51"/>
                    </a:lnTo>
                    <a:lnTo>
                      <a:pt x="43" y="55"/>
                    </a:lnTo>
                    <a:lnTo>
                      <a:pt x="30" y="52"/>
                    </a:lnTo>
                    <a:lnTo>
                      <a:pt x="19" y="50"/>
                    </a:lnTo>
                    <a:lnTo>
                      <a:pt x="7" y="45"/>
                    </a:lnTo>
                    <a:lnTo>
                      <a:pt x="2" y="37"/>
                    </a:lnTo>
                    <a:lnTo>
                      <a:pt x="0" y="24"/>
                    </a:lnTo>
                    <a:lnTo>
                      <a:pt x="7" y="17"/>
                    </a:lnTo>
                    <a:lnTo>
                      <a:pt x="17" y="10"/>
                    </a:lnTo>
                    <a:lnTo>
                      <a:pt x="24" y="1"/>
                    </a:lnTo>
                    <a:lnTo>
                      <a:pt x="37" y="0"/>
                    </a:lnTo>
                    <a:lnTo>
                      <a:pt x="50" y="4"/>
                    </a:lnTo>
                    <a:lnTo>
                      <a:pt x="59" y="12"/>
                    </a:lnTo>
                    <a:lnTo>
                      <a:pt x="6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392520" y="4913280"/>
                <a:ext cx="334800" cy="147600"/>
              </a:xfrm>
              <a:custGeom>
                <a:avLst/>
                <a:gdLst/>
                <a:ahLst/>
                <a:rect l="l" t="t" r="r" b="b"/>
                <a:pathLst>
                  <a:path w="423" h="187">
                    <a:moveTo>
                      <a:pt x="79" y="2"/>
                    </a:moveTo>
                    <a:lnTo>
                      <a:pt x="79" y="12"/>
                    </a:lnTo>
                    <a:lnTo>
                      <a:pt x="76" y="17"/>
                    </a:lnTo>
                    <a:lnTo>
                      <a:pt x="70" y="20"/>
                    </a:lnTo>
                    <a:lnTo>
                      <a:pt x="63" y="22"/>
                    </a:lnTo>
                    <a:lnTo>
                      <a:pt x="56" y="23"/>
                    </a:lnTo>
                    <a:lnTo>
                      <a:pt x="49" y="24"/>
                    </a:lnTo>
                    <a:lnTo>
                      <a:pt x="42" y="29"/>
                    </a:lnTo>
                    <a:lnTo>
                      <a:pt x="38" y="36"/>
                    </a:lnTo>
                    <a:lnTo>
                      <a:pt x="48" y="46"/>
                    </a:lnTo>
                    <a:lnTo>
                      <a:pt x="58" y="54"/>
                    </a:lnTo>
                    <a:lnTo>
                      <a:pt x="65" y="63"/>
                    </a:lnTo>
                    <a:lnTo>
                      <a:pt x="72" y="72"/>
                    </a:lnTo>
                    <a:lnTo>
                      <a:pt x="89" y="83"/>
                    </a:lnTo>
                    <a:lnTo>
                      <a:pt x="106" y="93"/>
                    </a:lnTo>
                    <a:lnTo>
                      <a:pt x="125" y="100"/>
                    </a:lnTo>
                    <a:lnTo>
                      <a:pt x="143" y="107"/>
                    </a:lnTo>
                    <a:lnTo>
                      <a:pt x="163" y="113"/>
                    </a:lnTo>
                    <a:lnTo>
                      <a:pt x="182" y="117"/>
                    </a:lnTo>
                    <a:lnTo>
                      <a:pt x="202" y="119"/>
                    </a:lnTo>
                    <a:lnTo>
                      <a:pt x="222" y="120"/>
                    </a:lnTo>
                    <a:lnTo>
                      <a:pt x="242" y="122"/>
                    </a:lnTo>
                    <a:lnTo>
                      <a:pt x="262" y="120"/>
                    </a:lnTo>
                    <a:lnTo>
                      <a:pt x="282" y="119"/>
                    </a:lnTo>
                    <a:lnTo>
                      <a:pt x="302" y="116"/>
                    </a:lnTo>
                    <a:lnTo>
                      <a:pt x="320" y="113"/>
                    </a:lnTo>
                    <a:lnTo>
                      <a:pt x="340" y="109"/>
                    </a:lnTo>
                    <a:lnTo>
                      <a:pt x="359" y="103"/>
                    </a:lnTo>
                    <a:lnTo>
                      <a:pt x="377" y="97"/>
                    </a:lnTo>
                    <a:lnTo>
                      <a:pt x="377" y="104"/>
                    </a:lnTo>
                    <a:lnTo>
                      <a:pt x="386" y="104"/>
                    </a:lnTo>
                    <a:lnTo>
                      <a:pt x="394" y="99"/>
                    </a:lnTo>
                    <a:lnTo>
                      <a:pt x="400" y="90"/>
                    </a:lnTo>
                    <a:lnTo>
                      <a:pt x="404" y="82"/>
                    </a:lnTo>
                    <a:lnTo>
                      <a:pt x="403" y="67"/>
                    </a:lnTo>
                    <a:lnTo>
                      <a:pt x="397" y="54"/>
                    </a:lnTo>
                    <a:lnTo>
                      <a:pt x="387" y="44"/>
                    </a:lnTo>
                    <a:lnTo>
                      <a:pt x="376" y="36"/>
                    </a:lnTo>
                    <a:lnTo>
                      <a:pt x="360" y="30"/>
                    </a:lnTo>
                    <a:lnTo>
                      <a:pt x="342" y="27"/>
                    </a:lnTo>
                    <a:lnTo>
                      <a:pt x="323" y="26"/>
                    </a:lnTo>
                    <a:lnTo>
                      <a:pt x="303" y="27"/>
                    </a:lnTo>
                    <a:lnTo>
                      <a:pt x="307" y="22"/>
                    </a:lnTo>
                    <a:lnTo>
                      <a:pt x="314" y="16"/>
                    </a:lnTo>
                    <a:lnTo>
                      <a:pt x="322" y="13"/>
                    </a:lnTo>
                    <a:lnTo>
                      <a:pt x="330" y="12"/>
                    </a:lnTo>
                    <a:lnTo>
                      <a:pt x="340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7" y="12"/>
                    </a:lnTo>
                    <a:lnTo>
                      <a:pt x="379" y="14"/>
                    </a:lnTo>
                    <a:lnTo>
                      <a:pt x="393" y="23"/>
                    </a:lnTo>
                    <a:lnTo>
                      <a:pt x="407" y="36"/>
                    </a:lnTo>
                    <a:lnTo>
                      <a:pt x="419" y="53"/>
                    </a:lnTo>
                    <a:lnTo>
                      <a:pt x="423" y="74"/>
                    </a:lnTo>
                    <a:lnTo>
                      <a:pt x="417" y="100"/>
                    </a:lnTo>
                    <a:lnTo>
                      <a:pt x="400" y="129"/>
                    </a:lnTo>
                    <a:lnTo>
                      <a:pt x="367" y="159"/>
                    </a:lnTo>
                    <a:lnTo>
                      <a:pt x="322" y="187"/>
                    </a:lnTo>
                    <a:lnTo>
                      <a:pt x="322" y="177"/>
                    </a:lnTo>
                    <a:lnTo>
                      <a:pt x="329" y="169"/>
                    </a:lnTo>
                    <a:lnTo>
                      <a:pt x="339" y="160"/>
                    </a:lnTo>
                    <a:lnTo>
                      <a:pt x="352" y="151"/>
                    </a:lnTo>
                    <a:lnTo>
                      <a:pt x="363" y="143"/>
                    </a:lnTo>
                    <a:lnTo>
                      <a:pt x="371" y="133"/>
                    </a:lnTo>
                    <a:lnTo>
                      <a:pt x="374" y="124"/>
                    </a:lnTo>
                    <a:lnTo>
                      <a:pt x="370" y="113"/>
                    </a:lnTo>
                    <a:lnTo>
                      <a:pt x="353" y="122"/>
                    </a:lnTo>
                    <a:lnTo>
                      <a:pt x="334" y="130"/>
                    </a:lnTo>
                    <a:lnTo>
                      <a:pt x="316" y="136"/>
                    </a:lnTo>
                    <a:lnTo>
                      <a:pt x="297" y="140"/>
                    </a:lnTo>
                    <a:lnTo>
                      <a:pt x="276" y="143"/>
                    </a:lnTo>
                    <a:lnTo>
                      <a:pt x="256" y="144"/>
                    </a:lnTo>
                    <a:lnTo>
                      <a:pt x="236" y="144"/>
                    </a:lnTo>
                    <a:lnTo>
                      <a:pt x="216" y="143"/>
                    </a:lnTo>
                    <a:lnTo>
                      <a:pt x="196" y="141"/>
                    </a:lnTo>
                    <a:lnTo>
                      <a:pt x="176" y="139"/>
                    </a:lnTo>
                    <a:lnTo>
                      <a:pt x="157" y="134"/>
                    </a:lnTo>
                    <a:lnTo>
                      <a:pt x="140" y="130"/>
                    </a:lnTo>
                    <a:lnTo>
                      <a:pt x="125" y="124"/>
                    </a:lnTo>
                    <a:lnTo>
                      <a:pt x="109" y="119"/>
                    </a:lnTo>
                    <a:lnTo>
                      <a:pt x="96" y="112"/>
                    </a:lnTo>
                    <a:lnTo>
                      <a:pt x="85" y="104"/>
                    </a:lnTo>
                    <a:lnTo>
                      <a:pt x="73" y="96"/>
                    </a:lnTo>
                    <a:lnTo>
                      <a:pt x="62" y="86"/>
                    </a:lnTo>
                    <a:lnTo>
                      <a:pt x="52" y="76"/>
                    </a:lnTo>
                    <a:lnTo>
                      <a:pt x="43" y="66"/>
                    </a:lnTo>
                    <a:lnTo>
                      <a:pt x="38" y="59"/>
                    </a:lnTo>
                    <a:lnTo>
                      <a:pt x="32" y="52"/>
                    </a:lnTo>
                    <a:lnTo>
                      <a:pt x="29" y="47"/>
                    </a:lnTo>
                    <a:lnTo>
                      <a:pt x="28" y="46"/>
                    </a:lnTo>
                    <a:lnTo>
                      <a:pt x="25" y="53"/>
                    </a:lnTo>
                    <a:lnTo>
                      <a:pt x="19" y="57"/>
                    </a:lnTo>
                    <a:lnTo>
                      <a:pt x="13" y="63"/>
                    </a:lnTo>
                    <a:lnTo>
                      <a:pt x="9" y="66"/>
                    </a:lnTo>
                    <a:lnTo>
                      <a:pt x="0" y="60"/>
                    </a:lnTo>
                    <a:lnTo>
                      <a:pt x="3" y="47"/>
                    </a:lnTo>
                    <a:lnTo>
                      <a:pt x="12" y="33"/>
                    </a:lnTo>
                    <a:lnTo>
                      <a:pt x="18" y="20"/>
                    </a:lnTo>
                    <a:lnTo>
                      <a:pt x="23" y="16"/>
                    </a:lnTo>
                    <a:lnTo>
                      <a:pt x="30" y="12"/>
                    </a:lnTo>
                    <a:lnTo>
                      <a:pt x="38" y="7"/>
                    </a:lnTo>
                    <a:lnTo>
                      <a:pt x="46" y="5"/>
                    </a:lnTo>
                    <a:lnTo>
                      <a:pt x="53" y="2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9" y="2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359400" y="4981680"/>
                <a:ext cx="59760" cy="6984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71" y="36"/>
                    </a:moveTo>
                    <a:lnTo>
                      <a:pt x="67" y="46"/>
                    </a:lnTo>
                    <a:lnTo>
                      <a:pt x="60" y="54"/>
                    </a:lnTo>
                    <a:lnTo>
                      <a:pt x="51" y="62"/>
                    </a:lnTo>
                    <a:lnTo>
                      <a:pt x="42" y="69"/>
                    </a:lnTo>
                    <a:lnTo>
                      <a:pt x="32" y="74"/>
                    </a:lnTo>
                    <a:lnTo>
                      <a:pt x="21" y="79"/>
                    </a:lnTo>
                    <a:lnTo>
                      <a:pt x="11" y="83"/>
                    </a:lnTo>
                    <a:lnTo>
                      <a:pt x="0" y="87"/>
                    </a:lnTo>
                    <a:lnTo>
                      <a:pt x="10" y="77"/>
                    </a:lnTo>
                    <a:lnTo>
                      <a:pt x="18" y="67"/>
                    </a:lnTo>
                    <a:lnTo>
                      <a:pt x="27" y="56"/>
                    </a:lnTo>
                    <a:lnTo>
                      <a:pt x="35" y="46"/>
                    </a:lnTo>
                    <a:lnTo>
                      <a:pt x="44" y="35"/>
                    </a:lnTo>
                    <a:lnTo>
                      <a:pt x="52" y="23"/>
                    </a:lnTo>
                    <a:lnTo>
                      <a:pt x="60" y="12"/>
                    </a:lnTo>
                    <a:lnTo>
                      <a:pt x="67" y="0"/>
                    </a:lnTo>
                    <a:lnTo>
                      <a:pt x="75" y="6"/>
                    </a:lnTo>
                    <a:lnTo>
                      <a:pt x="74" y="13"/>
                    </a:lnTo>
                    <a:lnTo>
                      <a:pt x="70" y="25"/>
                    </a:lnTo>
                    <a:lnTo>
                      <a:pt x="7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192720" y="5000760"/>
                <a:ext cx="83520" cy="58680"/>
              </a:xfrm>
              <a:custGeom>
                <a:avLst/>
                <a:gdLst/>
                <a:ahLst/>
                <a:rect l="l" t="t" r="r" b="b"/>
                <a:pathLst>
                  <a:path w="106" h="74">
                    <a:moveTo>
                      <a:pt x="106" y="24"/>
                    </a:moveTo>
                    <a:lnTo>
                      <a:pt x="99" y="24"/>
                    </a:lnTo>
                    <a:lnTo>
                      <a:pt x="92" y="24"/>
                    </a:lnTo>
                    <a:lnTo>
                      <a:pt x="85" y="21"/>
                    </a:lnTo>
                    <a:lnTo>
                      <a:pt x="76" y="19"/>
                    </a:lnTo>
                    <a:lnTo>
                      <a:pt x="69" y="17"/>
                    </a:lnTo>
                    <a:lnTo>
                      <a:pt x="62" y="17"/>
                    </a:lnTo>
                    <a:lnTo>
                      <a:pt x="55" y="18"/>
                    </a:lnTo>
                    <a:lnTo>
                      <a:pt x="46" y="21"/>
                    </a:lnTo>
                    <a:lnTo>
                      <a:pt x="49" y="32"/>
                    </a:lnTo>
                    <a:lnTo>
                      <a:pt x="56" y="44"/>
                    </a:lnTo>
                    <a:lnTo>
                      <a:pt x="59" y="57"/>
                    </a:lnTo>
                    <a:lnTo>
                      <a:pt x="49" y="68"/>
                    </a:lnTo>
                    <a:lnTo>
                      <a:pt x="43" y="71"/>
                    </a:lnTo>
                    <a:lnTo>
                      <a:pt x="38" y="72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16" y="74"/>
                    </a:lnTo>
                    <a:lnTo>
                      <a:pt x="10" y="72"/>
                    </a:lnTo>
                    <a:lnTo>
                      <a:pt x="5" y="71"/>
                    </a:lnTo>
                    <a:lnTo>
                      <a:pt x="0" y="69"/>
                    </a:lnTo>
                    <a:lnTo>
                      <a:pt x="6" y="67"/>
                    </a:lnTo>
                    <a:lnTo>
                      <a:pt x="10" y="64"/>
                    </a:lnTo>
                    <a:lnTo>
                      <a:pt x="16" y="62"/>
                    </a:lnTo>
                    <a:lnTo>
                      <a:pt x="23" y="61"/>
                    </a:lnTo>
                    <a:lnTo>
                      <a:pt x="29" y="59"/>
                    </a:lnTo>
                    <a:lnTo>
                      <a:pt x="35" y="58"/>
                    </a:lnTo>
                    <a:lnTo>
                      <a:pt x="39" y="55"/>
                    </a:lnTo>
                    <a:lnTo>
                      <a:pt x="45" y="52"/>
                    </a:lnTo>
                    <a:lnTo>
                      <a:pt x="48" y="42"/>
                    </a:lnTo>
                    <a:lnTo>
                      <a:pt x="45" y="35"/>
                    </a:lnTo>
                    <a:lnTo>
                      <a:pt x="39" y="32"/>
                    </a:lnTo>
                    <a:lnTo>
                      <a:pt x="32" y="29"/>
                    </a:lnTo>
                    <a:lnTo>
                      <a:pt x="25" y="28"/>
                    </a:lnTo>
                    <a:lnTo>
                      <a:pt x="20" y="24"/>
                    </a:lnTo>
                    <a:lnTo>
                      <a:pt x="20" y="18"/>
                    </a:lnTo>
                    <a:lnTo>
                      <a:pt x="26" y="8"/>
                    </a:lnTo>
                    <a:lnTo>
                      <a:pt x="36" y="2"/>
                    </a:lnTo>
                    <a:lnTo>
                      <a:pt x="48" y="0"/>
                    </a:lnTo>
                    <a:lnTo>
                      <a:pt x="59" y="0"/>
                    </a:lnTo>
                    <a:lnTo>
                      <a:pt x="70" y="1"/>
                    </a:lnTo>
                    <a:lnTo>
                      <a:pt x="82" y="4"/>
                    </a:lnTo>
                    <a:lnTo>
                      <a:pt x="93" y="10"/>
                    </a:lnTo>
                    <a:lnTo>
                      <a:pt x="100" y="15"/>
                    </a:lnTo>
                    <a:lnTo>
                      <a:pt x="106" y="24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475320" y="5173560"/>
                <a:ext cx="82080" cy="31680"/>
              </a:xfrm>
              <a:custGeom>
                <a:avLst/>
                <a:gdLst/>
                <a:ahLst/>
                <a:rect l="l" t="t" r="r" b="b"/>
                <a:pathLst>
                  <a:path w="106" h="40">
                    <a:moveTo>
                      <a:pt x="106" y="14"/>
                    </a:moveTo>
                    <a:lnTo>
                      <a:pt x="103" y="24"/>
                    </a:lnTo>
                    <a:lnTo>
                      <a:pt x="97" y="31"/>
                    </a:lnTo>
                    <a:lnTo>
                      <a:pt x="89" y="36"/>
                    </a:lnTo>
                    <a:lnTo>
                      <a:pt x="77" y="38"/>
                    </a:lnTo>
                    <a:lnTo>
                      <a:pt x="66" y="38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31" y="40"/>
                    </a:lnTo>
                    <a:lnTo>
                      <a:pt x="21" y="40"/>
                    </a:lnTo>
                    <a:lnTo>
                      <a:pt x="14" y="38"/>
                    </a:lnTo>
                    <a:lnTo>
                      <a:pt x="6" y="34"/>
                    </a:lnTo>
                    <a:lnTo>
                      <a:pt x="0" y="27"/>
                    </a:lnTo>
                    <a:lnTo>
                      <a:pt x="10" y="20"/>
                    </a:lnTo>
                    <a:lnTo>
                      <a:pt x="23" y="13"/>
                    </a:lnTo>
                    <a:lnTo>
                      <a:pt x="39" y="7"/>
                    </a:lnTo>
                    <a:lnTo>
                      <a:pt x="54" y="1"/>
                    </a:lnTo>
                    <a:lnTo>
                      <a:pt x="70" y="0"/>
                    </a:lnTo>
                    <a:lnTo>
                      <a:pt x="84" y="0"/>
                    </a:lnTo>
                    <a:lnTo>
                      <a:pt x="96" y="6"/>
                    </a:lnTo>
                    <a:lnTo>
                      <a:pt x="106" y="14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738120" y="5176800"/>
                <a:ext cx="48600" cy="74520"/>
              </a:xfrm>
              <a:custGeom>
                <a:avLst/>
                <a:gdLst/>
                <a:ahLst/>
                <a:rect l="l" t="t" r="r" b="b"/>
                <a:pathLst>
                  <a:path w="61" h="94">
                    <a:moveTo>
                      <a:pt x="61" y="21"/>
                    </a:moveTo>
                    <a:lnTo>
                      <a:pt x="55" y="34"/>
                    </a:lnTo>
                    <a:lnTo>
                      <a:pt x="47" y="48"/>
                    </a:lnTo>
                    <a:lnTo>
                      <a:pt x="43" y="61"/>
                    </a:lnTo>
                    <a:lnTo>
                      <a:pt x="45" y="72"/>
                    </a:lnTo>
                    <a:lnTo>
                      <a:pt x="44" y="80"/>
                    </a:lnTo>
                    <a:lnTo>
                      <a:pt x="44" y="87"/>
                    </a:lnTo>
                    <a:lnTo>
                      <a:pt x="41" y="91"/>
                    </a:lnTo>
                    <a:lnTo>
                      <a:pt x="35" y="94"/>
                    </a:lnTo>
                    <a:lnTo>
                      <a:pt x="20" y="87"/>
                    </a:lnTo>
                    <a:lnTo>
                      <a:pt x="10" y="75"/>
                    </a:lnTo>
                    <a:lnTo>
                      <a:pt x="3" y="61"/>
                    </a:lnTo>
                    <a:lnTo>
                      <a:pt x="0" y="42"/>
                    </a:lnTo>
                    <a:lnTo>
                      <a:pt x="1" y="28"/>
                    </a:lnTo>
                    <a:lnTo>
                      <a:pt x="4" y="17"/>
                    </a:lnTo>
                    <a:lnTo>
                      <a:pt x="10" y="7"/>
                    </a:lnTo>
                    <a:lnTo>
                      <a:pt x="20" y="1"/>
                    </a:lnTo>
                    <a:lnTo>
                      <a:pt x="34" y="0"/>
                    </a:lnTo>
                    <a:lnTo>
                      <a:pt x="45" y="4"/>
                    </a:lnTo>
                    <a:lnTo>
                      <a:pt x="53" y="13"/>
                    </a:lnTo>
                    <a:lnTo>
                      <a:pt x="61" y="21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788880" y="5189400"/>
                <a:ext cx="29880" cy="61920"/>
              </a:xfrm>
              <a:custGeom>
                <a:avLst/>
                <a:gdLst/>
                <a:ahLst/>
                <a:rect l="l" t="t" r="r" b="b"/>
                <a:pathLst>
                  <a:path w="39" h="77">
                    <a:moveTo>
                      <a:pt x="39" y="77"/>
                    </a:moveTo>
                    <a:lnTo>
                      <a:pt x="20" y="73"/>
                    </a:lnTo>
                    <a:lnTo>
                      <a:pt x="10" y="58"/>
                    </a:lnTo>
                    <a:lnTo>
                      <a:pt x="5" y="41"/>
                    </a:lnTo>
                    <a:lnTo>
                      <a:pt x="0" y="30"/>
                    </a:lnTo>
                    <a:lnTo>
                      <a:pt x="3" y="30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6" y="7"/>
                    </a:lnTo>
                    <a:lnTo>
                      <a:pt x="10" y="0"/>
                    </a:lnTo>
                    <a:lnTo>
                      <a:pt x="15" y="20"/>
                    </a:lnTo>
                    <a:lnTo>
                      <a:pt x="23" y="38"/>
                    </a:lnTo>
                    <a:lnTo>
                      <a:pt x="33" y="57"/>
                    </a:lnTo>
                    <a:lnTo>
                      <a:pt x="39" y="7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6825960" y="520704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31" y="30"/>
                    </a:moveTo>
                    <a:lnTo>
                      <a:pt x="31" y="36"/>
                    </a:lnTo>
                    <a:lnTo>
                      <a:pt x="31" y="40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16" y="44"/>
                    </a:lnTo>
                    <a:lnTo>
                      <a:pt x="10" y="37"/>
                    </a:lnTo>
                    <a:lnTo>
                      <a:pt x="4" y="27"/>
                    </a:lnTo>
                    <a:lnTo>
                      <a:pt x="0" y="19"/>
                    </a:lnTo>
                    <a:lnTo>
                      <a:pt x="4" y="0"/>
                    </a:lnTo>
                    <a:lnTo>
                      <a:pt x="14" y="3"/>
                    </a:lnTo>
                    <a:lnTo>
                      <a:pt x="26" y="16"/>
                    </a:lnTo>
                    <a:lnTo>
                      <a:pt x="31" y="3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604560" y="5214960"/>
                <a:ext cx="137880" cy="46080"/>
              </a:xfrm>
              <a:custGeom>
                <a:avLst/>
                <a:gdLst/>
                <a:ahLst/>
                <a:rect l="l" t="t" r="r" b="b"/>
                <a:pathLst>
                  <a:path w="173" h="57">
                    <a:moveTo>
                      <a:pt x="173" y="30"/>
                    </a:moveTo>
                    <a:lnTo>
                      <a:pt x="169" y="42"/>
                    </a:lnTo>
                    <a:lnTo>
                      <a:pt x="162" y="52"/>
                    </a:lnTo>
                    <a:lnTo>
                      <a:pt x="150" y="57"/>
                    </a:lnTo>
                    <a:lnTo>
                      <a:pt x="135" y="53"/>
                    </a:lnTo>
                    <a:lnTo>
                      <a:pt x="120" y="44"/>
                    </a:lnTo>
                    <a:lnTo>
                      <a:pt x="105" y="40"/>
                    </a:lnTo>
                    <a:lnTo>
                      <a:pt x="89" y="37"/>
                    </a:lnTo>
                    <a:lnTo>
                      <a:pt x="72" y="37"/>
                    </a:lnTo>
                    <a:lnTo>
                      <a:pt x="55" y="39"/>
                    </a:lnTo>
                    <a:lnTo>
                      <a:pt x="39" y="39"/>
                    </a:lnTo>
                    <a:lnTo>
                      <a:pt x="20" y="39"/>
                    </a:lnTo>
                    <a:lnTo>
                      <a:pt x="3" y="36"/>
                    </a:lnTo>
                    <a:lnTo>
                      <a:pt x="2" y="32"/>
                    </a:lnTo>
                    <a:lnTo>
                      <a:pt x="0" y="24"/>
                    </a:lnTo>
                    <a:lnTo>
                      <a:pt x="2" y="19"/>
                    </a:lnTo>
                    <a:lnTo>
                      <a:pt x="2" y="14"/>
                    </a:lnTo>
                    <a:lnTo>
                      <a:pt x="22" y="6"/>
                    </a:lnTo>
                    <a:lnTo>
                      <a:pt x="43" y="2"/>
                    </a:lnTo>
                    <a:lnTo>
                      <a:pt x="66" y="0"/>
                    </a:lnTo>
                    <a:lnTo>
                      <a:pt x="90" y="3"/>
                    </a:lnTo>
                    <a:lnTo>
                      <a:pt x="112" y="7"/>
                    </a:lnTo>
                    <a:lnTo>
                      <a:pt x="135" y="14"/>
                    </a:lnTo>
                    <a:lnTo>
                      <a:pt x="155" y="22"/>
                    </a:lnTo>
                    <a:lnTo>
                      <a:pt x="173" y="3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6465600" y="5246640"/>
                <a:ext cx="158400" cy="181080"/>
              </a:xfrm>
              <a:custGeom>
                <a:avLst/>
                <a:gdLst/>
                <a:ahLst/>
                <a:rect l="l" t="t" r="r" b="b"/>
                <a:pathLst>
                  <a:path w="200" h="227">
                    <a:moveTo>
                      <a:pt x="192" y="74"/>
                    </a:moveTo>
                    <a:lnTo>
                      <a:pt x="197" y="90"/>
                    </a:lnTo>
                    <a:lnTo>
                      <a:pt x="200" y="104"/>
                    </a:lnTo>
                    <a:lnTo>
                      <a:pt x="200" y="120"/>
                    </a:lnTo>
                    <a:lnTo>
                      <a:pt x="196" y="134"/>
                    </a:lnTo>
                    <a:lnTo>
                      <a:pt x="192" y="147"/>
                    </a:lnTo>
                    <a:lnTo>
                      <a:pt x="184" y="161"/>
                    </a:lnTo>
                    <a:lnTo>
                      <a:pt x="177" y="174"/>
                    </a:lnTo>
                    <a:lnTo>
                      <a:pt x="170" y="186"/>
                    </a:lnTo>
                    <a:lnTo>
                      <a:pt x="163" y="194"/>
                    </a:lnTo>
                    <a:lnTo>
                      <a:pt x="156" y="203"/>
                    </a:lnTo>
                    <a:lnTo>
                      <a:pt x="147" y="210"/>
                    </a:lnTo>
                    <a:lnTo>
                      <a:pt x="139" y="217"/>
                    </a:lnTo>
                    <a:lnTo>
                      <a:pt x="129" y="223"/>
                    </a:lnTo>
                    <a:lnTo>
                      <a:pt x="119" y="226"/>
                    </a:lnTo>
                    <a:lnTo>
                      <a:pt x="107" y="227"/>
                    </a:lnTo>
                    <a:lnTo>
                      <a:pt x="96" y="224"/>
                    </a:lnTo>
                    <a:lnTo>
                      <a:pt x="100" y="218"/>
                    </a:lnTo>
                    <a:lnTo>
                      <a:pt x="102" y="210"/>
                    </a:lnTo>
                    <a:lnTo>
                      <a:pt x="102" y="201"/>
                    </a:lnTo>
                    <a:lnTo>
                      <a:pt x="102" y="193"/>
                    </a:lnTo>
                    <a:lnTo>
                      <a:pt x="52" y="180"/>
                    </a:lnTo>
                    <a:lnTo>
                      <a:pt x="52" y="170"/>
                    </a:lnTo>
                    <a:lnTo>
                      <a:pt x="57" y="166"/>
                    </a:lnTo>
                    <a:lnTo>
                      <a:pt x="66" y="163"/>
                    </a:lnTo>
                    <a:lnTo>
                      <a:pt x="77" y="163"/>
                    </a:lnTo>
                    <a:lnTo>
                      <a:pt x="89" y="161"/>
                    </a:lnTo>
                    <a:lnTo>
                      <a:pt x="99" y="161"/>
                    </a:lnTo>
                    <a:lnTo>
                      <a:pt x="107" y="157"/>
                    </a:lnTo>
                    <a:lnTo>
                      <a:pt x="112" y="150"/>
                    </a:lnTo>
                    <a:lnTo>
                      <a:pt x="97" y="141"/>
                    </a:lnTo>
                    <a:lnTo>
                      <a:pt x="82" y="139"/>
                    </a:lnTo>
                    <a:lnTo>
                      <a:pt x="65" y="141"/>
                    </a:lnTo>
                    <a:lnTo>
                      <a:pt x="47" y="144"/>
                    </a:lnTo>
                    <a:lnTo>
                      <a:pt x="32" y="147"/>
                    </a:lnTo>
                    <a:lnTo>
                      <a:pt x="17" y="144"/>
                    </a:lnTo>
                    <a:lnTo>
                      <a:pt x="7" y="136"/>
                    </a:lnTo>
                    <a:lnTo>
                      <a:pt x="0" y="119"/>
                    </a:lnTo>
                    <a:lnTo>
                      <a:pt x="0" y="99"/>
                    </a:lnTo>
                    <a:lnTo>
                      <a:pt x="9" y="84"/>
                    </a:lnTo>
                    <a:lnTo>
                      <a:pt x="20" y="74"/>
                    </a:lnTo>
                    <a:lnTo>
                      <a:pt x="37" y="67"/>
                    </a:lnTo>
                    <a:lnTo>
                      <a:pt x="47" y="62"/>
                    </a:lnTo>
                    <a:lnTo>
                      <a:pt x="59" y="59"/>
                    </a:lnTo>
                    <a:lnTo>
                      <a:pt x="70" y="57"/>
                    </a:lnTo>
                    <a:lnTo>
                      <a:pt x="83" y="57"/>
                    </a:lnTo>
                    <a:lnTo>
                      <a:pt x="94" y="60"/>
                    </a:lnTo>
                    <a:lnTo>
                      <a:pt x="106" y="62"/>
                    </a:lnTo>
                    <a:lnTo>
                      <a:pt x="117" y="64"/>
                    </a:lnTo>
                    <a:lnTo>
                      <a:pt x="127" y="67"/>
                    </a:lnTo>
                    <a:lnTo>
                      <a:pt x="127" y="60"/>
                    </a:lnTo>
                    <a:lnTo>
                      <a:pt x="124" y="54"/>
                    </a:lnTo>
                    <a:lnTo>
                      <a:pt x="120" y="49"/>
                    </a:lnTo>
                    <a:lnTo>
                      <a:pt x="114" y="43"/>
                    </a:lnTo>
                    <a:lnTo>
                      <a:pt x="106" y="40"/>
                    </a:lnTo>
                    <a:lnTo>
                      <a:pt x="99" y="36"/>
                    </a:lnTo>
                    <a:lnTo>
                      <a:pt x="90" y="33"/>
                    </a:lnTo>
                    <a:lnTo>
                      <a:pt x="83" y="32"/>
                    </a:lnTo>
                    <a:lnTo>
                      <a:pt x="73" y="33"/>
                    </a:lnTo>
                    <a:lnTo>
                      <a:pt x="63" y="34"/>
                    </a:lnTo>
                    <a:lnTo>
                      <a:pt x="53" y="36"/>
                    </a:lnTo>
                    <a:lnTo>
                      <a:pt x="43" y="37"/>
                    </a:lnTo>
                    <a:lnTo>
                      <a:pt x="32" y="39"/>
                    </a:lnTo>
                    <a:lnTo>
                      <a:pt x="23" y="42"/>
                    </a:lnTo>
                    <a:lnTo>
                      <a:pt x="15" y="46"/>
                    </a:lnTo>
                    <a:lnTo>
                      <a:pt x="6" y="52"/>
                    </a:lnTo>
                    <a:lnTo>
                      <a:pt x="7" y="36"/>
                    </a:lnTo>
                    <a:lnTo>
                      <a:pt x="13" y="26"/>
                    </a:lnTo>
                    <a:lnTo>
                      <a:pt x="22" y="19"/>
                    </a:lnTo>
                    <a:lnTo>
                      <a:pt x="35" y="14"/>
                    </a:lnTo>
                    <a:lnTo>
                      <a:pt x="47" y="12"/>
                    </a:lnTo>
                    <a:lnTo>
                      <a:pt x="62" y="9"/>
                    </a:lnTo>
                    <a:lnTo>
                      <a:pt x="75" y="6"/>
                    </a:lnTo>
                    <a:lnTo>
                      <a:pt x="86" y="0"/>
                    </a:lnTo>
                    <a:lnTo>
                      <a:pt x="106" y="0"/>
                    </a:lnTo>
                    <a:lnTo>
                      <a:pt x="122" y="6"/>
                    </a:lnTo>
                    <a:lnTo>
                      <a:pt x="137" y="13"/>
                    </a:lnTo>
                    <a:lnTo>
                      <a:pt x="150" y="23"/>
                    </a:lnTo>
                    <a:lnTo>
                      <a:pt x="162" y="36"/>
                    </a:lnTo>
                    <a:lnTo>
                      <a:pt x="172" y="49"/>
                    </a:lnTo>
                    <a:lnTo>
                      <a:pt x="182" y="62"/>
                    </a:lnTo>
                    <a:lnTo>
                      <a:pt x="192" y="74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296760" y="5257800"/>
                <a:ext cx="1055160" cy="404640"/>
              </a:xfrm>
              <a:custGeom>
                <a:avLst/>
                <a:gdLst/>
                <a:ahLst/>
                <a:rect l="l" t="t" r="r" b="b"/>
                <a:pathLst>
                  <a:path w="1330" h="510">
                    <a:moveTo>
                      <a:pt x="874" y="86"/>
                    </a:moveTo>
                    <a:lnTo>
                      <a:pt x="900" y="115"/>
                    </a:lnTo>
                    <a:lnTo>
                      <a:pt x="924" y="145"/>
                    </a:lnTo>
                    <a:lnTo>
                      <a:pt x="949" y="176"/>
                    </a:lnTo>
                    <a:lnTo>
                      <a:pt x="973" y="207"/>
                    </a:lnTo>
                    <a:lnTo>
                      <a:pt x="996" y="240"/>
                    </a:lnTo>
                    <a:lnTo>
                      <a:pt x="1017" y="273"/>
                    </a:lnTo>
                    <a:lnTo>
                      <a:pt x="1037" y="306"/>
                    </a:lnTo>
                    <a:lnTo>
                      <a:pt x="1057" y="339"/>
                    </a:lnTo>
                    <a:lnTo>
                      <a:pt x="1069" y="344"/>
                    </a:lnTo>
                    <a:lnTo>
                      <a:pt x="1080" y="351"/>
                    </a:lnTo>
                    <a:lnTo>
                      <a:pt x="1093" y="359"/>
                    </a:lnTo>
                    <a:lnTo>
                      <a:pt x="1104" y="366"/>
                    </a:lnTo>
                    <a:lnTo>
                      <a:pt x="1119" y="371"/>
                    </a:lnTo>
                    <a:lnTo>
                      <a:pt x="1133" y="373"/>
                    </a:lnTo>
                    <a:lnTo>
                      <a:pt x="1147" y="373"/>
                    </a:lnTo>
                    <a:lnTo>
                      <a:pt x="1164" y="367"/>
                    </a:lnTo>
                    <a:lnTo>
                      <a:pt x="1174" y="360"/>
                    </a:lnTo>
                    <a:lnTo>
                      <a:pt x="1177" y="349"/>
                    </a:lnTo>
                    <a:lnTo>
                      <a:pt x="1177" y="336"/>
                    </a:lnTo>
                    <a:lnTo>
                      <a:pt x="1180" y="323"/>
                    </a:lnTo>
                    <a:lnTo>
                      <a:pt x="1196" y="320"/>
                    </a:lnTo>
                    <a:lnTo>
                      <a:pt x="1207" y="330"/>
                    </a:lnTo>
                    <a:lnTo>
                      <a:pt x="1214" y="343"/>
                    </a:lnTo>
                    <a:lnTo>
                      <a:pt x="1221" y="354"/>
                    </a:lnTo>
                    <a:lnTo>
                      <a:pt x="1240" y="369"/>
                    </a:lnTo>
                    <a:lnTo>
                      <a:pt x="1256" y="384"/>
                    </a:lnTo>
                    <a:lnTo>
                      <a:pt x="1270" y="403"/>
                    </a:lnTo>
                    <a:lnTo>
                      <a:pt x="1281" y="421"/>
                    </a:lnTo>
                    <a:lnTo>
                      <a:pt x="1293" y="440"/>
                    </a:lnTo>
                    <a:lnTo>
                      <a:pt x="1304" y="458"/>
                    </a:lnTo>
                    <a:lnTo>
                      <a:pt x="1317" y="476"/>
                    </a:lnTo>
                    <a:lnTo>
                      <a:pt x="1330" y="493"/>
                    </a:lnTo>
                    <a:lnTo>
                      <a:pt x="1330" y="510"/>
                    </a:lnTo>
                    <a:lnTo>
                      <a:pt x="1310" y="494"/>
                    </a:lnTo>
                    <a:lnTo>
                      <a:pt x="1290" y="480"/>
                    </a:lnTo>
                    <a:lnTo>
                      <a:pt x="1268" y="466"/>
                    </a:lnTo>
                    <a:lnTo>
                      <a:pt x="1247" y="453"/>
                    </a:lnTo>
                    <a:lnTo>
                      <a:pt x="1224" y="440"/>
                    </a:lnTo>
                    <a:lnTo>
                      <a:pt x="1200" y="428"/>
                    </a:lnTo>
                    <a:lnTo>
                      <a:pt x="1176" y="417"/>
                    </a:lnTo>
                    <a:lnTo>
                      <a:pt x="1151" y="407"/>
                    </a:lnTo>
                    <a:lnTo>
                      <a:pt x="1126" y="396"/>
                    </a:lnTo>
                    <a:lnTo>
                      <a:pt x="1100" y="386"/>
                    </a:lnTo>
                    <a:lnTo>
                      <a:pt x="1076" y="376"/>
                    </a:lnTo>
                    <a:lnTo>
                      <a:pt x="1050" y="366"/>
                    </a:lnTo>
                    <a:lnTo>
                      <a:pt x="1024" y="354"/>
                    </a:lnTo>
                    <a:lnTo>
                      <a:pt x="999" y="344"/>
                    </a:lnTo>
                    <a:lnTo>
                      <a:pt x="973" y="333"/>
                    </a:lnTo>
                    <a:lnTo>
                      <a:pt x="949" y="321"/>
                    </a:lnTo>
                    <a:lnTo>
                      <a:pt x="910" y="310"/>
                    </a:lnTo>
                    <a:lnTo>
                      <a:pt x="873" y="300"/>
                    </a:lnTo>
                    <a:lnTo>
                      <a:pt x="837" y="289"/>
                    </a:lnTo>
                    <a:lnTo>
                      <a:pt x="802" y="279"/>
                    </a:lnTo>
                    <a:lnTo>
                      <a:pt x="766" y="269"/>
                    </a:lnTo>
                    <a:lnTo>
                      <a:pt x="730" y="259"/>
                    </a:lnTo>
                    <a:lnTo>
                      <a:pt x="696" y="249"/>
                    </a:lnTo>
                    <a:lnTo>
                      <a:pt x="662" y="240"/>
                    </a:lnTo>
                    <a:lnTo>
                      <a:pt x="626" y="232"/>
                    </a:lnTo>
                    <a:lnTo>
                      <a:pt x="592" y="223"/>
                    </a:lnTo>
                    <a:lnTo>
                      <a:pt x="556" y="216"/>
                    </a:lnTo>
                    <a:lnTo>
                      <a:pt x="521" y="209"/>
                    </a:lnTo>
                    <a:lnTo>
                      <a:pt x="483" y="202"/>
                    </a:lnTo>
                    <a:lnTo>
                      <a:pt x="446" y="196"/>
                    </a:lnTo>
                    <a:lnTo>
                      <a:pt x="408" y="190"/>
                    </a:lnTo>
                    <a:lnTo>
                      <a:pt x="368" y="184"/>
                    </a:lnTo>
                    <a:lnTo>
                      <a:pt x="346" y="183"/>
                    </a:lnTo>
                    <a:lnTo>
                      <a:pt x="324" y="180"/>
                    </a:lnTo>
                    <a:lnTo>
                      <a:pt x="302" y="177"/>
                    </a:lnTo>
                    <a:lnTo>
                      <a:pt x="279" y="174"/>
                    </a:lnTo>
                    <a:lnTo>
                      <a:pt x="257" y="172"/>
                    </a:lnTo>
                    <a:lnTo>
                      <a:pt x="234" y="169"/>
                    </a:lnTo>
                    <a:lnTo>
                      <a:pt x="211" y="165"/>
                    </a:lnTo>
                    <a:lnTo>
                      <a:pt x="188" y="162"/>
                    </a:lnTo>
                    <a:lnTo>
                      <a:pt x="165" y="159"/>
                    </a:lnTo>
                    <a:lnTo>
                      <a:pt x="141" y="156"/>
                    </a:lnTo>
                    <a:lnTo>
                      <a:pt x="118" y="152"/>
                    </a:lnTo>
                    <a:lnTo>
                      <a:pt x="94" y="149"/>
                    </a:lnTo>
                    <a:lnTo>
                      <a:pt x="71" y="146"/>
                    </a:lnTo>
                    <a:lnTo>
                      <a:pt x="47" y="145"/>
                    </a:lnTo>
                    <a:lnTo>
                      <a:pt x="24" y="142"/>
                    </a:lnTo>
                    <a:lnTo>
                      <a:pt x="0" y="140"/>
                    </a:lnTo>
                    <a:lnTo>
                      <a:pt x="10" y="115"/>
                    </a:lnTo>
                    <a:lnTo>
                      <a:pt x="25" y="95"/>
                    </a:lnTo>
                    <a:lnTo>
                      <a:pt x="45" y="79"/>
                    </a:lnTo>
                    <a:lnTo>
                      <a:pt x="68" y="67"/>
                    </a:lnTo>
                    <a:lnTo>
                      <a:pt x="94" y="57"/>
                    </a:lnTo>
                    <a:lnTo>
                      <a:pt x="122" y="50"/>
                    </a:lnTo>
                    <a:lnTo>
                      <a:pt x="151" y="42"/>
                    </a:lnTo>
                    <a:lnTo>
                      <a:pt x="178" y="33"/>
                    </a:lnTo>
                    <a:lnTo>
                      <a:pt x="221" y="26"/>
                    </a:lnTo>
                    <a:lnTo>
                      <a:pt x="265" y="19"/>
                    </a:lnTo>
                    <a:lnTo>
                      <a:pt x="309" y="13"/>
                    </a:lnTo>
                    <a:lnTo>
                      <a:pt x="354" y="8"/>
                    </a:lnTo>
                    <a:lnTo>
                      <a:pt x="398" y="3"/>
                    </a:lnTo>
                    <a:lnTo>
                      <a:pt x="442" y="2"/>
                    </a:lnTo>
                    <a:lnTo>
                      <a:pt x="486" y="0"/>
                    </a:lnTo>
                    <a:lnTo>
                      <a:pt x="532" y="0"/>
                    </a:lnTo>
                    <a:lnTo>
                      <a:pt x="576" y="3"/>
                    </a:lnTo>
                    <a:lnTo>
                      <a:pt x="620" y="8"/>
                    </a:lnTo>
                    <a:lnTo>
                      <a:pt x="665" y="15"/>
                    </a:lnTo>
                    <a:lnTo>
                      <a:pt x="708" y="23"/>
                    </a:lnTo>
                    <a:lnTo>
                      <a:pt x="750" y="35"/>
                    </a:lnTo>
                    <a:lnTo>
                      <a:pt x="793" y="49"/>
                    </a:lnTo>
                    <a:lnTo>
                      <a:pt x="835" y="66"/>
                    </a:lnTo>
                    <a:lnTo>
                      <a:pt x="874" y="8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663240" y="526896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0" y="38"/>
                    </a:moveTo>
                    <a:lnTo>
                      <a:pt x="4" y="41"/>
                    </a:lnTo>
                    <a:lnTo>
                      <a:pt x="0" y="28"/>
                    </a:lnTo>
                    <a:lnTo>
                      <a:pt x="4" y="17"/>
                    </a:lnTo>
                    <a:lnTo>
                      <a:pt x="14" y="8"/>
                    </a:lnTo>
                    <a:lnTo>
                      <a:pt x="23" y="0"/>
                    </a:lnTo>
                    <a:lnTo>
                      <a:pt x="28" y="8"/>
                    </a:lnTo>
                    <a:lnTo>
                      <a:pt x="28" y="18"/>
                    </a:lnTo>
                    <a:lnTo>
                      <a:pt x="24" y="28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7305480" y="5294160"/>
                <a:ext cx="126720" cy="76320"/>
              </a:xfrm>
              <a:custGeom>
                <a:avLst/>
                <a:gdLst/>
                <a:ahLst/>
                <a:rect l="l" t="t" r="r" b="b"/>
                <a:pathLst>
                  <a:path w="160" h="96">
                    <a:moveTo>
                      <a:pt x="160" y="0"/>
                    </a:moveTo>
                    <a:lnTo>
                      <a:pt x="154" y="10"/>
                    </a:lnTo>
                    <a:lnTo>
                      <a:pt x="142" y="16"/>
                    </a:lnTo>
                    <a:lnTo>
                      <a:pt x="130" y="20"/>
                    </a:lnTo>
                    <a:lnTo>
                      <a:pt x="121" y="27"/>
                    </a:lnTo>
                    <a:lnTo>
                      <a:pt x="111" y="43"/>
                    </a:lnTo>
                    <a:lnTo>
                      <a:pt x="101" y="57"/>
                    </a:lnTo>
                    <a:lnTo>
                      <a:pt x="93" y="71"/>
                    </a:lnTo>
                    <a:lnTo>
                      <a:pt x="90" y="87"/>
                    </a:lnTo>
                    <a:lnTo>
                      <a:pt x="78" y="91"/>
                    </a:lnTo>
                    <a:lnTo>
                      <a:pt x="67" y="96"/>
                    </a:lnTo>
                    <a:lnTo>
                      <a:pt x="54" y="96"/>
                    </a:lnTo>
                    <a:lnTo>
                      <a:pt x="41" y="96"/>
                    </a:lnTo>
                    <a:lnTo>
                      <a:pt x="30" y="94"/>
                    </a:lnTo>
                    <a:lnTo>
                      <a:pt x="18" y="90"/>
                    </a:lnTo>
                    <a:lnTo>
                      <a:pt x="8" y="86"/>
                    </a:lnTo>
                    <a:lnTo>
                      <a:pt x="0" y="80"/>
                    </a:lnTo>
                    <a:lnTo>
                      <a:pt x="14" y="66"/>
                    </a:lnTo>
                    <a:lnTo>
                      <a:pt x="31" y="51"/>
                    </a:lnTo>
                    <a:lnTo>
                      <a:pt x="50" y="39"/>
                    </a:lnTo>
                    <a:lnTo>
                      <a:pt x="68" y="29"/>
                    </a:lnTo>
                    <a:lnTo>
                      <a:pt x="90" y="19"/>
                    </a:lnTo>
                    <a:lnTo>
                      <a:pt x="111" y="11"/>
                    </a:lnTo>
                    <a:lnTo>
                      <a:pt x="133" y="4"/>
                    </a:lnTo>
                    <a:lnTo>
                      <a:pt x="154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6531480" y="5319720"/>
                <a:ext cx="61560" cy="1908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79" y="21"/>
                    </a:moveTo>
                    <a:lnTo>
                      <a:pt x="0" y="23"/>
                    </a:lnTo>
                    <a:lnTo>
                      <a:pt x="2" y="16"/>
                    </a:lnTo>
                    <a:lnTo>
                      <a:pt x="9" y="7"/>
                    </a:lnTo>
                    <a:lnTo>
                      <a:pt x="20" y="3"/>
                    </a:lnTo>
                    <a:lnTo>
                      <a:pt x="30" y="0"/>
                    </a:lnTo>
                    <a:lnTo>
                      <a:pt x="79" y="7"/>
                    </a:lnTo>
                    <a:lnTo>
                      <a:pt x="79" y="21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7594560" y="5373720"/>
                <a:ext cx="66240" cy="381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75" y="38"/>
                    </a:lnTo>
                    <a:lnTo>
                      <a:pt x="67" y="28"/>
                    </a:lnTo>
                    <a:lnTo>
                      <a:pt x="57" y="21"/>
                    </a:lnTo>
                    <a:lnTo>
                      <a:pt x="47" y="14"/>
                    </a:lnTo>
                    <a:lnTo>
                      <a:pt x="35" y="9"/>
                    </a:lnTo>
                    <a:lnTo>
                      <a:pt x="25" y="6"/>
                    </a:lnTo>
                    <a:lnTo>
                      <a:pt x="12" y="4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5" y="0"/>
                    </a:lnTo>
                    <a:lnTo>
                      <a:pt x="28" y="0"/>
                    </a:lnTo>
                    <a:lnTo>
                      <a:pt x="41" y="4"/>
                    </a:lnTo>
                    <a:lnTo>
                      <a:pt x="51" y="10"/>
                    </a:lnTo>
                    <a:lnTo>
                      <a:pt x="59" y="19"/>
                    </a:lnTo>
                    <a:lnTo>
                      <a:pt x="68" y="27"/>
                    </a:lnTo>
                    <a:lnTo>
                      <a:pt x="75" y="38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7140240" y="5398920"/>
                <a:ext cx="212400" cy="39960"/>
              </a:xfrm>
              <a:custGeom>
                <a:avLst/>
                <a:gdLst/>
                <a:ahLst/>
                <a:rect l="l" t="t" r="r" b="b"/>
                <a:pathLst>
                  <a:path w="268" h="52">
                    <a:moveTo>
                      <a:pt x="268" y="39"/>
                    </a:moveTo>
                    <a:lnTo>
                      <a:pt x="247" y="5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2"/>
                    </a:lnTo>
                    <a:lnTo>
                      <a:pt x="60" y="3"/>
                    </a:lnTo>
                    <a:lnTo>
                      <a:pt x="75" y="5"/>
                    </a:lnTo>
                    <a:lnTo>
                      <a:pt x="90" y="6"/>
                    </a:lnTo>
                    <a:lnTo>
                      <a:pt x="105" y="7"/>
                    </a:lnTo>
                    <a:lnTo>
                      <a:pt x="121" y="9"/>
                    </a:lnTo>
                    <a:lnTo>
                      <a:pt x="135" y="10"/>
                    </a:lnTo>
                    <a:lnTo>
                      <a:pt x="151" y="13"/>
                    </a:lnTo>
                    <a:lnTo>
                      <a:pt x="167" y="15"/>
                    </a:lnTo>
                    <a:lnTo>
                      <a:pt x="182" y="16"/>
                    </a:lnTo>
                    <a:lnTo>
                      <a:pt x="198" y="17"/>
                    </a:lnTo>
                    <a:lnTo>
                      <a:pt x="214" y="20"/>
                    </a:lnTo>
                    <a:lnTo>
                      <a:pt x="229" y="22"/>
                    </a:lnTo>
                    <a:lnTo>
                      <a:pt x="245" y="23"/>
                    </a:lnTo>
                    <a:lnTo>
                      <a:pt x="268" y="39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7602480" y="5396040"/>
                <a:ext cx="105840" cy="131760"/>
              </a:xfrm>
              <a:custGeom>
                <a:avLst/>
                <a:gdLst/>
                <a:ahLst/>
                <a:rect l="l" t="t" r="r" b="b"/>
                <a:pathLst>
                  <a:path w="132" h="166">
                    <a:moveTo>
                      <a:pt x="131" y="42"/>
                    </a:moveTo>
                    <a:lnTo>
                      <a:pt x="132" y="75"/>
                    </a:lnTo>
                    <a:lnTo>
                      <a:pt x="128" y="103"/>
                    </a:lnTo>
                    <a:lnTo>
                      <a:pt x="118" y="129"/>
                    </a:lnTo>
                    <a:lnTo>
                      <a:pt x="102" y="152"/>
                    </a:lnTo>
                    <a:lnTo>
                      <a:pt x="94" y="159"/>
                    </a:lnTo>
                    <a:lnTo>
                      <a:pt x="84" y="163"/>
                    </a:lnTo>
                    <a:lnTo>
                      <a:pt x="74" y="166"/>
                    </a:lnTo>
                    <a:lnTo>
                      <a:pt x="64" y="166"/>
                    </a:lnTo>
                    <a:lnTo>
                      <a:pt x="54" y="165"/>
                    </a:lnTo>
                    <a:lnTo>
                      <a:pt x="44" y="163"/>
                    </a:lnTo>
                    <a:lnTo>
                      <a:pt x="35" y="159"/>
                    </a:lnTo>
                    <a:lnTo>
                      <a:pt x="25" y="155"/>
                    </a:lnTo>
                    <a:lnTo>
                      <a:pt x="11" y="135"/>
                    </a:lnTo>
                    <a:lnTo>
                      <a:pt x="1" y="112"/>
                    </a:lnTo>
                    <a:lnTo>
                      <a:pt x="0" y="90"/>
                    </a:lnTo>
                    <a:lnTo>
                      <a:pt x="12" y="70"/>
                    </a:lnTo>
                    <a:lnTo>
                      <a:pt x="15" y="60"/>
                    </a:lnTo>
                    <a:lnTo>
                      <a:pt x="20" y="50"/>
                    </a:lnTo>
                    <a:lnTo>
                      <a:pt x="22" y="40"/>
                    </a:lnTo>
                    <a:lnTo>
                      <a:pt x="27" y="30"/>
                    </a:lnTo>
                    <a:lnTo>
                      <a:pt x="32" y="20"/>
                    </a:lnTo>
                    <a:lnTo>
                      <a:pt x="40" y="13"/>
                    </a:lnTo>
                    <a:lnTo>
                      <a:pt x="48" y="8"/>
                    </a:lnTo>
                    <a:lnTo>
                      <a:pt x="60" y="3"/>
                    </a:lnTo>
                    <a:lnTo>
                      <a:pt x="74" y="0"/>
                    </a:lnTo>
                    <a:lnTo>
                      <a:pt x="87" y="0"/>
                    </a:lnTo>
                    <a:lnTo>
                      <a:pt x="97" y="5"/>
                    </a:lnTo>
                    <a:lnTo>
                      <a:pt x="105" y="9"/>
                    </a:lnTo>
                    <a:lnTo>
                      <a:pt x="112" y="16"/>
                    </a:lnTo>
                    <a:lnTo>
                      <a:pt x="118" y="25"/>
                    </a:lnTo>
                    <a:lnTo>
                      <a:pt x="125" y="33"/>
                    </a:lnTo>
                    <a:lnTo>
                      <a:pt x="131" y="42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378560" y="5398920"/>
                <a:ext cx="50400" cy="16200"/>
              </a:xfrm>
              <a:custGeom>
                <a:avLst/>
                <a:gdLst/>
                <a:ahLst/>
                <a:rect l="l" t="t" r="r" b="b"/>
                <a:pathLst>
                  <a:path w="64" h="20">
                    <a:moveTo>
                      <a:pt x="64" y="15"/>
                    </a:moveTo>
                    <a:lnTo>
                      <a:pt x="58" y="17"/>
                    </a:lnTo>
                    <a:lnTo>
                      <a:pt x="52" y="20"/>
                    </a:lnTo>
                    <a:lnTo>
                      <a:pt x="44" y="20"/>
                    </a:lnTo>
                    <a:lnTo>
                      <a:pt x="35" y="19"/>
                    </a:lnTo>
                    <a:lnTo>
                      <a:pt x="25" y="17"/>
                    </a:lnTo>
                    <a:lnTo>
                      <a:pt x="17" y="16"/>
                    </a:lnTo>
                    <a:lnTo>
                      <a:pt x="8" y="13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7463520" y="5398920"/>
                <a:ext cx="379080" cy="347760"/>
              </a:xfrm>
              <a:custGeom>
                <a:avLst/>
                <a:gdLst/>
                <a:ahLst/>
                <a:rect l="l" t="t" r="r" b="b"/>
                <a:pathLst>
                  <a:path w="476" h="438">
                    <a:moveTo>
                      <a:pt x="442" y="78"/>
                    </a:moveTo>
                    <a:lnTo>
                      <a:pt x="451" y="74"/>
                    </a:lnTo>
                    <a:lnTo>
                      <a:pt x="459" y="70"/>
                    </a:lnTo>
                    <a:lnTo>
                      <a:pt x="468" y="68"/>
                    </a:lnTo>
                    <a:lnTo>
                      <a:pt x="476" y="75"/>
                    </a:lnTo>
                    <a:lnTo>
                      <a:pt x="466" y="121"/>
                    </a:lnTo>
                    <a:lnTo>
                      <a:pt x="455" y="167"/>
                    </a:lnTo>
                    <a:lnTo>
                      <a:pt x="445" y="212"/>
                    </a:lnTo>
                    <a:lnTo>
                      <a:pt x="434" y="259"/>
                    </a:lnTo>
                    <a:lnTo>
                      <a:pt x="421" y="305"/>
                    </a:lnTo>
                    <a:lnTo>
                      <a:pt x="408" y="351"/>
                    </a:lnTo>
                    <a:lnTo>
                      <a:pt x="394" y="394"/>
                    </a:lnTo>
                    <a:lnTo>
                      <a:pt x="378" y="436"/>
                    </a:lnTo>
                    <a:lnTo>
                      <a:pt x="365" y="438"/>
                    </a:lnTo>
                    <a:lnTo>
                      <a:pt x="352" y="438"/>
                    </a:lnTo>
                    <a:lnTo>
                      <a:pt x="338" y="436"/>
                    </a:lnTo>
                    <a:lnTo>
                      <a:pt x="325" y="435"/>
                    </a:lnTo>
                    <a:lnTo>
                      <a:pt x="311" y="432"/>
                    </a:lnTo>
                    <a:lnTo>
                      <a:pt x="297" y="429"/>
                    </a:lnTo>
                    <a:lnTo>
                      <a:pt x="284" y="425"/>
                    </a:lnTo>
                    <a:lnTo>
                      <a:pt x="271" y="421"/>
                    </a:lnTo>
                    <a:lnTo>
                      <a:pt x="274" y="402"/>
                    </a:lnTo>
                    <a:lnTo>
                      <a:pt x="275" y="379"/>
                    </a:lnTo>
                    <a:lnTo>
                      <a:pt x="275" y="355"/>
                    </a:lnTo>
                    <a:lnTo>
                      <a:pt x="275" y="331"/>
                    </a:lnTo>
                    <a:lnTo>
                      <a:pt x="268" y="327"/>
                    </a:lnTo>
                    <a:lnTo>
                      <a:pt x="261" y="322"/>
                    </a:lnTo>
                    <a:lnTo>
                      <a:pt x="252" y="321"/>
                    </a:lnTo>
                    <a:lnTo>
                      <a:pt x="244" y="319"/>
                    </a:lnTo>
                    <a:lnTo>
                      <a:pt x="235" y="319"/>
                    </a:lnTo>
                    <a:lnTo>
                      <a:pt x="225" y="321"/>
                    </a:lnTo>
                    <a:lnTo>
                      <a:pt x="217" y="324"/>
                    </a:lnTo>
                    <a:lnTo>
                      <a:pt x="208" y="328"/>
                    </a:lnTo>
                    <a:lnTo>
                      <a:pt x="201" y="339"/>
                    </a:lnTo>
                    <a:lnTo>
                      <a:pt x="194" y="352"/>
                    </a:lnTo>
                    <a:lnTo>
                      <a:pt x="185" y="365"/>
                    </a:lnTo>
                    <a:lnTo>
                      <a:pt x="177" y="376"/>
                    </a:lnTo>
                    <a:lnTo>
                      <a:pt x="165" y="385"/>
                    </a:lnTo>
                    <a:lnTo>
                      <a:pt x="154" y="389"/>
                    </a:lnTo>
                    <a:lnTo>
                      <a:pt x="138" y="386"/>
                    </a:lnTo>
                    <a:lnTo>
                      <a:pt x="121" y="378"/>
                    </a:lnTo>
                    <a:lnTo>
                      <a:pt x="107" y="372"/>
                    </a:lnTo>
                    <a:lnTo>
                      <a:pt x="91" y="368"/>
                    </a:lnTo>
                    <a:lnTo>
                      <a:pt x="74" y="362"/>
                    </a:lnTo>
                    <a:lnTo>
                      <a:pt x="58" y="356"/>
                    </a:lnTo>
                    <a:lnTo>
                      <a:pt x="41" y="349"/>
                    </a:lnTo>
                    <a:lnTo>
                      <a:pt x="25" y="341"/>
                    </a:lnTo>
                    <a:lnTo>
                      <a:pt x="11" y="331"/>
                    </a:lnTo>
                    <a:lnTo>
                      <a:pt x="0" y="318"/>
                    </a:lnTo>
                    <a:lnTo>
                      <a:pt x="11" y="295"/>
                    </a:lnTo>
                    <a:lnTo>
                      <a:pt x="25" y="274"/>
                    </a:lnTo>
                    <a:lnTo>
                      <a:pt x="40" y="254"/>
                    </a:lnTo>
                    <a:lnTo>
                      <a:pt x="55" y="234"/>
                    </a:lnTo>
                    <a:lnTo>
                      <a:pt x="71" y="215"/>
                    </a:lnTo>
                    <a:lnTo>
                      <a:pt x="87" y="197"/>
                    </a:lnTo>
                    <a:lnTo>
                      <a:pt x="104" y="177"/>
                    </a:lnTo>
                    <a:lnTo>
                      <a:pt x="118" y="158"/>
                    </a:lnTo>
                    <a:lnTo>
                      <a:pt x="128" y="157"/>
                    </a:lnTo>
                    <a:lnTo>
                      <a:pt x="138" y="160"/>
                    </a:lnTo>
                    <a:lnTo>
                      <a:pt x="145" y="165"/>
                    </a:lnTo>
                    <a:lnTo>
                      <a:pt x="151" y="174"/>
                    </a:lnTo>
                    <a:lnTo>
                      <a:pt x="158" y="182"/>
                    </a:lnTo>
                    <a:lnTo>
                      <a:pt x="165" y="191"/>
                    </a:lnTo>
                    <a:lnTo>
                      <a:pt x="172" y="198"/>
                    </a:lnTo>
                    <a:lnTo>
                      <a:pt x="182" y="201"/>
                    </a:lnTo>
                    <a:lnTo>
                      <a:pt x="191" y="207"/>
                    </a:lnTo>
                    <a:lnTo>
                      <a:pt x="202" y="212"/>
                    </a:lnTo>
                    <a:lnTo>
                      <a:pt x="214" y="215"/>
                    </a:lnTo>
                    <a:lnTo>
                      <a:pt x="225" y="217"/>
                    </a:lnTo>
                    <a:lnTo>
                      <a:pt x="238" y="218"/>
                    </a:lnTo>
                    <a:lnTo>
                      <a:pt x="251" y="217"/>
                    </a:lnTo>
                    <a:lnTo>
                      <a:pt x="262" y="214"/>
                    </a:lnTo>
                    <a:lnTo>
                      <a:pt x="272" y="208"/>
                    </a:lnTo>
                    <a:lnTo>
                      <a:pt x="281" y="202"/>
                    </a:lnTo>
                    <a:lnTo>
                      <a:pt x="289" y="198"/>
                    </a:lnTo>
                    <a:lnTo>
                      <a:pt x="297" y="194"/>
                    </a:lnTo>
                    <a:lnTo>
                      <a:pt x="305" y="191"/>
                    </a:lnTo>
                    <a:lnTo>
                      <a:pt x="314" y="188"/>
                    </a:lnTo>
                    <a:lnTo>
                      <a:pt x="322" y="185"/>
                    </a:lnTo>
                    <a:lnTo>
                      <a:pt x="334" y="184"/>
                    </a:lnTo>
                    <a:lnTo>
                      <a:pt x="345" y="181"/>
                    </a:lnTo>
                    <a:lnTo>
                      <a:pt x="357" y="172"/>
                    </a:lnTo>
                    <a:lnTo>
                      <a:pt x="368" y="165"/>
                    </a:lnTo>
                    <a:lnTo>
                      <a:pt x="382" y="160"/>
                    </a:lnTo>
                    <a:lnTo>
                      <a:pt x="395" y="152"/>
                    </a:lnTo>
                    <a:lnTo>
                      <a:pt x="408" y="144"/>
                    </a:lnTo>
                    <a:lnTo>
                      <a:pt x="419" y="135"/>
                    </a:lnTo>
                    <a:lnTo>
                      <a:pt x="428" y="124"/>
                    </a:lnTo>
                    <a:lnTo>
                      <a:pt x="432" y="111"/>
                    </a:lnTo>
                    <a:lnTo>
                      <a:pt x="418" y="108"/>
                    </a:lnTo>
                    <a:lnTo>
                      <a:pt x="404" y="111"/>
                    </a:lnTo>
                    <a:lnTo>
                      <a:pt x="391" y="115"/>
                    </a:lnTo>
                    <a:lnTo>
                      <a:pt x="378" y="124"/>
                    </a:lnTo>
                    <a:lnTo>
                      <a:pt x="365" y="132"/>
                    </a:lnTo>
                    <a:lnTo>
                      <a:pt x="352" y="140"/>
                    </a:lnTo>
                    <a:lnTo>
                      <a:pt x="338" y="144"/>
                    </a:lnTo>
                    <a:lnTo>
                      <a:pt x="324" y="144"/>
                    </a:lnTo>
                    <a:lnTo>
                      <a:pt x="332" y="128"/>
                    </a:lnTo>
                    <a:lnTo>
                      <a:pt x="341" y="111"/>
                    </a:lnTo>
                    <a:lnTo>
                      <a:pt x="347" y="95"/>
                    </a:lnTo>
                    <a:lnTo>
                      <a:pt x="345" y="83"/>
                    </a:lnTo>
                    <a:lnTo>
                      <a:pt x="345" y="67"/>
                    </a:lnTo>
                    <a:lnTo>
                      <a:pt x="342" y="44"/>
                    </a:lnTo>
                    <a:lnTo>
                      <a:pt x="339" y="21"/>
                    </a:lnTo>
                    <a:lnTo>
                      <a:pt x="335" y="0"/>
                    </a:lnTo>
                    <a:lnTo>
                      <a:pt x="352" y="7"/>
                    </a:lnTo>
                    <a:lnTo>
                      <a:pt x="368" y="14"/>
                    </a:lnTo>
                    <a:lnTo>
                      <a:pt x="381" y="23"/>
                    </a:lnTo>
                    <a:lnTo>
                      <a:pt x="394" y="33"/>
                    </a:lnTo>
                    <a:lnTo>
                      <a:pt x="405" y="43"/>
                    </a:lnTo>
                    <a:lnTo>
                      <a:pt x="418" y="54"/>
                    </a:lnTo>
                    <a:lnTo>
                      <a:pt x="429" y="65"/>
                    </a:lnTo>
                    <a:lnTo>
                      <a:pt x="442" y="7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7125480" y="5424480"/>
                <a:ext cx="240840" cy="47520"/>
              </a:xfrm>
              <a:custGeom>
                <a:avLst/>
                <a:gdLst/>
                <a:ahLst/>
                <a:rect l="l" t="t" r="r" b="b"/>
                <a:pathLst>
                  <a:path w="304" h="60">
                    <a:moveTo>
                      <a:pt x="304" y="39"/>
                    </a:moveTo>
                    <a:lnTo>
                      <a:pt x="304" y="60"/>
                    </a:lnTo>
                    <a:lnTo>
                      <a:pt x="286" y="59"/>
                    </a:lnTo>
                    <a:lnTo>
                      <a:pt x="267" y="57"/>
                    </a:lnTo>
                    <a:lnTo>
                      <a:pt x="248" y="56"/>
                    </a:lnTo>
                    <a:lnTo>
                      <a:pt x="228" y="53"/>
                    </a:lnTo>
                    <a:lnTo>
                      <a:pt x="210" y="52"/>
                    </a:lnTo>
                    <a:lnTo>
                      <a:pt x="190" y="49"/>
                    </a:lnTo>
                    <a:lnTo>
                      <a:pt x="170" y="46"/>
                    </a:lnTo>
                    <a:lnTo>
                      <a:pt x="151" y="43"/>
                    </a:lnTo>
                    <a:lnTo>
                      <a:pt x="131" y="40"/>
                    </a:lnTo>
                    <a:lnTo>
                      <a:pt x="111" y="36"/>
                    </a:lnTo>
                    <a:lnTo>
                      <a:pt x="93" y="33"/>
                    </a:lnTo>
                    <a:lnTo>
                      <a:pt x="74" y="30"/>
                    </a:lnTo>
                    <a:lnTo>
                      <a:pt x="56" y="26"/>
                    </a:lnTo>
                    <a:lnTo>
                      <a:pt x="37" y="23"/>
                    </a:lnTo>
                    <a:lnTo>
                      <a:pt x="19" y="19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12" y="4"/>
                    </a:lnTo>
                    <a:lnTo>
                      <a:pt x="16" y="0"/>
                    </a:lnTo>
                    <a:lnTo>
                      <a:pt x="33" y="2"/>
                    </a:lnTo>
                    <a:lnTo>
                      <a:pt x="50" y="3"/>
                    </a:lnTo>
                    <a:lnTo>
                      <a:pt x="69" y="6"/>
                    </a:lnTo>
                    <a:lnTo>
                      <a:pt x="86" y="7"/>
                    </a:lnTo>
                    <a:lnTo>
                      <a:pt x="104" y="10"/>
                    </a:lnTo>
                    <a:lnTo>
                      <a:pt x="123" y="12"/>
                    </a:lnTo>
                    <a:lnTo>
                      <a:pt x="141" y="14"/>
                    </a:lnTo>
                    <a:lnTo>
                      <a:pt x="160" y="17"/>
                    </a:lnTo>
                    <a:lnTo>
                      <a:pt x="179" y="19"/>
                    </a:lnTo>
                    <a:lnTo>
                      <a:pt x="196" y="22"/>
                    </a:lnTo>
                    <a:lnTo>
                      <a:pt x="214" y="24"/>
                    </a:lnTo>
                    <a:lnTo>
                      <a:pt x="233" y="27"/>
                    </a:lnTo>
                    <a:lnTo>
                      <a:pt x="251" y="30"/>
                    </a:lnTo>
                    <a:lnTo>
                      <a:pt x="268" y="33"/>
                    </a:lnTo>
                    <a:lnTo>
                      <a:pt x="287" y="36"/>
                    </a:lnTo>
                    <a:lnTo>
                      <a:pt x="304" y="39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251400" y="5427720"/>
                <a:ext cx="1174320" cy="458640"/>
              </a:xfrm>
              <a:custGeom>
                <a:avLst/>
                <a:gdLst/>
                <a:ahLst/>
                <a:rect l="l" t="t" r="r" b="b"/>
                <a:pathLst>
                  <a:path w="1480" h="579">
                    <a:moveTo>
                      <a:pt x="956" y="116"/>
                    </a:moveTo>
                    <a:lnTo>
                      <a:pt x="987" y="124"/>
                    </a:lnTo>
                    <a:lnTo>
                      <a:pt x="1017" y="134"/>
                    </a:lnTo>
                    <a:lnTo>
                      <a:pt x="1049" y="143"/>
                    </a:lnTo>
                    <a:lnTo>
                      <a:pt x="1079" y="153"/>
                    </a:lnTo>
                    <a:lnTo>
                      <a:pt x="1110" y="163"/>
                    </a:lnTo>
                    <a:lnTo>
                      <a:pt x="1140" y="173"/>
                    </a:lnTo>
                    <a:lnTo>
                      <a:pt x="1170" y="184"/>
                    </a:lnTo>
                    <a:lnTo>
                      <a:pt x="1199" y="196"/>
                    </a:lnTo>
                    <a:lnTo>
                      <a:pt x="1229" y="207"/>
                    </a:lnTo>
                    <a:lnTo>
                      <a:pt x="1257" y="220"/>
                    </a:lnTo>
                    <a:lnTo>
                      <a:pt x="1284" y="234"/>
                    </a:lnTo>
                    <a:lnTo>
                      <a:pt x="1313" y="250"/>
                    </a:lnTo>
                    <a:lnTo>
                      <a:pt x="1339" y="265"/>
                    </a:lnTo>
                    <a:lnTo>
                      <a:pt x="1366" y="283"/>
                    </a:lnTo>
                    <a:lnTo>
                      <a:pt x="1391" y="300"/>
                    </a:lnTo>
                    <a:lnTo>
                      <a:pt x="1416" y="320"/>
                    </a:lnTo>
                    <a:lnTo>
                      <a:pt x="1388" y="311"/>
                    </a:lnTo>
                    <a:lnTo>
                      <a:pt x="1361" y="303"/>
                    </a:lnTo>
                    <a:lnTo>
                      <a:pt x="1334" y="294"/>
                    </a:lnTo>
                    <a:lnTo>
                      <a:pt x="1306" y="285"/>
                    </a:lnTo>
                    <a:lnTo>
                      <a:pt x="1277" y="277"/>
                    </a:lnTo>
                    <a:lnTo>
                      <a:pt x="1249" y="268"/>
                    </a:lnTo>
                    <a:lnTo>
                      <a:pt x="1220" y="261"/>
                    </a:lnTo>
                    <a:lnTo>
                      <a:pt x="1192" y="253"/>
                    </a:lnTo>
                    <a:lnTo>
                      <a:pt x="1162" y="245"/>
                    </a:lnTo>
                    <a:lnTo>
                      <a:pt x="1133" y="237"/>
                    </a:lnTo>
                    <a:lnTo>
                      <a:pt x="1103" y="230"/>
                    </a:lnTo>
                    <a:lnTo>
                      <a:pt x="1075" y="224"/>
                    </a:lnTo>
                    <a:lnTo>
                      <a:pt x="1046" y="217"/>
                    </a:lnTo>
                    <a:lnTo>
                      <a:pt x="1016" y="211"/>
                    </a:lnTo>
                    <a:lnTo>
                      <a:pt x="987" y="205"/>
                    </a:lnTo>
                    <a:lnTo>
                      <a:pt x="959" y="200"/>
                    </a:lnTo>
                    <a:lnTo>
                      <a:pt x="956" y="208"/>
                    </a:lnTo>
                    <a:lnTo>
                      <a:pt x="959" y="215"/>
                    </a:lnTo>
                    <a:lnTo>
                      <a:pt x="965" y="221"/>
                    </a:lnTo>
                    <a:lnTo>
                      <a:pt x="972" y="223"/>
                    </a:lnTo>
                    <a:lnTo>
                      <a:pt x="1002" y="230"/>
                    </a:lnTo>
                    <a:lnTo>
                      <a:pt x="1032" y="237"/>
                    </a:lnTo>
                    <a:lnTo>
                      <a:pt x="1063" y="245"/>
                    </a:lnTo>
                    <a:lnTo>
                      <a:pt x="1093" y="253"/>
                    </a:lnTo>
                    <a:lnTo>
                      <a:pt x="1122" y="261"/>
                    </a:lnTo>
                    <a:lnTo>
                      <a:pt x="1152" y="268"/>
                    </a:lnTo>
                    <a:lnTo>
                      <a:pt x="1182" y="277"/>
                    </a:lnTo>
                    <a:lnTo>
                      <a:pt x="1212" y="285"/>
                    </a:lnTo>
                    <a:lnTo>
                      <a:pt x="1241" y="293"/>
                    </a:lnTo>
                    <a:lnTo>
                      <a:pt x="1271" y="301"/>
                    </a:lnTo>
                    <a:lnTo>
                      <a:pt x="1301" y="308"/>
                    </a:lnTo>
                    <a:lnTo>
                      <a:pt x="1330" y="317"/>
                    </a:lnTo>
                    <a:lnTo>
                      <a:pt x="1360" y="324"/>
                    </a:lnTo>
                    <a:lnTo>
                      <a:pt x="1391" y="331"/>
                    </a:lnTo>
                    <a:lnTo>
                      <a:pt x="1421" y="338"/>
                    </a:lnTo>
                    <a:lnTo>
                      <a:pt x="1451" y="345"/>
                    </a:lnTo>
                    <a:lnTo>
                      <a:pt x="1463" y="354"/>
                    </a:lnTo>
                    <a:lnTo>
                      <a:pt x="1467" y="364"/>
                    </a:lnTo>
                    <a:lnTo>
                      <a:pt x="1466" y="374"/>
                    </a:lnTo>
                    <a:lnTo>
                      <a:pt x="1464" y="384"/>
                    </a:lnTo>
                    <a:lnTo>
                      <a:pt x="1461" y="394"/>
                    </a:lnTo>
                    <a:lnTo>
                      <a:pt x="1461" y="402"/>
                    </a:lnTo>
                    <a:lnTo>
                      <a:pt x="1467" y="411"/>
                    </a:lnTo>
                    <a:lnTo>
                      <a:pt x="1480" y="418"/>
                    </a:lnTo>
                    <a:lnTo>
                      <a:pt x="1480" y="434"/>
                    </a:lnTo>
                    <a:lnTo>
                      <a:pt x="1458" y="430"/>
                    </a:lnTo>
                    <a:lnTo>
                      <a:pt x="1437" y="428"/>
                    </a:lnTo>
                    <a:lnTo>
                      <a:pt x="1413" y="428"/>
                    </a:lnTo>
                    <a:lnTo>
                      <a:pt x="1390" y="430"/>
                    </a:lnTo>
                    <a:lnTo>
                      <a:pt x="1367" y="434"/>
                    </a:lnTo>
                    <a:lnTo>
                      <a:pt x="1346" y="441"/>
                    </a:lnTo>
                    <a:lnTo>
                      <a:pt x="1326" y="449"/>
                    </a:lnTo>
                    <a:lnTo>
                      <a:pt x="1307" y="459"/>
                    </a:lnTo>
                    <a:lnTo>
                      <a:pt x="1286" y="477"/>
                    </a:lnTo>
                    <a:lnTo>
                      <a:pt x="1267" y="498"/>
                    </a:lnTo>
                    <a:lnTo>
                      <a:pt x="1250" y="522"/>
                    </a:lnTo>
                    <a:lnTo>
                      <a:pt x="1233" y="545"/>
                    </a:lnTo>
                    <a:lnTo>
                      <a:pt x="1213" y="565"/>
                    </a:lnTo>
                    <a:lnTo>
                      <a:pt x="1190" y="576"/>
                    </a:lnTo>
                    <a:lnTo>
                      <a:pt x="1163" y="579"/>
                    </a:lnTo>
                    <a:lnTo>
                      <a:pt x="1129" y="569"/>
                    </a:lnTo>
                    <a:lnTo>
                      <a:pt x="1122" y="528"/>
                    </a:lnTo>
                    <a:lnTo>
                      <a:pt x="1119" y="485"/>
                    </a:lnTo>
                    <a:lnTo>
                      <a:pt x="1112" y="442"/>
                    </a:lnTo>
                    <a:lnTo>
                      <a:pt x="1096" y="405"/>
                    </a:lnTo>
                    <a:lnTo>
                      <a:pt x="1086" y="390"/>
                    </a:lnTo>
                    <a:lnTo>
                      <a:pt x="1076" y="374"/>
                    </a:lnTo>
                    <a:lnTo>
                      <a:pt x="1065" y="358"/>
                    </a:lnTo>
                    <a:lnTo>
                      <a:pt x="1053" y="344"/>
                    </a:lnTo>
                    <a:lnTo>
                      <a:pt x="1042" y="330"/>
                    </a:lnTo>
                    <a:lnTo>
                      <a:pt x="1029" y="315"/>
                    </a:lnTo>
                    <a:lnTo>
                      <a:pt x="1016" y="304"/>
                    </a:lnTo>
                    <a:lnTo>
                      <a:pt x="1003" y="293"/>
                    </a:lnTo>
                    <a:lnTo>
                      <a:pt x="1032" y="297"/>
                    </a:lnTo>
                    <a:lnTo>
                      <a:pt x="1060" y="303"/>
                    </a:lnTo>
                    <a:lnTo>
                      <a:pt x="1090" y="308"/>
                    </a:lnTo>
                    <a:lnTo>
                      <a:pt x="1119" y="315"/>
                    </a:lnTo>
                    <a:lnTo>
                      <a:pt x="1147" y="322"/>
                    </a:lnTo>
                    <a:lnTo>
                      <a:pt x="1176" y="330"/>
                    </a:lnTo>
                    <a:lnTo>
                      <a:pt x="1204" y="337"/>
                    </a:lnTo>
                    <a:lnTo>
                      <a:pt x="1232" y="345"/>
                    </a:lnTo>
                    <a:lnTo>
                      <a:pt x="1260" y="352"/>
                    </a:lnTo>
                    <a:lnTo>
                      <a:pt x="1289" y="361"/>
                    </a:lnTo>
                    <a:lnTo>
                      <a:pt x="1316" y="368"/>
                    </a:lnTo>
                    <a:lnTo>
                      <a:pt x="1343" y="375"/>
                    </a:lnTo>
                    <a:lnTo>
                      <a:pt x="1371" y="382"/>
                    </a:lnTo>
                    <a:lnTo>
                      <a:pt x="1398" y="390"/>
                    </a:lnTo>
                    <a:lnTo>
                      <a:pt x="1424" y="397"/>
                    </a:lnTo>
                    <a:lnTo>
                      <a:pt x="1451" y="402"/>
                    </a:lnTo>
                    <a:lnTo>
                      <a:pt x="1454" y="397"/>
                    </a:lnTo>
                    <a:lnTo>
                      <a:pt x="1453" y="391"/>
                    </a:lnTo>
                    <a:lnTo>
                      <a:pt x="1448" y="387"/>
                    </a:lnTo>
                    <a:lnTo>
                      <a:pt x="1443" y="385"/>
                    </a:lnTo>
                    <a:lnTo>
                      <a:pt x="1411" y="375"/>
                    </a:lnTo>
                    <a:lnTo>
                      <a:pt x="1378" y="365"/>
                    </a:lnTo>
                    <a:lnTo>
                      <a:pt x="1347" y="355"/>
                    </a:lnTo>
                    <a:lnTo>
                      <a:pt x="1316" y="345"/>
                    </a:lnTo>
                    <a:lnTo>
                      <a:pt x="1284" y="335"/>
                    </a:lnTo>
                    <a:lnTo>
                      <a:pt x="1251" y="325"/>
                    </a:lnTo>
                    <a:lnTo>
                      <a:pt x="1220" y="315"/>
                    </a:lnTo>
                    <a:lnTo>
                      <a:pt x="1189" y="307"/>
                    </a:lnTo>
                    <a:lnTo>
                      <a:pt x="1156" y="298"/>
                    </a:lnTo>
                    <a:lnTo>
                      <a:pt x="1124" y="290"/>
                    </a:lnTo>
                    <a:lnTo>
                      <a:pt x="1092" y="283"/>
                    </a:lnTo>
                    <a:lnTo>
                      <a:pt x="1059" y="275"/>
                    </a:lnTo>
                    <a:lnTo>
                      <a:pt x="1026" y="268"/>
                    </a:lnTo>
                    <a:lnTo>
                      <a:pt x="993" y="263"/>
                    </a:lnTo>
                    <a:lnTo>
                      <a:pt x="960" y="258"/>
                    </a:lnTo>
                    <a:lnTo>
                      <a:pt x="926" y="254"/>
                    </a:lnTo>
                    <a:lnTo>
                      <a:pt x="916" y="241"/>
                    </a:lnTo>
                    <a:lnTo>
                      <a:pt x="905" y="228"/>
                    </a:lnTo>
                    <a:lnTo>
                      <a:pt x="893" y="217"/>
                    </a:lnTo>
                    <a:lnTo>
                      <a:pt x="880" y="205"/>
                    </a:lnTo>
                    <a:lnTo>
                      <a:pt x="866" y="196"/>
                    </a:lnTo>
                    <a:lnTo>
                      <a:pt x="852" y="187"/>
                    </a:lnTo>
                    <a:lnTo>
                      <a:pt x="836" y="178"/>
                    </a:lnTo>
                    <a:lnTo>
                      <a:pt x="821" y="171"/>
                    </a:lnTo>
                    <a:lnTo>
                      <a:pt x="803" y="164"/>
                    </a:lnTo>
                    <a:lnTo>
                      <a:pt x="786" y="160"/>
                    </a:lnTo>
                    <a:lnTo>
                      <a:pt x="769" y="156"/>
                    </a:lnTo>
                    <a:lnTo>
                      <a:pt x="751" y="153"/>
                    </a:lnTo>
                    <a:lnTo>
                      <a:pt x="733" y="151"/>
                    </a:lnTo>
                    <a:lnTo>
                      <a:pt x="715" y="151"/>
                    </a:lnTo>
                    <a:lnTo>
                      <a:pt x="696" y="154"/>
                    </a:lnTo>
                    <a:lnTo>
                      <a:pt x="678" y="157"/>
                    </a:lnTo>
                    <a:lnTo>
                      <a:pt x="649" y="170"/>
                    </a:lnTo>
                    <a:lnTo>
                      <a:pt x="629" y="188"/>
                    </a:lnTo>
                    <a:lnTo>
                      <a:pt x="615" y="211"/>
                    </a:lnTo>
                    <a:lnTo>
                      <a:pt x="604" y="237"/>
                    </a:lnTo>
                    <a:lnTo>
                      <a:pt x="592" y="261"/>
                    </a:lnTo>
                    <a:lnTo>
                      <a:pt x="578" y="284"/>
                    </a:lnTo>
                    <a:lnTo>
                      <a:pt x="556" y="303"/>
                    </a:lnTo>
                    <a:lnTo>
                      <a:pt x="525" y="315"/>
                    </a:lnTo>
                    <a:lnTo>
                      <a:pt x="504" y="337"/>
                    </a:lnTo>
                    <a:lnTo>
                      <a:pt x="484" y="358"/>
                    </a:lnTo>
                    <a:lnTo>
                      <a:pt x="464" y="381"/>
                    </a:lnTo>
                    <a:lnTo>
                      <a:pt x="447" y="405"/>
                    </a:lnTo>
                    <a:lnTo>
                      <a:pt x="429" y="431"/>
                    </a:lnTo>
                    <a:lnTo>
                      <a:pt x="414" y="457"/>
                    </a:lnTo>
                    <a:lnTo>
                      <a:pt x="400" y="484"/>
                    </a:lnTo>
                    <a:lnTo>
                      <a:pt x="387" y="511"/>
                    </a:lnTo>
                    <a:lnTo>
                      <a:pt x="330" y="511"/>
                    </a:lnTo>
                    <a:lnTo>
                      <a:pt x="325" y="479"/>
                    </a:lnTo>
                    <a:lnTo>
                      <a:pt x="331" y="452"/>
                    </a:lnTo>
                    <a:lnTo>
                      <a:pt x="334" y="427"/>
                    </a:lnTo>
                    <a:lnTo>
                      <a:pt x="322" y="400"/>
                    </a:lnTo>
                    <a:lnTo>
                      <a:pt x="310" y="392"/>
                    </a:lnTo>
                    <a:lnTo>
                      <a:pt x="297" y="388"/>
                    </a:lnTo>
                    <a:lnTo>
                      <a:pt x="282" y="385"/>
                    </a:lnTo>
                    <a:lnTo>
                      <a:pt x="268" y="385"/>
                    </a:lnTo>
                    <a:lnTo>
                      <a:pt x="255" y="385"/>
                    </a:lnTo>
                    <a:lnTo>
                      <a:pt x="241" y="384"/>
                    </a:lnTo>
                    <a:lnTo>
                      <a:pt x="227" y="380"/>
                    </a:lnTo>
                    <a:lnTo>
                      <a:pt x="214" y="374"/>
                    </a:lnTo>
                    <a:lnTo>
                      <a:pt x="187" y="370"/>
                    </a:lnTo>
                    <a:lnTo>
                      <a:pt x="160" y="365"/>
                    </a:lnTo>
                    <a:lnTo>
                      <a:pt x="134" y="360"/>
                    </a:lnTo>
                    <a:lnTo>
                      <a:pt x="108" y="354"/>
                    </a:lnTo>
                    <a:lnTo>
                      <a:pt x="83" y="348"/>
                    </a:lnTo>
                    <a:lnTo>
                      <a:pt x="58" y="342"/>
                    </a:lnTo>
                    <a:lnTo>
                      <a:pt x="31" y="337"/>
                    </a:lnTo>
                    <a:lnTo>
                      <a:pt x="6" y="331"/>
                    </a:lnTo>
                    <a:lnTo>
                      <a:pt x="3" y="327"/>
                    </a:lnTo>
                    <a:lnTo>
                      <a:pt x="1" y="324"/>
                    </a:lnTo>
                    <a:lnTo>
                      <a:pt x="0" y="318"/>
                    </a:lnTo>
                    <a:lnTo>
                      <a:pt x="0" y="313"/>
                    </a:lnTo>
                    <a:lnTo>
                      <a:pt x="20" y="315"/>
                    </a:lnTo>
                    <a:lnTo>
                      <a:pt x="41" y="317"/>
                    </a:lnTo>
                    <a:lnTo>
                      <a:pt x="61" y="320"/>
                    </a:lnTo>
                    <a:lnTo>
                      <a:pt x="83" y="322"/>
                    </a:lnTo>
                    <a:lnTo>
                      <a:pt x="103" y="325"/>
                    </a:lnTo>
                    <a:lnTo>
                      <a:pt x="124" y="327"/>
                    </a:lnTo>
                    <a:lnTo>
                      <a:pt x="144" y="331"/>
                    </a:lnTo>
                    <a:lnTo>
                      <a:pt x="165" y="334"/>
                    </a:lnTo>
                    <a:lnTo>
                      <a:pt x="185" y="337"/>
                    </a:lnTo>
                    <a:lnTo>
                      <a:pt x="207" y="341"/>
                    </a:lnTo>
                    <a:lnTo>
                      <a:pt x="227" y="345"/>
                    </a:lnTo>
                    <a:lnTo>
                      <a:pt x="247" y="350"/>
                    </a:lnTo>
                    <a:lnTo>
                      <a:pt x="267" y="355"/>
                    </a:lnTo>
                    <a:lnTo>
                      <a:pt x="287" y="361"/>
                    </a:lnTo>
                    <a:lnTo>
                      <a:pt x="307" y="367"/>
                    </a:lnTo>
                    <a:lnTo>
                      <a:pt x="325" y="374"/>
                    </a:lnTo>
                    <a:lnTo>
                      <a:pt x="347" y="331"/>
                    </a:lnTo>
                    <a:lnTo>
                      <a:pt x="365" y="287"/>
                    </a:lnTo>
                    <a:lnTo>
                      <a:pt x="381" y="243"/>
                    </a:lnTo>
                    <a:lnTo>
                      <a:pt x="392" y="197"/>
                    </a:lnTo>
                    <a:lnTo>
                      <a:pt x="400" y="151"/>
                    </a:lnTo>
                    <a:lnTo>
                      <a:pt x="401" y="103"/>
                    </a:lnTo>
                    <a:lnTo>
                      <a:pt x="395" y="56"/>
                    </a:lnTo>
                    <a:lnTo>
                      <a:pt x="384" y="6"/>
                    </a:lnTo>
                    <a:lnTo>
                      <a:pt x="397" y="0"/>
                    </a:lnTo>
                    <a:lnTo>
                      <a:pt x="434" y="7"/>
                    </a:lnTo>
                    <a:lnTo>
                      <a:pt x="469" y="13"/>
                    </a:lnTo>
                    <a:lnTo>
                      <a:pt x="505" y="20"/>
                    </a:lnTo>
                    <a:lnTo>
                      <a:pt x="541" y="26"/>
                    </a:lnTo>
                    <a:lnTo>
                      <a:pt x="575" y="31"/>
                    </a:lnTo>
                    <a:lnTo>
                      <a:pt x="611" y="37"/>
                    </a:lnTo>
                    <a:lnTo>
                      <a:pt x="645" y="43"/>
                    </a:lnTo>
                    <a:lnTo>
                      <a:pt x="681" y="49"/>
                    </a:lnTo>
                    <a:lnTo>
                      <a:pt x="715" y="56"/>
                    </a:lnTo>
                    <a:lnTo>
                      <a:pt x="749" y="63"/>
                    </a:lnTo>
                    <a:lnTo>
                      <a:pt x="783" y="70"/>
                    </a:lnTo>
                    <a:lnTo>
                      <a:pt x="818" y="77"/>
                    </a:lnTo>
                    <a:lnTo>
                      <a:pt x="852" y="86"/>
                    </a:lnTo>
                    <a:lnTo>
                      <a:pt x="886" y="94"/>
                    </a:lnTo>
                    <a:lnTo>
                      <a:pt x="922" y="104"/>
                    </a:lnTo>
                    <a:lnTo>
                      <a:pt x="956" y="11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7580880" y="5437080"/>
                <a:ext cx="12600" cy="42840"/>
              </a:xfrm>
              <a:custGeom>
                <a:avLst/>
                <a:gdLst/>
                <a:ahLst/>
                <a:rect l="l" t="t" r="r" b="b"/>
                <a:pathLst>
                  <a:path w="15" h="54">
                    <a:moveTo>
                      <a:pt x="15" y="36"/>
                    </a:moveTo>
                    <a:lnTo>
                      <a:pt x="0" y="54"/>
                    </a:lnTo>
                    <a:lnTo>
                      <a:pt x="5" y="0"/>
                    </a:lnTo>
                    <a:lnTo>
                      <a:pt x="13" y="6"/>
                    </a:lnTo>
                    <a:lnTo>
                      <a:pt x="14" y="14"/>
                    </a:lnTo>
                    <a:lnTo>
                      <a:pt x="14" y="24"/>
                    </a:lnTo>
                    <a:lnTo>
                      <a:pt x="15" y="36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7391160" y="5437080"/>
                <a:ext cx="48960" cy="15840"/>
              </a:xfrm>
              <a:custGeom>
                <a:avLst/>
                <a:gdLst/>
                <a:ahLst/>
                <a:rect l="l" t="t" r="r" b="b"/>
                <a:pathLst>
                  <a:path w="61" h="20">
                    <a:moveTo>
                      <a:pt x="61" y="20"/>
                    </a:moveTo>
                    <a:lnTo>
                      <a:pt x="53" y="20"/>
                    </a:lnTo>
                    <a:lnTo>
                      <a:pt x="44" y="18"/>
                    </a:lnTo>
                    <a:lnTo>
                      <a:pt x="35" y="18"/>
                    </a:lnTo>
                    <a:lnTo>
                      <a:pt x="27" y="16"/>
                    </a:lnTo>
                    <a:lnTo>
                      <a:pt x="18" y="14"/>
                    </a:lnTo>
                    <a:lnTo>
                      <a:pt x="11" y="11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3"/>
                    </a:lnTo>
                    <a:lnTo>
                      <a:pt x="27" y="3"/>
                    </a:lnTo>
                    <a:lnTo>
                      <a:pt x="35" y="3"/>
                    </a:lnTo>
                    <a:lnTo>
                      <a:pt x="44" y="4"/>
                    </a:lnTo>
                    <a:lnTo>
                      <a:pt x="53" y="7"/>
                    </a:lnTo>
                    <a:lnTo>
                      <a:pt x="58" y="11"/>
                    </a:lnTo>
                    <a:lnTo>
                      <a:pt x="61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7125480" y="5462640"/>
                <a:ext cx="247320" cy="41400"/>
              </a:xfrm>
              <a:custGeom>
                <a:avLst/>
                <a:gdLst/>
                <a:ahLst/>
                <a:rect l="l" t="t" r="r" b="b"/>
                <a:pathLst>
                  <a:path w="311" h="53">
                    <a:moveTo>
                      <a:pt x="301" y="33"/>
                    </a:moveTo>
                    <a:lnTo>
                      <a:pt x="305" y="37"/>
                    </a:lnTo>
                    <a:lnTo>
                      <a:pt x="310" y="40"/>
                    </a:lnTo>
                    <a:lnTo>
                      <a:pt x="311" y="46"/>
                    </a:lnTo>
                    <a:lnTo>
                      <a:pt x="311" y="53"/>
                    </a:lnTo>
                    <a:lnTo>
                      <a:pt x="294" y="53"/>
                    </a:lnTo>
                    <a:lnTo>
                      <a:pt x="277" y="52"/>
                    </a:lnTo>
                    <a:lnTo>
                      <a:pt x="258" y="50"/>
                    </a:lnTo>
                    <a:lnTo>
                      <a:pt x="240" y="47"/>
                    </a:lnTo>
                    <a:lnTo>
                      <a:pt x="220" y="46"/>
                    </a:lnTo>
                    <a:lnTo>
                      <a:pt x="200" y="42"/>
                    </a:lnTo>
                    <a:lnTo>
                      <a:pt x="180" y="39"/>
                    </a:lnTo>
                    <a:lnTo>
                      <a:pt x="158" y="36"/>
                    </a:lnTo>
                    <a:lnTo>
                      <a:pt x="138" y="32"/>
                    </a:lnTo>
                    <a:lnTo>
                      <a:pt x="117" y="29"/>
                    </a:lnTo>
                    <a:lnTo>
                      <a:pt x="97" y="26"/>
                    </a:lnTo>
                    <a:lnTo>
                      <a:pt x="77" y="22"/>
                    </a:lnTo>
                    <a:lnTo>
                      <a:pt x="57" y="19"/>
                    </a:lnTo>
                    <a:lnTo>
                      <a:pt x="37" y="17"/>
                    </a:lnTo>
                    <a:lnTo>
                      <a:pt x="19" y="15"/>
                    </a:lnTo>
                    <a:lnTo>
                      <a:pt x="0" y="13"/>
                    </a:lnTo>
                    <a:lnTo>
                      <a:pt x="9" y="0"/>
                    </a:lnTo>
                    <a:lnTo>
                      <a:pt x="301" y="33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7397640" y="5470560"/>
                <a:ext cx="56880" cy="1584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72" y="20"/>
                    </a:moveTo>
                    <a:lnTo>
                      <a:pt x="0" y="10"/>
                    </a:lnTo>
                    <a:lnTo>
                      <a:pt x="6" y="5"/>
                    </a:lnTo>
                    <a:lnTo>
                      <a:pt x="15" y="2"/>
                    </a:lnTo>
                    <a:lnTo>
                      <a:pt x="25" y="0"/>
                    </a:lnTo>
                    <a:lnTo>
                      <a:pt x="36" y="0"/>
                    </a:lnTo>
                    <a:lnTo>
                      <a:pt x="47" y="3"/>
                    </a:lnTo>
                    <a:lnTo>
                      <a:pt x="57" y="7"/>
                    </a:lnTo>
                    <a:lnTo>
                      <a:pt x="66" y="13"/>
                    </a:lnTo>
                    <a:lnTo>
                      <a:pt x="72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426000" y="5475240"/>
                <a:ext cx="80640" cy="61920"/>
              </a:xfrm>
              <a:custGeom>
                <a:avLst/>
                <a:gdLst/>
                <a:ahLst/>
                <a:rect l="l" t="t" r="r" b="b"/>
                <a:pathLst>
                  <a:path w="103" h="77">
                    <a:moveTo>
                      <a:pt x="100" y="39"/>
                    </a:moveTo>
                    <a:lnTo>
                      <a:pt x="103" y="49"/>
                    </a:lnTo>
                    <a:lnTo>
                      <a:pt x="100" y="56"/>
                    </a:lnTo>
                    <a:lnTo>
                      <a:pt x="96" y="62"/>
                    </a:lnTo>
                    <a:lnTo>
                      <a:pt x="90" y="65"/>
                    </a:lnTo>
                    <a:lnTo>
                      <a:pt x="83" y="67"/>
                    </a:lnTo>
                    <a:lnTo>
                      <a:pt x="75" y="70"/>
                    </a:lnTo>
                    <a:lnTo>
                      <a:pt x="67" y="73"/>
                    </a:lnTo>
                    <a:lnTo>
                      <a:pt x="62" y="77"/>
                    </a:lnTo>
                    <a:lnTo>
                      <a:pt x="55" y="77"/>
                    </a:lnTo>
                    <a:lnTo>
                      <a:pt x="46" y="77"/>
                    </a:lnTo>
                    <a:lnTo>
                      <a:pt x="37" y="76"/>
                    </a:lnTo>
                    <a:lnTo>
                      <a:pt x="29" y="72"/>
                    </a:lnTo>
                    <a:lnTo>
                      <a:pt x="20" y="67"/>
                    </a:lnTo>
                    <a:lnTo>
                      <a:pt x="13" y="63"/>
                    </a:lnTo>
                    <a:lnTo>
                      <a:pt x="6" y="56"/>
                    </a:lnTo>
                    <a:lnTo>
                      <a:pt x="0" y="49"/>
                    </a:lnTo>
                    <a:lnTo>
                      <a:pt x="13" y="39"/>
                    </a:lnTo>
                    <a:lnTo>
                      <a:pt x="27" y="27"/>
                    </a:lnTo>
                    <a:lnTo>
                      <a:pt x="43" y="15"/>
                    </a:lnTo>
                    <a:lnTo>
                      <a:pt x="59" y="5"/>
                    </a:lnTo>
                    <a:lnTo>
                      <a:pt x="75" y="0"/>
                    </a:lnTo>
                    <a:lnTo>
                      <a:pt x="87" y="2"/>
                    </a:lnTo>
                    <a:lnTo>
                      <a:pt x="96" y="15"/>
                    </a:lnTo>
                    <a:lnTo>
                      <a:pt x="100" y="39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7126200" y="5492880"/>
                <a:ext cx="253440" cy="54000"/>
              </a:xfrm>
              <a:custGeom>
                <a:avLst/>
                <a:gdLst/>
                <a:ahLst/>
                <a:rect l="l" t="t" r="r" b="b"/>
                <a:pathLst>
                  <a:path w="321" h="68">
                    <a:moveTo>
                      <a:pt x="320" y="45"/>
                    </a:moveTo>
                    <a:lnTo>
                      <a:pt x="321" y="50"/>
                    </a:lnTo>
                    <a:lnTo>
                      <a:pt x="321" y="57"/>
                    </a:lnTo>
                    <a:lnTo>
                      <a:pt x="321" y="63"/>
                    </a:lnTo>
                    <a:lnTo>
                      <a:pt x="321" y="68"/>
                    </a:lnTo>
                    <a:lnTo>
                      <a:pt x="301" y="67"/>
                    </a:lnTo>
                    <a:lnTo>
                      <a:pt x="281" y="64"/>
                    </a:lnTo>
                    <a:lnTo>
                      <a:pt x="260" y="63"/>
                    </a:lnTo>
                    <a:lnTo>
                      <a:pt x="240" y="60"/>
                    </a:lnTo>
                    <a:lnTo>
                      <a:pt x="220" y="57"/>
                    </a:lnTo>
                    <a:lnTo>
                      <a:pt x="198" y="54"/>
                    </a:lnTo>
                    <a:lnTo>
                      <a:pt x="178" y="50"/>
                    </a:lnTo>
                    <a:lnTo>
                      <a:pt x="158" y="47"/>
                    </a:lnTo>
                    <a:lnTo>
                      <a:pt x="137" y="43"/>
                    </a:lnTo>
                    <a:lnTo>
                      <a:pt x="117" y="40"/>
                    </a:lnTo>
                    <a:lnTo>
                      <a:pt x="97" y="37"/>
                    </a:lnTo>
                    <a:lnTo>
                      <a:pt x="77" y="33"/>
                    </a:lnTo>
                    <a:lnTo>
                      <a:pt x="57" y="30"/>
                    </a:lnTo>
                    <a:lnTo>
                      <a:pt x="39" y="27"/>
                    </a:lnTo>
                    <a:lnTo>
                      <a:pt x="19" y="24"/>
                    </a:lnTo>
                    <a:lnTo>
                      <a:pt x="0" y="23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3" y="3"/>
                    </a:lnTo>
                    <a:lnTo>
                      <a:pt x="10" y="0"/>
                    </a:lnTo>
                    <a:lnTo>
                      <a:pt x="29" y="1"/>
                    </a:lnTo>
                    <a:lnTo>
                      <a:pt x="47" y="4"/>
                    </a:lnTo>
                    <a:lnTo>
                      <a:pt x="67" y="5"/>
                    </a:lnTo>
                    <a:lnTo>
                      <a:pt x="86" y="7"/>
                    </a:lnTo>
                    <a:lnTo>
                      <a:pt x="106" y="8"/>
                    </a:lnTo>
                    <a:lnTo>
                      <a:pt x="124" y="11"/>
                    </a:lnTo>
                    <a:lnTo>
                      <a:pt x="144" y="13"/>
                    </a:lnTo>
                    <a:lnTo>
                      <a:pt x="163" y="15"/>
                    </a:lnTo>
                    <a:lnTo>
                      <a:pt x="183" y="18"/>
                    </a:lnTo>
                    <a:lnTo>
                      <a:pt x="203" y="21"/>
                    </a:lnTo>
                    <a:lnTo>
                      <a:pt x="221" y="24"/>
                    </a:lnTo>
                    <a:lnTo>
                      <a:pt x="241" y="28"/>
                    </a:lnTo>
                    <a:lnTo>
                      <a:pt x="261" y="31"/>
                    </a:lnTo>
                    <a:lnTo>
                      <a:pt x="281" y="35"/>
                    </a:lnTo>
                    <a:lnTo>
                      <a:pt x="300" y="40"/>
                    </a:lnTo>
                    <a:lnTo>
                      <a:pt x="320" y="4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7404840" y="550224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67" h="21">
                    <a:moveTo>
                      <a:pt x="67" y="14"/>
                    </a:moveTo>
                    <a:lnTo>
                      <a:pt x="58" y="20"/>
                    </a:lnTo>
                    <a:lnTo>
                      <a:pt x="49" y="21"/>
                    </a:lnTo>
                    <a:lnTo>
                      <a:pt x="41" y="21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5" y="12"/>
                    </a:lnTo>
                    <a:lnTo>
                      <a:pt x="8" y="11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10" y="1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8" y="1"/>
                    </a:lnTo>
                    <a:lnTo>
                      <a:pt x="49" y="4"/>
                    </a:lnTo>
                    <a:lnTo>
                      <a:pt x="59" y="8"/>
                    </a:lnTo>
                    <a:lnTo>
                      <a:pt x="67" y="14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7134120" y="5529240"/>
                <a:ext cx="258480" cy="54000"/>
              </a:xfrm>
              <a:custGeom>
                <a:avLst/>
                <a:gdLst/>
                <a:ahLst/>
                <a:rect l="l" t="t" r="r" b="b"/>
                <a:pathLst>
                  <a:path w="327" h="69">
                    <a:moveTo>
                      <a:pt x="327" y="53"/>
                    </a:moveTo>
                    <a:lnTo>
                      <a:pt x="327" y="69"/>
                    </a:lnTo>
                    <a:lnTo>
                      <a:pt x="309" y="68"/>
                    </a:lnTo>
                    <a:lnTo>
                      <a:pt x="289" y="65"/>
                    </a:lnTo>
                    <a:lnTo>
                      <a:pt x="269" y="63"/>
                    </a:lnTo>
                    <a:lnTo>
                      <a:pt x="249" y="60"/>
                    </a:lnTo>
                    <a:lnTo>
                      <a:pt x="229" y="58"/>
                    </a:lnTo>
                    <a:lnTo>
                      <a:pt x="207" y="53"/>
                    </a:lnTo>
                    <a:lnTo>
                      <a:pt x="187" y="50"/>
                    </a:lnTo>
                    <a:lnTo>
                      <a:pt x="166" y="48"/>
                    </a:lnTo>
                    <a:lnTo>
                      <a:pt x="144" y="43"/>
                    </a:lnTo>
                    <a:lnTo>
                      <a:pt x="124" y="40"/>
                    </a:lnTo>
                    <a:lnTo>
                      <a:pt x="103" y="36"/>
                    </a:lnTo>
                    <a:lnTo>
                      <a:pt x="82" y="33"/>
                    </a:lnTo>
                    <a:lnTo>
                      <a:pt x="62" y="29"/>
                    </a:lnTo>
                    <a:lnTo>
                      <a:pt x="40" y="26"/>
                    </a:lnTo>
                    <a:lnTo>
                      <a:pt x="20" y="22"/>
                    </a:lnTo>
                    <a:lnTo>
                      <a:pt x="0" y="19"/>
                    </a:lnTo>
                    <a:lnTo>
                      <a:pt x="10" y="0"/>
                    </a:lnTo>
                    <a:lnTo>
                      <a:pt x="30" y="3"/>
                    </a:lnTo>
                    <a:lnTo>
                      <a:pt x="50" y="5"/>
                    </a:lnTo>
                    <a:lnTo>
                      <a:pt x="70" y="8"/>
                    </a:lnTo>
                    <a:lnTo>
                      <a:pt x="90" y="10"/>
                    </a:lnTo>
                    <a:lnTo>
                      <a:pt x="112" y="12"/>
                    </a:lnTo>
                    <a:lnTo>
                      <a:pt x="132" y="15"/>
                    </a:lnTo>
                    <a:lnTo>
                      <a:pt x="153" y="18"/>
                    </a:lnTo>
                    <a:lnTo>
                      <a:pt x="173" y="20"/>
                    </a:lnTo>
                    <a:lnTo>
                      <a:pt x="194" y="23"/>
                    </a:lnTo>
                    <a:lnTo>
                      <a:pt x="214" y="26"/>
                    </a:lnTo>
                    <a:lnTo>
                      <a:pt x="234" y="30"/>
                    </a:lnTo>
                    <a:lnTo>
                      <a:pt x="254" y="35"/>
                    </a:lnTo>
                    <a:lnTo>
                      <a:pt x="273" y="39"/>
                    </a:lnTo>
                    <a:lnTo>
                      <a:pt x="291" y="43"/>
                    </a:lnTo>
                    <a:lnTo>
                      <a:pt x="310" y="48"/>
                    </a:lnTo>
                    <a:lnTo>
                      <a:pt x="327" y="53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7412760" y="5533920"/>
                <a:ext cx="61560" cy="2088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77" y="26"/>
                    </a:moveTo>
                    <a:lnTo>
                      <a:pt x="65" y="27"/>
                    </a:lnTo>
                    <a:lnTo>
                      <a:pt x="55" y="27"/>
                    </a:lnTo>
                    <a:lnTo>
                      <a:pt x="44" y="24"/>
                    </a:lnTo>
                    <a:lnTo>
                      <a:pt x="35" y="20"/>
                    </a:lnTo>
                    <a:lnTo>
                      <a:pt x="25" y="17"/>
                    </a:lnTo>
                    <a:lnTo>
                      <a:pt x="17" y="13"/>
                    </a:lnTo>
                    <a:lnTo>
                      <a:pt x="8" y="9"/>
                    </a:lnTo>
                    <a:lnTo>
                      <a:pt x="0" y="7"/>
                    </a:lnTo>
                    <a:lnTo>
                      <a:pt x="8" y="3"/>
                    </a:lnTo>
                    <a:lnTo>
                      <a:pt x="17" y="0"/>
                    </a:lnTo>
                    <a:lnTo>
                      <a:pt x="25" y="0"/>
                    </a:lnTo>
                    <a:lnTo>
                      <a:pt x="37" y="2"/>
                    </a:lnTo>
                    <a:lnTo>
                      <a:pt x="47" y="4"/>
                    </a:lnTo>
                    <a:lnTo>
                      <a:pt x="57" y="7"/>
                    </a:lnTo>
                    <a:lnTo>
                      <a:pt x="67" y="10"/>
                    </a:lnTo>
                    <a:lnTo>
                      <a:pt x="77" y="13"/>
                    </a:lnTo>
                    <a:lnTo>
                      <a:pt x="77" y="26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7139520" y="5560920"/>
                <a:ext cx="263160" cy="6516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27" y="55"/>
                    </a:moveTo>
                    <a:lnTo>
                      <a:pt x="332" y="60"/>
                    </a:lnTo>
                    <a:lnTo>
                      <a:pt x="333" y="66"/>
                    </a:lnTo>
                    <a:lnTo>
                      <a:pt x="332" y="72"/>
                    </a:lnTo>
                    <a:lnTo>
                      <a:pt x="333" y="77"/>
                    </a:lnTo>
                    <a:lnTo>
                      <a:pt x="304" y="83"/>
                    </a:lnTo>
                    <a:lnTo>
                      <a:pt x="284" y="80"/>
                    </a:lnTo>
                    <a:lnTo>
                      <a:pt x="266" y="76"/>
                    </a:lnTo>
                    <a:lnTo>
                      <a:pt x="246" y="73"/>
                    </a:lnTo>
                    <a:lnTo>
                      <a:pt x="227" y="69"/>
                    </a:lnTo>
                    <a:lnTo>
                      <a:pt x="209" y="66"/>
                    </a:lnTo>
                    <a:lnTo>
                      <a:pt x="190" y="62"/>
                    </a:lnTo>
                    <a:lnTo>
                      <a:pt x="172" y="57"/>
                    </a:lnTo>
                    <a:lnTo>
                      <a:pt x="155" y="53"/>
                    </a:lnTo>
                    <a:lnTo>
                      <a:pt x="136" y="49"/>
                    </a:lnTo>
                    <a:lnTo>
                      <a:pt x="117" y="45"/>
                    </a:lnTo>
                    <a:lnTo>
                      <a:pt x="99" y="40"/>
                    </a:lnTo>
                    <a:lnTo>
                      <a:pt x="80" y="37"/>
                    </a:lnTo>
                    <a:lnTo>
                      <a:pt x="62" y="33"/>
                    </a:lnTo>
                    <a:lnTo>
                      <a:pt x="42" y="30"/>
                    </a:lnTo>
                    <a:lnTo>
                      <a:pt x="23" y="26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5"/>
                    </a:lnTo>
                    <a:lnTo>
                      <a:pt x="10" y="0"/>
                    </a:lnTo>
                    <a:lnTo>
                      <a:pt x="32" y="3"/>
                    </a:lnTo>
                    <a:lnTo>
                      <a:pt x="52" y="6"/>
                    </a:lnTo>
                    <a:lnTo>
                      <a:pt x="72" y="8"/>
                    </a:lnTo>
                    <a:lnTo>
                      <a:pt x="92" y="10"/>
                    </a:lnTo>
                    <a:lnTo>
                      <a:pt x="113" y="15"/>
                    </a:lnTo>
                    <a:lnTo>
                      <a:pt x="133" y="18"/>
                    </a:lnTo>
                    <a:lnTo>
                      <a:pt x="152" y="20"/>
                    </a:lnTo>
                    <a:lnTo>
                      <a:pt x="172" y="23"/>
                    </a:lnTo>
                    <a:lnTo>
                      <a:pt x="192" y="28"/>
                    </a:lnTo>
                    <a:lnTo>
                      <a:pt x="212" y="30"/>
                    </a:lnTo>
                    <a:lnTo>
                      <a:pt x="230" y="35"/>
                    </a:lnTo>
                    <a:lnTo>
                      <a:pt x="250" y="39"/>
                    </a:lnTo>
                    <a:lnTo>
                      <a:pt x="269" y="42"/>
                    </a:lnTo>
                    <a:lnTo>
                      <a:pt x="289" y="46"/>
                    </a:lnTo>
                    <a:lnTo>
                      <a:pt x="307" y="50"/>
                    </a:lnTo>
                    <a:lnTo>
                      <a:pt x="327" y="5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7425360" y="5570640"/>
                <a:ext cx="53640" cy="1908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0"/>
                    </a:moveTo>
                    <a:lnTo>
                      <a:pt x="67" y="23"/>
                    </a:lnTo>
                    <a:lnTo>
                      <a:pt x="63" y="23"/>
                    </a:lnTo>
                    <a:lnTo>
                      <a:pt x="55" y="23"/>
                    </a:lnTo>
                    <a:lnTo>
                      <a:pt x="45" y="23"/>
                    </a:lnTo>
                    <a:lnTo>
                      <a:pt x="33" y="22"/>
                    </a:lnTo>
                    <a:lnTo>
                      <a:pt x="23" y="20"/>
                    </a:lnTo>
                    <a:lnTo>
                      <a:pt x="13" y="17"/>
                    </a:lnTo>
                    <a:lnTo>
                      <a:pt x="5" y="16"/>
                    </a:lnTo>
                    <a:lnTo>
                      <a:pt x="0" y="7"/>
                    </a:lnTo>
                    <a:lnTo>
                      <a:pt x="9" y="3"/>
                    </a:lnTo>
                    <a:lnTo>
                      <a:pt x="16" y="2"/>
                    </a:lnTo>
                    <a:lnTo>
                      <a:pt x="26" y="0"/>
                    </a:lnTo>
                    <a:lnTo>
                      <a:pt x="35" y="2"/>
                    </a:lnTo>
                    <a:lnTo>
                      <a:pt x="43" y="5"/>
                    </a:lnTo>
                    <a:lnTo>
                      <a:pt x="53" y="7"/>
                    </a:lnTo>
                    <a:lnTo>
                      <a:pt x="60" y="13"/>
                    </a:lnTo>
                    <a:lnTo>
                      <a:pt x="69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6789600" y="5586480"/>
                <a:ext cx="128160" cy="144360"/>
              </a:xfrm>
              <a:custGeom>
                <a:avLst/>
                <a:gdLst/>
                <a:ahLst/>
                <a:rect l="l" t="t" r="r" b="b"/>
                <a:pathLst>
                  <a:path w="163" h="181">
                    <a:moveTo>
                      <a:pt x="134" y="42"/>
                    </a:moveTo>
                    <a:lnTo>
                      <a:pt x="144" y="99"/>
                    </a:lnTo>
                    <a:lnTo>
                      <a:pt x="146" y="90"/>
                    </a:lnTo>
                    <a:lnTo>
                      <a:pt x="152" y="84"/>
                    </a:lnTo>
                    <a:lnTo>
                      <a:pt x="157" y="79"/>
                    </a:lnTo>
                    <a:lnTo>
                      <a:pt x="163" y="76"/>
                    </a:lnTo>
                    <a:lnTo>
                      <a:pt x="162" y="103"/>
                    </a:lnTo>
                    <a:lnTo>
                      <a:pt x="157" y="129"/>
                    </a:lnTo>
                    <a:lnTo>
                      <a:pt x="147" y="151"/>
                    </a:lnTo>
                    <a:lnTo>
                      <a:pt x="130" y="166"/>
                    </a:lnTo>
                    <a:lnTo>
                      <a:pt x="137" y="150"/>
                    </a:lnTo>
                    <a:lnTo>
                      <a:pt x="143" y="137"/>
                    </a:lnTo>
                    <a:lnTo>
                      <a:pt x="147" y="121"/>
                    </a:lnTo>
                    <a:lnTo>
                      <a:pt x="147" y="104"/>
                    </a:lnTo>
                    <a:lnTo>
                      <a:pt x="137" y="107"/>
                    </a:lnTo>
                    <a:lnTo>
                      <a:pt x="134" y="119"/>
                    </a:lnTo>
                    <a:lnTo>
                      <a:pt x="132" y="131"/>
                    </a:lnTo>
                    <a:lnTo>
                      <a:pt x="124" y="143"/>
                    </a:lnTo>
                    <a:lnTo>
                      <a:pt x="119" y="149"/>
                    </a:lnTo>
                    <a:lnTo>
                      <a:pt x="113" y="154"/>
                    </a:lnTo>
                    <a:lnTo>
                      <a:pt x="106" y="160"/>
                    </a:lnTo>
                    <a:lnTo>
                      <a:pt x="100" y="166"/>
                    </a:lnTo>
                    <a:lnTo>
                      <a:pt x="93" y="171"/>
                    </a:lnTo>
                    <a:lnTo>
                      <a:pt x="84" y="176"/>
                    </a:lnTo>
                    <a:lnTo>
                      <a:pt x="76" y="180"/>
                    </a:lnTo>
                    <a:lnTo>
                      <a:pt x="67" y="181"/>
                    </a:lnTo>
                    <a:lnTo>
                      <a:pt x="56" y="177"/>
                    </a:lnTo>
                    <a:lnTo>
                      <a:pt x="45" y="173"/>
                    </a:lnTo>
                    <a:lnTo>
                      <a:pt x="33" y="167"/>
                    </a:lnTo>
                    <a:lnTo>
                      <a:pt x="23" y="160"/>
                    </a:lnTo>
                    <a:lnTo>
                      <a:pt x="15" y="153"/>
                    </a:lnTo>
                    <a:lnTo>
                      <a:pt x="7" y="144"/>
                    </a:lnTo>
                    <a:lnTo>
                      <a:pt x="3" y="134"/>
                    </a:lnTo>
                    <a:lnTo>
                      <a:pt x="2" y="124"/>
                    </a:lnTo>
                    <a:lnTo>
                      <a:pt x="0" y="92"/>
                    </a:lnTo>
                    <a:lnTo>
                      <a:pt x="5" y="62"/>
                    </a:lnTo>
                    <a:lnTo>
                      <a:pt x="13" y="36"/>
                    </a:lnTo>
                    <a:lnTo>
                      <a:pt x="27" y="13"/>
                    </a:lnTo>
                    <a:lnTo>
                      <a:pt x="43" y="6"/>
                    </a:lnTo>
                    <a:lnTo>
                      <a:pt x="59" y="2"/>
                    </a:lnTo>
                    <a:lnTo>
                      <a:pt x="74" y="0"/>
                    </a:lnTo>
                    <a:lnTo>
                      <a:pt x="90" y="3"/>
                    </a:lnTo>
                    <a:lnTo>
                      <a:pt x="104" y="9"/>
                    </a:lnTo>
                    <a:lnTo>
                      <a:pt x="116" y="17"/>
                    </a:lnTo>
                    <a:lnTo>
                      <a:pt x="127" y="29"/>
                    </a:lnTo>
                    <a:lnTo>
                      <a:pt x="134" y="42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554520" y="5586480"/>
                <a:ext cx="544320" cy="433440"/>
              </a:xfrm>
              <a:custGeom>
                <a:avLst/>
                <a:gdLst/>
                <a:ahLst/>
                <a:rect l="l" t="t" r="r" b="b"/>
                <a:pathLst>
                  <a:path w="687" h="545">
                    <a:moveTo>
                      <a:pt x="573" y="106"/>
                    </a:moveTo>
                    <a:lnTo>
                      <a:pt x="603" y="130"/>
                    </a:lnTo>
                    <a:lnTo>
                      <a:pt x="627" y="159"/>
                    </a:lnTo>
                    <a:lnTo>
                      <a:pt x="645" y="190"/>
                    </a:lnTo>
                    <a:lnTo>
                      <a:pt x="661" y="223"/>
                    </a:lnTo>
                    <a:lnTo>
                      <a:pt x="673" y="258"/>
                    </a:lnTo>
                    <a:lnTo>
                      <a:pt x="680" y="294"/>
                    </a:lnTo>
                    <a:lnTo>
                      <a:pt x="684" y="331"/>
                    </a:lnTo>
                    <a:lnTo>
                      <a:pt x="687" y="368"/>
                    </a:lnTo>
                    <a:lnTo>
                      <a:pt x="671" y="364"/>
                    </a:lnTo>
                    <a:lnTo>
                      <a:pt x="654" y="363"/>
                    </a:lnTo>
                    <a:lnTo>
                      <a:pt x="635" y="363"/>
                    </a:lnTo>
                    <a:lnTo>
                      <a:pt x="617" y="361"/>
                    </a:lnTo>
                    <a:lnTo>
                      <a:pt x="600" y="360"/>
                    </a:lnTo>
                    <a:lnTo>
                      <a:pt x="584" y="354"/>
                    </a:lnTo>
                    <a:lnTo>
                      <a:pt x="570" y="344"/>
                    </a:lnTo>
                    <a:lnTo>
                      <a:pt x="560" y="328"/>
                    </a:lnTo>
                    <a:lnTo>
                      <a:pt x="548" y="321"/>
                    </a:lnTo>
                    <a:lnTo>
                      <a:pt x="537" y="316"/>
                    </a:lnTo>
                    <a:lnTo>
                      <a:pt x="524" y="313"/>
                    </a:lnTo>
                    <a:lnTo>
                      <a:pt x="511" y="313"/>
                    </a:lnTo>
                    <a:lnTo>
                      <a:pt x="498" y="313"/>
                    </a:lnTo>
                    <a:lnTo>
                      <a:pt x="486" y="314"/>
                    </a:lnTo>
                    <a:lnTo>
                      <a:pt x="473" y="317"/>
                    </a:lnTo>
                    <a:lnTo>
                      <a:pt x="460" y="320"/>
                    </a:lnTo>
                    <a:lnTo>
                      <a:pt x="436" y="333"/>
                    </a:lnTo>
                    <a:lnTo>
                      <a:pt x="416" y="347"/>
                    </a:lnTo>
                    <a:lnTo>
                      <a:pt x="397" y="364"/>
                    </a:lnTo>
                    <a:lnTo>
                      <a:pt x="381" y="383"/>
                    </a:lnTo>
                    <a:lnTo>
                      <a:pt x="369" y="401"/>
                    </a:lnTo>
                    <a:lnTo>
                      <a:pt x="356" y="421"/>
                    </a:lnTo>
                    <a:lnTo>
                      <a:pt x="344" y="441"/>
                    </a:lnTo>
                    <a:lnTo>
                      <a:pt x="333" y="461"/>
                    </a:lnTo>
                    <a:lnTo>
                      <a:pt x="321" y="480"/>
                    </a:lnTo>
                    <a:lnTo>
                      <a:pt x="307" y="497"/>
                    </a:lnTo>
                    <a:lnTo>
                      <a:pt x="293" y="512"/>
                    </a:lnTo>
                    <a:lnTo>
                      <a:pt x="276" y="525"/>
                    </a:lnTo>
                    <a:lnTo>
                      <a:pt x="256" y="537"/>
                    </a:lnTo>
                    <a:lnTo>
                      <a:pt x="233" y="542"/>
                    </a:lnTo>
                    <a:lnTo>
                      <a:pt x="204" y="545"/>
                    </a:lnTo>
                    <a:lnTo>
                      <a:pt x="173" y="544"/>
                    </a:lnTo>
                    <a:lnTo>
                      <a:pt x="152" y="540"/>
                    </a:lnTo>
                    <a:lnTo>
                      <a:pt x="129" y="538"/>
                    </a:lnTo>
                    <a:lnTo>
                      <a:pt x="105" y="537"/>
                    </a:lnTo>
                    <a:lnTo>
                      <a:pt x="82" y="535"/>
                    </a:lnTo>
                    <a:lnTo>
                      <a:pt x="59" y="532"/>
                    </a:lnTo>
                    <a:lnTo>
                      <a:pt x="37" y="528"/>
                    </a:lnTo>
                    <a:lnTo>
                      <a:pt x="17" y="520"/>
                    </a:lnTo>
                    <a:lnTo>
                      <a:pt x="0" y="508"/>
                    </a:lnTo>
                    <a:lnTo>
                      <a:pt x="26" y="507"/>
                    </a:lnTo>
                    <a:lnTo>
                      <a:pt x="52" y="507"/>
                    </a:lnTo>
                    <a:lnTo>
                      <a:pt x="77" y="510"/>
                    </a:lnTo>
                    <a:lnTo>
                      <a:pt x="105" y="512"/>
                    </a:lnTo>
                    <a:lnTo>
                      <a:pt x="130" y="514"/>
                    </a:lnTo>
                    <a:lnTo>
                      <a:pt x="159" y="515"/>
                    </a:lnTo>
                    <a:lnTo>
                      <a:pt x="187" y="514"/>
                    </a:lnTo>
                    <a:lnTo>
                      <a:pt x="216" y="508"/>
                    </a:lnTo>
                    <a:lnTo>
                      <a:pt x="227" y="498"/>
                    </a:lnTo>
                    <a:lnTo>
                      <a:pt x="229" y="484"/>
                    </a:lnTo>
                    <a:lnTo>
                      <a:pt x="229" y="468"/>
                    </a:lnTo>
                    <a:lnTo>
                      <a:pt x="232" y="454"/>
                    </a:lnTo>
                    <a:lnTo>
                      <a:pt x="266" y="356"/>
                    </a:lnTo>
                    <a:lnTo>
                      <a:pt x="250" y="350"/>
                    </a:lnTo>
                    <a:lnTo>
                      <a:pt x="236" y="346"/>
                    </a:lnTo>
                    <a:lnTo>
                      <a:pt x="220" y="343"/>
                    </a:lnTo>
                    <a:lnTo>
                      <a:pt x="206" y="340"/>
                    </a:lnTo>
                    <a:lnTo>
                      <a:pt x="192" y="338"/>
                    </a:lnTo>
                    <a:lnTo>
                      <a:pt x="177" y="336"/>
                    </a:lnTo>
                    <a:lnTo>
                      <a:pt x="163" y="334"/>
                    </a:lnTo>
                    <a:lnTo>
                      <a:pt x="149" y="334"/>
                    </a:lnTo>
                    <a:lnTo>
                      <a:pt x="134" y="333"/>
                    </a:lnTo>
                    <a:lnTo>
                      <a:pt x="120" y="333"/>
                    </a:lnTo>
                    <a:lnTo>
                      <a:pt x="106" y="331"/>
                    </a:lnTo>
                    <a:lnTo>
                      <a:pt x="92" y="330"/>
                    </a:lnTo>
                    <a:lnTo>
                      <a:pt x="76" y="328"/>
                    </a:lnTo>
                    <a:lnTo>
                      <a:pt x="60" y="327"/>
                    </a:lnTo>
                    <a:lnTo>
                      <a:pt x="45" y="326"/>
                    </a:lnTo>
                    <a:lnTo>
                      <a:pt x="29" y="323"/>
                    </a:lnTo>
                    <a:lnTo>
                      <a:pt x="40" y="297"/>
                    </a:lnTo>
                    <a:lnTo>
                      <a:pt x="53" y="271"/>
                    </a:lnTo>
                    <a:lnTo>
                      <a:pt x="66" y="246"/>
                    </a:lnTo>
                    <a:lnTo>
                      <a:pt x="80" y="221"/>
                    </a:lnTo>
                    <a:lnTo>
                      <a:pt x="95" y="199"/>
                    </a:lnTo>
                    <a:lnTo>
                      <a:pt x="112" y="176"/>
                    </a:lnTo>
                    <a:lnTo>
                      <a:pt x="129" y="154"/>
                    </a:lnTo>
                    <a:lnTo>
                      <a:pt x="147" y="134"/>
                    </a:lnTo>
                    <a:lnTo>
                      <a:pt x="154" y="131"/>
                    </a:lnTo>
                    <a:lnTo>
                      <a:pt x="163" y="130"/>
                    </a:lnTo>
                    <a:lnTo>
                      <a:pt x="172" y="131"/>
                    </a:lnTo>
                    <a:lnTo>
                      <a:pt x="176" y="137"/>
                    </a:lnTo>
                    <a:lnTo>
                      <a:pt x="182" y="151"/>
                    </a:lnTo>
                    <a:lnTo>
                      <a:pt x="189" y="164"/>
                    </a:lnTo>
                    <a:lnTo>
                      <a:pt x="199" y="177"/>
                    </a:lnTo>
                    <a:lnTo>
                      <a:pt x="209" y="190"/>
                    </a:lnTo>
                    <a:lnTo>
                      <a:pt x="220" y="201"/>
                    </a:lnTo>
                    <a:lnTo>
                      <a:pt x="234" y="211"/>
                    </a:lnTo>
                    <a:lnTo>
                      <a:pt x="247" y="221"/>
                    </a:lnTo>
                    <a:lnTo>
                      <a:pt x="263" y="230"/>
                    </a:lnTo>
                    <a:lnTo>
                      <a:pt x="280" y="231"/>
                    </a:lnTo>
                    <a:lnTo>
                      <a:pt x="297" y="231"/>
                    </a:lnTo>
                    <a:lnTo>
                      <a:pt x="314" y="230"/>
                    </a:lnTo>
                    <a:lnTo>
                      <a:pt x="331" y="226"/>
                    </a:lnTo>
                    <a:lnTo>
                      <a:pt x="349" y="221"/>
                    </a:lnTo>
                    <a:lnTo>
                      <a:pt x="363" y="213"/>
                    </a:lnTo>
                    <a:lnTo>
                      <a:pt x="374" y="204"/>
                    </a:lnTo>
                    <a:lnTo>
                      <a:pt x="383" y="191"/>
                    </a:lnTo>
                    <a:lnTo>
                      <a:pt x="397" y="196"/>
                    </a:lnTo>
                    <a:lnTo>
                      <a:pt x="413" y="196"/>
                    </a:lnTo>
                    <a:lnTo>
                      <a:pt x="427" y="191"/>
                    </a:lnTo>
                    <a:lnTo>
                      <a:pt x="441" y="184"/>
                    </a:lnTo>
                    <a:lnTo>
                      <a:pt x="457" y="176"/>
                    </a:lnTo>
                    <a:lnTo>
                      <a:pt x="471" y="166"/>
                    </a:lnTo>
                    <a:lnTo>
                      <a:pt x="484" y="157"/>
                    </a:lnTo>
                    <a:lnTo>
                      <a:pt x="498" y="150"/>
                    </a:lnTo>
                    <a:lnTo>
                      <a:pt x="507" y="151"/>
                    </a:lnTo>
                    <a:lnTo>
                      <a:pt x="516" y="149"/>
                    </a:lnTo>
                    <a:lnTo>
                      <a:pt x="521" y="146"/>
                    </a:lnTo>
                    <a:lnTo>
                      <a:pt x="527" y="141"/>
                    </a:lnTo>
                    <a:lnTo>
                      <a:pt x="531" y="136"/>
                    </a:lnTo>
                    <a:lnTo>
                      <a:pt x="536" y="130"/>
                    </a:lnTo>
                    <a:lnTo>
                      <a:pt x="540" y="126"/>
                    </a:lnTo>
                    <a:lnTo>
                      <a:pt x="543" y="121"/>
                    </a:lnTo>
                    <a:lnTo>
                      <a:pt x="523" y="117"/>
                    </a:lnTo>
                    <a:lnTo>
                      <a:pt x="503" y="119"/>
                    </a:lnTo>
                    <a:lnTo>
                      <a:pt x="484" y="124"/>
                    </a:lnTo>
                    <a:lnTo>
                      <a:pt x="467" y="131"/>
                    </a:lnTo>
                    <a:lnTo>
                      <a:pt x="448" y="140"/>
                    </a:lnTo>
                    <a:lnTo>
                      <a:pt x="431" y="150"/>
                    </a:lnTo>
                    <a:lnTo>
                      <a:pt x="413" y="159"/>
                    </a:lnTo>
                    <a:lnTo>
                      <a:pt x="393" y="166"/>
                    </a:lnTo>
                    <a:lnTo>
                      <a:pt x="403" y="124"/>
                    </a:lnTo>
                    <a:lnTo>
                      <a:pt x="411" y="80"/>
                    </a:lnTo>
                    <a:lnTo>
                      <a:pt x="410" y="37"/>
                    </a:lnTo>
                    <a:lnTo>
                      <a:pt x="393" y="0"/>
                    </a:lnTo>
                    <a:lnTo>
                      <a:pt x="418" y="9"/>
                    </a:lnTo>
                    <a:lnTo>
                      <a:pt x="441" y="22"/>
                    </a:lnTo>
                    <a:lnTo>
                      <a:pt x="463" y="37"/>
                    </a:lnTo>
                    <a:lnTo>
                      <a:pt x="483" y="53"/>
                    </a:lnTo>
                    <a:lnTo>
                      <a:pt x="504" y="70"/>
                    </a:lnTo>
                    <a:lnTo>
                      <a:pt x="526" y="86"/>
                    </a:lnTo>
                    <a:lnTo>
                      <a:pt x="548" y="97"/>
                    </a:lnTo>
                    <a:lnTo>
                      <a:pt x="573" y="106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6795720" y="559584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13" y="7"/>
                    </a:lnTo>
                    <a:lnTo>
                      <a:pt x="16" y="1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7151400" y="5597640"/>
                <a:ext cx="259920" cy="61920"/>
              </a:xfrm>
              <a:custGeom>
                <a:avLst/>
                <a:gdLst/>
                <a:ahLst/>
                <a:rect l="l" t="t" r="r" b="b"/>
                <a:pathLst>
                  <a:path w="327" h="79">
                    <a:moveTo>
                      <a:pt x="327" y="66"/>
                    </a:moveTo>
                    <a:lnTo>
                      <a:pt x="323" y="73"/>
                    </a:lnTo>
                    <a:lnTo>
                      <a:pt x="317" y="77"/>
                    </a:lnTo>
                    <a:lnTo>
                      <a:pt x="310" y="79"/>
                    </a:lnTo>
                    <a:lnTo>
                      <a:pt x="300" y="79"/>
                    </a:lnTo>
                    <a:lnTo>
                      <a:pt x="290" y="77"/>
                    </a:lnTo>
                    <a:lnTo>
                      <a:pt x="280" y="74"/>
                    </a:lnTo>
                    <a:lnTo>
                      <a:pt x="269" y="73"/>
                    </a:lnTo>
                    <a:lnTo>
                      <a:pt x="260" y="70"/>
                    </a:lnTo>
                    <a:lnTo>
                      <a:pt x="3" y="21"/>
                    </a:lnTo>
                    <a:lnTo>
                      <a:pt x="0" y="9"/>
                    </a:lnTo>
                    <a:lnTo>
                      <a:pt x="8" y="4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49" y="4"/>
                    </a:lnTo>
                    <a:lnTo>
                      <a:pt x="68" y="9"/>
                    </a:lnTo>
                    <a:lnTo>
                      <a:pt x="88" y="11"/>
                    </a:lnTo>
                    <a:lnTo>
                      <a:pt x="106" y="14"/>
                    </a:lnTo>
                    <a:lnTo>
                      <a:pt x="126" y="19"/>
                    </a:lnTo>
                    <a:lnTo>
                      <a:pt x="145" y="21"/>
                    </a:lnTo>
                    <a:lnTo>
                      <a:pt x="165" y="24"/>
                    </a:lnTo>
                    <a:lnTo>
                      <a:pt x="183" y="27"/>
                    </a:lnTo>
                    <a:lnTo>
                      <a:pt x="202" y="30"/>
                    </a:lnTo>
                    <a:lnTo>
                      <a:pt x="220" y="34"/>
                    </a:lnTo>
                    <a:lnTo>
                      <a:pt x="239" y="37"/>
                    </a:lnTo>
                    <a:lnTo>
                      <a:pt x="257" y="41"/>
                    </a:lnTo>
                    <a:lnTo>
                      <a:pt x="274" y="47"/>
                    </a:lnTo>
                    <a:lnTo>
                      <a:pt x="293" y="53"/>
                    </a:lnTo>
                    <a:lnTo>
                      <a:pt x="310" y="59"/>
                    </a:lnTo>
                    <a:lnTo>
                      <a:pt x="327" y="66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7437960" y="5613480"/>
                <a:ext cx="44280" cy="12600"/>
              </a:xfrm>
              <a:custGeom>
                <a:avLst/>
                <a:gdLst/>
                <a:ahLst/>
                <a:rect l="l" t="t" r="r" b="b"/>
                <a:pathLst>
                  <a:path w="55" h="16">
                    <a:moveTo>
                      <a:pt x="55" y="13"/>
                    </a:moveTo>
                    <a:lnTo>
                      <a:pt x="50" y="16"/>
                    </a:lnTo>
                    <a:lnTo>
                      <a:pt x="44" y="16"/>
                    </a:lnTo>
                    <a:lnTo>
                      <a:pt x="37" y="16"/>
                    </a:lnTo>
                    <a:lnTo>
                      <a:pt x="28" y="16"/>
                    </a:lnTo>
                    <a:lnTo>
                      <a:pt x="21" y="13"/>
                    </a:lnTo>
                    <a:lnTo>
                      <a:pt x="12" y="12"/>
                    </a:lnTo>
                    <a:lnTo>
                      <a:pt x="5" y="8"/>
                    </a:lnTo>
                    <a:lnTo>
                      <a:pt x="0" y="3"/>
                    </a:lnTo>
                    <a:lnTo>
                      <a:pt x="5" y="2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6"/>
                    </a:lnTo>
                    <a:lnTo>
                      <a:pt x="50" y="9"/>
                    </a:lnTo>
                    <a:lnTo>
                      <a:pt x="55" y="13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7164360" y="5634000"/>
                <a:ext cx="253440" cy="66600"/>
              </a:xfrm>
              <a:custGeom>
                <a:avLst/>
                <a:gdLst/>
                <a:ahLst/>
                <a:rect l="l" t="t" r="r" b="b"/>
                <a:pathLst>
                  <a:path w="320" h="84">
                    <a:moveTo>
                      <a:pt x="320" y="54"/>
                    </a:moveTo>
                    <a:lnTo>
                      <a:pt x="320" y="64"/>
                    </a:lnTo>
                    <a:lnTo>
                      <a:pt x="318" y="71"/>
                    </a:lnTo>
                    <a:lnTo>
                      <a:pt x="314" y="77"/>
                    </a:lnTo>
                    <a:lnTo>
                      <a:pt x="307" y="84"/>
                    </a:lnTo>
                    <a:lnTo>
                      <a:pt x="285" y="80"/>
                    </a:lnTo>
                    <a:lnTo>
                      <a:pt x="265" y="76"/>
                    </a:lnTo>
                    <a:lnTo>
                      <a:pt x="247" y="71"/>
                    </a:lnTo>
                    <a:lnTo>
                      <a:pt x="227" y="69"/>
                    </a:lnTo>
                    <a:lnTo>
                      <a:pt x="208" y="64"/>
                    </a:lnTo>
                    <a:lnTo>
                      <a:pt x="190" y="61"/>
                    </a:lnTo>
                    <a:lnTo>
                      <a:pt x="173" y="57"/>
                    </a:lnTo>
                    <a:lnTo>
                      <a:pt x="154" y="54"/>
                    </a:lnTo>
                    <a:lnTo>
                      <a:pt x="135" y="52"/>
                    </a:lnTo>
                    <a:lnTo>
                      <a:pt x="117" y="47"/>
                    </a:lnTo>
                    <a:lnTo>
                      <a:pt x="98" y="44"/>
                    </a:lnTo>
                    <a:lnTo>
                      <a:pt x="80" y="42"/>
                    </a:lnTo>
                    <a:lnTo>
                      <a:pt x="61" y="39"/>
                    </a:lnTo>
                    <a:lnTo>
                      <a:pt x="41" y="34"/>
                    </a:lnTo>
                    <a:lnTo>
                      <a:pt x="21" y="32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0" y="10"/>
                    </a:lnTo>
                    <a:lnTo>
                      <a:pt x="3" y="2"/>
                    </a:lnTo>
                    <a:lnTo>
                      <a:pt x="11" y="0"/>
                    </a:lnTo>
                    <a:lnTo>
                      <a:pt x="320" y="54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7441920" y="5646600"/>
                <a:ext cx="48960" cy="15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63" y="20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0"/>
                    </a:lnTo>
                    <a:lnTo>
                      <a:pt x="29" y="1"/>
                    </a:lnTo>
                    <a:lnTo>
                      <a:pt x="37" y="3"/>
                    </a:lnTo>
                    <a:lnTo>
                      <a:pt x="46" y="4"/>
                    </a:lnTo>
                    <a:lnTo>
                      <a:pt x="53" y="8"/>
                    </a:lnTo>
                    <a:lnTo>
                      <a:pt x="59" y="13"/>
                    </a:lnTo>
                    <a:lnTo>
                      <a:pt x="63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7723800" y="5675400"/>
                <a:ext cx="171000" cy="154080"/>
              </a:xfrm>
              <a:custGeom>
                <a:avLst/>
                <a:gdLst/>
                <a:ahLst/>
                <a:rect l="l" t="t" r="r" b="b"/>
                <a:pathLst>
                  <a:path w="217" h="195">
                    <a:moveTo>
                      <a:pt x="217" y="72"/>
                    </a:moveTo>
                    <a:lnTo>
                      <a:pt x="217" y="111"/>
                    </a:lnTo>
                    <a:lnTo>
                      <a:pt x="211" y="111"/>
                    </a:lnTo>
                    <a:lnTo>
                      <a:pt x="191" y="195"/>
                    </a:lnTo>
                    <a:lnTo>
                      <a:pt x="167" y="188"/>
                    </a:lnTo>
                    <a:lnTo>
                      <a:pt x="142" y="179"/>
                    </a:lnTo>
                    <a:lnTo>
                      <a:pt x="118" y="171"/>
                    </a:lnTo>
                    <a:lnTo>
                      <a:pt x="95" y="161"/>
                    </a:lnTo>
                    <a:lnTo>
                      <a:pt x="71" y="152"/>
                    </a:lnTo>
                    <a:lnTo>
                      <a:pt x="48" y="141"/>
                    </a:lnTo>
                    <a:lnTo>
                      <a:pt x="25" y="129"/>
                    </a:lnTo>
                    <a:lnTo>
                      <a:pt x="3" y="118"/>
                    </a:lnTo>
                    <a:lnTo>
                      <a:pt x="0" y="88"/>
                    </a:lnTo>
                    <a:lnTo>
                      <a:pt x="3" y="57"/>
                    </a:lnTo>
                    <a:lnTo>
                      <a:pt x="13" y="25"/>
                    </a:lnTo>
                    <a:lnTo>
                      <a:pt x="28" y="0"/>
                    </a:lnTo>
                    <a:lnTo>
                      <a:pt x="52" y="8"/>
                    </a:lnTo>
                    <a:lnTo>
                      <a:pt x="75" y="18"/>
                    </a:lnTo>
                    <a:lnTo>
                      <a:pt x="97" y="28"/>
                    </a:lnTo>
                    <a:lnTo>
                      <a:pt x="118" y="39"/>
                    </a:lnTo>
                    <a:lnTo>
                      <a:pt x="141" y="49"/>
                    </a:lnTo>
                    <a:lnTo>
                      <a:pt x="164" y="59"/>
                    </a:lnTo>
                    <a:lnTo>
                      <a:pt x="189" y="67"/>
                    </a:lnTo>
                    <a:lnTo>
                      <a:pt x="217" y="72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896880" y="5675400"/>
                <a:ext cx="47160" cy="68040"/>
              </a:xfrm>
              <a:custGeom>
                <a:avLst/>
                <a:gdLst/>
                <a:ahLst/>
                <a:rect l="l" t="t" r="r" b="b"/>
                <a:pathLst>
                  <a:path w="61" h="87">
                    <a:moveTo>
                      <a:pt x="61" y="87"/>
                    </a:moveTo>
                    <a:lnTo>
                      <a:pt x="50" y="81"/>
                    </a:lnTo>
                    <a:lnTo>
                      <a:pt x="39" y="74"/>
                    </a:lnTo>
                    <a:lnTo>
                      <a:pt x="29" y="65"/>
                    </a:lnTo>
                    <a:lnTo>
                      <a:pt x="20" y="55"/>
                    </a:lnTo>
                    <a:lnTo>
                      <a:pt x="11" y="45"/>
                    </a:lnTo>
                    <a:lnTo>
                      <a:pt x="6" y="32"/>
                    </a:lnTo>
                    <a:lnTo>
                      <a:pt x="1" y="21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10" y="14"/>
                    </a:lnTo>
                    <a:lnTo>
                      <a:pt x="14" y="27"/>
                    </a:lnTo>
                    <a:lnTo>
                      <a:pt x="20" y="39"/>
                    </a:lnTo>
                    <a:lnTo>
                      <a:pt x="27" y="51"/>
                    </a:lnTo>
                    <a:lnTo>
                      <a:pt x="36" y="62"/>
                    </a:lnTo>
                    <a:lnTo>
                      <a:pt x="44" y="71"/>
                    </a:lnTo>
                    <a:lnTo>
                      <a:pt x="53" y="79"/>
                    </a:lnTo>
                    <a:lnTo>
                      <a:pt x="61" y="8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642800" y="5676840"/>
                <a:ext cx="82440" cy="243000"/>
              </a:xfrm>
              <a:custGeom>
                <a:avLst/>
                <a:gdLst/>
                <a:ahLst/>
                <a:rect l="l" t="t" r="r" b="b"/>
                <a:pathLst>
                  <a:path w="104" h="306">
                    <a:moveTo>
                      <a:pt x="95" y="72"/>
                    </a:moveTo>
                    <a:lnTo>
                      <a:pt x="90" y="83"/>
                    </a:lnTo>
                    <a:lnTo>
                      <a:pt x="84" y="99"/>
                    </a:lnTo>
                    <a:lnTo>
                      <a:pt x="78" y="116"/>
                    </a:lnTo>
                    <a:lnTo>
                      <a:pt x="77" y="136"/>
                    </a:lnTo>
                    <a:lnTo>
                      <a:pt x="68" y="173"/>
                    </a:lnTo>
                    <a:lnTo>
                      <a:pt x="63" y="212"/>
                    </a:lnTo>
                    <a:lnTo>
                      <a:pt x="60" y="251"/>
                    </a:lnTo>
                    <a:lnTo>
                      <a:pt x="67" y="291"/>
                    </a:lnTo>
                    <a:lnTo>
                      <a:pt x="63" y="299"/>
                    </a:lnTo>
                    <a:lnTo>
                      <a:pt x="55" y="303"/>
                    </a:lnTo>
                    <a:lnTo>
                      <a:pt x="48" y="304"/>
                    </a:lnTo>
                    <a:lnTo>
                      <a:pt x="41" y="306"/>
                    </a:lnTo>
                    <a:lnTo>
                      <a:pt x="33" y="304"/>
                    </a:lnTo>
                    <a:lnTo>
                      <a:pt x="25" y="301"/>
                    </a:lnTo>
                    <a:lnTo>
                      <a:pt x="18" y="297"/>
                    </a:lnTo>
                    <a:lnTo>
                      <a:pt x="13" y="291"/>
                    </a:lnTo>
                    <a:lnTo>
                      <a:pt x="4" y="249"/>
                    </a:lnTo>
                    <a:lnTo>
                      <a:pt x="0" y="209"/>
                    </a:lnTo>
                    <a:lnTo>
                      <a:pt x="1" y="169"/>
                    </a:lnTo>
                    <a:lnTo>
                      <a:pt x="8" y="130"/>
                    </a:lnTo>
                    <a:lnTo>
                      <a:pt x="20" y="95"/>
                    </a:lnTo>
                    <a:lnTo>
                      <a:pt x="35" y="62"/>
                    </a:lnTo>
                    <a:lnTo>
                      <a:pt x="55" y="29"/>
                    </a:lnTo>
                    <a:lnTo>
                      <a:pt x="80" y="0"/>
                    </a:lnTo>
                    <a:lnTo>
                      <a:pt x="94" y="2"/>
                    </a:lnTo>
                    <a:lnTo>
                      <a:pt x="101" y="9"/>
                    </a:lnTo>
                    <a:lnTo>
                      <a:pt x="104" y="17"/>
                    </a:lnTo>
                    <a:lnTo>
                      <a:pt x="102" y="27"/>
                    </a:lnTo>
                    <a:lnTo>
                      <a:pt x="100" y="39"/>
                    </a:lnTo>
                    <a:lnTo>
                      <a:pt x="97" y="50"/>
                    </a:lnTo>
                    <a:lnTo>
                      <a:pt x="94" y="62"/>
                    </a:lnTo>
                    <a:lnTo>
                      <a:pt x="95" y="72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7449120" y="5680080"/>
                <a:ext cx="53640" cy="17280"/>
              </a:xfrm>
              <a:custGeom>
                <a:avLst/>
                <a:gdLst/>
                <a:ahLst/>
                <a:rect l="l" t="t" r="r" b="b"/>
                <a:pathLst>
                  <a:path w="67" h="21">
                    <a:moveTo>
                      <a:pt x="67" y="18"/>
                    </a:moveTo>
                    <a:lnTo>
                      <a:pt x="58" y="20"/>
                    </a:lnTo>
                    <a:lnTo>
                      <a:pt x="50" y="21"/>
                    </a:lnTo>
                    <a:lnTo>
                      <a:pt x="41" y="21"/>
                    </a:lnTo>
                    <a:lnTo>
                      <a:pt x="31" y="20"/>
                    </a:lnTo>
                    <a:lnTo>
                      <a:pt x="23" y="18"/>
                    </a:lnTo>
                    <a:lnTo>
                      <a:pt x="14" y="15"/>
                    </a:lnTo>
                    <a:lnTo>
                      <a:pt x="7" y="12"/>
                    </a:lnTo>
                    <a:lnTo>
                      <a:pt x="0" y="8"/>
                    </a:lnTo>
                    <a:lnTo>
                      <a:pt x="7" y="2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6" y="1"/>
                    </a:lnTo>
                    <a:lnTo>
                      <a:pt x="44" y="4"/>
                    </a:lnTo>
                    <a:lnTo>
                      <a:pt x="54" y="8"/>
                    </a:lnTo>
                    <a:lnTo>
                      <a:pt x="61" y="14"/>
                    </a:lnTo>
                    <a:lnTo>
                      <a:pt x="67" y="18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7230960" y="5707080"/>
                <a:ext cx="205920" cy="60480"/>
              </a:xfrm>
              <a:custGeom>
                <a:avLst/>
                <a:gdLst/>
                <a:ahLst/>
                <a:rect l="l" t="t" r="r" b="b"/>
                <a:pathLst>
                  <a:path w="261" h="74">
                    <a:moveTo>
                      <a:pt x="261" y="58"/>
                    </a:moveTo>
                    <a:lnTo>
                      <a:pt x="244" y="74"/>
                    </a:lnTo>
                    <a:lnTo>
                      <a:pt x="7" y="23"/>
                    </a:lnTo>
                    <a:lnTo>
                      <a:pt x="1" y="20"/>
                    </a:lnTo>
                    <a:lnTo>
                      <a:pt x="0" y="13"/>
                    </a:lnTo>
                    <a:lnTo>
                      <a:pt x="1" y="4"/>
                    </a:lnTo>
                    <a:lnTo>
                      <a:pt x="7" y="0"/>
                    </a:lnTo>
                    <a:lnTo>
                      <a:pt x="22" y="3"/>
                    </a:lnTo>
                    <a:lnTo>
                      <a:pt x="40" y="6"/>
                    </a:lnTo>
                    <a:lnTo>
                      <a:pt x="57" y="7"/>
                    </a:lnTo>
                    <a:lnTo>
                      <a:pt x="72" y="11"/>
                    </a:lnTo>
                    <a:lnTo>
                      <a:pt x="90" y="14"/>
                    </a:lnTo>
                    <a:lnTo>
                      <a:pt x="105" y="17"/>
                    </a:lnTo>
                    <a:lnTo>
                      <a:pt x="122" y="20"/>
                    </a:lnTo>
                    <a:lnTo>
                      <a:pt x="138" y="24"/>
                    </a:lnTo>
                    <a:lnTo>
                      <a:pt x="155" y="27"/>
                    </a:lnTo>
                    <a:lnTo>
                      <a:pt x="171" y="31"/>
                    </a:lnTo>
                    <a:lnTo>
                      <a:pt x="187" y="36"/>
                    </a:lnTo>
                    <a:lnTo>
                      <a:pt x="202" y="40"/>
                    </a:lnTo>
                    <a:lnTo>
                      <a:pt x="217" y="44"/>
                    </a:lnTo>
                    <a:lnTo>
                      <a:pt x="232" y="48"/>
                    </a:lnTo>
                    <a:lnTo>
                      <a:pt x="247" y="54"/>
                    </a:lnTo>
                    <a:lnTo>
                      <a:pt x="261" y="58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7463520" y="5718240"/>
                <a:ext cx="47160" cy="12600"/>
              </a:xfrm>
              <a:custGeom>
                <a:avLst/>
                <a:gdLst/>
                <a:ahLst/>
                <a:rect l="l" t="t" r="r" b="b"/>
                <a:pathLst>
                  <a:path w="60" h="15">
                    <a:moveTo>
                      <a:pt x="60" y="15"/>
                    </a:moveTo>
                    <a:lnTo>
                      <a:pt x="0" y="5"/>
                    </a:lnTo>
                    <a:lnTo>
                      <a:pt x="8" y="1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4"/>
                    </a:lnTo>
                    <a:lnTo>
                      <a:pt x="49" y="8"/>
                    </a:lnTo>
                    <a:lnTo>
                      <a:pt x="56" y="13"/>
                    </a:lnTo>
                    <a:lnTo>
                      <a:pt x="60" y="1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246800" y="5746680"/>
                <a:ext cx="196560" cy="50760"/>
              </a:xfrm>
              <a:custGeom>
                <a:avLst/>
                <a:gdLst/>
                <a:ahLst/>
                <a:rect l="l" t="t" r="r" b="b"/>
                <a:pathLst>
                  <a:path w="250" h="65">
                    <a:moveTo>
                      <a:pt x="250" y="45"/>
                    </a:moveTo>
                    <a:lnTo>
                      <a:pt x="250" y="55"/>
                    </a:lnTo>
                    <a:lnTo>
                      <a:pt x="243" y="59"/>
                    </a:lnTo>
                    <a:lnTo>
                      <a:pt x="234" y="63"/>
                    </a:lnTo>
                    <a:lnTo>
                      <a:pt x="230" y="65"/>
                    </a:lnTo>
                    <a:lnTo>
                      <a:pt x="0" y="16"/>
                    </a:lnTo>
                    <a:lnTo>
                      <a:pt x="3" y="0"/>
                    </a:lnTo>
                    <a:lnTo>
                      <a:pt x="250" y="4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7470720" y="5751360"/>
                <a:ext cx="34560" cy="97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7"/>
                    </a:moveTo>
                    <a:lnTo>
                      <a:pt x="4" y="0"/>
                    </a:lnTo>
                    <a:lnTo>
                      <a:pt x="44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7259400" y="5756400"/>
                <a:ext cx="406080" cy="168120"/>
              </a:xfrm>
              <a:custGeom>
                <a:avLst/>
                <a:gdLst/>
                <a:ahLst/>
                <a:rect l="l" t="t" r="r" b="b"/>
                <a:pathLst>
                  <a:path w="511" h="211">
                    <a:moveTo>
                      <a:pt x="508" y="96"/>
                    </a:moveTo>
                    <a:lnTo>
                      <a:pt x="511" y="124"/>
                    </a:lnTo>
                    <a:lnTo>
                      <a:pt x="505" y="151"/>
                    </a:lnTo>
                    <a:lnTo>
                      <a:pt x="498" y="180"/>
                    </a:lnTo>
                    <a:lnTo>
                      <a:pt x="495" y="207"/>
                    </a:lnTo>
                    <a:lnTo>
                      <a:pt x="476" y="210"/>
                    </a:lnTo>
                    <a:lnTo>
                      <a:pt x="455" y="211"/>
                    </a:lnTo>
                    <a:lnTo>
                      <a:pt x="435" y="209"/>
                    </a:lnTo>
                    <a:lnTo>
                      <a:pt x="414" y="206"/>
                    </a:lnTo>
                    <a:lnTo>
                      <a:pt x="392" y="201"/>
                    </a:lnTo>
                    <a:lnTo>
                      <a:pt x="369" y="197"/>
                    </a:lnTo>
                    <a:lnTo>
                      <a:pt x="348" y="194"/>
                    </a:lnTo>
                    <a:lnTo>
                      <a:pt x="327" y="193"/>
                    </a:lnTo>
                    <a:lnTo>
                      <a:pt x="308" y="193"/>
                    </a:lnTo>
                    <a:lnTo>
                      <a:pt x="288" y="191"/>
                    </a:lnTo>
                    <a:lnTo>
                      <a:pt x="268" y="189"/>
                    </a:lnTo>
                    <a:lnTo>
                      <a:pt x="248" y="186"/>
                    </a:lnTo>
                    <a:lnTo>
                      <a:pt x="228" y="183"/>
                    </a:lnTo>
                    <a:lnTo>
                      <a:pt x="207" y="179"/>
                    </a:lnTo>
                    <a:lnTo>
                      <a:pt x="187" y="174"/>
                    </a:lnTo>
                    <a:lnTo>
                      <a:pt x="165" y="170"/>
                    </a:lnTo>
                    <a:lnTo>
                      <a:pt x="144" y="164"/>
                    </a:lnTo>
                    <a:lnTo>
                      <a:pt x="124" y="159"/>
                    </a:lnTo>
                    <a:lnTo>
                      <a:pt x="103" y="154"/>
                    </a:lnTo>
                    <a:lnTo>
                      <a:pt x="81" y="149"/>
                    </a:lnTo>
                    <a:lnTo>
                      <a:pt x="61" y="143"/>
                    </a:lnTo>
                    <a:lnTo>
                      <a:pt x="40" y="137"/>
                    </a:lnTo>
                    <a:lnTo>
                      <a:pt x="20" y="132"/>
                    </a:lnTo>
                    <a:lnTo>
                      <a:pt x="0" y="127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8" y="70"/>
                    </a:lnTo>
                    <a:lnTo>
                      <a:pt x="14" y="42"/>
                    </a:lnTo>
                    <a:lnTo>
                      <a:pt x="23" y="17"/>
                    </a:lnTo>
                    <a:lnTo>
                      <a:pt x="38" y="0"/>
                    </a:lnTo>
                    <a:lnTo>
                      <a:pt x="68" y="5"/>
                    </a:lnTo>
                    <a:lnTo>
                      <a:pt x="98" y="10"/>
                    </a:lnTo>
                    <a:lnTo>
                      <a:pt x="127" y="16"/>
                    </a:lnTo>
                    <a:lnTo>
                      <a:pt x="157" y="22"/>
                    </a:lnTo>
                    <a:lnTo>
                      <a:pt x="185" y="27"/>
                    </a:lnTo>
                    <a:lnTo>
                      <a:pt x="215" y="34"/>
                    </a:lnTo>
                    <a:lnTo>
                      <a:pt x="244" y="40"/>
                    </a:lnTo>
                    <a:lnTo>
                      <a:pt x="274" y="47"/>
                    </a:lnTo>
                    <a:lnTo>
                      <a:pt x="302" y="53"/>
                    </a:lnTo>
                    <a:lnTo>
                      <a:pt x="331" y="60"/>
                    </a:lnTo>
                    <a:lnTo>
                      <a:pt x="361" y="66"/>
                    </a:lnTo>
                    <a:lnTo>
                      <a:pt x="389" y="73"/>
                    </a:lnTo>
                    <a:lnTo>
                      <a:pt x="419" y="79"/>
                    </a:lnTo>
                    <a:lnTo>
                      <a:pt x="448" y="84"/>
                    </a:lnTo>
                    <a:lnTo>
                      <a:pt x="478" y="90"/>
                    </a:lnTo>
                    <a:lnTo>
                      <a:pt x="508" y="96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80200" y="5759280"/>
                <a:ext cx="83520" cy="235080"/>
              </a:xfrm>
              <a:custGeom>
                <a:avLst/>
                <a:gdLst/>
                <a:ahLst/>
                <a:rect l="l" t="t" r="r" b="b"/>
                <a:pathLst>
                  <a:path w="106" h="297">
                    <a:moveTo>
                      <a:pt x="106" y="26"/>
                    </a:moveTo>
                    <a:lnTo>
                      <a:pt x="103" y="54"/>
                    </a:lnTo>
                    <a:lnTo>
                      <a:pt x="97" y="84"/>
                    </a:lnTo>
                    <a:lnTo>
                      <a:pt x="90" y="117"/>
                    </a:lnTo>
                    <a:lnTo>
                      <a:pt x="83" y="150"/>
                    </a:lnTo>
                    <a:lnTo>
                      <a:pt x="74" y="183"/>
                    </a:lnTo>
                    <a:lnTo>
                      <a:pt x="67" y="216"/>
                    </a:lnTo>
                    <a:lnTo>
                      <a:pt x="60" y="250"/>
                    </a:lnTo>
                    <a:lnTo>
                      <a:pt x="54" y="283"/>
                    </a:lnTo>
                    <a:lnTo>
                      <a:pt x="47" y="291"/>
                    </a:lnTo>
                    <a:lnTo>
                      <a:pt x="36" y="295"/>
                    </a:lnTo>
                    <a:lnTo>
                      <a:pt x="24" y="297"/>
                    </a:lnTo>
                    <a:lnTo>
                      <a:pt x="13" y="294"/>
                    </a:lnTo>
                    <a:lnTo>
                      <a:pt x="3" y="281"/>
                    </a:lnTo>
                    <a:lnTo>
                      <a:pt x="0" y="264"/>
                    </a:lnTo>
                    <a:lnTo>
                      <a:pt x="1" y="246"/>
                    </a:lnTo>
                    <a:lnTo>
                      <a:pt x="4" y="230"/>
                    </a:lnTo>
                    <a:lnTo>
                      <a:pt x="7" y="230"/>
                    </a:lnTo>
                    <a:lnTo>
                      <a:pt x="4" y="200"/>
                    </a:lnTo>
                    <a:lnTo>
                      <a:pt x="6" y="170"/>
                    </a:lnTo>
                    <a:lnTo>
                      <a:pt x="13" y="140"/>
                    </a:lnTo>
                    <a:lnTo>
                      <a:pt x="23" y="111"/>
                    </a:lnTo>
                    <a:lnTo>
                      <a:pt x="34" y="83"/>
                    </a:lnTo>
                    <a:lnTo>
                      <a:pt x="46" y="56"/>
                    </a:lnTo>
                    <a:lnTo>
                      <a:pt x="57" y="27"/>
                    </a:lnTo>
                    <a:lnTo>
                      <a:pt x="67" y="0"/>
                    </a:lnTo>
                    <a:lnTo>
                      <a:pt x="78" y="2"/>
                    </a:lnTo>
                    <a:lnTo>
                      <a:pt x="91" y="6"/>
                    </a:lnTo>
                    <a:lnTo>
                      <a:pt x="101" y="13"/>
                    </a:lnTo>
                    <a:lnTo>
                      <a:pt x="106" y="26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7427880" y="5778360"/>
                <a:ext cx="13680" cy="648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7" y="7"/>
                    </a:moveTo>
                    <a:lnTo>
                      <a:pt x="0" y="0"/>
                    </a:lnTo>
                    <a:lnTo>
                      <a:pt x="17" y="3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7344360" y="5783400"/>
                <a:ext cx="75960" cy="15840"/>
              </a:xfrm>
              <a:custGeom>
                <a:avLst/>
                <a:gdLst/>
                <a:ahLst/>
                <a:rect l="l" t="t" r="r" b="b"/>
                <a:pathLst>
                  <a:path w="95" h="20">
                    <a:moveTo>
                      <a:pt x="95" y="20"/>
                    </a:moveTo>
                    <a:lnTo>
                      <a:pt x="0" y="0"/>
                    </a:lnTo>
                    <a:lnTo>
                      <a:pt x="95" y="15"/>
                    </a:lnTo>
                    <a:lnTo>
                      <a:pt x="95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192000" y="5794200"/>
                <a:ext cx="240840" cy="111240"/>
              </a:xfrm>
              <a:custGeom>
                <a:avLst/>
                <a:gdLst/>
                <a:ahLst/>
                <a:rect l="l" t="t" r="r" b="b"/>
                <a:pathLst>
                  <a:path w="304" h="140">
                    <a:moveTo>
                      <a:pt x="275" y="41"/>
                    </a:moveTo>
                    <a:lnTo>
                      <a:pt x="288" y="64"/>
                    </a:lnTo>
                    <a:lnTo>
                      <a:pt x="300" y="91"/>
                    </a:lnTo>
                    <a:lnTo>
                      <a:pt x="304" y="118"/>
                    </a:lnTo>
                    <a:lnTo>
                      <a:pt x="297" y="140"/>
                    </a:lnTo>
                    <a:lnTo>
                      <a:pt x="188" y="124"/>
                    </a:lnTo>
                    <a:lnTo>
                      <a:pt x="196" y="120"/>
                    </a:lnTo>
                    <a:lnTo>
                      <a:pt x="201" y="117"/>
                    </a:lnTo>
                    <a:lnTo>
                      <a:pt x="206" y="111"/>
                    </a:lnTo>
                    <a:lnTo>
                      <a:pt x="204" y="104"/>
                    </a:lnTo>
                    <a:lnTo>
                      <a:pt x="194" y="102"/>
                    </a:lnTo>
                    <a:lnTo>
                      <a:pt x="186" y="101"/>
                    </a:lnTo>
                    <a:lnTo>
                      <a:pt x="178" y="102"/>
                    </a:lnTo>
                    <a:lnTo>
                      <a:pt x="171" y="105"/>
                    </a:lnTo>
                    <a:lnTo>
                      <a:pt x="164" y="110"/>
                    </a:lnTo>
                    <a:lnTo>
                      <a:pt x="156" y="114"/>
                    </a:lnTo>
                    <a:lnTo>
                      <a:pt x="148" y="120"/>
                    </a:lnTo>
                    <a:lnTo>
                      <a:pt x="138" y="124"/>
                    </a:lnTo>
                    <a:lnTo>
                      <a:pt x="0" y="114"/>
                    </a:lnTo>
                    <a:lnTo>
                      <a:pt x="16" y="93"/>
                    </a:lnTo>
                    <a:lnTo>
                      <a:pt x="31" y="74"/>
                    </a:lnTo>
                    <a:lnTo>
                      <a:pt x="50" y="55"/>
                    </a:lnTo>
                    <a:lnTo>
                      <a:pt x="70" y="40"/>
                    </a:lnTo>
                    <a:lnTo>
                      <a:pt x="91" y="25"/>
                    </a:lnTo>
                    <a:lnTo>
                      <a:pt x="116" y="14"/>
                    </a:lnTo>
                    <a:lnTo>
                      <a:pt x="140" y="5"/>
                    </a:lnTo>
                    <a:lnTo>
                      <a:pt x="167" y="0"/>
                    </a:lnTo>
                    <a:lnTo>
                      <a:pt x="183" y="0"/>
                    </a:lnTo>
                    <a:lnTo>
                      <a:pt x="198" y="1"/>
                    </a:lnTo>
                    <a:lnTo>
                      <a:pt x="214" y="4"/>
                    </a:lnTo>
                    <a:lnTo>
                      <a:pt x="230" y="7"/>
                    </a:lnTo>
                    <a:lnTo>
                      <a:pt x="244" y="13"/>
                    </a:lnTo>
                    <a:lnTo>
                      <a:pt x="257" y="21"/>
                    </a:lnTo>
                    <a:lnTo>
                      <a:pt x="267" y="30"/>
                    </a:lnTo>
                    <a:lnTo>
                      <a:pt x="275" y="4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7265880" y="5799240"/>
                <a:ext cx="67680" cy="19080"/>
              </a:xfrm>
              <a:custGeom>
                <a:avLst/>
                <a:gdLst/>
                <a:ahLst/>
                <a:rect l="l" t="t" r="r" b="b"/>
                <a:pathLst>
                  <a:path w="85" h="23">
                    <a:moveTo>
                      <a:pt x="79" y="23"/>
                    </a:moveTo>
                    <a:lnTo>
                      <a:pt x="0" y="0"/>
                    </a:lnTo>
                    <a:lnTo>
                      <a:pt x="85" y="16"/>
                    </a:lnTo>
                    <a:lnTo>
                      <a:pt x="79" y="23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7750800" y="5810400"/>
                <a:ext cx="107640" cy="42840"/>
              </a:xfrm>
              <a:custGeom>
                <a:avLst/>
                <a:gdLst/>
                <a:ahLst/>
                <a:rect l="l" t="t" r="r" b="b"/>
                <a:pathLst>
                  <a:path w="135" h="55">
                    <a:moveTo>
                      <a:pt x="135" y="47"/>
                    </a:moveTo>
                    <a:lnTo>
                      <a:pt x="135" y="55"/>
                    </a:lnTo>
                    <a:lnTo>
                      <a:pt x="117" y="55"/>
                    </a:lnTo>
                    <a:lnTo>
                      <a:pt x="98" y="52"/>
                    </a:lnTo>
                    <a:lnTo>
                      <a:pt x="80" y="46"/>
                    </a:lnTo>
                    <a:lnTo>
                      <a:pt x="63" y="37"/>
                    </a:lnTo>
                    <a:lnTo>
                      <a:pt x="45" y="29"/>
                    </a:lnTo>
                    <a:lnTo>
                      <a:pt x="30" y="19"/>
                    </a:lnTo>
                    <a:lnTo>
                      <a:pt x="14" y="9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34" y="12"/>
                    </a:lnTo>
                    <a:lnTo>
                      <a:pt x="50" y="17"/>
                    </a:lnTo>
                    <a:lnTo>
                      <a:pt x="65" y="23"/>
                    </a:lnTo>
                    <a:lnTo>
                      <a:pt x="81" y="30"/>
                    </a:lnTo>
                    <a:lnTo>
                      <a:pt x="98" y="36"/>
                    </a:lnTo>
                    <a:lnTo>
                      <a:pt x="115" y="42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918120" y="5853240"/>
                <a:ext cx="282240" cy="123840"/>
              </a:xfrm>
              <a:custGeom>
                <a:avLst/>
                <a:gdLst/>
                <a:ahLst/>
                <a:rect l="l" t="t" r="r" b="b"/>
                <a:pathLst>
                  <a:path w="357" h="156">
                    <a:moveTo>
                      <a:pt x="352" y="38"/>
                    </a:moveTo>
                    <a:lnTo>
                      <a:pt x="357" y="64"/>
                    </a:lnTo>
                    <a:lnTo>
                      <a:pt x="351" y="89"/>
                    </a:lnTo>
                    <a:lnTo>
                      <a:pt x="341" y="117"/>
                    </a:lnTo>
                    <a:lnTo>
                      <a:pt x="334" y="144"/>
                    </a:lnTo>
                    <a:lnTo>
                      <a:pt x="314" y="156"/>
                    </a:lnTo>
                    <a:lnTo>
                      <a:pt x="294" y="155"/>
                    </a:lnTo>
                    <a:lnTo>
                      <a:pt x="274" y="154"/>
                    </a:lnTo>
                    <a:lnTo>
                      <a:pt x="254" y="152"/>
                    </a:lnTo>
                    <a:lnTo>
                      <a:pt x="234" y="149"/>
                    </a:lnTo>
                    <a:lnTo>
                      <a:pt x="213" y="148"/>
                    </a:lnTo>
                    <a:lnTo>
                      <a:pt x="193" y="145"/>
                    </a:lnTo>
                    <a:lnTo>
                      <a:pt x="173" y="142"/>
                    </a:lnTo>
                    <a:lnTo>
                      <a:pt x="153" y="139"/>
                    </a:lnTo>
                    <a:lnTo>
                      <a:pt x="133" y="137"/>
                    </a:lnTo>
                    <a:lnTo>
                      <a:pt x="113" y="134"/>
                    </a:lnTo>
                    <a:lnTo>
                      <a:pt x="93" y="131"/>
                    </a:lnTo>
                    <a:lnTo>
                      <a:pt x="73" y="128"/>
                    </a:lnTo>
                    <a:lnTo>
                      <a:pt x="54" y="124"/>
                    </a:lnTo>
                    <a:lnTo>
                      <a:pt x="36" y="121"/>
                    </a:lnTo>
                    <a:lnTo>
                      <a:pt x="17" y="118"/>
                    </a:lnTo>
                    <a:lnTo>
                      <a:pt x="0" y="115"/>
                    </a:lnTo>
                    <a:lnTo>
                      <a:pt x="6" y="85"/>
                    </a:lnTo>
                    <a:lnTo>
                      <a:pt x="13" y="55"/>
                    </a:lnTo>
                    <a:lnTo>
                      <a:pt x="21" y="27"/>
                    </a:lnTo>
                    <a:lnTo>
                      <a:pt x="33" y="0"/>
                    </a:lnTo>
                    <a:lnTo>
                      <a:pt x="53" y="1"/>
                    </a:lnTo>
                    <a:lnTo>
                      <a:pt x="73" y="2"/>
                    </a:lnTo>
                    <a:lnTo>
                      <a:pt x="93" y="5"/>
                    </a:lnTo>
                    <a:lnTo>
                      <a:pt x="113" y="8"/>
                    </a:lnTo>
                    <a:lnTo>
                      <a:pt x="133" y="10"/>
                    </a:lnTo>
                    <a:lnTo>
                      <a:pt x="153" y="12"/>
                    </a:lnTo>
                    <a:lnTo>
                      <a:pt x="174" y="15"/>
                    </a:lnTo>
                    <a:lnTo>
                      <a:pt x="194" y="18"/>
                    </a:lnTo>
                    <a:lnTo>
                      <a:pt x="214" y="22"/>
                    </a:lnTo>
                    <a:lnTo>
                      <a:pt x="234" y="25"/>
                    </a:lnTo>
                    <a:lnTo>
                      <a:pt x="254" y="28"/>
                    </a:lnTo>
                    <a:lnTo>
                      <a:pt x="274" y="29"/>
                    </a:lnTo>
                    <a:lnTo>
                      <a:pt x="294" y="32"/>
                    </a:lnTo>
                    <a:lnTo>
                      <a:pt x="314" y="35"/>
                    </a:lnTo>
                    <a:lnTo>
                      <a:pt x="332" y="37"/>
                    </a:lnTo>
                    <a:lnTo>
                      <a:pt x="352" y="38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6636600" y="5862600"/>
                <a:ext cx="350280" cy="368280"/>
              </a:xfrm>
              <a:custGeom>
                <a:avLst/>
                <a:gdLst/>
                <a:ahLst/>
                <a:rect l="l" t="t" r="r" b="b"/>
                <a:pathLst>
                  <a:path w="443" h="464">
                    <a:moveTo>
                      <a:pt x="415" y="33"/>
                    </a:moveTo>
                    <a:lnTo>
                      <a:pt x="393" y="16"/>
                    </a:lnTo>
                    <a:lnTo>
                      <a:pt x="371" y="5"/>
                    </a:lnTo>
                    <a:lnTo>
                      <a:pt x="351" y="0"/>
                    </a:lnTo>
                    <a:lnTo>
                      <a:pt x="333" y="0"/>
                    </a:lnTo>
                    <a:lnTo>
                      <a:pt x="316" y="6"/>
                    </a:lnTo>
                    <a:lnTo>
                      <a:pt x="298" y="15"/>
                    </a:lnTo>
                    <a:lnTo>
                      <a:pt x="284" y="27"/>
                    </a:lnTo>
                    <a:lnTo>
                      <a:pt x="270" y="43"/>
                    </a:lnTo>
                    <a:lnTo>
                      <a:pt x="256" y="60"/>
                    </a:lnTo>
                    <a:lnTo>
                      <a:pt x="243" y="77"/>
                    </a:lnTo>
                    <a:lnTo>
                      <a:pt x="230" y="96"/>
                    </a:lnTo>
                    <a:lnTo>
                      <a:pt x="217" y="115"/>
                    </a:lnTo>
                    <a:lnTo>
                      <a:pt x="206" y="133"/>
                    </a:lnTo>
                    <a:lnTo>
                      <a:pt x="194" y="149"/>
                    </a:lnTo>
                    <a:lnTo>
                      <a:pt x="181" y="162"/>
                    </a:lnTo>
                    <a:lnTo>
                      <a:pt x="170" y="173"/>
                    </a:lnTo>
                    <a:lnTo>
                      <a:pt x="170" y="192"/>
                    </a:lnTo>
                    <a:lnTo>
                      <a:pt x="171" y="212"/>
                    </a:lnTo>
                    <a:lnTo>
                      <a:pt x="174" y="230"/>
                    </a:lnTo>
                    <a:lnTo>
                      <a:pt x="179" y="249"/>
                    </a:lnTo>
                    <a:lnTo>
                      <a:pt x="184" y="267"/>
                    </a:lnTo>
                    <a:lnTo>
                      <a:pt x="193" y="286"/>
                    </a:lnTo>
                    <a:lnTo>
                      <a:pt x="201" y="303"/>
                    </a:lnTo>
                    <a:lnTo>
                      <a:pt x="214" y="320"/>
                    </a:lnTo>
                    <a:lnTo>
                      <a:pt x="227" y="320"/>
                    </a:lnTo>
                    <a:lnTo>
                      <a:pt x="239" y="323"/>
                    </a:lnTo>
                    <a:lnTo>
                      <a:pt x="249" y="329"/>
                    </a:lnTo>
                    <a:lnTo>
                      <a:pt x="253" y="337"/>
                    </a:lnTo>
                    <a:lnTo>
                      <a:pt x="247" y="343"/>
                    </a:lnTo>
                    <a:lnTo>
                      <a:pt x="239" y="347"/>
                    </a:lnTo>
                    <a:lnTo>
                      <a:pt x="230" y="350"/>
                    </a:lnTo>
                    <a:lnTo>
                      <a:pt x="219" y="350"/>
                    </a:lnTo>
                    <a:lnTo>
                      <a:pt x="199" y="346"/>
                    </a:lnTo>
                    <a:lnTo>
                      <a:pt x="181" y="339"/>
                    </a:lnTo>
                    <a:lnTo>
                      <a:pt x="167" y="329"/>
                    </a:lnTo>
                    <a:lnTo>
                      <a:pt x="157" y="314"/>
                    </a:lnTo>
                    <a:lnTo>
                      <a:pt x="147" y="300"/>
                    </a:lnTo>
                    <a:lnTo>
                      <a:pt x="140" y="284"/>
                    </a:lnTo>
                    <a:lnTo>
                      <a:pt x="134" y="267"/>
                    </a:lnTo>
                    <a:lnTo>
                      <a:pt x="129" y="250"/>
                    </a:lnTo>
                    <a:lnTo>
                      <a:pt x="120" y="246"/>
                    </a:lnTo>
                    <a:lnTo>
                      <a:pt x="110" y="244"/>
                    </a:lnTo>
                    <a:lnTo>
                      <a:pt x="102" y="244"/>
                    </a:lnTo>
                    <a:lnTo>
                      <a:pt x="93" y="247"/>
                    </a:lnTo>
                    <a:lnTo>
                      <a:pt x="86" y="252"/>
                    </a:lnTo>
                    <a:lnTo>
                      <a:pt x="77" y="256"/>
                    </a:lnTo>
                    <a:lnTo>
                      <a:pt x="69" y="260"/>
                    </a:lnTo>
                    <a:lnTo>
                      <a:pt x="62" y="266"/>
                    </a:lnTo>
                    <a:lnTo>
                      <a:pt x="49" y="279"/>
                    </a:lnTo>
                    <a:lnTo>
                      <a:pt x="34" y="294"/>
                    </a:lnTo>
                    <a:lnTo>
                      <a:pt x="23" y="310"/>
                    </a:lnTo>
                    <a:lnTo>
                      <a:pt x="12" y="329"/>
                    </a:lnTo>
                    <a:lnTo>
                      <a:pt x="4" y="347"/>
                    </a:lnTo>
                    <a:lnTo>
                      <a:pt x="0" y="367"/>
                    </a:lnTo>
                    <a:lnTo>
                      <a:pt x="0" y="387"/>
                    </a:lnTo>
                    <a:lnTo>
                      <a:pt x="7" y="407"/>
                    </a:lnTo>
                    <a:lnTo>
                      <a:pt x="29" y="423"/>
                    </a:lnTo>
                    <a:lnTo>
                      <a:pt x="53" y="437"/>
                    </a:lnTo>
                    <a:lnTo>
                      <a:pt x="79" y="448"/>
                    </a:lnTo>
                    <a:lnTo>
                      <a:pt x="107" y="457"/>
                    </a:lnTo>
                    <a:lnTo>
                      <a:pt x="136" y="463"/>
                    </a:lnTo>
                    <a:lnTo>
                      <a:pt x="164" y="464"/>
                    </a:lnTo>
                    <a:lnTo>
                      <a:pt x="191" y="461"/>
                    </a:lnTo>
                    <a:lnTo>
                      <a:pt x="219" y="454"/>
                    </a:lnTo>
                    <a:lnTo>
                      <a:pt x="231" y="447"/>
                    </a:lnTo>
                    <a:lnTo>
                      <a:pt x="246" y="441"/>
                    </a:lnTo>
                    <a:lnTo>
                      <a:pt x="259" y="436"/>
                    </a:lnTo>
                    <a:lnTo>
                      <a:pt x="271" y="430"/>
                    </a:lnTo>
                    <a:lnTo>
                      <a:pt x="284" y="426"/>
                    </a:lnTo>
                    <a:lnTo>
                      <a:pt x="297" y="420"/>
                    </a:lnTo>
                    <a:lnTo>
                      <a:pt x="310" y="416"/>
                    </a:lnTo>
                    <a:lnTo>
                      <a:pt x="323" y="411"/>
                    </a:lnTo>
                    <a:lnTo>
                      <a:pt x="344" y="380"/>
                    </a:lnTo>
                    <a:lnTo>
                      <a:pt x="366" y="346"/>
                    </a:lnTo>
                    <a:lnTo>
                      <a:pt x="386" y="309"/>
                    </a:lnTo>
                    <a:lnTo>
                      <a:pt x="404" y="270"/>
                    </a:lnTo>
                    <a:lnTo>
                      <a:pt x="420" y="229"/>
                    </a:lnTo>
                    <a:lnTo>
                      <a:pt x="431" y="186"/>
                    </a:lnTo>
                    <a:lnTo>
                      <a:pt x="440" y="143"/>
                    </a:lnTo>
                    <a:lnTo>
                      <a:pt x="443" y="100"/>
                    </a:lnTo>
                    <a:lnTo>
                      <a:pt x="415" y="33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6190200" y="5896080"/>
                <a:ext cx="441000" cy="187200"/>
              </a:xfrm>
              <a:custGeom>
                <a:avLst/>
                <a:gdLst/>
                <a:ahLst/>
                <a:rect l="l" t="t" r="r" b="b"/>
                <a:pathLst>
                  <a:path w="557" h="235">
                    <a:moveTo>
                      <a:pt x="33" y="234"/>
                    </a:moveTo>
                    <a:lnTo>
                      <a:pt x="62" y="232"/>
                    </a:lnTo>
                    <a:lnTo>
                      <a:pt x="90" y="231"/>
                    </a:lnTo>
                    <a:lnTo>
                      <a:pt x="120" y="229"/>
                    </a:lnTo>
                    <a:lnTo>
                      <a:pt x="150" y="228"/>
                    </a:lnTo>
                    <a:lnTo>
                      <a:pt x="180" y="227"/>
                    </a:lnTo>
                    <a:lnTo>
                      <a:pt x="212" y="224"/>
                    </a:lnTo>
                    <a:lnTo>
                      <a:pt x="243" y="222"/>
                    </a:lnTo>
                    <a:lnTo>
                      <a:pt x="274" y="219"/>
                    </a:lnTo>
                    <a:lnTo>
                      <a:pt x="306" y="217"/>
                    </a:lnTo>
                    <a:lnTo>
                      <a:pt x="337" y="212"/>
                    </a:lnTo>
                    <a:lnTo>
                      <a:pt x="369" y="210"/>
                    </a:lnTo>
                    <a:lnTo>
                      <a:pt x="398" y="204"/>
                    </a:lnTo>
                    <a:lnTo>
                      <a:pt x="428" y="200"/>
                    </a:lnTo>
                    <a:lnTo>
                      <a:pt x="458" y="194"/>
                    </a:lnTo>
                    <a:lnTo>
                      <a:pt x="487" y="187"/>
                    </a:lnTo>
                    <a:lnTo>
                      <a:pt x="515" y="180"/>
                    </a:lnTo>
                    <a:lnTo>
                      <a:pt x="530" y="147"/>
                    </a:lnTo>
                    <a:lnTo>
                      <a:pt x="543" y="114"/>
                    </a:lnTo>
                    <a:lnTo>
                      <a:pt x="553" y="81"/>
                    </a:lnTo>
                    <a:lnTo>
                      <a:pt x="557" y="45"/>
                    </a:lnTo>
                    <a:lnTo>
                      <a:pt x="540" y="40"/>
                    </a:lnTo>
                    <a:lnTo>
                      <a:pt x="523" y="35"/>
                    </a:lnTo>
                    <a:lnTo>
                      <a:pt x="503" y="33"/>
                    </a:lnTo>
                    <a:lnTo>
                      <a:pt x="483" y="31"/>
                    </a:lnTo>
                    <a:lnTo>
                      <a:pt x="461" y="30"/>
                    </a:lnTo>
                    <a:lnTo>
                      <a:pt x="440" y="30"/>
                    </a:lnTo>
                    <a:lnTo>
                      <a:pt x="420" y="30"/>
                    </a:lnTo>
                    <a:lnTo>
                      <a:pt x="400" y="28"/>
                    </a:lnTo>
                    <a:lnTo>
                      <a:pt x="386" y="40"/>
                    </a:lnTo>
                    <a:lnTo>
                      <a:pt x="371" y="54"/>
                    </a:lnTo>
                    <a:lnTo>
                      <a:pt x="359" y="70"/>
                    </a:lnTo>
                    <a:lnTo>
                      <a:pt x="347" y="85"/>
                    </a:lnTo>
                    <a:lnTo>
                      <a:pt x="337" y="102"/>
                    </a:lnTo>
                    <a:lnTo>
                      <a:pt x="329" y="120"/>
                    </a:lnTo>
                    <a:lnTo>
                      <a:pt x="321" y="137"/>
                    </a:lnTo>
                    <a:lnTo>
                      <a:pt x="314" y="154"/>
                    </a:lnTo>
                    <a:lnTo>
                      <a:pt x="309" y="164"/>
                    </a:lnTo>
                    <a:lnTo>
                      <a:pt x="303" y="168"/>
                    </a:lnTo>
                    <a:lnTo>
                      <a:pt x="300" y="172"/>
                    </a:lnTo>
                    <a:lnTo>
                      <a:pt x="307" y="182"/>
                    </a:lnTo>
                    <a:lnTo>
                      <a:pt x="300" y="188"/>
                    </a:lnTo>
                    <a:lnTo>
                      <a:pt x="294" y="190"/>
                    </a:lnTo>
                    <a:lnTo>
                      <a:pt x="289" y="187"/>
                    </a:lnTo>
                    <a:lnTo>
                      <a:pt x="284" y="182"/>
                    </a:lnTo>
                    <a:lnTo>
                      <a:pt x="293" y="171"/>
                    </a:lnTo>
                    <a:lnTo>
                      <a:pt x="294" y="154"/>
                    </a:lnTo>
                    <a:lnTo>
                      <a:pt x="294" y="137"/>
                    </a:lnTo>
                    <a:lnTo>
                      <a:pt x="299" y="121"/>
                    </a:lnTo>
                    <a:lnTo>
                      <a:pt x="306" y="108"/>
                    </a:lnTo>
                    <a:lnTo>
                      <a:pt x="313" y="95"/>
                    </a:lnTo>
                    <a:lnTo>
                      <a:pt x="320" y="83"/>
                    </a:lnTo>
                    <a:lnTo>
                      <a:pt x="327" y="71"/>
                    </a:lnTo>
                    <a:lnTo>
                      <a:pt x="334" y="60"/>
                    </a:lnTo>
                    <a:lnTo>
                      <a:pt x="341" y="48"/>
                    </a:lnTo>
                    <a:lnTo>
                      <a:pt x="350" y="37"/>
                    </a:lnTo>
                    <a:lnTo>
                      <a:pt x="359" y="25"/>
                    </a:lnTo>
                    <a:lnTo>
                      <a:pt x="222" y="15"/>
                    </a:lnTo>
                    <a:lnTo>
                      <a:pt x="167" y="110"/>
                    </a:lnTo>
                    <a:lnTo>
                      <a:pt x="162" y="127"/>
                    </a:lnTo>
                    <a:lnTo>
                      <a:pt x="159" y="147"/>
                    </a:lnTo>
                    <a:lnTo>
                      <a:pt x="153" y="162"/>
                    </a:lnTo>
                    <a:lnTo>
                      <a:pt x="137" y="162"/>
                    </a:lnTo>
                    <a:lnTo>
                      <a:pt x="139" y="141"/>
                    </a:lnTo>
                    <a:lnTo>
                      <a:pt x="143" y="121"/>
                    </a:lnTo>
                    <a:lnTo>
                      <a:pt x="147" y="102"/>
                    </a:lnTo>
                    <a:lnTo>
                      <a:pt x="154" y="85"/>
                    </a:lnTo>
                    <a:lnTo>
                      <a:pt x="162" y="68"/>
                    </a:lnTo>
                    <a:lnTo>
                      <a:pt x="170" y="51"/>
                    </a:lnTo>
                    <a:lnTo>
                      <a:pt x="179" y="34"/>
                    </a:lnTo>
                    <a:lnTo>
                      <a:pt x="189" y="17"/>
                    </a:lnTo>
                    <a:lnTo>
                      <a:pt x="184" y="8"/>
                    </a:lnTo>
                    <a:lnTo>
                      <a:pt x="174" y="5"/>
                    </a:lnTo>
                    <a:lnTo>
                      <a:pt x="164" y="5"/>
                    </a:lnTo>
                    <a:lnTo>
                      <a:pt x="154" y="3"/>
                    </a:lnTo>
                    <a:lnTo>
                      <a:pt x="136" y="3"/>
                    </a:lnTo>
                    <a:lnTo>
                      <a:pt x="124" y="8"/>
                    </a:lnTo>
                    <a:lnTo>
                      <a:pt x="119" y="20"/>
                    </a:lnTo>
                    <a:lnTo>
                      <a:pt x="116" y="34"/>
                    </a:lnTo>
                    <a:lnTo>
                      <a:pt x="114" y="50"/>
                    </a:lnTo>
                    <a:lnTo>
                      <a:pt x="113" y="67"/>
                    </a:lnTo>
                    <a:lnTo>
                      <a:pt x="112" y="84"/>
                    </a:lnTo>
                    <a:lnTo>
                      <a:pt x="106" y="100"/>
                    </a:lnTo>
                    <a:lnTo>
                      <a:pt x="102" y="127"/>
                    </a:lnTo>
                    <a:lnTo>
                      <a:pt x="104" y="157"/>
                    </a:lnTo>
                    <a:lnTo>
                      <a:pt x="100" y="184"/>
                    </a:lnTo>
                    <a:lnTo>
                      <a:pt x="80" y="198"/>
                    </a:lnTo>
                    <a:lnTo>
                      <a:pt x="75" y="197"/>
                    </a:lnTo>
                    <a:lnTo>
                      <a:pt x="72" y="191"/>
                    </a:lnTo>
                    <a:lnTo>
                      <a:pt x="70" y="185"/>
                    </a:lnTo>
                    <a:lnTo>
                      <a:pt x="67" y="180"/>
                    </a:lnTo>
                    <a:lnTo>
                      <a:pt x="77" y="135"/>
                    </a:lnTo>
                    <a:lnTo>
                      <a:pt x="89" y="90"/>
                    </a:lnTo>
                    <a:lnTo>
                      <a:pt x="97" y="45"/>
                    </a:lnTo>
                    <a:lnTo>
                      <a:pt x="96" y="3"/>
                    </a:lnTo>
                    <a:lnTo>
                      <a:pt x="87" y="1"/>
                    </a:lnTo>
                    <a:lnTo>
                      <a:pt x="77" y="1"/>
                    </a:lnTo>
                    <a:lnTo>
                      <a:pt x="67" y="1"/>
                    </a:lnTo>
                    <a:lnTo>
                      <a:pt x="56" y="0"/>
                    </a:lnTo>
                    <a:lnTo>
                      <a:pt x="46" y="1"/>
                    </a:lnTo>
                    <a:lnTo>
                      <a:pt x="36" y="1"/>
                    </a:lnTo>
                    <a:lnTo>
                      <a:pt x="27" y="1"/>
                    </a:lnTo>
                    <a:lnTo>
                      <a:pt x="19" y="3"/>
                    </a:lnTo>
                    <a:lnTo>
                      <a:pt x="27" y="33"/>
                    </a:lnTo>
                    <a:lnTo>
                      <a:pt x="32" y="63"/>
                    </a:lnTo>
                    <a:lnTo>
                      <a:pt x="32" y="90"/>
                    </a:lnTo>
                    <a:lnTo>
                      <a:pt x="30" y="118"/>
                    </a:lnTo>
                    <a:lnTo>
                      <a:pt x="25" y="145"/>
                    </a:lnTo>
                    <a:lnTo>
                      <a:pt x="19" y="174"/>
                    </a:lnTo>
                    <a:lnTo>
                      <a:pt x="10" y="204"/>
                    </a:lnTo>
                    <a:lnTo>
                      <a:pt x="0" y="235"/>
                    </a:lnTo>
                    <a:lnTo>
                      <a:pt x="10" y="235"/>
                    </a:lnTo>
                    <a:lnTo>
                      <a:pt x="19" y="235"/>
                    </a:lnTo>
                    <a:lnTo>
                      <a:pt x="27" y="235"/>
                    </a:lnTo>
                    <a:lnTo>
                      <a:pt x="33" y="2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758640" y="5931000"/>
                <a:ext cx="63000" cy="128520"/>
              </a:xfrm>
              <a:custGeom>
                <a:avLst/>
                <a:gdLst/>
                <a:ahLst/>
                <a:rect l="l" t="t" r="r" b="b"/>
                <a:pathLst>
                  <a:path w="80" h="161">
                    <a:moveTo>
                      <a:pt x="71" y="20"/>
                    </a:moveTo>
                    <a:lnTo>
                      <a:pt x="56" y="37"/>
                    </a:lnTo>
                    <a:lnTo>
                      <a:pt x="46" y="57"/>
                    </a:lnTo>
                    <a:lnTo>
                      <a:pt x="43" y="81"/>
                    </a:lnTo>
                    <a:lnTo>
                      <a:pt x="46" y="107"/>
                    </a:lnTo>
                    <a:lnTo>
                      <a:pt x="71" y="141"/>
                    </a:lnTo>
                    <a:lnTo>
                      <a:pt x="66" y="144"/>
                    </a:lnTo>
                    <a:lnTo>
                      <a:pt x="60" y="148"/>
                    </a:lnTo>
                    <a:lnTo>
                      <a:pt x="54" y="153"/>
                    </a:lnTo>
                    <a:lnTo>
                      <a:pt x="47" y="157"/>
                    </a:lnTo>
                    <a:lnTo>
                      <a:pt x="40" y="160"/>
                    </a:lnTo>
                    <a:lnTo>
                      <a:pt x="33" y="161"/>
                    </a:lnTo>
                    <a:lnTo>
                      <a:pt x="26" y="161"/>
                    </a:lnTo>
                    <a:lnTo>
                      <a:pt x="20" y="157"/>
                    </a:lnTo>
                    <a:lnTo>
                      <a:pt x="12" y="140"/>
                    </a:lnTo>
                    <a:lnTo>
                      <a:pt x="3" y="120"/>
                    </a:lnTo>
                    <a:lnTo>
                      <a:pt x="0" y="101"/>
                    </a:lnTo>
                    <a:lnTo>
                      <a:pt x="12" y="87"/>
                    </a:lnTo>
                    <a:lnTo>
                      <a:pt x="24" y="78"/>
                    </a:lnTo>
                    <a:lnTo>
                      <a:pt x="33" y="67"/>
                    </a:lnTo>
                    <a:lnTo>
                      <a:pt x="37" y="54"/>
                    </a:lnTo>
                    <a:lnTo>
                      <a:pt x="42" y="41"/>
                    </a:lnTo>
                    <a:lnTo>
                      <a:pt x="46" y="29"/>
                    </a:lnTo>
                    <a:lnTo>
                      <a:pt x="52" y="16"/>
                    </a:lnTo>
                    <a:lnTo>
                      <a:pt x="60" y="7"/>
                    </a:lnTo>
                    <a:lnTo>
                      <a:pt x="71" y="0"/>
                    </a:lnTo>
                    <a:lnTo>
                      <a:pt x="80" y="4"/>
                    </a:lnTo>
                    <a:lnTo>
                      <a:pt x="80" y="9"/>
                    </a:lnTo>
                    <a:lnTo>
                      <a:pt x="77" y="14"/>
                    </a:lnTo>
                    <a:lnTo>
                      <a:pt x="71" y="20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5957280" y="5951520"/>
                <a:ext cx="176040" cy="225360"/>
              </a:xfrm>
              <a:custGeom>
                <a:avLst/>
                <a:gdLst/>
                <a:ahLst/>
                <a:rect l="l" t="t" r="r" b="b"/>
                <a:pathLst>
                  <a:path w="221" h="284">
                    <a:moveTo>
                      <a:pt x="221" y="77"/>
                    </a:moveTo>
                    <a:lnTo>
                      <a:pt x="217" y="94"/>
                    </a:lnTo>
                    <a:lnTo>
                      <a:pt x="210" y="111"/>
                    </a:lnTo>
                    <a:lnTo>
                      <a:pt x="206" y="128"/>
                    </a:lnTo>
                    <a:lnTo>
                      <a:pt x="211" y="145"/>
                    </a:lnTo>
                    <a:lnTo>
                      <a:pt x="216" y="159"/>
                    </a:lnTo>
                    <a:lnTo>
                      <a:pt x="216" y="174"/>
                    </a:lnTo>
                    <a:lnTo>
                      <a:pt x="213" y="185"/>
                    </a:lnTo>
                    <a:lnTo>
                      <a:pt x="207" y="197"/>
                    </a:lnTo>
                    <a:lnTo>
                      <a:pt x="200" y="207"/>
                    </a:lnTo>
                    <a:lnTo>
                      <a:pt x="190" y="217"/>
                    </a:lnTo>
                    <a:lnTo>
                      <a:pt x="181" y="225"/>
                    </a:lnTo>
                    <a:lnTo>
                      <a:pt x="173" y="234"/>
                    </a:lnTo>
                    <a:lnTo>
                      <a:pt x="156" y="241"/>
                    </a:lnTo>
                    <a:lnTo>
                      <a:pt x="140" y="249"/>
                    </a:lnTo>
                    <a:lnTo>
                      <a:pt x="124" y="259"/>
                    </a:lnTo>
                    <a:lnTo>
                      <a:pt x="110" y="269"/>
                    </a:lnTo>
                    <a:lnTo>
                      <a:pt x="94" y="278"/>
                    </a:lnTo>
                    <a:lnTo>
                      <a:pt x="77" y="284"/>
                    </a:lnTo>
                    <a:lnTo>
                      <a:pt x="59" y="284"/>
                    </a:lnTo>
                    <a:lnTo>
                      <a:pt x="37" y="279"/>
                    </a:lnTo>
                    <a:lnTo>
                      <a:pt x="30" y="275"/>
                    </a:lnTo>
                    <a:lnTo>
                      <a:pt x="23" y="269"/>
                    </a:lnTo>
                    <a:lnTo>
                      <a:pt x="16" y="265"/>
                    </a:lnTo>
                    <a:lnTo>
                      <a:pt x="10" y="259"/>
                    </a:lnTo>
                    <a:lnTo>
                      <a:pt x="5" y="254"/>
                    </a:lnTo>
                    <a:lnTo>
                      <a:pt x="0" y="248"/>
                    </a:lnTo>
                    <a:lnTo>
                      <a:pt x="0" y="239"/>
                    </a:lnTo>
                    <a:lnTo>
                      <a:pt x="3" y="231"/>
                    </a:lnTo>
                    <a:lnTo>
                      <a:pt x="10" y="239"/>
                    </a:lnTo>
                    <a:lnTo>
                      <a:pt x="19" y="245"/>
                    </a:lnTo>
                    <a:lnTo>
                      <a:pt x="30" y="251"/>
                    </a:lnTo>
                    <a:lnTo>
                      <a:pt x="42" y="254"/>
                    </a:lnTo>
                    <a:lnTo>
                      <a:pt x="54" y="255"/>
                    </a:lnTo>
                    <a:lnTo>
                      <a:pt x="67" y="255"/>
                    </a:lnTo>
                    <a:lnTo>
                      <a:pt x="79" y="252"/>
                    </a:lnTo>
                    <a:lnTo>
                      <a:pt x="89" y="247"/>
                    </a:lnTo>
                    <a:lnTo>
                      <a:pt x="100" y="239"/>
                    </a:lnTo>
                    <a:lnTo>
                      <a:pt x="109" y="232"/>
                    </a:lnTo>
                    <a:lnTo>
                      <a:pt x="117" y="224"/>
                    </a:lnTo>
                    <a:lnTo>
                      <a:pt x="124" y="215"/>
                    </a:lnTo>
                    <a:lnTo>
                      <a:pt x="114" y="202"/>
                    </a:lnTo>
                    <a:lnTo>
                      <a:pt x="116" y="202"/>
                    </a:lnTo>
                    <a:lnTo>
                      <a:pt x="116" y="184"/>
                    </a:lnTo>
                    <a:lnTo>
                      <a:pt x="140" y="187"/>
                    </a:lnTo>
                    <a:lnTo>
                      <a:pt x="140" y="202"/>
                    </a:lnTo>
                    <a:lnTo>
                      <a:pt x="149" y="205"/>
                    </a:lnTo>
                    <a:lnTo>
                      <a:pt x="156" y="205"/>
                    </a:lnTo>
                    <a:lnTo>
                      <a:pt x="163" y="204"/>
                    </a:lnTo>
                    <a:lnTo>
                      <a:pt x="169" y="198"/>
                    </a:lnTo>
                    <a:lnTo>
                      <a:pt x="174" y="194"/>
                    </a:lnTo>
                    <a:lnTo>
                      <a:pt x="180" y="187"/>
                    </a:lnTo>
                    <a:lnTo>
                      <a:pt x="184" y="179"/>
                    </a:lnTo>
                    <a:lnTo>
                      <a:pt x="189" y="174"/>
                    </a:lnTo>
                    <a:lnTo>
                      <a:pt x="189" y="164"/>
                    </a:lnTo>
                    <a:lnTo>
                      <a:pt x="189" y="152"/>
                    </a:lnTo>
                    <a:lnTo>
                      <a:pt x="187" y="142"/>
                    </a:lnTo>
                    <a:lnTo>
                      <a:pt x="179" y="138"/>
                    </a:lnTo>
                    <a:lnTo>
                      <a:pt x="183" y="121"/>
                    </a:lnTo>
                    <a:lnTo>
                      <a:pt x="187" y="101"/>
                    </a:lnTo>
                    <a:lnTo>
                      <a:pt x="186" y="81"/>
                    </a:lnTo>
                    <a:lnTo>
                      <a:pt x="179" y="65"/>
                    </a:lnTo>
                    <a:lnTo>
                      <a:pt x="174" y="61"/>
                    </a:lnTo>
                    <a:lnTo>
                      <a:pt x="170" y="58"/>
                    </a:lnTo>
                    <a:lnTo>
                      <a:pt x="164" y="55"/>
                    </a:lnTo>
                    <a:lnTo>
                      <a:pt x="159" y="54"/>
                    </a:lnTo>
                    <a:lnTo>
                      <a:pt x="153" y="54"/>
                    </a:lnTo>
                    <a:lnTo>
                      <a:pt x="147" y="54"/>
                    </a:lnTo>
                    <a:lnTo>
                      <a:pt x="140" y="54"/>
                    </a:lnTo>
                    <a:lnTo>
                      <a:pt x="134" y="55"/>
                    </a:lnTo>
                    <a:lnTo>
                      <a:pt x="133" y="61"/>
                    </a:lnTo>
                    <a:lnTo>
                      <a:pt x="132" y="67"/>
                    </a:lnTo>
                    <a:lnTo>
                      <a:pt x="129" y="72"/>
                    </a:lnTo>
                    <a:lnTo>
                      <a:pt x="129" y="80"/>
                    </a:lnTo>
                    <a:lnTo>
                      <a:pt x="117" y="78"/>
                    </a:lnTo>
                    <a:lnTo>
                      <a:pt x="113" y="70"/>
                    </a:lnTo>
                    <a:lnTo>
                      <a:pt x="114" y="60"/>
                    </a:lnTo>
                    <a:lnTo>
                      <a:pt x="114" y="48"/>
                    </a:lnTo>
                    <a:lnTo>
                      <a:pt x="102" y="41"/>
                    </a:lnTo>
                    <a:lnTo>
                      <a:pt x="89" y="35"/>
                    </a:lnTo>
                    <a:lnTo>
                      <a:pt x="74" y="32"/>
                    </a:lnTo>
                    <a:lnTo>
                      <a:pt x="60" y="30"/>
                    </a:lnTo>
                    <a:lnTo>
                      <a:pt x="44" y="30"/>
                    </a:lnTo>
                    <a:lnTo>
                      <a:pt x="29" y="31"/>
                    </a:lnTo>
                    <a:lnTo>
                      <a:pt x="15" y="34"/>
                    </a:lnTo>
                    <a:lnTo>
                      <a:pt x="0" y="38"/>
                    </a:lnTo>
                    <a:lnTo>
                      <a:pt x="3" y="28"/>
                    </a:lnTo>
                    <a:lnTo>
                      <a:pt x="7" y="21"/>
                    </a:lnTo>
                    <a:lnTo>
                      <a:pt x="13" y="17"/>
                    </a:lnTo>
                    <a:lnTo>
                      <a:pt x="22" y="13"/>
                    </a:lnTo>
                    <a:lnTo>
                      <a:pt x="30" y="8"/>
                    </a:lnTo>
                    <a:lnTo>
                      <a:pt x="39" y="5"/>
                    </a:lnTo>
                    <a:lnTo>
                      <a:pt x="49" y="3"/>
                    </a:lnTo>
                    <a:lnTo>
                      <a:pt x="57" y="0"/>
                    </a:lnTo>
                    <a:lnTo>
                      <a:pt x="80" y="8"/>
                    </a:lnTo>
                    <a:lnTo>
                      <a:pt x="104" y="14"/>
                    </a:lnTo>
                    <a:lnTo>
                      <a:pt x="129" y="20"/>
                    </a:lnTo>
                    <a:lnTo>
                      <a:pt x="153" y="25"/>
                    </a:lnTo>
                    <a:lnTo>
                      <a:pt x="174" y="32"/>
                    </a:lnTo>
                    <a:lnTo>
                      <a:pt x="194" y="42"/>
                    </a:lnTo>
                    <a:lnTo>
                      <a:pt x="210" y="57"/>
                    </a:lnTo>
                    <a:lnTo>
                      <a:pt x="221" y="77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7548480" y="6010200"/>
                <a:ext cx="191520" cy="61920"/>
              </a:xfrm>
              <a:custGeom>
                <a:avLst/>
                <a:gdLst/>
                <a:ahLst/>
                <a:rect l="l" t="t" r="r" b="b"/>
                <a:pathLst>
                  <a:path w="243" h="78">
                    <a:moveTo>
                      <a:pt x="243" y="64"/>
                    </a:moveTo>
                    <a:lnTo>
                      <a:pt x="226" y="73"/>
                    </a:lnTo>
                    <a:lnTo>
                      <a:pt x="204" y="77"/>
                    </a:lnTo>
                    <a:lnTo>
                      <a:pt x="180" y="78"/>
                    </a:lnTo>
                    <a:lnTo>
                      <a:pt x="154" y="78"/>
                    </a:lnTo>
                    <a:lnTo>
                      <a:pt x="129" y="74"/>
                    </a:lnTo>
                    <a:lnTo>
                      <a:pt x="103" y="68"/>
                    </a:lnTo>
                    <a:lnTo>
                      <a:pt x="79" y="61"/>
                    </a:lnTo>
                    <a:lnTo>
                      <a:pt x="57" y="51"/>
                    </a:lnTo>
                    <a:lnTo>
                      <a:pt x="52" y="46"/>
                    </a:lnTo>
                    <a:lnTo>
                      <a:pt x="44" y="41"/>
                    </a:lnTo>
                    <a:lnTo>
                      <a:pt x="36" y="37"/>
                    </a:lnTo>
                    <a:lnTo>
                      <a:pt x="29" y="33"/>
                    </a:lnTo>
                    <a:lnTo>
                      <a:pt x="22" y="28"/>
                    </a:lnTo>
                    <a:lnTo>
                      <a:pt x="13" y="23"/>
                    </a:lnTo>
                    <a:lnTo>
                      <a:pt x="6" y="17"/>
                    </a:lnTo>
                    <a:lnTo>
                      <a:pt x="0" y="10"/>
                    </a:lnTo>
                    <a:lnTo>
                      <a:pt x="16" y="6"/>
                    </a:lnTo>
                    <a:lnTo>
                      <a:pt x="32" y="3"/>
                    </a:lnTo>
                    <a:lnTo>
                      <a:pt x="47" y="1"/>
                    </a:lnTo>
                    <a:lnTo>
                      <a:pt x="64" y="0"/>
                    </a:lnTo>
                    <a:lnTo>
                      <a:pt x="82" y="1"/>
                    </a:lnTo>
                    <a:lnTo>
                      <a:pt x="97" y="3"/>
                    </a:lnTo>
                    <a:lnTo>
                      <a:pt x="114" y="4"/>
                    </a:lnTo>
                    <a:lnTo>
                      <a:pt x="131" y="8"/>
                    </a:lnTo>
                    <a:lnTo>
                      <a:pt x="147" y="13"/>
                    </a:lnTo>
                    <a:lnTo>
                      <a:pt x="163" y="17"/>
                    </a:lnTo>
                    <a:lnTo>
                      <a:pt x="179" y="24"/>
                    </a:lnTo>
                    <a:lnTo>
                      <a:pt x="193" y="30"/>
                    </a:lnTo>
                    <a:lnTo>
                      <a:pt x="207" y="38"/>
                    </a:lnTo>
                    <a:lnTo>
                      <a:pt x="220" y="46"/>
                    </a:lnTo>
                    <a:lnTo>
                      <a:pt x="231" y="54"/>
                    </a:lnTo>
                    <a:lnTo>
                      <a:pt x="243" y="64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852960" y="605628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24" y="45"/>
                    </a:moveTo>
                    <a:lnTo>
                      <a:pt x="14" y="39"/>
                    </a:lnTo>
                    <a:lnTo>
                      <a:pt x="4" y="2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125480" y="6078600"/>
                <a:ext cx="172440" cy="25200"/>
              </a:xfrm>
              <a:custGeom>
                <a:avLst/>
                <a:gdLst/>
                <a:ahLst/>
                <a:rect l="l" t="t" r="r" b="b"/>
                <a:pathLst>
                  <a:path w="218" h="33">
                    <a:moveTo>
                      <a:pt x="218" y="2"/>
                    </a:moveTo>
                    <a:lnTo>
                      <a:pt x="217" y="13"/>
                    </a:lnTo>
                    <a:lnTo>
                      <a:pt x="212" y="22"/>
                    </a:lnTo>
                    <a:lnTo>
                      <a:pt x="205" y="25"/>
                    </a:lnTo>
                    <a:lnTo>
                      <a:pt x="195" y="26"/>
                    </a:lnTo>
                    <a:lnTo>
                      <a:pt x="184" y="28"/>
                    </a:lnTo>
                    <a:lnTo>
                      <a:pt x="174" y="28"/>
                    </a:lnTo>
                    <a:lnTo>
                      <a:pt x="162" y="28"/>
                    </a:lnTo>
                    <a:lnTo>
                      <a:pt x="154" y="30"/>
                    </a:lnTo>
                    <a:lnTo>
                      <a:pt x="135" y="30"/>
                    </a:lnTo>
                    <a:lnTo>
                      <a:pt x="115" y="30"/>
                    </a:lnTo>
                    <a:lnTo>
                      <a:pt x="97" y="32"/>
                    </a:lnTo>
                    <a:lnTo>
                      <a:pt x="77" y="33"/>
                    </a:lnTo>
                    <a:lnTo>
                      <a:pt x="58" y="33"/>
                    </a:lnTo>
                    <a:lnTo>
                      <a:pt x="38" y="33"/>
                    </a:lnTo>
                    <a:lnTo>
                      <a:pt x="20" y="30"/>
                    </a:lnTo>
                    <a:lnTo>
                      <a:pt x="0" y="25"/>
                    </a:lnTo>
                    <a:lnTo>
                      <a:pt x="27" y="18"/>
                    </a:lnTo>
                    <a:lnTo>
                      <a:pt x="54" y="10"/>
                    </a:lnTo>
                    <a:lnTo>
                      <a:pt x="81" y="6"/>
                    </a:lnTo>
                    <a:lnTo>
                      <a:pt x="108" y="3"/>
                    </a:lnTo>
                    <a:lnTo>
                      <a:pt x="135" y="2"/>
                    </a:lnTo>
                    <a:lnTo>
                      <a:pt x="162" y="0"/>
                    </a:lnTo>
                    <a:lnTo>
                      <a:pt x="190" y="0"/>
                    </a:lnTo>
                    <a:lnTo>
                      <a:pt x="218" y="2"/>
                    </a:lnTo>
                    <a:close/>
                  </a:path>
                </a:pathLst>
              </a:custGeom>
              <a:solidFill>
                <a:srgbClr val="7f2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6321240" y="6146640"/>
                <a:ext cx="142560" cy="43200"/>
              </a:xfrm>
              <a:custGeom>
                <a:avLst/>
                <a:gdLst/>
                <a:ahLst/>
                <a:rect l="l" t="t" r="r" b="b"/>
                <a:pathLst>
                  <a:path w="178" h="52">
                    <a:moveTo>
                      <a:pt x="178" y="0"/>
                    </a:moveTo>
                    <a:lnTo>
                      <a:pt x="165" y="14"/>
                    </a:lnTo>
                    <a:lnTo>
                      <a:pt x="150" y="25"/>
                    </a:lnTo>
                    <a:lnTo>
                      <a:pt x="131" y="37"/>
                    </a:lnTo>
                    <a:lnTo>
                      <a:pt x="111" y="45"/>
                    </a:lnTo>
                    <a:lnTo>
                      <a:pt x="88" y="51"/>
                    </a:lnTo>
                    <a:lnTo>
                      <a:pt x="66" y="52"/>
                    </a:lnTo>
                    <a:lnTo>
                      <a:pt x="43" y="51"/>
                    </a:lnTo>
                    <a:lnTo>
                      <a:pt x="19" y="45"/>
                    </a:lnTo>
                    <a:lnTo>
                      <a:pt x="11" y="42"/>
                    </a:lnTo>
                    <a:lnTo>
                      <a:pt x="4" y="38"/>
                    </a:lnTo>
                    <a:lnTo>
                      <a:pt x="0" y="32"/>
                    </a:lnTo>
                    <a:lnTo>
                      <a:pt x="1" y="22"/>
                    </a:lnTo>
                    <a:lnTo>
                      <a:pt x="23" y="19"/>
                    </a:lnTo>
                    <a:lnTo>
                      <a:pt x="46" y="17"/>
                    </a:lnTo>
                    <a:lnTo>
                      <a:pt x="67" y="12"/>
                    </a:lnTo>
                    <a:lnTo>
                      <a:pt x="88" y="8"/>
                    </a:lnTo>
                    <a:lnTo>
                      <a:pt x="111" y="5"/>
                    </a:lnTo>
                    <a:lnTo>
                      <a:pt x="133" y="2"/>
                    </a:lnTo>
                    <a:lnTo>
                      <a:pt x="156" y="1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3192480" y="5867280"/>
              <a:ext cx="2674800" cy="546120"/>
              <a:chOff x="3192480" y="5867280"/>
              <a:chExt cx="2674800" cy="546120"/>
            </a:xfrm>
          </p:grpSpPr>
          <p:grpSp>
            <p:nvGrpSpPr>
              <p:cNvPr id="920" name=""/>
              <p:cNvGrpSpPr/>
              <p:nvPr/>
            </p:nvGrpSpPr>
            <p:grpSpPr>
              <a:xfrm>
                <a:off x="3192480" y="6248520"/>
                <a:ext cx="2674800" cy="164880"/>
                <a:chOff x="3192480" y="6248520"/>
                <a:chExt cx="2674800" cy="16488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3209760" y="6330960"/>
                  <a:ext cx="2657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5867280" y="6248520"/>
                  <a:ext cx="0" cy="1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3192480" y="6248520"/>
                  <a:ext cx="0" cy="1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3616200" y="5867280"/>
                <a:ext cx="182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50 mi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25" name="" descr=""/>
            <p:cNvPicPr/>
            <p:nvPr/>
          </p:nvPicPr>
          <p:blipFill>
            <a:blip r:embed="rId1"/>
            <a:stretch/>
          </p:blipFill>
          <p:spPr>
            <a:xfrm>
              <a:off x="1150920" y="4581360"/>
              <a:ext cx="1973160" cy="171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4572000" y="1447920"/>
            <a:ext cx="4114800" cy="2393640"/>
            <a:chOff x="4572000" y="1447920"/>
            <a:chExt cx="4114800" cy="2393640"/>
          </a:xfrm>
        </p:grpSpPr>
        <p:sp>
          <p:nvSpPr>
            <p:cNvPr id="928" name=""/>
            <p:cNvSpPr/>
            <p:nvPr/>
          </p:nvSpPr>
          <p:spPr>
            <a:xfrm>
              <a:off x="4572000" y="14479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76920" y="2101680"/>
              <a:ext cx="3809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how long until they are 250 miles apart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143000" y="2163600"/>
            <a:ext cx="3659040" cy="2180880"/>
            <a:chOff x="1143000" y="2163600"/>
            <a:chExt cx="3659040" cy="2180880"/>
          </a:xfrm>
        </p:grpSpPr>
        <p:sp>
          <p:nvSpPr>
            <p:cNvPr id="932" name=""/>
            <p:cNvSpPr/>
            <p:nvPr/>
          </p:nvSpPr>
          <p:spPr>
            <a:xfrm>
              <a:off x="1143000" y="21636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riving 70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3000" y="294012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riving 50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43000" y="3701880"/>
              <a:ext cx="365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50 miles apar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507600" y="4648320"/>
            <a:ext cx="8128800" cy="520560"/>
            <a:chOff x="507600" y="4648320"/>
            <a:chExt cx="8128800" cy="520560"/>
          </a:xfrm>
        </p:grpSpPr>
        <p:sp>
          <p:nvSpPr>
            <p:cNvPr id="936" name=""/>
            <p:cNvSpPr/>
            <p:nvPr/>
          </p:nvSpPr>
          <p:spPr>
            <a:xfrm>
              <a:off x="507600" y="464832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0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87760" y="464832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0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1150920" y="4581360"/>
            <a:ext cx="6773400" cy="1832040"/>
            <a:chOff x="1150920" y="4581360"/>
            <a:chExt cx="6773400" cy="1832040"/>
          </a:xfrm>
        </p:grpSpPr>
        <p:sp>
          <p:nvSpPr>
            <p:cNvPr id="939" name=""/>
            <p:cNvSpPr/>
            <p:nvPr/>
          </p:nvSpPr>
          <p:spPr>
            <a:xfrm flipH="1">
              <a:off x="6356520" y="5629320"/>
              <a:ext cx="2880" cy="144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0" y="2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e8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150920" y="4581360"/>
              <a:ext cx="6773400" cy="1832040"/>
              <a:chOff x="1150920" y="4581360"/>
              <a:chExt cx="6773400" cy="183204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5957640" y="4583160"/>
                <a:ext cx="1966680" cy="1719360"/>
                <a:chOff x="5957640" y="4583160"/>
                <a:chExt cx="1966680" cy="1719360"/>
              </a:xfrm>
            </p:grpSpPr>
            <p:sp>
              <p:nvSpPr>
                <p:cNvPr id="942" name=""/>
                <p:cNvSpPr/>
                <p:nvPr/>
              </p:nvSpPr>
              <p:spPr>
                <a:xfrm flipH="1">
                  <a:off x="6537960" y="5159520"/>
                  <a:ext cx="85320" cy="109440"/>
                </a:xfrm>
                <a:custGeom>
                  <a:avLst/>
                  <a:gdLst/>
                  <a:ahLst/>
                  <a:rect l="l" t="t" r="r" b="b"/>
                  <a:pathLst>
                    <a:path w="107" h="137">
                      <a:moveTo>
                        <a:pt x="0" y="94"/>
                      </a:moveTo>
                      <a:lnTo>
                        <a:pt x="47" y="0"/>
                      </a:lnTo>
                      <a:lnTo>
                        <a:pt x="107" y="17"/>
                      </a:lnTo>
                      <a:lnTo>
                        <a:pt x="56" y="137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6266520" y="6060960"/>
                  <a:ext cx="202680" cy="109800"/>
                </a:xfrm>
                <a:custGeom>
                  <a:avLst/>
                  <a:gdLst/>
                  <a:ahLst/>
                  <a:rect l="l" t="t" r="r" b="b"/>
                  <a:pathLst>
                    <a:path w="256" h="137">
                      <a:moveTo>
                        <a:pt x="37" y="37"/>
                      </a:moveTo>
                      <a:lnTo>
                        <a:pt x="26" y="51"/>
                      </a:lnTo>
                      <a:lnTo>
                        <a:pt x="15" y="69"/>
                      </a:lnTo>
                      <a:lnTo>
                        <a:pt x="5" y="86"/>
                      </a:lnTo>
                      <a:lnTo>
                        <a:pt x="0" y="101"/>
                      </a:lnTo>
                      <a:lnTo>
                        <a:pt x="2" y="117"/>
                      </a:lnTo>
                      <a:lnTo>
                        <a:pt x="12" y="128"/>
                      </a:lnTo>
                      <a:lnTo>
                        <a:pt x="32" y="136"/>
                      </a:lnTo>
                      <a:lnTo>
                        <a:pt x="63" y="137"/>
                      </a:lnTo>
                      <a:lnTo>
                        <a:pt x="100" y="134"/>
                      </a:lnTo>
                      <a:lnTo>
                        <a:pt x="135" y="130"/>
                      </a:lnTo>
                      <a:lnTo>
                        <a:pt x="165" y="124"/>
                      </a:lnTo>
                      <a:lnTo>
                        <a:pt x="192" y="114"/>
                      </a:lnTo>
                      <a:lnTo>
                        <a:pt x="214" y="100"/>
                      </a:lnTo>
                      <a:lnTo>
                        <a:pt x="233" y="81"/>
                      </a:lnTo>
                      <a:lnTo>
                        <a:pt x="247" y="59"/>
                      </a:lnTo>
                      <a:lnTo>
                        <a:pt x="256" y="29"/>
                      </a:lnTo>
                      <a:lnTo>
                        <a:pt x="234" y="17"/>
                      </a:lnTo>
                      <a:lnTo>
                        <a:pt x="207" y="9"/>
                      </a:lnTo>
                      <a:lnTo>
                        <a:pt x="177" y="3"/>
                      </a:lnTo>
                      <a:lnTo>
                        <a:pt x="145" y="0"/>
                      </a:lnTo>
                      <a:lnTo>
                        <a:pt x="113" y="3"/>
                      </a:lnTo>
                      <a:lnTo>
                        <a:pt x="83" y="9"/>
                      </a:lnTo>
                      <a:lnTo>
                        <a:pt x="57" y="20"/>
                      </a:lnTo>
                      <a:lnTo>
                        <a:pt x="37" y="3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5992560" y="4583160"/>
                  <a:ext cx="1931760" cy="1719360"/>
                </a:xfrm>
                <a:custGeom>
                  <a:avLst/>
                  <a:gdLst/>
                  <a:ahLst/>
                  <a:rect l="l" t="t" r="r" b="b"/>
                  <a:pathLst>
                    <a:path w="2435" h="2166">
                      <a:moveTo>
                        <a:pt x="2236" y="1455"/>
                      </a:moveTo>
                      <a:lnTo>
                        <a:pt x="2221" y="1453"/>
                      </a:lnTo>
                      <a:lnTo>
                        <a:pt x="2205" y="1448"/>
                      </a:lnTo>
                      <a:lnTo>
                        <a:pt x="2189" y="1443"/>
                      </a:lnTo>
                      <a:lnTo>
                        <a:pt x="2173" y="1437"/>
                      </a:lnTo>
                      <a:lnTo>
                        <a:pt x="2156" y="1431"/>
                      </a:lnTo>
                      <a:lnTo>
                        <a:pt x="2141" y="1427"/>
                      </a:lnTo>
                      <a:lnTo>
                        <a:pt x="2125" y="1424"/>
                      </a:lnTo>
                      <a:lnTo>
                        <a:pt x="2109" y="1424"/>
                      </a:lnTo>
                      <a:lnTo>
                        <a:pt x="2116" y="1443"/>
                      </a:lnTo>
                      <a:lnTo>
                        <a:pt x="2122" y="1464"/>
                      </a:lnTo>
                      <a:lnTo>
                        <a:pt x="2128" y="1487"/>
                      </a:lnTo>
                      <a:lnTo>
                        <a:pt x="2135" y="1508"/>
                      </a:lnTo>
                      <a:lnTo>
                        <a:pt x="2142" y="1530"/>
                      </a:lnTo>
                      <a:lnTo>
                        <a:pt x="2152" y="1550"/>
                      </a:lnTo>
                      <a:lnTo>
                        <a:pt x="2165" y="1567"/>
                      </a:lnTo>
                      <a:lnTo>
                        <a:pt x="2182" y="1580"/>
                      </a:lnTo>
                      <a:lnTo>
                        <a:pt x="2192" y="1591"/>
                      </a:lnTo>
                      <a:lnTo>
                        <a:pt x="2198" y="1607"/>
                      </a:lnTo>
                      <a:lnTo>
                        <a:pt x="2201" y="1624"/>
                      </a:lnTo>
                      <a:lnTo>
                        <a:pt x="2203" y="1641"/>
                      </a:lnTo>
                      <a:lnTo>
                        <a:pt x="2206" y="1657"/>
                      </a:lnTo>
                      <a:lnTo>
                        <a:pt x="2215" y="1668"/>
                      </a:lnTo>
                      <a:lnTo>
                        <a:pt x="2228" y="1674"/>
                      </a:lnTo>
                      <a:lnTo>
                        <a:pt x="2249" y="1671"/>
                      </a:lnTo>
                      <a:lnTo>
                        <a:pt x="2258" y="1671"/>
                      </a:lnTo>
                      <a:lnTo>
                        <a:pt x="2268" y="1672"/>
                      </a:lnTo>
                      <a:lnTo>
                        <a:pt x="2275" y="1677"/>
                      </a:lnTo>
                      <a:lnTo>
                        <a:pt x="2278" y="1685"/>
                      </a:lnTo>
                      <a:lnTo>
                        <a:pt x="2271" y="1691"/>
                      </a:lnTo>
                      <a:lnTo>
                        <a:pt x="2262" y="1694"/>
                      </a:lnTo>
                      <a:lnTo>
                        <a:pt x="2252" y="1695"/>
                      </a:lnTo>
                      <a:lnTo>
                        <a:pt x="2242" y="1695"/>
                      </a:lnTo>
                      <a:lnTo>
                        <a:pt x="2232" y="1695"/>
                      </a:lnTo>
                      <a:lnTo>
                        <a:pt x="2222" y="1695"/>
                      </a:lnTo>
                      <a:lnTo>
                        <a:pt x="2212" y="1695"/>
                      </a:lnTo>
                      <a:lnTo>
                        <a:pt x="2205" y="1698"/>
                      </a:lnTo>
                      <a:lnTo>
                        <a:pt x="2203" y="1717"/>
                      </a:lnTo>
                      <a:lnTo>
                        <a:pt x="2202" y="1738"/>
                      </a:lnTo>
                      <a:lnTo>
                        <a:pt x="2198" y="1758"/>
                      </a:lnTo>
                      <a:lnTo>
                        <a:pt x="2189" y="1775"/>
                      </a:lnTo>
                      <a:lnTo>
                        <a:pt x="2183" y="1796"/>
                      </a:lnTo>
                      <a:lnTo>
                        <a:pt x="2175" y="1819"/>
                      </a:lnTo>
                      <a:lnTo>
                        <a:pt x="2165" y="1842"/>
                      </a:lnTo>
                      <a:lnTo>
                        <a:pt x="2151" y="1862"/>
                      </a:lnTo>
                      <a:lnTo>
                        <a:pt x="2139" y="1862"/>
                      </a:lnTo>
                      <a:lnTo>
                        <a:pt x="2128" y="1866"/>
                      </a:lnTo>
                      <a:lnTo>
                        <a:pt x="2119" y="1872"/>
                      </a:lnTo>
                      <a:lnTo>
                        <a:pt x="2109" y="1881"/>
                      </a:lnTo>
                      <a:lnTo>
                        <a:pt x="2101" y="1889"/>
                      </a:lnTo>
                      <a:lnTo>
                        <a:pt x="2092" y="1898"/>
                      </a:lnTo>
                      <a:lnTo>
                        <a:pt x="2084" y="1905"/>
                      </a:lnTo>
                      <a:lnTo>
                        <a:pt x="2074" y="1911"/>
                      </a:lnTo>
                      <a:lnTo>
                        <a:pt x="2066" y="1898"/>
                      </a:lnTo>
                      <a:lnTo>
                        <a:pt x="2038" y="1901"/>
                      </a:lnTo>
                      <a:lnTo>
                        <a:pt x="2008" y="1903"/>
                      </a:lnTo>
                      <a:lnTo>
                        <a:pt x="1979" y="1906"/>
                      </a:lnTo>
                      <a:lnTo>
                        <a:pt x="1951" y="1912"/>
                      </a:lnTo>
                      <a:lnTo>
                        <a:pt x="1924" y="1918"/>
                      </a:lnTo>
                      <a:lnTo>
                        <a:pt x="1897" y="1928"/>
                      </a:lnTo>
                      <a:lnTo>
                        <a:pt x="1871" y="1941"/>
                      </a:lnTo>
                      <a:lnTo>
                        <a:pt x="1847" y="1958"/>
                      </a:lnTo>
                      <a:lnTo>
                        <a:pt x="1847" y="1971"/>
                      </a:lnTo>
                      <a:lnTo>
                        <a:pt x="1872" y="1969"/>
                      </a:lnTo>
                      <a:lnTo>
                        <a:pt x="1898" y="1966"/>
                      </a:lnTo>
                      <a:lnTo>
                        <a:pt x="1924" y="1963"/>
                      </a:lnTo>
                      <a:lnTo>
                        <a:pt x="1949" y="1959"/>
                      </a:lnTo>
                      <a:lnTo>
                        <a:pt x="1974" y="1955"/>
                      </a:lnTo>
                      <a:lnTo>
                        <a:pt x="1999" y="1952"/>
                      </a:lnTo>
                      <a:lnTo>
                        <a:pt x="2025" y="1948"/>
                      </a:lnTo>
                      <a:lnTo>
                        <a:pt x="2051" y="1945"/>
                      </a:lnTo>
                      <a:lnTo>
                        <a:pt x="2074" y="1923"/>
                      </a:lnTo>
                      <a:lnTo>
                        <a:pt x="2076" y="1932"/>
                      </a:lnTo>
                      <a:lnTo>
                        <a:pt x="2198" y="1919"/>
                      </a:lnTo>
                      <a:lnTo>
                        <a:pt x="2202" y="1902"/>
                      </a:lnTo>
                      <a:lnTo>
                        <a:pt x="2203" y="1885"/>
                      </a:lnTo>
                      <a:lnTo>
                        <a:pt x="2202" y="1868"/>
                      </a:lnTo>
                      <a:lnTo>
                        <a:pt x="2202" y="1849"/>
                      </a:lnTo>
                      <a:lnTo>
                        <a:pt x="2209" y="1844"/>
                      </a:lnTo>
                      <a:lnTo>
                        <a:pt x="2218" y="1838"/>
                      </a:lnTo>
                      <a:lnTo>
                        <a:pt x="2225" y="1831"/>
                      </a:lnTo>
                      <a:lnTo>
                        <a:pt x="2232" y="1825"/>
                      </a:lnTo>
                      <a:lnTo>
                        <a:pt x="2239" y="1821"/>
                      </a:lnTo>
                      <a:lnTo>
                        <a:pt x="2248" y="1816"/>
                      </a:lnTo>
                      <a:lnTo>
                        <a:pt x="2256" y="1816"/>
                      </a:lnTo>
                      <a:lnTo>
                        <a:pt x="2265" y="1818"/>
                      </a:lnTo>
                      <a:lnTo>
                        <a:pt x="2259" y="1832"/>
                      </a:lnTo>
                      <a:lnTo>
                        <a:pt x="2251" y="1841"/>
                      </a:lnTo>
                      <a:lnTo>
                        <a:pt x="2242" y="1848"/>
                      </a:lnTo>
                      <a:lnTo>
                        <a:pt x="2232" y="1854"/>
                      </a:lnTo>
                      <a:lnTo>
                        <a:pt x="2225" y="1861"/>
                      </a:lnTo>
                      <a:lnTo>
                        <a:pt x="2219" y="1869"/>
                      </a:lnTo>
                      <a:lnTo>
                        <a:pt x="2218" y="1881"/>
                      </a:lnTo>
                      <a:lnTo>
                        <a:pt x="2221" y="1898"/>
                      </a:lnTo>
                      <a:lnTo>
                        <a:pt x="2231" y="1905"/>
                      </a:lnTo>
                      <a:lnTo>
                        <a:pt x="2241" y="1909"/>
                      </a:lnTo>
                      <a:lnTo>
                        <a:pt x="2252" y="1911"/>
                      </a:lnTo>
                      <a:lnTo>
                        <a:pt x="2265" y="1911"/>
                      </a:lnTo>
                      <a:lnTo>
                        <a:pt x="2276" y="1908"/>
                      </a:lnTo>
                      <a:lnTo>
                        <a:pt x="2289" y="1905"/>
                      </a:lnTo>
                      <a:lnTo>
                        <a:pt x="2300" y="1901"/>
                      </a:lnTo>
                      <a:lnTo>
                        <a:pt x="2310" y="1898"/>
                      </a:lnTo>
                      <a:lnTo>
                        <a:pt x="2315" y="1905"/>
                      </a:lnTo>
                      <a:lnTo>
                        <a:pt x="2320" y="1909"/>
                      </a:lnTo>
                      <a:lnTo>
                        <a:pt x="2325" y="1915"/>
                      </a:lnTo>
                      <a:lnTo>
                        <a:pt x="2320" y="1923"/>
                      </a:lnTo>
                      <a:lnTo>
                        <a:pt x="2300" y="1931"/>
                      </a:lnTo>
                      <a:lnTo>
                        <a:pt x="2280" y="1935"/>
                      </a:lnTo>
                      <a:lnTo>
                        <a:pt x="2259" y="1939"/>
                      </a:lnTo>
                      <a:lnTo>
                        <a:pt x="2236" y="1942"/>
                      </a:lnTo>
                      <a:lnTo>
                        <a:pt x="2213" y="1943"/>
                      </a:lnTo>
                      <a:lnTo>
                        <a:pt x="2192" y="1946"/>
                      </a:lnTo>
                      <a:lnTo>
                        <a:pt x="2169" y="1948"/>
                      </a:lnTo>
                      <a:lnTo>
                        <a:pt x="2148" y="1949"/>
                      </a:lnTo>
                      <a:lnTo>
                        <a:pt x="2125" y="1952"/>
                      </a:lnTo>
                      <a:lnTo>
                        <a:pt x="2105" y="1956"/>
                      </a:lnTo>
                      <a:lnTo>
                        <a:pt x="2084" y="1962"/>
                      </a:lnTo>
                      <a:lnTo>
                        <a:pt x="2065" y="1969"/>
                      </a:lnTo>
                      <a:lnTo>
                        <a:pt x="2048" y="1978"/>
                      </a:lnTo>
                      <a:lnTo>
                        <a:pt x="2031" y="1990"/>
                      </a:lnTo>
                      <a:lnTo>
                        <a:pt x="2016" y="2005"/>
                      </a:lnTo>
                      <a:lnTo>
                        <a:pt x="2004" y="2022"/>
                      </a:lnTo>
                      <a:lnTo>
                        <a:pt x="1988" y="2033"/>
                      </a:lnTo>
                      <a:lnTo>
                        <a:pt x="1971" y="2042"/>
                      </a:lnTo>
                      <a:lnTo>
                        <a:pt x="1951" y="2049"/>
                      </a:lnTo>
                      <a:lnTo>
                        <a:pt x="1931" y="2053"/>
                      </a:lnTo>
                      <a:lnTo>
                        <a:pt x="1911" y="2053"/>
                      </a:lnTo>
                      <a:lnTo>
                        <a:pt x="1889" y="2052"/>
                      </a:lnTo>
                      <a:lnTo>
                        <a:pt x="1869" y="2046"/>
                      </a:lnTo>
                      <a:lnTo>
                        <a:pt x="1850" y="2038"/>
                      </a:lnTo>
                      <a:lnTo>
                        <a:pt x="1798" y="2000"/>
                      </a:lnTo>
                      <a:lnTo>
                        <a:pt x="1770" y="1978"/>
                      </a:lnTo>
                      <a:lnTo>
                        <a:pt x="1777" y="1975"/>
                      </a:lnTo>
                      <a:lnTo>
                        <a:pt x="1781" y="1971"/>
                      </a:lnTo>
                      <a:lnTo>
                        <a:pt x="1782" y="1965"/>
                      </a:lnTo>
                      <a:lnTo>
                        <a:pt x="1782" y="1958"/>
                      </a:lnTo>
                      <a:lnTo>
                        <a:pt x="1778" y="1932"/>
                      </a:lnTo>
                      <a:lnTo>
                        <a:pt x="1764" y="1916"/>
                      </a:lnTo>
                      <a:lnTo>
                        <a:pt x="1745" y="1908"/>
                      </a:lnTo>
                      <a:lnTo>
                        <a:pt x="1721" y="1905"/>
                      </a:lnTo>
                      <a:lnTo>
                        <a:pt x="1694" y="1905"/>
                      </a:lnTo>
                      <a:lnTo>
                        <a:pt x="1668" y="1906"/>
                      </a:lnTo>
                      <a:lnTo>
                        <a:pt x="1644" y="1905"/>
                      </a:lnTo>
                      <a:lnTo>
                        <a:pt x="1623" y="1899"/>
                      </a:lnTo>
                      <a:lnTo>
                        <a:pt x="1608" y="1902"/>
                      </a:lnTo>
                      <a:lnTo>
                        <a:pt x="1597" y="1909"/>
                      </a:lnTo>
                      <a:lnTo>
                        <a:pt x="1588" y="1919"/>
                      </a:lnTo>
                      <a:lnTo>
                        <a:pt x="1581" y="1929"/>
                      </a:lnTo>
                      <a:lnTo>
                        <a:pt x="1576" y="1942"/>
                      </a:lnTo>
                      <a:lnTo>
                        <a:pt x="1570" y="1953"/>
                      </a:lnTo>
                      <a:lnTo>
                        <a:pt x="1564" y="1965"/>
                      </a:lnTo>
                      <a:lnTo>
                        <a:pt x="1557" y="1975"/>
                      </a:lnTo>
                      <a:lnTo>
                        <a:pt x="1550" y="1981"/>
                      </a:lnTo>
                      <a:lnTo>
                        <a:pt x="1543" y="1992"/>
                      </a:lnTo>
                      <a:lnTo>
                        <a:pt x="1536" y="2005"/>
                      </a:lnTo>
                      <a:lnTo>
                        <a:pt x="1527" y="2016"/>
                      </a:lnTo>
                      <a:lnTo>
                        <a:pt x="1541" y="2012"/>
                      </a:lnTo>
                      <a:lnTo>
                        <a:pt x="1556" y="2009"/>
                      </a:lnTo>
                      <a:lnTo>
                        <a:pt x="1570" y="2006"/>
                      </a:lnTo>
                      <a:lnTo>
                        <a:pt x="1586" y="2003"/>
                      </a:lnTo>
                      <a:lnTo>
                        <a:pt x="1600" y="2000"/>
                      </a:lnTo>
                      <a:lnTo>
                        <a:pt x="1614" y="1998"/>
                      </a:lnTo>
                      <a:lnTo>
                        <a:pt x="1630" y="1995"/>
                      </a:lnTo>
                      <a:lnTo>
                        <a:pt x="1644" y="1993"/>
                      </a:lnTo>
                      <a:lnTo>
                        <a:pt x="1660" y="1990"/>
                      </a:lnTo>
                      <a:lnTo>
                        <a:pt x="1674" y="1989"/>
                      </a:lnTo>
                      <a:lnTo>
                        <a:pt x="1690" y="1988"/>
                      </a:lnTo>
                      <a:lnTo>
                        <a:pt x="1705" y="1985"/>
                      </a:lnTo>
                      <a:lnTo>
                        <a:pt x="1721" y="1983"/>
                      </a:lnTo>
                      <a:lnTo>
                        <a:pt x="1737" y="1982"/>
                      </a:lnTo>
                      <a:lnTo>
                        <a:pt x="1752" y="1979"/>
                      </a:lnTo>
                      <a:lnTo>
                        <a:pt x="1770" y="1978"/>
                      </a:lnTo>
                      <a:lnTo>
                        <a:pt x="1798" y="2000"/>
                      </a:lnTo>
                      <a:lnTo>
                        <a:pt x="1771" y="2006"/>
                      </a:lnTo>
                      <a:lnTo>
                        <a:pt x="1742" y="2010"/>
                      </a:lnTo>
                      <a:lnTo>
                        <a:pt x="1715" y="2015"/>
                      </a:lnTo>
                      <a:lnTo>
                        <a:pt x="1688" y="2018"/>
                      </a:lnTo>
                      <a:lnTo>
                        <a:pt x="1661" y="2020"/>
                      </a:lnTo>
                      <a:lnTo>
                        <a:pt x="1634" y="2023"/>
                      </a:lnTo>
                      <a:lnTo>
                        <a:pt x="1607" y="2026"/>
                      </a:lnTo>
                      <a:lnTo>
                        <a:pt x="1580" y="2030"/>
                      </a:lnTo>
                      <a:lnTo>
                        <a:pt x="1554" y="2035"/>
                      </a:lnTo>
                      <a:lnTo>
                        <a:pt x="1528" y="2039"/>
                      </a:lnTo>
                      <a:lnTo>
                        <a:pt x="1501" y="2045"/>
                      </a:lnTo>
                      <a:lnTo>
                        <a:pt x="1477" y="2052"/>
                      </a:lnTo>
                      <a:lnTo>
                        <a:pt x="1451" y="2060"/>
                      </a:lnTo>
                      <a:lnTo>
                        <a:pt x="1427" y="2070"/>
                      </a:lnTo>
                      <a:lnTo>
                        <a:pt x="1403" y="2082"/>
                      </a:lnTo>
                      <a:lnTo>
                        <a:pt x="1379" y="2096"/>
                      </a:lnTo>
                      <a:lnTo>
                        <a:pt x="1406" y="2098"/>
                      </a:lnTo>
                      <a:lnTo>
                        <a:pt x="1433" y="2099"/>
                      </a:lnTo>
                      <a:lnTo>
                        <a:pt x="1458" y="2099"/>
                      </a:lnTo>
                      <a:lnTo>
                        <a:pt x="1486" y="2099"/>
                      </a:lnTo>
                      <a:lnTo>
                        <a:pt x="1511" y="2099"/>
                      </a:lnTo>
                      <a:lnTo>
                        <a:pt x="1537" y="2099"/>
                      </a:lnTo>
                      <a:lnTo>
                        <a:pt x="1563" y="2099"/>
                      </a:lnTo>
                      <a:lnTo>
                        <a:pt x="1588" y="2098"/>
                      </a:lnTo>
                      <a:lnTo>
                        <a:pt x="1614" y="2098"/>
                      </a:lnTo>
                      <a:lnTo>
                        <a:pt x="1640" y="2096"/>
                      </a:lnTo>
                      <a:lnTo>
                        <a:pt x="1665" y="2096"/>
                      </a:lnTo>
                      <a:lnTo>
                        <a:pt x="1691" y="2096"/>
                      </a:lnTo>
                      <a:lnTo>
                        <a:pt x="1717" y="2095"/>
                      </a:lnTo>
                      <a:lnTo>
                        <a:pt x="1742" y="2095"/>
                      </a:lnTo>
                      <a:lnTo>
                        <a:pt x="1768" y="2096"/>
                      </a:lnTo>
                      <a:lnTo>
                        <a:pt x="1794" y="2096"/>
                      </a:lnTo>
                      <a:lnTo>
                        <a:pt x="1802" y="2102"/>
                      </a:lnTo>
                      <a:lnTo>
                        <a:pt x="1810" y="2109"/>
                      </a:lnTo>
                      <a:lnTo>
                        <a:pt x="1811" y="2117"/>
                      </a:lnTo>
                      <a:lnTo>
                        <a:pt x="1811" y="2130"/>
                      </a:lnTo>
                      <a:lnTo>
                        <a:pt x="1794" y="2140"/>
                      </a:lnTo>
                      <a:lnTo>
                        <a:pt x="1790" y="2140"/>
                      </a:lnTo>
                      <a:lnTo>
                        <a:pt x="1777" y="2140"/>
                      </a:lnTo>
                      <a:lnTo>
                        <a:pt x="1757" y="2140"/>
                      </a:lnTo>
                      <a:lnTo>
                        <a:pt x="1728" y="2140"/>
                      </a:lnTo>
                      <a:lnTo>
                        <a:pt x="1694" y="2140"/>
                      </a:lnTo>
                      <a:lnTo>
                        <a:pt x="1653" y="2142"/>
                      </a:lnTo>
                      <a:lnTo>
                        <a:pt x="1605" y="2142"/>
                      </a:lnTo>
                      <a:lnTo>
                        <a:pt x="1554" y="2142"/>
                      </a:lnTo>
                      <a:lnTo>
                        <a:pt x="1497" y="2142"/>
                      </a:lnTo>
                      <a:lnTo>
                        <a:pt x="1436" y="2143"/>
                      </a:lnTo>
                      <a:lnTo>
                        <a:pt x="1371" y="2143"/>
                      </a:lnTo>
                      <a:lnTo>
                        <a:pt x="1304" y="2143"/>
                      </a:lnTo>
                      <a:lnTo>
                        <a:pt x="1234" y="2145"/>
                      </a:lnTo>
                      <a:lnTo>
                        <a:pt x="1162" y="2145"/>
                      </a:lnTo>
                      <a:lnTo>
                        <a:pt x="1087" y="2146"/>
                      </a:lnTo>
                      <a:lnTo>
                        <a:pt x="1013" y="2146"/>
                      </a:lnTo>
                      <a:lnTo>
                        <a:pt x="938" y="2147"/>
                      </a:lnTo>
                      <a:lnTo>
                        <a:pt x="863" y="2147"/>
                      </a:lnTo>
                      <a:lnTo>
                        <a:pt x="788" y="2149"/>
                      </a:lnTo>
                      <a:lnTo>
                        <a:pt x="715" y="2150"/>
                      </a:lnTo>
                      <a:lnTo>
                        <a:pt x="644" y="2150"/>
                      </a:lnTo>
                      <a:lnTo>
                        <a:pt x="574" y="2152"/>
                      </a:lnTo>
                      <a:lnTo>
                        <a:pt x="507" y="2153"/>
                      </a:lnTo>
                      <a:lnTo>
                        <a:pt x="442" y="2155"/>
                      </a:lnTo>
                      <a:lnTo>
                        <a:pt x="382" y="2156"/>
                      </a:lnTo>
                      <a:lnTo>
                        <a:pt x="327" y="2157"/>
                      </a:lnTo>
                      <a:lnTo>
                        <a:pt x="277" y="2157"/>
                      </a:lnTo>
                      <a:lnTo>
                        <a:pt x="231" y="2159"/>
                      </a:lnTo>
                      <a:lnTo>
                        <a:pt x="191" y="2162"/>
                      </a:lnTo>
                      <a:lnTo>
                        <a:pt x="158" y="2163"/>
                      </a:lnTo>
                      <a:lnTo>
                        <a:pt x="131" y="2165"/>
                      </a:lnTo>
                      <a:lnTo>
                        <a:pt x="113" y="2166"/>
                      </a:lnTo>
                      <a:lnTo>
                        <a:pt x="104" y="2165"/>
                      </a:lnTo>
                      <a:lnTo>
                        <a:pt x="96" y="2162"/>
                      </a:lnTo>
                      <a:lnTo>
                        <a:pt x="88" y="2157"/>
                      </a:lnTo>
                      <a:lnTo>
                        <a:pt x="81" y="2153"/>
                      </a:lnTo>
                      <a:lnTo>
                        <a:pt x="74" y="2149"/>
                      </a:lnTo>
                      <a:lnTo>
                        <a:pt x="70" y="2143"/>
                      </a:lnTo>
                      <a:lnTo>
                        <a:pt x="66" y="2137"/>
                      </a:lnTo>
                      <a:lnTo>
                        <a:pt x="64" y="2132"/>
                      </a:lnTo>
                      <a:lnTo>
                        <a:pt x="83" y="2102"/>
                      </a:lnTo>
                      <a:lnTo>
                        <a:pt x="86" y="2102"/>
                      </a:lnTo>
                      <a:lnTo>
                        <a:pt x="94" y="2102"/>
                      </a:lnTo>
                      <a:lnTo>
                        <a:pt x="107" y="2102"/>
                      </a:lnTo>
                      <a:lnTo>
                        <a:pt x="126" y="2102"/>
                      </a:lnTo>
                      <a:lnTo>
                        <a:pt x="148" y="2102"/>
                      </a:lnTo>
                      <a:lnTo>
                        <a:pt x="176" y="2103"/>
                      </a:lnTo>
                      <a:lnTo>
                        <a:pt x="206" y="2103"/>
                      </a:lnTo>
                      <a:lnTo>
                        <a:pt x="240" y="2103"/>
                      </a:lnTo>
                      <a:lnTo>
                        <a:pt x="277" y="2103"/>
                      </a:lnTo>
                      <a:lnTo>
                        <a:pt x="317" y="2103"/>
                      </a:lnTo>
                      <a:lnTo>
                        <a:pt x="361" y="2105"/>
                      </a:lnTo>
                      <a:lnTo>
                        <a:pt x="405" y="2105"/>
                      </a:lnTo>
                      <a:lnTo>
                        <a:pt x="452" y="2105"/>
                      </a:lnTo>
                      <a:lnTo>
                        <a:pt x="501" y="2105"/>
                      </a:lnTo>
                      <a:lnTo>
                        <a:pt x="552" y="2105"/>
                      </a:lnTo>
                      <a:lnTo>
                        <a:pt x="604" y="2105"/>
                      </a:lnTo>
                      <a:lnTo>
                        <a:pt x="655" y="2105"/>
                      </a:lnTo>
                      <a:lnTo>
                        <a:pt x="706" y="2106"/>
                      </a:lnTo>
                      <a:lnTo>
                        <a:pt x="759" y="2106"/>
                      </a:lnTo>
                      <a:lnTo>
                        <a:pt x="812" y="2106"/>
                      </a:lnTo>
                      <a:lnTo>
                        <a:pt x="863" y="2106"/>
                      </a:lnTo>
                      <a:lnTo>
                        <a:pt x="913" y="2105"/>
                      </a:lnTo>
                      <a:lnTo>
                        <a:pt x="963" y="2105"/>
                      </a:lnTo>
                      <a:lnTo>
                        <a:pt x="1012" y="2105"/>
                      </a:lnTo>
                      <a:lnTo>
                        <a:pt x="1057" y="2105"/>
                      </a:lnTo>
                      <a:lnTo>
                        <a:pt x="1102" y="2105"/>
                      </a:lnTo>
                      <a:lnTo>
                        <a:pt x="1143" y="2103"/>
                      </a:lnTo>
                      <a:lnTo>
                        <a:pt x="1182" y="2103"/>
                      </a:lnTo>
                      <a:lnTo>
                        <a:pt x="1217" y="2102"/>
                      </a:lnTo>
                      <a:lnTo>
                        <a:pt x="1250" y="2102"/>
                      </a:lnTo>
                      <a:lnTo>
                        <a:pt x="1279" y="2100"/>
                      </a:lnTo>
                      <a:lnTo>
                        <a:pt x="1303" y="2099"/>
                      </a:lnTo>
                      <a:lnTo>
                        <a:pt x="1262" y="2088"/>
                      </a:lnTo>
                      <a:lnTo>
                        <a:pt x="1223" y="2070"/>
                      </a:lnTo>
                      <a:lnTo>
                        <a:pt x="1187" y="2049"/>
                      </a:lnTo>
                      <a:lnTo>
                        <a:pt x="1156" y="2023"/>
                      </a:lnTo>
                      <a:lnTo>
                        <a:pt x="1129" y="1993"/>
                      </a:lnTo>
                      <a:lnTo>
                        <a:pt x="1106" y="1959"/>
                      </a:lnTo>
                      <a:lnTo>
                        <a:pt x="1090" y="1922"/>
                      </a:lnTo>
                      <a:lnTo>
                        <a:pt x="1079" y="1881"/>
                      </a:lnTo>
                      <a:lnTo>
                        <a:pt x="1075" y="1859"/>
                      </a:lnTo>
                      <a:lnTo>
                        <a:pt x="1073" y="1839"/>
                      </a:lnTo>
                      <a:lnTo>
                        <a:pt x="1073" y="1822"/>
                      </a:lnTo>
                      <a:lnTo>
                        <a:pt x="1073" y="1805"/>
                      </a:lnTo>
                      <a:lnTo>
                        <a:pt x="1053" y="1796"/>
                      </a:lnTo>
                      <a:lnTo>
                        <a:pt x="1035" y="1786"/>
                      </a:lnTo>
                      <a:lnTo>
                        <a:pt x="1016" y="1776"/>
                      </a:lnTo>
                      <a:lnTo>
                        <a:pt x="998" y="1766"/>
                      </a:lnTo>
                      <a:lnTo>
                        <a:pt x="979" y="1758"/>
                      </a:lnTo>
                      <a:lnTo>
                        <a:pt x="959" y="1752"/>
                      </a:lnTo>
                      <a:lnTo>
                        <a:pt x="936" y="1748"/>
                      </a:lnTo>
                      <a:lnTo>
                        <a:pt x="913" y="1746"/>
                      </a:lnTo>
                      <a:lnTo>
                        <a:pt x="903" y="1759"/>
                      </a:lnTo>
                      <a:lnTo>
                        <a:pt x="899" y="1778"/>
                      </a:lnTo>
                      <a:lnTo>
                        <a:pt x="892" y="1794"/>
                      </a:lnTo>
                      <a:lnTo>
                        <a:pt x="875" y="1804"/>
                      </a:lnTo>
                      <a:lnTo>
                        <a:pt x="865" y="1804"/>
                      </a:lnTo>
                      <a:lnTo>
                        <a:pt x="855" y="1801"/>
                      </a:lnTo>
                      <a:lnTo>
                        <a:pt x="846" y="1796"/>
                      </a:lnTo>
                      <a:lnTo>
                        <a:pt x="841" y="1792"/>
                      </a:lnTo>
                      <a:lnTo>
                        <a:pt x="835" y="1785"/>
                      </a:lnTo>
                      <a:lnTo>
                        <a:pt x="829" y="1778"/>
                      </a:lnTo>
                      <a:lnTo>
                        <a:pt x="826" y="1769"/>
                      </a:lnTo>
                      <a:lnTo>
                        <a:pt x="823" y="1759"/>
                      </a:lnTo>
                      <a:lnTo>
                        <a:pt x="825" y="1745"/>
                      </a:lnTo>
                      <a:lnTo>
                        <a:pt x="821" y="1734"/>
                      </a:lnTo>
                      <a:lnTo>
                        <a:pt x="812" y="1724"/>
                      </a:lnTo>
                      <a:lnTo>
                        <a:pt x="803" y="1715"/>
                      </a:lnTo>
                      <a:lnTo>
                        <a:pt x="785" y="1717"/>
                      </a:lnTo>
                      <a:lnTo>
                        <a:pt x="766" y="1715"/>
                      </a:lnTo>
                      <a:lnTo>
                        <a:pt x="746" y="1711"/>
                      </a:lnTo>
                      <a:lnTo>
                        <a:pt x="728" y="1707"/>
                      </a:lnTo>
                      <a:lnTo>
                        <a:pt x="711" y="1707"/>
                      </a:lnTo>
                      <a:lnTo>
                        <a:pt x="695" y="1709"/>
                      </a:lnTo>
                      <a:lnTo>
                        <a:pt x="682" y="1719"/>
                      </a:lnTo>
                      <a:lnTo>
                        <a:pt x="672" y="1738"/>
                      </a:lnTo>
                      <a:lnTo>
                        <a:pt x="664" y="1759"/>
                      </a:lnTo>
                      <a:lnTo>
                        <a:pt x="652" y="1779"/>
                      </a:lnTo>
                      <a:lnTo>
                        <a:pt x="639" y="1796"/>
                      </a:lnTo>
                      <a:lnTo>
                        <a:pt x="625" y="1812"/>
                      </a:lnTo>
                      <a:lnTo>
                        <a:pt x="609" y="1828"/>
                      </a:lnTo>
                      <a:lnTo>
                        <a:pt x="594" y="1842"/>
                      </a:lnTo>
                      <a:lnTo>
                        <a:pt x="575" y="1856"/>
                      </a:lnTo>
                      <a:lnTo>
                        <a:pt x="557" y="1869"/>
                      </a:lnTo>
                      <a:lnTo>
                        <a:pt x="574" y="1871"/>
                      </a:lnTo>
                      <a:lnTo>
                        <a:pt x="591" y="1872"/>
                      </a:lnTo>
                      <a:lnTo>
                        <a:pt x="608" y="1872"/>
                      </a:lnTo>
                      <a:lnTo>
                        <a:pt x="625" y="1872"/>
                      </a:lnTo>
                      <a:lnTo>
                        <a:pt x="642" y="1871"/>
                      </a:lnTo>
                      <a:lnTo>
                        <a:pt x="659" y="1869"/>
                      </a:lnTo>
                      <a:lnTo>
                        <a:pt x="676" y="1868"/>
                      </a:lnTo>
                      <a:lnTo>
                        <a:pt x="694" y="1865"/>
                      </a:lnTo>
                      <a:lnTo>
                        <a:pt x="711" y="1864"/>
                      </a:lnTo>
                      <a:lnTo>
                        <a:pt x="728" y="1862"/>
                      </a:lnTo>
                      <a:lnTo>
                        <a:pt x="745" y="1859"/>
                      </a:lnTo>
                      <a:lnTo>
                        <a:pt x="762" y="1858"/>
                      </a:lnTo>
                      <a:lnTo>
                        <a:pt x="779" y="1856"/>
                      </a:lnTo>
                      <a:lnTo>
                        <a:pt x="795" y="1856"/>
                      </a:lnTo>
                      <a:lnTo>
                        <a:pt x="812" y="1856"/>
                      </a:lnTo>
                      <a:lnTo>
                        <a:pt x="829" y="1856"/>
                      </a:lnTo>
                      <a:lnTo>
                        <a:pt x="829" y="1872"/>
                      </a:lnTo>
                      <a:lnTo>
                        <a:pt x="809" y="1875"/>
                      </a:lnTo>
                      <a:lnTo>
                        <a:pt x="789" y="1876"/>
                      </a:lnTo>
                      <a:lnTo>
                        <a:pt x="769" y="1879"/>
                      </a:lnTo>
                      <a:lnTo>
                        <a:pt x="749" y="1881"/>
                      </a:lnTo>
                      <a:lnTo>
                        <a:pt x="728" y="1882"/>
                      </a:lnTo>
                      <a:lnTo>
                        <a:pt x="708" y="1882"/>
                      </a:lnTo>
                      <a:lnTo>
                        <a:pt x="688" y="1883"/>
                      </a:lnTo>
                      <a:lnTo>
                        <a:pt x="666" y="1883"/>
                      </a:lnTo>
                      <a:lnTo>
                        <a:pt x="645" y="1885"/>
                      </a:lnTo>
                      <a:lnTo>
                        <a:pt x="625" y="1885"/>
                      </a:lnTo>
                      <a:lnTo>
                        <a:pt x="604" y="1886"/>
                      </a:lnTo>
                      <a:lnTo>
                        <a:pt x="584" y="1886"/>
                      </a:lnTo>
                      <a:lnTo>
                        <a:pt x="562" y="1888"/>
                      </a:lnTo>
                      <a:lnTo>
                        <a:pt x="541" y="1889"/>
                      </a:lnTo>
                      <a:lnTo>
                        <a:pt x="521" y="1891"/>
                      </a:lnTo>
                      <a:lnTo>
                        <a:pt x="499" y="1893"/>
                      </a:lnTo>
                      <a:lnTo>
                        <a:pt x="481" y="1901"/>
                      </a:lnTo>
                      <a:lnTo>
                        <a:pt x="461" y="1906"/>
                      </a:lnTo>
                      <a:lnTo>
                        <a:pt x="441" y="1909"/>
                      </a:lnTo>
                      <a:lnTo>
                        <a:pt x="421" y="1911"/>
                      </a:lnTo>
                      <a:lnTo>
                        <a:pt x="401" y="1911"/>
                      </a:lnTo>
                      <a:lnTo>
                        <a:pt x="381" y="1909"/>
                      </a:lnTo>
                      <a:lnTo>
                        <a:pt x="361" y="1906"/>
                      </a:lnTo>
                      <a:lnTo>
                        <a:pt x="343" y="1903"/>
                      </a:lnTo>
                      <a:lnTo>
                        <a:pt x="323" y="1898"/>
                      </a:lnTo>
                      <a:lnTo>
                        <a:pt x="304" y="1892"/>
                      </a:lnTo>
                      <a:lnTo>
                        <a:pt x="287" y="1883"/>
                      </a:lnTo>
                      <a:lnTo>
                        <a:pt x="270" y="1876"/>
                      </a:lnTo>
                      <a:lnTo>
                        <a:pt x="253" y="1866"/>
                      </a:lnTo>
                      <a:lnTo>
                        <a:pt x="238" y="1858"/>
                      </a:lnTo>
                      <a:lnTo>
                        <a:pt x="224" y="1848"/>
                      </a:lnTo>
                      <a:lnTo>
                        <a:pt x="211" y="1836"/>
                      </a:lnTo>
                      <a:lnTo>
                        <a:pt x="193" y="1814"/>
                      </a:lnTo>
                      <a:lnTo>
                        <a:pt x="177" y="1789"/>
                      </a:lnTo>
                      <a:lnTo>
                        <a:pt x="161" y="1762"/>
                      </a:lnTo>
                      <a:lnTo>
                        <a:pt x="148" y="1734"/>
                      </a:lnTo>
                      <a:lnTo>
                        <a:pt x="137" y="1704"/>
                      </a:lnTo>
                      <a:lnTo>
                        <a:pt x="130" y="1672"/>
                      </a:lnTo>
                      <a:lnTo>
                        <a:pt x="127" y="1638"/>
                      </a:lnTo>
                      <a:lnTo>
                        <a:pt x="128" y="1602"/>
                      </a:lnTo>
                      <a:lnTo>
                        <a:pt x="107" y="1594"/>
                      </a:lnTo>
                      <a:lnTo>
                        <a:pt x="87" y="1584"/>
                      </a:lnTo>
                      <a:lnTo>
                        <a:pt x="70" y="1572"/>
                      </a:lnTo>
                      <a:lnTo>
                        <a:pt x="53" y="1560"/>
                      </a:lnTo>
                      <a:lnTo>
                        <a:pt x="37" y="1547"/>
                      </a:lnTo>
                      <a:lnTo>
                        <a:pt x="24" y="1532"/>
                      </a:lnTo>
                      <a:lnTo>
                        <a:pt x="11" y="1517"/>
                      </a:lnTo>
                      <a:lnTo>
                        <a:pt x="0" y="1500"/>
                      </a:lnTo>
                      <a:lnTo>
                        <a:pt x="1" y="1473"/>
                      </a:lnTo>
                      <a:lnTo>
                        <a:pt x="4" y="1445"/>
                      </a:lnTo>
                      <a:lnTo>
                        <a:pt x="10" y="1421"/>
                      </a:lnTo>
                      <a:lnTo>
                        <a:pt x="19" y="1398"/>
                      </a:lnTo>
                      <a:lnTo>
                        <a:pt x="29" y="1377"/>
                      </a:lnTo>
                      <a:lnTo>
                        <a:pt x="41" y="1357"/>
                      </a:lnTo>
                      <a:lnTo>
                        <a:pt x="56" y="1338"/>
                      </a:lnTo>
                      <a:lnTo>
                        <a:pt x="73" y="1321"/>
                      </a:lnTo>
                      <a:lnTo>
                        <a:pt x="73" y="1306"/>
                      </a:lnTo>
                      <a:lnTo>
                        <a:pt x="90" y="1286"/>
                      </a:lnTo>
                      <a:lnTo>
                        <a:pt x="104" y="1264"/>
                      </a:lnTo>
                      <a:lnTo>
                        <a:pt x="120" y="1241"/>
                      </a:lnTo>
                      <a:lnTo>
                        <a:pt x="136" y="1220"/>
                      </a:lnTo>
                      <a:lnTo>
                        <a:pt x="153" y="1199"/>
                      </a:lnTo>
                      <a:lnTo>
                        <a:pt x="171" y="1180"/>
                      </a:lnTo>
                      <a:lnTo>
                        <a:pt x="193" y="1164"/>
                      </a:lnTo>
                      <a:lnTo>
                        <a:pt x="217" y="1153"/>
                      </a:lnTo>
                      <a:lnTo>
                        <a:pt x="228" y="1126"/>
                      </a:lnTo>
                      <a:lnTo>
                        <a:pt x="235" y="1097"/>
                      </a:lnTo>
                      <a:lnTo>
                        <a:pt x="243" y="1067"/>
                      </a:lnTo>
                      <a:lnTo>
                        <a:pt x="253" y="1042"/>
                      </a:lnTo>
                      <a:lnTo>
                        <a:pt x="261" y="1029"/>
                      </a:lnTo>
                      <a:lnTo>
                        <a:pt x="270" y="1016"/>
                      </a:lnTo>
                      <a:lnTo>
                        <a:pt x="278" y="1005"/>
                      </a:lnTo>
                      <a:lnTo>
                        <a:pt x="290" y="995"/>
                      </a:lnTo>
                      <a:lnTo>
                        <a:pt x="301" y="985"/>
                      </a:lnTo>
                      <a:lnTo>
                        <a:pt x="314" y="976"/>
                      </a:lnTo>
                      <a:lnTo>
                        <a:pt x="328" y="970"/>
                      </a:lnTo>
                      <a:lnTo>
                        <a:pt x="343" y="965"/>
                      </a:lnTo>
                      <a:lnTo>
                        <a:pt x="370" y="970"/>
                      </a:lnTo>
                      <a:lnTo>
                        <a:pt x="397" y="977"/>
                      </a:lnTo>
                      <a:lnTo>
                        <a:pt x="424" y="986"/>
                      </a:lnTo>
                      <a:lnTo>
                        <a:pt x="450" y="996"/>
                      </a:lnTo>
                      <a:lnTo>
                        <a:pt x="475" y="1009"/>
                      </a:lnTo>
                      <a:lnTo>
                        <a:pt x="498" y="1024"/>
                      </a:lnTo>
                      <a:lnTo>
                        <a:pt x="518" y="1043"/>
                      </a:lnTo>
                      <a:lnTo>
                        <a:pt x="535" y="1066"/>
                      </a:lnTo>
                      <a:lnTo>
                        <a:pt x="544" y="1066"/>
                      </a:lnTo>
                      <a:lnTo>
                        <a:pt x="552" y="1069"/>
                      </a:lnTo>
                      <a:lnTo>
                        <a:pt x="561" y="1070"/>
                      </a:lnTo>
                      <a:lnTo>
                        <a:pt x="568" y="1072"/>
                      </a:lnTo>
                      <a:lnTo>
                        <a:pt x="577" y="1073"/>
                      </a:lnTo>
                      <a:lnTo>
                        <a:pt x="584" y="1072"/>
                      </a:lnTo>
                      <a:lnTo>
                        <a:pt x="589" y="1069"/>
                      </a:lnTo>
                      <a:lnTo>
                        <a:pt x="595" y="1063"/>
                      </a:lnTo>
                      <a:lnTo>
                        <a:pt x="605" y="1047"/>
                      </a:lnTo>
                      <a:lnTo>
                        <a:pt x="609" y="1027"/>
                      </a:lnTo>
                      <a:lnTo>
                        <a:pt x="611" y="1006"/>
                      </a:lnTo>
                      <a:lnTo>
                        <a:pt x="608" y="986"/>
                      </a:lnTo>
                      <a:lnTo>
                        <a:pt x="601" y="976"/>
                      </a:lnTo>
                      <a:lnTo>
                        <a:pt x="601" y="969"/>
                      </a:lnTo>
                      <a:lnTo>
                        <a:pt x="604" y="962"/>
                      </a:lnTo>
                      <a:lnTo>
                        <a:pt x="608" y="955"/>
                      </a:lnTo>
                      <a:lnTo>
                        <a:pt x="615" y="949"/>
                      </a:lnTo>
                      <a:lnTo>
                        <a:pt x="621" y="942"/>
                      </a:lnTo>
                      <a:lnTo>
                        <a:pt x="626" y="935"/>
                      </a:lnTo>
                      <a:lnTo>
                        <a:pt x="628" y="926"/>
                      </a:lnTo>
                      <a:lnTo>
                        <a:pt x="665" y="906"/>
                      </a:lnTo>
                      <a:lnTo>
                        <a:pt x="702" y="889"/>
                      </a:lnTo>
                      <a:lnTo>
                        <a:pt x="744" y="875"/>
                      </a:lnTo>
                      <a:lnTo>
                        <a:pt x="785" y="862"/>
                      </a:lnTo>
                      <a:lnTo>
                        <a:pt x="828" y="850"/>
                      </a:lnTo>
                      <a:lnTo>
                        <a:pt x="872" y="840"/>
                      </a:lnTo>
                      <a:lnTo>
                        <a:pt x="916" y="833"/>
                      </a:lnTo>
                      <a:lnTo>
                        <a:pt x="962" y="828"/>
                      </a:lnTo>
                      <a:lnTo>
                        <a:pt x="1006" y="822"/>
                      </a:lnTo>
                      <a:lnTo>
                        <a:pt x="1052" y="819"/>
                      </a:lnTo>
                      <a:lnTo>
                        <a:pt x="1097" y="816"/>
                      </a:lnTo>
                      <a:lnTo>
                        <a:pt x="1142" y="816"/>
                      </a:lnTo>
                      <a:lnTo>
                        <a:pt x="1184" y="815"/>
                      </a:lnTo>
                      <a:lnTo>
                        <a:pt x="1227" y="816"/>
                      </a:lnTo>
                      <a:lnTo>
                        <a:pt x="1269" y="818"/>
                      </a:lnTo>
                      <a:lnTo>
                        <a:pt x="1309" y="819"/>
                      </a:lnTo>
                      <a:lnTo>
                        <a:pt x="1319" y="802"/>
                      </a:lnTo>
                      <a:lnTo>
                        <a:pt x="1330" y="786"/>
                      </a:lnTo>
                      <a:lnTo>
                        <a:pt x="1344" y="773"/>
                      </a:lnTo>
                      <a:lnTo>
                        <a:pt x="1360" y="762"/>
                      </a:lnTo>
                      <a:lnTo>
                        <a:pt x="1376" y="753"/>
                      </a:lnTo>
                      <a:lnTo>
                        <a:pt x="1394" y="743"/>
                      </a:lnTo>
                      <a:lnTo>
                        <a:pt x="1413" y="736"/>
                      </a:lnTo>
                      <a:lnTo>
                        <a:pt x="1433" y="728"/>
                      </a:lnTo>
                      <a:lnTo>
                        <a:pt x="1450" y="725"/>
                      </a:lnTo>
                      <a:lnTo>
                        <a:pt x="1466" y="726"/>
                      </a:lnTo>
                      <a:lnTo>
                        <a:pt x="1480" y="731"/>
                      </a:lnTo>
                      <a:lnTo>
                        <a:pt x="1494" y="736"/>
                      </a:lnTo>
                      <a:lnTo>
                        <a:pt x="1506" y="745"/>
                      </a:lnTo>
                      <a:lnTo>
                        <a:pt x="1516" y="755"/>
                      </a:lnTo>
                      <a:lnTo>
                        <a:pt x="1524" y="765"/>
                      </a:lnTo>
                      <a:lnTo>
                        <a:pt x="1533" y="775"/>
                      </a:lnTo>
                      <a:lnTo>
                        <a:pt x="1551" y="773"/>
                      </a:lnTo>
                      <a:lnTo>
                        <a:pt x="1570" y="776"/>
                      </a:lnTo>
                      <a:lnTo>
                        <a:pt x="1587" y="781"/>
                      </a:lnTo>
                      <a:lnTo>
                        <a:pt x="1604" y="786"/>
                      </a:lnTo>
                      <a:lnTo>
                        <a:pt x="1620" y="792"/>
                      </a:lnTo>
                      <a:lnTo>
                        <a:pt x="1634" y="795"/>
                      </a:lnTo>
                      <a:lnTo>
                        <a:pt x="1648" y="795"/>
                      </a:lnTo>
                      <a:lnTo>
                        <a:pt x="1661" y="790"/>
                      </a:lnTo>
                      <a:lnTo>
                        <a:pt x="1660" y="790"/>
                      </a:lnTo>
                      <a:lnTo>
                        <a:pt x="1660" y="785"/>
                      </a:lnTo>
                      <a:lnTo>
                        <a:pt x="1661" y="785"/>
                      </a:lnTo>
                      <a:lnTo>
                        <a:pt x="1663" y="796"/>
                      </a:lnTo>
                      <a:lnTo>
                        <a:pt x="1663" y="808"/>
                      </a:lnTo>
                      <a:lnTo>
                        <a:pt x="1665" y="819"/>
                      </a:lnTo>
                      <a:lnTo>
                        <a:pt x="1675" y="826"/>
                      </a:lnTo>
                      <a:lnTo>
                        <a:pt x="1684" y="825"/>
                      </a:lnTo>
                      <a:lnTo>
                        <a:pt x="1688" y="820"/>
                      </a:lnTo>
                      <a:lnTo>
                        <a:pt x="1687" y="813"/>
                      </a:lnTo>
                      <a:lnTo>
                        <a:pt x="1685" y="806"/>
                      </a:lnTo>
                      <a:lnTo>
                        <a:pt x="1684" y="799"/>
                      </a:lnTo>
                      <a:lnTo>
                        <a:pt x="1685" y="792"/>
                      </a:lnTo>
                      <a:lnTo>
                        <a:pt x="1690" y="785"/>
                      </a:lnTo>
                      <a:lnTo>
                        <a:pt x="1701" y="782"/>
                      </a:lnTo>
                      <a:lnTo>
                        <a:pt x="1708" y="772"/>
                      </a:lnTo>
                      <a:lnTo>
                        <a:pt x="1704" y="765"/>
                      </a:lnTo>
                      <a:lnTo>
                        <a:pt x="1694" y="762"/>
                      </a:lnTo>
                      <a:lnTo>
                        <a:pt x="1684" y="763"/>
                      </a:lnTo>
                      <a:lnTo>
                        <a:pt x="1675" y="766"/>
                      </a:lnTo>
                      <a:lnTo>
                        <a:pt x="1673" y="769"/>
                      </a:lnTo>
                      <a:lnTo>
                        <a:pt x="1673" y="772"/>
                      </a:lnTo>
                      <a:lnTo>
                        <a:pt x="1673" y="776"/>
                      </a:lnTo>
                      <a:lnTo>
                        <a:pt x="1673" y="779"/>
                      </a:lnTo>
                      <a:lnTo>
                        <a:pt x="1670" y="772"/>
                      </a:lnTo>
                      <a:lnTo>
                        <a:pt x="1667" y="766"/>
                      </a:lnTo>
                      <a:lnTo>
                        <a:pt x="1661" y="762"/>
                      </a:lnTo>
                      <a:lnTo>
                        <a:pt x="1654" y="759"/>
                      </a:lnTo>
                      <a:lnTo>
                        <a:pt x="1647" y="758"/>
                      </a:lnTo>
                      <a:lnTo>
                        <a:pt x="1640" y="756"/>
                      </a:lnTo>
                      <a:lnTo>
                        <a:pt x="1631" y="755"/>
                      </a:lnTo>
                      <a:lnTo>
                        <a:pt x="1625" y="753"/>
                      </a:lnTo>
                      <a:lnTo>
                        <a:pt x="1588" y="753"/>
                      </a:lnTo>
                      <a:lnTo>
                        <a:pt x="1557" y="746"/>
                      </a:lnTo>
                      <a:lnTo>
                        <a:pt x="1527" y="732"/>
                      </a:lnTo>
                      <a:lnTo>
                        <a:pt x="1501" y="712"/>
                      </a:lnTo>
                      <a:lnTo>
                        <a:pt x="1478" y="689"/>
                      </a:lnTo>
                      <a:lnTo>
                        <a:pt x="1458" y="665"/>
                      </a:lnTo>
                      <a:lnTo>
                        <a:pt x="1441" y="638"/>
                      </a:lnTo>
                      <a:lnTo>
                        <a:pt x="1426" y="612"/>
                      </a:lnTo>
                      <a:lnTo>
                        <a:pt x="1424" y="586"/>
                      </a:lnTo>
                      <a:lnTo>
                        <a:pt x="1427" y="561"/>
                      </a:lnTo>
                      <a:lnTo>
                        <a:pt x="1433" y="535"/>
                      </a:lnTo>
                      <a:lnTo>
                        <a:pt x="1441" y="511"/>
                      </a:lnTo>
                      <a:lnTo>
                        <a:pt x="1453" y="485"/>
                      </a:lnTo>
                      <a:lnTo>
                        <a:pt x="1464" y="461"/>
                      </a:lnTo>
                      <a:lnTo>
                        <a:pt x="1478" y="437"/>
                      </a:lnTo>
                      <a:lnTo>
                        <a:pt x="1491" y="414"/>
                      </a:lnTo>
                      <a:lnTo>
                        <a:pt x="1510" y="390"/>
                      </a:lnTo>
                      <a:lnTo>
                        <a:pt x="1531" y="367"/>
                      </a:lnTo>
                      <a:lnTo>
                        <a:pt x="1553" y="345"/>
                      </a:lnTo>
                      <a:lnTo>
                        <a:pt x="1577" y="325"/>
                      </a:lnTo>
                      <a:lnTo>
                        <a:pt x="1601" y="307"/>
                      </a:lnTo>
                      <a:lnTo>
                        <a:pt x="1627" y="287"/>
                      </a:lnTo>
                      <a:lnTo>
                        <a:pt x="1654" y="268"/>
                      </a:lnTo>
                      <a:lnTo>
                        <a:pt x="1680" y="250"/>
                      </a:lnTo>
                      <a:lnTo>
                        <a:pt x="1665" y="243"/>
                      </a:lnTo>
                      <a:lnTo>
                        <a:pt x="1648" y="241"/>
                      </a:lnTo>
                      <a:lnTo>
                        <a:pt x="1630" y="243"/>
                      </a:lnTo>
                      <a:lnTo>
                        <a:pt x="1613" y="244"/>
                      </a:lnTo>
                      <a:lnTo>
                        <a:pt x="1597" y="245"/>
                      </a:lnTo>
                      <a:lnTo>
                        <a:pt x="1584" y="243"/>
                      </a:lnTo>
                      <a:lnTo>
                        <a:pt x="1578" y="233"/>
                      </a:lnTo>
                      <a:lnTo>
                        <a:pt x="1580" y="215"/>
                      </a:lnTo>
                      <a:lnTo>
                        <a:pt x="1605" y="205"/>
                      </a:lnTo>
                      <a:lnTo>
                        <a:pt x="1633" y="197"/>
                      </a:lnTo>
                      <a:lnTo>
                        <a:pt x="1661" y="188"/>
                      </a:lnTo>
                      <a:lnTo>
                        <a:pt x="1691" y="183"/>
                      </a:lnTo>
                      <a:lnTo>
                        <a:pt x="1720" y="176"/>
                      </a:lnTo>
                      <a:lnTo>
                        <a:pt x="1748" y="170"/>
                      </a:lnTo>
                      <a:lnTo>
                        <a:pt x="1777" y="163"/>
                      </a:lnTo>
                      <a:lnTo>
                        <a:pt x="1804" y="154"/>
                      </a:lnTo>
                      <a:lnTo>
                        <a:pt x="1815" y="133"/>
                      </a:lnTo>
                      <a:lnTo>
                        <a:pt x="1824" y="111"/>
                      </a:lnTo>
                      <a:lnTo>
                        <a:pt x="1831" y="90"/>
                      </a:lnTo>
                      <a:lnTo>
                        <a:pt x="1838" y="68"/>
                      </a:lnTo>
                      <a:lnTo>
                        <a:pt x="1847" y="49"/>
                      </a:lnTo>
                      <a:lnTo>
                        <a:pt x="1858" y="30"/>
                      </a:lnTo>
                      <a:lnTo>
                        <a:pt x="1872" y="14"/>
                      </a:lnTo>
                      <a:lnTo>
                        <a:pt x="1891" y="0"/>
                      </a:lnTo>
                      <a:lnTo>
                        <a:pt x="1909" y="4"/>
                      </a:lnTo>
                      <a:lnTo>
                        <a:pt x="1927" y="10"/>
                      </a:lnTo>
                      <a:lnTo>
                        <a:pt x="1944" y="17"/>
                      </a:lnTo>
                      <a:lnTo>
                        <a:pt x="1961" y="23"/>
                      </a:lnTo>
                      <a:lnTo>
                        <a:pt x="1978" y="31"/>
                      </a:lnTo>
                      <a:lnTo>
                        <a:pt x="1994" y="40"/>
                      </a:lnTo>
                      <a:lnTo>
                        <a:pt x="2009" y="49"/>
                      </a:lnTo>
                      <a:lnTo>
                        <a:pt x="2025" y="57"/>
                      </a:lnTo>
                      <a:lnTo>
                        <a:pt x="2041" y="67"/>
                      </a:lnTo>
                      <a:lnTo>
                        <a:pt x="2055" y="77"/>
                      </a:lnTo>
                      <a:lnTo>
                        <a:pt x="2069" y="87"/>
                      </a:lnTo>
                      <a:lnTo>
                        <a:pt x="2084" y="97"/>
                      </a:lnTo>
                      <a:lnTo>
                        <a:pt x="2096" y="108"/>
                      </a:lnTo>
                      <a:lnTo>
                        <a:pt x="2109" y="120"/>
                      </a:lnTo>
                      <a:lnTo>
                        <a:pt x="2122" y="130"/>
                      </a:lnTo>
                      <a:lnTo>
                        <a:pt x="2135" y="141"/>
                      </a:lnTo>
                      <a:lnTo>
                        <a:pt x="2135" y="154"/>
                      </a:lnTo>
                      <a:lnTo>
                        <a:pt x="2129" y="166"/>
                      </a:lnTo>
                      <a:lnTo>
                        <a:pt x="2124" y="177"/>
                      </a:lnTo>
                      <a:lnTo>
                        <a:pt x="2116" y="187"/>
                      </a:lnTo>
                      <a:lnTo>
                        <a:pt x="2111" y="195"/>
                      </a:lnTo>
                      <a:lnTo>
                        <a:pt x="2109" y="205"/>
                      </a:lnTo>
                      <a:lnTo>
                        <a:pt x="2112" y="214"/>
                      </a:lnTo>
                      <a:lnTo>
                        <a:pt x="2122" y="224"/>
                      </a:lnTo>
                      <a:lnTo>
                        <a:pt x="2149" y="224"/>
                      </a:lnTo>
                      <a:lnTo>
                        <a:pt x="2175" y="221"/>
                      </a:lnTo>
                      <a:lnTo>
                        <a:pt x="2202" y="220"/>
                      </a:lnTo>
                      <a:lnTo>
                        <a:pt x="2228" y="217"/>
                      </a:lnTo>
                      <a:lnTo>
                        <a:pt x="2251" y="218"/>
                      </a:lnTo>
                      <a:lnTo>
                        <a:pt x="2273" y="224"/>
                      </a:lnTo>
                      <a:lnTo>
                        <a:pt x="2293" y="235"/>
                      </a:lnTo>
                      <a:lnTo>
                        <a:pt x="2310" y="254"/>
                      </a:lnTo>
                      <a:lnTo>
                        <a:pt x="2308" y="273"/>
                      </a:lnTo>
                      <a:lnTo>
                        <a:pt x="2300" y="287"/>
                      </a:lnTo>
                      <a:lnTo>
                        <a:pt x="2288" y="295"/>
                      </a:lnTo>
                      <a:lnTo>
                        <a:pt x="2272" y="301"/>
                      </a:lnTo>
                      <a:lnTo>
                        <a:pt x="2253" y="304"/>
                      </a:lnTo>
                      <a:lnTo>
                        <a:pt x="2233" y="308"/>
                      </a:lnTo>
                      <a:lnTo>
                        <a:pt x="2215" y="311"/>
                      </a:lnTo>
                      <a:lnTo>
                        <a:pt x="2198" y="317"/>
                      </a:lnTo>
                      <a:lnTo>
                        <a:pt x="2205" y="341"/>
                      </a:lnTo>
                      <a:lnTo>
                        <a:pt x="2215" y="367"/>
                      </a:lnTo>
                      <a:lnTo>
                        <a:pt x="2219" y="394"/>
                      </a:lnTo>
                      <a:lnTo>
                        <a:pt x="2211" y="424"/>
                      </a:lnTo>
                      <a:lnTo>
                        <a:pt x="2199" y="437"/>
                      </a:lnTo>
                      <a:lnTo>
                        <a:pt x="2186" y="451"/>
                      </a:lnTo>
                      <a:lnTo>
                        <a:pt x="2176" y="467"/>
                      </a:lnTo>
                      <a:lnTo>
                        <a:pt x="2172" y="487"/>
                      </a:lnTo>
                      <a:lnTo>
                        <a:pt x="2183" y="494"/>
                      </a:lnTo>
                      <a:lnTo>
                        <a:pt x="2193" y="502"/>
                      </a:lnTo>
                      <a:lnTo>
                        <a:pt x="2203" y="512"/>
                      </a:lnTo>
                      <a:lnTo>
                        <a:pt x="2213" y="522"/>
                      </a:lnTo>
                      <a:lnTo>
                        <a:pt x="2222" y="532"/>
                      </a:lnTo>
                      <a:lnTo>
                        <a:pt x="2228" y="544"/>
                      </a:lnTo>
                      <a:lnTo>
                        <a:pt x="2232" y="554"/>
                      </a:lnTo>
                      <a:lnTo>
                        <a:pt x="2233" y="564"/>
                      </a:lnTo>
                      <a:lnTo>
                        <a:pt x="2229" y="579"/>
                      </a:lnTo>
                      <a:lnTo>
                        <a:pt x="2221" y="594"/>
                      </a:lnTo>
                      <a:lnTo>
                        <a:pt x="2211" y="606"/>
                      </a:lnTo>
                      <a:lnTo>
                        <a:pt x="2198" y="616"/>
                      </a:lnTo>
                      <a:lnTo>
                        <a:pt x="2183" y="625"/>
                      </a:lnTo>
                      <a:lnTo>
                        <a:pt x="2168" y="634"/>
                      </a:lnTo>
                      <a:lnTo>
                        <a:pt x="2152" y="641"/>
                      </a:lnTo>
                      <a:lnTo>
                        <a:pt x="2135" y="646"/>
                      </a:lnTo>
                      <a:lnTo>
                        <a:pt x="2121" y="651"/>
                      </a:lnTo>
                      <a:lnTo>
                        <a:pt x="2106" y="652"/>
                      </a:lnTo>
                      <a:lnTo>
                        <a:pt x="2092" y="652"/>
                      </a:lnTo>
                      <a:lnTo>
                        <a:pt x="2078" y="651"/>
                      </a:lnTo>
                      <a:lnTo>
                        <a:pt x="2062" y="649"/>
                      </a:lnTo>
                      <a:lnTo>
                        <a:pt x="2048" y="648"/>
                      </a:lnTo>
                      <a:lnTo>
                        <a:pt x="2034" y="645"/>
                      </a:lnTo>
                      <a:lnTo>
                        <a:pt x="2019" y="644"/>
                      </a:lnTo>
                      <a:lnTo>
                        <a:pt x="1847" y="726"/>
                      </a:lnTo>
                      <a:lnTo>
                        <a:pt x="1842" y="735"/>
                      </a:lnTo>
                      <a:lnTo>
                        <a:pt x="1838" y="742"/>
                      </a:lnTo>
                      <a:lnTo>
                        <a:pt x="1832" y="749"/>
                      </a:lnTo>
                      <a:lnTo>
                        <a:pt x="1830" y="759"/>
                      </a:lnTo>
                      <a:lnTo>
                        <a:pt x="1847" y="775"/>
                      </a:lnTo>
                      <a:lnTo>
                        <a:pt x="1882" y="769"/>
                      </a:lnTo>
                      <a:lnTo>
                        <a:pt x="1918" y="763"/>
                      </a:lnTo>
                      <a:lnTo>
                        <a:pt x="1952" y="758"/>
                      </a:lnTo>
                      <a:lnTo>
                        <a:pt x="1988" y="752"/>
                      </a:lnTo>
                      <a:lnTo>
                        <a:pt x="2022" y="746"/>
                      </a:lnTo>
                      <a:lnTo>
                        <a:pt x="2058" y="742"/>
                      </a:lnTo>
                      <a:lnTo>
                        <a:pt x="2092" y="736"/>
                      </a:lnTo>
                      <a:lnTo>
                        <a:pt x="2128" y="732"/>
                      </a:lnTo>
                      <a:lnTo>
                        <a:pt x="2162" y="728"/>
                      </a:lnTo>
                      <a:lnTo>
                        <a:pt x="2196" y="723"/>
                      </a:lnTo>
                      <a:lnTo>
                        <a:pt x="2232" y="719"/>
                      </a:lnTo>
                      <a:lnTo>
                        <a:pt x="2268" y="716"/>
                      </a:lnTo>
                      <a:lnTo>
                        <a:pt x="2303" y="713"/>
                      </a:lnTo>
                      <a:lnTo>
                        <a:pt x="2339" y="711"/>
                      </a:lnTo>
                      <a:lnTo>
                        <a:pt x="2375" y="709"/>
                      </a:lnTo>
                      <a:lnTo>
                        <a:pt x="2412" y="708"/>
                      </a:lnTo>
                      <a:lnTo>
                        <a:pt x="2420" y="709"/>
                      </a:lnTo>
                      <a:lnTo>
                        <a:pt x="2423" y="716"/>
                      </a:lnTo>
                      <a:lnTo>
                        <a:pt x="2422" y="728"/>
                      </a:lnTo>
                      <a:lnTo>
                        <a:pt x="2426" y="736"/>
                      </a:lnTo>
                      <a:lnTo>
                        <a:pt x="2433" y="751"/>
                      </a:lnTo>
                      <a:lnTo>
                        <a:pt x="2435" y="766"/>
                      </a:lnTo>
                      <a:lnTo>
                        <a:pt x="2430" y="782"/>
                      </a:lnTo>
                      <a:lnTo>
                        <a:pt x="2422" y="795"/>
                      </a:lnTo>
                      <a:lnTo>
                        <a:pt x="2349" y="829"/>
                      </a:lnTo>
                      <a:lnTo>
                        <a:pt x="2318" y="823"/>
                      </a:lnTo>
                      <a:lnTo>
                        <a:pt x="2288" y="819"/>
                      </a:lnTo>
                      <a:lnTo>
                        <a:pt x="2256" y="815"/>
                      </a:lnTo>
                      <a:lnTo>
                        <a:pt x="2225" y="812"/>
                      </a:lnTo>
                      <a:lnTo>
                        <a:pt x="2195" y="810"/>
                      </a:lnTo>
                      <a:lnTo>
                        <a:pt x="2163" y="809"/>
                      </a:lnTo>
                      <a:lnTo>
                        <a:pt x="2132" y="809"/>
                      </a:lnTo>
                      <a:lnTo>
                        <a:pt x="2101" y="810"/>
                      </a:lnTo>
                      <a:lnTo>
                        <a:pt x="2071" y="810"/>
                      </a:lnTo>
                      <a:lnTo>
                        <a:pt x="2039" y="812"/>
                      </a:lnTo>
                      <a:lnTo>
                        <a:pt x="2008" y="815"/>
                      </a:lnTo>
                      <a:lnTo>
                        <a:pt x="1978" y="816"/>
                      </a:lnTo>
                      <a:lnTo>
                        <a:pt x="1947" y="819"/>
                      </a:lnTo>
                      <a:lnTo>
                        <a:pt x="1917" y="822"/>
                      </a:lnTo>
                      <a:lnTo>
                        <a:pt x="1885" y="823"/>
                      </a:lnTo>
                      <a:lnTo>
                        <a:pt x="1855" y="826"/>
                      </a:lnTo>
                      <a:lnTo>
                        <a:pt x="1842" y="836"/>
                      </a:lnTo>
                      <a:lnTo>
                        <a:pt x="1862" y="846"/>
                      </a:lnTo>
                      <a:lnTo>
                        <a:pt x="1885" y="852"/>
                      </a:lnTo>
                      <a:lnTo>
                        <a:pt x="1908" y="856"/>
                      </a:lnTo>
                      <a:lnTo>
                        <a:pt x="1931" y="858"/>
                      </a:lnTo>
                      <a:lnTo>
                        <a:pt x="1955" y="860"/>
                      </a:lnTo>
                      <a:lnTo>
                        <a:pt x="1977" y="865"/>
                      </a:lnTo>
                      <a:lnTo>
                        <a:pt x="1997" y="875"/>
                      </a:lnTo>
                      <a:lnTo>
                        <a:pt x="2015" y="890"/>
                      </a:lnTo>
                      <a:lnTo>
                        <a:pt x="2029" y="903"/>
                      </a:lnTo>
                      <a:lnTo>
                        <a:pt x="2039" y="920"/>
                      </a:lnTo>
                      <a:lnTo>
                        <a:pt x="2042" y="939"/>
                      </a:lnTo>
                      <a:lnTo>
                        <a:pt x="2035" y="957"/>
                      </a:lnTo>
                      <a:lnTo>
                        <a:pt x="2025" y="983"/>
                      </a:lnTo>
                      <a:lnTo>
                        <a:pt x="2011" y="1006"/>
                      </a:lnTo>
                      <a:lnTo>
                        <a:pt x="1992" y="1026"/>
                      </a:lnTo>
                      <a:lnTo>
                        <a:pt x="1971" y="1043"/>
                      </a:lnTo>
                      <a:lnTo>
                        <a:pt x="1948" y="1060"/>
                      </a:lnTo>
                      <a:lnTo>
                        <a:pt x="1927" y="1076"/>
                      </a:lnTo>
                      <a:lnTo>
                        <a:pt x="1904" y="1092"/>
                      </a:lnTo>
                      <a:lnTo>
                        <a:pt x="1885" y="1109"/>
                      </a:lnTo>
                      <a:lnTo>
                        <a:pt x="1887" y="1119"/>
                      </a:lnTo>
                      <a:lnTo>
                        <a:pt x="1892" y="1127"/>
                      </a:lnTo>
                      <a:lnTo>
                        <a:pt x="1899" y="1133"/>
                      </a:lnTo>
                      <a:lnTo>
                        <a:pt x="1908" y="1137"/>
                      </a:lnTo>
                      <a:lnTo>
                        <a:pt x="1918" y="1142"/>
                      </a:lnTo>
                      <a:lnTo>
                        <a:pt x="1927" y="1146"/>
                      </a:lnTo>
                      <a:lnTo>
                        <a:pt x="1934" y="1151"/>
                      </a:lnTo>
                      <a:lnTo>
                        <a:pt x="1939" y="1159"/>
                      </a:lnTo>
                      <a:lnTo>
                        <a:pt x="1958" y="1179"/>
                      </a:lnTo>
                      <a:lnTo>
                        <a:pt x="1977" y="1199"/>
                      </a:lnTo>
                      <a:lnTo>
                        <a:pt x="1995" y="1220"/>
                      </a:lnTo>
                      <a:lnTo>
                        <a:pt x="2012" y="1243"/>
                      </a:lnTo>
                      <a:lnTo>
                        <a:pt x="2029" y="1264"/>
                      </a:lnTo>
                      <a:lnTo>
                        <a:pt x="2042" y="1287"/>
                      </a:lnTo>
                      <a:lnTo>
                        <a:pt x="2055" y="1310"/>
                      </a:lnTo>
                      <a:lnTo>
                        <a:pt x="2064" y="1331"/>
                      </a:lnTo>
                      <a:lnTo>
                        <a:pt x="2076" y="1338"/>
                      </a:lnTo>
                      <a:lnTo>
                        <a:pt x="2085" y="1351"/>
                      </a:lnTo>
                      <a:lnTo>
                        <a:pt x="2091" y="1367"/>
                      </a:lnTo>
                      <a:lnTo>
                        <a:pt x="2095" y="1383"/>
                      </a:lnTo>
                      <a:lnTo>
                        <a:pt x="2102" y="1397"/>
                      </a:lnTo>
                      <a:lnTo>
                        <a:pt x="2111" y="1408"/>
                      </a:lnTo>
                      <a:lnTo>
                        <a:pt x="2125" y="1414"/>
                      </a:lnTo>
                      <a:lnTo>
                        <a:pt x="2148" y="1414"/>
                      </a:lnTo>
                      <a:lnTo>
                        <a:pt x="2168" y="1417"/>
                      </a:lnTo>
                      <a:lnTo>
                        <a:pt x="2186" y="1420"/>
                      </a:lnTo>
                      <a:lnTo>
                        <a:pt x="2203" y="1424"/>
                      </a:lnTo>
                      <a:lnTo>
                        <a:pt x="2221" y="1428"/>
                      </a:lnTo>
                      <a:lnTo>
                        <a:pt x="2238" y="1434"/>
                      </a:lnTo>
                      <a:lnTo>
                        <a:pt x="2256" y="1438"/>
                      </a:lnTo>
                      <a:lnTo>
                        <a:pt x="2275" y="1444"/>
                      </a:lnTo>
                      <a:lnTo>
                        <a:pt x="2293" y="1448"/>
                      </a:lnTo>
                      <a:lnTo>
                        <a:pt x="2295" y="1455"/>
                      </a:lnTo>
                      <a:lnTo>
                        <a:pt x="2300" y="1460"/>
                      </a:lnTo>
                      <a:lnTo>
                        <a:pt x="2302" y="1464"/>
                      </a:lnTo>
                      <a:lnTo>
                        <a:pt x="2293" y="1468"/>
                      </a:lnTo>
                      <a:lnTo>
                        <a:pt x="2236" y="1455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6249240" y="4621320"/>
                  <a:ext cx="209160" cy="110880"/>
                </a:xfrm>
                <a:custGeom>
                  <a:avLst/>
                  <a:gdLst/>
                  <a:ahLst/>
                  <a:rect l="l" t="t" r="r" b="b"/>
                  <a:pathLst>
                    <a:path w="264" h="139">
                      <a:moveTo>
                        <a:pt x="263" y="115"/>
                      </a:moveTo>
                      <a:lnTo>
                        <a:pt x="259" y="122"/>
                      </a:lnTo>
                      <a:lnTo>
                        <a:pt x="253" y="129"/>
                      </a:lnTo>
                      <a:lnTo>
                        <a:pt x="246" y="134"/>
                      </a:lnTo>
                      <a:lnTo>
                        <a:pt x="237" y="138"/>
                      </a:lnTo>
                      <a:lnTo>
                        <a:pt x="227" y="139"/>
                      </a:lnTo>
                      <a:lnTo>
                        <a:pt x="219" y="139"/>
                      </a:lnTo>
                      <a:lnTo>
                        <a:pt x="210" y="136"/>
                      </a:lnTo>
                      <a:lnTo>
                        <a:pt x="203" y="131"/>
                      </a:lnTo>
                      <a:lnTo>
                        <a:pt x="177" y="121"/>
                      </a:lnTo>
                      <a:lnTo>
                        <a:pt x="150" y="112"/>
                      </a:lnTo>
                      <a:lnTo>
                        <a:pt x="123" y="102"/>
                      </a:lnTo>
                      <a:lnTo>
                        <a:pt x="96" y="94"/>
                      </a:lnTo>
                      <a:lnTo>
                        <a:pt x="70" y="85"/>
                      </a:lnTo>
                      <a:lnTo>
                        <a:pt x="44" y="75"/>
                      </a:lnTo>
                      <a:lnTo>
                        <a:pt x="22" y="67"/>
                      </a:lnTo>
                      <a:lnTo>
                        <a:pt x="0" y="57"/>
                      </a:lnTo>
                      <a:lnTo>
                        <a:pt x="9" y="51"/>
                      </a:lnTo>
                      <a:lnTo>
                        <a:pt x="13" y="42"/>
                      </a:lnTo>
                      <a:lnTo>
                        <a:pt x="17" y="34"/>
                      </a:lnTo>
                      <a:lnTo>
                        <a:pt x="20" y="24"/>
                      </a:lnTo>
                      <a:lnTo>
                        <a:pt x="23" y="15"/>
                      </a:lnTo>
                      <a:lnTo>
                        <a:pt x="29" y="8"/>
                      </a:lnTo>
                      <a:lnTo>
                        <a:pt x="37" y="2"/>
                      </a:lnTo>
                      <a:lnTo>
                        <a:pt x="49" y="0"/>
                      </a:lnTo>
                      <a:lnTo>
                        <a:pt x="63" y="1"/>
                      </a:lnTo>
                      <a:lnTo>
                        <a:pt x="79" y="4"/>
                      </a:lnTo>
                      <a:lnTo>
                        <a:pt x="96" y="8"/>
                      </a:lnTo>
                      <a:lnTo>
                        <a:pt x="114" y="14"/>
                      </a:lnTo>
                      <a:lnTo>
                        <a:pt x="133" y="21"/>
                      </a:lnTo>
                      <a:lnTo>
                        <a:pt x="152" y="28"/>
                      </a:lnTo>
                      <a:lnTo>
                        <a:pt x="170" y="37"/>
                      </a:lnTo>
                      <a:lnTo>
                        <a:pt x="189" y="47"/>
                      </a:lnTo>
                      <a:lnTo>
                        <a:pt x="204" y="55"/>
                      </a:lnTo>
                      <a:lnTo>
                        <a:pt x="220" y="65"/>
                      </a:lnTo>
                      <a:lnTo>
                        <a:pt x="234" y="75"/>
                      </a:lnTo>
                      <a:lnTo>
                        <a:pt x="246" y="84"/>
                      </a:lnTo>
                      <a:lnTo>
                        <a:pt x="254" y="94"/>
                      </a:lnTo>
                      <a:lnTo>
                        <a:pt x="260" y="101"/>
                      </a:lnTo>
                      <a:lnTo>
                        <a:pt x="264" y="109"/>
                      </a:lnTo>
                      <a:lnTo>
                        <a:pt x="263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6339600" y="4637160"/>
                  <a:ext cx="78840" cy="27000"/>
                </a:xfrm>
                <a:custGeom>
                  <a:avLst/>
                  <a:gdLst/>
                  <a:ahLst/>
                  <a:rect l="l" t="t" r="r" b="b"/>
                  <a:pathLst>
                    <a:path w="100" h="35">
                      <a:moveTo>
                        <a:pt x="100" y="35"/>
                      </a:moveTo>
                      <a:lnTo>
                        <a:pt x="88" y="33"/>
                      </a:lnTo>
                      <a:lnTo>
                        <a:pt x="77" y="29"/>
                      </a:lnTo>
                      <a:lnTo>
                        <a:pt x="65" y="23"/>
                      </a:lnTo>
                      <a:lnTo>
                        <a:pt x="55" y="18"/>
                      </a:lnTo>
                      <a:lnTo>
                        <a:pt x="44" y="13"/>
                      </a:lnTo>
                      <a:lnTo>
                        <a:pt x="34" y="12"/>
                      </a:lnTo>
                      <a:lnTo>
                        <a:pt x="22" y="15"/>
                      </a:lnTo>
                      <a:lnTo>
                        <a:pt x="12" y="22"/>
                      </a:lnTo>
                      <a:lnTo>
                        <a:pt x="5" y="20"/>
                      </a:lnTo>
                      <a:lnTo>
                        <a:pt x="2" y="16"/>
                      </a:lnTo>
                      <a:lnTo>
                        <a:pt x="0" y="10"/>
                      </a:lnTo>
                      <a:lnTo>
                        <a:pt x="0" y="3"/>
                      </a:lnTo>
                      <a:lnTo>
                        <a:pt x="14" y="0"/>
                      </a:lnTo>
                      <a:lnTo>
                        <a:pt x="30" y="0"/>
                      </a:lnTo>
                      <a:lnTo>
                        <a:pt x="44" y="2"/>
                      </a:lnTo>
                      <a:lnTo>
                        <a:pt x="60" y="6"/>
                      </a:lnTo>
                      <a:lnTo>
                        <a:pt x="72" y="13"/>
                      </a:lnTo>
                      <a:lnTo>
                        <a:pt x="85" y="19"/>
                      </a:lnTo>
                      <a:lnTo>
                        <a:pt x="94" y="28"/>
                      </a:lnTo>
                      <a:lnTo>
                        <a:pt x="10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>
                  <a:off x="6361920" y="4727520"/>
                  <a:ext cx="240840" cy="27000"/>
                </a:xfrm>
                <a:custGeom>
                  <a:avLst/>
                  <a:gdLst/>
                  <a:ahLst/>
                  <a:rect l="l" t="t" r="r" b="b"/>
                  <a:pathLst>
                    <a:path w="304" h="34">
                      <a:moveTo>
                        <a:pt x="304" y="27"/>
                      </a:moveTo>
                      <a:lnTo>
                        <a:pt x="287" y="29"/>
                      </a:lnTo>
                      <a:lnTo>
                        <a:pt x="268" y="30"/>
                      </a:lnTo>
                      <a:lnTo>
                        <a:pt x="250" y="32"/>
                      </a:lnTo>
                      <a:lnTo>
                        <a:pt x="231" y="32"/>
                      </a:lnTo>
                      <a:lnTo>
                        <a:pt x="213" y="32"/>
                      </a:lnTo>
                      <a:lnTo>
                        <a:pt x="194" y="32"/>
                      </a:lnTo>
                      <a:lnTo>
                        <a:pt x="174" y="32"/>
                      </a:lnTo>
                      <a:lnTo>
                        <a:pt x="156" y="32"/>
                      </a:lnTo>
                      <a:lnTo>
                        <a:pt x="136" y="32"/>
                      </a:lnTo>
                      <a:lnTo>
                        <a:pt x="116" y="32"/>
                      </a:lnTo>
                      <a:lnTo>
                        <a:pt x="97" y="32"/>
                      </a:lnTo>
                      <a:lnTo>
                        <a:pt x="77" y="32"/>
                      </a:lnTo>
                      <a:lnTo>
                        <a:pt x="57" y="32"/>
                      </a:lnTo>
                      <a:lnTo>
                        <a:pt x="39" y="33"/>
                      </a:lnTo>
                      <a:lnTo>
                        <a:pt x="19" y="33"/>
                      </a:lnTo>
                      <a:lnTo>
                        <a:pt x="0" y="34"/>
                      </a:lnTo>
                      <a:lnTo>
                        <a:pt x="17" y="30"/>
                      </a:lnTo>
                      <a:lnTo>
                        <a:pt x="36" y="26"/>
                      </a:lnTo>
                      <a:lnTo>
                        <a:pt x="54" y="20"/>
                      </a:lnTo>
                      <a:lnTo>
                        <a:pt x="73" y="16"/>
                      </a:lnTo>
                      <a:lnTo>
                        <a:pt x="93" y="12"/>
                      </a:lnTo>
                      <a:lnTo>
                        <a:pt x="111" y="7"/>
                      </a:lnTo>
                      <a:lnTo>
                        <a:pt x="131" y="4"/>
                      </a:lnTo>
                      <a:lnTo>
                        <a:pt x="151" y="2"/>
                      </a:lnTo>
                      <a:lnTo>
                        <a:pt x="171" y="0"/>
                      </a:lnTo>
                      <a:lnTo>
                        <a:pt x="190" y="0"/>
                      </a:lnTo>
                      <a:lnTo>
                        <a:pt x="210" y="0"/>
                      </a:lnTo>
                      <a:lnTo>
                        <a:pt x="230" y="2"/>
                      </a:lnTo>
                      <a:lnTo>
                        <a:pt x="248" y="6"/>
                      </a:lnTo>
                      <a:lnTo>
                        <a:pt x="267" y="12"/>
                      </a:lnTo>
                      <a:lnTo>
                        <a:pt x="285" y="19"/>
                      </a:lnTo>
                      <a:lnTo>
                        <a:pt x="30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>
                  <a:off x="6130800" y="4764240"/>
                  <a:ext cx="631440" cy="401400"/>
                </a:xfrm>
                <a:custGeom>
                  <a:avLst/>
                  <a:gdLst/>
                  <a:ahLst/>
                  <a:rect l="l" t="t" r="r" b="b"/>
                  <a:pathLst>
                    <a:path w="795" h="505">
                      <a:moveTo>
                        <a:pt x="792" y="29"/>
                      </a:moveTo>
                      <a:lnTo>
                        <a:pt x="795" y="32"/>
                      </a:lnTo>
                      <a:lnTo>
                        <a:pt x="791" y="39"/>
                      </a:lnTo>
                      <a:lnTo>
                        <a:pt x="782" y="45"/>
                      </a:lnTo>
                      <a:lnTo>
                        <a:pt x="772" y="49"/>
                      </a:lnTo>
                      <a:lnTo>
                        <a:pt x="761" y="52"/>
                      </a:lnTo>
                      <a:lnTo>
                        <a:pt x="748" y="55"/>
                      </a:lnTo>
                      <a:lnTo>
                        <a:pt x="735" y="57"/>
                      </a:lnTo>
                      <a:lnTo>
                        <a:pt x="722" y="59"/>
                      </a:lnTo>
                      <a:lnTo>
                        <a:pt x="711" y="60"/>
                      </a:lnTo>
                      <a:lnTo>
                        <a:pt x="632" y="19"/>
                      </a:lnTo>
                      <a:lnTo>
                        <a:pt x="625" y="26"/>
                      </a:lnTo>
                      <a:lnTo>
                        <a:pt x="640" y="33"/>
                      </a:lnTo>
                      <a:lnTo>
                        <a:pt x="655" y="43"/>
                      </a:lnTo>
                      <a:lnTo>
                        <a:pt x="670" y="53"/>
                      </a:lnTo>
                      <a:lnTo>
                        <a:pt x="684" y="65"/>
                      </a:lnTo>
                      <a:lnTo>
                        <a:pt x="695" y="79"/>
                      </a:lnTo>
                      <a:lnTo>
                        <a:pt x="705" y="94"/>
                      </a:lnTo>
                      <a:lnTo>
                        <a:pt x="712" y="112"/>
                      </a:lnTo>
                      <a:lnTo>
                        <a:pt x="715" y="130"/>
                      </a:lnTo>
                      <a:lnTo>
                        <a:pt x="702" y="136"/>
                      </a:lnTo>
                      <a:lnTo>
                        <a:pt x="691" y="132"/>
                      </a:lnTo>
                      <a:lnTo>
                        <a:pt x="682" y="126"/>
                      </a:lnTo>
                      <a:lnTo>
                        <a:pt x="679" y="122"/>
                      </a:lnTo>
                      <a:lnTo>
                        <a:pt x="684" y="112"/>
                      </a:lnTo>
                      <a:lnTo>
                        <a:pt x="681" y="104"/>
                      </a:lnTo>
                      <a:lnTo>
                        <a:pt x="672" y="99"/>
                      </a:lnTo>
                      <a:lnTo>
                        <a:pt x="664" y="93"/>
                      </a:lnTo>
                      <a:lnTo>
                        <a:pt x="655" y="92"/>
                      </a:lnTo>
                      <a:lnTo>
                        <a:pt x="648" y="90"/>
                      </a:lnTo>
                      <a:lnTo>
                        <a:pt x="640" y="90"/>
                      </a:lnTo>
                      <a:lnTo>
                        <a:pt x="632" y="90"/>
                      </a:lnTo>
                      <a:lnTo>
                        <a:pt x="632" y="97"/>
                      </a:lnTo>
                      <a:lnTo>
                        <a:pt x="635" y="103"/>
                      </a:lnTo>
                      <a:lnTo>
                        <a:pt x="640" y="106"/>
                      </a:lnTo>
                      <a:lnTo>
                        <a:pt x="645" y="109"/>
                      </a:lnTo>
                      <a:lnTo>
                        <a:pt x="654" y="109"/>
                      </a:lnTo>
                      <a:lnTo>
                        <a:pt x="648" y="117"/>
                      </a:lnTo>
                      <a:lnTo>
                        <a:pt x="635" y="119"/>
                      </a:lnTo>
                      <a:lnTo>
                        <a:pt x="625" y="123"/>
                      </a:lnTo>
                      <a:lnTo>
                        <a:pt x="625" y="137"/>
                      </a:lnTo>
                      <a:lnTo>
                        <a:pt x="654" y="150"/>
                      </a:lnTo>
                      <a:lnTo>
                        <a:pt x="647" y="152"/>
                      </a:lnTo>
                      <a:lnTo>
                        <a:pt x="640" y="153"/>
                      </a:lnTo>
                      <a:lnTo>
                        <a:pt x="632" y="154"/>
                      </a:lnTo>
                      <a:lnTo>
                        <a:pt x="628" y="160"/>
                      </a:lnTo>
                      <a:lnTo>
                        <a:pt x="628" y="172"/>
                      </a:lnTo>
                      <a:lnTo>
                        <a:pt x="631" y="183"/>
                      </a:lnTo>
                      <a:lnTo>
                        <a:pt x="637" y="192"/>
                      </a:lnTo>
                      <a:lnTo>
                        <a:pt x="644" y="199"/>
                      </a:lnTo>
                      <a:lnTo>
                        <a:pt x="651" y="204"/>
                      </a:lnTo>
                      <a:lnTo>
                        <a:pt x="661" y="210"/>
                      </a:lnTo>
                      <a:lnTo>
                        <a:pt x="670" y="213"/>
                      </a:lnTo>
                      <a:lnTo>
                        <a:pt x="679" y="214"/>
                      </a:lnTo>
                      <a:lnTo>
                        <a:pt x="684" y="200"/>
                      </a:lnTo>
                      <a:lnTo>
                        <a:pt x="694" y="190"/>
                      </a:lnTo>
                      <a:lnTo>
                        <a:pt x="701" y="180"/>
                      </a:lnTo>
                      <a:lnTo>
                        <a:pt x="702" y="166"/>
                      </a:lnTo>
                      <a:lnTo>
                        <a:pt x="708" y="166"/>
                      </a:lnTo>
                      <a:lnTo>
                        <a:pt x="708" y="182"/>
                      </a:lnTo>
                      <a:lnTo>
                        <a:pt x="707" y="196"/>
                      </a:lnTo>
                      <a:lnTo>
                        <a:pt x="704" y="209"/>
                      </a:lnTo>
                      <a:lnTo>
                        <a:pt x="698" y="221"/>
                      </a:lnTo>
                      <a:lnTo>
                        <a:pt x="692" y="233"/>
                      </a:lnTo>
                      <a:lnTo>
                        <a:pt x="684" y="243"/>
                      </a:lnTo>
                      <a:lnTo>
                        <a:pt x="672" y="253"/>
                      </a:lnTo>
                      <a:lnTo>
                        <a:pt x="661" y="261"/>
                      </a:lnTo>
                      <a:lnTo>
                        <a:pt x="651" y="263"/>
                      </a:lnTo>
                      <a:lnTo>
                        <a:pt x="642" y="266"/>
                      </a:lnTo>
                      <a:lnTo>
                        <a:pt x="634" y="269"/>
                      </a:lnTo>
                      <a:lnTo>
                        <a:pt x="625" y="274"/>
                      </a:lnTo>
                      <a:lnTo>
                        <a:pt x="632" y="283"/>
                      </a:lnTo>
                      <a:lnTo>
                        <a:pt x="642" y="286"/>
                      </a:lnTo>
                      <a:lnTo>
                        <a:pt x="652" y="284"/>
                      </a:lnTo>
                      <a:lnTo>
                        <a:pt x="662" y="283"/>
                      </a:lnTo>
                      <a:lnTo>
                        <a:pt x="674" y="280"/>
                      </a:lnTo>
                      <a:lnTo>
                        <a:pt x="685" y="279"/>
                      </a:lnTo>
                      <a:lnTo>
                        <a:pt x="697" y="279"/>
                      </a:lnTo>
                      <a:lnTo>
                        <a:pt x="708" y="284"/>
                      </a:lnTo>
                      <a:lnTo>
                        <a:pt x="715" y="291"/>
                      </a:lnTo>
                      <a:lnTo>
                        <a:pt x="722" y="299"/>
                      </a:lnTo>
                      <a:lnTo>
                        <a:pt x="729" y="306"/>
                      </a:lnTo>
                      <a:lnTo>
                        <a:pt x="735" y="314"/>
                      </a:lnTo>
                      <a:lnTo>
                        <a:pt x="739" y="323"/>
                      </a:lnTo>
                      <a:lnTo>
                        <a:pt x="742" y="331"/>
                      </a:lnTo>
                      <a:lnTo>
                        <a:pt x="741" y="341"/>
                      </a:lnTo>
                      <a:lnTo>
                        <a:pt x="737" y="351"/>
                      </a:lnTo>
                      <a:lnTo>
                        <a:pt x="728" y="363"/>
                      </a:lnTo>
                      <a:lnTo>
                        <a:pt x="715" y="373"/>
                      </a:lnTo>
                      <a:lnTo>
                        <a:pt x="701" y="381"/>
                      </a:lnTo>
                      <a:lnTo>
                        <a:pt x="684" y="388"/>
                      </a:lnTo>
                      <a:lnTo>
                        <a:pt x="667" y="394"/>
                      </a:lnTo>
                      <a:lnTo>
                        <a:pt x="648" y="398"/>
                      </a:lnTo>
                      <a:lnTo>
                        <a:pt x="630" y="398"/>
                      </a:lnTo>
                      <a:lnTo>
                        <a:pt x="612" y="397"/>
                      </a:lnTo>
                      <a:lnTo>
                        <a:pt x="597" y="393"/>
                      </a:lnTo>
                      <a:lnTo>
                        <a:pt x="584" y="390"/>
                      </a:lnTo>
                      <a:lnTo>
                        <a:pt x="574" y="386"/>
                      </a:lnTo>
                      <a:lnTo>
                        <a:pt x="565" y="381"/>
                      </a:lnTo>
                      <a:lnTo>
                        <a:pt x="560" y="378"/>
                      </a:lnTo>
                      <a:lnTo>
                        <a:pt x="555" y="377"/>
                      </a:lnTo>
                      <a:lnTo>
                        <a:pt x="552" y="374"/>
                      </a:lnTo>
                      <a:lnTo>
                        <a:pt x="552" y="374"/>
                      </a:lnTo>
                      <a:lnTo>
                        <a:pt x="530" y="390"/>
                      </a:lnTo>
                      <a:lnTo>
                        <a:pt x="507" y="406"/>
                      </a:lnTo>
                      <a:lnTo>
                        <a:pt x="483" y="420"/>
                      </a:lnTo>
                      <a:lnTo>
                        <a:pt x="457" y="434"/>
                      </a:lnTo>
                      <a:lnTo>
                        <a:pt x="431" y="448"/>
                      </a:lnTo>
                      <a:lnTo>
                        <a:pt x="404" y="461"/>
                      </a:lnTo>
                      <a:lnTo>
                        <a:pt x="377" y="473"/>
                      </a:lnTo>
                      <a:lnTo>
                        <a:pt x="350" y="483"/>
                      </a:lnTo>
                      <a:lnTo>
                        <a:pt x="321" y="491"/>
                      </a:lnTo>
                      <a:lnTo>
                        <a:pt x="291" y="497"/>
                      </a:lnTo>
                      <a:lnTo>
                        <a:pt x="263" y="503"/>
                      </a:lnTo>
                      <a:lnTo>
                        <a:pt x="233" y="505"/>
                      </a:lnTo>
                      <a:lnTo>
                        <a:pt x="203" y="505"/>
                      </a:lnTo>
                      <a:lnTo>
                        <a:pt x="173" y="504"/>
                      </a:lnTo>
                      <a:lnTo>
                        <a:pt x="143" y="500"/>
                      </a:lnTo>
                      <a:lnTo>
                        <a:pt x="113" y="493"/>
                      </a:lnTo>
                      <a:lnTo>
                        <a:pt x="87" y="483"/>
                      </a:lnTo>
                      <a:lnTo>
                        <a:pt x="64" y="470"/>
                      </a:lnTo>
                      <a:lnTo>
                        <a:pt x="46" y="454"/>
                      </a:lnTo>
                      <a:lnTo>
                        <a:pt x="32" y="437"/>
                      </a:lnTo>
                      <a:lnTo>
                        <a:pt x="19" y="416"/>
                      </a:lnTo>
                      <a:lnTo>
                        <a:pt x="10" y="394"/>
                      </a:lnTo>
                      <a:lnTo>
                        <a:pt x="4" y="368"/>
                      </a:lnTo>
                      <a:lnTo>
                        <a:pt x="0" y="343"/>
                      </a:lnTo>
                      <a:lnTo>
                        <a:pt x="4" y="316"/>
                      </a:lnTo>
                      <a:lnTo>
                        <a:pt x="12" y="290"/>
                      </a:lnTo>
                      <a:lnTo>
                        <a:pt x="22" y="266"/>
                      </a:lnTo>
                      <a:lnTo>
                        <a:pt x="33" y="241"/>
                      </a:lnTo>
                      <a:lnTo>
                        <a:pt x="44" y="219"/>
                      </a:lnTo>
                      <a:lnTo>
                        <a:pt x="59" y="197"/>
                      </a:lnTo>
                      <a:lnTo>
                        <a:pt x="74" y="177"/>
                      </a:lnTo>
                      <a:lnTo>
                        <a:pt x="92" y="157"/>
                      </a:lnTo>
                      <a:lnTo>
                        <a:pt x="109" y="139"/>
                      </a:lnTo>
                      <a:lnTo>
                        <a:pt x="127" y="120"/>
                      </a:lnTo>
                      <a:lnTo>
                        <a:pt x="147" y="102"/>
                      </a:lnTo>
                      <a:lnTo>
                        <a:pt x="167" y="84"/>
                      </a:lnTo>
                      <a:lnTo>
                        <a:pt x="187" y="67"/>
                      </a:lnTo>
                      <a:lnTo>
                        <a:pt x="207" y="52"/>
                      </a:lnTo>
                      <a:lnTo>
                        <a:pt x="227" y="35"/>
                      </a:lnTo>
                      <a:lnTo>
                        <a:pt x="247" y="19"/>
                      </a:lnTo>
                      <a:lnTo>
                        <a:pt x="259" y="16"/>
                      </a:lnTo>
                      <a:lnTo>
                        <a:pt x="270" y="15"/>
                      </a:lnTo>
                      <a:lnTo>
                        <a:pt x="283" y="13"/>
                      </a:lnTo>
                      <a:lnTo>
                        <a:pt x="296" y="12"/>
                      </a:lnTo>
                      <a:lnTo>
                        <a:pt x="308" y="13"/>
                      </a:lnTo>
                      <a:lnTo>
                        <a:pt x="318" y="16"/>
                      </a:lnTo>
                      <a:lnTo>
                        <a:pt x="328" y="20"/>
                      </a:lnTo>
                      <a:lnTo>
                        <a:pt x="337" y="26"/>
                      </a:lnTo>
                      <a:lnTo>
                        <a:pt x="321" y="47"/>
                      </a:lnTo>
                      <a:lnTo>
                        <a:pt x="303" y="66"/>
                      </a:lnTo>
                      <a:lnTo>
                        <a:pt x="281" y="83"/>
                      </a:lnTo>
                      <a:lnTo>
                        <a:pt x="259" y="99"/>
                      </a:lnTo>
                      <a:lnTo>
                        <a:pt x="234" y="113"/>
                      </a:lnTo>
                      <a:lnTo>
                        <a:pt x="210" y="127"/>
                      </a:lnTo>
                      <a:lnTo>
                        <a:pt x="186" y="142"/>
                      </a:lnTo>
                      <a:lnTo>
                        <a:pt x="161" y="156"/>
                      </a:lnTo>
                      <a:lnTo>
                        <a:pt x="163" y="167"/>
                      </a:lnTo>
                      <a:lnTo>
                        <a:pt x="167" y="179"/>
                      </a:lnTo>
                      <a:lnTo>
                        <a:pt x="173" y="190"/>
                      </a:lnTo>
                      <a:lnTo>
                        <a:pt x="180" y="200"/>
                      </a:lnTo>
                      <a:lnTo>
                        <a:pt x="189" y="210"/>
                      </a:lnTo>
                      <a:lnTo>
                        <a:pt x="199" y="219"/>
                      </a:lnTo>
                      <a:lnTo>
                        <a:pt x="209" y="226"/>
                      </a:lnTo>
                      <a:lnTo>
                        <a:pt x="221" y="230"/>
                      </a:lnTo>
                      <a:lnTo>
                        <a:pt x="231" y="231"/>
                      </a:lnTo>
                      <a:lnTo>
                        <a:pt x="239" y="226"/>
                      </a:lnTo>
                      <a:lnTo>
                        <a:pt x="243" y="217"/>
                      </a:lnTo>
                      <a:lnTo>
                        <a:pt x="247" y="211"/>
                      </a:lnTo>
                      <a:lnTo>
                        <a:pt x="193" y="157"/>
                      </a:lnTo>
                      <a:lnTo>
                        <a:pt x="201" y="153"/>
                      </a:lnTo>
                      <a:lnTo>
                        <a:pt x="211" y="149"/>
                      </a:lnTo>
                      <a:lnTo>
                        <a:pt x="220" y="144"/>
                      </a:lnTo>
                      <a:lnTo>
                        <a:pt x="231" y="139"/>
                      </a:lnTo>
                      <a:lnTo>
                        <a:pt x="241" y="134"/>
                      </a:lnTo>
                      <a:lnTo>
                        <a:pt x="251" y="130"/>
                      </a:lnTo>
                      <a:lnTo>
                        <a:pt x="263" y="126"/>
                      </a:lnTo>
                      <a:lnTo>
                        <a:pt x="273" y="122"/>
                      </a:lnTo>
                      <a:lnTo>
                        <a:pt x="288" y="112"/>
                      </a:lnTo>
                      <a:lnTo>
                        <a:pt x="304" y="102"/>
                      </a:lnTo>
                      <a:lnTo>
                        <a:pt x="320" y="90"/>
                      </a:lnTo>
                      <a:lnTo>
                        <a:pt x="334" y="77"/>
                      </a:lnTo>
                      <a:lnTo>
                        <a:pt x="346" y="65"/>
                      </a:lnTo>
                      <a:lnTo>
                        <a:pt x="356" y="49"/>
                      </a:lnTo>
                      <a:lnTo>
                        <a:pt x="364" y="33"/>
                      </a:lnTo>
                      <a:lnTo>
                        <a:pt x="368" y="16"/>
                      </a:lnTo>
                      <a:lnTo>
                        <a:pt x="386" y="17"/>
                      </a:lnTo>
                      <a:lnTo>
                        <a:pt x="403" y="17"/>
                      </a:lnTo>
                      <a:lnTo>
                        <a:pt x="420" y="16"/>
                      </a:lnTo>
                      <a:lnTo>
                        <a:pt x="435" y="15"/>
                      </a:lnTo>
                      <a:lnTo>
                        <a:pt x="451" y="12"/>
                      </a:lnTo>
                      <a:lnTo>
                        <a:pt x="468" y="9"/>
                      </a:lnTo>
                      <a:lnTo>
                        <a:pt x="484" y="5"/>
                      </a:lnTo>
                      <a:lnTo>
                        <a:pt x="501" y="0"/>
                      </a:lnTo>
                      <a:lnTo>
                        <a:pt x="521" y="3"/>
                      </a:lnTo>
                      <a:lnTo>
                        <a:pt x="540" y="5"/>
                      </a:lnTo>
                      <a:lnTo>
                        <a:pt x="558" y="6"/>
                      </a:lnTo>
                      <a:lnTo>
                        <a:pt x="577" y="7"/>
                      </a:lnTo>
                      <a:lnTo>
                        <a:pt x="594" y="9"/>
                      </a:lnTo>
                      <a:lnTo>
                        <a:pt x="612" y="10"/>
                      </a:lnTo>
                      <a:lnTo>
                        <a:pt x="630" y="12"/>
                      </a:lnTo>
                      <a:lnTo>
                        <a:pt x="647" y="13"/>
                      </a:lnTo>
                      <a:lnTo>
                        <a:pt x="665" y="15"/>
                      </a:lnTo>
                      <a:lnTo>
                        <a:pt x="682" y="16"/>
                      </a:lnTo>
                      <a:lnTo>
                        <a:pt x="699" y="17"/>
                      </a:lnTo>
                      <a:lnTo>
                        <a:pt x="718" y="19"/>
                      </a:lnTo>
                      <a:lnTo>
                        <a:pt x="737" y="20"/>
                      </a:lnTo>
                      <a:lnTo>
                        <a:pt x="755" y="23"/>
                      </a:lnTo>
                      <a:lnTo>
                        <a:pt x="774" y="26"/>
                      </a:lnTo>
                      <a:lnTo>
                        <a:pt x="792" y="29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6311880" y="4781520"/>
                  <a:ext cx="91440" cy="42840"/>
                </a:xfrm>
                <a:custGeom>
                  <a:avLst/>
                  <a:gdLst/>
                  <a:ahLst/>
                  <a:rect l="l" t="t" r="r" b="b"/>
                  <a:pathLst>
                    <a:path w="117" h="54">
                      <a:moveTo>
                        <a:pt x="117" y="54"/>
                      </a:moveTo>
                      <a:lnTo>
                        <a:pt x="106" y="50"/>
                      </a:lnTo>
                      <a:lnTo>
                        <a:pt x="93" y="45"/>
                      </a:lnTo>
                      <a:lnTo>
                        <a:pt x="80" y="40"/>
                      </a:lnTo>
                      <a:lnTo>
                        <a:pt x="66" y="34"/>
                      </a:lnTo>
                      <a:lnTo>
                        <a:pt x="52" y="30"/>
                      </a:lnTo>
                      <a:lnTo>
                        <a:pt x="36" y="27"/>
                      </a:lnTo>
                      <a:lnTo>
                        <a:pt x="19" y="25"/>
                      </a:lnTo>
                      <a:lnTo>
                        <a:pt x="2" y="28"/>
                      </a:lnTo>
                      <a:lnTo>
                        <a:pt x="0" y="21"/>
                      </a:lnTo>
                      <a:lnTo>
                        <a:pt x="2" y="17"/>
                      </a:lnTo>
                      <a:lnTo>
                        <a:pt x="4" y="11"/>
                      </a:lnTo>
                      <a:lnTo>
                        <a:pt x="10" y="8"/>
                      </a:lnTo>
                      <a:lnTo>
                        <a:pt x="17" y="5"/>
                      </a:lnTo>
                      <a:lnTo>
                        <a:pt x="24" y="3"/>
                      </a:lnTo>
                      <a:lnTo>
                        <a:pt x="32" y="1"/>
                      </a:lnTo>
                      <a:lnTo>
                        <a:pt x="37" y="0"/>
                      </a:lnTo>
                      <a:lnTo>
                        <a:pt x="52" y="3"/>
                      </a:lnTo>
                      <a:lnTo>
                        <a:pt x="63" y="5"/>
                      </a:lnTo>
                      <a:lnTo>
                        <a:pt x="76" y="11"/>
                      </a:lnTo>
                      <a:lnTo>
                        <a:pt x="86" y="18"/>
                      </a:lnTo>
                      <a:lnTo>
                        <a:pt x="96" y="25"/>
                      </a:lnTo>
                      <a:lnTo>
                        <a:pt x="104" y="34"/>
                      </a:lnTo>
                      <a:lnTo>
                        <a:pt x="111" y="44"/>
                      </a:lnTo>
                      <a:lnTo>
                        <a:pt x="117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6553800" y="4802040"/>
                  <a:ext cx="39240" cy="34920"/>
                </a:xfrm>
                <a:custGeom>
                  <a:avLst/>
                  <a:gdLst/>
                  <a:ahLst/>
                  <a:rect l="l" t="t" r="r" b="b"/>
                  <a:pathLst>
                    <a:path w="52" h="45">
                      <a:moveTo>
                        <a:pt x="52" y="26"/>
                      </a:moveTo>
                      <a:lnTo>
                        <a:pt x="46" y="37"/>
                      </a:lnTo>
                      <a:lnTo>
                        <a:pt x="36" y="43"/>
                      </a:lnTo>
                      <a:lnTo>
                        <a:pt x="23" y="45"/>
                      </a:ln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2" y="20"/>
                      </a:lnTo>
                      <a:lnTo>
                        <a:pt x="9" y="9"/>
                      </a:lnTo>
                      <a:lnTo>
                        <a:pt x="18" y="0"/>
                      </a:lnTo>
                      <a:lnTo>
                        <a:pt x="30" y="2"/>
                      </a:lnTo>
                      <a:lnTo>
                        <a:pt x="42" y="5"/>
                      </a:lnTo>
                      <a:lnTo>
                        <a:pt x="50" y="13"/>
                      </a:lnTo>
                      <a:lnTo>
                        <a:pt x="5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6369840" y="4829040"/>
                  <a:ext cx="48600" cy="44640"/>
                </a:xfrm>
                <a:custGeom>
                  <a:avLst/>
                  <a:gdLst/>
                  <a:ahLst/>
                  <a:rect l="l" t="t" r="r" b="b"/>
                  <a:pathLst>
                    <a:path w="63" h="55">
                      <a:moveTo>
                        <a:pt x="63" y="24"/>
                      </a:moveTo>
                      <a:lnTo>
                        <a:pt x="62" y="34"/>
                      </a:lnTo>
                      <a:lnTo>
                        <a:pt x="59" y="42"/>
                      </a:lnTo>
                      <a:lnTo>
                        <a:pt x="52" y="51"/>
                      </a:lnTo>
                      <a:lnTo>
                        <a:pt x="43" y="55"/>
                      </a:lnTo>
                      <a:lnTo>
                        <a:pt x="30" y="52"/>
                      </a:lnTo>
                      <a:lnTo>
                        <a:pt x="19" y="50"/>
                      </a:lnTo>
                      <a:lnTo>
                        <a:pt x="7" y="45"/>
                      </a:lnTo>
                      <a:lnTo>
                        <a:pt x="2" y="37"/>
                      </a:lnTo>
                      <a:lnTo>
                        <a:pt x="0" y="24"/>
                      </a:lnTo>
                      <a:lnTo>
                        <a:pt x="7" y="17"/>
                      </a:lnTo>
                      <a:lnTo>
                        <a:pt x="17" y="10"/>
                      </a:lnTo>
                      <a:lnTo>
                        <a:pt x="24" y="1"/>
                      </a:lnTo>
                      <a:lnTo>
                        <a:pt x="37" y="0"/>
                      </a:lnTo>
                      <a:lnTo>
                        <a:pt x="50" y="4"/>
                      </a:lnTo>
                      <a:lnTo>
                        <a:pt x="59" y="12"/>
                      </a:lnTo>
                      <a:lnTo>
                        <a:pt x="63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6392520" y="4913280"/>
                  <a:ext cx="334800" cy="147600"/>
                </a:xfrm>
                <a:custGeom>
                  <a:avLst/>
                  <a:gdLst/>
                  <a:ahLst/>
                  <a:rect l="l" t="t" r="r" b="b"/>
                  <a:pathLst>
                    <a:path w="423" h="187">
                      <a:moveTo>
                        <a:pt x="79" y="2"/>
                      </a:moveTo>
                      <a:lnTo>
                        <a:pt x="79" y="12"/>
                      </a:lnTo>
                      <a:lnTo>
                        <a:pt x="76" y="17"/>
                      </a:lnTo>
                      <a:lnTo>
                        <a:pt x="70" y="20"/>
                      </a:lnTo>
                      <a:lnTo>
                        <a:pt x="63" y="22"/>
                      </a:lnTo>
                      <a:lnTo>
                        <a:pt x="56" y="23"/>
                      </a:lnTo>
                      <a:lnTo>
                        <a:pt x="49" y="24"/>
                      </a:lnTo>
                      <a:lnTo>
                        <a:pt x="42" y="29"/>
                      </a:lnTo>
                      <a:lnTo>
                        <a:pt x="38" y="36"/>
                      </a:lnTo>
                      <a:lnTo>
                        <a:pt x="48" y="46"/>
                      </a:lnTo>
                      <a:lnTo>
                        <a:pt x="58" y="54"/>
                      </a:lnTo>
                      <a:lnTo>
                        <a:pt x="65" y="63"/>
                      </a:lnTo>
                      <a:lnTo>
                        <a:pt x="72" y="72"/>
                      </a:lnTo>
                      <a:lnTo>
                        <a:pt x="89" y="83"/>
                      </a:lnTo>
                      <a:lnTo>
                        <a:pt x="106" y="93"/>
                      </a:lnTo>
                      <a:lnTo>
                        <a:pt x="125" y="100"/>
                      </a:lnTo>
                      <a:lnTo>
                        <a:pt x="143" y="107"/>
                      </a:lnTo>
                      <a:lnTo>
                        <a:pt x="163" y="113"/>
                      </a:lnTo>
                      <a:lnTo>
                        <a:pt x="182" y="117"/>
                      </a:lnTo>
                      <a:lnTo>
                        <a:pt x="202" y="119"/>
                      </a:lnTo>
                      <a:lnTo>
                        <a:pt x="222" y="120"/>
                      </a:lnTo>
                      <a:lnTo>
                        <a:pt x="242" y="122"/>
                      </a:lnTo>
                      <a:lnTo>
                        <a:pt x="262" y="120"/>
                      </a:lnTo>
                      <a:lnTo>
                        <a:pt x="282" y="119"/>
                      </a:lnTo>
                      <a:lnTo>
                        <a:pt x="302" y="116"/>
                      </a:lnTo>
                      <a:lnTo>
                        <a:pt x="320" y="113"/>
                      </a:lnTo>
                      <a:lnTo>
                        <a:pt x="340" y="109"/>
                      </a:lnTo>
                      <a:lnTo>
                        <a:pt x="359" y="103"/>
                      </a:lnTo>
                      <a:lnTo>
                        <a:pt x="377" y="97"/>
                      </a:lnTo>
                      <a:lnTo>
                        <a:pt x="377" y="104"/>
                      </a:lnTo>
                      <a:lnTo>
                        <a:pt x="386" y="104"/>
                      </a:lnTo>
                      <a:lnTo>
                        <a:pt x="394" y="99"/>
                      </a:lnTo>
                      <a:lnTo>
                        <a:pt x="400" y="90"/>
                      </a:lnTo>
                      <a:lnTo>
                        <a:pt x="404" y="82"/>
                      </a:lnTo>
                      <a:lnTo>
                        <a:pt x="403" y="67"/>
                      </a:lnTo>
                      <a:lnTo>
                        <a:pt x="397" y="54"/>
                      </a:lnTo>
                      <a:lnTo>
                        <a:pt x="387" y="44"/>
                      </a:lnTo>
                      <a:lnTo>
                        <a:pt x="376" y="36"/>
                      </a:lnTo>
                      <a:lnTo>
                        <a:pt x="360" y="30"/>
                      </a:lnTo>
                      <a:lnTo>
                        <a:pt x="342" y="27"/>
                      </a:lnTo>
                      <a:lnTo>
                        <a:pt x="323" y="26"/>
                      </a:lnTo>
                      <a:lnTo>
                        <a:pt x="303" y="27"/>
                      </a:lnTo>
                      <a:lnTo>
                        <a:pt x="307" y="22"/>
                      </a:lnTo>
                      <a:lnTo>
                        <a:pt x="314" y="16"/>
                      </a:lnTo>
                      <a:lnTo>
                        <a:pt x="322" y="13"/>
                      </a:lnTo>
                      <a:lnTo>
                        <a:pt x="330" y="12"/>
                      </a:lnTo>
                      <a:lnTo>
                        <a:pt x="340" y="12"/>
                      </a:lnTo>
                      <a:lnTo>
                        <a:pt x="349" y="12"/>
                      </a:lnTo>
                      <a:lnTo>
                        <a:pt x="359" y="12"/>
                      </a:lnTo>
                      <a:lnTo>
                        <a:pt x="367" y="12"/>
                      </a:lnTo>
                      <a:lnTo>
                        <a:pt x="379" y="14"/>
                      </a:lnTo>
                      <a:lnTo>
                        <a:pt x="393" y="23"/>
                      </a:lnTo>
                      <a:lnTo>
                        <a:pt x="407" y="36"/>
                      </a:lnTo>
                      <a:lnTo>
                        <a:pt x="419" y="53"/>
                      </a:lnTo>
                      <a:lnTo>
                        <a:pt x="423" y="74"/>
                      </a:lnTo>
                      <a:lnTo>
                        <a:pt x="417" y="100"/>
                      </a:lnTo>
                      <a:lnTo>
                        <a:pt x="400" y="129"/>
                      </a:lnTo>
                      <a:lnTo>
                        <a:pt x="367" y="159"/>
                      </a:lnTo>
                      <a:lnTo>
                        <a:pt x="322" y="187"/>
                      </a:lnTo>
                      <a:lnTo>
                        <a:pt x="322" y="177"/>
                      </a:lnTo>
                      <a:lnTo>
                        <a:pt x="329" y="169"/>
                      </a:lnTo>
                      <a:lnTo>
                        <a:pt x="339" y="160"/>
                      </a:lnTo>
                      <a:lnTo>
                        <a:pt x="352" y="151"/>
                      </a:lnTo>
                      <a:lnTo>
                        <a:pt x="363" y="143"/>
                      </a:lnTo>
                      <a:lnTo>
                        <a:pt x="371" y="133"/>
                      </a:lnTo>
                      <a:lnTo>
                        <a:pt x="374" y="124"/>
                      </a:lnTo>
                      <a:lnTo>
                        <a:pt x="370" y="113"/>
                      </a:lnTo>
                      <a:lnTo>
                        <a:pt x="353" y="122"/>
                      </a:lnTo>
                      <a:lnTo>
                        <a:pt x="334" y="130"/>
                      </a:lnTo>
                      <a:lnTo>
                        <a:pt x="316" y="136"/>
                      </a:lnTo>
                      <a:lnTo>
                        <a:pt x="297" y="140"/>
                      </a:lnTo>
                      <a:lnTo>
                        <a:pt x="276" y="143"/>
                      </a:lnTo>
                      <a:lnTo>
                        <a:pt x="256" y="144"/>
                      </a:lnTo>
                      <a:lnTo>
                        <a:pt x="236" y="144"/>
                      </a:lnTo>
                      <a:lnTo>
                        <a:pt x="216" y="143"/>
                      </a:lnTo>
                      <a:lnTo>
                        <a:pt x="196" y="141"/>
                      </a:lnTo>
                      <a:lnTo>
                        <a:pt x="176" y="139"/>
                      </a:lnTo>
                      <a:lnTo>
                        <a:pt x="157" y="134"/>
                      </a:lnTo>
                      <a:lnTo>
                        <a:pt x="140" y="130"/>
                      </a:lnTo>
                      <a:lnTo>
                        <a:pt x="125" y="124"/>
                      </a:lnTo>
                      <a:lnTo>
                        <a:pt x="109" y="119"/>
                      </a:lnTo>
                      <a:lnTo>
                        <a:pt x="96" y="112"/>
                      </a:lnTo>
                      <a:lnTo>
                        <a:pt x="85" y="104"/>
                      </a:lnTo>
                      <a:lnTo>
                        <a:pt x="73" y="96"/>
                      </a:lnTo>
                      <a:lnTo>
                        <a:pt x="62" y="86"/>
                      </a:lnTo>
                      <a:lnTo>
                        <a:pt x="52" y="76"/>
                      </a:lnTo>
                      <a:lnTo>
                        <a:pt x="43" y="66"/>
                      </a:lnTo>
                      <a:lnTo>
                        <a:pt x="38" y="59"/>
                      </a:lnTo>
                      <a:lnTo>
                        <a:pt x="32" y="52"/>
                      </a:lnTo>
                      <a:lnTo>
                        <a:pt x="29" y="47"/>
                      </a:lnTo>
                      <a:lnTo>
                        <a:pt x="28" y="46"/>
                      </a:lnTo>
                      <a:lnTo>
                        <a:pt x="25" y="53"/>
                      </a:lnTo>
                      <a:lnTo>
                        <a:pt x="19" y="57"/>
                      </a:lnTo>
                      <a:lnTo>
                        <a:pt x="13" y="63"/>
                      </a:lnTo>
                      <a:lnTo>
                        <a:pt x="9" y="66"/>
                      </a:lnTo>
                      <a:lnTo>
                        <a:pt x="0" y="60"/>
                      </a:lnTo>
                      <a:lnTo>
                        <a:pt x="3" y="47"/>
                      </a:lnTo>
                      <a:lnTo>
                        <a:pt x="12" y="33"/>
                      </a:lnTo>
                      <a:lnTo>
                        <a:pt x="18" y="20"/>
                      </a:lnTo>
                      <a:lnTo>
                        <a:pt x="23" y="16"/>
                      </a:lnTo>
                      <a:lnTo>
                        <a:pt x="30" y="12"/>
                      </a:lnTo>
                      <a:lnTo>
                        <a:pt x="38" y="7"/>
                      </a:lnTo>
                      <a:lnTo>
                        <a:pt x="46" y="5"/>
                      </a:lnTo>
                      <a:lnTo>
                        <a:pt x="53" y="2"/>
                      </a:lnTo>
                      <a:lnTo>
                        <a:pt x="62" y="0"/>
                      </a:lnTo>
                      <a:lnTo>
                        <a:pt x="70" y="0"/>
                      </a:lnTo>
                      <a:lnTo>
                        <a:pt x="79" y="2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6359400" y="4981680"/>
                  <a:ext cx="59760" cy="698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71" y="36"/>
                      </a:moveTo>
                      <a:lnTo>
                        <a:pt x="67" y="46"/>
                      </a:lnTo>
                      <a:lnTo>
                        <a:pt x="60" y="54"/>
                      </a:lnTo>
                      <a:lnTo>
                        <a:pt x="51" y="62"/>
                      </a:lnTo>
                      <a:lnTo>
                        <a:pt x="42" y="69"/>
                      </a:lnTo>
                      <a:lnTo>
                        <a:pt x="32" y="74"/>
                      </a:lnTo>
                      <a:lnTo>
                        <a:pt x="21" y="79"/>
                      </a:lnTo>
                      <a:lnTo>
                        <a:pt x="11" y="83"/>
                      </a:lnTo>
                      <a:lnTo>
                        <a:pt x="0" y="87"/>
                      </a:lnTo>
                      <a:lnTo>
                        <a:pt x="10" y="77"/>
                      </a:lnTo>
                      <a:lnTo>
                        <a:pt x="18" y="67"/>
                      </a:lnTo>
                      <a:lnTo>
                        <a:pt x="27" y="56"/>
                      </a:lnTo>
                      <a:lnTo>
                        <a:pt x="35" y="46"/>
                      </a:lnTo>
                      <a:lnTo>
                        <a:pt x="44" y="35"/>
                      </a:lnTo>
                      <a:lnTo>
                        <a:pt x="52" y="23"/>
                      </a:lnTo>
                      <a:lnTo>
                        <a:pt x="60" y="12"/>
                      </a:lnTo>
                      <a:lnTo>
                        <a:pt x="67" y="0"/>
                      </a:lnTo>
                      <a:lnTo>
                        <a:pt x="75" y="6"/>
                      </a:lnTo>
                      <a:lnTo>
                        <a:pt x="74" y="13"/>
                      </a:lnTo>
                      <a:lnTo>
                        <a:pt x="70" y="25"/>
                      </a:lnTo>
                      <a:lnTo>
                        <a:pt x="7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6192720" y="5000760"/>
                  <a:ext cx="83520" cy="58680"/>
                </a:xfrm>
                <a:custGeom>
                  <a:avLst/>
                  <a:gdLst/>
                  <a:ahLst/>
                  <a:rect l="l" t="t" r="r" b="b"/>
                  <a:pathLst>
                    <a:path w="106" h="74">
                      <a:moveTo>
                        <a:pt x="106" y="24"/>
                      </a:moveTo>
                      <a:lnTo>
                        <a:pt x="99" y="24"/>
                      </a:lnTo>
                      <a:lnTo>
                        <a:pt x="92" y="24"/>
                      </a:lnTo>
                      <a:lnTo>
                        <a:pt x="85" y="21"/>
                      </a:lnTo>
                      <a:lnTo>
                        <a:pt x="76" y="19"/>
                      </a:lnTo>
                      <a:lnTo>
                        <a:pt x="69" y="17"/>
                      </a:lnTo>
                      <a:lnTo>
                        <a:pt x="62" y="17"/>
                      </a:lnTo>
                      <a:lnTo>
                        <a:pt x="55" y="18"/>
                      </a:lnTo>
                      <a:lnTo>
                        <a:pt x="46" y="21"/>
                      </a:lnTo>
                      <a:lnTo>
                        <a:pt x="49" y="32"/>
                      </a:lnTo>
                      <a:lnTo>
                        <a:pt x="56" y="44"/>
                      </a:lnTo>
                      <a:lnTo>
                        <a:pt x="59" y="57"/>
                      </a:lnTo>
                      <a:lnTo>
                        <a:pt x="49" y="68"/>
                      </a:lnTo>
                      <a:lnTo>
                        <a:pt x="43" y="71"/>
                      </a:lnTo>
                      <a:lnTo>
                        <a:pt x="38" y="72"/>
                      </a:lnTo>
                      <a:lnTo>
                        <a:pt x="30" y="74"/>
                      </a:lnTo>
                      <a:lnTo>
                        <a:pt x="23" y="74"/>
                      </a:lnTo>
                      <a:lnTo>
                        <a:pt x="16" y="74"/>
                      </a:lnTo>
                      <a:lnTo>
                        <a:pt x="10" y="72"/>
                      </a:lnTo>
                      <a:lnTo>
                        <a:pt x="5" y="71"/>
                      </a:lnTo>
                      <a:lnTo>
                        <a:pt x="0" y="69"/>
                      </a:lnTo>
                      <a:lnTo>
                        <a:pt x="6" y="67"/>
                      </a:lnTo>
                      <a:lnTo>
                        <a:pt x="10" y="64"/>
                      </a:lnTo>
                      <a:lnTo>
                        <a:pt x="16" y="62"/>
                      </a:lnTo>
                      <a:lnTo>
                        <a:pt x="23" y="61"/>
                      </a:lnTo>
                      <a:lnTo>
                        <a:pt x="29" y="59"/>
                      </a:lnTo>
                      <a:lnTo>
                        <a:pt x="35" y="58"/>
                      </a:lnTo>
                      <a:lnTo>
                        <a:pt x="39" y="55"/>
                      </a:lnTo>
                      <a:lnTo>
                        <a:pt x="45" y="52"/>
                      </a:lnTo>
                      <a:lnTo>
                        <a:pt x="48" y="42"/>
                      </a:lnTo>
                      <a:lnTo>
                        <a:pt x="45" y="35"/>
                      </a:lnTo>
                      <a:lnTo>
                        <a:pt x="39" y="32"/>
                      </a:lnTo>
                      <a:lnTo>
                        <a:pt x="32" y="29"/>
                      </a:lnTo>
                      <a:lnTo>
                        <a:pt x="25" y="28"/>
                      </a:lnTo>
                      <a:lnTo>
                        <a:pt x="20" y="24"/>
                      </a:lnTo>
                      <a:lnTo>
                        <a:pt x="20" y="18"/>
                      </a:lnTo>
                      <a:lnTo>
                        <a:pt x="26" y="8"/>
                      </a:lnTo>
                      <a:lnTo>
                        <a:pt x="36" y="2"/>
                      </a:lnTo>
                      <a:lnTo>
                        <a:pt x="48" y="0"/>
                      </a:lnTo>
                      <a:lnTo>
                        <a:pt x="59" y="0"/>
                      </a:lnTo>
                      <a:lnTo>
                        <a:pt x="70" y="1"/>
                      </a:lnTo>
                      <a:lnTo>
                        <a:pt x="82" y="4"/>
                      </a:lnTo>
                      <a:lnTo>
                        <a:pt x="93" y="10"/>
                      </a:lnTo>
                      <a:lnTo>
                        <a:pt x="100" y="15"/>
                      </a:lnTo>
                      <a:lnTo>
                        <a:pt x="106" y="24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6475320" y="5173560"/>
                  <a:ext cx="82080" cy="31680"/>
                </a:xfrm>
                <a:custGeom>
                  <a:avLst/>
                  <a:gdLst/>
                  <a:ahLst/>
                  <a:rect l="l" t="t" r="r" b="b"/>
                  <a:pathLst>
                    <a:path w="106" h="40">
                      <a:moveTo>
                        <a:pt x="106" y="14"/>
                      </a:moveTo>
                      <a:lnTo>
                        <a:pt x="103" y="24"/>
                      </a:lnTo>
                      <a:lnTo>
                        <a:pt x="97" y="31"/>
                      </a:lnTo>
                      <a:lnTo>
                        <a:pt x="89" y="36"/>
                      </a:lnTo>
                      <a:lnTo>
                        <a:pt x="77" y="38"/>
                      </a:lnTo>
                      <a:lnTo>
                        <a:pt x="66" y="38"/>
                      </a:lnTo>
                      <a:lnTo>
                        <a:pt x="54" y="40"/>
                      </a:lnTo>
                      <a:lnTo>
                        <a:pt x="43" y="40"/>
                      </a:lnTo>
                      <a:lnTo>
                        <a:pt x="31" y="40"/>
                      </a:lnTo>
                      <a:lnTo>
                        <a:pt x="21" y="40"/>
                      </a:lnTo>
                      <a:lnTo>
                        <a:pt x="14" y="38"/>
                      </a:lnTo>
                      <a:lnTo>
                        <a:pt x="6" y="34"/>
                      </a:lnTo>
                      <a:lnTo>
                        <a:pt x="0" y="27"/>
                      </a:lnTo>
                      <a:lnTo>
                        <a:pt x="10" y="20"/>
                      </a:lnTo>
                      <a:lnTo>
                        <a:pt x="23" y="13"/>
                      </a:lnTo>
                      <a:lnTo>
                        <a:pt x="39" y="7"/>
                      </a:lnTo>
                      <a:lnTo>
                        <a:pt x="54" y="1"/>
                      </a:lnTo>
                      <a:lnTo>
                        <a:pt x="70" y="0"/>
                      </a:lnTo>
                      <a:lnTo>
                        <a:pt x="84" y="0"/>
                      </a:lnTo>
                      <a:lnTo>
                        <a:pt x="96" y="6"/>
                      </a:lnTo>
                      <a:lnTo>
                        <a:pt x="106" y="14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6738120" y="5176800"/>
                  <a:ext cx="48600" cy="74520"/>
                </a:xfrm>
                <a:custGeom>
                  <a:avLst/>
                  <a:gdLst/>
                  <a:ahLst/>
                  <a:rect l="l" t="t" r="r" b="b"/>
                  <a:pathLst>
                    <a:path w="61" h="94">
                      <a:moveTo>
                        <a:pt x="61" y="21"/>
                      </a:moveTo>
                      <a:lnTo>
                        <a:pt x="55" y="34"/>
                      </a:lnTo>
                      <a:lnTo>
                        <a:pt x="47" y="48"/>
                      </a:lnTo>
                      <a:lnTo>
                        <a:pt x="43" y="61"/>
                      </a:lnTo>
                      <a:lnTo>
                        <a:pt x="45" y="72"/>
                      </a:lnTo>
                      <a:lnTo>
                        <a:pt x="44" y="80"/>
                      </a:lnTo>
                      <a:lnTo>
                        <a:pt x="44" y="87"/>
                      </a:lnTo>
                      <a:lnTo>
                        <a:pt x="41" y="91"/>
                      </a:lnTo>
                      <a:lnTo>
                        <a:pt x="35" y="94"/>
                      </a:lnTo>
                      <a:lnTo>
                        <a:pt x="20" y="87"/>
                      </a:lnTo>
                      <a:lnTo>
                        <a:pt x="10" y="75"/>
                      </a:lnTo>
                      <a:lnTo>
                        <a:pt x="3" y="61"/>
                      </a:lnTo>
                      <a:lnTo>
                        <a:pt x="0" y="42"/>
                      </a:lnTo>
                      <a:lnTo>
                        <a:pt x="1" y="28"/>
                      </a:lnTo>
                      <a:lnTo>
                        <a:pt x="4" y="17"/>
                      </a:lnTo>
                      <a:lnTo>
                        <a:pt x="10" y="7"/>
                      </a:lnTo>
                      <a:lnTo>
                        <a:pt x="20" y="1"/>
                      </a:lnTo>
                      <a:lnTo>
                        <a:pt x="34" y="0"/>
                      </a:lnTo>
                      <a:lnTo>
                        <a:pt x="45" y="4"/>
                      </a:lnTo>
                      <a:lnTo>
                        <a:pt x="53" y="13"/>
                      </a:lnTo>
                      <a:lnTo>
                        <a:pt x="61" y="21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6788880" y="5189400"/>
                  <a:ext cx="29880" cy="61920"/>
                </a:xfrm>
                <a:custGeom>
                  <a:avLst/>
                  <a:gdLst/>
                  <a:ahLst/>
                  <a:rect l="l" t="t" r="r" b="b"/>
                  <a:pathLst>
                    <a:path w="39" h="77">
                      <a:moveTo>
                        <a:pt x="39" y="77"/>
                      </a:moveTo>
                      <a:lnTo>
                        <a:pt x="20" y="73"/>
                      </a:lnTo>
                      <a:lnTo>
                        <a:pt x="10" y="58"/>
                      </a:lnTo>
                      <a:lnTo>
                        <a:pt x="5" y="41"/>
                      </a:lnTo>
                      <a:lnTo>
                        <a:pt x="0" y="30"/>
                      </a:lnTo>
                      <a:lnTo>
                        <a:pt x="3" y="30"/>
                      </a:lnTo>
                      <a:lnTo>
                        <a:pt x="0" y="21"/>
                      </a:lnTo>
                      <a:lnTo>
                        <a:pt x="2" y="14"/>
                      </a:lnTo>
                      <a:lnTo>
                        <a:pt x="6" y="7"/>
                      </a:lnTo>
                      <a:lnTo>
                        <a:pt x="10" y="0"/>
                      </a:lnTo>
                      <a:lnTo>
                        <a:pt x="15" y="20"/>
                      </a:lnTo>
                      <a:lnTo>
                        <a:pt x="23" y="38"/>
                      </a:lnTo>
                      <a:lnTo>
                        <a:pt x="33" y="57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6825960" y="5207040"/>
                  <a:ext cx="25200" cy="3816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31" y="30"/>
                      </a:moveTo>
                      <a:lnTo>
                        <a:pt x="31" y="36"/>
                      </a:lnTo>
                      <a:lnTo>
                        <a:pt x="31" y="40"/>
                      </a:lnTo>
                      <a:lnTo>
                        <a:pt x="30" y="44"/>
                      </a:lnTo>
                      <a:lnTo>
                        <a:pt x="26" y="47"/>
                      </a:lnTo>
                      <a:lnTo>
                        <a:pt x="16" y="44"/>
                      </a:lnTo>
                      <a:lnTo>
                        <a:pt x="10" y="37"/>
                      </a:lnTo>
                      <a:lnTo>
                        <a:pt x="4" y="27"/>
                      </a:lnTo>
                      <a:lnTo>
                        <a:pt x="0" y="19"/>
                      </a:lnTo>
                      <a:lnTo>
                        <a:pt x="4" y="0"/>
                      </a:lnTo>
                      <a:lnTo>
                        <a:pt x="14" y="3"/>
                      </a:lnTo>
                      <a:lnTo>
                        <a:pt x="26" y="16"/>
                      </a:lnTo>
                      <a:lnTo>
                        <a:pt x="31" y="3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6604560" y="5214960"/>
                  <a:ext cx="137880" cy="46080"/>
                </a:xfrm>
                <a:custGeom>
                  <a:avLst/>
                  <a:gdLst/>
                  <a:ahLst/>
                  <a:rect l="l" t="t" r="r" b="b"/>
                  <a:pathLst>
                    <a:path w="173" h="57">
                      <a:moveTo>
                        <a:pt x="173" y="30"/>
                      </a:moveTo>
                      <a:lnTo>
                        <a:pt x="169" y="42"/>
                      </a:lnTo>
                      <a:lnTo>
                        <a:pt x="162" y="52"/>
                      </a:lnTo>
                      <a:lnTo>
                        <a:pt x="150" y="57"/>
                      </a:lnTo>
                      <a:lnTo>
                        <a:pt x="135" y="53"/>
                      </a:lnTo>
                      <a:lnTo>
                        <a:pt x="120" y="44"/>
                      </a:lnTo>
                      <a:lnTo>
                        <a:pt x="105" y="40"/>
                      </a:lnTo>
                      <a:lnTo>
                        <a:pt x="89" y="37"/>
                      </a:lnTo>
                      <a:lnTo>
                        <a:pt x="72" y="37"/>
                      </a:lnTo>
                      <a:lnTo>
                        <a:pt x="55" y="39"/>
                      </a:lnTo>
                      <a:lnTo>
                        <a:pt x="39" y="39"/>
                      </a:lnTo>
                      <a:lnTo>
                        <a:pt x="20" y="39"/>
                      </a:lnTo>
                      <a:lnTo>
                        <a:pt x="3" y="36"/>
                      </a:lnTo>
                      <a:lnTo>
                        <a:pt x="2" y="32"/>
                      </a:lnTo>
                      <a:lnTo>
                        <a:pt x="0" y="24"/>
                      </a:lnTo>
                      <a:lnTo>
                        <a:pt x="2" y="19"/>
                      </a:lnTo>
                      <a:lnTo>
                        <a:pt x="2" y="14"/>
                      </a:lnTo>
                      <a:lnTo>
                        <a:pt x="22" y="6"/>
                      </a:lnTo>
                      <a:lnTo>
                        <a:pt x="43" y="2"/>
                      </a:lnTo>
                      <a:lnTo>
                        <a:pt x="66" y="0"/>
                      </a:lnTo>
                      <a:lnTo>
                        <a:pt x="90" y="3"/>
                      </a:lnTo>
                      <a:lnTo>
                        <a:pt x="112" y="7"/>
                      </a:lnTo>
                      <a:lnTo>
                        <a:pt x="135" y="14"/>
                      </a:lnTo>
                      <a:lnTo>
                        <a:pt x="155" y="22"/>
                      </a:lnTo>
                      <a:lnTo>
                        <a:pt x="173" y="3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6465600" y="5246640"/>
                  <a:ext cx="158400" cy="181080"/>
                </a:xfrm>
                <a:custGeom>
                  <a:avLst/>
                  <a:gdLst/>
                  <a:ahLst/>
                  <a:rect l="l" t="t" r="r" b="b"/>
                  <a:pathLst>
                    <a:path w="200" h="227">
                      <a:moveTo>
                        <a:pt x="192" y="74"/>
                      </a:moveTo>
                      <a:lnTo>
                        <a:pt x="197" y="90"/>
                      </a:lnTo>
                      <a:lnTo>
                        <a:pt x="200" y="104"/>
                      </a:lnTo>
                      <a:lnTo>
                        <a:pt x="200" y="120"/>
                      </a:lnTo>
                      <a:lnTo>
                        <a:pt x="196" y="134"/>
                      </a:lnTo>
                      <a:lnTo>
                        <a:pt x="192" y="147"/>
                      </a:lnTo>
                      <a:lnTo>
                        <a:pt x="184" y="161"/>
                      </a:lnTo>
                      <a:lnTo>
                        <a:pt x="177" y="174"/>
                      </a:lnTo>
                      <a:lnTo>
                        <a:pt x="170" y="186"/>
                      </a:lnTo>
                      <a:lnTo>
                        <a:pt x="163" y="194"/>
                      </a:lnTo>
                      <a:lnTo>
                        <a:pt x="156" y="203"/>
                      </a:lnTo>
                      <a:lnTo>
                        <a:pt x="147" y="210"/>
                      </a:lnTo>
                      <a:lnTo>
                        <a:pt x="139" y="217"/>
                      </a:lnTo>
                      <a:lnTo>
                        <a:pt x="129" y="223"/>
                      </a:lnTo>
                      <a:lnTo>
                        <a:pt x="119" y="226"/>
                      </a:lnTo>
                      <a:lnTo>
                        <a:pt x="107" y="227"/>
                      </a:lnTo>
                      <a:lnTo>
                        <a:pt x="96" y="224"/>
                      </a:lnTo>
                      <a:lnTo>
                        <a:pt x="100" y="218"/>
                      </a:lnTo>
                      <a:lnTo>
                        <a:pt x="102" y="210"/>
                      </a:lnTo>
                      <a:lnTo>
                        <a:pt x="102" y="201"/>
                      </a:lnTo>
                      <a:lnTo>
                        <a:pt x="102" y="193"/>
                      </a:lnTo>
                      <a:lnTo>
                        <a:pt x="52" y="180"/>
                      </a:lnTo>
                      <a:lnTo>
                        <a:pt x="52" y="170"/>
                      </a:lnTo>
                      <a:lnTo>
                        <a:pt x="57" y="166"/>
                      </a:lnTo>
                      <a:lnTo>
                        <a:pt x="66" y="163"/>
                      </a:lnTo>
                      <a:lnTo>
                        <a:pt x="77" y="163"/>
                      </a:lnTo>
                      <a:lnTo>
                        <a:pt x="89" y="161"/>
                      </a:lnTo>
                      <a:lnTo>
                        <a:pt x="99" y="161"/>
                      </a:lnTo>
                      <a:lnTo>
                        <a:pt x="107" y="157"/>
                      </a:lnTo>
                      <a:lnTo>
                        <a:pt x="112" y="150"/>
                      </a:lnTo>
                      <a:lnTo>
                        <a:pt x="97" y="141"/>
                      </a:lnTo>
                      <a:lnTo>
                        <a:pt x="82" y="139"/>
                      </a:lnTo>
                      <a:lnTo>
                        <a:pt x="65" y="141"/>
                      </a:lnTo>
                      <a:lnTo>
                        <a:pt x="47" y="144"/>
                      </a:lnTo>
                      <a:lnTo>
                        <a:pt x="32" y="147"/>
                      </a:lnTo>
                      <a:lnTo>
                        <a:pt x="17" y="144"/>
                      </a:lnTo>
                      <a:lnTo>
                        <a:pt x="7" y="136"/>
                      </a:lnTo>
                      <a:lnTo>
                        <a:pt x="0" y="119"/>
                      </a:lnTo>
                      <a:lnTo>
                        <a:pt x="0" y="99"/>
                      </a:lnTo>
                      <a:lnTo>
                        <a:pt x="9" y="84"/>
                      </a:lnTo>
                      <a:lnTo>
                        <a:pt x="20" y="74"/>
                      </a:lnTo>
                      <a:lnTo>
                        <a:pt x="37" y="67"/>
                      </a:lnTo>
                      <a:lnTo>
                        <a:pt x="47" y="62"/>
                      </a:lnTo>
                      <a:lnTo>
                        <a:pt x="59" y="59"/>
                      </a:lnTo>
                      <a:lnTo>
                        <a:pt x="70" y="57"/>
                      </a:lnTo>
                      <a:lnTo>
                        <a:pt x="83" y="57"/>
                      </a:lnTo>
                      <a:lnTo>
                        <a:pt x="94" y="60"/>
                      </a:lnTo>
                      <a:lnTo>
                        <a:pt x="106" y="62"/>
                      </a:lnTo>
                      <a:lnTo>
                        <a:pt x="117" y="64"/>
                      </a:lnTo>
                      <a:lnTo>
                        <a:pt x="127" y="67"/>
                      </a:lnTo>
                      <a:lnTo>
                        <a:pt x="127" y="60"/>
                      </a:lnTo>
                      <a:lnTo>
                        <a:pt x="124" y="54"/>
                      </a:lnTo>
                      <a:lnTo>
                        <a:pt x="120" y="49"/>
                      </a:lnTo>
                      <a:lnTo>
                        <a:pt x="114" y="43"/>
                      </a:lnTo>
                      <a:lnTo>
                        <a:pt x="106" y="40"/>
                      </a:lnTo>
                      <a:lnTo>
                        <a:pt x="99" y="36"/>
                      </a:lnTo>
                      <a:lnTo>
                        <a:pt x="90" y="33"/>
                      </a:lnTo>
                      <a:lnTo>
                        <a:pt x="83" y="32"/>
                      </a:lnTo>
                      <a:lnTo>
                        <a:pt x="73" y="33"/>
                      </a:lnTo>
                      <a:lnTo>
                        <a:pt x="63" y="34"/>
                      </a:lnTo>
                      <a:lnTo>
                        <a:pt x="53" y="36"/>
                      </a:lnTo>
                      <a:lnTo>
                        <a:pt x="43" y="37"/>
                      </a:lnTo>
                      <a:lnTo>
                        <a:pt x="32" y="39"/>
                      </a:lnTo>
                      <a:lnTo>
                        <a:pt x="23" y="42"/>
                      </a:lnTo>
                      <a:lnTo>
                        <a:pt x="15" y="46"/>
                      </a:lnTo>
                      <a:lnTo>
                        <a:pt x="6" y="52"/>
                      </a:lnTo>
                      <a:lnTo>
                        <a:pt x="7" y="36"/>
                      </a:lnTo>
                      <a:lnTo>
                        <a:pt x="13" y="26"/>
                      </a:lnTo>
                      <a:lnTo>
                        <a:pt x="22" y="19"/>
                      </a:lnTo>
                      <a:lnTo>
                        <a:pt x="35" y="14"/>
                      </a:lnTo>
                      <a:lnTo>
                        <a:pt x="47" y="12"/>
                      </a:lnTo>
                      <a:lnTo>
                        <a:pt x="62" y="9"/>
                      </a:lnTo>
                      <a:lnTo>
                        <a:pt x="75" y="6"/>
                      </a:lnTo>
                      <a:lnTo>
                        <a:pt x="86" y="0"/>
                      </a:lnTo>
                      <a:lnTo>
                        <a:pt x="106" y="0"/>
                      </a:lnTo>
                      <a:lnTo>
                        <a:pt x="122" y="6"/>
                      </a:lnTo>
                      <a:lnTo>
                        <a:pt x="137" y="13"/>
                      </a:lnTo>
                      <a:lnTo>
                        <a:pt x="150" y="23"/>
                      </a:lnTo>
                      <a:lnTo>
                        <a:pt x="162" y="36"/>
                      </a:lnTo>
                      <a:lnTo>
                        <a:pt x="172" y="49"/>
                      </a:lnTo>
                      <a:lnTo>
                        <a:pt x="182" y="62"/>
                      </a:lnTo>
                      <a:lnTo>
                        <a:pt x="192" y="74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6296760" y="5257800"/>
                  <a:ext cx="1055160" cy="404640"/>
                </a:xfrm>
                <a:custGeom>
                  <a:avLst/>
                  <a:gdLst/>
                  <a:ahLst/>
                  <a:rect l="l" t="t" r="r" b="b"/>
                  <a:pathLst>
                    <a:path w="1330" h="510">
                      <a:moveTo>
                        <a:pt x="874" y="86"/>
                      </a:moveTo>
                      <a:lnTo>
                        <a:pt x="900" y="115"/>
                      </a:lnTo>
                      <a:lnTo>
                        <a:pt x="924" y="145"/>
                      </a:lnTo>
                      <a:lnTo>
                        <a:pt x="949" y="176"/>
                      </a:lnTo>
                      <a:lnTo>
                        <a:pt x="973" y="207"/>
                      </a:lnTo>
                      <a:lnTo>
                        <a:pt x="996" y="240"/>
                      </a:lnTo>
                      <a:lnTo>
                        <a:pt x="1017" y="273"/>
                      </a:lnTo>
                      <a:lnTo>
                        <a:pt x="1037" y="306"/>
                      </a:lnTo>
                      <a:lnTo>
                        <a:pt x="1057" y="339"/>
                      </a:lnTo>
                      <a:lnTo>
                        <a:pt x="1069" y="344"/>
                      </a:lnTo>
                      <a:lnTo>
                        <a:pt x="1080" y="351"/>
                      </a:lnTo>
                      <a:lnTo>
                        <a:pt x="1093" y="359"/>
                      </a:lnTo>
                      <a:lnTo>
                        <a:pt x="1104" y="366"/>
                      </a:lnTo>
                      <a:lnTo>
                        <a:pt x="1119" y="371"/>
                      </a:lnTo>
                      <a:lnTo>
                        <a:pt x="1133" y="373"/>
                      </a:lnTo>
                      <a:lnTo>
                        <a:pt x="1147" y="373"/>
                      </a:lnTo>
                      <a:lnTo>
                        <a:pt x="1164" y="367"/>
                      </a:lnTo>
                      <a:lnTo>
                        <a:pt x="1174" y="360"/>
                      </a:lnTo>
                      <a:lnTo>
                        <a:pt x="1177" y="349"/>
                      </a:lnTo>
                      <a:lnTo>
                        <a:pt x="1177" y="336"/>
                      </a:lnTo>
                      <a:lnTo>
                        <a:pt x="1180" y="323"/>
                      </a:lnTo>
                      <a:lnTo>
                        <a:pt x="1196" y="320"/>
                      </a:lnTo>
                      <a:lnTo>
                        <a:pt x="1207" y="330"/>
                      </a:lnTo>
                      <a:lnTo>
                        <a:pt x="1214" y="343"/>
                      </a:lnTo>
                      <a:lnTo>
                        <a:pt x="1221" y="354"/>
                      </a:lnTo>
                      <a:lnTo>
                        <a:pt x="1240" y="369"/>
                      </a:lnTo>
                      <a:lnTo>
                        <a:pt x="1256" y="384"/>
                      </a:lnTo>
                      <a:lnTo>
                        <a:pt x="1270" y="403"/>
                      </a:lnTo>
                      <a:lnTo>
                        <a:pt x="1281" y="421"/>
                      </a:lnTo>
                      <a:lnTo>
                        <a:pt x="1293" y="440"/>
                      </a:lnTo>
                      <a:lnTo>
                        <a:pt x="1304" y="458"/>
                      </a:lnTo>
                      <a:lnTo>
                        <a:pt x="1317" y="476"/>
                      </a:lnTo>
                      <a:lnTo>
                        <a:pt x="1330" y="493"/>
                      </a:lnTo>
                      <a:lnTo>
                        <a:pt x="1330" y="510"/>
                      </a:lnTo>
                      <a:lnTo>
                        <a:pt x="1310" y="494"/>
                      </a:lnTo>
                      <a:lnTo>
                        <a:pt x="1290" y="480"/>
                      </a:lnTo>
                      <a:lnTo>
                        <a:pt x="1268" y="466"/>
                      </a:lnTo>
                      <a:lnTo>
                        <a:pt x="1247" y="453"/>
                      </a:lnTo>
                      <a:lnTo>
                        <a:pt x="1224" y="440"/>
                      </a:lnTo>
                      <a:lnTo>
                        <a:pt x="1200" y="428"/>
                      </a:lnTo>
                      <a:lnTo>
                        <a:pt x="1176" y="417"/>
                      </a:lnTo>
                      <a:lnTo>
                        <a:pt x="1151" y="407"/>
                      </a:lnTo>
                      <a:lnTo>
                        <a:pt x="1126" y="396"/>
                      </a:lnTo>
                      <a:lnTo>
                        <a:pt x="1100" y="386"/>
                      </a:lnTo>
                      <a:lnTo>
                        <a:pt x="1076" y="376"/>
                      </a:lnTo>
                      <a:lnTo>
                        <a:pt x="1050" y="366"/>
                      </a:lnTo>
                      <a:lnTo>
                        <a:pt x="1024" y="354"/>
                      </a:lnTo>
                      <a:lnTo>
                        <a:pt x="999" y="344"/>
                      </a:lnTo>
                      <a:lnTo>
                        <a:pt x="973" y="333"/>
                      </a:lnTo>
                      <a:lnTo>
                        <a:pt x="949" y="321"/>
                      </a:lnTo>
                      <a:lnTo>
                        <a:pt x="910" y="310"/>
                      </a:lnTo>
                      <a:lnTo>
                        <a:pt x="873" y="300"/>
                      </a:lnTo>
                      <a:lnTo>
                        <a:pt x="837" y="289"/>
                      </a:lnTo>
                      <a:lnTo>
                        <a:pt x="802" y="279"/>
                      </a:lnTo>
                      <a:lnTo>
                        <a:pt x="766" y="269"/>
                      </a:lnTo>
                      <a:lnTo>
                        <a:pt x="730" y="259"/>
                      </a:lnTo>
                      <a:lnTo>
                        <a:pt x="696" y="249"/>
                      </a:lnTo>
                      <a:lnTo>
                        <a:pt x="662" y="240"/>
                      </a:lnTo>
                      <a:lnTo>
                        <a:pt x="626" y="232"/>
                      </a:lnTo>
                      <a:lnTo>
                        <a:pt x="592" y="223"/>
                      </a:lnTo>
                      <a:lnTo>
                        <a:pt x="556" y="216"/>
                      </a:lnTo>
                      <a:lnTo>
                        <a:pt x="521" y="209"/>
                      </a:lnTo>
                      <a:lnTo>
                        <a:pt x="483" y="202"/>
                      </a:lnTo>
                      <a:lnTo>
                        <a:pt x="446" y="196"/>
                      </a:lnTo>
                      <a:lnTo>
                        <a:pt x="408" y="190"/>
                      </a:lnTo>
                      <a:lnTo>
                        <a:pt x="368" y="184"/>
                      </a:lnTo>
                      <a:lnTo>
                        <a:pt x="346" y="183"/>
                      </a:lnTo>
                      <a:lnTo>
                        <a:pt x="324" y="180"/>
                      </a:lnTo>
                      <a:lnTo>
                        <a:pt x="302" y="177"/>
                      </a:lnTo>
                      <a:lnTo>
                        <a:pt x="279" y="174"/>
                      </a:lnTo>
                      <a:lnTo>
                        <a:pt x="257" y="172"/>
                      </a:lnTo>
                      <a:lnTo>
                        <a:pt x="234" y="169"/>
                      </a:lnTo>
                      <a:lnTo>
                        <a:pt x="211" y="165"/>
                      </a:lnTo>
                      <a:lnTo>
                        <a:pt x="188" y="162"/>
                      </a:lnTo>
                      <a:lnTo>
                        <a:pt x="165" y="159"/>
                      </a:lnTo>
                      <a:lnTo>
                        <a:pt x="141" y="156"/>
                      </a:lnTo>
                      <a:lnTo>
                        <a:pt x="118" y="152"/>
                      </a:lnTo>
                      <a:lnTo>
                        <a:pt x="94" y="149"/>
                      </a:lnTo>
                      <a:lnTo>
                        <a:pt x="71" y="146"/>
                      </a:lnTo>
                      <a:lnTo>
                        <a:pt x="47" y="145"/>
                      </a:lnTo>
                      <a:lnTo>
                        <a:pt x="24" y="142"/>
                      </a:lnTo>
                      <a:lnTo>
                        <a:pt x="0" y="140"/>
                      </a:lnTo>
                      <a:lnTo>
                        <a:pt x="10" y="115"/>
                      </a:lnTo>
                      <a:lnTo>
                        <a:pt x="25" y="95"/>
                      </a:lnTo>
                      <a:lnTo>
                        <a:pt x="45" y="79"/>
                      </a:lnTo>
                      <a:lnTo>
                        <a:pt x="68" y="67"/>
                      </a:lnTo>
                      <a:lnTo>
                        <a:pt x="94" y="57"/>
                      </a:lnTo>
                      <a:lnTo>
                        <a:pt x="122" y="50"/>
                      </a:lnTo>
                      <a:lnTo>
                        <a:pt x="151" y="42"/>
                      </a:lnTo>
                      <a:lnTo>
                        <a:pt x="178" y="33"/>
                      </a:lnTo>
                      <a:lnTo>
                        <a:pt x="221" y="26"/>
                      </a:lnTo>
                      <a:lnTo>
                        <a:pt x="265" y="19"/>
                      </a:lnTo>
                      <a:lnTo>
                        <a:pt x="309" y="13"/>
                      </a:lnTo>
                      <a:lnTo>
                        <a:pt x="354" y="8"/>
                      </a:lnTo>
                      <a:lnTo>
                        <a:pt x="398" y="3"/>
                      </a:lnTo>
                      <a:lnTo>
                        <a:pt x="442" y="2"/>
                      </a:lnTo>
                      <a:lnTo>
                        <a:pt x="486" y="0"/>
                      </a:lnTo>
                      <a:lnTo>
                        <a:pt x="532" y="0"/>
                      </a:lnTo>
                      <a:lnTo>
                        <a:pt x="576" y="3"/>
                      </a:lnTo>
                      <a:lnTo>
                        <a:pt x="620" y="8"/>
                      </a:lnTo>
                      <a:lnTo>
                        <a:pt x="665" y="15"/>
                      </a:lnTo>
                      <a:lnTo>
                        <a:pt x="708" y="23"/>
                      </a:lnTo>
                      <a:lnTo>
                        <a:pt x="750" y="35"/>
                      </a:lnTo>
                      <a:lnTo>
                        <a:pt x="793" y="49"/>
                      </a:lnTo>
                      <a:lnTo>
                        <a:pt x="835" y="66"/>
                      </a:lnTo>
                      <a:lnTo>
                        <a:pt x="874" y="8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>
                  <a:off x="6663240" y="5268960"/>
                  <a:ext cx="21960" cy="33120"/>
                </a:xfrm>
                <a:custGeom>
                  <a:avLst/>
                  <a:gdLst/>
                  <a:ahLst/>
                  <a:rect l="l" t="t" r="r" b="b"/>
                  <a:pathLst>
                    <a:path w="28" h="41">
                      <a:moveTo>
                        <a:pt x="20" y="38"/>
                      </a:moveTo>
                      <a:lnTo>
                        <a:pt x="4" y="41"/>
                      </a:lnTo>
                      <a:lnTo>
                        <a:pt x="0" y="28"/>
                      </a:lnTo>
                      <a:lnTo>
                        <a:pt x="4" y="17"/>
                      </a:lnTo>
                      <a:lnTo>
                        <a:pt x="14" y="8"/>
                      </a:lnTo>
                      <a:lnTo>
                        <a:pt x="23" y="0"/>
                      </a:lnTo>
                      <a:lnTo>
                        <a:pt x="28" y="8"/>
                      </a:lnTo>
                      <a:lnTo>
                        <a:pt x="28" y="18"/>
                      </a:lnTo>
                      <a:lnTo>
                        <a:pt x="24" y="28"/>
                      </a:lnTo>
                      <a:lnTo>
                        <a:pt x="20" y="38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>
                  <a:off x="7305480" y="5294160"/>
                  <a:ext cx="126720" cy="763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160" y="0"/>
                      </a:moveTo>
                      <a:lnTo>
                        <a:pt x="154" y="10"/>
                      </a:lnTo>
                      <a:lnTo>
                        <a:pt x="142" y="16"/>
                      </a:lnTo>
                      <a:lnTo>
                        <a:pt x="130" y="20"/>
                      </a:lnTo>
                      <a:lnTo>
                        <a:pt x="121" y="27"/>
                      </a:lnTo>
                      <a:lnTo>
                        <a:pt x="111" y="43"/>
                      </a:lnTo>
                      <a:lnTo>
                        <a:pt x="101" y="57"/>
                      </a:lnTo>
                      <a:lnTo>
                        <a:pt x="93" y="71"/>
                      </a:lnTo>
                      <a:lnTo>
                        <a:pt x="90" y="87"/>
                      </a:lnTo>
                      <a:lnTo>
                        <a:pt x="78" y="91"/>
                      </a:lnTo>
                      <a:lnTo>
                        <a:pt x="67" y="96"/>
                      </a:lnTo>
                      <a:lnTo>
                        <a:pt x="54" y="96"/>
                      </a:lnTo>
                      <a:lnTo>
                        <a:pt x="41" y="96"/>
                      </a:lnTo>
                      <a:lnTo>
                        <a:pt x="30" y="94"/>
                      </a:lnTo>
                      <a:lnTo>
                        <a:pt x="18" y="90"/>
                      </a:lnTo>
                      <a:lnTo>
                        <a:pt x="8" y="86"/>
                      </a:lnTo>
                      <a:lnTo>
                        <a:pt x="0" y="80"/>
                      </a:lnTo>
                      <a:lnTo>
                        <a:pt x="14" y="66"/>
                      </a:lnTo>
                      <a:lnTo>
                        <a:pt x="31" y="51"/>
                      </a:lnTo>
                      <a:lnTo>
                        <a:pt x="50" y="39"/>
                      </a:lnTo>
                      <a:lnTo>
                        <a:pt x="68" y="29"/>
                      </a:lnTo>
                      <a:lnTo>
                        <a:pt x="90" y="19"/>
                      </a:lnTo>
                      <a:lnTo>
                        <a:pt x="111" y="11"/>
                      </a:lnTo>
                      <a:lnTo>
                        <a:pt x="133" y="4"/>
                      </a:lnTo>
                      <a:lnTo>
                        <a:pt x="154" y="0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6531480" y="5319720"/>
                  <a:ext cx="61560" cy="19080"/>
                </a:xfrm>
                <a:custGeom>
                  <a:avLst/>
                  <a:gdLst/>
                  <a:ahLst/>
                  <a:rect l="l" t="t" r="r" b="b"/>
                  <a:pathLst>
                    <a:path w="79" h="23">
                      <a:moveTo>
                        <a:pt x="79" y="21"/>
                      </a:moveTo>
                      <a:lnTo>
                        <a:pt x="0" y="23"/>
                      </a:lnTo>
                      <a:lnTo>
                        <a:pt x="2" y="16"/>
                      </a:lnTo>
                      <a:lnTo>
                        <a:pt x="9" y="7"/>
                      </a:lnTo>
                      <a:lnTo>
                        <a:pt x="20" y="3"/>
                      </a:lnTo>
                      <a:lnTo>
                        <a:pt x="30" y="0"/>
                      </a:lnTo>
                      <a:lnTo>
                        <a:pt x="79" y="7"/>
                      </a:lnTo>
                      <a:lnTo>
                        <a:pt x="79" y="21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7594560" y="5373720"/>
                  <a:ext cx="66240" cy="38160"/>
                </a:xfrm>
                <a:custGeom>
                  <a:avLst/>
                  <a:gdLst/>
                  <a:ahLst/>
                  <a:rect l="l" t="t" r="r" b="b"/>
                  <a:pathLst>
                    <a:path w="84" h="48">
                      <a:moveTo>
                        <a:pt x="84" y="48"/>
                      </a:moveTo>
                      <a:lnTo>
                        <a:pt x="75" y="38"/>
                      </a:lnTo>
                      <a:lnTo>
                        <a:pt x="67" y="28"/>
                      </a:lnTo>
                      <a:lnTo>
                        <a:pt x="57" y="21"/>
                      </a:lnTo>
                      <a:lnTo>
                        <a:pt x="47" y="14"/>
                      </a:lnTo>
                      <a:lnTo>
                        <a:pt x="35" y="9"/>
                      </a:lnTo>
                      <a:lnTo>
                        <a:pt x="25" y="6"/>
                      </a:lnTo>
                      <a:lnTo>
                        <a:pt x="12" y="4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5" y="0"/>
                      </a:lnTo>
                      <a:lnTo>
                        <a:pt x="28" y="0"/>
                      </a:lnTo>
                      <a:lnTo>
                        <a:pt x="41" y="4"/>
                      </a:lnTo>
                      <a:lnTo>
                        <a:pt x="51" y="10"/>
                      </a:lnTo>
                      <a:lnTo>
                        <a:pt x="59" y="19"/>
                      </a:lnTo>
                      <a:lnTo>
                        <a:pt x="68" y="27"/>
                      </a:lnTo>
                      <a:lnTo>
                        <a:pt x="75" y="38"/>
                      </a:lnTo>
                      <a:lnTo>
                        <a:pt x="84" y="48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7140240" y="5398920"/>
                  <a:ext cx="212400" cy="39960"/>
                </a:xfrm>
                <a:custGeom>
                  <a:avLst/>
                  <a:gdLst/>
                  <a:ahLst/>
                  <a:rect l="l" t="t" r="r" b="b"/>
                  <a:pathLst>
                    <a:path w="268" h="52">
                      <a:moveTo>
                        <a:pt x="268" y="39"/>
                      </a:moveTo>
                      <a:lnTo>
                        <a:pt x="247" y="52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30" y="2"/>
                      </a:lnTo>
                      <a:lnTo>
                        <a:pt x="45" y="2"/>
                      </a:lnTo>
                      <a:lnTo>
                        <a:pt x="60" y="3"/>
                      </a:lnTo>
                      <a:lnTo>
                        <a:pt x="75" y="5"/>
                      </a:lnTo>
                      <a:lnTo>
                        <a:pt x="90" y="6"/>
                      </a:lnTo>
                      <a:lnTo>
                        <a:pt x="105" y="7"/>
                      </a:lnTo>
                      <a:lnTo>
                        <a:pt x="121" y="9"/>
                      </a:lnTo>
                      <a:lnTo>
                        <a:pt x="135" y="10"/>
                      </a:lnTo>
                      <a:lnTo>
                        <a:pt x="151" y="13"/>
                      </a:lnTo>
                      <a:lnTo>
                        <a:pt x="167" y="15"/>
                      </a:lnTo>
                      <a:lnTo>
                        <a:pt x="182" y="16"/>
                      </a:lnTo>
                      <a:lnTo>
                        <a:pt x="198" y="17"/>
                      </a:lnTo>
                      <a:lnTo>
                        <a:pt x="214" y="20"/>
                      </a:lnTo>
                      <a:lnTo>
                        <a:pt x="229" y="22"/>
                      </a:lnTo>
                      <a:lnTo>
                        <a:pt x="245" y="23"/>
                      </a:lnTo>
                      <a:lnTo>
                        <a:pt x="268" y="39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7602480" y="5396040"/>
                  <a:ext cx="105840" cy="131760"/>
                </a:xfrm>
                <a:custGeom>
                  <a:avLst/>
                  <a:gdLst/>
                  <a:ahLst/>
                  <a:rect l="l" t="t" r="r" b="b"/>
                  <a:pathLst>
                    <a:path w="132" h="166">
                      <a:moveTo>
                        <a:pt x="131" y="42"/>
                      </a:moveTo>
                      <a:lnTo>
                        <a:pt x="132" y="75"/>
                      </a:lnTo>
                      <a:lnTo>
                        <a:pt x="128" y="103"/>
                      </a:lnTo>
                      <a:lnTo>
                        <a:pt x="118" y="129"/>
                      </a:lnTo>
                      <a:lnTo>
                        <a:pt x="102" y="152"/>
                      </a:lnTo>
                      <a:lnTo>
                        <a:pt x="94" y="159"/>
                      </a:lnTo>
                      <a:lnTo>
                        <a:pt x="84" y="163"/>
                      </a:lnTo>
                      <a:lnTo>
                        <a:pt x="74" y="166"/>
                      </a:lnTo>
                      <a:lnTo>
                        <a:pt x="64" y="166"/>
                      </a:lnTo>
                      <a:lnTo>
                        <a:pt x="54" y="165"/>
                      </a:lnTo>
                      <a:lnTo>
                        <a:pt x="44" y="163"/>
                      </a:lnTo>
                      <a:lnTo>
                        <a:pt x="35" y="159"/>
                      </a:lnTo>
                      <a:lnTo>
                        <a:pt x="25" y="155"/>
                      </a:lnTo>
                      <a:lnTo>
                        <a:pt x="11" y="135"/>
                      </a:lnTo>
                      <a:lnTo>
                        <a:pt x="1" y="112"/>
                      </a:lnTo>
                      <a:lnTo>
                        <a:pt x="0" y="90"/>
                      </a:lnTo>
                      <a:lnTo>
                        <a:pt x="12" y="70"/>
                      </a:lnTo>
                      <a:lnTo>
                        <a:pt x="15" y="60"/>
                      </a:lnTo>
                      <a:lnTo>
                        <a:pt x="20" y="50"/>
                      </a:lnTo>
                      <a:lnTo>
                        <a:pt x="22" y="40"/>
                      </a:lnTo>
                      <a:lnTo>
                        <a:pt x="27" y="30"/>
                      </a:lnTo>
                      <a:lnTo>
                        <a:pt x="32" y="20"/>
                      </a:lnTo>
                      <a:lnTo>
                        <a:pt x="40" y="13"/>
                      </a:lnTo>
                      <a:lnTo>
                        <a:pt x="48" y="8"/>
                      </a:lnTo>
                      <a:lnTo>
                        <a:pt x="60" y="3"/>
                      </a:lnTo>
                      <a:lnTo>
                        <a:pt x="74" y="0"/>
                      </a:lnTo>
                      <a:lnTo>
                        <a:pt x="87" y="0"/>
                      </a:lnTo>
                      <a:lnTo>
                        <a:pt x="97" y="5"/>
                      </a:lnTo>
                      <a:lnTo>
                        <a:pt x="105" y="9"/>
                      </a:lnTo>
                      <a:lnTo>
                        <a:pt x="112" y="16"/>
                      </a:lnTo>
                      <a:lnTo>
                        <a:pt x="118" y="25"/>
                      </a:lnTo>
                      <a:lnTo>
                        <a:pt x="125" y="33"/>
                      </a:lnTo>
                      <a:lnTo>
                        <a:pt x="131" y="42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7378560" y="5398920"/>
                  <a:ext cx="50400" cy="16200"/>
                </a:xfrm>
                <a:custGeom>
                  <a:avLst/>
                  <a:gdLst/>
                  <a:ahLst/>
                  <a:rect l="l" t="t" r="r" b="b"/>
                  <a:pathLst>
                    <a:path w="64" h="20">
                      <a:moveTo>
                        <a:pt x="64" y="15"/>
                      </a:moveTo>
                      <a:lnTo>
                        <a:pt x="58" y="17"/>
                      </a:lnTo>
                      <a:lnTo>
                        <a:pt x="52" y="20"/>
                      </a:lnTo>
                      <a:lnTo>
                        <a:pt x="44" y="20"/>
                      </a:lnTo>
                      <a:lnTo>
                        <a:pt x="35" y="19"/>
                      </a:lnTo>
                      <a:lnTo>
                        <a:pt x="25" y="17"/>
                      </a:lnTo>
                      <a:lnTo>
                        <a:pt x="17" y="16"/>
                      </a:lnTo>
                      <a:lnTo>
                        <a:pt x="8" y="13"/>
                      </a:lnTo>
                      <a:lnTo>
                        <a:pt x="0" y="10"/>
                      </a:lnTo>
                      <a:lnTo>
                        <a:pt x="1" y="0"/>
                      </a:lnTo>
                      <a:lnTo>
                        <a:pt x="64" y="1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7463520" y="5398920"/>
                  <a:ext cx="379080" cy="347760"/>
                </a:xfrm>
                <a:custGeom>
                  <a:avLst/>
                  <a:gdLst/>
                  <a:ahLst/>
                  <a:rect l="l" t="t" r="r" b="b"/>
                  <a:pathLst>
                    <a:path w="476" h="438">
                      <a:moveTo>
                        <a:pt x="442" y="78"/>
                      </a:moveTo>
                      <a:lnTo>
                        <a:pt x="451" y="74"/>
                      </a:lnTo>
                      <a:lnTo>
                        <a:pt x="459" y="70"/>
                      </a:lnTo>
                      <a:lnTo>
                        <a:pt x="468" y="68"/>
                      </a:lnTo>
                      <a:lnTo>
                        <a:pt x="476" y="75"/>
                      </a:lnTo>
                      <a:lnTo>
                        <a:pt x="466" y="121"/>
                      </a:lnTo>
                      <a:lnTo>
                        <a:pt x="455" y="167"/>
                      </a:lnTo>
                      <a:lnTo>
                        <a:pt x="445" y="212"/>
                      </a:lnTo>
                      <a:lnTo>
                        <a:pt x="434" y="259"/>
                      </a:lnTo>
                      <a:lnTo>
                        <a:pt x="421" y="305"/>
                      </a:lnTo>
                      <a:lnTo>
                        <a:pt x="408" y="351"/>
                      </a:lnTo>
                      <a:lnTo>
                        <a:pt x="394" y="394"/>
                      </a:lnTo>
                      <a:lnTo>
                        <a:pt x="378" y="436"/>
                      </a:lnTo>
                      <a:lnTo>
                        <a:pt x="365" y="438"/>
                      </a:lnTo>
                      <a:lnTo>
                        <a:pt x="352" y="438"/>
                      </a:lnTo>
                      <a:lnTo>
                        <a:pt x="338" y="436"/>
                      </a:lnTo>
                      <a:lnTo>
                        <a:pt x="325" y="435"/>
                      </a:lnTo>
                      <a:lnTo>
                        <a:pt x="311" y="432"/>
                      </a:lnTo>
                      <a:lnTo>
                        <a:pt x="297" y="429"/>
                      </a:lnTo>
                      <a:lnTo>
                        <a:pt x="284" y="425"/>
                      </a:lnTo>
                      <a:lnTo>
                        <a:pt x="271" y="421"/>
                      </a:lnTo>
                      <a:lnTo>
                        <a:pt x="274" y="402"/>
                      </a:lnTo>
                      <a:lnTo>
                        <a:pt x="275" y="379"/>
                      </a:lnTo>
                      <a:lnTo>
                        <a:pt x="275" y="355"/>
                      </a:lnTo>
                      <a:lnTo>
                        <a:pt x="275" y="331"/>
                      </a:lnTo>
                      <a:lnTo>
                        <a:pt x="268" y="327"/>
                      </a:lnTo>
                      <a:lnTo>
                        <a:pt x="261" y="322"/>
                      </a:lnTo>
                      <a:lnTo>
                        <a:pt x="252" y="321"/>
                      </a:lnTo>
                      <a:lnTo>
                        <a:pt x="244" y="319"/>
                      </a:lnTo>
                      <a:lnTo>
                        <a:pt x="235" y="319"/>
                      </a:lnTo>
                      <a:lnTo>
                        <a:pt x="225" y="321"/>
                      </a:lnTo>
                      <a:lnTo>
                        <a:pt x="217" y="324"/>
                      </a:lnTo>
                      <a:lnTo>
                        <a:pt x="208" y="328"/>
                      </a:lnTo>
                      <a:lnTo>
                        <a:pt x="201" y="339"/>
                      </a:lnTo>
                      <a:lnTo>
                        <a:pt x="194" y="352"/>
                      </a:lnTo>
                      <a:lnTo>
                        <a:pt x="185" y="365"/>
                      </a:lnTo>
                      <a:lnTo>
                        <a:pt x="177" y="376"/>
                      </a:lnTo>
                      <a:lnTo>
                        <a:pt x="165" y="385"/>
                      </a:lnTo>
                      <a:lnTo>
                        <a:pt x="154" y="389"/>
                      </a:lnTo>
                      <a:lnTo>
                        <a:pt x="138" y="386"/>
                      </a:lnTo>
                      <a:lnTo>
                        <a:pt x="121" y="378"/>
                      </a:lnTo>
                      <a:lnTo>
                        <a:pt x="107" y="372"/>
                      </a:lnTo>
                      <a:lnTo>
                        <a:pt x="91" y="368"/>
                      </a:lnTo>
                      <a:lnTo>
                        <a:pt x="74" y="362"/>
                      </a:lnTo>
                      <a:lnTo>
                        <a:pt x="58" y="356"/>
                      </a:lnTo>
                      <a:lnTo>
                        <a:pt x="41" y="349"/>
                      </a:lnTo>
                      <a:lnTo>
                        <a:pt x="25" y="341"/>
                      </a:lnTo>
                      <a:lnTo>
                        <a:pt x="11" y="331"/>
                      </a:lnTo>
                      <a:lnTo>
                        <a:pt x="0" y="318"/>
                      </a:lnTo>
                      <a:lnTo>
                        <a:pt x="11" y="295"/>
                      </a:lnTo>
                      <a:lnTo>
                        <a:pt x="25" y="274"/>
                      </a:lnTo>
                      <a:lnTo>
                        <a:pt x="40" y="254"/>
                      </a:lnTo>
                      <a:lnTo>
                        <a:pt x="55" y="234"/>
                      </a:lnTo>
                      <a:lnTo>
                        <a:pt x="71" y="215"/>
                      </a:lnTo>
                      <a:lnTo>
                        <a:pt x="87" y="197"/>
                      </a:lnTo>
                      <a:lnTo>
                        <a:pt x="104" y="177"/>
                      </a:lnTo>
                      <a:lnTo>
                        <a:pt x="118" y="158"/>
                      </a:lnTo>
                      <a:lnTo>
                        <a:pt x="128" y="157"/>
                      </a:lnTo>
                      <a:lnTo>
                        <a:pt x="138" y="160"/>
                      </a:lnTo>
                      <a:lnTo>
                        <a:pt x="145" y="165"/>
                      </a:lnTo>
                      <a:lnTo>
                        <a:pt x="151" y="174"/>
                      </a:lnTo>
                      <a:lnTo>
                        <a:pt x="158" y="182"/>
                      </a:lnTo>
                      <a:lnTo>
                        <a:pt x="165" y="191"/>
                      </a:lnTo>
                      <a:lnTo>
                        <a:pt x="172" y="198"/>
                      </a:lnTo>
                      <a:lnTo>
                        <a:pt x="182" y="201"/>
                      </a:lnTo>
                      <a:lnTo>
                        <a:pt x="191" y="207"/>
                      </a:lnTo>
                      <a:lnTo>
                        <a:pt x="202" y="212"/>
                      </a:lnTo>
                      <a:lnTo>
                        <a:pt x="214" y="215"/>
                      </a:lnTo>
                      <a:lnTo>
                        <a:pt x="225" y="217"/>
                      </a:lnTo>
                      <a:lnTo>
                        <a:pt x="238" y="218"/>
                      </a:lnTo>
                      <a:lnTo>
                        <a:pt x="251" y="217"/>
                      </a:lnTo>
                      <a:lnTo>
                        <a:pt x="262" y="214"/>
                      </a:lnTo>
                      <a:lnTo>
                        <a:pt x="272" y="208"/>
                      </a:lnTo>
                      <a:lnTo>
                        <a:pt x="281" y="202"/>
                      </a:lnTo>
                      <a:lnTo>
                        <a:pt x="289" y="198"/>
                      </a:lnTo>
                      <a:lnTo>
                        <a:pt x="297" y="194"/>
                      </a:lnTo>
                      <a:lnTo>
                        <a:pt x="305" y="191"/>
                      </a:lnTo>
                      <a:lnTo>
                        <a:pt x="314" y="188"/>
                      </a:lnTo>
                      <a:lnTo>
                        <a:pt x="322" y="185"/>
                      </a:lnTo>
                      <a:lnTo>
                        <a:pt x="334" y="184"/>
                      </a:lnTo>
                      <a:lnTo>
                        <a:pt x="345" y="181"/>
                      </a:lnTo>
                      <a:lnTo>
                        <a:pt x="357" y="172"/>
                      </a:lnTo>
                      <a:lnTo>
                        <a:pt x="368" y="165"/>
                      </a:lnTo>
                      <a:lnTo>
                        <a:pt x="382" y="160"/>
                      </a:lnTo>
                      <a:lnTo>
                        <a:pt x="395" y="152"/>
                      </a:lnTo>
                      <a:lnTo>
                        <a:pt x="408" y="144"/>
                      </a:lnTo>
                      <a:lnTo>
                        <a:pt x="419" y="135"/>
                      </a:lnTo>
                      <a:lnTo>
                        <a:pt x="428" y="124"/>
                      </a:lnTo>
                      <a:lnTo>
                        <a:pt x="432" y="111"/>
                      </a:lnTo>
                      <a:lnTo>
                        <a:pt x="418" y="108"/>
                      </a:lnTo>
                      <a:lnTo>
                        <a:pt x="404" y="111"/>
                      </a:lnTo>
                      <a:lnTo>
                        <a:pt x="391" y="115"/>
                      </a:lnTo>
                      <a:lnTo>
                        <a:pt x="378" y="124"/>
                      </a:lnTo>
                      <a:lnTo>
                        <a:pt x="365" y="132"/>
                      </a:lnTo>
                      <a:lnTo>
                        <a:pt x="352" y="140"/>
                      </a:lnTo>
                      <a:lnTo>
                        <a:pt x="338" y="144"/>
                      </a:lnTo>
                      <a:lnTo>
                        <a:pt x="324" y="144"/>
                      </a:lnTo>
                      <a:lnTo>
                        <a:pt x="332" y="128"/>
                      </a:lnTo>
                      <a:lnTo>
                        <a:pt x="341" y="111"/>
                      </a:lnTo>
                      <a:lnTo>
                        <a:pt x="347" y="95"/>
                      </a:lnTo>
                      <a:lnTo>
                        <a:pt x="345" y="83"/>
                      </a:lnTo>
                      <a:lnTo>
                        <a:pt x="345" y="67"/>
                      </a:lnTo>
                      <a:lnTo>
                        <a:pt x="342" y="44"/>
                      </a:lnTo>
                      <a:lnTo>
                        <a:pt x="339" y="21"/>
                      </a:lnTo>
                      <a:lnTo>
                        <a:pt x="335" y="0"/>
                      </a:lnTo>
                      <a:lnTo>
                        <a:pt x="352" y="7"/>
                      </a:lnTo>
                      <a:lnTo>
                        <a:pt x="368" y="14"/>
                      </a:lnTo>
                      <a:lnTo>
                        <a:pt x="381" y="23"/>
                      </a:lnTo>
                      <a:lnTo>
                        <a:pt x="394" y="33"/>
                      </a:lnTo>
                      <a:lnTo>
                        <a:pt x="405" y="43"/>
                      </a:lnTo>
                      <a:lnTo>
                        <a:pt x="418" y="54"/>
                      </a:lnTo>
                      <a:lnTo>
                        <a:pt x="429" y="65"/>
                      </a:lnTo>
                      <a:lnTo>
                        <a:pt x="442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7125480" y="5424480"/>
                  <a:ext cx="240840" cy="47520"/>
                </a:xfrm>
                <a:custGeom>
                  <a:avLst/>
                  <a:gdLst/>
                  <a:ahLst/>
                  <a:rect l="l" t="t" r="r" b="b"/>
                  <a:pathLst>
                    <a:path w="304" h="60">
                      <a:moveTo>
                        <a:pt x="304" y="39"/>
                      </a:moveTo>
                      <a:lnTo>
                        <a:pt x="304" y="60"/>
                      </a:lnTo>
                      <a:lnTo>
                        <a:pt x="286" y="59"/>
                      </a:lnTo>
                      <a:lnTo>
                        <a:pt x="267" y="57"/>
                      </a:lnTo>
                      <a:lnTo>
                        <a:pt x="248" y="56"/>
                      </a:lnTo>
                      <a:lnTo>
                        <a:pt x="228" y="53"/>
                      </a:lnTo>
                      <a:lnTo>
                        <a:pt x="210" y="52"/>
                      </a:lnTo>
                      <a:lnTo>
                        <a:pt x="190" y="49"/>
                      </a:lnTo>
                      <a:lnTo>
                        <a:pt x="170" y="46"/>
                      </a:lnTo>
                      <a:lnTo>
                        <a:pt x="151" y="43"/>
                      </a:lnTo>
                      <a:lnTo>
                        <a:pt x="131" y="40"/>
                      </a:lnTo>
                      <a:lnTo>
                        <a:pt x="111" y="36"/>
                      </a:lnTo>
                      <a:lnTo>
                        <a:pt x="93" y="33"/>
                      </a:lnTo>
                      <a:lnTo>
                        <a:pt x="74" y="30"/>
                      </a:lnTo>
                      <a:lnTo>
                        <a:pt x="56" y="26"/>
                      </a:lnTo>
                      <a:lnTo>
                        <a:pt x="37" y="23"/>
                      </a:lnTo>
                      <a:lnTo>
                        <a:pt x="19" y="19"/>
                      </a:lnTo>
                      <a:lnTo>
                        <a:pt x="2" y="16"/>
                      </a:lnTo>
                      <a:lnTo>
                        <a:pt x="0" y="7"/>
                      </a:lnTo>
                      <a:lnTo>
                        <a:pt x="4" y="6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33" y="2"/>
                      </a:lnTo>
                      <a:lnTo>
                        <a:pt x="50" y="3"/>
                      </a:lnTo>
                      <a:lnTo>
                        <a:pt x="69" y="6"/>
                      </a:lnTo>
                      <a:lnTo>
                        <a:pt x="86" y="7"/>
                      </a:lnTo>
                      <a:lnTo>
                        <a:pt x="104" y="10"/>
                      </a:lnTo>
                      <a:lnTo>
                        <a:pt x="123" y="12"/>
                      </a:lnTo>
                      <a:lnTo>
                        <a:pt x="141" y="14"/>
                      </a:lnTo>
                      <a:lnTo>
                        <a:pt x="160" y="17"/>
                      </a:lnTo>
                      <a:lnTo>
                        <a:pt x="179" y="19"/>
                      </a:lnTo>
                      <a:lnTo>
                        <a:pt x="196" y="22"/>
                      </a:lnTo>
                      <a:lnTo>
                        <a:pt x="214" y="24"/>
                      </a:lnTo>
                      <a:lnTo>
                        <a:pt x="233" y="27"/>
                      </a:lnTo>
                      <a:lnTo>
                        <a:pt x="251" y="30"/>
                      </a:lnTo>
                      <a:lnTo>
                        <a:pt x="268" y="33"/>
                      </a:lnTo>
                      <a:lnTo>
                        <a:pt x="287" y="36"/>
                      </a:lnTo>
                      <a:lnTo>
                        <a:pt x="304" y="39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6251400" y="5427720"/>
                  <a:ext cx="1174320" cy="458640"/>
                </a:xfrm>
                <a:custGeom>
                  <a:avLst/>
                  <a:gdLst/>
                  <a:ahLst/>
                  <a:rect l="l" t="t" r="r" b="b"/>
                  <a:pathLst>
                    <a:path w="1480" h="579">
                      <a:moveTo>
                        <a:pt x="956" y="116"/>
                      </a:moveTo>
                      <a:lnTo>
                        <a:pt x="987" y="124"/>
                      </a:lnTo>
                      <a:lnTo>
                        <a:pt x="1017" y="134"/>
                      </a:lnTo>
                      <a:lnTo>
                        <a:pt x="1049" y="143"/>
                      </a:lnTo>
                      <a:lnTo>
                        <a:pt x="1079" y="153"/>
                      </a:lnTo>
                      <a:lnTo>
                        <a:pt x="1110" y="163"/>
                      </a:lnTo>
                      <a:lnTo>
                        <a:pt x="1140" y="173"/>
                      </a:lnTo>
                      <a:lnTo>
                        <a:pt x="1170" y="184"/>
                      </a:lnTo>
                      <a:lnTo>
                        <a:pt x="1199" y="196"/>
                      </a:lnTo>
                      <a:lnTo>
                        <a:pt x="1229" y="207"/>
                      </a:lnTo>
                      <a:lnTo>
                        <a:pt x="1257" y="220"/>
                      </a:lnTo>
                      <a:lnTo>
                        <a:pt x="1284" y="234"/>
                      </a:lnTo>
                      <a:lnTo>
                        <a:pt x="1313" y="250"/>
                      </a:lnTo>
                      <a:lnTo>
                        <a:pt x="1339" y="265"/>
                      </a:lnTo>
                      <a:lnTo>
                        <a:pt x="1366" y="283"/>
                      </a:lnTo>
                      <a:lnTo>
                        <a:pt x="1391" y="300"/>
                      </a:lnTo>
                      <a:lnTo>
                        <a:pt x="1416" y="320"/>
                      </a:lnTo>
                      <a:lnTo>
                        <a:pt x="1388" y="311"/>
                      </a:lnTo>
                      <a:lnTo>
                        <a:pt x="1361" y="303"/>
                      </a:lnTo>
                      <a:lnTo>
                        <a:pt x="1334" y="294"/>
                      </a:lnTo>
                      <a:lnTo>
                        <a:pt x="1306" y="285"/>
                      </a:lnTo>
                      <a:lnTo>
                        <a:pt x="1277" y="277"/>
                      </a:lnTo>
                      <a:lnTo>
                        <a:pt x="1249" y="268"/>
                      </a:lnTo>
                      <a:lnTo>
                        <a:pt x="1220" y="261"/>
                      </a:lnTo>
                      <a:lnTo>
                        <a:pt x="1192" y="253"/>
                      </a:lnTo>
                      <a:lnTo>
                        <a:pt x="1162" y="245"/>
                      </a:lnTo>
                      <a:lnTo>
                        <a:pt x="1133" y="237"/>
                      </a:lnTo>
                      <a:lnTo>
                        <a:pt x="1103" y="230"/>
                      </a:lnTo>
                      <a:lnTo>
                        <a:pt x="1075" y="224"/>
                      </a:lnTo>
                      <a:lnTo>
                        <a:pt x="1046" y="217"/>
                      </a:lnTo>
                      <a:lnTo>
                        <a:pt x="1016" y="211"/>
                      </a:lnTo>
                      <a:lnTo>
                        <a:pt x="987" y="205"/>
                      </a:lnTo>
                      <a:lnTo>
                        <a:pt x="959" y="200"/>
                      </a:lnTo>
                      <a:lnTo>
                        <a:pt x="956" y="208"/>
                      </a:lnTo>
                      <a:lnTo>
                        <a:pt x="959" y="215"/>
                      </a:lnTo>
                      <a:lnTo>
                        <a:pt x="965" y="221"/>
                      </a:lnTo>
                      <a:lnTo>
                        <a:pt x="972" y="223"/>
                      </a:lnTo>
                      <a:lnTo>
                        <a:pt x="1002" y="230"/>
                      </a:lnTo>
                      <a:lnTo>
                        <a:pt x="1032" y="237"/>
                      </a:lnTo>
                      <a:lnTo>
                        <a:pt x="1063" y="245"/>
                      </a:lnTo>
                      <a:lnTo>
                        <a:pt x="1093" y="253"/>
                      </a:lnTo>
                      <a:lnTo>
                        <a:pt x="1122" y="261"/>
                      </a:lnTo>
                      <a:lnTo>
                        <a:pt x="1152" y="268"/>
                      </a:lnTo>
                      <a:lnTo>
                        <a:pt x="1182" y="277"/>
                      </a:lnTo>
                      <a:lnTo>
                        <a:pt x="1212" y="285"/>
                      </a:lnTo>
                      <a:lnTo>
                        <a:pt x="1241" y="293"/>
                      </a:lnTo>
                      <a:lnTo>
                        <a:pt x="1271" y="301"/>
                      </a:lnTo>
                      <a:lnTo>
                        <a:pt x="1301" y="308"/>
                      </a:lnTo>
                      <a:lnTo>
                        <a:pt x="1330" y="317"/>
                      </a:lnTo>
                      <a:lnTo>
                        <a:pt x="1360" y="324"/>
                      </a:lnTo>
                      <a:lnTo>
                        <a:pt x="1391" y="331"/>
                      </a:lnTo>
                      <a:lnTo>
                        <a:pt x="1421" y="338"/>
                      </a:lnTo>
                      <a:lnTo>
                        <a:pt x="1451" y="345"/>
                      </a:lnTo>
                      <a:lnTo>
                        <a:pt x="1463" y="354"/>
                      </a:lnTo>
                      <a:lnTo>
                        <a:pt x="1467" y="364"/>
                      </a:lnTo>
                      <a:lnTo>
                        <a:pt x="1466" y="374"/>
                      </a:lnTo>
                      <a:lnTo>
                        <a:pt x="1464" y="384"/>
                      </a:lnTo>
                      <a:lnTo>
                        <a:pt x="1461" y="394"/>
                      </a:lnTo>
                      <a:lnTo>
                        <a:pt x="1461" y="402"/>
                      </a:lnTo>
                      <a:lnTo>
                        <a:pt x="1467" y="411"/>
                      </a:lnTo>
                      <a:lnTo>
                        <a:pt x="1480" y="418"/>
                      </a:lnTo>
                      <a:lnTo>
                        <a:pt x="1480" y="434"/>
                      </a:lnTo>
                      <a:lnTo>
                        <a:pt x="1458" y="430"/>
                      </a:lnTo>
                      <a:lnTo>
                        <a:pt x="1437" y="428"/>
                      </a:lnTo>
                      <a:lnTo>
                        <a:pt x="1413" y="428"/>
                      </a:lnTo>
                      <a:lnTo>
                        <a:pt x="1390" y="430"/>
                      </a:lnTo>
                      <a:lnTo>
                        <a:pt x="1367" y="434"/>
                      </a:lnTo>
                      <a:lnTo>
                        <a:pt x="1346" y="441"/>
                      </a:lnTo>
                      <a:lnTo>
                        <a:pt x="1326" y="449"/>
                      </a:lnTo>
                      <a:lnTo>
                        <a:pt x="1307" y="459"/>
                      </a:lnTo>
                      <a:lnTo>
                        <a:pt x="1286" y="477"/>
                      </a:lnTo>
                      <a:lnTo>
                        <a:pt x="1267" y="498"/>
                      </a:lnTo>
                      <a:lnTo>
                        <a:pt x="1250" y="522"/>
                      </a:lnTo>
                      <a:lnTo>
                        <a:pt x="1233" y="545"/>
                      </a:lnTo>
                      <a:lnTo>
                        <a:pt x="1213" y="565"/>
                      </a:lnTo>
                      <a:lnTo>
                        <a:pt x="1190" y="576"/>
                      </a:lnTo>
                      <a:lnTo>
                        <a:pt x="1163" y="579"/>
                      </a:lnTo>
                      <a:lnTo>
                        <a:pt x="1129" y="569"/>
                      </a:lnTo>
                      <a:lnTo>
                        <a:pt x="1122" y="528"/>
                      </a:lnTo>
                      <a:lnTo>
                        <a:pt x="1119" y="485"/>
                      </a:lnTo>
                      <a:lnTo>
                        <a:pt x="1112" y="442"/>
                      </a:lnTo>
                      <a:lnTo>
                        <a:pt x="1096" y="405"/>
                      </a:lnTo>
                      <a:lnTo>
                        <a:pt x="1086" y="390"/>
                      </a:lnTo>
                      <a:lnTo>
                        <a:pt x="1076" y="374"/>
                      </a:lnTo>
                      <a:lnTo>
                        <a:pt x="1065" y="358"/>
                      </a:lnTo>
                      <a:lnTo>
                        <a:pt x="1053" y="344"/>
                      </a:lnTo>
                      <a:lnTo>
                        <a:pt x="1042" y="330"/>
                      </a:lnTo>
                      <a:lnTo>
                        <a:pt x="1029" y="315"/>
                      </a:lnTo>
                      <a:lnTo>
                        <a:pt x="1016" y="304"/>
                      </a:lnTo>
                      <a:lnTo>
                        <a:pt x="1003" y="293"/>
                      </a:lnTo>
                      <a:lnTo>
                        <a:pt x="1032" y="297"/>
                      </a:lnTo>
                      <a:lnTo>
                        <a:pt x="1060" y="303"/>
                      </a:lnTo>
                      <a:lnTo>
                        <a:pt x="1090" y="308"/>
                      </a:lnTo>
                      <a:lnTo>
                        <a:pt x="1119" y="315"/>
                      </a:lnTo>
                      <a:lnTo>
                        <a:pt x="1147" y="322"/>
                      </a:lnTo>
                      <a:lnTo>
                        <a:pt x="1176" y="330"/>
                      </a:lnTo>
                      <a:lnTo>
                        <a:pt x="1204" y="337"/>
                      </a:lnTo>
                      <a:lnTo>
                        <a:pt x="1232" y="345"/>
                      </a:lnTo>
                      <a:lnTo>
                        <a:pt x="1260" y="352"/>
                      </a:lnTo>
                      <a:lnTo>
                        <a:pt x="1289" y="361"/>
                      </a:lnTo>
                      <a:lnTo>
                        <a:pt x="1316" y="368"/>
                      </a:lnTo>
                      <a:lnTo>
                        <a:pt x="1343" y="375"/>
                      </a:lnTo>
                      <a:lnTo>
                        <a:pt x="1371" y="382"/>
                      </a:lnTo>
                      <a:lnTo>
                        <a:pt x="1398" y="390"/>
                      </a:lnTo>
                      <a:lnTo>
                        <a:pt x="1424" y="397"/>
                      </a:lnTo>
                      <a:lnTo>
                        <a:pt x="1451" y="402"/>
                      </a:lnTo>
                      <a:lnTo>
                        <a:pt x="1454" y="397"/>
                      </a:lnTo>
                      <a:lnTo>
                        <a:pt x="1453" y="391"/>
                      </a:lnTo>
                      <a:lnTo>
                        <a:pt x="1448" y="387"/>
                      </a:lnTo>
                      <a:lnTo>
                        <a:pt x="1443" y="385"/>
                      </a:lnTo>
                      <a:lnTo>
                        <a:pt x="1411" y="375"/>
                      </a:lnTo>
                      <a:lnTo>
                        <a:pt x="1378" y="365"/>
                      </a:lnTo>
                      <a:lnTo>
                        <a:pt x="1347" y="355"/>
                      </a:lnTo>
                      <a:lnTo>
                        <a:pt x="1316" y="345"/>
                      </a:lnTo>
                      <a:lnTo>
                        <a:pt x="1284" y="335"/>
                      </a:lnTo>
                      <a:lnTo>
                        <a:pt x="1251" y="325"/>
                      </a:lnTo>
                      <a:lnTo>
                        <a:pt x="1220" y="315"/>
                      </a:lnTo>
                      <a:lnTo>
                        <a:pt x="1189" y="307"/>
                      </a:lnTo>
                      <a:lnTo>
                        <a:pt x="1156" y="298"/>
                      </a:lnTo>
                      <a:lnTo>
                        <a:pt x="1124" y="290"/>
                      </a:lnTo>
                      <a:lnTo>
                        <a:pt x="1092" y="283"/>
                      </a:lnTo>
                      <a:lnTo>
                        <a:pt x="1059" y="275"/>
                      </a:lnTo>
                      <a:lnTo>
                        <a:pt x="1026" y="268"/>
                      </a:lnTo>
                      <a:lnTo>
                        <a:pt x="993" y="263"/>
                      </a:lnTo>
                      <a:lnTo>
                        <a:pt x="960" y="258"/>
                      </a:lnTo>
                      <a:lnTo>
                        <a:pt x="926" y="254"/>
                      </a:lnTo>
                      <a:lnTo>
                        <a:pt x="916" y="241"/>
                      </a:lnTo>
                      <a:lnTo>
                        <a:pt x="905" y="228"/>
                      </a:lnTo>
                      <a:lnTo>
                        <a:pt x="893" y="217"/>
                      </a:lnTo>
                      <a:lnTo>
                        <a:pt x="880" y="205"/>
                      </a:lnTo>
                      <a:lnTo>
                        <a:pt x="866" y="196"/>
                      </a:lnTo>
                      <a:lnTo>
                        <a:pt x="852" y="187"/>
                      </a:lnTo>
                      <a:lnTo>
                        <a:pt x="836" y="178"/>
                      </a:lnTo>
                      <a:lnTo>
                        <a:pt x="821" y="171"/>
                      </a:lnTo>
                      <a:lnTo>
                        <a:pt x="803" y="164"/>
                      </a:lnTo>
                      <a:lnTo>
                        <a:pt x="786" y="160"/>
                      </a:lnTo>
                      <a:lnTo>
                        <a:pt x="769" y="156"/>
                      </a:lnTo>
                      <a:lnTo>
                        <a:pt x="751" y="153"/>
                      </a:lnTo>
                      <a:lnTo>
                        <a:pt x="733" y="151"/>
                      </a:lnTo>
                      <a:lnTo>
                        <a:pt x="715" y="151"/>
                      </a:lnTo>
                      <a:lnTo>
                        <a:pt x="696" y="154"/>
                      </a:lnTo>
                      <a:lnTo>
                        <a:pt x="678" y="157"/>
                      </a:lnTo>
                      <a:lnTo>
                        <a:pt x="649" y="170"/>
                      </a:lnTo>
                      <a:lnTo>
                        <a:pt x="629" y="188"/>
                      </a:lnTo>
                      <a:lnTo>
                        <a:pt x="615" y="211"/>
                      </a:lnTo>
                      <a:lnTo>
                        <a:pt x="604" y="237"/>
                      </a:lnTo>
                      <a:lnTo>
                        <a:pt x="592" y="261"/>
                      </a:lnTo>
                      <a:lnTo>
                        <a:pt x="578" y="284"/>
                      </a:lnTo>
                      <a:lnTo>
                        <a:pt x="556" y="303"/>
                      </a:lnTo>
                      <a:lnTo>
                        <a:pt x="525" y="315"/>
                      </a:lnTo>
                      <a:lnTo>
                        <a:pt x="504" y="337"/>
                      </a:lnTo>
                      <a:lnTo>
                        <a:pt x="484" y="358"/>
                      </a:lnTo>
                      <a:lnTo>
                        <a:pt x="464" y="381"/>
                      </a:lnTo>
                      <a:lnTo>
                        <a:pt x="447" y="405"/>
                      </a:lnTo>
                      <a:lnTo>
                        <a:pt x="429" y="431"/>
                      </a:lnTo>
                      <a:lnTo>
                        <a:pt x="414" y="457"/>
                      </a:lnTo>
                      <a:lnTo>
                        <a:pt x="400" y="484"/>
                      </a:lnTo>
                      <a:lnTo>
                        <a:pt x="387" y="511"/>
                      </a:lnTo>
                      <a:lnTo>
                        <a:pt x="330" y="511"/>
                      </a:lnTo>
                      <a:lnTo>
                        <a:pt x="325" y="479"/>
                      </a:lnTo>
                      <a:lnTo>
                        <a:pt x="331" y="452"/>
                      </a:lnTo>
                      <a:lnTo>
                        <a:pt x="334" y="427"/>
                      </a:lnTo>
                      <a:lnTo>
                        <a:pt x="322" y="400"/>
                      </a:lnTo>
                      <a:lnTo>
                        <a:pt x="310" y="392"/>
                      </a:lnTo>
                      <a:lnTo>
                        <a:pt x="297" y="388"/>
                      </a:lnTo>
                      <a:lnTo>
                        <a:pt x="282" y="385"/>
                      </a:lnTo>
                      <a:lnTo>
                        <a:pt x="268" y="385"/>
                      </a:lnTo>
                      <a:lnTo>
                        <a:pt x="255" y="385"/>
                      </a:lnTo>
                      <a:lnTo>
                        <a:pt x="241" y="384"/>
                      </a:lnTo>
                      <a:lnTo>
                        <a:pt x="227" y="380"/>
                      </a:lnTo>
                      <a:lnTo>
                        <a:pt x="214" y="374"/>
                      </a:lnTo>
                      <a:lnTo>
                        <a:pt x="187" y="370"/>
                      </a:lnTo>
                      <a:lnTo>
                        <a:pt x="160" y="365"/>
                      </a:lnTo>
                      <a:lnTo>
                        <a:pt x="134" y="360"/>
                      </a:lnTo>
                      <a:lnTo>
                        <a:pt x="108" y="354"/>
                      </a:lnTo>
                      <a:lnTo>
                        <a:pt x="83" y="348"/>
                      </a:lnTo>
                      <a:lnTo>
                        <a:pt x="58" y="342"/>
                      </a:lnTo>
                      <a:lnTo>
                        <a:pt x="31" y="337"/>
                      </a:lnTo>
                      <a:lnTo>
                        <a:pt x="6" y="331"/>
                      </a:lnTo>
                      <a:lnTo>
                        <a:pt x="3" y="327"/>
                      </a:lnTo>
                      <a:lnTo>
                        <a:pt x="1" y="324"/>
                      </a:lnTo>
                      <a:lnTo>
                        <a:pt x="0" y="318"/>
                      </a:lnTo>
                      <a:lnTo>
                        <a:pt x="0" y="313"/>
                      </a:lnTo>
                      <a:lnTo>
                        <a:pt x="20" y="315"/>
                      </a:lnTo>
                      <a:lnTo>
                        <a:pt x="41" y="317"/>
                      </a:lnTo>
                      <a:lnTo>
                        <a:pt x="61" y="320"/>
                      </a:lnTo>
                      <a:lnTo>
                        <a:pt x="83" y="322"/>
                      </a:lnTo>
                      <a:lnTo>
                        <a:pt x="103" y="325"/>
                      </a:lnTo>
                      <a:lnTo>
                        <a:pt x="124" y="327"/>
                      </a:lnTo>
                      <a:lnTo>
                        <a:pt x="144" y="331"/>
                      </a:lnTo>
                      <a:lnTo>
                        <a:pt x="165" y="334"/>
                      </a:lnTo>
                      <a:lnTo>
                        <a:pt x="185" y="337"/>
                      </a:lnTo>
                      <a:lnTo>
                        <a:pt x="207" y="341"/>
                      </a:lnTo>
                      <a:lnTo>
                        <a:pt x="227" y="345"/>
                      </a:lnTo>
                      <a:lnTo>
                        <a:pt x="247" y="350"/>
                      </a:lnTo>
                      <a:lnTo>
                        <a:pt x="267" y="355"/>
                      </a:lnTo>
                      <a:lnTo>
                        <a:pt x="287" y="361"/>
                      </a:lnTo>
                      <a:lnTo>
                        <a:pt x="307" y="367"/>
                      </a:lnTo>
                      <a:lnTo>
                        <a:pt x="325" y="374"/>
                      </a:lnTo>
                      <a:lnTo>
                        <a:pt x="347" y="331"/>
                      </a:lnTo>
                      <a:lnTo>
                        <a:pt x="365" y="287"/>
                      </a:lnTo>
                      <a:lnTo>
                        <a:pt x="381" y="243"/>
                      </a:lnTo>
                      <a:lnTo>
                        <a:pt x="392" y="197"/>
                      </a:lnTo>
                      <a:lnTo>
                        <a:pt x="400" y="151"/>
                      </a:lnTo>
                      <a:lnTo>
                        <a:pt x="401" y="103"/>
                      </a:lnTo>
                      <a:lnTo>
                        <a:pt x="395" y="56"/>
                      </a:lnTo>
                      <a:lnTo>
                        <a:pt x="384" y="6"/>
                      </a:lnTo>
                      <a:lnTo>
                        <a:pt x="397" y="0"/>
                      </a:lnTo>
                      <a:lnTo>
                        <a:pt x="434" y="7"/>
                      </a:lnTo>
                      <a:lnTo>
                        <a:pt x="469" y="13"/>
                      </a:lnTo>
                      <a:lnTo>
                        <a:pt x="505" y="20"/>
                      </a:lnTo>
                      <a:lnTo>
                        <a:pt x="541" y="26"/>
                      </a:lnTo>
                      <a:lnTo>
                        <a:pt x="575" y="31"/>
                      </a:lnTo>
                      <a:lnTo>
                        <a:pt x="611" y="37"/>
                      </a:lnTo>
                      <a:lnTo>
                        <a:pt x="645" y="43"/>
                      </a:lnTo>
                      <a:lnTo>
                        <a:pt x="681" y="49"/>
                      </a:lnTo>
                      <a:lnTo>
                        <a:pt x="715" y="56"/>
                      </a:lnTo>
                      <a:lnTo>
                        <a:pt x="749" y="63"/>
                      </a:lnTo>
                      <a:lnTo>
                        <a:pt x="783" y="70"/>
                      </a:lnTo>
                      <a:lnTo>
                        <a:pt x="818" y="77"/>
                      </a:lnTo>
                      <a:lnTo>
                        <a:pt x="852" y="86"/>
                      </a:lnTo>
                      <a:lnTo>
                        <a:pt x="886" y="94"/>
                      </a:lnTo>
                      <a:lnTo>
                        <a:pt x="922" y="104"/>
                      </a:lnTo>
                      <a:lnTo>
                        <a:pt x="956" y="11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7580880" y="5437080"/>
                  <a:ext cx="12600" cy="42840"/>
                </a:xfrm>
                <a:custGeom>
                  <a:avLst/>
                  <a:gdLst/>
                  <a:ahLst/>
                  <a:rect l="l" t="t" r="r" b="b"/>
                  <a:pathLst>
                    <a:path w="15" h="54">
                      <a:moveTo>
                        <a:pt x="15" y="36"/>
                      </a:moveTo>
                      <a:lnTo>
                        <a:pt x="0" y="54"/>
                      </a:lnTo>
                      <a:lnTo>
                        <a:pt x="5" y="0"/>
                      </a:lnTo>
                      <a:lnTo>
                        <a:pt x="13" y="6"/>
                      </a:lnTo>
                      <a:lnTo>
                        <a:pt x="14" y="14"/>
                      </a:lnTo>
                      <a:lnTo>
                        <a:pt x="14" y="24"/>
                      </a:lnTo>
                      <a:lnTo>
                        <a:pt x="15" y="36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7391160" y="5437080"/>
                  <a:ext cx="48960" cy="15840"/>
                </a:xfrm>
                <a:custGeom>
                  <a:avLst/>
                  <a:gdLst/>
                  <a:ahLst/>
                  <a:rect l="l" t="t" r="r" b="b"/>
                  <a:pathLst>
                    <a:path w="61" h="20">
                      <a:moveTo>
                        <a:pt x="61" y="20"/>
                      </a:moveTo>
                      <a:lnTo>
                        <a:pt x="53" y="20"/>
                      </a:lnTo>
                      <a:lnTo>
                        <a:pt x="44" y="18"/>
                      </a:lnTo>
                      <a:lnTo>
                        <a:pt x="35" y="18"/>
                      </a:lnTo>
                      <a:lnTo>
                        <a:pt x="27" y="16"/>
                      </a:lnTo>
                      <a:lnTo>
                        <a:pt x="18" y="14"/>
                      </a:lnTo>
                      <a:lnTo>
                        <a:pt x="11" y="11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8" y="1"/>
                      </a:lnTo>
                      <a:lnTo>
                        <a:pt x="17" y="3"/>
                      </a:lnTo>
                      <a:lnTo>
                        <a:pt x="27" y="3"/>
                      </a:lnTo>
                      <a:lnTo>
                        <a:pt x="35" y="3"/>
                      </a:lnTo>
                      <a:lnTo>
                        <a:pt x="44" y="4"/>
                      </a:lnTo>
                      <a:lnTo>
                        <a:pt x="53" y="7"/>
                      </a:lnTo>
                      <a:lnTo>
                        <a:pt x="58" y="11"/>
                      </a:lnTo>
                      <a:lnTo>
                        <a:pt x="61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7125480" y="5462640"/>
                  <a:ext cx="247320" cy="41400"/>
                </a:xfrm>
                <a:custGeom>
                  <a:avLst/>
                  <a:gdLst/>
                  <a:ahLst/>
                  <a:rect l="l" t="t" r="r" b="b"/>
                  <a:pathLst>
                    <a:path w="311" h="53">
                      <a:moveTo>
                        <a:pt x="301" y="33"/>
                      </a:moveTo>
                      <a:lnTo>
                        <a:pt x="305" y="37"/>
                      </a:lnTo>
                      <a:lnTo>
                        <a:pt x="310" y="40"/>
                      </a:lnTo>
                      <a:lnTo>
                        <a:pt x="311" y="46"/>
                      </a:lnTo>
                      <a:lnTo>
                        <a:pt x="311" y="53"/>
                      </a:lnTo>
                      <a:lnTo>
                        <a:pt x="294" y="53"/>
                      </a:lnTo>
                      <a:lnTo>
                        <a:pt x="277" y="52"/>
                      </a:lnTo>
                      <a:lnTo>
                        <a:pt x="258" y="50"/>
                      </a:lnTo>
                      <a:lnTo>
                        <a:pt x="240" y="47"/>
                      </a:lnTo>
                      <a:lnTo>
                        <a:pt x="220" y="46"/>
                      </a:lnTo>
                      <a:lnTo>
                        <a:pt x="200" y="42"/>
                      </a:lnTo>
                      <a:lnTo>
                        <a:pt x="180" y="39"/>
                      </a:lnTo>
                      <a:lnTo>
                        <a:pt x="158" y="36"/>
                      </a:lnTo>
                      <a:lnTo>
                        <a:pt x="138" y="32"/>
                      </a:lnTo>
                      <a:lnTo>
                        <a:pt x="117" y="29"/>
                      </a:lnTo>
                      <a:lnTo>
                        <a:pt x="97" y="26"/>
                      </a:lnTo>
                      <a:lnTo>
                        <a:pt x="77" y="22"/>
                      </a:lnTo>
                      <a:lnTo>
                        <a:pt x="57" y="19"/>
                      </a:lnTo>
                      <a:lnTo>
                        <a:pt x="37" y="17"/>
                      </a:lnTo>
                      <a:lnTo>
                        <a:pt x="19" y="15"/>
                      </a:lnTo>
                      <a:lnTo>
                        <a:pt x="0" y="13"/>
                      </a:lnTo>
                      <a:lnTo>
                        <a:pt x="9" y="0"/>
                      </a:lnTo>
                      <a:lnTo>
                        <a:pt x="301" y="33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7397640" y="5470560"/>
                  <a:ext cx="56880" cy="1584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72" y="20"/>
                      </a:moveTo>
                      <a:lnTo>
                        <a:pt x="0" y="10"/>
                      </a:lnTo>
                      <a:lnTo>
                        <a:pt x="6" y="5"/>
                      </a:lnTo>
                      <a:lnTo>
                        <a:pt x="15" y="2"/>
                      </a:lnTo>
                      <a:lnTo>
                        <a:pt x="25" y="0"/>
                      </a:lnTo>
                      <a:lnTo>
                        <a:pt x="36" y="0"/>
                      </a:lnTo>
                      <a:lnTo>
                        <a:pt x="47" y="3"/>
                      </a:lnTo>
                      <a:lnTo>
                        <a:pt x="57" y="7"/>
                      </a:lnTo>
                      <a:lnTo>
                        <a:pt x="66" y="13"/>
                      </a:lnTo>
                      <a:lnTo>
                        <a:pt x="72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6426000" y="5475240"/>
                  <a:ext cx="80640" cy="61920"/>
                </a:xfrm>
                <a:custGeom>
                  <a:avLst/>
                  <a:gdLst/>
                  <a:ahLst/>
                  <a:rect l="l" t="t" r="r" b="b"/>
                  <a:pathLst>
                    <a:path w="103" h="77">
                      <a:moveTo>
                        <a:pt x="100" y="39"/>
                      </a:moveTo>
                      <a:lnTo>
                        <a:pt x="103" y="49"/>
                      </a:lnTo>
                      <a:lnTo>
                        <a:pt x="100" y="56"/>
                      </a:lnTo>
                      <a:lnTo>
                        <a:pt x="96" y="62"/>
                      </a:lnTo>
                      <a:lnTo>
                        <a:pt x="90" y="65"/>
                      </a:lnTo>
                      <a:lnTo>
                        <a:pt x="83" y="67"/>
                      </a:lnTo>
                      <a:lnTo>
                        <a:pt x="75" y="70"/>
                      </a:lnTo>
                      <a:lnTo>
                        <a:pt x="67" y="73"/>
                      </a:lnTo>
                      <a:lnTo>
                        <a:pt x="62" y="77"/>
                      </a:lnTo>
                      <a:lnTo>
                        <a:pt x="55" y="77"/>
                      </a:lnTo>
                      <a:lnTo>
                        <a:pt x="46" y="77"/>
                      </a:lnTo>
                      <a:lnTo>
                        <a:pt x="37" y="76"/>
                      </a:lnTo>
                      <a:lnTo>
                        <a:pt x="29" y="72"/>
                      </a:lnTo>
                      <a:lnTo>
                        <a:pt x="20" y="67"/>
                      </a:lnTo>
                      <a:lnTo>
                        <a:pt x="13" y="63"/>
                      </a:lnTo>
                      <a:lnTo>
                        <a:pt x="6" y="56"/>
                      </a:lnTo>
                      <a:lnTo>
                        <a:pt x="0" y="49"/>
                      </a:lnTo>
                      <a:lnTo>
                        <a:pt x="13" y="39"/>
                      </a:lnTo>
                      <a:lnTo>
                        <a:pt x="27" y="27"/>
                      </a:lnTo>
                      <a:lnTo>
                        <a:pt x="43" y="15"/>
                      </a:lnTo>
                      <a:lnTo>
                        <a:pt x="59" y="5"/>
                      </a:lnTo>
                      <a:lnTo>
                        <a:pt x="75" y="0"/>
                      </a:lnTo>
                      <a:lnTo>
                        <a:pt x="87" y="2"/>
                      </a:lnTo>
                      <a:lnTo>
                        <a:pt x="96" y="15"/>
                      </a:lnTo>
                      <a:lnTo>
                        <a:pt x="100" y="39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7126200" y="5492880"/>
                  <a:ext cx="253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68">
                      <a:moveTo>
                        <a:pt x="320" y="45"/>
                      </a:moveTo>
                      <a:lnTo>
                        <a:pt x="321" y="50"/>
                      </a:lnTo>
                      <a:lnTo>
                        <a:pt x="321" y="57"/>
                      </a:lnTo>
                      <a:lnTo>
                        <a:pt x="321" y="63"/>
                      </a:lnTo>
                      <a:lnTo>
                        <a:pt x="321" y="68"/>
                      </a:lnTo>
                      <a:lnTo>
                        <a:pt x="301" y="67"/>
                      </a:lnTo>
                      <a:lnTo>
                        <a:pt x="281" y="64"/>
                      </a:lnTo>
                      <a:lnTo>
                        <a:pt x="260" y="63"/>
                      </a:lnTo>
                      <a:lnTo>
                        <a:pt x="240" y="60"/>
                      </a:lnTo>
                      <a:lnTo>
                        <a:pt x="220" y="57"/>
                      </a:lnTo>
                      <a:lnTo>
                        <a:pt x="198" y="54"/>
                      </a:lnTo>
                      <a:lnTo>
                        <a:pt x="178" y="50"/>
                      </a:lnTo>
                      <a:lnTo>
                        <a:pt x="158" y="47"/>
                      </a:lnTo>
                      <a:lnTo>
                        <a:pt x="137" y="43"/>
                      </a:lnTo>
                      <a:lnTo>
                        <a:pt x="117" y="40"/>
                      </a:lnTo>
                      <a:lnTo>
                        <a:pt x="97" y="37"/>
                      </a:lnTo>
                      <a:lnTo>
                        <a:pt x="77" y="33"/>
                      </a:lnTo>
                      <a:lnTo>
                        <a:pt x="57" y="30"/>
                      </a:lnTo>
                      <a:lnTo>
                        <a:pt x="39" y="27"/>
                      </a:lnTo>
                      <a:lnTo>
                        <a:pt x="19" y="24"/>
                      </a:lnTo>
                      <a:lnTo>
                        <a:pt x="0" y="23"/>
                      </a:lnTo>
                      <a:lnTo>
                        <a:pt x="0" y="15"/>
                      </a:lnTo>
                      <a:lnTo>
                        <a:pt x="0" y="8"/>
                      </a:lnTo>
                      <a:lnTo>
                        <a:pt x="3" y="3"/>
                      </a:lnTo>
                      <a:lnTo>
                        <a:pt x="10" y="0"/>
                      </a:lnTo>
                      <a:lnTo>
                        <a:pt x="29" y="1"/>
                      </a:lnTo>
                      <a:lnTo>
                        <a:pt x="47" y="4"/>
                      </a:lnTo>
                      <a:lnTo>
                        <a:pt x="67" y="5"/>
                      </a:lnTo>
                      <a:lnTo>
                        <a:pt x="86" y="7"/>
                      </a:lnTo>
                      <a:lnTo>
                        <a:pt x="106" y="8"/>
                      </a:lnTo>
                      <a:lnTo>
                        <a:pt x="124" y="11"/>
                      </a:lnTo>
                      <a:lnTo>
                        <a:pt x="144" y="13"/>
                      </a:lnTo>
                      <a:lnTo>
                        <a:pt x="163" y="15"/>
                      </a:lnTo>
                      <a:lnTo>
                        <a:pt x="183" y="18"/>
                      </a:lnTo>
                      <a:lnTo>
                        <a:pt x="203" y="21"/>
                      </a:lnTo>
                      <a:lnTo>
                        <a:pt x="221" y="24"/>
                      </a:lnTo>
                      <a:lnTo>
                        <a:pt x="241" y="28"/>
                      </a:lnTo>
                      <a:lnTo>
                        <a:pt x="261" y="31"/>
                      </a:lnTo>
                      <a:lnTo>
                        <a:pt x="281" y="35"/>
                      </a:lnTo>
                      <a:lnTo>
                        <a:pt x="300" y="40"/>
                      </a:lnTo>
                      <a:lnTo>
                        <a:pt x="320" y="4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7404840" y="5502240"/>
                  <a:ext cx="53640" cy="17640"/>
                </a:xfrm>
                <a:custGeom>
                  <a:avLst/>
                  <a:gdLst/>
                  <a:ahLst/>
                  <a:rect l="l" t="t" r="r" b="b"/>
                  <a:pathLst>
                    <a:path w="67" h="21">
                      <a:moveTo>
                        <a:pt x="67" y="14"/>
                      </a:moveTo>
                      <a:lnTo>
                        <a:pt x="58" y="20"/>
                      </a:lnTo>
                      <a:lnTo>
                        <a:pt x="49" y="21"/>
                      </a:lnTo>
                      <a:lnTo>
                        <a:pt x="41" y="21"/>
                      </a:lnTo>
                      <a:lnTo>
                        <a:pt x="32" y="18"/>
                      </a:lnTo>
                      <a:lnTo>
                        <a:pt x="24" y="15"/>
                      </a:lnTo>
                      <a:lnTo>
                        <a:pt x="15" y="12"/>
                      </a:lnTo>
                      <a:lnTo>
                        <a:pt x="8" y="11"/>
                      </a:lnTo>
                      <a:lnTo>
                        <a:pt x="0" y="10"/>
                      </a:lnTo>
                      <a:lnTo>
                        <a:pt x="2" y="4"/>
                      </a:lnTo>
                      <a:lnTo>
                        <a:pt x="10" y="1"/>
                      </a:lnTo>
                      <a:lnTo>
                        <a:pt x="18" y="0"/>
                      </a:lnTo>
                      <a:lnTo>
                        <a:pt x="28" y="0"/>
                      </a:lnTo>
                      <a:lnTo>
                        <a:pt x="38" y="1"/>
                      </a:lnTo>
                      <a:lnTo>
                        <a:pt x="49" y="4"/>
                      </a:lnTo>
                      <a:lnTo>
                        <a:pt x="59" y="8"/>
                      </a:lnTo>
                      <a:lnTo>
                        <a:pt x="67" y="14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7134120" y="5529240"/>
                  <a:ext cx="258480" cy="54000"/>
                </a:xfrm>
                <a:custGeom>
                  <a:avLst/>
                  <a:gdLst/>
                  <a:ahLst/>
                  <a:rect l="l" t="t" r="r" b="b"/>
                  <a:pathLst>
                    <a:path w="327" h="69">
                      <a:moveTo>
                        <a:pt x="327" y="53"/>
                      </a:moveTo>
                      <a:lnTo>
                        <a:pt x="327" y="69"/>
                      </a:lnTo>
                      <a:lnTo>
                        <a:pt x="309" y="68"/>
                      </a:lnTo>
                      <a:lnTo>
                        <a:pt x="289" y="65"/>
                      </a:lnTo>
                      <a:lnTo>
                        <a:pt x="269" y="63"/>
                      </a:lnTo>
                      <a:lnTo>
                        <a:pt x="249" y="60"/>
                      </a:lnTo>
                      <a:lnTo>
                        <a:pt x="229" y="58"/>
                      </a:lnTo>
                      <a:lnTo>
                        <a:pt x="207" y="53"/>
                      </a:lnTo>
                      <a:lnTo>
                        <a:pt x="187" y="50"/>
                      </a:lnTo>
                      <a:lnTo>
                        <a:pt x="166" y="48"/>
                      </a:lnTo>
                      <a:lnTo>
                        <a:pt x="144" y="43"/>
                      </a:lnTo>
                      <a:lnTo>
                        <a:pt x="124" y="40"/>
                      </a:lnTo>
                      <a:lnTo>
                        <a:pt x="103" y="36"/>
                      </a:lnTo>
                      <a:lnTo>
                        <a:pt x="82" y="33"/>
                      </a:lnTo>
                      <a:lnTo>
                        <a:pt x="62" y="29"/>
                      </a:lnTo>
                      <a:lnTo>
                        <a:pt x="40" y="26"/>
                      </a:lnTo>
                      <a:lnTo>
                        <a:pt x="20" y="22"/>
                      </a:lnTo>
                      <a:lnTo>
                        <a:pt x="0" y="19"/>
                      </a:lnTo>
                      <a:lnTo>
                        <a:pt x="10" y="0"/>
                      </a:lnTo>
                      <a:lnTo>
                        <a:pt x="30" y="3"/>
                      </a:lnTo>
                      <a:lnTo>
                        <a:pt x="50" y="5"/>
                      </a:lnTo>
                      <a:lnTo>
                        <a:pt x="70" y="8"/>
                      </a:lnTo>
                      <a:lnTo>
                        <a:pt x="90" y="10"/>
                      </a:lnTo>
                      <a:lnTo>
                        <a:pt x="112" y="12"/>
                      </a:lnTo>
                      <a:lnTo>
                        <a:pt x="132" y="15"/>
                      </a:lnTo>
                      <a:lnTo>
                        <a:pt x="153" y="18"/>
                      </a:lnTo>
                      <a:lnTo>
                        <a:pt x="173" y="20"/>
                      </a:lnTo>
                      <a:lnTo>
                        <a:pt x="194" y="23"/>
                      </a:lnTo>
                      <a:lnTo>
                        <a:pt x="214" y="26"/>
                      </a:lnTo>
                      <a:lnTo>
                        <a:pt x="234" y="30"/>
                      </a:lnTo>
                      <a:lnTo>
                        <a:pt x="254" y="35"/>
                      </a:lnTo>
                      <a:lnTo>
                        <a:pt x="273" y="39"/>
                      </a:lnTo>
                      <a:lnTo>
                        <a:pt x="291" y="43"/>
                      </a:lnTo>
                      <a:lnTo>
                        <a:pt x="310" y="48"/>
                      </a:lnTo>
                      <a:lnTo>
                        <a:pt x="327" y="53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>
                  <a:off x="7412760" y="5533920"/>
                  <a:ext cx="61560" cy="20880"/>
                </a:xfrm>
                <a:custGeom>
                  <a:avLst/>
                  <a:gdLst/>
                  <a:ahLst/>
                  <a:rect l="l" t="t" r="r" b="b"/>
                  <a:pathLst>
                    <a:path w="77" h="27">
                      <a:moveTo>
                        <a:pt x="77" y="26"/>
                      </a:moveTo>
                      <a:lnTo>
                        <a:pt x="65" y="27"/>
                      </a:lnTo>
                      <a:lnTo>
                        <a:pt x="55" y="27"/>
                      </a:lnTo>
                      <a:lnTo>
                        <a:pt x="44" y="24"/>
                      </a:lnTo>
                      <a:lnTo>
                        <a:pt x="35" y="20"/>
                      </a:lnTo>
                      <a:lnTo>
                        <a:pt x="25" y="17"/>
                      </a:lnTo>
                      <a:lnTo>
                        <a:pt x="17" y="13"/>
                      </a:lnTo>
                      <a:lnTo>
                        <a:pt x="8" y="9"/>
                      </a:lnTo>
                      <a:lnTo>
                        <a:pt x="0" y="7"/>
                      </a:lnTo>
                      <a:lnTo>
                        <a:pt x="8" y="3"/>
                      </a:lnTo>
                      <a:lnTo>
                        <a:pt x="17" y="0"/>
                      </a:lnTo>
                      <a:lnTo>
                        <a:pt x="25" y="0"/>
                      </a:lnTo>
                      <a:lnTo>
                        <a:pt x="37" y="2"/>
                      </a:lnTo>
                      <a:lnTo>
                        <a:pt x="47" y="4"/>
                      </a:lnTo>
                      <a:lnTo>
                        <a:pt x="57" y="7"/>
                      </a:lnTo>
                      <a:lnTo>
                        <a:pt x="67" y="10"/>
                      </a:lnTo>
                      <a:lnTo>
                        <a:pt x="77" y="13"/>
                      </a:lnTo>
                      <a:lnTo>
                        <a:pt x="77" y="26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7139520" y="5560920"/>
                  <a:ext cx="263160" cy="65160"/>
                </a:xfrm>
                <a:custGeom>
                  <a:avLst/>
                  <a:gdLst/>
                  <a:ahLst/>
                  <a:rect l="l" t="t" r="r" b="b"/>
                  <a:pathLst>
                    <a:path w="333" h="83">
                      <a:moveTo>
                        <a:pt x="327" y="55"/>
                      </a:moveTo>
                      <a:lnTo>
                        <a:pt x="332" y="60"/>
                      </a:lnTo>
                      <a:lnTo>
                        <a:pt x="333" y="66"/>
                      </a:lnTo>
                      <a:lnTo>
                        <a:pt x="332" y="72"/>
                      </a:lnTo>
                      <a:lnTo>
                        <a:pt x="333" y="77"/>
                      </a:lnTo>
                      <a:lnTo>
                        <a:pt x="304" y="83"/>
                      </a:lnTo>
                      <a:lnTo>
                        <a:pt x="284" y="80"/>
                      </a:lnTo>
                      <a:lnTo>
                        <a:pt x="266" y="76"/>
                      </a:lnTo>
                      <a:lnTo>
                        <a:pt x="246" y="73"/>
                      </a:lnTo>
                      <a:lnTo>
                        <a:pt x="227" y="69"/>
                      </a:lnTo>
                      <a:lnTo>
                        <a:pt x="209" y="66"/>
                      </a:lnTo>
                      <a:lnTo>
                        <a:pt x="190" y="62"/>
                      </a:lnTo>
                      <a:lnTo>
                        <a:pt x="172" y="57"/>
                      </a:lnTo>
                      <a:lnTo>
                        <a:pt x="155" y="53"/>
                      </a:lnTo>
                      <a:lnTo>
                        <a:pt x="136" y="49"/>
                      </a:lnTo>
                      <a:lnTo>
                        <a:pt x="117" y="45"/>
                      </a:lnTo>
                      <a:lnTo>
                        <a:pt x="99" y="40"/>
                      </a:lnTo>
                      <a:lnTo>
                        <a:pt x="80" y="37"/>
                      </a:lnTo>
                      <a:lnTo>
                        <a:pt x="62" y="33"/>
                      </a:lnTo>
                      <a:lnTo>
                        <a:pt x="42" y="30"/>
                      </a:lnTo>
                      <a:lnTo>
                        <a:pt x="23" y="26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6" y="5"/>
                      </a:lnTo>
                      <a:lnTo>
                        <a:pt x="10" y="0"/>
                      </a:lnTo>
                      <a:lnTo>
                        <a:pt x="32" y="3"/>
                      </a:lnTo>
                      <a:lnTo>
                        <a:pt x="52" y="6"/>
                      </a:lnTo>
                      <a:lnTo>
                        <a:pt x="72" y="8"/>
                      </a:lnTo>
                      <a:lnTo>
                        <a:pt x="92" y="10"/>
                      </a:lnTo>
                      <a:lnTo>
                        <a:pt x="113" y="15"/>
                      </a:lnTo>
                      <a:lnTo>
                        <a:pt x="133" y="18"/>
                      </a:lnTo>
                      <a:lnTo>
                        <a:pt x="152" y="20"/>
                      </a:lnTo>
                      <a:lnTo>
                        <a:pt x="172" y="23"/>
                      </a:lnTo>
                      <a:lnTo>
                        <a:pt x="192" y="28"/>
                      </a:lnTo>
                      <a:lnTo>
                        <a:pt x="212" y="30"/>
                      </a:lnTo>
                      <a:lnTo>
                        <a:pt x="230" y="35"/>
                      </a:lnTo>
                      <a:lnTo>
                        <a:pt x="250" y="39"/>
                      </a:lnTo>
                      <a:lnTo>
                        <a:pt x="269" y="42"/>
                      </a:lnTo>
                      <a:lnTo>
                        <a:pt x="289" y="46"/>
                      </a:lnTo>
                      <a:lnTo>
                        <a:pt x="307" y="50"/>
                      </a:lnTo>
                      <a:lnTo>
                        <a:pt x="327" y="5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7425360" y="5570640"/>
                  <a:ext cx="53640" cy="19080"/>
                </a:xfrm>
                <a:custGeom>
                  <a:avLst/>
                  <a:gdLst/>
                  <a:ahLst/>
                  <a:rect l="l" t="t" r="r" b="b"/>
                  <a:pathLst>
                    <a:path w="69" h="23">
                      <a:moveTo>
                        <a:pt x="69" y="20"/>
                      </a:moveTo>
                      <a:lnTo>
                        <a:pt x="67" y="23"/>
                      </a:lnTo>
                      <a:lnTo>
                        <a:pt x="63" y="23"/>
                      </a:lnTo>
                      <a:lnTo>
                        <a:pt x="55" y="23"/>
                      </a:lnTo>
                      <a:lnTo>
                        <a:pt x="45" y="23"/>
                      </a:lnTo>
                      <a:lnTo>
                        <a:pt x="33" y="22"/>
                      </a:lnTo>
                      <a:lnTo>
                        <a:pt x="23" y="20"/>
                      </a:lnTo>
                      <a:lnTo>
                        <a:pt x="13" y="17"/>
                      </a:lnTo>
                      <a:lnTo>
                        <a:pt x="5" y="16"/>
                      </a:lnTo>
                      <a:lnTo>
                        <a:pt x="0" y="7"/>
                      </a:lnTo>
                      <a:lnTo>
                        <a:pt x="9" y="3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5" y="2"/>
                      </a:lnTo>
                      <a:lnTo>
                        <a:pt x="43" y="5"/>
                      </a:lnTo>
                      <a:lnTo>
                        <a:pt x="53" y="7"/>
                      </a:lnTo>
                      <a:lnTo>
                        <a:pt x="60" y="13"/>
                      </a:lnTo>
                      <a:lnTo>
                        <a:pt x="69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6789600" y="5586480"/>
                  <a:ext cx="128160" cy="144360"/>
                </a:xfrm>
                <a:custGeom>
                  <a:avLst/>
                  <a:gdLst/>
                  <a:ahLst/>
                  <a:rect l="l" t="t" r="r" b="b"/>
                  <a:pathLst>
                    <a:path w="163" h="181">
                      <a:moveTo>
                        <a:pt x="134" y="42"/>
                      </a:moveTo>
                      <a:lnTo>
                        <a:pt x="144" y="99"/>
                      </a:lnTo>
                      <a:lnTo>
                        <a:pt x="146" y="90"/>
                      </a:lnTo>
                      <a:lnTo>
                        <a:pt x="152" y="84"/>
                      </a:lnTo>
                      <a:lnTo>
                        <a:pt x="157" y="79"/>
                      </a:lnTo>
                      <a:lnTo>
                        <a:pt x="163" y="76"/>
                      </a:lnTo>
                      <a:lnTo>
                        <a:pt x="162" y="103"/>
                      </a:lnTo>
                      <a:lnTo>
                        <a:pt x="157" y="129"/>
                      </a:lnTo>
                      <a:lnTo>
                        <a:pt x="147" y="151"/>
                      </a:lnTo>
                      <a:lnTo>
                        <a:pt x="130" y="166"/>
                      </a:lnTo>
                      <a:lnTo>
                        <a:pt x="137" y="150"/>
                      </a:lnTo>
                      <a:lnTo>
                        <a:pt x="143" y="137"/>
                      </a:lnTo>
                      <a:lnTo>
                        <a:pt x="147" y="121"/>
                      </a:lnTo>
                      <a:lnTo>
                        <a:pt x="147" y="104"/>
                      </a:lnTo>
                      <a:lnTo>
                        <a:pt x="137" y="107"/>
                      </a:lnTo>
                      <a:lnTo>
                        <a:pt x="134" y="119"/>
                      </a:lnTo>
                      <a:lnTo>
                        <a:pt x="132" y="131"/>
                      </a:lnTo>
                      <a:lnTo>
                        <a:pt x="124" y="143"/>
                      </a:lnTo>
                      <a:lnTo>
                        <a:pt x="119" y="149"/>
                      </a:lnTo>
                      <a:lnTo>
                        <a:pt x="113" y="154"/>
                      </a:lnTo>
                      <a:lnTo>
                        <a:pt x="106" y="160"/>
                      </a:lnTo>
                      <a:lnTo>
                        <a:pt x="100" y="166"/>
                      </a:lnTo>
                      <a:lnTo>
                        <a:pt x="93" y="171"/>
                      </a:lnTo>
                      <a:lnTo>
                        <a:pt x="84" y="176"/>
                      </a:lnTo>
                      <a:lnTo>
                        <a:pt x="76" y="180"/>
                      </a:lnTo>
                      <a:lnTo>
                        <a:pt x="67" y="181"/>
                      </a:lnTo>
                      <a:lnTo>
                        <a:pt x="56" y="177"/>
                      </a:lnTo>
                      <a:lnTo>
                        <a:pt x="45" y="173"/>
                      </a:lnTo>
                      <a:lnTo>
                        <a:pt x="33" y="167"/>
                      </a:lnTo>
                      <a:lnTo>
                        <a:pt x="23" y="160"/>
                      </a:lnTo>
                      <a:lnTo>
                        <a:pt x="15" y="153"/>
                      </a:lnTo>
                      <a:lnTo>
                        <a:pt x="7" y="144"/>
                      </a:lnTo>
                      <a:lnTo>
                        <a:pt x="3" y="134"/>
                      </a:lnTo>
                      <a:lnTo>
                        <a:pt x="2" y="124"/>
                      </a:lnTo>
                      <a:lnTo>
                        <a:pt x="0" y="92"/>
                      </a:lnTo>
                      <a:lnTo>
                        <a:pt x="5" y="62"/>
                      </a:lnTo>
                      <a:lnTo>
                        <a:pt x="13" y="36"/>
                      </a:lnTo>
                      <a:lnTo>
                        <a:pt x="27" y="13"/>
                      </a:lnTo>
                      <a:lnTo>
                        <a:pt x="43" y="6"/>
                      </a:lnTo>
                      <a:lnTo>
                        <a:pt x="59" y="2"/>
                      </a:lnTo>
                      <a:lnTo>
                        <a:pt x="74" y="0"/>
                      </a:lnTo>
                      <a:lnTo>
                        <a:pt x="90" y="3"/>
                      </a:lnTo>
                      <a:lnTo>
                        <a:pt x="104" y="9"/>
                      </a:lnTo>
                      <a:lnTo>
                        <a:pt x="116" y="17"/>
                      </a:lnTo>
                      <a:lnTo>
                        <a:pt x="127" y="29"/>
                      </a:lnTo>
                      <a:lnTo>
                        <a:pt x="134" y="42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>
                  <a:off x="6554520" y="5586480"/>
                  <a:ext cx="544320" cy="433440"/>
                </a:xfrm>
                <a:custGeom>
                  <a:avLst/>
                  <a:gdLst/>
                  <a:ahLst/>
                  <a:rect l="l" t="t" r="r" b="b"/>
                  <a:pathLst>
                    <a:path w="687" h="545">
                      <a:moveTo>
                        <a:pt x="573" y="106"/>
                      </a:moveTo>
                      <a:lnTo>
                        <a:pt x="603" y="130"/>
                      </a:lnTo>
                      <a:lnTo>
                        <a:pt x="627" y="159"/>
                      </a:lnTo>
                      <a:lnTo>
                        <a:pt x="645" y="190"/>
                      </a:lnTo>
                      <a:lnTo>
                        <a:pt x="661" y="223"/>
                      </a:lnTo>
                      <a:lnTo>
                        <a:pt x="673" y="258"/>
                      </a:lnTo>
                      <a:lnTo>
                        <a:pt x="680" y="294"/>
                      </a:lnTo>
                      <a:lnTo>
                        <a:pt x="684" y="331"/>
                      </a:lnTo>
                      <a:lnTo>
                        <a:pt x="687" y="368"/>
                      </a:lnTo>
                      <a:lnTo>
                        <a:pt x="671" y="364"/>
                      </a:lnTo>
                      <a:lnTo>
                        <a:pt x="654" y="363"/>
                      </a:lnTo>
                      <a:lnTo>
                        <a:pt x="635" y="363"/>
                      </a:lnTo>
                      <a:lnTo>
                        <a:pt x="617" y="361"/>
                      </a:lnTo>
                      <a:lnTo>
                        <a:pt x="600" y="360"/>
                      </a:lnTo>
                      <a:lnTo>
                        <a:pt x="584" y="354"/>
                      </a:lnTo>
                      <a:lnTo>
                        <a:pt x="570" y="344"/>
                      </a:lnTo>
                      <a:lnTo>
                        <a:pt x="560" y="328"/>
                      </a:lnTo>
                      <a:lnTo>
                        <a:pt x="548" y="321"/>
                      </a:lnTo>
                      <a:lnTo>
                        <a:pt x="537" y="316"/>
                      </a:lnTo>
                      <a:lnTo>
                        <a:pt x="524" y="313"/>
                      </a:lnTo>
                      <a:lnTo>
                        <a:pt x="511" y="313"/>
                      </a:lnTo>
                      <a:lnTo>
                        <a:pt x="498" y="313"/>
                      </a:lnTo>
                      <a:lnTo>
                        <a:pt x="486" y="314"/>
                      </a:lnTo>
                      <a:lnTo>
                        <a:pt x="473" y="317"/>
                      </a:lnTo>
                      <a:lnTo>
                        <a:pt x="460" y="320"/>
                      </a:lnTo>
                      <a:lnTo>
                        <a:pt x="436" y="333"/>
                      </a:lnTo>
                      <a:lnTo>
                        <a:pt x="416" y="347"/>
                      </a:lnTo>
                      <a:lnTo>
                        <a:pt x="397" y="364"/>
                      </a:lnTo>
                      <a:lnTo>
                        <a:pt x="381" y="383"/>
                      </a:lnTo>
                      <a:lnTo>
                        <a:pt x="369" y="401"/>
                      </a:lnTo>
                      <a:lnTo>
                        <a:pt x="356" y="421"/>
                      </a:lnTo>
                      <a:lnTo>
                        <a:pt x="344" y="441"/>
                      </a:lnTo>
                      <a:lnTo>
                        <a:pt x="333" y="461"/>
                      </a:lnTo>
                      <a:lnTo>
                        <a:pt x="321" y="480"/>
                      </a:lnTo>
                      <a:lnTo>
                        <a:pt x="307" y="497"/>
                      </a:lnTo>
                      <a:lnTo>
                        <a:pt x="293" y="512"/>
                      </a:lnTo>
                      <a:lnTo>
                        <a:pt x="276" y="525"/>
                      </a:lnTo>
                      <a:lnTo>
                        <a:pt x="256" y="537"/>
                      </a:lnTo>
                      <a:lnTo>
                        <a:pt x="233" y="542"/>
                      </a:lnTo>
                      <a:lnTo>
                        <a:pt x="204" y="545"/>
                      </a:lnTo>
                      <a:lnTo>
                        <a:pt x="173" y="544"/>
                      </a:lnTo>
                      <a:lnTo>
                        <a:pt x="152" y="540"/>
                      </a:lnTo>
                      <a:lnTo>
                        <a:pt x="129" y="538"/>
                      </a:lnTo>
                      <a:lnTo>
                        <a:pt x="105" y="537"/>
                      </a:lnTo>
                      <a:lnTo>
                        <a:pt x="82" y="535"/>
                      </a:lnTo>
                      <a:lnTo>
                        <a:pt x="59" y="532"/>
                      </a:lnTo>
                      <a:lnTo>
                        <a:pt x="37" y="528"/>
                      </a:lnTo>
                      <a:lnTo>
                        <a:pt x="17" y="520"/>
                      </a:lnTo>
                      <a:lnTo>
                        <a:pt x="0" y="508"/>
                      </a:lnTo>
                      <a:lnTo>
                        <a:pt x="26" y="507"/>
                      </a:lnTo>
                      <a:lnTo>
                        <a:pt x="52" y="507"/>
                      </a:lnTo>
                      <a:lnTo>
                        <a:pt x="77" y="510"/>
                      </a:lnTo>
                      <a:lnTo>
                        <a:pt x="105" y="512"/>
                      </a:lnTo>
                      <a:lnTo>
                        <a:pt x="130" y="514"/>
                      </a:lnTo>
                      <a:lnTo>
                        <a:pt x="159" y="515"/>
                      </a:lnTo>
                      <a:lnTo>
                        <a:pt x="187" y="514"/>
                      </a:lnTo>
                      <a:lnTo>
                        <a:pt x="216" y="508"/>
                      </a:lnTo>
                      <a:lnTo>
                        <a:pt x="227" y="498"/>
                      </a:lnTo>
                      <a:lnTo>
                        <a:pt x="229" y="484"/>
                      </a:lnTo>
                      <a:lnTo>
                        <a:pt x="229" y="468"/>
                      </a:lnTo>
                      <a:lnTo>
                        <a:pt x="232" y="454"/>
                      </a:lnTo>
                      <a:lnTo>
                        <a:pt x="266" y="356"/>
                      </a:lnTo>
                      <a:lnTo>
                        <a:pt x="250" y="350"/>
                      </a:lnTo>
                      <a:lnTo>
                        <a:pt x="236" y="346"/>
                      </a:lnTo>
                      <a:lnTo>
                        <a:pt x="220" y="343"/>
                      </a:lnTo>
                      <a:lnTo>
                        <a:pt x="206" y="340"/>
                      </a:lnTo>
                      <a:lnTo>
                        <a:pt x="192" y="338"/>
                      </a:lnTo>
                      <a:lnTo>
                        <a:pt x="177" y="336"/>
                      </a:lnTo>
                      <a:lnTo>
                        <a:pt x="163" y="334"/>
                      </a:lnTo>
                      <a:lnTo>
                        <a:pt x="149" y="334"/>
                      </a:lnTo>
                      <a:lnTo>
                        <a:pt x="134" y="333"/>
                      </a:lnTo>
                      <a:lnTo>
                        <a:pt x="120" y="333"/>
                      </a:lnTo>
                      <a:lnTo>
                        <a:pt x="106" y="331"/>
                      </a:lnTo>
                      <a:lnTo>
                        <a:pt x="92" y="330"/>
                      </a:lnTo>
                      <a:lnTo>
                        <a:pt x="76" y="328"/>
                      </a:lnTo>
                      <a:lnTo>
                        <a:pt x="60" y="327"/>
                      </a:lnTo>
                      <a:lnTo>
                        <a:pt x="45" y="326"/>
                      </a:lnTo>
                      <a:lnTo>
                        <a:pt x="29" y="323"/>
                      </a:lnTo>
                      <a:lnTo>
                        <a:pt x="40" y="297"/>
                      </a:lnTo>
                      <a:lnTo>
                        <a:pt x="53" y="271"/>
                      </a:lnTo>
                      <a:lnTo>
                        <a:pt x="66" y="246"/>
                      </a:lnTo>
                      <a:lnTo>
                        <a:pt x="80" y="221"/>
                      </a:lnTo>
                      <a:lnTo>
                        <a:pt x="95" y="199"/>
                      </a:lnTo>
                      <a:lnTo>
                        <a:pt x="112" y="176"/>
                      </a:lnTo>
                      <a:lnTo>
                        <a:pt x="129" y="154"/>
                      </a:lnTo>
                      <a:lnTo>
                        <a:pt x="147" y="134"/>
                      </a:lnTo>
                      <a:lnTo>
                        <a:pt x="154" y="131"/>
                      </a:lnTo>
                      <a:lnTo>
                        <a:pt x="163" y="130"/>
                      </a:lnTo>
                      <a:lnTo>
                        <a:pt x="172" y="131"/>
                      </a:lnTo>
                      <a:lnTo>
                        <a:pt x="176" y="137"/>
                      </a:lnTo>
                      <a:lnTo>
                        <a:pt x="182" y="151"/>
                      </a:lnTo>
                      <a:lnTo>
                        <a:pt x="189" y="164"/>
                      </a:lnTo>
                      <a:lnTo>
                        <a:pt x="199" y="177"/>
                      </a:lnTo>
                      <a:lnTo>
                        <a:pt x="209" y="190"/>
                      </a:lnTo>
                      <a:lnTo>
                        <a:pt x="220" y="201"/>
                      </a:lnTo>
                      <a:lnTo>
                        <a:pt x="234" y="211"/>
                      </a:lnTo>
                      <a:lnTo>
                        <a:pt x="247" y="221"/>
                      </a:lnTo>
                      <a:lnTo>
                        <a:pt x="263" y="230"/>
                      </a:lnTo>
                      <a:lnTo>
                        <a:pt x="280" y="231"/>
                      </a:lnTo>
                      <a:lnTo>
                        <a:pt x="297" y="231"/>
                      </a:lnTo>
                      <a:lnTo>
                        <a:pt x="314" y="230"/>
                      </a:lnTo>
                      <a:lnTo>
                        <a:pt x="331" y="226"/>
                      </a:lnTo>
                      <a:lnTo>
                        <a:pt x="349" y="221"/>
                      </a:lnTo>
                      <a:lnTo>
                        <a:pt x="363" y="213"/>
                      </a:lnTo>
                      <a:lnTo>
                        <a:pt x="374" y="204"/>
                      </a:lnTo>
                      <a:lnTo>
                        <a:pt x="383" y="191"/>
                      </a:lnTo>
                      <a:lnTo>
                        <a:pt x="397" y="196"/>
                      </a:lnTo>
                      <a:lnTo>
                        <a:pt x="413" y="196"/>
                      </a:lnTo>
                      <a:lnTo>
                        <a:pt x="427" y="191"/>
                      </a:lnTo>
                      <a:lnTo>
                        <a:pt x="441" y="184"/>
                      </a:lnTo>
                      <a:lnTo>
                        <a:pt x="457" y="176"/>
                      </a:lnTo>
                      <a:lnTo>
                        <a:pt x="471" y="166"/>
                      </a:lnTo>
                      <a:lnTo>
                        <a:pt x="484" y="157"/>
                      </a:lnTo>
                      <a:lnTo>
                        <a:pt x="498" y="150"/>
                      </a:lnTo>
                      <a:lnTo>
                        <a:pt x="507" y="151"/>
                      </a:lnTo>
                      <a:lnTo>
                        <a:pt x="516" y="149"/>
                      </a:lnTo>
                      <a:lnTo>
                        <a:pt x="521" y="146"/>
                      </a:lnTo>
                      <a:lnTo>
                        <a:pt x="527" y="141"/>
                      </a:lnTo>
                      <a:lnTo>
                        <a:pt x="531" y="136"/>
                      </a:lnTo>
                      <a:lnTo>
                        <a:pt x="536" y="130"/>
                      </a:lnTo>
                      <a:lnTo>
                        <a:pt x="540" y="126"/>
                      </a:lnTo>
                      <a:lnTo>
                        <a:pt x="543" y="121"/>
                      </a:lnTo>
                      <a:lnTo>
                        <a:pt x="523" y="117"/>
                      </a:lnTo>
                      <a:lnTo>
                        <a:pt x="503" y="119"/>
                      </a:lnTo>
                      <a:lnTo>
                        <a:pt x="484" y="124"/>
                      </a:lnTo>
                      <a:lnTo>
                        <a:pt x="467" y="131"/>
                      </a:lnTo>
                      <a:lnTo>
                        <a:pt x="448" y="140"/>
                      </a:lnTo>
                      <a:lnTo>
                        <a:pt x="431" y="150"/>
                      </a:lnTo>
                      <a:lnTo>
                        <a:pt x="413" y="159"/>
                      </a:lnTo>
                      <a:lnTo>
                        <a:pt x="393" y="166"/>
                      </a:lnTo>
                      <a:lnTo>
                        <a:pt x="403" y="124"/>
                      </a:lnTo>
                      <a:lnTo>
                        <a:pt x="411" y="80"/>
                      </a:lnTo>
                      <a:lnTo>
                        <a:pt x="410" y="37"/>
                      </a:lnTo>
                      <a:lnTo>
                        <a:pt x="393" y="0"/>
                      </a:lnTo>
                      <a:lnTo>
                        <a:pt x="418" y="9"/>
                      </a:lnTo>
                      <a:lnTo>
                        <a:pt x="441" y="22"/>
                      </a:lnTo>
                      <a:lnTo>
                        <a:pt x="463" y="37"/>
                      </a:lnTo>
                      <a:lnTo>
                        <a:pt x="483" y="53"/>
                      </a:lnTo>
                      <a:lnTo>
                        <a:pt x="504" y="70"/>
                      </a:lnTo>
                      <a:lnTo>
                        <a:pt x="526" y="86"/>
                      </a:lnTo>
                      <a:lnTo>
                        <a:pt x="548" y="97"/>
                      </a:lnTo>
                      <a:lnTo>
                        <a:pt x="573" y="10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6795720" y="5595840"/>
                  <a:ext cx="10800" cy="1584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6" y="20"/>
                      </a:move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13" y="7"/>
                      </a:lnTo>
                      <a:lnTo>
                        <a:pt x="16" y="12"/>
                      </a:lnTo>
                      <a:lnTo>
                        <a:pt x="16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7151400" y="5597640"/>
                  <a:ext cx="259920" cy="61920"/>
                </a:xfrm>
                <a:custGeom>
                  <a:avLst/>
                  <a:gdLst/>
                  <a:ahLst/>
                  <a:rect l="l" t="t" r="r" b="b"/>
                  <a:pathLst>
                    <a:path w="327" h="79">
                      <a:moveTo>
                        <a:pt x="327" y="66"/>
                      </a:moveTo>
                      <a:lnTo>
                        <a:pt x="323" y="73"/>
                      </a:lnTo>
                      <a:lnTo>
                        <a:pt x="317" y="77"/>
                      </a:lnTo>
                      <a:lnTo>
                        <a:pt x="310" y="79"/>
                      </a:lnTo>
                      <a:lnTo>
                        <a:pt x="300" y="79"/>
                      </a:lnTo>
                      <a:lnTo>
                        <a:pt x="290" y="77"/>
                      </a:lnTo>
                      <a:lnTo>
                        <a:pt x="280" y="74"/>
                      </a:lnTo>
                      <a:lnTo>
                        <a:pt x="269" y="73"/>
                      </a:lnTo>
                      <a:lnTo>
                        <a:pt x="260" y="70"/>
                      </a:lnTo>
                      <a:lnTo>
                        <a:pt x="3" y="21"/>
                      </a:lnTo>
                      <a:lnTo>
                        <a:pt x="0" y="9"/>
                      </a:lnTo>
                      <a:lnTo>
                        <a:pt x="8" y="4"/>
                      </a:lnTo>
                      <a:lnTo>
                        <a:pt x="19" y="3"/>
                      </a:lnTo>
                      <a:lnTo>
                        <a:pt x="29" y="0"/>
                      </a:lnTo>
                      <a:lnTo>
                        <a:pt x="49" y="4"/>
                      </a:lnTo>
                      <a:lnTo>
                        <a:pt x="68" y="9"/>
                      </a:lnTo>
                      <a:lnTo>
                        <a:pt x="88" y="11"/>
                      </a:lnTo>
                      <a:lnTo>
                        <a:pt x="106" y="14"/>
                      </a:lnTo>
                      <a:lnTo>
                        <a:pt x="126" y="19"/>
                      </a:lnTo>
                      <a:lnTo>
                        <a:pt x="145" y="21"/>
                      </a:lnTo>
                      <a:lnTo>
                        <a:pt x="165" y="24"/>
                      </a:lnTo>
                      <a:lnTo>
                        <a:pt x="183" y="27"/>
                      </a:lnTo>
                      <a:lnTo>
                        <a:pt x="202" y="30"/>
                      </a:lnTo>
                      <a:lnTo>
                        <a:pt x="220" y="34"/>
                      </a:lnTo>
                      <a:lnTo>
                        <a:pt x="239" y="37"/>
                      </a:lnTo>
                      <a:lnTo>
                        <a:pt x="257" y="41"/>
                      </a:lnTo>
                      <a:lnTo>
                        <a:pt x="274" y="47"/>
                      </a:lnTo>
                      <a:lnTo>
                        <a:pt x="293" y="53"/>
                      </a:lnTo>
                      <a:lnTo>
                        <a:pt x="310" y="59"/>
                      </a:lnTo>
                      <a:lnTo>
                        <a:pt x="327" y="66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7437960" y="5613480"/>
                  <a:ext cx="44280" cy="12600"/>
                </a:xfrm>
                <a:custGeom>
                  <a:avLst/>
                  <a:gdLst/>
                  <a:ahLst/>
                  <a:rect l="l" t="t" r="r" b="b"/>
                  <a:pathLst>
                    <a:path w="55" h="16">
                      <a:moveTo>
                        <a:pt x="55" y="13"/>
                      </a:moveTo>
                      <a:lnTo>
                        <a:pt x="50" y="16"/>
                      </a:lnTo>
                      <a:lnTo>
                        <a:pt x="44" y="16"/>
                      </a:lnTo>
                      <a:lnTo>
                        <a:pt x="37" y="16"/>
                      </a:lnTo>
                      <a:lnTo>
                        <a:pt x="28" y="16"/>
                      </a:lnTo>
                      <a:lnTo>
                        <a:pt x="21" y="13"/>
                      </a:lnTo>
                      <a:lnTo>
                        <a:pt x="12" y="12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5" y="2"/>
                      </a:lnTo>
                      <a:lnTo>
                        <a:pt x="12" y="0"/>
                      </a:lnTo>
                      <a:lnTo>
                        <a:pt x="20" y="0"/>
                      </a:lnTo>
                      <a:lnTo>
                        <a:pt x="28" y="2"/>
                      </a:lnTo>
                      <a:lnTo>
                        <a:pt x="35" y="3"/>
                      </a:lnTo>
                      <a:lnTo>
                        <a:pt x="42" y="6"/>
                      </a:lnTo>
                      <a:lnTo>
                        <a:pt x="50" y="9"/>
                      </a:lnTo>
                      <a:lnTo>
                        <a:pt x="55" y="13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>
                  <a:off x="7164360" y="5634000"/>
                  <a:ext cx="253440" cy="66600"/>
                </a:xfrm>
                <a:custGeom>
                  <a:avLst/>
                  <a:gdLst/>
                  <a:ahLst/>
                  <a:rect l="l" t="t" r="r" b="b"/>
                  <a:pathLst>
                    <a:path w="320" h="84">
                      <a:moveTo>
                        <a:pt x="320" y="54"/>
                      </a:moveTo>
                      <a:lnTo>
                        <a:pt x="320" y="64"/>
                      </a:lnTo>
                      <a:lnTo>
                        <a:pt x="318" y="71"/>
                      </a:lnTo>
                      <a:lnTo>
                        <a:pt x="314" y="77"/>
                      </a:lnTo>
                      <a:lnTo>
                        <a:pt x="307" y="84"/>
                      </a:lnTo>
                      <a:lnTo>
                        <a:pt x="285" y="80"/>
                      </a:lnTo>
                      <a:lnTo>
                        <a:pt x="265" y="76"/>
                      </a:lnTo>
                      <a:lnTo>
                        <a:pt x="247" y="71"/>
                      </a:lnTo>
                      <a:lnTo>
                        <a:pt x="227" y="69"/>
                      </a:lnTo>
                      <a:lnTo>
                        <a:pt x="208" y="64"/>
                      </a:lnTo>
                      <a:lnTo>
                        <a:pt x="190" y="61"/>
                      </a:lnTo>
                      <a:lnTo>
                        <a:pt x="173" y="57"/>
                      </a:lnTo>
                      <a:lnTo>
                        <a:pt x="154" y="54"/>
                      </a:lnTo>
                      <a:lnTo>
                        <a:pt x="135" y="52"/>
                      </a:lnTo>
                      <a:lnTo>
                        <a:pt x="117" y="47"/>
                      </a:lnTo>
                      <a:lnTo>
                        <a:pt x="98" y="44"/>
                      </a:lnTo>
                      <a:lnTo>
                        <a:pt x="80" y="42"/>
                      </a:lnTo>
                      <a:lnTo>
                        <a:pt x="61" y="39"/>
                      </a:lnTo>
                      <a:lnTo>
                        <a:pt x="41" y="34"/>
                      </a:lnTo>
                      <a:lnTo>
                        <a:pt x="21" y="32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11" y="0"/>
                      </a:lnTo>
                      <a:lnTo>
                        <a:pt x="320" y="54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>
                  <a:off x="7441920" y="5646600"/>
                  <a:ext cx="48960" cy="15840"/>
                </a:xfrm>
                <a:custGeom>
                  <a:avLst/>
                  <a:gdLst/>
                  <a:ahLst/>
                  <a:rect l="l" t="t" r="r" b="b"/>
                  <a:pathLst>
                    <a:path w="63" h="20">
                      <a:moveTo>
                        <a:pt x="63" y="20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9" y="0"/>
                      </a:lnTo>
                      <a:lnTo>
                        <a:pt x="29" y="1"/>
                      </a:lnTo>
                      <a:lnTo>
                        <a:pt x="37" y="3"/>
                      </a:lnTo>
                      <a:lnTo>
                        <a:pt x="46" y="4"/>
                      </a:lnTo>
                      <a:lnTo>
                        <a:pt x="53" y="8"/>
                      </a:lnTo>
                      <a:lnTo>
                        <a:pt x="59" y="13"/>
                      </a:lnTo>
                      <a:lnTo>
                        <a:pt x="63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7723800" y="5675400"/>
                  <a:ext cx="171000" cy="154080"/>
                </a:xfrm>
                <a:custGeom>
                  <a:avLst/>
                  <a:gdLst/>
                  <a:ahLst/>
                  <a:rect l="l" t="t" r="r" b="b"/>
                  <a:pathLst>
                    <a:path w="217" h="195">
                      <a:moveTo>
                        <a:pt x="217" y="72"/>
                      </a:moveTo>
                      <a:lnTo>
                        <a:pt x="217" y="111"/>
                      </a:lnTo>
                      <a:lnTo>
                        <a:pt x="211" y="111"/>
                      </a:lnTo>
                      <a:lnTo>
                        <a:pt x="191" y="195"/>
                      </a:lnTo>
                      <a:lnTo>
                        <a:pt x="167" y="188"/>
                      </a:lnTo>
                      <a:lnTo>
                        <a:pt x="142" y="179"/>
                      </a:lnTo>
                      <a:lnTo>
                        <a:pt x="118" y="171"/>
                      </a:lnTo>
                      <a:lnTo>
                        <a:pt x="95" y="161"/>
                      </a:lnTo>
                      <a:lnTo>
                        <a:pt x="71" y="152"/>
                      </a:lnTo>
                      <a:lnTo>
                        <a:pt x="48" y="141"/>
                      </a:lnTo>
                      <a:lnTo>
                        <a:pt x="25" y="129"/>
                      </a:lnTo>
                      <a:lnTo>
                        <a:pt x="3" y="118"/>
                      </a:lnTo>
                      <a:lnTo>
                        <a:pt x="0" y="88"/>
                      </a:lnTo>
                      <a:lnTo>
                        <a:pt x="3" y="57"/>
                      </a:lnTo>
                      <a:lnTo>
                        <a:pt x="13" y="25"/>
                      </a:lnTo>
                      <a:lnTo>
                        <a:pt x="28" y="0"/>
                      </a:lnTo>
                      <a:lnTo>
                        <a:pt x="52" y="8"/>
                      </a:lnTo>
                      <a:lnTo>
                        <a:pt x="75" y="18"/>
                      </a:lnTo>
                      <a:lnTo>
                        <a:pt x="97" y="28"/>
                      </a:lnTo>
                      <a:lnTo>
                        <a:pt x="118" y="39"/>
                      </a:lnTo>
                      <a:lnTo>
                        <a:pt x="141" y="49"/>
                      </a:lnTo>
                      <a:lnTo>
                        <a:pt x="164" y="59"/>
                      </a:lnTo>
                      <a:lnTo>
                        <a:pt x="189" y="67"/>
                      </a:lnTo>
                      <a:lnTo>
                        <a:pt x="217" y="72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6896880" y="5675400"/>
                  <a:ext cx="47160" cy="68040"/>
                </a:xfrm>
                <a:custGeom>
                  <a:avLst/>
                  <a:gdLst/>
                  <a:ahLst/>
                  <a:rect l="l" t="t" r="r" b="b"/>
                  <a:pathLst>
                    <a:path w="61" h="87">
                      <a:moveTo>
                        <a:pt x="61" y="87"/>
                      </a:moveTo>
                      <a:lnTo>
                        <a:pt x="50" y="81"/>
                      </a:lnTo>
                      <a:lnTo>
                        <a:pt x="39" y="74"/>
                      </a:lnTo>
                      <a:lnTo>
                        <a:pt x="29" y="65"/>
                      </a:lnTo>
                      <a:lnTo>
                        <a:pt x="20" y="55"/>
                      </a:lnTo>
                      <a:lnTo>
                        <a:pt x="11" y="45"/>
                      </a:lnTo>
                      <a:lnTo>
                        <a:pt x="6" y="32"/>
                      </a:lnTo>
                      <a:lnTo>
                        <a:pt x="1" y="21"/>
                      </a:lnTo>
                      <a:lnTo>
                        <a:pt x="0" y="7"/>
                      </a:lnTo>
                      <a:lnTo>
                        <a:pt x="9" y="0"/>
                      </a:lnTo>
                      <a:lnTo>
                        <a:pt x="10" y="14"/>
                      </a:lnTo>
                      <a:lnTo>
                        <a:pt x="14" y="27"/>
                      </a:lnTo>
                      <a:lnTo>
                        <a:pt x="20" y="39"/>
                      </a:lnTo>
                      <a:lnTo>
                        <a:pt x="27" y="51"/>
                      </a:lnTo>
                      <a:lnTo>
                        <a:pt x="36" y="62"/>
                      </a:lnTo>
                      <a:lnTo>
                        <a:pt x="44" y="71"/>
                      </a:lnTo>
                      <a:lnTo>
                        <a:pt x="53" y="79"/>
                      </a:lnTo>
                      <a:lnTo>
                        <a:pt x="61" y="8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7642800" y="5676840"/>
                  <a:ext cx="82440" cy="243000"/>
                </a:xfrm>
                <a:custGeom>
                  <a:avLst/>
                  <a:gdLst/>
                  <a:ahLst/>
                  <a:rect l="l" t="t" r="r" b="b"/>
                  <a:pathLst>
                    <a:path w="104" h="306">
                      <a:moveTo>
                        <a:pt x="95" y="72"/>
                      </a:moveTo>
                      <a:lnTo>
                        <a:pt x="90" y="83"/>
                      </a:lnTo>
                      <a:lnTo>
                        <a:pt x="84" y="99"/>
                      </a:lnTo>
                      <a:lnTo>
                        <a:pt x="78" y="116"/>
                      </a:lnTo>
                      <a:lnTo>
                        <a:pt x="77" y="136"/>
                      </a:lnTo>
                      <a:lnTo>
                        <a:pt x="68" y="173"/>
                      </a:lnTo>
                      <a:lnTo>
                        <a:pt x="63" y="212"/>
                      </a:lnTo>
                      <a:lnTo>
                        <a:pt x="60" y="251"/>
                      </a:lnTo>
                      <a:lnTo>
                        <a:pt x="67" y="291"/>
                      </a:lnTo>
                      <a:lnTo>
                        <a:pt x="63" y="299"/>
                      </a:lnTo>
                      <a:lnTo>
                        <a:pt x="55" y="303"/>
                      </a:lnTo>
                      <a:lnTo>
                        <a:pt x="48" y="304"/>
                      </a:lnTo>
                      <a:lnTo>
                        <a:pt x="41" y="306"/>
                      </a:lnTo>
                      <a:lnTo>
                        <a:pt x="33" y="304"/>
                      </a:lnTo>
                      <a:lnTo>
                        <a:pt x="25" y="301"/>
                      </a:lnTo>
                      <a:lnTo>
                        <a:pt x="18" y="297"/>
                      </a:lnTo>
                      <a:lnTo>
                        <a:pt x="13" y="291"/>
                      </a:lnTo>
                      <a:lnTo>
                        <a:pt x="4" y="249"/>
                      </a:lnTo>
                      <a:lnTo>
                        <a:pt x="0" y="209"/>
                      </a:lnTo>
                      <a:lnTo>
                        <a:pt x="1" y="169"/>
                      </a:lnTo>
                      <a:lnTo>
                        <a:pt x="8" y="130"/>
                      </a:lnTo>
                      <a:lnTo>
                        <a:pt x="20" y="95"/>
                      </a:lnTo>
                      <a:lnTo>
                        <a:pt x="35" y="62"/>
                      </a:lnTo>
                      <a:lnTo>
                        <a:pt x="55" y="29"/>
                      </a:lnTo>
                      <a:lnTo>
                        <a:pt x="80" y="0"/>
                      </a:lnTo>
                      <a:lnTo>
                        <a:pt x="94" y="2"/>
                      </a:lnTo>
                      <a:lnTo>
                        <a:pt x="101" y="9"/>
                      </a:lnTo>
                      <a:lnTo>
                        <a:pt x="104" y="17"/>
                      </a:lnTo>
                      <a:lnTo>
                        <a:pt x="102" y="27"/>
                      </a:lnTo>
                      <a:lnTo>
                        <a:pt x="100" y="39"/>
                      </a:lnTo>
                      <a:lnTo>
                        <a:pt x="97" y="50"/>
                      </a:lnTo>
                      <a:lnTo>
                        <a:pt x="94" y="62"/>
                      </a:lnTo>
                      <a:lnTo>
                        <a:pt x="95" y="72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7449120" y="5680080"/>
                  <a:ext cx="53640" cy="17280"/>
                </a:xfrm>
                <a:custGeom>
                  <a:avLst/>
                  <a:gdLst/>
                  <a:ahLst/>
                  <a:rect l="l" t="t" r="r" b="b"/>
                  <a:pathLst>
                    <a:path w="67" h="21">
                      <a:moveTo>
                        <a:pt x="67" y="18"/>
                      </a:moveTo>
                      <a:lnTo>
                        <a:pt x="58" y="20"/>
                      </a:lnTo>
                      <a:lnTo>
                        <a:pt x="50" y="21"/>
                      </a:lnTo>
                      <a:lnTo>
                        <a:pt x="41" y="21"/>
                      </a:lnTo>
                      <a:lnTo>
                        <a:pt x="31" y="20"/>
                      </a:lnTo>
                      <a:lnTo>
                        <a:pt x="23" y="18"/>
                      </a:lnTo>
                      <a:lnTo>
                        <a:pt x="14" y="15"/>
                      </a:lnTo>
                      <a:lnTo>
                        <a:pt x="7" y="12"/>
                      </a:lnTo>
                      <a:lnTo>
                        <a:pt x="0" y="8"/>
                      </a:lnTo>
                      <a:lnTo>
                        <a:pt x="7" y="2"/>
                      </a:lnTo>
                      <a:lnTo>
                        <a:pt x="16" y="0"/>
                      </a:lnTo>
                      <a:lnTo>
                        <a:pt x="26" y="0"/>
                      </a:lnTo>
                      <a:lnTo>
                        <a:pt x="36" y="1"/>
                      </a:lnTo>
                      <a:lnTo>
                        <a:pt x="44" y="4"/>
                      </a:lnTo>
                      <a:lnTo>
                        <a:pt x="54" y="8"/>
                      </a:lnTo>
                      <a:lnTo>
                        <a:pt x="61" y="14"/>
                      </a:lnTo>
                      <a:lnTo>
                        <a:pt x="67" y="18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7230960" y="5707080"/>
                  <a:ext cx="205920" cy="60480"/>
                </a:xfrm>
                <a:custGeom>
                  <a:avLst/>
                  <a:gdLst/>
                  <a:ahLst/>
                  <a:rect l="l" t="t" r="r" b="b"/>
                  <a:pathLst>
                    <a:path w="261" h="74">
                      <a:moveTo>
                        <a:pt x="261" y="58"/>
                      </a:moveTo>
                      <a:lnTo>
                        <a:pt x="244" y="74"/>
                      </a:lnTo>
                      <a:lnTo>
                        <a:pt x="7" y="23"/>
                      </a:lnTo>
                      <a:lnTo>
                        <a:pt x="1" y="20"/>
                      </a:lnTo>
                      <a:lnTo>
                        <a:pt x="0" y="13"/>
                      </a:lnTo>
                      <a:lnTo>
                        <a:pt x="1" y="4"/>
                      </a:lnTo>
                      <a:lnTo>
                        <a:pt x="7" y="0"/>
                      </a:lnTo>
                      <a:lnTo>
                        <a:pt x="22" y="3"/>
                      </a:lnTo>
                      <a:lnTo>
                        <a:pt x="40" y="6"/>
                      </a:lnTo>
                      <a:lnTo>
                        <a:pt x="57" y="7"/>
                      </a:lnTo>
                      <a:lnTo>
                        <a:pt x="72" y="11"/>
                      </a:lnTo>
                      <a:lnTo>
                        <a:pt x="90" y="14"/>
                      </a:lnTo>
                      <a:lnTo>
                        <a:pt x="105" y="17"/>
                      </a:lnTo>
                      <a:lnTo>
                        <a:pt x="122" y="20"/>
                      </a:lnTo>
                      <a:lnTo>
                        <a:pt x="138" y="24"/>
                      </a:lnTo>
                      <a:lnTo>
                        <a:pt x="155" y="27"/>
                      </a:lnTo>
                      <a:lnTo>
                        <a:pt x="171" y="31"/>
                      </a:lnTo>
                      <a:lnTo>
                        <a:pt x="187" y="36"/>
                      </a:lnTo>
                      <a:lnTo>
                        <a:pt x="202" y="40"/>
                      </a:lnTo>
                      <a:lnTo>
                        <a:pt x="217" y="44"/>
                      </a:lnTo>
                      <a:lnTo>
                        <a:pt x="232" y="48"/>
                      </a:lnTo>
                      <a:lnTo>
                        <a:pt x="247" y="54"/>
                      </a:lnTo>
                      <a:lnTo>
                        <a:pt x="261" y="58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7463520" y="5718240"/>
                  <a:ext cx="47160" cy="12600"/>
                </a:xfrm>
                <a:custGeom>
                  <a:avLst/>
                  <a:gdLst/>
                  <a:ahLst/>
                  <a:rect l="l" t="t" r="r" b="b"/>
                  <a:pathLst>
                    <a:path w="60" h="15">
                      <a:moveTo>
                        <a:pt x="60" y="15"/>
                      </a:moveTo>
                      <a:lnTo>
                        <a:pt x="0" y="5"/>
                      </a:lnTo>
                      <a:lnTo>
                        <a:pt x="8" y="1"/>
                      </a:lnTo>
                      <a:lnTo>
                        <a:pt x="16" y="0"/>
                      </a:lnTo>
                      <a:lnTo>
                        <a:pt x="25" y="0"/>
                      </a:lnTo>
                      <a:lnTo>
                        <a:pt x="33" y="1"/>
                      </a:lnTo>
                      <a:lnTo>
                        <a:pt x="42" y="4"/>
                      </a:lnTo>
                      <a:lnTo>
                        <a:pt x="49" y="8"/>
                      </a:lnTo>
                      <a:lnTo>
                        <a:pt x="56" y="13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7246800" y="5746680"/>
                  <a:ext cx="196560" cy="50760"/>
                </a:xfrm>
                <a:custGeom>
                  <a:avLst/>
                  <a:gdLst/>
                  <a:ahLst/>
                  <a:rect l="l" t="t" r="r" b="b"/>
                  <a:pathLst>
                    <a:path w="250" h="65">
                      <a:moveTo>
                        <a:pt x="250" y="45"/>
                      </a:moveTo>
                      <a:lnTo>
                        <a:pt x="250" y="55"/>
                      </a:lnTo>
                      <a:lnTo>
                        <a:pt x="243" y="59"/>
                      </a:lnTo>
                      <a:lnTo>
                        <a:pt x="234" y="63"/>
                      </a:lnTo>
                      <a:lnTo>
                        <a:pt x="230" y="65"/>
                      </a:lnTo>
                      <a:lnTo>
                        <a:pt x="0" y="16"/>
                      </a:lnTo>
                      <a:lnTo>
                        <a:pt x="3" y="0"/>
                      </a:lnTo>
                      <a:lnTo>
                        <a:pt x="250" y="4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7470720" y="5751360"/>
                  <a:ext cx="34560" cy="9720"/>
                </a:xfrm>
                <a:custGeom>
                  <a:avLst/>
                  <a:gdLst/>
                  <a:ahLst/>
                  <a:rect l="l" t="t" r="r" b="b"/>
                  <a:pathLst>
                    <a:path w="44" h="13">
                      <a:moveTo>
                        <a:pt x="0" y="7"/>
                      </a:moveTo>
                      <a:lnTo>
                        <a:pt x="4" y="0"/>
                      </a:lnTo>
                      <a:lnTo>
                        <a:pt x="44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7259400" y="5756400"/>
                  <a:ext cx="406080" cy="168120"/>
                </a:xfrm>
                <a:custGeom>
                  <a:avLst/>
                  <a:gdLst/>
                  <a:ahLst/>
                  <a:rect l="l" t="t" r="r" b="b"/>
                  <a:pathLst>
                    <a:path w="511" h="211">
                      <a:moveTo>
                        <a:pt x="508" y="96"/>
                      </a:moveTo>
                      <a:lnTo>
                        <a:pt x="511" y="124"/>
                      </a:lnTo>
                      <a:lnTo>
                        <a:pt x="505" y="151"/>
                      </a:lnTo>
                      <a:lnTo>
                        <a:pt x="498" y="180"/>
                      </a:lnTo>
                      <a:lnTo>
                        <a:pt x="495" y="207"/>
                      </a:lnTo>
                      <a:lnTo>
                        <a:pt x="476" y="210"/>
                      </a:lnTo>
                      <a:lnTo>
                        <a:pt x="455" y="211"/>
                      </a:lnTo>
                      <a:lnTo>
                        <a:pt x="435" y="209"/>
                      </a:lnTo>
                      <a:lnTo>
                        <a:pt x="414" y="206"/>
                      </a:lnTo>
                      <a:lnTo>
                        <a:pt x="392" y="201"/>
                      </a:lnTo>
                      <a:lnTo>
                        <a:pt x="369" y="197"/>
                      </a:lnTo>
                      <a:lnTo>
                        <a:pt x="348" y="194"/>
                      </a:lnTo>
                      <a:lnTo>
                        <a:pt x="327" y="193"/>
                      </a:lnTo>
                      <a:lnTo>
                        <a:pt x="308" y="193"/>
                      </a:lnTo>
                      <a:lnTo>
                        <a:pt x="288" y="191"/>
                      </a:lnTo>
                      <a:lnTo>
                        <a:pt x="268" y="189"/>
                      </a:lnTo>
                      <a:lnTo>
                        <a:pt x="248" y="186"/>
                      </a:lnTo>
                      <a:lnTo>
                        <a:pt x="228" y="183"/>
                      </a:lnTo>
                      <a:lnTo>
                        <a:pt x="207" y="179"/>
                      </a:lnTo>
                      <a:lnTo>
                        <a:pt x="187" y="174"/>
                      </a:lnTo>
                      <a:lnTo>
                        <a:pt x="165" y="170"/>
                      </a:lnTo>
                      <a:lnTo>
                        <a:pt x="144" y="164"/>
                      </a:lnTo>
                      <a:lnTo>
                        <a:pt x="124" y="159"/>
                      </a:lnTo>
                      <a:lnTo>
                        <a:pt x="103" y="154"/>
                      </a:lnTo>
                      <a:lnTo>
                        <a:pt x="81" y="149"/>
                      </a:lnTo>
                      <a:lnTo>
                        <a:pt x="61" y="143"/>
                      </a:lnTo>
                      <a:lnTo>
                        <a:pt x="40" y="137"/>
                      </a:lnTo>
                      <a:lnTo>
                        <a:pt x="20" y="132"/>
                      </a:lnTo>
                      <a:lnTo>
                        <a:pt x="0" y="127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8" y="70"/>
                      </a:lnTo>
                      <a:lnTo>
                        <a:pt x="14" y="42"/>
                      </a:lnTo>
                      <a:lnTo>
                        <a:pt x="23" y="17"/>
                      </a:lnTo>
                      <a:lnTo>
                        <a:pt x="38" y="0"/>
                      </a:lnTo>
                      <a:lnTo>
                        <a:pt x="68" y="5"/>
                      </a:lnTo>
                      <a:lnTo>
                        <a:pt x="98" y="10"/>
                      </a:lnTo>
                      <a:lnTo>
                        <a:pt x="127" y="16"/>
                      </a:lnTo>
                      <a:lnTo>
                        <a:pt x="157" y="22"/>
                      </a:lnTo>
                      <a:lnTo>
                        <a:pt x="185" y="27"/>
                      </a:lnTo>
                      <a:lnTo>
                        <a:pt x="215" y="34"/>
                      </a:lnTo>
                      <a:lnTo>
                        <a:pt x="244" y="40"/>
                      </a:lnTo>
                      <a:lnTo>
                        <a:pt x="274" y="47"/>
                      </a:lnTo>
                      <a:lnTo>
                        <a:pt x="302" y="53"/>
                      </a:lnTo>
                      <a:lnTo>
                        <a:pt x="331" y="60"/>
                      </a:lnTo>
                      <a:lnTo>
                        <a:pt x="361" y="66"/>
                      </a:lnTo>
                      <a:lnTo>
                        <a:pt x="389" y="73"/>
                      </a:lnTo>
                      <a:lnTo>
                        <a:pt x="419" y="79"/>
                      </a:lnTo>
                      <a:lnTo>
                        <a:pt x="448" y="84"/>
                      </a:lnTo>
                      <a:lnTo>
                        <a:pt x="478" y="90"/>
                      </a:lnTo>
                      <a:lnTo>
                        <a:pt x="508" y="96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7180200" y="5759280"/>
                  <a:ext cx="83520" cy="235080"/>
                </a:xfrm>
                <a:custGeom>
                  <a:avLst/>
                  <a:gdLst/>
                  <a:ahLst/>
                  <a:rect l="l" t="t" r="r" b="b"/>
                  <a:pathLst>
                    <a:path w="106" h="297">
                      <a:moveTo>
                        <a:pt x="106" y="26"/>
                      </a:moveTo>
                      <a:lnTo>
                        <a:pt x="103" y="54"/>
                      </a:lnTo>
                      <a:lnTo>
                        <a:pt x="97" y="84"/>
                      </a:lnTo>
                      <a:lnTo>
                        <a:pt x="90" y="117"/>
                      </a:lnTo>
                      <a:lnTo>
                        <a:pt x="83" y="150"/>
                      </a:lnTo>
                      <a:lnTo>
                        <a:pt x="74" y="183"/>
                      </a:lnTo>
                      <a:lnTo>
                        <a:pt x="67" y="216"/>
                      </a:lnTo>
                      <a:lnTo>
                        <a:pt x="60" y="250"/>
                      </a:lnTo>
                      <a:lnTo>
                        <a:pt x="54" y="283"/>
                      </a:lnTo>
                      <a:lnTo>
                        <a:pt x="47" y="291"/>
                      </a:lnTo>
                      <a:lnTo>
                        <a:pt x="36" y="295"/>
                      </a:lnTo>
                      <a:lnTo>
                        <a:pt x="24" y="297"/>
                      </a:lnTo>
                      <a:lnTo>
                        <a:pt x="13" y="294"/>
                      </a:lnTo>
                      <a:lnTo>
                        <a:pt x="3" y="281"/>
                      </a:lnTo>
                      <a:lnTo>
                        <a:pt x="0" y="264"/>
                      </a:lnTo>
                      <a:lnTo>
                        <a:pt x="1" y="246"/>
                      </a:lnTo>
                      <a:lnTo>
                        <a:pt x="4" y="230"/>
                      </a:lnTo>
                      <a:lnTo>
                        <a:pt x="7" y="230"/>
                      </a:lnTo>
                      <a:lnTo>
                        <a:pt x="4" y="200"/>
                      </a:lnTo>
                      <a:lnTo>
                        <a:pt x="6" y="170"/>
                      </a:lnTo>
                      <a:lnTo>
                        <a:pt x="13" y="140"/>
                      </a:lnTo>
                      <a:lnTo>
                        <a:pt x="23" y="111"/>
                      </a:lnTo>
                      <a:lnTo>
                        <a:pt x="34" y="83"/>
                      </a:lnTo>
                      <a:lnTo>
                        <a:pt x="46" y="56"/>
                      </a:lnTo>
                      <a:lnTo>
                        <a:pt x="57" y="27"/>
                      </a:lnTo>
                      <a:lnTo>
                        <a:pt x="67" y="0"/>
                      </a:lnTo>
                      <a:lnTo>
                        <a:pt x="78" y="2"/>
                      </a:lnTo>
                      <a:lnTo>
                        <a:pt x="91" y="6"/>
                      </a:lnTo>
                      <a:lnTo>
                        <a:pt x="101" y="13"/>
                      </a:lnTo>
                      <a:lnTo>
                        <a:pt x="106" y="26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7427880" y="5778360"/>
                  <a:ext cx="13680" cy="648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17" y="7"/>
                      </a:moveTo>
                      <a:lnTo>
                        <a:pt x="0" y="0"/>
                      </a:lnTo>
                      <a:lnTo>
                        <a:pt x="17" y="3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7344360" y="5783400"/>
                  <a:ext cx="75960" cy="15840"/>
                </a:xfrm>
                <a:custGeom>
                  <a:avLst/>
                  <a:gdLst/>
                  <a:ahLst/>
                  <a:rect l="l" t="t" r="r" b="b"/>
                  <a:pathLst>
                    <a:path w="95" h="20">
                      <a:moveTo>
                        <a:pt x="95" y="20"/>
                      </a:moveTo>
                      <a:lnTo>
                        <a:pt x="0" y="0"/>
                      </a:lnTo>
                      <a:lnTo>
                        <a:pt x="95" y="15"/>
                      </a:lnTo>
                      <a:lnTo>
                        <a:pt x="95" y="2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6192000" y="5794200"/>
                  <a:ext cx="240840" cy="111240"/>
                </a:xfrm>
                <a:custGeom>
                  <a:avLst/>
                  <a:gdLst/>
                  <a:ahLst/>
                  <a:rect l="l" t="t" r="r" b="b"/>
                  <a:pathLst>
                    <a:path w="304" h="140">
                      <a:moveTo>
                        <a:pt x="275" y="41"/>
                      </a:moveTo>
                      <a:lnTo>
                        <a:pt x="288" y="64"/>
                      </a:lnTo>
                      <a:lnTo>
                        <a:pt x="300" y="91"/>
                      </a:lnTo>
                      <a:lnTo>
                        <a:pt x="304" y="118"/>
                      </a:lnTo>
                      <a:lnTo>
                        <a:pt x="297" y="140"/>
                      </a:lnTo>
                      <a:lnTo>
                        <a:pt x="188" y="124"/>
                      </a:lnTo>
                      <a:lnTo>
                        <a:pt x="196" y="120"/>
                      </a:lnTo>
                      <a:lnTo>
                        <a:pt x="201" y="117"/>
                      </a:lnTo>
                      <a:lnTo>
                        <a:pt x="206" y="111"/>
                      </a:lnTo>
                      <a:lnTo>
                        <a:pt x="204" y="104"/>
                      </a:lnTo>
                      <a:lnTo>
                        <a:pt x="194" y="102"/>
                      </a:lnTo>
                      <a:lnTo>
                        <a:pt x="186" y="101"/>
                      </a:lnTo>
                      <a:lnTo>
                        <a:pt x="178" y="102"/>
                      </a:lnTo>
                      <a:lnTo>
                        <a:pt x="171" y="105"/>
                      </a:lnTo>
                      <a:lnTo>
                        <a:pt x="164" y="110"/>
                      </a:lnTo>
                      <a:lnTo>
                        <a:pt x="156" y="114"/>
                      </a:lnTo>
                      <a:lnTo>
                        <a:pt x="148" y="120"/>
                      </a:lnTo>
                      <a:lnTo>
                        <a:pt x="138" y="124"/>
                      </a:lnTo>
                      <a:lnTo>
                        <a:pt x="0" y="114"/>
                      </a:lnTo>
                      <a:lnTo>
                        <a:pt x="16" y="93"/>
                      </a:lnTo>
                      <a:lnTo>
                        <a:pt x="31" y="74"/>
                      </a:lnTo>
                      <a:lnTo>
                        <a:pt x="50" y="55"/>
                      </a:lnTo>
                      <a:lnTo>
                        <a:pt x="70" y="40"/>
                      </a:lnTo>
                      <a:lnTo>
                        <a:pt x="91" y="25"/>
                      </a:lnTo>
                      <a:lnTo>
                        <a:pt x="116" y="14"/>
                      </a:lnTo>
                      <a:lnTo>
                        <a:pt x="140" y="5"/>
                      </a:lnTo>
                      <a:lnTo>
                        <a:pt x="167" y="0"/>
                      </a:lnTo>
                      <a:lnTo>
                        <a:pt x="183" y="0"/>
                      </a:lnTo>
                      <a:lnTo>
                        <a:pt x="198" y="1"/>
                      </a:lnTo>
                      <a:lnTo>
                        <a:pt x="214" y="4"/>
                      </a:lnTo>
                      <a:lnTo>
                        <a:pt x="230" y="7"/>
                      </a:lnTo>
                      <a:lnTo>
                        <a:pt x="244" y="13"/>
                      </a:lnTo>
                      <a:lnTo>
                        <a:pt x="257" y="21"/>
                      </a:lnTo>
                      <a:lnTo>
                        <a:pt x="267" y="30"/>
                      </a:lnTo>
                      <a:lnTo>
                        <a:pt x="275" y="4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7265880" y="5799240"/>
                  <a:ext cx="67680" cy="19080"/>
                </a:xfrm>
                <a:custGeom>
                  <a:avLst/>
                  <a:gdLst/>
                  <a:ahLst/>
                  <a:rect l="l" t="t" r="r" b="b"/>
                  <a:pathLst>
                    <a:path w="85" h="23">
                      <a:moveTo>
                        <a:pt x="79" y="23"/>
                      </a:moveTo>
                      <a:lnTo>
                        <a:pt x="0" y="0"/>
                      </a:lnTo>
                      <a:lnTo>
                        <a:pt x="85" y="16"/>
                      </a:lnTo>
                      <a:lnTo>
                        <a:pt x="79" y="23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7750800" y="5810400"/>
                  <a:ext cx="107640" cy="42840"/>
                </a:xfrm>
                <a:custGeom>
                  <a:avLst/>
                  <a:gdLst/>
                  <a:ahLst/>
                  <a:rect l="l" t="t" r="r" b="b"/>
                  <a:pathLst>
                    <a:path w="135" h="55">
                      <a:moveTo>
                        <a:pt x="135" y="47"/>
                      </a:moveTo>
                      <a:lnTo>
                        <a:pt x="135" y="55"/>
                      </a:lnTo>
                      <a:lnTo>
                        <a:pt x="117" y="55"/>
                      </a:lnTo>
                      <a:lnTo>
                        <a:pt x="98" y="52"/>
                      </a:lnTo>
                      <a:lnTo>
                        <a:pt x="80" y="46"/>
                      </a:lnTo>
                      <a:lnTo>
                        <a:pt x="63" y="37"/>
                      </a:lnTo>
                      <a:lnTo>
                        <a:pt x="45" y="29"/>
                      </a:lnTo>
                      <a:lnTo>
                        <a:pt x="30" y="19"/>
                      </a:lnTo>
                      <a:lnTo>
                        <a:pt x="14" y="9"/>
                      </a:lnTo>
                      <a:lnTo>
                        <a:pt x="0" y="0"/>
                      </a:lnTo>
                      <a:lnTo>
                        <a:pt x="17" y="6"/>
                      </a:lnTo>
                      <a:lnTo>
                        <a:pt x="34" y="12"/>
                      </a:lnTo>
                      <a:lnTo>
                        <a:pt x="50" y="17"/>
                      </a:lnTo>
                      <a:lnTo>
                        <a:pt x="65" y="23"/>
                      </a:lnTo>
                      <a:lnTo>
                        <a:pt x="81" y="30"/>
                      </a:lnTo>
                      <a:lnTo>
                        <a:pt x="98" y="36"/>
                      </a:lnTo>
                      <a:lnTo>
                        <a:pt x="115" y="42"/>
                      </a:lnTo>
                      <a:lnTo>
                        <a:pt x="135" y="47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>
                  <a:off x="6918120" y="5853240"/>
                  <a:ext cx="282240" cy="123840"/>
                </a:xfrm>
                <a:custGeom>
                  <a:avLst/>
                  <a:gdLst/>
                  <a:ahLst/>
                  <a:rect l="l" t="t" r="r" b="b"/>
                  <a:pathLst>
                    <a:path w="357" h="156">
                      <a:moveTo>
                        <a:pt x="352" y="38"/>
                      </a:moveTo>
                      <a:lnTo>
                        <a:pt x="357" y="64"/>
                      </a:lnTo>
                      <a:lnTo>
                        <a:pt x="351" y="89"/>
                      </a:lnTo>
                      <a:lnTo>
                        <a:pt x="341" y="117"/>
                      </a:lnTo>
                      <a:lnTo>
                        <a:pt x="334" y="144"/>
                      </a:lnTo>
                      <a:lnTo>
                        <a:pt x="314" y="156"/>
                      </a:lnTo>
                      <a:lnTo>
                        <a:pt x="294" y="155"/>
                      </a:lnTo>
                      <a:lnTo>
                        <a:pt x="274" y="154"/>
                      </a:lnTo>
                      <a:lnTo>
                        <a:pt x="254" y="152"/>
                      </a:lnTo>
                      <a:lnTo>
                        <a:pt x="234" y="149"/>
                      </a:lnTo>
                      <a:lnTo>
                        <a:pt x="213" y="148"/>
                      </a:lnTo>
                      <a:lnTo>
                        <a:pt x="193" y="145"/>
                      </a:lnTo>
                      <a:lnTo>
                        <a:pt x="173" y="142"/>
                      </a:lnTo>
                      <a:lnTo>
                        <a:pt x="153" y="139"/>
                      </a:lnTo>
                      <a:lnTo>
                        <a:pt x="133" y="137"/>
                      </a:lnTo>
                      <a:lnTo>
                        <a:pt x="113" y="134"/>
                      </a:lnTo>
                      <a:lnTo>
                        <a:pt x="93" y="131"/>
                      </a:lnTo>
                      <a:lnTo>
                        <a:pt x="73" y="128"/>
                      </a:lnTo>
                      <a:lnTo>
                        <a:pt x="54" y="124"/>
                      </a:lnTo>
                      <a:lnTo>
                        <a:pt x="36" y="121"/>
                      </a:lnTo>
                      <a:lnTo>
                        <a:pt x="17" y="118"/>
                      </a:lnTo>
                      <a:lnTo>
                        <a:pt x="0" y="115"/>
                      </a:lnTo>
                      <a:lnTo>
                        <a:pt x="6" y="85"/>
                      </a:lnTo>
                      <a:lnTo>
                        <a:pt x="13" y="55"/>
                      </a:lnTo>
                      <a:lnTo>
                        <a:pt x="21" y="27"/>
                      </a:lnTo>
                      <a:lnTo>
                        <a:pt x="33" y="0"/>
                      </a:lnTo>
                      <a:lnTo>
                        <a:pt x="53" y="1"/>
                      </a:lnTo>
                      <a:lnTo>
                        <a:pt x="73" y="2"/>
                      </a:lnTo>
                      <a:lnTo>
                        <a:pt x="93" y="5"/>
                      </a:lnTo>
                      <a:lnTo>
                        <a:pt x="113" y="8"/>
                      </a:lnTo>
                      <a:lnTo>
                        <a:pt x="133" y="10"/>
                      </a:lnTo>
                      <a:lnTo>
                        <a:pt x="153" y="12"/>
                      </a:lnTo>
                      <a:lnTo>
                        <a:pt x="174" y="15"/>
                      </a:lnTo>
                      <a:lnTo>
                        <a:pt x="194" y="18"/>
                      </a:lnTo>
                      <a:lnTo>
                        <a:pt x="214" y="22"/>
                      </a:lnTo>
                      <a:lnTo>
                        <a:pt x="234" y="25"/>
                      </a:lnTo>
                      <a:lnTo>
                        <a:pt x="254" y="28"/>
                      </a:lnTo>
                      <a:lnTo>
                        <a:pt x="274" y="29"/>
                      </a:lnTo>
                      <a:lnTo>
                        <a:pt x="294" y="32"/>
                      </a:lnTo>
                      <a:lnTo>
                        <a:pt x="314" y="35"/>
                      </a:lnTo>
                      <a:lnTo>
                        <a:pt x="332" y="37"/>
                      </a:lnTo>
                      <a:lnTo>
                        <a:pt x="352" y="38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>
                  <a:off x="6636600" y="5862600"/>
                  <a:ext cx="350280" cy="368280"/>
                </a:xfrm>
                <a:custGeom>
                  <a:avLst/>
                  <a:gdLst/>
                  <a:ahLst/>
                  <a:rect l="l" t="t" r="r" b="b"/>
                  <a:pathLst>
                    <a:path w="443" h="464">
                      <a:moveTo>
                        <a:pt x="415" y="33"/>
                      </a:moveTo>
                      <a:lnTo>
                        <a:pt x="393" y="16"/>
                      </a:lnTo>
                      <a:lnTo>
                        <a:pt x="371" y="5"/>
                      </a:lnTo>
                      <a:lnTo>
                        <a:pt x="351" y="0"/>
                      </a:lnTo>
                      <a:lnTo>
                        <a:pt x="333" y="0"/>
                      </a:lnTo>
                      <a:lnTo>
                        <a:pt x="316" y="6"/>
                      </a:lnTo>
                      <a:lnTo>
                        <a:pt x="298" y="15"/>
                      </a:lnTo>
                      <a:lnTo>
                        <a:pt x="284" y="27"/>
                      </a:lnTo>
                      <a:lnTo>
                        <a:pt x="270" y="43"/>
                      </a:lnTo>
                      <a:lnTo>
                        <a:pt x="256" y="60"/>
                      </a:lnTo>
                      <a:lnTo>
                        <a:pt x="243" y="77"/>
                      </a:lnTo>
                      <a:lnTo>
                        <a:pt x="230" y="96"/>
                      </a:lnTo>
                      <a:lnTo>
                        <a:pt x="217" y="115"/>
                      </a:lnTo>
                      <a:lnTo>
                        <a:pt x="206" y="133"/>
                      </a:lnTo>
                      <a:lnTo>
                        <a:pt x="194" y="149"/>
                      </a:lnTo>
                      <a:lnTo>
                        <a:pt x="181" y="162"/>
                      </a:lnTo>
                      <a:lnTo>
                        <a:pt x="170" y="173"/>
                      </a:lnTo>
                      <a:lnTo>
                        <a:pt x="170" y="192"/>
                      </a:lnTo>
                      <a:lnTo>
                        <a:pt x="171" y="212"/>
                      </a:lnTo>
                      <a:lnTo>
                        <a:pt x="174" y="230"/>
                      </a:lnTo>
                      <a:lnTo>
                        <a:pt x="179" y="249"/>
                      </a:lnTo>
                      <a:lnTo>
                        <a:pt x="184" y="267"/>
                      </a:lnTo>
                      <a:lnTo>
                        <a:pt x="193" y="286"/>
                      </a:lnTo>
                      <a:lnTo>
                        <a:pt x="201" y="303"/>
                      </a:lnTo>
                      <a:lnTo>
                        <a:pt x="214" y="320"/>
                      </a:lnTo>
                      <a:lnTo>
                        <a:pt x="227" y="320"/>
                      </a:lnTo>
                      <a:lnTo>
                        <a:pt x="239" y="323"/>
                      </a:lnTo>
                      <a:lnTo>
                        <a:pt x="249" y="329"/>
                      </a:lnTo>
                      <a:lnTo>
                        <a:pt x="253" y="337"/>
                      </a:lnTo>
                      <a:lnTo>
                        <a:pt x="247" y="343"/>
                      </a:lnTo>
                      <a:lnTo>
                        <a:pt x="239" y="347"/>
                      </a:lnTo>
                      <a:lnTo>
                        <a:pt x="230" y="350"/>
                      </a:lnTo>
                      <a:lnTo>
                        <a:pt x="219" y="350"/>
                      </a:lnTo>
                      <a:lnTo>
                        <a:pt x="199" y="346"/>
                      </a:lnTo>
                      <a:lnTo>
                        <a:pt x="181" y="339"/>
                      </a:lnTo>
                      <a:lnTo>
                        <a:pt x="167" y="329"/>
                      </a:lnTo>
                      <a:lnTo>
                        <a:pt x="157" y="314"/>
                      </a:lnTo>
                      <a:lnTo>
                        <a:pt x="147" y="300"/>
                      </a:lnTo>
                      <a:lnTo>
                        <a:pt x="140" y="284"/>
                      </a:lnTo>
                      <a:lnTo>
                        <a:pt x="134" y="267"/>
                      </a:lnTo>
                      <a:lnTo>
                        <a:pt x="129" y="250"/>
                      </a:lnTo>
                      <a:lnTo>
                        <a:pt x="120" y="246"/>
                      </a:lnTo>
                      <a:lnTo>
                        <a:pt x="110" y="244"/>
                      </a:lnTo>
                      <a:lnTo>
                        <a:pt x="102" y="244"/>
                      </a:lnTo>
                      <a:lnTo>
                        <a:pt x="93" y="247"/>
                      </a:lnTo>
                      <a:lnTo>
                        <a:pt x="86" y="252"/>
                      </a:lnTo>
                      <a:lnTo>
                        <a:pt x="77" y="256"/>
                      </a:lnTo>
                      <a:lnTo>
                        <a:pt x="69" y="260"/>
                      </a:lnTo>
                      <a:lnTo>
                        <a:pt x="62" y="266"/>
                      </a:lnTo>
                      <a:lnTo>
                        <a:pt x="49" y="279"/>
                      </a:lnTo>
                      <a:lnTo>
                        <a:pt x="34" y="294"/>
                      </a:lnTo>
                      <a:lnTo>
                        <a:pt x="23" y="310"/>
                      </a:lnTo>
                      <a:lnTo>
                        <a:pt x="12" y="329"/>
                      </a:lnTo>
                      <a:lnTo>
                        <a:pt x="4" y="347"/>
                      </a:lnTo>
                      <a:lnTo>
                        <a:pt x="0" y="367"/>
                      </a:lnTo>
                      <a:lnTo>
                        <a:pt x="0" y="387"/>
                      </a:lnTo>
                      <a:lnTo>
                        <a:pt x="7" y="407"/>
                      </a:lnTo>
                      <a:lnTo>
                        <a:pt x="29" y="423"/>
                      </a:lnTo>
                      <a:lnTo>
                        <a:pt x="53" y="437"/>
                      </a:lnTo>
                      <a:lnTo>
                        <a:pt x="79" y="448"/>
                      </a:lnTo>
                      <a:lnTo>
                        <a:pt x="107" y="457"/>
                      </a:lnTo>
                      <a:lnTo>
                        <a:pt x="136" y="463"/>
                      </a:lnTo>
                      <a:lnTo>
                        <a:pt x="164" y="464"/>
                      </a:lnTo>
                      <a:lnTo>
                        <a:pt x="191" y="461"/>
                      </a:lnTo>
                      <a:lnTo>
                        <a:pt x="219" y="454"/>
                      </a:lnTo>
                      <a:lnTo>
                        <a:pt x="231" y="447"/>
                      </a:lnTo>
                      <a:lnTo>
                        <a:pt x="246" y="441"/>
                      </a:lnTo>
                      <a:lnTo>
                        <a:pt x="259" y="436"/>
                      </a:lnTo>
                      <a:lnTo>
                        <a:pt x="271" y="430"/>
                      </a:lnTo>
                      <a:lnTo>
                        <a:pt x="284" y="426"/>
                      </a:lnTo>
                      <a:lnTo>
                        <a:pt x="297" y="420"/>
                      </a:lnTo>
                      <a:lnTo>
                        <a:pt x="310" y="416"/>
                      </a:lnTo>
                      <a:lnTo>
                        <a:pt x="323" y="411"/>
                      </a:lnTo>
                      <a:lnTo>
                        <a:pt x="344" y="380"/>
                      </a:lnTo>
                      <a:lnTo>
                        <a:pt x="366" y="346"/>
                      </a:lnTo>
                      <a:lnTo>
                        <a:pt x="386" y="309"/>
                      </a:lnTo>
                      <a:lnTo>
                        <a:pt x="404" y="270"/>
                      </a:lnTo>
                      <a:lnTo>
                        <a:pt x="420" y="229"/>
                      </a:lnTo>
                      <a:lnTo>
                        <a:pt x="431" y="186"/>
                      </a:lnTo>
                      <a:lnTo>
                        <a:pt x="440" y="143"/>
                      </a:lnTo>
                      <a:lnTo>
                        <a:pt x="443" y="100"/>
                      </a:lnTo>
                      <a:lnTo>
                        <a:pt x="415" y="33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6190200" y="5896080"/>
                  <a:ext cx="441000" cy="187200"/>
                </a:xfrm>
                <a:custGeom>
                  <a:avLst/>
                  <a:gdLst/>
                  <a:ahLst/>
                  <a:rect l="l" t="t" r="r" b="b"/>
                  <a:pathLst>
                    <a:path w="557" h="235">
                      <a:moveTo>
                        <a:pt x="33" y="234"/>
                      </a:moveTo>
                      <a:lnTo>
                        <a:pt x="62" y="232"/>
                      </a:lnTo>
                      <a:lnTo>
                        <a:pt x="90" y="231"/>
                      </a:lnTo>
                      <a:lnTo>
                        <a:pt x="120" y="229"/>
                      </a:lnTo>
                      <a:lnTo>
                        <a:pt x="150" y="228"/>
                      </a:lnTo>
                      <a:lnTo>
                        <a:pt x="180" y="227"/>
                      </a:lnTo>
                      <a:lnTo>
                        <a:pt x="212" y="224"/>
                      </a:lnTo>
                      <a:lnTo>
                        <a:pt x="243" y="222"/>
                      </a:lnTo>
                      <a:lnTo>
                        <a:pt x="274" y="219"/>
                      </a:lnTo>
                      <a:lnTo>
                        <a:pt x="306" y="217"/>
                      </a:lnTo>
                      <a:lnTo>
                        <a:pt x="337" y="212"/>
                      </a:lnTo>
                      <a:lnTo>
                        <a:pt x="369" y="210"/>
                      </a:lnTo>
                      <a:lnTo>
                        <a:pt x="398" y="204"/>
                      </a:lnTo>
                      <a:lnTo>
                        <a:pt x="428" y="200"/>
                      </a:lnTo>
                      <a:lnTo>
                        <a:pt x="458" y="194"/>
                      </a:lnTo>
                      <a:lnTo>
                        <a:pt x="487" y="187"/>
                      </a:lnTo>
                      <a:lnTo>
                        <a:pt x="515" y="180"/>
                      </a:lnTo>
                      <a:lnTo>
                        <a:pt x="530" y="147"/>
                      </a:lnTo>
                      <a:lnTo>
                        <a:pt x="543" y="114"/>
                      </a:lnTo>
                      <a:lnTo>
                        <a:pt x="553" y="81"/>
                      </a:lnTo>
                      <a:lnTo>
                        <a:pt x="557" y="45"/>
                      </a:lnTo>
                      <a:lnTo>
                        <a:pt x="540" y="40"/>
                      </a:lnTo>
                      <a:lnTo>
                        <a:pt x="523" y="35"/>
                      </a:lnTo>
                      <a:lnTo>
                        <a:pt x="503" y="33"/>
                      </a:lnTo>
                      <a:lnTo>
                        <a:pt x="483" y="31"/>
                      </a:lnTo>
                      <a:lnTo>
                        <a:pt x="461" y="30"/>
                      </a:lnTo>
                      <a:lnTo>
                        <a:pt x="440" y="30"/>
                      </a:lnTo>
                      <a:lnTo>
                        <a:pt x="420" y="30"/>
                      </a:lnTo>
                      <a:lnTo>
                        <a:pt x="400" y="28"/>
                      </a:lnTo>
                      <a:lnTo>
                        <a:pt x="386" y="40"/>
                      </a:lnTo>
                      <a:lnTo>
                        <a:pt x="371" y="54"/>
                      </a:lnTo>
                      <a:lnTo>
                        <a:pt x="359" y="70"/>
                      </a:lnTo>
                      <a:lnTo>
                        <a:pt x="347" y="85"/>
                      </a:lnTo>
                      <a:lnTo>
                        <a:pt x="337" y="102"/>
                      </a:lnTo>
                      <a:lnTo>
                        <a:pt x="329" y="120"/>
                      </a:lnTo>
                      <a:lnTo>
                        <a:pt x="321" y="137"/>
                      </a:lnTo>
                      <a:lnTo>
                        <a:pt x="314" y="154"/>
                      </a:lnTo>
                      <a:lnTo>
                        <a:pt x="309" y="164"/>
                      </a:lnTo>
                      <a:lnTo>
                        <a:pt x="303" y="168"/>
                      </a:lnTo>
                      <a:lnTo>
                        <a:pt x="300" y="172"/>
                      </a:lnTo>
                      <a:lnTo>
                        <a:pt x="307" y="182"/>
                      </a:lnTo>
                      <a:lnTo>
                        <a:pt x="300" y="188"/>
                      </a:lnTo>
                      <a:lnTo>
                        <a:pt x="294" y="190"/>
                      </a:lnTo>
                      <a:lnTo>
                        <a:pt x="289" y="187"/>
                      </a:lnTo>
                      <a:lnTo>
                        <a:pt x="284" y="182"/>
                      </a:lnTo>
                      <a:lnTo>
                        <a:pt x="293" y="171"/>
                      </a:lnTo>
                      <a:lnTo>
                        <a:pt x="294" y="154"/>
                      </a:lnTo>
                      <a:lnTo>
                        <a:pt x="294" y="137"/>
                      </a:lnTo>
                      <a:lnTo>
                        <a:pt x="299" y="121"/>
                      </a:lnTo>
                      <a:lnTo>
                        <a:pt x="306" y="108"/>
                      </a:lnTo>
                      <a:lnTo>
                        <a:pt x="313" y="95"/>
                      </a:lnTo>
                      <a:lnTo>
                        <a:pt x="320" y="83"/>
                      </a:lnTo>
                      <a:lnTo>
                        <a:pt x="327" y="71"/>
                      </a:lnTo>
                      <a:lnTo>
                        <a:pt x="334" y="60"/>
                      </a:lnTo>
                      <a:lnTo>
                        <a:pt x="341" y="48"/>
                      </a:lnTo>
                      <a:lnTo>
                        <a:pt x="350" y="37"/>
                      </a:lnTo>
                      <a:lnTo>
                        <a:pt x="359" y="25"/>
                      </a:lnTo>
                      <a:lnTo>
                        <a:pt x="222" y="15"/>
                      </a:lnTo>
                      <a:lnTo>
                        <a:pt x="167" y="110"/>
                      </a:lnTo>
                      <a:lnTo>
                        <a:pt x="162" y="127"/>
                      </a:lnTo>
                      <a:lnTo>
                        <a:pt x="159" y="147"/>
                      </a:lnTo>
                      <a:lnTo>
                        <a:pt x="153" y="162"/>
                      </a:lnTo>
                      <a:lnTo>
                        <a:pt x="137" y="162"/>
                      </a:lnTo>
                      <a:lnTo>
                        <a:pt x="139" y="141"/>
                      </a:lnTo>
                      <a:lnTo>
                        <a:pt x="143" y="121"/>
                      </a:lnTo>
                      <a:lnTo>
                        <a:pt x="147" y="102"/>
                      </a:lnTo>
                      <a:lnTo>
                        <a:pt x="154" y="85"/>
                      </a:lnTo>
                      <a:lnTo>
                        <a:pt x="162" y="68"/>
                      </a:lnTo>
                      <a:lnTo>
                        <a:pt x="170" y="51"/>
                      </a:lnTo>
                      <a:lnTo>
                        <a:pt x="179" y="34"/>
                      </a:lnTo>
                      <a:lnTo>
                        <a:pt x="189" y="17"/>
                      </a:lnTo>
                      <a:lnTo>
                        <a:pt x="184" y="8"/>
                      </a:lnTo>
                      <a:lnTo>
                        <a:pt x="174" y="5"/>
                      </a:lnTo>
                      <a:lnTo>
                        <a:pt x="164" y="5"/>
                      </a:lnTo>
                      <a:lnTo>
                        <a:pt x="154" y="3"/>
                      </a:lnTo>
                      <a:lnTo>
                        <a:pt x="136" y="3"/>
                      </a:lnTo>
                      <a:lnTo>
                        <a:pt x="124" y="8"/>
                      </a:lnTo>
                      <a:lnTo>
                        <a:pt x="119" y="20"/>
                      </a:lnTo>
                      <a:lnTo>
                        <a:pt x="116" y="34"/>
                      </a:lnTo>
                      <a:lnTo>
                        <a:pt x="114" y="50"/>
                      </a:lnTo>
                      <a:lnTo>
                        <a:pt x="113" y="67"/>
                      </a:lnTo>
                      <a:lnTo>
                        <a:pt x="112" y="84"/>
                      </a:lnTo>
                      <a:lnTo>
                        <a:pt x="106" y="100"/>
                      </a:lnTo>
                      <a:lnTo>
                        <a:pt x="102" y="127"/>
                      </a:lnTo>
                      <a:lnTo>
                        <a:pt x="104" y="157"/>
                      </a:lnTo>
                      <a:lnTo>
                        <a:pt x="100" y="184"/>
                      </a:lnTo>
                      <a:lnTo>
                        <a:pt x="80" y="198"/>
                      </a:lnTo>
                      <a:lnTo>
                        <a:pt x="75" y="197"/>
                      </a:lnTo>
                      <a:lnTo>
                        <a:pt x="72" y="191"/>
                      </a:lnTo>
                      <a:lnTo>
                        <a:pt x="70" y="185"/>
                      </a:lnTo>
                      <a:lnTo>
                        <a:pt x="67" y="180"/>
                      </a:lnTo>
                      <a:lnTo>
                        <a:pt x="77" y="135"/>
                      </a:lnTo>
                      <a:lnTo>
                        <a:pt x="89" y="90"/>
                      </a:lnTo>
                      <a:lnTo>
                        <a:pt x="97" y="45"/>
                      </a:lnTo>
                      <a:lnTo>
                        <a:pt x="96" y="3"/>
                      </a:lnTo>
                      <a:lnTo>
                        <a:pt x="87" y="1"/>
                      </a:lnTo>
                      <a:lnTo>
                        <a:pt x="77" y="1"/>
                      </a:lnTo>
                      <a:lnTo>
                        <a:pt x="67" y="1"/>
                      </a:lnTo>
                      <a:lnTo>
                        <a:pt x="56" y="0"/>
                      </a:lnTo>
                      <a:lnTo>
                        <a:pt x="46" y="1"/>
                      </a:lnTo>
                      <a:lnTo>
                        <a:pt x="36" y="1"/>
                      </a:lnTo>
                      <a:lnTo>
                        <a:pt x="27" y="1"/>
                      </a:lnTo>
                      <a:lnTo>
                        <a:pt x="19" y="3"/>
                      </a:lnTo>
                      <a:lnTo>
                        <a:pt x="27" y="33"/>
                      </a:lnTo>
                      <a:lnTo>
                        <a:pt x="32" y="63"/>
                      </a:lnTo>
                      <a:lnTo>
                        <a:pt x="32" y="90"/>
                      </a:lnTo>
                      <a:lnTo>
                        <a:pt x="30" y="118"/>
                      </a:lnTo>
                      <a:lnTo>
                        <a:pt x="25" y="145"/>
                      </a:lnTo>
                      <a:lnTo>
                        <a:pt x="19" y="174"/>
                      </a:lnTo>
                      <a:lnTo>
                        <a:pt x="10" y="204"/>
                      </a:lnTo>
                      <a:lnTo>
                        <a:pt x="0" y="235"/>
                      </a:lnTo>
                      <a:lnTo>
                        <a:pt x="10" y="235"/>
                      </a:lnTo>
                      <a:lnTo>
                        <a:pt x="19" y="235"/>
                      </a:lnTo>
                      <a:lnTo>
                        <a:pt x="27" y="235"/>
                      </a:lnTo>
                      <a:lnTo>
                        <a:pt x="33" y="23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6758640" y="5931000"/>
                  <a:ext cx="63000" cy="128520"/>
                </a:xfrm>
                <a:custGeom>
                  <a:avLst/>
                  <a:gdLst/>
                  <a:ahLst/>
                  <a:rect l="l" t="t" r="r" b="b"/>
                  <a:pathLst>
                    <a:path w="80" h="161">
                      <a:moveTo>
                        <a:pt x="71" y="20"/>
                      </a:moveTo>
                      <a:lnTo>
                        <a:pt x="56" y="37"/>
                      </a:lnTo>
                      <a:lnTo>
                        <a:pt x="46" y="57"/>
                      </a:lnTo>
                      <a:lnTo>
                        <a:pt x="43" y="81"/>
                      </a:lnTo>
                      <a:lnTo>
                        <a:pt x="46" y="107"/>
                      </a:lnTo>
                      <a:lnTo>
                        <a:pt x="71" y="141"/>
                      </a:lnTo>
                      <a:lnTo>
                        <a:pt x="66" y="144"/>
                      </a:lnTo>
                      <a:lnTo>
                        <a:pt x="60" y="148"/>
                      </a:lnTo>
                      <a:lnTo>
                        <a:pt x="54" y="153"/>
                      </a:lnTo>
                      <a:lnTo>
                        <a:pt x="47" y="157"/>
                      </a:lnTo>
                      <a:lnTo>
                        <a:pt x="40" y="160"/>
                      </a:lnTo>
                      <a:lnTo>
                        <a:pt x="33" y="161"/>
                      </a:lnTo>
                      <a:lnTo>
                        <a:pt x="26" y="161"/>
                      </a:lnTo>
                      <a:lnTo>
                        <a:pt x="20" y="157"/>
                      </a:lnTo>
                      <a:lnTo>
                        <a:pt x="12" y="140"/>
                      </a:lnTo>
                      <a:lnTo>
                        <a:pt x="3" y="120"/>
                      </a:lnTo>
                      <a:lnTo>
                        <a:pt x="0" y="101"/>
                      </a:lnTo>
                      <a:lnTo>
                        <a:pt x="12" y="87"/>
                      </a:lnTo>
                      <a:lnTo>
                        <a:pt x="24" y="78"/>
                      </a:lnTo>
                      <a:lnTo>
                        <a:pt x="33" y="67"/>
                      </a:lnTo>
                      <a:lnTo>
                        <a:pt x="37" y="54"/>
                      </a:lnTo>
                      <a:lnTo>
                        <a:pt x="42" y="41"/>
                      </a:lnTo>
                      <a:lnTo>
                        <a:pt x="46" y="29"/>
                      </a:lnTo>
                      <a:lnTo>
                        <a:pt x="52" y="16"/>
                      </a:lnTo>
                      <a:lnTo>
                        <a:pt x="60" y="7"/>
                      </a:lnTo>
                      <a:lnTo>
                        <a:pt x="71" y="0"/>
                      </a:lnTo>
                      <a:lnTo>
                        <a:pt x="80" y="4"/>
                      </a:lnTo>
                      <a:lnTo>
                        <a:pt x="80" y="9"/>
                      </a:lnTo>
                      <a:lnTo>
                        <a:pt x="77" y="14"/>
                      </a:lnTo>
                      <a:lnTo>
                        <a:pt x="71" y="20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5957280" y="5951520"/>
                  <a:ext cx="176040" cy="225360"/>
                </a:xfrm>
                <a:custGeom>
                  <a:avLst/>
                  <a:gdLst/>
                  <a:ahLst/>
                  <a:rect l="l" t="t" r="r" b="b"/>
                  <a:pathLst>
                    <a:path w="221" h="284">
                      <a:moveTo>
                        <a:pt x="221" y="77"/>
                      </a:moveTo>
                      <a:lnTo>
                        <a:pt x="217" y="94"/>
                      </a:lnTo>
                      <a:lnTo>
                        <a:pt x="210" y="111"/>
                      </a:lnTo>
                      <a:lnTo>
                        <a:pt x="206" y="128"/>
                      </a:lnTo>
                      <a:lnTo>
                        <a:pt x="211" y="145"/>
                      </a:lnTo>
                      <a:lnTo>
                        <a:pt x="216" y="159"/>
                      </a:lnTo>
                      <a:lnTo>
                        <a:pt x="216" y="174"/>
                      </a:lnTo>
                      <a:lnTo>
                        <a:pt x="213" y="185"/>
                      </a:lnTo>
                      <a:lnTo>
                        <a:pt x="207" y="197"/>
                      </a:lnTo>
                      <a:lnTo>
                        <a:pt x="200" y="207"/>
                      </a:lnTo>
                      <a:lnTo>
                        <a:pt x="190" y="217"/>
                      </a:lnTo>
                      <a:lnTo>
                        <a:pt x="181" y="225"/>
                      </a:lnTo>
                      <a:lnTo>
                        <a:pt x="173" y="234"/>
                      </a:lnTo>
                      <a:lnTo>
                        <a:pt x="156" y="241"/>
                      </a:lnTo>
                      <a:lnTo>
                        <a:pt x="140" y="249"/>
                      </a:lnTo>
                      <a:lnTo>
                        <a:pt x="124" y="259"/>
                      </a:lnTo>
                      <a:lnTo>
                        <a:pt x="110" y="269"/>
                      </a:lnTo>
                      <a:lnTo>
                        <a:pt x="94" y="278"/>
                      </a:lnTo>
                      <a:lnTo>
                        <a:pt x="77" y="284"/>
                      </a:lnTo>
                      <a:lnTo>
                        <a:pt x="59" y="284"/>
                      </a:lnTo>
                      <a:lnTo>
                        <a:pt x="37" y="279"/>
                      </a:lnTo>
                      <a:lnTo>
                        <a:pt x="30" y="275"/>
                      </a:lnTo>
                      <a:lnTo>
                        <a:pt x="23" y="269"/>
                      </a:lnTo>
                      <a:lnTo>
                        <a:pt x="16" y="265"/>
                      </a:lnTo>
                      <a:lnTo>
                        <a:pt x="10" y="259"/>
                      </a:lnTo>
                      <a:lnTo>
                        <a:pt x="5" y="254"/>
                      </a:lnTo>
                      <a:lnTo>
                        <a:pt x="0" y="248"/>
                      </a:lnTo>
                      <a:lnTo>
                        <a:pt x="0" y="239"/>
                      </a:lnTo>
                      <a:lnTo>
                        <a:pt x="3" y="231"/>
                      </a:lnTo>
                      <a:lnTo>
                        <a:pt x="10" y="239"/>
                      </a:lnTo>
                      <a:lnTo>
                        <a:pt x="19" y="245"/>
                      </a:lnTo>
                      <a:lnTo>
                        <a:pt x="30" y="251"/>
                      </a:lnTo>
                      <a:lnTo>
                        <a:pt x="42" y="254"/>
                      </a:lnTo>
                      <a:lnTo>
                        <a:pt x="54" y="255"/>
                      </a:lnTo>
                      <a:lnTo>
                        <a:pt x="67" y="255"/>
                      </a:lnTo>
                      <a:lnTo>
                        <a:pt x="79" y="252"/>
                      </a:lnTo>
                      <a:lnTo>
                        <a:pt x="89" y="247"/>
                      </a:lnTo>
                      <a:lnTo>
                        <a:pt x="100" y="239"/>
                      </a:lnTo>
                      <a:lnTo>
                        <a:pt x="109" y="232"/>
                      </a:lnTo>
                      <a:lnTo>
                        <a:pt x="117" y="224"/>
                      </a:lnTo>
                      <a:lnTo>
                        <a:pt x="124" y="215"/>
                      </a:lnTo>
                      <a:lnTo>
                        <a:pt x="114" y="202"/>
                      </a:lnTo>
                      <a:lnTo>
                        <a:pt x="116" y="202"/>
                      </a:lnTo>
                      <a:lnTo>
                        <a:pt x="116" y="184"/>
                      </a:lnTo>
                      <a:lnTo>
                        <a:pt x="140" y="187"/>
                      </a:lnTo>
                      <a:lnTo>
                        <a:pt x="140" y="202"/>
                      </a:lnTo>
                      <a:lnTo>
                        <a:pt x="149" y="205"/>
                      </a:lnTo>
                      <a:lnTo>
                        <a:pt x="156" y="205"/>
                      </a:lnTo>
                      <a:lnTo>
                        <a:pt x="163" y="204"/>
                      </a:lnTo>
                      <a:lnTo>
                        <a:pt x="169" y="198"/>
                      </a:lnTo>
                      <a:lnTo>
                        <a:pt x="174" y="194"/>
                      </a:lnTo>
                      <a:lnTo>
                        <a:pt x="180" y="187"/>
                      </a:lnTo>
                      <a:lnTo>
                        <a:pt x="184" y="179"/>
                      </a:lnTo>
                      <a:lnTo>
                        <a:pt x="189" y="174"/>
                      </a:lnTo>
                      <a:lnTo>
                        <a:pt x="189" y="164"/>
                      </a:lnTo>
                      <a:lnTo>
                        <a:pt x="189" y="152"/>
                      </a:lnTo>
                      <a:lnTo>
                        <a:pt x="187" y="142"/>
                      </a:lnTo>
                      <a:lnTo>
                        <a:pt x="179" y="138"/>
                      </a:lnTo>
                      <a:lnTo>
                        <a:pt x="183" y="121"/>
                      </a:lnTo>
                      <a:lnTo>
                        <a:pt x="187" y="101"/>
                      </a:lnTo>
                      <a:lnTo>
                        <a:pt x="186" y="81"/>
                      </a:lnTo>
                      <a:lnTo>
                        <a:pt x="179" y="65"/>
                      </a:lnTo>
                      <a:lnTo>
                        <a:pt x="174" y="61"/>
                      </a:lnTo>
                      <a:lnTo>
                        <a:pt x="170" y="58"/>
                      </a:lnTo>
                      <a:lnTo>
                        <a:pt x="164" y="55"/>
                      </a:lnTo>
                      <a:lnTo>
                        <a:pt x="159" y="54"/>
                      </a:lnTo>
                      <a:lnTo>
                        <a:pt x="153" y="54"/>
                      </a:lnTo>
                      <a:lnTo>
                        <a:pt x="147" y="54"/>
                      </a:lnTo>
                      <a:lnTo>
                        <a:pt x="140" y="54"/>
                      </a:lnTo>
                      <a:lnTo>
                        <a:pt x="134" y="55"/>
                      </a:lnTo>
                      <a:lnTo>
                        <a:pt x="133" y="61"/>
                      </a:lnTo>
                      <a:lnTo>
                        <a:pt x="132" y="67"/>
                      </a:lnTo>
                      <a:lnTo>
                        <a:pt x="129" y="72"/>
                      </a:lnTo>
                      <a:lnTo>
                        <a:pt x="129" y="80"/>
                      </a:lnTo>
                      <a:lnTo>
                        <a:pt x="117" y="78"/>
                      </a:lnTo>
                      <a:lnTo>
                        <a:pt x="113" y="70"/>
                      </a:lnTo>
                      <a:lnTo>
                        <a:pt x="114" y="60"/>
                      </a:lnTo>
                      <a:lnTo>
                        <a:pt x="114" y="48"/>
                      </a:lnTo>
                      <a:lnTo>
                        <a:pt x="102" y="41"/>
                      </a:lnTo>
                      <a:lnTo>
                        <a:pt x="89" y="35"/>
                      </a:lnTo>
                      <a:lnTo>
                        <a:pt x="74" y="32"/>
                      </a:lnTo>
                      <a:lnTo>
                        <a:pt x="60" y="30"/>
                      </a:lnTo>
                      <a:lnTo>
                        <a:pt x="44" y="30"/>
                      </a:lnTo>
                      <a:lnTo>
                        <a:pt x="29" y="31"/>
                      </a:lnTo>
                      <a:lnTo>
                        <a:pt x="15" y="34"/>
                      </a:lnTo>
                      <a:lnTo>
                        <a:pt x="0" y="38"/>
                      </a:lnTo>
                      <a:lnTo>
                        <a:pt x="3" y="28"/>
                      </a:lnTo>
                      <a:lnTo>
                        <a:pt x="7" y="21"/>
                      </a:lnTo>
                      <a:lnTo>
                        <a:pt x="13" y="17"/>
                      </a:lnTo>
                      <a:lnTo>
                        <a:pt x="22" y="13"/>
                      </a:lnTo>
                      <a:lnTo>
                        <a:pt x="30" y="8"/>
                      </a:lnTo>
                      <a:lnTo>
                        <a:pt x="39" y="5"/>
                      </a:lnTo>
                      <a:lnTo>
                        <a:pt x="49" y="3"/>
                      </a:lnTo>
                      <a:lnTo>
                        <a:pt x="57" y="0"/>
                      </a:lnTo>
                      <a:lnTo>
                        <a:pt x="80" y="8"/>
                      </a:lnTo>
                      <a:lnTo>
                        <a:pt x="104" y="14"/>
                      </a:lnTo>
                      <a:lnTo>
                        <a:pt x="129" y="20"/>
                      </a:lnTo>
                      <a:lnTo>
                        <a:pt x="153" y="25"/>
                      </a:lnTo>
                      <a:lnTo>
                        <a:pt x="174" y="32"/>
                      </a:lnTo>
                      <a:lnTo>
                        <a:pt x="194" y="42"/>
                      </a:lnTo>
                      <a:lnTo>
                        <a:pt x="210" y="57"/>
                      </a:lnTo>
                      <a:lnTo>
                        <a:pt x="221" y="77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>
                  <a:off x="7548480" y="6010200"/>
                  <a:ext cx="191520" cy="61920"/>
                </a:xfrm>
                <a:custGeom>
                  <a:avLst/>
                  <a:gdLst/>
                  <a:ahLst/>
                  <a:rect l="l" t="t" r="r" b="b"/>
                  <a:pathLst>
                    <a:path w="243" h="78">
                      <a:moveTo>
                        <a:pt x="243" y="64"/>
                      </a:moveTo>
                      <a:lnTo>
                        <a:pt x="226" y="73"/>
                      </a:lnTo>
                      <a:lnTo>
                        <a:pt x="204" y="77"/>
                      </a:lnTo>
                      <a:lnTo>
                        <a:pt x="180" y="78"/>
                      </a:lnTo>
                      <a:lnTo>
                        <a:pt x="154" y="78"/>
                      </a:lnTo>
                      <a:lnTo>
                        <a:pt x="129" y="74"/>
                      </a:lnTo>
                      <a:lnTo>
                        <a:pt x="103" y="68"/>
                      </a:lnTo>
                      <a:lnTo>
                        <a:pt x="79" y="61"/>
                      </a:lnTo>
                      <a:lnTo>
                        <a:pt x="57" y="51"/>
                      </a:lnTo>
                      <a:lnTo>
                        <a:pt x="52" y="46"/>
                      </a:lnTo>
                      <a:lnTo>
                        <a:pt x="44" y="41"/>
                      </a:lnTo>
                      <a:lnTo>
                        <a:pt x="36" y="37"/>
                      </a:lnTo>
                      <a:lnTo>
                        <a:pt x="29" y="33"/>
                      </a:lnTo>
                      <a:lnTo>
                        <a:pt x="22" y="28"/>
                      </a:lnTo>
                      <a:lnTo>
                        <a:pt x="13" y="23"/>
                      </a:lnTo>
                      <a:lnTo>
                        <a:pt x="6" y="17"/>
                      </a:lnTo>
                      <a:lnTo>
                        <a:pt x="0" y="10"/>
                      </a:lnTo>
                      <a:lnTo>
                        <a:pt x="16" y="6"/>
                      </a:lnTo>
                      <a:lnTo>
                        <a:pt x="32" y="3"/>
                      </a:lnTo>
                      <a:lnTo>
                        <a:pt x="47" y="1"/>
                      </a:lnTo>
                      <a:lnTo>
                        <a:pt x="64" y="0"/>
                      </a:lnTo>
                      <a:lnTo>
                        <a:pt x="82" y="1"/>
                      </a:lnTo>
                      <a:lnTo>
                        <a:pt x="97" y="3"/>
                      </a:lnTo>
                      <a:lnTo>
                        <a:pt x="114" y="4"/>
                      </a:lnTo>
                      <a:lnTo>
                        <a:pt x="131" y="8"/>
                      </a:lnTo>
                      <a:lnTo>
                        <a:pt x="147" y="13"/>
                      </a:lnTo>
                      <a:lnTo>
                        <a:pt x="163" y="17"/>
                      </a:lnTo>
                      <a:lnTo>
                        <a:pt x="179" y="24"/>
                      </a:lnTo>
                      <a:lnTo>
                        <a:pt x="193" y="30"/>
                      </a:lnTo>
                      <a:lnTo>
                        <a:pt x="207" y="38"/>
                      </a:lnTo>
                      <a:lnTo>
                        <a:pt x="220" y="46"/>
                      </a:lnTo>
                      <a:lnTo>
                        <a:pt x="231" y="54"/>
                      </a:lnTo>
                      <a:lnTo>
                        <a:pt x="243" y="64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6852960" y="6056280"/>
                  <a:ext cx="18720" cy="34920"/>
                </a:xfrm>
                <a:custGeom>
                  <a:avLst/>
                  <a:gdLst/>
                  <a:ahLst/>
                  <a:rect l="l" t="t" r="r" b="b"/>
                  <a:pathLst>
                    <a:path w="24" h="45">
                      <a:moveTo>
                        <a:pt x="24" y="45"/>
                      </a:moveTo>
                      <a:lnTo>
                        <a:pt x="14" y="39"/>
                      </a:lnTo>
                      <a:lnTo>
                        <a:pt x="4" y="29"/>
                      </a:lnTo>
                      <a:lnTo>
                        <a:pt x="0" y="15"/>
                      </a:lnTo>
                      <a:lnTo>
                        <a:pt x="4" y="0"/>
                      </a:lnTo>
                      <a:lnTo>
                        <a:pt x="24" y="45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7125480" y="6078600"/>
                  <a:ext cx="172440" cy="25200"/>
                </a:xfrm>
                <a:custGeom>
                  <a:avLst/>
                  <a:gdLst/>
                  <a:ahLst/>
                  <a:rect l="l" t="t" r="r" b="b"/>
                  <a:pathLst>
                    <a:path w="218" h="33">
                      <a:moveTo>
                        <a:pt x="218" y="2"/>
                      </a:moveTo>
                      <a:lnTo>
                        <a:pt x="217" y="13"/>
                      </a:lnTo>
                      <a:lnTo>
                        <a:pt x="212" y="22"/>
                      </a:lnTo>
                      <a:lnTo>
                        <a:pt x="205" y="25"/>
                      </a:lnTo>
                      <a:lnTo>
                        <a:pt x="195" y="26"/>
                      </a:lnTo>
                      <a:lnTo>
                        <a:pt x="184" y="28"/>
                      </a:lnTo>
                      <a:lnTo>
                        <a:pt x="174" y="28"/>
                      </a:lnTo>
                      <a:lnTo>
                        <a:pt x="162" y="28"/>
                      </a:lnTo>
                      <a:lnTo>
                        <a:pt x="154" y="30"/>
                      </a:lnTo>
                      <a:lnTo>
                        <a:pt x="135" y="30"/>
                      </a:lnTo>
                      <a:lnTo>
                        <a:pt x="115" y="30"/>
                      </a:lnTo>
                      <a:lnTo>
                        <a:pt x="97" y="32"/>
                      </a:lnTo>
                      <a:lnTo>
                        <a:pt x="77" y="33"/>
                      </a:lnTo>
                      <a:lnTo>
                        <a:pt x="58" y="33"/>
                      </a:lnTo>
                      <a:lnTo>
                        <a:pt x="38" y="33"/>
                      </a:lnTo>
                      <a:lnTo>
                        <a:pt x="20" y="30"/>
                      </a:lnTo>
                      <a:lnTo>
                        <a:pt x="0" y="25"/>
                      </a:lnTo>
                      <a:lnTo>
                        <a:pt x="27" y="18"/>
                      </a:lnTo>
                      <a:lnTo>
                        <a:pt x="54" y="10"/>
                      </a:lnTo>
                      <a:lnTo>
                        <a:pt x="81" y="6"/>
                      </a:lnTo>
                      <a:lnTo>
                        <a:pt x="108" y="3"/>
                      </a:lnTo>
                      <a:lnTo>
                        <a:pt x="135" y="2"/>
                      </a:lnTo>
                      <a:lnTo>
                        <a:pt x="162" y="0"/>
                      </a:lnTo>
                      <a:lnTo>
                        <a:pt x="190" y="0"/>
                      </a:lnTo>
                      <a:lnTo>
                        <a:pt x="218" y="2"/>
                      </a:lnTo>
                      <a:close/>
                    </a:path>
                  </a:pathLst>
                </a:custGeom>
                <a:solidFill>
                  <a:srgbClr val="7f2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6321240" y="6146640"/>
                  <a:ext cx="142560" cy="43200"/>
                </a:xfrm>
                <a:custGeom>
                  <a:avLst/>
                  <a:gdLst/>
                  <a:ahLst/>
                  <a:rect l="l" t="t" r="r" b="b"/>
                  <a:pathLst>
                    <a:path w="178" h="52">
                      <a:moveTo>
                        <a:pt x="178" y="0"/>
                      </a:moveTo>
                      <a:lnTo>
                        <a:pt x="165" y="14"/>
                      </a:lnTo>
                      <a:lnTo>
                        <a:pt x="150" y="25"/>
                      </a:lnTo>
                      <a:lnTo>
                        <a:pt x="131" y="37"/>
                      </a:lnTo>
                      <a:lnTo>
                        <a:pt x="111" y="45"/>
                      </a:lnTo>
                      <a:lnTo>
                        <a:pt x="88" y="51"/>
                      </a:lnTo>
                      <a:lnTo>
                        <a:pt x="66" y="52"/>
                      </a:lnTo>
                      <a:lnTo>
                        <a:pt x="43" y="51"/>
                      </a:lnTo>
                      <a:lnTo>
                        <a:pt x="19" y="45"/>
                      </a:lnTo>
                      <a:lnTo>
                        <a:pt x="11" y="42"/>
                      </a:lnTo>
                      <a:lnTo>
                        <a:pt x="4" y="38"/>
                      </a:lnTo>
                      <a:lnTo>
                        <a:pt x="0" y="32"/>
                      </a:lnTo>
                      <a:lnTo>
                        <a:pt x="1" y="22"/>
                      </a:lnTo>
                      <a:lnTo>
                        <a:pt x="23" y="19"/>
                      </a:lnTo>
                      <a:lnTo>
                        <a:pt x="46" y="17"/>
                      </a:lnTo>
                      <a:lnTo>
                        <a:pt x="67" y="12"/>
                      </a:lnTo>
                      <a:lnTo>
                        <a:pt x="88" y="8"/>
                      </a:lnTo>
                      <a:lnTo>
                        <a:pt x="111" y="5"/>
                      </a:lnTo>
                      <a:lnTo>
                        <a:pt x="133" y="2"/>
                      </a:lnTo>
                      <a:lnTo>
                        <a:pt x="156" y="1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f2e8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3192480" y="5867280"/>
                <a:ext cx="2674800" cy="546120"/>
                <a:chOff x="3192480" y="5867280"/>
                <a:chExt cx="2674800" cy="546120"/>
              </a:xfrm>
            </p:grpSpPr>
            <p:grpSp>
              <p:nvGrpSpPr>
                <p:cNvPr id="1015" name=""/>
                <p:cNvGrpSpPr/>
                <p:nvPr/>
              </p:nvGrpSpPr>
              <p:grpSpPr>
                <a:xfrm>
                  <a:off x="3192480" y="6248520"/>
                  <a:ext cx="2674800" cy="164880"/>
                  <a:chOff x="3192480" y="6248520"/>
                  <a:chExt cx="2674800" cy="16488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209760" y="6330960"/>
                    <a:ext cx="2657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V="1">
                    <a:off x="58672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V="1">
                    <a:off x="3192480" y="6248520"/>
                    <a:ext cx="0" cy="164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9" name=""/>
                <p:cNvSpPr/>
                <p:nvPr/>
              </p:nvSpPr>
              <p:spPr>
                <a:xfrm>
                  <a:off x="3616200" y="5867280"/>
                  <a:ext cx="1827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50 mile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0920" y="4581360"/>
                <a:ext cx="1973160" cy="171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666880" y="2635200"/>
            <a:ext cx="1752840" cy="1800720"/>
            <a:chOff x="2666880" y="2635200"/>
            <a:chExt cx="1752840" cy="1800720"/>
          </a:xfrm>
        </p:grpSpPr>
        <p:sp>
          <p:nvSpPr>
            <p:cNvPr id="1023" name=""/>
            <p:cNvSpPr/>
            <p:nvPr/>
          </p:nvSpPr>
          <p:spPr>
            <a:xfrm>
              <a:off x="2666880" y="263520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0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666880" y="3244680"/>
              <a:ext cx="1752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 mp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143680" y="2635200"/>
            <a:ext cx="457200" cy="1252080"/>
            <a:chOff x="5143680" y="2635200"/>
            <a:chExt cx="457200" cy="1252080"/>
          </a:xfrm>
        </p:grpSpPr>
        <p:sp>
          <p:nvSpPr>
            <p:cNvPr id="1026" name=""/>
            <p:cNvSpPr/>
            <p:nvPr/>
          </p:nvSpPr>
          <p:spPr>
            <a:xfrm>
              <a:off x="5143680" y="2635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43680" y="32446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6858000" y="2635200"/>
            <a:ext cx="1066680" cy="1252080"/>
            <a:chOff x="6858000" y="2635200"/>
            <a:chExt cx="1066680" cy="1252080"/>
          </a:xfrm>
        </p:grpSpPr>
        <p:sp>
          <p:nvSpPr>
            <p:cNvPr id="1029" name=""/>
            <p:cNvSpPr/>
            <p:nvPr/>
          </p:nvSpPr>
          <p:spPr>
            <a:xfrm>
              <a:off x="6858000" y="26352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0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58000" y="3244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609480" y="1447920"/>
            <a:ext cx="7848720" cy="2439360"/>
            <a:chOff x="609480" y="1447920"/>
            <a:chExt cx="7848720" cy="2439360"/>
          </a:xfrm>
        </p:grpSpPr>
        <p:sp>
          <p:nvSpPr>
            <p:cNvPr id="1032" name=""/>
            <p:cNvSpPr/>
            <p:nvPr/>
          </p:nvSpPr>
          <p:spPr>
            <a:xfrm>
              <a:off x="609480" y="1996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33640" y="1996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419720" y="14479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me (hours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24480" y="19969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st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09480" y="2635200"/>
              <a:ext cx="784872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257480" y="26352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9480" y="3276360"/>
              <a:ext cx="784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57480" y="32446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609480" y="3870000"/>
              <a:ext cx="784872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666880" y="14479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41972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32448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458200" y="1447920"/>
              <a:ext cx="0" cy="242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9480" y="14479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09480" y="1447920"/>
              <a:ext cx="784872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3619440" y="4006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 = r •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4844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= 250 m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743200" y="5683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0t + 50t = 2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276720" y="2743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0t = 2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752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0t + 50t = 2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143160" y="5059440"/>
            <a:ext cx="2800440" cy="1114560"/>
            <a:chOff x="3143160" y="5059440"/>
            <a:chExt cx="2800440" cy="1114560"/>
          </a:xfrm>
        </p:grpSpPr>
        <p:sp>
          <p:nvSpPr>
            <p:cNvPr id="1054" name=""/>
            <p:cNvSpPr/>
            <p:nvPr/>
          </p:nvSpPr>
          <p:spPr>
            <a:xfrm>
              <a:off x="3143160" y="529596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019400" y="505944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28960" y="55926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924360" y="5607000"/>
              <a:ext cx="571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95680" y="52959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hou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906640" y="3657600"/>
            <a:ext cx="1866960" cy="1114920"/>
            <a:chOff x="2906640" y="3657600"/>
            <a:chExt cx="1866960" cy="1114920"/>
          </a:xfrm>
        </p:grpSpPr>
        <p:sp>
          <p:nvSpPr>
            <p:cNvPr id="1060" name=""/>
            <p:cNvSpPr/>
            <p:nvPr/>
          </p:nvSpPr>
          <p:spPr>
            <a:xfrm>
              <a:off x="2906640" y="38941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3782880" y="3657600"/>
              <a:ext cx="990720" cy="1114920"/>
              <a:chOff x="3782880" y="3657600"/>
              <a:chExt cx="990720" cy="1114920"/>
            </a:xfrm>
          </p:grpSpPr>
          <p:sp>
            <p:nvSpPr>
              <p:cNvPr id="1062" name=""/>
              <p:cNvSpPr/>
              <p:nvPr/>
            </p:nvSpPr>
            <p:spPr>
              <a:xfrm>
                <a:off x="3801960" y="3657600"/>
                <a:ext cx="95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5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782880" y="4191120"/>
                <a:ext cx="9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868560" y="4190760"/>
                <a:ext cx="819360" cy="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5" name=""/>
          <p:cNvGrpSpPr/>
          <p:nvPr/>
        </p:nvGrpSpPr>
        <p:grpSpPr>
          <a:xfrm>
            <a:off x="4811760" y="3657600"/>
            <a:ext cx="1360440" cy="1114920"/>
            <a:chOff x="4811760" y="3657600"/>
            <a:chExt cx="1360440" cy="1114920"/>
          </a:xfrm>
        </p:grpSpPr>
        <p:sp>
          <p:nvSpPr>
            <p:cNvPr id="1066" name=""/>
            <p:cNvSpPr/>
            <p:nvPr/>
          </p:nvSpPr>
          <p:spPr>
            <a:xfrm>
              <a:off x="4811760" y="38862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5345280" y="3657600"/>
              <a:ext cx="826920" cy="1114920"/>
              <a:chOff x="5345280" y="3657600"/>
              <a:chExt cx="826920" cy="1114920"/>
            </a:xfrm>
          </p:grpSpPr>
          <p:sp>
            <p:nvSpPr>
              <p:cNvPr id="1068" name=""/>
              <p:cNvSpPr/>
              <p:nvPr/>
            </p:nvSpPr>
            <p:spPr>
              <a:xfrm>
                <a:off x="5361120" y="3657600"/>
                <a:ext cx="794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345280" y="4191120"/>
                <a:ext cx="82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5416560" y="4190760"/>
                <a:ext cx="683640" cy="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0" y="17971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understoo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86000" y="2755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hour = 60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790640" y="3732120"/>
            <a:ext cx="3124440" cy="1427760"/>
            <a:chOff x="1790640" y="3732120"/>
            <a:chExt cx="3124440" cy="1427760"/>
          </a:xfrm>
        </p:grpSpPr>
        <p:grpSp>
          <p:nvGrpSpPr>
            <p:cNvPr id="1075" name=""/>
            <p:cNvGrpSpPr/>
            <p:nvPr/>
          </p:nvGrpSpPr>
          <p:grpSpPr>
            <a:xfrm>
              <a:off x="1790640" y="3732120"/>
              <a:ext cx="761760" cy="1114920"/>
              <a:chOff x="1790640" y="3732120"/>
              <a:chExt cx="761760" cy="1114920"/>
            </a:xfrm>
          </p:grpSpPr>
          <p:sp>
            <p:nvSpPr>
              <p:cNvPr id="1076" name=""/>
              <p:cNvSpPr/>
              <p:nvPr/>
            </p:nvSpPr>
            <p:spPr>
              <a:xfrm>
                <a:off x="1981080" y="373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0640" y="42656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885680" y="42796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>
              <a:off x="2552760" y="39686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f an hou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4915080" y="3732120"/>
            <a:ext cx="2476440" cy="1114920"/>
            <a:chOff x="4915080" y="3732120"/>
            <a:chExt cx="2476440" cy="1114920"/>
          </a:xfrm>
        </p:grpSpPr>
        <p:sp>
          <p:nvSpPr>
            <p:cNvPr id="1081" name=""/>
            <p:cNvSpPr/>
            <p:nvPr/>
          </p:nvSpPr>
          <p:spPr>
            <a:xfrm>
              <a:off x="4915080" y="3968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5448240" y="3732120"/>
              <a:ext cx="761760" cy="1114920"/>
              <a:chOff x="5448240" y="3732120"/>
              <a:chExt cx="761760" cy="1114920"/>
            </a:xfrm>
          </p:grpSpPr>
          <p:sp>
            <p:nvSpPr>
              <p:cNvPr id="1083" name=""/>
              <p:cNvSpPr/>
              <p:nvPr/>
            </p:nvSpPr>
            <p:spPr>
              <a:xfrm>
                <a:off x="5638680" y="373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448240" y="426564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43280" y="4279680"/>
                <a:ext cx="5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>
              <a:off x="6134040" y="3968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6667560" y="3732120"/>
              <a:ext cx="723960" cy="1114560"/>
              <a:chOff x="6667560" y="3732120"/>
              <a:chExt cx="723960" cy="1114560"/>
            </a:xfrm>
          </p:grpSpPr>
          <p:sp>
            <p:nvSpPr>
              <p:cNvPr id="1088" name=""/>
              <p:cNvSpPr/>
              <p:nvPr/>
            </p:nvSpPr>
            <p:spPr>
              <a:xfrm>
                <a:off x="6667560" y="3732120"/>
                <a:ext cx="723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91400" y="426528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743880" y="4279680"/>
                <a:ext cx="571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1" name=""/>
          <p:cNvSpPr/>
          <p:nvPr/>
        </p:nvSpPr>
        <p:spPr>
          <a:xfrm>
            <a:off x="3352680" y="5149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752480" y="7002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371600" y="2819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y will be 250 miles apart i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 hours and 5 minut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07600" y="4581360"/>
            <a:ext cx="8128800" cy="1832040"/>
            <a:chOff x="507600" y="4581360"/>
            <a:chExt cx="8128800" cy="1832040"/>
          </a:xfrm>
        </p:grpSpPr>
        <p:sp>
          <p:nvSpPr>
            <p:cNvPr id="1095" name=""/>
            <p:cNvSpPr/>
            <p:nvPr/>
          </p:nvSpPr>
          <p:spPr>
            <a:xfrm>
              <a:off x="507600" y="464832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50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87760" y="4648320"/>
              <a:ext cx="144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0 mp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1150920" y="4581360"/>
              <a:ext cx="6773400" cy="1832040"/>
              <a:chOff x="1150920" y="4581360"/>
              <a:chExt cx="6773400" cy="1832040"/>
            </a:xfrm>
          </p:grpSpPr>
          <p:sp>
            <p:nvSpPr>
              <p:cNvPr id="1098" name=""/>
              <p:cNvSpPr/>
              <p:nvPr/>
            </p:nvSpPr>
            <p:spPr>
              <a:xfrm flipH="1">
                <a:off x="6356520" y="56293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0" y="2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2e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1150920" y="4581360"/>
                <a:ext cx="6773400" cy="1832040"/>
                <a:chOff x="1150920" y="4581360"/>
                <a:chExt cx="6773400" cy="1832040"/>
              </a:xfrm>
            </p:grpSpPr>
            <p:grpSp>
              <p:nvGrpSpPr>
                <p:cNvPr id="1100" name=""/>
                <p:cNvGrpSpPr/>
                <p:nvPr/>
              </p:nvGrpSpPr>
              <p:grpSpPr>
                <a:xfrm>
                  <a:off x="5957640" y="4583160"/>
                  <a:ext cx="1966680" cy="1719360"/>
                  <a:chOff x="5957640" y="4583160"/>
                  <a:chExt cx="1966680" cy="171936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 flipH="1">
                    <a:off x="6537960" y="5159520"/>
                    <a:ext cx="8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37">
                        <a:moveTo>
                          <a:pt x="0" y="94"/>
                        </a:moveTo>
                        <a:lnTo>
                          <a:pt x="47" y="0"/>
                        </a:lnTo>
                        <a:lnTo>
                          <a:pt x="107" y="17"/>
                        </a:lnTo>
                        <a:lnTo>
                          <a:pt x="56" y="137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>
                    <a:off x="6266520" y="6060960"/>
                    <a:ext cx="202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137">
                        <a:moveTo>
                          <a:pt x="37" y="37"/>
                        </a:moveTo>
                        <a:lnTo>
                          <a:pt x="26" y="51"/>
                        </a:lnTo>
                        <a:lnTo>
                          <a:pt x="15" y="69"/>
                        </a:lnTo>
                        <a:lnTo>
                          <a:pt x="5" y="86"/>
                        </a:lnTo>
                        <a:lnTo>
                          <a:pt x="0" y="101"/>
                        </a:lnTo>
                        <a:lnTo>
                          <a:pt x="2" y="117"/>
                        </a:lnTo>
                        <a:lnTo>
                          <a:pt x="12" y="128"/>
                        </a:lnTo>
                        <a:lnTo>
                          <a:pt x="32" y="136"/>
                        </a:lnTo>
                        <a:lnTo>
                          <a:pt x="63" y="137"/>
                        </a:lnTo>
                        <a:lnTo>
                          <a:pt x="100" y="134"/>
                        </a:lnTo>
                        <a:lnTo>
                          <a:pt x="135" y="130"/>
                        </a:lnTo>
                        <a:lnTo>
                          <a:pt x="165" y="124"/>
                        </a:lnTo>
                        <a:lnTo>
                          <a:pt x="192" y="114"/>
                        </a:lnTo>
                        <a:lnTo>
                          <a:pt x="214" y="100"/>
                        </a:lnTo>
                        <a:lnTo>
                          <a:pt x="233" y="81"/>
                        </a:lnTo>
                        <a:lnTo>
                          <a:pt x="247" y="59"/>
                        </a:lnTo>
                        <a:lnTo>
                          <a:pt x="256" y="29"/>
                        </a:lnTo>
                        <a:lnTo>
                          <a:pt x="234" y="17"/>
                        </a:lnTo>
                        <a:lnTo>
                          <a:pt x="207" y="9"/>
                        </a:lnTo>
                        <a:lnTo>
                          <a:pt x="177" y="3"/>
                        </a:lnTo>
                        <a:lnTo>
                          <a:pt x="145" y="0"/>
                        </a:lnTo>
                        <a:lnTo>
                          <a:pt x="113" y="3"/>
                        </a:lnTo>
                        <a:lnTo>
                          <a:pt x="83" y="9"/>
                        </a:lnTo>
                        <a:lnTo>
                          <a:pt x="57" y="20"/>
                        </a:lnTo>
                        <a:lnTo>
                          <a:pt x="37" y="3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992560" y="4583160"/>
                    <a:ext cx="1931760" cy="171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35" h="2166">
                        <a:moveTo>
                          <a:pt x="2236" y="1455"/>
                        </a:moveTo>
                        <a:lnTo>
                          <a:pt x="2221" y="1453"/>
                        </a:lnTo>
                        <a:lnTo>
                          <a:pt x="2205" y="1448"/>
                        </a:lnTo>
                        <a:lnTo>
                          <a:pt x="2189" y="1443"/>
                        </a:lnTo>
                        <a:lnTo>
                          <a:pt x="2173" y="1437"/>
                        </a:lnTo>
                        <a:lnTo>
                          <a:pt x="2156" y="1431"/>
                        </a:lnTo>
                        <a:lnTo>
                          <a:pt x="2141" y="1427"/>
                        </a:lnTo>
                        <a:lnTo>
                          <a:pt x="2125" y="1424"/>
                        </a:lnTo>
                        <a:lnTo>
                          <a:pt x="2109" y="1424"/>
                        </a:lnTo>
                        <a:lnTo>
                          <a:pt x="2116" y="1443"/>
                        </a:lnTo>
                        <a:lnTo>
                          <a:pt x="2122" y="1464"/>
                        </a:lnTo>
                        <a:lnTo>
                          <a:pt x="2128" y="1487"/>
                        </a:lnTo>
                        <a:lnTo>
                          <a:pt x="2135" y="1508"/>
                        </a:lnTo>
                        <a:lnTo>
                          <a:pt x="2142" y="1530"/>
                        </a:lnTo>
                        <a:lnTo>
                          <a:pt x="2152" y="1550"/>
                        </a:lnTo>
                        <a:lnTo>
                          <a:pt x="2165" y="1567"/>
                        </a:lnTo>
                        <a:lnTo>
                          <a:pt x="2182" y="1580"/>
                        </a:lnTo>
                        <a:lnTo>
                          <a:pt x="2192" y="1591"/>
                        </a:lnTo>
                        <a:lnTo>
                          <a:pt x="2198" y="1607"/>
                        </a:lnTo>
                        <a:lnTo>
                          <a:pt x="2201" y="1624"/>
                        </a:lnTo>
                        <a:lnTo>
                          <a:pt x="2203" y="1641"/>
                        </a:lnTo>
                        <a:lnTo>
                          <a:pt x="2206" y="1657"/>
                        </a:lnTo>
                        <a:lnTo>
                          <a:pt x="2215" y="1668"/>
                        </a:lnTo>
                        <a:lnTo>
                          <a:pt x="2228" y="1674"/>
                        </a:lnTo>
                        <a:lnTo>
                          <a:pt x="2249" y="1671"/>
                        </a:lnTo>
                        <a:lnTo>
                          <a:pt x="2258" y="1671"/>
                        </a:lnTo>
                        <a:lnTo>
                          <a:pt x="2268" y="1672"/>
                        </a:lnTo>
                        <a:lnTo>
                          <a:pt x="2275" y="1677"/>
                        </a:lnTo>
                        <a:lnTo>
                          <a:pt x="2278" y="1685"/>
                        </a:lnTo>
                        <a:lnTo>
                          <a:pt x="2271" y="1691"/>
                        </a:lnTo>
                        <a:lnTo>
                          <a:pt x="2262" y="1694"/>
                        </a:lnTo>
                        <a:lnTo>
                          <a:pt x="2252" y="1695"/>
                        </a:lnTo>
                        <a:lnTo>
                          <a:pt x="2242" y="1695"/>
                        </a:lnTo>
                        <a:lnTo>
                          <a:pt x="2232" y="1695"/>
                        </a:lnTo>
                        <a:lnTo>
                          <a:pt x="2222" y="1695"/>
                        </a:lnTo>
                        <a:lnTo>
                          <a:pt x="2212" y="1695"/>
                        </a:lnTo>
                        <a:lnTo>
                          <a:pt x="2205" y="1698"/>
                        </a:lnTo>
                        <a:lnTo>
                          <a:pt x="2203" y="1717"/>
                        </a:lnTo>
                        <a:lnTo>
                          <a:pt x="2202" y="1738"/>
                        </a:lnTo>
                        <a:lnTo>
                          <a:pt x="2198" y="1758"/>
                        </a:lnTo>
                        <a:lnTo>
                          <a:pt x="2189" y="1775"/>
                        </a:lnTo>
                        <a:lnTo>
                          <a:pt x="2183" y="1796"/>
                        </a:lnTo>
                        <a:lnTo>
                          <a:pt x="2175" y="1819"/>
                        </a:lnTo>
                        <a:lnTo>
                          <a:pt x="2165" y="1842"/>
                        </a:lnTo>
                        <a:lnTo>
                          <a:pt x="2151" y="1862"/>
                        </a:lnTo>
                        <a:lnTo>
                          <a:pt x="2139" y="1862"/>
                        </a:lnTo>
                        <a:lnTo>
                          <a:pt x="2128" y="1866"/>
                        </a:lnTo>
                        <a:lnTo>
                          <a:pt x="2119" y="1872"/>
                        </a:lnTo>
                        <a:lnTo>
                          <a:pt x="2109" y="1881"/>
                        </a:lnTo>
                        <a:lnTo>
                          <a:pt x="2101" y="1889"/>
                        </a:lnTo>
                        <a:lnTo>
                          <a:pt x="2092" y="1898"/>
                        </a:lnTo>
                        <a:lnTo>
                          <a:pt x="2084" y="1905"/>
                        </a:lnTo>
                        <a:lnTo>
                          <a:pt x="2074" y="1911"/>
                        </a:lnTo>
                        <a:lnTo>
                          <a:pt x="2066" y="1898"/>
                        </a:lnTo>
                        <a:lnTo>
                          <a:pt x="2038" y="1901"/>
                        </a:lnTo>
                        <a:lnTo>
                          <a:pt x="2008" y="1903"/>
                        </a:lnTo>
                        <a:lnTo>
                          <a:pt x="1979" y="1906"/>
                        </a:lnTo>
                        <a:lnTo>
                          <a:pt x="1951" y="1912"/>
                        </a:lnTo>
                        <a:lnTo>
                          <a:pt x="1924" y="1918"/>
                        </a:lnTo>
                        <a:lnTo>
                          <a:pt x="1897" y="1928"/>
                        </a:lnTo>
                        <a:lnTo>
                          <a:pt x="1871" y="1941"/>
                        </a:lnTo>
                        <a:lnTo>
                          <a:pt x="1847" y="1958"/>
                        </a:lnTo>
                        <a:lnTo>
                          <a:pt x="1847" y="1971"/>
                        </a:lnTo>
                        <a:lnTo>
                          <a:pt x="1872" y="1969"/>
                        </a:lnTo>
                        <a:lnTo>
                          <a:pt x="1898" y="1966"/>
                        </a:lnTo>
                        <a:lnTo>
                          <a:pt x="1924" y="1963"/>
                        </a:lnTo>
                        <a:lnTo>
                          <a:pt x="1949" y="1959"/>
                        </a:lnTo>
                        <a:lnTo>
                          <a:pt x="1974" y="1955"/>
                        </a:lnTo>
                        <a:lnTo>
                          <a:pt x="1999" y="1952"/>
                        </a:lnTo>
                        <a:lnTo>
                          <a:pt x="2025" y="1948"/>
                        </a:lnTo>
                        <a:lnTo>
                          <a:pt x="2051" y="1945"/>
                        </a:lnTo>
                        <a:lnTo>
                          <a:pt x="2074" y="1923"/>
                        </a:lnTo>
                        <a:lnTo>
                          <a:pt x="2076" y="1932"/>
                        </a:lnTo>
                        <a:lnTo>
                          <a:pt x="2198" y="1919"/>
                        </a:lnTo>
                        <a:lnTo>
                          <a:pt x="2202" y="1902"/>
                        </a:lnTo>
                        <a:lnTo>
                          <a:pt x="2203" y="1885"/>
                        </a:lnTo>
                        <a:lnTo>
                          <a:pt x="2202" y="1868"/>
                        </a:lnTo>
                        <a:lnTo>
                          <a:pt x="2202" y="1849"/>
                        </a:lnTo>
                        <a:lnTo>
                          <a:pt x="2209" y="1844"/>
                        </a:lnTo>
                        <a:lnTo>
                          <a:pt x="2218" y="1838"/>
                        </a:lnTo>
                        <a:lnTo>
                          <a:pt x="2225" y="1831"/>
                        </a:lnTo>
                        <a:lnTo>
                          <a:pt x="2232" y="1825"/>
                        </a:lnTo>
                        <a:lnTo>
                          <a:pt x="2239" y="1821"/>
                        </a:lnTo>
                        <a:lnTo>
                          <a:pt x="2248" y="1816"/>
                        </a:lnTo>
                        <a:lnTo>
                          <a:pt x="2256" y="1816"/>
                        </a:lnTo>
                        <a:lnTo>
                          <a:pt x="2265" y="1818"/>
                        </a:lnTo>
                        <a:lnTo>
                          <a:pt x="2259" y="1832"/>
                        </a:lnTo>
                        <a:lnTo>
                          <a:pt x="2251" y="1841"/>
                        </a:lnTo>
                        <a:lnTo>
                          <a:pt x="2242" y="1848"/>
                        </a:lnTo>
                        <a:lnTo>
                          <a:pt x="2232" y="1854"/>
                        </a:lnTo>
                        <a:lnTo>
                          <a:pt x="2225" y="1861"/>
                        </a:lnTo>
                        <a:lnTo>
                          <a:pt x="2219" y="1869"/>
                        </a:lnTo>
                        <a:lnTo>
                          <a:pt x="2218" y="1881"/>
                        </a:lnTo>
                        <a:lnTo>
                          <a:pt x="2221" y="1898"/>
                        </a:lnTo>
                        <a:lnTo>
                          <a:pt x="2231" y="1905"/>
                        </a:lnTo>
                        <a:lnTo>
                          <a:pt x="2241" y="1909"/>
                        </a:lnTo>
                        <a:lnTo>
                          <a:pt x="2252" y="1911"/>
                        </a:lnTo>
                        <a:lnTo>
                          <a:pt x="2265" y="1911"/>
                        </a:lnTo>
                        <a:lnTo>
                          <a:pt x="2276" y="1908"/>
                        </a:lnTo>
                        <a:lnTo>
                          <a:pt x="2289" y="1905"/>
                        </a:lnTo>
                        <a:lnTo>
                          <a:pt x="2300" y="1901"/>
                        </a:lnTo>
                        <a:lnTo>
                          <a:pt x="2310" y="1898"/>
                        </a:lnTo>
                        <a:lnTo>
                          <a:pt x="2315" y="1905"/>
                        </a:lnTo>
                        <a:lnTo>
                          <a:pt x="2320" y="1909"/>
                        </a:lnTo>
                        <a:lnTo>
                          <a:pt x="2325" y="1915"/>
                        </a:lnTo>
                        <a:lnTo>
                          <a:pt x="2320" y="1923"/>
                        </a:lnTo>
                        <a:lnTo>
                          <a:pt x="2300" y="1931"/>
                        </a:lnTo>
                        <a:lnTo>
                          <a:pt x="2280" y="1935"/>
                        </a:lnTo>
                        <a:lnTo>
                          <a:pt x="2259" y="1939"/>
                        </a:lnTo>
                        <a:lnTo>
                          <a:pt x="2236" y="1942"/>
                        </a:lnTo>
                        <a:lnTo>
                          <a:pt x="2213" y="1943"/>
                        </a:lnTo>
                        <a:lnTo>
                          <a:pt x="2192" y="1946"/>
                        </a:lnTo>
                        <a:lnTo>
                          <a:pt x="2169" y="1948"/>
                        </a:lnTo>
                        <a:lnTo>
                          <a:pt x="2148" y="1949"/>
                        </a:lnTo>
                        <a:lnTo>
                          <a:pt x="2125" y="1952"/>
                        </a:lnTo>
                        <a:lnTo>
                          <a:pt x="2105" y="1956"/>
                        </a:lnTo>
                        <a:lnTo>
                          <a:pt x="2084" y="1962"/>
                        </a:lnTo>
                        <a:lnTo>
                          <a:pt x="2065" y="1969"/>
                        </a:lnTo>
                        <a:lnTo>
                          <a:pt x="2048" y="1978"/>
                        </a:lnTo>
                        <a:lnTo>
                          <a:pt x="2031" y="1990"/>
                        </a:lnTo>
                        <a:lnTo>
                          <a:pt x="2016" y="2005"/>
                        </a:lnTo>
                        <a:lnTo>
                          <a:pt x="2004" y="2022"/>
                        </a:lnTo>
                        <a:lnTo>
                          <a:pt x="1988" y="2033"/>
                        </a:lnTo>
                        <a:lnTo>
                          <a:pt x="1971" y="2042"/>
                        </a:lnTo>
                        <a:lnTo>
                          <a:pt x="1951" y="2049"/>
                        </a:lnTo>
                        <a:lnTo>
                          <a:pt x="1931" y="2053"/>
                        </a:lnTo>
                        <a:lnTo>
                          <a:pt x="1911" y="2053"/>
                        </a:lnTo>
                        <a:lnTo>
                          <a:pt x="1889" y="2052"/>
                        </a:lnTo>
                        <a:lnTo>
                          <a:pt x="1869" y="2046"/>
                        </a:lnTo>
                        <a:lnTo>
                          <a:pt x="1850" y="2038"/>
                        </a:lnTo>
                        <a:lnTo>
                          <a:pt x="1798" y="2000"/>
                        </a:lnTo>
                        <a:lnTo>
                          <a:pt x="1770" y="1978"/>
                        </a:lnTo>
                        <a:lnTo>
                          <a:pt x="1777" y="1975"/>
                        </a:lnTo>
                        <a:lnTo>
                          <a:pt x="1781" y="1971"/>
                        </a:lnTo>
                        <a:lnTo>
                          <a:pt x="1782" y="1965"/>
                        </a:lnTo>
                        <a:lnTo>
                          <a:pt x="1782" y="1958"/>
                        </a:lnTo>
                        <a:lnTo>
                          <a:pt x="1778" y="1932"/>
                        </a:lnTo>
                        <a:lnTo>
                          <a:pt x="1764" y="1916"/>
                        </a:lnTo>
                        <a:lnTo>
                          <a:pt x="1745" y="1908"/>
                        </a:lnTo>
                        <a:lnTo>
                          <a:pt x="1721" y="1905"/>
                        </a:lnTo>
                        <a:lnTo>
                          <a:pt x="1694" y="1905"/>
                        </a:lnTo>
                        <a:lnTo>
                          <a:pt x="1668" y="1906"/>
                        </a:lnTo>
                        <a:lnTo>
                          <a:pt x="1644" y="1905"/>
                        </a:lnTo>
                        <a:lnTo>
                          <a:pt x="1623" y="1899"/>
                        </a:lnTo>
                        <a:lnTo>
                          <a:pt x="1608" y="1902"/>
                        </a:lnTo>
                        <a:lnTo>
                          <a:pt x="1597" y="1909"/>
                        </a:lnTo>
                        <a:lnTo>
                          <a:pt x="1588" y="1919"/>
                        </a:lnTo>
                        <a:lnTo>
                          <a:pt x="1581" y="1929"/>
                        </a:lnTo>
                        <a:lnTo>
                          <a:pt x="1576" y="1942"/>
                        </a:lnTo>
                        <a:lnTo>
                          <a:pt x="1570" y="1953"/>
                        </a:lnTo>
                        <a:lnTo>
                          <a:pt x="1564" y="1965"/>
                        </a:lnTo>
                        <a:lnTo>
                          <a:pt x="1557" y="1975"/>
                        </a:lnTo>
                        <a:lnTo>
                          <a:pt x="1550" y="1981"/>
                        </a:lnTo>
                        <a:lnTo>
                          <a:pt x="1543" y="1992"/>
                        </a:lnTo>
                        <a:lnTo>
                          <a:pt x="1536" y="2005"/>
                        </a:lnTo>
                        <a:lnTo>
                          <a:pt x="1527" y="2016"/>
                        </a:lnTo>
                        <a:lnTo>
                          <a:pt x="1541" y="2012"/>
                        </a:lnTo>
                        <a:lnTo>
                          <a:pt x="1556" y="2009"/>
                        </a:lnTo>
                        <a:lnTo>
                          <a:pt x="1570" y="2006"/>
                        </a:lnTo>
                        <a:lnTo>
                          <a:pt x="1586" y="2003"/>
                        </a:lnTo>
                        <a:lnTo>
                          <a:pt x="1600" y="2000"/>
                        </a:lnTo>
                        <a:lnTo>
                          <a:pt x="1614" y="1998"/>
                        </a:lnTo>
                        <a:lnTo>
                          <a:pt x="1630" y="1995"/>
                        </a:lnTo>
                        <a:lnTo>
                          <a:pt x="1644" y="1993"/>
                        </a:lnTo>
                        <a:lnTo>
                          <a:pt x="1660" y="1990"/>
                        </a:lnTo>
                        <a:lnTo>
                          <a:pt x="1674" y="1989"/>
                        </a:lnTo>
                        <a:lnTo>
                          <a:pt x="1690" y="1988"/>
                        </a:lnTo>
                        <a:lnTo>
                          <a:pt x="1705" y="1985"/>
                        </a:lnTo>
                        <a:lnTo>
                          <a:pt x="1721" y="1983"/>
                        </a:lnTo>
                        <a:lnTo>
                          <a:pt x="1737" y="1982"/>
                        </a:lnTo>
                        <a:lnTo>
                          <a:pt x="1752" y="1979"/>
                        </a:lnTo>
                        <a:lnTo>
                          <a:pt x="1770" y="1978"/>
                        </a:lnTo>
                        <a:lnTo>
                          <a:pt x="1798" y="2000"/>
                        </a:lnTo>
                        <a:lnTo>
                          <a:pt x="1771" y="2006"/>
                        </a:lnTo>
                        <a:lnTo>
                          <a:pt x="1742" y="2010"/>
                        </a:lnTo>
                        <a:lnTo>
                          <a:pt x="1715" y="2015"/>
                        </a:lnTo>
                        <a:lnTo>
                          <a:pt x="1688" y="2018"/>
                        </a:lnTo>
                        <a:lnTo>
                          <a:pt x="1661" y="2020"/>
                        </a:lnTo>
                        <a:lnTo>
                          <a:pt x="1634" y="2023"/>
                        </a:lnTo>
                        <a:lnTo>
                          <a:pt x="1607" y="2026"/>
                        </a:lnTo>
                        <a:lnTo>
                          <a:pt x="1580" y="2030"/>
                        </a:lnTo>
                        <a:lnTo>
                          <a:pt x="1554" y="2035"/>
                        </a:lnTo>
                        <a:lnTo>
                          <a:pt x="1528" y="2039"/>
                        </a:lnTo>
                        <a:lnTo>
                          <a:pt x="1501" y="2045"/>
                        </a:lnTo>
                        <a:lnTo>
                          <a:pt x="1477" y="2052"/>
                        </a:lnTo>
                        <a:lnTo>
                          <a:pt x="1451" y="2060"/>
                        </a:lnTo>
                        <a:lnTo>
                          <a:pt x="1427" y="2070"/>
                        </a:lnTo>
                        <a:lnTo>
                          <a:pt x="1403" y="2082"/>
                        </a:lnTo>
                        <a:lnTo>
                          <a:pt x="1379" y="2096"/>
                        </a:lnTo>
                        <a:lnTo>
                          <a:pt x="1406" y="2098"/>
                        </a:lnTo>
                        <a:lnTo>
                          <a:pt x="1433" y="2099"/>
                        </a:lnTo>
                        <a:lnTo>
                          <a:pt x="1458" y="2099"/>
                        </a:lnTo>
                        <a:lnTo>
                          <a:pt x="1486" y="2099"/>
                        </a:lnTo>
                        <a:lnTo>
                          <a:pt x="1511" y="2099"/>
                        </a:lnTo>
                        <a:lnTo>
                          <a:pt x="1537" y="2099"/>
                        </a:lnTo>
                        <a:lnTo>
                          <a:pt x="1563" y="2099"/>
                        </a:lnTo>
                        <a:lnTo>
                          <a:pt x="1588" y="2098"/>
                        </a:lnTo>
                        <a:lnTo>
                          <a:pt x="1614" y="2098"/>
                        </a:lnTo>
                        <a:lnTo>
                          <a:pt x="1640" y="2096"/>
                        </a:lnTo>
                        <a:lnTo>
                          <a:pt x="1665" y="2096"/>
                        </a:lnTo>
                        <a:lnTo>
                          <a:pt x="1691" y="2096"/>
                        </a:lnTo>
                        <a:lnTo>
                          <a:pt x="1717" y="2095"/>
                        </a:lnTo>
                        <a:lnTo>
                          <a:pt x="1742" y="2095"/>
                        </a:lnTo>
                        <a:lnTo>
                          <a:pt x="1768" y="2096"/>
                        </a:lnTo>
                        <a:lnTo>
                          <a:pt x="1794" y="2096"/>
                        </a:lnTo>
                        <a:lnTo>
                          <a:pt x="1802" y="2102"/>
                        </a:lnTo>
                        <a:lnTo>
                          <a:pt x="1810" y="2109"/>
                        </a:lnTo>
                        <a:lnTo>
                          <a:pt x="1811" y="2117"/>
                        </a:lnTo>
                        <a:lnTo>
                          <a:pt x="1811" y="2130"/>
                        </a:lnTo>
                        <a:lnTo>
                          <a:pt x="1794" y="2140"/>
                        </a:lnTo>
                        <a:lnTo>
                          <a:pt x="1790" y="2140"/>
                        </a:lnTo>
                        <a:lnTo>
                          <a:pt x="1777" y="2140"/>
                        </a:lnTo>
                        <a:lnTo>
                          <a:pt x="1757" y="2140"/>
                        </a:lnTo>
                        <a:lnTo>
                          <a:pt x="1728" y="2140"/>
                        </a:lnTo>
                        <a:lnTo>
                          <a:pt x="1694" y="2140"/>
                        </a:lnTo>
                        <a:lnTo>
                          <a:pt x="1653" y="2142"/>
                        </a:lnTo>
                        <a:lnTo>
                          <a:pt x="1605" y="2142"/>
                        </a:lnTo>
                        <a:lnTo>
                          <a:pt x="1554" y="2142"/>
                        </a:lnTo>
                        <a:lnTo>
                          <a:pt x="1497" y="2142"/>
                        </a:lnTo>
                        <a:lnTo>
                          <a:pt x="1436" y="2143"/>
                        </a:lnTo>
                        <a:lnTo>
                          <a:pt x="1371" y="2143"/>
                        </a:lnTo>
                        <a:lnTo>
                          <a:pt x="1304" y="2143"/>
                        </a:lnTo>
                        <a:lnTo>
                          <a:pt x="1234" y="2145"/>
                        </a:lnTo>
                        <a:lnTo>
                          <a:pt x="1162" y="2145"/>
                        </a:lnTo>
                        <a:lnTo>
                          <a:pt x="1087" y="2146"/>
                        </a:lnTo>
                        <a:lnTo>
                          <a:pt x="1013" y="2146"/>
                        </a:lnTo>
                        <a:lnTo>
                          <a:pt x="938" y="2147"/>
                        </a:lnTo>
                        <a:lnTo>
                          <a:pt x="863" y="2147"/>
                        </a:lnTo>
                        <a:lnTo>
                          <a:pt x="788" y="2149"/>
                        </a:lnTo>
                        <a:lnTo>
                          <a:pt x="715" y="2150"/>
                        </a:lnTo>
                        <a:lnTo>
                          <a:pt x="644" y="2150"/>
                        </a:lnTo>
                        <a:lnTo>
                          <a:pt x="574" y="2152"/>
                        </a:lnTo>
                        <a:lnTo>
                          <a:pt x="507" y="2153"/>
                        </a:lnTo>
                        <a:lnTo>
                          <a:pt x="442" y="2155"/>
                        </a:lnTo>
                        <a:lnTo>
                          <a:pt x="382" y="2156"/>
                        </a:lnTo>
                        <a:lnTo>
                          <a:pt x="327" y="2157"/>
                        </a:lnTo>
                        <a:lnTo>
                          <a:pt x="277" y="2157"/>
                        </a:lnTo>
                        <a:lnTo>
                          <a:pt x="231" y="2159"/>
                        </a:lnTo>
                        <a:lnTo>
                          <a:pt x="191" y="2162"/>
                        </a:lnTo>
                        <a:lnTo>
                          <a:pt x="158" y="2163"/>
                        </a:lnTo>
                        <a:lnTo>
                          <a:pt x="131" y="2165"/>
                        </a:lnTo>
                        <a:lnTo>
                          <a:pt x="113" y="2166"/>
                        </a:lnTo>
                        <a:lnTo>
                          <a:pt x="104" y="2165"/>
                        </a:lnTo>
                        <a:lnTo>
                          <a:pt x="96" y="2162"/>
                        </a:lnTo>
                        <a:lnTo>
                          <a:pt x="88" y="2157"/>
                        </a:lnTo>
                        <a:lnTo>
                          <a:pt x="81" y="2153"/>
                        </a:lnTo>
                        <a:lnTo>
                          <a:pt x="74" y="2149"/>
                        </a:lnTo>
                        <a:lnTo>
                          <a:pt x="70" y="2143"/>
                        </a:lnTo>
                        <a:lnTo>
                          <a:pt x="66" y="2137"/>
                        </a:lnTo>
                        <a:lnTo>
                          <a:pt x="64" y="2132"/>
                        </a:lnTo>
                        <a:lnTo>
                          <a:pt x="83" y="2102"/>
                        </a:lnTo>
                        <a:lnTo>
                          <a:pt x="86" y="2102"/>
                        </a:lnTo>
                        <a:lnTo>
                          <a:pt x="94" y="2102"/>
                        </a:lnTo>
                        <a:lnTo>
                          <a:pt x="107" y="2102"/>
                        </a:lnTo>
                        <a:lnTo>
                          <a:pt x="126" y="2102"/>
                        </a:lnTo>
                        <a:lnTo>
                          <a:pt x="148" y="2102"/>
                        </a:lnTo>
                        <a:lnTo>
                          <a:pt x="176" y="2103"/>
                        </a:lnTo>
                        <a:lnTo>
                          <a:pt x="206" y="2103"/>
                        </a:lnTo>
                        <a:lnTo>
                          <a:pt x="240" y="2103"/>
                        </a:lnTo>
                        <a:lnTo>
                          <a:pt x="277" y="2103"/>
                        </a:lnTo>
                        <a:lnTo>
                          <a:pt x="317" y="2103"/>
                        </a:lnTo>
                        <a:lnTo>
                          <a:pt x="361" y="2105"/>
                        </a:lnTo>
                        <a:lnTo>
                          <a:pt x="405" y="2105"/>
                        </a:lnTo>
                        <a:lnTo>
                          <a:pt x="452" y="2105"/>
                        </a:lnTo>
                        <a:lnTo>
                          <a:pt x="501" y="2105"/>
                        </a:lnTo>
                        <a:lnTo>
                          <a:pt x="552" y="2105"/>
                        </a:lnTo>
                        <a:lnTo>
                          <a:pt x="604" y="2105"/>
                        </a:lnTo>
                        <a:lnTo>
                          <a:pt x="655" y="2105"/>
                        </a:lnTo>
                        <a:lnTo>
                          <a:pt x="706" y="2106"/>
                        </a:lnTo>
                        <a:lnTo>
                          <a:pt x="759" y="2106"/>
                        </a:lnTo>
                        <a:lnTo>
                          <a:pt x="812" y="2106"/>
                        </a:lnTo>
                        <a:lnTo>
                          <a:pt x="863" y="2106"/>
                        </a:lnTo>
                        <a:lnTo>
                          <a:pt x="913" y="2105"/>
                        </a:lnTo>
                        <a:lnTo>
                          <a:pt x="963" y="2105"/>
                        </a:lnTo>
                        <a:lnTo>
                          <a:pt x="1012" y="2105"/>
                        </a:lnTo>
                        <a:lnTo>
                          <a:pt x="1057" y="2105"/>
                        </a:lnTo>
                        <a:lnTo>
                          <a:pt x="1102" y="2105"/>
                        </a:lnTo>
                        <a:lnTo>
                          <a:pt x="1143" y="2103"/>
                        </a:lnTo>
                        <a:lnTo>
                          <a:pt x="1182" y="2103"/>
                        </a:lnTo>
                        <a:lnTo>
                          <a:pt x="1217" y="2102"/>
                        </a:lnTo>
                        <a:lnTo>
                          <a:pt x="1250" y="2102"/>
                        </a:lnTo>
                        <a:lnTo>
                          <a:pt x="1279" y="2100"/>
                        </a:lnTo>
                        <a:lnTo>
                          <a:pt x="1303" y="2099"/>
                        </a:lnTo>
                        <a:lnTo>
                          <a:pt x="1262" y="2088"/>
                        </a:lnTo>
                        <a:lnTo>
                          <a:pt x="1223" y="2070"/>
                        </a:lnTo>
                        <a:lnTo>
                          <a:pt x="1187" y="2049"/>
                        </a:lnTo>
                        <a:lnTo>
                          <a:pt x="1156" y="2023"/>
                        </a:lnTo>
                        <a:lnTo>
                          <a:pt x="1129" y="1993"/>
                        </a:lnTo>
                        <a:lnTo>
                          <a:pt x="1106" y="1959"/>
                        </a:lnTo>
                        <a:lnTo>
                          <a:pt x="1090" y="1922"/>
                        </a:lnTo>
                        <a:lnTo>
                          <a:pt x="1079" y="1881"/>
                        </a:lnTo>
                        <a:lnTo>
                          <a:pt x="1075" y="1859"/>
                        </a:lnTo>
                        <a:lnTo>
                          <a:pt x="1073" y="1839"/>
                        </a:lnTo>
                        <a:lnTo>
                          <a:pt x="1073" y="1822"/>
                        </a:lnTo>
                        <a:lnTo>
                          <a:pt x="1073" y="1805"/>
                        </a:lnTo>
                        <a:lnTo>
                          <a:pt x="1053" y="1796"/>
                        </a:lnTo>
                        <a:lnTo>
                          <a:pt x="1035" y="1786"/>
                        </a:lnTo>
                        <a:lnTo>
                          <a:pt x="1016" y="1776"/>
                        </a:lnTo>
                        <a:lnTo>
                          <a:pt x="998" y="1766"/>
                        </a:lnTo>
                        <a:lnTo>
                          <a:pt x="979" y="1758"/>
                        </a:lnTo>
                        <a:lnTo>
                          <a:pt x="959" y="1752"/>
                        </a:lnTo>
                        <a:lnTo>
                          <a:pt x="936" y="1748"/>
                        </a:lnTo>
                        <a:lnTo>
                          <a:pt x="913" y="1746"/>
                        </a:lnTo>
                        <a:lnTo>
                          <a:pt x="903" y="1759"/>
                        </a:lnTo>
                        <a:lnTo>
                          <a:pt x="899" y="1778"/>
                        </a:lnTo>
                        <a:lnTo>
                          <a:pt x="892" y="1794"/>
                        </a:lnTo>
                        <a:lnTo>
                          <a:pt x="875" y="1804"/>
                        </a:lnTo>
                        <a:lnTo>
                          <a:pt x="865" y="1804"/>
                        </a:lnTo>
                        <a:lnTo>
                          <a:pt x="855" y="1801"/>
                        </a:lnTo>
                        <a:lnTo>
                          <a:pt x="846" y="1796"/>
                        </a:lnTo>
                        <a:lnTo>
                          <a:pt x="841" y="1792"/>
                        </a:lnTo>
                        <a:lnTo>
                          <a:pt x="835" y="1785"/>
                        </a:lnTo>
                        <a:lnTo>
                          <a:pt x="829" y="1778"/>
                        </a:lnTo>
                        <a:lnTo>
                          <a:pt x="826" y="1769"/>
                        </a:lnTo>
                        <a:lnTo>
                          <a:pt x="823" y="1759"/>
                        </a:lnTo>
                        <a:lnTo>
                          <a:pt x="825" y="1745"/>
                        </a:lnTo>
                        <a:lnTo>
                          <a:pt x="821" y="1734"/>
                        </a:lnTo>
                        <a:lnTo>
                          <a:pt x="812" y="1724"/>
                        </a:lnTo>
                        <a:lnTo>
                          <a:pt x="803" y="1715"/>
                        </a:lnTo>
                        <a:lnTo>
                          <a:pt x="785" y="1717"/>
                        </a:lnTo>
                        <a:lnTo>
                          <a:pt x="766" y="1715"/>
                        </a:lnTo>
                        <a:lnTo>
                          <a:pt x="746" y="1711"/>
                        </a:lnTo>
                        <a:lnTo>
                          <a:pt x="728" y="1707"/>
                        </a:lnTo>
                        <a:lnTo>
                          <a:pt x="711" y="1707"/>
                        </a:lnTo>
                        <a:lnTo>
                          <a:pt x="695" y="1709"/>
                        </a:lnTo>
                        <a:lnTo>
                          <a:pt x="682" y="1719"/>
                        </a:lnTo>
                        <a:lnTo>
                          <a:pt x="672" y="1738"/>
                        </a:lnTo>
                        <a:lnTo>
                          <a:pt x="664" y="1759"/>
                        </a:lnTo>
                        <a:lnTo>
                          <a:pt x="652" y="1779"/>
                        </a:lnTo>
                        <a:lnTo>
                          <a:pt x="639" y="1796"/>
                        </a:lnTo>
                        <a:lnTo>
                          <a:pt x="625" y="1812"/>
                        </a:lnTo>
                        <a:lnTo>
                          <a:pt x="609" y="1828"/>
                        </a:lnTo>
                        <a:lnTo>
                          <a:pt x="594" y="1842"/>
                        </a:lnTo>
                        <a:lnTo>
                          <a:pt x="575" y="1856"/>
                        </a:lnTo>
                        <a:lnTo>
                          <a:pt x="557" y="1869"/>
                        </a:lnTo>
                        <a:lnTo>
                          <a:pt x="574" y="1871"/>
                        </a:lnTo>
                        <a:lnTo>
                          <a:pt x="591" y="1872"/>
                        </a:lnTo>
                        <a:lnTo>
                          <a:pt x="608" y="1872"/>
                        </a:lnTo>
                        <a:lnTo>
                          <a:pt x="625" y="1872"/>
                        </a:lnTo>
                        <a:lnTo>
                          <a:pt x="642" y="1871"/>
                        </a:lnTo>
                        <a:lnTo>
                          <a:pt x="659" y="1869"/>
                        </a:lnTo>
                        <a:lnTo>
                          <a:pt x="676" y="1868"/>
                        </a:lnTo>
                        <a:lnTo>
                          <a:pt x="694" y="1865"/>
                        </a:lnTo>
                        <a:lnTo>
                          <a:pt x="711" y="1864"/>
                        </a:lnTo>
                        <a:lnTo>
                          <a:pt x="728" y="1862"/>
                        </a:lnTo>
                        <a:lnTo>
                          <a:pt x="745" y="1859"/>
                        </a:lnTo>
                        <a:lnTo>
                          <a:pt x="762" y="1858"/>
                        </a:lnTo>
                        <a:lnTo>
                          <a:pt x="779" y="1856"/>
                        </a:lnTo>
                        <a:lnTo>
                          <a:pt x="795" y="1856"/>
                        </a:lnTo>
                        <a:lnTo>
                          <a:pt x="812" y="1856"/>
                        </a:lnTo>
                        <a:lnTo>
                          <a:pt x="829" y="1856"/>
                        </a:lnTo>
                        <a:lnTo>
                          <a:pt x="829" y="1872"/>
                        </a:lnTo>
                        <a:lnTo>
                          <a:pt x="809" y="1875"/>
                        </a:lnTo>
                        <a:lnTo>
                          <a:pt x="789" y="1876"/>
                        </a:lnTo>
                        <a:lnTo>
                          <a:pt x="769" y="1879"/>
                        </a:lnTo>
                        <a:lnTo>
                          <a:pt x="749" y="1881"/>
                        </a:lnTo>
                        <a:lnTo>
                          <a:pt x="728" y="1882"/>
                        </a:lnTo>
                        <a:lnTo>
                          <a:pt x="708" y="1882"/>
                        </a:lnTo>
                        <a:lnTo>
                          <a:pt x="688" y="1883"/>
                        </a:lnTo>
                        <a:lnTo>
                          <a:pt x="666" y="1883"/>
                        </a:lnTo>
                        <a:lnTo>
                          <a:pt x="645" y="1885"/>
                        </a:lnTo>
                        <a:lnTo>
                          <a:pt x="625" y="1885"/>
                        </a:lnTo>
                        <a:lnTo>
                          <a:pt x="604" y="1886"/>
                        </a:lnTo>
                        <a:lnTo>
                          <a:pt x="584" y="1886"/>
                        </a:lnTo>
                        <a:lnTo>
                          <a:pt x="562" y="1888"/>
                        </a:lnTo>
                        <a:lnTo>
                          <a:pt x="541" y="1889"/>
                        </a:lnTo>
                        <a:lnTo>
                          <a:pt x="521" y="1891"/>
                        </a:lnTo>
                        <a:lnTo>
                          <a:pt x="499" y="1893"/>
                        </a:lnTo>
                        <a:lnTo>
                          <a:pt x="481" y="1901"/>
                        </a:lnTo>
                        <a:lnTo>
                          <a:pt x="461" y="1906"/>
                        </a:lnTo>
                        <a:lnTo>
                          <a:pt x="441" y="1909"/>
                        </a:lnTo>
                        <a:lnTo>
                          <a:pt x="421" y="1911"/>
                        </a:lnTo>
                        <a:lnTo>
                          <a:pt x="401" y="1911"/>
                        </a:lnTo>
                        <a:lnTo>
                          <a:pt x="381" y="1909"/>
                        </a:lnTo>
                        <a:lnTo>
                          <a:pt x="361" y="1906"/>
                        </a:lnTo>
                        <a:lnTo>
                          <a:pt x="343" y="1903"/>
                        </a:lnTo>
                        <a:lnTo>
                          <a:pt x="323" y="1898"/>
                        </a:lnTo>
                        <a:lnTo>
                          <a:pt x="304" y="1892"/>
                        </a:lnTo>
                        <a:lnTo>
                          <a:pt x="287" y="1883"/>
                        </a:lnTo>
                        <a:lnTo>
                          <a:pt x="270" y="1876"/>
                        </a:lnTo>
                        <a:lnTo>
                          <a:pt x="253" y="1866"/>
                        </a:lnTo>
                        <a:lnTo>
                          <a:pt x="238" y="1858"/>
                        </a:lnTo>
                        <a:lnTo>
                          <a:pt x="224" y="1848"/>
                        </a:lnTo>
                        <a:lnTo>
                          <a:pt x="211" y="1836"/>
                        </a:lnTo>
                        <a:lnTo>
                          <a:pt x="193" y="1814"/>
                        </a:lnTo>
                        <a:lnTo>
                          <a:pt x="177" y="1789"/>
                        </a:lnTo>
                        <a:lnTo>
                          <a:pt x="161" y="1762"/>
                        </a:lnTo>
                        <a:lnTo>
                          <a:pt x="148" y="1734"/>
                        </a:lnTo>
                        <a:lnTo>
                          <a:pt x="137" y="1704"/>
                        </a:lnTo>
                        <a:lnTo>
                          <a:pt x="130" y="1672"/>
                        </a:lnTo>
                        <a:lnTo>
                          <a:pt x="127" y="1638"/>
                        </a:lnTo>
                        <a:lnTo>
                          <a:pt x="128" y="1602"/>
                        </a:lnTo>
                        <a:lnTo>
                          <a:pt x="107" y="1594"/>
                        </a:lnTo>
                        <a:lnTo>
                          <a:pt x="87" y="1584"/>
                        </a:lnTo>
                        <a:lnTo>
                          <a:pt x="70" y="1572"/>
                        </a:lnTo>
                        <a:lnTo>
                          <a:pt x="53" y="1560"/>
                        </a:lnTo>
                        <a:lnTo>
                          <a:pt x="37" y="1547"/>
                        </a:lnTo>
                        <a:lnTo>
                          <a:pt x="24" y="1532"/>
                        </a:lnTo>
                        <a:lnTo>
                          <a:pt x="11" y="1517"/>
                        </a:lnTo>
                        <a:lnTo>
                          <a:pt x="0" y="1500"/>
                        </a:lnTo>
                        <a:lnTo>
                          <a:pt x="1" y="1473"/>
                        </a:lnTo>
                        <a:lnTo>
                          <a:pt x="4" y="1445"/>
                        </a:lnTo>
                        <a:lnTo>
                          <a:pt x="10" y="1421"/>
                        </a:lnTo>
                        <a:lnTo>
                          <a:pt x="19" y="1398"/>
                        </a:lnTo>
                        <a:lnTo>
                          <a:pt x="29" y="1377"/>
                        </a:lnTo>
                        <a:lnTo>
                          <a:pt x="41" y="1357"/>
                        </a:lnTo>
                        <a:lnTo>
                          <a:pt x="56" y="1338"/>
                        </a:lnTo>
                        <a:lnTo>
                          <a:pt x="73" y="1321"/>
                        </a:lnTo>
                        <a:lnTo>
                          <a:pt x="73" y="1306"/>
                        </a:lnTo>
                        <a:lnTo>
                          <a:pt x="90" y="1286"/>
                        </a:lnTo>
                        <a:lnTo>
                          <a:pt x="104" y="1264"/>
                        </a:lnTo>
                        <a:lnTo>
                          <a:pt x="120" y="1241"/>
                        </a:lnTo>
                        <a:lnTo>
                          <a:pt x="136" y="1220"/>
                        </a:lnTo>
                        <a:lnTo>
                          <a:pt x="153" y="1199"/>
                        </a:lnTo>
                        <a:lnTo>
                          <a:pt x="171" y="1180"/>
                        </a:lnTo>
                        <a:lnTo>
                          <a:pt x="193" y="1164"/>
                        </a:lnTo>
                        <a:lnTo>
                          <a:pt x="217" y="1153"/>
                        </a:lnTo>
                        <a:lnTo>
                          <a:pt x="228" y="1126"/>
                        </a:lnTo>
                        <a:lnTo>
                          <a:pt x="235" y="1097"/>
                        </a:lnTo>
                        <a:lnTo>
                          <a:pt x="243" y="1067"/>
                        </a:lnTo>
                        <a:lnTo>
                          <a:pt x="253" y="1042"/>
                        </a:lnTo>
                        <a:lnTo>
                          <a:pt x="261" y="1029"/>
                        </a:lnTo>
                        <a:lnTo>
                          <a:pt x="270" y="1016"/>
                        </a:lnTo>
                        <a:lnTo>
                          <a:pt x="278" y="1005"/>
                        </a:lnTo>
                        <a:lnTo>
                          <a:pt x="290" y="995"/>
                        </a:lnTo>
                        <a:lnTo>
                          <a:pt x="301" y="985"/>
                        </a:lnTo>
                        <a:lnTo>
                          <a:pt x="314" y="976"/>
                        </a:lnTo>
                        <a:lnTo>
                          <a:pt x="328" y="970"/>
                        </a:lnTo>
                        <a:lnTo>
                          <a:pt x="343" y="965"/>
                        </a:lnTo>
                        <a:lnTo>
                          <a:pt x="370" y="970"/>
                        </a:lnTo>
                        <a:lnTo>
                          <a:pt x="397" y="977"/>
                        </a:lnTo>
                        <a:lnTo>
                          <a:pt x="424" y="986"/>
                        </a:lnTo>
                        <a:lnTo>
                          <a:pt x="450" y="996"/>
                        </a:lnTo>
                        <a:lnTo>
                          <a:pt x="475" y="1009"/>
                        </a:lnTo>
                        <a:lnTo>
                          <a:pt x="498" y="1024"/>
                        </a:lnTo>
                        <a:lnTo>
                          <a:pt x="518" y="1043"/>
                        </a:lnTo>
                        <a:lnTo>
                          <a:pt x="535" y="1066"/>
                        </a:lnTo>
                        <a:lnTo>
                          <a:pt x="544" y="1066"/>
                        </a:lnTo>
                        <a:lnTo>
                          <a:pt x="552" y="1069"/>
                        </a:lnTo>
                        <a:lnTo>
                          <a:pt x="561" y="1070"/>
                        </a:lnTo>
                        <a:lnTo>
                          <a:pt x="568" y="1072"/>
                        </a:lnTo>
                        <a:lnTo>
                          <a:pt x="577" y="1073"/>
                        </a:lnTo>
                        <a:lnTo>
                          <a:pt x="584" y="1072"/>
                        </a:lnTo>
                        <a:lnTo>
                          <a:pt x="589" y="1069"/>
                        </a:lnTo>
                        <a:lnTo>
                          <a:pt x="595" y="1063"/>
                        </a:lnTo>
                        <a:lnTo>
                          <a:pt x="605" y="1047"/>
                        </a:lnTo>
                        <a:lnTo>
                          <a:pt x="609" y="1027"/>
                        </a:lnTo>
                        <a:lnTo>
                          <a:pt x="611" y="1006"/>
                        </a:lnTo>
                        <a:lnTo>
                          <a:pt x="608" y="986"/>
                        </a:lnTo>
                        <a:lnTo>
                          <a:pt x="601" y="976"/>
                        </a:lnTo>
                        <a:lnTo>
                          <a:pt x="601" y="969"/>
                        </a:lnTo>
                        <a:lnTo>
                          <a:pt x="604" y="962"/>
                        </a:lnTo>
                        <a:lnTo>
                          <a:pt x="608" y="955"/>
                        </a:lnTo>
                        <a:lnTo>
                          <a:pt x="615" y="949"/>
                        </a:lnTo>
                        <a:lnTo>
                          <a:pt x="621" y="942"/>
                        </a:lnTo>
                        <a:lnTo>
                          <a:pt x="626" y="935"/>
                        </a:lnTo>
                        <a:lnTo>
                          <a:pt x="628" y="926"/>
                        </a:lnTo>
                        <a:lnTo>
                          <a:pt x="665" y="906"/>
                        </a:lnTo>
                        <a:lnTo>
                          <a:pt x="702" y="889"/>
                        </a:lnTo>
                        <a:lnTo>
                          <a:pt x="744" y="875"/>
                        </a:lnTo>
                        <a:lnTo>
                          <a:pt x="785" y="862"/>
                        </a:lnTo>
                        <a:lnTo>
                          <a:pt x="828" y="850"/>
                        </a:lnTo>
                        <a:lnTo>
                          <a:pt x="872" y="840"/>
                        </a:lnTo>
                        <a:lnTo>
                          <a:pt x="916" y="833"/>
                        </a:lnTo>
                        <a:lnTo>
                          <a:pt x="962" y="828"/>
                        </a:lnTo>
                        <a:lnTo>
                          <a:pt x="1006" y="822"/>
                        </a:lnTo>
                        <a:lnTo>
                          <a:pt x="1052" y="819"/>
                        </a:lnTo>
                        <a:lnTo>
                          <a:pt x="1097" y="816"/>
                        </a:lnTo>
                        <a:lnTo>
                          <a:pt x="1142" y="816"/>
                        </a:lnTo>
                        <a:lnTo>
                          <a:pt x="1184" y="815"/>
                        </a:lnTo>
                        <a:lnTo>
                          <a:pt x="1227" y="816"/>
                        </a:lnTo>
                        <a:lnTo>
                          <a:pt x="1269" y="818"/>
                        </a:lnTo>
                        <a:lnTo>
                          <a:pt x="1309" y="819"/>
                        </a:lnTo>
                        <a:lnTo>
                          <a:pt x="1319" y="802"/>
                        </a:lnTo>
                        <a:lnTo>
                          <a:pt x="1330" y="786"/>
                        </a:lnTo>
                        <a:lnTo>
                          <a:pt x="1344" y="773"/>
                        </a:lnTo>
                        <a:lnTo>
                          <a:pt x="1360" y="762"/>
                        </a:lnTo>
                        <a:lnTo>
                          <a:pt x="1376" y="753"/>
                        </a:lnTo>
                        <a:lnTo>
                          <a:pt x="1394" y="743"/>
                        </a:lnTo>
                        <a:lnTo>
                          <a:pt x="1413" y="736"/>
                        </a:lnTo>
                        <a:lnTo>
                          <a:pt x="1433" y="728"/>
                        </a:lnTo>
                        <a:lnTo>
                          <a:pt x="1450" y="725"/>
                        </a:lnTo>
                        <a:lnTo>
                          <a:pt x="1466" y="726"/>
                        </a:lnTo>
                        <a:lnTo>
                          <a:pt x="1480" y="731"/>
                        </a:lnTo>
                        <a:lnTo>
                          <a:pt x="1494" y="736"/>
                        </a:lnTo>
                        <a:lnTo>
                          <a:pt x="1506" y="745"/>
                        </a:lnTo>
                        <a:lnTo>
                          <a:pt x="1516" y="755"/>
                        </a:lnTo>
                        <a:lnTo>
                          <a:pt x="1524" y="765"/>
                        </a:lnTo>
                        <a:lnTo>
                          <a:pt x="1533" y="775"/>
                        </a:lnTo>
                        <a:lnTo>
                          <a:pt x="1551" y="773"/>
                        </a:lnTo>
                        <a:lnTo>
                          <a:pt x="1570" y="776"/>
                        </a:lnTo>
                        <a:lnTo>
                          <a:pt x="1587" y="781"/>
                        </a:lnTo>
                        <a:lnTo>
                          <a:pt x="1604" y="786"/>
                        </a:lnTo>
                        <a:lnTo>
                          <a:pt x="1620" y="792"/>
                        </a:lnTo>
                        <a:lnTo>
                          <a:pt x="1634" y="795"/>
                        </a:lnTo>
                        <a:lnTo>
                          <a:pt x="1648" y="795"/>
                        </a:lnTo>
                        <a:lnTo>
                          <a:pt x="1661" y="790"/>
                        </a:lnTo>
                        <a:lnTo>
                          <a:pt x="1660" y="790"/>
                        </a:lnTo>
                        <a:lnTo>
                          <a:pt x="1660" y="785"/>
                        </a:lnTo>
                        <a:lnTo>
                          <a:pt x="1661" y="785"/>
                        </a:lnTo>
                        <a:lnTo>
                          <a:pt x="1663" y="796"/>
                        </a:lnTo>
                        <a:lnTo>
                          <a:pt x="1663" y="808"/>
                        </a:lnTo>
                        <a:lnTo>
                          <a:pt x="1665" y="819"/>
                        </a:lnTo>
                        <a:lnTo>
                          <a:pt x="1675" y="826"/>
                        </a:lnTo>
                        <a:lnTo>
                          <a:pt x="1684" y="825"/>
                        </a:lnTo>
                        <a:lnTo>
                          <a:pt x="1688" y="820"/>
                        </a:lnTo>
                        <a:lnTo>
                          <a:pt x="1687" y="813"/>
                        </a:lnTo>
                        <a:lnTo>
                          <a:pt x="1685" y="806"/>
                        </a:lnTo>
                        <a:lnTo>
                          <a:pt x="1684" y="799"/>
                        </a:lnTo>
                        <a:lnTo>
                          <a:pt x="1685" y="792"/>
                        </a:lnTo>
                        <a:lnTo>
                          <a:pt x="1690" y="785"/>
                        </a:lnTo>
                        <a:lnTo>
                          <a:pt x="1701" y="782"/>
                        </a:lnTo>
                        <a:lnTo>
                          <a:pt x="1708" y="772"/>
                        </a:lnTo>
                        <a:lnTo>
                          <a:pt x="1704" y="765"/>
                        </a:lnTo>
                        <a:lnTo>
                          <a:pt x="1694" y="762"/>
                        </a:lnTo>
                        <a:lnTo>
                          <a:pt x="1684" y="763"/>
                        </a:lnTo>
                        <a:lnTo>
                          <a:pt x="1675" y="766"/>
                        </a:lnTo>
                        <a:lnTo>
                          <a:pt x="1673" y="769"/>
                        </a:lnTo>
                        <a:lnTo>
                          <a:pt x="1673" y="772"/>
                        </a:lnTo>
                        <a:lnTo>
                          <a:pt x="1673" y="776"/>
                        </a:lnTo>
                        <a:lnTo>
                          <a:pt x="1673" y="779"/>
                        </a:lnTo>
                        <a:lnTo>
                          <a:pt x="1670" y="772"/>
                        </a:lnTo>
                        <a:lnTo>
                          <a:pt x="1667" y="766"/>
                        </a:lnTo>
                        <a:lnTo>
                          <a:pt x="1661" y="762"/>
                        </a:lnTo>
                        <a:lnTo>
                          <a:pt x="1654" y="759"/>
                        </a:lnTo>
                        <a:lnTo>
                          <a:pt x="1647" y="758"/>
                        </a:lnTo>
                        <a:lnTo>
                          <a:pt x="1640" y="756"/>
                        </a:lnTo>
                        <a:lnTo>
                          <a:pt x="1631" y="755"/>
                        </a:lnTo>
                        <a:lnTo>
                          <a:pt x="1625" y="753"/>
                        </a:lnTo>
                        <a:lnTo>
                          <a:pt x="1588" y="753"/>
                        </a:lnTo>
                        <a:lnTo>
                          <a:pt x="1557" y="746"/>
                        </a:lnTo>
                        <a:lnTo>
                          <a:pt x="1527" y="732"/>
                        </a:lnTo>
                        <a:lnTo>
                          <a:pt x="1501" y="712"/>
                        </a:lnTo>
                        <a:lnTo>
                          <a:pt x="1478" y="689"/>
                        </a:lnTo>
                        <a:lnTo>
                          <a:pt x="1458" y="665"/>
                        </a:lnTo>
                        <a:lnTo>
                          <a:pt x="1441" y="638"/>
                        </a:lnTo>
                        <a:lnTo>
                          <a:pt x="1426" y="612"/>
                        </a:lnTo>
                        <a:lnTo>
                          <a:pt x="1424" y="586"/>
                        </a:lnTo>
                        <a:lnTo>
                          <a:pt x="1427" y="561"/>
                        </a:lnTo>
                        <a:lnTo>
                          <a:pt x="1433" y="535"/>
                        </a:lnTo>
                        <a:lnTo>
                          <a:pt x="1441" y="511"/>
                        </a:lnTo>
                        <a:lnTo>
                          <a:pt x="1453" y="485"/>
                        </a:lnTo>
                        <a:lnTo>
                          <a:pt x="1464" y="461"/>
                        </a:lnTo>
                        <a:lnTo>
                          <a:pt x="1478" y="437"/>
                        </a:lnTo>
                        <a:lnTo>
                          <a:pt x="1491" y="414"/>
                        </a:lnTo>
                        <a:lnTo>
                          <a:pt x="1510" y="390"/>
                        </a:lnTo>
                        <a:lnTo>
                          <a:pt x="1531" y="367"/>
                        </a:lnTo>
                        <a:lnTo>
                          <a:pt x="1553" y="345"/>
                        </a:lnTo>
                        <a:lnTo>
                          <a:pt x="1577" y="325"/>
                        </a:lnTo>
                        <a:lnTo>
                          <a:pt x="1601" y="307"/>
                        </a:lnTo>
                        <a:lnTo>
                          <a:pt x="1627" y="287"/>
                        </a:lnTo>
                        <a:lnTo>
                          <a:pt x="1654" y="268"/>
                        </a:lnTo>
                        <a:lnTo>
                          <a:pt x="1680" y="250"/>
                        </a:lnTo>
                        <a:lnTo>
                          <a:pt x="1665" y="243"/>
                        </a:lnTo>
                        <a:lnTo>
                          <a:pt x="1648" y="241"/>
                        </a:lnTo>
                        <a:lnTo>
                          <a:pt x="1630" y="243"/>
                        </a:lnTo>
                        <a:lnTo>
                          <a:pt x="1613" y="244"/>
                        </a:lnTo>
                        <a:lnTo>
                          <a:pt x="1597" y="245"/>
                        </a:lnTo>
                        <a:lnTo>
                          <a:pt x="1584" y="243"/>
                        </a:lnTo>
                        <a:lnTo>
                          <a:pt x="1578" y="233"/>
                        </a:lnTo>
                        <a:lnTo>
                          <a:pt x="1580" y="215"/>
                        </a:lnTo>
                        <a:lnTo>
                          <a:pt x="1605" y="205"/>
                        </a:lnTo>
                        <a:lnTo>
                          <a:pt x="1633" y="197"/>
                        </a:lnTo>
                        <a:lnTo>
                          <a:pt x="1661" y="188"/>
                        </a:lnTo>
                        <a:lnTo>
                          <a:pt x="1691" y="183"/>
                        </a:lnTo>
                        <a:lnTo>
                          <a:pt x="1720" y="176"/>
                        </a:lnTo>
                        <a:lnTo>
                          <a:pt x="1748" y="170"/>
                        </a:lnTo>
                        <a:lnTo>
                          <a:pt x="1777" y="163"/>
                        </a:lnTo>
                        <a:lnTo>
                          <a:pt x="1804" y="154"/>
                        </a:lnTo>
                        <a:lnTo>
                          <a:pt x="1815" y="133"/>
                        </a:lnTo>
                        <a:lnTo>
                          <a:pt x="1824" y="111"/>
                        </a:lnTo>
                        <a:lnTo>
                          <a:pt x="1831" y="90"/>
                        </a:lnTo>
                        <a:lnTo>
                          <a:pt x="1838" y="68"/>
                        </a:lnTo>
                        <a:lnTo>
                          <a:pt x="1847" y="49"/>
                        </a:lnTo>
                        <a:lnTo>
                          <a:pt x="1858" y="30"/>
                        </a:lnTo>
                        <a:lnTo>
                          <a:pt x="1872" y="14"/>
                        </a:lnTo>
                        <a:lnTo>
                          <a:pt x="1891" y="0"/>
                        </a:lnTo>
                        <a:lnTo>
                          <a:pt x="1909" y="4"/>
                        </a:lnTo>
                        <a:lnTo>
                          <a:pt x="1927" y="10"/>
                        </a:lnTo>
                        <a:lnTo>
                          <a:pt x="1944" y="17"/>
                        </a:lnTo>
                        <a:lnTo>
                          <a:pt x="1961" y="23"/>
                        </a:lnTo>
                        <a:lnTo>
                          <a:pt x="1978" y="31"/>
                        </a:lnTo>
                        <a:lnTo>
                          <a:pt x="1994" y="40"/>
                        </a:lnTo>
                        <a:lnTo>
                          <a:pt x="2009" y="49"/>
                        </a:lnTo>
                        <a:lnTo>
                          <a:pt x="2025" y="57"/>
                        </a:lnTo>
                        <a:lnTo>
                          <a:pt x="2041" y="67"/>
                        </a:lnTo>
                        <a:lnTo>
                          <a:pt x="2055" y="77"/>
                        </a:lnTo>
                        <a:lnTo>
                          <a:pt x="2069" y="87"/>
                        </a:lnTo>
                        <a:lnTo>
                          <a:pt x="2084" y="97"/>
                        </a:lnTo>
                        <a:lnTo>
                          <a:pt x="2096" y="108"/>
                        </a:lnTo>
                        <a:lnTo>
                          <a:pt x="2109" y="120"/>
                        </a:lnTo>
                        <a:lnTo>
                          <a:pt x="2122" y="130"/>
                        </a:lnTo>
                        <a:lnTo>
                          <a:pt x="2135" y="141"/>
                        </a:lnTo>
                        <a:lnTo>
                          <a:pt x="2135" y="154"/>
                        </a:lnTo>
                        <a:lnTo>
                          <a:pt x="2129" y="166"/>
                        </a:lnTo>
                        <a:lnTo>
                          <a:pt x="2124" y="177"/>
                        </a:lnTo>
                        <a:lnTo>
                          <a:pt x="2116" y="187"/>
                        </a:lnTo>
                        <a:lnTo>
                          <a:pt x="2111" y="195"/>
                        </a:lnTo>
                        <a:lnTo>
                          <a:pt x="2109" y="205"/>
                        </a:lnTo>
                        <a:lnTo>
                          <a:pt x="2112" y="214"/>
                        </a:lnTo>
                        <a:lnTo>
                          <a:pt x="2122" y="224"/>
                        </a:lnTo>
                        <a:lnTo>
                          <a:pt x="2149" y="224"/>
                        </a:lnTo>
                        <a:lnTo>
                          <a:pt x="2175" y="221"/>
                        </a:lnTo>
                        <a:lnTo>
                          <a:pt x="2202" y="220"/>
                        </a:lnTo>
                        <a:lnTo>
                          <a:pt x="2228" y="217"/>
                        </a:lnTo>
                        <a:lnTo>
                          <a:pt x="2251" y="218"/>
                        </a:lnTo>
                        <a:lnTo>
                          <a:pt x="2273" y="224"/>
                        </a:lnTo>
                        <a:lnTo>
                          <a:pt x="2293" y="235"/>
                        </a:lnTo>
                        <a:lnTo>
                          <a:pt x="2310" y="254"/>
                        </a:lnTo>
                        <a:lnTo>
                          <a:pt x="2308" y="273"/>
                        </a:lnTo>
                        <a:lnTo>
                          <a:pt x="2300" y="287"/>
                        </a:lnTo>
                        <a:lnTo>
                          <a:pt x="2288" y="295"/>
                        </a:lnTo>
                        <a:lnTo>
                          <a:pt x="2272" y="301"/>
                        </a:lnTo>
                        <a:lnTo>
                          <a:pt x="2253" y="304"/>
                        </a:lnTo>
                        <a:lnTo>
                          <a:pt x="2233" y="308"/>
                        </a:lnTo>
                        <a:lnTo>
                          <a:pt x="2215" y="311"/>
                        </a:lnTo>
                        <a:lnTo>
                          <a:pt x="2198" y="317"/>
                        </a:lnTo>
                        <a:lnTo>
                          <a:pt x="2205" y="341"/>
                        </a:lnTo>
                        <a:lnTo>
                          <a:pt x="2215" y="367"/>
                        </a:lnTo>
                        <a:lnTo>
                          <a:pt x="2219" y="394"/>
                        </a:lnTo>
                        <a:lnTo>
                          <a:pt x="2211" y="424"/>
                        </a:lnTo>
                        <a:lnTo>
                          <a:pt x="2199" y="437"/>
                        </a:lnTo>
                        <a:lnTo>
                          <a:pt x="2186" y="451"/>
                        </a:lnTo>
                        <a:lnTo>
                          <a:pt x="2176" y="467"/>
                        </a:lnTo>
                        <a:lnTo>
                          <a:pt x="2172" y="487"/>
                        </a:lnTo>
                        <a:lnTo>
                          <a:pt x="2183" y="494"/>
                        </a:lnTo>
                        <a:lnTo>
                          <a:pt x="2193" y="502"/>
                        </a:lnTo>
                        <a:lnTo>
                          <a:pt x="2203" y="512"/>
                        </a:lnTo>
                        <a:lnTo>
                          <a:pt x="2213" y="522"/>
                        </a:lnTo>
                        <a:lnTo>
                          <a:pt x="2222" y="532"/>
                        </a:lnTo>
                        <a:lnTo>
                          <a:pt x="2228" y="544"/>
                        </a:lnTo>
                        <a:lnTo>
                          <a:pt x="2232" y="554"/>
                        </a:lnTo>
                        <a:lnTo>
                          <a:pt x="2233" y="564"/>
                        </a:lnTo>
                        <a:lnTo>
                          <a:pt x="2229" y="579"/>
                        </a:lnTo>
                        <a:lnTo>
                          <a:pt x="2221" y="594"/>
                        </a:lnTo>
                        <a:lnTo>
                          <a:pt x="2211" y="606"/>
                        </a:lnTo>
                        <a:lnTo>
                          <a:pt x="2198" y="616"/>
                        </a:lnTo>
                        <a:lnTo>
                          <a:pt x="2183" y="625"/>
                        </a:lnTo>
                        <a:lnTo>
                          <a:pt x="2168" y="634"/>
                        </a:lnTo>
                        <a:lnTo>
                          <a:pt x="2152" y="641"/>
                        </a:lnTo>
                        <a:lnTo>
                          <a:pt x="2135" y="646"/>
                        </a:lnTo>
                        <a:lnTo>
                          <a:pt x="2121" y="651"/>
                        </a:lnTo>
                        <a:lnTo>
                          <a:pt x="2106" y="652"/>
                        </a:lnTo>
                        <a:lnTo>
                          <a:pt x="2092" y="652"/>
                        </a:lnTo>
                        <a:lnTo>
                          <a:pt x="2078" y="651"/>
                        </a:lnTo>
                        <a:lnTo>
                          <a:pt x="2062" y="649"/>
                        </a:lnTo>
                        <a:lnTo>
                          <a:pt x="2048" y="648"/>
                        </a:lnTo>
                        <a:lnTo>
                          <a:pt x="2034" y="645"/>
                        </a:lnTo>
                        <a:lnTo>
                          <a:pt x="2019" y="644"/>
                        </a:lnTo>
                        <a:lnTo>
                          <a:pt x="1847" y="726"/>
                        </a:lnTo>
                        <a:lnTo>
                          <a:pt x="1842" y="735"/>
                        </a:lnTo>
                        <a:lnTo>
                          <a:pt x="1838" y="742"/>
                        </a:lnTo>
                        <a:lnTo>
                          <a:pt x="1832" y="749"/>
                        </a:lnTo>
                        <a:lnTo>
                          <a:pt x="1830" y="759"/>
                        </a:lnTo>
                        <a:lnTo>
                          <a:pt x="1847" y="775"/>
                        </a:lnTo>
                        <a:lnTo>
                          <a:pt x="1882" y="769"/>
                        </a:lnTo>
                        <a:lnTo>
                          <a:pt x="1918" y="763"/>
                        </a:lnTo>
                        <a:lnTo>
                          <a:pt x="1952" y="758"/>
                        </a:lnTo>
                        <a:lnTo>
                          <a:pt x="1988" y="752"/>
                        </a:lnTo>
                        <a:lnTo>
                          <a:pt x="2022" y="746"/>
                        </a:lnTo>
                        <a:lnTo>
                          <a:pt x="2058" y="742"/>
                        </a:lnTo>
                        <a:lnTo>
                          <a:pt x="2092" y="736"/>
                        </a:lnTo>
                        <a:lnTo>
                          <a:pt x="2128" y="732"/>
                        </a:lnTo>
                        <a:lnTo>
                          <a:pt x="2162" y="728"/>
                        </a:lnTo>
                        <a:lnTo>
                          <a:pt x="2196" y="723"/>
                        </a:lnTo>
                        <a:lnTo>
                          <a:pt x="2232" y="719"/>
                        </a:lnTo>
                        <a:lnTo>
                          <a:pt x="2268" y="716"/>
                        </a:lnTo>
                        <a:lnTo>
                          <a:pt x="2303" y="713"/>
                        </a:lnTo>
                        <a:lnTo>
                          <a:pt x="2339" y="711"/>
                        </a:lnTo>
                        <a:lnTo>
                          <a:pt x="2375" y="709"/>
                        </a:lnTo>
                        <a:lnTo>
                          <a:pt x="2412" y="708"/>
                        </a:lnTo>
                        <a:lnTo>
                          <a:pt x="2420" y="709"/>
                        </a:lnTo>
                        <a:lnTo>
                          <a:pt x="2423" y="716"/>
                        </a:lnTo>
                        <a:lnTo>
                          <a:pt x="2422" y="728"/>
                        </a:lnTo>
                        <a:lnTo>
                          <a:pt x="2426" y="736"/>
                        </a:lnTo>
                        <a:lnTo>
                          <a:pt x="2433" y="751"/>
                        </a:lnTo>
                        <a:lnTo>
                          <a:pt x="2435" y="766"/>
                        </a:lnTo>
                        <a:lnTo>
                          <a:pt x="2430" y="782"/>
                        </a:lnTo>
                        <a:lnTo>
                          <a:pt x="2422" y="795"/>
                        </a:lnTo>
                        <a:lnTo>
                          <a:pt x="2349" y="829"/>
                        </a:lnTo>
                        <a:lnTo>
                          <a:pt x="2318" y="823"/>
                        </a:lnTo>
                        <a:lnTo>
                          <a:pt x="2288" y="819"/>
                        </a:lnTo>
                        <a:lnTo>
                          <a:pt x="2256" y="815"/>
                        </a:lnTo>
                        <a:lnTo>
                          <a:pt x="2225" y="812"/>
                        </a:lnTo>
                        <a:lnTo>
                          <a:pt x="2195" y="810"/>
                        </a:lnTo>
                        <a:lnTo>
                          <a:pt x="2163" y="809"/>
                        </a:lnTo>
                        <a:lnTo>
                          <a:pt x="2132" y="809"/>
                        </a:lnTo>
                        <a:lnTo>
                          <a:pt x="2101" y="810"/>
                        </a:lnTo>
                        <a:lnTo>
                          <a:pt x="2071" y="810"/>
                        </a:lnTo>
                        <a:lnTo>
                          <a:pt x="2039" y="812"/>
                        </a:lnTo>
                        <a:lnTo>
                          <a:pt x="2008" y="815"/>
                        </a:lnTo>
                        <a:lnTo>
                          <a:pt x="1978" y="816"/>
                        </a:lnTo>
                        <a:lnTo>
                          <a:pt x="1947" y="819"/>
                        </a:lnTo>
                        <a:lnTo>
                          <a:pt x="1917" y="822"/>
                        </a:lnTo>
                        <a:lnTo>
                          <a:pt x="1885" y="823"/>
                        </a:lnTo>
                        <a:lnTo>
                          <a:pt x="1855" y="826"/>
                        </a:lnTo>
                        <a:lnTo>
                          <a:pt x="1842" y="836"/>
                        </a:lnTo>
                        <a:lnTo>
                          <a:pt x="1862" y="846"/>
                        </a:lnTo>
                        <a:lnTo>
                          <a:pt x="1885" y="852"/>
                        </a:lnTo>
                        <a:lnTo>
                          <a:pt x="1908" y="856"/>
                        </a:lnTo>
                        <a:lnTo>
                          <a:pt x="1931" y="858"/>
                        </a:lnTo>
                        <a:lnTo>
                          <a:pt x="1955" y="860"/>
                        </a:lnTo>
                        <a:lnTo>
                          <a:pt x="1977" y="865"/>
                        </a:lnTo>
                        <a:lnTo>
                          <a:pt x="1997" y="875"/>
                        </a:lnTo>
                        <a:lnTo>
                          <a:pt x="2015" y="890"/>
                        </a:lnTo>
                        <a:lnTo>
                          <a:pt x="2029" y="903"/>
                        </a:lnTo>
                        <a:lnTo>
                          <a:pt x="2039" y="920"/>
                        </a:lnTo>
                        <a:lnTo>
                          <a:pt x="2042" y="939"/>
                        </a:lnTo>
                        <a:lnTo>
                          <a:pt x="2035" y="957"/>
                        </a:lnTo>
                        <a:lnTo>
                          <a:pt x="2025" y="983"/>
                        </a:lnTo>
                        <a:lnTo>
                          <a:pt x="2011" y="1006"/>
                        </a:lnTo>
                        <a:lnTo>
                          <a:pt x="1992" y="1026"/>
                        </a:lnTo>
                        <a:lnTo>
                          <a:pt x="1971" y="1043"/>
                        </a:lnTo>
                        <a:lnTo>
                          <a:pt x="1948" y="1060"/>
                        </a:lnTo>
                        <a:lnTo>
                          <a:pt x="1927" y="1076"/>
                        </a:lnTo>
                        <a:lnTo>
                          <a:pt x="1904" y="1092"/>
                        </a:lnTo>
                        <a:lnTo>
                          <a:pt x="1885" y="1109"/>
                        </a:lnTo>
                        <a:lnTo>
                          <a:pt x="1887" y="1119"/>
                        </a:lnTo>
                        <a:lnTo>
                          <a:pt x="1892" y="1127"/>
                        </a:lnTo>
                        <a:lnTo>
                          <a:pt x="1899" y="1133"/>
                        </a:lnTo>
                        <a:lnTo>
                          <a:pt x="1908" y="1137"/>
                        </a:lnTo>
                        <a:lnTo>
                          <a:pt x="1918" y="1142"/>
                        </a:lnTo>
                        <a:lnTo>
                          <a:pt x="1927" y="1146"/>
                        </a:lnTo>
                        <a:lnTo>
                          <a:pt x="1934" y="1151"/>
                        </a:lnTo>
                        <a:lnTo>
                          <a:pt x="1939" y="1159"/>
                        </a:lnTo>
                        <a:lnTo>
                          <a:pt x="1958" y="1179"/>
                        </a:lnTo>
                        <a:lnTo>
                          <a:pt x="1977" y="1199"/>
                        </a:lnTo>
                        <a:lnTo>
                          <a:pt x="1995" y="1220"/>
                        </a:lnTo>
                        <a:lnTo>
                          <a:pt x="2012" y="1243"/>
                        </a:lnTo>
                        <a:lnTo>
                          <a:pt x="2029" y="1264"/>
                        </a:lnTo>
                        <a:lnTo>
                          <a:pt x="2042" y="1287"/>
                        </a:lnTo>
                        <a:lnTo>
                          <a:pt x="2055" y="1310"/>
                        </a:lnTo>
                        <a:lnTo>
                          <a:pt x="2064" y="1331"/>
                        </a:lnTo>
                        <a:lnTo>
                          <a:pt x="2076" y="1338"/>
                        </a:lnTo>
                        <a:lnTo>
                          <a:pt x="2085" y="1351"/>
                        </a:lnTo>
                        <a:lnTo>
                          <a:pt x="2091" y="1367"/>
                        </a:lnTo>
                        <a:lnTo>
                          <a:pt x="2095" y="1383"/>
                        </a:lnTo>
                        <a:lnTo>
                          <a:pt x="2102" y="1397"/>
                        </a:lnTo>
                        <a:lnTo>
                          <a:pt x="2111" y="1408"/>
                        </a:lnTo>
                        <a:lnTo>
                          <a:pt x="2125" y="1414"/>
                        </a:lnTo>
                        <a:lnTo>
                          <a:pt x="2148" y="1414"/>
                        </a:lnTo>
                        <a:lnTo>
                          <a:pt x="2168" y="1417"/>
                        </a:lnTo>
                        <a:lnTo>
                          <a:pt x="2186" y="1420"/>
                        </a:lnTo>
                        <a:lnTo>
                          <a:pt x="2203" y="1424"/>
                        </a:lnTo>
                        <a:lnTo>
                          <a:pt x="2221" y="1428"/>
                        </a:lnTo>
                        <a:lnTo>
                          <a:pt x="2238" y="1434"/>
                        </a:lnTo>
                        <a:lnTo>
                          <a:pt x="2256" y="1438"/>
                        </a:lnTo>
                        <a:lnTo>
                          <a:pt x="2275" y="1444"/>
                        </a:lnTo>
                        <a:lnTo>
                          <a:pt x="2293" y="1448"/>
                        </a:lnTo>
                        <a:lnTo>
                          <a:pt x="2295" y="1455"/>
                        </a:lnTo>
                        <a:lnTo>
                          <a:pt x="2300" y="1460"/>
                        </a:lnTo>
                        <a:lnTo>
                          <a:pt x="2302" y="1464"/>
                        </a:lnTo>
                        <a:lnTo>
                          <a:pt x="2293" y="1468"/>
                        </a:lnTo>
                        <a:lnTo>
                          <a:pt x="2236" y="1455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H="1">
                    <a:off x="6249240" y="4621320"/>
                    <a:ext cx="2091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39">
                        <a:moveTo>
                          <a:pt x="263" y="115"/>
                        </a:moveTo>
                        <a:lnTo>
                          <a:pt x="259" y="122"/>
                        </a:lnTo>
                        <a:lnTo>
                          <a:pt x="253" y="129"/>
                        </a:lnTo>
                        <a:lnTo>
                          <a:pt x="246" y="134"/>
                        </a:lnTo>
                        <a:lnTo>
                          <a:pt x="237" y="138"/>
                        </a:lnTo>
                        <a:lnTo>
                          <a:pt x="227" y="139"/>
                        </a:lnTo>
                        <a:lnTo>
                          <a:pt x="219" y="139"/>
                        </a:lnTo>
                        <a:lnTo>
                          <a:pt x="210" y="136"/>
                        </a:lnTo>
                        <a:lnTo>
                          <a:pt x="203" y="131"/>
                        </a:lnTo>
                        <a:lnTo>
                          <a:pt x="177" y="121"/>
                        </a:lnTo>
                        <a:lnTo>
                          <a:pt x="150" y="112"/>
                        </a:lnTo>
                        <a:lnTo>
                          <a:pt x="123" y="102"/>
                        </a:lnTo>
                        <a:lnTo>
                          <a:pt x="96" y="94"/>
                        </a:lnTo>
                        <a:lnTo>
                          <a:pt x="70" y="85"/>
                        </a:lnTo>
                        <a:lnTo>
                          <a:pt x="44" y="75"/>
                        </a:lnTo>
                        <a:lnTo>
                          <a:pt x="22" y="67"/>
                        </a:lnTo>
                        <a:lnTo>
                          <a:pt x="0" y="57"/>
                        </a:lnTo>
                        <a:lnTo>
                          <a:pt x="9" y="51"/>
                        </a:lnTo>
                        <a:lnTo>
                          <a:pt x="13" y="42"/>
                        </a:lnTo>
                        <a:lnTo>
                          <a:pt x="17" y="34"/>
                        </a:lnTo>
                        <a:lnTo>
                          <a:pt x="20" y="24"/>
                        </a:lnTo>
                        <a:lnTo>
                          <a:pt x="23" y="15"/>
                        </a:lnTo>
                        <a:lnTo>
                          <a:pt x="29" y="8"/>
                        </a:lnTo>
                        <a:lnTo>
                          <a:pt x="37" y="2"/>
                        </a:lnTo>
                        <a:lnTo>
                          <a:pt x="49" y="0"/>
                        </a:lnTo>
                        <a:lnTo>
                          <a:pt x="63" y="1"/>
                        </a:lnTo>
                        <a:lnTo>
                          <a:pt x="79" y="4"/>
                        </a:lnTo>
                        <a:lnTo>
                          <a:pt x="96" y="8"/>
                        </a:lnTo>
                        <a:lnTo>
                          <a:pt x="114" y="14"/>
                        </a:lnTo>
                        <a:lnTo>
                          <a:pt x="133" y="21"/>
                        </a:lnTo>
                        <a:lnTo>
                          <a:pt x="152" y="28"/>
                        </a:lnTo>
                        <a:lnTo>
                          <a:pt x="170" y="37"/>
                        </a:lnTo>
                        <a:lnTo>
                          <a:pt x="189" y="47"/>
                        </a:lnTo>
                        <a:lnTo>
                          <a:pt x="204" y="55"/>
                        </a:lnTo>
                        <a:lnTo>
                          <a:pt x="220" y="65"/>
                        </a:lnTo>
                        <a:lnTo>
                          <a:pt x="234" y="75"/>
                        </a:lnTo>
                        <a:lnTo>
                          <a:pt x="246" y="84"/>
                        </a:lnTo>
                        <a:lnTo>
                          <a:pt x="254" y="94"/>
                        </a:lnTo>
                        <a:lnTo>
                          <a:pt x="260" y="101"/>
                        </a:lnTo>
                        <a:lnTo>
                          <a:pt x="264" y="109"/>
                        </a:lnTo>
                        <a:lnTo>
                          <a:pt x="263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>
                    <a:off x="6339600" y="4637160"/>
                    <a:ext cx="78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100" y="35"/>
                        </a:moveTo>
                        <a:lnTo>
                          <a:pt x="88" y="33"/>
                        </a:lnTo>
                        <a:lnTo>
                          <a:pt x="77" y="29"/>
                        </a:lnTo>
                        <a:lnTo>
                          <a:pt x="65" y="23"/>
                        </a:lnTo>
                        <a:lnTo>
                          <a:pt x="55" y="18"/>
                        </a:lnTo>
                        <a:lnTo>
                          <a:pt x="44" y="13"/>
                        </a:lnTo>
                        <a:lnTo>
                          <a:pt x="34" y="12"/>
                        </a:lnTo>
                        <a:lnTo>
                          <a:pt x="22" y="15"/>
                        </a:lnTo>
                        <a:lnTo>
                          <a:pt x="12" y="22"/>
                        </a:lnTo>
                        <a:lnTo>
                          <a:pt x="5" y="20"/>
                        </a:lnTo>
                        <a:lnTo>
                          <a:pt x="2" y="16"/>
                        </a:lnTo>
                        <a:lnTo>
                          <a:pt x="0" y="10"/>
                        </a:lnTo>
                        <a:lnTo>
                          <a:pt x="0" y="3"/>
                        </a:lnTo>
                        <a:lnTo>
                          <a:pt x="14" y="0"/>
                        </a:lnTo>
                        <a:lnTo>
                          <a:pt x="30" y="0"/>
                        </a:lnTo>
                        <a:lnTo>
                          <a:pt x="44" y="2"/>
                        </a:lnTo>
                        <a:lnTo>
                          <a:pt x="60" y="6"/>
                        </a:lnTo>
                        <a:lnTo>
                          <a:pt x="72" y="13"/>
                        </a:lnTo>
                        <a:lnTo>
                          <a:pt x="85" y="19"/>
                        </a:lnTo>
                        <a:lnTo>
                          <a:pt x="94" y="28"/>
                        </a:lnTo>
                        <a:lnTo>
                          <a:pt x="10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>
                    <a:off x="6361920" y="4727520"/>
                    <a:ext cx="240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34">
                        <a:moveTo>
                          <a:pt x="304" y="27"/>
                        </a:moveTo>
                        <a:lnTo>
                          <a:pt x="287" y="29"/>
                        </a:lnTo>
                        <a:lnTo>
                          <a:pt x="268" y="30"/>
                        </a:lnTo>
                        <a:lnTo>
                          <a:pt x="250" y="32"/>
                        </a:lnTo>
                        <a:lnTo>
                          <a:pt x="231" y="32"/>
                        </a:lnTo>
                        <a:lnTo>
                          <a:pt x="213" y="32"/>
                        </a:lnTo>
                        <a:lnTo>
                          <a:pt x="194" y="32"/>
                        </a:lnTo>
                        <a:lnTo>
                          <a:pt x="174" y="32"/>
                        </a:lnTo>
                        <a:lnTo>
                          <a:pt x="156" y="32"/>
                        </a:lnTo>
                        <a:lnTo>
                          <a:pt x="136" y="32"/>
                        </a:lnTo>
                        <a:lnTo>
                          <a:pt x="116" y="32"/>
                        </a:lnTo>
                        <a:lnTo>
                          <a:pt x="97" y="32"/>
                        </a:lnTo>
                        <a:lnTo>
                          <a:pt x="77" y="32"/>
                        </a:lnTo>
                        <a:lnTo>
                          <a:pt x="57" y="32"/>
                        </a:lnTo>
                        <a:lnTo>
                          <a:pt x="39" y="33"/>
                        </a:lnTo>
                        <a:lnTo>
                          <a:pt x="19" y="33"/>
                        </a:lnTo>
                        <a:lnTo>
                          <a:pt x="0" y="34"/>
                        </a:lnTo>
                        <a:lnTo>
                          <a:pt x="17" y="30"/>
                        </a:lnTo>
                        <a:lnTo>
                          <a:pt x="36" y="26"/>
                        </a:lnTo>
                        <a:lnTo>
                          <a:pt x="54" y="20"/>
                        </a:lnTo>
                        <a:lnTo>
                          <a:pt x="73" y="16"/>
                        </a:lnTo>
                        <a:lnTo>
                          <a:pt x="93" y="12"/>
                        </a:lnTo>
                        <a:lnTo>
                          <a:pt x="111" y="7"/>
                        </a:lnTo>
                        <a:lnTo>
                          <a:pt x="131" y="4"/>
                        </a:lnTo>
                        <a:lnTo>
                          <a:pt x="151" y="2"/>
                        </a:lnTo>
                        <a:lnTo>
                          <a:pt x="171" y="0"/>
                        </a:lnTo>
                        <a:lnTo>
                          <a:pt x="190" y="0"/>
                        </a:lnTo>
                        <a:lnTo>
                          <a:pt x="210" y="0"/>
                        </a:lnTo>
                        <a:lnTo>
                          <a:pt x="230" y="2"/>
                        </a:lnTo>
                        <a:lnTo>
                          <a:pt x="248" y="6"/>
                        </a:lnTo>
                        <a:lnTo>
                          <a:pt x="267" y="12"/>
                        </a:lnTo>
                        <a:lnTo>
                          <a:pt x="285" y="19"/>
                        </a:lnTo>
                        <a:lnTo>
                          <a:pt x="304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6130800" y="4764240"/>
                    <a:ext cx="63144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795" h="505">
                        <a:moveTo>
                          <a:pt x="792" y="29"/>
                        </a:moveTo>
                        <a:lnTo>
                          <a:pt x="795" y="32"/>
                        </a:lnTo>
                        <a:lnTo>
                          <a:pt x="791" y="39"/>
                        </a:lnTo>
                        <a:lnTo>
                          <a:pt x="782" y="45"/>
                        </a:lnTo>
                        <a:lnTo>
                          <a:pt x="772" y="49"/>
                        </a:lnTo>
                        <a:lnTo>
                          <a:pt x="761" y="52"/>
                        </a:lnTo>
                        <a:lnTo>
                          <a:pt x="748" y="55"/>
                        </a:lnTo>
                        <a:lnTo>
                          <a:pt x="735" y="57"/>
                        </a:lnTo>
                        <a:lnTo>
                          <a:pt x="722" y="59"/>
                        </a:lnTo>
                        <a:lnTo>
                          <a:pt x="711" y="60"/>
                        </a:lnTo>
                        <a:lnTo>
                          <a:pt x="632" y="19"/>
                        </a:lnTo>
                        <a:lnTo>
                          <a:pt x="625" y="26"/>
                        </a:lnTo>
                        <a:lnTo>
                          <a:pt x="640" y="33"/>
                        </a:lnTo>
                        <a:lnTo>
                          <a:pt x="655" y="43"/>
                        </a:lnTo>
                        <a:lnTo>
                          <a:pt x="670" y="53"/>
                        </a:lnTo>
                        <a:lnTo>
                          <a:pt x="684" y="65"/>
                        </a:lnTo>
                        <a:lnTo>
                          <a:pt x="695" y="79"/>
                        </a:lnTo>
                        <a:lnTo>
                          <a:pt x="705" y="94"/>
                        </a:lnTo>
                        <a:lnTo>
                          <a:pt x="712" y="112"/>
                        </a:lnTo>
                        <a:lnTo>
                          <a:pt x="715" y="130"/>
                        </a:lnTo>
                        <a:lnTo>
                          <a:pt x="702" y="136"/>
                        </a:lnTo>
                        <a:lnTo>
                          <a:pt x="691" y="132"/>
                        </a:lnTo>
                        <a:lnTo>
                          <a:pt x="682" y="126"/>
                        </a:lnTo>
                        <a:lnTo>
                          <a:pt x="679" y="122"/>
                        </a:lnTo>
                        <a:lnTo>
                          <a:pt x="684" y="112"/>
                        </a:lnTo>
                        <a:lnTo>
                          <a:pt x="681" y="104"/>
                        </a:lnTo>
                        <a:lnTo>
                          <a:pt x="672" y="99"/>
                        </a:lnTo>
                        <a:lnTo>
                          <a:pt x="664" y="93"/>
                        </a:lnTo>
                        <a:lnTo>
                          <a:pt x="655" y="92"/>
                        </a:lnTo>
                        <a:lnTo>
                          <a:pt x="648" y="90"/>
                        </a:lnTo>
                        <a:lnTo>
                          <a:pt x="640" y="90"/>
                        </a:lnTo>
                        <a:lnTo>
                          <a:pt x="632" y="90"/>
                        </a:lnTo>
                        <a:lnTo>
                          <a:pt x="632" y="97"/>
                        </a:lnTo>
                        <a:lnTo>
                          <a:pt x="635" y="103"/>
                        </a:lnTo>
                        <a:lnTo>
                          <a:pt x="640" y="106"/>
                        </a:lnTo>
                        <a:lnTo>
                          <a:pt x="645" y="109"/>
                        </a:lnTo>
                        <a:lnTo>
                          <a:pt x="654" y="109"/>
                        </a:lnTo>
                        <a:lnTo>
                          <a:pt x="648" y="117"/>
                        </a:lnTo>
                        <a:lnTo>
                          <a:pt x="635" y="119"/>
                        </a:lnTo>
                        <a:lnTo>
                          <a:pt x="625" y="123"/>
                        </a:lnTo>
                        <a:lnTo>
                          <a:pt x="625" y="137"/>
                        </a:lnTo>
                        <a:lnTo>
                          <a:pt x="654" y="150"/>
                        </a:lnTo>
                        <a:lnTo>
                          <a:pt x="647" y="152"/>
                        </a:lnTo>
                        <a:lnTo>
                          <a:pt x="640" y="153"/>
                        </a:lnTo>
                        <a:lnTo>
                          <a:pt x="632" y="154"/>
                        </a:lnTo>
                        <a:lnTo>
                          <a:pt x="628" y="160"/>
                        </a:lnTo>
                        <a:lnTo>
                          <a:pt x="628" y="172"/>
                        </a:lnTo>
                        <a:lnTo>
                          <a:pt x="631" y="183"/>
                        </a:lnTo>
                        <a:lnTo>
                          <a:pt x="637" y="192"/>
                        </a:lnTo>
                        <a:lnTo>
                          <a:pt x="644" y="199"/>
                        </a:lnTo>
                        <a:lnTo>
                          <a:pt x="651" y="204"/>
                        </a:lnTo>
                        <a:lnTo>
                          <a:pt x="661" y="210"/>
                        </a:lnTo>
                        <a:lnTo>
                          <a:pt x="670" y="213"/>
                        </a:lnTo>
                        <a:lnTo>
                          <a:pt x="679" y="214"/>
                        </a:lnTo>
                        <a:lnTo>
                          <a:pt x="684" y="200"/>
                        </a:lnTo>
                        <a:lnTo>
                          <a:pt x="694" y="190"/>
                        </a:lnTo>
                        <a:lnTo>
                          <a:pt x="701" y="180"/>
                        </a:lnTo>
                        <a:lnTo>
                          <a:pt x="702" y="166"/>
                        </a:lnTo>
                        <a:lnTo>
                          <a:pt x="708" y="166"/>
                        </a:lnTo>
                        <a:lnTo>
                          <a:pt x="708" y="182"/>
                        </a:lnTo>
                        <a:lnTo>
                          <a:pt x="707" y="196"/>
                        </a:lnTo>
                        <a:lnTo>
                          <a:pt x="704" y="209"/>
                        </a:lnTo>
                        <a:lnTo>
                          <a:pt x="698" y="221"/>
                        </a:lnTo>
                        <a:lnTo>
                          <a:pt x="692" y="233"/>
                        </a:lnTo>
                        <a:lnTo>
                          <a:pt x="684" y="243"/>
                        </a:lnTo>
                        <a:lnTo>
                          <a:pt x="672" y="253"/>
                        </a:lnTo>
                        <a:lnTo>
                          <a:pt x="661" y="261"/>
                        </a:lnTo>
                        <a:lnTo>
                          <a:pt x="651" y="263"/>
                        </a:lnTo>
                        <a:lnTo>
                          <a:pt x="642" y="266"/>
                        </a:lnTo>
                        <a:lnTo>
                          <a:pt x="634" y="269"/>
                        </a:lnTo>
                        <a:lnTo>
                          <a:pt x="625" y="274"/>
                        </a:lnTo>
                        <a:lnTo>
                          <a:pt x="632" y="283"/>
                        </a:lnTo>
                        <a:lnTo>
                          <a:pt x="642" y="286"/>
                        </a:lnTo>
                        <a:lnTo>
                          <a:pt x="652" y="284"/>
                        </a:lnTo>
                        <a:lnTo>
                          <a:pt x="662" y="283"/>
                        </a:lnTo>
                        <a:lnTo>
                          <a:pt x="674" y="280"/>
                        </a:lnTo>
                        <a:lnTo>
                          <a:pt x="685" y="279"/>
                        </a:lnTo>
                        <a:lnTo>
                          <a:pt x="697" y="279"/>
                        </a:lnTo>
                        <a:lnTo>
                          <a:pt x="708" y="284"/>
                        </a:lnTo>
                        <a:lnTo>
                          <a:pt x="715" y="291"/>
                        </a:lnTo>
                        <a:lnTo>
                          <a:pt x="722" y="299"/>
                        </a:lnTo>
                        <a:lnTo>
                          <a:pt x="729" y="306"/>
                        </a:lnTo>
                        <a:lnTo>
                          <a:pt x="735" y="314"/>
                        </a:lnTo>
                        <a:lnTo>
                          <a:pt x="739" y="323"/>
                        </a:lnTo>
                        <a:lnTo>
                          <a:pt x="742" y="331"/>
                        </a:lnTo>
                        <a:lnTo>
                          <a:pt x="741" y="341"/>
                        </a:lnTo>
                        <a:lnTo>
                          <a:pt x="737" y="351"/>
                        </a:lnTo>
                        <a:lnTo>
                          <a:pt x="728" y="363"/>
                        </a:lnTo>
                        <a:lnTo>
                          <a:pt x="715" y="373"/>
                        </a:lnTo>
                        <a:lnTo>
                          <a:pt x="701" y="381"/>
                        </a:lnTo>
                        <a:lnTo>
                          <a:pt x="684" y="388"/>
                        </a:lnTo>
                        <a:lnTo>
                          <a:pt x="667" y="394"/>
                        </a:lnTo>
                        <a:lnTo>
                          <a:pt x="648" y="398"/>
                        </a:lnTo>
                        <a:lnTo>
                          <a:pt x="630" y="398"/>
                        </a:lnTo>
                        <a:lnTo>
                          <a:pt x="612" y="397"/>
                        </a:lnTo>
                        <a:lnTo>
                          <a:pt x="597" y="393"/>
                        </a:lnTo>
                        <a:lnTo>
                          <a:pt x="584" y="390"/>
                        </a:lnTo>
                        <a:lnTo>
                          <a:pt x="574" y="386"/>
                        </a:lnTo>
                        <a:lnTo>
                          <a:pt x="565" y="381"/>
                        </a:lnTo>
                        <a:lnTo>
                          <a:pt x="560" y="378"/>
                        </a:lnTo>
                        <a:lnTo>
                          <a:pt x="555" y="377"/>
                        </a:lnTo>
                        <a:lnTo>
                          <a:pt x="552" y="374"/>
                        </a:lnTo>
                        <a:lnTo>
                          <a:pt x="552" y="374"/>
                        </a:lnTo>
                        <a:lnTo>
                          <a:pt x="530" y="390"/>
                        </a:lnTo>
                        <a:lnTo>
                          <a:pt x="507" y="406"/>
                        </a:lnTo>
                        <a:lnTo>
                          <a:pt x="483" y="420"/>
                        </a:lnTo>
                        <a:lnTo>
                          <a:pt x="457" y="434"/>
                        </a:lnTo>
                        <a:lnTo>
                          <a:pt x="431" y="448"/>
                        </a:lnTo>
                        <a:lnTo>
                          <a:pt x="404" y="461"/>
                        </a:lnTo>
                        <a:lnTo>
                          <a:pt x="377" y="473"/>
                        </a:lnTo>
                        <a:lnTo>
                          <a:pt x="350" y="483"/>
                        </a:lnTo>
                        <a:lnTo>
                          <a:pt x="321" y="491"/>
                        </a:lnTo>
                        <a:lnTo>
                          <a:pt x="291" y="497"/>
                        </a:lnTo>
                        <a:lnTo>
                          <a:pt x="263" y="503"/>
                        </a:lnTo>
                        <a:lnTo>
                          <a:pt x="233" y="505"/>
                        </a:lnTo>
                        <a:lnTo>
                          <a:pt x="203" y="505"/>
                        </a:lnTo>
                        <a:lnTo>
                          <a:pt x="173" y="504"/>
                        </a:lnTo>
                        <a:lnTo>
                          <a:pt x="143" y="500"/>
                        </a:lnTo>
                        <a:lnTo>
                          <a:pt x="113" y="493"/>
                        </a:lnTo>
                        <a:lnTo>
                          <a:pt x="87" y="483"/>
                        </a:lnTo>
                        <a:lnTo>
                          <a:pt x="64" y="470"/>
                        </a:lnTo>
                        <a:lnTo>
                          <a:pt x="46" y="454"/>
                        </a:lnTo>
                        <a:lnTo>
                          <a:pt x="32" y="437"/>
                        </a:lnTo>
                        <a:lnTo>
                          <a:pt x="19" y="416"/>
                        </a:lnTo>
                        <a:lnTo>
                          <a:pt x="10" y="394"/>
                        </a:lnTo>
                        <a:lnTo>
                          <a:pt x="4" y="368"/>
                        </a:lnTo>
                        <a:lnTo>
                          <a:pt x="0" y="343"/>
                        </a:lnTo>
                        <a:lnTo>
                          <a:pt x="4" y="316"/>
                        </a:lnTo>
                        <a:lnTo>
                          <a:pt x="12" y="290"/>
                        </a:lnTo>
                        <a:lnTo>
                          <a:pt x="22" y="266"/>
                        </a:lnTo>
                        <a:lnTo>
                          <a:pt x="33" y="241"/>
                        </a:lnTo>
                        <a:lnTo>
                          <a:pt x="44" y="219"/>
                        </a:lnTo>
                        <a:lnTo>
                          <a:pt x="59" y="197"/>
                        </a:lnTo>
                        <a:lnTo>
                          <a:pt x="74" y="177"/>
                        </a:lnTo>
                        <a:lnTo>
                          <a:pt x="92" y="157"/>
                        </a:lnTo>
                        <a:lnTo>
                          <a:pt x="109" y="139"/>
                        </a:lnTo>
                        <a:lnTo>
                          <a:pt x="127" y="120"/>
                        </a:lnTo>
                        <a:lnTo>
                          <a:pt x="147" y="102"/>
                        </a:lnTo>
                        <a:lnTo>
                          <a:pt x="167" y="84"/>
                        </a:lnTo>
                        <a:lnTo>
                          <a:pt x="187" y="67"/>
                        </a:lnTo>
                        <a:lnTo>
                          <a:pt x="207" y="52"/>
                        </a:lnTo>
                        <a:lnTo>
                          <a:pt x="227" y="35"/>
                        </a:lnTo>
                        <a:lnTo>
                          <a:pt x="247" y="19"/>
                        </a:lnTo>
                        <a:lnTo>
                          <a:pt x="259" y="16"/>
                        </a:lnTo>
                        <a:lnTo>
                          <a:pt x="270" y="15"/>
                        </a:lnTo>
                        <a:lnTo>
                          <a:pt x="283" y="13"/>
                        </a:lnTo>
                        <a:lnTo>
                          <a:pt x="296" y="12"/>
                        </a:lnTo>
                        <a:lnTo>
                          <a:pt x="308" y="13"/>
                        </a:lnTo>
                        <a:lnTo>
                          <a:pt x="318" y="16"/>
                        </a:lnTo>
                        <a:lnTo>
                          <a:pt x="328" y="20"/>
                        </a:lnTo>
                        <a:lnTo>
                          <a:pt x="337" y="26"/>
                        </a:lnTo>
                        <a:lnTo>
                          <a:pt x="321" y="47"/>
                        </a:lnTo>
                        <a:lnTo>
                          <a:pt x="303" y="66"/>
                        </a:lnTo>
                        <a:lnTo>
                          <a:pt x="281" y="83"/>
                        </a:lnTo>
                        <a:lnTo>
                          <a:pt x="259" y="99"/>
                        </a:lnTo>
                        <a:lnTo>
                          <a:pt x="234" y="113"/>
                        </a:lnTo>
                        <a:lnTo>
                          <a:pt x="210" y="127"/>
                        </a:lnTo>
                        <a:lnTo>
                          <a:pt x="186" y="142"/>
                        </a:lnTo>
                        <a:lnTo>
                          <a:pt x="161" y="156"/>
                        </a:lnTo>
                        <a:lnTo>
                          <a:pt x="163" y="167"/>
                        </a:lnTo>
                        <a:lnTo>
                          <a:pt x="167" y="179"/>
                        </a:lnTo>
                        <a:lnTo>
                          <a:pt x="173" y="190"/>
                        </a:lnTo>
                        <a:lnTo>
                          <a:pt x="180" y="200"/>
                        </a:lnTo>
                        <a:lnTo>
                          <a:pt x="189" y="210"/>
                        </a:lnTo>
                        <a:lnTo>
                          <a:pt x="199" y="219"/>
                        </a:lnTo>
                        <a:lnTo>
                          <a:pt x="209" y="226"/>
                        </a:lnTo>
                        <a:lnTo>
                          <a:pt x="221" y="230"/>
                        </a:lnTo>
                        <a:lnTo>
                          <a:pt x="231" y="231"/>
                        </a:lnTo>
                        <a:lnTo>
                          <a:pt x="239" y="226"/>
                        </a:lnTo>
                        <a:lnTo>
                          <a:pt x="243" y="217"/>
                        </a:lnTo>
                        <a:lnTo>
                          <a:pt x="247" y="211"/>
                        </a:lnTo>
                        <a:lnTo>
                          <a:pt x="193" y="157"/>
                        </a:lnTo>
                        <a:lnTo>
                          <a:pt x="201" y="153"/>
                        </a:lnTo>
                        <a:lnTo>
                          <a:pt x="211" y="149"/>
                        </a:lnTo>
                        <a:lnTo>
                          <a:pt x="220" y="144"/>
                        </a:lnTo>
                        <a:lnTo>
                          <a:pt x="231" y="139"/>
                        </a:lnTo>
                        <a:lnTo>
                          <a:pt x="241" y="134"/>
                        </a:lnTo>
                        <a:lnTo>
                          <a:pt x="251" y="130"/>
                        </a:lnTo>
                        <a:lnTo>
                          <a:pt x="263" y="126"/>
                        </a:lnTo>
                        <a:lnTo>
                          <a:pt x="273" y="122"/>
                        </a:lnTo>
                        <a:lnTo>
                          <a:pt x="288" y="112"/>
                        </a:lnTo>
                        <a:lnTo>
                          <a:pt x="304" y="102"/>
                        </a:lnTo>
                        <a:lnTo>
                          <a:pt x="320" y="90"/>
                        </a:lnTo>
                        <a:lnTo>
                          <a:pt x="334" y="77"/>
                        </a:lnTo>
                        <a:lnTo>
                          <a:pt x="346" y="65"/>
                        </a:lnTo>
                        <a:lnTo>
                          <a:pt x="356" y="49"/>
                        </a:lnTo>
                        <a:lnTo>
                          <a:pt x="364" y="33"/>
                        </a:lnTo>
                        <a:lnTo>
                          <a:pt x="368" y="16"/>
                        </a:lnTo>
                        <a:lnTo>
                          <a:pt x="386" y="17"/>
                        </a:lnTo>
                        <a:lnTo>
                          <a:pt x="403" y="17"/>
                        </a:lnTo>
                        <a:lnTo>
                          <a:pt x="420" y="16"/>
                        </a:lnTo>
                        <a:lnTo>
                          <a:pt x="435" y="15"/>
                        </a:lnTo>
                        <a:lnTo>
                          <a:pt x="451" y="12"/>
                        </a:lnTo>
                        <a:lnTo>
                          <a:pt x="468" y="9"/>
                        </a:lnTo>
                        <a:lnTo>
                          <a:pt x="484" y="5"/>
                        </a:lnTo>
                        <a:lnTo>
                          <a:pt x="501" y="0"/>
                        </a:lnTo>
                        <a:lnTo>
                          <a:pt x="521" y="3"/>
                        </a:lnTo>
                        <a:lnTo>
                          <a:pt x="540" y="5"/>
                        </a:lnTo>
                        <a:lnTo>
                          <a:pt x="558" y="6"/>
                        </a:lnTo>
                        <a:lnTo>
                          <a:pt x="577" y="7"/>
                        </a:lnTo>
                        <a:lnTo>
                          <a:pt x="594" y="9"/>
                        </a:lnTo>
                        <a:lnTo>
                          <a:pt x="612" y="10"/>
                        </a:lnTo>
                        <a:lnTo>
                          <a:pt x="630" y="12"/>
                        </a:lnTo>
                        <a:lnTo>
                          <a:pt x="647" y="13"/>
                        </a:lnTo>
                        <a:lnTo>
                          <a:pt x="665" y="15"/>
                        </a:lnTo>
                        <a:lnTo>
                          <a:pt x="682" y="16"/>
                        </a:lnTo>
                        <a:lnTo>
                          <a:pt x="699" y="17"/>
                        </a:lnTo>
                        <a:lnTo>
                          <a:pt x="718" y="19"/>
                        </a:lnTo>
                        <a:lnTo>
                          <a:pt x="737" y="20"/>
                        </a:lnTo>
                        <a:lnTo>
                          <a:pt x="755" y="23"/>
                        </a:lnTo>
                        <a:lnTo>
                          <a:pt x="774" y="26"/>
                        </a:lnTo>
                        <a:lnTo>
                          <a:pt x="792" y="29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>
                    <a:off x="6311880" y="4781520"/>
                    <a:ext cx="91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54">
                        <a:moveTo>
                          <a:pt x="117" y="54"/>
                        </a:moveTo>
                        <a:lnTo>
                          <a:pt x="106" y="50"/>
                        </a:lnTo>
                        <a:lnTo>
                          <a:pt x="93" y="45"/>
                        </a:lnTo>
                        <a:lnTo>
                          <a:pt x="80" y="40"/>
                        </a:lnTo>
                        <a:lnTo>
                          <a:pt x="66" y="34"/>
                        </a:lnTo>
                        <a:lnTo>
                          <a:pt x="52" y="30"/>
                        </a:lnTo>
                        <a:lnTo>
                          <a:pt x="36" y="27"/>
                        </a:lnTo>
                        <a:lnTo>
                          <a:pt x="19" y="25"/>
                        </a:lnTo>
                        <a:lnTo>
                          <a:pt x="2" y="28"/>
                        </a:lnTo>
                        <a:lnTo>
                          <a:pt x="0" y="21"/>
                        </a:lnTo>
                        <a:lnTo>
                          <a:pt x="2" y="17"/>
                        </a:lnTo>
                        <a:lnTo>
                          <a:pt x="4" y="11"/>
                        </a:lnTo>
                        <a:lnTo>
                          <a:pt x="10" y="8"/>
                        </a:lnTo>
                        <a:lnTo>
                          <a:pt x="17" y="5"/>
                        </a:lnTo>
                        <a:lnTo>
                          <a:pt x="24" y="3"/>
                        </a:lnTo>
                        <a:lnTo>
                          <a:pt x="32" y="1"/>
                        </a:lnTo>
                        <a:lnTo>
                          <a:pt x="37" y="0"/>
                        </a:lnTo>
                        <a:lnTo>
                          <a:pt x="52" y="3"/>
                        </a:lnTo>
                        <a:lnTo>
                          <a:pt x="63" y="5"/>
                        </a:lnTo>
                        <a:lnTo>
                          <a:pt x="76" y="11"/>
                        </a:lnTo>
                        <a:lnTo>
                          <a:pt x="86" y="18"/>
                        </a:lnTo>
                        <a:lnTo>
                          <a:pt x="96" y="25"/>
                        </a:lnTo>
                        <a:lnTo>
                          <a:pt x="104" y="34"/>
                        </a:lnTo>
                        <a:lnTo>
                          <a:pt x="111" y="44"/>
                        </a:lnTo>
                        <a:lnTo>
                          <a:pt x="117" y="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6553800" y="4802040"/>
                    <a:ext cx="39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45">
                        <a:moveTo>
                          <a:pt x="52" y="26"/>
                        </a:moveTo>
                        <a:lnTo>
                          <a:pt x="46" y="37"/>
                        </a:lnTo>
                        <a:lnTo>
                          <a:pt x="36" y="43"/>
                        </a:lnTo>
                        <a:lnTo>
                          <a:pt x="23" y="45"/>
                        </a:lnTo>
                        <a:lnTo>
                          <a:pt x="10" y="42"/>
                        </a:lnTo>
                        <a:lnTo>
                          <a:pt x="0" y="32"/>
                        </a:lnTo>
                        <a:lnTo>
                          <a:pt x="2" y="20"/>
                        </a:lnTo>
                        <a:lnTo>
                          <a:pt x="9" y="9"/>
                        </a:lnTo>
                        <a:lnTo>
                          <a:pt x="18" y="0"/>
                        </a:lnTo>
                        <a:lnTo>
                          <a:pt x="30" y="2"/>
                        </a:lnTo>
                        <a:lnTo>
                          <a:pt x="42" y="5"/>
                        </a:lnTo>
                        <a:lnTo>
                          <a:pt x="50" y="13"/>
                        </a:lnTo>
                        <a:lnTo>
                          <a:pt x="52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6369840" y="4829040"/>
                    <a:ext cx="486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5">
                        <a:moveTo>
                          <a:pt x="63" y="24"/>
                        </a:moveTo>
                        <a:lnTo>
                          <a:pt x="62" y="34"/>
                        </a:lnTo>
                        <a:lnTo>
                          <a:pt x="59" y="42"/>
                        </a:lnTo>
                        <a:lnTo>
                          <a:pt x="52" y="51"/>
                        </a:lnTo>
                        <a:lnTo>
                          <a:pt x="43" y="55"/>
                        </a:lnTo>
                        <a:lnTo>
                          <a:pt x="30" y="52"/>
                        </a:lnTo>
                        <a:lnTo>
                          <a:pt x="19" y="50"/>
                        </a:lnTo>
                        <a:lnTo>
                          <a:pt x="7" y="45"/>
                        </a:lnTo>
                        <a:lnTo>
                          <a:pt x="2" y="37"/>
                        </a:lnTo>
                        <a:lnTo>
                          <a:pt x="0" y="24"/>
                        </a:lnTo>
                        <a:lnTo>
                          <a:pt x="7" y="17"/>
                        </a:lnTo>
                        <a:lnTo>
                          <a:pt x="17" y="10"/>
                        </a:lnTo>
                        <a:lnTo>
                          <a:pt x="24" y="1"/>
                        </a:lnTo>
                        <a:lnTo>
                          <a:pt x="37" y="0"/>
                        </a:lnTo>
                        <a:lnTo>
                          <a:pt x="50" y="4"/>
                        </a:lnTo>
                        <a:lnTo>
                          <a:pt x="59" y="12"/>
                        </a:lnTo>
                        <a:lnTo>
                          <a:pt x="63" y="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6392520" y="4913280"/>
                    <a:ext cx="33480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187">
                        <a:moveTo>
                          <a:pt x="79" y="2"/>
                        </a:moveTo>
                        <a:lnTo>
                          <a:pt x="79" y="12"/>
                        </a:lnTo>
                        <a:lnTo>
                          <a:pt x="76" y="17"/>
                        </a:lnTo>
                        <a:lnTo>
                          <a:pt x="70" y="20"/>
                        </a:lnTo>
                        <a:lnTo>
                          <a:pt x="63" y="22"/>
                        </a:lnTo>
                        <a:lnTo>
                          <a:pt x="56" y="23"/>
                        </a:lnTo>
                        <a:lnTo>
                          <a:pt x="49" y="24"/>
                        </a:lnTo>
                        <a:lnTo>
                          <a:pt x="42" y="29"/>
                        </a:lnTo>
                        <a:lnTo>
                          <a:pt x="38" y="36"/>
                        </a:lnTo>
                        <a:lnTo>
                          <a:pt x="48" y="46"/>
                        </a:lnTo>
                        <a:lnTo>
                          <a:pt x="58" y="54"/>
                        </a:lnTo>
                        <a:lnTo>
                          <a:pt x="65" y="63"/>
                        </a:lnTo>
                        <a:lnTo>
                          <a:pt x="72" y="72"/>
                        </a:lnTo>
                        <a:lnTo>
                          <a:pt x="89" y="83"/>
                        </a:lnTo>
                        <a:lnTo>
                          <a:pt x="106" y="93"/>
                        </a:lnTo>
                        <a:lnTo>
                          <a:pt x="125" y="100"/>
                        </a:lnTo>
                        <a:lnTo>
                          <a:pt x="143" y="107"/>
                        </a:lnTo>
                        <a:lnTo>
                          <a:pt x="163" y="113"/>
                        </a:lnTo>
                        <a:lnTo>
                          <a:pt x="182" y="117"/>
                        </a:lnTo>
                        <a:lnTo>
                          <a:pt x="202" y="119"/>
                        </a:lnTo>
                        <a:lnTo>
                          <a:pt x="222" y="120"/>
                        </a:lnTo>
                        <a:lnTo>
                          <a:pt x="242" y="122"/>
                        </a:lnTo>
                        <a:lnTo>
                          <a:pt x="262" y="120"/>
                        </a:lnTo>
                        <a:lnTo>
                          <a:pt x="282" y="119"/>
                        </a:lnTo>
                        <a:lnTo>
                          <a:pt x="302" y="116"/>
                        </a:lnTo>
                        <a:lnTo>
                          <a:pt x="320" y="113"/>
                        </a:lnTo>
                        <a:lnTo>
                          <a:pt x="340" y="109"/>
                        </a:lnTo>
                        <a:lnTo>
                          <a:pt x="359" y="103"/>
                        </a:lnTo>
                        <a:lnTo>
                          <a:pt x="377" y="97"/>
                        </a:lnTo>
                        <a:lnTo>
                          <a:pt x="377" y="104"/>
                        </a:lnTo>
                        <a:lnTo>
                          <a:pt x="386" y="104"/>
                        </a:lnTo>
                        <a:lnTo>
                          <a:pt x="394" y="99"/>
                        </a:lnTo>
                        <a:lnTo>
                          <a:pt x="400" y="90"/>
                        </a:lnTo>
                        <a:lnTo>
                          <a:pt x="404" y="82"/>
                        </a:lnTo>
                        <a:lnTo>
                          <a:pt x="403" y="67"/>
                        </a:lnTo>
                        <a:lnTo>
                          <a:pt x="397" y="54"/>
                        </a:lnTo>
                        <a:lnTo>
                          <a:pt x="387" y="44"/>
                        </a:lnTo>
                        <a:lnTo>
                          <a:pt x="376" y="36"/>
                        </a:lnTo>
                        <a:lnTo>
                          <a:pt x="360" y="30"/>
                        </a:lnTo>
                        <a:lnTo>
                          <a:pt x="342" y="27"/>
                        </a:lnTo>
                        <a:lnTo>
                          <a:pt x="323" y="26"/>
                        </a:lnTo>
                        <a:lnTo>
                          <a:pt x="303" y="27"/>
                        </a:lnTo>
                        <a:lnTo>
                          <a:pt x="307" y="22"/>
                        </a:lnTo>
                        <a:lnTo>
                          <a:pt x="314" y="16"/>
                        </a:lnTo>
                        <a:lnTo>
                          <a:pt x="322" y="13"/>
                        </a:lnTo>
                        <a:lnTo>
                          <a:pt x="330" y="12"/>
                        </a:lnTo>
                        <a:lnTo>
                          <a:pt x="340" y="12"/>
                        </a:lnTo>
                        <a:lnTo>
                          <a:pt x="349" y="12"/>
                        </a:lnTo>
                        <a:lnTo>
                          <a:pt x="359" y="12"/>
                        </a:lnTo>
                        <a:lnTo>
                          <a:pt x="367" y="12"/>
                        </a:lnTo>
                        <a:lnTo>
                          <a:pt x="379" y="14"/>
                        </a:lnTo>
                        <a:lnTo>
                          <a:pt x="393" y="23"/>
                        </a:lnTo>
                        <a:lnTo>
                          <a:pt x="407" y="36"/>
                        </a:lnTo>
                        <a:lnTo>
                          <a:pt x="419" y="53"/>
                        </a:lnTo>
                        <a:lnTo>
                          <a:pt x="423" y="74"/>
                        </a:lnTo>
                        <a:lnTo>
                          <a:pt x="417" y="100"/>
                        </a:lnTo>
                        <a:lnTo>
                          <a:pt x="400" y="129"/>
                        </a:lnTo>
                        <a:lnTo>
                          <a:pt x="367" y="159"/>
                        </a:lnTo>
                        <a:lnTo>
                          <a:pt x="322" y="187"/>
                        </a:lnTo>
                        <a:lnTo>
                          <a:pt x="322" y="177"/>
                        </a:lnTo>
                        <a:lnTo>
                          <a:pt x="329" y="169"/>
                        </a:lnTo>
                        <a:lnTo>
                          <a:pt x="339" y="160"/>
                        </a:lnTo>
                        <a:lnTo>
                          <a:pt x="352" y="151"/>
                        </a:lnTo>
                        <a:lnTo>
                          <a:pt x="363" y="143"/>
                        </a:lnTo>
                        <a:lnTo>
                          <a:pt x="371" y="133"/>
                        </a:lnTo>
                        <a:lnTo>
                          <a:pt x="374" y="124"/>
                        </a:lnTo>
                        <a:lnTo>
                          <a:pt x="370" y="113"/>
                        </a:lnTo>
                        <a:lnTo>
                          <a:pt x="353" y="122"/>
                        </a:lnTo>
                        <a:lnTo>
                          <a:pt x="334" y="130"/>
                        </a:lnTo>
                        <a:lnTo>
                          <a:pt x="316" y="136"/>
                        </a:lnTo>
                        <a:lnTo>
                          <a:pt x="297" y="140"/>
                        </a:lnTo>
                        <a:lnTo>
                          <a:pt x="276" y="143"/>
                        </a:lnTo>
                        <a:lnTo>
                          <a:pt x="256" y="144"/>
                        </a:lnTo>
                        <a:lnTo>
                          <a:pt x="236" y="144"/>
                        </a:lnTo>
                        <a:lnTo>
                          <a:pt x="216" y="143"/>
                        </a:lnTo>
                        <a:lnTo>
                          <a:pt x="196" y="141"/>
                        </a:lnTo>
                        <a:lnTo>
                          <a:pt x="176" y="139"/>
                        </a:lnTo>
                        <a:lnTo>
                          <a:pt x="157" y="134"/>
                        </a:lnTo>
                        <a:lnTo>
                          <a:pt x="140" y="130"/>
                        </a:lnTo>
                        <a:lnTo>
                          <a:pt x="125" y="124"/>
                        </a:lnTo>
                        <a:lnTo>
                          <a:pt x="109" y="119"/>
                        </a:lnTo>
                        <a:lnTo>
                          <a:pt x="96" y="112"/>
                        </a:lnTo>
                        <a:lnTo>
                          <a:pt x="85" y="104"/>
                        </a:lnTo>
                        <a:lnTo>
                          <a:pt x="73" y="96"/>
                        </a:lnTo>
                        <a:lnTo>
                          <a:pt x="62" y="86"/>
                        </a:lnTo>
                        <a:lnTo>
                          <a:pt x="52" y="76"/>
                        </a:lnTo>
                        <a:lnTo>
                          <a:pt x="43" y="66"/>
                        </a:lnTo>
                        <a:lnTo>
                          <a:pt x="38" y="59"/>
                        </a:lnTo>
                        <a:lnTo>
                          <a:pt x="32" y="52"/>
                        </a:lnTo>
                        <a:lnTo>
                          <a:pt x="29" y="47"/>
                        </a:lnTo>
                        <a:lnTo>
                          <a:pt x="28" y="46"/>
                        </a:lnTo>
                        <a:lnTo>
                          <a:pt x="25" y="53"/>
                        </a:lnTo>
                        <a:lnTo>
                          <a:pt x="19" y="57"/>
                        </a:lnTo>
                        <a:lnTo>
                          <a:pt x="13" y="63"/>
                        </a:lnTo>
                        <a:lnTo>
                          <a:pt x="9" y="66"/>
                        </a:lnTo>
                        <a:lnTo>
                          <a:pt x="0" y="60"/>
                        </a:lnTo>
                        <a:lnTo>
                          <a:pt x="3" y="47"/>
                        </a:lnTo>
                        <a:lnTo>
                          <a:pt x="12" y="33"/>
                        </a:lnTo>
                        <a:lnTo>
                          <a:pt x="18" y="20"/>
                        </a:lnTo>
                        <a:lnTo>
                          <a:pt x="23" y="16"/>
                        </a:lnTo>
                        <a:lnTo>
                          <a:pt x="30" y="12"/>
                        </a:lnTo>
                        <a:lnTo>
                          <a:pt x="38" y="7"/>
                        </a:lnTo>
                        <a:lnTo>
                          <a:pt x="46" y="5"/>
                        </a:lnTo>
                        <a:lnTo>
                          <a:pt x="53" y="2"/>
                        </a:lnTo>
                        <a:lnTo>
                          <a:pt x="62" y="0"/>
                        </a:lnTo>
                        <a:lnTo>
                          <a:pt x="70" y="0"/>
                        </a:lnTo>
                        <a:lnTo>
                          <a:pt x="79" y="2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H="1">
                    <a:off x="6359400" y="4981680"/>
                    <a:ext cx="597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87">
                        <a:moveTo>
                          <a:pt x="71" y="36"/>
                        </a:moveTo>
                        <a:lnTo>
                          <a:pt x="67" y="46"/>
                        </a:lnTo>
                        <a:lnTo>
                          <a:pt x="60" y="54"/>
                        </a:lnTo>
                        <a:lnTo>
                          <a:pt x="51" y="62"/>
                        </a:lnTo>
                        <a:lnTo>
                          <a:pt x="42" y="69"/>
                        </a:lnTo>
                        <a:lnTo>
                          <a:pt x="32" y="74"/>
                        </a:lnTo>
                        <a:lnTo>
                          <a:pt x="21" y="79"/>
                        </a:lnTo>
                        <a:lnTo>
                          <a:pt x="11" y="83"/>
                        </a:lnTo>
                        <a:lnTo>
                          <a:pt x="0" y="87"/>
                        </a:lnTo>
                        <a:lnTo>
                          <a:pt x="10" y="77"/>
                        </a:lnTo>
                        <a:lnTo>
                          <a:pt x="18" y="67"/>
                        </a:lnTo>
                        <a:lnTo>
                          <a:pt x="27" y="56"/>
                        </a:lnTo>
                        <a:lnTo>
                          <a:pt x="35" y="46"/>
                        </a:lnTo>
                        <a:lnTo>
                          <a:pt x="44" y="35"/>
                        </a:lnTo>
                        <a:lnTo>
                          <a:pt x="52" y="23"/>
                        </a:lnTo>
                        <a:lnTo>
                          <a:pt x="60" y="12"/>
                        </a:lnTo>
                        <a:lnTo>
                          <a:pt x="67" y="0"/>
                        </a:lnTo>
                        <a:lnTo>
                          <a:pt x="75" y="6"/>
                        </a:lnTo>
                        <a:lnTo>
                          <a:pt x="74" y="13"/>
                        </a:lnTo>
                        <a:lnTo>
                          <a:pt x="70" y="25"/>
                        </a:lnTo>
                        <a:lnTo>
                          <a:pt x="71" y="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H="1">
                    <a:off x="6192720" y="5000760"/>
                    <a:ext cx="835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74">
                        <a:moveTo>
                          <a:pt x="106" y="24"/>
                        </a:moveTo>
                        <a:lnTo>
                          <a:pt x="99" y="24"/>
                        </a:lnTo>
                        <a:lnTo>
                          <a:pt x="92" y="24"/>
                        </a:lnTo>
                        <a:lnTo>
                          <a:pt x="85" y="21"/>
                        </a:lnTo>
                        <a:lnTo>
                          <a:pt x="76" y="19"/>
                        </a:lnTo>
                        <a:lnTo>
                          <a:pt x="69" y="17"/>
                        </a:lnTo>
                        <a:lnTo>
                          <a:pt x="62" y="17"/>
                        </a:lnTo>
                        <a:lnTo>
                          <a:pt x="55" y="18"/>
                        </a:lnTo>
                        <a:lnTo>
                          <a:pt x="46" y="21"/>
                        </a:lnTo>
                        <a:lnTo>
                          <a:pt x="49" y="32"/>
                        </a:lnTo>
                        <a:lnTo>
                          <a:pt x="56" y="44"/>
                        </a:lnTo>
                        <a:lnTo>
                          <a:pt x="59" y="57"/>
                        </a:lnTo>
                        <a:lnTo>
                          <a:pt x="49" y="68"/>
                        </a:lnTo>
                        <a:lnTo>
                          <a:pt x="43" y="71"/>
                        </a:lnTo>
                        <a:lnTo>
                          <a:pt x="38" y="72"/>
                        </a:lnTo>
                        <a:lnTo>
                          <a:pt x="30" y="74"/>
                        </a:lnTo>
                        <a:lnTo>
                          <a:pt x="23" y="74"/>
                        </a:lnTo>
                        <a:lnTo>
                          <a:pt x="16" y="74"/>
                        </a:lnTo>
                        <a:lnTo>
                          <a:pt x="10" y="72"/>
                        </a:lnTo>
                        <a:lnTo>
                          <a:pt x="5" y="71"/>
                        </a:lnTo>
                        <a:lnTo>
                          <a:pt x="0" y="69"/>
                        </a:lnTo>
                        <a:lnTo>
                          <a:pt x="6" y="67"/>
                        </a:lnTo>
                        <a:lnTo>
                          <a:pt x="10" y="64"/>
                        </a:lnTo>
                        <a:lnTo>
                          <a:pt x="16" y="62"/>
                        </a:lnTo>
                        <a:lnTo>
                          <a:pt x="23" y="61"/>
                        </a:lnTo>
                        <a:lnTo>
                          <a:pt x="29" y="59"/>
                        </a:lnTo>
                        <a:lnTo>
                          <a:pt x="35" y="58"/>
                        </a:lnTo>
                        <a:lnTo>
                          <a:pt x="39" y="55"/>
                        </a:lnTo>
                        <a:lnTo>
                          <a:pt x="45" y="52"/>
                        </a:lnTo>
                        <a:lnTo>
                          <a:pt x="48" y="42"/>
                        </a:lnTo>
                        <a:lnTo>
                          <a:pt x="45" y="35"/>
                        </a:lnTo>
                        <a:lnTo>
                          <a:pt x="39" y="32"/>
                        </a:lnTo>
                        <a:lnTo>
                          <a:pt x="32" y="29"/>
                        </a:lnTo>
                        <a:lnTo>
                          <a:pt x="25" y="28"/>
                        </a:lnTo>
                        <a:lnTo>
                          <a:pt x="20" y="24"/>
                        </a:lnTo>
                        <a:lnTo>
                          <a:pt x="20" y="18"/>
                        </a:lnTo>
                        <a:lnTo>
                          <a:pt x="26" y="8"/>
                        </a:lnTo>
                        <a:lnTo>
                          <a:pt x="36" y="2"/>
                        </a:lnTo>
                        <a:lnTo>
                          <a:pt x="48" y="0"/>
                        </a:lnTo>
                        <a:lnTo>
                          <a:pt x="59" y="0"/>
                        </a:lnTo>
                        <a:lnTo>
                          <a:pt x="70" y="1"/>
                        </a:lnTo>
                        <a:lnTo>
                          <a:pt x="82" y="4"/>
                        </a:lnTo>
                        <a:lnTo>
                          <a:pt x="93" y="10"/>
                        </a:lnTo>
                        <a:lnTo>
                          <a:pt x="100" y="15"/>
                        </a:lnTo>
                        <a:lnTo>
                          <a:pt x="106" y="24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H="1">
                    <a:off x="6475320" y="5173560"/>
                    <a:ext cx="82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40">
                        <a:moveTo>
                          <a:pt x="106" y="14"/>
                        </a:moveTo>
                        <a:lnTo>
                          <a:pt x="103" y="24"/>
                        </a:lnTo>
                        <a:lnTo>
                          <a:pt x="97" y="31"/>
                        </a:lnTo>
                        <a:lnTo>
                          <a:pt x="89" y="36"/>
                        </a:lnTo>
                        <a:lnTo>
                          <a:pt x="77" y="38"/>
                        </a:lnTo>
                        <a:lnTo>
                          <a:pt x="66" y="38"/>
                        </a:lnTo>
                        <a:lnTo>
                          <a:pt x="54" y="40"/>
                        </a:lnTo>
                        <a:lnTo>
                          <a:pt x="43" y="40"/>
                        </a:lnTo>
                        <a:lnTo>
                          <a:pt x="31" y="40"/>
                        </a:lnTo>
                        <a:lnTo>
                          <a:pt x="21" y="40"/>
                        </a:lnTo>
                        <a:lnTo>
                          <a:pt x="14" y="38"/>
                        </a:lnTo>
                        <a:lnTo>
                          <a:pt x="6" y="34"/>
                        </a:lnTo>
                        <a:lnTo>
                          <a:pt x="0" y="27"/>
                        </a:lnTo>
                        <a:lnTo>
                          <a:pt x="10" y="20"/>
                        </a:lnTo>
                        <a:lnTo>
                          <a:pt x="23" y="13"/>
                        </a:lnTo>
                        <a:lnTo>
                          <a:pt x="39" y="7"/>
                        </a:lnTo>
                        <a:lnTo>
                          <a:pt x="54" y="1"/>
                        </a:lnTo>
                        <a:lnTo>
                          <a:pt x="70" y="0"/>
                        </a:lnTo>
                        <a:lnTo>
                          <a:pt x="84" y="0"/>
                        </a:lnTo>
                        <a:lnTo>
                          <a:pt x="96" y="6"/>
                        </a:lnTo>
                        <a:lnTo>
                          <a:pt x="106" y="14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>
                    <a:off x="6738120" y="5176800"/>
                    <a:ext cx="486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94">
                        <a:moveTo>
                          <a:pt x="61" y="21"/>
                        </a:moveTo>
                        <a:lnTo>
                          <a:pt x="55" y="34"/>
                        </a:lnTo>
                        <a:lnTo>
                          <a:pt x="47" y="48"/>
                        </a:lnTo>
                        <a:lnTo>
                          <a:pt x="43" y="61"/>
                        </a:lnTo>
                        <a:lnTo>
                          <a:pt x="45" y="72"/>
                        </a:lnTo>
                        <a:lnTo>
                          <a:pt x="44" y="80"/>
                        </a:lnTo>
                        <a:lnTo>
                          <a:pt x="44" y="87"/>
                        </a:lnTo>
                        <a:lnTo>
                          <a:pt x="41" y="91"/>
                        </a:lnTo>
                        <a:lnTo>
                          <a:pt x="35" y="94"/>
                        </a:lnTo>
                        <a:lnTo>
                          <a:pt x="20" y="87"/>
                        </a:lnTo>
                        <a:lnTo>
                          <a:pt x="10" y="75"/>
                        </a:lnTo>
                        <a:lnTo>
                          <a:pt x="3" y="61"/>
                        </a:lnTo>
                        <a:lnTo>
                          <a:pt x="0" y="42"/>
                        </a:lnTo>
                        <a:lnTo>
                          <a:pt x="1" y="28"/>
                        </a:lnTo>
                        <a:lnTo>
                          <a:pt x="4" y="17"/>
                        </a:lnTo>
                        <a:lnTo>
                          <a:pt x="10" y="7"/>
                        </a:lnTo>
                        <a:lnTo>
                          <a:pt x="20" y="1"/>
                        </a:lnTo>
                        <a:lnTo>
                          <a:pt x="34" y="0"/>
                        </a:lnTo>
                        <a:lnTo>
                          <a:pt x="45" y="4"/>
                        </a:lnTo>
                        <a:lnTo>
                          <a:pt x="53" y="13"/>
                        </a:lnTo>
                        <a:lnTo>
                          <a:pt x="61" y="21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6788880" y="5189400"/>
                    <a:ext cx="298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77">
                        <a:moveTo>
                          <a:pt x="39" y="77"/>
                        </a:moveTo>
                        <a:lnTo>
                          <a:pt x="20" y="73"/>
                        </a:lnTo>
                        <a:lnTo>
                          <a:pt x="10" y="58"/>
                        </a:lnTo>
                        <a:lnTo>
                          <a:pt x="5" y="41"/>
                        </a:lnTo>
                        <a:lnTo>
                          <a:pt x="0" y="30"/>
                        </a:lnTo>
                        <a:lnTo>
                          <a:pt x="3" y="30"/>
                        </a:lnTo>
                        <a:lnTo>
                          <a:pt x="0" y="21"/>
                        </a:lnTo>
                        <a:lnTo>
                          <a:pt x="2" y="14"/>
                        </a:lnTo>
                        <a:lnTo>
                          <a:pt x="6" y="7"/>
                        </a:lnTo>
                        <a:lnTo>
                          <a:pt x="10" y="0"/>
                        </a:lnTo>
                        <a:lnTo>
                          <a:pt x="15" y="20"/>
                        </a:lnTo>
                        <a:lnTo>
                          <a:pt x="23" y="38"/>
                        </a:lnTo>
                        <a:lnTo>
                          <a:pt x="33" y="57"/>
                        </a:lnTo>
                        <a:lnTo>
                          <a:pt x="39" y="7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6825960" y="5207040"/>
                    <a:ext cx="252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31" y="30"/>
                        </a:moveTo>
                        <a:lnTo>
                          <a:pt x="31" y="36"/>
                        </a:lnTo>
                        <a:lnTo>
                          <a:pt x="31" y="40"/>
                        </a:lnTo>
                        <a:lnTo>
                          <a:pt x="30" y="44"/>
                        </a:lnTo>
                        <a:lnTo>
                          <a:pt x="26" y="47"/>
                        </a:lnTo>
                        <a:lnTo>
                          <a:pt x="16" y="44"/>
                        </a:lnTo>
                        <a:lnTo>
                          <a:pt x="10" y="37"/>
                        </a:lnTo>
                        <a:lnTo>
                          <a:pt x="4" y="27"/>
                        </a:lnTo>
                        <a:lnTo>
                          <a:pt x="0" y="19"/>
                        </a:lnTo>
                        <a:lnTo>
                          <a:pt x="4" y="0"/>
                        </a:lnTo>
                        <a:lnTo>
                          <a:pt x="14" y="3"/>
                        </a:lnTo>
                        <a:lnTo>
                          <a:pt x="26" y="16"/>
                        </a:lnTo>
                        <a:lnTo>
                          <a:pt x="31" y="3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6604560" y="5214960"/>
                    <a:ext cx="137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7">
                        <a:moveTo>
                          <a:pt x="173" y="30"/>
                        </a:moveTo>
                        <a:lnTo>
                          <a:pt x="169" y="42"/>
                        </a:lnTo>
                        <a:lnTo>
                          <a:pt x="162" y="52"/>
                        </a:lnTo>
                        <a:lnTo>
                          <a:pt x="150" y="57"/>
                        </a:lnTo>
                        <a:lnTo>
                          <a:pt x="135" y="53"/>
                        </a:lnTo>
                        <a:lnTo>
                          <a:pt x="120" y="44"/>
                        </a:lnTo>
                        <a:lnTo>
                          <a:pt x="105" y="40"/>
                        </a:lnTo>
                        <a:lnTo>
                          <a:pt x="89" y="37"/>
                        </a:lnTo>
                        <a:lnTo>
                          <a:pt x="72" y="37"/>
                        </a:lnTo>
                        <a:lnTo>
                          <a:pt x="55" y="39"/>
                        </a:lnTo>
                        <a:lnTo>
                          <a:pt x="39" y="39"/>
                        </a:lnTo>
                        <a:lnTo>
                          <a:pt x="20" y="39"/>
                        </a:lnTo>
                        <a:lnTo>
                          <a:pt x="3" y="36"/>
                        </a:lnTo>
                        <a:lnTo>
                          <a:pt x="2" y="32"/>
                        </a:lnTo>
                        <a:lnTo>
                          <a:pt x="0" y="24"/>
                        </a:lnTo>
                        <a:lnTo>
                          <a:pt x="2" y="19"/>
                        </a:lnTo>
                        <a:lnTo>
                          <a:pt x="2" y="14"/>
                        </a:lnTo>
                        <a:lnTo>
                          <a:pt x="22" y="6"/>
                        </a:lnTo>
                        <a:lnTo>
                          <a:pt x="43" y="2"/>
                        </a:lnTo>
                        <a:lnTo>
                          <a:pt x="66" y="0"/>
                        </a:lnTo>
                        <a:lnTo>
                          <a:pt x="90" y="3"/>
                        </a:lnTo>
                        <a:lnTo>
                          <a:pt x="112" y="7"/>
                        </a:lnTo>
                        <a:lnTo>
                          <a:pt x="135" y="14"/>
                        </a:lnTo>
                        <a:lnTo>
                          <a:pt x="155" y="22"/>
                        </a:lnTo>
                        <a:lnTo>
                          <a:pt x="173" y="3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>
                    <a:off x="6465600" y="5246640"/>
                    <a:ext cx="15840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27">
                        <a:moveTo>
                          <a:pt x="192" y="74"/>
                        </a:moveTo>
                        <a:lnTo>
                          <a:pt x="197" y="90"/>
                        </a:lnTo>
                        <a:lnTo>
                          <a:pt x="200" y="104"/>
                        </a:lnTo>
                        <a:lnTo>
                          <a:pt x="200" y="120"/>
                        </a:lnTo>
                        <a:lnTo>
                          <a:pt x="196" y="134"/>
                        </a:lnTo>
                        <a:lnTo>
                          <a:pt x="192" y="147"/>
                        </a:lnTo>
                        <a:lnTo>
                          <a:pt x="184" y="161"/>
                        </a:lnTo>
                        <a:lnTo>
                          <a:pt x="177" y="174"/>
                        </a:lnTo>
                        <a:lnTo>
                          <a:pt x="170" y="186"/>
                        </a:lnTo>
                        <a:lnTo>
                          <a:pt x="163" y="194"/>
                        </a:lnTo>
                        <a:lnTo>
                          <a:pt x="156" y="203"/>
                        </a:lnTo>
                        <a:lnTo>
                          <a:pt x="147" y="210"/>
                        </a:lnTo>
                        <a:lnTo>
                          <a:pt x="139" y="217"/>
                        </a:lnTo>
                        <a:lnTo>
                          <a:pt x="129" y="223"/>
                        </a:lnTo>
                        <a:lnTo>
                          <a:pt x="119" y="226"/>
                        </a:lnTo>
                        <a:lnTo>
                          <a:pt x="107" y="227"/>
                        </a:lnTo>
                        <a:lnTo>
                          <a:pt x="96" y="224"/>
                        </a:lnTo>
                        <a:lnTo>
                          <a:pt x="100" y="218"/>
                        </a:lnTo>
                        <a:lnTo>
                          <a:pt x="102" y="210"/>
                        </a:lnTo>
                        <a:lnTo>
                          <a:pt x="102" y="201"/>
                        </a:lnTo>
                        <a:lnTo>
                          <a:pt x="102" y="193"/>
                        </a:lnTo>
                        <a:lnTo>
                          <a:pt x="52" y="180"/>
                        </a:lnTo>
                        <a:lnTo>
                          <a:pt x="52" y="170"/>
                        </a:lnTo>
                        <a:lnTo>
                          <a:pt x="57" y="166"/>
                        </a:lnTo>
                        <a:lnTo>
                          <a:pt x="66" y="163"/>
                        </a:lnTo>
                        <a:lnTo>
                          <a:pt x="77" y="163"/>
                        </a:lnTo>
                        <a:lnTo>
                          <a:pt x="89" y="161"/>
                        </a:lnTo>
                        <a:lnTo>
                          <a:pt x="99" y="161"/>
                        </a:lnTo>
                        <a:lnTo>
                          <a:pt x="107" y="157"/>
                        </a:lnTo>
                        <a:lnTo>
                          <a:pt x="112" y="150"/>
                        </a:lnTo>
                        <a:lnTo>
                          <a:pt x="97" y="141"/>
                        </a:lnTo>
                        <a:lnTo>
                          <a:pt x="82" y="139"/>
                        </a:lnTo>
                        <a:lnTo>
                          <a:pt x="65" y="141"/>
                        </a:lnTo>
                        <a:lnTo>
                          <a:pt x="47" y="144"/>
                        </a:lnTo>
                        <a:lnTo>
                          <a:pt x="32" y="147"/>
                        </a:lnTo>
                        <a:lnTo>
                          <a:pt x="17" y="144"/>
                        </a:lnTo>
                        <a:lnTo>
                          <a:pt x="7" y="136"/>
                        </a:lnTo>
                        <a:lnTo>
                          <a:pt x="0" y="119"/>
                        </a:lnTo>
                        <a:lnTo>
                          <a:pt x="0" y="99"/>
                        </a:lnTo>
                        <a:lnTo>
                          <a:pt x="9" y="84"/>
                        </a:lnTo>
                        <a:lnTo>
                          <a:pt x="20" y="74"/>
                        </a:lnTo>
                        <a:lnTo>
                          <a:pt x="37" y="67"/>
                        </a:lnTo>
                        <a:lnTo>
                          <a:pt x="47" y="62"/>
                        </a:lnTo>
                        <a:lnTo>
                          <a:pt x="59" y="59"/>
                        </a:lnTo>
                        <a:lnTo>
                          <a:pt x="70" y="57"/>
                        </a:lnTo>
                        <a:lnTo>
                          <a:pt x="83" y="57"/>
                        </a:lnTo>
                        <a:lnTo>
                          <a:pt x="94" y="60"/>
                        </a:lnTo>
                        <a:lnTo>
                          <a:pt x="106" y="62"/>
                        </a:lnTo>
                        <a:lnTo>
                          <a:pt x="117" y="64"/>
                        </a:lnTo>
                        <a:lnTo>
                          <a:pt x="127" y="67"/>
                        </a:lnTo>
                        <a:lnTo>
                          <a:pt x="127" y="60"/>
                        </a:lnTo>
                        <a:lnTo>
                          <a:pt x="124" y="54"/>
                        </a:lnTo>
                        <a:lnTo>
                          <a:pt x="120" y="49"/>
                        </a:lnTo>
                        <a:lnTo>
                          <a:pt x="114" y="43"/>
                        </a:lnTo>
                        <a:lnTo>
                          <a:pt x="106" y="40"/>
                        </a:lnTo>
                        <a:lnTo>
                          <a:pt x="99" y="36"/>
                        </a:lnTo>
                        <a:lnTo>
                          <a:pt x="90" y="33"/>
                        </a:lnTo>
                        <a:lnTo>
                          <a:pt x="83" y="32"/>
                        </a:lnTo>
                        <a:lnTo>
                          <a:pt x="73" y="33"/>
                        </a:lnTo>
                        <a:lnTo>
                          <a:pt x="63" y="34"/>
                        </a:lnTo>
                        <a:lnTo>
                          <a:pt x="53" y="36"/>
                        </a:lnTo>
                        <a:lnTo>
                          <a:pt x="43" y="37"/>
                        </a:lnTo>
                        <a:lnTo>
                          <a:pt x="32" y="39"/>
                        </a:lnTo>
                        <a:lnTo>
                          <a:pt x="23" y="42"/>
                        </a:lnTo>
                        <a:lnTo>
                          <a:pt x="15" y="46"/>
                        </a:lnTo>
                        <a:lnTo>
                          <a:pt x="6" y="52"/>
                        </a:lnTo>
                        <a:lnTo>
                          <a:pt x="7" y="36"/>
                        </a:lnTo>
                        <a:lnTo>
                          <a:pt x="13" y="26"/>
                        </a:lnTo>
                        <a:lnTo>
                          <a:pt x="22" y="19"/>
                        </a:lnTo>
                        <a:lnTo>
                          <a:pt x="35" y="14"/>
                        </a:lnTo>
                        <a:lnTo>
                          <a:pt x="47" y="12"/>
                        </a:lnTo>
                        <a:lnTo>
                          <a:pt x="62" y="9"/>
                        </a:lnTo>
                        <a:lnTo>
                          <a:pt x="75" y="6"/>
                        </a:lnTo>
                        <a:lnTo>
                          <a:pt x="86" y="0"/>
                        </a:lnTo>
                        <a:lnTo>
                          <a:pt x="106" y="0"/>
                        </a:lnTo>
                        <a:lnTo>
                          <a:pt x="122" y="6"/>
                        </a:lnTo>
                        <a:lnTo>
                          <a:pt x="137" y="13"/>
                        </a:lnTo>
                        <a:lnTo>
                          <a:pt x="150" y="23"/>
                        </a:lnTo>
                        <a:lnTo>
                          <a:pt x="162" y="36"/>
                        </a:lnTo>
                        <a:lnTo>
                          <a:pt x="172" y="49"/>
                        </a:lnTo>
                        <a:lnTo>
                          <a:pt x="182" y="62"/>
                        </a:lnTo>
                        <a:lnTo>
                          <a:pt x="192" y="74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>
                    <a:off x="6296760" y="5257800"/>
                    <a:ext cx="10551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0" h="510">
                        <a:moveTo>
                          <a:pt x="874" y="86"/>
                        </a:moveTo>
                        <a:lnTo>
                          <a:pt x="900" y="115"/>
                        </a:lnTo>
                        <a:lnTo>
                          <a:pt x="924" y="145"/>
                        </a:lnTo>
                        <a:lnTo>
                          <a:pt x="949" y="176"/>
                        </a:lnTo>
                        <a:lnTo>
                          <a:pt x="973" y="207"/>
                        </a:lnTo>
                        <a:lnTo>
                          <a:pt x="996" y="240"/>
                        </a:lnTo>
                        <a:lnTo>
                          <a:pt x="1017" y="273"/>
                        </a:lnTo>
                        <a:lnTo>
                          <a:pt x="1037" y="306"/>
                        </a:lnTo>
                        <a:lnTo>
                          <a:pt x="1057" y="339"/>
                        </a:lnTo>
                        <a:lnTo>
                          <a:pt x="1069" y="344"/>
                        </a:lnTo>
                        <a:lnTo>
                          <a:pt x="1080" y="351"/>
                        </a:lnTo>
                        <a:lnTo>
                          <a:pt x="1093" y="359"/>
                        </a:lnTo>
                        <a:lnTo>
                          <a:pt x="1104" y="366"/>
                        </a:lnTo>
                        <a:lnTo>
                          <a:pt x="1119" y="371"/>
                        </a:lnTo>
                        <a:lnTo>
                          <a:pt x="1133" y="373"/>
                        </a:lnTo>
                        <a:lnTo>
                          <a:pt x="1147" y="373"/>
                        </a:lnTo>
                        <a:lnTo>
                          <a:pt x="1164" y="367"/>
                        </a:lnTo>
                        <a:lnTo>
                          <a:pt x="1174" y="360"/>
                        </a:lnTo>
                        <a:lnTo>
                          <a:pt x="1177" y="349"/>
                        </a:lnTo>
                        <a:lnTo>
                          <a:pt x="1177" y="336"/>
                        </a:lnTo>
                        <a:lnTo>
                          <a:pt x="1180" y="323"/>
                        </a:lnTo>
                        <a:lnTo>
                          <a:pt x="1196" y="320"/>
                        </a:lnTo>
                        <a:lnTo>
                          <a:pt x="1207" y="330"/>
                        </a:lnTo>
                        <a:lnTo>
                          <a:pt x="1214" y="343"/>
                        </a:lnTo>
                        <a:lnTo>
                          <a:pt x="1221" y="354"/>
                        </a:lnTo>
                        <a:lnTo>
                          <a:pt x="1240" y="369"/>
                        </a:lnTo>
                        <a:lnTo>
                          <a:pt x="1256" y="384"/>
                        </a:lnTo>
                        <a:lnTo>
                          <a:pt x="1270" y="403"/>
                        </a:lnTo>
                        <a:lnTo>
                          <a:pt x="1281" y="421"/>
                        </a:lnTo>
                        <a:lnTo>
                          <a:pt x="1293" y="440"/>
                        </a:lnTo>
                        <a:lnTo>
                          <a:pt x="1304" y="458"/>
                        </a:lnTo>
                        <a:lnTo>
                          <a:pt x="1317" y="476"/>
                        </a:lnTo>
                        <a:lnTo>
                          <a:pt x="1330" y="493"/>
                        </a:lnTo>
                        <a:lnTo>
                          <a:pt x="1330" y="510"/>
                        </a:lnTo>
                        <a:lnTo>
                          <a:pt x="1310" y="494"/>
                        </a:lnTo>
                        <a:lnTo>
                          <a:pt x="1290" y="480"/>
                        </a:lnTo>
                        <a:lnTo>
                          <a:pt x="1268" y="466"/>
                        </a:lnTo>
                        <a:lnTo>
                          <a:pt x="1247" y="453"/>
                        </a:lnTo>
                        <a:lnTo>
                          <a:pt x="1224" y="440"/>
                        </a:lnTo>
                        <a:lnTo>
                          <a:pt x="1200" y="428"/>
                        </a:lnTo>
                        <a:lnTo>
                          <a:pt x="1176" y="417"/>
                        </a:lnTo>
                        <a:lnTo>
                          <a:pt x="1151" y="407"/>
                        </a:lnTo>
                        <a:lnTo>
                          <a:pt x="1126" y="396"/>
                        </a:lnTo>
                        <a:lnTo>
                          <a:pt x="1100" y="386"/>
                        </a:lnTo>
                        <a:lnTo>
                          <a:pt x="1076" y="376"/>
                        </a:lnTo>
                        <a:lnTo>
                          <a:pt x="1050" y="366"/>
                        </a:lnTo>
                        <a:lnTo>
                          <a:pt x="1024" y="354"/>
                        </a:lnTo>
                        <a:lnTo>
                          <a:pt x="999" y="344"/>
                        </a:lnTo>
                        <a:lnTo>
                          <a:pt x="973" y="333"/>
                        </a:lnTo>
                        <a:lnTo>
                          <a:pt x="949" y="321"/>
                        </a:lnTo>
                        <a:lnTo>
                          <a:pt x="910" y="310"/>
                        </a:lnTo>
                        <a:lnTo>
                          <a:pt x="873" y="300"/>
                        </a:lnTo>
                        <a:lnTo>
                          <a:pt x="837" y="289"/>
                        </a:lnTo>
                        <a:lnTo>
                          <a:pt x="802" y="279"/>
                        </a:lnTo>
                        <a:lnTo>
                          <a:pt x="766" y="269"/>
                        </a:lnTo>
                        <a:lnTo>
                          <a:pt x="730" y="259"/>
                        </a:lnTo>
                        <a:lnTo>
                          <a:pt x="696" y="249"/>
                        </a:lnTo>
                        <a:lnTo>
                          <a:pt x="662" y="240"/>
                        </a:lnTo>
                        <a:lnTo>
                          <a:pt x="626" y="232"/>
                        </a:lnTo>
                        <a:lnTo>
                          <a:pt x="592" y="223"/>
                        </a:lnTo>
                        <a:lnTo>
                          <a:pt x="556" y="216"/>
                        </a:lnTo>
                        <a:lnTo>
                          <a:pt x="521" y="209"/>
                        </a:lnTo>
                        <a:lnTo>
                          <a:pt x="483" y="202"/>
                        </a:lnTo>
                        <a:lnTo>
                          <a:pt x="446" y="196"/>
                        </a:lnTo>
                        <a:lnTo>
                          <a:pt x="408" y="190"/>
                        </a:lnTo>
                        <a:lnTo>
                          <a:pt x="368" y="184"/>
                        </a:lnTo>
                        <a:lnTo>
                          <a:pt x="346" y="183"/>
                        </a:lnTo>
                        <a:lnTo>
                          <a:pt x="324" y="180"/>
                        </a:lnTo>
                        <a:lnTo>
                          <a:pt x="302" y="177"/>
                        </a:lnTo>
                        <a:lnTo>
                          <a:pt x="279" y="174"/>
                        </a:lnTo>
                        <a:lnTo>
                          <a:pt x="257" y="172"/>
                        </a:lnTo>
                        <a:lnTo>
                          <a:pt x="234" y="169"/>
                        </a:lnTo>
                        <a:lnTo>
                          <a:pt x="211" y="165"/>
                        </a:lnTo>
                        <a:lnTo>
                          <a:pt x="188" y="162"/>
                        </a:lnTo>
                        <a:lnTo>
                          <a:pt x="165" y="159"/>
                        </a:lnTo>
                        <a:lnTo>
                          <a:pt x="141" y="156"/>
                        </a:lnTo>
                        <a:lnTo>
                          <a:pt x="118" y="152"/>
                        </a:lnTo>
                        <a:lnTo>
                          <a:pt x="94" y="149"/>
                        </a:lnTo>
                        <a:lnTo>
                          <a:pt x="71" y="146"/>
                        </a:lnTo>
                        <a:lnTo>
                          <a:pt x="47" y="145"/>
                        </a:lnTo>
                        <a:lnTo>
                          <a:pt x="24" y="142"/>
                        </a:lnTo>
                        <a:lnTo>
                          <a:pt x="0" y="140"/>
                        </a:lnTo>
                        <a:lnTo>
                          <a:pt x="10" y="115"/>
                        </a:lnTo>
                        <a:lnTo>
                          <a:pt x="25" y="95"/>
                        </a:lnTo>
                        <a:lnTo>
                          <a:pt x="45" y="79"/>
                        </a:lnTo>
                        <a:lnTo>
                          <a:pt x="68" y="67"/>
                        </a:lnTo>
                        <a:lnTo>
                          <a:pt x="94" y="57"/>
                        </a:lnTo>
                        <a:lnTo>
                          <a:pt x="122" y="50"/>
                        </a:lnTo>
                        <a:lnTo>
                          <a:pt x="151" y="42"/>
                        </a:lnTo>
                        <a:lnTo>
                          <a:pt x="178" y="33"/>
                        </a:lnTo>
                        <a:lnTo>
                          <a:pt x="221" y="26"/>
                        </a:lnTo>
                        <a:lnTo>
                          <a:pt x="265" y="19"/>
                        </a:lnTo>
                        <a:lnTo>
                          <a:pt x="309" y="13"/>
                        </a:lnTo>
                        <a:lnTo>
                          <a:pt x="354" y="8"/>
                        </a:lnTo>
                        <a:lnTo>
                          <a:pt x="398" y="3"/>
                        </a:lnTo>
                        <a:lnTo>
                          <a:pt x="442" y="2"/>
                        </a:lnTo>
                        <a:lnTo>
                          <a:pt x="486" y="0"/>
                        </a:lnTo>
                        <a:lnTo>
                          <a:pt x="532" y="0"/>
                        </a:lnTo>
                        <a:lnTo>
                          <a:pt x="576" y="3"/>
                        </a:lnTo>
                        <a:lnTo>
                          <a:pt x="620" y="8"/>
                        </a:lnTo>
                        <a:lnTo>
                          <a:pt x="665" y="15"/>
                        </a:lnTo>
                        <a:lnTo>
                          <a:pt x="708" y="23"/>
                        </a:lnTo>
                        <a:lnTo>
                          <a:pt x="750" y="35"/>
                        </a:lnTo>
                        <a:lnTo>
                          <a:pt x="793" y="49"/>
                        </a:lnTo>
                        <a:lnTo>
                          <a:pt x="835" y="66"/>
                        </a:lnTo>
                        <a:lnTo>
                          <a:pt x="874" y="8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>
                    <a:off x="6663240" y="5268960"/>
                    <a:ext cx="21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1">
                        <a:moveTo>
                          <a:pt x="20" y="38"/>
                        </a:moveTo>
                        <a:lnTo>
                          <a:pt x="4" y="41"/>
                        </a:lnTo>
                        <a:lnTo>
                          <a:pt x="0" y="28"/>
                        </a:lnTo>
                        <a:lnTo>
                          <a:pt x="4" y="17"/>
                        </a:lnTo>
                        <a:lnTo>
                          <a:pt x="14" y="8"/>
                        </a:lnTo>
                        <a:lnTo>
                          <a:pt x="23" y="0"/>
                        </a:lnTo>
                        <a:lnTo>
                          <a:pt x="28" y="8"/>
                        </a:lnTo>
                        <a:lnTo>
                          <a:pt x="28" y="18"/>
                        </a:lnTo>
                        <a:lnTo>
                          <a:pt x="24" y="28"/>
                        </a:lnTo>
                        <a:lnTo>
                          <a:pt x="20" y="38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 flipH="1">
                    <a:off x="7305480" y="5294160"/>
                    <a:ext cx="1267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96">
                        <a:moveTo>
                          <a:pt x="160" y="0"/>
                        </a:moveTo>
                        <a:lnTo>
                          <a:pt x="154" y="10"/>
                        </a:lnTo>
                        <a:lnTo>
                          <a:pt x="142" y="16"/>
                        </a:lnTo>
                        <a:lnTo>
                          <a:pt x="130" y="20"/>
                        </a:lnTo>
                        <a:lnTo>
                          <a:pt x="121" y="27"/>
                        </a:lnTo>
                        <a:lnTo>
                          <a:pt x="111" y="43"/>
                        </a:lnTo>
                        <a:lnTo>
                          <a:pt x="101" y="57"/>
                        </a:lnTo>
                        <a:lnTo>
                          <a:pt x="93" y="71"/>
                        </a:lnTo>
                        <a:lnTo>
                          <a:pt x="90" y="87"/>
                        </a:lnTo>
                        <a:lnTo>
                          <a:pt x="78" y="91"/>
                        </a:lnTo>
                        <a:lnTo>
                          <a:pt x="67" y="96"/>
                        </a:lnTo>
                        <a:lnTo>
                          <a:pt x="54" y="96"/>
                        </a:lnTo>
                        <a:lnTo>
                          <a:pt x="41" y="96"/>
                        </a:lnTo>
                        <a:lnTo>
                          <a:pt x="30" y="94"/>
                        </a:lnTo>
                        <a:lnTo>
                          <a:pt x="18" y="90"/>
                        </a:lnTo>
                        <a:lnTo>
                          <a:pt x="8" y="86"/>
                        </a:lnTo>
                        <a:lnTo>
                          <a:pt x="0" y="80"/>
                        </a:lnTo>
                        <a:lnTo>
                          <a:pt x="14" y="66"/>
                        </a:lnTo>
                        <a:lnTo>
                          <a:pt x="31" y="51"/>
                        </a:lnTo>
                        <a:lnTo>
                          <a:pt x="50" y="39"/>
                        </a:lnTo>
                        <a:lnTo>
                          <a:pt x="68" y="29"/>
                        </a:lnTo>
                        <a:lnTo>
                          <a:pt x="90" y="19"/>
                        </a:lnTo>
                        <a:lnTo>
                          <a:pt x="111" y="11"/>
                        </a:lnTo>
                        <a:lnTo>
                          <a:pt x="133" y="4"/>
                        </a:lnTo>
                        <a:lnTo>
                          <a:pt x="154" y="0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 flipH="1">
                    <a:off x="6531480" y="5319720"/>
                    <a:ext cx="615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3">
                        <a:moveTo>
                          <a:pt x="79" y="21"/>
                        </a:moveTo>
                        <a:lnTo>
                          <a:pt x="0" y="23"/>
                        </a:lnTo>
                        <a:lnTo>
                          <a:pt x="2" y="16"/>
                        </a:lnTo>
                        <a:lnTo>
                          <a:pt x="9" y="7"/>
                        </a:lnTo>
                        <a:lnTo>
                          <a:pt x="20" y="3"/>
                        </a:lnTo>
                        <a:lnTo>
                          <a:pt x="30" y="0"/>
                        </a:lnTo>
                        <a:lnTo>
                          <a:pt x="79" y="7"/>
                        </a:lnTo>
                        <a:lnTo>
                          <a:pt x="79" y="21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 flipH="1">
                    <a:off x="7594560" y="5373720"/>
                    <a:ext cx="662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48">
                        <a:moveTo>
                          <a:pt x="84" y="48"/>
                        </a:moveTo>
                        <a:lnTo>
                          <a:pt x="75" y="38"/>
                        </a:lnTo>
                        <a:lnTo>
                          <a:pt x="67" y="28"/>
                        </a:lnTo>
                        <a:lnTo>
                          <a:pt x="57" y="21"/>
                        </a:lnTo>
                        <a:lnTo>
                          <a:pt x="47" y="14"/>
                        </a:lnTo>
                        <a:lnTo>
                          <a:pt x="35" y="9"/>
                        </a:lnTo>
                        <a:lnTo>
                          <a:pt x="25" y="6"/>
                        </a:lnTo>
                        <a:lnTo>
                          <a:pt x="12" y="4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5" y="0"/>
                        </a:lnTo>
                        <a:lnTo>
                          <a:pt x="28" y="0"/>
                        </a:lnTo>
                        <a:lnTo>
                          <a:pt x="41" y="4"/>
                        </a:lnTo>
                        <a:lnTo>
                          <a:pt x="51" y="10"/>
                        </a:lnTo>
                        <a:lnTo>
                          <a:pt x="59" y="19"/>
                        </a:lnTo>
                        <a:lnTo>
                          <a:pt x="68" y="27"/>
                        </a:lnTo>
                        <a:lnTo>
                          <a:pt x="75" y="38"/>
                        </a:lnTo>
                        <a:lnTo>
                          <a:pt x="84" y="48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 flipH="1">
                    <a:off x="7140240" y="5398920"/>
                    <a:ext cx="21240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52">
                        <a:moveTo>
                          <a:pt x="268" y="39"/>
                        </a:moveTo>
                        <a:lnTo>
                          <a:pt x="247" y="52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5" y="0"/>
                        </a:lnTo>
                        <a:lnTo>
                          <a:pt x="30" y="2"/>
                        </a:lnTo>
                        <a:lnTo>
                          <a:pt x="45" y="2"/>
                        </a:lnTo>
                        <a:lnTo>
                          <a:pt x="60" y="3"/>
                        </a:lnTo>
                        <a:lnTo>
                          <a:pt x="75" y="5"/>
                        </a:lnTo>
                        <a:lnTo>
                          <a:pt x="90" y="6"/>
                        </a:lnTo>
                        <a:lnTo>
                          <a:pt x="105" y="7"/>
                        </a:lnTo>
                        <a:lnTo>
                          <a:pt x="121" y="9"/>
                        </a:lnTo>
                        <a:lnTo>
                          <a:pt x="135" y="10"/>
                        </a:lnTo>
                        <a:lnTo>
                          <a:pt x="151" y="13"/>
                        </a:lnTo>
                        <a:lnTo>
                          <a:pt x="167" y="15"/>
                        </a:lnTo>
                        <a:lnTo>
                          <a:pt x="182" y="16"/>
                        </a:lnTo>
                        <a:lnTo>
                          <a:pt x="198" y="17"/>
                        </a:lnTo>
                        <a:lnTo>
                          <a:pt x="214" y="20"/>
                        </a:lnTo>
                        <a:lnTo>
                          <a:pt x="229" y="22"/>
                        </a:lnTo>
                        <a:lnTo>
                          <a:pt x="245" y="23"/>
                        </a:lnTo>
                        <a:lnTo>
                          <a:pt x="268" y="39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 flipH="1">
                    <a:off x="7602480" y="5396040"/>
                    <a:ext cx="10584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66">
                        <a:moveTo>
                          <a:pt x="131" y="42"/>
                        </a:moveTo>
                        <a:lnTo>
                          <a:pt x="132" y="75"/>
                        </a:lnTo>
                        <a:lnTo>
                          <a:pt x="128" y="103"/>
                        </a:lnTo>
                        <a:lnTo>
                          <a:pt x="118" y="129"/>
                        </a:lnTo>
                        <a:lnTo>
                          <a:pt x="102" y="152"/>
                        </a:lnTo>
                        <a:lnTo>
                          <a:pt x="94" y="159"/>
                        </a:lnTo>
                        <a:lnTo>
                          <a:pt x="84" y="163"/>
                        </a:lnTo>
                        <a:lnTo>
                          <a:pt x="74" y="166"/>
                        </a:lnTo>
                        <a:lnTo>
                          <a:pt x="64" y="166"/>
                        </a:lnTo>
                        <a:lnTo>
                          <a:pt x="54" y="165"/>
                        </a:lnTo>
                        <a:lnTo>
                          <a:pt x="44" y="163"/>
                        </a:lnTo>
                        <a:lnTo>
                          <a:pt x="35" y="159"/>
                        </a:lnTo>
                        <a:lnTo>
                          <a:pt x="25" y="155"/>
                        </a:lnTo>
                        <a:lnTo>
                          <a:pt x="11" y="135"/>
                        </a:lnTo>
                        <a:lnTo>
                          <a:pt x="1" y="112"/>
                        </a:lnTo>
                        <a:lnTo>
                          <a:pt x="0" y="90"/>
                        </a:lnTo>
                        <a:lnTo>
                          <a:pt x="12" y="70"/>
                        </a:lnTo>
                        <a:lnTo>
                          <a:pt x="15" y="60"/>
                        </a:lnTo>
                        <a:lnTo>
                          <a:pt x="20" y="50"/>
                        </a:lnTo>
                        <a:lnTo>
                          <a:pt x="22" y="40"/>
                        </a:lnTo>
                        <a:lnTo>
                          <a:pt x="27" y="30"/>
                        </a:lnTo>
                        <a:lnTo>
                          <a:pt x="32" y="20"/>
                        </a:lnTo>
                        <a:lnTo>
                          <a:pt x="40" y="13"/>
                        </a:lnTo>
                        <a:lnTo>
                          <a:pt x="48" y="8"/>
                        </a:lnTo>
                        <a:lnTo>
                          <a:pt x="60" y="3"/>
                        </a:lnTo>
                        <a:lnTo>
                          <a:pt x="74" y="0"/>
                        </a:lnTo>
                        <a:lnTo>
                          <a:pt x="87" y="0"/>
                        </a:lnTo>
                        <a:lnTo>
                          <a:pt x="97" y="5"/>
                        </a:lnTo>
                        <a:lnTo>
                          <a:pt x="105" y="9"/>
                        </a:lnTo>
                        <a:lnTo>
                          <a:pt x="112" y="16"/>
                        </a:lnTo>
                        <a:lnTo>
                          <a:pt x="118" y="25"/>
                        </a:lnTo>
                        <a:lnTo>
                          <a:pt x="125" y="33"/>
                        </a:lnTo>
                        <a:lnTo>
                          <a:pt x="131" y="42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7378560" y="5398920"/>
                    <a:ext cx="504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20">
                        <a:moveTo>
                          <a:pt x="64" y="15"/>
                        </a:moveTo>
                        <a:lnTo>
                          <a:pt x="58" y="17"/>
                        </a:lnTo>
                        <a:lnTo>
                          <a:pt x="52" y="20"/>
                        </a:lnTo>
                        <a:lnTo>
                          <a:pt x="44" y="20"/>
                        </a:lnTo>
                        <a:lnTo>
                          <a:pt x="35" y="19"/>
                        </a:lnTo>
                        <a:lnTo>
                          <a:pt x="25" y="17"/>
                        </a:lnTo>
                        <a:lnTo>
                          <a:pt x="17" y="16"/>
                        </a:lnTo>
                        <a:lnTo>
                          <a:pt x="8" y="13"/>
                        </a:lnTo>
                        <a:lnTo>
                          <a:pt x="0" y="10"/>
                        </a:lnTo>
                        <a:lnTo>
                          <a:pt x="1" y="0"/>
                        </a:lnTo>
                        <a:lnTo>
                          <a:pt x="64" y="1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 flipH="1">
                    <a:off x="7463520" y="5398920"/>
                    <a:ext cx="37908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6" h="438">
                        <a:moveTo>
                          <a:pt x="442" y="78"/>
                        </a:moveTo>
                        <a:lnTo>
                          <a:pt x="451" y="74"/>
                        </a:lnTo>
                        <a:lnTo>
                          <a:pt x="459" y="70"/>
                        </a:lnTo>
                        <a:lnTo>
                          <a:pt x="468" y="68"/>
                        </a:lnTo>
                        <a:lnTo>
                          <a:pt x="476" y="75"/>
                        </a:lnTo>
                        <a:lnTo>
                          <a:pt x="466" y="121"/>
                        </a:lnTo>
                        <a:lnTo>
                          <a:pt x="455" y="167"/>
                        </a:lnTo>
                        <a:lnTo>
                          <a:pt x="445" y="212"/>
                        </a:lnTo>
                        <a:lnTo>
                          <a:pt x="434" y="259"/>
                        </a:lnTo>
                        <a:lnTo>
                          <a:pt x="421" y="305"/>
                        </a:lnTo>
                        <a:lnTo>
                          <a:pt x="408" y="351"/>
                        </a:lnTo>
                        <a:lnTo>
                          <a:pt x="394" y="394"/>
                        </a:lnTo>
                        <a:lnTo>
                          <a:pt x="378" y="436"/>
                        </a:lnTo>
                        <a:lnTo>
                          <a:pt x="365" y="438"/>
                        </a:lnTo>
                        <a:lnTo>
                          <a:pt x="352" y="438"/>
                        </a:lnTo>
                        <a:lnTo>
                          <a:pt x="338" y="436"/>
                        </a:lnTo>
                        <a:lnTo>
                          <a:pt x="325" y="435"/>
                        </a:lnTo>
                        <a:lnTo>
                          <a:pt x="311" y="432"/>
                        </a:lnTo>
                        <a:lnTo>
                          <a:pt x="297" y="429"/>
                        </a:lnTo>
                        <a:lnTo>
                          <a:pt x="284" y="425"/>
                        </a:lnTo>
                        <a:lnTo>
                          <a:pt x="271" y="421"/>
                        </a:lnTo>
                        <a:lnTo>
                          <a:pt x="274" y="402"/>
                        </a:lnTo>
                        <a:lnTo>
                          <a:pt x="275" y="379"/>
                        </a:lnTo>
                        <a:lnTo>
                          <a:pt x="275" y="355"/>
                        </a:lnTo>
                        <a:lnTo>
                          <a:pt x="275" y="331"/>
                        </a:lnTo>
                        <a:lnTo>
                          <a:pt x="268" y="327"/>
                        </a:lnTo>
                        <a:lnTo>
                          <a:pt x="261" y="322"/>
                        </a:lnTo>
                        <a:lnTo>
                          <a:pt x="252" y="321"/>
                        </a:lnTo>
                        <a:lnTo>
                          <a:pt x="244" y="319"/>
                        </a:lnTo>
                        <a:lnTo>
                          <a:pt x="235" y="319"/>
                        </a:lnTo>
                        <a:lnTo>
                          <a:pt x="225" y="321"/>
                        </a:lnTo>
                        <a:lnTo>
                          <a:pt x="217" y="324"/>
                        </a:lnTo>
                        <a:lnTo>
                          <a:pt x="208" y="328"/>
                        </a:lnTo>
                        <a:lnTo>
                          <a:pt x="201" y="339"/>
                        </a:lnTo>
                        <a:lnTo>
                          <a:pt x="194" y="352"/>
                        </a:lnTo>
                        <a:lnTo>
                          <a:pt x="185" y="365"/>
                        </a:lnTo>
                        <a:lnTo>
                          <a:pt x="177" y="376"/>
                        </a:lnTo>
                        <a:lnTo>
                          <a:pt x="165" y="385"/>
                        </a:lnTo>
                        <a:lnTo>
                          <a:pt x="154" y="389"/>
                        </a:lnTo>
                        <a:lnTo>
                          <a:pt x="138" y="386"/>
                        </a:lnTo>
                        <a:lnTo>
                          <a:pt x="121" y="378"/>
                        </a:lnTo>
                        <a:lnTo>
                          <a:pt x="107" y="372"/>
                        </a:lnTo>
                        <a:lnTo>
                          <a:pt x="91" y="368"/>
                        </a:lnTo>
                        <a:lnTo>
                          <a:pt x="74" y="362"/>
                        </a:lnTo>
                        <a:lnTo>
                          <a:pt x="58" y="356"/>
                        </a:lnTo>
                        <a:lnTo>
                          <a:pt x="41" y="349"/>
                        </a:lnTo>
                        <a:lnTo>
                          <a:pt x="25" y="341"/>
                        </a:lnTo>
                        <a:lnTo>
                          <a:pt x="11" y="331"/>
                        </a:lnTo>
                        <a:lnTo>
                          <a:pt x="0" y="318"/>
                        </a:lnTo>
                        <a:lnTo>
                          <a:pt x="11" y="295"/>
                        </a:lnTo>
                        <a:lnTo>
                          <a:pt x="25" y="274"/>
                        </a:lnTo>
                        <a:lnTo>
                          <a:pt x="40" y="254"/>
                        </a:lnTo>
                        <a:lnTo>
                          <a:pt x="55" y="234"/>
                        </a:lnTo>
                        <a:lnTo>
                          <a:pt x="71" y="215"/>
                        </a:lnTo>
                        <a:lnTo>
                          <a:pt x="87" y="197"/>
                        </a:lnTo>
                        <a:lnTo>
                          <a:pt x="104" y="177"/>
                        </a:lnTo>
                        <a:lnTo>
                          <a:pt x="118" y="158"/>
                        </a:lnTo>
                        <a:lnTo>
                          <a:pt x="128" y="157"/>
                        </a:lnTo>
                        <a:lnTo>
                          <a:pt x="138" y="160"/>
                        </a:lnTo>
                        <a:lnTo>
                          <a:pt x="145" y="165"/>
                        </a:lnTo>
                        <a:lnTo>
                          <a:pt x="151" y="174"/>
                        </a:lnTo>
                        <a:lnTo>
                          <a:pt x="158" y="182"/>
                        </a:lnTo>
                        <a:lnTo>
                          <a:pt x="165" y="191"/>
                        </a:lnTo>
                        <a:lnTo>
                          <a:pt x="172" y="198"/>
                        </a:lnTo>
                        <a:lnTo>
                          <a:pt x="182" y="201"/>
                        </a:lnTo>
                        <a:lnTo>
                          <a:pt x="191" y="207"/>
                        </a:lnTo>
                        <a:lnTo>
                          <a:pt x="202" y="212"/>
                        </a:lnTo>
                        <a:lnTo>
                          <a:pt x="214" y="215"/>
                        </a:lnTo>
                        <a:lnTo>
                          <a:pt x="225" y="217"/>
                        </a:lnTo>
                        <a:lnTo>
                          <a:pt x="238" y="218"/>
                        </a:lnTo>
                        <a:lnTo>
                          <a:pt x="251" y="217"/>
                        </a:lnTo>
                        <a:lnTo>
                          <a:pt x="262" y="214"/>
                        </a:lnTo>
                        <a:lnTo>
                          <a:pt x="272" y="208"/>
                        </a:lnTo>
                        <a:lnTo>
                          <a:pt x="281" y="202"/>
                        </a:lnTo>
                        <a:lnTo>
                          <a:pt x="289" y="198"/>
                        </a:lnTo>
                        <a:lnTo>
                          <a:pt x="297" y="194"/>
                        </a:lnTo>
                        <a:lnTo>
                          <a:pt x="305" y="191"/>
                        </a:lnTo>
                        <a:lnTo>
                          <a:pt x="314" y="188"/>
                        </a:lnTo>
                        <a:lnTo>
                          <a:pt x="322" y="185"/>
                        </a:lnTo>
                        <a:lnTo>
                          <a:pt x="334" y="184"/>
                        </a:lnTo>
                        <a:lnTo>
                          <a:pt x="345" y="181"/>
                        </a:lnTo>
                        <a:lnTo>
                          <a:pt x="357" y="172"/>
                        </a:lnTo>
                        <a:lnTo>
                          <a:pt x="368" y="165"/>
                        </a:lnTo>
                        <a:lnTo>
                          <a:pt x="382" y="160"/>
                        </a:lnTo>
                        <a:lnTo>
                          <a:pt x="395" y="152"/>
                        </a:lnTo>
                        <a:lnTo>
                          <a:pt x="408" y="144"/>
                        </a:lnTo>
                        <a:lnTo>
                          <a:pt x="419" y="135"/>
                        </a:lnTo>
                        <a:lnTo>
                          <a:pt x="428" y="124"/>
                        </a:lnTo>
                        <a:lnTo>
                          <a:pt x="432" y="111"/>
                        </a:lnTo>
                        <a:lnTo>
                          <a:pt x="418" y="108"/>
                        </a:lnTo>
                        <a:lnTo>
                          <a:pt x="404" y="111"/>
                        </a:lnTo>
                        <a:lnTo>
                          <a:pt x="391" y="115"/>
                        </a:lnTo>
                        <a:lnTo>
                          <a:pt x="378" y="124"/>
                        </a:lnTo>
                        <a:lnTo>
                          <a:pt x="365" y="132"/>
                        </a:lnTo>
                        <a:lnTo>
                          <a:pt x="352" y="140"/>
                        </a:lnTo>
                        <a:lnTo>
                          <a:pt x="338" y="144"/>
                        </a:lnTo>
                        <a:lnTo>
                          <a:pt x="324" y="144"/>
                        </a:lnTo>
                        <a:lnTo>
                          <a:pt x="332" y="128"/>
                        </a:lnTo>
                        <a:lnTo>
                          <a:pt x="341" y="111"/>
                        </a:lnTo>
                        <a:lnTo>
                          <a:pt x="347" y="95"/>
                        </a:lnTo>
                        <a:lnTo>
                          <a:pt x="345" y="83"/>
                        </a:lnTo>
                        <a:lnTo>
                          <a:pt x="345" y="67"/>
                        </a:lnTo>
                        <a:lnTo>
                          <a:pt x="342" y="44"/>
                        </a:lnTo>
                        <a:lnTo>
                          <a:pt x="339" y="21"/>
                        </a:lnTo>
                        <a:lnTo>
                          <a:pt x="335" y="0"/>
                        </a:lnTo>
                        <a:lnTo>
                          <a:pt x="352" y="7"/>
                        </a:lnTo>
                        <a:lnTo>
                          <a:pt x="368" y="14"/>
                        </a:lnTo>
                        <a:lnTo>
                          <a:pt x="381" y="23"/>
                        </a:lnTo>
                        <a:lnTo>
                          <a:pt x="394" y="33"/>
                        </a:lnTo>
                        <a:lnTo>
                          <a:pt x="405" y="43"/>
                        </a:lnTo>
                        <a:lnTo>
                          <a:pt x="418" y="54"/>
                        </a:lnTo>
                        <a:lnTo>
                          <a:pt x="429" y="65"/>
                        </a:lnTo>
                        <a:lnTo>
                          <a:pt x="442" y="7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7125480" y="5424480"/>
                    <a:ext cx="240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60">
                        <a:moveTo>
                          <a:pt x="304" y="39"/>
                        </a:moveTo>
                        <a:lnTo>
                          <a:pt x="304" y="60"/>
                        </a:lnTo>
                        <a:lnTo>
                          <a:pt x="286" y="59"/>
                        </a:lnTo>
                        <a:lnTo>
                          <a:pt x="267" y="57"/>
                        </a:lnTo>
                        <a:lnTo>
                          <a:pt x="248" y="56"/>
                        </a:lnTo>
                        <a:lnTo>
                          <a:pt x="228" y="53"/>
                        </a:lnTo>
                        <a:lnTo>
                          <a:pt x="210" y="52"/>
                        </a:lnTo>
                        <a:lnTo>
                          <a:pt x="190" y="49"/>
                        </a:lnTo>
                        <a:lnTo>
                          <a:pt x="170" y="46"/>
                        </a:lnTo>
                        <a:lnTo>
                          <a:pt x="151" y="43"/>
                        </a:lnTo>
                        <a:lnTo>
                          <a:pt x="131" y="40"/>
                        </a:lnTo>
                        <a:lnTo>
                          <a:pt x="111" y="36"/>
                        </a:lnTo>
                        <a:lnTo>
                          <a:pt x="93" y="33"/>
                        </a:lnTo>
                        <a:lnTo>
                          <a:pt x="74" y="30"/>
                        </a:lnTo>
                        <a:lnTo>
                          <a:pt x="56" y="26"/>
                        </a:lnTo>
                        <a:lnTo>
                          <a:pt x="37" y="23"/>
                        </a:lnTo>
                        <a:lnTo>
                          <a:pt x="19" y="19"/>
                        </a:lnTo>
                        <a:lnTo>
                          <a:pt x="2" y="16"/>
                        </a:lnTo>
                        <a:lnTo>
                          <a:pt x="0" y="7"/>
                        </a:lnTo>
                        <a:lnTo>
                          <a:pt x="4" y="6"/>
                        </a:lnTo>
                        <a:lnTo>
                          <a:pt x="12" y="4"/>
                        </a:lnTo>
                        <a:lnTo>
                          <a:pt x="16" y="0"/>
                        </a:lnTo>
                        <a:lnTo>
                          <a:pt x="33" y="2"/>
                        </a:lnTo>
                        <a:lnTo>
                          <a:pt x="50" y="3"/>
                        </a:lnTo>
                        <a:lnTo>
                          <a:pt x="69" y="6"/>
                        </a:lnTo>
                        <a:lnTo>
                          <a:pt x="86" y="7"/>
                        </a:lnTo>
                        <a:lnTo>
                          <a:pt x="104" y="10"/>
                        </a:lnTo>
                        <a:lnTo>
                          <a:pt x="123" y="12"/>
                        </a:lnTo>
                        <a:lnTo>
                          <a:pt x="141" y="14"/>
                        </a:lnTo>
                        <a:lnTo>
                          <a:pt x="160" y="17"/>
                        </a:lnTo>
                        <a:lnTo>
                          <a:pt x="179" y="19"/>
                        </a:lnTo>
                        <a:lnTo>
                          <a:pt x="196" y="22"/>
                        </a:lnTo>
                        <a:lnTo>
                          <a:pt x="214" y="24"/>
                        </a:lnTo>
                        <a:lnTo>
                          <a:pt x="233" y="27"/>
                        </a:lnTo>
                        <a:lnTo>
                          <a:pt x="251" y="30"/>
                        </a:lnTo>
                        <a:lnTo>
                          <a:pt x="268" y="33"/>
                        </a:lnTo>
                        <a:lnTo>
                          <a:pt x="287" y="36"/>
                        </a:lnTo>
                        <a:lnTo>
                          <a:pt x="304" y="39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>
                    <a:off x="6251400" y="5427720"/>
                    <a:ext cx="1174320" cy="45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0" h="579">
                        <a:moveTo>
                          <a:pt x="956" y="116"/>
                        </a:moveTo>
                        <a:lnTo>
                          <a:pt x="987" y="124"/>
                        </a:lnTo>
                        <a:lnTo>
                          <a:pt x="1017" y="134"/>
                        </a:lnTo>
                        <a:lnTo>
                          <a:pt x="1049" y="143"/>
                        </a:lnTo>
                        <a:lnTo>
                          <a:pt x="1079" y="153"/>
                        </a:lnTo>
                        <a:lnTo>
                          <a:pt x="1110" y="163"/>
                        </a:lnTo>
                        <a:lnTo>
                          <a:pt x="1140" y="173"/>
                        </a:lnTo>
                        <a:lnTo>
                          <a:pt x="1170" y="184"/>
                        </a:lnTo>
                        <a:lnTo>
                          <a:pt x="1199" y="196"/>
                        </a:lnTo>
                        <a:lnTo>
                          <a:pt x="1229" y="207"/>
                        </a:lnTo>
                        <a:lnTo>
                          <a:pt x="1257" y="220"/>
                        </a:lnTo>
                        <a:lnTo>
                          <a:pt x="1284" y="234"/>
                        </a:lnTo>
                        <a:lnTo>
                          <a:pt x="1313" y="250"/>
                        </a:lnTo>
                        <a:lnTo>
                          <a:pt x="1339" y="265"/>
                        </a:lnTo>
                        <a:lnTo>
                          <a:pt x="1366" y="283"/>
                        </a:lnTo>
                        <a:lnTo>
                          <a:pt x="1391" y="300"/>
                        </a:lnTo>
                        <a:lnTo>
                          <a:pt x="1416" y="320"/>
                        </a:lnTo>
                        <a:lnTo>
                          <a:pt x="1388" y="311"/>
                        </a:lnTo>
                        <a:lnTo>
                          <a:pt x="1361" y="303"/>
                        </a:lnTo>
                        <a:lnTo>
                          <a:pt x="1334" y="294"/>
                        </a:lnTo>
                        <a:lnTo>
                          <a:pt x="1306" y="285"/>
                        </a:lnTo>
                        <a:lnTo>
                          <a:pt x="1277" y="277"/>
                        </a:lnTo>
                        <a:lnTo>
                          <a:pt x="1249" y="268"/>
                        </a:lnTo>
                        <a:lnTo>
                          <a:pt x="1220" y="261"/>
                        </a:lnTo>
                        <a:lnTo>
                          <a:pt x="1192" y="253"/>
                        </a:lnTo>
                        <a:lnTo>
                          <a:pt x="1162" y="245"/>
                        </a:lnTo>
                        <a:lnTo>
                          <a:pt x="1133" y="237"/>
                        </a:lnTo>
                        <a:lnTo>
                          <a:pt x="1103" y="230"/>
                        </a:lnTo>
                        <a:lnTo>
                          <a:pt x="1075" y="224"/>
                        </a:lnTo>
                        <a:lnTo>
                          <a:pt x="1046" y="217"/>
                        </a:lnTo>
                        <a:lnTo>
                          <a:pt x="1016" y="211"/>
                        </a:lnTo>
                        <a:lnTo>
                          <a:pt x="987" y="205"/>
                        </a:lnTo>
                        <a:lnTo>
                          <a:pt x="959" y="200"/>
                        </a:lnTo>
                        <a:lnTo>
                          <a:pt x="956" y="208"/>
                        </a:lnTo>
                        <a:lnTo>
                          <a:pt x="959" y="215"/>
                        </a:lnTo>
                        <a:lnTo>
                          <a:pt x="965" y="221"/>
                        </a:lnTo>
                        <a:lnTo>
                          <a:pt x="972" y="223"/>
                        </a:lnTo>
                        <a:lnTo>
                          <a:pt x="1002" y="230"/>
                        </a:lnTo>
                        <a:lnTo>
                          <a:pt x="1032" y="237"/>
                        </a:lnTo>
                        <a:lnTo>
                          <a:pt x="1063" y="245"/>
                        </a:lnTo>
                        <a:lnTo>
                          <a:pt x="1093" y="253"/>
                        </a:lnTo>
                        <a:lnTo>
                          <a:pt x="1122" y="261"/>
                        </a:lnTo>
                        <a:lnTo>
                          <a:pt x="1152" y="268"/>
                        </a:lnTo>
                        <a:lnTo>
                          <a:pt x="1182" y="277"/>
                        </a:lnTo>
                        <a:lnTo>
                          <a:pt x="1212" y="285"/>
                        </a:lnTo>
                        <a:lnTo>
                          <a:pt x="1241" y="293"/>
                        </a:lnTo>
                        <a:lnTo>
                          <a:pt x="1271" y="301"/>
                        </a:lnTo>
                        <a:lnTo>
                          <a:pt x="1301" y="308"/>
                        </a:lnTo>
                        <a:lnTo>
                          <a:pt x="1330" y="317"/>
                        </a:lnTo>
                        <a:lnTo>
                          <a:pt x="1360" y="324"/>
                        </a:lnTo>
                        <a:lnTo>
                          <a:pt x="1391" y="331"/>
                        </a:lnTo>
                        <a:lnTo>
                          <a:pt x="1421" y="338"/>
                        </a:lnTo>
                        <a:lnTo>
                          <a:pt x="1451" y="345"/>
                        </a:lnTo>
                        <a:lnTo>
                          <a:pt x="1463" y="354"/>
                        </a:lnTo>
                        <a:lnTo>
                          <a:pt x="1467" y="364"/>
                        </a:lnTo>
                        <a:lnTo>
                          <a:pt x="1466" y="374"/>
                        </a:lnTo>
                        <a:lnTo>
                          <a:pt x="1464" y="384"/>
                        </a:lnTo>
                        <a:lnTo>
                          <a:pt x="1461" y="394"/>
                        </a:lnTo>
                        <a:lnTo>
                          <a:pt x="1461" y="402"/>
                        </a:lnTo>
                        <a:lnTo>
                          <a:pt x="1467" y="411"/>
                        </a:lnTo>
                        <a:lnTo>
                          <a:pt x="1480" y="418"/>
                        </a:lnTo>
                        <a:lnTo>
                          <a:pt x="1480" y="434"/>
                        </a:lnTo>
                        <a:lnTo>
                          <a:pt x="1458" y="430"/>
                        </a:lnTo>
                        <a:lnTo>
                          <a:pt x="1437" y="428"/>
                        </a:lnTo>
                        <a:lnTo>
                          <a:pt x="1413" y="428"/>
                        </a:lnTo>
                        <a:lnTo>
                          <a:pt x="1390" y="430"/>
                        </a:lnTo>
                        <a:lnTo>
                          <a:pt x="1367" y="434"/>
                        </a:lnTo>
                        <a:lnTo>
                          <a:pt x="1346" y="441"/>
                        </a:lnTo>
                        <a:lnTo>
                          <a:pt x="1326" y="449"/>
                        </a:lnTo>
                        <a:lnTo>
                          <a:pt x="1307" y="459"/>
                        </a:lnTo>
                        <a:lnTo>
                          <a:pt x="1286" y="477"/>
                        </a:lnTo>
                        <a:lnTo>
                          <a:pt x="1267" y="498"/>
                        </a:lnTo>
                        <a:lnTo>
                          <a:pt x="1250" y="522"/>
                        </a:lnTo>
                        <a:lnTo>
                          <a:pt x="1233" y="545"/>
                        </a:lnTo>
                        <a:lnTo>
                          <a:pt x="1213" y="565"/>
                        </a:lnTo>
                        <a:lnTo>
                          <a:pt x="1190" y="576"/>
                        </a:lnTo>
                        <a:lnTo>
                          <a:pt x="1163" y="579"/>
                        </a:lnTo>
                        <a:lnTo>
                          <a:pt x="1129" y="569"/>
                        </a:lnTo>
                        <a:lnTo>
                          <a:pt x="1122" y="528"/>
                        </a:lnTo>
                        <a:lnTo>
                          <a:pt x="1119" y="485"/>
                        </a:lnTo>
                        <a:lnTo>
                          <a:pt x="1112" y="442"/>
                        </a:lnTo>
                        <a:lnTo>
                          <a:pt x="1096" y="405"/>
                        </a:lnTo>
                        <a:lnTo>
                          <a:pt x="1086" y="390"/>
                        </a:lnTo>
                        <a:lnTo>
                          <a:pt x="1076" y="374"/>
                        </a:lnTo>
                        <a:lnTo>
                          <a:pt x="1065" y="358"/>
                        </a:lnTo>
                        <a:lnTo>
                          <a:pt x="1053" y="344"/>
                        </a:lnTo>
                        <a:lnTo>
                          <a:pt x="1042" y="330"/>
                        </a:lnTo>
                        <a:lnTo>
                          <a:pt x="1029" y="315"/>
                        </a:lnTo>
                        <a:lnTo>
                          <a:pt x="1016" y="304"/>
                        </a:lnTo>
                        <a:lnTo>
                          <a:pt x="1003" y="293"/>
                        </a:lnTo>
                        <a:lnTo>
                          <a:pt x="1032" y="297"/>
                        </a:lnTo>
                        <a:lnTo>
                          <a:pt x="1060" y="303"/>
                        </a:lnTo>
                        <a:lnTo>
                          <a:pt x="1090" y="308"/>
                        </a:lnTo>
                        <a:lnTo>
                          <a:pt x="1119" y="315"/>
                        </a:lnTo>
                        <a:lnTo>
                          <a:pt x="1147" y="322"/>
                        </a:lnTo>
                        <a:lnTo>
                          <a:pt x="1176" y="330"/>
                        </a:lnTo>
                        <a:lnTo>
                          <a:pt x="1204" y="337"/>
                        </a:lnTo>
                        <a:lnTo>
                          <a:pt x="1232" y="345"/>
                        </a:lnTo>
                        <a:lnTo>
                          <a:pt x="1260" y="352"/>
                        </a:lnTo>
                        <a:lnTo>
                          <a:pt x="1289" y="361"/>
                        </a:lnTo>
                        <a:lnTo>
                          <a:pt x="1316" y="368"/>
                        </a:lnTo>
                        <a:lnTo>
                          <a:pt x="1343" y="375"/>
                        </a:lnTo>
                        <a:lnTo>
                          <a:pt x="1371" y="382"/>
                        </a:lnTo>
                        <a:lnTo>
                          <a:pt x="1398" y="390"/>
                        </a:lnTo>
                        <a:lnTo>
                          <a:pt x="1424" y="397"/>
                        </a:lnTo>
                        <a:lnTo>
                          <a:pt x="1451" y="402"/>
                        </a:lnTo>
                        <a:lnTo>
                          <a:pt x="1454" y="397"/>
                        </a:lnTo>
                        <a:lnTo>
                          <a:pt x="1453" y="391"/>
                        </a:lnTo>
                        <a:lnTo>
                          <a:pt x="1448" y="387"/>
                        </a:lnTo>
                        <a:lnTo>
                          <a:pt x="1443" y="385"/>
                        </a:lnTo>
                        <a:lnTo>
                          <a:pt x="1411" y="375"/>
                        </a:lnTo>
                        <a:lnTo>
                          <a:pt x="1378" y="365"/>
                        </a:lnTo>
                        <a:lnTo>
                          <a:pt x="1347" y="355"/>
                        </a:lnTo>
                        <a:lnTo>
                          <a:pt x="1316" y="345"/>
                        </a:lnTo>
                        <a:lnTo>
                          <a:pt x="1284" y="335"/>
                        </a:lnTo>
                        <a:lnTo>
                          <a:pt x="1251" y="325"/>
                        </a:lnTo>
                        <a:lnTo>
                          <a:pt x="1220" y="315"/>
                        </a:lnTo>
                        <a:lnTo>
                          <a:pt x="1189" y="307"/>
                        </a:lnTo>
                        <a:lnTo>
                          <a:pt x="1156" y="298"/>
                        </a:lnTo>
                        <a:lnTo>
                          <a:pt x="1124" y="290"/>
                        </a:lnTo>
                        <a:lnTo>
                          <a:pt x="1092" y="283"/>
                        </a:lnTo>
                        <a:lnTo>
                          <a:pt x="1059" y="275"/>
                        </a:lnTo>
                        <a:lnTo>
                          <a:pt x="1026" y="268"/>
                        </a:lnTo>
                        <a:lnTo>
                          <a:pt x="993" y="263"/>
                        </a:lnTo>
                        <a:lnTo>
                          <a:pt x="960" y="258"/>
                        </a:lnTo>
                        <a:lnTo>
                          <a:pt x="926" y="254"/>
                        </a:lnTo>
                        <a:lnTo>
                          <a:pt x="916" y="241"/>
                        </a:lnTo>
                        <a:lnTo>
                          <a:pt x="905" y="228"/>
                        </a:lnTo>
                        <a:lnTo>
                          <a:pt x="893" y="217"/>
                        </a:lnTo>
                        <a:lnTo>
                          <a:pt x="880" y="205"/>
                        </a:lnTo>
                        <a:lnTo>
                          <a:pt x="866" y="196"/>
                        </a:lnTo>
                        <a:lnTo>
                          <a:pt x="852" y="187"/>
                        </a:lnTo>
                        <a:lnTo>
                          <a:pt x="836" y="178"/>
                        </a:lnTo>
                        <a:lnTo>
                          <a:pt x="821" y="171"/>
                        </a:lnTo>
                        <a:lnTo>
                          <a:pt x="803" y="164"/>
                        </a:lnTo>
                        <a:lnTo>
                          <a:pt x="786" y="160"/>
                        </a:lnTo>
                        <a:lnTo>
                          <a:pt x="769" y="156"/>
                        </a:lnTo>
                        <a:lnTo>
                          <a:pt x="751" y="153"/>
                        </a:lnTo>
                        <a:lnTo>
                          <a:pt x="733" y="151"/>
                        </a:lnTo>
                        <a:lnTo>
                          <a:pt x="715" y="151"/>
                        </a:lnTo>
                        <a:lnTo>
                          <a:pt x="696" y="154"/>
                        </a:lnTo>
                        <a:lnTo>
                          <a:pt x="678" y="157"/>
                        </a:lnTo>
                        <a:lnTo>
                          <a:pt x="649" y="170"/>
                        </a:lnTo>
                        <a:lnTo>
                          <a:pt x="629" y="188"/>
                        </a:lnTo>
                        <a:lnTo>
                          <a:pt x="615" y="211"/>
                        </a:lnTo>
                        <a:lnTo>
                          <a:pt x="604" y="237"/>
                        </a:lnTo>
                        <a:lnTo>
                          <a:pt x="592" y="261"/>
                        </a:lnTo>
                        <a:lnTo>
                          <a:pt x="578" y="284"/>
                        </a:lnTo>
                        <a:lnTo>
                          <a:pt x="556" y="303"/>
                        </a:lnTo>
                        <a:lnTo>
                          <a:pt x="525" y="315"/>
                        </a:lnTo>
                        <a:lnTo>
                          <a:pt x="504" y="337"/>
                        </a:lnTo>
                        <a:lnTo>
                          <a:pt x="484" y="358"/>
                        </a:lnTo>
                        <a:lnTo>
                          <a:pt x="464" y="381"/>
                        </a:lnTo>
                        <a:lnTo>
                          <a:pt x="447" y="405"/>
                        </a:lnTo>
                        <a:lnTo>
                          <a:pt x="429" y="431"/>
                        </a:lnTo>
                        <a:lnTo>
                          <a:pt x="414" y="457"/>
                        </a:lnTo>
                        <a:lnTo>
                          <a:pt x="400" y="484"/>
                        </a:lnTo>
                        <a:lnTo>
                          <a:pt x="387" y="511"/>
                        </a:lnTo>
                        <a:lnTo>
                          <a:pt x="330" y="511"/>
                        </a:lnTo>
                        <a:lnTo>
                          <a:pt x="325" y="479"/>
                        </a:lnTo>
                        <a:lnTo>
                          <a:pt x="331" y="452"/>
                        </a:lnTo>
                        <a:lnTo>
                          <a:pt x="334" y="427"/>
                        </a:lnTo>
                        <a:lnTo>
                          <a:pt x="322" y="400"/>
                        </a:lnTo>
                        <a:lnTo>
                          <a:pt x="310" y="392"/>
                        </a:lnTo>
                        <a:lnTo>
                          <a:pt x="297" y="388"/>
                        </a:lnTo>
                        <a:lnTo>
                          <a:pt x="282" y="385"/>
                        </a:lnTo>
                        <a:lnTo>
                          <a:pt x="268" y="385"/>
                        </a:lnTo>
                        <a:lnTo>
                          <a:pt x="255" y="385"/>
                        </a:lnTo>
                        <a:lnTo>
                          <a:pt x="241" y="384"/>
                        </a:lnTo>
                        <a:lnTo>
                          <a:pt x="227" y="380"/>
                        </a:lnTo>
                        <a:lnTo>
                          <a:pt x="214" y="374"/>
                        </a:lnTo>
                        <a:lnTo>
                          <a:pt x="187" y="370"/>
                        </a:lnTo>
                        <a:lnTo>
                          <a:pt x="160" y="365"/>
                        </a:lnTo>
                        <a:lnTo>
                          <a:pt x="134" y="360"/>
                        </a:lnTo>
                        <a:lnTo>
                          <a:pt x="108" y="354"/>
                        </a:lnTo>
                        <a:lnTo>
                          <a:pt x="83" y="348"/>
                        </a:lnTo>
                        <a:lnTo>
                          <a:pt x="58" y="342"/>
                        </a:lnTo>
                        <a:lnTo>
                          <a:pt x="31" y="337"/>
                        </a:lnTo>
                        <a:lnTo>
                          <a:pt x="6" y="331"/>
                        </a:lnTo>
                        <a:lnTo>
                          <a:pt x="3" y="327"/>
                        </a:lnTo>
                        <a:lnTo>
                          <a:pt x="1" y="324"/>
                        </a:lnTo>
                        <a:lnTo>
                          <a:pt x="0" y="318"/>
                        </a:lnTo>
                        <a:lnTo>
                          <a:pt x="0" y="313"/>
                        </a:lnTo>
                        <a:lnTo>
                          <a:pt x="20" y="315"/>
                        </a:lnTo>
                        <a:lnTo>
                          <a:pt x="41" y="317"/>
                        </a:lnTo>
                        <a:lnTo>
                          <a:pt x="61" y="320"/>
                        </a:lnTo>
                        <a:lnTo>
                          <a:pt x="83" y="322"/>
                        </a:lnTo>
                        <a:lnTo>
                          <a:pt x="103" y="325"/>
                        </a:lnTo>
                        <a:lnTo>
                          <a:pt x="124" y="327"/>
                        </a:lnTo>
                        <a:lnTo>
                          <a:pt x="144" y="331"/>
                        </a:lnTo>
                        <a:lnTo>
                          <a:pt x="165" y="334"/>
                        </a:lnTo>
                        <a:lnTo>
                          <a:pt x="185" y="337"/>
                        </a:lnTo>
                        <a:lnTo>
                          <a:pt x="207" y="341"/>
                        </a:lnTo>
                        <a:lnTo>
                          <a:pt x="227" y="345"/>
                        </a:lnTo>
                        <a:lnTo>
                          <a:pt x="247" y="350"/>
                        </a:lnTo>
                        <a:lnTo>
                          <a:pt x="267" y="355"/>
                        </a:lnTo>
                        <a:lnTo>
                          <a:pt x="287" y="361"/>
                        </a:lnTo>
                        <a:lnTo>
                          <a:pt x="307" y="367"/>
                        </a:lnTo>
                        <a:lnTo>
                          <a:pt x="325" y="374"/>
                        </a:lnTo>
                        <a:lnTo>
                          <a:pt x="347" y="331"/>
                        </a:lnTo>
                        <a:lnTo>
                          <a:pt x="365" y="287"/>
                        </a:lnTo>
                        <a:lnTo>
                          <a:pt x="381" y="243"/>
                        </a:lnTo>
                        <a:lnTo>
                          <a:pt x="392" y="197"/>
                        </a:lnTo>
                        <a:lnTo>
                          <a:pt x="400" y="151"/>
                        </a:lnTo>
                        <a:lnTo>
                          <a:pt x="401" y="103"/>
                        </a:lnTo>
                        <a:lnTo>
                          <a:pt x="395" y="56"/>
                        </a:lnTo>
                        <a:lnTo>
                          <a:pt x="384" y="6"/>
                        </a:lnTo>
                        <a:lnTo>
                          <a:pt x="397" y="0"/>
                        </a:lnTo>
                        <a:lnTo>
                          <a:pt x="434" y="7"/>
                        </a:lnTo>
                        <a:lnTo>
                          <a:pt x="469" y="13"/>
                        </a:lnTo>
                        <a:lnTo>
                          <a:pt x="505" y="20"/>
                        </a:lnTo>
                        <a:lnTo>
                          <a:pt x="541" y="26"/>
                        </a:lnTo>
                        <a:lnTo>
                          <a:pt x="575" y="31"/>
                        </a:lnTo>
                        <a:lnTo>
                          <a:pt x="611" y="37"/>
                        </a:lnTo>
                        <a:lnTo>
                          <a:pt x="645" y="43"/>
                        </a:lnTo>
                        <a:lnTo>
                          <a:pt x="681" y="49"/>
                        </a:lnTo>
                        <a:lnTo>
                          <a:pt x="715" y="56"/>
                        </a:lnTo>
                        <a:lnTo>
                          <a:pt x="749" y="63"/>
                        </a:lnTo>
                        <a:lnTo>
                          <a:pt x="783" y="70"/>
                        </a:lnTo>
                        <a:lnTo>
                          <a:pt x="818" y="77"/>
                        </a:lnTo>
                        <a:lnTo>
                          <a:pt x="852" y="86"/>
                        </a:lnTo>
                        <a:lnTo>
                          <a:pt x="886" y="94"/>
                        </a:lnTo>
                        <a:lnTo>
                          <a:pt x="922" y="104"/>
                        </a:lnTo>
                        <a:lnTo>
                          <a:pt x="956" y="11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>
                    <a:off x="7580880" y="5437080"/>
                    <a:ext cx="126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54">
                        <a:moveTo>
                          <a:pt x="15" y="36"/>
                        </a:moveTo>
                        <a:lnTo>
                          <a:pt x="0" y="54"/>
                        </a:lnTo>
                        <a:lnTo>
                          <a:pt x="5" y="0"/>
                        </a:lnTo>
                        <a:lnTo>
                          <a:pt x="13" y="6"/>
                        </a:lnTo>
                        <a:lnTo>
                          <a:pt x="14" y="14"/>
                        </a:lnTo>
                        <a:lnTo>
                          <a:pt x="14" y="24"/>
                        </a:lnTo>
                        <a:lnTo>
                          <a:pt x="15" y="36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H="1">
                    <a:off x="7391160" y="5437080"/>
                    <a:ext cx="48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0">
                        <a:moveTo>
                          <a:pt x="61" y="20"/>
                        </a:moveTo>
                        <a:lnTo>
                          <a:pt x="53" y="20"/>
                        </a:lnTo>
                        <a:lnTo>
                          <a:pt x="44" y="18"/>
                        </a:lnTo>
                        <a:lnTo>
                          <a:pt x="35" y="18"/>
                        </a:lnTo>
                        <a:lnTo>
                          <a:pt x="27" y="16"/>
                        </a:lnTo>
                        <a:lnTo>
                          <a:pt x="18" y="14"/>
                        </a:lnTo>
                        <a:lnTo>
                          <a:pt x="11" y="11"/>
                        </a:lnTo>
                        <a:lnTo>
                          <a:pt x="4" y="6"/>
                        </a:lnTo>
                        <a:lnTo>
                          <a:pt x="0" y="0"/>
                        </a:lnTo>
                        <a:lnTo>
                          <a:pt x="8" y="1"/>
                        </a:lnTo>
                        <a:lnTo>
                          <a:pt x="17" y="3"/>
                        </a:lnTo>
                        <a:lnTo>
                          <a:pt x="27" y="3"/>
                        </a:lnTo>
                        <a:lnTo>
                          <a:pt x="35" y="3"/>
                        </a:lnTo>
                        <a:lnTo>
                          <a:pt x="44" y="4"/>
                        </a:lnTo>
                        <a:lnTo>
                          <a:pt x="53" y="7"/>
                        </a:lnTo>
                        <a:lnTo>
                          <a:pt x="58" y="11"/>
                        </a:lnTo>
                        <a:lnTo>
                          <a:pt x="61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7125480" y="5462640"/>
                    <a:ext cx="2473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53">
                        <a:moveTo>
                          <a:pt x="301" y="33"/>
                        </a:moveTo>
                        <a:lnTo>
                          <a:pt x="305" y="37"/>
                        </a:lnTo>
                        <a:lnTo>
                          <a:pt x="310" y="40"/>
                        </a:lnTo>
                        <a:lnTo>
                          <a:pt x="311" y="46"/>
                        </a:lnTo>
                        <a:lnTo>
                          <a:pt x="311" y="53"/>
                        </a:lnTo>
                        <a:lnTo>
                          <a:pt x="294" y="53"/>
                        </a:lnTo>
                        <a:lnTo>
                          <a:pt x="277" y="52"/>
                        </a:lnTo>
                        <a:lnTo>
                          <a:pt x="258" y="50"/>
                        </a:lnTo>
                        <a:lnTo>
                          <a:pt x="240" y="47"/>
                        </a:lnTo>
                        <a:lnTo>
                          <a:pt x="220" y="46"/>
                        </a:lnTo>
                        <a:lnTo>
                          <a:pt x="200" y="42"/>
                        </a:lnTo>
                        <a:lnTo>
                          <a:pt x="180" y="39"/>
                        </a:lnTo>
                        <a:lnTo>
                          <a:pt x="158" y="36"/>
                        </a:lnTo>
                        <a:lnTo>
                          <a:pt x="138" y="32"/>
                        </a:lnTo>
                        <a:lnTo>
                          <a:pt x="117" y="29"/>
                        </a:lnTo>
                        <a:lnTo>
                          <a:pt x="97" y="26"/>
                        </a:lnTo>
                        <a:lnTo>
                          <a:pt x="77" y="22"/>
                        </a:lnTo>
                        <a:lnTo>
                          <a:pt x="57" y="19"/>
                        </a:lnTo>
                        <a:lnTo>
                          <a:pt x="37" y="17"/>
                        </a:lnTo>
                        <a:lnTo>
                          <a:pt x="19" y="15"/>
                        </a:lnTo>
                        <a:lnTo>
                          <a:pt x="0" y="13"/>
                        </a:lnTo>
                        <a:lnTo>
                          <a:pt x="9" y="0"/>
                        </a:lnTo>
                        <a:lnTo>
                          <a:pt x="301" y="33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97640" y="5470560"/>
                    <a:ext cx="56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20">
                        <a:moveTo>
                          <a:pt x="72" y="20"/>
                        </a:moveTo>
                        <a:lnTo>
                          <a:pt x="0" y="10"/>
                        </a:lnTo>
                        <a:lnTo>
                          <a:pt x="6" y="5"/>
                        </a:lnTo>
                        <a:lnTo>
                          <a:pt x="15" y="2"/>
                        </a:lnTo>
                        <a:lnTo>
                          <a:pt x="25" y="0"/>
                        </a:lnTo>
                        <a:lnTo>
                          <a:pt x="36" y="0"/>
                        </a:lnTo>
                        <a:lnTo>
                          <a:pt x="47" y="3"/>
                        </a:lnTo>
                        <a:lnTo>
                          <a:pt x="57" y="7"/>
                        </a:lnTo>
                        <a:lnTo>
                          <a:pt x="66" y="13"/>
                        </a:lnTo>
                        <a:lnTo>
                          <a:pt x="72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6426000" y="5475240"/>
                    <a:ext cx="806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77">
                        <a:moveTo>
                          <a:pt x="100" y="39"/>
                        </a:moveTo>
                        <a:lnTo>
                          <a:pt x="103" y="49"/>
                        </a:lnTo>
                        <a:lnTo>
                          <a:pt x="100" y="56"/>
                        </a:lnTo>
                        <a:lnTo>
                          <a:pt x="96" y="62"/>
                        </a:lnTo>
                        <a:lnTo>
                          <a:pt x="90" y="65"/>
                        </a:lnTo>
                        <a:lnTo>
                          <a:pt x="83" y="67"/>
                        </a:lnTo>
                        <a:lnTo>
                          <a:pt x="75" y="70"/>
                        </a:lnTo>
                        <a:lnTo>
                          <a:pt x="67" y="73"/>
                        </a:lnTo>
                        <a:lnTo>
                          <a:pt x="62" y="77"/>
                        </a:lnTo>
                        <a:lnTo>
                          <a:pt x="55" y="77"/>
                        </a:lnTo>
                        <a:lnTo>
                          <a:pt x="46" y="77"/>
                        </a:lnTo>
                        <a:lnTo>
                          <a:pt x="37" y="76"/>
                        </a:lnTo>
                        <a:lnTo>
                          <a:pt x="29" y="72"/>
                        </a:lnTo>
                        <a:lnTo>
                          <a:pt x="20" y="67"/>
                        </a:lnTo>
                        <a:lnTo>
                          <a:pt x="13" y="63"/>
                        </a:lnTo>
                        <a:lnTo>
                          <a:pt x="6" y="56"/>
                        </a:lnTo>
                        <a:lnTo>
                          <a:pt x="0" y="49"/>
                        </a:lnTo>
                        <a:lnTo>
                          <a:pt x="13" y="39"/>
                        </a:lnTo>
                        <a:lnTo>
                          <a:pt x="27" y="27"/>
                        </a:lnTo>
                        <a:lnTo>
                          <a:pt x="43" y="15"/>
                        </a:lnTo>
                        <a:lnTo>
                          <a:pt x="59" y="5"/>
                        </a:lnTo>
                        <a:lnTo>
                          <a:pt x="75" y="0"/>
                        </a:lnTo>
                        <a:lnTo>
                          <a:pt x="87" y="2"/>
                        </a:lnTo>
                        <a:lnTo>
                          <a:pt x="96" y="15"/>
                        </a:lnTo>
                        <a:lnTo>
                          <a:pt x="100" y="39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>
                    <a:off x="7126200" y="5492880"/>
                    <a:ext cx="253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68">
                        <a:moveTo>
                          <a:pt x="320" y="45"/>
                        </a:moveTo>
                        <a:lnTo>
                          <a:pt x="321" y="50"/>
                        </a:lnTo>
                        <a:lnTo>
                          <a:pt x="321" y="57"/>
                        </a:lnTo>
                        <a:lnTo>
                          <a:pt x="321" y="63"/>
                        </a:lnTo>
                        <a:lnTo>
                          <a:pt x="321" y="68"/>
                        </a:lnTo>
                        <a:lnTo>
                          <a:pt x="301" y="67"/>
                        </a:lnTo>
                        <a:lnTo>
                          <a:pt x="281" y="64"/>
                        </a:lnTo>
                        <a:lnTo>
                          <a:pt x="260" y="63"/>
                        </a:lnTo>
                        <a:lnTo>
                          <a:pt x="240" y="60"/>
                        </a:lnTo>
                        <a:lnTo>
                          <a:pt x="220" y="57"/>
                        </a:lnTo>
                        <a:lnTo>
                          <a:pt x="198" y="54"/>
                        </a:lnTo>
                        <a:lnTo>
                          <a:pt x="178" y="50"/>
                        </a:lnTo>
                        <a:lnTo>
                          <a:pt x="158" y="47"/>
                        </a:lnTo>
                        <a:lnTo>
                          <a:pt x="137" y="43"/>
                        </a:lnTo>
                        <a:lnTo>
                          <a:pt x="117" y="40"/>
                        </a:lnTo>
                        <a:lnTo>
                          <a:pt x="97" y="37"/>
                        </a:lnTo>
                        <a:lnTo>
                          <a:pt x="77" y="33"/>
                        </a:lnTo>
                        <a:lnTo>
                          <a:pt x="57" y="30"/>
                        </a:lnTo>
                        <a:lnTo>
                          <a:pt x="39" y="27"/>
                        </a:lnTo>
                        <a:lnTo>
                          <a:pt x="19" y="24"/>
                        </a:lnTo>
                        <a:lnTo>
                          <a:pt x="0" y="23"/>
                        </a:lnTo>
                        <a:lnTo>
                          <a:pt x="0" y="15"/>
                        </a:lnTo>
                        <a:lnTo>
                          <a:pt x="0" y="8"/>
                        </a:lnTo>
                        <a:lnTo>
                          <a:pt x="3" y="3"/>
                        </a:lnTo>
                        <a:lnTo>
                          <a:pt x="10" y="0"/>
                        </a:lnTo>
                        <a:lnTo>
                          <a:pt x="29" y="1"/>
                        </a:lnTo>
                        <a:lnTo>
                          <a:pt x="47" y="4"/>
                        </a:lnTo>
                        <a:lnTo>
                          <a:pt x="67" y="5"/>
                        </a:lnTo>
                        <a:lnTo>
                          <a:pt x="86" y="7"/>
                        </a:lnTo>
                        <a:lnTo>
                          <a:pt x="106" y="8"/>
                        </a:lnTo>
                        <a:lnTo>
                          <a:pt x="124" y="11"/>
                        </a:lnTo>
                        <a:lnTo>
                          <a:pt x="144" y="13"/>
                        </a:lnTo>
                        <a:lnTo>
                          <a:pt x="163" y="15"/>
                        </a:lnTo>
                        <a:lnTo>
                          <a:pt x="183" y="18"/>
                        </a:lnTo>
                        <a:lnTo>
                          <a:pt x="203" y="21"/>
                        </a:lnTo>
                        <a:lnTo>
                          <a:pt x="221" y="24"/>
                        </a:lnTo>
                        <a:lnTo>
                          <a:pt x="241" y="28"/>
                        </a:lnTo>
                        <a:lnTo>
                          <a:pt x="261" y="31"/>
                        </a:lnTo>
                        <a:lnTo>
                          <a:pt x="281" y="35"/>
                        </a:lnTo>
                        <a:lnTo>
                          <a:pt x="300" y="40"/>
                        </a:lnTo>
                        <a:lnTo>
                          <a:pt x="320" y="4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7404840" y="5502240"/>
                    <a:ext cx="53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67" y="14"/>
                        </a:moveTo>
                        <a:lnTo>
                          <a:pt x="58" y="20"/>
                        </a:lnTo>
                        <a:lnTo>
                          <a:pt x="49" y="21"/>
                        </a:lnTo>
                        <a:lnTo>
                          <a:pt x="41" y="21"/>
                        </a:lnTo>
                        <a:lnTo>
                          <a:pt x="32" y="18"/>
                        </a:lnTo>
                        <a:lnTo>
                          <a:pt x="24" y="15"/>
                        </a:lnTo>
                        <a:lnTo>
                          <a:pt x="15" y="12"/>
                        </a:lnTo>
                        <a:lnTo>
                          <a:pt x="8" y="11"/>
                        </a:lnTo>
                        <a:lnTo>
                          <a:pt x="0" y="10"/>
                        </a:lnTo>
                        <a:lnTo>
                          <a:pt x="2" y="4"/>
                        </a:lnTo>
                        <a:lnTo>
                          <a:pt x="10" y="1"/>
                        </a:lnTo>
                        <a:lnTo>
                          <a:pt x="18" y="0"/>
                        </a:lnTo>
                        <a:lnTo>
                          <a:pt x="28" y="0"/>
                        </a:lnTo>
                        <a:lnTo>
                          <a:pt x="38" y="1"/>
                        </a:lnTo>
                        <a:lnTo>
                          <a:pt x="49" y="4"/>
                        </a:lnTo>
                        <a:lnTo>
                          <a:pt x="59" y="8"/>
                        </a:lnTo>
                        <a:lnTo>
                          <a:pt x="67" y="14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H="1">
                    <a:off x="7134120" y="5529240"/>
                    <a:ext cx="2584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69">
                        <a:moveTo>
                          <a:pt x="327" y="53"/>
                        </a:moveTo>
                        <a:lnTo>
                          <a:pt x="327" y="69"/>
                        </a:lnTo>
                        <a:lnTo>
                          <a:pt x="309" y="68"/>
                        </a:lnTo>
                        <a:lnTo>
                          <a:pt x="289" y="65"/>
                        </a:lnTo>
                        <a:lnTo>
                          <a:pt x="269" y="63"/>
                        </a:lnTo>
                        <a:lnTo>
                          <a:pt x="249" y="60"/>
                        </a:lnTo>
                        <a:lnTo>
                          <a:pt x="229" y="58"/>
                        </a:lnTo>
                        <a:lnTo>
                          <a:pt x="207" y="53"/>
                        </a:lnTo>
                        <a:lnTo>
                          <a:pt x="187" y="50"/>
                        </a:lnTo>
                        <a:lnTo>
                          <a:pt x="166" y="48"/>
                        </a:lnTo>
                        <a:lnTo>
                          <a:pt x="144" y="43"/>
                        </a:lnTo>
                        <a:lnTo>
                          <a:pt x="124" y="40"/>
                        </a:lnTo>
                        <a:lnTo>
                          <a:pt x="103" y="36"/>
                        </a:lnTo>
                        <a:lnTo>
                          <a:pt x="82" y="33"/>
                        </a:lnTo>
                        <a:lnTo>
                          <a:pt x="62" y="29"/>
                        </a:lnTo>
                        <a:lnTo>
                          <a:pt x="40" y="26"/>
                        </a:lnTo>
                        <a:lnTo>
                          <a:pt x="20" y="22"/>
                        </a:lnTo>
                        <a:lnTo>
                          <a:pt x="0" y="19"/>
                        </a:lnTo>
                        <a:lnTo>
                          <a:pt x="10" y="0"/>
                        </a:lnTo>
                        <a:lnTo>
                          <a:pt x="30" y="3"/>
                        </a:lnTo>
                        <a:lnTo>
                          <a:pt x="50" y="5"/>
                        </a:lnTo>
                        <a:lnTo>
                          <a:pt x="70" y="8"/>
                        </a:lnTo>
                        <a:lnTo>
                          <a:pt x="90" y="10"/>
                        </a:lnTo>
                        <a:lnTo>
                          <a:pt x="112" y="12"/>
                        </a:lnTo>
                        <a:lnTo>
                          <a:pt x="132" y="15"/>
                        </a:lnTo>
                        <a:lnTo>
                          <a:pt x="153" y="18"/>
                        </a:lnTo>
                        <a:lnTo>
                          <a:pt x="173" y="20"/>
                        </a:lnTo>
                        <a:lnTo>
                          <a:pt x="194" y="23"/>
                        </a:lnTo>
                        <a:lnTo>
                          <a:pt x="214" y="26"/>
                        </a:lnTo>
                        <a:lnTo>
                          <a:pt x="234" y="30"/>
                        </a:lnTo>
                        <a:lnTo>
                          <a:pt x="254" y="35"/>
                        </a:lnTo>
                        <a:lnTo>
                          <a:pt x="273" y="39"/>
                        </a:lnTo>
                        <a:lnTo>
                          <a:pt x="291" y="43"/>
                        </a:lnTo>
                        <a:lnTo>
                          <a:pt x="310" y="48"/>
                        </a:lnTo>
                        <a:lnTo>
                          <a:pt x="327" y="53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7412760" y="5533920"/>
                    <a:ext cx="615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7">
                        <a:moveTo>
                          <a:pt x="77" y="26"/>
                        </a:moveTo>
                        <a:lnTo>
                          <a:pt x="65" y="27"/>
                        </a:lnTo>
                        <a:lnTo>
                          <a:pt x="55" y="27"/>
                        </a:lnTo>
                        <a:lnTo>
                          <a:pt x="44" y="24"/>
                        </a:lnTo>
                        <a:lnTo>
                          <a:pt x="35" y="20"/>
                        </a:lnTo>
                        <a:lnTo>
                          <a:pt x="25" y="17"/>
                        </a:lnTo>
                        <a:lnTo>
                          <a:pt x="17" y="13"/>
                        </a:lnTo>
                        <a:lnTo>
                          <a:pt x="8" y="9"/>
                        </a:lnTo>
                        <a:lnTo>
                          <a:pt x="0" y="7"/>
                        </a:lnTo>
                        <a:lnTo>
                          <a:pt x="8" y="3"/>
                        </a:lnTo>
                        <a:lnTo>
                          <a:pt x="17" y="0"/>
                        </a:lnTo>
                        <a:lnTo>
                          <a:pt x="25" y="0"/>
                        </a:lnTo>
                        <a:lnTo>
                          <a:pt x="37" y="2"/>
                        </a:lnTo>
                        <a:lnTo>
                          <a:pt x="47" y="4"/>
                        </a:lnTo>
                        <a:lnTo>
                          <a:pt x="57" y="7"/>
                        </a:lnTo>
                        <a:lnTo>
                          <a:pt x="67" y="10"/>
                        </a:lnTo>
                        <a:lnTo>
                          <a:pt x="77" y="13"/>
                        </a:lnTo>
                        <a:lnTo>
                          <a:pt x="77" y="26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>
                    <a:off x="7139520" y="5560920"/>
                    <a:ext cx="2631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83">
                        <a:moveTo>
                          <a:pt x="327" y="55"/>
                        </a:moveTo>
                        <a:lnTo>
                          <a:pt x="332" y="60"/>
                        </a:lnTo>
                        <a:lnTo>
                          <a:pt x="333" y="66"/>
                        </a:lnTo>
                        <a:lnTo>
                          <a:pt x="332" y="72"/>
                        </a:lnTo>
                        <a:lnTo>
                          <a:pt x="333" y="77"/>
                        </a:lnTo>
                        <a:lnTo>
                          <a:pt x="304" y="83"/>
                        </a:lnTo>
                        <a:lnTo>
                          <a:pt x="284" y="80"/>
                        </a:lnTo>
                        <a:lnTo>
                          <a:pt x="266" y="76"/>
                        </a:lnTo>
                        <a:lnTo>
                          <a:pt x="246" y="73"/>
                        </a:lnTo>
                        <a:lnTo>
                          <a:pt x="227" y="69"/>
                        </a:lnTo>
                        <a:lnTo>
                          <a:pt x="209" y="66"/>
                        </a:lnTo>
                        <a:lnTo>
                          <a:pt x="190" y="62"/>
                        </a:lnTo>
                        <a:lnTo>
                          <a:pt x="172" y="57"/>
                        </a:lnTo>
                        <a:lnTo>
                          <a:pt x="155" y="53"/>
                        </a:lnTo>
                        <a:lnTo>
                          <a:pt x="136" y="49"/>
                        </a:lnTo>
                        <a:lnTo>
                          <a:pt x="117" y="45"/>
                        </a:lnTo>
                        <a:lnTo>
                          <a:pt x="99" y="40"/>
                        </a:lnTo>
                        <a:lnTo>
                          <a:pt x="80" y="37"/>
                        </a:lnTo>
                        <a:lnTo>
                          <a:pt x="62" y="33"/>
                        </a:lnTo>
                        <a:lnTo>
                          <a:pt x="42" y="30"/>
                        </a:lnTo>
                        <a:lnTo>
                          <a:pt x="23" y="26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2" y="10"/>
                        </a:lnTo>
                        <a:lnTo>
                          <a:pt x="6" y="5"/>
                        </a:lnTo>
                        <a:lnTo>
                          <a:pt x="10" y="0"/>
                        </a:lnTo>
                        <a:lnTo>
                          <a:pt x="32" y="3"/>
                        </a:lnTo>
                        <a:lnTo>
                          <a:pt x="52" y="6"/>
                        </a:lnTo>
                        <a:lnTo>
                          <a:pt x="72" y="8"/>
                        </a:lnTo>
                        <a:lnTo>
                          <a:pt x="92" y="10"/>
                        </a:lnTo>
                        <a:lnTo>
                          <a:pt x="113" y="15"/>
                        </a:lnTo>
                        <a:lnTo>
                          <a:pt x="133" y="18"/>
                        </a:lnTo>
                        <a:lnTo>
                          <a:pt x="152" y="20"/>
                        </a:lnTo>
                        <a:lnTo>
                          <a:pt x="172" y="23"/>
                        </a:lnTo>
                        <a:lnTo>
                          <a:pt x="192" y="28"/>
                        </a:lnTo>
                        <a:lnTo>
                          <a:pt x="212" y="30"/>
                        </a:lnTo>
                        <a:lnTo>
                          <a:pt x="230" y="35"/>
                        </a:lnTo>
                        <a:lnTo>
                          <a:pt x="250" y="39"/>
                        </a:lnTo>
                        <a:lnTo>
                          <a:pt x="269" y="42"/>
                        </a:lnTo>
                        <a:lnTo>
                          <a:pt x="289" y="46"/>
                        </a:lnTo>
                        <a:lnTo>
                          <a:pt x="307" y="50"/>
                        </a:lnTo>
                        <a:lnTo>
                          <a:pt x="327" y="5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7425360" y="5570640"/>
                    <a:ext cx="53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3">
                        <a:moveTo>
                          <a:pt x="69" y="20"/>
                        </a:moveTo>
                        <a:lnTo>
                          <a:pt x="67" y="23"/>
                        </a:lnTo>
                        <a:lnTo>
                          <a:pt x="63" y="23"/>
                        </a:lnTo>
                        <a:lnTo>
                          <a:pt x="55" y="23"/>
                        </a:lnTo>
                        <a:lnTo>
                          <a:pt x="45" y="23"/>
                        </a:lnTo>
                        <a:lnTo>
                          <a:pt x="33" y="22"/>
                        </a:lnTo>
                        <a:lnTo>
                          <a:pt x="23" y="20"/>
                        </a:lnTo>
                        <a:lnTo>
                          <a:pt x="13" y="17"/>
                        </a:lnTo>
                        <a:lnTo>
                          <a:pt x="5" y="16"/>
                        </a:lnTo>
                        <a:lnTo>
                          <a:pt x="0" y="7"/>
                        </a:lnTo>
                        <a:lnTo>
                          <a:pt x="9" y="3"/>
                        </a:lnTo>
                        <a:lnTo>
                          <a:pt x="16" y="2"/>
                        </a:lnTo>
                        <a:lnTo>
                          <a:pt x="26" y="0"/>
                        </a:lnTo>
                        <a:lnTo>
                          <a:pt x="35" y="2"/>
                        </a:lnTo>
                        <a:lnTo>
                          <a:pt x="43" y="5"/>
                        </a:lnTo>
                        <a:lnTo>
                          <a:pt x="53" y="7"/>
                        </a:lnTo>
                        <a:lnTo>
                          <a:pt x="60" y="13"/>
                        </a:lnTo>
                        <a:lnTo>
                          <a:pt x="69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>
                    <a:off x="6789600" y="5586480"/>
                    <a:ext cx="128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81">
                        <a:moveTo>
                          <a:pt x="134" y="42"/>
                        </a:moveTo>
                        <a:lnTo>
                          <a:pt x="144" y="99"/>
                        </a:lnTo>
                        <a:lnTo>
                          <a:pt x="146" y="90"/>
                        </a:lnTo>
                        <a:lnTo>
                          <a:pt x="152" y="84"/>
                        </a:lnTo>
                        <a:lnTo>
                          <a:pt x="157" y="79"/>
                        </a:lnTo>
                        <a:lnTo>
                          <a:pt x="163" y="76"/>
                        </a:lnTo>
                        <a:lnTo>
                          <a:pt x="162" y="103"/>
                        </a:lnTo>
                        <a:lnTo>
                          <a:pt x="157" y="129"/>
                        </a:lnTo>
                        <a:lnTo>
                          <a:pt x="147" y="151"/>
                        </a:lnTo>
                        <a:lnTo>
                          <a:pt x="130" y="166"/>
                        </a:lnTo>
                        <a:lnTo>
                          <a:pt x="137" y="150"/>
                        </a:lnTo>
                        <a:lnTo>
                          <a:pt x="143" y="137"/>
                        </a:lnTo>
                        <a:lnTo>
                          <a:pt x="147" y="121"/>
                        </a:lnTo>
                        <a:lnTo>
                          <a:pt x="147" y="104"/>
                        </a:lnTo>
                        <a:lnTo>
                          <a:pt x="137" y="107"/>
                        </a:lnTo>
                        <a:lnTo>
                          <a:pt x="134" y="119"/>
                        </a:lnTo>
                        <a:lnTo>
                          <a:pt x="132" y="131"/>
                        </a:lnTo>
                        <a:lnTo>
                          <a:pt x="124" y="143"/>
                        </a:lnTo>
                        <a:lnTo>
                          <a:pt x="119" y="149"/>
                        </a:lnTo>
                        <a:lnTo>
                          <a:pt x="113" y="154"/>
                        </a:lnTo>
                        <a:lnTo>
                          <a:pt x="106" y="160"/>
                        </a:lnTo>
                        <a:lnTo>
                          <a:pt x="100" y="166"/>
                        </a:lnTo>
                        <a:lnTo>
                          <a:pt x="93" y="171"/>
                        </a:lnTo>
                        <a:lnTo>
                          <a:pt x="84" y="176"/>
                        </a:lnTo>
                        <a:lnTo>
                          <a:pt x="76" y="180"/>
                        </a:lnTo>
                        <a:lnTo>
                          <a:pt x="67" y="181"/>
                        </a:lnTo>
                        <a:lnTo>
                          <a:pt x="56" y="177"/>
                        </a:lnTo>
                        <a:lnTo>
                          <a:pt x="45" y="173"/>
                        </a:lnTo>
                        <a:lnTo>
                          <a:pt x="33" y="167"/>
                        </a:lnTo>
                        <a:lnTo>
                          <a:pt x="23" y="160"/>
                        </a:lnTo>
                        <a:lnTo>
                          <a:pt x="15" y="153"/>
                        </a:lnTo>
                        <a:lnTo>
                          <a:pt x="7" y="144"/>
                        </a:lnTo>
                        <a:lnTo>
                          <a:pt x="3" y="134"/>
                        </a:lnTo>
                        <a:lnTo>
                          <a:pt x="2" y="124"/>
                        </a:lnTo>
                        <a:lnTo>
                          <a:pt x="0" y="92"/>
                        </a:lnTo>
                        <a:lnTo>
                          <a:pt x="5" y="62"/>
                        </a:lnTo>
                        <a:lnTo>
                          <a:pt x="13" y="36"/>
                        </a:lnTo>
                        <a:lnTo>
                          <a:pt x="27" y="13"/>
                        </a:lnTo>
                        <a:lnTo>
                          <a:pt x="43" y="6"/>
                        </a:lnTo>
                        <a:lnTo>
                          <a:pt x="59" y="2"/>
                        </a:lnTo>
                        <a:lnTo>
                          <a:pt x="74" y="0"/>
                        </a:lnTo>
                        <a:lnTo>
                          <a:pt x="90" y="3"/>
                        </a:lnTo>
                        <a:lnTo>
                          <a:pt x="104" y="9"/>
                        </a:lnTo>
                        <a:lnTo>
                          <a:pt x="116" y="17"/>
                        </a:lnTo>
                        <a:lnTo>
                          <a:pt x="127" y="29"/>
                        </a:lnTo>
                        <a:lnTo>
                          <a:pt x="134" y="42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>
                    <a:off x="6554520" y="5586480"/>
                    <a:ext cx="544320" cy="4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7" h="545">
                        <a:moveTo>
                          <a:pt x="573" y="106"/>
                        </a:moveTo>
                        <a:lnTo>
                          <a:pt x="603" y="130"/>
                        </a:lnTo>
                        <a:lnTo>
                          <a:pt x="627" y="159"/>
                        </a:lnTo>
                        <a:lnTo>
                          <a:pt x="645" y="190"/>
                        </a:lnTo>
                        <a:lnTo>
                          <a:pt x="661" y="223"/>
                        </a:lnTo>
                        <a:lnTo>
                          <a:pt x="673" y="258"/>
                        </a:lnTo>
                        <a:lnTo>
                          <a:pt x="680" y="294"/>
                        </a:lnTo>
                        <a:lnTo>
                          <a:pt x="684" y="331"/>
                        </a:lnTo>
                        <a:lnTo>
                          <a:pt x="687" y="368"/>
                        </a:lnTo>
                        <a:lnTo>
                          <a:pt x="671" y="364"/>
                        </a:lnTo>
                        <a:lnTo>
                          <a:pt x="654" y="363"/>
                        </a:lnTo>
                        <a:lnTo>
                          <a:pt x="635" y="363"/>
                        </a:lnTo>
                        <a:lnTo>
                          <a:pt x="617" y="361"/>
                        </a:lnTo>
                        <a:lnTo>
                          <a:pt x="600" y="360"/>
                        </a:lnTo>
                        <a:lnTo>
                          <a:pt x="584" y="354"/>
                        </a:lnTo>
                        <a:lnTo>
                          <a:pt x="570" y="344"/>
                        </a:lnTo>
                        <a:lnTo>
                          <a:pt x="560" y="328"/>
                        </a:lnTo>
                        <a:lnTo>
                          <a:pt x="548" y="321"/>
                        </a:lnTo>
                        <a:lnTo>
                          <a:pt x="537" y="316"/>
                        </a:lnTo>
                        <a:lnTo>
                          <a:pt x="524" y="313"/>
                        </a:lnTo>
                        <a:lnTo>
                          <a:pt x="511" y="313"/>
                        </a:lnTo>
                        <a:lnTo>
                          <a:pt x="498" y="313"/>
                        </a:lnTo>
                        <a:lnTo>
                          <a:pt x="486" y="314"/>
                        </a:lnTo>
                        <a:lnTo>
                          <a:pt x="473" y="317"/>
                        </a:lnTo>
                        <a:lnTo>
                          <a:pt x="460" y="320"/>
                        </a:lnTo>
                        <a:lnTo>
                          <a:pt x="436" y="333"/>
                        </a:lnTo>
                        <a:lnTo>
                          <a:pt x="416" y="347"/>
                        </a:lnTo>
                        <a:lnTo>
                          <a:pt x="397" y="364"/>
                        </a:lnTo>
                        <a:lnTo>
                          <a:pt x="381" y="383"/>
                        </a:lnTo>
                        <a:lnTo>
                          <a:pt x="369" y="401"/>
                        </a:lnTo>
                        <a:lnTo>
                          <a:pt x="356" y="421"/>
                        </a:lnTo>
                        <a:lnTo>
                          <a:pt x="344" y="441"/>
                        </a:lnTo>
                        <a:lnTo>
                          <a:pt x="333" y="461"/>
                        </a:lnTo>
                        <a:lnTo>
                          <a:pt x="321" y="480"/>
                        </a:lnTo>
                        <a:lnTo>
                          <a:pt x="307" y="497"/>
                        </a:lnTo>
                        <a:lnTo>
                          <a:pt x="293" y="512"/>
                        </a:lnTo>
                        <a:lnTo>
                          <a:pt x="276" y="525"/>
                        </a:lnTo>
                        <a:lnTo>
                          <a:pt x="256" y="537"/>
                        </a:lnTo>
                        <a:lnTo>
                          <a:pt x="233" y="542"/>
                        </a:lnTo>
                        <a:lnTo>
                          <a:pt x="204" y="545"/>
                        </a:lnTo>
                        <a:lnTo>
                          <a:pt x="173" y="544"/>
                        </a:lnTo>
                        <a:lnTo>
                          <a:pt x="152" y="540"/>
                        </a:lnTo>
                        <a:lnTo>
                          <a:pt x="129" y="538"/>
                        </a:lnTo>
                        <a:lnTo>
                          <a:pt x="105" y="537"/>
                        </a:lnTo>
                        <a:lnTo>
                          <a:pt x="82" y="535"/>
                        </a:lnTo>
                        <a:lnTo>
                          <a:pt x="59" y="532"/>
                        </a:lnTo>
                        <a:lnTo>
                          <a:pt x="37" y="528"/>
                        </a:lnTo>
                        <a:lnTo>
                          <a:pt x="17" y="520"/>
                        </a:lnTo>
                        <a:lnTo>
                          <a:pt x="0" y="508"/>
                        </a:lnTo>
                        <a:lnTo>
                          <a:pt x="26" y="507"/>
                        </a:lnTo>
                        <a:lnTo>
                          <a:pt x="52" y="507"/>
                        </a:lnTo>
                        <a:lnTo>
                          <a:pt x="77" y="510"/>
                        </a:lnTo>
                        <a:lnTo>
                          <a:pt x="105" y="512"/>
                        </a:lnTo>
                        <a:lnTo>
                          <a:pt x="130" y="514"/>
                        </a:lnTo>
                        <a:lnTo>
                          <a:pt x="159" y="515"/>
                        </a:lnTo>
                        <a:lnTo>
                          <a:pt x="187" y="514"/>
                        </a:lnTo>
                        <a:lnTo>
                          <a:pt x="216" y="508"/>
                        </a:lnTo>
                        <a:lnTo>
                          <a:pt x="227" y="498"/>
                        </a:lnTo>
                        <a:lnTo>
                          <a:pt x="229" y="484"/>
                        </a:lnTo>
                        <a:lnTo>
                          <a:pt x="229" y="468"/>
                        </a:lnTo>
                        <a:lnTo>
                          <a:pt x="232" y="454"/>
                        </a:lnTo>
                        <a:lnTo>
                          <a:pt x="266" y="356"/>
                        </a:lnTo>
                        <a:lnTo>
                          <a:pt x="250" y="350"/>
                        </a:lnTo>
                        <a:lnTo>
                          <a:pt x="236" y="346"/>
                        </a:lnTo>
                        <a:lnTo>
                          <a:pt x="220" y="343"/>
                        </a:lnTo>
                        <a:lnTo>
                          <a:pt x="206" y="340"/>
                        </a:lnTo>
                        <a:lnTo>
                          <a:pt x="192" y="338"/>
                        </a:lnTo>
                        <a:lnTo>
                          <a:pt x="177" y="336"/>
                        </a:lnTo>
                        <a:lnTo>
                          <a:pt x="163" y="334"/>
                        </a:lnTo>
                        <a:lnTo>
                          <a:pt x="149" y="334"/>
                        </a:lnTo>
                        <a:lnTo>
                          <a:pt x="134" y="333"/>
                        </a:lnTo>
                        <a:lnTo>
                          <a:pt x="120" y="333"/>
                        </a:lnTo>
                        <a:lnTo>
                          <a:pt x="106" y="331"/>
                        </a:lnTo>
                        <a:lnTo>
                          <a:pt x="92" y="330"/>
                        </a:lnTo>
                        <a:lnTo>
                          <a:pt x="76" y="328"/>
                        </a:lnTo>
                        <a:lnTo>
                          <a:pt x="60" y="327"/>
                        </a:lnTo>
                        <a:lnTo>
                          <a:pt x="45" y="326"/>
                        </a:lnTo>
                        <a:lnTo>
                          <a:pt x="29" y="323"/>
                        </a:lnTo>
                        <a:lnTo>
                          <a:pt x="40" y="297"/>
                        </a:lnTo>
                        <a:lnTo>
                          <a:pt x="53" y="271"/>
                        </a:lnTo>
                        <a:lnTo>
                          <a:pt x="66" y="246"/>
                        </a:lnTo>
                        <a:lnTo>
                          <a:pt x="80" y="221"/>
                        </a:lnTo>
                        <a:lnTo>
                          <a:pt x="95" y="199"/>
                        </a:lnTo>
                        <a:lnTo>
                          <a:pt x="112" y="176"/>
                        </a:lnTo>
                        <a:lnTo>
                          <a:pt x="129" y="154"/>
                        </a:lnTo>
                        <a:lnTo>
                          <a:pt x="147" y="134"/>
                        </a:lnTo>
                        <a:lnTo>
                          <a:pt x="154" y="131"/>
                        </a:lnTo>
                        <a:lnTo>
                          <a:pt x="163" y="130"/>
                        </a:lnTo>
                        <a:lnTo>
                          <a:pt x="172" y="131"/>
                        </a:lnTo>
                        <a:lnTo>
                          <a:pt x="176" y="137"/>
                        </a:lnTo>
                        <a:lnTo>
                          <a:pt x="182" y="151"/>
                        </a:lnTo>
                        <a:lnTo>
                          <a:pt x="189" y="164"/>
                        </a:lnTo>
                        <a:lnTo>
                          <a:pt x="199" y="177"/>
                        </a:lnTo>
                        <a:lnTo>
                          <a:pt x="209" y="190"/>
                        </a:lnTo>
                        <a:lnTo>
                          <a:pt x="220" y="201"/>
                        </a:lnTo>
                        <a:lnTo>
                          <a:pt x="234" y="211"/>
                        </a:lnTo>
                        <a:lnTo>
                          <a:pt x="247" y="221"/>
                        </a:lnTo>
                        <a:lnTo>
                          <a:pt x="263" y="230"/>
                        </a:lnTo>
                        <a:lnTo>
                          <a:pt x="280" y="231"/>
                        </a:lnTo>
                        <a:lnTo>
                          <a:pt x="297" y="231"/>
                        </a:lnTo>
                        <a:lnTo>
                          <a:pt x="314" y="230"/>
                        </a:lnTo>
                        <a:lnTo>
                          <a:pt x="331" y="226"/>
                        </a:lnTo>
                        <a:lnTo>
                          <a:pt x="349" y="221"/>
                        </a:lnTo>
                        <a:lnTo>
                          <a:pt x="363" y="213"/>
                        </a:lnTo>
                        <a:lnTo>
                          <a:pt x="374" y="204"/>
                        </a:lnTo>
                        <a:lnTo>
                          <a:pt x="383" y="191"/>
                        </a:lnTo>
                        <a:lnTo>
                          <a:pt x="397" y="196"/>
                        </a:lnTo>
                        <a:lnTo>
                          <a:pt x="413" y="196"/>
                        </a:lnTo>
                        <a:lnTo>
                          <a:pt x="427" y="191"/>
                        </a:lnTo>
                        <a:lnTo>
                          <a:pt x="441" y="184"/>
                        </a:lnTo>
                        <a:lnTo>
                          <a:pt x="457" y="176"/>
                        </a:lnTo>
                        <a:lnTo>
                          <a:pt x="471" y="166"/>
                        </a:lnTo>
                        <a:lnTo>
                          <a:pt x="484" y="157"/>
                        </a:lnTo>
                        <a:lnTo>
                          <a:pt x="498" y="150"/>
                        </a:lnTo>
                        <a:lnTo>
                          <a:pt x="507" y="151"/>
                        </a:lnTo>
                        <a:lnTo>
                          <a:pt x="516" y="149"/>
                        </a:lnTo>
                        <a:lnTo>
                          <a:pt x="521" y="146"/>
                        </a:lnTo>
                        <a:lnTo>
                          <a:pt x="527" y="141"/>
                        </a:lnTo>
                        <a:lnTo>
                          <a:pt x="531" y="136"/>
                        </a:lnTo>
                        <a:lnTo>
                          <a:pt x="536" y="130"/>
                        </a:lnTo>
                        <a:lnTo>
                          <a:pt x="540" y="126"/>
                        </a:lnTo>
                        <a:lnTo>
                          <a:pt x="543" y="121"/>
                        </a:lnTo>
                        <a:lnTo>
                          <a:pt x="523" y="117"/>
                        </a:lnTo>
                        <a:lnTo>
                          <a:pt x="503" y="119"/>
                        </a:lnTo>
                        <a:lnTo>
                          <a:pt x="484" y="124"/>
                        </a:lnTo>
                        <a:lnTo>
                          <a:pt x="467" y="131"/>
                        </a:lnTo>
                        <a:lnTo>
                          <a:pt x="448" y="140"/>
                        </a:lnTo>
                        <a:lnTo>
                          <a:pt x="431" y="150"/>
                        </a:lnTo>
                        <a:lnTo>
                          <a:pt x="413" y="159"/>
                        </a:lnTo>
                        <a:lnTo>
                          <a:pt x="393" y="166"/>
                        </a:lnTo>
                        <a:lnTo>
                          <a:pt x="403" y="124"/>
                        </a:lnTo>
                        <a:lnTo>
                          <a:pt x="411" y="80"/>
                        </a:lnTo>
                        <a:lnTo>
                          <a:pt x="410" y="37"/>
                        </a:lnTo>
                        <a:lnTo>
                          <a:pt x="393" y="0"/>
                        </a:lnTo>
                        <a:lnTo>
                          <a:pt x="418" y="9"/>
                        </a:lnTo>
                        <a:lnTo>
                          <a:pt x="441" y="22"/>
                        </a:lnTo>
                        <a:lnTo>
                          <a:pt x="463" y="37"/>
                        </a:lnTo>
                        <a:lnTo>
                          <a:pt x="483" y="53"/>
                        </a:lnTo>
                        <a:lnTo>
                          <a:pt x="504" y="70"/>
                        </a:lnTo>
                        <a:lnTo>
                          <a:pt x="526" y="86"/>
                        </a:lnTo>
                        <a:lnTo>
                          <a:pt x="548" y="97"/>
                        </a:lnTo>
                        <a:lnTo>
                          <a:pt x="573" y="10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H="1">
                    <a:off x="6795720" y="5595840"/>
                    <a:ext cx="10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0">
                        <a:moveTo>
                          <a:pt x="16" y="20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  <a:lnTo>
                          <a:pt x="7" y="2"/>
                        </a:lnTo>
                        <a:lnTo>
                          <a:pt x="13" y="7"/>
                        </a:lnTo>
                        <a:lnTo>
                          <a:pt x="16" y="12"/>
                        </a:lnTo>
                        <a:lnTo>
                          <a:pt x="16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7151400" y="5597640"/>
                    <a:ext cx="2599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79">
                        <a:moveTo>
                          <a:pt x="327" y="66"/>
                        </a:moveTo>
                        <a:lnTo>
                          <a:pt x="323" y="73"/>
                        </a:lnTo>
                        <a:lnTo>
                          <a:pt x="317" y="77"/>
                        </a:lnTo>
                        <a:lnTo>
                          <a:pt x="310" y="79"/>
                        </a:lnTo>
                        <a:lnTo>
                          <a:pt x="300" y="79"/>
                        </a:lnTo>
                        <a:lnTo>
                          <a:pt x="290" y="77"/>
                        </a:lnTo>
                        <a:lnTo>
                          <a:pt x="280" y="74"/>
                        </a:lnTo>
                        <a:lnTo>
                          <a:pt x="269" y="73"/>
                        </a:lnTo>
                        <a:lnTo>
                          <a:pt x="260" y="70"/>
                        </a:lnTo>
                        <a:lnTo>
                          <a:pt x="3" y="21"/>
                        </a:lnTo>
                        <a:lnTo>
                          <a:pt x="0" y="9"/>
                        </a:lnTo>
                        <a:lnTo>
                          <a:pt x="8" y="4"/>
                        </a:lnTo>
                        <a:lnTo>
                          <a:pt x="19" y="3"/>
                        </a:lnTo>
                        <a:lnTo>
                          <a:pt x="29" y="0"/>
                        </a:lnTo>
                        <a:lnTo>
                          <a:pt x="49" y="4"/>
                        </a:lnTo>
                        <a:lnTo>
                          <a:pt x="68" y="9"/>
                        </a:lnTo>
                        <a:lnTo>
                          <a:pt x="88" y="11"/>
                        </a:lnTo>
                        <a:lnTo>
                          <a:pt x="106" y="14"/>
                        </a:lnTo>
                        <a:lnTo>
                          <a:pt x="126" y="19"/>
                        </a:lnTo>
                        <a:lnTo>
                          <a:pt x="145" y="21"/>
                        </a:lnTo>
                        <a:lnTo>
                          <a:pt x="165" y="24"/>
                        </a:lnTo>
                        <a:lnTo>
                          <a:pt x="183" y="27"/>
                        </a:lnTo>
                        <a:lnTo>
                          <a:pt x="202" y="30"/>
                        </a:lnTo>
                        <a:lnTo>
                          <a:pt x="220" y="34"/>
                        </a:lnTo>
                        <a:lnTo>
                          <a:pt x="239" y="37"/>
                        </a:lnTo>
                        <a:lnTo>
                          <a:pt x="257" y="41"/>
                        </a:lnTo>
                        <a:lnTo>
                          <a:pt x="274" y="47"/>
                        </a:lnTo>
                        <a:lnTo>
                          <a:pt x="293" y="53"/>
                        </a:lnTo>
                        <a:lnTo>
                          <a:pt x="310" y="59"/>
                        </a:lnTo>
                        <a:lnTo>
                          <a:pt x="327" y="66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>
                    <a:off x="7437960" y="5613480"/>
                    <a:ext cx="44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6">
                        <a:moveTo>
                          <a:pt x="55" y="13"/>
                        </a:moveTo>
                        <a:lnTo>
                          <a:pt x="50" y="16"/>
                        </a:lnTo>
                        <a:lnTo>
                          <a:pt x="44" y="16"/>
                        </a:lnTo>
                        <a:lnTo>
                          <a:pt x="37" y="16"/>
                        </a:lnTo>
                        <a:lnTo>
                          <a:pt x="28" y="16"/>
                        </a:lnTo>
                        <a:lnTo>
                          <a:pt x="21" y="13"/>
                        </a:lnTo>
                        <a:lnTo>
                          <a:pt x="12" y="12"/>
                        </a:lnTo>
                        <a:lnTo>
                          <a:pt x="5" y="8"/>
                        </a:lnTo>
                        <a:lnTo>
                          <a:pt x="0" y="3"/>
                        </a:lnTo>
                        <a:lnTo>
                          <a:pt x="5" y="2"/>
                        </a:lnTo>
                        <a:lnTo>
                          <a:pt x="12" y="0"/>
                        </a:lnTo>
                        <a:lnTo>
                          <a:pt x="20" y="0"/>
                        </a:lnTo>
                        <a:lnTo>
                          <a:pt x="28" y="2"/>
                        </a:lnTo>
                        <a:lnTo>
                          <a:pt x="35" y="3"/>
                        </a:lnTo>
                        <a:lnTo>
                          <a:pt x="42" y="6"/>
                        </a:lnTo>
                        <a:lnTo>
                          <a:pt x="50" y="9"/>
                        </a:lnTo>
                        <a:lnTo>
                          <a:pt x="55" y="13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7164360" y="5634000"/>
                    <a:ext cx="253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84">
                        <a:moveTo>
                          <a:pt x="320" y="54"/>
                        </a:moveTo>
                        <a:lnTo>
                          <a:pt x="320" y="64"/>
                        </a:lnTo>
                        <a:lnTo>
                          <a:pt x="318" y="71"/>
                        </a:lnTo>
                        <a:lnTo>
                          <a:pt x="314" y="77"/>
                        </a:lnTo>
                        <a:lnTo>
                          <a:pt x="307" y="84"/>
                        </a:lnTo>
                        <a:lnTo>
                          <a:pt x="285" y="80"/>
                        </a:lnTo>
                        <a:lnTo>
                          <a:pt x="265" y="76"/>
                        </a:lnTo>
                        <a:lnTo>
                          <a:pt x="247" y="71"/>
                        </a:lnTo>
                        <a:lnTo>
                          <a:pt x="227" y="69"/>
                        </a:lnTo>
                        <a:lnTo>
                          <a:pt x="208" y="64"/>
                        </a:lnTo>
                        <a:lnTo>
                          <a:pt x="190" y="61"/>
                        </a:lnTo>
                        <a:lnTo>
                          <a:pt x="173" y="57"/>
                        </a:lnTo>
                        <a:lnTo>
                          <a:pt x="154" y="54"/>
                        </a:lnTo>
                        <a:lnTo>
                          <a:pt x="135" y="52"/>
                        </a:lnTo>
                        <a:lnTo>
                          <a:pt x="117" y="47"/>
                        </a:lnTo>
                        <a:lnTo>
                          <a:pt x="98" y="44"/>
                        </a:lnTo>
                        <a:lnTo>
                          <a:pt x="80" y="42"/>
                        </a:lnTo>
                        <a:lnTo>
                          <a:pt x="61" y="39"/>
                        </a:lnTo>
                        <a:lnTo>
                          <a:pt x="41" y="34"/>
                        </a:lnTo>
                        <a:lnTo>
                          <a:pt x="21" y="32"/>
                        </a:lnTo>
                        <a:lnTo>
                          <a:pt x="0" y="29"/>
                        </a:ln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3" y="2"/>
                        </a:lnTo>
                        <a:lnTo>
                          <a:pt x="11" y="0"/>
                        </a:lnTo>
                        <a:lnTo>
                          <a:pt x="320" y="54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>
                    <a:off x="7441920" y="5646600"/>
                    <a:ext cx="48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0">
                        <a:moveTo>
                          <a:pt x="63" y="20"/>
                        </a:moveTo>
                        <a:lnTo>
                          <a:pt x="0" y="13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9" y="0"/>
                        </a:lnTo>
                        <a:lnTo>
                          <a:pt x="29" y="1"/>
                        </a:lnTo>
                        <a:lnTo>
                          <a:pt x="37" y="3"/>
                        </a:lnTo>
                        <a:lnTo>
                          <a:pt x="46" y="4"/>
                        </a:lnTo>
                        <a:lnTo>
                          <a:pt x="53" y="8"/>
                        </a:lnTo>
                        <a:lnTo>
                          <a:pt x="59" y="13"/>
                        </a:lnTo>
                        <a:lnTo>
                          <a:pt x="63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>
                    <a:off x="7723800" y="5675400"/>
                    <a:ext cx="171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195">
                        <a:moveTo>
                          <a:pt x="217" y="72"/>
                        </a:moveTo>
                        <a:lnTo>
                          <a:pt x="217" y="111"/>
                        </a:lnTo>
                        <a:lnTo>
                          <a:pt x="211" y="111"/>
                        </a:lnTo>
                        <a:lnTo>
                          <a:pt x="191" y="195"/>
                        </a:lnTo>
                        <a:lnTo>
                          <a:pt x="167" y="188"/>
                        </a:lnTo>
                        <a:lnTo>
                          <a:pt x="142" y="179"/>
                        </a:lnTo>
                        <a:lnTo>
                          <a:pt x="118" y="171"/>
                        </a:lnTo>
                        <a:lnTo>
                          <a:pt x="95" y="161"/>
                        </a:lnTo>
                        <a:lnTo>
                          <a:pt x="71" y="152"/>
                        </a:lnTo>
                        <a:lnTo>
                          <a:pt x="48" y="141"/>
                        </a:lnTo>
                        <a:lnTo>
                          <a:pt x="25" y="129"/>
                        </a:lnTo>
                        <a:lnTo>
                          <a:pt x="3" y="118"/>
                        </a:lnTo>
                        <a:lnTo>
                          <a:pt x="0" y="88"/>
                        </a:lnTo>
                        <a:lnTo>
                          <a:pt x="3" y="57"/>
                        </a:lnTo>
                        <a:lnTo>
                          <a:pt x="13" y="25"/>
                        </a:lnTo>
                        <a:lnTo>
                          <a:pt x="28" y="0"/>
                        </a:lnTo>
                        <a:lnTo>
                          <a:pt x="52" y="8"/>
                        </a:lnTo>
                        <a:lnTo>
                          <a:pt x="75" y="18"/>
                        </a:lnTo>
                        <a:lnTo>
                          <a:pt x="97" y="28"/>
                        </a:lnTo>
                        <a:lnTo>
                          <a:pt x="118" y="39"/>
                        </a:lnTo>
                        <a:lnTo>
                          <a:pt x="141" y="49"/>
                        </a:lnTo>
                        <a:lnTo>
                          <a:pt x="164" y="59"/>
                        </a:lnTo>
                        <a:lnTo>
                          <a:pt x="189" y="67"/>
                        </a:lnTo>
                        <a:lnTo>
                          <a:pt x="217" y="72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>
                    <a:off x="6896880" y="5675400"/>
                    <a:ext cx="4716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87">
                        <a:moveTo>
                          <a:pt x="61" y="87"/>
                        </a:moveTo>
                        <a:lnTo>
                          <a:pt x="50" y="81"/>
                        </a:lnTo>
                        <a:lnTo>
                          <a:pt x="39" y="74"/>
                        </a:lnTo>
                        <a:lnTo>
                          <a:pt x="29" y="65"/>
                        </a:lnTo>
                        <a:lnTo>
                          <a:pt x="20" y="55"/>
                        </a:lnTo>
                        <a:lnTo>
                          <a:pt x="11" y="45"/>
                        </a:lnTo>
                        <a:lnTo>
                          <a:pt x="6" y="32"/>
                        </a:lnTo>
                        <a:lnTo>
                          <a:pt x="1" y="21"/>
                        </a:lnTo>
                        <a:lnTo>
                          <a:pt x="0" y="7"/>
                        </a:lnTo>
                        <a:lnTo>
                          <a:pt x="9" y="0"/>
                        </a:lnTo>
                        <a:lnTo>
                          <a:pt x="10" y="14"/>
                        </a:lnTo>
                        <a:lnTo>
                          <a:pt x="14" y="27"/>
                        </a:lnTo>
                        <a:lnTo>
                          <a:pt x="20" y="39"/>
                        </a:lnTo>
                        <a:lnTo>
                          <a:pt x="27" y="51"/>
                        </a:lnTo>
                        <a:lnTo>
                          <a:pt x="36" y="62"/>
                        </a:lnTo>
                        <a:lnTo>
                          <a:pt x="44" y="71"/>
                        </a:lnTo>
                        <a:lnTo>
                          <a:pt x="53" y="79"/>
                        </a:lnTo>
                        <a:lnTo>
                          <a:pt x="61" y="8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>
                    <a:off x="7642800" y="5676840"/>
                    <a:ext cx="8244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306">
                        <a:moveTo>
                          <a:pt x="95" y="72"/>
                        </a:moveTo>
                        <a:lnTo>
                          <a:pt x="90" y="83"/>
                        </a:lnTo>
                        <a:lnTo>
                          <a:pt x="84" y="99"/>
                        </a:lnTo>
                        <a:lnTo>
                          <a:pt x="78" y="116"/>
                        </a:lnTo>
                        <a:lnTo>
                          <a:pt x="77" y="136"/>
                        </a:lnTo>
                        <a:lnTo>
                          <a:pt x="68" y="173"/>
                        </a:lnTo>
                        <a:lnTo>
                          <a:pt x="63" y="212"/>
                        </a:lnTo>
                        <a:lnTo>
                          <a:pt x="60" y="251"/>
                        </a:lnTo>
                        <a:lnTo>
                          <a:pt x="67" y="291"/>
                        </a:lnTo>
                        <a:lnTo>
                          <a:pt x="63" y="299"/>
                        </a:lnTo>
                        <a:lnTo>
                          <a:pt x="55" y="303"/>
                        </a:lnTo>
                        <a:lnTo>
                          <a:pt x="48" y="304"/>
                        </a:lnTo>
                        <a:lnTo>
                          <a:pt x="41" y="306"/>
                        </a:lnTo>
                        <a:lnTo>
                          <a:pt x="33" y="304"/>
                        </a:lnTo>
                        <a:lnTo>
                          <a:pt x="25" y="301"/>
                        </a:lnTo>
                        <a:lnTo>
                          <a:pt x="18" y="297"/>
                        </a:lnTo>
                        <a:lnTo>
                          <a:pt x="13" y="291"/>
                        </a:lnTo>
                        <a:lnTo>
                          <a:pt x="4" y="249"/>
                        </a:lnTo>
                        <a:lnTo>
                          <a:pt x="0" y="209"/>
                        </a:lnTo>
                        <a:lnTo>
                          <a:pt x="1" y="169"/>
                        </a:lnTo>
                        <a:lnTo>
                          <a:pt x="8" y="130"/>
                        </a:lnTo>
                        <a:lnTo>
                          <a:pt x="20" y="95"/>
                        </a:lnTo>
                        <a:lnTo>
                          <a:pt x="35" y="62"/>
                        </a:lnTo>
                        <a:lnTo>
                          <a:pt x="55" y="29"/>
                        </a:lnTo>
                        <a:lnTo>
                          <a:pt x="80" y="0"/>
                        </a:lnTo>
                        <a:lnTo>
                          <a:pt x="94" y="2"/>
                        </a:lnTo>
                        <a:lnTo>
                          <a:pt x="101" y="9"/>
                        </a:lnTo>
                        <a:lnTo>
                          <a:pt x="104" y="17"/>
                        </a:lnTo>
                        <a:lnTo>
                          <a:pt x="102" y="27"/>
                        </a:lnTo>
                        <a:lnTo>
                          <a:pt x="100" y="39"/>
                        </a:lnTo>
                        <a:lnTo>
                          <a:pt x="97" y="50"/>
                        </a:lnTo>
                        <a:lnTo>
                          <a:pt x="94" y="62"/>
                        </a:lnTo>
                        <a:lnTo>
                          <a:pt x="95" y="72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H="1">
                    <a:off x="7449120" y="5680080"/>
                    <a:ext cx="53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1">
                        <a:moveTo>
                          <a:pt x="67" y="18"/>
                        </a:moveTo>
                        <a:lnTo>
                          <a:pt x="58" y="20"/>
                        </a:lnTo>
                        <a:lnTo>
                          <a:pt x="50" y="21"/>
                        </a:lnTo>
                        <a:lnTo>
                          <a:pt x="41" y="21"/>
                        </a:lnTo>
                        <a:lnTo>
                          <a:pt x="31" y="20"/>
                        </a:lnTo>
                        <a:lnTo>
                          <a:pt x="23" y="18"/>
                        </a:lnTo>
                        <a:lnTo>
                          <a:pt x="14" y="15"/>
                        </a:lnTo>
                        <a:lnTo>
                          <a:pt x="7" y="12"/>
                        </a:lnTo>
                        <a:lnTo>
                          <a:pt x="0" y="8"/>
                        </a:lnTo>
                        <a:lnTo>
                          <a:pt x="7" y="2"/>
                        </a:lnTo>
                        <a:lnTo>
                          <a:pt x="16" y="0"/>
                        </a:lnTo>
                        <a:lnTo>
                          <a:pt x="26" y="0"/>
                        </a:lnTo>
                        <a:lnTo>
                          <a:pt x="36" y="1"/>
                        </a:lnTo>
                        <a:lnTo>
                          <a:pt x="44" y="4"/>
                        </a:lnTo>
                        <a:lnTo>
                          <a:pt x="54" y="8"/>
                        </a:lnTo>
                        <a:lnTo>
                          <a:pt x="61" y="14"/>
                        </a:lnTo>
                        <a:lnTo>
                          <a:pt x="67" y="18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H="1">
                    <a:off x="7230960" y="5707080"/>
                    <a:ext cx="2059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74">
                        <a:moveTo>
                          <a:pt x="261" y="58"/>
                        </a:moveTo>
                        <a:lnTo>
                          <a:pt x="244" y="74"/>
                        </a:lnTo>
                        <a:lnTo>
                          <a:pt x="7" y="23"/>
                        </a:lnTo>
                        <a:lnTo>
                          <a:pt x="1" y="20"/>
                        </a:lnTo>
                        <a:lnTo>
                          <a:pt x="0" y="13"/>
                        </a:lnTo>
                        <a:lnTo>
                          <a:pt x="1" y="4"/>
                        </a:lnTo>
                        <a:lnTo>
                          <a:pt x="7" y="0"/>
                        </a:lnTo>
                        <a:lnTo>
                          <a:pt x="22" y="3"/>
                        </a:lnTo>
                        <a:lnTo>
                          <a:pt x="40" y="6"/>
                        </a:lnTo>
                        <a:lnTo>
                          <a:pt x="57" y="7"/>
                        </a:lnTo>
                        <a:lnTo>
                          <a:pt x="72" y="11"/>
                        </a:lnTo>
                        <a:lnTo>
                          <a:pt x="90" y="14"/>
                        </a:lnTo>
                        <a:lnTo>
                          <a:pt x="105" y="17"/>
                        </a:lnTo>
                        <a:lnTo>
                          <a:pt x="122" y="20"/>
                        </a:lnTo>
                        <a:lnTo>
                          <a:pt x="138" y="24"/>
                        </a:lnTo>
                        <a:lnTo>
                          <a:pt x="155" y="27"/>
                        </a:lnTo>
                        <a:lnTo>
                          <a:pt x="171" y="31"/>
                        </a:lnTo>
                        <a:lnTo>
                          <a:pt x="187" y="36"/>
                        </a:lnTo>
                        <a:lnTo>
                          <a:pt x="202" y="40"/>
                        </a:lnTo>
                        <a:lnTo>
                          <a:pt x="217" y="44"/>
                        </a:lnTo>
                        <a:lnTo>
                          <a:pt x="232" y="48"/>
                        </a:lnTo>
                        <a:lnTo>
                          <a:pt x="247" y="54"/>
                        </a:lnTo>
                        <a:lnTo>
                          <a:pt x="261" y="58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>
                    <a:off x="7463520" y="5718240"/>
                    <a:ext cx="47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5">
                        <a:moveTo>
                          <a:pt x="60" y="15"/>
                        </a:moveTo>
                        <a:lnTo>
                          <a:pt x="0" y="5"/>
                        </a:lnTo>
                        <a:lnTo>
                          <a:pt x="8" y="1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33" y="1"/>
                        </a:lnTo>
                        <a:lnTo>
                          <a:pt x="42" y="4"/>
                        </a:lnTo>
                        <a:lnTo>
                          <a:pt x="49" y="8"/>
                        </a:lnTo>
                        <a:lnTo>
                          <a:pt x="56" y="13"/>
                        </a:lnTo>
                        <a:lnTo>
                          <a:pt x="60" y="1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>
                    <a:off x="7246800" y="5746680"/>
                    <a:ext cx="1965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5">
                        <a:moveTo>
                          <a:pt x="250" y="45"/>
                        </a:moveTo>
                        <a:lnTo>
                          <a:pt x="250" y="55"/>
                        </a:lnTo>
                        <a:lnTo>
                          <a:pt x="243" y="59"/>
                        </a:lnTo>
                        <a:lnTo>
                          <a:pt x="234" y="63"/>
                        </a:lnTo>
                        <a:lnTo>
                          <a:pt x="230" y="65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  <a:lnTo>
                          <a:pt x="250" y="4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H="1">
                    <a:off x="7470720" y="5751360"/>
                    <a:ext cx="345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13">
                        <a:moveTo>
                          <a:pt x="0" y="7"/>
                        </a:moveTo>
                        <a:lnTo>
                          <a:pt x="4" y="0"/>
                        </a:lnTo>
                        <a:lnTo>
                          <a:pt x="44" y="13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>
                    <a:off x="7259400" y="5756400"/>
                    <a:ext cx="4060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211">
                        <a:moveTo>
                          <a:pt x="508" y="96"/>
                        </a:moveTo>
                        <a:lnTo>
                          <a:pt x="511" y="124"/>
                        </a:lnTo>
                        <a:lnTo>
                          <a:pt x="505" y="151"/>
                        </a:lnTo>
                        <a:lnTo>
                          <a:pt x="498" y="180"/>
                        </a:lnTo>
                        <a:lnTo>
                          <a:pt x="495" y="207"/>
                        </a:lnTo>
                        <a:lnTo>
                          <a:pt x="476" y="210"/>
                        </a:lnTo>
                        <a:lnTo>
                          <a:pt x="455" y="211"/>
                        </a:lnTo>
                        <a:lnTo>
                          <a:pt x="435" y="209"/>
                        </a:lnTo>
                        <a:lnTo>
                          <a:pt x="414" y="206"/>
                        </a:lnTo>
                        <a:lnTo>
                          <a:pt x="392" y="201"/>
                        </a:lnTo>
                        <a:lnTo>
                          <a:pt x="369" y="197"/>
                        </a:lnTo>
                        <a:lnTo>
                          <a:pt x="348" y="194"/>
                        </a:lnTo>
                        <a:lnTo>
                          <a:pt x="327" y="193"/>
                        </a:lnTo>
                        <a:lnTo>
                          <a:pt x="308" y="193"/>
                        </a:lnTo>
                        <a:lnTo>
                          <a:pt x="288" y="191"/>
                        </a:lnTo>
                        <a:lnTo>
                          <a:pt x="268" y="189"/>
                        </a:lnTo>
                        <a:lnTo>
                          <a:pt x="248" y="186"/>
                        </a:lnTo>
                        <a:lnTo>
                          <a:pt x="228" y="183"/>
                        </a:lnTo>
                        <a:lnTo>
                          <a:pt x="207" y="179"/>
                        </a:lnTo>
                        <a:lnTo>
                          <a:pt x="187" y="174"/>
                        </a:lnTo>
                        <a:lnTo>
                          <a:pt x="165" y="170"/>
                        </a:lnTo>
                        <a:lnTo>
                          <a:pt x="144" y="164"/>
                        </a:lnTo>
                        <a:lnTo>
                          <a:pt x="124" y="159"/>
                        </a:lnTo>
                        <a:lnTo>
                          <a:pt x="103" y="154"/>
                        </a:lnTo>
                        <a:lnTo>
                          <a:pt x="81" y="149"/>
                        </a:lnTo>
                        <a:lnTo>
                          <a:pt x="61" y="143"/>
                        </a:lnTo>
                        <a:lnTo>
                          <a:pt x="40" y="137"/>
                        </a:lnTo>
                        <a:lnTo>
                          <a:pt x="20" y="132"/>
                        </a:lnTo>
                        <a:lnTo>
                          <a:pt x="0" y="127"/>
                        </a:lnTo>
                        <a:lnTo>
                          <a:pt x="0" y="102"/>
                        </a:lnTo>
                        <a:lnTo>
                          <a:pt x="6" y="102"/>
                        </a:lnTo>
                        <a:lnTo>
                          <a:pt x="8" y="70"/>
                        </a:lnTo>
                        <a:lnTo>
                          <a:pt x="14" y="42"/>
                        </a:lnTo>
                        <a:lnTo>
                          <a:pt x="23" y="17"/>
                        </a:lnTo>
                        <a:lnTo>
                          <a:pt x="38" y="0"/>
                        </a:lnTo>
                        <a:lnTo>
                          <a:pt x="68" y="5"/>
                        </a:lnTo>
                        <a:lnTo>
                          <a:pt x="98" y="10"/>
                        </a:lnTo>
                        <a:lnTo>
                          <a:pt x="127" y="16"/>
                        </a:lnTo>
                        <a:lnTo>
                          <a:pt x="157" y="22"/>
                        </a:lnTo>
                        <a:lnTo>
                          <a:pt x="185" y="27"/>
                        </a:lnTo>
                        <a:lnTo>
                          <a:pt x="215" y="34"/>
                        </a:lnTo>
                        <a:lnTo>
                          <a:pt x="244" y="40"/>
                        </a:lnTo>
                        <a:lnTo>
                          <a:pt x="274" y="47"/>
                        </a:lnTo>
                        <a:lnTo>
                          <a:pt x="302" y="53"/>
                        </a:lnTo>
                        <a:lnTo>
                          <a:pt x="331" y="60"/>
                        </a:lnTo>
                        <a:lnTo>
                          <a:pt x="361" y="66"/>
                        </a:lnTo>
                        <a:lnTo>
                          <a:pt x="389" y="73"/>
                        </a:lnTo>
                        <a:lnTo>
                          <a:pt x="419" y="79"/>
                        </a:lnTo>
                        <a:lnTo>
                          <a:pt x="448" y="84"/>
                        </a:lnTo>
                        <a:lnTo>
                          <a:pt x="478" y="90"/>
                        </a:lnTo>
                        <a:lnTo>
                          <a:pt x="508" y="96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>
                    <a:off x="7180200" y="5759280"/>
                    <a:ext cx="8352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97">
                        <a:moveTo>
                          <a:pt x="106" y="26"/>
                        </a:moveTo>
                        <a:lnTo>
                          <a:pt x="103" y="54"/>
                        </a:lnTo>
                        <a:lnTo>
                          <a:pt x="97" y="84"/>
                        </a:lnTo>
                        <a:lnTo>
                          <a:pt x="90" y="117"/>
                        </a:lnTo>
                        <a:lnTo>
                          <a:pt x="83" y="150"/>
                        </a:lnTo>
                        <a:lnTo>
                          <a:pt x="74" y="183"/>
                        </a:lnTo>
                        <a:lnTo>
                          <a:pt x="67" y="216"/>
                        </a:lnTo>
                        <a:lnTo>
                          <a:pt x="60" y="250"/>
                        </a:lnTo>
                        <a:lnTo>
                          <a:pt x="54" y="283"/>
                        </a:lnTo>
                        <a:lnTo>
                          <a:pt x="47" y="291"/>
                        </a:lnTo>
                        <a:lnTo>
                          <a:pt x="36" y="295"/>
                        </a:lnTo>
                        <a:lnTo>
                          <a:pt x="24" y="297"/>
                        </a:lnTo>
                        <a:lnTo>
                          <a:pt x="13" y="294"/>
                        </a:lnTo>
                        <a:lnTo>
                          <a:pt x="3" y="281"/>
                        </a:lnTo>
                        <a:lnTo>
                          <a:pt x="0" y="264"/>
                        </a:lnTo>
                        <a:lnTo>
                          <a:pt x="1" y="246"/>
                        </a:lnTo>
                        <a:lnTo>
                          <a:pt x="4" y="230"/>
                        </a:lnTo>
                        <a:lnTo>
                          <a:pt x="7" y="230"/>
                        </a:lnTo>
                        <a:lnTo>
                          <a:pt x="4" y="200"/>
                        </a:lnTo>
                        <a:lnTo>
                          <a:pt x="6" y="170"/>
                        </a:lnTo>
                        <a:lnTo>
                          <a:pt x="13" y="140"/>
                        </a:lnTo>
                        <a:lnTo>
                          <a:pt x="23" y="111"/>
                        </a:lnTo>
                        <a:lnTo>
                          <a:pt x="34" y="83"/>
                        </a:lnTo>
                        <a:lnTo>
                          <a:pt x="46" y="56"/>
                        </a:lnTo>
                        <a:lnTo>
                          <a:pt x="57" y="27"/>
                        </a:lnTo>
                        <a:lnTo>
                          <a:pt x="67" y="0"/>
                        </a:lnTo>
                        <a:lnTo>
                          <a:pt x="78" y="2"/>
                        </a:lnTo>
                        <a:lnTo>
                          <a:pt x="91" y="6"/>
                        </a:lnTo>
                        <a:lnTo>
                          <a:pt x="101" y="13"/>
                        </a:lnTo>
                        <a:lnTo>
                          <a:pt x="106" y="26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7427880" y="5778360"/>
                    <a:ext cx="136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17" y="7"/>
                        </a:moveTo>
                        <a:lnTo>
                          <a:pt x="0" y="0"/>
                        </a:lnTo>
                        <a:lnTo>
                          <a:pt x="17" y="3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7344360" y="5783400"/>
                    <a:ext cx="75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0">
                        <a:moveTo>
                          <a:pt x="95" y="20"/>
                        </a:moveTo>
                        <a:lnTo>
                          <a:pt x="0" y="0"/>
                        </a:lnTo>
                        <a:lnTo>
                          <a:pt x="95" y="15"/>
                        </a:lnTo>
                        <a:lnTo>
                          <a:pt x="95" y="2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H="1">
                    <a:off x="6192000" y="5794200"/>
                    <a:ext cx="2408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40">
                        <a:moveTo>
                          <a:pt x="275" y="41"/>
                        </a:moveTo>
                        <a:lnTo>
                          <a:pt x="288" y="64"/>
                        </a:lnTo>
                        <a:lnTo>
                          <a:pt x="300" y="91"/>
                        </a:lnTo>
                        <a:lnTo>
                          <a:pt x="304" y="118"/>
                        </a:lnTo>
                        <a:lnTo>
                          <a:pt x="297" y="140"/>
                        </a:lnTo>
                        <a:lnTo>
                          <a:pt x="188" y="124"/>
                        </a:lnTo>
                        <a:lnTo>
                          <a:pt x="196" y="120"/>
                        </a:lnTo>
                        <a:lnTo>
                          <a:pt x="201" y="117"/>
                        </a:lnTo>
                        <a:lnTo>
                          <a:pt x="206" y="111"/>
                        </a:lnTo>
                        <a:lnTo>
                          <a:pt x="204" y="104"/>
                        </a:lnTo>
                        <a:lnTo>
                          <a:pt x="194" y="102"/>
                        </a:lnTo>
                        <a:lnTo>
                          <a:pt x="186" y="101"/>
                        </a:lnTo>
                        <a:lnTo>
                          <a:pt x="178" y="102"/>
                        </a:lnTo>
                        <a:lnTo>
                          <a:pt x="171" y="105"/>
                        </a:lnTo>
                        <a:lnTo>
                          <a:pt x="164" y="110"/>
                        </a:lnTo>
                        <a:lnTo>
                          <a:pt x="156" y="114"/>
                        </a:lnTo>
                        <a:lnTo>
                          <a:pt x="148" y="120"/>
                        </a:lnTo>
                        <a:lnTo>
                          <a:pt x="138" y="124"/>
                        </a:lnTo>
                        <a:lnTo>
                          <a:pt x="0" y="114"/>
                        </a:lnTo>
                        <a:lnTo>
                          <a:pt x="16" y="93"/>
                        </a:lnTo>
                        <a:lnTo>
                          <a:pt x="31" y="74"/>
                        </a:lnTo>
                        <a:lnTo>
                          <a:pt x="50" y="55"/>
                        </a:lnTo>
                        <a:lnTo>
                          <a:pt x="70" y="40"/>
                        </a:lnTo>
                        <a:lnTo>
                          <a:pt x="91" y="25"/>
                        </a:lnTo>
                        <a:lnTo>
                          <a:pt x="116" y="14"/>
                        </a:lnTo>
                        <a:lnTo>
                          <a:pt x="140" y="5"/>
                        </a:lnTo>
                        <a:lnTo>
                          <a:pt x="167" y="0"/>
                        </a:lnTo>
                        <a:lnTo>
                          <a:pt x="183" y="0"/>
                        </a:lnTo>
                        <a:lnTo>
                          <a:pt x="198" y="1"/>
                        </a:lnTo>
                        <a:lnTo>
                          <a:pt x="214" y="4"/>
                        </a:lnTo>
                        <a:lnTo>
                          <a:pt x="230" y="7"/>
                        </a:lnTo>
                        <a:lnTo>
                          <a:pt x="244" y="13"/>
                        </a:lnTo>
                        <a:lnTo>
                          <a:pt x="257" y="21"/>
                        </a:lnTo>
                        <a:lnTo>
                          <a:pt x="267" y="30"/>
                        </a:lnTo>
                        <a:lnTo>
                          <a:pt x="275" y="4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flipH="1">
                    <a:off x="7265880" y="5799240"/>
                    <a:ext cx="676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23">
                        <a:moveTo>
                          <a:pt x="79" y="23"/>
                        </a:moveTo>
                        <a:lnTo>
                          <a:pt x="0" y="0"/>
                        </a:lnTo>
                        <a:lnTo>
                          <a:pt x="85" y="16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7750800" y="5810400"/>
                    <a:ext cx="107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55">
                        <a:moveTo>
                          <a:pt x="135" y="47"/>
                        </a:moveTo>
                        <a:lnTo>
                          <a:pt x="135" y="55"/>
                        </a:lnTo>
                        <a:lnTo>
                          <a:pt x="117" y="55"/>
                        </a:lnTo>
                        <a:lnTo>
                          <a:pt x="98" y="52"/>
                        </a:lnTo>
                        <a:lnTo>
                          <a:pt x="80" y="46"/>
                        </a:lnTo>
                        <a:lnTo>
                          <a:pt x="63" y="37"/>
                        </a:lnTo>
                        <a:lnTo>
                          <a:pt x="45" y="29"/>
                        </a:lnTo>
                        <a:lnTo>
                          <a:pt x="30" y="19"/>
                        </a:lnTo>
                        <a:lnTo>
                          <a:pt x="14" y="9"/>
                        </a:lnTo>
                        <a:lnTo>
                          <a:pt x="0" y="0"/>
                        </a:lnTo>
                        <a:lnTo>
                          <a:pt x="17" y="6"/>
                        </a:lnTo>
                        <a:lnTo>
                          <a:pt x="34" y="12"/>
                        </a:lnTo>
                        <a:lnTo>
                          <a:pt x="50" y="17"/>
                        </a:lnTo>
                        <a:lnTo>
                          <a:pt x="65" y="23"/>
                        </a:lnTo>
                        <a:lnTo>
                          <a:pt x="81" y="30"/>
                        </a:lnTo>
                        <a:lnTo>
                          <a:pt x="98" y="36"/>
                        </a:lnTo>
                        <a:lnTo>
                          <a:pt x="115" y="42"/>
                        </a:lnTo>
                        <a:lnTo>
                          <a:pt x="135" y="47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>
                    <a:off x="6918120" y="5853240"/>
                    <a:ext cx="28224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156">
                        <a:moveTo>
                          <a:pt x="352" y="38"/>
                        </a:moveTo>
                        <a:lnTo>
                          <a:pt x="357" y="64"/>
                        </a:lnTo>
                        <a:lnTo>
                          <a:pt x="351" y="89"/>
                        </a:lnTo>
                        <a:lnTo>
                          <a:pt x="341" y="117"/>
                        </a:lnTo>
                        <a:lnTo>
                          <a:pt x="334" y="144"/>
                        </a:lnTo>
                        <a:lnTo>
                          <a:pt x="314" y="156"/>
                        </a:lnTo>
                        <a:lnTo>
                          <a:pt x="294" y="155"/>
                        </a:lnTo>
                        <a:lnTo>
                          <a:pt x="274" y="154"/>
                        </a:lnTo>
                        <a:lnTo>
                          <a:pt x="254" y="152"/>
                        </a:lnTo>
                        <a:lnTo>
                          <a:pt x="234" y="149"/>
                        </a:lnTo>
                        <a:lnTo>
                          <a:pt x="213" y="148"/>
                        </a:lnTo>
                        <a:lnTo>
                          <a:pt x="193" y="145"/>
                        </a:lnTo>
                        <a:lnTo>
                          <a:pt x="173" y="142"/>
                        </a:lnTo>
                        <a:lnTo>
                          <a:pt x="153" y="139"/>
                        </a:lnTo>
                        <a:lnTo>
                          <a:pt x="133" y="137"/>
                        </a:lnTo>
                        <a:lnTo>
                          <a:pt x="113" y="134"/>
                        </a:lnTo>
                        <a:lnTo>
                          <a:pt x="93" y="131"/>
                        </a:lnTo>
                        <a:lnTo>
                          <a:pt x="73" y="128"/>
                        </a:lnTo>
                        <a:lnTo>
                          <a:pt x="54" y="124"/>
                        </a:lnTo>
                        <a:lnTo>
                          <a:pt x="36" y="121"/>
                        </a:lnTo>
                        <a:lnTo>
                          <a:pt x="17" y="118"/>
                        </a:lnTo>
                        <a:lnTo>
                          <a:pt x="0" y="115"/>
                        </a:lnTo>
                        <a:lnTo>
                          <a:pt x="6" y="85"/>
                        </a:lnTo>
                        <a:lnTo>
                          <a:pt x="13" y="55"/>
                        </a:lnTo>
                        <a:lnTo>
                          <a:pt x="21" y="27"/>
                        </a:lnTo>
                        <a:lnTo>
                          <a:pt x="33" y="0"/>
                        </a:lnTo>
                        <a:lnTo>
                          <a:pt x="53" y="1"/>
                        </a:lnTo>
                        <a:lnTo>
                          <a:pt x="73" y="2"/>
                        </a:lnTo>
                        <a:lnTo>
                          <a:pt x="93" y="5"/>
                        </a:lnTo>
                        <a:lnTo>
                          <a:pt x="113" y="8"/>
                        </a:lnTo>
                        <a:lnTo>
                          <a:pt x="133" y="10"/>
                        </a:lnTo>
                        <a:lnTo>
                          <a:pt x="153" y="12"/>
                        </a:lnTo>
                        <a:lnTo>
                          <a:pt x="174" y="15"/>
                        </a:lnTo>
                        <a:lnTo>
                          <a:pt x="194" y="18"/>
                        </a:lnTo>
                        <a:lnTo>
                          <a:pt x="214" y="22"/>
                        </a:lnTo>
                        <a:lnTo>
                          <a:pt x="234" y="25"/>
                        </a:lnTo>
                        <a:lnTo>
                          <a:pt x="254" y="28"/>
                        </a:lnTo>
                        <a:lnTo>
                          <a:pt x="274" y="29"/>
                        </a:lnTo>
                        <a:lnTo>
                          <a:pt x="294" y="32"/>
                        </a:lnTo>
                        <a:lnTo>
                          <a:pt x="314" y="35"/>
                        </a:lnTo>
                        <a:lnTo>
                          <a:pt x="332" y="37"/>
                        </a:lnTo>
                        <a:lnTo>
                          <a:pt x="352" y="38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6636600" y="5862600"/>
                    <a:ext cx="35028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464">
                        <a:moveTo>
                          <a:pt x="415" y="33"/>
                        </a:moveTo>
                        <a:lnTo>
                          <a:pt x="393" y="16"/>
                        </a:lnTo>
                        <a:lnTo>
                          <a:pt x="371" y="5"/>
                        </a:lnTo>
                        <a:lnTo>
                          <a:pt x="351" y="0"/>
                        </a:lnTo>
                        <a:lnTo>
                          <a:pt x="333" y="0"/>
                        </a:lnTo>
                        <a:lnTo>
                          <a:pt x="316" y="6"/>
                        </a:lnTo>
                        <a:lnTo>
                          <a:pt x="298" y="15"/>
                        </a:lnTo>
                        <a:lnTo>
                          <a:pt x="284" y="27"/>
                        </a:lnTo>
                        <a:lnTo>
                          <a:pt x="270" y="43"/>
                        </a:lnTo>
                        <a:lnTo>
                          <a:pt x="256" y="60"/>
                        </a:lnTo>
                        <a:lnTo>
                          <a:pt x="243" y="77"/>
                        </a:lnTo>
                        <a:lnTo>
                          <a:pt x="230" y="96"/>
                        </a:lnTo>
                        <a:lnTo>
                          <a:pt x="217" y="115"/>
                        </a:lnTo>
                        <a:lnTo>
                          <a:pt x="206" y="133"/>
                        </a:lnTo>
                        <a:lnTo>
                          <a:pt x="194" y="149"/>
                        </a:lnTo>
                        <a:lnTo>
                          <a:pt x="181" y="162"/>
                        </a:lnTo>
                        <a:lnTo>
                          <a:pt x="170" y="173"/>
                        </a:lnTo>
                        <a:lnTo>
                          <a:pt x="170" y="192"/>
                        </a:lnTo>
                        <a:lnTo>
                          <a:pt x="171" y="212"/>
                        </a:lnTo>
                        <a:lnTo>
                          <a:pt x="174" y="230"/>
                        </a:lnTo>
                        <a:lnTo>
                          <a:pt x="179" y="249"/>
                        </a:lnTo>
                        <a:lnTo>
                          <a:pt x="184" y="267"/>
                        </a:lnTo>
                        <a:lnTo>
                          <a:pt x="193" y="286"/>
                        </a:lnTo>
                        <a:lnTo>
                          <a:pt x="201" y="303"/>
                        </a:lnTo>
                        <a:lnTo>
                          <a:pt x="214" y="320"/>
                        </a:lnTo>
                        <a:lnTo>
                          <a:pt x="227" y="320"/>
                        </a:lnTo>
                        <a:lnTo>
                          <a:pt x="239" y="323"/>
                        </a:lnTo>
                        <a:lnTo>
                          <a:pt x="249" y="329"/>
                        </a:lnTo>
                        <a:lnTo>
                          <a:pt x="253" y="337"/>
                        </a:lnTo>
                        <a:lnTo>
                          <a:pt x="247" y="343"/>
                        </a:lnTo>
                        <a:lnTo>
                          <a:pt x="239" y="347"/>
                        </a:lnTo>
                        <a:lnTo>
                          <a:pt x="230" y="350"/>
                        </a:lnTo>
                        <a:lnTo>
                          <a:pt x="219" y="350"/>
                        </a:lnTo>
                        <a:lnTo>
                          <a:pt x="199" y="346"/>
                        </a:lnTo>
                        <a:lnTo>
                          <a:pt x="181" y="339"/>
                        </a:lnTo>
                        <a:lnTo>
                          <a:pt x="167" y="329"/>
                        </a:lnTo>
                        <a:lnTo>
                          <a:pt x="157" y="314"/>
                        </a:lnTo>
                        <a:lnTo>
                          <a:pt x="147" y="300"/>
                        </a:lnTo>
                        <a:lnTo>
                          <a:pt x="140" y="284"/>
                        </a:lnTo>
                        <a:lnTo>
                          <a:pt x="134" y="267"/>
                        </a:lnTo>
                        <a:lnTo>
                          <a:pt x="129" y="250"/>
                        </a:lnTo>
                        <a:lnTo>
                          <a:pt x="120" y="246"/>
                        </a:lnTo>
                        <a:lnTo>
                          <a:pt x="110" y="244"/>
                        </a:lnTo>
                        <a:lnTo>
                          <a:pt x="102" y="244"/>
                        </a:lnTo>
                        <a:lnTo>
                          <a:pt x="93" y="247"/>
                        </a:lnTo>
                        <a:lnTo>
                          <a:pt x="86" y="252"/>
                        </a:lnTo>
                        <a:lnTo>
                          <a:pt x="77" y="256"/>
                        </a:lnTo>
                        <a:lnTo>
                          <a:pt x="69" y="260"/>
                        </a:lnTo>
                        <a:lnTo>
                          <a:pt x="62" y="266"/>
                        </a:lnTo>
                        <a:lnTo>
                          <a:pt x="49" y="279"/>
                        </a:lnTo>
                        <a:lnTo>
                          <a:pt x="34" y="294"/>
                        </a:lnTo>
                        <a:lnTo>
                          <a:pt x="23" y="310"/>
                        </a:lnTo>
                        <a:lnTo>
                          <a:pt x="12" y="329"/>
                        </a:lnTo>
                        <a:lnTo>
                          <a:pt x="4" y="347"/>
                        </a:lnTo>
                        <a:lnTo>
                          <a:pt x="0" y="367"/>
                        </a:lnTo>
                        <a:lnTo>
                          <a:pt x="0" y="387"/>
                        </a:lnTo>
                        <a:lnTo>
                          <a:pt x="7" y="407"/>
                        </a:lnTo>
                        <a:lnTo>
                          <a:pt x="29" y="423"/>
                        </a:lnTo>
                        <a:lnTo>
                          <a:pt x="53" y="437"/>
                        </a:lnTo>
                        <a:lnTo>
                          <a:pt x="79" y="448"/>
                        </a:lnTo>
                        <a:lnTo>
                          <a:pt x="107" y="457"/>
                        </a:lnTo>
                        <a:lnTo>
                          <a:pt x="136" y="463"/>
                        </a:lnTo>
                        <a:lnTo>
                          <a:pt x="164" y="464"/>
                        </a:lnTo>
                        <a:lnTo>
                          <a:pt x="191" y="461"/>
                        </a:lnTo>
                        <a:lnTo>
                          <a:pt x="219" y="454"/>
                        </a:lnTo>
                        <a:lnTo>
                          <a:pt x="231" y="447"/>
                        </a:lnTo>
                        <a:lnTo>
                          <a:pt x="246" y="441"/>
                        </a:lnTo>
                        <a:lnTo>
                          <a:pt x="259" y="436"/>
                        </a:lnTo>
                        <a:lnTo>
                          <a:pt x="271" y="430"/>
                        </a:lnTo>
                        <a:lnTo>
                          <a:pt x="284" y="426"/>
                        </a:lnTo>
                        <a:lnTo>
                          <a:pt x="297" y="420"/>
                        </a:lnTo>
                        <a:lnTo>
                          <a:pt x="310" y="416"/>
                        </a:lnTo>
                        <a:lnTo>
                          <a:pt x="323" y="411"/>
                        </a:lnTo>
                        <a:lnTo>
                          <a:pt x="344" y="380"/>
                        </a:lnTo>
                        <a:lnTo>
                          <a:pt x="366" y="346"/>
                        </a:lnTo>
                        <a:lnTo>
                          <a:pt x="386" y="309"/>
                        </a:lnTo>
                        <a:lnTo>
                          <a:pt x="404" y="270"/>
                        </a:lnTo>
                        <a:lnTo>
                          <a:pt x="420" y="229"/>
                        </a:lnTo>
                        <a:lnTo>
                          <a:pt x="431" y="186"/>
                        </a:lnTo>
                        <a:lnTo>
                          <a:pt x="440" y="143"/>
                        </a:lnTo>
                        <a:lnTo>
                          <a:pt x="443" y="100"/>
                        </a:lnTo>
                        <a:lnTo>
                          <a:pt x="415" y="33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6190200" y="5896080"/>
                    <a:ext cx="4410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235">
                        <a:moveTo>
                          <a:pt x="33" y="234"/>
                        </a:moveTo>
                        <a:lnTo>
                          <a:pt x="62" y="232"/>
                        </a:lnTo>
                        <a:lnTo>
                          <a:pt x="90" y="231"/>
                        </a:lnTo>
                        <a:lnTo>
                          <a:pt x="120" y="229"/>
                        </a:lnTo>
                        <a:lnTo>
                          <a:pt x="150" y="228"/>
                        </a:lnTo>
                        <a:lnTo>
                          <a:pt x="180" y="227"/>
                        </a:lnTo>
                        <a:lnTo>
                          <a:pt x="212" y="224"/>
                        </a:lnTo>
                        <a:lnTo>
                          <a:pt x="243" y="222"/>
                        </a:lnTo>
                        <a:lnTo>
                          <a:pt x="274" y="219"/>
                        </a:lnTo>
                        <a:lnTo>
                          <a:pt x="306" y="217"/>
                        </a:lnTo>
                        <a:lnTo>
                          <a:pt x="337" y="212"/>
                        </a:lnTo>
                        <a:lnTo>
                          <a:pt x="369" y="210"/>
                        </a:lnTo>
                        <a:lnTo>
                          <a:pt x="398" y="204"/>
                        </a:lnTo>
                        <a:lnTo>
                          <a:pt x="428" y="200"/>
                        </a:lnTo>
                        <a:lnTo>
                          <a:pt x="458" y="194"/>
                        </a:lnTo>
                        <a:lnTo>
                          <a:pt x="487" y="187"/>
                        </a:lnTo>
                        <a:lnTo>
                          <a:pt x="515" y="180"/>
                        </a:lnTo>
                        <a:lnTo>
                          <a:pt x="530" y="147"/>
                        </a:lnTo>
                        <a:lnTo>
                          <a:pt x="543" y="114"/>
                        </a:lnTo>
                        <a:lnTo>
                          <a:pt x="553" y="81"/>
                        </a:lnTo>
                        <a:lnTo>
                          <a:pt x="557" y="45"/>
                        </a:lnTo>
                        <a:lnTo>
                          <a:pt x="540" y="40"/>
                        </a:lnTo>
                        <a:lnTo>
                          <a:pt x="523" y="35"/>
                        </a:lnTo>
                        <a:lnTo>
                          <a:pt x="503" y="33"/>
                        </a:lnTo>
                        <a:lnTo>
                          <a:pt x="483" y="31"/>
                        </a:lnTo>
                        <a:lnTo>
                          <a:pt x="461" y="30"/>
                        </a:lnTo>
                        <a:lnTo>
                          <a:pt x="440" y="30"/>
                        </a:lnTo>
                        <a:lnTo>
                          <a:pt x="420" y="30"/>
                        </a:lnTo>
                        <a:lnTo>
                          <a:pt x="400" y="28"/>
                        </a:lnTo>
                        <a:lnTo>
                          <a:pt x="386" y="40"/>
                        </a:lnTo>
                        <a:lnTo>
                          <a:pt x="371" y="54"/>
                        </a:lnTo>
                        <a:lnTo>
                          <a:pt x="359" y="70"/>
                        </a:lnTo>
                        <a:lnTo>
                          <a:pt x="347" y="85"/>
                        </a:lnTo>
                        <a:lnTo>
                          <a:pt x="337" y="102"/>
                        </a:lnTo>
                        <a:lnTo>
                          <a:pt x="329" y="120"/>
                        </a:lnTo>
                        <a:lnTo>
                          <a:pt x="321" y="137"/>
                        </a:lnTo>
                        <a:lnTo>
                          <a:pt x="314" y="154"/>
                        </a:lnTo>
                        <a:lnTo>
                          <a:pt x="309" y="164"/>
                        </a:lnTo>
                        <a:lnTo>
                          <a:pt x="303" y="168"/>
                        </a:lnTo>
                        <a:lnTo>
                          <a:pt x="300" y="172"/>
                        </a:lnTo>
                        <a:lnTo>
                          <a:pt x="307" y="182"/>
                        </a:lnTo>
                        <a:lnTo>
                          <a:pt x="300" y="188"/>
                        </a:lnTo>
                        <a:lnTo>
                          <a:pt x="294" y="190"/>
                        </a:lnTo>
                        <a:lnTo>
                          <a:pt x="289" y="187"/>
                        </a:lnTo>
                        <a:lnTo>
                          <a:pt x="284" y="182"/>
                        </a:lnTo>
                        <a:lnTo>
                          <a:pt x="293" y="171"/>
                        </a:lnTo>
                        <a:lnTo>
                          <a:pt x="294" y="154"/>
                        </a:lnTo>
                        <a:lnTo>
                          <a:pt x="294" y="137"/>
                        </a:lnTo>
                        <a:lnTo>
                          <a:pt x="299" y="121"/>
                        </a:lnTo>
                        <a:lnTo>
                          <a:pt x="306" y="108"/>
                        </a:lnTo>
                        <a:lnTo>
                          <a:pt x="313" y="95"/>
                        </a:lnTo>
                        <a:lnTo>
                          <a:pt x="320" y="83"/>
                        </a:lnTo>
                        <a:lnTo>
                          <a:pt x="327" y="71"/>
                        </a:lnTo>
                        <a:lnTo>
                          <a:pt x="334" y="60"/>
                        </a:lnTo>
                        <a:lnTo>
                          <a:pt x="341" y="48"/>
                        </a:lnTo>
                        <a:lnTo>
                          <a:pt x="350" y="37"/>
                        </a:lnTo>
                        <a:lnTo>
                          <a:pt x="359" y="25"/>
                        </a:lnTo>
                        <a:lnTo>
                          <a:pt x="222" y="15"/>
                        </a:lnTo>
                        <a:lnTo>
                          <a:pt x="167" y="110"/>
                        </a:lnTo>
                        <a:lnTo>
                          <a:pt x="162" y="127"/>
                        </a:lnTo>
                        <a:lnTo>
                          <a:pt x="159" y="147"/>
                        </a:lnTo>
                        <a:lnTo>
                          <a:pt x="153" y="162"/>
                        </a:lnTo>
                        <a:lnTo>
                          <a:pt x="137" y="162"/>
                        </a:lnTo>
                        <a:lnTo>
                          <a:pt x="139" y="141"/>
                        </a:lnTo>
                        <a:lnTo>
                          <a:pt x="143" y="121"/>
                        </a:lnTo>
                        <a:lnTo>
                          <a:pt x="147" y="102"/>
                        </a:lnTo>
                        <a:lnTo>
                          <a:pt x="154" y="85"/>
                        </a:lnTo>
                        <a:lnTo>
                          <a:pt x="162" y="68"/>
                        </a:lnTo>
                        <a:lnTo>
                          <a:pt x="170" y="51"/>
                        </a:lnTo>
                        <a:lnTo>
                          <a:pt x="179" y="34"/>
                        </a:lnTo>
                        <a:lnTo>
                          <a:pt x="189" y="17"/>
                        </a:lnTo>
                        <a:lnTo>
                          <a:pt x="184" y="8"/>
                        </a:lnTo>
                        <a:lnTo>
                          <a:pt x="174" y="5"/>
                        </a:lnTo>
                        <a:lnTo>
                          <a:pt x="164" y="5"/>
                        </a:lnTo>
                        <a:lnTo>
                          <a:pt x="154" y="3"/>
                        </a:lnTo>
                        <a:lnTo>
                          <a:pt x="136" y="3"/>
                        </a:lnTo>
                        <a:lnTo>
                          <a:pt x="124" y="8"/>
                        </a:lnTo>
                        <a:lnTo>
                          <a:pt x="119" y="20"/>
                        </a:lnTo>
                        <a:lnTo>
                          <a:pt x="116" y="34"/>
                        </a:lnTo>
                        <a:lnTo>
                          <a:pt x="114" y="50"/>
                        </a:lnTo>
                        <a:lnTo>
                          <a:pt x="113" y="67"/>
                        </a:lnTo>
                        <a:lnTo>
                          <a:pt x="112" y="84"/>
                        </a:lnTo>
                        <a:lnTo>
                          <a:pt x="106" y="100"/>
                        </a:lnTo>
                        <a:lnTo>
                          <a:pt x="102" y="127"/>
                        </a:lnTo>
                        <a:lnTo>
                          <a:pt x="104" y="157"/>
                        </a:lnTo>
                        <a:lnTo>
                          <a:pt x="100" y="184"/>
                        </a:lnTo>
                        <a:lnTo>
                          <a:pt x="80" y="198"/>
                        </a:lnTo>
                        <a:lnTo>
                          <a:pt x="75" y="197"/>
                        </a:lnTo>
                        <a:lnTo>
                          <a:pt x="72" y="191"/>
                        </a:lnTo>
                        <a:lnTo>
                          <a:pt x="70" y="185"/>
                        </a:lnTo>
                        <a:lnTo>
                          <a:pt x="67" y="180"/>
                        </a:lnTo>
                        <a:lnTo>
                          <a:pt x="77" y="135"/>
                        </a:lnTo>
                        <a:lnTo>
                          <a:pt x="89" y="90"/>
                        </a:lnTo>
                        <a:lnTo>
                          <a:pt x="97" y="45"/>
                        </a:lnTo>
                        <a:lnTo>
                          <a:pt x="96" y="3"/>
                        </a:lnTo>
                        <a:lnTo>
                          <a:pt x="87" y="1"/>
                        </a:lnTo>
                        <a:lnTo>
                          <a:pt x="77" y="1"/>
                        </a:lnTo>
                        <a:lnTo>
                          <a:pt x="67" y="1"/>
                        </a:lnTo>
                        <a:lnTo>
                          <a:pt x="56" y="0"/>
                        </a:lnTo>
                        <a:lnTo>
                          <a:pt x="46" y="1"/>
                        </a:lnTo>
                        <a:lnTo>
                          <a:pt x="36" y="1"/>
                        </a:lnTo>
                        <a:lnTo>
                          <a:pt x="27" y="1"/>
                        </a:lnTo>
                        <a:lnTo>
                          <a:pt x="19" y="3"/>
                        </a:lnTo>
                        <a:lnTo>
                          <a:pt x="27" y="33"/>
                        </a:lnTo>
                        <a:lnTo>
                          <a:pt x="32" y="63"/>
                        </a:lnTo>
                        <a:lnTo>
                          <a:pt x="32" y="90"/>
                        </a:lnTo>
                        <a:lnTo>
                          <a:pt x="30" y="118"/>
                        </a:lnTo>
                        <a:lnTo>
                          <a:pt x="25" y="145"/>
                        </a:lnTo>
                        <a:lnTo>
                          <a:pt x="19" y="174"/>
                        </a:lnTo>
                        <a:lnTo>
                          <a:pt x="10" y="204"/>
                        </a:lnTo>
                        <a:lnTo>
                          <a:pt x="0" y="235"/>
                        </a:lnTo>
                        <a:lnTo>
                          <a:pt x="10" y="235"/>
                        </a:lnTo>
                        <a:lnTo>
                          <a:pt x="19" y="235"/>
                        </a:lnTo>
                        <a:lnTo>
                          <a:pt x="27" y="235"/>
                        </a:lnTo>
                        <a:lnTo>
                          <a:pt x="33" y="23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6758640" y="5931000"/>
                    <a:ext cx="630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61">
                        <a:moveTo>
                          <a:pt x="71" y="20"/>
                        </a:moveTo>
                        <a:lnTo>
                          <a:pt x="56" y="37"/>
                        </a:lnTo>
                        <a:lnTo>
                          <a:pt x="46" y="57"/>
                        </a:lnTo>
                        <a:lnTo>
                          <a:pt x="43" y="81"/>
                        </a:lnTo>
                        <a:lnTo>
                          <a:pt x="46" y="107"/>
                        </a:lnTo>
                        <a:lnTo>
                          <a:pt x="71" y="141"/>
                        </a:lnTo>
                        <a:lnTo>
                          <a:pt x="66" y="144"/>
                        </a:lnTo>
                        <a:lnTo>
                          <a:pt x="60" y="148"/>
                        </a:lnTo>
                        <a:lnTo>
                          <a:pt x="54" y="153"/>
                        </a:lnTo>
                        <a:lnTo>
                          <a:pt x="47" y="157"/>
                        </a:lnTo>
                        <a:lnTo>
                          <a:pt x="40" y="160"/>
                        </a:lnTo>
                        <a:lnTo>
                          <a:pt x="33" y="161"/>
                        </a:lnTo>
                        <a:lnTo>
                          <a:pt x="26" y="161"/>
                        </a:lnTo>
                        <a:lnTo>
                          <a:pt x="20" y="157"/>
                        </a:lnTo>
                        <a:lnTo>
                          <a:pt x="12" y="140"/>
                        </a:lnTo>
                        <a:lnTo>
                          <a:pt x="3" y="120"/>
                        </a:lnTo>
                        <a:lnTo>
                          <a:pt x="0" y="101"/>
                        </a:lnTo>
                        <a:lnTo>
                          <a:pt x="12" y="87"/>
                        </a:lnTo>
                        <a:lnTo>
                          <a:pt x="24" y="78"/>
                        </a:lnTo>
                        <a:lnTo>
                          <a:pt x="33" y="67"/>
                        </a:lnTo>
                        <a:lnTo>
                          <a:pt x="37" y="54"/>
                        </a:lnTo>
                        <a:lnTo>
                          <a:pt x="42" y="41"/>
                        </a:lnTo>
                        <a:lnTo>
                          <a:pt x="46" y="29"/>
                        </a:lnTo>
                        <a:lnTo>
                          <a:pt x="52" y="16"/>
                        </a:lnTo>
                        <a:lnTo>
                          <a:pt x="60" y="7"/>
                        </a:lnTo>
                        <a:lnTo>
                          <a:pt x="71" y="0"/>
                        </a:lnTo>
                        <a:lnTo>
                          <a:pt x="80" y="4"/>
                        </a:lnTo>
                        <a:lnTo>
                          <a:pt x="80" y="9"/>
                        </a:lnTo>
                        <a:lnTo>
                          <a:pt x="77" y="14"/>
                        </a:lnTo>
                        <a:lnTo>
                          <a:pt x="71" y="20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>
                    <a:off x="5957280" y="5951520"/>
                    <a:ext cx="1760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284">
                        <a:moveTo>
                          <a:pt x="221" y="77"/>
                        </a:moveTo>
                        <a:lnTo>
                          <a:pt x="217" y="94"/>
                        </a:lnTo>
                        <a:lnTo>
                          <a:pt x="210" y="111"/>
                        </a:lnTo>
                        <a:lnTo>
                          <a:pt x="206" y="128"/>
                        </a:lnTo>
                        <a:lnTo>
                          <a:pt x="211" y="145"/>
                        </a:lnTo>
                        <a:lnTo>
                          <a:pt x="216" y="159"/>
                        </a:lnTo>
                        <a:lnTo>
                          <a:pt x="216" y="174"/>
                        </a:lnTo>
                        <a:lnTo>
                          <a:pt x="213" y="185"/>
                        </a:lnTo>
                        <a:lnTo>
                          <a:pt x="207" y="197"/>
                        </a:lnTo>
                        <a:lnTo>
                          <a:pt x="200" y="207"/>
                        </a:lnTo>
                        <a:lnTo>
                          <a:pt x="190" y="217"/>
                        </a:lnTo>
                        <a:lnTo>
                          <a:pt x="181" y="225"/>
                        </a:lnTo>
                        <a:lnTo>
                          <a:pt x="173" y="234"/>
                        </a:lnTo>
                        <a:lnTo>
                          <a:pt x="156" y="241"/>
                        </a:lnTo>
                        <a:lnTo>
                          <a:pt x="140" y="249"/>
                        </a:lnTo>
                        <a:lnTo>
                          <a:pt x="124" y="259"/>
                        </a:lnTo>
                        <a:lnTo>
                          <a:pt x="110" y="269"/>
                        </a:lnTo>
                        <a:lnTo>
                          <a:pt x="94" y="278"/>
                        </a:lnTo>
                        <a:lnTo>
                          <a:pt x="77" y="284"/>
                        </a:lnTo>
                        <a:lnTo>
                          <a:pt x="59" y="284"/>
                        </a:lnTo>
                        <a:lnTo>
                          <a:pt x="37" y="279"/>
                        </a:lnTo>
                        <a:lnTo>
                          <a:pt x="30" y="275"/>
                        </a:lnTo>
                        <a:lnTo>
                          <a:pt x="23" y="269"/>
                        </a:lnTo>
                        <a:lnTo>
                          <a:pt x="16" y="265"/>
                        </a:lnTo>
                        <a:lnTo>
                          <a:pt x="10" y="259"/>
                        </a:lnTo>
                        <a:lnTo>
                          <a:pt x="5" y="254"/>
                        </a:lnTo>
                        <a:lnTo>
                          <a:pt x="0" y="248"/>
                        </a:lnTo>
                        <a:lnTo>
                          <a:pt x="0" y="239"/>
                        </a:lnTo>
                        <a:lnTo>
                          <a:pt x="3" y="231"/>
                        </a:lnTo>
                        <a:lnTo>
                          <a:pt x="10" y="239"/>
                        </a:lnTo>
                        <a:lnTo>
                          <a:pt x="19" y="245"/>
                        </a:lnTo>
                        <a:lnTo>
                          <a:pt x="30" y="251"/>
                        </a:lnTo>
                        <a:lnTo>
                          <a:pt x="42" y="254"/>
                        </a:lnTo>
                        <a:lnTo>
                          <a:pt x="54" y="255"/>
                        </a:lnTo>
                        <a:lnTo>
                          <a:pt x="67" y="255"/>
                        </a:lnTo>
                        <a:lnTo>
                          <a:pt x="79" y="252"/>
                        </a:lnTo>
                        <a:lnTo>
                          <a:pt x="89" y="247"/>
                        </a:lnTo>
                        <a:lnTo>
                          <a:pt x="100" y="239"/>
                        </a:lnTo>
                        <a:lnTo>
                          <a:pt x="109" y="232"/>
                        </a:lnTo>
                        <a:lnTo>
                          <a:pt x="117" y="224"/>
                        </a:lnTo>
                        <a:lnTo>
                          <a:pt x="124" y="215"/>
                        </a:lnTo>
                        <a:lnTo>
                          <a:pt x="114" y="202"/>
                        </a:lnTo>
                        <a:lnTo>
                          <a:pt x="116" y="202"/>
                        </a:lnTo>
                        <a:lnTo>
                          <a:pt x="116" y="184"/>
                        </a:lnTo>
                        <a:lnTo>
                          <a:pt x="140" y="187"/>
                        </a:lnTo>
                        <a:lnTo>
                          <a:pt x="140" y="202"/>
                        </a:lnTo>
                        <a:lnTo>
                          <a:pt x="149" y="205"/>
                        </a:lnTo>
                        <a:lnTo>
                          <a:pt x="156" y="205"/>
                        </a:lnTo>
                        <a:lnTo>
                          <a:pt x="163" y="204"/>
                        </a:lnTo>
                        <a:lnTo>
                          <a:pt x="169" y="198"/>
                        </a:lnTo>
                        <a:lnTo>
                          <a:pt x="174" y="194"/>
                        </a:lnTo>
                        <a:lnTo>
                          <a:pt x="180" y="187"/>
                        </a:lnTo>
                        <a:lnTo>
                          <a:pt x="184" y="179"/>
                        </a:lnTo>
                        <a:lnTo>
                          <a:pt x="189" y="174"/>
                        </a:lnTo>
                        <a:lnTo>
                          <a:pt x="189" y="164"/>
                        </a:lnTo>
                        <a:lnTo>
                          <a:pt x="189" y="152"/>
                        </a:lnTo>
                        <a:lnTo>
                          <a:pt x="187" y="142"/>
                        </a:lnTo>
                        <a:lnTo>
                          <a:pt x="179" y="138"/>
                        </a:lnTo>
                        <a:lnTo>
                          <a:pt x="183" y="121"/>
                        </a:lnTo>
                        <a:lnTo>
                          <a:pt x="187" y="101"/>
                        </a:lnTo>
                        <a:lnTo>
                          <a:pt x="186" y="81"/>
                        </a:lnTo>
                        <a:lnTo>
                          <a:pt x="179" y="65"/>
                        </a:lnTo>
                        <a:lnTo>
                          <a:pt x="174" y="61"/>
                        </a:lnTo>
                        <a:lnTo>
                          <a:pt x="170" y="58"/>
                        </a:lnTo>
                        <a:lnTo>
                          <a:pt x="164" y="55"/>
                        </a:lnTo>
                        <a:lnTo>
                          <a:pt x="159" y="54"/>
                        </a:lnTo>
                        <a:lnTo>
                          <a:pt x="153" y="54"/>
                        </a:lnTo>
                        <a:lnTo>
                          <a:pt x="147" y="54"/>
                        </a:lnTo>
                        <a:lnTo>
                          <a:pt x="140" y="54"/>
                        </a:lnTo>
                        <a:lnTo>
                          <a:pt x="134" y="55"/>
                        </a:lnTo>
                        <a:lnTo>
                          <a:pt x="133" y="61"/>
                        </a:lnTo>
                        <a:lnTo>
                          <a:pt x="132" y="67"/>
                        </a:lnTo>
                        <a:lnTo>
                          <a:pt x="129" y="72"/>
                        </a:lnTo>
                        <a:lnTo>
                          <a:pt x="129" y="80"/>
                        </a:lnTo>
                        <a:lnTo>
                          <a:pt x="117" y="78"/>
                        </a:lnTo>
                        <a:lnTo>
                          <a:pt x="113" y="70"/>
                        </a:lnTo>
                        <a:lnTo>
                          <a:pt x="114" y="60"/>
                        </a:lnTo>
                        <a:lnTo>
                          <a:pt x="114" y="48"/>
                        </a:lnTo>
                        <a:lnTo>
                          <a:pt x="102" y="41"/>
                        </a:lnTo>
                        <a:lnTo>
                          <a:pt x="89" y="35"/>
                        </a:lnTo>
                        <a:lnTo>
                          <a:pt x="74" y="32"/>
                        </a:lnTo>
                        <a:lnTo>
                          <a:pt x="60" y="30"/>
                        </a:lnTo>
                        <a:lnTo>
                          <a:pt x="44" y="30"/>
                        </a:lnTo>
                        <a:lnTo>
                          <a:pt x="29" y="31"/>
                        </a:lnTo>
                        <a:lnTo>
                          <a:pt x="15" y="34"/>
                        </a:lnTo>
                        <a:lnTo>
                          <a:pt x="0" y="38"/>
                        </a:lnTo>
                        <a:lnTo>
                          <a:pt x="3" y="28"/>
                        </a:lnTo>
                        <a:lnTo>
                          <a:pt x="7" y="21"/>
                        </a:lnTo>
                        <a:lnTo>
                          <a:pt x="13" y="17"/>
                        </a:lnTo>
                        <a:lnTo>
                          <a:pt x="22" y="13"/>
                        </a:lnTo>
                        <a:lnTo>
                          <a:pt x="30" y="8"/>
                        </a:lnTo>
                        <a:lnTo>
                          <a:pt x="39" y="5"/>
                        </a:lnTo>
                        <a:lnTo>
                          <a:pt x="49" y="3"/>
                        </a:lnTo>
                        <a:lnTo>
                          <a:pt x="57" y="0"/>
                        </a:lnTo>
                        <a:lnTo>
                          <a:pt x="80" y="8"/>
                        </a:lnTo>
                        <a:lnTo>
                          <a:pt x="104" y="14"/>
                        </a:lnTo>
                        <a:lnTo>
                          <a:pt x="129" y="20"/>
                        </a:lnTo>
                        <a:lnTo>
                          <a:pt x="153" y="25"/>
                        </a:lnTo>
                        <a:lnTo>
                          <a:pt x="174" y="32"/>
                        </a:lnTo>
                        <a:lnTo>
                          <a:pt x="194" y="42"/>
                        </a:lnTo>
                        <a:lnTo>
                          <a:pt x="210" y="57"/>
                        </a:lnTo>
                        <a:lnTo>
                          <a:pt x="221" y="77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 flipH="1">
                    <a:off x="7548480" y="6010200"/>
                    <a:ext cx="19152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78">
                        <a:moveTo>
                          <a:pt x="243" y="64"/>
                        </a:moveTo>
                        <a:lnTo>
                          <a:pt x="226" y="73"/>
                        </a:lnTo>
                        <a:lnTo>
                          <a:pt x="204" y="77"/>
                        </a:lnTo>
                        <a:lnTo>
                          <a:pt x="180" y="78"/>
                        </a:lnTo>
                        <a:lnTo>
                          <a:pt x="154" y="78"/>
                        </a:lnTo>
                        <a:lnTo>
                          <a:pt x="129" y="74"/>
                        </a:lnTo>
                        <a:lnTo>
                          <a:pt x="103" y="68"/>
                        </a:lnTo>
                        <a:lnTo>
                          <a:pt x="79" y="61"/>
                        </a:lnTo>
                        <a:lnTo>
                          <a:pt x="57" y="51"/>
                        </a:lnTo>
                        <a:lnTo>
                          <a:pt x="52" y="46"/>
                        </a:lnTo>
                        <a:lnTo>
                          <a:pt x="44" y="41"/>
                        </a:lnTo>
                        <a:lnTo>
                          <a:pt x="36" y="37"/>
                        </a:lnTo>
                        <a:lnTo>
                          <a:pt x="29" y="33"/>
                        </a:lnTo>
                        <a:lnTo>
                          <a:pt x="22" y="28"/>
                        </a:lnTo>
                        <a:lnTo>
                          <a:pt x="13" y="23"/>
                        </a:lnTo>
                        <a:lnTo>
                          <a:pt x="6" y="17"/>
                        </a:lnTo>
                        <a:lnTo>
                          <a:pt x="0" y="10"/>
                        </a:lnTo>
                        <a:lnTo>
                          <a:pt x="16" y="6"/>
                        </a:lnTo>
                        <a:lnTo>
                          <a:pt x="32" y="3"/>
                        </a:lnTo>
                        <a:lnTo>
                          <a:pt x="47" y="1"/>
                        </a:lnTo>
                        <a:lnTo>
                          <a:pt x="64" y="0"/>
                        </a:lnTo>
                        <a:lnTo>
                          <a:pt x="82" y="1"/>
                        </a:lnTo>
                        <a:lnTo>
                          <a:pt x="97" y="3"/>
                        </a:lnTo>
                        <a:lnTo>
                          <a:pt x="114" y="4"/>
                        </a:lnTo>
                        <a:lnTo>
                          <a:pt x="131" y="8"/>
                        </a:lnTo>
                        <a:lnTo>
                          <a:pt x="147" y="13"/>
                        </a:lnTo>
                        <a:lnTo>
                          <a:pt x="163" y="17"/>
                        </a:lnTo>
                        <a:lnTo>
                          <a:pt x="179" y="24"/>
                        </a:lnTo>
                        <a:lnTo>
                          <a:pt x="193" y="30"/>
                        </a:lnTo>
                        <a:lnTo>
                          <a:pt x="207" y="38"/>
                        </a:lnTo>
                        <a:lnTo>
                          <a:pt x="220" y="46"/>
                        </a:lnTo>
                        <a:lnTo>
                          <a:pt x="231" y="54"/>
                        </a:lnTo>
                        <a:lnTo>
                          <a:pt x="243" y="64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H="1">
                    <a:off x="6852960" y="6056280"/>
                    <a:ext cx="18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5">
                        <a:moveTo>
                          <a:pt x="24" y="45"/>
                        </a:moveTo>
                        <a:lnTo>
                          <a:pt x="14" y="39"/>
                        </a:lnTo>
                        <a:lnTo>
                          <a:pt x="4" y="29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lnTo>
                          <a:pt x="24" y="45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H="1">
                    <a:off x="7125480" y="6078600"/>
                    <a:ext cx="1724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33">
                        <a:moveTo>
                          <a:pt x="218" y="2"/>
                        </a:moveTo>
                        <a:lnTo>
                          <a:pt x="217" y="13"/>
                        </a:lnTo>
                        <a:lnTo>
                          <a:pt x="212" y="22"/>
                        </a:lnTo>
                        <a:lnTo>
                          <a:pt x="205" y="25"/>
                        </a:lnTo>
                        <a:lnTo>
                          <a:pt x="195" y="26"/>
                        </a:lnTo>
                        <a:lnTo>
                          <a:pt x="184" y="28"/>
                        </a:lnTo>
                        <a:lnTo>
                          <a:pt x="174" y="28"/>
                        </a:lnTo>
                        <a:lnTo>
                          <a:pt x="162" y="28"/>
                        </a:lnTo>
                        <a:lnTo>
                          <a:pt x="154" y="30"/>
                        </a:lnTo>
                        <a:lnTo>
                          <a:pt x="135" y="30"/>
                        </a:lnTo>
                        <a:lnTo>
                          <a:pt x="115" y="30"/>
                        </a:lnTo>
                        <a:lnTo>
                          <a:pt x="97" y="32"/>
                        </a:lnTo>
                        <a:lnTo>
                          <a:pt x="77" y="33"/>
                        </a:lnTo>
                        <a:lnTo>
                          <a:pt x="58" y="33"/>
                        </a:lnTo>
                        <a:lnTo>
                          <a:pt x="38" y="33"/>
                        </a:lnTo>
                        <a:lnTo>
                          <a:pt x="20" y="30"/>
                        </a:lnTo>
                        <a:lnTo>
                          <a:pt x="0" y="25"/>
                        </a:lnTo>
                        <a:lnTo>
                          <a:pt x="27" y="18"/>
                        </a:lnTo>
                        <a:lnTo>
                          <a:pt x="54" y="10"/>
                        </a:lnTo>
                        <a:lnTo>
                          <a:pt x="81" y="6"/>
                        </a:lnTo>
                        <a:lnTo>
                          <a:pt x="108" y="3"/>
                        </a:lnTo>
                        <a:lnTo>
                          <a:pt x="135" y="2"/>
                        </a:lnTo>
                        <a:lnTo>
                          <a:pt x="162" y="0"/>
                        </a:lnTo>
                        <a:lnTo>
                          <a:pt x="190" y="0"/>
                        </a:lnTo>
                        <a:lnTo>
                          <a:pt x="218" y="2"/>
                        </a:lnTo>
                        <a:close/>
                      </a:path>
                    </a:pathLst>
                  </a:custGeom>
                  <a:solidFill>
                    <a:srgbClr val="7f2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>
                    <a:off x="6321240" y="6146640"/>
                    <a:ext cx="1425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52">
                        <a:moveTo>
                          <a:pt x="178" y="0"/>
                        </a:moveTo>
                        <a:lnTo>
                          <a:pt x="165" y="14"/>
                        </a:lnTo>
                        <a:lnTo>
                          <a:pt x="150" y="25"/>
                        </a:lnTo>
                        <a:lnTo>
                          <a:pt x="131" y="37"/>
                        </a:lnTo>
                        <a:lnTo>
                          <a:pt x="111" y="45"/>
                        </a:lnTo>
                        <a:lnTo>
                          <a:pt x="88" y="51"/>
                        </a:lnTo>
                        <a:lnTo>
                          <a:pt x="66" y="52"/>
                        </a:lnTo>
                        <a:lnTo>
                          <a:pt x="43" y="51"/>
                        </a:lnTo>
                        <a:lnTo>
                          <a:pt x="19" y="45"/>
                        </a:lnTo>
                        <a:lnTo>
                          <a:pt x="11" y="42"/>
                        </a:lnTo>
                        <a:lnTo>
                          <a:pt x="4" y="38"/>
                        </a:lnTo>
                        <a:lnTo>
                          <a:pt x="0" y="32"/>
                        </a:lnTo>
                        <a:lnTo>
                          <a:pt x="1" y="22"/>
                        </a:lnTo>
                        <a:lnTo>
                          <a:pt x="23" y="19"/>
                        </a:lnTo>
                        <a:lnTo>
                          <a:pt x="46" y="17"/>
                        </a:lnTo>
                        <a:lnTo>
                          <a:pt x="67" y="12"/>
                        </a:lnTo>
                        <a:lnTo>
                          <a:pt x="88" y="8"/>
                        </a:lnTo>
                        <a:lnTo>
                          <a:pt x="111" y="5"/>
                        </a:lnTo>
                        <a:lnTo>
                          <a:pt x="133" y="2"/>
                        </a:lnTo>
                        <a:lnTo>
                          <a:pt x="156" y="1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2e8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3192480" y="5867280"/>
                  <a:ext cx="2674800" cy="546120"/>
                  <a:chOff x="3192480" y="5867280"/>
                  <a:chExt cx="2674800" cy="546120"/>
                </a:xfrm>
              </p:grpSpPr>
              <p:grpSp>
                <p:nvGrpSpPr>
                  <p:cNvPr id="1174" name=""/>
                  <p:cNvGrpSpPr/>
                  <p:nvPr/>
                </p:nvGrpSpPr>
                <p:grpSpPr>
                  <a:xfrm>
                    <a:off x="3192480" y="6248520"/>
                    <a:ext cx="2674800" cy="164880"/>
                    <a:chOff x="3192480" y="6248520"/>
                    <a:chExt cx="2674800" cy="164880"/>
                  </a:xfrm>
                </p:grpSpPr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3209760" y="6330960"/>
                      <a:ext cx="26571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V="1">
                      <a:off x="5867280" y="6248520"/>
                      <a:ext cx="0" cy="164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V="1">
                      <a:off x="3192480" y="6248520"/>
                      <a:ext cx="0" cy="164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8" name=""/>
                  <p:cNvSpPr/>
                  <p:nvPr/>
                </p:nvSpPr>
                <p:spPr>
                  <a:xfrm>
                    <a:off x="3616200" y="5867280"/>
                    <a:ext cx="1827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50 mile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7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50920" y="4581360"/>
                  <a:ext cx="1973160" cy="1719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523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key to solving word problems is to alw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97180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picture if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of a formula w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0" name=""/>
          <p:cNvGraphicFramePr/>
          <p:nvPr/>
        </p:nvGraphicFramePr>
        <p:xfrm>
          <a:off x="3629160" y="3106800"/>
          <a:ext cx="4295520" cy="322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106800"/>
                    <a:ext cx="429552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8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43200" y="20574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applications involving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3" name=""/>
          <p:cNvGraphicFramePr/>
          <p:nvPr/>
        </p:nvGraphicFramePr>
        <p:xfrm>
          <a:off x="3629160" y="3087720"/>
          <a:ext cx="4295520" cy="322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087720"/>
                    <a:ext cx="429552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4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applications involving two unkn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2057400" y="19051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ris spent 2/3 of her savings on a used car, and she spent 1/4 of her remaining savings on vintage fuzzy dice. If the dice cost her $250, how much did her original savings total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890280" y="4572000"/>
            <a:ext cx="73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hawaii.edu/suremath/k4_12dir/k4_12menu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9120" y="1866960"/>
            <a:ext cx="2306520" cy="3924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76720" y="1676520"/>
            <a:ext cx="495288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2 ¼ inch nail is driven through a board 1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ches thick into another board. How far into the second board does the nail ext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1676520"/>
            <a:ext cx="495288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2 ¼ inch nai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drive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rough a board 1 </a:t>
            </a:r>
            <a:r>
              <a:rPr b="0" lang="en-US" sz="40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/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inches thick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to another board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far into the second boar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es the nail ext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447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43000" y="2101680"/>
            <a:ext cx="3352680" cy="1404720"/>
            <a:chOff x="1143000" y="2101680"/>
            <a:chExt cx="3352680" cy="1404720"/>
          </a:xfrm>
        </p:grpSpPr>
        <p:sp>
          <p:nvSpPr>
            <p:cNvPr id="118" name=""/>
            <p:cNvSpPr/>
            <p:nvPr/>
          </p:nvSpPr>
          <p:spPr>
            <a:xfrm>
              <a:off x="1143000" y="210168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oard = 1 3/8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286380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nail = 2 1/4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00600" y="1447920"/>
            <a:ext cx="3429000" cy="1845000"/>
            <a:chOff x="4800600" y="1447920"/>
            <a:chExt cx="3429000" cy="1845000"/>
          </a:xfrm>
        </p:grpSpPr>
        <p:sp>
          <p:nvSpPr>
            <p:cNvPr id="121" name=""/>
            <p:cNvSpPr/>
            <p:nvPr/>
          </p:nvSpPr>
          <p:spPr>
            <a:xfrm>
              <a:off x="4800600" y="14479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05520" y="210168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length of nail in 2</a:t>
              </a:r>
              <a:r>
                <a:rPr b="0" lang="en-US" sz="3600" spc="-1" strike="noStrike" baseline="30000">
                  <a:solidFill>
                    <a:srgbClr val="808080"/>
                  </a:solidFill>
                  <a:latin typeface="Comic Sans MS"/>
                </a:rPr>
                <a:t>nd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 board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4221000"/>
            <a:ext cx="2743200" cy="1114920"/>
            <a:chOff x="4343400" y="4221000"/>
            <a:chExt cx="2743200" cy="1114920"/>
          </a:xfrm>
        </p:grpSpPr>
        <p:grpSp>
          <p:nvGrpSpPr>
            <p:cNvPr id="124" name=""/>
            <p:cNvGrpSpPr/>
            <p:nvPr/>
          </p:nvGrpSpPr>
          <p:grpSpPr>
            <a:xfrm>
              <a:off x="4724640" y="4221000"/>
              <a:ext cx="380880" cy="1114920"/>
              <a:chOff x="4724640" y="4221000"/>
              <a:chExt cx="380880" cy="1114920"/>
            </a:xfrm>
          </p:grpSpPr>
          <p:sp>
            <p:nvSpPr>
              <p:cNvPr id="125" name=""/>
              <p:cNvSpPr/>
              <p:nvPr/>
            </p:nvSpPr>
            <p:spPr>
              <a:xfrm>
                <a:off x="4724640" y="4221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24640" y="4754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24640" y="47847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705720" y="4221000"/>
              <a:ext cx="380880" cy="1114920"/>
              <a:chOff x="6705720" y="4221000"/>
              <a:chExt cx="380880" cy="11149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05720" y="4221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05720" y="4754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05720" y="478476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181840" y="44575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j =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43400" y="4457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96960" y="3416400"/>
            <a:ext cx="3189240" cy="2906640"/>
            <a:chOff x="696960" y="3416400"/>
            <a:chExt cx="3189240" cy="2906640"/>
          </a:xfrm>
        </p:grpSpPr>
        <p:sp>
          <p:nvSpPr>
            <p:cNvPr id="135" name=""/>
            <p:cNvSpPr/>
            <p:nvPr/>
          </p:nvSpPr>
          <p:spPr>
            <a:xfrm rot="3369000">
              <a:off x="1171080" y="4022640"/>
              <a:ext cx="2363760" cy="1693800"/>
            </a:xfrm>
            <a:custGeom>
              <a:avLst/>
              <a:gdLst/>
              <a:ahLst/>
              <a:rect l="l" t="t" r="r" b="b"/>
              <a:pathLst>
                <a:path w="1094" h="726">
                  <a:moveTo>
                    <a:pt x="29" y="62"/>
                  </a:moveTo>
                  <a:lnTo>
                    <a:pt x="19" y="76"/>
                  </a:lnTo>
                  <a:lnTo>
                    <a:pt x="13" y="91"/>
                  </a:lnTo>
                  <a:lnTo>
                    <a:pt x="6" y="105"/>
                  </a:lnTo>
                  <a:lnTo>
                    <a:pt x="2" y="118"/>
                  </a:lnTo>
                  <a:lnTo>
                    <a:pt x="0" y="13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6" y="161"/>
                  </a:lnTo>
                  <a:lnTo>
                    <a:pt x="14" y="165"/>
                  </a:lnTo>
                  <a:lnTo>
                    <a:pt x="26" y="165"/>
                  </a:lnTo>
                  <a:lnTo>
                    <a:pt x="39" y="162"/>
                  </a:lnTo>
                  <a:lnTo>
                    <a:pt x="54" y="159"/>
                  </a:lnTo>
                  <a:lnTo>
                    <a:pt x="70" y="155"/>
                  </a:lnTo>
                  <a:lnTo>
                    <a:pt x="83" y="153"/>
                  </a:lnTo>
                  <a:lnTo>
                    <a:pt x="96" y="153"/>
                  </a:lnTo>
                  <a:lnTo>
                    <a:pt x="105" y="155"/>
                  </a:lnTo>
                  <a:lnTo>
                    <a:pt x="949" y="673"/>
                  </a:lnTo>
                  <a:lnTo>
                    <a:pt x="1094" y="726"/>
                  </a:lnTo>
                  <a:lnTo>
                    <a:pt x="983" y="619"/>
                  </a:lnTo>
                  <a:lnTo>
                    <a:pt x="145" y="92"/>
                  </a:lnTo>
                  <a:lnTo>
                    <a:pt x="133" y="74"/>
                  </a:lnTo>
                  <a:lnTo>
                    <a:pt x="126" y="45"/>
                  </a:lnTo>
                  <a:lnTo>
                    <a:pt x="119" y="17"/>
                  </a:lnTo>
                  <a:lnTo>
                    <a:pt x="107" y="1"/>
                  </a:lnTo>
                  <a:lnTo>
                    <a:pt x="97" y="0"/>
                  </a:lnTo>
                  <a:lnTo>
                    <a:pt x="88" y="2"/>
                  </a:lnTo>
                  <a:lnTo>
                    <a:pt x="78" y="6"/>
                  </a:lnTo>
                  <a:lnTo>
                    <a:pt x="67" y="14"/>
                  </a:lnTo>
                  <a:lnTo>
                    <a:pt x="56" y="23"/>
                  </a:lnTo>
                  <a:lnTo>
                    <a:pt x="47" y="35"/>
                  </a:lnTo>
                  <a:lnTo>
                    <a:pt x="37" y="47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73440" y="3763800"/>
              <a:ext cx="304560" cy="2484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64800 h 2484720"/>
                <a:gd name="textAreaBottom" fmla="*/ 2419920 h 24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405880" y="3809880"/>
              <a:ext cx="304920" cy="16002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405880" y="5410080"/>
              <a:ext cx="304920" cy="8384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6960" y="4746600"/>
              <a:ext cx="12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2 1/4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78400" y="4349880"/>
              <a:ext cx="120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1 3/8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78400" y="557064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8080"/>
                  </a:solidFill>
                  <a:latin typeface="Comic Sans MS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2514600"/>
            <a:ext cx="2743200" cy="1114560"/>
            <a:chOff x="1981080" y="2514600"/>
            <a:chExt cx="2743200" cy="1114560"/>
          </a:xfrm>
        </p:grpSpPr>
        <p:grpSp>
          <p:nvGrpSpPr>
            <p:cNvPr id="144" name=""/>
            <p:cNvGrpSpPr/>
            <p:nvPr/>
          </p:nvGrpSpPr>
          <p:grpSpPr>
            <a:xfrm>
              <a:off x="2362320" y="2514600"/>
              <a:ext cx="380880" cy="1114560"/>
              <a:chOff x="2362320" y="2514600"/>
              <a:chExt cx="380880" cy="1114560"/>
            </a:xfrm>
          </p:grpSpPr>
          <p:sp>
            <p:nvSpPr>
              <p:cNvPr id="145" name=""/>
              <p:cNvSpPr/>
              <p:nvPr/>
            </p:nvSpPr>
            <p:spPr>
              <a:xfrm>
                <a:off x="2362320" y="2514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6232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62320" y="3078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343400" y="2514600"/>
              <a:ext cx="380880" cy="1114560"/>
              <a:chOff x="4343400" y="2514600"/>
              <a:chExt cx="380880" cy="1114560"/>
            </a:xfrm>
          </p:grpSpPr>
          <p:sp>
            <p:nvSpPr>
              <p:cNvPr id="149" name=""/>
              <p:cNvSpPr/>
              <p:nvPr/>
            </p:nvSpPr>
            <p:spPr>
              <a:xfrm>
                <a:off x="4343400" y="2514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34340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43400" y="3078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819520" y="27511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j =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2751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523880" y="3916440"/>
            <a:ext cx="3353040" cy="1114560"/>
            <a:chOff x="1523880" y="3916440"/>
            <a:chExt cx="3353040" cy="1114560"/>
          </a:xfrm>
        </p:grpSpPr>
        <p:grpSp>
          <p:nvGrpSpPr>
            <p:cNvPr id="155" name=""/>
            <p:cNvGrpSpPr/>
            <p:nvPr/>
          </p:nvGrpSpPr>
          <p:grpSpPr>
            <a:xfrm>
              <a:off x="1600200" y="3916440"/>
              <a:ext cx="1143000" cy="1114560"/>
              <a:chOff x="1600200" y="3916440"/>
              <a:chExt cx="1143000" cy="111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1600200" y="415116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2361960" y="3916440"/>
                <a:ext cx="381240" cy="1114560"/>
                <a:chOff x="2361960" y="3916440"/>
                <a:chExt cx="381240" cy="1114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61960" y="3916440"/>
                  <a:ext cx="38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361960" y="4449600"/>
                  <a:ext cx="38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361960" y="447984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3581280" y="3916440"/>
              <a:ext cx="1143000" cy="1114560"/>
              <a:chOff x="3581280" y="3916440"/>
              <a:chExt cx="1143000" cy="111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3581280" y="415116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343040" y="3916440"/>
                <a:ext cx="381240" cy="1114560"/>
                <a:chOff x="4343040" y="3916440"/>
                <a:chExt cx="381240" cy="1114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343040" y="3916440"/>
                  <a:ext cx="38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343040" y="4449600"/>
                  <a:ext cx="381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343040" y="4479840"/>
                  <a:ext cx="3812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1523880" y="5006880"/>
              <a:ext cx="335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00600" y="2514600"/>
            <a:ext cx="1143000" cy="1114560"/>
            <a:chOff x="4800600" y="2514600"/>
            <a:chExt cx="1143000" cy="1114560"/>
          </a:xfrm>
        </p:grpSpPr>
        <p:sp>
          <p:nvSpPr>
            <p:cNvPr id="169" name=""/>
            <p:cNvSpPr/>
            <p:nvPr/>
          </p:nvSpPr>
          <p:spPr>
            <a:xfrm>
              <a:off x="4800600" y="28112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562720" y="2514600"/>
              <a:ext cx="380880" cy="1114560"/>
              <a:chOff x="5562720" y="2514600"/>
              <a:chExt cx="380880" cy="1114560"/>
            </a:xfrm>
          </p:grpSpPr>
          <p:sp>
            <p:nvSpPr>
              <p:cNvPr id="171" name=""/>
              <p:cNvSpPr/>
              <p:nvPr/>
            </p:nvSpPr>
            <p:spPr>
              <a:xfrm>
                <a:off x="5562720" y="2514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6272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62720" y="3078000"/>
                <a:ext cx="3808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5943600" y="2514600"/>
            <a:ext cx="1600200" cy="2516400"/>
            <a:chOff x="5943600" y="2514600"/>
            <a:chExt cx="1600200" cy="2516400"/>
          </a:xfrm>
        </p:grpSpPr>
        <p:sp>
          <p:nvSpPr>
            <p:cNvPr id="175" name=""/>
            <p:cNvSpPr/>
            <p:nvPr/>
          </p:nvSpPr>
          <p:spPr>
            <a:xfrm>
              <a:off x="6019920" y="27496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858000" y="2514600"/>
              <a:ext cx="380880" cy="1114560"/>
              <a:chOff x="6858000" y="2514600"/>
              <a:chExt cx="380880" cy="111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6858000" y="2514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85800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858000" y="3078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095880" y="41511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858000" y="3916440"/>
              <a:ext cx="380880" cy="1114560"/>
              <a:chOff x="6858000" y="3916440"/>
              <a:chExt cx="380880" cy="1114560"/>
            </a:xfrm>
          </p:grpSpPr>
          <p:sp>
            <p:nvSpPr>
              <p:cNvPr id="182" name=""/>
              <p:cNvSpPr/>
              <p:nvPr/>
            </p:nvSpPr>
            <p:spPr>
              <a:xfrm>
                <a:off x="6858000" y="39164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5800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858000" y="44798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943600" y="500544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s with One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23880" y="2514600"/>
            <a:ext cx="2819520" cy="2516400"/>
            <a:chOff x="1523880" y="2514600"/>
            <a:chExt cx="2819520" cy="2516400"/>
          </a:xfrm>
        </p:grpSpPr>
        <p:sp>
          <p:nvSpPr>
            <p:cNvPr id="188" name=""/>
            <p:cNvSpPr/>
            <p:nvPr/>
          </p:nvSpPr>
          <p:spPr>
            <a:xfrm>
              <a:off x="1828800" y="2749680"/>
              <a:ext cx="762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2666880" y="2514600"/>
              <a:ext cx="381240" cy="1114560"/>
              <a:chOff x="2666880" y="2514600"/>
              <a:chExt cx="381240" cy="1114560"/>
            </a:xfrm>
          </p:grpSpPr>
          <p:sp>
            <p:nvSpPr>
              <p:cNvPr id="190" name=""/>
              <p:cNvSpPr/>
              <p:nvPr/>
            </p:nvSpPr>
            <p:spPr>
              <a:xfrm>
                <a:off x="2666880" y="251460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66880" y="3047760"/>
                <a:ext cx="381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66880" y="3078000"/>
                <a:ext cx="381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523880" y="41511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666880" y="3916440"/>
              <a:ext cx="380880" cy="1114560"/>
              <a:chOff x="2666880" y="3916440"/>
              <a:chExt cx="380880" cy="1114560"/>
            </a:xfrm>
          </p:grpSpPr>
          <p:sp>
            <p:nvSpPr>
              <p:cNvPr id="195" name=""/>
              <p:cNvSpPr/>
              <p:nvPr/>
            </p:nvSpPr>
            <p:spPr>
              <a:xfrm>
                <a:off x="2666880" y="39164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668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66880" y="447984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600200" y="50166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733920" y="2514600"/>
              <a:ext cx="380880" cy="1114560"/>
              <a:chOff x="3733920" y="2514600"/>
              <a:chExt cx="380880" cy="1114560"/>
            </a:xfrm>
          </p:grpSpPr>
          <p:sp>
            <p:nvSpPr>
              <p:cNvPr id="200" name=""/>
              <p:cNvSpPr/>
              <p:nvPr/>
            </p:nvSpPr>
            <p:spPr>
              <a:xfrm>
                <a:off x="3733920" y="2514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33920" y="304776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33920" y="30780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124080" y="2751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191120" y="2514600"/>
            <a:ext cx="1523880" cy="2516400"/>
            <a:chOff x="4191120" y="2514600"/>
            <a:chExt cx="1523880" cy="2516400"/>
          </a:xfrm>
        </p:grpSpPr>
        <p:sp>
          <p:nvSpPr>
            <p:cNvPr id="205" name=""/>
            <p:cNvSpPr/>
            <p:nvPr/>
          </p:nvSpPr>
          <p:spPr>
            <a:xfrm>
              <a:off x="4191120" y="274968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267080" y="2514600"/>
              <a:ext cx="1447920" cy="2516400"/>
              <a:chOff x="4267080" y="2514600"/>
              <a:chExt cx="1447920" cy="251640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876920" y="2514600"/>
                <a:ext cx="685800" cy="1114560"/>
                <a:chOff x="4876920" y="2514600"/>
                <a:chExt cx="685800" cy="11145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876920" y="2514600"/>
                  <a:ext cx="685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29200" y="304776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952880" y="30780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4267080" y="415116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5029200" y="3916440"/>
                <a:ext cx="380880" cy="1114560"/>
                <a:chOff x="5029200" y="3916440"/>
                <a:chExt cx="380880" cy="11145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029200" y="391644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029200" y="4449600"/>
                  <a:ext cx="380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029200" y="44798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43400" y="501804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5715000" y="3184560"/>
            <a:ext cx="1828800" cy="1176480"/>
            <a:chOff x="5715000" y="3184560"/>
            <a:chExt cx="1828800" cy="1176480"/>
          </a:xfrm>
        </p:grpSpPr>
        <p:grpSp>
          <p:nvGrpSpPr>
            <p:cNvPr id="218" name=""/>
            <p:cNvGrpSpPr/>
            <p:nvPr/>
          </p:nvGrpSpPr>
          <p:grpSpPr>
            <a:xfrm>
              <a:off x="6933960" y="3246480"/>
              <a:ext cx="380880" cy="1114560"/>
              <a:chOff x="6933960" y="3246480"/>
              <a:chExt cx="380880" cy="1114560"/>
            </a:xfrm>
          </p:grpSpPr>
          <p:sp>
            <p:nvSpPr>
              <p:cNvPr id="219" name=""/>
              <p:cNvSpPr/>
              <p:nvPr/>
            </p:nvSpPr>
            <p:spPr>
              <a:xfrm>
                <a:off x="6933960" y="32464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33960" y="3779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33960" y="3809880"/>
                <a:ext cx="3808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715000" y="34830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j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8880" y="318456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3:49Z</dcterms:modified>
  <cp:revision>309</cp:revision>
  <dc:subject/>
  <dc:title>PowerPoint Presentation</dc:title>
</cp:coreProperties>
</file>