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905760" cy="7696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1400" y="5335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720" y="51768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5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523880"/>
            <a:ext cx="71625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lynomials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54320" y="3200400"/>
            <a:ext cx="2865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1447920"/>
            <a:ext cx="80769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vision of expon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relat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cation of 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876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57800" y="4876920"/>
            <a:ext cx="3200400" cy="825120"/>
            <a:chOff x="5257800" y="4876920"/>
            <a:chExt cx="3200400" cy="825120"/>
          </a:xfrm>
        </p:grpSpPr>
        <p:sp>
          <p:nvSpPr>
            <p:cNvPr id="223" name=""/>
            <p:cNvSpPr/>
            <p:nvPr/>
          </p:nvSpPr>
          <p:spPr>
            <a:xfrm>
              <a:off x="5257800" y="487692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5000" y="4876920"/>
              <a:ext cx="274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-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066680" y="3290760"/>
            <a:ext cx="4648320" cy="1101600"/>
            <a:chOff x="1066680" y="3290760"/>
            <a:chExt cx="4648320" cy="1101600"/>
          </a:xfrm>
        </p:grpSpPr>
        <p:sp>
          <p:nvSpPr>
            <p:cNvPr id="226" name=""/>
            <p:cNvSpPr/>
            <p:nvPr/>
          </p:nvSpPr>
          <p:spPr>
            <a:xfrm>
              <a:off x="1066680" y="3567240"/>
              <a:ext cx="4648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2187 =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329076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638680" y="35812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+3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4495680"/>
            <a:ext cx="1980720" cy="1663560"/>
            <a:chOff x="914400" y="4495680"/>
            <a:chExt cx="1980720" cy="1663560"/>
          </a:xfrm>
        </p:grpSpPr>
        <p:sp>
          <p:nvSpPr>
            <p:cNvPr id="230" name=""/>
            <p:cNvSpPr/>
            <p:nvPr/>
          </p:nvSpPr>
          <p:spPr>
            <a:xfrm>
              <a:off x="1066680" y="5257800"/>
              <a:ext cx="121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914400" y="4495680"/>
              <a:ext cx="1980720" cy="1663560"/>
              <a:chOff x="914400" y="4495680"/>
              <a:chExt cx="1980720" cy="1663560"/>
            </a:xfrm>
          </p:grpSpPr>
          <p:sp>
            <p:nvSpPr>
              <p:cNvPr id="232" name=""/>
              <p:cNvSpPr/>
              <p:nvPr/>
            </p:nvSpPr>
            <p:spPr>
              <a:xfrm>
                <a:off x="914400" y="4495680"/>
                <a:ext cx="1676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218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42640" y="5334120"/>
                <a:ext cx="1676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2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1960" y="4800600"/>
                <a:ext cx="533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2895480" y="4572000"/>
            <a:ext cx="1523880" cy="1587240"/>
            <a:chOff x="2895480" y="4572000"/>
            <a:chExt cx="1523880" cy="1587240"/>
          </a:xfrm>
        </p:grpSpPr>
        <p:sp>
          <p:nvSpPr>
            <p:cNvPr id="236" name=""/>
            <p:cNvSpPr/>
            <p:nvPr/>
          </p:nvSpPr>
          <p:spPr>
            <a:xfrm>
              <a:off x="3809880" y="487692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895480" y="4572000"/>
              <a:ext cx="914400" cy="1587240"/>
              <a:chOff x="2895480" y="4572000"/>
              <a:chExt cx="914400" cy="1587240"/>
            </a:xfrm>
          </p:grpSpPr>
          <p:sp>
            <p:nvSpPr>
              <p:cNvPr id="238" name=""/>
              <p:cNvSpPr/>
              <p:nvPr/>
            </p:nvSpPr>
            <p:spPr>
              <a:xfrm>
                <a:off x="2971800" y="4572000"/>
                <a:ext cx="838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95480" y="533412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47760" y="53341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8080" y="1600200"/>
            <a:ext cx="75438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ltiplication &amp; Division   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INVERSE OPER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066680" y="3733920"/>
            <a:ext cx="3886200" cy="977400"/>
            <a:chOff x="1066680" y="3733920"/>
            <a:chExt cx="3886200" cy="977400"/>
          </a:xfrm>
        </p:grpSpPr>
        <p:sp>
          <p:nvSpPr>
            <p:cNvPr id="244" name=""/>
            <p:cNvSpPr/>
            <p:nvPr/>
          </p:nvSpPr>
          <p:spPr>
            <a:xfrm>
              <a:off x="1066680" y="3886200"/>
              <a:ext cx="388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90560" y="373392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886200" y="4710240"/>
            <a:ext cx="4495680" cy="1463040"/>
            <a:chOff x="3886200" y="4710240"/>
            <a:chExt cx="4495680" cy="1463040"/>
          </a:xfrm>
        </p:grpSpPr>
        <p:sp>
          <p:nvSpPr>
            <p:cNvPr id="247" name=""/>
            <p:cNvSpPr/>
            <p:nvPr/>
          </p:nvSpPr>
          <p:spPr>
            <a:xfrm>
              <a:off x="3886200" y="4952880"/>
              <a:ext cx="449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hen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0960" y="4710240"/>
              <a:ext cx="91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360" y="541008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0960" y="5348160"/>
              <a:ext cx="83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22096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dividing exponents of terms with the sam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1371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4786200"/>
            <a:ext cx="2438280" cy="1510920"/>
            <a:chOff x="1600200" y="4786200"/>
            <a:chExt cx="2438280" cy="1510920"/>
          </a:xfrm>
        </p:grpSpPr>
        <p:sp>
          <p:nvSpPr>
            <p:cNvPr id="256" name=""/>
            <p:cNvSpPr/>
            <p:nvPr/>
          </p:nvSpPr>
          <p:spPr>
            <a:xfrm>
              <a:off x="2895480" y="50292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n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a-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600200" y="4786200"/>
              <a:ext cx="1371600" cy="1510920"/>
              <a:chOff x="1600200" y="4786200"/>
              <a:chExt cx="1371600" cy="1510920"/>
            </a:xfrm>
          </p:grpSpPr>
          <p:sp>
            <p:nvSpPr>
              <p:cNvPr id="258" name=""/>
              <p:cNvSpPr/>
              <p:nvPr/>
            </p:nvSpPr>
            <p:spPr>
              <a:xfrm>
                <a:off x="1600200" y="47862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66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00200" y="54720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66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61960" y="5105520"/>
                <a:ext cx="609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600200" y="5486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1295280" y="3505320"/>
            <a:ext cx="6858000" cy="13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the comm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tract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0720" y="20574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 when same bases in numerator and denominator have the same expon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7400" y="4495680"/>
            <a:ext cx="2590920" cy="1937160"/>
            <a:chOff x="2057400" y="4495680"/>
            <a:chExt cx="2590920" cy="1937160"/>
          </a:xfrm>
        </p:grpSpPr>
        <p:sp>
          <p:nvSpPr>
            <p:cNvPr id="266" name=""/>
            <p:cNvSpPr/>
            <p:nvPr/>
          </p:nvSpPr>
          <p:spPr>
            <a:xfrm>
              <a:off x="2057400" y="53341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133720" y="4495680"/>
              <a:ext cx="2514600" cy="1937160"/>
              <a:chOff x="2133720" y="4495680"/>
              <a:chExt cx="2514600" cy="1937160"/>
            </a:xfrm>
          </p:grpSpPr>
          <p:sp>
            <p:nvSpPr>
              <p:cNvPr id="268" name=""/>
              <p:cNvSpPr/>
              <p:nvPr/>
            </p:nvSpPr>
            <p:spPr>
              <a:xfrm>
                <a:off x="2133720" y="4495680"/>
                <a:ext cx="1949400" cy="19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76720" y="4876920"/>
                <a:ext cx="1371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00"/>
                    </a:solidFill>
                    <a:latin typeface="Comic Sans MS"/>
                  </a:rPr>
                  <a:t>= ?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5334120" y="4114800"/>
            <a:ext cx="2438280" cy="1937160"/>
            <a:chOff x="5334120" y="4114800"/>
            <a:chExt cx="2438280" cy="1937160"/>
          </a:xfrm>
        </p:grpSpPr>
        <p:grpSp>
          <p:nvGrpSpPr>
            <p:cNvPr id="271" name=""/>
            <p:cNvGrpSpPr/>
            <p:nvPr/>
          </p:nvGrpSpPr>
          <p:grpSpPr>
            <a:xfrm>
              <a:off x="5334120" y="4114800"/>
              <a:ext cx="1295280" cy="1937160"/>
              <a:chOff x="5334120" y="4114800"/>
              <a:chExt cx="1295280" cy="1937160"/>
            </a:xfrm>
          </p:grpSpPr>
          <p:sp>
            <p:nvSpPr>
              <p:cNvPr id="272" name=""/>
              <p:cNvSpPr/>
              <p:nvPr/>
            </p:nvSpPr>
            <p:spPr>
              <a:xfrm>
                <a:off x="5486400" y="4114800"/>
                <a:ext cx="1143000" cy="19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cc"/>
                    </a:solidFill>
                    <a:latin typeface="Comic Sans MS"/>
                  </a:rPr>
                  <a:t>s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334120" y="4952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400800" y="449568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6600"/>
                  </a:solidFill>
                  <a:latin typeface="Comic Sans MS"/>
                </a:rPr>
                <a:t>= ?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486400" y="2438280"/>
            <a:ext cx="2286000" cy="1267560"/>
            <a:chOff x="5486400" y="2438280"/>
            <a:chExt cx="2286000" cy="1267560"/>
          </a:xfrm>
        </p:grpSpPr>
        <p:sp>
          <p:nvSpPr>
            <p:cNvPr id="276" name=""/>
            <p:cNvSpPr/>
            <p:nvPr/>
          </p:nvSpPr>
          <p:spPr>
            <a:xfrm>
              <a:off x="5486400" y="2438280"/>
              <a:ext cx="60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24480" y="2514600"/>
              <a:ext cx="144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1981080"/>
            <a:ext cx="1524240" cy="2334240"/>
            <a:chOff x="1066680" y="1981080"/>
            <a:chExt cx="1524240" cy="2334240"/>
          </a:xfrm>
        </p:grpSpPr>
        <p:sp>
          <p:nvSpPr>
            <p:cNvPr id="279" name=""/>
            <p:cNvSpPr/>
            <p:nvPr/>
          </p:nvSpPr>
          <p:spPr>
            <a:xfrm>
              <a:off x="1295280" y="1981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1701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5280" y="312408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90920" y="1981080"/>
            <a:ext cx="2666880" cy="2319840"/>
            <a:chOff x="2590920" y="1981080"/>
            <a:chExt cx="2666880" cy="2319840"/>
          </a:xfrm>
        </p:grpSpPr>
        <p:grpSp>
          <p:nvGrpSpPr>
            <p:cNvPr id="283" name=""/>
            <p:cNvGrpSpPr/>
            <p:nvPr/>
          </p:nvGrpSpPr>
          <p:grpSpPr>
            <a:xfrm>
              <a:off x="3276720" y="1981080"/>
              <a:ext cx="1981080" cy="2319840"/>
              <a:chOff x="3276720" y="1981080"/>
              <a:chExt cx="1981080" cy="2319840"/>
            </a:xfrm>
          </p:grpSpPr>
          <p:sp>
            <p:nvSpPr>
              <p:cNvPr id="284" name=""/>
              <p:cNvSpPr/>
              <p:nvPr/>
            </p:nvSpPr>
            <p:spPr>
              <a:xfrm>
                <a:off x="3276720" y="3109680"/>
                <a:ext cx="1981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343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76720" y="1981080"/>
                <a:ext cx="1981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343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29000" y="3139920"/>
                <a:ext cx="167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590920" y="2514600"/>
              <a:ext cx="60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4800600" y="4572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 7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066680" y="4678200"/>
            <a:ext cx="4952880" cy="1191240"/>
            <a:chOff x="1066680" y="4678200"/>
            <a:chExt cx="4952880" cy="1191240"/>
          </a:xfrm>
        </p:grpSpPr>
        <p:sp>
          <p:nvSpPr>
            <p:cNvPr id="290" name=""/>
            <p:cNvSpPr/>
            <p:nvPr/>
          </p:nvSpPr>
          <p:spPr>
            <a:xfrm>
              <a:off x="1959840" y="4678200"/>
              <a:ext cx="405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 7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-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66680" y="5028840"/>
              <a:ext cx="1380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ls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914400" y="1676520"/>
            <a:ext cx="2362320" cy="2486520"/>
            <a:chOff x="914400" y="1676520"/>
            <a:chExt cx="2362320" cy="2486520"/>
          </a:xfrm>
        </p:grpSpPr>
        <p:sp>
          <p:nvSpPr>
            <p:cNvPr id="294" name=""/>
            <p:cNvSpPr/>
            <p:nvPr/>
          </p:nvSpPr>
          <p:spPr>
            <a:xfrm>
              <a:off x="1143000" y="167652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14400" y="28656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67040" y="29718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7240" y="2362320"/>
              <a:ext cx="60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200400" y="23763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2-2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2362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76520" y="4038480"/>
            <a:ext cx="4038480" cy="2350080"/>
            <a:chOff x="1676520" y="4038480"/>
            <a:chExt cx="4038480" cy="2350080"/>
          </a:xfrm>
        </p:grpSpPr>
        <p:grpSp>
          <p:nvGrpSpPr>
            <p:cNvPr id="301" name=""/>
            <p:cNvGrpSpPr/>
            <p:nvPr/>
          </p:nvGrpSpPr>
          <p:grpSpPr>
            <a:xfrm>
              <a:off x="2743200" y="4038480"/>
              <a:ext cx="2971800" cy="2350080"/>
              <a:chOff x="2743200" y="4038480"/>
              <a:chExt cx="2971800" cy="2350080"/>
            </a:xfrm>
          </p:grpSpPr>
          <p:sp>
            <p:nvSpPr>
              <p:cNvPr id="302" name=""/>
              <p:cNvSpPr/>
              <p:nvPr/>
            </p:nvSpPr>
            <p:spPr>
              <a:xfrm>
                <a:off x="3124080" y="4038480"/>
                <a:ext cx="609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43200" y="510552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24080" y="5197320"/>
                <a:ext cx="609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91120" y="4572000"/>
                <a:ext cx="609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52880" y="4419720"/>
                <a:ext cx="762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676520" y="4800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152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number or algebraic expression raised to the 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power is equal to 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541008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(0 not included!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838080" y="2133720"/>
            <a:ext cx="1676520" cy="2211840"/>
            <a:chOff x="838080" y="2133720"/>
            <a:chExt cx="1676520" cy="2211840"/>
          </a:xfrm>
        </p:grpSpPr>
        <p:sp>
          <p:nvSpPr>
            <p:cNvPr id="313" name=""/>
            <p:cNvSpPr/>
            <p:nvPr/>
          </p:nvSpPr>
          <p:spPr>
            <a:xfrm>
              <a:off x="1143000" y="315432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3000" y="213372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8080" y="318456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514600" y="2514600"/>
            <a:ext cx="2971800" cy="1221480"/>
            <a:chOff x="2514600" y="2514600"/>
            <a:chExt cx="2971800" cy="1221480"/>
          </a:xfrm>
        </p:grpSpPr>
        <p:sp>
          <p:nvSpPr>
            <p:cNvPr id="317" name=""/>
            <p:cNvSpPr/>
            <p:nvPr/>
          </p:nvSpPr>
          <p:spPr>
            <a:xfrm>
              <a:off x="2514600" y="2544840"/>
              <a:ext cx="60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8120" y="251460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-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276720" y="4678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1" lang="en-US" sz="7200" spc="-1" strike="noStrike" baseline="30000">
                <a:solidFill>
                  <a:srgbClr val="6600cc"/>
                </a:solidFill>
                <a:latin typeface="Comic Sans MS"/>
              </a:rPr>
              <a:t>0</a:t>
            </a:r>
            <a:r>
              <a:rPr b="1" lang="en-US" sz="7200" spc="-1" strike="noStrike">
                <a:solidFill>
                  <a:srgbClr val="6600cc"/>
                </a:solidFill>
                <a:latin typeface="Comic Sans MS"/>
              </a:rPr>
              <a:t> =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2514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 x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1600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gen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38080" y="167652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same exponential term appears in numerator and denominator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81952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divides out of each, producing a value of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5200" y="4343400"/>
            <a:ext cx="7192800" cy="2133720"/>
            <a:chOff x="835200" y="4343400"/>
            <a:chExt cx="7192800" cy="2133720"/>
          </a:xfrm>
        </p:grpSpPr>
        <p:sp>
          <p:nvSpPr>
            <p:cNvPr id="326" name=""/>
            <p:cNvSpPr/>
            <p:nvPr/>
          </p:nvSpPr>
          <p:spPr>
            <a:xfrm rot="21477600">
              <a:off x="3502080" y="4495680"/>
              <a:ext cx="4498920" cy="1602000"/>
            </a:xfrm>
            <a:prstGeom prst="wedgeEllipseCallout">
              <a:avLst>
                <a:gd name="adj1" fmla="val -68671"/>
                <a:gd name="adj2" fmla="val -6060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0680" y="4844880"/>
              <a:ext cx="4114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ome of you call this cancella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835200" y="4343400"/>
              <a:ext cx="1739880" cy="213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38680" y="2452680"/>
            <a:ext cx="2895480" cy="1892520"/>
            <a:chOff x="5638680" y="2452680"/>
            <a:chExt cx="2895480" cy="1892520"/>
          </a:xfrm>
        </p:grpSpPr>
        <p:sp>
          <p:nvSpPr>
            <p:cNvPr id="331" name=""/>
            <p:cNvSpPr/>
            <p:nvPr/>
          </p:nvSpPr>
          <p:spPr>
            <a:xfrm>
              <a:off x="5714640" y="333684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6600cc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14640" y="245268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6600cc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38680" y="3382920"/>
              <a:ext cx="1218960" cy="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10280" y="2849400"/>
              <a:ext cx="1523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00cc"/>
                  </a:solidFill>
                  <a:latin typeface="Comic Sans MS"/>
                </a:rPr>
                <a:t>= 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219320" y="2981880"/>
            <a:ext cx="6428160" cy="2417040"/>
            <a:chOff x="1219320" y="2981880"/>
            <a:chExt cx="6428160" cy="241704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1219320" y="3265560"/>
              <a:ext cx="1739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 rot="21477600">
              <a:off x="3877920" y="3047760"/>
              <a:ext cx="3741840" cy="1601640"/>
            </a:xfrm>
            <a:prstGeom prst="wedgeEllipseCallout">
              <a:avLst>
                <a:gd name="adj1" fmla="val -72935"/>
                <a:gd name="adj2" fmla="val 291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3352680"/>
              <a:ext cx="297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Let’s look at some exa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08200" y="1447920"/>
            <a:ext cx="7878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il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6892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monomials using exponential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missing factor in polynomi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286000" y="160020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886200" y="182880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1600200" y="5105520"/>
            <a:ext cx="270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-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76640" y="5105520"/>
            <a:ext cx="21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72200" y="4983120"/>
            <a:ext cx="12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2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600200" y="2849400"/>
            <a:ext cx="2362320" cy="1953000"/>
            <a:chOff x="1600200" y="2849400"/>
            <a:chExt cx="2362320" cy="1953000"/>
          </a:xfrm>
        </p:grpSpPr>
        <p:grpSp>
          <p:nvGrpSpPr>
            <p:cNvPr id="347" name=""/>
            <p:cNvGrpSpPr/>
            <p:nvPr/>
          </p:nvGrpSpPr>
          <p:grpSpPr>
            <a:xfrm>
              <a:off x="1600200" y="2849400"/>
              <a:ext cx="2362320" cy="1953000"/>
              <a:chOff x="1600200" y="2849400"/>
              <a:chExt cx="2362320" cy="195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49400"/>
                <a:ext cx="144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8a</a:t>
                </a:r>
                <a:r>
                  <a:rPr b="0" lang="en-US" sz="60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28800" y="3794040"/>
                <a:ext cx="144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a</a:t>
                </a:r>
                <a:r>
                  <a:rPr b="0" lang="en-US" sz="6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00200" y="38098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29000" y="3276720"/>
                <a:ext cx="533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600200" y="38098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114800" y="2849400"/>
            <a:ext cx="3276720" cy="1953000"/>
            <a:chOff x="4114800" y="2849400"/>
            <a:chExt cx="3276720" cy="1953000"/>
          </a:xfrm>
        </p:grpSpPr>
        <p:grpSp>
          <p:nvGrpSpPr>
            <p:cNvPr id="354" name=""/>
            <p:cNvGrpSpPr/>
            <p:nvPr/>
          </p:nvGrpSpPr>
          <p:grpSpPr>
            <a:xfrm>
              <a:off x="4114800" y="2849400"/>
              <a:ext cx="3276720" cy="1953000"/>
              <a:chOff x="4114800" y="2849400"/>
              <a:chExt cx="3276720" cy="1953000"/>
            </a:xfrm>
          </p:grpSpPr>
          <p:sp>
            <p:nvSpPr>
              <p:cNvPr id="355" name=""/>
              <p:cNvSpPr/>
              <p:nvPr/>
            </p:nvSpPr>
            <p:spPr>
              <a:xfrm>
                <a:off x="4267080" y="284940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14800" y="3809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67080" y="379404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05520" y="3048120"/>
                <a:ext cx="5331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15000" y="3809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15000" y="284940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60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15000" y="3794040"/>
                <a:ext cx="990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6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858000" y="3276720"/>
                <a:ext cx="533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71500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14800" y="38098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73480" y="1748160"/>
            <a:ext cx="1758960" cy="1252080"/>
            <a:chOff x="573480" y="1748160"/>
            <a:chExt cx="1758960" cy="1252080"/>
          </a:xfrm>
        </p:grpSpPr>
        <p:sp>
          <p:nvSpPr>
            <p:cNvPr id="366" name=""/>
            <p:cNvSpPr/>
            <p:nvPr/>
          </p:nvSpPr>
          <p:spPr>
            <a:xfrm rot="20897400">
              <a:off x="632880" y="196668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0897400">
              <a:off x="652680" y="190044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196524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2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3r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4267080" y="219384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2552760" y="54705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4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-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-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09680" y="3228840"/>
            <a:ext cx="5105520" cy="1938600"/>
            <a:chOff x="2209680" y="3228840"/>
            <a:chExt cx="5105520" cy="1938600"/>
          </a:xfrm>
        </p:grpSpPr>
        <p:grpSp>
          <p:nvGrpSpPr>
            <p:cNvPr id="373" name=""/>
            <p:cNvGrpSpPr/>
            <p:nvPr/>
          </p:nvGrpSpPr>
          <p:grpSpPr>
            <a:xfrm>
              <a:off x="2209680" y="3228840"/>
              <a:ext cx="5105520" cy="1938600"/>
              <a:chOff x="2209680" y="3228840"/>
              <a:chExt cx="5105520" cy="193860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2209680" y="3228840"/>
                <a:ext cx="5105520" cy="1938600"/>
                <a:chOff x="2209680" y="3228840"/>
                <a:chExt cx="5105520" cy="193860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886200" y="3230640"/>
                  <a:ext cx="99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886200" y="4159080"/>
                  <a:ext cx="99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209680" y="4159080"/>
                  <a:ext cx="11811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286000" y="3230640"/>
                  <a:ext cx="10666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1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247840" y="4205160"/>
                  <a:ext cx="1104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352680" y="34354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86200" y="420516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781680" y="36640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876560" y="34354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562360" y="3228840"/>
                  <a:ext cx="990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562360" y="4159080"/>
                  <a:ext cx="990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5486400" y="42051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209680" y="4174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62160" y="4174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62360" y="4174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86920" y="1227600"/>
            <a:ext cx="3170520" cy="1157400"/>
            <a:chOff x="286920" y="1227600"/>
            <a:chExt cx="3170520" cy="1157400"/>
          </a:xfrm>
        </p:grpSpPr>
        <p:sp>
          <p:nvSpPr>
            <p:cNvPr id="391" name=""/>
            <p:cNvSpPr/>
            <p:nvPr/>
          </p:nvSpPr>
          <p:spPr>
            <a:xfrm rot="20897400">
              <a:off x="304560" y="152388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0897400">
              <a:off x="312840" y="15526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27432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4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-1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-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274320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4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4956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-4rs</a:t>
            </a:r>
            <a:r>
              <a:rPr b="1" lang="en-US" sz="72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990720" y="1965240"/>
            <a:ext cx="7619760" cy="854280"/>
            <a:chOff x="990720" y="1965240"/>
            <a:chExt cx="7619760" cy="854280"/>
          </a:xfrm>
        </p:grpSpPr>
        <p:sp>
          <p:nvSpPr>
            <p:cNvPr id="399" name=""/>
            <p:cNvSpPr/>
            <p:nvPr/>
          </p:nvSpPr>
          <p:spPr>
            <a:xfrm>
              <a:off x="990720" y="1965240"/>
              <a:ext cx="761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55c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9    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5c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"/>
                <p:cNvSpPr txBox="1"/>
                <p:nvPr/>
              </p:nvSpPr>
              <p:spPr>
                <a:xfrm>
                  <a:off x="4724280" y="2209680"/>
                  <a:ext cx="6098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401" name=""/>
          <p:cNvGrpSpPr/>
          <p:nvPr/>
        </p:nvGrpSpPr>
        <p:grpSpPr>
          <a:xfrm>
            <a:off x="609480" y="2971800"/>
            <a:ext cx="1600200" cy="1739520"/>
            <a:chOff x="609480" y="2971800"/>
            <a:chExt cx="1600200" cy="1739520"/>
          </a:xfrm>
        </p:grpSpPr>
        <p:sp>
          <p:nvSpPr>
            <p:cNvPr id="402" name=""/>
            <p:cNvSpPr/>
            <p:nvPr/>
          </p:nvSpPr>
          <p:spPr>
            <a:xfrm>
              <a:off x="609480" y="29718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5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6240" y="388620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38080" y="38703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57400" y="2955960"/>
            <a:ext cx="1523880" cy="1739520"/>
            <a:chOff x="2057400" y="2955960"/>
            <a:chExt cx="1523880" cy="1739520"/>
          </a:xfrm>
        </p:grpSpPr>
        <p:sp>
          <p:nvSpPr>
            <p:cNvPr id="406" name=""/>
            <p:cNvSpPr/>
            <p:nvPr/>
          </p:nvSpPr>
          <p:spPr>
            <a:xfrm>
              <a:off x="2057400" y="32608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2438280" y="2955960"/>
              <a:ext cx="1143000" cy="1739520"/>
              <a:chOff x="2438280" y="2955960"/>
              <a:chExt cx="1143000" cy="173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2438280" y="295596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90920" y="3870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38280" y="3870360"/>
                <a:ext cx="1143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505320" y="2971800"/>
            <a:ext cx="1600200" cy="1739520"/>
            <a:chOff x="3505320" y="2971800"/>
            <a:chExt cx="1600200" cy="1739520"/>
          </a:xfrm>
        </p:grpSpPr>
        <p:sp>
          <p:nvSpPr>
            <p:cNvPr id="412" name=""/>
            <p:cNvSpPr/>
            <p:nvPr/>
          </p:nvSpPr>
          <p:spPr>
            <a:xfrm>
              <a:off x="3505320" y="327492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38480" y="3870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29718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62520" y="38862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52880" y="2973240"/>
            <a:ext cx="2057400" cy="1738080"/>
            <a:chOff x="4952880" y="2973240"/>
            <a:chExt cx="2057400" cy="1738080"/>
          </a:xfrm>
        </p:grpSpPr>
        <p:grpSp>
          <p:nvGrpSpPr>
            <p:cNvPr id="417" name=""/>
            <p:cNvGrpSpPr/>
            <p:nvPr/>
          </p:nvGrpSpPr>
          <p:grpSpPr>
            <a:xfrm>
              <a:off x="4952880" y="2973240"/>
              <a:ext cx="1524240" cy="1738080"/>
              <a:chOff x="4952880" y="2973240"/>
              <a:chExt cx="1524240" cy="1738080"/>
            </a:xfrm>
          </p:grpSpPr>
          <p:sp>
            <p:nvSpPr>
              <p:cNvPr id="418" name=""/>
              <p:cNvSpPr/>
              <p:nvPr/>
            </p:nvSpPr>
            <p:spPr>
              <a:xfrm>
                <a:off x="4952880" y="326088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562720" y="297324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410080" y="3870360"/>
                <a:ext cx="83844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38680" y="388620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553080" y="33526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" y="48769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1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-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8-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95680" y="47242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11c</a:t>
            </a:r>
            <a:r>
              <a:rPr b="1" lang="en-US" sz="60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d</a:t>
            </a:r>
            <a:r>
              <a:rPr b="1" lang="en-US" sz="6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1" lang="en-US" sz="6000" spc="-1" strike="noStrike" baseline="30000">
                <a:solidFill>
                  <a:srgbClr val="0066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426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3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21337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ivide monomials with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14600" y="1371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3125880"/>
            <a:ext cx="8077320" cy="303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vide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r like bases, write base and subtract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y bases that appear in only in one term are repeated un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680160" y="2819520"/>
            <a:ext cx="1986120" cy="2394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2286000"/>
            <a:ext cx="6410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Using Division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find 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“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issing Factor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352680" y="5562720"/>
            <a:ext cx="532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55627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16002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?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 12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52680" y="1371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2895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3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y wha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get 12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67480" y="29718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4267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y wha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get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2920" y="45720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1" lang="en-US" sz="8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352680" y="5562720"/>
            <a:ext cx="532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43400" y="55627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28880" y="15238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missing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2347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? = 1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48040" y="2209680"/>
            <a:ext cx="3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523880" y="3382920"/>
            <a:ext cx="6248520" cy="1435320"/>
            <a:chOff x="1523880" y="3382920"/>
            <a:chExt cx="6248520" cy="1435320"/>
          </a:xfrm>
        </p:grpSpPr>
        <p:sp>
          <p:nvSpPr>
            <p:cNvPr id="450" name=""/>
            <p:cNvSpPr/>
            <p:nvPr/>
          </p:nvSpPr>
          <p:spPr>
            <a:xfrm>
              <a:off x="1523880" y="3809880"/>
              <a:ext cx="6248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        = 12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71800" y="3382920"/>
              <a:ext cx="42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3276720" y="358128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Comic Sans MS"/>
              </a:rPr>
              <a:t>4x</a:t>
            </a:r>
            <a:r>
              <a:rPr b="0" lang="en-US" sz="8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4952880" y="1600200"/>
            <a:ext cx="3276360" cy="3276360"/>
            <a:chOff x="4952880" y="1600200"/>
            <a:chExt cx="3276360" cy="3276360"/>
          </a:xfrm>
        </p:grpSpPr>
        <p:sp>
          <p:nvSpPr>
            <p:cNvPr id="455" name=""/>
            <p:cNvSpPr/>
            <p:nvPr/>
          </p:nvSpPr>
          <p:spPr>
            <a:xfrm>
              <a:off x="5334840" y="1600200"/>
              <a:ext cx="28944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18720" y="160956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33680" y="1600200"/>
              <a:ext cx="2660760" cy="126288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44760" y="2863080"/>
              <a:ext cx="191880" cy="212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68720" y="2863080"/>
              <a:ext cx="191880" cy="212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67520" y="2863080"/>
              <a:ext cx="176040" cy="2124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91840" y="2863080"/>
              <a:ext cx="191880" cy="212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2880" y="3075840"/>
              <a:ext cx="1301760" cy="92232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89680" y="3075840"/>
              <a:ext cx="1285920" cy="92232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71280" y="2153160"/>
              <a:ext cx="369720" cy="15696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76040" y="2352240"/>
              <a:ext cx="162000" cy="1942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5960" y="4323600"/>
              <a:ext cx="915840" cy="19908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3760" y="4551480"/>
              <a:ext cx="1920960" cy="325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876920" y="5165640"/>
            <a:ext cx="2819160" cy="1160640"/>
            <a:chOff x="4876920" y="5165640"/>
            <a:chExt cx="2819160" cy="1160640"/>
          </a:xfrm>
        </p:grpSpPr>
        <p:grpSp>
          <p:nvGrpSpPr>
            <p:cNvPr id="469" name=""/>
            <p:cNvGrpSpPr/>
            <p:nvPr/>
          </p:nvGrpSpPr>
          <p:grpSpPr>
            <a:xfrm>
              <a:off x="7010280" y="5165640"/>
              <a:ext cx="484200" cy="1160640"/>
              <a:chOff x="7010280" y="5165640"/>
              <a:chExt cx="484200" cy="1160640"/>
            </a:xfrm>
          </p:grpSpPr>
          <p:sp>
            <p:nvSpPr>
              <p:cNvPr id="470" name=""/>
              <p:cNvSpPr/>
              <p:nvPr/>
            </p:nvSpPr>
            <p:spPr>
              <a:xfrm>
                <a:off x="7099200" y="5165640"/>
                <a:ext cx="365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070400" y="5622840"/>
                <a:ext cx="42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010280" y="576108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4876920" y="539424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hen b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029200" y="2666880"/>
            <a:ext cx="1219320" cy="932040"/>
            <a:chOff x="5029200" y="2666880"/>
            <a:chExt cx="1219320" cy="932040"/>
          </a:xfrm>
        </p:grpSpPr>
        <p:sp>
          <p:nvSpPr>
            <p:cNvPr id="475" name=""/>
            <p:cNvSpPr/>
            <p:nvPr/>
          </p:nvSpPr>
          <p:spPr>
            <a:xfrm>
              <a:off x="5410080" y="2666880"/>
              <a:ext cx="2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29200" y="28954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  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324480" y="2895480"/>
            <a:ext cx="1371600" cy="779760"/>
            <a:chOff x="6324480" y="2895480"/>
            <a:chExt cx="1371600" cy="779760"/>
          </a:xfrm>
        </p:grpSpPr>
        <p:sp>
          <p:nvSpPr>
            <p:cNvPr id="478" name=""/>
            <p:cNvSpPr/>
            <p:nvPr/>
          </p:nvSpPr>
          <p:spPr>
            <a:xfrm>
              <a:off x="7162920" y="2895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29718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181480" y="3505320"/>
            <a:ext cx="2667240" cy="779400"/>
            <a:chOff x="5181480" y="3505320"/>
            <a:chExt cx="2667240" cy="779400"/>
          </a:xfrm>
        </p:grpSpPr>
        <p:sp>
          <p:nvSpPr>
            <p:cNvPr id="481" name=""/>
            <p:cNvSpPr/>
            <p:nvPr/>
          </p:nvSpPr>
          <p:spPr>
            <a:xfrm>
              <a:off x="7010280" y="3505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5181480" y="3505320"/>
              <a:ext cx="838440" cy="779400"/>
              <a:chOff x="5181480" y="3505320"/>
              <a:chExt cx="838440" cy="779400"/>
            </a:xfrm>
          </p:grpSpPr>
          <p:sp>
            <p:nvSpPr>
              <p:cNvPr id="483" name=""/>
              <p:cNvSpPr/>
              <p:nvPr/>
            </p:nvSpPr>
            <p:spPr>
              <a:xfrm>
                <a:off x="5181480" y="350532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10080" y="35812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7162920" y="3505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715000" y="4114800"/>
            <a:ext cx="2008080" cy="1160640"/>
            <a:chOff x="5715000" y="4114800"/>
            <a:chExt cx="2008080" cy="1160640"/>
          </a:xfrm>
        </p:grpSpPr>
        <p:grpSp>
          <p:nvGrpSpPr>
            <p:cNvPr id="487" name=""/>
            <p:cNvGrpSpPr/>
            <p:nvPr/>
          </p:nvGrpSpPr>
          <p:grpSpPr>
            <a:xfrm>
              <a:off x="7238880" y="4114800"/>
              <a:ext cx="484200" cy="1160640"/>
              <a:chOff x="7238880" y="4114800"/>
              <a:chExt cx="484200" cy="1160640"/>
            </a:xfrm>
          </p:grpSpPr>
          <p:sp>
            <p:nvSpPr>
              <p:cNvPr id="488" name=""/>
              <p:cNvSpPr/>
              <p:nvPr/>
            </p:nvSpPr>
            <p:spPr>
              <a:xfrm>
                <a:off x="7327800" y="4114800"/>
                <a:ext cx="365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99000" y="4572000"/>
                <a:ext cx="42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238880" y="471024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5715000" y="43434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 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523880" y="1676520"/>
            <a:ext cx="2895840" cy="932040"/>
            <a:chOff x="1523880" y="1676520"/>
            <a:chExt cx="2895840" cy="932040"/>
          </a:xfrm>
        </p:grpSpPr>
        <p:sp>
          <p:nvSpPr>
            <p:cNvPr id="493" name=""/>
            <p:cNvSpPr/>
            <p:nvPr/>
          </p:nvSpPr>
          <p:spPr>
            <a:xfrm>
              <a:off x="1523880" y="190512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f a  b = 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66880" y="1676520"/>
              <a:ext cx="60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3124080"/>
            <a:ext cx="4059000" cy="1905120"/>
            <a:chOff x="533520" y="3124080"/>
            <a:chExt cx="4059000" cy="1905120"/>
          </a:xfrm>
        </p:grpSpPr>
        <p:sp>
          <p:nvSpPr>
            <p:cNvPr id="497" name=""/>
            <p:cNvSpPr/>
            <p:nvPr/>
          </p:nvSpPr>
          <p:spPr>
            <a:xfrm>
              <a:off x="533520" y="3124080"/>
              <a:ext cx="4038480" cy="18939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33520" y="3124080"/>
              <a:ext cx="4059000" cy="1905120"/>
              <a:chOff x="533520" y="3124080"/>
              <a:chExt cx="4059000" cy="19051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560520" y="3363840"/>
                <a:ext cx="4032000" cy="1144800"/>
                <a:chOff x="560520" y="3363840"/>
                <a:chExt cx="4032000" cy="11448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865160" y="3384720"/>
                  <a:ext cx="1679760" cy="73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005560" y="3363840"/>
                  <a:ext cx="126864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100" spc="-1" strike="noStrike">
                      <a:solidFill>
                        <a:srgbClr val="3333cc"/>
                      </a:solidFill>
                      <a:latin typeface="Comic Sans MS"/>
                    </a:rPr>
                    <a:t>RULE</a:t>
                  </a:r>
                  <a:endParaRPr b="0" lang="en-US" sz="4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0520" y="3925800"/>
                  <a:ext cx="4010040" cy="58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44760" y="3925800"/>
                  <a:ext cx="394776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0000"/>
                      </a:solidFill>
                      <a:latin typeface="Comic Sans MS"/>
                    </a:rPr>
                    <a:t>Do unto each side . . .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533520" y="3124080"/>
                <a:ext cx="4038480" cy="1905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1066680" y="1886040"/>
            <a:ext cx="6629040" cy="1164600"/>
            <a:chOff x="1066680" y="1886040"/>
            <a:chExt cx="6629040" cy="1164600"/>
          </a:xfrm>
        </p:grpSpPr>
        <p:sp>
          <p:nvSpPr>
            <p:cNvPr id="506" name=""/>
            <p:cNvSpPr/>
            <p:nvPr/>
          </p:nvSpPr>
          <p:spPr>
            <a:xfrm>
              <a:off x="1066680" y="2133720"/>
              <a:ext cx="662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10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?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20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69480" y="188604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769120" y="3274920"/>
            <a:ext cx="3761640" cy="1526760"/>
            <a:chOff x="2769120" y="3274920"/>
            <a:chExt cx="3761640" cy="1526760"/>
          </a:xfrm>
        </p:grpSpPr>
        <p:sp>
          <p:nvSpPr>
            <p:cNvPr id="509" name=""/>
            <p:cNvSpPr/>
            <p:nvPr/>
          </p:nvSpPr>
          <p:spPr>
            <a:xfrm>
              <a:off x="2769120" y="3552840"/>
              <a:ext cx="98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?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21000" y="3274920"/>
              <a:ext cx="2120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0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25680" y="3976560"/>
              <a:ext cx="2114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10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94560" y="4071960"/>
              <a:ext cx="253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828800" y="4951440"/>
            <a:ext cx="4959360" cy="1526760"/>
            <a:chOff x="1828800" y="4951440"/>
            <a:chExt cx="4959360" cy="1526760"/>
          </a:xfrm>
        </p:grpSpPr>
        <p:grpSp>
          <p:nvGrpSpPr>
            <p:cNvPr id="514" name=""/>
            <p:cNvGrpSpPr/>
            <p:nvPr/>
          </p:nvGrpSpPr>
          <p:grpSpPr>
            <a:xfrm>
              <a:off x="2497680" y="4951440"/>
              <a:ext cx="4290480" cy="1526760"/>
              <a:chOff x="2497680" y="4951440"/>
              <a:chExt cx="4290480" cy="1526760"/>
            </a:xfrm>
          </p:grpSpPr>
          <p:sp>
            <p:nvSpPr>
              <p:cNvPr id="515" name=""/>
              <p:cNvSpPr/>
              <p:nvPr/>
            </p:nvSpPr>
            <p:spPr>
              <a:xfrm>
                <a:off x="3204000" y="4951440"/>
                <a:ext cx="878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97680" y="5288040"/>
                <a:ext cx="529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88800" y="5653080"/>
                <a:ext cx="1075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664160" y="4951440"/>
                <a:ext cx="706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664160" y="5653080"/>
                <a:ext cx="706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91040" y="4951440"/>
                <a:ext cx="897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901120" y="5653080"/>
                <a:ext cx="694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66640" y="5135400"/>
                <a:ext cx="343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392440" y="5135400"/>
                <a:ext cx="343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24080" y="5732280"/>
                <a:ext cx="976320" cy="2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57600" y="5756040"/>
                <a:ext cx="75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53240" y="5756040"/>
                <a:ext cx="75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1828800" y="5306760"/>
              <a:ext cx="762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62880" y="1303920"/>
            <a:ext cx="3170520" cy="1157400"/>
            <a:chOff x="362880" y="1303920"/>
            <a:chExt cx="3170520" cy="1157400"/>
          </a:xfrm>
        </p:grpSpPr>
        <p:sp>
          <p:nvSpPr>
            <p:cNvPr id="530" name=""/>
            <p:cNvSpPr/>
            <p:nvPr/>
          </p:nvSpPr>
          <p:spPr>
            <a:xfrm rot="20897400">
              <a:off x="380520" y="1600200"/>
              <a:ext cx="2971800" cy="48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897400">
              <a:off x="388800" y="16290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08200" y="1447920"/>
            <a:ext cx="7878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ill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6892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greatest common factor and use it to factor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828800" y="41148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-2x</a:t>
            </a:r>
            <a:r>
              <a:rPr b="1" lang="en-US" sz="7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1" lang="en-US" sz="72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1" lang="en-US" sz="7200" spc="-1" strike="noStrike" baseline="30000">
                <a:solidFill>
                  <a:srgbClr val="006600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025720" y="2133720"/>
            <a:ext cx="5289120" cy="1008360"/>
            <a:chOff x="2025720" y="2133720"/>
            <a:chExt cx="5289120" cy="1008360"/>
          </a:xfrm>
        </p:grpSpPr>
        <p:sp>
          <p:nvSpPr>
            <p:cNvPr id="534" name=""/>
            <p:cNvSpPr/>
            <p:nvPr/>
          </p:nvSpPr>
          <p:spPr>
            <a:xfrm>
              <a:off x="2755440" y="2133720"/>
              <a:ext cx="4559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 -2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7-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10-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25720" y="2133720"/>
              <a:ext cx="72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657600" y="762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Fac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990720" y="2133720"/>
            <a:ext cx="739116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actoring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lynomials &amp;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inding the GCF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2240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6603120" y="24382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39040" y="2451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03800" y="24829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06160" y="24829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77760" y="24512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92960" y="3047760"/>
            <a:ext cx="1869840" cy="1085040"/>
            <a:chOff x="1992960" y="3047760"/>
            <a:chExt cx="1869840" cy="1085040"/>
          </a:xfrm>
        </p:grpSpPr>
        <p:sp>
          <p:nvSpPr>
            <p:cNvPr id="546" name=""/>
            <p:cNvSpPr/>
            <p:nvPr/>
          </p:nvSpPr>
          <p:spPr>
            <a:xfrm>
              <a:off x="1992960" y="355140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divide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7" name=""/>
            <p:cNvCxnSpPr/>
            <p:nvPr/>
          </p:nvCxnSpPr>
          <p:spPr>
            <a:xfrm flipH="1" flipV="1" rot="5400000">
              <a:off x="3126240" y="2816640"/>
              <a:ext cx="505440" cy="967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8" name=""/>
          <p:cNvGrpSpPr/>
          <p:nvPr/>
        </p:nvGrpSpPr>
        <p:grpSpPr>
          <a:xfrm>
            <a:off x="6831000" y="3045600"/>
            <a:ext cx="1808280" cy="1206000"/>
            <a:chOff x="6831000" y="3045600"/>
            <a:chExt cx="1808280" cy="1206000"/>
          </a:xfrm>
        </p:grpSpPr>
        <p:sp>
          <p:nvSpPr>
            <p:cNvPr id="549" name=""/>
            <p:cNvSpPr/>
            <p:nvPr/>
          </p:nvSpPr>
          <p:spPr>
            <a:xfrm>
              <a:off x="6831000" y="3670200"/>
              <a:ext cx="180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quoti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" name=""/>
            <p:cNvCxnSpPr>
              <a:stCxn id="549" idx="0"/>
              <a:endCxn id="544" idx="3"/>
            </p:cNvCxnSpPr>
            <p:nvPr/>
          </p:nvCxnSpPr>
          <p:spPr>
            <a:xfrm flipH="1" flipV="1" rot="5400000">
              <a:off x="7556400" y="3225240"/>
              <a:ext cx="624600" cy="265680"/>
            </a:xfrm>
            <a:prstGeom prst="curvedConnector5">
              <a:avLst>
                <a:gd name="adj1" fmla="val 2249"/>
                <a:gd name="adj2" fmla="val 93080"/>
                <a:gd name="adj3" fmla="val 224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1" name=""/>
          <p:cNvGrpSpPr/>
          <p:nvPr/>
        </p:nvGrpSpPr>
        <p:grpSpPr>
          <a:xfrm>
            <a:off x="6238440" y="1523880"/>
            <a:ext cx="1458000" cy="1141560"/>
            <a:chOff x="6238440" y="1523880"/>
            <a:chExt cx="1458000" cy="1141560"/>
          </a:xfrm>
        </p:grpSpPr>
        <p:sp>
          <p:nvSpPr>
            <p:cNvPr id="552" name=""/>
            <p:cNvSpPr/>
            <p:nvPr/>
          </p:nvSpPr>
          <p:spPr>
            <a:xfrm>
              <a:off x="6238440" y="152388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divis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" name=""/>
            <p:cNvCxnSpPr>
              <a:stCxn id="552" idx="2"/>
              <a:endCxn id="543" idx="0"/>
            </p:cNvCxnSpPr>
            <p:nvPr/>
          </p:nvCxnSpPr>
          <p:spPr>
            <a:xfrm rot="5400000">
              <a:off x="6372360" y="2070720"/>
              <a:ext cx="562680" cy="6274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684520" cy="1468440"/>
          </a:xfrm>
          <a:prstGeom prst="rect">
            <a:avLst/>
          </a:prstGeom>
          <a:ln w="0">
            <a:noFill/>
          </a:ln>
        </p:spPr>
      </p:pic>
      <p:grpSp>
        <p:nvGrpSpPr>
          <p:cNvPr id="555" name=""/>
          <p:cNvGrpSpPr/>
          <p:nvPr/>
        </p:nvGrpSpPr>
        <p:grpSpPr>
          <a:xfrm>
            <a:off x="1083600" y="5105520"/>
            <a:ext cx="2612160" cy="1036800"/>
            <a:chOff x="1083600" y="5105520"/>
            <a:chExt cx="2612160" cy="1036800"/>
          </a:xfrm>
        </p:grpSpPr>
        <p:sp>
          <p:nvSpPr>
            <p:cNvPr id="556" name=""/>
            <p:cNvSpPr/>
            <p:nvPr/>
          </p:nvSpPr>
          <p:spPr>
            <a:xfrm>
              <a:off x="1083600" y="5654520"/>
              <a:ext cx="132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facto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5105520"/>
              <a:ext cx="1562040" cy="247680"/>
            </a:xfrm>
            <a:custGeom>
              <a:avLst/>
              <a:gdLst/>
              <a:ahLst/>
              <a:rect l="l" t="t" r="r" b="b"/>
              <a:pathLst>
                <a:path w="984" h="156">
                  <a:moveTo>
                    <a:pt x="984" y="0"/>
                  </a:moveTo>
                  <a:lnTo>
                    <a:pt x="960" y="0"/>
                  </a:lnTo>
                  <a:lnTo>
                    <a:pt x="958" y="15"/>
                  </a:lnTo>
                  <a:lnTo>
                    <a:pt x="970" y="15"/>
                  </a:lnTo>
                  <a:lnTo>
                    <a:pt x="959" y="10"/>
                  </a:lnTo>
                  <a:lnTo>
                    <a:pt x="955" y="24"/>
                  </a:lnTo>
                  <a:lnTo>
                    <a:pt x="947" y="36"/>
                  </a:lnTo>
                  <a:lnTo>
                    <a:pt x="958" y="40"/>
                  </a:lnTo>
                  <a:lnTo>
                    <a:pt x="950" y="32"/>
                  </a:lnTo>
                  <a:lnTo>
                    <a:pt x="940" y="43"/>
                  </a:lnTo>
                  <a:lnTo>
                    <a:pt x="928" y="51"/>
                  </a:lnTo>
                  <a:lnTo>
                    <a:pt x="937" y="60"/>
                  </a:lnTo>
                  <a:lnTo>
                    <a:pt x="932" y="49"/>
                  </a:lnTo>
                  <a:lnTo>
                    <a:pt x="919" y="55"/>
                  </a:lnTo>
                  <a:lnTo>
                    <a:pt x="904" y="60"/>
                  </a:lnTo>
                  <a:lnTo>
                    <a:pt x="908" y="71"/>
                  </a:lnTo>
                  <a:lnTo>
                    <a:pt x="908" y="59"/>
                  </a:lnTo>
                  <a:lnTo>
                    <a:pt x="892" y="60"/>
                  </a:lnTo>
                  <a:lnTo>
                    <a:pt x="572" y="60"/>
                  </a:lnTo>
                  <a:lnTo>
                    <a:pt x="556" y="61"/>
                  </a:lnTo>
                  <a:lnTo>
                    <a:pt x="551" y="62"/>
                  </a:lnTo>
                  <a:lnTo>
                    <a:pt x="536" y="67"/>
                  </a:lnTo>
                  <a:lnTo>
                    <a:pt x="523" y="73"/>
                  </a:lnTo>
                  <a:lnTo>
                    <a:pt x="519" y="76"/>
                  </a:lnTo>
                  <a:lnTo>
                    <a:pt x="507" y="85"/>
                  </a:lnTo>
                  <a:lnTo>
                    <a:pt x="497" y="95"/>
                  </a:lnTo>
                  <a:lnTo>
                    <a:pt x="495" y="99"/>
                  </a:lnTo>
                  <a:lnTo>
                    <a:pt x="487" y="111"/>
                  </a:lnTo>
                  <a:lnTo>
                    <a:pt x="483" y="125"/>
                  </a:lnTo>
                  <a:lnTo>
                    <a:pt x="482" y="129"/>
                  </a:lnTo>
                  <a:lnTo>
                    <a:pt x="480" y="144"/>
                  </a:lnTo>
                  <a:lnTo>
                    <a:pt x="480" y="144"/>
                  </a:lnTo>
                  <a:lnTo>
                    <a:pt x="481" y="149"/>
                  </a:lnTo>
                  <a:lnTo>
                    <a:pt x="484" y="152"/>
                  </a:lnTo>
                  <a:lnTo>
                    <a:pt x="487" y="155"/>
                  </a:lnTo>
                  <a:lnTo>
                    <a:pt x="492" y="156"/>
                  </a:lnTo>
                  <a:lnTo>
                    <a:pt x="497" y="155"/>
                  </a:lnTo>
                  <a:lnTo>
                    <a:pt x="500" y="152"/>
                  </a:lnTo>
                  <a:lnTo>
                    <a:pt x="503" y="149"/>
                  </a:lnTo>
                  <a:lnTo>
                    <a:pt x="504" y="144"/>
                  </a:lnTo>
                  <a:lnTo>
                    <a:pt x="502" y="129"/>
                  </a:lnTo>
                  <a:lnTo>
                    <a:pt x="501" y="125"/>
                  </a:lnTo>
                  <a:lnTo>
                    <a:pt x="497" y="111"/>
                  </a:lnTo>
                  <a:lnTo>
                    <a:pt x="489" y="99"/>
                  </a:lnTo>
                  <a:lnTo>
                    <a:pt x="487" y="95"/>
                  </a:lnTo>
                  <a:lnTo>
                    <a:pt x="477" y="85"/>
                  </a:lnTo>
                  <a:lnTo>
                    <a:pt x="465" y="76"/>
                  </a:lnTo>
                  <a:lnTo>
                    <a:pt x="461" y="73"/>
                  </a:lnTo>
                  <a:lnTo>
                    <a:pt x="448" y="67"/>
                  </a:lnTo>
                  <a:lnTo>
                    <a:pt x="433" y="62"/>
                  </a:lnTo>
                  <a:lnTo>
                    <a:pt x="428" y="61"/>
                  </a:lnTo>
                  <a:lnTo>
                    <a:pt x="412" y="60"/>
                  </a:lnTo>
                  <a:lnTo>
                    <a:pt x="92" y="60"/>
                  </a:lnTo>
                  <a:lnTo>
                    <a:pt x="76" y="59"/>
                  </a:lnTo>
                  <a:lnTo>
                    <a:pt x="76" y="71"/>
                  </a:lnTo>
                  <a:lnTo>
                    <a:pt x="80" y="60"/>
                  </a:lnTo>
                  <a:lnTo>
                    <a:pt x="65" y="55"/>
                  </a:lnTo>
                  <a:lnTo>
                    <a:pt x="52" y="49"/>
                  </a:lnTo>
                  <a:lnTo>
                    <a:pt x="47" y="60"/>
                  </a:lnTo>
                  <a:lnTo>
                    <a:pt x="56" y="51"/>
                  </a:lnTo>
                  <a:lnTo>
                    <a:pt x="44" y="43"/>
                  </a:lnTo>
                  <a:lnTo>
                    <a:pt x="34" y="32"/>
                  </a:lnTo>
                  <a:lnTo>
                    <a:pt x="26" y="40"/>
                  </a:lnTo>
                  <a:lnTo>
                    <a:pt x="37" y="36"/>
                  </a:lnTo>
                  <a:lnTo>
                    <a:pt x="29" y="24"/>
                  </a:lnTo>
                  <a:lnTo>
                    <a:pt x="25" y="10"/>
                  </a:lnTo>
                  <a:lnTo>
                    <a:pt x="14" y="15"/>
                  </a:lnTo>
                  <a:lnTo>
                    <a:pt x="26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7" y="33"/>
                  </a:lnTo>
                  <a:lnTo>
                    <a:pt x="15" y="45"/>
                  </a:lnTo>
                  <a:lnTo>
                    <a:pt x="17" y="49"/>
                  </a:lnTo>
                  <a:lnTo>
                    <a:pt x="27" y="60"/>
                  </a:lnTo>
                  <a:lnTo>
                    <a:pt x="39" y="68"/>
                  </a:lnTo>
                  <a:lnTo>
                    <a:pt x="43" y="71"/>
                  </a:lnTo>
                  <a:lnTo>
                    <a:pt x="56" y="77"/>
                  </a:lnTo>
                  <a:lnTo>
                    <a:pt x="71" y="82"/>
                  </a:lnTo>
                  <a:lnTo>
                    <a:pt x="76" y="83"/>
                  </a:lnTo>
                  <a:lnTo>
                    <a:pt x="92" y="84"/>
                  </a:lnTo>
                  <a:lnTo>
                    <a:pt x="412" y="84"/>
                  </a:lnTo>
                  <a:lnTo>
                    <a:pt x="428" y="85"/>
                  </a:lnTo>
                  <a:lnTo>
                    <a:pt x="428" y="73"/>
                  </a:lnTo>
                  <a:lnTo>
                    <a:pt x="424" y="84"/>
                  </a:lnTo>
                  <a:lnTo>
                    <a:pt x="439" y="89"/>
                  </a:lnTo>
                  <a:lnTo>
                    <a:pt x="452" y="95"/>
                  </a:lnTo>
                  <a:lnTo>
                    <a:pt x="457" y="84"/>
                  </a:lnTo>
                  <a:lnTo>
                    <a:pt x="448" y="93"/>
                  </a:lnTo>
                  <a:lnTo>
                    <a:pt x="460" y="102"/>
                  </a:lnTo>
                  <a:lnTo>
                    <a:pt x="470" y="112"/>
                  </a:lnTo>
                  <a:lnTo>
                    <a:pt x="478" y="104"/>
                  </a:lnTo>
                  <a:lnTo>
                    <a:pt x="467" y="108"/>
                  </a:lnTo>
                  <a:lnTo>
                    <a:pt x="475" y="120"/>
                  </a:lnTo>
                  <a:lnTo>
                    <a:pt x="479" y="134"/>
                  </a:lnTo>
                  <a:lnTo>
                    <a:pt x="490" y="129"/>
                  </a:lnTo>
                  <a:lnTo>
                    <a:pt x="478" y="129"/>
                  </a:lnTo>
                  <a:lnTo>
                    <a:pt x="480" y="144"/>
                  </a:lnTo>
                  <a:lnTo>
                    <a:pt x="504" y="144"/>
                  </a:lnTo>
                  <a:lnTo>
                    <a:pt x="503" y="139"/>
                  </a:lnTo>
                  <a:lnTo>
                    <a:pt x="500" y="136"/>
                  </a:lnTo>
                  <a:lnTo>
                    <a:pt x="497" y="133"/>
                  </a:lnTo>
                  <a:lnTo>
                    <a:pt x="492" y="132"/>
                  </a:lnTo>
                  <a:lnTo>
                    <a:pt x="487" y="133"/>
                  </a:lnTo>
                  <a:lnTo>
                    <a:pt x="484" y="136"/>
                  </a:lnTo>
                  <a:lnTo>
                    <a:pt x="481" y="139"/>
                  </a:lnTo>
                  <a:lnTo>
                    <a:pt x="480" y="144"/>
                  </a:lnTo>
                  <a:lnTo>
                    <a:pt x="492" y="144"/>
                  </a:lnTo>
                  <a:lnTo>
                    <a:pt x="504" y="144"/>
                  </a:lnTo>
                  <a:lnTo>
                    <a:pt x="506" y="129"/>
                  </a:lnTo>
                  <a:lnTo>
                    <a:pt x="494" y="129"/>
                  </a:lnTo>
                  <a:lnTo>
                    <a:pt x="505" y="134"/>
                  </a:lnTo>
                  <a:lnTo>
                    <a:pt x="509" y="120"/>
                  </a:lnTo>
                  <a:lnTo>
                    <a:pt x="517" y="108"/>
                  </a:lnTo>
                  <a:lnTo>
                    <a:pt x="506" y="104"/>
                  </a:lnTo>
                  <a:lnTo>
                    <a:pt x="514" y="112"/>
                  </a:lnTo>
                  <a:lnTo>
                    <a:pt x="524" y="102"/>
                  </a:lnTo>
                  <a:lnTo>
                    <a:pt x="536" y="93"/>
                  </a:lnTo>
                  <a:lnTo>
                    <a:pt x="527" y="84"/>
                  </a:lnTo>
                  <a:lnTo>
                    <a:pt x="532" y="95"/>
                  </a:lnTo>
                  <a:lnTo>
                    <a:pt x="545" y="89"/>
                  </a:lnTo>
                  <a:lnTo>
                    <a:pt x="560" y="84"/>
                  </a:lnTo>
                  <a:lnTo>
                    <a:pt x="556" y="73"/>
                  </a:lnTo>
                  <a:lnTo>
                    <a:pt x="556" y="85"/>
                  </a:lnTo>
                  <a:lnTo>
                    <a:pt x="572" y="84"/>
                  </a:lnTo>
                  <a:lnTo>
                    <a:pt x="892" y="84"/>
                  </a:lnTo>
                  <a:lnTo>
                    <a:pt x="908" y="83"/>
                  </a:lnTo>
                  <a:lnTo>
                    <a:pt x="913" y="82"/>
                  </a:lnTo>
                  <a:lnTo>
                    <a:pt x="928" y="77"/>
                  </a:lnTo>
                  <a:lnTo>
                    <a:pt x="941" y="71"/>
                  </a:lnTo>
                  <a:lnTo>
                    <a:pt x="945" y="68"/>
                  </a:lnTo>
                  <a:lnTo>
                    <a:pt x="957" y="60"/>
                  </a:lnTo>
                  <a:lnTo>
                    <a:pt x="967" y="49"/>
                  </a:lnTo>
                  <a:lnTo>
                    <a:pt x="969" y="45"/>
                  </a:lnTo>
                  <a:lnTo>
                    <a:pt x="977" y="33"/>
                  </a:lnTo>
                  <a:lnTo>
                    <a:pt x="981" y="19"/>
                  </a:lnTo>
                  <a:lnTo>
                    <a:pt x="982" y="15"/>
                  </a:lnTo>
                  <a:lnTo>
                    <a:pt x="982" y="15"/>
                  </a:lnTo>
                  <a:lnTo>
                    <a:pt x="984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373480" y="5427720"/>
              <a:ext cx="542880" cy="363600"/>
              <a:chOff x="2373480" y="5427720"/>
              <a:chExt cx="542880" cy="363600"/>
            </a:xfrm>
          </p:grpSpPr>
          <p:sp>
            <p:nvSpPr>
              <p:cNvPr id="559" name=""/>
              <p:cNvSpPr/>
              <p:nvPr/>
            </p:nvSpPr>
            <p:spPr>
              <a:xfrm>
                <a:off x="2459160" y="5427720"/>
                <a:ext cx="457200" cy="237960"/>
              </a:xfrm>
              <a:custGeom>
                <a:avLst/>
                <a:gdLst/>
                <a:ahLst/>
                <a:rect l="l" t="t" r="r" b="b"/>
                <a:pathLst>
                  <a:path w="288" h="150">
                    <a:moveTo>
                      <a:pt x="288" y="0"/>
                    </a:moveTo>
                    <a:lnTo>
                      <a:pt x="264" y="0"/>
                    </a:lnTo>
                    <a:lnTo>
                      <a:pt x="263" y="10"/>
                    </a:lnTo>
                    <a:lnTo>
                      <a:pt x="275" y="10"/>
                    </a:lnTo>
                    <a:lnTo>
                      <a:pt x="264" y="6"/>
                    </a:lnTo>
                    <a:lnTo>
                      <a:pt x="261" y="16"/>
                    </a:lnTo>
                    <a:lnTo>
                      <a:pt x="257" y="26"/>
                    </a:lnTo>
                    <a:lnTo>
                      <a:pt x="251" y="35"/>
                    </a:lnTo>
                    <a:lnTo>
                      <a:pt x="262" y="40"/>
                    </a:lnTo>
                    <a:lnTo>
                      <a:pt x="253" y="31"/>
                    </a:lnTo>
                    <a:lnTo>
                      <a:pt x="246" y="41"/>
                    </a:lnTo>
                    <a:lnTo>
                      <a:pt x="237" y="50"/>
                    </a:lnTo>
                    <a:lnTo>
                      <a:pt x="227" y="58"/>
                    </a:lnTo>
                    <a:lnTo>
                      <a:pt x="216" y="66"/>
                    </a:lnTo>
                    <a:lnTo>
                      <a:pt x="224" y="75"/>
                    </a:lnTo>
                    <a:lnTo>
                      <a:pt x="220" y="64"/>
                    </a:lnTo>
                    <a:lnTo>
                      <a:pt x="195" y="78"/>
                    </a:lnTo>
                    <a:lnTo>
                      <a:pt x="167" y="89"/>
                    </a:lnTo>
                    <a:lnTo>
                      <a:pt x="152" y="93"/>
                    </a:lnTo>
                    <a:lnTo>
                      <a:pt x="157" y="104"/>
                    </a:lnTo>
                    <a:lnTo>
                      <a:pt x="157" y="92"/>
                    </a:lnTo>
                    <a:lnTo>
                      <a:pt x="142" y="95"/>
                    </a:lnTo>
                    <a:lnTo>
                      <a:pt x="126" y="96"/>
                    </a:lnTo>
                    <a:lnTo>
                      <a:pt x="111" y="97"/>
                    </a:lnTo>
                    <a:lnTo>
                      <a:pt x="97" y="98"/>
                    </a:lnTo>
                    <a:lnTo>
                      <a:pt x="83" y="99"/>
                    </a:lnTo>
                    <a:lnTo>
                      <a:pt x="69" y="102"/>
                    </a:lnTo>
                    <a:lnTo>
                      <a:pt x="64" y="103"/>
                    </a:lnTo>
                    <a:lnTo>
                      <a:pt x="51" y="106"/>
                    </a:lnTo>
                    <a:lnTo>
                      <a:pt x="25" y="116"/>
                    </a:lnTo>
                    <a:lnTo>
                      <a:pt x="0" y="130"/>
                    </a:lnTo>
                    <a:lnTo>
                      <a:pt x="13" y="150"/>
                    </a:lnTo>
                    <a:lnTo>
                      <a:pt x="34" y="138"/>
                    </a:lnTo>
                    <a:lnTo>
                      <a:pt x="60" y="128"/>
                    </a:lnTo>
                    <a:lnTo>
                      <a:pt x="73" y="125"/>
                    </a:lnTo>
                    <a:lnTo>
                      <a:pt x="69" y="114"/>
                    </a:lnTo>
                    <a:lnTo>
                      <a:pt x="69" y="126"/>
                    </a:lnTo>
                    <a:lnTo>
                      <a:pt x="83" y="123"/>
                    </a:lnTo>
                    <a:lnTo>
                      <a:pt x="97" y="122"/>
                    </a:lnTo>
                    <a:lnTo>
                      <a:pt x="111" y="121"/>
                    </a:lnTo>
                    <a:lnTo>
                      <a:pt x="126" y="120"/>
                    </a:lnTo>
                    <a:lnTo>
                      <a:pt x="142" y="119"/>
                    </a:lnTo>
                    <a:lnTo>
                      <a:pt x="157" y="116"/>
                    </a:lnTo>
                    <a:lnTo>
                      <a:pt x="161" y="115"/>
                    </a:lnTo>
                    <a:lnTo>
                      <a:pt x="176" y="111"/>
                    </a:lnTo>
                    <a:lnTo>
                      <a:pt x="204" y="100"/>
                    </a:lnTo>
                    <a:lnTo>
                      <a:pt x="229" y="86"/>
                    </a:lnTo>
                    <a:lnTo>
                      <a:pt x="233" y="83"/>
                    </a:lnTo>
                    <a:lnTo>
                      <a:pt x="244" y="75"/>
                    </a:lnTo>
                    <a:lnTo>
                      <a:pt x="254" y="67"/>
                    </a:lnTo>
                    <a:lnTo>
                      <a:pt x="263" y="58"/>
                    </a:lnTo>
                    <a:lnTo>
                      <a:pt x="270" y="48"/>
                    </a:lnTo>
                    <a:lnTo>
                      <a:pt x="273" y="44"/>
                    </a:lnTo>
                    <a:lnTo>
                      <a:pt x="279" y="35"/>
                    </a:lnTo>
                    <a:lnTo>
                      <a:pt x="283" y="25"/>
                    </a:lnTo>
                    <a:lnTo>
                      <a:pt x="286" y="15"/>
                    </a:lnTo>
                    <a:lnTo>
                      <a:pt x="287" y="10"/>
                    </a:lnTo>
                    <a:lnTo>
                      <a:pt x="287" y="10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373480" y="5602320"/>
                <a:ext cx="164880" cy="189000"/>
              </a:xfrm>
              <a:custGeom>
                <a:avLst/>
                <a:gdLst/>
                <a:ahLst/>
                <a:rect l="l" t="t" r="r" b="b"/>
                <a:pathLst>
                  <a:path w="104" h="119">
                    <a:moveTo>
                      <a:pt x="15" y="0"/>
                    </a:moveTo>
                    <a:lnTo>
                      <a:pt x="0" y="119"/>
                    </a:lnTo>
                    <a:lnTo>
                      <a:pt x="104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3803400" y="4637160"/>
            <a:ext cx="1944000" cy="1352880"/>
            <a:chOff x="3803400" y="4637160"/>
            <a:chExt cx="1944000" cy="1352880"/>
          </a:xfrm>
        </p:grpSpPr>
        <p:sp>
          <p:nvSpPr>
            <p:cNvPr id="562" name=""/>
            <p:cNvSpPr/>
            <p:nvPr/>
          </p:nvSpPr>
          <p:spPr>
            <a:xfrm>
              <a:off x="3803400" y="5502240"/>
              <a:ext cx="1613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/>
            <p:nvPr/>
          </p:nvCxnSpPr>
          <p:spPr>
            <a:xfrm flipH="1">
              <a:off x="5458680" y="4637160"/>
              <a:ext cx="59400" cy="948240"/>
            </a:xfrm>
            <a:prstGeom prst="curvedConnector5">
              <a:avLst>
                <a:gd name="adj1" fmla="val -389024"/>
                <a:gd name="adj2" fmla="val 38245"/>
                <a:gd name="adj3" fmla="val -389024"/>
              </a:avLst>
            </a:prstGeom>
            <a:ln w="38160">
              <a:solidFill>
                <a:srgbClr val="6600cc"/>
              </a:solidFill>
              <a:miter/>
              <a:tailEnd len="med" type="triangle" w="med"/>
            </a:ln>
          </p:spPr>
        </p:cxnSp>
      </p:grpSp>
      <p:grpSp>
        <p:nvGrpSpPr>
          <p:cNvPr id="564" name=""/>
          <p:cNvGrpSpPr/>
          <p:nvPr/>
        </p:nvGrpSpPr>
        <p:grpSpPr>
          <a:xfrm>
            <a:off x="2148840" y="4114800"/>
            <a:ext cx="3405240" cy="1082160"/>
            <a:chOff x="2148840" y="4114800"/>
            <a:chExt cx="3405240" cy="1082160"/>
          </a:xfrm>
        </p:grpSpPr>
        <p:grpSp>
          <p:nvGrpSpPr>
            <p:cNvPr id="565" name=""/>
            <p:cNvGrpSpPr/>
            <p:nvPr/>
          </p:nvGrpSpPr>
          <p:grpSpPr>
            <a:xfrm>
              <a:off x="2148840" y="4114800"/>
              <a:ext cx="3405240" cy="1024920"/>
              <a:chOff x="2148840" y="4114800"/>
              <a:chExt cx="3405240" cy="102492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2578320" y="4114800"/>
                <a:ext cx="2975760" cy="1024920"/>
                <a:chOff x="2578320" y="4114800"/>
                <a:chExt cx="2975760" cy="10249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950280" y="4130640"/>
                  <a:ext cx="698760" cy="10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0000"/>
                      </a:solidFill>
                      <a:latin typeface="Comic Sans MS"/>
                    </a:rPr>
                    <a:t>= 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593240" y="4133880"/>
                  <a:ext cx="960840" cy="10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6600cc"/>
                      </a:solidFill>
                      <a:latin typeface="Comic Sans MS"/>
                    </a:rPr>
                    <a:t>12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578320" y="4114800"/>
                  <a:ext cx="704520" cy="10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r>
                    <a:rPr b="0" lang="en-US" sz="66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2148840" y="4114800"/>
                <a:ext cx="48096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3215520" y="4191120"/>
              <a:ext cx="48096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417120" y="2727360"/>
            <a:ext cx="6987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60080" y="2743200"/>
            <a:ext cx="96084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9040" y="4575240"/>
            <a:ext cx="336852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28160" y="4527720"/>
            <a:ext cx="2185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3240" y="4492800"/>
            <a:ext cx="21852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4419720"/>
            <a:ext cx="3483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01800" y="3051000"/>
            <a:ext cx="23162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58320" y="2743200"/>
            <a:ext cx="48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50840" y="2759040"/>
            <a:ext cx="654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463040" y="2743200"/>
            <a:ext cx="480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486080" y="3581280"/>
            <a:ext cx="1714320" cy="792720"/>
            <a:chOff x="1486080" y="3581280"/>
            <a:chExt cx="1714320" cy="792720"/>
          </a:xfrm>
        </p:grpSpPr>
        <p:sp>
          <p:nvSpPr>
            <p:cNvPr id="584" name=""/>
            <p:cNvSpPr/>
            <p:nvPr/>
          </p:nvSpPr>
          <p:spPr>
            <a:xfrm>
              <a:off x="1652040" y="3886200"/>
              <a:ext cx="132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facto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86080" y="3581280"/>
              <a:ext cx="1714320" cy="228600"/>
            </a:xfrm>
            <a:custGeom>
              <a:avLst/>
              <a:gdLst/>
              <a:ahLst/>
              <a:rect l="l" t="t" r="r" b="b"/>
              <a:pathLst>
                <a:path w="984" h="156">
                  <a:moveTo>
                    <a:pt x="984" y="0"/>
                  </a:moveTo>
                  <a:lnTo>
                    <a:pt x="960" y="0"/>
                  </a:lnTo>
                  <a:lnTo>
                    <a:pt x="958" y="15"/>
                  </a:lnTo>
                  <a:lnTo>
                    <a:pt x="970" y="15"/>
                  </a:lnTo>
                  <a:lnTo>
                    <a:pt x="959" y="10"/>
                  </a:lnTo>
                  <a:lnTo>
                    <a:pt x="955" y="24"/>
                  </a:lnTo>
                  <a:lnTo>
                    <a:pt x="947" y="36"/>
                  </a:lnTo>
                  <a:lnTo>
                    <a:pt x="958" y="40"/>
                  </a:lnTo>
                  <a:lnTo>
                    <a:pt x="950" y="32"/>
                  </a:lnTo>
                  <a:lnTo>
                    <a:pt x="940" y="43"/>
                  </a:lnTo>
                  <a:lnTo>
                    <a:pt x="928" y="51"/>
                  </a:lnTo>
                  <a:lnTo>
                    <a:pt x="937" y="60"/>
                  </a:lnTo>
                  <a:lnTo>
                    <a:pt x="932" y="49"/>
                  </a:lnTo>
                  <a:lnTo>
                    <a:pt x="919" y="55"/>
                  </a:lnTo>
                  <a:lnTo>
                    <a:pt x="904" y="60"/>
                  </a:lnTo>
                  <a:lnTo>
                    <a:pt x="908" y="71"/>
                  </a:lnTo>
                  <a:lnTo>
                    <a:pt x="908" y="59"/>
                  </a:lnTo>
                  <a:lnTo>
                    <a:pt x="892" y="60"/>
                  </a:lnTo>
                  <a:lnTo>
                    <a:pt x="572" y="60"/>
                  </a:lnTo>
                  <a:lnTo>
                    <a:pt x="556" y="61"/>
                  </a:lnTo>
                  <a:lnTo>
                    <a:pt x="551" y="62"/>
                  </a:lnTo>
                  <a:lnTo>
                    <a:pt x="536" y="67"/>
                  </a:lnTo>
                  <a:lnTo>
                    <a:pt x="523" y="73"/>
                  </a:lnTo>
                  <a:lnTo>
                    <a:pt x="519" y="76"/>
                  </a:lnTo>
                  <a:lnTo>
                    <a:pt x="507" y="85"/>
                  </a:lnTo>
                  <a:lnTo>
                    <a:pt x="497" y="95"/>
                  </a:lnTo>
                  <a:lnTo>
                    <a:pt x="495" y="99"/>
                  </a:lnTo>
                  <a:lnTo>
                    <a:pt x="487" y="111"/>
                  </a:lnTo>
                  <a:lnTo>
                    <a:pt x="483" y="125"/>
                  </a:lnTo>
                  <a:lnTo>
                    <a:pt x="482" y="129"/>
                  </a:lnTo>
                  <a:lnTo>
                    <a:pt x="480" y="144"/>
                  </a:lnTo>
                  <a:lnTo>
                    <a:pt x="480" y="144"/>
                  </a:lnTo>
                  <a:lnTo>
                    <a:pt x="481" y="149"/>
                  </a:lnTo>
                  <a:lnTo>
                    <a:pt x="484" y="152"/>
                  </a:lnTo>
                  <a:lnTo>
                    <a:pt x="487" y="155"/>
                  </a:lnTo>
                  <a:lnTo>
                    <a:pt x="492" y="156"/>
                  </a:lnTo>
                  <a:lnTo>
                    <a:pt x="497" y="155"/>
                  </a:lnTo>
                  <a:lnTo>
                    <a:pt x="500" y="152"/>
                  </a:lnTo>
                  <a:lnTo>
                    <a:pt x="503" y="149"/>
                  </a:lnTo>
                  <a:lnTo>
                    <a:pt x="504" y="144"/>
                  </a:lnTo>
                  <a:lnTo>
                    <a:pt x="502" y="129"/>
                  </a:lnTo>
                  <a:lnTo>
                    <a:pt x="501" y="125"/>
                  </a:lnTo>
                  <a:lnTo>
                    <a:pt x="497" y="111"/>
                  </a:lnTo>
                  <a:lnTo>
                    <a:pt x="489" y="99"/>
                  </a:lnTo>
                  <a:lnTo>
                    <a:pt x="487" y="95"/>
                  </a:lnTo>
                  <a:lnTo>
                    <a:pt x="477" y="85"/>
                  </a:lnTo>
                  <a:lnTo>
                    <a:pt x="465" y="76"/>
                  </a:lnTo>
                  <a:lnTo>
                    <a:pt x="461" y="73"/>
                  </a:lnTo>
                  <a:lnTo>
                    <a:pt x="448" y="67"/>
                  </a:lnTo>
                  <a:lnTo>
                    <a:pt x="433" y="62"/>
                  </a:lnTo>
                  <a:lnTo>
                    <a:pt x="428" y="61"/>
                  </a:lnTo>
                  <a:lnTo>
                    <a:pt x="412" y="60"/>
                  </a:lnTo>
                  <a:lnTo>
                    <a:pt x="92" y="60"/>
                  </a:lnTo>
                  <a:lnTo>
                    <a:pt x="76" y="59"/>
                  </a:lnTo>
                  <a:lnTo>
                    <a:pt x="76" y="71"/>
                  </a:lnTo>
                  <a:lnTo>
                    <a:pt x="80" y="60"/>
                  </a:lnTo>
                  <a:lnTo>
                    <a:pt x="65" y="55"/>
                  </a:lnTo>
                  <a:lnTo>
                    <a:pt x="52" y="49"/>
                  </a:lnTo>
                  <a:lnTo>
                    <a:pt x="47" y="60"/>
                  </a:lnTo>
                  <a:lnTo>
                    <a:pt x="56" y="51"/>
                  </a:lnTo>
                  <a:lnTo>
                    <a:pt x="44" y="43"/>
                  </a:lnTo>
                  <a:lnTo>
                    <a:pt x="34" y="32"/>
                  </a:lnTo>
                  <a:lnTo>
                    <a:pt x="26" y="40"/>
                  </a:lnTo>
                  <a:lnTo>
                    <a:pt x="37" y="36"/>
                  </a:lnTo>
                  <a:lnTo>
                    <a:pt x="29" y="24"/>
                  </a:lnTo>
                  <a:lnTo>
                    <a:pt x="25" y="10"/>
                  </a:lnTo>
                  <a:lnTo>
                    <a:pt x="14" y="15"/>
                  </a:lnTo>
                  <a:lnTo>
                    <a:pt x="26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7" y="33"/>
                  </a:lnTo>
                  <a:lnTo>
                    <a:pt x="15" y="45"/>
                  </a:lnTo>
                  <a:lnTo>
                    <a:pt x="17" y="49"/>
                  </a:lnTo>
                  <a:lnTo>
                    <a:pt x="27" y="60"/>
                  </a:lnTo>
                  <a:lnTo>
                    <a:pt x="39" y="68"/>
                  </a:lnTo>
                  <a:lnTo>
                    <a:pt x="43" y="71"/>
                  </a:lnTo>
                  <a:lnTo>
                    <a:pt x="56" y="77"/>
                  </a:lnTo>
                  <a:lnTo>
                    <a:pt x="71" y="82"/>
                  </a:lnTo>
                  <a:lnTo>
                    <a:pt x="76" y="83"/>
                  </a:lnTo>
                  <a:lnTo>
                    <a:pt x="92" y="84"/>
                  </a:lnTo>
                  <a:lnTo>
                    <a:pt x="412" y="84"/>
                  </a:lnTo>
                  <a:lnTo>
                    <a:pt x="428" y="85"/>
                  </a:lnTo>
                  <a:lnTo>
                    <a:pt x="428" y="73"/>
                  </a:lnTo>
                  <a:lnTo>
                    <a:pt x="424" y="84"/>
                  </a:lnTo>
                  <a:lnTo>
                    <a:pt x="439" y="89"/>
                  </a:lnTo>
                  <a:lnTo>
                    <a:pt x="452" y="95"/>
                  </a:lnTo>
                  <a:lnTo>
                    <a:pt x="457" y="84"/>
                  </a:lnTo>
                  <a:lnTo>
                    <a:pt x="448" y="93"/>
                  </a:lnTo>
                  <a:lnTo>
                    <a:pt x="460" y="102"/>
                  </a:lnTo>
                  <a:lnTo>
                    <a:pt x="470" y="112"/>
                  </a:lnTo>
                  <a:lnTo>
                    <a:pt x="478" y="104"/>
                  </a:lnTo>
                  <a:lnTo>
                    <a:pt x="467" y="108"/>
                  </a:lnTo>
                  <a:lnTo>
                    <a:pt x="475" y="120"/>
                  </a:lnTo>
                  <a:lnTo>
                    <a:pt x="479" y="134"/>
                  </a:lnTo>
                  <a:lnTo>
                    <a:pt x="490" y="129"/>
                  </a:lnTo>
                  <a:lnTo>
                    <a:pt x="478" y="129"/>
                  </a:lnTo>
                  <a:lnTo>
                    <a:pt x="480" y="144"/>
                  </a:lnTo>
                  <a:lnTo>
                    <a:pt x="504" y="144"/>
                  </a:lnTo>
                  <a:lnTo>
                    <a:pt x="503" y="139"/>
                  </a:lnTo>
                  <a:lnTo>
                    <a:pt x="500" y="136"/>
                  </a:lnTo>
                  <a:lnTo>
                    <a:pt x="497" y="133"/>
                  </a:lnTo>
                  <a:lnTo>
                    <a:pt x="492" y="132"/>
                  </a:lnTo>
                  <a:lnTo>
                    <a:pt x="487" y="133"/>
                  </a:lnTo>
                  <a:lnTo>
                    <a:pt x="484" y="136"/>
                  </a:lnTo>
                  <a:lnTo>
                    <a:pt x="481" y="139"/>
                  </a:lnTo>
                  <a:lnTo>
                    <a:pt x="480" y="144"/>
                  </a:lnTo>
                  <a:lnTo>
                    <a:pt x="492" y="144"/>
                  </a:lnTo>
                  <a:lnTo>
                    <a:pt x="504" y="144"/>
                  </a:lnTo>
                  <a:lnTo>
                    <a:pt x="506" y="129"/>
                  </a:lnTo>
                  <a:lnTo>
                    <a:pt x="494" y="129"/>
                  </a:lnTo>
                  <a:lnTo>
                    <a:pt x="505" y="134"/>
                  </a:lnTo>
                  <a:lnTo>
                    <a:pt x="509" y="120"/>
                  </a:lnTo>
                  <a:lnTo>
                    <a:pt x="517" y="108"/>
                  </a:lnTo>
                  <a:lnTo>
                    <a:pt x="506" y="104"/>
                  </a:lnTo>
                  <a:lnTo>
                    <a:pt x="514" y="112"/>
                  </a:lnTo>
                  <a:lnTo>
                    <a:pt x="524" y="102"/>
                  </a:lnTo>
                  <a:lnTo>
                    <a:pt x="536" y="93"/>
                  </a:lnTo>
                  <a:lnTo>
                    <a:pt x="527" y="84"/>
                  </a:lnTo>
                  <a:lnTo>
                    <a:pt x="532" y="95"/>
                  </a:lnTo>
                  <a:lnTo>
                    <a:pt x="545" y="89"/>
                  </a:lnTo>
                  <a:lnTo>
                    <a:pt x="560" y="84"/>
                  </a:lnTo>
                  <a:lnTo>
                    <a:pt x="556" y="73"/>
                  </a:lnTo>
                  <a:lnTo>
                    <a:pt x="556" y="85"/>
                  </a:lnTo>
                  <a:lnTo>
                    <a:pt x="572" y="84"/>
                  </a:lnTo>
                  <a:lnTo>
                    <a:pt x="892" y="84"/>
                  </a:lnTo>
                  <a:lnTo>
                    <a:pt x="908" y="83"/>
                  </a:lnTo>
                  <a:lnTo>
                    <a:pt x="913" y="82"/>
                  </a:lnTo>
                  <a:lnTo>
                    <a:pt x="928" y="77"/>
                  </a:lnTo>
                  <a:lnTo>
                    <a:pt x="941" y="71"/>
                  </a:lnTo>
                  <a:lnTo>
                    <a:pt x="945" y="68"/>
                  </a:lnTo>
                  <a:lnTo>
                    <a:pt x="957" y="60"/>
                  </a:lnTo>
                  <a:lnTo>
                    <a:pt x="967" y="49"/>
                  </a:lnTo>
                  <a:lnTo>
                    <a:pt x="969" y="45"/>
                  </a:lnTo>
                  <a:lnTo>
                    <a:pt x="977" y="33"/>
                  </a:lnTo>
                  <a:lnTo>
                    <a:pt x="981" y="19"/>
                  </a:lnTo>
                  <a:lnTo>
                    <a:pt x="982" y="15"/>
                  </a:lnTo>
                  <a:lnTo>
                    <a:pt x="982" y="15"/>
                  </a:lnTo>
                  <a:lnTo>
                    <a:pt x="984" y="0"/>
                  </a:lnTo>
                  <a:close/>
                </a:path>
              </a:pathLst>
            </a:custGeom>
            <a:solidFill>
              <a:srgbClr val="00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1440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can use the process of division to find the factors contained in any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574800" y="3749760"/>
            <a:ext cx="1613160" cy="624240"/>
            <a:chOff x="3574800" y="3749760"/>
            <a:chExt cx="1613160" cy="624240"/>
          </a:xfrm>
        </p:grpSpPr>
        <p:sp>
          <p:nvSpPr>
            <p:cNvPr id="588" name=""/>
            <p:cNvSpPr/>
            <p:nvPr/>
          </p:nvSpPr>
          <p:spPr>
            <a:xfrm>
              <a:off x="3574800" y="3886200"/>
              <a:ext cx="1613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"/>
            <p:cNvCxnSpPr/>
            <p:nvPr/>
          </p:nvCxnSpPr>
          <p:spPr>
            <a:xfrm rot="5400000">
              <a:off x="4222080" y="3641760"/>
              <a:ext cx="210240" cy="426240"/>
            </a:xfrm>
            <a:prstGeom prst="curvedConnector2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590" name=""/>
          <p:cNvGrpSpPr/>
          <p:nvPr/>
        </p:nvGrpSpPr>
        <p:grpSpPr>
          <a:xfrm>
            <a:off x="1295280" y="4572000"/>
            <a:ext cx="6705720" cy="1829880"/>
            <a:chOff x="1295280" y="4572000"/>
            <a:chExt cx="6705720" cy="1829880"/>
          </a:xfrm>
        </p:grpSpPr>
        <p:sp>
          <p:nvSpPr>
            <p:cNvPr id="591" name=""/>
            <p:cNvSpPr/>
            <p:nvPr/>
          </p:nvSpPr>
          <p:spPr>
            <a:xfrm>
              <a:off x="1295280" y="4572000"/>
              <a:ext cx="342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12 = 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15000" y="466236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4 = 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71600" y="54100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10280" y="5424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86600" y="557676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7920" y="54864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352680" y="5257440"/>
            <a:ext cx="2514600" cy="488160"/>
            <a:chOff x="3352680" y="5257440"/>
            <a:chExt cx="2514600" cy="488160"/>
          </a:xfrm>
        </p:grpSpPr>
        <p:sp>
          <p:nvSpPr>
            <p:cNvPr id="599" name=""/>
            <p:cNvSpPr/>
            <p:nvPr/>
          </p:nvSpPr>
          <p:spPr>
            <a:xfrm>
              <a:off x="3861720" y="5257800"/>
              <a:ext cx="13204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facto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3352680" y="5333760"/>
              <a:ext cx="45720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10080" y="5257440"/>
              <a:ext cx="457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5638680" y="3048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the product by one factor to get other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89040" y="1447920"/>
            <a:ext cx="2511360" cy="19112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352680" y="1523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olynomials, we have gone in one dir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9880" y="46483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0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09480" y="3352680"/>
            <a:ext cx="7925040" cy="1099800"/>
            <a:chOff x="609480" y="3352680"/>
            <a:chExt cx="7925040" cy="1099800"/>
          </a:xfrm>
        </p:grpSpPr>
        <p:sp>
          <p:nvSpPr>
            <p:cNvPr id="608" name=""/>
            <p:cNvSpPr/>
            <p:nvPr/>
          </p:nvSpPr>
          <p:spPr>
            <a:xfrm>
              <a:off x="3733920" y="3352680"/>
              <a:ext cx="4800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5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(7z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8y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9480" y="3505320"/>
              <a:ext cx="320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iven express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09480" y="44197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y using distributiv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266720" y="5486400"/>
            <a:ext cx="3962520" cy="886320"/>
            <a:chOff x="4266720" y="5486400"/>
            <a:chExt cx="3962520" cy="886320"/>
          </a:xfrm>
        </p:grpSpPr>
        <p:sp>
          <p:nvSpPr>
            <p:cNvPr id="612" name=""/>
            <p:cNvSpPr/>
            <p:nvPr/>
          </p:nvSpPr>
          <p:spPr>
            <a:xfrm rot="5400000">
              <a:off x="6095520" y="3657600"/>
              <a:ext cx="304920" cy="3962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86400" y="57913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produ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2457360" y="2727360"/>
            <a:ext cx="42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Distributive La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3520" y="36576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(x + y + z) = ax + ay + a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684520" cy="14684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295280" y="16765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 we go in other direc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" y="4800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x + ay + az = a(x + y + z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480" y="3962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an “a” for 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27432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Give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x + ay + az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791320" y="2400480"/>
            <a:ext cx="2819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57200" y="22860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x + ay + az = a(x + y + z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52680" y="3276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x + ay + a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21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iven a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05320" y="464832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(x + y + z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46483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d it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3000" y="16002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verse the distributive law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7086600" y="5257800"/>
          <a:ext cx="16318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5257800"/>
                    <a:ext cx="16318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09480" y="214776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20718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66880" y="2986200"/>
            <a:ext cx="22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?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2986200"/>
            <a:ext cx="3810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76520" y="4341960"/>
            <a:ext cx="58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                         )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986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666880" y="4052880"/>
            <a:ext cx="3916440" cy="1449720"/>
            <a:chOff x="2666880" y="4052880"/>
            <a:chExt cx="3916440" cy="1449720"/>
          </a:xfrm>
        </p:grpSpPr>
        <p:grpSp>
          <p:nvGrpSpPr>
            <p:cNvPr id="640" name=""/>
            <p:cNvGrpSpPr/>
            <p:nvPr/>
          </p:nvGrpSpPr>
          <p:grpSpPr>
            <a:xfrm>
              <a:off x="2666880" y="4738680"/>
              <a:ext cx="3916440" cy="763920"/>
              <a:chOff x="2666880" y="4738680"/>
              <a:chExt cx="3916440" cy="763920"/>
            </a:xfrm>
          </p:grpSpPr>
          <p:sp>
            <p:nvSpPr>
              <p:cNvPr id="641" name=""/>
              <p:cNvSpPr/>
              <p:nvPr/>
            </p:nvSpPr>
            <p:spPr>
              <a:xfrm>
                <a:off x="2834280" y="4770720"/>
                <a:ext cx="73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00"/>
                    </a:solidFill>
                    <a:latin typeface="Comic Sans MS"/>
                  </a:rPr>
                  <a:t>3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17040" y="4799160"/>
                <a:ext cx="73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00"/>
                    </a:solidFill>
                    <a:latin typeface="Comic Sans MS"/>
                  </a:rPr>
                  <a:t>3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707800" y="4799160"/>
                <a:ext cx="73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6600"/>
                    </a:solidFill>
                    <a:latin typeface="Comic Sans MS"/>
                  </a:rPr>
                  <a:t>3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66880" y="4746600"/>
                <a:ext cx="94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114800" y="4738680"/>
                <a:ext cx="94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635800" y="4746600"/>
                <a:ext cx="94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867760" y="4052880"/>
              <a:ext cx="3590640" cy="947160"/>
              <a:chOff x="2867760" y="4052880"/>
              <a:chExt cx="3590640" cy="947160"/>
            </a:xfrm>
          </p:grpSpPr>
          <p:sp>
            <p:nvSpPr>
              <p:cNvPr id="648" name=""/>
              <p:cNvSpPr/>
              <p:nvPr/>
            </p:nvSpPr>
            <p:spPr>
              <a:xfrm>
                <a:off x="2867760" y="4068360"/>
                <a:ext cx="90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200" y="4068360"/>
                <a:ext cx="90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720040" y="4052880"/>
                <a:ext cx="73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x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194080" y="435744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670200" y="4357440"/>
                <a:ext cx="38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2819520" y="57294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1" lang="en-US" sz="4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(3x</a:t>
            </a:r>
            <a:r>
              <a:rPr b="1" lang="en-US" sz="48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 + 2x + 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6960" y="1245240"/>
            <a:ext cx="2288880" cy="1387800"/>
            <a:chOff x="426960" y="1245240"/>
            <a:chExt cx="2288880" cy="1387800"/>
          </a:xfrm>
        </p:grpSpPr>
        <p:sp>
          <p:nvSpPr>
            <p:cNvPr id="655" name=""/>
            <p:cNvSpPr/>
            <p:nvPr/>
          </p:nvSpPr>
          <p:spPr>
            <a:xfrm rot="20897400">
              <a:off x="536400" y="1447560"/>
              <a:ext cx="20574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897400">
              <a:off x="500760" y="1478520"/>
              <a:ext cx="214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838080" y="271152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3x</a:t>
            </a:r>
            <a:r>
              <a:rPr b="1" lang="en-US" sz="66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6600cc"/>
                </a:solidFill>
                <a:latin typeface="Comic Sans MS"/>
              </a:rPr>
              <a:t>(3x</a:t>
            </a:r>
            <a:r>
              <a:rPr b="1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1" lang="en-US" sz="6600" spc="-1" strike="noStrike">
                <a:solidFill>
                  <a:srgbClr val="6600cc"/>
                </a:solidFill>
                <a:latin typeface="Comic Sans MS"/>
              </a:rPr>
              <a:t> + 2x + 1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752480" y="4209480"/>
            <a:ext cx="5746320" cy="2267640"/>
            <a:chOff x="1752480" y="4209480"/>
            <a:chExt cx="5746320" cy="2267640"/>
          </a:xfrm>
        </p:grpSpPr>
        <p:pic>
          <p:nvPicPr>
            <p:cNvPr id="660" name="" descr=""/>
            <p:cNvPicPr/>
            <p:nvPr/>
          </p:nvPicPr>
          <p:blipFill>
            <a:blip r:embed="rId1"/>
            <a:stretch/>
          </p:blipFill>
          <p:spPr>
            <a:xfrm>
              <a:off x="1752480" y="4343400"/>
              <a:ext cx="17398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 rot="21477600">
              <a:off x="4190760" y="4267080"/>
              <a:ext cx="3276360" cy="1828800"/>
            </a:xfrm>
            <a:prstGeom prst="wedgeEllipseCallout">
              <a:avLst>
                <a:gd name="adj1" fmla="val -77763"/>
                <a:gd name="adj2" fmla="val 13652"/>
              </a:avLst>
            </a:prstGeom>
            <a:solidFill>
              <a:srgbClr val="99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267080" y="4495680"/>
              <a:ext cx="306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 the past, you may have called this process factori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142640" y="1752480"/>
            <a:ext cx="7086600" cy="990720"/>
            <a:chOff x="1142640" y="1752480"/>
            <a:chExt cx="7086600" cy="990720"/>
          </a:xfrm>
        </p:grpSpPr>
        <p:sp>
          <p:nvSpPr>
            <p:cNvPr id="664" name=""/>
            <p:cNvSpPr/>
            <p:nvPr/>
          </p:nvSpPr>
          <p:spPr>
            <a:xfrm flipV="1" rot="16200000">
              <a:off x="4495320" y="-990360"/>
              <a:ext cx="380880" cy="7086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84680 h 7086600"/>
                <a:gd name="textAreaBottom" fmla="*/ 6901920 h 708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733920" y="17524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facto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410440" cy="3557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371600" y="3200400"/>
            <a:ext cx="5943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Dividing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Monomia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85800" y="1752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GREATEST COMMON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3352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largest term that divides all given terms eve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14400" y="2514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of a set of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48769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66"/>
                </a:solidFill>
                <a:latin typeface="Comic Sans MS"/>
              </a:rPr>
              <a:t>GCF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2860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38080" y="2286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4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66680" y="3581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0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200400" y="3413160"/>
            <a:ext cx="3429000" cy="779400"/>
            <a:chOff x="3200400" y="3413160"/>
            <a:chExt cx="3429000" cy="779400"/>
          </a:xfrm>
        </p:grpSpPr>
        <p:sp>
          <p:nvSpPr>
            <p:cNvPr id="676" name=""/>
            <p:cNvSpPr/>
            <p:nvPr/>
          </p:nvSpPr>
          <p:spPr>
            <a:xfrm>
              <a:off x="3200400" y="354996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  5  3  r  r 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9848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2012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212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6376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8540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6450480" y="5029200"/>
            <a:ext cx="149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800" spc="-1" strike="noStrike">
                <a:solidFill>
                  <a:srgbClr val="339933"/>
                </a:solidFill>
                <a:latin typeface="Comic Sans MS"/>
              </a:rPr>
              <a:t>6r</a:t>
            </a:r>
            <a:r>
              <a:rPr b="0" lang="en-US" sz="4800" spc="-1" strike="noStrike" baseline="30000">
                <a:solidFill>
                  <a:srgbClr val="339933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124080" y="2057400"/>
            <a:ext cx="5257800" cy="794880"/>
            <a:chOff x="3124080" y="2057400"/>
            <a:chExt cx="5257800" cy="794880"/>
          </a:xfrm>
        </p:grpSpPr>
        <p:sp>
          <p:nvSpPr>
            <p:cNvPr id="684" name=""/>
            <p:cNvSpPr/>
            <p:nvPr/>
          </p:nvSpPr>
          <p:spPr>
            <a:xfrm>
              <a:off x="3505320" y="2133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213372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124080" y="2057400"/>
              <a:ext cx="5257800" cy="794880"/>
              <a:chOff x="3124080" y="2057400"/>
              <a:chExt cx="5257800" cy="79488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2209680"/>
                <a:ext cx="52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  2  2  3  r  r  r  r  r  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3505320" y="2057400"/>
                <a:ext cx="4343400" cy="718920"/>
                <a:chOff x="3505320" y="2057400"/>
                <a:chExt cx="4343400" cy="7189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505320" y="2057400"/>
                  <a:ext cx="30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0" name=""/>
                <p:cNvGrpSpPr/>
                <p:nvPr/>
              </p:nvGrpSpPr>
              <p:grpSpPr>
                <a:xfrm>
                  <a:off x="4038480" y="2057400"/>
                  <a:ext cx="3810240" cy="718920"/>
                  <a:chOff x="4038480" y="2057400"/>
                  <a:chExt cx="3810240" cy="7189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4648320" y="2101680"/>
                    <a:ext cx="304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09588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08660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038480" y="205740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562720" y="2133720"/>
                    <a:ext cx="304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55308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54380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98" name=""/>
          <p:cNvGrpSpPr/>
          <p:nvPr/>
        </p:nvGrpSpPr>
        <p:grpSpPr>
          <a:xfrm>
            <a:off x="2971800" y="2133720"/>
            <a:ext cx="685800" cy="2057400"/>
            <a:chOff x="2971800" y="2133720"/>
            <a:chExt cx="685800" cy="2057400"/>
          </a:xfrm>
        </p:grpSpPr>
        <p:sp>
          <p:nvSpPr>
            <p:cNvPr id="699" name=""/>
            <p:cNvSpPr/>
            <p:nvPr/>
          </p:nvSpPr>
          <p:spPr>
            <a:xfrm>
              <a:off x="2971800" y="2133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7180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1" name=""/>
            <p:cNvCxnSpPr>
              <a:stCxn id="699" idx="4"/>
              <a:endCxn id="700" idx="0"/>
            </p:cNvCxnSpPr>
            <p:nvPr/>
          </p:nvCxnSpPr>
          <p:spPr>
            <a:xfrm>
              <a:off x="3314520" y="2838240"/>
              <a:ext cx="1080" cy="648360"/>
            </a:xfrm>
            <a:prstGeom prst="straightConnector1">
              <a:avLst/>
            </a:prstGeom>
            <a:ln w="38160">
              <a:solidFill>
                <a:srgbClr val="0066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02" name=""/>
          <p:cNvGrpSpPr/>
          <p:nvPr/>
        </p:nvGrpSpPr>
        <p:grpSpPr>
          <a:xfrm>
            <a:off x="4267080" y="2133720"/>
            <a:ext cx="990720" cy="2209680"/>
            <a:chOff x="4267080" y="2133720"/>
            <a:chExt cx="990720" cy="2209680"/>
          </a:xfrm>
        </p:grpSpPr>
        <p:sp>
          <p:nvSpPr>
            <p:cNvPr id="703" name=""/>
            <p:cNvSpPr/>
            <p:nvPr/>
          </p:nvSpPr>
          <p:spPr>
            <a:xfrm>
              <a:off x="4800600" y="2133720"/>
              <a:ext cx="457200" cy="838080"/>
            </a:xfrm>
            <a:prstGeom prst="ellipse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67080" y="3505320"/>
              <a:ext cx="457200" cy="838080"/>
            </a:xfrm>
            <a:prstGeom prst="ellipse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5" name=""/>
            <p:cNvCxnSpPr>
              <a:stCxn id="703" idx="4"/>
              <a:endCxn id="704" idx="0"/>
            </p:cNvCxnSpPr>
            <p:nvPr/>
          </p:nvCxnSpPr>
          <p:spPr>
            <a:xfrm flipH="1">
              <a:off x="4495320" y="2990880"/>
              <a:ext cx="534240" cy="496080"/>
            </a:xfrm>
            <a:prstGeom prst="straightConnector1">
              <a:avLst/>
            </a:prstGeom>
            <a:ln w="38160">
              <a:solidFill>
                <a:srgbClr val="6600c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06" name=""/>
          <p:cNvGrpSpPr/>
          <p:nvPr/>
        </p:nvGrpSpPr>
        <p:grpSpPr>
          <a:xfrm>
            <a:off x="4800600" y="2209680"/>
            <a:ext cx="1981080" cy="2013120"/>
            <a:chOff x="4800600" y="2209680"/>
            <a:chExt cx="1981080" cy="2013120"/>
          </a:xfrm>
        </p:grpSpPr>
        <p:sp>
          <p:nvSpPr>
            <p:cNvPr id="707" name=""/>
            <p:cNvSpPr/>
            <p:nvPr/>
          </p:nvSpPr>
          <p:spPr>
            <a:xfrm>
              <a:off x="5257800" y="2209680"/>
              <a:ext cx="1523880" cy="6415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800600" y="3581280"/>
              <a:ext cx="1523880" cy="6415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"/>
            <p:cNvCxnSpPr>
              <a:stCxn id="707" idx="4"/>
            </p:cNvCxnSpPr>
            <p:nvPr/>
          </p:nvCxnSpPr>
          <p:spPr>
            <a:xfrm flipH="1">
              <a:off x="5637960" y="2869920"/>
              <a:ext cx="381960" cy="7974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10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048120" y="4191120"/>
            <a:ext cx="761760" cy="1663200"/>
            <a:chOff x="3048120" y="4191120"/>
            <a:chExt cx="761760" cy="1663200"/>
          </a:xfrm>
        </p:grpSpPr>
        <p:sp>
          <p:nvSpPr>
            <p:cNvPr id="712" name=""/>
            <p:cNvSpPr/>
            <p:nvPr/>
          </p:nvSpPr>
          <p:spPr>
            <a:xfrm>
              <a:off x="3352680" y="4191120"/>
              <a:ext cx="0" cy="9144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48120" y="502920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546000" y="4343400"/>
            <a:ext cx="949680" cy="1510920"/>
            <a:chOff x="3546000" y="4343400"/>
            <a:chExt cx="949680" cy="1510920"/>
          </a:xfrm>
        </p:grpSpPr>
        <p:sp>
          <p:nvSpPr>
            <p:cNvPr id="715" name=""/>
            <p:cNvSpPr/>
            <p:nvPr/>
          </p:nvSpPr>
          <p:spPr>
            <a:xfrm>
              <a:off x="3546000" y="4876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4114800" y="4343400"/>
              <a:ext cx="380880" cy="762120"/>
            </a:xfrm>
            <a:prstGeom prst="line">
              <a:avLst/>
            </a:prstGeom>
            <a:ln w="3816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33920" y="5029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143000" y="50292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Comic Sans MS"/>
              </a:rPr>
              <a:t>GCF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308120" y="4267080"/>
            <a:ext cx="2092680" cy="1587240"/>
            <a:chOff x="4308120" y="4267080"/>
            <a:chExt cx="2092680" cy="1587240"/>
          </a:xfrm>
        </p:grpSpPr>
        <p:grpSp>
          <p:nvGrpSpPr>
            <p:cNvPr id="720" name=""/>
            <p:cNvGrpSpPr/>
            <p:nvPr/>
          </p:nvGrpSpPr>
          <p:grpSpPr>
            <a:xfrm>
              <a:off x="4308120" y="4267080"/>
              <a:ext cx="1594800" cy="1434960"/>
              <a:chOff x="4308120" y="4267080"/>
              <a:chExt cx="1594800" cy="1434960"/>
            </a:xfrm>
          </p:grpSpPr>
          <p:sp>
            <p:nvSpPr>
              <p:cNvPr id="721" name=""/>
              <p:cNvSpPr/>
              <p:nvPr/>
            </p:nvSpPr>
            <p:spPr>
              <a:xfrm flipH="1">
                <a:off x="5410080" y="4267080"/>
                <a:ext cx="152640" cy="762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93920" y="4876920"/>
                <a:ext cx="343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3" name=""/>
              <p:cNvGrpSpPr/>
              <p:nvPr/>
            </p:nvGrpSpPr>
            <p:grpSpPr>
              <a:xfrm>
                <a:off x="4308120" y="4876920"/>
                <a:ext cx="1594800" cy="825120"/>
                <a:chOff x="4308120" y="4876920"/>
                <a:chExt cx="1594800" cy="8251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308120" y="4876920"/>
                  <a:ext cx="3438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559120" y="4876920"/>
                  <a:ext cx="3438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6" name=""/>
            <p:cNvSpPr/>
            <p:nvPr/>
          </p:nvSpPr>
          <p:spPr>
            <a:xfrm>
              <a:off x="4572000" y="5029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r  r  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85800" y="1523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ing the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GC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a polynom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05520" y="23860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98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41720" y="2386080"/>
            <a:ext cx="10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0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08560" y="238608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4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32148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x 5 x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62120" y="3886200"/>
            <a:ext cx="1447560" cy="749160"/>
            <a:chOff x="762120" y="3886200"/>
            <a:chExt cx="1447560" cy="749160"/>
          </a:xfrm>
        </p:grpSpPr>
        <p:sp>
          <p:nvSpPr>
            <p:cNvPr id="733" name=""/>
            <p:cNvSpPr/>
            <p:nvPr/>
          </p:nvSpPr>
          <p:spPr>
            <a:xfrm>
              <a:off x="762120" y="411480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19320" y="38862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505320" y="32004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x 3 x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429000" y="3962520"/>
            <a:ext cx="2057400" cy="672840"/>
            <a:chOff x="3429000" y="3962520"/>
            <a:chExt cx="2057400" cy="672840"/>
          </a:xfrm>
        </p:grpSpPr>
        <p:sp>
          <p:nvSpPr>
            <p:cNvPr id="737" name=""/>
            <p:cNvSpPr/>
            <p:nvPr/>
          </p:nvSpPr>
          <p:spPr>
            <a:xfrm>
              <a:off x="3429000" y="41148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x   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09880" y="396252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867280" y="320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x 7 x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67280" y="411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33520" y="3048120"/>
            <a:ext cx="5790960" cy="761760"/>
            <a:chOff x="533520" y="3048120"/>
            <a:chExt cx="5790960" cy="761760"/>
          </a:xfrm>
        </p:grpSpPr>
        <p:sp>
          <p:nvSpPr>
            <p:cNvPr id="742" name=""/>
            <p:cNvSpPr/>
            <p:nvPr/>
          </p:nvSpPr>
          <p:spPr>
            <a:xfrm>
              <a:off x="5638680" y="3200400"/>
              <a:ext cx="685800" cy="6094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76720" y="3200400"/>
              <a:ext cx="685800" cy="6094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3520" y="3048120"/>
              <a:ext cx="685800" cy="6094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2133720" y="3124080"/>
            <a:ext cx="4952880" cy="685800"/>
            <a:chOff x="2133720" y="3124080"/>
            <a:chExt cx="4952880" cy="685800"/>
          </a:xfrm>
        </p:grpSpPr>
        <p:sp>
          <p:nvSpPr>
            <p:cNvPr id="746" name=""/>
            <p:cNvSpPr/>
            <p:nvPr/>
          </p:nvSpPr>
          <p:spPr>
            <a:xfrm>
              <a:off x="2133720" y="3124080"/>
              <a:ext cx="685800" cy="6098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920" y="3200400"/>
              <a:ext cx="685800" cy="60948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00800" y="3124080"/>
              <a:ext cx="685800" cy="6098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62120" y="4038480"/>
            <a:ext cx="5715000" cy="685800"/>
            <a:chOff x="762120" y="4038480"/>
            <a:chExt cx="5715000" cy="685800"/>
          </a:xfrm>
        </p:grpSpPr>
        <p:sp>
          <p:nvSpPr>
            <p:cNvPr id="750" name=""/>
            <p:cNvSpPr/>
            <p:nvPr/>
          </p:nvSpPr>
          <p:spPr>
            <a:xfrm>
              <a:off x="762120" y="4114800"/>
              <a:ext cx="685800" cy="609480"/>
            </a:xfrm>
            <a:prstGeom prst="ellipse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14800" y="4114800"/>
              <a:ext cx="685800" cy="609480"/>
            </a:xfrm>
            <a:prstGeom prst="ellipse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791320" y="4038480"/>
              <a:ext cx="685800" cy="609840"/>
            </a:xfrm>
            <a:prstGeom prst="ellipse">
              <a:avLst/>
            </a:pr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057400" y="51814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3200400" y="4876920"/>
            <a:ext cx="1219320" cy="1129680"/>
            <a:chOff x="3200400" y="4876920"/>
            <a:chExt cx="1219320" cy="1129680"/>
          </a:xfrm>
        </p:grpSpPr>
        <p:sp>
          <p:nvSpPr>
            <p:cNvPr id="755" name=""/>
            <p:cNvSpPr/>
            <p:nvPr/>
          </p:nvSpPr>
          <p:spPr>
            <a:xfrm>
              <a:off x="3505320" y="518148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00400" y="487692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438280" y="4876920"/>
            <a:ext cx="1143000" cy="1129680"/>
            <a:chOff x="2438280" y="4876920"/>
            <a:chExt cx="1143000" cy="1129680"/>
          </a:xfrm>
        </p:grpSpPr>
        <p:sp>
          <p:nvSpPr>
            <p:cNvPr id="758" name=""/>
            <p:cNvSpPr/>
            <p:nvPr/>
          </p:nvSpPr>
          <p:spPr>
            <a:xfrm>
              <a:off x="2819520" y="51814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38280" y="4876920"/>
              <a:ext cx="381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4419720" y="51814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 14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0" y="493704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Comic Sans MS"/>
              </a:rPr>
              <a:t>GC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838080" y="1600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ing th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seco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172200" y="23860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98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08760" y="2386080"/>
            <a:ext cx="10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0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240" y="2386080"/>
            <a:ext cx="14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4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76720" y="41148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x + 7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48120" y="5105520"/>
            <a:ext cx="563868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x +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276720" y="3048120"/>
            <a:ext cx="4800600" cy="779400"/>
            <a:chOff x="3276720" y="3048120"/>
            <a:chExt cx="4800600" cy="779400"/>
          </a:xfrm>
        </p:grpSpPr>
        <p:sp>
          <p:nvSpPr>
            <p:cNvPr id="770" name=""/>
            <p:cNvSpPr/>
            <p:nvPr/>
          </p:nvSpPr>
          <p:spPr>
            <a:xfrm>
              <a:off x="4623480" y="3124080"/>
              <a:ext cx="1500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14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76720" y="304812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6212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b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G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29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3808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nd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38080" y="51814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ed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457200" y="2819520"/>
            <a:ext cx="8077320" cy="352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d the Greatest Common Factor for the polynomial - the GCF is the first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vide the polynomial by the GF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result is the second factor of the given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43000" y="2133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find the factors of a polynom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1371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981080" y="1371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factor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2362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6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52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4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33368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(18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6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2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28600" y="4235400"/>
            <a:ext cx="8686800" cy="795600"/>
            <a:chOff x="228600" y="4235400"/>
            <a:chExt cx="8686800" cy="795600"/>
          </a:xfrm>
        </p:grpSpPr>
        <p:sp>
          <p:nvSpPr>
            <p:cNvPr id="785" name=""/>
            <p:cNvSpPr/>
            <p:nvPr/>
          </p:nvSpPr>
          <p:spPr>
            <a:xfrm>
              <a:off x="228600" y="4327560"/>
              <a:ext cx="868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  2(9w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13w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6w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2120" y="42354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380880" y="5318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(9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3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6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80880" y="22096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(9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3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6w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16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 for common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365760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ry term contains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838080" y="4572000"/>
            <a:ext cx="2552760" cy="1465560"/>
            <a:chOff x="838080" y="4572000"/>
            <a:chExt cx="2552760" cy="1465560"/>
          </a:xfrm>
        </p:grpSpPr>
        <p:sp>
          <p:nvSpPr>
            <p:cNvPr id="793" name=""/>
            <p:cNvSpPr/>
            <p:nvPr/>
          </p:nvSpPr>
          <p:spPr>
            <a:xfrm>
              <a:off x="838080" y="4572000"/>
              <a:ext cx="255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4w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23880" y="5334120"/>
              <a:ext cx="1219320" cy="703440"/>
            </a:xfrm>
            <a:prstGeom prst="rect">
              <a:avLst/>
            </a:prstGeom>
            <a:noFill/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33ff"/>
                  </a:solidFill>
                  <a:latin typeface="Comic Sans MS"/>
                </a:rPr>
                <a:t>GC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1905120" y="1523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352680" y="4572000"/>
            <a:ext cx="5029200" cy="763920"/>
            <a:chOff x="3352680" y="4572000"/>
            <a:chExt cx="5029200" cy="763920"/>
          </a:xfrm>
        </p:grpSpPr>
        <p:sp>
          <p:nvSpPr>
            <p:cNvPr id="797" name=""/>
            <p:cNvSpPr/>
            <p:nvPr/>
          </p:nvSpPr>
          <p:spPr>
            <a:xfrm>
              <a:off x="3352680" y="457200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9x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4495680" y="4632480"/>
              <a:ext cx="3886200" cy="703440"/>
              <a:chOff x="4495680" y="4632480"/>
              <a:chExt cx="3886200" cy="703440"/>
            </a:xfrm>
          </p:grpSpPr>
          <p:sp>
            <p:nvSpPr>
              <p:cNvPr id="799" name=""/>
              <p:cNvSpPr/>
              <p:nvPr/>
            </p:nvSpPr>
            <p:spPr>
              <a:xfrm>
                <a:off x="4495680" y="4632480"/>
                <a:ext cx="1676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+ 13w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7280" y="4632480"/>
                <a:ext cx="25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+ 6w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3580920" y="5181480"/>
            <a:ext cx="4038840" cy="916920"/>
            <a:chOff x="3580920" y="5181480"/>
            <a:chExt cx="4038840" cy="916920"/>
          </a:xfrm>
        </p:grpSpPr>
        <p:sp>
          <p:nvSpPr>
            <p:cNvPr id="802" name=""/>
            <p:cNvSpPr/>
            <p:nvPr/>
          </p:nvSpPr>
          <p:spPr>
            <a:xfrm rot="5400000">
              <a:off x="5409720" y="3352680"/>
              <a:ext cx="381240" cy="4038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5120 h 4038840"/>
                <a:gd name="textAreaBottom" fmla="*/ 3933720 h 403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95680" y="56386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nd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447920" y="4876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a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+ 5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277080" y="4266360"/>
            <a:ext cx="2895120" cy="613080"/>
            <a:chOff x="3277080" y="4266360"/>
            <a:chExt cx="2895120" cy="613080"/>
          </a:xfrm>
        </p:grpSpPr>
        <p:sp>
          <p:nvSpPr>
            <p:cNvPr id="807" name=""/>
            <p:cNvSpPr/>
            <p:nvPr/>
          </p:nvSpPr>
          <p:spPr>
            <a:xfrm>
              <a:off x="3505320" y="4419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 “b”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8" name=""/>
            <p:cNvCxnSpPr>
              <a:stCxn id="807" idx="1"/>
              <a:endCxn id="809" idx="4"/>
            </p:cNvCxnSpPr>
            <p:nvPr/>
          </p:nvCxnSpPr>
          <p:spPr>
            <a:xfrm flipH="1" rot="10800000">
              <a:off x="3504960" y="4266360"/>
              <a:ext cx="1753200" cy="381960"/>
            </a:xfrm>
            <a:prstGeom prst="curvedConnector5">
              <a:avLst>
                <a:gd name="adj1" fmla="val -13021"/>
                <a:gd name="adj2" fmla="val 40000"/>
                <a:gd name="adj3" fmla="val -1302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10" name=""/>
          <p:cNvSpPr/>
          <p:nvPr/>
        </p:nvSpPr>
        <p:spPr>
          <a:xfrm>
            <a:off x="1447920" y="37339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a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+ 5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143000" y="287964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(3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+ 5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65760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43000" y="2057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1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+ 35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56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286000" y="3505320"/>
            <a:ext cx="4495680" cy="0"/>
            <a:chOff x="2286000" y="3505320"/>
            <a:chExt cx="4495680" cy="0"/>
          </a:xfrm>
        </p:grpSpPr>
        <p:sp>
          <p:nvSpPr>
            <p:cNvPr id="815" name=""/>
            <p:cNvSpPr/>
            <p:nvPr/>
          </p:nvSpPr>
          <p:spPr>
            <a:xfrm>
              <a:off x="2286000" y="3505320"/>
              <a:ext cx="5335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3505320"/>
              <a:ext cx="5331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248520" y="3505320"/>
              <a:ext cx="5331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048120" y="4343400"/>
            <a:ext cx="3961800" cy="0"/>
            <a:chOff x="3048120" y="4343400"/>
            <a:chExt cx="3961800" cy="0"/>
          </a:xfrm>
        </p:grpSpPr>
        <p:sp>
          <p:nvSpPr>
            <p:cNvPr id="819" name=""/>
            <p:cNvSpPr/>
            <p:nvPr/>
          </p:nvSpPr>
          <p:spPr>
            <a:xfrm>
              <a:off x="3048120" y="434340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76760" y="434340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581280" y="5486400"/>
            <a:ext cx="1981080" cy="0"/>
            <a:chOff x="3581280" y="5486400"/>
            <a:chExt cx="1981080" cy="0"/>
          </a:xfrm>
        </p:grpSpPr>
        <p:sp>
          <p:nvSpPr>
            <p:cNvPr id="822" name=""/>
            <p:cNvSpPr/>
            <p:nvPr/>
          </p:nvSpPr>
          <p:spPr>
            <a:xfrm>
              <a:off x="3581280" y="5486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67000" y="5486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5105520" y="3870360"/>
            <a:ext cx="304560" cy="39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86600" y="4754520"/>
            <a:ext cx="304920" cy="35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170760" y="5226840"/>
            <a:ext cx="1982520" cy="795600"/>
            <a:chOff x="6170760" y="5226840"/>
            <a:chExt cx="1982520" cy="795600"/>
          </a:xfrm>
        </p:grpSpPr>
        <p:sp>
          <p:nvSpPr>
            <p:cNvPr id="826" name=""/>
            <p:cNvSpPr/>
            <p:nvPr/>
          </p:nvSpPr>
          <p:spPr>
            <a:xfrm>
              <a:off x="6170760" y="5562720"/>
              <a:ext cx="18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 “c”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endCxn id="805" idx="3"/>
            </p:cNvCxnSpPr>
            <p:nvPr/>
          </p:nvCxnSpPr>
          <p:spPr>
            <a:xfrm rot="10800000">
              <a:off x="7390800" y="5226840"/>
              <a:ext cx="762480" cy="594360"/>
            </a:xfrm>
            <a:prstGeom prst="curvedConnector5">
              <a:avLst>
                <a:gd name="adj1" fmla="val 13934"/>
                <a:gd name="adj2" fmla="val 50000"/>
                <a:gd name="adj3" fmla="val 1393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274320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86000" y="5715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ONE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3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3429000" y="2971800"/>
            <a:ext cx="4448160" cy="338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9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24080" y="2057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a missing factor in a poly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3848040" y="3133800"/>
            <a:ext cx="44578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3520" y="14479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352680" y="3048120"/>
            <a:ext cx="2438640" cy="1053360"/>
            <a:chOff x="3352680" y="3048120"/>
            <a:chExt cx="2438640" cy="1053360"/>
          </a:xfrm>
        </p:grpSpPr>
        <p:sp>
          <p:nvSpPr>
            <p:cNvPr id="170" name=""/>
            <p:cNvSpPr/>
            <p:nvPr/>
          </p:nvSpPr>
          <p:spPr>
            <a:xfrm>
              <a:off x="3352680" y="3276360"/>
              <a:ext cx="2438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98960" y="3048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33520" y="3962520"/>
            <a:ext cx="7848360" cy="1053360"/>
            <a:chOff x="533520" y="3962520"/>
            <a:chExt cx="7848360" cy="1053360"/>
          </a:xfrm>
        </p:grpSpPr>
        <p:sp>
          <p:nvSpPr>
            <p:cNvPr id="173" name=""/>
            <p:cNvSpPr/>
            <p:nvPr/>
          </p:nvSpPr>
          <p:spPr>
            <a:xfrm>
              <a:off x="533520" y="4190760"/>
              <a:ext cx="784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3 3 3 3) (3 3 3 3 3)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5596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880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1808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7984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2284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56360" y="39625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76520" y="5119560"/>
            <a:ext cx="5181480" cy="887040"/>
            <a:chOff x="1676520" y="5119560"/>
            <a:chExt cx="5181480" cy="887040"/>
          </a:xfrm>
        </p:grpSpPr>
        <p:sp>
          <p:nvSpPr>
            <p:cNvPr id="183" name=""/>
            <p:cNvSpPr/>
            <p:nvPr/>
          </p:nvSpPr>
          <p:spPr>
            <a:xfrm>
              <a:off x="1676520" y="5181480"/>
              <a:ext cx="342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9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3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+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5119560"/>
              <a:ext cx="297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1968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523880" y="2209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ing with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5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62320" y="205740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greatest comm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 within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467240" cy="333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3657600" cy="27511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5257800" cy="3919320"/>
          </a:xfrm>
          <a:prstGeom prst="rect">
            <a:avLst/>
          </a:prstGeom>
          <a:ln w="0">
            <a:noFill/>
          </a:ln>
        </p:spPr>
      </p:pic>
      <p:grpSp>
        <p:nvGrpSpPr>
          <p:cNvPr id="1018" name=""/>
          <p:cNvGrpSpPr/>
          <p:nvPr/>
        </p:nvGrpSpPr>
        <p:grpSpPr>
          <a:xfrm>
            <a:off x="1981080" y="1600200"/>
            <a:ext cx="5486400" cy="3429000"/>
            <a:chOff x="1981080" y="1600200"/>
            <a:chExt cx="5486400" cy="3429000"/>
          </a:xfrm>
        </p:grpSpPr>
        <p:grpSp>
          <p:nvGrpSpPr>
            <p:cNvPr id="1019" name=""/>
            <p:cNvGrpSpPr/>
            <p:nvPr/>
          </p:nvGrpSpPr>
          <p:grpSpPr>
            <a:xfrm>
              <a:off x="1981080" y="4250880"/>
              <a:ext cx="991080" cy="778320"/>
              <a:chOff x="1981080" y="4250880"/>
              <a:chExt cx="991080" cy="778320"/>
            </a:xfrm>
          </p:grpSpPr>
          <p:cxnSp>
            <p:nvCxnSpPr>
              <p:cNvPr id="1020" name=""/>
              <p:cNvCxnSpPr/>
              <p:nvPr/>
            </p:nvCxnSpPr>
            <p:spPr>
              <a:xfrm flipH="1" rot="16200000">
                <a:off x="2087280" y="4144320"/>
                <a:ext cx="778680" cy="99144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21" name=""/>
              <p:cNvSpPr/>
              <p:nvPr/>
            </p:nvSpPr>
            <p:spPr>
              <a:xfrm>
                <a:off x="2755080" y="5024520"/>
                <a:ext cx="21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2" name=""/>
            <p:cNvSpPr/>
            <p:nvPr/>
          </p:nvSpPr>
          <p:spPr>
            <a:xfrm>
              <a:off x="4572000" y="160020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3352680" y="3276720"/>
            <a:ext cx="2438640" cy="1053720"/>
            <a:chOff x="3352680" y="3276720"/>
            <a:chExt cx="2438640" cy="1053720"/>
          </a:xfrm>
        </p:grpSpPr>
        <p:sp>
          <p:nvSpPr>
            <p:cNvPr id="188" name=""/>
            <p:cNvSpPr/>
            <p:nvPr/>
          </p:nvSpPr>
          <p:spPr>
            <a:xfrm>
              <a:off x="3352680" y="3505320"/>
              <a:ext cx="2438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32767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3520" y="4191120"/>
            <a:ext cx="7848360" cy="1053720"/>
            <a:chOff x="533520" y="4191120"/>
            <a:chExt cx="7848360" cy="1053720"/>
          </a:xfrm>
        </p:grpSpPr>
        <p:sp>
          <p:nvSpPr>
            <p:cNvPr id="191" name=""/>
            <p:cNvSpPr/>
            <p:nvPr/>
          </p:nvSpPr>
          <p:spPr>
            <a:xfrm>
              <a:off x="533520" y="4419720"/>
              <a:ext cx="784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y  y  y  y) (y  y  y  y  y)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4792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3372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5760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7984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564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132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191120"/>
              <a:ext cx="47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819520" y="541008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3333cc"/>
                </a:solidFill>
                <a:latin typeface="Comic Sans MS"/>
              </a:rPr>
              <a:t>4+5 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3333cc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5238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59092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ing with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3276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7200" spc="-1" strike="noStrike" baseline="30000">
                <a:solidFill>
                  <a:srgbClr val="0066ff"/>
                </a:solidFill>
                <a:latin typeface="Comic Sans MS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 n</a:t>
            </a:r>
            <a:r>
              <a:rPr b="0" lang="en-US" sz="7200" spc="-1" strike="noStrike" baseline="30000">
                <a:solidFill>
                  <a:srgbClr val="0066ff"/>
                </a:solidFill>
                <a:latin typeface="Comic Sans MS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US" sz="7200" spc="-1" strike="noStrike" baseline="30000">
                <a:solidFill>
                  <a:srgbClr val="3333cc"/>
                </a:solidFill>
                <a:latin typeface="Comic Sans MS"/>
              </a:rPr>
              <a:t>a+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124080"/>
            <a:ext cx="4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44792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2209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ing with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8006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 (called the base) must be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4955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ultiply exponential forms with the sam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962520"/>
            <a:ext cx="7162560" cy="1759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the comm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ultiply any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38280" y="403848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ultipl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06720" y="320040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related t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6960" y="205740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i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9480" y="1646280"/>
            <a:ext cx="2971800" cy="1630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43000" y="5089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vision and multiplication are inverse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762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12:16Z</dcterms:created>
  <dc:creator>Community Campus</dc:creator>
  <dc:description/>
  <dc:language>en-US</dc:language>
  <cp:lastModifiedBy>iddcws</cp:lastModifiedBy>
  <dcterms:modified xsi:type="dcterms:W3CDTF">2003-01-28T18:51:56Z</dcterms:modified>
  <cp:revision>171</cp:revision>
  <dc:subject/>
  <dc:title>PowerPoint Presentation</dc:title>
</cp:coreProperties>
</file>