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2.wmf" ContentType="image/x-wmf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3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5.wmf" ContentType="image/x-wmf"/>
  <Override PartName="/ppt/media/image16.wmf" ContentType="image/x-wmf"/>
  <Override PartName="/ppt/media/image14.jpeg" ContentType="image/jpeg"/>
  <Override PartName="/ppt/media/image1.png" ContentType="image/png"/>
  <Override PartName="/ppt/media/image2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380880" y="-380880"/>
            <a:ext cx="9905760" cy="76960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532800" y="457200"/>
            <a:ext cx="261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MAT086  Prealgeb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426720" y="457200"/>
            <a:ext cx="203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Class 4  Unit 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endshow"/>
          </p:cNvPr>
          <p:cNvSpPr/>
          <p:nvPr/>
        </p:nvSpPr>
        <p:spPr>
          <a:xfrm>
            <a:off x="0" y="0"/>
            <a:ext cx="1981080" cy="304920"/>
          </a:xfrm>
          <a:custGeom>
            <a:avLst/>
            <a:gdLst>
              <a:gd name="textAreaLeft" fmla="*/ 19440 w 1981080"/>
              <a:gd name="textAreaRight" fmla="*/ 1961640 w 19810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140196" h="21600">
                <a:moveTo>
                  <a:pt x="0" y="0"/>
                </a:moveTo>
                <a:lnTo>
                  <a:pt x="140196" y="0"/>
                </a:lnTo>
                <a:lnTo>
                  <a:pt x="140196" y="21600"/>
                </a:lnTo>
                <a:lnTo>
                  <a:pt x="0" y="21600"/>
                </a:lnTo>
                <a:close/>
              </a:path>
              <a:path fill="lightenLess" w="140196" h="21600">
                <a:moveTo>
                  <a:pt x="0" y="0"/>
                </a:moveTo>
                <a:lnTo>
                  <a:pt x="140196" y="0"/>
                </a:lnTo>
                <a:lnTo>
                  <a:pt x="138796" y="1400"/>
                </a:lnTo>
                <a:lnTo>
                  <a:pt x="1400" y="1400"/>
                </a:lnTo>
                <a:close/>
              </a:path>
              <a:path fill="darken" w="140196" h="21600">
                <a:moveTo>
                  <a:pt x="140196" y="0"/>
                </a:moveTo>
                <a:lnTo>
                  <a:pt x="140196" y="21600"/>
                </a:lnTo>
                <a:lnTo>
                  <a:pt x="138796" y="20200"/>
                </a:lnTo>
                <a:lnTo>
                  <a:pt x="138796" y="1400"/>
                </a:lnTo>
                <a:close/>
              </a:path>
              <a:path fill="darkenLess" w="140196" h="21600">
                <a:moveTo>
                  <a:pt x="1401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8796" y="20200"/>
                </a:lnTo>
                <a:close/>
              </a:path>
              <a:path fill="lighten" w="1401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it to T O 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057400" y="6629400"/>
            <a:ext cx="510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© Pima Community College 20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752480" y="2971800"/>
            <a:ext cx="5791320" cy="30481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914400" y="2209680"/>
            <a:ext cx="7467480" cy="16002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Comic Sans MS"/>
              </a:rPr>
              <a:t>Polynomial Expressions</a:t>
            </a:r>
            <a:endParaRPr b="1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latin typeface="Comic Sans MS"/>
              <a:ea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2362320" y="685800"/>
            <a:ext cx="441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quations/Express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914400" y="1981080"/>
            <a:ext cx="5029200" cy="198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Quick Quiz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3886200" y="1828800"/>
            <a:ext cx="4763880" cy="4446360"/>
            <a:chOff x="3886200" y="1828800"/>
            <a:chExt cx="4763880" cy="4446360"/>
          </a:xfrm>
        </p:grpSpPr>
        <p:pic>
          <p:nvPicPr>
            <p:cNvPr id="255" name="" descr=""/>
            <p:cNvPicPr/>
            <p:nvPr/>
          </p:nvPicPr>
          <p:blipFill>
            <a:blip r:embed="rId1"/>
            <a:stretch/>
          </p:blipFill>
          <p:spPr>
            <a:xfrm>
              <a:off x="3886200" y="1828800"/>
              <a:ext cx="4763880" cy="444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6" name=""/>
            <p:cNvSpPr/>
            <p:nvPr/>
          </p:nvSpPr>
          <p:spPr>
            <a:xfrm rot="13632000">
              <a:off x="5571720" y="4433760"/>
              <a:ext cx="990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A+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1295280" y="3854520"/>
            <a:ext cx="2514600" cy="1312920"/>
            <a:chOff x="1295280" y="3854520"/>
            <a:chExt cx="2514600" cy="1312920"/>
          </a:xfrm>
        </p:grpSpPr>
        <p:sp>
          <p:nvSpPr>
            <p:cNvPr id="258" name=""/>
            <p:cNvSpPr/>
            <p:nvPr/>
          </p:nvSpPr>
          <p:spPr>
            <a:xfrm>
              <a:off x="1295280" y="3854520"/>
              <a:ext cx="2514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5(F – 32)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133720" y="4464000"/>
              <a:ext cx="533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9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0" name=""/>
          <p:cNvSpPr/>
          <p:nvPr/>
        </p:nvSpPr>
        <p:spPr>
          <a:xfrm>
            <a:off x="2362320" y="685800"/>
            <a:ext cx="441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quations/Express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33520" y="1295280"/>
            <a:ext cx="8001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cc"/>
                </a:solidFill>
                <a:latin typeface="Comic Sans MS"/>
              </a:rPr>
              <a:t>Equation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 or </a:t>
            </a:r>
            <a:r>
              <a:rPr b="0" lang="en-US" sz="4800" spc="-1" strike="noStrike">
                <a:solidFill>
                  <a:srgbClr val="006600"/>
                </a:solidFill>
                <a:latin typeface="Comic Sans MS"/>
              </a:rPr>
              <a:t>Expression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371600" y="2575080"/>
            <a:ext cx="2057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v = lw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724280" y="2879640"/>
            <a:ext cx="32767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523880" y="3184560"/>
            <a:ext cx="2057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 + 27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143000" y="3778200"/>
            <a:ext cx="27432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1523880" y="3184560"/>
            <a:ext cx="6019920" cy="1389240"/>
            <a:chOff x="1523880" y="3184560"/>
            <a:chExt cx="6019920" cy="1389240"/>
          </a:xfrm>
        </p:grpSpPr>
        <p:sp>
          <p:nvSpPr>
            <p:cNvPr id="267" name=""/>
            <p:cNvSpPr/>
            <p:nvPr/>
          </p:nvSpPr>
          <p:spPr>
            <a:xfrm>
              <a:off x="4724280" y="3260880"/>
              <a:ext cx="281952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6600"/>
                  </a:solidFill>
                  <a:latin typeface="Comic Sans MS"/>
                </a:rPr>
                <a:t>Expression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523880" y="3184560"/>
              <a:ext cx="19814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6600"/>
                  </a:solidFill>
                  <a:latin typeface="Comic Sans MS"/>
                </a:rPr>
                <a:t>C + 273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1295280" y="3870360"/>
            <a:ext cx="6553440" cy="1297080"/>
            <a:chOff x="1295280" y="3870360"/>
            <a:chExt cx="6553440" cy="1297080"/>
          </a:xfrm>
        </p:grpSpPr>
        <p:grpSp>
          <p:nvGrpSpPr>
            <p:cNvPr id="270" name=""/>
            <p:cNvGrpSpPr/>
            <p:nvPr/>
          </p:nvGrpSpPr>
          <p:grpSpPr>
            <a:xfrm>
              <a:off x="1295280" y="3870360"/>
              <a:ext cx="6553440" cy="932040"/>
              <a:chOff x="1295280" y="3870360"/>
              <a:chExt cx="6553440" cy="932040"/>
            </a:xfrm>
          </p:grpSpPr>
          <p:sp>
            <p:nvSpPr>
              <p:cNvPr id="271" name=""/>
              <p:cNvSpPr/>
              <p:nvPr/>
            </p:nvSpPr>
            <p:spPr>
              <a:xfrm>
                <a:off x="4724280" y="4098960"/>
                <a:ext cx="31244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006600"/>
                    </a:solidFill>
                    <a:latin typeface="Comic Sans MS"/>
                  </a:rPr>
                  <a:t>Expression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1295280" y="3870360"/>
                <a:ext cx="251460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 u="sng">
                    <a:solidFill>
                      <a:srgbClr val="006600"/>
                    </a:solidFill>
                    <a:uFillTx/>
                    <a:latin typeface="Comic Sans MS"/>
                  </a:rPr>
                  <a:t>5(F – 32)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2133720" y="4464000"/>
              <a:ext cx="533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6600"/>
                  </a:solidFill>
                  <a:latin typeface="Comic Sans MS"/>
                </a:rPr>
                <a:t>9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4" name=""/>
          <p:cNvGrpSpPr/>
          <p:nvPr/>
        </p:nvGrpSpPr>
        <p:grpSpPr>
          <a:xfrm>
            <a:off x="1371600" y="2575080"/>
            <a:ext cx="5715000" cy="1312920"/>
            <a:chOff x="1371600" y="2575080"/>
            <a:chExt cx="5715000" cy="1312920"/>
          </a:xfrm>
        </p:grpSpPr>
        <p:sp>
          <p:nvSpPr>
            <p:cNvPr id="275" name=""/>
            <p:cNvSpPr/>
            <p:nvPr/>
          </p:nvSpPr>
          <p:spPr>
            <a:xfrm>
              <a:off x="4724280" y="2575080"/>
              <a:ext cx="236232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6600cc"/>
                  </a:solidFill>
                  <a:latin typeface="Comic Sans MS"/>
                </a:rPr>
                <a:t>Equation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371600" y="2575080"/>
              <a:ext cx="2057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6600cc"/>
                  </a:solidFill>
                  <a:latin typeface="Comic Sans MS"/>
                </a:rPr>
                <a:t>v = lwh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7" name=""/>
          <p:cNvGrpSpPr/>
          <p:nvPr/>
        </p:nvGrpSpPr>
        <p:grpSpPr>
          <a:xfrm>
            <a:off x="383400" y="5089680"/>
            <a:ext cx="4493520" cy="1312920"/>
            <a:chOff x="383400" y="5089680"/>
            <a:chExt cx="4493520" cy="1312920"/>
          </a:xfrm>
        </p:grpSpPr>
        <p:sp>
          <p:nvSpPr>
            <p:cNvPr id="278" name=""/>
            <p:cNvSpPr/>
            <p:nvPr/>
          </p:nvSpPr>
          <p:spPr>
            <a:xfrm>
              <a:off x="1371960" y="5089680"/>
              <a:ext cx="35049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5(F – 32)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210040" y="5699160"/>
              <a:ext cx="5335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9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83400" y="5302080"/>
              <a:ext cx="9230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C =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1" name=""/>
          <p:cNvGrpSpPr/>
          <p:nvPr/>
        </p:nvGrpSpPr>
        <p:grpSpPr>
          <a:xfrm>
            <a:off x="370440" y="5089680"/>
            <a:ext cx="6692400" cy="1312920"/>
            <a:chOff x="370440" y="5089680"/>
            <a:chExt cx="6692400" cy="1312920"/>
          </a:xfrm>
        </p:grpSpPr>
        <p:sp>
          <p:nvSpPr>
            <p:cNvPr id="282" name=""/>
            <p:cNvSpPr/>
            <p:nvPr/>
          </p:nvSpPr>
          <p:spPr>
            <a:xfrm>
              <a:off x="4613040" y="5165640"/>
              <a:ext cx="2449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6600cc"/>
                  </a:solidFill>
                  <a:latin typeface="Comic Sans MS"/>
                </a:rPr>
                <a:t>Equation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3" name=""/>
            <p:cNvGrpSpPr/>
            <p:nvPr/>
          </p:nvGrpSpPr>
          <p:grpSpPr>
            <a:xfrm>
              <a:off x="370440" y="5089680"/>
              <a:ext cx="4493520" cy="1312920"/>
              <a:chOff x="370440" y="5089680"/>
              <a:chExt cx="4493520" cy="1312920"/>
            </a:xfrm>
          </p:grpSpPr>
          <p:sp>
            <p:nvSpPr>
              <p:cNvPr id="284" name=""/>
              <p:cNvSpPr/>
              <p:nvPr/>
            </p:nvSpPr>
            <p:spPr>
              <a:xfrm>
                <a:off x="1359000" y="5089680"/>
                <a:ext cx="350496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 u="sng">
                    <a:solidFill>
                      <a:srgbClr val="3333cc"/>
                    </a:solidFill>
                    <a:uFillTx/>
                    <a:latin typeface="Comic Sans MS"/>
                  </a:rPr>
                  <a:t>5(F – 32)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2197080" y="5699160"/>
                <a:ext cx="53352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3333cc"/>
                    </a:solidFill>
                    <a:latin typeface="Comic Sans MS"/>
                  </a:rPr>
                  <a:t>9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370440" y="5302080"/>
                <a:ext cx="9230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3333cc"/>
                    </a:solidFill>
                    <a:latin typeface="Comic Sans MS"/>
                  </a:rPr>
                  <a:t>C =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>
    <p:random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2514600" y="609480"/>
            <a:ext cx="441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valuating Express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1181160" y="2933640"/>
            <a:ext cx="6629400" cy="9907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Comic Sans MS"/>
              </a:rPr>
              <a:t>Evaluating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Comic Sans MS"/>
              </a:rPr>
              <a:t>Expressions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Comic Sans MS"/>
              <a:ea typeface="Comic Sans MS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>
            <a:off x="2209680" y="4473720"/>
            <a:ext cx="4573800" cy="207936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3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2514600" y="609480"/>
            <a:ext cx="441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valuating Express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981080" y="1676520"/>
            <a:ext cx="73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iven the expres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0" y="5410080"/>
            <a:ext cx="883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at is the value of the express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3" name=""/>
          <p:cNvGrpSpPr/>
          <p:nvPr/>
        </p:nvGrpSpPr>
        <p:grpSpPr>
          <a:xfrm>
            <a:off x="2362320" y="3809880"/>
            <a:ext cx="6781680" cy="1358280"/>
            <a:chOff x="2362320" y="3809880"/>
            <a:chExt cx="6781680" cy="1358280"/>
          </a:xfrm>
        </p:grpSpPr>
        <p:sp>
          <p:nvSpPr>
            <p:cNvPr id="294" name=""/>
            <p:cNvSpPr/>
            <p:nvPr/>
          </p:nvSpPr>
          <p:spPr>
            <a:xfrm>
              <a:off x="2362320" y="3809880"/>
              <a:ext cx="6781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and the additional informatio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724640" y="4343040"/>
              <a:ext cx="20574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F=</a:t>
              </a:r>
              <a:r>
                <a:rPr b="0" lang="en-US" sz="4800" spc="-1" strike="noStrike">
                  <a:solidFill>
                    <a:srgbClr val="cc0000"/>
                  </a:solidFill>
                  <a:latin typeface="Comic Sans MS"/>
                </a:rPr>
                <a:t> </a:t>
              </a:r>
              <a:r>
                <a:rPr b="0" lang="en-US" sz="4800" spc="-1" strike="noStrike">
                  <a:solidFill>
                    <a:srgbClr val="6600cc"/>
                  </a:solidFill>
                  <a:latin typeface="Comic Sans MS"/>
                </a:rPr>
                <a:t>50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4419720" y="2362320"/>
            <a:ext cx="2743200" cy="1526040"/>
            <a:chOff x="4419720" y="2362320"/>
            <a:chExt cx="2743200" cy="1526040"/>
          </a:xfrm>
        </p:grpSpPr>
        <p:sp>
          <p:nvSpPr>
            <p:cNvPr id="297" name=""/>
            <p:cNvSpPr/>
            <p:nvPr/>
          </p:nvSpPr>
          <p:spPr>
            <a:xfrm>
              <a:off x="4419720" y="2362320"/>
              <a:ext cx="27432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Comic Sans MS"/>
                </a:rPr>
                <a:t>5(F – 32)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562720" y="3124080"/>
              <a:ext cx="4572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Comic Sans MS"/>
                </a:rPr>
                <a:t>9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4572000" y="3124080"/>
              <a:ext cx="2362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457200" y="1447920"/>
            <a:ext cx="3200400" cy="2743200"/>
            <a:chOff x="457200" y="1447920"/>
            <a:chExt cx="3200400" cy="2743200"/>
          </a:xfrm>
        </p:grpSpPr>
        <p:sp>
          <p:nvSpPr>
            <p:cNvPr id="301" name=""/>
            <p:cNvSpPr/>
            <p:nvPr/>
          </p:nvSpPr>
          <p:spPr>
            <a:xfrm>
              <a:off x="457200" y="1447920"/>
              <a:ext cx="3200400" cy="2743200"/>
            </a:xfrm>
            <a:prstGeom prst="irregularSeal1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rot="20011200">
              <a:off x="1617840" y="1949400"/>
              <a:ext cx="1049040" cy="170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6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600" spc="-1" strike="noStrike">
                  <a:solidFill>
                    <a:srgbClr val="ffff66"/>
                  </a:solidFill>
                  <a:latin typeface="Comic Sans MS"/>
                </a:rPr>
                <a:t>?</a:t>
              </a:r>
              <a:endParaRPr b="0" lang="en-US" sz="10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0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685800" y="1371600"/>
            <a:ext cx="7924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8360" indent="-468360"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en-US" sz="4400" spc="-1" strike="noStrike">
                <a:solidFill>
                  <a:srgbClr val="0000ff"/>
                </a:solidFill>
                <a:latin typeface="Comic Sans MS"/>
              </a:rPr>
              <a:t>Ru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609480"/>
            <a:ext cx="441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valuating Express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990720" y="3505320"/>
            <a:ext cx="7467480" cy="2246760"/>
          </a:xfrm>
          <a:prstGeom prst="rect">
            <a:avLst/>
          </a:prstGeom>
          <a:noFill/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1760" indent="-289080">
              <a:lnSpc>
                <a:spcPct val="100000"/>
              </a:lnSpc>
              <a:spcBef>
                <a:spcPts val="4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ubstitute the given values for the appropriate vari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01760" indent="-289080">
              <a:lnSpc>
                <a:spcPct val="100000"/>
              </a:lnSpc>
              <a:spcBef>
                <a:spcPts val="15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evaluate the resulting numeric expres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752480" y="2362320"/>
            <a:ext cx="647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o evaluate an express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2514600" y="609480"/>
            <a:ext cx="441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valuating Express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066680" y="2133720"/>
            <a:ext cx="223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valuat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1363680" y="2666880"/>
            <a:ext cx="5719320" cy="1323360"/>
            <a:chOff x="1363680" y="2666880"/>
            <a:chExt cx="5719320" cy="1323360"/>
          </a:xfrm>
        </p:grpSpPr>
        <p:sp>
          <p:nvSpPr>
            <p:cNvPr id="310" name=""/>
            <p:cNvSpPr/>
            <p:nvPr/>
          </p:nvSpPr>
          <p:spPr>
            <a:xfrm>
              <a:off x="4262400" y="3038400"/>
              <a:ext cx="1263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whe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1" name=""/>
            <p:cNvGrpSpPr/>
            <p:nvPr/>
          </p:nvGrpSpPr>
          <p:grpSpPr>
            <a:xfrm>
              <a:off x="1363680" y="2666880"/>
              <a:ext cx="2674800" cy="1323360"/>
              <a:chOff x="1363680" y="2666880"/>
              <a:chExt cx="2674800" cy="1323360"/>
            </a:xfrm>
          </p:grpSpPr>
          <p:sp>
            <p:nvSpPr>
              <p:cNvPr id="312" name=""/>
              <p:cNvSpPr/>
              <p:nvPr/>
            </p:nvSpPr>
            <p:spPr>
              <a:xfrm>
                <a:off x="1363680" y="2666880"/>
                <a:ext cx="267480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400" spc="-1" strike="noStrike">
                    <a:solidFill>
                      <a:srgbClr val="000000"/>
                    </a:solidFill>
                    <a:latin typeface="Comic Sans MS"/>
                  </a:rPr>
                  <a:t>5(F – 32)</a:t>
                </a: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2479680" y="3225960"/>
                <a:ext cx="44604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400" spc="-1" strike="noStrike">
                    <a:solidFill>
                      <a:srgbClr val="000000"/>
                    </a:solidFill>
                    <a:latin typeface="Comic Sans MS"/>
                  </a:rPr>
                  <a:t>9</a:t>
                </a: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1523880" y="3352680"/>
                <a:ext cx="2303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5637240" y="2870280"/>
              <a:ext cx="1445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F=</a:t>
              </a:r>
              <a:r>
                <a:rPr b="0" lang="en-US" sz="4000" spc="-1" strike="noStrike">
                  <a:solidFill>
                    <a:srgbClr val="cc0000"/>
                  </a:solidFill>
                  <a:latin typeface="Comic Sans MS"/>
                </a:rPr>
                <a:t> </a:t>
              </a:r>
              <a:r>
                <a:rPr b="0" lang="en-US" sz="4000" spc="-1" strike="noStrike">
                  <a:solidFill>
                    <a:srgbClr val="6600cc"/>
                  </a:solidFill>
                  <a:latin typeface="Comic Sans MS"/>
                </a:rPr>
                <a:t>50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6" name=""/>
          <p:cNvGrpSpPr/>
          <p:nvPr/>
        </p:nvGrpSpPr>
        <p:grpSpPr>
          <a:xfrm>
            <a:off x="1600200" y="4114800"/>
            <a:ext cx="2666880" cy="1327320"/>
            <a:chOff x="1600200" y="4114800"/>
            <a:chExt cx="2666880" cy="1327320"/>
          </a:xfrm>
        </p:grpSpPr>
        <p:sp>
          <p:nvSpPr>
            <p:cNvPr id="317" name=""/>
            <p:cNvSpPr/>
            <p:nvPr/>
          </p:nvSpPr>
          <p:spPr>
            <a:xfrm>
              <a:off x="1689480" y="4114800"/>
              <a:ext cx="2453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5(</a:t>
              </a:r>
              <a:r>
                <a:rPr b="0" lang="en-US" sz="4000" spc="-1" strike="noStrike">
                  <a:solidFill>
                    <a:srgbClr val="6600cc"/>
                  </a:solidFill>
                  <a:latin typeface="Comic Sans MS"/>
                </a:rPr>
                <a:t>50</a:t>
              </a: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 – 32)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754720" y="4738680"/>
              <a:ext cx="470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9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600200" y="4830840"/>
              <a:ext cx="2666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"/>
          <p:cNvGrpSpPr/>
          <p:nvPr/>
        </p:nvGrpSpPr>
        <p:grpSpPr>
          <a:xfrm>
            <a:off x="4495680" y="4129200"/>
            <a:ext cx="1988640" cy="1312920"/>
            <a:chOff x="4495680" y="4129200"/>
            <a:chExt cx="1988640" cy="1312920"/>
          </a:xfrm>
        </p:grpSpPr>
        <p:sp>
          <p:nvSpPr>
            <p:cNvPr id="321" name=""/>
            <p:cNvSpPr/>
            <p:nvPr/>
          </p:nvSpPr>
          <p:spPr>
            <a:xfrm>
              <a:off x="5130000" y="4129200"/>
              <a:ext cx="13543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5(18)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537880" y="4738680"/>
              <a:ext cx="470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9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181480" y="4830840"/>
              <a:ext cx="129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495680" y="4525920"/>
              <a:ext cx="533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5" name=""/>
          <p:cNvSpPr/>
          <p:nvPr/>
        </p:nvSpPr>
        <p:spPr>
          <a:xfrm>
            <a:off x="3581280" y="5622840"/>
            <a:ext cx="2286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66ff"/>
                </a:solidFill>
                <a:latin typeface="Comic Sans MS"/>
              </a:rPr>
              <a:t>= 10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6781680" y="4191120"/>
            <a:ext cx="2057400" cy="1236600"/>
            <a:chOff x="6781680" y="4191120"/>
            <a:chExt cx="2057400" cy="1236600"/>
          </a:xfrm>
        </p:grpSpPr>
        <p:grpSp>
          <p:nvGrpSpPr>
            <p:cNvPr id="327" name=""/>
            <p:cNvGrpSpPr/>
            <p:nvPr/>
          </p:nvGrpSpPr>
          <p:grpSpPr>
            <a:xfrm>
              <a:off x="7391520" y="4191120"/>
              <a:ext cx="1447560" cy="1236600"/>
              <a:chOff x="7391520" y="4191120"/>
              <a:chExt cx="1447560" cy="1236600"/>
            </a:xfrm>
          </p:grpSpPr>
          <p:sp>
            <p:nvSpPr>
              <p:cNvPr id="328" name=""/>
              <p:cNvSpPr/>
              <p:nvPr/>
            </p:nvSpPr>
            <p:spPr>
              <a:xfrm>
                <a:off x="7631640" y="4724280"/>
                <a:ext cx="47016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Comic Sans MS"/>
                  </a:rPr>
                  <a:t>9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7489080" y="4191120"/>
                <a:ext cx="75996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Comic Sans MS"/>
                  </a:rPr>
                  <a:t>90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7391520" y="480060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8305920" y="4495680"/>
                <a:ext cx="5331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6781680" y="4495680"/>
              <a:ext cx="304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284760" y="1150560"/>
            <a:ext cx="3164760" cy="1143720"/>
            <a:chOff x="284760" y="1150560"/>
            <a:chExt cx="3164760" cy="1143720"/>
          </a:xfrm>
        </p:grpSpPr>
        <p:sp>
          <p:nvSpPr>
            <p:cNvPr id="334" name=""/>
            <p:cNvSpPr/>
            <p:nvPr/>
          </p:nvSpPr>
          <p:spPr>
            <a:xfrm rot="20897400">
              <a:off x="367920" y="1523520"/>
              <a:ext cx="2971800" cy="441360"/>
            </a:xfrm>
            <a:prstGeom prst="roundRect">
              <a:avLst>
                <a:gd name="adj" fmla="val 16667"/>
              </a:avLst>
            </a:prstGeom>
            <a:solidFill>
              <a:srgbClr val="ff99cc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rot="20897400">
              <a:off x="304920" y="1461960"/>
              <a:ext cx="3124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Another exampl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/>
          <p:nvPr/>
        </p:nvSpPr>
        <p:spPr>
          <a:xfrm>
            <a:off x="2514600" y="609480"/>
            <a:ext cx="441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valuating Express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380880" y="2335320"/>
            <a:ext cx="8001000" cy="1967760"/>
            <a:chOff x="380880" y="2335320"/>
            <a:chExt cx="8001000" cy="1967760"/>
          </a:xfrm>
        </p:grpSpPr>
        <p:sp>
          <p:nvSpPr>
            <p:cNvPr id="338" name=""/>
            <p:cNvSpPr/>
            <p:nvPr/>
          </p:nvSpPr>
          <p:spPr>
            <a:xfrm>
              <a:off x="1752480" y="3477960"/>
              <a:ext cx="55627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if</a:t>
              </a: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 x = </a:t>
              </a:r>
              <a:r>
                <a:rPr b="0" lang="en-US" sz="4800" spc="-1" strike="noStrike">
                  <a:solidFill>
                    <a:srgbClr val="3333ff"/>
                  </a:solidFill>
                  <a:latin typeface="Comic Sans MS"/>
                </a:rPr>
                <a:t>3</a:t>
              </a: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and</a:t>
              </a: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 y = </a:t>
              </a:r>
              <a:r>
                <a:rPr b="0" lang="en-US" sz="4800" spc="-1" strike="noStrike">
                  <a:solidFill>
                    <a:srgbClr val="6600cc"/>
                  </a:solidFill>
                  <a:latin typeface="Comic Sans MS"/>
                </a:rPr>
                <a:t>-2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80880" y="2335320"/>
              <a:ext cx="33530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Evaluate: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886200" y="2411280"/>
              <a:ext cx="44956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3x</a:t>
              </a:r>
              <a:r>
                <a:rPr b="0" lang="en-US" sz="4800" spc="-1" strike="noStrike" baseline="30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 + 2xy + 5y</a:t>
              </a:r>
              <a:r>
                <a:rPr b="0" lang="en-US" sz="4800" spc="-1" strike="noStrike" baseline="30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1" name=""/>
          <p:cNvSpPr/>
          <p:nvPr/>
        </p:nvSpPr>
        <p:spPr>
          <a:xfrm>
            <a:off x="685800" y="5029200"/>
            <a:ext cx="784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3(</a:t>
            </a:r>
            <a:r>
              <a:rPr b="0" lang="en-US" sz="5400" spc="-1" strike="noStrike">
                <a:solidFill>
                  <a:srgbClr val="3333ff"/>
                </a:solidFill>
                <a:latin typeface="Comic Sans MS"/>
              </a:rPr>
              <a:t>3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US" sz="5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 + 2(</a:t>
            </a:r>
            <a:r>
              <a:rPr b="0" lang="en-US" sz="5400" spc="-1" strike="noStrike">
                <a:solidFill>
                  <a:srgbClr val="3333ff"/>
                </a:solidFill>
                <a:latin typeface="Comic Sans MS"/>
              </a:rPr>
              <a:t>3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)(</a:t>
            </a:r>
            <a:r>
              <a:rPr b="0" lang="en-US" sz="5400" spc="-1" strike="noStrike">
                <a:solidFill>
                  <a:srgbClr val="6600cc"/>
                </a:solidFill>
                <a:latin typeface="Comic Sans MS"/>
              </a:rPr>
              <a:t>-2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) + 5(</a:t>
            </a:r>
            <a:r>
              <a:rPr b="0" lang="en-US" sz="5400" spc="-1" strike="noStrike">
                <a:solidFill>
                  <a:srgbClr val="6600cc"/>
                </a:solidFill>
                <a:latin typeface="Comic Sans MS"/>
              </a:rPr>
              <a:t>-2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US" sz="5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2" name=""/>
          <p:cNvGrpSpPr/>
          <p:nvPr/>
        </p:nvGrpSpPr>
        <p:grpSpPr>
          <a:xfrm>
            <a:off x="353160" y="1228680"/>
            <a:ext cx="3172320" cy="1200240"/>
            <a:chOff x="353160" y="1228680"/>
            <a:chExt cx="3172320" cy="1200240"/>
          </a:xfrm>
        </p:grpSpPr>
        <p:sp>
          <p:nvSpPr>
            <p:cNvPr id="343" name=""/>
            <p:cNvSpPr/>
            <p:nvPr/>
          </p:nvSpPr>
          <p:spPr>
            <a:xfrm rot="20897400">
              <a:off x="384120" y="1523520"/>
              <a:ext cx="2971800" cy="609840"/>
            </a:xfrm>
            <a:prstGeom prst="roundRect">
              <a:avLst>
                <a:gd name="adj" fmla="val 16667"/>
              </a:avLst>
            </a:prstGeom>
            <a:solidFill>
              <a:srgbClr val="ff99cc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rot="20897400">
              <a:off x="380880" y="1562040"/>
              <a:ext cx="3124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Another exampl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/>
          <p:nvPr/>
        </p:nvSpPr>
        <p:spPr>
          <a:xfrm>
            <a:off x="2514600" y="609480"/>
            <a:ext cx="441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valuating Express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066680" y="1600200"/>
            <a:ext cx="7010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3(</a:t>
            </a:r>
            <a:r>
              <a:rPr b="0" lang="en-US" sz="4800" spc="-1" strike="noStrike">
                <a:solidFill>
                  <a:srgbClr val="3333ff"/>
                </a:solidFill>
                <a:latin typeface="Comic Sans MS"/>
              </a:rPr>
              <a:t>3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US" sz="4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 + 2(</a:t>
            </a:r>
            <a:r>
              <a:rPr b="0" lang="en-US" sz="4800" spc="-1" strike="noStrike">
                <a:solidFill>
                  <a:srgbClr val="3333ff"/>
                </a:solidFill>
                <a:latin typeface="Comic Sans MS"/>
              </a:rPr>
              <a:t>3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)(</a:t>
            </a:r>
            <a:r>
              <a:rPr b="0" lang="en-US" sz="4800" spc="-1" strike="noStrike">
                <a:solidFill>
                  <a:srgbClr val="6600cc"/>
                </a:solidFill>
                <a:latin typeface="Comic Sans MS"/>
              </a:rPr>
              <a:t>-2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) + 5(</a:t>
            </a:r>
            <a:r>
              <a:rPr b="0" lang="en-US" sz="4800" spc="-1" strike="noStrike">
                <a:solidFill>
                  <a:srgbClr val="6600cc"/>
                </a:solidFill>
                <a:latin typeface="Comic Sans MS"/>
              </a:rPr>
              <a:t>-2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US" sz="4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066680" y="2895480"/>
            <a:ext cx="7010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3(9)   + 2(-6)     + 5(4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990720" y="4038480"/>
            <a:ext cx="6933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27 +    (-12)      + 2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3429000" y="5105520"/>
            <a:ext cx="2438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=  </a:t>
            </a:r>
            <a:r>
              <a:rPr b="0" lang="en-US" sz="7200" spc="-1" strike="noStrike">
                <a:solidFill>
                  <a:srgbClr val="006600"/>
                </a:solidFill>
                <a:latin typeface="Comic Sans MS"/>
              </a:rPr>
              <a:t>35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 rot="5400000">
            <a:off x="1943280" y="2095560"/>
            <a:ext cx="304560" cy="838080"/>
          </a:xfrm>
          <a:custGeom>
            <a:avLst/>
            <a:gdLst>
              <a:gd name="textAreaLeft" fmla="*/ 0 w 304560"/>
              <a:gd name="textAreaRight" fmla="*/ 109800 w 30456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rot="5400000">
            <a:off x="4419000" y="1981080"/>
            <a:ext cx="457200" cy="1066680"/>
          </a:xfrm>
          <a:custGeom>
            <a:avLst/>
            <a:gdLst>
              <a:gd name="textAreaLeft" fmla="*/ 0 w 457200"/>
              <a:gd name="textAreaRight" fmla="*/ 164880 w 4572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 rot="5400000">
            <a:off x="7162920" y="1981080"/>
            <a:ext cx="380880" cy="990720"/>
          </a:xfrm>
          <a:custGeom>
            <a:avLst/>
            <a:gdLst>
              <a:gd name="textAreaLeft" fmla="*/ 0 w 380880"/>
              <a:gd name="textAreaRight" fmla="*/ 137520 w 38088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 rot="5400000">
            <a:off x="1675800" y="3352680"/>
            <a:ext cx="457200" cy="1066680"/>
          </a:xfrm>
          <a:custGeom>
            <a:avLst/>
            <a:gdLst>
              <a:gd name="textAreaLeft" fmla="*/ 0 w 457200"/>
              <a:gd name="textAreaRight" fmla="*/ 164880 w 4572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 rot="5400000">
            <a:off x="4114800" y="3276360"/>
            <a:ext cx="457200" cy="1067040"/>
          </a:xfrm>
          <a:custGeom>
            <a:avLst/>
            <a:gdLst>
              <a:gd name="textAreaLeft" fmla="*/ 0 w 457200"/>
              <a:gd name="textAreaRight" fmla="*/ 164880 w 4572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rot="5400000">
            <a:off x="6895800" y="3238200"/>
            <a:ext cx="381240" cy="1067040"/>
          </a:xfrm>
          <a:custGeom>
            <a:avLst/>
            <a:gdLst>
              <a:gd name="textAreaLeft" fmla="*/ 0 w 381240"/>
              <a:gd name="textAreaRight" fmla="*/ 137520 w 38124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3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2514600" y="685800"/>
            <a:ext cx="441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valuating Express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7" name=""/>
          <p:cNvGrpSpPr/>
          <p:nvPr/>
        </p:nvGrpSpPr>
        <p:grpSpPr>
          <a:xfrm>
            <a:off x="1143000" y="4495680"/>
            <a:ext cx="5181120" cy="1830240"/>
            <a:chOff x="1143000" y="4495680"/>
            <a:chExt cx="5181120" cy="1830240"/>
          </a:xfrm>
        </p:grpSpPr>
        <p:grpSp>
          <p:nvGrpSpPr>
            <p:cNvPr id="358" name=""/>
            <p:cNvGrpSpPr/>
            <p:nvPr/>
          </p:nvGrpSpPr>
          <p:grpSpPr>
            <a:xfrm>
              <a:off x="2057040" y="4495680"/>
              <a:ext cx="4267080" cy="1830240"/>
              <a:chOff x="2057040" y="4495680"/>
              <a:chExt cx="4267080" cy="1830240"/>
            </a:xfrm>
          </p:grpSpPr>
          <p:sp>
            <p:nvSpPr>
              <p:cNvPr id="359" name=""/>
              <p:cNvSpPr/>
              <p:nvPr/>
            </p:nvSpPr>
            <p:spPr>
              <a:xfrm>
                <a:off x="2209320" y="4495680"/>
                <a:ext cx="388584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9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800" spc="-1" strike="noStrike">
                    <a:solidFill>
                      <a:srgbClr val="000000"/>
                    </a:solidFill>
                    <a:latin typeface="Comic Sans MS"/>
                  </a:rPr>
                  <a:t>(</a:t>
                </a:r>
                <a:r>
                  <a:rPr b="0" lang="en-US" sz="4800" spc="-1" strike="noStrike">
                    <a:solidFill>
                      <a:srgbClr val="3333ff"/>
                    </a:solidFill>
                    <a:latin typeface="Comic Sans MS"/>
                  </a:rPr>
                  <a:t>4</a:t>
                </a:r>
                <a:r>
                  <a:rPr b="0" lang="en-US" sz="4800" spc="-1" strike="noStrike">
                    <a:solidFill>
                      <a:srgbClr val="000000"/>
                    </a:solidFill>
                    <a:latin typeface="Comic Sans MS"/>
                  </a:rPr>
                  <a:t>)</a:t>
                </a:r>
                <a:r>
                  <a:rPr b="0" lang="en-US" sz="4800" spc="-1" strike="noStrike" baseline="30000">
                    <a:solidFill>
                      <a:srgbClr val="000000"/>
                    </a:solidFill>
                    <a:latin typeface="Comic Sans MS"/>
                  </a:rPr>
                  <a:t>2</a:t>
                </a:r>
                <a:r>
                  <a:rPr b="0" lang="en-US" sz="4800" spc="-1" strike="noStrike">
                    <a:solidFill>
                      <a:srgbClr val="000000"/>
                    </a:solidFill>
                    <a:latin typeface="Comic Sans MS"/>
                  </a:rPr>
                  <a:t> + (</a:t>
                </a:r>
                <a:r>
                  <a:rPr b="0" lang="en-US" sz="4800" spc="-1" strike="noStrike">
                    <a:solidFill>
                      <a:srgbClr val="6600cc"/>
                    </a:solidFill>
                    <a:latin typeface="Comic Sans MS"/>
                  </a:rPr>
                  <a:t>6</a:t>
                </a:r>
                <a:r>
                  <a:rPr b="0" lang="en-US" sz="4800" spc="-1" strike="noStrike">
                    <a:solidFill>
                      <a:srgbClr val="000000"/>
                    </a:solidFill>
                    <a:latin typeface="Comic Sans MS"/>
                  </a:rPr>
                  <a:t>)</a:t>
                </a:r>
                <a:r>
                  <a:rPr b="0" lang="en-US" sz="4800" spc="-1" strike="noStrike" baseline="30000">
                    <a:solidFill>
                      <a:srgbClr val="000000"/>
                    </a:solidFill>
                    <a:latin typeface="Comic Sans MS"/>
                  </a:rPr>
                  <a:t>2</a:t>
                </a:r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2057040" y="5500800"/>
                <a:ext cx="426708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9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800" spc="-1" strike="noStrike">
                    <a:solidFill>
                      <a:srgbClr val="000000"/>
                    </a:solidFill>
                    <a:latin typeface="Comic Sans MS"/>
                  </a:rPr>
                  <a:t>(</a:t>
                </a:r>
                <a:r>
                  <a:rPr b="0" lang="en-US" sz="4800" spc="-1" strike="noStrike">
                    <a:solidFill>
                      <a:srgbClr val="3333ff"/>
                    </a:solidFill>
                    <a:latin typeface="Comic Sans MS"/>
                  </a:rPr>
                  <a:t>4</a:t>
                </a:r>
                <a:r>
                  <a:rPr b="0" lang="en-US" sz="4800" spc="-1" strike="noStrike">
                    <a:solidFill>
                      <a:srgbClr val="000000"/>
                    </a:solidFill>
                    <a:latin typeface="Comic Sans MS"/>
                  </a:rPr>
                  <a:t>)</a:t>
                </a:r>
                <a:r>
                  <a:rPr b="0" lang="en-US" sz="4800" spc="-1" strike="noStrike" baseline="30000">
                    <a:solidFill>
                      <a:srgbClr val="000000"/>
                    </a:solidFill>
                    <a:latin typeface="Comic Sans MS"/>
                  </a:rPr>
                  <a:t>2</a:t>
                </a:r>
                <a:r>
                  <a:rPr b="0" lang="en-US" sz="4800" spc="-1" strike="noStrike">
                    <a:solidFill>
                      <a:srgbClr val="000000"/>
                    </a:solidFill>
                    <a:latin typeface="Comic Sans MS"/>
                  </a:rPr>
                  <a:t> - (</a:t>
                </a:r>
                <a:r>
                  <a:rPr b="0" lang="en-US" sz="4800" spc="-1" strike="noStrike">
                    <a:solidFill>
                      <a:srgbClr val="6600cc"/>
                    </a:solidFill>
                    <a:latin typeface="Comic Sans MS"/>
                  </a:rPr>
                  <a:t>6</a:t>
                </a:r>
                <a:r>
                  <a:rPr b="0" lang="en-US" sz="4800" spc="-1" strike="noStrike">
                    <a:solidFill>
                      <a:srgbClr val="000000"/>
                    </a:solidFill>
                    <a:latin typeface="Comic Sans MS"/>
                  </a:rPr>
                  <a:t>)</a:t>
                </a:r>
                <a:r>
                  <a:rPr b="0" lang="en-US" sz="4800" spc="-1" strike="noStrike" baseline="30000">
                    <a:solidFill>
                      <a:srgbClr val="000000"/>
                    </a:solidFill>
                    <a:latin typeface="Comic Sans MS"/>
                  </a:rPr>
                  <a:t>2</a:t>
                </a:r>
                <a:r>
                  <a:rPr b="0" lang="en-US" sz="4800" spc="-1" strike="noStrike">
                    <a:solidFill>
                      <a:srgbClr val="000000"/>
                    </a:solidFill>
                    <a:latin typeface="Comic Sans MS"/>
                  </a:rPr>
                  <a:t> - 6</a:t>
                </a:r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2057040" y="5410080"/>
                <a:ext cx="4190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2" name=""/>
            <p:cNvSpPr/>
            <p:nvPr/>
          </p:nvSpPr>
          <p:spPr>
            <a:xfrm>
              <a:off x="1143000" y="4966920"/>
              <a:ext cx="1371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3" name=""/>
          <p:cNvGrpSpPr/>
          <p:nvPr/>
        </p:nvGrpSpPr>
        <p:grpSpPr>
          <a:xfrm>
            <a:off x="1143000" y="2022480"/>
            <a:ext cx="7696080" cy="1587240"/>
            <a:chOff x="1143000" y="2022480"/>
            <a:chExt cx="7696080" cy="1587240"/>
          </a:xfrm>
        </p:grpSpPr>
        <p:sp>
          <p:nvSpPr>
            <p:cNvPr id="364" name=""/>
            <p:cNvSpPr/>
            <p:nvPr/>
          </p:nvSpPr>
          <p:spPr>
            <a:xfrm>
              <a:off x="6400800" y="2098440"/>
              <a:ext cx="243828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for</a:t>
              </a: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 x = </a:t>
              </a:r>
              <a:r>
                <a:rPr b="0" lang="en-US" sz="4000" spc="-1" strike="noStrike">
                  <a:solidFill>
                    <a:srgbClr val="3333ff"/>
                  </a:solidFill>
                  <a:latin typeface="Comic Sans MS"/>
                </a:rPr>
                <a:t>4 </a:t>
              </a: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and</a:t>
              </a: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 y = </a:t>
              </a:r>
              <a:r>
                <a:rPr b="0" lang="en-US" sz="4000" spc="-1" strike="noStrike">
                  <a:solidFill>
                    <a:srgbClr val="6600cc"/>
                  </a:solidFill>
                  <a:latin typeface="Comic Sans MS"/>
                </a:rPr>
                <a:t>6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5" name=""/>
            <p:cNvGrpSpPr/>
            <p:nvPr/>
          </p:nvGrpSpPr>
          <p:grpSpPr>
            <a:xfrm>
              <a:off x="2895480" y="2022480"/>
              <a:ext cx="3429000" cy="1587240"/>
              <a:chOff x="2895480" y="2022480"/>
              <a:chExt cx="3429000" cy="1587240"/>
            </a:xfrm>
          </p:grpSpPr>
          <p:sp>
            <p:nvSpPr>
              <p:cNvPr id="366" name=""/>
              <p:cNvSpPr/>
              <p:nvPr/>
            </p:nvSpPr>
            <p:spPr>
              <a:xfrm>
                <a:off x="2895480" y="2784600"/>
                <a:ext cx="335268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9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800" spc="-1" strike="noStrike">
                    <a:solidFill>
                      <a:srgbClr val="000000"/>
                    </a:solidFill>
                    <a:latin typeface="Comic Sans MS"/>
                  </a:rPr>
                  <a:t>x</a:t>
                </a:r>
                <a:r>
                  <a:rPr b="0" lang="en-US" sz="4800" spc="-1" strike="noStrike" baseline="30000">
                    <a:solidFill>
                      <a:srgbClr val="000000"/>
                    </a:solidFill>
                    <a:latin typeface="Comic Sans MS"/>
                  </a:rPr>
                  <a:t>2</a:t>
                </a:r>
                <a:r>
                  <a:rPr b="0" lang="en-US" sz="4800" spc="-1" strike="noStrike">
                    <a:solidFill>
                      <a:srgbClr val="000000"/>
                    </a:solidFill>
                    <a:latin typeface="Comic Sans MS"/>
                  </a:rPr>
                  <a:t> - y</a:t>
                </a:r>
                <a:r>
                  <a:rPr b="0" lang="en-US" sz="4800" spc="-1" strike="noStrike" baseline="30000">
                    <a:solidFill>
                      <a:srgbClr val="000000"/>
                    </a:solidFill>
                    <a:latin typeface="Comic Sans MS"/>
                  </a:rPr>
                  <a:t>2</a:t>
                </a:r>
                <a:r>
                  <a:rPr b="0" lang="en-US" sz="4800" spc="-1" strike="noStrike">
                    <a:solidFill>
                      <a:srgbClr val="000000"/>
                    </a:solidFill>
                    <a:latin typeface="Comic Sans MS"/>
                  </a:rPr>
                  <a:t> - 6</a:t>
                </a:r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2971800" y="2022480"/>
                <a:ext cx="335268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9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800" spc="-1" strike="noStrike">
                    <a:solidFill>
                      <a:srgbClr val="000000"/>
                    </a:solidFill>
                    <a:latin typeface="Comic Sans MS"/>
                  </a:rPr>
                  <a:t>x</a:t>
                </a:r>
                <a:r>
                  <a:rPr b="0" lang="en-US" sz="4800" spc="-1" strike="noStrike" baseline="30000">
                    <a:solidFill>
                      <a:srgbClr val="000000"/>
                    </a:solidFill>
                    <a:latin typeface="Comic Sans MS"/>
                  </a:rPr>
                  <a:t>2</a:t>
                </a:r>
                <a:r>
                  <a:rPr b="0" lang="en-US" sz="4800" spc="-1" strike="noStrike">
                    <a:solidFill>
                      <a:srgbClr val="000000"/>
                    </a:solidFill>
                    <a:latin typeface="Comic Sans MS"/>
                  </a:rPr>
                  <a:t> + y</a:t>
                </a:r>
                <a:r>
                  <a:rPr b="0" lang="en-US" sz="4800" spc="-1" strike="noStrike" baseline="30000">
                    <a:solidFill>
                      <a:srgbClr val="000000"/>
                    </a:solidFill>
                    <a:latin typeface="Comic Sans MS"/>
                  </a:rPr>
                  <a:t>2</a:t>
                </a:r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3047760" y="2860560"/>
                <a:ext cx="3048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9" name=""/>
            <p:cNvSpPr/>
            <p:nvPr/>
          </p:nvSpPr>
          <p:spPr>
            <a:xfrm>
              <a:off x="1143000" y="2250720"/>
              <a:ext cx="2286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Evaluate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0" name=""/>
          <p:cNvSpPr/>
          <p:nvPr/>
        </p:nvSpPr>
        <p:spPr>
          <a:xfrm>
            <a:off x="1295280" y="3699000"/>
            <a:ext cx="609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ubstitute values for x and 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1" name=""/>
          <p:cNvGrpSpPr/>
          <p:nvPr/>
        </p:nvGrpSpPr>
        <p:grpSpPr>
          <a:xfrm>
            <a:off x="277200" y="1228680"/>
            <a:ext cx="3172320" cy="1200240"/>
            <a:chOff x="277200" y="1228680"/>
            <a:chExt cx="3172320" cy="1200240"/>
          </a:xfrm>
        </p:grpSpPr>
        <p:sp>
          <p:nvSpPr>
            <p:cNvPr id="372" name=""/>
            <p:cNvSpPr/>
            <p:nvPr/>
          </p:nvSpPr>
          <p:spPr>
            <a:xfrm rot="20897400">
              <a:off x="308160" y="1523520"/>
              <a:ext cx="2971800" cy="609840"/>
            </a:xfrm>
            <a:prstGeom prst="roundRect">
              <a:avLst>
                <a:gd name="adj" fmla="val 16667"/>
              </a:avLst>
            </a:prstGeom>
            <a:solidFill>
              <a:srgbClr val="ff99cc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 rot="20897400">
              <a:off x="304920" y="1562040"/>
              <a:ext cx="3124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Another exampl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1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/>
          <p:nvPr/>
        </p:nvSpPr>
        <p:spPr>
          <a:xfrm>
            <a:off x="2514600" y="685800"/>
            <a:ext cx="441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valuating Express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5" name=""/>
          <p:cNvGrpSpPr/>
          <p:nvPr/>
        </p:nvGrpSpPr>
        <p:grpSpPr>
          <a:xfrm>
            <a:off x="1981080" y="1752480"/>
            <a:ext cx="5029200" cy="1525320"/>
            <a:chOff x="1981080" y="1752480"/>
            <a:chExt cx="5029200" cy="1525320"/>
          </a:xfrm>
        </p:grpSpPr>
        <p:sp>
          <p:nvSpPr>
            <p:cNvPr id="376" name=""/>
            <p:cNvSpPr/>
            <p:nvPr/>
          </p:nvSpPr>
          <p:spPr>
            <a:xfrm>
              <a:off x="2530440" y="2452680"/>
              <a:ext cx="44798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3333ff"/>
                  </a:solidFill>
                  <a:latin typeface="Comic Sans MS"/>
                </a:rPr>
                <a:t>16</a:t>
              </a: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 – </a:t>
              </a:r>
              <a:r>
                <a:rPr b="0" lang="en-US" sz="4800" spc="-1" strike="noStrike">
                  <a:solidFill>
                    <a:srgbClr val="6600cc"/>
                  </a:solidFill>
                  <a:latin typeface="Comic Sans MS"/>
                </a:rPr>
                <a:t>36</a:t>
              </a: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 - 6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941560" y="1752480"/>
              <a:ext cx="36576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3333ff"/>
                  </a:solidFill>
                  <a:latin typeface="Comic Sans MS"/>
                </a:rPr>
                <a:t>16</a:t>
              </a: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 + </a:t>
              </a:r>
              <a:r>
                <a:rPr b="0" lang="en-US" sz="4800" spc="-1" strike="noStrike">
                  <a:solidFill>
                    <a:srgbClr val="6600cc"/>
                  </a:solidFill>
                  <a:latin typeface="Comic Sans MS"/>
                </a:rPr>
                <a:t>36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200400" y="2590920"/>
              <a:ext cx="3535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981080" y="2057400"/>
              <a:ext cx="11890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0" name=""/>
          <p:cNvGrpSpPr/>
          <p:nvPr/>
        </p:nvGrpSpPr>
        <p:grpSpPr>
          <a:xfrm>
            <a:off x="2286000" y="3824280"/>
            <a:ext cx="2427120" cy="1510920"/>
            <a:chOff x="2286000" y="3824280"/>
            <a:chExt cx="2427120" cy="1510920"/>
          </a:xfrm>
        </p:grpSpPr>
        <p:sp>
          <p:nvSpPr>
            <p:cNvPr id="381" name=""/>
            <p:cNvSpPr/>
            <p:nvPr/>
          </p:nvSpPr>
          <p:spPr>
            <a:xfrm>
              <a:off x="2930400" y="3824280"/>
              <a:ext cx="17827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52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2930400" y="4510080"/>
              <a:ext cx="17827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-26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124080" y="4648320"/>
              <a:ext cx="1371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286000" y="4129200"/>
              <a:ext cx="7920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5" name=""/>
          <p:cNvSpPr/>
          <p:nvPr/>
        </p:nvSpPr>
        <p:spPr>
          <a:xfrm>
            <a:off x="4800600" y="3962520"/>
            <a:ext cx="2019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lang="en-US" sz="7200" spc="-1" strike="noStrike">
                <a:solidFill>
                  <a:srgbClr val="006600"/>
                </a:solidFill>
                <a:latin typeface="Comic Sans MS"/>
              </a:rPr>
              <a:t>-2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24080" y="60948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e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533520" y="2895480"/>
            <a:ext cx="2361960" cy="2971800"/>
            <a:chOff x="533520" y="2895480"/>
            <a:chExt cx="2361960" cy="2971800"/>
          </a:xfrm>
        </p:grpSpPr>
        <p:sp>
          <p:nvSpPr>
            <p:cNvPr id="45" name=""/>
            <p:cNvSpPr/>
            <p:nvPr/>
          </p:nvSpPr>
          <p:spPr>
            <a:xfrm>
              <a:off x="533520" y="2895480"/>
              <a:ext cx="2361960" cy="297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542160" y="2907720"/>
              <a:ext cx="2344320" cy="2946960"/>
            </a:xfrm>
            <a:custGeom>
              <a:avLst/>
              <a:gdLst/>
              <a:ahLst/>
              <a:rect l="l" t="t" r="r" b="b"/>
              <a:pathLst>
                <a:path w="61339" h="54893">
                  <a:moveTo>
                    <a:pt x="20369" y="694"/>
                  </a:moveTo>
                  <a:lnTo>
                    <a:pt x="20485" y="579"/>
                  </a:lnTo>
                  <a:lnTo>
                    <a:pt x="20485" y="463"/>
                  </a:lnTo>
                  <a:lnTo>
                    <a:pt x="20601" y="463"/>
                  </a:lnTo>
                  <a:lnTo>
                    <a:pt x="20717" y="347"/>
                  </a:lnTo>
                  <a:lnTo>
                    <a:pt x="20832" y="347"/>
                  </a:lnTo>
                  <a:lnTo>
                    <a:pt x="20948" y="347"/>
                  </a:lnTo>
                  <a:lnTo>
                    <a:pt x="21064" y="231"/>
                  </a:lnTo>
                  <a:lnTo>
                    <a:pt x="21179" y="231"/>
                  </a:lnTo>
                  <a:lnTo>
                    <a:pt x="21179" y="231"/>
                  </a:lnTo>
                  <a:lnTo>
                    <a:pt x="21411" y="231"/>
                  </a:lnTo>
                  <a:lnTo>
                    <a:pt x="21527" y="347"/>
                  </a:lnTo>
                  <a:lnTo>
                    <a:pt x="21758" y="463"/>
                  </a:lnTo>
                  <a:lnTo>
                    <a:pt x="21990" y="579"/>
                  </a:lnTo>
                  <a:lnTo>
                    <a:pt x="22105" y="694"/>
                  </a:lnTo>
                  <a:lnTo>
                    <a:pt x="22221" y="810"/>
                  </a:lnTo>
                  <a:lnTo>
                    <a:pt x="22453" y="1042"/>
                  </a:lnTo>
                  <a:lnTo>
                    <a:pt x="22568" y="1274"/>
                  </a:lnTo>
                  <a:lnTo>
                    <a:pt x="22568" y="1274"/>
                  </a:lnTo>
                  <a:lnTo>
                    <a:pt x="22684" y="1158"/>
                  </a:lnTo>
                  <a:lnTo>
                    <a:pt x="22915" y="1042"/>
                  </a:lnTo>
                  <a:lnTo>
                    <a:pt x="23031" y="1042"/>
                  </a:lnTo>
                  <a:lnTo>
                    <a:pt x="23147" y="1042"/>
                  </a:lnTo>
                  <a:lnTo>
                    <a:pt x="23378" y="1042"/>
                  </a:lnTo>
                  <a:lnTo>
                    <a:pt x="23494" y="1042"/>
                  </a:lnTo>
                  <a:lnTo>
                    <a:pt x="23726" y="1042"/>
                  </a:lnTo>
                  <a:lnTo>
                    <a:pt x="23841" y="1158"/>
                  </a:lnTo>
                  <a:lnTo>
                    <a:pt x="23841" y="1158"/>
                  </a:lnTo>
                  <a:lnTo>
                    <a:pt x="23957" y="1158"/>
                  </a:lnTo>
                  <a:lnTo>
                    <a:pt x="24188" y="1274"/>
                  </a:lnTo>
                  <a:lnTo>
                    <a:pt x="24304" y="1389"/>
                  </a:lnTo>
                  <a:lnTo>
                    <a:pt x="24420" y="1505"/>
                  </a:lnTo>
                  <a:lnTo>
                    <a:pt x="24536" y="1621"/>
                  </a:lnTo>
                  <a:lnTo>
                    <a:pt x="24651" y="1621"/>
                  </a:lnTo>
                  <a:lnTo>
                    <a:pt x="24767" y="1621"/>
                  </a:lnTo>
                  <a:lnTo>
                    <a:pt x="24999" y="1389"/>
                  </a:lnTo>
                  <a:lnTo>
                    <a:pt x="24999" y="1389"/>
                  </a:lnTo>
                  <a:lnTo>
                    <a:pt x="25114" y="1389"/>
                  </a:lnTo>
                  <a:lnTo>
                    <a:pt x="25346" y="1505"/>
                  </a:lnTo>
                  <a:lnTo>
                    <a:pt x="25462" y="1505"/>
                  </a:lnTo>
                  <a:lnTo>
                    <a:pt x="25577" y="1621"/>
                  </a:lnTo>
                  <a:lnTo>
                    <a:pt x="25693" y="1737"/>
                  </a:lnTo>
                  <a:lnTo>
                    <a:pt x="25809" y="1853"/>
                  </a:lnTo>
                  <a:lnTo>
                    <a:pt x="25924" y="1968"/>
                  </a:lnTo>
                  <a:lnTo>
                    <a:pt x="26040" y="1968"/>
                  </a:lnTo>
                  <a:lnTo>
                    <a:pt x="26040" y="1968"/>
                  </a:lnTo>
                  <a:lnTo>
                    <a:pt x="26272" y="1968"/>
                  </a:lnTo>
                  <a:lnTo>
                    <a:pt x="26503" y="1853"/>
                  </a:lnTo>
                  <a:lnTo>
                    <a:pt x="26735" y="1853"/>
                  </a:lnTo>
                  <a:lnTo>
                    <a:pt x="26966" y="1737"/>
                  </a:lnTo>
                  <a:lnTo>
                    <a:pt x="27082" y="1737"/>
                  </a:lnTo>
                  <a:lnTo>
                    <a:pt x="27313" y="1737"/>
                  </a:lnTo>
                  <a:lnTo>
                    <a:pt x="27545" y="1853"/>
                  </a:lnTo>
                  <a:lnTo>
                    <a:pt x="27660" y="1968"/>
                  </a:lnTo>
                  <a:lnTo>
                    <a:pt x="27660" y="1968"/>
                  </a:lnTo>
                  <a:lnTo>
                    <a:pt x="28123" y="2316"/>
                  </a:lnTo>
                  <a:lnTo>
                    <a:pt x="28123" y="2316"/>
                  </a:lnTo>
                  <a:lnTo>
                    <a:pt x="28239" y="2084"/>
                  </a:lnTo>
                  <a:lnTo>
                    <a:pt x="28471" y="1968"/>
                  </a:lnTo>
                  <a:lnTo>
                    <a:pt x="28586" y="1968"/>
                  </a:lnTo>
                  <a:lnTo>
                    <a:pt x="28818" y="1968"/>
                  </a:lnTo>
                  <a:lnTo>
                    <a:pt x="29049" y="1968"/>
                  </a:lnTo>
                  <a:lnTo>
                    <a:pt x="29281" y="1968"/>
                  </a:lnTo>
                  <a:lnTo>
                    <a:pt x="29512" y="1968"/>
                  </a:lnTo>
                  <a:lnTo>
                    <a:pt x="29744" y="1968"/>
                  </a:lnTo>
                  <a:lnTo>
                    <a:pt x="29744" y="1968"/>
                  </a:lnTo>
                  <a:lnTo>
                    <a:pt x="29859" y="2084"/>
                  </a:lnTo>
                  <a:lnTo>
                    <a:pt x="29975" y="2200"/>
                  </a:lnTo>
                  <a:lnTo>
                    <a:pt x="29975" y="2316"/>
                  </a:lnTo>
                  <a:lnTo>
                    <a:pt x="30091" y="2432"/>
                  </a:lnTo>
                  <a:lnTo>
                    <a:pt x="30207" y="2547"/>
                  </a:lnTo>
                  <a:lnTo>
                    <a:pt x="30322" y="2663"/>
                  </a:lnTo>
                  <a:lnTo>
                    <a:pt x="30438" y="2779"/>
                  </a:lnTo>
                  <a:lnTo>
                    <a:pt x="30554" y="2779"/>
                  </a:lnTo>
                  <a:lnTo>
                    <a:pt x="30554" y="2779"/>
                  </a:lnTo>
                  <a:lnTo>
                    <a:pt x="30670" y="2779"/>
                  </a:lnTo>
                  <a:lnTo>
                    <a:pt x="30785" y="2663"/>
                  </a:lnTo>
                  <a:lnTo>
                    <a:pt x="30901" y="2663"/>
                  </a:lnTo>
                  <a:lnTo>
                    <a:pt x="31132" y="2663"/>
                  </a:lnTo>
                  <a:lnTo>
                    <a:pt x="31248" y="2663"/>
                  </a:lnTo>
                  <a:lnTo>
                    <a:pt x="31364" y="2663"/>
                  </a:lnTo>
                  <a:lnTo>
                    <a:pt x="31595" y="2663"/>
                  </a:lnTo>
                  <a:lnTo>
                    <a:pt x="31711" y="2663"/>
                  </a:lnTo>
                  <a:lnTo>
                    <a:pt x="31711" y="2663"/>
                  </a:lnTo>
                  <a:lnTo>
                    <a:pt x="31943" y="2895"/>
                  </a:lnTo>
                  <a:lnTo>
                    <a:pt x="32058" y="3011"/>
                  </a:lnTo>
                  <a:lnTo>
                    <a:pt x="32174" y="3126"/>
                  </a:lnTo>
                  <a:lnTo>
                    <a:pt x="32290" y="3358"/>
                  </a:lnTo>
                  <a:lnTo>
                    <a:pt x="32521" y="3474"/>
                  </a:lnTo>
                  <a:lnTo>
                    <a:pt x="32637" y="3474"/>
                  </a:lnTo>
                  <a:lnTo>
                    <a:pt x="-32668" y="3474"/>
                  </a:lnTo>
                  <a:lnTo>
                    <a:pt x="-32436" y="3242"/>
                  </a:lnTo>
                  <a:lnTo>
                    <a:pt x="-32436" y="3242"/>
                  </a:lnTo>
                  <a:lnTo>
                    <a:pt x="-32205" y="3242"/>
                  </a:lnTo>
                  <a:lnTo>
                    <a:pt x="-31973" y="3242"/>
                  </a:lnTo>
                  <a:lnTo>
                    <a:pt x="-31626" y="3358"/>
                  </a:lnTo>
                  <a:lnTo>
                    <a:pt x="-31395" y="3474"/>
                  </a:lnTo>
                  <a:lnTo>
                    <a:pt x="-31163" y="3706"/>
                  </a:lnTo>
                  <a:lnTo>
                    <a:pt x="-30932" y="3706"/>
                  </a:lnTo>
                  <a:lnTo>
                    <a:pt x="-30584" y="3821"/>
                  </a:lnTo>
                  <a:lnTo>
                    <a:pt x="-30237" y="3706"/>
                  </a:lnTo>
                  <a:lnTo>
                    <a:pt x="-30237" y="3706"/>
                  </a:lnTo>
                  <a:lnTo>
                    <a:pt x="-30006" y="3821"/>
                  </a:lnTo>
                  <a:lnTo>
                    <a:pt x="-29774" y="3937"/>
                  </a:lnTo>
                  <a:lnTo>
                    <a:pt x="-29543" y="3937"/>
                  </a:lnTo>
                  <a:lnTo>
                    <a:pt x="-29311" y="3937"/>
                  </a:lnTo>
                  <a:lnTo>
                    <a:pt x="-29080" y="3821"/>
                  </a:lnTo>
                  <a:lnTo>
                    <a:pt x="-28733" y="3937"/>
                  </a:lnTo>
                  <a:lnTo>
                    <a:pt x="-28501" y="4053"/>
                  </a:lnTo>
                  <a:lnTo>
                    <a:pt x="-28385" y="4169"/>
                  </a:lnTo>
                  <a:lnTo>
                    <a:pt x="-28385" y="4169"/>
                  </a:lnTo>
                  <a:lnTo>
                    <a:pt x="-28038" y="4169"/>
                  </a:lnTo>
                  <a:lnTo>
                    <a:pt x="-27807" y="4169"/>
                  </a:lnTo>
                  <a:lnTo>
                    <a:pt x="-27575" y="4169"/>
                  </a:lnTo>
                  <a:lnTo>
                    <a:pt x="-27344" y="4285"/>
                  </a:lnTo>
                  <a:lnTo>
                    <a:pt x="-27112" y="4400"/>
                  </a:lnTo>
                  <a:lnTo>
                    <a:pt x="-26881" y="4516"/>
                  </a:lnTo>
                  <a:lnTo>
                    <a:pt x="-26650" y="4516"/>
                  </a:lnTo>
                  <a:lnTo>
                    <a:pt x="-26418" y="4285"/>
                  </a:lnTo>
                  <a:lnTo>
                    <a:pt x="-26418" y="4285"/>
                  </a:lnTo>
                  <a:lnTo>
                    <a:pt x="-26187" y="4400"/>
                  </a:lnTo>
                  <a:lnTo>
                    <a:pt x="-25955" y="4516"/>
                  </a:lnTo>
                  <a:lnTo>
                    <a:pt x="-25724" y="4632"/>
                  </a:lnTo>
                  <a:lnTo>
                    <a:pt x="-25608" y="4748"/>
                  </a:lnTo>
                  <a:lnTo>
                    <a:pt x="-25492" y="4979"/>
                  </a:lnTo>
                  <a:lnTo>
                    <a:pt x="-25376" y="5095"/>
                  </a:lnTo>
                  <a:lnTo>
                    <a:pt x="-25261" y="5327"/>
                  </a:lnTo>
                  <a:lnTo>
                    <a:pt x="-25145" y="5558"/>
                  </a:lnTo>
                  <a:lnTo>
                    <a:pt x="-25145" y="5558"/>
                  </a:lnTo>
                  <a:lnTo>
                    <a:pt x="-25145" y="6022"/>
                  </a:lnTo>
                  <a:lnTo>
                    <a:pt x="-25145" y="6369"/>
                  </a:lnTo>
                  <a:lnTo>
                    <a:pt x="-25376" y="6717"/>
                  </a:lnTo>
                  <a:lnTo>
                    <a:pt x="-25492" y="7064"/>
                  </a:lnTo>
                  <a:lnTo>
                    <a:pt x="-25724" y="7296"/>
                  </a:lnTo>
                  <a:lnTo>
                    <a:pt x="-25839" y="7643"/>
                  </a:lnTo>
                  <a:lnTo>
                    <a:pt x="-25955" y="7990"/>
                  </a:lnTo>
                  <a:lnTo>
                    <a:pt x="-26071" y="8454"/>
                  </a:lnTo>
                  <a:lnTo>
                    <a:pt x="-26071" y="8454"/>
                  </a:lnTo>
                  <a:lnTo>
                    <a:pt x="-26534" y="9959"/>
                  </a:lnTo>
                  <a:lnTo>
                    <a:pt x="-26997" y="11465"/>
                  </a:lnTo>
                  <a:lnTo>
                    <a:pt x="-27344" y="13086"/>
                  </a:lnTo>
                  <a:lnTo>
                    <a:pt x="-27691" y="14707"/>
                  </a:lnTo>
                  <a:lnTo>
                    <a:pt x="-28038" y="16329"/>
                  </a:lnTo>
                  <a:lnTo>
                    <a:pt x="-28270" y="17950"/>
                  </a:lnTo>
                  <a:lnTo>
                    <a:pt x="-28501" y="19571"/>
                  </a:lnTo>
                  <a:lnTo>
                    <a:pt x="-28617" y="21193"/>
                  </a:lnTo>
                  <a:lnTo>
                    <a:pt x="-28617" y="21193"/>
                  </a:lnTo>
                  <a:lnTo>
                    <a:pt x="-28501" y="21309"/>
                  </a:lnTo>
                  <a:lnTo>
                    <a:pt x="-28501" y="21309"/>
                  </a:lnTo>
                  <a:lnTo>
                    <a:pt x="-26650" y="20845"/>
                  </a:lnTo>
                  <a:lnTo>
                    <a:pt x="-24914" y="20498"/>
                  </a:lnTo>
                  <a:lnTo>
                    <a:pt x="-23178" y="20150"/>
                  </a:lnTo>
                  <a:lnTo>
                    <a:pt x="-21326" y="19919"/>
                  </a:lnTo>
                  <a:lnTo>
                    <a:pt x="-19590" y="19571"/>
                  </a:lnTo>
                  <a:lnTo>
                    <a:pt x="-17738" y="19224"/>
                  </a:lnTo>
                  <a:lnTo>
                    <a:pt x="-16002" y="18992"/>
                  </a:lnTo>
                  <a:lnTo>
                    <a:pt x="-14266" y="18645"/>
                  </a:lnTo>
                  <a:lnTo>
                    <a:pt x="-14266" y="18645"/>
                  </a:lnTo>
                  <a:lnTo>
                    <a:pt x="-12993" y="18761"/>
                  </a:lnTo>
                  <a:lnTo>
                    <a:pt x="-11720" y="18877"/>
                  </a:lnTo>
                  <a:lnTo>
                    <a:pt x="-10563" y="18992"/>
                  </a:lnTo>
                  <a:lnTo>
                    <a:pt x="-9290" y="18992"/>
                  </a:lnTo>
                  <a:lnTo>
                    <a:pt x="-8017" y="19108"/>
                  </a:lnTo>
                  <a:lnTo>
                    <a:pt x="-6859" y="19224"/>
                  </a:lnTo>
                  <a:lnTo>
                    <a:pt x="-5586" y="19340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803"/>
                  </a:lnTo>
                  <a:lnTo>
                    <a:pt x="-4197" y="19803"/>
                  </a:lnTo>
                  <a:lnTo>
                    <a:pt x="-4313" y="19803"/>
                  </a:lnTo>
                  <a:lnTo>
                    <a:pt x="-4313" y="19803"/>
                  </a:lnTo>
                  <a:lnTo>
                    <a:pt x="-17044" y="25246"/>
                  </a:lnTo>
                  <a:lnTo>
                    <a:pt x="-17044" y="25246"/>
                  </a:lnTo>
                  <a:lnTo>
                    <a:pt x="-17159" y="25246"/>
                  </a:lnTo>
                  <a:lnTo>
                    <a:pt x="-17391" y="25246"/>
                  </a:lnTo>
                  <a:lnTo>
                    <a:pt x="-17622" y="25362"/>
                  </a:lnTo>
                  <a:lnTo>
                    <a:pt x="-17854" y="25362"/>
                  </a:lnTo>
                  <a:lnTo>
                    <a:pt x="-17970" y="25478"/>
                  </a:lnTo>
                  <a:lnTo>
                    <a:pt x="-18201" y="25478"/>
                  </a:lnTo>
                  <a:lnTo>
                    <a:pt x="-18317" y="25478"/>
                  </a:lnTo>
                  <a:lnTo>
                    <a:pt x="-18548" y="25594"/>
                  </a:lnTo>
                  <a:lnTo>
                    <a:pt x="-18548" y="25594"/>
                  </a:lnTo>
                  <a:lnTo>
                    <a:pt x="-18548" y="25941"/>
                  </a:lnTo>
                  <a:lnTo>
                    <a:pt x="-18664" y="26288"/>
                  </a:lnTo>
                  <a:lnTo>
                    <a:pt x="-18895" y="26636"/>
                  </a:lnTo>
                  <a:lnTo>
                    <a:pt x="-19127" y="26983"/>
                  </a:lnTo>
                  <a:lnTo>
                    <a:pt x="-19358" y="27215"/>
                  </a:lnTo>
                  <a:lnTo>
                    <a:pt x="-19706" y="27562"/>
                  </a:lnTo>
                  <a:lnTo>
                    <a:pt x="-19937" y="27794"/>
                  </a:lnTo>
                  <a:lnTo>
                    <a:pt x="-20284" y="28026"/>
                  </a:lnTo>
                  <a:lnTo>
                    <a:pt x="-20284" y="28026"/>
                  </a:lnTo>
                  <a:lnTo>
                    <a:pt x="-20631" y="28141"/>
                  </a:lnTo>
                  <a:lnTo>
                    <a:pt x="-20863" y="28257"/>
                  </a:lnTo>
                  <a:lnTo>
                    <a:pt x="-21094" y="28373"/>
                  </a:lnTo>
                  <a:lnTo>
                    <a:pt x="-21442" y="28373"/>
                  </a:lnTo>
                  <a:lnTo>
                    <a:pt x="-21673" y="28489"/>
                  </a:lnTo>
                  <a:lnTo>
                    <a:pt x="-22020" y="28489"/>
                  </a:lnTo>
                  <a:lnTo>
                    <a:pt x="-22252" y="28373"/>
                  </a:lnTo>
                  <a:lnTo>
                    <a:pt x="-22483" y="28141"/>
                  </a:lnTo>
                  <a:lnTo>
                    <a:pt x="-22483" y="28141"/>
                  </a:lnTo>
                  <a:lnTo>
                    <a:pt x="-22715" y="28257"/>
                  </a:lnTo>
                  <a:lnTo>
                    <a:pt x="-22830" y="28373"/>
                  </a:lnTo>
                  <a:lnTo>
                    <a:pt x="-23062" y="28489"/>
                  </a:lnTo>
                  <a:lnTo>
                    <a:pt x="-23293" y="28605"/>
                  </a:lnTo>
                  <a:lnTo>
                    <a:pt x="-23409" y="28605"/>
                  </a:lnTo>
                  <a:lnTo>
                    <a:pt x="-23640" y="28720"/>
                  </a:lnTo>
                  <a:lnTo>
                    <a:pt x="-23872" y="28720"/>
                  </a:lnTo>
                  <a:lnTo>
                    <a:pt x="-24103" y="28605"/>
                  </a:lnTo>
                  <a:lnTo>
                    <a:pt x="-24103" y="28605"/>
                  </a:lnTo>
                  <a:lnTo>
                    <a:pt x="-24335" y="28952"/>
                  </a:lnTo>
                  <a:lnTo>
                    <a:pt x="-24566" y="29184"/>
                  </a:lnTo>
                  <a:lnTo>
                    <a:pt x="-24798" y="29299"/>
                  </a:lnTo>
                  <a:lnTo>
                    <a:pt x="-25145" y="29415"/>
                  </a:lnTo>
                  <a:lnTo>
                    <a:pt x="-25376" y="29531"/>
                  </a:lnTo>
                  <a:lnTo>
                    <a:pt x="-25724" y="29531"/>
                  </a:lnTo>
                  <a:lnTo>
                    <a:pt x="-26071" y="29647"/>
                  </a:lnTo>
                  <a:lnTo>
                    <a:pt x="-26418" y="29531"/>
                  </a:lnTo>
                  <a:lnTo>
                    <a:pt x="-26418" y="29531"/>
                  </a:lnTo>
                  <a:lnTo>
                    <a:pt x="-26534" y="29531"/>
                  </a:lnTo>
                  <a:lnTo>
                    <a:pt x="-26650" y="29415"/>
                  </a:lnTo>
                  <a:lnTo>
                    <a:pt x="-26765" y="29299"/>
                  </a:lnTo>
                  <a:lnTo>
                    <a:pt x="-26881" y="29184"/>
                  </a:lnTo>
                  <a:lnTo>
                    <a:pt x="-26997" y="29068"/>
                  </a:lnTo>
                  <a:lnTo>
                    <a:pt x="-27112" y="28952"/>
                  </a:lnTo>
                  <a:lnTo>
                    <a:pt x="-27228" y="28952"/>
                  </a:lnTo>
                  <a:lnTo>
                    <a:pt x="-27460" y="29068"/>
                  </a:lnTo>
                  <a:lnTo>
                    <a:pt x="-27460" y="29068"/>
                  </a:lnTo>
                  <a:lnTo>
                    <a:pt x="-27575" y="29184"/>
                  </a:lnTo>
                  <a:lnTo>
                    <a:pt x="-27691" y="29299"/>
                  </a:lnTo>
                  <a:lnTo>
                    <a:pt x="-27923" y="29415"/>
                  </a:lnTo>
                  <a:lnTo>
                    <a:pt x="-28038" y="29531"/>
                  </a:lnTo>
                  <a:lnTo>
                    <a:pt x="-28270" y="29647"/>
                  </a:lnTo>
                  <a:lnTo>
                    <a:pt x="-28385" y="29763"/>
                  </a:lnTo>
                  <a:lnTo>
                    <a:pt x="-28617" y="29879"/>
                  </a:lnTo>
                  <a:lnTo>
                    <a:pt x="-28733" y="29994"/>
                  </a:lnTo>
                  <a:lnTo>
                    <a:pt x="-28733" y="29994"/>
                  </a:lnTo>
                  <a:lnTo>
                    <a:pt x="-28733" y="30689"/>
                  </a:lnTo>
                  <a:lnTo>
                    <a:pt x="-28733" y="31268"/>
                  </a:lnTo>
                  <a:lnTo>
                    <a:pt x="-28617" y="31963"/>
                  </a:lnTo>
                  <a:lnTo>
                    <a:pt x="-28501" y="32542"/>
                  </a:lnTo>
                  <a:lnTo>
                    <a:pt x="-28385" y="-32299"/>
                  </a:lnTo>
                  <a:lnTo>
                    <a:pt x="-28385" y="-31720"/>
                  </a:lnTo>
                  <a:lnTo>
                    <a:pt x="-28270" y="-31025"/>
                  </a:lnTo>
                  <a:lnTo>
                    <a:pt x="-28154" y="-30446"/>
                  </a:lnTo>
                  <a:lnTo>
                    <a:pt x="-28154" y="-30446"/>
                  </a:lnTo>
                  <a:lnTo>
                    <a:pt x="-28501" y="-30214"/>
                  </a:lnTo>
                  <a:lnTo>
                    <a:pt x="-28733" y="-29983"/>
                  </a:lnTo>
                  <a:lnTo>
                    <a:pt x="-29196" y="-29867"/>
                  </a:lnTo>
                  <a:lnTo>
                    <a:pt x="-29543" y="-29867"/>
                  </a:lnTo>
                  <a:lnTo>
                    <a:pt x="-29890" y="-29751"/>
                  </a:lnTo>
                  <a:lnTo>
                    <a:pt x="-30237" y="-29751"/>
                  </a:lnTo>
                  <a:lnTo>
                    <a:pt x="-30700" y="-29635"/>
                  </a:lnTo>
                  <a:lnTo>
                    <a:pt x="-31047" y="-29635"/>
                  </a:lnTo>
                  <a:lnTo>
                    <a:pt x="-31047" y="-29635"/>
                  </a:lnTo>
                  <a:lnTo>
                    <a:pt x="-31047" y="-29288"/>
                  </a:lnTo>
                  <a:lnTo>
                    <a:pt x="-31047" y="-29288"/>
                  </a:lnTo>
                  <a:lnTo>
                    <a:pt x="-30700" y="-28825"/>
                  </a:lnTo>
                  <a:lnTo>
                    <a:pt x="-30353" y="-28246"/>
                  </a:lnTo>
                  <a:lnTo>
                    <a:pt x="-30006" y="-27782"/>
                  </a:lnTo>
                  <a:lnTo>
                    <a:pt x="-29774" y="-27319"/>
                  </a:lnTo>
                  <a:lnTo>
                    <a:pt x="-29427" y="-26856"/>
                  </a:lnTo>
                  <a:lnTo>
                    <a:pt x="-29080" y="-26277"/>
                  </a:lnTo>
                  <a:lnTo>
                    <a:pt x="-28848" y="-25814"/>
                  </a:lnTo>
                  <a:lnTo>
                    <a:pt x="-28617" y="-25235"/>
                  </a:lnTo>
                  <a:lnTo>
                    <a:pt x="-28617" y="-25235"/>
                  </a:lnTo>
                  <a:lnTo>
                    <a:pt x="-28733" y="-24540"/>
                  </a:lnTo>
                  <a:lnTo>
                    <a:pt x="-28848" y="-23729"/>
                  </a:lnTo>
                  <a:lnTo>
                    <a:pt x="-28964" y="-23034"/>
                  </a:lnTo>
                  <a:lnTo>
                    <a:pt x="-29196" y="-22224"/>
                  </a:lnTo>
                  <a:lnTo>
                    <a:pt x="-29311" y="-21529"/>
                  </a:lnTo>
                  <a:lnTo>
                    <a:pt x="-29543" y="-20718"/>
                  </a:lnTo>
                  <a:lnTo>
                    <a:pt x="-29659" y="-20023"/>
                  </a:lnTo>
                  <a:lnTo>
                    <a:pt x="-29890" y="-19213"/>
                  </a:lnTo>
                  <a:lnTo>
                    <a:pt x="-29890" y="-19213"/>
                  </a:lnTo>
                  <a:lnTo>
                    <a:pt x="-29774" y="-18865"/>
                  </a:lnTo>
                  <a:lnTo>
                    <a:pt x="-29543" y="-18518"/>
                  </a:lnTo>
                  <a:lnTo>
                    <a:pt x="-29427" y="-18286"/>
                  </a:lnTo>
                  <a:lnTo>
                    <a:pt x="-29196" y="-18054"/>
                  </a:lnTo>
                  <a:lnTo>
                    <a:pt x="-28964" y="-17707"/>
                  </a:lnTo>
                  <a:lnTo>
                    <a:pt x="-28733" y="-17475"/>
                  </a:lnTo>
                  <a:lnTo>
                    <a:pt x="-28501" y="-17244"/>
                  </a:lnTo>
                  <a:lnTo>
                    <a:pt x="-28501" y="-16896"/>
                  </a:lnTo>
                  <a:lnTo>
                    <a:pt x="-28501" y="-16896"/>
                  </a:lnTo>
                  <a:lnTo>
                    <a:pt x="-28385" y="-16665"/>
                  </a:lnTo>
                  <a:lnTo>
                    <a:pt x="-28154" y="-16317"/>
                  </a:lnTo>
                  <a:lnTo>
                    <a:pt x="-28038" y="-16086"/>
                  </a:lnTo>
                  <a:lnTo>
                    <a:pt x="-27807" y="-15854"/>
                  </a:lnTo>
                  <a:lnTo>
                    <a:pt x="-27691" y="-15622"/>
                  </a:lnTo>
                  <a:lnTo>
                    <a:pt x="-27575" y="-15391"/>
                  </a:lnTo>
                  <a:lnTo>
                    <a:pt x="-27344" y="-15159"/>
                  </a:lnTo>
                  <a:lnTo>
                    <a:pt x="-27344" y="-14928"/>
                  </a:lnTo>
                  <a:lnTo>
                    <a:pt x="-27344" y="-14928"/>
                  </a:lnTo>
                  <a:lnTo>
                    <a:pt x="-27228" y="-14464"/>
                  </a:lnTo>
                  <a:lnTo>
                    <a:pt x="-26997" y="-14117"/>
                  </a:lnTo>
                  <a:lnTo>
                    <a:pt x="-26881" y="-13654"/>
                  </a:lnTo>
                  <a:lnTo>
                    <a:pt x="-26881" y="-13190"/>
                  </a:lnTo>
                  <a:lnTo>
                    <a:pt x="-26765" y="-12727"/>
                  </a:lnTo>
                  <a:lnTo>
                    <a:pt x="-26765" y="-12380"/>
                  </a:lnTo>
                  <a:lnTo>
                    <a:pt x="-26881" y="-11917"/>
                  </a:lnTo>
                  <a:lnTo>
                    <a:pt x="-27228" y="-11569"/>
                  </a:lnTo>
                  <a:lnTo>
                    <a:pt x="-27228" y="-11569"/>
                  </a:lnTo>
                  <a:lnTo>
                    <a:pt x="-27228" y="-11453"/>
                  </a:lnTo>
                  <a:lnTo>
                    <a:pt x="-27344" y="-11453"/>
                  </a:lnTo>
                  <a:lnTo>
                    <a:pt x="-27344" y="-11453"/>
                  </a:lnTo>
                  <a:lnTo>
                    <a:pt x="-27460" y="-11453"/>
                  </a:lnTo>
                  <a:lnTo>
                    <a:pt x="-27460" y="-11453"/>
                  </a:lnTo>
                  <a:lnTo>
                    <a:pt x="-27575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8154" y="-11222"/>
                  </a:lnTo>
                  <a:lnTo>
                    <a:pt x="-28733" y="-11106"/>
                  </a:lnTo>
                  <a:lnTo>
                    <a:pt x="-29311" y="-11106"/>
                  </a:lnTo>
                  <a:lnTo>
                    <a:pt x="-29890" y="-11222"/>
                  </a:lnTo>
                  <a:lnTo>
                    <a:pt x="-30353" y="-11337"/>
                  </a:lnTo>
                  <a:lnTo>
                    <a:pt x="-30932" y="-11453"/>
                  </a:lnTo>
                  <a:lnTo>
                    <a:pt x="-31395" y="-11685"/>
                  </a:lnTo>
                  <a:lnTo>
                    <a:pt x="-31857" y="-12032"/>
                  </a:lnTo>
                  <a:lnTo>
                    <a:pt x="-31857" y="-12032"/>
                  </a:lnTo>
                  <a:lnTo>
                    <a:pt x="-32320" y="-12496"/>
                  </a:lnTo>
                  <a:lnTo>
                    <a:pt x="-32552" y="-13075"/>
                  </a:lnTo>
                  <a:lnTo>
                    <a:pt x="32753" y="-13769"/>
                  </a:lnTo>
                  <a:lnTo>
                    <a:pt x="32637" y="-14464"/>
                  </a:lnTo>
                  <a:lnTo>
                    <a:pt x="32405" y="-15159"/>
                  </a:lnTo>
                  <a:lnTo>
                    <a:pt x="32058" y="-15622"/>
                  </a:lnTo>
                  <a:lnTo>
                    <a:pt x="31595" y="-16086"/>
                  </a:lnTo>
                  <a:lnTo>
                    <a:pt x="30785" y="-16201"/>
                  </a:lnTo>
                  <a:lnTo>
                    <a:pt x="30785" y="-16201"/>
                  </a:lnTo>
                  <a:lnTo>
                    <a:pt x="30670" y="-16317"/>
                  </a:lnTo>
                  <a:lnTo>
                    <a:pt x="30554" y="-16549"/>
                  </a:lnTo>
                  <a:lnTo>
                    <a:pt x="30438" y="-16781"/>
                  </a:lnTo>
                  <a:lnTo>
                    <a:pt x="30322" y="-16896"/>
                  </a:lnTo>
                  <a:lnTo>
                    <a:pt x="30322" y="-17128"/>
                  </a:lnTo>
                  <a:lnTo>
                    <a:pt x="30322" y="-17360"/>
                  </a:lnTo>
                  <a:lnTo>
                    <a:pt x="30322" y="-17591"/>
                  </a:lnTo>
                  <a:lnTo>
                    <a:pt x="30322" y="-17823"/>
                  </a:lnTo>
                  <a:lnTo>
                    <a:pt x="30322" y="-17823"/>
                  </a:lnTo>
                  <a:lnTo>
                    <a:pt x="30554" y="-18170"/>
                  </a:lnTo>
                  <a:lnTo>
                    <a:pt x="30785" y="-18518"/>
                  </a:lnTo>
                  <a:lnTo>
                    <a:pt x="31132" y="-18749"/>
                  </a:lnTo>
                  <a:lnTo>
                    <a:pt x="31480" y="-18981"/>
                  </a:lnTo>
                  <a:lnTo>
                    <a:pt x="31827" y="-19213"/>
                  </a:lnTo>
                  <a:lnTo>
                    <a:pt x="32174" y="-19444"/>
                  </a:lnTo>
                  <a:lnTo>
                    <a:pt x="32405" y="-19676"/>
                  </a:lnTo>
                  <a:lnTo>
                    <a:pt x="32637" y="-20139"/>
                  </a:lnTo>
                  <a:lnTo>
                    <a:pt x="32637" y="-20139"/>
                  </a:lnTo>
                  <a:lnTo>
                    <a:pt x="-32668" y="-20950"/>
                  </a:lnTo>
                  <a:lnTo>
                    <a:pt x="-32436" y="-21876"/>
                  </a:lnTo>
                  <a:lnTo>
                    <a:pt x="-32205" y="-22803"/>
                  </a:lnTo>
                  <a:lnTo>
                    <a:pt x="-32089" y="-23729"/>
                  </a:lnTo>
                  <a:lnTo>
                    <a:pt x="-32089" y="-24656"/>
                  </a:lnTo>
                  <a:lnTo>
                    <a:pt x="-32205" y="-25466"/>
                  </a:lnTo>
                  <a:lnTo>
                    <a:pt x="-32552" y="-26277"/>
                  </a:lnTo>
                  <a:lnTo>
                    <a:pt x="32290" y="-27088"/>
                  </a:lnTo>
                  <a:lnTo>
                    <a:pt x="32290" y="-27088"/>
                  </a:lnTo>
                  <a:lnTo>
                    <a:pt x="30901" y="-28593"/>
                  </a:lnTo>
                  <a:lnTo>
                    <a:pt x="30901" y="-28593"/>
                  </a:lnTo>
                  <a:lnTo>
                    <a:pt x="29744" y="-28130"/>
                  </a:lnTo>
                  <a:lnTo>
                    <a:pt x="28586" y="-27667"/>
                  </a:lnTo>
                  <a:lnTo>
                    <a:pt x="27545" y="-27203"/>
                  </a:lnTo>
                  <a:lnTo>
                    <a:pt x="26387" y="-26740"/>
                  </a:lnTo>
                  <a:lnTo>
                    <a:pt x="25230" y="-26161"/>
                  </a:lnTo>
                  <a:lnTo>
                    <a:pt x="24073" y="-25698"/>
                  </a:lnTo>
                  <a:lnTo>
                    <a:pt x="23031" y="-25119"/>
                  </a:lnTo>
                  <a:lnTo>
                    <a:pt x="21874" y="-24656"/>
                  </a:lnTo>
                  <a:lnTo>
                    <a:pt x="21874" y="-24656"/>
                  </a:lnTo>
                  <a:lnTo>
                    <a:pt x="21990" y="-24192"/>
                  </a:lnTo>
                  <a:lnTo>
                    <a:pt x="22221" y="-23845"/>
                  </a:lnTo>
                  <a:lnTo>
                    <a:pt x="22337" y="-23382"/>
                  </a:lnTo>
                  <a:lnTo>
                    <a:pt x="22568" y="-23034"/>
                  </a:lnTo>
                  <a:lnTo>
                    <a:pt x="22684" y="-22687"/>
                  </a:lnTo>
                  <a:lnTo>
                    <a:pt x="22915" y="-22224"/>
                  </a:lnTo>
                  <a:lnTo>
                    <a:pt x="23147" y="-21876"/>
                  </a:lnTo>
                  <a:lnTo>
                    <a:pt x="23263" y="-21529"/>
                  </a:lnTo>
                  <a:lnTo>
                    <a:pt x="23263" y="-21529"/>
                  </a:lnTo>
                  <a:lnTo>
                    <a:pt x="23263" y="-21181"/>
                  </a:lnTo>
                  <a:lnTo>
                    <a:pt x="23147" y="-20950"/>
                  </a:lnTo>
                  <a:lnTo>
                    <a:pt x="23031" y="-20718"/>
                  </a:lnTo>
                  <a:lnTo>
                    <a:pt x="22915" y="-20486"/>
                  </a:lnTo>
                  <a:lnTo>
                    <a:pt x="22684" y="-20371"/>
                  </a:lnTo>
                  <a:lnTo>
                    <a:pt x="22453" y="-20139"/>
                  </a:lnTo>
                  <a:lnTo>
                    <a:pt x="22221" y="-19907"/>
                  </a:lnTo>
                  <a:lnTo>
                    <a:pt x="22105" y="-19792"/>
                  </a:lnTo>
                  <a:lnTo>
                    <a:pt x="22105" y="-19792"/>
                  </a:lnTo>
                  <a:lnTo>
                    <a:pt x="20601" y="-17939"/>
                  </a:lnTo>
                  <a:lnTo>
                    <a:pt x="20601" y="-17939"/>
                  </a:lnTo>
                  <a:lnTo>
                    <a:pt x="20485" y="-17475"/>
                  </a:lnTo>
                  <a:lnTo>
                    <a:pt x="20485" y="-17012"/>
                  </a:lnTo>
                  <a:lnTo>
                    <a:pt x="20369" y="-16433"/>
                  </a:lnTo>
                  <a:lnTo>
                    <a:pt x="20254" y="-15970"/>
                  </a:lnTo>
                  <a:lnTo>
                    <a:pt x="20254" y="-15507"/>
                  </a:lnTo>
                  <a:lnTo>
                    <a:pt x="20254" y="-15043"/>
                  </a:lnTo>
                  <a:lnTo>
                    <a:pt x="20254" y="-14580"/>
                  </a:lnTo>
                  <a:lnTo>
                    <a:pt x="20369" y="-14117"/>
                  </a:lnTo>
                  <a:lnTo>
                    <a:pt x="20369" y="-14117"/>
                  </a:lnTo>
                  <a:lnTo>
                    <a:pt x="20485" y="-14117"/>
                  </a:lnTo>
                  <a:lnTo>
                    <a:pt x="20601" y="-14117"/>
                  </a:lnTo>
                  <a:lnTo>
                    <a:pt x="20832" y="-14001"/>
                  </a:lnTo>
                  <a:lnTo>
                    <a:pt x="20832" y="-13885"/>
                  </a:lnTo>
                  <a:lnTo>
                    <a:pt x="20948" y="-13769"/>
                  </a:lnTo>
                  <a:lnTo>
                    <a:pt x="21064" y="-13654"/>
                  </a:lnTo>
                  <a:lnTo>
                    <a:pt x="21179" y="-13538"/>
                  </a:lnTo>
                  <a:lnTo>
                    <a:pt x="21411" y="-13538"/>
                  </a:lnTo>
                  <a:lnTo>
                    <a:pt x="21411" y="-13538"/>
                  </a:lnTo>
                  <a:lnTo>
                    <a:pt x="23031" y="-13422"/>
                  </a:lnTo>
                  <a:lnTo>
                    <a:pt x="23031" y="-13422"/>
                  </a:lnTo>
                  <a:lnTo>
                    <a:pt x="23031" y="-13306"/>
                  </a:lnTo>
                  <a:lnTo>
                    <a:pt x="23147" y="-13190"/>
                  </a:lnTo>
                  <a:lnTo>
                    <a:pt x="23263" y="-13075"/>
                  </a:lnTo>
                  <a:lnTo>
                    <a:pt x="23378" y="-12959"/>
                  </a:lnTo>
                  <a:lnTo>
                    <a:pt x="23494" y="-12843"/>
                  </a:lnTo>
                  <a:lnTo>
                    <a:pt x="23610" y="-12611"/>
                  </a:lnTo>
                  <a:lnTo>
                    <a:pt x="23610" y="-12496"/>
                  </a:lnTo>
                  <a:lnTo>
                    <a:pt x="23726" y="-12264"/>
                  </a:lnTo>
                  <a:lnTo>
                    <a:pt x="23726" y="-12264"/>
                  </a:lnTo>
                  <a:lnTo>
                    <a:pt x="23726" y="-12032"/>
                  </a:lnTo>
                  <a:lnTo>
                    <a:pt x="23610" y="-11801"/>
                  </a:lnTo>
                  <a:lnTo>
                    <a:pt x="23494" y="-11569"/>
                  </a:lnTo>
                  <a:lnTo>
                    <a:pt x="23378" y="-11453"/>
                  </a:lnTo>
                  <a:lnTo>
                    <a:pt x="23147" y="-11222"/>
                  </a:lnTo>
                  <a:lnTo>
                    <a:pt x="22915" y="-11106"/>
                  </a:lnTo>
                  <a:lnTo>
                    <a:pt x="22684" y="-10990"/>
                  </a:lnTo>
                  <a:lnTo>
                    <a:pt x="22453" y="-10874"/>
                  </a:lnTo>
                  <a:lnTo>
                    <a:pt x="22453" y="-10874"/>
                  </a:lnTo>
                  <a:lnTo>
                    <a:pt x="21758" y="-10643"/>
                  </a:lnTo>
                  <a:lnTo>
                    <a:pt x="21179" y="-10643"/>
                  </a:lnTo>
                  <a:lnTo>
                    <a:pt x="20485" y="-10643"/>
                  </a:lnTo>
                  <a:lnTo>
                    <a:pt x="19791" y="-10758"/>
                  </a:lnTo>
                  <a:lnTo>
                    <a:pt x="19096" y="-10990"/>
                  </a:lnTo>
                  <a:lnTo>
                    <a:pt x="18518" y="-11222"/>
                  </a:lnTo>
                  <a:lnTo>
                    <a:pt x="17939" y="-11569"/>
                  </a:lnTo>
                  <a:lnTo>
                    <a:pt x="17360" y="-11917"/>
                  </a:lnTo>
                  <a:lnTo>
                    <a:pt x="17360" y="-11917"/>
                  </a:lnTo>
                  <a:lnTo>
                    <a:pt x="17013" y="-12496"/>
                  </a:lnTo>
                  <a:lnTo>
                    <a:pt x="16782" y="-13190"/>
                  </a:lnTo>
                  <a:lnTo>
                    <a:pt x="16550" y="-13769"/>
                  </a:lnTo>
                  <a:lnTo>
                    <a:pt x="16319" y="-14464"/>
                  </a:lnTo>
                  <a:lnTo>
                    <a:pt x="15972" y="-15043"/>
                  </a:lnTo>
                  <a:lnTo>
                    <a:pt x="15509" y="-15622"/>
                  </a:lnTo>
                  <a:lnTo>
                    <a:pt x="15046" y="-16086"/>
                  </a:lnTo>
                  <a:lnTo>
                    <a:pt x="14351" y="-16317"/>
                  </a:lnTo>
                  <a:lnTo>
                    <a:pt x="14351" y="-16317"/>
                  </a:lnTo>
                  <a:lnTo>
                    <a:pt x="14236" y="-16433"/>
                  </a:lnTo>
                  <a:lnTo>
                    <a:pt x="14120" y="-16549"/>
                  </a:lnTo>
                  <a:lnTo>
                    <a:pt x="14120" y="-16781"/>
                  </a:lnTo>
                  <a:lnTo>
                    <a:pt x="14004" y="-16896"/>
                  </a:lnTo>
                  <a:lnTo>
                    <a:pt x="14004" y="-17128"/>
                  </a:lnTo>
                  <a:lnTo>
                    <a:pt x="14004" y="-17244"/>
                  </a:lnTo>
                  <a:lnTo>
                    <a:pt x="14120" y="-17360"/>
                  </a:lnTo>
                  <a:lnTo>
                    <a:pt x="14120" y="-17591"/>
                  </a:lnTo>
                  <a:lnTo>
                    <a:pt x="14120" y="-17591"/>
                  </a:lnTo>
                  <a:lnTo>
                    <a:pt x="14467" y="-17939"/>
                  </a:lnTo>
                  <a:lnTo>
                    <a:pt x="14930" y="-18286"/>
                  </a:lnTo>
                  <a:lnTo>
                    <a:pt x="15393" y="-18402"/>
                  </a:lnTo>
                  <a:lnTo>
                    <a:pt x="15972" y="-18633"/>
                  </a:lnTo>
                  <a:lnTo>
                    <a:pt x="16434" y="-18749"/>
                  </a:lnTo>
                  <a:lnTo>
                    <a:pt x="17013" y="-18865"/>
                  </a:lnTo>
                  <a:lnTo>
                    <a:pt x="17476" y="-19097"/>
                  </a:lnTo>
                  <a:lnTo>
                    <a:pt x="17939" y="-19444"/>
                  </a:lnTo>
                  <a:lnTo>
                    <a:pt x="17939" y="-19444"/>
                  </a:lnTo>
                  <a:lnTo>
                    <a:pt x="18286" y="-19792"/>
                  </a:lnTo>
                  <a:lnTo>
                    <a:pt x="18633" y="-20023"/>
                  </a:lnTo>
                  <a:lnTo>
                    <a:pt x="18981" y="-20255"/>
                  </a:lnTo>
                  <a:lnTo>
                    <a:pt x="19328" y="-20602"/>
                  </a:lnTo>
                  <a:lnTo>
                    <a:pt x="19559" y="-20950"/>
                  </a:lnTo>
                  <a:lnTo>
                    <a:pt x="19791" y="-21297"/>
                  </a:lnTo>
                  <a:lnTo>
                    <a:pt x="20022" y="-21645"/>
                  </a:lnTo>
                  <a:lnTo>
                    <a:pt x="20369" y="-21992"/>
                  </a:lnTo>
                  <a:lnTo>
                    <a:pt x="20369" y="-21992"/>
                  </a:lnTo>
                  <a:lnTo>
                    <a:pt x="20138" y="-22108"/>
                  </a:lnTo>
                  <a:lnTo>
                    <a:pt x="20022" y="-22339"/>
                  </a:lnTo>
                  <a:lnTo>
                    <a:pt x="19906" y="-22571"/>
                  </a:lnTo>
                  <a:lnTo>
                    <a:pt x="19906" y="-22803"/>
                  </a:lnTo>
                  <a:lnTo>
                    <a:pt x="19791" y="-23034"/>
                  </a:lnTo>
                  <a:lnTo>
                    <a:pt x="19675" y="-23266"/>
                  </a:lnTo>
                  <a:lnTo>
                    <a:pt x="19559" y="-23382"/>
                  </a:lnTo>
                  <a:lnTo>
                    <a:pt x="19443" y="-23613"/>
                  </a:lnTo>
                  <a:lnTo>
                    <a:pt x="19443" y="-23613"/>
                  </a:lnTo>
                  <a:lnTo>
                    <a:pt x="18633" y="-23266"/>
                  </a:lnTo>
                  <a:lnTo>
                    <a:pt x="17823" y="-22918"/>
                  </a:lnTo>
                  <a:lnTo>
                    <a:pt x="17129" y="-22571"/>
                  </a:lnTo>
                  <a:lnTo>
                    <a:pt x="16319" y="-22224"/>
                  </a:lnTo>
                  <a:lnTo>
                    <a:pt x="15624" y="-21876"/>
                  </a:lnTo>
                  <a:lnTo>
                    <a:pt x="14814" y="-21529"/>
                  </a:lnTo>
                  <a:lnTo>
                    <a:pt x="14120" y="-21297"/>
                  </a:lnTo>
                  <a:lnTo>
                    <a:pt x="13194" y="-21181"/>
                  </a:lnTo>
                  <a:lnTo>
                    <a:pt x="13194" y="-21181"/>
                  </a:lnTo>
                  <a:lnTo>
                    <a:pt x="13194" y="-21297"/>
                  </a:lnTo>
                  <a:lnTo>
                    <a:pt x="13194" y="-21413"/>
                  </a:lnTo>
                  <a:lnTo>
                    <a:pt x="13078" y="-21645"/>
                  </a:lnTo>
                  <a:lnTo>
                    <a:pt x="13078" y="-21760"/>
                  </a:lnTo>
                  <a:lnTo>
                    <a:pt x="13078" y="-21876"/>
                  </a:lnTo>
                  <a:lnTo>
                    <a:pt x="13078" y="-22108"/>
                  </a:lnTo>
                  <a:lnTo>
                    <a:pt x="13078" y="-22224"/>
                  </a:lnTo>
                  <a:lnTo>
                    <a:pt x="12962" y="-22339"/>
                  </a:lnTo>
                  <a:lnTo>
                    <a:pt x="12962" y="-22339"/>
                  </a:lnTo>
                  <a:lnTo>
                    <a:pt x="12847" y="-22224"/>
                  </a:lnTo>
                  <a:lnTo>
                    <a:pt x="12731" y="-22224"/>
                  </a:lnTo>
                  <a:lnTo>
                    <a:pt x="12615" y="-22108"/>
                  </a:lnTo>
                  <a:lnTo>
                    <a:pt x="12500" y="-22108"/>
                  </a:lnTo>
                  <a:lnTo>
                    <a:pt x="12384" y="-22108"/>
                  </a:lnTo>
                  <a:lnTo>
                    <a:pt x="12268" y="-21992"/>
                  </a:lnTo>
                  <a:lnTo>
                    <a:pt x="12152" y="-22108"/>
                  </a:lnTo>
                  <a:lnTo>
                    <a:pt x="12037" y="-22108"/>
                  </a:lnTo>
                  <a:lnTo>
                    <a:pt x="12037" y="-22108"/>
                  </a:lnTo>
                  <a:lnTo>
                    <a:pt x="12037" y="-22339"/>
                  </a:lnTo>
                  <a:lnTo>
                    <a:pt x="12037" y="-22339"/>
                  </a:lnTo>
                  <a:lnTo>
                    <a:pt x="12037" y="-22455"/>
                  </a:lnTo>
                  <a:lnTo>
                    <a:pt x="11921" y="-22455"/>
                  </a:lnTo>
                  <a:lnTo>
                    <a:pt x="11805" y="-22455"/>
                  </a:lnTo>
                  <a:lnTo>
                    <a:pt x="11689" y="-22455"/>
                  </a:lnTo>
                  <a:lnTo>
                    <a:pt x="11574" y="-22339"/>
                  </a:lnTo>
                  <a:lnTo>
                    <a:pt x="11574" y="-22339"/>
                  </a:lnTo>
                  <a:lnTo>
                    <a:pt x="11458" y="-22339"/>
                  </a:lnTo>
                  <a:lnTo>
                    <a:pt x="11342" y="-22339"/>
                  </a:lnTo>
                  <a:lnTo>
                    <a:pt x="11342" y="-22339"/>
                  </a:lnTo>
                  <a:lnTo>
                    <a:pt x="11342" y="-22455"/>
                  </a:lnTo>
                  <a:lnTo>
                    <a:pt x="11342" y="-22571"/>
                  </a:lnTo>
                  <a:lnTo>
                    <a:pt x="11342" y="-22687"/>
                  </a:lnTo>
                  <a:lnTo>
                    <a:pt x="11342" y="-22803"/>
                  </a:lnTo>
                  <a:lnTo>
                    <a:pt x="11342" y="-22918"/>
                  </a:lnTo>
                  <a:lnTo>
                    <a:pt x="11342" y="-23034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226" y="-23150"/>
                  </a:lnTo>
                  <a:lnTo>
                    <a:pt x="11111" y="-23034"/>
                  </a:lnTo>
                  <a:lnTo>
                    <a:pt x="10995" y="-23034"/>
                  </a:lnTo>
                  <a:lnTo>
                    <a:pt x="10879" y="-22918"/>
                  </a:lnTo>
                  <a:lnTo>
                    <a:pt x="10648" y="-22918"/>
                  </a:lnTo>
                  <a:lnTo>
                    <a:pt x="10532" y="-22918"/>
                  </a:lnTo>
                  <a:lnTo>
                    <a:pt x="10416" y="-22918"/>
                  </a:lnTo>
                  <a:lnTo>
                    <a:pt x="10301" y="-22918"/>
                  </a:lnTo>
                  <a:lnTo>
                    <a:pt x="10301" y="-22918"/>
                  </a:lnTo>
                  <a:lnTo>
                    <a:pt x="10416" y="-24192"/>
                  </a:lnTo>
                  <a:lnTo>
                    <a:pt x="10648" y="-25350"/>
                  </a:lnTo>
                  <a:lnTo>
                    <a:pt x="10764" y="-26509"/>
                  </a:lnTo>
                  <a:lnTo>
                    <a:pt x="10879" y="-27782"/>
                  </a:lnTo>
                  <a:lnTo>
                    <a:pt x="10995" y="-28941"/>
                  </a:lnTo>
                  <a:lnTo>
                    <a:pt x="11226" y="-30099"/>
                  </a:lnTo>
                  <a:lnTo>
                    <a:pt x="11342" y="-31257"/>
                  </a:lnTo>
                  <a:lnTo>
                    <a:pt x="11574" y="-32415"/>
                  </a:lnTo>
                  <a:lnTo>
                    <a:pt x="11574" y="-32415"/>
                  </a:lnTo>
                  <a:lnTo>
                    <a:pt x="11458" y="-32531"/>
                  </a:lnTo>
                  <a:lnTo>
                    <a:pt x="11342" y="-32646"/>
                  </a:lnTo>
                  <a:lnTo>
                    <a:pt x="11111" y="-32762"/>
                  </a:lnTo>
                  <a:lnTo>
                    <a:pt x="10995" y="32658"/>
                  </a:lnTo>
                  <a:lnTo>
                    <a:pt x="10879" y="32542"/>
                  </a:lnTo>
                  <a:lnTo>
                    <a:pt x="10648" y="32426"/>
                  </a:lnTo>
                  <a:lnTo>
                    <a:pt x="10532" y="32311"/>
                  </a:lnTo>
                  <a:lnTo>
                    <a:pt x="10532" y="32195"/>
                  </a:lnTo>
                  <a:lnTo>
                    <a:pt x="10532" y="32195"/>
                  </a:lnTo>
                  <a:lnTo>
                    <a:pt x="10532" y="32542"/>
                  </a:lnTo>
                  <a:lnTo>
                    <a:pt x="10532" y="-32762"/>
                  </a:lnTo>
                  <a:lnTo>
                    <a:pt x="10648" y="-32415"/>
                  </a:lnTo>
                  <a:lnTo>
                    <a:pt x="10764" y="-32067"/>
                  </a:lnTo>
                  <a:lnTo>
                    <a:pt x="10879" y="-31720"/>
                  </a:lnTo>
                  <a:lnTo>
                    <a:pt x="10879" y="-31488"/>
                  </a:lnTo>
                  <a:lnTo>
                    <a:pt x="10879" y="-31141"/>
                  </a:lnTo>
                  <a:lnTo>
                    <a:pt x="10879" y="-30793"/>
                  </a:lnTo>
                  <a:lnTo>
                    <a:pt x="10879" y="-30793"/>
                  </a:lnTo>
                  <a:lnTo>
                    <a:pt x="10764" y="-30678"/>
                  </a:lnTo>
                  <a:lnTo>
                    <a:pt x="10648" y="-30562"/>
                  </a:lnTo>
                  <a:lnTo>
                    <a:pt x="10532" y="-30562"/>
                  </a:lnTo>
                  <a:lnTo>
                    <a:pt x="10301" y="-30446"/>
                  </a:lnTo>
                  <a:lnTo>
                    <a:pt x="10185" y="-30446"/>
                  </a:lnTo>
                  <a:lnTo>
                    <a:pt x="9953" y="-30562"/>
                  </a:lnTo>
                  <a:lnTo>
                    <a:pt x="9838" y="-30562"/>
                  </a:lnTo>
                  <a:lnTo>
                    <a:pt x="9722" y="-30678"/>
                  </a:lnTo>
                  <a:lnTo>
                    <a:pt x="9722" y="-30678"/>
                  </a:lnTo>
                  <a:lnTo>
                    <a:pt x="9491" y="-30678"/>
                  </a:lnTo>
                  <a:lnTo>
                    <a:pt x="9259" y="-30909"/>
                  </a:lnTo>
                  <a:lnTo>
                    <a:pt x="9143" y="-31025"/>
                  </a:lnTo>
                  <a:lnTo>
                    <a:pt x="9028" y="-31257"/>
                  </a:lnTo>
                  <a:lnTo>
                    <a:pt x="8912" y="-31488"/>
                  </a:lnTo>
                  <a:lnTo>
                    <a:pt x="8796" y="-31604"/>
                  </a:lnTo>
                  <a:lnTo>
                    <a:pt x="8680" y="-31836"/>
                  </a:lnTo>
                  <a:lnTo>
                    <a:pt x="8565" y="-32067"/>
                  </a:lnTo>
                  <a:lnTo>
                    <a:pt x="8565" y="-32067"/>
                  </a:lnTo>
                  <a:lnTo>
                    <a:pt x="7870" y="-31836"/>
                  </a:lnTo>
                  <a:lnTo>
                    <a:pt x="7292" y="-31604"/>
                  </a:lnTo>
                  <a:lnTo>
                    <a:pt x="6597" y="-31373"/>
                  </a:lnTo>
                  <a:lnTo>
                    <a:pt x="6019" y="-31025"/>
                  </a:lnTo>
                  <a:lnTo>
                    <a:pt x="5440" y="-30793"/>
                  </a:lnTo>
                  <a:lnTo>
                    <a:pt x="4861" y="-30562"/>
                  </a:lnTo>
                  <a:lnTo>
                    <a:pt x="4167" y="-30330"/>
                  </a:lnTo>
                  <a:lnTo>
                    <a:pt x="3588" y="-30099"/>
                  </a:lnTo>
                  <a:lnTo>
                    <a:pt x="3588" y="-30099"/>
                  </a:lnTo>
                  <a:lnTo>
                    <a:pt x="3241" y="-30099"/>
                  </a:lnTo>
                  <a:lnTo>
                    <a:pt x="2894" y="-30099"/>
                  </a:lnTo>
                  <a:lnTo>
                    <a:pt x="2547" y="-30099"/>
                  </a:lnTo>
                  <a:lnTo>
                    <a:pt x="2199" y="-30330"/>
                  </a:lnTo>
                  <a:lnTo>
                    <a:pt x="1852" y="-30446"/>
                  </a:lnTo>
                  <a:lnTo>
                    <a:pt x="1505" y="-30678"/>
                  </a:lnTo>
                  <a:lnTo>
                    <a:pt x="1274" y="-30909"/>
                  </a:lnTo>
                  <a:lnTo>
                    <a:pt x="926" y="-31141"/>
                  </a:lnTo>
                  <a:lnTo>
                    <a:pt x="926" y="-31141"/>
                  </a:lnTo>
                  <a:lnTo>
                    <a:pt x="579" y="-31720"/>
                  </a:lnTo>
                  <a:lnTo>
                    <a:pt x="232" y="-32415"/>
                  </a:lnTo>
                  <a:lnTo>
                    <a:pt x="116" y="32426"/>
                  </a:lnTo>
                  <a:lnTo>
                    <a:pt x="0" y="31731"/>
                  </a:lnTo>
                  <a:lnTo>
                    <a:pt x="0" y="31037"/>
                  </a:lnTo>
                  <a:lnTo>
                    <a:pt x="116" y="30342"/>
                  </a:lnTo>
                  <a:lnTo>
                    <a:pt x="348" y="29647"/>
                  </a:lnTo>
                  <a:lnTo>
                    <a:pt x="579" y="29068"/>
                  </a:lnTo>
                  <a:lnTo>
                    <a:pt x="579" y="29068"/>
                  </a:lnTo>
                  <a:lnTo>
                    <a:pt x="1158" y="28257"/>
                  </a:lnTo>
                  <a:lnTo>
                    <a:pt x="1968" y="27910"/>
                  </a:lnTo>
                  <a:lnTo>
                    <a:pt x="2894" y="27678"/>
                  </a:lnTo>
                  <a:lnTo>
                    <a:pt x="3820" y="27562"/>
                  </a:lnTo>
                  <a:lnTo>
                    <a:pt x="4745" y="27562"/>
                  </a:lnTo>
                  <a:lnTo>
                    <a:pt x="5671" y="27331"/>
                  </a:lnTo>
                  <a:lnTo>
                    <a:pt x="6597" y="27099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523" y="26520"/>
                  </a:lnTo>
                  <a:lnTo>
                    <a:pt x="7523" y="26520"/>
                  </a:lnTo>
                  <a:lnTo>
                    <a:pt x="7639" y="26520"/>
                  </a:lnTo>
                  <a:lnTo>
                    <a:pt x="7639" y="26520"/>
                  </a:lnTo>
                  <a:lnTo>
                    <a:pt x="7755" y="26520"/>
                  </a:lnTo>
                  <a:lnTo>
                    <a:pt x="7755" y="26520"/>
                  </a:lnTo>
                  <a:lnTo>
                    <a:pt x="7870" y="26520"/>
                  </a:lnTo>
                  <a:lnTo>
                    <a:pt x="7870" y="26520"/>
                  </a:lnTo>
                  <a:lnTo>
                    <a:pt x="7292" y="25709"/>
                  </a:lnTo>
                  <a:lnTo>
                    <a:pt x="6713" y="25014"/>
                  </a:lnTo>
                  <a:lnTo>
                    <a:pt x="6250" y="24204"/>
                  </a:lnTo>
                  <a:lnTo>
                    <a:pt x="5787" y="23393"/>
                  </a:lnTo>
                  <a:lnTo>
                    <a:pt x="5440" y="22582"/>
                  </a:lnTo>
                  <a:lnTo>
                    <a:pt x="5208" y="21772"/>
                  </a:lnTo>
                  <a:lnTo>
                    <a:pt x="5208" y="20845"/>
                  </a:lnTo>
                  <a:lnTo>
                    <a:pt x="5324" y="19919"/>
                  </a:lnTo>
                  <a:lnTo>
                    <a:pt x="5324" y="19919"/>
                  </a:lnTo>
                  <a:lnTo>
                    <a:pt x="5440" y="19571"/>
                  </a:lnTo>
                  <a:lnTo>
                    <a:pt x="5671" y="19224"/>
                  </a:lnTo>
                  <a:lnTo>
                    <a:pt x="6019" y="19108"/>
                  </a:lnTo>
                  <a:lnTo>
                    <a:pt x="6366" y="18992"/>
                  </a:lnTo>
                  <a:lnTo>
                    <a:pt x="6713" y="18877"/>
                  </a:lnTo>
                  <a:lnTo>
                    <a:pt x="7060" y="18761"/>
                  </a:lnTo>
                  <a:lnTo>
                    <a:pt x="7523" y="18761"/>
                  </a:lnTo>
                  <a:lnTo>
                    <a:pt x="7870" y="18645"/>
                  </a:lnTo>
                  <a:lnTo>
                    <a:pt x="7870" y="18645"/>
                  </a:lnTo>
                  <a:lnTo>
                    <a:pt x="8565" y="18529"/>
                  </a:lnTo>
                  <a:lnTo>
                    <a:pt x="9259" y="18529"/>
                  </a:lnTo>
                  <a:lnTo>
                    <a:pt x="9953" y="18529"/>
                  </a:lnTo>
                  <a:lnTo>
                    <a:pt x="10648" y="18645"/>
                  </a:lnTo>
                  <a:lnTo>
                    <a:pt x="11342" y="18645"/>
                  </a:lnTo>
                  <a:lnTo>
                    <a:pt x="11921" y="18877"/>
                  </a:lnTo>
                  <a:lnTo>
                    <a:pt x="12615" y="18992"/>
                  </a:lnTo>
                  <a:lnTo>
                    <a:pt x="13310" y="19108"/>
                  </a:lnTo>
                  <a:lnTo>
                    <a:pt x="13310" y="19108"/>
                  </a:lnTo>
                  <a:lnTo>
                    <a:pt x="13425" y="18992"/>
                  </a:lnTo>
                  <a:lnTo>
                    <a:pt x="13425" y="18992"/>
                  </a:lnTo>
                  <a:lnTo>
                    <a:pt x="13773" y="17139"/>
                  </a:lnTo>
                  <a:lnTo>
                    <a:pt x="14004" y="15286"/>
                  </a:lnTo>
                  <a:lnTo>
                    <a:pt x="14351" y="13434"/>
                  </a:lnTo>
                  <a:lnTo>
                    <a:pt x="14814" y="11581"/>
                  </a:lnTo>
                  <a:lnTo>
                    <a:pt x="15161" y="9728"/>
                  </a:lnTo>
                  <a:lnTo>
                    <a:pt x="15509" y="7875"/>
                  </a:lnTo>
                  <a:lnTo>
                    <a:pt x="15856" y="6138"/>
                  </a:lnTo>
                  <a:lnTo>
                    <a:pt x="16203" y="4285"/>
                  </a:lnTo>
                  <a:lnTo>
                    <a:pt x="16203" y="4285"/>
                  </a:lnTo>
                  <a:lnTo>
                    <a:pt x="16319" y="4053"/>
                  </a:lnTo>
                  <a:lnTo>
                    <a:pt x="16319" y="3821"/>
                  </a:lnTo>
                  <a:lnTo>
                    <a:pt x="16203" y="3590"/>
                  </a:lnTo>
                  <a:lnTo>
                    <a:pt x="16203" y="3358"/>
                  </a:lnTo>
                  <a:lnTo>
                    <a:pt x="16319" y="3126"/>
                  </a:lnTo>
                  <a:lnTo>
                    <a:pt x="16434" y="3011"/>
                  </a:lnTo>
                  <a:lnTo>
                    <a:pt x="16550" y="2895"/>
                  </a:lnTo>
                  <a:lnTo>
                    <a:pt x="16897" y="2895"/>
                  </a:lnTo>
                  <a:lnTo>
                    <a:pt x="16897" y="2895"/>
                  </a:lnTo>
                  <a:lnTo>
                    <a:pt x="16782" y="2663"/>
                  </a:lnTo>
                  <a:lnTo>
                    <a:pt x="16782" y="2316"/>
                  </a:lnTo>
                  <a:lnTo>
                    <a:pt x="16782" y="1968"/>
                  </a:lnTo>
                  <a:lnTo>
                    <a:pt x="16782" y="1621"/>
                  </a:lnTo>
                  <a:lnTo>
                    <a:pt x="16897" y="1389"/>
                  </a:lnTo>
                  <a:lnTo>
                    <a:pt x="17013" y="1042"/>
                  </a:lnTo>
                  <a:lnTo>
                    <a:pt x="17129" y="810"/>
                  </a:lnTo>
                  <a:lnTo>
                    <a:pt x="17360" y="579"/>
                  </a:lnTo>
                  <a:lnTo>
                    <a:pt x="17360" y="579"/>
                  </a:lnTo>
                  <a:lnTo>
                    <a:pt x="17707" y="347"/>
                  </a:lnTo>
                  <a:lnTo>
                    <a:pt x="18055" y="115"/>
                  </a:lnTo>
                  <a:lnTo>
                    <a:pt x="18518" y="0"/>
                  </a:lnTo>
                  <a:lnTo>
                    <a:pt x="18981" y="0"/>
                  </a:lnTo>
                  <a:lnTo>
                    <a:pt x="19328" y="0"/>
                  </a:lnTo>
                  <a:lnTo>
                    <a:pt x="19791" y="115"/>
                  </a:lnTo>
                  <a:lnTo>
                    <a:pt x="20138" y="347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201320" y="2932560"/>
              <a:ext cx="123840" cy="192600"/>
            </a:xfrm>
            <a:custGeom>
              <a:avLst/>
              <a:gdLst/>
              <a:ahLst/>
              <a:rect l="l" t="t" r="r" b="b"/>
              <a:pathLst>
                <a:path w="3240" h="3590">
                  <a:moveTo>
                    <a:pt x="3124" y="926"/>
                  </a:moveTo>
                  <a:lnTo>
                    <a:pt x="3124" y="1274"/>
                  </a:lnTo>
                  <a:lnTo>
                    <a:pt x="3240" y="1621"/>
                  </a:lnTo>
                  <a:lnTo>
                    <a:pt x="3240" y="1969"/>
                  </a:lnTo>
                  <a:lnTo>
                    <a:pt x="3240" y="2316"/>
                  </a:lnTo>
                  <a:lnTo>
                    <a:pt x="3240" y="2663"/>
                  </a:lnTo>
                  <a:lnTo>
                    <a:pt x="3124" y="2895"/>
                  </a:lnTo>
                  <a:lnTo>
                    <a:pt x="3009" y="3243"/>
                  </a:lnTo>
                  <a:lnTo>
                    <a:pt x="2893" y="3590"/>
                  </a:lnTo>
                  <a:lnTo>
                    <a:pt x="2893" y="3590"/>
                  </a:lnTo>
                  <a:lnTo>
                    <a:pt x="2546" y="3590"/>
                  </a:lnTo>
                  <a:lnTo>
                    <a:pt x="2546" y="3243"/>
                  </a:lnTo>
                  <a:lnTo>
                    <a:pt x="2661" y="3243"/>
                  </a:lnTo>
                  <a:lnTo>
                    <a:pt x="2661" y="3243"/>
                  </a:lnTo>
                  <a:lnTo>
                    <a:pt x="2661" y="3011"/>
                  </a:lnTo>
                  <a:lnTo>
                    <a:pt x="2777" y="2663"/>
                  </a:lnTo>
                  <a:lnTo>
                    <a:pt x="2893" y="2432"/>
                  </a:lnTo>
                  <a:lnTo>
                    <a:pt x="2893" y="2084"/>
                  </a:lnTo>
                  <a:lnTo>
                    <a:pt x="3009" y="1737"/>
                  </a:lnTo>
                  <a:lnTo>
                    <a:pt x="2893" y="1505"/>
                  </a:lnTo>
                  <a:lnTo>
                    <a:pt x="2893" y="1158"/>
                  </a:lnTo>
                  <a:lnTo>
                    <a:pt x="2777" y="926"/>
                  </a:lnTo>
                  <a:lnTo>
                    <a:pt x="2777" y="926"/>
                  </a:lnTo>
                  <a:lnTo>
                    <a:pt x="2661" y="811"/>
                  </a:lnTo>
                  <a:lnTo>
                    <a:pt x="2546" y="695"/>
                  </a:lnTo>
                  <a:lnTo>
                    <a:pt x="2430" y="579"/>
                  </a:lnTo>
                  <a:lnTo>
                    <a:pt x="2198" y="463"/>
                  </a:lnTo>
                  <a:lnTo>
                    <a:pt x="2083" y="347"/>
                  </a:lnTo>
                  <a:lnTo>
                    <a:pt x="1967" y="231"/>
                  </a:lnTo>
                  <a:lnTo>
                    <a:pt x="1851" y="231"/>
                  </a:lnTo>
                  <a:lnTo>
                    <a:pt x="1736" y="231"/>
                  </a:lnTo>
                  <a:lnTo>
                    <a:pt x="1736" y="231"/>
                  </a:lnTo>
                  <a:lnTo>
                    <a:pt x="1504" y="231"/>
                  </a:lnTo>
                  <a:lnTo>
                    <a:pt x="1273" y="347"/>
                  </a:lnTo>
                  <a:lnTo>
                    <a:pt x="1041" y="347"/>
                  </a:lnTo>
                  <a:lnTo>
                    <a:pt x="925" y="463"/>
                  </a:lnTo>
                  <a:lnTo>
                    <a:pt x="694" y="695"/>
                  </a:lnTo>
                  <a:lnTo>
                    <a:pt x="578" y="811"/>
                  </a:lnTo>
                  <a:lnTo>
                    <a:pt x="462" y="926"/>
                  </a:lnTo>
                  <a:lnTo>
                    <a:pt x="347" y="1158"/>
                  </a:lnTo>
                  <a:lnTo>
                    <a:pt x="347" y="1158"/>
                  </a:lnTo>
                  <a:lnTo>
                    <a:pt x="347" y="2432"/>
                  </a:lnTo>
                  <a:lnTo>
                    <a:pt x="347" y="2432"/>
                  </a:lnTo>
                  <a:lnTo>
                    <a:pt x="115" y="2316"/>
                  </a:lnTo>
                  <a:lnTo>
                    <a:pt x="115" y="2200"/>
                  </a:lnTo>
                  <a:lnTo>
                    <a:pt x="0" y="1969"/>
                  </a:lnTo>
                  <a:lnTo>
                    <a:pt x="0" y="1737"/>
                  </a:lnTo>
                  <a:lnTo>
                    <a:pt x="0" y="1505"/>
                  </a:lnTo>
                  <a:lnTo>
                    <a:pt x="0" y="1390"/>
                  </a:lnTo>
                  <a:lnTo>
                    <a:pt x="0" y="1158"/>
                  </a:lnTo>
                  <a:lnTo>
                    <a:pt x="115" y="926"/>
                  </a:lnTo>
                  <a:lnTo>
                    <a:pt x="115" y="926"/>
                  </a:lnTo>
                  <a:lnTo>
                    <a:pt x="347" y="579"/>
                  </a:lnTo>
                  <a:lnTo>
                    <a:pt x="694" y="231"/>
                  </a:lnTo>
                  <a:lnTo>
                    <a:pt x="1041" y="116"/>
                  </a:lnTo>
                  <a:lnTo>
                    <a:pt x="1504" y="0"/>
                  </a:lnTo>
                  <a:lnTo>
                    <a:pt x="2083" y="0"/>
                  </a:lnTo>
                  <a:lnTo>
                    <a:pt x="2430" y="231"/>
                  </a:lnTo>
                  <a:lnTo>
                    <a:pt x="2777" y="463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334160" y="2945160"/>
              <a:ext cx="70560" cy="211320"/>
            </a:xfrm>
            <a:custGeom>
              <a:avLst/>
              <a:gdLst/>
              <a:ahLst/>
              <a:rect l="l" t="t" r="r" b="b"/>
              <a:pathLst>
                <a:path w="1851" h="3938">
                  <a:moveTo>
                    <a:pt x="1851" y="1853"/>
                  </a:moveTo>
                  <a:lnTo>
                    <a:pt x="1851" y="1969"/>
                  </a:lnTo>
                  <a:lnTo>
                    <a:pt x="1851" y="2201"/>
                  </a:lnTo>
                  <a:lnTo>
                    <a:pt x="1851" y="2317"/>
                  </a:lnTo>
                  <a:lnTo>
                    <a:pt x="1736" y="2432"/>
                  </a:lnTo>
                  <a:lnTo>
                    <a:pt x="1736" y="2548"/>
                  </a:lnTo>
                  <a:lnTo>
                    <a:pt x="1736" y="2664"/>
                  </a:lnTo>
                  <a:lnTo>
                    <a:pt x="1736" y="2896"/>
                  </a:lnTo>
                  <a:lnTo>
                    <a:pt x="1736" y="3012"/>
                  </a:lnTo>
                  <a:lnTo>
                    <a:pt x="1736" y="3012"/>
                  </a:lnTo>
                  <a:lnTo>
                    <a:pt x="1620" y="3127"/>
                  </a:lnTo>
                  <a:lnTo>
                    <a:pt x="1620" y="3243"/>
                  </a:lnTo>
                  <a:lnTo>
                    <a:pt x="1504" y="3359"/>
                  </a:lnTo>
                  <a:lnTo>
                    <a:pt x="1388" y="3475"/>
                  </a:lnTo>
                  <a:lnTo>
                    <a:pt x="1273" y="3591"/>
                  </a:lnTo>
                  <a:lnTo>
                    <a:pt x="1157" y="3706"/>
                  </a:lnTo>
                  <a:lnTo>
                    <a:pt x="1041" y="3822"/>
                  </a:lnTo>
                  <a:lnTo>
                    <a:pt x="925" y="3938"/>
                  </a:lnTo>
                  <a:lnTo>
                    <a:pt x="925" y="3938"/>
                  </a:lnTo>
                  <a:lnTo>
                    <a:pt x="810" y="3938"/>
                  </a:lnTo>
                  <a:lnTo>
                    <a:pt x="810" y="3938"/>
                  </a:lnTo>
                  <a:lnTo>
                    <a:pt x="694" y="3938"/>
                  </a:lnTo>
                  <a:lnTo>
                    <a:pt x="694" y="3822"/>
                  </a:lnTo>
                  <a:lnTo>
                    <a:pt x="694" y="3822"/>
                  </a:lnTo>
                  <a:lnTo>
                    <a:pt x="694" y="3706"/>
                  </a:lnTo>
                  <a:lnTo>
                    <a:pt x="694" y="3706"/>
                  </a:lnTo>
                  <a:lnTo>
                    <a:pt x="694" y="3591"/>
                  </a:lnTo>
                  <a:lnTo>
                    <a:pt x="694" y="3591"/>
                  </a:lnTo>
                  <a:lnTo>
                    <a:pt x="925" y="3243"/>
                  </a:lnTo>
                  <a:lnTo>
                    <a:pt x="1157" y="3012"/>
                  </a:lnTo>
                  <a:lnTo>
                    <a:pt x="1273" y="2664"/>
                  </a:lnTo>
                  <a:lnTo>
                    <a:pt x="1273" y="2317"/>
                  </a:lnTo>
                  <a:lnTo>
                    <a:pt x="1273" y="1969"/>
                  </a:lnTo>
                  <a:lnTo>
                    <a:pt x="1157" y="1622"/>
                  </a:lnTo>
                  <a:lnTo>
                    <a:pt x="1041" y="1274"/>
                  </a:lnTo>
                  <a:lnTo>
                    <a:pt x="1041" y="811"/>
                  </a:lnTo>
                  <a:lnTo>
                    <a:pt x="1041" y="811"/>
                  </a:lnTo>
                  <a:lnTo>
                    <a:pt x="925" y="811"/>
                  </a:lnTo>
                  <a:lnTo>
                    <a:pt x="810" y="695"/>
                  </a:lnTo>
                  <a:lnTo>
                    <a:pt x="694" y="580"/>
                  </a:lnTo>
                  <a:lnTo>
                    <a:pt x="578" y="464"/>
                  </a:lnTo>
                  <a:lnTo>
                    <a:pt x="462" y="464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5" y="464"/>
                  </a:lnTo>
                  <a:lnTo>
                    <a:pt x="115" y="464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115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2" y="0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925" y="232"/>
                  </a:lnTo>
                  <a:lnTo>
                    <a:pt x="1041" y="232"/>
                  </a:lnTo>
                  <a:lnTo>
                    <a:pt x="1041" y="232"/>
                  </a:lnTo>
                  <a:lnTo>
                    <a:pt x="1273" y="464"/>
                  </a:lnTo>
                  <a:lnTo>
                    <a:pt x="1388" y="580"/>
                  </a:lnTo>
                  <a:lnTo>
                    <a:pt x="1504" y="811"/>
                  </a:lnTo>
                  <a:lnTo>
                    <a:pt x="1620" y="1043"/>
                  </a:lnTo>
                  <a:lnTo>
                    <a:pt x="1620" y="1159"/>
                  </a:lnTo>
                  <a:lnTo>
                    <a:pt x="1736" y="1390"/>
                  </a:lnTo>
                  <a:lnTo>
                    <a:pt x="1736" y="1622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227960" y="2970000"/>
              <a:ext cx="52920" cy="99360"/>
            </a:xfrm>
            <a:custGeom>
              <a:avLst/>
              <a:gdLst/>
              <a:ahLst/>
              <a:rect l="l" t="t" r="r" b="b"/>
              <a:pathLst>
                <a:path w="1389" h="1853">
                  <a:moveTo>
                    <a:pt x="1389" y="347"/>
                  </a:moveTo>
                  <a:lnTo>
                    <a:pt x="1157" y="579"/>
                  </a:lnTo>
                  <a:lnTo>
                    <a:pt x="1042" y="810"/>
                  </a:lnTo>
                  <a:lnTo>
                    <a:pt x="926" y="1042"/>
                  </a:lnTo>
                  <a:lnTo>
                    <a:pt x="810" y="1389"/>
                  </a:lnTo>
                  <a:lnTo>
                    <a:pt x="810" y="1621"/>
                  </a:lnTo>
                  <a:lnTo>
                    <a:pt x="694" y="1853"/>
                  </a:lnTo>
                  <a:lnTo>
                    <a:pt x="463" y="1853"/>
                  </a:lnTo>
                  <a:lnTo>
                    <a:pt x="116" y="1737"/>
                  </a:lnTo>
                  <a:lnTo>
                    <a:pt x="116" y="1737"/>
                  </a:lnTo>
                  <a:lnTo>
                    <a:pt x="0" y="1505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6" y="810"/>
                  </a:lnTo>
                  <a:lnTo>
                    <a:pt x="116" y="579"/>
                  </a:lnTo>
                  <a:lnTo>
                    <a:pt x="231" y="347"/>
                  </a:lnTo>
                  <a:lnTo>
                    <a:pt x="463" y="231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7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389" y="231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13720" y="2988720"/>
              <a:ext cx="70560" cy="192600"/>
            </a:xfrm>
            <a:custGeom>
              <a:avLst/>
              <a:gdLst/>
              <a:ahLst/>
              <a:rect l="l" t="t" r="r" b="b"/>
              <a:pathLst>
                <a:path w="1851" h="3590">
                  <a:moveTo>
                    <a:pt x="1620" y="695"/>
                  </a:moveTo>
                  <a:lnTo>
                    <a:pt x="1736" y="927"/>
                  </a:lnTo>
                  <a:lnTo>
                    <a:pt x="1736" y="1158"/>
                  </a:lnTo>
                  <a:lnTo>
                    <a:pt x="1851" y="1390"/>
                  </a:lnTo>
                  <a:lnTo>
                    <a:pt x="1851" y="1621"/>
                  </a:lnTo>
                  <a:lnTo>
                    <a:pt x="1851" y="1853"/>
                  </a:lnTo>
                  <a:lnTo>
                    <a:pt x="1851" y="2085"/>
                  </a:lnTo>
                  <a:lnTo>
                    <a:pt x="1851" y="2316"/>
                  </a:lnTo>
                  <a:lnTo>
                    <a:pt x="1736" y="2432"/>
                  </a:lnTo>
                  <a:lnTo>
                    <a:pt x="1736" y="2432"/>
                  </a:lnTo>
                  <a:lnTo>
                    <a:pt x="1736" y="2664"/>
                  </a:lnTo>
                  <a:lnTo>
                    <a:pt x="1620" y="2780"/>
                  </a:lnTo>
                  <a:lnTo>
                    <a:pt x="1504" y="2895"/>
                  </a:lnTo>
                  <a:lnTo>
                    <a:pt x="1388" y="3127"/>
                  </a:lnTo>
                  <a:lnTo>
                    <a:pt x="1273" y="3243"/>
                  </a:lnTo>
                  <a:lnTo>
                    <a:pt x="1157" y="3359"/>
                  </a:lnTo>
                  <a:lnTo>
                    <a:pt x="1041" y="3474"/>
                  </a:lnTo>
                  <a:lnTo>
                    <a:pt x="926" y="3590"/>
                  </a:lnTo>
                  <a:lnTo>
                    <a:pt x="926" y="3590"/>
                  </a:lnTo>
                  <a:lnTo>
                    <a:pt x="810" y="3590"/>
                  </a:lnTo>
                  <a:lnTo>
                    <a:pt x="694" y="3590"/>
                  </a:lnTo>
                  <a:lnTo>
                    <a:pt x="694" y="3474"/>
                  </a:lnTo>
                  <a:lnTo>
                    <a:pt x="578" y="3474"/>
                  </a:lnTo>
                  <a:lnTo>
                    <a:pt x="578" y="3359"/>
                  </a:lnTo>
                  <a:lnTo>
                    <a:pt x="578" y="3359"/>
                  </a:lnTo>
                  <a:lnTo>
                    <a:pt x="578" y="3243"/>
                  </a:lnTo>
                  <a:lnTo>
                    <a:pt x="578" y="3127"/>
                  </a:lnTo>
                  <a:lnTo>
                    <a:pt x="578" y="3127"/>
                  </a:lnTo>
                  <a:lnTo>
                    <a:pt x="694" y="3127"/>
                  </a:lnTo>
                  <a:lnTo>
                    <a:pt x="810" y="3011"/>
                  </a:lnTo>
                  <a:lnTo>
                    <a:pt x="926" y="2895"/>
                  </a:lnTo>
                  <a:lnTo>
                    <a:pt x="1041" y="2780"/>
                  </a:lnTo>
                  <a:lnTo>
                    <a:pt x="1041" y="2664"/>
                  </a:lnTo>
                  <a:lnTo>
                    <a:pt x="1157" y="2432"/>
                  </a:lnTo>
                  <a:lnTo>
                    <a:pt x="1157" y="2316"/>
                  </a:lnTo>
                  <a:lnTo>
                    <a:pt x="1157" y="2201"/>
                  </a:lnTo>
                  <a:lnTo>
                    <a:pt x="1157" y="2201"/>
                  </a:lnTo>
                  <a:lnTo>
                    <a:pt x="1157" y="1969"/>
                  </a:lnTo>
                  <a:lnTo>
                    <a:pt x="1157" y="1621"/>
                  </a:lnTo>
                  <a:lnTo>
                    <a:pt x="1157" y="1390"/>
                  </a:lnTo>
                  <a:lnTo>
                    <a:pt x="1041" y="1042"/>
                  </a:lnTo>
                  <a:lnTo>
                    <a:pt x="926" y="811"/>
                  </a:lnTo>
                  <a:lnTo>
                    <a:pt x="810" y="579"/>
                  </a:lnTo>
                  <a:lnTo>
                    <a:pt x="578" y="348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231" y="232"/>
                  </a:lnTo>
                  <a:lnTo>
                    <a:pt x="231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6"/>
                  </a:lnTo>
                  <a:lnTo>
                    <a:pt x="1273" y="232"/>
                  </a:lnTo>
                  <a:lnTo>
                    <a:pt x="1504" y="463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493280" y="3013560"/>
              <a:ext cx="61920" cy="186480"/>
            </a:xfrm>
            <a:custGeom>
              <a:avLst/>
              <a:gdLst/>
              <a:ahLst/>
              <a:rect l="l" t="t" r="r" b="b"/>
              <a:pathLst>
                <a:path w="1620" h="3475">
                  <a:moveTo>
                    <a:pt x="1620" y="1390"/>
                  </a:moveTo>
                  <a:lnTo>
                    <a:pt x="1620" y="1622"/>
                  </a:lnTo>
                  <a:lnTo>
                    <a:pt x="1620" y="1853"/>
                  </a:lnTo>
                  <a:lnTo>
                    <a:pt x="1620" y="2085"/>
                  </a:lnTo>
                  <a:lnTo>
                    <a:pt x="1620" y="2317"/>
                  </a:lnTo>
                  <a:lnTo>
                    <a:pt x="1620" y="2432"/>
                  </a:lnTo>
                  <a:lnTo>
                    <a:pt x="1620" y="2664"/>
                  </a:lnTo>
                  <a:lnTo>
                    <a:pt x="1504" y="2896"/>
                  </a:lnTo>
                  <a:lnTo>
                    <a:pt x="1389" y="3011"/>
                  </a:lnTo>
                  <a:lnTo>
                    <a:pt x="1389" y="3011"/>
                  </a:lnTo>
                  <a:lnTo>
                    <a:pt x="1273" y="3127"/>
                  </a:lnTo>
                  <a:lnTo>
                    <a:pt x="1157" y="3127"/>
                  </a:lnTo>
                  <a:lnTo>
                    <a:pt x="1041" y="3243"/>
                  </a:lnTo>
                  <a:lnTo>
                    <a:pt x="1041" y="3359"/>
                  </a:lnTo>
                  <a:lnTo>
                    <a:pt x="926" y="3475"/>
                  </a:lnTo>
                  <a:lnTo>
                    <a:pt x="926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694" y="3359"/>
                  </a:lnTo>
                  <a:lnTo>
                    <a:pt x="694" y="3243"/>
                  </a:lnTo>
                  <a:lnTo>
                    <a:pt x="810" y="3127"/>
                  </a:lnTo>
                  <a:lnTo>
                    <a:pt x="810" y="3011"/>
                  </a:lnTo>
                  <a:lnTo>
                    <a:pt x="926" y="2896"/>
                  </a:lnTo>
                  <a:lnTo>
                    <a:pt x="1041" y="2780"/>
                  </a:lnTo>
                  <a:lnTo>
                    <a:pt x="1157" y="2664"/>
                  </a:lnTo>
                  <a:lnTo>
                    <a:pt x="1273" y="2548"/>
                  </a:lnTo>
                  <a:lnTo>
                    <a:pt x="1273" y="2432"/>
                  </a:lnTo>
                  <a:lnTo>
                    <a:pt x="1273" y="2432"/>
                  </a:lnTo>
                  <a:lnTo>
                    <a:pt x="1389" y="2085"/>
                  </a:lnTo>
                  <a:lnTo>
                    <a:pt x="1389" y="1853"/>
                  </a:lnTo>
                  <a:lnTo>
                    <a:pt x="1273" y="1506"/>
                  </a:lnTo>
                  <a:lnTo>
                    <a:pt x="1157" y="1274"/>
                  </a:lnTo>
                  <a:lnTo>
                    <a:pt x="1041" y="1043"/>
                  </a:lnTo>
                  <a:lnTo>
                    <a:pt x="810" y="811"/>
                  </a:lnTo>
                  <a:lnTo>
                    <a:pt x="579" y="579"/>
                  </a:lnTo>
                  <a:lnTo>
                    <a:pt x="347" y="348"/>
                  </a:lnTo>
                  <a:lnTo>
                    <a:pt x="347" y="348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6" y="348"/>
                  </a:lnTo>
                  <a:lnTo>
                    <a:pt x="116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463" y="0"/>
                  </a:lnTo>
                  <a:lnTo>
                    <a:pt x="694" y="116"/>
                  </a:lnTo>
                  <a:lnTo>
                    <a:pt x="926" y="348"/>
                  </a:lnTo>
                  <a:lnTo>
                    <a:pt x="1041" y="464"/>
                  </a:lnTo>
                  <a:lnTo>
                    <a:pt x="1273" y="695"/>
                  </a:lnTo>
                  <a:lnTo>
                    <a:pt x="1389" y="927"/>
                  </a:lnTo>
                  <a:lnTo>
                    <a:pt x="1504" y="1158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559520" y="3025800"/>
              <a:ext cx="79560" cy="192600"/>
            </a:xfrm>
            <a:custGeom>
              <a:avLst/>
              <a:gdLst/>
              <a:ahLst/>
              <a:rect l="l" t="t" r="r" b="b"/>
              <a:pathLst>
                <a:path w="2083" h="3590">
                  <a:moveTo>
                    <a:pt x="2083" y="1390"/>
                  </a:moveTo>
                  <a:lnTo>
                    <a:pt x="2083" y="1737"/>
                  </a:lnTo>
                  <a:lnTo>
                    <a:pt x="2083" y="1969"/>
                  </a:lnTo>
                  <a:lnTo>
                    <a:pt x="2083" y="2200"/>
                  </a:lnTo>
                  <a:lnTo>
                    <a:pt x="2083" y="2548"/>
                  </a:lnTo>
                  <a:lnTo>
                    <a:pt x="1967" y="2779"/>
                  </a:lnTo>
                  <a:lnTo>
                    <a:pt x="1967" y="3011"/>
                  </a:lnTo>
                  <a:lnTo>
                    <a:pt x="1852" y="3243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504" y="3474"/>
                  </a:lnTo>
                  <a:lnTo>
                    <a:pt x="1389" y="3474"/>
                  </a:lnTo>
                  <a:lnTo>
                    <a:pt x="1273" y="3590"/>
                  </a:lnTo>
                  <a:lnTo>
                    <a:pt x="1273" y="3590"/>
                  </a:lnTo>
                  <a:lnTo>
                    <a:pt x="1157" y="3590"/>
                  </a:lnTo>
                  <a:lnTo>
                    <a:pt x="1041" y="3590"/>
                  </a:lnTo>
                  <a:lnTo>
                    <a:pt x="1041" y="3474"/>
                  </a:lnTo>
                  <a:lnTo>
                    <a:pt x="1041" y="3474"/>
                  </a:lnTo>
                  <a:lnTo>
                    <a:pt x="1157" y="3358"/>
                  </a:lnTo>
                  <a:lnTo>
                    <a:pt x="1273" y="3243"/>
                  </a:lnTo>
                  <a:lnTo>
                    <a:pt x="1389" y="3011"/>
                  </a:lnTo>
                  <a:lnTo>
                    <a:pt x="1504" y="2895"/>
                  </a:lnTo>
                  <a:lnTo>
                    <a:pt x="1504" y="2664"/>
                  </a:lnTo>
                  <a:lnTo>
                    <a:pt x="1620" y="2432"/>
                  </a:lnTo>
                  <a:lnTo>
                    <a:pt x="1620" y="2200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620" y="1621"/>
                  </a:lnTo>
                  <a:lnTo>
                    <a:pt x="1504" y="1390"/>
                  </a:lnTo>
                  <a:lnTo>
                    <a:pt x="1389" y="1274"/>
                  </a:lnTo>
                  <a:lnTo>
                    <a:pt x="1273" y="1042"/>
                  </a:lnTo>
                  <a:lnTo>
                    <a:pt x="1157" y="811"/>
                  </a:lnTo>
                  <a:lnTo>
                    <a:pt x="1041" y="695"/>
                  </a:lnTo>
                  <a:lnTo>
                    <a:pt x="810" y="463"/>
                  </a:lnTo>
                  <a:lnTo>
                    <a:pt x="810" y="463"/>
                  </a:lnTo>
                  <a:lnTo>
                    <a:pt x="694" y="463"/>
                  </a:lnTo>
                  <a:lnTo>
                    <a:pt x="579" y="347"/>
                  </a:lnTo>
                  <a:lnTo>
                    <a:pt x="463" y="347"/>
                  </a:lnTo>
                  <a:lnTo>
                    <a:pt x="347" y="463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347" y="0"/>
                  </a:lnTo>
                  <a:lnTo>
                    <a:pt x="579" y="0"/>
                  </a:lnTo>
                  <a:lnTo>
                    <a:pt x="926" y="116"/>
                  </a:lnTo>
                  <a:lnTo>
                    <a:pt x="1157" y="347"/>
                  </a:lnTo>
                  <a:lnTo>
                    <a:pt x="1389" y="579"/>
                  </a:lnTo>
                  <a:lnTo>
                    <a:pt x="1620" y="811"/>
                  </a:lnTo>
                  <a:lnTo>
                    <a:pt x="1852" y="1158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630440" y="3032280"/>
              <a:ext cx="74880" cy="173880"/>
            </a:xfrm>
            <a:custGeom>
              <a:avLst/>
              <a:gdLst/>
              <a:ahLst/>
              <a:rect l="l" t="t" r="r" b="b"/>
              <a:pathLst>
                <a:path w="1967" h="3242">
                  <a:moveTo>
                    <a:pt x="1388" y="463"/>
                  </a:moveTo>
                  <a:lnTo>
                    <a:pt x="1620" y="695"/>
                  </a:lnTo>
                  <a:lnTo>
                    <a:pt x="1736" y="810"/>
                  </a:lnTo>
                  <a:lnTo>
                    <a:pt x="1851" y="1042"/>
                  </a:lnTo>
                  <a:lnTo>
                    <a:pt x="1967" y="1274"/>
                  </a:lnTo>
                  <a:lnTo>
                    <a:pt x="1967" y="1621"/>
                  </a:lnTo>
                  <a:lnTo>
                    <a:pt x="1967" y="1853"/>
                  </a:lnTo>
                  <a:lnTo>
                    <a:pt x="1967" y="2084"/>
                  </a:lnTo>
                  <a:lnTo>
                    <a:pt x="1967" y="2316"/>
                  </a:lnTo>
                  <a:lnTo>
                    <a:pt x="1967" y="2316"/>
                  </a:lnTo>
                  <a:lnTo>
                    <a:pt x="1851" y="2548"/>
                  </a:lnTo>
                  <a:lnTo>
                    <a:pt x="1851" y="2663"/>
                  </a:lnTo>
                  <a:lnTo>
                    <a:pt x="1736" y="2779"/>
                  </a:lnTo>
                  <a:lnTo>
                    <a:pt x="1620" y="2895"/>
                  </a:lnTo>
                  <a:lnTo>
                    <a:pt x="1620" y="3011"/>
                  </a:lnTo>
                  <a:lnTo>
                    <a:pt x="1504" y="3127"/>
                  </a:lnTo>
                  <a:lnTo>
                    <a:pt x="1388" y="3242"/>
                  </a:lnTo>
                  <a:lnTo>
                    <a:pt x="1273" y="3242"/>
                  </a:lnTo>
                  <a:lnTo>
                    <a:pt x="1273" y="3242"/>
                  </a:lnTo>
                  <a:lnTo>
                    <a:pt x="1273" y="3011"/>
                  </a:lnTo>
                  <a:lnTo>
                    <a:pt x="1388" y="2663"/>
                  </a:lnTo>
                  <a:lnTo>
                    <a:pt x="1504" y="2316"/>
                  </a:lnTo>
                  <a:lnTo>
                    <a:pt x="1620" y="1969"/>
                  </a:lnTo>
                  <a:lnTo>
                    <a:pt x="1620" y="1621"/>
                  </a:lnTo>
                  <a:lnTo>
                    <a:pt x="1620" y="1274"/>
                  </a:lnTo>
                  <a:lnTo>
                    <a:pt x="1504" y="926"/>
                  </a:lnTo>
                  <a:lnTo>
                    <a:pt x="1273" y="695"/>
                  </a:lnTo>
                  <a:lnTo>
                    <a:pt x="1273" y="695"/>
                  </a:lnTo>
                  <a:lnTo>
                    <a:pt x="1157" y="579"/>
                  </a:lnTo>
                  <a:lnTo>
                    <a:pt x="925" y="579"/>
                  </a:lnTo>
                  <a:lnTo>
                    <a:pt x="810" y="463"/>
                  </a:lnTo>
                  <a:lnTo>
                    <a:pt x="578" y="463"/>
                  </a:lnTo>
                  <a:lnTo>
                    <a:pt x="463" y="463"/>
                  </a:lnTo>
                  <a:lnTo>
                    <a:pt x="231" y="463"/>
                  </a:lnTo>
                  <a:lnTo>
                    <a:pt x="115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231" y="116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925" y="116"/>
                  </a:lnTo>
                  <a:lnTo>
                    <a:pt x="1157" y="231"/>
                  </a:lnTo>
                  <a:lnTo>
                    <a:pt x="1273" y="347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719000" y="3069360"/>
              <a:ext cx="57240" cy="167760"/>
            </a:xfrm>
            <a:custGeom>
              <a:avLst/>
              <a:gdLst/>
              <a:ahLst/>
              <a:rect l="l" t="t" r="r" b="b"/>
              <a:pathLst>
                <a:path w="1505" h="3127">
                  <a:moveTo>
                    <a:pt x="1505" y="1158"/>
                  </a:moveTo>
                  <a:lnTo>
                    <a:pt x="1505" y="1389"/>
                  </a:lnTo>
                  <a:lnTo>
                    <a:pt x="1505" y="1737"/>
                  </a:lnTo>
                  <a:lnTo>
                    <a:pt x="1505" y="1968"/>
                  </a:lnTo>
                  <a:lnTo>
                    <a:pt x="1389" y="2316"/>
                  </a:lnTo>
                  <a:lnTo>
                    <a:pt x="1273" y="2547"/>
                  </a:lnTo>
                  <a:lnTo>
                    <a:pt x="1158" y="2779"/>
                  </a:lnTo>
                  <a:lnTo>
                    <a:pt x="926" y="2895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2895"/>
                  </a:lnTo>
                  <a:lnTo>
                    <a:pt x="695" y="2779"/>
                  </a:lnTo>
                  <a:lnTo>
                    <a:pt x="810" y="2663"/>
                  </a:lnTo>
                  <a:lnTo>
                    <a:pt x="810" y="2432"/>
                  </a:lnTo>
                  <a:lnTo>
                    <a:pt x="926" y="2316"/>
                  </a:lnTo>
                  <a:lnTo>
                    <a:pt x="926" y="2200"/>
                  </a:lnTo>
                  <a:lnTo>
                    <a:pt x="1042" y="1968"/>
                  </a:lnTo>
                  <a:lnTo>
                    <a:pt x="1042" y="1737"/>
                  </a:lnTo>
                  <a:lnTo>
                    <a:pt x="1042" y="1737"/>
                  </a:lnTo>
                  <a:lnTo>
                    <a:pt x="1042" y="1621"/>
                  </a:lnTo>
                  <a:lnTo>
                    <a:pt x="1042" y="1389"/>
                  </a:lnTo>
                  <a:lnTo>
                    <a:pt x="926" y="1158"/>
                  </a:lnTo>
                  <a:lnTo>
                    <a:pt x="926" y="926"/>
                  </a:lnTo>
                  <a:lnTo>
                    <a:pt x="926" y="810"/>
                  </a:lnTo>
                  <a:lnTo>
                    <a:pt x="810" y="695"/>
                  </a:lnTo>
                  <a:lnTo>
                    <a:pt x="579" y="463"/>
                  </a:lnTo>
                  <a:lnTo>
                    <a:pt x="463" y="347"/>
                  </a:lnTo>
                  <a:lnTo>
                    <a:pt x="463" y="347"/>
                  </a:lnTo>
                  <a:lnTo>
                    <a:pt x="347" y="347"/>
                  </a:lnTo>
                  <a:lnTo>
                    <a:pt x="232" y="347"/>
                  </a:lnTo>
                  <a:lnTo>
                    <a:pt x="232" y="347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2" y="0"/>
                  </a:lnTo>
                  <a:lnTo>
                    <a:pt x="232" y="0"/>
                  </a:lnTo>
                  <a:lnTo>
                    <a:pt x="463" y="0"/>
                  </a:lnTo>
                  <a:lnTo>
                    <a:pt x="695" y="115"/>
                  </a:lnTo>
                  <a:lnTo>
                    <a:pt x="926" y="231"/>
                  </a:lnTo>
                  <a:lnTo>
                    <a:pt x="1042" y="347"/>
                  </a:lnTo>
                  <a:lnTo>
                    <a:pt x="1158" y="579"/>
                  </a:lnTo>
                  <a:lnTo>
                    <a:pt x="1273" y="695"/>
                  </a:lnTo>
                  <a:lnTo>
                    <a:pt x="1389" y="926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130400" y="3088080"/>
              <a:ext cx="911160" cy="1181160"/>
            </a:xfrm>
            <a:custGeom>
              <a:avLst/>
              <a:gdLst/>
              <a:ahLst/>
              <a:rect l="l" t="t" r="r" b="b"/>
              <a:pathLst>
                <a:path w="23841" h="22004">
                  <a:moveTo>
                    <a:pt x="4050" y="116"/>
                  </a:moveTo>
                  <a:lnTo>
                    <a:pt x="4050" y="232"/>
                  </a:lnTo>
                  <a:lnTo>
                    <a:pt x="3935" y="348"/>
                  </a:lnTo>
                  <a:lnTo>
                    <a:pt x="3935" y="463"/>
                  </a:lnTo>
                  <a:lnTo>
                    <a:pt x="3935" y="579"/>
                  </a:lnTo>
                  <a:lnTo>
                    <a:pt x="3935" y="695"/>
                  </a:lnTo>
                  <a:lnTo>
                    <a:pt x="3935" y="811"/>
                  </a:lnTo>
                  <a:lnTo>
                    <a:pt x="4050" y="927"/>
                  </a:lnTo>
                  <a:lnTo>
                    <a:pt x="4050" y="1042"/>
                  </a:lnTo>
                  <a:lnTo>
                    <a:pt x="4050" y="1042"/>
                  </a:lnTo>
                  <a:lnTo>
                    <a:pt x="4166" y="1158"/>
                  </a:lnTo>
                  <a:lnTo>
                    <a:pt x="4166" y="1274"/>
                  </a:lnTo>
                  <a:lnTo>
                    <a:pt x="4282" y="1274"/>
                  </a:lnTo>
                  <a:lnTo>
                    <a:pt x="4398" y="1274"/>
                  </a:lnTo>
                  <a:lnTo>
                    <a:pt x="4398" y="1274"/>
                  </a:lnTo>
                  <a:lnTo>
                    <a:pt x="4513" y="1274"/>
                  </a:lnTo>
                  <a:lnTo>
                    <a:pt x="4629" y="1274"/>
                  </a:lnTo>
                  <a:lnTo>
                    <a:pt x="4745" y="1274"/>
                  </a:lnTo>
                  <a:lnTo>
                    <a:pt x="4745" y="1274"/>
                  </a:lnTo>
                  <a:lnTo>
                    <a:pt x="4861" y="1158"/>
                  </a:lnTo>
                  <a:lnTo>
                    <a:pt x="4976" y="1042"/>
                  </a:lnTo>
                  <a:lnTo>
                    <a:pt x="5092" y="927"/>
                  </a:lnTo>
                  <a:lnTo>
                    <a:pt x="5208" y="695"/>
                  </a:lnTo>
                  <a:lnTo>
                    <a:pt x="5324" y="579"/>
                  </a:lnTo>
                  <a:lnTo>
                    <a:pt x="5439" y="463"/>
                  </a:lnTo>
                  <a:lnTo>
                    <a:pt x="5439" y="348"/>
                  </a:lnTo>
                  <a:lnTo>
                    <a:pt x="5439" y="116"/>
                  </a:lnTo>
                  <a:lnTo>
                    <a:pt x="5439" y="116"/>
                  </a:lnTo>
                  <a:lnTo>
                    <a:pt x="5786" y="232"/>
                  </a:lnTo>
                  <a:lnTo>
                    <a:pt x="5786" y="232"/>
                  </a:lnTo>
                  <a:lnTo>
                    <a:pt x="5671" y="348"/>
                  </a:lnTo>
                  <a:lnTo>
                    <a:pt x="5439" y="463"/>
                  </a:lnTo>
                  <a:lnTo>
                    <a:pt x="5439" y="579"/>
                  </a:lnTo>
                  <a:lnTo>
                    <a:pt x="5324" y="811"/>
                  </a:lnTo>
                  <a:lnTo>
                    <a:pt x="5324" y="927"/>
                  </a:lnTo>
                  <a:lnTo>
                    <a:pt x="5324" y="1158"/>
                  </a:lnTo>
                  <a:lnTo>
                    <a:pt x="5439" y="1390"/>
                  </a:lnTo>
                  <a:lnTo>
                    <a:pt x="5439" y="1506"/>
                  </a:lnTo>
                  <a:lnTo>
                    <a:pt x="5439" y="1506"/>
                  </a:lnTo>
                  <a:lnTo>
                    <a:pt x="5555" y="1737"/>
                  </a:lnTo>
                  <a:lnTo>
                    <a:pt x="5671" y="1737"/>
                  </a:lnTo>
                  <a:lnTo>
                    <a:pt x="5786" y="1853"/>
                  </a:lnTo>
                  <a:lnTo>
                    <a:pt x="5902" y="1853"/>
                  </a:lnTo>
                  <a:lnTo>
                    <a:pt x="6018" y="1853"/>
                  </a:lnTo>
                  <a:lnTo>
                    <a:pt x="6249" y="1853"/>
                  </a:lnTo>
                  <a:lnTo>
                    <a:pt x="6365" y="1853"/>
                  </a:lnTo>
                  <a:lnTo>
                    <a:pt x="6481" y="1737"/>
                  </a:lnTo>
                  <a:lnTo>
                    <a:pt x="6481" y="1737"/>
                  </a:lnTo>
                  <a:lnTo>
                    <a:pt x="6712" y="1737"/>
                  </a:lnTo>
                  <a:lnTo>
                    <a:pt x="6828" y="1621"/>
                  </a:lnTo>
                  <a:lnTo>
                    <a:pt x="6944" y="1390"/>
                  </a:lnTo>
                  <a:lnTo>
                    <a:pt x="7060" y="1274"/>
                  </a:lnTo>
                  <a:lnTo>
                    <a:pt x="7175" y="1042"/>
                  </a:lnTo>
                  <a:lnTo>
                    <a:pt x="7291" y="927"/>
                  </a:lnTo>
                  <a:lnTo>
                    <a:pt x="7291" y="695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638" y="695"/>
                  </a:lnTo>
                  <a:lnTo>
                    <a:pt x="7522" y="811"/>
                  </a:lnTo>
                  <a:lnTo>
                    <a:pt x="7407" y="1042"/>
                  </a:lnTo>
                  <a:lnTo>
                    <a:pt x="7407" y="1158"/>
                  </a:lnTo>
                  <a:lnTo>
                    <a:pt x="7291" y="1274"/>
                  </a:lnTo>
                  <a:lnTo>
                    <a:pt x="7291" y="1390"/>
                  </a:lnTo>
                  <a:lnTo>
                    <a:pt x="7291" y="1506"/>
                  </a:lnTo>
                  <a:lnTo>
                    <a:pt x="7291" y="1621"/>
                  </a:lnTo>
                  <a:lnTo>
                    <a:pt x="7291" y="1621"/>
                  </a:lnTo>
                  <a:lnTo>
                    <a:pt x="7407" y="1737"/>
                  </a:lnTo>
                  <a:lnTo>
                    <a:pt x="7407" y="1969"/>
                  </a:lnTo>
                  <a:lnTo>
                    <a:pt x="7407" y="2085"/>
                  </a:lnTo>
                  <a:lnTo>
                    <a:pt x="7522" y="2200"/>
                  </a:lnTo>
                  <a:lnTo>
                    <a:pt x="7522" y="2316"/>
                  </a:lnTo>
                  <a:lnTo>
                    <a:pt x="7638" y="2316"/>
                  </a:lnTo>
                  <a:lnTo>
                    <a:pt x="7754" y="2432"/>
                  </a:lnTo>
                  <a:lnTo>
                    <a:pt x="7870" y="2432"/>
                  </a:lnTo>
                  <a:lnTo>
                    <a:pt x="7870" y="2432"/>
                  </a:lnTo>
                  <a:lnTo>
                    <a:pt x="8101" y="2432"/>
                  </a:lnTo>
                  <a:lnTo>
                    <a:pt x="8217" y="2432"/>
                  </a:lnTo>
                  <a:lnTo>
                    <a:pt x="8333" y="2316"/>
                  </a:lnTo>
                  <a:lnTo>
                    <a:pt x="8448" y="2200"/>
                  </a:lnTo>
                  <a:lnTo>
                    <a:pt x="8564" y="2200"/>
                  </a:lnTo>
                  <a:lnTo>
                    <a:pt x="8564" y="2085"/>
                  </a:lnTo>
                  <a:lnTo>
                    <a:pt x="8680" y="1969"/>
                  </a:lnTo>
                  <a:lnTo>
                    <a:pt x="8911" y="1969"/>
                  </a:lnTo>
                  <a:lnTo>
                    <a:pt x="8911" y="1969"/>
                  </a:lnTo>
                  <a:lnTo>
                    <a:pt x="8911" y="1853"/>
                  </a:lnTo>
                  <a:lnTo>
                    <a:pt x="8911" y="1737"/>
                  </a:lnTo>
                  <a:lnTo>
                    <a:pt x="9027" y="1737"/>
                  </a:lnTo>
                  <a:lnTo>
                    <a:pt x="9143" y="1621"/>
                  </a:lnTo>
                  <a:lnTo>
                    <a:pt x="9258" y="1506"/>
                  </a:lnTo>
                  <a:lnTo>
                    <a:pt x="9374" y="1390"/>
                  </a:lnTo>
                  <a:lnTo>
                    <a:pt x="9374" y="1274"/>
                  </a:lnTo>
                  <a:lnTo>
                    <a:pt x="9490" y="1158"/>
                  </a:lnTo>
                  <a:lnTo>
                    <a:pt x="9490" y="1158"/>
                  </a:lnTo>
                  <a:lnTo>
                    <a:pt x="9837" y="1274"/>
                  </a:lnTo>
                  <a:lnTo>
                    <a:pt x="9837" y="1274"/>
                  </a:lnTo>
                  <a:lnTo>
                    <a:pt x="9837" y="1390"/>
                  </a:lnTo>
                  <a:lnTo>
                    <a:pt x="9721" y="1621"/>
                  </a:lnTo>
                  <a:lnTo>
                    <a:pt x="9721" y="1853"/>
                  </a:lnTo>
                  <a:lnTo>
                    <a:pt x="9606" y="2085"/>
                  </a:lnTo>
                  <a:lnTo>
                    <a:pt x="9606" y="2200"/>
                  </a:lnTo>
                  <a:lnTo>
                    <a:pt x="9721" y="2432"/>
                  </a:lnTo>
                  <a:lnTo>
                    <a:pt x="9721" y="2664"/>
                  </a:lnTo>
                  <a:lnTo>
                    <a:pt x="9953" y="2780"/>
                  </a:lnTo>
                  <a:lnTo>
                    <a:pt x="9953" y="2780"/>
                  </a:lnTo>
                  <a:lnTo>
                    <a:pt x="10069" y="2780"/>
                  </a:lnTo>
                  <a:lnTo>
                    <a:pt x="10184" y="2780"/>
                  </a:lnTo>
                  <a:lnTo>
                    <a:pt x="10300" y="2780"/>
                  </a:lnTo>
                  <a:lnTo>
                    <a:pt x="10531" y="2780"/>
                  </a:lnTo>
                  <a:lnTo>
                    <a:pt x="10647" y="2780"/>
                  </a:lnTo>
                  <a:lnTo>
                    <a:pt x="10763" y="2664"/>
                  </a:lnTo>
                  <a:lnTo>
                    <a:pt x="10763" y="2548"/>
                  </a:lnTo>
                  <a:lnTo>
                    <a:pt x="10879" y="2432"/>
                  </a:lnTo>
                  <a:lnTo>
                    <a:pt x="10879" y="2432"/>
                  </a:lnTo>
                  <a:lnTo>
                    <a:pt x="10763" y="2432"/>
                  </a:lnTo>
                  <a:lnTo>
                    <a:pt x="10763" y="2432"/>
                  </a:lnTo>
                  <a:lnTo>
                    <a:pt x="10994" y="2316"/>
                  </a:lnTo>
                  <a:lnTo>
                    <a:pt x="11110" y="2200"/>
                  </a:lnTo>
                  <a:lnTo>
                    <a:pt x="11226" y="1969"/>
                  </a:lnTo>
                  <a:lnTo>
                    <a:pt x="11342" y="1737"/>
                  </a:lnTo>
                  <a:lnTo>
                    <a:pt x="11457" y="1506"/>
                  </a:lnTo>
                  <a:lnTo>
                    <a:pt x="11689" y="1506"/>
                  </a:lnTo>
                  <a:lnTo>
                    <a:pt x="11805" y="1506"/>
                  </a:lnTo>
                  <a:lnTo>
                    <a:pt x="12036" y="1621"/>
                  </a:lnTo>
                  <a:lnTo>
                    <a:pt x="12036" y="1621"/>
                  </a:lnTo>
                  <a:lnTo>
                    <a:pt x="12036" y="1737"/>
                  </a:lnTo>
                  <a:lnTo>
                    <a:pt x="11920" y="1969"/>
                  </a:lnTo>
                  <a:lnTo>
                    <a:pt x="11920" y="2085"/>
                  </a:lnTo>
                  <a:lnTo>
                    <a:pt x="11805" y="2200"/>
                  </a:lnTo>
                  <a:lnTo>
                    <a:pt x="11805" y="2432"/>
                  </a:lnTo>
                  <a:lnTo>
                    <a:pt x="11805" y="2548"/>
                  </a:lnTo>
                  <a:lnTo>
                    <a:pt x="11920" y="2780"/>
                  </a:lnTo>
                  <a:lnTo>
                    <a:pt x="12036" y="2895"/>
                  </a:lnTo>
                  <a:lnTo>
                    <a:pt x="12036" y="2895"/>
                  </a:lnTo>
                  <a:lnTo>
                    <a:pt x="12152" y="3011"/>
                  </a:lnTo>
                  <a:lnTo>
                    <a:pt x="12267" y="3127"/>
                  </a:lnTo>
                  <a:lnTo>
                    <a:pt x="12383" y="3127"/>
                  </a:lnTo>
                  <a:lnTo>
                    <a:pt x="12499" y="3127"/>
                  </a:lnTo>
                  <a:lnTo>
                    <a:pt x="12615" y="3127"/>
                  </a:lnTo>
                  <a:lnTo>
                    <a:pt x="12730" y="3127"/>
                  </a:lnTo>
                  <a:lnTo>
                    <a:pt x="12846" y="3011"/>
                  </a:lnTo>
                  <a:lnTo>
                    <a:pt x="12962" y="3011"/>
                  </a:lnTo>
                  <a:lnTo>
                    <a:pt x="12962" y="3011"/>
                  </a:lnTo>
                  <a:lnTo>
                    <a:pt x="12846" y="2780"/>
                  </a:lnTo>
                  <a:lnTo>
                    <a:pt x="12962" y="2664"/>
                  </a:lnTo>
                  <a:lnTo>
                    <a:pt x="13078" y="2548"/>
                  </a:lnTo>
                  <a:lnTo>
                    <a:pt x="13193" y="2432"/>
                  </a:lnTo>
                  <a:lnTo>
                    <a:pt x="13309" y="2316"/>
                  </a:lnTo>
                  <a:lnTo>
                    <a:pt x="13425" y="2200"/>
                  </a:lnTo>
                  <a:lnTo>
                    <a:pt x="13541" y="2085"/>
                  </a:lnTo>
                  <a:lnTo>
                    <a:pt x="13656" y="1969"/>
                  </a:lnTo>
                  <a:lnTo>
                    <a:pt x="13656" y="1969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3772" y="2085"/>
                  </a:lnTo>
                  <a:lnTo>
                    <a:pt x="13772" y="2316"/>
                  </a:lnTo>
                  <a:lnTo>
                    <a:pt x="13772" y="2432"/>
                  </a:lnTo>
                  <a:lnTo>
                    <a:pt x="13656" y="2664"/>
                  </a:lnTo>
                  <a:lnTo>
                    <a:pt x="13772" y="2780"/>
                  </a:lnTo>
                  <a:lnTo>
                    <a:pt x="13772" y="2895"/>
                  </a:lnTo>
                  <a:lnTo>
                    <a:pt x="13888" y="3127"/>
                  </a:lnTo>
                  <a:lnTo>
                    <a:pt x="14003" y="3127"/>
                  </a:lnTo>
                  <a:lnTo>
                    <a:pt x="14003" y="3127"/>
                  </a:lnTo>
                  <a:lnTo>
                    <a:pt x="14119" y="3127"/>
                  </a:lnTo>
                  <a:lnTo>
                    <a:pt x="14235" y="3127"/>
                  </a:lnTo>
                  <a:lnTo>
                    <a:pt x="14351" y="3127"/>
                  </a:lnTo>
                  <a:lnTo>
                    <a:pt x="14466" y="3127"/>
                  </a:lnTo>
                  <a:lnTo>
                    <a:pt x="14582" y="3011"/>
                  </a:lnTo>
                  <a:lnTo>
                    <a:pt x="14582" y="3011"/>
                  </a:lnTo>
                  <a:lnTo>
                    <a:pt x="14698" y="2895"/>
                  </a:lnTo>
                  <a:lnTo>
                    <a:pt x="14814" y="2780"/>
                  </a:lnTo>
                  <a:lnTo>
                    <a:pt x="14814" y="2780"/>
                  </a:lnTo>
                  <a:lnTo>
                    <a:pt x="14814" y="2664"/>
                  </a:lnTo>
                  <a:lnTo>
                    <a:pt x="14814" y="2664"/>
                  </a:lnTo>
                  <a:lnTo>
                    <a:pt x="14814" y="2548"/>
                  </a:lnTo>
                  <a:lnTo>
                    <a:pt x="14929" y="2432"/>
                  </a:lnTo>
                  <a:lnTo>
                    <a:pt x="14929" y="2316"/>
                  </a:lnTo>
                  <a:lnTo>
                    <a:pt x="15045" y="2316"/>
                  </a:lnTo>
                  <a:lnTo>
                    <a:pt x="15045" y="2200"/>
                  </a:lnTo>
                  <a:lnTo>
                    <a:pt x="15161" y="2085"/>
                  </a:lnTo>
                  <a:lnTo>
                    <a:pt x="15161" y="2085"/>
                  </a:lnTo>
                  <a:lnTo>
                    <a:pt x="15624" y="2085"/>
                  </a:lnTo>
                  <a:lnTo>
                    <a:pt x="15624" y="2085"/>
                  </a:lnTo>
                  <a:lnTo>
                    <a:pt x="15624" y="2200"/>
                  </a:lnTo>
                  <a:lnTo>
                    <a:pt x="15508" y="2432"/>
                  </a:lnTo>
                  <a:lnTo>
                    <a:pt x="15508" y="2548"/>
                  </a:lnTo>
                  <a:lnTo>
                    <a:pt x="15508" y="2664"/>
                  </a:lnTo>
                  <a:lnTo>
                    <a:pt x="15508" y="2780"/>
                  </a:lnTo>
                  <a:lnTo>
                    <a:pt x="15508" y="2895"/>
                  </a:lnTo>
                  <a:lnTo>
                    <a:pt x="15624" y="3011"/>
                  </a:lnTo>
                  <a:lnTo>
                    <a:pt x="15739" y="3127"/>
                  </a:lnTo>
                  <a:lnTo>
                    <a:pt x="15739" y="3127"/>
                  </a:lnTo>
                  <a:lnTo>
                    <a:pt x="15739" y="3243"/>
                  </a:lnTo>
                  <a:lnTo>
                    <a:pt x="15855" y="3243"/>
                  </a:lnTo>
                  <a:lnTo>
                    <a:pt x="15855" y="3243"/>
                  </a:lnTo>
                  <a:lnTo>
                    <a:pt x="15971" y="3359"/>
                  </a:lnTo>
                  <a:lnTo>
                    <a:pt x="16087" y="3359"/>
                  </a:lnTo>
                  <a:lnTo>
                    <a:pt x="16202" y="3359"/>
                  </a:lnTo>
                  <a:lnTo>
                    <a:pt x="16202" y="3359"/>
                  </a:lnTo>
                  <a:lnTo>
                    <a:pt x="16318" y="3359"/>
                  </a:lnTo>
                  <a:lnTo>
                    <a:pt x="16318" y="3359"/>
                  </a:lnTo>
                  <a:lnTo>
                    <a:pt x="16550" y="3243"/>
                  </a:lnTo>
                  <a:lnTo>
                    <a:pt x="16665" y="3011"/>
                  </a:lnTo>
                  <a:lnTo>
                    <a:pt x="16781" y="2895"/>
                  </a:lnTo>
                  <a:lnTo>
                    <a:pt x="17012" y="2664"/>
                  </a:lnTo>
                  <a:lnTo>
                    <a:pt x="17128" y="2432"/>
                  </a:lnTo>
                  <a:lnTo>
                    <a:pt x="17244" y="2316"/>
                  </a:lnTo>
                  <a:lnTo>
                    <a:pt x="17475" y="2316"/>
                  </a:lnTo>
                  <a:lnTo>
                    <a:pt x="17823" y="2432"/>
                  </a:lnTo>
                  <a:lnTo>
                    <a:pt x="17823" y="2432"/>
                  </a:lnTo>
                  <a:lnTo>
                    <a:pt x="17823" y="2548"/>
                  </a:lnTo>
                  <a:lnTo>
                    <a:pt x="17707" y="2664"/>
                  </a:lnTo>
                  <a:lnTo>
                    <a:pt x="17707" y="2780"/>
                  </a:lnTo>
                  <a:lnTo>
                    <a:pt x="17591" y="2895"/>
                  </a:lnTo>
                  <a:lnTo>
                    <a:pt x="17591" y="3011"/>
                  </a:lnTo>
                  <a:lnTo>
                    <a:pt x="17475" y="3127"/>
                  </a:lnTo>
                  <a:lnTo>
                    <a:pt x="17475" y="3243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707" y="3590"/>
                  </a:lnTo>
                  <a:lnTo>
                    <a:pt x="17707" y="3590"/>
                  </a:lnTo>
                  <a:lnTo>
                    <a:pt x="17823" y="3706"/>
                  </a:lnTo>
                  <a:lnTo>
                    <a:pt x="17938" y="3706"/>
                  </a:lnTo>
                  <a:lnTo>
                    <a:pt x="18054" y="3706"/>
                  </a:lnTo>
                  <a:lnTo>
                    <a:pt x="18170" y="3706"/>
                  </a:lnTo>
                  <a:lnTo>
                    <a:pt x="18286" y="3706"/>
                  </a:lnTo>
                  <a:lnTo>
                    <a:pt x="18286" y="3706"/>
                  </a:lnTo>
                  <a:lnTo>
                    <a:pt x="18401" y="3590"/>
                  </a:lnTo>
                  <a:lnTo>
                    <a:pt x="18517" y="3474"/>
                  </a:lnTo>
                  <a:lnTo>
                    <a:pt x="18748" y="3359"/>
                  </a:lnTo>
                  <a:lnTo>
                    <a:pt x="18864" y="3243"/>
                  </a:lnTo>
                  <a:lnTo>
                    <a:pt x="18980" y="3127"/>
                  </a:lnTo>
                  <a:lnTo>
                    <a:pt x="19096" y="3011"/>
                  </a:lnTo>
                  <a:lnTo>
                    <a:pt x="19211" y="2780"/>
                  </a:lnTo>
                  <a:lnTo>
                    <a:pt x="19327" y="2664"/>
                  </a:lnTo>
                  <a:lnTo>
                    <a:pt x="19327" y="2664"/>
                  </a:lnTo>
                  <a:lnTo>
                    <a:pt x="19559" y="2664"/>
                  </a:lnTo>
                  <a:lnTo>
                    <a:pt x="19559" y="2664"/>
                  </a:lnTo>
                  <a:lnTo>
                    <a:pt x="19559" y="2780"/>
                  </a:lnTo>
                  <a:lnTo>
                    <a:pt x="19559" y="3011"/>
                  </a:lnTo>
                  <a:lnTo>
                    <a:pt x="19559" y="3127"/>
                  </a:lnTo>
                  <a:lnTo>
                    <a:pt x="19443" y="3359"/>
                  </a:lnTo>
                  <a:lnTo>
                    <a:pt x="19443" y="3474"/>
                  </a:lnTo>
                  <a:lnTo>
                    <a:pt x="19559" y="3590"/>
                  </a:lnTo>
                  <a:lnTo>
                    <a:pt x="19674" y="3706"/>
                  </a:lnTo>
                  <a:lnTo>
                    <a:pt x="19790" y="3822"/>
                  </a:lnTo>
                  <a:lnTo>
                    <a:pt x="19790" y="3822"/>
                  </a:lnTo>
                  <a:lnTo>
                    <a:pt x="19906" y="3822"/>
                  </a:lnTo>
                  <a:lnTo>
                    <a:pt x="20022" y="3822"/>
                  </a:lnTo>
                  <a:lnTo>
                    <a:pt x="20137" y="3822"/>
                  </a:lnTo>
                  <a:lnTo>
                    <a:pt x="20253" y="3822"/>
                  </a:lnTo>
                  <a:lnTo>
                    <a:pt x="20369" y="3706"/>
                  </a:lnTo>
                  <a:lnTo>
                    <a:pt x="20484" y="3706"/>
                  </a:lnTo>
                  <a:lnTo>
                    <a:pt x="20600" y="3590"/>
                  </a:lnTo>
                  <a:lnTo>
                    <a:pt x="20716" y="3590"/>
                  </a:lnTo>
                  <a:lnTo>
                    <a:pt x="20716" y="3590"/>
                  </a:lnTo>
                  <a:lnTo>
                    <a:pt x="20600" y="3474"/>
                  </a:lnTo>
                  <a:lnTo>
                    <a:pt x="20600" y="3359"/>
                  </a:lnTo>
                  <a:lnTo>
                    <a:pt x="20716" y="3243"/>
                  </a:lnTo>
                  <a:lnTo>
                    <a:pt x="20716" y="3127"/>
                  </a:lnTo>
                  <a:lnTo>
                    <a:pt x="20832" y="3127"/>
                  </a:lnTo>
                  <a:lnTo>
                    <a:pt x="20832" y="3011"/>
                  </a:lnTo>
                  <a:lnTo>
                    <a:pt x="20947" y="2895"/>
                  </a:lnTo>
                  <a:lnTo>
                    <a:pt x="20947" y="2780"/>
                  </a:lnTo>
                  <a:lnTo>
                    <a:pt x="20947" y="2780"/>
                  </a:lnTo>
                  <a:lnTo>
                    <a:pt x="20947" y="2895"/>
                  </a:lnTo>
                  <a:lnTo>
                    <a:pt x="20947" y="3011"/>
                  </a:lnTo>
                  <a:lnTo>
                    <a:pt x="20947" y="3127"/>
                  </a:lnTo>
                  <a:lnTo>
                    <a:pt x="20947" y="3359"/>
                  </a:lnTo>
                  <a:lnTo>
                    <a:pt x="20832" y="3474"/>
                  </a:lnTo>
                  <a:lnTo>
                    <a:pt x="20832" y="3590"/>
                  </a:lnTo>
                  <a:lnTo>
                    <a:pt x="20832" y="3706"/>
                  </a:lnTo>
                  <a:lnTo>
                    <a:pt x="20832" y="3822"/>
                  </a:lnTo>
                  <a:lnTo>
                    <a:pt x="20832" y="3822"/>
                  </a:lnTo>
                  <a:lnTo>
                    <a:pt x="20947" y="3938"/>
                  </a:lnTo>
                  <a:lnTo>
                    <a:pt x="20947" y="3938"/>
                  </a:lnTo>
                  <a:lnTo>
                    <a:pt x="21063" y="4053"/>
                  </a:lnTo>
                  <a:lnTo>
                    <a:pt x="21179" y="4053"/>
                  </a:lnTo>
                  <a:lnTo>
                    <a:pt x="21295" y="4053"/>
                  </a:lnTo>
                  <a:lnTo>
                    <a:pt x="21295" y="4053"/>
                  </a:lnTo>
                  <a:lnTo>
                    <a:pt x="21410" y="4053"/>
                  </a:lnTo>
                  <a:lnTo>
                    <a:pt x="21526" y="4053"/>
                  </a:lnTo>
                  <a:lnTo>
                    <a:pt x="21526" y="4053"/>
                  </a:lnTo>
                  <a:lnTo>
                    <a:pt x="21642" y="3938"/>
                  </a:lnTo>
                  <a:lnTo>
                    <a:pt x="21642" y="3822"/>
                  </a:lnTo>
                  <a:lnTo>
                    <a:pt x="21758" y="3706"/>
                  </a:lnTo>
                  <a:lnTo>
                    <a:pt x="21873" y="3590"/>
                  </a:lnTo>
                  <a:lnTo>
                    <a:pt x="21989" y="3474"/>
                  </a:lnTo>
                  <a:lnTo>
                    <a:pt x="22105" y="3359"/>
                  </a:lnTo>
                  <a:lnTo>
                    <a:pt x="22105" y="3243"/>
                  </a:lnTo>
                  <a:lnTo>
                    <a:pt x="22220" y="3011"/>
                  </a:lnTo>
                  <a:lnTo>
                    <a:pt x="22220" y="3011"/>
                  </a:lnTo>
                  <a:lnTo>
                    <a:pt x="22105" y="3127"/>
                  </a:lnTo>
                  <a:lnTo>
                    <a:pt x="22105" y="3243"/>
                  </a:lnTo>
                  <a:lnTo>
                    <a:pt x="22105" y="3359"/>
                  </a:lnTo>
                  <a:lnTo>
                    <a:pt x="22105" y="3474"/>
                  </a:lnTo>
                  <a:lnTo>
                    <a:pt x="22105" y="3590"/>
                  </a:lnTo>
                  <a:lnTo>
                    <a:pt x="22105" y="3706"/>
                  </a:lnTo>
                  <a:lnTo>
                    <a:pt x="22105" y="3822"/>
                  </a:lnTo>
                  <a:lnTo>
                    <a:pt x="22220" y="3938"/>
                  </a:lnTo>
                  <a:lnTo>
                    <a:pt x="22220" y="3938"/>
                  </a:lnTo>
                  <a:lnTo>
                    <a:pt x="22336" y="4053"/>
                  </a:lnTo>
                  <a:lnTo>
                    <a:pt x="22452" y="4169"/>
                  </a:lnTo>
                  <a:lnTo>
                    <a:pt x="22568" y="4169"/>
                  </a:lnTo>
                  <a:lnTo>
                    <a:pt x="22683" y="4053"/>
                  </a:lnTo>
                  <a:lnTo>
                    <a:pt x="22799" y="3938"/>
                  </a:lnTo>
                  <a:lnTo>
                    <a:pt x="22915" y="3822"/>
                  </a:lnTo>
                  <a:lnTo>
                    <a:pt x="23031" y="3822"/>
                  </a:lnTo>
                  <a:lnTo>
                    <a:pt x="23146" y="3822"/>
                  </a:lnTo>
                  <a:lnTo>
                    <a:pt x="23146" y="3822"/>
                  </a:lnTo>
                  <a:lnTo>
                    <a:pt x="23146" y="3938"/>
                  </a:lnTo>
                  <a:lnTo>
                    <a:pt x="23146" y="3938"/>
                  </a:lnTo>
                  <a:lnTo>
                    <a:pt x="23146" y="4053"/>
                  </a:lnTo>
                  <a:lnTo>
                    <a:pt x="23146" y="4169"/>
                  </a:lnTo>
                  <a:lnTo>
                    <a:pt x="23146" y="4285"/>
                  </a:lnTo>
                  <a:lnTo>
                    <a:pt x="23262" y="4285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841" y="4285"/>
                  </a:lnTo>
                  <a:lnTo>
                    <a:pt x="23841" y="4285"/>
                  </a:lnTo>
                  <a:lnTo>
                    <a:pt x="23378" y="5906"/>
                  </a:lnTo>
                  <a:lnTo>
                    <a:pt x="22799" y="7528"/>
                  </a:lnTo>
                  <a:lnTo>
                    <a:pt x="22452" y="9265"/>
                  </a:lnTo>
                  <a:lnTo>
                    <a:pt x="21989" y="11002"/>
                  </a:lnTo>
                  <a:lnTo>
                    <a:pt x="21642" y="12739"/>
                  </a:lnTo>
                  <a:lnTo>
                    <a:pt x="21410" y="14476"/>
                  </a:lnTo>
                  <a:lnTo>
                    <a:pt x="21179" y="16213"/>
                  </a:lnTo>
                  <a:lnTo>
                    <a:pt x="21063" y="17951"/>
                  </a:lnTo>
                  <a:lnTo>
                    <a:pt x="21063" y="17951"/>
                  </a:lnTo>
                  <a:lnTo>
                    <a:pt x="18517" y="18414"/>
                  </a:lnTo>
                  <a:lnTo>
                    <a:pt x="15971" y="18877"/>
                  </a:lnTo>
                  <a:lnTo>
                    <a:pt x="13541" y="19456"/>
                  </a:lnTo>
                  <a:lnTo>
                    <a:pt x="11110" y="20035"/>
                  </a:lnTo>
                  <a:lnTo>
                    <a:pt x="8564" y="20614"/>
                  </a:lnTo>
                  <a:lnTo>
                    <a:pt x="6134" y="21077"/>
                  </a:lnTo>
                  <a:lnTo>
                    <a:pt x="3588" y="21656"/>
                  </a:lnTo>
                  <a:lnTo>
                    <a:pt x="926" y="22004"/>
                  </a:lnTo>
                  <a:lnTo>
                    <a:pt x="926" y="22004"/>
                  </a:lnTo>
                  <a:lnTo>
                    <a:pt x="1041" y="21888"/>
                  </a:lnTo>
                  <a:lnTo>
                    <a:pt x="1041" y="21656"/>
                  </a:lnTo>
                  <a:lnTo>
                    <a:pt x="1041" y="21541"/>
                  </a:lnTo>
                  <a:lnTo>
                    <a:pt x="1041" y="21309"/>
                  </a:lnTo>
                  <a:lnTo>
                    <a:pt x="1041" y="21193"/>
                  </a:lnTo>
                  <a:lnTo>
                    <a:pt x="926" y="20962"/>
                  </a:lnTo>
                  <a:lnTo>
                    <a:pt x="926" y="20730"/>
                  </a:lnTo>
                  <a:lnTo>
                    <a:pt x="926" y="20614"/>
                  </a:lnTo>
                  <a:lnTo>
                    <a:pt x="926" y="20614"/>
                  </a:lnTo>
                  <a:lnTo>
                    <a:pt x="810" y="20498"/>
                  </a:lnTo>
                  <a:lnTo>
                    <a:pt x="694" y="20383"/>
                  </a:lnTo>
                  <a:lnTo>
                    <a:pt x="579" y="20267"/>
                  </a:lnTo>
                  <a:lnTo>
                    <a:pt x="463" y="20267"/>
                  </a:lnTo>
                  <a:lnTo>
                    <a:pt x="347" y="20151"/>
                  </a:lnTo>
                  <a:lnTo>
                    <a:pt x="231" y="20151"/>
                  </a:lnTo>
                  <a:lnTo>
                    <a:pt x="116" y="20035"/>
                  </a:lnTo>
                  <a:lnTo>
                    <a:pt x="0" y="20035"/>
                  </a:lnTo>
                  <a:lnTo>
                    <a:pt x="0" y="20035"/>
                  </a:lnTo>
                  <a:lnTo>
                    <a:pt x="347" y="17603"/>
                  </a:lnTo>
                  <a:lnTo>
                    <a:pt x="694" y="15055"/>
                  </a:lnTo>
                  <a:lnTo>
                    <a:pt x="1273" y="12623"/>
                  </a:lnTo>
                  <a:lnTo>
                    <a:pt x="1852" y="10076"/>
                  </a:lnTo>
                  <a:lnTo>
                    <a:pt x="2430" y="7644"/>
                  </a:lnTo>
                  <a:lnTo>
                    <a:pt x="2893" y="5096"/>
                  </a:lnTo>
                  <a:lnTo>
                    <a:pt x="3472" y="2548"/>
                  </a:lnTo>
                  <a:lnTo>
                    <a:pt x="3935" y="0"/>
                  </a:lnTo>
                  <a:lnTo>
                    <a:pt x="3935" y="0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073160" y="3094200"/>
              <a:ext cx="119160" cy="845280"/>
            </a:xfrm>
            <a:custGeom>
              <a:avLst/>
              <a:gdLst/>
              <a:ahLst/>
              <a:rect l="l" t="t" r="r" b="b"/>
              <a:pathLst>
                <a:path w="3125" h="15750">
                  <a:moveTo>
                    <a:pt x="3125" y="0"/>
                  </a:moveTo>
                  <a:lnTo>
                    <a:pt x="3125" y="347"/>
                  </a:lnTo>
                  <a:lnTo>
                    <a:pt x="3125" y="811"/>
                  </a:lnTo>
                  <a:lnTo>
                    <a:pt x="3009" y="1274"/>
                  </a:lnTo>
                  <a:lnTo>
                    <a:pt x="2894" y="1737"/>
                  </a:lnTo>
                  <a:lnTo>
                    <a:pt x="2894" y="2084"/>
                  </a:lnTo>
                  <a:lnTo>
                    <a:pt x="2778" y="2548"/>
                  </a:lnTo>
                  <a:lnTo>
                    <a:pt x="2662" y="2895"/>
                  </a:lnTo>
                  <a:lnTo>
                    <a:pt x="2546" y="3358"/>
                  </a:lnTo>
                  <a:lnTo>
                    <a:pt x="2546" y="3358"/>
                  </a:lnTo>
                  <a:lnTo>
                    <a:pt x="2199" y="4748"/>
                  </a:lnTo>
                  <a:lnTo>
                    <a:pt x="1968" y="6138"/>
                  </a:lnTo>
                  <a:lnTo>
                    <a:pt x="1736" y="7528"/>
                  </a:lnTo>
                  <a:lnTo>
                    <a:pt x="1389" y="8917"/>
                  </a:lnTo>
                  <a:lnTo>
                    <a:pt x="1158" y="10307"/>
                  </a:lnTo>
                  <a:lnTo>
                    <a:pt x="926" y="11812"/>
                  </a:lnTo>
                  <a:lnTo>
                    <a:pt x="695" y="13086"/>
                  </a:lnTo>
                  <a:lnTo>
                    <a:pt x="463" y="14476"/>
                  </a:lnTo>
                  <a:lnTo>
                    <a:pt x="463" y="14476"/>
                  </a:lnTo>
                  <a:lnTo>
                    <a:pt x="348" y="14592"/>
                  </a:lnTo>
                  <a:lnTo>
                    <a:pt x="348" y="14824"/>
                  </a:lnTo>
                  <a:lnTo>
                    <a:pt x="348" y="14939"/>
                  </a:lnTo>
                  <a:lnTo>
                    <a:pt x="348" y="15055"/>
                  </a:lnTo>
                  <a:lnTo>
                    <a:pt x="232" y="15287"/>
                  </a:lnTo>
                  <a:lnTo>
                    <a:pt x="232" y="15403"/>
                  </a:lnTo>
                  <a:lnTo>
                    <a:pt x="232" y="15518"/>
                  </a:lnTo>
                  <a:lnTo>
                    <a:pt x="232" y="15750"/>
                  </a:lnTo>
                  <a:lnTo>
                    <a:pt x="232" y="15750"/>
                  </a:lnTo>
                  <a:lnTo>
                    <a:pt x="0" y="15750"/>
                  </a:lnTo>
                  <a:lnTo>
                    <a:pt x="0" y="15750"/>
                  </a:lnTo>
                  <a:lnTo>
                    <a:pt x="116" y="14824"/>
                  </a:lnTo>
                  <a:lnTo>
                    <a:pt x="348" y="14013"/>
                  </a:lnTo>
                  <a:lnTo>
                    <a:pt x="463" y="13086"/>
                  </a:lnTo>
                  <a:lnTo>
                    <a:pt x="579" y="12276"/>
                  </a:lnTo>
                  <a:lnTo>
                    <a:pt x="695" y="11349"/>
                  </a:lnTo>
                  <a:lnTo>
                    <a:pt x="810" y="10423"/>
                  </a:lnTo>
                  <a:lnTo>
                    <a:pt x="926" y="9612"/>
                  </a:lnTo>
                  <a:lnTo>
                    <a:pt x="1042" y="8686"/>
                  </a:lnTo>
                  <a:lnTo>
                    <a:pt x="1042" y="8686"/>
                  </a:lnTo>
                  <a:lnTo>
                    <a:pt x="1273" y="7643"/>
                  </a:lnTo>
                  <a:lnTo>
                    <a:pt x="1505" y="6601"/>
                  </a:lnTo>
                  <a:lnTo>
                    <a:pt x="1736" y="5559"/>
                  </a:lnTo>
                  <a:lnTo>
                    <a:pt x="1968" y="4516"/>
                  </a:lnTo>
                  <a:lnTo>
                    <a:pt x="2199" y="3358"/>
                  </a:lnTo>
                  <a:lnTo>
                    <a:pt x="2431" y="2316"/>
                  </a:lnTo>
                  <a:lnTo>
                    <a:pt x="2662" y="1274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095120" y="3094200"/>
              <a:ext cx="128160" cy="864000"/>
            </a:xfrm>
            <a:custGeom>
              <a:avLst/>
              <a:gdLst/>
              <a:ahLst/>
              <a:rect l="l" t="t" r="r" b="b"/>
              <a:pathLst>
                <a:path w="3356" h="16097">
                  <a:moveTo>
                    <a:pt x="3356" y="0"/>
                  </a:moveTo>
                  <a:lnTo>
                    <a:pt x="3125" y="1390"/>
                  </a:lnTo>
                  <a:lnTo>
                    <a:pt x="2893" y="2779"/>
                  </a:lnTo>
                  <a:lnTo>
                    <a:pt x="2662" y="4053"/>
                  </a:lnTo>
                  <a:lnTo>
                    <a:pt x="2315" y="5443"/>
                  </a:lnTo>
                  <a:lnTo>
                    <a:pt x="2083" y="6833"/>
                  </a:lnTo>
                  <a:lnTo>
                    <a:pt x="1736" y="8107"/>
                  </a:lnTo>
                  <a:lnTo>
                    <a:pt x="1505" y="9496"/>
                  </a:lnTo>
                  <a:lnTo>
                    <a:pt x="1273" y="10770"/>
                  </a:lnTo>
                  <a:lnTo>
                    <a:pt x="1273" y="10770"/>
                  </a:lnTo>
                  <a:lnTo>
                    <a:pt x="1157" y="11002"/>
                  </a:lnTo>
                  <a:lnTo>
                    <a:pt x="1157" y="11233"/>
                  </a:lnTo>
                  <a:lnTo>
                    <a:pt x="1042" y="11465"/>
                  </a:lnTo>
                  <a:lnTo>
                    <a:pt x="1042" y="11697"/>
                  </a:lnTo>
                  <a:lnTo>
                    <a:pt x="926" y="11928"/>
                  </a:lnTo>
                  <a:lnTo>
                    <a:pt x="926" y="12276"/>
                  </a:lnTo>
                  <a:lnTo>
                    <a:pt x="926" y="12507"/>
                  </a:lnTo>
                  <a:lnTo>
                    <a:pt x="810" y="12739"/>
                  </a:lnTo>
                  <a:lnTo>
                    <a:pt x="810" y="12739"/>
                  </a:lnTo>
                  <a:lnTo>
                    <a:pt x="926" y="13086"/>
                  </a:lnTo>
                  <a:lnTo>
                    <a:pt x="810" y="13550"/>
                  </a:lnTo>
                  <a:lnTo>
                    <a:pt x="810" y="13897"/>
                  </a:lnTo>
                  <a:lnTo>
                    <a:pt x="694" y="14360"/>
                  </a:lnTo>
                  <a:lnTo>
                    <a:pt x="579" y="14824"/>
                  </a:lnTo>
                  <a:lnTo>
                    <a:pt x="463" y="15171"/>
                  </a:lnTo>
                  <a:lnTo>
                    <a:pt x="463" y="15634"/>
                  </a:lnTo>
                  <a:lnTo>
                    <a:pt x="463" y="16097"/>
                  </a:lnTo>
                  <a:lnTo>
                    <a:pt x="463" y="16097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347" y="13897"/>
                  </a:lnTo>
                  <a:lnTo>
                    <a:pt x="694" y="11928"/>
                  </a:lnTo>
                  <a:lnTo>
                    <a:pt x="1042" y="9960"/>
                  </a:lnTo>
                  <a:lnTo>
                    <a:pt x="1389" y="7875"/>
                  </a:lnTo>
                  <a:lnTo>
                    <a:pt x="1852" y="5906"/>
                  </a:lnTo>
                  <a:lnTo>
                    <a:pt x="2199" y="3937"/>
                  </a:lnTo>
                  <a:lnTo>
                    <a:pt x="2546" y="1969"/>
                  </a:lnTo>
                  <a:lnTo>
                    <a:pt x="2893" y="0"/>
                  </a:lnTo>
                  <a:lnTo>
                    <a:pt x="2893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240" y="0"/>
                  </a:lnTo>
                  <a:lnTo>
                    <a:pt x="3240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104120" y="3094200"/>
              <a:ext cx="154800" cy="1087920"/>
            </a:xfrm>
            <a:custGeom>
              <a:avLst/>
              <a:gdLst/>
              <a:ahLst/>
              <a:rect l="l" t="t" r="r" b="b"/>
              <a:pathLst>
                <a:path w="4051" h="20267">
                  <a:moveTo>
                    <a:pt x="3704" y="116"/>
                  </a:moveTo>
                  <a:lnTo>
                    <a:pt x="3935" y="0"/>
                  </a:lnTo>
                  <a:lnTo>
                    <a:pt x="4051" y="232"/>
                  </a:lnTo>
                  <a:lnTo>
                    <a:pt x="4051" y="232"/>
                  </a:lnTo>
                  <a:lnTo>
                    <a:pt x="3588" y="2779"/>
                  </a:lnTo>
                  <a:lnTo>
                    <a:pt x="3009" y="5211"/>
                  </a:lnTo>
                  <a:lnTo>
                    <a:pt x="2547" y="7643"/>
                  </a:lnTo>
                  <a:lnTo>
                    <a:pt x="1968" y="10075"/>
                  </a:lnTo>
                  <a:lnTo>
                    <a:pt x="1389" y="12623"/>
                  </a:lnTo>
                  <a:lnTo>
                    <a:pt x="926" y="15055"/>
                  </a:lnTo>
                  <a:lnTo>
                    <a:pt x="579" y="17603"/>
                  </a:lnTo>
                  <a:lnTo>
                    <a:pt x="348" y="20035"/>
                  </a:lnTo>
                  <a:lnTo>
                    <a:pt x="348" y="20035"/>
                  </a:lnTo>
                  <a:lnTo>
                    <a:pt x="348" y="20151"/>
                  </a:lnTo>
                  <a:lnTo>
                    <a:pt x="232" y="20151"/>
                  </a:lnTo>
                  <a:lnTo>
                    <a:pt x="232" y="20151"/>
                  </a:lnTo>
                  <a:lnTo>
                    <a:pt x="116" y="20151"/>
                  </a:lnTo>
                  <a:lnTo>
                    <a:pt x="116" y="20151"/>
                  </a:lnTo>
                  <a:lnTo>
                    <a:pt x="116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348" y="18761"/>
                  </a:lnTo>
                  <a:lnTo>
                    <a:pt x="579" y="17140"/>
                  </a:lnTo>
                  <a:lnTo>
                    <a:pt x="695" y="15634"/>
                  </a:lnTo>
                  <a:lnTo>
                    <a:pt x="926" y="14129"/>
                  </a:lnTo>
                  <a:lnTo>
                    <a:pt x="1042" y="12507"/>
                  </a:lnTo>
                  <a:lnTo>
                    <a:pt x="1158" y="11002"/>
                  </a:lnTo>
                  <a:lnTo>
                    <a:pt x="1505" y="9496"/>
                  </a:lnTo>
                  <a:lnTo>
                    <a:pt x="1852" y="7991"/>
                  </a:lnTo>
                  <a:lnTo>
                    <a:pt x="1852" y="7991"/>
                  </a:lnTo>
                  <a:lnTo>
                    <a:pt x="1968" y="6948"/>
                  </a:lnTo>
                  <a:lnTo>
                    <a:pt x="2199" y="5906"/>
                  </a:lnTo>
                  <a:lnTo>
                    <a:pt x="2431" y="4980"/>
                  </a:lnTo>
                  <a:lnTo>
                    <a:pt x="2778" y="4053"/>
                  </a:lnTo>
                  <a:lnTo>
                    <a:pt x="3009" y="3011"/>
                  </a:lnTo>
                  <a:lnTo>
                    <a:pt x="3241" y="2084"/>
                  </a:lnTo>
                  <a:lnTo>
                    <a:pt x="3472" y="1042"/>
                  </a:lnTo>
                  <a:lnTo>
                    <a:pt x="3588" y="0"/>
                  </a:lnTo>
                  <a:lnTo>
                    <a:pt x="3588" y="0"/>
                  </a:lnTo>
                  <a:lnTo>
                    <a:pt x="3704" y="0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94240" y="3106800"/>
              <a:ext cx="61920" cy="142920"/>
            </a:xfrm>
            <a:custGeom>
              <a:avLst/>
              <a:gdLst/>
              <a:ahLst/>
              <a:rect l="l" t="t" r="r" b="b"/>
              <a:pathLst>
                <a:path w="1620" h="2663">
                  <a:moveTo>
                    <a:pt x="1620" y="810"/>
                  </a:moveTo>
                  <a:lnTo>
                    <a:pt x="1620" y="1042"/>
                  </a:lnTo>
                  <a:lnTo>
                    <a:pt x="1620" y="1158"/>
                  </a:lnTo>
                  <a:lnTo>
                    <a:pt x="1620" y="1389"/>
                  </a:lnTo>
                  <a:lnTo>
                    <a:pt x="1620" y="1621"/>
                  </a:lnTo>
                  <a:lnTo>
                    <a:pt x="1620" y="1852"/>
                  </a:lnTo>
                  <a:lnTo>
                    <a:pt x="1504" y="1968"/>
                  </a:lnTo>
                  <a:lnTo>
                    <a:pt x="1388" y="2200"/>
                  </a:lnTo>
                  <a:lnTo>
                    <a:pt x="1388" y="2316"/>
                  </a:lnTo>
                  <a:lnTo>
                    <a:pt x="1388" y="2316"/>
                  </a:lnTo>
                  <a:lnTo>
                    <a:pt x="1273" y="2432"/>
                  </a:lnTo>
                  <a:lnTo>
                    <a:pt x="1157" y="2432"/>
                  </a:lnTo>
                  <a:lnTo>
                    <a:pt x="1157" y="2547"/>
                  </a:lnTo>
                  <a:lnTo>
                    <a:pt x="1041" y="2547"/>
                  </a:lnTo>
                  <a:lnTo>
                    <a:pt x="1041" y="2663"/>
                  </a:lnTo>
                  <a:lnTo>
                    <a:pt x="926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926" y="2432"/>
                  </a:lnTo>
                  <a:lnTo>
                    <a:pt x="926" y="2200"/>
                  </a:lnTo>
                  <a:lnTo>
                    <a:pt x="1041" y="1968"/>
                  </a:lnTo>
                  <a:lnTo>
                    <a:pt x="1157" y="1737"/>
                  </a:lnTo>
                  <a:lnTo>
                    <a:pt x="1157" y="1505"/>
                  </a:lnTo>
                  <a:lnTo>
                    <a:pt x="1157" y="1158"/>
                  </a:lnTo>
                  <a:lnTo>
                    <a:pt x="1041" y="926"/>
                  </a:lnTo>
                  <a:lnTo>
                    <a:pt x="1041" y="694"/>
                  </a:lnTo>
                  <a:lnTo>
                    <a:pt x="1041" y="694"/>
                  </a:lnTo>
                  <a:lnTo>
                    <a:pt x="926" y="579"/>
                  </a:lnTo>
                  <a:lnTo>
                    <a:pt x="810" y="463"/>
                  </a:lnTo>
                  <a:lnTo>
                    <a:pt x="694" y="347"/>
                  </a:lnTo>
                  <a:lnTo>
                    <a:pt x="578" y="347"/>
                  </a:lnTo>
                  <a:lnTo>
                    <a:pt x="463" y="231"/>
                  </a:lnTo>
                  <a:lnTo>
                    <a:pt x="231" y="231"/>
                  </a:lnTo>
                  <a:lnTo>
                    <a:pt x="115" y="231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5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5"/>
                  </a:lnTo>
                  <a:lnTo>
                    <a:pt x="1273" y="347"/>
                  </a:lnTo>
                  <a:lnTo>
                    <a:pt x="1504" y="579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869480" y="3125520"/>
              <a:ext cx="43920" cy="136800"/>
            </a:xfrm>
            <a:custGeom>
              <a:avLst/>
              <a:gdLst/>
              <a:ahLst/>
              <a:rect l="l" t="t" r="r" b="b"/>
              <a:pathLst>
                <a:path w="1157" h="2548">
                  <a:moveTo>
                    <a:pt x="1042" y="811"/>
                  </a:moveTo>
                  <a:lnTo>
                    <a:pt x="1042" y="926"/>
                  </a:lnTo>
                  <a:lnTo>
                    <a:pt x="1157" y="1158"/>
                  </a:lnTo>
                  <a:lnTo>
                    <a:pt x="1157" y="1274"/>
                  </a:lnTo>
                  <a:lnTo>
                    <a:pt x="1157" y="1505"/>
                  </a:lnTo>
                  <a:lnTo>
                    <a:pt x="1157" y="1621"/>
                  </a:lnTo>
                  <a:lnTo>
                    <a:pt x="1157" y="1853"/>
                  </a:lnTo>
                  <a:lnTo>
                    <a:pt x="1157" y="1969"/>
                  </a:lnTo>
                  <a:lnTo>
                    <a:pt x="1042" y="2200"/>
                  </a:lnTo>
                  <a:lnTo>
                    <a:pt x="1042" y="2200"/>
                  </a:lnTo>
                  <a:lnTo>
                    <a:pt x="695" y="2548"/>
                  </a:lnTo>
                  <a:lnTo>
                    <a:pt x="695" y="2548"/>
                  </a:lnTo>
                  <a:lnTo>
                    <a:pt x="695" y="2200"/>
                  </a:lnTo>
                  <a:lnTo>
                    <a:pt x="695" y="1969"/>
                  </a:lnTo>
                  <a:lnTo>
                    <a:pt x="810" y="1621"/>
                  </a:lnTo>
                  <a:lnTo>
                    <a:pt x="810" y="1274"/>
                  </a:lnTo>
                  <a:lnTo>
                    <a:pt x="810" y="1042"/>
                  </a:lnTo>
                  <a:lnTo>
                    <a:pt x="695" y="811"/>
                  </a:lnTo>
                  <a:lnTo>
                    <a:pt x="463" y="579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810" y="347"/>
                  </a:lnTo>
                  <a:lnTo>
                    <a:pt x="926" y="463"/>
                  </a:lnTo>
                  <a:lnTo>
                    <a:pt x="926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922400" y="3137760"/>
              <a:ext cx="43920" cy="130320"/>
            </a:xfrm>
            <a:custGeom>
              <a:avLst/>
              <a:gdLst/>
              <a:ahLst/>
              <a:rect l="l" t="t" r="r" b="b"/>
              <a:pathLst>
                <a:path w="1157" h="2432">
                  <a:moveTo>
                    <a:pt x="1157" y="926"/>
                  </a:moveTo>
                  <a:lnTo>
                    <a:pt x="1157" y="1158"/>
                  </a:lnTo>
                  <a:lnTo>
                    <a:pt x="1157" y="1389"/>
                  </a:lnTo>
                  <a:lnTo>
                    <a:pt x="1157" y="1505"/>
                  </a:lnTo>
                  <a:lnTo>
                    <a:pt x="1157" y="1737"/>
                  </a:lnTo>
                  <a:lnTo>
                    <a:pt x="1042" y="1968"/>
                  </a:lnTo>
                  <a:lnTo>
                    <a:pt x="926" y="2200"/>
                  </a:lnTo>
                  <a:lnTo>
                    <a:pt x="810" y="2316"/>
                  </a:lnTo>
                  <a:lnTo>
                    <a:pt x="579" y="2432"/>
                  </a:lnTo>
                  <a:lnTo>
                    <a:pt x="579" y="2432"/>
                  </a:lnTo>
                  <a:lnTo>
                    <a:pt x="694" y="2316"/>
                  </a:lnTo>
                  <a:lnTo>
                    <a:pt x="694" y="2200"/>
                  </a:lnTo>
                  <a:lnTo>
                    <a:pt x="694" y="1968"/>
                  </a:lnTo>
                  <a:lnTo>
                    <a:pt x="810" y="1853"/>
                  </a:lnTo>
                  <a:lnTo>
                    <a:pt x="810" y="1621"/>
                  </a:lnTo>
                  <a:lnTo>
                    <a:pt x="926" y="1389"/>
                  </a:lnTo>
                  <a:lnTo>
                    <a:pt x="926" y="1273"/>
                  </a:lnTo>
                  <a:lnTo>
                    <a:pt x="810" y="1042"/>
                  </a:lnTo>
                  <a:lnTo>
                    <a:pt x="810" y="1042"/>
                  </a:lnTo>
                  <a:lnTo>
                    <a:pt x="810" y="926"/>
                  </a:lnTo>
                  <a:lnTo>
                    <a:pt x="694" y="810"/>
                  </a:lnTo>
                  <a:lnTo>
                    <a:pt x="463" y="694"/>
                  </a:lnTo>
                  <a:lnTo>
                    <a:pt x="347" y="579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23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7" y="0"/>
                  </a:lnTo>
                  <a:lnTo>
                    <a:pt x="579" y="115"/>
                  </a:lnTo>
                  <a:lnTo>
                    <a:pt x="694" y="231"/>
                  </a:lnTo>
                  <a:lnTo>
                    <a:pt x="810" y="347"/>
                  </a:lnTo>
                  <a:lnTo>
                    <a:pt x="926" y="579"/>
                  </a:lnTo>
                  <a:lnTo>
                    <a:pt x="1042" y="810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984320" y="3156480"/>
              <a:ext cx="30960" cy="111600"/>
            </a:xfrm>
            <a:custGeom>
              <a:avLst/>
              <a:gdLst/>
              <a:ahLst/>
              <a:rect l="l" t="t" r="r" b="b"/>
              <a:pathLst>
                <a:path w="810" h="2085">
                  <a:moveTo>
                    <a:pt x="810" y="579"/>
                  </a:moveTo>
                  <a:lnTo>
                    <a:pt x="810" y="811"/>
                  </a:lnTo>
                  <a:lnTo>
                    <a:pt x="810" y="1042"/>
                  </a:lnTo>
                  <a:lnTo>
                    <a:pt x="810" y="1158"/>
                  </a:lnTo>
                  <a:lnTo>
                    <a:pt x="810" y="1390"/>
                  </a:lnTo>
                  <a:lnTo>
                    <a:pt x="695" y="1621"/>
                  </a:lnTo>
                  <a:lnTo>
                    <a:pt x="695" y="1737"/>
                  </a:lnTo>
                  <a:lnTo>
                    <a:pt x="579" y="1969"/>
                  </a:lnTo>
                  <a:lnTo>
                    <a:pt x="347" y="2085"/>
                  </a:lnTo>
                  <a:lnTo>
                    <a:pt x="347" y="2085"/>
                  </a:lnTo>
                  <a:lnTo>
                    <a:pt x="463" y="1969"/>
                  </a:lnTo>
                  <a:lnTo>
                    <a:pt x="463" y="1737"/>
                  </a:lnTo>
                  <a:lnTo>
                    <a:pt x="579" y="1506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1"/>
                  </a:lnTo>
                  <a:lnTo>
                    <a:pt x="579" y="579"/>
                  </a:lnTo>
                  <a:lnTo>
                    <a:pt x="347" y="347"/>
                  </a:lnTo>
                  <a:lnTo>
                    <a:pt x="347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2" y="0"/>
                  </a:lnTo>
                  <a:lnTo>
                    <a:pt x="347" y="0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695" y="347"/>
                  </a:lnTo>
                  <a:lnTo>
                    <a:pt x="695" y="463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028600" y="3169080"/>
              <a:ext cx="39600" cy="118080"/>
            </a:xfrm>
            <a:custGeom>
              <a:avLst/>
              <a:gdLst/>
              <a:ahLst/>
              <a:rect l="l" t="t" r="r" b="b"/>
              <a:pathLst>
                <a:path w="1042" h="2200">
                  <a:moveTo>
                    <a:pt x="1042" y="694"/>
                  </a:moveTo>
                  <a:lnTo>
                    <a:pt x="1042" y="926"/>
                  </a:lnTo>
                  <a:lnTo>
                    <a:pt x="1042" y="1042"/>
                  </a:lnTo>
                  <a:lnTo>
                    <a:pt x="1042" y="1274"/>
                  </a:lnTo>
                  <a:lnTo>
                    <a:pt x="926" y="1505"/>
                  </a:lnTo>
                  <a:lnTo>
                    <a:pt x="926" y="1737"/>
                  </a:lnTo>
                  <a:lnTo>
                    <a:pt x="811" y="1853"/>
                  </a:lnTo>
                  <a:lnTo>
                    <a:pt x="579" y="2084"/>
                  </a:lnTo>
                  <a:lnTo>
                    <a:pt x="463" y="2200"/>
                  </a:lnTo>
                  <a:lnTo>
                    <a:pt x="463" y="2200"/>
                  </a:lnTo>
                  <a:lnTo>
                    <a:pt x="116" y="2200"/>
                  </a:lnTo>
                  <a:lnTo>
                    <a:pt x="116" y="2200"/>
                  </a:lnTo>
                  <a:lnTo>
                    <a:pt x="232" y="1968"/>
                  </a:lnTo>
                  <a:lnTo>
                    <a:pt x="348" y="1737"/>
                  </a:lnTo>
                  <a:lnTo>
                    <a:pt x="463" y="1621"/>
                  </a:lnTo>
                  <a:lnTo>
                    <a:pt x="463" y="1389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0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8" y="0"/>
                  </a:lnTo>
                  <a:lnTo>
                    <a:pt x="463" y="0"/>
                  </a:lnTo>
                  <a:lnTo>
                    <a:pt x="579" y="115"/>
                  </a:lnTo>
                  <a:lnTo>
                    <a:pt x="811" y="231"/>
                  </a:lnTo>
                  <a:lnTo>
                    <a:pt x="926" y="347"/>
                  </a:lnTo>
                  <a:lnTo>
                    <a:pt x="1042" y="579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396080" y="3312000"/>
              <a:ext cx="238680" cy="397800"/>
            </a:xfrm>
            <a:custGeom>
              <a:avLst/>
              <a:gdLst/>
              <a:ahLst/>
              <a:rect l="l" t="t" r="r" b="b"/>
              <a:pathLst>
                <a:path w="6249" h="7412">
                  <a:moveTo>
                    <a:pt x="5439" y="1969"/>
                  </a:moveTo>
                  <a:lnTo>
                    <a:pt x="5439" y="2085"/>
                  </a:lnTo>
                  <a:lnTo>
                    <a:pt x="5555" y="2085"/>
                  </a:lnTo>
                  <a:lnTo>
                    <a:pt x="5555" y="2085"/>
                  </a:lnTo>
                  <a:lnTo>
                    <a:pt x="5671" y="2085"/>
                  </a:lnTo>
                  <a:lnTo>
                    <a:pt x="5671" y="2085"/>
                  </a:lnTo>
                  <a:lnTo>
                    <a:pt x="5786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853"/>
                  </a:lnTo>
                  <a:lnTo>
                    <a:pt x="6018" y="1853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249" y="1737"/>
                  </a:lnTo>
                  <a:lnTo>
                    <a:pt x="6249" y="1737"/>
                  </a:lnTo>
                  <a:lnTo>
                    <a:pt x="6249" y="1853"/>
                  </a:lnTo>
                  <a:lnTo>
                    <a:pt x="6249" y="1969"/>
                  </a:lnTo>
                  <a:lnTo>
                    <a:pt x="6249" y="2085"/>
                  </a:lnTo>
                  <a:lnTo>
                    <a:pt x="6134" y="2201"/>
                  </a:lnTo>
                  <a:lnTo>
                    <a:pt x="6018" y="2316"/>
                  </a:lnTo>
                  <a:lnTo>
                    <a:pt x="5902" y="2432"/>
                  </a:lnTo>
                  <a:lnTo>
                    <a:pt x="5786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3127"/>
                  </a:lnTo>
                  <a:lnTo>
                    <a:pt x="5555" y="3822"/>
                  </a:lnTo>
                  <a:lnTo>
                    <a:pt x="5555" y="4401"/>
                  </a:lnTo>
                  <a:lnTo>
                    <a:pt x="5323" y="4980"/>
                  </a:lnTo>
                  <a:lnTo>
                    <a:pt x="5208" y="5675"/>
                  </a:lnTo>
                  <a:lnTo>
                    <a:pt x="4861" y="6138"/>
                  </a:lnTo>
                  <a:lnTo>
                    <a:pt x="4398" y="6601"/>
                  </a:lnTo>
                  <a:lnTo>
                    <a:pt x="3935" y="7065"/>
                  </a:lnTo>
                  <a:lnTo>
                    <a:pt x="3935" y="7065"/>
                  </a:lnTo>
                  <a:lnTo>
                    <a:pt x="3703" y="7180"/>
                  </a:lnTo>
                  <a:lnTo>
                    <a:pt x="3356" y="7296"/>
                  </a:lnTo>
                  <a:lnTo>
                    <a:pt x="3125" y="7412"/>
                  </a:lnTo>
                  <a:lnTo>
                    <a:pt x="2893" y="7412"/>
                  </a:lnTo>
                  <a:lnTo>
                    <a:pt x="2546" y="7412"/>
                  </a:lnTo>
                  <a:lnTo>
                    <a:pt x="2199" y="7412"/>
                  </a:lnTo>
                  <a:lnTo>
                    <a:pt x="1967" y="7296"/>
                  </a:lnTo>
                  <a:lnTo>
                    <a:pt x="1620" y="7296"/>
                  </a:lnTo>
                  <a:lnTo>
                    <a:pt x="1620" y="7296"/>
                  </a:lnTo>
                  <a:lnTo>
                    <a:pt x="1389" y="7180"/>
                  </a:lnTo>
                  <a:lnTo>
                    <a:pt x="1157" y="7065"/>
                  </a:lnTo>
                  <a:lnTo>
                    <a:pt x="926" y="6949"/>
                  </a:lnTo>
                  <a:lnTo>
                    <a:pt x="694" y="6717"/>
                  </a:lnTo>
                  <a:lnTo>
                    <a:pt x="578" y="6601"/>
                  </a:lnTo>
                  <a:lnTo>
                    <a:pt x="347" y="6370"/>
                  </a:lnTo>
                  <a:lnTo>
                    <a:pt x="231" y="6138"/>
                  </a:lnTo>
                  <a:lnTo>
                    <a:pt x="116" y="5907"/>
                  </a:lnTo>
                  <a:lnTo>
                    <a:pt x="116" y="5907"/>
                  </a:lnTo>
                  <a:lnTo>
                    <a:pt x="0" y="5559"/>
                  </a:lnTo>
                  <a:lnTo>
                    <a:pt x="0" y="5096"/>
                  </a:lnTo>
                  <a:lnTo>
                    <a:pt x="0" y="4748"/>
                  </a:lnTo>
                  <a:lnTo>
                    <a:pt x="0" y="4285"/>
                  </a:lnTo>
                  <a:lnTo>
                    <a:pt x="0" y="3938"/>
                  </a:lnTo>
                  <a:lnTo>
                    <a:pt x="116" y="3590"/>
                  </a:lnTo>
                  <a:lnTo>
                    <a:pt x="347" y="3243"/>
                  </a:lnTo>
                  <a:lnTo>
                    <a:pt x="578" y="2895"/>
                  </a:lnTo>
                  <a:lnTo>
                    <a:pt x="578" y="2895"/>
                  </a:lnTo>
                  <a:lnTo>
                    <a:pt x="926" y="2432"/>
                  </a:lnTo>
                  <a:lnTo>
                    <a:pt x="1273" y="2085"/>
                  </a:lnTo>
                  <a:lnTo>
                    <a:pt x="1736" y="1853"/>
                  </a:lnTo>
                  <a:lnTo>
                    <a:pt x="2083" y="1622"/>
                  </a:lnTo>
                  <a:lnTo>
                    <a:pt x="2546" y="1390"/>
                  </a:lnTo>
                  <a:lnTo>
                    <a:pt x="3009" y="1274"/>
                  </a:lnTo>
                  <a:lnTo>
                    <a:pt x="3587" y="1158"/>
                  </a:lnTo>
                  <a:lnTo>
                    <a:pt x="4050" y="1158"/>
                  </a:lnTo>
                  <a:lnTo>
                    <a:pt x="4050" y="1158"/>
                  </a:lnTo>
                  <a:lnTo>
                    <a:pt x="3587" y="927"/>
                  </a:lnTo>
                  <a:lnTo>
                    <a:pt x="3240" y="811"/>
                  </a:lnTo>
                  <a:lnTo>
                    <a:pt x="2777" y="579"/>
                  </a:lnTo>
                  <a:lnTo>
                    <a:pt x="2314" y="463"/>
                  </a:lnTo>
                  <a:lnTo>
                    <a:pt x="1851" y="463"/>
                  </a:lnTo>
                  <a:lnTo>
                    <a:pt x="1389" y="463"/>
                  </a:lnTo>
                  <a:lnTo>
                    <a:pt x="926" y="579"/>
                  </a:lnTo>
                  <a:lnTo>
                    <a:pt x="578" y="695"/>
                  </a:lnTo>
                  <a:lnTo>
                    <a:pt x="578" y="695"/>
                  </a:lnTo>
                  <a:lnTo>
                    <a:pt x="578" y="463"/>
                  </a:lnTo>
                  <a:lnTo>
                    <a:pt x="694" y="348"/>
                  </a:lnTo>
                  <a:lnTo>
                    <a:pt x="926" y="232"/>
                  </a:lnTo>
                  <a:lnTo>
                    <a:pt x="1041" y="116"/>
                  </a:lnTo>
                  <a:lnTo>
                    <a:pt x="1273" y="116"/>
                  </a:lnTo>
                  <a:lnTo>
                    <a:pt x="1504" y="0"/>
                  </a:lnTo>
                  <a:lnTo>
                    <a:pt x="1620" y="0"/>
                  </a:lnTo>
                  <a:lnTo>
                    <a:pt x="1851" y="0"/>
                  </a:lnTo>
                  <a:lnTo>
                    <a:pt x="1851" y="0"/>
                  </a:lnTo>
                  <a:lnTo>
                    <a:pt x="2314" y="116"/>
                  </a:lnTo>
                  <a:lnTo>
                    <a:pt x="2777" y="232"/>
                  </a:lnTo>
                  <a:lnTo>
                    <a:pt x="3356" y="463"/>
                  </a:lnTo>
                  <a:lnTo>
                    <a:pt x="3819" y="579"/>
                  </a:lnTo>
                  <a:lnTo>
                    <a:pt x="4282" y="811"/>
                  </a:lnTo>
                  <a:lnTo>
                    <a:pt x="4745" y="1043"/>
                  </a:lnTo>
                  <a:lnTo>
                    <a:pt x="5092" y="1506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43760" y="3367800"/>
              <a:ext cx="198720" cy="410040"/>
            </a:xfrm>
            <a:custGeom>
              <a:avLst/>
              <a:gdLst/>
              <a:ahLst/>
              <a:rect l="l" t="t" r="r" b="b"/>
              <a:pathLst>
                <a:path w="5208" h="7643">
                  <a:moveTo>
                    <a:pt x="4976" y="347"/>
                  </a:moveTo>
                  <a:lnTo>
                    <a:pt x="4976" y="347"/>
                  </a:lnTo>
                  <a:lnTo>
                    <a:pt x="4861" y="347"/>
                  </a:lnTo>
                  <a:lnTo>
                    <a:pt x="4745" y="347"/>
                  </a:lnTo>
                  <a:lnTo>
                    <a:pt x="4629" y="347"/>
                  </a:lnTo>
                  <a:lnTo>
                    <a:pt x="4513" y="347"/>
                  </a:lnTo>
                  <a:lnTo>
                    <a:pt x="4398" y="347"/>
                  </a:lnTo>
                  <a:lnTo>
                    <a:pt x="4282" y="231"/>
                  </a:lnTo>
                  <a:lnTo>
                    <a:pt x="4166" y="347"/>
                  </a:lnTo>
                  <a:lnTo>
                    <a:pt x="4166" y="347"/>
                  </a:lnTo>
                  <a:lnTo>
                    <a:pt x="4050" y="347"/>
                  </a:lnTo>
                  <a:lnTo>
                    <a:pt x="3819" y="463"/>
                  </a:lnTo>
                  <a:lnTo>
                    <a:pt x="3703" y="463"/>
                  </a:lnTo>
                  <a:lnTo>
                    <a:pt x="3472" y="579"/>
                  </a:lnTo>
                  <a:lnTo>
                    <a:pt x="3356" y="579"/>
                  </a:lnTo>
                  <a:lnTo>
                    <a:pt x="3240" y="694"/>
                  </a:lnTo>
                  <a:lnTo>
                    <a:pt x="3009" y="810"/>
                  </a:lnTo>
                  <a:lnTo>
                    <a:pt x="2893" y="926"/>
                  </a:lnTo>
                  <a:lnTo>
                    <a:pt x="2893" y="926"/>
                  </a:lnTo>
                  <a:lnTo>
                    <a:pt x="3240" y="926"/>
                  </a:lnTo>
                  <a:lnTo>
                    <a:pt x="3472" y="1042"/>
                  </a:lnTo>
                  <a:lnTo>
                    <a:pt x="3819" y="1158"/>
                  </a:lnTo>
                  <a:lnTo>
                    <a:pt x="4050" y="1273"/>
                  </a:lnTo>
                  <a:lnTo>
                    <a:pt x="4282" y="1389"/>
                  </a:lnTo>
                  <a:lnTo>
                    <a:pt x="4513" y="1621"/>
                  </a:lnTo>
                  <a:lnTo>
                    <a:pt x="4745" y="1852"/>
                  </a:lnTo>
                  <a:lnTo>
                    <a:pt x="4976" y="2084"/>
                  </a:lnTo>
                  <a:lnTo>
                    <a:pt x="4976" y="2084"/>
                  </a:lnTo>
                  <a:lnTo>
                    <a:pt x="5092" y="2663"/>
                  </a:lnTo>
                  <a:lnTo>
                    <a:pt x="5208" y="3242"/>
                  </a:lnTo>
                  <a:lnTo>
                    <a:pt x="5208" y="3821"/>
                  </a:lnTo>
                  <a:lnTo>
                    <a:pt x="5092" y="4400"/>
                  </a:lnTo>
                  <a:lnTo>
                    <a:pt x="4976" y="4979"/>
                  </a:lnTo>
                  <a:lnTo>
                    <a:pt x="4745" y="5558"/>
                  </a:lnTo>
                  <a:lnTo>
                    <a:pt x="4513" y="6137"/>
                  </a:lnTo>
                  <a:lnTo>
                    <a:pt x="4166" y="6601"/>
                  </a:lnTo>
                  <a:lnTo>
                    <a:pt x="4166" y="6601"/>
                  </a:lnTo>
                  <a:lnTo>
                    <a:pt x="3819" y="6948"/>
                  </a:lnTo>
                  <a:lnTo>
                    <a:pt x="3472" y="7180"/>
                  </a:lnTo>
                  <a:lnTo>
                    <a:pt x="3125" y="7411"/>
                  </a:lnTo>
                  <a:lnTo>
                    <a:pt x="2662" y="7527"/>
                  </a:lnTo>
                  <a:lnTo>
                    <a:pt x="2199" y="7643"/>
                  </a:lnTo>
                  <a:lnTo>
                    <a:pt x="1736" y="7643"/>
                  </a:lnTo>
                  <a:lnTo>
                    <a:pt x="1273" y="7643"/>
                  </a:lnTo>
                  <a:lnTo>
                    <a:pt x="810" y="7527"/>
                  </a:lnTo>
                  <a:lnTo>
                    <a:pt x="810" y="7527"/>
                  </a:lnTo>
                  <a:lnTo>
                    <a:pt x="463" y="7064"/>
                  </a:lnTo>
                  <a:lnTo>
                    <a:pt x="231" y="6485"/>
                  </a:lnTo>
                  <a:lnTo>
                    <a:pt x="0" y="5906"/>
                  </a:lnTo>
                  <a:lnTo>
                    <a:pt x="0" y="5211"/>
                  </a:lnTo>
                  <a:lnTo>
                    <a:pt x="116" y="4632"/>
                  </a:lnTo>
                  <a:lnTo>
                    <a:pt x="231" y="3937"/>
                  </a:lnTo>
                  <a:lnTo>
                    <a:pt x="347" y="3358"/>
                  </a:lnTo>
                  <a:lnTo>
                    <a:pt x="578" y="2779"/>
                  </a:lnTo>
                  <a:lnTo>
                    <a:pt x="578" y="2779"/>
                  </a:lnTo>
                  <a:lnTo>
                    <a:pt x="578" y="2547"/>
                  </a:lnTo>
                  <a:lnTo>
                    <a:pt x="694" y="2432"/>
                  </a:lnTo>
                  <a:lnTo>
                    <a:pt x="810" y="2316"/>
                  </a:lnTo>
                  <a:lnTo>
                    <a:pt x="810" y="2200"/>
                  </a:lnTo>
                  <a:lnTo>
                    <a:pt x="926" y="1968"/>
                  </a:lnTo>
                  <a:lnTo>
                    <a:pt x="1041" y="1852"/>
                  </a:lnTo>
                  <a:lnTo>
                    <a:pt x="1041" y="1737"/>
                  </a:lnTo>
                  <a:lnTo>
                    <a:pt x="1157" y="1621"/>
                  </a:lnTo>
                  <a:lnTo>
                    <a:pt x="1157" y="1621"/>
                  </a:lnTo>
                  <a:lnTo>
                    <a:pt x="1041" y="1505"/>
                  </a:lnTo>
                  <a:lnTo>
                    <a:pt x="926" y="1505"/>
                  </a:lnTo>
                  <a:lnTo>
                    <a:pt x="926" y="1389"/>
                  </a:lnTo>
                  <a:lnTo>
                    <a:pt x="810" y="1389"/>
                  </a:lnTo>
                  <a:lnTo>
                    <a:pt x="694" y="1389"/>
                  </a:lnTo>
                  <a:lnTo>
                    <a:pt x="694" y="1389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694" y="1158"/>
                  </a:lnTo>
                  <a:lnTo>
                    <a:pt x="810" y="1158"/>
                  </a:lnTo>
                  <a:lnTo>
                    <a:pt x="926" y="1158"/>
                  </a:lnTo>
                  <a:lnTo>
                    <a:pt x="1041" y="1158"/>
                  </a:lnTo>
                  <a:lnTo>
                    <a:pt x="1157" y="1158"/>
                  </a:lnTo>
                  <a:lnTo>
                    <a:pt x="1389" y="1158"/>
                  </a:lnTo>
                  <a:lnTo>
                    <a:pt x="1504" y="1158"/>
                  </a:lnTo>
                  <a:lnTo>
                    <a:pt x="1620" y="1158"/>
                  </a:lnTo>
                  <a:lnTo>
                    <a:pt x="1620" y="1158"/>
                  </a:lnTo>
                  <a:lnTo>
                    <a:pt x="1967" y="926"/>
                  </a:lnTo>
                  <a:lnTo>
                    <a:pt x="2430" y="694"/>
                  </a:lnTo>
                  <a:lnTo>
                    <a:pt x="2777" y="347"/>
                  </a:lnTo>
                  <a:lnTo>
                    <a:pt x="3240" y="115"/>
                  </a:lnTo>
                  <a:lnTo>
                    <a:pt x="3703" y="0"/>
                  </a:lnTo>
                  <a:lnTo>
                    <a:pt x="4166" y="0"/>
                  </a:lnTo>
                  <a:lnTo>
                    <a:pt x="4629" y="0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409400" y="3399120"/>
              <a:ext cx="185760" cy="285840"/>
            </a:xfrm>
            <a:custGeom>
              <a:avLst/>
              <a:gdLst/>
              <a:ahLst/>
              <a:rect l="l" t="t" r="r" b="b"/>
              <a:pathLst>
                <a:path w="4861" h="5327">
                  <a:moveTo>
                    <a:pt x="4398" y="463"/>
                  </a:moveTo>
                  <a:lnTo>
                    <a:pt x="4629" y="926"/>
                  </a:lnTo>
                  <a:lnTo>
                    <a:pt x="4745" y="1389"/>
                  </a:lnTo>
                  <a:lnTo>
                    <a:pt x="4745" y="1968"/>
                  </a:lnTo>
                  <a:lnTo>
                    <a:pt x="4861" y="2432"/>
                  </a:lnTo>
                  <a:lnTo>
                    <a:pt x="4745" y="2895"/>
                  </a:lnTo>
                  <a:lnTo>
                    <a:pt x="4629" y="3474"/>
                  </a:lnTo>
                  <a:lnTo>
                    <a:pt x="4398" y="3937"/>
                  </a:lnTo>
                  <a:lnTo>
                    <a:pt x="4051" y="4285"/>
                  </a:lnTo>
                  <a:lnTo>
                    <a:pt x="4051" y="4285"/>
                  </a:lnTo>
                  <a:lnTo>
                    <a:pt x="3935" y="4516"/>
                  </a:lnTo>
                  <a:lnTo>
                    <a:pt x="3819" y="4632"/>
                  </a:lnTo>
                  <a:lnTo>
                    <a:pt x="3588" y="4864"/>
                  </a:lnTo>
                  <a:lnTo>
                    <a:pt x="3356" y="4979"/>
                  </a:lnTo>
                  <a:lnTo>
                    <a:pt x="3125" y="5095"/>
                  </a:lnTo>
                  <a:lnTo>
                    <a:pt x="3009" y="5211"/>
                  </a:lnTo>
                  <a:lnTo>
                    <a:pt x="2778" y="5327"/>
                  </a:lnTo>
                  <a:lnTo>
                    <a:pt x="2430" y="5327"/>
                  </a:lnTo>
                  <a:lnTo>
                    <a:pt x="2430" y="5327"/>
                  </a:lnTo>
                  <a:lnTo>
                    <a:pt x="2083" y="5327"/>
                  </a:lnTo>
                  <a:lnTo>
                    <a:pt x="1736" y="5211"/>
                  </a:lnTo>
                  <a:lnTo>
                    <a:pt x="1389" y="5211"/>
                  </a:lnTo>
                  <a:lnTo>
                    <a:pt x="1157" y="5095"/>
                  </a:lnTo>
                  <a:lnTo>
                    <a:pt x="810" y="4864"/>
                  </a:lnTo>
                  <a:lnTo>
                    <a:pt x="579" y="4748"/>
                  </a:lnTo>
                  <a:lnTo>
                    <a:pt x="347" y="4400"/>
                  </a:lnTo>
                  <a:lnTo>
                    <a:pt x="231" y="4053"/>
                  </a:lnTo>
                  <a:lnTo>
                    <a:pt x="231" y="4053"/>
                  </a:lnTo>
                  <a:lnTo>
                    <a:pt x="116" y="3590"/>
                  </a:lnTo>
                  <a:lnTo>
                    <a:pt x="0" y="3242"/>
                  </a:lnTo>
                  <a:lnTo>
                    <a:pt x="116" y="2779"/>
                  </a:lnTo>
                  <a:lnTo>
                    <a:pt x="231" y="2316"/>
                  </a:lnTo>
                  <a:lnTo>
                    <a:pt x="347" y="1853"/>
                  </a:lnTo>
                  <a:lnTo>
                    <a:pt x="579" y="1505"/>
                  </a:lnTo>
                  <a:lnTo>
                    <a:pt x="810" y="1158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504" y="579"/>
                  </a:lnTo>
                  <a:lnTo>
                    <a:pt x="1852" y="463"/>
                  </a:lnTo>
                  <a:lnTo>
                    <a:pt x="2199" y="347"/>
                  </a:lnTo>
                  <a:lnTo>
                    <a:pt x="2546" y="231"/>
                  </a:lnTo>
                  <a:lnTo>
                    <a:pt x="2893" y="115"/>
                  </a:lnTo>
                  <a:lnTo>
                    <a:pt x="3240" y="115"/>
                  </a:lnTo>
                  <a:lnTo>
                    <a:pt x="3703" y="115"/>
                  </a:lnTo>
                  <a:lnTo>
                    <a:pt x="4051" y="0"/>
                  </a:lnTo>
                  <a:lnTo>
                    <a:pt x="4051" y="0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479960" y="3411360"/>
              <a:ext cx="92880" cy="124200"/>
            </a:xfrm>
            <a:custGeom>
              <a:avLst/>
              <a:gdLst/>
              <a:ahLst/>
              <a:rect l="l" t="t" r="r" b="b"/>
              <a:pathLst>
                <a:path w="2430" h="2316">
                  <a:moveTo>
                    <a:pt x="2314" y="579"/>
                  </a:moveTo>
                  <a:lnTo>
                    <a:pt x="2430" y="811"/>
                  </a:lnTo>
                  <a:lnTo>
                    <a:pt x="2430" y="1042"/>
                  </a:lnTo>
                  <a:lnTo>
                    <a:pt x="2430" y="1274"/>
                  </a:lnTo>
                  <a:lnTo>
                    <a:pt x="2314" y="1506"/>
                  </a:lnTo>
                  <a:lnTo>
                    <a:pt x="2199" y="1737"/>
                  </a:lnTo>
                  <a:lnTo>
                    <a:pt x="2083" y="1969"/>
                  </a:lnTo>
                  <a:lnTo>
                    <a:pt x="1851" y="2085"/>
                  </a:lnTo>
                  <a:lnTo>
                    <a:pt x="1620" y="2201"/>
                  </a:lnTo>
                  <a:lnTo>
                    <a:pt x="1620" y="2201"/>
                  </a:lnTo>
                  <a:lnTo>
                    <a:pt x="1504" y="2201"/>
                  </a:lnTo>
                  <a:lnTo>
                    <a:pt x="1388" y="2316"/>
                  </a:lnTo>
                  <a:lnTo>
                    <a:pt x="1157" y="2316"/>
                  </a:lnTo>
                  <a:lnTo>
                    <a:pt x="1041" y="2201"/>
                  </a:lnTo>
                  <a:lnTo>
                    <a:pt x="926" y="2201"/>
                  </a:lnTo>
                  <a:lnTo>
                    <a:pt x="810" y="2201"/>
                  </a:lnTo>
                  <a:lnTo>
                    <a:pt x="578" y="2085"/>
                  </a:lnTo>
                  <a:lnTo>
                    <a:pt x="463" y="2085"/>
                  </a:lnTo>
                  <a:lnTo>
                    <a:pt x="463" y="2085"/>
                  </a:lnTo>
                  <a:lnTo>
                    <a:pt x="347" y="1969"/>
                  </a:lnTo>
                  <a:lnTo>
                    <a:pt x="231" y="1737"/>
                  </a:lnTo>
                  <a:lnTo>
                    <a:pt x="115" y="1622"/>
                  </a:lnTo>
                  <a:lnTo>
                    <a:pt x="115" y="1390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578" y="232"/>
                  </a:lnTo>
                  <a:lnTo>
                    <a:pt x="810" y="116"/>
                  </a:lnTo>
                  <a:lnTo>
                    <a:pt x="1273" y="0"/>
                  </a:lnTo>
                  <a:lnTo>
                    <a:pt x="1620" y="0"/>
                  </a:lnTo>
                  <a:lnTo>
                    <a:pt x="1851" y="116"/>
                  </a:lnTo>
                  <a:lnTo>
                    <a:pt x="2199" y="232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661400" y="3442320"/>
              <a:ext cx="163440" cy="310680"/>
            </a:xfrm>
            <a:custGeom>
              <a:avLst/>
              <a:gdLst/>
              <a:ahLst/>
              <a:rect l="l" t="t" r="r" b="b"/>
              <a:pathLst>
                <a:path w="4282" h="5791">
                  <a:moveTo>
                    <a:pt x="4166" y="927"/>
                  </a:moveTo>
                  <a:lnTo>
                    <a:pt x="4282" y="1506"/>
                  </a:lnTo>
                  <a:lnTo>
                    <a:pt x="4282" y="1969"/>
                  </a:lnTo>
                  <a:lnTo>
                    <a:pt x="4282" y="2432"/>
                  </a:lnTo>
                  <a:lnTo>
                    <a:pt x="4166" y="2895"/>
                  </a:lnTo>
                  <a:lnTo>
                    <a:pt x="4050" y="3359"/>
                  </a:lnTo>
                  <a:lnTo>
                    <a:pt x="3935" y="3822"/>
                  </a:lnTo>
                  <a:lnTo>
                    <a:pt x="3703" y="4285"/>
                  </a:lnTo>
                  <a:lnTo>
                    <a:pt x="3587" y="4633"/>
                  </a:lnTo>
                  <a:lnTo>
                    <a:pt x="3587" y="4633"/>
                  </a:lnTo>
                  <a:lnTo>
                    <a:pt x="3240" y="4980"/>
                  </a:lnTo>
                  <a:lnTo>
                    <a:pt x="3009" y="5327"/>
                  </a:lnTo>
                  <a:lnTo>
                    <a:pt x="2662" y="5443"/>
                  </a:lnTo>
                  <a:lnTo>
                    <a:pt x="2199" y="5675"/>
                  </a:lnTo>
                  <a:lnTo>
                    <a:pt x="1851" y="5791"/>
                  </a:lnTo>
                  <a:lnTo>
                    <a:pt x="1504" y="5791"/>
                  </a:lnTo>
                  <a:lnTo>
                    <a:pt x="1041" y="5791"/>
                  </a:lnTo>
                  <a:lnTo>
                    <a:pt x="578" y="5791"/>
                  </a:lnTo>
                  <a:lnTo>
                    <a:pt x="578" y="5791"/>
                  </a:lnTo>
                  <a:lnTo>
                    <a:pt x="231" y="5096"/>
                  </a:lnTo>
                  <a:lnTo>
                    <a:pt x="0" y="4401"/>
                  </a:lnTo>
                  <a:lnTo>
                    <a:pt x="0" y="3706"/>
                  </a:lnTo>
                  <a:lnTo>
                    <a:pt x="0" y="3011"/>
                  </a:lnTo>
                  <a:lnTo>
                    <a:pt x="231" y="2316"/>
                  </a:lnTo>
                  <a:lnTo>
                    <a:pt x="463" y="1622"/>
                  </a:lnTo>
                  <a:lnTo>
                    <a:pt x="810" y="927"/>
                  </a:lnTo>
                  <a:lnTo>
                    <a:pt x="1157" y="348"/>
                  </a:lnTo>
                  <a:lnTo>
                    <a:pt x="1157" y="348"/>
                  </a:lnTo>
                  <a:lnTo>
                    <a:pt x="1389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0"/>
                  </a:lnTo>
                  <a:lnTo>
                    <a:pt x="2314" y="0"/>
                  </a:lnTo>
                  <a:lnTo>
                    <a:pt x="2662" y="0"/>
                  </a:lnTo>
                  <a:lnTo>
                    <a:pt x="2893" y="116"/>
                  </a:lnTo>
                  <a:lnTo>
                    <a:pt x="3124" y="116"/>
                  </a:lnTo>
                  <a:lnTo>
                    <a:pt x="3124" y="116"/>
                  </a:lnTo>
                  <a:lnTo>
                    <a:pt x="3240" y="232"/>
                  </a:lnTo>
                  <a:lnTo>
                    <a:pt x="3472" y="232"/>
                  </a:lnTo>
                  <a:lnTo>
                    <a:pt x="3587" y="348"/>
                  </a:lnTo>
                  <a:lnTo>
                    <a:pt x="3703" y="463"/>
                  </a:lnTo>
                  <a:lnTo>
                    <a:pt x="3819" y="579"/>
                  </a:lnTo>
                  <a:lnTo>
                    <a:pt x="3935" y="695"/>
                  </a:lnTo>
                  <a:lnTo>
                    <a:pt x="4050" y="811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524240" y="3454920"/>
              <a:ext cx="21960" cy="30960"/>
            </a:xfrm>
            <a:custGeom>
              <a:avLst/>
              <a:gdLst/>
              <a:ahLst/>
              <a:rect l="l" t="t" r="r" b="b"/>
              <a:pathLst>
                <a:path w="579" h="579">
                  <a:moveTo>
                    <a:pt x="463" y="579"/>
                  </a:moveTo>
                  <a:lnTo>
                    <a:pt x="463" y="579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116" y="347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116"/>
                  </a:lnTo>
                  <a:lnTo>
                    <a:pt x="579" y="116"/>
                  </a:lnTo>
                  <a:lnTo>
                    <a:pt x="579" y="231"/>
                  </a:lnTo>
                  <a:lnTo>
                    <a:pt x="579" y="347"/>
                  </a:lnTo>
                  <a:lnTo>
                    <a:pt x="579" y="463"/>
                  </a:lnTo>
                  <a:lnTo>
                    <a:pt x="579" y="463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692360" y="3479760"/>
              <a:ext cx="70560" cy="99360"/>
            </a:xfrm>
            <a:custGeom>
              <a:avLst/>
              <a:gdLst/>
              <a:ahLst/>
              <a:rect l="l" t="t" r="r" b="b"/>
              <a:pathLst>
                <a:path w="1852" h="1853">
                  <a:moveTo>
                    <a:pt x="1852" y="579"/>
                  </a:moveTo>
                  <a:lnTo>
                    <a:pt x="1852" y="811"/>
                  </a:lnTo>
                  <a:lnTo>
                    <a:pt x="1852" y="927"/>
                  </a:lnTo>
                  <a:lnTo>
                    <a:pt x="1736" y="1158"/>
                  </a:lnTo>
                  <a:lnTo>
                    <a:pt x="1736" y="1390"/>
                  </a:lnTo>
                  <a:lnTo>
                    <a:pt x="1620" y="1506"/>
                  </a:lnTo>
                  <a:lnTo>
                    <a:pt x="1389" y="1621"/>
                  </a:lnTo>
                  <a:lnTo>
                    <a:pt x="1273" y="1737"/>
                  </a:lnTo>
                  <a:lnTo>
                    <a:pt x="1041" y="1853"/>
                  </a:lnTo>
                  <a:lnTo>
                    <a:pt x="1041" y="1853"/>
                  </a:lnTo>
                  <a:lnTo>
                    <a:pt x="926" y="1853"/>
                  </a:lnTo>
                  <a:lnTo>
                    <a:pt x="694" y="1853"/>
                  </a:lnTo>
                  <a:lnTo>
                    <a:pt x="579" y="1737"/>
                  </a:lnTo>
                  <a:lnTo>
                    <a:pt x="463" y="1737"/>
                  </a:lnTo>
                  <a:lnTo>
                    <a:pt x="347" y="1621"/>
                  </a:lnTo>
                  <a:lnTo>
                    <a:pt x="231" y="1506"/>
                  </a:lnTo>
                  <a:lnTo>
                    <a:pt x="116" y="1390"/>
                  </a:lnTo>
                  <a:lnTo>
                    <a:pt x="0" y="1274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927"/>
                  </a:lnTo>
                  <a:lnTo>
                    <a:pt x="0" y="811"/>
                  </a:lnTo>
                  <a:lnTo>
                    <a:pt x="0" y="695"/>
                  </a:lnTo>
                  <a:lnTo>
                    <a:pt x="0" y="463"/>
                  </a:lnTo>
                  <a:lnTo>
                    <a:pt x="116" y="348"/>
                  </a:lnTo>
                  <a:lnTo>
                    <a:pt x="116" y="232"/>
                  </a:lnTo>
                  <a:lnTo>
                    <a:pt x="231" y="116"/>
                  </a:lnTo>
                  <a:lnTo>
                    <a:pt x="231" y="116"/>
                  </a:lnTo>
                  <a:lnTo>
                    <a:pt x="463" y="0"/>
                  </a:lnTo>
                  <a:lnTo>
                    <a:pt x="694" y="0"/>
                  </a:lnTo>
                  <a:lnTo>
                    <a:pt x="926" y="0"/>
                  </a:lnTo>
                  <a:lnTo>
                    <a:pt x="1157" y="0"/>
                  </a:lnTo>
                  <a:lnTo>
                    <a:pt x="1389" y="0"/>
                  </a:lnTo>
                  <a:lnTo>
                    <a:pt x="1620" y="116"/>
                  </a:lnTo>
                  <a:lnTo>
                    <a:pt x="1736" y="348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723320" y="3510720"/>
              <a:ext cx="21960" cy="37080"/>
            </a:xfrm>
            <a:custGeom>
              <a:avLst/>
              <a:gdLst/>
              <a:ahLst/>
              <a:rect l="l" t="t" r="r" b="b"/>
              <a:pathLst>
                <a:path w="579" h="695">
                  <a:moveTo>
                    <a:pt x="463" y="116"/>
                  </a:moveTo>
                  <a:lnTo>
                    <a:pt x="463" y="116"/>
                  </a:lnTo>
                  <a:lnTo>
                    <a:pt x="579" y="232"/>
                  </a:lnTo>
                  <a:lnTo>
                    <a:pt x="463" y="348"/>
                  </a:lnTo>
                  <a:lnTo>
                    <a:pt x="463" y="463"/>
                  </a:lnTo>
                  <a:lnTo>
                    <a:pt x="463" y="463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695"/>
                  </a:lnTo>
                  <a:lnTo>
                    <a:pt x="231" y="695"/>
                  </a:lnTo>
                  <a:lnTo>
                    <a:pt x="116" y="695"/>
                  </a:lnTo>
                  <a:lnTo>
                    <a:pt x="116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231" y="116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67560" y="3784320"/>
              <a:ext cx="61920" cy="37080"/>
            </a:xfrm>
            <a:custGeom>
              <a:avLst/>
              <a:gdLst/>
              <a:ahLst/>
              <a:rect l="l" t="t" r="r" b="b"/>
              <a:pathLst>
                <a:path w="1620" h="695">
                  <a:moveTo>
                    <a:pt x="1620" y="116"/>
                  </a:moveTo>
                  <a:lnTo>
                    <a:pt x="1388" y="116"/>
                  </a:lnTo>
                  <a:lnTo>
                    <a:pt x="1157" y="116"/>
                  </a:lnTo>
                  <a:lnTo>
                    <a:pt x="1041" y="231"/>
                  </a:lnTo>
                  <a:lnTo>
                    <a:pt x="810" y="347"/>
                  </a:lnTo>
                  <a:lnTo>
                    <a:pt x="578" y="347"/>
                  </a:lnTo>
                  <a:lnTo>
                    <a:pt x="462" y="463"/>
                  </a:lnTo>
                  <a:lnTo>
                    <a:pt x="347" y="579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0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115" y="347"/>
                  </a:lnTo>
                  <a:lnTo>
                    <a:pt x="115" y="347"/>
                  </a:lnTo>
                  <a:lnTo>
                    <a:pt x="231" y="231"/>
                  </a:lnTo>
                  <a:lnTo>
                    <a:pt x="462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0"/>
                  </a:lnTo>
                  <a:lnTo>
                    <a:pt x="1157" y="0"/>
                  </a:lnTo>
                  <a:lnTo>
                    <a:pt x="1388" y="0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254240" y="3827880"/>
              <a:ext cx="552960" cy="173880"/>
            </a:xfrm>
            <a:custGeom>
              <a:avLst/>
              <a:gdLst/>
              <a:ahLst/>
              <a:rect l="l" t="t" r="r" b="b"/>
              <a:pathLst>
                <a:path w="14467" h="3243">
                  <a:moveTo>
                    <a:pt x="3820" y="232"/>
                  </a:moveTo>
                  <a:lnTo>
                    <a:pt x="3704" y="232"/>
                  </a:lnTo>
                  <a:lnTo>
                    <a:pt x="3472" y="232"/>
                  </a:lnTo>
                  <a:lnTo>
                    <a:pt x="3357" y="232"/>
                  </a:lnTo>
                  <a:lnTo>
                    <a:pt x="3125" y="232"/>
                  </a:lnTo>
                  <a:lnTo>
                    <a:pt x="3009" y="348"/>
                  </a:lnTo>
                  <a:lnTo>
                    <a:pt x="2778" y="348"/>
                  </a:lnTo>
                  <a:lnTo>
                    <a:pt x="2662" y="348"/>
                  </a:lnTo>
                  <a:lnTo>
                    <a:pt x="2431" y="464"/>
                  </a:lnTo>
                  <a:lnTo>
                    <a:pt x="2431" y="464"/>
                  </a:lnTo>
                  <a:lnTo>
                    <a:pt x="2431" y="695"/>
                  </a:lnTo>
                  <a:lnTo>
                    <a:pt x="2431" y="695"/>
                  </a:lnTo>
                  <a:lnTo>
                    <a:pt x="2894" y="1159"/>
                  </a:lnTo>
                  <a:lnTo>
                    <a:pt x="3472" y="1622"/>
                  </a:lnTo>
                  <a:lnTo>
                    <a:pt x="4051" y="1853"/>
                  </a:lnTo>
                  <a:lnTo>
                    <a:pt x="4745" y="2085"/>
                  </a:lnTo>
                  <a:lnTo>
                    <a:pt x="5440" y="2201"/>
                  </a:lnTo>
                  <a:lnTo>
                    <a:pt x="6018" y="2432"/>
                  </a:lnTo>
                  <a:lnTo>
                    <a:pt x="6713" y="2548"/>
                  </a:lnTo>
                  <a:lnTo>
                    <a:pt x="7291" y="2780"/>
                  </a:lnTo>
                  <a:lnTo>
                    <a:pt x="7291" y="2780"/>
                  </a:lnTo>
                  <a:lnTo>
                    <a:pt x="7639" y="2780"/>
                  </a:lnTo>
                  <a:lnTo>
                    <a:pt x="7986" y="2780"/>
                  </a:lnTo>
                  <a:lnTo>
                    <a:pt x="8333" y="2780"/>
                  </a:lnTo>
                  <a:lnTo>
                    <a:pt x="8680" y="2664"/>
                  </a:lnTo>
                  <a:lnTo>
                    <a:pt x="9027" y="2664"/>
                  </a:lnTo>
                  <a:lnTo>
                    <a:pt x="9375" y="2548"/>
                  </a:lnTo>
                  <a:lnTo>
                    <a:pt x="9722" y="2432"/>
                  </a:lnTo>
                  <a:lnTo>
                    <a:pt x="10069" y="2317"/>
                  </a:lnTo>
                  <a:lnTo>
                    <a:pt x="10069" y="2317"/>
                  </a:lnTo>
                  <a:lnTo>
                    <a:pt x="10185" y="2317"/>
                  </a:lnTo>
                  <a:lnTo>
                    <a:pt x="10185" y="2317"/>
                  </a:lnTo>
                  <a:lnTo>
                    <a:pt x="10301" y="2317"/>
                  </a:lnTo>
                  <a:lnTo>
                    <a:pt x="10416" y="2317"/>
                  </a:lnTo>
                  <a:lnTo>
                    <a:pt x="10532" y="2317"/>
                  </a:lnTo>
                  <a:lnTo>
                    <a:pt x="10648" y="2201"/>
                  </a:lnTo>
                  <a:lnTo>
                    <a:pt x="10763" y="2201"/>
                  </a:lnTo>
                  <a:lnTo>
                    <a:pt x="10763" y="2085"/>
                  </a:lnTo>
                  <a:lnTo>
                    <a:pt x="10763" y="2085"/>
                  </a:lnTo>
                  <a:lnTo>
                    <a:pt x="10879" y="2201"/>
                  </a:lnTo>
                  <a:lnTo>
                    <a:pt x="10879" y="2201"/>
                  </a:lnTo>
                  <a:lnTo>
                    <a:pt x="11226" y="1969"/>
                  </a:lnTo>
                  <a:lnTo>
                    <a:pt x="11574" y="1853"/>
                  </a:lnTo>
                  <a:lnTo>
                    <a:pt x="11921" y="1738"/>
                  </a:lnTo>
                  <a:lnTo>
                    <a:pt x="12268" y="1622"/>
                  </a:lnTo>
                  <a:lnTo>
                    <a:pt x="12615" y="1506"/>
                  </a:lnTo>
                  <a:lnTo>
                    <a:pt x="12962" y="1506"/>
                  </a:lnTo>
                  <a:lnTo>
                    <a:pt x="13310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888" y="1390"/>
                  </a:lnTo>
                  <a:lnTo>
                    <a:pt x="14004" y="1390"/>
                  </a:lnTo>
                  <a:lnTo>
                    <a:pt x="14120" y="1274"/>
                  </a:lnTo>
                  <a:lnTo>
                    <a:pt x="14120" y="1159"/>
                  </a:lnTo>
                  <a:lnTo>
                    <a:pt x="14235" y="1159"/>
                  </a:lnTo>
                  <a:lnTo>
                    <a:pt x="14351" y="1159"/>
                  </a:lnTo>
                  <a:lnTo>
                    <a:pt x="14467" y="1159"/>
                  </a:lnTo>
                  <a:lnTo>
                    <a:pt x="14467" y="1159"/>
                  </a:lnTo>
                  <a:lnTo>
                    <a:pt x="14467" y="1274"/>
                  </a:lnTo>
                  <a:lnTo>
                    <a:pt x="14351" y="1390"/>
                  </a:lnTo>
                  <a:lnTo>
                    <a:pt x="14351" y="1506"/>
                  </a:lnTo>
                  <a:lnTo>
                    <a:pt x="14235" y="1622"/>
                  </a:lnTo>
                  <a:lnTo>
                    <a:pt x="14120" y="1738"/>
                  </a:lnTo>
                  <a:lnTo>
                    <a:pt x="14004" y="1853"/>
                  </a:lnTo>
                  <a:lnTo>
                    <a:pt x="13888" y="1853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2962" y="1969"/>
                  </a:lnTo>
                  <a:lnTo>
                    <a:pt x="12152" y="2085"/>
                  </a:lnTo>
                  <a:lnTo>
                    <a:pt x="11458" y="2317"/>
                  </a:lnTo>
                  <a:lnTo>
                    <a:pt x="10648" y="2548"/>
                  </a:lnTo>
                  <a:lnTo>
                    <a:pt x="9953" y="2780"/>
                  </a:lnTo>
                  <a:lnTo>
                    <a:pt x="9143" y="3011"/>
                  </a:lnTo>
                  <a:lnTo>
                    <a:pt x="8333" y="3127"/>
                  </a:lnTo>
                  <a:lnTo>
                    <a:pt x="7523" y="3243"/>
                  </a:lnTo>
                  <a:lnTo>
                    <a:pt x="7523" y="3243"/>
                  </a:lnTo>
                  <a:lnTo>
                    <a:pt x="6713" y="3011"/>
                  </a:lnTo>
                  <a:lnTo>
                    <a:pt x="6018" y="2896"/>
                  </a:lnTo>
                  <a:lnTo>
                    <a:pt x="5208" y="2664"/>
                  </a:lnTo>
                  <a:lnTo>
                    <a:pt x="4514" y="2432"/>
                  </a:lnTo>
                  <a:lnTo>
                    <a:pt x="3704" y="2201"/>
                  </a:lnTo>
                  <a:lnTo>
                    <a:pt x="3125" y="1738"/>
                  </a:lnTo>
                  <a:lnTo>
                    <a:pt x="2431" y="1274"/>
                  </a:lnTo>
                  <a:lnTo>
                    <a:pt x="1968" y="695"/>
                  </a:lnTo>
                  <a:lnTo>
                    <a:pt x="1968" y="695"/>
                  </a:lnTo>
                  <a:lnTo>
                    <a:pt x="1736" y="811"/>
                  </a:lnTo>
                  <a:lnTo>
                    <a:pt x="1505" y="927"/>
                  </a:lnTo>
                  <a:lnTo>
                    <a:pt x="1273" y="1043"/>
                  </a:lnTo>
                  <a:lnTo>
                    <a:pt x="1042" y="1159"/>
                  </a:lnTo>
                  <a:lnTo>
                    <a:pt x="810" y="1274"/>
                  </a:lnTo>
                  <a:lnTo>
                    <a:pt x="579" y="1506"/>
                  </a:lnTo>
                  <a:lnTo>
                    <a:pt x="463" y="1622"/>
                  </a:lnTo>
                  <a:lnTo>
                    <a:pt x="348" y="1853"/>
                  </a:lnTo>
                  <a:lnTo>
                    <a:pt x="348" y="1853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116" y="1390"/>
                  </a:lnTo>
                  <a:lnTo>
                    <a:pt x="348" y="1159"/>
                  </a:lnTo>
                  <a:lnTo>
                    <a:pt x="463" y="927"/>
                  </a:lnTo>
                  <a:lnTo>
                    <a:pt x="810" y="811"/>
                  </a:lnTo>
                  <a:lnTo>
                    <a:pt x="1042" y="695"/>
                  </a:lnTo>
                  <a:lnTo>
                    <a:pt x="1273" y="579"/>
                  </a:lnTo>
                  <a:lnTo>
                    <a:pt x="1621" y="348"/>
                  </a:lnTo>
                  <a:lnTo>
                    <a:pt x="1852" y="232"/>
                  </a:lnTo>
                  <a:lnTo>
                    <a:pt x="1852" y="232"/>
                  </a:lnTo>
                  <a:lnTo>
                    <a:pt x="2084" y="116"/>
                  </a:lnTo>
                  <a:lnTo>
                    <a:pt x="2315" y="116"/>
                  </a:lnTo>
                  <a:lnTo>
                    <a:pt x="2546" y="0"/>
                  </a:lnTo>
                  <a:lnTo>
                    <a:pt x="2778" y="0"/>
                  </a:lnTo>
                  <a:lnTo>
                    <a:pt x="3125" y="0"/>
                  </a:lnTo>
                  <a:lnTo>
                    <a:pt x="3357" y="116"/>
                  </a:lnTo>
                  <a:lnTo>
                    <a:pt x="3588" y="116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329560" y="3927600"/>
              <a:ext cx="366840" cy="298440"/>
            </a:xfrm>
            <a:custGeom>
              <a:avLst/>
              <a:gdLst/>
              <a:ahLst/>
              <a:rect l="l" t="t" r="r" b="b"/>
              <a:pathLst>
                <a:path w="9606" h="5559">
                  <a:moveTo>
                    <a:pt x="9606" y="695"/>
                  </a:moveTo>
                  <a:lnTo>
                    <a:pt x="9606" y="811"/>
                  </a:lnTo>
                  <a:lnTo>
                    <a:pt x="9606" y="811"/>
                  </a:lnTo>
                  <a:lnTo>
                    <a:pt x="9490" y="811"/>
                  </a:lnTo>
                  <a:lnTo>
                    <a:pt x="9375" y="811"/>
                  </a:lnTo>
                  <a:lnTo>
                    <a:pt x="9259" y="811"/>
                  </a:lnTo>
                  <a:lnTo>
                    <a:pt x="9143" y="811"/>
                  </a:lnTo>
                  <a:lnTo>
                    <a:pt x="9027" y="811"/>
                  </a:lnTo>
                  <a:lnTo>
                    <a:pt x="8912" y="927"/>
                  </a:lnTo>
                  <a:lnTo>
                    <a:pt x="8796" y="927"/>
                  </a:lnTo>
                  <a:lnTo>
                    <a:pt x="8680" y="1043"/>
                  </a:lnTo>
                  <a:lnTo>
                    <a:pt x="8680" y="1043"/>
                  </a:lnTo>
                  <a:lnTo>
                    <a:pt x="8912" y="1158"/>
                  </a:lnTo>
                  <a:lnTo>
                    <a:pt x="8912" y="1158"/>
                  </a:lnTo>
                  <a:lnTo>
                    <a:pt x="8680" y="1158"/>
                  </a:lnTo>
                  <a:lnTo>
                    <a:pt x="8564" y="1274"/>
                  </a:lnTo>
                  <a:lnTo>
                    <a:pt x="8333" y="1274"/>
                  </a:lnTo>
                  <a:lnTo>
                    <a:pt x="8102" y="1274"/>
                  </a:lnTo>
                  <a:lnTo>
                    <a:pt x="7986" y="1390"/>
                  </a:lnTo>
                  <a:lnTo>
                    <a:pt x="7754" y="1390"/>
                  </a:lnTo>
                  <a:lnTo>
                    <a:pt x="7639" y="1506"/>
                  </a:lnTo>
                  <a:lnTo>
                    <a:pt x="7407" y="1622"/>
                  </a:lnTo>
                  <a:lnTo>
                    <a:pt x="7407" y="1622"/>
                  </a:lnTo>
                  <a:lnTo>
                    <a:pt x="7639" y="1622"/>
                  </a:lnTo>
                  <a:lnTo>
                    <a:pt x="7754" y="1622"/>
                  </a:lnTo>
                  <a:lnTo>
                    <a:pt x="7870" y="1738"/>
                  </a:lnTo>
                  <a:lnTo>
                    <a:pt x="7986" y="1738"/>
                  </a:lnTo>
                  <a:lnTo>
                    <a:pt x="8102" y="1738"/>
                  </a:lnTo>
                  <a:lnTo>
                    <a:pt x="8217" y="1853"/>
                  </a:lnTo>
                  <a:lnTo>
                    <a:pt x="8333" y="1853"/>
                  </a:lnTo>
                  <a:lnTo>
                    <a:pt x="8564" y="1853"/>
                  </a:lnTo>
                  <a:lnTo>
                    <a:pt x="8564" y="1853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680" y="2085"/>
                  </a:lnTo>
                  <a:lnTo>
                    <a:pt x="8680" y="2085"/>
                  </a:lnTo>
                  <a:lnTo>
                    <a:pt x="8796" y="1969"/>
                  </a:lnTo>
                  <a:lnTo>
                    <a:pt x="8796" y="1969"/>
                  </a:lnTo>
                  <a:lnTo>
                    <a:pt x="8912" y="1969"/>
                  </a:lnTo>
                  <a:lnTo>
                    <a:pt x="8912" y="1969"/>
                  </a:lnTo>
                  <a:lnTo>
                    <a:pt x="9027" y="1969"/>
                  </a:lnTo>
                  <a:lnTo>
                    <a:pt x="9027" y="1969"/>
                  </a:lnTo>
                  <a:lnTo>
                    <a:pt x="8796" y="2085"/>
                  </a:lnTo>
                  <a:lnTo>
                    <a:pt x="8680" y="2085"/>
                  </a:lnTo>
                  <a:lnTo>
                    <a:pt x="8449" y="2201"/>
                  </a:lnTo>
                  <a:lnTo>
                    <a:pt x="8333" y="2317"/>
                  </a:lnTo>
                  <a:lnTo>
                    <a:pt x="8102" y="2317"/>
                  </a:lnTo>
                  <a:lnTo>
                    <a:pt x="7986" y="2432"/>
                  </a:lnTo>
                  <a:lnTo>
                    <a:pt x="7754" y="2664"/>
                  </a:lnTo>
                  <a:lnTo>
                    <a:pt x="7639" y="2780"/>
                  </a:lnTo>
                  <a:lnTo>
                    <a:pt x="7639" y="2780"/>
                  </a:lnTo>
                  <a:lnTo>
                    <a:pt x="7870" y="2780"/>
                  </a:lnTo>
                  <a:lnTo>
                    <a:pt x="8102" y="2780"/>
                  </a:lnTo>
                  <a:lnTo>
                    <a:pt x="8333" y="2780"/>
                  </a:lnTo>
                  <a:lnTo>
                    <a:pt x="8564" y="2664"/>
                  </a:lnTo>
                  <a:lnTo>
                    <a:pt x="8796" y="2548"/>
                  </a:lnTo>
                  <a:lnTo>
                    <a:pt x="9027" y="2548"/>
                  </a:lnTo>
                  <a:lnTo>
                    <a:pt x="9259" y="2432"/>
                  </a:lnTo>
                  <a:lnTo>
                    <a:pt x="9490" y="2432"/>
                  </a:lnTo>
                  <a:lnTo>
                    <a:pt x="9490" y="2432"/>
                  </a:lnTo>
                  <a:lnTo>
                    <a:pt x="8564" y="2896"/>
                  </a:lnTo>
                  <a:lnTo>
                    <a:pt x="7754" y="3243"/>
                  </a:lnTo>
                  <a:lnTo>
                    <a:pt x="6828" y="3590"/>
                  </a:lnTo>
                  <a:lnTo>
                    <a:pt x="6018" y="3938"/>
                  </a:lnTo>
                  <a:lnTo>
                    <a:pt x="5092" y="4401"/>
                  </a:lnTo>
                  <a:lnTo>
                    <a:pt x="4282" y="4749"/>
                  </a:lnTo>
                  <a:lnTo>
                    <a:pt x="3357" y="5096"/>
                  </a:lnTo>
                  <a:lnTo>
                    <a:pt x="2546" y="5559"/>
                  </a:lnTo>
                  <a:lnTo>
                    <a:pt x="2546" y="5559"/>
                  </a:lnTo>
                  <a:lnTo>
                    <a:pt x="2431" y="5443"/>
                  </a:lnTo>
                  <a:lnTo>
                    <a:pt x="2199" y="5328"/>
                  </a:lnTo>
                  <a:lnTo>
                    <a:pt x="1968" y="5212"/>
                  </a:lnTo>
                  <a:lnTo>
                    <a:pt x="1736" y="5212"/>
                  </a:lnTo>
                  <a:lnTo>
                    <a:pt x="1505" y="5096"/>
                  </a:lnTo>
                  <a:lnTo>
                    <a:pt x="1389" y="4980"/>
                  </a:lnTo>
                  <a:lnTo>
                    <a:pt x="1273" y="4864"/>
                  </a:lnTo>
                  <a:lnTo>
                    <a:pt x="1273" y="4517"/>
                  </a:lnTo>
                  <a:lnTo>
                    <a:pt x="1273" y="4517"/>
                  </a:lnTo>
                  <a:lnTo>
                    <a:pt x="1389" y="4401"/>
                  </a:lnTo>
                  <a:lnTo>
                    <a:pt x="1505" y="4170"/>
                  </a:lnTo>
                  <a:lnTo>
                    <a:pt x="1621" y="4054"/>
                  </a:lnTo>
                  <a:lnTo>
                    <a:pt x="1852" y="3822"/>
                  </a:lnTo>
                  <a:lnTo>
                    <a:pt x="1968" y="3706"/>
                  </a:lnTo>
                  <a:lnTo>
                    <a:pt x="2083" y="3590"/>
                  </a:lnTo>
                  <a:lnTo>
                    <a:pt x="2199" y="3359"/>
                  </a:lnTo>
                  <a:lnTo>
                    <a:pt x="2315" y="3243"/>
                  </a:lnTo>
                  <a:lnTo>
                    <a:pt x="2315" y="3243"/>
                  </a:lnTo>
                  <a:lnTo>
                    <a:pt x="2083" y="3011"/>
                  </a:lnTo>
                  <a:lnTo>
                    <a:pt x="1621" y="2896"/>
                  </a:lnTo>
                  <a:lnTo>
                    <a:pt x="1273" y="2896"/>
                  </a:lnTo>
                  <a:lnTo>
                    <a:pt x="810" y="2896"/>
                  </a:lnTo>
                  <a:lnTo>
                    <a:pt x="347" y="2780"/>
                  </a:lnTo>
                  <a:lnTo>
                    <a:pt x="116" y="2664"/>
                  </a:lnTo>
                  <a:lnTo>
                    <a:pt x="0" y="2317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810" y="1274"/>
                  </a:lnTo>
                  <a:lnTo>
                    <a:pt x="1736" y="811"/>
                  </a:lnTo>
                  <a:lnTo>
                    <a:pt x="2662" y="464"/>
                  </a:lnTo>
                  <a:lnTo>
                    <a:pt x="3588" y="232"/>
                  </a:lnTo>
                  <a:lnTo>
                    <a:pt x="4630" y="0"/>
                  </a:lnTo>
                  <a:lnTo>
                    <a:pt x="5555" y="0"/>
                  </a:lnTo>
                  <a:lnTo>
                    <a:pt x="6597" y="116"/>
                  </a:lnTo>
                  <a:lnTo>
                    <a:pt x="7639" y="348"/>
                  </a:lnTo>
                  <a:lnTo>
                    <a:pt x="7639" y="348"/>
                  </a:lnTo>
                  <a:lnTo>
                    <a:pt x="7870" y="464"/>
                  </a:lnTo>
                  <a:lnTo>
                    <a:pt x="8102" y="464"/>
                  </a:lnTo>
                  <a:lnTo>
                    <a:pt x="8333" y="464"/>
                  </a:lnTo>
                  <a:lnTo>
                    <a:pt x="8564" y="464"/>
                  </a:lnTo>
                  <a:lnTo>
                    <a:pt x="8796" y="579"/>
                  </a:lnTo>
                  <a:lnTo>
                    <a:pt x="9143" y="579"/>
                  </a:lnTo>
                  <a:lnTo>
                    <a:pt x="9375" y="579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077480" y="3964680"/>
              <a:ext cx="1291680" cy="466200"/>
            </a:xfrm>
            <a:custGeom>
              <a:avLst/>
              <a:gdLst/>
              <a:ahLst/>
              <a:rect l="l" t="t" r="r" b="b"/>
              <a:pathLst>
                <a:path w="33794" h="8686">
                  <a:moveTo>
                    <a:pt x="-31742" y="0"/>
                  </a:moveTo>
                  <a:lnTo>
                    <a:pt x="-31974" y="116"/>
                  </a:lnTo>
                  <a:lnTo>
                    <a:pt x="-32205" y="348"/>
                  </a:lnTo>
                  <a:lnTo>
                    <a:pt x="-32437" y="463"/>
                  </a:lnTo>
                  <a:lnTo>
                    <a:pt x="-32668" y="579"/>
                  </a:lnTo>
                  <a:lnTo>
                    <a:pt x="32637" y="811"/>
                  </a:lnTo>
                  <a:lnTo>
                    <a:pt x="32521" y="927"/>
                  </a:lnTo>
                  <a:lnTo>
                    <a:pt x="32289" y="1158"/>
                  </a:lnTo>
                  <a:lnTo>
                    <a:pt x="32174" y="1390"/>
                  </a:lnTo>
                  <a:lnTo>
                    <a:pt x="32174" y="1390"/>
                  </a:lnTo>
                  <a:lnTo>
                    <a:pt x="32289" y="1506"/>
                  </a:lnTo>
                  <a:lnTo>
                    <a:pt x="32289" y="1737"/>
                  </a:lnTo>
                  <a:lnTo>
                    <a:pt x="32405" y="1853"/>
                  </a:lnTo>
                  <a:lnTo>
                    <a:pt x="32405" y="1969"/>
                  </a:lnTo>
                  <a:lnTo>
                    <a:pt x="32521" y="2085"/>
                  </a:lnTo>
                  <a:lnTo>
                    <a:pt x="32637" y="2201"/>
                  </a:lnTo>
                  <a:lnTo>
                    <a:pt x="32752" y="2316"/>
                  </a:lnTo>
                  <a:lnTo>
                    <a:pt x="-32668" y="2432"/>
                  </a:lnTo>
                  <a:lnTo>
                    <a:pt x="-32668" y="2432"/>
                  </a:lnTo>
                  <a:lnTo>
                    <a:pt x="29628" y="3011"/>
                  </a:lnTo>
                  <a:lnTo>
                    <a:pt x="26271" y="3590"/>
                  </a:lnTo>
                  <a:lnTo>
                    <a:pt x="23031" y="4169"/>
                  </a:lnTo>
                  <a:lnTo>
                    <a:pt x="19790" y="4864"/>
                  </a:lnTo>
                  <a:lnTo>
                    <a:pt x="16550" y="5443"/>
                  </a:lnTo>
                  <a:lnTo>
                    <a:pt x="13309" y="6138"/>
                  </a:lnTo>
                  <a:lnTo>
                    <a:pt x="10069" y="6833"/>
                  </a:lnTo>
                  <a:lnTo>
                    <a:pt x="6713" y="7644"/>
                  </a:lnTo>
                  <a:lnTo>
                    <a:pt x="6713" y="7644"/>
                  </a:lnTo>
                  <a:lnTo>
                    <a:pt x="0" y="8686"/>
                  </a:lnTo>
                  <a:lnTo>
                    <a:pt x="0" y="8686"/>
                  </a:lnTo>
                  <a:lnTo>
                    <a:pt x="0" y="8454"/>
                  </a:lnTo>
                  <a:lnTo>
                    <a:pt x="0" y="8223"/>
                  </a:lnTo>
                  <a:lnTo>
                    <a:pt x="0" y="7991"/>
                  </a:lnTo>
                  <a:lnTo>
                    <a:pt x="0" y="7760"/>
                  </a:lnTo>
                  <a:lnTo>
                    <a:pt x="116" y="7528"/>
                  </a:lnTo>
                  <a:lnTo>
                    <a:pt x="116" y="7296"/>
                  </a:lnTo>
                  <a:lnTo>
                    <a:pt x="232" y="7065"/>
                  </a:lnTo>
                  <a:lnTo>
                    <a:pt x="232" y="6833"/>
                  </a:lnTo>
                  <a:lnTo>
                    <a:pt x="232" y="6833"/>
                  </a:lnTo>
                  <a:lnTo>
                    <a:pt x="694" y="6486"/>
                  </a:lnTo>
                  <a:lnTo>
                    <a:pt x="694" y="6486"/>
                  </a:lnTo>
                  <a:lnTo>
                    <a:pt x="2662" y="6138"/>
                  </a:lnTo>
                  <a:lnTo>
                    <a:pt x="4745" y="5791"/>
                  </a:lnTo>
                  <a:lnTo>
                    <a:pt x="6713" y="5327"/>
                  </a:lnTo>
                  <a:lnTo>
                    <a:pt x="8796" y="4980"/>
                  </a:lnTo>
                  <a:lnTo>
                    <a:pt x="10879" y="4633"/>
                  </a:lnTo>
                  <a:lnTo>
                    <a:pt x="12962" y="4169"/>
                  </a:lnTo>
                  <a:lnTo>
                    <a:pt x="14930" y="3706"/>
                  </a:lnTo>
                  <a:lnTo>
                    <a:pt x="17013" y="3243"/>
                  </a:lnTo>
                  <a:lnTo>
                    <a:pt x="17013" y="3243"/>
                  </a:lnTo>
                  <a:lnTo>
                    <a:pt x="30553" y="579"/>
                  </a:lnTo>
                  <a:lnTo>
                    <a:pt x="30553" y="579"/>
                  </a:lnTo>
                  <a:lnTo>
                    <a:pt x="31016" y="463"/>
                  </a:lnTo>
                  <a:lnTo>
                    <a:pt x="31363" y="463"/>
                  </a:lnTo>
                  <a:lnTo>
                    <a:pt x="31826" y="348"/>
                  </a:lnTo>
                  <a:lnTo>
                    <a:pt x="32174" y="232"/>
                  </a:lnTo>
                  <a:lnTo>
                    <a:pt x="32521" y="232"/>
                  </a:lnTo>
                  <a:lnTo>
                    <a:pt x="-32552" y="116"/>
                  </a:lnTo>
                  <a:lnTo>
                    <a:pt x="-32205" y="116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847440" y="4045680"/>
              <a:ext cx="181080" cy="204840"/>
            </a:xfrm>
            <a:custGeom>
              <a:avLst/>
              <a:gdLst/>
              <a:ahLst/>
              <a:rect l="l" t="t" r="r" b="b"/>
              <a:pathLst>
                <a:path w="4745" h="3821">
                  <a:moveTo>
                    <a:pt x="4745" y="695"/>
                  </a:moveTo>
                  <a:lnTo>
                    <a:pt x="4514" y="2895"/>
                  </a:lnTo>
                  <a:lnTo>
                    <a:pt x="4514" y="2895"/>
                  </a:lnTo>
                  <a:lnTo>
                    <a:pt x="4282" y="3011"/>
                  </a:lnTo>
                  <a:lnTo>
                    <a:pt x="4051" y="3242"/>
                  </a:lnTo>
                  <a:lnTo>
                    <a:pt x="3819" y="3474"/>
                  </a:lnTo>
                  <a:lnTo>
                    <a:pt x="3588" y="3590"/>
                  </a:lnTo>
                  <a:lnTo>
                    <a:pt x="3356" y="3706"/>
                  </a:lnTo>
                  <a:lnTo>
                    <a:pt x="3125" y="3821"/>
                  </a:lnTo>
                  <a:lnTo>
                    <a:pt x="2893" y="3706"/>
                  </a:lnTo>
                  <a:lnTo>
                    <a:pt x="2662" y="3358"/>
                  </a:lnTo>
                  <a:lnTo>
                    <a:pt x="2662" y="3358"/>
                  </a:lnTo>
                  <a:lnTo>
                    <a:pt x="2430" y="3358"/>
                  </a:lnTo>
                  <a:lnTo>
                    <a:pt x="2315" y="3358"/>
                  </a:lnTo>
                  <a:lnTo>
                    <a:pt x="2199" y="3474"/>
                  </a:lnTo>
                  <a:lnTo>
                    <a:pt x="1967" y="3474"/>
                  </a:lnTo>
                  <a:lnTo>
                    <a:pt x="1852" y="3590"/>
                  </a:lnTo>
                  <a:lnTo>
                    <a:pt x="1736" y="3706"/>
                  </a:lnTo>
                  <a:lnTo>
                    <a:pt x="1505" y="3706"/>
                  </a:lnTo>
                  <a:lnTo>
                    <a:pt x="1389" y="3821"/>
                  </a:lnTo>
                  <a:lnTo>
                    <a:pt x="1389" y="3821"/>
                  </a:lnTo>
                  <a:lnTo>
                    <a:pt x="1042" y="3474"/>
                  </a:lnTo>
                  <a:lnTo>
                    <a:pt x="810" y="3127"/>
                  </a:lnTo>
                  <a:lnTo>
                    <a:pt x="579" y="2663"/>
                  </a:lnTo>
                  <a:lnTo>
                    <a:pt x="463" y="2200"/>
                  </a:lnTo>
                  <a:lnTo>
                    <a:pt x="231" y="1853"/>
                  </a:lnTo>
                  <a:lnTo>
                    <a:pt x="116" y="1389"/>
                  </a:lnTo>
                  <a:lnTo>
                    <a:pt x="0" y="926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463" y="231"/>
                  </a:lnTo>
                  <a:lnTo>
                    <a:pt x="1157" y="0"/>
                  </a:lnTo>
                  <a:lnTo>
                    <a:pt x="1736" y="0"/>
                  </a:lnTo>
                  <a:lnTo>
                    <a:pt x="2430" y="0"/>
                  </a:lnTo>
                  <a:lnTo>
                    <a:pt x="3009" y="116"/>
                  </a:lnTo>
                  <a:lnTo>
                    <a:pt x="3703" y="231"/>
                  </a:lnTo>
                  <a:lnTo>
                    <a:pt x="4282" y="463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033200" y="4089240"/>
              <a:ext cx="26280" cy="105480"/>
            </a:xfrm>
            <a:custGeom>
              <a:avLst/>
              <a:gdLst/>
              <a:ahLst/>
              <a:rect l="l" t="t" r="r" b="b"/>
              <a:pathLst>
                <a:path w="694" h="1969">
                  <a:moveTo>
                    <a:pt x="578" y="1969"/>
                  </a:moveTo>
                  <a:lnTo>
                    <a:pt x="463" y="1969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969"/>
                  </a:lnTo>
                  <a:lnTo>
                    <a:pt x="0" y="1969"/>
                  </a:lnTo>
                  <a:lnTo>
                    <a:pt x="0" y="1853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347" y="0"/>
                  </a:lnTo>
                  <a:lnTo>
                    <a:pt x="694" y="116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068480" y="4101480"/>
              <a:ext cx="30960" cy="105480"/>
            </a:xfrm>
            <a:custGeom>
              <a:avLst/>
              <a:gdLst/>
              <a:ahLst/>
              <a:rect l="l" t="t" r="r" b="b"/>
              <a:pathLst>
                <a:path w="810" h="1969">
                  <a:moveTo>
                    <a:pt x="694" y="232"/>
                  </a:moveTo>
                  <a:lnTo>
                    <a:pt x="810" y="463"/>
                  </a:lnTo>
                  <a:lnTo>
                    <a:pt x="694" y="579"/>
                  </a:lnTo>
                  <a:lnTo>
                    <a:pt x="694" y="695"/>
                  </a:lnTo>
                  <a:lnTo>
                    <a:pt x="694" y="927"/>
                  </a:lnTo>
                  <a:lnTo>
                    <a:pt x="694" y="1042"/>
                  </a:lnTo>
                  <a:lnTo>
                    <a:pt x="694" y="1274"/>
                  </a:lnTo>
                  <a:lnTo>
                    <a:pt x="694" y="1390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737"/>
                  </a:lnTo>
                  <a:lnTo>
                    <a:pt x="578" y="1737"/>
                  </a:lnTo>
                  <a:lnTo>
                    <a:pt x="463" y="1853"/>
                  </a:lnTo>
                  <a:lnTo>
                    <a:pt x="463" y="1853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853"/>
                  </a:lnTo>
                  <a:lnTo>
                    <a:pt x="115" y="1853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506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231" y="232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116"/>
                  </a:lnTo>
                  <a:lnTo>
                    <a:pt x="347" y="116"/>
                  </a:lnTo>
                  <a:lnTo>
                    <a:pt x="463" y="232"/>
                  </a:lnTo>
                  <a:lnTo>
                    <a:pt x="463" y="232"/>
                  </a:lnTo>
                  <a:lnTo>
                    <a:pt x="578" y="347"/>
                  </a:lnTo>
                  <a:lnTo>
                    <a:pt x="578" y="347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081800" y="4101480"/>
              <a:ext cx="1326960" cy="441360"/>
            </a:xfrm>
            <a:custGeom>
              <a:avLst/>
              <a:gdLst/>
              <a:ahLst/>
              <a:rect l="l" t="t" r="r" b="b"/>
              <a:pathLst>
                <a:path w="34719" h="8223">
                  <a:moveTo>
                    <a:pt x="-31048" y="0"/>
                  </a:moveTo>
                  <a:lnTo>
                    <a:pt x="-31279" y="232"/>
                  </a:lnTo>
                  <a:lnTo>
                    <a:pt x="-31395" y="347"/>
                  </a:lnTo>
                  <a:lnTo>
                    <a:pt x="-31627" y="579"/>
                  </a:lnTo>
                  <a:lnTo>
                    <a:pt x="-31742" y="811"/>
                  </a:lnTo>
                  <a:lnTo>
                    <a:pt x="-31858" y="1042"/>
                  </a:lnTo>
                  <a:lnTo>
                    <a:pt x="-31858" y="1390"/>
                  </a:lnTo>
                  <a:lnTo>
                    <a:pt x="-31858" y="1621"/>
                  </a:lnTo>
                  <a:lnTo>
                    <a:pt x="-31742" y="1853"/>
                  </a:lnTo>
                  <a:lnTo>
                    <a:pt x="-31742" y="1853"/>
                  </a:lnTo>
                  <a:lnTo>
                    <a:pt x="-31742" y="2085"/>
                  </a:lnTo>
                  <a:lnTo>
                    <a:pt x="-31627" y="2200"/>
                  </a:lnTo>
                  <a:lnTo>
                    <a:pt x="-31511" y="2200"/>
                  </a:lnTo>
                  <a:lnTo>
                    <a:pt x="-31395" y="2316"/>
                  </a:lnTo>
                  <a:lnTo>
                    <a:pt x="-31279" y="2432"/>
                  </a:lnTo>
                  <a:lnTo>
                    <a:pt x="-31164" y="2432"/>
                  </a:lnTo>
                  <a:lnTo>
                    <a:pt x="-30932" y="2548"/>
                  </a:lnTo>
                  <a:lnTo>
                    <a:pt x="-30817" y="2548"/>
                  </a:lnTo>
                  <a:lnTo>
                    <a:pt x="-30817" y="2548"/>
                  </a:lnTo>
                  <a:lnTo>
                    <a:pt x="-31048" y="2664"/>
                  </a:lnTo>
                  <a:lnTo>
                    <a:pt x="-31395" y="2664"/>
                  </a:lnTo>
                  <a:lnTo>
                    <a:pt x="-31627" y="2779"/>
                  </a:lnTo>
                  <a:lnTo>
                    <a:pt x="-31858" y="2779"/>
                  </a:lnTo>
                  <a:lnTo>
                    <a:pt x="-32090" y="2779"/>
                  </a:lnTo>
                  <a:lnTo>
                    <a:pt x="-32437" y="2895"/>
                  </a:lnTo>
                  <a:lnTo>
                    <a:pt x="-32668" y="2895"/>
                  </a:lnTo>
                  <a:lnTo>
                    <a:pt x="32636" y="3011"/>
                  </a:lnTo>
                  <a:lnTo>
                    <a:pt x="32636" y="3011"/>
                  </a:lnTo>
                  <a:lnTo>
                    <a:pt x="32405" y="2895"/>
                  </a:lnTo>
                  <a:lnTo>
                    <a:pt x="32173" y="2779"/>
                  </a:lnTo>
                  <a:lnTo>
                    <a:pt x="31942" y="2779"/>
                  </a:lnTo>
                  <a:lnTo>
                    <a:pt x="31710" y="2779"/>
                  </a:lnTo>
                  <a:lnTo>
                    <a:pt x="31479" y="2779"/>
                  </a:lnTo>
                  <a:lnTo>
                    <a:pt x="31247" y="2779"/>
                  </a:lnTo>
                  <a:lnTo>
                    <a:pt x="31016" y="2895"/>
                  </a:lnTo>
                  <a:lnTo>
                    <a:pt x="30785" y="2895"/>
                  </a:lnTo>
                  <a:lnTo>
                    <a:pt x="30785" y="2895"/>
                  </a:lnTo>
                  <a:lnTo>
                    <a:pt x="29974" y="3474"/>
                  </a:lnTo>
                  <a:lnTo>
                    <a:pt x="29974" y="3474"/>
                  </a:lnTo>
                  <a:lnTo>
                    <a:pt x="29974" y="3359"/>
                  </a:lnTo>
                  <a:lnTo>
                    <a:pt x="29974" y="3359"/>
                  </a:lnTo>
                  <a:lnTo>
                    <a:pt x="29859" y="3243"/>
                  </a:lnTo>
                  <a:lnTo>
                    <a:pt x="29859" y="3127"/>
                  </a:lnTo>
                  <a:lnTo>
                    <a:pt x="29859" y="3127"/>
                  </a:lnTo>
                  <a:lnTo>
                    <a:pt x="29859" y="3011"/>
                  </a:lnTo>
                  <a:lnTo>
                    <a:pt x="29859" y="3011"/>
                  </a:lnTo>
                  <a:lnTo>
                    <a:pt x="29974" y="2895"/>
                  </a:lnTo>
                  <a:lnTo>
                    <a:pt x="29974" y="2895"/>
                  </a:lnTo>
                  <a:lnTo>
                    <a:pt x="-32321" y="2316"/>
                  </a:lnTo>
                  <a:lnTo>
                    <a:pt x="-32321" y="2316"/>
                  </a:lnTo>
                  <a:lnTo>
                    <a:pt x="-32205" y="2316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553" y="2085"/>
                  </a:lnTo>
                  <a:lnTo>
                    <a:pt x="32521" y="2200"/>
                  </a:lnTo>
                  <a:lnTo>
                    <a:pt x="31942" y="2200"/>
                  </a:lnTo>
                  <a:lnTo>
                    <a:pt x="31479" y="2316"/>
                  </a:lnTo>
                  <a:lnTo>
                    <a:pt x="31016" y="2432"/>
                  </a:lnTo>
                  <a:lnTo>
                    <a:pt x="30437" y="2548"/>
                  </a:lnTo>
                  <a:lnTo>
                    <a:pt x="29974" y="2664"/>
                  </a:lnTo>
                  <a:lnTo>
                    <a:pt x="29512" y="2779"/>
                  </a:lnTo>
                  <a:lnTo>
                    <a:pt x="29512" y="2779"/>
                  </a:lnTo>
                  <a:lnTo>
                    <a:pt x="29396" y="2664"/>
                  </a:lnTo>
                  <a:lnTo>
                    <a:pt x="29164" y="2664"/>
                  </a:lnTo>
                  <a:lnTo>
                    <a:pt x="28933" y="2548"/>
                  </a:lnTo>
                  <a:lnTo>
                    <a:pt x="28701" y="2548"/>
                  </a:lnTo>
                  <a:lnTo>
                    <a:pt x="28470" y="2432"/>
                  </a:lnTo>
                  <a:lnTo>
                    <a:pt x="28238" y="2548"/>
                  </a:lnTo>
                  <a:lnTo>
                    <a:pt x="28123" y="2548"/>
                  </a:lnTo>
                  <a:lnTo>
                    <a:pt x="27891" y="2664"/>
                  </a:lnTo>
                  <a:lnTo>
                    <a:pt x="27891" y="2664"/>
                  </a:lnTo>
                  <a:lnTo>
                    <a:pt x="27660" y="2895"/>
                  </a:lnTo>
                  <a:lnTo>
                    <a:pt x="27544" y="3011"/>
                  </a:lnTo>
                  <a:lnTo>
                    <a:pt x="27428" y="3011"/>
                  </a:lnTo>
                  <a:lnTo>
                    <a:pt x="27197" y="3011"/>
                  </a:lnTo>
                  <a:lnTo>
                    <a:pt x="27081" y="2895"/>
                  </a:lnTo>
                  <a:lnTo>
                    <a:pt x="26850" y="2895"/>
                  </a:lnTo>
                  <a:lnTo>
                    <a:pt x="26618" y="2895"/>
                  </a:lnTo>
                  <a:lnTo>
                    <a:pt x="26502" y="3127"/>
                  </a:lnTo>
                  <a:lnTo>
                    <a:pt x="26502" y="3127"/>
                  </a:lnTo>
                  <a:lnTo>
                    <a:pt x="26387" y="3474"/>
                  </a:lnTo>
                  <a:lnTo>
                    <a:pt x="26155" y="3706"/>
                  </a:lnTo>
                  <a:lnTo>
                    <a:pt x="25924" y="3822"/>
                  </a:lnTo>
                  <a:lnTo>
                    <a:pt x="25577" y="3822"/>
                  </a:lnTo>
                  <a:lnTo>
                    <a:pt x="25229" y="3822"/>
                  </a:lnTo>
                  <a:lnTo>
                    <a:pt x="24882" y="3822"/>
                  </a:lnTo>
                  <a:lnTo>
                    <a:pt x="24651" y="3822"/>
                  </a:lnTo>
                  <a:lnTo>
                    <a:pt x="24304" y="3938"/>
                  </a:lnTo>
                  <a:lnTo>
                    <a:pt x="24304" y="3938"/>
                  </a:lnTo>
                  <a:lnTo>
                    <a:pt x="21526" y="4517"/>
                  </a:lnTo>
                  <a:lnTo>
                    <a:pt x="18633" y="5096"/>
                  </a:lnTo>
                  <a:lnTo>
                    <a:pt x="15855" y="5559"/>
                  </a:lnTo>
                  <a:lnTo>
                    <a:pt x="13078" y="6138"/>
                  </a:lnTo>
                  <a:lnTo>
                    <a:pt x="10184" y="6717"/>
                  </a:lnTo>
                  <a:lnTo>
                    <a:pt x="7407" y="7296"/>
                  </a:lnTo>
                  <a:lnTo>
                    <a:pt x="4513" y="7759"/>
                  </a:lnTo>
                  <a:lnTo>
                    <a:pt x="1620" y="8223"/>
                  </a:lnTo>
                  <a:lnTo>
                    <a:pt x="1620" y="8223"/>
                  </a:lnTo>
                  <a:lnTo>
                    <a:pt x="1389" y="8107"/>
                  </a:lnTo>
                  <a:lnTo>
                    <a:pt x="1157" y="7875"/>
                  </a:lnTo>
                  <a:lnTo>
                    <a:pt x="926" y="7759"/>
                  </a:lnTo>
                  <a:lnTo>
                    <a:pt x="694" y="7528"/>
                  </a:lnTo>
                  <a:lnTo>
                    <a:pt x="463" y="7296"/>
                  </a:lnTo>
                  <a:lnTo>
                    <a:pt x="231" y="7064"/>
                  </a:lnTo>
                  <a:lnTo>
                    <a:pt x="116" y="6717"/>
                  </a:lnTo>
                  <a:lnTo>
                    <a:pt x="0" y="6485"/>
                  </a:lnTo>
                  <a:lnTo>
                    <a:pt x="0" y="6485"/>
                  </a:lnTo>
                  <a:lnTo>
                    <a:pt x="4398" y="5675"/>
                  </a:lnTo>
                  <a:lnTo>
                    <a:pt x="8680" y="4864"/>
                  </a:lnTo>
                  <a:lnTo>
                    <a:pt x="12846" y="3938"/>
                  </a:lnTo>
                  <a:lnTo>
                    <a:pt x="17128" y="3127"/>
                  </a:lnTo>
                  <a:lnTo>
                    <a:pt x="21295" y="2316"/>
                  </a:lnTo>
                  <a:lnTo>
                    <a:pt x="25577" y="1506"/>
                  </a:lnTo>
                  <a:lnTo>
                    <a:pt x="29859" y="695"/>
                  </a:lnTo>
                  <a:lnTo>
                    <a:pt x="-31279" y="116"/>
                  </a:lnTo>
                  <a:lnTo>
                    <a:pt x="-31279" y="116"/>
                  </a:lnTo>
                  <a:lnTo>
                    <a:pt x="-31279" y="0"/>
                  </a:lnTo>
                  <a:lnTo>
                    <a:pt x="-31279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78400" y="4194720"/>
              <a:ext cx="344880" cy="565560"/>
            </a:xfrm>
            <a:custGeom>
              <a:avLst/>
              <a:gdLst/>
              <a:ahLst/>
              <a:rect l="l" t="t" r="r" b="b"/>
              <a:pathLst>
                <a:path w="9027" h="10539">
                  <a:moveTo>
                    <a:pt x="7176" y="579"/>
                  </a:moveTo>
                  <a:lnTo>
                    <a:pt x="7176" y="695"/>
                  </a:lnTo>
                  <a:lnTo>
                    <a:pt x="7176" y="811"/>
                  </a:lnTo>
                  <a:lnTo>
                    <a:pt x="7176" y="927"/>
                  </a:lnTo>
                  <a:lnTo>
                    <a:pt x="7060" y="1042"/>
                  </a:lnTo>
                  <a:lnTo>
                    <a:pt x="7060" y="1158"/>
                  </a:lnTo>
                  <a:lnTo>
                    <a:pt x="6944" y="1274"/>
                  </a:lnTo>
                  <a:lnTo>
                    <a:pt x="6828" y="1274"/>
                  </a:lnTo>
                  <a:lnTo>
                    <a:pt x="6713" y="1274"/>
                  </a:lnTo>
                  <a:lnTo>
                    <a:pt x="6713" y="1274"/>
                  </a:lnTo>
                  <a:lnTo>
                    <a:pt x="6597" y="1274"/>
                  </a:lnTo>
                  <a:lnTo>
                    <a:pt x="6365" y="1274"/>
                  </a:lnTo>
                  <a:lnTo>
                    <a:pt x="6134" y="1274"/>
                  </a:lnTo>
                  <a:lnTo>
                    <a:pt x="6018" y="1274"/>
                  </a:lnTo>
                  <a:lnTo>
                    <a:pt x="5787" y="1390"/>
                  </a:lnTo>
                  <a:lnTo>
                    <a:pt x="5671" y="1506"/>
                  </a:lnTo>
                  <a:lnTo>
                    <a:pt x="5555" y="1622"/>
                  </a:lnTo>
                  <a:lnTo>
                    <a:pt x="5440" y="1737"/>
                  </a:lnTo>
                  <a:lnTo>
                    <a:pt x="5440" y="1737"/>
                  </a:lnTo>
                  <a:lnTo>
                    <a:pt x="5324" y="1969"/>
                  </a:lnTo>
                  <a:lnTo>
                    <a:pt x="5092" y="2201"/>
                  </a:lnTo>
                  <a:lnTo>
                    <a:pt x="4977" y="2432"/>
                  </a:lnTo>
                  <a:lnTo>
                    <a:pt x="4861" y="2664"/>
                  </a:lnTo>
                  <a:lnTo>
                    <a:pt x="4745" y="2895"/>
                  </a:lnTo>
                  <a:lnTo>
                    <a:pt x="4745" y="3127"/>
                  </a:lnTo>
                  <a:lnTo>
                    <a:pt x="4629" y="3359"/>
                  </a:lnTo>
                  <a:lnTo>
                    <a:pt x="4745" y="3590"/>
                  </a:lnTo>
                  <a:lnTo>
                    <a:pt x="4745" y="3590"/>
                  </a:lnTo>
                  <a:lnTo>
                    <a:pt x="4629" y="3822"/>
                  </a:lnTo>
                  <a:lnTo>
                    <a:pt x="4629" y="4054"/>
                  </a:lnTo>
                  <a:lnTo>
                    <a:pt x="4629" y="4401"/>
                  </a:lnTo>
                  <a:lnTo>
                    <a:pt x="4745" y="4633"/>
                  </a:lnTo>
                  <a:lnTo>
                    <a:pt x="4861" y="4864"/>
                  </a:lnTo>
                  <a:lnTo>
                    <a:pt x="4861" y="5212"/>
                  </a:lnTo>
                  <a:lnTo>
                    <a:pt x="4977" y="5443"/>
                  </a:lnTo>
                  <a:lnTo>
                    <a:pt x="5092" y="5675"/>
                  </a:lnTo>
                  <a:lnTo>
                    <a:pt x="5092" y="5675"/>
                  </a:lnTo>
                  <a:lnTo>
                    <a:pt x="5555" y="6138"/>
                  </a:lnTo>
                  <a:lnTo>
                    <a:pt x="5902" y="6486"/>
                  </a:lnTo>
                  <a:lnTo>
                    <a:pt x="6481" y="6717"/>
                  </a:lnTo>
                  <a:lnTo>
                    <a:pt x="6944" y="6949"/>
                  </a:lnTo>
                  <a:lnTo>
                    <a:pt x="7523" y="7180"/>
                  </a:lnTo>
                  <a:lnTo>
                    <a:pt x="7986" y="7296"/>
                  </a:lnTo>
                  <a:lnTo>
                    <a:pt x="8564" y="7528"/>
                  </a:lnTo>
                  <a:lnTo>
                    <a:pt x="9027" y="7875"/>
                  </a:lnTo>
                  <a:lnTo>
                    <a:pt x="9027" y="7875"/>
                  </a:lnTo>
                  <a:lnTo>
                    <a:pt x="9027" y="7991"/>
                  </a:lnTo>
                  <a:lnTo>
                    <a:pt x="9027" y="8107"/>
                  </a:lnTo>
                  <a:lnTo>
                    <a:pt x="9027" y="8223"/>
                  </a:lnTo>
                  <a:lnTo>
                    <a:pt x="8911" y="8339"/>
                  </a:lnTo>
                  <a:lnTo>
                    <a:pt x="8911" y="8454"/>
                  </a:lnTo>
                  <a:lnTo>
                    <a:pt x="8911" y="8570"/>
                  </a:lnTo>
                  <a:lnTo>
                    <a:pt x="8796" y="8686"/>
                  </a:lnTo>
                  <a:lnTo>
                    <a:pt x="8796" y="8802"/>
                  </a:lnTo>
                  <a:lnTo>
                    <a:pt x="8796" y="8802"/>
                  </a:lnTo>
                  <a:lnTo>
                    <a:pt x="8449" y="8918"/>
                  </a:lnTo>
                  <a:lnTo>
                    <a:pt x="8217" y="9033"/>
                  </a:lnTo>
                  <a:lnTo>
                    <a:pt x="7870" y="8918"/>
                  </a:lnTo>
                  <a:lnTo>
                    <a:pt x="7638" y="8918"/>
                  </a:lnTo>
                  <a:lnTo>
                    <a:pt x="7291" y="8686"/>
                  </a:lnTo>
                  <a:lnTo>
                    <a:pt x="7060" y="8570"/>
                  </a:lnTo>
                  <a:lnTo>
                    <a:pt x="6828" y="8454"/>
                  </a:lnTo>
                  <a:lnTo>
                    <a:pt x="6597" y="8223"/>
                  </a:lnTo>
                  <a:lnTo>
                    <a:pt x="6597" y="8223"/>
                  </a:lnTo>
                  <a:lnTo>
                    <a:pt x="6134" y="8223"/>
                  </a:lnTo>
                  <a:lnTo>
                    <a:pt x="5787" y="8107"/>
                  </a:lnTo>
                  <a:lnTo>
                    <a:pt x="5440" y="7991"/>
                  </a:lnTo>
                  <a:lnTo>
                    <a:pt x="5092" y="7759"/>
                  </a:lnTo>
                  <a:lnTo>
                    <a:pt x="4745" y="7528"/>
                  </a:lnTo>
                  <a:lnTo>
                    <a:pt x="4398" y="7296"/>
                  </a:lnTo>
                  <a:lnTo>
                    <a:pt x="4051" y="7065"/>
                  </a:lnTo>
                  <a:lnTo>
                    <a:pt x="3704" y="6949"/>
                  </a:lnTo>
                  <a:lnTo>
                    <a:pt x="3704" y="6949"/>
                  </a:lnTo>
                  <a:lnTo>
                    <a:pt x="3588" y="6833"/>
                  </a:lnTo>
                  <a:lnTo>
                    <a:pt x="3472" y="6949"/>
                  </a:lnTo>
                  <a:lnTo>
                    <a:pt x="4861" y="8223"/>
                  </a:lnTo>
                  <a:lnTo>
                    <a:pt x="4861" y="8223"/>
                  </a:lnTo>
                  <a:lnTo>
                    <a:pt x="4514" y="8223"/>
                  </a:lnTo>
                  <a:lnTo>
                    <a:pt x="4166" y="8107"/>
                  </a:lnTo>
                  <a:lnTo>
                    <a:pt x="3819" y="7875"/>
                  </a:lnTo>
                  <a:lnTo>
                    <a:pt x="3588" y="7644"/>
                  </a:lnTo>
                  <a:lnTo>
                    <a:pt x="3241" y="7412"/>
                  </a:lnTo>
                  <a:lnTo>
                    <a:pt x="3009" y="7180"/>
                  </a:lnTo>
                  <a:lnTo>
                    <a:pt x="2662" y="7065"/>
                  </a:lnTo>
                  <a:lnTo>
                    <a:pt x="2430" y="6949"/>
                  </a:lnTo>
                  <a:lnTo>
                    <a:pt x="2430" y="6949"/>
                  </a:lnTo>
                  <a:lnTo>
                    <a:pt x="2546" y="7180"/>
                  </a:lnTo>
                  <a:lnTo>
                    <a:pt x="2662" y="7412"/>
                  </a:lnTo>
                  <a:lnTo>
                    <a:pt x="2893" y="7644"/>
                  </a:lnTo>
                  <a:lnTo>
                    <a:pt x="3125" y="7875"/>
                  </a:lnTo>
                  <a:lnTo>
                    <a:pt x="3241" y="7991"/>
                  </a:lnTo>
                  <a:lnTo>
                    <a:pt x="3472" y="8223"/>
                  </a:lnTo>
                  <a:lnTo>
                    <a:pt x="3704" y="8454"/>
                  </a:lnTo>
                  <a:lnTo>
                    <a:pt x="3935" y="8570"/>
                  </a:lnTo>
                  <a:lnTo>
                    <a:pt x="3935" y="8570"/>
                  </a:lnTo>
                  <a:lnTo>
                    <a:pt x="3935" y="8686"/>
                  </a:lnTo>
                  <a:lnTo>
                    <a:pt x="3819" y="8686"/>
                  </a:lnTo>
                  <a:lnTo>
                    <a:pt x="3588" y="8802"/>
                  </a:lnTo>
                  <a:lnTo>
                    <a:pt x="3472" y="8802"/>
                  </a:lnTo>
                  <a:lnTo>
                    <a:pt x="3356" y="8802"/>
                  </a:lnTo>
                  <a:lnTo>
                    <a:pt x="3241" y="8802"/>
                  </a:lnTo>
                  <a:lnTo>
                    <a:pt x="3009" y="8802"/>
                  </a:lnTo>
                  <a:lnTo>
                    <a:pt x="3009" y="8686"/>
                  </a:lnTo>
                  <a:lnTo>
                    <a:pt x="3009" y="8686"/>
                  </a:lnTo>
                  <a:lnTo>
                    <a:pt x="2662" y="8570"/>
                  </a:lnTo>
                  <a:lnTo>
                    <a:pt x="2546" y="8339"/>
                  </a:lnTo>
                  <a:lnTo>
                    <a:pt x="2315" y="8107"/>
                  </a:lnTo>
                  <a:lnTo>
                    <a:pt x="2083" y="7875"/>
                  </a:lnTo>
                  <a:lnTo>
                    <a:pt x="1852" y="7644"/>
                  </a:lnTo>
                  <a:lnTo>
                    <a:pt x="1620" y="7412"/>
                  </a:lnTo>
                  <a:lnTo>
                    <a:pt x="1505" y="7296"/>
                  </a:lnTo>
                  <a:lnTo>
                    <a:pt x="1273" y="7065"/>
                  </a:lnTo>
                  <a:lnTo>
                    <a:pt x="1273" y="7065"/>
                  </a:lnTo>
                  <a:lnTo>
                    <a:pt x="1157" y="7412"/>
                  </a:lnTo>
                  <a:lnTo>
                    <a:pt x="1157" y="7759"/>
                  </a:lnTo>
                  <a:lnTo>
                    <a:pt x="1157" y="8107"/>
                  </a:lnTo>
                  <a:lnTo>
                    <a:pt x="1157" y="8454"/>
                  </a:lnTo>
                  <a:lnTo>
                    <a:pt x="1273" y="8802"/>
                  </a:lnTo>
                  <a:lnTo>
                    <a:pt x="1389" y="9149"/>
                  </a:lnTo>
                  <a:lnTo>
                    <a:pt x="1505" y="9612"/>
                  </a:lnTo>
                  <a:lnTo>
                    <a:pt x="1620" y="9960"/>
                  </a:lnTo>
                  <a:lnTo>
                    <a:pt x="1620" y="9960"/>
                  </a:lnTo>
                  <a:lnTo>
                    <a:pt x="1620" y="10539"/>
                  </a:lnTo>
                  <a:lnTo>
                    <a:pt x="1620" y="10539"/>
                  </a:lnTo>
                  <a:lnTo>
                    <a:pt x="1389" y="10539"/>
                  </a:lnTo>
                  <a:lnTo>
                    <a:pt x="1273" y="10539"/>
                  </a:lnTo>
                  <a:lnTo>
                    <a:pt x="1042" y="10423"/>
                  </a:lnTo>
                  <a:lnTo>
                    <a:pt x="926" y="10423"/>
                  </a:lnTo>
                  <a:lnTo>
                    <a:pt x="810" y="10191"/>
                  </a:lnTo>
                  <a:lnTo>
                    <a:pt x="695" y="10076"/>
                  </a:lnTo>
                  <a:lnTo>
                    <a:pt x="579" y="9960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116" y="9149"/>
                  </a:lnTo>
                  <a:lnTo>
                    <a:pt x="0" y="8570"/>
                  </a:lnTo>
                  <a:lnTo>
                    <a:pt x="116" y="7991"/>
                  </a:lnTo>
                  <a:lnTo>
                    <a:pt x="347" y="7412"/>
                  </a:lnTo>
                  <a:lnTo>
                    <a:pt x="579" y="6833"/>
                  </a:lnTo>
                  <a:lnTo>
                    <a:pt x="810" y="6138"/>
                  </a:lnTo>
                  <a:lnTo>
                    <a:pt x="926" y="5559"/>
                  </a:lnTo>
                  <a:lnTo>
                    <a:pt x="926" y="4864"/>
                  </a:lnTo>
                  <a:lnTo>
                    <a:pt x="926" y="4864"/>
                  </a:lnTo>
                  <a:lnTo>
                    <a:pt x="1157" y="4864"/>
                  </a:lnTo>
                  <a:lnTo>
                    <a:pt x="1389" y="4864"/>
                  </a:lnTo>
                  <a:lnTo>
                    <a:pt x="1620" y="4864"/>
                  </a:lnTo>
                  <a:lnTo>
                    <a:pt x="1852" y="4748"/>
                  </a:lnTo>
                  <a:lnTo>
                    <a:pt x="2083" y="4633"/>
                  </a:lnTo>
                  <a:lnTo>
                    <a:pt x="2315" y="4517"/>
                  </a:lnTo>
                  <a:lnTo>
                    <a:pt x="2546" y="4401"/>
                  </a:lnTo>
                  <a:lnTo>
                    <a:pt x="2662" y="4169"/>
                  </a:lnTo>
                  <a:lnTo>
                    <a:pt x="2662" y="4169"/>
                  </a:lnTo>
                  <a:lnTo>
                    <a:pt x="2778" y="3822"/>
                  </a:lnTo>
                  <a:lnTo>
                    <a:pt x="3009" y="3475"/>
                  </a:lnTo>
                  <a:lnTo>
                    <a:pt x="3125" y="3127"/>
                  </a:lnTo>
                  <a:lnTo>
                    <a:pt x="3241" y="2780"/>
                  </a:lnTo>
                  <a:lnTo>
                    <a:pt x="3241" y="2432"/>
                  </a:lnTo>
                  <a:lnTo>
                    <a:pt x="3241" y="2085"/>
                  </a:lnTo>
                  <a:lnTo>
                    <a:pt x="3125" y="1737"/>
                  </a:lnTo>
                  <a:lnTo>
                    <a:pt x="3009" y="1390"/>
                  </a:lnTo>
                  <a:lnTo>
                    <a:pt x="3009" y="1390"/>
                  </a:lnTo>
                  <a:lnTo>
                    <a:pt x="3125" y="1274"/>
                  </a:lnTo>
                  <a:lnTo>
                    <a:pt x="3241" y="1042"/>
                  </a:lnTo>
                  <a:lnTo>
                    <a:pt x="3472" y="811"/>
                  </a:lnTo>
                  <a:lnTo>
                    <a:pt x="3704" y="695"/>
                  </a:lnTo>
                  <a:lnTo>
                    <a:pt x="3819" y="579"/>
                  </a:lnTo>
                  <a:lnTo>
                    <a:pt x="4051" y="463"/>
                  </a:lnTo>
                  <a:lnTo>
                    <a:pt x="4282" y="463"/>
                  </a:lnTo>
                  <a:lnTo>
                    <a:pt x="4629" y="463"/>
                  </a:lnTo>
                  <a:lnTo>
                    <a:pt x="4629" y="463"/>
                  </a:lnTo>
                  <a:lnTo>
                    <a:pt x="4745" y="579"/>
                  </a:lnTo>
                  <a:lnTo>
                    <a:pt x="4977" y="579"/>
                  </a:lnTo>
                  <a:lnTo>
                    <a:pt x="5092" y="695"/>
                  </a:lnTo>
                  <a:lnTo>
                    <a:pt x="5324" y="811"/>
                  </a:lnTo>
                  <a:lnTo>
                    <a:pt x="5440" y="927"/>
                  </a:lnTo>
                  <a:lnTo>
                    <a:pt x="5555" y="927"/>
                  </a:lnTo>
                  <a:lnTo>
                    <a:pt x="5787" y="927"/>
                  </a:lnTo>
                  <a:lnTo>
                    <a:pt x="6018" y="811"/>
                  </a:lnTo>
                  <a:lnTo>
                    <a:pt x="6018" y="811"/>
                  </a:lnTo>
                  <a:lnTo>
                    <a:pt x="5671" y="463"/>
                  </a:lnTo>
                  <a:lnTo>
                    <a:pt x="5671" y="463"/>
                  </a:lnTo>
                  <a:lnTo>
                    <a:pt x="5902" y="348"/>
                  </a:lnTo>
                  <a:lnTo>
                    <a:pt x="6134" y="232"/>
                  </a:lnTo>
                  <a:lnTo>
                    <a:pt x="6365" y="116"/>
                  </a:lnTo>
                  <a:lnTo>
                    <a:pt x="6597" y="0"/>
                  </a:lnTo>
                  <a:lnTo>
                    <a:pt x="6828" y="0"/>
                  </a:lnTo>
                  <a:lnTo>
                    <a:pt x="6944" y="116"/>
                  </a:lnTo>
                  <a:lnTo>
                    <a:pt x="7060" y="232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869400" y="4250880"/>
              <a:ext cx="110520" cy="173880"/>
            </a:xfrm>
            <a:custGeom>
              <a:avLst/>
              <a:gdLst/>
              <a:ahLst/>
              <a:rect l="l" t="t" r="r" b="b"/>
              <a:pathLst>
                <a:path w="2893" h="3243">
                  <a:moveTo>
                    <a:pt x="2893" y="927"/>
                  </a:moveTo>
                  <a:lnTo>
                    <a:pt x="2893" y="1159"/>
                  </a:lnTo>
                  <a:lnTo>
                    <a:pt x="2893" y="1390"/>
                  </a:lnTo>
                  <a:lnTo>
                    <a:pt x="2893" y="1622"/>
                  </a:lnTo>
                  <a:lnTo>
                    <a:pt x="2893" y="1853"/>
                  </a:lnTo>
                  <a:lnTo>
                    <a:pt x="2777" y="2085"/>
                  </a:lnTo>
                  <a:lnTo>
                    <a:pt x="2661" y="2317"/>
                  </a:lnTo>
                  <a:lnTo>
                    <a:pt x="2546" y="2548"/>
                  </a:lnTo>
                  <a:lnTo>
                    <a:pt x="2430" y="2780"/>
                  </a:lnTo>
                  <a:lnTo>
                    <a:pt x="2430" y="2780"/>
                  </a:lnTo>
                  <a:lnTo>
                    <a:pt x="2314" y="2896"/>
                  </a:lnTo>
                  <a:lnTo>
                    <a:pt x="2199" y="3012"/>
                  </a:lnTo>
                  <a:lnTo>
                    <a:pt x="1967" y="3127"/>
                  </a:lnTo>
                  <a:lnTo>
                    <a:pt x="1851" y="3243"/>
                  </a:lnTo>
                  <a:lnTo>
                    <a:pt x="1620" y="3243"/>
                  </a:lnTo>
                  <a:lnTo>
                    <a:pt x="1388" y="3243"/>
                  </a:lnTo>
                  <a:lnTo>
                    <a:pt x="1157" y="3243"/>
                  </a:lnTo>
                  <a:lnTo>
                    <a:pt x="1041" y="3243"/>
                  </a:lnTo>
                  <a:lnTo>
                    <a:pt x="1041" y="3243"/>
                  </a:lnTo>
                  <a:lnTo>
                    <a:pt x="810" y="3127"/>
                  </a:lnTo>
                  <a:lnTo>
                    <a:pt x="694" y="3127"/>
                  </a:lnTo>
                  <a:lnTo>
                    <a:pt x="463" y="3012"/>
                  </a:lnTo>
                  <a:lnTo>
                    <a:pt x="347" y="2896"/>
                  </a:lnTo>
                  <a:lnTo>
                    <a:pt x="231" y="2664"/>
                  </a:lnTo>
                  <a:lnTo>
                    <a:pt x="231" y="2548"/>
                  </a:lnTo>
                  <a:lnTo>
                    <a:pt x="115" y="2433"/>
                  </a:lnTo>
                  <a:lnTo>
                    <a:pt x="0" y="2201"/>
                  </a:lnTo>
                  <a:lnTo>
                    <a:pt x="0" y="2201"/>
                  </a:lnTo>
                  <a:lnTo>
                    <a:pt x="231" y="2317"/>
                  </a:lnTo>
                  <a:lnTo>
                    <a:pt x="347" y="2317"/>
                  </a:lnTo>
                  <a:lnTo>
                    <a:pt x="578" y="2317"/>
                  </a:lnTo>
                  <a:lnTo>
                    <a:pt x="810" y="2317"/>
                  </a:lnTo>
                  <a:lnTo>
                    <a:pt x="926" y="2317"/>
                  </a:lnTo>
                  <a:lnTo>
                    <a:pt x="1157" y="2201"/>
                  </a:lnTo>
                  <a:lnTo>
                    <a:pt x="1388" y="2201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736" y="1738"/>
                  </a:lnTo>
                  <a:lnTo>
                    <a:pt x="1851" y="1506"/>
                  </a:lnTo>
                  <a:lnTo>
                    <a:pt x="1851" y="1390"/>
                  </a:lnTo>
                  <a:lnTo>
                    <a:pt x="1967" y="1159"/>
                  </a:lnTo>
                  <a:lnTo>
                    <a:pt x="1967" y="1043"/>
                  </a:lnTo>
                  <a:lnTo>
                    <a:pt x="1851" y="811"/>
                  </a:lnTo>
                  <a:lnTo>
                    <a:pt x="1736" y="695"/>
                  </a:lnTo>
                  <a:lnTo>
                    <a:pt x="1736" y="695"/>
                  </a:lnTo>
                  <a:lnTo>
                    <a:pt x="1504" y="232"/>
                  </a:lnTo>
                  <a:lnTo>
                    <a:pt x="1504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116"/>
                  </a:lnTo>
                  <a:lnTo>
                    <a:pt x="2314" y="232"/>
                  </a:lnTo>
                  <a:lnTo>
                    <a:pt x="2546" y="348"/>
                  </a:lnTo>
                  <a:lnTo>
                    <a:pt x="2661" y="580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130480" y="4257000"/>
              <a:ext cx="79560" cy="173880"/>
            </a:xfrm>
            <a:custGeom>
              <a:avLst/>
              <a:gdLst/>
              <a:ahLst/>
              <a:rect l="l" t="t" r="r" b="b"/>
              <a:pathLst>
                <a:path w="2084" h="3243">
                  <a:moveTo>
                    <a:pt x="2084" y="464"/>
                  </a:moveTo>
                  <a:lnTo>
                    <a:pt x="2084" y="811"/>
                  </a:lnTo>
                  <a:lnTo>
                    <a:pt x="2084" y="1043"/>
                  </a:lnTo>
                  <a:lnTo>
                    <a:pt x="1968" y="1274"/>
                  </a:lnTo>
                  <a:lnTo>
                    <a:pt x="1852" y="1622"/>
                  </a:lnTo>
                  <a:lnTo>
                    <a:pt x="1736" y="1853"/>
                  </a:lnTo>
                  <a:lnTo>
                    <a:pt x="1621" y="2085"/>
                  </a:lnTo>
                  <a:lnTo>
                    <a:pt x="1505" y="2317"/>
                  </a:lnTo>
                  <a:lnTo>
                    <a:pt x="1389" y="2548"/>
                  </a:lnTo>
                  <a:lnTo>
                    <a:pt x="1389" y="2548"/>
                  </a:lnTo>
                  <a:lnTo>
                    <a:pt x="1158" y="2664"/>
                  </a:lnTo>
                  <a:lnTo>
                    <a:pt x="1042" y="2780"/>
                  </a:lnTo>
                  <a:lnTo>
                    <a:pt x="926" y="2896"/>
                  </a:lnTo>
                  <a:lnTo>
                    <a:pt x="695" y="3011"/>
                  </a:lnTo>
                  <a:lnTo>
                    <a:pt x="579" y="3127"/>
                  </a:lnTo>
                  <a:lnTo>
                    <a:pt x="463" y="3243"/>
                  </a:lnTo>
                  <a:lnTo>
                    <a:pt x="232" y="3243"/>
                  </a:lnTo>
                  <a:lnTo>
                    <a:pt x="0" y="3243"/>
                  </a:lnTo>
                  <a:lnTo>
                    <a:pt x="0" y="3243"/>
                  </a:lnTo>
                  <a:lnTo>
                    <a:pt x="116" y="2896"/>
                  </a:lnTo>
                  <a:lnTo>
                    <a:pt x="116" y="2548"/>
                  </a:lnTo>
                  <a:lnTo>
                    <a:pt x="232" y="2317"/>
                  </a:lnTo>
                  <a:lnTo>
                    <a:pt x="348" y="1969"/>
                  </a:lnTo>
                  <a:lnTo>
                    <a:pt x="348" y="1622"/>
                  </a:lnTo>
                  <a:lnTo>
                    <a:pt x="348" y="1274"/>
                  </a:lnTo>
                  <a:lnTo>
                    <a:pt x="348" y="927"/>
                  </a:lnTo>
                  <a:lnTo>
                    <a:pt x="232" y="579"/>
                  </a:lnTo>
                  <a:lnTo>
                    <a:pt x="232" y="579"/>
                  </a:lnTo>
                  <a:lnTo>
                    <a:pt x="348" y="232"/>
                  </a:lnTo>
                  <a:lnTo>
                    <a:pt x="463" y="116"/>
                  </a:lnTo>
                  <a:lnTo>
                    <a:pt x="695" y="0"/>
                  </a:lnTo>
                  <a:lnTo>
                    <a:pt x="1042" y="0"/>
                  </a:lnTo>
                  <a:lnTo>
                    <a:pt x="1273" y="116"/>
                  </a:lnTo>
                  <a:lnTo>
                    <a:pt x="1621" y="232"/>
                  </a:lnTo>
                  <a:lnTo>
                    <a:pt x="1852" y="348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196720" y="4269600"/>
              <a:ext cx="128160" cy="142920"/>
            </a:xfrm>
            <a:custGeom>
              <a:avLst/>
              <a:gdLst/>
              <a:ahLst/>
              <a:rect l="l" t="t" r="r" b="b"/>
              <a:pathLst>
                <a:path w="3357" h="2664">
                  <a:moveTo>
                    <a:pt x="3357" y="347"/>
                  </a:moveTo>
                  <a:lnTo>
                    <a:pt x="3125" y="811"/>
                  </a:lnTo>
                  <a:lnTo>
                    <a:pt x="2894" y="1158"/>
                  </a:lnTo>
                  <a:lnTo>
                    <a:pt x="2546" y="1505"/>
                  </a:lnTo>
                  <a:lnTo>
                    <a:pt x="2199" y="1853"/>
                  </a:lnTo>
                  <a:lnTo>
                    <a:pt x="1852" y="2200"/>
                  </a:lnTo>
                  <a:lnTo>
                    <a:pt x="1505" y="2432"/>
                  </a:lnTo>
                  <a:lnTo>
                    <a:pt x="1042" y="2548"/>
                  </a:lnTo>
                  <a:lnTo>
                    <a:pt x="695" y="2664"/>
                  </a:lnTo>
                  <a:lnTo>
                    <a:pt x="695" y="2664"/>
                  </a:lnTo>
                  <a:lnTo>
                    <a:pt x="0" y="2548"/>
                  </a:lnTo>
                  <a:lnTo>
                    <a:pt x="0" y="2548"/>
                  </a:lnTo>
                  <a:lnTo>
                    <a:pt x="348" y="2200"/>
                  </a:lnTo>
                  <a:lnTo>
                    <a:pt x="463" y="1853"/>
                  </a:lnTo>
                  <a:lnTo>
                    <a:pt x="695" y="1505"/>
                  </a:lnTo>
                  <a:lnTo>
                    <a:pt x="810" y="1158"/>
                  </a:lnTo>
                  <a:lnTo>
                    <a:pt x="926" y="811"/>
                  </a:lnTo>
                  <a:lnTo>
                    <a:pt x="1158" y="579"/>
                  </a:lnTo>
                  <a:lnTo>
                    <a:pt x="1505" y="232"/>
                  </a:lnTo>
                  <a:lnTo>
                    <a:pt x="1852" y="116"/>
                  </a:lnTo>
                  <a:lnTo>
                    <a:pt x="1852" y="116"/>
                  </a:lnTo>
                  <a:lnTo>
                    <a:pt x="2083" y="0"/>
                  </a:lnTo>
                  <a:lnTo>
                    <a:pt x="2315" y="0"/>
                  </a:lnTo>
                  <a:lnTo>
                    <a:pt x="2431" y="0"/>
                  </a:lnTo>
                  <a:lnTo>
                    <a:pt x="2662" y="0"/>
                  </a:lnTo>
                  <a:lnTo>
                    <a:pt x="2778" y="116"/>
                  </a:lnTo>
                  <a:lnTo>
                    <a:pt x="3009" y="116"/>
                  </a:lnTo>
                  <a:lnTo>
                    <a:pt x="3125" y="232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019600" y="4287960"/>
              <a:ext cx="105840" cy="186480"/>
            </a:xfrm>
            <a:custGeom>
              <a:avLst/>
              <a:gdLst/>
              <a:ahLst/>
              <a:rect l="l" t="t" r="r" b="b"/>
              <a:pathLst>
                <a:path w="2778" h="3475">
                  <a:moveTo>
                    <a:pt x="2778" y="1158"/>
                  </a:moveTo>
                  <a:lnTo>
                    <a:pt x="2662" y="1506"/>
                  </a:lnTo>
                  <a:lnTo>
                    <a:pt x="2662" y="1738"/>
                  </a:lnTo>
                  <a:lnTo>
                    <a:pt x="2546" y="2085"/>
                  </a:lnTo>
                  <a:lnTo>
                    <a:pt x="2430" y="2317"/>
                  </a:lnTo>
                  <a:lnTo>
                    <a:pt x="2430" y="2664"/>
                  </a:lnTo>
                  <a:lnTo>
                    <a:pt x="2199" y="2896"/>
                  </a:lnTo>
                  <a:lnTo>
                    <a:pt x="2083" y="3127"/>
                  </a:lnTo>
                  <a:lnTo>
                    <a:pt x="1736" y="3243"/>
                  </a:lnTo>
                  <a:lnTo>
                    <a:pt x="1736" y="3243"/>
                  </a:lnTo>
                  <a:lnTo>
                    <a:pt x="1620" y="3359"/>
                  </a:lnTo>
                  <a:lnTo>
                    <a:pt x="1505" y="3359"/>
                  </a:lnTo>
                  <a:lnTo>
                    <a:pt x="1273" y="3359"/>
                  </a:lnTo>
                  <a:lnTo>
                    <a:pt x="1157" y="3475"/>
                  </a:lnTo>
                  <a:lnTo>
                    <a:pt x="1042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579" y="3359"/>
                  </a:lnTo>
                  <a:lnTo>
                    <a:pt x="579" y="3359"/>
                  </a:lnTo>
                  <a:lnTo>
                    <a:pt x="347" y="3127"/>
                  </a:lnTo>
                  <a:lnTo>
                    <a:pt x="231" y="2896"/>
                  </a:lnTo>
                  <a:lnTo>
                    <a:pt x="231" y="2664"/>
                  </a:lnTo>
                  <a:lnTo>
                    <a:pt x="116" y="2432"/>
                  </a:lnTo>
                  <a:lnTo>
                    <a:pt x="116" y="2201"/>
                  </a:lnTo>
                  <a:lnTo>
                    <a:pt x="116" y="1969"/>
                  </a:lnTo>
                  <a:lnTo>
                    <a:pt x="0" y="1738"/>
                  </a:lnTo>
                  <a:lnTo>
                    <a:pt x="0" y="1506"/>
                  </a:lnTo>
                  <a:lnTo>
                    <a:pt x="0" y="1506"/>
                  </a:lnTo>
                  <a:lnTo>
                    <a:pt x="926" y="1274"/>
                  </a:lnTo>
                  <a:lnTo>
                    <a:pt x="926" y="1274"/>
                  </a:lnTo>
                  <a:lnTo>
                    <a:pt x="926" y="1390"/>
                  </a:lnTo>
                  <a:lnTo>
                    <a:pt x="926" y="1506"/>
                  </a:lnTo>
                  <a:lnTo>
                    <a:pt x="926" y="1622"/>
                  </a:lnTo>
                  <a:lnTo>
                    <a:pt x="926" y="1738"/>
                  </a:lnTo>
                  <a:lnTo>
                    <a:pt x="926" y="1853"/>
                  </a:lnTo>
                  <a:lnTo>
                    <a:pt x="926" y="1853"/>
                  </a:lnTo>
                  <a:lnTo>
                    <a:pt x="926" y="1969"/>
                  </a:lnTo>
                  <a:lnTo>
                    <a:pt x="1042" y="2085"/>
                  </a:lnTo>
                  <a:lnTo>
                    <a:pt x="1042" y="2085"/>
                  </a:lnTo>
                  <a:lnTo>
                    <a:pt x="1157" y="1738"/>
                  </a:lnTo>
                  <a:lnTo>
                    <a:pt x="1273" y="1390"/>
                  </a:lnTo>
                  <a:lnTo>
                    <a:pt x="1389" y="1158"/>
                  </a:lnTo>
                  <a:lnTo>
                    <a:pt x="1620" y="927"/>
                  </a:lnTo>
                  <a:lnTo>
                    <a:pt x="1852" y="579"/>
                  </a:lnTo>
                  <a:lnTo>
                    <a:pt x="2083" y="348"/>
                  </a:lnTo>
                  <a:lnTo>
                    <a:pt x="2315" y="232"/>
                  </a:lnTo>
                  <a:lnTo>
                    <a:pt x="2546" y="0"/>
                  </a:lnTo>
                  <a:lnTo>
                    <a:pt x="2546" y="0"/>
                  </a:lnTo>
                  <a:lnTo>
                    <a:pt x="2662" y="116"/>
                  </a:lnTo>
                  <a:lnTo>
                    <a:pt x="2778" y="232"/>
                  </a:lnTo>
                  <a:lnTo>
                    <a:pt x="2778" y="348"/>
                  </a:lnTo>
                  <a:lnTo>
                    <a:pt x="2778" y="579"/>
                  </a:lnTo>
                  <a:lnTo>
                    <a:pt x="2778" y="695"/>
                  </a:lnTo>
                  <a:lnTo>
                    <a:pt x="2778" y="927"/>
                  </a:lnTo>
                  <a:lnTo>
                    <a:pt x="2778" y="1043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183680" y="4319280"/>
              <a:ext cx="884520" cy="254880"/>
            </a:xfrm>
            <a:custGeom>
              <a:avLst/>
              <a:gdLst/>
              <a:ahLst/>
              <a:rect l="l" t="t" r="r" b="b"/>
              <a:pathLst>
                <a:path w="23146" h="4749">
                  <a:moveTo>
                    <a:pt x="23146" y="0"/>
                  </a:moveTo>
                  <a:lnTo>
                    <a:pt x="22336" y="232"/>
                  </a:lnTo>
                  <a:lnTo>
                    <a:pt x="21526" y="464"/>
                  </a:lnTo>
                  <a:lnTo>
                    <a:pt x="20600" y="695"/>
                  </a:lnTo>
                  <a:lnTo>
                    <a:pt x="19790" y="1043"/>
                  </a:lnTo>
                  <a:lnTo>
                    <a:pt x="18980" y="1274"/>
                  </a:lnTo>
                  <a:lnTo>
                    <a:pt x="18054" y="1390"/>
                  </a:lnTo>
                  <a:lnTo>
                    <a:pt x="17128" y="1622"/>
                  </a:lnTo>
                  <a:lnTo>
                    <a:pt x="16318" y="1738"/>
                  </a:lnTo>
                  <a:lnTo>
                    <a:pt x="16318" y="1738"/>
                  </a:lnTo>
                  <a:lnTo>
                    <a:pt x="4397" y="4054"/>
                  </a:lnTo>
                  <a:lnTo>
                    <a:pt x="810" y="4749"/>
                  </a:lnTo>
                  <a:lnTo>
                    <a:pt x="0" y="4401"/>
                  </a:lnTo>
                  <a:lnTo>
                    <a:pt x="0" y="4401"/>
                  </a:lnTo>
                  <a:lnTo>
                    <a:pt x="2314" y="3938"/>
                  </a:lnTo>
                  <a:lnTo>
                    <a:pt x="4629" y="3591"/>
                  </a:lnTo>
                  <a:lnTo>
                    <a:pt x="6944" y="3127"/>
                  </a:lnTo>
                  <a:lnTo>
                    <a:pt x="9258" y="2664"/>
                  </a:lnTo>
                  <a:lnTo>
                    <a:pt x="11573" y="2201"/>
                  </a:lnTo>
                  <a:lnTo>
                    <a:pt x="13888" y="1738"/>
                  </a:lnTo>
                  <a:lnTo>
                    <a:pt x="16202" y="1274"/>
                  </a:lnTo>
                  <a:lnTo>
                    <a:pt x="18633" y="927"/>
                  </a:lnTo>
                  <a:lnTo>
                    <a:pt x="18633" y="927"/>
                  </a:lnTo>
                  <a:lnTo>
                    <a:pt x="19211" y="811"/>
                  </a:lnTo>
                  <a:lnTo>
                    <a:pt x="19674" y="695"/>
                  </a:lnTo>
                  <a:lnTo>
                    <a:pt x="20253" y="695"/>
                  </a:lnTo>
                  <a:lnTo>
                    <a:pt x="20831" y="579"/>
                  </a:lnTo>
                  <a:lnTo>
                    <a:pt x="21410" y="464"/>
                  </a:lnTo>
                  <a:lnTo>
                    <a:pt x="21989" y="348"/>
                  </a:lnTo>
                  <a:lnTo>
                    <a:pt x="22567" y="116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72200" y="4356360"/>
              <a:ext cx="79560" cy="335520"/>
            </a:xfrm>
            <a:custGeom>
              <a:avLst/>
              <a:gdLst/>
              <a:ahLst/>
              <a:rect l="l" t="t" r="r" b="b"/>
              <a:pathLst>
                <a:path w="2083" h="6254">
                  <a:moveTo>
                    <a:pt x="1620" y="0"/>
                  </a:moveTo>
                  <a:lnTo>
                    <a:pt x="1273" y="695"/>
                  </a:lnTo>
                  <a:lnTo>
                    <a:pt x="1041" y="1506"/>
                  </a:lnTo>
                  <a:lnTo>
                    <a:pt x="925" y="2316"/>
                  </a:lnTo>
                  <a:lnTo>
                    <a:pt x="925" y="3127"/>
                  </a:lnTo>
                  <a:lnTo>
                    <a:pt x="1041" y="3822"/>
                  </a:lnTo>
                  <a:lnTo>
                    <a:pt x="1273" y="4633"/>
                  </a:lnTo>
                  <a:lnTo>
                    <a:pt x="1620" y="5328"/>
                  </a:lnTo>
                  <a:lnTo>
                    <a:pt x="2083" y="5907"/>
                  </a:lnTo>
                  <a:lnTo>
                    <a:pt x="2083" y="5907"/>
                  </a:lnTo>
                  <a:lnTo>
                    <a:pt x="2083" y="6254"/>
                  </a:lnTo>
                  <a:lnTo>
                    <a:pt x="2083" y="6254"/>
                  </a:lnTo>
                  <a:lnTo>
                    <a:pt x="1851" y="6254"/>
                  </a:lnTo>
                  <a:lnTo>
                    <a:pt x="1736" y="6254"/>
                  </a:lnTo>
                  <a:lnTo>
                    <a:pt x="1504" y="6254"/>
                  </a:lnTo>
                  <a:lnTo>
                    <a:pt x="1388" y="6138"/>
                  </a:lnTo>
                  <a:lnTo>
                    <a:pt x="1273" y="6022"/>
                  </a:lnTo>
                  <a:lnTo>
                    <a:pt x="1041" y="5907"/>
                  </a:lnTo>
                  <a:lnTo>
                    <a:pt x="925" y="5907"/>
                  </a:lnTo>
                  <a:lnTo>
                    <a:pt x="810" y="5791"/>
                  </a:lnTo>
                  <a:lnTo>
                    <a:pt x="810" y="5791"/>
                  </a:lnTo>
                  <a:lnTo>
                    <a:pt x="462" y="5212"/>
                  </a:lnTo>
                  <a:lnTo>
                    <a:pt x="231" y="4748"/>
                  </a:lnTo>
                  <a:lnTo>
                    <a:pt x="0" y="4169"/>
                  </a:lnTo>
                  <a:lnTo>
                    <a:pt x="0" y="3475"/>
                  </a:lnTo>
                  <a:lnTo>
                    <a:pt x="0" y="2896"/>
                  </a:lnTo>
                  <a:lnTo>
                    <a:pt x="0" y="2201"/>
                  </a:lnTo>
                  <a:lnTo>
                    <a:pt x="115" y="1622"/>
                  </a:lnTo>
                  <a:lnTo>
                    <a:pt x="231" y="1043"/>
                  </a:lnTo>
                  <a:lnTo>
                    <a:pt x="231" y="1043"/>
                  </a:lnTo>
                  <a:lnTo>
                    <a:pt x="347" y="927"/>
                  </a:lnTo>
                  <a:lnTo>
                    <a:pt x="462" y="695"/>
                  </a:lnTo>
                  <a:lnTo>
                    <a:pt x="694" y="579"/>
                  </a:lnTo>
                  <a:lnTo>
                    <a:pt x="810" y="348"/>
                  </a:lnTo>
                  <a:lnTo>
                    <a:pt x="925" y="232"/>
                  </a:lnTo>
                  <a:lnTo>
                    <a:pt x="1157" y="116"/>
                  </a:lnTo>
                  <a:lnTo>
                    <a:pt x="1388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829800" y="4375080"/>
              <a:ext cx="39600" cy="279720"/>
            </a:xfrm>
            <a:custGeom>
              <a:avLst/>
              <a:gdLst/>
              <a:ahLst/>
              <a:rect l="l" t="t" r="r" b="b"/>
              <a:pathLst>
                <a:path w="1042" h="5211">
                  <a:moveTo>
                    <a:pt x="694" y="1968"/>
                  </a:moveTo>
                  <a:lnTo>
                    <a:pt x="1042" y="3706"/>
                  </a:lnTo>
                  <a:lnTo>
                    <a:pt x="810" y="5211"/>
                  </a:lnTo>
                  <a:lnTo>
                    <a:pt x="810" y="5211"/>
                  </a:lnTo>
                  <a:lnTo>
                    <a:pt x="463" y="4632"/>
                  </a:lnTo>
                  <a:lnTo>
                    <a:pt x="232" y="3937"/>
                  </a:lnTo>
                  <a:lnTo>
                    <a:pt x="0" y="3358"/>
                  </a:lnTo>
                  <a:lnTo>
                    <a:pt x="0" y="2663"/>
                  </a:lnTo>
                  <a:lnTo>
                    <a:pt x="0" y="1968"/>
                  </a:lnTo>
                  <a:lnTo>
                    <a:pt x="0" y="1274"/>
                  </a:lnTo>
                  <a:lnTo>
                    <a:pt x="232" y="579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694" y="231"/>
                  </a:lnTo>
                  <a:lnTo>
                    <a:pt x="810" y="463"/>
                  </a:lnTo>
                  <a:lnTo>
                    <a:pt x="810" y="695"/>
                  </a:lnTo>
                  <a:lnTo>
                    <a:pt x="810" y="926"/>
                  </a:lnTo>
                  <a:lnTo>
                    <a:pt x="694" y="1158"/>
                  </a:lnTo>
                  <a:lnTo>
                    <a:pt x="694" y="1505"/>
                  </a:lnTo>
                  <a:lnTo>
                    <a:pt x="579" y="1737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971000" y="4381560"/>
              <a:ext cx="35280" cy="55800"/>
            </a:xfrm>
            <a:custGeom>
              <a:avLst/>
              <a:gdLst/>
              <a:ahLst/>
              <a:rect l="l" t="t" r="r" b="b"/>
              <a:pathLst>
                <a:path w="926" h="1042">
                  <a:moveTo>
                    <a:pt x="926" y="926"/>
                  </a:moveTo>
                  <a:lnTo>
                    <a:pt x="926" y="1042"/>
                  </a:lnTo>
                  <a:lnTo>
                    <a:pt x="926" y="1042"/>
                  </a:lnTo>
                  <a:lnTo>
                    <a:pt x="810" y="1042"/>
                  </a:lnTo>
                  <a:lnTo>
                    <a:pt x="694" y="1042"/>
                  </a:lnTo>
                  <a:lnTo>
                    <a:pt x="579" y="1042"/>
                  </a:lnTo>
                  <a:lnTo>
                    <a:pt x="463" y="926"/>
                  </a:lnTo>
                  <a:lnTo>
                    <a:pt x="347" y="926"/>
                  </a:lnTo>
                  <a:lnTo>
                    <a:pt x="231" y="810"/>
                  </a:lnTo>
                  <a:lnTo>
                    <a:pt x="116" y="694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579" y="0"/>
                  </a:lnTo>
                  <a:lnTo>
                    <a:pt x="694" y="115"/>
                  </a:lnTo>
                  <a:lnTo>
                    <a:pt x="810" y="115"/>
                  </a:lnTo>
                  <a:lnTo>
                    <a:pt x="810" y="347"/>
                  </a:lnTo>
                  <a:lnTo>
                    <a:pt x="810" y="463"/>
                  </a:lnTo>
                  <a:lnTo>
                    <a:pt x="926" y="579"/>
                  </a:lnTo>
                  <a:lnTo>
                    <a:pt x="926" y="810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64120" y="4393800"/>
              <a:ext cx="243000" cy="391680"/>
            </a:xfrm>
            <a:custGeom>
              <a:avLst/>
              <a:gdLst/>
              <a:ahLst/>
              <a:rect l="l" t="t" r="r" b="b"/>
              <a:pathLst>
                <a:path w="6365" h="7296">
                  <a:moveTo>
                    <a:pt x="6365" y="5791"/>
                  </a:moveTo>
                  <a:lnTo>
                    <a:pt x="5671" y="6022"/>
                  </a:lnTo>
                  <a:lnTo>
                    <a:pt x="4977" y="6370"/>
                  </a:lnTo>
                  <a:lnTo>
                    <a:pt x="4282" y="6717"/>
                  </a:lnTo>
                  <a:lnTo>
                    <a:pt x="3588" y="7065"/>
                  </a:lnTo>
                  <a:lnTo>
                    <a:pt x="2778" y="7296"/>
                  </a:lnTo>
                  <a:lnTo>
                    <a:pt x="2083" y="7296"/>
                  </a:lnTo>
                  <a:lnTo>
                    <a:pt x="1389" y="6949"/>
                  </a:lnTo>
                  <a:lnTo>
                    <a:pt x="810" y="6370"/>
                  </a:lnTo>
                  <a:lnTo>
                    <a:pt x="810" y="6370"/>
                  </a:lnTo>
                  <a:lnTo>
                    <a:pt x="463" y="5906"/>
                  </a:lnTo>
                  <a:lnTo>
                    <a:pt x="116" y="5327"/>
                  </a:lnTo>
                  <a:lnTo>
                    <a:pt x="0" y="4748"/>
                  </a:lnTo>
                  <a:lnTo>
                    <a:pt x="0" y="4169"/>
                  </a:lnTo>
                  <a:lnTo>
                    <a:pt x="0" y="3590"/>
                  </a:lnTo>
                  <a:lnTo>
                    <a:pt x="0" y="3011"/>
                  </a:lnTo>
                  <a:lnTo>
                    <a:pt x="116" y="2432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695" y="1274"/>
                  </a:lnTo>
                  <a:lnTo>
                    <a:pt x="1157" y="811"/>
                  </a:lnTo>
                  <a:lnTo>
                    <a:pt x="1736" y="579"/>
                  </a:lnTo>
                  <a:lnTo>
                    <a:pt x="2431" y="463"/>
                  </a:lnTo>
                  <a:lnTo>
                    <a:pt x="3125" y="348"/>
                  </a:lnTo>
                  <a:lnTo>
                    <a:pt x="3935" y="232"/>
                  </a:lnTo>
                  <a:lnTo>
                    <a:pt x="4629" y="232"/>
                  </a:lnTo>
                  <a:lnTo>
                    <a:pt x="5208" y="0"/>
                  </a:lnTo>
                  <a:lnTo>
                    <a:pt x="5208" y="0"/>
                  </a:lnTo>
                  <a:lnTo>
                    <a:pt x="5092" y="811"/>
                  </a:lnTo>
                  <a:lnTo>
                    <a:pt x="4977" y="1506"/>
                  </a:lnTo>
                  <a:lnTo>
                    <a:pt x="4977" y="2316"/>
                  </a:lnTo>
                  <a:lnTo>
                    <a:pt x="4977" y="3127"/>
                  </a:lnTo>
                  <a:lnTo>
                    <a:pt x="5092" y="3938"/>
                  </a:lnTo>
                  <a:lnTo>
                    <a:pt x="5324" y="4633"/>
                  </a:lnTo>
                  <a:lnTo>
                    <a:pt x="5787" y="5327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close/>
                </a:path>
              </a:pathLst>
            </a:custGeom>
            <a:solidFill>
              <a:srgbClr val="ff3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059840" y="4399920"/>
              <a:ext cx="893520" cy="857880"/>
            </a:xfrm>
            <a:custGeom>
              <a:avLst/>
              <a:gdLst/>
              <a:ahLst/>
              <a:rect l="l" t="t" r="r" b="b"/>
              <a:pathLst>
                <a:path w="23378" h="15982">
                  <a:moveTo>
                    <a:pt x="23378" y="6949"/>
                  </a:moveTo>
                  <a:lnTo>
                    <a:pt x="23031" y="7180"/>
                  </a:lnTo>
                  <a:lnTo>
                    <a:pt x="22568" y="7412"/>
                  </a:lnTo>
                  <a:lnTo>
                    <a:pt x="22221" y="7528"/>
                  </a:lnTo>
                  <a:lnTo>
                    <a:pt x="21758" y="7528"/>
                  </a:lnTo>
                  <a:lnTo>
                    <a:pt x="21295" y="7643"/>
                  </a:lnTo>
                  <a:lnTo>
                    <a:pt x="20832" y="7643"/>
                  </a:lnTo>
                  <a:lnTo>
                    <a:pt x="20369" y="7759"/>
                  </a:lnTo>
                  <a:lnTo>
                    <a:pt x="19906" y="7875"/>
                  </a:lnTo>
                  <a:lnTo>
                    <a:pt x="19906" y="7875"/>
                  </a:lnTo>
                  <a:lnTo>
                    <a:pt x="16203" y="9033"/>
                  </a:lnTo>
                  <a:lnTo>
                    <a:pt x="2778" y="15055"/>
                  </a:lnTo>
                  <a:lnTo>
                    <a:pt x="2778" y="15055"/>
                  </a:lnTo>
                  <a:lnTo>
                    <a:pt x="2546" y="15171"/>
                  </a:lnTo>
                  <a:lnTo>
                    <a:pt x="2199" y="15403"/>
                  </a:lnTo>
                  <a:lnTo>
                    <a:pt x="1852" y="15518"/>
                  </a:lnTo>
                  <a:lnTo>
                    <a:pt x="1505" y="15750"/>
                  </a:lnTo>
                  <a:lnTo>
                    <a:pt x="1157" y="15866"/>
                  </a:lnTo>
                  <a:lnTo>
                    <a:pt x="810" y="15982"/>
                  </a:lnTo>
                  <a:lnTo>
                    <a:pt x="463" y="15982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0" y="14592"/>
                  </a:lnTo>
                  <a:lnTo>
                    <a:pt x="116" y="13202"/>
                  </a:lnTo>
                  <a:lnTo>
                    <a:pt x="116" y="11813"/>
                  </a:lnTo>
                  <a:lnTo>
                    <a:pt x="232" y="10423"/>
                  </a:lnTo>
                  <a:lnTo>
                    <a:pt x="347" y="8917"/>
                  </a:lnTo>
                  <a:lnTo>
                    <a:pt x="347" y="7528"/>
                  </a:lnTo>
                  <a:lnTo>
                    <a:pt x="463" y="6138"/>
                  </a:lnTo>
                  <a:lnTo>
                    <a:pt x="579" y="4748"/>
                  </a:lnTo>
                  <a:lnTo>
                    <a:pt x="579" y="4748"/>
                  </a:lnTo>
                  <a:lnTo>
                    <a:pt x="1157" y="4748"/>
                  </a:lnTo>
                  <a:lnTo>
                    <a:pt x="1620" y="4980"/>
                  </a:lnTo>
                  <a:lnTo>
                    <a:pt x="2083" y="5211"/>
                  </a:lnTo>
                  <a:lnTo>
                    <a:pt x="2546" y="5559"/>
                  </a:lnTo>
                  <a:lnTo>
                    <a:pt x="3009" y="5790"/>
                  </a:lnTo>
                  <a:lnTo>
                    <a:pt x="3472" y="5790"/>
                  </a:lnTo>
                  <a:lnTo>
                    <a:pt x="3935" y="5675"/>
                  </a:lnTo>
                  <a:lnTo>
                    <a:pt x="4514" y="5327"/>
                  </a:lnTo>
                  <a:lnTo>
                    <a:pt x="4514" y="5327"/>
                  </a:lnTo>
                  <a:lnTo>
                    <a:pt x="4514" y="5211"/>
                  </a:lnTo>
                  <a:lnTo>
                    <a:pt x="4629" y="5096"/>
                  </a:lnTo>
                  <a:lnTo>
                    <a:pt x="4629" y="4980"/>
                  </a:lnTo>
                  <a:lnTo>
                    <a:pt x="4745" y="4980"/>
                  </a:lnTo>
                  <a:lnTo>
                    <a:pt x="4745" y="4864"/>
                  </a:lnTo>
                  <a:lnTo>
                    <a:pt x="4745" y="4748"/>
                  </a:lnTo>
                  <a:lnTo>
                    <a:pt x="4861" y="4632"/>
                  </a:lnTo>
                  <a:lnTo>
                    <a:pt x="4861" y="4517"/>
                  </a:lnTo>
                  <a:lnTo>
                    <a:pt x="4861" y="4517"/>
                  </a:lnTo>
                  <a:lnTo>
                    <a:pt x="4861" y="4401"/>
                  </a:lnTo>
                  <a:lnTo>
                    <a:pt x="4745" y="4285"/>
                  </a:lnTo>
                  <a:lnTo>
                    <a:pt x="4745" y="4169"/>
                  </a:lnTo>
                  <a:lnTo>
                    <a:pt x="4745" y="4053"/>
                  </a:lnTo>
                  <a:lnTo>
                    <a:pt x="4745" y="3937"/>
                  </a:lnTo>
                  <a:lnTo>
                    <a:pt x="4629" y="3822"/>
                  </a:lnTo>
                  <a:lnTo>
                    <a:pt x="4629" y="3706"/>
                  </a:lnTo>
                  <a:lnTo>
                    <a:pt x="4514" y="3706"/>
                  </a:lnTo>
                  <a:lnTo>
                    <a:pt x="4514" y="3706"/>
                  </a:lnTo>
                  <a:lnTo>
                    <a:pt x="6828" y="3127"/>
                  </a:lnTo>
                  <a:lnTo>
                    <a:pt x="9143" y="2664"/>
                  </a:lnTo>
                  <a:lnTo>
                    <a:pt x="11458" y="2316"/>
                  </a:lnTo>
                  <a:lnTo>
                    <a:pt x="13772" y="1853"/>
                  </a:lnTo>
                  <a:lnTo>
                    <a:pt x="15971" y="1390"/>
                  </a:lnTo>
                  <a:lnTo>
                    <a:pt x="18286" y="1042"/>
                  </a:lnTo>
                  <a:lnTo>
                    <a:pt x="20600" y="579"/>
                  </a:lnTo>
                  <a:lnTo>
                    <a:pt x="22799" y="0"/>
                  </a:lnTo>
                  <a:lnTo>
                    <a:pt x="22799" y="0"/>
                  </a:lnTo>
                  <a:lnTo>
                    <a:pt x="22799" y="926"/>
                  </a:lnTo>
                  <a:lnTo>
                    <a:pt x="22799" y="1737"/>
                  </a:lnTo>
                  <a:lnTo>
                    <a:pt x="22799" y="2664"/>
                  </a:lnTo>
                  <a:lnTo>
                    <a:pt x="22799" y="3590"/>
                  </a:lnTo>
                  <a:lnTo>
                    <a:pt x="22915" y="4401"/>
                  </a:lnTo>
                  <a:lnTo>
                    <a:pt x="23031" y="5327"/>
                  </a:lnTo>
                  <a:lnTo>
                    <a:pt x="23147" y="6138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74080" y="4437360"/>
              <a:ext cx="21960" cy="111600"/>
            </a:xfrm>
            <a:custGeom>
              <a:avLst/>
              <a:gdLst/>
              <a:ahLst/>
              <a:rect l="l" t="t" r="r" b="b"/>
              <a:pathLst>
                <a:path w="579" h="2084">
                  <a:moveTo>
                    <a:pt x="579" y="695"/>
                  </a:moveTo>
                  <a:lnTo>
                    <a:pt x="116" y="2084"/>
                  </a:lnTo>
                  <a:lnTo>
                    <a:pt x="116" y="2084"/>
                  </a:lnTo>
                  <a:lnTo>
                    <a:pt x="0" y="1853"/>
                  </a:lnTo>
                  <a:lnTo>
                    <a:pt x="0" y="1621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0" y="810"/>
                  </a:lnTo>
                  <a:lnTo>
                    <a:pt x="0" y="579"/>
                  </a:lnTo>
                  <a:lnTo>
                    <a:pt x="0" y="231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232" y="0"/>
                  </a:lnTo>
                  <a:lnTo>
                    <a:pt x="348" y="116"/>
                  </a:lnTo>
                  <a:lnTo>
                    <a:pt x="348" y="116"/>
                  </a:lnTo>
                  <a:lnTo>
                    <a:pt x="463" y="231"/>
                  </a:lnTo>
                  <a:lnTo>
                    <a:pt x="463" y="347"/>
                  </a:lnTo>
                  <a:lnTo>
                    <a:pt x="463" y="463"/>
                  </a:lnTo>
                  <a:lnTo>
                    <a:pt x="463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0760" y="4654800"/>
              <a:ext cx="154800" cy="105480"/>
            </a:xfrm>
            <a:custGeom>
              <a:avLst/>
              <a:gdLst/>
              <a:ahLst/>
              <a:rect l="l" t="t" r="r" b="b"/>
              <a:pathLst>
                <a:path w="4050" h="1969">
                  <a:moveTo>
                    <a:pt x="1157" y="1274"/>
                  </a:moveTo>
                  <a:lnTo>
                    <a:pt x="1157" y="1158"/>
                  </a:lnTo>
                  <a:lnTo>
                    <a:pt x="1157" y="1042"/>
                  </a:lnTo>
                  <a:lnTo>
                    <a:pt x="1041" y="1042"/>
                  </a:lnTo>
                  <a:lnTo>
                    <a:pt x="1041" y="927"/>
                  </a:lnTo>
                  <a:lnTo>
                    <a:pt x="1041" y="811"/>
                  </a:lnTo>
                  <a:lnTo>
                    <a:pt x="925" y="695"/>
                  </a:lnTo>
                  <a:lnTo>
                    <a:pt x="925" y="579"/>
                  </a:lnTo>
                  <a:lnTo>
                    <a:pt x="925" y="463"/>
                  </a:lnTo>
                  <a:lnTo>
                    <a:pt x="925" y="463"/>
                  </a:lnTo>
                  <a:lnTo>
                    <a:pt x="1157" y="463"/>
                  </a:lnTo>
                  <a:lnTo>
                    <a:pt x="1273" y="579"/>
                  </a:lnTo>
                  <a:lnTo>
                    <a:pt x="1388" y="695"/>
                  </a:lnTo>
                  <a:lnTo>
                    <a:pt x="1504" y="927"/>
                  </a:lnTo>
                  <a:lnTo>
                    <a:pt x="1620" y="1042"/>
                  </a:lnTo>
                  <a:lnTo>
                    <a:pt x="1620" y="1158"/>
                  </a:lnTo>
                  <a:lnTo>
                    <a:pt x="1851" y="1274"/>
                  </a:lnTo>
                  <a:lnTo>
                    <a:pt x="1967" y="1390"/>
                  </a:lnTo>
                  <a:lnTo>
                    <a:pt x="1967" y="1390"/>
                  </a:lnTo>
                  <a:lnTo>
                    <a:pt x="1851" y="1274"/>
                  </a:lnTo>
                  <a:lnTo>
                    <a:pt x="1851" y="1158"/>
                  </a:lnTo>
                  <a:lnTo>
                    <a:pt x="1851" y="1042"/>
                  </a:lnTo>
                  <a:lnTo>
                    <a:pt x="1736" y="927"/>
                  </a:lnTo>
                  <a:lnTo>
                    <a:pt x="1736" y="811"/>
                  </a:lnTo>
                  <a:lnTo>
                    <a:pt x="1736" y="695"/>
                  </a:lnTo>
                  <a:lnTo>
                    <a:pt x="1620" y="579"/>
                  </a:lnTo>
                  <a:lnTo>
                    <a:pt x="1620" y="463"/>
                  </a:lnTo>
                  <a:lnTo>
                    <a:pt x="1620" y="463"/>
                  </a:lnTo>
                  <a:lnTo>
                    <a:pt x="1851" y="463"/>
                  </a:lnTo>
                  <a:lnTo>
                    <a:pt x="1967" y="579"/>
                  </a:lnTo>
                  <a:lnTo>
                    <a:pt x="2083" y="811"/>
                  </a:lnTo>
                  <a:lnTo>
                    <a:pt x="2083" y="927"/>
                  </a:lnTo>
                  <a:lnTo>
                    <a:pt x="2198" y="1158"/>
                  </a:lnTo>
                  <a:lnTo>
                    <a:pt x="2314" y="1274"/>
                  </a:lnTo>
                  <a:lnTo>
                    <a:pt x="2546" y="1274"/>
                  </a:lnTo>
                  <a:lnTo>
                    <a:pt x="2777" y="1274"/>
                  </a:lnTo>
                  <a:lnTo>
                    <a:pt x="2777" y="1274"/>
                  </a:lnTo>
                  <a:lnTo>
                    <a:pt x="2661" y="1158"/>
                  </a:lnTo>
                  <a:lnTo>
                    <a:pt x="2661" y="1042"/>
                  </a:lnTo>
                  <a:lnTo>
                    <a:pt x="2661" y="1042"/>
                  </a:lnTo>
                  <a:lnTo>
                    <a:pt x="2546" y="927"/>
                  </a:lnTo>
                  <a:lnTo>
                    <a:pt x="2546" y="811"/>
                  </a:lnTo>
                  <a:lnTo>
                    <a:pt x="2430" y="695"/>
                  </a:lnTo>
                  <a:lnTo>
                    <a:pt x="2430" y="695"/>
                  </a:lnTo>
                  <a:lnTo>
                    <a:pt x="2430" y="579"/>
                  </a:lnTo>
                  <a:lnTo>
                    <a:pt x="2430" y="579"/>
                  </a:lnTo>
                  <a:lnTo>
                    <a:pt x="2546" y="579"/>
                  </a:lnTo>
                  <a:lnTo>
                    <a:pt x="2777" y="695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3009" y="1042"/>
                  </a:lnTo>
                  <a:lnTo>
                    <a:pt x="3124" y="1158"/>
                  </a:lnTo>
                  <a:lnTo>
                    <a:pt x="3356" y="1158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356" y="927"/>
                  </a:lnTo>
                  <a:lnTo>
                    <a:pt x="3240" y="811"/>
                  </a:lnTo>
                  <a:lnTo>
                    <a:pt x="3124" y="695"/>
                  </a:lnTo>
                  <a:lnTo>
                    <a:pt x="3009" y="579"/>
                  </a:lnTo>
                  <a:lnTo>
                    <a:pt x="3009" y="463"/>
                  </a:lnTo>
                  <a:lnTo>
                    <a:pt x="3009" y="348"/>
                  </a:lnTo>
                  <a:lnTo>
                    <a:pt x="3009" y="232"/>
                  </a:lnTo>
                  <a:lnTo>
                    <a:pt x="3009" y="232"/>
                  </a:lnTo>
                  <a:lnTo>
                    <a:pt x="3124" y="348"/>
                  </a:lnTo>
                  <a:lnTo>
                    <a:pt x="3240" y="348"/>
                  </a:lnTo>
                  <a:lnTo>
                    <a:pt x="3356" y="463"/>
                  </a:lnTo>
                  <a:lnTo>
                    <a:pt x="3471" y="579"/>
                  </a:lnTo>
                  <a:lnTo>
                    <a:pt x="3587" y="695"/>
                  </a:lnTo>
                  <a:lnTo>
                    <a:pt x="3819" y="811"/>
                  </a:lnTo>
                  <a:lnTo>
                    <a:pt x="3934" y="811"/>
                  </a:lnTo>
                  <a:lnTo>
                    <a:pt x="4050" y="927"/>
                  </a:lnTo>
                  <a:lnTo>
                    <a:pt x="4050" y="927"/>
                  </a:lnTo>
                  <a:lnTo>
                    <a:pt x="3934" y="1042"/>
                  </a:lnTo>
                  <a:lnTo>
                    <a:pt x="3819" y="1042"/>
                  </a:lnTo>
                  <a:lnTo>
                    <a:pt x="3703" y="1158"/>
                  </a:lnTo>
                  <a:lnTo>
                    <a:pt x="3587" y="1158"/>
                  </a:lnTo>
                  <a:lnTo>
                    <a:pt x="3471" y="1158"/>
                  </a:lnTo>
                  <a:lnTo>
                    <a:pt x="3356" y="1158"/>
                  </a:lnTo>
                  <a:lnTo>
                    <a:pt x="3356" y="1274"/>
                  </a:lnTo>
                  <a:lnTo>
                    <a:pt x="3471" y="1390"/>
                  </a:lnTo>
                  <a:lnTo>
                    <a:pt x="3471" y="1390"/>
                  </a:lnTo>
                  <a:lnTo>
                    <a:pt x="3009" y="1506"/>
                  </a:lnTo>
                  <a:lnTo>
                    <a:pt x="3009" y="1506"/>
                  </a:lnTo>
                  <a:lnTo>
                    <a:pt x="2893" y="1621"/>
                  </a:lnTo>
                  <a:lnTo>
                    <a:pt x="2777" y="1737"/>
                  </a:lnTo>
                  <a:lnTo>
                    <a:pt x="2661" y="1737"/>
                  </a:lnTo>
                  <a:lnTo>
                    <a:pt x="2546" y="1853"/>
                  </a:lnTo>
                  <a:lnTo>
                    <a:pt x="2314" y="1853"/>
                  </a:lnTo>
                  <a:lnTo>
                    <a:pt x="2198" y="1853"/>
                  </a:lnTo>
                  <a:lnTo>
                    <a:pt x="1967" y="1969"/>
                  </a:lnTo>
                  <a:lnTo>
                    <a:pt x="1851" y="1969"/>
                  </a:lnTo>
                  <a:lnTo>
                    <a:pt x="1851" y="1969"/>
                  </a:lnTo>
                  <a:lnTo>
                    <a:pt x="1736" y="1969"/>
                  </a:lnTo>
                  <a:lnTo>
                    <a:pt x="1504" y="1969"/>
                  </a:lnTo>
                  <a:lnTo>
                    <a:pt x="1273" y="1853"/>
                  </a:lnTo>
                  <a:lnTo>
                    <a:pt x="1157" y="1737"/>
                  </a:lnTo>
                  <a:lnTo>
                    <a:pt x="925" y="1621"/>
                  </a:lnTo>
                  <a:lnTo>
                    <a:pt x="810" y="1506"/>
                  </a:lnTo>
                  <a:lnTo>
                    <a:pt x="694" y="1390"/>
                  </a:lnTo>
                  <a:lnTo>
                    <a:pt x="462" y="1274"/>
                  </a:lnTo>
                  <a:lnTo>
                    <a:pt x="462" y="1274"/>
                  </a:lnTo>
                  <a:lnTo>
                    <a:pt x="347" y="1158"/>
                  </a:lnTo>
                  <a:lnTo>
                    <a:pt x="231" y="927"/>
                  </a:lnTo>
                  <a:lnTo>
                    <a:pt x="231" y="811"/>
                  </a:lnTo>
                  <a:lnTo>
                    <a:pt x="115" y="579"/>
                  </a:lnTo>
                  <a:lnTo>
                    <a:pt x="0" y="463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5" y="116"/>
                  </a:lnTo>
                  <a:lnTo>
                    <a:pt x="231" y="348"/>
                  </a:lnTo>
                  <a:lnTo>
                    <a:pt x="347" y="463"/>
                  </a:lnTo>
                  <a:lnTo>
                    <a:pt x="462" y="695"/>
                  </a:lnTo>
                  <a:lnTo>
                    <a:pt x="578" y="811"/>
                  </a:lnTo>
                  <a:lnTo>
                    <a:pt x="810" y="1042"/>
                  </a:lnTo>
                  <a:lnTo>
                    <a:pt x="925" y="1158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32240" y="4654800"/>
              <a:ext cx="39600" cy="43200"/>
            </a:xfrm>
            <a:custGeom>
              <a:avLst/>
              <a:gdLst/>
              <a:ahLst/>
              <a:rect l="l" t="t" r="r" b="b"/>
              <a:pathLst>
                <a:path w="1042" h="811">
                  <a:moveTo>
                    <a:pt x="1042" y="811"/>
                  </a:moveTo>
                  <a:lnTo>
                    <a:pt x="926" y="811"/>
                  </a:lnTo>
                  <a:lnTo>
                    <a:pt x="810" y="811"/>
                  </a:lnTo>
                  <a:lnTo>
                    <a:pt x="694" y="811"/>
                  </a:lnTo>
                  <a:lnTo>
                    <a:pt x="579" y="811"/>
                  </a:lnTo>
                  <a:lnTo>
                    <a:pt x="463" y="695"/>
                  </a:lnTo>
                  <a:lnTo>
                    <a:pt x="347" y="695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231" y="232"/>
                  </a:lnTo>
                  <a:lnTo>
                    <a:pt x="463" y="348"/>
                  </a:lnTo>
                  <a:lnTo>
                    <a:pt x="694" y="348"/>
                  </a:lnTo>
                  <a:lnTo>
                    <a:pt x="810" y="348"/>
                  </a:lnTo>
                  <a:lnTo>
                    <a:pt x="926" y="463"/>
                  </a:lnTo>
                  <a:lnTo>
                    <a:pt x="1042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015560" y="4661280"/>
              <a:ext cx="48600" cy="553320"/>
            </a:xfrm>
            <a:custGeom>
              <a:avLst/>
              <a:gdLst/>
              <a:ahLst/>
              <a:rect l="l" t="t" r="r" b="b"/>
              <a:pathLst>
                <a:path w="1273" h="10307">
                  <a:moveTo>
                    <a:pt x="1273" y="116"/>
                  </a:moveTo>
                  <a:lnTo>
                    <a:pt x="1273" y="1274"/>
                  </a:lnTo>
                  <a:lnTo>
                    <a:pt x="1157" y="2548"/>
                  </a:lnTo>
                  <a:lnTo>
                    <a:pt x="1157" y="3706"/>
                  </a:lnTo>
                  <a:lnTo>
                    <a:pt x="1041" y="4980"/>
                  </a:lnTo>
                  <a:lnTo>
                    <a:pt x="926" y="6254"/>
                  </a:lnTo>
                  <a:lnTo>
                    <a:pt x="810" y="7528"/>
                  </a:lnTo>
                  <a:lnTo>
                    <a:pt x="694" y="8917"/>
                  </a:lnTo>
                  <a:lnTo>
                    <a:pt x="694" y="10191"/>
                  </a:lnTo>
                  <a:lnTo>
                    <a:pt x="694" y="10191"/>
                  </a:lnTo>
                  <a:lnTo>
                    <a:pt x="578" y="10191"/>
                  </a:lnTo>
                  <a:lnTo>
                    <a:pt x="463" y="10191"/>
                  </a:lnTo>
                  <a:lnTo>
                    <a:pt x="347" y="10191"/>
                  </a:lnTo>
                  <a:lnTo>
                    <a:pt x="347" y="10307"/>
                  </a:lnTo>
                  <a:lnTo>
                    <a:pt x="231" y="10307"/>
                  </a:lnTo>
                  <a:lnTo>
                    <a:pt x="116" y="10307"/>
                  </a:lnTo>
                  <a:lnTo>
                    <a:pt x="116" y="10307"/>
                  </a:lnTo>
                  <a:lnTo>
                    <a:pt x="0" y="10307"/>
                  </a:lnTo>
                  <a:lnTo>
                    <a:pt x="0" y="10307"/>
                  </a:lnTo>
                  <a:lnTo>
                    <a:pt x="0" y="9033"/>
                  </a:lnTo>
                  <a:lnTo>
                    <a:pt x="116" y="7759"/>
                  </a:lnTo>
                  <a:lnTo>
                    <a:pt x="231" y="6485"/>
                  </a:lnTo>
                  <a:lnTo>
                    <a:pt x="347" y="5211"/>
                  </a:lnTo>
                  <a:lnTo>
                    <a:pt x="463" y="4053"/>
                  </a:lnTo>
                  <a:lnTo>
                    <a:pt x="578" y="2779"/>
                  </a:lnTo>
                  <a:lnTo>
                    <a:pt x="694" y="1505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1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988920" y="4679640"/>
              <a:ext cx="48600" cy="528480"/>
            </a:xfrm>
            <a:custGeom>
              <a:avLst/>
              <a:gdLst/>
              <a:ahLst/>
              <a:rect l="l" t="t" r="r" b="b"/>
              <a:pathLst>
                <a:path w="1273" h="9844">
                  <a:moveTo>
                    <a:pt x="1273" y="0"/>
                  </a:moveTo>
                  <a:lnTo>
                    <a:pt x="1042" y="1158"/>
                  </a:lnTo>
                  <a:lnTo>
                    <a:pt x="926" y="2432"/>
                  </a:lnTo>
                  <a:lnTo>
                    <a:pt x="811" y="3590"/>
                  </a:lnTo>
                  <a:lnTo>
                    <a:pt x="695" y="4864"/>
                  </a:lnTo>
                  <a:lnTo>
                    <a:pt x="579" y="6138"/>
                  </a:lnTo>
                  <a:lnTo>
                    <a:pt x="463" y="7412"/>
                  </a:lnTo>
                  <a:lnTo>
                    <a:pt x="463" y="8570"/>
                  </a:lnTo>
                  <a:lnTo>
                    <a:pt x="348" y="9844"/>
                  </a:lnTo>
                  <a:lnTo>
                    <a:pt x="348" y="9844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348" y="9844"/>
                  </a:lnTo>
                  <a:lnTo>
                    <a:pt x="348" y="9728"/>
                  </a:lnTo>
                  <a:lnTo>
                    <a:pt x="232" y="9728"/>
                  </a:lnTo>
                  <a:lnTo>
                    <a:pt x="116" y="9728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8570"/>
                  </a:lnTo>
                  <a:lnTo>
                    <a:pt x="116" y="7412"/>
                  </a:lnTo>
                  <a:lnTo>
                    <a:pt x="116" y="6254"/>
                  </a:lnTo>
                  <a:lnTo>
                    <a:pt x="232" y="4980"/>
                  </a:lnTo>
                  <a:lnTo>
                    <a:pt x="348" y="3822"/>
                  </a:lnTo>
                  <a:lnTo>
                    <a:pt x="463" y="2548"/>
                  </a:lnTo>
                  <a:lnTo>
                    <a:pt x="579" y="1390"/>
                  </a:lnTo>
                  <a:lnTo>
                    <a:pt x="811" y="232"/>
                  </a:lnTo>
                  <a:lnTo>
                    <a:pt x="811" y="232"/>
                  </a:lnTo>
                  <a:lnTo>
                    <a:pt x="926" y="232"/>
                  </a:lnTo>
                  <a:lnTo>
                    <a:pt x="926" y="116"/>
                  </a:lnTo>
                  <a:lnTo>
                    <a:pt x="1042" y="116"/>
                  </a:lnTo>
                  <a:lnTo>
                    <a:pt x="1042" y="116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953640" y="4698360"/>
              <a:ext cx="48600" cy="472320"/>
            </a:xfrm>
            <a:custGeom>
              <a:avLst/>
              <a:gdLst/>
              <a:ahLst/>
              <a:rect l="l" t="t" r="r" b="b"/>
              <a:pathLst>
                <a:path w="1273" h="8801">
                  <a:moveTo>
                    <a:pt x="578" y="8801"/>
                  </a:moveTo>
                  <a:lnTo>
                    <a:pt x="462" y="8801"/>
                  </a:lnTo>
                  <a:lnTo>
                    <a:pt x="462" y="8801"/>
                  </a:lnTo>
                  <a:lnTo>
                    <a:pt x="347" y="8801"/>
                  </a:lnTo>
                  <a:lnTo>
                    <a:pt x="231" y="8801"/>
                  </a:lnTo>
                  <a:lnTo>
                    <a:pt x="231" y="8801"/>
                  </a:lnTo>
                  <a:lnTo>
                    <a:pt x="115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115" y="7643"/>
                  </a:lnTo>
                  <a:lnTo>
                    <a:pt x="231" y="6485"/>
                  </a:lnTo>
                  <a:lnTo>
                    <a:pt x="347" y="5443"/>
                  </a:lnTo>
                  <a:lnTo>
                    <a:pt x="462" y="4285"/>
                  </a:lnTo>
                  <a:lnTo>
                    <a:pt x="694" y="3127"/>
                  </a:lnTo>
                  <a:lnTo>
                    <a:pt x="925" y="2084"/>
                  </a:lnTo>
                  <a:lnTo>
                    <a:pt x="1041" y="1042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157" y="1042"/>
                  </a:lnTo>
                  <a:lnTo>
                    <a:pt x="1041" y="2200"/>
                  </a:lnTo>
                  <a:lnTo>
                    <a:pt x="925" y="3242"/>
                  </a:lnTo>
                  <a:lnTo>
                    <a:pt x="810" y="4401"/>
                  </a:lnTo>
                  <a:lnTo>
                    <a:pt x="810" y="5443"/>
                  </a:lnTo>
                  <a:lnTo>
                    <a:pt x="694" y="6485"/>
                  </a:lnTo>
                  <a:lnTo>
                    <a:pt x="694" y="7643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719000" y="4860000"/>
              <a:ext cx="282960" cy="945000"/>
            </a:xfrm>
            <a:custGeom>
              <a:avLst/>
              <a:gdLst/>
              <a:ahLst/>
              <a:rect l="l" t="t" r="r" b="b"/>
              <a:pathLst>
                <a:path w="7407" h="17603">
                  <a:moveTo>
                    <a:pt x="3356" y="0"/>
                  </a:moveTo>
                  <a:lnTo>
                    <a:pt x="3588" y="463"/>
                  </a:lnTo>
                  <a:lnTo>
                    <a:pt x="3935" y="1042"/>
                  </a:lnTo>
                  <a:lnTo>
                    <a:pt x="4282" y="1505"/>
                  </a:lnTo>
                  <a:lnTo>
                    <a:pt x="4630" y="1969"/>
                  </a:lnTo>
                  <a:lnTo>
                    <a:pt x="4861" y="2432"/>
                  </a:lnTo>
                  <a:lnTo>
                    <a:pt x="5208" y="2895"/>
                  </a:lnTo>
                  <a:lnTo>
                    <a:pt x="5440" y="3358"/>
                  </a:lnTo>
                  <a:lnTo>
                    <a:pt x="5555" y="3937"/>
                  </a:lnTo>
                  <a:lnTo>
                    <a:pt x="5555" y="3937"/>
                  </a:lnTo>
                  <a:lnTo>
                    <a:pt x="5555" y="4632"/>
                  </a:lnTo>
                  <a:lnTo>
                    <a:pt x="5324" y="5443"/>
                  </a:lnTo>
                  <a:lnTo>
                    <a:pt x="5208" y="6254"/>
                  </a:lnTo>
                  <a:lnTo>
                    <a:pt x="4977" y="7064"/>
                  </a:lnTo>
                  <a:lnTo>
                    <a:pt x="4861" y="7875"/>
                  </a:lnTo>
                  <a:lnTo>
                    <a:pt x="4745" y="8686"/>
                  </a:lnTo>
                  <a:lnTo>
                    <a:pt x="4630" y="9496"/>
                  </a:lnTo>
                  <a:lnTo>
                    <a:pt x="4514" y="10307"/>
                  </a:lnTo>
                  <a:lnTo>
                    <a:pt x="4514" y="10307"/>
                  </a:lnTo>
                  <a:lnTo>
                    <a:pt x="4630" y="10654"/>
                  </a:lnTo>
                  <a:lnTo>
                    <a:pt x="4861" y="10886"/>
                  </a:lnTo>
                  <a:lnTo>
                    <a:pt x="5092" y="11118"/>
                  </a:lnTo>
                  <a:lnTo>
                    <a:pt x="5208" y="11349"/>
                  </a:lnTo>
                  <a:lnTo>
                    <a:pt x="5440" y="11697"/>
                  </a:lnTo>
                  <a:lnTo>
                    <a:pt x="5555" y="11928"/>
                  </a:lnTo>
                  <a:lnTo>
                    <a:pt x="5787" y="12160"/>
                  </a:lnTo>
                  <a:lnTo>
                    <a:pt x="5903" y="12507"/>
                  </a:lnTo>
                  <a:lnTo>
                    <a:pt x="5903" y="12507"/>
                  </a:lnTo>
                  <a:lnTo>
                    <a:pt x="5440" y="12507"/>
                  </a:lnTo>
                  <a:lnTo>
                    <a:pt x="5208" y="12623"/>
                  </a:lnTo>
                  <a:lnTo>
                    <a:pt x="4861" y="12739"/>
                  </a:lnTo>
                  <a:lnTo>
                    <a:pt x="4514" y="12739"/>
                  </a:lnTo>
                  <a:lnTo>
                    <a:pt x="4167" y="12855"/>
                  </a:lnTo>
                  <a:lnTo>
                    <a:pt x="3935" y="13086"/>
                  </a:lnTo>
                  <a:lnTo>
                    <a:pt x="3588" y="13202"/>
                  </a:lnTo>
                  <a:lnTo>
                    <a:pt x="3356" y="13434"/>
                  </a:lnTo>
                  <a:lnTo>
                    <a:pt x="3356" y="13434"/>
                  </a:lnTo>
                  <a:lnTo>
                    <a:pt x="3704" y="13318"/>
                  </a:lnTo>
                  <a:lnTo>
                    <a:pt x="4051" y="13318"/>
                  </a:lnTo>
                  <a:lnTo>
                    <a:pt x="4398" y="13202"/>
                  </a:lnTo>
                  <a:lnTo>
                    <a:pt x="4745" y="13086"/>
                  </a:lnTo>
                  <a:lnTo>
                    <a:pt x="5092" y="13086"/>
                  </a:lnTo>
                  <a:lnTo>
                    <a:pt x="5440" y="12971"/>
                  </a:lnTo>
                  <a:lnTo>
                    <a:pt x="5787" y="12971"/>
                  </a:lnTo>
                  <a:lnTo>
                    <a:pt x="6134" y="12971"/>
                  </a:lnTo>
                  <a:lnTo>
                    <a:pt x="6134" y="12971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250" y="13086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318"/>
                  </a:lnTo>
                  <a:lnTo>
                    <a:pt x="6250" y="13318"/>
                  </a:lnTo>
                  <a:lnTo>
                    <a:pt x="5903" y="13318"/>
                  </a:lnTo>
                  <a:lnTo>
                    <a:pt x="5555" y="13318"/>
                  </a:lnTo>
                  <a:lnTo>
                    <a:pt x="5324" y="13434"/>
                  </a:lnTo>
                  <a:lnTo>
                    <a:pt x="5092" y="13550"/>
                  </a:lnTo>
                  <a:lnTo>
                    <a:pt x="4745" y="13781"/>
                  </a:lnTo>
                  <a:lnTo>
                    <a:pt x="4514" y="13897"/>
                  </a:lnTo>
                  <a:lnTo>
                    <a:pt x="4282" y="14129"/>
                  </a:lnTo>
                  <a:lnTo>
                    <a:pt x="4051" y="14244"/>
                  </a:lnTo>
                  <a:lnTo>
                    <a:pt x="4051" y="14244"/>
                  </a:lnTo>
                  <a:lnTo>
                    <a:pt x="4167" y="14244"/>
                  </a:lnTo>
                  <a:lnTo>
                    <a:pt x="4282" y="14244"/>
                  </a:lnTo>
                  <a:lnTo>
                    <a:pt x="4514" y="14244"/>
                  </a:lnTo>
                  <a:lnTo>
                    <a:pt x="4630" y="14129"/>
                  </a:lnTo>
                  <a:lnTo>
                    <a:pt x="4745" y="14013"/>
                  </a:lnTo>
                  <a:lnTo>
                    <a:pt x="4861" y="14013"/>
                  </a:lnTo>
                  <a:lnTo>
                    <a:pt x="5092" y="14013"/>
                  </a:lnTo>
                  <a:lnTo>
                    <a:pt x="5208" y="13897"/>
                  </a:lnTo>
                  <a:lnTo>
                    <a:pt x="5208" y="13897"/>
                  </a:lnTo>
                  <a:lnTo>
                    <a:pt x="5440" y="13897"/>
                  </a:lnTo>
                  <a:lnTo>
                    <a:pt x="5555" y="13897"/>
                  </a:lnTo>
                  <a:lnTo>
                    <a:pt x="5787" y="13897"/>
                  </a:lnTo>
                  <a:lnTo>
                    <a:pt x="6018" y="13781"/>
                  </a:lnTo>
                  <a:lnTo>
                    <a:pt x="6134" y="13781"/>
                  </a:lnTo>
                  <a:lnTo>
                    <a:pt x="6366" y="13781"/>
                  </a:lnTo>
                  <a:lnTo>
                    <a:pt x="6481" y="13781"/>
                  </a:lnTo>
                  <a:lnTo>
                    <a:pt x="6713" y="13781"/>
                  </a:lnTo>
                  <a:lnTo>
                    <a:pt x="6713" y="13781"/>
                  </a:lnTo>
                  <a:lnTo>
                    <a:pt x="6828" y="14244"/>
                  </a:lnTo>
                  <a:lnTo>
                    <a:pt x="7060" y="14592"/>
                  </a:lnTo>
                  <a:lnTo>
                    <a:pt x="7176" y="15055"/>
                  </a:lnTo>
                  <a:lnTo>
                    <a:pt x="7291" y="15518"/>
                  </a:lnTo>
                  <a:lnTo>
                    <a:pt x="7407" y="15982"/>
                  </a:lnTo>
                  <a:lnTo>
                    <a:pt x="7407" y="16329"/>
                  </a:lnTo>
                  <a:lnTo>
                    <a:pt x="7407" y="16792"/>
                  </a:lnTo>
                  <a:lnTo>
                    <a:pt x="7176" y="17255"/>
                  </a:lnTo>
                  <a:lnTo>
                    <a:pt x="7176" y="17255"/>
                  </a:lnTo>
                  <a:lnTo>
                    <a:pt x="6713" y="17371"/>
                  </a:lnTo>
                  <a:lnTo>
                    <a:pt x="6250" y="17487"/>
                  </a:lnTo>
                  <a:lnTo>
                    <a:pt x="5671" y="17603"/>
                  </a:lnTo>
                  <a:lnTo>
                    <a:pt x="5208" y="17487"/>
                  </a:lnTo>
                  <a:lnTo>
                    <a:pt x="4745" y="17371"/>
                  </a:lnTo>
                  <a:lnTo>
                    <a:pt x="4167" y="17255"/>
                  </a:lnTo>
                  <a:lnTo>
                    <a:pt x="3704" y="17024"/>
                  </a:lnTo>
                  <a:lnTo>
                    <a:pt x="3356" y="16792"/>
                  </a:lnTo>
                  <a:lnTo>
                    <a:pt x="3356" y="16792"/>
                  </a:lnTo>
                  <a:lnTo>
                    <a:pt x="2894" y="16329"/>
                  </a:lnTo>
                  <a:lnTo>
                    <a:pt x="2662" y="15634"/>
                  </a:lnTo>
                  <a:lnTo>
                    <a:pt x="2431" y="15055"/>
                  </a:lnTo>
                  <a:lnTo>
                    <a:pt x="2199" y="14360"/>
                  </a:lnTo>
                  <a:lnTo>
                    <a:pt x="1968" y="13665"/>
                  </a:lnTo>
                  <a:lnTo>
                    <a:pt x="1620" y="13202"/>
                  </a:lnTo>
                  <a:lnTo>
                    <a:pt x="1158" y="12855"/>
                  </a:lnTo>
                  <a:lnTo>
                    <a:pt x="463" y="12623"/>
                  </a:lnTo>
                  <a:lnTo>
                    <a:pt x="463" y="12623"/>
                  </a:lnTo>
                  <a:lnTo>
                    <a:pt x="232" y="12507"/>
                  </a:lnTo>
                  <a:lnTo>
                    <a:pt x="232" y="12391"/>
                  </a:lnTo>
                  <a:lnTo>
                    <a:pt x="116" y="12276"/>
                  </a:lnTo>
                  <a:lnTo>
                    <a:pt x="0" y="12044"/>
                  </a:lnTo>
                  <a:lnTo>
                    <a:pt x="0" y="11928"/>
                  </a:lnTo>
                  <a:lnTo>
                    <a:pt x="0" y="11812"/>
                  </a:lnTo>
                  <a:lnTo>
                    <a:pt x="0" y="11581"/>
                  </a:lnTo>
                  <a:lnTo>
                    <a:pt x="116" y="11465"/>
                  </a:lnTo>
                  <a:lnTo>
                    <a:pt x="116" y="11465"/>
                  </a:lnTo>
                  <a:lnTo>
                    <a:pt x="347" y="11118"/>
                  </a:lnTo>
                  <a:lnTo>
                    <a:pt x="579" y="10770"/>
                  </a:lnTo>
                  <a:lnTo>
                    <a:pt x="926" y="10539"/>
                  </a:lnTo>
                  <a:lnTo>
                    <a:pt x="1273" y="10307"/>
                  </a:lnTo>
                  <a:lnTo>
                    <a:pt x="1620" y="10075"/>
                  </a:lnTo>
                  <a:lnTo>
                    <a:pt x="1968" y="9844"/>
                  </a:lnTo>
                  <a:lnTo>
                    <a:pt x="2199" y="9612"/>
                  </a:lnTo>
                  <a:lnTo>
                    <a:pt x="2431" y="9265"/>
                  </a:lnTo>
                  <a:lnTo>
                    <a:pt x="2431" y="9265"/>
                  </a:lnTo>
                  <a:lnTo>
                    <a:pt x="2546" y="8570"/>
                  </a:lnTo>
                  <a:lnTo>
                    <a:pt x="2662" y="7991"/>
                  </a:lnTo>
                  <a:lnTo>
                    <a:pt x="2778" y="7412"/>
                  </a:lnTo>
                  <a:lnTo>
                    <a:pt x="2894" y="6833"/>
                  </a:lnTo>
                  <a:lnTo>
                    <a:pt x="3009" y="6254"/>
                  </a:lnTo>
                  <a:lnTo>
                    <a:pt x="3125" y="5675"/>
                  </a:lnTo>
                  <a:lnTo>
                    <a:pt x="3241" y="5095"/>
                  </a:lnTo>
                  <a:lnTo>
                    <a:pt x="3241" y="4516"/>
                  </a:lnTo>
                  <a:lnTo>
                    <a:pt x="3241" y="4516"/>
                  </a:lnTo>
                  <a:lnTo>
                    <a:pt x="3125" y="4053"/>
                  </a:lnTo>
                  <a:lnTo>
                    <a:pt x="3009" y="3706"/>
                  </a:lnTo>
                  <a:lnTo>
                    <a:pt x="2778" y="3243"/>
                  </a:lnTo>
                  <a:lnTo>
                    <a:pt x="2546" y="2895"/>
                  </a:lnTo>
                  <a:lnTo>
                    <a:pt x="2315" y="2548"/>
                  </a:lnTo>
                  <a:lnTo>
                    <a:pt x="2083" y="2200"/>
                  </a:lnTo>
                  <a:lnTo>
                    <a:pt x="1736" y="1853"/>
                  </a:lnTo>
                  <a:lnTo>
                    <a:pt x="1505" y="1505"/>
                  </a:lnTo>
                  <a:lnTo>
                    <a:pt x="1505" y="1505"/>
                  </a:lnTo>
                  <a:lnTo>
                    <a:pt x="1389" y="1390"/>
                  </a:lnTo>
                  <a:lnTo>
                    <a:pt x="1273" y="1274"/>
                  </a:lnTo>
                  <a:lnTo>
                    <a:pt x="1273" y="1158"/>
                  </a:lnTo>
                  <a:lnTo>
                    <a:pt x="1273" y="1042"/>
                  </a:lnTo>
                  <a:lnTo>
                    <a:pt x="1389" y="926"/>
                  </a:lnTo>
                  <a:lnTo>
                    <a:pt x="1389" y="811"/>
                  </a:lnTo>
                  <a:lnTo>
                    <a:pt x="1505" y="811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852" y="463"/>
                  </a:lnTo>
                  <a:lnTo>
                    <a:pt x="1852" y="463"/>
                  </a:lnTo>
                  <a:lnTo>
                    <a:pt x="1852" y="579"/>
                  </a:lnTo>
                  <a:lnTo>
                    <a:pt x="1736" y="695"/>
                  </a:lnTo>
                  <a:lnTo>
                    <a:pt x="1620" y="811"/>
                  </a:lnTo>
                  <a:lnTo>
                    <a:pt x="1505" y="926"/>
                  </a:lnTo>
                  <a:lnTo>
                    <a:pt x="1505" y="1042"/>
                  </a:lnTo>
                  <a:lnTo>
                    <a:pt x="1505" y="1158"/>
                  </a:lnTo>
                  <a:lnTo>
                    <a:pt x="1505" y="1274"/>
                  </a:lnTo>
                  <a:lnTo>
                    <a:pt x="1852" y="1274"/>
                  </a:lnTo>
                  <a:lnTo>
                    <a:pt x="1852" y="1274"/>
                  </a:lnTo>
                  <a:lnTo>
                    <a:pt x="1968" y="1158"/>
                  </a:lnTo>
                  <a:lnTo>
                    <a:pt x="2083" y="926"/>
                  </a:lnTo>
                  <a:lnTo>
                    <a:pt x="2315" y="695"/>
                  </a:lnTo>
                  <a:lnTo>
                    <a:pt x="2431" y="579"/>
                  </a:lnTo>
                  <a:lnTo>
                    <a:pt x="2662" y="463"/>
                  </a:lnTo>
                  <a:lnTo>
                    <a:pt x="2894" y="347"/>
                  </a:lnTo>
                  <a:lnTo>
                    <a:pt x="3125" y="116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798560" y="4884840"/>
              <a:ext cx="43920" cy="80640"/>
            </a:xfrm>
            <a:custGeom>
              <a:avLst/>
              <a:gdLst/>
              <a:ahLst/>
              <a:rect l="l" t="t" r="r" b="b"/>
              <a:pathLst>
                <a:path w="1158" h="1506">
                  <a:moveTo>
                    <a:pt x="1158" y="0"/>
                  </a:moveTo>
                  <a:lnTo>
                    <a:pt x="1158" y="116"/>
                  </a:lnTo>
                  <a:lnTo>
                    <a:pt x="1042" y="232"/>
                  </a:lnTo>
                  <a:lnTo>
                    <a:pt x="1042" y="348"/>
                  </a:lnTo>
                  <a:lnTo>
                    <a:pt x="926" y="463"/>
                  </a:lnTo>
                  <a:lnTo>
                    <a:pt x="811" y="463"/>
                  </a:lnTo>
                  <a:lnTo>
                    <a:pt x="695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463" y="811"/>
                  </a:lnTo>
                  <a:lnTo>
                    <a:pt x="463" y="927"/>
                  </a:lnTo>
                  <a:lnTo>
                    <a:pt x="348" y="1042"/>
                  </a:lnTo>
                  <a:lnTo>
                    <a:pt x="348" y="1158"/>
                  </a:lnTo>
                  <a:lnTo>
                    <a:pt x="232" y="1274"/>
                  </a:lnTo>
                  <a:lnTo>
                    <a:pt x="232" y="1274"/>
                  </a:lnTo>
                  <a:lnTo>
                    <a:pt x="116" y="1390"/>
                  </a:lnTo>
                  <a:lnTo>
                    <a:pt x="116" y="1506"/>
                  </a:lnTo>
                  <a:lnTo>
                    <a:pt x="116" y="1506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1042"/>
                  </a:lnTo>
                  <a:lnTo>
                    <a:pt x="0" y="811"/>
                  </a:lnTo>
                  <a:lnTo>
                    <a:pt x="116" y="695"/>
                  </a:lnTo>
                  <a:lnTo>
                    <a:pt x="232" y="579"/>
                  </a:lnTo>
                  <a:lnTo>
                    <a:pt x="348" y="463"/>
                  </a:lnTo>
                  <a:lnTo>
                    <a:pt x="348" y="348"/>
                  </a:lnTo>
                  <a:lnTo>
                    <a:pt x="348" y="348"/>
                  </a:lnTo>
                  <a:lnTo>
                    <a:pt x="463" y="232"/>
                  </a:lnTo>
                  <a:lnTo>
                    <a:pt x="579" y="232"/>
                  </a:lnTo>
                  <a:lnTo>
                    <a:pt x="695" y="116"/>
                  </a:lnTo>
                  <a:lnTo>
                    <a:pt x="811" y="116"/>
                  </a:lnTo>
                  <a:lnTo>
                    <a:pt x="811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811880" y="4922280"/>
              <a:ext cx="30600" cy="49680"/>
            </a:xfrm>
            <a:custGeom>
              <a:avLst/>
              <a:gdLst/>
              <a:ahLst/>
              <a:rect l="l" t="t" r="r" b="b"/>
              <a:pathLst>
                <a:path w="810" h="926">
                  <a:moveTo>
                    <a:pt x="810" y="0"/>
                  </a:moveTo>
                  <a:lnTo>
                    <a:pt x="694" y="116"/>
                  </a:lnTo>
                  <a:lnTo>
                    <a:pt x="694" y="232"/>
                  </a:lnTo>
                  <a:lnTo>
                    <a:pt x="694" y="347"/>
                  </a:lnTo>
                  <a:lnTo>
                    <a:pt x="578" y="463"/>
                  </a:lnTo>
                  <a:lnTo>
                    <a:pt x="463" y="579"/>
                  </a:lnTo>
                  <a:lnTo>
                    <a:pt x="463" y="695"/>
                  </a:lnTo>
                  <a:lnTo>
                    <a:pt x="347" y="811"/>
                  </a:lnTo>
                  <a:lnTo>
                    <a:pt x="347" y="926"/>
                  </a:lnTo>
                  <a:lnTo>
                    <a:pt x="347" y="926"/>
                  </a:lnTo>
                  <a:lnTo>
                    <a:pt x="0" y="926"/>
                  </a:lnTo>
                  <a:lnTo>
                    <a:pt x="0" y="926"/>
                  </a:lnTo>
                  <a:lnTo>
                    <a:pt x="0" y="811"/>
                  </a:lnTo>
                  <a:lnTo>
                    <a:pt x="115" y="579"/>
                  </a:lnTo>
                  <a:lnTo>
                    <a:pt x="115" y="463"/>
                  </a:lnTo>
                  <a:lnTo>
                    <a:pt x="231" y="347"/>
                  </a:lnTo>
                  <a:lnTo>
                    <a:pt x="347" y="232"/>
                  </a:lnTo>
                  <a:lnTo>
                    <a:pt x="463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842840" y="4965840"/>
              <a:ext cx="12960" cy="18360"/>
            </a:xfrm>
            <a:custGeom>
              <a:avLst/>
              <a:gdLst/>
              <a:ahLst/>
              <a:rect l="l" t="t" r="r" b="b"/>
              <a:pathLst>
                <a:path w="347" h="347">
                  <a:moveTo>
                    <a:pt x="231" y="347"/>
                  </a:moveTo>
                  <a:lnTo>
                    <a:pt x="0" y="231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099440" y="5140080"/>
              <a:ext cx="331560" cy="690120"/>
            </a:xfrm>
            <a:custGeom>
              <a:avLst/>
              <a:gdLst/>
              <a:ahLst/>
              <a:rect l="l" t="t" r="r" b="b"/>
              <a:pathLst>
                <a:path w="8680" h="12855">
                  <a:moveTo>
                    <a:pt x="7059" y="0"/>
                  </a:moveTo>
                  <a:lnTo>
                    <a:pt x="6944" y="116"/>
                  </a:lnTo>
                  <a:lnTo>
                    <a:pt x="6712" y="232"/>
                  </a:lnTo>
                  <a:lnTo>
                    <a:pt x="6596" y="348"/>
                  </a:lnTo>
                  <a:lnTo>
                    <a:pt x="6481" y="464"/>
                  </a:lnTo>
                  <a:lnTo>
                    <a:pt x="6365" y="579"/>
                  </a:lnTo>
                  <a:lnTo>
                    <a:pt x="6134" y="695"/>
                  </a:lnTo>
                  <a:lnTo>
                    <a:pt x="6018" y="811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1043"/>
                  </a:lnTo>
                  <a:lnTo>
                    <a:pt x="6018" y="1043"/>
                  </a:lnTo>
                  <a:lnTo>
                    <a:pt x="6018" y="1158"/>
                  </a:lnTo>
                  <a:lnTo>
                    <a:pt x="6134" y="1158"/>
                  </a:lnTo>
                  <a:lnTo>
                    <a:pt x="6249" y="1274"/>
                  </a:lnTo>
                  <a:lnTo>
                    <a:pt x="6249" y="1158"/>
                  </a:lnTo>
                  <a:lnTo>
                    <a:pt x="6365" y="1158"/>
                  </a:lnTo>
                  <a:lnTo>
                    <a:pt x="6365" y="1158"/>
                  </a:lnTo>
                  <a:lnTo>
                    <a:pt x="7291" y="348"/>
                  </a:lnTo>
                  <a:lnTo>
                    <a:pt x="7291" y="348"/>
                  </a:lnTo>
                  <a:lnTo>
                    <a:pt x="7291" y="464"/>
                  </a:lnTo>
                  <a:lnTo>
                    <a:pt x="7291" y="579"/>
                  </a:lnTo>
                  <a:lnTo>
                    <a:pt x="7291" y="695"/>
                  </a:lnTo>
                  <a:lnTo>
                    <a:pt x="7175" y="695"/>
                  </a:lnTo>
                  <a:lnTo>
                    <a:pt x="7059" y="811"/>
                  </a:lnTo>
                  <a:lnTo>
                    <a:pt x="6944" y="927"/>
                  </a:lnTo>
                  <a:lnTo>
                    <a:pt x="6828" y="1043"/>
                  </a:lnTo>
                  <a:lnTo>
                    <a:pt x="6828" y="1158"/>
                  </a:lnTo>
                  <a:lnTo>
                    <a:pt x="6828" y="1158"/>
                  </a:lnTo>
                  <a:lnTo>
                    <a:pt x="6712" y="1158"/>
                  </a:lnTo>
                  <a:lnTo>
                    <a:pt x="6712" y="1158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828" y="1506"/>
                  </a:lnTo>
                  <a:lnTo>
                    <a:pt x="6944" y="1506"/>
                  </a:lnTo>
                  <a:lnTo>
                    <a:pt x="7059" y="1506"/>
                  </a:lnTo>
                  <a:lnTo>
                    <a:pt x="7175" y="1390"/>
                  </a:lnTo>
                  <a:lnTo>
                    <a:pt x="7175" y="1274"/>
                  </a:lnTo>
                  <a:lnTo>
                    <a:pt x="7291" y="1158"/>
                  </a:lnTo>
                  <a:lnTo>
                    <a:pt x="7407" y="1158"/>
                  </a:lnTo>
                  <a:lnTo>
                    <a:pt x="7522" y="1043"/>
                  </a:lnTo>
                  <a:lnTo>
                    <a:pt x="7522" y="1043"/>
                  </a:lnTo>
                  <a:lnTo>
                    <a:pt x="7638" y="1274"/>
                  </a:lnTo>
                  <a:lnTo>
                    <a:pt x="7754" y="1506"/>
                  </a:lnTo>
                  <a:lnTo>
                    <a:pt x="7870" y="1737"/>
                  </a:lnTo>
                  <a:lnTo>
                    <a:pt x="8101" y="2085"/>
                  </a:lnTo>
                  <a:lnTo>
                    <a:pt x="8101" y="2316"/>
                  </a:lnTo>
                  <a:lnTo>
                    <a:pt x="8217" y="2548"/>
                  </a:lnTo>
                  <a:lnTo>
                    <a:pt x="8101" y="2780"/>
                  </a:lnTo>
                  <a:lnTo>
                    <a:pt x="7985" y="3011"/>
                  </a:lnTo>
                  <a:lnTo>
                    <a:pt x="7985" y="3011"/>
                  </a:lnTo>
                  <a:lnTo>
                    <a:pt x="7522" y="3359"/>
                  </a:lnTo>
                  <a:lnTo>
                    <a:pt x="7291" y="3706"/>
                  </a:lnTo>
                  <a:lnTo>
                    <a:pt x="6944" y="4054"/>
                  </a:lnTo>
                  <a:lnTo>
                    <a:pt x="6712" y="4517"/>
                  </a:lnTo>
                  <a:lnTo>
                    <a:pt x="6481" y="4864"/>
                  </a:lnTo>
                  <a:lnTo>
                    <a:pt x="6249" y="5212"/>
                  </a:lnTo>
                  <a:lnTo>
                    <a:pt x="5902" y="5559"/>
                  </a:lnTo>
                  <a:lnTo>
                    <a:pt x="5555" y="5791"/>
                  </a:lnTo>
                  <a:lnTo>
                    <a:pt x="5555" y="5791"/>
                  </a:lnTo>
                  <a:lnTo>
                    <a:pt x="5439" y="6486"/>
                  </a:lnTo>
                  <a:lnTo>
                    <a:pt x="5323" y="7180"/>
                  </a:lnTo>
                  <a:lnTo>
                    <a:pt x="5208" y="7760"/>
                  </a:lnTo>
                  <a:lnTo>
                    <a:pt x="5208" y="8454"/>
                  </a:lnTo>
                  <a:lnTo>
                    <a:pt x="5208" y="9149"/>
                  </a:lnTo>
                  <a:lnTo>
                    <a:pt x="5323" y="9844"/>
                  </a:lnTo>
                  <a:lnTo>
                    <a:pt x="5555" y="10423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6018" y="10886"/>
                  </a:lnTo>
                  <a:lnTo>
                    <a:pt x="6018" y="10771"/>
                  </a:lnTo>
                  <a:lnTo>
                    <a:pt x="6018" y="10771"/>
                  </a:lnTo>
                  <a:lnTo>
                    <a:pt x="6018" y="10655"/>
                  </a:lnTo>
                  <a:lnTo>
                    <a:pt x="6018" y="10539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6018" y="10423"/>
                  </a:lnTo>
                  <a:lnTo>
                    <a:pt x="6134" y="10423"/>
                  </a:lnTo>
                  <a:lnTo>
                    <a:pt x="6134" y="10539"/>
                  </a:lnTo>
                  <a:lnTo>
                    <a:pt x="6249" y="10539"/>
                  </a:lnTo>
                  <a:lnTo>
                    <a:pt x="6249" y="10655"/>
                  </a:lnTo>
                  <a:lnTo>
                    <a:pt x="6365" y="10655"/>
                  </a:lnTo>
                  <a:lnTo>
                    <a:pt x="6365" y="10771"/>
                  </a:lnTo>
                  <a:lnTo>
                    <a:pt x="6481" y="10886"/>
                  </a:lnTo>
                  <a:lnTo>
                    <a:pt x="6481" y="10886"/>
                  </a:lnTo>
                  <a:lnTo>
                    <a:pt x="6365" y="11465"/>
                  </a:lnTo>
                  <a:lnTo>
                    <a:pt x="6365" y="11465"/>
                  </a:lnTo>
                  <a:lnTo>
                    <a:pt x="6481" y="11465"/>
                  </a:lnTo>
                  <a:lnTo>
                    <a:pt x="6596" y="11465"/>
                  </a:lnTo>
                  <a:lnTo>
                    <a:pt x="6712" y="11465"/>
                  </a:lnTo>
                  <a:lnTo>
                    <a:pt x="6712" y="11350"/>
                  </a:lnTo>
                  <a:lnTo>
                    <a:pt x="6712" y="11234"/>
                  </a:lnTo>
                  <a:lnTo>
                    <a:pt x="6828" y="11118"/>
                  </a:lnTo>
                  <a:lnTo>
                    <a:pt x="6828" y="11002"/>
                  </a:lnTo>
                  <a:lnTo>
                    <a:pt x="6944" y="10886"/>
                  </a:lnTo>
                  <a:lnTo>
                    <a:pt x="6944" y="10886"/>
                  </a:lnTo>
                  <a:lnTo>
                    <a:pt x="7175" y="10886"/>
                  </a:lnTo>
                  <a:lnTo>
                    <a:pt x="7407" y="10886"/>
                  </a:lnTo>
                  <a:lnTo>
                    <a:pt x="7638" y="10886"/>
                  </a:lnTo>
                  <a:lnTo>
                    <a:pt x="7870" y="10886"/>
                  </a:lnTo>
                  <a:lnTo>
                    <a:pt x="8101" y="11002"/>
                  </a:lnTo>
                  <a:lnTo>
                    <a:pt x="8332" y="11002"/>
                  </a:lnTo>
                  <a:lnTo>
                    <a:pt x="8564" y="11234"/>
                  </a:lnTo>
                  <a:lnTo>
                    <a:pt x="8564" y="11581"/>
                  </a:lnTo>
                  <a:lnTo>
                    <a:pt x="8564" y="11581"/>
                  </a:lnTo>
                  <a:lnTo>
                    <a:pt x="8680" y="11929"/>
                  </a:lnTo>
                  <a:lnTo>
                    <a:pt x="8564" y="12160"/>
                  </a:lnTo>
                  <a:lnTo>
                    <a:pt x="8448" y="12392"/>
                  </a:lnTo>
                  <a:lnTo>
                    <a:pt x="8217" y="12508"/>
                  </a:lnTo>
                  <a:lnTo>
                    <a:pt x="7985" y="12624"/>
                  </a:lnTo>
                  <a:lnTo>
                    <a:pt x="7638" y="12624"/>
                  </a:lnTo>
                  <a:lnTo>
                    <a:pt x="7291" y="12739"/>
                  </a:lnTo>
                  <a:lnTo>
                    <a:pt x="7059" y="12855"/>
                  </a:lnTo>
                  <a:lnTo>
                    <a:pt x="7059" y="12855"/>
                  </a:lnTo>
                  <a:lnTo>
                    <a:pt x="6596" y="12855"/>
                  </a:lnTo>
                  <a:lnTo>
                    <a:pt x="6018" y="12739"/>
                  </a:lnTo>
                  <a:lnTo>
                    <a:pt x="5555" y="12739"/>
                  </a:lnTo>
                  <a:lnTo>
                    <a:pt x="5092" y="12624"/>
                  </a:lnTo>
                  <a:lnTo>
                    <a:pt x="4513" y="12508"/>
                  </a:lnTo>
                  <a:lnTo>
                    <a:pt x="4166" y="12276"/>
                  </a:lnTo>
                  <a:lnTo>
                    <a:pt x="3703" y="12044"/>
                  </a:lnTo>
                  <a:lnTo>
                    <a:pt x="3240" y="11813"/>
                  </a:lnTo>
                  <a:lnTo>
                    <a:pt x="3240" y="11813"/>
                  </a:lnTo>
                  <a:lnTo>
                    <a:pt x="2893" y="11234"/>
                  </a:lnTo>
                  <a:lnTo>
                    <a:pt x="2662" y="10539"/>
                  </a:lnTo>
                  <a:lnTo>
                    <a:pt x="2430" y="9960"/>
                  </a:lnTo>
                  <a:lnTo>
                    <a:pt x="2199" y="9265"/>
                  </a:lnTo>
                  <a:lnTo>
                    <a:pt x="1851" y="8686"/>
                  </a:lnTo>
                  <a:lnTo>
                    <a:pt x="1504" y="8107"/>
                  </a:lnTo>
                  <a:lnTo>
                    <a:pt x="926" y="7644"/>
                  </a:lnTo>
                  <a:lnTo>
                    <a:pt x="231" y="7412"/>
                  </a:lnTo>
                  <a:lnTo>
                    <a:pt x="231" y="7412"/>
                  </a:lnTo>
                  <a:lnTo>
                    <a:pt x="115" y="7296"/>
                  </a:lnTo>
                  <a:lnTo>
                    <a:pt x="115" y="7296"/>
                  </a:lnTo>
                  <a:lnTo>
                    <a:pt x="0" y="7180"/>
                  </a:lnTo>
                  <a:lnTo>
                    <a:pt x="0" y="7065"/>
                  </a:lnTo>
                  <a:lnTo>
                    <a:pt x="0" y="6949"/>
                  </a:lnTo>
                  <a:lnTo>
                    <a:pt x="0" y="6833"/>
                  </a:lnTo>
                  <a:lnTo>
                    <a:pt x="0" y="6717"/>
                  </a:lnTo>
                  <a:lnTo>
                    <a:pt x="0" y="6601"/>
                  </a:lnTo>
                  <a:lnTo>
                    <a:pt x="0" y="6601"/>
                  </a:lnTo>
                  <a:lnTo>
                    <a:pt x="231" y="6370"/>
                  </a:lnTo>
                  <a:lnTo>
                    <a:pt x="463" y="6138"/>
                  </a:lnTo>
                  <a:lnTo>
                    <a:pt x="810" y="6022"/>
                  </a:lnTo>
                  <a:lnTo>
                    <a:pt x="1157" y="5907"/>
                  </a:lnTo>
                  <a:lnTo>
                    <a:pt x="1504" y="5907"/>
                  </a:lnTo>
                  <a:lnTo>
                    <a:pt x="1851" y="5791"/>
                  </a:lnTo>
                  <a:lnTo>
                    <a:pt x="2199" y="5675"/>
                  </a:lnTo>
                  <a:lnTo>
                    <a:pt x="2430" y="5559"/>
                  </a:lnTo>
                  <a:lnTo>
                    <a:pt x="2430" y="5559"/>
                  </a:lnTo>
                  <a:lnTo>
                    <a:pt x="3009" y="5328"/>
                  </a:lnTo>
                  <a:lnTo>
                    <a:pt x="3472" y="4980"/>
                  </a:lnTo>
                  <a:lnTo>
                    <a:pt x="3935" y="4633"/>
                  </a:lnTo>
                  <a:lnTo>
                    <a:pt x="4398" y="4285"/>
                  </a:lnTo>
                  <a:lnTo>
                    <a:pt x="4860" y="3822"/>
                  </a:lnTo>
                  <a:lnTo>
                    <a:pt x="5323" y="3475"/>
                  </a:lnTo>
                  <a:lnTo>
                    <a:pt x="5671" y="3011"/>
                  </a:lnTo>
                  <a:lnTo>
                    <a:pt x="6018" y="2432"/>
                  </a:lnTo>
                  <a:lnTo>
                    <a:pt x="6018" y="2432"/>
                  </a:lnTo>
                  <a:lnTo>
                    <a:pt x="6018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249" y="2548"/>
                  </a:lnTo>
                  <a:lnTo>
                    <a:pt x="6249" y="2548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201"/>
                  </a:lnTo>
                  <a:lnTo>
                    <a:pt x="6134" y="1969"/>
                  </a:lnTo>
                  <a:lnTo>
                    <a:pt x="6018" y="1737"/>
                  </a:lnTo>
                  <a:lnTo>
                    <a:pt x="5902" y="1506"/>
                  </a:lnTo>
                  <a:lnTo>
                    <a:pt x="5786" y="1274"/>
                  </a:lnTo>
                  <a:lnTo>
                    <a:pt x="5671" y="1043"/>
                  </a:lnTo>
                  <a:lnTo>
                    <a:pt x="5555" y="811"/>
                  </a:lnTo>
                  <a:lnTo>
                    <a:pt x="5439" y="579"/>
                  </a:lnTo>
                  <a:lnTo>
                    <a:pt x="5439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811"/>
                  </a:lnTo>
                  <a:lnTo>
                    <a:pt x="5671" y="811"/>
                  </a:lnTo>
                  <a:lnTo>
                    <a:pt x="5786" y="811"/>
                  </a:lnTo>
                  <a:lnTo>
                    <a:pt x="5786" y="811"/>
                  </a:lnTo>
                  <a:lnTo>
                    <a:pt x="5902" y="695"/>
                  </a:lnTo>
                  <a:lnTo>
                    <a:pt x="6018" y="579"/>
                  </a:lnTo>
                  <a:lnTo>
                    <a:pt x="6249" y="464"/>
                  </a:lnTo>
                  <a:lnTo>
                    <a:pt x="6365" y="348"/>
                  </a:lnTo>
                  <a:lnTo>
                    <a:pt x="6481" y="232"/>
                  </a:lnTo>
                  <a:lnTo>
                    <a:pt x="6712" y="116"/>
                  </a:lnTo>
                  <a:lnTo>
                    <a:pt x="6828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838080" y="144792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When you finish this unit, you will be able to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590920" y="2971800"/>
            <a:ext cx="6019560" cy="32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istinguish between an equation and an expres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etermine the numerical value of an expression given the values of its vari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/>
          <p:nvPr/>
        </p:nvSpPr>
        <p:spPr>
          <a:xfrm>
            <a:off x="2514600" y="685800"/>
            <a:ext cx="441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valuating Express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7" name=""/>
          <p:cNvGrpSpPr/>
          <p:nvPr/>
        </p:nvGrpSpPr>
        <p:grpSpPr>
          <a:xfrm>
            <a:off x="3886200" y="4390920"/>
            <a:ext cx="4343400" cy="1844280"/>
            <a:chOff x="3886200" y="4390920"/>
            <a:chExt cx="4343400" cy="1844280"/>
          </a:xfrm>
        </p:grpSpPr>
        <mc:AlternateContent>
          <mc:Choice xmlns:a14="http://schemas.microsoft.com/office/drawing/2010/main" Requires="a14">
            <p:sp>
              <p:nvSpPr>
                <p:cNvPr id="388" name=""/>
                <p:cNvSpPr txBox="1"/>
                <p:nvPr/>
              </p:nvSpPr>
              <p:spPr>
                <a:xfrm>
                  <a:off x="3886200" y="4390920"/>
                  <a:ext cx="4343400" cy="1835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4</m:t>
                          </m:r>
                          <m:r>
                            <m:t xml:space="preserve">⋅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sSup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0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−</m:t>
                              </m:r>
                              <m:sSup>
                                <m:e>
                                  <m:r>
                                    <m:t xml:space="preserve">4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−</m:t>
                              </m:r>
                              <m:r>
                                <m:t xml:space="preserve">3</m:t>
                              </m:r>
                            </m:e>
                          </m:rad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sSup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0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+</m:t>
                              </m:r>
                              <m:sSup>
                                <m:e>
                                  <m:r>
                                    <m:t xml:space="preserve">4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+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28</m:t>
                              </m:r>
                            </m:e>
                          </m:rad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389" name=""/>
            <p:cNvSpPr/>
            <p:nvPr/>
          </p:nvSpPr>
          <p:spPr>
            <a:xfrm>
              <a:off x="4952880" y="4495680"/>
              <a:ext cx="9144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3333ff"/>
                  </a:solidFill>
                  <a:latin typeface="Comic Sans MS"/>
                </a:rPr>
                <a:t>10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419720" y="5410080"/>
              <a:ext cx="9144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3333ff"/>
                  </a:solidFill>
                  <a:latin typeface="Comic Sans MS"/>
                </a:rPr>
                <a:t>10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6400800" y="4495680"/>
              <a:ext cx="685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6600cc"/>
                  </a:solidFill>
                  <a:latin typeface="Comic Sans MS"/>
                </a:rPr>
                <a:t>4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867280" y="5410080"/>
              <a:ext cx="685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6600cc"/>
                  </a:solidFill>
                  <a:latin typeface="Comic Sans MS"/>
                </a:rPr>
                <a:t>4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3" name=""/>
          <p:cNvSpPr/>
          <p:nvPr/>
        </p:nvSpPr>
        <p:spPr>
          <a:xfrm>
            <a:off x="1219320" y="3117960"/>
            <a:ext cx="2361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r r = </a:t>
            </a: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and s = </a:t>
            </a:r>
            <a:r>
              <a:rPr b="0" lang="en-US" sz="3200" spc="-1" strike="noStrike">
                <a:solidFill>
                  <a:srgbClr val="6600cc"/>
                </a:solidFill>
                <a:latin typeface="Comic Sans MS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4" name=""/>
          <p:cNvGrpSpPr/>
          <p:nvPr/>
        </p:nvGrpSpPr>
        <p:grpSpPr>
          <a:xfrm>
            <a:off x="1371600" y="2241720"/>
            <a:ext cx="6629400" cy="1796760"/>
            <a:chOff x="1371600" y="2241720"/>
            <a:chExt cx="6629400" cy="1796760"/>
          </a:xfrm>
        </p:grpSpPr>
        <mc:AlternateContent>
          <mc:Choice xmlns:a14="http://schemas.microsoft.com/office/drawing/2010/main" Requires="a14">
            <p:sp>
              <p:nvSpPr>
                <p:cNvPr id="395" name=""/>
                <p:cNvSpPr txBox="1"/>
                <p:nvPr/>
              </p:nvSpPr>
              <p:spPr>
                <a:xfrm>
                  <a:off x="3505320" y="2241720"/>
                  <a:ext cx="4495680" cy="1796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4</m:t>
                          </m:r>
                          <m:r>
                            <m:t xml:space="preserve">⋅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sSup>
                                <m:e>
                                  <m:r>
                                    <m:t xml:space="preserve">r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−</m:t>
                              </m:r>
                              <m:sSup>
                                <m:e>
                                  <m:r>
                                    <m:t xml:space="preserve">s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−</m:t>
                              </m:r>
                              <m:r>
                                <m:t xml:space="preserve">3</m:t>
                              </m:r>
                            </m:e>
                          </m:rad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sSup>
                                <m:e>
                                  <m:r>
                                    <m:t xml:space="preserve">r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+</m:t>
                              </m:r>
                              <m:sSup>
                                <m:e>
                                  <m:r>
                                    <m:t xml:space="preserve">s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+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28</m:t>
                              </m:r>
                            </m:e>
                          </m:rad>
                        </m:den>
                      </m:f>
                      <m:r>
                        <m:t xml:space="preserve">=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96" name=""/>
            <p:cNvSpPr/>
            <p:nvPr/>
          </p:nvSpPr>
          <p:spPr>
            <a:xfrm>
              <a:off x="1371600" y="2514600"/>
              <a:ext cx="2362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Evaluate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/>
          <p:nvPr/>
        </p:nvSpPr>
        <p:spPr>
          <a:xfrm>
            <a:off x="685800" y="4724280"/>
            <a:ext cx="327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ubstitute values for r and 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8" name=""/>
          <p:cNvGrpSpPr/>
          <p:nvPr/>
        </p:nvGrpSpPr>
        <p:grpSpPr>
          <a:xfrm>
            <a:off x="429480" y="1228680"/>
            <a:ext cx="3172320" cy="1200240"/>
            <a:chOff x="429480" y="1228680"/>
            <a:chExt cx="3172320" cy="1200240"/>
          </a:xfrm>
        </p:grpSpPr>
        <p:sp>
          <p:nvSpPr>
            <p:cNvPr id="399" name=""/>
            <p:cNvSpPr/>
            <p:nvPr/>
          </p:nvSpPr>
          <p:spPr>
            <a:xfrm rot="20897400">
              <a:off x="460440" y="1523520"/>
              <a:ext cx="2971800" cy="609840"/>
            </a:xfrm>
            <a:prstGeom prst="roundRect">
              <a:avLst>
                <a:gd name="adj" fmla="val 16667"/>
              </a:avLst>
            </a:prstGeom>
            <a:solidFill>
              <a:srgbClr val="ff99cc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 rot="20897400">
              <a:off x="457200" y="1562040"/>
              <a:ext cx="3124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Another exampl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500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5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0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/>
          <p:nvPr/>
        </p:nvSpPr>
        <p:spPr>
          <a:xfrm>
            <a:off x="2514600" y="685800"/>
            <a:ext cx="441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valuating Express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2" name=""/>
              <p:cNvSpPr txBox="1"/>
              <p:nvPr/>
            </p:nvSpPr>
            <p:spPr>
              <a:xfrm>
                <a:off x="685800" y="1828800"/>
                <a:ext cx="4572000" cy="163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  <m:r>
                          <m:t xml:space="preserve">⋅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8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3" name=""/>
              <p:cNvSpPr txBox="1"/>
              <p:nvPr/>
            </p:nvSpPr>
            <p:spPr>
              <a:xfrm>
                <a:off x="5867280" y="1828800"/>
                <a:ext cx="2362320" cy="163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  <m:r>
                          <m:t xml:space="preserve">⋅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81</m:t>
                            </m:r>
                          </m:e>
                        </m:rad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44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04" name=""/>
          <p:cNvGrpSpPr/>
          <p:nvPr/>
        </p:nvGrpSpPr>
        <p:grpSpPr>
          <a:xfrm>
            <a:off x="1447920" y="3747960"/>
            <a:ext cx="2437920" cy="1801440"/>
            <a:chOff x="1447920" y="3747960"/>
            <a:chExt cx="2437920" cy="1801440"/>
          </a:xfrm>
        </p:grpSpPr>
        <p:grpSp>
          <p:nvGrpSpPr>
            <p:cNvPr id="405" name=""/>
            <p:cNvGrpSpPr/>
            <p:nvPr/>
          </p:nvGrpSpPr>
          <p:grpSpPr>
            <a:xfrm>
              <a:off x="1447920" y="3747960"/>
              <a:ext cx="1599840" cy="1801440"/>
              <a:chOff x="1447920" y="3747960"/>
              <a:chExt cx="1599840" cy="1801440"/>
            </a:xfrm>
          </p:grpSpPr>
          <p:sp>
            <p:nvSpPr>
              <p:cNvPr id="406" name=""/>
              <p:cNvSpPr/>
              <p:nvPr/>
            </p:nvSpPr>
            <p:spPr>
              <a:xfrm>
                <a:off x="1600200" y="3976560"/>
                <a:ext cx="137124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9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800" spc="-1" strike="noStrike">
                    <a:solidFill>
                      <a:srgbClr val="000000"/>
                    </a:solidFill>
                    <a:latin typeface="Comic Sans MS"/>
                  </a:rPr>
                  <a:t>4  9</a:t>
                </a:r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1828800" y="4724280"/>
                <a:ext cx="91404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9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800" spc="-1" strike="noStrike">
                    <a:solidFill>
                      <a:srgbClr val="000000"/>
                    </a:solidFill>
                    <a:latin typeface="Comic Sans MS"/>
                  </a:rPr>
                  <a:t>12</a:t>
                </a:r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2057400" y="3747960"/>
                <a:ext cx="45684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9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800" spc="-1" strike="noStrike">
                    <a:solidFill>
                      <a:srgbClr val="000000"/>
                    </a:solidFill>
                    <a:latin typeface="Comic Sans MS"/>
                  </a:rPr>
                  <a:t>.</a:t>
                </a:r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1447920" y="4724280"/>
                <a:ext cx="1599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10" name=""/>
            <p:cNvSpPr/>
            <p:nvPr/>
          </p:nvSpPr>
          <p:spPr>
            <a:xfrm>
              <a:off x="3200400" y="4281480"/>
              <a:ext cx="6854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1" name=""/>
          <p:cNvSpPr/>
          <p:nvPr/>
        </p:nvSpPr>
        <p:spPr>
          <a:xfrm>
            <a:off x="6400800" y="3962520"/>
            <a:ext cx="914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6600"/>
                </a:solidFill>
                <a:latin typeface="Comic Sans MS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2" name=""/>
          <p:cNvGrpSpPr/>
          <p:nvPr/>
        </p:nvGrpSpPr>
        <p:grpSpPr>
          <a:xfrm>
            <a:off x="4038480" y="3976560"/>
            <a:ext cx="2286000" cy="1572840"/>
            <a:chOff x="4038480" y="3976560"/>
            <a:chExt cx="2286000" cy="1572840"/>
          </a:xfrm>
        </p:grpSpPr>
        <p:sp>
          <p:nvSpPr>
            <p:cNvPr id="413" name=""/>
            <p:cNvSpPr/>
            <p:nvPr/>
          </p:nvSpPr>
          <p:spPr>
            <a:xfrm>
              <a:off x="4114800" y="3976560"/>
              <a:ext cx="12952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36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4305240" y="4724280"/>
              <a:ext cx="9144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12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4038480" y="4724280"/>
              <a:ext cx="137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638680" y="4281480"/>
              <a:ext cx="685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2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7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/>
          <p:nvPr/>
        </p:nvSpPr>
        <p:spPr>
          <a:xfrm>
            <a:off x="2362320" y="685800"/>
            <a:ext cx="441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nomials /Polynomi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8" name="" descr=""/>
          <p:cNvPicPr/>
          <p:nvPr/>
        </p:nvPicPr>
        <p:blipFill>
          <a:blip r:embed="rId1"/>
          <a:stretch/>
        </p:blipFill>
        <p:spPr>
          <a:xfrm>
            <a:off x="6400800" y="2971800"/>
            <a:ext cx="2220840" cy="2743200"/>
          </a:xfrm>
          <a:prstGeom prst="rect">
            <a:avLst/>
          </a:prstGeom>
          <a:ln w="0">
            <a:noFill/>
          </a:ln>
        </p:spPr>
      </p:pic>
      <p:grpSp>
        <p:nvGrpSpPr>
          <p:cNvPr id="419" name=""/>
          <p:cNvGrpSpPr/>
          <p:nvPr/>
        </p:nvGrpSpPr>
        <p:grpSpPr>
          <a:xfrm>
            <a:off x="6911640" y="1324080"/>
            <a:ext cx="2026440" cy="1847880"/>
            <a:chOff x="6911640" y="1324080"/>
            <a:chExt cx="2026440" cy="1847880"/>
          </a:xfrm>
        </p:grpSpPr>
        <p:sp>
          <p:nvSpPr>
            <p:cNvPr id="420" name=""/>
            <p:cNvSpPr/>
            <p:nvPr/>
          </p:nvSpPr>
          <p:spPr>
            <a:xfrm rot="19720200">
              <a:off x="7086240" y="1676160"/>
              <a:ext cx="1676520" cy="1143000"/>
            </a:xfrm>
            <a:prstGeom prst="wedgeEllipseCallout">
              <a:avLst>
                <a:gd name="adj1" fmla="val -44601"/>
                <a:gd name="adj2" fmla="val 54027"/>
              </a:avLst>
            </a:prstGeom>
            <a:solidFill>
              <a:srgbClr val="00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7470720" y="1752480"/>
              <a:ext cx="129240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Comic Sans MS"/>
                </a:rPr>
                <a:t>Hi!  My name is Polly,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2" name=""/>
          <p:cNvSpPr txBox="1"/>
          <p:nvPr/>
        </p:nvSpPr>
        <p:spPr>
          <a:xfrm>
            <a:off x="685800" y="1828800"/>
            <a:ext cx="585792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Comic Sans MS"/>
              </a:rPr>
              <a:t>Describing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Comic Sans MS"/>
              </a:rPr>
              <a:t>Monomials 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Comic Sans MS"/>
              </a:rPr>
              <a:t> </a:t>
            </a: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Comic Sans MS"/>
              </a:rPr>
              <a:t>and 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Comic Sans MS"/>
              </a:rPr>
              <a:t>Polynomials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>
    <p:zoom dir="in"/>
  </p:transition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9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/>
          <p:nvPr/>
        </p:nvSpPr>
        <p:spPr>
          <a:xfrm>
            <a:off x="2590920" y="1447920"/>
            <a:ext cx="3657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Monomial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4" name=""/>
              <p:cNvSpPr txBox="1"/>
              <p:nvPr/>
            </p:nvSpPr>
            <p:spPr>
              <a:xfrm>
                <a:off x="1828800" y="2670120"/>
                <a:ext cx="5029200" cy="129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r>
                      <m:t xml:space="preserve">5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y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425" name=""/>
          <p:cNvCxnSpPr>
            <a:stCxn id="423" idx="3"/>
          </p:cNvCxnSpPr>
          <p:nvPr/>
        </p:nvCxnSpPr>
        <p:spPr>
          <a:xfrm flipH="1">
            <a:off x="4343040" y="2025720"/>
            <a:ext cx="1905840" cy="1937520"/>
          </a:xfrm>
          <a:prstGeom prst="curvedConnector5">
            <a:avLst>
              <a:gd name="adj1" fmla="val -43982"/>
              <a:gd name="adj2" fmla="val 55900"/>
              <a:gd name="adj3" fmla="val -43982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26" name=""/>
          <p:cNvSpPr/>
          <p:nvPr/>
        </p:nvSpPr>
        <p:spPr>
          <a:xfrm>
            <a:off x="609480" y="434340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onsists of numbers (constants)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nd variables multiplied togeth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362320" y="685800"/>
            <a:ext cx="441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nomials /Polynomi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8" name=""/>
          <p:cNvGrpSpPr/>
          <p:nvPr/>
        </p:nvGrpSpPr>
        <p:grpSpPr>
          <a:xfrm>
            <a:off x="2590920" y="1447920"/>
            <a:ext cx="5867280" cy="1922760"/>
            <a:chOff x="2590920" y="1447920"/>
            <a:chExt cx="5867280" cy="1922760"/>
          </a:xfrm>
        </p:grpSpPr>
        <p:sp>
          <p:nvSpPr>
            <p:cNvPr id="429" name=""/>
            <p:cNvSpPr/>
            <p:nvPr/>
          </p:nvSpPr>
          <p:spPr>
            <a:xfrm>
              <a:off x="2590920" y="1447920"/>
              <a:ext cx="365760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6600cc"/>
                  </a:solidFill>
                  <a:latin typeface="Comic Sans MS"/>
                </a:rPr>
                <a:t>Mono</a:t>
              </a:r>
              <a:r>
                <a:rPr b="0" lang="en-US" sz="6000" spc="-1" strike="noStrike">
                  <a:solidFill>
                    <a:srgbClr val="000000"/>
                  </a:solidFill>
                  <a:latin typeface="Comic Sans MS"/>
                </a:rPr>
                <a:t>mial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66880" y="2362320"/>
              <a:ext cx="1752840" cy="0"/>
            </a:xfrm>
            <a:prstGeom prst="line">
              <a:avLst/>
            </a:prstGeom>
            <a:ln w="76320">
              <a:solidFill>
                <a:srgbClr val="66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31" name="" descr=""/>
            <p:cNvPicPr/>
            <p:nvPr/>
          </p:nvPicPr>
          <p:blipFill>
            <a:blip r:embed="rId1"/>
            <a:stretch/>
          </p:blipFill>
          <p:spPr>
            <a:xfrm>
              <a:off x="7010280" y="1523880"/>
              <a:ext cx="1447920" cy="14479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32" name="" descr=""/>
          <p:cNvPicPr/>
          <p:nvPr/>
        </p:nvPicPr>
        <p:blipFill>
          <a:blip r:embed="rId2"/>
          <a:stretch/>
        </p:blipFill>
        <p:spPr>
          <a:xfrm>
            <a:off x="762120" y="1752480"/>
            <a:ext cx="1295280" cy="163836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"/>
          <p:cNvSpPr/>
          <p:nvPr/>
        </p:nvSpPr>
        <p:spPr>
          <a:xfrm>
            <a:off x="2819520" y="1295280"/>
            <a:ext cx="3657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Monomial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33520" y="3733920"/>
            <a:ext cx="8001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35120" indent="-55728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lso called a ter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735120" indent="-55728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variables and constants may be raised to a pow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735120" indent="-55728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may NOT include +,-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2819520" y="1295280"/>
            <a:ext cx="3657600" cy="1922760"/>
            <a:chOff x="2819520" y="1295280"/>
            <a:chExt cx="3657600" cy="1922760"/>
          </a:xfrm>
        </p:grpSpPr>
        <p:sp>
          <p:nvSpPr>
            <p:cNvPr id="436" name=""/>
            <p:cNvSpPr/>
            <p:nvPr/>
          </p:nvSpPr>
          <p:spPr>
            <a:xfrm>
              <a:off x="2819520" y="1295280"/>
              <a:ext cx="365760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6600cc"/>
                  </a:solidFill>
                  <a:latin typeface="Comic Sans MS"/>
                </a:rPr>
                <a:t>Mono</a:t>
              </a:r>
              <a:r>
                <a:rPr b="0" lang="en-US" sz="6000" spc="-1" strike="noStrike">
                  <a:solidFill>
                    <a:srgbClr val="000000"/>
                  </a:solidFill>
                  <a:latin typeface="Comic Sans MS"/>
                </a:rPr>
                <a:t>mial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2895480" y="2209680"/>
              <a:ext cx="1828800" cy="0"/>
            </a:xfrm>
            <a:prstGeom prst="line">
              <a:avLst/>
            </a:prstGeom>
            <a:ln w="76320">
              <a:solidFill>
                <a:srgbClr val="66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38" name=""/>
              <p:cNvSpPr txBox="1"/>
              <p:nvPr/>
            </p:nvSpPr>
            <p:spPr>
              <a:xfrm>
                <a:off x="2133720" y="2438280"/>
                <a:ext cx="5029200" cy="129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r>
                      <m:t xml:space="preserve">5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y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9" name=""/>
              <p:cNvSpPr txBox="1"/>
              <p:nvPr/>
            </p:nvSpPr>
            <p:spPr>
              <a:xfrm>
                <a:off x="5791320" y="5562720"/>
                <a:ext cx="4158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¸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40" name=""/>
          <p:cNvSpPr/>
          <p:nvPr/>
        </p:nvSpPr>
        <p:spPr>
          <a:xfrm>
            <a:off x="2514600" y="609480"/>
            <a:ext cx="441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nomials /Polynomi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2" dur="500"/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7" dur="500"/>
                                        <p:tgtEl>
                                          <p:spTgt spid="4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2" dur="500"/>
                                        <p:tgtEl>
                                          <p:spTgt spid="4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/>
          <p:nvPr/>
        </p:nvSpPr>
        <p:spPr>
          <a:xfrm>
            <a:off x="3124080" y="1687680"/>
            <a:ext cx="3429000" cy="157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00"/>
                </a:solidFill>
                <a:latin typeface="Comic Sans MS"/>
              </a:rPr>
              <a:t>Polynomial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762120" y="254304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n expression made up of monomials added togeth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362320" y="685800"/>
            <a:ext cx="441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nomials /Polynomi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4" name=""/>
          <p:cNvGrpSpPr/>
          <p:nvPr/>
        </p:nvGrpSpPr>
        <p:grpSpPr>
          <a:xfrm>
            <a:off x="2971440" y="3886200"/>
            <a:ext cx="2514600" cy="1371600"/>
            <a:chOff x="2971440" y="3886200"/>
            <a:chExt cx="2514600" cy="1371600"/>
          </a:xfrm>
        </p:grpSpPr>
        <p:sp>
          <p:nvSpPr>
            <p:cNvPr id="445" name=""/>
            <p:cNvSpPr/>
            <p:nvPr/>
          </p:nvSpPr>
          <p:spPr>
            <a:xfrm flipH="1">
              <a:off x="2971080" y="3886200"/>
              <a:ext cx="2514600" cy="1371600"/>
            </a:xfrm>
            <a:prstGeom prst="wedgeEllipseCallout">
              <a:avLst>
                <a:gd name="adj1" fmla="val -74680"/>
                <a:gd name="adj2" fmla="val -8800"/>
              </a:avLst>
            </a:prstGeom>
            <a:solidFill>
              <a:srgbClr val="66ff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048120" y="4191120"/>
              <a:ext cx="23619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Polly wants a nomial!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47" name="" descr=""/>
          <p:cNvPicPr/>
          <p:nvPr/>
        </p:nvPicPr>
        <p:blipFill>
          <a:blip r:embed="rId1"/>
          <a:stretch/>
        </p:blipFill>
        <p:spPr>
          <a:xfrm>
            <a:off x="5410080" y="3657600"/>
            <a:ext cx="2221200" cy="2743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/>
          <p:nvPr/>
        </p:nvSpPr>
        <p:spPr>
          <a:xfrm>
            <a:off x="3124080" y="1295280"/>
            <a:ext cx="342900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6600"/>
                </a:solidFill>
                <a:uFillTx/>
                <a:latin typeface="Comic Sans MS"/>
              </a:rPr>
              <a:t>Poly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nomia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533520" y="2209680"/>
            <a:ext cx="8076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n expression made up of monomials added togeth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609480" y="4599000"/>
            <a:ext cx="8001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3x</a:t>
            </a:r>
            <a:r>
              <a:rPr b="0" lang="en-US" sz="48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 + 5x</a:t>
            </a:r>
            <a:r>
              <a:rPr b="0" lang="en-US" sz="4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y – 10xy</a:t>
            </a:r>
            <a:r>
              <a:rPr b="0" lang="en-US" sz="4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 + 5y</a:t>
            </a:r>
            <a:r>
              <a:rPr b="0" lang="en-US" sz="48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 + 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3429000" y="5715000"/>
            <a:ext cx="2057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onom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2" name=""/>
          <p:cNvGrpSpPr/>
          <p:nvPr/>
        </p:nvGrpSpPr>
        <p:grpSpPr>
          <a:xfrm>
            <a:off x="609480" y="4522680"/>
            <a:ext cx="2895480" cy="1356840"/>
            <a:chOff x="609480" y="4522680"/>
            <a:chExt cx="2895480" cy="1356840"/>
          </a:xfrm>
        </p:grpSpPr>
        <p:sp>
          <p:nvSpPr>
            <p:cNvPr id="453" name=""/>
            <p:cNvSpPr/>
            <p:nvPr/>
          </p:nvSpPr>
          <p:spPr>
            <a:xfrm>
              <a:off x="609480" y="4522680"/>
              <a:ext cx="1219320" cy="10666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54" name=""/>
            <p:cNvCxnSpPr>
              <a:stCxn id="451" idx="1"/>
              <a:endCxn id="453" idx="5"/>
            </p:cNvCxnSpPr>
            <p:nvPr/>
          </p:nvCxnSpPr>
          <p:spPr>
            <a:xfrm rot="10800000">
              <a:off x="1650240" y="5433120"/>
              <a:ext cx="1855080" cy="44676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455" name=""/>
          <p:cNvGrpSpPr/>
          <p:nvPr/>
        </p:nvGrpSpPr>
        <p:grpSpPr>
          <a:xfrm>
            <a:off x="2209680" y="4446720"/>
            <a:ext cx="1600200" cy="1433160"/>
            <a:chOff x="2209680" y="4446720"/>
            <a:chExt cx="1600200" cy="1433160"/>
          </a:xfrm>
        </p:grpSpPr>
        <p:sp>
          <p:nvSpPr>
            <p:cNvPr id="456" name=""/>
            <p:cNvSpPr/>
            <p:nvPr/>
          </p:nvSpPr>
          <p:spPr>
            <a:xfrm>
              <a:off x="2209680" y="4446720"/>
              <a:ext cx="1600200" cy="1143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57" name=""/>
            <p:cNvCxnSpPr>
              <a:stCxn id="451" idx="1"/>
              <a:endCxn id="456" idx="4"/>
            </p:cNvCxnSpPr>
            <p:nvPr/>
          </p:nvCxnSpPr>
          <p:spPr>
            <a:xfrm rot="10800000">
              <a:off x="3009240" y="5589000"/>
              <a:ext cx="496080" cy="29124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458" name=""/>
          <p:cNvGrpSpPr/>
          <p:nvPr/>
        </p:nvGrpSpPr>
        <p:grpSpPr>
          <a:xfrm>
            <a:off x="4114800" y="4522680"/>
            <a:ext cx="1905120" cy="1371600"/>
            <a:chOff x="4114800" y="4522680"/>
            <a:chExt cx="1905120" cy="1371600"/>
          </a:xfrm>
        </p:grpSpPr>
        <p:sp>
          <p:nvSpPr>
            <p:cNvPr id="459" name=""/>
            <p:cNvSpPr/>
            <p:nvPr/>
          </p:nvSpPr>
          <p:spPr>
            <a:xfrm>
              <a:off x="4114800" y="4522680"/>
              <a:ext cx="1905120" cy="990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60" name=""/>
            <p:cNvCxnSpPr>
              <a:endCxn id="459" idx="5"/>
            </p:cNvCxnSpPr>
            <p:nvPr/>
          </p:nvCxnSpPr>
          <p:spPr>
            <a:xfrm flipV="1">
              <a:off x="5486400" y="5368320"/>
              <a:ext cx="254880" cy="52632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461" name=""/>
          <p:cNvGrpSpPr/>
          <p:nvPr/>
        </p:nvGrpSpPr>
        <p:grpSpPr>
          <a:xfrm>
            <a:off x="5486040" y="4522680"/>
            <a:ext cx="2057760" cy="1371600"/>
            <a:chOff x="5486040" y="4522680"/>
            <a:chExt cx="2057760" cy="1371600"/>
          </a:xfrm>
        </p:grpSpPr>
        <p:sp>
          <p:nvSpPr>
            <p:cNvPr id="462" name=""/>
            <p:cNvSpPr/>
            <p:nvPr/>
          </p:nvSpPr>
          <p:spPr>
            <a:xfrm>
              <a:off x="6400800" y="4522680"/>
              <a:ext cx="1143000" cy="990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63" name=""/>
            <p:cNvCxnSpPr>
              <a:endCxn id="462" idx="3"/>
            </p:cNvCxnSpPr>
            <p:nvPr/>
          </p:nvCxnSpPr>
          <p:spPr>
            <a:xfrm flipV="1">
              <a:off x="5486040" y="5368320"/>
              <a:ext cx="1081800" cy="52632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464" name=""/>
          <p:cNvGrpSpPr/>
          <p:nvPr/>
        </p:nvGrpSpPr>
        <p:grpSpPr>
          <a:xfrm>
            <a:off x="5486400" y="4495680"/>
            <a:ext cx="3200400" cy="1371600"/>
            <a:chOff x="5486400" y="4495680"/>
            <a:chExt cx="3200400" cy="1371600"/>
          </a:xfrm>
        </p:grpSpPr>
        <p:sp>
          <p:nvSpPr>
            <p:cNvPr id="465" name=""/>
            <p:cNvSpPr/>
            <p:nvPr/>
          </p:nvSpPr>
          <p:spPr>
            <a:xfrm>
              <a:off x="7924680" y="4495680"/>
              <a:ext cx="762120" cy="914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66" name=""/>
            <p:cNvCxnSpPr>
              <a:endCxn id="465" idx="3"/>
            </p:cNvCxnSpPr>
            <p:nvPr/>
          </p:nvCxnSpPr>
          <p:spPr>
            <a:xfrm flipV="1">
              <a:off x="5486400" y="5276520"/>
              <a:ext cx="2550240" cy="59112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467" name=""/>
          <p:cNvGrpSpPr/>
          <p:nvPr/>
        </p:nvGrpSpPr>
        <p:grpSpPr>
          <a:xfrm>
            <a:off x="838080" y="3429000"/>
            <a:ext cx="7696080" cy="1170000"/>
            <a:chOff x="838080" y="3429000"/>
            <a:chExt cx="7696080" cy="1170000"/>
          </a:xfrm>
        </p:grpSpPr>
        <p:sp>
          <p:nvSpPr>
            <p:cNvPr id="468" name=""/>
            <p:cNvSpPr/>
            <p:nvPr/>
          </p:nvSpPr>
          <p:spPr>
            <a:xfrm rot="5400000">
              <a:off x="4381200" y="446040"/>
              <a:ext cx="609480" cy="7696080"/>
            </a:xfrm>
            <a:custGeom>
              <a:avLst/>
              <a:gdLst>
                <a:gd name="textAreaLeft" fmla="*/ 389520 w 609480"/>
                <a:gd name="textAreaRight" fmla="*/ 609840 w 609480"/>
                <a:gd name="textAreaTop" fmla="*/ 200520 h 7696080"/>
                <a:gd name="textAreaBottom" fmla="*/ 7495560 h 7696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3220560" y="3429000"/>
              <a:ext cx="3389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polynomia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0" name=""/>
          <p:cNvSpPr/>
          <p:nvPr/>
        </p:nvSpPr>
        <p:spPr>
          <a:xfrm>
            <a:off x="2362320" y="685800"/>
            <a:ext cx="441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nomials /Polynomi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1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0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5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1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7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3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7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477" dur="1" fill="hold"/>
                                  <p:tgtEl>
                                    <p:spTgt spid="46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"/>
          <p:cNvSpPr/>
          <p:nvPr/>
        </p:nvSpPr>
        <p:spPr>
          <a:xfrm>
            <a:off x="3124080" y="1447920"/>
            <a:ext cx="3505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00"/>
                </a:solidFill>
                <a:latin typeface="Comic Sans MS"/>
              </a:rPr>
              <a:t>Polynomia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609480" y="3048120"/>
            <a:ext cx="8001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3x</a:t>
            </a:r>
            <a:r>
              <a:rPr b="0" lang="en-US" sz="48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 + 5x</a:t>
            </a:r>
            <a:r>
              <a:rPr b="0" lang="en-US" sz="4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y – 10xy</a:t>
            </a:r>
            <a:r>
              <a:rPr b="0" lang="en-US" sz="4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 + 5y</a:t>
            </a:r>
            <a:r>
              <a:rPr b="0" lang="en-US" sz="48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 + 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 rot="5400000">
            <a:off x="4380840" y="-1104840"/>
            <a:ext cx="609840" cy="7696440"/>
          </a:xfrm>
          <a:custGeom>
            <a:avLst/>
            <a:gdLst>
              <a:gd name="textAreaLeft" fmla="*/ 389520 w 609840"/>
              <a:gd name="textAreaRight" fmla="*/ 610200 w 609840"/>
              <a:gd name="textAreaTop" fmla="*/ 200520 h 7696440"/>
              <a:gd name="textAreaBottom" fmla="*/ 7495920 h 769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4" name=""/>
          <p:cNvGrpSpPr/>
          <p:nvPr/>
        </p:nvGrpSpPr>
        <p:grpSpPr>
          <a:xfrm>
            <a:off x="3505320" y="4038480"/>
            <a:ext cx="2057400" cy="609840"/>
            <a:chOff x="3505320" y="4038480"/>
            <a:chExt cx="2057400" cy="609840"/>
          </a:xfrm>
        </p:grpSpPr>
        <p:sp>
          <p:nvSpPr>
            <p:cNvPr id="475" name=""/>
            <p:cNvSpPr/>
            <p:nvPr/>
          </p:nvSpPr>
          <p:spPr>
            <a:xfrm>
              <a:off x="3505320" y="4038480"/>
              <a:ext cx="2057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Term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581280" y="4038480"/>
              <a:ext cx="1905120" cy="6098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7" name=""/>
          <p:cNvGrpSpPr/>
          <p:nvPr/>
        </p:nvGrpSpPr>
        <p:grpSpPr>
          <a:xfrm>
            <a:off x="609480" y="2971800"/>
            <a:ext cx="2895480" cy="1356840"/>
            <a:chOff x="609480" y="2971800"/>
            <a:chExt cx="2895480" cy="1356840"/>
          </a:xfrm>
        </p:grpSpPr>
        <p:sp>
          <p:nvSpPr>
            <p:cNvPr id="478" name=""/>
            <p:cNvSpPr/>
            <p:nvPr/>
          </p:nvSpPr>
          <p:spPr>
            <a:xfrm>
              <a:off x="609480" y="2971800"/>
              <a:ext cx="1219320" cy="10666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79" name=""/>
            <p:cNvCxnSpPr>
              <a:stCxn id="475" idx="1"/>
              <a:endCxn id="478" idx="5"/>
            </p:cNvCxnSpPr>
            <p:nvPr/>
          </p:nvCxnSpPr>
          <p:spPr>
            <a:xfrm rot="10800000">
              <a:off x="1650240" y="3882240"/>
              <a:ext cx="1855080" cy="44676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480" name=""/>
          <p:cNvGrpSpPr/>
          <p:nvPr/>
        </p:nvGrpSpPr>
        <p:grpSpPr>
          <a:xfrm>
            <a:off x="2209680" y="2895480"/>
            <a:ext cx="1600200" cy="1433160"/>
            <a:chOff x="2209680" y="2895480"/>
            <a:chExt cx="1600200" cy="1433160"/>
          </a:xfrm>
        </p:grpSpPr>
        <p:sp>
          <p:nvSpPr>
            <p:cNvPr id="481" name=""/>
            <p:cNvSpPr/>
            <p:nvPr/>
          </p:nvSpPr>
          <p:spPr>
            <a:xfrm>
              <a:off x="2209680" y="2895480"/>
              <a:ext cx="1600200" cy="1143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82" name=""/>
            <p:cNvCxnSpPr>
              <a:stCxn id="475" idx="1"/>
              <a:endCxn id="481" idx="4"/>
            </p:cNvCxnSpPr>
            <p:nvPr/>
          </p:nvCxnSpPr>
          <p:spPr>
            <a:xfrm rot="10800000">
              <a:off x="3009240" y="4037760"/>
              <a:ext cx="496080" cy="29124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483" name=""/>
          <p:cNvGrpSpPr/>
          <p:nvPr/>
        </p:nvGrpSpPr>
        <p:grpSpPr>
          <a:xfrm>
            <a:off x="4114800" y="2971800"/>
            <a:ext cx="1905120" cy="1371600"/>
            <a:chOff x="4114800" y="2971800"/>
            <a:chExt cx="1905120" cy="1371600"/>
          </a:xfrm>
        </p:grpSpPr>
        <p:sp>
          <p:nvSpPr>
            <p:cNvPr id="484" name=""/>
            <p:cNvSpPr/>
            <p:nvPr/>
          </p:nvSpPr>
          <p:spPr>
            <a:xfrm>
              <a:off x="4114800" y="2971800"/>
              <a:ext cx="1905120" cy="990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85" name=""/>
            <p:cNvCxnSpPr>
              <a:stCxn id="476" idx="6"/>
              <a:endCxn id="484" idx="5"/>
            </p:cNvCxnSpPr>
            <p:nvPr/>
          </p:nvCxnSpPr>
          <p:spPr>
            <a:xfrm flipV="1">
              <a:off x="5486400" y="3817440"/>
              <a:ext cx="254880" cy="52632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486" name=""/>
          <p:cNvGrpSpPr/>
          <p:nvPr/>
        </p:nvGrpSpPr>
        <p:grpSpPr>
          <a:xfrm>
            <a:off x="5486040" y="2971800"/>
            <a:ext cx="2057760" cy="1371600"/>
            <a:chOff x="5486040" y="2971800"/>
            <a:chExt cx="2057760" cy="1371600"/>
          </a:xfrm>
        </p:grpSpPr>
        <p:sp>
          <p:nvSpPr>
            <p:cNvPr id="487" name=""/>
            <p:cNvSpPr/>
            <p:nvPr/>
          </p:nvSpPr>
          <p:spPr>
            <a:xfrm>
              <a:off x="6400800" y="2971800"/>
              <a:ext cx="1143000" cy="990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88" name=""/>
            <p:cNvCxnSpPr>
              <a:stCxn id="476" idx="6"/>
              <a:endCxn id="487" idx="3"/>
            </p:cNvCxnSpPr>
            <p:nvPr/>
          </p:nvCxnSpPr>
          <p:spPr>
            <a:xfrm flipV="1">
              <a:off x="5486040" y="3817440"/>
              <a:ext cx="1081800" cy="52632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489" name=""/>
          <p:cNvGrpSpPr/>
          <p:nvPr/>
        </p:nvGrpSpPr>
        <p:grpSpPr>
          <a:xfrm>
            <a:off x="5486400" y="2971800"/>
            <a:ext cx="3200400" cy="1371600"/>
            <a:chOff x="5486400" y="2971800"/>
            <a:chExt cx="3200400" cy="1371600"/>
          </a:xfrm>
        </p:grpSpPr>
        <p:sp>
          <p:nvSpPr>
            <p:cNvPr id="490" name=""/>
            <p:cNvSpPr/>
            <p:nvPr/>
          </p:nvSpPr>
          <p:spPr>
            <a:xfrm>
              <a:off x="7924680" y="2971800"/>
              <a:ext cx="762120" cy="914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1" name=""/>
            <p:cNvCxnSpPr>
              <a:stCxn id="476" idx="6"/>
              <a:endCxn id="490" idx="3"/>
            </p:cNvCxnSpPr>
            <p:nvPr/>
          </p:nvCxnSpPr>
          <p:spPr>
            <a:xfrm flipV="1">
              <a:off x="5486400" y="3752640"/>
              <a:ext cx="2550240" cy="59112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492" name=""/>
          <p:cNvSpPr/>
          <p:nvPr/>
        </p:nvSpPr>
        <p:spPr>
          <a:xfrm>
            <a:off x="2362320" y="685800"/>
            <a:ext cx="441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nomials /Polynomi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4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9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7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5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1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0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7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08" dur="1" fill="hold">
                                    <p:stCondLst>
                                      <p:cond evt="end">
                                        <p:tn val="505"/>
                                      </p:cond>
                                    </p:stCondLst>
                                  </p:cTn>
                                  <p:tgtEl>
                                    <p:spTgt spid="48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5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8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93" name=""/>
              <p:cNvSpPr txBox="1"/>
              <p:nvPr/>
            </p:nvSpPr>
            <p:spPr>
              <a:xfrm>
                <a:off x="2286000" y="1447920"/>
                <a:ext cx="4495680" cy="237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5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y</m:t>
                        </m:r>
                      </m:den>
                    </m:f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94" name=""/>
          <p:cNvSpPr/>
          <p:nvPr/>
        </p:nvSpPr>
        <p:spPr>
          <a:xfrm>
            <a:off x="762120" y="3962520"/>
            <a:ext cx="7619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6600cc"/>
                </a:solidFill>
                <a:latin typeface="Comic Sans MS"/>
              </a:rPr>
              <a:t>NOT 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0" lang="en-US" sz="6000" spc="-1" strike="noStrike">
                <a:solidFill>
                  <a:srgbClr val="6600cc"/>
                </a:solidFill>
                <a:latin typeface="Comic Sans MS"/>
              </a:rPr>
              <a:t>monomial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533520" y="5181480"/>
            <a:ext cx="8076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variable is divided, not multipli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4038480" y="2819520"/>
            <a:ext cx="914400" cy="990360"/>
          </a:xfrm>
          <a:prstGeom prst="ellipse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7" name=""/>
          <p:cNvGrpSpPr/>
          <p:nvPr/>
        </p:nvGrpSpPr>
        <p:grpSpPr>
          <a:xfrm>
            <a:off x="694800" y="1588320"/>
            <a:ext cx="2008440" cy="1322280"/>
            <a:chOff x="694800" y="1588320"/>
            <a:chExt cx="2008440" cy="1322280"/>
          </a:xfrm>
        </p:grpSpPr>
        <p:sp>
          <p:nvSpPr>
            <p:cNvPr id="498" name=""/>
            <p:cNvSpPr/>
            <p:nvPr/>
          </p:nvSpPr>
          <p:spPr>
            <a:xfrm rot="20341200">
              <a:off x="761760" y="1947240"/>
              <a:ext cx="1676160" cy="685800"/>
            </a:xfrm>
            <a:prstGeom prst="rect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 rot="20341200">
              <a:off x="893880" y="1880640"/>
              <a:ext cx="1752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Comic Sans MS"/>
                </a:rPr>
                <a:t>Note!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0" name=""/>
          <p:cNvSpPr/>
          <p:nvPr/>
        </p:nvSpPr>
        <p:spPr>
          <a:xfrm>
            <a:off x="2362320" y="685800"/>
            <a:ext cx="441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nomials /Polynomi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6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7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2362320" y="685800"/>
            <a:ext cx="441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nomials /Polynomi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914400" y="1981080"/>
            <a:ext cx="5029200" cy="198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Quick Quiz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03" name="" descr=""/>
          <p:cNvPicPr/>
          <p:nvPr/>
        </p:nvPicPr>
        <p:blipFill>
          <a:blip r:embed="rId1"/>
          <a:stretch/>
        </p:blipFill>
        <p:spPr>
          <a:xfrm>
            <a:off x="5791320" y="4419720"/>
            <a:ext cx="547560" cy="761760"/>
          </a:xfrm>
          <a:prstGeom prst="rect">
            <a:avLst/>
          </a:prstGeom>
          <a:ln w="0">
            <a:noFill/>
          </a:ln>
        </p:spPr>
      </p:pic>
      <p:grpSp>
        <p:nvGrpSpPr>
          <p:cNvPr id="504" name=""/>
          <p:cNvGrpSpPr/>
          <p:nvPr/>
        </p:nvGrpSpPr>
        <p:grpSpPr>
          <a:xfrm>
            <a:off x="3733920" y="1878120"/>
            <a:ext cx="4763880" cy="4446360"/>
            <a:chOff x="3733920" y="1878120"/>
            <a:chExt cx="4763880" cy="4446360"/>
          </a:xfrm>
        </p:grpSpPr>
        <p:pic>
          <p:nvPicPr>
            <p:cNvPr id="505" name="" descr=""/>
            <p:cNvPicPr/>
            <p:nvPr/>
          </p:nvPicPr>
          <p:blipFill>
            <a:blip r:embed="rId2"/>
            <a:stretch/>
          </p:blipFill>
          <p:spPr>
            <a:xfrm>
              <a:off x="3733920" y="1878120"/>
              <a:ext cx="4763880" cy="444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6" name=""/>
            <p:cNvSpPr/>
            <p:nvPr/>
          </p:nvSpPr>
          <p:spPr>
            <a:xfrm rot="13632000">
              <a:off x="5419440" y="4483080"/>
              <a:ext cx="990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A+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124080" y="60948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e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533520" y="2895480"/>
            <a:ext cx="2361960" cy="2971800"/>
            <a:chOff x="533520" y="2895480"/>
            <a:chExt cx="2361960" cy="2971800"/>
          </a:xfrm>
        </p:grpSpPr>
        <p:sp>
          <p:nvSpPr>
            <p:cNvPr id="106" name=""/>
            <p:cNvSpPr/>
            <p:nvPr/>
          </p:nvSpPr>
          <p:spPr>
            <a:xfrm>
              <a:off x="533520" y="2895480"/>
              <a:ext cx="2361960" cy="297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42160" y="2907720"/>
              <a:ext cx="2344320" cy="2946960"/>
            </a:xfrm>
            <a:custGeom>
              <a:avLst/>
              <a:gdLst/>
              <a:ahLst/>
              <a:rect l="l" t="t" r="r" b="b"/>
              <a:pathLst>
                <a:path w="61339" h="54893">
                  <a:moveTo>
                    <a:pt x="20369" y="694"/>
                  </a:moveTo>
                  <a:lnTo>
                    <a:pt x="20485" y="579"/>
                  </a:lnTo>
                  <a:lnTo>
                    <a:pt x="20485" y="463"/>
                  </a:lnTo>
                  <a:lnTo>
                    <a:pt x="20601" y="463"/>
                  </a:lnTo>
                  <a:lnTo>
                    <a:pt x="20717" y="347"/>
                  </a:lnTo>
                  <a:lnTo>
                    <a:pt x="20832" y="347"/>
                  </a:lnTo>
                  <a:lnTo>
                    <a:pt x="20948" y="347"/>
                  </a:lnTo>
                  <a:lnTo>
                    <a:pt x="21064" y="231"/>
                  </a:lnTo>
                  <a:lnTo>
                    <a:pt x="21179" y="231"/>
                  </a:lnTo>
                  <a:lnTo>
                    <a:pt x="21179" y="231"/>
                  </a:lnTo>
                  <a:lnTo>
                    <a:pt x="21411" y="231"/>
                  </a:lnTo>
                  <a:lnTo>
                    <a:pt x="21527" y="347"/>
                  </a:lnTo>
                  <a:lnTo>
                    <a:pt x="21758" y="463"/>
                  </a:lnTo>
                  <a:lnTo>
                    <a:pt x="21990" y="579"/>
                  </a:lnTo>
                  <a:lnTo>
                    <a:pt x="22105" y="694"/>
                  </a:lnTo>
                  <a:lnTo>
                    <a:pt x="22221" y="810"/>
                  </a:lnTo>
                  <a:lnTo>
                    <a:pt x="22453" y="1042"/>
                  </a:lnTo>
                  <a:lnTo>
                    <a:pt x="22568" y="1274"/>
                  </a:lnTo>
                  <a:lnTo>
                    <a:pt x="22568" y="1274"/>
                  </a:lnTo>
                  <a:lnTo>
                    <a:pt x="22684" y="1158"/>
                  </a:lnTo>
                  <a:lnTo>
                    <a:pt x="22915" y="1042"/>
                  </a:lnTo>
                  <a:lnTo>
                    <a:pt x="23031" y="1042"/>
                  </a:lnTo>
                  <a:lnTo>
                    <a:pt x="23147" y="1042"/>
                  </a:lnTo>
                  <a:lnTo>
                    <a:pt x="23378" y="1042"/>
                  </a:lnTo>
                  <a:lnTo>
                    <a:pt x="23494" y="1042"/>
                  </a:lnTo>
                  <a:lnTo>
                    <a:pt x="23726" y="1042"/>
                  </a:lnTo>
                  <a:lnTo>
                    <a:pt x="23841" y="1158"/>
                  </a:lnTo>
                  <a:lnTo>
                    <a:pt x="23841" y="1158"/>
                  </a:lnTo>
                  <a:lnTo>
                    <a:pt x="23957" y="1158"/>
                  </a:lnTo>
                  <a:lnTo>
                    <a:pt x="24188" y="1274"/>
                  </a:lnTo>
                  <a:lnTo>
                    <a:pt x="24304" y="1389"/>
                  </a:lnTo>
                  <a:lnTo>
                    <a:pt x="24420" y="1505"/>
                  </a:lnTo>
                  <a:lnTo>
                    <a:pt x="24536" y="1621"/>
                  </a:lnTo>
                  <a:lnTo>
                    <a:pt x="24651" y="1621"/>
                  </a:lnTo>
                  <a:lnTo>
                    <a:pt x="24767" y="1621"/>
                  </a:lnTo>
                  <a:lnTo>
                    <a:pt x="24999" y="1389"/>
                  </a:lnTo>
                  <a:lnTo>
                    <a:pt x="24999" y="1389"/>
                  </a:lnTo>
                  <a:lnTo>
                    <a:pt x="25114" y="1389"/>
                  </a:lnTo>
                  <a:lnTo>
                    <a:pt x="25346" y="1505"/>
                  </a:lnTo>
                  <a:lnTo>
                    <a:pt x="25462" y="1505"/>
                  </a:lnTo>
                  <a:lnTo>
                    <a:pt x="25577" y="1621"/>
                  </a:lnTo>
                  <a:lnTo>
                    <a:pt x="25693" y="1737"/>
                  </a:lnTo>
                  <a:lnTo>
                    <a:pt x="25809" y="1853"/>
                  </a:lnTo>
                  <a:lnTo>
                    <a:pt x="25924" y="1968"/>
                  </a:lnTo>
                  <a:lnTo>
                    <a:pt x="26040" y="1968"/>
                  </a:lnTo>
                  <a:lnTo>
                    <a:pt x="26040" y="1968"/>
                  </a:lnTo>
                  <a:lnTo>
                    <a:pt x="26272" y="1968"/>
                  </a:lnTo>
                  <a:lnTo>
                    <a:pt x="26503" y="1853"/>
                  </a:lnTo>
                  <a:lnTo>
                    <a:pt x="26735" y="1853"/>
                  </a:lnTo>
                  <a:lnTo>
                    <a:pt x="26966" y="1737"/>
                  </a:lnTo>
                  <a:lnTo>
                    <a:pt x="27082" y="1737"/>
                  </a:lnTo>
                  <a:lnTo>
                    <a:pt x="27313" y="1737"/>
                  </a:lnTo>
                  <a:lnTo>
                    <a:pt x="27545" y="1853"/>
                  </a:lnTo>
                  <a:lnTo>
                    <a:pt x="27660" y="1968"/>
                  </a:lnTo>
                  <a:lnTo>
                    <a:pt x="27660" y="1968"/>
                  </a:lnTo>
                  <a:lnTo>
                    <a:pt x="28123" y="2316"/>
                  </a:lnTo>
                  <a:lnTo>
                    <a:pt x="28123" y="2316"/>
                  </a:lnTo>
                  <a:lnTo>
                    <a:pt x="28239" y="2084"/>
                  </a:lnTo>
                  <a:lnTo>
                    <a:pt x="28471" y="1968"/>
                  </a:lnTo>
                  <a:lnTo>
                    <a:pt x="28586" y="1968"/>
                  </a:lnTo>
                  <a:lnTo>
                    <a:pt x="28818" y="1968"/>
                  </a:lnTo>
                  <a:lnTo>
                    <a:pt x="29049" y="1968"/>
                  </a:lnTo>
                  <a:lnTo>
                    <a:pt x="29281" y="1968"/>
                  </a:lnTo>
                  <a:lnTo>
                    <a:pt x="29512" y="1968"/>
                  </a:lnTo>
                  <a:lnTo>
                    <a:pt x="29744" y="1968"/>
                  </a:lnTo>
                  <a:lnTo>
                    <a:pt x="29744" y="1968"/>
                  </a:lnTo>
                  <a:lnTo>
                    <a:pt x="29859" y="2084"/>
                  </a:lnTo>
                  <a:lnTo>
                    <a:pt x="29975" y="2200"/>
                  </a:lnTo>
                  <a:lnTo>
                    <a:pt x="29975" y="2316"/>
                  </a:lnTo>
                  <a:lnTo>
                    <a:pt x="30091" y="2432"/>
                  </a:lnTo>
                  <a:lnTo>
                    <a:pt x="30207" y="2547"/>
                  </a:lnTo>
                  <a:lnTo>
                    <a:pt x="30322" y="2663"/>
                  </a:lnTo>
                  <a:lnTo>
                    <a:pt x="30438" y="2779"/>
                  </a:lnTo>
                  <a:lnTo>
                    <a:pt x="30554" y="2779"/>
                  </a:lnTo>
                  <a:lnTo>
                    <a:pt x="30554" y="2779"/>
                  </a:lnTo>
                  <a:lnTo>
                    <a:pt x="30670" y="2779"/>
                  </a:lnTo>
                  <a:lnTo>
                    <a:pt x="30785" y="2663"/>
                  </a:lnTo>
                  <a:lnTo>
                    <a:pt x="30901" y="2663"/>
                  </a:lnTo>
                  <a:lnTo>
                    <a:pt x="31132" y="2663"/>
                  </a:lnTo>
                  <a:lnTo>
                    <a:pt x="31248" y="2663"/>
                  </a:lnTo>
                  <a:lnTo>
                    <a:pt x="31364" y="2663"/>
                  </a:lnTo>
                  <a:lnTo>
                    <a:pt x="31595" y="2663"/>
                  </a:lnTo>
                  <a:lnTo>
                    <a:pt x="31711" y="2663"/>
                  </a:lnTo>
                  <a:lnTo>
                    <a:pt x="31711" y="2663"/>
                  </a:lnTo>
                  <a:lnTo>
                    <a:pt x="31943" y="2895"/>
                  </a:lnTo>
                  <a:lnTo>
                    <a:pt x="32058" y="3011"/>
                  </a:lnTo>
                  <a:lnTo>
                    <a:pt x="32174" y="3126"/>
                  </a:lnTo>
                  <a:lnTo>
                    <a:pt x="32290" y="3358"/>
                  </a:lnTo>
                  <a:lnTo>
                    <a:pt x="32521" y="3474"/>
                  </a:lnTo>
                  <a:lnTo>
                    <a:pt x="32637" y="3474"/>
                  </a:lnTo>
                  <a:lnTo>
                    <a:pt x="-32668" y="3474"/>
                  </a:lnTo>
                  <a:lnTo>
                    <a:pt x="-32436" y="3242"/>
                  </a:lnTo>
                  <a:lnTo>
                    <a:pt x="-32436" y="3242"/>
                  </a:lnTo>
                  <a:lnTo>
                    <a:pt x="-32205" y="3242"/>
                  </a:lnTo>
                  <a:lnTo>
                    <a:pt x="-31973" y="3242"/>
                  </a:lnTo>
                  <a:lnTo>
                    <a:pt x="-31626" y="3358"/>
                  </a:lnTo>
                  <a:lnTo>
                    <a:pt x="-31395" y="3474"/>
                  </a:lnTo>
                  <a:lnTo>
                    <a:pt x="-31163" y="3706"/>
                  </a:lnTo>
                  <a:lnTo>
                    <a:pt x="-30932" y="3706"/>
                  </a:lnTo>
                  <a:lnTo>
                    <a:pt x="-30584" y="3821"/>
                  </a:lnTo>
                  <a:lnTo>
                    <a:pt x="-30237" y="3706"/>
                  </a:lnTo>
                  <a:lnTo>
                    <a:pt x="-30237" y="3706"/>
                  </a:lnTo>
                  <a:lnTo>
                    <a:pt x="-30006" y="3821"/>
                  </a:lnTo>
                  <a:lnTo>
                    <a:pt x="-29774" y="3937"/>
                  </a:lnTo>
                  <a:lnTo>
                    <a:pt x="-29543" y="3937"/>
                  </a:lnTo>
                  <a:lnTo>
                    <a:pt x="-29311" y="3937"/>
                  </a:lnTo>
                  <a:lnTo>
                    <a:pt x="-29080" y="3821"/>
                  </a:lnTo>
                  <a:lnTo>
                    <a:pt x="-28733" y="3937"/>
                  </a:lnTo>
                  <a:lnTo>
                    <a:pt x="-28501" y="4053"/>
                  </a:lnTo>
                  <a:lnTo>
                    <a:pt x="-28385" y="4169"/>
                  </a:lnTo>
                  <a:lnTo>
                    <a:pt x="-28385" y="4169"/>
                  </a:lnTo>
                  <a:lnTo>
                    <a:pt x="-28038" y="4169"/>
                  </a:lnTo>
                  <a:lnTo>
                    <a:pt x="-27807" y="4169"/>
                  </a:lnTo>
                  <a:lnTo>
                    <a:pt x="-27575" y="4169"/>
                  </a:lnTo>
                  <a:lnTo>
                    <a:pt x="-27344" y="4285"/>
                  </a:lnTo>
                  <a:lnTo>
                    <a:pt x="-27112" y="4400"/>
                  </a:lnTo>
                  <a:lnTo>
                    <a:pt x="-26881" y="4516"/>
                  </a:lnTo>
                  <a:lnTo>
                    <a:pt x="-26650" y="4516"/>
                  </a:lnTo>
                  <a:lnTo>
                    <a:pt x="-26418" y="4285"/>
                  </a:lnTo>
                  <a:lnTo>
                    <a:pt x="-26418" y="4285"/>
                  </a:lnTo>
                  <a:lnTo>
                    <a:pt x="-26187" y="4400"/>
                  </a:lnTo>
                  <a:lnTo>
                    <a:pt x="-25955" y="4516"/>
                  </a:lnTo>
                  <a:lnTo>
                    <a:pt x="-25724" y="4632"/>
                  </a:lnTo>
                  <a:lnTo>
                    <a:pt x="-25608" y="4748"/>
                  </a:lnTo>
                  <a:lnTo>
                    <a:pt x="-25492" y="4979"/>
                  </a:lnTo>
                  <a:lnTo>
                    <a:pt x="-25376" y="5095"/>
                  </a:lnTo>
                  <a:lnTo>
                    <a:pt x="-25261" y="5327"/>
                  </a:lnTo>
                  <a:lnTo>
                    <a:pt x="-25145" y="5558"/>
                  </a:lnTo>
                  <a:lnTo>
                    <a:pt x="-25145" y="5558"/>
                  </a:lnTo>
                  <a:lnTo>
                    <a:pt x="-25145" y="6022"/>
                  </a:lnTo>
                  <a:lnTo>
                    <a:pt x="-25145" y="6369"/>
                  </a:lnTo>
                  <a:lnTo>
                    <a:pt x="-25376" y="6717"/>
                  </a:lnTo>
                  <a:lnTo>
                    <a:pt x="-25492" y="7064"/>
                  </a:lnTo>
                  <a:lnTo>
                    <a:pt x="-25724" y="7296"/>
                  </a:lnTo>
                  <a:lnTo>
                    <a:pt x="-25839" y="7643"/>
                  </a:lnTo>
                  <a:lnTo>
                    <a:pt x="-25955" y="7990"/>
                  </a:lnTo>
                  <a:lnTo>
                    <a:pt x="-26071" y="8454"/>
                  </a:lnTo>
                  <a:lnTo>
                    <a:pt x="-26071" y="8454"/>
                  </a:lnTo>
                  <a:lnTo>
                    <a:pt x="-26534" y="9959"/>
                  </a:lnTo>
                  <a:lnTo>
                    <a:pt x="-26997" y="11465"/>
                  </a:lnTo>
                  <a:lnTo>
                    <a:pt x="-27344" y="13086"/>
                  </a:lnTo>
                  <a:lnTo>
                    <a:pt x="-27691" y="14707"/>
                  </a:lnTo>
                  <a:lnTo>
                    <a:pt x="-28038" y="16329"/>
                  </a:lnTo>
                  <a:lnTo>
                    <a:pt x="-28270" y="17950"/>
                  </a:lnTo>
                  <a:lnTo>
                    <a:pt x="-28501" y="19571"/>
                  </a:lnTo>
                  <a:lnTo>
                    <a:pt x="-28617" y="21193"/>
                  </a:lnTo>
                  <a:lnTo>
                    <a:pt x="-28617" y="21193"/>
                  </a:lnTo>
                  <a:lnTo>
                    <a:pt x="-28501" y="21309"/>
                  </a:lnTo>
                  <a:lnTo>
                    <a:pt x="-28501" y="21309"/>
                  </a:lnTo>
                  <a:lnTo>
                    <a:pt x="-26650" y="20845"/>
                  </a:lnTo>
                  <a:lnTo>
                    <a:pt x="-24914" y="20498"/>
                  </a:lnTo>
                  <a:lnTo>
                    <a:pt x="-23178" y="20150"/>
                  </a:lnTo>
                  <a:lnTo>
                    <a:pt x="-21326" y="19919"/>
                  </a:lnTo>
                  <a:lnTo>
                    <a:pt x="-19590" y="19571"/>
                  </a:lnTo>
                  <a:lnTo>
                    <a:pt x="-17738" y="19224"/>
                  </a:lnTo>
                  <a:lnTo>
                    <a:pt x="-16002" y="18992"/>
                  </a:lnTo>
                  <a:lnTo>
                    <a:pt x="-14266" y="18645"/>
                  </a:lnTo>
                  <a:lnTo>
                    <a:pt x="-14266" y="18645"/>
                  </a:lnTo>
                  <a:lnTo>
                    <a:pt x="-12993" y="18761"/>
                  </a:lnTo>
                  <a:lnTo>
                    <a:pt x="-11720" y="18877"/>
                  </a:lnTo>
                  <a:lnTo>
                    <a:pt x="-10563" y="18992"/>
                  </a:lnTo>
                  <a:lnTo>
                    <a:pt x="-9290" y="18992"/>
                  </a:lnTo>
                  <a:lnTo>
                    <a:pt x="-8017" y="19108"/>
                  </a:lnTo>
                  <a:lnTo>
                    <a:pt x="-6859" y="19224"/>
                  </a:lnTo>
                  <a:lnTo>
                    <a:pt x="-5586" y="19340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803"/>
                  </a:lnTo>
                  <a:lnTo>
                    <a:pt x="-4197" y="19803"/>
                  </a:lnTo>
                  <a:lnTo>
                    <a:pt x="-4313" y="19803"/>
                  </a:lnTo>
                  <a:lnTo>
                    <a:pt x="-4313" y="19803"/>
                  </a:lnTo>
                  <a:lnTo>
                    <a:pt x="-17044" y="25246"/>
                  </a:lnTo>
                  <a:lnTo>
                    <a:pt x="-17044" y="25246"/>
                  </a:lnTo>
                  <a:lnTo>
                    <a:pt x="-17159" y="25246"/>
                  </a:lnTo>
                  <a:lnTo>
                    <a:pt x="-17391" y="25246"/>
                  </a:lnTo>
                  <a:lnTo>
                    <a:pt x="-17622" y="25362"/>
                  </a:lnTo>
                  <a:lnTo>
                    <a:pt x="-17854" y="25362"/>
                  </a:lnTo>
                  <a:lnTo>
                    <a:pt x="-17970" y="25478"/>
                  </a:lnTo>
                  <a:lnTo>
                    <a:pt x="-18201" y="25478"/>
                  </a:lnTo>
                  <a:lnTo>
                    <a:pt x="-18317" y="25478"/>
                  </a:lnTo>
                  <a:lnTo>
                    <a:pt x="-18548" y="25594"/>
                  </a:lnTo>
                  <a:lnTo>
                    <a:pt x="-18548" y="25594"/>
                  </a:lnTo>
                  <a:lnTo>
                    <a:pt x="-18548" y="25941"/>
                  </a:lnTo>
                  <a:lnTo>
                    <a:pt x="-18664" y="26288"/>
                  </a:lnTo>
                  <a:lnTo>
                    <a:pt x="-18895" y="26636"/>
                  </a:lnTo>
                  <a:lnTo>
                    <a:pt x="-19127" y="26983"/>
                  </a:lnTo>
                  <a:lnTo>
                    <a:pt x="-19358" y="27215"/>
                  </a:lnTo>
                  <a:lnTo>
                    <a:pt x="-19706" y="27562"/>
                  </a:lnTo>
                  <a:lnTo>
                    <a:pt x="-19937" y="27794"/>
                  </a:lnTo>
                  <a:lnTo>
                    <a:pt x="-20284" y="28026"/>
                  </a:lnTo>
                  <a:lnTo>
                    <a:pt x="-20284" y="28026"/>
                  </a:lnTo>
                  <a:lnTo>
                    <a:pt x="-20631" y="28141"/>
                  </a:lnTo>
                  <a:lnTo>
                    <a:pt x="-20863" y="28257"/>
                  </a:lnTo>
                  <a:lnTo>
                    <a:pt x="-21094" y="28373"/>
                  </a:lnTo>
                  <a:lnTo>
                    <a:pt x="-21442" y="28373"/>
                  </a:lnTo>
                  <a:lnTo>
                    <a:pt x="-21673" y="28489"/>
                  </a:lnTo>
                  <a:lnTo>
                    <a:pt x="-22020" y="28489"/>
                  </a:lnTo>
                  <a:lnTo>
                    <a:pt x="-22252" y="28373"/>
                  </a:lnTo>
                  <a:lnTo>
                    <a:pt x="-22483" y="28141"/>
                  </a:lnTo>
                  <a:lnTo>
                    <a:pt x="-22483" y="28141"/>
                  </a:lnTo>
                  <a:lnTo>
                    <a:pt x="-22715" y="28257"/>
                  </a:lnTo>
                  <a:lnTo>
                    <a:pt x="-22830" y="28373"/>
                  </a:lnTo>
                  <a:lnTo>
                    <a:pt x="-23062" y="28489"/>
                  </a:lnTo>
                  <a:lnTo>
                    <a:pt x="-23293" y="28605"/>
                  </a:lnTo>
                  <a:lnTo>
                    <a:pt x="-23409" y="28605"/>
                  </a:lnTo>
                  <a:lnTo>
                    <a:pt x="-23640" y="28720"/>
                  </a:lnTo>
                  <a:lnTo>
                    <a:pt x="-23872" y="28720"/>
                  </a:lnTo>
                  <a:lnTo>
                    <a:pt x="-24103" y="28605"/>
                  </a:lnTo>
                  <a:lnTo>
                    <a:pt x="-24103" y="28605"/>
                  </a:lnTo>
                  <a:lnTo>
                    <a:pt x="-24335" y="28952"/>
                  </a:lnTo>
                  <a:lnTo>
                    <a:pt x="-24566" y="29184"/>
                  </a:lnTo>
                  <a:lnTo>
                    <a:pt x="-24798" y="29299"/>
                  </a:lnTo>
                  <a:lnTo>
                    <a:pt x="-25145" y="29415"/>
                  </a:lnTo>
                  <a:lnTo>
                    <a:pt x="-25376" y="29531"/>
                  </a:lnTo>
                  <a:lnTo>
                    <a:pt x="-25724" y="29531"/>
                  </a:lnTo>
                  <a:lnTo>
                    <a:pt x="-26071" y="29647"/>
                  </a:lnTo>
                  <a:lnTo>
                    <a:pt x="-26418" y="29531"/>
                  </a:lnTo>
                  <a:lnTo>
                    <a:pt x="-26418" y="29531"/>
                  </a:lnTo>
                  <a:lnTo>
                    <a:pt x="-26534" y="29531"/>
                  </a:lnTo>
                  <a:lnTo>
                    <a:pt x="-26650" y="29415"/>
                  </a:lnTo>
                  <a:lnTo>
                    <a:pt x="-26765" y="29299"/>
                  </a:lnTo>
                  <a:lnTo>
                    <a:pt x="-26881" y="29184"/>
                  </a:lnTo>
                  <a:lnTo>
                    <a:pt x="-26997" y="29068"/>
                  </a:lnTo>
                  <a:lnTo>
                    <a:pt x="-27112" y="28952"/>
                  </a:lnTo>
                  <a:lnTo>
                    <a:pt x="-27228" y="28952"/>
                  </a:lnTo>
                  <a:lnTo>
                    <a:pt x="-27460" y="29068"/>
                  </a:lnTo>
                  <a:lnTo>
                    <a:pt x="-27460" y="29068"/>
                  </a:lnTo>
                  <a:lnTo>
                    <a:pt x="-27575" y="29184"/>
                  </a:lnTo>
                  <a:lnTo>
                    <a:pt x="-27691" y="29299"/>
                  </a:lnTo>
                  <a:lnTo>
                    <a:pt x="-27923" y="29415"/>
                  </a:lnTo>
                  <a:lnTo>
                    <a:pt x="-28038" y="29531"/>
                  </a:lnTo>
                  <a:lnTo>
                    <a:pt x="-28270" y="29647"/>
                  </a:lnTo>
                  <a:lnTo>
                    <a:pt x="-28385" y="29763"/>
                  </a:lnTo>
                  <a:lnTo>
                    <a:pt x="-28617" y="29879"/>
                  </a:lnTo>
                  <a:lnTo>
                    <a:pt x="-28733" y="29994"/>
                  </a:lnTo>
                  <a:lnTo>
                    <a:pt x="-28733" y="29994"/>
                  </a:lnTo>
                  <a:lnTo>
                    <a:pt x="-28733" y="30689"/>
                  </a:lnTo>
                  <a:lnTo>
                    <a:pt x="-28733" y="31268"/>
                  </a:lnTo>
                  <a:lnTo>
                    <a:pt x="-28617" y="31963"/>
                  </a:lnTo>
                  <a:lnTo>
                    <a:pt x="-28501" y="32542"/>
                  </a:lnTo>
                  <a:lnTo>
                    <a:pt x="-28385" y="-32299"/>
                  </a:lnTo>
                  <a:lnTo>
                    <a:pt x="-28385" y="-31720"/>
                  </a:lnTo>
                  <a:lnTo>
                    <a:pt x="-28270" y="-31025"/>
                  </a:lnTo>
                  <a:lnTo>
                    <a:pt x="-28154" y="-30446"/>
                  </a:lnTo>
                  <a:lnTo>
                    <a:pt x="-28154" y="-30446"/>
                  </a:lnTo>
                  <a:lnTo>
                    <a:pt x="-28501" y="-30214"/>
                  </a:lnTo>
                  <a:lnTo>
                    <a:pt x="-28733" y="-29983"/>
                  </a:lnTo>
                  <a:lnTo>
                    <a:pt x="-29196" y="-29867"/>
                  </a:lnTo>
                  <a:lnTo>
                    <a:pt x="-29543" y="-29867"/>
                  </a:lnTo>
                  <a:lnTo>
                    <a:pt x="-29890" y="-29751"/>
                  </a:lnTo>
                  <a:lnTo>
                    <a:pt x="-30237" y="-29751"/>
                  </a:lnTo>
                  <a:lnTo>
                    <a:pt x="-30700" y="-29635"/>
                  </a:lnTo>
                  <a:lnTo>
                    <a:pt x="-31047" y="-29635"/>
                  </a:lnTo>
                  <a:lnTo>
                    <a:pt x="-31047" y="-29635"/>
                  </a:lnTo>
                  <a:lnTo>
                    <a:pt x="-31047" y="-29288"/>
                  </a:lnTo>
                  <a:lnTo>
                    <a:pt x="-31047" y="-29288"/>
                  </a:lnTo>
                  <a:lnTo>
                    <a:pt x="-30700" y="-28825"/>
                  </a:lnTo>
                  <a:lnTo>
                    <a:pt x="-30353" y="-28246"/>
                  </a:lnTo>
                  <a:lnTo>
                    <a:pt x="-30006" y="-27782"/>
                  </a:lnTo>
                  <a:lnTo>
                    <a:pt x="-29774" y="-27319"/>
                  </a:lnTo>
                  <a:lnTo>
                    <a:pt x="-29427" y="-26856"/>
                  </a:lnTo>
                  <a:lnTo>
                    <a:pt x="-29080" y="-26277"/>
                  </a:lnTo>
                  <a:lnTo>
                    <a:pt x="-28848" y="-25814"/>
                  </a:lnTo>
                  <a:lnTo>
                    <a:pt x="-28617" y="-25235"/>
                  </a:lnTo>
                  <a:lnTo>
                    <a:pt x="-28617" y="-25235"/>
                  </a:lnTo>
                  <a:lnTo>
                    <a:pt x="-28733" y="-24540"/>
                  </a:lnTo>
                  <a:lnTo>
                    <a:pt x="-28848" y="-23729"/>
                  </a:lnTo>
                  <a:lnTo>
                    <a:pt x="-28964" y="-23034"/>
                  </a:lnTo>
                  <a:lnTo>
                    <a:pt x="-29196" y="-22224"/>
                  </a:lnTo>
                  <a:lnTo>
                    <a:pt x="-29311" y="-21529"/>
                  </a:lnTo>
                  <a:lnTo>
                    <a:pt x="-29543" y="-20718"/>
                  </a:lnTo>
                  <a:lnTo>
                    <a:pt x="-29659" y="-20023"/>
                  </a:lnTo>
                  <a:lnTo>
                    <a:pt x="-29890" y="-19213"/>
                  </a:lnTo>
                  <a:lnTo>
                    <a:pt x="-29890" y="-19213"/>
                  </a:lnTo>
                  <a:lnTo>
                    <a:pt x="-29774" y="-18865"/>
                  </a:lnTo>
                  <a:lnTo>
                    <a:pt x="-29543" y="-18518"/>
                  </a:lnTo>
                  <a:lnTo>
                    <a:pt x="-29427" y="-18286"/>
                  </a:lnTo>
                  <a:lnTo>
                    <a:pt x="-29196" y="-18054"/>
                  </a:lnTo>
                  <a:lnTo>
                    <a:pt x="-28964" y="-17707"/>
                  </a:lnTo>
                  <a:lnTo>
                    <a:pt x="-28733" y="-17475"/>
                  </a:lnTo>
                  <a:lnTo>
                    <a:pt x="-28501" y="-17244"/>
                  </a:lnTo>
                  <a:lnTo>
                    <a:pt x="-28501" y="-16896"/>
                  </a:lnTo>
                  <a:lnTo>
                    <a:pt x="-28501" y="-16896"/>
                  </a:lnTo>
                  <a:lnTo>
                    <a:pt x="-28385" y="-16665"/>
                  </a:lnTo>
                  <a:lnTo>
                    <a:pt x="-28154" y="-16317"/>
                  </a:lnTo>
                  <a:lnTo>
                    <a:pt x="-28038" y="-16086"/>
                  </a:lnTo>
                  <a:lnTo>
                    <a:pt x="-27807" y="-15854"/>
                  </a:lnTo>
                  <a:lnTo>
                    <a:pt x="-27691" y="-15622"/>
                  </a:lnTo>
                  <a:lnTo>
                    <a:pt x="-27575" y="-15391"/>
                  </a:lnTo>
                  <a:lnTo>
                    <a:pt x="-27344" y="-15159"/>
                  </a:lnTo>
                  <a:lnTo>
                    <a:pt x="-27344" y="-14928"/>
                  </a:lnTo>
                  <a:lnTo>
                    <a:pt x="-27344" y="-14928"/>
                  </a:lnTo>
                  <a:lnTo>
                    <a:pt x="-27228" y="-14464"/>
                  </a:lnTo>
                  <a:lnTo>
                    <a:pt x="-26997" y="-14117"/>
                  </a:lnTo>
                  <a:lnTo>
                    <a:pt x="-26881" y="-13654"/>
                  </a:lnTo>
                  <a:lnTo>
                    <a:pt x="-26881" y="-13190"/>
                  </a:lnTo>
                  <a:lnTo>
                    <a:pt x="-26765" y="-12727"/>
                  </a:lnTo>
                  <a:lnTo>
                    <a:pt x="-26765" y="-12380"/>
                  </a:lnTo>
                  <a:lnTo>
                    <a:pt x="-26881" y="-11917"/>
                  </a:lnTo>
                  <a:lnTo>
                    <a:pt x="-27228" y="-11569"/>
                  </a:lnTo>
                  <a:lnTo>
                    <a:pt x="-27228" y="-11569"/>
                  </a:lnTo>
                  <a:lnTo>
                    <a:pt x="-27228" y="-11453"/>
                  </a:lnTo>
                  <a:lnTo>
                    <a:pt x="-27344" y="-11453"/>
                  </a:lnTo>
                  <a:lnTo>
                    <a:pt x="-27344" y="-11453"/>
                  </a:lnTo>
                  <a:lnTo>
                    <a:pt x="-27460" y="-11453"/>
                  </a:lnTo>
                  <a:lnTo>
                    <a:pt x="-27460" y="-11453"/>
                  </a:lnTo>
                  <a:lnTo>
                    <a:pt x="-27575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8154" y="-11222"/>
                  </a:lnTo>
                  <a:lnTo>
                    <a:pt x="-28733" y="-11106"/>
                  </a:lnTo>
                  <a:lnTo>
                    <a:pt x="-29311" y="-11106"/>
                  </a:lnTo>
                  <a:lnTo>
                    <a:pt x="-29890" y="-11222"/>
                  </a:lnTo>
                  <a:lnTo>
                    <a:pt x="-30353" y="-11337"/>
                  </a:lnTo>
                  <a:lnTo>
                    <a:pt x="-30932" y="-11453"/>
                  </a:lnTo>
                  <a:lnTo>
                    <a:pt x="-31395" y="-11685"/>
                  </a:lnTo>
                  <a:lnTo>
                    <a:pt x="-31857" y="-12032"/>
                  </a:lnTo>
                  <a:lnTo>
                    <a:pt x="-31857" y="-12032"/>
                  </a:lnTo>
                  <a:lnTo>
                    <a:pt x="-32320" y="-12496"/>
                  </a:lnTo>
                  <a:lnTo>
                    <a:pt x="-32552" y="-13075"/>
                  </a:lnTo>
                  <a:lnTo>
                    <a:pt x="32753" y="-13769"/>
                  </a:lnTo>
                  <a:lnTo>
                    <a:pt x="32637" y="-14464"/>
                  </a:lnTo>
                  <a:lnTo>
                    <a:pt x="32405" y="-15159"/>
                  </a:lnTo>
                  <a:lnTo>
                    <a:pt x="32058" y="-15622"/>
                  </a:lnTo>
                  <a:lnTo>
                    <a:pt x="31595" y="-16086"/>
                  </a:lnTo>
                  <a:lnTo>
                    <a:pt x="30785" y="-16201"/>
                  </a:lnTo>
                  <a:lnTo>
                    <a:pt x="30785" y="-16201"/>
                  </a:lnTo>
                  <a:lnTo>
                    <a:pt x="30670" y="-16317"/>
                  </a:lnTo>
                  <a:lnTo>
                    <a:pt x="30554" y="-16549"/>
                  </a:lnTo>
                  <a:lnTo>
                    <a:pt x="30438" y="-16781"/>
                  </a:lnTo>
                  <a:lnTo>
                    <a:pt x="30322" y="-16896"/>
                  </a:lnTo>
                  <a:lnTo>
                    <a:pt x="30322" y="-17128"/>
                  </a:lnTo>
                  <a:lnTo>
                    <a:pt x="30322" y="-17360"/>
                  </a:lnTo>
                  <a:lnTo>
                    <a:pt x="30322" y="-17591"/>
                  </a:lnTo>
                  <a:lnTo>
                    <a:pt x="30322" y="-17823"/>
                  </a:lnTo>
                  <a:lnTo>
                    <a:pt x="30322" y="-17823"/>
                  </a:lnTo>
                  <a:lnTo>
                    <a:pt x="30554" y="-18170"/>
                  </a:lnTo>
                  <a:lnTo>
                    <a:pt x="30785" y="-18518"/>
                  </a:lnTo>
                  <a:lnTo>
                    <a:pt x="31132" y="-18749"/>
                  </a:lnTo>
                  <a:lnTo>
                    <a:pt x="31480" y="-18981"/>
                  </a:lnTo>
                  <a:lnTo>
                    <a:pt x="31827" y="-19213"/>
                  </a:lnTo>
                  <a:lnTo>
                    <a:pt x="32174" y="-19444"/>
                  </a:lnTo>
                  <a:lnTo>
                    <a:pt x="32405" y="-19676"/>
                  </a:lnTo>
                  <a:lnTo>
                    <a:pt x="32637" y="-20139"/>
                  </a:lnTo>
                  <a:lnTo>
                    <a:pt x="32637" y="-20139"/>
                  </a:lnTo>
                  <a:lnTo>
                    <a:pt x="-32668" y="-20950"/>
                  </a:lnTo>
                  <a:lnTo>
                    <a:pt x="-32436" y="-21876"/>
                  </a:lnTo>
                  <a:lnTo>
                    <a:pt x="-32205" y="-22803"/>
                  </a:lnTo>
                  <a:lnTo>
                    <a:pt x="-32089" y="-23729"/>
                  </a:lnTo>
                  <a:lnTo>
                    <a:pt x="-32089" y="-24656"/>
                  </a:lnTo>
                  <a:lnTo>
                    <a:pt x="-32205" y="-25466"/>
                  </a:lnTo>
                  <a:lnTo>
                    <a:pt x="-32552" y="-26277"/>
                  </a:lnTo>
                  <a:lnTo>
                    <a:pt x="32290" y="-27088"/>
                  </a:lnTo>
                  <a:lnTo>
                    <a:pt x="32290" y="-27088"/>
                  </a:lnTo>
                  <a:lnTo>
                    <a:pt x="30901" y="-28593"/>
                  </a:lnTo>
                  <a:lnTo>
                    <a:pt x="30901" y="-28593"/>
                  </a:lnTo>
                  <a:lnTo>
                    <a:pt x="29744" y="-28130"/>
                  </a:lnTo>
                  <a:lnTo>
                    <a:pt x="28586" y="-27667"/>
                  </a:lnTo>
                  <a:lnTo>
                    <a:pt x="27545" y="-27203"/>
                  </a:lnTo>
                  <a:lnTo>
                    <a:pt x="26387" y="-26740"/>
                  </a:lnTo>
                  <a:lnTo>
                    <a:pt x="25230" y="-26161"/>
                  </a:lnTo>
                  <a:lnTo>
                    <a:pt x="24073" y="-25698"/>
                  </a:lnTo>
                  <a:lnTo>
                    <a:pt x="23031" y="-25119"/>
                  </a:lnTo>
                  <a:lnTo>
                    <a:pt x="21874" y="-24656"/>
                  </a:lnTo>
                  <a:lnTo>
                    <a:pt x="21874" y="-24656"/>
                  </a:lnTo>
                  <a:lnTo>
                    <a:pt x="21990" y="-24192"/>
                  </a:lnTo>
                  <a:lnTo>
                    <a:pt x="22221" y="-23845"/>
                  </a:lnTo>
                  <a:lnTo>
                    <a:pt x="22337" y="-23382"/>
                  </a:lnTo>
                  <a:lnTo>
                    <a:pt x="22568" y="-23034"/>
                  </a:lnTo>
                  <a:lnTo>
                    <a:pt x="22684" y="-22687"/>
                  </a:lnTo>
                  <a:lnTo>
                    <a:pt x="22915" y="-22224"/>
                  </a:lnTo>
                  <a:lnTo>
                    <a:pt x="23147" y="-21876"/>
                  </a:lnTo>
                  <a:lnTo>
                    <a:pt x="23263" y="-21529"/>
                  </a:lnTo>
                  <a:lnTo>
                    <a:pt x="23263" y="-21529"/>
                  </a:lnTo>
                  <a:lnTo>
                    <a:pt x="23263" y="-21181"/>
                  </a:lnTo>
                  <a:lnTo>
                    <a:pt x="23147" y="-20950"/>
                  </a:lnTo>
                  <a:lnTo>
                    <a:pt x="23031" y="-20718"/>
                  </a:lnTo>
                  <a:lnTo>
                    <a:pt x="22915" y="-20486"/>
                  </a:lnTo>
                  <a:lnTo>
                    <a:pt x="22684" y="-20371"/>
                  </a:lnTo>
                  <a:lnTo>
                    <a:pt x="22453" y="-20139"/>
                  </a:lnTo>
                  <a:lnTo>
                    <a:pt x="22221" y="-19907"/>
                  </a:lnTo>
                  <a:lnTo>
                    <a:pt x="22105" y="-19792"/>
                  </a:lnTo>
                  <a:lnTo>
                    <a:pt x="22105" y="-19792"/>
                  </a:lnTo>
                  <a:lnTo>
                    <a:pt x="20601" y="-17939"/>
                  </a:lnTo>
                  <a:lnTo>
                    <a:pt x="20601" y="-17939"/>
                  </a:lnTo>
                  <a:lnTo>
                    <a:pt x="20485" y="-17475"/>
                  </a:lnTo>
                  <a:lnTo>
                    <a:pt x="20485" y="-17012"/>
                  </a:lnTo>
                  <a:lnTo>
                    <a:pt x="20369" y="-16433"/>
                  </a:lnTo>
                  <a:lnTo>
                    <a:pt x="20254" y="-15970"/>
                  </a:lnTo>
                  <a:lnTo>
                    <a:pt x="20254" y="-15507"/>
                  </a:lnTo>
                  <a:lnTo>
                    <a:pt x="20254" y="-15043"/>
                  </a:lnTo>
                  <a:lnTo>
                    <a:pt x="20254" y="-14580"/>
                  </a:lnTo>
                  <a:lnTo>
                    <a:pt x="20369" y="-14117"/>
                  </a:lnTo>
                  <a:lnTo>
                    <a:pt x="20369" y="-14117"/>
                  </a:lnTo>
                  <a:lnTo>
                    <a:pt x="20485" y="-14117"/>
                  </a:lnTo>
                  <a:lnTo>
                    <a:pt x="20601" y="-14117"/>
                  </a:lnTo>
                  <a:lnTo>
                    <a:pt x="20832" y="-14001"/>
                  </a:lnTo>
                  <a:lnTo>
                    <a:pt x="20832" y="-13885"/>
                  </a:lnTo>
                  <a:lnTo>
                    <a:pt x="20948" y="-13769"/>
                  </a:lnTo>
                  <a:lnTo>
                    <a:pt x="21064" y="-13654"/>
                  </a:lnTo>
                  <a:lnTo>
                    <a:pt x="21179" y="-13538"/>
                  </a:lnTo>
                  <a:lnTo>
                    <a:pt x="21411" y="-13538"/>
                  </a:lnTo>
                  <a:lnTo>
                    <a:pt x="21411" y="-13538"/>
                  </a:lnTo>
                  <a:lnTo>
                    <a:pt x="23031" y="-13422"/>
                  </a:lnTo>
                  <a:lnTo>
                    <a:pt x="23031" y="-13422"/>
                  </a:lnTo>
                  <a:lnTo>
                    <a:pt x="23031" y="-13306"/>
                  </a:lnTo>
                  <a:lnTo>
                    <a:pt x="23147" y="-13190"/>
                  </a:lnTo>
                  <a:lnTo>
                    <a:pt x="23263" y="-13075"/>
                  </a:lnTo>
                  <a:lnTo>
                    <a:pt x="23378" y="-12959"/>
                  </a:lnTo>
                  <a:lnTo>
                    <a:pt x="23494" y="-12843"/>
                  </a:lnTo>
                  <a:lnTo>
                    <a:pt x="23610" y="-12611"/>
                  </a:lnTo>
                  <a:lnTo>
                    <a:pt x="23610" y="-12496"/>
                  </a:lnTo>
                  <a:lnTo>
                    <a:pt x="23726" y="-12264"/>
                  </a:lnTo>
                  <a:lnTo>
                    <a:pt x="23726" y="-12264"/>
                  </a:lnTo>
                  <a:lnTo>
                    <a:pt x="23726" y="-12032"/>
                  </a:lnTo>
                  <a:lnTo>
                    <a:pt x="23610" y="-11801"/>
                  </a:lnTo>
                  <a:lnTo>
                    <a:pt x="23494" y="-11569"/>
                  </a:lnTo>
                  <a:lnTo>
                    <a:pt x="23378" y="-11453"/>
                  </a:lnTo>
                  <a:lnTo>
                    <a:pt x="23147" y="-11222"/>
                  </a:lnTo>
                  <a:lnTo>
                    <a:pt x="22915" y="-11106"/>
                  </a:lnTo>
                  <a:lnTo>
                    <a:pt x="22684" y="-10990"/>
                  </a:lnTo>
                  <a:lnTo>
                    <a:pt x="22453" y="-10874"/>
                  </a:lnTo>
                  <a:lnTo>
                    <a:pt x="22453" y="-10874"/>
                  </a:lnTo>
                  <a:lnTo>
                    <a:pt x="21758" y="-10643"/>
                  </a:lnTo>
                  <a:lnTo>
                    <a:pt x="21179" y="-10643"/>
                  </a:lnTo>
                  <a:lnTo>
                    <a:pt x="20485" y="-10643"/>
                  </a:lnTo>
                  <a:lnTo>
                    <a:pt x="19791" y="-10758"/>
                  </a:lnTo>
                  <a:lnTo>
                    <a:pt x="19096" y="-10990"/>
                  </a:lnTo>
                  <a:lnTo>
                    <a:pt x="18518" y="-11222"/>
                  </a:lnTo>
                  <a:lnTo>
                    <a:pt x="17939" y="-11569"/>
                  </a:lnTo>
                  <a:lnTo>
                    <a:pt x="17360" y="-11917"/>
                  </a:lnTo>
                  <a:lnTo>
                    <a:pt x="17360" y="-11917"/>
                  </a:lnTo>
                  <a:lnTo>
                    <a:pt x="17013" y="-12496"/>
                  </a:lnTo>
                  <a:lnTo>
                    <a:pt x="16782" y="-13190"/>
                  </a:lnTo>
                  <a:lnTo>
                    <a:pt x="16550" y="-13769"/>
                  </a:lnTo>
                  <a:lnTo>
                    <a:pt x="16319" y="-14464"/>
                  </a:lnTo>
                  <a:lnTo>
                    <a:pt x="15972" y="-15043"/>
                  </a:lnTo>
                  <a:lnTo>
                    <a:pt x="15509" y="-15622"/>
                  </a:lnTo>
                  <a:lnTo>
                    <a:pt x="15046" y="-16086"/>
                  </a:lnTo>
                  <a:lnTo>
                    <a:pt x="14351" y="-16317"/>
                  </a:lnTo>
                  <a:lnTo>
                    <a:pt x="14351" y="-16317"/>
                  </a:lnTo>
                  <a:lnTo>
                    <a:pt x="14236" y="-16433"/>
                  </a:lnTo>
                  <a:lnTo>
                    <a:pt x="14120" y="-16549"/>
                  </a:lnTo>
                  <a:lnTo>
                    <a:pt x="14120" y="-16781"/>
                  </a:lnTo>
                  <a:lnTo>
                    <a:pt x="14004" y="-16896"/>
                  </a:lnTo>
                  <a:lnTo>
                    <a:pt x="14004" y="-17128"/>
                  </a:lnTo>
                  <a:lnTo>
                    <a:pt x="14004" y="-17244"/>
                  </a:lnTo>
                  <a:lnTo>
                    <a:pt x="14120" y="-17360"/>
                  </a:lnTo>
                  <a:lnTo>
                    <a:pt x="14120" y="-17591"/>
                  </a:lnTo>
                  <a:lnTo>
                    <a:pt x="14120" y="-17591"/>
                  </a:lnTo>
                  <a:lnTo>
                    <a:pt x="14467" y="-17939"/>
                  </a:lnTo>
                  <a:lnTo>
                    <a:pt x="14930" y="-18286"/>
                  </a:lnTo>
                  <a:lnTo>
                    <a:pt x="15393" y="-18402"/>
                  </a:lnTo>
                  <a:lnTo>
                    <a:pt x="15972" y="-18633"/>
                  </a:lnTo>
                  <a:lnTo>
                    <a:pt x="16434" y="-18749"/>
                  </a:lnTo>
                  <a:lnTo>
                    <a:pt x="17013" y="-18865"/>
                  </a:lnTo>
                  <a:lnTo>
                    <a:pt x="17476" y="-19097"/>
                  </a:lnTo>
                  <a:lnTo>
                    <a:pt x="17939" y="-19444"/>
                  </a:lnTo>
                  <a:lnTo>
                    <a:pt x="17939" y="-19444"/>
                  </a:lnTo>
                  <a:lnTo>
                    <a:pt x="18286" y="-19792"/>
                  </a:lnTo>
                  <a:lnTo>
                    <a:pt x="18633" y="-20023"/>
                  </a:lnTo>
                  <a:lnTo>
                    <a:pt x="18981" y="-20255"/>
                  </a:lnTo>
                  <a:lnTo>
                    <a:pt x="19328" y="-20602"/>
                  </a:lnTo>
                  <a:lnTo>
                    <a:pt x="19559" y="-20950"/>
                  </a:lnTo>
                  <a:lnTo>
                    <a:pt x="19791" y="-21297"/>
                  </a:lnTo>
                  <a:lnTo>
                    <a:pt x="20022" y="-21645"/>
                  </a:lnTo>
                  <a:lnTo>
                    <a:pt x="20369" y="-21992"/>
                  </a:lnTo>
                  <a:lnTo>
                    <a:pt x="20369" y="-21992"/>
                  </a:lnTo>
                  <a:lnTo>
                    <a:pt x="20138" y="-22108"/>
                  </a:lnTo>
                  <a:lnTo>
                    <a:pt x="20022" y="-22339"/>
                  </a:lnTo>
                  <a:lnTo>
                    <a:pt x="19906" y="-22571"/>
                  </a:lnTo>
                  <a:lnTo>
                    <a:pt x="19906" y="-22803"/>
                  </a:lnTo>
                  <a:lnTo>
                    <a:pt x="19791" y="-23034"/>
                  </a:lnTo>
                  <a:lnTo>
                    <a:pt x="19675" y="-23266"/>
                  </a:lnTo>
                  <a:lnTo>
                    <a:pt x="19559" y="-23382"/>
                  </a:lnTo>
                  <a:lnTo>
                    <a:pt x="19443" y="-23613"/>
                  </a:lnTo>
                  <a:lnTo>
                    <a:pt x="19443" y="-23613"/>
                  </a:lnTo>
                  <a:lnTo>
                    <a:pt x="18633" y="-23266"/>
                  </a:lnTo>
                  <a:lnTo>
                    <a:pt x="17823" y="-22918"/>
                  </a:lnTo>
                  <a:lnTo>
                    <a:pt x="17129" y="-22571"/>
                  </a:lnTo>
                  <a:lnTo>
                    <a:pt x="16319" y="-22224"/>
                  </a:lnTo>
                  <a:lnTo>
                    <a:pt x="15624" y="-21876"/>
                  </a:lnTo>
                  <a:lnTo>
                    <a:pt x="14814" y="-21529"/>
                  </a:lnTo>
                  <a:lnTo>
                    <a:pt x="14120" y="-21297"/>
                  </a:lnTo>
                  <a:lnTo>
                    <a:pt x="13194" y="-21181"/>
                  </a:lnTo>
                  <a:lnTo>
                    <a:pt x="13194" y="-21181"/>
                  </a:lnTo>
                  <a:lnTo>
                    <a:pt x="13194" y="-21297"/>
                  </a:lnTo>
                  <a:lnTo>
                    <a:pt x="13194" y="-21413"/>
                  </a:lnTo>
                  <a:lnTo>
                    <a:pt x="13078" y="-21645"/>
                  </a:lnTo>
                  <a:lnTo>
                    <a:pt x="13078" y="-21760"/>
                  </a:lnTo>
                  <a:lnTo>
                    <a:pt x="13078" y="-21876"/>
                  </a:lnTo>
                  <a:lnTo>
                    <a:pt x="13078" y="-22108"/>
                  </a:lnTo>
                  <a:lnTo>
                    <a:pt x="13078" y="-22224"/>
                  </a:lnTo>
                  <a:lnTo>
                    <a:pt x="12962" y="-22339"/>
                  </a:lnTo>
                  <a:lnTo>
                    <a:pt x="12962" y="-22339"/>
                  </a:lnTo>
                  <a:lnTo>
                    <a:pt x="12847" y="-22224"/>
                  </a:lnTo>
                  <a:lnTo>
                    <a:pt x="12731" y="-22224"/>
                  </a:lnTo>
                  <a:lnTo>
                    <a:pt x="12615" y="-22108"/>
                  </a:lnTo>
                  <a:lnTo>
                    <a:pt x="12500" y="-22108"/>
                  </a:lnTo>
                  <a:lnTo>
                    <a:pt x="12384" y="-22108"/>
                  </a:lnTo>
                  <a:lnTo>
                    <a:pt x="12268" y="-21992"/>
                  </a:lnTo>
                  <a:lnTo>
                    <a:pt x="12152" y="-22108"/>
                  </a:lnTo>
                  <a:lnTo>
                    <a:pt x="12037" y="-22108"/>
                  </a:lnTo>
                  <a:lnTo>
                    <a:pt x="12037" y="-22108"/>
                  </a:lnTo>
                  <a:lnTo>
                    <a:pt x="12037" y="-22339"/>
                  </a:lnTo>
                  <a:lnTo>
                    <a:pt x="12037" y="-22339"/>
                  </a:lnTo>
                  <a:lnTo>
                    <a:pt x="12037" y="-22455"/>
                  </a:lnTo>
                  <a:lnTo>
                    <a:pt x="11921" y="-22455"/>
                  </a:lnTo>
                  <a:lnTo>
                    <a:pt x="11805" y="-22455"/>
                  </a:lnTo>
                  <a:lnTo>
                    <a:pt x="11689" y="-22455"/>
                  </a:lnTo>
                  <a:lnTo>
                    <a:pt x="11574" y="-22339"/>
                  </a:lnTo>
                  <a:lnTo>
                    <a:pt x="11574" y="-22339"/>
                  </a:lnTo>
                  <a:lnTo>
                    <a:pt x="11458" y="-22339"/>
                  </a:lnTo>
                  <a:lnTo>
                    <a:pt x="11342" y="-22339"/>
                  </a:lnTo>
                  <a:lnTo>
                    <a:pt x="11342" y="-22339"/>
                  </a:lnTo>
                  <a:lnTo>
                    <a:pt x="11342" y="-22455"/>
                  </a:lnTo>
                  <a:lnTo>
                    <a:pt x="11342" y="-22571"/>
                  </a:lnTo>
                  <a:lnTo>
                    <a:pt x="11342" y="-22687"/>
                  </a:lnTo>
                  <a:lnTo>
                    <a:pt x="11342" y="-22803"/>
                  </a:lnTo>
                  <a:lnTo>
                    <a:pt x="11342" y="-22918"/>
                  </a:lnTo>
                  <a:lnTo>
                    <a:pt x="11342" y="-23034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226" y="-23150"/>
                  </a:lnTo>
                  <a:lnTo>
                    <a:pt x="11111" y="-23034"/>
                  </a:lnTo>
                  <a:lnTo>
                    <a:pt x="10995" y="-23034"/>
                  </a:lnTo>
                  <a:lnTo>
                    <a:pt x="10879" y="-22918"/>
                  </a:lnTo>
                  <a:lnTo>
                    <a:pt x="10648" y="-22918"/>
                  </a:lnTo>
                  <a:lnTo>
                    <a:pt x="10532" y="-22918"/>
                  </a:lnTo>
                  <a:lnTo>
                    <a:pt x="10416" y="-22918"/>
                  </a:lnTo>
                  <a:lnTo>
                    <a:pt x="10301" y="-22918"/>
                  </a:lnTo>
                  <a:lnTo>
                    <a:pt x="10301" y="-22918"/>
                  </a:lnTo>
                  <a:lnTo>
                    <a:pt x="10416" y="-24192"/>
                  </a:lnTo>
                  <a:lnTo>
                    <a:pt x="10648" y="-25350"/>
                  </a:lnTo>
                  <a:lnTo>
                    <a:pt x="10764" y="-26509"/>
                  </a:lnTo>
                  <a:lnTo>
                    <a:pt x="10879" y="-27782"/>
                  </a:lnTo>
                  <a:lnTo>
                    <a:pt x="10995" y="-28941"/>
                  </a:lnTo>
                  <a:lnTo>
                    <a:pt x="11226" y="-30099"/>
                  </a:lnTo>
                  <a:lnTo>
                    <a:pt x="11342" y="-31257"/>
                  </a:lnTo>
                  <a:lnTo>
                    <a:pt x="11574" y="-32415"/>
                  </a:lnTo>
                  <a:lnTo>
                    <a:pt x="11574" y="-32415"/>
                  </a:lnTo>
                  <a:lnTo>
                    <a:pt x="11458" y="-32531"/>
                  </a:lnTo>
                  <a:lnTo>
                    <a:pt x="11342" y="-32646"/>
                  </a:lnTo>
                  <a:lnTo>
                    <a:pt x="11111" y="-32762"/>
                  </a:lnTo>
                  <a:lnTo>
                    <a:pt x="10995" y="32658"/>
                  </a:lnTo>
                  <a:lnTo>
                    <a:pt x="10879" y="32542"/>
                  </a:lnTo>
                  <a:lnTo>
                    <a:pt x="10648" y="32426"/>
                  </a:lnTo>
                  <a:lnTo>
                    <a:pt x="10532" y="32311"/>
                  </a:lnTo>
                  <a:lnTo>
                    <a:pt x="10532" y="32195"/>
                  </a:lnTo>
                  <a:lnTo>
                    <a:pt x="10532" y="32195"/>
                  </a:lnTo>
                  <a:lnTo>
                    <a:pt x="10532" y="32542"/>
                  </a:lnTo>
                  <a:lnTo>
                    <a:pt x="10532" y="-32762"/>
                  </a:lnTo>
                  <a:lnTo>
                    <a:pt x="10648" y="-32415"/>
                  </a:lnTo>
                  <a:lnTo>
                    <a:pt x="10764" y="-32067"/>
                  </a:lnTo>
                  <a:lnTo>
                    <a:pt x="10879" y="-31720"/>
                  </a:lnTo>
                  <a:lnTo>
                    <a:pt x="10879" y="-31488"/>
                  </a:lnTo>
                  <a:lnTo>
                    <a:pt x="10879" y="-31141"/>
                  </a:lnTo>
                  <a:lnTo>
                    <a:pt x="10879" y="-30793"/>
                  </a:lnTo>
                  <a:lnTo>
                    <a:pt x="10879" y="-30793"/>
                  </a:lnTo>
                  <a:lnTo>
                    <a:pt x="10764" y="-30678"/>
                  </a:lnTo>
                  <a:lnTo>
                    <a:pt x="10648" y="-30562"/>
                  </a:lnTo>
                  <a:lnTo>
                    <a:pt x="10532" y="-30562"/>
                  </a:lnTo>
                  <a:lnTo>
                    <a:pt x="10301" y="-30446"/>
                  </a:lnTo>
                  <a:lnTo>
                    <a:pt x="10185" y="-30446"/>
                  </a:lnTo>
                  <a:lnTo>
                    <a:pt x="9953" y="-30562"/>
                  </a:lnTo>
                  <a:lnTo>
                    <a:pt x="9838" y="-30562"/>
                  </a:lnTo>
                  <a:lnTo>
                    <a:pt x="9722" y="-30678"/>
                  </a:lnTo>
                  <a:lnTo>
                    <a:pt x="9722" y="-30678"/>
                  </a:lnTo>
                  <a:lnTo>
                    <a:pt x="9491" y="-30678"/>
                  </a:lnTo>
                  <a:lnTo>
                    <a:pt x="9259" y="-30909"/>
                  </a:lnTo>
                  <a:lnTo>
                    <a:pt x="9143" y="-31025"/>
                  </a:lnTo>
                  <a:lnTo>
                    <a:pt x="9028" y="-31257"/>
                  </a:lnTo>
                  <a:lnTo>
                    <a:pt x="8912" y="-31488"/>
                  </a:lnTo>
                  <a:lnTo>
                    <a:pt x="8796" y="-31604"/>
                  </a:lnTo>
                  <a:lnTo>
                    <a:pt x="8680" y="-31836"/>
                  </a:lnTo>
                  <a:lnTo>
                    <a:pt x="8565" y="-32067"/>
                  </a:lnTo>
                  <a:lnTo>
                    <a:pt x="8565" y="-32067"/>
                  </a:lnTo>
                  <a:lnTo>
                    <a:pt x="7870" y="-31836"/>
                  </a:lnTo>
                  <a:lnTo>
                    <a:pt x="7292" y="-31604"/>
                  </a:lnTo>
                  <a:lnTo>
                    <a:pt x="6597" y="-31373"/>
                  </a:lnTo>
                  <a:lnTo>
                    <a:pt x="6019" y="-31025"/>
                  </a:lnTo>
                  <a:lnTo>
                    <a:pt x="5440" y="-30793"/>
                  </a:lnTo>
                  <a:lnTo>
                    <a:pt x="4861" y="-30562"/>
                  </a:lnTo>
                  <a:lnTo>
                    <a:pt x="4167" y="-30330"/>
                  </a:lnTo>
                  <a:lnTo>
                    <a:pt x="3588" y="-30099"/>
                  </a:lnTo>
                  <a:lnTo>
                    <a:pt x="3588" y="-30099"/>
                  </a:lnTo>
                  <a:lnTo>
                    <a:pt x="3241" y="-30099"/>
                  </a:lnTo>
                  <a:lnTo>
                    <a:pt x="2894" y="-30099"/>
                  </a:lnTo>
                  <a:lnTo>
                    <a:pt x="2547" y="-30099"/>
                  </a:lnTo>
                  <a:lnTo>
                    <a:pt x="2199" y="-30330"/>
                  </a:lnTo>
                  <a:lnTo>
                    <a:pt x="1852" y="-30446"/>
                  </a:lnTo>
                  <a:lnTo>
                    <a:pt x="1505" y="-30678"/>
                  </a:lnTo>
                  <a:lnTo>
                    <a:pt x="1274" y="-30909"/>
                  </a:lnTo>
                  <a:lnTo>
                    <a:pt x="926" y="-31141"/>
                  </a:lnTo>
                  <a:lnTo>
                    <a:pt x="926" y="-31141"/>
                  </a:lnTo>
                  <a:lnTo>
                    <a:pt x="579" y="-31720"/>
                  </a:lnTo>
                  <a:lnTo>
                    <a:pt x="232" y="-32415"/>
                  </a:lnTo>
                  <a:lnTo>
                    <a:pt x="116" y="32426"/>
                  </a:lnTo>
                  <a:lnTo>
                    <a:pt x="0" y="31731"/>
                  </a:lnTo>
                  <a:lnTo>
                    <a:pt x="0" y="31037"/>
                  </a:lnTo>
                  <a:lnTo>
                    <a:pt x="116" y="30342"/>
                  </a:lnTo>
                  <a:lnTo>
                    <a:pt x="348" y="29647"/>
                  </a:lnTo>
                  <a:lnTo>
                    <a:pt x="579" y="29068"/>
                  </a:lnTo>
                  <a:lnTo>
                    <a:pt x="579" y="29068"/>
                  </a:lnTo>
                  <a:lnTo>
                    <a:pt x="1158" y="28257"/>
                  </a:lnTo>
                  <a:lnTo>
                    <a:pt x="1968" y="27910"/>
                  </a:lnTo>
                  <a:lnTo>
                    <a:pt x="2894" y="27678"/>
                  </a:lnTo>
                  <a:lnTo>
                    <a:pt x="3820" y="27562"/>
                  </a:lnTo>
                  <a:lnTo>
                    <a:pt x="4745" y="27562"/>
                  </a:lnTo>
                  <a:lnTo>
                    <a:pt x="5671" y="27331"/>
                  </a:lnTo>
                  <a:lnTo>
                    <a:pt x="6597" y="27099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523" y="26520"/>
                  </a:lnTo>
                  <a:lnTo>
                    <a:pt x="7523" y="26520"/>
                  </a:lnTo>
                  <a:lnTo>
                    <a:pt x="7639" y="26520"/>
                  </a:lnTo>
                  <a:lnTo>
                    <a:pt x="7639" y="26520"/>
                  </a:lnTo>
                  <a:lnTo>
                    <a:pt x="7755" y="26520"/>
                  </a:lnTo>
                  <a:lnTo>
                    <a:pt x="7755" y="26520"/>
                  </a:lnTo>
                  <a:lnTo>
                    <a:pt x="7870" y="26520"/>
                  </a:lnTo>
                  <a:lnTo>
                    <a:pt x="7870" y="26520"/>
                  </a:lnTo>
                  <a:lnTo>
                    <a:pt x="7292" y="25709"/>
                  </a:lnTo>
                  <a:lnTo>
                    <a:pt x="6713" y="25014"/>
                  </a:lnTo>
                  <a:lnTo>
                    <a:pt x="6250" y="24204"/>
                  </a:lnTo>
                  <a:lnTo>
                    <a:pt x="5787" y="23393"/>
                  </a:lnTo>
                  <a:lnTo>
                    <a:pt x="5440" y="22582"/>
                  </a:lnTo>
                  <a:lnTo>
                    <a:pt x="5208" y="21772"/>
                  </a:lnTo>
                  <a:lnTo>
                    <a:pt x="5208" y="20845"/>
                  </a:lnTo>
                  <a:lnTo>
                    <a:pt x="5324" y="19919"/>
                  </a:lnTo>
                  <a:lnTo>
                    <a:pt x="5324" y="19919"/>
                  </a:lnTo>
                  <a:lnTo>
                    <a:pt x="5440" y="19571"/>
                  </a:lnTo>
                  <a:lnTo>
                    <a:pt x="5671" y="19224"/>
                  </a:lnTo>
                  <a:lnTo>
                    <a:pt x="6019" y="19108"/>
                  </a:lnTo>
                  <a:lnTo>
                    <a:pt x="6366" y="18992"/>
                  </a:lnTo>
                  <a:lnTo>
                    <a:pt x="6713" y="18877"/>
                  </a:lnTo>
                  <a:lnTo>
                    <a:pt x="7060" y="18761"/>
                  </a:lnTo>
                  <a:lnTo>
                    <a:pt x="7523" y="18761"/>
                  </a:lnTo>
                  <a:lnTo>
                    <a:pt x="7870" y="18645"/>
                  </a:lnTo>
                  <a:lnTo>
                    <a:pt x="7870" y="18645"/>
                  </a:lnTo>
                  <a:lnTo>
                    <a:pt x="8565" y="18529"/>
                  </a:lnTo>
                  <a:lnTo>
                    <a:pt x="9259" y="18529"/>
                  </a:lnTo>
                  <a:lnTo>
                    <a:pt x="9953" y="18529"/>
                  </a:lnTo>
                  <a:lnTo>
                    <a:pt x="10648" y="18645"/>
                  </a:lnTo>
                  <a:lnTo>
                    <a:pt x="11342" y="18645"/>
                  </a:lnTo>
                  <a:lnTo>
                    <a:pt x="11921" y="18877"/>
                  </a:lnTo>
                  <a:lnTo>
                    <a:pt x="12615" y="18992"/>
                  </a:lnTo>
                  <a:lnTo>
                    <a:pt x="13310" y="19108"/>
                  </a:lnTo>
                  <a:lnTo>
                    <a:pt x="13310" y="19108"/>
                  </a:lnTo>
                  <a:lnTo>
                    <a:pt x="13425" y="18992"/>
                  </a:lnTo>
                  <a:lnTo>
                    <a:pt x="13425" y="18992"/>
                  </a:lnTo>
                  <a:lnTo>
                    <a:pt x="13773" y="17139"/>
                  </a:lnTo>
                  <a:lnTo>
                    <a:pt x="14004" y="15286"/>
                  </a:lnTo>
                  <a:lnTo>
                    <a:pt x="14351" y="13434"/>
                  </a:lnTo>
                  <a:lnTo>
                    <a:pt x="14814" y="11581"/>
                  </a:lnTo>
                  <a:lnTo>
                    <a:pt x="15161" y="9728"/>
                  </a:lnTo>
                  <a:lnTo>
                    <a:pt x="15509" y="7875"/>
                  </a:lnTo>
                  <a:lnTo>
                    <a:pt x="15856" y="6138"/>
                  </a:lnTo>
                  <a:lnTo>
                    <a:pt x="16203" y="4285"/>
                  </a:lnTo>
                  <a:lnTo>
                    <a:pt x="16203" y="4285"/>
                  </a:lnTo>
                  <a:lnTo>
                    <a:pt x="16319" y="4053"/>
                  </a:lnTo>
                  <a:lnTo>
                    <a:pt x="16319" y="3821"/>
                  </a:lnTo>
                  <a:lnTo>
                    <a:pt x="16203" y="3590"/>
                  </a:lnTo>
                  <a:lnTo>
                    <a:pt x="16203" y="3358"/>
                  </a:lnTo>
                  <a:lnTo>
                    <a:pt x="16319" y="3126"/>
                  </a:lnTo>
                  <a:lnTo>
                    <a:pt x="16434" y="3011"/>
                  </a:lnTo>
                  <a:lnTo>
                    <a:pt x="16550" y="2895"/>
                  </a:lnTo>
                  <a:lnTo>
                    <a:pt x="16897" y="2895"/>
                  </a:lnTo>
                  <a:lnTo>
                    <a:pt x="16897" y="2895"/>
                  </a:lnTo>
                  <a:lnTo>
                    <a:pt x="16782" y="2663"/>
                  </a:lnTo>
                  <a:lnTo>
                    <a:pt x="16782" y="2316"/>
                  </a:lnTo>
                  <a:lnTo>
                    <a:pt x="16782" y="1968"/>
                  </a:lnTo>
                  <a:lnTo>
                    <a:pt x="16782" y="1621"/>
                  </a:lnTo>
                  <a:lnTo>
                    <a:pt x="16897" y="1389"/>
                  </a:lnTo>
                  <a:lnTo>
                    <a:pt x="17013" y="1042"/>
                  </a:lnTo>
                  <a:lnTo>
                    <a:pt x="17129" y="810"/>
                  </a:lnTo>
                  <a:lnTo>
                    <a:pt x="17360" y="579"/>
                  </a:lnTo>
                  <a:lnTo>
                    <a:pt x="17360" y="579"/>
                  </a:lnTo>
                  <a:lnTo>
                    <a:pt x="17707" y="347"/>
                  </a:lnTo>
                  <a:lnTo>
                    <a:pt x="18055" y="115"/>
                  </a:lnTo>
                  <a:lnTo>
                    <a:pt x="18518" y="0"/>
                  </a:lnTo>
                  <a:lnTo>
                    <a:pt x="18981" y="0"/>
                  </a:lnTo>
                  <a:lnTo>
                    <a:pt x="19328" y="0"/>
                  </a:lnTo>
                  <a:lnTo>
                    <a:pt x="19791" y="115"/>
                  </a:lnTo>
                  <a:lnTo>
                    <a:pt x="20138" y="347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201320" y="2932560"/>
              <a:ext cx="123840" cy="192600"/>
            </a:xfrm>
            <a:custGeom>
              <a:avLst/>
              <a:gdLst/>
              <a:ahLst/>
              <a:rect l="l" t="t" r="r" b="b"/>
              <a:pathLst>
                <a:path w="3240" h="3590">
                  <a:moveTo>
                    <a:pt x="3124" y="926"/>
                  </a:moveTo>
                  <a:lnTo>
                    <a:pt x="3124" y="1274"/>
                  </a:lnTo>
                  <a:lnTo>
                    <a:pt x="3240" y="1621"/>
                  </a:lnTo>
                  <a:lnTo>
                    <a:pt x="3240" y="1969"/>
                  </a:lnTo>
                  <a:lnTo>
                    <a:pt x="3240" y="2316"/>
                  </a:lnTo>
                  <a:lnTo>
                    <a:pt x="3240" y="2663"/>
                  </a:lnTo>
                  <a:lnTo>
                    <a:pt x="3124" y="2895"/>
                  </a:lnTo>
                  <a:lnTo>
                    <a:pt x="3009" y="3243"/>
                  </a:lnTo>
                  <a:lnTo>
                    <a:pt x="2893" y="3590"/>
                  </a:lnTo>
                  <a:lnTo>
                    <a:pt x="2893" y="3590"/>
                  </a:lnTo>
                  <a:lnTo>
                    <a:pt x="2546" y="3590"/>
                  </a:lnTo>
                  <a:lnTo>
                    <a:pt x="2546" y="3243"/>
                  </a:lnTo>
                  <a:lnTo>
                    <a:pt x="2661" y="3243"/>
                  </a:lnTo>
                  <a:lnTo>
                    <a:pt x="2661" y="3243"/>
                  </a:lnTo>
                  <a:lnTo>
                    <a:pt x="2661" y="3011"/>
                  </a:lnTo>
                  <a:lnTo>
                    <a:pt x="2777" y="2663"/>
                  </a:lnTo>
                  <a:lnTo>
                    <a:pt x="2893" y="2432"/>
                  </a:lnTo>
                  <a:lnTo>
                    <a:pt x="2893" y="2084"/>
                  </a:lnTo>
                  <a:lnTo>
                    <a:pt x="3009" y="1737"/>
                  </a:lnTo>
                  <a:lnTo>
                    <a:pt x="2893" y="1505"/>
                  </a:lnTo>
                  <a:lnTo>
                    <a:pt x="2893" y="1158"/>
                  </a:lnTo>
                  <a:lnTo>
                    <a:pt x="2777" y="926"/>
                  </a:lnTo>
                  <a:lnTo>
                    <a:pt x="2777" y="926"/>
                  </a:lnTo>
                  <a:lnTo>
                    <a:pt x="2661" y="811"/>
                  </a:lnTo>
                  <a:lnTo>
                    <a:pt x="2546" y="695"/>
                  </a:lnTo>
                  <a:lnTo>
                    <a:pt x="2430" y="579"/>
                  </a:lnTo>
                  <a:lnTo>
                    <a:pt x="2198" y="463"/>
                  </a:lnTo>
                  <a:lnTo>
                    <a:pt x="2083" y="347"/>
                  </a:lnTo>
                  <a:lnTo>
                    <a:pt x="1967" y="231"/>
                  </a:lnTo>
                  <a:lnTo>
                    <a:pt x="1851" y="231"/>
                  </a:lnTo>
                  <a:lnTo>
                    <a:pt x="1736" y="231"/>
                  </a:lnTo>
                  <a:lnTo>
                    <a:pt x="1736" y="231"/>
                  </a:lnTo>
                  <a:lnTo>
                    <a:pt x="1504" y="231"/>
                  </a:lnTo>
                  <a:lnTo>
                    <a:pt x="1273" y="347"/>
                  </a:lnTo>
                  <a:lnTo>
                    <a:pt x="1041" y="347"/>
                  </a:lnTo>
                  <a:lnTo>
                    <a:pt x="925" y="463"/>
                  </a:lnTo>
                  <a:lnTo>
                    <a:pt x="694" y="695"/>
                  </a:lnTo>
                  <a:lnTo>
                    <a:pt x="578" y="811"/>
                  </a:lnTo>
                  <a:lnTo>
                    <a:pt x="462" y="926"/>
                  </a:lnTo>
                  <a:lnTo>
                    <a:pt x="347" y="1158"/>
                  </a:lnTo>
                  <a:lnTo>
                    <a:pt x="347" y="1158"/>
                  </a:lnTo>
                  <a:lnTo>
                    <a:pt x="347" y="2432"/>
                  </a:lnTo>
                  <a:lnTo>
                    <a:pt x="347" y="2432"/>
                  </a:lnTo>
                  <a:lnTo>
                    <a:pt x="115" y="2316"/>
                  </a:lnTo>
                  <a:lnTo>
                    <a:pt x="115" y="2200"/>
                  </a:lnTo>
                  <a:lnTo>
                    <a:pt x="0" y="1969"/>
                  </a:lnTo>
                  <a:lnTo>
                    <a:pt x="0" y="1737"/>
                  </a:lnTo>
                  <a:lnTo>
                    <a:pt x="0" y="1505"/>
                  </a:lnTo>
                  <a:lnTo>
                    <a:pt x="0" y="1390"/>
                  </a:lnTo>
                  <a:lnTo>
                    <a:pt x="0" y="1158"/>
                  </a:lnTo>
                  <a:lnTo>
                    <a:pt x="115" y="926"/>
                  </a:lnTo>
                  <a:lnTo>
                    <a:pt x="115" y="926"/>
                  </a:lnTo>
                  <a:lnTo>
                    <a:pt x="347" y="579"/>
                  </a:lnTo>
                  <a:lnTo>
                    <a:pt x="694" y="231"/>
                  </a:lnTo>
                  <a:lnTo>
                    <a:pt x="1041" y="116"/>
                  </a:lnTo>
                  <a:lnTo>
                    <a:pt x="1504" y="0"/>
                  </a:lnTo>
                  <a:lnTo>
                    <a:pt x="2083" y="0"/>
                  </a:lnTo>
                  <a:lnTo>
                    <a:pt x="2430" y="231"/>
                  </a:lnTo>
                  <a:lnTo>
                    <a:pt x="2777" y="463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334160" y="2945160"/>
              <a:ext cx="70560" cy="211320"/>
            </a:xfrm>
            <a:custGeom>
              <a:avLst/>
              <a:gdLst/>
              <a:ahLst/>
              <a:rect l="l" t="t" r="r" b="b"/>
              <a:pathLst>
                <a:path w="1851" h="3938">
                  <a:moveTo>
                    <a:pt x="1851" y="1853"/>
                  </a:moveTo>
                  <a:lnTo>
                    <a:pt x="1851" y="1969"/>
                  </a:lnTo>
                  <a:lnTo>
                    <a:pt x="1851" y="2201"/>
                  </a:lnTo>
                  <a:lnTo>
                    <a:pt x="1851" y="2317"/>
                  </a:lnTo>
                  <a:lnTo>
                    <a:pt x="1736" y="2432"/>
                  </a:lnTo>
                  <a:lnTo>
                    <a:pt x="1736" y="2548"/>
                  </a:lnTo>
                  <a:lnTo>
                    <a:pt x="1736" y="2664"/>
                  </a:lnTo>
                  <a:lnTo>
                    <a:pt x="1736" y="2896"/>
                  </a:lnTo>
                  <a:lnTo>
                    <a:pt x="1736" y="3012"/>
                  </a:lnTo>
                  <a:lnTo>
                    <a:pt x="1736" y="3012"/>
                  </a:lnTo>
                  <a:lnTo>
                    <a:pt x="1620" y="3127"/>
                  </a:lnTo>
                  <a:lnTo>
                    <a:pt x="1620" y="3243"/>
                  </a:lnTo>
                  <a:lnTo>
                    <a:pt x="1504" y="3359"/>
                  </a:lnTo>
                  <a:lnTo>
                    <a:pt x="1388" y="3475"/>
                  </a:lnTo>
                  <a:lnTo>
                    <a:pt x="1273" y="3591"/>
                  </a:lnTo>
                  <a:lnTo>
                    <a:pt x="1157" y="3706"/>
                  </a:lnTo>
                  <a:lnTo>
                    <a:pt x="1041" y="3822"/>
                  </a:lnTo>
                  <a:lnTo>
                    <a:pt x="925" y="3938"/>
                  </a:lnTo>
                  <a:lnTo>
                    <a:pt x="925" y="3938"/>
                  </a:lnTo>
                  <a:lnTo>
                    <a:pt x="810" y="3938"/>
                  </a:lnTo>
                  <a:lnTo>
                    <a:pt x="810" y="3938"/>
                  </a:lnTo>
                  <a:lnTo>
                    <a:pt x="694" y="3938"/>
                  </a:lnTo>
                  <a:lnTo>
                    <a:pt x="694" y="3822"/>
                  </a:lnTo>
                  <a:lnTo>
                    <a:pt x="694" y="3822"/>
                  </a:lnTo>
                  <a:lnTo>
                    <a:pt x="694" y="3706"/>
                  </a:lnTo>
                  <a:lnTo>
                    <a:pt x="694" y="3706"/>
                  </a:lnTo>
                  <a:lnTo>
                    <a:pt x="694" y="3591"/>
                  </a:lnTo>
                  <a:lnTo>
                    <a:pt x="694" y="3591"/>
                  </a:lnTo>
                  <a:lnTo>
                    <a:pt x="925" y="3243"/>
                  </a:lnTo>
                  <a:lnTo>
                    <a:pt x="1157" y="3012"/>
                  </a:lnTo>
                  <a:lnTo>
                    <a:pt x="1273" y="2664"/>
                  </a:lnTo>
                  <a:lnTo>
                    <a:pt x="1273" y="2317"/>
                  </a:lnTo>
                  <a:lnTo>
                    <a:pt x="1273" y="1969"/>
                  </a:lnTo>
                  <a:lnTo>
                    <a:pt x="1157" y="1622"/>
                  </a:lnTo>
                  <a:lnTo>
                    <a:pt x="1041" y="1274"/>
                  </a:lnTo>
                  <a:lnTo>
                    <a:pt x="1041" y="811"/>
                  </a:lnTo>
                  <a:lnTo>
                    <a:pt x="1041" y="811"/>
                  </a:lnTo>
                  <a:lnTo>
                    <a:pt x="925" y="811"/>
                  </a:lnTo>
                  <a:lnTo>
                    <a:pt x="810" y="695"/>
                  </a:lnTo>
                  <a:lnTo>
                    <a:pt x="694" y="580"/>
                  </a:lnTo>
                  <a:lnTo>
                    <a:pt x="578" y="464"/>
                  </a:lnTo>
                  <a:lnTo>
                    <a:pt x="462" y="464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5" y="464"/>
                  </a:lnTo>
                  <a:lnTo>
                    <a:pt x="115" y="464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115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2" y="0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925" y="232"/>
                  </a:lnTo>
                  <a:lnTo>
                    <a:pt x="1041" y="232"/>
                  </a:lnTo>
                  <a:lnTo>
                    <a:pt x="1041" y="232"/>
                  </a:lnTo>
                  <a:lnTo>
                    <a:pt x="1273" y="464"/>
                  </a:lnTo>
                  <a:lnTo>
                    <a:pt x="1388" y="580"/>
                  </a:lnTo>
                  <a:lnTo>
                    <a:pt x="1504" y="811"/>
                  </a:lnTo>
                  <a:lnTo>
                    <a:pt x="1620" y="1043"/>
                  </a:lnTo>
                  <a:lnTo>
                    <a:pt x="1620" y="1159"/>
                  </a:lnTo>
                  <a:lnTo>
                    <a:pt x="1736" y="1390"/>
                  </a:lnTo>
                  <a:lnTo>
                    <a:pt x="1736" y="1622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227960" y="2970000"/>
              <a:ext cx="52920" cy="99360"/>
            </a:xfrm>
            <a:custGeom>
              <a:avLst/>
              <a:gdLst/>
              <a:ahLst/>
              <a:rect l="l" t="t" r="r" b="b"/>
              <a:pathLst>
                <a:path w="1389" h="1853">
                  <a:moveTo>
                    <a:pt x="1389" y="347"/>
                  </a:moveTo>
                  <a:lnTo>
                    <a:pt x="1157" y="579"/>
                  </a:lnTo>
                  <a:lnTo>
                    <a:pt x="1042" y="810"/>
                  </a:lnTo>
                  <a:lnTo>
                    <a:pt x="926" y="1042"/>
                  </a:lnTo>
                  <a:lnTo>
                    <a:pt x="810" y="1389"/>
                  </a:lnTo>
                  <a:lnTo>
                    <a:pt x="810" y="1621"/>
                  </a:lnTo>
                  <a:lnTo>
                    <a:pt x="694" y="1853"/>
                  </a:lnTo>
                  <a:lnTo>
                    <a:pt x="463" y="1853"/>
                  </a:lnTo>
                  <a:lnTo>
                    <a:pt x="116" y="1737"/>
                  </a:lnTo>
                  <a:lnTo>
                    <a:pt x="116" y="1737"/>
                  </a:lnTo>
                  <a:lnTo>
                    <a:pt x="0" y="1505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6" y="810"/>
                  </a:lnTo>
                  <a:lnTo>
                    <a:pt x="116" y="579"/>
                  </a:lnTo>
                  <a:lnTo>
                    <a:pt x="231" y="347"/>
                  </a:lnTo>
                  <a:lnTo>
                    <a:pt x="463" y="231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7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389" y="231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413720" y="2988720"/>
              <a:ext cx="70560" cy="192600"/>
            </a:xfrm>
            <a:custGeom>
              <a:avLst/>
              <a:gdLst/>
              <a:ahLst/>
              <a:rect l="l" t="t" r="r" b="b"/>
              <a:pathLst>
                <a:path w="1851" h="3590">
                  <a:moveTo>
                    <a:pt x="1620" y="695"/>
                  </a:moveTo>
                  <a:lnTo>
                    <a:pt x="1736" y="927"/>
                  </a:lnTo>
                  <a:lnTo>
                    <a:pt x="1736" y="1158"/>
                  </a:lnTo>
                  <a:lnTo>
                    <a:pt x="1851" y="1390"/>
                  </a:lnTo>
                  <a:lnTo>
                    <a:pt x="1851" y="1621"/>
                  </a:lnTo>
                  <a:lnTo>
                    <a:pt x="1851" y="1853"/>
                  </a:lnTo>
                  <a:lnTo>
                    <a:pt x="1851" y="2085"/>
                  </a:lnTo>
                  <a:lnTo>
                    <a:pt x="1851" y="2316"/>
                  </a:lnTo>
                  <a:lnTo>
                    <a:pt x="1736" y="2432"/>
                  </a:lnTo>
                  <a:lnTo>
                    <a:pt x="1736" y="2432"/>
                  </a:lnTo>
                  <a:lnTo>
                    <a:pt x="1736" y="2664"/>
                  </a:lnTo>
                  <a:lnTo>
                    <a:pt x="1620" y="2780"/>
                  </a:lnTo>
                  <a:lnTo>
                    <a:pt x="1504" y="2895"/>
                  </a:lnTo>
                  <a:lnTo>
                    <a:pt x="1388" y="3127"/>
                  </a:lnTo>
                  <a:lnTo>
                    <a:pt x="1273" y="3243"/>
                  </a:lnTo>
                  <a:lnTo>
                    <a:pt x="1157" y="3359"/>
                  </a:lnTo>
                  <a:lnTo>
                    <a:pt x="1041" y="3474"/>
                  </a:lnTo>
                  <a:lnTo>
                    <a:pt x="926" y="3590"/>
                  </a:lnTo>
                  <a:lnTo>
                    <a:pt x="926" y="3590"/>
                  </a:lnTo>
                  <a:lnTo>
                    <a:pt x="810" y="3590"/>
                  </a:lnTo>
                  <a:lnTo>
                    <a:pt x="694" y="3590"/>
                  </a:lnTo>
                  <a:lnTo>
                    <a:pt x="694" y="3474"/>
                  </a:lnTo>
                  <a:lnTo>
                    <a:pt x="578" y="3474"/>
                  </a:lnTo>
                  <a:lnTo>
                    <a:pt x="578" y="3359"/>
                  </a:lnTo>
                  <a:lnTo>
                    <a:pt x="578" y="3359"/>
                  </a:lnTo>
                  <a:lnTo>
                    <a:pt x="578" y="3243"/>
                  </a:lnTo>
                  <a:lnTo>
                    <a:pt x="578" y="3127"/>
                  </a:lnTo>
                  <a:lnTo>
                    <a:pt x="578" y="3127"/>
                  </a:lnTo>
                  <a:lnTo>
                    <a:pt x="694" y="3127"/>
                  </a:lnTo>
                  <a:lnTo>
                    <a:pt x="810" y="3011"/>
                  </a:lnTo>
                  <a:lnTo>
                    <a:pt x="926" y="2895"/>
                  </a:lnTo>
                  <a:lnTo>
                    <a:pt x="1041" y="2780"/>
                  </a:lnTo>
                  <a:lnTo>
                    <a:pt x="1041" y="2664"/>
                  </a:lnTo>
                  <a:lnTo>
                    <a:pt x="1157" y="2432"/>
                  </a:lnTo>
                  <a:lnTo>
                    <a:pt x="1157" y="2316"/>
                  </a:lnTo>
                  <a:lnTo>
                    <a:pt x="1157" y="2201"/>
                  </a:lnTo>
                  <a:lnTo>
                    <a:pt x="1157" y="2201"/>
                  </a:lnTo>
                  <a:lnTo>
                    <a:pt x="1157" y="1969"/>
                  </a:lnTo>
                  <a:lnTo>
                    <a:pt x="1157" y="1621"/>
                  </a:lnTo>
                  <a:lnTo>
                    <a:pt x="1157" y="1390"/>
                  </a:lnTo>
                  <a:lnTo>
                    <a:pt x="1041" y="1042"/>
                  </a:lnTo>
                  <a:lnTo>
                    <a:pt x="926" y="811"/>
                  </a:lnTo>
                  <a:lnTo>
                    <a:pt x="810" y="579"/>
                  </a:lnTo>
                  <a:lnTo>
                    <a:pt x="578" y="348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231" y="232"/>
                  </a:lnTo>
                  <a:lnTo>
                    <a:pt x="231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6"/>
                  </a:lnTo>
                  <a:lnTo>
                    <a:pt x="1273" y="232"/>
                  </a:lnTo>
                  <a:lnTo>
                    <a:pt x="1504" y="463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493280" y="3013560"/>
              <a:ext cx="61920" cy="186480"/>
            </a:xfrm>
            <a:custGeom>
              <a:avLst/>
              <a:gdLst/>
              <a:ahLst/>
              <a:rect l="l" t="t" r="r" b="b"/>
              <a:pathLst>
                <a:path w="1620" h="3475">
                  <a:moveTo>
                    <a:pt x="1620" y="1390"/>
                  </a:moveTo>
                  <a:lnTo>
                    <a:pt x="1620" y="1622"/>
                  </a:lnTo>
                  <a:lnTo>
                    <a:pt x="1620" y="1853"/>
                  </a:lnTo>
                  <a:lnTo>
                    <a:pt x="1620" y="2085"/>
                  </a:lnTo>
                  <a:lnTo>
                    <a:pt x="1620" y="2317"/>
                  </a:lnTo>
                  <a:lnTo>
                    <a:pt x="1620" y="2432"/>
                  </a:lnTo>
                  <a:lnTo>
                    <a:pt x="1620" y="2664"/>
                  </a:lnTo>
                  <a:lnTo>
                    <a:pt x="1504" y="2896"/>
                  </a:lnTo>
                  <a:lnTo>
                    <a:pt x="1389" y="3011"/>
                  </a:lnTo>
                  <a:lnTo>
                    <a:pt x="1389" y="3011"/>
                  </a:lnTo>
                  <a:lnTo>
                    <a:pt x="1273" y="3127"/>
                  </a:lnTo>
                  <a:lnTo>
                    <a:pt x="1157" y="3127"/>
                  </a:lnTo>
                  <a:lnTo>
                    <a:pt x="1041" y="3243"/>
                  </a:lnTo>
                  <a:lnTo>
                    <a:pt x="1041" y="3359"/>
                  </a:lnTo>
                  <a:lnTo>
                    <a:pt x="926" y="3475"/>
                  </a:lnTo>
                  <a:lnTo>
                    <a:pt x="926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694" y="3359"/>
                  </a:lnTo>
                  <a:lnTo>
                    <a:pt x="694" y="3243"/>
                  </a:lnTo>
                  <a:lnTo>
                    <a:pt x="810" y="3127"/>
                  </a:lnTo>
                  <a:lnTo>
                    <a:pt x="810" y="3011"/>
                  </a:lnTo>
                  <a:lnTo>
                    <a:pt x="926" y="2896"/>
                  </a:lnTo>
                  <a:lnTo>
                    <a:pt x="1041" y="2780"/>
                  </a:lnTo>
                  <a:lnTo>
                    <a:pt x="1157" y="2664"/>
                  </a:lnTo>
                  <a:lnTo>
                    <a:pt x="1273" y="2548"/>
                  </a:lnTo>
                  <a:lnTo>
                    <a:pt x="1273" y="2432"/>
                  </a:lnTo>
                  <a:lnTo>
                    <a:pt x="1273" y="2432"/>
                  </a:lnTo>
                  <a:lnTo>
                    <a:pt x="1389" y="2085"/>
                  </a:lnTo>
                  <a:lnTo>
                    <a:pt x="1389" y="1853"/>
                  </a:lnTo>
                  <a:lnTo>
                    <a:pt x="1273" y="1506"/>
                  </a:lnTo>
                  <a:lnTo>
                    <a:pt x="1157" y="1274"/>
                  </a:lnTo>
                  <a:lnTo>
                    <a:pt x="1041" y="1043"/>
                  </a:lnTo>
                  <a:lnTo>
                    <a:pt x="810" y="811"/>
                  </a:lnTo>
                  <a:lnTo>
                    <a:pt x="579" y="579"/>
                  </a:lnTo>
                  <a:lnTo>
                    <a:pt x="347" y="348"/>
                  </a:lnTo>
                  <a:lnTo>
                    <a:pt x="347" y="348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6" y="348"/>
                  </a:lnTo>
                  <a:lnTo>
                    <a:pt x="116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463" y="0"/>
                  </a:lnTo>
                  <a:lnTo>
                    <a:pt x="694" y="116"/>
                  </a:lnTo>
                  <a:lnTo>
                    <a:pt x="926" y="348"/>
                  </a:lnTo>
                  <a:lnTo>
                    <a:pt x="1041" y="464"/>
                  </a:lnTo>
                  <a:lnTo>
                    <a:pt x="1273" y="695"/>
                  </a:lnTo>
                  <a:lnTo>
                    <a:pt x="1389" y="927"/>
                  </a:lnTo>
                  <a:lnTo>
                    <a:pt x="1504" y="1158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59520" y="3025800"/>
              <a:ext cx="79560" cy="192600"/>
            </a:xfrm>
            <a:custGeom>
              <a:avLst/>
              <a:gdLst/>
              <a:ahLst/>
              <a:rect l="l" t="t" r="r" b="b"/>
              <a:pathLst>
                <a:path w="2083" h="3590">
                  <a:moveTo>
                    <a:pt x="2083" y="1390"/>
                  </a:moveTo>
                  <a:lnTo>
                    <a:pt x="2083" y="1737"/>
                  </a:lnTo>
                  <a:lnTo>
                    <a:pt x="2083" y="1969"/>
                  </a:lnTo>
                  <a:lnTo>
                    <a:pt x="2083" y="2200"/>
                  </a:lnTo>
                  <a:lnTo>
                    <a:pt x="2083" y="2548"/>
                  </a:lnTo>
                  <a:lnTo>
                    <a:pt x="1967" y="2779"/>
                  </a:lnTo>
                  <a:lnTo>
                    <a:pt x="1967" y="3011"/>
                  </a:lnTo>
                  <a:lnTo>
                    <a:pt x="1852" y="3243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504" y="3474"/>
                  </a:lnTo>
                  <a:lnTo>
                    <a:pt x="1389" y="3474"/>
                  </a:lnTo>
                  <a:lnTo>
                    <a:pt x="1273" y="3590"/>
                  </a:lnTo>
                  <a:lnTo>
                    <a:pt x="1273" y="3590"/>
                  </a:lnTo>
                  <a:lnTo>
                    <a:pt x="1157" y="3590"/>
                  </a:lnTo>
                  <a:lnTo>
                    <a:pt x="1041" y="3590"/>
                  </a:lnTo>
                  <a:lnTo>
                    <a:pt x="1041" y="3474"/>
                  </a:lnTo>
                  <a:lnTo>
                    <a:pt x="1041" y="3474"/>
                  </a:lnTo>
                  <a:lnTo>
                    <a:pt x="1157" y="3358"/>
                  </a:lnTo>
                  <a:lnTo>
                    <a:pt x="1273" y="3243"/>
                  </a:lnTo>
                  <a:lnTo>
                    <a:pt x="1389" y="3011"/>
                  </a:lnTo>
                  <a:lnTo>
                    <a:pt x="1504" y="2895"/>
                  </a:lnTo>
                  <a:lnTo>
                    <a:pt x="1504" y="2664"/>
                  </a:lnTo>
                  <a:lnTo>
                    <a:pt x="1620" y="2432"/>
                  </a:lnTo>
                  <a:lnTo>
                    <a:pt x="1620" y="2200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620" y="1621"/>
                  </a:lnTo>
                  <a:lnTo>
                    <a:pt x="1504" y="1390"/>
                  </a:lnTo>
                  <a:lnTo>
                    <a:pt x="1389" y="1274"/>
                  </a:lnTo>
                  <a:lnTo>
                    <a:pt x="1273" y="1042"/>
                  </a:lnTo>
                  <a:lnTo>
                    <a:pt x="1157" y="811"/>
                  </a:lnTo>
                  <a:lnTo>
                    <a:pt x="1041" y="695"/>
                  </a:lnTo>
                  <a:lnTo>
                    <a:pt x="810" y="463"/>
                  </a:lnTo>
                  <a:lnTo>
                    <a:pt x="810" y="463"/>
                  </a:lnTo>
                  <a:lnTo>
                    <a:pt x="694" y="463"/>
                  </a:lnTo>
                  <a:lnTo>
                    <a:pt x="579" y="347"/>
                  </a:lnTo>
                  <a:lnTo>
                    <a:pt x="463" y="347"/>
                  </a:lnTo>
                  <a:lnTo>
                    <a:pt x="347" y="463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347" y="0"/>
                  </a:lnTo>
                  <a:lnTo>
                    <a:pt x="579" y="0"/>
                  </a:lnTo>
                  <a:lnTo>
                    <a:pt x="926" y="116"/>
                  </a:lnTo>
                  <a:lnTo>
                    <a:pt x="1157" y="347"/>
                  </a:lnTo>
                  <a:lnTo>
                    <a:pt x="1389" y="579"/>
                  </a:lnTo>
                  <a:lnTo>
                    <a:pt x="1620" y="811"/>
                  </a:lnTo>
                  <a:lnTo>
                    <a:pt x="1852" y="1158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630440" y="3032280"/>
              <a:ext cx="74880" cy="173880"/>
            </a:xfrm>
            <a:custGeom>
              <a:avLst/>
              <a:gdLst/>
              <a:ahLst/>
              <a:rect l="l" t="t" r="r" b="b"/>
              <a:pathLst>
                <a:path w="1967" h="3242">
                  <a:moveTo>
                    <a:pt x="1388" y="463"/>
                  </a:moveTo>
                  <a:lnTo>
                    <a:pt x="1620" y="695"/>
                  </a:lnTo>
                  <a:lnTo>
                    <a:pt x="1736" y="810"/>
                  </a:lnTo>
                  <a:lnTo>
                    <a:pt x="1851" y="1042"/>
                  </a:lnTo>
                  <a:lnTo>
                    <a:pt x="1967" y="1274"/>
                  </a:lnTo>
                  <a:lnTo>
                    <a:pt x="1967" y="1621"/>
                  </a:lnTo>
                  <a:lnTo>
                    <a:pt x="1967" y="1853"/>
                  </a:lnTo>
                  <a:lnTo>
                    <a:pt x="1967" y="2084"/>
                  </a:lnTo>
                  <a:lnTo>
                    <a:pt x="1967" y="2316"/>
                  </a:lnTo>
                  <a:lnTo>
                    <a:pt x="1967" y="2316"/>
                  </a:lnTo>
                  <a:lnTo>
                    <a:pt x="1851" y="2548"/>
                  </a:lnTo>
                  <a:lnTo>
                    <a:pt x="1851" y="2663"/>
                  </a:lnTo>
                  <a:lnTo>
                    <a:pt x="1736" y="2779"/>
                  </a:lnTo>
                  <a:lnTo>
                    <a:pt x="1620" y="2895"/>
                  </a:lnTo>
                  <a:lnTo>
                    <a:pt x="1620" y="3011"/>
                  </a:lnTo>
                  <a:lnTo>
                    <a:pt x="1504" y="3127"/>
                  </a:lnTo>
                  <a:lnTo>
                    <a:pt x="1388" y="3242"/>
                  </a:lnTo>
                  <a:lnTo>
                    <a:pt x="1273" y="3242"/>
                  </a:lnTo>
                  <a:lnTo>
                    <a:pt x="1273" y="3242"/>
                  </a:lnTo>
                  <a:lnTo>
                    <a:pt x="1273" y="3011"/>
                  </a:lnTo>
                  <a:lnTo>
                    <a:pt x="1388" y="2663"/>
                  </a:lnTo>
                  <a:lnTo>
                    <a:pt x="1504" y="2316"/>
                  </a:lnTo>
                  <a:lnTo>
                    <a:pt x="1620" y="1969"/>
                  </a:lnTo>
                  <a:lnTo>
                    <a:pt x="1620" y="1621"/>
                  </a:lnTo>
                  <a:lnTo>
                    <a:pt x="1620" y="1274"/>
                  </a:lnTo>
                  <a:lnTo>
                    <a:pt x="1504" y="926"/>
                  </a:lnTo>
                  <a:lnTo>
                    <a:pt x="1273" y="695"/>
                  </a:lnTo>
                  <a:lnTo>
                    <a:pt x="1273" y="695"/>
                  </a:lnTo>
                  <a:lnTo>
                    <a:pt x="1157" y="579"/>
                  </a:lnTo>
                  <a:lnTo>
                    <a:pt x="925" y="579"/>
                  </a:lnTo>
                  <a:lnTo>
                    <a:pt x="810" y="463"/>
                  </a:lnTo>
                  <a:lnTo>
                    <a:pt x="578" y="463"/>
                  </a:lnTo>
                  <a:lnTo>
                    <a:pt x="463" y="463"/>
                  </a:lnTo>
                  <a:lnTo>
                    <a:pt x="231" y="463"/>
                  </a:lnTo>
                  <a:lnTo>
                    <a:pt x="115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231" y="116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925" y="116"/>
                  </a:lnTo>
                  <a:lnTo>
                    <a:pt x="1157" y="231"/>
                  </a:lnTo>
                  <a:lnTo>
                    <a:pt x="1273" y="347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719000" y="3069360"/>
              <a:ext cx="57240" cy="167760"/>
            </a:xfrm>
            <a:custGeom>
              <a:avLst/>
              <a:gdLst/>
              <a:ahLst/>
              <a:rect l="l" t="t" r="r" b="b"/>
              <a:pathLst>
                <a:path w="1505" h="3127">
                  <a:moveTo>
                    <a:pt x="1505" y="1158"/>
                  </a:moveTo>
                  <a:lnTo>
                    <a:pt x="1505" y="1389"/>
                  </a:lnTo>
                  <a:lnTo>
                    <a:pt x="1505" y="1737"/>
                  </a:lnTo>
                  <a:lnTo>
                    <a:pt x="1505" y="1968"/>
                  </a:lnTo>
                  <a:lnTo>
                    <a:pt x="1389" y="2316"/>
                  </a:lnTo>
                  <a:lnTo>
                    <a:pt x="1273" y="2547"/>
                  </a:lnTo>
                  <a:lnTo>
                    <a:pt x="1158" y="2779"/>
                  </a:lnTo>
                  <a:lnTo>
                    <a:pt x="926" y="2895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2895"/>
                  </a:lnTo>
                  <a:lnTo>
                    <a:pt x="695" y="2779"/>
                  </a:lnTo>
                  <a:lnTo>
                    <a:pt x="810" y="2663"/>
                  </a:lnTo>
                  <a:lnTo>
                    <a:pt x="810" y="2432"/>
                  </a:lnTo>
                  <a:lnTo>
                    <a:pt x="926" y="2316"/>
                  </a:lnTo>
                  <a:lnTo>
                    <a:pt x="926" y="2200"/>
                  </a:lnTo>
                  <a:lnTo>
                    <a:pt x="1042" y="1968"/>
                  </a:lnTo>
                  <a:lnTo>
                    <a:pt x="1042" y="1737"/>
                  </a:lnTo>
                  <a:lnTo>
                    <a:pt x="1042" y="1737"/>
                  </a:lnTo>
                  <a:lnTo>
                    <a:pt x="1042" y="1621"/>
                  </a:lnTo>
                  <a:lnTo>
                    <a:pt x="1042" y="1389"/>
                  </a:lnTo>
                  <a:lnTo>
                    <a:pt x="926" y="1158"/>
                  </a:lnTo>
                  <a:lnTo>
                    <a:pt x="926" y="926"/>
                  </a:lnTo>
                  <a:lnTo>
                    <a:pt x="926" y="810"/>
                  </a:lnTo>
                  <a:lnTo>
                    <a:pt x="810" y="695"/>
                  </a:lnTo>
                  <a:lnTo>
                    <a:pt x="579" y="463"/>
                  </a:lnTo>
                  <a:lnTo>
                    <a:pt x="463" y="347"/>
                  </a:lnTo>
                  <a:lnTo>
                    <a:pt x="463" y="347"/>
                  </a:lnTo>
                  <a:lnTo>
                    <a:pt x="347" y="347"/>
                  </a:lnTo>
                  <a:lnTo>
                    <a:pt x="232" y="347"/>
                  </a:lnTo>
                  <a:lnTo>
                    <a:pt x="232" y="347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2" y="0"/>
                  </a:lnTo>
                  <a:lnTo>
                    <a:pt x="232" y="0"/>
                  </a:lnTo>
                  <a:lnTo>
                    <a:pt x="463" y="0"/>
                  </a:lnTo>
                  <a:lnTo>
                    <a:pt x="695" y="115"/>
                  </a:lnTo>
                  <a:lnTo>
                    <a:pt x="926" y="231"/>
                  </a:lnTo>
                  <a:lnTo>
                    <a:pt x="1042" y="347"/>
                  </a:lnTo>
                  <a:lnTo>
                    <a:pt x="1158" y="579"/>
                  </a:lnTo>
                  <a:lnTo>
                    <a:pt x="1273" y="695"/>
                  </a:lnTo>
                  <a:lnTo>
                    <a:pt x="1389" y="926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130400" y="3088080"/>
              <a:ext cx="911160" cy="1181160"/>
            </a:xfrm>
            <a:custGeom>
              <a:avLst/>
              <a:gdLst/>
              <a:ahLst/>
              <a:rect l="l" t="t" r="r" b="b"/>
              <a:pathLst>
                <a:path w="23841" h="22004">
                  <a:moveTo>
                    <a:pt x="4050" y="116"/>
                  </a:moveTo>
                  <a:lnTo>
                    <a:pt x="4050" y="232"/>
                  </a:lnTo>
                  <a:lnTo>
                    <a:pt x="3935" y="348"/>
                  </a:lnTo>
                  <a:lnTo>
                    <a:pt x="3935" y="463"/>
                  </a:lnTo>
                  <a:lnTo>
                    <a:pt x="3935" y="579"/>
                  </a:lnTo>
                  <a:lnTo>
                    <a:pt x="3935" y="695"/>
                  </a:lnTo>
                  <a:lnTo>
                    <a:pt x="3935" y="811"/>
                  </a:lnTo>
                  <a:lnTo>
                    <a:pt x="4050" y="927"/>
                  </a:lnTo>
                  <a:lnTo>
                    <a:pt x="4050" y="1042"/>
                  </a:lnTo>
                  <a:lnTo>
                    <a:pt x="4050" y="1042"/>
                  </a:lnTo>
                  <a:lnTo>
                    <a:pt x="4166" y="1158"/>
                  </a:lnTo>
                  <a:lnTo>
                    <a:pt x="4166" y="1274"/>
                  </a:lnTo>
                  <a:lnTo>
                    <a:pt x="4282" y="1274"/>
                  </a:lnTo>
                  <a:lnTo>
                    <a:pt x="4398" y="1274"/>
                  </a:lnTo>
                  <a:lnTo>
                    <a:pt x="4398" y="1274"/>
                  </a:lnTo>
                  <a:lnTo>
                    <a:pt x="4513" y="1274"/>
                  </a:lnTo>
                  <a:lnTo>
                    <a:pt x="4629" y="1274"/>
                  </a:lnTo>
                  <a:lnTo>
                    <a:pt x="4745" y="1274"/>
                  </a:lnTo>
                  <a:lnTo>
                    <a:pt x="4745" y="1274"/>
                  </a:lnTo>
                  <a:lnTo>
                    <a:pt x="4861" y="1158"/>
                  </a:lnTo>
                  <a:lnTo>
                    <a:pt x="4976" y="1042"/>
                  </a:lnTo>
                  <a:lnTo>
                    <a:pt x="5092" y="927"/>
                  </a:lnTo>
                  <a:lnTo>
                    <a:pt x="5208" y="695"/>
                  </a:lnTo>
                  <a:lnTo>
                    <a:pt x="5324" y="579"/>
                  </a:lnTo>
                  <a:lnTo>
                    <a:pt x="5439" y="463"/>
                  </a:lnTo>
                  <a:lnTo>
                    <a:pt x="5439" y="348"/>
                  </a:lnTo>
                  <a:lnTo>
                    <a:pt x="5439" y="116"/>
                  </a:lnTo>
                  <a:lnTo>
                    <a:pt x="5439" y="116"/>
                  </a:lnTo>
                  <a:lnTo>
                    <a:pt x="5786" y="232"/>
                  </a:lnTo>
                  <a:lnTo>
                    <a:pt x="5786" y="232"/>
                  </a:lnTo>
                  <a:lnTo>
                    <a:pt x="5671" y="348"/>
                  </a:lnTo>
                  <a:lnTo>
                    <a:pt x="5439" y="463"/>
                  </a:lnTo>
                  <a:lnTo>
                    <a:pt x="5439" y="579"/>
                  </a:lnTo>
                  <a:lnTo>
                    <a:pt x="5324" y="811"/>
                  </a:lnTo>
                  <a:lnTo>
                    <a:pt x="5324" y="927"/>
                  </a:lnTo>
                  <a:lnTo>
                    <a:pt x="5324" y="1158"/>
                  </a:lnTo>
                  <a:lnTo>
                    <a:pt x="5439" y="1390"/>
                  </a:lnTo>
                  <a:lnTo>
                    <a:pt x="5439" y="1506"/>
                  </a:lnTo>
                  <a:lnTo>
                    <a:pt x="5439" y="1506"/>
                  </a:lnTo>
                  <a:lnTo>
                    <a:pt x="5555" y="1737"/>
                  </a:lnTo>
                  <a:lnTo>
                    <a:pt x="5671" y="1737"/>
                  </a:lnTo>
                  <a:lnTo>
                    <a:pt x="5786" y="1853"/>
                  </a:lnTo>
                  <a:lnTo>
                    <a:pt x="5902" y="1853"/>
                  </a:lnTo>
                  <a:lnTo>
                    <a:pt x="6018" y="1853"/>
                  </a:lnTo>
                  <a:lnTo>
                    <a:pt x="6249" y="1853"/>
                  </a:lnTo>
                  <a:lnTo>
                    <a:pt x="6365" y="1853"/>
                  </a:lnTo>
                  <a:lnTo>
                    <a:pt x="6481" y="1737"/>
                  </a:lnTo>
                  <a:lnTo>
                    <a:pt x="6481" y="1737"/>
                  </a:lnTo>
                  <a:lnTo>
                    <a:pt x="6712" y="1737"/>
                  </a:lnTo>
                  <a:lnTo>
                    <a:pt x="6828" y="1621"/>
                  </a:lnTo>
                  <a:lnTo>
                    <a:pt x="6944" y="1390"/>
                  </a:lnTo>
                  <a:lnTo>
                    <a:pt x="7060" y="1274"/>
                  </a:lnTo>
                  <a:lnTo>
                    <a:pt x="7175" y="1042"/>
                  </a:lnTo>
                  <a:lnTo>
                    <a:pt x="7291" y="927"/>
                  </a:lnTo>
                  <a:lnTo>
                    <a:pt x="7291" y="695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638" y="695"/>
                  </a:lnTo>
                  <a:lnTo>
                    <a:pt x="7522" y="811"/>
                  </a:lnTo>
                  <a:lnTo>
                    <a:pt x="7407" y="1042"/>
                  </a:lnTo>
                  <a:lnTo>
                    <a:pt x="7407" y="1158"/>
                  </a:lnTo>
                  <a:lnTo>
                    <a:pt x="7291" y="1274"/>
                  </a:lnTo>
                  <a:lnTo>
                    <a:pt x="7291" y="1390"/>
                  </a:lnTo>
                  <a:lnTo>
                    <a:pt x="7291" y="1506"/>
                  </a:lnTo>
                  <a:lnTo>
                    <a:pt x="7291" y="1621"/>
                  </a:lnTo>
                  <a:lnTo>
                    <a:pt x="7291" y="1621"/>
                  </a:lnTo>
                  <a:lnTo>
                    <a:pt x="7407" y="1737"/>
                  </a:lnTo>
                  <a:lnTo>
                    <a:pt x="7407" y="1969"/>
                  </a:lnTo>
                  <a:lnTo>
                    <a:pt x="7407" y="2085"/>
                  </a:lnTo>
                  <a:lnTo>
                    <a:pt x="7522" y="2200"/>
                  </a:lnTo>
                  <a:lnTo>
                    <a:pt x="7522" y="2316"/>
                  </a:lnTo>
                  <a:lnTo>
                    <a:pt x="7638" y="2316"/>
                  </a:lnTo>
                  <a:lnTo>
                    <a:pt x="7754" y="2432"/>
                  </a:lnTo>
                  <a:lnTo>
                    <a:pt x="7870" y="2432"/>
                  </a:lnTo>
                  <a:lnTo>
                    <a:pt x="7870" y="2432"/>
                  </a:lnTo>
                  <a:lnTo>
                    <a:pt x="8101" y="2432"/>
                  </a:lnTo>
                  <a:lnTo>
                    <a:pt x="8217" y="2432"/>
                  </a:lnTo>
                  <a:lnTo>
                    <a:pt x="8333" y="2316"/>
                  </a:lnTo>
                  <a:lnTo>
                    <a:pt x="8448" y="2200"/>
                  </a:lnTo>
                  <a:lnTo>
                    <a:pt x="8564" y="2200"/>
                  </a:lnTo>
                  <a:lnTo>
                    <a:pt x="8564" y="2085"/>
                  </a:lnTo>
                  <a:lnTo>
                    <a:pt x="8680" y="1969"/>
                  </a:lnTo>
                  <a:lnTo>
                    <a:pt x="8911" y="1969"/>
                  </a:lnTo>
                  <a:lnTo>
                    <a:pt x="8911" y="1969"/>
                  </a:lnTo>
                  <a:lnTo>
                    <a:pt x="8911" y="1853"/>
                  </a:lnTo>
                  <a:lnTo>
                    <a:pt x="8911" y="1737"/>
                  </a:lnTo>
                  <a:lnTo>
                    <a:pt x="9027" y="1737"/>
                  </a:lnTo>
                  <a:lnTo>
                    <a:pt x="9143" y="1621"/>
                  </a:lnTo>
                  <a:lnTo>
                    <a:pt x="9258" y="1506"/>
                  </a:lnTo>
                  <a:lnTo>
                    <a:pt x="9374" y="1390"/>
                  </a:lnTo>
                  <a:lnTo>
                    <a:pt x="9374" y="1274"/>
                  </a:lnTo>
                  <a:lnTo>
                    <a:pt x="9490" y="1158"/>
                  </a:lnTo>
                  <a:lnTo>
                    <a:pt x="9490" y="1158"/>
                  </a:lnTo>
                  <a:lnTo>
                    <a:pt x="9837" y="1274"/>
                  </a:lnTo>
                  <a:lnTo>
                    <a:pt x="9837" y="1274"/>
                  </a:lnTo>
                  <a:lnTo>
                    <a:pt x="9837" y="1390"/>
                  </a:lnTo>
                  <a:lnTo>
                    <a:pt x="9721" y="1621"/>
                  </a:lnTo>
                  <a:lnTo>
                    <a:pt x="9721" y="1853"/>
                  </a:lnTo>
                  <a:lnTo>
                    <a:pt x="9606" y="2085"/>
                  </a:lnTo>
                  <a:lnTo>
                    <a:pt x="9606" y="2200"/>
                  </a:lnTo>
                  <a:lnTo>
                    <a:pt x="9721" y="2432"/>
                  </a:lnTo>
                  <a:lnTo>
                    <a:pt x="9721" y="2664"/>
                  </a:lnTo>
                  <a:lnTo>
                    <a:pt x="9953" y="2780"/>
                  </a:lnTo>
                  <a:lnTo>
                    <a:pt x="9953" y="2780"/>
                  </a:lnTo>
                  <a:lnTo>
                    <a:pt x="10069" y="2780"/>
                  </a:lnTo>
                  <a:lnTo>
                    <a:pt x="10184" y="2780"/>
                  </a:lnTo>
                  <a:lnTo>
                    <a:pt x="10300" y="2780"/>
                  </a:lnTo>
                  <a:lnTo>
                    <a:pt x="10531" y="2780"/>
                  </a:lnTo>
                  <a:lnTo>
                    <a:pt x="10647" y="2780"/>
                  </a:lnTo>
                  <a:lnTo>
                    <a:pt x="10763" y="2664"/>
                  </a:lnTo>
                  <a:lnTo>
                    <a:pt x="10763" y="2548"/>
                  </a:lnTo>
                  <a:lnTo>
                    <a:pt x="10879" y="2432"/>
                  </a:lnTo>
                  <a:lnTo>
                    <a:pt x="10879" y="2432"/>
                  </a:lnTo>
                  <a:lnTo>
                    <a:pt x="10763" y="2432"/>
                  </a:lnTo>
                  <a:lnTo>
                    <a:pt x="10763" y="2432"/>
                  </a:lnTo>
                  <a:lnTo>
                    <a:pt x="10994" y="2316"/>
                  </a:lnTo>
                  <a:lnTo>
                    <a:pt x="11110" y="2200"/>
                  </a:lnTo>
                  <a:lnTo>
                    <a:pt x="11226" y="1969"/>
                  </a:lnTo>
                  <a:lnTo>
                    <a:pt x="11342" y="1737"/>
                  </a:lnTo>
                  <a:lnTo>
                    <a:pt x="11457" y="1506"/>
                  </a:lnTo>
                  <a:lnTo>
                    <a:pt x="11689" y="1506"/>
                  </a:lnTo>
                  <a:lnTo>
                    <a:pt x="11805" y="1506"/>
                  </a:lnTo>
                  <a:lnTo>
                    <a:pt x="12036" y="1621"/>
                  </a:lnTo>
                  <a:lnTo>
                    <a:pt x="12036" y="1621"/>
                  </a:lnTo>
                  <a:lnTo>
                    <a:pt x="12036" y="1737"/>
                  </a:lnTo>
                  <a:lnTo>
                    <a:pt x="11920" y="1969"/>
                  </a:lnTo>
                  <a:lnTo>
                    <a:pt x="11920" y="2085"/>
                  </a:lnTo>
                  <a:lnTo>
                    <a:pt x="11805" y="2200"/>
                  </a:lnTo>
                  <a:lnTo>
                    <a:pt x="11805" y="2432"/>
                  </a:lnTo>
                  <a:lnTo>
                    <a:pt x="11805" y="2548"/>
                  </a:lnTo>
                  <a:lnTo>
                    <a:pt x="11920" y="2780"/>
                  </a:lnTo>
                  <a:lnTo>
                    <a:pt x="12036" y="2895"/>
                  </a:lnTo>
                  <a:lnTo>
                    <a:pt x="12036" y="2895"/>
                  </a:lnTo>
                  <a:lnTo>
                    <a:pt x="12152" y="3011"/>
                  </a:lnTo>
                  <a:lnTo>
                    <a:pt x="12267" y="3127"/>
                  </a:lnTo>
                  <a:lnTo>
                    <a:pt x="12383" y="3127"/>
                  </a:lnTo>
                  <a:lnTo>
                    <a:pt x="12499" y="3127"/>
                  </a:lnTo>
                  <a:lnTo>
                    <a:pt x="12615" y="3127"/>
                  </a:lnTo>
                  <a:lnTo>
                    <a:pt x="12730" y="3127"/>
                  </a:lnTo>
                  <a:lnTo>
                    <a:pt x="12846" y="3011"/>
                  </a:lnTo>
                  <a:lnTo>
                    <a:pt x="12962" y="3011"/>
                  </a:lnTo>
                  <a:lnTo>
                    <a:pt x="12962" y="3011"/>
                  </a:lnTo>
                  <a:lnTo>
                    <a:pt x="12846" y="2780"/>
                  </a:lnTo>
                  <a:lnTo>
                    <a:pt x="12962" y="2664"/>
                  </a:lnTo>
                  <a:lnTo>
                    <a:pt x="13078" y="2548"/>
                  </a:lnTo>
                  <a:lnTo>
                    <a:pt x="13193" y="2432"/>
                  </a:lnTo>
                  <a:lnTo>
                    <a:pt x="13309" y="2316"/>
                  </a:lnTo>
                  <a:lnTo>
                    <a:pt x="13425" y="2200"/>
                  </a:lnTo>
                  <a:lnTo>
                    <a:pt x="13541" y="2085"/>
                  </a:lnTo>
                  <a:lnTo>
                    <a:pt x="13656" y="1969"/>
                  </a:lnTo>
                  <a:lnTo>
                    <a:pt x="13656" y="1969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3772" y="2085"/>
                  </a:lnTo>
                  <a:lnTo>
                    <a:pt x="13772" y="2316"/>
                  </a:lnTo>
                  <a:lnTo>
                    <a:pt x="13772" y="2432"/>
                  </a:lnTo>
                  <a:lnTo>
                    <a:pt x="13656" y="2664"/>
                  </a:lnTo>
                  <a:lnTo>
                    <a:pt x="13772" y="2780"/>
                  </a:lnTo>
                  <a:lnTo>
                    <a:pt x="13772" y="2895"/>
                  </a:lnTo>
                  <a:lnTo>
                    <a:pt x="13888" y="3127"/>
                  </a:lnTo>
                  <a:lnTo>
                    <a:pt x="14003" y="3127"/>
                  </a:lnTo>
                  <a:lnTo>
                    <a:pt x="14003" y="3127"/>
                  </a:lnTo>
                  <a:lnTo>
                    <a:pt x="14119" y="3127"/>
                  </a:lnTo>
                  <a:lnTo>
                    <a:pt x="14235" y="3127"/>
                  </a:lnTo>
                  <a:lnTo>
                    <a:pt x="14351" y="3127"/>
                  </a:lnTo>
                  <a:lnTo>
                    <a:pt x="14466" y="3127"/>
                  </a:lnTo>
                  <a:lnTo>
                    <a:pt x="14582" y="3011"/>
                  </a:lnTo>
                  <a:lnTo>
                    <a:pt x="14582" y="3011"/>
                  </a:lnTo>
                  <a:lnTo>
                    <a:pt x="14698" y="2895"/>
                  </a:lnTo>
                  <a:lnTo>
                    <a:pt x="14814" y="2780"/>
                  </a:lnTo>
                  <a:lnTo>
                    <a:pt x="14814" y="2780"/>
                  </a:lnTo>
                  <a:lnTo>
                    <a:pt x="14814" y="2664"/>
                  </a:lnTo>
                  <a:lnTo>
                    <a:pt x="14814" y="2664"/>
                  </a:lnTo>
                  <a:lnTo>
                    <a:pt x="14814" y="2548"/>
                  </a:lnTo>
                  <a:lnTo>
                    <a:pt x="14929" y="2432"/>
                  </a:lnTo>
                  <a:lnTo>
                    <a:pt x="14929" y="2316"/>
                  </a:lnTo>
                  <a:lnTo>
                    <a:pt x="15045" y="2316"/>
                  </a:lnTo>
                  <a:lnTo>
                    <a:pt x="15045" y="2200"/>
                  </a:lnTo>
                  <a:lnTo>
                    <a:pt x="15161" y="2085"/>
                  </a:lnTo>
                  <a:lnTo>
                    <a:pt x="15161" y="2085"/>
                  </a:lnTo>
                  <a:lnTo>
                    <a:pt x="15624" y="2085"/>
                  </a:lnTo>
                  <a:lnTo>
                    <a:pt x="15624" y="2085"/>
                  </a:lnTo>
                  <a:lnTo>
                    <a:pt x="15624" y="2200"/>
                  </a:lnTo>
                  <a:lnTo>
                    <a:pt x="15508" y="2432"/>
                  </a:lnTo>
                  <a:lnTo>
                    <a:pt x="15508" y="2548"/>
                  </a:lnTo>
                  <a:lnTo>
                    <a:pt x="15508" y="2664"/>
                  </a:lnTo>
                  <a:lnTo>
                    <a:pt x="15508" y="2780"/>
                  </a:lnTo>
                  <a:lnTo>
                    <a:pt x="15508" y="2895"/>
                  </a:lnTo>
                  <a:lnTo>
                    <a:pt x="15624" y="3011"/>
                  </a:lnTo>
                  <a:lnTo>
                    <a:pt x="15739" y="3127"/>
                  </a:lnTo>
                  <a:lnTo>
                    <a:pt x="15739" y="3127"/>
                  </a:lnTo>
                  <a:lnTo>
                    <a:pt x="15739" y="3243"/>
                  </a:lnTo>
                  <a:lnTo>
                    <a:pt x="15855" y="3243"/>
                  </a:lnTo>
                  <a:lnTo>
                    <a:pt x="15855" y="3243"/>
                  </a:lnTo>
                  <a:lnTo>
                    <a:pt x="15971" y="3359"/>
                  </a:lnTo>
                  <a:lnTo>
                    <a:pt x="16087" y="3359"/>
                  </a:lnTo>
                  <a:lnTo>
                    <a:pt x="16202" y="3359"/>
                  </a:lnTo>
                  <a:lnTo>
                    <a:pt x="16202" y="3359"/>
                  </a:lnTo>
                  <a:lnTo>
                    <a:pt x="16318" y="3359"/>
                  </a:lnTo>
                  <a:lnTo>
                    <a:pt x="16318" y="3359"/>
                  </a:lnTo>
                  <a:lnTo>
                    <a:pt x="16550" y="3243"/>
                  </a:lnTo>
                  <a:lnTo>
                    <a:pt x="16665" y="3011"/>
                  </a:lnTo>
                  <a:lnTo>
                    <a:pt x="16781" y="2895"/>
                  </a:lnTo>
                  <a:lnTo>
                    <a:pt x="17012" y="2664"/>
                  </a:lnTo>
                  <a:lnTo>
                    <a:pt x="17128" y="2432"/>
                  </a:lnTo>
                  <a:lnTo>
                    <a:pt x="17244" y="2316"/>
                  </a:lnTo>
                  <a:lnTo>
                    <a:pt x="17475" y="2316"/>
                  </a:lnTo>
                  <a:lnTo>
                    <a:pt x="17823" y="2432"/>
                  </a:lnTo>
                  <a:lnTo>
                    <a:pt x="17823" y="2432"/>
                  </a:lnTo>
                  <a:lnTo>
                    <a:pt x="17823" y="2548"/>
                  </a:lnTo>
                  <a:lnTo>
                    <a:pt x="17707" y="2664"/>
                  </a:lnTo>
                  <a:lnTo>
                    <a:pt x="17707" y="2780"/>
                  </a:lnTo>
                  <a:lnTo>
                    <a:pt x="17591" y="2895"/>
                  </a:lnTo>
                  <a:lnTo>
                    <a:pt x="17591" y="3011"/>
                  </a:lnTo>
                  <a:lnTo>
                    <a:pt x="17475" y="3127"/>
                  </a:lnTo>
                  <a:lnTo>
                    <a:pt x="17475" y="3243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707" y="3590"/>
                  </a:lnTo>
                  <a:lnTo>
                    <a:pt x="17707" y="3590"/>
                  </a:lnTo>
                  <a:lnTo>
                    <a:pt x="17823" y="3706"/>
                  </a:lnTo>
                  <a:lnTo>
                    <a:pt x="17938" y="3706"/>
                  </a:lnTo>
                  <a:lnTo>
                    <a:pt x="18054" y="3706"/>
                  </a:lnTo>
                  <a:lnTo>
                    <a:pt x="18170" y="3706"/>
                  </a:lnTo>
                  <a:lnTo>
                    <a:pt x="18286" y="3706"/>
                  </a:lnTo>
                  <a:lnTo>
                    <a:pt x="18286" y="3706"/>
                  </a:lnTo>
                  <a:lnTo>
                    <a:pt x="18401" y="3590"/>
                  </a:lnTo>
                  <a:lnTo>
                    <a:pt x="18517" y="3474"/>
                  </a:lnTo>
                  <a:lnTo>
                    <a:pt x="18748" y="3359"/>
                  </a:lnTo>
                  <a:lnTo>
                    <a:pt x="18864" y="3243"/>
                  </a:lnTo>
                  <a:lnTo>
                    <a:pt x="18980" y="3127"/>
                  </a:lnTo>
                  <a:lnTo>
                    <a:pt x="19096" y="3011"/>
                  </a:lnTo>
                  <a:lnTo>
                    <a:pt x="19211" y="2780"/>
                  </a:lnTo>
                  <a:lnTo>
                    <a:pt x="19327" y="2664"/>
                  </a:lnTo>
                  <a:lnTo>
                    <a:pt x="19327" y="2664"/>
                  </a:lnTo>
                  <a:lnTo>
                    <a:pt x="19559" y="2664"/>
                  </a:lnTo>
                  <a:lnTo>
                    <a:pt x="19559" y="2664"/>
                  </a:lnTo>
                  <a:lnTo>
                    <a:pt x="19559" y="2780"/>
                  </a:lnTo>
                  <a:lnTo>
                    <a:pt x="19559" y="3011"/>
                  </a:lnTo>
                  <a:lnTo>
                    <a:pt x="19559" y="3127"/>
                  </a:lnTo>
                  <a:lnTo>
                    <a:pt x="19443" y="3359"/>
                  </a:lnTo>
                  <a:lnTo>
                    <a:pt x="19443" y="3474"/>
                  </a:lnTo>
                  <a:lnTo>
                    <a:pt x="19559" y="3590"/>
                  </a:lnTo>
                  <a:lnTo>
                    <a:pt x="19674" y="3706"/>
                  </a:lnTo>
                  <a:lnTo>
                    <a:pt x="19790" y="3822"/>
                  </a:lnTo>
                  <a:lnTo>
                    <a:pt x="19790" y="3822"/>
                  </a:lnTo>
                  <a:lnTo>
                    <a:pt x="19906" y="3822"/>
                  </a:lnTo>
                  <a:lnTo>
                    <a:pt x="20022" y="3822"/>
                  </a:lnTo>
                  <a:lnTo>
                    <a:pt x="20137" y="3822"/>
                  </a:lnTo>
                  <a:lnTo>
                    <a:pt x="20253" y="3822"/>
                  </a:lnTo>
                  <a:lnTo>
                    <a:pt x="20369" y="3706"/>
                  </a:lnTo>
                  <a:lnTo>
                    <a:pt x="20484" y="3706"/>
                  </a:lnTo>
                  <a:lnTo>
                    <a:pt x="20600" y="3590"/>
                  </a:lnTo>
                  <a:lnTo>
                    <a:pt x="20716" y="3590"/>
                  </a:lnTo>
                  <a:lnTo>
                    <a:pt x="20716" y="3590"/>
                  </a:lnTo>
                  <a:lnTo>
                    <a:pt x="20600" y="3474"/>
                  </a:lnTo>
                  <a:lnTo>
                    <a:pt x="20600" y="3359"/>
                  </a:lnTo>
                  <a:lnTo>
                    <a:pt x="20716" y="3243"/>
                  </a:lnTo>
                  <a:lnTo>
                    <a:pt x="20716" y="3127"/>
                  </a:lnTo>
                  <a:lnTo>
                    <a:pt x="20832" y="3127"/>
                  </a:lnTo>
                  <a:lnTo>
                    <a:pt x="20832" y="3011"/>
                  </a:lnTo>
                  <a:lnTo>
                    <a:pt x="20947" y="2895"/>
                  </a:lnTo>
                  <a:lnTo>
                    <a:pt x="20947" y="2780"/>
                  </a:lnTo>
                  <a:lnTo>
                    <a:pt x="20947" y="2780"/>
                  </a:lnTo>
                  <a:lnTo>
                    <a:pt x="20947" y="2895"/>
                  </a:lnTo>
                  <a:lnTo>
                    <a:pt x="20947" y="3011"/>
                  </a:lnTo>
                  <a:lnTo>
                    <a:pt x="20947" y="3127"/>
                  </a:lnTo>
                  <a:lnTo>
                    <a:pt x="20947" y="3359"/>
                  </a:lnTo>
                  <a:lnTo>
                    <a:pt x="20832" y="3474"/>
                  </a:lnTo>
                  <a:lnTo>
                    <a:pt x="20832" y="3590"/>
                  </a:lnTo>
                  <a:lnTo>
                    <a:pt x="20832" y="3706"/>
                  </a:lnTo>
                  <a:lnTo>
                    <a:pt x="20832" y="3822"/>
                  </a:lnTo>
                  <a:lnTo>
                    <a:pt x="20832" y="3822"/>
                  </a:lnTo>
                  <a:lnTo>
                    <a:pt x="20947" y="3938"/>
                  </a:lnTo>
                  <a:lnTo>
                    <a:pt x="20947" y="3938"/>
                  </a:lnTo>
                  <a:lnTo>
                    <a:pt x="21063" y="4053"/>
                  </a:lnTo>
                  <a:lnTo>
                    <a:pt x="21179" y="4053"/>
                  </a:lnTo>
                  <a:lnTo>
                    <a:pt x="21295" y="4053"/>
                  </a:lnTo>
                  <a:lnTo>
                    <a:pt x="21295" y="4053"/>
                  </a:lnTo>
                  <a:lnTo>
                    <a:pt x="21410" y="4053"/>
                  </a:lnTo>
                  <a:lnTo>
                    <a:pt x="21526" y="4053"/>
                  </a:lnTo>
                  <a:lnTo>
                    <a:pt x="21526" y="4053"/>
                  </a:lnTo>
                  <a:lnTo>
                    <a:pt x="21642" y="3938"/>
                  </a:lnTo>
                  <a:lnTo>
                    <a:pt x="21642" y="3822"/>
                  </a:lnTo>
                  <a:lnTo>
                    <a:pt x="21758" y="3706"/>
                  </a:lnTo>
                  <a:lnTo>
                    <a:pt x="21873" y="3590"/>
                  </a:lnTo>
                  <a:lnTo>
                    <a:pt x="21989" y="3474"/>
                  </a:lnTo>
                  <a:lnTo>
                    <a:pt x="22105" y="3359"/>
                  </a:lnTo>
                  <a:lnTo>
                    <a:pt x="22105" y="3243"/>
                  </a:lnTo>
                  <a:lnTo>
                    <a:pt x="22220" y="3011"/>
                  </a:lnTo>
                  <a:lnTo>
                    <a:pt x="22220" y="3011"/>
                  </a:lnTo>
                  <a:lnTo>
                    <a:pt x="22105" y="3127"/>
                  </a:lnTo>
                  <a:lnTo>
                    <a:pt x="22105" y="3243"/>
                  </a:lnTo>
                  <a:lnTo>
                    <a:pt x="22105" y="3359"/>
                  </a:lnTo>
                  <a:lnTo>
                    <a:pt x="22105" y="3474"/>
                  </a:lnTo>
                  <a:lnTo>
                    <a:pt x="22105" y="3590"/>
                  </a:lnTo>
                  <a:lnTo>
                    <a:pt x="22105" y="3706"/>
                  </a:lnTo>
                  <a:lnTo>
                    <a:pt x="22105" y="3822"/>
                  </a:lnTo>
                  <a:lnTo>
                    <a:pt x="22220" y="3938"/>
                  </a:lnTo>
                  <a:lnTo>
                    <a:pt x="22220" y="3938"/>
                  </a:lnTo>
                  <a:lnTo>
                    <a:pt x="22336" y="4053"/>
                  </a:lnTo>
                  <a:lnTo>
                    <a:pt x="22452" y="4169"/>
                  </a:lnTo>
                  <a:lnTo>
                    <a:pt x="22568" y="4169"/>
                  </a:lnTo>
                  <a:lnTo>
                    <a:pt x="22683" y="4053"/>
                  </a:lnTo>
                  <a:lnTo>
                    <a:pt x="22799" y="3938"/>
                  </a:lnTo>
                  <a:lnTo>
                    <a:pt x="22915" y="3822"/>
                  </a:lnTo>
                  <a:lnTo>
                    <a:pt x="23031" y="3822"/>
                  </a:lnTo>
                  <a:lnTo>
                    <a:pt x="23146" y="3822"/>
                  </a:lnTo>
                  <a:lnTo>
                    <a:pt x="23146" y="3822"/>
                  </a:lnTo>
                  <a:lnTo>
                    <a:pt x="23146" y="3938"/>
                  </a:lnTo>
                  <a:lnTo>
                    <a:pt x="23146" y="3938"/>
                  </a:lnTo>
                  <a:lnTo>
                    <a:pt x="23146" y="4053"/>
                  </a:lnTo>
                  <a:lnTo>
                    <a:pt x="23146" y="4169"/>
                  </a:lnTo>
                  <a:lnTo>
                    <a:pt x="23146" y="4285"/>
                  </a:lnTo>
                  <a:lnTo>
                    <a:pt x="23262" y="4285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841" y="4285"/>
                  </a:lnTo>
                  <a:lnTo>
                    <a:pt x="23841" y="4285"/>
                  </a:lnTo>
                  <a:lnTo>
                    <a:pt x="23378" y="5906"/>
                  </a:lnTo>
                  <a:lnTo>
                    <a:pt x="22799" y="7528"/>
                  </a:lnTo>
                  <a:lnTo>
                    <a:pt x="22452" y="9265"/>
                  </a:lnTo>
                  <a:lnTo>
                    <a:pt x="21989" y="11002"/>
                  </a:lnTo>
                  <a:lnTo>
                    <a:pt x="21642" y="12739"/>
                  </a:lnTo>
                  <a:lnTo>
                    <a:pt x="21410" y="14476"/>
                  </a:lnTo>
                  <a:lnTo>
                    <a:pt x="21179" y="16213"/>
                  </a:lnTo>
                  <a:lnTo>
                    <a:pt x="21063" y="17951"/>
                  </a:lnTo>
                  <a:lnTo>
                    <a:pt x="21063" y="17951"/>
                  </a:lnTo>
                  <a:lnTo>
                    <a:pt x="18517" y="18414"/>
                  </a:lnTo>
                  <a:lnTo>
                    <a:pt x="15971" y="18877"/>
                  </a:lnTo>
                  <a:lnTo>
                    <a:pt x="13541" y="19456"/>
                  </a:lnTo>
                  <a:lnTo>
                    <a:pt x="11110" y="20035"/>
                  </a:lnTo>
                  <a:lnTo>
                    <a:pt x="8564" y="20614"/>
                  </a:lnTo>
                  <a:lnTo>
                    <a:pt x="6134" y="21077"/>
                  </a:lnTo>
                  <a:lnTo>
                    <a:pt x="3588" y="21656"/>
                  </a:lnTo>
                  <a:lnTo>
                    <a:pt x="926" y="22004"/>
                  </a:lnTo>
                  <a:lnTo>
                    <a:pt x="926" y="22004"/>
                  </a:lnTo>
                  <a:lnTo>
                    <a:pt x="1041" y="21888"/>
                  </a:lnTo>
                  <a:lnTo>
                    <a:pt x="1041" y="21656"/>
                  </a:lnTo>
                  <a:lnTo>
                    <a:pt x="1041" y="21541"/>
                  </a:lnTo>
                  <a:lnTo>
                    <a:pt x="1041" y="21309"/>
                  </a:lnTo>
                  <a:lnTo>
                    <a:pt x="1041" y="21193"/>
                  </a:lnTo>
                  <a:lnTo>
                    <a:pt x="926" y="20962"/>
                  </a:lnTo>
                  <a:lnTo>
                    <a:pt x="926" y="20730"/>
                  </a:lnTo>
                  <a:lnTo>
                    <a:pt x="926" y="20614"/>
                  </a:lnTo>
                  <a:lnTo>
                    <a:pt x="926" y="20614"/>
                  </a:lnTo>
                  <a:lnTo>
                    <a:pt x="810" y="20498"/>
                  </a:lnTo>
                  <a:lnTo>
                    <a:pt x="694" y="20383"/>
                  </a:lnTo>
                  <a:lnTo>
                    <a:pt x="579" y="20267"/>
                  </a:lnTo>
                  <a:lnTo>
                    <a:pt x="463" y="20267"/>
                  </a:lnTo>
                  <a:lnTo>
                    <a:pt x="347" y="20151"/>
                  </a:lnTo>
                  <a:lnTo>
                    <a:pt x="231" y="20151"/>
                  </a:lnTo>
                  <a:lnTo>
                    <a:pt x="116" y="20035"/>
                  </a:lnTo>
                  <a:lnTo>
                    <a:pt x="0" y="20035"/>
                  </a:lnTo>
                  <a:lnTo>
                    <a:pt x="0" y="20035"/>
                  </a:lnTo>
                  <a:lnTo>
                    <a:pt x="347" y="17603"/>
                  </a:lnTo>
                  <a:lnTo>
                    <a:pt x="694" y="15055"/>
                  </a:lnTo>
                  <a:lnTo>
                    <a:pt x="1273" y="12623"/>
                  </a:lnTo>
                  <a:lnTo>
                    <a:pt x="1852" y="10076"/>
                  </a:lnTo>
                  <a:lnTo>
                    <a:pt x="2430" y="7644"/>
                  </a:lnTo>
                  <a:lnTo>
                    <a:pt x="2893" y="5096"/>
                  </a:lnTo>
                  <a:lnTo>
                    <a:pt x="3472" y="2548"/>
                  </a:lnTo>
                  <a:lnTo>
                    <a:pt x="3935" y="0"/>
                  </a:lnTo>
                  <a:lnTo>
                    <a:pt x="3935" y="0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073160" y="3094200"/>
              <a:ext cx="119160" cy="845280"/>
            </a:xfrm>
            <a:custGeom>
              <a:avLst/>
              <a:gdLst/>
              <a:ahLst/>
              <a:rect l="l" t="t" r="r" b="b"/>
              <a:pathLst>
                <a:path w="3125" h="15750">
                  <a:moveTo>
                    <a:pt x="3125" y="0"/>
                  </a:moveTo>
                  <a:lnTo>
                    <a:pt x="3125" y="347"/>
                  </a:lnTo>
                  <a:lnTo>
                    <a:pt x="3125" y="811"/>
                  </a:lnTo>
                  <a:lnTo>
                    <a:pt x="3009" y="1274"/>
                  </a:lnTo>
                  <a:lnTo>
                    <a:pt x="2894" y="1737"/>
                  </a:lnTo>
                  <a:lnTo>
                    <a:pt x="2894" y="2084"/>
                  </a:lnTo>
                  <a:lnTo>
                    <a:pt x="2778" y="2548"/>
                  </a:lnTo>
                  <a:lnTo>
                    <a:pt x="2662" y="2895"/>
                  </a:lnTo>
                  <a:lnTo>
                    <a:pt x="2546" y="3358"/>
                  </a:lnTo>
                  <a:lnTo>
                    <a:pt x="2546" y="3358"/>
                  </a:lnTo>
                  <a:lnTo>
                    <a:pt x="2199" y="4748"/>
                  </a:lnTo>
                  <a:lnTo>
                    <a:pt x="1968" y="6138"/>
                  </a:lnTo>
                  <a:lnTo>
                    <a:pt x="1736" y="7528"/>
                  </a:lnTo>
                  <a:lnTo>
                    <a:pt x="1389" y="8917"/>
                  </a:lnTo>
                  <a:lnTo>
                    <a:pt x="1158" y="10307"/>
                  </a:lnTo>
                  <a:lnTo>
                    <a:pt x="926" y="11812"/>
                  </a:lnTo>
                  <a:lnTo>
                    <a:pt x="695" y="13086"/>
                  </a:lnTo>
                  <a:lnTo>
                    <a:pt x="463" y="14476"/>
                  </a:lnTo>
                  <a:lnTo>
                    <a:pt x="463" y="14476"/>
                  </a:lnTo>
                  <a:lnTo>
                    <a:pt x="348" y="14592"/>
                  </a:lnTo>
                  <a:lnTo>
                    <a:pt x="348" y="14824"/>
                  </a:lnTo>
                  <a:lnTo>
                    <a:pt x="348" y="14939"/>
                  </a:lnTo>
                  <a:lnTo>
                    <a:pt x="348" y="15055"/>
                  </a:lnTo>
                  <a:lnTo>
                    <a:pt x="232" y="15287"/>
                  </a:lnTo>
                  <a:lnTo>
                    <a:pt x="232" y="15403"/>
                  </a:lnTo>
                  <a:lnTo>
                    <a:pt x="232" y="15518"/>
                  </a:lnTo>
                  <a:lnTo>
                    <a:pt x="232" y="15750"/>
                  </a:lnTo>
                  <a:lnTo>
                    <a:pt x="232" y="15750"/>
                  </a:lnTo>
                  <a:lnTo>
                    <a:pt x="0" y="15750"/>
                  </a:lnTo>
                  <a:lnTo>
                    <a:pt x="0" y="15750"/>
                  </a:lnTo>
                  <a:lnTo>
                    <a:pt x="116" y="14824"/>
                  </a:lnTo>
                  <a:lnTo>
                    <a:pt x="348" y="14013"/>
                  </a:lnTo>
                  <a:lnTo>
                    <a:pt x="463" y="13086"/>
                  </a:lnTo>
                  <a:lnTo>
                    <a:pt x="579" y="12276"/>
                  </a:lnTo>
                  <a:lnTo>
                    <a:pt x="695" y="11349"/>
                  </a:lnTo>
                  <a:lnTo>
                    <a:pt x="810" y="10423"/>
                  </a:lnTo>
                  <a:lnTo>
                    <a:pt x="926" y="9612"/>
                  </a:lnTo>
                  <a:lnTo>
                    <a:pt x="1042" y="8686"/>
                  </a:lnTo>
                  <a:lnTo>
                    <a:pt x="1042" y="8686"/>
                  </a:lnTo>
                  <a:lnTo>
                    <a:pt x="1273" y="7643"/>
                  </a:lnTo>
                  <a:lnTo>
                    <a:pt x="1505" y="6601"/>
                  </a:lnTo>
                  <a:lnTo>
                    <a:pt x="1736" y="5559"/>
                  </a:lnTo>
                  <a:lnTo>
                    <a:pt x="1968" y="4516"/>
                  </a:lnTo>
                  <a:lnTo>
                    <a:pt x="2199" y="3358"/>
                  </a:lnTo>
                  <a:lnTo>
                    <a:pt x="2431" y="2316"/>
                  </a:lnTo>
                  <a:lnTo>
                    <a:pt x="2662" y="1274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095120" y="3094200"/>
              <a:ext cx="128160" cy="864000"/>
            </a:xfrm>
            <a:custGeom>
              <a:avLst/>
              <a:gdLst/>
              <a:ahLst/>
              <a:rect l="l" t="t" r="r" b="b"/>
              <a:pathLst>
                <a:path w="3356" h="16097">
                  <a:moveTo>
                    <a:pt x="3356" y="0"/>
                  </a:moveTo>
                  <a:lnTo>
                    <a:pt x="3125" y="1390"/>
                  </a:lnTo>
                  <a:lnTo>
                    <a:pt x="2893" y="2779"/>
                  </a:lnTo>
                  <a:lnTo>
                    <a:pt x="2662" y="4053"/>
                  </a:lnTo>
                  <a:lnTo>
                    <a:pt x="2315" y="5443"/>
                  </a:lnTo>
                  <a:lnTo>
                    <a:pt x="2083" y="6833"/>
                  </a:lnTo>
                  <a:lnTo>
                    <a:pt x="1736" y="8107"/>
                  </a:lnTo>
                  <a:lnTo>
                    <a:pt x="1505" y="9496"/>
                  </a:lnTo>
                  <a:lnTo>
                    <a:pt x="1273" y="10770"/>
                  </a:lnTo>
                  <a:lnTo>
                    <a:pt x="1273" y="10770"/>
                  </a:lnTo>
                  <a:lnTo>
                    <a:pt x="1157" y="11002"/>
                  </a:lnTo>
                  <a:lnTo>
                    <a:pt x="1157" y="11233"/>
                  </a:lnTo>
                  <a:lnTo>
                    <a:pt x="1042" y="11465"/>
                  </a:lnTo>
                  <a:lnTo>
                    <a:pt x="1042" y="11697"/>
                  </a:lnTo>
                  <a:lnTo>
                    <a:pt x="926" y="11928"/>
                  </a:lnTo>
                  <a:lnTo>
                    <a:pt x="926" y="12276"/>
                  </a:lnTo>
                  <a:lnTo>
                    <a:pt x="926" y="12507"/>
                  </a:lnTo>
                  <a:lnTo>
                    <a:pt x="810" y="12739"/>
                  </a:lnTo>
                  <a:lnTo>
                    <a:pt x="810" y="12739"/>
                  </a:lnTo>
                  <a:lnTo>
                    <a:pt x="926" y="13086"/>
                  </a:lnTo>
                  <a:lnTo>
                    <a:pt x="810" y="13550"/>
                  </a:lnTo>
                  <a:lnTo>
                    <a:pt x="810" y="13897"/>
                  </a:lnTo>
                  <a:lnTo>
                    <a:pt x="694" y="14360"/>
                  </a:lnTo>
                  <a:lnTo>
                    <a:pt x="579" y="14824"/>
                  </a:lnTo>
                  <a:lnTo>
                    <a:pt x="463" y="15171"/>
                  </a:lnTo>
                  <a:lnTo>
                    <a:pt x="463" y="15634"/>
                  </a:lnTo>
                  <a:lnTo>
                    <a:pt x="463" y="16097"/>
                  </a:lnTo>
                  <a:lnTo>
                    <a:pt x="463" y="16097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347" y="13897"/>
                  </a:lnTo>
                  <a:lnTo>
                    <a:pt x="694" y="11928"/>
                  </a:lnTo>
                  <a:lnTo>
                    <a:pt x="1042" y="9960"/>
                  </a:lnTo>
                  <a:lnTo>
                    <a:pt x="1389" y="7875"/>
                  </a:lnTo>
                  <a:lnTo>
                    <a:pt x="1852" y="5906"/>
                  </a:lnTo>
                  <a:lnTo>
                    <a:pt x="2199" y="3937"/>
                  </a:lnTo>
                  <a:lnTo>
                    <a:pt x="2546" y="1969"/>
                  </a:lnTo>
                  <a:lnTo>
                    <a:pt x="2893" y="0"/>
                  </a:lnTo>
                  <a:lnTo>
                    <a:pt x="2893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240" y="0"/>
                  </a:lnTo>
                  <a:lnTo>
                    <a:pt x="3240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104120" y="3094200"/>
              <a:ext cx="154800" cy="1087920"/>
            </a:xfrm>
            <a:custGeom>
              <a:avLst/>
              <a:gdLst/>
              <a:ahLst/>
              <a:rect l="l" t="t" r="r" b="b"/>
              <a:pathLst>
                <a:path w="4051" h="20267">
                  <a:moveTo>
                    <a:pt x="3704" y="116"/>
                  </a:moveTo>
                  <a:lnTo>
                    <a:pt x="3935" y="0"/>
                  </a:lnTo>
                  <a:lnTo>
                    <a:pt x="4051" y="232"/>
                  </a:lnTo>
                  <a:lnTo>
                    <a:pt x="4051" y="232"/>
                  </a:lnTo>
                  <a:lnTo>
                    <a:pt x="3588" y="2779"/>
                  </a:lnTo>
                  <a:lnTo>
                    <a:pt x="3009" y="5211"/>
                  </a:lnTo>
                  <a:lnTo>
                    <a:pt x="2547" y="7643"/>
                  </a:lnTo>
                  <a:lnTo>
                    <a:pt x="1968" y="10075"/>
                  </a:lnTo>
                  <a:lnTo>
                    <a:pt x="1389" y="12623"/>
                  </a:lnTo>
                  <a:lnTo>
                    <a:pt x="926" y="15055"/>
                  </a:lnTo>
                  <a:lnTo>
                    <a:pt x="579" y="17603"/>
                  </a:lnTo>
                  <a:lnTo>
                    <a:pt x="348" y="20035"/>
                  </a:lnTo>
                  <a:lnTo>
                    <a:pt x="348" y="20035"/>
                  </a:lnTo>
                  <a:lnTo>
                    <a:pt x="348" y="20151"/>
                  </a:lnTo>
                  <a:lnTo>
                    <a:pt x="232" y="20151"/>
                  </a:lnTo>
                  <a:lnTo>
                    <a:pt x="232" y="20151"/>
                  </a:lnTo>
                  <a:lnTo>
                    <a:pt x="116" y="20151"/>
                  </a:lnTo>
                  <a:lnTo>
                    <a:pt x="116" y="20151"/>
                  </a:lnTo>
                  <a:lnTo>
                    <a:pt x="116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348" y="18761"/>
                  </a:lnTo>
                  <a:lnTo>
                    <a:pt x="579" y="17140"/>
                  </a:lnTo>
                  <a:lnTo>
                    <a:pt x="695" y="15634"/>
                  </a:lnTo>
                  <a:lnTo>
                    <a:pt x="926" y="14129"/>
                  </a:lnTo>
                  <a:lnTo>
                    <a:pt x="1042" y="12507"/>
                  </a:lnTo>
                  <a:lnTo>
                    <a:pt x="1158" y="11002"/>
                  </a:lnTo>
                  <a:lnTo>
                    <a:pt x="1505" y="9496"/>
                  </a:lnTo>
                  <a:lnTo>
                    <a:pt x="1852" y="7991"/>
                  </a:lnTo>
                  <a:lnTo>
                    <a:pt x="1852" y="7991"/>
                  </a:lnTo>
                  <a:lnTo>
                    <a:pt x="1968" y="6948"/>
                  </a:lnTo>
                  <a:lnTo>
                    <a:pt x="2199" y="5906"/>
                  </a:lnTo>
                  <a:lnTo>
                    <a:pt x="2431" y="4980"/>
                  </a:lnTo>
                  <a:lnTo>
                    <a:pt x="2778" y="4053"/>
                  </a:lnTo>
                  <a:lnTo>
                    <a:pt x="3009" y="3011"/>
                  </a:lnTo>
                  <a:lnTo>
                    <a:pt x="3241" y="2084"/>
                  </a:lnTo>
                  <a:lnTo>
                    <a:pt x="3472" y="1042"/>
                  </a:lnTo>
                  <a:lnTo>
                    <a:pt x="3588" y="0"/>
                  </a:lnTo>
                  <a:lnTo>
                    <a:pt x="3588" y="0"/>
                  </a:lnTo>
                  <a:lnTo>
                    <a:pt x="3704" y="0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794240" y="3106800"/>
              <a:ext cx="61920" cy="142920"/>
            </a:xfrm>
            <a:custGeom>
              <a:avLst/>
              <a:gdLst/>
              <a:ahLst/>
              <a:rect l="l" t="t" r="r" b="b"/>
              <a:pathLst>
                <a:path w="1620" h="2663">
                  <a:moveTo>
                    <a:pt x="1620" y="810"/>
                  </a:moveTo>
                  <a:lnTo>
                    <a:pt x="1620" y="1042"/>
                  </a:lnTo>
                  <a:lnTo>
                    <a:pt x="1620" y="1158"/>
                  </a:lnTo>
                  <a:lnTo>
                    <a:pt x="1620" y="1389"/>
                  </a:lnTo>
                  <a:lnTo>
                    <a:pt x="1620" y="1621"/>
                  </a:lnTo>
                  <a:lnTo>
                    <a:pt x="1620" y="1852"/>
                  </a:lnTo>
                  <a:lnTo>
                    <a:pt x="1504" y="1968"/>
                  </a:lnTo>
                  <a:lnTo>
                    <a:pt x="1388" y="2200"/>
                  </a:lnTo>
                  <a:lnTo>
                    <a:pt x="1388" y="2316"/>
                  </a:lnTo>
                  <a:lnTo>
                    <a:pt x="1388" y="2316"/>
                  </a:lnTo>
                  <a:lnTo>
                    <a:pt x="1273" y="2432"/>
                  </a:lnTo>
                  <a:lnTo>
                    <a:pt x="1157" y="2432"/>
                  </a:lnTo>
                  <a:lnTo>
                    <a:pt x="1157" y="2547"/>
                  </a:lnTo>
                  <a:lnTo>
                    <a:pt x="1041" y="2547"/>
                  </a:lnTo>
                  <a:lnTo>
                    <a:pt x="1041" y="2663"/>
                  </a:lnTo>
                  <a:lnTo>
                    <a:pt x="926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926" y="2432"/>
                  </a:lnTo>
                  <a:lnTo>
                    <a:pt x="926" y="2200"/>
                  </a:lnTo>
                  <a:lnTo>
                    <a:pt x="1041" y="1968"/>
                  </a:lnTo>
                  <a:lnTo>
                    <a:pt x="1157" y="1737"/>
                  </a:lnTo>
                  <a:lnTo>
                    <a:pt x="1157" y="1505"/>
                  </a:lnTo>
                  <a:lnTo>
                    <a:pt x="1157" y="1158"/>
                  </a:lnTo>
                  <a:lnTo>
                    <a:pt x="1041" y="926"/>
                  </a:lnTo>
                  <a:lnTo>
                    <a:pt x="1041" y="694"/>
                  </a:lnTo>
                  <a:lnTo>
                    <a:pt x="1041" y="694"/>
                  </a:lnTo>
                  <a:lnTo>
                    <a:pt x="926" y="579"/>
                  </a:lnTo>
                  <a:lnTo>
                    <a:pt x="810" y="463"/>
                  </a:lnTo>
                  <a:lnTo>
                    <a:pt x="694" y="347"/>
                  </a:lnTo>
                  <a:lnTo>
                    <a:pt x="578" y="347"/>
                  </a:lnTo>
                  <a:lnTo>
                    <a:pt x="463" y="231"/>
                  </a:lnTo>
                  <a:lnTo>
                    <a:pt x="231" y="231"/>
                  </a:lnTo>
                  <a:lnTo>
                    <a:pt x="115" y="231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5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5"/>
                  </a:lnTo>
                  <a:lnTo>
                    <a:pt x="1273" y="347"/>
                  </a:lnTo>
                  <a:lnTo>
                    <a:pt x="1504" y="579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869480" y="3125520"/>
              <a:ext cx="43920" cy="136800"/>
            </a:xfrm>
            <a:custGeom>
              <a:avLst/>
              <a:gdLst/>
              <a:ahLst/>
              <a:rect l="l" t="t" r="r" b="b"/>
              <a:pathLst>
                <a:path w="1157" h="2548">
                  <a:moveTo>
                    <a:pt x="1042" y="811"/>
                  </a:moveTo>
                  <a:lnTo>
                    <a:pt x="1042" y="926"/>
                  </a:lnTo>
                  <a:lnTo>
                    <a:pt x="1157" y="1158"/>
                  </a:lnTo>
                  <a:lnTo>
                    <a:pt x="1157" y="1274"/>
                  </a:lnTo>
                  <a:lnTo>
                    <a:pt x="1157" y="1505"/>
                  </a:lnTo>
                  <a:lnTo>
                    <a:pt x="1157" y="1621"/>
                  </a:lnTo>
                  <a:lnTo>
                    <a:pt x="1157" y="1853"/>
                  </a:lnTo>
                  <a:lnTo>
                    <a:pt x="1157" y="1969"/>
                  </a:lnTo>
                  <a:lnTo>
                    <a:pt x="1042" y="2200"/>
                  </a:lnTo>
                  <a:lnTo>
                    <a:pt x="1042" y="2200"/>
                  </a:lnTo>
                  <a:lnTo>
                    <a:pt x="695" y="2548"/>
                  </a:lnTo>
                  <a:lnTo>
                    <a:pt x="695" y="2548"/>
                  </a:lnTo>
                  <a:lnTo>
                    <a:pt x="695" y="2200"/>
                  </a:lnTo>
                  <a:lnTo>
                    <a:pt x="695" y="1969"/>
                  </a:lnTo>
                  <a:lnTo>
                    <a:pt x="810" y="1621"/>
                  </a:lnTo>
                  <a:lnTo>
                    <a:pt x="810" y="1274"/>
                  </a:lnTo>
                  <a:lnTo>
                    <a:pt x="810" y="1042"/>
                  </a:lnTo>
                  <a:lnTo>
                    <a:pt x="695" y="811"/>
                  </a:lnTo>
                  <a:lnTo>
                    <a:pt x="463" y="579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810" y="347"/>
                  </a:lnTo>
                  <a:lnTo>
                    <a:pt x="926" y="463"/>
                  </a:lnTo>
                  <a:lnTo>
                    <a:pt x="926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922400" y="3137760"/>
              <a:ext cx="43920" cy="130320"/>
            </a:xfrm>
            <a:custGeom>
              <a:avLst/>
              <a:gdLst/>
              <a:ahLst/>
              <a:rect l="l" t="t" r="r" b="b"/>
              <a:pathLst>
                <a:path w="1157" h="2432">
                  <a:moveTo>
                    <a:pt x="1157" y="926"/>
                  </a:moveTo>
                  <a:lnTo>
                    <a:pt x="1157" y="1158"/>
                  </a:lnTo>
                  <a:lnTo>
                    <a:pt x="1157" y="1389"/>
                  </a:lnTo>
                  <a:lnTo>
                    <a:pt x="1157" y="1505"/>
                  </a:lnTo>
                  <a:lnTo>
                    <a:pt x="1157" y="1737"/>
                  </a:lnTo>
                  <a:lnTo>
                    <a:pt x="1042" y="1968"/>
                  </a:lnTo>
                  <a:lnTo>
                    <a:pt x="926" y="2200"/>
                  </a:lnTo>
                  <a:lnTo>
                    <a:pt x="810" y="2316"/>
                  </a:lnTo>
                  <a:lnTo>
                    <a:pt x="579" y="2432"/>
                  </a:lnTo>
                  <a:lnTo>
                    <a:pt x="579" y="2432"/>
                  </a:lnTo>
                  <a:lnTo>
                    <a:pt x="694" y="2316"/>
                  </a:lnTo>
                  <a:lnTo>
                    <a:pt x="694" y="2200"/>
                  </a:lnTo>
                  <a:lnTo>
                    <a:pt x="694" y="1968"/>
                  </a:lnTo>
                  <a:lnTo>
                    <a:pt x="810" y="1853"/>
                  </a:lnTo>
                  <a:lnTo>
                    <a:pt x="810" y="1621"/>
                  </a:lnTo>
                  <a:lnTo>
                    <a:pt x="926" y="1389"/>
                  </a:lnTo>
                  <a:lnTo>
                    <a:pt x="926" y="1273"/>
                  </a:lnTo>
                  <a:lnTo>
                    <a:pt x="810" y="1042"/>
                  </a:lnTo>
                  <a:lnTo>
                    <a:pt x="810" y="1042"/>
                  </a:lnTo>
                  <a:lnTo>
                    <a:pt x="810" y="926"/>
                  </a:lnTo>
                  <a:lnTo>
                    <a:pt x="694" y="810"/>
                  </a:lnTo>
                  <a:lnTo>
                    <a:pt x="463" y="694"/>
                  </a:lnTo>
                  <a:lnTo>
                    <a:pt x="347" y="579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23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7" y="0"/>
                  </a:lnTo>
                  <a:lnTo>
                    <a:pt x="579" y="115"/>
                  </a:lnTo>
                  <a:lnTo>
                    <a:pt x="694" y="231"/>
                  </a:lnTo>
                  <a:lnTo>
                    <a:pt x="810" y="347"/>
                  </a:lnTo>
                  <a:lnTo>
                    <a:pt x="926" y="579"/>
                  </a:lnTo>
                  <a:lnTo>
                    <a:pt x="1042" y="810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984320" y="3156480"/>
              <a:ext cx="30960" cy="111600"/>
            </a:xfrm>
            <a:custGeom>
              <a:avLst/>
              <a:gdLst/>
              <a:ahLst/>
              <a:rect l="l" t="t" r="r" b="b"/>
              <a:pathLst>
                <a:path w="810" h="2085">
                  <a:moveTo>
                    <a:pt x="810" y="579"/>
                  </a:moveTo>
                  <a:lnTo>
                    <a:pt x="810" y="811"/>
                  </a:lnTo>
                  <a:lnTo>
                    <a:pt x="810" y="1042"/>
                  </a:lnTo>
                  <a:lnTo>
                    <a:pt x="810" y="1158"/>
                  </a:lnTo>
                  <a:lnTo>
                    <a:pt x="810" y="1390"/>
                  </a:lnTo>
                  <a:lnTo>
                    <a:pt x="695" y="1621"/>
                  </a:lnTo>
                  <a:lnTo>
                    <a:pt x="695" y="1737"/>
                  </a:lnTo>
                  <a:lnTo>
                    <a:pt x="579" y="1969"/>
                  </a:lnTo>
                  <a:lnTo>
                    <a:pt x="347" y="2085"/>
                  </a:lnTo>
                  <a:lnTo>
                    <a:pt x="347" y="2085"/>
                  </a:lnTo>
                  <a:lnTo>
                    <a:pt x="463" y="1969"/>
                  </a:lnTo>
                  <a:lnTo>
                    <a:pt x="463" y="1737"/>
                  </a:lnTo>
                  <a:lnTo>
                    <a:pt x="579" y="1506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1"/>
                  </a:lnTo>
                  <a:lnTo>
                    <a:pt x="579" y="579"/>
                  </a:lnTo>
                  <a:lnTo>
                    <a:pt x="347" y="347"/>
                  </a:lnTo>
                  <a:lnTo>
                    <a:pt x="347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2" y="0"/>
                  </a:lnTo>
                  <a:lnTo>
                    <a:pt x="347" y="0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695" y="347"/>
                  </a:lnTo>
                  <a:lnTo>
                    <a:pt x="695" y="463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028600" y="3169080"/>
              <a:ext cx="39600" cy="118080"/>
            </a:xfrm>
            <a:custGeom>
              <a:avLst/>
              <a:gdLst/>
              <a:ahLst/>
              <a:rect l="l" t="t" r="r" b="b"/>
              <a:pathLst>
                <a:path w="1042" h="2200">
                  <a:moveTo>
                    <a:pt x="1042" y="694"/>
                  </a:moveTo>
                  <a:lnTo>
                    <a:pt x="1042" y="926"/>
                  </a:lnTo>
                  <a:lnTo>
                    <a:pt x="1042" y="1042"/>
                  </a:lnTo>
                  <a:lnTo>
                    <a:pt x="1042" y="1274"/>
                  </a:lnTo>
                  <a:lnTo>
                    <a:pt x="926" y="1505"/>
                  </a:lnTo>
                  <a:lnTo>
                    <a:pt x="926" y="1737"/>
                  </a:lnTo>
                  <a:lnTo>
                    <a:pt x="811" y="1853"/>
                  </a:lnTo>
                  <a:lnTo>
                    <a:pt x="579" y="2084"/>
                  </a:lnTo>
                  <a:lnTo>
                    <a:pt x="463" y="2200"/>
                  </a:lnTo>
                  <a:lnTo>
                    <a:pt x="463" y="2200"/>
                  </a:lnTo>
                  <a:lnTo>
                    <a:pt x="116" y="2200"/>
                  </a:lnTo>
                  <a:lnTo>
                    <a:pt x="116" y="2200"/>
                  </a:lnTo>
                  <a:lnTo>
                    <a:pt x="232" y="1968"/>
                  </a:lnTo>
                  <a:lnTo>
                    <a:pt x="348" y="1737"/>
                  </a:lnTo>
                  <a:lnTo>
                    <a:pt x="463" y="1621"/>
                  </a:lnTo>
                  <a:lnTo>
                    <a:pt x="463" y="1389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0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8" y="0"/>
                  </a:lnTo>
                  <a:lnTo>
                    <a:pt x="463" y="0"/>
                  </a:lnTo>
                  <a:lnTo>
                    <a:pt x="579" y="115"/>
                  </a:lnTo>
                  <a:lnTo>
                    <a:pt x="811" y="231"/>
                  </a:lnTo>
                  <a:lnTo>
                    <a:pt x="926" y="347"/>
                  </a:lnTo>
                  <a:lnTo>
                    <a:pt x="1042" y="579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396080" y="3312000"/>
              <a:ext cx="238680" cy="397800"/>
            </a:xfrm>
            <a:custGeom>
              <a:avLst/>
              <a:gdLst/>
              <a:ahLst/>
              <a:rect l="l" t="t" r="r" b="b"/>
              <a:pathLst>
                <a:path w="6249" h="7412">
                  <a:moveTo>
                    <a:pt x="5439" y="1969"/>
                  </a:moveTo>
                  <a:lnTo>
                    <a:pt x="5439" y="2085"/>
                  </a:lnTo>
                  <a:lnTo>
                    <a:pt x="5555" y="2085"/>
                  </a:lnTo>
                  <a:lnTo>
                    <a:pt x="5555" y="2085"/>
                  </a:lnTo>
                  <a:lnTo>
                    <a:pt x="5671" y="2085"/>
                  </a:lnTo>
                  <a:lnTo>
                    <a:pt x="5671" y="2085"/>
                  </a:lnTo>
                  <a:lnTo>
                    <a:pt x="5786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853"/>
                  </a:lnTo>
                  <a:lnTo>
                    <a:pt x="6018" y="1853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249" y="1737"/>
                  </a:lnTo>
                  <a:lnTo>
                    <a:pt x="6249" y="1737"/>
                  </a:lnTo>
                  <a:lnTo>
                    <a:pt x="6249" y="1853"/>
                  </a:lnTo>
                  <a:lnTo>
                    <a:pt x="6249" y="1969"/>
                  </a:lnTo>
                  <a:lnTo>
                    <a:pt x="6249" y="2085"/>
                  </a:lnTo>
                  <a:lnTo>
                    <a:pt x="6134" y="2201"/>
                  </a:lnTo>
                  <a:lnTo>
                    <a:pt x="6018" y="2316"/>
                  </a:lnTo>
                  <a:lnTo>
                    <a:pt x="5902" y="2432"/>
                  </a:lnTo>
                  <a:lnTo>
                    <a:pt x="5786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3127"/>
                  </a:lnTo>
                  <a:lnTo>
                    <a:pt x="5555" y="3822"/>
                  </a:lnTo>
                  <a:lnTo>
                    <a:pt x="5555" y="4401"/>
                  </a:lnTo>
                  <a:lnTo>
                    <a:pt x="5323" y="4980"/>
                  </a:lnTo>
                  <a:lnTo>
                    <a:pt x="5208" y="5675"/>
                  </a:lnTo>
                  <a:lnTo>
                    <a:pt x="4861" y="6138"/>
                  </a:lnTo>
                  <a:lnTo>
                    <a:pt x="4398" y="6601"/>
                  </a:lnTo>
                  <a:lnTo>
                    <a:pt x="3935" y="7065"/>
                  </a:lnTo>
                  <a:lnTo>
                    <a:pt x="3935" y="7065"/>
                  </a:lnTo>
                  <a:lnTo>
                    <a:pt x="3703" y="7180"/>
                  </a:lnTo>
                  <a:lnTo>
                    <a:pt x="3356" y="7296"/>
                  </a:lnTo>
                  <a:lnTo>
                    <a:pt x="3125" y="7412"/>
                  </a:lnTo>
                  <a:lnTo>
                    <a:pt x="2893" y="7412"/>
                  </a:lnTo>
                  <a:lnTo>
                    <a:pt x="2546" y="7412"/>
                  </a:lnTo>
                  <a:lnTo>
                    <a:pt x="2199" y="7412"/>
                  </a:lnTo>
                  <a:lnTo>
                    <a:pt x="1967" y="7296"/>
                  </a:lnTo>
                  <a:lnTo>
                    <a:pt x="1620" y="7296"/>
                  </a:lnTo>
                  <a:lnTo>
                    <a:pt x="1620" y="7296"/>
                  </a:lnTo>
                  <a:lnTo>
                    <a:pt x="1389" y="7180"/>
                  </a:lnTo>
                  <a:lnTo>
                    <a:pt x="1157" y="7065"/>
                  </a:lnTo>
                  <a:lnTo>
                    <a:pt x="926" y="6949"/>
                  </a:lnTo>
                  <a:lnTo>
                    <a:pt x="694" y="6717"/>
                  </a:lnTo>
                  <a:lnTo>
                    <a:pt x="578" y="6601"/>
                  </a:lnTo>
                  <a:lnTo>
                    <a:pt x="347" y="6370"/>
                  </a:lnTo>
                  <a:lnTo>
                    <a:pt x="231" y="6138"/>
                  </a:lnTo>
                  <a:lnTo>
                    <a:pt x="116" y="5907"/>
                  </a:lnTo>
                  <a:lnTo>
                    <a:pt x="116" y="5907"/>
                  </a:lnTo>
                  <a:lnTo>
                    <a:pt x="0" y="5559"/>
                  </a:lnTo>
                  <a:lnTo>
                    <a:pt x="0" y="5096"/>
                  </a:lnTo>
                  <a:lnTo>
                    <a:pt x="0" y="4748"/>
                  </a:lnTo>
                  <a:lnTo>
                    <a:pt x="0" y="4285"/>
                  </a:lnTo>
                  <a:lnTo>
                    <a:pt x="0" y="3938"/>
                  </a:lnTo>
                  <a:lnTo>
                    <a:pt x="116" y="3590"/>
                  </a:lnTo>
                  <a:lnTo>
                    <a:pt x="347" y="3243"/>
                  </a:lnTo>
                  <a:lnTo>
                    <a:pt x="578" y="2895"/>
                  </a:lnTo>
                  <a:lnTo>
                    <a:pt x="578" y="2895"/>
                  </a:lnTo>
                  <a:lnTo>
                    <a:pt x="926" y="2432"/>
                  </a:lnTo>
                  <a:lnTo>
                    <a:pt x="1273" y="2085"/>
                  </a:lnTo>
                  <a:lnTo>
                    <a:pt x="1736" y="1853"/>
                  </a:lnTo>
                  <a:lnTo>
                    <a:pt x="2083" y="1622"/>
                  </a:lnTo>
                  <a:lnTo>
                    <a:pt x="2546" y="1390"/>
                  </a:lnTo>
                  <a:lnTo>
                    <a:pt x="3009" y="1274"/>
                  </a:lnTo>
                  <a:lnTo>
                    <a:pt x="3587" y="1158"/>
                  </a:lnTo>
                  <a:lnTo>
                    <a:pt x="4050" y="1158"/>
                  </a:lnTo>
                  <a:lnTo>
                    <a:pt x="4050" y="1158"/>
                  </a:lnTo>
                  <a:lnTo>
                    <a:pt x="3587" y="927"/>
                  </a:lnTo>
                  <a:lnTo>
                    <a:pt x="3240" y="811"/>
                  </a:lnTo>
                  <a:lnTo>
                    <a:pt x="2777" y="579"/>
                  </a:lnTo>
                  <a:lnTo>
                    <a:pt x="2314" y="463"/>
                  </a:lnTo>
                  <a:lnTo>
                    <a:pt x="1851" y="463"/>
                  </a:lnTo>
                  <a:lnTo>
                    <a:pt x="1389" y="463"/>
                  </a:lnTo>
                  <a:lnTo>
                    <a:pt x="926" y="579"/>
                  </a:lnTo>
                  <a:lnTo>
                    <a:pt x="578" y="695"/>
                  </a:lnTo>
                  <a:lnTo>
                    <a:pt x="578" y="695"/>
                  </a:lnTo>
                  <a:lnTo>
                    <a:pt x="578" y="463"/>
                  </a:lnTo>
                  <a:lnTo>
                    <a:pt x="694" y="348"/>
                  </a:lnTo>
                  <a:lnTo>
                    <a:pt x="926" y="232"/>
                  </a:lnTo>
                  <a:lnTo>
                    <a:pt x="1041" y="116"/>
                  </a:lnTo>
                  <a:lnTo>
                    <a:pt x="1273" y="116"/>
                  </a:lnTo>
                  <a:lnTo>
                    <a:pt x="1504" y="0"/>
                  </a:lnTo>
                  <a:lnTo>
                    <a:pt x="1620" y="0"/>
                  </a:lnTo>
                  <a:lnTo>
                    <a:pt x="1851" y="0"/>
                  </a:lnTo>
                  <a:lnTo>
                    <a:pt x="1851" y="0"/>
                  </a:lnTo>
                  <a:lnTo>
                    <a:pt x="2314" y="116"/>
                  </a:lnTo>
                  <a:lnTo>
                    <a:pt x="2777" y="232"/>
                  </a:lnTo>
                  <a:lnTo>
                    <a:pt x="3356" y="463"/>
                  </a:lnTo>
                  <a:lnTo>
                    <a:pt x="3819" y="579"/>
                  </a:lnTo>
                  <a:lnTo>
                    <a:pt x="4282" y="811"/>
                  </a:lnTo>
                  <a:lnTo>
                    <a:pt x="4745" y="1043"/>
                  </a:lnTo>
                  <a:lnTo>
                    <a:pt x="5092" y="1506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643760" y="3367800"/>
              <a:ext cx="198720" cy="410040"/>
            </a:xfrm>
            <a:custGeom>
              <a:avLst/>
              <a:gdLst/>
              <a:ahLst/>
              <a:rect l="l" t="t" r="r" b="b"/>
              <a:pathLst>
                <a:path w="5208" h="7643">
                  <a:moveTo>
                    <a:pt x="4976" y="347"/>
                  </a:moveTo>
                  <a:lnTo>
                    <a:pt x="4976" y="347"/>
                  </a:lnTo>
                  <a:lnTo>
                    <a:pt x="4861" y="347"/>
                  </a:lnTo>
                  <a:lnTo>
                    <a:pt x="4745" y="347"/>
                  </a:lnTo>
                  <a:lnTo>
                    <a:pt x="4629" y="347"/>
                  </a:lnTo>
                  <a:lnTo>
                    <a:pt x="4513" y="347"/>
                  </a:lnTo>
                  <a:lnTo>
                    <a:pt x="4398" y="347"/>
                  </a:lnTo>
                  <a:lnTo>
                    <a:pt x="4282" y="231"/>
                  </a:lnTo>
                  <a:lnTo>
                    <a:pt x="4166" y="347"/>
                  </a:lnTo>
                  <a:lnTo>
                    <a:pt x="4166" y="347"/>
                  </a:lnTo>
                  <a:lnTo>
                    <a:pt x="4050" y="347"/>
                  </a:lnTo>
                  <a:lnTo>
                    <a:pt x="3819" y="463"/>
                  </a:lnTo>
                  <a:lnTo>
                    <a:pt x="3703" y="463"/>
                  </a:lnTo>
                  <a:lnTo>
                    <a:pt x="3472" y="579"/>
                  </a:lnTo>
                  <a:lnTo>
                    <a:pt x="3356" y="579"/>
                  </a:lnTo>
                  <a:lnTo>
                    <a:pt x="3240" y="694"/>
                  </a:lnTo>
                  <a:lnTo>
                    <a:pt x="3009" y="810"/>
                  </a:lnTo>
                  <a:lnTo>
                    <a:pt x="2893" y="926"/>
                  </a:lnTo>
                  <a:lnTo>
                    <a:pt x="2893" y="926"/>
                  </a:lnTo>
                  <a:lnTo>
                    <a:pt x="3240" y="926"/>
                  </a:lnTo>
                  <a:lnTo>
                    <a:pt x="3472" y="1042"/>
                  </a:lnTo>
                  <a:lnTo>
                    <a:pt x="3819" y="1158"/>
                  </a:lnTo>
                  <a:lnTo>
                    <a:pt x="4050" y="1273"/>
                  </a:lnTo>
                  <a:lnTo>
                    <a:pt x="4282" y="1389"/>
                  </a:lnTo>
                  <a:lnTo>
                    <a:pt x="4513" y="1621"/>
                  </a:lnTo>
                  <a:lnTo>
                    <a:pt x="4745" y="1852"/>
                  </a:lnTo>
                  <a:lnTo>
                    <a:pt x="4976" y="2084"/>
                  </a:lnTo>
                  <a:lnTo>
                    <a:pt x="4976" y="2084"/>
                  </a:lnTo>
                  <a:lnTo>
                    <a:pt x="5092" y="2663"/>
                  </a:lnTo>
                  <a:lnTo>
                    <a:pt x="5208" y="3242"/>
                  </a:lnTo>
                  <a:lnTo>
                    <a:pt x="5208" y="3821"/>
                  </a:lnTo>
                  <a:lnTo>
                    <a:pt x="5092" y="4400"/>
                  </a:lnTo>
                  <a:lnTo>
                    <a:pt x="4976" y="4979"/>
                  </a:lnTo>
                  <a:lnTo>
                    <a:pt x="4745" y="5558"/>
                  </a:lnTo>
                  <a:lnTo>
                    <a:pt x="4513" y="6137"/>
                  </a:lnTo>
                  <a:lnTo>
                    <a:pt x="4166" y="6601"/>
                  </a:lnTo>
                  <a:lnTo>
                    <a:pt x="4166" y="6601"/>
                  </a:lnTo>
                  <a:lnTo>
                    <a:pt x="3819" y="6948"/>
                  </a:lnTo>
                  <a:lnTo>
                    <a:pt x="3472" y="7180"/>
                  </a:lnTo>
                  <a:lnTo>
                    <a:pt x="3125" y="7411"/>
                  </a:lnTo>
                  <a:lnTo>
                    <a:pt x="2662" y="7527"/>
                  </a:lnTo>
                  <a:lnTo>
                    <a:pt x="2199" y="7643"/>
                  </a:lnTo>
                  <a:lnTo>
                    <a:pt x="1736" y="7643"/>
                  </a:lnTo>
                  <a:lnTo>
                    <a:pt x="1273" y="7643"/>
                  </a:lnTo>
                  <a:lnTo>
                    <a:pt x="810" y="7527"/>
                  </a:lnTo>
                  <a:lnTo>
                    <a:pt x="810" y="7527"/>
                  </a:lnTo>
                  <a:lnTo>
                    <a:pt x="463" y="7064"/>
                  </a:lnTo>
                  <a:lnTo>
                    <a:pt x="231" y="6485"/>
                  </a:lnTo>
                  <a:lnTo>
                    <a:pt x="0" y="5906"/>
                  </a:lnTo>
                  <a:lnTo>
                    <a:pt x="0" y="5211"/>
                  </a:lnTo>
                  <a:lnTo>
                    <a:pt x="116" y="4632"/>
                  </a:lnTo>
                  <a:lnTo>
                    <a:pt x="231" y="3937"/>
                  </a:lnTo>
                  <a:lnTo>
                    <a:pt x="347" y="3358"/>
                  </a:lnTo>
                  <a:lnTo>
                    <a:pt x="578" y="2779"/>
                  </a:lnTo>
                  <a:lnTo>
                    <a:pt x="578" y="2779"/>
                  </a:lnTo>
                  <a:lnTo>
                    <a:pt x="578" y="2547"/>
                  </a:lnTo>
                  <a:lnTo>
                    <a:pt x="694" y="2432"/>
                  </a:lnTo>
                  <a:lnTo>
                    <a:pt x="810" y="2316"/>
                  </a:lnTo>
                  <a:lnTo>
                    <a:pt x="810" y="2200"/>
                  </a:lnTo>
                  <a:lnTo>
                    <a:pt x="926" y="1968"/>
                  </a:lnTo>
                  <a:lnTo>
                    <a:pt x="1041" y="1852"/>
                  </a:lnTo>
                  <a:lnTo>
                    <a:pt x="1041" y="1737"/>
                  </a:lnTo>
                  <a:lnTo>
                    <a:pt x="1157" y="1621"/>
                  </a:lnTo>
                  <a:lnTo>
                    <a:pt x="1157" y="1621"/>
                  </a:lnTo>
                  <a:lnTo>
                    <a:pt x="1041" y="1505"/>
                  </a:lnTo>
                  <a:lnTo>
                    <a:pt x="926" y="1505"/>
                  </a:lnTo>
                  <a:lnTo>
                    <a:pt x="926" y="1389"/>
                  </a:lnTo>
                  <a:lnTo>
                    <a:pt x="810" y="1389"/>
                  </a:lnTo>
                  <a:lnTo>
                    <a:pt x="694" y="1389"/>
                  </a:lnTo>
                  <a:lnTo>
                    <a:pt x="694" y="1389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694" y="1158"/>
                  </a:lnTo>
                  <a:lnTo>
                    <a:pt x="810" y="1158"/>
                  </a:lnTo>
                  <a:lnTo>
                    <a:pt x="926" y="1158"/>
                  </a:lnTo>
                  <a:lnTo>
                    <a:pt x="1041" y="1158"/>
                  </a:lnTo>
                  <a:lnTo>
                    <a:pt x="1157" y="1158"/>
                  </a:lnTo>
                  <a:lnTo>
                    <a:pt x="1389" y="1158"/>
                  </a:lnTo>
                  <a:lnTo>
                    <a:pt x="1504" y="1158"/>
                  </a:lnTo>
                  <a:lnTo>
                    <a:pt x="1620" y="1158"/>
                  </a:lnTo>
                  <a:lnTo>
                    <a:pt x="1620" y="1158"/>
                  </a:lnTo>
                  <a:lnTo>
                    <a:pt x="1967" y="926"/>
                  </a:lnTo>
                  <a:lnTo>
                    <a:pt x="2430" y="694"/>
                  </a:lnTo>
                  <a:lnTo>
                    <a:pt x="2777" y="347"/>
                  </a:lnTo>
                  <a:lnTo>
                    <a:pt x="3240" y="115"/>
                  </a:lnTo>
                  <a:lnTo>
                    <a:pt x="3703" y="0"/>
                  </a:lnTo>
                  <a:lnTo>
                    <a:pt x="4166" y="0"/>
                  </a:lnTo>
                  <a:lnTo>
                    <a:pt x="4629" y="0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409400" y="3399120"/>
              <a:ext cx="185760" cy="285840"/>
            </a:xfrm>
            <a:custGeom>
              <a:avLst/>
              <a:gdLst/>
              <a:ahLst/>
              <a:rect l="l" t="t" r="r" b="b"/>
              <a:pathLst>
                <a:path w="4861" h="5327">
                  <a:moveTo>
                    <a:pt x="4398" y="463"/>
                  </a:moveTo>
                  <a:lnTo>
                    <a:pt x="4629" y="926"/>
                  </a:lnTo>
                  <a:lnTo>
                    <a:pt x="4745" y="1389"/>
                  </a:lnTo>
                  <a:lnTo>
                    <a:pt x="4745" y="1968"/>
                  </a:lnTo>
                  <a:lnTo>
                    <a:pt x="4861" y="2432"/>
                  </a:lnTo>
                  <a:lnTo>
                    <a:pt x="4745" y="2895"/>
                  </a:lnTo>
                  <a:lnTo>
                    <a:pt x="4629" y="3474"/>
                  </a:lnTo>
                  <a:lnTo>
                    <a:pt x="4398" y="3937"/>
                  </a:lnTo>
                  <a:lnTo>
                    <a:pt x="4051" y="4285"/>
                  </a:lnTo>
                  <a:lnTo>
                    <a:pt x="4051" y="4285"/>
                  </a:lnTo>
                  <a:lnTo>
                    <a:pt x="3935" y="4516"/>
                  </a:lnTo>
                  <a:lnTo>
                    <a:pt x="3819" y="4632"/>
                  </a:lnTo>
                  <a:lnTo>
                    <a:pt x="3588" y="4864"/>
                  </a:lnTo>
                  <a:lnTo>
                    <a:pt x="3356" y="4979"/>
                  </a:lnTo>
                  <a:lnTo>
                    <a:pt x="3125" y="5095"/>
                  </a:lnTo>
                  <a:lnTo>
                    <a:pt x="3009" y="5211"/>
                  </a:lnTo>
                  <a:lnTo>
                    <a:pt x="2778" y="5327"/>
                  </a:lnTo>
                  <a:lnTo>
                    <a:pt x="2430" y="5327"/>
                  </a:lnTo>
                  <a:lnTo>
                    <a:pt x="2430" y="5327"/>
                  </a:lnTo>
                  <a:lnTo>
                    <a:pt x="2083" y="5327"/>
                  </a:lnTo>
                  <a:lnTo>
                    <a:pt x="1736" y="5211"/>
                  </a:lnTo>
                  <a:lnTo>
                    <a:pt x="1389" y="5211"/>
                  </a:lnTo>
                  <a:lnTo>
                    <a:pt x="1157" y="5095"/>
                  </a:lnTo>
                  <a:lnTo>
                    <a:pt x="810" y="4864"/>
                  </a:lnTo>
                  <a:lnTo>
                    <a:pt x="579" y="4748"/>
                  </a:lnTo>
                  <a:lnTo>
                    <a:pt x="347" y="4400"/>
                  </a:lnTo>
                  <a:lnTo>
                    <a:pt x="231" y="4053"/>
                  </a:lnTo>
                  <a:lnTo>
                    <a:pt x="231" y="4053"/>
                  </a:lnTo>
                  <a:lnTo>
                    <a:pt x="116" y="3590"/>
                  </a:lnTo>
                  <a:lnTo>
                    <a:pt x="0" y="3242"/>
                  </a:lnTo>
                  <a:lnTo>
                    <a:pt x="116" y="2779"/>
                  </a:lnTo>
                  <a:lnTo>
                    <a:pt x="231" y="2316"/>
                  </a:lnTo>
                  <a:lnTo>
                    <a:pt x="347" y="1853"/>
                  </a:lnTo>
                  <a:lnTo>
                    <a:pt x="579" y="1505"/>
                  </a:lnTo>
                  <a:lnTo>
                    <a:pt x="810" y="1158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504" y="579"/>
                  </a:lnTo>
                  <a:lnTo>
                    <a:pt x="1852" y="463"/>
                  </a:lnTo>
                  <a:lnTo>
                    <a:pt x="2199" y="347"/>
                  </a:lnTo>
                  <a:lnTo>
                    <a:pt x="2546" y="231"/>
                  </a:lnTo>
                  <a:lnTo>
                    <a:pt x="2893" y="115"/>
                  </a:lnTo>
                  <a:lnTo>
                    <a:pt x="3240" y="115"/>
                  </a:lnTo>
                  <a:lnTo>
                    <a:pt x="3703" y="115"/>
                  </a:lnTo>
                  <a:lnTo>
                    <a:pt x="4051" y="0"/>
                  </a:lnTo>
                  <a:lnTo>
                    <a:pt x="4051" y="0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479960" y="3411360"/>
              <a:ext cx="92880" cy="124200"/>
            </a:xfrm>
            <a:custGeom>
              <a:avLst/>
              <a:gdLst/>
              <a:ahLst/>
              <a:rect l="l" t="t" r="r" b="b"/>
              <a:pathLst>
                <a:path w="2430" h="2316">
                  <a:moveTo>
                    <a:pt x="2314" y="579"/>
                  </a:moveTo>
                  <a:lnTo>
                    <a:pt x="2430" y="811"/>
                  </a:lnTo>
                  <a:lnTo>
                    <a:pt x="2430" y="1042"/>
                  </a:lnTo>
                  <a:lnTo>
                    <a:pt x="2430" y="1274"/>
                  </a:lnTo>
                  <a:lnTo>
                    <a:pt x="2314" y="1506"/>
                  </a:lnTo>
                  <a:lnTo>
                    <a:pt x="2199" y="1737"/>
                  </a:lnTo>
                  <a:lnTo>
                    <a:pt x="2083" y="1969"/>
                  </a:lnTo>
                  <a:lnTo>
                    <a:pt x="1851" y="2085"/>
                  </a:lnTo>
                  <a:lnTo>
                    <a:pt x="1620" y="2201"/>
                  </a:lnTo>
                  <a:lnTo>
                    <a:pt x="1620" y="2201"/>
                  </a:lnTo>
                  <a:lnTo>
                    <a:pt x="1504" y="2201"/>
                  </a:lnTo>
                  <a:lnTo>
                    <a:pt x="1388" y="2316"/>
                  </a:lnTo>
                  <a:lnTo>
                    <a:pt x="1157" y="2316"/>
                  </a:lnTo>
                  <a:lnTo>
                    <a:pt x="1041" y="2201"/>
                  </a:lnTo>
                  <a:lnTo>
                    <a:pt x="926" y="2201"/>
                  </a:lnTo>
                  <a:lnTo>
                    <a:pt x="810" y="2201"/>
                  </a:lnTo>
                  <a:lnTo>
                    <a:pt x="578" y="2085"/>
                  </a:lnTo>
                  <a:lnTo>
                    <a:pt x="463" y="2085"/>
                  </a:lnTo>
                  <a:lnTo>
                    <a:pt x="463" y="2085"/>
                  </a:lnTo>
                  <a:lnTo>
                    <a:pt x="347" y="1969"/>
                  </a:lnTo>
                  <a:lnTo>
                    <a:pt x="231" y="1737"/>
                  </a:lnTo>
                  <a:lnTo>
                    <a:pt x="115" y="1622"/>
                  </a:lnTo>
                  <a:lnTo>
                    <a:pt x="115" y="1390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578" y="232"/>
                  </a:lnTo>
                  <a:lnTo>
                    <a:pt x="810" y="116"/>
                  </a:lnTo>
                  <a:lnTo>
                    <a:pt x="1273" y="0"/>
                  </a:lnTo>
                  <a:lnTo>
                    <a:pt x="1620" y="0"/>
                  </a:lnTo>
                  <a:lnTo>
                    <a:pt x="1851" y="116"/>
                  </a:lnTo>
                  <a:lnTo>
                    <a:pt x="2199" y="232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661400" y="3442320"/>
              <a:ext cx="163440" cy="310680"/>
            </a:xfrm>
            <a:custGeom>
              <a:avLst/>
              <a:gdLst/>
              <a:ahLst/>
              <a:rect l="l" t="t" r="r" b="b"/>
              <a:pathLst>
                <a:path w="4282" h="5791">
                  <a:moveTo>
                    <a:pt x="4166" y="927"/>
                  </a:moveTo>
                  <a:lnTo>
                    <a:pt x="4282" y="1506"/>
                  </a:lnTo>
                  <a:lnTo>
                    <a:pt x="4282" y="1969"/>
                  </a:lnTo>
                  <a:lnTo>
                    <a:pt x="4282" y="2432"/>
                  </a:lnTo>
                  <a:lnTo>
                    <a:pt x="4166" y="2895"/>
                  </a:lnTo>
                  <a:lnTo>
                    <a:pt x="4050" y="3359"/>
                  </a:lnTo>
                  <a:lnTo>
                    <a:pt x="3935" y="3822"/>
                  </a:lnTo>
                  <a:lnTo>
                    <a:pt x="3703" y="4285"/>
                  </a:lnTo>
                  <a:lnTo>
                    <a:pt x="3587" y="4633"/>
                  </a:lnTo>
                  <a:lnTo>
                    <a:pt x="3587" y="4633"/>
                  </a:lnTo>
                  <a:lnTo>
                    <a:pt x="3240" y="4980"/>
                  </a:lnTo>
                  <a:lnTo>
                    <a:pt x="3009" y="5327"/>
                  </a:lnTo>
                  <a:lnTo>
                    <a:pt x="2662" y="5443"/>
                  </a:lnTo>
                  <a:lnTo>
                    <a:pt x="2199" y="5675"/>
                  </a:lnTo>
                  <a:lnTo>
                    <a:pt x="1851" y="5791"/>
                  </a:lnTo>
                  <a:lnTo>
                    <a:pt x="1504" y="5791"/>
                  </a:lnTo>
                  <a:lnTo>
                    <a:pt x="1041" y="5791"/>
                  </a:lnTo>
                  <a:lnTo>
                    <a:pt x="578" y="5791"/>
                  </a:lnTo>
                  <a:lnTo>
                    <a:pt x="578" y="5791"/>
                  </a:lnTo>
                  <a:lnTo>
                    <a:pt x="231" y="5096"/>
                  </a:lnTo>
                  <a:lnTo>
                    <a:pt x="0" y="4401"/>
                  </a:lnTo>
                  <a:lnTo>
                    <a:pt x="0" y="3706"/>
                  </a:lnTo>
                  <a:lnTo>
                    <a:pt x="0" y="3011"/>
                  </a:lnTo>
                  <a:lnTo>
                    <a:pt x="231" y="2316"/>
                  </a:lnTo>
                  <a:lnTo>
                    <a:pt x="463" y="1622"/>
                  </a:lnTo>
                  <a:lnTo>
                    <a:pt x="810" y="927"/>
                  </a:lnTo>
                  <a:lnTo>
                    <a:pt x="1157" y="348"/>
                  </a:lnTo>
                  <a:lnTo>
                    <a:pt x="1157" y="348"/>
                  </a:lnTo>
                  <a:lnTo>
                    <a:pt x="1389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0"/>
                  </a:lnTo>
                  <a:lnTo>
                    <a:pt x="2314" y="0"/>
                  </a:lnTo>
                  <a:lnTo>
                    <a:pt x="2662" y="0"/>
                  </a:lnTo>
                  <a:lnTo>
                    <a:pt x="2893" y="116"/>
                  </a:lnTo>
                  <a:lnTo>
                    <a:pt x="3124" y="116"/>
                  </a:lnTo>
                  <a:lnTo>
                    <a:pt x="3124" y="116"/>
                  </a:lnTo>
                  <a:lnTo>
                    <a:pt x="3240" y="232"/>
                  </a:lnTo>
                  <a:lnTo>
                    <a:pt x="3472" y="232"/>
                  </a:lnTo>
                  <a:lnTo>
                    <a:pt x="3587" y="348"/>
                  </a:lnTo>
                  <a:lnTo>
                    <a:pt x="3703" y="463"/>
                  </a:lnTo>
                  <a:lnTo>
                    <a:pt x="3819" y="579"/>
                  </a:lnTo>
                  <a:lnTo>
                    <a:pt x="3935" y="695"/>
                  </a:lnTo>
                  <a:lnTo>
                    <a:pt x="4050" y="811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524240" y="3454920"/>
              <a:ext cx="21960" cy="30960"/>
            </a:xfrm>
            <a:custGeom>
              <a:avLst/>
              <a:gdLst/>
              <a:ahLst/>
              <a:rect l="l" t="t" r="r" b="b"/>
              <a:pathLst>
                <a:path w="579" h="579">
                  <a:moveTo>
                    <a:pt x="463" y="579"/>
                  </a:moveTo>
                  <a:lnTo>
                    <a:pt x="463" y="579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116" y="347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116"/>
                  </a:lnTo>
                  <a:lnTo>
                    <a:pt x="579" y="116"/>
                  </a:lnTo>
                  <a:lnTo>
                    <a:pt x="579" y="231"/>
                  </a:lnTo>
                  <a:lnTo>
                    <a:pt x="579" y="347"/>
                  </a:lnTo>
                  <a:lnTo>
                    <a:pt x="579" y="463"/>
                  </a:lnTo>
                  <a:lnTo>
                    <a:pt x="579" y="463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692360" y="3479760"/>
              <a:ext cx="70560" cy="99360"/>
            </a:xfrm>
            <a:custGeom>
              <a:avLst/>
              <a:gdLst/>
              <a:ahLst/>
              <a:rect l="l" t="t" r="r" b="b"/>
              <a:pathLst>
                <a:path w="1852" h="1853">
                  <a:moveTo>
                    <a:pt x="1852" y="579"/>
                  </a:moveTo>
                  <a:lnTo>
                    <a:pt x="1852" y="811"/>
                  </a:lnTo>
                  <a:lnTo>
                    <a:pt x="1852" y="927"/>
                  </a:lnTo>
                  <a:lnTo>
                    <a:pt x="1736" y="1158"/>
                  </a:lnTo>
                  <a:lnTo>
                    <a:pt x="1736" y="1390"/>
                  </a:lnTo>
                  <a:lnTo>
                    <a:pt x="1620" y="1506"/>
                  </a:lnTo>
                  <a:lnTo>
                    <a:pt x="1389" y="1621"/>
                  </a:lnTo>
                  <a:lnTo>
                    <a:pt x="1273" y="1737"/>
                  </a:lnTo>
                  <a:lnTo>
                    <a:pt x="1041" y="1853"/>
                  </a:lnTo>
                  <a:lnTo>
                    <a:pt x="1041" y="1853"/>
                  </a:lnTo>
                  <a:lnTo>
                    <a:pt x="926" y="1853"/>
                  </a:lnTo>
                  <a:lnTo>
                    <a:pt x="694" y="1853"/>
                  </a:lnTo>
                  <a:lnTo>
                    <a:pt x="579" y="1737"/>
                  </a:lnTo>
                  <a:lnTo>
                    <a:pt x="463" y="1737"/>
                  </a:lnTo>
                  <a:lnTo>
                    <a:pt x="347" y="1621"/>
                  </a:lnTo>
                  <a:lnTo>
                    <a:pt x="231" y="1506"/>
                  </a:lnTo>
                  <a:lnTo>
                    <a:pt x="116" y="1390"/>
                  </a:lnTo>
                  <a:lnTo>
                    <a:pt x="0" y="1274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927"/>
                  </a:lnTo>
                  <a:lnTo>
                    <a:pt x="0" y="811"/>
                  </a:lnTo>
                  <a:lnTo>
                    <a:pt x="0" y="695"/>
                  </a:lnTo>
                  <a:lnTo>
                    <a:pt x="0" y="463"/>
                  </a:lnTo>
                  <a:lnTo>
                    <a:pt x="116" y="348"/>
                  </a:lnTo>
                  <a:lnTo>
                    <a:pt x="116" y="232"/>
                  </a:lnTo>
                  <a:lnTo>
                    <a:pt x="231" y="116"/>
                  </a:lnTo>
                  <a:lnTo>
                    <a:pt x="231" y="116"/>
                  </a:lnTo>
                  <a:lnTo>
                    <a:pt x="463" y="0"/>
                  </a:lnTo>
                  <a:lnTo>
                    <a:pt x="694" y="0"/>
                  </a:lnTo>
                  <a:lnTo>
                    <a:pt x="926" y="0"/>
                  </a:lnTo>
                  <a:lnTo>
                    <a:pt x="1157" y="0"/>
                  </a:lnTo>
                  <a:lnTo>
                    <a:pt x="1389" y="0"/>
                  </a:lnTo>
                  <a:lnTo>
                    <a:pt x="1620" y="116"/>
                  </a:lnTo>
                  <a:lnTo>
                    <a:pt x="1736" y="348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723320" y="3510720"/>
              <a:ext cx="21960" cy="37080"/>
            </a:xfrm>
            <a:custGeom>
              <a:avLst/>
              <a:gdLst/>
              <a:ahLst/>
              <a:rect l="l" t="t" r="r" b="b"/>
              <a:pathLst>
                <a:path w="579" h="695">
                  <a:moveTo>
                    <a:pt x="463" y="116"/>
                  </a:moveTo>
                  <a:lnTo>
                    <a:pt x="463" y="116"/>
                  </a:lnTo>
                  <a:lnTo>
                    <a:pt x="579" y="232"/>
                  </a:lnTo>
                  <a:lnTo>
                    <a:pt x="463" y="348"/>
                  </a:lnTo>
                  <a:lnTo>
                    <a:pt x="463" y="463"/>
                  </a:lnTo>
                  <a:lnTo>
                    <a:pt x="463" y="463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695"/>
                  </a:lnTo>
                  <a:lnTo>
                    <a:pt x="231" y="695"/>
                  </a:lnTo>
                  <a:lnTo>
                    <a:pt x="116" y="695"/>
                  </a:lnTo>
                  <a:lnTo>
                    <a:pt x="116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231" y="116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267560" y="3784320"/>
              <a:ext cx="61920" cy="37080"/>
            </a:xfrm>
            <a:custGeom>
              <a:avLst/>
              <a:gdLst/>
              <a:ahLst/>
              <a:rect l="l" t="t" r="r" b="b"/>
              <a:pathLst>
                <a:path w="1620" h="695">
                  <a:moveTo>
                    <a:pt x="1620" y="116"/>
                  </a:moveTo>
                  <a:lnTo>
                    <a:pt x="1388" y="116"/>
                  </a:lnTo>
                  <a:lnTo>
                    <a:pt x="1157" y="116"/>
                  </a:lnTo>
                  <a:lnTo>
                    <a:pt x="1041" y="231"/>
                  </a:lnTo>
                  <a:lnTo>
                    <a:pt x="810" y="347"/>
                  </a:lnTo>
                  <a:lnTo>
                    <a:pt x="578" y="347"/>
                  </a:lnTo>
                  <a:lnTo>
                    <a:pt x="462" y="463"/>
                  </a:lnTo>
                  <a:lnTo>
                    <a:pt x="347" y="579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0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115" y="347"/>
                  </a:lnTo>
                  <a:lnTo>
                    <a:pt x="115" y="347"/>
                  </a:lnTo>
                  <a:lnTo>
                    <a:pt x="231" y="231"/>
                  </a:lnTo>
                  <a:lnTo>
                    <a:pt x="462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0"/>
                  </a:lnTo>
                  <a:lnTo>
                    <a:pt x="1157" y="0"/>
                  </a:lnTo>
                  <a:lnTo>
                    <a:pt x="1388" y="0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254240" y="3827880"/>
              <a:ext cx="552960" cy="173880"/>
            </a:xfrm>
            <a:custGeom>
              <a:avLst/>
              <a:gdLst/>
              <a:ahLst/>
              <a:rect l="l" t="t" r="r" b="b"/>
              <a:pathLst>
                <a:path w="14467" h="3243">
                  <a:moveTo>
                    <a:pt x="3820" y="232"/>
                  </a:moveTo>
                  <a:lnTo>
                    <a:pt x="3704" y="232"/>
                  </a:lnTo>
                  <a:lnTo>
                    <a:pt x="3472" y="232"/>
                  </a:lnTo>
                  <a:lnTo>
                    <a:pt x="3357" y="232"/>
                  </a:lnTo>
                  <a:lnTo>
                    <a:pt x="3125" y="232"/>
                  </a:lnTo>
                  <a:lnTo>
                    <a:pt x="3009" y="348"/>
                  </a:lnTo>
                  <a:lnTo>
                    <a:pt x="2778" y="348"/>
                  </a:lnTo>
                  <a:lnTo>
                    <a:pt x="2662" y="348"/>
                  </a:lnTo>
                  <a:lnTo>
                    <a:pt x="2431" y="464"/>
                  </a:lnTo>
                  <a:lnTo>
                    <a:pt x="2431" y="464"/>
                  </a:lnTo>
                  <a:lnTo>
                    <a:pt x="2431" y="695"/>
                  </a:lnTo>
                  <a:lnTo>
                    <a:pt x="2431" y="695"/>
                  </a:lnTo>
                  <a:lnTo>
                    <a:pt x="2894" y="1159"/>
                  </a:lnTo>
                  <a:lnTo>
                    <a:pt x="3472" y="1622"/>
                  </a:lnTo>
                  <a:lnTo>
                    <a:pt x="4051" y="1853"/>
                  </a:lnTo>
                  <a:lnTo>
                    <a:pt x="4745" y="2085"/>
                  </a:lnTo>
                  <a:lnTo>
                    <a:pt x="5440" y="2201"/>
                  </a:lnTo>
                  <a:lnTo>
                    <a:pt x="6018" y="2432"/>
                  </a:lnTo>
                  <a:lnTo>
                    <a:pt x="6713" y="2548"/>
                  </a:lnTo>
                  <a:lnTo>
                    <a:pt x="7291" y="2780"/>
                  </a:lnTo>
                  <a:lnTo>
                    <a:pt x="7291" y="2780"/>
                  </a:lnTo>
                  <a:lnTo>
                    <a:pt x="7639" y="2780"/>
                  </a:lnTo>
                  <a:lnTo>
                    <a:pt x="7986" y="2780"/>
                  </a:lnTo>
                  <a:lnTo>
                    <a:pt x="8333" y="2780"/>
                  </a:lnTo>
                  <a:lnTo>
                    <a:pt x="8680" y="2664"/>
                  </a:lnTo>
                  <a:lnTo>
                    <a:pt x="9027" y="2664"/>
                  </a:lnTo>
                  <a:lnTo>
                    <a:pt x="9375" y="2548"/>
                  </a:lnTo>
                  <a:lnTo>
                    <a:pt x="9722" y="2432"/>
                  </a:lnTo>
                  <a:lnTo>
                    <a:pt x="10069" y="2317"/>
                  </a:lnTo>
                  <a:lnTo>
                    <a:pt x="10069" y="2317"/>
                  </a:lnTo>
                  <a:lnTo>
                    <a:pt x="10185" y="2317"/>
                  </a:lnTo>
                  <a:lnTo>
                    <a:pt x="10185" y="2317"/>
                  </a:lnTo>
                  <a:lnTo>
                    <a:pt x="10301" y="2317"/>
                  </a:lnTo>
                  <a:lnTo>
                    <a:pt x="10416" y="2317"/>
                  </a:lnTo>
                  <a:lnTo>
                    <a:pt x="10532" y="2317"/>
                  </a:lnTo>
                  <a:lnTo>
                    <a:pt x="10648" y="2201"/>
                  </a:lnTo>
                  <a:lnTo>
                    <a:pt x="10763" y="2201"/>
                  </a:lnTo>
                  <a:lnTo>
                    <a:pt x="10763" y="2085"/>
                  </a:lnTo>
                  <a:lnTo>
                    <a:pt x="10763" y="2085"/>
                  </a:lnTo>
                  <a:lnTo>
                    <a:pt x="10879" y="2201"/>
                  </a:lnTo>
                  <a:lnTo>
                    <a:pt x="10879" y="2201"/>
                  </a:lnTo>
                  <a:lnTo>
                    <a:pt x="11226" y="1969"/>
                  </a:lnTo>
                  <a:lnTo>
                    <a:pt x="11574" y="1853"/>
                  </a:lnTo>
                  <a:lnTo>
                    <a:pt x="11921" y="1738"/>
                  </a:lnTo>
                  <a:lnTo>
                    <a:pt x="12268" y="1622"/>
                  </a:lnTo>
                  <a:lnTo>
                    <a:pt x="12615" y="1506"/>
                  </a:lnTo>
                  <a:lnTo>
                    <a:pt x="12962" y="1506"/>
                  </a:lnTo>
                  <a:lnTo>
                    <a:pt x="13310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888" y="1390"/>
                  </a:lnTo>
                  <a:lnTo>
                    <a:pt x="14004" y="1390"/>
                  </a:lnTo>
                  <a:lnTo>
                    <a:pt x="14120" y="1274"/>
                  </a:lnTo>
                  <a:lnTo>
                    <a:pt x="14120" y="1159"/>
                  </a:lnTo>
                  <a:lnTo>
                    <a:pt x="14235" y="1159"/>
                  </a:lnTo>
                  <a:lnTo>
                    <a:pt x="14351" y="1159"/>
                  </a:lnTo>
                  <a:lnTo>
                    <a:pt x="14467" y="1159"/>
                  </a:lnTo>
                  <a:lnTo>
                    <a:pt x="14467" y="1159"/>
                  </a:lnTo>
                  <a:lnTo>
                    <a:pt x="14467" y="1274"/>
                  </a:lnTo>
                  <a:lnTo>
                    <a:pt x="14351" y="1390"/>
                  </a:lnTo>
                  <a:lnTo>
                    <a:pt x="14351" y="1506"/>
                  </a:lnTo>
                  <a:lnTo>
                    <a:pt x="14235" y="1622"/>
                  </a:lnTo>
                  <a:lnTo>
                    <a:pt x="14120" y="1738"/>
                  </a:lnTo>
                  <a:lnTo>
                    <a:pt x="14004" y="1853"/>
                  </a:lnTo>
                  <a:lnTo>
                    <a:pt x="13888" y="1853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2962" y="1969"/>
                  </a:lnTo>
                  <a:lnTo>
                    <a:pt x="12152" y="2085"/>
                  </a:lnTo>
                  <a:lnTo>
                    <a:pt x="11458" y="2317"/>
                  </a:lnTo>
                  <a:lnTo>
                    <a:pt x="10648" y="2548"/>
                  </a:lnTo>
                  <a:lnTo>
                    <a:pt x="9953" y="2780"/>
                  </a:lnTo>
                  <a:lnTo>
                    <a:pt x="9143" y="3011"/>
                  </a:lnTo>
                  <a:lnTo>
                    <a:pt x="8333" y="3127"/>
                  </a:lnTo>
                  <a:lnTo>
                    <a:pt x="7523" y="3243"/>
                  </a:lnTo>
                  <a:lnTo>
                    <a:pt x="7523" y="3243"/>
                  </a:lnTo>
                  <a:lnTo>
                    <a:pt x="6713" y="3011"/>
                  </a:lnTo>
                  <a:lnTo>
                    <a:pt x="6018" y="2896"/>
                  </a:lnTo>
                  <a:lnTo>
                    <a:pt x="5208" y="2664"/>
                  </a:lnTo>
                  <a:lnTo>
                    <a:pt x="4514" y="2432"/>
                  </a:lnTo>
                  <a:lnTo>
                    <a:pt x="3704" y="2201"/>
                  </a:lnTo>
                  <a:lnTo>
                    <a:pt x="3125" y="1738"/>
                  </a:lnTo>
                  <a:lnTo>
                    <a:pt x="2431" y="1274"/>
                  </a:lnTo>
                  <a:lnTo>
                    <a:pt x="1968" y="695"/>
                  </a:lnTo>
                  <a:lnTo>
                    <a:pt x="1968" y="695"/>
                  </a:lnTo>
                  <a:lnTo>
                    <a:pt x="1736" y="811"/>
                  </a:lnTo>
                  <a:lnTo>
                    <a:pt x="1505" y="927"/>
                  </a:lnTo>
                  <a:lnTo>
                    <a:pt x="1273" y="1043"/>
                  </a:lnTo>
                  <a:lnTo>
                    <a:pt x="1042" y="1159"/>
                  </a:lnTo>
                  <a:lnTo>
                    <a:pt x="810" y="1274"/>
                  </a:lnTo>
                  <a:lnTo>
                    <a:pt x="579" y="1506"/>
                  </a:lnTo>
                  <a:lnTo>
                    <a:pt x="463" y="1622"/>
                  </a:lnTo>
                  <a:lnTo>
                    <a:pt x="348" y="1853"/>
                  </a:lnTo>
                  <a:lnTo>
                    <a:pt x="348" y="1853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116" y="1390"/>
                  </a:lnTo>
                  <a:lnTo>
                    <a:pt x="348" y="1159"/>
                  </a:lnTo>
                  <a:lnTo>
                    <a:pt x="463" y="927"/>
                  </a:lnTo>
                  <a:lnTo>
                    <a:pt x="810" y="811"/>
                  </a:lnTo>
                  <a:lnTo>
                    <a:pt x="1042" y="695"/>
                  </a:lnTo>
                  <a:lnTo>
                    <a:pt x="1273" y="579"/>
                  </a:lnTo>
                  <a:lnTo>
                    <a:pt x="1621" y="348"/>
                  </a:lnTo>
                  <a:lnTo>
                    <a:pt x="1852" y="232"/>
                  </a:lnTo>
                  <a:lnTo>
                    <a:pt x="1852" y="232"/>
                  </a:lnTo>
                  <a:lnTo>
                    <a:pt x="2084" y="116"/>
                  </a:lnTo>
                  <a:lnTo>
                    <a:pt x="2315" y="116"/>
                  </a:lnTo>
                  <a:lnTo>
                    <a:pt x="2546" y="0"/>
                  </a:lnTo>
                  <a:lnTo>
                    <a:pt x="2778" y="0"/>
                  </a:lnTo>
                  <a:lnTo>
                    <a:pt x="3125" y="0"/>
                  </a:lnTo>
                  <a:lnTo>
                    <a:pt x="3357" y="116"/>
                  </a:lnTo>
                  <a:lnTo>
                    <a:pt x="3588" y="116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329560" y="3927600"/>
              <a:ext cx="366840" cy="298440"/>
            </a:xfrm>
            <a:custGeom>
              <a:avLst/>
              <a:gdLst/>
              <a:ahLst/>
              <a:rect l="l" t="t" r="r" b="b"/>
              <a:pathLst>
                <a:path w="9606" h="5559">
                  <a:moveTo>
                    <a:pt x="9606" y="695"/>
                  </a:moveTo>
                  <a:lnTo>
                    <a:pt x="9606" y="811"/>
                  </a:lnTo>
                  <a:lnTo>
                    <a:pt x="9606" y="811"/>
                  </a:lnTo>
                  <a:lnTo>
                    <a:pt x="9490" y="811"/>
                  </a:lnTo>
                  <a:lnTo>
                    <a:pt x="9375" y="811"/>
                  </a:lnTo>
                  <a:lnTo>
                    <a:pt x="9259" y="811"/>
                  </a:lnTo>
                  <a:lnTo>
                    <a:pt x="9143" y="811"/>
                  </a:lnTo>
                  <a:lnTo>
                    <a:pt x="9027" y="811"/>
                  </a:lnTo>
                  <a:lnTo>
                    <a:pt x="8912" y="927"/>
                  </a:lnTo>
                  <a:lnTo>
                    <a:pt x="8796" y="927"/>
                  </a:lnTo>
                  <a:lnTo>
                    <a:pt x="8680" y="1043"/>
                  </a:lnTo>
                  <a:lnTo>
                    <a:pt x="8680" y="1043"/>
                  </a:lnTo>
                  <a:lnTo>
                    <a:pt x="8912" y="1158"/>
                  </a:lnTo>
                  <a:lnTo>
                    <a:pt x="8912" y="1158"/>
                  </a:lnTo>
                  <a:lnTo>
                    <a:pt x="8680" y="1158"/>
                  </a:lnTo>
                  <a:lnTo>
                    <a:pt x="8564" y="1274"/>
                  </a:lnTo>
                  <a:lnTo>
                    <a:pt x="8333" y="1274"/>
                  </a:lnTo>
                  <a:lnTo>
                    <a:pt x="8102" y="1274"/>
                  </a:lnTo>
                  <a:lnTo>
                    <a:pt x="7986" y="1390"/>
                  </a:lnTo>
                  <a:lnTo>
                    <a:pt x="7754" y="1390"/>
                  </a:lnTo>
                  <a:lnTo>
                    <a:pt x="7639" y="1506"/>
                  </a:lnTo>
                  <a:lnTo>
                    <a:pt x="7407" y="1622"/>
                  </a:lnTo>
                  <a:lnTo>
                    <a:pt x="7407" y="1622"/>
                  </a:lnTo>
                  <a:lnTo>
                    <a:pt x="7639" y="1622"/>
                  </a:lnTo>
                  <a:lnTo>
                    <a:pt x="7754" y="1622"/>
                  </a:lnTo>
                  <a:lnTo>
                    <a:pt x="7870" y="1738"/>
                  </a:lnTo>
                  <a:lnTo>
                    <a:pt x="7986" y="1738"/>
                  </a:lnTo>
                  <a:lnTo>
                    <a:pt x="8102" y="1738"/>
                  </a:lnTo>
                  <a:lnTo>
                    <a:pt x="8217" y="1853"/>
                  </a:lnTo>
                  <a:lnTo>
                    <a:pt x="8333" y="1853"/>
                  </a:lnTo>
                  <a:lnTo>
                    <a:pt x="8564" y="1853"/>
                  </a:lnTo>
                  <a:lnTo>
                    <a:pt x="8564" y="1853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680" y="2085"/>
                  </a:lnTo>
                  <a:lnTo>
                    <a:pt x="8680" y="2085"/>
                  </a:lnTo>
                  <a:lnTo>
                    <a:pt x="8796" y="1969"/>
                  </a:lnTo>
                  <a:lnTo>
                    <a:pt x="8796" y="1969"/>
                  </a:lnTo>
                  <a:lnTo>
                    <a:pt x="8912" y="1969"/>
                  </a:lnTo>
                  <a:lnTo>
                    <a:pt x="8912" y="1969"/>
                  </a:lnTo>
                  <a:lnTo>
                    <a:pt x="9027" y="1969"/>
                  </a:lnTo>
                  <a:lnTo>
                    <a:pt x="9027" y="1969"/>
                  </a:lnTo>
                  <a:lnTo>
                    <a:pt x="8796" y="2085"/>
                  </a:lnTo>
                  <a:lnTo>
                    <a:pt x="8680" y="2085"/>
                  </a:lnTo>
                  <a:lnTo>
                    <a:pt x="8449" y="2201"/>
                  </a:lnTo>
                  <a:lnTo>
                    <a:pt x="8333" y="2317"/>
                  </a:lnTo>
                  <a:lnTo>
                    <a:pt x="8102" y="2317"/>
                  </a:lnTo>
                  <a:lnTo>
                    <a:pt x="7986" y="2432"/>
                  </a:lnTo>
                  <a:lnTo>
                    <a:pt x="7754" y="2664"/>
                  </a:lnTo>
                  <a:lnTo>
                    <a:pt x="7639" y="2780"/>
                  </a:lnTo>
                  <a:lnTo>
                    <a:pt x="7639" y="2780"/>
                  </a:lnTo>
                  <a:lnTo>
                    <a:pt x="7870" y="2780"/>
                  </a:lnTo>
                  <a:lnTo>
                    <a:pt x="8102" y="2780"/>
                  </a:lnTo>
                  <a:lnTo>
                    <a:pt x="8333" y="2780"/>
                  </a:lnTo>
                  <a:lnTo>
                    <a:pt x="8564" y="2664"/>
                  </a:lnTo>
                  <a:lnTo>
                    <a:pt x="8796" y="2548"/>
                  </a:lnTo>
                  <a:lnTo>
                    <a:pt x="9027" y="2548"/>
                  </a:lnTo>
                  <a:lnTo>
                    <a:pt x="9259" y="2432"/>
                  </a:lnTo>
                  <a:lnTo>
                    <a:pt x="9490" y="2432"/>
                  </a:lnTo>
                  <a:lnTo>
                    <a:pt x="9490" y="2432"/>
                  </a:lnTo>
                  <a:lnTo>
                    <a:pt x="8564" y="2896"/>
                  </a:lnTo>
                  <a:lnTo>
                    <a:pt x="7754" y="3243"/>
                  </a:lnTo>
                  <a:lnTo>
                    <a:pt x="6828" y="3590"/>
                  </a:lnTo>
                  <a:lnTo>
                    <a:pt x="6018" y="3938"/>
                  </a:lnTo>
                  <a:lnTo>
                    <a:pt x="5092" y="4401"/>
                  </a:lnTo>
                  <a:lnTo>
                    <a:pt x="4282" y="4749"/>
                  </a:lnTo>
                  <a:lnTo>
                    <a:pt x="3357" y="5096"/>
                  </a:lnTo>
                  <a:lnTo>
                    <a:pt x="2546" y="5559"/>
                  </a:lnTo>
                  <a:lnTo>
                    <a:pt x="2546" y="5559"/>
                  </a:lnTo>
                  <a:lnTo>
                    <a:pt x="2431" y="5443"/>
                  </a:lnTo>
                  <a:lnTo>
                    <a:pt x="2199" y="5328"/>
                  </a:lnTo>
                  <a:lnTo>
                    <a:pt x="1968" y="5212"/>
                  </a:lnTo>
                  <a:lnTo>
                    <a:pt x="1736" y="5212"/>
                  </a:lnTo>
                  <a:lnTo>
                    <a:pt x="1505" y="5096"/>
                  </a:lnTo>
                  <a:lnTo>
                    <a:pt x="1389" y="4980"/>
                  </a:lnTo>
                  <a:lnTo>
                    <a:pt x="1273" y="4864"/>
                  </a:lnTo>
                  <a:lnTo>
                    <a:pt x="1273" y="4517"/>
                  </a:lnTo>
                  <a:lnTo>
                    <a:pt x="1273" y="4517"/>
                  </a:lnTo>
                  <a:lnTo>
                    <a:pt x="1389" y="4401"/>
                  </a:lnTo>
                  <a:lnTo>
                    <a:pt x="1505" y="4170"/>
                  </a:lnTo>
                  <a:lnTo>
                    <a:pt x="1621" y="4054"/>
                  </a:lnTo>
                  <a:lnTo>
                    <a:pt x="1852" y="3822"/>
                  </a:lnTo>
                  <a:lnTo>
                    <a:pt x="1968" y="3706"/>
                  </a:lnTo>
                  <a:lnTo>
                    <a:pt x="2083" y="3590"/>
                  </a:lnTo>
                  <a:lnTo>
                    <a:pt x="2199" y="3359"/>
                  </a:lnTo>
                  <a:lnTo>
                    <a:pt x="2315" y="3243"/>
                  </a:lnTo>
                  <a:lnTo>
                    <a:pt x="2315" y="3243"/>
                  </a:lnTo>
                  <a:lnTo>
                    <a:pt x="2083" y="3011"/>
                  </a:lnTo>
                  <a:lnTo>
                    <a:pt x="1621" y="2896"/>
                  </a:lnTo>
                  <a:lnTo>
                    <a:pt x="1273" y="2896"/>
                  </a:lnTo>
                  <a:lnTo>
                    <a:pt x="810" y="2896"/>
                  </a:lnTo>
                  <a:lnTo>
                    <a:pt x="347" y="2780"/>
                  </a:lnTo>
                  <a:lnTo>
                    <a:pt x="116" y="2664"/>
                  </a:lnTo>
                  <a:lnTo>
                    <a:pt x="0" y="2317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810" y="1274"/>
                  </a:lnTo>
                  <a:lnTo>
                    <a:pt x="1736" y="811"/>
                  </a:lnTo>
                  <a:lnTo>
                    <a:pt x="2662" y="464"/>
                  </a:lnTo>
                  <a:lnTo>
                    <a:pt x="3588" y="232"/>
                  </a:lnTo>
                  <a:lnTo>
                    <a:pt x="4630" y="0"/>
                  </a:lnTo>
                  <a:lnTo>
                    <a:pt x="5555" y="0"/>
                  </a:lnTo>
                  <a:lnTo>
                    <a:pt x="6597" y="116"/>
                  </a:lnTo>
                  <a:lnTo>
                    <a:pt x="7639" y="348"/>
                  </a:lnTo>
                  <a:lnTo>
                    <a:pt x="7639" y="348"/>
                  </a:lnTo>
                  <a:lnTo>
                    <a:pt x="7870" y="464"/>
                  </a:lnTo>
                  <a:lnTo>
                    <a:pt x="8102" y="464"/>
                  </a:lnTo>
                  <a:lnTo>
                    <a:pt x="8333" y="464"/>
                  </a:lnTo>
                  <a:lnTo>
                    <a:pt x="8564" y="464"/>
                  </a:lnTo>
                  <a:lnTo>
                    <a:pt x="8796" y="579"/>
                  </a:lnTo>
                  <a:lnTo>
                    <a:pt x="9143" y="579"/>
                  </a:lnTo>
                  <a:lnTo>
                    <a:pt x="9375" y="579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077480" y="3964680"/>
              <a:ext cx="1291680" cy="466200"/>
            </a:xfrm>
            <a:custGeom>
              <a:avLst/>
              <a:gdLst/>
              <a:ahLst/>
              <a:rect l="l" t="t" r="r" b="b"/>
              <a:pathLst>
                <a:path w="33794" h="8686">
                  <a:moveTo>
                    <a:pt x="-31742" y="0"/>
                  </a:moveTo>
                  <a:lnTo>
                    <a:pt x="-31974" y="116"/>
                  </a:lnTo>
                  <a:lnTo>
                    <a:pt x="-32205" y="348"/>
                  </a:lnTo>
                  <a:lnTo>
                    <a:pt x="-32437" y="463"/>
                  </a:lnTo>
                  <a:lnTo>
                    <a:pt x="-32668" y="579"/>
                  </a:lnTo>
                  <a:lnTo>
                    <a:pt x="32637" y="811"/>
                  </a:lnTo>
                  <a:lnTo>
                    <a:pt x="32521" y="927"/>
                  </a:lnTo>
                  <a:lnTo>
                    <a:pt x="32289" y="1158"/>
                  </a:lnTo>
                  <a:lnTo>
                    <a:pt x="32174" y="1390"/>
                  </a:lnTo>
                  <a:lnTo>
                    <a:pt x="32174" y="1390"/>
                  </a:lnTo>
                  <a:lnTo>
                    <a:pt x="32289" y="1506"/>
                  </a:lnTo>
                  <a:lnTo>
                    <a:pt x="32289" y="1737"/>
                  </a:lnTo>
                  <a:lnTo>
                    <a:pt x="32405" y="1853"/>
                  </a:lnTo>
                  <a:lnTo>
                    <a:pt x="32405" y="1969"/>
                  </a:lnTo>
                  <a:lnTo>
                    <a:pt x="32521" y="2085"/>
                  </a:lnTo>
                  <a:lnTo>
                    <a:pt x="32637" y="2201"/>
                  </a:lnTo>
                  <a:lnTo>
                    <a:pt x="32752" y="2316"/>
                  </a:lnTo>
                  <a:lnTo>
                    <a:pt x="-32668" y="2432"/>
                  </a:lnTo>
                  <a:lnTo>
                    <a:pt x="-32668" y="2432"/>
                  </a:lnTo>
                  <a:lnTo>
                    <a:pt x="29628" y="3011"/>
                  </a:lnTo>
                  <a:lnTo>
                    <a:pt x="26271" y="3590"/>
                  </a:lnTo>
                  <a:lnTo>
                    <a:pt x="23031" y="4169"/>
                  </a:lnTo>
                  <a:lnTo>
                    <a:pt x="19790" y="4864"/>
                  </a:lnTo>
                  <a:lnTo>
                    <a:pt x="16550" y="5443"/>
                  </a:lnTo>
                  <a:lnTo>
                    <a:pt x="13309" y="6138"/>
                  </a:lnTo>
                  <a:lnTo>
                    <a:pt x="10069" y="6833"/>
                  </a:lnTo>
                  <a:lnTo>
                    <a:pt x="6713" y="7644"/>
                  </a:lnTo>
                  <a:lnTo>
                    <a:pt x="6713" y="7644"/>
                  </a:lnTo>
                  <a:lnTo>
                    <a:pt x="0" y="8686"/>
                  </a:lnTo>
                  <a:lnTo>
                    <a:pt x="0" y="8686"/>
                  </a:lnTo>
                  <a:lnTo>
                    <a:pt x="0" y="8454"/>
                  </a:lnTo>
                  <a:lnTo>
                    <a:pt x="0" y="8223"/>
                  </a:lnTo>
                  <a:lnTo>
                    <a:pt x="0" y="7991"/>
                  </a:lnTo>
                  <a:lnTo>
                    <a:pt x="0" y="7760"/>
                  </a:lnTo>
                  <a:lnTo>
                    <a:pt x="116" y="7528"/>
                  </a:lnTo>
                  <a:lnTo>
                    <a:pt x="116" y="7296"/>
                  </a:lnTo>
                  <a:lnTo>
                    <a:pt x="232" y="7065"/>
                  </a:lnTo>
                  <a:lnTo>
                    <a:pt x="232" y="6833"/>
                  </a:lnTo>
                  <a:lnTo>
                    <a:pt x="232" y="6833"/>
                  </a:lnTo>
                  <a:lnTo>
                    <a:pt x="694" y="6486"/>
                  </a:lnTo>
                  <a:lnTo>
                    <a:pt x="694" y="6486"/>
                  </a:lnTo>
                  <a:lnTo>
                    <a:pt x="2662" y="6138"/>
                  </a:lnTo>
                  <a:lnTo>
                    <a:pt x="4745" y="5791"/>
                  </a:lnTo>
                  <a:lnTo>
                    <a:pt x="6713" y="5327"/>
                  </a:lnTo>
                  <a:lnTo>
                    <a:pt x="8796" y="4980"/>
                  </a:lnTo>
                  <a:lnTo>
                    <a:pt x="10879" y="4633"/>
                  </a:lnTo>
                  <a:lnTo>
                    <a:pt x="12962" y="4169"/>
                  </a:lnTo>
                  <a:lnTo>
                    <a:pt x="14930" y="3706"/>
                  </a:lnTo>
                  <a:lnTo>
                    <a:pt x="17013" y="3243"/>
                  </a:lnTo>
                  <a:lnTo>
                    <a:pt x="17013" y="3243"/>
                  </a:lnTo>
                  <a:lnTo>
                    <a:pt x="30553" y="579"/>
                  </a:lnTo>
                  <a:lnTo>
                    <a:pt x="30553" y="579"/>
                  </a:lnTo>
                  <a:lnTo>
                    <a:pt x="31016" y="463"/>
                  </a:lnTo>
                  <a:lnTo>
                    <a:pt x="31363" y="463"/>
                  </a:lnTo>
                  <a:lnTo>
                    <a:pt x="31826" y="348"/>
                  </a:lnTo>
                  <a:lnTo>
                    <a:pt x="32174" y="232"/>
                  </a:lnTo>
                  <a:lnTo>
                    <a:pt x="32521" y="232"/>
                  </a:lnTo>
                  <a:lnTo>
                    <a:pt x="-32552" y="116"/>
                  </a:lnTo>
                  <a:lnTo>
                    <a:pt x="-32205" y="116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847440" y="4045680"/>
              <a:ext cx="181080" cy="204840"/>
            </a:xfrm>
            <a:custGeom>
              <a:avLst/>
              <a:gdLst/>
              <a:ahLst/>
              <a:rect l="l" t="t" r="r" b="b"/>
              <a:pathLst>
                <a:path w="4745" h="3821">
                  <a:moveTo>
                    <a:pt x="4745" y="695"/>
                  </a:moveTo>
                  <a:lnTo>
                    <a:pt x="4514" y="2895"/>
                  </a:lnTo>
                  <a:lnTo>
                    <a:pt x="4514" y="2895"/>
                  </a:lnTo>
                  <a:lnTo>
                    <a:pt x="4282" y="3011"/>
                  </a:lnTo>
                  <a:lnTo>
                    <a:pt x="4051" y="3242"/>
                  </a:lnTo>
                  <a:lnTo>
                    <a:pt x="3819" y="3474"/>
                  </a:lnTo>
                  <a:lnTo>
                    <a:pt x="3588" y="3590"/>
                  </a:lnTo>
                  <a:lnTo>
                    <a:pt x="3356" y="3706"/>
                  </a:lnTo>
                  <a:lnTo>
                    <a:pt x="3125" y="3821"/>
                  </a:lnTo>
                  <a:lnTo>
                    <a:pt x="2893" y="3706"/>
                  </a:lnTo>
                  <a:lnTo>
                    <a:pt x="2662" y="3358"/>
                  </a:lnTo>
                  <a:lnTo>
                    <a:pt x="2662" y="3358"/>
                  </a:lnTo>
                  <a:lnTo>
                    <a:pt x="2430" y="3358"/>
                  </a:lnTo>
                  <a:lnTo>
                    <a:pt x="2315" y="3358"/>
                  </a:lnTo>
                  <a:lnTo>
                    <a:pt x="2199" y="3474"/>
                  </a:lnTo>
                  <a:lnTo>
                    <a:pt x="1967" y="3474"/>
                  </a:lnTo>
                  <a:lnTo>
                    <a:pt x="1852" y="3590"/>
                  </a:lnTo>
                  <a:lnTo>
                    <a:pt x="1736" y="3706"/>
                  </a:lnTo>
                  <a:lnTo>
                    <a:pt x="1505" y="3706"/>
                  </a:lnTo>
                  <a:lnTo>
                    <a:pt x="1389" y="3821"/>
                  </a:lnTo>
                  <a:lnTo>
                    <a:pt x="1389" y="3821"/>
                  </a:lnTo>
                  <a:lnTo>
                    <a:pt x="1042" y="3474"/>
                  </a:lnTo>
                  <a:lnTo>
                    <a:pt x="810" y="3127"/>
                  </a:lnTo>
                  <a:lnTo>
                    <a:pt x="579" y="2663"/>
                  </a:lnTo>
                  <a:lnTo>
                    <a:pt x="463" y="2200"/>
                  </a:lnTo>
                  <a:lnTo>
                    <a:pt x="231" y="1853"/>
                  </a:lnTo>
                  <a:lnTo>
                    <a:pt x="116" y="1389"/>
                  </a:lnTo>
                  <a:lnTo>
                    <a:pt x="0" y="926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463" y="231"/>
                  </a:lnTo>
                  <a:lnTo>
                    <a:pt x="1157" y="0"/>
                  </a:lnTo>
                  <a:lnTo>
                    <a:pt x="1736" y="0"/>
                  </a:lnTo>
                  <a:lnTo>
                    <a:pt x="2430" y="0"/>
                  </a:lnTo>
                  <a:lnTo>
                    <a:pt x="3009" y="116"/>
                  </a:lnTo>
                  <a:lnTo>
                    <a:pt x="3703" y="231"/>
                  </a:lnTo>
                  <a:lnTo>
                    <a:pt x="4282" y="463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033200" y="4089240"/>
              <a:ext cx="26280" cy="105480"/>
            </a:xfrm>
            <a:custGeom>
              <a:avLst/>
              <a:gdLst/>
              <a:ahLst/>
              <a:rect l="l" t="t" r="r" b="b"/>
              <a:pathLst>
                <a:path w="694" h="1969">
                  <a:moveTo>
                    <a:pt x="578" y="1969"/>
                  </a:moveTo>
                  <a:lnTo>
                    <a:pt x="463" y="1969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969"/>
                  </a:lnTo>
                  <a:lnTo>
                    <a:pt x="0" y="1969"/>
                  </a:lnTo>
                  <a:lnTo>
                    <a:pt x="0" y="1853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347" y="0"/>
                  </a:lnTo>
                  <a:lnTo>
                    <a:pt x="694" y="116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068480" y="4101480"/>
              <a:ext cx="30960" cy="105480"/>
            </a:xfrm>
            <a:custGeom>
              <a:avLst/>
              <a:gdLst/>
              <a:ahLst/>
              <a:rect l="l" t="t" r="r" b="b"/>
              <a:pathLst>
                <a:path w="810" h="1969">
                  <a:moveTo>
                    <a:pt x="694" y="232"/>
                  </a:moveTo>
                  <a:lnTo>
                    <a:pt x="810" y="463"/>
                  </a:lnTo>
                  <a:lnTo>
                    <a:pt x="694" y="579"/>
                  </a:lnTo>
                  <a:lnTo>
                    <a:pt x="694" y="695"/>
                  </a:lnTo>
                  <a:lnTo>
                    <a:pt x="694" y="927"/>
                  </a:lnTo>
                  <a:lnTo>
                    <a:pt x="694" y="1042"/>
                  </a:lnTo>
                  <a:lnTo>
                    <a:pt x="694" y="1274"/>
                  </a:lnTo>
                  <a:lnTo>
                    <a:pt x="694" y="1390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737"/>
                  </a:lnTo>
                  <a:lnTo>
                    <a:pt x="578" y="1737"/>
                  </a:lnTo>
                  <a:lnTo>
                    <a:pt x="463" y="1853"/>
                  </a:lnTo>
                  <a:lnTo>
                    <a:pt x="463" y="1853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853"/>
                  </a:lnTo>
                  <a:lnTo>
                    <a:pt x="115" y="1853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506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231" y="232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116"/>
                  </a:lnTo>
                  <a:lnTo>
                    <a:pt x="347" y="116"/>
                  </a:lnTo>
                  <a:lnTo>
                    <a:pt x="463" y="232"/>
                  </a:lnTo>
                  <a:lnTo>
                    <a:pt x="463" y="232"/>
                  </a:lnTo>
                  <a:lnTo>
                    <a:pt x="578" y="347"/>
                  </a:lnTo>
                  <a:lnTo>
                    <a:pt x="578" y="347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081800" y="4101480"/>
              <a:ext cx="1326960" cy="441360"/>
            </a:xfrm>
            <a:custGeom>
              <a:avLst/>
              <a:gdLst/>
              <a:ahLst/>
              <a:rect l="l" t="t" r="r" b="b"/>
              <a:pathLst>
                <a:path w="34719" h="8223">
                  <a:moveTo>
                    <a:pt x="-31048" y="0"/>
                  </a:moveTo>
                  <a:lnTo>
                    <a:pt x="-31279" y="232"/>
                  </a:lnTo>
                  <a:lnTo>
                    <a:pt x="-31395" y="347"/>
                  </a:lnTo>
                  <a:lnTo>
                    <a:pt x="-31627" y="579"/>
                  </a:lnTo>
                  <a:lnTo>
                    <a:pt x="-31742" y="811"/>
                  </a:lnTo>
                  <a:lnTo>
                    <a:pt x="-31858" y="1042"/>
                  </a:lnTo>
                  <a:lnTo>
                    <a:pt x="-31858" y="1390"/>
                  </a:lnTo>
                  <a:lnTo>
                    <a:pt x="-31858" y="1621"/>
                  </a:lnTo>
                  <a:lnTo>
                    <a:pt x="-31742" y="1853"/>
                  </a:lnTo>
                  <a:lnTo>
                    <a:pt x="-31742" y="1853"/>
                  </a:lnTo>
                  <a:lnTo>
                    <a:pt x="-31742" y="2085"/>
                  </a:lnTo>
                  <a:lnTo>
                    <a:pt x="-31627" y="2200"/>
                  </a:lnTo>
                  <a:lnTo>
                    <a:pt x="-31511" y="2200"/>
                  </a:lnTo>
                  <a:lnTo>
                    <a:pt x="-31395" y="2316"/>
                  </a:lnTo>
                  <a:lnTo>
                    <a:pt x="-31279" y="2432"/>
                  </a:lnTo>
                  <a:lnTo>
                    <a:pt x="-31164" y="2432"/>
                  </a:lnTo>
                  <a:lnTo>
                    <a:pt x="-30932" y="2548"/>
                  </a:lnTo>
                  <a:lnTo>
                    <a:pt x="-30817" y="2548"/>
                  </a:lnTo>
                  <a:lnTo>
                    <a:pt x="-30817" y="2548"/>
                  </a:lnTo>
                  <a:lnTo>
                    <a:pt x="-31048" y="2664"/>
                  </a:lnTo>
                  <a:lnTo>
                    <a:pt x="-31395" y="2664"/>
                  </a:lnTo>
                  <a:lnTo>
                    <a:pt x="-31627" y="2779"/>
                  </a:lnTo>
                  <a:lnTo>
                    <a:pt x="-31858" y="2779"/>
                  </a:lnTo>
                  <a:lnTo>
                    <a:pt x="-32090" y="2779"/>
                  </a:lnTo>
                  <a:lnTo>
                    <a:pt x="-32437" y="2895"/>
                  </a:lnTo>
                  <a:lnTo>
                    <a:pt x="-32668" y="2895"/>
                  </a:lnTo>
                  <a:lnTo>
                    <a:pt x="32636" y="3011"/>
                  </a:lnTo>
                  <a:lnTo>
                    <a:pt x="32636" y="3011"/>
                  </a:lnTo>
                  <a:lnTo>
                    <a:pt x="32405" y="2895"/>
                  </a:lnTo>
                  <a:lnTo>
                    <a:pt x="32173" y="2779"/>
                  </a:lnTo>
                  <a:lnTo>
                    <a:pt x="31942" y="2779"/>
                  </a:lnTo>
                  <a:lnTo>
                    <a:pt x="31710" y="2779"/>
                  </a:lnTo>
                  <a:lnTo>
                    <a:pt x="31479" y="2779"/>
                  </a:lnTo>
                  <a:lnTo>
                    <a:pt x="31247" y="2779"/>
                  </a:lnTo>
                  <a:lnTo>
                    <a:pt x="31016" y="2895"/>
                  </a:lnTo>
                  <a:lnTo>
                    <a:pt x="30785" y="2895"/>
                  </a:lnTo>
                  <a:lnTo>
                    <a:pt x="30785" y="2895"/>
                  </a:lnTo>
                  <a:lnTo>
                    <a:pt x="29974" y="3474"/>
                  </a:lnTo>
                  <a:lnTo>
                    <a:pt x="29974" y="3474"/>
                  </a:lnTo>
                  <a:lnTo>
                    <a:pt x="29974" y="3359"/>
                  </a:lnTo>
                  <a:lnTo>
                    <a:pt x="29974" y="3359"/>
                  </a:lnTo>
                  <a:lnTo>
                    <a:pt x="29859" y="3243"/>
                  </a:lnTo>
                  <a:lnTo>
                    <a:pt x="29859" y="3127"/>
                  </a:lnTo>
                  <a:lnTo>
                    <a:pt x="29859" y="3127"/>
                  </a:lnTo>
                  <a:lnTo>
                    <a:pt x="29859" y="3011"/>
                  </a:lnTo>
                  <a:lnTo>
                    <a:pt x="29859" y="3011"/>
                  </a:lnTo>
                  <a:lnTo>
                    <a:pt x="29974" y="2895"/>
                  </a:lnTo>
                  <a:lnTo>
                    <a:pt x="29974" y="2895"/>
                  </a:lnTo>
                  <a:lnTo>
                    <a:pt x="-32321" y="2316"/>
                  </a:lnTo>
                  <a:lnTo>
                    <a:pt x="-32321" y="2316"/>
                  </a:lnTo>
                  <a:lnTo>
                    <a:pt x="-32205" y="2316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553" y="2085"/>
                  </a:lnTo>
                  <a:lnTo>
                    <a:pt x="32521" y="2200"/>
                  </a:lnTo>
                  <a:lnTo>
                    <a:pt x="31942" y="2200"/>
                  </a:lnTo>
                  <a:lnTo>
                    <a:pt x="31479" y="2316"/>
                  </a:lnTo>
                  <a:lnTo>
                    <a:pt x="31016" y="2432"/>
                  </a:lnTo>
                  <a:lnTo>
                    <a:pt x="30437" y="2548"/>
                  </a:lnTo>
                  <a:lnTo>
                    <a:pt x="29974" y="2664"/>
                  </a:lnTo>
                  <a:lnTo>
                    <a:pt x="29512" y="2779"/>
                  </a:lnTo>
                  <a:lnTo>
                    <a:pt x="29512" y="2779"/>
                  </a:lnTo>
                  <a:lnTo>
                    <a:pt x="29396" y="2664"/>
                  </a:lnTo>
                  <a:lnTo>
                    <a:pt x="29164" y="2664"/>
                  </a:lnTo>
                  <a:lnTo>
                    <a:pt x="28933" y="2548"/>
                  </a:lnTo>
                  <a:lnTo>
                    <a:pt x="28701" y="2548"/>
                  </a:lnTo>
                  <a:lnTo>
                    <a:pt x="28470" y="2432"/>
                  </a:lnTo>
                  <a:lnTo>
                    <a:pt x="28238" y="2548"/>
                  </a:lnTo>
                  <a:lnTo>
                    <a:pt x="28123" y="2548"/>
                  </a:lnTo>
                  <a:lnTo>
                    <a:pt x="27891" y="2664"/>
                  </a:lnTo>
                  <a:lnTo>
                    <a:pt x="27891" y="2664"/>
                  </a:lnTo>
                  <a:lnTo>
                    <a:pt x="27660" y="2895"/>
                  </a:lnTo>
                  <a:lnTo>
                    <a:pt x="27544" y="3011"/>
                  </a:lnTo>
                  <a:lnTo>
                    <a:pt x="27428" y="3011"/>
                  </a:lnTo>
                  <a:lnTo>
                    <a:pt x="27197" y="3011"/>
                  </a:lnTo>
                  <a:lnTo>
                    <a:pt x="27081" y="2895"/>
                  </a:lnTo>
                  <a:lnTo>
                    <a:pt x="26850" y="2895"/>
                  </a:lnTo>
                  <a:lnTo>
                    <a:pt x="26618" y="2895"/>
                  </a:lnTo>
                  <a:lnTo>
                    <a:pt x="26502" y="3127"/>
                  </a:lnTo>
                  <a:lnTo>
                    <a:pt x="26502" y="3127"/>
                  </a:lnTo>
                  <a:lnTo>
                    <a:pt x="26387" y="3474"/>
                  </a:lnTo>
                  <a:lnTo>
                    <a:pt x="26155" y="3706"/>
                  </a:lnTo>
                  <a:lnTo>
                    <a:pt x="25924" y="3822"/>
                  </a:lnTo>
                  <a:lnTo>
                    <a:pt x="25577" y="3822"/>
                  </a:lnTo>
                  <a:lnTo>
                    <a:pt x="25229" y="3822"/>
                  </a:lnTo>
                  <a:lnTo>
                    <a:pt x="24882" y="3822"/>
                  </a:lnTo>
                  <a:lnTo>
                    <a:pt x="24651" y="3822"/>
                  </a:lnTo>
                  <a:lnTo>
                    <a:pt x="24304" y="3938"/>
                  </a:lnTo>
                  <a:lnTo>
                    <a:pt x="24304" y="3938"/>
                  </a:lnTo>
                  <a:lnTo>
                    <a:pt x="21526" y="4517"/>
                  </a:lnTo>
                  <a:lnTo>
                    <a:pt x="18633" y="5096"/>
                  </a:lnTo>
                  <a:lnTo>
                    <a:pt x="15855" y="5559"/>
                  </a:lnTo>
                  <a:lnTo>
                    <a:pt x="13078" y="6138"/>
                  </a:lnTo>
                  <a:lnTo>
                    <a:pt x="10184" y="6717"/>
                  </a:lnTo>
                  <a:lnTo>
                    <a:pt x="7407" y="7296"/>
                  </a:lnTo>
                  <a:lnTo>
                    <a:pt x="4513" y="7759"/>
                  </a:lnTo>
                  <a:lnTo>
                    <a:pt x="1620" y="8223"/>
                  </a:lnTo>
                  <a:lnTo>
                    <a:pt x="1620" y="8223"/>
                  </a:lnTo>
                  <a:lnTo>
                    <a:pt x="1389" y="8107"/>
                  </a:lnTo>
                  <a:lnTo>
                    <a:pt x="1157" y="7875"/>
                  </a:lnTo>
                  <a:lnTo>
                    <a:pt x="926" y="7759"/>
                  </a:lnTo>
                  <a:lnTo>
                    <a:pt x="694" y="7528"/>
                  </a:lnTo>
                  <a:lnTo>
                    <a:pt x="463" y="7296"/>
                  </a:lnTo>
                  <a:lnTo>
                    <a:pt x="231" y="7064"/>
                  </a:lnTo>
                  <a:lnTo>
                    <a:pt x="116" y="6717"/>
                  </a:lnTo>
                  <a:lnTo>
                    <a:pt x="0" y="6485"/>
                  </a:lnTo>
                  <a:lnTo>
                    <a:pt x="0" y="6485"/>
                  </a:lnTo>
                  <a:lnTo>
                    <a:pt x="4398" y="5675"/>
                  </a:lnTo>
                  <a:lnTo>
                    <a:pt x="8680" y="4864"/>
                  </a:lnTo>
                  <a:lnTo>
                    <a:pt x="12846" y="3938"/>
                  </a:lnTo>
                  <a:lnTo>
                    <a:pt x="17128" y="3127"/>
                  </a:lnTo>
                  <a:lnTo>
                    <a:pt x="21295" y="2316"/>
                  </a:lnTo>
                  <a:lnTo>
                    <a:pt x="25577" y="1506"/>
                  </a:lnTo>
                  <a:lnTo>
                    <a:pt x="29859" y="695"/>
                  </a:lnTo>
                  <a:lnTo>
                    <a:pt x="-31279" y="116"/>
                  </a:lnTo>
                  <a:lnTo>
                    <a:pt x="-31279" y="116"/>
                  </a:lnTo>
                  <a:lnTo>
                    <a:pt x="-31279" y="0"/>
                  </a:lnTo>
                  <a:lnTo>
                    <a:pt x="-31279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78400" y="4194720"/>
              <a:ext cx="344880" cy="565560"/>
            </a:xfrm>
            <a:custGeom>
              <a:avLst/>
              <a:gdLst/>
              <a:ahLst/>
              <a:rect l="l" t="t" r="r" b="b"/>
              <a:pathLst>
                <a:path w="9027" h="10539">
                  <a:moveTo>
                    <a:pt x="7176" y="579"/>
                  </a:moveTo>
                  <a:lnTo>
                    <a:pt x="7176" y="695"/>
                  </a:lnTo>
                  <a:lnTo>
                    <a:pt x="7176" y="811"/>
                  </a:lnTo>
                  <a:lnTo>
                    <a:pt x="7176" y="927"/>
                  </a:lnTo>
                  <a:lnTo>
                    <a:pt x="7060" y="1042"/>
                  </a:lnTo>
                  <a:lnTo>
                    <a:pt x="7060" y="1158"/>
                  </a:lnTo>
                  <a:lnTo>
                    <a:pt x="6944" y="1274"/>
                  </a:lnTo>
                  <a:lnTo>
                    <a:pt x="6828" y="1274"/>
                  </a:lnTo>
                  <a:lnTo>
                    <a:pt x="6713" y="1274"/>
                  </a:lnTo>
                  <a:lnTo>
                    <a:pt x="6713" y="1274"/>
                  </a:lnTo>
                  <a:lnTo>
                    <a:pt x="6597" y="1274"/>
                  </a:lnTo>
                  <a:lnTo>
                    <a:pt x="6365" y="1274"/>
                  </a:lnTo>
                  <a:lnTo>
                    <a:pt x="6134" y="1274"/>
                  </a:lnTo>
                  <a:lnTo>
                    <a:pt x="6018" y="1274"/>
                  </a:lnTo>
                  <a:lnTo>
                    <a:pt x="5787" y="1390"/>
                  </a:lnTo>
                  <a:lnTo>
                    <a:pt x="5671" y="1506"/>
                  </a:lnTo>
                  <a:lnTo>
                    <a:pt x="5555" y="1622"/>
                  </a:lnTo>
                  <a:lnTo>
                    <a:pt x="5440" y="1737"/>
                  </a:lnTo>
                  <a:lnTo>
                    <a:pt x="5440" y="1737"/>
                  </a:lnTo>
                  <a:lnTo>
                    <a:pt x="5324" y="1969"/>
                  </a:lnTo>
                  <a:lnTo>
                    <a:pt x="5092" y="2201"/>
                  </a:lnTo>
                  <a:lnTo>
                    <a:pt x="4977" y="2432"/>
                  </a:lnTo>
                  <a:lnTo>
                    <a:pt x="4861" y="2664"/>
                  </a:lnTo>
                  <a:lnTo>
                    <a:pt x="4745" y="2895"/>
                  </a:lnTo>
                  <a:lnTo>
                    <a:pt x="4745" y="3127"/>
                  </a:lnTo>
                  <a:lnTo>
                    <a:pt x="4629" y="3359"/>
                  </a:lnTo>
                  <a:lnTo>
                    <a:pt x="4745" y="3590"/>
                  </a:lnTo>
                  <a:lnTo>
                    <a:pt x="4745" y="3590"/>
                  </a:lnTo>
                  <a:lnTo>
                    <a:pt x="4629" y="3822"/>
                  </a:lnTo>
                  <a:lnTo>
                    <a:pt x="4629" y="4054"/>
                  </a:lnTo>
                  <a:lnTo>
                    <a:pt x="4629" y="4401"/>
                  </a:lnTo>
                  <a:lnTo>
                    <a:pt x="4745" y="4633"/>
                  </a:lnTo>
                  <a:lnTo>
                    <a:pt x="4861" y="4864"/>
                  </a:lnTo>
                  <a:lnTo>
                    <a:pt x="4861" y="5212"/>
                  </a:lnTo>
                  <a:lnTo>
                    <a:pt x="4977" y="5443"/>
                  </a:lnTo>
                  <a:lnTo>
                    <a:pt x="5092" y="5675"/>
                  </a:lnTo>
                  <a:lnTo>
                    <a:pt x="5092" y="5675"/>
                  </a:lnTo>
                  <a:lnTo>
                    <a:pt x="5555" y="6138"/>
                  </a:lnTo>
                  <a:lnTo>
                    <a:pt x="5902" y="6486"/>
                  </a:lnTo>
                  <a:lnTo>
                    <a:pt x="6481" y="6717"/>
                  </a:lnTo>
                  <a:lnTo>
                    <a:pt x="6944" y="6949"/>
                  </a:lnTo>
                  <a:lnTo>
                    <a:pt x="7523" y="7180"/>
                  </a:lnTo>
                  <a:lnTo>
                    <a:pt x="7986" y="7296"/>
                  </a:lnTo>
                  <a:lnTo>
                    <a:pt x="8564" y="7528"/>
                  </a:lnTo>
                  <a:lnTo>
                    <a:pt x="9027" y="7875"/>
                  </a:lnTo>
                  <a:lnTo>
                    <a:pt x="9027" y="7875"/>
                  </a:lnTo>
                  <a:lnTo>
                    <a:pt x="9027" y="7991"/>
                  </a:lnTo>
                  <a:lnTo>
                    <a:pt x="9027" y="8107"/>
                  </a:lnTo>
                  <a:lnTo>
                    <a:pt x="9027" y="8223"/>
                  </a:lnTo>
                  <a:lnTo>
                    <a:pt x="8911" y="8339"/>
                  </a:lnTo>
                  <a:lnTo>
                    <a:pt x="8911" y="8454"/>
                  </a:lnTo>
                  <a:lnTo>
                    <a:pt x="8911" y="8570"/>
                  </a:lnTo>
                  <a:lnTo>
                    <a:pt x="8796" y="8686"/>
                  </a:lnTo>
                  <a:lnTo>
                    <a:pt x="8796" y="8802"/>
                  </a:lnTo>
                  <a:lnTo>
                    <a:pt x="8796" y="8802"/>
                  </a:lnTo>
                  <a:lnTo>
                    <a:pt x="8449" y="8918"/>
                  </a:lnTo>
                  <a:lnTo>
                    <a:pt x="8217" y="9033"/>
                  </a:lnTo>
                  <a:lnTo>
                    <a:pt x="7870" y="8918"/>
                  </a:lnTo>
                  <a:lnTo>
                    <a:pt x="7638" y="8918"/>
                  </a:lnTo>
                  <a:lnTo>
                    <a:pt x="7291" y="8686"/>
                  </a:lnTo>
                  <a:lnTo>
                    <a:pt x="7060" y="8570"/>
                  </a:lnTo>
                  <a:lnTo>
                    <a:pt x="6828" y="8454"/>
                  </a:lnTo>
                  <a:lnTo>
                    <a:pt x="6597" y="8223"/>
                  </a:lnTo>
                  <a:lnTo>
                    <a:pt x="6597" y="8223"/>
                  </a:lnTo>
                  <a:lnTo>
                    <a:pt x="6134" y="8223"/>
                  </a:lnTo>
                  <a:lnTo>
                    <a:pt x="5787" y="8107"/>
                  </a:lnTo>
                  <a:lnTo>
                    <a:pt x="5440" y="7991"/>
                  </a:lnTo>
                  <a:lnTo>
                    <a:pt x="5092" y="7759"/>
                  </a:lnTo>
                  <a:lnTo>
                    <a:pt x="4745" y="7528"/>
                  </a:lnTo>
                  <a:lnTo>
                    <a:pt x="4398" y="7296"/>
                  </a:lnTo>
                  <a:lnTo>
                    <a:pt x="4051" y="7065"/>
                  </a:lnTo>
                  <a:lnTo>
                    <a:pt x="3704" y="6949"/>
                  </a:lnTo>
                  <a:lnTo>
                    <a:pt x="3704" y="6949"/>
                  </a:lnTo>
                  <a:lnTo>
                    <a:pt x="3588" y="6833"/>
                  </a:lnTo>
                  <a:lnTo>
                    <a:pt x="3472" y="6949"/>
                  </a:lnTo>
                  <a:lnTo>
                    <a:pt x="4861" y="8223"/>
                  </a:lnTo>
                  <a:lnTo>
                    <a:pt x="4861" y="8223"/>
                  </a:lnTo>
                  <a:lnTo>
                    <a:pt x="4514" y="8223"/>
                  </a:lnTo>
                  <a:lnTo>
                    <a:pt x="4166" y="8107"/>
                  </a:lnTo>
                  <a:lnTo>
                    <a:pt x="3819" y="7875"/>
                  </a:lnTo>
                  <a:lnTo>
                    <a:pt x="3588" y="7644"/>
                  </a:lnTo>
                  <a:lnTo>
                    <a:pt x="3241" y="7412"/>
                  </a:lnTo>
                  <a:lnTo>
                    <a:pt x="3009" y="7180"/>
                  </a:lnTo>
                  <a:lnTo>
                    <a:pt x="2662" y="7065"/>
                  </a:lnTo>
                  <a:lnTo>
                    <a:pt x="2430" y="6949"/>
                  </a:lnTo>
                  <a:lnTo>
                    <a:pt x="2430" y="6949"/>
                  </a:lnTo>
                  <a:lnTo>
                    <a:pt x="2546" y="7180"/>
                  </a:lnTo>
                  <a:lnTo>
                    <a:pt x="2662" y="7412"/>
                  </a:lnTo>
                  <a:lnTo>
                    <a:pt x="2893" y="7644"/>
                  </a:lnTo>
                  <a:lnTo>
                    <a:pt x="3125" y="7875"/>
                  </a:lnTo>
                  <a:lnTo>
                    <a:pt x="3241" y="7991"/>
                  </a:lnTo>
                  <a:lnTo>
                    <a:pt x="3472" y="8223"/>
                  </a:lnTo>
                  <a:lnTo>
                    <a:pt x="3704" y="8454"/>
                  </a:lnTo>
                  <a:lnTo>
                    <a:pt x="3935" y="8570"/>
                  </a:lnTo>
                  <a:lnTo>
                    <a:pt x="3935" y="8570"/>
                  </a:lnTo>
                  <a:lnTo>
                    <a:pt x="3935" y="8686"/>
                  </a:lnTo>
                  <a:lnTo>
                    <a:pt x="3819" y="8686"/>
                  </a:lnTo>
                  <a:lnTo>
                    <a:pt x="3588" y="8802"/>
                  </a:lnTo>
                  <a:lnTo>
                    <a:pt x="3472" y="8802"/>
                  </a:lnTo>
                  <a:lnTo>
                    <a:pt x="3356" y="8802"/>
                  </a:lnTo>
                  <a:lnTo>
                    <a:pt x="3241" y="8802"/>
                  </a:lnTo>
                  <a:lnTo>
                    <a:pt x="3009" y="8802"/>
                  </a:lnTo>
                  <a:lnTo>
                    <a:pt x="3009" y="8686"/>
                  </a:lnTo>
                  <a:lnTo>
                    <a:pt x="3009" y="8686"/>
                  </a:lnTo>
                  <a:lnTo>
                    <a:pt x="2662" y="8570"/>
                  </a:lnTo>
                  <a:lnTo>
                    <a:pt x="2546" y="8339"/>
                  </a:lnTo>
                  <a:lnTo>
                    <a:pt x="2315" y="8107"/>
                  </a:lnTo>
                  <a:lnTo>
                    <a:pt x="2083" y="7875"/>
                  </a:lnTo>
                  <a:lnTo>
                    <a:pt x="1852" y="7644"/>
                  </a:lnTo>
                  <a:lnTo>
                    <a:pt x="1620" y="7412"/>
                  </a:lnTo>
                  <a:lnTo>
                    <a:pt x="1505" y="7296"/>
                  </a:lnTo>
                  <a:lnTo>
                    <a:pt x="1273" y="7065"/>
                  </a:lnTo>
                  <a:lnTo>
                    <a:pt x="1273" y="7065"/>
                  </a:lnTo>
                  <a:lnTo>
                    <a:pt x="1157" y="7412"/>
                  </a:lnTo>
                  <a:lnTo>
                    <a:pt x="1157" y="7759"/>
                  </a:lnTo>
                  <a:lnTo>
                    <a:pt x="1157" y="8107"/>
                  </a:lnTo>
                  <a:lnTo>
                    <a:pt x="1157" y="8454"/>
                  </a:lnTo>
                  <a:lnTo>
                    <a:pt x="1273" y="8802"/>
                  </a:lnTo>
                  <a:lnTo>
                    <a:pt x="1389" y="9149"/>
                  </a:lnTo>
                  <a:lnTo>
                    <a:pt x="1505" y="9612"/>
                  </a:lnTo>
                  <a:lnTo>
                    <a:pt x="1620" y="9960"/>
                  </a:lnTo>
                  <a:lnTo>
                    <a:pt x="1620" y="9960"/>
                  </a:lnTo>
                  <a:lnTo>
                    <a:pt x="1620" y="10539"/>
                  </a:lnTo>
                  <a:lnTo>
                    <a:pt x="1620" y="10539"/>
                  </a:lnTo>
                  <a:lnTo>
                    <a:pt x="1389" y="10539"/>
                  </a:lnTo>
                  <a:lnTo>
                    <a:pt x="1273" y="10539"/>
                  </a:lnTo>
                  <a:lnTo>
                    <a:pt x="1042" y="10423"/>
                  </a:lnTo>
                  <a:lnTo>
                    <a:pt x="926" y="10423"/>
                  </a:lnTo>
                  <a:lnTo>
                    <a:pt x="810" y="10191"/>
                  </a:lnTo>
                  <a:lnTo>
                    <a:pt x="695" y="10076"/>
                  </a:lnTo>
                  <a:lnTo>
                    <a:pt x="579" y="9960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116" y="9149"/>
                  </a:lnTo>
                  <a:lnTo>
                    <a:pt x="0" y="8570"/>
                  </a:lnTo>
                  <a:lnTo>
                    <a:pt x="116" y="7991"/>
                  </a:lnTo>
                  <a:lnTo>
                    <a:pt x="347" y="7412"/>
                  </a:lnTo>
                  <a:lnTo>
                    <a:pt x="579" y="6833"/>
                  </a:lnTo>
                  <a:lnTo>
                    <a:pt x="810" y="6138"/>
                  </a:lnTo>
                  <a:lnTo>
                    <a:pt x="926" y="5559"/>
                  </a:lnTo>
                  <a:lnTo>
                    <a:pt x="926" y="4864"/>
                  </a:lnTo>
                  <a:lnTo>
                    <a:pt x="926" y="4864"/>
                  </a:lnTo>
                  <a:lnTo>
                    <a:pt x="1157" y="4864"/>
                  </a:lnTo>
                  <a:lnTo>
                    <a:pt x="1389" y="4864"/>
                  </a:lnTo>
                  <a:lnTo>
                    <a:pt x="1620" y="4864"/>
                  </a:lnTo>
                  <a:lnTo>
                    <a:pt x="1852" y="4748"/>
                  </a:lnTo>
                  <a:lnTo>
                    <a:pt x="2083" y="4633"/>
                  </a:lnTo>
                  <a:lnTo>
                    <a:pt x="2315" y="4517"/>
                  </a:lnTo>
                  <a:lnTo>
                    <a:pt x="2546" y="4401"/>
                  </a:lnTo>
                  <a:lnTo>
                    <a:pt x="2662" y="4169"/>
                  </a:lnTo>
                  <a:lnTo>
                    <a:pt x="2662" y="4169"/>
                  </a:lnTo>
                  <a:lnTo>
                    <a:pt x="2778" y="3822"/>
                  </a:lnTo>
                  <a:lnTo>
                    <a:pt x="3009" y="3475"/>
                  </a:lnTo>
                  <a:lnTo>
                    <a:pt x="3125" y="3127"/>
                  </a:lnTo>
                  <a:lnTo>
                    <a:pt x="3241" y="2780"/>
                  </a:lnTo>
                  <a:lnTo>
                    <a:pt x="3241" y="2432"/>
                  </a:lnTo>
                  <a:lnTo>
                    <a:pt x="3241" y="2085"/>
                  </a:lnTo>
                  <a:lnTo>
                    <a:pt x="3125" y="1737"/>
                  </a:lnTo>
                  <a:lnTo>
                    <a:pt x="3009" y="1390"/>
                  </a:lnTo>
                  <a:lnTo>
                    <a:pt x="3009" y="1390"/>
                  </a:lnTo>
                  <a:lnTo>
                    <a:pt x="3125" y="1274"/>
                  </a:lnTo>
                  <a:lnTo>
                    <a:pt x="3241" y="1042"/>
                  </a:lnTo>
                  <a:lnTo>
                    <a:pt x="3472" y="811"/>
                  </a:lnTo>
                  <a:lnTo>
                    <a:pt x="3704" y="695"/>
                  </a:lnTo>
                  <a:lnTo>
                    <a:pt x="3819" y="579"/>
                  </a:lnTo>
                  <a:lnTo>
                    <a:pt x="4051" y="463"/>
                  </a:lnTo>
                  <a:lnTo>
                    <a:pt x="4282" y="463"/>
                  </a:lnTo>
                  <a:lnTo>
                    <a:pt x="4629" y="463"/>
                  </a:lnTo>
                  <a:lnTo>
                    <a:pt x="4629" y="463"/>
                  </a:lnTo>
                  <a:lnTo>
                    <a:pt x="4745" y="579"/>
                  </a:lnTo>
                  <a:lnTo>
                    <a:pt x="4977" y="579"/>
                  </a:lnTo>
                  <a:lnTo>
                    <a:pt x="5092" y="695"/>
                  </a:lnTo>
                  <a:lnTo>
                    <a:pt x="5324" y="811"/>
                  </a:lnTo>
                  <a:lnTo>
                    <a:pt x="5440" y="927"/>
                  </a:lnTo>
                  <a:lnTo>
                    <a:pt x="5555" y="927"/>
                  </a:lnTo>
                  <a:lnTo>
                    <a:pt x="5787" y="927"/>
                  </a:lnTo>
                  <a:lnTo>
                    <a:pt x="6018" y="811"/>
                  </a:lnTo>
                  <a:lnTo>
                    <a:pt x="6018" y="811"/>
                  </a:lnTo>
                  <a:lnTo>
                    <a:pt x="5671" y="463"/>
                  </a:lnTo>
                  <a:lnTo>
                    <a:pt x="5671" y="463"/>
                  </a:lnTo>
                  <a:lnTo>
                    <a:pt x="5902" y="348"/>
                  </a:lnTo>
                  <a:lnTo>
                    <a:pt x="6134" y="232"/>
                  </a:lnTo>
                  <a:lnTo>
                    <a:pt x="6365" y="116"/>
                  </a:lnTo>
                  <a:lnTo>
                    <a:pt x="6597" y="0"/>
                  </a:lnTo>
                  <a:lnTo>
                    <a:pt x="6828" y="0"/>
                  </a:lnTo>
                  <a:lnTo>
                    <a:pt x="6944" y="116"/>
                  </a:lnTo>
                  <a:lnTo>
                    <a:pt x="7060" y="232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869400" y="4250880"/>
              <a:ext cx="110520" cy="173880"/>
            </a:xfrm>
            <a:custGeom>
              <a:avLst/>
              <a:gdLst/>
              <a:ahLst/>
              <a:rect l="l" t="t" r="r" b="b"/>
              <a:pathLst>
                <a:path w="2893" h="3243">
                  <a:moveTo>
                    <a:pt x="2893" y="927"/>
                  </a:moveTo>
                  <a:lnTo>
                    <a:pt x="2893" y="1159"/>
                  </a:lnTo>
                  <a:lnTo>
                    <a:pt x="2893" y="1390"/>
                  </a:lnTo>
                  <a:lnTo>
                    <a:pt x="2893" y="1622"/>
                  </a:lnTo>
                  <a:lnTo>
                    <a:pt x="2893" y="1853"/>
                  </a:lnTo>
                  <a:lnTo>
                    <a:pt x="2777" y="2085"/>
                  </a:lnTo>
                  <a:lnTo>
                    <a:pt x="2661" y="2317"/>
                  </a:lnTo>
                  <a:lnTo>
                    <a:pt x="2546" y="2548"/>
                  </a:lnTo>
                  <a:lnTo>
                    <a:pt x="2430" y="2780"/>
                  </a:lnTo>
                  <a:lnTo>
                    <a:pt x="2430" y="2780"/>
                  </a:lnTo>
                  <a:lnTo>
                    <a:pt x="2314" y="2896"/>
                  </a:lnTo>
                  <a:lnTo>
                    <a:pt x="2199" y="3012"/>
                  </a:lnTo>
                  <a:lnTo>
                    <a:pt x="1967" y="3127"/>
                  </a:lnTo>
                  <a:lnTo>
                    <a:pt x="1851" y="3243"/>
                  </a:lnTo>
                  <a:lnTo>
                    <a:pt x="1620" y="3243"/>
                  </a:lnTo>
                  <a:lnTo>
                    <a:pt x="1388" y="3243"/>
                  </a:lnTo>
                  <a:lnTo>
                    <a:pt x="1157" y="3243"/>
                  </a:lnTo>
                  <a:lnTo>
                    <a:pt x="1041" y="3243"/>
                  </a:lnTo>
                  <a:lnTo>
                    <a:pt x="1041" y="3243"/>
                  </a:lnTo>
                  <a:lnTo>
                    <a:pt x="810" y="3127"/>
                  </a:lnTo>
                  <a:lnTo>
                    <a:pt x="694" y="3127"/>
                  </a:lnTo>
                  <a:lnTo>
                    <a:pt x="463" y="3012"/>
                  </a:lnTo>
                  <a:lnTo>
                    <a:pt x="347" y="2896"/>
                  </a:lnTo>
                  <a:lnTo>
                    <a:pt x="231" y="2664"/>
                  </a:lnTo>
                  <a:lnTo>
                    <a:pt x="231" y="2548"/>
                  </a:lnTo>
                  <a:lnTo>
                    <a:pt x="115" y="2433"/>
                  </a:lnTo>
                  <a:lnTo>
                    <a:pt x="0" y="2201"/>
                  </a:lnTo>
                  <a:lnTo>
                    <a:pt x="0" y="2201"/>
                  </a:lnTo>
                  <a:lnTo>
                    <a:pt x="231" y="2317"/>
                  </a:lnTo>
                  <a:lnTo>
                    <a:pt x="347" y="2317"/>
                  </a:lnTo>
                  <a:lnTo>
                    <a:pt x="578" y="2317"/>
                  </a:lnTo>
                  <a:lnTo>
                    <a:pt x="810" y="2317"/>
                  </a:lnTo>
                  <a:lnTo>
                    <a:pt x="926" y="2317"/>
                  </a:lnTo>
                  <a:lnTo>
                    <a:pt x="1157" y="2201"/>
                  </a:lnTo>
                  <a:lnTo>
                    <a:pt x="1388" y="2201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736" y="1738"/>
                  </a:lnTo>
                  <a:lnTo>
                    <a:pt x="1851" y="1506"/>
                  </a:lnTo>
                  <a:lnTo>
                    <a:pt x="1851" y="1390"/>
                  </a:lnTo>
                  <a:lnTo>
                    <a:pt x="1967" y="1159"/>
                  </a:lnTo>
                  <a:lnTo>
                    <a:pt x="1967" y="1043"/>
                  </a:lnTo>
                  <a:lnTo>
                    <a:pt x="1851" y="811"/>
                  </a:lnTo>
                  <a:lnTo>
                    <a:pt x="1736" y="695"/>
                  </a:lnTo>
                  <a:lnTo>
                    <a:pt x="1736" y="695"/>
                  </a:lnTo>
                  <a:lnTo>
                    <a:pt x="1504" y="232"/>
                  </a:lnTo>
                  <a:lnTo>
                    <a:pt x="1504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116"/>
                  </a:lnTo>
                  <a:lnTo>
                    <a:pt x="2314" y="232"/>
                  </a:lnTo>
                  <a:lnTo>
                    <a:pt x="2546" y="348"/>
                  </a:lnTo>
                  <a:lnTo>
                    <a:pt x="2661" y="580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130480" y="4257000"/>
              <a:ext cx="79560" cy="173880"/>
            </a:xfrm>
            <a:custGeom>
              <a:avLst/>
              <a:gdLst/>
              <a:ahLst/>
              <a:rect l="l" t="t" r="r" b="b"/>
              <a:pathLst>
                <a:path w="2084" h="3243">
                  <a:moveTo>
                    <a:pt x="2084" y="464"/>
                  </a:moveTo>
                  <a:lnTo>
                    <a:pt x="2084" y="811"/>
                  </a:lnTo>
                  <a:lnTo>
                    <a:pt x="2084" y="1043"/>
                  </a:lnTo>
                  <a:lnTo>
                    <a:pt x="1968" y="1274"/>
                  </a:lnTo>
                  <a:lnTo>
                    <a:pt x="1852" y="1622"/>
                  </a:lnTo>
                  <a:lnTo>
                    <a:pt x="1736" y="1853"/>
                  </a:lnTo>
                  <a:lnTo>
                    <a:pt x="1621" y="2085"/>
                  </a:lnTo>
                  <a:lnTo>
                    <a:pt x="1505" y="2317"/>
                  </a:lnTo>
                  <a:lnTo>
                    <a:pt x="1389" y="2548"/>
                  </a:lnTo>
                  <a:lnTo>
                    <a:pt x="1389" y="2548"/>
                  </a:lnTo>
                  <a:lnTo>
                    <a:pt x="1158" y="2664"/>
                  </a:lnTo>
                  <a:lnTo>
                    <a:pt x="1042" y="2780"/>
                  </a:lnTo>
                  <a:lnTo>
                    <a:pt x="926" y="2896"/>
                  </a:lnTo>
                  <a:lnTo>
                    <a:pt x="695" y="3011"/>
                  </a:lnTo>
                  <a:lnTo>
                    <a:pt x="579" y="3127"/>
                  </a:lnTo>
                  <a:lnTo>
                    <a:pt x="463" y="3243"/>
                  </a:lnTo>
                  <a:lnTo>
                    <a:pt x="232" y="3243"/>
                  </a:lnTo>
                  <a:lnTo>
                    <a:pt x="0" y="3243"/>
                  </a:lnTo>
                  <a:lnTo>
                    <a:pt x="0" y="3243"/>
                  </a:lnTo>
                  <a:lnTo>
                    <a:pt x="116" y="2896"/>
                  </a:lnTo>
                  <a:lnTo>
                    <a:pt x="116" y="2548"/>
                  </a:lnTo>
                  <a:lnTo>
                    <a:pt x="232" y="2317"/>
                  </a:lnTo>
                  <a:lnTo>
                    <a:pt x="348" y="1969"/>
                  </a:lnTo>
                  <a:lnTo>
                    <a:pt x="348" y="1622"/>
                  </a:lnTo>
                  <a:lnTo>
                    <a:pt x="348" y="1274"/>
                  </a:lnTo>
                  <a:lnTo>
                    <a:pt x="348" y="927"/>
                  </a:lnTo>
                  <a:lnTo>
                    <a:pt x="232" y="579"/>
                  </a:lnTo>
                  <a:lnTo>
                    <a:pt x="232" y="579"/>
                  </a:lnTo>
                  <a:lnTo>
                    <a:pt x="348" y="232"/>
                  </a:lnTo>
                  <a:lnTo>
                    <a:pt x="463" y="116"/>
                  </a:lnTo>
                  <a:lnTo>
                    <a:pt x="695" y="0"/>
                  </a:lnTo>
                  <a:lnTo>
                    <a:pt x="1042" y="0"/>
                  </a:lnTo>
                  <a:lnTo>
                    <a:pt x="1273" y="116"/>
                  </a:lnTo>
                  <a:lnTo>
                    <a:pt x="1621" y="232"/>
                  </a:lnTo>
                  <a:lnTo>
                    <a:pt x="1852" y="348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196720" y="4269600"/>
              <a:ext cx="128160" cy="142920"/>
            </a:xfrm>
            <a:custGeom>
              <a:avLst/>
              <a:gdLst/>
              <a:ahLst/>
              <a:rect l="l" t="t" r="r" b="b"/>
              <a:pathLst>
                <a:path w="3357" h="2664">
                  <a:moveTo>
                    <a:pt x="3357" y="347"/>
                  </a:moveTo>
                  <a:lnTo>
                    <a:pt x="3125" y="811"/>
                  </a:lnTo>
                  <a:lnTo>
                    <a:pt x="2894" y="1158"/>
                  </a:lnTo>
                  <a:lnTo>
                    <a:pt x="2546" y="1505"/>
                  </a:lnTo>
                  <a:lnTo>
                    <a:pt x="2199" y="1853"/>
                  </a:lnTo>
                  <a:lnTo>
                    <a:pt x="1852" y="2200"/>
                  </a:lnTo>
                  <a:lnTo>
                    <a:pt x="1505" y="2432"/>
                  </a:lnTo>
                  <a:lnTo>
                    <a:pt x="1042" y="2548"/>
                  </a:lnTo>
                  <a:lnTo>
                    <a:pt x="695" y="2664"/>
                  </a:lnTo>
                  <a:lnTo>
                    <a:pt x="695" y="2664"/>
                  </a:lnTo>
                  <a:lnTo>
                    <a:pt x="0" y="2548"/>
                  </a:lnTo>
                  <a:lnTo>
                    <a:pt x="0" y="2548"/>
                  </a:lnTo>
                  <a:lnTo>
                    <a:pt x="348" y="2200"/>
                  </a:lnTo>
                  <a:lnTo>
                    <a:pt x="463" y="1853"/>
                  </a:lnTo>
                  <a:lnTo>
                    <a:pt x="695" y="1505"/>
                  </a:lnTo>
                  <a:lnTo>
                    <a:pt x="810" y="1158"/>
                  </a:lnTo>
                  <a:lnTo>
                    <a:pt x="926" y="811"/>
                  </a:lnTo>
                  <a:lnTo>
                    <a:pt x="1158" y="579"/>
                  </a:lnTo>
                  <a:lnTo>
                    <a:pt x="1505" y="232"/>
                  </a:lnTo>
                  <a:lnTo>
                    <a:pt x="1852" y="116"/>
                  </a:lnTo>
                  <a:lnTo>
                    <a:pt x="1852" y="116"/>
                  </a:lnTo>
                  <a:lnTo>
                    <a:pt x="2083" y="0"/>
                  </a:lnTo>
                  <a:lnTo>
                    <a:pt x="2315" y="0"/>
                  </a:lnTo>
                  <a:lnTo>
                    <a:pt x="2431" y="0"/>
                  </a:lnTo>
                  <a:lnTo>
                    <a:pt x="2662" y="0"/>
                  </a:lnTo>
                  <a:lnTo>
                    <a:pt x="2778" y="116"/>
                  </a:lnTo>
                  <a:lnTo>
                    <a:pt x="3009" y="116"/>
                  </a:lnTo>
                  <a:lnTo>
                    <a:pt x="3125" y="232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019600" y="4287960"/>
              <a:ext cx="105840" cy="186480"/>
            </a:xfrm>
            <a:custGeom>
              <a:avLst/>
              <a:gdLst/>
              <a:ahLst/>
              <a:rect l="l" t="t" r="r" b="b"/>
              <a:pathLst>
                <a:path w="2778" h="3475">
                  <a:moveTo>
                    <a:pt x="2778" y="1158"/>
                  </a:moveTo>
                  <a:lnTo>
                    <a:pt x="2662" y="1506"/>
                  </a:lnTo>
                  <a:lnTo>
                    <a:pt x="2662" y="1738"/>
                  </a:lnTo>
                  <a:lnTo>
                    <a:pt x="2546" y="2085"/>
                  </a:lnTo>
                  <a:lnTo>
                    <a:pt x="2430" y="2317"/>
                  </a:lnTo>
                  <a:lnTo>
                    <a:pt x="2430" y="2664"/>
                  </a:lnTo>
                  <a:lnTo>
                    <a:pt x="2199" y="2896"/>
                  </a:lnTo>
                  <a:lnTo>
                    <a:pt x="2083" y="3127"/>
                  </a:lnTo>
                  <a:lnTo>
                    <a:pt x="1736" y="3243"/>
                  </a:lnTo>
                  <a:lnTo>
                    <a:pt x="1736" y="3243"/>
                  </a:lnTo>
                  <a:lnTo>
                    <a:pt x="1620" y="3359"/>
                  </a:lnTo>
                  <a:lnTo>
                    <a:pt x="1505" y="3359"/>
                  </a:lnTo>
                  <a:lnTo>
                    <a:pt x="1273" y="3359"/>
                  </a:lnTo>
                  <a:lnTo>
                    <a:pt x="1157" y="3475"/>
                  </a:lnTo>
                  <a:lnTo>
                    <a:pt x="1042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579" y="3359"/>
                  </a:lnTo>
                  <a:lnTo>
                    <a:pt x="579" y="3359"/>
                  </a:lnTo>
                  <a:lnTo>
                    <a:pt x="347" y="3127"/>
                  </a:lnTo>
                  <a:lnTo>
                    <a:pt x="231" y="2896"/>
                  </a:lnTo>
                  <a:lnTo>
                    <a:pt x="231" y="2664"/>
                  </a:lnTo>
                  <a:lnTo>
                    <a:pt x="116" y="2432"/>
                  </a:lnTo>
                  <a:lnTo>
                    <a:pt x="116" y="2201"/>
                  </a:lnTo>
                  <a:lnTo>
                    <a:pt x="116" y="1969"/>
                  </a:lnTo>
                  <a:lnTo>
                    <a:pt x="0" y="1738"/>
                  </a:lnTo>
                  <a:lnTo>
                    <a:pt x="0" y="1506"/>
                  </a:lnTo>
                  <a:lnTo>
                    <a:pt x="0" y="1506"/>
                  </a:lnTo>
                  <a:lnTo>
                    <a:pt x="926" y="1274"/>
                  </a:lnTo>
                  <a:lnTo>
                    <a:pt x="926" y="1274"/>
                  </a:lnTo>
                  <a:lnTo>
                    <a:pt x="926" y="1390"/>
                  </a:lnTo>
                  <a:lnTo>
                    <a:pt x="926" y="1506"/>
                  </a:lnTo>
                  <a:lnTo>
                    <a:pt x="926" y="1622"/>
                  </a:lnTo>
                  <a:lnTo>
                    <a:pt x="926" y="1738"/>
                  </a:lnTo>
                  <a:lnTo>
                    <a:pt x="926" y="1853"/>
                  </a:lnTo>
                  <a:lnTo>
                    <a:pt x="926" y="1853"/>
                  </a:lnTo>
                  <a:lnTo>
                    <a:pt x="926" y="1969"/>
                  </a:lnTo>
                  <a:lnTo>
                    <a:pt x="1042" y="2085"/>
                  </a:lnTo>
                  <a:lnTo>
                    <a:pt x="1042" y="2085"/>
                  </a:lnTo>
                  <a:lnTo>
                    <a:pt x="1157" y="1738"/>
                  </a:lnTo>
                  <a:lnTo>
                    <a:pt x="1273" y="1390"/>
                  </a:lnTo>
                  <a:lnTo>
                    <a:pt x="1389" y="1158"/>
                  </a:lnTo>
                  <a:lnTo>
                    <a:pt x="1620" y="927"/>
                  </a:lnTo>
                  <a:lnTo>
                    <a:pt x="1852" y="579"/>
                  </a:lnTo>
                  <a:lnTo>
                    <a:pt x="2083" y="348"/>
                  </a:lnTo>
                  <a:lnTo>
                    <a:pt x="2315" y="232"/>
                  </a:lnTo>
                  <a:lnTo>
                    <a:pt x="2546" y="0"/>
                  </a:lnTo>
                  <a:lnTo>
                    <a:pt x="2546" y="0"/>
                  </a:lnTo>
                  <a:lnTo>
                    <a:pt x="2662" y="116"/>
                  </a:lnTo>
                  <a:lnTo>
                    <a:pt x="2778" y="232"/>
                  </a:lnTo>
                  <a:lnTo>
                    <a:pt x="2778" y="348"/>
                  </a:lnTo>
                  <a:lnTo>
                    <a:pt x="2778" y="579"/>
                  </a:lnTo>
                  <a:lnTo>
                    <a:pt x="2778" y="695"/>
                  </a:lnTo>
                  <a:lnTo>
                    <a:pt x="2778" y="927"/>
                  </a:lnTo>
                  <a:lnTo>
                    <a:pt x="2778" y="1043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183680" y="4319280"/>
              <a:ext cx="884520" cy="254880"/>
            </a:xfrm>
            <a:custGeom>
              <a:avLst/>
              <a:gdLst/>
              <a:ahLst/>
              <a:rect l="l" t="t" r="r" b="b"/>
              <a:pathLst>
                <a:path w="23146" h="4749">
                  <a:moveTo>
                    <a:pt x="23146" y="0"/>
                  </a:moveTo>
                  <a:lnTo>
                    <a:pt x="22336" y="232"/>
                  </a:lnTo>
                  <a:lnTo>
                    <a:pt x="21526" y="464"/>
                  </a:lnTo>
                  <a:lnTo>
                    <a:pt x="20600" y="695"/>
                  </a:lnTo>
                  <a:lnTo>
                    <a:pt x="19790" y="1043"/>
                  </a:lnTo>
                  <a:lnTo>
                    <a:pt x="18980" y="1274"/>
                  </a:lnTo>
                  <a:lnTo>
                    <a:pt x="18054" y="1390"/>
                  </a:lnTo>
                  <a:lnTo>
                    <a:pt x="17128" y="1622"/>
                  </a:lnTo>
                  <a:lnTo>
                    <a:pt x="16318" y="1738"/>
                  </a:lnTo>
                  <a:lnTo>
                    <a:pt x="16318" y="1738"/>
                  </a:lnTo>
                  <a:lnTo>
                    <a:pt x="4397" y="4054"/>
                  </a:lnTo>
                  <a:lnTo>
                    <a:pt x="810" y="4749"/>
                  </a:lnTo>
                  <a:lnTo>
                    <a:pt x="0" y="4401"/>
                  </a:lnTo>
                  <a:lnTo>
                    <a:pt x="0" y="4401"/>
                  </a:lnTo>
                  <a:lnTo>
                    <a:pt x="2314" y="3938"/>
                  </a:lnTo>
                  <a:lnTo>
                    <a:pt x="4629" y="3591"/>
                  </a:lnTo>
                  <a:lnTo>
                    <a:pt x="6944" y="3127"/>
                  </a:lnTo>
                  <a:lnTo>
                    <a:pt x="9258" y="2664"/>
                  </a:lnTo>
                  <a:lnTo>
                    <a:pt x="11573" y="2201"/>
                  </a:lnTo>
                  <a:lnTo>
                    <a:pt x="13888" y="1738"/>
                  </a:lnTo>
                  <a:lnTo>
                    <a:pt x="16202" y="1274"/>
                  </a:lnTo>
                  <a:lnTo>
                    <a:pt x="18633" y="927"/>
                  </a:lnTo>
                  <a:lnTo>
                    <a:pt x="18633" y="927"/>
                  </a:lnTo>
                  <a:lnTo>
                    <a:pt x="19211" y="811"/>
                  </a:lnTo>
                  <a:lnTo>
                    <a:pt x="19674" y="695"/>
                  </a:lnTo>
                  <a:lnTo>
                    <a:pt x="20253" y="695"/>
                  </a:lnTo>
                  <a:lnTo>
                    <a:pt x="20831" y="579"/>
                  </a:lnTo>
                  <a:lnTo>
                    <a:pt x="21410" y="464"/>
                  </a:lnTo>
                  <a:lnTo>
                    <a:pt x="21989" y="348"/>
                  </a:lnTo>
                  <a:lnTo>
                    <a:pt x="22567" y="116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72200" y="4356360"/>
              <a:ext cx="79560" cy="335520"/>
            </a:xfrm>
            <a:custGeom>
              <a:avLst/>
              <a:gdLst/>
              <a:ahLst/>
              <a:rect l="l" t="t" r="r" b="b"/>
              <a:pathLst>
                <a:path w="2083" h="6254">
                  <a:moveTo>
                    <a:pt x="1620" y="0"/>
                  </a:moveTo>
                  <a:lnTo>
                    <a:pt x="1273" y="695"/>
                  </a:lnTo>
                  <a:lnTo>
                    <a:pt x="1041" y="1506"/>
                  </a:lnTo>
                  <a:lnTo>
                    <a:pt x="925" y="2316"/>
                  </a:lnTo>
                  <a:lnTo>
                    <a:pt x="925" y="3127"/>
                  </a:lnTo>
                  <a:lnTo>
                    <a:pt x="1041" y="3822"/>
                  </a:lnTo>
                  <a:lnTo>
                    <a:pt x="1273" y="4633"/>
                  </a:lnTo>
                  <a:lnTo>
                    <a:pt x="1620" y="5328"/>
                  </a:lnTo>
                  <a:lnTo>
                    <a:pt x="2083" y="5907"/>
                  </a:lnTo>
                  <a:lnTo>
                    <a:pt x="2083" y="5907"/>
                  </a:lnTo>
                  <a:lnTo>
                    <a:pt x="2083" y="6254"/>
                  </a:lnTo>
                  <a:lnTo>
                    <a:pt x="2083" y="6254"/>
                  </a:lnTo>
                  <a:lnTo>
                    <a:pt x="1851" y="6254"/>
                  </a:lnTo>
                  <a:lnTo>
                    <a:pt x="1736" y="6254"/>
                  </a:lnTo>
                  <a:lnTo>
                    <a:pt x="1504" y="6254"/>
                  </a:lnTo>
                  <a:lnTo>
                    <a:pt x="1388" y="6138"/>
                  </a:lnTo>
                  <a:lnTo>
                    <a:pt x="1273" y="6022"/>
                  </a:lnTo>
                  <a:lnTo>
                    <a:pt x="1041" y="5907"/>
                  </a:lnTo>
                  <a:lnTo>
                    <a:pt x="925" y="5907"/>
                  </a:lnTo>
                  <a:lnTo>
                    <a:pt x="810" y="5791"/>
                  </a:lnTo>
                  <a:lnTo>
                    <a:pt x="810" y="5791"/>
                  </a:lnTo>
                  <a:lnTo>
                    <a:pt x="462" y="5212"/>
                  </a:lnTo>
                  <a:lnTo>
                    <a:pt x="231" y="4748"/>
                  </a:lnTo>
                  <a:lnTo>
                    <a:pt x="0" y="4169"/>
                  </a:lnTo>
                  <a:lnTo>
                    <a:pt x="0" y="3475"/>
                  </a:lnTo>
                  <a:lnTo>
                    <a:pt x="0" y="2896"/>
                  </a:lnTo>
                  <a:lnTo>
                    <a:pt x="0" y="2201"/>
                  </a:lnTo>
                  <a:lnTo>
                    <a:pt x="115" y="1622"/>
                  </a:lnTo>
                  <a:lnTo>
                    <a:pt x="231" y="1043"/>
                  </a:lnTo>
                  <a:lnTo>
                    <a:pt x="231" y="1043"/>
                  </a:lnTo>
                  <a:lnTo>
                    <a:pt x="347" y="927"/>
                  </a:lnTo>
                  <a:lnTo>
                    <a:pt x="462" y="695"/>
                  </a:lnTo>
                  <a:lnTo>
                    <a:pt x="694" y="579"/>
                  </a:lnTo>
                  <a:lnTo>
                    <a:pt x="810" y="348"/>
                  </a:lnTo>
                  <a:lnTo>
                    <a:pt x="925" y="232"/>
                  </a:lnTo>
                  <a:lnTo>
                    <a:pt x="1157" y="116"/>
                  </a:lnTo>
                  <a:lnTo>
                    <a:pt x="1388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829800" y="4375080"/>
              <a:ext cx="39600" cy="279720"/>
            </a:xfrm>
            <a:custGeom>
              <a:avLst/>
              <a:gdLst/>
              <a:ahLst/>
              <a:rect l="l" t="t" r="r" b="b"/>
              <a:pathLst>
                <a:path w="1042" h="5211">
                  <a:moveTo>
                    <a:pt x="694" y="1968"/>
                  </a:moveTo>
                  <a:lnTo>
                    <a:pt x="1042" y="3706"/>
                  </a:lnTo>
                  <a:lnTo>
                    <a:pt x="810" y="5211"/>
                  </a:lnTo>
                  <a:lnTo>
                    <a:pt x="810" y="5211"/>
                  </a:lnTo>
                  <a:lnTo>
                    <a:pt x="463" y="4632"/>
                  </a:lnTo>
                  <a:lnTo>
                    <a:pt x="232" y="3937"/>
                  </a:lnTo>
                  <a:lnTo>
                    <a:pt x="0" y="3358"/>
                  </a:lnTo>
                  <a:lnTo>
                    <a:pt x="0" y="2663"/>
                  </a:lnTo>
                  <a:lnTo>
                    <a:pt x="0" y="1968"/>
                  </a:lnTo>
                  <a:lnTo>
                    <a:pt x="0" y="1274"/>
                  </a:lnTo>
                  <a:lnTo>
                    <a:pt x="232" y="579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694" y="231"/>
                  </a:lnTo>
                  <a:lnTo>
                    <a:pt x="810" y="463"/>
                  </a:lnTo>
                  <a:lnTo>
                    <a:pt x="810" y="695"/>
                  </a:lnTo>
                  <a:lnTo>
                    <a:pt x="810" y="926"/>
                  </a:lnTo>
                  <a:lnTo>
                    <a:pt x="694" y="1158"/>
                  </a:lnTo>
                  <a:lnTo>
                    <a:pt x="694" y="1505"/>
                  </a:lnTo>
                  <a:lnTo>
                    <a:pt x="579" y="1737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971000" y="4381560"/>
              <a:ext cx="35280" cy="55800"/>
            </a:xfrm>
            <a:custGeom>
              <a:avLst/>
              <a:gdLst/>
              <a:ahLst/>
              <a:rect l="l" t="t" r="r" b="b"/>
              <a:pathLst>
                <a:path w="926" h="1042">
                  <a:moveTo>
                    <a:pt x="926" y="926"/>
                  </a:moveTo>
                  <a:lnTo>
                    <a:pt x="926" y="1042"/>
                  </a:lnTo>
                  <a:lnTo>
                    <a:pt x="926" y="1042"/>
                  </a:lnTo>
                  <a:lnTo>
                    <a:pt x="810" y="1042"/>
                  </a:lnTo>
                  <a:lnTo>
                    <a:pt x="694" y="1042"/>
                  </a:lnTo>
                  <a:lnTo>
                    <a:pt x="579" y="1042"/>
                  </a:lnTo>
                  <a:lnTo>
                    <a:pt x="463" y="926"/>
                  </a:lnTo>
                  <a:lnTo>
                    <a:pt x="347" y="926"/>
                  </a:lnTo>
                  <a:lnTo>
                    <a:pt x="231" y="810"/>
                  </a:lnTo>
                  <a:lnTo>
                    <a:pt x="116" y="694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579" y="0"/>
                  </a:lnTo>
                  <a:lnTo>
                    <a:pt x="694" y="115"/>
                  </a:lnTo>
                  <a:lnTo>
                    <a:pt x="810" y="115"/>
                  </a:lnTo>
                  <a:lnTo>
                    <a:pt x="810" y="347"/>
                  </a:lnTo>
                  <a:lnTo>
                    <a:pt x="810" y="463"/>
                  </a:lnTo>
                  <a:lnTo>
                    <a:pt x="926" y="579"/>
                  </a:lnTo>
                  <a:lnTo>
                    <a:pt x="926" y="810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64120" y="4393800"/>
              <a:ext cx="243000" cy="391680"/>
            </a:xfrm>
            <a:custGeom>
              <a:avLst/>
              <a:gdLst/>
              <a:ahLst/>
              <a:rect l="l" t="t" r="r" b="b"/>
              <a:pathLst>
                <a:path w="6365" h="7296">
                  <a:moveTo>
                    <a:pt x="6365" y="5791"/>
                  </a:moveTo>
                  <a:lnTo>
                    <a:pt x="5671" y="6022"/>
                  </a:lnTo>
                  <a:lnTo>
                    <a:pt x="4977" y="6370"/>
                  </a:lnTo>
                  <a:lnTo>
                    <a:pt x="4282" y="6717"/>
                  </a:lnTo>
                  <a:lnTo>
                    <a:pt x="3588" y="7065"/>
                  </a:lnTo>
                  <a:lnTo>
                    <a:pt x="2778" y="7296"/>
                  </a:lnTo>
                  <a:lnTo>
                    <a:pt x="2083" y="7296"/>
                  </a:lnTo>
                  <a:lnTo>
                    <a:pt x="1389" y="6949"/>
                  </a:lnTo>
                  <a:lnTo>
                    <a:pt x="810" y="6370"/>
                  </a:lnTo>
                  <a:lnTo>
                    <a:pt x="810" y="6370"/>
                  </a:lnTo>
                  <a:lnTo>
                    <a:pt x="463" y="5906"/>
                  </a:lnTo>
                  <a:lnTo>
                    <a:pt x="116" y="5327"/>
                  </a:lnTo>
                  <a:lnTo>
                    <a:pt x="0" y="4748"/>
                  </a:lnTo>
                  <a:lnTo>
                    <a:pt x="0" y="4169"/>
                  </a:lnTo>
                  <a:lnTo>
                    <a:pt x="0" y="3590"/>
                  </a:lnTo>
                  <a:lnTo>
                    <a:pt x="0" y="3011"/>
                  </a:lnTo>
                  <a:lnTo>
                    <a:pt x="116" y="2432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695" y="1274"/>
                  </a:lnTo>
                  <a:lnTo>
                    <a:pt x="1157" y="811"/>
                  </a:lnTo>
                  <a:lnTo>
                    <a:pt x="1736" y="579"/>
                  </a:lnTo>
                  <a:lnTo>
                    <a:pt x="2431" y="463"/>
                  </a:lnTo>
                  <a:lnTo>
                    <a:pt x="3125" y="348"/>
                  </a:lnTo>
                  <a:lnTo>
                    <a:pt x="3935" y="232"/>
                  </a:lnTo>
                  <a:lnTo>
                    <a:pt x="4629" y="232"/>
                  </a:lnTo>
                  <a:lnTo>
                    <a:pt x="5208" y="0"/>
                  </a:lnTo>
                  <a:lnTo>
                    <a:pt x="5208" y="0"/>
                  </a:lnTo>
                  <a:lnTo>
                    <a:pt x="5092" y="811"/>
                  </a:lnTo>
                  <a:lnTo>
                    <a:pt x="4977" y="1506"/>
                  </a:lnTo>
                  <a:lnTo>
                    <a:pt x="4977" y="2316"/>
                  </a:lnTo>
                  <a:lnTo>
                    <a:pt x="4977" y="3127"/>
                  </a:lnTo>
                  <a:lnTo>
                    <a:pt x="5092" y="3938"/>
                  </a:lnTo>
                  <a:lnTo>
                    <a:pt x="5324" y="4633"/>
                  </a:lnTo>
                  <a:lnTo>
                    <a:pt x="5787" y="5327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close/>
                </a:path>
              </a:pathLst>
            </a:custGeom>
            <a:solidFill>
              <a:srgbClr val="ff3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059840" y="4399920"/>
              <a:ext cx="893520" cy="857880"/>
            </a:xfrm>
            <a:custGeom>
              <a:avLst/>
              <a:gdLst/>
              <a:ahLst/>
              <a:rect l="l" t="t" r="r" b="b"/>
              <a:pathLst>
                <a:path w="23378" h="15982">
                  <a:moveTo>
                    <a:pt x="23378" y="6949"/>
                  </a:moveTo>
                  <a:lnTo>
                    <a:pt x="23031" y="7180"/>
                  </a:lnTo>
                  <a:lnTo>
                    <a:pt x="22568" y="7412"/>
                  </a:lnTo>
                  <a:lnTo>
                    <a:pt x="22221" y="7528"/>
                  </a:lnTo>
                  <a:lnTo>
                    <a:pt x="21758" y="7528"/>
                  </a:lnTo>
                  <a:lnTo>
                    <a:pt x="21295" y="7643"/>
                  </a:lnTo>
                  <a:lnTo>
                    <a:pt x="20832" y="7643"/>
                  </a:lnTo>
                  <a:lnTo>
                    <a:pt x="20369" y="7759"/>
                  </a:lnTo>
                  <a:lnTo>
                    <a:pt x="19906" y="7875"/>
                  </a:lnTo>
                  <a:lnTo>
                    <a:pt x="19906" y="7875"/>
                  </a:lnTo>
                  <a:lnTo>
                    <a:pt x="16203" y="9033"/>
                  </a:lnTo>
                  <a:lnTo>
                    <a:pt x="2778" y="15055"/>
                  </a:lnTo>
                  <a:lnTo>
                    <a:pt x="2778" y="15055"/>
                  </a:lnTo>
                  <a:lnTo>
                    <a:pt x="2546" y="15171"/>
                  </a:lnTo>
                  <a:lnTo>
                    <a:pt x="2199" y="15403"/>
                  </a:lnTo>
                  <a:lnTo>
                    <a:pt x="1852" y="15518"/>
                  </a:lnTo>
                  <a:lnTo>
                    <a:pt x="1505" y="15750"/>
                  </a:lnTo>
                  <a:lnTo>
                    <a:pt x="1157" y="15866"/>
                  </a:lnTo>
                  <a:lnTo>
                    <a:pt x="810" y="15982"/>
                  </a:lnTo>
                  <a:lnTo>
                    <a:pt x="463" y="15982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0" y="14592"/>
                  </a:lnTo>
                  <a:lnTo>
                    <a:pt x="116" y="13202"/>
                  </a:lnTo>
                  <a:lnTo>
                    <a:pt x="116" y="11813"/>
                  </a:lnTo>
                  <a:lnTo>
                    <a:pt x="232" y="10423"/>
                  </a:lnTo>
                  <a:lnTo>
                    <a:pt x="347" y="8917"/>
                  </a:lnTo>
                  <a:lnTo>
                    <a:pt x="347" y="7528"/>
                  </a:lnTo>
                  <a:lnTo>
                    <a:pt x="463" y="6138"/>
                  </a:lnTo>
                  <a:lnTo>
                    <a:pt x="579" y="4748"/>
                  </a:lnTo>
                  <a:lnTo>
                    <a:pt x="579" y="4748"/>
                  </a:lnTo>
                  <a:lnTo>
                    <a:pt x="1157" y="4748"/>
                  </a:lnTo>
                  <a:lnTo>
                    <a:pt x="1620" y="4980"/>
                  </a:lnTo>
                  <a:lnTo>
                    <a:pt x="2083" y="5211"/>
                  </a:lnTo>
                  <a:lnTo>
                    <a:pt x="2546" y="5559"/>
                  </a:lnTo>
                  <a:lnTo>
                    <a:pt x="3009" y="5790"/>
                  </a:lnTo>
                  <a:lnTo>
                    <a:pt x="3472" y="5790"/>
                  </a:lnTo>
                  <a:lnTo>
                    <a:pt x="3935" y="5675"/>
                  </a:lnTo>
                  <a:lnTo>
                    <a:pt x="4514" y="5327"/>
                  </a:lnTo>
                  <a:lnTo>
                    <a:pt x="4514" y="5327"/>
                  </a:lnTo>
                  <a:lnTo>
                    <a:pt x="4514" y="5211"/>
                  </a:lnTo>
                  <a:lnTo>
                    <a:pt x="4629" y="5096"/>
                  </a:lnTo>
                  <a:lnTo>
                    <a:pt x="4629" y="4980"/>
                  </a:lnTo>
                  <a:lnTo>
                    <a:pt x="4745" y="4980"/>
                  </a:lnTo>
                  <a:lnTo>
                    <a:pt x="4745" y="4864"/>
                  </a:lnTo>
                  <a:lnTo>
                    <a:pt x="4745" y="4748"/>
                  </a:lnTo>
                  <a:lnTo>
                    <a:pt x="4861" y="4632"/>
                  </a:lnTo>
                  <a:lnTo>
                    <a:pt x="4861" y="4517"/>
                  </a:lnTo>
                  <a:lnTo>
                    <a:pt x="4861" y="4517"/>
                  </a:lnTo>
                  <a:lnTo>
                    <a:pt x="4861" y="4401"/>
                  </a:lnTo>
                  <a:lnTo>
                    <a:pt x="4745" y="4285"/>
                  </a:lnTo>
                  <a:lnTo>
                    <a:pt x="4745" y="4169"/>
                  </a:lnTo>
                  <a:lnTo>
                    <a:pt x="4745" y="4053"/>
                  </a:lnTo>
                  <a:lnTo>
                    <a:pt x="4745" y="3937"/>
                  </a:lnTo>
                  <a:lnTo>
                    <a:pt x="4629" y="3822"/>
                  </a:lnTo>
                  <a:lnTo>
                    <a:pt x="4629" y="3706"/>
                  </a:lnTo>
                  <a:lnTo>
                    <a:pt x="4514" y="3706"/>
                  </a:lnTo>
                  <a:lnTo>
                    <a:pt x="4514" y="3706"/>
                  </a:lnTo>
                  <a:lnTo>
                    <a:pt x="6828" y="3127"/>
                  </a:lnTo>
                  <a:lnTo>
                    <a:pt x="9143" y="2664"/>
                  </a:lnTo>
                  <a:lnTo>
                    <a:pt x="11458" y="2316"/>
                  </a:lnTo>
                  <a:lnTo>
                    <a:pt x="13772" y="1853"/>
                  </a:lnTo>
                  <a:lnTo>
                    <a:pt x="15971" y="1390"/>
                  </a:lnTo>
                  <a:lnTo>
                    <a:pt x="18286" y="1042"/>
                  </a:lnTo>
                  <a:lnTo>
                    <a:pt x="20600" y="579"/>
                  </a:lnTo>
                  <a:lnTo>
                    <a:pt x="22799" y="0"/>
                  </a:lnTo>
                  <a:lnTo>
                    <a:pt x="22799" y="0"/>
                  </a:lnTo>
                  <a:lnTo>
                    <a:pt x="22799" y="926"/>
                  </a:lnTo>
                  <a:lnTo>
                    <a:pt x="22799" y="1737"/>
                  </a:lnTo>
                  <a:lnTo>
                    <a:pt x="22799" y="2664"/>
                  </a:lnTo>
                  <a:lnTo>
                    <a:pt x="22799" y="3590"/>
                  </a:lnTo>
                  <a:lnTo>
                    <a:pt x="22915" y="4401"/>
                  </a:lnTo>
                  <a:lnTo>
                    <a:pt x="23031" y="5327"/>
                  </a:lnTo>
                  <a:lnTo>
                    <a:pt x="23147" y="6138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74080" y="4437360"/>
              <a:ext cx="21960" cy="111600"/>
            </a:xfrm>
            <a:custGeom>
              <a:avLst/>
              <a:gdLst/>
              <a:ahLst/>
              <a:rect l="l" t="t" r="r" b="b"/>
              <a:pathLst>
                <a:path w="579" h="2084">
                  <a:moveTo>
                    <a:pt x="579" y="695"/>
                  </a:moveTo>
                  <a:lnTo>
                    <a:pt x="116" y="2084"/>
                  </a:lnTo>
                  <a:lnTo>
                    <a:pt x="116" y="2084"/>
                  </a:lnTo>
                  <a:lnTo>
                    <a:pt x="0" y="1853"/>
                  </a:lnTo>
                  <a:lnTo>
                    <a:pt x="0" y="1621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0" y="810"/>
                  </a:lnTo>
                  <a:lnTo>
                    <a:pt x="0" y="579"/>
                  </a:lnTo>
                  <a:lnTo>
                    <a:pt x="0" y="231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232" y="0"/>
                  </a:lnTo>
                  <a:lnTo>
                    <a:pt x="348" y="116"/>
                  </a:lnTo>
                  <a:lnTo>
                    <a:pt x="348" y="116"/>
                  </a:lnTo>
                  <a:lnTo>
                    <a:pt x="463" y="231"/>
                  </a:lnTo>
                  <a:lnTo>
                    <a:pt x="463" y="347"/>
                  </a:lnTo>
                  <a:lnTo>
                    <a:pt x="463" y="463"/>
                  </a:lnTo>
                  <a:lnTo>
                    <a:pt x="463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90760" y="4654800"/>
              <a:ext cx="154800" cy="105480"/>
            </a:xfrm>
            <a:custGeom>
              <a:avLst/>
              <a:gdLst/>
              <a:ahLst/>
              <a:rect l="l" t="t" r="r" b="b"/>
              <a:pathLst>
                <a:path w="4050" h="1969">
                  <a:moveTo>
                    <a:pt x="1157" y="1274"/>
                  </a:moveTo>
                  <a:lnTo>
                    <a:pt x="1157" y="1158"/>
                  </a:lnTo>
                  <a:lnTo>
                    <a:pt x="1157" y="1042"/>
                  </a:lnTo>
                  <a:lnTo>
                    <a:pt x="1041" y="1042"/>
                  </a:lnTo>
                  <a:lnTo>
                    <a:pt x="1041" y="927"/>
                  </a:lnTo>
                  <a:lnTo>
                    <a:pt x="1041" y="811"/>
                  </a:lnTo>
                  <a:lnTo>
                    <a:pt x="925" y="695"/>
                  </a:lnTo>
                  <a:lnTo>
                    <a:pt x="925" y="579"/>
                  </a:lnTo>
                  <a:lnTo>
                    <a:pt x="925" y="463"/>
                  </a:lnTo>
                  <a:lnTo>
                    <a:pt x="925" y="463"/>
                  </a:lnTo>
                  <a:lnTo>
                    <a:pt x="1157" y="463"/>
                  </a:lnTo>
                  <a:lnTo>
                    <a:pt x="1273" y="579"/>
                  </a:lnTo>
                  <a:lnTo>
                    <a:pt x="1388" y="695"/>
                  </a:lnTo>
                  <a:lnTo>
                    <a:pt x="1504" y="927"/>
                  </a:lnTo>
                  <a:lnTo>
                    <a:pt x="1620" y="1042"/>
                  </a:lnTo>
                  <a:lnTo>
                    <a:pt x="1620" y="1158"/>
                  </a:lnTo>
                  <a:lnTo>
                    <a:pt x="1851" y="1274"/>
                  </a:lnTo>
                  <a:lnTo>
                    <a:pt x="1967" y="1390"/>
                  </a:lnTo>
                  <a:lnTo>
                    <a:pt x="1967" y="1390"/>
                  </a:lnTo>
                  <a:lnTo>
                    <a:pt x="1851" y="1274"/>
                  </a:lnTo>
                  <a:lnTo>
                    <a:pt x="1851" y="1158"/>
                  </a:lnTo>
                  <a:lnTo>
                    <a:pt x="1851" y="1042"/>
                  </a:lnTo>
                  <a:lnTo>
                    <a:pt x="1736" y="927"/>
                  </a:lnTo>
                  <a:lnTo>
                    <a:pt x="1736" y="811"/>
                  </a:lnTo>
                  <a:lnTo>
                    <a:pt x="1736" y="695"/>
                  </a:lnTo>
                  <a:lnTo>
                    <a:pt x="1620" y="579"/>
                  </a:lnTo>
                  <a:lnTo>
                    <a:pt x="1620" y="463"/>
                  </a:lnTo>
                  <a:lnTo>
                    <a:pt x="1620" y="463"/>
                  </a:lnTo>
                  <a:lnTo>
                    <a:pt x="1851" y="463"/>
                  </a:lnTo>
                  <a:lnTo>
                    <a:pt x="1967" y="579"/>
                  </a:lnTo>
                  <a:lnTo>
                    <a:pt x="2083" y="811"/>
                  </a:lnTo>
                  <a:lnTo>
                    <a:pt x="2083" y="927"/>
                  </a:lnTo>
                  <a:lnTo>
                    <a:pt x="2198" y="1158"/>
                  </a:lnTo>
                  <a:lnTo>
                    <a:pt x="2314" y="1274"/>
                  </a:lnTo>
                  <a:lnTo>
                    <a:pt x="2546" y="1274"/>
                  </a:lnTo>
                  <a:lnTo>
                    <a:pt x="2777" y="1274"/>
                  </a:lnTo>
                  <a:lnTo>
                    <a:pt x="2777" y="1274"/>
                  </a:lnTo>
                  <a:lnTo>
                    <a:pt x="2661" y="1158"/>
                  </a:lnTo>
                  <a:lnTo>
                    <a:pt x="2661" y="1042"/>
                  </a:lnTo>
                  <a:lnTo>
                    <a:pt x="2661" y="1042"/>
                  </a:lnTo>
                  <a:lnTo>
                    <a:pt x="2546" y="927"/>
                  </a:lnTo>
                  <a:lnTo>
                    <a:pt x="2546" y="811"/>
                  </a:lnTo>
                  <a:lnTo>
                    <a:pt x="2430" y="695"/>
                  </a:lnTo>
                  <a:lnTo>
                    <a:pt x="2430" y="695"/>
                  </a:lnTo>
                  <a:lnTo>
                    <a:pt x="2430" y="579"/>
                  </a:lnTo>
                  <a:lnTo>
                    <a:pt x="2430" y="579"/>
                  </a:lnTo>
                  <a:lnTo>
                    <a:pt x="2546" y="579"/>
                  </a:lnTo>
                  <a:lnTo>
                    <a:pt x="2777" y="695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3009" y="1042"/>
                  </a:lnTo>
                  <a:lnTo>
                    <a:pt x="3124" y="1158"/>
                  </a:lnTo>
                  <a:lnTo>
                    <a:pt x="3356" y="1158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356" y="927"/>
                  </a:lnTo>
                  <a:lnTo>
                    <a:pt x="3240" y="811"/>
                  </a:lnTo>
                  <a:lnTo>
                    <a:pt x="3124" y="695"/>
                  </a:lnTo>
                  <a:lnTo>
                    <a:pt x="3009" y="579"/>
                  </a:lnTo>
                  <a:lnTo>
                    <a:pt x="3009" y="463"/>
                  </a:lnTo>
                  <a:lnTo>
                    <a:pt x="3009" y="348"/>
                  </a:lnTo>
                  <a:lnTo>
                    <a:pt x="3009" y="232"/>
                  </a:lnTo>
                  <a:lnTo>
                    <a:pt x="3009" y="232"/>
                  </a:lnTo>
                  <a:lnTo>
                    <a:pt x="3124" y="348"/>
                  </a:lnTo>
                  <a:lnTo>
                    <a:pt x="3240" y="348"/>
                  </a:lnTo>
                  <a:lnTo>
                    <a:pt x="3356" y="463"/>
                  </a:lnTo>
                  <a:lnTo>
                    <a:pt x="3471" y="579"/>
                  </a:lnTo>
                  <a:lnTo>
                    <a:pt x="3587" y="695"/>
                  </a:lnTo>
                  <a:lnTo>
                    <a:pt x="3819" y="811"/>
                  </a:lnTo>
                  <a:lnTo>
                    <a:pt x="3934" y="811"/>
                  </a:lnTo>
                  <a:lnTo>
                    <a:pt x="4050" y="927"/>
                  </a:lnTo>
                  <a:lnTo>
                    <a:pt x="4050" y="927"/>
                  </a:lnTo>
                  <a:lnTo>
                    <a:pt x="3934" y="1042"/>
                  </a:lnTo>
                  <a:lnTo>
                    <a:pt x="3819" y="1042"/>
                  </a:lnTo>
                  <a:lnTo>
                    <a:pt x="3703" y="1158"/>
                  </a:lnTo>
                  <a:lnTo>
                    <a:pt x="3587" y="1158"/>
                  </a:lnTo>
                  <a:lnTo>
                    <a:pt x="3471" y="1158"/>
                  </a:lnTo>
                  <a:lnTo>
                    <a:pt x="3356" y="1158"/>
                  </a:lnTo>
                  <a:lnTo>
                    <a:pt x="3356" y="1274"/>
                  </a:lnTo>
                  <a:lnTo>
                    <a:pt x="3471" y="1390"/>
                  </a:lnTo>
                  <a:lnTo>
                    <a:pt x="3471" y="1390"/>
                  </a:lnTo>
                  <a:lnTo>
                    <a:pt x="3009" y="1506"/>
                  </a:lnTo>
                  <a:lnTo>
                    <a:pt x="3009" y="1506"/>
                  </a:lnTo>
                  <a:lnTo>
                    <a:pt x="2893" y="1621"/>
                  </a:lnTo>
                  <a:lnTo>
                    <a:pt x="2777" y="1737"/>
                  </a:lnTo>
                  <a:lnTo>
                    <a:pt x="2661" y="1737"/>
                  </a:lnTo>
                  <a:lnTo>
                    <a:pt x="2546" y="1853"/>
                  </a:lnTo>
                  <a:lnTo>
                    <a:pt x="2314" y="1853"/>
                  </a:lnTo>
                  <a:lnTo>
                    <a:pt x="2198" y="1853"/>
                  </a:lnTo>
                  <a:lnTo>
                    <a:pt x="1967" y="1969"/>
                  </a:lnTo>
                  <a:lnTo>
                    <a:pt x="1851" y="1969"/>
                  </a:lnTo>
                  <a:lnTo>
                    <a:pt x="1851" y="1969"/>
                  </a:lnTo>
                  <a:lnTo>
                    <a:pt x="1736" y="1969"/>
                  </a:lnTo>
                  <a:lnTo>
                    <a:pt x="1504" y="1969"/>
                  </a:lnTo>
                  <a:lnTo>
                    <a:pt x="1273" y="1853"/>
                  </a:lnTo>
                  <a:lnTo>
                    <a:pt x="1157" y="1737"/>
                  </a:lnTo>
                  <a:lnTo>
                    <a:pt x="925" y="1621"/>
                  </a:lnTo>
                  <a:lnTo>
                    <a:pt x="810" y="1506"/>
                  </a:lnTo>
                  <a:lnTo>
                    <a:pt x="694" y="1390"/>
                  </a:lnTo>
                  <a:lnTo>
                    <a:pt x="462" y="1274"/>
                  </a:lnTo>
                  <a:lnTo>
                    <a:pt x="462" y="1274"/>
                  </a:lnTo>
                  <a:lnTo>
                    <a:pt x="347" y="1158"/>
                  </a:lnTo>
                  <a:lnTo>
                    <a:pt x="231" y="927"/>
                  </a:lnTo>
                  <a:lnTo>
                    <a:pt x="231" y="811"/>
                  </a:lnTo>
                  <a:lnTo>
                    <a:pt x="115" y="579"/>
                  </a:lnTo>
                  <a:lnTo>
                    <a:pt x="0" y="463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5" y="116"/>
                  </a:lnTo>
                  <a:lnTo>
                    <a:pt x="231" y="348"/>
                  </a:lnTo>
                  <a:lnTo>
                    <a:pt x="347" y="463"/>
                  </a:lnTo>
                  <a:lnTo>
                    <a:pt x="462" y="695"/>
                  </a:lnTo>
                  <a:lnTo>
                    <a:pt x="578" y="811"/>
                  </a:lnTo>
                  <a:lnTo>
                    <a:pt x="810" y="1042"/>
                  </a:lnTo>
                  <a:lnTo>
                    <a:pt x="925" y="1158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32240" y="4654800"/>
              <a:ext cx="39600" cy="43200"/>
            </a:xfrm>
            <a:custGeom>
              <a:avLst/>
              <a:gdLst/>
              <a:ahLst/>
              <a:rect l="l" t="t" r="r" b="b"/>
              <a:pathLst>
                <a:path w="1042" h="811">
                  <a:moveTo>
                    <a:pt x="1042" y="811"/>
                  </a:moveTo>
                  <a:lnTo>
                    <a:pt x="926" y="811"/>
                  </a:lnTo>
                  <a:lnTo>
                    <a:pt x="810" y="811"/>
                  </a:lnTo>
                  <a:lnTo>
                    <a:pt x="694" y="811"/>
                  </a:lnTo>
                  <a:lnTo>
                    <a:pt x="579" y="811"/>
                  </a:lnTo>
                  <a:lnTo>
                    <a:pt x="463" y="695"/>
                  </a:lnTo>
                  <a:lnTo>
                    <a:pt x="347" y="695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231" y="232"/>
                  </a:lnTo>
                  <a:lnTo>
                    <a:pt x="463" y="348"/>
                  </a:lnTo>
                  <a:lnTo>
                    <a:pt x="694" y="348"/>
                  </a:lnTo>
                  <a:lnTo>
                    <a:pt x="810" y="348"/>
                  </a:lnTo>
                  <a:lnTo>
                    <a:pt x="926" y="463"/>
                  </a:lnTo>
                  <a:lnTo>
                    <a:pt x="1042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015560" y="4661280"/>
              <a:ext cx="48600" cy="553320"/>
            </a:xfrm>
            <a:custGeom>
              <a:avLst/>
              <a:gdLst/>
              <a:ahLst/>
              <a:rect l="l" t="t" r="r" b="b"/>
              <a:pathLst>
                <a:path w="1273" h="10307">
                  <a:moveTo>
                    <a:pt x="1273" y="116"/>
                  </a:moveTo>
                  <a:lnTo>
                    <a:pt x="1273" y="1274"/>
                  </a:lnTo>
                  <a:lnTo>
                    <a:pt x="1157" y="2548"/>
                  </a:lnTo>
                  <a:lnTo>
                    <a:pt x="1157" y="3706"/>
                  </a:lnTo>
                  <a:lnTo>
                    <a:pt x="1041" y="4980"/>
                  </a:lnTo>
                  <a:lnTo>
                    <a:pt x="926" y="6254"/>
                  </a:lnTo>
                  <a:lnTo>
                    <a:pt x="810" y="7528"/>
                  </a:lnTo>
                  <a:lnTo>
                    <a:pt x="694" y="8917"/>
                  </a:lnTo>
                  <a:lnTo>
                    <a:pt x="694" y="10191"/>
                  </a:lnTo>
                  <a:lnTo>
                    <a:pt x="694" y="10191"/>
                  </a:lnTo>
                  <a:lnTo>
                    <a:pt x="578" y="10191"/>
                  </a:lnTo>
                  <a:lnTo>
                    <a:pt x="463" y="10191"/>
                  </a:lnTo>
                  <a:lnTo>
                    <a:pt x="347" y="10191"/>
                  </a:lnTo>
                  <a:lnTo>
                    <a:pt x="347" y="10307"/>
                  </a:lnTo>
                  <a:lnTo>
                    <a:pt x="231" y="10307"/>
                  </a:lnTo>
                  <a:lnTo>
                    <a:pt x="116" y="10307"/>
                  </a:lnTo>
                  <a:lnTo>
                    <a:pt x="116" y="10307"/>
                  </a:lnTo>
                  <a:lnTo>
                    <a:pt x="0" y="10307"/>
                  </a:lnTo>
                  <a:lnTo>
                    <a:pt x="0" y="10307"/>
                  </a:lnTo>
                  <a:lnTo>
                    <a:pt x="0" y="9033"/>
                  </a:lnTo>
                  <a:lnTo>
                    <a:pt x="116" y="7759"/>
                  </a:lnTo>
                  <a:lnTo>
                    <a:pt x="231" y="6485"/>
                  </a:lnTo>
                  <a:lnTo>
                    <a:pt x="347" y="5211"/>
                  </a:lnTo>
                  <a:lnTo>
                    <a:pt x="463" y="4053"/>
                  </a:lnTo>
                  <a:lnTo>
                    <a:pt x="578" y="2779"/>
                  </a:lnTo>
                  <a:lnTo>
                    <a:pt x="694" y="1505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1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988920" y="4679640"/>
              <a:ext cx="48600" cy="528480"/>
            </a:xfrm>
            <a:custGeom>
              <a:avLst/>
              <a:gdLst/>
              <a:ahLst/>
              <a:rect l="l" t="t" r="r" b="b"/>
              <a:pathLst>
                <a:path w="1273" h="9844">
                  <a:moveTo>
                    <a:pt x="1273" y="0"/>
                  </a:moveTo>
                  <a:lnTo>
                    <a:pt x="1042" y="1158"/>
                  </a:lnTo>
                  <a:lnTo>
                    <a:pt x="926" y="2432"/>
                  </a:lnTo>
                  <a:lnTo>
                    <a:pt x="811" y="3590"/>
                  </a:lnTo>
                  <a:lnTo>
                    <a:pt x="695" y="4864"/>
                  </a:lnTo>
                  <a:lnTo>
                    <a:pt x="579" y="6138"/>
                  </a:lnTo>
                  <a:lnTo>
                    <a:pt x="463" y="7412"/>
                  </a:lnTo>
                  <a:lnTo>
                    <a:pt x="463" y="8570"/>
                  </a:lnTo>
                  <a:lnTo>
                    <a:pt x="348" y="9844"/>
                  </a:lnTo>
                  <a:lnTo>
                    <a:pt x="348" y="9844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348" y="9844"/>
                  </a:lnTo>
                  <a:lnTo>
                    <a:pt x="348" y="9728"/>
                  </a:lnTo>
                  <a:lnTo>
                    <a:pt x="232" y="9728"/>
                  </a:lnTo>
                  <a:lnTo>
                    <a:pt x="116" y="9728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8570"/>
                  </a:lnTo>
                  <a:lnTo>
                    <a:pt x="116" y="7412"/>
                  </a:lnTo>
                  <a:lnTo>
                    <a:pt x="116" y="6254"/>
                  </a:lnTo>
                  <a:lnTo>
                    <a:pt x="232" y="4980"/>
                  </a:lnTo>
                  <a:lnTo>
                    <a:pt x="348" y="3822"/>
                  </a:lnTo>
                  <a:lnTo>
                    <a:pt x="463" y="2548"/>
                  </a:lnTo>
                  <a:lnTo>
                    <a:pt x="579" y="1390"/>
                  </a:lnTo>
                  <a:lnTo>
                    <a:pt x="811" y="232"/>
                  </a:lnTo>
                  <a:lnTo>
                    <a:pt x="811" y="232"/>
                  </a:lnTo>
                  <a:lnTo>
                    <a:pt x="926" y="232"/>
                  </a:lnTo>
                  <a:lnTo>
                    <a:pt x="926" y="116"/>
                  </a:lnTo>
                  <a:lnTo>
                    <a:pt x="1042" y="116"/>
                  </a:lnTo>
                  <a:lnTo>
                    <a:pt x="1042" y="116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953640" y="4698360"/>
              <a:ext cx="48600" cy="472320"/>
            </a:xfrm>
            <a:custGeom>
              <a:avLst/>
              <a:gdLst/>
              <a:ahLst/>
              <a:rect l="l" t="t" r="r" b="b"/>
              <a:pathLst>
                <a:path w="1273" h="8801">
                  <a:moveTo>
                    <a:pt x="578" y="8801"/>
                  </a:moveTo>
                  <a:lnTo>
                    <a:pt x="462" y="8801"/>
                  </a:lnTo>
                  <a:lnTo>
                    <a:pt x="462" y="8801"/>
                  </a:lnTo>
                  <a:lnTo>
                    <a:pt x="347" y="8801"/>
                  </a:lnTo>
                  <a:lnTo>
                    <a:pt x="231" y="8801"/>
                  </a:lnTo>
                  <a:lnTo>
                    <a:pt x="231" y="8801"/>
                  </a:lnTo>
                  <a:lnTo>
                    <a:pt x="115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115" y="7643"/>
                  </a:lnTo>
                  <a:lnTo>
                    <a:pt x="231" y="6485"/>
                  </a:lnTo>
                  <a:lnTo>
                    <a:pt x="347" y="5443"/>
                  </a:lnTo>
                  <a:lnTo>
                    <a:pt x="462" y="4285"/>
                  </a:lnTo>
                  <a:lnTo>
                    <a:pt x="694" y="3127"/>
                  </a:lnTo>
                  <a:lnTo>
                    <a:pt x="925" y="2084"/>
                  </a:lnTo>
                  <a:lnTo>
                    <a:pt x="1041" y="1042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157" y="1042"/>
                  </a:lnTo>
                  <a:lnTo>
                    <a:pt x="1041" y="2200"/>
                  </a:lnTo>
                  <a:lnTo>
                    <a:pt x="925" y="3242"/>
                  </a:lnTo>
                  <a:lnTo>
                    <a:pt x="810" y="4401"/>
                  </a:lnTo>
                  <a:lnTo>
                    <a:pt x="810" y="5443"/>
                  </a:lnTo>
                  <a:lnTo>
                    <a:pt x="694" y="6485"/>
                  </a:lnTo>
                  <a:lnTo>
                    <a:pt x="694" y="7643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719000" y="4860000"/>
              <a:ext cx="282960" cy="945000"/>
            </a:xfrm>
            <a:custGeom>
              <a:avLst/>
              <a:gdLst/>
              <a:ahLst/>
              <a:rect l="l" t="t" r="r" b="b"/>
              <a:pathLst>
                <a:path w="7407" h="17603">
                  <a:moveTo>
                    <a:pt x="3356" y="0"/>
                  </a:moveTo>
                  <a:lnTo>
                    <a:pt x="3588" y="463"/>
                  </a:lnTo>
                  <a:lnTo>
                    <a:pt x="3935" y="1042"/>
                  </a:lnTo>
                  <a:lnTo>
                    <a:pt x="4282" y="1505"/>
                  </a:lnTo>
                  <a:lnTo>
                    <a:pt x="4630" y="1969"/>
                  </a:lnTo>
                  <a:lnTo>
                    <a:pt x="4861" y="2432"/>
                  </a:lnTo>
                  <a:lnTo>
                    <a:pt x="5208" y="2895"/>
                  </a:lnTo>
                  <a:lnTo>
                    <a:pt x="5440" y="3358"/>
                  </a:lnTo>
                  <a:lnTo>
                    <a:pt x="5555" y="3937"/>
                  </a:lnTo>
                  <a:lnTo>
                    <a:pt x="5555" y="3937"/>
                  </a:lnTo>
                  <a:lnTo>
                    <a:pt x="5555" y="4632"/>
                  </a:lnTo>
                  <a:lnTo>
                    <a:pt x="5324" y="5443"/>
                  </a:lnTo>
                  <a:lnTo>
                    <a:pt x="5208" y="6254"/>
                  </a:lnTo>
                  <a:lnTo>
                    <a:pt x="4977" y="7064"/>
                  </a:lnTo>
                  <a:lnTo>
                    <a:pt x="4861" y="7875"/>
                  </a:lnTo>
                  <a:lnTo>
                    <a:pt x="4745" y="8686"/>
                  </a:lnTo>
                  <a:lnTo>
                    <a:pt x="4630" y="9496"/>
                  </a:lnTo>
                  <a:lnTo>
                    <a:pt x="4514" y="10307"/>
                  </a:lnTo>
                  <a:lnTo>
                    <a:pt x="4514" y="10307"/>
                  </a:lnTo>
                  <a:lnTo>
                    <a:pt x="4630" y="10654"/>
                  </a:lnTo>
                  <a:lnTo>
                    <a:pt x="4861" y="10886"/>
                  </a:lnTo>
                  <a:lnTo>
                    <a:pt x="5092" y="11118"/>
                  </a:lnTo>
                  <a:lnTo>
                    <a:pt x="5208" y="11349"/>
                  </a:lnTo>
                  <a:lnTo>
                    <a:pt x="5440" y="11697"/>
                  </a:lnTo>
                  <a:lnTo>
                    <a:pt x="5555" y="11928"/>
                  </a:lnTo>
                  <a:lnTo>
                    <a:pt x="5787" y="12160"/>
                  </a:lnTo>
                  <a:lnTo>
                    <a:pt x="5903" y="12507"/>
                  </a:lnTo>
                  <a:lnTo>
                    <a:pt x="5903" y="12507"/>
                  </a:lnTo>
                  <a:lnTo>
                    <a:pt x="5440" y="12507"/>
                  </a:lnTo>
                  <a:lnTo>
                    <a:pt x="5208" y="12623"/>
                  </a:lnTo>
                  <a:lnTo>
                    <a:pt x="4861" y="12739"/>
                  </a:lnTo>
                  <a:lnTo>
                    <a:pt x="4514" y="12739"/>
                  </a:lnTo>
                  <a:lnTo>
                    <a:pt x="4167" y="12855"/>
                  </a:lnTo>
                  <a:lnTo>
                    <a:pt x="3935" y="13086"/>
                  </a:lnTo>
                  <a:lnTo>
                    <a:pt x="3588" y="13202"/>
                  </a:lnTo>
                  <a:lnTo>
                    <a:pt x="3356" y="13434"/>
                  </a:lnTo>
                  <a:lnTo>
                    <a:pt x="3356" y="13434"/>
                  </a:lnTo>
                  <a:lnTo>
                    <a:pt x="3704" y="13318"/>
                  </a:lnTo>
                  <a:lnTo>
                    <a:pt x="4051" y="13318"/>
                  </a:lnTo>
                  <a:lnTo>
                    <a:pt x="4398" y="13202"/>
                  </a:lnTo>
                  <a:lnTo>
                    <a:pt x="4745" y="13086"/>
                  </a:lnTo>
                  <a:lnTo>
                    <a:pt x="5092" y="13086"/>
                  </a:lnTo>
                  <a:lnTo>
                    <a:pt x="5440" y="12971"/>
                  </a:lnTo>
                  <a:lnTo>
                    <a:pt x="5787" y="12971"/>
                  </a:lnTo>
                  <a:lnTo>
                    <a:pt x="6134" y="12971"/>
                  </a:lnTo>
                  <a:lnTo>
                    <a:pt x="6134" y="12971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250" y="13086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318"/>
                  </a:lnTo>
                  <a:lnTo>
                    <a:pt x="6250" y="13318"/>
                  </a:lnTo>
                  <a:lnTo>
                    <a:pt x="5903" y="13318"/>
                  </a:lnTo>
                  <a:lnTo>
                    <a:pt x="5555" y="13318"/>
                  </a:lnTo>
                  <a:lnTo>
                    <a:pt x="5324" y="13434"/>
                  </a:lnTo>
                  <a:lnTo>
                    <a:pt x="5092" y="13550"/>
                  </a:lnTo>
                  <a:lnTo>
                    <a:pt x="4745" y="13781"/>
                  </a:lnTo>
                  <a:lnTo>
                    <a:pt x="4514" y="13897"/>
                  </a:lnTo>
                  <a:lnTo>
                    <a:pt x="4282" y="14129"/>
                  </a:lnTo>
                  <a:lnTo>
                    <a:pt x="4051" y="14244"/>
                  </a:lnTo>
                  <a:lnTo>
                    <a:pt x="4051" y="14244"/>
                  </a:lnTo>
                  <a:lnTo>
                    <a:pt x="4167" y="14244"/>
                  </a:lnTo>
                  <a:lnTo>
                    <a:pt x="4282" y="14244"/>
                  </a:lnTo>
                  <a:lnTo>
                    <a:pt x="4514" y="14244"/>
                  </a:lnTo>
                  <a:lnTo>
                    <a:pt x="4630" y="14129"/>
                  </a:lnTo>
                  <a:lnTo>
                    <a:pt x="4745" y="14013"/>
                  </a:lnTo>
                  <a:lnTo>
                    <a:pt x="4861" y="14013"/>
                  </a:lnTo>
                  <a:lnTo>
                    <a:pt x="5092" y="14013"/>
                  </a:lnTo>
                  <a:lnTo>
                    <a:pt x="5208" y="13897"/>
                  </a:lnTo>
                  <a:lnTo>
                    <a:pt x="5208" y="13897"/>
                  </a:lnTo>
                  <a:lnTo>
                    <a:pt x="5440" y="13897"/>
                  </a:lnTo>
                  <a:lnTo>
                    <a:pt x="5555" y="13897"/>
                  </a:lnTo>
                  <a:lnTo>
                    <a:pt x="5787" y="13897"/>
                  </a:lnTo>
                  <a:lnTo>
                    <a:pt x="6018" y="13781"/>
                  </a:lnTo>
                  <a:lnTo>
                    <a:pt x="6134" y="13781"/>
                  </a:lnTo>
                  <a:lnTo>
                    <a:pt x="6366" y="13781"/>
                  </a:lnTo>
                  <a:lnTo>
                    <a:pt x="6481" y="13781"/>
                  </a:lnTo>
                  <a:lnTo>
                    <a:pt x="6713" y="13781"/>
                  </a:lnTo>
                  <a:lnTo>
                    <a:pt x="6713" y="13781"/>
                  </a:lnTo>
                  <a:lnTo>
                    <a:pt x="6828" y="14244"/>
                  </a:lnTo>
                  <a:lnTo>
                    <a:pt x="7060" y="14592"/>
                  </a:lnTo>
                  <a:lnTo>
                    <a:pt x="7176" y="15055"/>
                  </a:lnTo>
                  <a:lnTo>
                    <a:pt x="7291" y="15518"/>
                  </a:lnTo>
                  <a:lnTo>
                    <a:pt x="7407" y="15982"/>
                  </a:lnTo>
                  <a:lnTo>
                    <a:pt x="7407" y="16329"/>
                  </a:lnTo>
                  <a:lnTo>
                    <a:pt x="7407" y="16792"/>
                  </a:lnTo>
                  <a:lnTo>
                    <a:pt x="7176" y="17255"/>
                  </a:lnTo>
                  <a:lnTo>
                    <a:pt x="7176" y="17255"/>
                  </a:lnTo>
                  <a:lnTo>
                    <a:pt x="6713" y="17371"/>
                  </a:lnTo>
                  <a:lnTo>
                    <a:pt x="6250" y="17487"/>
                  </a:lnTo>
                  <a:lnTo>
                    <a:pt x="5671" y="17603"/>
                  </a:lnTo>
                  <a:lnTo>
                    <a:pt x="5208" y="17487"/>
                  </a:lnTo>
                  <a:lnTo>
                    <a:pt x="4745" y="17371"/>
                  </a:lnTo>
                  <a:lnTo>
                    <a:pt x="4167" y="17255"/>
                  </a:lnTo>
                  <a:lnTo>
                    <a:pt x="3704" y="17024"/>
                  </a:lnTo>
                  <a:lnTo>
                    <a:pt x="3356" y="16792"/>
                  </a:lnTo>
                  <a:lnTo>
                    <a:pt x="3356" y="16792"/>
                  </a:lnTo>
                  <a:lnTo>
                    <a:pt x="2894" y="16329"/>
                  </a:lnTo>
                  <a:lnTo>
                    <a:pt x="2662" y="15634"/>
                  </a:lnTo>
                  <a:lnTo>
                    <a:pt x="2431" y="15055"/>
                  </a:lnTo>
                  <a:lnTo>
                    <a:pt x="2199" y="14360"/>
                  </a:lnTo>
                  <a:lnTo>
                    <a:pt x="1968" y="13665"/>
                  </a:lnTo>
                  <a:lnTo>
                    <a:pt x="1620" y="13202"/>
                  </a:lnTo>
                  <a:lnTo>
                    <a:pt x="1158" y="12855"/>
                  </a:lnTo>
                  <a:lnTo>
                    <a:pt x="463" y="12623"/>
                  </a:lnTo>
                  <a:lnTo>
                    <a:pt x="463" y="12623"/>
                  </a:lnTo>
                  <a:lnTo>
                    <a:pt x="232" y="12507"/>
                  </a:lnTo>
                  <a:lnTo>
                    <a:pt x="232" y="12391"/>
                  </a:lnTo>
                  <a:lnTo>
                    <a:pt x="116" y="12276"/>
                  </a:lnTo>
                  <a:lnTo>
                    <a:pt x="0" y="12044"/>
                  </a:lnTo>
                  <a:lnTo>
                    <a:pt x="0" y="11928"/>
                  </a:lnTo>
                  <a:lnTo>
                    <a:pt x="0" y="11812"/>
                  </a:lnTo>
                  <a:lnTo>
                    <a:pt x="0" y="11581"/>
                  </a:lnTo>
                  <a:lnTo>
                    <a:pt x="116" y="11465"/>
                  </a:lnTo>
                  <a:lnTo>
                    <a:pt x="116" y="11465"/>
                  </a:lnTo>
                  <a:lnTo>
                    <a:pt x="347" y="11118"/>
                  </a:lnTo>
                  <a:lnTo>
                    <a:pt x="579" y="10770"/>
                  </a:lnTo>
                  <a:lnTo>
                    <a:pt x="926" y="10539"/>
                  </a:lnTo>
                  <a:lnTo>
                    <a:pt x="1273" y="10307"/>
                  </a:lnTo>
                  <a:lnTo>
                    <a:pt x="1620" y="10075"/>
                  </a:lnTo>
                  <a:lnTo>
                    <a:pt x="1968" y="9844"/>
                  </a:lnTo>
                  <a:lnTo>
                    <a:pt x="2199" y="9612"/>
                  </a:lnTo>
                  <a:lnTo>
                    <a:pt x="2431" y="9265"/>
                  </a:lnTo>
                  <a:lnTo>
                    <a:pt x="2431" y="9265"/>
                  </a:lnTo>
                  <a:lnTo>
                    <a:pt x="2546" y="8570"/>
                  </a:lnTo>
                  <a:lnTo>
                    <a:pt x="2662" y="7991"/>
                  </a:lnTo>
                  <a:lnTo>
                    <a:pt x="2778" y="7412"/>
                  </a:lnTo>
                  <a:lnTo>
                    <a:pt x="2894" y="6833"/>
                  </a:lnTo>
                  <a:lnTo>
                    <a:pt x="3009" y="6254"/>
                  </a:lnTo>
                  <a:lnTo>
                    <a:pt x="3125" y="5675"/>
                  </a:lnTo>
                  <a:lnTo>
                    <a:pt x="3241" y="5095"/>
                  </a:lnTo>
                  <a:lnTo>
                    <a:pt x="3241" y="4516"/>
                  </a:lnTo>
                  <a:lnTo>
                    <a:pt x="3241" y="4516"/>
                  </a:lnTo>
                  <a:lnTo>
                    <a:pt x="3125" y="4053"/>
                  </a:lnTo>
                  <a:lnTo>
                    <a:pt x="3009" y="3706"/>
                  </a:lnTo>
                  <a:lnTo>
                    <a:pt x="2778" y="3243"/>
                  </a:lnTo>
                  <a:lnTo>
                    <a:pt x="2546" y="2895"/>
                  </a:lnTo>
                  <a:lnTo>
                    <a:pt x="2315" y="2548"/>
                  </a:lnTo>
                  <a:lnTo>
                    <a:pt x="2083" y="2200"/>
                  </a:lnTo>
                  <a:lnTo>
                    <a:pt x="1736" y="1853"/>
                  </a:lnTo>
                  <a:lnTo>
                    <a:pt x="1505" y="1505"/>
                  </a:lnTo>
                  <a:lnTo>
                    <a:pt x="1505" y="1505"/>
                  </a:lnTo>
                  <a:lnTo>
                    <a:pt x="1389" y="1390"/>
                  </a:lnTo>
                  <a:lnTo>
                    <a:pt x="1273" y="1274"/>
                  </a:lnTo>
                  <a:lnTo>
                    <a:pt x="1273" y="1158"/>
                  </a:lnTo>
                  <a:lnTo>
                    <a:pt x="1273" y="1042"/>
                  </a:lnTo>
                  <a:lnTo>
                    <a:pt x="1389" y="926"/>
                  </a:lnTo>
                  <a:lnTo>
                    <a:pt x="1389" y="811"/>
                  </a:lnTo>
                  <a:lnTo>
                    <a:pt x="1505" y="811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852" y="463"/>
                  </a:lnTo>
                  <a:lnTo>
                    <a:pt x="1852" y="463"/>
                  </a:lnTo>
                  <a:lnTo>
                    <a:pt x="1852" y="579"/>
                  </a:lnTo>
                  <a:lnTo>
                    <a:pt x="1736" y="695"/>
                  </a:lnTo>
                  <a:lnTo>
                    <a:pt x="1620" y="811"/>
                  </a:lnTo>
                  <a:lnTo>
                    <a:pt x="1505" y="926"/>
                  </a:lnTo>
                  <a:lnTo>
                    <a:pt x="1505" y="1042"/>
                  </a:lnTo>
                  <a:lnTo>
                    <a:pt x="1505" y="1158"/>
                  </a:lnTo>
                  <a:lnTo>
                    <a:pt x="1505" y="1274"/>
                  </a:lnTo>
                  <a:lnTo>
                    <a:pt x="1852" y="1274"/>
                  </a:lnTo>
                  <a:lnTo>
                    <a:pt x="1852" y="1274"/>
                  </a:lnTo>
                  <a:lnTo>
                    <a:pt x="1968" y="1158"/>
                  </a:lnTo>
                  <a:lnTo>
                    <a:pt x="2083" y="926"/>
                  </a:lnTo>
                  <a:lnTo>
                    <a:pt x="2315" y="695"/>
                  </a:lnTo>
                  <a:lnTo>
                    <a:pt x="2431" y="579"/>
                  </a:lnTo>
                  <a:lnTo>
                    <a:pt x="2662" y="463"/>
                  </a:lnTo>
                  <a:lnTo>
                    <a:pt x="2894" y="347"/>
                  </a:lnTo>
                  <a:lnTo>
                    <a:pt x="3125" y="116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798560" y="4884840"/>
              <a:ext cx="43920" cy="80640"/>
            </a:xfrm>
            <a:custGeom>
              <a:avLst/>
              <a:gdLst/>
              <a:ahLst/>
              <a:rect l="l" t="t" r="r" b="b"/>
              <a:pathLst>
                <a:path w="1158" h="1506">
                  <a:moveTo>
                    <a:pt x="1158" y="0"/>
                  </a:moveTo>
                  <a:lnTo>
                    <a:pt x="1158" y="116"/>
                  </a:lnTo>
                  <a:lnTo>
                    <a:pt x="1042" y="232"/>
                  </a:lnTo>
                  <a:lnTo>
                    <a:pt x="1042" y="348"/>
                  </a:lnTo>
                  <a:lnTo>
                    <a:pt x="926" y="463"/>
                  </a:lnTo>
                  <a:lnTo>
                    <a:pt x="811" y="463"/>
                  </a:lnTo>
                  <a:lnTo>
                    <a:pt x="695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463" y="811"/>
                  </a:lnTo>
                  <a:lnTo>
                    <a:pt x="463" y="927"/>
                  </a:lnTo>
                  <a:lnTo>
                    <a:pt x="348" y="1042"/>
                  </a:lnTo>
                  <a:lnTo>
                    <a:pt x="348" y="1158"/>
                  </a:lnTo>
                  <a:lnTo>
                    <a:pt x="232" y="1274"/>
                  </a:lnTo>
                  <a:lnTo>
                    <a:pt x="232" y="1274"/>
                  </a:lnTo>
                  <a:lnTo>
                    <a:pt x="116" y="1390"/>
                  </a:lnTo>
                  <a:lnTo>
                    <a:pt x="116" y="1506"/>
                  </a:lnTo>
                  <a:lnTo>
                    <a:pt x="116" y="1506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1042"/>
                  </a:lnTo>
                  <a:lnTo>
                    <a:pt x="0" y="811"/>
                  </a:lnTo>
                  <a:lnTo>
                    <a:pt x="116" y="695"/>
                  </a:lnTo>
                  <a:lnTo>
                    <a:pt x="232" y="579"/>
                  </a:lnTo>
                  <a:lnTo>
                    <a:pt x="348" y="463"/>
                  </a:lnTo>
                  <a:lnTo>
                    <a:pt x="348" y="348"/>
                  </a:lnTo>
                  <a:lnTo>
                    <a:pt x="348" y="348"/>
                  </a:lnTo>
                  <a:lnTo>
                    <a:pt x="463" y="232"/>
                  </a:lnTo>
                  <a:lnTo>
                    <a:pt x="579" y="232"/>
                  </a:lnTo>
                  <a:lnTo>
                    <a:pt x="695" y="116"/>
                  </a:lnTo>
                  <a:lnTo>
                    <a:pt x="811" y="116"/>
                  </a:lnTo>
                  <a:lnTo>
                    <a:pt x="811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811880" y="4922280"/>
              <a:ext cx="30600" cy="49680"/>
            </a:xfrm>
            <a:custGeom>
              <a:avLst/>
              <a:gdLst/>
              <a:ahLst/>
              <a:rect l="l" t="t" r="r" b="b"/>
              <a:pathLst>
                <a:path w="810" h="926">
                  <a:moveTo>
                    <a:pt x="810" y="0"/>
                  </a:moveTo>
                  <a:lnTo>
                    <a:pt x="694" y="116"/>
                  </a:lnTo>
                  <a:lnTo>
                    <a:pt x="694" y="232"/>
                  </a:lnTo>
                  <a:lnTo>
                    <a:pt x="694" y="347"/>
                  </a:lnTo>
                  <a:lnTo>
                    <a:pt x="578" y="463"/>
                  </a:lnTo>
                  <a:lnTo>
                    <a:pt x="463" y="579"/>
                  </a:lnTo>
                  <a:lnTo>
                    <a:pt x="463" y="695"/>
                  </a:lnTo>
                  <a:lnTo>
                    <a:pt x="347" y="811"/>
                  </a:lnTo>
                  <a:lnTo>
                    <a:pt x="347" y="926"/>
                  </a:lnTo>
                  <a:lnTo>
                    <a:pt x="347" y="926"/>
                  </a:lnTo>
                  <a:lnTo>
                    <a:pt x="0" y="926"/>
                  </a:lnTo>
                  <a:lnTo>
                    <a:pt x="0" y="926"/>
                  </a:lnTo>
                  <a:lnTo>
                    <a:pt x="0" y="811"/>
                  </a:lnTo>
                  <a:lnTo>
                    <a:pt x="115" y="579"/>
                  </a:lnTo>
                  <a:lnTo>
                    <a:pt x="115" y="463"/>
                  </a:lnTo>
                  <a:lnTo>
                    <a:pt x="231" y="347"/>
                  </a:lnTo>
                  <a:lnTo>
                    <a:pt x="347" y="232"/>
                  </a:lnTo>
                  <a:lnTo>
                    <a:pt x="463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842840" y="4965840"/>
              <a:ext cx="12960" cy="18360"/>
            </a:xfrm>
            <a:custGeom>
              <a:avLst/>
              <a:gdLst/>
              <a:ahLst/>
              <a:rect l="l" t="t" r="r" b="b"/>
              <a:pathLst>
                <a:path w="347" h="347">
                  <a:moveTo>
                    <a:pt x="231" y="347"/>
                  </a:moveTo>
                  <a:lnTo>
                    <a:pt x="0" y="231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099440" y="5140080"/>
              <a:ext cx="331560" cy="690120"/>
            </a:xfrm>
            <a:custGeom>
              <a:avLst/>
              <a:gdLst/>
              <a:ahLst/>
              <a:rect l="l" t="t" r="r" b="b"/>
              <a:pathLst>
                <a:path w="8680" h="12855">
                  <a:moveTo>
                    <a:pt x="7059" y="0"/>
                  </a:moveTo>
                  <a:lnTo>
                    <a:pt x="6944" y="116"/>
                  </a:lnTo>
                  <a:lnTo>
                    <a:pt x="6712" y="232"/>
                  </a:lnTo>
                  <a:lnTo>
                    <a:pt x="6596" y="348"/>
                  </a:lnTo>
                  <a:lnTo>
                    <a:pt x="6481" y="464"/>
                  </a:lnTo>
                  <a:lnTo>
                    <a:pt x="6365" y="579"/>
                  </a:lnTo>
                  <a:lnTo>
                    <a:pt x="6134" y="695"/>
                  </a:lnTo>
                  <a:lnTo>
                    <a:pt x="6018" y="811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1043"/>
                  </a:lnTo>
                  <a:lnTo>
                    <a:pt x="6018" y="1043"/>
                  </a:lnTo>
                  <a:lnTo>
                    <a:pt x="6018" y="1158"/>
                  </a:lnTo>
                  <a:lnTo>
                    <a:pt x="6134" y="1158"/>
                  </a:lnTo>
                  <a:lnTo>
                    <a:pt x="6249" y="1274"/>
                  </a:lnTo>
                  <a:lnTo>
                    <a:pt x="6249" y="1158"/>
                  </a:lnTo>
                  <a:lnTo>
                    <a:pt x="6365" y="1158"/>
                  </a:lnTo>
                  <a:lnTo>
                    <a:pt x="6365" y="1158"/>
                  </a:lnTo>
                  <a:lnTo>
                    <a:pt x="7291" y="348"/>
                  </a:lnTo>
                  <a:lnTo>
                    <a:pt x="7291" y="348"/>
                  </a:lnTo>
                  <a:lnTo>
                    <a:pt x="7291" y="464"/>
                  </a:lnTo>
                  <a:lnTo>
                    <a:pt x="7291" y="579"/>
                  </a:lnTo>
                  <a:lnTo>
                    <a:pt x="7291" y="695"/>
                  </a:lnTo>
                  <a:lnTo>
                    <a:pt x="7175" y="695"/>
                  </a:lnTo>
                  <a:lnTo>
                    <a:pt x="7059" y="811"/>
                  </a:lnTo>
                  <a:lnTo>
                    <a:pt x="6944" y="927"/>
                  </a:lnTo>
                  <a:lnTo>
                    <a:pt x="6828" y="1043"/>
                  </a:lnTo>
                  <a:lnTo>
                    <a:pt x="6828" y="1158"/>
                  </a:lnTo>
                  <a:lnTo>
                    <a:pt x="6828" y="1158"/>
                  </a:lnTo>
                  <a:lnTo>
                    <a:pt x="6712" y="1158"/>
                  </a:lnTo>
                  <a:lnTo>
                    <a:pt x="6712" y="1158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828" y="1506"/>
                  </a:lnTo>
                  <a:lnTo>
                    <a:pt x="6944" y="1506"/>
                  </a:lnTo>
                  <a:lnTo>
                    <a:pt x="7059" y="1506"/>
                  </a:lnTo>
                  <a:lnTo>
                    <a:pt x="7175" y="1390"/>
                  </a:lnTo>
                  <a:lnTo>
                    <a:pt x="7175" y="1274"/>
                  </a:lnTo>
                  <a:lnTo>
                    <a:pt x="7291" y="1158"/>
                  </a:lnTo>
                  <a:lnTo>
                    <a:pt x="7407" y="1158"/>
                  </a:lnTo>
                  <a:lnTo>
                    <a:pt x="7522" y="1043"/>
                  </a:lnTo>
                  <a:lnTo>
                    <a:pt x="7522" y="1043"/>
                  </a:lnTo>
                  <a:lnTo>
                    <a:pt x="7638" y="1274"/>
                  </a:lnTo>
                  <a:lnTo>
                    <a:pt x="7754" y="1506"/>
                  </a:lnTo>
                  <a:lnTo>
                    <a:pt x="7870" y="1737"/>
                  </a:lnTo>
                  <a:lnTo>
                    <a:pt x="8101" y="2085"/>
                  </a:lnTo>
                  <a:lnTo>
                    <a:pt x="8101" y="2316"/>
                  </a:lnTo>
                  <a:lnTo>
                    <a:pt x="8217" y="2548"/>
                  </a:lnTo>
                  <a:lnTo>
                    <a:pt x="8101" y="2780"/>
                  </a:lnTo>
                  <a:lnTo>
                    <a:pt x="7985" y="3011"/>
                  </a:lnTo>
                  <a:lnTo>
                    <a:pt x="7985" y="3011"/>
                  </a:lnTo>
                  <a:lnTo>
                    <a:pt x="7522" y="3359"/>
                  </a:lnTo>
                  <a:lnTo>
                    <a:pt x="7291" y="3706"/>
                  </a:lnTo>
                  <a:lnTo>
                    <a:pt x="6944" y="4054"/>
                  </a:lnTo>
                  <a:lnTo>
                    <a:pt x="6712" y="4517"/>
                  </a:lnTo>
                  <a:lnTo>
                    <a:pt x="6481" y="4864"/>
                  </a:lnTo>
                  <a:lnTo>
                    <a:pt x="6249" y="5212"/>
                  </a:lnTo>
                  <a:lnTo>
                    <a:pt x="5902" y="5559"/>
                  </a:lnTo>
                  <a:lnTo>
                    <a:pt x="5555" y="5791"/>
                  </a:lnTo>
                  <a:lnTo>
                    <a:pt x="5555" y="5791"/>
                  </a:lnTo>
                  <a:lnTo>
                    <a:pt x="5439" y="6486"/>
                  </a:lnTo>
                  <a:lnTo>
                    <a:pt x="5323" y="7180"/>
                  </a:lnTo>
                  <a:lnTo>
                    <a:pt x="5208" y="7760"/>
                  </a:lnTo>
                  <a:lnTo>
                    <a:pt x="5208" y="8454"/>
                  </a:lnTo>
                  <a:lnTo>
                    <a:pt x="5208" y="9149"/>
                  </a:lnTo>
                  <a:lnTo>
                    <a:pt x="5323" y="9844"/>
                  </a:lnTo>
                  <a:lnTo>
                    <a:pt x="5555" y="10423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6018" y="10886"/>
                  </a:lnTo>
                  <a:lnTo>
                    <a:pt x="6018" y="10771"/>
                  </a:lnTo>
                  <a:lnTo>
                    <a:pt x="6018" y="10771"/>
                  </a:lnTo>
                  <a:lnTo>
                    <a:pt x="6018" y="10655"/>
                  </a:lnTo>
                  <a:lnTo>
                    <a:pt x="6018" y="10539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6018" y="10423"/>
                  </a:lnTo>
                  <a:lnTo>
                    <a:pt x="6134" y="10423"/>
                  </a:lnTo>
                  <a:lnTo>
                    <a:pt x="6134" y="10539"/>
                  </a:lnTo>
                  <a:lnTo>
                    <a:pt x="6249" y="10539"/>
                  </a:lnTo>
                  <a:lnTo>
                    <a:pt x="6249" y="10655"/>
                  </a:lnTo>
                  <a:lnTo>
                    <a:pt x="6365" y="10655"/>
                  </a:lnTo>
                  <a:lnTo>
                    <a:pt x="6365" y="10771"/>
                  </a:lnTo>
                  <a:lnTo>
                    <a:pt x="6481" y="10886"/>
                  </a:lnTo>
                  <a:lnTo>
                    <a:pt x="6481" y="10886"/>
                  </a:lnTo>
                  <a:lnTo>
                    <a:pt x="6365" y="11465"/>
                  </a:lnTo>
                  <a:lnTo>
                    <a:pt x="6365" y="11465"/>
                  </a:lnTo>
                  <a:lnTo>
                    <a:pt x="6481" y="11465"/>
                  </a:lnTo>
                  <a:lnTo>
                    <a:pt x="6596" y="11465"/>
                  </a:lnTo>
                  <a:lnTo>
                    <a:pt x="6712" y="11465"/>
                  </a:lnTo>
                  <a:lnTo>
                    <a:pt x="6712" y="11350"/>
                  </a:lnTo>
                  <a:lnTo>
                    <a:pt x="6712" y="11234"/>
                  </a:lnTo>
                  <a:lnTo>
                    <a:pt x="6828" y="11118"/>
                  </a:lnTo>
                  <a:lnTo>
                    <a:pt x="6828" y="11002"/>
                  </a:lnTo>
                  <a:lnTo>
                    <a:pt x="6944" y="10886"/>
                  </a:lnTo>
                  <a:lnTo>
                    <a:pt x="6944" y="10886"/>
                  </a:lnTo>
                  <a:lnTo>
                    <a:pt x="7175" y="10886"/>
                  </a:lnTo>
                  <a:lnTo>
                    <a:pt x="7407" y="10886"/>
                  </a:lnTo>
                  <a:lnTo>
                    <a:pt x="7638" y="10886"/>
                  </a:lnTo>
                  <a:lnTo>
                    <a:pt x="7870" y="10886"/>
                  </a:lnTo>
                  <a:lnTo>
                    <a:pt x="8101" y="11002"/>
                  </a:lnTo>
                  <a:lnTo>
                    <a:pt x="8332" y="11002"/>
                  </a:lnTo>
                  <a:lnTo>
                    <a:pt x="8564" y="11234"/>
                  </a:lnTo>
                  <a:lnTo>
                    <a:pt x="8564" y="11581"/>
                  </a:lnTo>
                  <a:lnTo>
                    <a:pt x="8564" y="11581"/>
                  </a:lnTo>
                  <a:lnTo>
                    <a:pt x="8680" y="11929"/>
                  </a:lnTo>
                  <a:lnTo>
                    <a:pt x="8564" y="12160"/>
                  </a:lnTo>
                  <a:lnTo>
                    <a:pt x="8448" y="12392"/>
                  </a:lnTo>
                  <a:lnTo>
                    <a:pt x="8217" y="12508"/>
                  </a:lnTo>
                  <a:lnTo>
                    <a:pt x="7985" y="12624"/>
                  </a:lnTo>
                  <a:lnTo>
                    <a:pt x="7638" y="12624"/>
                  </a:lnTo>
                  <a:lnTo>
                    <a:pt x="7291" y="12739"/>
                  </a:lnTo>
                  <a:lnTo>
                    <a:pt x="7059" y="12855"/>
                  </a:lnTo>
                  <a:lnTo>
                    <a:pt x="7059" y="12855"/>
                  </a:lnTo>
                  <a:lnTo>
                    <a:pt x="6596" y="12855"/>
                  </a:lnTo>
                  <a:lnTo>
                    <a:pt x="6018" y="12739"/>
                  </a:lnTo>
                  <a:lnTo>
                    <a:pt x="5555" y="12739"/>
                  </a:lnTo>
                  <a:lnTo>
                    <a:pt x="5092" y="12624"/>
                  </a:lnTo>
                  <a:lnTo>
                    <a:pt x="4513" y="12508"/>
                  </a:lnTo>
                  <a:lnTo>
                    <a:pt x="4166" y="12276"/>
                  </a:lnTo>
                  <a:lnTo>
                    <a:pt x="3703" y="12044"/>
                  </a:lnTo>
                  <a:lnTo>
                    <a:pt x="3240" y="11813"/>
                  </a:lnTo>
                  <a:lnTo>
                    <a:pt x="3240" y="11813"/>
                  </a:lnTo>
                  <a:lnTo>
                    <a:pt x="2893" y="11234"/>
                  </a:lnTo>
                  <a:lnTo>
                    <a:pt x="2662" y="10539"/>
                  </a:lnTo>
                  <a:lnTo>
                    <a:pt x="2430" y="9960"/>
                  </a:lnTo>
                  <a:lnTo>
                    <a:pt x="2199" y="9265"/>
                  </a:lnTo>
                  <a:lnTo>
                    <a:pt x="1851" y="8686"/>
                  </a:lnTo>
                  <a:lnTo>
                    <a:pt x="1504" y="8107"/>
                  </a:lnTo>
                  <a:lnTo>
                    <a:pt x="926" y="7644"/>
                  </a:lnTo>
                  <a:lnTo>
                    <a:pt x="231" y="7412"/>
                  </a:lnTo>
                  <a:lnTo>
                    <a:pt x="231" y="7412"/>
                  </a:lnTo>
                  <a:lnTo>
                    <a:pt x="115" y="7296"/>
                  </a:lnTo>
                  <a:lnTo>
                    <a:pt x="115" y="7296"/>
                  </a:lnTo>
                  <a:lnTo>
                    <a:pt x="0" y="7180"/>
                  </a:lnTo>
                  <a:lnTo>
                    <a:pt x="0" y="7065"/>
                  </a:lnTo>
                  <a:lnTo>
                    <a:pt x="0" y="6949"/>
                  </a:lnTo>
                  <a:lnTo>
                    <a:pt x="0" y="6833"/>
                  </a:lnTo>
                  <a:lnTo>
                    <a:pt x="0" y="6717"/>
                  </a:lnTo>
                  <a:lnTo>
                    <a:pt x="0" y="6601"/>
                  </a:lnTo>
                  <a:lnTo>
                    <a:pt x="0" y="6601"/>
                  </a:lnTo>
                  <a:lnTo>
                    <a:pt x="231" y="6370"/>
                  </a:lnTo>
                  <a:lnTo>
                    <a:pt x="463" y="6138"/>
                  </a:lnTo>
                  <a:lnTo>
                    <a:pt x="810" y="6022"/>
                  </a:lnTo>
                  <a:lnTo>
                    <a:pt x="1157" y="5907"/>
                  </a:lnTo>
                  <a:lnTo>
                    <a:pt x="1504" y="5907"/>
                  </a:lnTo>
                  <a:lnTo>
                    <a:pt x="1851" y="5791"/>
                  </a:lnTo>
                  <a:lnTo>
                    <a:pt x="2199" y="5675"/>
                  </a:lnTo>
                  <a:lnTo>
                    <a:pt x="2430" y="5559"/>
                  </a:lnTo>
                  <a:lnTo>
                    <a:pt x="2430" y="5559"/>
                  </a:lnTo>
                  <a:lnTo>
                    <a:pt x="3009" y="5328"/>
                  </a:lnTo>
                  <a:lnTo>
                    <a:pt x="3472" y="4980"/>
                  </a:lnTo>
                  <a:lnTo>
                    <a:pt x="3935" y="4633"/>
                  </a:lnTo>
                  <a:lnTo>
                    <a:pt x="4398" y="4285"/>
                  </a:lnTo>
                  <a:lnTo>
                    <a:pt x="4860" y="3822"/>
                  </a:lnTo>
                  <a:lnTo>
                    <a:pt x="5323" y="3475"/>
                  </a:lnTo>
                  <a:lnTo>
                    <a:pt x="5671" y="3011"/>
                  </a:lnTo>
                  <a:lnTo>
                    <a:pt x="6018" y="2432"/>
                  </a:lnTo>
                  <a:lnTo>
                    <a:pt x="6018" y="2432"/>
                  </a:lnTo>
                  <a:lnTo>
                    <a:pt x="6018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249" y="2548"/>
                  </a:lnTo>
                  <a:lnTo>
                    <a:pt x="6249" y="2548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201"/>
                  </a:lnTo>
                  <a:lnTo>
                    <a:pt x="6134" y="1969"/>
                  </a:lnTo>
                  <a:lnTo>
                    <a:pt x="6018" y="1737"/>
                  </a:lnTo>
                  <a:lnTo>
                    <a:pt x="5902" y="1506"/>
                  </a:lnTo>
                  <a:lnTo>
                    <a:pt x="5786" y="1274"/>
                  </a:lnTo>
                  <a:lnTo>
                    <a:pt x="5671" y="1043"/>
                  </a:lnTo>
                  <a:lnTo>
                    <a:pt x="5555" y="811"/>
                  </a:lnTo>
                  <a:lnTo>
                    <a:pt x="5439" y="579"/>
                  </a:lnTo>
                  <a:lnTo>
                    <a:pt x="5439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811"/>
                  </a:lnTo>
                  <a:lnTo>
                    <a:pt x="5671" y="811"/>
                  </a:lnTo>
                  <a:lnTo>
                    <a:pt x="5786" y="811"/>
                  </a:lnTo>
                  <a:lnTo>
                    <a:pt x="5786" y="811"/>
                  </a:lnTo>
                  <a:lnTo>
                    <a:pt x="5902" y="695"/>
                  </a:lnTo>
                  <a:lnTo>
                    <a:pt x="6018" y="579"/>
                  </a:lnTo>
                  <a:lnTo>
                    <a:pt x="6249" y="464"/>
                  </a:lnTo>
                  <a:lnTo>
                    <a:pt x="6365" y="348"/>
                  </a:lnTo>
                  <a:lnTo>
                    <a:pt x="6481" y="232"/>
                  </a:lnTo>
                  <a:lnTo>
                    <a:pt x="6712" y="116"/>
                  </a:lnTo>
                  <a:lnTo>
                    <a:pt x="6828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2666880" y="2754360"/>
            <a:ext cx="5715000" cy="310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dentify monomial expres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etermine the coefficient and degree of a monom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838080" y="144792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When you finish this unit, you will be able to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7" name=""/>
          <p:cNvGrpSpPr/>
          <p:nvPr/>
        </p:nvGrpSpPr>
        <p:grpSpPr>
          <a:xfrm>
            <a:off x="1600200" y="4952880"/>
            <a:ext cx="1638000" cy="1601280"/>
            <a:chOff x="1600200" y="4952880"/>
            <a:chExt cx="1638000" cy="1601280"/>
          </a:xfrm>
        </p:grpSpPr>
        <p:sp>
          <p:nvSpPr>
            <p:cNvPr id="508" name=""/>
            <p:cNvSpPr/>
            <p:nvPr/>
          </p:nvSpPr>
          <p:spPr>
            <a:xfrm>
              <a:off x="1678320" y="4952880"/>
              <a:ext cx="15598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xy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1600200" y="5729040"/>
              <a:ext cx="1560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2z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1912320" y="5790960"/>
              <a:ext cx="101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1" name=""/>
          <p:cNvSpPr/>
          <p:nvPr/>
        </p:nvSpPr>
        <p:spPr>
          <a:xfrm>
            <a:off x="685800" y="1371600"/>
            <a:ext cx="7772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Which are </a:t>
            </a:r>
            <a:r>
              <a:rPr b="0" lang="en-US" sz="4800" spc="-1" strike="noStrike">
                <a:solidFill>
                  <a:srgbClr val="3333cc"/>
                </a:solidFill>
                <a:latin typeface="Comic Sans MS"/>
              </a:rPr>
              <a:t>monomials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1219320" y="2514600"/>
            <a:ext cx="2590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10x</a:t>
            </a:r>
            <a:r>
              <a:rPr b="0" lang="en-US" sz="48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y</a:t>
            </a:r>
            <a:r>
              <a:rPr b="0" lang="en-US" sz="4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z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2971800" y="3276720"/>
            <a:ext cx="762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1523880" y="4114800"/>
            <a:ext cx="2057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US" sz="4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 + y</a:t>
            </a:r>
            <a:r>
              <a:rPr b="0" lang="en-US" sz="4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5" name=""/>
          <p:cNvGrpSpPr/>
          <p:nvPr/>
        </p:nvGrpSpPr>
        <p:grpSpPr>
          <a:xfrm>
            <a:off x="1219320" y="2514600"/>
            <a:ext cx="4572000" cy="825120"/>
            <a:chOff x="1219320" y="2514600"/>
            <a:chExt cx="4572000" cy="825120"/>
          </a:xfrm>
        </p:grpSpPr>
        <p:sp>
          <p:nvSpPr>
            <p:cNvPr id="516" name=""/>
            <p:cNvSpPr/>
            <p:nvPr/>
          </p:nvSpPr>
          <p:spPr>
            <a:xfrm>
              <a:off x="4191120" y="2514600"/>
              <a:ext cx="16002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3333cc"/>
                  </a:solidFill>
                  <a:latin typeface="Comic Sans MS"/>
                </a:rPr>
                <a:t>Yes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1219320" y="2514600"/>
              <a:ext cx="25905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3333cc"/>
                  </a:solidFill>
                  <a:latin typeface="Comic Sans MS"/>
                </a:rPr>
                <a:t>10x</a:t>
              </a:r>
              <a:r>
                <a:rPr b="0" lang="en-US" sz="4800" spc="-1" strike="noStrike" baseline="30000">
                  <a:solidFill>
                    <a:srgbClr val="3333cc"/>
                  </a:solidFill>
                  <a:latin typeface="Comic Sans MS"/>
                </a:rPr>
                <a:t>3</a:t>
              </a:r>
              <a:r>
                <a:rPr b="0" lang="en-US" sz="4800" spc="-1" strike="noStrike">
                  <a:solidFill>
                    <a:srgbClr val="3333cc"/>
                  </a:solidFill>
                  <a:latin typeface="Comic Sans MS"/>
                </a:rPr>
                <a:t>y</a:t>
              </a:r>
              <a:r>
                <a:rPr b="0" lang="en-US" sz="4800" spc="-1" strike="noStrike" baseline="30000">
                  <a:solidFill>
                    <a:srgbClr val="3333cc"/>
                  </a:solidFill>
                  <a:latin typeface="Comic Sans MS"/>
                </a:rPr>
                <a:t>2</a:t>
              </a:r>
              <a:r>
                <a:rPr b="0" lang="en-US" sz="4800" spc="-1" strike="noStrike">
                  <a:solidFill>
                    <a:srgbClr val="3333cc"/>
                  </a:solidFill>
                  <a:latin typeface="Comic Sans MS"/>
                </a:rPr>
                <a:t>z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8" name=""/>
          <p:cNvGrpSpPr/>
          <p:nvPr/>
        </p:nvGrpSpPr>
        <p:grpSpPr>
          <a:xfrm>
            <a:off x="2971800" y="3276720"/>
            <a:ext cx="2438280" cy="825120"/>
            <a:chOff x="2971800" y="3276720"/>
            <a:chExt cx="2438280" cy="825120"/>
          </a:xfrm>
        </p:grpSpPr>
        <p:sp>
          <p:nvSpPr>
            <p:cNvPr id="519" name=""/>
            <p:cNvSpPr/>
            <p:nvPr/>
          </p:nvSpPr>
          <p:spPr>
            <a:xfrm>
              <a:off x="4190760" y="3276720"/>
              <a:ext cx="12193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3333cc"/>
                  </a:solidFill>
                  <a:latin typeface="Comic Sans MS"/>
                </a:rPr>
                <a:t>Yes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2971800" y="3276720"/>
              <a:ext cx="7617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3333cc"/>
                  </a:solidFill>
                  <a:latin typeface="Comic Sans MS"/>
                </a:rPr>
                <a:t>5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1" name=""/>
          <p:cNvGrpSpPr/>
          <p:nvPr/>
        </p:nvGrpSpPr>
        <p:grpSpPr>
          <a:xfrm>
            <a:off x="1523880" y="4114800"/>
            <a:ext cx="4267080" cy="977400"/>
            <a:chOff x="1523880" y="4114800"/>
            <a:chExt cx="4267080" cy="977400"/>
          </a:xfrm>
        </p:grpSpPr>
        <p:sp>
          <p:nvSpPr>
            <p:cNvPr id="522" name=""/>
            <p:cNvSpPr/>
            <p:nvPr/>
          </p:nvSpPr>
          <p:spPr>
            <a:xfrm>
              <a:off x="4114440" y="4267080"/>
              <a:ext cx="16765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6600cc"/>
                  </a:solidFill>
                  <a:latin typeface="Comic Sans MS"/>
                </a:rPr>
                <a:t>No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1523880" y="4114800"/>
              <a:ext cx="20574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6600cc"/>
                  </a:solidFill>
                  <a:latin typeface="Comic Sans MS"/>
                </a:rPr>
                <a:t>x</a:t>
              </a:r>
              <a:r>
                <a:rPr b="0" lang="en-US" sz="4800" spc="-1" strike="noStrike" baseline="30000">
                  <a:solidFill>
                    <a:srgbClr val="6600cc"/>
                  </a:solidFill>
                  <a:latin typeface="Comic Sans MS"/>
                </a:rPr>
                <a:t>2</a:t>
              </a:r>
              <a:r>
                <a:rPr b="0" lang="en-US" sz="4800" spc="-1" strike="noStrike">
                  <a:solidFill>
                    <a:srgbClr val="6600cc"/>
                  </a:solidFill>
                  <a:latin typeface="Comic Sans MS"/>
                </a:rPr>
                <a:t> + y</a:t>
              </a:r>
              <a:r>
                <a:rPr b="0" lang="en-US" sz="4800" spc="-1" strike="noStrike" baseline="30000">
                  <a:solidFill>
                    <a:srgbClr val="6600cc"/>
                  </a:solidFill>
                  <a:latin typeface="Comic Sans MS"/>
                </a:rPr>
                <a:t>2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4" name=""/>
          <p:cNvGrpSpPr/>
          <p:nvPr/>
        </p:nvGrpSpPr>
        <p:grpSpPr>
          <a:xfrm>
            <a:off x="1600200" y="4952880"/>
            <a:ext cx="3429000" cy="1951560"/>
            <a:chOff x="1600200" y="4952880"/>
            <a:chExt cx="3429000" cy="1951560"/>
          </a:xfrm>
        </p:grpSpPr>
        <p:grpSp>
          <p:nvGrpSpPr>
            <p:cNvPr id="525" name=""/>
            <p:cNvGrpSpPr/>
            <p:nvPr/>
          </p:nvGrpSpPr>
          <p:grpSpPr>
            <a:xfrm>
              <a:off x="1600200" y="4952880"/>
              <a:ext cx="1638000" cy="1601280"/>
              <a:chOff x="1600200" y="4952880"/>
              <a:chExt cx="1638000" cy="1601280"/>
            </a:xfrm>
          </p:grpSpPr>
          <p:sp>
            <p:nvSpPr>
              <p:cNvPr id="526" name=""/>
              <p:cNvSpPr/>
              <p:nvPr/>
            </p:nvSpPr>
            <p:spPr>
              <a:xfrm>
                <a:off x="1678320" y="4952880"/>
                <a:ext cx="155988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9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800" spc="-1" strike="noStrike">
                    <a:solidFill>
                      <a:srgbClr val="6600cc"/>
                    </a:solidFill>
                    <a:latin typeface="Comic Sans MS"/>
                  </a:rPr>
                  <a:t>xy</a:t>
                </a:r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1600200" y="5729040"/>
                <a:ext cx="156024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9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800" spc="-1" strike="noStrike">
                    <a:solidFill>
                      <a:srgbClr val="6600cc"/>
                    </a:solidFill>
                    <a:latin typeface="Comic Sans MS"/>
                  </a:rPr>
                  <a:t>2z</a:t>
                </a:r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1912320" y="5790960"/>
                <a:ext cx="1014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29" name=""/>
            <p:cNvSpPr/>
            <p:nvPr/>
          </p:nvSpPr>
          <p:spPr>
            <a:xfrm>
              <a:off x="4038480" y="5348160"/>
              <a:ext cx="99072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6600cc"/>
                  </a:solidFill>
                  <a:latin typeface="Comic Sans MS"/>
                </a:rPr>
                <a:t>No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0" name=""/>
          <p:cNvSpPr/>
          <p:nvPr/>
        </p:nvSpPr>
        <p:spPr>
          <a:xfrm>
            <a:off x="2362320" y="685800"/>
            <a:ext cx="441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nomials /Polynomi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4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9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4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9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4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9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4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"/>
          <p:cNvSpPr/>
          <p:nvPr/>
        </p:nvSpPr>
        <p:spPr>
          <a:xfrm>
            <a:off x="2362320" y="685800"/>
            <a:ext cx="4419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nonomials/Polynomi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2" name=""/>
          <p:cNvGrpSpPr/>
          <p:nvPr/>
        </p:nvGrpSpPr>
        <p:grpSpPr>
          <a:xfrm>
            <a:off x="1295280" y="1600200"/>
            <a:ext cx="7162560" cy="3962160"/>
            <a:chOff x="1295280" y="1600200"/>
            <a:chExt cx="7162560" cy="3962160"/>
          </a:xfrm>
        </p:grpSpPr>
        <p:grpSp>
          <p:nvGrpSpPr>
            <p:cNvPr id="533" name=""/>
            <p:cNvGrpSpPr/>
            <p:nvPr/>
          </p:nvGrpSpPr>
          <p:grpSpPr>
            <a:xfrm>
              <a:off x="1295280" y="1600200"/>
              <a:ext cx="7162560" cy="3962160"/>
              <a:chOff x="1295280" y="1600200"/>
              <a:chExt cx="7162560" cy="3962160"/>
            </a:xfrm>
          </p:grpSpPr>
          <p:sp>
            <p:nvSpPr>
              <p:cNvPr id="534" name=""/>
              <p:cNvSpPr/>
              <p:nvPr/>
            </p:nvSpPr>
            <p:spPr>
              <a:xfrm>
                <a:off x="1295280" y="1600200"/>
                <a:ext cx="384588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0" spc="-1" strike="noStrike">
                    <a:solidFill>
                      <a:srgbClr val="6600cc"/>
                    </a:solidFill>
                    <a:latin typeface="Comic Sans MS"/>
                  </a:rPr>
                  <a:t>Mono</a:t>
                </a:r>
                <a:r>
                  <a:rPr b="0" lang="en-US" sz="6000" spc="-1" strike="noStrike">
                    <a:solidFill>
                      <a:srgbClr val="000000"/>
                    </a:solidFill>
                    <a:latin typeface="Comic Sans MS"/>
                  </a:rPr>
                  <a:t>mial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535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5068440" y="2314440"/>
                <a:ext cx="3389400" cy="32479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36" name=""/>
            <p:cNvSpPr/>
            <p:nvPr/>
          </p:nvSpPr>
          <p:spPr>
            <a:xfrm>
              <a:off x="2257200" y="2742840"/>
              <a:ext cx="207144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5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800" spc="-1" strike="noStrike">
                  <a:solidFill>
                    <a:srgbClr val="000000"/>
                  </a:solidFill>
                  <a:latin typeface="Comic Sans MS"/>
                </a:rPr>
                <a:t>3x</a:t>
              </a:r>
              <a:r>
                <a:rPr b="0" lang="en-US" sz="8800" spc="-1" strike="noStrike" baseline="30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7" name=""/>
          <p:cNvGrpSpPr/>
          <p:nvPr/>
        </p:nvGrpSpPr>
        <p:grpSpPr>
          <a:xfrm>
            <a:off x="245880" y="3711240"/>
            <a:ext cx="3775680" cy="3016440"/>
            <a:chOff x="245880" y="3711240"/>
            <a:chExt cx="3775680" cy="3016440"/>
          </a:xfrm>
        </p:grpSpPr>
        <p:sp>
          <p:nvSpPr>
            <p:cNvPr id="538" name=""/>
            <p:cNvSpPr/>
            <p:nvPr/>
          </p:nvSpPr>
          <p:spPr>
            <a:xfrm rot="20869200">
              <a:off x="457200" y="4038120"/>
              <a:ext cx="3352680" cy="2362320"/>
            </a:xfrm>
            <a:prstGeom prst="irregularSeal1">
              <a:avLst/>
            </a:prstGeom>
            <a:solidFill>
              <a:srgbClr val="ffff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 rot="20866200">
              <a:off x="1054080" y="4952880"/>
              <a:ext cx="2286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Remember!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0" name=""/>
          <p:cNvSpPr/>
          <p:nvPr/>
        </p:nvSpPr>
        <p:spPr>
          <a:xfrm>
            <a:off x="4191120" y="5257800"/>
            <a:ext cx="3581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Single ter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70" dur="indefinite" restart="never" nodeType="tmRoot">
          <p:childTnLst>
            <p:seq>
              <p:cTn id="571" dur="indefinite" nodeType="mainSeq">
                <p:childTnLst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6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/>
          <p:nvPr/>
        </p:nvSpPr>
        <p:spPr>
          <a:xfrm>
            <a:off x="914400" y="1828800"/>
            <a:ext cx="3962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00"/>
                </a:solidFill>
                <a:latin typeface="Comic Sans MS"/>
              </a:rPr>
              <a:t>Bi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nomial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2" name="" descr=""/>
          <p:cNvPicPr/>
          <p:nvPr/>
        </p:nvPicPr>
        <p:blipFill>
          <a:blip r:embed="rId1"/>
          <a:stretch/>
        </p:blipFill>
        <p:spPr>
          <a:xfrm>
            <a:off x="4724280" y="3200400"/>
            <a:ext cx="3886200" cy="2901960"/>
          </a:xfrm>
          <a:prstGeom prst="rect">
            <a:avLst/>
          </a:prstGeom>
          <a:ln w="0">
            <a:noFill/>
          </a:ln>
        </p:spPr>
      </p:pic>
      <p:sp>
        <p:nvSpPr>
          <p:cNvPr id="543" name=""/>
          <p:cNvSpPr/>
          <p:nvPr/>
        </p:nvSpPr>
        <p:spPr>
          <a:xfrm>
            <a:off x="609480" y="3290760"/>
            <a:ext cx="4114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3x</a:t>
            </a:r>
            <a:r>
              <a:rPr b="0" lang="en-US" sz="8800" spc="-1" strike="noStrike" baseline="30000">
                <a:solidFill>
                  <a:srgbClr val="000000"/>
                </a:solidFill>
                <a:latin typeface="Comic Sans MS"/>
              </a:rPr>
              <a:t>2 </a:t>
            </a: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+ 4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1066680" y="5105520"/>
            <a:ext cx="3581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Two term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2362320" y="685800"/>
            <a:ext cx="441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nomials /Polynomi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"/>
          <p:cNvSpPr/>
          <p:nvPr/>
        </p:nvSpPr>
        <p:spPr>
          <a:xfrm>
            <a:off x="914400" y="1828800"/>
            <a:ext cx="3962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omic Sans MS"/>
              </a:rPr>
              <a:t>Tri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nomial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7" name="" descr=""/>
          <p:cNvPicPr/>
          <p:nvPr/>
        </p:nvPicPr>
        <p:blipFill>
          <a:blip r:embed="rId1"/>
          <a:stretch/>
        </p:blipFill>
        <p:spPr>
          <a:xfrm>
            <a:off x="6248520" y="3809880"/>
            <a:ext cx="2547720" cy="2667240"/>
          </a:xfrm>
          <a:prstGeom prst="rect">
            <a:avLst/>
          </a:prstGeom>
          <a:ln w="0">
            <a:noFill/>
          </a:ln>
        </p:spPr>
      </p:pic>
      <p:sp>
        <p:nvSpPr>
          <p:cNvPr id="548" name=""/>
          <p:cNvSpPr/>
          <p:nvPr/>
        </p:nvSpPr>
        <p:spPr>
          <a:xfrm>
            <a:off x="914400" y="3048120"/>
            <a:ext cx="6629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3x</a:t>
            </a:r>
            <a:r>
              <a:rPr b="0" lang="en-US" sz="8800" spc="-1" strike="noStrike" baseline="30000">
                <a:solidFill>
                  <a:srgbClr val="000000"/>
                </a:solidFill>
                <a:latin typeface="Comic Sans MS"/>
              </a:rPr>
              <a:t>2 </a:t>
            </a: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+ 2x + 4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1143000" y="5105520"/>
            <a:ext cx="4114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Three term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2362320" y="685800"/>
            <a:ext cx="441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nomials /Polynomi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91" dur="indefinite" restart="never" nodeType="tmRoot">
          <p:childTnLst>
            <p:seq>
              <p:cTn id="592" dur="indefinite" nodeType="mainSeq">
                <p:childTnLst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"/>
          <p:cNvSpPr/>
          <p:nvPr/>
        </p:nvSpPr>
        <p:spPr>
          <a:xfrm>
            <a:off x="914400" y="1828800"/>
            <a:ext cx="3962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00"/>
                </a:solidFill>
                <a:latin typeface="Comic Sans MS"/>
              </a:rPr>
              <a:t>Poly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nomial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457200" y="3184560"/>
            <a:ext cx="6095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US" sz="60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 + 3x</a:t>
            </a:r>
            <a:r>
              <a:rPr b="0" lang="en-US" sz="6000" spc="-1" strike="noStrike" baseline="30000">
                <a:solidFill>
                  <a:srgbClr val="000000"/>
                </a:solidFill>
                <a:latin typeface="Comic Sans MS"/>
              </a:rPr>
              <a:t>2 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+ 2x + 4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533520" y="4648320"/>
            <a:ext cx="48765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more than one ter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any number &gt; 1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2362320" y="685800"/>
            <a:ext cx="441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nomials /Polynomi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5" name="" descr=""/>
          <p:cNvPicPr/>
          <p:nvPr/>
        </p:nvPicPr>
        <p:blipFill>
          <a:blip r:embed="rId1"/>
          <a:stretch/>
        </p:blipFill>
        <p:spPr>
          <a:xfrm>
            <a:off x="5705640" y="4216320"/>
            <a:ext cx="2752560" cy="20322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</p:spTree>
  </p:cSld>
  <p:timing>
    <p:tnLst>
      <p:par>
        <p:cTn id="599" dur="indefinite" restart="never" nodeType="tmRoot">
          <p:childTnLst>
            <p:seq>
              <p:cTn id="600" dur="indefinite" nodeType="mainSeq">
                <p:childTnLst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"/>
          <p:cNvSpPr/>
          <p:nvPr/>
        </p:nvSpPr>
        <p:spPr>
          <a:xfrm>
            <a:off x="2362320" y="685800"/>
            <a:ext cx="441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nomials /Polynomi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7" name=""/>
          <p:cNvGrpSpPr/>
          <p:nvPr/>
        </p:nvGrpSpPr>
        <p:grpSpPr>
          <a:xfrm>
            <a:off x="3200400" y="1752480"/>
            <a:ext cx="4572000" cy="2837160"/>
            <a:chOff x="3200400" y="1752480"/>
            <a:chExt cx="4572000" cy="2837160"/>
          </a:xfrm>
        </p:grpSpPr>
        <p:sp>
          <p:nvSpPr>
            <p:cNvPr id="558" name=""/>
            <p:cNvSpPr/>
            <p:nvPr/>
          </p:nvSpPr>
          <p:spPr>
            <a:xfrm>
              <a:off x="3809880" y="1752480"/>
              <a:ext cx="3962520" cy="167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6600"/>
                  </a:solidFill>
                  <a:latin typeface="Comic Sans MS"/>
                </a:rPr>
                <a:t>Bi</a:t>
              </a:r>
              <a:r>
                <a:rPr b="0" lang="en-US" sz="6000" spc="-1" strike="noStrike">
                  <a:solidFill>
                    <a:srgbClr val="000000"/>
                  </a:solidFill>
                  <a:latin typeface="Comic Sans MS"/>
                </a:rPr>
                <a:t>nomials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Comic Sans MS"/>
                </a:rPr>
                <a:t>and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200400" y="3581280"/>
              <a:ext cx="39621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990033"/>
                  </a:solidFill>
                  <a:latin typeface="Comic Sans MS"/>
                </a:rPr>
                <a:t>Tri</a:t>
              </a:r>
              <a:r>
                <a:rPr b="0" lang="en-US" sz="6000" spc="-1" strike="noStrike">
                  <a:solidFill>
                    <a:srgbClr val="000000"/>
                  </a:solidFill>
                  <a:latin typeface="Comic Sans MS"/>
                </a:rPr>
                <a:t>nomials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0" name=""/>
          <p:cNvSpPr/>
          <p:nvPr/>
        </p:nvSpPr>
        <p:spPr>
          <a:xfrm>
            <a:off x="1295280" y="5029200"/>
            <a:ext cx="5410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re</a:t>
            </a:r>
            <a:r>
              <a:rPr b="0" lang="en-US" sz="60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6000" spc="-1" strike="noStrike">
                <a:solidFill>
                  <a:srgbClr val="6600cc"/>
                </a:solidFill>
                <a:latin typeface="Comic Sans MS"/>
              </a:rPr>
              <a:t>Poly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nomial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1" name="" descr=""/>
          <p:cNvPicPr/>
          <p:nvPr/>
        </p:nvPicPr>
        <p:blipFill>
          <a:blip r:embed="rId1"/>
          <a:stretch/>
        </p:blipFill>
        <p:spPr>
          <a:xfrm>
            <a:off x="609480" y="1671480"/>
            <a:ext cx="3206880" cy="1757520"/>
          </a:xfrm>
          <a:prstGeom prst="rect">
            <a:avLst/>
          </a:prstGeom>
          <a:ln w="0">
            <a:noFill/>
          </a:ln>
        </p:spPr>
      </p:pic>
      <p:pic>
        <p:nvPicPr>
          <p:cNvPr id="562" name="" descr=""/>
          <p:cNvPicPr/>
          <p:nvPr/>
        </p:nvPicPr>
        <p:blipFill>
          <a:blip r:embed="rId2"/>
          <a:stretch/>
        </p:blipFill>
        <p:spPr>
          <a:xfrm>
            <a:off x="6400800" y="3505320"/>
            <a:ext cx="2220840" cy="274320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606" dur="indefinite" restart="never" nodeType="tmRoot">
          <p:childTnLst>
            <p:seq>
              <p:cTn id="607" dur="indefinite" nodeType="mainSeq">
                <p:childTnLst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2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"/>
          <p:cNvSpPr/>
          <p:nvPr/>
        </p:nvSpPr>
        <p:spPr>
          <a:xfrm>
            <a:off x="2362320" y="685800"/>
            <a:ext cx="441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olynomials/Monomi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 txBox="1"/>
          <p:nvPr/>
        </p:nvSpPr>
        <p:spPr>
          <a:xfrm>
            <a:off x="914400" y="1981080"/>
            <a:ext cx="5029200" cy="198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Quick Quiz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65" name="" descr=""/>
          <p:cNvPicPr/>
          <p:nvPr/>
        </p:nvPicPr>
        <p:blipFill>
          <a:blip r:embed="rId1"/>
          <a:stretch/>
        </p:blipFill>
        <p:spPr>
          <a:xfrm>
            <a:off x="5791320" y="4419720"/>
            <a:ext cx="547560" cy="761760"/>
          </a:xfrm>
          <a:prstGeom prst="rect">
            <a:avLst/>
          </a:prstGeom>
          <a:ln w="0">
            <a:noFill/>
          </a:ln>
        </p:spPr>
      </p:pic>
      <p:grpSp>
        <p:nvGrpSpPr>
          <p:cNvPr id="566" name=""/>
          <p:cNvGrpSpPr/>
          <p:nvPr/>
        </p:nvGrpSpPr>
        <p:grpSpPr>
          <a:xfrm>
            <a:off x="3733920" y="1878120"/>
            <a:ext cx="4763880" cy="4446360"/>
            <a:chOff x="3733920" y="1878120"/>
            <a:chExt cx="4763880" cy="4446360"/>
          </a:xfrm>
        </p:grpSpPr>
        <p:pic>
          <p:nvPicPr>
            <p:cNvPr id="567" name="" descr=""/>
            <p:cNvPicPr/>
            <p:nvPr/>
          </p:nvPicPr>
          <p:blipFill>
            <a:blip r:embed="rId2"/>
            <a:stretch/>
          </p:blipFill>
          <p:spPr>
            <a:xfrm>
              <a:off x="3733920" y="1878120"/>
              <a:ext cx="4763880" cy="444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8" name=""/>
            <p:cNvSpPr/>
            <p:nvPr/>
          </p:nvSpPr>
          <p:spPr>
            <a:xfrm rot="13632000">
              <a:off x="5419440" y="4483080"/>
              <a:ext cx="990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A+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"/>
          <p:cNvSpPr/>
          <p:nvPr/>
        </p:nvSpPr>
        <p:spPr>
          <a:xfrm>
            <a:off x="762120" y="2362320"/>
            <a:ext cx="3733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3x</a:t>
            </a:r>
            <a:r>
              <a:rPr b="0" lang="en-US" sz="44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+ 2x</a:t>
            </a:r>
            <a:r>
              <a:rPr b="0" lang="en-US" sz="4400" spc="-1" strike="noStrike" baseline="30000">
                <a:solidFill>
                  <a:srgbClr val="000000"/>
                </a:solidFill>
                <a:latin typeface="Comic Sans MS"/>
              </a:rPr>
              <a:t>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2362320" y="685800"/>
            <a:ext cx="441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olynomials/Monomi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685800" y="15238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at is each of the following calle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762120" y="3429000"/>
            <a:ext cx="5181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2x</a:t>
            </a:r>
            <a:r>
              <a:rPr b="0" lang="en-US" sz="4400" spc="-1" strike="noStrike" baseline="30000">
                <a:solidFill>
                  <a:srgbClr val="000000"/>
                </a:solidFill>
                <a:latin typeface="Comic Sans MS"/>
              </a:rPr>
              <a:t>7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+ 4x</a:t>
            </a:r>
            <a:r>
              <a:rPr b="0" lang="en-US" sz="4400" spc="-1" strike="noStrike" baseline="30000">
                <a:solidFill>
                  <a:srgbClr val="000000"/>
                </a:solidFill>
                <a:latin typeface="Comic Sans MS"/>
              </a:rPr>
              <a:t> 5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+ 4x</a:t>
            </a:r>
            <a:r>
              <a:rPr b="0" lang="en-US" sz="4400" spc="-1" strike="noStrike" baseline="30000">
                <a:solidFill>
                  <a:srgbClr val="000000"/>
                </a:solidFill>
                <a:latin typeface="Comic Sans MS"/>
              </a:rPr>
              <a:t>4 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+ 4</a:t>
            </a:r>
            <a:r>
              <a:rPr b="0" lang="en-US" sz="44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685800" y="4505400"/>
            <a:ext cx="5181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US" sz="44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+ 4x</a:t>
            </a:r>
            <a:r>
              <a:rPr b="0" lang="en-US" sz="4400" spc="-1" strike="noStrike" baseline="30000">
                <a:solidFill>
                  <a:srgbClr val="000000"/>
                </a:solidFill>
                <a:latin typeface="Comic Sans MS"/>
              </a:rPr>
              <a:t> 2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- 4</a:t>
            </a:r>
            <a:r>
              <a:rPr b="0" lang="en-US" sz="44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2120" y="5529240"/>
            <a:ext cx="2819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3x</a:t>
            </a:r>
            <a:r>
              <a:rPr b="0" lang="en-US" sz="4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5181480" y="228600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00"/>
                </a:solidFill>
                <a:latin typeface="Comic Sans MS"/>
              </a:rPr>
              <a:t>binomi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6019920" y="3352680"/>
            <a:ext cx="25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00"/>
                </a:solidFill>
                <a:latin typeface="Comic Sans MS"/>
              </a:rPr>
              <a:t>polynomi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5867280" y="457200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00"/>
                </a:solidFill>
                <a:latin typeface="Comic Sans MS"/>
              </a:rPr>
              <a:t>trinomi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5181480" y="563868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00"/>
                </a:solidFill>
                <a:latin typeface="Comic Sans MS"/>
              </a:rPr>
              <a:t>monomi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"/>
          <p:cNvSpPr/>
          <p:nvPr/>
        </p:nvSpPr>
        <p:spPr>
          <a:xfrm>
            <a:off x="2362320" y="685800"/>
            <a:ext cx="441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olynomials/Monomi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685800" y="15238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at is each of the following calle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685800" y="2438280"/>
            <a:ext cx="5181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US" sz="44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+ 4x</a:t>
            </a:r>
            <a:r>
              <a:rPr b="0" lang="en-US" sz="4400" spc="-1" strike="noStrike" baseline="30000">
                <a:solidFill>
                  <a:srgbClr val="000000"/>
                </a:solidFill>
                <a:latin typeface="Comic Sans MS"/>
              </a:rPr>
              <a:t> 2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+ 2x</a:t>
            </a:r>
            <a:r>
              <a:rPr b="0" lang="en-US" sz="4400" spc="-1" strike="noStrike" baseline="30000">
                <a:solidFill>
                  <a:srgbClr val="000000"/>
                </a:solidFill>
                <a:latin typeface="Comic Sans MS"/>
              </a:rPr>
              <a:t>3 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- 4</a:t>
            </a:r>
            <a:r>
              <a:rPr b="0" lang="en-US" sz="44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762120" y="4538520"/>
            <a:ext cx="2819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3x</a:t>
            </a:r>
            <a:r>
              <a:rPr b="0" lang="en-US" sz="4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+ 2x</a:t>
            </a:r>
            <a:r>
              <a:rPr b="0" lang="en-US" sz="4400" spc="-1" strike="noStrike" baseline="30000">
                <a:solidFill>
                  <a:srgbClr val="000000"/>
                </a:solidFill>
                <a:latin typeface="Comic Sans MS"/>
              </a:rPr>
              <a:t>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5638680" y="365760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00"/>
                </a:solidFill>
                <a:latin typeface="Comic Sans MS"/>
              </a:rPr>
              <a:t>trinomi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5715000" y="495288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00"/>
                </a:solidFill>
                <a:latin typeface="Comic Sans MS"/>
              </a:rPr>
              <a:t>monomi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1219320" y="3200400"/>
            <a:ext cx="4114800" cy="1145160"/>
            <a:chOff x="1219320" y="3200400"/>
            <a:chExt cx="4114800" cy="1145160"/>
          </a:xfrm>
        </p:grpSpPr>
        <p:sp>
          <p:nvSpPr>
            <p:cNvPr id="586" name=""/>
            <p:cNvSpPr/>
            <p:nvPr/>
          </p:nvSpPr>
          <p:spPr>
            <a:xfrm>
              <a:off x="1752480" y="3581280"/>
              <a:ext cx="3581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6600"/>
                  </a:solidFill>
                  <a:latin typeface="Comic Sans MS"/>
                </a:rPr>
                <a:t>3x</a:t>
              </a:r>
              <a:r>
                <a:rPr b="0" lang="en-US" sz="4400" spc="-1" strike="noStrike" baseline="30000">
                  <a:solidFill>
                    <a:srgbClr val="006600"/>
                  </a:solidFill>
                  <a:latin typeface="Comic Sans MS"/>
                </a:rPr>
                <a:t>3</a:t>
              </a:r>
              <a:r>
                <a:rPr b="0" lang="en-US" sz="4400" spc="-1" strike="noStrike">
                  <a:solidFill>
                    <a:srgbClr val="006600"/>
                  </a:solidFill>
                  <a:latin typeface="Comic Sans MS"/>
                </a:rPr>
                <a:t>+ 4x</a:t>
              </a:r>
              <a:r>
                <a:rPr b="0" lang="en-US" sz="4400" spc="-1" strike="noStrike" baseline="30000">
                  <a:solidFill>
                    <a:srgbClr val="006600"/>
                  </a:solidFill>
                  <a:latin typeface="Comic Sans MS"/>
                </a:rPr>
                <a:t> 2</a:t>
              </a:r>
              <a:r>
                <a:rPr b="0" lang="en-US" sz="4400" spc="-1" strike="noStrike">
                  <a:solidFill>
                    <a:srgbClr val="006600"/>
                  </a:solidFill>
                  <a:latin typeface="Comic Sans MS"/>
                </a:rPr>
                <a:t> - 4</a:t>
              </a:r>
              <a:r>
                <a:rPr b="0" lang="en-US" sz="4400" spc="-1" strike="noStrike" baseline="30000">
                  <a:solidFill>
                    <a:srgbClr val="006600"/>
                  </a:solidFill>
                  <a:latin typeface="Comic Sans MS"/>
                </a:rPr>
                <a:t> 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219320" y="3200400"/>
              <a:ext cx="99036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 flipH="1">
              <a:off x="2286000" y="3200400"/>
              <a:ext cx="137160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9" name=""/>
          <p:cNvGrpSpPr/>
          <p:nvPr/>
        </p:nvGrpSpPr>
        <p:grpSpPr>
          <a:xfrm>
            <a:off x="1371600" y="5257800"/>
            <a:ext cx="2438280" cy="1069200"/>
            <a:chOff x="1371600" y="5257800"/>
            <a:chExt cx="2438280" cy="1069200"/>
          </a:xfrm>
        </p:grpSpPr>
        <p:sp>
          <p:nvSpPr>
            <p:cNvPr id="590" name=""/>
            <p:cNvSpPr/>
            <p:nvPr/>
          </p:nvSpPr>
          <p:spPr>
            <a:xfrm>
              <a:off x="2209680" y="5562720"/>
              <a:ext cx="16002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6600cc"/>
                  </a:solidFill>
                  <a:latin typeface="Comic Sans MS"/>
                </a:rPr>
                <a:t>5x</a:t>
              </a:r>
              <a:r>
                <a:rPr b="0" lang="en-US" sz="4400" spc="-1" strike="noStrike" baseline="30000">
                  <a:solidFill>
                    <a:srgbClr val="6600cc"/>
                  </a:solidFill>
                  <a:latin typeface="Comic Sans MS"/>
                </a:rPr>
                <a:t>2</a:t>
              </a:r>
              <a:r>
                <a:rPr b="0" lang="en-US" sz="4400" spc="-1" strike="noStrike">
                  <a:solidFill>
                    <a:srgbClr val="cc0000"/>
                  </a:solidFill>
                  <a:latin typeface="Comic Sans MS"/>
                </a:rPr>
                <a:t> 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1371600" y="5257800"/>
              <a:ext cx="99072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 flipH="1">
              <a:off x="2438280" y="5334120"/>
              <a:ext cx="53352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45" dur="indefinite" restart="never" nodeType="tmRoot">
          <p:childTnLst>
            <p:seq>
              <p:cTn id="646" dur="indefinite" nodeType="mainSeq">
                <p:childTnLst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"/>
          <p:cNvSpPr/>
          <p:nvPr/>
        </p:nvSpPr>
        <p:spPr>
          <a:xfrm>
            <a:off x="838080" y="3362400"/>
            <a:ext cx="3124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omic Sans MS"/>
              </a:rPr>
              <a:t>-5x</a:t>
            </a:r>
            <a:r>
              <a:rPr b="0" lang="en-US" sz="9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4191120" y="2590920"/>
            <a:ext cx="4197240" cy="22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Degree    </a:t>
            </a:r>
            <a:r>
              <a:rPr b="0" lang="en-US" sz="4800" spc="-1" strike="noStrike">
                <a:solidFill>
                  <a:srgbClr val="3333cc"/>
                </a:solidFill>
                <a:latin typeface="Comic Sans MS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    </a:t>
            </a: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(power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 flipH="1">
            <a:off x="3733560" y="3352680"/>
            <a:ext cx="990360" cy="38124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1600200" y="1523880"/>
            <a:ext cx="685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Describing a monomia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4114800" y="5367240"/>
            <a:ext cx="4343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00"/>
                </a:solidFill>
                <a:latin typeface="Comic Sans MS"/>
              </a:rPr>
              <a:t>Coefficient     </a:t>
            </a:r>
            <a:r>
              <a:rPr b="0" lang="en-US" sz="4800" spc="-1" strike="noStrike">
                <a:solidFill>
                  <a:srgbClr val="006600"/>
                </a:solidFill>
                <a:latin typeface="Comic Sans MS"/>
              </a:rPr>
              <a:t>-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8" name=""/>
          <p:cNvGrpSpPr/>
          <p:nvPr/>
        </p:nvGrpSpPr>
        <p:grpSpPr>
          <a:xfrm>
            <a:off x="838080" y="3314880"/>
            <a:ext cx="3124080" cy="1557000"/>
            <a:chOff x="838080" y="3314880"/>
            <a:chExt cx="3124080" cy="1557000"/>
          </a:xfrm>
        </p:grpSpPr>
        <p:sp>
          <p:nvSpPr>
            <p:cNvPr id="599" name=""/>
            <p:cNvSpPr/>
            <p:nvPr/>
          </p:nvSpPr>
          <p:spPr>
            <a:xfrm>
              <a:off x="838080" y="3314880"/>
              <a:ext cx="312408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600" spc="-1" strike="noStrike">
                  <a:solidFill>
                    <a:srgbClr val="000000"/>
                  </a:solidFill>
                  <a:latin typeface="Comic Sans MS"/>
                </a:rPr>
                <a:t>-5x</a:t>
              </a:r>
              <a:r>
                <a:rPr b="0" lang="en-US" sz="9600" spc="-1" strike="noStrike" baseline="30000">
                  <a:solidFill>
                    <a:srgbClr val="3333ff"/>
                  </a:solidFill>
                  <a:latin typeface="Comic Sans MS"/>
                </a:rPr>
                <a:t>2</a:t>
              </a:r>
              <a:endParaRPr b="0" lang="en-US" sz="9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838080" y="3314880"/>
              <a:ext cx="312408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600" spc="-1" strike="noStrike">
                  <a:solidFill>
                    <a:srgbClr val="6600cc"/>
                  </a:solidFill>
                  <a:latin typeface="Comic Sans MS"/>
                </a:rPr>
                <a:t>-5</a:t>
              </a:r>
              <a:r>
                <a:rPr b="0" lang="en-US" sz="96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r>
                <a:rPr b="0" lang="en-US" sz="9600" spc="-1" strike="noStrike" baseline="30000">
                  <a:solidFill>
                    <a:srgbClr val="990033"/>
                  </a:solidFill>
                  <a:latin typeface="Comic Sans MS"/>
                </a:rPr>
                <a:t>2</a:t>
              </a:r>
              <a:endParaRPr b="0" lang="en-US" sz="9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1" name=""/>
          <p:cNvSpPr/>
          <p:nvPr/>
        </p:nvSpPr>
        <p:spPr>
          <a:xfrm>
            <a:off x="2362320" y="685800"/>
            <a:ext cx="441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nomials /Polynomi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 flipH="1" flipV="1">
            <a:off x="2057040" y="4724280"/>
            <a:ext cx="2057400" cy="1067040"/>
          </a:xfrm>
          <a:prstGeom prst="line">
            <a:avLst/>
          </a:prstGeom>
          <a:ln w="5724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1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86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91" dur="500"/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96" dur="500"/>
                                        <p:tgtEl>
                                          <p:spTgt spid="5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1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6" dur="3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3124080" y="60948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e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533520" y="2895480"/>
            <a:ext cx="2361960" cy="2971800"/>
            <a:chOff x="533520" y="2895480"/>
            <a:chExt cx="2361960" cy="2971800"/>
          </a:xfrm>
        </p:grpSpPr>
        <p:sp>
          <p:nvSpPr>
            <p:cNvPr id="167" name=""/>
            <p:cNvSpPr/>
            <p:nvPr/>
          </p:nvSpPr>
          <p:spPr>
            <a:xfrm>
              <a:off x="533520" y="2895480"/>
              <a:ext cx="2361960" cy="297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42160" y="2907720"/>
              <a:ext cx="2344320" cy="2946960"/>
            </a:xfrm>
            <a:custGeom>
              <a:avLst/>
              <a:gdLst/>
              <a:ahLst/>
              <a:rect l="l" t="t" r="r" b="b"/>
              <a:pathLst>
                <a:path w="61339" h="54893">
                  <a:moveTo>
                    <a:pt x="20369" y="694"/>
                  </a:moveTo>
                  <a:lnTo>
                    <a:pt x="20485" y="579"/>
                  </a:lnTo>
                  <a:lnTo>
                    <a:pt x="20485" y="463"/>
                  </a:lnTo>
                  <a:lnTo>
                    <a:pt x="20601" y="463"/>
                  </a:lnTo>
                  <a:lnTo>
                    <a:pt x="20717" y="347"/>
                  </a:lnTo>
                  <a:lnTo>
                    <a:pt x="20832" y="347"/>
                  </a:lnTo>
                  <a:lnTo>
                    <a:pt x="20948" y="347"/>
                  </a:lnTo>
                  <a:lnTo>
                    <a:pt x="21064" y="231"/>
                  </a:lnTo>
                  <a:lnTo>
                    <a:pt x="21179" y="231"/>
                  </a:lnTo>
                  <a:lnTo>
                    <a:pt x="21179" y="231"/>
                  </a:lnTo>
                  <a:lnTo>
                    <a:pt x="21411" y="231"/>
                  </a:lnTo>
                  <a:lnTo>
                    <a:pt x="21527" y="347"/>
                  </a:lnTo>
                  <a:lnTo>
                    <a:pt x="21758" y="463"/>
                  </a:lnTo>
                  <a:lnTo>
                    <a:pt x="21990" y="579"/>
                  </a:lnTo>
                  <a:lnTo>
                    <a:pt x="22105" y="694"/>
                  </a:lnTo>
                  <a:lnTo>
                    <a:pt x="22221" y="810"/>
                  </a:lnTo>
                  <a:lnTo>
                    <a:pt x="22453" y="1042"/>
                  </a:lnTo>
                  <a:lnTo>
                    <a:pt x="22568" y="1274"/>
                  </a:lnTo>
                  <a:lnTo>
                    <a:pt x="22568" y="1274"/>
                  </a:lnTo>
                  <a:lnTo>
                    <a:pt x="22684" y="1158"/>
                  </a:lnTo>
                  <a:lnTo>
                    <a:pt x="22915" y="1042"/>
                  </a:lnTo>
                  <a:lnTo>
                    <a:pt x="23031" y="1042"/>
                  </a:lnTo>
                  <a:lnTo>
                    <a:pt x="23147" y="1042"/>
                  </a:lnTo>
                  <a:lnTo>
                    <a:pt x="23378" y="1042"/>
                  </a:lnTo>
                  <a:lnTo>
                    <a:pt x="23494" y="1042"/>
                  </a:lnTo>
                  <a:lnTo>
                    <a:pt x="23726" y="1042"/>
                  </a:lnTo>
                  <a:lnTo>
                    <a:pt x="23841" y="1158"/>
                  </a:lnTo>
                  <a:lnTo>
                    <a:pt x="23841" y="1158"/>
                  </a:lnTo>
                  <a:lnTo>
                    <a:pt x="23957" y="1158"/>
                  </a:lnTo>
                  <a:lnTo>
                    <a:pt x="24188" y="1274"/>
                  </a:lnTo>
                  <a:lnTo>
                    <a:pt x="24304" y="1389"/>
                  </a:lnTo>
                  <a:lnTo>
                    <a:pt x="24420" y="1505"/>
                  </a:lnTo>
                  <a:lnTo>
                    <a:pt x="24536" y="1621"/>
                  </a:lnTo>
                  <a:lnTo>
                    <a:pt x="24651" y="1621"/>
                  </a:lnTo>
                  <a:lnTo>
                    <a:pt x="24767" y="1621"/>
                  </a:lnTo>
                  <a:lnTo>
                    <a:pt x="24999" y="1389"/>
                  </a:lnTo>
                  <a:lnTo>
                    <a:pt x="24999" y="1389"/>
                  </a:lnTo>
                  <a:lnTo>
                    <a:pt x="25114" y="1389"/>
                  </a:lnTo>
                  <a:lnTo>
                    <a:pt x="25346" y="1505"/>
                  </a:lnTo>
                  <a:lnTo>
                    <a:pt x="25462" y="1505"/>
                  </a:lnTo>
                  <a:lnTo>
                    <a:pt x="25577" y="1621"/>
                  </a:lnTo>
                  <a:lnTo>
                    <a:pt x="25693" y="1737"/>
                  </a:lnTo>
                  <a:lnTo>
                    <a:pt x="25809" y="1853"/>
                  </a:lnTo>
                  <a:lnTo>
                    <a:pt x="25924" y="1968"/>
                  </a:lnTo>
                  <a:lnTo>
                    <a:pt x="26040" y="1968"/>
                  </a:lnTo>
                  <a:lnTo>
                    <a:pt x="26040" y="1968"/>
                  </a:lnTo>
                  <a:lnTo>
                    <a:pt x="26272" y="1968"/>
                  </a:lnTo>
                  <a:lnTo>
                    <a:pt x="26503" y="1853"/>
                  </a:lnTo>
                  <a:lnTo>
                    <a:pt x="26735" y="1853"/>
                  </a:lnTo>
                  <a:lnTo>
                    <a:pt x="26966" y="1737"/>
                  </a:lnTo>
                  <a:lnTo>
                    <a:pt x="27082" y="1737"/>
                  </a:lnTo>
                  <a:lnTo>
                    <a:pt x="27313" y="1737"/>
                  </a:lnTo>
                  <a:lnTo>
                    <a:pt x="27545" y="1853"/>
                  </a:lnTo>
                  <a:lnTo>
                    <a:pt x="27660" y="1968"/>
                  </a:lnTo>
                  <a:lnTo>
                    <a:pt x="27660" y="1968"/>
                  </a:lnTo>
                  <a:lnTo>
                    <a:pt x="28123" y="2316"/>
                  </a:lnTo>
                  <a:lnTo>
                    <a:pt x="28123" y="2316"/>
                  </a:lnTo>
                  <a:lnTo>
                    <a:pt x="28239" y="2084"/>
                  </a:lnTo>
                  <a:lnTo>
                    <a:pt x="28471" y="1968"/>
                  </a:lnTo>
                  <a:lnTo>
                    <a:pt x="28586" y="1968"/>
                  </a:lnTo>
                  <a:lnTo>
                    <a:pt x="28818" y="1968"/>
                  </a:lnTo>
                  <a:lnTo>
                    <a:pt x="29049" y="1968"/>
                  </a:lnTo>
                  <a:lnTo>
                    <a:pt x="29281" y="1968"/>
                  </a:lnTo>
                  <a:lnTo>
                    <a:pt x="29512" y="1968"/>
                  </a:lnTo>
                  <a:lnTo>
                    <a:pt x="29744" y="1968"/>
                  </a:lnTo>
                  <a:lnTo>
                    <a:pt x="29744" y="1968"/>
                  </a:lnTo>
                  <a:lnTo>
                    <a:pt x="29859" y="2084"/>
                  </a:lnTo>
                  <a:lnTo>
                    <a:pt x="29975" y="2200"/>
                  </a:lnTo>
                  <a:lnTo>
                    <a:pt x="29975" y="2316"/>
                  </a:lnTo>
                  <a:lnTo>
                    <a:pt x="30091" y="2432"/>
                  </a:lnTo>
                  <a:lnTo>
                    <a:pt x="30207" y="2547"/>
                  </a:lnTo>
                  <a:lnTo>
                    <a:pt x="30322" y="2663"/>
                  </a:lnTo>
                  <a:lnTo>
                    <a:pt x="30438" y="2779"/>
                  </a:lnTo>
                  <a:lnTo>
                    <a:pt x="30554" y="2779"/>
                  </a:lnTo>
                  <a:lnTo>
                    <a:pt x="30554" y="2779"/>
                  </a:lnTo>
                  <a:lnTo>
                    <a:pt x="30670" y="2779"/>
                  </a:lnTo>
                  <a:lnTo>
                    <a:pt x="30785" y="2663"/>
                  </a:lnTo>
                  <a:lnTo>
                    <a:pt x="30901" y="2663"/>
                  </a:lnTo>
                  <a:lnTo>
                    <a:pt x="31132" y="2663"/>
                  </a:lnTo>
                  <a:lnTo>
                    <a:pt x="31248" y="2663"/>
                  </a:lnTo>
                  <a:lnTo>
                    <a:pt x="31364" y="2663"/>
                  </a:lnTo>
                  <a:lnTo>
                    <a:pt x="31595" y="2663"/>
                  </a:lnTo>
                  <a:lnTo>
                    <a:pt x="31711" y="2663"/>
                  </a:lnTo>
                  <a:lnTo>
                    <a:pt x="31711" y="2663"/>
                  </a:lnTo>
                  <a:lnTo>
                    <a:pt x="31943" y="2895"/>
                  </a:lnTo>
                  <a:lnTo>
                    <a:pt x="32058" y="3011"/>
                  </a:lnTo>
                  <a:lnTo>
                    <a:pt x="32174" y="3126"/>
                  </a:lnTo>
                  <a:lnTo>
                    <a:pt x="32290" y="3358"/>
                  </a:lnTo>
                  <a:lnTo>
                    <a:pt x="32521" y="3474"/>
                  </a:lnTo>
                  <a:lnTo>
                    <a:pt x="32637" y="3474"/>
                  </a:lnTo>
                  <a:lnTo>
                    <a:pt x="-32668" y="3474"/>
                  </a:lnTo>
                  <a:lnTo>
                    <a:pt x="-32436" y="3242"/>
                  </a:lnTo>
                  <a:lnTo>
                    <a:pt x="-32436" y="3242"/>
                  </a:lnTo>
                  <a:lnTo>
                    <a:pt x="-32205" y="3242"/>
                  </a:lnTo>
                  <a:lnTo>
                    <a:pt x="-31973" y="3242"/>
                  </a:lnTo>
                  <a:lnTo>
                    <a:pt x="-31626" y="3358"/>
                  </a:lnTo>
                  <a:lnTo>
                    <a:pt x="-31395" y="3474"/>
                  </a:lnTo>
                  <a:lnTo>
                    <a:pt x="-31163" y="3706"/>
                  </a:lnTo>
                  <a:lnTo>
                    <a:pt x="-30932" y="3706"/>
                  </a:lnTo>
                  <a:lnTo>
                    <a:pt x="-30584" y="3821"/>
                  </a:lnTo>
                  <a:lnTo>
                    <a:pt x="-30237" y="3706"/>
                  </a:lnTo>
                  <a:lnTo>
                    <a:pt x="-30237" y="3706"/>
                  </a:lnTo>
                  <a:lnTo>
                    <a:pt x="-30006" y="3821"/>
                  </a:lnTo>
                  <a:lnTo>
                    <a:pt x="-29774" y="3937"/>
                  </a:lnTo>
                  <a:lnTo>
                    <a:pt x="-29543" y="3937"/>
                  </a:lnTo>
                  <a:lnTo>
                    <a:pt x="-29311" y="3937"/>
                  </a:lnTo>
                  <a:lnTo>
                    <a:pt x="-29080" y="3821"/>
                  </a:lnTo>
                  <a:lnTo>
                    <a:pt x="-28733" y="3937"/>
                  </a:lnTo>
                  <a:lnTo>
                    <a:pt x="-28501" y="4053"/>
                  </a:lnTo>
                  <a:lnTo>
                    <a:pt x="-28385" y="4169"/>
                  </a:lnTo>
                  <a:lnTo>
                    <a:pt x="-28385" y="4169"/>
                  </a:lnTo>
                  <a:lnTo>
                    <a:pt x="-28038" y="4169"/>
                  </a:lnTo>
                  <a:lnTo>
                    <a:pt x="-27807" y="4169"/>
                  </a:lnTo>
                  <a:lnTo>
                    <a:pt x="-27575" y="4169"/>
                  </a:lnTo>
                  <a:lnTo>
                    <a:pt x="-27344" y="4285"/>
                  </a:lnTo>
                  <a:lnTo>
                    <a:pt x="-27112" y="4400"/>
                  </a:lnTo>
                  <a:lnTo>
                    <a:pt x="-26881" y="4516"/>
                  </a:lnTo>
                  <a:lnTo>
                    <a:pt x="-26650" y="4516"/>
                  </a:lnTo>
                  <a:lnTo>
                    <a:pt x="-26418" y="4285"/>
                  </a:lnTo>
                  <a:lnTo>
                    <a:pt x="-26418" y="4285"/>
                  </a:lnTo>
                  <a:lnTo>
                    <a:pt x="-26187" y="4400"/>
                  </a:lnTo>
                  <a:lnTo>
                    <a:pt x="-25955" y="4516"/>
                  </a:lnTo>
                  <a:lnTo>
                    <a:pt x="-25724" y="4632"/>
                  </a:lnTo>
                  <a:lnTo>
                    <a:pt x="-25608" y="4748"/>
                  </a:lnTo>
                  <a:lnTo>
                    <a:pt x="-25492" y="4979"/>
                  </a:lnTo>
                  <a:lnTo>
                    <a:pt x="-25376" y="5095"/>
                  </a:lnTo>
                  <a:lnTo>
                    <a:pt x="-25261" y="5327"/>
                  </a:lnTo>
                  <a:lnTo>
                    <a:pt x="-25145" y="5558"/>
                  </a:lnTo>
                  <a:lnTo>
                    <a:pt x="-25145" y="5558"/>
                  </a:lnTo>
                  <a:lnTo>
                    <a:pt x="-25145" y="6022"/>
                  </a:lnTo>
                  <a:lnTo>
                    <a:pt x="-25145" y="6369"/>
                  </a:lnTo>
                  <a:lnTo>
                    <a:pt x="-25376" y="6717"/>
                  </a:lnTo>
                  <a:lnTo>
                    <a:pt x="-25492" y="7064"/>
                  </a:lnTo>
                  <a:lnTo>
                    <a:pt x="-25724" y="7296"/>
                  </a:lnTo>
                  <a:lnTo>
                    <a:pt x="-25839" y="7643"/>
                  </a:lnTo>
                  <a:lnTo>
                    <a:pt x="-25955" y="7990"/>
                  </a:lnTo>
                  <a:lnTo>
                    <a:pt x="-26071" y="8454"/>
                  </a:lnTo>
                  <a:lnTo>
                    <a:pt x="-26071" y="8454"/>
                  </a:lnTo>
                  <a:lnTo>
                    <a:pt x="-26534" y="9959"/>
                  </a:lnTo>
                  <a:lnTo>
                    <a:pt x="-26997" y="11465"/>
                  </a:lnTo>
                  <a:lnTo>
                    <a:pt x="-27344" y="13086"/>
                  </a:lnTo>
                  <a:lnTo>
                    <a:pt x="-27691" y="14707"/>
                  </a:lnTo>
                  <a:lnTo>
                    <a:pt x="-28038" y="16329"/>
                  </a:lnTo>
                  <a:lnTo>
                    <a:pt x="-28270" y="17950"/>
                  </a:lnTo>
                  <a:lnTo>
                    <a:pt x="-28501" y="19571"/>
                  </a:lnTo>
                  <a:lnTo>
                    <a:pt x="-28617" y="21193"/>
                  </a:lnTo>
                  <a:lnTo>
                    <a:pt x="-28617" y="21193"/>
                  </a:lnTo>
                  <a:lnTo>
                    <a:pt x="-28501" y="21309"/>
                  </a:lnTo>
                  <a:lnTo>
                    <a:pt x="-28501" y="21309"/>
                  </a:lnTo>
                  <a:lnTo>
                    <a:pt x="-26650" y="20845"/>
                  </a:lnTo>
                  <a:lnTo>
                    <a:pt x="-24914" y="20498"/>
                  </a:lnTo>
                  <a:lnTo>
                    <a:pt x="-23178" y="20150"/>
                  </a:lnTo>
                  <a:lnTo>
                    <a:pt x="-21326" y="19919"/>
                  </a:lnTo>
                  <a:lnTo>
                    <a:pt x="-19590" y="19571"/>
                  </a:lnTo>
                  <a:lnTo>
                    <a:pt x="-17738" y="19224"/>
                  </a:lnTo>
                  <a:lnTo>
                    <a:pt x="-16002" y="18992"/>
                  </a:lnTo>
                  <a:lnTo>
                    <a:pt x="-14266" y="18645"/>
                  </a:lnTo>
                  <a:lnTo>
                    <a:pt x="-14266" y="18645"/>
                  </a:lnTo>
                  <a:lnTo>
                    <a:pt x="-12993" y="18761"/>
                  </a:lnTo>
                  <a:lnTo>
                    <a:pt x="-11720" y="18877"/>
                  </a:lnTo>
                  <a:lnTo>
                    <a:pt x="-10563" y="18992"/>
                  </a:lnTo>
                  <a:lnTo>
                    <a:pt x="-9290" y="18992"/>
                  </a:lnTo>
                  <a:lnTo>
                    <a:pt x="-8017" y="19108"/>
                  </a:lnTo>
                  <a:lnTo>
                    <a:pt x="-6859" y="19224"/>
                  </a:lnTo>
                  <a:lnTo>
                    <a:pt x="-5586" y="19340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803"/>
                  </a:lnTo>
                  <a:lnTo>
                    <a:pt x="-4197" y="19803"/>
                  </a:lnTo>
                  <a:lnTo>
                    <a:pt x="-4313" y="19803"/>
                  </a:lnTo>
                  <a:lnTo>
                    <a:pt x="-4313" y="19803"/>
                  </a:lnTo>
                  <a:lnTo>
                    <a:pt x="-17044" y="25246"/>
                  </a:lnTo>
                  <a:lnTo>
                    <a:pt x="-17044" y="25246"/>
                  </a:lnTo>
                  <a:lnTo>
                    <a:pt x="-17159" y="25246"/>
                  </a:lnTo>
                  <a:lnTo>
                    <a:pt x="-17391" y="25246"/>
                  </a:lnTo>
                  <a:lnTo>
                    <a:pt x="-17622" y="25362"/>
                  </a:lnTo>
                  <a:lnTo>
                    <a:pt x="-17854" y="25362"/>
                  </a:lnTo>
                  <a:lnTo>
                    <a:pt x="-17970" y="25478"/>
                  </a:lnTo>
                  <a:lnTo>
                    <a:pt x="-18201" y="25478"/>
                  </a:lnTo>
                  <a:lnTo>
                    <a:pt x="-18317" y="25478"/>
                  </a:lnTo>
                  <a:lnTo>
                    <a:pt x="-18548" y="25594"/>
                  </a:lnTo>
                  <a:lnTo>
                    <a:pt x="-18548" y="25594"/>
                  </a:lnTo>
                  <a:lnTo>
                    <a:pt x="-18548" y="25941"/>
                  </a:lnTo>
                  <a:lnTo>
                    <a:pt x="-18664" y="26288"/>
                  </a:lnTo>
                  <a:lnTo>
                    <a:pt x="-18895" y="26636"/>
                  </a:lnTo>
                  <a:lnTo>
                    <a:pt x="-19127" y="26983"/>
                  </a:lnTo>
                  <a:lnTo>
                    <a:pt x="-19358" y="27215"/>
                  </a:lnTo>
                  <a:lnTo>
                    <a:pt x="-19706" y="27562"/>
                  </a:lnTo>
                  <a:lnTo>
                    <a:pt x="-19937" y="27794"/>
                  </a:lnTo>
                  <a:lnTo>
                    <a:pt x="-20284" y="28026"/>
                  </a:lnTo>
                  <a:lnTo>
                    <a:pt x="-20284" y="28026"/>
                  </a:lnTo>
                  <a:lnTo>
                    <a:pt x="-20631" y="28141"/>
                  </a:lnTo>
                  <a:lnTo>
                    <a:pt x="-20863" y="28257"/>
                  </a:lnTo>
                  <a:lnTo>
                    <a:pt x="-21094" y="28373"/>
                  </a:lnTo>
                  <a:lnTo>
                    <a:pt x="-21442" y="28373"/>
                  </a:lnTo>
                  <a:lnTo>
                    <a:pt x="-21673" y="28489"/>
                  </a:lnTo>
                  <a:lnTo>
                    <a:pt x="-22020" y="28489"/>
                  </a:lnTo>
                  <a:lnTo>
                    <a:pt x="-22252" y="28373"/>
                  </a:lnTo>
                  <a:lnTo>
                    <a:pt x="-22483" y="28141"/>
                  </a:lnTo>
                  <a:lnTo>
                    <a:pt x="-22483" y="28141"/>
                  </a:lnTo>
                  <a:lnTo>
                    <a:pt x="-22715" y="28257"/>
                  </a:lnTo>
                  <a:lnTo>
                    <a:pt x="-22830" y="28373"/>
                  </a:lnTo>
                  <a:lnTo>
                    <a:pt x="-23062" y="28489"/>
                  </a:lnTo>
                  <a:lnTo>
                    <a:pt x="-23293" y="28605"/>
                  </a:lnTo>
                  <a:lnTo>
                    <a:pt x="-23409" y="28605"/>
                  </a:lnTo>
                  <a:lnTo>
                    <a:pt x="-23640" y="28720"/>
                  </a:lnTo>
                  <a:lnTo>
                    <a:pt x="-23872" y="28720"/>
                  </a:lnTo>
                  <a:lnTo>
                    <a:pt x="-24103" y="28605"/>
                  </a:lnTo>
                  <a:lnTo>
                    <a:pt x="-24103" y="28605"/>
                  </a:lnTo>
                  <a:lnTo>
                    <a:pt x="-24335" y="28952"/>
                  </a:lnTo>
                  <a:lnTo>
                    <a:pt x="-24566" y="29184"/>
                  </a:lnTo>
                  <a:lnTo>
                    <a:pt x="-24798" y="29299"/>
                  </a:lnTo>
                  <a:lnTo>
                    <a:pt x="-25145" y="29415"/>
                  </a:lnTo>
                  <a:lnTo>
                    <a:pt x="-25376" y="29531"/>
                  </a:lnTo>
                  <a:lnTo>
                    <a:pt x="-25724" y="29531"/>
                  </a:lnTo>
                  <a:lnTo>
                    <a:pt x="-26071" y="29647"/>
                  </a:lnTo>
                  <a:lnTo>
                    <a:pt x="-26418" y="29531"/>
                  </a:lnTo>
                  <a:lnTo>
                    <a:pt x="-26418" y="29531"/>
                  </a:lnTo>
                  <a:lnTo>
                    <a:pt x="-26534" y="29531"/>
                  </a:lnTo>
                  <a:lnTo>
                    <a:pt x="-26650" y="29415"/>
                  </a:lnTo>
                  <a:lnTo>
                    <a:pt x="-26765" y="29299"/>
                  </a:lnTo>
                  <a:lnTo>
                    <a:pt x="-26881" y="29184"/>
                  </a:lnTo>
                  <a:lnTo>
                    <a:pt x="-26997" y="29068"/>
                  </a:lnTo>
                  <a:lnTo>
                    <a:pt x="-27112" y="28952"/>
                  </a:lnTo>
                  <a:lnTo>
                    <a:pt x="-27228" y="28952"/>
                  </a:lnTo>
                  <a:lnTo>
                    <a:pt x="-27460" y="29068"/>
                  </a:lnTo>
                  <a:lnTo>
                    <a:pt x="-27460" y="29068"/>
                  </a:lnTo>
                  <a:lnTo>
                    <a:pt x="-27575" y="29184"/>
                  </a:lnTo>
                  <a:lnTo>
                    <a:pt x="-27691" y="29299"/>
                  </a:lnTo>
                  <a:lnTo>
                    <a:pt x="-27923" y="29415"/>
                  </a:lnTo>
                  <a:lnTo>
                    <a:pt x="-28038" y="29531"/>
                  </a:lnTo>
                  <a:lnTo>
                    <a:pt x="-28270" y="29647"/>
                  </a:lnTo>
                  <a:lnTo>
                    <a:pt x="-28385" y="29763"/>
                  </a:lnTo>
                  <a:lnTo>
                    <a:pt x="-28617" y="29879"/>
                  </a:lnTo>
                  <a:lnTo>
                    <a:pt x="-28733" y="29994"/>
                  </a:lnTo>
                  <a:lnTo>
                    <a:pt x="-28733" y="29994"/>
                  </a:lnTo>
                  <a:lnTo>
                    <a:pt x="-28733" y="30689"/>
                  </a:lnTo>
                  <a:lnTo>
                    <a:pt x="-28733" y="31268"/>
                  </a:lnTo>
                  <a:lnTo>
                    <a:pt x="-28617" y="31963"/>
                  </a:lnTo>
                  <a:lnTo>
                    <a:pt x="-28501" y="32542"/>
                  </a:lnTo>
                  <a:lnTo>
                    <a:pt x="-28385" y="-32299"/>
                  </a:lnTo>
                  <a:lnTo>
                    <a:pt x="-28385" y="-31720"/>
                  </a:lnTo>
                  <a:lnTo>
                    <a:pt x="-28270" y="-31025"/>
                  </a:lnTo>
                  <a:lnTo>
                    <a:pt x="-28154" y="-30446"/>
                  </a:lnTo>
                  <a:lnTo>
                    <a:pt x="-28154" y="-30446"/>
                  </a:lnTo>
                  <a:lnTo>
                    <a:pt x="-28501" y="-30214"/>
                  </a:lnTo>
                  <a:lnTo>
                    <a:pt x="-28733" y="-29983"/>
                  </a:lnTo>
                  <a:lnTo>
                    <a:pt x="-29196" y="-29867"/>
                  </a:lnTo>
                  <a:lnTo>
                    <a:pt x="-29543" y="-29867"/>
                  </a:lnTo>
                  <a:lnTo>
                    <a:pt x="-29890" y="-29751"/>
                  </a:lnTo>
                  <a:lnTo>
                    <a:pt x="-30237" y="-29751"/>
                  </a:lnTo>
                  <a:lnTo>
                    <a:pt x="-30700" y="-29635"/>
                  </a:lnTo>
                  <a:lnTo>
                    <a:pt x="-31047" y="-29635"/>
                  </a:lnTo>
                  <a:lnTo>
                    <a:pt x="-31047" y="-29635"/>
                  </a:lnTo>
                  <a:lnTo>
                    <a:pt x="-31047" y="-29288"/>
                  </a:lnTo>
                  <a:lnTo>
                    <a:pt x="-31047" y="-29288"/>
                  </a:lnTo>
                  <a:lnTo>
                    <a:pt x="-30700" y="-28825"/>
                  </a:lnTo>
                  <a:lnTo>
                    <a:pt x="-30353" y="-28246"/>
                  </a:lnTo>
                  <a:lnTo>
                    <a:pt x="-30006" y="-27782"/>
                  </a:lnTo>
                  <a:lnTo>
                    <a:pt x="-29774" y="-27319"/>
                  </a:lnTo>
                  <a:lnTo>
                    <a:pt x="-29427" y="-26856"/>
                  </a:lnTo>
                  <a:lnTo>
                    <a:pt x="-29080" y="-26277"/>
                  </a:lnTo>
                  <a:lnTo>
                    <a:pt x="-28848" y="-25814"/>
                  </a:lnTo>
                  <a:lnTo>
                    <a:pt x="-28617" y="-25235"/>
                  </a:lnTo>
                  <a:lnTo>
                    <a:pt x="-28617" y="-25235"/>
                  </a:lnTo>
                  <a:lnTo>
                    <a:pt x="-28733" y="-24540"/>
                  </a:lnTo>
                  <a:lnTo>
                    <a:pt x="-28848" y="-23729"/>
                  </a:lnTo>
                  <a:lnTo>
                    <a:pt x="-28964" y="-23034"/>
                  </a:lnTo>
                  <a:lnTo>
                    <a:pt x="-29196" y="-22224"/>
                  </a:lnTo>
                  <a:lnTo>
                    <a:pt x="-29311" y="-21529"/>
                  </a:lnTo>
                  <a:lnTo>
                    <a:pt x="-29543" y="-20718"/>
                  </a:lnTo>
                  <a:lnTo>
                    <a:pt x="-29659" y="-20023"/>
                  </a:lnTo>
                  <a:lnTo>
                    <a:pt x="-29890" y="-19213"/>
                  </a:lnTo>
                  <a:lnTo>
                    <a:pt x="-29890" y="-19213"/>
                  </a:lnTo>
                  <a:lnTo>
                    <a:pt x="-29774" y="-18865"/>
                  </a:lnTo>
                  <a:lnTo>
                    <a:pt x="-29543" y="-18518"/>
                  </a:lnTo>
                  <a:lnTo>
                    <a:pt x="-29427" y="-18286"/>
                  </a:lnTo>
                  <a:lnTo>
                    <a:pt x="-29196" y="-18054"/>
                  </a:lnTo>
                  <a:lnTo>
                    <a:pt x="-28964" y="-17707"/>
                  </a:lnTo>
                  <a:lnTo>
                    <a:pt x="-28733" y="-17475"/>
                  </a:lnTo>
                  <a:lnTo>
                    <a:pt x="-28501" y="-17244"/>
                  </a:lnTo>
                  <a:lnTo>
                    <a:pt x="-28501" y="-16896"/>
                  </a:lnTo>
                  <a:lnTo>
                    <a:pt x="-28501" y="-16896"/>
                  </a:lnTo>
                  <a:lnTo>
                    <a:pt x="-28385" y="-16665"/>
                  </a:lnTo>
                  <a:lnTo>
                    <a:pt x="-28154" y="-16317"/>
                  </a:lnTo>
                  <a:lnTo>
                    <a:pt x="-28038" y="-16086"/>
                  </a:lnTo>
                  <a:lnTo>
                    <a:pt x="-27807" y="-15854"/>
                  </a:lnTo>
                  <a:lnTo>
                    <a:pt x="-27691" y="-15622"/>
                  </a:lnTo>
                  <a:lnTo>
                    <a:pt x="-27575" y="-15391"/>
                  </a:lnTo>
                  <a:lnTo>
                    <a:pt x="-27344" y="-15159"/>
                  </a:lnTo>
                  <a:lnTo>
                    <a:pt x="-27344" y="-14928"/>
                  </a:lnTo>
                  <a:lnTo>
                    <a:pt x="-27344" y="-14928"/>
                  </a:lnTo>
                  <a:lnTo>
                    <a:pt x="-27228" y="-14464"/>
                  </a:lnTo>
                  <a:lnTo>
                    <a:pt x="-26997" y="-14117"/>
                  </a:lnTo>
                  <a:lnTo>
                    <a:pt x="-26881" y="-13654"/>
                  </a:lnTo>
                  <a:lnTo>
                    <a:pt x="-26881" y="-13190"/>
                  </a:lnTo>
                  <a:lnTo>
                    <a:pt x="-26765" y="-12727"/>
                  </a:lnTo>
                  <a:lnTo>
                    <a:pt x="-26765" y="-12380"/>
                  </a:lnTo>
                  <a:lnTo>
                    <a:pt x="-26881" y="-11917"/>
                  </a:lnTo>
                  <a:lnTo>
                    <a:pt x="-27228" y="-11569"/>
                  </a:lnTo>
                  <a:lnTo>
                    <a:pt x="-27228" y="-11569"/>
                  </a:lnTo>
                  <a:lnTo>
                    <a:pt x="-27228" y="-11453"/>
                  </a:lnTo>
                  <a:lnTo>
                    <a:pt x="-27344" y="-11453"/>
                  </a:lnTo>
                  <a:lnTo>
                    <a:pt x="-27344" y="-11453"/>
                  </a:lnTo>
                  <a:lnTo>
                    <a:pt x="-27460" y="-11453"/>
                  </a:lnTo>
                  <a:lnTo>
                    <a:pt x="-27460" y="-11453"/>
                  </a:lnTo>
                  <a:lnTo>
                    <a:pt x="-27575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8154" y="-11222"/>
                  </a:lnTo>
                  <a:lnTo>
                    <a:pt x="-28733" y="-11106"/>
                  </a:lnTo>
                  <a:lnTo>
                    <a:pt x="-29311" y="-11106"/>
                  </a:lnTo>
                  <a:lnTo>
                    <a:pt x="-29890" y="-11222"/>
                  </a:lnTo>
                  <a:lnTo>
                    <a:pt x="-30353" y="-11337"/>
                  </a:lnTo>
                  <a:lnTo>
                    <a:pt x="-30932" y="-11453"/>
                  </a:lnTo>
                  <a:lnTo>
                    <a:pt x="-31395" y="-11685"/>
                  </a:lnTo>
                  <a:lnTo>
                    <a:pt x="-31857" y="-12032"/>
                  </a:lnTo>
                  <a:lnTo>
                    <a:pt x="-31857" y="-12032"/>
                  </a:lnTo>
                  <a:lnTo>
                    <a:pt x="-32320" y="-12496"/>
                  </a:lnTo>
                  <a:lnTo>
                    <a:pt x="-32552" y="-13075"/>
                  </a:lnTo>
                  <a:lnTo>
                    <a:pt x="32753" y="-13769"/>
                  </a:lnTo>
                  <a:lnTo>
                    <a:pt x="32637" y="-14464"/>
                  </a:lnTo>
                  <a:lnTo>
                    <a:pt x="32405" y="-15159"/>
                  </a:lnTo>
                  <a:lnTo>
                    <a:pt x="32058" y="-15622"/>
                  </a:lnTo>
                  <a:lnTo>
                    <a:pt x="31595" y="-16086"/>
                  </a:lnTo>
                  <a:lnTo>
                    <a:pt x="30785" y="-16201"/>
                  </a:lnTo>
                  <a:lnTo>
                    <a:pt x="30785" y="-16201"/>
                  </a:lnTo>
                  <a:lnTo>
                    <a:pt x="30670" y="-16317"/>
                  </a:lnTo>
                  <a:lnTo>
                    <a:pt x="30554" y="-16549"/>
                  </a:lnTo>
                  <a:lnTo>
                    <a:pt x="30438" y="-16781"/>
                  </a:lnTo>
                  <a:lnTo>
                    <a:pt x="30322" y="-16896"/>
                  </a:lnTo>
                  <a:lnTo>
                    <a:pt x="30322" y="-17128"/>
                  </a:lnTo>
                  <a:lnTo>
                    <a:pt x="30322" y="-17360"/>
                  </a:lnTo>
                  <a:lnTo>
                    <a:pt x="30322" y="-17591"/>
                  </a:lnTo>
                  <a:lnTo>
                    <a:pt x="30322" y="-17823"/>
                  </a:lnTo>
                  <a:lnTo>
                    <a:pt x="30322" y="-17823"/>
                  </a:lnTo>
                  <a:lnTo>
                    <a:pt x="30554" y="-18170"/>
                  </a:lnTo>
                  <a:lnTo>
                    <a:pt x="30785" y="-18518"/>
                  </a:lnTo>
                  <a:lnTo>
                    <a:pt x="31132" y="-18749"/>
                  </a:lnTo>
                  <a:lnTo>
                    <a:pt x="31480" y="-18981"/>
                  </a:lnTo>
                  <a:lnTo>
                    <a:pt x="31827" y="-19213"/>
                  </a:lnTo>
                  <a:lnTo>
                    <a:pt x="32174" y="-19444"/>
                  </a:lnTo>
                  <a:lnTo>
                    <a:pt x="32405" y="-19676"/>
                  </a:lnTo>
                  <a:lnTo>
                    <a:pt x="32637" y="-20139"/>
                  </a:lnTo>
                  <a:lnTo>
                    <a:pt x="32637" y="-20139"/>
                  </a:lnTo>
                  <a:lnTo>
                    <a:pt x="-32668" y="-20950"/>
                  </a:lnTo>
                  <a:lnTo>
                    <a:pt x="-32436" y="-21876"/>
                  </a:lnTo>
                  <a:lnTo>
                    <a:pt x="-32205" y="-22803"/>
                  </a:lnTo>
                  <a:lnTo>
                    <a:pt x="-32089" y="-23729"/>
                  </a:lnTo>
                  <a:lnTo>
                    <a:pt x="-32089" y="-24656"/>
                  </a:lnTo>
                  <a:lnTo>
                    <a:pt x="-32205" y="-25466"/>
                  </a:lnTo>
                  <a:lnTo>
                    <a:pt x="-32552" y="-26277"/>
                  </a:lnTo>
                  <a:lnTo>
                    <a:pt x="32290" y="-27088"/>
                  </a:lnTo>
                  <a:lnTo>
                    <a:pt x="32290" y="-27088"/>
                  </a:lnTo>
                  <a:lnTo>
                    <a:pt x="30901" y="-28593"/>
                  </a:lnTo>
                  <a:lnTo>
                    <a:pt x="30901" y="-28593"/>
                  </a:lnTo>
                  <a:lnTo>
                    <a:pt x="29744" y="-28130"/>
                  </a:lnTo>
                  <a:lnTo>
                    <a:pt x="28586" y="-27667"/>
                  </a:lnTo>
                  <a:lnTo>
                    <a:pt x="27545" y="-27203"/>
                  </a:lnTo>
                  <a:lnTo>
                    <a:pt x="26387" y="-26740"/>
                  </a:lnTo>
                  <a:lnTo>
                    <a:pt x="25230" y="-26161"/>
                  </a:lnTo>
                  <a:lnTo>
                    <a:pt x="24073" y="-25698"/>
                  </a:lnTo>
                  <a:lnTo>
                    <a:pt x="23031" y="-25119"/>
                  </a:lnTo>
                  <a:lnTo>
                    <a:pt x="21874" y="-24656"/>
                  </a:lnTo>
                  <a:lnTo>
                    <a:pt x="21874" y="-24656"/>
                  </a:lnTo>
                  <a:lnTo>
                    <a:pt x="21990" y="-24192"/>
                  </a:lnTo>
                  <a:lnTo>
                    <a:pt x="22221" y="-23845"/>
                  </a:lnTo>
                  <a:lnTo>
                    <a:pt x="22337" y="-23382"/>
                  </a:lnTo>
                  <a:lnTo>
                    <a:pt x="22568" y="-23034"/>
                  </a:lnTo>
                  <a:lnTo>
                    <a:pt x="22684" y="-22687"/>
                  </a:lnTo>
                  <a:lnTo>
                    <a:pt x="22915" y="-22224"/>
                  </a:lnTo>
                  <a:lnTo>
                    <a:pt x="23147" y="-21876"/>
                  </a:lnTo>
                  <a:lnTo>
                    <a:pt x="23263" y="-21529"/>
                  </a:lnTo>
                  <a:lnTo>
                    <a:pt x="23263" y="-21529"/>
                  </a:lnTo>
                  <a:lnTo>
                    <a:pt x="23263" y="-21181"/>
                  </a:lnTo>
                  <a:lnTo>
                    <a:pt x="23147" y="-20950"/>
                  </a:lnTo>
                  <a:lnTo>
                    <a:pt x="23031" y="-20718"/>
                  </a:lnTo>
                  <a:lnTo>
                    <a:pt x="22915" y="-20486"/>
                  </a:lnTo>
                  <a:lnTo>
                    <a:pt x="22684" y="-20371"/>
                  </a:lnTo>
                  <a:lnTo>
                    <a:pt x="22453" y="-20139"/>
                  </a:lnTo>
                  <a:lnTo>
                    <a:pt x="22221" y="-19907"/>
                  </a:lnTo>
                  <a:lnTo>
                    <a:pt x="22105" y="-19792"/>
                  </a:lnTo>
                  <a:lnTo>
                    <a:pt x="22105" y="-19792"/>
                  </a:lnTo>
                  <a:lnTo>
                    <a:pt x="20601" y="-17939"/>
                  </a:lnTo>
                  <a:lnTo>
                    <a:pt x="20601" y="-17939"/>
                  </a:lnTo>
                  <a:lnTo>
                    <a:pt x="20485" y="-17475"/>
                  </a:lnTo>
                  <a:lnTo>
                    <a:pt x="20485" y="-17012"/>
                  </a:lnTo>
                  <a:lnTo>
                    <a:pt x="20369" y="-16433"/>
                  </a:lnTo>
                  <a:lnTo>
                    <a:pt x="20254" y="-15970"/>
                  </a:lnTo>
                  <a:lnTo>
                    <a:pt x="20254" y="-15507"/>
                  </a:lnTo>
                  <a:lnTo>
                    <a:pt x="20254" y="-15043"/>
                  </a:lnTo>
                  <a:lnTo>
                    <a:pt x="20254" y="-14580"/>
                  </a:lnTo>
                  <a:lnTo>
                    <a:pt x="20369" y="-14117"/>
                  </a:lnTo>
                  <a:lnTo>
                    <a:pt x="20369" y="-14117"/>
                  </a:lnTo>
                  <a:lnTo>
                    <a:pt x="20485" y="-14117"/>
                  </a:lnTo>
                  <a:lnTo>
                    <a:pt x="20601" y="-14117"/>
                  </a:lnTo>
                  <a:lnTo>
                    <a:pt x="20832" y="-14001"/>
                  </a:lnTo>
                  <a:lnTo>
                    <a:pt x="20832" y="-13885"/>
                  </a:lnTo>
                  <a:lnTo>
                    <a:pt x="20948" y="-13769"/>
                  </a:lnTo>
                  <a:lnTo>
                    <a:pt x="21064" y="-13654"/>
                  </a:lnTo>
                  <a:lnTo>
                    <a:pt x="21179" y="-13538"/>
                  </a:lnTo>
                  <a:lnTo>
                    <a:pt x="21411" y="-13538"/>
                  </a:lnTo>
                  <a:lnTo>
                    <a:pt x="21411" y="-13538"/>
                  </a:lnTo>
                  <a:lnTo>
                    <a:pt x="23031" y="-13422"/>
                  </a:lnTo>
                  <a:lnTo>
                    <a:pt x="23031" y="-13422"/>
                  </a:lnTo>
                  <a:lnTo>
                    <a:pt x="23031" y="-13306"/>
                  </a:lnTo>
                  <a:lnTo>
                    <a:pt x="23147" y="-13190"/>
                  </a:lnTo>
                  <a:lnTo>
                    <a:pt x="23263" y="-13075"/>
                  </a:lnTo>
                  <a:lnTo>
                    <a:pt x="23378" y="-12959"/>
                  </a:lnTo>
                  <a:lnTo>
                    <a:pt x="23494" y="-12843"/>
                  </a:lnTo>
                  <a:lnTo>
                    <a:pt x="23610" y="-12611"/>
                  </a:lnTo>
                  <a:lnTo>
                    <a:pt x="23610" y="-12496"/>
                  </a:lnTo>
                  <a:lnTo>
                    <a:pt x="23726" y="-12264"/>
                  </a:lnTo>
                  <a:lnTo>
                    <a:pt x="23726" y="-12264"/>
                  </a:lnTo>
                  <a:lnTo>
                    <a:pt x="23726" y="-12032"/>
                  </a:lnTo>
                  <a:lnTo>
                    <a:pt x="23610" y="-11801"/>
                  </a:lnTo>
                  <a:lnTo>
                    <a:pt x="23494" y="-11569"/>
                  </a:lnTo>
                  <a:lnTo>
                    <a:pt x="23378" y="-11453"/>
                  </a:lnTo>
                  <a:lnTo>
                    <a:pt x="23147" y="-11222"/>
                  </a:lnTo>
                  <a:lnTo>
                    <a:pt x="22915" y="-11106"/>
                  </a:lnTo>
                  <a:lnTo>
                    <a:pt x="22684" y="-10990"/>
                  </a:lnTo>
                  <a:lnTo>
                    <a:pt x="22453" y="-10874"/>
                  </a:lnTo>
                  <a:lnTo>
                    <a:pt x="22453" y="-10874"/>
                  </a:lnTo>
                  <a:lnTo>
                    <a:pt x="21758" y="-10643"/>
                  </a:lnTo>
                  <a:lnTo>
                    <a:pt x="21179" y="-10643"/>
                  </a:lnTo>
                  <a:lnTo>
                    <a:pt x="20485" y="-10643"/>
                  </a:lnTo>
                  <a:lnTo>
                    <a:pt x="19791" y="-10758"/>
                  </a:lnTo>
                  <a:lnTo>
                    <a:pt x="19096" y="-10990"/>
                  </a:lnTo>
                  <a:lnTo>
                    <a:pt x="18518" y="-11222"/>
                  </a:lnTo>
                  <a:lnTo>
                    <a:pt x="17939" y="-11569"/>
                  </a:lnTo>
                  <a:lnTo>
                    <a:pt x="17360" y="-11917"/>
                  </a:lnTo>
                  <a:lnTo>
                    <a:pt x="17360" y="-11917"/>
                  </a:lnTo>
                  <a:lnTo>
                    <a:pt x="17013" y="-12496"/>
                  </a:lnTo>
                  <a:lnTo>
                    <a:pt x="16782" y="-13190"/>
                  </a:lnTo>
                  <a:lnTo>
                    <a:pt x="16550" y="-13769"/>
                  </a:lnTo>
                  <a:lnTo>
                    <a:pt x="16319" y="-14464"/>
                  </a:lnTo>
                  <a:lnTo>
                    <a:pt x="15972" y="-15043"/>
                  </a:lnTo>
                  <a:lnTo>
                    <a:pt x="15509" y="-15622"/>
                  </a:lnTo>
                  <a:lnTo>
                    <a:pt x="15046" y="-16086"/>
                  </a:lnTo>
                  <a:lnTo>
                    <a:pt x="14351" y="-16317"/>
                  </a:lnTo>
                  <a:lnTo>
                    <a:pt x="14351" y="-16317"/>
                  </a:lnTo>
                  <a:lnTo>
                    <a:pt x="14236" y="-16433"/>
                  </a:lnTo>
                  <a:lnTo>
                    <a:pt x="14120" y="-16549"/>
                  </a:lnTo>
                  <a:lnTo>
                    <a:pt x="14120" y="-16781"/>
                  </a:lnTo>
                  <a:lnTo>
                    <a:pt x="14004" y="-16896"/>
                  </a:lnTo>
                  <a:lnTo>
                    <a:pt x="14004" y="-17128"/>
                  </a:lnTo>
                  <a:lnTo>
                    <a:pt x="14004" y="-17244"/>
                  </a:lnTo>
                  <a:lnTo>
                    <a:pt x="14120" y="-17360"/>
                  </a:lnTo>
                  <a:lnTo>
                    <a:pt x="14120" y="-17591"/>
                  </a:lnTo>
                  <a:lnTo>
                    <a:pt x="14120" y="-17591"/>
                  </a:lnTo>
                  <a:lnTo>
                    <a:pt x="14467" y="-17939"/>
                  </a:lnTo>
                  <a:lnTo>
                    <a:pt x="14930" y="-18286"/>
                  </a:lnTo>
                  <a:lnTo>
                    <a:pt x="15393" y="-18402"/>
                  </a:lnTo>
                  <a:lnTo>
                    <a:pt x="15972" y="-18633"/>
                  </a:lnTo>
                  <a:lnTo>
                    <a:pt x="16434" y="-18749"/>
                  </a:lnTo>
                  <a:lnTo>
                    <a:pt x="17013" y="-18865"/>
                  </a:lnTo>
                  <a:lnTo>
                    <a:pt x="17476" y="-19097"/>
                  </a:lnTo>
                  <a:lnTo>
                    <a:pt x="17939" y="-19444"/>
                  </a:lnTo>
                  <a:lnTo>
                    <a:pt x="17939" y="-19444"/>
                  </a:lnTo>
                  <a:lnTo>
                    <a:pt x="18286" y="-19792"/>
                  </a:lnTo>
                  <a:lnTo>
                    <a:pt x="18633" y="-20023"/>
                  </a:lnTo>
                  <a:lnTo>
                    <a:pt x="18981" y="-20255"/>
                  </a:lnTo>
                  <a:lnTo>
                    <a:pt x="19328" y="-20602"/>
                  </a:lnTo>
                  <a:lnTo>
                    <a:pt x="19559" y="-20950"/>
                  </a:lnTo>
                  <a:lnTo>
                    <a:pt x="19791" y="-21297"/>
                  </a:lnTo>
                  <a:lnTo>
                    <a:pt x="20022" y="-21645"/>
                  </a:lnTo>
                  <a:lnTo>
                    <a:pt x="20369" y="-21992"/>
                  </a:lnTo>
                  <a:lnTo>
                    <a:pt x="20369" y="-21992"/>
                  </a:lnTo>
                  <a:lnTo>
                    <a:pt x="20138" y="-22108"/>
                  </a:lnTo>
                  <a:lnTo>
                    <a:pt x="20022" y="-22339"/>
                  </a:lnTo>
                  <a:lnTo>
                    <a:pt x="19906" y="-22571"/>
                  </a:lnTo>
                  <a:lnTo>
                    <a:pt x="19906" y="-22803"/>
                  </a:lnTo>
                  <a:lnTo>
                    <a:pt x="19791" y="-23034"/>
                  </a:lnTo>
                  <a:lnTo>
                    <a:pt x="19675" y="-23266"/>
                  </a:lnTo>
                  <a:lnTo>
                    <a:pt x="19559" y="-23382"/>
                  </a:lnTo>
                  <a:lnTo>
                    <a:pt x="19443" y="-23613"/>
                  </a:lnTo>
                  <a:lnTo>
                    <a:pt x="19443" y="-23613"/>
                  </a:lnTo>
                  <a:lnTo>
                    <a:pt x="18633" y="-23266"/>
                  </a:lnTo>
                  <a:lnTo>
                    <a:pt x="17823" y="-22918"/>
                  </a:lnTo>
                  <a:lnTo>
                    <a:pt x="17129" y="-22571"/>
                  </a:lnTo>
                  <a:lnTo>
                    <a:pt x="16319" y="-22224"/>
                  </a:lnTo>
                  <a:lnTo>
                    <a:pt x="15624" y="-21876"/>
                  </a:lnTo>
                  <a:lnTo>
                    <a:pt x="14814" y="-21529"/>
                  </a:lnTo>
                  <a:lnTo>
                    <a:pt x="14120" y="-21297"/>
                  </a:lnTo>
                  <a:lnTo>
                    <a:pt x="13194" y="-21181"/>
                  </a:lnTo>
                  <a:lnTo>
                    <a:pt x="13194" y="-21181"/>
                  </a:lnTo>
                  <a:lnTo>
                    <a:pt x="13194" y="-21297"/>
                  </a:lnTo>
                  <a:lnTo>
                    <a:pt x="13194" y="-21413"/>
                  </a:lnTo>
                  <a:lnTo>
                    <a:pt x="13078" y="-21645"/>
                  </a:lnTo>
                  <a:lnTo>
                    <a:pt x="13078" y="-21760"/>
                  </a:lnTo>
                  <a:lnTo>
                    <a:pt x="13078" y="-21876"/>
                  </a:lnTo>
                  <a:lnTo>
                    <a:pt x="13078" y="-22108"/>
                  </a:lnTo>
                  <a:lnTo>
                    <a:pt x="13078" y="-22224"/>
                  </a:lnTo>
                  <a:lnTo>
                    <a:pt x="12962" y="-22339"/>
                  </a:lnTo>
                  <a:lnTo>
                    <a:pt x="12962" y="-22339"/>
                  </a:lnTo>
                  <a:lnTo>
                    <a:pt x="12847" y="-22224"/>
                  </a:lnTo>
                  <a:lnTo>
                    <a:pt x="12731" y="-22224"/>
                  </a:lnTo>
                  <a:lnTo>
                    <a:pt x="12615" y="-22108"/>
                  </a:lnTo>
                  <a:lnTo>
                    <a:pt x="12500" y="-22108"/>
                  </a:lnTo>
                  <a:lnTo>
                    <a:pt x="12384" y="-22108"/>
                  </a:lnTo>
                  <a:lnTo>
                    <a:pt x="12268" y="-21992"/>
                  </a:lnTo>
                  <a:lnTo>
                    <a:pt x="12152" y="-22108"/>
                  </a:lnTo>
                  <a:lnTo>
                    <a:pt x="12037" y="-22108"/>
                  </a:lnTo>
                  <a:lnTo>
                    <a:pt x="12037" y="-22108"/>
                  </a:lnTo>
                  <a:lnTo>
                    <a:pt x="12037" y="-22339"/>
                  </a:lnTo>
                  <a:lnTo>
                    <a:pt x="12037" y="-22339"/>
                  </a:lnTo>
                  <a:lnTo>
                    <a:pt x="12037" y="-22455"/>
                  </a:lnTo>
                  <a:lnTo>
                    <a:pt x="11921" y="-22455"/>
                  </a:lnTo>
                  <a:lnTo>
                    <a:pt x="11805" y="-22455"/>
                  </a:lnTo>
                  <a:lnTo>
                    <a:pt x="11689" y="-22455"/>
                  </a:lnTo>
                  <a:lnTo>
                    <a:pt x="11574" y="-22339"/>
                  </a:lnTo>
                  <a:lnTo>
                    <a:pt x="11574" y="-22339"/>
                  </a:lnTo>
                  <a:lnTo>
                    <a:pt x="11458" y="-22339"/>
                  </a:lnTo>
                  <a:lnTo>
                    <a:pt x="11342" y="-22339"/>
                  </a:lnTo>
                  <a:lnTo>
                    <a:pt x="11342" y="-22339"/>
                  </a:lnTo>
                  <a:lnTo>
                    <a:pt x="11342" y="-22455"/>
                  </a:lnTo>
                  <a:lnTo>
                    <a:pt x="11342" y="-22571"/>
                  </a:lnTo>
                  <a:lnTo>
                    <a:pt x="11342" y="-22687"/>
                  </a:lnTo>
                  <a:lnTo>
                    <a:pt x="11342" y="-22803"/>
                  </a:lnTo>
                  <a:lnTo>
                    <a:pt x="11342" y="-22918"/>
                  </a:lnTo>
                  <a:lnTo>
                    <a:pt x="11342" y="-23034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226" y="-23150"/>
                  </a:lnTo>
                  <a:lnTo>
                    <a:pt x="11111" y="-23034"/>
                  </a:lnTo>
                  <a:lnTo>
                    <a:pt x="10995" y="-23034"/>
                  </a:lnTo>
                  <a:lnTo>
                    <a:pt x="10879" y="-22918"/>
                  </a:lnTo>
                  <a:lnTo>
                    <a:pt x="10648" y="-22918"/>
                  </a:lnTo>
                  <a:lnTo>
                    <a:pt x="10532" y="-22918"/>
                  </a:lnTo>
                  <a:lnTo>
                    <a:pt x="10416" y="-22918"/>
                  </a:lnTo>
                  <a:lnTo>
                    <a:pt x="10301" y="-22918"/>
                  </a:lnTo>
                  <a:lnTo>
                    <a:pt x="10301" y="-22918"/>
                  </a:lnTo>
                  <a:lnTo>
                    <a:pt x="10416" y="-24192"/>
                  </a:lnTo>
                  <a:lnTo>
                    <a:pt x="10648" y="-25350"/>
                  </a:lnTo>
                  <a:lnTo>
                    <a:pt x="10764" y="-26509"/>
                  </a:lnTo>
                  <a:lnTo>
                    <a:pt x="10879" y="-27782"/>
                  </a:lnTo>
                  <a:lnTo>
                    <a:pt x="10995" y="-28941"/>
                  </a:lnTo>
                  <a:lnTo>
                    <a:pt x="11226" y="-30099"/>
                  </a:lnTo>
                  <a:lnTo>
                    <a:pt x="11342" y="-31257"/>
                  </a:lnTo>
                  <a:lnTo>
                    <a:pt x="11574" y="-32415"/>
                  </a:lnTo>
                  <a:lnTo>
                    <a:pt x="11574" y="-32415"/>
                  </a:lnTo>
                  <a:lnTo>
                    <a:pt x="11458" y="-32531"/>
                  </a:lnTo>
                  <a:lnTo>
                    <a:pt x="11342" y="-32646"/>
                  </a:lnTo>
                  <a:lnTo>
                    <a:pt x="11111" y="-32762"/>
                  </a:lnTo>
                  <a:lnTo>
                    <a:pt x="10995" y="32658"/>
                  </a:lnTo>
                  <a:lnTo>
                    <a:pt x="10879" y="32542"/>
                  </a:lnTo>
                  <a:lnTo>
                    <a:pt x="10648" y="32426"/>
                  </a:lnTo>
                  <a:lnTo>
                    <a:pt x="10532" y="32311"/>
                  </a:lnTo>
                  <a:lnTo>
                    <a:pt x="10532" y="32195"/>
                  </a:lnTo>
                  <a:lnTo>
                    <a:pt x="10532" y="32195"/>
                  </a:lnTo>
                  <a:lnTo>
                    <a:pt x="10532" y="32542"/>
                  </a:lnTo>
                  <a:lnTo>
                    <a:pt x="10532" y="-32762"/>
                  </a:lnTo>
                  <a:lnTo>
                    <a:pt x="10648" y="-32415"/>
                  </a:lnTo>
                  <a:lnTo>
                    <a:pt x="10764" y="-32067"/>
                  </a:lnTo>
                  <a:lnTo>
                    <a:pt x="10879" y="-31720"/>
                  </a:lnTo>
                  <a:lnTo>
                    <a:pt x="10879" y="-31488"/>
                  </a:lnTo>
                  <a:lnTo>
                    <a:pt x="10879" y="-31141"/>
                  </a:lnTo>
                  <a:lnTo>
                    <a:pt x="10879" y="-30793"/>
                  </a:lnTo>
                  <a:lnTo>
                    <a:pt x="10879" y="-30793"/>
                  </a:lnTo>
                  <a:lnTo>
                    <a:pt x="10764" y="-30678"/>
                  </a:lnTo>
                  <a:lnTo>
                    <a:pt x="10648" y="-30562"/>
                  </a:lnTo>
                  <a:lnTo>
                    <a:pt x="10532" y="-30562"/>
                  </a:lnTo>
                  <a:lnTo>
                    <a:pt x="10301" y="-30446"/>
                  </a:lnTo>
                  <a:lnTo>
                    <a:pt x="10185" y="-30446"/>
                  </a:lnTo>
                  <a:lnTo>
                    <a:pt x="9953" y="-30562"/>
                  </a:lnTo>
                  <a:lnTo>
                    <a:pt x="9838" y="-30562"/>
                  </a:lnTo>
                  <a:lnTo>
                    <a:pt x="9722" y="-30678"/>
                  </a:lnTo>
                  <a:lnTo>
                    <a:pt x="9722" y="-30678"/>
                  </a:lnTo>
                  <a:lnTo>
                    <a:pt x="9491" y="-30678"/>
                  </a:lnTo>
                  <a:lnTo>
                    <a:pt x="9259" y="-30909"/>
                  </a:lnTo>
                  <a:lnTo>
                    <a:pt x="9143" y="-31025"/>
                  </a:lnTo>
                  <a:lnTo>
                    <a:pt x="9028" y="-31257"/>
                  </a:lnTo>
                  <a:lnTo>
                    <a:pt x="8912" y="-31488"/>
                  </a:lnTo>
                  <a:lnTo>
                    <a:pt x="8796" y="-31604"/>
                  </a:lnTo>
                  <a:lnTo>
                    <a:pt x="8680" y="-31836"/>
                  </a:lnTo>
                  <a:lnTo>
                    <a:pt x="8565" y="-32067"/>
                  </a:lnTo>
                  <a:lnTo>
                    <a:pt x="8565" y="-32067"/>
                  </a:lnTo>
                  <a:lnTo>
                    <a:pt x="7870" y="-31836"/>
                  </a:lnTo>
                  <a:lnTo>
                    <a:pt x="7292" y="-31604"/>
                  </a:lnTo>
                  <a:lnTo>
                    <a:pt x="6597" y="-31373"/>
                  </a:lnTo>
                  <a:lnTo>
                    <a:pt x="6019" y="-31025"/>
                  </a:lnTo>
                  <a:lnTo>
                    <a:pt x="5440" y="-30793"/>
                  </a:lnTo>
                  <a:lnTo>
                    <a:pt x="4861" y="-30562"/>
                  </a:lnTo>
                  <a:lnTo>
                    <a:pt x="4167" y="-30330"/>
                  </a:lnTo>
                  <a:lnTo>
                    <a:pt x="3588" y="-30099"/>
                  </a:lnTo>
                  <a:lnTo>
                    <a:pt x="3588" y="-30099"/>
                  </a:lnTo>
                  <a:lnTo>
                    <a:pt x="3241" y="-30099"/>
                  </a:lnTo>
                  <a:lnTo>
                    <a:pt x="2894" y="-30099"/>
                  </a:lnTo>
                  <a:lnTo>
                    <a:pt x="2547" y="-30099"/>
                  </a:lnTo>
                  <a:lnTo>
                    <a:pt x="2199" y="-30330"/>
                  </a:lnTo>
                  <a:lnTo>
                    <a:pt x="1852" y="-30446"/>
                  </a:lnTo>
                  <a:lnTo>
                    <a:pt x="1505" y="-30678"/>
                  </a:lnTo>
                  <a:lnTo>
                    <a:pt x="1274" y="-30909"/>
                  </a:lnTo>
                  <a:lnTo>
                    <a:pt x="926" y="-31141"/>
                  </a:lnTo>
                  <a:lnTo>
                    <a:pt x="926" y="-31141"/>
                  </a:lnTo>
                  <a:lnTo>
                    <a:pt x="579" y="-31720"/>
                  </a:lnTo>
                  <a:lnTo>
                    <a:pt x="232" y="-32415"/>
                  </a:lnTo>
                  <a:lnTo>
                    <a:pt x="116" y="32426"/>
                  </a:lnTo>
                  <a:lnTo>
                    <a:pt x="0" y="31731"/>
                  </a:lnTo>
                  <a:lnTo>
                    <a:pt x="0" y="31037"/>
                  </a:lnTo>
                  <a:lnTo>
                    <a:pt x="116" y="30342"/>
                  </a:lnTo>
                  <a:lnTo>
                    <a:pt x="348" y="29647"/>
                  </a:lnTo>
                  <a:lnTo>
                    <a:pt x="579" y="29068"/>
                  </a:lnTo>
                  <a:lnTo>
                    <a:pt x="579" y="29068"/>
                  </a:lnTo>
                  <a:lnTo>
                    <a:pt x="1158" y="28257"/>
                  </a:lnTo>
                  <a:lnTo>
                    <a:pt x="1968" y="27910"/>
                  </a:lnTo>
                  <a:lnTo>
                    <a:pt x="2894" y="27678"/>
                  </a:lnTo>
                  <a:lnTo>
                    <a:pt x="3820" y="27562"/>
                  </a:lnTo>
                  <a:lnTo>
                    <a:pt x="4745" y="27562"/>
                  </a:lnTo>
                  <a:lnTo>
                    <a:pt x="5671" y="27331"/>
                  </a:lnTo>
                  <a:lnTo>
                    <a:pt x="6597" y="27099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523" y="26520"/>
                  </a:lnTo>
                  <a:lnTo>
                    <a:pt x="7523" y="26520"/>
                  </a:lnTo>
                  <a:lnTo>
                    <a:pt x="7639" y="26520"/>
                  </a:lnTo>
                  <a:lnTo>
                    <a:pt x="7639" y="26520"/>
                  </a:lnTo>
                  <a:lnTo>
                    <a:pt x="7755" y="26520"/>
                  </a:lnTo>
                  <a:lnTo>
                    <a:pt x="7755" y="26520"/>
                  </a:lnTo>
                  <a:lnTo>
                    <a:pt x="7870" y="26520"/>
                  </a:lnTo>
                  <a:lnTo>
                    <a:pt x="7870" y="26520"/>
                  </a:lnTo>
                  <a:lnTo>
                    <a:pt x="7292" y="25709"/>
                  </a:lnTo>
                  <a:lnTo>
                    <a:pt x="6713" y="25014"/>
                  </a:lnTo>
                  <a:lnTo>
                    <a:pt x="6250" y="24204"/>
                  </a:lnTo>
                  <a:lnTo>
                    <a:pt x="5787" y="23393"/>
                  </a:lnTo>
                  <a:lnTo>
                    <a:pt x="5440" y="22582"/>
                  </a:lnTo>
                  <a:lnTo>
                    <a:pt x="5208" y="21772"/>
                  </a:lnTo>
                  <a:lnTo>
                    <a:pt x="5208" y="20845"/>
                  </a:lnTo>
                  <a:lnTo>
                    <a:pt x="5324" y="19919"/>
                  </a:lnTo>
                  <a:lnTo>
                    <a:pt x="5324" y="19919"/>
                  </a:lnTo>
                  <a:lnTo>
                    <a:pt x="5440" y="19571"/>
                  </a:lnTo>
                  <a:lnTo>
                    <a:pt x="5671" y="19224"/>
                  </a:lnTo>
                  <a:lnTo>
                    <a:pt x="6019" y="19108"/>
                  </a:lnTo>
                  <a:lnTo>
                    <a:pt x="6366" y="18992"/>
                  </a:lnTo>
                  <a:lnTo>
                    <a:pt x="6713" y="18877"/>
                  </a:lnTo>
                  <a:lnTo>
                    <a:pt x="7060" y="18761"/>
                  </a:lnTo>
                  <a:lnTo>
                    <a:pt x="7523" y="18761"/>
                  </a:lnTo>
                  <a:lnTo>
                    <a:pt x="7870" y="18645"/>
                  </a:lnTo>
                  <a:lnTo>
                    <a:pt x="7870" y="18645"/>
                  </a:lnTo>
                  <a:lnTo>
                    <a:pt x="8565" y="18529"/>
                  </a:lnTo>
                  <a:lnTo>
                    <a:pt x="9259" y="18529"/>
                  </a:lnTo>
                  <a:lnTo>
                    <a:pt x="9953" y="18529"/>
                  </a:lnTo>
                  <a:lnTo>
                    <a:pt x="10648" y="18645"/>
                  </a:lnTo>
                  <a:lnTo>
                    <a:pt x="11342" y="18645"/>
                  </a:lnTo>
                  <a:lnTo>
                    <a:pt x="11921" y="18877"/>
                  </a:lnTo>
                  <a:lnTo>
                    <a:pt x="12615" y="18992"/>
                  </a:lnTo>
                  <a:lnTo>
                    <a:pt x="13310" y="19108"/>
                  </a:lnTo>
                  <a:lnTo>
                    <a:pt x="13310" y="19108"/>
                  </a:lnTo>
                  <a:lnTo>
                    <a:pt x="13425" y="18992"/>
                  </a:lnTo>
                  <a:lnTo>
                    <a:pt x="13425" y="18992"/>
                  </a:lnTo>
                  <a:lnTo>
                    <a:pt x="13773" y="17139"/>
                  </a:lnTo>
                  <a:lnTo>
                    <a:pt x="14004" y="15286"/>
                  </a:lnTo>
                  <a:lnTo>
                    <a:pt x="14351" y="13434"/>
                  </a:lnTo>
                  <a:lnTo>
                    <a:pt x="14814" y="11581"/>
                  </a:lnTo>
                  <a:lnTo>
                    <a:pt x="15161" y="9728"/>
                  </a:lnTo>
                  <a:lnTo>
                    <a:pt x="15509" y="7875"/>
                  </a:lnTo>
                  <a:lnTo>
                    <a:pt x="15856" y="6138"/>
                  </a:lnTo>
                  <a:lnTo>
                    <a:pt x="16203" y="4285"/>
                  </a:lnTo>
                  <a:lnTo>
                    <a:pt x="16203" y="4285"/>
                  </a:lnTo>
                  <a:lnTo>
                    <a:pt x="16319" y="4053"/>
                  </a:lnTo>
                  <a:lnTo>
                    <a:pt x="16319" y="3821"/>
                  </a:lnTo>
                  <a:lnTo>
                    <a:pt x="16203" y="3590"/>
                  </a:lnTo>
                  <a:lnTo>
                    <a:pt x="16203" y="3358"/>
                  </a:lnTo>
                  <a:lnTo>
                    <a:pt x="16319" y="3126"/>
                  </a:lnTo>
                  <a:lnTo>
                    <a:pt x="16434" y="3011"/>
                  </a:lnTo>
                  <a:lnTo>
                    <a:pt x="16550" y="2895"/>
                  </a:lnTo>
                  <a:lnTo>
                    <a:pt x="16897" y="2895"/>
                  </a:lnTo>
                  <a:lnTo>
                    <a:pt x="16897" y="2895"/>
                  </a:lnTo>
                  <a:lnTo>
                    <a:pt x="16782" y="2663"/>
                  </a:lnTo>
                  <a:lnTo>
                    <a:pt x="16782" y="2316"/>
                  </a:lnTo>
                  <a:lnTo>
                    <a:pt x="16782" y="1968"/>
                  </a:lnTo>
                  <a:lnTo>
                    <a:pt x="16782" y="1621"/>
                  </a:lnTo>
                  <a:lnTo>
                    <a:pt x="16897" y="1389"/>
                  </a:lnTo>
                  <a:lnTo>
                    <a:pt x="17013" y="1042"/>
                  </a:lnTo>
                  <a:lnTo>
                    <a:pt x="17129" y="810"/>
                  </a:lnTo>
                  <a:lnTo>
                    <a:pt x="17360" y="579"/>
                  </a:lnTo>
                  <a:lnTo>
                    <a:pt x="17360" y="579"/>
                  </a:lnTo>
                  <a:lnTo>
                    <a:pt x="17707" y="347"/>
                  </a:lnTo>
                  <a:lnTo>
                    <a:pt x="18055" y="115"/>
                  </a:lnTo>
                  <a:lnTo>
                    <a:pt x="18518" y="0"/>
                  </a:lnTo>
                  <a:lnTo>
                    <a:pt x="18981" y="0"/>
                  </a:lnTo>
                  <a:lnTo>
                    <a:pt x="19328" y="0"/>
                  </a:lnTo>
                  <a:lnTo>
                    <a:pt x="19791" y="115"/>
                  </a:lnTo>
                  <a:lnTo>
                    <a:pt x="20138" y="347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201320" y="2932560"/>
              <a:ext cx="123840" cy="192600"/>
            </a:xfrm>
            <a:custGeom>
              <a:avLst/>
              <a:gdLst/>
              <a:ahLst/>
              <a:rect l="l" t="t" r="r" b="b"/>
              <a:pathLst>
                <a:path w="3240" h="3590">
                  <a:moveTo>
                    <a:pt x="3124" y="926"/>
                  </a:moveTo>
                  <a:lnTo>
                    <a:pt x="3124" y="1274"/>
                  </a:lnTo>
                  <a:lnTo>
                    <a:pt x="3240" y="1621"/>
                  </a:lnTo>
                  <a:lnTo>
                    <a:pt x="3240" y="1969"/>
                  </a:lnTo>
                  <a:lnTo>
                    <a:pt x="3240" y="2316"/>
                  </a:lnTo>
                  <a:lnTo>
                    <a:pt x="3240" y="2663"/>
                  </a:lnTo>
                  <a:lnTo>
                    <a:pt x="3124" y="2895"/>
                  </a:lnTo>
                  <a:lnTo>
                    <a:pt x="3009" y="3243"/>
                  </a:lnTo>
                  <a:lnTo>
                    <a:pt x="2893" y="3590"/>
                  </a:lnTo>
                  <a:lnTo>
                    <a:pt x="2893" y="3590"/>
                  </a:lnTo>
                  <a:lnTo>
                    <a:pt x="2546" y="3590"/>
                  </a:lnTo>
                  <a:lnTo>
                    <a:pt x="2546" y="3243"/>
                  </a:lnTo>
                  <a:lnTo>
                    <a:pt x="2661" y="3243"/>
                  </a:lnTo>
                  <a:lnTo>
                    <a:pt x="2661" y="3243"/>
                  </a:lnTo>
                  <a:lnTo>
                    <a:pt x="2661" y="3011"/>
                  </a:lnTo>
                  <a:lnTo>
                    <a:pt x="2777" y="2663"/>
                  </a:lnTo>
                  <a:lnTo>
                    <a:pt x="2893" y="2432"/>
                  </a:lnTo>
                  <a:lnTo>
                    <a:pt x="2893" y="2084"/>
                  </a:lnTo>
                  <a:lnTo>
                    <a:pt x="3009" y="1737"/>
                  </a:lnTo>
                  <a:lnTo>
                    <a:pt x="2893" y="1505"/>
                  </a:lnTo>
                  <a:lnTo>
                    <a:pt x="2893" y="1158"/>
                  </a:lnTo>
                  <a:lnTo>
                    <a:pt x="2777" y="926"/>
                  </a:lnTo>
                  <a:lnTo>
                    <a:pt x="2777" y="926"/>
                  </a:lnTo>
                  <a:lnTo>
                    <a:pt x="2661" y="811"/>
                  </a:lnTo>
                  <a:lnTo>
                    <a:pt x="2546" y="695"/>
                  </a:lnTo>
                  <a:lnTo>
                    <a:pt x="2430" y="579"/>
                  </a:lnTo>
                  <a:lnTo>
                    <a:pt x="2198" y="463"/>
                  </a:lnTo>
                  <a:lnTo>
                    <a:pt x="2083" y="347"/>
                  </a:lnTo>
                  <a:lnTo>
                    <a:pt x="1967" y="231"/>
                  </a:lnTo>
                  <a:lnTo>
                    <a:pt x="1851" y="231"/>
                  </a:lnTo>
                  <a:lnTo>
                    <a:pt x="1736" y="231"/>
                  </a:lnTo>
                  <a:lnTo>
                    <a:pt x="1736" y="231"/>
                  </a:lnTo>
                  <a:lnTo>
                    <a:pt x="1504" y="231"/>
                  </a:lnTo>
                  <a:lnTo>
                    <a:pt x="1273" y="347"/>
                  </a:lnTo>
                  <a:lnTo>
                    <a:pt x="1041" y="347"/>
                  </a:lnTo>
                  <a:lnTo>
                    <a:pt x="925" y="463"/>
                  </a:lnTo>
                  <a:lnTo>
                    <a:pt x="694" y="695"/>
                  </a:lnTo>
                  <a:lnTo>
                    <a:pt x="578" y="811"/>
                  </a:lnTo>
                  <a:lnTo>
                    <a:pt x="462" y="926"/>
                  </a:lnTo>
                  <a:lnTo>
                    <a:pt x="347" y="1158"/>
                  </a:lnTo>
                  <a:lnTo>
                    <a:pt x="347" y="1158"/>
                  </a:lnTo>
                  <a:lnTo>
                    <a:pt x="347" y="2432"/>
                  </a:lnTo>
                  <a:lnTo>
                    <a:pt x="347" y="2432"/>
                  </a:lnTo>
                  <a:lnTo>
                    <a:pt x="115" y="2316"/>
                  </a:lnTo>
                  <a:lnTo>
                    <a:pt x="115" y="2200"/>
                  </a:lnTo>
                  <a:lnTo>
                    <a:pt x="0" y="1969"/>
                  </a:lnTo>
                  <a:lnTo>
                    <a:pt x="0" y="1737"/>
                  </a:lnTo>
                  <a:lnTo>
                    <a:pt x="0" y="1505"/>
                  </a:lnTo>
                  <a:lnTo>
                    <a:pt x="0" y="1390"/>
                  </a:lnTo>
                  <a:lnTo>
                    <a:pt x="0" y="1158"/>
                  </a:lnTo>
                  <a:lnTo>
                    <a:pt x="115" y="926"/>
                  </a:lnTo>
                  <a:lnTo>
                    <a:pt x="115" y="926"/>
                  </a:lnTo>
                  <a:lnTo>
                    <a:pt x="347" y="579"/>
                  </a:lnTo>
                  <a:lnTo>
                    <a:pt x="694" y="231"/>
                  </a:lnTo>
                  <a:lnTo>
                    <a:pt x="1041" y="116"/>
                  </a:lnTo>
                  <a:lnTo>
                    <a:pt x="1504" y="0"/>
                  </a:lnTo>
                  <a:lnTo>
                    <a:pt x="2083" y="0"/>
                  </a:lnTo>
                  <a:lnTo>
                    <a:pt x="2430" y="231"/>
                  </a:lnTo>
                  <a:lnTo>
                    <a:pt x="2777" y="463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334160" y="2945160"/>
              <a:ext cx="70560" cy="211320"/>
            </a:xfrm>
            <a:custGeom>
              <a:avLst/>
              <a:gdLst/>
              <a:ahLst/>
              <a:rect l="l" t="t" r="r" b="b"/>
              <a:pathLst>
                <a:path w="1851" h="3938">
                  <a:moveTo>
                    <a:pt x="1851" y="1853"/>
                  </a:moveTo>
                  <a:lnTo>
                    <a:pt x="1851" y="1969"/>
                  </a:lnTo>
                  <a:lnTo>
                    <a:pt x="1851" y="2201"/>
                  </a:lnTo>
                  <a:lnTo>
                    <a:pt x="1851" y="2317"/>
                  </a:lnTo>
                  <a:lnTo>
                    <a:pt x="1736" y="2432"/>
                  </a:lnTo>
                  <a:lnTo>
                    <a:pt x="1736" y="2548"/>
                  </a:lnTo>
                  <a:lnTo>
                    <a:pt x="1736" y="2664"/>
                  </a:lnTo>
                  <a:lnTo>
                    <a:pt x="1736" y="2896"/>
                  </a:lnTo>
                  <a:lnTo>
                    <a:pt x="1736" y="3012"/>
                  </a:lnTo>
                  <a:lnTo>
                    <a:pt x="1736" y="3012"/>
                  </a:lnTo>
                  <a:lnTo>
                    <a:pt x="1620" y="3127"/>
                  </a:lnTo>
                  <a:lnTo>
                    <a:pt x="1620" y="3243"/>
                  </a:lnTo>
                  <a:lnTo>
                    <a:pt x="1504" y="3359"/>
                  </a:lnTo>
                  <a:lnTo>
                    <a:pt x="1388" y="3475"/>
                  </a:lnTo>
                  <a:lnTo>
                    <a:pt x="1273" y="3591"/>
                  </a:lnTo>
                  <a:lnTo>
                    <a:pt x="1157" y="3706"/>
                  </a:lnTo>
                  <a:lnTo>
                    <a:pt x="1041" y="3822"/>
                  </a:lnTo>
                  <a:lnTo>
                    <a:pt x="925" y="3938"/>
                  </a:lnTo>
                  <a:lnTo>
                    <a:pt x="925" y="3938"/>
                  </a:lnTo>
                  <a:lnTo>
                    <a:pt x="810" y="3938"/>
                  </a:lnTo>
                  <a:lnTo>
                    <a:pt x="810" y="3938"/>
                  </a:lnTo>
                  <a:lnTo>
                    <a:pt x="694" y="3938"/>
                  </a:lnTo>
                  <a:lnTo>
                    <a:pt x="694" y="3822"/>
                  </a:lnTo>
                  <a:lnTo>
                    <a:pt x="694" y="3822"/>
                  </a:lnTo>
                  <a:lnTo>
                    <a:pt x="694" y="3706"/>
                  </a:lnTo>
                  <a:lnTo>
                    <a:pt x="694" y="3706"/>
                  </a:lnTo>
                  <a:lnTo>
                    <a:pt x="694" y="3591"/>
                  </a:lnTo>
                  <a:lnTo>
                    <a:pt x="694" y="3591"/>
                  </a:lnTo>
                  <a:lnTo>
                    <a:pt x="925" y="3243"/>
                  </a:lnTo>
                  <a:lnTo>
                    <a:pt x="1157" y="3012"/>
                  </a:lnTo>
                  <a:lnTo>
                    <a:pt x="1273" y="2664"/>
                  </a:lnTo>
                  <a:lnTo>
                    <a:pt x="1273" y="2317"/>
                  </a:lnTo>
                  <a:lnTo>
                    <a:pt x="1273" y="1969"/>
                  </a:lnTo>
                  <a:lnTo>
                    <a:pt x="1157" y="1622"/>
                  </a:lnTo>
                  <a:lnTo>
                    <a:pt x="1041" y="1274"/>
                  </a:lnTo>
                  <a:lnTo>
                    <a:pt x="1041" y="811"/>
                  </a:lnTo>
                  <a:lnTo>
                    <a:pt x="1041" y="811"/>
                  </a:lnTo>
                  <a:lnTo>
                    <a:pt x="925" y="811"/>
                  </a:lnTo>
                  <a:lnTo>
                    <a:pt x="810" y="695"/>
                  </a:lnTo>
                  <a:lnTo>
                    <a:pt x="694" y="580"/>
                  </a:lnTo>
                  <a:lnTo>
                    <a:pt x="578" y="464"/>
                  </a:lnTo>
                  <a:lnTo>
                    <a:pt x="462" y="464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5" y="464"/>
                  </a:lnTo>
                  <a:lnTo>
                    <a:pt x="115" y="464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115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2" y="0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925" y="232"/>
                  </a:lnTo>
                  <a:lnTo>
                    <a:pt x="1041" y="232"/>
                  </a:lnTo>
                  <a:lnTo>
                    <a:pt x="1041" y="232"/>
                  </a:lnTo>
                  <a:lnTo>
                    <a:pt x="1273" y="464"/>
                  </a:lnTo>
                  <a:lnTo>
                    <a:pt x="1388" y="580"/>
                  </a:lnTo>
                  <a:lnTo>
                    <a:pt x="1504" y="811"/>
                  </a:lnTo>
                  <a:lnTo>
                    <a:pt x="1620" y="1043"/>
                  </a:lnTo>
                  <a:lnTo>
                    <a:pt x="1620" y="1159"/>
                  </a:lnTo>
                  <a:lnTo>
                    <a:pt x="1736" y="1390"/>
                  </a:lnTo>
                  <a:lnTo>
                    <a:pt x="1736" y="1622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227960" y="2970000"/>
              <a:ext cx="52920" cy="99360"/>
            </a:xfrm>
            <a:custGeom>
              <a:avLst/>
              <a:gdLst/>
              <a:ahLst/>
              <a:rect l="l" t="t" r="r" b="b"/>
              <a:pathLst>
                <a:path w="1389" h="1853">
                  <a:moveTo>
                    <a:pt x="1389" y="347"/>
                  </a:moveTo>
                  <a:lnTo>
                    <a:pt x="1157" y="579"/>
                  </a:lnTo>
                  <a:lnTo>
                    <a:pt x="1042" y="810"/>
                  </a:lnTo>
                  <a:lnTo>
                    <a:pt x="926" y="1042"/>
                  </a:lnTo>
                  <a:lnTo>
                    <a:pt x="810" y="1389"/>
                  </a:lnTo>
                  <a:lnTo>
                    <a:pt x="810" y="1621"/>
                  </a:lnTo>
                  <a:lnTo>
                    <a:pt x="694" y="1853"/>
                  </a:lnTo>
                  <a:lnTo>
                    <a:pt x="463" y="1853"/>
                  </a:lnTo>
                  <a:lnTo>
                    <a:pt x="116" y="1737"/>
                  </a:lnTo>
                  <a:lnTo>
                    <a:pt x="116" y="1737"/>
                  </a:lnTo>
                  <a:lnTo>
                    <a:pt x="0" y="1505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6" y="810"/>
                  </a:lnTo>
                  <a:lnTo>
                    <a:pt x="116" y="579"/>
                  </a:lnTo>
                  <a:lnTo>
                    <a:pt x="231" y="347"/>
                  </a:lnTo>
                  <a:lnTo>
                    <a:pt x="463" y="231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7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389" y="231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413720" y="2988720"/>
              <a:ext cx="70560" cy="192600"/>
            </a:xfrm>
            <a:custGeom>
              <a:avLst/>
              <a:gdLst/>
              <a:ahLst/>
              <a:rect l="l" t="t" r="r" b="b"/>
              <a:pathLst>
                <a:path w="1851" h="3590">
                  <a:moveTo>
                    <a:pt x="1620" y="695"/>
                  </a:moveTo>
                  <a:lnTo>
                    <a:pt x="1736" y="927"/>
                  </a:lnTo>
                  <a:lnTo>
                    <a:pt x="1736" y="1158"/>
                  </a:lnTo>
                  <a:lnTo>
                    <a:pt x="1851" y="1390"/>
                  </a:lnTo>
                  <a:lnTo>
                    <a:pt x="1851" y="1621"/>
                  </a:lnTo>
                  <a:lnTo>
                    <a:pt x="1851" y="1853"/>
                  </a:lnTo>
                  <a:lnTo>
                    <a:pt x="1851" y="2085"/>
                  </a:lnTo>
                  <a:lnTo>
                    <a:pt x="1851" y="2316"/>
                  </a:lnTo>
                  <a:lnTo>
                    <a:pt x="1736" y="2432"/>
                  </a:lnTo>
                  <a:lnTo>
                    <a:pt x="1736" y="2432"/>
                  </a:lnTo>
                  <a:lnTo>
                    <a:pt x="1736" y="2664"/>
                  </a:lnTo>
                  <a:lnTo>
                    <a:pt x="1620" y="2780"/>
                  </a:lnTo>
                  <a:lnTo>
                    <a:pt x="1504" y="2895"/>
                  </a:lnTo>
                  <a:lnTo>
                    <a:pt x="1388" y="3127"/>
                  </a:lnTo>
                  <a:lnTo>
                    <a:pt x="1273" y="3243"/>
                  </a:lnTo>
                  <a:lnTo>
                    <a:pt x="1157" y="3359"/>
                  </a:lnTo>
                  <a:lnTo>
                    <a:pt x="1041" y="3474"/>
                  </a:lnTo>
                  <a:lnTo>
                    <a:pt x="926" y="3590"/>
                  </a:lnTo>
                  <a:lnTo>
                    <a:pt x="926" y="3590"/>
                  </a:lnTo>
                  <a:lnTo>
                    <a:pt x="810" y="3590"/>
                  </a:lnTo>
                  <a:lnTo>
                    <a:pt x="694" y="3590"/>
                  </a:lnTo>
                  <a:lnTo>
                    <a:pt x="694" y="3474"/>
                  </a:lnTo>
                  <a:lnTo>
                    <a:pt x="578" y="3474"/>
                  </a:lnTo>
                  <a:lnTo>
                    <a:pt x="578" y="3359"/>
                  </a:lnTo>
                  <a:lnTo>
                    <a:pt x="578" y="3359"/>
                  </a:lnTo>
                  <a:lnTo>
                    <a:pt x="578" y="3243"/>
                  </a:lnTo>
                  <a:lnTo>
                    <a:pt x="578" y="3127"/>
                  </a:lnTo>
                  <a:lnTo>
                    <a:pt x="578" y="3127"/>
                  </a:lnTo>
                  <a:lnTo>
                    <a:pt x="694" y="3127"/>
                  </a:lnTo>
                  <a:lnTo>
                    <a:pt x="810" y="3011"/>
                  </a:lnTo>
                  <a:lnTo>
                    <a:pt x="926" y="2895"/>
                  </a:lnTo>
                  <a:lnTo>
                    <a:pt x="1041" y="2780"/>
                  </a:lnTo>
                  <a:lnTo>
                    <a:pt x="1041" y="2664"/>
                  </a:lnTo>
                  <a:lnTo>
                    <a:pt x="1157" y="2432"/>
                  </a:lnTo>
                  <a:lnTo>
                    <a:pt x="1157" y="2316"/>
                  </a:lnTo>
                  <a:lnTo>
                    <a:pt x="1157" y="2201"/>
                  </a:lnTo>
                  <a:lnTo>
                    <a:pt x="1157" y="2201"/>
                  </a:lnTo>
                  <a:lnTo>
                    <a:pt x="1157" y="1969"/>
                  </a:lnTo>
                  <a:lnTo>
                    <a:pt x="1157" y="1621"/>
                  </a:lnTo>
                  <a:lnTo>
                    <a:pt x="1157" y="1390"/>
                  </a:lnTo>
                  <a:lnTo>
                    <a:pt x="1041" y="1042"/>
                  </a:lnTo>
                  <a:lnTo>
                    <a:pt x="926" y="811"/>
                  </a:lnTo>
                  <a:lnTo>
                    <a:pt x="810" y="579"/>
                  </a:lnTo>
                  <a:lnTo>
                    <a:pt x="578" y="348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231" y="232"/>
                  </a:lnTo>
                  <a:lnTo>
                    <a:pt x="231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6"/>
                  </a:lnTo>
                  <a:lnTo>
                    <a:pt x="1273" y="232"/>
                  </a:lnTo>
                  <a:lnTo>
                    <a:pt x="1504" y="463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493280" y="3013560"/>
              <a:ext cx="61920" cy="186480"/>
            </a:xfrm>
            <a:custGeom>
              <a:avLst/>
              <a:gdLst/>
              <a:ahLst/>
              <a:rect l="l" t="t" r="r" b="b"/>
              <a:pathLst>
                <a:path w="1620" h="3475">
                  <a:moveTo>
                    <a:pt x="1620" y="1390"/>
                  </a:moveTo>
                  <a:lnTo>
                    <a:pt x="1620" y="1622"/>
                  </a:lnTo>
                  <a:lnTo>
                    <a:pt x="1620" y="1853"/>
                  </a:lnTo>
                  <a:lnTo>
                    <a:pt x="1620" y="2085"/>
                  </a:lnTo>
                  <a:lnTo>
                    <a:pt x="1620" y="2317"/>
                  </a:lnTo>
                  <a:lnTo>
                    <a:pt x="1620" y="2432"/>
                  </a:lnTo>
                  <a:lnTo>
                    <a:pt x="1620" y="2664"/>
                  </a:lnTo>
                  <a:lnTo>
                    <a:pt x="1504" y="2896"/>
                  </a:lnTo>
                  <a:lnTo>
                    <a:pt x="1389" y="3011"/>
                  </a:lnTo>
                  <a:lnTo>
                    <a:pt x="1389" y="3011"/>
                  </a:lnTo>
                  <a:lnTo>
                    <a:pt x="1273" y="3127"/>
                  </a:lnTo>
                  <a:lnTo>
                    <a:pt x="1157" y="3127"/>
                  </a:lnTo>
                  <a:lnTo>
                    <a:pt x="1041" y="3243"/>
                  </a:lnTo>
                  <a:lnTo>
                    <a:pt x="1041" y="3359"/>
                  </a:lnTo>
                  <a:lnTo>
                    <a:pt x="926" y="3475"/>
                  </a:lnTo>
                  <a:lnTo>
                    <a:pt x="926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694" y="3359"/>
                  </a:lnTo>
                  <a:lnTo>
                    <a:pt x="694" y="3243"/>
                  </a:lnTo>
                  <a:lnTo>
                    <a:pt x="810" y="3127"/>
                  </a:lnTo>
                  <a:lnTo>
                    <a:pt x="810" y="3011"/>
                  </a:lnTo>
                  <a:lnTo>
                    <a:pt x="926" y="2896"/>
                  </a:lnTo>
                  <a:lnTo>
                    <a:pt x="1041" y="2780"/>
                  </a:lnTo>
                  <a:lnTo>
                    <a:pt x="1157" y="2664"/>
                  </a:lnTo>
                  <a:lnTo>
                    <a:pt x="1273" y="2548"/>
                  </a:lnTo>
                  <a:lnTo>
                    <a:pt x="1273" y="2432"/>
                  </a:lnTo>
                  <a:lnTo>
                    <a:pt x="1273" y="2432"/>
                  </a:lnTo>
                  <a:lnTo>
                    <a:pt x="1389" y="2085"/>
                  </a:lnTo>
                  <a:lnTo>
                    <a:pt x="1389" y="1853"/>
                  </a:lnTo>
                  <a:lnTo>
                    <a:pt x="1273" y="1506"/>
                  </a:lnTo>
                  <a:lnTo>
                    <a:pt x="1157" y="1274"/>
                  </a:lnTo>
                  <a:lnTo>
                    <a:pt x="1041" y="1043"/>
                  </a:lnTo>
                  <a:lnTo>
                    <a:pt x="810" y="811"/>
                  </a:lnTo>
                  <a:lnTo>
                    <a:pt x="579" y="579"/>
                  </a:lnTo>
                  <a:lnTo>
                    <a:pt x="347" y="348"/>
                  </a:lnTo>
                  <a:lnTo>
                    <a:pt x="347" y="348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6" y="348"/>
                  </a:lnTo>
                  <a:lnTo>
                    <a:pt x="116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463" y="0"/>
                  </a:lnTo>
                  <a:lnTo>
                    <a:pt x="694" y="116"/>
                  </a:lnTo>
                  <a:lnTo>
                    <a:pt x="926" y="348"/>
                  </a:lnTo>
                  <a:lnTo>
                    <a:pt x="1041" y="464"/>
                  </a:lnTo>
                  <a:lnTo>
                    <a:pt x="1273" y="695"/>
                  </a:lnTo>
                  <a:lnTo>
                    <a:pt x="1389" y="927"/>
                  </a:lnTo>
                  <a:lnTo>
                    <a:pt x="1504" y="1158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59520" y="3025800"/>
              <a:ext cx="79560" cy="192600"/>
            </a:xfrm>
            <a:custGeom>
              <a:avLst/>
              <a:gdLst/>
              <a:ahLst/>
              <a:rect l="l" t="t" r="r" b="b"/>
              <a:pathLst>
                <a:path w="2083" h="3590">
                  <a:moveTo>
                    <a:pt x="2083" y="1390"/>
                  </a:moveTo>
                  <a:lnTo>
                    <a:pt x="2083" y="1737"/>
                  </a:lnTo>
                  <a:lnTo>
                    <a:pt x="2083" y="1969"/>
                  </a:lnTo>
                  <a:lnTo>
                    <a:pt x="2083" y="2200"/>
                  </a:lnTo>
                  <a:lnTo>
                    <a:pt x="2083" y="2548"/>
                  </a:lnTo>
                  <a:lnTo>
                    <a:pt x="1967" y="2779"/>
                  </a:lnTo>
                  <a:lnTo>
                    <a:pt x="1967" y="3011"/>
                  </a:lnTo>
                  <a:lnTo>
                    <a:pt x="1852" y="3243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504" y="3474"/>
                  </a:lnTo>
                  <a:lnTo>
                    <a:pt x="1389" y="3474"/>
                  </a:lnTo>
                  <a:lnTo>
                    <a:pt x="1273" y="3590"/>
                  </a:lnTo>
                  <a:lnTo>
                    <a:pt x="1273" y="3590"/>
                  </a:lnTo>
                  <a:lnTo>
                    <a:pt x="1157" y="3590"/>
                  </a:lnTo>
                  <a:lnTo>
                    <a:pt x="1041" y="3590"/>
                  </a:lnTo>
                  <a:lnTo>
                    <a:pt x="1041" y="3474"/>
                  </a:lnTo>
                  <a:lnTo>
                    <a:pt x="1041" y="3474"/>
                  </a:lnTo>
                  <a:lnTo>
                    <a:pt x="1157" y="3358"/>
                  </a:lnTo>
                  <a:lnTo>
                    <a:pt x="1273" y="3243"/>
                  </a:lnTo>
                  <a:lnTo>
                    <a:pt x="1389" y="3011"/>
                  </a:lnTo>
                  <a:lnTo>
                    <a:pt x="1504" y="2895"/>
                  </a:lnTo>
                  <a:lnTo>
                    <a:pt x="1504" y="2664"/>
                  </a:lnTo>
                  <a:lnTo>
                    <a:pt x="1620" y="2432"/>
                  </a:lnTo>
                  <a:lnTo>
                    <a:pt x="1620" y="2200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620" y="1621"/>
                  </a:lnTo>
                  <a:lnTo>
                    <a:pt x="1504" y="1390"/>
                  </a:lnTo>
                  <a:lnTo>
                    <a:pt x="1389" y="1274"/>
                  </a:lnTo>
                  <a:lnTo>
                    <a:pt x="1273" y="1042"/>
                  </a:lnTo>
                  <a:lnTo>
                    <a:pt x="1157" y="811"/>
                  </a:lnTo>
                  <a:lnTo>
                    <a:pt x="1041" y="695"/>
                  </a:lnTo>
                  <a:lnTo>
                    <a:pt x="810" y="463"/>
                  </a:lnTo>
                  <a:lnTo>
                    <a:pt x="810" y="463"/>
                  </a:lnTo>
                  <a:lnTo>
                    <a:pt x="694" y="463"/>
                  </a:lnTo>
                  <a:lnTo>
                    <a:pt x="579" y="347"/>
                  </a:lnTo>
                  <a:lnTo>
                    <a:pt x="463" y="347"/>
                  </a:lnTo>
                  <a:lnTo>
                    <a:pt x="347" y="463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347" y="0"/>
                  </a:lnTo>
                  <a:lnTo>
                    <a:pt x="579" y="0"/>
                  </a:lnTo>
                  <a:lnTo>
                    <a:pt x="926" y="116"/>
                  </a:lnTo>
                  <a:lnTo>
                    <a:pt x="1157" y="347"/>
                  </a:lnTo>
                  <a:lnTo>
                    <a:pt x="1389" y="579"/>
                  </a:lnTo>
                  <a:lnTo>
                    <a:pt x="1620" y="811"/>
                  </a:lnTo>
                  <a:lnTo>
                    <a:pt x="1852" y="1158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630440" y="3032280"/>
              <a:ext cx="74880" cy="173880"/>
            </a:xfrm>
            <a:custGeom>
              <a:avLst/>
              <a:gdLst/>
              <a:ahLst/>
              <a:rect l="l" t="t" r="r" b="b"/>
              <a:pathLst>
                <a:path w="1967" h="3242">
                  <a:moveTo>
                    <a:pt x="1388" y="463"/>
                  </a:moveTo>
                  <a:lnTo>
                    <a:pt x="1620" y="695"/>
                  </a:lnTo>
                  <a:lnTo>
                    <a:pt x="1736" y="810"/>
                  </a:lnTo>
                  <a:lnTo>
                    <a:pt x="1851" y="1042"/>
                  </a:lnTo>
                  <a:lnTo>
                    <a:pt x="1967" y="1274"/>
                  </a:lnTo>
                  <a:lnTo>
                    <a:pt x="1967" y="1621"/>
                  </a:lnTo>
                  <a:lnTo>
                    <a:pt x="1967" y="1853"/>
                  </a:lnTo>
                  <a:lnTo>
                    <a:pt x="1967" y="2084"/>
                  </a:lnTo>
                  <a:lnTo>
                    <a:pt x="1967" y="2316"/>
                  </a:lnTo>
                  <a:lnTo>
                    <a:pt x="1967" y="2316"/>
                  </a:lnTo>
                  <a:lnTo>
                    <a:pt x="1851" y="2548"/>
                  </a:lnTo>
                  <a:lnTo>
                    <a:pt x="1851" y="2663"/>
                  </a:lnTo>
                  <a:lnTo>
                    <a:pt x="1736" y="2779"/>
                  </a:lnTo>
                  <a:lnTo>
                    <a:pt x="1620" y="2895"/>
                  </a:lnTo>
                  <a:lnTo>
                    <a:pt x="1620" y="3011"/>
                  </a:lnTo>
                  <a:lnTo>
                    <a:pt x="1504" y="3127"/>
                  </a:lnTo>
                  <a:lnTo>
                    <a:pt x="1388" y="3242"/>
                  </a:lnTo>
                  <a:lnTo>
                    <a:pt x="1273" y="3242"/>
                  </a:lnTo>
                  <a:lnTo>
                    <a:pt x="1273" y="3242"/>
                  </a:lnTo>
                  <a:lnTo>
                    <a:pt x="1273" y="3011"/>
                  </a:lnTo>
                  <a:lnTo>
                    <a:pt x="1388" y="2663"/>
                  </a:lnTo>
                  <a:lnTo>
                    <a:pt x="1504" y="2316"/>
                  </a:lnTo>
                  <a:lnTo>
                    <a:pt x="1620" y="1969"/>
                  </a:lnTo>
                  <a:lnTo>
                    <a:pt x="1620" y="1621"/>
                  </a:lnTo>
                  <a:lnTo>
                    <a:pt x="1620" y="1274"/>
                  </a:lnTo>
                  <a:lnTo>
                    <a:pt x="1504" y="926"/>
                  </a:lnTo>
                  <a:lnTo>
                    <a:pt x="1273" y="695"/>
                  </a:lnTo>
                  <a:lnTo>
                    <a:pt x="1273" y="695"/>
                  </a:lnTo>
                  <a:lnTo>
                    <a:pt x="1157" y="579"/>
                  </a:lnTo>
                  <a:lnTo>
                    <a:pt x="925" y="579"/>
                  </a:lnTo>
                  <a:lnTo>
                    <a:pt x="810" y="463"/>
                  </a:lnTo>
                  <a:lnTo>
                    <a:pt x="578" y="463"/>
                  </a:lnTo>
                  <a:lnTo>
                    <a:pt x="463" y="463"/>
                  </a:lnTo>
                  <a:lnTo>
                    <a:pt x="231" y="463"/>
                  </a:lnTo>
                  <a:lnTo>
                    <a:pt x="115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231" y="116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925" y="116"/>
                  </a:lnTo>
                  <a:lnTo>
                    <a:pt x="1157" y="231"/>
                  </a:lnTo>
                  <a:lnTo>
                    <a:pt x="1273" y="347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719000" y="3069360"/>
              <a:ext cx="57240" cy="167760"/>
            </a:xfrm>
            <a:custGeom>
              <a:avLst/>
              <a:gdLst/>
              <a:ahLst/>
              <a:rect l="l" t="t" r="r" b="b"/>
              <a:pathLst>
                <a:path w="1505" h="3127">
                  <a:moveTo>
                    <a:pt x="1505" y="1158"/>
                  </a:moveTo>
                  <a:lnTo>
                    <a:pt x="1505" y="1389"/>
                  </a:lnTo>
                  <a:lnTo>
                    <a:pt x="1505" y="1737"/>
                  </a:lnTo>
                  <a:lnTo>
                    <a:pt x="1505" y="1968"/>
                  </a:lnTo>
                  <a:lnTo>
                    <a:pt x="1389" y="2316"/>
                  </a:lnTo>
                  <a:lnTo>
                    <a:pt x="1273" y="2547"/>
                  </a:lnTo>
                  <a:lnTo>
                    <a:pt x="1158" y="2779"/>
                  </a:lnTo>
                  <a:lnTo>
                    <a:pt x="926" y="2895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2895"/>
                  </a:lnTo>
                  <a:lnTo>
                    <a:pt x="695" y="2779"/>
                  </a:lnTo>
                  <a:lnTo>
                    <a:pt x="810" y="2663"/>
                  </a:lnTo>
                  <a:lnTo>
                    <a:pt x="810" y="2432"/>
                  </a:lnTo>
                  <a:lnTo>
                    <a:pt x="926" y="2316"/>
                  </a:lnTo>
                  <a:lnTo>
                    <a:pt x="926" y="2200"/>
                  </a:lnTo>
                  <a:lnTo>
                    <a:pt x="1042" y="1968"/>
                  </a:lnTo>
                  <a:lnTo>
                    <a:pt x="1042" y="1737"/>
                  </a:lnTo>
                  <a:lnTo>
                    <a:pt x="1042" y="1737"/>
                  </a:lnTo>
                  <a:lnTo>
                    <a:pt x="1042" y="1621"/>
                  </a:lnTo>
                  <a:lnTo>
                    <a:pt x="1042" y="1389"/>
                  </a:lnTo>
                  <a:lnTo>
                    <a:pt x="926" y="1158"/>
                  </a:lnTo>
                  <a:lnTo>
                    <a:pt x="926" y="926"/>
                  </a:lnTo>
                  <a:lnTo>
                    <a:pt x="926" y="810"/>
                  </a:lnTo>
                  <a:lnTo>
                    <a:pt x="810" y="695"/>
                  </a:lnTo>
                  <a:lnTo>
                    <a:pt x="579" y="463"/>
                  </a:lnTo>
                  <a:lnTo>
                    <a:pt x="463" y="347"/>
                  </a:lnTo>
                  <a:lnTo>
                    <a:pt x="463" y="347"/>
                  </a:lnTo>
                  <a:lnTo>
                    <a:pt x="347" y="347"/>
                  </a:lnTo>
                  <a:lnTo>
                    <a:pt x="232" y="347"/>
                  </a:lnTo>
                  <a:lnTo>
                    <a:pt x="232" y="347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2" y="0"/>
                  </a:lnTo>
                  <a:lnTo>
                    <a:pt x="232" y="0"/>
                  </a:lnTo>
                  <a:lnTo>
                    <a:pt x="463" y="0"/>
                  </a:lnTo>
                  <a:lnTo>
                    <a:pt x="695" y="115"/>
                  </a:lnTo>
                  <a:lnTo>
                    <a:pt x="926" y="231"/>
                  </a:lnTo>
                  <a:lnTo>
                    <a:pt x="1042" y="347"/>
                  </a:lnTo>
                  <a:lnTo>
                    <a:pt x="1158" y="579"/>
                  </a:lnTo>
                  <a:lnTo>
                    <a:pt x="1273" y="695"/>
                  </a:lnTo>
                  <a:lnTo>
                    <a:pt x="1389" y="926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130400" y="3088080"/>
              <a:ext cx="911160" cy="1181160"/>
            </a:xfrm>
            <a:custGeom>
              <a:avLst/>
              <a:gdLst/>
              <a:ahLst/>
              <a:rect l="l" t="t" r="r" b="b"/>
              <a:pathLst>
                <a:path w="23841" h="22004">
                  <a:moveTo>
                    <a:pt x="4050" y="116"/>
                  </a:moveTo>
                  <a:lnTo>
                    <a:pt x="4050" y="232"/>
                  </a:lnTo>
                  <a:lnTo>
                    <a:pt x="3935" y="348"/>
                  </a:lnTo>
                  <a:lnTo>
                    <a:pt x="3935" y="463"/>
                  </a:lnTo>
                  <a:lnTo>
                    <a:pt x="3935" y="579"/>
                  </a:lnTo>
                  <a:lnTo>
                    <a:pt x="3935" y="695"/>
                  </a:lnTo>
                  <a:lnTo>
                    <a:pt x="3935" y="811"/>
                  </a:lnTo>
                  <a:lnTo>
                    <a:pt x="4050" y="927"/>
                  </a:lnTo>
                  <a:lnTo>
                    <a:pt x="4050" y="1042"/>
                  </a:lnTo>
                  <a:lnTo>
                    <a:pt x="4050" y="1042"/>
                  </a:lnTo>
                  <a:lnTo>
                    <a:pt x="4166" y="1158"/>
                  </a:lnTo>
                  <a:lnTo>
                    <a:pt x="4166" y="1274"/>
                  </a:lnTo>
                  <a:lnTo>
                    <a:pt x="4282" y="1274"/>
                  </a:lnTo>
                  <a:lnTo>
                    <a:pt x="4398" y="1274"/>
                  </a:lnTo>
                  <a:lnTo>
                    <a:pt x="4398" y="1274"/>
                  </a:lnTo>
                  <a:lnTo>
                    <a:pt x="4513" y="1274"/>
                  </a:lnTo>
                  <a:lnTo>
                    <a:pt x="4629" y="1274"/>
                  </a:lnTo>
                  <a:lnTo>
                    <a:pt x="4745" y="1274"/>
                  </a:lnTo>
                  <a:lnTo>
                    <a:pt x="4745" y="1274"/>
                  </a:lnTo>
                  <a:lnTo>
                    <a:pt x="4861" y="1158"/>
                  </a:lnTo>
                  <a:lnTo>
                    <a:pt x="4976" y="1042"/>
                  </a:lnTo>
                  <a:lnTo>
                    <a:pt x="5092" y="927"/>
                  </a:lnTo>
                  <a:lnTo>
                    <a:pt x="5208" y="695"/>
                  </a:lnTo>
                  <a:lnTo>
                    <a:pt x="5324" y="579"/>
                  </a:lnTo>
                  <a:lnTo>
                    <a:pt x="5439" y="463"/>
                  </a:lnTo>
                  <a:lnTo>
                    <a:pt x="5439" y="348"/>
                  </a:lnTo>
                  <a:lnTo>
                    <a:pt x="5439" y="116"/>
                  </a:lnTo>
                  <a:lnTo>
                    <a:pt x="5439" y="116"/>
                  </a:lnTo>
                  <a:lnTo>
                    <a:pt x="5786" y="232"/>
                  </a:lnTo>
                  <a:lnTo>
                    <a:pt x="5786" y="232"/>
                  </a:lnTo>
                  <a:lnTo>
                    <a:pt x="5671" y="348"/>
                  </a:lnTo>
                  <a:lnTo>
                    <a:pt x="5439" y="463"/>
                  </a:lnTo>
                  <a:lnTo>
                    <a:pt x="5439" y="579"/>
                  </a:lnTo>
                  <a:lnTo>
                    <a:pt x="5324" y="811"/>
                  </a:lnTo>
                  <a:lnTo>
                    <a:pt x="5324" y="927"/>
                  </a:lnTo>
                  <a:lnTo>
                    <a:pt x="5324" y="1158"/>
                  </a:lnTo>
                  <a:lnTo>
                    <a:pt x="5439" y="1390"/>
                  </a:lnTo>
                  <a:lnTo>
                    <a:pt x="5439" y="1506"/>
                  </a:lnTo>
                  <a:lnTo>
                    <a:pt x="5439" y="1506"/>
                  </a:lnTo>
                  <a:lnTo>
                    <a:pt x="5555" y="1737"/>
                  </a:lnTo>
                  <a:lnTo>
                    <a:pt x="5671" y="1737"/>
                  </a:lnTo>
                  <a:lnTo>
                    <a:pt x="5786" y="1853"/>
                  </a:lnTo>
                  <a:lnTo>
                    <a:pt x="5902" y="1853"/>
                  </a:lnTo>
                  <a:lnTo>
                    <a:pt x="6018" y="1853"/>
                  </a:lnTo>
                  <a:lnTo>
                    <a:pt x="6249" y="1853"/>
                  </a:lnTo>
                  <a:lnTo>
                    <a:pt x="6365" y="1853"/>
                  </a:lnTo>
                  <a:lnTo>
                    <a:pt x="6481" y="1737"/>
                  </a:lnTo>
                  <a:lnTo>
                    <a:pt x="6481" y="1737"/>
                  </a:lnTo>
                  <a:lnTo>
                    <a:pt x="6712" y="1737"/>
                  </a:lnTo>
                  <a:lnTo>
                    <a:pt x="6828" y="1621"/>
                  </a:lnTo>
                  <a:lnTo>
                    <a:pt x="6944" y="1390"/>
                  </a:lnTo>
                  <a:lnTo>
                    <a:pt x="7060" y="1274"/>
                  </a:lnTo>
                  <a:lnTo>
                    <a:pt x="7175" y="1042"/>
                  </a:lnTo>
                  <a:lnTo>
                    <a:pt x="7291" y="927"/>
                  </a:lnTo>
                  <a:lnTo>
                    <a:pt x="7291" y="695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638" y="695"/>
                  </a:lnTo>
                  <a:lnTo>
                    <a:pt x="7522" y="811"/>
                  </a:lnTo>
                  <a:lnTo>
                    <a:pt x="7407" y="1042"/>
                  </a:lnTo>
                  <a:lnTo>
                    <a:pt x="7407" y="1158"/>
                  </a:lnTo>
                  <a:lnTo>
                    <a:pt x="7291" y="1274"/>
                  </a:lnTo>
                  <a:lnTo>
                    <a:pt x="7291" y="1390"/>
                  </a:lnTo>
                  <a:lnTo>
                    <a:pt x="7291" y="1506"/>
                  </a:lnTo>
                  <a:lnTo>
                    <a:pt x="7291" y="1621"/>
                  </a:lnTo>
                  <a:lnTo>
                    <a:pt x="7291" y="1621"/>
                  </a:lnTo>
                  <a:lnTo>
                    <a:pt x="7407" y="1737"/>
                  </a:lnTo>
                  <a:lnTo>
                    <a:pt x="7407" y="1969"/>
                  </a:lnTo>
                  <a:lnTo>
                    <a:pt x="7407" y="2085"/>
                  </a:lnTo>
                  <a:lnTo>
                    <a:pt x="7522" y="2200"/>
                  </a:lnTo>
                  <a:lnTo>
                    <a:pt x="7522" y="2316"/>
                  </a:lnTo>
                  <a:lnTo>
                    <a:pt x="7638" y="2316"/>
                  </a:lnTo>
                  <a:lnTo>
                    <a:pt x="7754" y="2432"/>
                  </a:lnTo>
                  <a:lnTo>
                    <a:pt x="7870" y="2432"/>
                  </a:lnTo>
                  <a:lnTo>
                    <a:pt x="7870" y="2432"/>
                  </a:lnTo>
                  <a:lnTo>
                    <a:pt x="8101" y="2432"/>
                  </a:lnTo>
                  <a:lnTo>
                    <a:pt x="8217" y="2432"/>
                  </a:lnTo>
                  <a:lnTo>
                    <a:pt x="8333" y="2316"/>
                  </a:lnTo>
                  <a:lnTo>
                    <a:pt x="8448" y="2200"/>
                  </a:lnTo>
                  <a:lnTo>
                    <a:pt x="8564" y="2200"/>
                  </a:lnTo>
                  <a:lnTo>
                    <a:pt x="8564" y="2085"/>
                  </a:lnTo>
                  <a:lnTo>
                    <a:pt x="8680" y="1969"/>
                  </a:lnTo>
                  <a:lnTo>
                    <a:pt x="8911" y="1969"/>
                  </a:lnTo>
                  <a:lnTo>
                    <a:pt x="8911" y="1969"/>
                  </a:lnTo>
                  <a:lnTo>
                    <a:pt x="8911" y="1853"/>
                  </a:lnTo>
                  <a:lnTo>
                    <a:pt x="8911" y="1737"/>
                  </a:lnTo>
                  <a:lnTo>
                    <a:pt x="9027" y="1737"/>
                  </a:lnTo>
                  <a:lnTo>
                    <a:pt x="9143" y="1621"/>
                  </a:lnTo>
                  <a:lnTo>
                    <a:pt x="9258" y="1506"/>
                  </a:lnTo>
                  <a:lnTo>
                    <a:pt x="9374" y="1390"/>
                  </a:lnTo>
                  <a:lnTo>
                    <a:pt x="9374" y="1274"/>
                  </a:lnTo>
                  <a:lnTo>
                    <a:pt x="9490" y="1158"/>
                  </a:lnTo>
                  <a:lnTo>
                    <a:pt x="9490" y="1158"/>
                  </a:lnTo>
                  <a:lnTo>
                    <a:pt x="9837" y="1274"/>
                  </a:lnTo>
                  <a:lnTo>
                    <a:pt x="9837" y="1274"/>
                  </a:lnTo>
                  <a:lnTo>
                    <a:pt x="9837" y="1390"/>
                  </a:lnTo>
                  <a:lnTo>
                    <a:pt x="9721" y="1621"/>
                  </a:lnTo>
                  <a:lnTo>
                    <a:pt x="9721" y="1853"/>
                  </a:lnTo>
                  <a:lnTo>
                    <a:pt x="9606" y="2085"/>
                  </a:lnTo>
                  <a:lnTo>
                    <a:pt x="9606" y="2200"/>
                  </a:lnTo>
                  <a:lnTo>
                    <a:pt x="9721" y="2432"/>
                  </a:lnTo>
                  <a:lnTo>
                    <a:pt x="9721" y="2664"/>
                  </a:lnTo>
                  <a:lnTo>
                    <a:pt x="9953" y="2780"/>
                  </a:lnTo>
                  <a:lnTo>
                    <a:pt x="9953" y="2780"/>
                  </a:lnTo>
                  <a:lnTo>
                    <a:pt x="10069" y="2780"/>
                  </a:lnTo>
                  <a:lnTo>
                    <a:pt x="10184" y="2780"/>
                  </a:lnTo>
                  <a:lnTo>
                    <a:pt x="10300" y="2780"/>
                  </a:lnTo>
                  <a:lnTo>
                    <a:pt x="10531" y="2780"/>
                  </a:lnTo>
                  <a:lnTo>
                    <a:pt x="10647" y="2780"/>
                  </a:lnTo>
                  <a:lnTo>
                    <a:pt x="10763" y="2664"/>
                  </a:lnTo>
                  <a:lnTo>
                    <a:pt x="10763" y="2548"/>
                  </a:lnTo>
                  <a:lnTo>
                    <a:pt x="10879" y="2432"/>
                  </a:lnTo>
                  <a:lnTo>
                    <a:pt x="10879" y="2432"/>
                  </a:lnTo>
                  <a:lnTo>
                    <a:pt x="10763" y="2432"/>
                  </a:lnTo>
                  <a:lnTo>
                    <a:pt x="10763" y="2432"/>
                  </a:lnTo>
                  <a:lnTo>
                    <a:pt x="10994" y="2316"/>
                  </a:lnTo>
                  <a:lnTo>
                    <a:pt x="11110" y="2200"/>
                  </a:lnTo>
                  <a:lnTo>
                    <a:pt x="11226" y="1969"/>
                  </a:lnTo>
                  <a:lnTo>
                    <a:pt x="11342" y="1737"/>
                  </a:lnTo>
                  <a:lnTo>
                    <a:pt x="11457" y="1506"/>
                  </a:lnTo>
                  <a:lnTo>
                    <a:pt x="11689" y="1506"/>
                  </a:lnTo>
                  <a:lnTo>
                    <a:pt x="11805" y="1506"/>
                  </a:lnTo>
                  <a:lnTo>
                    <a:pt x="12036" y="1621"/>
                  </a:lnTo>
                  <a:lnTo>
                    <a:pt x="12036" y="1621"/>
                  </a:lnTo>
                  <a:lnTo>
                    <a:pt x="12036" y="1737"/>
                  </a:lnTo>
                  <a:lnTo>
                    <a:pt x="11920" y="1969"/>
                  </a:lnTo>
                  <a:lnTo>
                    <a:pt x="11920" y="2085"/>
                  </a:lnTo>
                  <a:lnTo>
                    <a:pt x="11805" y="2200"/>
                  </a:lnTo>
                  <a:lnTo>
                    <a:pt x="11805" y="2432"/>
                  </a:lnTo>
                  <a:lnTo>
                    <a:pt x="11805" y="2548"/>
                  </a:lnTo>
                  <a:lnTo>
                    <a:pt x="11920" y="2780"/>
                  </a:lnTo>
                  <a:lnTo>
                    <a:pt x="12036" y="2895"/>
                  </a:lnTo>
                  <a:lnTo>
                    <a:pt x="12036" y="2895"/>
                  </a:lnTo>
                  <a:lnTo>
                    <a:pt x="12152" y="3011"/>
                  </a:lnTo>
                  <a:lnTo>
                    <a:pt x="12267" y="3127"/>
                  </a:lnTo>
                  <a:lnTo>
                    <a:pt x="12383" y="3127"/>
                  </a:lnTo>
                  <a:lnTo>
                    <a:pt x="12499" y="3127"/>
                  </a:lnTo>
                  <a:lnTo>
                    <a:pt x="12615" y="3127"/>
                  </a:lnTo>
                  <a:lnTo>
                    <a:pt x="12730" y="3127"/>
                  </a:lnTo>
                  <a:lnTo>
                    <a:pt x="12846" y="3011"/>
                  </a:lnTo>
                  <a:lnTo>
                    <a:pt x="12962" y="3011"/>
                  </a:lnTo>
                  <a:lnTo>
                    <a:pt x="12962" y="3011"/>
                  </a:lnTo>
                  <a:lnTo>
                    <a:pt x="12846" y="2780"/>
                  </a:lnTo>
                  <a:lnTo>
                    <a:pt x="12962" y="2664"/>
                  </a:lnTo>
                  <a:lnTo>
                    <a:pt x="13078" y="2548"/>
                  </a:lnTo>
                  <a:lnTo>
                    <a:pt x="13193" y="2432"/>
                  </a:lnTo>
                  <a:lnTo>
                    <a:pt x="13309" y="2316"/>
                  </a:lnTo>
                  <a:lnTo>
                    <a:pt x="13425" y="2200"/>
                  </a:lnTo>
                  <a:lnTo>
                    <a:pt x="13541" y="2085"/>
                  </a:lnTo>
                  <a:lnTo>
                    <a:pt x="13656" y="1969"/>
                  </a:lnTo>
                  <a:lnTo>
                    <a:pt x="13656" y="1969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3772" y="2085"/>
                  </a:lnTo>
                  <a:lnTo>
                    <a:pt x="13772" y="2316"/>
                  </a:lnTo>
                  <a:lnTo>
                    <a:pt x="13772" y="2432"/>
                  </a:lnTo>
                  <a:lnTo>
                    <a:pt x="13656" y="2664"/>
                  </a:lnTo>
                  <a:lnTo>
                    <a:pt x="13772" y="2780"/>
                  </a:lnTo>
                  <a:lnTo>
                    <a:pt x="13772" y="2895"/>
                  </a:lnTo>
                  <a:lnTo>
                    <a:pt x="13888" y="3127"/>
                  </a:lnTo>
                  <a:lnTo>
                    <a:pt x="14003" y="3127"/>
                  </a:lnTo>
                  <a:lnTo>
                    <a:pt x="14003" y="3127"/>
                  </a:lnTo>
                  <a:lnTo>
                    <a:pt x="14119" y="3127"/>
                  </a:lnTo>
                  <a:lnTo>
                    <a:pt x="14235" y="3127"/>
                  </a:lnTo>
                  <a:lnTo>
                    <a:pt x="14351" y="3127"/>
                  </a:lnTo>
                  <a:lnTo>
                    <a:pt x="14466" y="3127"/>
                  </a:lnTo>
                  <a:lnTo>
                    <a:pt x="14582" y="3011"/>
                  </a:lnTo>
                  <a:lnTo>
                    <a:pt x="14582" y="3011"/>
                  </a:lnTo>
                  <a:lnTo>
                    <a:pt x="14698" y="2895"/>
                  </a:lnTo>
                  <a:lnTo>
                    <a:pt x="14814" y="2780"/>
                  </a:lnTo>
                  <a:lnTo>
                    <a:pt x="14814" y="2780"/>
                  </a:lnTo>
                  <a:lnTo>
                    <a:pt x="14814" y="2664"/>
                  </a:lnTo>
                  <a:lnTo>
                    <a:pt x="14814" y="2664"/>
                  </a:lnTo>
                  <a:lnTo>
                    <a:pt x="14814" y="2548"/>
                  </a:lnTo>
                  <a:lnTo>
                    <a:pt x="14929" y="2432"/>
                  </a:lnTo>
                  <a:lnTo>
                    <a:pt x="14929" y="2316"/>
                  </a:lnTo>
                  <a:lnTo>
                    <a:pt x="15045" y="2316"/>
                  </a:lnTo>
                  <a:lnTo>
                    <a:pt x="15045" y="2200"/>
                  </a:lnTo>
                  <a:lnTo>
                    <a:pt x="15161" y="2085"/>
                  </a:lnTo>
                  <a:lnTo>
                    <a:pt x="15161" y="2085"/>
                  </a:lnTo>
                  <a:lnTo>
                    <a:pt x="15624" y="2085"/>
                  </a:lnTo>
                  <a:lnTo>
                    <a:pt x="15624" y="2085"/>
                  </a:lnTo>
                  <a:lnTo>
                    <a:pt x="15624" y="2200"/>
                  </a:lnTo>
                  <a:lnTo>
                    <a:pt x="15508" y="2432"/>
                  </a:lnTo>
                  <a:lnTo>
                    <a:pt x="15508" y="2548"/>
                  </a:lnTo>
                  <a:lnTo>
                    <a:pt x="15508" y="2664"/>
                  </a:lnTo>
                  <a:lnTo>
                    <a:pt x="15508" y="2780"/>
                  </a:lnTo>
                  <a:lnTo>
                    <a:pt x="15508" y="2895"/>
                  </a:lnTo>
                  <a:lnTo>
                    <a:pt x="15624" y="3011"/>
                  </a:lnTo>
                  <a:lnTo>
                    <a:pt x="15739" y="3127"/>
                  </a:lnTo>
                  <a:lnTo>
                    <a:pt x="15739" y="3127"/>
                  </a:lnTo>
                  <a:lnTo>
                    <a:pt x="15739" y="3243"/>
                  </a:lnTo>
                  <a:lnTo>
                    <a:pt x="15855" y="3243"/>
                  </a:lnTo>
                  <a:lnTo>
                    <a:pt x="15855" y="3243"/>
                  </a:lnTo>
                  <a:lnTo>
                    <a:pt x="15971" y="3359"/>
                  </a:lnTo>
                  <a:lnTo>
                    <a:pt x="16087" y="3359"/>
                  </a:lnTo>
                  <a:lnTo>
                    <a:pt x="16202" y="3359"/>
                  </a:lnTo>
                  <a:lnTo>
                    <a:pt x="16202" y="3359"/>
                  </a:lnTo>
                  <a:lnTo>
                    <a:pt x="16318" y="3359"/>
                  </a:lnTo>
                  <a:lnTo>
                    <a:pt x="16318" y="3359"/>
                  </a:lnTo>
                  <a:lnTo>
                    <a:pt x="16550" y="3243"/>
                  </a:lnTo>
                  <a:lnTo>
                    <a:pt x="16665" y="3011"/>
                  </a:lnTo>
                  <a:lnTo>
                    <a:pt x="16781" y="2895"/>
                  </a:lnTo>
                  <a:lnTo>
                    <a:pt x="17012" y="2664"/>
                  </a:lnTo>
                  <a:lnTo>
                    <a:pt x="17128" y="2432"/>
                  </a:lnTo>
                  <a:lnTo>
                    <a:pt x="17244" y="2316"/>
                  </a:lnTo>
                  <a:lnTo>
                    <a:pt x="17475" y="2316"/>
                  </a:lnTo>
                  <a:lnTo>
                    <a:pt x="17823" y="2432"/>
                  </a:lnTo>
                  <a:lnTo>
                    <a:pt x="17823" y="2432"/>
                  </a:lnTo>
                  <a:lnTo>
                    <a:pt x="17823" y="2548"/>
                  </a:lnTo>
                  <a:lnTo>
                    <a:pt x="17707" y="2664"/>
                  </a:lnTo>
                  <a:lnTo>
                    <a:pt x="17707" y="2780"/>
                  </a:lnTo>
                  <a:lnTo>
                    <a:pt x="17591" y="2895"/>
                  </a:lnTo>
                  <a:lnTo>
                    <a:pt x="17591" y="3011"/>
                  </a:lnTo>
                  <a:lnTo>
                    <a:pt x="17475" y="3127"/>
                  </a:lnTo>
                  <a:lnTo>
                    <a:pt x="17475" y="3243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707" y="3590"/>
                  </a:lnTo>
                  <a:lnTo>
                    <a:pt x="17707" y="3590"/>
                  </a:lnTo>
                  <a:lnTo>
                    <a:pt x="17823" y="3706"/>
                  </a:lnTo>
                  <a:lnTo>
                    <a:pt x="17938" y="3706"/>
                  </a:lnTo>
                  <a:lnTo>
                    <a:pt x="18054" y="3706"/>
                  </a:lnTo>
                  <a:lnTo>
                    <a:pt x="18170" y="3706"/>
                  </a:lnTo>
                  <a:lnTo>
                    <a:pt x="18286" y="3706"/>
                  </a:lnTo>
                  <a:lnTo>
                    <a:pt x="18286" y="3706"/>
                  </a:lnTo>
                  <a:lnTo>
                    <a:pt x="18401" y="3590"/>
                  </a:lnTo>
                  <a:lnTo>
                    <a:pt x="18517" y="3474"/>
                  </a:lnTo>
                  <a:lnTo>
                    <a:pt x="18748" y="3359"/>
                  </a:lnTo>
                  <a:lnTo>
                    <a:pt x="18864" y="3243"/>
                  </a:lnTo>
                  <a:lnTo>
                    <a:pt x="18980" y="3127"/>
                  </a:lnTo>
                  <a:lnTo>
                    <a:pt x="19096" y="3011"/>
                  </a:lnTo>
                  <a:lnTo>
                    <a:pt x="19211" y="2780"/>
                  </a:lnTo>
                  <a:lnTo>
                    <a:pt x="19327" y="2664"/>
                  </a:lnTo>
                  <a:lnTo>
                    <a:pt x="19327" y="2664"/>
                  </a:lnTo>
                  <a:lnTo>
                    <a:pt x="19559" y="2664"/>
                  </a:lnTo>
                  <a:lnTo>
                    <a:pt x="19559" y="2664"/>
                  </a:lnTo>
                  <a:lnTo>
                    <a:pt x="19559" y="2780"/>
                  </a:lnTo>
                  <a:lnTo>
                    <a:pt x="19559" y="3011"/>
                  </a:lnTo>
                  <a:lnTo>
                    <a:pt x="19559" y="3127"/>
                  </a:lnTo>
                  <a:lnTo>
                    <a:pt x="19443" y="3359"/>
                  </a:lnTo>
                  <a:lnTo>
                    <a:pt x="19443" y="3474"/>
                  </a:lnTo>
                  <a:lnTo>
                    <a:pt x="19559" y="3590"/>
                  </a:lnTo>
                  <a:lnTo>
                    <a:pt x="19674" y="3706"/>
                  </a:lnTo>
                  <a:lnTo>
                    <a:pt x="19790" y="3822"/>
                  </a:lnTo>
                  <a:lnTo>
                    <a:pt x="19790" y="3822"/>
                  </a:lnTo>
                  <a:lnTo>
                    <a:pt x="19906" y="3822"/>
                  </a:lnTo>
                  <a:lnTo>
                    <a:pt x="20022" y="3822"/>
                  </a:lnTo>
                  <a:lnTo>
                    <a:pt x="20137" y="3822"/>
                  </a:lnTo>
                  <a:lnTo>
                    <a:pt x="20253" y="3822"/>
                  </a:lnTo>
                  <a:lnTo>
                    <a:pt x="20369" y="3706"/>
                  </a:lnTo>
                  <a:lnTo>
                    <a:pt x="20484" y="3706"/>
                  </a:lnTo>
                  <a:lnTo>
                    <a:pt x="20600" y="3590"/>
                  </a:lnTo>
                  <a:lnTo>
                    <a:pt x="20716" y="3590"/>
                  </a:lnTo>
                  <a:lnTo>
                    <a:pt x="20716" y="3590"/>
                  </a:lnTo>
                  <a:lnTo>
                    <a:pt x="20600" y="3474"/>
                  </a:lnTo>
                  <a:lnTo>
                    <a:pt x="20600" y="3359"/>
                  </a:lnTo>
                  <a:lnTo>
                    <a:pt x="20716" y="3243"/>
                  </a:lnTo>
                  <a:lnTo>
                    <a:pt x="20716" y="3127"/>
                  </a:lnTo>
                  <a:lnTo>
                    <a:pt x="20832" y="3127"/>
                  </a:lnTo>
                  <a:lnTo>
                    <a:pt x="20832" y="3011"/>
                  </a:lnTo>
                  <a:lnTo>
                    <a:pt x="20947" y="2895"/>
                  </a:lnTo>
                  <a:lnTo>
                    <a:pt x="20947" y="2780"/>
                  </a:lnTo>
                  <a:lnTo>
                    <a:pt x="20947" y="2780"/>
                  </a:lnTo>
                  <a:lnTo>
                    <a:pt x="20947" y="2895"/>
                  </a:lnTo>
                  <a:lnTo>
                    <a:pt x="20947" y="3011"/>
                  </a:lnTo>
                  <a:lnTo>
                    <a:pt x="20947" y="3127"/>
                  </a:lnTo>
                  <a:lnTo>
                    <a:pt x="20947" y="3359"/>
                  </a:lnTo>
                  <a:lnTo>
                    <a:pt x="20832" y="3474"/>
                  </a:lnTo>
                  <a:lnTo>
                    <a:pt x="20832" y="3590"/>
                  </a:lnTo>
                  <a:lnTo>
                    <a:pt x="20832" y="3706"/>
                  </a:lnTo>
                  <a:lnTo>
                    <a:pt x="20832" y="3822"/>
                  </a:lnTo>
                  <a:lnTo>
                    <a:pt x="20832" y="3822"/>
                  </a:lnTo>
                  <a:lnTo>
                    <a:pt x="20947" y="3938"/>
                  </a:lnTo>
                  <a:lnTo>
                    <a:pt x="20947" y="3938"/>
                  </a:lnTo>
                  <a:lnTo>
                    <a:pt x="21063" y="4053"/>
                  </a:lnTo>
                  <a:lnTo>
                    <a:pt x="21179" y="4053"/>
                  </a:lnTo>
                  <a:lnTo>
                    <a:pt x="21295" y="4053"/>
                  </a:lnTo>
                  <a:lnTo>
                    <a:pt x="21295" y="4053"/>
                  </a:lnTo>
                  <a:lnTo>
                    <a:pt x="21410" y="4053"/>
                  </a:lnTo>
                  <a:lnTo>
                    <a:pt x="21526" y="4053"/>
                  </a:lnTo>
                  <a:lnTo>
                    <a:pt x="21526" y="4053"/>
                  </a:lnTo>
                  <a:lnTo>
                    <a:pt x="21642" y="3938"/>
                  </a:lnTo>
                  <a:lnTo>
                    <a:pt x="21642" y="3822"/>
                  </a:lnTo>
                  <a:lnTo>
                    <a:pt x="21758" y="3706"/>
                  </a:lnTo>
                  <a:lnTo>
                    <a:pt x="21873" y="3590"/>
                  </a:lnTo>
                  <a:lnTo>
                    <a:pt x="21989" y="3474"/>
                  </a:lnTo>
                  <a:lnTo>
                    <a:pt x="22105" y="3359"/>
                  </a:lnTo>
                  <a:lnTo>
                    <a:pt x="22105" y="3243"/>
                  </a:lnTo>
                  <a:lnTo>
                    <a:pt x="22220" y="3011"/>
                  </a:lnTo>
                  <a:lnTo>
                    <a:pt x="22220" y="3011"/>
                  </a:lnTo>
                  <a:lnTo>
                    <a:pt x="22105" y="3127"/>
                  </a:lnTo>
                  <a:lnTo>
                    <a:pt x="22105" y="3243"/>
                  </a:lnTo>
                  <a:lnTo>
                    <a:pt x="22105" y="3359"/>
                  </a:lnTo>
                  <a:lnTo>
                    <a:pt x="22105" y="3474"/>
                  </a:lnTo>
                  <a:lnTo>
                    <a:pt x="22105" y="3590"/>
                  </a:lnTo>
                  <a:lnTo>
                    <a:pt x="22105" y="3706"/>
                  </a:lnTo>
                  <a:lnTo>
                    <a:pt x="22105" y="3822"/>
                  </a:lnTo>
                  <a:lnTo>
                    <a:pt x="22220" y="3938"/>
                  </a:lnTo>
                  <a:lnTo>
                    <a:pt x="22220" y="3938"/>
                  </a:lnTo>
                  <a:lnTo>
                    <a:pt x="22336" y="4053"/>
                  </a:lnTo>
                  <a:lnTo>
                    <a:pt x="22452" y="4169"/>
                  </a:lnTo>
                  <a:lnTo>
                    <a:pt x="22568" y="4169"/>
                  </a:lnTo>
                  <a:lnTo>
                    <a:pt x="22683" y="4053"/>
                  </a:lnTo>
                  <a:lnTo>
                    <a:pt x="22799" y="3938"/>
                  </a:lnTo>
                  <a:lnTo>
                    <a:pt x="22915" y="3822"/>
                  </a:lnTo>
                  <a:lnTo>
                    <a:pt x="23031" y="3822"/>
                  </a:lnTo>
                  <a:lnTo>
                    <a:pt x="23146" y="3822"/>
                  </a:lnTo>
                  <a:lnTo>
                    <a:pt x="23146" y="3822"/>
                  </a:lnTo>
                  <a:lnTo>
                    <a:pt x="23146" y="3938"/>
                  </a:lnTo>
                  <a:lnTo>
                    <a:pt x="23146" y="3938"/>
                  </a:lnTo>
                  <a:lnTo>
                    <a:pt x="23146" y="4053"/>
                  </a:lnTo>
                  <a:lnTo>
                    <a:pt x="23146" y="4169"/>
                  </a:lnTo>
                  <a:lnTo>
                    <a:pt x="23146" y="4285"/>
                  </a:lnTo>
                  <a:lnTo>
                    <a:pt x="23262" y="4285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841" y="4285"/>
                  </a:lnTo>
                  <a:lnTo>
                    <a:pt x="23841" y="4285"/>
                  </a:lnTo>
                  <a:lnTo>
                    <a:pt x="23378" y="5906"/>
                  </a:lnTo>
                  <a:lnTo>
                    <a:pt x="22799" y="7528"/>
                  </a:lnTo>
                  <a:lnTo>
                    <a:pt x="22452" y="9265"/>
                  </a:lnTo>
                  <a:lnTo>
                    <a:pt x="21989" y="11002"/>
                  </a:lnTo>
                  <a:lnTo>
                    <a:pt x="21642" y="12739"/>
                  </a:lnTo>
                  <a:lnTo>
                    <a:pt x="21410" y="14476"/>
                  </a:lnTo>
                  <a:lnTo>
                    <a:pt x="21179" y="16213"/>
                  </a:lnTo>
                  <a:lnTo>
                    <a:pt x="21063" y="17951"/>
                  </a:lnTo>
                  <a:lnTo>
                    <a:pt x="21063" y="17951"/>
                  </a:lnTo>
                  <a:lnTo>
                    <a:pt x="18517" y="18414"/>
                  </a:lnTo>
                  <a:lnTo>
                    <a:pt x="15971" y="18877"/>
                  </a:lnTo>
                  <a:lnTo>
                    <a:pt x="13541" y="19456"/>
                  </a:lnTo>
                  <a:lnTo>
                    <a:pt x="11110" y="20035"/>
                  </a:lnTo>
                  <a:lnTo>
                    <a:pt x="8564" y="20614"/>
                  </a:lnTo>
                  <a:lnTo>
                    <a:pt x="6134" y="21077"/>
                  </a:lnTo>
                  <a:lnTo>
                    <a:pt x="3588" y="21656"/>
                  </a:lnTo>
                  <a:lnTo>
                    <a:pt x="926" y="22004"/>
                  </a:lnTo>
                  <a:lnTo>
                    <a:pt x="926" y="22004"/>
                  </a:lnTo>
                  <a:lnTo>
                    <a:pt x="1041" y="21888"/>
                  </a:lnTo>
                  <a:lnTo>
                    <a:pt x="1041" y="21656"/>
                  </a:lnTo>
                  <a:lnTo>
                    <a:pt x="1041" y="21541"/>
                  </a:lnTo>
                  <a:lnTo>
                    <a:pt x="1041" y="21309"/>
                  </a:lnTo>
                  <a:lnTo>
                    <a:pt x="1041" y="21193"/>
                  </a:lnTo>
                  <a:lnTo>
                    <a:pt x="926" y="20962"/>
                  </a:lnTo>
                  <a:lnTo>
                    <a:pt x="926" y="20730"/>
                  </a:lnTo>
                  <a:lnTo>
                    <a:pt x="926" y="20614"/>
                  </a:lnTo>
                  <a:lnTo>
                    <a:pt x="926" y="20614"/>
                  </a:lnTo>
                  <a:lnTo>
                    <a:pt x="810" y="20498"/>
                  </a:lnTo>
                  <a:lnTo>
                    <a:pt x="694" y="20383"/>
                  </a:lnTo>
                  <a:lnTo>
                    <a:pt x="579" y="20267"/>
                  </a:lnTo>
                  <a:lnTo>
                    <a:pt x="463" y="20267"/>
                  </a:lnTo>
                  <a:lnTo>
                    <a:pt x="347" y="20151"/>
                  </a:lnTo>
                  <a:lnTo>
                    <a:pt x="231" y="20151"/>
                  </a:lnTo>
                  <a:lnTo>
                    <a:pt x="116" y="20035"/>
                  </a:lnTo>
                  <a:lnTo>
                    <a:pt x="0" y="20035"/>
                  </a:lnTo>
                  <a:lnTo>
                    <a:pt x="0" y="20035"/>
                  </a:lnTo>
                  <a:lnTo>
                    <a:pt x="347" y="17603"/>
                  </a:lnTo>
                  <a:lnTo>
                    <a:pt x="694" y="15055"/>
                  </a:lnTo>
                  <a:lnTo>
                    <a:pt x="1273" y="12623"/>
                  </a:lnTo>
                  <a:lnTo>
                    <a:pt x="1852" y="10076"/>
                  </a:lnTo>
                  <a:lnTo>
                    <a:pt x="2430" y="7644"/>
                  </a:lnTo>
                  <a:lnTo>
                    <a:pt x="2893" y="5096"/>
                  </a:lnTo>
                  <a:lnTo>
                    <a:pt x="3472" y="2548"/>
                  </a:lnTo>
                  <a:lnTo>
                    <a:pt x="3935" y="0"/>
                  </a:lnTo>
                  <a:lnTo>
                    <a:pt x="3935" y="0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073160" y="3094200"/>
              <a:ext cx="119160" cy="845280"/>
            </a:xfrm>
            <a:custGeom>
              <a:avLst/>
              <a:gdLst/>
              <a:ahLst/>
              <a:rect l="l" t="t" r="r" b="b"/>
              <a:pathLst>
                <a:path w="3125" h="15750">
                  <a:moveTo>
                    <a:pt x="3125" y="0"/>
                  </a:moveTo>
                  <a:lnTo>
                    <a:pt x="3125" y="347"/>
                  </a:lnTo>
                  <a:lnTo>
                    <a:pt x="3125" y="811"/>
                  </a:lnTo>
                  <a:lnTo>
                    <a:pt x="3009" y="1274"/>
                  </a:lnTo>
                  <a:lnTo>
                    <a:pt x="2894" y="1737"/>
                  </a:lnTo>
                  <a:lnTo>
                    <a:pt x="2894" y="2084"/>
                  </a:lnTo>
                  <a:lnTo>
                    <a:pt x="2778" y="2548"/>
                  </a:lnTo>
                  <a:lnTo>
                    <a:pt x="2662" y="2895"/>
                  </a:lnTo>
                  <a:lnTo>
                    <a:pt x="2546" y="3358"/>
                  </a:lnTo>
                  <a:lnTo>
                    <a:pt x="2546" y="3358"/>
                  </a:lnTo>
                  <a:lnTo>
                    <a:pt x="2199" y="4748"/>
                  </a:lnTo>
                  <a:lnTo>
                    <a:pt x="1968" y="6138"/>
                  </a:lnTo>
                  <a:lnTo>
                    <a:pt x="1736" y="7528"/>
                  </a:lnTo>
                  <a:lnTo>
                    <a:pt x="1389" y="8917"/>
                  </a:lnTo>
                  <a:lnTo>
                    <a:pt x="1158" y="10307"/>
                  </a:lnTo>
                  <a:lnTo>
                    <a:pt x="926" y="11812"/>
                  </a:lnTo>
                  <a:lnTo>
                    <a:pt x="695" y="13086"/>
                  </a:lnTo>
                  <a:lnTo>
                    <a:pt x="463" y="14476"/>
                  </a:lnTo>
                  <a:lnTo>
                    <a:pt x="463" y="14476"/>
                  </a:lnTo>
                  <a:lnTo>
                    <a:pt x="348" y="14592"/>
                  </a:lnTo>
                  <a:lnTo>
                    <a:pt x="348" y="14824"/>
                  </a:lnTo>
                  <a:lnTo>
                    <a:pt x="348" y="14939"/>
                  </a:lnTo>
                  <a:lnTo>
                    <a:pt x="348" y="15055"/>
                  </a:lnTo>
                  <a:lnTo>
                    <a:pt x="232" y="15287"/>
                  </a:lnTo>
                  <a:lnTo>
                    <a:pt x="232" y="15403"/>
                  </a:lnTo>
                  <a:lnTo>
                    <a:pt x="232" y="15518"/>
                  </a:lnTo>
                  <a:lnTo>
                    <a:pt x="232" y="15750"/>
                  </a:lnTo>
                  <a:lnTo>
                    <a:pt x="232" y="15750"/>
                  </a:lnTo>
                  <a:lnTo>
                    <a:pt x="0" y="15750"/>
                  </a:lnTo>
                  <a:lnTo>
                    <a:pt x="0" y="15750"/>
                  </a:lnTo>
                  <a:lnTo>
                    <a:pt x="116" y="14824"/>
                  </a:lnTo>
                  <a:lnTo>
                    <a:pt x="348" y="14013"/>
                  </a:lnTo>
                  <a:lnTo>
                    <a:pt x="463" y="13086"/>
                  </a:lnTo>
                  <a:lnTo>
                    <a:pt x="579" y="12276"/>
                  </a:lnTo>
                  <a:lnTo>
                    <a:pt x="695" y="11349"/>
                  </a:lnTo>
                  <a:lnTo>
                    <a:pt x="810" y="10423"/>
                  </a:lnTo>
                  <a:lnTo>
                    <a:pt x="926" y="9612"/>
                  </a:lnTo>
                  <a:lnTo>
                    <a:pt x="1042" y="8686"/>
                  </a:lnTo>
                  <a:lnTo>
                    <a:pt x="1042" y="8686"/>
                  </a:lnTo>
                  <a:lnTo>
                    <a:pt x="1273" y="7643"/>
                  </a:lnTo>
                  <a:lnTo>
                    <a:pt x="1505" y="6601"/>
                  </a:lnTo>
                  <a:lnTo>
                    <a:pt x="1736" y="5559"/>
                  </a:lnTo>
                  <a:lnTo>
                    <a:pt x="1968" y="4516"/>
                  </a:lnTo>
                  <a:lnTo>
                    <a:pt x="2199" y="3358"/>
                  </a:lnTo>
                  <a:lnTo>
                    <a:pt x="2431" y="2316"/>
                  </a:lnTo>
                  <a:lnTo>
                    <a:pt x="2662" y="1274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095120" y="3094200"/>
              <a:ext cx="128160" cy="864000"/>
            </a:xfrm>
            <a:custGeom>
              <a:avLst/>
              <a:gdLst/>
              <a:ahLst/>
              <a:rect l="l" t="t" r="r" b="b"/>
              <a:pathLst>
                <a:path w="3356" h="16097">
                  <a:moveTo>
                    <a:pt x="3356" y="0"/>
                  </a:moveTo>
                  <a:lnTo>
                    <a:pt x="3125" y="1390"/>
                  </a:lnTo>
                  <a:lnTo>
                    <a:pt x="2893" y="2779"/>
                  </a:lnTo>
                  <a:lnTo>
                    <a:pt x="2662" y="4053"/>
                  </a:lnTo>
                  <a:lnTo>
                    <a:pt x="2315" y="5443"/>
                  </a:lnTo>
                  <a:lnTo>
                    <a:pt x="2083" y="6833"/>
                  </a:lnTo>
                  <a:lnTo>
                    <a:pt x="1736" y="8107"/>
                  </a:lnTo>
                  <a:lnTo>
                    <a:pt x="1505" y="9496"/>
                  </a:lnTo>
                  <a:lnTo>
                    <a:pt x="1273" y="10770"/>
                  </a:lnTo>
                  <a:lnTo>
                    <a:pt x="1273" y="10770"/>
                  </a:lnTo>
                  <a:lnTo>
                    <a:pt x="1157" y="11002"/>
                  </a:lnTo>
                  <a:lnTo>
                    <a:pt x="1157" y="11233"/>
                  </a:lnTo>
                  <a:lnTo>
                    <a:pt x="1042" y="11465"/>
                  </a:lnTo>
                  <a:lnTo>
                    <a:pt x="1042" y="11697"/>
                  </a:lnTo>
                  <a:lnTo>
                    <a:pt x="926" y="11928"/>
                  </a:lnTo>
                  <a:lnTo>
                    <a:pt x="926" y="12276"/>
                  </a:lnTo>
                  <a:lnTo>
                    <a:pt x="926" y="12507"/>
                  </a:lnTo>
                  <a:lnTo>
                    <a:pt x="810" y="12739"/>
                  </a:lnTo>
                  <a:lnTo>
                    <a:pt x="810" y="12739"/>
                  </a:lnTo>
                  <a:lnTo>
                    <a:pt x="926" y="13086"/>
                  </a:lnTo>
                  <a:lnTo>
                    <a:pt x="810" y="13550"/>
                  </a:lnTo>
                  <a:lnTo>
                    <a:pt x="810" y="13897"/>
                  </a:lnTo>
                  <a:lnTo>
                    <a:pt x="694" y="14360"/>
                  </a:lnTo>
                  <a:lnTo>
                    <a:pt x="579" y="14824"/>
                  </a:lnTo>
                  <a:lnTo>
                    <a:pt x="463" y="15171"/>
                  </a:lnTo>
                  <a:lnTo>
                    <a:pt x="463" y="15634"/>
                  </a:lnTo>
                  <a:lnTo>
                    <a:pt x="463" y="16097"/>
                  </a:lnTo>
                  <a:lnTo>
                    <a:pt x="463" y="16097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347" y="13897"/>
                  </a:lnTo>
                  <a:lnTo>
                    <a:pt x="694" y="11928"/>
                  </a:lnTo>
                  <a:lnTo>
                    <a:pt x="1042" y="9960"/>
                  </a:lnTo>
                  <a:lnTo>
                    <a:pt x="1389" y="7875"/>
                  </a:lnTo>
                  <a:lnTo>
                    <a:pt x="1852" y="5906"/>
                  </a:lnTo>
                  <a:lnTo>
                    <a:pt x="2199" y="3937"/>
                  </a:lnTo>
                  <a:lnTo>
                    <a:pt x="2546" y="1969"/>
                  </a:lnTo>
                  <a:lnTo>
                    <a:pt x="2893" y="0"/>
                  </a:lnTo>
                  <a:lnTo>
                    <a:pt x="2893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240" y="0"/>
                  </a:lnTo>
                  <a:lnTo>
                    <a:pt x="3240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104120" y="3094200"/>
              <a:ext cx="154800" cy="1087920"/>
            </a:xfrm>
            <a:custGeom>
              <a:avLst/>
              <a:gdLst/>
              <a:ahLst/>
              <a:rect l="l" t="t" r="r" b="b"/>
              <a:pathLst>
                <a:path w="4051" h="20267">
                  <a:moveTo>
                    <a:pt x="3704" y="116"/>
                  </a:moveTo>
                  <a:lnTo>
                    <a:pt x="3935" y="0"/>
                  </a:lnTo>
                  <a:lnTo>
                    <a:pt x="4051" y="232"/>
                  </a:lnTo>
                  <a:lnTo>
                    <a:pt x="4051" y="232"/>
                  </a:lnTo>
                  <a:lnTo>
                    <a:pt x="3588" y="2779"/>
                  </a:lnTo>
                  <a:lnTo>
                    <a:pt x="3009" y="5211"/>
                  </a:lnTo>
                  <a:lnTo>
                    <a:pt x="2547" y="7643"/>
                  </a:lnTo>
                  <a:lnTo>
                    <a:pt x="1968" y="10075"/>
                  </a:lnTo>
                  <a:lnTo>
                    <a:pt x="1389" y="12623"/>
                  </a:lnTo>
                  <a:lnTo>
                    <a:pt x="926" y="15055"/>
                  </a:lnTo>
                  <a:lnTo>
                    <a:pt x="579" y="17603"/>
                  </a:lnTo>
                  <a:lnTo>
                    <a:pt x="348" y="20035"/>
                  </a:lnTo>
                  <a:lnTo>
                    <a:pt x="348" y="20035"/>
                  </a:lnTo>
                  <a:lnTo>
                    <a:pt x="348" y="20151"/>
                  </a:lnTo>
                  <a:lnTo>
                    <a:pt x="232" y="20151"/>
                  </a:lnTo>
                  <a:lnTo>
                    <a:pt x="232" y="20151"/>
                  </a:lnTo>
                  <a:lnTo>
                    <a:pt x="116" y="20151"/>
                  </a:lnTo>
                  <a:lnTo>
                    <a:pt x="116" y="20151"/>
                  </a:lnTo>
                  <a:lnTo>
                    <a:pt x="116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348" y="18761"/>
                  </a:lnTo>
                  <a:lnTo>
                    <a:pt x="579" y="17140"/>
                  </a:lnTo>
                  <a:lnTo>
                    <a:pt x="695" y="15634"/>
                  </a:lnTo>
                  <a:lnTo>
                    <a:pt x="926" y="14129"/>
                  </a:lnTo>
                  <a:lnTo>
                    <a:pt x="1042" y="12507"/>
                  </a:lnTo>
                  <a:lnTo>
                    <a:pt x="1158" y="11002"/>
                  </a:lnTo>
                  <a:lnTo>
                    <a:pt x="1505" y="9496"/>
                  </a:lnTo>
                  <a:lnTo>
                    <a:pt x="1852" y="7991"/>
                  </a:lnTo>
                  <a:lnTo>
                    <a:pt x="1852" y="7991"/>
                  </a:lnTo>
                  <a:lnTo>
                    <a:pt x="1968" y="6948"/>
                  </a:lnTo>
                  <a:lnTo>
                    <a:pt x="2199" y="5906"/>
                  </a:lnTo>
                  <a:lnTo>
                    <a:pt x="2431" y="4980"/>
                  </a:lnTo>
                  <a:lnTo>
                    <a:pt x="2778" y="4053"/>
                  </a:lnTo>
                  <a:lnTo>
                    <a:pt x="3009" y="3011"/>
                  </a:lnTo>
                  <a:lnTo>
                    <a:pt x="3241" y="2084"/>
                  </a:lnTo>
                  <a:lnTo>
                    <a:pt x="3472" y="1042"/>
                  </a:lnTo>
                  <a:lnTo>
                    <a:pt x="3588" y="0"/>
                  </a:lnTo>
                  <a:lnTo>
                    <a:pt x="3588" y="0"/>
                  </a:lnTo>
                  <a:lnTo>
                    <a:pt x="3704" y="0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794240" y="3106800"/>
              <a:ext cx="61920" cy="142920"/>
            </a:xfrm>
            <a:custGeom>
              <a:avLst/>
              <a:gdLst/>
              <a:ahLst/>
              <a:rect l="l" t="t" r="r" b="b"/>
              <a:pathLst>
                <a:path w="1620" h="2663">
                  <a:moveTo>
                    <a:pt x="1620" y="810"/>
                  </a:moveTo>
                  <a:lnTo>
                    <a:pt x="1620" y="1042"/>
                  </a:lnTo>
                  <a:lnTo>
                    <a:pt x="1620" y="1158"/>
                  </a:lnTo>
                  <a:lnTo>
                    <a:pt x="1620" y="1389"/>
                  </a:lnTo>
                  <a:lnTo>
                    <a:pt x="1620" y="1621"/>
                  </a:lnTo>
                  <a:lnTo>
                    <a:pt x="1620" y="1852"/>
                  </a:lnTo>
                  <a:lnTo>
                    <a:pt x="1504" y="1968"/>
                  </a:lnTo>
                  <a:lnTo>
                    <a:pt x="1388" y="2200"/>
                  </a:lnTo>
                  <a:lnTo>
                    <a:pt x="1388" y="2316"/>
                  </a:lnTo>
                  <a:lnTo>
                    <a:pt x="1388" y="2316"/>
                  </a:lnTo>
                  <a:lnTo>
                    <a:pt x="1273" y="2432"/>
                  </a:lnTo>
                  <a:lnTo>
                    <a:pt x="1157" y="2432"/>
                  </a:lnTo>
                  <a:lnTo>
                    <a:pt x="1157" y="2547"/>
                  </a:lnTo>
                  <a:lnTo>
                    <a:pt x="1041" y="2547"/>
                  </a:lnTo>
                  <a:lnTo>
                    <a:pt x="1041" y="2663"/>
                  </a:lnTo>
                  <a:lnTo>
                    <a:pt x="926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926" y="2432"/>
                  </a:lnTo>
                  <a:lnTo>
                    <a:pt x="926" y="2200"/>
                  </a:lnTo>
                  <a:lnTo>
                    <a:pt x="1041" y="1968"/>
                  </a:lnTo>
                  <a:lnTo>
                    <a:pt x="1157" y="1737"/>
                  </a:lnTo>
                  <a:lnTo>
                    <a:pt x="1157" y="1505"/>
                  </a:lnTo>
                  <a:lnTo>
                    <a:pt x="1157" y="1158"/>
                  </a:lnTo>
                  <a:lnTo>
                    <a:pt x="1041" y="926"/>
                  </a:lnTo>
                  <a:lnTo>
                    <a:pt x="1041" y="694"/>
                  </a:lnTo>
                  <a:lnTo>
                    <a:pt x="1041" y="694"/>
                  </a:lnTo>
                  <a:lnTo>
                    <a:pt x="926" y="579"/>
                  </a:lnTo>
                  <a:lnTo>
                    <a:pt x="810" y="463"/>
                  </a:lnTo>
                  <a:lnTo>
                    <a:pt x="694" y="347"/>
                  </a:lnTo>
                  <a:lnTo>
                    <a:pt x="578" y="347"/>
                  </a:lnTo>
                  <a:lnTo>
                    <a:pt x="463" y="231"/>
                  </a:lnTo>
                  <a:lnTo>
                    <a:pt x="231" y="231"/>
                  </a:lnTo>
                  <a:lnTo>
                    <a:pt x="115" y="231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5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5"/>
                  </a:lnTo>
                  <a:lnTo>
                    <a:pt x="1273" y="347"/>
                  </a:lnTo>
                  <a:lnTo>
                    <a:pt x="1504" y="579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69480" y="3125520"/>
              <a:ext cx="43920" cy="136800"/>
            </a:xfrm>
            <a:custGeom>
              <a:avLst/>
              <a:gdLst/>
              <a:ahLst/>
              <a:rect l="l" t="t" r="r" b="b"/>
              <a:pathLst>
                <a:path w="1157" h="2548">
                  <a:moveTo>
                    <a:pt x="1042" y="811"/>
                  </a:moveTo>
                  <a:lnTo>
                    <a:pt x="1042" y="926"/>
                  </a:lnTo>
                  <a:lnTo>
                    <a:pt x="1157" y="1158"/>
                  </a:lnTo>
                  <a:lnTo>
                    <a:pt x="1157" y="1274"/>
                  </a:lnTo>
                  <a:lnTo>
                    <a:pt x="1157" y="1505"/>
                  </a:lnTo>
                  <a:lnTo>
                    <a:pt x="1157" y="1621"/>
                  </a:lnTo>
                  <a:lnTo>
                    <a:pt x="1157" y="1853"/>
                  </a:lnTo>
                  <a:lnTo>
                    <a:pt x="1157" y="1969"/>
                  </a:lnTo>
                  <a:lnTo>
                    <a:pt x="1042" y="2200"/>
                  </a:lnTo>
                  <a:lnTo>
                    <a:pt x="1042" y="2200"/>
                  </a:lnTo>
                  <a:lnTo>
                    <a:pt x="695" y="2548"/>
                  </a:lnTo>
                  <a:lnTo>
                    <a:pt x="695" y="2548"/>
                  </a:lnTo>
                  <a:lnTo>
                    <a:pt x="695" y="2200"/>
                  </a:lnTo>
                  <a:lnTo>
                    <a:pt x="695" y="1969"/>
                  </a:lnTo>
                  <a:lnTo>
                    <a:pt x="810" y="1621"/>
                  </a:lnTo>
                  <a:lnTo>
                    <a:pt x="810" y="1274"/>
                  </a:lnTo>
                  <a:lnTo>
                    <a:pt x="810" y="1042"/>
                  </a:lnTo>
                  <a:lnTo>
                    <a:pt x="695" y="811"/>
                  </a:lnTo>
                  <a:lnTo>
                    <a:pt x="463" y="579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810" y="347"/>
                  </a:lnTo>
                  <a:lnTo>
                    <a:pt x="926" y="463"/>
                  </a:lnTo>
                  <a:lnTo>
                    <a:pt x="926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922400" y="3137760"/>
              <a:ext cx="43920" cy="130320"/>
            </a:xfrm>
            <a:custGeom>
              <a:avLst/>
              <a:gdLst/>
              <a:ahLst/>
              <a:rect l="l" t="t" r="r" b="b"/>
              <a:pathLst>
                <a:path w="1157" h="2432">
                  <a:moveTo>
                    <a:pt x="1157" y="926"/>
                  </a:moveTo>
                  <a:lnTo>
                    <a:pt x="1157" y="1158"/>
                  </a:lnTo>
                  <a:lnTo>
                    <a:pt x="1157" y="1389"/>
                  </a:lnTo>
                  <a:lnTo>
                    <a:pt x="1157" y="1505"/>
                  </a:lnTo>
                  <a:lnTo>
                    <a:pt x="1157" y="1737"/>
                  </a:lnTo>
                  <a:lnTo>
                    <a:pt x="1042" y="1968"/>
                  </a:lnTo>
                  <a:lnTo>
                    <a:pt x="926" y="2200"/>
                  </a:lnTo>
                  <a:lnTo>
                    <a:pt x="810" y="2316"/>
                  </a:lnTo>
                  <a:lnTo>
                    <a:pt x="579" y="2432"/>
                  </a:lnTo>
                  <a:lnTo>
                    <a:pt x="579" y="2432"/>
                  </a:lnTo>
                  <a:lnTo>
                    <a:pt x="694" y="2316"/>
                  </a:lnTo>
                  <a:lnTo>
                    <a:pt x="694" y="2200"/>
                  </a:lnTo>
                  <a:lnTo>
                    <a:pt x="694" y="1968"/>
                  </a:lnTo>
                  <a:lnTo>
                    <a:pt x="810" y="1853"/>
                  </a:lnTo>
                  <a:lnTo>
                    <a:pt x="810" y="1621"/>
                  </a:lnTo>
                  <a:lnTo>
                    <a:pt x="926" y="1389"/>
                  </a:lnTo>
                  <a:lnTo>
                    <a:pt x="926" y="1273"/>
                  </a:lnTo>
                  <a:lnTo>
                    <a:pt x="810" y="1042"/>
                  </a:lnTo>
                  <a:lnTo>
                    <a:pt x="810" y="1042"/>
                  </a:lnTo>
                  <a:lnTo>
                    <a:pt x="810" y="926"/>
                  </a:lnTo>
                  <a:lnTo>
                    <a:pt x="694" y="810"/>
                  </a:lnTo>
                  <a:lnTo>
                    <a:pt x="463" y="694"/>
                  </a:lnTo>
                  <a:lnTo>
                    <a:pt x="347" y="579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23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7" y="0"/>
                  </a:lnTo>
                  <a:lnTo>
                    <a:pt x="579" y="115"/>
                  </a:lnTo>
                  <a:lnTo>
                    <a:pt x="694" y="231"/>
                  </a:lnTo>
                  <a:lnTo>
                    <a:pt x="810" y="347"/>
                  </a:lnTo>
                  <a:lnTo>
                    <a:pt x="926" y="579"/>
                  </a:lnTo>
                  <a:lnTo>
                    <a:pt x="1042" y="810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84320" y="3156480"/>
              <a:ext cx="30960" cy="111600"/>
            </a:xfrm>
            <a:custGeom>
              <a:avLst/>
              <a:gdLst/>
              <a:ahLst/>
              <a:rect l="l" t="t" r="r" b="b"/>
              <a:pathLst>
                <a:path w="810" h="2085">
                  <a:moveTo>
                    <a:pt x="810" y="579"/>
                  </a:moveTo>
                  <a:lnTo>
                    <a:pt x="810" y="811"/>
                  </a:lnTo>
                  <a:lnTo>
                    <a:pt x="810" y="1042"/>
                  </a:lnTo>
                  <a:lnTo>
                    <a:pt x="810" y="1158"/>
                  </a:lnTo>
                  <a:lnTo>
                    <a:pt x="810" y="1390"/>
                  </a:lnTo>
                  <a:lnTo>
                    <a:pt x="695" y="1621"/>
                  </a:lnTo>
                  <a:lnTo>
                    <a:pt x="695" y="1737"/>
                  </a:lnTo>
                  <a:lnTo>
                    <a:pt x="579" y="1969"/>
                  </a:lnTo>
                  <a:lnTo>
                    <a:pt x="347" y="2085"/>
                  </a:lnTo>
                  <a:lnTo>
                    <a:pt x="347" y="2085"/>
                  </a:lnTo>
                  <a:lnTo>
                    <a:pt x="463" y="1969"/>
                  </a:lnTo>
                  <a:lnTo>
                    <a:pt x="463" y="1737"/>
                  </a:lnTo>
                  <a:lnTo>
                    <a:pt x="579" y="1506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1"/>
                  </a:lnTo>
                  <a:lnTo>
                    <a:pt x="579" y="579"/>
                  </a:lnTo>
                  <a:lnTo>
                    <a:pt x="347" y="347"/>
                  </a:lnTo>
                  <a:lnTo>
                    <a:pt x="347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2" y="0"/>
                  </a:lnTo>
                  <a:lnTo>
                    <a:pt x="347" y="0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695" y="347"/>
                  </a:lnTo>
                  <a:lnTo>
                    <a:pt x="695" y="463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028600" y="3169080"/>
              <a:ext cx="39600" cy="118080"/>
            </a:xfrm>
            <a:custGeom>
              <a:avLst/>
              <a:gdLst/>
              <a:ahLst/>
              <a:rect l="l" t="t" r="r" b="b"/>
              <a:pathLst>
                <a:path w="1042" h="2200">
                  <a:moveTo>
                    <a:pt x="1042" y="694"/>
                  </a:moveTo>
                  <a:lnTo>
                    <a:pt x="1042" y="926"/>
                  </a:lnTo>
                  <a:lnTo>
                    <a:pt x="1042" y="1042"/>
                  </a:lnTo>
                  <a:lnTo>
                    <a:pt x="1042" y="1274"/>
                  </a:lnTo>
                  <a:lnTo>
                    <a:pt x="926" y="1505"/>
                  </a:lnTo>
                  <a:lnTo>
                    <a:pt x="926" y="1737"/>
                  </a:lnTo>
                  <a:lnTo>
                    <a:pt x="811" y="1853"/>
                  </a:lnTo>
                  <a:lnTo>
                    <a:pt x="579" y="2084"/>
                  </a:lnTo>
                  <a:lnTo>
                    <a:pt x="463" y="2200"/>
                  </a:lnTo>
                  <a:lnTo>
                    <a:pt x="463" y="2200"/>
                  </a:lnTo>
                  <a:lnTo>
                    <a:pt x="116" y="2200"/>
                  </a:lnTo>
                  <a:lnTo>
                    <a:pt x="116" y="2200"/>
                  </a:lnTo>
                  <a:lnTo>
                    <a:pt x="232" y="1968"/>
                  </a:lnTo>
                  <a:lnTo>
                    <a:pt x="348" y="1737"/>
                  </a:lnTo>
                  <a:lnTo>
                    <a:pt x="463" y="1621"/>
                  </a:lnTo>
                  <a:lnTo>
                    <a:pt x="463" y="1389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0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8" y="0"/>
                  </a:lnTo>
                  <a:lnTo>
                    <a:pt x="463" y="0"/>
                  </a:lnTo>
                  <a:lnTo>
                    <a:pt x="579" y="115"/>
                  </a:lnTo>
                  <a:lnTo>
                    <a:pt x="811" y="231"/>
                  </a:lnTo>
                  <a:lnTo>
                    <a:pt x="926" y="347"/>
                  </a:lnTo>
                  <a:lnTo>
                    <a:pt x="1042" y="579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396080" y="3312000"/>
              <a:ext cx="238680" cy="397800"/>
            </a:xfrm>
            <a:custGeom>
              <a:avLst/>
              <a:gdLst/>
              <a:ahLst/>
              <a:rect l="l" t="t" r="r" b="b"/>
              <a:pathLst>
                <a:path w="6249" h="7412">
                  <a:moveTo>
                    <a:pt x="5439" y="1969"/>
                  </a:moveTo>
                  <a:lnTo>
                    <a:pt x="5439" y="2085"/>
                  </a:lnTo>
                  <a:lnTo>
                    <a:pt x="5555" y="2085"/>
                  </a:lnTo>
                  <a:lnTo>
                    <a:pt x="5555" y="2085"/>
                  </a:lnTo>
                  <a:lnTo>
                    <a:pt x="5671" y="2085"/>
                  </a:lnTo>
                  <a:lnTo>
                    <a:pt x="5671" y="2085"/>
                  </a:lnTo>
                  <a:lnTo>
                    <a:pt x="5786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853"/>
                  </a:lnTo>
                  <a:lnTo>
                    <a:pt x="6018" y="1853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249" y="1737"/>
                  </a:lnTo>
                  <a:lnTo>
                    <a:pt x="6249" y="1737"/>
                  </a:lnTo>
                  <a:lnTo>
                    <a:pt x="6249" y="1853"/>
                  </a:lnTo>
                  <a:lnTo>
                    <a:pt x="6249" y="1969"/>
                  </a:lnTo>
                  <a:lnTo>
                    <a:pt x="6249" y="2085"/>
                  </a:lnTo>
                  <a:lnTo>
                    <a:pt x="6134" y="2201"/>
                  </a:lnTo>
                  <a:lnTo>
                    <a:pt x="6018" y="2316"/>
                  </a:lnTo>
                  <a:lnTo>
                    <a:pt x="5902" y="2432"/>
                  </a:lnTo>
                  <a:lnTo>
                    <a:pt x="5786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3127"/>
                  </a:lnTo>
                  <a:lnTo>
                    <a:pt x="5555" y="3822"/>
                  </a:lnTo>
                  <a:lnTo>
                    <a:pt x="5555" y="4401"/>
                  </a:lnTo>
                  <a:lnTo>
                    <a:pt x="5323" y="4980"/>
                  </a:lnTo>
                  <a:lnTo>
                    <a:pt x="5208" y="5675"/>
                  </a:lnTo>
                  <a:lnTo>
                    <a:pt x="4861" y="6138"/>
                  </a:lnTo>
                  <a:lnTo>
                    <a:pt x="4398" y="6601"/>
                  </a:lnTo>
                  <a:lnTo>
                    <a:pt x="3935" y="7065"/>
                  </a:lnTo>
                  <a:lnTo>
                    <a:pt x="3935" y="7065"/>
                  </a:lnTo>
                  <a:lnTo>
                    <a:pt x="3703" y="7180"/>
                  </a:lnTo>
                  <a:lnTo>
                    <a:pt x="3356" y="7296"/>
                  </a:lnTo>
                  <a:lnTo>
                    <a:pt x="3125" y="7412"/>
                  </a:lnTo>
                  <a:lnTo>
                    <a:pt x="2893" y="7412"/>
                  </a:lnTo>
                  <a:lnTo>
                    <a:pt x="2546" y="7412"/>
                  </a:lnTo>
                  <a:lnTo>
                    <a:pt x="2199" y="7412"/>
                  </a:lnTo>
                  <a:lnTo>
                    <a:pt x="1967" y="7296"/>
                  </a:lnTo>
                  <a:lnTo>
                    <a:pt x="1620" y="7296"/>
                  </a:lnTo>
                  <a:lnTo>
                    <a:pt x="1620" y="7296"/>
                  </a:lnTo>
                  <a:lnTo>
                    <a:pt x="1389" y="7180"/>
                  </a:lnTo>
                  <a:lnTo>
                    <a:pt x="1157" y="7065"/>
                  </a:lnTo>
                  <a:lnTo>
                    <a:pt x="926" y="6949"/>
                  </a:lnTo>
                  <a:lnTo>
                    <a:pt x="694" y="6717"/>
                  </a:lnTo>
                  <a:lnTo>
                    <a:pt x="578" y="6601"/>
                  </a:lnTo>
                  <a:lnTo>
                    <a:pt x="347" y="6370"/>
                  </a:lnTo>
                  <a:lnTo>
                    <a:pt x="231" y="6138"/>
                  </a:lnTo>
                  <a:lnTo>
                    <a:pt x="116" y="5907"/>
                  </a:lnTo>
                  <a:lnTo>
                    <a:pt x="116" y="5907"/>
                  </a:lnTo>
                  <a:lnTo>
                    <a:pt x="0" y="5559"/>
                  </a:lnTo>
                  <a:lnTo>
                    <a:pt x="0" y="5096"/>
                  </a:lnTo>
                  <a:lnTo>
                    <a:pt x="0" y="4748"/>
                  </a:lnTo>
                  <a:lnTo>
                    <a:pt x="0" y="4285"/>
                  </a:lnTo>
                  <a:lnTo>
                    <a:pt x="0" y="3938"/>
                  </a:lnTo>
                  <a:lnTo>
                    <a:pt x="116" y="3590"/>
                  </a:lnTo>
                  <a:lnTo>
                    <a:pt x="347" y="3243"/>
                  </a:lnTo>
                  <a:lnTo>
                    <a:pt x="578" y="2895"/>
                  </a:lnTo>
                  <a:lnTo>
                    <a:pt x="578" y="2895"/>
                  </a:lnTo>
                  <a:lnTo>
                    <a:pt x="926" y="2432"/>
                  </a:lnTo>
                  <a:lnTo>
                    <a:pt x="1273" y="2085"/>
                  </a:lnTo>
                  <a:lnTo>
                    <a:pt x="1736" y="1853"/>
                  </a:lnTo>
                  <a:lnTo>
                    <a:pt x="2083" y="1622"/>
                  </a:lnTo>
                  <a:lnTo>
                    <a:pt x="2546" y="1390"/>
                  </a:lnTo>
                  <a:lnTo>
                    <a:pt x="3009" y="1274"/>
                  </a:lnTo>
                  <a:lnTo>
                    <a:pt x="3587" y="1158"/>
                  </a:lnTo>
                  <a:lnTo>
                    <a:pt x="4050" y="1158"/>
                  </a:lnTo>
                  <a:lnTo>
                    <a:pt x="4050" y="1158"/>
                  </a:lnTo>
                  <a:lnTo>
                    <a:pt x="3587" y="927"/>
                  </a:lnTo>
                  <a:lnTo>
                    <a:pt x="3240" y="811"/>
                  </a:lnTo>
                  <a:lnTo>
                    <a:pt x="2777" y="579"/>
                  </a:lnTo>
                  <a:lnTo>
                    <a:pt x="2314" y="463"/>
                  </a:lnTo>
                  <a:lnTo>
                    <a:pt x="1851" y="463"/>
                  </a:lnTo>
                  <a:lnTo>
                    <a:pt x="1389" y="463"/>
                  </a:lnTo>
                  <a:lnTo>
                    <a:pt x="926" y="579"/>
                  </a:lnTo>
                  <a:lnTo>
                    <a:pt x="578" y="695"/>
                  </a:lnTo>
                  <a:lnTo>
                    <a:pt x="578" y="695"/>
                  </a:lnTo>
                  <a:lnTo>
                    <a:pt x="578" y="463"/>
                  </a:lnTo>
                  <a:lnTo>
                    <a:pt x="694" y="348"/>
                  </a:lnTo>
                  <a:lnTo>
                    <a:pt x="926" y="232"/>
                  </a:lnTo>
                  <a:lnTo>
                    <a:pt x="1041" y="116"/>
                  </a:lnTo>
                  <a:lnTo>
                    <a:pt x="1273" y="116"/>
                  </a:lnTo>
                  <a:lnTo>
                    <a:pt x="1504" y="0"/>
                  </a:lnTo>
                  <a:lnTo>
                    <a:pt x="1620" y="0"/>
                  </a:lnTo>
                  <a:lnTo>
                    <a:pt x="1851" y="0"/>
                  </a:lnTo>
                  <a:lnTo>
                    <a:pt x="1851" y="0"/>
                  </a:lnTo>
                  <a:lnTo>
                    <a:pt x="2314" y="116"/>
                  </a:lnTo>
                  <a:lnTo>
                    <a:pt x="2777" y="232"/>
                  </a:lnTo>
                  <a:lnTo>
                    <a:pt x="3356" y="463"/>
                  </a:lnTo>
                  <a:lnTo>
                    <a:pt x="3819" y="579"/>
                  </a:lnTo>
                  <a:lnTo>
                    <a:pt x="4282" y="811"/>
                  </a:lnTo>
                  <a:lnTo>
                    <a:pt x="4745" y="1043"/>
                  </a:lnTo>
                  <a:lnTo>
                    <a:pt x="5092" y="1506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643760" y="3367800"/>
              <a:ext cx="198720" cy="410040"/>
            </a:xfrm>
            <a:custGeom>
              <a:avLst/>
              <a:gdLst/>
              <a:ahLst/>
              <a:rect l="l" t="t" r="r" b="b"/>
              <a:pathLst>
                <a:path w="5208" h="7643">
                  <a:moveTo>
                    <a:pt x="4976" y="347"/>
                  </a:moveTo>
                  <a:lnTo>
                    <a:pt x="4976" y="347"/>
                  </a:lnTo>
                  <a:lnTo>
                    <a:pt x="4861" y="347"/>
                  </a:lnTo>
                  <a:lnTo>
                    <a:pt x="4745" y="347"/>
                  </a:lnTo>
                  <a:lnTo>
                    <a:pt x="4629" y="347"/>
                  </a:lnTo>
                  <a:lnTo>
                    <a:pt x="4513" y="347"/>
                  </a:lnTo>
                  <a:lnTo>
                    <a:pt x="4398" y="347"/>
                  </a:lnTo>
                  <a:lnTo>
                    <a:pt x="4282" y="231"/>
                  </a:lnTo>
                  <a:lnTo>
                    <a:pt x="4166" y="347"/>
                  </a:lnTo>
                  <a:lnTo>
                    <a:pt x="4166" y="347"/>
                  </a:lnTo>
                  <a:lnTo>
                    <a:pt x="4050" y="347"/>
                  </a:lnTo>
                  <a:lnTo>
                    <a:pt x="3819" y="463"/>
                  </a:lnTo>
                  <a:lnTo>
                    <a:pt x="3703" y="463"/>
                  </a:lnTo>
                  <a:lnTo>
                    <a:pt x="3472" y="579"/>
                  </a:lnTo>
                  <a:lnTo>
                    <a:pt x="3356" y="579"/>
                  </a:lnTo>
                  <a:lnTo>
                    <a:pt x="3240" y="694"/>
                  </a:lnTo>
                  <a:lnTo>
                    <a:pt x="3009" y="810"/>
                  </a:lnTo>
                  <a:lnTo>
                    <a:pt x="2893" y="926"/>
                  </a:lnTo>
                  <a:lnTo>
                    <a:pt x="2893" y="926"/>
                  </a:lnTo>
                  <a:lnTo>
                    <a:pt x="3240" y="926"/>
                  </a:lnTo>
                  <a:lnTo>
                    <a:pt x="3472" y="1042"/>
                  </a:lnTo>
                  <a:lnTo>
                    <a:pt x="3819" y="1158"/>
                  </a:lnTo>
                  <a:lnTo>
                    <a:pt x="4050" y="1273"/>
                  </a:lnTo>
                  <a:lnTo>
                    <a:pt x="4282" y="1389"/>
                  </a:lnTo>
                  <a:lnTo>
                    <a:pt x="4513" y="1621"/>
                  </a:lnTo>
                  <a:lnTo>
                    <a:pt x="4745" y="1852"/>
                  </a:lnTo>
                  <a:lnTo>
                    <a:pt x="4976" y="2084"/>
                  </a:lnTo>
                  <a:lnTo>
                    <a:pt x="4976" y="2084"/>
                  </a:lnTo>
                  <a:lnTo>
                    <a:pt x="5092" y="2663"/>
                  </a:lnTo>
                  <a:lnTo>
                    <a:pt x="5208" y="3242"/>
                  </a:lnTo>
                  <a:lnTo>
                    <a:pt x="5208" y="3821"/>
                  </a:lnTo>
                  <a:lnTo>
                    <a:pt x="5092" y="4400"/>
                  </a:lnTo>
                  <a:lnTo>
                    <a:pt x="4976" y="4979"/>
                  </a:lnTo>
                  <a:lnTo>
                    <a:pt x="4745" y="5558"/>
                  </a:lnTo>
                  <a:lnTo>
                    <a:pt x="4513" y="6137"/>
                  </a:lnTo>
                  <a:lnTo>
                    <a:pt x="4166" y="6601"/>
                  </a:lnTo>
                  <a:lnTo>
                    <a:pt x="4166" y="6601"/>
                  </a:lnTo>
                  <a:lnTo>
                    <a:pt x="3819" y="6948"/>
                  </a:lnTo>
                  <a:lnTo>
                    <a:pt x="3472" y="7180"/>
                  </a:lnTo>
                  <a:lnTo>
                    <a:pt x="3125" y="7411"/>
                  </a:lnTo>
                  <a:lnTo>
                    <a:pt x="2662" y="7527"/>
                  </a:lnTo>
                  <a:lnTo>
                    <a:pt x="2199" y="7643"/>
                  </a:lnTo>
                  <a:lnTo>
                    <a:pt x="1736" y="7643"/>
                  </a:lnTo>
                  <a:lnTo>
                    <a:pt x="1273" y="7643"/>
                  </a:lnTo>
                  <a:lnTo>
                    <a:pt x="810" y="7527"/>
                  </a:lnTo>
                  <a:lnTo>
                    <a:pt x="810" y="7527"/>
                  </a:lnTo>
                  <a:lnTo>
                    <a:pt x="463" y="7064"/>
                  </a:lnTo>
                  <a:lnTo>
                    <a:pt x="231" y="6485"/>
                  </a:lnTo>
                  <a:lnTo>
                    <a:pt x="0" y="5906"/>
                  </a:lnTo>
                  <a:lnTo>
                    <a:pt x="0" y="5211"/>
                  </a:lnTo>
                  <a:lnTo>
                    <a:pt x="116" y="4632"/>
                  </a:lnTo>
                  <a:lnTo>
                    <a:pt x="231" y="3937"/>
                  </a:lnTo>
                  <a:lnTo>
                    <a:pt x="347" y="3358"/>
                  </a:lnTo>
                  <a:lnTo>
                    <a:pt x="578" y="2779"/>
                  </a:lnTo>
                  <a:lnTo>
                    <a:pt x="578" y="2779"/>
                  </a:lnTo>
                  <a:lnTo>
                    <a:pt x="578" y="2547"/>
                  </a:lnTo>
                  <a:lnTo>
                    <a:pt x="694" y="2432"/>
                  </a:lnTo>
                  <a:lnTo>
                    <a:pt x="810" y="2316"/>
                  </a:lnTo>
                  <a:lnTo>
                    <a:pt x="810" y="2200"/>
                  </a:lnTo>
                  <a:lnTo>
                    <a:pt x="926" y="1968"/>
                  </a:lnTo>
                  <a:lnTo>
                    <a:pt x="1041" y="1852"/>
                  </a:lnTo>
                  <a:lnTo>
                    <a:pt x="1041" y="1737"/>
                  </a:lnTo>
                  <a:lnTo>
                    <a:pt x="1157" y="1621"/>
                  </a:lnTo>
                  <a:lnTo>
                    <a:pt x="1157" y="1621"/>
                  </a:lnTo>
                  <a:lnTo>
                    <a:pt x="1041" y="1505"/>
                  </a:lnTo>
                  <a:lnTo>
                    <a:pt x="926" y="1505"/>
                  </a:lnTo>
                  <a:lnTo>
                    <a:pt x="926" y="1389"/>
                  </a:lnTo>
                  <a:lnTo>
                    <a:pt x="810" y="1389"/>
                  </a:lnTo>
                  <a:lnTo>
                    <a:pt x="694" y="1389"/>
                  </a:lnTo>
                  <a:lnTo>
                    <a:pt x="694" y="1389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694" y="1158"/>
                  </a:lnTo>
                  <a:lnTo>
                    <a:pt x="810" y="1158"/>
                  </a:lnTo>
                  <a:lnTo>
                    <a:pt x="926" y="1158"/>
                  </a:lnTo>
                  <a:lnTo>
                    <a:pt x="1041" y="1158"/>
                  </a:lnTo>
                  <a:lnTo>
                    <a:pt x="1157" y="1158"/>
                  </a:lnTo>
                  <a:lnTo>
                    <a:pt x="1389" y="1158"/>
                  </a:lnTo>
                  <a:lnTo>
                    <a:pt x="1504" y="1158"/>
                  </a:lnTo>
                  <a:lnTo>
                    <a:pt x="1620" y="1158"/>
                  </a:lnTo>
                  <a:lnTo>
                    <a:pt x="1620" y="1158"/>
                  </a:lnTo>
                  <a:lnTo>
                    <a:pt x="1967" y="926"/>
                  </a:lnTo>
                  <a:lnTo>
                    <a:pt x="2430" y="694"/>
                  </a:lnTo>
                  <a:lnTo>
                    <a:pt x="2777" y="347"/>
                  </a:lnTo>
                  <a:lnTo>
                    <a:pt x="3240" y="115"/>
                  </a:lnTo>
                  <a:lnTo>
                    <a:pt x="3703" y="0"/>
                  </a:lnTo>
                  <a:lnTo>
                    <a:pt x="4166" y="0"/>
                  </a:lnTo>
                  <a:lnTo>
                    <a:pt x="4629" y="0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409400" y="3399120"/>
              <a:ext cx="185760" cy="285840"/>
            </a:xfrm>
            <a:custGeom>
              <a:avLst/>
              <a:gdLst/>
              <a:ahLst/>
              <a:rect l="l" t="t" r="r" b="b"/>
              <a:pathLst>
                <a:path w="4861" h="5327">
                  <a:moveTo>
                    <a:pt x="4398" y="463"/>
                  </a:moveTo>
                  <a:lnTo>
                    <a:pt x="4629" y="926"/>
                  </a:lnTo>
                  <a:lnTo>
                    <a:pt x="4745" y="1389"/>
                  </a:lnTo>
                  <a:lnTo>
                    <a:pt x="4745" y="1968"/>
                  </a:lnTo>
                  <a:lnTo>
                    <a:pt x="4861" y="2432"/>
                  </a:lnTo>
                  <a:lnTo>
                    <a:pt x="4745" y="2895"/>
                  </a:lnTo>
                  <a:lnTo>
                    <a:pt x="4629" y="3474"/>
                  </a:lnTo>
                  <a:lnTo>
                    <a:pt x="4398" y="3937"/>
                  </a:lnTo>
                  <a:lnTo>
                    <a:pt x="4051" y="4285"/>
                  </a:lnTo>
                  <a:lnTo>
                    <a:pt x="4051" y="4285"/>
                  </a:lnTo>
                  <a:lnTo>
                    <a:pt x="3935" y="4516"/>
                  </a:lnTo>
                  <a:lnTo>
                    <a:pt x="3819" y="4632"/>
                  </a:lnTo>
                  <a:lnTo>
                    <a:pt x="3588" y="4864"/>
                  </a:lnTo>
                  <a:lnTo>
                    <a:pt x="3356" y="4979"/>
                  </a:lnTo>
                  <a:lnTo>
                    <a:pt x="3125" y="5095"/>
                  </a:lnTo>
                  <a:lnTo>
                    <a:pt x="3009" y="5211"/>
                  </a:lnTo>
                  <a:lnTo>
                    <a:pt x="2778" y="5327"/>
                  </a:lnTo>
                  <a:lnTo>
                    <a:pt x="2430" y="5327"/>
                  </a:lnTo>
                  <a:lnTo>
                    <a:pt x="2430" y="5327"/>
                  </a:lnTo>
                  <a:lnTo>
                    <a:pt x="2083" y="5327"/>
                  </a:lnTo>
                  <a:lnTo>
                    <a:pt x="1736" y="5211"/>
                  </a:lnTo>
                  <a:lnTo>
                    <a:pt x="1389" y="5211"/>
                  </a:lnTo>
                  <a:lnTo>
                    <a:pt x="1157" y="5095"/>
                  </a:lnTo>
                  <a:lnTo>
                    <a:pt x="810" y="4864"/>
                  </a:lnTo>
                  <a:lnTo>
                    <a:pt x="579" y="4748"/>
                  </a:lnTo>
                  <a:lnTo>
                    <a:pt x="347" y="4400"/>
                  </a:lnTo>
                  <a:lnTo>
                    <a:pt x="231" y="4053"/>
                  </a:lnTo>
                  <a:lnTo>
                    <a:pt x="231" y="4053"/>
                  </a:lnTo>
                  <a:lnTo>
                    <a:pt x="116" y="3590"/>
                  </a:lnTo>
                  <a:lnTo>
                    <a:pt x="0" y="3242"/>
                  </a:lnTo>
                  <a:lnTo>
                    <a:pt x="116" y="2779"/>
                  </a:lnTo>
                  <a:lnTo>
                    <a:pt x="231" y="2316"/>
                  </a:lnTo>
                  <a:lnTo>
                    <a:pt x="347" y="1853"/>
                  </a:lnTo>
                  <a:lnTo>
                    <a:pt x="579" y="1505"/>
                  </a:lnTo>
                  <a:lnTo>
                    <a:pt x="810" y="1158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504" y="579"/>
                  </a:lnTo>
                  <a:lnTo>
                    <a:pt x="1852" y="463"/>
                  </a:lnTo>
                  <a:lnTo>
                    <a:pt x="2199" y="347"/>
                  </a:lnTo>
                  <a:lnTo>
                    <a:pt x="2546" y="231"/>
                  </a:lnTo>
                  <a:lnTo>
                    <a:pt x="2893" y="115"/>
                  </a:lnTo>
                  <a:lnTo>
                    <a:pt x="3240" y="115"/>
                  </a:lnTo>
                  <a:lnTo>
                    <a:pt x="3703" y="115"/>
                  </a:lnTo>
                  <a:lnTo>
                    <a:pt x="4051" y="0"/>
                  </a:lnTo>
                  <a:lnTo>
                    <a:pt x="4051" y="0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479960" y="3411360"/>
              <a:ext cx="92880" cy="124200"/>
            </a:xfrm>
            <a:custGeom>
              <a:avLst/>
              <a:gdLst/>
              <a:ahLst/>
              <a:rect l="l" t="t" r="r" b="b"/>
              <a:pathLst>
                <a:path w="2430" h="2316">
                  <a:moveTo>
                    <a:pt x="2314" y="579"/>
                  </a:moveTo>
                  <a:lnTo>
                    <a:pt x="2430" y="811"/>
                  </a:lnTo>
                  <a:lnTo>
                    <a:pt x="2430" y="1042"/>
                  </a:lnTo>
                  <a:lnTo>
                    <a:pt x="2430" y="1274"/>
                  </a:lnTo>
                  <a:lnTo>
                    <a:pt x="2314" y="1506"/>
                  </a:lnTo>
                  <a:lnTo>
                    <a:pt x="2199" y="1737"/>
                  </a:lnTo>
                  <a:lnTo>
                    <a:pt x="2083" y="1969"/>
                  </a:lnTo>
                  <a:lnTo>
                    <a:pt x="1851" y="2085"/>
                  </a:lnTo>
                  <a:lnTo>
                    <a:pt x="1620" y="2201"/>
                  </a:lnTo>
                  <a:lnTo>
                    <a:pt x="1620" y="2201"/>
                  </a:lnTo>
                  <a:lnTo>
                    <a:pt x="1504" y="2201"/>
                  </a:lnTo>
                  <a:lnTo>
                    <a:pt x="1388" y="2316"/>
                  </a:lnTo>
                  <a:lnTo>
                    <a:pt x="1157" y="2316"/>
                  </a:lnTo>
                  <a:lnTo>
                    <a:pt x="1041" y="2201"/>
                  </a:lnTo>
                  <a:lnTo>
                    <a:pt x="926" y="2201"/>
                  </a:lnTo>
                  <a:lnTo>
                    <a:pt x="810" y="2201"/>
                  </a:lnTo>
                  <a:lnTo>
                    <a:pt x="578" y="2085"/>
                  </a:lnTo>
                  <a:lnTo>
                    <a:pt x="463" y="2085"/>
                  </a:lnTo>
                  <a:lnTo>
                    <a:pt x="463" y="2085"/>
                  </a:lnTo>
                  <a:lnTo>
                    <a:pt x="347" y="1969"/>
                  </a:lnTo>
                  <a:lnTo>
                    <a:pt x="231" y="1737"/>
                  </a:lnTo>
                  <a:lnTo>
                    <a:pt x="115" y="1622"/>
                  </a:lnTo>
                  <a:lnTo>
                    <a:pt x="115" y="1390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578" y="232"/>
                  </a:lnTo>
                  <a:lnTo>
                    <a:pt x="810" y="116"/>
                  </a:lnTo>
                  <a:lnTo>
                    <a:pt x="1273" y="0"/>
                  </a:lnTo>
                  <a:lnTo>
                    <a:pt x="1620" y="0"/>
                  </a:lnTo>
                  <a:lnTo>
                    <a:pt x="1851" y="116"/>
                  </a:lnTo>
                  <a:lnTo>
                    <a:pt x="2199" y="232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661400" y="3442320"/>
              <a:ext cx="163440" cy="310680"/>
            </a:xfrm>
            <a:custGeom>
              <a:avLst/>
              <a:gdLst/>
              <a:ahLst/>
              <a:rect l="l" t="t" r="r" b="b"/>
              <a:pathLst>
                <a:path w="4282" h="5791">
                  <a:moveTo>
                    <a:pt x="4166" y="927"/>
                  </a:moveTo>
                  <a:lnTo>
                    <a:pt x="4282" y="1506"/>
                  </a:lnTo>
                  <a:lnTo>
                    <a:pt x="4282" y="1969"/>
                  </a:lnTo>
                  <a:lnTo>
                    <a:pt x="4282" y="2432"/>
                  </a:lnTo>
                  <a:lnTo>
                    <a:pt x="4166" y="2895"/>
                  </a:lnTo>
                  <a:lnTo>
                    <a:pt x="4050" y="3359"/>
                  </a:lnTo>
                  <a:lnTo>
                    <a:pt x="3935" y="3822"/>
                  </a:lnTo>
                  <a:lnTo>
                    <a:pt x="3703" y="4285"/>
                  </a:lnTo>
                  <a:lnTo>
                    <a:pt x="3587" y="4633"/>
                  </a:lnTo>
                  <a:lnTo>
                    <a:pt x="3587" y="4633"/>
                  </a:lnTo>
                  <a:lnTo>
                    <a:pt x="3240" y="4980"/>
                  </a:lnTo>
                  <a:lnTo>
                    <a:pt x="3009" y="5327"/>
                  </a:lnTo>
                  <a:lnTo>
                    <a:pt x="2662" y="5443"/>
                  </a:lnTo>
                  <a:lnTo>
                    <a:pt x="2199" y="5675"/>
                  </a:lnTo>
                  <a:lnTo>
                    <a:pt x="1851" y="5791"/>
                  </a:lnTo>
                  <a:lnTo>
                    <a:pt x="1504" y="5791"/>
                  </a:lnTo>
                  <a:lnTo>
                    <a:pt x="1041" y="5791"/>
                  </a:lnTo>
                  <a:lnTo>
                    <a:pt x="578" y="5791"/>
                  </a:lnTo>
                  <a:lnTo>
                    <a:pt x="578" y="5791"/>
                  </a:lnTo>
                  <a:lnTo>
                    <a:pt x="231" y="5096"/>
                  </a:lnTo>
                  <a:lnTo>
                    <a:pt x="0" y="4401"/>
                  </a:lnTo>
                  <a:lnTo>
                    <a:pt x="0" y="3706"/>
                  </a:lnTo>
                  <a:lnTo>
                    <a:pt x="0" y="3011"/>
                  </a:lnTo>
                  <a:lnTo>
                    <a:pt x="231" y="2316"/>
                  </a:lnTo>
                  <a:lnTo>
                    <a:pt x="463" y="1622"/>
                  </a:lnTo>
                  <a:lnTo>
                    <a:pt x="810" y="927"/>
                  </a:lnTo>
                  <a:lnTo>
                    <a:pt x="1157" y="348"/>
                  </a:lnTo>
                  <a:lnTo>
                    <a:pt x="1157" y="348"/>
                  </a:lnTo>
                  <a:lnTo>
                    <a:pt x="1389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0"/>
                  </a:lnTo>
                  <a:lnTo>
                    <a:pt x="2314" y="0"/>
                  </a:lnTo>
                  <a:lnTo>
                    <a:pt x="2662" y="0"/>
                  </a:lnTo>
                  <a:lnTo>
                    <a:pt x="2893" y="116"/>
                  </a:lnTo>
                  <a:lnTo>
                    <a:pt x="3124" y="116"/>
                  </a:lnTo>
                  <a:lnTo>
                    <a:pt x="3124" y="116"/>
                  </a:lnTo>
                  <a:lnTo>
                    <a:pt x="3240" y="232"/>
                  </a:lnTo>
                  <a:lnTo>
                    <a:pt x="3472" y="232"/>
                  </a:lnTo>
                  <a:lnTo>
                    <a:pt x="3587" y="348"/>
                  </a:lnTo>
                  <a:lnTo>
                    <a:pt x="3703" y="463"/>
                  </a:lnTo>
                  <a:lnTo>
                    <a:pt x="3819" y="579"/>
                  </a:lnTo>
                  <a:lnTo>
                    <a:pt x="3935" y="695"/>
                  </a:lnTo>
                  <a:lnTo>
                    <a:pt x="4050" y="811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524240" y="3454920"/>
              <a:ext cx="21960" cy="30960"/>
            </a:xfrm>
            <a:custGeom>
              <a:avLst/>
              <a:gdLst/>
              <a:ahLst/>
              <a:rect l="l" t="t" r="r" b="b"/>
              <a:pathLst>
                <a:path w="579" h="579">
                  <a:moveTo>
                    <a:pt x="463" y="579"/>
                  </a:moveTo>
                  <a:lnTo>
                    <a:pt x="463" y="579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116" y="347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116"/>
                  </a:lnTo>
                  <a:lnTo>
                    <a:pt x="579" y="116"/>
                  </a:lnTo>
                  <a:lnTo>
                    <a:pt x="579" y="231"/>
                  </a:lnTo>
                  <a:lnTo>
                    <a:pt x="579" y="347"/>
                  </a:lnTo>
                  <a:lnTo>
                    <a:pt x="579" y="463"/>
                  </a:lnTo>
                  <a:lnTo>
                    <a:pt x="579" y="463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692360" y="3479760"/>
              <a:ext cx="70560" cy="99360"/>
            </a:xfrm>
            <a:custGeom>
              <a:avLst/>
              <a:gdLst/>
              <a:ahLst/>
              <a:rect l="l" t="t" r="r" b="b"/>
              <a:pathLst>
                <a:path w="1852" h="1853">
                  <a:moveTo>
                    <a:pt x="1852" y="579"/>
                  </a:moveTo>
                  <a:lnTo>
                    <a:pt x="1852" y="811"/>
                  </a:lnTo>
                  <a:lnTo>
                    <a:pt x="1852" y="927"/>
                  </a:lnTo>
                  <a:lnTo>
                    <a:pt x="1736" y="1158"/>
                  </a:lnTo>
                  <a:lnTo>
                    <a:pt x="1736" y="1390"/>
                  </a:lnTo>
                  <a:lnTo>
                    <a:pt x="1620" y="1506"/>
                  </a:lnTo>
                  <a:lnTo>
                    <a:pt x="1389" y="1621"/>
                  </a:lnTo>
                  <a:lnTo>
                    <a:pt x="1273" y="1737"/>
                  </a:lnTo>
                  <a:lnTo>
                    <a:pt x="1041" y="1853"/>
                  </a:lnTo>
                  <a:lnTo>
                    <a:pt x="1041" y="1853"/>
                  </a:lnTo>
                  <a:lnTo>
                    <a:pt x="926" y="1853"/>
                  </a:lnTo>
                  <a:lnTo>
                    <a:pt x="694" y="1853"/>
                  </a:lnTo>
                  <a:lnTo>
                    <a:pt x="579" y="1737"/>
                  </a:lnTo>
                  <a:lnTo>
                    <a:pt x="463" y="1737"/>
                  </a:lnTo>
                  <a:lnTo>
                    <a:pt x="347" y="1621"/>
                  </a:lnTo>
                  <a:lnTo>
                    <a:pt x="231" y="1506"/>
                  </a:lnTo>
                  <a:lnTo>
                    <a:pt x="116" y="1390"/>
                  </a:lnTo>
                  <a:lnTo>
                    <a:pt x="0" y="1274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927"/>
                  </a:lnTo>
                  <a:lnTo>
                    <a:pt x="0" y="811"/>
                  </a:lnTo>
                  <a:lnTo>
                    <a:pt x="0" y="695"/>
                  </a:lnTo>
                  <a:lnTo>
                    <a:pt x="0" y="463"/>
                  </a:lnTo>
                  <a:lnTo>
                    <a:pt x="116" y="348"/>
                  </a:lnTo>
                  <a:lnTo>
                    <a:pt x="116" y="232"/>
                  </a:lnTo>
                  <a:lnTo>
                    <a:pt x="231" y="116"/>
                  </a:lnTo>
                  <a:lnTo>
                    <a:pt x="231" y="116"/>
                  </a:lnTo>
                  <a:lnTo>
                    <a:pt x="463" y="0"/>
                  </a:lnTo>
                  <a:lnTo>
                    <a:pt x="694" y="0"/>
                  </a:lnTo>
                  <a:lnTo>
                    <a:pt x="926" y="0"/>
                  </a:lnTo>
                  <a:lnTo>
                    <a:pt x="1157" y="0"/>
                  </a:lnTo>
                  <a:lnTo>
                    <a:pt x="1389" y="0"/>
                  </a:lnTo>
                  <a:lnTo>
                    <a:pt x="1620" y="116"/>
                  </a:lnTo>
                  <a:lnTo>
                    <a:pt x="1736" y="348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723320" y="3510720"/>
              <a:ext cx="21960" cy="37080"/>
            </a:xfrm>
            <a:custGeom>
              <a:avLst/>
              <a:gdLst/>
              <a:ahLst/>
              <a:rect l="l" t="t" r="r" b="b"/>
              <a:pathLst>
                <a:path w="579" h="695">
                  <a:moveTo>
                    <a:pt x="463" y="116"/>
                  </a:moveTo>
                  <a:lnTo>
                    <a:pt x="463" y="116"/>
                  </a:lnTo>
                  <a:lnTo>
                    <a:pt x="579" y="232"/>
                  </a:lnTo>
                  <a:lnTo>
                    <a:pt x="463" y="348"/>
                  </a:lnTo>
                  <a:lnTo>
                    <a:pt x="463" y="463"/>
                  </a:lnTo>
                  <a:lnTo>
                    <a:pt x="463" y="463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695"/>
                  </a:lnTo>
                  <a:lnTo>
                    <a:pt x="231" y="695"/>
                  </a:lnTo>
                  <a:lnTo>
                    <a:pt x="116" y="695"/>
                  </a:lnTo>
                  <a:lnTo>
                    <a:pt x="116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231" y="116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267560" y="3784320"/>
              <a:ext cx="61920" cy="37080"/>
            </a:xfrm>
            <a:custGeom>
              <a:avLst/>
              <a:gdLst/>
              <a:ahLst/>
              <a:rect l="l" t="t" r="r" b="b"/>
              <a:pathLst>
                <a:path w="1620" h="695">
                  <a:moveTo>
                    <a:pt x="1620" y="116"/>
                  </a:moveTo>
                  <a:lnTo>
                    <a:pt x="1388" y="116"/>
                  </a:lnTo>
                  <a:lnTo>
                    <a:pt x="1157" y="116"/>
                  </a:lnTo>
                  <a:lnTo>
                    <a:pt x="1041" y="231"/>
                  </a:lnTo>
                  <a:lnTo>
                    <a:pt x="810" y="347"/>
                  </a:lnTo>
                  <a:lnTo>
                    <a:pt x="578" y="347"/>
                  </a:lnTo>
                  <a:lnTo>
                    <a:pt x="462" y="463"/>
                  </a:lnTo>
                  <a:lnTo>
                    <a:pt x="347" y="579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0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115" y="347"/>
                  </a:lnTo>
                  <a:lnTo>
                    <a:pt x="115" y="347"/>
                  </a:lnTo>
                  <a:lnTo>
                    <a:pt x="231" y="231"/>
                  </a:lnTo>
                  <a:lnTo>
                    <a:pt x="462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0"/>
                  </a:lnTo>
                  <a:lnTo>
                    <a:pt x="1157" y="0"/>
                  </a:lnTo>
                  <a:lnTo>
                    <a:pt x="1388" y="0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254240" y="3827880"/>
              <a:ext cx="552960" cy="173880"/>
            </a:xfrm>
            <a:custGeom>
              <a:avLst/>
              <a:gdLst/>
              <a:ahLst/>
              <a:rect l="l" t="t" r="r" b="b"/>
              <a:pathLst>
                <a:path w="14467" h="3243">
                  <a:moveTo>
                    <a:pt x="3820" y="232"/>
                  </a:moveTo>
                  <a:lnTo>
                    <a:pt x="3704" y="232"/>
                  </a:lnTo>
                  <a:lnTo>
                    <a:pt x="3472" y="232"/>
                  </a:lnTo>
                  <a:lnTo>
                    <a:pt x="3357" y="232"/>
                  </a:lnTo>
                  <a:lnTo>
                    <a:pt x="3125" y="232"/>
                  </a:lnTo>
                  <a:lnTo>
                    <a:pt x="3009" y="348"/>
                  </a:lnTo>
                  <a:lnTo>
                    <a:pt x="2778" y="348"/>
                  </a:lnTo>
                  <a:lnTo>
                    <a:pt x="2662" y="348"/>
                  </a:lnTo>
                  <a:lnTo>
                    <a:pt x="2431" y="464"/>
                  </a:lnTo>
                  <a:lnTo>
                    <a:pt x="2431" y="464"/>
                  </a:lnTo>
                  <a:lnTo>
                    <a:pt x="2431" y="695"/>
                  </a:lnTo>
                  <a:lnTo>
                    <a:pt x="2431" y="695"/>
                  </a:lnTo>
                  <a:lnTo>
                    <a:pt x="2894" y="1159"/>
                  </a:lnTo>
                  <a:lnTo>
                    <a:pt x="3472" y="1622"/>
                  </a:lnTo>
                  <a:lnTo>
                    <a:pt x="4051" y="1853"/>
                  </a:lnTo>
                  <a:lnTo>
                    <a:pt x="4745" y="2085"/>
                  </a:lnTo>
                  <a:lnTo>
                    <a:pt x="5440" y="2201"/>
                  </a:lnTo>
                  <a:lnTo>
                    <a:pt x="6018" y="2432"/>
                  </a:lnTo>
                  <a:lnTo>
                    <a:pt x="6713" y="2548"/>
                  </a:lnTo>
                  <a:lnTo>
                    <a:pt x="7291" y="2780"/>
                  </a:lnTo>
                  <a:lnTo>
                    <a:pt x="7291" y="2780"/>
                  </a:lnTo>
                  <a:lnTo>
                    <a:pt x="7639" y="2780"/>
                  </a:lnTo>
                  <a:lnTo>
                    <a:pt x="7986" y="2780"/>
                  </a:lnTo>
                  <a:lnTo>
                    <a:pt x="8333" y="2780"/>
                  </a:lnTo>
                  <a:lnTo>
                    <a:pt x="8680" y="2664"/>
                  </a:lnTo>
                  <a:lnTo>
                    <a:pt x="9027" y="2664"/>
                  </a:lnTo>
                  <a:lnTo>
                    <a:pt x="9375" y="2548"/>
                  </a:lnTo>
                  <a:lnTo>
                    <a:pt x="9722" y="2432"/>
                  </a:lnTo>
                  <a:lnTo>
                    <a:pt x="10069" y="2317"/>
                  </a:lnTo>
                  <a:lnTo>
                    <a:pt x="10069" y="2317"/>
                  </a:lnTo>
                  <a:lnTo>
                    <a:pt x="10185" y="2317"/>
                  </a:lnTo>
                  <a:lnTo>
                    <a:pt x="10185" y="2317"/>
                  </a:lnTo>
                  <a:lnTo>
                    <a:pt x="10301" y="2317"/>
                  </a:lnTo>
                  <a:lnTo>
                    <a:pt x="10416" y="2317"/>
                  </a:lnTo>
                  <a:lnTo>
                    <a:pt x="10532" y="2317"/>
                  </a:lnTo>
                  <a:lnTo>
                    <a:pt x="10648" y="2201"/>
                  </a:lnTo>
                  <a:lnTo>
                    <a:pt x="10763" y="2201"/>
                  </a:lnTo>
                  <a:lnTo>
                    <a:pt x="10763" y="2085"/>
                  </a:lnTo>
                  <a:lnTo>
                    <a:pt x="10763" y="2085"/>
                  </a:lnTo>
                  <a:lnTo>
                    <a:pt x="10879" y="2201"/>
                  </a:lnTo>
                  <a:lnTo>
                    <a:pt x="10879" y="2201"/>
                  </a:lnTo>
                  <a:lnTo>
                    <a:pt x="11226" y="1969"/>
                  </a:lnTo>
                  <a:lnTo>
                    <a:pt x="11574" y="1853"/>
                  </a:lnTo>
                  <a:lnTo>
                    <a:pt x="11921" y="1738"/>
                  </a:lnTo>
                  <a:lnTo>
                    <a:pt x="12268" y="1622"/>
                  </a:lnTo>
                  <a:lnTo>
                    <a:pt x="12615" y="1506"/>
                  </a:lnTo>
                  <a:lnTo>
                    <a:pt x="12962" y="1506"/>
                  </a:lnTo>
                  <a:lnTo>
                    <a:pt x="13310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888" y="1390"/>
                  </a:lnTo>
                  <a:lnTo>
                    <a:pt x="14004" y="1390"/>
                  </a:lnTo>
                  <a:lnTo>
                    <a:pt x="14120" y="1274"/>
                  </a:lnTo>
                  <a:lnTo>
                    <a:pt x="14120" y="1159"/>
                  </a:lnTo>
                  <a:lnTo>
                    <a:pt x="14235" y="1159"/>
                  </a:lnTo>
                  <a:lnTo>
                    <a:pt x="14351" y="1159"/>
                  </a:lnTo>
                  <a:lnTo>
                    <a:pt x="14467" y="1159"/>
                  </a:lnTo>
                  <a:lnTo>
                    <a:pt x="14467" y="1159"/>
                  </a:lnTo>
                  <a:lnTo>
                    <a:pt x="14467" y="1274"/>
                  </a:lnTo>
                  <a:lnTo>
                    <a:pt x="14351" y="1390"/>
                  </a:lnTo>
                  <a:lnTo>
                    <a:pt x="14351" y="1506"/>
                  </a:lnTo>
                  <a:lnTo>
                    <a:pt x="14235" y="1622"/>
                  </a:lnTo>
                  <a:lnTo>
                    <a:pt x="14120" y="1738"/>
                  </a:lnTo>
                  <a:lnTo>
                    <a:pt x="14004" y="1853"/>
                  </a:lnTo>
                  <a:lnTo>
                    <a:pt x="13888" y="1853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2962" y="1969"/>
                  </a:lnTo>
                  <a:lnTo>
                    <a:pt x="12152" y="2085"/>
                  </a:lnTo>
                  <a:lnTo>
                    <a:pt x="11458" y="2317"/>
                  </a:lnTo>
                  <a:lnTo>
                    <a:pt x="10648" y="2548"/>
                  </a:lnTo>
                  <a:lnTo>
                    <a:pt x="9953" y="2780"/>
                  </a:lnTo>
                  <a:lnTo>
                    <a:pt x="9143" y="3011"/>
                  </a:lnTo>
                  <a:lnTo>
                    <a:pt x="8333" y="3127"/>
                  </a:lnTo>
                  <a:lnTo>
                    <a:pt x="7523" y="3243"/>
                  </a:lnTo>
                  <a:lnTo>
                    <a:pt x="7523" y="3243"/>
                  </a:lnTo>
                  <a:lnTo>
                    <a:pt x="6713" y="3011"/>
                  </a:lnTo>
                  <a:lnTo>
                    <a:pt x="6018" y="2896"/>
                  </a:lnTo>
                  <a:lnTo>
                    <a:pt x="5208" y="2664"/>
                  </a:lnTo>
                  <a:lnTo>
                    <a:pt x="4514" y="2432"/>
                  </a:lnTo>
                  <a:lnTo>
                    <a:pt x="3704" y="2201"/>
                  </a:lnTo>
                  <a:lnTo>
                    <a:pt x="3125" y="1738"/>
                  </a:lnTo>
                  <a:lnTo>
                    <a:pt x="2431" y="1274"/>
                  </a:lnTo>
                  <a:lnTo>
                    <a:pt x="1968" y="695"/>
                  </a:lnTo>
                  <a:lnTo>
                    <a:pt x="1968" y="695"/>
                  </a:lnTo>
                  <a:lnTo>
                    <a:pt x="1736" y="811"/>
                  </a:lnTo>
                  <a:lnTo>
                    <a:pt x="1505" y="927"/>
                  </a:lnTo>
                  <a:lnTo>
                    <a:pt x="1273" y="1043"/>
                  </a:lnTo>
                  <a:lnTo>
                    <a:pt x="1042" y="1159"/>
                  </a:lnTo>
                  <a:lnTo>
                    <a:pt x="810" y="1274"/>
                  </a:lnTo>
                  <a:lnTo>
                    <a:pt x="579" y="1506"/>
                  </a:lnTo>
                  <a:lnTo>
                    <a:pt x="463" y="1622"/>
                  </a:lnTo>
                  <a:lnTo>
                    <a:pt x="348" y="1853"/>
                  </a:lnTo>
                  <a:lnTo>
                    <a:pt x="348" y="1853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116" y="1390"/>
                  </a:lnTo>
                  <a:lnTo>
                    <a:pt x="348" y="1159"/>
                  </a:lnTo>
                  <a:lnTo>
                    <a:pt x="463" y="927"/>
                  </a:lnTo>
                  <a:lnTo>
                    <a:pt x="810" y="811"/>
                  </a:lnTo>
                  <a:lnTo>
                    <a:pt x="1042" y="695"/>
                  </a:lnTo>
                  <a:lnTo>
                    <a:pt x="1273" y="579"/>
                  </a:lnTo>
                  <a:lnTo>
                    <a:pt x="1621" y="348"/>
                  </a:lnTo>
                  <a:lnTo>
                    <a:pt x="1852" y="232"/>
                  </a:lnTo>
                  <a:lnTo>
                    <a:pt x="1852" y="232"/>
                  </a:lnTo>
                  <a:lnTo>
                    <a:pt x="2084" y="116"/>
                  </a:lnTo>
                  <a:lnTo>
                    <a:pt x="2315" y="116"/>
                  </a:lnTo>
                  <a:lnTo>
                    <a:pt x="2546" y="0"/>
                  </a:lnTo>
                  <a:lnTo>
                    <a:pt x="2778" y="0"/>
                  </a:lnTo>
                  <a:lnTo>
                    <a:pt x="3125" y="0"/>
                  </a:lnTo>
                  <a:lnTo>
                    <a:pt x="3357" y="116"/>
                  </a:lnTo>
                  <a:lnTo>
                    <a:pt x="3588" y="116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329560" y="3927600"/>
              <a:ext cx="366840" cy="298440"/>
            </a:xfrm>
            <a:custGeom>
              <a:avLst/>
              <a:gdLst/>
              <a:ahLst/>
              <a:rect l="l" t="t" r="r" b="b"/>
              <a:pathLst>
                <a:path w="9606" h="5559">
                  <a:moveTo>
                    <a:pt x="9606" y="695"/>
                  </a:moveTo>
                  <a:lnTo>
                    <a:pt x="9606" y="811"/>
                  </a:lnTo>
                  <a:lnTo>
                    <a:pt x="9606" y="811"/>
                  </a:lnTo>
                  <a:lnTo>
                    <a:pt x="9490" y="811"/>
                  </a:lnTo>
                  <a:lnTo>
                    <a:pt x="9375" y="811"/>
                  </a:lnTo>
                  <a:lnTo>
                    <a:pt x="9259" y="811"/>
                  </a:lnTo>
                  <a:lnTo>
                    <a:pt x="9143" y="811"/>
                  </a:lnTo>
                  <a:lnTo>
                    <a:pt x="9027" y="811"/>
                  </a:lnTo>
                  <a:lnTo>
                    <a:pt x="8912" y="927"/>
                  </a:lnTo>
                  <a:lnTo>
                    <a:pt x="8796" y="927"/>
                  </a:lnTo>
                  <a:lnTo>
                    <a:pt x="8680" y="1043"/>
                  </a:lnTo>
                  <a:lnTo>
                    <a:pt x="8680" y="1043"/>
                  </a:lnTo>
                  <a:lnTo>
                    <a:pt x="8912" y="1158"/>
                  </a:lnTo>
                  <a:lnTo>
                    <a:pt x="8912" y="1158"/>
                  </a:lnTo>
                  <a:lnTo>
                    <a:pt x="8680" y="1158"/>
                  </a:lnTo>
                  <a:lnTo>
                    <a:pt x="8564" y="1274"/>
                  </a:lnTo>
                  <a:lnTo>
                    <a:pt x="8333" y="1274"/>
                  </a:lnTo>
                  <a:lnTo>
                    <a:pt x="8102" y="1274"/>
                  </a:lnTo>
                  <a:lnTo>
                    <a:pt x="7986" y="1390"/>
                  </a:lnTo>
                  <a:lnTo>
                    <a:pt x="7754" y="1390"/>
                  </a:lnTo>
                  <a:lnTo>
                    <a:pt x="7639" y="1506"/>
                  </a:lnTo>
                  <a:lnTo>
                    <a:pt x="7407" y="1622"/>
                  </a:lnTo>
                  <a:lnTo>
                    <a:pt x="7407" y="1622"/>
                  </a:lnTo>
                  <a:lnTo>
                    <a:pt x="7639" y="1622"/>
                  </a:lnTo>
                  <a:lnTo>
                    <a:pt x="7754" y="1622"/>
                  </a:lnTo>
                  <a:lnTo>
                    <a:pt x="7870" y="1738"/>
                  </a:lnTo>
                  <a:lnTo>
                    <a:pt x="7986" y="1738"/>
                  </a:lnTo>
                  <a:lnTo>
                    <a:pt x="8102" y="1738"/>
                  </a:lnTo>
                  <a:lnTo>
                    <a:pt x="8217" y="1853"/>
                  </a:lnTo>
                  <a:lnTo>
                    <a:pt x="8333" y="1853"/>
                  </a:lnTo>
                  <a:lnTo>
                    <a:pt x="8564" y="1853"/>
                  </a:lnTo>
                  <a:lnTo>
                    <a:pt x="8564" y="1853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680" y="2085"/>
                  </a:lnTo>
                  <a:lnTo>
                    <a:pt x="8680" y="2085"/>
                  </a:lnTo>
                  <a:lnTo>
                    <a:pt x="8796" y="1969"/>
                  </a:lnTo>
                  <a:lnTo>
                    <a:pt x="8796" y="1969"/>
                  </a:lnTo>
                  <a:lnTo>
                    <a:pt x="8912" y="1969"/>
                  </a:lnTo>
                  <a:lnTo>
                    <a:pt x="8912" y="1969"/>
                  </a:lnTo>
                  <a:lnTo>
                    <a:pt x="9027" y="1969"/>
                  </a:lnTo>
                  <a:lnTo>
                    <a:pt x="9027" y="1969"/>
                  </a:lnTo>
                  <a:lnTo>
                    <a:pt x="8796" y="2085"/>
                  </a:lnTo>
                  <a:lnTo>
                    <a:pt x="8680" y="2085"/>
                  </a:lnTo>
                  <a:lnTo>
                    <a:pt x="8449" y="2201"/>
                  </a:lnTo>
                  <a:lnTo>
                    <a:pt x="8333" y="2317"/>
                  </a:lnTo>
                  <a:lnTo>
                    <a:pt x="8102" y="2317"/>
                  </a:lnTo>
                  <a:lnTo>
                    <a:pt x="7986" y="2432"/>
                  </a:lnTo>
                  <a:lnTo>
                    <a:pt x="7754" y="2664"/>
                  </a:lnTo>
                  <a:lnTo>
                    <a:pt x="7639" y="2780"/>
                  </a:lnTo>
                  <a:lnTo>
                    <a:pt x="7639" y="2780"/>
                  </a:lnTo>
                  <a:lnTo>
                    <a:pt x="7870" y="2780"/>
                  </a:lnTo>
                  <a:lnTo>
                    <a:pt x="8102" y="2780"/>
                  </a:lnTo>
                  <a:lnTo>
                    <a:pt x="8333" y="2780"/>
                  </a:lnTo>
                  <a:lnTo>
                    <a:pt x="8564" y="2664"/>
                  </a:lnTo>
                  <a:lnTo>
                    <a:pt x="8796" y="2548"/>
                  </a:lnTo>
                  <a:lnTo>
                    <a:pt x="9027" y="2548"/>
                  </a:lnTo>
                  <a:lnTo>
                    <a:pt x="9259" y="2432"/>
                  </a:lnTo>
                  <a:lnTo>
                    <a:pt x="9490" y="2432"/>
                  </a:lnTo>
                  <a:lnTo>
                    <a:pt x="9490" y="2432"/>
                  </a:lnTo>
                  <a:lnTo>
                    <a:pt x="8564" y="2896"/>
                  </a:lnTo>
                  <a:lnTo>
                    <a:pt x="7754" y="3243"/>
                  </a:lnTo>
                  <a:lnTo>
                    <a:pt x="6828" y="3590"/>
                  </a:lnTo>
                  <a:lnTo>
                    <a:pt x="6018" y="3938"/>
                  </a:lnTo>
                  <a:lnTo>
                    <a:pt x="5092" y="4401"/>
                  </a:lnTo>
                  <a:lnTo>
                    <a:pt x="4282" y="4749"/>
                  </a:lnTo>
                  <a:lnTo>
                    <a:pt x="3357" y="5096"/>
                  </a:lnTo>
                  <a:lnTo>
                    <a:pt x="2546" y="5559"/>
                  </a:lnTo>
                  <a:lnTo>
                    <a:pt x="2546" y="5559"/>
                  </a:lnTo>
                  <a:lnTo>
                    <a:pt x="2431" y="5443"/>
                  </a:lnTo>
                  <a:lnTo>
                    <a:pt x="2199" y="5328"/>
                  </a:lnTo>
                  <a:lnTo>
                    <a:pt x="1968" y="5212"/>
                  </a:lnTo>
                  <a:lnTo>
                    <a:pt x="1736" y="5212"/>
                  </a:lnTo>
                  <a:lnTo>
                    <a:pt x="1505" y="5096"/>
                  </a:lnTo>
                  <a:lnTo>
                    <a:pt x="1389" y="4980"/>
                  </a:lnTo>
                  <a:lnTo>
                    <a:pt x="1273" y="4864"/>
                  </a:lnTo>
                  <a:lnTo>
                    <a:pt x="1273" y="4517"/>
                  </a:lnTo>
                  <a:lnTo>
                    <a:pt x="1273" y="4517"/>
                  </a:lnTo>
                  <a:lnTo>
                    <a:pt x="1389" y="4401"/>
                  </a:lnTo>
                  <a:lnTo>
                    <a:pt x="1505" y="4170"/>
                  </a:lnTo>
                  <a:lnTo>
                    <a:pt x="1621" y="4054"/>
                  </a:lnTo>
                  <a:lnTo>
                    <a:pt x="1852" y="3822"/>
                  </a:lnTo>
                  <a:lnTo>
                    <a:pt x="1968" y="3706"/>
                  </a:lnTo>
                  <a:lnTo>
                    <a:pt x="2083" y="3590"/>
                  </a:lnTo>
                  <a:lnTo>
                    <a:pt x="2199" y="3359"/>
                  </a:lnTo>
                  <a:lnTo>
                    <a:pt x="2315" y="3243"/>
                  </a:lnTo>
                  <a:lnTo>
                    <a:pt x="2315" y="3243"/>
                  </a:lnTo>
                  <a:lnTo>
                    <a:pt x="2083" y="3011"/>
                  </a:lnTo>
                  <a:lnTo>
                    <a:pt x="1621" y="2896"/>
                  </a:lnTo>
                  <a:lnTo>
                    <a:pt x="1273" y="2896"/>
                  </a:lnTo>
                  <a:lnTo>
                    <a:pt x="810" y="2896"/>
                  </a:lnTo>
                  <a:lnTo>
                    <a:pt x="347" y="2780"/>
                  </a:lnTo>
                  <a:lnTo>
                    <a:pt x="116" y="2664"/>
                  </a:lnTo>
                  <a:lnTo>
                    <a:pt x="0" y="2317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810" y="1274"/>
                  </a:lnTo>
                  <a:lnTo>
                    <a:pt x="1736" y="811"/>
                  </a:lnTo>
                  <a:lnTo>
                    <a:pt x="2662" y="464"/>
                  </a:lnTo>
                  <a:lnTo>
                    <a:pt x="3588" y="232"/>
                  </a:lnTo>
                  <a:lnTo>
                    <a:pt x="4630" y="0"/>
                  </a:lnTo>
                  <a:lnTo>
                    <a:pt x="5555" y="0"/>
                  </a:lnTo>
                  <a:lnTo>
                    <a:pt x="6597" y="116"/>
                  </a:lnTo>
                  <a:lnTo>
                    <a:pt x="7639" y="348"/>
                  </a:lnTo>
                  <a:lnTo>
                    <a:pt x="7639" y="348"/>
                  </a:lnTo>
                  <a:lnTo>
                    <a:pt x="7870" y="464"/>
                  </a:lnTo>
                  <a:lnTo>
                    <a:pt x="8102" y="464"/>
                  </a:lnTo>
                  <a:lnTo>
                    <a:pt x="8333" y="464"/>
                  </a:lnTo>
                  <a:lnTo>
                    <a:pt x="8564" y="464"/>
                  </a:lnTo>
                  <a:lnTo>
                    <a:pt x="8796" y="579"/>
                  </a:lnTo>
                  <a:lnTo>
                    <a:pt x="9143" y="579"/>
                  </a:lnTo>
                  <a:lnTo>
                    <a:pt x="9375" y="579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077480" y="3964680"/>
              <a:ext cx="1291680" cy="466200"/>
            </a:xfrm>
            <a:custGeom>
              <a:avLst/>
              <a:gdLst/>
              <a:ahLst/>
              <a:rect l="l" t="t" r="r" b="b"/>
              <a:pathLst>
                <a:path w="33794" h="8686">
                  <a:moveTo>
                    <a:pt x="-31742" y="0"/>
                  </a:moveTo>
                  <a:lnTo>
                    <a:pt x="-31974" y="116"/>
                  </a:lnTo>
                  <a:lnTo>
                    <a:pt x="-32205" y="348"/>
                  </a:lnTo>
                  <a:lnTo>
                    <a:pt x="-32437" y="463"/>
                  </a:lnTo>
                  <a:lnTo>
                    <a:pt x="-32668" y="579"/>
                  </a:lnTo>
                  <a:lnTo>
                    <a:pt x="32637" y="811"/>
                  </a:lnTo>
                  <a:lnTo>
                    <a:pt x="32521" y="927"/>
                  </a:lnTo>
                  <a:lnTo>
                    <a:pt x="32289" y="1158"/>
                  </a:lnTo>
                  <a:lnTo>
                    <a:pt x="32174" y="1390"/>
                  </a:lnTo>
                  <a:lnTo>
                    <a:pt x="32174" y="1390"/>
                  </a:lnTo>
                  <a:lnTo>
                    <a:pt x="32289" y="1506"/>
                  </a:lnTo>
                  <a:lnTo>
                    <a:pt x="32289" y="1737"/>
                  </a:lnTo>
                  <a:lnTo>
                    <a:pt x="32405" y="1853"/>
                  </a:lnTo>
                  <a:lnTo>
                    <a:pt x="32405" y="1969"/>
                  </a:lnTo>
                  <a:lnTo>
                    <a:pt x="32521" y="2085"/>
                  </a:lnTo>
                  <a:lnTo>
                    <a:pt x="32637" y="2201"/>
                  </a:lnTo>
                  <a:lnTo>
                    <a:pt x="32752" y="2316"/>
                  </a:lnTo>
                  <a:lnTo>
                    <a:pt x="-32668" y="2432"/>
                  </a:lnTo>
                  <a:lnTo>
                    <a:pt x="-32668" y="2432"/>
                  </a:lnTo>
                  <a:lnTo>
                    <a:pt x="29628" y="3011"/>
                  </a:lnTo>
                  <a:lnTo>
                    <a:pt x="26271" y="3590"/>
                  </a:lnTo>
                  <a:lnTo>
                    <a:pt x="23031" y="4169"/>
                  </a:lnTo>
                  <a:lnTo>
                    <a:pt x="19790" y="4864"/>
                  </a:lnTo>
                  <a:lnTo>
                    <a:pt x="16550" y="5443"/>
                  </a:lnTo>
                  <a:lnTo>
                    <a:pt x="13309" y="6138"/>
                  </a:lnTo>
                  <a:lnTo>
                    <a:pt x="10069" y="6833"/>
                  </a:lnTo>
                  <a:lnTo>
                    <a:pt x="6713" y="7644"/>
                  </a:lnTo>
                  <a:lnTo>
                    <a:pt x="6713" y="7644"/>
                  </a:lnTo>
                  <a:lnTo>
                    <a:pt x="0" y="8686"/>
                  </a:lnTo>
                  <a:lnTo>
                    <a:pt x="0" y="8686"/>
                  </a:lnTo>
                  <a:lnTo>
                    <a:pt x="0" y="8454"/>
                  </a:lnTo>
                  <a:lnTo>
                    <a:pt x="0" y="8223"/>
                  </a:lnTo>
                  <a:lnTo>
                    <a:pt x="0" y="7991"/>
                  </a:lnTo>
                  <a:lnTo>
                    <a:pt x="0" y="7760"/>
                  </a:lnTo>
                  <a:lnTo>
                    <a:pt x="116" y="7528"/>
                  </a:lnTo>
                  <a:lnTo>
                    <a:pt x="116" y="7296"/>
                  </a:lnTo>
                  <a:lnTo>
                    <a:pt x="232" y="7065"/>
                  </a:lnTo>
                  <a:lnTo>
                    <a:pt x="232" y="6833"/>
                  </a:lnTo>
                  <a:lnTo>
                    <a:pt x="232" y="6833"/>
                  </a:lnTo>
                  <a:lnTo>
                    <a:pt x="694" y="6486"/>
                  </a:lnTo>
                  <a:lnTo>
                    <a:pt x="694" y="6486"/>
                  </a:lnTo>
                  <a:lnTo>
                    <a:pt x="2662" y="6138"/>
                  </a:lnTo>
                  <a:lnTo>
                    <a:pt x="4745" y="5791"/>
                  </a:lnTo>
                  <a:lnTo>
                    <a:pt x="6713" y="5327"/>
                  </a:lnTo>
                  <a:lnTo>
                    <a:pt x="8796" y="4980"/>
                  </a:lnTo>
                  <a:lnTo>
                    <a:pt x="10879" y="4633"/>
                  </a:lnTo>
                  <a:lnTo>
                    <a:pt x="12962" y="4169"/>
                  </a:lnTo>
                  <a:lnTo>
                    <a:pt x="14930" y="3706"/>
                  </a:lnTo>
                  <a:lnTo>
                    <a:pt x="17013" y="3243"/>
                  </a:lnTo>
                  <a:lnTo>
                    <a:pt x="17013" y="3243"/>
                  </a:lnTo>
                  <a:lnTo>
                    <a:pt x="30553" y="579"/>
                  </a:lnTo>
                  <a:lnTo>
                    <a:pt x="30553" y="579"/>
                  </a:lnTo>
                  <a:lnTo>
                    <a:pt x="31016" y="463"/>
                  </a:lnTo>
                  <a:lnTo>
                    <a:pt x="31363" y="463"/>
                  </a:lnTo>
                  <a:lnTo>
                    <a:pt x="31826" y="348"/>
                  </a:lnTo>
                  <a:lnTo>
                    <a:pt x="32174" y="232"/>
                  </a:lnTo>
                  <a:lnTo>
                    <a:pt x="32521" y="232"/>
                  </a:lnTo>
                  <a:lnTo>
                    <a:pt x="-32552" y="116"/>
                  </a:lnTo>
                  <a:lnTo>
                    <a:pt x="-32205" y="116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847440" y="4045680"/>
              <a:ext cx="181080" cy="204840"/>
            </a:xfrm>
            <a:custGeom>
              <a:avLst/>
              <a:gdLst/>
              <a:ahLst/>
              <a:rect l="l" t="t" r="r" b="b"/>
              <a:pathLst>
                <a:path w="4745" h="3821">
                  <a:moveTo>
                    <a:pt x="4745" y="695"/>
                  </a:moveTo>
                  <a:lnTo>
                    <a:pt x="4514" y="2895"/>
                  </a:lnTo>
                  <a:lnTo>
                    <a:pt x="4514" y="2895"/>
                  </a:lnTo>
                  <a:lnTo>
                    <a:pt x="4282" y="3011"/>
                  </a:lnTo>
                  <a:lnTo>
                    <a:pt x="4051" y="3242"/>
                  </a:lnTo>
                  <a:lnTo>
                    <a:pt x="3819" y="3474"/>
                  </a:lnTo>
                  <a:lnTo>
                    <a:pt x="3588" y="3590"/>
                  </a:lnTo>
                  <a:lnTo>
                    <a:pt x="3356" y="3706"/>
                  </a:lnTo>
                  <a:lnTo>
                    <a:pt x="3125" y="3821"/>
                  </a:lnTo>
                  <a:lnTo>
                    <a:pt x="2893" y="3706"/>
                  </a:lnTo>
                  <a:lnTo>
                    <a:pt x="2662" y="3358"/>
                  </a:lnTo>
                  <a:lnTo>
                    <a:pt x="2662" y="3358"/>
                  </a:lnTo>
                  <a:lnTo>
                    <a:pt x="2430" y="3358"/>
                  </a:lnTo>
                  <a:lnTo>
                    <a:pt x="2315" y="3358"/>
                  </a:lnTo>
                  <a:lnTo>
                    <a:pt x="2199" y="3474"/>
                  </a:lnTo>
                  <a:lnTo>
                    <a:pt x="1967" y="3474"/>
                  </a:lnTo>
                  <a:lnTo>
                    <a:pt x="1852" y="3590"/>
                  </a:lnTo>
                  <a:lnTo>
                    <a:pt x="1736" y="3706"/>
                  </a:lnTo>
                  <a:lnTo>
                    <a:pt x="1505" y="3706"/>
                  </a:lnTo>
                  <a:lnTo>
                    <a:pt x="1389" y="3821"/>
                  </a:lnTo>
                  <a:lnTo>
                    <a:pt x="1389" y="3821"/>
                  </a:lnTo>
                  <a:lnTo>
                    <a:pt x="1042" y="3474"/>
                  </a:lnTo>
                  <a:lnTo>
                    <a:pt x="810" y="3127"/>
                  </a:lnTo>
                  <a:lnTo>
                    <a:pt x="579" y="2663"/>
                  </a:lnTo>
                  <a:lnTo>
                    <a:pt x="463" y="2200"/>
                  </a:lnTo>
                  <a:lnTo>
                    <a:pt x="231" y="1853"/>
                  </a:lnTo>
                  <a:lnTo>
                    <a:pt x="116" y="1389"/>
                  </a:lnTo>
                  <a:lnTo>
                    <a:pt x="0" y="926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463" y="231"/>
                  </a:lnTo>
                  <a:lnTo>
                    <a:pt x="1157" y="0"/>
                  </a:lnTo>
                  <a:lnTo>
                    <a:pt x="1736" y="0"/>
                  </a:lnTo>
                  <a:lnTo>
                    <a:pt x="2430" y="0"/>
                  </a:lnTo>
                  <a:lnTo>
                    <a:pt x="3009" y="116"/>
                  </a:lnTo>
                  <a:lnTo>
                    <a:pt x="3703" y="231"/>
                  </a:lnTo>
                  <a:lnTo>
                    <a:pt x="4282" y="463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033200" y="4089240"/>
              <a:ext cx="26280" cy="105480"/>
            </a:xfrm>
            <a:custGeom>
              <a:avLst/>
              <a:gdLst/>
              <a:ahLst/>
              <a:rect l="l" t="t" r="r" b="b"/>
              <a:pathLst>
                <a:path w="694" h="1969">
                  <a:moveTo>
                    <a:pt x="578" y="1969"/>
                  </a:moveTo>
                  <a:lnTo>
                    <a:pt x="463" y="1969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969"/>
                  </a:lnTo>
                  <a:lnTo>
                    <a:pt x="0" y="1969"/>
                  </a:lnTo>
                  <a:lnTo>
                    <a:pt x="0" y="1853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347" y="0"/>
                  </a:lnTo>
                  <a:lnTo>
                    <a:pt x="694" y="116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068480" y="4101480"/>
              <a:ext cx="30960" cy="105480"/>
            </a:xfrm>
            <a:custGeom>
              <a:avLst/>
              <a:gdLst/>
              <a:ahLst/>
              <a:rect l="l" t="t" r="r" b="b"/>
              <a:pathLst>
                <a:path w="810" h="1969">
                  <a:moveTo>
                    <a:pt x="694" y="232"/>
                  </a:moveTo>
                  <a:lnTo>
                    <a:pt x="810" y="463"/>
                  </a:lnTo>
                  <a:lnTo>
                    <a:pt x="694" y="579"/>
                  </a:lnTo>
                  <a:lnTo>
                    <a:pt x="694" y="695"/>
                  </a:lnTo>
                  <a:lnTo>
                    <a:pt x="694" y="927"/>
                  </a:lnTo>
                  <a:lnTo>
                    <a:pt x="694" y="1042"/>
                  </a:lnTo>
                  <a:lnTo>
                    <a:pt x="694" y="1274"/>
                  </a:lnTo>
                  <a:lnTo>
                    <a:pt x="694" y="1390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737"/>
                  </a:lnTo>
                  <a:lnTo>
                    <a:pt x="578" y="1737"/>
                  </a:lnTo>
                  <a:lnTo>
                    <a:pt x="463" y="1853"/>
                  </a:lnTo>
                  <a:lnTo>
                    <a:pt x="463" y="1853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853"/>
                  </a:lnTo>
                  <a:lnTo>
                    <a:pt x="115" y="1853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506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231" y="232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116"/>
                  </a:lnTo>
                  <a:lnTo>
                    <a:pt x="347" y="116"/>
                  </a:lnTo>
                  <a:lnTo>
                    <a:pt x="463" y="232"/>
                  </a:lnTo>
                  <a:lnTo>
                    <a:pt x="463" y="232"/>
                  </a:lnTo>
                  <a:lnTo>
                    <a:pt x="578" y="347"/>
                  </a:lnTo>
                  <a:lnTo>
                    <a:pt x="578" y="347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081800" y="4101480"/>
              <a:ext cx="1326960" cy="441360"/>
            </a:xfrm>
            <a:custGeom>
              <a:avLst/>
              <a:gdLst/>
              <a:ahLst/>
              <a:rect l="l" t="t" r="r" b="b"/>
              <a:pathLst>
                <a:path w="34719" h="8223">
                  <a:moveTo>
                    <a:pt x="-31048" y="0"/>
                  </a:moveTo>
                  <a:lnTo>
                    <a:pt x="-31279" y="232"/>
                  </a:lnTo>
                  <a:lnTo>
                    <a:pt x="-31395" y="347"/>
                  </a:lnTo>
                  <a:lnTo>
                    <a:pt x="-31627" y="579"/>
                  </a:lnTo>
                  <a:lnTo>
                    <a:pt x="-31742" y="811"/>
                  </a:lnTo>
                  <a:lnTo>
                    <a:pt x="-31858" y="1042"/>
                  </a:lnTo>
                  <a:lnTo>
                    <a:pt x="-31858" y="1390"/>
                  </a:lnTo>
                  <a:lnTo>
                    <a:pt x="-31858" y="1621"/>
                  </a:lnTo>
                  <a:lnTo>
                    <a:pt x="-31742" y="1853"/>
                  </a:lnTo>
                  <a:lnTo>
                    <a:pt x="-31742" y="1853"/>
                  </a:lnTo>
                  <a:lnTo>
                    <a:pt x="-31742" y="2085"/>
                  </a:lnTo>
                  <a:lnTo>
                    <a:pt x="-31627" y="2200"/>
                  </a:lnTo>
                  <a:lnTo>
                    <a:pt x="-31511" y="2200"/>
                  </a:lnTo>
                  <a:lnTo>
                    <a:pt x="-31395" y="2316"/>
                  </a:lnTo>
                  <a:lnTo>
                    <a:pt x="-31279" y="2432"/>
                  </a:lnTo>
                  <a:lnTo>
                    <a:pt x="-31164" y="2432"/>
                  </a:lnTo>
                  <a:lnTo>
                    <a:pt x="-30932" y="2548"/>
                  </a:lnTo>
                  <a:lnTo>
                    <a:pt x="-30817" y="2548"/>
                  </a:lnTo>
                  <a:lnTo>
                    <a:pt x="-30817" y="2548"/>
                  </a:lnTo>
                  <a:lnTo>
                    <a:pt x="-31048" y="2664"/>
                  </a:lnTo>
                  <a:lnTo>
                    <a:pt x="-31395" y="2664"/>
                  </a:lnTo>
                  <a:lnTo>
                    <a:pt x="-31627" y="2779"/>
                  </a:lnTo>
                  <a:lnTo>
                    <a:pt x="-31858" y="2779"/>
                  </a:lnTo>
                  <a:lnTo>
                    <a:pt x="-32090" y="2779"/>
                  </a:lnTo>
                  <a:lnTo>
                    <a:pt x="-32437" y="2895"/>
                  </a:lnTo>
                  <a:lnTo>
                    <a:pt x="-32668" y="2895"/>
                  </a:lnTo>
                  <a:lnTo>
                    <a:pt x="32636" y="3011"/>
                  </a:lnTo>
                  <a:lnTo>
                    <a:pt x="32636" y="3011"/>
                  </a:lnTo>
                  <a:lnTo>
                    <a:pt x="32405" y="2895"/>
                  </a:lnTo>
                  <a:lnTo>
                    <a:pt x="32173" y="2779"/>
                  </a:lnTo>
                  <a:lnTo>
                    <a:pt x="31942" y="2779"/>
                  </a:lnTo>
                  <a:lnTo>
                    <a:pt x="31710" y="2779"/>
                  </a:lnTo>
                  <a:lnTo>
                    <a:pt x="31479" y="2779"/>
                  </a:lnTo>
                  <a:lnTo>
                    <a:pt x="31247" y="2779"/>
                  </a:lnTo>
                  <a:lnTo>
                    <a:pt x="31016" y="2895"/>
                  </a:lnTo>
                  <a:lnTo>
                    <a:pt x="30785" y="2895"/>
                  </a:lnTo>
                  <a:lnTo>
                    <a:pt x="30785" y="2895"/>
                  </a:lnTo>
                  <a:lnTo>
                    <a:pt x="29974" y="3474"/>
                  </a:lnTo>
                  <a:lnTo>
                    <a:pt x="29974" y="3474"/>
                  </a:lnTo>
                  <a:lnTo>
                    <a:pt x="29974" y="3359"/>
                  </a:lnTo>
                  <a:lnTo>
                    <a:pt x="29974" y="3359"/>
                  </a:lnTo>
                  <a:lnTo>
                    <a:pt x="29859" y="3243"/>
                  </a:lnTo>
                  <a:lnTo>
                    <a:pt x="29859" y="3127"/>
                  </a:lnTo>
                  <a:lnTo>
                    <a:pt x="29859" y="3127"/>
                  </a:lnTo>
                  <a:lnTo>
                    <a:pt x="29859" y="3011"/>
                  </a:lnTo>
                  <a:lnTo>
                    <a:pt x="29859" y="3011"/>
                  </a:lnTo>
                  <a:lnTo>
                    <a:pt x="29974" y="2895"/>
                  </a:lnTo>
                  <a:lnTo>
                    <a:pt x="29974" y="2895"/>
                  </a:lnTo>
                  <a:lnTo>
                    <a:pt x="-32321" y="2316"/>
                  </a:lnTo>
                  <a:lnTo>
                    <a:pt x="-32321" y="2316"/>
                  </a:lnTo>
                  <a:lnTo>
                    <a:pt x="-32205" y="2316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553" y="2085"/>
                  </a:lnTo>
                  <a:lnTo>
                    <a:pt x="32521" y="2200"/>
                  </a:lnTo>
                  <a:lnTo>
                    <a:pt x="31942" y="2200"/>
                  </a:lnTo>
                  <a:lnTo>
                    <a:pt x="31479" y="2316"/>
                  </a:lnTo>
                  <a:lnTo>
                    <a:pt x="31016" y="2432"/>
                  </a:lnTo>
                  <a:lnTo>
                    <a:pt x="30437" y="2548"/>
                  </a:lnTo>
                  <a:lnTo>
                    <a:pt x="29974" y="2664"/>
                  </a:lnTo>
                  <a:lnTo>
                    <a:pt x="29512" y="2779"/>
                  </a:lnTo>
                  <a:lnTo>
                    <a:pt x="29512" y="2779"/>
                  </a:lnTo>
                  <a:lnTo>
                    <a:pt x="29396" y="2664"/>
                  </a:lnTo>
                  <a:lnTo>
                    <a:pt x="29164" y="2664"/>
                  </a:lnTo>
                  <a:lnTo>
                    <a:pt x="28933" y="2548"/>
                  </a:lnTo>
                  <a:lnTo>
                    <a:pt x="28701" y="2548"/>
                  </a:lnTo>
                  <a:lnTo>
                    <a:pt x="28470" y="2432"/>
                  </a:lnTo>
                  <a:lnTo>
                    <a:pt x="28238" y="2548"/>
                  </a:lnTo>
                  <a:lnTo>
                    <a:pt x="28123" y="2548"/>
                  </a:lnTo>
                  <a:lnTo>
                    <a:pt x="27891" y="2664"/>
                  </a:lnTo>
                  <a:lnTo>
                    <a:pt x="27891" y="2664"/>
                  </a:lnTo>
                  <a:lnTo>
                    <a:pt x="27660" y="2895"/>
                  </a:lnTo>
                  <a:lnTo>
                    <a:pt x="27544" y="3011"/>
                  </a:lnTo>
                  <a:lnTo>
                    <a:pt x="27428" y="3011"/>
                  </a:lnTo>
                  <a:lnTo>
                    <a:pt x="27197" y="3011"/>
                  </a:lnTo>
                  <a:lnTo>
                    <a:pt x="27081" y="2895"/>
                  </a:lnTo>
                  <a:lnTo>
                    <a:pt x="26850" y="2895"/>
                  </a:lnTo>
                  <a:lnTo>
                    <a:pt x="26618" y="2895"/>
                  </a:lnTo>
                  <a:lnTo>
                    <a:pt x="26502" y="3127"/>
                  </a:lnTo>
                  <a:lnTo>
                    <a:pt x="26502" y="3127"/>
                  </a:lnTo>
                  <a:lnTo>
                    <a:pt x="26387" y="3474"/>
                  </a:lnTo>
                  <a:lnTo>
                    <a:pt x="26155" y="3706"/>
                  </a:lnTo>
                  <a:lnTo>
                    <a:pt x="25924" y="3822"/>
                  </a:lnTo>
                  <a:lnTo>
                    <a:pt x="25577" y="3822"/>
                  </a:lnTo>
                  <a:lnTo>
                    <a:pt x="25229" y="3822"/>
                  </a:lnTo>
                  <a:lnTo>
                    <a:pt x="24882" y="3822"/>
                  </a:lnTo>
                  <a:lnTo>
                    <a:pt x="24651" y="3822"/>
                  </a:lnTo>
                  <a:lnTo>
                    <a:pt x="24304" y="3938"/>
                  </a:lnTo>
                  <a:lnTo>
                    <a:pt x="24304" y="3938"/>
                  </a:lnTo>
                  <a:lnTo>
                    <a:pt x="21526" y="4517"/>
                  </a:lnTo>
                  <a:lnTo>
                    <a:pt x="18633" y="5096"/>
                  </a:lnTo>
                  <a:lnTo>
                    <a:pt x="15855" y="5559"/>
                  </a:lnTo>
                  <a:lnTo>
                    <a:pt x="13078" y="6138"/>
                  </a:lnTo>
                  <a:lnTo>
                    <a:pt x="10184" y="6717"/>
                  </a:lnTo>
                  <a:lnTo>
                    <a:pt x="7407" y="7296"/>
                  </a:lnTo>
                  <a:lnTo>
                    <a:pt x="4513" y="7759"/>
                  </a:lnTo>
                  <a:lnTo>
                    <a:pt x="1620" y="8223"/>
                  </a:lnTo>
                  <a:lnTo>
                    <a:pt x="1620" y="8223"/>
                  </a:lnTo>
                  <a:lnTo>
                    <a:pt x="1389" y="8107"/>
                  </a:lnTo>
                  <a:lnTo>
                    <a:pt x="1157" y="7875"/>
                  </a:lnTo>
                  <a:lnTo>
                    <a:pt x="926" y="7759"/>
                  </a:lnTo>
                  <a:lnTo>
                    <a:pt x="694" y="7528"/>
                  </a:lnTo>
                  <a:lnTo>
                    <a:pt x="463" y="7296"/>
                  </a:lnTo>
                  <a:lnTo>
                    <a:pt x="231" y="7064"/>
                  </a:lnTo>
                  <a:lnTo>
                    <a:pt x="116" y="6717"/>
                  </a:lnTo>
                  <a:lnTo>
                    <a:pt x="0" y="6485"/>
                  </a:lnTo>
                  <a:lnTo>
                    <a:pt x="0" y="6485"/>
                  </a:lnTo>
                  <a:lnTo>
                    <a:pt x="4398" y="5675"/>
                  </a:lnTo>
                  <a:lnTo>
                    <a:pt x="8680" y="4864"/>
                  </a:lnTo>
                  <a:lnTo>
                    <a:pt x="12846" y="3938"/>
                  </a:lnTo>
                  <a:lnTo>
                    <a:pt x="17128" y="3127"/>
                  </a:lnTo>
                  <a:lnTo>
                    <a:pt x="21295" y="2316"/>
                  </a:lnTo>
                  <a:lnTo>
                    <a:pt x="25577" y="1506"/>
                  </a:lnTo>
                  <a:lnTo>
                    <a:pt x="29859" y="695"/>
                  </a:lnTo>
                  <a:lnTo>
                    <a:pt x="-31279" y="116"/>
                  </a:lnTo>
                  <a:lnTo>
                    <a:pt x="-31279" y="116"/>
                  </a:lnTo>
                  <a:lnTo>
                    <a:pt x="-31279" y="0"/>
                  </a:lnTo>
                  <a:lnTo>
                    <a:pt x="-31279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78400" y="4194720"/>
              <a:ext cx="344880" cy="565560"/>
            </a:xfrm>
            <a:custGeom>
              <a:avLst/>
              <a:gdLst/>
              <a:ahLst/>
              <a:rect l="l" t="t" r="r" b="b"/>
              <a:pathLst>
                <a:path w="9027" h="10539">
                  <a:moveTo>
                    <a:pt x="7176" y="579"/>
                  </a:moveTo>
                  <a:lnTo>
                    <a:pt x="7176" y="695"/>
                  </a:lnTo>
                  <a:lnTo>
                    <a:pt x="7176" y="811"/>
                  </a:lnTo>
                  <a:lnTo>
                    <a:pt x="7176" y="927"/>
                  </a:lnTo>
                  <a:lnTo>
                    <a:pt x="7060" y="1042"/>
                  </a:lnTo>
                  <a:lnTo>
                    <a:pt x="7060" y="1158"/>
                  </a:lnTo>
                  <a:lnTo>
                    <a:pt x="6944" y="1274"/>
                  </a:lnTo>
                  <a:lnTo>
                    <a:pt x="6828" y="1274"/>
                  </a:lnTo>
                  <a:lnTo>
                    <a:pt x="6713" y="1274"/>
                  </a:lnTo>
                  <a:lnTo>
                    <a:pt x="6713" y="1274"/>
                  </a:lnTo>
                  <a:lnTo>
                    <a:pt x="6597" y="1274"/>
                  </a:lnTo>
                  <a:lnTo>
                    <a:pt x="6365" y="1274"/>
                  </a:lnTo>
                  <a:lnTo>
                    <a:pt x="6134" y="1274"/>
                  </a:lnTo>
                  <a:lnTo>
                    <a:pt x="6018" y="1274"/>
                  </a:lnTo>
                  <a:lnTo>
                    <a:pt x="5787" y="1390"/>
                  </a:lnTo>
                  <a:lnTo>
                    <a:pt x="5671" y="1506"/>
                  </a:lnTo>
                  <a:lnTo>
                    <a:pt x="5555" y="1622"/>
                  </a:lnTo>
                  <a:lnTo>
                    <a:pt x="5440" y="1737"/>
                  </a:lnTo>
                  <a:lnTo>
                    <a:pt x="5440" y="1737"/>
                  </a:lnTo>
                  <a:lnTo>
                    <a:pt x="5324" y="1969"/>
                  </a:lnTo>
                  <a:lnTo>
                    <a:pt x="5092" y="2201"/>
                  </a:lnTo>
                  <a:lnTo>
                    <a:pt x="4977" y="2432"/>
                  </a:lnTo>
                  <a:lnTo>
                    <a:pt x="4861" y="2664"/>
                  </a:lnTo>
                  <a:lnTo>
                    <a:pt x="4745" y="2895"/>
                  </a:lnTo>
                  <a:lnTo>
                    <a:pt x="4745" y="3127"/>
                  </a:lnTo>
                  <a:lnTo>
                    <a:pt x="4629" y="3359"/>
                  </a:lnTo>
                  <a:lnTo>
                    <a:pt x="4745" y="3590"/>
                  </a:lnTo>
                  <a:lnTo>
                    <a:pt x="4745" y="3590"/>
                  </a:lnTo>
                  <a:lnTo>
                    <a:pt x="4629" y="3822"/>
                  </a:lnTo>
                  <a:lnTo>
                    <a:pt x="4629" y="4054"/>
                  </a:lnTo>
                  <a:lnTo>
                    <a:pt x="4629" y="4401"/>
                  </a:lnTo>
                  <a:lnTo>
                    <a:pt x="4745" y="4633"/>
                  </a:lnTo>
                  <a:lnTo>
                    <a:pt x="4861" y="4864"/>
                  </a:lnTo>
                  <a:lnTo>
                    <a:pt x="4861" y="5212"/>
                  </a:lnTo>
                  <a:lnTo>
                    <a:pt x="4977" y="5443"/>
                  </a:lnTo>
                  <a:lnTo>
                    <a:pt x="5092" y="5675"/>
                  </a:lnTo>
                  <a:lnTo>
                    <a:pt x="5092" y="5675"/>
                  </a:lnTo>
                  <a:lnTo>
                    <a:pt x="5555" y="6138"/>
                  </a:lnTo>
                  <a:lnTo>
                    <a:pt x="5902" y="6486"/>
                  </a:lnTo>
                  <a:lnTo>
                    <a:pt x="6481" y="6717"/>
                  </a:lnTo>
                  <a:lnTo>
                    <a:pt x="6944" y="6949"/>
                  </a:lnTo>
                  <a:lnTo>
                    <a:pt x="7523" y="7180"/>
                  </a:lnTo>
                  <a:lnTo>
                    <a:pt x="7986" y="7296"/>
                  </a:lnTo>
                  <a:lnTo>
                    <a:pt x="8564" y="7528"/>
                  </a:lnTo>
                  <a:lnTo>
                    <a:pt x="9027" y="7875"/>
                  </a:lnTo>
                  <a:lnTo>
                    <a:pt x="9027" y="7875"/>
                  </a:lnTo>
                  <a:lnTo>
                    <a:pt x="9027" y="7991"/>
                  </a:lnTo>
                  <a:lnTo>
                    <a:pt x="9027" y="8107"/>
                  </a:lnTo>
                  <a:lnTo>
                    <a:pt x="9027" y="8223"/>
                  </a:lnTo>
                  <a:lnTo>
                    <a:pt x="8911" y="8339"/>
                  </a:lnTo>
                  <a:lnTo>
                    <a:pt x="8911" y="8454"/>
                  </a:lnTo>
                  <a:lnTo>
                    <a:pt x="8911" y="8570"/>
                  </a:lnTo>
                  <a:lnTo>
                    <a:pt x="8796" y="8686"/>
                  </a:lnTo>
                  <a:lnTo>
                    <a:pt x="8796" y="8802"/>
                  </a:lnTo>
                  <a:lnTo>
                    <a:pt x="8796" y="8802"/>
                  </a:lnTo>
                  <a:lnTo>
                    <a:pt x="8449" y="8918"/>
                  </a:lnTo>
                  <a:lnTo>
                    <a:pt x="8217" y="9033"/>
                  </a:lnTo>
                  <a:lnTo>
                    <a:pt x="7870" y="8918"/>
                  </a:lnTo>
                  <a:lnTo>
                    <a:pt x="7638" y="8918"/>
                  </a:lnTo>
                  <a:lnTo>
                    <a:pt x="7291" y="8686"/>
                  </a:lnTo>
                  <a:lnTo>
                    <a:pt x="7060" y="8570"/>
                  </a:lnTo>
                  <a:lnTo>
                    <a:pt x="6828" y="8454"/>
                  </a:lnTo>
                  <a:lnTo>
                    <a:pt x="6597" y="8223"/>
                  </a:lnTo>
                  <a:lnTo>
                    <a:pt x="6597" y="8223"/>
                  </a:lnTo>
                  <a:lnTo>
                    <a:pt x="6134" y="8223"/>
                  </a:lnTo>
                  <a:lnTo>
                    <a:pt x="5787" y="8107"/>
                  </a:lnTo>
                  <a:lnTo>
                    <a:pt x="5440" y="7991"/>
                  </a:lnTo>
                  <a:lnTo>
                    <a:pt x="5092" y="7759"/>
                  </a:lnTo>
                  <a:lnTo>
                    <a:pt x="4745" y="7528"/>
                  </a:lnTo>
                  <a:lnTo>
                    <a:pt x="4398" y="7296"/>
                  </a:lnTo>
                  <a:lnTo>
                    <a:pt x="4051" y="7065"/>
                  </a:lnTo>
                  <a:lnTo>
                    <a:pt x="3704" y="6949"/>
                  </a:lnTo>
                  <a:lnTo>
                    <a:pt x="3704" y="6949"/>
                  </a:lnTo>
                  <a:lnTo>
                    <a:pt x="3588" y="6833"/>
                  </a:lnTo>
                  <a:lnTo>
                    <a:pt x="3472" y="6949"/>
                  </a:lnTo>
                  <a:lnTo>
                    <a:pt x="4861" y="8223"/>
                  </a:lnTo>
                  <a:lnTo>
                    <a:pt x="4861" y="8223"/>
                  </a:lnTo>
                  <a:lnTo>
                    <a:pt x="4514" y="8223"/>
                  </a:lnTo>
                  <a:lnTo>
                    <a:pt x="4166" y="8107"/>
                  </a:lnTo>
                  <a:lnTo>
                    <a:pt x="3819" y="7875"/>
                  </a:lnTo>
                  <a:lnTo>
                    <a:pt x="3588" y="7644"/>
                  </a:lnTo>
                  <a:lnTo>
                    <a:pt x="3241" y="7412"/>
                  </a:lnTo>
                  <a:lnTo>
                    <a:pt x="3009" y="7180"/>
                  </a:lnTo>
                  <a:lnTo>
                    <a:pt x="2662" y="7065"/>
                  </a:lnTo>
                  <a:lnTo>
                    <a:pt x="2430" y="6949"/>
                  </a:lnTo>
                  <a:lnTo>
                    <a:pt x="2430" y="6949"/>
                  </a:lnTo>
                  <a:lnTo>
                    <a:pt x="2546" y="7180"/>
                  </a:lnTo>
                  <a:lnTo>
                    <a:pt x="2662" y="7412"/>
                  </a:lnTo>
                  <a:lnTo>
                    <a:pt x="2893" y="7644"/>
                  </a:lnTo>
                  <a:lnTo>
                    <a:pt x="3125" y="7875"/>
                  </a:lnTo>
                  <a:lnTo>
                    <a:pt x="3241" y="7991"/>
                  </a:lnTo>
                  <a:lnTo>
                    <a:pt x="3472" y="8223"/>
                  </a:lnTo>
                  <a:lnTo>
                    <a:pt x="3704" y="8454"/>
                  </a:lnTo>
                  <a:lnTo>
                    <a:pt x="3935" y="8570"/>
                  </a:lnTo>
                  <a:lnTo>
                    <a:pt x="3935" y="8570"/>
                  </a:lnTo>
                  <a:lnTo>
                    <a:pt x="3935" y="8686"/>
                  </a:lnTo>
                  <a:lnTo>
                    <a:pt x="3819" y="8686"/>
                  </a:lnTo>
                  <a:lnTo>
                    <a:pt x="3588" y="8802"/>
                  </a:lnTo>
                  <a:lnTo>
                    <a:pt x="3472" y="8802"/>
                  </a:lnTo>
                  <a:lnTo>
                    <a:pt x="3356" y="8802"/>
                  </a:lnTo>
                  <a:lnTo>
                    <a:pt x="3241" y="8802"/>
                  </a:lnTo>
                  <a:lnTo>
                    <a:pt x="3009" y="8802"/>
                  </a:lnTo>
                  <a:lnTo>
                    <a:pt x="3009" y="8686"/>
                  </a:lnTo>
                  <a:lnTo>
                    <a:pt x="3009" y="8686"/>
                  </a:lnTo>
                  <a:lnTo>
                    <a:pt x="2662" y="8570"/>
                  </a:lnTo>
                  <a:lnTo>
                    <a:pt x="2546" y="8339"/>
                  </a:lnTo>
                  <a:lnTo>
                    <a:pt x="2315" y="8107"/>
                  </a:lnTo>
                  <a:lnTo>
                    <a:pt x="2083" y="7875"/>
                  </a:lnTo>
                  <a:lnTo>
                    <a:pt x="1852" y="7644"/>
                  </a:lnTo>
                  <a:lnTo>
                    <a:pt x="1620" y="7412"/>
                  </a:lnTo>
                  <a:lnTo>
                    <a:pt x="1505" y="7296"/>
                  </a:lnTo>
                  <a:lnTo>
                    <a:pt x="1273" y="7065"/>
                  </a:lnTo>
                  <a:lnTo>
                    <a:pt x="1273" y="7065"/>
                  </a:lnTo>
                  <a:lnTo>
                    <a:pt x="1157" y="7412"/>
                  </a:lnTo>
                  <a:lnTo>
                    <a:pt x="1157" y="7759"/>
                  </a:lnTo>
                  <a:lnTo>
                    <a:pt x="1157" y="8107"/>
                  </a:lnTo>
                  <a:lnTo>
                    <a:pt x="1157" y="8454"/>
                  </a:lnTo>
                  <a:lnTo>
                    <a:pt x="1273" y="8802"/>
                  </a:lnTo>
                  <a:lnTo>
                    <a:pt x="1389" y="9149"/>
                  </a:lnTo>
                  <a:lnTo>
                    <a:pt x="1505" y="9612"/>
                  </a:lnTo>
                  <a:lnTo>
                    <a:pt x="1620" y="9960"/>
                  </a:lnTo>
                  <a:lnTo>
                    <a:pt x="1620" y="9960"/>
                  </a:lnTo>
                  <a:lnTo>
                    <a:pt x="1620" y="10539"/>
                  </a:lnTo>
                  <a:lnTo>
                    <a:pt x="1620" y="10539"/>
                  </a:lnTo>
                  <a:lnTo>
                    <a:pt x="1389" y="10539"/>
                  </a:lnTo>
                  <a:lnTo>
                    <a:pt x="1273" y="10539"/>
                  </a:lnTo>
                  <a:lnTo>
                    <a:pt x="1042" y="10423"/>
                  </a:lnTo>
                  <a:lnTo>
                    <a:pt x="926" y="10423"/>
                  </a:lnTo>
                  <a:lnTo>
                    <a:pt x="810" y="10191"/>
                  </a:lnTo>
                  <a:lnTo>
                    <a:pt x="695" y="10076"/>
                  </a:lnTo>
                  <a:lnTo>
                    <a:pt x="579" y="9960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116" y="9149"/>
                  </a:lnTo>
                  <a:lnTo>
                    <a:pt x="0" y="8570"/>
                  </a:lnTo>
                  <a:lnTo>
                    <a:pt x="116" y="7991"/>
                  </a:lnTo>
                  <a:lnTo>
                    <a:pt x="347" y="7412"/>
                  </a:lnTo>
                  <a:lnTo>
                    <a:pt x="579" y="6833"/>
                  </a:lnTo>
                  <a:lnTo>
                    <a:pt x="810" y="6138"/>
                  </a:lnTo>
                  <a:lnTo>
                    <a:pt x="926" y="5559"/>
                  </a:lnTo>
                  <a:lnTo>
                    <a:pt x="926" y="4864"/>
                  </a:lnTo>
                  <a:lnTo>
                    <a:pt x="926" y="4864"/>
                  </a:lnTo>
                  <a:lnTo>
                    <a:pt x="1157" y="4864"/>
                  </a:lnTo>
                  <a:lnTo>
                    <a:pt x="1389" y="4864"/>
                  </a:lnTo>
                  <a:lnTo>
                    <a:pt x="1620" y="4864"/>
                  </a:lnTo>
                  <a:lnTo>
                    <a:pt x="1852" y="4748"/>
                  </a:lnTo>
                  <a:lnTo>
                    <a:pt x="2083" y="4633"/>
                  </a:lnTo>
                  <a:lnTo>
                    <a:pt x="2315" y="4517"/>
                  </a:lnTo>
                  <a:lnTo>
                    <a:pt x="2546" y="4401"/>
                  </a:lnTo>
                  <a:lnTo>
                    <a:pt x="2662" y="4169"/>
                  </a:lnTo>
                  <a:lnTo>
                    <a:pt x="2662" y="4169"/>
                  </a:lnTo>
                  <a:lnTo>
                    <a:pt x="2778" y="3822"/>
                  </a:lnTo>
                  <a:lnTo>
                    <a:pt x="3009" y="3475"/>
                  </a:lnTo>
                  <a:lnTo>
                    <a:pt x="3125" y="3127"/>
                  </a:lnTo>
                  <a:lnTo>
                    <a:pt x="3241" y="2780"/>
                  </a:lnTo>
                  <a:lnTo>
                    <a:pt x="3241" y="2432"/>
                  </a:lnTo>
                  <a:lnTo>
                    <a:pt x="3241" y="2085"/>
                  </a:lnTo>
                  <a:lnTo>
                    <a:pt x="3125" y="1737"/>
                  </a:lnTo>
                  <a:lnTo>
                    <a:pt x="3009" y="1390"/>
                  </a:lnTo>
                  <a:lnTo>
                    <a:pt x="3009" y="1390"/>
                  </a:lnTo>
                  <a:lnTo>
                    <a:pt x="3125" y="1274"/>
                  </a:lnTo>
                  <a:lnTo>
                    <a:pt x="3241" y="1042"/>
                  </a:lnTo>
                  <a:lnTo>
                    <a:pt x="3472" y="811"/>
                  </a:lnTo>
                  <a:lnTo>
                    <a:pt x="3704" y="695"/>
                  </a:lnTo>
                  <a:lnTo>
                    <a:pt x="3819" y="579"/>
                  </a:lnTo>
                  <a:lnTo>
                    <a:pt x="4051" y="463"/>
                  </a:lnTo>
                  <a:lnTo>
                    <a:pt x="4282" y="463"/>
                  </a:lnTo>
                  <a:lnTo>
                    <a:pt x="4629" y="463"/>
                  </a:lnTo>
                  <a:lnTo>
                    <a:pt x="4629" y="463"/>
                  </a:lnTo>
                  <a:lnTo>
                    <a:pt x="4745" y="579"/>
                  </a:lnTo>
                  <a:lnTo>
                    <a:pt x="4977" y="579"/>
                  </a:lnTo>
                  <a:lnTo>
                    <a:pt x="5092" y="695"/>
                  </a:lnTo>
                  <a:lnTo>
                    <a:pt x="5324" y="811"/>
                  </a:lnTo>
                  <a:lnTo>
                    <a:pt x="5440" y="927"/>
                  </a:lnTo>
                  <a:lnTo>
                    <a:pt x="5555" y="927"/>
                  </a:lnTo>
                  <a:lnTo>
                    <a:pt x="5787" y="927"/>
                  </a:lnTo>
                  <a:lnTo>
                    <a:pt x="6018" y="811"/>
                  </a:lnTo>
                  <a:lnTo>
                    <a:pt x="6018" y="811"/>
                  </a:lnTo>
                  <a:lnTo>
                    <a:pt x="5671" y="463"/>
                  </a:lnTo>
                  <a:lnTo>
                    <a:pt x="5671" y="463"/>
                  </a:lnTo>
                  <a:lnTo>
                    <a:pt x="5902" y="348"/>
                  </a:lnTo>
                  <a:lnTo>
                    <a:pt x="6134" y="232"/>
                  </a:lnTo>
                  <a:lnTo>
                    <a:pt x="6365" y="116"/>
                  </a:lnTo>
                  <a:lnTo>
                    <a:pt x="6597" y="0"/>
                  </a:lnTo>
                  <a:lnTo>
                    <a:pt x="6828" y="0"/>
                  </a:lnTo>
                  <a:lnTo>
                    <a:pt x="6944" y="116"/>
                  </a:lnTo>
                  <a:lnTo>
                    <a:pt x="7060" y="232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69400" y="4250880"/>
              <a:ext cx="110520" cy="173880"/>
            </a:xfrm>
            <a:custGeom>
              <a:avLst/>
              <a:gdLst/>
              <a:ahLst/>
              <a:rect l="l" t="t" r="r" b="b"/>
              <a:pathLst>
                <a:path w="2893" h="3243">
                  <a:moveTo>
                    <a:pt x="2893" y="927"/>
                  </a:moveTo>
                  <a:lnTo>
                    <a:pt x="2893" y="1159"/>
                  </a:lnTo>
                  <a:lnTo>
                    <a:pt x="2893" y="1390"/>
                  </a:lnTo>
                  <a:lnTo>
                    <a:pt x="2893" y="1622"/>
                  </a:lnTo>
                  <a:lnTo>
                    <a:pt x="2893" y="1853"/>
                  </a:lnTo>
                  <a:lnTo>
                    <a:pt x="2777" y="2085"/>
                  </a:lnTo>
                  <a:lnTo>
                    <a:pt x="2661" y="2317"/>
                  </a:lnTo>
                  <a:lnTo>
                    <a:pt x="2546" y="2548"/>
                  </a:lnTo>
                  <a:lnTo>
                    <a:pt x="2430" y="2780"/>
                  </a:lnTo>
                  <a:lnTo>
                    <a:pt x="2430" y="2780"/>
                  </a:lnTo>
                  <a:lnTo>
                    <a:pt x="2314" y="2896"/>
                  </a:lnTo>
                  <a:lnTo>
                    <a:pt x="2199" y="3012"/>
                  </a:lnTo>
                  <a:lnTo>
                    <a:pt x="1967" y="3127"/>
                  </a:lnTo>
                  <a:lnTo>
                    <a:pt x="1851" y="3243"/>
                  </a:lnTo>
                  <a:lnTo>
                    <a:pt x="1620" y="3243"/>
                  </a:lnTo>
                  <a:lnTo>
                    <a:pt x="1388" y="3243"/>
                  </a:lnTo>
                  <a:lnTo>
                    <a:pt x="1157" y="3243"/>
                  </a:lnTo>
                  <a:lnTo>
                    <a:pt x="1041" y="3243"/>
                  </a:lnTo>
                  <a:lnTo>
                    <a:pt x="1041" y="3243"/>
                  </a:lnTo>
                  <a:lnTo>
                    <a:pt x="810" y="3127"/>
                  </a:lnTo>
                  <a:lnTo>
                    <a:pt x="694" y="3127"/>
                  </a:lnTo>
                  <a:lnTo>
                    <a:pt x="463" y="3012"/>
                  </a:lnTo>
                  <a:lnTo>
                    <a:pt x="347" y="2896"/>
                  </a:lnTo>
                  <a:lnTo>
                    <a:pt x="231" y="2664"/>
                  </a:lnTo>
                  <a:lnTo>
                    <a:pt x="231" y="2548"/>
                  </a:lnTo>
                  <a:lnTo>
                    <a:pt x="115" y="2433"/>
                  </a:lnTo>
                  <a:lnTo>
                    <a:pt x="0" y="2201"/>
                  </a:lnTo>
                  <a:lnTo>
                    <a:pt x="0" y="2201"/>
                  </a:lnTo>
                  <a:lnTo>
                    <a:pt x="231" y="2317"/>
                  </a:lnTo>
                  <a:lnTo>
                    <a:pt x="347" y="2317"/>
                  </a:lnTo>
                  <a:lnTo>
                    <a:pt x="578" y="2317"/>
                  </a:lnTo>
                  <a:lnTo>
                    <a:pt x="810" y="2317"/>
                  </a:lnTo>
                  <a:lnTo>
                    <a:pt x="926" y="2317"/>
                  </a:lnTo>
                  <a:lnTo>
                    <a:pt x="1157" y="2201"/>
                  </a:lnTo>
                  <a:lnTo>
                    <a:pt x="1388" y="2201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736" y="1738"/>
                  </a:lnTo>
                  <a:lnTo>
                    <a:pt x="1851" y="1506"/>
                  </a:lnTo>
                  <a:lnTo>
                    <a:pt x="1851" y="1390"/>
                  </a:lnTo>
                  <a:lnTo>
                    <a:pt x="1967" y="1159"/>
                  </a:lnTo>
                  <a:lnTo>
                    <a:pt x="1967" y="1043"/>
                  </a:lnTo>
                  <a:lnTo>
                    <a:pt x="1851" y="811"/>
                  </a:lnTo>
                  <a:lnTo>
                    <a:pt x="1736" y="695"/>
                  </a:lnTo>
                  <a:lnTo>
                    <a:pt x="1736" y="695"/>
                  </a:lnTo>
                  <a:lnTo>
                    <a:pt x="1504" y="232"/>
                  </a:lnTo>
                  <a:lnTo>
                    <a:pt x="1504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116"/>
                  </a:lnTo>
                  <a:lnTo>
                    <a:pt x="2314" y="232"/>
                  </a:lnTo>
                  <a:lnTo>
                    <a:pt x="2546" y="348"/>
                  </a:lnTo>
                  <a:lnTo>
                    <a:pt x="2661" y="580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130480" y="4257000"/>
              <a:ext cx="79560" cy="173880"/>
            </a:xfrm>
            <a:custGeom>
              <a:avLst/>
              <a:gdLst/>
              <a:ahLst/>
              <a:rect l="l" t="t" r="r" b="b"/>
              <a:pathLst>
                <a:path w="2084" h="3243">
                  <a:moveTo>
                    <a:pt x="2084" y="464"/>
                  </a:moveTo>
                  <a:lnTo>
                    <a:pt x="2084" y="811"/>
                  </a:lnTo>
                  <a:lnTo>
                    <a:pt x="2084" y="1043"/>
                  </a:lnTo>
                  <a:lnTo>
                    <a:pt x="1968" y="1274"/>
                  </a:lnTo>
                  <a:lnTo>
                    <a:pt x="1852" y="1622"/>
                  </a:lnTo>
                  <a:lnTo>
                    <a:pt x="1736" y="1853"/>
                  </a:lnTo>
                  <a:lnTo>
                    <a:pt x="1621" y="2085"/>
                  </a:lnTo>
                  <a:lnTo>
                    <a:pt x="1505" y="2317"/>
                  </a:lnTo>
                  <a:lnTo>
                    <a:pt x="1389" y="2548"/>
                  </a:lnTo>
                  <a:lnTo>
                    <a:pt x="1389" y="2548"/>
                  </a:lnTo>
                  <a:lnTo>
                    <a:pt x="1158" y="2664"/>
                  </a:lnTo>
                  <a:lnTo>
                    <a:pt x="1042" y="2780"/>
                  </a:lnTo>
                  <a:lnTo>
                    <a:pt x="926" y="2896"/>
                  </a:lnTo>
                  <a:lnTo>
                    <a:pt x="695" y="3011"/>
                  </a:lnTo>
                  <a:lnTo>
                    <a:pt x="579" y="3127"/>
                  </a:lnTo>
                  <a:lnTo>
                    <a:pt x="463" y="3243"/>
                  </a:lnTo>
                  <a:lnTo>
                    <a:pt x="232" y="3243"/>
                  </a:lnTo>
                  <a:lnTo>
                    <a:pt x="0" y="3243"/>
                  </a:lnTo>
                  <a:lnTo>
                    <a:pt x="0" y="3243"/>
                  </a:lnTo>
                  <a:lnTo>
                    <a:pt x="116" y="2896"/>
                  </a:lnTo>
                  <a:lnTo>
                    <a:pt x="116" y="2548"/>
                  </a:lnTo>
                  <a:lnTo>
                    <a:pt x="232" y="2317"/>
                  </a:lnTo>
                  <a:lnTo>
                    <a:pt x="348" y="1969"/>
                  </a:lnTo>
                  <a:lnTo>
                    <a:pt x="348" y="1622"/>
                  </a:lnTo>
                  <a:lnTo>
                    <a:pt x="348" y="1274"/>
                  </a:lnTo>
                  <a:lnTo>
                    <a:pt x="348" y="927"/>
                  </a:lnTo>
                  <a:lnTo>
                    <a:pt x="232" y="579"/>
                  </a:lnTo>
                  <a:lnTo>
                    <a:pt x="232" y="579"/>
                  </a:lnTo>
                  <a:lnTo>
                    <a:pt x="348" y="232"/>
                  </a:lnTo>
                  <a:lnTo>
                    <a:pt x="463" y="116"/>
                  </a:lnTo>
                  <a:lnTo>
                    <a:pt x="695" y="0"/>
                  </a:lnTo>
                  <a:lnTo>
                    <a:pt x="1042" y="0"/>
                  </a:lnTo>
                  <a:lnTo>
                    <a:pt x="1273" y="116"/>
                  </a:lnTo>
                  <a:lnTo>
                    <a:pt x="1621" y="232"/>
                  </a:lnTo>
                  <a:lnTo>
                    <a:pt x="1852" y="348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196720" y="4269600"/>
              <a:ext cx="128160" cy="142920"/>
            </a:xfrm>
            <a:custGeom>
              <a:avLst/>
              <a:gdLst/>
              <a:ahLst/>
              <a:rect l="l" t="t" r="r" b="b"/>
              <a:pathLst>
                <a:path w="3357" h="2664">
                  <a:moveTo>
                    <a:pt x="3357" y="347"/>
                  </a:moveTo>
                  <a:lnTo>
                    <a:pt x="3125" y="811"/>
                  </a:lnTo>
                  <a:lnTo>
                    <a:pt x="2894" y="1158"/>
                  </a:lnTo>
                  <a:lnTo>
                    <a:pt x="2546" y="1505"/>
                  </a:lnTo>
                  <a:lnTo>
                    <a:pt x="2199" y="1853"/>
                  </a:lnTo>
                  <a:lnTo>
                    <a:pt x="1852" y="2200"/>
                  </a:lnTo>
                  <a:lnTo>
                    <a:pt x="1505" y="2432"/>
                  </a:lnTo>
                  <a:lnTo>
                    <a:pt x="1042" y="2548"/>
                  </a:lnTo>
                  <a:lnTo>
                    <a:pt x="695" y="2664"/>
                  </a:lnTo>
                  <a:lnTo>
                    <a:pt x="695" y="2664"/>
                  </a:lnTo>
                  <a:lnTo>
                    <a:pt x="0" y="2548"/>
                  </a:lnTo>
                  <a:lnTo>
                    <a:pt x="0" y="2548"/>
                  </a:lnTo>
                  <a:lnTo>
                    <a:pt x="348" y="2200"/>
                  </a:lnTo>
                  <a:lnTo>
                    <a:pt x="463" y="1853"/>
                  </a:lnTo>
                  <a:lnTo>
                    <a:pt x="695" y="1505"/>
                  </a:lnTo>
                  <a:lnTo>
                    <a:pt x="810" y="1158"/>
                  </a:lnTo>
                  <a:lnTo>
                    <a:pt x="926" y="811"/>
                  </a:lnTo>
                  <a:lnTo>
                    <a:pt x="1158" y="579"/>
                  </a:lnTo>
                  <a:lnTo>
                    <a:pt x="1505" y="232"/>
                  </a:lnTo>
                  <a:lnTo>
                    <a:pt x="1852" y="116"/>
                  </a:lnTo>
                  <a:lnTo>
                    <a:pt x="1852" y="116"/>
                  </a:lnTo>
                  <a:lnTo>
                    <a:pt x="2083" y="0"/>
                  </a:lnTo>
                  <a:lnTo>
                    <a:pt x="2315" y="0"/>
                  </a:lnTo>
                  <a:lnTo>
                    <a:pt x="2431" y="0"/>
                  </a:lnTo>
                  <a:lnTo>
                    <a:pt x="2662" y="0"/>
                  </a:lnTo>
                  <a:lnTo>
                    <a:pt x="2778" y="116"/>
                  </a:lnTo>
                  <a:lnTo>
                    <a:pt x="3009" y="116"/>
                  </a:lnTo>
                  <a:lnTo>
                    <a:pt x="3125" y="232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019600" y="4287960"/>
              <a:ext cx="105840" cy="186480"/>
            </a:xfrm>
            <a:custGeom>
              <a:avLst/>
              <a:gdLst/>
              <a:ahLst/>
              <a:rect l="l" t="t" r="r" b="b"/>
              <a:pathLst>
                <a:path w="2778" h="3475">
                  <a:moveTo>
                    <a:pt x="2778" y="1158"/>
                  </a:moveTo>
                  <a:lnTo>
                    <a:pt x="2662" y="1506"/>
                  </a:lnTo>
                  <a:lnTo>
                    <a:pt x="2662" y="1738"/>
                  </a:lnTo>
                  <a:lnTo>
                    <a:pt x="2546" y="2085"/>
                  </a:lnTo>
                  <a:lnTo>
                    <a:pt x="2430" y="2317"/>
                  </a:lnTo>
                  <a:lnTo>
                    <a:pt x="2430" y="2664"/>
                  </a:lnTo>
                  <a:lnTo>
                    <a:pt x="2199" y="2896"/>
                  </a:lnTo>
                  <a:lnTo>
                    <a:pt x="2083" y="3127"/>
                  </a:lnTo>
                  <a:lnTo>
                    <a:pt x="1736" y="3243"/>
                  </a:lnTo>
                  <a:lnTo>
                    <a:pt x="1736" y="3243"/>
                  </a:lnTo>
                  <a:lnTo>
                    <a:pt x="1620" y="3359"/>
                  </a:lnTo>
                  <a:lnTo>
                    <a:pt x="1505" y="3359"/>
                  </a:lnTo>
                  <a:lnTo>
                    <a:pt x="1273" y="3359"/>
                  </a:lnTo>
                  <a:lnTo>
                    <a:pt x="1157" y="3475"/>
                  </a:lnTo>
                  <a:lnTo>
                    <a:pt x="1042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579" y="3359"/>
                  </a:lnTo>
                  <a:lnTo>
                    <a:pt x="579" y="3359"/>
                  </a:lnTo>
                  <a:lnTo>
                    <a:pt x="347" y="3127"/>
                  </a:lnTo>
                  <a:lnTo>
                    <a:pt x="231" y="2896"/>
                  </a:lnTo>
                  <a:lnTo>
                    <a:pt x="231" y="2664"/>
                  </a:lnTo>
                  <a:lnTo>
                    <a:pt x="116" y="2432"/>
                  </a:lnTo>
                  <a:lnTo>
                    <a:pt x="116" y="2201"/>
                  </a:lnTo>
                  <a:lnTo>
                    <a:pt x="116" y="1969"/>
                  </a:lnTo>
                  <a:lnTo>
                    <a:pt x="0" y="1738"/>
                  </a:lnTo>
                  <a:lnTo>
                    <a:pt x="0" y="1506"/>
                  </a:lnTo>
                  <a:lnTo>
                    <a:pt x="0" y="1506"/>
                  </a:lnTo>
                  <a:lnTo>
                    <a:pt x="926" y="1274"/>
                  </a:lnTo>
                  <a:lnTo>
                    <a:pt x="926" y="1274"/>
                  </a:lnTo>
                  <a:lnTo>
                    <a:pt x="926" y="1390"/>
                  </a:lnTo>
                  <a:lnTo>
                    <a:pt x="926" y="1506"/>
                  </a:lnTo>
                  <a:lnTo>
                    <a:pt x="926" y="1622"/>
                  </a:lnTo>
                  <a:lnTo>
                    <a:pt x="926" y="1738"/>
                  </a:lnTo>
                  <a:lnTo>
                    <a:pt x="926" y="1853"/>
                  </a:lnTo>
                  <a:lnTo>
                    <a:pt x="926" y="1853"/>
                  </a:lnTo>
                  <a:lnTo>
                    <a:pt x="926" y="1969"/>
                  </a:lnTo>
                  <a:lnTo>
                    <a:pt x="1042" y="2085"/>
                  </a:lnTo>
                  <a:lnTo>
                    <a:pt x="1042" y="2085"/>
                  </a:lnTo>
                  <a:lnTo>
                    <a:pt x="1157" y="1738"/>
                  </a:lnTo>
                  <a:lnTo>
                    <a:pt x="1273" y="1390"/>
                  </a:lnTo>
                  <a:lnTo>
                    <a:pt x="1389" y="1158"/>
                  </a:lnTo>
                  <a:lnTo>
                    <a:pt x="1620" y="927"/>
                  </a:lnTo>
                  <a:lnTo>
                    <a:pt x="1852" y="579"/>
                  </a:lnTo>
                  <a:lnTo>
                    <a:pt x="2083" y="348"/>
                  </a:lnTo>
                  <a:lnTo>
                    <a:pt x="2315" y="232"/>
                  </a:lnTo>
                  <a:lnTo>
                    <a:pt x="2546" y="0"/>
                  </a:lnTo>
                  <a:lnTo>
                    <a:pt x="2546" y="0"/>
                  </a:lnTo>
                  <a:lnTo>
                    <a:pt x="2662" y="116"/>
                  </a:lnTo>
                  <a:lnTo>
                    <a:pt x="2778" y="232"/>
                  </a:lnTo>
                  <a:lnTo>
                    <a:pt x="2778" y="348"/>
                  </a:lnTo>
                  <a:lnTo>
                    <a:pt x="2778" y="579"/>
                  </a:lnTo>
                  <a:lnTo>
                    <a:pt x="2778" y="695"/>
                  </a:lnTo>
                  <a:lnTo>
                    <a:pt x="2778" y="927"/>
                  </a:lnTo>
                  <a:lnTo>
                    <a:pt x="2778" y="1043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183680" y="4319280"/>
              <a:ext cx="884520" cy="254880"/>
            </a:xfrm>
            <a:custGeom>
              <a:avLst/>
              <a:gdLst/>
              <a:ahLst/>
              <a:rect l="l" t="t" r="r" b="b"/>
              <a:pathLst>
                <a:path w="23146" h="4749">
                  <a:moveTo>
                    <a:pt x="23146" y="0"/>
                  </a:moveTo>
                  <a:lnTo>
                    <a:pt x="22336" y="232"/>
                  </a:lnTo>
                  <a:lnTo>
                    <a:pt x="21526" y="464"/>
                  </a:lnTo>
                  <a:lnTo>
                    <a:pt x="20600" y="695"/>
                  </a:lnTo>
                  <a:lnTo>
                    <a:pt x="19790" y="1043"/>
                  </a:lnTo>
                  <a:lnTo>
                    <a:pt x="18980" y="1274"/>
                  </a:lnTo>
                  <a:lnTo>
                    <a:pt x="18054" y="1390"/>
                  </a:lnTo>
                  <a:lnTo>
                    <a:pt x="17128" y="1622"/>
                  </a:lnTo>
                  <a:lnTo>
                    <a:pt x="16318" y="1738"/>
                  </a:lnTo>
                  <a:lnTo>
                    <a:pt x="16318" y="1738"/>
                  </a:lnTo>
                  <a:lnTo>
                    <a:pt x="4397" y="4054"/>
                  </a:lnTo>
                  <a:lnTo>
                    <a:pt x="810" y="4749"/>
                  </a:lnTo>
                  <a:lnTo>
                    <a:pt x="0" y="4401"/>
                  </a:lnTo>
                  <a:lnTo>
                    <a:pt x="0" y="4401"/>
                  </a:lnTo>
                  <a:lnTo>
                    <a:pt x="2314" y="3938"/>
                  </a:lnTo>
                  <a:lnTo>
                    <a:pt x="4629" y="3591"/>
                  </a:lnTo>
                  <a:lnTo>
                    <a:pt x="6944" y="3127"/>
                  </a:lnTo>
                  <a:lnTo>
                    <a:pt x="9258" y="2664"/>
                  </a:lnTo>
                  <a:lnTo>
                    <a:pt x="11573" y="2201"/>
                  </a:lnTo>
                  <a:lnTo>
                    <a:pt x="13888" y="1738"/>
                  </a:lnTo>
                  <a:lnTo>
                    <a:pt x="16202" y="1274"/>
                  </a:lnTo>
                  <a:lnTo>
                    <a:pt x="18633" y="927"/>
                  </a:lnTo>
                  <a:lnTo>
                    <a:pt x="18633" y="927"/>
                  </a:lnTo>
                  <a:lnTo>
                    <a:pt x="19211" y="811"/>
                  </a:lnTo>
                  <a:lnTo>
                    <a:pt x="19674" y="695"/>
                  </a:lnTo>
                  <a:lnTo>
                    <a:pt x="20253" y="695"/>
                  </a:lnTo>
                  <a:lnTo>
                    <a:pt x="20831" y="579"/>
                  </a:lnTo>
                  <a:lnTo>
                    <a:pt x="21410" y="464"/>
                  </a:lnTo>
                  <a:lnTo>
                    <a:pt x="21989" y="348"/>
                  </a:lnTo>
                  <a:lnTo>
                    <a:pt x="22567" y="116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72200" y="4356360"/>
              <a:ext cx="79560" cy="335520"/>
            </a:xfrm>
            <a:custGeom>
              <a:avLst/>
              <a:gdLst/>
              <a:ahLst/>
              <a:rect l="l" t="t" r="r" b="b"/>
              <a:pathLst>
                <a:path w="2083" h="6254">
                  <a:moveTo>
                    <a:pt x="1620" y="0"/>
                  </a:moveTo>
                  <a:lnTo>
                    <a:pt x="1273" y="695"/>
                  </a:lnTo>
                  <a:lnTo>
                    <a:pt x="1041" y="1506"/>
                  </a:lnTo>
                  <a:lnTo>
                    <a:pt x="925" y="2316"/>
                  </a:lnTo>
                  <a:lnTo>
                    <a:pt x="925" y="3127"/>
                  </a:lnTo>
                  <a:lnTo>
                    <a:pt x="1041" y="3822"/>
                  </a:lnTo>
                  <a:lnTo>
                    <a:pt x="1273" y="4633"/>
                  </a:lnTo>
                  <a:lnTo>
                    <a:pt x="1620" y="5328"/>
                  </a:lnTo>
                  <a:lnTo>
                    <a:pt x="2083" y="5907"/>
                  </a:lnTo>
                  <a:lnTo>
                    <a:pt x="2083" y="5907"/>
                  </a:lnTo>
                  <a:lnTo>
                    <a:pt x="2083" y="6254"/>
                  </a:lnTo>
                  <a:lnTo>
                    <a:pt x="2083" y="6254"/>
                  </a:lnTo>
                  <a:lnTo>
                    <a:pt x="1851" y="6254"/>
                  </a:lnTo>
                  <a:lnTo>
                    <a:pt x="1736" y="6254"/>
                  </a:lnTo>
                  <a:lnTo>
                    <a:pt x="1504" y="6254"/>
                  </a:lnTo>
                  <a:lnTo>
                    <a:pt x="1388" y="6138"/>
                  </a:lnTo>
                  <a:lnTo>
                    <a:pt x="1273" y="6022"/>
                  </a:lnTo>
                  <a:lnTo>
                    <a:pt x="1041" y="5907"/>
                  </a:lnTo>
                  <a:lnTo>
                    <a:pt x="925" y="5907"/>
                  </a:lnTo>
                  <a:lnTo>
                    <a:pt x="810" y="5791"/>
                  </a:lnTo>
                  <a:lnTo>
                    <a:pt x="810" y="5791"/>
                  </a:lnTo>
                  <a:lnTo>
                    <a:pt x="462" y="5212"/>
                  </a:lnTo>
                  <a:lnTo>
                    <a:pt x="231" y="4748"/>
                  </a:lnTo>
                  <a:lnTo>
                    <a:pt x="0" y="4169"/>
                  </a:lnTo>
                  <a:lnTo>
                    <a:pt x="0" y="3475"/>
                  </a:lnTo>
                  <a:lnTo>
                    <a:pt x="0" y="2896"/>
                  </a:lnTo>
                  <a:lnTo>
                    <a:pt x="0" y="2201"/>
                  </a:lnTo>
                  <a:lnTo>
                    <a:pt x="115" y="1622"/>
                  </a:lnTo>
                  <a:lnTo>
                    <a:pt x="231" y="1043"/>
                  </a:lnTo>
                  <a:lnTo>
                    <a:pt x="231" y="1043"/>
                  </a:lnTo>
                  <a:lnTo>
                    <a:pt x="347" y="927"/>
                  </a:lnTo>
                  <a:lnTo>
                    <a:pt x="462" y="695"/>
                  </a:lnTo>
                  <a:lnTo>
                    <a:pt x="694" y="579"/>
                  </a:lnTo>
                  <a:lnTo>
                    <a:pt x="810" y="348"/>
                  </a:lnTo>
                  <a:lnTo>
                    <a:pt x="925" y="232"/>
                  </a:lnTo>
                  <a:lnTo>
                    <a:pt x="1157" y="116"/>
                  </a:lnTo>
                  <a:lnTo>
                    <a:pt x="1388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29800" y="4375080"/>
              <a:ext cx="39600" cy="279720"/>
            </a:xfrm>
            <a:custGeom>
              <a:avLst/>
              <a:gdLst/>
              <a:ahLst/>
              <a:rect l="l" t="t" r="r" b="b"/>
              <a:pathLst>
                <a:path w="1042" h="5211">
                  <a:moveTo>
                    <a:pt x="694" y="1968"/>
                  </a:moveTo>
                  <a:lnTo>
                    <a:pt x="1042" y="3706"/>
                  </a:lnTo>
                  <a:lnTo>
                    <a:pt x="810" y="5211"/>
                  </a:lnTo>
                  <a:lnTo>
                    <a:pt x="810" y="5211"/>
                  </a:lnTo>
                  <a:lnTo>
                    <a:pt x="463" y="4632"/>
                  </a:lnTo>
                  <a:lnTo>
                    <a:pt x="232" y="3937"/>
                  </a:lnTo>
                  <a:lnTo>
                    <a:pt x="0" y="3358"/>
                  </a:lnTo>
                  <a:lnTo>
                    <a:pt x="0" y="2663"/>
                  </a:lnTo>
                  <a:lnTo>
                    <a:pt x="0" y="1968"/>
                  </a:lnTo>
                  <a:lnTo>
                    <a:pt x="0" y="1274"/>
                  </a:lnTo>
                  <a:lnTo>
                    <a:pt x="232" y="579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694" y="231"/>
                  </a:lnTo>
                  <a:lnTo>
                    <a:pt x="810" y="463"/>
                  </a:lnTo>
                  <a:lnTo>
                    <a:pt x="810" y="695"/>
                  </a:lnTo>
                  <a:lnTo>
                    <a:pt x="810" y="926"/>
                  </a:lnTo>
                  <a:lnTo>
                    <a:pt x="694" y="1158"/>
                  </a:lnTo>
                  <a:lnTo>
                    <a:pt x="694" y="1505"/>
                  </a:lnTo>
                  <a:lnTo>
                    <a:pt x="579" y="1737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971000" y="4381560"/>
              <a:ext cx="35280" cy="55800"/>
            </a:xfrm>
            <a:custGeom>
              <a:avLst/>
              <a:gdLst/>
              <a:ahLst/>
              <a:rect l="l" t="t" r="r" b="b"/>
              <a:pathLst>
                <a:path w="926" h="1042">
                  <a:moveTo>
                    <a:pt x="926" y="926"/>
                  </a:moveTo>
                  <a:lnTo>
                    <a:pt x="926" y="1042"/>
                  </a:lnTo>
                  <a:lnTo>
                    <a:pt x="926" y="1042"/>
                  </a:lnTo>
                  <a:lnTo>
                    <a:pt x="810" y="1042"/>
                  </a:lnTo>
                  <a:lnTo>
                    <a:pt x="694" y="1042"/>
                  </a:lnTo>
                  <a:lnTo>
                    <a:pt x="579" y="1042"/>
                  </a:lnTo>
                  <a:lnTo>
                    <a:pt x="463" y="926"/>
                  </a:lnTo>
                  <a:lnTo>
                    <a:pt x="347" y="926"/>
                  </a:lnTo>
                  <a:lnTo>
                    <a:pt x="231" y="810"/>
                  </a:lnTo>
                  <a:lnTo>
                    <a:pt x="116" y="694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579" y="0"/>
                  </a:lnTo>
                  <a:lnTo>
                    <a:pt x="694" y="115"/>
                  </a:lnTo>
                  <a:lnTo>
                    <a:pt x="810" y="115"/>
                  </a:lnTo>
                  <a:lnTo>
                    <a:pt x="810" y="347"/>
                  </a:lnTo>
                  <a:lnTo>
                    <a:pt x="810" y="463"/>
                  </a:lnTo>
                  <a:lnTo>
                    <a:pt x="926" y="579"/>
                  </a:lnTo>
                  <a:lnTo>
                    <a:pt x="926" y="810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64120" y="4393800"/>
              <a:ext cx="243000" cy="391680"/>
            </a:xfrm>
            <a:custGeom>
              <a:avLst/>
              <a:gdLst/>
              <a:ahLst/>
              <a:rect l="l" t="t" r="r" b="b"/>
              <a:pathLst>
                <a:path w="6365" h="7296">
                  <a:moveTo>
                    <a:pt x="6365" y="5791"/>
                  </a:moveTo>
                  <a:lnTo>
                    <a:pt x="5671" y="6022"/>
                  </a:lnTo>
                  <a:lnTo>
                    <a:pt x="4977" y="6370"/>
                  </a:lnTo>
                  <a:lnTo>
                    <a:pt x="4282" y="6717"/>
                  </a:lnTo>
                  <a:lnTo>
                    <a:pt x="3588" y="7065"/>
                  </a:lnTo>
                  <a:lnTo>
                    <a:pt x="2778" y="7296"/>
                  </a:lnTo>
                  <a:lnTo>
                    <a:pt x="2083" y="7296"/>
                  </a:lnTo>
                  <a:lnTo>
                    <a:pt x="1389" y="6949"/>
                  </a:lnTo>
                  <a:lnTo>
                    <a:pt x="810" y="6370"/>
                  </a:lnTo>
                  <a:lnTo>
                    <a:pt x="810" y="6370"/>
                  </a:lnTo>
                  <a:lnTo>
                    <a:pt x="463" y="5906"/>
                  </a:lnTo>
                  <a:lnTo>
                    <a:pt x="116" y="5327"/>
                  </a:lnTo>
                  <a:lnTo>
                    <a:pt x="0" y="4748"/>
                  </a:lnTo>
                  <a:lnTo>
                    <a:pt x="0" y="4169"/>
                  </a:lnTo>
                  <a:lnTo>
                    <a:pt x="0" y="3590"/>
                  </a:lnTo>
                  <a:lnTo>
                    <a:pt x="0" y="3011"/>
                  </a:lnTo>
                  <a:lnTo>
                    <a:pt x="116" y="2432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695" y="1274"/>
                  </a:lnTo>
                  <a:lnTo>
                    <a:pt x="1157" y="811"/>
                  </a:lnTo>
                  <a:lnTo>
                    <a:pt x="1736" y="579"/>
                  </a:lnTo>
                  <a:lnTo>
                    <a:pt x="2431" y="463"/>
                  </a:lnTo>
                  <a:lnTo>
                    <a:pt x="3125" y="348"/>
                  </a:lnTo>
                  <a:lnTo>
                    <a:pt x="3935" y="232"/>
                  </a:lnTo>
                  <a:lnTo>
                    <a:pt x="4629" y="232"/>
                  </a:lnTo>
                  <a:lnTo>
                    <a:pt x="5208" y="0"/>
                  </a:lnTo>
                  <a:lnTo>
                    <a:pt x="5208" y="0"/>
                  </a:lnTo>
                  <a:lnTo>
                    <a:pt x="5092" y="811"/>
                  </a:lnTo>
                  <a:lnTo>
                    <a:pt x="4977" y="1506"/>
                  </a:lnTo>
                  <a:lnTo>
                    <a:pt x="4977" y="2316"/>
                  </a:lnTo>
                  <a:lnTo>
                    <a:pt x="4977" y="3127"/>
                  </a:lnTo>
                  <a:lnTo>
                    <a:pt x="5092" y="3938"/>
                  </a:lnTo>
                  <a:lnTo>
                    <a:pt x="5324" y="4633"/>
                  </a:lnTo>
                  <a:lnTo>
                    <a:pt x="5787" y="5327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close/>
                </a:path>
              </a:pathLst>
            </a:custGeom>
            <a:solidFill>
              <a:srgbClr val="ff3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059840" y="4399920"/>
              <a:ext cx="893520" cy="857880"/>
            </a:xfrm>
            <a:custGeom>
              <a:avLst/>
              <a:gdLst/>
              <a:ahLst/>
              <a:rect l="l" t="t" r="r" b="b"/>
              <a:pathLst>
                <a:path w="23378" h="15982">
                  <a:moveTo>
                    <a:pt x="23378" y="6949"/>
                  </a:moveTo>
                  <a:lnTo>
                    <a:pt x="23031" y="7180"/>
                  </a:lnTo>
                  <a:lnTo>
                    <a:pt x="22568" y="7412"/>
                  </a:lnTo>
                  <a:lnTo>
                    <a:pt x="22221" y="7528"/>
                  </a:lnTo>
                  <a:lnTo>
                    <a:pt x="21758" y="7528"/>
                  </a:lnTo>
                  <a:lnTo>
                    <a:pt x="21295" y="7643"/>
                  </a:lnTo>
                  <a:lnTo>
                    <a:pt x="20832" y="7643"/>
                  </a:lnTo>
                  <a:lnTo>
                    <a:pt x="20369" y="7759"/>
                  </a:lnTo>
                  <a:lnTo>
                    <a:pt x="19906" y="7875"/>
                  </a:lnTo>
                  <a:lnTo>
                    <a:pt x="19906" y="7875"/>
                  </a:lnTo>
                  <a:lnTo>
                    <a:pt x="16203" y="9033"/>
                  </a:lnTo>
                  <a:lnTo>
                    <a:pt x="2778" y="15055"/>
                  </a:lnTo>
                  <a:lnTo>
                    <a:pt x="2778" y="15055"/>
                  </a:lnTo>
                  <a:lnTo>
                    <a:pt x="2546" y="15171"/>
                  </a:lnTo>
                  <a:lnTo>
                    <a:pt x="2199" y="15403"/>
                  </a:lnTo>
                  <a:lnTo>
                    <a:pt x="1852" y="15518"/>
                  </a:lnTo>
                  <a:lnTo>
                    <a:pt x="1505" y="15750"/>
                  </a:lnTo>
                  <a:lnTo>
                    <a:pt x="1157" y="15866"/>
                  </a:lnTo>
                  <a:lnTo>
                    <a:pt x="810" y="15982"/>
                  </a:lnTo>
                  <a:lnTo>
                    <a:pt x="463" y="15982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0" y="14592"/>
                  </a:lnTo>
                  <a:lnTo>
                    <a:pt x="116" y="13202"/>
                  </a:lnTo>
                  <a:lnTo>
                    <a:pt x="116" y="11813"/>
                  </a:lnTo>
                  <a:lnTo>
                    <a:pt x="232" y="10423"/>
                  </a:lnTo>
                  <a:lnTo>
                    <a:pt x="347" y="8917"/>
                  </a:lnTo>
                  <a:lnTo>
                    <a:pt x="347" y="7528"/>
                  </a:lnTo>
                  <a:lnTo>
                    <a:pt x="463" y="6138"/>
                  </a:lnTo>
                  <a:lnTo>
                    <a:pt x="579" y="4748"/>
                  </a:lnTo>
                  <a:lnTo>
                    <a:pt x="579" y="4748"/>
                  </a:lnTo>
                  <a:lnTo>
                    <a:pt x="1157" y="4748"/>
                  </a:lnTo>
                  <a:lnTo>
                    <a:pt x="1620" y="4980"/>
                  </a:lnTo>
                  <a:lnTo>
                    <a:pt x="2083" y="5211"/>
                  </a:lnTo>
                  <a:lnTo>
                    <a:pt x="2546" y="5559"/>
                  </a:lnTo>
                  <a:lnTo>
                    <a:pt x="3009" y="5790"/>
                  </a:lnTo>
                  <a:lnTo>
                    <a:pt x="3472" y="5790"/>
                  </a:lnTo>
                  <a:lnTo>
                    <a:pt x="3935" y="5675"/>
                  </a:lnTo>
                  <a:lnTo>
                    <a:pt x="4514" y="5327"/>
                  </a:lnTo>
                  <a:lnTo>
                    <a:pt x="4514" y="5327"/>
                  </a:lnTo>
                  <a:lnTo>
                    <a:pt x="4514" y="5211"/>
                  </a:lnTo>
                  <a:lnTo>
                    <a:pt x="4629" y="5096"/>
                  </a:lnTo>
                  <a:lnTo>
                    <a:pt x="4629" y="4980"/>
                  </a:lnTo>
                  <a:lnTo>
                    <a:pt x="4745" y="4980"/>
                  </a:lnTo>
                  <a:lnTo>
                    <a:pt x="4745" y="4864"/>
                  </a:lnTo>
                  <a:lnTo>
                    <a:pt x="4745" y="4748"/>
                  </a:lnTo>
                  <a:lnTo>
                    <a:pt x="4861" y="4632"/>
                  </a:lnTo>
                  <a:lnTo>
                    <a:pt x="4861" y="4517"/>
                  </a:lnTo>
                  <a:lnTo>
                    <a:pt x="4861" y="4517"/>
                  </a:lnTo>
                  <a:lnTo>
                    <a:pt x="4861" y="4401"/>
                  </a:lnTo>
                  <a:lnTo>
                    <a:pt x="4745" y="4285"/>
                  </a:lnTo>
                  <a:lnTo>
                    <a:pt x="4745" y="4169"/>
                  </a:lnTo>
                  <a:lnTo>
                    <a:pt x="4745" y="4053"/>
                  </a:lnTo>
                  <a:lnTo>
                    <a:pt x="4745" y="3937"/>
                  </a:lnTo>
                  <a:lnTo>
                    <a:pt x="4629" y="3822"/>
                  </a:lnTo>
                  <a:lnTo>
                    <a:pt x="4629" y="3706"/>
                  </a:lnTo>
                  <a:lnTo>
                    <a:pt x="4514" y="3706"/>
                  </a:lnTo>
                  <a:lnTo>
                    <a:pt x="4514" y="3706"/>
                  </a:lnTo>
                  <a:lnTo>
                    <a:pt x="6828" y="3127"/>
                  </a:lnTo>
                  <a:lnTo>
                    <a:pt x="9143" y="2664"/>
                  </a:lnTo>
                  <a:lnTo>
                    <a:pt x="11458" y="2316"/>
                  </a:lnTo>
                  <a:lnTo>
                    <a:pt x="13772" y="1853"/>
                  </a:lnTo>
                  <a:lnTo>
                    <a:pt x="15971" y="1390"/>
                  </a:lnTo>
                  <a:lnTo>
                    <a:pt x="18286" y="1042"/>
                  </a:lnTo>
                  <a:lnTo>
                    <a:pt x="20600" y="579"/>
                  </a:lnTo>
                  <a:lnTo>
                    <a:pt x="22799" y="0"/>
                  </a:lnTo>
                  <a:lnTo>
                    <a:pt x="22799" y="0"/>
                  </a:lnTo>
                  <a:lnTo>
                    <a:pt x="22799" y="926"/>
                  </a:lnTo>
                  <a:lnTo>
                    <a:pt x="22799" y="1737"/>
                  </a:lnTo>
                  <a:lnTo>
                    <a:pt x="22799" y="2664"/>
                  </a:lnTo>
                  <a:lnTo>
                    <a:pt x="22799" y="3590"/>
                  </a:lnTo>
                  <a:lnTo>
                    <a:pt x="22915" y="4401"/>
                  </a:lnTo>
                  <a:lnTo>
                    <a:pt x="23031" y="5327"/>
                  </a:lnTo>
                  <a:lnTo>
                    <a:pt x="23147" y="6138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874080" y="4437360"/>
              <a:ext cx="21960" cy="111600"/>
            </a:xfrm>
            <a:custGeom>
              <a:avLst/>
              <a:gdLst/>
              <a:ahLst/>
              <a:rect l="l" t="t" r="r" b="b"/>
              <a:pathLst>
                <a:path w="579" h="2084">
                  <a:moveTo>
                    <a:pt x="579" y="695"/>
                  </a:moveTo>
                  <a:lnTo>
                    <a:pt x="116" y="2084"/>
                  </a:lnTo>
                  <a:lnTo>
                    <a:pt x="116" y="2084"/>
                  </a:lnTo>
                  <a:lnTo>
                    <a:pt x="0" y="1853"/>
                  </a:lnTo>
                  <a:lnTo>
                    <a:pt x="0" y="1621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0" y="810"/>
                  </a:lnTo>
                  <a:lnTo>
                    <a:pt x="0" y="579"/>
                  </a:lnTo>
                  <a:lnTo>
                    <a:pt x="0" y="231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232" y="0"/>
                  </a:lnTo>
                  <a:lnTo>
                    <a:pt x="348" y="116"/>
                  </a:lnTo>
                  <a:lnTo>
                    <a:pt x="348" y="116"/>
                  </a:lnTo>
                  <a:lnTo>
                    <a:pt x="463" y="231"/>
                  </a:lnTo>
                  <a:lnTo>
                    <a:pt x="463" y="347"/>
                  </a:lnTo>
                  <a:lnTo>
                    <a:pt x="463" y="463"/>
                  </a:lnTo>
                  <a:lnTo>
                    <a:pt x="463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90760" y="4654800"/>
              <a:ext cx="154800" cy="105480"/>
            </a:xfrm>
            <a:custGeom>
              <a:avLst/>
              <a:gdLst/>
              <a:ahLst/>
              <a:rect l="l" t="t" r="r" b="b"/>
              <a:pathLst>
                <a:path w="4050" h="1969">
                  <a:moveTo>
                    <a:pt x="1157" y="1274"/>
                  </a:moveTo>
                  <a:lnTo>
                    <a:pt x="1157" y="1158"/>
                  </a:lnTo>
                  <a:lnTo>
                    <a:pt x="1157" y="1042"/>
                  </a:lnTo>
                  <a:lnTo>
                    <a:pt x="1041" y="1042"/>
                  </a:lnTo>
                  <a:lnTo>
                    <a:pt x="1041" y="927"/>
                  </a:lnTo>
                  <a:lnTo>
                    <a:pt x="1041" y="811"/>
                  </a:lnTo>
                  <a:lnTo>
                    <a:pt x="925" y="695"/>
                  </a:lnTo>
                  <a:lnTo>
                    <a:pt x="925" y="579"/>
                  </a:lnTo>
                  <a:lnTo>
                    <a:pt x="925" y="463"/>
                  </a:lnTo>
                  <a:lnTo>
                    <a:pt x="925" y="463"/>
                  </a:lnTo>
                  <a:lnTo>
                    <a:pt x="1157" y="463"/>
                  </a:lnTo>
                  <a:lnTo>
                    <a:pt x="1273" y="579"/>
                  </a:lnTo>
                  <a:lnTo>
                    <a:pt x="1388" y="695"/>
                  </a:lnTo>
                  <a:lnTo>
                    <a:pt x="1504" y="927"/>
                  </a:lnTo>
                  <a:lnTo>
                    <a:pt x="1620" y="1042"/>
                  </a:lnTo>
                  <a:lnTo>
                    <a:pt x="1620" y="1158"/>
                  </a:lnTo>
                  <a:lnTo>
                    <a:pt x="1851" y="1274"/>
                  </a:lnTo>
                  <a:lnTo>
                    <a:pt x="1967" y="1390"/>
                  </a:lnTo>
                  <a:lnTo>
                    <a:pt x="1967" y="1390"/>
                  </a:lnTo>
                  <a:lnTo>
                    <a:pt x="1851" y="1274"/>
                  </a:lnTo>
                  <a:lnTo>
                    <a:pt x="1851" y="1158"/>
                  </a:lnTo>
                  <a:lnTo>
                    <a:pt x="1851" y="1042"/>
                  </a:lnTo>
                  <a:lnTo>
                    <a:pt x="1736" y="927"/>
                  </a:lnTo>
                  <a:lnTo>
                    <a:pt x="1736" y="811"/>
                  </a:lnTo>
                  <a:lnTo>
                    <a:pt x="1736" y="695"/>
                  </a:lnTo>
                  <a:lnTo>
                    <a:pt x="1620" y="579"/>
                  </a:lnTo>
                  <a:lnTo>
                    <a:pt x="1620" y="463"/>
                  </a:lnTo>
                  <a:lnTo>
                    <a:pt x="1620" y="463"/>
                  </a:lnTo>
                  <a:lnTo>
                    <a:pt x="1851" y="463"/>
                  </a:lnTo>
                  <a:lnTo>
                    <a:pt x="1967" y="579"/>
                  </a:lnTo>
                  <a:lnTo>
                    <a:pt x="2083" y="811"/>
                  </a:lnTo>
                  <a:lnTo>
                    <a:pt x="2083" y="927"/>
                  </a:lnTo>
                  <a:lnTo>
                    <a:pt x="2198" y="1158"/>
                  </a:lnTo>
                  <a:lnTo>
                    <a:pt x="2314" y="1274"/>
                  </a:lnTo>
                  <a:lnTo>
                    <a:pt x="2546" y="1274"/>
                  </a:lnTo>
                  <a:lnTo>
                    <a:pt x="2777" y="1274"/>
                  </a:lnTo>
                  <a:lnTo>
                    <a:pt x="2777" y="1274"/>
                  </a:lnTo>
                  <a:lnTo>
                    <a:pt x="2661" y="1158"/>
                  </a:lnTo>
                  <a:lnTo>
                    <a:pt x="2661" y="1042"/>
                  </a:lnTo>
                  <a:lnTo>
                    <a:pt x="2661" y="1042"/>
                  </a:lnTo>
                  <a:lnTo>
                    <a:pt x="2546" y="927"/>
                  </a:lnTo>
                  <a:lnTo>
                    <a:pt x="2546" y="811"/>
                  </a:lnTo>
                  <a:lnTo>
                    <a:pt x="2430" y="695"/>
                  </a:lnTo>
                  <a:lnTo>
                    <a:pt x="2430" y="695"/>
                  </a:lnTo>
                  <a:lnTo>
                    <a:pt x="2430" y="579"/>
                  </a:lnTo>
                  <a:lnTo>
                    <a:pt x="2430" y="579"/>
                  </a:lnTo>
                  <a:lnTo>
                    <a:pt x="2546" y="579"/>
                  </a:lnTo>
                  <a:lnTo>
                    <a:pt x="2777" y="695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3009" y="1042"/>
                  </a:lnTo>
                  <a:lnTo>
                    <a:pt x="3124" y="1158"/>
                  </a:lnTo>
                  <a:lnTo>
                    <a:pt x="3356" y="1158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356" y="927"/>
                  </a:lnTo>
                  <a:lnTo>
                    <a:pt x="3240" y="811"/>
                  </a:lnTo>
                  <a:lnTo>
                    <a:pt x="3124" y="695"/>
                  </a:lnTo>
                  <a:lnTo>
                    <a:pt x="3009" y="579"/>
                  </a:lnTo>
                  <a:lnTo>
                    <a:pt x="3009" y="463"/>
                  </a:lnTo>
                  <a:lnTo>
                    <a:pt x="3009" y="348"/>
                  </a:lnTo>
                  <a:lnTo>
                    <a:pt x="3009" y="232"/>
                  </a:lnTo>
                  <a:lnTo>
                    <a:pt x="3009" y="232"/>
                  </a:lnTo>
                  <a:lnTo>
                    <a:pt x="3124" y="348"/>
                  </a:lnTo>
                  <a:lnTo>
                    <a:pt x="3240" y="348"/>
                  </a:lnTo>
                  <a:lnTo>
                    <a:pt x="3356" y="463"/>
                  </a:lnTo>
                  <a:lnTo>
                    <a:pt x="3471" y="579"/>
                  </a:lnTo>
                  <a:lnTo>
                    <a:pt x="3587" y="695"/>
                  </a:lnTo>
                  <a:lnTo>
                    <a:pt x="3819" y="811"/>
                  </a:lnTo>
                  <a:lnTo>
                    <a:pt x="3934" y="811"/>
                  </a:lnTo>
                  <a:lnTo>
                    <a:pt x="4050" y="927"/>
                  </a:lnTo>
                  <a:lnTo>
                    <a:pt x="4050" y="927"/>
                  </a:lnTo>
                  <a:lnTo>
                    <a:pt x="3934" y="1042"/>
                  </a:lnTo>
                  <a:lnTo>
                    <a:pt x="3819" y="1042"/>
                  </a:lnTo>
                  <a:lnTo>
                    <a:pt x="3703" y="1158"/>
                  </a:lnTo>
                  <a:lnTo>
                    <a:pt x="3587" y="1158"/>
                  </a:lnTo>
                  <a:lnTo>
                    <a:pt x="3471" y="1158"/>
                  </a:lnTo>
                  <a:lnTo>
                    <a:pt x="3356" y="1158"/>
                  </a:lnTo>
                  <a:lnTo>
                    <a:pt x="3356" y="1274"/>
                  </a:lnTo>
                  <a:lnTo>
                    <a:pt x="3471" y="1390"/>
                  </a:lnTo>
                  <a:lnTo>
                    <a:pt x="3471" y="1390"/>
                  </a:lnTo>
                  <a:lnTo>
                    <a:pt x="3009" y="1506"/>
                  </a:lnTo>
                  <a:lnTo>
                    <a:pt x="3009" y="1506"/>
                  </a:lnTo>
                  <a:lnTo>
                    <a:pt x="2893" y="1621"/>
                  </a:lnTo>
                  <a:lnTo>
                    <a:pt x="2777" y="1737"/>
                  </a:lnTo>
                  <a:lnTo>
                    <a:pt x="2661" y="1737"/>
                  </a:lnTo>
                  <a:lnTo>
                    <a:pt x="2546" y="1853"/>
                  </a:lnTo>
                  <a:lnTo>
                    <a:pt x="2314" y="1853"/>
                  </a:lnTo>
                  <a:lnTo>
                    <a:pt x="2198" y="1853"/>
                  </a:lnTo>
                  <a:lnTo>
                    <a:pt x="1967" y="1969"/>
                  </a:lnTo>
                  <a:lnTo>
                    <a:pt x="1851" y="1969"/>
                  </a:lnTo>
                  <a:lnTo>
                    <a:pt x="1851" y="1969"/>
                  </a:lnTo>
                  <a:lnTo>
                    <a:pt x="1736" y="1969"/>
                  </a:lnTo>
                  <a:lnTo>
                    <a:pt x="1504" y="1969"/>
                  </a:lnTo>
                  <a:lnTo>
                    <a:pt x="1273" y="1853"/>
                  </a:lnTo>
                  <a:lnTo>
                    <a:pt x="1157" y="1737"/>
                  </a:lnTo>
                  <a:lnTo>
                    <a:pt x="925" y="1621"/>
                  </a:lnTo>
                  <a:lnTo>
                    <a:pt x="810" y="1506"/>
                  </a:lnTo>
                  <a:lnTo>
                    <a:pt x="694" y="1390"/>
                  </a:lnTo>
                  <a:lnTo>
                    <a:pt x="462" y="1274"/>
                  </a:lnTo>
                  <a:lnTo>
                    <a:pt x="462" y="1274"/>
                  </a:lnTo>
                  <a:lnTo>
                    <a:pt x="347" y="1158"/>
                  </a:lnTo>
                  <a:lnTo>
                    <a:pt x="231" y="927"/>
                  </a:lnTo>
                  <a:lnTo>
                    <a:pt x="231" y="811"/>
                  </a:lnTo>
                  <a:lnTo>
                    <a:pt x="115" y="579"/>
                  </a:lnTo>
                  <a:lnTo>
                    <a:pt x="0" y="463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5" y="116"/>
                  </a:lnTo>
                  <a:lnTo>
                    <a:pt x="231" y="348"/>
                  </a:lnTo>
                  <a:lnTo>
                    <a:pt x="347" y="463"/>
                  </a:lnTo>
                  <a:lnTo>
                    <a:pt x="462" y="695"/>
                  </a:lnTo>
                  <a:lnTo>
                    <a:pt x="578" y="811"/>
                  </a:lnTo>
                  <a:lnTo>
                    <a:pt x="810" y="1042"/>
                  </a:lnTo>
                  <a:lnTo>
                    <a:pt x="925" y="1158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32240" y="4654800"/>
              <a:ext cx="39600" cy="43200"/>
            </a:xfrm>
            <a:custGeom>
              <a:avLst/>
              <a:gdLst/>
              <a:ahLst/>
              <a:rect l="l" t="t" r="r" b="b"/>
              <a:pathLst>
                <a:path w="1042" h="811">
                  <a:moveTo>
                    <a:pt x="1042" y="811"/>
                  </a:moveTo>
                  <a:lnTo>
                    <a:pt x="926" y="811"/>
                  </a:lnTo>
                  <a:lnTo>
                    <a:pt x="810" y="811"/>
                  </a:lnTo>
                  <a:lnTo>
                    <a:pt x="694" y="811"/>
                  </a:lnTo>
                  <a:lnTo>
                    <a:pt x="579" y="811"/>
                  </a:lnTo>
                  <a:lnTo>
                    <a:pt x="463" y="695"/>
                  </a:lnTo>
                  <a:lnTo>
                    <a:pt x="347" y="695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231" y="232"/>
                  </a:lnTo>
                  <a:lnTo>
                    <a:pt x="463" y="348"/>
                  </a:lnTo>
                  <a:lnTo>
                    <a:pt x="694" y="348"/>
                  </a:lnTo>
                  <a:lnTo>
                    <a:pt x="810" y="348"/>
                  </a:lnTo>
                  <a:lnTo>
                    <a:pt x="926" y="463"/>
                  </a:lnTo>
                  <a:lnTo>
                    <a:pt x="1042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015560" y="4661280"/>
              <a:ext cx="48600" cy="553320"/>
            </a:xfrm>
            <a:custGeom>
              <a:avLst/>
              <a:gdLst/>
              <a:ahLst/>
              <a:rect l="l" t="t" r="r" b="b"/>
              <a:pathLst>
                <a:path w="1273" h="10307">
                  <a:moveTo>
                    <a:pt x="1273" y="116"/>
                  </a:moveTo>
                  <a:lnTo>
                    <a:pt x="1273" y="1274"/>
                  </a:lnTo>
                  <a:lnTo>
                    <a:pt x="1157" y="2548"/>
                  </a:lnTo>
                  <a:lnTo>
                    <a:pt x="1157" y="3706"/>
                  </a:lnTo>
                  <a:lnTo>
                    <a:pt x="1041" y="4980"/>
                  </a:lnTo>
                  <a:lnTo>
                    <a:pt x="926" y="6254"/>
                  </a:lnTo>
                  <a:lnTo>
                    <a:pt x="810" y="7528"/>
                  </a:lnTo>
                  <a:lnTo>
                    <a:pt x="694" y="8917"/>
                  </a:lnTo>
                  <a:lnTo>
                    <a:pt x="694" y="10191"/>
                  </a:lnTo>
                  <a:lnTo>
                    <a:pt x="694" y="10191"/>
                  </a:lnTo>
                  <a:lnTo>
                    <a:pt x="578" y="10191"/>
                  </a:lnTo>
                  <a:lnTo>
                    <a:pt x="463" y="10191"/>
                  </a:lnTo>
                  <a:lnTo>
                    <a:pt x="347" y="10191"/>
                  </a:lnTo>
                  <a:lnTo>
                    <a:pt x="347" y="10307"/>
                  </a:lnTo>
                  <a:lnTo>
                    <a:pt x="231" y="10307"/>
                  </a:lnTo>
                  <a:lnTo>
                    <a:pt x="116" y="10307"/>
                  </a:lnTo>
                  <a:lnTo>
                    <a:pt x="116" y="10307"/>
                  </a:lnTo>
                  <a:lnTo>
                    <a:pt x="0" y="10307"/>
                  </a:lnTo>
                  <a:lnTo>
                    <a:pt x="0" y="10307"/>
                  </a:lnTo>
                  <a:lnTo>
                    <a:pt x="0" y="9033"/>
                  </a:lnTo>
                  <a:lnTo>
                    <a:pt x="116" y="7759"/>
                  </a:lnTo>
                  <a:lnTo>
                    <a:pt x="231" y="6485"/>
                  </a:lnTo>
                  <a:lnTo>
                    <a:pt x="347" y="5211"/>
                  </a:lnTo>
                  <a:lnTo>
                    <a:pt x="463" y="4053"/>
                  </a:lnTo>
                  <a:lnTo>
                    <a:pt x="578" y="2779"/>
                  </a:lnTo>
                  <a:lnTo>
                    <a:pt x="694" y="1505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1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988920" y="4679640"/>
              <a:ext cx="48600" cy="528480"/>
            </a:xfrm>
            <a:custGeom>
              <a:avLst/>
              <a:gdLst/>
              <a:ahLst/>
              <a:rect l="l" t="t" r="r" b="b"/>
              <a:pathLst>
                <a:path w="1273" h="9844">
                  <a:moveTo>
                    <a:pt x="1273" y="0"/>
                  </a:moveTo>
                  <a:lnTo>
                    <a:pt x="1042" y="1158"/>
                  </a:lnTo>
                  <a:lnTo>
                    <a:pt x="926" y="2432"/>
                  </a:lnTo>
                  <a:lnTo>
                    <a:pt x="811" y="3590"/>
                  </a:lnTo>
                  <a:lnTo>
                    <a:pt x="695" y="4864"/>
                  </a:lnTo>
                  <a:lnTo>
                    <a:pt x="579" y="6138"/>
                  </a:lnTo>
                  <a:lnTo>
                    <a:pt x="463" y="7412"/>
                  </a:lnTo>
                  <a:lnTo>
                    <a:pt x="463" y="8570"/>
                  </a:lnTo>
                  <a:lnTo>
                    <a:pt x="348" y="9844"/>
                  </a:lnTo>
                  <a:lnTo>
                    <a:pt x="348" y="9844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348" y="9844"/>
                  </a:lnTo>
                  <a:lnTo>
                    <a:pt x="348" y="9728"/>
                  </a:lnTo>
                  <a:lnTo>
                    <a:pt x="232" y="9728"/>
                  </a:lnTo>
                  <a:lnTo>
                    <a:pt x="116" y="9728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8570"/>
                  </a:lnTo>
                  <a:lnTo>
                    <a:pt x="116" y="7412"/>
                  </a:lnTo>
                  <a:lnTo>
                    <a:pt x="116" y="6254"/>
                  </a:lnTo>
                  <a:lnTo>
                    <a:pt x="232" y="4980"/>
                  </a:lnTo>
                  <a:lnTo>
                    <a:pt x="348" y="3822"/>
                  </a:lnTo>
                  <a:lnTo>
                    <a:pt x="463" y="2548"/>
                  </a:lnTo>
                  <a:lnTo>
                    <a:pt x="579" y="1390"/>
                  </a:lnTo>
                  <a:lnTo>
                    <a:pt x="811" y="232"/>
                  </a:lnTo>
                  <a:lnTo>
                    <a:pt x="811" y="232"/>
                  </a:lnTo>
                  <a:lnTo>
                    <a:pt x="926" y="232"/>
                  </a:lnTo>
                  <a:lnTo>
                    <a:pt x="926" y="116"/>
                  </a:lnTo>
                  <a:lnTo>
                    <a:pt x="1042" y="116"/>
                  </a:lnTo>
                  <a:lnTo>
                    <a:pt x="1042" y="116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953640" y="4698360"/>
              <a:ext cx="48600" cy="472320"/>
            </a:xfrm>
            <a:custGeom>
              <a:avLst/>
              <a:gdLst/>
              <a:ahLst/>
              <a:rect l="l" t="t" r="r" b="b"/>
              <a:pathLst>
                <a:path w="1273" h="8801">
                  <a:moveTo>
                    <a:pt x="578" y="8801"/>
                  </a:moveTo>
                  <a:lnTo>
                    <a:pt x="462" y="8801"/>
                  </a:lnTo>
                  <a:lnTo>
                    <a:pt x="462" y="8801"/>
                  </a:lnTo>
                  <a:lnTo>
                    <a:pt x="347" y="8801"/>
                  </a:lnTo>
                  <a:lnTo>
                    <a:pt x="231" y="8801"/>
                  </a:lnTo>
                  <a:lnTo>
                    <a:pt x="231" y="8801"/>
                  </a:lnTo>
                  <a:lnTo>
                    <a:pt x="115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115" y="7643"/>
                  </a:lnTo>
                  <a:lnTo>
                    <a:pt x="231" y="6485"/>
                  </a:lnTo>
                  <a:lnTo>
                    <a:pt x="347" y="5443"/>
                  </a:lnTo>
                  <a:lnTo>
                    <a:pt x="462" y="4285"/>
                  </a:lnTo>
                  <a:lnTo>
                    <a:pt x="694" y="3127"/>
                  </a:lnTo>
                  <a:lnTo>
                    <a:pt x="925" y="2084"/>
                  </a:lnTo>
                  <a:lnTo>
                    <a:pt x="1041" y="1042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157" y="1042"/>
                  </a:lnTo>
                  <a:lnTo>
                    <a:pt x="1041" y="2200"/>
                  </a:lnTo>
                  <a:lnTo>
                    <a:pt x="925" y="3242"/>
                  </a:lnTo>
                  <a:lnTo>
                    <a:pt x="810" y="4401"/>
                  </a:lnTo>
                  <a:lnTo>
                    <a:pt x="810" y="5443"/>
                  </a:lnTo>
                  <a:lnTo>
                    <a:pt x="694" y="6485"/>
                  </a:lnTo>
                  <a:lnTo>
                    <a:pt x="694" y="7643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719000" y="4860000"/>
              <a:ext cx="282960" cy="945000"/>
            </a:xfrm>
            <a:custGeom>
              <a:avLst/>
              <a:gdLst/>
              <a:ahLst/>
              <a:rect l="l" t="t" r="r" b="b"/>
              <a:pathLst>
                <a:path w="7407" h="17603">
                  <a:moveTo>
                    <a:pt x="3356" y="0"/>
                  </a:moveTo>
                  <a:lnTo>
                    <a:pt x="3588" y="463"/>
                  </a:lnTo>
                  <a:lnTo>
                    <a:pt x="3935" y="1042"/>
                  </a:lnTo>
                  <a:lnTo>
                    <a:pt x="4282" y="1505"/>
                  </a:lnTo>
                  <a:lnTo>
                    <a:pt x="4630" y="1969"/>
                  </a:lnTo>
                  <a:lnTo>
                    <a:pt x="4861" y="2432"/>
                  </a:lnTo>
                  <a:lnTo>
                    <a:pt x="5208" y="2895"/>
                  </a:lnTo>
                  <a:lnTo>
                    <a:pt x="5440" y="3358"/>
                  </a:lnTo>
                  <a:lnTo>
                    <a:pt x="5555" y="3937"/>
                  </a:lnTo>
                  <a:lnTo>
                    <a:pt x="5555" y="3937"/>
                  </a:lnTo>
                  <a:lnTo>
                    <a:pt x="5555" y="4632"/>
                  </a:lnTo>
                  <a:lnTo>
                    <a:pt x="5324" y="5443"/>
                  </a:lnTo>
                  <a:lnTo>
                    <a:pt x="5208" y="6254"/>
                  </a:lnTo>
                  <a:lnTo>
                    <a:pt x="4977" y="7064"/>
                  </a:lnTo>
                  <a:lnTo>
                    <a:pt x="4861" y="7875"/>
                  </a:lnTo>
                  <a:lnTo>
                    <a:pt x="4745" y="8686"/>
                  </a:lnTo>
                  <a:lnTo>
                    <a:pt x="4630" y="9496"/>
                  </a:lnTo>
                  <a:lnTo>
                    <a:pt x="4514" y="10307"/>
                  </a:lnTo>
                  <a:lnTo>
                    <a:pt x="4514" y="10307"/>
                  </a:lnTo>
                  <a:lnTo>
                    <a:pt x="4630" y="10654"/>
                  </a:lnTo>
                  <a:lnTo>
                    <a:pt x="4861" y="10886"/>
                  </a:lnTo>
                  <a:lnTo>
                    <a:pt x="5092" y="11118"/>
                  </a:lnTo>
                  <a:lnTo>
                    <a:pt x="5208" y="11349"/>
                  </a:lnTo>
                  <a:lnTo>
                    <a:pt x="5440" y="11697"/>
                  </a:lnTo>
                  <a:lnTo>
                    <a:pt x="5555" y="11928"/>
                  </a:lnTo>
                  <a:lnTo>
                    <a:pt x="5787" y="12160"/>
                  </a:lnTo>
                  <a:lnTo>
                    <a:pt x="5903" y="12507"/>
                  </a:lnTo>
                  <a:lnTo>
                    <a:pt x="5903" y="12507"/>
                  </a:lnTo>
                  <a:lnTo>
                    <a:pt x="5440" y="12507"/>
                  </a:lnTo>
                  <a:lnTo>
                    <a:pt x="5208" y="12623"/>
                  </a:lnTo>
                  <a:lnTo>
                    <a:pt x="4861" y="12739"/>
                  </a:lnTo>
                  <a:lnTo>
                    <a:pt x="4514" y="12739"/>
                  </a:lnTo>
                  <a:lnTo>
                    <a:pt x="4167" y="12855"/>
                  </a:lnTo>
                  <a:lnTo>
                    <a:pt x="3935" y="13086"/>
                  </a:lnTo>
                  <a:lnTo>
                    <a:pt x="3588" y="13202"/>
                  </a:lnTo>
                  <a:lnTo>
                    <a:pt x="3356" y="13434"/>
                  </a:lnTo>
                  <a:lnTo>
                    <a:pt x="3356" y="13434"/>
                  </a:lnTo>
                  <a:lnTo>
                    <a:pt x="3704" y="13318"/>
                  </a:lnTo>
                  <a:lnTo>
                    <a:pt x="4051" y="13318"/>
                  </a:lnTo>
                  <a:lnTo>
                    <a:pt x="4398" y="13202"/>
                  </a:lnTo>
                  <a:lnTo>
                    <a:pt x="4745" y="13086"/>
                  </a:lnTo>
                  <a:lnTo>
                    <a:pt x="5092" y="13086"/>
                  </a:lnTo>
                  <a:lnTo>
                    <a:pt x="5440" y="12971"/>
                  </a:lnTo>
                  <a:lnTo>
                    <a:pt x="5787" y="12971"/>
                  </a:lnTo>
                  <a:lnTo>
                    <a:pt x="6134" y="12971"/>
                  </a:lnTo>
                  <a:lnTo>
                    <a:pt x="6134" y="12971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250" y="13086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318"/>
                  </a:lnTo>
                  <a:lnTo>
                    <a:pt x="6250" y="13318"/>
                  </a:lnTo>
                  <a:lnTo>
                    <a:pt x="5903" y="13318"/>
                  </a:lnTo>
                  <a:lnTo>
                    <a:pt x="5555" y="13318"/>
                  </a:lnTo>
                  <a:lnTo>
                    <a:pt x="5324" y="13434"/>
                  </a:lnTo>
                  <a:lnTo>
                    <a:pt x="5092" y="13550"/>
                  </a:lnTo>
                  <a:lnTo>
                    <a:pt x="4745" y="13781"/>
                  </a:lnTo>
                  <a:lnTo>
                    <a:pt x="4514" y="13897"/>
                  </a:lnTo>
                  <a:lnTo>
                    <a:pt x="4282" y="14129"/>
                  </a:lnTo>
                  <a:lnTo>
                    <a:pt x="4051" y="14244"/>
                  </a:lnTo>
                  <a:lnTo>
                    <a:pt x="4051" y="14244"/>
                  </a:lnTo>
                  <a:lnTo>
                    <a:pt x="4167" y="14244"/>
                  </a:lnTo>
                  <a:lnTo>
                    <a:pt x="4282" y="14244"/>
                  </a:lnTo>
                  <a:lnTo>
                    <a:pt x="4514" y="14244"/>
                  </a:lnTo>
                  <a:lnTo>
                    <a:pt x="4630" y="14129"/>
                  </a:lnTo>
                  <a:lnTo>
                    <a:pt x="4745" y="14013"/>
                  </a:lnTo>
                  <a:lnTo>
                    <a:pt x="4861" y="14013"/>
                  </a:lnTo>
                  <a:lnTo>
                    <a:pt x="5092" y="14013"/>
                  </a:lnTo>
                  <a:lnTo>
                    <a:pt x="5208" y="13897"/>
                  </a:lnTo>
                  <a:lnTo>
                    <a:pt x="5208" y="13897"/>
                  </a:lnTo>
                  <a:lnTo>
                    <a:pt x="5440" y="13897"/>
                  </a:lnTo>
                  <a:lnTo>
                    <a:pt x="5555" y="13897"/>
                  </a:lnTo>
                  <a:lnTo>
                    <a:pt x="5787" y="13897"/>
                  </a:lnTo>
                  <a:lnTo>
                    <a:pt x="6018" y="13781"/>
                  </a:lnTo>
                  <a:lnTo>
                    <a:pt x="6134" y="13781"/>
                  </a:lnTo>
                  <a:lnTo>
                    <a:pt x="6366" y="13781"/>
                  </a:lnTo>
                  <a:lnTo>
                    <a:pt x="6481" y="13781"/>
                  </a:lnTo>
                  <a:lnTo>
                    <a:pt x="6713" y="13781"/>
                  </a:lnTo>
                  <a:lnTo>
                    <a:pt x="6713" y="13781"/>
                  </a:lnTo>
                  <a:lnTo>
                    <a:pt x="6828" y="14244"/>
                  </a:lnTo>
                  <a:lnTo>
                    <a:pt x="7060" y="14592"/>
                  </a:lnTo>
                  <a:lnTo>
                    <a:pt x="7176" y="15055"/>
                  </a:lnTo>
                  <a:lnTo>
                    <a:pt x="7291" y="15518"/>
                  </a:lnTo>
                  <a:lnTo>
                    <a:pt x="7407" y="15982"/>
                  </a:lnTo>
                  <a:lnTo>
                    <a:pt x="7407" y="16329"/>
                  </a:lnTo>
                  <a:lnTo>
                    <a:pt x="7407" y="16792"/>
                  </a:lnTo>
                  <a:lnTo>
                    <a:pt x="7176" y="17255"/>
                  </a:lnTo>
                  <a:lnTo>
                    <a:pt x="7176" y="17255"/>
                  </a:lnTo>
                  <a:lnTo>
                    <a:pt x="6713" y="17371"/>
                  </a:lnTo>
                  <a:lnTo>
                    <a:pt x="6250" y="17487"/>
                  </a:lnTo>
                  <a:lnTo>
                    <a:pt x="5671" y="17603"/>
                  </a:lnTo>
                  <a:lnTo>
                    <a:pt x="5208" y="17487"/>
                  </a:lnTo>
                  <a:lnTo>
                    <a:pt x="4745" y="17371"/>
                  </a:lnTo>
                  <a:lnTo>
                    <a:pt x="4167" y="17255"/>
                  </a:lnTo>
                  <a:lnTo>
                    <a:pt x="3704" y="17024"/>
                  </a:lnTo>
                  <a:lnTo>
                    <a:pt x="3356" y="16792"/>
                  </a:lnTo>
                  <a:lnTo>
                    <a:pt x="3356" y="16792"/>
                  </a:lnTo>
                  <a:lnTo>
                    <a:pt x="2894" y="16329"/>
                  </a:lnTo>
                  <a:lnTo>
                    <a:pt x="2662" y="15634"/>
                  </a:lnTo>
                  <a:lnTo>
                    <a:pt x="2431" y="15055"/>
                  </a:lnTo>
                  <a:lnTo>
                    <a:pt x="2199" y="14360"/>
                  </a:lnTo>
                  <a:lnTo>
                    <a:pt x="1968" y="13665"/>
                  </a:lnTo>
                  <a:lnTo>
                    <a:pt x="1620" y="13202"/>
                  </a:lnTo>
                  <a:lnTo>
                    <a:pt x="1158" y="12855"/>
                  </a:lnTo>
                  <a:lnTo>
                    <a:pt x="463" y="12623"/>
                  </a:lnTo>
                  <a:lnTo>
                    <a:pt x="463" y="12623"/>
                  </a:lnTo>
                  <a:lnTo>
                    <a:pt x="232" y="12507"/>
                  </a:lnTo>
                  <a:lnTo>
                    <a:pt x="232" y="12391"/>
                  </a:lnTo>
                  <a:lnTo>
                    <a:pt x="116" y="12276"/>
                  </a:lnTo>
                  <a:lnTo>
                    <a:pt x="0" y="12044"/>
                  </a:lnTo>
                  <a:lnTo>
                    <a:pt x="0" y="11928"/>
                  </a:lnTo>
                  <a:lnTo>
                    <a:pt x="0" y="11812"/>
                  </a:lnTo>
                  <a:lnTo>
                    <a:pt x="0" y="11581"/>
                  </a:lnTo>
                  <a:lnTo>
                    <a:pt x="116" y="11465"/>
                  </a:lnTo>
                  <a:lnTo>
                    <a:pt x="116" y="11465"/>
                  </a:lnTo>
                  <a:lnTo>
                    <a:pt x="347" y="11118"/>
                  </a:lnTo>
                  <a:lnTo>
                    <a:pt x="579" y="10770"/>
                  </a:lnTo>
                  <a:lnTo>
                    <a:pt x="926" y="10539"/>
                  </a:lnTo>
                  <a:lnTo>
                    <a:pt x="1273" y="10307"/>
                  </a:lnTo>
                  <a:lnTo>
                    <a:pt x="1620" y="10075"/>
                  </a:lnTo>
                  <a:lnTo>
                    <a:pt x="1968" y="9844"/>
                  </a:lnTo>
                  <a:lnTo>
                    <a:pt x="2199" y="9612"/>
                  </a:lnTo>
                  <a:lnTo>
                    <a:pt x="2431" y="9265"/>
                  </a:lnTo>
                  <a:lnTo>
                    <a:pt x="2431" y="9265"/>
                  </a:lnTo>
                  <a:lnTo>
                    <a:pt x="2546" y="8570"/>
                  </a:lnTo>
                  <a:lnTo>
                    <a:pt x="2662" y="7991"/>
                  </a:lnTo>
                  <a:lnTo>
                    <a:pt x="2778" y="7412"/>
                  </a:lnTo>
                  <a:lnTo>
                    <a:pt x="2894" y="6833"/>
                  </a:lnTo>
                  <a:lnTo>
                    <a:pt x="3009" y="6254"/>
                  </a:lnTo>
                  <a:lnTo>
                    <a:pt x="3125" y="5675"/>
                  </a:lnTo>
                  <a:lnTo>
                    <a:pt x="3241" y="5095"/>
                  </a:lnTo>
                  <a:lnTo>
                    <a:pt x="3241" y="4516"/>
                  </a:lnTo>
                  <a:lnTo>
                    <a:pt x="3241" y="4516"/>
                  </a:lnTo>
                  <a:lnTo>
                    <a:pt x="3125" y="4053"/>
                  </a:lnTo>
                  <a:lnTo>
                    <a:pt x="3009" y="3706"/>
                  </a:lnTo>
                  <a:lnTo>
                    <a:pt x="2778" y="3243"/>
                  </a:lnTo>
                  <a:lnTo>
                    <a:pt x="2546" y="2895"/>
                  </a:lnTo>
                  <a:lnTo>
                    <a:pt x="2315" y="2548"/>
                  </a:lnTo>
                  <a:lnTo>
                    <a:pt x="2083" y="2200"/>
                  </a:lnTo>
                  <a:lnTo>
                    <a:pt x="1736" y="1853"/>
                  </a:lnTo>
                  <a:lnTo>
                    <a:pt x="1505" y="1505"/>
                  </a:lnTo>
                  <a:lnTo>
                    <a:pt x="1505" y="1505"/>
                  </a:lnTo>
                  <a:lnTo>
                    <a:pt x="1389" y="1390"/>
                  </a:lnTo>
                  <a:lnTo>
                    <a:pt x="1273" y="1274"/>
                  </a:lnTo>
                  <a:lnTo>
                    <a:pt x="1273" y="1158"/>
                  </a:lnTo>
                  <a:lnTo>
                    <a:pt x="1273" y="1042"/>
                  </a:lnTo>
                  <a:lnTo>
                    <a:pt x="1389" y="926"/>
                  </a:lnTo>
                  <a:lnTo>
                    <a:pt x="1389" y="811"/>
                  </a:lnTo>
                  <a:lnTo>
                    <a:pt x="1505" y="811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852" y="463"/>
                  </a:lnTo>
                  <a:lnTo>
                    <a:pt x="1852" y="463"/>
                  </a:lnTo>
                  <a:lnTo>
                    <a:pt x="1852" y="579"/>
                  </a:lnTo>
                  <a:lnTo>
                    <a:pt x="1736" y="695"/>
                  </a:lnTo>
                  <a:lnTo>
                    <a:pt x="1620" y="811"/>
                  </a:lnTo>
                  <a:lnTo>
                    <a:pt x="1505" y="926"/>
                  </a:lnTo>
                  <a:lnTo>
                    <a:pt x="1505" y="1042"/>
                  </a:lnTo>
                  <a:lnTo>
                    <a:pt x="1505" y="1158"/>
                  </a:lnTo>
                  <a:lnTo>
                    <a:pt x="1505" y="1274"/>
                  </a:lnTo>
                  <a:lnTo>
                    <a:pt x="1852" y="1274"/>
                  </a:lnTo>
                  <a:lnTo>
                    <a:pt x="1852" y="1274"/>
                  </a:lnTo>
                  <a:lnTo>
                    <a:pt x="1968" y="1158"/>
                  </a:lnTo>
                  <a:lnTo>
                    <a:pt x="2083" y="926"/>
                  </a:lnTo>
                  <a:lnTo>
                    <a:pt x="2315" y="695"/>
                  </a:lnTo>
                  <a:lnTo>
                    <a:pt x="2431" y="579"/>
                  </a:lnTo>
                  <a:lnTo>
                    <a:pt x="2662" y="463"/>
                  </a:lnTo>
                  <a:lnTo>
                    <a:pt x="2894" y="347"/>
                  </a:lnTo>
                  <a:lnTo>
                    <a:pt x="3125" y="116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98560" y="4884840"/>
              <a:ext cx="43920" cy="80640"/>
            </a:xfrm>
            <a:custGeom>
              <a:avLst/>
              <a:gdLst/>
              <a:ahLst/>
              <a:rect l="l" t="t" r="r" b="b"/>
              <a:pathLst>
                <a:path w="1158" h="1506">
                  <a:moveTo>
                    <a:pt x="1158" y="0"/>
                  </a:moveTo>
                  <a:lnTo>
                    <a:pt x="1158" y="116"/>
                  </a:lnTo>
                  <a:lnTo>
                    <a:pt x="1042" y="232"/>
                  </a:lnTo>
                  <a:lnTo>
                    <a:pt x="1042" y="348"/>
                  </a:lnTo>
                  <a:lnTo>
                    <a:pt x="926" y="463"/>
                  </a:lnTo>
                  <a:lnTo>
                    <a:pt x="811" y="463"/>
                  </a:lnTo>
                  <a:lnTo>
                    <a:pt x="695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463" y="811"/>
                  </a:lnTo>
                  <a:lnTo>
                    <a:pt x="463" y="927"/>
                  </a:lnTo>
                  <a:lnTo>
                    <a:pt x="348" y="1042"/>
                  </a:lnTo>
                  <a:lnTo>
                    <a:pt x="348" y="1158"/>
                  </a:lnTo>
                  <a:lnTo>
                    <a:pt x="232" y="1274"/>
                  </a:lnTo>
                  <a:lnTo>
                    <a:pt x="232" y="1274"/>
                  </a:lnTo>
                  <a:lnTo>
                    <a:pt x="116" y="1390"/>
                  </a:lnTo>
                  <a:lnTo>
                    <a:pt x="116" y="1506"/>
                  </a:lnTo>
                  <a:lnTo>
                    <a:pt x="116" y="1506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1042"/>
                  </a:lnTo>
                  <a:lnTo>
                    <a:pt x="0" y="811"/>
                  </a:lnTo>
                  <a:lnTo>
                    <a:pt x="116" y="695"/>
                  </a:lnTo>
                  <a:lnTo>
                    <a:pt x="232" y="579"/>
                  </a:lnTo>
                  <a:lnTo>
                    <a:pt x="348" y="463"/>
                  </a:lnTo>
                  <a:lnTo>
                    <a:pt x="348" y="348"/>
                  </a:lnTo>
                  <a:lnTo>
                    <a:pt x="348" y="348"/>
                  </a:lnTo>
                  <a:lnTo>
                    <a:pt x="463" y="232"/>
                  </a:lnTo>
                  <a:lnTo>
                    <a:pt x="579" y="232"/>
                  </a:lnTo>
                  <a:lnTo>
                    <a:pt x="695" y="116"/>
                  </a:lnTo>
                  <a:lnTo>
                    <a:pt x="811" y="116"/>
                  </a:lnTo>
                  <a:lnTo>
                    <a:pt x="811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811880" y="4922280"/>
              <a:ext cx="30600" cy="49680"/>
            </a:xfrm>
            <a:custGeom>
              <a:avLst/>
              <a:gdLst/>
              <a:ahLst/>
              <a:rect l="l" t="t" r="r" b="b"/>
              <a:pathLst>
                <a:path w="810" h="926">
                  <a:moveTo>
                    <a:pt x="810" y="0"/>
                  </a:moveTo>
                  <a:lnTo>
                    <a:pt x="694" y="116"/>
                  </a:lnTo>
                  <a:lnTo>
                    <a:pt x="694" y="232"/>
                  </a:lnTo>
                  <a:lnTo>
                    <a:pt x="694" y="347"/>
                  </a:lnTo>
                  <a:lnTo>
                    <a:pt x="578" y="463"/>
                  </a:lnTo>
                  <a:lnTo>
                    <a:pt x="463" y="579"/>
                  </a:lnTo>
                  <a:lnTo>
                    <a:pt x="463" y="695"/>
                  </a:lnTo>
                  <a:lnTo>
                    <a:pt x="347" y="811"/>
                  </a:lnTo>
                  <a:lnTo>
                    <a:pt x="347" y="926"/>
                  </a:lnTo>
                  <a:lnTo>
                    <a:pt x="347" y="926"/>
                  </a:lnTo>
                  <a:lnTo>
                    <a:pt x="0" y="926"/>
                  </a:lnTo>
                  <a:lnTo>
                    <a:pt x="0" y="926"/>
                  </a:lnTo>
                  <a:lnTo>
                    <a:pt x="0" y="811"/>
                  </a:lnTo>
                  <a:lnTo>
                    <a:pt x="115" y="579"/>
                  </a:lnTo>
                  <a:lnTo>
                    <a:pt x="115" y="463"/>
                  </a:lnTo>
                  <a:lnTo>
                    <a:pt x="231" y="347"/>
                  </a:lnTo>
                  <a:lnTo>
                    <a:pt x="347" y="232"/>
                  </a:lnTo>
                  <a:lnTo>
                    <a:pt x="463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842840" y="4965840"/>
              <a:ext cx="12960" cy="18360"/>
            </a:xfrm>
            <a:custGeom>
              <a:avLst/>
              <a:gdLst/>
              <a:ahLst/>
              <a:rect l="l" t="t" r="r" b="b"/>
              <a:pathLst>
                <a:path w="347" h="347">
                  <a:moveTo>
                    <a:pt x="231" y="347"/>
                  </a:moveTo>
                  <a:lnTo>
                    <a:pt x="0" y="231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099440" y="5140080"/>
              <a:ext cx="331560" cy="690120"/>
            </a:xfrm>
            <a:custGeom>
              <a:avLst/>
              <a:gdLst/>
              <a:ahLst/>
              <a:rect l="l" t="t" r="r" b="b"/>
              <a:pathLst>
                <a:path w="8680" h="12855">
                  <a:moveTo>
                    <a:pt x="7059" y="0"/>
                  </a:moveTo>
                  <a:lnTo>
                    <a:pt x="6944" y="116"/>
                  </a:lnTo>
                  <a:lnTo>
                    <a:pt x="6712" y="232"/>
                  </a:lnTo>
                  <a:lnTo>
                    <a:pt x="6596" y="348"/>
                  </a:lnTo>
                  <a:lnTo>
                    <a:pt x="6481" y="464"/>
                  </a:lnTo>
                  <a:lnTo>
                    <a:pt x="6365" y="579"/>
                  </a:lnTo>
                  <a:lnTo>
                    <a:pt x="6134" y="695"/>
                  </a:lnTo>
                  <a:lnTo>
                    <a:pt x="6018" y="811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1043"/>
                  </a:lnTo>
                  <a:lnTo>
                    <a:pt x="6018" y="1043"/>
                  </a:lnTo>
                  <a:lnTo>
                    <a:pt x="6018" y="1158"/>
                  </a:lnTo>
                  <a:lnTo>
                    <a:pt x="6134" y="1158"/>
                  </a:lnTo>
                  <a:lnTo>
                    <a:pt x="6249" y="1274"/>
                  </a:lnTo>
                  <a:lnTo>
                    <a:pt x="6249" y="1158"/>
                  </a:lnTo>
                  <a:lnTo>
                    <a:pt x="6365" y="1158"/>
                  </a:lnTo>
                  <a:lnTo>
                    <a:pt x="6365" y="1158"/>
                  </a:lnTo>
                  <a:lnTo>
                    <a:pt x="7291" y="348"/>
                  </a:lnTo>
                  <a:lnTo>
                    <a:pt x="7291" y="348"/>
                  </a:lnTo>
                  <a:lnTo>
                    <a:pt x="7291" y="464"/>
                  </a:lnTo>
                  <a:lnTo>
                    <a:pt x="7291" y="579"/>
                  </a:lnTo>
                  <a:lnTo>
                    <a:pt x="7291" y="695"/>
                  </a:lnTo>
                  <a:lnTo>
                    <a:pt x="7175" y="695"/>
                  </a:lnTo>
                  <a:lnTo>
                    <a:pt x="7059" y="811"/>
                  </a:lnTo>
                  <a:lnTo>
                    <a:pt x="6944" y="927"/>
                  </a:lnTo>
                  <a:lnTo>
                    <a:pt x="6828" y="1043"/>
                  </a:lnTo>
                  <a:lnTo>
                    <a:pt x="6828" y="1158"/>
                  </a:lnTo>
                  <a:lnTo>
                    <a:pt x="6828" y="1158"/>
                  </a:lnTo>
                  <a:lnTo>
                    <a:pt x="6712" y="1158"/>
                  </a:lnTo>
                  <a:lnTo>
                    <a:pt x="6712" y="1158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828" y="1506"/>
                  </a:lnTo>
                  <a:lnTo>
                    <a:pt x="6944" y="1506"/>
                  </a:lnTo>
                  <a:lnTo>
                    <a:pt x="7059" y="1506"/>
                  </a:lnTo>
                  <a:lnTo>
                    <a:pt x="7175" y="1390"/>
                  </a:lnTo>
                  <a:lnTo>
                    <a:pt x="7175" y="1274"/>
                  </a:lnTo>
                  <a:lnTo>
                    <a:pt x="7291" y="1158"/>
                  </a:lnTo>
                  <a:lnTo>
                    <a:pt x="7407" y="1158"/>
                  </a:lnTo>
                  <a:lnTo>
                    <a:pt x="7522" y="1043"/>
                  </a:lnTo>
                  <a:lnTo>
                    <a:pt x="7522" y="1043"/>
                  </a:lnTo>
                  <a:lnTo>
                    <a:pt x="7638" y="1274"/>
                  </a:lnTo>
                  <a:lnTo>
                    <a:pt x="7754" y="1506"/>
                  </a:lnTo>
                  <a:lnTo>
                    <a:pt x="7870" y="1737"/>
                  </a:lnTo>
                  <a:lnTo>
                    <a:pt x="8101" y="2085"/>
                  </a:lnTo>
                  <a:lnTo>
                    <a:pt x="8101" y="2316"/>
                  </a:lnTo>
                  <a:lnTo>
                    <a:pt x="8217" y="2548"/>
                  </a:lnTo>
                  <a:lnTo>
                    <a:pt x="8101" y="2780"/>
                  </a:lnTo>
                  <a:lnTo>
                    <a:pt x="7985" y="3011"/>
                  </a:lnTo>
                  <a:lnTo>
                    <a:pt x="7985" y="3011"/>
                  </a:lnTo>
                  <a:lnTo>
                    <a:pt x="7522" y="3359"/>
                  </a:lnTo>
                  <a:lnTo>
                    <a:pt x="7291" y="3706"/>
                  </a:lnTo>
                  <a:lnTo>
                    <a:pt x="6944" y="4054"/>
                  </a:lnTo>
                  <a:lnTo>
                    <a:pt x="6712" y="4517"/>
                  </a:lnTo>
                  <a:lnTo>
                    <a:pt x="6481" y="4864"/>
                  </a:lnTo>
                  <a:lnTo>
                    <a:pt x="6249" y="5212"/>
                  </a:lnTo>
                  <a:lnTo>
                    <a:pt x="5902" y="5559"/>
                  </a:lnTo>
                  <a:lnTo>
                    <a:pt x="5555" y="5791"/>
                  </a:lnTo>
                  <a:lnTo>
                    <a:pt x="5555" y="5791"/>
                  </a:lnTo>
                  <a:lnTo>
                    <a:pt x="5439" y="6486"/>
                  </a:lnTo>
                  <a:lnTo>
                    <a:pt x="5323" y="7180"/>
                  </a:lnTo>
                  <a:lnTo>
                    <a:pt x="5208" y="7760"/>
                  </a:lnTo>
                  <a:lnTo>
                    <a:pt x="5208" y="8454"/>
                  </a:lnTo>
                  <a:lnTo>
                    <a:pt x="5208" y="9149"/>
                  </a:lnTo>
                  <a:lnTo>
                    <a:pt x="5323" y="9844"/>
                  </a:lnTo>
                  <a:lnTo>
                    <a:pt x="5555" y="10423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6018" y="10886"/>
                  </a:lnTo>
                  <a:lnTo>
                    <a:pt x="6018" y="10771"/>
                  </a:lnTo>
                  <a:lnTo>
                    <a:pt x="6018" y="10771"/>
                  </a:lnTo>
                  <a:lnTo>
                    <a:pt x="6018" y="10655"/>
                  </a:lnTo>
                  <a:lnTo>
                    <a:pt x="6018" y="10539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6018" y="10423"/>
                  </a:lnTo>
                  <a:lnTo>
                    <a:pt x="6134" y="10423"/>
                  </a:lnTo>
                  <a:lnTo>
                    <a:pt x="6134" y="10539"/>
                  </a:lnTo>
                  <a:lnTo>
                    <a:pt x="6249" y="10539"/>
                  </a:lnTo>
                  <a:lnTo>
                    <a:pt x="6249" y="10655"/>
                  </a:lnTo>
                  <a:lnTo>
                    <a:pt x="6365" y="10655"/>
                  </a:lnTo>
                  <a:lnTo>
                    <a:pt x="6365" y="10771"/>
                  </a:lnTo>
                  <a:lnTo>
                    <a:pt x="6481" y="10886"/>
                  </a:lnTo>
                  <a:lnTo>
                    <a:pt x="6481" y="10886"/>
                  </a:lnTo>
                  <a:lnTo>
                    <a:pt x="6365" y="11465"/>
                  </a:lnTo>
                  <a:lnTo>
                    <a:pt x="6365" y="11465"/>
                  </a:lnTo>
                  <a:lnTo>
                    <a:pt x="6481" y="11465"/>
                  </a:lnTo>
                  <a:lnTo>
                    <a:pt x="6596" y="11465"/>
                  </a:lnTo>
                  <a:lnTo>
                    <a:pt x="6712" y="11465"/>
                  </a:lnTo>
                  <a:lnTo>
                    <a:pt x="6712" y="11350"/>
                  </a:lnTo>
                  <a:lnTo>
                    <a:pt x="6712" y="11234"/>
                  </a:lnTo>
                  <a:lnTo>
                    <a:pt x="6828" y="11118"/>
                  </a:lnTo>
                  <a:lnTo>
                    <a:pt x="6828" y="11002"/>
                  </a:lnTo>
                  <a:lnTo>
                    <a:pt x="6944" y="10886"/>
                  </a:lnTo>
                  <a:lnTo>
                    <a:pt x="6944" y="10886"/>
                  </a:lnTo>
                  <a:lnTo>
                    <a:pt x="7175" y="10886"/>
                  </a:lnTo>
                  <a:lnTo>
                    <a:pt x="7407" y="10886"/>
                  </a:lnTo>
                  <a:lnTo>
                    <a:pt x="7638" y="10886"/>
                  </a:lnTo>
                  <a:lnTo>
                    <a:pt x="7870" y="10886"/>
                  </a:lnTo>
                  <a:lnTo>
                    <a:pt x="8101" y="11002"/>
                  </a:lnTo>
                  <a:lnTo>
                    <a:pt x="8332" y="11002"/>
                  </a:lnTo>
                  <a:lnTo>
                    <a:pt x="8564" y="11234"/>
                  </a:lnTo>
                  <a:lnTo>
                    <a:pt x="8564" y="11581"/>
                  </a:lnTo>
                  <a:lnTo>
                    <a:pt x="8564" y="11581"/>
                  </a:lnTo>
                  <a:lnTo>
                    <a:pt x="8680" y="11929"/>
                  </a:lnTo>
                  <a:lnTo>
                    <a:pt x="8564" y="12160"/>
                  </a:lnTo>
                  <a:lnTo>
                    <a:pt x="8448" y="12392"/>
                  </a:lnTo>
                  <a:lnTo>
                    <a:pt x="8217" y="12508"/>
                  </a:lnTo>
                  <a:lnTo>
                    <a:pt x="7985" y="12624"/>
                  </a:lnTo>
                  <a:lnTo>
                    <a:pt x="7638" y="12624"/>
                  </a:lnTo>
                  <a:lnTo>
                    <a:pt x="7291" y="12739"/>
                  </a:lnTo>
                  <a:lnTo>
                    <a:pt x="7059" y="12855"/>
                  </a:lnTo>
                  <a:lnTo>
                    <a:pt x="7059" y="12855"/>
                  </a:lnTo>
                  <a:lnTo>
                    <a:pt x="6596" y="12855"/>
                  </a:lnTo>
                  <a:lnTo>
                    <a:pt x="6018" y="12739"/>
                  </a:lnTo>
                  <a:lnTo>
                    <a:pt x="5555" y="12739"/>
                  </a:lnTo>
                  <a:lnTo>
                    <a:pt x="5092" y="12624"/>
                  </a:lnTo>
                  <a:lnTo>
                    <a:pt x="4513" y="12508"/>
                  </a:lnTo>
                  <a:lnTo>
                    <a:pt x="4166" y="12276"/>
                  </a:lnTo>
                  <a:lnTo>
                    <a:pt x="3703" y="12044"/>
                  </a:lnTo>
                  <a:lnTo>
                    <a:pt x="3240" y="11813"/>
                  </a:lnTo>
                  <a:lnTo>
                    <a:pt x="3240" y="11813"/>
                  </a:lnTo>
                  <a:lnTo>
                    <a:pt x="2893" y="11234"/>
                  </a:lnTo>
                  <a:lnTo>
                    <a:pt x="2662" y="10539"/>
                  </a:lnTo>
                  <a:lnTo>
                    <a:pt x="2430" y="9960"/>
                  </a:lnTo>
                  <a:lnTo>
                    <a:pt x="2199" y="9265"/>
                  </a:lnTo>
                  <a:lnTo>
                    <a:pt x="1851" y="8686"/>
                  </a:lnTo>
                  <a:lnTo>
                    <a:pt x="1504" y="8107"/>
                  </a:lnTo>
                  <a:lnTo>
                    <a:pt x="926" y="7644"/>
                  </a:lnTo>
                  <a:lnTo>
                    <a:pt x="231" y="7412"/>
                  </a:lnTo>
                  <a:lnTo>
                    <a:pt x="231" y="7412"/>
                  </a:lnTo>
                  <a:lnTo>
                    <a:pt x="115" y="7296"/>
                  </a:lnTo>
                  <a:lnTo>
                    <a:pt x="115" y="7296"/>
                  </a:lnTo>
                  <a:lnTo>
                    <a:pt x="0" y="7180"/>
                  </a:lnTo>
                  <a:lnTo>
                    <a:pt x="0" y="7065"/>
                  </a:lnTo>
                  <a:lnTo>
                    <a:pt x="0" y="6949"/>
                  </a:lnTo>
                  <a:lnTo>
                    <a:pt x="0" y="6833"/>
                  </a:lnTo>
                  <a:lnTo>
                    <a:pt x="0" y="6717"/>
                  </a:lnTo>
                  <a:lnTo>
                    <a:pt x="0" y="6601"/>
                  </a:lnTo>
                  <a:lnTo>
                    <a:pt x="0" y="6601"/>
                  </a:lnTo>
                  <a:lnTo>
                    <a:pt x="231" y="6370"/>
                  </a:lnTo>
                  <a:lnTo>
                    <a:pt x="463" y="6138"/>
                  </a:lnTo>
                  <a:lnTo>
                    <a:pt x="810" y="6022"/>
                  </a:lnTo>
                  <a:lnTo>
                    <a:pt x="1157" y="5907"/>
                  </a:lnTo>
                  <a:lnTo>
                    <a:pt x="1504" y="5907"/>
                  </a:lnTo>
                  <a:lnTo>
                    <a:pt x="1851" y="5791"/>
                  </a:lnTo>
                  <a:lnTo>
                    <a:pt x="2199" y="5675"/>
                  </a:lnTo>
                  <a:lnTo>
                    <a:pt x="2430" y="5559"/>
                  </a:lnTo>
                  <a:lnTo>
                    <a:pt x="2430" y="5559"/>
                  </a:lnTo>
                  <a:lnTo>
                    <a:pt x="3009" y="5328"/>
                  </a:lnTo>
                  <a:lnTo>
                    <a:pt x="3472" y="4980"/>
                  </a:lnTo>
                  <a:lnTo>
                    <a:pt x="3935" y="4633"/>
                  </a:lnTo>
                  <a:lnTo>
                    <a:pt x="4398" y="4285"/>
                  </a:lnTo>
                  <a:lnTo>
                    <a:pt x="4860" y="3822"/>
                  </a:lnTo>
                  <a:lnTo>
                    <a:pt x="5323" y="3475"/>
                  </a:lnTo>
                  <a:lnTo>
                    <a:pt x="5671" y="3011"/>
                  </a:lnTo>
                  <a:lnTo>
                    <a:pt x="6018" y="2432"/>
                  </a:lnTo>
                  <a:lnTo>
                    <a:pt x="6018" y="2432"/>
                  </a:lnTo>
                  <a:lnTo>
                    <a:pt x="6018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249" y="2548"/>
                  </a:lnTo>
                  <a:lnTo>
                    <a:pt x="6249" y="2548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201"/>
                  </a:lnTo>
                  <a:lnTo>
                    <a:pt x="6134" y="1969"/>
                  </a:lnTo>
                  <a:lnTo>
                    <a:pt x="6018" y="1737"/>
                  </a:lnTo>
                  <a:lnTo>
                    <a:pt x="5902" y="1506"/>
                  </a:lnTo>
                  <a:lnTo>
                    <a:pt x="5786" y="1274"/>
                  </a:lnTo>
                  <a:lnTo>
                    <a:pt x="5671" y="1043"/>
                  </a:lnTo>
                  <a:lnTo>
                    <a:pt x="5555" y="811"/>
                  </a:lnTo>
                  <a:lnTo>
                    <a:pt x="5439" y="579"/>
                  </a:lnTo>
                  <a:lnTo>
                    <a:pt x="5439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811"/>
                  </a:lnTo>
                  <a:lnTo>
                    <a:pt x="5671" y="811"/>
                  </a:lnTo>
                  <a:lnTo>
                    <a:pt x="5786" y="811"/>
                  </a:lnTo>
                  <a:lnTo>
                    <a:pt x="5786" y="811"/>
                  </a:lnTo>
                  <a:lnTo>
                    <a:pt x="5902" y="695"/>
                  </a:lnTo>
                  <a:lnTo>
                    <a:pt x="6018" y="579"/>
                  </a:lnTo>
                  <a:lnTo>
                    <a:pt x="6249" y="464"/>
                  </a:lnTo>
                  <a:lnTo>
                    <a:pt x="6365" y="348"/>
                  </a:lnTo>
                  <a:lnTo>
                    <a:pt x="6481" y="232"/>
                  </a:lnTo>
                  <a:lnTo>
                    <a:pt x="6712" y="116"/>
                  </a:lnTo>
                  <a:lnTo>
                    <a:pt x="6828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4" name=""/>
          <p:cNvSpPr/>
          <p:nvPr/>
        </p:nvSpPr>
        <p:spPr>
          <a:xfrm>
            <a:off x="2666880" y="2754360"/>
            <a:ext cx="5715000" cy="310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dentify polynomials and the terms within th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etermine like terms within a polynom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38080" y="144792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When you finish this unit, you will be able to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>
            <a:off x="4724280" y="3200400"/>
            <a:ext cx="403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cc"/>
                </a:solidFill>
                <a:latin typeface="Comic Sans MS"/>
              </a:rPr>
              <a:t>Degree = 2+3 = 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286000" y="3657600"/>
            <a:ext cx="685800" cy="914400"/>
          </a:xfrm>
          <a:prstGeom prst="ellipse">
            <a:avLst/>
          </a:pr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990720" y="3657600"/>
            <a:ext cx="2971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omic Sans MS"/>
              </a:rPr>
              <a:t>-x</a:t>
            </a:r>
            <a:r>
              <a:rPr b="0" lang="en-US" sz="8000" spc="-1" strike="noStrike" baseline="30000">
                <a:solidFill>
                  <a:srgbClr val="006600"/>
                </a:solidFill>
                <a:latin typeface="Comic Sans MS"/>
              </a:rPr>
              <a:t>2</a:t>
            </a:r>
            <a:r>
              <a:rPr b="0" lang="en-US" sz="8000" spc="-1" strike="noStrike">
                <a:solidFill>
                  <a:srgbClr val="000000"/>
                </a:solidFill>
                <a:latin typeface="Comic Sans MS"/>
              </a:rPr>
              <a:t>y</a:t>
            </a:r>
            <a:r>
              <a:rPr b="0" lang="en-US" sz="8000" spc="-1" strike="noStrike" baseline="30000">
                <a:solidFill>
                  <a:srgbClr val="006600"/>
                </a:solidFill>
                <a:latin typeface="Comic Sans MS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200400" y="3657600"/>
            <a:ext cx="762120" cy="990720"/>
          </a:xfrm>
          <a:prstGeom prst="ellipse">
            <a:avLst/>
          </a:pr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1447920" y="1523880"/>
            <a:ext cx="6629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00"/>
                </a:solidFill>
                <a:latin typeface="Comic Sans MS"/>
              </a:rPr>
              <a:t>Degree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 of a monomia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08" name=""/>
          <p:cNvCxnSpPr/>
          <p:nvPr/>
        </p:nvCxnSpPr>
        <p:spPr>
          <a:xfrm flipV="1">
            <a:off x="2743200" y="3428640"/>
            <a:ext cx="1829520" cy="254880"/>
          </a:xfrm>
          <a:prstGeom prst="curvedConnector5">
            <a:avLst>
              <a:gd name="adj1" fmla="val 49990"/>
              <a:gd name="adj2" fmla="val 49929"/>
              <a:gd name="adj3" fmla="val 49990"/>
            </a:avLst>
          </a:prstGeom>
          <a:ln w="38160">
            <a:solidFill>
              <a:srgbClr val="6600cc"/>
            </a:solidFill>
            <a:miter/>
            <a:tailEnd len="med" type="triangle" w="med"/>
          </a:ln>
        </p:spPr>
      </p:cxnSp>
      <p:cxnSp>
        <p:nvCxnSpPr>
          <p:cNvPr id="609" name=""/>
          <p:cNvCxnSpPr/>
          <p:nvPr/>
        </p:nvCxnSpPr>
        <p:spPr>
          <a:xfrm flipH="1" flipV="1" rot="5400000">
            <a:off x="4145760" y="3092400"/>
            <a:ext cx="203760" cy="1028880"/>
          </a:xfrm>
          <a:prstGeom prst="curvedConnector2">
            <a:avLst/>
          </a:prstGeom>
          <a:ln w="38160">
            <a:solidFill>
              <a:srgbClr val="6600cc"/>
            </a:solidFill>
            <a:miter/>
            <a:tailEnd len="med" type="triangle" w="med"/>
          </a:ln>
        </p:spPr>
      </p:cxnSp>
      <p:sp>
        <p:nvSpPr>
          <p:cNvPr id="610" name=""/>
          <p:cNvSpPr/>
          <p:nvPr/>
        </p:nvSpPr>
        <p:spPr>
          <a:xfrm>
            <a:off x="2362320" y="685800"/>
            <a:ext cx="441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nomials /Polynomi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7" dur="indefinite" restart="never" nodeType="tmRoot">
          <p:childTnLst>
            <p:seq>
              <p:cTn id="708" dur="indefinite" nodeType="mainSeq">
                <p:childTnLst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9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3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1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"/>
          <p:cNvSpPr/>
          <p:nvPr/>
        </p:nvSpPr>
        <p:spPr>
          <a:xfrm>
            <a:off x="2971800" y="1447920"/>
            <a:ext cx="2895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ff"/>
                </a:solidFill>
                <a:latin typeface="Comic Sans MS"/>
              </a:rPr>
              <a:t>Rul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85800" y="4191120"/>
            <a:ext cx="7620120" cy="119124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00000"/>
              </a:lnSpc>
              <a:spcBef>
                <a:spcPts val="225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add the powers of each of the variables in the monomi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838080" y="2514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o find the degree of a monomial expressio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2362320" y="685800"/>
            <a:ext cx="441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nomials /Polynomi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52" dur="indefinite" restart="never" nodeType="tmRoot">
          <p:childTnLst>
            <p:seq>
              <p:cTn id="753" dur="indefinite" nodeType="mainSeq">
                <p:childTnLst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8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4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9" dur="500"/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2133720" y="2362320"/>
            <a:ext cx="2166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-x</a:t>
            </a:r>
            <a:r>
              <a:rPr b="0" lang="en-US" sz="5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y</a:t>
            </a:r>
            <a:r>
              <a:rPr b="0" lang="en-US" sz="54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2057400" y="3809880"/>
            <a:ext cx="750960" cy="762120"/>
          </a:xfrm>
          <a:prstGeom prst="ellipse">
            <a:avLst/>
          </a:prstGeom>
          <a:noFill/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905120" y="3733920"/>
            <a:ext cx="250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600cc"/>
                </a:solidFill>
                <a:latin typeface="Comic Sans MS"/>
              </a:rPr>
              <a:t>-1</a:t>
            </a:r>
            <a:r>
              <a:rPr b="0" lang="en-US" sz="5400" spc="-1" strike="noStrike">
                <a:solidFill>
                  <a:srgbClr val="cc0000"/>
                </a:solidFill>
                <a:latin typeface="Comic Sans MS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US" sz="5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y</a:t>
            </a:r>
            <a:r>
              <a:rPr b="0" lang="en-US" sz="54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990720" y="4952880"/>
            <a:ext cx="7315200" cy="124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cc"/>
                </a:solidFill>
                <a:latin typeface="Comic Sans MS"/>
              </a:rPr>
              <a:t>Coefficient = -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600" spc="-1" strike="noStrike" u="sng">
                <a:solidFill>
                  <a:srgbClr val="006600"/>
                </a:solidFill>
                <a:uFillTx/>
                <a:latin typeface="Comic Sans MS"/>
              </a:rPr>
              <a:t>Note: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efficient includes the sig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838080" y="1523880"/>
            <a:ext cx="7620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00cc"/>
                </a:solidFill>
                <a:latin typeface="Comic Sans MS"/>
              </a:rPr>
              <a:t>Coefficient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 of a monomia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362320" y="685800"/>
            <a:ext cx="441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nomials /Polynomi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70" dur="indefinite" restart="never" nodeType="tmRoot">
          <p:childTnLst>
            <p:seq>
              <p:cTn id="771" dur="indefinite" nodeType="mainSeq">
                <p:childTnLst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6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6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1" dur="500"/>
                                        <p:tgtEl>
                                          <p:spTgt spid="6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6" dur="500"/>
                                        <p:tgtEl>
                                          <p:spTgt spid="6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"/>
          <p:cNvSpPr/>
          <p:nvPr/>
        </p:nvSpPr>
        <p:spPr>
          <a:xfrm>
            <a:off x="2971800" y="1447920"/>
            <a:ext cx="2895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ff"/>
                </a:solidFill>
                <a:latin typeface="Comic Sans MS"/>
              </a:rPr>
              <a:t>Rul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990720" y="4114800"/>
            <a:ext cx="7619760" cy="1068840"/>
          </a:xfrm>
          <a:prstGeom prst="rect">
            <a:avLst/>
          </a:prstGeom>
          <a:noFill/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00000"/>
              </a:lnSpc>
              <a:spcBef>
                <a:spcPts val="20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use the numerical value of the single te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838080" y="2514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o find the coefficient of a monomial expressio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362320" y="685800"/>
            <a:ext cx="441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nomials /Polynomi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97" dur="indefinite" restart="never" nodeType="tmRoot">
          <p:childTnLst>
            <p:seq>
              <p:cTn id="798" dur="indefinite" nodeType="mainSeq">
                <p:childTnLst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3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9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4" dur="500"/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"/>
          <p:cNvSpPr/>
          <p:nvPr/>
        </p:nvSpPr>
        <p:spPr>
          <a:xfrm>
            <a:off x="1523880" y="3657600"/>
            <a:ext cx="5639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00"/>
                </a:solidFill>
                <a:latin typeface="Comic Sans MS"/>
              </a:rPr>
              <a:t>Coefficient = 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1523880" y="4724280"/>
            <a:ext cx="5486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Comic Sans MS"/>
              </a:rPr>
              <a:t>Degree = 1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66880" y="2362320"/>
            <a:ext cx="3810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… 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+ </a:t>
            </a:r>
            <a:r>
              <a:rPr b="0" lang="en-US" sz="5400" spc="-1" strike="noStrike">
                <a:solidFill>
                  <a:srgbClr val="6600cc"/>
                </a:solidFill>
                <a:latin typeface="Comic Sans MS"/>
              </a:rPr>
              <a:t>3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z  + …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4648320" y="22860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Comic Sans MS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362320" y="685800"/>
            <a:ext cx="441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nomials /Polynomi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581760" y="1609920"/>
            <a:ext cx="3172320" cy="1199880"/>
            <a:chOff x="581760" y="1609920"/>
            <a:chExt cx="3172320" cy="1199880"/>
          </a:xfrm>
        </p:grpSpPr>
        <p:sp>
          <p:nvSpPr>
            <p:cNvPr id="631" name=""/>
            <p:cNvSpPr/>
            <p:nvPr/>
          </p:nvSpPr>
          <p:spPr>
            <a:xfrm rot="20897400">
              <a:off x="612360" y="1904760"/>
              <a:ext cx="2971800" cy="609480"/>
            </a:xfrm>
            <a:prstGeom prst="roundRect">
              <a:avLst>
                <a:gd name="adj" fmla="val 16667"/>
              </a:avLst>
            </a:prstGeom>
            <a:solidFill>
              <a:srgbClr val="ff99cc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 rot="20897400">
              <a:off x="609480" y="1942920"/>
              <a:ext cx="3124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Another exampl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21" dur="500"/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6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32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"/>
          <p:cNvSpPr/>
          <p:nvPr/>
        </p:nvSpPr>
        <p:spPr>
          <a:xfrm>
            <a:off x="4038480" y="1828800"/>
            <a:ext cx="2819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-3x</a:t>
            </a:r>
            <a:r>
              <a:rPr b="0" lang="en-US" sz="54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y</a:t>
            </a:r>
            <a:r>
              <a:rPr b="0" lang="en-US" sz="5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z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4" name=""/>
          <p:cNvGrpSpPr/>
          <p:nvPr/>
        </p:nvGrpSpPr>
        <p:grpSpPr>
          <a:xfrm>
            <a:off x="1523880" y="2590920"/>
            <a:ext cx="6324840" cy="3141720"/>
            <a:chOff x="1523880" y="2590920"/>
            <a:chExt cx="6324840" cy="3141720"/>
          </a:xfrm>
        </p:grpSpPr>
        <p:sp>
          <p:nvSpPr>
            <p:cNvPr id="635" name=""/>
            <p:cNvSpPr/>
            <p:nvPr/>
          </p:nvSpPr>
          <p:spPr>
            <a:xfrm>
              <a:off x="1523880" y="4724280"/>
              <a:ext cx="63248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6600cc"/>
                  </a:solidFill>
                  <a:latin typeface="Comic Sans MS"/>
                </a:rPr>
                <a:t>Degree = 4+2+1</a:t>
              </a:r>
              <a:r>
                <a:rPr b="0" lang="en-US" sz="4800" spc="-1" strike="noStrike">
                  <a:solidFill>
                    <a:srgbClr val="6600cc"/>
                  </a:solidFill>
                  <a:latin typeface="Comic Sans MS"/>
                </a:rPr>
                <a:t> = </a:t>
              </a:r>
              <a:r>
                <a:rPr b="0" lang="en-US" sz="6000" spc="-1" strike="noStrike">
                  <a:solidFill>
                    <a:srgbClr val="6600cc"/>
                  </a:solidFill>
                  <a:latin typeface="Comic Sans MS"/>
                </a:rPr>
                <a:t>6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6" name=""/>
            <p:cNvGrpSpPr/>
            <p:nvPr/>
          </p:nvGrpSpPr>
          <p:grpSpPr>
            <a:xfrm>
              <a:off x="4800240" y="2590920"/>
              <a:ext cx="1828800" cy="2286000"/>
              <a:chOff x="4800240" y="2590920"/>
              <a:chExt cx="1828800" cy="2286000"/>
            </a:xfrm>
          </p:grpSpPr>
          <p:sp>
            <p:nvSpPr>
              <p:cNvPr id="637" name=""/>
              <p:cNvSpPr/>
              <p:nvPr/>
            </p:nvSpPr>
            <p:spPr>
              <a:xfrm rot="5400000">
                <a:off x="5524200" y="2019240"/>
                <a:ext cx="533160" cy="1676520"/>
              </a:xfrm>
              <a:custGeom>
                <a:avLst/>
                <a:gdLst>
                  <a:gd name="textAreaLeft" fmla="*/ 0 w 533160"/>
                  <a:gd name="textAreaRight" fmla="*/ 192600 w 533160"/>
                  <a:gd name="textAreaTop" fmla="*/ 43560 h 1676520"/>
                  <a:gd name="textAreaBottom" fmla="*/ 1632960 h 1676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38160">
                <a:solidFill>
                  <a:srgbClr val="66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638" name=""/>
              <p:cNvCxnSpPr/>
              <p:nvPr/>
            </p:nvCxnSpPr>
            <p:spPr>
              <a:xfrm rot="5400000">
                <a:off x="4399920" y="3524040"/>
                <a:ext cx="1753560" cy="953280"/>
              </a:xfrm>
              <a:prstGeom prst="curvedConnector5">
                <a:avLst>
                  <a:gd name="adj1" fmla="val 50000"/>
                  <a:gd name="adj2" fmla="val 49981"/>
                  <a:gd name="adj3" fmla="val 50000"/>
                </a:avLst>
              </a:prstGeom>
              <a:ln w="38160">
                <a:solidFill>
                  <a:srgbClr val="6600cc"/>
                </a:solidFill>
                <a:miter/>
                <a:tailEnd len="med" type="triangle" w="med"/>
              </a:ln>
            </p:spPr>
          </p:cxnSp>
        </p:grpSp>
      </p:grpSp>
      <p:grpSp>
        <p:nvGrpSpPr>
          <p:cNvPr id="639" name=""/>
          <p:cNvGrpSpPr/>
          <p:nvPr/>
        </p:nvGrpSpPr>
        <p:grpSpPr>
          <a:xfrm>
            <a:off x="761400" y="1631880"/>
            <a:ext cx="4344120" cy="2408760"/>
            <a:chOff x="761400" y="1631880"/>
            <a:chExt cx="4344120" cy="2408760"/>
          </a:xfrm>
        </p:grpSpPr>
        <p:sp>
          <p:nvSpPr>
            <p:cNvPr id="640" name=""/>
            <p:cNvSpPr/>
            <p:nvPr/>
          </p:nvSpPr>
          <p:spPr>
            <a:xfrm>
              <a:off x="990720" y="3032280"/>
              <a:ext cx="41148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6600"/>
                  </a:solidFill>
                  <a:latin typeface="Comic Sans MS"/>
                </a:rPr>
                <a:t>Coefficient =</a:t>
              </a:r>
              <a:r>
                <a:rPr b="0" lang="en-US" sz="4800" spc="-1" strike="noStrike">
                  <a:solidFill>
                    <a:srgbClr val="006600"/>
                  </a:solidFill>
                  <a:latin typeface="Comic Sans MS"/>
                </a:rPr>
                <a:t> </a:t>
              </a:r>
              <a:r>
                <a:rPr b="0" lang="en-US" sz="6000" spc="-1" strike="noStrike">
                  <a:solidFill>
                    <a:srgbClr val="006600"/>
                  </a:solidFill>
                  <a:latin typeface="Comic Sans MS"/>
                </a:rPr>
                <a:t>-3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41" name=""/>
            <p:cNvGrpSpPr/>
            <p:nvPr/>
          </p:nvGrpSpPr>
          <p:grpSpPr>
            <a:xfrm>
              <a:off x="761400" y="1631880"/>
              <a:ext cx="4197960" cy="1797480"/>
              <a:chOff x="761400" y="1631880"/>
              <a:chExt cx="4197960" cy="1797480"/>
            </a:xfrm>
          </p:grpSpPr>
          <p:sp>
            <p:nvSpPr>
              <p:cNvPr id="642" name=""/>
              <p:cNvSpPr/>
              <p:nvPr/>
            </p:nvSpPr>
            <p:spPr>
              <a:xfrm>
                <a:off x="4038480" y="1631880"/>
                <a:ext cx="920880" cy="1071720"/>
              </a:xfrm>
              <a:prstGeom prst="ellipse">
                <a:avLst/>
              </a:prstGeom>
              <a:noFill/>
              <a:ln w="57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643" name=""/>
              <p:cNvCxnSpPr/>
              <p:nvPr/>
            </p:nvCxnSpPr>
            <p:spPr>
              <a:xfrm flipV="1" rot="10800000">
                <a:off x="990000" y="2165040"/>
                <a:ext cx="3034440" cy="1264320"/>
              </a:xfrm>
              <a:prstGeom prst="curvedConnector5">
                <a:avLst>
                  <a:gd name="adj1" fmla="val 107534"/>
                  <a:gd name="adj2" fmla="val 49985"/>
                  <a:gd name="adj3" fmla="val 107534"/>
                </a:avLst>
              </a:prstGeom>
              <a:ln w="57240">
                <a:solidFill>
                  <a:srgbClr val="808080"/>
                </a:solidFill>
                <a:miter/>
                <a:tailEnd len="med" type="triangle" w="med"/>
              </a:ln>
            </p:spPr>
          </p:cxnSp>
        </p:grpSp>
      </p:grpSp>
      <p:sp>
        <p:nvSpPr>
          <p:cNvPr id="644" name=""/>
          <p:cNvSpPr/>
          <p:nvPr/>
        </p:nvSpPr>
        <p:spPr>
          <a:xfrm>
            <a:off x="2362320" y="685800"/>
            <a:ext cx="441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nomials /Polynomi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33" dur="indefinite" restart="never" nodeType="tmRoot">
          <p:childTnLst>
            <p:seq>
              <p:cTn id="834" dur="indefinite" nodeType="mainSeq">
                <p:childTnLst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9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4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2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"/>
          <p:cNvSpPr/>
          <p:nvPr/>
        </p:nvSpPr>
        <p:spPr>
          <a:xfrm>
            <a:off x="3657600" y="1752480"/>
            <a:ext cx="426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600cc"/>
                </a:solidFill>
                <a:latin typeface="Comic Sans MS"/>
              </a:rPr>
              <a:t>Coefficient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3962520" y="4876920"/>
            <a:ext cx="4419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ff"/>
                </a:solidFill>
                <a:latin typeface="Comic Sans MS"/>
              </a:rPr>
              <a:t>Degree = 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1676520" y="3124080"/>
            <a:ext cx="571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omic Sans MS"/>
              </a:rPr>
              <a:t>… </a:t>
            </a:r>
            <a:r>
              <a:rPr b="0" lang="en-US" sz="9600" spc="-1" strike="noStrike">
                <a:solidFill>
                  <a:srgbClr val="000000"/>
                </a:solidFill>
                <a:latin typeface="Comic Sans MS"/>
              </a:rPr>
              <a:t>+ 8 + …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8" name=""/>
          <p:cNvGrpSpPr/>
          <p:nvPr/>
        </p:nvGrpSpPr>
        <p:grpSpPr>
          <a:xfrm>
            <a:off x="380880" y="1371600"/>
            <a:ext cx="3200400" cy="2895480"/>
            <a:chOff x="380880" y="1371600"/>
            <a:chExt cx="3200400" cy="2895480"/>
          </a:xfrm>
        </p:grpSpPr>
        <p:sp>
          <p:nvSpPr>
            <p:cNvPr id="649" name=""/>
            <p:cNvSpPr/>
            <p:nvPr/>
          </p:nvSpPr>
          <p:spPr>
            <a:xfrm>
              <a:off x="380880" y="1371600"/>
              <a:ext cx="3200400" cy="2895480"/>
            </a:xfrm>
            <a:prstGeom prst="irregularSeal1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 rot="20011200">
              <a:off x="1690560" y="1949040"/>
              <a:ext cx="900360" cy="170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6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600" spc="-1" strike="noStrike">
                  <a:solidFill>
                    <a:srgbClr val="ffff66"/>
                  </a:solidFill>
                  <a:latin typeface="Comic Sans MS"/>
                </a:rPr>
                <a:t>?</a:t>
              </a:r>
              <a:endParaRPr b="0" lang="en-US" sz="10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1" name=""/>
          <p:cNvSpPr/>
          <p:nvPr/>
        </p:nvSpPr>
        <p:spPr>
          <a:xfrm>
            <a:off x="2362320" y="685800"/>
            <a:ext cx="441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nomials /Polynomi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56" dur="indefinite" restart="never" nodeType="tmRoot">
          <p:childTnLst>
            <p:seq>
              <p:cTn id="857" dur="indefinite" nodeType="mainSeq">
                <p:childTnLst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2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7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"/>
          <p:cNvSpPr/>
          <p:nvPr/>
        </p:nvSpPr>
        <p:spPr>
          <a:xfrm>
            <a:off x="4191120" y="1447920"/>
            <a:ext cx="2057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48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 =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4191120" y="1447920"/>
            <a:ext cx="2438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48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 = </a:t>
            </a:r>
            <a:r>
              <a:rPr b="0" lang="en-US" sz="4800" spc="-1" strike="noStrike">
                <a:solidFill>
                  <a:srgbClr val="006600"/>
                </a:solidFill>
                <a:latin typeface="Comic Sans MS"/>
              </a:rPr>
              <a:t>3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191120" y="2286000"/>
            <a:ext cx="2057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4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 =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4191120" y="3124080"/>
            <a:ext cx="2057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48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 =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4191120" y="3962520"/>
            <a:ext cx="2057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4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 =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191120" y="2286000"/>
            <a:ext cx="2438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4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 = </a:t>
            </a:r>
            <a:r>
              <a:rPr b="0" lang="en-US" sz="4800" spc="-1" strike="noStrike">
                <a:solidFill>
                  <a:srgbClr val="006600"/>
                </a:solidFill>
                <a:latin typeface="Comic Sans MS"/>
              </a:rPr>
              <a:t>1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4191120" y="3124080"/>
            <a:ext cx="2438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48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 = </a:t>
            </a:r>
            <a:r>
              <a:rPr b="0" lang="en-US" sz="4800" spc="-1" strike="noStrike">
                <a:solidFill>
                  <a:srgbClr val="006600"/>
                </a:solidFill>
                <a:latin typeface="Comic Sans MS"/>
              </a:rPr>
              <a:t>8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4191120" y="3962520"/>
            <a:ext cx="2438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4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 = </a:t>
            </a:r>
            <a:r>
              <a:rPr b="0" lang="en-US" sz="4800" spc="-1" strike="noStrike">
                <a:solidFill>
                  <a:srgbClr val="006600"/>
                </a:solidFill>
                <a:latin typeface="Comic Sans MS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1219320" y="4876920"/>
            <a:ext cx="2438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5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 = </a:t>
            </a:r>
            <a:r>
              <a:rPr b="0" lang="en-US" sz="5400" spc="-1" strike="noStrike">
                <a:solidFill>
                  <a:srgbClr val="006600"/>
                </a:solidFill>
                <a:latin typeface="Comic Sans MS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943600" y="5029200"/>
            <a:ext cx="2438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5400" spc="-1" strike="noStrike" baseline="30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 = </a:t>
            </a:r>
            <a:r>
              <a:rPr b="0" lang="en-US" sz="5400" spc="-1" strike="noStrike">
                <a:solidFill>
                  <a:srgbClr val="006600"/>
                </a:solidFill>
                <a:latin typeface="Comic Sans MS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2362320" y="685800"/>
            <a:ext cx="441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nomials /Polynomi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3" name="" descr=""/>
          <p:cNvPicPr/>
          <p:nvPr/>
        </p:nvPicPr>
        <p:blipFill>
          <a:blip r:embed="rId1"/>
          <a:stretch/>
        </p:blipFill>
        <p:spPr>
          <a:xfrm>
            <a:off x="990720" y="1600200"/>
            <a:ext cx="3206520" cy="1757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68" dur="indefinite" restart="never" nodeType="tmRoot">
          <p:childTnLst>
            <p:seq>
              <p:cTn id="869" dur="indefinite" nodeType="mainSeq">
                <p:childTnLst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4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9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4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9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4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9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"/>
          <p:cNvSpPr/>
          <p:nvPr/>
        </p:nvSpPr>
        <p:spPr>
          <a:xfrm>
            <a:off x="1676520" y="3429000"/>
            <a:ext cx="69339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Any number raised to the </a:t>
            </a:r>
            <a:r>
              <a:rPr b="0" lang="en-US" sz="54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5400" spc="-1" strike="noStrike" baseline="30000">
                <a:solidFill>
                  <a:srgbClr val="3333cc"/>
                </a:solidFill>
                <a:latin typeface="Comic Sans MS"/>
              </a:rPr>
              <a:t>th</a:t>
            </a:r>
            <a:r>
              <a:rPr b="0" lang="en-US" sz="5400" spc="-1" strike="noStrike">
                <a:solidFill>
                  <a:srgbClr val="0066ff"/>
                </a:solidFill>
                <a:latin typeface="Comic Sans MS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power = </a:t>
            </a:r>
            <a:r>
              <a:rPr b="0" lang="en-US" sz="6600" spc="-1" strike="noStrike">
                <a:solidFill>
                  <a:srgbClr val="006600"/>
                </a:solidFill>
                <a:latin typeface="Comic Sans MS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286000" y="1676520"/>
            <a:ext cx="4495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8000" spc="-1" strike="noStrike" baseline="30000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8000" spc="-1" strike="noStrike">
                <a:solidFill>
                  <a:srgbClr val="3333cc"/>
                </a:solidFill>
                <a:latin typeface="Comic Sans MS"/>
              </a:rPr>
              <a:t> = 1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2362320" y="685800"/>
            <a:ext cx="441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nomials /Polynomi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00" dur="indefinite" restart="never" nodeType="tmRoot">
          <p:childTnLst>
            <p:seq>
              <p:cTn id="901" dur="indefinite" nodeType="mainSeq">
                <p:childTnLst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6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2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3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7" name=""/>
          <p:cNvGrpSpPr/>
          <p:nvPr/>
        </p:nvGrpSpPr>
        <p:grpSpPr>
          <a:xfrm>
            <a:off x="2743200" y="2209680"/>
            <a:ext cx="4876560" cy="1557000"/>
            <a:chOff x="2743200" y="2209680"/>
            <a:chExt cx="4876560" cy="1557000"/>
          </a:xfrm>
        </p:grpSpPr>
        <p:sp>
          <p:nvSpPr>
            <p:cNvPr id="668" name=""/>
            <p:cNvSpPr/>
            <p:nvPr/>
          </p:nvSpPr>
          <p:spPr>
            <a:xfrm>
              <a:off x="2743200" y="2209680"/>
              <a:ext cx="411480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600" spc="-1" strike="noStrike">
                  <a:solidFill>
                    <a:srgbClr val="000000"/>
                  </a:solidFill>
                  <a:latin typeface="Comic Sans MS"/>
                </a:rPr>
                <a:t>+8 = </a:t>
              </a:r>
              <a:r>
                <a:rPr b="0" lang="en-US" sz="9600" spc="-1" strike="noStrike">
                  <a:solidFill>
                    <a:srgbClr val="996633"/>
                  </a:solidFill>
                  <a:latin typeface="Comic Sans MS"/>
                </a:rPr>
                <a:t>8</a:t>
              </a:r>
              <a:endParaRPr b="0" lang="en-US" sz="9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6095880" y="2378160"/>
              <a:ext cx="152388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r>
                <a:rPr b="0" lang="en-US" sz="8000" spc="-1" strike="noStrike" baseline="30000">
                  <a:solidFill>
                    <a:srgbClr val="3333ff"/>
                  </a:solidFill>
                  <a:latin typeface="Comic Sans MS"/>
                </a:rPr>
                <a:t>0</a:t>
              </a:r>
              <a:endParaRPr b="0" lang="en-US" sz="8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0" name=""/>
          <p:cNvGrpSpPr/>
          <p:nvPr/>
        </p:nvGrpSpPr>
        <p:grpSpPr>
          <a:xfrm>
            <a:off x="417600" y="1622160"/>
            <a:ext cx="2594160" cy="1606680"/>
            <a:chOff x="417600" y="1622160"/>
            <a:chExt cx="2594160" cy="1606680"/>
          </a:xfrm>
        </p:grpSpPr>
        <p:sp>
          <p:nvSpPr>
            <p:cNvPr id="671" name=""/>
            <p:cNvSpPr/>
            <p:nvPr/>
          </p:nvSpPr>
          <p:spPr>
            <a:xfrm rot="20936400">
              <a:off x="457200" y="1857240"/>
              <a:ext cx="2514600" cy="6573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 rot="20978400">
              <a:off x="582840" y="1836720"/>
              <a:ext cx="23400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Comic Sans MS"/>
                </a:rPr>
                <a:t>therefore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3" name=""/>
          <p:cNvSpPr/>
          <p:nvPr/>
        </p:nvSpPr>
        <p:spPr>
          <a:xfrm>
            <a:off x="1295280" y="3962520"/>
            <a:ext cx="4648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96633"/>
                </a:solidFill>
                <a:latin typeface="Comic Sans MS"/>
              </a:rPr>
              <a:t>Coefficient =</a:t>
            </a:r>
            <a:r>
              <a:rPr b="0" lang="en-US" sz="48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590920" y="5002200"/>
            <a:ext cx="3124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ff"/>
                </a:solidFill>
                <a:latin typeface="Comic Sans MS"/>
              </a:rPr>
              <a:t>Degree =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5334120" y="3733920"/>
            <a:ext cx="99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996633"/>
                </a:solidFill>
                <a:latin typeface="Comic Sans MS"/>
              </a:rPr>
              <a:t>8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5334120" y="4740120"/>
            <a:ext cx="99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ff"/>
                </a:solidFill>
                <a:latin typeface="Comic Sans MS"/>
              </a:rPr>
              <a:t>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2362320" y="685800"/>
            <a:ext cx="441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nomials /Polynomi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14" dur="indefinite" restart="never" nodeType="tmRoot">
          <p:childTnLst>
            <p:seq>
              <p:cTn id="915" dur="indefinite" nodeType="mainSeq">
                <p:childTnLst>
                  <p:par>
                    <p:cTn id="916" fill="hold">
                      <p:stCondLst>
                        <p:cond delay="indefinite"/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0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1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6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7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1752480" y="5105520"/>
            <a:ext cx="60199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5 + 7 = 12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27" name=""/>
          <p:cNvSpPr/>
          <p:nvPr/>
        </p:nvSpPr>
        <p:spPr>
          <a:xfrm>
            <a:off x="2438280" y="685800"/>
            <a:ext cx="441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quations/Express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1066680" y="1709640"/>
            <a:ext cx="6934320" cy="316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Comic Sans MS"/>
              </a:rPr>
              <a:t>Equation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Comic Sans MS"/>
              </a:rPr>
              <a:t>&amp;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Comic Sans MS"/>
              </a:rPr>
              <a:t>Expression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Comic Sans MS"/>
              <a:ea typeface="Comic Sans MS"/>
            </a:endParaRPr>
          </a:p>
        </p:txBody>
      </p:sp>
    </p:spTree>
  </p:cSld>
  <p:transition>
    <p:zoom dir="in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"/>
          <p:cNvSpPr/>
          <p:nvPr/>
        </p:nvSpPr>
        <p:spPr>
          <a:xfrm>
            <a:off x="685800" y="3063960"/>
            <a:ext cx="7696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Monomials with the same variables raised to the same exponent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2743200" y="1676520"/>
            <a:ext cx="3657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ff"/>
                </a:solidFill>
                <a:latin typeface="Comic Sans MS"/>
              </a:rPr>
              <a:t>Like Term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2362320" y="685800"/>
            <a:ext cx="441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nomials /Polynomi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38" dur="indefinite" restart="never" nodeType="tmRoot">
          <p:childTnLst>
            <p:seq>
              <p:cTn id="939" dur="indefinite" nodeType="mainSeq">
                <p:childTnLst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4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5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"/>
          <p:cNvSpPr/>
          <p:nvPr/>
        </p:nvSpPr>
        <p:spPr>
          <a:xfrm>
            <a:off x="685800" y="3063960"/>
            <a:ext cx="7696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Coefficients may be differen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762120" y="1523880"/>
            <a:ext cx="5715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For </a:t>
            </a:r>
            <a:r>
              <a:rPr b="0" lang="en-US" sz="4800" spc="-1" strike="noStrike">
                <a:solidFill>
                  <a:srgbClr val="3333ff"/>
                </a:solidFill>
                <a:latin typeface="Comic Sans MS"/>
              </a:rPr>
              <a:t>like terms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2362320" y="685800"/>
            <a:ext cx="441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nomials /Polynomi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46" dur="indefinite" restart="never" nodeType="tmRoot">
          <p:childTnLst>
            <p:seq>
              <p:cTn id="947" dur="indefinite" nodeType="mainSeq">
                <p:childTnLst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2" dur="5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"/>
          <p:cNvSpPr/>
          <p:nvPr/>
        </p:nvSpPr>
        <p:spPr>
          <a:xfrm>
            <a:off x="1181160" y="4800600"/>
            <a:ext cx="7086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Which are </a:t>
            </a:r>
            <a:r>
              <a:rPr b="0" lang="en-US" sz="4800" spc="-1" strike="noStrike" u="sng">
                <a:solidFill>
                  <a:srgbClr val="3333ff"/>
                </a:solidFill>
                <a:uFillTx/>
                <a:latin typeface="Comic Sans MS"/>
              </a:rPr>
              <a:t>like</a:t>
            </a:r>
            <a:r>
              <a:rPr b="0" lang="en-US" sz="4800" spc="-1" strike="noStrike">
                <a:solidFill>
                  <a:srgbClr val="3333ff"/>
                </a:solidFill>
                <a:latin typeface="Comic Sans MS"/>
              </a:rPr>
              <a:t> </a:t>
            </a:r>
            <a:r>
              <a:rPr b="0" lang="en-US" sz="4800" spc="-1" strike="noStrike" u="sng">
                <a:solidFill>
                  <a:srgbClr val="3333ff"/>
                </a:solidFill>
                <a:uFillTx/>
                <a:latin typeface="Comic Sans MS"/>
              </a:rPr>
              <a:t>terms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228600" y="3352680"/>
            <a:ext cx="86868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mic Sans MS"/>
              </a:rPr>
              <a:t>-8x</a:t>
            </a:r>
            <a:r>
              <a:rPr b="0" lang="en-US" sz="42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4200" spc="-1" strike="noStrike">
                <a:solidFill>
                  <a:srgbClr val="000000"/>
                </a:solidFill>
                <a:latin typeface="Comic Sans MS"/>
              </a:rPr>
              <a:t>y – 2x</a:t>
            </a:r>
            <a:r>
              <a:rPr b="0" lang="en-US" sz="4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4200" spc="-1" strike="noStrike">
                <a:solidFill>
                  <a:srgbClr val="000000"/>
                </a:solidFill>
                <a:latin typeface="Comic Sans MS"/>
              </a:rPr>
              <a:t>y</a:t>
            </a:r>
            <a:r>
              <a:rPr b="0" lang="en-US" sz="42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4200" spc="-1" strike="noStrike">
                <a:solidFill>
                  <a:srgbClr val="000000"/>
                </a:solidFill>
                <a:latin typeface="Comic Sans MS"/>
              </a:rPr>
              <a:t> + x</a:t>
            </a:r>
            <a:r>
              <a:rPr b="0" lang="en-US" sz="42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4200" spc="-1" strike="noStrike">
                <a:solidFill>
                  <a:srgbClr val="000000"/>
                </a:solidFill>
                <a:latin typeface="Comic Sans MS"/>
              </a:rPr>
              <a:t> + 32x</a:t>
            </a:r>
            <a:r>
              <a:rPr b="0" lang="en-US" sz="42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4200" spc="-1" strike="noStrike">
                <a:solidFill>
                  <a:srgbClr val="000000"/>
                </a:solidFill>
                <a:latin typeface="Comic Sans MS"/>
              </a:rPr>
              <a:t>y – 37y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666880" y="1600200"/>
            <a:ext cx="3810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ff"/>
                </a:solidFill>
                <a:latin typeface="Comic Sans MS"/>
              </a:rPr>
              <a:t>Like Term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7" name=""/>
          <p:cNvGrpSpPr/>
          <p:nvPr/>
        </p:nvGrpSpPr>
        <p:grpSpPr>
          <a:xfrm>
            <a:off x="533520" y="2971800"/>
            <a:ext cx="6553080" cy="1523880"/>
            <a:chOff x="533520" y="2971800"/>
            <a:chExt cx="6553080" cy="1523880"/>
          </a:xfrm>
        </p:grpSpPr>
        <p:sp>
          <p:nvSpPr>
            <p:cNvPr id="688" name=""/>
            <p:cNvSpPr/>
            <p:nvPr/>
          </p:nvSpPr>
          <p:spPr>
            <a:xfrm>
              <a:off x="533520" y="3048120"/>
              <a:ext cx="1523880" cy="14475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5486400" y="2971800"/>
              <a:ext cx="1600200" cy="1523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0" name=""/>
          <p:cNvSpPr/>
          <p:nvPr/>
        </p:nvSpPr>
        <p:spPr>
          <a:xfrm>
            <a:off x="2362320" y="685800"/>
            <a:ext cx="441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nomials /Polynomi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53" dur="indefinite" restart="never" nodeType="tmRoot">
          <p:childTnLst>
            <p:seq>
              <p:cTn id="954" dur="indefinite" nodeType="mainSeq">
                <p:childTnLst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9" dur="5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0" dur="5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fill="hold">
                      <p:stCondLst>
                        <p:cond delay="indefinite"/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5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6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7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"/>
          <p:cNvSpPr/>
          <p:nvPr/>
        </p:nvSpPr>
        <p:spPr>
          <a:xfrm>
            <a:off x="2362320" y="685800"/>
            <a:ext cx="441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nomials /Polynomi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 txBox="1"/>
          <p:nvPr/>
        </p:nvSpPr>
        <p:spPr>
          <a:xfrm>
            <a:off x="914400" y="1981080"/>
            <a:ext cx="5029200" cy="198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Quick Quiz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93" name="" descr=""/>
          <p:cNvPicPr/>
          <p:nvPr/>
        </p:nvPicPr>
        <p:blipFill>
          <a:blip r:embed="rId1"/>
          <a:stretch/>
        </p:blipFill>
        <p:spPr>
          <a:xfrm>
            <a:off x="5791320" y="4419720"/>
            <a:ext cx="547560" cy="761760"/>
          </a:xfrm>
          <a:prstGeom prst="rect">
            <a:avLst/>
          </a:prstGeom>
          <a:ln w="0">
            <a:noFill/>
          </a:ln>
        </p:spPr>
      </p:pic>
      <p:grpSp>
        <p:nvGrpSpPr>
          <p:cNvPr id="694" name=""/>
          <p:cNvGrpSpPr/>
          <p:nvPr/>
        </p:nvGrpSpPr>
        <p:grpSpPr>
          <a:xfrm>
            <a:off x="3733920" y="1878120"/>
            <a:ext cx="4763880" cy="4446360"/>
            <a:chOff x="3733920" y="1878120"/>
            <a:chExt cx="4763880" cy="4446360"/>
          </a:xfrm>
        </p:grpSpPr>
        <p:pic>
          <p:nvPicPr>
            <p:cNvPr id="695" name="" descr=""/>
            <p:cNvPicPr/>
            <p:nvPr/>
          </p:nvPicPr>
          <p:blipFill>
            <a:blip r:embed="rId2"/>
            <a:stretch/>
          </p:blipFill>
          <p:spPr>
            <a:xfrm>
              <a:off x="3733920" y="1878120"/>
              <a:ext cx="4763880" cy="444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6" name=""/>
            <p:cNvSpPr/>
            <p:nvPr/>
          </p:nvSpPr>
          <p:spPr>
            <a:xfrm rot="13632000">
              <a:off x="5419440" y="4483080"/>
              <a:ext cx="990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A+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"/>
          <p:cNvSpPr/>
          <p:nvPr/>
        </p:nvSpPr>
        <p:spPr>
          <a:xfrm>
            <a:off x="533520" y="1523880"/>
            <a:ext cx="8076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Which of these are </a:t>
            </a:r>
            <a:r>
              <a:rPr b="1" lang="en-US" sz="4000" spc="-1" strike="noStrike">
                <a:solidFill>
                  <a:srgbClr val="3333ff"/>
                </a:solidFill>
                <a:latin typeface="Comic Sans MS"/>
              </a:rPr>
              <a:t>like terms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2514600" y="2514600"/>
            <a:ext cx="4419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3xy and 8x</a:t>
            </a:r>
            <a:r>
              <a:rPr b="0" lang="en-US" sz="4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685800" y="3581280"/>
            <a:ext cx="5334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13x</a:t>
            </a:r>
            <a:r>
              <a:rPr b="0" lang="en-US" sz="48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y</a:t>
            </a:r>
            <a:r>
              <a:rPr b="0" lang="en-US" sz="4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 and 14y</a:t>
            </a:r>
            <a:r>
              <a:rPr b="0" lang="en-US" sz="4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US" sz="48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2819520" y="4572000"/>
            <a:ext cx="3504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47 and 18x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0" y="5562720"/>
            <a:ext cx="6781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-10x</a:t>
            </a:r>
            <a:r>
              <a:rPr b="0" lang="en-US" sz="48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y</a:t>
            </a:r>
            <a:r>
              <a:rPr b="0" lang="en-US" sz="4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z and 8zy</a:t>
            </a:r>
            <a:r>
              <a:rPr b="0" lang="en-US" sz="4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2" name=""/>
          <p:cNvGrpSpPr/>
          <p:nvPr/>
        </p:nvGrpSpPr>
        <p:grpSpPr>
          <a:xfrm>
            <a:off x="2514600" y="2514600"/>
            <a:ext cx="6324480" cy="901440"/>
            <a:chOff x="2514600" y="2514600"/>
            <a:chExt cx="6324480" cy="901440"/>
          </a:xfrm>
        </p:grpSpPr>
        <p:sp>
          <p:nvSpPr>
            <p:cNvPr id="703" name=""/>
            <p:cNvSpPr/>
            <p:nvPr/>
          </p:nvSpPr>
          <p:spPr>
            <a:xfrm>
              <a:off x="7162920" y="2590920"/>
              <a:ext cx="16761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6600"/>
                  </a:solidFill>
                  <a:latin typeface="Comic Sans MS"/>
                </a:rPr>
                <a:t>No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2514600" y="2514600"/>
              <a:ext cx="44197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6600"/>
                  </a:solidFill>
                  <a:latin typeface="Comic Sans MS"/>
                </a:rPr>
                <a:t>3xy and 8x</a:t>
              </a:r>
              <a:r>
                <a:rPr b="0" lang="en-US" sz="4800" spc="-1" strike="noStrike" baseline="30000">
                  <a:solidFill>
                    <a:srgbClr val="006600"/>
                  </a:solidFill>
                  <a:latin typeface="Comic Sans MS"/>
                </a:rPr>
                <a:t>2</a:t>
              </a:r>
              <a:r>
                <a:rPr b="0" lang="en-US" sz="4800" spc="-1" strike="noStrike">
                  <a:solidFill>
                    <a:srgbClr val="006600"/>
                  </a:solidFill>
                  <a:latin typeface="Comic Sans MS"/>
                </a:rPr>
                <a:t>y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5" name=""/>
          <p:cNvGrpSpPr/>
          <p:nvPr/>
        </p:nvGrpSpPr>
        <p:grpSpPr>
          <a:xfrm>
            <a:off x="-152280" y="3581280"/>
            <a:ext cx="8762400" cy="825120"/>
            <a:chOff x="-152280" y="3581280"/>
            <a:chExt cx="8762400" cy="825120"/>
          </a:xfrm>
        </p:grpSpPr>
        <p:sp>
          <p:nvSpPr>
            <p:cNvPr id="706" name=""/>
            <p:cNvSpPr/>
            <p:nvPr/>
          </p:nvSpPr>
          <p:spPr>
            <a:xfrm>
              <a:off x="7099560" y="3581280"/>
              <a:ext cx="15105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3333ff"/>
                  </a:solidFill>
                  <a:latin typeface="Comic Sans MS"/>
                </a:rPr>
                <a:t>Yes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-152280" y="3581280"/>
              <a:ext cx="7050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3333ff"/>
                  </a:solidFill>
                  <a:latin typeface="Comic Sans MS"/>
                </a:rPr>
                <a:t>13x</a:t>
              </a:r>
              <a:r>
                <a:rPr b="0" lang="en-US" sz="4800" spc="-1" strike="noStrike" baseline="30000">
                  <a:solidFill>
                    <a:srgbClr val="3333ff"/>
                  </a:solidFill>
                  <a:latin typeface="Comic Sans MS"/>
                </a:rPr>
                <a:t>3</a:t>
              </a:r>
              <a:r>
                <a:rPr b="0" lang="en-US" sz="4800" spc="-1" strike="noStrike">
                  <a:solidFill>
                    <a:srgbClr val="3333ff"/>
                  </a:solidFill>
                  <a:latin typeface="Comic Sans MS"/>
                </a:rPr>
                <a:t>y</a:t>
              </a:r>
              <a:r>
                <a:rPr b="0" lang="en-US" sz="4800" spc="-1" strike="noStrike" baseline="30000">
                  <a:solidFill>
                    <a:srgbClr val="3333ff"/>
                  </a:solidFill>
                  <a:latin typeface="Comic Sans MS"/>
                </a:rPr>
                <a:t>2</a:t>
              </a:r>
              <a:r>
                <a:rPr b="0" lang="en-US" sz="4800" spc="-1" strike="noStrike">
                  <a:solidFill>
                    <a:srgbClr val="3333ff"/>
                  </a:solidFill>
                  <a:latin typeface="Comic Sans MS"/>
                </a:rPr>
                <a:t> and 14y</a:t>
              </a:r>
              <a:r>
                <a:rPr b="0" lang="en-US" sz="4800" spc="-1" strike="noStrike" baseline="30000">
                  <a:solidFill>
                    <a:srgbClr val="3333ff"/>
                  </a:solidFill>
                  <a:latin typeface="Comic Sans MS"/>
                </a:rPr>
                <a:t>2</a:t>
              </a:r>
              <a:r>
                <a:rPr b="0" lang="en-US" sz="4800" spc="-1" strike="noStrike">
                  <a:solidFill>
                    <a:srgbClr val="3333ff"/>
                  </a:solidFill>
                  <a:latin typeface="Comic Sans MS"/>
                </a:rPr>
                <a:t>x</a:t>
              </a:r>
              <a:r>
                <a:rPr b="0" lang="en-US" sz="4800" spc="-1" strike="noStrike" baseline="30000">
                  <a:solidFill>
                    <a:srgbClr val="3333ff"/>
                  </a:solidFill>
                  <a:latin typeface="Comic Sans MS"/>
                </a:rPr>
                <a:t>3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8" name=""/>
          <p:cNvGrpSpPr/>
          <p:nvPr/>
        </p:nvGrpSpPr>
        <p:grpSpPr>
          <a:xfrm>
            <a:off x="2819520" y="4572000"/>
            <a:ext cx="5562360" cy="825120"/>
            <a:chOff x="2819520" y="4572000"/>
            <a:chExt cx="5562360" cy="825120"/>
          </a:xfrm>
        </p:grpSpPr>
        <p:sp>
          <p:nvSpPr>
            <p:cNvPr id="709" name=""/>
            <p:cNvSpPr/>
            <p:nvPr/>
          </p:nvSpPr>
          <p:spPr>
            <a:xfrm>
              <a:off x="7162920" y="4572000"/>
              <a:ext cx="12189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6600"/>
                  </a:solidFill>
                  <a:latin typeface="Comic Sans MS"/>
                </a:rPr>
                <a:t>No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2819520" y="4572000"/>
              <a:ext cx="35049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6600"/>
                  </a:solidFill>
                  <a:latin typeface="Comic Sans MS"/>
                </a:rPr>
                <a:t>47 and 18x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1" name=""/>
          <p:cNvGrpSpPr/>
          <p:nvPr/>
        </p:nvGrpSpPr>
        <p:grpSpPr>
          <a:xfrm>
            <a:off x="152280" y="5562720"/>
            <a:ext cx="8534520" cy="825120"/>
            <a:chOff x="152280" y="5562720"/>
            <a:chExt cx="8534520" cy="825120"/>
          </a:xfrm>
        </p:grpSpPr>
        <p:sp>
          <p:nvSpPr>
            <p:cNvPr id="712" name=""/>
            <p:cNvSpPr/>
            <p:nvPr/>
          </p:nvSpPr>
          <p:spPr>
            <a:xfrm>
              <a:off x="7238880" y="5562720"/>
              <a:ext cx="14479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3333ff"/>
                  </a:solidFill>
                  <a:latin typeface="Comic Sans MS"/>
                </a:rPr>
                <a:t>Yes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152280" y="5562720"/>
              <a:ext cx="67816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3333ff"/>
                  </a:solidFill>
                  <a:latin typeface="Comic Sans MS"/>
                </a:rPr>
                <a:t>-10x</a:t>
              </a:r>
              <a:r>
                <a:rPr b="0" lang="en-US" sz="4800" spc="-1" strike="noStrike" baseline="30000">
                  <a:solidFill>
                    <a:srgbClr val="3333ff"/>
                  </a:solidFill>
                  <a:latin typeface="Comic Sans MS"/>
                </a:rPr>
                <a:t>3</a:t>
              </a:r>
              <a:r>
                <a:rPr b="0" lang="en-US" sz="4800" spc="-1" strike="noStrike">
                  <a:solidFill>
                    <a:srgbClr val="3333ff"/>
                  </a:solidFill>
                  <a:latin typeface="Comic Sans MS"/>
                </a:rPr>
                <a:t>y</a:t>
              </a:r>
              <a:r>
                <a:rPr b="0" lang="en-US" sz="4800" spc="-1" strike="noStrike" baseline="30000">
                  <a:solidFill>
                    <a:srgbClr val="3333ff"/>
                  </a:solidFill>
                  <a:latin typeface="Comic Sans MS"/>
                </a:rPr>
                <a:t>2</a:t>
              </a:r>
              <a:r>
                <a:rPr b="0" lang="en-US" sz="4800" spc="-1" strike="noStrike">
                  <a:solidFill>
                    <a:srgbClr val="3333ff"/>
                  </a:solidFill>
                  <a:latin typeface="Comic Sans MS"/>
                </a:rPr>
                <a:t>z and 8zy</a:t>
              </a:r>
              <a:r>
                <a:rPr b="0" lang="en-US" sz="4800" spc="-1" strike="noStrike" baseline="30000">
                  <a:solidFill>
                    <a:srgbClr val="3333ff"/>
                  </a:solidFill>
                  <a:latin typeface="Comic Sans MS"/>
                </a:rPr>
                <a:t>2</a:t>
              </a:r>
              <a:r>
                <a:rPr b="0" lang="en-US" sz="4800" spc="-1" strike="noStrike">
                  <a:solidFill>
                    <a:srgbClr val="3333ff"/>
                  </a:solidFill>
                  <a:latin typeface="Comic Sans MS"/>
                </a:rPr>
                <a:t>x</a:t>
              </a:r>
              <a:r>
                <a:rPr b="0" lang="en-US" sz="4800" spc="-1" strike="noStrike" baseline="30000">
                  <a:solidFill>
                    <a:srgbClr val="3333ff"/>
                  </a:solidFill>
                  <a:latin typeface="Comic Sans MS"/>
                </a:rPr>
                <a:t>3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4" name=""/>
          <p:cNvSpPr/>
          <p:nvPr/>
        </p:nvSpPr>
        <p:spPr>
          <a:xfrm>
            <a:off x="2362320" y="685800"/>
            <a:ext cx="441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nomials /Polynomi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69" dur="indefinite" restart="never" nodeType="tmRoot">
          <p:childTnLst>
            <p:seq>
              <p:cTn id="970" dur="indefinite" nodeType="mainSeq">
                <p:childTnLst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5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0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5" dur="5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0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"/>
          <p:cNvSpPr/>
          <p:nvPr/>
        </p:nvSpPr>
        <p:spPr>
          <a:xfrm>
            <a:off x="1371600" y="2514600"/>
            <a:ext cx="6705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3y</a:t>
            </a:r>
            <a:r>
              <a:rPr b="0" lang="en-US" sz="48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 + 2y</a:t>
            </a:r>
            <a:r>
              <a:rPr b="0" lang="en-US" sz="4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 + 5y</a:t>
            </a:r>
            <a:r>
              <a:rPr b="0" lang="en-US" sz="48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 + 3y + 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762120" y="1447920"/>
            <a:ext cx="761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Comic Sans MS"/>
              </a:rPr>
              <a:t>Identify and combine like ter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7" name=""/>
          <p:cNvGrpSpPr/>
          <p:nvPr/>
        </p:nvGrpSpPr>
        <p:grpSpPr>
          <a:xfrm>
            <a:off x="1219320" y="2286000"/>
            <a:ext cx="4572000" cy="2166480"/>
            <a:chOff x="1219320" y="2286000"/>
            <a:chExt cx="4572000" cy="2166480"/>
          </a:xfrm>
        </p:grpSpPr>
        <p:sp>
          <p:nvSpPr>
            <p:cNvPr id="718" name=""/>
            <p:cNvSpPr/>
            <p:nvPr/>
          </p:nvSpPr>
          <p:spPr>
            <a:xfrm>
              <a:off x="1219320" y="2286000"/>
              <a:ext cx="1295640" cy="1219320"/>
            </a:xfrm>
            <a:prstGeom prst="ellipse">
              <a:avLst/>
            </a:prstGeom>
            <a:noFill/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419720" y="2286000"/>
              <a:ext cx="1371600" cy="1219320"/>
            </a:xfrm>
            <a:prstGeom prst="ellipse">
              <a:avLst/>
            </a:prstGeom>
            <a:noFill/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2133720" y="380988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3333ff"/>
                  </a:solidFill>
                  <a:latin typeface="Comic Sans MS"/>
                </a:rPr>
                <a:t>like term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21" name=""/>
            <p:cNvCxnSpPr>
              <a:stCxn id="720" idx="1"/>
              <a:endCxn id="718" idx="4"/>
            </p:cNvCxnSpPr>
            <p:nvPr/>
          </p:nvCxnSpPr>
          <p:spPr>
            <a:xfrm rot="10800000">
              <a:off x="1866600" y="3523680"/>
              <a:ext cx="267120" cy="65160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22" name=""/>
            <p:cNvCxnSpPr>
              <a:stCxn id="720" idx="3"/>
              <a:endCxn id="719" idx="4"/>
            </p:cNvCxnSpPr>
            <p:nvPr/>
          </p:nvCxnSpPr>
          <p:spPr>
            <a:xfrm flipV="1">
              <a:off x="4495680" y="3524040"/>
              <a:ext cx="610200" cy="65160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723" name=""/>
          <p:cNvSpPr/>
          <p:nvPr/>
        </p:nvSpPr>
        <p:spPr>
          <a:xfrm>
            <a:off x="2362320" y="685800"/>
            <a:ext cx="441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nomials /Polynomi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1371600" y="4648320"/>
            <a:ext cx="160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8y</a:t>
            </a:r>
            <a:r>
              <a:rPr b="0" lang="en-US" sz="48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2819520" y="4648320"/>
            <a:ext cx="160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+ 2y</a:t>
            </a:r>
            <a:r>
              <a:rPr b="0" lang="en-US" sz="4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4343400" y="4621320"/>
            <a:ext cx="1447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+ 3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5715000" y="4621320"/>
            <a:ext cx="1219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+ 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8" name=""/>
          <p:cNvCxnSpPr>
            <a:endCxn id="725" idx="0"/>
          </p:cNvCxnSpPr>
          <p:nvPr/>
        </p:nvCxnSpPr>
        <p:spPr>
          <a:xfrm flipV="1" rot="10800000">
            <a:off x="3618720" y="3428640"/>
            <a:ext cx="1080" cy="1220040"/>
          </a:xfrm>
          <a:prstGeom prst="curved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9" name=""/>
          <p:cNvCxnSpPr>
            <a:stCxn id="715" idx="3"/>
            <a:endCxn id="727" idx="3"/>
          </p:cNvCxnSpPr>
          <p:nvPr/>
        </p:nvCxnSpPr>
        <p:spPr>
          <a:xfrm flipH="1">
            <a:off x="6933600" y="2985840"/>
            <a:ext cx="1143720" cy="2106720"/>
          </a:xfrm>
          <a:prstGeom prst="curvedConnector5">
            <a:avLst>
              <a:gd name="adj1" fmla="val -19993"/>
              <a:gd name="adj2" fmla="val 49991"/>
              <a:gd name="adj3" fmla="val -19993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0" name=""/>
          <p:cNvCxnSpPr/>
          <p:nvPr/>
        </p:nvCxnSpPr>
        <p:spPr>
          <a:xfrm flipV="1" rot="10800000">
            <a:off x="5180760" y="3580920"/>
            <a:ext cx="1372320" cy="1116720"/>
          </a:xfrm>
          <a:prstGeom prst="curvedConnector5">
            <a:avLst>
              <a:gd name="adj1" fmla="val 49986"/>
              <a:gd name="adj2" fmla="val 49983"/>
              <a:gd name="adj3" fmla="val 49986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p:timing>
    <p:tnLst>
      <p:par>
        <p:cTn id="991" dur="indefinite" restart="never" nodeType="tmRoot">
          <p:childTnLst>
            <p:seq>
              <p:cTn id="992" dur="indefinite" nodeType="mainSeq">
                <p:childTnLst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7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8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9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0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fill="hold">
                      <p:stCondLst>
                        <p:cond delay="indefinite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5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0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1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1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2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3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4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5" fill="hold">
                      <p:stCondLst>
                        <p:cond delay="indefinite"/>
                      </p:stCondLst>
                      <p:childTnLst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9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0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1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2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0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2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8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9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0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1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2" fill="hold">
                      <p:stCondLst>
                        <p:cond delay="indefinite"/>
                      </p:stCondLst>
                      <p:childTnLst>
                        <p:par>
                          <p:cTn id="1033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6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7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8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9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0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3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5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6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7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8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fill="hold">
                      <p:stCondLst>
                        <p:cond delay="indefinite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3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4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5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6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0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2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"/>
          <p:cNvSpPr/>
          <p:nvPr/>
        </p:nvSpPr>
        <p:spPr>
          <a:xfrm>
            <a:off x="3124080" y="60948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2" name=""/>
          <p:cNvGrpSpPr/>
          <p:nvPr/>
        </p:nvGrpSpPr>
        <p:grpSpPr>
          <a:xfrm>
            <a:off x="533520" y="2895480"/>
            <a:ext cx="2209680" cy="2971800"/>
            <a:chOff x="533520" y="2895480"/>
            <a:chExt cx="2209680" cy="2971800"/>
          </a:xfrm>
        </p:grpSpPr>
        <p:sp>
          <p:nvSpPr>
            <p:cNvPr id="733" name=""/>
            <p:cNvSpPr/>
            <p:nvPr/>
          </p:nvSpPr>
          <p:spPr>
            <a:xfrm>
              <a:off x="533520" y="2895480"/>
              <a:ext cx="2209680" cy="297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41440" y="2907720"/>
              <a:ext cx="2193480" cy="2946960"/>
            </a:xfrm>
            <a:custGeom>
              <a:avLst/>
              <a:gdLst/>
              <a:ahLst/>
              <a:rect l="l" t="t" r="r" b="b"/>
              <a:pathLst>
                <a:path w="61339" h="54893">
                  <a:moveTo>
                    <a:pt x="20369" y="694"/>
                  </a:moveTo>
                  <a:lnTo>
                    <a:pt x="20485" y="579"/>
                  </a:lnTo>
                  <a:lnTo>
                    <a:pt x="20485" y="463"/>
                  </a:lnTo>
                  <a:lnTo>
                    <a:pt x="20601" y="463"/>
                  </a:lnTo>
                  <a:lnTo>
                    <a:pt x="20717" y="347"/>
                  </a:lnTo>
                  <a:lnTo>
                    <a:pt x="20832" y="347"/>
                  </a:lnTo>
                  <a:lnTo>
                    <a:pt x="20948" y="347"/>
                  </a:lnTo>
                  <a:lnTo>
                    <a:pt x="21064" y="231"/>
                  </a:lnTo>
                  <a:lnTo>
                    <a:pt x="21179" y="231"/>
                  </a:lnTo>
                  <a:lnTo>
                    <a:pt x="21179" y="231"/>
                  </a:lnTo>
                  <a:lnTo>
                    <a:pt x="21411" y="231"/>
                  </a:lnTo>
                  <a:lnTo>
                    <a:pt x="21527" y="347"/>
                  </a:lnTo>
                  <a:lnTo>
                    <a:pt x="21758" y="463"/>
                  </a:lnTo>
                  <a:lnTo>
                    <a:pt x="21990" y="579"/>
                  </a:lnTo>
                  <a:lnTo>
                    <a:pt x="22105" y="694"/>
                  </a:lnTo>
                  <a:lnTo>
                    <a:pt x="22221" y="810"/>
                  </a:lnTo>
                  <a:lnTo>
                    <a:pt x="22453" y="1042"/>
                  </a:lnTo>
                  <a:lnTo>
                    <a:pt x="22568" y="1274"/>
                  </a:lnTo>
                  <a:lnTo>
                    <a:pt x="22568" y="1274"/>
                  </a:lnTo>
                  <a:lnTo>
                    <a:pt x="22684" y="1158"/>
                  </a:lnTo>
                  <a:lnTo>
                    <a:pt x="22915" y="1042"/>
                  </a:lnTo>
                  <a:lnTo>
                    <a:pt x="23031" y="1042"/>
                  </a:lnTo>
                  <a:lnTo>
                    <a:pt x="23147" y="1042"/>
                  </a:lnTo>
                  <a:lnTo>
                    <a:pt x="23378" y="1042"/>
                  </a:lnTo>
                  <a:lnTo>
                    <a:pt x="23494" y="1042"/>
                  </a:lnTo>
                  <a:lnTo>
                    <a:pt x="23726" y="1042"/>
                  </a:lnTo>
                  <a:lnTo>
                    <a:pt x="23841" y="1158"/>
                  </a:lnTo>
                  <a:lnTo>
                    <a:pt x="23841" y="1158"/>
                  </a:lnTo>
                  <a:lnTo>
                    <a:pt x="23957" y="1158"/>
                  </a:lnTo>
                  <a:lnTo>
                    <a:pt x="24188" y="1274"/>
                  </a:lnTo>
                  <a:lnTo>
                    <a:pt x="24304" y="1389"/>
                  </a:lnTo>
                  <a:lnTo>
                    <a:pt x="24420" y="1505"/>
                  </a:lnTo>
                  <a:lnTo>
                    <a:pt x="24536" y="1621"/>
                  </a:lnTo>
                  <a:lnTo>
                    <a:pt x="24651" y="1621"/>
                  </a:lnTo>
                  <a:lnTo>
                    <a:pt x="24767" y="1621"/>
                  </a:lnTo>
                  <a:lnTo>
                    <a:pt x="24999" y="1389"/>
                  </a:lnTo>
                  <a:lnTo>
                    <a:pt x="24999" y="1389"/>
                  </a:lnTo>
                  <a:lnTo>
                    <a:pt x="25114" y="1389"/>
                  </a:lnTo>
                  <a:lnTo>
                    <a:pt x="25346" y="1505"/>
                  </a:lnTo>
                  <a:lnTo>
                    <a:pt x="25462" y="1505"/>
                  </a:lnTo>
                  <a:lnTo>
                    <a:pt x="25577" y="1621"/>
                  </a:lnTo>
                  <a:lnTo>
                    <a:pt x="25693" y="1737"/>
                  </a:lnTo>
                  <a:lnTo>
                    <a:pt x="25809" y="1853"/>
                  </a:lnTo>
                  <a:lnTo>
                    <a:pt x="25924" y="1968"/>
                  </a:lnTo>
                  <a:lnTo>
                    <a:pt x="26040" y="1968"/>
                  </a:lnTo>
                  <a:lnTo>
                    <a:pt x="26040" y="1968"/>
                  </a:lnTo>
                  <a:lnTo>
                    <a:pt x="26272" y="1968"/>
                  </a:lnTo>
                  <a:lnTo>
                    <a:pt x="26503" y="1853"/>
                  </a:lnTo>
                  <a:lnTo>
                    <a:pt x="26735" y="1853"/>
                  </a:lnTo>
                  <a:lnTo>
                    <a:pt x="26966" y="1737"/>
                  </a:lnTo>
                  <a:lnTo>
                    <a:pt x="27082" y="1737"/>
                  </a:lnTo>
                  <a:lnTo>
                    <a:pt x="27313" y="1737"/>
                  </a:lnTo>
                  <a:lnTo>
                    <a:pt x="27545" y="1853"/>
                  </a:lnTo>
                  <a:lnTo>
                    <a:pt x="27660" y="1968"/>
                  </a:lnTo>
                  <a:lnTo>
                    <a:pt x="27660" y="1968"/>
                  </a:lnTo>
                  <a:lnTo>
                    <a:pt x="28123" y="2316"/>
                  </a:lnTo>
                  <a:lnTo>
                    <a:pt x="28123" y="2316"/>
                  </a:lnTo>
                  <a:lnTo>
                    <a:pt x="28239" y="2084"/>
                  </a:lnTo>
                  <a:lnTo>
                    <a:pt x="28471" y="1968"/>
                  </a:lnTo>
                  <a:lnTo>
                    <a:pt x="28586" y="1968"/>
                  </a:lnTo>
                  <a:lnTo>
                    <a:pt x="28818" y="1968"/>
                  </a:lnTo>
                  <a:lnTo>
                    <a:pt x="29049" y="1968"/>
                  </a:lnTo>
                  <a:lnTo>
                    <a:pt x="29281" y="1968"/>
                  </a:lnTo>
                  <a:lnTo>
                    <a:pt x="29512" y="1968"/>
                  </a:lnTo>
                  <a:lnTo>
                    <a:pt x="29744" y="1968"/>
                  </a:lnTo>
                  <a:lnTo>
                    <a:pt x="29744" y="1968"/>
                  </a:lnTo>
                  <a:lnTo>
                    <a:pt x="29859" y="2084"/>
                  </a:lnTo>
                  <a:lnTo>
                    <a:pt x="29975" y="2200"/>
                  </a:lnTo>
                  <a:lnTo>
                    <a:pt x="29975" y="2316"/>
                  </a:lnTo>
                  <a:lnTo>
                    <a:pt x="30091" y="2432"/>
                  </a:lnTo>
                  <a:lnTo>
                    <a:pt x="30207" y="2547"/>
                  </a:lnTo>
                  <a:lnTo>
                    <a:pt x="30322" y="2663"/>
                  </a:lnTo>
                  <a:lnTo>
                    <a:pt x="30438" y="2779"/>
                  </a:lnTo>
                  <a:lnTo>
                    <a:pt x="30554" y="2779"/>
                  </a:lnTo>
                  <a:lnTo>
                    <a:pt x="30554" y="2779"/>
                  </a:lnTo>
                  <a:lnTo>
                    <a:pt x="30670" y="2779"/>
                  </a:lnTo>
                  <a:lnTo>
                    <a:pt x="30785" y="2663"/>
                  </a:lnTo>
                  <a:lnTo>
                    <a:pt x="30901" y="2663"/>
                  </a:lnTo>
                  <a:lnTo>
                    <a:pt x="31132" y="2663"/>
                  </a:lnTo>
                  <a:lnTo>
                    <a:pt x="31248" y="2663"/>
                  </a:lnTo>
                  <a:lnTo>
                    <a:pt x="31364" y="2663"/>
                  </a:lnTo>
                  <a:lnTo>
                    <a:pt x="31595" y="2663"/>
                  </a:lnTo>
                  <a:lnTo>
                    <a:pt x="31711" y="2663"/>
                  </a:lnTo>
                  <a:lnTo>
                    <a:pt x="31711" y="2663"/>
                  </a:lnTo>
                  <a:lnTo>
                    <a:pt x="31943" y="2895"/>
                  </a:lnTo>
                  <a:lnTo>
                    <a:pt x="32058" y="3011"/>
                  </a:lnTo>
                  <a:lnTo>
                    <a:pt x="32174" y="3126"/>
                  </a:lnTo>
                  <a:lnTo>
                    <a:pt x="32290" y="3358"/>
                  </a:lnTo>
                  <a:lnTo>
                    <a:pt x="32521" y="3474"/>
                  </a:lnTo>
                  <a:lnTo>
                    <a:pt x="32637" y="3474"/>
                  </a:lnTo>
                  <a:lnTo>
                    <a:pt x="-32668" y="3474"/>
                  </a:lnTo>
                  <a:lnTo>
                    <a:pt x="-32436" y="3242"/>
                  </a:lnTo>
                  <a:lnTo>
                    <a:pt x="-32436" y="3242"/>
                  </a:lnTo>
                  <a:lnTo>
                    <a:pt x="-32205" y="3242"/>
                  </a:lnTo>
                  <a:lnTo>
                    <a:pt x="-31973" y="3242"/>
                  </a:lnTo>
                  <a:lnTo>
                    <a:pt x="-31626" y="3358"/>
                  </a:lnTo>
                  <a:lnTo>
                    <a:pt x="-31395" y="3474"/>
                  </a:lnTo>
                  <a:lnTo>
                    <a:pt x="-31163" y="3706"/>
                  </a:lnTo>
                  <a:lnTo>
                    <a:pt x="-30932" y="3706"/>
                  </a:lnTo>
                  <a:lnTo>
                    <a:pt x="-30584" y="3821"/>
                  </a:lnTo>
                  <a:lnTo>
                    <a:pt x="-30237" y="3706"/>
                  </a:lnTo>
                  <a:lnTo>
                    <a:pt x="-30237" y="3706"/>
                  </a:lnTo>
                  <a:lnTo>
                    <a:pt x="-30006" y="3821"/>
                  </a:lnTo>
                  <a:lnTo>
                    <a:pt x="-29774" y="3937"/>
                  </a:lnTo>
                  <a:lnTo>
                    <a:pt x="-29543" y="3937"/>
                  </a:lnTo>
                  <a:lnTo>
                    <a:pt x="-29311" y="3937"/>
                  </a:lnTo>
                  <a:lnTo>
                    <a:pt x="-29080" y="3821"/>
                  </a:lnTo>
                  <a:lnTo>
                    <a:pt x="-28733" y="3937"/>
                  </a:lnTo>
                  <a:lnTo>
                    <a:pt x="-28501" y="4053"/>
                  </a:lnTo>
                  <a:lnTo>
                    <a:pt x="-28385" y="4169"/>
                  </a:lnTo>
                  <a:lnTo>
                    <a:pt x="-28385" y="4169"/>
                  </a:lnTo>
                  <a:lnTo>
                    <a:pt x="-28038" y="4169"/>
                  </a:lnTo>
                  <a:lnTo>
                    <a:pt x="-27807" y="4169"/>
                  </a:lnTo>
                  <a:lnTo>
                    <a:pt x="-27575" y="4169"/>
                  </a:lnTo>
                  <a:lnTo>
                    <a:pt x="-27344" y="4285"/>
                  </a:lnTo>
                  <a:lnTo>
                    <a:pt x="-27112" y="4400"/>
                  </a:lnTo>
                  <a:lnTo>
                    <a:pt x="-26881" y="4516"/>
                  </a:lnTo>
                  <a:lnTo>
                    <a:pt x="-26650" y="4516"/>
                  </a:lnTo>
                  <a:lnTo>
                    <a:pt x="-26418" y="4285"/>
                  </a:lnTo>
                  <a:lnTo>
                    <a:pt x="-26418" y="4285"/>
                  </a:lnTo>
                  <a:lnTo>
                    <a:pt x="-26187" y="4400"/>
                  </a:lnTo>
                  <a:lnTo>
                    <a:pt x="-25955" y="4516"/>
                  </a:lnTo>
                  <a:lnTo>
                    <a:pt x="-25724" y="4632"/>
                  </a:lnTo>
                  <a:lnTo>
                    <a:pt x="-25608" y="4748"/>
                  </a:lnTo>
                  <a:lnTo>
                    <a:pt x="-25492" y="4979"/>
                  </a:lnTo>
                  <a:lnTo>
                    <a:pt x="-25376" y="5095"/>
                  </a:lnTo>
                  <a:lnTo>
                    <a:pt x="-25261" y="5327"/>
                  </a:lnTo>
                  <a:lnTo>
                    <a:pt x="-25145" y="5558"/>
                  </a:lnTo>
                  <a:lnTo>
                    <a:pt x="-25145" y="5558"/>
                  </a:lnTo>
                  <a:lnTo>
                    <a:pt x="-25145" y="6022"/>
                  </a:lnTo>
                  <a:lnTo>
                    <a:pt x="-25145" y="6369"/>
                  </a:lnTo>
                  <a:lnTo>
                    <a:pt x="-25376" y="6717"/>
                  </a:lnTo>
                  <a:lnTo>
                    <a:pt x="-25492" y="7064"/>
                  </a:lnTo>
                  <a:lnTo>
                    <a:pt x="-25724" y="7296"/>
                  </a:lnTo>
                  <a:lnTo>
                    <a:pt x="-25839" y="7643"/>
                  </a:lnTo>
                  <a:lnTo>
                    <a:pt x="-25955" y="7990"/>
                  </a:lnTo>
                  <a:lnTo>
                    <a:pt x="-26071" y="8454"/>
                  </a:lnTo>
                  <a:lnTo>
                    <a:pt x="-26071" y="8454"/>
                  </a:lnTo>
                  <a:lnTo>
                    <a:pt x="-26534" y="9959"/>
                  </a:lnTo>
                  <a:lnTo>
                    <a:pt x="-26997" y="11465"/>
                  </a:lnTo>
                  <a:lnTo>
                    <a:pt x="-27344" y="13086"/>
                  </a:lnTo>
                  <a:lnTo>
                    <a:pt x="-27691" y="14707"/>
                  </a:lnTo>
                  <a:lnTo>
                    <a:pt x="-28038" y="16329"/>
                  </a:lnTo>
                  <a:lnTo>
                    <a:pt x="-28270" y="17950"/>
                  </a:lnTo>
                  <a:lnTo>
                    <a:pt x="-28501" y="19571"/>
                  </a:lnTo>
                  <a:lnTo>
                    <a:pt x="-28617" y="21193"/>
                  </a:lnTo>
                  <a:lnTo>
                    <a:pt x="-28617" y="21193"/>
                  </a:lnTo>
                  <a:lnTo>
                    <a:pt x="-28501" y="21309"/>
                  </a:lnTo>
                  <a:lnTo>
                    <a:pt x="-28501" y="21309"/>
                  </a:lnTo>
                  <a:lnTo>
                    <a:pt x="-26650" y="20845"/>
                  </a:lnTo>
                  <a:lnTo>
                    <a:pt x="-24914" y="20498"/>
                  </a:lnTo>
                  <a:lnTo>
                    <a:pt x="-23178" y="20150"/>
                  </a:lnTo>
                  <a:lnTo>
                    <a:pt x="-21326" y="19919"/>
                  </a:lnTo>
                  <a:lnTo>
                    <a:pt x="-19590" y="19571"/>
                  </a:lnTo>
                  <a:lnTo>
                    <a:pt x="-17738" y="19224"/>
                  </a:lnTo>
                  <a:lnTo>
                    <a:pt x="-16002" y="18992"/>
                  </a:lnTo>
                  <a:lnTo>
                    <a:pt x="-14266" y="18645"/>
                  </a:lnTo>
                  <a:lnTo>
                    <a:pt x="-14266" y="18645"/>
                  </a:lnTo>
                  <a:lnTo>
                    <a:pt x="-12993" y="18761"/>
                  </a:lnTo>
                  <a:lnTo>
                    <a:pt x="-11720" y="18877"/>
                  </a:lnTo>
                  <a:lnTo>
                    <a:pt x="-10563" y="18992"/>
                  </a:lnTo>
                  <a:lnTo>
                    <a:pt x="-9290" y="18992"/>
                  </a:lnTo>
                  <a:lnTo>
                    <a:pt x="-8017" y="19108"/>
                  </a:lnTo>
                  <a:lnTo>
                    <a:pt x="-6859" y="19224"/>
                  </a:lnTo>
                  <a:lnTo>
                    <a:pt x="-5586" y="19340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803"/>
                  </a:lnTo>
                  <a:lnTo>
                    <a:pt x="-4197" y="19803"/>
                  </a:lnTo>
                  <a:lnTo>
                    <a:pt x="-4313" y="19803"/>
                  </a:lnTo>
                  <a:lnTo>
                    <a:pt x="-4313" y="19803"/>
                  </a:lnTo>
                  <a:lnTo>
                    <a:pt x="-17044" y="25246"/>
                  </a:lnTo>
                  <a:lnTo>
                    <a:pt x="-17044" y="25246"/>
                  </a:lnTo>
                  <a:lnTo>
                    <a:pt x="-17159" y="25246"/>
                  </a:lnTo>
                  <a:lnTo>
                    <a:pt x="-17391" y="25246"/>
                  </a:lnTo>
                  <a:lnTo>
                    <a:pt x="-17622" y="25362"/>
                  </a:lnTo>
                  <a:lnTo>
                    <a:pt x="-17854" y="25362"/>
                  </a:lnTo>
                  <a:lnTo>
                    <a:pt x="-17970" y="25478"/>
                  </a:lnTo>
                  <a:lnTo>
                    <a:pt x="-18201" y="25478"/>
                  </a:lnTo>
                  <a:lnTo>
                    <a:pt x="-18317" y="25478"/>
                  </a:lnTo>
                  <a:lnTo>
                    <a:pt x="-18548" y="25594"/>
                  </a:lnTo>
                  <a:lnTo>
                    <a:pt x="-18548" y="25594"/>
                  </a:lnTo>
                  <a:lnTo>
                    <a:pt x="-18548" y="25941"/>
                  </a:lnTo>
                  <a:lnTo>
                    <a:pt x="-18664" y="26288"/>
                  </a:lnTo>
                  <a:lnTo>
                    <a:pt x="-18895" y="26636"/>
                  </a:lnTo>
                  <a:lnTo>
                    <a:pt x="-19127" y="26983"/>
                  </a:lnTo>
                  <a:lnTo>
                    <a:pt x="-19358" y="27215"/>
                  </a:lnTo>
                  <a:lnTo>
                    <a:pt x="-19706" y="27562"/>
                  </a:lnTo>
                  <a:lnTo>
                    <a:pt x="-19937" y="27794"/>
                  </a:lnTo>
                  <a:lnTo>
                    <a:pt x="-20284" y="28026"/>
                  </a:lnTo>
                  <a:lnTo>
                    <a:pt x="-20284" y="28026"/>
                  </a:lnTo>
                  <a:lnTo>
                    <a:pt x="-20631" y="28141"/>
                  </a:lnTo>
                  <a:lnTo>
                    <a:pt x="-20863" y="28257"/>
                  </a:lnTo>
                  <a:lnTo>
                    <a:pt x="-21094" y="28373"/>
                  </a:lnTo>
                  <a:lnTo>
                    <a:pt x="-21442" y="28373"/>
                  </a:lnTo>
                  <a:lnTo>
                    <a:pt x="-21673" y="28489"/>
                  </a:lnTo>
                  <a:lnTo>
                    <a:pt x="-22020" y="28489"/>
                  </a:lnTo>
                  <a:lnTo>
                    <a:pt x="-22252" y="28373"/>
                  </a:lnTo>
                  <a:lnTo>
                    <a:pt x="-22483" y="28141"/>
                  </a:lnTo>
                  <a:lnTo>
                    <a:pt x="-22483" y="28141"/>
                  </a:lnTo>
                  <a:lnTo>
                    <a:pt x="-22715" y="28257"/>
                  </a:lnTo>
                  <a:lnTo>
                    <a:pt x="-22830" y="28373"/>
                  </a:lnTo>
                  <a:lnTo>
                    <a:pt x="-23062" y="28489"/>
                  </a:lnTo>
                  <a:lnTo>
                    <a:pt x="-23293" y="28605"/>
                  </a:lnTo>
                  <a:lnTo>
                    <a:pt x="-23409" y="28605"/>
                  </a:lnTo>
                  <a:lnTo>
                    <a:pt x="-23640" y="28720"/>
                  </a:lnTo>
                  <a:lnTo>
                    <a:pt x="-23872" y="28720"/>
                  </a:lnTo>
                  <a:lnTo>
                    <a:pt x="-24103" y="28605"/>
                  </a:lnTo>
                  <a:lnTo>
                    <a:pt x="-24103" y="28605"/>
                  </a:lnTo>
                  <a:lnTo>
                    <a:pt x="-24335" y="28952"/>
                  </a:lnTo>
                  <a:lnTo>
                    <a:pt x="-24566" y="29184"/>
                  </a:lnTo>
                  <a:lnTo>
                    <a:pt x="-24798" y="29299"/>
                  </a:lnTo>
                  <a:lnTo>
                    <a:pt x="-25145" y="29415"/>
                  </a:lnTo>
                  <a:lnTo>
                    <a:pt x="-25376" y="29531"/>
                  </a:lnTo>
                  <a:lnTo>
                    <a:pt x="-25724" y="29531"/>
                  </a:lnTo>
                  <a:lnTo>
                    <a:pt x="-26071" y="29647"/>
                  </a:lnTo>
                  <a:lnTo>
                    <a:pt x="-26418" y="29531"/>
                  </a:lnTo>
                  <a:lnTo>
                    <a:pt x="-26418" y="29531"/>
                  </a:lnTo>
                  <a:lnTo>
                    <a:pt x="-26534" y="29531"/>
                  </a:lnTo>
                  <a:lnTo>
                    <a:pt x="-26650" y="29415"/>
                  </a:lnTo>
                  <a:lnTo>
                    <a:pt x="-26765" y="29299"/>
                  </a:lnTo>
                  <a:lnTo>
                    <a:pt x="-26881" y="29184"/>
                  </a:lnTo>
                  <a:lnTo>
                    <a:pt x="-26997" y="29068"/>
                  </a:lnTo>
                  <a:lnTo>
                    <a:pt x="-27112" y="28952"/>
                  </a:lnTo>
                  <a:lnTo>
                    <a:pt x="-27228" y="28952"/>
                  </a:lnTo>
                  <a:lnTo>
                    <a:pt x="-27460" y="29068"/>
                  </a:lnTo>
                  <a:lnTo>
                    <a:pt x="-27460" y="29068"/>
                  </a:lnTo>
                  <a:lnTo>
                    <a:pt x="-27575" y="29184"/>
                  </a:lnTo>
                  <a:lnTo>
                    <a:pt x="-27691" y="29299"/>
                  </a:lnTo>
                  <a:lnTo>
                    <a:pt x="-27923" y="29415"/>
                  </a:lnTo>
                  <a:lnTo>
                    <a:pt x="-28038" y="29531"/>
                  </a:lnTo>
                  <a:lnTo>
                    <a:pt x="-28270" y="29647"/>
                  </a:lnTo>
                  <a:lnTo>
                    <a:pt x="-28385" y="29763"/>
                  </a:lnTo>
                  <a:lnTo>
                    <a:pt x="-28617" y="29879"/>
                  </a:lnTo>
                  <a:lnTo>
                    <a:pt x="-28733" y="29994"/>
                  </a:lnTo>
                  <a:lnTo>
                    <a:pt x="-28733" y="29994"/>
                  </a:lnTo>
                  <a:lnTo>
                    <a:pt x="-28733" y="30689"/>
                  </a:lnTo>
                  <a:lnTo>
                    <a:pt x="-28733" y="31268"/>
                  </a:lnTo>
                  <a:lnTo>
                    <a:pt x="-28617" y="31963"/>
                  </a:lnTo>
                  <a:lnTo>
                    <a:pt x="-28501" y="32542"/>
                  </a:lnTo>
                  <a:lnTo>
                    <a:pt x="-28385" y="-32299"/>
                  </a:lnTo>
                  <a:lnTo>
                    <a:pt x="-28385" y="-31720"/>
                  </a:lnTo>
                  <a:lnTo>
                    <a:pt x="-28270" y="-31025"/>
                  </a:lnTo>
                  <a:lnTo>
                    <a:pt x="-28154" y="-30446"/>
                  </a:lnTo>
                  <a:lnTo>
                    <a:pt x="-28154" y="-30446"/>
                  </a:lnTo>
                  <a:lnTo>
                    <a:pt x="-28501" y="-30214"/>
                  </a:lnTo>
                  <a:lnTo>
                    <a:pt x="-28733" y="-29983"/>
                  </a:lnTo>
                  <a:lnTo>
                    <a:pt x="-29196" y="-29867"/>
                  </a:lnTo>
                  <a:lnTo>
                    <a:pt x="-29543" y="-29867"/>
                  </a:lnTo>
                  <a:lnTo>
                    <a:pt x="-29890" y="-29751"/>
                  </a:lnTo>
                  <a:lnTo>
                    <a:pt x="-30237" y="-29751"/>
                  </a:lnTo>
                  <a:lnTo>
                    <a:pt x="-30700" y="-29635"/>
                  </a:lnTo>
                  <a:lnTo>
                    <a:pt x="-31047" y="-29635"/>
                  </a:lnTo>
                  <a:lnTo>
                    <a:pt x="-31047" y="-29635"/>
                  </a:lnTo>
                  <a:lnTo>
                    <a:pt x="-31047" y="-29288"/>
                  </a:lnTo>
                  <a:lnTo>
                    <a:pt x="-31047" y="-29288"/>
                  </a:lnTo>
                  <a:lnTo>
                    <a:pt x="-30700" y="-28825"/>
                  </a:lnTo>
                  <a:lnTo>
                    <a:pt x="-30353" y="-28246"/>
                  </a:lnTo>
                  <a:lnTo>
                    <a:pt x="-30006" y="-27782"/>
                  </a:lnTo>
                  <a:lnTo>
                    <a:pt x="-29774" y="-27319"/>
                  </a:lnTo>
                  <a:lnTo>
                    <a:pt x="-29427" y="-26856"/>
                  </a:lnTo>
                  <a:lnTo>
                    <a:pt x="-29080" y="-26277"/>
                  </a:lnTo>
                  <a:lnTo>
                    <a:pt x="-28848" y="-25814"/>
                  </a:lnTo>
                  <a:lnTo>
                    <a:pt x="-28617" y="-25235"/>
                  </a:lnTo>
                  <a:lnTo>
                    <a:pt x="-28617" y="-25235"/>
                  </a:lnTo>
                  <a:lnTo>
                    <a:pt x="-28733" y="-24540"/>
                  </a:lnTo>
                  <a:lnTo>
                    <a:pt x="-28848" y="-23729"/>
                  </a:lnTo>
                  <a:lnTo>
                    <a:pt x="-28964" y="-23034"/>
                  </a:lnTo>
                  <a:lnTo>
                    <a:pt x="-29196" y="-22224"/>
                  </a:lnTo>
                  <a:lnTo>
                    <a:pt x="-29311" y="-21529"/>
                  </a:lnTo>
                  <a:lnTo>
                    <a:pt x="-29543" y="-20718"/>
                  </a:lnTo>
                  <a:lnTo>
                    <a:pt x="-29659" y="-20023"/>
                  </a:lnTo>
                  <a:lnTo>
                    <a:pt x="-29890" y="-19213"/>
                  </a:lnTo>
                  <a:lnTo>
                    <a:pt x="-29890" y="-19213"/>
                  </a:lnTo>
                  <a:lnTo>
                    <a:pt x="-29774" y="-18865"/>
                  </a:lnTo>
                  <a:lnTo>
                    <a:pt x="-29543" y="-18518"/>
                  </a:lnTo>
                  <a:lnTo>
                    <a:pt x="-29427" y="-18286"/>
                  </a:lnTo>
                  <a:lnTo>
                    <a:pt x="-29196" y="-18054"/>
                  </a:lnTo>
                  <a:lnTo>
                    <a:pt x="-28964" y="-17707"/>
                  </a:lnTo>
                  <a:lnTo>
                    <a:pt x="-28733" y="-17475"/>
                  </a:lnTo>
                  <a:lnTo>
                    <a:pt x="-28501" y="-17244"/>
                  </a:lnTo>
                  <a:lnTo>
                    <a:pt x="-28501" y="-16896"/>
                  </a:lnTo>
                  <a:lnTo>
                    <a:pt x="-28501" y="-16896"/>
                  </a:lnTo>
                  <a:lnTo>
                    <a:pt x="-28385" y="-16665"/>
                  </a:lnTo>
                  <a:lnTo>
                    <a:pt x="-28154" y="-16317"/>
                  </a:lnTo>
                  <a:lnTo>
                    <a:pt x="-28038" y="-16086"/>
                  </a:lnTo>
                  <a:lnTo>
                    <a:pt x="-27807" y="-15854"/>
                  </a:lnTo>
                  <a:lnTo>
                    <a:pt x="-27691" y="-15622"/>
                  </a:lnTo>
                  <a:lnTo>
                    <a:pt x="-27575" y="-15391"/>
                  </a:lnTo>
                  <a:lnTo>
                    <a:pt x="-27344" y="-15159"/>
                  </a:lnTo>
                  <a:lnTo>
                    <a:pt x="-27344" y="-14928"/>
                  </a:lnTo>
                  <a:lnTo>
                    <a:pt x="-27344" y="-14928"/>
                  </a:lnTo>
                  <a:lnTo>
                    <a:pt x="-27228" y="-14464"/>
                  </a:lnTo>
                  <a:lnTo>
                    <a:pt x="-26997" y="-14117"/>
                  </a:lnTo>
                  <a:lnTo>
                    <a:pt x="-26881" y="-13654"/>
                  </a:lnTo>
                  <a:lnTo>
                    <a:pt x="-26881" y="-13190"/>
                  </a:lnTo>
                  <a:lnTo>
                    <a:pt x="-26765" y="-12727"/>
                  </a:lnTo>
                  <a:lnTo>
                    <a:pt x="-26765" y="-12380"/>
                  </a:lnTo>
                  <a:lnTo>
                    <a:pt x="-26881" y="-11917"/>
                  </a:lnTo>
                  <a:lnTo>
                    <a:pt x="-27228" y="-11569"/>
                  </a:lnTo>
                  <a:lnTo>
                    <a:pt x="-27228" y="-11569"/>
                  </a:lnTo>
                  <a:lnTo>
                    <a:pt x="-27228" y="-11453"/>
                  </a:lnTo>
                  <a:lnTo>
                    <a:pt x="-27344" y="-11453"/>
                  </a:lnTo>
                  <a:lnTo>
                    <a:pt x="-27344" y="-11453"/>
                  </a:lnTo>
                  <a:lnTo>
                    <a:pt x="-27460" y="-11453"/>
                  </a:lnTo>
                  <a:lnTo>
                    <a:pt x="-27460" y="-11453"/>
                  </a:lnTo>
                  <a:lnTo>
                    <a:pt x="-27575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8154" y="-11222"/>
                  </a:lnTo>
                  <a:lnTo>
                    <a:pt x="-28733" y="-11106"/>
                  </a:lnTo>
                  <a:lnTo>
                    <a:pt x="-29311" y="-11106"/>
                  </a:lnTo>
                  <a:lnTo>
                    <a:pt x="-29890" y="-11222"/>
                  </a:lnTo>
                  <a:lnTo>
                    <a:pt x="-30353" y="-11337"/>
                  </a:lnTo>
                  <a:lnTo>
                    <a:pt x="-30932" y="-11453"/>
                  </a:lnTo>
                  <a:lnTo>
                    <a:pt x="-31395" y="-11685"/>
                  </a:lnTo>
                  <a:lnTo>
                    <a:pt x="-31857" y="-12032"/>
                  </a:lnTo>
                  <a:lnTo>
                    <a:pt x="-31857" y="-12032"/>
                  </a:lnTo>
                  <a:lnTo>
                    <a:pt x="-32320" y="-12496"/>
                  </a:lnTo>
                  <a:lnTo>
                    <a:pt x="-32552" y="-13075"/>
                  </a:lnTo>
                  <a:lnTo>
                    <a:pt x="32753" y="-13769"/>
                  </a:lnTo>
                  <a:lnTo>
                    <a:pt x="32637" y="-14464"/>
                  </a:lnTo>
                  <a:lnTo>
                    <a:pt x="32405" y="-15159"/>
                  </a:lnTo>
                  <a:lnTo>
                    <a:pt x="32058" y="-15622"/>
                  </a:lnTo>
                  <a:lnTo>
                    <a:pt x="31595" y="-16086"/>
                  </a:lnTo>
                  <a:lnTo>
                    <a:pt x="30785" y="-16201"/>
                  </a:lnTo>
                  <a:lnTo>
                    <a:pt x="30785" y="-16201"/>
                  </a:lnTo>
                  <a:lnTo>
                    <a:pt x="30670" y="-16317"/>
                  </a:lnTo>
                  <a:lnTo>
                    <a:pt x="30554" y="-16549"/>
                  </a:lnTo>
                  <a:lnTo>
                    <a:pt x="30438" y="-16781"/>
                  </a:lnTo>
                  <a:lnTo>
                    <a:pt x="30322" y="-16896"/>
                  </a:lnTo>
                  <a:lnTo>
                    <a:pt x="30322" y="-17128"/>
                  </a:lnTo>
                  <a:lnTo>
                    <a:pt x="30322" y="-17360"/>
                  </a:lnTo>
                  <a:lnTo>
                    <a:pt x="30322" y="-17591"/>
                  </a:lnTo>
                  <a:lnTo>
                    <a:pt x="30322" y="-17823"/>
                  </a:lnTo>
                  <a:lnTo>
                    <a:pt x="30322" y="-17823"/>
                  </a:lnTo>
                  <a:lnTo>
                    <a:pt x="30554" y="-18170"/>
                  </a:lnTo>
                  <a:lnTo>
                    <a:pt x="30785" y="-18518"/>
                  </a:lnTo>
                  <a:lnTo>
                    <a:pt x="31132" y="-18749"/>
                  </a:lnTo>
                  <a:lnTo>
                    <a:pt x="31480" y="-18981"/>
                  </a:lnTo>
                  <a:lnTo>
                    <a:pt x="31827" y="-19213"/>
                  </a:lnTo>
                  <a:lnTo>
                    <a:pt x="32174" y="-19444"/>
                  </a:lnTo>
                  <a:lnTo>
                    <a:pt x="32405" y="-19676"/>
                  </a:lnTo>
                  <a:lnTo>
                    <a:pt x="32637" y="-20139"/>
                  </a:lnTo>
                  <a:lnTo>
                    <a:pt x="32637" y="-20139"/>
                  </a:lnTo>
                  <a:lnTo>
                    <a:pt x="-32668" y="-20950"/>
                  </a:lnTo>
                  <a:lnTo>
                    <a:pt x="-32436" y="-21876"/>
                  </a:lnTo>
                  <a:lnTo>
                    <a:pt x="-32205" y="-22803"/>
                  </a:lnTo>
                  <a:lnTo>
                    <a:pt x="-32089" y="-23729"/>
                  </a:lnTo>
                  <a:lnTo>
                    <a:pt x="-32089" y="-24656"/>
                  </a:lnTo>
                  <a:lnTo>
                    <a:pt x="-32205" y="-25466"/>
                  </a:lnTo>
                  <a:lnTo>
                    <a:pt x="-32552" y="-26277"/>
                  </a:lnTo>
                  <a:lnTo>
                    <a:pt x="32290" y="-27088"/>
                  </a:lnTo>
                  <a:lnTo>
                    <a:pt x="32290" y="-27088"/>
                  </a:lnTo>
                  <a:lnTo>
                    <a:pt x="30901" y="-28593"/>
                  </a:lnTo>
                  <a:lnTo>
                    <a:pt x="30901" y="-28593"/>
                  </a:lnTo>
                  <a:lnTo>
                    <a:pt x="29744" y="-28130"/>
                  </a:lnTo>
                  <a:lnTo>
                    <a:pt x="28586" y="-27667"/>
                  </a:lnTo>
                  <a:lnTo>
                    <a:pt x="27545" y="-27203"/>
                  </a:lnTo>
                  <a:lnTo>
                    <a:pt x="26387" y="-26740"/>
                  </a:lnTo>
                  <a:lnTo>
                    <a:pt x="25230" y="-26161"/>
                  </a:lnTo>
                  <a:lnTo>
                    <a:pt x="24073" y="-25698"/>
                  </a:lnTo>
                  <a:lnTo>
                    <a:pt x="23031" y="-25119"/>
                  </a:lnTo>
                  <a:lnTo>
                    <a:pt x="21874" y="-24656"/>
                  </a:lnTo>
                  <a:lnTo>
                    <a:pt x="21874" y="-24656"/>
                  </a:lnTo>
                  <a:lnTo>
                    <a:pt x="21990" y="-24192"/>
                  </a:lnTo>
                  <a:lnTo>
                    <a:pt x="22221" y="-23845"/>
                  </a:lnTo>
                  <a:lnTo>
                    <a:pt x="22337" y="-23382"/>
                  </a:lnTo>
                  <a:lnTo>
                    <a:pt x="22568" y="-23034"/>
                  </a:lnTo>
                  <a:lnTo>
                    <a:pt x="22684" y="-22687"/>
                  </a:lnTo>
                  <a:lnTo>
                    <a:pt x="22915" y="-22224"/>
                  </a:lnTo>
                  <a:lnTo>
                    <a:pt x="23147" y="-21876"/>
                  </a:lnTo>
                  <a:lnTo>
                    <a:pt x="23263" y="-21529"/>
                  </a:lnTo>
                  <a:lnTo>
                    <a:pt x="23263" y="-21529"/>
                  </a:lnTo>
                  <a:lnTo>
                    <a:pt x="23263" y="-21181"/>
                  </a:lnTo>
                  <a:lnTo>
                    <a:pt x="23147" y="-20950"/>
                  </a:lnTo>
                  <a:lnTo>
                    <a:pt x="23031" y="-20718"/>
                  </a:lnTo>
                  <a:lnTo>
                    <a:pt x="22915" y="-20486"/>
                  </a:lnTo>
                  <a:lnTo>
                    <a:pt x="22684" y="-20371"/>
                  </a:lnTo>
                  <a:lnTo>
                    <a:pt x="22453" y="-20139"/>
                  </a:lnTo>
                  <a:lnTo>
                    <a:pt x="22221" y="-19907"/>
                  </a:lnTo>
                  <a:lnTo>
                    <a:pt x="22105" y="-19792"/>
                  </a:lnTo>
                  <a:lnTo>
                    <a:pt x="22105" y="-19792"/>
                  </a:lnTo>
                  <a:lnTo>
                    <a:pt x="20601" y="-17939"/>
                  </a:lnTo>
                  <a:lnTo>
                    <a:pt x="20601" y="-17939"/>
                  </a:lnTo>
                  <a:lnTo>
                    <a:pt x="20485" y="-17475"/>
                  </a:lnTo>
                  <a:lnTo>
                    <a:pt x="20485" y="-17012"/>
                  </a:lnTo>
                  <a:lnTo>
                    <a:pt x="20369" y="-16433"/>
                  </a:lnTo>
                  <a:lnTo>
                    <a:pt x="20254" y="-15970"/>
                  </a:lnTo>
                  <a:lnTo>
                    <a:pt x="20254" y="-15507"/>
                  </a:lnTo>
                  <a:lnTo>
                    <a:pt x="20254" y="-15043"/>
                  </a:lnTo>
                  <a:lnTo>
                    <a:pt x="20254" y="-14580"/>
                  </a:lnTo>
                  <a:lnTo>
                    <a:pt x="20369" y="-14117"/>
                  </a:lnTo>
                  <a:lnTo>
                    <a:pt x="20369" y="-14117"/>
                  </a:lnTo>
                  <a:lnTo>
                    <a:pt x="20485" y="-14117"/>
                  </a:lnTo>
                  <a:lnTo>
                    <a:pt x="20601" y="-14117"/>
                  </a:lnTo>
                  <a:lnTo>
                    <a:pt x="20832" y="-14001"/>
                  </a:lnTo>
                  <a:lnTo>
                    <a:pt x="20832" y="-13885"/>
                  </a:lnTo>
                  <a:lnTo>
                    <a:pt x="20948" y="-13769"/>
                  </a:lnTo>
                  <a:lnTo>
                    <a:pt x="21064" y="-13654"/>
                  </a:lnTo>
                  <a:lnTo>
                    <a:pt x="21179" y="-13538"/>
                  </a:lnTo>
                  <a:lnTo>
                    <a:pt x="21411" y="-13538"/>
                  </a:lnTo>
                  <a:lnTo>
                    <a:pt x="21411" y="-13538"/>
                  </a:lnTo>
                  <a:lnTo>
                    <a:pt x="23031" y="-13422"/>
                  </a:lnTo>
                  <a:lnTo>
                    <a:pt x="23031" y="-13422"/>
                  </a:lnTo>
                  <a:lnTo>
                    <a:pt x="23031" y="-13306"/>
                  </a:lnTo>
                  <a:lnTo>
                    <a:pt x="23147" y="-13190"/>
                  </a:lnTo>
                  <a:lnTo>
                    <a:pt x="23263" y="-13075"/>
                  </a:lnTo>
                  <a:lnTo>
                    <a:pt x="23378" y="-12959"/>
                  </a:lnTo>
                  <a:lnTo>
                    <a:pt x="23494" y="-12843"/>
                  </a:lnTo>
                  <a:lnTo>
                    <a:pt x="23610" y="-12611"/>
                  </a:lnTo>
                  <a:lnTo>
                    <a:pt x="23610" y="-12496"/>
                  </a:lnTo>
                  <a:lnTo>
                    <a:pt x="23726" y="-12264"/>
                  </a:lnTo>
                  <a:lnTo>
                    <a:pt x="23726" y="-12264"/>
                  </a:lnTo>
                  <a:lnTo>
                    <a:pt x="23726" y="-12032"/>
                  </a:lnTo>
                  <a:lnTo>
                    <a:pt x="23610" y="-11801"/>
                  </a:lnTo>
                  <a:lnTo>
                    <a:pt x="23494" y="-11569"/>
                  </a:lnTo>
                  <a:lnTo>
                    <a:pt x="23378" y="-11453"/>
                  </a:lnTo>
                  <a:lnTo>
                    <a:pt x="23147" y="-11222"/>
                  </a:lnTo>
                  <a:lnTo>
                    <a:pt x="22915" y="-11106"/>
                  </a:lnTo>
                  <a:lnTo>
                    <a:pt x="22684" y="-10990"/>
                  </a:lnTo>
                  <a:lnTo>
                    <a:pt x="22453" y="-10874"/>
                  </a:lnTo>
                  <a:lnTo>
                    <a:pt x="22453" y="-10874"/>
                  </a:lnTo>
                  <a:lnTo>
                    <a:pt x="21758" y="-10643"/>
                  </a:lnTo>
                  <a:lnTo>
                    <a:pt x="21179" y="-10643"/>
                  </a:lnTo>
                  <a:lnTo>
                    <a:pt x="20485" y="-10643"/>
                  </a:lnTo>
                  <a:lnTo>
                    <a:pt x="19791" y="-10758"/>
                  </a:lnTo>
                  <a:lnTo>
                    <a:pt x="19096" y="-10990"/>
                  </a:lnTo>
                  <a:lnTo>
                    <a:pt x="18518" y="-11222"/>
                  </a:lnTo>
                  <a:lnTo>
                    <a:pt x="17939" y="-11569"/>
                  </a:lnTo>
                  <a:lnTo>
                    <a:pt x="17360" y="-11917"/>
                  </a:lnTo>
                  <a:lnTo>
                    <a:pt x="17360" y="-11917"/>
                  </a:lnTo>
                  <a:lnTo>
                    <a:pt x="17013" y="-12496"/>
                  </a:lnTo>
                  <a:lnTo>
                    <a:pt x="16782" y="-13190"/>
                  </a:lnTo>
                  <a:lnTo>
                    <a:pt x="16550" y="-13769"/>
                  </a:lnTo>
                  <a:lnTo>
                    <a:pt x="16319" y="-14464"/>
                  </a:lnTo>
                  <a:lnTo>
                    <a:pt x="15972" y="-15043"/>
                  </a:lnTo>
                  <a:lnTo>
                    <a:pt x="15509" y="-15622"/>
                  </a:lnTo>
                  <a:lnTo>
                    <a:pt x="15046" y="-16086"/>
                  </a:lnTo>
                  <a:lnTo>
                    <a:pt x="14351" y="-16317"/>
                  </a:lnTo>
                  <a:lnTo>
                    <a:pt x="14351" y="-16317"/>
                  </a:lnTo>
                  <a:lnTo>
                    <a:pt x="14236" y="-16433"/>
                  </a:lnTo>
                  <a:lnTo>
                    <a:pt x="14120" y="-16549"/>
                  </a:lnTo>
                  <a:lnTo>
                    <a:pt x="14120" y="-16781"/>
                  </a:lnTo>
                  <a:lnTo>
                    <a:pt x="14004" y="-16896"/>
                  </a:lnTo>
                  <a:lnTo>
                    <a:pt x="14004" y="-17128"/>
                  </a:lnTo>
                  <a:lnTo>
                    <a:pt x="14004" y="-17244"/>
                  </a:lnTo>
                  <a:lnTo>
                    <a:pt x="14120" y="-17360"/>
                  </a:lnTo>
                  <a:lnTo>
                    <a:pt x="14120" y="-17591"/>
                  </a:lnTo>
                  <a:lnTo>
                    <a:pt x="14120" y="-17591"/>
                  </a:lnTo>
                  <a:lnTo>
                    <a:pt x="14467" y="-17939"/>
                  </a:lnTo>
                  <a:lnTo>
                    <a:pt x="14930" y="-18286"/>
                  </a:lnTo>
                  <a:lnTo>
                    <a:pt x="15393" y="-18402"/>
                  </a:lnTo>
                  <a:lnTo>
                    <a:pt x="15972" y="-18633"/>
                  </a:lnTo>
                  <a:lnTo>
                    <a:pt x="16434" y="-18749"/>
                  </a:lnTo>
                  <a:lnTo>
                    <a:pt x="17013" y="-18865"/>
                  </a:lnTo>
                  <a:lnTo>
                    <a:pt x="17476" y="-19097"/>
                  </a:lnTo>
                  <a:lnTo>
                    <a:pt x="17939" y="-19444"/>
                  </a:lnTo>
                  <a:lnTo>
                    <a:pt x="17939" y="-19444"/>
                  </a:lnTo>
                  <a:lnTo>
                    <a:pt x="18286" y="-19792"/>
                  </a:lnTo>
                  <a:lnTo>
                    <a:pt x="18633" y="-20023"/>
                  </a:lnTo>
                  <a:lnTo>
                    <a:pt x="18981" y="-20255"/>
                  </a:lnTo>
                  <a:lnTo>
                    <a:pt x="19328" y="-20602"/>
                  </a:lnTo>
                  <a:lnTo>
                    <a:pt x="19559" y="-20950"/>
                  </a:lnTo>
                  <a:lnTo>
                    <a:pt x="19791" y="-21297"/>
                  </a:lnTo>
                  <a:lnTo>
                    <a:pt x="20022" y="-21645"/>
                  </a:lnTo>
                  <a:lnTo>
                    <a:pt x="20369" y="-21992"/>
                  </a:lnTo>
                  <a:lnTo>
                    <a:pt x="20369" y="-21992"/>
                  </a:lnTo>
                  <a:lnTo>
                    <a:pt x="20138" y="-22108"/>
                  </a:lnTo>
                  <a:lnTo>
                    <a:pt x="20022" y="-22339"/>
                  </a:lnTo>
                  <a:lnTo>
                    <a:pt x="19906" y="-22571"/>
                  </a:lnTo>
                  <a:lnTo>
                    <a:pt x="19906" y="-22803"/>
                  </a:lnTo>
                  <a:lnTo>
                    <a:pt x="19791" y="-23034"/>
                  </a:lnTo>
                  <a:lnTo>
                    <a:pt x="19675" y="-23266"/>
                  </a:lnTo>
                  <a:lnTo>
                    <a:pt x="19559" y="-23382"/>
                  </a:lnTo>
                  <a:lnTo>
                    <a:pt x="19443" y="-23613"/>
                  </a:lnTo>
                  <a:lnTo>
                    <a:pt x="19443" y="-23613"/>
                  </a:lnTo>
                  <a:lnTo>
                    <a:pt x="18633" y="-23266"/>
                  </a:lnTo>
                  <a:lnTo>
                    <a:pt x="17823" y="-22918"/>
                  </a:lnTo>
                  <a:lnTo>
                    <a:pt x="17129" y="-22571"/>
                  </a:lnTo>
                  <a:lnTo>
                    <a:pt x="16319" y="-22224"/>
                  </a:lnTo>
                  <a:lnTo>
                    <a:pt x="15624" y="-21876"/>
                  </a:lnTo>
                  <a:lnTo>
                    <a:pt x="14814" y="-21529"/>
                  </a:lnTo>
                  <a:lnTo>
                    <a:pt x="14120" y="-21297"/>
                  </a:lnTo>
                  <a:lnTo>
                    <a:pt x="13194" y="-21181"/>
                  </a:lnTo>
                  <a:lnTo>
                    <a:pt x="13194" y="-21181"/>
                  </a:lnTo>
                  <a:lnTo>
                    <a:pt x="13194" y="-21297"/>
                  </a:lnTo>
                  <a:lnTo>
                    <a:pt x="13194" y="-21413"/>
                  </a:lnTo>
                  <a:lnTo>
                    <a:pt x="13078" y="-21645"/>
                  </a:lnTo>
                  <a:lnTo>
                    <a:pt x="13078" y="-21760"/>
                  </a:lnTo>
                  <a:lnTo>
                    <a:pt x="13078" y="-21876"/>
                  </a:lnTo>
                  <a:lnTo>
                    <a:pt x="13078" y="-22108"/>
                  </a:lnTo>
                  <a:lnTo>
                    <a:pt x="13078" y="-22224"/>
                  </a:lnTo>
                  <a:lnTo>
                    <a:pt x="12962" y="-22339"/>
                  </a:lnTo>
                  <a:lnTo>
                    <a:pt x="12962" y="-22339"/>
                  </a:lnTo>
                  <a:lnTo>
                    <a:pt x="12847" y="-22224"/>
                  </a:lnTo>
                  <a:lnTo>
                    <a:pt x="12731" y="-22224"/>
                  </a:lnTo>
                  <a:lnTo>
                    <a:pt x="12615" y="-22108"/>
                  </a:lnTo>
                  <a:lnTo>
                    <a:pt x="12500" y="-22108"/>
                  </a:lnTo>
                  <a:lnTo>
                    <a:pt x="12384" y="-22108"/>
                  </a:lnTo>
                  <a:lnTo>
                    <a:pt x="12268" y="-21992"/>
                  </a:lnTo>
                  <a:lnTo>
                    <a:pt x="12152" y="-22108"/>
                  </a:lnTo>
                  <a:lnTo>
                    <a:pt x="12037" y="-22108"/>
                  </a:lnTo>
                  <a:lnTo>
                    <a:pt x="12037" y="-22108"/>
                  </a:lnTo>
                  <a:lnTo>
                    <a:pt x="12037" y="-22339"/>
                  </a:lnTo>
                  <a:lnTo>
                    <a:pt x="12037" y="-22339"/>
                  </a:lnTo>
                  <a:lnTo>
                    <a:pt x="12037" y="-22455"/>
                  </a:lnTo>
                  <a:lnTo>
                    <a:pt x="11921" y="-22455"/>
                  </a:lnTo>
                  <a:lnTo>
                    <a:pt x="11805" y="-22455"/>
                  </a:lnTo>
                  <a:lnTo>
                    <a:pt x="11689" y="-22455"/>
                  </a:lnTo>
                  <a:lnTo>
                    <a:pt x="11574" y="-22339"/>
                  </a:lnTo>
                  <a:lnTo>
                    <a:pt x="11574" y="-22339"/>
                  </a:lnTo>
                  <a:lnTo>
                    <a:pt x="11458" y="-22339"/>
                  </a:lnTo>
                  <a:lnTo>
                    <a:pt x="11342" y="-22339"/>
                  </a:lnTo>
                  <a:lnTo>
                    <a:pt x="11342" y="-22339"/>
                  </a:lnTo>
                  <a:lnTo>
                    <a:pt x="11342" y="-22455"/>
                  </a:lnTo>
                  <a:lnTo>
                    <a:pt x="11342" y="-22571"/>
                  </a:lnTo>
                  <a:lnTo>
                    <a:pt x="11342" y="-22687"/>
                  </a:lnTo>
                  <a:lnTo>
                    <a:pt x="11342" y="-22803"/>
                  </a:lnTo>
                  <a:lnTo>
                    <a:pt x="11342" y="-22918"/>
                  </a:lnTo>
                  <a:lnTo>
                    <a:pt x="11342" y="-23034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226" y="-23150"/>
                  </a:lnTo>
                  <a:lnTo>
                    <a:pt x="11111" y="-23034"/>
                  </a:lnTo>
                  <a:lnTo>
                    <a:pt x="10995" y="-23034"/>
                  </a:lnTo>
                  <a:lnTo>
                    <a:pt x="10879" y="-22918"/>
                  </a:lnTo>
                  <a:lnTo>
                    <a:pt x="10648" y="-22918"/>
                  </a:lnTo>
                  <a:lnTo>
                    <a:pt x="10532" y="-22918"/>
                  </a:lnTo>
                  <a:lnTo>
                    <a:pt x="10416" y="-22918"/>
                  </a:lnTo>
                  <a:lnTo>
                    <a:pt x="10301" y="-22918"/>
                  </a:lnTo>
                  <a:lnTo>
                    <a:pt x="10301" y="-22918"/>
                  </a:lnTo>
                  <a:lnTo>
                    <a:pt x="10416" y="-24192"/>
                  </a:lnTo>
                  <a:lnTo>
                    <a:pt x="10648" y="-25350"/>
                  </a:lnTo>
                  <a:lnTo>
                    <a:pt x="10764" y="-26509"/>
                  </a:lnTo>
                  <a:lnTo>
                    <a:pt x="10879" y="-27782"/>
                  </a:lnTo>
                  <a:lnTo>
                    <a:pt x="10995" y="-28941"/>
                  </a:lnTo>
                  <a:lnTo>
                    <a:pt x="11226" y="-30099"/>
                  </a:lnTo>
                  <a:lnTo>
                    <a:pt x="11342" y="-31257"/>
                  </a:lnTo>
                  <a:lnTo>
                    <a:pt x="11574" y="-32415"/>
                  </a:lnTo>
                  <a:lnTo>
                    <a:pt x="11574" y="-32415"/>
                  </a:lnTo>
                  <a:lnTo>
                    <a:pt x="11458" y="-32531"/>
                  </a:lnTo>
                  <a:lnTo>
                    <a:pt x="11342" y="-32646"/>
                  </a:lnTo>
                  <a:lnTo>
                    <a:pt x="11111" y="-32762"/>
                  </a:lnTo>
                  <a:lnTo>
                    <a:pt x="10995" y="32658"/>
                  </a:lnTo>
                  <a:lnTo>
                    <a:pt x="10879" y="32542"/>
                  </a:lnTo>
                  <a:lnTo>
                    <a:pt x="10648" y="32426"/>
                  </a:lnTo>
                  <a:lnTo>
                    <a:pt x="10532" y="32311"/>
                  </a:lnTo>
                  <a:lnTo>
                    <a:pt x="10532" y="32195"/>
                  </a:lnTo>
                  <a:lnTo>
                    <a:pt x="10532" y="32195"/>
                  </a:lnTo>
                  <a:lnTo>
                    <a:pt x="10532" y="32542"/>
                  </a:lnTo>
                  <a:lnTo>
                    <a:pt x="10532" y="-32762"/>
                  </a:lnTo>
                  <a:lnTo>
                    <a:pt x="10648" y="-32415"/>
                  </a:lnTo>
                  <a:lnTo>
                    <a:pt x="10764" y="-32067"/>
                  </a:lnTo>
                  <a:lnTo>
                    <a:pt x="10879" y="-31720"/>
                  </a:lnTo>
                  <a:lnTo>
                    <a:pt x="10879" y="-31488"/>
                  </a:lnTo>
                  <a:lnTo>
                    <a:pt x="10879" y="-31141"/>
                  </a:lnTo>
                  <a:lnTo>
                    <a:pt x="10879" y="-30793"/>
                  </a:lnTo>
                  <a:lnTo>
                    <a:pt x="10879" y="-30793"/>
                  </a:lnTo>
                  <a:lnTo>
                    <a:pt x="10764" y="-30678"/>
                  </a:lnTo>
                  <a:lnTo>
                    <a:pt x="10648" y="-30562"/>
                  </a:lnTo>
                  <a:lnTo>
                    <a:pt x="10532" y="-30562"/>
                  </a:lnTo>
                  <a:lnTo>
                    <a:pt x="10301" y="-30446"/>
                  </a:lnTo>
                  <a:lnTo>
                    <a:pt x="10185" y="-30446"/>
                  </a:lnTo>
                  <a:lnTo>
                    <a:pt x="9953" y="-30562"/>
                  </a:lnTo>
                  <a:lnTo>
                    <a:pt x="9838" y="-30562"/>
                  </a:lnTo>
                  <a:lnTo>
                    <a:pt x="9722" y="-30678"/>
                  </a:lnTo>
                  <a:lnTo>
                    <a:pt x="9722" y="-30678"/>
                  </a:lnTo>
                  <a:lnTo>
                    <a:pt x="9491" y="-30678"/>
                  </a:lnTo>
                  <a:lnTo>
                    <a:pt x="9259" y="-30909"/>
                  </a:lnTo>
                  <a:lnTo>
                    <a:pt x="9143" y="-31025"/>
                  </a:lnTo>
                  <a:lnTo>
                    <a:pt x="9028" y="-31257"/>
                  </a:lnTo>
                  <a:lnTo>
                    <a:pt x="8912" y="-31488"/>
                  </a:lnTo>
                  <a:lnTo>
                    <a:pt x="8796" y="-31604"/>
                  </a:lnTo>
                  <a:lnTo>
                    <a:pt x="8680" y="-31836"/>
                  </a:lnTo>
                  <a:lnTo>
                    <a:pt x="8565" y="-32067"/>
                  </a:lnTo>
                  <a:lnTo>
                    <a:pt x="8565" y="-32067"/>
                  </a:lnTo>
                  <a:lnTo>
                    <a:pt x="7870" y="-31836"/>
                  </a:lnTo>
                  <a:lnTo>
                    <a:pt x="7292" y="-31604"/>
                  </a:lnTo>
                  <a:lnTo>
                    <a:pt x="6597" y="-31373"/>
                  </a:lnTo>
                  <a:lnTo>
                    <a:pt x="6019" y="-31025"/>
                  </a:lnTo>
                  <a:lnTo>
                    <a:pt x="5440" y="-30793"/>
                  </a:lnTo>
                  <a:lnTo>
                    <a:pt x="4861" y="-30562"/>
                  </a:lnTo>
                  <a:lnTo>
                    <a:pt x="4167" y="-30330"/>
                  </a:lnTo>
                  <a:lnTo>
                    <a:pt x="3588" y="-30099"/>
                  </a:lnTo>
                  <a:lnTo>
                    <a:pt x="3588" y="-30099"/>
                  </a:lnTo>
                  <a:lnTo>
                    <a:pt x="3241" y="-30099"/>
                  </a:lnTo>
                  <a:lnTo>
                    <a:pt x="2894" y="-30099"/>
                  </a:lnTo>
                  <a:lnTo>
                    <a:pt x="2547" y="-30099"/>
                  </a:lnTo>
                  <a:lnTo>
                    <a:pt x="2199" y="-30330"/>
                  </a:lnTo>
                  <a:lnTo>
                    <a:pt x="1852" y="-30446"/>
                  </a:lnTo>
                  <a:lnTo>
                    <a:pt x="1505" y="-30678"/>
                  </a:lnTo>
                  <a:lnTo>
                    <a:pt x="1274" y="-30909"/>
                  </a:lnTo>
                  <a:lnTo>
                    <a:pt x="926" y="-31141"/>
                  </a:lnTo>
                  <a:lnTo>
                    <a:pt x="926" y="-31141"/>
                  </a:lnTo>
                  <a:lnTo>
                    <a:pt x="579" y="-31720"/>
                  </a:lnTo>
                  <a:lnTo>
                    <a:pt x="232" y="-32415"/>
                  </a:lnTo>
                  <a:lnTo>
                    <a:pt x="116" y="32426"/>
                  </a:lnTo>
                  <a:lnTo>
                    <a:pt x="0" y="31731"/>
                  </a:lnTo>
                  <a:lnTo>
                    <a:pt x="0" y="31037"/>
                  </a:lnTo>
                  <a:lnTo>
                    <a:pt x="116" y="30342"/>
                  </a:lnTo>
                  <a:lnTo>
                    <a:pt x="348" y="29647"/>
                  </a:lnTo>
                  <a:lnTo>
                    <a:pt x="579" y="29068"/>
                  </a:lnTo>
                  <a:lnTo>
                    <a:pt x="579" y="29068"/>
                  </a:lnTo>
                  <a:lnTo>
                    <a:pt x="1158" y="28257"/>
                  </a:lnTo>
                  <a:lnTo>
                    <a:pt x="1968" y="27910"/>
                  </a:lnTo>
                  <a:lnTo>
                    <a:pt x="2894" y="27678"/>
                  </a:lnTo>
                  <a:lnTo>
                    <a:pt x="3820" y="27562"/>
                  </a:lnTo>
                  <a:lnTo>
                    <a:pt x="4745" y="27562"/>
                  </a:lnTo>
                  <a:lnTo>
                    <a:pt x="5671" y="27331"/>
                  </a:lnTo>
                  <a:lnTo>
                    <a:pt x="6597" y="27099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523" y="26520"/>
                  </a:lnTo>
                  <a:lnTo>
                    <a:pt x="7523" y="26520"/>
                  </a:lnTo>
                  <a:lnTo>
                    <a:pt x="7639" y="26520"/>
                  </a:lnTo>
                  <a:lnTo>
                    <a:pt x="7639" y="26520"/>
                  </a:lnTo>
                  <a:lnTo>
                    <a:pt x="7755" y="26520"/>
                  </a:lnTo>
                  <a:lnTo>
                    <a:pt x="7755" y="26520"/>
                  </a:lnTo>
                  <a:lnTo>
                    <a:pt x="7870" y="26520"/>
                  </a:lnTo>
                  <a:lnTo>
                    <a:pt x="7870" y="26520"/>
                  </a:lnTo>
                  <a:lnTo>
                    <a:pt x="7292" y="25709"/>
                  </a:lnTo>
                  <a:lnTo>
                    <a:pt x="6713" y="25014"/>
                  </a:lnTo>
                  <a:lnTo>
                    <a:pt x="6250" y="24204"/>
                  </a:lnTo>
                  <a:lnTo>
                    <a:pt x="5787" y="23393"/>
                  </a:lnTo>
                  <a:lnTo>
                    <a:pt x="5440" y="22582"/>
                  </a:lnTo>
                  <a:lnTo>
                    <a:pt x="5208" y="21772"/>
                  </a:lnTo>
                  <a:lnTo>
                    <a:pt x="5208" y="20845"/>
                  </a:lnTo>
                  <a:lnTo>
                    <a:pt x="5324" y="19919"/>
                  </a:lnTo>
                  <a:lnTo>
                    <a:pt x="5324" y="19919"/>
                  </a:lnTo>
                  <a:lnTo>
                    <a:pt x="5440" y="19571"/>
                  </a:lnTo>
                  <a:lnTo>
                    <a:pt x="5671" y="19224"/>
                  </a:lnTo>
                  <a:lnTo>
                    <a:pt x="6019" y="19108"/>
                  </a:lnTo>
                  <a:lnTo>
                    <a:pt x="6366" y="18992"/>
                  </a:lnTo>
                  <a:lnTo>
                    <a:pt x="6713" y="18877"/>
                  </a:lnTo>
                  <a:lnTo>
                    <a:pt x="7060" y="18761"/>
                  </a:lnTo>
                  <a:lnTo>
                    <a:pt x="7523" y="18761"/>
                  </a:lnTo>
                  <a:lnTo>
                    <a:pt x="7870" y="18645"/>
                  </a:lnTo>
                  <a:lnTo>
                    <a:pt x="7870" y="18645"/>
                  </a:lnTo>
                  <a:lnTo>
                    <a:pt x="8565" y="18529"/>
                  </a:lnTo>
                  <a:lnTo>
                    <a:pt x="9259" y="18529"/>
                  </a:lnTo>
                  <a:lnTo>
                    <a:pt x="9953" y="18529"/>
                  </a:lnTo>
                  <a:lnTo>
                    <a:pt x="10648" y="18645"/>
                  </a:lnTo>
                  <a:lnTo>
                    <a:pt x="11342" y="18645"/>
                  </a:lnTo>
                  <a:lnTo>
                    <a:pt x="11921" y="18877"/>
                  </a:lnTo>
                  <a:lnTo>
                    <a:pt x="12615" y="18992"/>
                  </a:lnTo>
                  <a:lnTo>
                    <a:pt x="13310" y="19108"/>
                  </a:lnTo>
                  <a:lnTo>
                    <a:pt x="13310" y="19108"/>
                  </a:lnTo>
                  <a:lnTo>
                    <a:pt x="13425" y="18992"/>
                  </a:lnTo>
                  <a:lnTo>
                    <a:pt x="13425" y="18992"/>
                  </a:lnTo>
                  <a:lnTo>
                    <a:pt x="13773" y="17139"/>
                  </a:lnTo>
                  <a:lnTo>
                    <a:pt x="14004" y="15286"/>
                  </a:lnTo>
                  <a:lnTo>
                    <a:pt x="14351" y="13434"/>
                  </a:lnTo>
                  <a:lnTo>
                    <a:pt x="14814" y="11581"/>
                  </a:lnTo>
                  <a:lnTo>
                    <a:pt x="15161" y="9728"/>
                  </a:lnTo>
                  <a:lnTo>
                    <a:pt x="15509" y="7875"/>
                  </a:lnTo>
                  <a:lnTo>
                    <a:pt x="15856" y="6138"/>
                  </a:lnTo>
                  <a:lnTo>
                    <a:pt x="16203" y="4285"/>
                  </a:lnTo>
                  <a:lnTo>
                    <a:pt x="16203" y="4285"/>
                  </a:lnTo>
                  <a:lnTo>
                    <a:pt x="16319" y="4053"/>
                  </a:lnTo>
                  <a:lnTo>
                    <a:pt x="16319" y="3821"/>
                  </a:lnTo>
                  <a:lnTo>
                    <a:pt x="16203" y="3590"/>
                  </a:lnTo>
                  <a:lnTo>
                    <a:pt x="16203" y="3358"/>
                  </a:lnTo>
                  <a:lnTo>
                    <a:pt x="16319" y="3126"/>
                  </a:lnTo>
                  <a:lnTo>
                    <a:pt x="16434" y="3011"/>
                  </a:lnTo>
                  <a:lnTo>
                    <a:pt x="16550" y="2895"/>
                  </a:lnTo>
                  <a:lnTo>
                    <a:pt x="16897" y="2895"/>
                  </a:lnTo>
                  <a:lnTo>
                    <a:pt x="16897" y="2895"/>
                  </a:lnTo>
                  <a:lnTo>
                    <a:pt x="16782" y="2663"/>
                  </a:lnTo>
                  <a:lnTo>
                    <a:pt x="16782" y="2316"/>
                  </a:lnTo>
                  <a:lnTo>
                    <a:pt x="16782" y="1968"/>
                  </a:lnTo>
                  <a:lnTo>
                    <a:pt x="16782" y="1621"/>
                  </a:lnTo>
                  <a:lnTo>
                    <a:pt x="16897" y="1389"/>
                  </a:lnTo>
                  <a:lnTo>
                    <a:pt x="17013" y="1042"/>
                  </a:lnTo>
                  <a:lnTo>
                    <a:pt x="17129" y="810"/>
                  </a:lnTo>
                  <a:lnTo>
                    <a:pt x="17360" y="579"/>
                  </a:lnTo>
                  <a:lnTo>
                    <a:pt x="17360" y="579"/>
                  </a:lnTo>
                  <a:lnTo>
                    <a:pt x="17707" y="347"/>
                  </a:lnTo>
                  <a:lnTo>
                    <a:pt x="18055" y="115"/>
                  </a:lnTo>
                  <a:lnTo>
                    <a:pt x="18518" y="0"/>
                  </a:lnTo>
                  <a:lnTo>
                    <a:pt x="18981" y="0"/>
                  </a:lnTo>
                  <a:lnTo>
                    <a:pt x="19328" y="0"/>
                  </a:lnTo>
                  <a:lnTo>
                    <a:pt x="19791" y="115"/>
                  </a:lnTo>
                  <a:lnTo>
                    <a:pt x="20138" y="347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1158120" y="2932560"/>
              <a:ext cx="115560" cy="192600"/>
            </a:xfrm>
            <a:custGeom>
              <a:avLst/>
              <a:gdLst/>
              <a:ahLst/>
              <a:rect l="l" t="t" r="r" b="b"/>
              <a:pathLst>
                <a:path w="3240" h="3590">
                  <a:moveTo>
                    <a:pt x="3124" y="926"/>
                  </a:moveTo>
                  <a:lnTo>
                    <a:pt x="3124" y="1274"/>
                  </a:lnTo>
                  <a:lnTo>
                    <a:pt x="3240" y="1621"/>
                  </a:lnTo>
                  <a:lnTo>
                    <a:pt x="3240" y="1969"/>
                  </a:lnTo>
                  <a:lnTo>
                    <a:pt x="3240" y="2316"/>
                  </a:lnTo>
                  <a:lnTo>
                    <a:pt x="3240" y="2663"/>
                  </a:lnTo>
                  <a:lnTo>
                    <a:pt x="3124" y="2895"/>
                  </a:lnTo>
                  <a:lnTo>
                    <a:pt x="3009" y="3243"/>
                  </a:lnTo>
                  <a:lnTo>
                    <a:pt x="2893" y="3590"/>
                  </a:lnTo>
                  <a:lnTo>
                    <a:pt x="2893" y="3590"/>
                  </a:lnTo>
                  <a:lnTo>
                    <a:pt x="2546" y="3590"/>
                  </a:lnTo>
                  <a:lnTo>
                    <a:pt x="2546" y="3243"/>
                  </a:lnTo>
                  <a:lnTo>
                    <a:pt x="2661" y="3243"/>
                  </a:lnTo>
                  <a:lnTo>
                    <a:pt x="2661" y="3243"/>
                  </a:lnTo>
                  <a:lnTo>
                    <a:pt x="2661" y="3011"/>
                  </a:lnTo>
                  <a:lnTo>
                    <a:pt x="2777" y="2663"/>
                  </a:lnTo>
                  <a:lnTo>
                    <a:pt x="2893" y="2432"/>
                  </a:lnTo>
                  <a:lnTo>
                    <a:pt x="2893" y="2084"/>
                  </a:lnTo>
                  <a:lnTo>
                    <a:pt x="3009" y="1737"/>
                  </a:lnTo>
                  <a:lnTo>
                    <a:pt x="2893" y="1505"/>
                  </a:lnTo>
                  <a:lnTo>
                    <a:pt x="2893" y="1158"/>
                  </a:lnTo>
                  <a:lnTo>
                    <a:pt x="2777" y="926"/>
                  </a:lnTo>
                  <a:lnTo>
                    <a:pt x="2777" y="926"/>
                  </a:lnTo>
                  <a:lnTo>
                    <a:pt x="2661" y="811"/>
                  </a:lnTo>
                  <a:lnTo>
                    <a:pt x="2546" y="695"/>
                  </a:lnTo>
                  <a:lnTo>
                    <a:pt x="2430" y="579"/>
                  </a:lnTo>
                  <a:lnTo>
                    <a:pt x="2198" y="463"/>
                  </a:lnTo>
                  <a:lnTo>
                    <a:pt x="2083" y="347"/>
                  </a:lnTo>
                  <a:lnTo>
                    <a:pt x="1967" y="231"/>
                  </a:lnTo>
                  <a:lnTo>
                    <a:pt x="1851" y="231"/>
                  </a:lnTo>
                  <a:lnTo>
                    <a:pt x="1736" y="231"/>
                  </a:lnTo>
                  <a:lnTo>
                    <a:pt x="1736" y="231"/>
                  </a:lnTo>
                  <a:lnTo>
                    <a:pt x="1504" y="231"/>
                  </a:lnTo>
                  <a:lnTo>
                    <a:pt x="1273" y="347"/>
                  </a:lnTo>
                  <a:lnTo>
                    <a:pt x="1041" y="347"/>
                  </a:lnTo>
                  <a:lnTo>
                    <a:pt x="925" y="463"/>
                  </a:lnTo>
                  <a:lnTo>
                    <a:pt x="694" y="695"/>
                  </a:lnTo>
                  <a:lnTo>
                    <a:pt x="578" y="811"/>
                  </a:lnTo>
                  <a:lnTo>
                    <a:pt x="462" y="926"/>
                  </a:lnTo>
                  <a:lnTo>
                    <a:pt x="347" y="1158"/>
                  </a:lnTo>
                  <a:lnTo>
                    <a:pt x="347" y="1158"/>
                  </a:lnTo>
                  <a:lnTo>
                    <a:pt x="347" y="2432"/>
                  </a:lnTo>
                  <a:lnTo>
                    <a:pt x="347" y="2432"/>
                  </a:lnTo>
                  <a:lnTo>
                    <a:pt x="115" y="2316"/>
                  </a:lnTo>
                  <a:lnTo>
                    <a:pt x="115" y="2200"/>
                  </a:lnTo>
                  <a:lnTo>
                    <a:pt x="0" y="1969"/>
                  </a:lnTo>
                  <a:lnTo>
                    <a:pt x="0" y="1737"/>
                  </a:lnTo>
                  <a:lnTo>
                    <a:pt x="0" y="1505"/>
                  </a:lnTo>
                  <a:lnTo>
                    <a:pt x="0" y="1390"/>
                  </a:lnTo>
                  <a:lnTo>
                    <a:pt x="0" y="1158"/>
                  </a:lnTo>
                  <a:lnTo>
                    <a:pt x="115" y="926"/>
                  </a:lnTo>
                  <a:lnTo>
                    <a:pt x="115" y="926"/>
                  </a:lnTo>
                  <a:lnTo>
                    <a:pt x="347" y="579"/>
                  </a:lnTo>
                  <a:lnTo>
                    <a:pt x="694" y="231"/>
                  </a:lnTo>
                  <a:lnTo>
                    <a:pt x="1041" y="116"/>
                  </a:lnTo>
                  <a:lnTo>
                    <a:pt x="1504" y="0"/>
                  </a:lnTo>
                  <a:lnTo>
                    <a:pt x="2083" y="0"/>
                  </a:lnTo>
                  <a:lnTo>
                    <a:pt x="2430" y="231"/>
                  </a:lnTo>
                  <a:lnTo>
                    <a:pt x="2777" y="463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1282320" y="2945160"/>
              <a:ext cx="65880" cy="211320"/>
            </a:xfrm>
            <a:custGeom>
              <a:avLst/>
              <a:gdLst/>
              <a:ahLst/>
              <a:rect l="l" t="t" r="r" b="b"/>
              <a:pathLst>
                <a:path w="1851" h="3938">
                  <a:moveTo>
                    <a:pt x="1851" y="1853"/>
                  </a:moveTo>
                  <a:lnTo>
                    <a:pt x="1851" y="1969"/>
                  </a:lnTo>
                  <a:lnTo>
                    <a:pt x="1851" y="2201"/>
                  </a:lnTo>
                  <a:lnTo>
                    <a:pt x="1851" y="2317"/>
                  </a:lnTo>
                  <a:lnTo>
                    <a:pt x="1736" y="2432"/>
                  </a:lnTo>
                  <a:lnTo>
                    <a:pt x="1736" y="2548"/>
                  </a:lnTo>
                  <a:lnTo>
                    <a:pt x="1736" y="2664"/>
                  </a:lnTo>
                  <a:lnTo>
                    <a:pt x="1736" y="2896"/>
                  </a:lnTo>
                  <a:lnTo>
                    <a:pt x="1736" y="3012"/>
                  </a:lnTo>
                  <a:lnTo>
                    <a:pt x="1736" y="3012"/>
                  </a:lnTo>
                  <a:lnTo>
                    <a:pt x="1620" y="3127"/>
                  </a:lnTo>
                  <a:lnTo>
                    <a:pt x="1620" y="3243"/>
                  </a:lnTo>
                  <a:lnTo>
                    <a:pt x="1504" y="3359"/>
                  </a:lnTo>
                  <a:lnTo>
                    <a:pt x="1388" y="3475"/>
                  </a:lnTo>
                  <a:lnTo>
                    <a:pt x="1273" y="3591"/>
                  </a:lnTo>
                  <a:lnTo>
                    <a:pt x="1157" y="3706"/>
                  </a:lnTo>
                  <a:lnTo>
                    <a:pt x="1041" y="3822"/>
                  </a:lnTo>
                  <a:lnTo>
                    <a:pt x="925" y="3938"/>
                  </a:lnTo>
                  <a:lnTo>
                    <a:pt x="925" y="3938"/>
                  </a:lnTo>
                  <a:lnTo>
                    <a:pt x="810" y="3938"/>
                  </a:lnTo>
                  <a:lnTo>
                    <a:pt x="810" y="3938"/>
                  </a:lnTo>
                  <a:lnTo>
                    <a:pt x="694" y="3938"/>
                  </a:lnTo>
                  <a:lnTo>
                    <a:pt x="694" y="3822"/>
                  </a:lnTo>
                  <a:lnTo>
                    <a:pt x="694" y="3822"/>
                  </a:lnTo>
                  <a:lnTo>
                    <a:pt x="694" y="3706"/>
                  </a:lnTo>
                  <a:lnTo>
                    <a:pt x="694" y="3706"/>
                  </a:lnTo>
                  <a:lnTo>
                    <a:pt x="694" y="3591"/>
                  </a:lnTo>
                  <a:lnTo>
                    <a:pt x="694" y="3591"/>
                  </a:lnTo>
                  <a:lnTo>
                    <a:pt x="925" y="3243"/>
                  </a:lnTo>
                  <a:lnTo>
                    <a:pt x="1157" y="3012"/>
                  </a:lnTo>
                  <a:lnTo>
                    <a:pt x="1273" y="2664"/>
                  </a:lnTo>
                  <a:lnTo>
                    <a:pt x="1273" y="2317"/>
                  </a:lnTo>
                  <a:lnTo>
                    <a:pt x="1273" y="1969"/>
                  </a:lnTo>
                  <a:lnTo>
                    <a:pt x="1157" y="1622"/>
                  </a:lnTo>
                  <a:lnTo>
                    <a:pt x="1041" y="1274"/>
                  </a:lnTo>
                  <a:lnTo>
                    <a:pt x="1041" y="811"/>
                  </a:lnTo>
                  <a:lnTo>
                    <a:pt x="1041" y="811"/>
                  </a:lnTo>
                  <a:lnTo>
                    <a:pt x="925" y="811"/>
                  </a:lnTo>
                  <a:lnTo>
                    <a:pt x="810" y="695"/>
                  </a:lnTo>
                  <a:lnTo>
                    <a:pt x="694" y="580"/>
                  </a:lnTo>
                  <a:lnTo>
                    <a:pt x="578" y="464"/>
                  </a:lnTo>
                  <a:lnTo>
                    <a:pt x="462" y="464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5" y="464"/>
                  </a:lnTo>
                  <a:lnTo>
                    <a:pt x="115" y="464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115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2" y="0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925" y="232"/>
                  </a:lnTo>
                  <a:lnTo>
                    <a:pt x="1041" y="232"/>
                  </a:lnTo>
                  <a:lnTo>
                    <a:pt x="1041" y="232"/>
                  </a:lnTo>
                  <a:lnTo>
                    <a:pt x="1273" y="464"/>
                  </a:lnTo>
                  <a:lnTo>
                    <a:pt x="1388" y="580"/>
                  </a:lnTo>
                  <a:lnTo>
                    <a:pt x="1504" y="811"/>
                  </a:lnTo>
                  <a:lnTo>
                    <a:pt x="1620" y="1043"/>
                  </a:lnTo>
                  <a:lnTo>
                    <a:pt x="1620" y="1159"/>
                  </a:lnTo>
                  <a:lnTo>
                    <a:pt x="1736" y="1390"/>
                  </a:lnTo>
                  <a:lnTo>
                    <a:pt x="1736" y="1622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1182960" y="2970000"/>
              <a:ext cx="49320" cy="99360"/>
            </a:xfrm>
            <a:custGeom>
              <a:avLst/>
              <a:gdLst/>
              <a:ahLst/>
              <a:rect l="l" t="t" r="r" b="b"/>
              <a:pathLst>
                <a:path w="1389" h="1853">
                  <a:moveTo>
                    <a:pt x="1389" y="347"/>
                  </a:moveTo>
                  <a:lnTo>
                    <a:pt x="1157" y="579"/>
                  </a:lnTo>
                  <a:lnTo>
                    <a:pt x="1042" y="810"/>
                  </a:lnTo>
                  <a:lnTo>
                    <a:pt x="926" y="1042"/>
                  </a:lnTo>
                  <a:lnTo>
                    <a:pt x="810" y="1389"/>
                  </a:lnTo>
                  <a:lnTo>
                    <a:pt x="810" y="1621"/>
                  </a:lnTo>
                  <a:lnTo>
                    <a:pt x="694" y="1853"/>
                  </a:lnTo>
                  <a:lnTo>
                    <a:pt x="463" y="1853"/>
                  </a:lnTo>
                  <a:lnTo>
                    <a:pt x="116" y="1737"/>
                  </a:lnTo>
                  <a:lnTo>
                    <a:pt x="116" y="1737"/>
                  </a:lnTo>
                  <a:lnTo>
                    <a:pt x="0" y="1505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6" y="810"/>
                  </a:lnTo>
                  <a:lnTo>
                    <a:pt x="116" y="579"/>
                  </a:lnTo>
                  <a:lnTo>
                    <a:pt x="231" y="347"/>
                  </a:lnTo>
                  <a:lnTo>
                    <a:pt x="463" y="231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7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389" y="231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1356840" y="2988720"/>
              <a:ext cx="65880" cy="192600"/>
            </a:xfrm>
            <a:custGeom>
              <a:avLst/>
              <a:gdLst/>
              <a:ahLst/>
              <a:rect l="l" t="t" r="r" b="b"/>
              <a:pathLst>
                <a:path w="1851" h="3590">
                  <a:moveTo>
                    <a:pt x="1620" y="695"/>
                  </a:moveTo>
                  <a:lnTo>
                    <a:pt x="1736" y="927"/>
                  </a:lnTo>
                  <a:lnTo>
                    <a:pt x="1736" y="1158"/>
                  </a:lnTo>
                  <a:lnTo>
                    <a:pt x="1851" y="1390"/>
                  </a:lnTo>
                  <a:lnTo>
                    <a:pt x="1851" y="1621"/>
                  </a:lnTo>
                  <a:lnTo>
                    <a:pt x="1851" y="1853"/>
                  </a:lnTo>
                  <a:lnTo>
                    <a:pt x="1851" y="2085"/>
                  </a:lnTo>
                  <a:lnTo>
                    <a:pt x="1851" y="2316"/>
                  </a:lnTo>
                  <a:lnTo>
                    <a:pt x="1736" y="2432"/>
                  </a:lnTo>
                  <a:lnTo>
                    <a:pt x="1736" y="2432"/>
                  </a:lnTo>
                  <a:lnTo>
                    <a:pt x="1736" y="2664"/>
                  </a:lnTo>
                  <a:lnTo>
                    <a:pt x="1620" y="2780"/>
                  </a:lnTo>
                  <a:lnTo>
                    <a:pt x="1504" y="2895"/>
                  </a:lnTo>
                  <a:lnTo>
                    <a:pt x="1388" y="3127"/>
                  </a:lnTo>
                  <a:lnTo>
                    <a:pt x="1273" y="3243"/>
                  </a:lnTo>
                  <a:lnTo>
                    <a:pt x="1157" y="3359"/>
                  </a:lnTo>
                  <a:lnTo>
                    <a:pt x="1041" y="3474"/>
                  </a:lnTo>
                  <a:lnTo>
                    <a:pt x="926" y="3590"/>
                  </a:lnTo>
                  <a:lnTo>
                    <a:pt x="926" y="3590"/>
                  </a:lnTo>
                  <a:lnTo>
                    <a:pt x="810" y="3590"/>
                  </a:lnTo>
                  <a:lnTo>
                    <a:pt x="694" y="3590"/>
                  </a:lnTo>
                  <a:lnTo>
                    <a:pt x="694" y="3474"/>
                  </a:lnTo>
                  <a:lnTo>
                    <a:pt x="578" y="3474"/>
                  </a:lnTo>
                  <a:lnTo>
                    <a:pt x="578" y="3359"/>
                  </a:lnTo>
                  <a:lnTo>
                    <a:pt x="578" y="3359"/>
                  </a:lnTo>
                  <a:lnTo>
                    <a:pt x="578" y="3243"/>
                  </a:lnTo>
                  <a:lnTo>
                    <a:pt x="578" y="3127"/>
                  </a:lnTo>
                  <a:lnTo>
                    <a:pt x="578" y="3127"/>
                  </a:lnTo>
                  <a:lnTo>
                    <a:pt x="694" y="3127"/>
                  </a:lnTo>
                  <a:lnTo>
                    <a:pt x="810" y="3011"/>
                  </a:lnTo>
                  <a:lnTo>
                    <a:pt x="926" y="2895"/>
                  </a:lnTo>
                  <a:lnTo>
                    <a:pt x="1041" y="2780"/>
                  </a:lnTo>
                  <a:lnTo>
                    <a:pt x="1041" y="2664"/>
                  </a:lnTo>
                  <a:lnTo>
                    <a:pt x="1157" y="2432"/>
                  </a:lnTo>
                  <a:lnTo>
                    <a:pt x="1157" y="2316"/>
                  </a:lnTo>
                  <a:lnTo>
                    <a:pt x="1157" y="2201"/>
                  </a:lnTo>
                  <a:lnTo>
                    <a:pt x="1157" y="2201"/>
                  </a:lnTo>
                  <a:lnTo>
                    <a:pt x="1157" y="1969"/>
                  </a:lnTo>
                  <a:lnTo>
                    <a:pt x="1157" y="1621"/>
                  </a:lnTo>
                  <a:lnTo>
                    <a:pt x="1157" y="1390"/>
                  </a:lnTo>
                  <a:lnTo>
                    <a:pt x="1041" y="1042"/>
                  </a:lnTo>
                  <a:lnTo>
                    <a:pt x="926" y="811"/>
                  </a:lnTo>
                  <a:lnTo>
                    <a:pt x="810" y="579"/>
                  </a:lnTo>
                  <a:lnTo>
                    <a:pt x="578" y="348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231" y="232"/>
                  </a:lnTo>
                  <a:lnTo>
                    <a:pt x="231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6"/>
                  </a:lnTo>
                  <a:lnTo>
                    <a:pt x="1273" y="232"/>
                  </a:lnTo>
                  <a:lnTo>
                    <a:pt x="1504" y="463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1431360" y="3013560"/>
              <a:ext cx="57600" cy="186480"/>
            </a:xfrm>
            <a:custGeom>
              <a:avLst/>
              <a:gdLst/>
              <a:ahLst/>
              <a:rect l="l" t="t" r="r" b="b"/>
              <a:pathLst>
                <a:path w="1620" h="3475">
                  <a:moveTo>
                    <a:pt x="1620" y="1390"/>
                  </a:moveTo>
                  <a:lnTo>
                    <a:pt x="1620" y="1622"/>
                  </a:lnTo>
                  <a:lnTo>
                    <a:pt x="1620" y="1853"/>
                  </a:lnTo>
                  <a:lnTo>
                    <a:pt x="1620" y="2085"/>
                  </a:lnTo>
                  <a:lnTo>
                    <a:pt x="1620" y="2317"/>
                  </a:lnTo>
                  <a:lnTo>
                    <a:pt x="1620" y="2432"/>
                  </a:lnTo>
                  <a:lnTo>
                    <a:pt x="1620" y="2664"/>
                  </a:lnTo>
                  <a:lnTo>
                    <a:pt x="1504" y="2896"/>
                  </a:lnTo>
                  <a:lnTo>
                    <a:pt x="1389" y="3011"/>
                  </a:lnTo>
                  <a:lnTo>
                    <a:pt x="1389" y="3011"/>
                  </a:lnTo>
                  <a:lnTo>
                    <a:pt x="1273" y="3127"/>
                  </a:lnTo>
                  <a:lnTo>
                    <a:pt x="1157" y="3127"/>
                  </a:lnTo>
                  <a:lnTo>
                    <a:pt x="1041" y="3243"/>
                  </a:lnTo>
                  <a:lnTo>
                    <a:pt x="1041" y="3359"/>
                  </a:lnTo>
                  <a:lnTo>
                    <a:pt x="926" y="3475"/>
                  </a:lnTo>
                  <a:lnTo>
                    <a:pt x="926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694" y="3359"/>
                  </a:lnTo>
                  <a:lnTo>
                    <a:pt x="694" y="3243"/>
                  </a:lnTo>
                  <a:lnTo>
                    <a:pt x="810" y="3127"/>
                  </a:lnTo>
                  <a:lnTo>
                    <a:pt x="810" y="3011"/>
                  </a:lnTo>
                  <a:lnTo>
                    <a:pt x="926" y="2896"/>
                  </a:lnTo>
                  <a:lnTo>
                    <a:pt x="1041" y="2780"/>
                  </a:lnTo>
                  <a:lnTo>
                    <a:pt x="1157" y="2664"/>
                  </a:lnTo>
                  <a:lnTo>
                    <a:pt x="1273" y="2548"/>
                  </a:lnTo>
                  <a:lnTo>
                    <a:pt x="1273" y="2432"/>
                  </a:lnTo>
                  <a:lnTo>
                    <a:pt x="1273" y="2432"/>
                  </a:lnTo>
                  <a:lnTo>
                    <a:pt x="1389" y="2085"/>
                  </a:lnTo>
                  <a:lnTo>
                    <a:pt x="1389" y="1853"/>
                  </a:lnTo>
                  <a:lnTo>
                    <a:pt x="1273" y="1506"/>
                  </a:lnTo>
                  <a:lnTo>
                    <a:pt x="1157" y="1274"/>
                  </a:lnTo>
                  <a:lnTo>
                    <a:pt x="1041" y="1043"/>
                  </a:lnTo>
                  <a:lnTo>
                    <a:pt x="810" y="811"/>
                  </a:lnTo>
                  <a:lnTo>
                    <a:pt x="579" y="579"/>
                  </a:lnTo>
                  <a:lnTo>
                    <a:pt x="347" y="348"/>
                  </a:lnTo>
                  <a:lnTo>
                    <a:pt x="347" y="348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6" y="348"/>
                  </a:lnTo>
                  <a:lnTo>
                    <a:pt x="116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463" y="0"/>
                  </a:lnTo>
                  <a:lnTo>
                    <a:pt x="694" y="116"/>
                  </a:lnTo>
                  <a:lnTo>
                    <a:pt x="926" y="348"/>
                  </a:lnTo>
                  <a:lnTo>
                    <a:pt x="1041" y="464"/>
                  </a:lnTo>
                  <a:lnTo>
                    <a:pt x="1273" y="695"/>
                  </a:lnTo>
                  <a:lnTo>
                    <a:pt x="1389" y="927"/>
                  </a:lnTo>
                  <a:lnTo>
                    <a:pt x="1504" y="1158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1493640" y="3025800"/>
              <a:ext cx="74160" cy="192600"/>
            </a:xfrm>
            <a:custGeom>
              <a:avLst/>
              <a:gdLst/>
              <a:ahLst/>
              <a:rect l="l" t="t" r="r" b="b"/>
              <a:pathLst>
                <a:path w="2083" h="3590">
                  <a:moveTo>
                    <a:pt x="2083" y="1390"/>
                  </a:moveTo>
                  <a:lnTo>
                    <a:pt x="2083" y="1737"/>
                  </a:lnTo>
                  <a:lnTo>
                    <a:pt x="2083" y="1969"/>
                  </a:lnTo>
                  <a:lnTo>
                    <a:pt x="2083" y="2200"/>
                  </a:lnTo>
                  <a:lnTo>
                    <a:pt x="2083" y="2548"/>
                  </a:lnTo>
                  <a:lnTo>
                    <a:pt x="1967" y="2779"/>
                  </a:lnTo>
                  <a:lnTo>
                    <a:pt x="1967" y="3011"/>
                  </a:lnTo>
                  <a:lnTo>
                    <a:pt x="1852" y="3243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504" y="3474"/>
                  </a:lnTo>
                  <a:lnTo>
                    <a:pt x="1389" y="3474"/>
                  </a:lnTo>
                  <a:lnTo>
                    <a:pt x="1273" y="3590"/>
                  </a:lnTo>
                  <a:lnTo>
                    <a:pt x="1273" y="3590"/>
                  </a:lnTo>
                  <a:lnTo>
                    <a:pt x="1157" y="3590"/>
                  </a:lnTo>
                  <a:lnTo>
                    <a:pt x="1041" y="3590"/>
                  </a:lnTo>
                  <a:lnTo>
                    <a:pt x="1041" y="3474"/>
                  </a:lnTo>
                  <a:lnTo>
                    <a:pt x="1041" y="3474"/>
                  </a:lnTo>
                  <a:lnTo>
                    <a:pt x="1157" y="3358"/>
                  </a:lnTo>
                  <a:lnTo>
                    <a:pt x="1273" y="3243"/>
                  </a:lnTo>
                  <a:lnTo>
                    <a:pt x="1389" y="3011"/>
                  </a:lnTo>
                  <a:lnTo>
                    <a:pt x="1504" y="2895"/>
                  </a:lnTo>
                  <a:lnTo>
                    <a:pt x="1504" y="2664"/>
                  </a:lnTo>
                  <a:lnTo>
                    <a:pt x="1620" y="2432"/>
                  </a:lnTo>
                  <a:lnTo>
                    <a:pt x="1620" y="2200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620" y="1621"/>
                  </a:lnTo>
                  <a:lnTo>
                    <a:pt x="1504" y="1390"/>
                  </a:lnTo>
                  <a:lnTo>
                    <a:pt x="1389" y="1274"/>
                  </a:lnTo>
                  <a:lnTo>
                    <a:pt x="1273" y="1042"/>
                  </a:lnTo>
                  <a:lnTo>
                    <a:pt x="1157" y="811"/>
                  </a:lnTo>
                  <a:lnTo>
                    <a:pt x="1041" y="695"/>
                  </a:lnTo>
                  <a:lnTo>
                    <a:pt x="810" y="463"/>
                  </a:lnTo>
                  <a:lnTo>
                    <a:pt x="810" y="463"/>
                  </a:lnTo>
                  <a:lnTo>
                    <a:pt x="694" y="463"/>
                  </a:lnTo>
                  <a:lnTo>
                    <a:pt x="579" y="347"/>
                  </a:lnTo>
                  <a:lnTo>
                    <a:pt x="463" y="347"/>
                  </a:lnTo>
                  <a:lnTo>
                    <a:pt x="347" y="463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347" y="0"/>
                  </a:lnTo>
                  <a:lnTo>
                    <a:pt x="579" y="0"/>
                  </a:lnTo>
                  <a:lnTo>
                    <a:pt x="926" y="116"/>
                  </a:lnTo>
                  <a:lnTo>
                    <a:pt x="1157" y="347"/>
                  </a:lnTo>
                  <a:lnTo>
                    <a:pt x="1389" y="579"/>
                  </a:lnTo>
                  <a:lnTo>
                    <a:pt x="1620" y="811"/>
                  </a:lnTo>
                  <a:lnTo>
                    <a:pt x="1852" y="1158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1559880" y="3032280"/>
              <a:ext cx="70200" cy="173880"/>
            </a:xfrm>
            <a:custGeom>
              <a:avLst/>
              <a:gdLst/>
              <a:ahLst/>
              <a:rect l="l" t="t" r="r" b="b"/>
              <a:pathLst>
                <a:path w="1967" h="3242">
                  <a:moveTo>
                    <a:pt x="1388" y="463"/>
                  </a:moveTo>
                  <a:lnTo>
                    <a:pt x="1620" y="695"/>
                  </a:lnTo>
                  <a:lnTo>
                    <a:pt x="1736" y="810"/>
                  </a:lnTo>
                  <a:lnTo>
                    <a:pt x="1851" y="1042"/>
                  </a:lnTo>
                  <a:lnTo>
                    <a:pt x="1967" y="1274"/>
                  </a:lnTo>
                  <a:lnTo>
                    <a:pt x="1967" y="1621"/>
                  </a:lnTo>
                  <a:lnTo>
                    <a:pt x="1967" y="1853"/>
                  </a:lnTo>
                  <a:lnTo>
                    <a:pt x="1967" y="2084"/>
                  </a:lnTo>
                  <a:lnTo>
                    <a:pt x="1967" y="2316"/>
                  </a:lnTo>
                  <a:lnTo>
                    <a:pt x="1967" y="2316"/>
                  </a:lnTo>
                  <a:lnTo>
                    <a:pt x="1851" y="2548"/>
                  </a:lnTo>
                  <a:lnTo>
                    <a:pt x="1851" y="2663"/>
                  </a:lnTo>
                  <a:lnTo>
                    <a:pt x="1736" y="2779"/>
                  </a:lnTo>
                  <a:lnTo>
                    <a:pt x="1620" y="2895"/>
                  </a:lnTo>
                  <a:lnTo>
                    <a:pt x="1620" y="3011"/>
                  </a:lnTo>
                  <a:lnTo>
                    <a:pt x="1504" y="3127"/>
                  </a:lnTo>
                  <a:lnTo>
                    <a:pt x="1388" y="3242"/>
                  </a:lnTo>
                  <a:lnTo>
                    <a:pt x="1273" y="3242"/>
                  </a:lnTo>
                  <a:lnTo>
                    <a:pt x="1273" y="3242"/>
                  </a:lnTo>
                  <a:lnTo>
                    <a:pt x="1273" y="3011"/>
                  </a:lnTo>
                  <a:lnTo>
                    <a:pt x="1388" y="2663"/>
                  </a:lnTo>
                  <a:lnTo>
                    <a:pt x="1504" y="2316"/>
                  </a:lnTo>
                  <a:lnTo>
                    <a:pt x="1620" y="1969"/>
                  </a:lnTo>
                  <a:lnTo>
                    <a:pt x="1620" y="1621"/>
                  </a:lnTo>
                  <a:lnTo>
                    <a:pt x="1620" y="1274"/>
                  </a:lnTo>
                  <a:lnTo>
                    <a:pt x="1504" y="926"/>
                  </a:lnTo>
                  <a:lnTo>
                    <a:pt x="1273" y="695"/>
                  </a:lnTo>
                  <a:lnTo>
                    <a:pt x="1273" y="695"/>
                  </a:lnTo>
                  <a:lnTo>
                    <a:pt x="1157" y="579"/>
                  </a:lnTo>
                  <a:lnTo>
                    <a:pt x="925" y="579"/>
                  </a:lnTo>
                  <a:lnTo>
                    <a:pt x="810" y="463"/>
                  </a:lnTo>
                  <a:lnTo>
                    <a:pt x="578" y="463"/>
                  </a:lnTo>
                  <a:lnTo>
                    <a:pt x="463" y="463"/>
                  </a:lnTo>
                  <a:lnTo>
                    <a:pt x="231" y="463"/>
                  </a:lnTo>
                  <a:lnTo>
                    <a:pt x="115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231" y="116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925" y="116"/>
                  </a:lnTo>
                  <a:lnTo>
                    <a:pt x="1157" y="231"/>
                  </a:lnTo>
                  <a:lnTo>
                    <a:pt x="1273" y="347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1642320" y="3069360"/>
              <a:ext cx="53640" cy="167760"/>
            </a:xfrm>
            <a:custGeom>
              <a:avLst/>
              <a:gdLst/>
              <a:ahLst/>
              <a:rect l="l" t="t" r="r" b="b"/>
              <a:pathLst>
                <a:path w="1505" h="3127">
                  <a:moveTo>
                    <a:pt x="1505" y="1158"/>
                  </a:moveTo>
                  <a:lnTo>
                    <a:pt x="1505" y="1389"/>
                  </a:lnTo>
                  <a:lnTo>
                    <a:pt x="1505" y="1737"/>
                  </a:lnTo>
                  <a:lnTo>
                    <a:pt x="1505" y="1968"/>
                  </a:lnTo>
                  <a:lnTo>
                    <a:pt x="1389" y="2316"/>
                  </a:lnTo>
                  <a:lnTo>
                    <a:pt x="1273" y="2547"/>
                  </a:lnTo>
                  <a:lnTo>
                    <a:pt x="1158" y="2779"/>
                  </a:lnTo>
                  <a:lnTo>
                    <a:pt x="926" y="2895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2895"/>
                  </a:lnTo>
                  <a:lnTo>
                    <a:pt x="695" y="2779"/>
                  </a:lnTo>
                  <a:lnTo>
                    <a:pt x="810" y="2663"/>
                  </a:lnTo>
                  <a:lnTo>
                    <a:pt x="810" y="2432"/>
                  </a:lnTo>
                  <a:lnTo>
                    <a:pt x="926" y="2316"/>
                  </a:lnTo>
                  <a:lnTo>
                    <a:pt x="926" y="2200"/>
                  </a:lnTo>
                  <a:lnTo>
                    <a:pt x="1042" y="1968"/>
                  </a:lnTo>
                  <a:lnTo>
                    <a:pt x="1042" y="1737"/>
                  </a:lnTo>
                  <a:lnTo>
                    <a:pt x="1042" y="1737"/>
                  </a:lnTo>
                  <a:lnTo>
                    <a:pt x="1042" y="1621"/>
                  </a:lnTo>
                  <a:lnTo>
                    <a:pt x="1042" y="1389"/>
                  </a:lnTo>
                  <a:lnTo>
                    <a:pt x="926" y="1158"/>
                  </a:lnTo>
                  <a:lnTo>
                    <a:pt x="926" y="926"/>
                  </a:lnTo>
                  <a:lnTo>
                    <a:pt x="926" y="810"/>
                  </a:lnTo>
                  <a:lnTo>
                    <a:pt x="810" y="695"/>
                  </a:lnTo>
                  <a:lnTo>
                    <a:pt x="579" y="463"/>
                  </a:lnTo>
                  <a:lnTo>
                    <a:pt x="463" y="347"/>
                  </a:lnTo>
                  <a:lnTo>
                    <a:pt x="463" y="347"/>
                  </a:lnTo>
                  <a:lnTo>
                    <a:pt x="347" y="347"/>
                  </a:lnTo>
                  <a:lnTo>
                    <a:pt x="232" y="347"/>
                  </a:lnTo>
                  <a:lnTo>
                    <a:pt x="232" y="347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2" y="0"/>
                  </a:lnTo>
                  <a:lnTo>
                    <a:pt x="232" y="0"/>
                  </a:lnTo>
                  <a:lnTo>
                    <a:pt x="463" y="0"/>
                  </a:lnTo>
                  <a:lnTo>
                    <a:pt x="695" y="115"/>
                  </a:lnTo>
                  <a:lnTo>
                    <a:pt x="926" y="231"/>
                  </a:lnTo>
                  <a:lnTo>
                    <a:pt x="1042" y="347"/>
                  </a:lnTo>
                  <a:lnTo>
                    <a:pt x="1158" y="579"/>
                  </a:lnTo>
                  <a:lnTo>
                    <a:pt x="1273" y="695"/>
                  </a:lnTo>
                  <a:lnTo>
                    <a:pt x="1389" y="926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1091880" y="3088080"/>
              <a:ext cx="852480" cy="1181160"/>
            </a:xfrm>
            <a:custGeom>
              <a:avLst/>
              <a:gdLst/>
              <a:ahLst/>
              <a:rect l="l" t="t" r="r" b="b"/>
              <a:pathLst>
                <a:path w="23841" h="22004">
                  <a:moveTo>
                    <a:pt x="4050" y="116"/>
                  </a:moveTo>
                  <a:lnTo>
                    <a:pt x="4050" y="232"/>
                  </a:lnTo>
                  <a:lnTo>
                    <a:pt x="3935" y="348"/>
                  </a:lnTo>
                  <a:lnTo>
                    <a:pt x="3935" y="463"/>
                  </a:lnTo>
                  <a:lnTo>
                    <a:pt x="3935" y="579"/>
                  </a:lnTo>
                  <a:lnTo>
                    <a:pt x="3935" y="695"/>
                  </a:lnTo>
                  <a:lnTo>
                    <a:pt x="3935" y="811"/>
                  </a:lnTo>
                  <a:lnTo>
                    <a:pt x="4050" y="927"/>
                  </a:lnTo>
                  <a:lnTo>
                    <a:pt x="4050" y="1042"/>
                  </a:lnTo>
                  <a:lnTo>
                    <a:pt x="4050" y="1042"/>
                  </a:lnTo>
                  <a:lnTo>
                    <a:pt x="4166" y="1158"/>
                  </a:lnTo>
                  <a:lnTo>
                    <a:pt x="4166" y="1274"/>
                  </a:lnTo>
                  <a:lnTo>
                    <a:pt x="4282" y="1274"/>
                  </a:lnTo>
                  <a:lnTo>
                    <a:pt x="4398" y="1274"/>
                  </a:lnTo>
                  <a:lnTo>
                    <a:pt x="4398" y="1274"/>
                  </a:lnTo>
                  <a:lnTo>
                    <a:pt x="4513" y="1274"/>
                  </a:lnTo>
                  <a:lnTo>
                    <a:pt x="4629" y="1274"/>
                  </a:lnTo>
                  <a:lnTo>
                    <a:pt x="4745" y="1274"/>
                  </a:lnTo>
                  <a:lnTo>
                    <a:pt x="4745" y="1274"/>
                  </a:lnTo>
                  <a:lnTo>
                    <a:pt x="4861" y="1158"/>
                  </a:lnTo>
                  <a:lnTo>
                    <a:pt x="4976" y="1042"/>
                  </a:lnTo>
                  <a:lnTo>
                    <a:pt x="5092" y="927"/>
                  </a:lnTo>
                  <a:lnTo>
                    <a:pt x="5208" y="695"/>
                  </a:lnTo>
                  <a:lnTo>
                    <a:pt x="5324" y="579"/>
                  </a:lnTo>
                  <a:lnTo>
                    <a:pt x="5439" y="463"/>
                  </a:lnTo>
                  <a:lnTo>
                    <a:pt x="5439" y="348"/>
                  </a:lnTo>
                  <a:lnTo>
                    <a:pt x="5439" y="116"/>
                  </a:lnTo>
                  <a:lnTo>
                    <a:pt x="5439" y="116"/>
                  </a:lnTo>
                  <a:lnTo>
                    <a:pt x="5786" y="232"/>
                  </a:lnTo>
                  <a:lnTo>
                    <a:pt x="5786" y="232"/>
                  </a:lnTo>
                  <a:lnTo>
                    <a:pt x="5671" y="348"/>
                  </a:lnTo>
                  <a:lnTo>
                    <a:pt x="5439" y="463"/>
                  </a:lnTo>
                  <a:lnTo>
                    <a:pt x="5439" y="579"/>
                  </a:lnTo>
                  <a:lnTo>
                    <a:pt x="5324" y="811"/>
                  </a:lnTo>
                  <a:lnTo>
                    <a:pt x="5324" y="927"/>
                  </a:lnTo>
                  <a:lnTo>
                    <a:pt x="5324" y="1158"/>
                  </a:lnTo>
                  <a:lnTo>
                    <a:pt x="5439" y="1390"/>
                  </a:lnTo>
                  <a:lnTo>
                    <a:pt x="5439" y="1506"/>
                  </a:lnTo>
                  <a:lnTo>
                    <a:pt x="5439" y="1506"/>
                  </a:lnTo>
                  <a:lnTo>
                    <a:pt x="5555" y="1737"/>
                  </a:lnTo>
                  <a:lnTo>
                    <a:pt x="5671" y="1737"/>
                  </a:lnTo>
                  <a:lnTo>
                    <a:pt x="5786" y="1853"/>
                  </a:lnTo>
                  <a:lnTo>
                    <a:pt x="5902" y="1853"/>
                  </a:lnTo>
                  <a:lnTo>
                    <a:pt x="6018" y="1853"/>
                  </a:lnTo>
                  <a:lnTo>
                    <a:pt x="6249" y="1853"/>
                  </a:lnTo>
                  <a:lnTo>
                    <a:pt x="6365" y="1853"/>
                  </a:lnTo>
                  <a:lnTo>
                    <a:pt x="6481" y="1737"/>
                  </a:lnTo>
                  <a:lnTo>
                    <a:pt x="6481" y="1737"/>
                  </a:lnTo>
                  <a:lnTo>
                    <a:pt x="6712" y="1737"/>
                  </a:lnTo>
                  <a:lnTo>
                    <a:pt x="6828" y="1621"/>
                  </a:lnTo>
                  <a:lnTo>
                    <a:pt x="6944" y="1390"/>
                  </a:lnTo>
                  <a:lnTo>
                    <a:pt x="7060" y="1274"/>
                  </a:lnTo>
                  <a:lnTo>
                    <a:pt x="7175" y="1042"/>
                  </a:lnTo>
                  <a:lnTo>
                    <a:pt x="7291" y="927"/>
                  </a:lnTo>
                  <a:lnTo>
                    <a:pt x="7291" y="695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638" y="695"/>
                  </a:lnTo>
                  <a:lnTo>
                    <a:pt x="7522" y="811"/>
                  </a:lnTo>
                  <a:lnTo>
                    <a:pt x="7407" y="1042"/>
                  </a:lnTo>
                  <a:lnTo>
                    <a:pt x="7407" y="1158"/>
                  </a:lnTo>
                  <a:lnTo>
                    <a:pt x="7291" y="1274"/>
                  </a:lnTo>
                  <a:lnTo>
                    <a:pt x="7291" y="1390"/>
                  </a:lnTo>
                  <a:lnTo>
                    <a:pt x="7291" y="1506"/>
                  </a:lnTo>
                  <a:lnTo>
                    <a:pt x="7291" y="1621"/>
                  </a:lnTo>
                  <a:lnTo>
                    <a:pt x="7291" y="1621"/>
                  </a:lnTo>
                  <a:lnTo>
                    <a:pt x="7407" y="1737"/>
                  </a:lnTo>
                  <a:lnTo>
                    <a:pt x="7407" y="1969"/>
                  </a:lnTo>
                  <a:lnTo>
                    <a:pt x="7407" y="2085"/>
                  </a:lnTo>
                  <a:lnTo>
                    <a:pt x="7522" y="2200"/>
                  </a:lnTo>
                  <a:lnTo>
                    <a:pt x="7522" y="2316"/>
                  </a:lnTo>
                  <a:lnTo>
                    <a:pt x="7638" y="2316"/>
                  </a:lnTo>
                  <a:lnTo>
                    <a:pt x="7754" y="2432"/>
                  </a:lnTo>
                  <a:lnTo>
                    <a:pt x="7870" y="2432"/>
                  </a:lnTo>
                  <a:lnTo>
                    <a:pt x="7870" y="2432"/>
                  </a:lnTo>
                  <a:lnTo>
                    <a:pt x="8101" y="2432"/>
                  </a:lnTo>
                  <a:lnTo>
                    <a:pt x="8217" y="2432"/>
                  </a:lnTo>
                  <a:lnTo>
                    <a:pt x="8333" y="2316"/>
                  </a:lnTo>
                  <a:lnTo>
                    <a:pt x="8448" y="2200"/>
                  </a:lnTo>
                  <a:lnTo>
                    <a:pt x="8564" y="2200"/>
                  </a:lnTo>
                  <a:lnTo>
                    <a:pt x="8564" y="2085"/>
                  </a:lnTo>
                  <a:lnTo>
                    <a:pt x="8680" y="1969"/>
                  </a:lnTo>
                  <a:lnTo>
                    <a:pt x="8911" y="1969"/>
                  </a:lnTo>
                  <a:lnTo>
                    <a:pt x="8911" y="1969"/>
                  </a:lnTo>
                  <a:lnTo>
                    <a:pt x="8911" y="1853"/>
                  </a:lnTo>
                  <a:lnTo>
                    <a:pt x="8911" y="1737"/>
                  </a:lnTo>
                  <a:lnTo>
                    <a:pt x="9027" y="1737"/>
                  </a:lnTo>
                  <a:lnTo>
                    <a:pt x="9143" y="1621"/>
                  </a:lnTo>
                  <a:lnTo>
                    <a:pt x="9258" y="1506"/>
                  </a:lnTo>
                  <a:lnTo>
                    <a:pt x="9374" y="1390"/>
                  </a:lnTo>
                  <a:lnTo>
                    <a:pt x="9374" y="1274"/>
                  </a:lnTo>
                  <a:lnTo>
                    <a:pt x="9490" y="1158"/>
                  </a:lnTo>
                  <a:lnTo>
                    <a:pt x="9490" y="1158"/>
                  </a:lnTo>
                  <a:lnTo>
                    <a:pt x="9837" y="1274"/>
                  </a:lnTo>
                  <a:lnTo>
                    <a:pt x="9837" y="1274"/>
                  </a:lnTo>
                  <a:lnTo>
                    <a:pt x="9837" y="1390"/>
                  </a:lnTo>
                  <a:lnTo>
                    <a:pt x="9721" y="1621"/>
                  </a:lnTo>
                  <a:lnTo>
                    <a:pt x="9721" y="1853"/>
                  </a:lnTo>
                  <a:lnTo>
                    <a:pt x="9606" y="2085"/>
                  </a:lnTo>
                  <a:lnTo>
                    <a:pt x="9606" y="2200"/>
                  </a:lnTo>
                  <a:lnTo>
                    <a:pt x="9721" y="2432"/>
                  </a:lnTo>
                  <a:lnTo>
                    <a:pt x="9721" y="2664"/>
                  </a:lnTo>
                  <a:lnTo>
                    <a:pt x="9953" y="2780"/>
                  </a:lnTo>
                  <a:lnTo>
                    <a:pt x="9953" y="2780"/>
                  </a:lnTo>
                  <a:lnTo>
                    <a:pt x="10069" y="2780"/>
                  </a:lnTo>
                  <a:lnTo>
                    <a:pt x="10184" y="2780"/>
                  </a:lnTo>
                  <a:lnTo>
                    <a:pt x="10300" y="2780"/>
                  </a:lnTo>
                  <a:lnTo>
                    <a:pt x="10531" y="2780"/>
                  </a:lnTo>
                  <a:lnTo>
                    <a:pt x="10647" y="2780"/>
                  </a:lnTo>
                  <a:lnTo>
                    <a:pt x="10763" y="2664"/>
                  </a:lnTo>
                  <a:lnTo>
                    <a:pt x="10763" y="2548"/>
                  </a:lnTo>
                  <a:lnTo>
                    <a:pt x="10879" y="2432"/>
                  </a:lnTo>
                  <a:lnTo>
                    <a:pt x="10879" y="2432"/>
                  </a:lnTo>
                  <a:lnTo>
                    <a:pt x="10763" y="2432"/>
                  </a:lnTo>
                  <a:lnTo>
                    <a:pt x="10763" y="2432"/>
                  </a:lnTo>
                  <a:lnTo>
                    <a:pt x="10994" y="2316"/>
                  </a:lnTo>
                  <a:lnTo>
                    <a:pt x="11110" y="2200"/>
                  </a:lnTo>
                  <a:lnTo>
                    <a:pt x="11226" y="1969"/>
                  </a:lnTo>
                  <a:lnTo>
                    <a:pt x="11342" y="1737"/>
                  </a:lnTo>
                  <a:lnTo>
                    <a:pt x="11457" y="1506"/>
                  </a:lnTo>
                  <a:lnTo>
                    <a:pt x="11689" y="1506"/>
                  </a:lnTo>
                  <a:lnTo>
                    <a:pt x="11805" y="1506"/>
                  </a:lnTo>
                  <a:lnTo>
                    <a:pt x="12036" y="1621"/>
                  </a:lnTo>
                  <a:lnTo>
                    <a:pt x="12036" y="1621"/>
                  </a:lnTo>
                  <a:lnTo>
                    <a:pt x="12036" y="1737"/>
                  </a:lnTo>
                  <a:lnTo>
                    <a:pt x="11920" y="1969"/>
                  </a:lnTo>
                  <a:lnTo>
                    <a:pt x="11920" y="2085"/>
                  </a:lnTo>
                  <a:lnTo>
                    <a:pt x="11805" y="2200"/>
                  </a:lnTo>
                  <a:lnTo>
                    <a:pt x="11805" y="2432"/>
                  </a:lnTo>
                  <a:lnTo>
                    <a:pt x="11805" y="2548"/>
                  </a:lnTo>
                  <a:lnTo>
                    <a:pt x="11920" y="2780"/>
                  </a:lnTo>
                  <a:lnTo>
                    <a:pt x="12036" y="2895"/>
                  </a:lnTo>
                  <a:lnTo>
                    <a:pt x="12036" y="2895"/>
                  </a:lnTo>
                  <a:lnTo>
                    <a:pt x="12152" y="3011"/>
                  </a:lnTo>
                  <a:lnTo>
                    <a:pt x="12267" y="3127"/>
                  </a:lnTo>
                  <a:lnTo>
                    <a:pt x="12383" y="3127"/>
                  </a:lnTo>
                  <a:lnTo>
                    <a:pt x="12499" y="3127"/>
                  </a:lnTo>
                  <a:lnTo>
                    <a:pt x="12615" y="3127"/>
                  </a:lnTo>
                  <a:lnTo>
                    <a:pt x="12730" y="3127"/>
                  </a:lnTo>
                  <a:lnTo>
                    <a:pt x="12846" y="3011"/>
                  </a:lnTo>
                  <a:lnTo>
                    <a:pt x="12962" y="3011"/>
                  </a:lnTo>
                  <a:lnTo>
                    <a:pt x="12962" y="3011"/>
                  </a:lnTo>
                  <a:lnTo>
                    <a:pt x="12846" y="2780"/>
                  </a:lnTo>
                  <a:lnTo>
                    <a:pt x="12962" y="2664"/>
                  </a:lnTo>
                  <a:lnTo>
                    <a:pt x="13078" y="2548"/>
                  </a:lnTo>
                  <a:lnTo>
                    <a:pt x="13193" y="2432"/>
                  </a:lnTo>
                  <a:lnTo>
                    <a:pt x="13309" y="2316"/>
                  </a:lnTo>
                  <a:lnTo>
                    <a:pt x="13425" y="2200"/>
                  </a:lnTo>
                  <a:lnTo>
                    <a:pt x="13541" y="2085"/>
                  </a:lnTo>
                  <a:lnTo>
                    <a:pt x="13656" y="1969"/>
                  </a:lnTo>
                  <a:lnTo>
                    <a:pt x="13656" y="1969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3772" y="2085"/>
                  </a:lnTo>
                  <a:lnTo>
                    <a:pt x="13772" y="2316"/>
                  </a:lnTo>
                  <a:lnTo>
                    <a:pt x="13772" y="2432"/>
                  </a:lnTo>
                  <a:lnTo>
                    <a:pt x="13656" y="2664"/>
                  </a:lnTo>
                  <a:lnTo>
                    <a:pt x="13772" y="2780"/>
                  </a:lnTo>
                  <a:lnTo>
                    <a:pt x="13772" y="2895"/>
                  </a:lnTo>
                  <a:lnTo>
                    <a:pt x="13888" y="3127"/>
                  </a:lnTo>
                  <a:lnTo>
                    <a:pt x="14003" y="3127"/>
                  </a:lnTo>
                  <a:lnTo>
                    <a:pt x="14003" y="3127"/>
                  </a:lnTo>
                  <a:lnTo>
                    <a:pt x="14119" y="3127"/>
                  </a:lnTo>
                  <a:lnTo>
                    <a:pt x="14235" y="3127"/>
                  </a:lnTo>
                  <a:lnTo>
                    <a:pt x="14351" y="3127"/>
                  </a:lnTo>
                  <a:lnTo>
                    <a:pt x="14466" y="3127"/>
                  </a:lnTo>
                  <a:lnTo>
                    <a:pt x="14582" y="3011"/>
                  </a:lnTo>
                  <a:lnTo>
                    <a:pt x="14582" y="3011"/>
                  </a:lnTo>
                  <a:lnTo>
                    <a:pt x="14698" y="2895"/>
                  </a:lnTo>
                  <a:lnTo>
                    <a:pt x="14814" y="2780"/>
                  </a:lnTo>
                  <a:lnTo>
                    <a:pt x="14814" y="2780"/>
                  </a:lnTo>
                  <a:lnTo>
                    <a:pt x="14814" y="2664"/>
                  </a:lnTo>
                  <a:lnTo>
                    <a:pt x="14814" y="2664"/>
                  </a:lnTo>
                  <a:lnTo>
                    <a:pt x="14814" y="2548"/>
                  </a:lnTo>
                  <a:lnTo>
                    <a:pt x="14929" y="2432"/>
                  </a:lnTo>
                  <a:lnTo>
                    <a:pt x="14929" y="2316"/>
                  </a:lnTo>
                  <a:lnTo>
                    <a:pt x="15045" y="2316"/>
                  </a:lnTo>
                  <a:lnTo>
                    <a:pt x="15045" y="2200"/>
                  </a:lnTo>
                  <a:lnTo>
                    <a:pt x="15161" y="2085"/>
                  </a:lnTo>
                  <a:lnTo>
                    <a:pt x="15161" y="2085"/>
                  </a:lnTo>
                  <a:lnTo>
                    <a:pt x="15624" y="2085"/>
                  </a:lnTo>
                  <a:lnTo>
                    <a:pt x="15624" y="2085"/>
                  </a:lnTo>
                  <a:lnTo>
                    <a:pt x="15624" y="2200"/>
                  </a:lnTo>
                  <a:lnTo>
                    <a:pt x="15508" y="2432"/>
                  </a:lnTo>
                  <a:lnTo>
                    <a:pt x="15508" y="2548"/>
                  </a:lnTo>
                  <a:lnTo>
                    <a:pt x="15508" y="2664"/>
                  </a:lnTo>
                  <a:lnTo>
                    <a:pt x="15508" y="2780"/>
                  </a:lnTo>
                  <a:lnTo>
                    <a:pt x="15508" y="2895"/>
                  </a:lnTo>
                  <a:lnTo>
                    <a:pt x="15624" y="3011"/>
                  </a:lnTo>
                  <a:lnTo>
                    <a:pt x="15739" y="3127"/>
                  </a:lnTo>
                  <a:lnTo>
                    <a:pt x="15739" y="3127"/>
                  </a:lnTo>
                  <a:lnTo>
                    <a:pt x="15739" y="3243"/>
                  </a:lnTo>
                  <a:lnTo>
                    <a:pt x="15855" y="3243"/>
                  </a:lnTo>
                  <a:lnTo>
                    <a:pt x="15855" y="3243"/>
                  </a:lnTo>
                  <a:lnTo>
                    <a:pt x="15971" y="3359"/>
                  </a:lnTo>
                  <a:lnTo>
                    <a:pt x="16087" y="3359"/>
                  </a:lnTo>
                  <a:lnTo>
                    <a:pt x="16202" y="3359"/>
                  </a:lnTo>
                  <a:lnTo>
                    <a:pt x="16202" y="3359"/>
                  </a:lnTo>
                  <a:lnTo>
                    <a:pt x="16318" y="3359"/>
                  </a:lnTo>
                  <a:lnTo>
                    <a:pt x="16318" y="3359"/>
                  </a:lnTo>
                  <a:lnTo>
                    <a:pt x="16550" y="3243"/>
                  </a:lnTo>
                  <a:lnTo>
                    <a:pt x="16665" y="3011"/>
                  </a:lnTo>
                  <a:lnTo>
                    <a:pt x="16781" y="2895"/>
                  </a:lnTo>
                  <a:lnTo>
                    <a:pt x="17012" y="2664"/>
                  </a:lnTo>
                  <a:lnTo>
                    <a:pt x="17128" y="2432"/>
                  </a:lnTo>
                  <a:lnTo>
                    <a:pt x="17244" y="2316"/>
                  </a:lnTo>
                  <a:lnTo>
                    <a:pt x="17475" y="2316"/>
                  </a:lnTo>
                  <a:lnTo>
                    <a:pt x="17823" y="2432"/>
                  </a:lnTo>
                  <a:lnTo>
                    <a:pt x="17823" y="2432"/>
                  </a:lnTo>
                  <a:lnTo>
                    <a:pt x="17823" y="2548"/>
                  </a:lnTo>
                  <a:lnTo>
                    <a:pt x="17707" y="2664"/>
                  </a:lnTo>
                  <a:lnTo>
                    <a:pt x="17707" y="2780"/>
                  </a:lnTo>
                  <a:lnTo>
                    <a:pt x="17591" y="2895"/>
                  </a:lnTo>
                  <a:lnTo>
                    <a:pt x="17591" y="3011"/>
                  </a:lnTo>
                  <a:lnTo>
                    <a:pt x="17475" y="3127"/>
                  </a:lnTo>
                  <a:lnTo>
                    <a:pt x="17475" y="3243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707" y="3590"/>
                  </a:lnTo>
                  <a:lnTo>
                    <a:pt x="17707" y="3590"/>
                  </a:lnTo>
                  <a:lnTo>
                    <a:pt x="17823" y="3706"/>
                  </a:lnTo>
                  <a:lnTo>
                    <a:pt x="17938" y="3706"/>
                  </a:lnTo>
                  <a:lnTo>
                    <a:pt x="18054" y="3706"/>
                  </a:lnTo>
                  <a:lnTo>
                    <a:pt x="18170" y="3706"/>
                  </a:lnTo>
                  <a:lnTo>
                    <a:pt x="18286" y="3706"/>
                  </a:lnTo>
                  <a:lnTo>
                    <a:pt x="18286" y="3706"/>
                  </a:lnTo>
                  <a:lnTo>
                    <a:pt x="18401" y="3590"/>
                  </a:lnTo>
                  <a:lnTo>
                    <a:pt x="18517" y="3474"/>
                  </a:lnTo>
                  <a:lnTo>
                    <a:pt x="18748" y="3359"/>
                  </a:lnTo>
                  <a:lnTo>
                    <a:pt x="18864" y="3243"/>
                  </a:lnTo>
                  <a:lnTo>
                    <a:pt x="18980" y="3127"/>
                  </a:lnTo>
                  <a:lnTo>
                    <a:pt x="19096" y="3011"/>
                  </a:lnTo>
                  <a:lnTo>
                    <a:pt x="19211" y="2780"/>
                  </a:lnTo>
                  <a:lnTo>
                    <a:pt x="19327" y="2664"/>
                  </a:lnTo>
                  <a:lnTo>
                    <a:pt x="19327" y="2664"/>
                  </a:lnTo>
                  <a:lnTo>
                    <a:pt x="19559" y="2664"/>
                  </a:lnTo>
                  <a:lnTo>
                    <a:pt x="19559" y="2664"/>
                  </a:lnTo>
                  <a:lnTo>
                    <a:pt x="19559" y="2780"/>
                  </a:lnTo>
                  <a:lnTo>
                    <a:pt x="19559" y="3011"/>
                  </a:lnTo>
                  <a:lnTo>
                    <a:pt x="19559" y="3127"/>
                  </a:lnTo>
                  <a:lnTo>
                    <a:pt x="19443" y="3359"/>
                  </a:lnTo>
                  <a:lnTo>
                    <a:pt x="19443" y="3474"/>
                  </a:lnTo>
                  <a:lnTo>
                    <a:pt x="19559" y="3590"/>
                  </a:lnTo>
                  <a:lnTo>
                    <a:pt x="19674" y="3706"/>
                  </a:lnTo>
                  <a:lnTo>
                    <a:pt x="19790" y="3822"/>
                  </a:lnTo>
                  <a:lnTo>
                    <a:pt x="19790" y="3822"/>
                  </a:lnTo>
                  <a:lnTo>
                    <a:pt x="19906" y="3822"/>
                  </a:lnTo>
                  <a:lnTo>
                    <a:pt x="20022" y="3822"/>
                  </a:lnTo>
                  <a:lnTo>
                    <a:pt x="20137" y="3822"/>
                  </a:lnTo>
                  <a:lnTo>
                    <a:pt x="20253" y="3822"/>
                  </a:lnTo>
                  <a:lnTo>
                    <a:pt x="20369" y="3706"/>
                  </a:lnTo>
                  <a:lnTo>
                    <a:pt x="20484" y="3706"/>
                  </a:lnTo>
                  <a:lnTo>
                    <a:pt x="20600" y="3590"/>
                  </a:lnTo>
                  <a:lnTo>
                    <a:pt x="20716" y="3590"/>
                  </a:lnTo>
                  <a:lnTo>
                    <a:pt x="20716" y="3590"/>
                  </a:lnTo>
                  <a:lnTo>
                    <a:pt x="20600" y="3474"/>
                  </a:lnTo>
                  <a:lnTo>
                    <a:pt x="20600" y="3359"/>
                  </a:lnTo>
                  <a:lnTo>
                    <a:pt x="20716" y="3243"/>
                  </a:lnTo>
                  <a:lnTo>
                    <a:pt x="20716" y="3127"/>
                  </a:lnTo>
                  <a:lnTo>
                    <a:pt x="20832" y="3127"/>
                  </a:lnTo>
                  <a:lnTo>
                    <a:pt x="20832" y="3011"/>
                  </a:lnTo>
                  <a:lnTo>
                    <a:pt x="20947" y="2895"/>
                  </a:lnTo>
                  <a:lnTo>
                    <a:pt x="20947" y="2780"/>
                  </a:lnTo>
                  <a:lnTo>
                    <a:pt x="20947" y="2780"/>
                  </a:lnTo>
                  <a:lnTo>
                    <a:pt x="20947" y="2895"/>
                  </a:lnTo>
                  <a:lnTo>
                    <a:pt x="20947" y="3011"/>
                  </a:lnTo>
                  <a:lnTo>
                    <a:pt x="20947" y="3127"/>
                  </a:lnTo>
                  <a:lnTo>
                    <a:pt x="20947" y="3359"/>
                  </a:lnTo>
                  <a:lnTo>
                    <a:pt x="20832" y="3474"/>
                  </a:lnTo>
                  <a:lnTo>
                    <a:pt x="20832" y="3590"/>
                  </a:lnTo>
                  <a:lnTo>
                    <a:pt x="20832" y="3706"/>
                  </a:lnTo>
                  <a:lnTo>
                    <a:pt x="20832" y="3822"/>
                  </a:lnTo>
                  <a:lnTo>
                    <a:pt x="20832" y="3822"/>
                  </a:lnTo>
                  <a:lnTo>
                    <a:pt x="20947" y="3938"/>
                  </a:lnTo>
                  <a:lnTo>
                    <a:pt x="20947" y="3938"/>
                  </a:lnTo>
                  <a:lnTo>
                    <a:pt x="21063" y="4053"/>
                  </a:lnTo>
                  <a:lnTo>
                    <a:pt x="21179" y="4053"/>
                  </a:lnTo>
                  <a:lnTo>
                    <a:pt x="21295" y="4053"/>
                  </a:lnTo>
                  <a:lnTo>
                    <a:pt x="21295" y="4053"/>
                  </a:lnTo>
                  <a:lnTo>
                    <a:pt x="21410" y="4053"/>
                  </a:lnTo>
                  <a:lnTo>
                    <a:pt x="21526" y="4053"/>
                  </a:lnTo>
                  <a:lnTo>
                    <a:pt x="21526" y="4053"/>
                  </a:lnTo>
                  <a:lnTo>
                    <a:pt x="21642" y="3938"/>
                  </a:lnTo>
                  <a:lnTo>
                    <a:pt x="21642" y="3822"/>
                  </a:lnTo>
                  <a:lnTo>
                    <a:pt x="21758" y="3706"/>
                  </a:lnTo>
                  <a:lnTo>
                    <a:pt x="21873" y="3590"/>
                  </a:lnTo>
                  <a:lnTo>
                    <a:pt x="21989" y="3474"/>
                  </a:lnTo>
                  <a:lnTo>
                    <a:pt x="22105" y="3359"/>
                  </a:lnTo>
                  <a:lnTo>
                    <a:pt x="22105" y="3243"/>
                  </a:lnTo>
                  <a:lnTo>
                    <a:pt x="22220" y="3011"/>
                  </a:lnTo>
                  <a:lnTo>
                    <a:pt x="22220" y="3011"/>
                  </a:lnTo>
                  <a:lnTo>
                    <a:pt x="22105" y="3127"/>
                  </a:lnTo>
                  <a:lnTo>
                    <a:pt x="22105" y="3243"/>
                  </a:lnTo>
                  <a:lnTo>
                    <a:pt x="22105" y="3359"/>
                  </a:lnTo>
                  <a:lnTo>
                    <a:pt x="22105" y="3474"/>
                  </a:lnTo>
                  <a:lnTo>
                    <a:pt x="22105" y="3590"/>
                  </a:lnTo>
                  <a:lnTo>
                    <a:pt x="22105" y="3706"/>
                  </a:lnTo>
                  <a:lnTo>
                    <a:pt x="22105" y="3822"/>
                  </a:lnTo>
                  <a:lnTo>
                    <a:pt x="22220" y="3938"/>
                  </a:lnTo>
                  <a:lnTo>
                    <a:pt x="22220" y="3938"/>
                  </a:lnTo>
                  <a:lnTo>
                    <a:pt x="22336" y="4053"/>
                  </a:lnTo>
                  <a:lnTo>
                    <a:pt x="22452" y="4169"/>
                  </a:lnTo>
                  <a:lnTo>
                    <a:pt x="22568" y="4169"/>
                  </a:lnTo>
                  <a:lnTo>
                    <a:pt x="22683" y="4053"/>
                  </a:lnTo>
                  <a:lnTo>
                    <a:pt x="22799" y="3938"/>
                  </a:lnTo>
                  <a:lnTo>
                    <a:pt x="22915" y="3822"/>
                  </a:lnTo>
                  <a:lnTo>
                    <a:pt x="23031" y="3822"/>
                  </a:lnTo>
                  <a:lnTo>
                    <a:pt x="23146" y="3822"/>
                  </a:lnTo>
                  <a:lnTo>
                    <a:pt x="23146" y="3822"/>
                  </a:lnTo>
                  <a:lnTo>
                    <a:pt x="23146" y="3938"/>
                  </a:lnTo>
                  <a:lnTo>
                    <a:pt x="23146" y="3938"/>
                  </a:lnTo>
                  <a:lnTo>
                    <a:pt x="23146" y="4053"/>
                  </a:lnTo>
                  <a:lnTo>
                    <a:pt x="23146" y="4169"/>
                  </a:lnTo>
                  <a:lnTo>
                    <a:pt x="23146" y="4285"/>
                  </a:lnTo>
                  <a:lnTo>
                    <a:pt x="23262" y="4285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841" y="4285"/>
                  </a:lnTo>
                  <a:lnTo>
                    <a:pt x="23841" y="4285"/>
                  </a:lnTo>
                  <a:lnTo>
                    <a:pt x="23378" y="5906"/>
                  </a:lnTo>
                  <a:lnTo>
                    <a:pt x="22799" y="7528"/>
                  </a:lnTo>
                  <a:lnTo>
                    <a:pt x="22452" y="9265"/>
                  </a:lnTo>
                  <a:lnTo>
                    <a:pt x="21989" y="11002"/>
                  </a:lnTo>
                  <a:lnTo>
                    <a:pt x="21642" y="12739"/>
                  </a:lnTo>
                  <a:lnTo>
                    <a:pt x="21410" y="14476"/>
                  </a:lnTo>
                  <a:lnTo>
                    <a:pt x="21179" y="16213"/>
                  </a:lnTo>
                  <a:lnTo>
                    <a:pt x="21063" y="17951"/>
                  </a:lnTo>
                  <a:lnTo>
                    <a:pt x="21063" y="17951"/>
                  </a:lnTo>
                  <a:lnTo>
                    <a:pt x="18517" y="18414"/>
                  </a:lnTo>
                  <a:lnTo>
                    <a:pt x="15971" y="18877"/>
                  </a:lnTo>
                  <a:lnTo>
                    <a:pt x="13541" y="19456"/>
                  </a:lnTo>
                  <a:lnTo>
                    <a:pt x="11110" y="20035"/>
                  </a:lnTo>
                  <a:lnTo>
                    <a:pt x="8564" y="20614"/>
                  </a:lnTo>
                  <a:lnTo>
                    <a:pt x="6134" y="21077"/>
                  </a:lnTo>
                  <a:lnTo>
                    <a:pt x="3588" y="21656"/>
                  </a:lnTo>
                  <a:lnTo>
                    <a:pt x="926" y="22004"/>
                  </a:lnTo>
                  <a:lnTo>
                    <a:pt x="926" y="22004"/>
                  </a:lnTo>
                  <a:lnTo>
                    <a:pt x="1041" y="21888"/>
                  </a:lnTo>
                  <a:lnTo>
                    <a:pt x="1041" y="21656"/>
                  </a:lnTo>
                  <a:lnTo>
                    <a:pt x="1041" y="21541"/>
                  </a:lnTo>
                  <a:lnTo>
                    <a:pt x="1041" y="21309"/>
                  </a:lnTo>
                  <a:lnTo>
                    <a:pt x="1041" y="21193"/>
                  </a:lnTo>
                  <a:lnTo>
                    <a:pt x="926" y="20962"/>
                  </a:lnTo>
                  <a:lnTo>
                    <a:pt x="926" y="20730"/>
                  </a:lnTo>
                  <a:lnTo>
                    <a:pt x="926" y="20614"/>
                  </a:lnTo>
                  <a:lnTo>
                    <a:pt x="926" y="20614"/>
                  </a:lnTo>
                  <a:lnTo>
                    <a:pt x="810" y="20498"/>
                  </a:lnTo>
                  <a:lnTo>
                    <a:pt x="694" y="20383"/>
                  </a:lnTo>
                  <a:lnTo>
                    <a:pt x="579" y="20267"/>
                  </a:lnTo>
                  <a:lnTo>
                    <a:pt x="463" y="20267"/>
                  </a:lnTo>
                  <a:lnTo>
                    <a:pt x="347" y="20151"/>
                  </a:lnTo>
                  <a:lnTo>
                    <a:pt x="231" y="20151"/>
                  </a:lnTo>
                  <a:lnTo>
                    <a:pt x="116" y="20035"/>
                  </a:lnTo>
                  <a:lnTo>
                    <a:pt x="0" y="20035"/>
                  </a:lnTo>
                  <a:lnTo>
                    <a:pt x="0" y="20035"/>
                  </a:lnTo>
                  <a:lnTo>
                    <a:pt x="347" y="17603"/>
                  </a:lnTo>
                  <a:lnTo>
                    <a:pt x="694" y="15055"/>
                  </a:lnTo>
                  <a:lnTo>
                    <a:pt x="1273" y="12623"/>
                  </a:lnTo>
                  <a:lnTo>
                    <a:pt x="1852" y="10076"/>
                  </a:lnTo>
                  <a:lnTo>
                    <a:pt x="2430" y="7644"/>
                  </a:lnTo>
                  <a:lnTo>
                    <a:pt x="2893" y="5096"/>
                  </a:lnTo>
                  <a:lnTo>
                    <a:pt x="3472" y="2548"/>
                  </a:lnTo>
                  <a:lnTo>
                    <a:pt x="3935" y="0"/>
                  </a:lnTo>
                  <a:lnTo>
                    <a:pt x="3935" y="0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1038240" y="3094200"/>
              <a:ext cx="111600" cy="845280"/>
            </a:xfrm>
            <a:custGeom>
              <a:avLst/>
              <a:gdLst/>
              <a:ahLst/>
              <a:rect l="l" t="t" r="r" b="b"/>
              <a:pathLst>
                <a:path w="3125" h="15750">
                  <a:moveTo>
                    <a:pt x="3125" y="0"/>
                  </a:moveTo>
                  <a:lnTo>
                    <a:pt x="3125" y="347"/>
                  </a:lnTo>
                  <a:lnTo>
                    <a:pt x="3125" y="811"/>
                  </a:lnTo>
                  <a:lnTo>
                    <a:pt x="3009" y="1274"/>
                  </a:lnTo>
                  <a:lnTo>
                    <a:pt x="2894" y="1737"/>
                  </a:lnTo>
                  <a:lnTo>
                    <a:pt x="2894" y="2084"/>
                  </a:lnTo>
                  <a:lnTo>
                    <a:pt x="2778" y="2548"/>
                  </a:lnTo>
                  <a:lnTo>
                    <a:pt x="2662" y="2895"/>
                  </a:lnTo>
                  <a:lnTo>
                    <a:pt x="2546" y="3358"/>
                  </a:lnTo>
                  <a:lnTo>
                    <a:pt x="2546" y="3358"/>
                  </a:lnTo>
                  <a:lnTo>
                    <a:pt x="2199" y="4748"/>
                  </a:lnTo>
                  <a:lnTo>
                    <a:pt x="1968" y="6138"/>
                  </a:lnTo>
                  <a:lnTo>
                    <a:pt x="1736" y="7528"/>
                  </a:lnTo>
                  <a:lnTo>
                    <a:pt x="1389" y="8917"/>
                  </a:lnTo>
                  <a:lnTo>
                    <a:pt x="1158" y="10307"/>
                  </a:lnTo>
                  <a:lnTo>
                    <a:pt x="926" y="11812"/>
                  </a:lnTo>
                  <a:lnTo>
                    <a:pt x="695" y="13086"/>
                  </a:lnTo>
                  <a:lnTo>
                    <a:pt x="463" y="14476"/>
                  </a:lnTo>
                  <a:lnTo>
                    <a:pt x="463" y="14476"/>
                  </a:lnTo>
                  <a:lnTo>
                    <a:pt x="348" y="14592"/>
                  </a:lnTo>
                  <a:lnTo>
                    <a:pt x="348" y="14824"/>
                  </a:lnTo>
                  <a:lnTo>
                    <a:pt x="348" y="14939"/>
                  </a:lnTo>
                  <a:lnTo>
                    <a:pt x="348" y="15055"/>
                  </a:lnTo>
                  <a:lnTo>
                    <a:pt x="232" y="15287"/>
                  </a:lnTo>
                  <a:lnTo>
                    <a:pt x="232" y="15403"/>
                  </a:lnTo>
                  <a:lnTo>
                    <a:pt x="232" y="15518"/>
                  </a:lnTo>
                  <a:lnTo>
                    <a:pt x="232" y="15750"/>
                  </a:lnTo>
                  <a:lnTo>
                    <a:pt x="232" y="15750"/>
                  </a:lnTo>
                  <a:lnTo>
                    <a:pt x="0" y="15750"/>
                  </a:lnTo>
                  <a:lnTo>
                    <a:pt x="0" y="15750"/>
                  </a:lnTo>
                  <a:lnTo>
                    <a:pt x="116" y="14824"/>
                  </a:lnTo>
                  <a:lnTo>
                    <a:pt x="348" y="14013"/>
                  </a:lnTo>
                  <a:lnTo>
                    <a:pt x="463" y="13086"/>
                  </a:lnTo>
                  <a:lnTo>
                    <a:pt x="579" y="12276"/>
                  </a:lnTo>
                  <a:lnTo>
                    <a:pt x="695" y="11349"/>
                  </a:lnTo>
                  <a:lnTo>
                    <a:pt x="810" y="10423"/>
                  </a:lnTo>
                  <a:lnTo>
                    <a:pt x="926" y="9612"/>
                  </a:lnTo>
                  <a:lnTo>
                    <a:pt x="1042" y="8686"/>
                  </a:lnTo>
                  <a:lnTo>
                    <a:pt x="1042" y="8686"/>
                  </a:lnTo>
                  <a:lnTo>
                    <a:pt x="1273" y="7643"/>
                  </a:lnTo>
                  <a:lnTo>
                    <a:pt x="1505" y="6601"/>
                  </a:lnTo>
                  <a:lnTo>
                    <a:pt x="1736" y="5559"/>
                  </a:lnTo>
                  <a:lnTo>
                    <a:pt x="1968" y="4516"/>
                  </a:lnTo>
                  <a:lnTo>
                    <a:pt x="2199" y="3358"/>
                  </a:lnTo>
                  <a:lnTo>
                    <a:pt x="2431" y="2316"/>
                  </a:lnTo>
                  <a:lnTo>
                    <a:pt x="2662" y="1274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1059120" y="3094200"/>
              <a:ext cx="119880" cy="864000"/>
            </a:xfrm>
            <a:custGeom>
              <a:avLst/>
              <a:gdLst/>
              <a:ahLst/>
              <a:rect l="l" t="t" r="r" b="b"/>
              <a:pathLst>
                <a:path w="3356" h="16097">
                  <a:moveTo>
                    <a:pt x="3356" y="0"/>
                  </a:moveTo>
                  <a:lnTo>
                    <a:pt x="3125" y="1390"/>
                  </a:lnTo>
                  <a:lnTo>
                    <a:pt x="2893" y="2779"/>
                  </a:lnTo>
                  <a:lnTo>
                    <a:pt x="2662" y="4053"/>
                  </a:lnTo>
                  <a:lnTo>
                    <a:pt x="2315" y="5443"/>
                  </a:lnTo>
                  <a:lnTo>
                    <a:pt x="2083" y="6833"/>
                  </a:lnTo>
                  <a:lnTo>
                    <a:pt x="1736" y="8107"/>
                  </a:lnTo>
                  <a:lnTo>
                    <a:pt x="1505" y="9496"/>
                  </a:lnTo>
                  <a:lnTo>
                    <a:pt x="1273" y="10770"/>
                  </a:lnTo>
                  <a:lnTo>
                    <a:pt x="1273" y="10770"/>
                  </a:lnTo>
                  <a:lnTo>
                    <a:pt x="1157" y="11002"/>
                  </a:lnTo>
                  <a:lnTo>
                    <a:pt x="1157" y="11233"/>
                  </a:lnTo>
                  <a:lnTo>
                    <a:pt x="1042" y="11465"/>
                  </a:lnTo>
                  <a:lnTo>
                    <a:pt x="1042" y="11697"/>
                  </a:lnTo>
                  <a:lnTo>
                    <a:pt x="926" y="11928"/>
                  </a:lnTo>
                  <a:lnTo>
                    <a:pt x="926" y="12276"/>
                  </a:lnTo>
                  <a:lnTo>
                    <a:pt x="926" y="12507"/>
                  </a:lnTo>
                  <a:lnTo>
                    <a:pt x="810" y="12739"/>
                  </a:lnTo>
                  <a:lnTo>
                    <a:pt x="810" y="12739"/>
                  </a:lnTo>
                  <a:lnTo>
                    <a:pt x="926" y="13086"/>
                  </a:lnTo>
                  <a:lnTo>
                    <a:pt x="810" y="13550"/>
                  </a:lnTo>
                  <a:lnTo>
                    <a:pt x="810" y="13897"/>
                  </a:lnTo>
                  <a:lnTo>
                    <a:pt x="694" y="14360"/>
                  </a:lnTo>
                  <a:lnTo>
                    <a:pt x="579" y="14824"/>
                  </a:lnTo>
                  <a:lnTo>
                    <a:pt x="463" y="15171"/>
                  </a:lnTo>
                  <a:lnTo>
                    <a:pt x="463" y="15634"/>
                  </a:lnTo>
                  <a:lnTo>
                    <a:pt x="463" y="16097"/>
                  </a:lnTo>
                  <a:lnTo>
                    <a:pt x="463" y="16097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347" y="13897"/>
                  </a:lnTo>
                  <a:lnTo>
                    <a:pt x="694" y="11928"/>
                  </a:lnTo>
                  <a:lnTo>
                    <a:pt x="1042" y="9960"/>
                  </a:lnTo>
                  <a:lnTo>
                    <a:pt x="1389" y="7875"/>
                  </a:lnTo>
                  <a:lnTo>
                    <a:pt x="1852" y="5906"/>
                  </a:lnTo>
                  <a:lnTo>
                    <a:pt x="2199" y="3937"/>
                  </a:lnTo>
                  <a:lnTo>
                    <a:pt x="2546" y="1969"/>
                  </a:lnTo>
                  <a:lnTo>
                    <a:pt x="2893" y="0"/>
                  </a:lnTo>
                  <a:lnTo>
                    <a:pt x="2893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240" y="0"/>
                  </a:lnTo>
                  <a:lnTo>
                    <a:pt x="3240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1067040" y="3094200"/>
              <a:ext cx="144720" cy="1087920"/>
            </a:xfrm>
            <a:custGeom>
              <a:avLst/>
              <a:gdLst/>
              <a:ahLst/>
              <a:rect l="l" t="t" r="r" b="b"/>
              <a:pathLst>
                <a:path w="4051" h="20267">
                  <a:moveTo>
                    <a:pt x="3704" y="116"/>
                  </a:moveTo>
                  <a:lnTo>
                    <a:pt x="3935" y="0"/>
                  </a:lnTo>
                  <a:lnTo>
                    <a:pt x="4051" y="232"/>
                  </a:lnTo>
                  <a:lnTo>
                    <a:pt x="4051" y="232"/>
                  </a:lnTo>
                  <a:lnTo>
                    <a:pt x="3588" y="2779"/>
                  </a:lnTo>
                  <a:lnTo>
                    <a:pt x="3009" y="5211"/>
                  </a:lnTo>
                  <a:lnTo>
                    <a:pt x="2547" y="7643"/>
                  </a:lnTo>
                  <a:lnTo>
                    <a:pt x="1968" y="10075"/>
                  </a:lnTo>
                  <a:lnTo>
                    <a:pt x="1389" y="12623"/>
                  </a:lnTo>
                  <a:lnTo>
                    <a:pt x="926" y="15055"/>
                  </a:lnTo>
                  <a:lnTo>
                    <a:pt x="579" y="17603"/>
                  </a:lnTo>
                  <a:lnTo>
                    <a:pt x="348" y="20035"/>
                  </a:lnTo>
                  <a:lnTo>
                    <a:pt x="348" y="20035"/>
                  </a:lnTo>
                  <a:lnTo>
                    <a:pt x="348" y="20151"/>
                  </a:lnTo>
                  <a:lnTo>
                    <a:pt x="232" y="20151"/>
                  </a:lnTo>
                  <a:lnTo>
                    <a:pt x="232" y="20151"/>
                  </a:lnTo>
                  <a:lnTo>
                    <a:pt x="116" y="20151"/>
                  </a:lnTo>
                  <a:lnTo>
                    <a:pt x="116" y="20151"/>
                  </a:lnTo>
                  <a:lnTo>
                    <a:pt x="116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348" y="18761"/>
                  </a:lnTo>
                  <a:lnTo>
                    <a:pt x="579" y="17140"/>
                  </a:lnTo>
                  <a:lnTo>
                    <a:pt x="695" y="15634"/>
                  </a:lnTo>
                  <a:lnTo>
                    <a:pt x="926" y="14129"/>
                  </a:lnTo>
                  <a:lnTo>
                    <a:pt x="1042" y="12507"/>
                  </a:lnTo>
                  <a:lnTo>
                    <a:pt x="1158" y="11002"/>
                  </a:lnTo>
                  <a:lnTo>
                    <a:pt x="1505" y="9496"/>
                  </a:lnTo>
                  <a:lnTo>
                    <a:pt x="1852" y="7991"/>
                  </a:lnTo>
                  <a:lnTo>
                    <a:pt x="1852" y="7991"/>
                  </a:lnTo>
                  <a:lnTo>
                    <a:pt x="1968" y="6948"/>
                  </a:lnTo>
                  <a:lnTo>
                    <a:pt x="2199" y="5906"/>
                  </a:lnTo>
                  <a:lnTo>
                    <a:pt x="2431" y="4980"/>
                  </a:lnTo>
                  <a:lnTo>
                    <a:pt x="2778" y="4053"/>
                  </a:lnTo>
                  <a:lnTo>
                    <a:pt x="3009" y="3011"/>
                  </a:lnTo>
                  <a:lnTo>
                    <a:pt x="3241" y="2084"/>
                  </a:lnTo>
                  <a:lnTo>
                    <a:pt x="3472" y="1042"/>
                  </a:lnTo>
                  <a:lnTo>
                    <a:pt x="3588" y="0"/>
                  </a:lnTo>
                  <a:lnTo>
                    <a:pt x="3588" y="0"/>
                  </a:lnTo>
                  <a:lnTo>
                    <a:pt x="3704" y="0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1712880" y="3106800"/>
              <a:ext cx="57600" cy="142920"/>
            </a:xfrm>
            <a:custGeom>
              <a:avLst/>
              <a:gdLst/>
              <a:ahLst/>
              <a:rect l="l" t="t" r="r" b="b"/>
              <a:pathLst>
                <a:path w="1620" h="2663">
                  <a:moveTo>
                    <a:pt x="1620" y="810"/>
                  </a:moveTo>
                  <a:lnTo>
                    <a:pt x="1620" y="1042"/>
                  </a:lnTo>
                  <a:lnTo>
                    <a:pt x="1620" y="1158"/>
                  </a:lnTo>
                  <a:lnTo>
                    <a:pt x="1620" y="1389"/>
                  </a:lnTo>
                  <a:lnTo>
                    <a:pt x="1620" y="1621"/>
                  </a:lnTo>
                  <a:lnTo>
                    <a:pt x="1620" y="1852"/>
                  </a:lnTo>
                  <a:lnTo>
                    <a:pt x="1504" y="1968"/>
                  </a:lnTo>
                  <a:lnTo>
                    <a:pt x="1388" y="2200"/>
                  </a:lnTo>
                  <a:lnTo>
                    <a:pt x="1388" y="2316"/>
                  </a:lnTo>
                  <a:lnTo>
                    <a:pt x="1388" y="2316"/>
                  </a:lnTo>
                  <a:lnTo>
                    <a:pt x="1273" y="2432"/>
                  </a:lnTo>
                  <a:lnTo>
                    <a:pt x="1157" y="2432"/>
                  </a:lnTo>
                  <a:lnTo>
                    <a:pt x="1157" y="2547"/>
                  </a:lnTo>
                  <a:lnTo>
                    <a:pt x="1041" y="2547"/>
                  </a:lnTo>
                  <a:lnTo>
                    <a:pt x="1041" y="2663"/>
                  </a:lnTo>
                  <a:lnTo>
                    <a:pt x="926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926" y="2432"/>
                  </a:lnTo>
                  <a:lnTo>
                    <a:pt x="926" y="2200"/>
                  </a:lnTo>
                  <a:lnTo>
                    <a:pt x="1041" y="1968"/>
                  </a:lnTo>
                  <a:lnTo>
                    <a:pt x="1157" y="1737"/>
                  </a:lnTo>
                  <a:lnTo>
                    <a:pt x="1157" y="1505"/>
                  </a:lnTo>
                  <a:lnTo>
                    <a:pt x="1157" y="1158"/>
                  </a:lnTo>
                  <a:lnTo>
                    <a:pt x="1041" y="926"/>
                  </a:lnTo>
                  <a:lnTo>
                    <a:pt x="1041" y="694"/>
                  </a:lnTo>
                  <a:lnTo>
                    <a:pt x="1041" y="694"/>
                  </a:lnTo>
                  <a:lnTo>
                    <a:pt x="926" y="579"/>
                  </a:lnTo>
                  <a:lnTo>
                    <a:pt x="810" y="463"/>
                  </a:lnTo>
                  <a:lnTo>
                    <a:pt x="694" y="347"/>
                  </a:lnTo>
                  <a:lnTo>
                    <a:pt x="578" y="347"/>
                  </a:lnTo>
                  <a:lnTo>
                    <a:pt x="463" y="231"/>
                  </a:lnTo>
                  <a:lnTo>
                    <a:pt x="231" y="231"/>
                  </a:lnTo>
                  <a:lnTo>
                    <a:pt x="115" y="231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5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5"/>
                  </a:lnTo>
                  <a:lnTo>
                    <a:pt x="1273" y="347"/>
                  </a:lnTo>
                  <a:lnTo>
                    <a:pt x="1504" y="579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1783080" y="3125520"/>
              <a:ext cx="41040" cy="136800"/>
            </a:xfrm>
            <a:custGeom>
              <a:avLst/>
              <a:gdLst/>
              <a:ahLst/>
              <a:rect l="l" t="t" r="r" b="b"/>
              <a:pathLst>
                <a:path w="1157" h="2548">
                  <a:moveTo>
                    <a:pt x="1042" y="811"/>
                  </a:moveTo>
                  <a:lnTo>
                    <a:pt x="1042" y="926"/>
                  </a:lnTo>
                  <a:lnTo>
                    <a:pt x="1157" y="1158"/>
                  </a:lnTo>
                  <a:lnTo>
                    <a:pt x="1157" y="1274"/>
                  </a:lnTo>
                  <a:lnTo>
                    <a:pt x="1157" y="1505"/>
                  </a:lnTo>
                  <a:lnTo>
                    <a:pt x="1157" y="1621"/>
                  </a:lnTo>
                  <a:lnTo>
                    <a:pt x="1157" y="1853"/>
                  </a:lnTo>
                  <a:lnTo>
                    <a:pt x="1157" y="1969"/>
                  </a:lnTo>
                  <a:lnTo>
                    <a:pt x="1042" y="2200"/>
                  </a:lnTo>
                  <a:lnTo>
                    <a:pt x="1042" y="2200"/>
                  </a:lnTo>
                  <a:lnTo>
                    <a:pt x="695" y="2548"/>
                  </a:lnTo>
                  <a:lnTo>
                    <a:pt x="695" y="2548"/>
                  </a:lnTo>
                  <a:lnTo>
                    <a:pt x="695" y="2200"/>
                  </a:lnTo>
                  <a:lnTo>
                    <a:pt x="695" y="1969"/>
                  </a:lnTo>
                  <a:lnTo>
                    <a:pt x="810" y="1621"/>
                  </a:lnTo>
                  <a:lnTo>
                    <a:pt x="810" y="1274"/>
                  </a:lnTo>
                  <a:lnTo>
                    <a:pt x="810" y="1042"/>
                  </a:lnTo>
                  <a:lnTo>
                    <a:pt x="695" y="811"/>
                  </a:lnTo>
                  <a:lnTo>
                    <a:pt x="463" y="579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810" y="347"/>
                  </a:lnTo>
                  <a:lnTo>
                    <a:pt x="926" y="463"/>
                  </a:lnTo>
                  <a:lnTo>
                    <a:pt x="926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32760" y="3137760"/>
              <a:ext cx="41040" cy="130320"/>
            </a:xfrm>
            <a:custGeom>
              <a:avLst/>
              <a:gdLst/>
              <a:ahLst/>
              <a:rect l="l" t="t" r="r" b="b"/>
              <a:pathLst>
                <a:path w="1157" h="2432">
                  <a:moveTo>
                    <a:pt x="1157" y="926"/>
                  </a:moveTo>
                  <a:lnTo>
                    <a:pt x="1157" y="1158"/>
                  </a:lnTo>
                  <a:lnTo>
                    <a:pt x="1157" y="1389"/>
                  </a:lnTo>
                  <a:lnTo>
                    <a:pt x="1157" y="1505"/>
                  </a:lnTo>
                  <a:lnTo>
                    <a:pt x="1157" y="1737"/>
                  </a:lnTo>
                  <a:lnTo>
                    <a:pt x="1042" y="1968"/>
                  </a:lnTo>
                  <a:lnTo>
                    <a:pt x="926" y="2200"/>
                  </a:lnTo>
                  <a:lnTo>
                    <a:pt x="810" y="2316"/>
                  </a:lnTo>
                  <a:lnTo>
                    <a:pt x="579" y="2432"/>
                  </a:lnTo>
                  <a:lnTo>
                    <a:pt x="579" y="2432"/>
                  </a:lnTo>
                  <a:lnTo>
                    <a:pt x="694" y="2316"/>
                  </a:lnTo>
                  <a:lnTo>
                    <a:pt x="694" y="2200"/>
                  </a:lnTo>
                  <a:lnTo>
                    <a:pt x="694" y="1968"/>
                  </a:lnTo>
                  <a:lnTo>
                    <a:pt x="810" y="1853"/>
                  </a:lnTo>
                  <a:lnTo>
                    <a:pt x="810" y="1621"/>
                  </a:lnTo>
                  <a:lnTo>
                    <a:pt x="926" y="1389"/>
                  </a:lnTo>
                  <a:lnTo>
                    <a:pt x="926" y="1273"/>
                  </a:lnTo>
                  <a:lnTo>
                    <a:pt x="810" y="1042"/>
                  </a:lnTo>
                  <a:lnTo>
                    <a:pt x="810" y="1042"/>
                  </a:lnTo>
                  <a:lnTo>
                    <a:pt x="810" y="926"/>
                  </a:lnTo>
                  <a:lnTo>
                    <a:pt x="694" y="810"/>
                  </a:lnTo>
                  <a:lnTo>
                    <a:pt x="463" y="694"/>
                  </a:lnTo>
                  <a:lnTo>
                    <a:pt x="347" y="579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23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7" y="0"/>
                  </a:lnTo>
                  <a:lnTo>
                    <a:pt x="579" y="115"/>
                  </a:lnTo>
                  <a:lnTo>
                    <a:pt x="694" y="231"/>
                  </a:lnTo>
                  <a:lnTo>
                    <a:pt x="810" y="347"/>
                  </a:lnTo>
                  <a:lnTo>
                    <a:pt x="926" y="579"/>
                  </a:lnTo>
                  <a:lnTo>
                    <a:pt x="1042" y="810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1890720" y="3156480"/>
              <a:ext cx="28800" cy="111600"/>
            </a:xfrm>
            <a:custGeom>
              <a:avLst/>
              <a:gdLst/>
              <a:ahLst/>
              <a:rect l="l" t="t" r="r" b="b"/>
              <a:pathLst>
                <a:path w="810" h="2085">
                  <a:moveTo>
                    <a:pt x="810" y="579"/>
                  </a:moveTo>
                  <a:lnTo>
                    <a:pt x="810" y="811"/>
                  </a:lnTo>
                  <a:lnTo>
                    <a:pt x="810" y="1042"/>
                  </a:lnTo>
                  <a:lnTo>
                    <a:pt x="810" y="1158"/>
                  </a:lnTo>
                  <a:lnTo>
                    <a:pt x="810" y="1390"/>
                  </a:lnTo>
                  <a:lnTo>
                    <a:pt x="695" y="1621"/>
                  </a:lnTo>
                  <a:lnTo>
                    <a:pt x="695" y="1737"/>
                  </a:lnTo>
                  <a:lnTo>
                    <a:pt x="579" y="1969"/>
                  </a:lnTo>
                  <a:lnTo>
                    <a:pt x="347" y="2085"/>
                  </a:lnTo>
                  <a:lnTo>
                    <a:pt x="347" y="2085"/>
                  </a:lnTo>
                  <a:lnTo>
                    <a:pt x="463" y="1969"/>
                  </a:lnTo>
                  <a:lnTo>
                    <a:pt x="463" y="1737"/>
                  </a:lnTo>
                  <a:lnTo>
                    <a:pt x="579" y="1506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1"/>
                  </a:lnTo>
                  <a:lnTo>
                    <a:pt x="579" y="579"/>
                  </a:lnTo>
                  <a:lnTo>
                    <a:pt x="347" y="347"/>
                  </a:lnTo>
                  <a:lnTo>
                    <a:pt x="347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2" y="0"/>
                  </a:lnTo>
                  <a:lnTo>
                    <a:pt x="347" y="0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695" y="347"/>
                  </a:lnTo>
                  <a:lnTo>
                    <a:pt x="695" y="463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1932120" y="3169080"/>
              <a:ext cx="37080" cy="118080"/>
            </a:xfrm>
            <a:custGeom>
              <a:avLst/>
              <a:gdLst/>
              <a:ahLst/>
              <a:rect l="l" t="t" r="r" b="b"/>
              <a:pathLst>
                <a:path w="1042" h="2200">
                  <a:moveTo>
                    <a:pt x="1042" y="694"/>
                  </a:moveTo>
                  <a:lnTo>
                    <a:pt x="1042" y="926"/>
                  </a:lnTo>
                  <a:lnTo>
                    <a:pt x="1042" y="1042"/>
                  </a:lnTo>
                  <a:lnTo>
                    <a:pt x="1042" y="1274"/>
                  </a:lnTo>
                  <a:lnTo>
                    <a:pt x="926" y="1505"/>
                  </a:lnTo>
                  <a:lnTo>
                    <a:pt x="926" y="1737"/>
                  </a:lnTo>
                  <a:lnTo>
                    <a:pt x="811" y="1853"/>
                  </a:lnTo>
                  <a:lnTo>
                    <a:pt x="579" y="2084"/>
                  </a:lnTo>
                  <a:lnTo>
                    <a:pt x="463" y="2200"/>
                  </a:lnTo>
                  <a:lnTo>
                    <a:pt x="463" y="2200"/>
                  </a:lnTo>
                  <a:lnTo>
                    <a:pt x="116" y="2200"/>
                  </a:lnTo>
                  <a:lnTo>
                    <a:pt x="116" y="2200"/>
                  </a:lnTo>
                  <a:lnTo>
                    <a:pt x="232" y="1968"/>
                  </a:lnTo>
                  <a:lnTo>
                    <a:pt x="348" y="1737"/>
                  </a:lnTo>
                  <a:lnTo>
                    <a:pt x="463" y="1621"/>
                  </a:lnTo>
                  <a:lnTo>
                    <a:pt x="463" y="1389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0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8" y="0"/>
                  </a:lnTo>
                  <a:lnTo>
                    <a:pt x="463" y="0"/>
                  </a:lnTo>
                  <a:lnTo>
                    <a:pt x="579" y="115"/>
                  </a:lnTo>
                  <a:lnTo>
                    <a:pt x="811" y="231"/>
                  </a:lnTo>
                  <a:lnTo>
                    <a:pt x="926" y="347"/>
                  </a:lnTo>
                  <a:lnTo>
                    <a:pt x="1042" y="579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1340280" y="3312000"/>
              <a:ext cx="223200" cy="397800"/>
            </a:xfrm>
            <a:custGeom>
              <a:avLst/>
              <a:gdLst/>
              <a:ahLst/>
              <a:rect l="l" t="t" r="r" b="b"/>
              <a:pathLst>
                <a:path w="6249" h="7412">
                  <a:moveTo>
                    <a:pt x="5439" y="1969"/>
                  </a:moveTo>
                  <a:lnTo>
                    <a:pt x="5439" y="2085"/>
                  </a:lnTo>
                  <a:lnTo>
                    <a:pt x="5555" y="2085"/>
                  </a:lnTo>
                  <a:lnTo>
                    <a:pt x="5555" y="2085"/>
                  </a:lnTo>
                  <a:lnTo>
                    <a:pt x="5671" y="2085"/>
                  </a:lnTo>
                  <a:lnTo>
                    <a:pt x="5671" y="2085"/>
                  </a:lnTo>
                  <a:lnTo>
                    <a:pt x="5786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853"/>
                  </a:lnTo>
                  <a:lnTo>
                    <a:pt x="6018" y="1853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249" y="1737"/>
                  </a:lnTo>
                  <a:lnTo>
                    <a:pt x="6249" y="1737"/>
                  </a:lnTo>
                  <a:lnTo>
                    <a:pt x="6249" y="1853"/>
                  </a:lnTo>
                  <a:lnTo>
                    <a:pt x="6249" y="1969"/>
                  </a:lnTo>
                  <a:lnTo>
                    <a:pt x="6249" y="2085"/>
                  </a:lnTo>
                  <a:lnTo>
                    <a:pt x="6134" y="2201"/>
                  </a:lnTo>
                  <a:lnTo>
                    <a:pt x="6018" y="2316"/>
                  </a:lnTo>
                  <a:lnTo>
                    <a:pt x="5902" y="2432"/>
                  </a:lnTo>
                  <a:lnTo>
                    <a:pt x="5786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3127"/>
                  </a:lnTo>
                  <a:lnTo>
                    <a:pt x="5555" y="3822"/>
                  </a:lnTo>
                  <a:lnTo>
                    <a:pt x="5555" y="4401"/>
                  </a:lnTo>
                  <a:lnTo>
                    <a:pt x="5323" y="4980"/>
                  </a:lnTo>
                  <a:lnTo>
                    <a:pt x="5208" y="5675"/>
                  </a:lnTo>
                  <a:lnTo>
                    <a:pt x="4861" y="6138"/>
                  </a:lnTo>
                  <a:lnTo>
                    <a:pt x="4398" y="6601"/>
                  </a:lnTo>
                  <a:lnTo>
                    <a:pt x="3935" y="7065"/>
                  </a:lnTo>
                  <a:lnTo>
                    <a:pt x="3935" y="7065"/>
                  </a:lnTo>
                  <a:lnTo>
                    <a:pt x="3703" y="7180"/>
                  </a:lnTo>
                  <a:lnTo>
                    <a:pt x="3356" y="7296"/>
                  </a:lnTo>
                  <a:lnTo>
                    <a:pt x="3125" y="7412"/>
                  </a:lnTo>
                  <a:lnTo>
                    <a:pt x="2893" y="7412"/>
                  </a:lnTo>
                  <a:lnTo>
                    <a:pt x="2546" y="7412"/>
                  </a:lnTo>
                  <a:lnTo>
                    <a:pt x="2199" y="7412"/>
                  </a:lnTo>
                  <a:lnTo>
                    <a:pt x="1967" y="7296"/>
                  </a:lnTo>
                  <a:lnTo>
                    <a:pt x="1620" y="7296"/>
                  </a:lnTo>
                  <a:lnTo>
                    <a:pt x="1620" y="7296"/>
                  </a:lnTo>
                  <a:lnTo>
                    <a:pt x="1389" y="7180"/>
                  </a:lnTo>
                  <a:lnTo>
                    <a:pt x="1157" y="7065"/>
                  </a:lnTo>
                  <a:lnTo>
                    <a:pt x="926" y="6949"/>
                  </a:lnTo>
                  <a:lnTo>
                    <a:pt x="694" y="6717"/>
                  </a:lnTo>
                  <a:lnTo>
                    <a:pt x="578" y="6601"/>
                  </a:lnTo>
                  <a:lnTo>
                    <a:pt x="347" y="6370"/>
                  </a:lnTo>
                  <a:lnTo>
                    <a:pt x="231" y="6138"/>
                  </a:lnTo>
                  <a:lnTo>
                    <a:pt x="116" y="5907"/>
                  </a:lnTo>
                  <a:lnTo>
                    <a:pt x="116" y="5907"/>
                  </a:lnTo>
                  <a:lnTo>
                    <a:pt x="0" y="5559"/>
                  </a:lnTo>
                  <a:lnTo>
                    <a:pt x="0" y="5096"/>
                  </a:lnTo>
                  <a:lnTo>
                    <a:pt x="0" y="4748"/>
                  </a:lnTo>
                  <a:lnTo>
                    <a:pt x="0" y="4285"/>
                  </a:lnTo>
                  <a:lnTo>
                    <a:pt x="0" y="3938"/>
                  </a:lnTo>
                  <a:lnTo>
                    <a:pt x="116" y="3590"/>
                  </a:lnTo>
                  <a:lnTo>
                    <a:pt x="347" y="3243"/>
                  </a:lnTo>
                  <a:lnTo>
                    <a:pt x="578" y="2895"/>
                  </a:lnTo>
                  <a:lnTo>
                    <a:pt x="578" y="2895"/>
                  </a:lnTo>
                  <a:lnTo>
                    <a:pt x="926" y="2432"/>
                  </a:lnTo>
                  <a:lnTo>
                    <a:pt x="1273" y="2085"/>
                  </a:lnTo>
                  <a:lnTo>
                    <a:pt x="1736" y="1853"/>
                  </a:lnTo>
                  <a:lnTo>
                    <a:pt x="2083" y="1622"/>
                  </a:lnTo>
                  <a:lnTo>
                    <a:pt x="2546" y="1390"/>
                  </a:lnTo>
                  <a:lnTo>
                    <a:pt x="3009" y="1274"/>
                  </a:lnTo>
                  <a:lnTo>
                    <a:pt x="3587" y="1158"/>
                  </a:lnTo>
                  <a:lnTo>
                    <a:pt x="4050" y="1158"/>
                  </a:lnTo>
                  <a:lnTo>
                    <a:pt x="4050" y="1158"/>
                  </a:lnTo>
                  <a:lnTo>
                    <a:pt x="3587" y="927"/>
                  </a:lnTo>
                  <a:lnTo>
                    <a:pt x="3240" y="811"/>
                  </a:lnTo>
                  <a:lnTo>
                    <a:pt x="2777" y="579"/>
                  </a:lnTo>
                  <a:lnTo>
                    <a:pt x="2314" y="463"/>
                  </a:lnTo>
                  <a:lnTo>
                    <a:pt x="1851" y="463"/>
                  </a:lnTo>
                  <a:lnTo>
                    <a:pt x="1389" y="463"/>
                  </a:lnTo>
                  <a:lnTo>
                    <a:pt x="926" y="579"/>
                  </a:lnTo>
                  <a:lnTo>
                    <a:pt x="578" y="695"/>
                  </a:lnTo>
                  <a:lnTo>
                    <a:pt x="578" y="695"/>
                  </a:lnTo>
                  <a:lnTo>
                    <a:pt x="578" y="463"/>
                  </a:lnTo>
                  <a:lnTo>
                    <a:pt x="694" y="348"/>
                  </a:lnTo>
                  <a:lnTo>
                    <a:pt x="926" y="232"/>
                  </a:lnTo>
                  <a:lnTo>
                    <a:pt x="1041" y="116"/>
                  </a:lnTo>
                  <a:lnTo>
                    <a:pt x="1273" y="116"/>
                  </a:lnTo>
                  <a:lnTo>
                    <a:pt x="1504" y="0"/>
                  </a:lnTo>
                  <a:lnTo>
                    <a:pt x="1620" y="0"/>
                  </a:lnTo>
                  <a:lnTo>
                    <a:pt x="1851" y="0"/>
                  </a:lnTo>
                  <a:lnTo>
                    <a:pt x="1851" y="0"/>
                  </a:lnTo>
                  <a:lnTo>
                    <a:pt x="2314" y="116"/>
                  </a:lnTo>
                  <a:lnTo>
                    <a:pt x="2777" y="232"/>
                  </a:lnTo>
                  <a:lnTo>
                    <a:pt x="3356" y="463"/>
                  </a:lnTo>
                  <a:lnTo>
                    <a:pt x="3819" y="579"/>
                  </a:lnTo>
                  <a:lnTo>
                    <a:pt x="4282" y="811"/>
                  </a:lnTo>
                  <a:lnTo>
                    <a:pt x="4745" y="1043"/>
                  </a:lnTo>
                  <a:lnTo>
                    <a:pt x="5092" y="1506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1572120" y="3367800"/>
              <a:ext cx="186120" cy="410040"/>
            </a:xfrm>
            <a:custGeom>
              <a:avLst/>
              <a:gdLst/>
              <a:ahLst/>
              <a:rect l="l" t="t" r="r" b="b"/>
              <a:pathLst>
                <a:path w="5208" h="7643">
                  <a:moveTo>
                    <a:pt x="4976" y="347"/>
                  </a:moveTo>
                  <a:lnTo>
                    <a:pt x="4976" y="347"/>
                  </a:lnTo>
                  <a:lnTo>
                    <a:pt x="4861" y="347"/>
                  </a:lnTo>
                  <a:lnTo>
                    <a:pt x="4745" y="347"/>
                  </a:lnTo>
                  <a:lnTo>
                    <a:pt x="4629" y="347"/>
                  </a:lnTo>
                  <a:lnTo>
                    <a:pt x="4513" y="347"/>
                  </a:lnTo>
                  <a:lnTo>
                    <a:pt x="4398" y="347"/>
                  </a:lnTo>
                  <a:lnTo>
                    <a:pt x="4282" y="231"/>
                  </a:lnTo>
                  <a:lnTo>
                    <a:pt x="4166" y="347"/>
                  </a:lnTo>
                  <a:lnTo>
                    <a:pt x="4166" y="347"/>
                  </a:lnTo>
                  <a:lnTo>
                    <a:pt x="4050" y="347"/>
                  </a:lnTo>
                  <a:lnTo>
                    <a:pt x="3819" y="463"/>
                  </a:lnTo>
                  <a:lnTo>
                    <a:pt x="3703" y="463"/>
                  </a:lnTo>
                  <a:lnTo>
                    <a:pt x="3472" y="579"/>
                  </a:lnTo>
                  <a:lnTo>
                    <a:pt x="3356" y="579"/>
                  </a:lnTo>
                  <a:lnTo>
                    <a:pt x="3240" y="694"/>
                  </a:lnTo>
                  <a:lnTo>
                    <a:pt x="3009" y="810"/>
                  </a:lnTo>
                  <a:lnTo>
                    <a:pt x="2893" y="926"/>
                  </a:lnTo>
                  <a:lnTo>
                    <a:pt x="2893" y="926"/>
                  </a:lnTo>
                  <a:lnTo>
                    <a:pt x="3240" y="926"/>
                  </a:lnTo>
                  <a:lnTo>
                    <a:pt x="3472" y="1042"/>
                  </a:lnTo>
                  <a:lnTo>
                    <a:pt x="3819" y="1158"/>
                  </a:lnTo>
                  <a:lnTo>
                    <a:pt x="4050" y="1273"/>
                  </a:lnTo>
                  <a:lnTo>
                    <a:pt x="4282" y="1389"/>
                  </a:lnTo>
                  <a:lnTo>
                    <a:pt x="4513" y="1621"/>
                  </a:lnTo>
                  <a:lnTo>
                    <a:pt x="4745" y="1852"/>
                  </a:lnTo>
                  <a:lnTo>
                    <a:pt x="4976" y="2084"/>
                  </a:lnTo>
                  <a:lnTo>
                    <a:pt x="4976" y="2084"/>
                  </a:lnTo>
                  <a:lnTo>
                    <a:pt x="5092" y="2663"/>
                  </a:lnTo>
                  <a:lnTo>
                    <a:pt x="5208" y="3242"/>
                  </a:lnTo>
                  <a:lnTo>
                    <a:pt x="5208" y="3821"/>
                  </a:lnTo>
                  <a:lnTo>
                    <a:pt x="5092" y="4400"/>
                  </a:lnTo>
                  <a:lnTo>
                    <a:pt x="4976" y="4979"/>
                  </a:lnTo>
                  <a:lnTo>
                    <a:pt x="4745" y="5558"/>
                  </a:lnTo>
                  <a:lnTo>
                    <a:pt x="4513" y="6137"/>
                  </a:lnTo>
                  <a:lnTo>
                    <a:pt x="4166" y="6601"/>
                  </a:lnTo>
                  <a:lnTo>
                    <a:pt x="4166" y="6601"/>
                  </a:lnTo>
                  <a:lnTo>
                    <a:pt x="3819" y="6948"/>
                  </a:lnTo>
                  <a:lnTo>
                    <a:pt x="3472" y="7180"/>
                  </a:lnTo>
                  <a:lnTo>
                    <a:pt x="3125" y="7411"/>
                  </a:lnTo>
                  <a:lnTo>
                    <a:pt x="2662" y="7527"/>
                  </a:lnTo>
                  <a:lnTo>
                    <a:pt x="2199" y="7643"/>
                  </a:lnTo>
                  <a:lnTo>
                    <a:pt x="1736" y="7643"/>
                  </a:lnTo>
                  <a:lnTo>
                    <a:pt x="1273" y="7643"/>
                  </a:lnTo>
                  <a:lnTo>
                    <a:pt x="810" y="7527"/>
                  </a:lnTo>
                  <a:lnTo>
                    <a:pt x="810" y="7527"/>
                  </a:lnTo>
                  <a:lnTo>
                    <a:pt x="463" y="7064"/>
                  </a:lnTo>
                  <a:lnTo>
                    <a:pt x="231" y="6485"/>
                  </a:lnTo>
                  <a:lnTo>
                    <a:pt x="0" y="5906"/>
                  </a:lnTo>
                  <a:lnTo>
                    <a:pt x="0" y="5211"/>
                  </a:lnTo>
                  <a:lnTo>
                    <a:pt x="116" y="4632"/>
                  </a:lnTo>
                  <a:lnTo>
                    <a:pt x="231" y="3937"/>
                  </a:lnTo>
                  <a:lnTo>
                    <a:pt x="347" y="3358"/>
                  </a:lnTo>
                  <a:lnTo>
                    <a:pt x="578" y="2779"/>
                  </a:lnTo>
                  <a:lnTo>
                    <a:pt x="578" y="2779"/>
                  </a:lnTo>
                  <a:lnTo>
                    <a:pt x="578" y="2547"/>
                  </a:lnTo>
                  <a:lnTo>
                    <a:pt x="694" y="2432"/>
                  </a:lnTo>
                  <a:lnTo>
                    <a:pt x="810" y="2316"/>
                  </a:lnTo>
                  <a:lnTo>
                    <a:pt x="810" y="2200"/>
                  </a:lnTo>
                  <a:lnTo>
                    <a:pt x="926" y="1968"/>
                  </a:lnTo>
                  <a:lnTo>
                    <a:pt x="1041" y="1852"/>
                  </a:lnTo>
                  <a:lnTo>
                    <a:pt x="1041" y="1737"/>
                  </a:lnTo>
                  <a:lnTo>
                    <a:pt x="1157" y="1621"/>
                  </a:lnTo>
                  <a:lnTo>
                    <a:pt x="1157" y="1621"/>
                  </a:lnTo>
                  <a:lnTo>
                    <a:pt x="1041" y="1505"/>
                  </a:lnTo>
                  <a:lnTo>
                    <a:pt x="926" y="1505"/>
                  </a:lnTo>
                  <a:lnTo>
                    <a:pt x="926" y="1389"/>
                  </a:lnTo>
                  <a:lnTo>
                    <a:pt x="810" y="1389"/>
                  </a:lnTo>
                  <a:lnTo>
                    <a:pt x="694" y="1389"/>
                  </a:lnTo>
                  <a:lnTo>
                    <a:pt x="694" y="1389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694" y="1158"/>
                  </a:lnTo>
                  <a:lnTo>
                    <a:pt x="810" y="1158"/>
                  </a:lnTo>
                  <a:lnTo>
                    <a:pt x="926" y="1158"/>
                  </a:lnTo>
                  <a:lnTo>
                    <a:pt x="1041" y="1158"/>
                  </a:lnTo>
                  <a:lnTo>
                    <a:pt x="1157" y="1158"/>
                  </a:lnTo>
                  <a:lnTo>
                    <a:pt x="1389" y="1158"/>
                  </a:lnTo>
                  <a:lnTo>
                    <a:pt x="1504" y="1158"/>
                  </a:lnTo>
                  <a:lnTo>
                    <a:pt x="1620" y="1158"/>
                  </a:lnTo>
                  <a:lnTo>
                    <a:pt x="1620" y="1158"/>
                  </a:lnTo>
                  <a:lnTo>
                    <a:pt x="1967" y="926"/>
                  </a:lnTo>
                  <a:lnTo>
                    <a:pt x="2430" y="694"/>
                  </a:lnTo>
                  <a:lnTo>
                    <a:pt x="2777" y="347"/>
                  </a:lnTo>
                  <a:lnTo>
                    <a:pt x="3240" y="115"/>
                  </a:lnTo>
                  <a:lnTo>
                    <a:pt x="3703" y="0"/>
                  </a:lnTo>
                  <a:lnTo>
                    <a:pt x="4166" y="0"/>
                  </a:lnTo>
                  <a:lnTo>
                    <a:pt x="4629" y="0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1352880" y="3399120"/>
              <a:ext cx="173520" cy="285840"/>
            </a:xfrm>
            <a:custGeom>
              <a:avLst/>
              <a:gdLst/>
              <a:ahLst/>
              <a:rect l="l" t="t" r="r" b="b"/>
              <a:pathLst>
                <a:path w="4861" h="5327">
                  <a:moveTo>
                    <a:pt x="4398" y="463"/>
                  </a:moveTo>
                  <a:lnTo>
                    <a:pt x="4629" y="926"/>
                  </a:lnTo>
                  <a:lnTo>
                    <a:pt x="4745" y="1389"/>
                  </a:lnTo>
                  <a:lnTo>
                    <a:pt x="4745" y="1968"/>
                  </a:lnTo>
                  <a:lnTo>
                    <a:pt x="4861" y="2432"/>
                  </a:lnTo>
                  <a:lnTo>
                    <a:pt x="4745" y="2895"/>
                  </a:lnTo>
                  <a:lnTo>
                    <a:pt x="4629" y="3474"/>
                  </a:lnTo>
                  <a:lnTo>
                    <a:pt x="4398" y="3937"/>
                  </a:lnTo>
                  <a:lnTo>
                    <a:pt x="4051" y="4285"/>
                  </a:lnTo>
                  <a:lnTo>
                    <a:pt x="4051" y="4285"/>
                  </a:lnTo>
                  <a:lnTo>
                    <a:pt x="3935" y="4516"/>
                  </a:lnTo>
                  <a:lnTo>
                    <a:pt x="3819" y="4632"/>
                  </a:lnTo>
                  <a:lnTo>
                    <a:pt x="3588" y="4864"/>
                  </a:lnTo>
                  <a:lnTo>
                    <a:pt x="3356" y="4979"/>
                  </a:lnTo>
                  <a:lnTo>
                    <a:pt x="3125" y="5095"/>
                  </a:lnTo>
                  <a:lnTo>
                    <a:pt x="3009" y="5211"/>
                  </a:lnTo>
                  <a:lnTo>
                    <a:pt x="2778" y="5327"/>
                  </a:lnTo>
                  <a:lnTo>
                    <a:pt x="2430" y="5327"/>
                  </a:lnTo>
                  <a:lnTo>
                    <a:pt x="2430" y="5327"/>
                  </a:lnTo>
                  <a:lnTo>
                    <a:pt x="2083" y="5327"/>
                  </a:lnTo>
                  <a:lnTo>
                    <a:pt x="1736" y="5211"/>
                  </a:lnTo>
                  <a:lnTo>
                    <a:pt x="1389" y="5211"/>
                  </a:lnTo>
                  <a:lnTo>
                    <a:pt x="1157" y="5095"/>
                  </a:lnTo>
                  <a:lnTo>
                    <a:pt x="810" y="4864"/>
                  </a:lnTo>
                  <a:lnTo>
                    <a:pt x="579" y="4748"/>
                  </a:lnTo>
                  <a:lnTo>
                    <a:pt x="347" y="4400"/>
                  </a:lnTo>
                  <a:lnTo>
                    <a:pt x="231" y="4053"/>
                  </a:lnTo>
                  <a:lnTo>
                    <a:pt x="231" y="4053"/>
                  </a:lnTo>
                  <a:lnTo>
                    <a:pt x="116" y="3590"/>
                  </a:lnTo>
                  <a:lnTo>
                    <a:pt x="0" y="3242"/>
                  </a:lnTo>
                  <a:lnTo>
                    <a:pt x="116" y="2779"/>
                  </a:lnTo>
                  <a:lnTo>
                    <a:pt x="231" y="2316"/>
                  </a:lnTo>
                  <a:lnTo>
                    <a:pt x="347" y="1853"/>
                  </a:lnTo>
                  <a:lnTo>
                    <a:pt x="579" y="1505"/>
                  </a:lnTo>
                  <a:lnTo>
                    <a:pt x="810" y="1158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504" y="579"/>
                  </a:lnTo>
                  <a:lnTo>
                    <a:pt x="1852" y="463"/>
                  </a:lnTo>
                  <a:lnTo>
                    <a:pt x="2199" y="347"/>
                  </a:lnTo>
                  <a:lnTo>
                    <a:pt x="2546" y="231"/>
                  </a:lnTo>
                  <a:lnTo>
                    <a:pt x="2893" y="115"/>
                  </a:lnTo>
                  <a:lnTo>
                    <a:pt x="3240" y="115"/>
                  </a:lnTo>
                  <a:lnTo>
                    <a:pt x="3703" y="115"/>
                  </a:lnTo>
                  <a:lnTo>
                    <a:pt x="4051" y="0"/>
                  </a:lnTo>
                  <a:lnTo>
                    <a:pt x="4051" y="0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1419120" y="3411360"/>
              <a:ext cx="86760" cy="124200"/>
            </a:xfrm>
            <a:custGeom>
              <a:avLst/>
              <a:gdLst/>
              <a:ahLst/>
              <a:rect l="l" t="t" r="r" b="b"/>
              <a:pathLst>
                <a:path w="2430" h="2316">
                  <a:moveTo>
                    <a:pt x="2314" y="579"/>
                  </a:moveTo>
                  <a:lnTo>
                    <a:pt x="2430" y="811"/>
                  </a:lnTo>
                  <a:lnTo>
                    <a:pt x="2430" y="1042"/>
                  </a:lnTo>
                  <a:lnTo>
                    <a:pt x="2430" y="1274"/>
                  </a:lnTo>
                  <a:lnTo>
                    <a:pt x="2314" y="1506"/>
                  </a:lnTo>
                  <a:lnTo>
                    <a:pt x="2199" y="1737"/>
                  </a:lnTo>
                  <a:lnTo>
                    <a:pt x="2083" y="1969"/>
                  </a:lnTo>
                  <a:lnTo>
                    <a:pt x="1851" y="2085"/>
                  </a:lnTo>
                  <a:lnTo>
                    <a:pt x="1620" y="2201"/>
                  </a:lnTo>
                  <a:lnTo>
                    <a:pt x="1620" y="2201"/>
                  </a:lnTo>
                  <a:lnTo>
                    <a:pt x="1504" y="2201"/>
                  </a:lnTo>
                  <a:lnTo>
                    <a:pt x="1388" y="2316"/>
                  </a:lnTo>
                  <a:lnTo>
                    <a:pt x="1157" y="2316"/>
                  </a:lnTo>
                  <a:lnTo>
                    <a:pt x="1041" y="2201"/>
                  </a:lnTo>
                  <a:lnTo>
                    <a:pt x="926" y="2201"/>
                  </a:lnTo>
                  <a:lnTo>
                    <a:pt x="810" y="2201"/>
                  </a:lnTo>
                  <a:lnTo>
                    <a:pt x="578" y="2085"/>
                  </a:lnTo>
                  <a:lnTo>
                    <a:pt x="463" y="2085"/>
                  </a:lnTo>
                  <a:lnTo>
                    <a:pt x="463" y="2085"/>
                  </a:lnTo>
                  <a:lnTo>
                    <a:pt x="347" y="1969"/>
                  </a:lnTo>
                  <a:lnTo>
                    <a:pt x="231" y="1737"/>
                  </a:lnTo>
                  <a:lnTo>
                    <a:pt x="115" y="1622"/>
                  </a:lnTo>
                  <a:lnTo>
                    <a:pt x="115" y="1390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578" y="232"/>
                  </a:lnTo>
                  <a:lnTo>
                    <a:pt x="810" y="116"/>
                  </a:lnTo>
                  <a:lnTo>
                    <a:pt x="1273" y="0"/>
                  </a:lnTo>
                  <a:lnTo>
                    <a:pt x="1620" y="0"/>
                  </a:lnTo>
                  <a:lnTo>
                    <a:pt x="1851" y="116"/>
                  </a:lnTo>
                  <a:lnTo>
                    <a:pt x="2199" y="232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1588680" y="3442320"/>
              <a:ext cx="153000" cy="310680"/>
            </a:xfrm>
            <a:custGeom>
              <a:avLst/>
              <a:gdLst/>
              <a:ahLst/>
              <a:rect l="l" t="t" r="r" b="b"/>
              <a:pathLst>
                <a:path w="4282" h="5791">
                  <a:moveTo>
                    <a:pt x="4166" y="927"/>
                  </a:moveTo>
                  <a:lnTo>
                    <a:pt x="4282" y="1506"/>
                  </a:lnTo>
                  <a:lnTo>
                    <a:pt x="4282" y="1969"/>
                  </a:lnTo>
                  <a:lnTo>
                    <a:pt x="4282" y="2432"/>
                  </a:lnTo>
                  <a:lnTo>
                    <a:pt x="4166" y="2895"/>
                  </a:lnTo>
                  <a:lnTo>
                    <a:pt x="4050" y="3359"/>
                  </a:lnTo>
                  <a:lnTo>
                    <a:pt x="3935" y="3822"/>
                  </a:lnTo>
                  <a:lnTo>
                    <a:pt x="3703" y="4285"/>
                  </a:lnTo>
                  <a:lnTo>
                    <a:pt x="3587" y="4633"/>
                  </a:lnTo>
                  <a:lnTo>
                    <a:pt x="3587" y="4633"/>
                  </a:lnTo>
                  <a:lnTo>
                    <a:pt x="3240" y="4980"/>
                  </a:lnTo>
                  <a:lnTo>
                    <a:pt x="3009" y="5327"/>
                  </a:lnTo>
                  <a:lnTo>
                    <a:pt x="2662" y="5443"/>
                  </a:lnTo>
                  <a:lnTo>
                    <a:pt x="2199" y="5675"/>
                  </a:lnTo>
                  <a:lnTo>
                    <a:pt x="1851" y="5791"/>
                  </a:lnTo>
                  <a:lnTo>
                    <a:pt x="1504" y="5791"/>
                  </a:lnTo>
                  <a:lnTo>
                    <a:pt x="1041" y="5791"/>
                  </a:lnTo>
                  <a:lnTo>
                    <a:pt x="578" y="5791"/>
                  </a:lnTo>
                  <a:lnTo>
                    <a:pt x="578" y="5791"/>
                  </a:lnTo>
                  <a:lnTo>
                    <a:pt x="231" y="5096"/>
                  </a:lnTo>
                  <a:lnTo>
                    <a:pt x="0" y="4401"/>
                  </a:lnTo>
                  <a:lnTo>
                    <a:pt x="0" y="3706"/>
                  </a:lnTo>
                  <a:lnTo>
                    <a:pt x="0" y="3011"/>
                  </a:lnTo>
                  <a:lnTo>
                    <a:pt x="231" y="2316"/>
                  </a:lnTo>
                  <a:lnTo>
                    <a:pt x="463" y="1622"/>
                  </a:lnTo>
                  <a:lnTo>
                    <a:pt x="810" y="927"/>
                  </a:lnTo>
                  <a:lnTo>
                    <a:pt x="1157" y="348"/>
                  </a:lnTo>
                  <a:lnTo>
                    <a:pt x="1157" y="348"/>
                  </a:lnTo>
                  <a:lnTo>
                    <a:pt x="1389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0"/>
                  </a:lnTo>
                  <a:lnTo>
                    <a:pt x="2314" y="0"/>
                  </a:lnTo>
                  <a:lnTo>
                    <a:pt x="2662" y="0"/>
                  </a:lnTo>
                  <a:lnTo>
                    <a:pt x="2893" y="116"/>
                  </a:lnTo>
                  <a:lnTo>
                    <a:pt x="3124" y="116"/>
                  </a:lnTo>
                  <a:lnTo>
                    <a:pt x="3124" y="116"/>
                  </a:lnTo>
                  <a:lnTo>
                    <a:pt x="3240" y="232"/>
                  </a:lnTo>
                  <a:lnTo>
                    <a:pt x="3472" y="232"/>
                  </a:lnTo>
                  <a:lnTo>
                    <a:pt x="3587" y="348"/>
                  </a:lnTo>
                  <a:lnTo>
                    <a:pt x="3703" y="463"/>
                  </a:lnTo>
                  <a:lnTo>
                    <a:pt x="3819" y="579"/>
                  </a:lnTo>
                  <a:lnTo>
                    <a:pt x="3935" y="695"/>
                  </a:lnTo>
                  <a:lnTo>
                    <a:pt x="4050" y="811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1460520" y="3454920"/>
              <a:ext cx="20520" cy="30960"/>
            </a:xfrm>
            <a:custGeom>
              <a:avLst/>
              <a:gdLst/>
              <a:ahLst/>
              <a:rect l="l" t="t" r="r" b="b"/>
              <a:pathLst>
                <a:path w="579" h="579">
                  <a:moveTo>
                    <a:pt x="463" y="579"/>
                  </a:moveTo>
                  <a:lnTo>
                    <a:pt x="463" y="579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116" y="347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116"/>
                  </a:lnTo>
                  <a:lnTo>
                    <a:pt x="579" y="116"/>
                  </a:lnTo>
                  <a:lnTo>
                    <a:pt x="579" y="231"/>
                  </a:lnTo>
                  <a:lnTo>
                    <a:pt x="579" y="347"/>
                  </a:lnTo>
                  <a:lnTo>
                    <a:pt x="579" y="463"/>
                  </a:lnTo>
                  <a:lnTo>
                    <a:pt x="579" y="463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1617840" y="3479760"/>
              <a:ext cx="65880" cy="99360"/>
            </a:xfrm>
            <a:custGeom>
              <a:avLst/>
              <a:gdLst/>
              <a:ahLst/>
              <a:rect l="l" t="t" r="r" b="b"/>
              <a:pathLst>
                <a:path w="1852" h="1853">
                  <a:moveTo>
                    <a:pt x="1852" y="579"/>
                  </a:moveTo>
                  <a:lnTo>
                    <a:pt x="1852" y="811"/>
                  </a:lnTo>
                  <a:lnTo>
                    <a:pt x="1852" y="927"/>
                  </a:lnTo>
                  <a:lnTo>
                    <a:pt x="1736" y="1158"/>
                  </a:lnTo>
                  <a:lnTo>
                    <a:pt x="1736" y="1390"/>
                  </a:lnTo>
                  <a:lnTo>
                    <a:pt x="1620" y="1506"/>
                  </a:lnTo>
                  <a:lnTo>
                    <a:pt x="1389" y="1621"/>
                  </a:lnTo>
                  <a:lnTo>
                    <a:pt x="1273" y="1737"/>
                  </a:lnTo>
                  <a:lnTo>
                    <a:pt x="1041" y="1853"/>
                  </a:lnTo>
                  <a:lnTo>
                    <a:pt x="1041" y="1853"/>
                  </a:lnTo>
                  <a:lnTo>
                    <a:pt x="926" y="1853"/>
                  </a:lnTo>
                  <a:lnTo>
                    <a:pt x="694" y="1853"/>
                  </a:lnTo>
                  <a:lnTo>
                    <a:pt x="579" y="1737"/>
                  </a:lnTo>
                  <a:lnTo>
                    <a:pt x="463" y="1737"/>
                  </a:lnTo>
                  <a:lnTo>
                    <a:pt x="347" y="1621"/>
                  </a:lnTo>
                  <a:lnTo>
                    <a:pt x="231" y="1506"/>
                  </a:lnTo>
                  <a:lnTo>
                    <a:pt x="116" y="1390"/>
                  </a:lnTo>
                  <a:lnTo>
                    <a:pt x="0" y="1274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927"/>
                  </a:lnTo>
                  <a:lnTo>
                    <a:pt x="0" y="811"/>
                  </a:lnTo>
                  <a:lnTo>
                    <a:pt x="0" y="695"/>
                  </a:lnTo>
                  <a:lnTo>
                    <a:pt x="0" y="463"/>
                  </a:lnTo>
                  <a:lnTo>
                    <a:pt x="116" y="348"/>
                  </a:lnTo>
                  <a:lnTo>
                    <a:pt x="116" y="232"/>
                  </a:lnTo>
                  <a:lnTo>
                    <a:pt x="231" y="116"/>
                  </a:lnTo>
                  <a:lnTo>
                    <a:pt x="231" y="116"/>
                  </a:lnTo>
                  <a:lnTo>
                    <a:pt x="463" y="0"/>
                  </a:lnTo>
                  <a:lnTo>
                    <a:pt x="694" y="0"/>
                  </a:lnTo>
                  <a:lnTo>
                    <a:pt x="926" y="0"/>
                  </a:lnTo>
                  <a:lnTo>
                    <a:pt x="1157" y="0"/>
                  </a:lnTo>
                  <a:lnTo>
                    <a:pt x="1389" y="0"/>
                  </a:lnTo>
                  <a:lnTo>
                    <a:pt x="1620" y="116"/>
                  </a:lnTo>
                  <a:lnTo>
                    <a:pt x="1736" y="348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1646640" y="3510720"/>
              <a:ext cx="20520" cy="37080"/>
            </a:xfrm>
            <a:custGeom>
              <a:avLst/>
              <a:gdLst/>
              <a:ahLst/>
              <a:rect l="l" t="t" r="r" b="b"/>
              <a:pathLst>
                <a:path w="579" h="695">
                  <a:moveTo>
                    <a:pt x="463" y="116"/>
                  </a:moveTo>
                  <a:lnTo>
                    <a:pt x="463" y="116"/>
                  </a:lnTo>
                  <a:lnTo>
                    <a:pt x="579" y="232"/>
                  </a:lnTo>
                  <a:lnTo>
                    <a:pt x="463" y="348"/>
                  </a:lnTo>
                  <a:lnTo>
                    <a:pt x="463" y="463"/>
                  </a:lnTo>
                  <a:lnTo>
                    <a:pt x="463" y="463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695"/>
                  </a:lnTo>
                  <a:lnTo>
                    <a:pt x="231" y="695"/>
                  </a:lnTo>
                  <a:lnTo>
                    <a:pt x="116" y="695"/>
                  </a:lnTo>
                  <a:lnTo>
                    <a:pt x="116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231" y="116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1220400" y="3784320"/>
              <a:ext cx="57600" cy="37080"/>
            </a:xfrm>
            <a:custGeom>
              <a:avLst/>
              <a:gdLst/>
              <a:ahLst/>
              <a:rect l="l" t="t" r="r" b="b"/>
              <a:pathLst>
                <a:path w="1620" h="695">
                  <a:moveTo>
                    <a:pt x="1620" y="116"/>
                  </a:moveTo>
                  <a:lnTo>
                    <a:pt x="1388" y="116"/>
                  </a:lnTo>
                  <a:lnTo>
                    <a:pt x="1157" y="116"/>
                  </a:lnTo>
                  <a:lnTo>
                    <a:pt x="1041" y="231"/>
                  </a:lnTo>
                  <a:lnTo>
                    <a:pt x="810" y="347"/>
                  </a:lnTo>
                  <a:lnTo>
                    <a:pt x="578" y="347"/>
                  </a:lnTo>
                  <a:lnTo>
                    <a:pt x="462" y="463"/>
                  </a:lnTo>
                  <a:lnTo>
                    <a:pt x="347" y="579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0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115" y="347"/>
                  </a:lnTo>
                  <a:lnTo>
                    <a:pt x="115" y="347"/>
                  </a:lnTo>
                  <a:lnTo>
                    <a:pt x="231" y="231"/>
                  </a:lnTo>
                  <a:lnTo>
                    <a:pt x="462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0"/>
                  </a:lnTo>
                  <a:lnTo>
                    <a:pt x="1157" y="0"/>
                  </a:lnTo>
                  <a:lnTo>
                    <a:pt x="1388" y="0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1207800" y="3827880"/>
              <a:ext cx="517320" cy="173880"/>
            </a:xfrm>
            <a:custGeom>
              <a:avLst/>
              <a:gdLst/>
              <a:ahLst/>
              <a:rect l="l" t="t" r="r" b="b"/>
              <a:pathLst>
                <a:path w="14467" h="3243">
                  <a:moveTo>
                    <a:pt x="3820" y="232"/>
                  </a:moveTo>
                  <a:lnTo>
                    <a:pt x="3704" y="232"/>
                  </a:lnTo>
                  <a:lnTo>
                    <a:pt x="3472" y="232"/>
                  </a:lnTo>
                  <a:lnTo>
                    <a:pt x="3357" y="232"/>
                  </a:lnTo>
                  <a:lnTo>
                    <a:pt x="3125" y="232"/>
                  </a:lnTo>
                  <a:lnTo>
                    <a:pt x="3009" y="348"/>
                  </a:lnTo>
                  <a:lnTo>
                    <a:pt x="2778" y="348"/>
                  </a:lnTo>
                  <a:lnTo>
                    <a:pt x="2662" y="348"/>
                  </a:lnTo>
                  <a:lnTo>
                    <a:pt x="2431" y="464"/>
                  </a:lnTo>
                  <a:lnTo>
                    <a:pt x="2431" y="464"/>
                  </a:lnTo>
                  <a:lnTo>
                    <a:pt x="2431" y="695"/>
                  </a:lnTo>
                  <a:lnTo>
                    <a:pt x="2431" y="695"/>
                  </a:lnTo>
                  <a:lnTo>
                    <a:pt x="2894" y="1159"/>
                  </a:lnTo>
                  <a:lnTo>
                    <a:pt x="3472" y="1622"/>
                  </a:lnTo>
                  <a:lnTo>
                    <a:pt x="4051" y="1853"/>
                  </a:lnTo>
                  <a:lnTo>
                    <a:pt x="4745" y="2085"/>
                  </a:lnTo>
                  <a:lnTo>
                    <a:pt x="5440" y="2201"/>
                  </a:lnTo>
                  <a:lnTo>
                    <a:pt x="6018" y="2432"/>
                  </a:lnTo>
                  <a:lnTo>
                    <a:pt x="6713" y="2548"/>
                  </a:lnTo>
                  <a:lnTo>
                    <a:pt x="7291" y="2780"/>
                  </a:lnTo>
                  <a:lnTo>
                    <a:pt x="7291" y="2780"/>
                  </a:lnTo>
                  <a:lnTo>
                    <a:pt x="7639" y="2780"/>
                  </a:lnTo>
                  <a:lnTo>
                    <a:pt x="7986" y="2780"/>
                  </a:lnTo>
                  <a:lnTo>
                    <a:pt x="8333" y="2780"/>
                  </a:lnTo>
                  <a:lnTo>
                    <a:pt x="8680" y="2664"/>
                  </a:lnTo>
                  <a:lnTo>
                    <a:pt x="9027" y="2664"/>
                  </a:lnTo>
                  <a:lnTo>
                    <a:pt x="9375" y="2548"/>
                  </a:lnTo>
                  <a:lnTo>
                    <a:pt x="9722" y="2432"/>
                  </a:lnTo>
                  <a:lnTo>
                    <a:pt x="10069" y="2317"/>
                  </a:lnTo>
                  <a:lnTo>
                    <a:pt x="10069" y="2317"/>
                  </a:lnTo>
                  <a:lnTo>
                    <a:pt x="10185" y="2317"/>
                  </a:lnTo>
                  <a:lnTo>
                    <a:pt x="10185" y="2317"/>
                  </a:lnTo>
                  <a:lnTo>
                    <a:pt x="10301" y="2317"/>
                  </a:lnTo>
                  <a:lnTo>
                    <a:pt x="10416" y="2317"/>
                  </a:lnTo>
                  <a:lnTo>
                    <a:pt x="10532" y="2317"/>
                  </a:lnTo>
                  <a:lnTo>
                    <a:pt x="10648" y="2201"/>
                  </a:lnTo>
                  <a:lnTo>
                    <a:pt x="10763" y="2201"/>
                  </a:lnTo>
                  <a:lnTo>
                    <a:pt x="10763" y="2085"/>
                  </a:lnTo>
                  <a:lnTo>
                    <a:pt x="10763" y="2085"/>
                  </a:lnTo>
                  <a:lnTo>
                    <a:pt x="10879" y="2201"/>
                  </a:lnTo>
                  <a:lnTo>
                    <a:pt x="10879" y="2201"/>
                  </a:lnTo>
                  <a:lnTo>
                    <a:pt x="11226" y="1969"/>
                  </a:lnTo>
                  <a:lnTo>
                    <a:pt x="11574" y="1853"/>
                  </a:lnTo>
                  <a:lnTo>
                    <a:pt x="11921" y="1738"/>
                  </a:lnTo>
                  <a:lnTo>
                    <a:pt x="12268" y="1622"/>
                  </a:lnTo>
                  <a:lnTo>
                    <a:pt x="12615" y="1506"/>
                  </a:lnTo>
                  <a:lnTo>
                    <a:pt x="12962" y="1506"/>
                  </a:lnTo>
                  <a:lnTo>
                    <a:pt x="13310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888" y="1390"/>
                  </a:lnTo>
                  <a:lnTo>
                    <a:pt x="14004" y="1390"/>
                  </a:lnTo>
                  <a:lnTo>
                    <a:pt x="14120" y="1274"/>
                  </a:lnTo>
                  <a:lnTo>
                    <a:pt x="14120" y="1159"/>
                  </a:lnTo>
                  <a:lnTo>
                    <a:pt x="14235" y="1159"/>
                  </a:lnTo>
                  <a:lnTo>
                    <a:pt x="14351" y="1159"/>
                  </a:lnTo>
                  <a:lnTo>
                    <a:pt x="14467" y="1159"/>
                  </a:lnTo>
                  <a:lnTo>
                    <a:pt x="14467" y="1159"/>
                  </a:lnTo>
                  <a:lnTo>
                    <a:pt x="14467" y="1274"/>
                  </a:lnTo>
                  <a:lnTo>
                    <a:pt x="14351" y="1390"/>
                  </a:lnTo>
                  <a:lnTo>
                    <a:pt x="14351" y="1506"/>
                  </a:lnTo>
                  <a:lnTo>
                    <a:pt x="14235" y="1622"/>
                  </a:lnTo>
                  <a:lnTo>
                    <a:pt x="14120" y="1738"/>
                  </a:lnTo>
                  <a:lnTo>
                    <a:pt x="14004" y="1853"/>
                  </a:lnTo>
                  <a:lnTo>
                    <a:pt x="13888" y="1853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2962" y="1969"/>
                  </a:lnTo>
                  <a:lnTo>
                    <a:pt x="12152" y="2085"/>
                  </a:lnTo>
                  <a:lnTo>
                    <a:pt x="11458" y="2317"/>
                  </a:lnTo>
                  <a:lnTo>
                    <a:pt x="10648" y="2548"/>
                  </a:lnTo>
                  <a:lnTo>
                    <a:pt x="9953" y="2780"/>
                  </a:lnTo>
                  <a:lnTo>
                    <a:pt x="9143" y="3011"/>
                  </a:lnTo>
                  <a:lnTo>
                    <a:pt x="8333" y="3127"/>
                  </a:lnTo>
                  <a:lnTo>
                    <a:pt x="7523" y="3243"/>
                  </a:lnTo>
                  <a:lnTo>
                    <a:pt x="7523" y="3243"/>
                  </a:lnTo>
                  <a:lnTo>
                    <a:pt x="6713" y="3011"/>
                  </a:lnTo>
                  <a:lnTo>
                    <a:pt x="6018" y="2896"/>
                  </a:lnTo>
                  <a:lnTo>
                    <a:pt x="5208" y="2664"/>
                  </a:lnTo>
                  <a:lnTo>
                    <a:pt x="4514" y="2432"/>
                  </a:lnTo>
                  <a:lnTo>
                    <a:pt x="3704" y="2201"/>
                  </a:lnTo>
                  <a:lnTo>
                    <a:pt x="3125" y="1738"/>
                  </a:lnTo>
                  <a:lnTo>
                    <a:pt x="2431" y="1274"/>
                  </a:lnTo>
                  <a:lnTo>
                    <a:pt x="1968" y="695"/>
                  </a:lnTo>
                  <a:lnTo>
                    <a:pt x="1968" y="695"/>
                  </a:lnTo>
                  <a:lnTo>
                    <a:pt x="1736" y="811"/>
                  </a:lnTo>
                  <a:lnTo>
                    <a:pt x="1505" y="927"/>
                  </a:lnTo>
                  <a:lnTo>
                    <a:pt x="1273" y="1043"/>
                  </a:lnTo>
                  <a:lnTo>
                    <a:pt x="1042" y="1159"/>
                  </a:lnTo>
                  <a:lnTo>
                    <a:pt x="810" y="1274"/>
                  </a:lnTo>
                  <a:lnTo>
                    <a:pt x="579" y="1506"/>
                  </a:lnTo>
                  <a:lnTo>
                    <a:pt x="463" y="1622"/>
                  </a:lnTo>
                  <a:lnTo>
                    <a:pt x="348" y="1853"/>
                  </a:lnTo>
                  <a:lnTo>
                    <a:pt x="348" y="1853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116" y="1390"/>
                  </a:lnTo>
                  <a:lnTo>
                    <a:pt x="348" y="1159"/>
                  </a:lnTo>
                  <a:lnTo>
                    <a:pt x="463" y="927"/>
                  </a:lnTo>
                  <a:lnTo>
                    <a:pt x="810" y="811"/>
                  </a:lnTo>
                  <a:lnTo>
                    <a:pt x="1042" y="695"/>
                  </a:lnTo>
                  <a:lnTo>
                    <a:pt x="1273" y="579"/>
                  </a:lnTo>
                  <a:lnTo>
                    <a:pt x="1621" y="348"/>
                  </a:lnTo>
                  <a:lnTo>
                    <a:pt x="1852" y="232"/>
                  </a:lnTo>
                  <a:lnTo>
                    <a:pt x="1852" y="232"/>
                  </a:lnTo>
                  <a:lnTo>
                    <a:pt x="2084" y="116"/>
                  </a:lnTo>
                  <a:lnTo>
                    <a:pt x="2315" y="116"/>
                  </a:lnTo>
                  <a:lnTo>
                    <a:pt x="2546" y="0"/>
                  </a:lnTo>
                  <a:lnTo>
                    <a:pt x="2778" y="0"/>
                  </a:lnTo>
                  <a:lnTo>
                    <a:pt x="3125" y="0"/>
                  </a:lnTo>
                  <a:lnTo>
                    <a:pt x="3357" y="116"/>
                  </a:lnTo>
                  <a:lnTo>
                    <a:pt x="3588" y="116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2213640" y="3927600"/>
              <a:ext cx="343440" cy="298440"/>
            </a:xfrm>
            <a:custGeom>
              <a:avLst/>
              <a:gdLst/>
              <a:ahLst/>
              <a:rect l="l" t="t" r="r" b="b"/>
              <a:pathLst>
                <a:path w="9606" h="5559">
                  <a:moveTo>
                    <a:pt x="9606" y="695"/>
                  </a:moveTo>
                  <a:lnTo>
                    <a:pt x="9606" y="811"/>
                  </a:lnTo>
                  <a:lnTo>
                    <a:pt x="9606" y="811"/>
                  </a:lnTo>
                  <a:lnTo>
                    <a:pt x="9490" y="811"/>
                  </a:lnTo>
                  <a:lnTo>
                    <a:pt x="9375" y="811"/>
                  </a:lnTo>
                  <a:lnTo>
                    <a:pt x="9259" y="811"/>
                  </a:lnTo>
                  <a:lnTo>
                    <a:pt x="9143" y="811"/>
                  </a:lnTo>
                  <a:lnTo>
                    <a:pt x="9027" y="811"/>
                  </a:lnTo>
                  <a:lnTo>
                    <a:pt x="8912" y="927"/>
                  </a:lnTo>
                  <a:lnTo>
                    <a:pt x="8796" y="927"/>
                  </a:lnTo>
                  <a:lnTo>
                    <a:pt x="8680" y="1043"/>
                  </a:lnTo>
                  <a:lnTo>
                    <a:pt x="8680" y="1043"/>
                  </a:lnTo>
                  <a:lnTo>
                    <a:pt x="8912" y="1158"/>
                  </a:lnTo>
                  <a:lnTo>
                    <a:pt x="8912" y="1158"/>
                  </a:lnTo>
                  <a:lnTo>
                    <a:pt x="8680" y="1158"/>
                  </a:lnTo>
                  <a:lnTo>
                    <a:pt x="8564" y="1274"/>
                  </a:lnTo>
                  <a:lnTo>
                    <a:pt x="8333" y="1274"/>
                  </a:lnTo>
                  <a:lnTo>
                    <a:pt x="8102" y="1274"/>
                  </a:lnTo>
                  <a:lnTo>
                    <a:pt x="7986" y="1390"/>
                  </a:lnTo>
                  <a:lnTo>
                    <a:pt x="7754" y="1390"/>
                  </a:lnTo>
                  <a:lnTo>
                    <a:pt x="7639" y="1506"/>
                  </a:lnTo>
                  <a:lnTo>
                    <a:pt x="7407" y="1622"/>
                  </a:lnTo>
                  <a:lnTo>
                    <a:pt x="7407" y="1622"/>
                  </a:lnTo>
                  <a:lnTo>
                    <a:pt x="7639" y="1622"/>
                  </a:lnTo>
                  <a:lnTo>
                    <a:pt x="7754" y="1622"/>
                  </a:lnTo>
                  <a:lnTo>
                    <a:pt x="7870" y="1738"/>
                  </a:lnTo>
                  <a:lnTo>
                    <a:pt x="7986" y="1738"/>
                  </a:lnTo>
                  <a:lnTo>
                    <a:pt x="8102" y="1738"/>
                  </a:lnTo>
                  <a:lnTo>
                    <a:pt x="8217" y="1853"/>
                  </a:lnTo>
                  <a:lnTo>
                    <a:pt x="8333" y="1853"/>
                  </a:lnTo>
                  <a:lnTo>
                    <a:pt x="8564" y="1853"/>
                  </a:lnTo>
                  <a:lnTo>
                    <a:pt x="8564" y="1853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680" y="2085"/>
                  </a:lnTo>
                  <a:lnTo>
                    <a:pt x="8680" y="2085"/>
                  </a:lnTo>
                  <a:lnTo>
                    <a:pt x="8796" y="1969"/>
                  </a:lnTo>
                  <a:lnTo>
                    <a:pt x="8796" y="1969"/>
                  </a:lnTo>
                  <a:lnTo>
                    <a:pt x="8912" y="1969"/>
                  </a:lnTo>
                  <a:lnTo>
                    <a:pt x="8912" y="1969"/>
                  </a:lnTo>
                  <a:lnTo>
                    <a:pt x="9027" y="1969"/>
                  </a:lnTo>
                  <a:lnTo>
                    <a:pt x="9027" y="1969"/>
                  </a:lnTo>
                  <a:lnTo>
                    <a:pt x="8796" y="2085"/>
                  </a:lnTo>
                  <a:lnTo>
                    <a:pt x="8680" y="2085"/>
                  </a:lnTo>
                  <a:lnTo>
                    <a:pt x="8449" y="2201"/>
                  </a:lnTo>
                  <a:lnTo>
                    <a:pt x="8333" y="2317"/>
                  </a:lnTo>
                  <a:lnTo>
                    <a:pt x="8102" y="2317"/>
                  </a:lnTo>
                  <a:lnTo>
                    <a:pt x="7986" y="2432"/>
                  </a:lnTo>
                  <a:lnTo>
                    <a:pt x="7754" y="2664"/>
                  </a:lnTo>
                  <a:lnTo>
                    <a:pt x="7639" y="2780"/>
                  </a:lnTo>
                  <a:lnTo>
                    <a:pt x="7639" y="2780"/>
                  </a:lnTo>
                  <a:lnTo>
                    <a:pt x="7870" y="2780"/>
                  </a:lnTo>
                  <a:lnTo>
                    <a:pt x="8102" y="2780"/>
                  </a:lnTo>
                  <a:lnTo>
                    <a:pt x="8333" y="2780"/>
                  </a:lnTo>
                  <a:lnTo>
                    <a:pt x="8564" y="2664"/>
                  </a:lnTo>
                  <a:lnTo>
                    <a:pt x="8796" y="2548"/>
                  </a:lnTo>
                  <a:lnTo>
                    <a:pt x="9027" y="2548"/>
                  </a:lnTo>
                  <a:lnTo>
                    <a:pt x="9259" y="2432"/>
                  </a:lnTo>
                  <a:lnTo>
                    <a:pt x="9490" y="2432"/>
                  </a:lnTo>
                  <a:lnTo>
                    <a:pt x="9490" y="2432"/>
                  </a:lnTo>
                  <a:lnTo>
                    <a:pt x="8564" y="2896"/>
                  </a:lnTo>
                  <a:lnTo>
                    <a:pt x="7754" y="3243"/>
                  </a:lnTo>
                  <a:lnTo>
                    <a:pt x="6828" y="3590"/>
                  </a:lnTo>
                  <a:lnTo>
                    <a:pt x="6018" y="3938"/>
                  </a:lnTo>
                  <a:lnTo>
                    <a:pt x="5092" y="4401"/>
                  </a:lnTo>
                  <a:lnTo>
                    <a:pt x="4282" y="4749"/>
                  </a:lnTo>
                  <a:lnTo>
                    <a:pt x="3357" y="5096"/>
                  </a:lnTo>
                  <a:lnTo>
                    <a:pt x="2546" y="5559"/>
                  </a:lnTo>
                  <a:lnTo>
                    <a:pt x="2546" y="5559"/>
                  </a:lnTo>
                  <a:lnTo>
                    <a:pt x="2431" y="5443"/>
                  </a:lnTo>
                  <a:lnTo>
                    <a:pt x="2199" y="5328"/>
                  </a:lnTo>
                  <a:lnTo>
                    <a:pt x="1968" y="5212"/>
                  </a:lnTo>
                  <a:lnTo>
                    <a:pt x="1736" y="5212"/>
                  </a:lnTo>
                  <a:lnTo>
                    <a:pt x="1505" y="5096"/>
                  </a:lnTo>
                  <a:lnTo>
                    <a:pt x="1389" y="4980"/>
                  </a:lnTo>
                  <a:lnTo>
                    <a:pt x="1273" y="4864"/>
                  </a:lnTo>
                  <a:lnTo>
                    <a:pt x="1273" y="4517"/>
                  </a:lnTo>
                  <a:lnTo>
                    <a:pt x="1273" y="4517"/>
                  </a:lnTo>
                  <a:lnTo>
                    <a:pt x="1389" y="4401"/>
                  </a:lnTo>
                  <a:lnTo>
                    <a:pt x="1505" y="4170"/>
                  </a:lnTo>
                  <a:lnTo>
                    <a:pt x="1621" y="4054"/>
                  </a:lnTo>
                  <a:lnTo>
                    <a:pt x="1852" y="3822"/>
                  </a:lnTo>
                  <a:lnTo>
                    <a:pt x="1968" y="3706"/>
                  </a:lnTo>
                  <a:lnTo>
                    <a:pt x="2083" y="3590"/>
                  </a:lnTo>
                  <a:lnTo>
                    <a:pt x="2199" y="3359"/>
                  </a:lnTo>
                  <a:lnTo>
                    <a:pt x="2315" y="3243"/>
                  </a:lnTo>
                  <a:lnTo>
                    <a:pt x="2315" y="3243"/>
                  </a:lnTo>
                  <a:lnTo>
                    <a:pt x="2083" y="3011"/>
                  </a:lnTo>
                  <a:lnTo>
                    <a:pt x="1621" y="2896"/>
                  </a:lnTo>
                  <a:lnTo>
                    <a:pt x="1273" y="2896"/>
                  </a:lnTo>
                  <a:lnTo>
                    <a:pt x="810" y="2896"/>
                  </a:lnTo>
                  <a:lnTo>
                    <a:pt x="347" y="2780"/>
                  </a:lnTo>
                  <a:lnTo>
                    <a:pt x="116" y="2664"/>
                  </a:lnTo>
                  <a:lnTo>
                    <a:pt x="0" y="2317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810" y="1274"/>
                  </a:lnTo>
                  <a:lnTo>
                    <a:pt x="1736" y="811"/>
                  </a:lnTo>
                  <a:lnTo>
                    <a:pt x="2662" y="464"/>
                  </a:lnTo>
                  <a:lnTo>
                    <a:pt x="3588" y="232"/>
                  </a:lnTo>
                  <a:lnTo>
                    <a:pt x="4630" y="0"/>
                  </a:lnTo>
                  <a:lnTo>
                    <a:pt x="5555" y="0"/>
                  </a:lnTo>
                  <a:lnTo>
                    <a:pt x="6597" y="116"/>
                  </a:lnTo>
                  <a:lnTo>
                    <a:pt x="7639" y="348"/>
                  </a:lnTo>
                  <a:lnTo>
                    <a:pt x="7639" y="348"/>
                  </a:lnTo>
                  <a:lnTo>
                    <a:pt x="7870" y="464"/>
                  </a:lnTo>
                  <a:lnTo>
                    <a:pt x="8102" y="464"/>
                  </a:lnTo>
                  <a:lnTo>
                    <a:pt x="8333" y="464"/>
                  </a:lnTo>
                  <a:lnTo>
                    <a:pt x="8564" y="464"/>
                  </a:lnTo>
                  <a:lnTo>
                    <a:pt x="8796" y="579"/>
                  </a:lnTo>
                  <a:lnTo>
                    <a:pt x="9143" y="579"/>
                  </a:lnTo>
                  <a:lnTo>
                    <a:pt x="9375" y="579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1042560" y="3964680"/>
              <a:ext cx="1208160" cy="466200"/>
            </a:xfrm>
            <a:custGeom>
              <a:avLst/>
              <a:gdLst/>
              <a:ahLst/>
              <a:rect l="l" t="t" r="r" b="b"/>
              <a:pathLst>
                <a:path w="33794" h="8686">
                  <a:moveTo>
                    <a:pt x="-31742" y="0"/>
                  </a:moveTo>
                  <a:lnTo>
                    <a:pt x="-31974" y="116"/>
                  </a:lnTo>
                  <a:lnTo>
                    <a:pt x="-32205" y="348"/>
                  </a:lnTo>
                  <a:lnTo>
                    <a:pt x="-32437" y="463"/>
                  </a:lnTo>
                  <a:lnTo>
                    <a:pt x="-32668" y="579"/>
                  </a:lnTo>
                  <a:lnTo>
                    <a:pt x="32637" y="811"/>
                  </a:lnTo>
                  <a:lnTo>
                    <a:pt x="32521" y="927"/>
                  </a:lnTo>
                  <a:lnTo>
                    <a:pt x="32289" y="1158"/>
                  </a:lnTo>
                  <a:lnTo>
                    <a:pt x="32174" y="1390"/>
                  </a:lnTo>
                  <a:lnTo>
                    <a:pt x="32174" y="1390"/>
                  </a:lnTo>
                  <a:lnTo>
                    <a:pt x="32289" y="1506"/>
                  </a:lnTo>
                  <a:lnTo>
                    <a:pt x="32289" y="1737"/>
                  </a:lnTo>
                  <a:lnTo>
                    <a:pt x="32405" y="1853"/>
                  </a:lnTo>
                  <a:lnTo>
                    <a:pt x="32405" y="1969"/>
                  </a:lnTo>
                  <a:lnTo>
                    <a:pt x="32521" y="2085"/>
                  </a:lnTo>
                  <a:lnTo>
                    <a:pt x="32637" y="2201"/>
                  </a:lnTo>
                  <a:lnTo>
                    <a:pt x="32752" y="2316"/>
                  </a:lnTo>
                  <a:lnTo>
                    <a:pt x="-32668" y="2432"/>
                  </a:lnTo>
                  <a:lnTo>
                    <a:pt x="-32668" y="2432"/>
                  </a:lnTo>
                  <a:lnTo>
                    <a:pt x="29628" y="3011"/>
                  </a:lnTo>
                  <a:lnTo>
                    <a:pt x="26271" y="3590"/>
                  </a:lnTo>
                  <a:lnTo>
                    <a:pt x="23031" y="4169"/>
                  </a:lnTo>
                  <a:lnTo>
                    <a:pt x="19790" y="4864"/>
                  </a:lnTo>
                  <a:lnTo>
                    <a:pt x="16550" y="5443"/>
                  </a:lnTo>
                  <a:lnTo>
                    <a:pt x="13309" y="6138"/>
                  </a:lnTo>
                  <a:lnTo>
                    <a:pt x="10069" y="6833"/>
                  </a:lnTo>
                  <a:lnTo>
                    <a:pt x="6713" y="7644"/>
                  </a:lnTo>
                  <a:lnTo>
                    <a:pt x="6713" y="7644"/>
                  </a:lnTo>
                  <a:lnTo>
                    <a:pt x="0" y="8686"/>
                  </a:lnTo>
                  <a:lnTo>
                    <a:pt x="0" y="8686"/>
                  </a:lnTo>
                  <a:lnTo>
                    <a:pt x="0" y="8454"/>
                  </a:lnTo>
                  <a:lnTo>
                    <a:pt x="0" y="8223"/>
                  </a:lnTo>
                  <a:lnTo>
                    <a:pt x="0" y="7991"/>
                  </a:lnTo>
                  <a:lnTo>
                    <a:pt x="0" y="7760"/>
                  </a:lnTo>
                  <a:lnTo>
                    <a:pt x="116" y="7528"/>
                  </a:lnTo>
                  <a:lnTo>
                    <a:pt x="116" y="7296"/>
                  </a:lnTo>
                  <a:lnTo>
                    <a:pt x="232" y="7065"/>
                  </a:lnTo>
                  <a:lnTo>
                    <a:pt x="232" y="6833"/>
                  </a:lnTo>
                  <a:lnTo>
                    <a:pt x="232" y="6833"/>
                  </a:lnTo>
                  <a:lnTo>
                    <a:pt x="694" y="6486"/>
                  </a:lnTo>
                  <a:lnTo>
                    <a:pt x="694" y="6486"/>
                  </a:lnTo>
                  <a:lnTo>
                    <a:pt x="2662" y="6138"/>
                  </a:lnTo>
                  <a:lnTo>
                    <a:pt x="4745" y="5791"/>
                  </a:lnTo>
                  <a:lnTo>
                    <a:pt x="6713" y="5327"/>
                  </a:lnTo>
                  <a:lnTo>
                    <a:pt x="8796" y="4980"/>
                  </a:lnTo>
                  <a:lnTo>
                    <a:pt x="10879" y="4633"/>
                  </a:lnTo>
                  <a:lnTo>
                    <a:pt x="12962" y="4169"/>
                  </a:lnTo>
                  <a:lnTo>
                    <a:pt x="14930" y="3706"/>
                  </a:lnTo>
                  <a:lnTo>
                    <a:pt x="17013" y="3243"/>
                  </a:lnTo>
                  <a:lnTo>
                    <a:pt x="17013" y="3243"/>
                  </a:lnTo>
                  <a:lnTo>
                    <a:pt x="30553" y="579"/>
                  </a:lnTo>
                  <a:lnTo>
                    <a:pt x="30553" y="579"/>
                  </a:lnTo>
                  <a:lnTo>
                    <a:pt x="31016" y="463"/>
                  </a:lnTo>
                  <a:lnTo>
                    <a:pt x="31363" y="463"/>
                  </a:lnTo>
                  <a:lnTo>
                    <a:pt x="31826" y="348"/>
                  </a:lnTo>
                  <a:lnTo>
                    <a:pt x="32174" y="232"/>
                  </a:lnTo>
                  <a:lnTo>
                    <a:pt x="32521" y="232"/>
                  </a:lnTo>
                  <a:lnTo>
                    <a:pt x="-32552" y="116"/>
                  </a:lnTo>
                  <a:lnTo>
                    <a:pt x="-32205" y="116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827280" y="4045680"/>
              <a:ext cx="169560" cy="204840"/>
            </a:xfrm>
            <a:custGeom>
              <a:avLst/>
              <a:gdLst/>
              <a:ahLst/>
              <a:rect l="l" t="t" r="r" b="b"/>
              <a:pathLst>
                <a:path w="4745" h="3821">
                  <a:moveTo>
                    <a:pt x="4745" y="695"/>
                  </a:moveTo>
                  <a:lnTo>
                    <a:pt x="4514" y="2895"/>
                  </a:lnTo>
                  <a:lnTo>
                    <a:pt x="4514" y="2895"/>
                  </a:lnTo>
                  <a:lnTo>
                    <a:pt x="4282" y="3011"/>
                  </a:lnTo>
                  <a:lnTo>
                    <a:pt x="4051" y="3242"/>
                  </a:lnTo>
                  <a:lnTo>
                    <a:pt x="3819" y="3474"/>
                  </a:lnTo>
                  <a:lnTo>
                    <a:pt x="3588" y="3590"/>
                  </a:lnTo>
                  <a:lnTo>
                    <a:pt x="3356" y="3706"/>
                  </a:lnTo>
                  <a:lnTo>
                    <a:pt x="3125" y="3821"/>
                  </a:lnTo>
                  <a:lnTo>
                    <a:pt x="2893" y="3706"/>
                  </a:lnTo>
                  <a:lnTo>
                    <a:pt x="2662" y="3358"/>
                  </a:lnTo>
                  <a:lnTo>
                    <a:pt x="2662" y="3358"/>
                  </a:lnTo>
                  <a:lnTo>
                    <a:pt x="2430" y="3358"/>
                  </a:lnTo>
                  <a:lnTo>
                    <a:pt x="2315" y="3358"/>
                  </a:lnTo>
                  <a:lnTo>
                    <a:pt x="2199" y="3474"/>
                  </a:lnTo>
                  <a:lnTo>
                    <a:pt x="1967" y="3474"/>
                  </a:lnTo>
                  <a:lnTo>
                    <a:pt x="1852" y="3590"/>
                  </a:lnTo>
                  <a:lnTo>
                    <a:pt x="1736" y="3706"/>
                  </a:lnTo>
                  <a:lnTo>
                    <a:pt x="1505" y="3706"/>
                  </a:lnTo>
                  <a:lnTo>
                    <a:pt x="1389" y="3821"/>
                  </a:lnTo>
                  <a:lnTo>
                    <a:pt x="1389" y="3821"/>
                  </a:lnTo>
                  <a:lnTo>
                    <a:pt x="1042" y="3474"/>
                  </a:lnTo>
                  <a:lnTo>
                    <a:pt x="810" y="3127"/>
                  </a:lnTo>
                  <a:lnTo>
                    <a:pt x="579" y="2663"/>
                  </a:lnTo>
                  <a:lnTo>
                    <a:pt x="463" y="2200"/>
                  </a:lnTo>
                  <a:lnTo>
                    <a:pt x="231" y="1853"/>
                  </a:lnTo>
                  <a:lnTo>
                    <a:pt x="116" y="1389"/>
                  </a:lnTo>
                  <a:lnTo>
                    <a:pt x="0" y="926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463" y="231"/>
                  </a:lnTo>
                  <a:lnTo>
                    <a:pt x="1157" y="0"/>
                  </a:lnTo>
                  <a:lnTo>
                    <a:pt x="1736" y="0"/>
                  </a:lnTo>
                  <a:lnTo>
                    <a:pt x="2430" y="0"/>
                  </a:lnTo>
                  <a:lnTo>
                    <a:pt x="3009" y="116"/>
                  </a:lnTo>
                  <a:lnTo>
                    <a:pt x="3703" y="231"/>
                  </a:lnTo>
                  <a:lnTo>
                    <a:pt x="4282" y="463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1001160" y="4089240"/>
              <a:ext cx="24480" cy="105480"/>
            </a:xfrm>
            <a:custGeom>
              <a:avLst/>
              <a:gdLst/>
              <a:ahLst/>
              <a:rect l="l" t="t" r="r" b="b"/>
              <a:pathLst>
                <a:path w="694" h="1969">
                  <a:moveTo>
                    <a:pt x="578" y="1969"/>
                  </a:moveTo>
                  <a:lnTo>
                    <a:pt x="463" y="1969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969"/>
                  </a:lnTo>
                  <a:lnTo>
                    <a:pt x="0" y="1969"/>
                  </a:lnTo>
                  <a:lnTo>
                    <a:pt x="0" y="1853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347" y="0"/>
                  </a:lnTo>
                  <a:lnTo>
                    <a:pt x="694" y="116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1034280" y="4101480"/>
              <a:ext cx="28800" cy="105480"/>
            </a:xfrm>
            <a:custGeom>
              <a:avLst/>
              <a:gdLst/>
              <a:ahLst/>
              <a:rect l="l" t="t" r="r" b="b"/>
              <a:pathLst>
                <a:path w="810" h="1969">
                  <a:moveTo>
                    <a:pt x="694" y="232"/>
                  </a:moveTo>
                  <a:lnTo>
                    <a:pt x="810" y="463"/>
                  </a:lnTo>
                  <a:lnTo>
                    <a:pt x="694" y="579"/>
                  </a:lnTo>
                  <a:lnTo>
                    <a:pt x="694" y="695"/>
                  </a:lnTo>
                  <a:lnTo>
                    <a:pt x="694" y="927"/>
                  </a:lnTo>
                  <a:lnTo>
                    <a:pt x="694" y="1042"/>
                  </a:lnTo>
                  <a:lnTo>
                    <a:pt x="694" y="1274"/>
                  </a:lnTo>
                  <a:lnTo>
                    <a:pt x="694" y="1390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737"/>
                  </a:lnTo>
                  <a:lnTo>
                    <a:pt x="578" y="1737"/>
                  </a:lnTo>
                  <a:lnTo>
                    <a:pt x="463" y="1853"/>
                  </a:lnTo>
                  <a:lnTo>
                    <a:pt x="463" y="1853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853"/>
                  </a:lnTo>
                  <a:lnTo>
                    <a:pt x="115" y="1853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506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231" y="232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116"/>
                  </a:lnTo>
                  <a:lnTo>
                    <a:pt x="347" y="116"/>
                  </a:lnTo>
                  <a:lnTo>
                    <a:pt x="463" y="232"/>
                  </a:lnTo>
                  <a:lnTo>
                    <a:pt x="463" y="232"/>
                  </a:lnTo>
                  <a:lnTo>
                    <a:pt x="578" y="347"/>
                  </a:lnTo>
                  <a:lnTo>
                    <a:pt x="578" y="347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1046520" y="4101480"/>
              <a:ext cx="1241280" cy="441360"/>
            </a:xfrm>
            <a:custGeom>
              <a:avLst/>
              <a:gdLst/>
              <a:ahLst/>
              <a:rect l="l" t="t" r="r" b="b"/>
              <a:pathLst>
                <a:path w="34719" h="8223">
                  <a:moveTo>
                    <a:pt x="-31048" y="0"/>
                  </a:moveTo>
                  <a:lnTo>
                    <a:pt x="-31279" y="232"/>
                  </a:lnTo>
                  <a:lnTo>
                    <a:pt x="-31395" y="347"/>
                  </a:lnTo>
                  <a:lnTo>
                    <a:pt x="-31627" y="579"/>
                  </a:lnTo>
                  <a:lnTo>
                    <a:pt x="-31742" y="811"/>
                  </a:lnTo>
                  <a:lnTo>
                    <a:pt x="-31858" y="1042"/>
                  </a:lnTo>
                  <a:lnTo>
                    <a:pt x="-31858" y="1390"/>
                  </a:lnTo>
                  <a:lnTo>
                    <a:pt x="-31858" y="1621"/>
                  </a:lnTo>
                  <a:lnTo>
                    <a:pt x="-31742" y="1853"/>
                  </a:lnTo>
                  <a:lnTo>
                    <a:pt x="-31742" y="1853"/>
                  </a:lnTo>
                  <a:lnTo>
                    <a:pt x="-31742" y="2085"/>
                  </a:lnTo>
                  <a:lnTo>
                    <a:pt x="-31627" y="2200"/>
                  </a:lnTo>
                  <a:lnTo>
                    <a:pt x="-31511" y="2200"/>
                  </a:lnTo>
                  <a:lnTo>
                    <a:pt x="-31395" y="2316"/>
                  </a:lnTo>
                  <a:lnTo>
                    <a:pt x="-31279" y="2432"/>
                  </a:lnTo>
                  <a:lnTo>
                    <a:pt x="-31164" y="2432"/>
                  </a:lnTo>
                  <a:lnTo>
                    <a:pt x="-30932" y="2548"/>
                  </a:lnTo>
                  <a:lnTo>
                    <a:pt x="-30817" y="2548"/>
                  </a:lnTo>
                  <a:lnTo>
                    <a:pt x="-30817" y="2548"/>
                  </a:lnTo>
                  <a:lnTo>
                    <a:pt x="-31048" y="2664"/>
                  </a:lnTo>
                  <a:lnTo>
                    <a:pt x="-31395" y="2664"/>
                  </a:lnTo>
                  <a:lnTo>
                    <a:pt x="-31627" y="2779"/>
                  </a:lnTo>
                  <a:lnTo>
                    <a:pt x="-31858" y="2779"/>
                  </a:lnTo>
                  <a:lnTo>
                    <a:pt x="-32090" y="2779"/>
                  </a:lnTo>
                  <a:lnTo>
                    <a:pt x="-32437" y="2895"/>
                  </a:lnTo>
                  <a:lnTo>
                    <a:pt x="-32668" y="2895"/>
                  </a:lnTo>
                  <a:lnTo>
                    <a:pt x="32636" y="3011"/>
                  </a:lnTo>
                  <a:lnTo>
                    <a:pt x="32636" y="3011"/>
                  </a:lnTo>
                  <a:lnTo>
                    <a:pt x="32405" y="2895"/>
                  </a:lnTo>
                  <a:lnTo>
                    <a:pt x="32173" y="2779"/>
                  </a:lnTo>
                  <a:lnTo>
                    <a:pt x="31942" y="2779"/>
                  </a:lnTo>
                  <a:lnTo>
                    <a:pt x="31710" y="2779"/>
                  </a:lnTo>
                  <a:lnTo>
                    <a:pt x="31479" y="2779"/>
                  </a:lnTo>
                  <a:lnTo>
                    <a:pt x="31247" y="2779"/>
                  </a:lnTo>
                  <a:lnTo>
                    <a:pt x="31016" y="2895"/>
                  </a:lnTo>
                  <a:lnTo>
                    <a:pt x="30785" y="2895"/>
                  </a:lnTo>
                  <a:lnTo>
                    <a:pt x="30785" y="2895"/>
                  </a:lnTo>
                  <a:lnTo>
                    <a:pt x="29974" y="3474"/>
                  </a:lnTo>
                  <a:lnTo>
                    <a:pt x="29974" y="3474"/>
                  </a:lnTo>
                  <a:lnTo>
                    <a:pt x="29974" y="3359"/>
                  </a:lnTo>
                  <a:lnTo>
                    <a:pt x="29974" y="3359"/>
                  </a:lnTo>
                  <a:lnTo>
                    <a:pt x="29859" y="3243"/>
                  </a:lnTo>
                  <a:lnTo>
                    <a:pt x="29859" y="3127"/>
                  </a:lnTo>
                  <a:lnTo>
                    <a:pt x="29859" y="3127"/>
                  </a:lnTo>
                  <a:lnTo>
                    <a:pt x="29859" y="3011"/>
                  </a:lnTo>
                  <a:lnTo>
                    <a:pt x="29859" y="3011"/>
                  </a:lnTo>
                  <a:lnTo>
                    <a:pt x="29974" y="2895"/>
                  </a:lnTo>
                  <a:lnTo>
                    <a:pt x="29974" y="2895"/>
                  </a:lnTo>
                  <a:lnTo>
                    <a:pt x="-32321" y="2316"/>
                  </a:lnTo>
                  <a:lnTo>
                    <a:pt x="-32321" y="2316"/>
                  </a:lnTo>
                  <a:lnTo>
                    <a:pt x="-32205" y="2316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553" y="2085"/>
                  </a:lnTo>
                  <a:lnTo>
                    <a:pt x="32521" y="2200"/>
                  </a:lnTo>
                  <a:lnTo>
                    <a:pt x="31942" y="2200"/>
                  </a:lnTo>
                  <a:lnTo>
                    <a:pt x="31479" y="2316"/>
                  </a:lnTo>
                  <a:lnTo>
                    <a:pt x="31016" y="2432"/>
                  </a:lnTo>
                  <a:lnTo>
                    <a:pt x="30437" y="2548"/>
                  </a:lnTo>
                  <a:lnTo>
                    <a:pt x="29974" y="2664"/>
                  </a:lnTo>
                  <a:lnTo>
                    <a:pt x="29512" y="2779"/>
                  </a:lnTo>
                  <a:lnTo>
                    <a:pt x="29512" y="2779"/>
                  </a:lnTo>
                  <a:lnTo>
                    <a:pt x="29396" y="2664"/>
                  </a:lnTo>
                  <a:lnTo>
                    <a:pt x="29164" y="2664"/>
                  </a:lnTo>
                  <a:lnTo>
                    <a:pt x="28933" y="2548"/>
                  </a:lnTo>
                  <a:lnTo>
                    <a:pt x="28701" y="2548"/>
                  </a:lnTo>
                  <a:lnTo>
                    <a:pt x="28470" y="2432"/>
                  </a:lnTo>
                  <a:lnTo>
                    <a:pt x="28238" y="2548"/>
                  </a:lnTo>
                  <a:lnTo>
                    <a:pt x="28123" y="2548"/>
                  </a:lnTo>
                  <a:lnTo>
                    <a:pt x="27891" y="2664"/>
                  </a:lnTo>
                  <a:lnTo>
                    <a:pt x="27891" y="2664"/>
                  </a:lnTo>
                  <a:lnTo>
                    <a:pt x="27660" y="2895"/>
                  </a:lnTo>
                  <a:lnTo>
                    <a:pt x="27544" y="3011"/>
                  </a:lnTo>
                  <a:lnTo>
                    <a:pt x="27428" y="3011"/>
                  </a:lnTo>
                  <a:lnTo>
                    <a:pt x="27197" y="3011"/>
                  </a:lnTo>
                  <a:lnTo>
                    <a:pt x="27081" y="2895"/>
                  </a:lnTo>
                  <a:lnTo>
                    <a:pt x="26850" y="2895"/>
                  </a:lnTo>
                  <a:lnTo>
                    <a:pt x="26618" y="2895"/>
                  </a:lnTo>
                  <a:lnTo>
                    <a:pt x="26502" y="3127"/>
                  </a:lnTo>
                  <a:lnTo>
                    <a:pt x="26502" y="3127"/>
                  </a:lnTo>
                  <a:lnTo>
                    <a:pt x="26387" y="3474"/>
                  </a:lnTo>
                  <a:lnTo>
                    <a:pt x="26155" y="3706"/>
                  </a:lnTo>
                  <a:lnTo>
                    <a:pt x="25924" y="3822"/>
                  </a:lnTo>
                  <a:lnTo>
                    <a:pt x="25577" y="3822"/>
                  </a:lnTo>
                  <a:lnTo>
                    <a:pt x="25229" y="3822"/>
                  </a:lnTo>
                  <a:lnTo>
                    <a:pt x="24882" y="3822"/>
                  </a:lnTo>
                  <a:lnTo>
                    <a:pt x="24651" y="3822"/>
                  </a:lnTo>
                  <a:lnTo>
                    <a:pt x="24304" y="3938"/>
                  </a:lnTo>
                  <a:lnTo>
                    <a:pt x="24304" y="3938"/>
                  </a:lnTo>
                  <a:lnTo>
                    <a:pt x="21526" y="4517"/>
                  </a:lnTo>
                  <a:lnTo>
                    <a:pt x="18633" y="5096"/>
                  </a:lnTo>
                  <a:lnTo>
                    <a:pt x="15855" y="5559"/>
                  </a:lnTo>
                  <a:lnTo>
                    <a:pt x="13078" y="6138"/>
                  </a:lnTo>
                  <a:lnTo>
                    <a:pt x="10184" y="6717"/>
                  </a:lnTo>
                  <a:lnTo>
                    <a:pt x="7407" y="7296"/>
                  </a:lnTo>
                  <a:lnTo>
                    <a:pt x="4513" y="7759"/>
                  </a:lnTo>
                  <a:lnTo>
                    <a:pt x="1620" y="8223"/>
                  </a:lnTo>
                  <a:lnTo>
                    <a:pt x="1620" y="8223"/>
                  </a:lnTo>
                  <a:lnTo>
                    <a:pt x="1389" y="8107"/>
                  </a:lnTo>
                  <a:lnTo>
                    <a:pt x="1157" y="7875"/>
                  </a:lnTo>
                  <a:lnTo>
                    <a:pt x="926" y="7759"/>
                  </a:lnTo>
                  <a:lnTo>
                    <a:pt x="694" y="7528"/>
                  </a:lnTo>
                  <a:lnTo>
                    <a:pt x="463" y="7296"/>
                  </a:lnTo>
                  <a:lnTo>
                    <a:pt x="231" y="7064"/>
                  </a:lnTo>
                  <a:lnTo>
                    <a:pt x="116" y="6717"/>
                  </a:lnTo>
                  <a:lnTo>
                    <a:pt x="0" y="6485"/>
                  </a:lnTo>
                  <a:lnTo>
                    <a:pt x="0" y="6485"/>
                  </a:lnTo>
                  <a:lnTo>
                    <a:pt x="4398" y="5675"/>
                  </a:lnTo>
                  <a:lnTo>
                    <a:pt x="8680" y="4864"/>
                  </a:lnTo>
                  <a:lnTo>
                    <a:pt x="12846" y="3938"/>
                  </a:lnTo>
                  <a:lnTo>
                    <a:pt x="17128" y="3127"/>
                  </a:lnTo>
                  <a:lnTo>
                    <a:pt x="21295" y="2316"/>
                  </a:lnTo>
                  <a:lnTo>
                    <a:pt x="25577" y="1506"/>
                  </a:lnTo>
                  <a:lnTo>
                    <a:pt x="29859" y="695"/>
                  </a:lnTo>
                  <a:lnTo>
                    <a:pt x="-31279" y="116"/>
                  </a:lnTo>
                  <a:lnTo>
                    <a:pt x="-31279" y="116"/>
                  </a:lnTo>
                  <a:lnTo>
                    <a:pt x="-31279" y="0"/>
                  </a:lnTo>
                  <a:lnTo>
                    <a:pt x="-31279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856080" y="4194720"/>
              <a:ext cx="322560" cy="565560"/>
            </a:xfrm>
            <a:custGeom>
              <a:avLst/>
              <a:gdLst/>
              <a:ahLst/>
              <a:rect l="l" t="t" r="r" b="b"/>
              <a:pathLst>
                <a:path w="9027" h="10539">
                  <a:moveTo>
                    <a:pt x="7176" y="579"/>
                  </a:moveTo>
                  <a:lnTo>
                    <a:pt x="7176" y="695"/>
                  </a:lnTo>
                  <a:lnTo>
                    <a:pt x="7176" y="811"/>
                  </a:lnTo>
                  <a:lnTo>
                    <a:pt x="7176" y="927"/>
                  </a:lnTo>
                  <a:lnTo>
                    <a:pt x="7060" y="1042"/>
                  </a:lnTo>
                  <a:lnTo>
                    <a:pt x="7060" y="1158"/>
                  </a:lnTo>
                  <a:lnTo>
                    <a:pt x="6944" y="1274"/>
                  </a:lnTo>
                  <a:lnTo>
                    <a:pt x="6828" y="1274"/>
                  </a:lnTo>
                  <a:lnTo>
                    <a:pt x="6713" y="1274"/>
                  </a:lnTo>
                  <a:lnTo>
                    <a:pt x="6713" y="1274"/>
                  </a:lnTo>
                  <a:lnTo>
                    <a:pt x="6597" y="1274"/>
                  </a:lnTo>
                  <a:lnTo>
                    <a:pt x="6365" y="1274"/>
                  </a:lnTo>
                  <a:lnTo>
                    <a:pt x="6134" y="1274"/>
                  </a:lnTo>
                  <a:lnTo>
                    <a:pt x="6018" y="1274"/>
                  </a:lnTo>
                  <a:lnTo>
                    <a:pt x="5787" y="1390"/>
                  </a:lnTo>
                  <a:lnTo>
                    <a:pt x="5671" y="1506"/>
                  </a:lnTo>
                  <a:lnTo>
                    <a:pt x="5555" y="1622"/>
                  </a:lnTo>
                  <a:lnTo>
                    <a:pt x="5440" y="1737"/>
                  </a:lnTo>
                  <a:lnTo>
                    <a:pt x="5440" y="1737"/>
                  </a:lnTo>
                  <a:lnTo>
                    <a:pt x="5324" y="1969"/>
                  </a:lnTo>
                  <a:lnTo>
                    <a:pt x="5092" y="2201"/>
                  </a:lnTo>
                  <a:lnTo>
                    <a:pt x="4977" y="2432"/>
                  </a:lnTo>
                  <a:lnTo>
                    <a:pt x="4861" y="2664"/>
                  </a:lnTo>
                  <a:lnTo>
                    <a:pt x="4745" y="2895"/>
                  </a:lnTo>
                  <a:lnTo>
                    <a:pt x="4745" y="3127"/>
                  </a:lnTo>
                  <a:lnTo>
                    <a:pt x="4629" y="3359"/>
                  </a:lnTo>
                  <a:lnTo>
                    <a:pt x="4745" y="3590"/>
                  </a:lnTo>
                  <a:lnTo>
                    <a:pt x="4745" y="3590"/>
                  </a:lnTo>
                  <a:lnTo>
                    <a:pt x="4629" y="3822"/>
                  </a:lnTo>
                  <a:lnTo>
                    <a:pt x="4629" y="4054"/>
                  </a:lnTo>
                  <a:lnTo>
                    <a:pt x="4629" y="4401"/>
                  </a:lnTo>
                  <a:lnTo>
                    <a:pt x="4745" y="4633"/>
                  </a:lnTo>
                  <a:lnTo>
                    <a:pt x="4861" y="4864"/>
                  </a:lnTo>
                  <a:lnTo>
                    <a:pt x="4861" y="5212"/>
                  </a:lnTo>
                  <a:lnTo>
                    <a:pt x="4977" y="5443"/>
                  </a:lnTo>
                  <a:lnTo>
                    <a:pt x="5092" y="5675"/>
                  </a:lnTo>
                  <a:lnTo>
                    <a:pt x="5092" y="5675"/>
                  </a:lnTo>
                  <a:lnTo>
                    <a:pt x="5555" y="6138"/>
                  </a:lnTo>
                  <a:lnTo>
                    <a:pt x="5902" y="6486"/>
                  </a:lnTo>
                  <a:lnTo>
                    <a:pt x="6481" y="6717"/>
                  </a:lnTo>
                  <a:lnTo>
                    <a:pt x="6944" y="6949"/>
                  </a:lnTo>
                  <a:lnTo>
                    <a:pt x="7523" y="7180"/>
                  </a:lnTo>
                  <a:lnTo>
                    <a:pt x="7986" y="7296"/>
                  </a:lnTo>
                  <a:lnTo>
                    <a:pt x="8564" y="7528"/>
                  </a:lnTo>
                  <a:lnTo>
                    <a:pt x="9027" y="7875"/>
                  </a:lnTo>
                  <a:lnTo>
                    <a:pt x="9027" y="7875"/>
                  </a:lnTo>
                  <a:lnTo>
                    <a:pt x="9027" y="7991"/>
                  </a:lnTo>
                  <a:lnTo>
                    <a:pt x="9027" y="8107"/>
                  </a:lnTo>
                  <a:lnTo>
                    <a:pt x="9027" y="8223"/>
                  </a:lnTo>
                  <a:lnTo>
                    <a:pt x="8911" y="8339"/>
                  </a:lnTo>
                  <a:lnTo>
                    <a:pt x="8911" y="8454"/>
                  </a:lnTo>
                  <a:lnTo>
                    <a:pt x="8911" y="8570"/>
                  </a:lnTo>
                  <a:lnTo>
                    <a:pt x="8796" y="8686"/>
                  </a:lnTo>
                  <a:lnTo>
                    <a:pt x="8796" y="8802"/>
                  </a:lnTo>
                  <a:lnTo>
                    <a:pt x="8796" y="8802"/>
                  </a:lnTo>
                  <a:lnTo>
                    <a:pt x="8449" y="8918"/>
                  </a:lnTo>
                  <a:lnTo>
                    <a:pt x="8217" y="9033"/>
                  </a:lnTo>
                  <a:lnTo>
                    <a:pt x="7870" y="8918"/>
                  </a:lnTo>
                  <a:lnTo>
                    <a:pt x="7638" y="8918"/>
                  </a:lnTo>
                  <a:lnTo>
                    <a:pt x="7291" y="8686"/>
                  </a:lnTo>
                  <a:lnTo>
                    <a:pt x="7060" y="8570"/>
                  </a:lnTo>
                  <a:lnTo>
                    <a:pt x="6828" y="8454"/>
                  </a:lnTo>
                  <a:lnTo>
                    <a:pt x="6597" y="8223"/>
                  </a:lnTo>
                  <a:lnTo>
                    <a:pt x="6597" y="8223"/>
                  </a:lnTo>
                  <a:lnTo>
                    <a:pt x="6134" y="8223"/>
                  </a:lnTo>
                  <a:lnTo>
                    <a:pt x="5787" y="8107"/>
                  </a:lnTo>
                  <a:lnTo>
                    <a:pt x="5440" y="7991"/>
                  </a:lnTo>
                  <a:lnTo>
                    <a:pt x="5092" y="7759"/>
                  </a:lnTo>
                  <a:lnTo>
                    <a:pt x="4745" y="7528"/>
                  </a:lnTo>
                  <a:lnTo>
                    <a:pt x="4398" y="7296"/>
                  </a:lnTo>
                  <a:lnTo>
                    <a:pt x="4051" y="7065"/>
                  </a:lnTo>
                  <a:lnTo>
                    <a:pt x="3704" y="6949"/>
                  </a:lnTo>
                  <a:lnTo>
                    <a:pt x="3704" y="6949"/>
                  </a:lnTo>
                  <a:lnTo>
                    <a:pt x="3588" y="6833"/>
                  </a:lnTo>
                  <a:lnTo>
                    <a:pt x="3472" y="6949"/>
                  </a:lnTo>
                  <a:lnTo>
                    <a:pt x="4861" y="8223"/>
                  </a:lnTo>
                  <a:lnTo>
                    <a:pt x="4861" y="8223"/>
                  </a:lnTo>
                  <a:lnTo>
                    <a:pt x="4514" y="8223"/>
                  </a:lnTo>
                  <a:lnTo>
                    <a:pt x="4166" y="8107"/>
                  </a:lnTo>
                  <a:lnTo>
                    <a:pt x="3819" y="7875"/>
                  </a:lnTo>
                  <a:lnTo>
                    <a:pt x="3588" y="7644"/>
                  </a:lnTo>
                  <a:lnTo>
                    <a:pt x="3241" y="7412"/>
                  </a:lnTo>
                  <a:lnTo>
                    <a:pt x="3009" y="7180"/>
                  </a:lnTo>
                  <a:lnTo>
                    <a:pt x="2662" y="7065"/>
                  </a:lnTo>
                  <a:lnTo>
                    <a:pt x="2430" y="6949"/>
                  </a:lnTo>
                  <a:lnTo>
                    <a:pt x="2430" y="6949"/>
                  </a:lnTo>
                  <a:lnTo>
                    <a:pt x="2546" y="7180"/>
                  </a:lnTo>
                  <a:lnTo>
                    <a:pt x="2662" y="7412"/>
                  </a:lnTo>
                  <a:lnTo>
                    <a:pt x="2893" y="7644"/>
                  </a:lnTo>
                  <a:lnTo>
                    <a:pt x="3125" y="7875"/>
                  </a:lnTo>
                  <a:lnTo>
                    <a:pt x="3241" y="7991"/>
                  </a:lnTo>
                  <a:lnTo>
                    <a:pt x="3472" y="8223"/>
                  </a:lnTo>
                  <a:lnTo>
                    <a:pt x="3704" y="8454"/>
                  </a:lnTo>
                  <a:lnTo>
                    <a:pt x="3935" y="8570"/>
                  </a:lnTo>
                  <a:lnTo>
                    <a:pt x="3935" y="8570"/>
                  </a:lnTo>
                  <a:lnTo>
                    <a:pt x="3935" y="8686"/>
                  </a:lnTo>
                  <a:lnTo>
                    <a:pt x="3819" y="8686"/>
                  </a:lnTo>
                  <a:lnTo>
                    <a:pt x="3588" y="8802"/>
                  </a:lnTo>
                  <a:lnTo>
                    <a:pt x="3472" y="8802"/>
                  </a:lnTo>
                  <a:lnTo>
                    <a:pt x="3356" y="8802"/>
                  </a:lnTo>
                  <a:lnTo>
                    <a:pt x="3241" y="8802"/>
                  </a:lnTo>
                  <a:lnTo>
                    <a:pt x="3009" y="8802"/>
                  </a:lnTo>
                  <a:lnTo>
                    <a:pt x="3009" y="8686"/>
                  </a:lnTo>
                  <a:lnTo>
                    <a:pt x="3009" y="8686"/>
                  </a:lnTo>
                  <a:lnTo>
                    <a:pt x="2662" y="8570"/>
                  </a:lnTo>
                  <a:lnTo>
                    <a:pt x="2546" y="8339"/>
                  </a:lnTo>
                  <a:lnTo>
                    <a:pt x="2315" y="8107"/>
                  </a:lnTo>
                  <a:lnTo>
                    <a:pt x="2083" y="7875"/>
                  </a:lnTo>
                  <a:lnTo>
                    <a:pt x="1852" y="7644"/>
                  </a:lnTo>
                  <a:lnTo>
                    <a:pt x="1620" y="7412"/>
                  </a:lnTo>
                  <a:lnTo>
                    <a:pt x="1505" y="7296"/>
                  </a:lnTo>
                  <a:lnTo>
                    <a:pt x="1273" y="7065"/>
                  </a:lnTo>
                  <a:lnTo>
                    <a:pt x="1273" y="7065"/>
                  </a:lnTo>
                  <a:lnTo>
                    <a:pt x="1157" y="7412"/>
                  </a:lnTo>
                  <a:lnTo>
                    <a:pt x="1157" y="7759"/>
                  </a:lnTo>
                  <a:lnTo>
                    <a:pt x="1157" y="8107"/>
                  </a:lnTo>
                  <a:lnTo>
                    <a:pt x="1157" y="8454"/>
                  </a:lnTo>
                  <a:lnTo>
                    <a:pt x="1273" y="8802"/>
                  </a:lnTo>
                  <a:lnTo>
                    <a:pt x="1389" y="9149"/>
                  </a:lnTo>
                  <a:lnTo>
                    <a:pt x="1505" y="9612"/>
                  </a:lnTo>
                  <a:lnTo>
                    <a:pt x="1620" y="9960"/>
                  </a:lnTo>
                  <a:lnTo>
                    <a:pt x="1620" y="9960"/>
                  </a:lnTo>
                  <a:lnTo>
                    <a:pt x="1620" y="10539"/>
                  </a:lnTo>
                  <a:lnTo>
                    <a:pt x="1620" y="10539"/>
                  </a:lnTo>
                  <a:lnTo>
                    <a:pt x="1389" y="10539"/>
                  </a:lnTo>
                  <a:lnTo>
                    <a:pt x="1273" y="10539"/>
                  </a:lnTo>
                  <a:lnTo>
                    <a:pt x="1042" y="10423"/>
                  </a:lnTo>
                  <a:lnTo>
                    <a:pt x="926" y="10423"/>
                  </a:lnTo>
                  <a:lnTo>
                    <a:pt x="810" y="10191"/>
                  </a:lnTo>
                  <a:lnTo>
                    <a:pt x="695" y="10076"/>
                  </a:lnTo>
                  <a:lnTo>
                    <a:pt x="579" y="9960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116" y="9149"/>
                  </a:lnTo>
                  <a:lnTo>
                    <a:pt x="0" y="8570"/>
                  </a:lnTo>
                  <a:lnTo>
                    <a:pt x="116" y="7991"/>
                  </a:lnTo>
                  <a:lnTo>
                    <a:pt x="347" y="7412"/>
                  </a:lnTo>
                  <a:lnTo>
                    <a:pt x="579" y="6833"/>
                  </a:lnTo>
                  <a:lnTo>
                    <a:pt x="810" y="6138"/>
                  </a:lnTo>
                  <a:lnTo>
                    <a:pt x="926" y="5559"/>
                  </a:lnTo>
                  <a:lnTo>
                    <a:pt x="926" y="4864"/>
                  </a:lnTo>
                  <a:lnTo>
                    <a:pt x="926" y="4864"/>
                  </a:lnTo>
                  <a:lnTo>
                    <a:pt x="1157" y="4864"/>
                  </a:lnTo>
                  <a:lnTo>
                    <a:pt x="1389" y="4864"/>
                  </a:lnTo>
                  <a:lnTo>
                    <a:pt x="1620" y="4864"/>
                  </a:lnTo>
                  <a:lnTo>
                    <a:pt x="1852" y="4748"/>
                  </a:lnTo>
                  <a:lnTo>
                    <a:pt x="2083" y="4633"/>
                  </a:lnTo>
                  <a:lnTo>
                    <a:pt x="2315" y="4517"/>
                  </a:lnTo>
                  <a:lnTo>
                    <a:pt x="2546" y="4401"/>
                  </a:lnTo>
                  <a:lnTo>
                    <a:pt x="2662" y="4169"/>
                  </a:lnTo>
                  <a:lnTo>
                    <a:pt x="2662" y="4169"/>
                  </a:lnTo>
                  <a:lnTo>
                    <a:pt x="2778" y="3822"/>
                  </a:lnTo>
                  <a:lnTo>
                    <a:pt x="3009" y="3475"/>
                  </a:lnTo>
                  <a:lnTo>
                    <a:pt x="3125" y="3127"/>
                  </a:lnTo>
                  <a:lnTo>
                    <a:pt x="3241" y="2780"/>
                  </a:lnTo>
                  <a:lnTo>
                    <a:pt x="3241" y="2432"/>
                  </a:lnTo>
                  <a:lnTo>
                    <a:pt x="3241" y="2085"/>
                  </a:lnTo>
                  <a:lnTo>
                    <a:pt x="3125" y="1737"/>
                  </a:lnTo>
                  <a:lnTo>
                    <a:pt x="3009" y="1390"/>
                  </a:lnTo>
                  <a:lnTo>
                    <a:pt x="3009" y="1390"/>
                  </a:lnTo>
                  <a:lnTo>
                    <a:pt x="3125" y="1274"/>
                  </a:lnTo>
                  <a:lnTo>
                    <a:pt x="3241" y="1042"/>
                  </a:lnTo>
                  <a:lnTo>
                    <a:pt x="3472" y="811"/>
                  </a:lnTo>
                  <a:lnTo>
                    <a:pt x="3704" y="695"/>
                  </a:lnTo>
                  <a:lnTo>
                    <a:pt x="3819" y="579"/>
                  </a:lnTo>
                  <a:lnTo>
                    <a:pt x="4051" y="463"/>
                  </a:lnTo>
                  <a:lnTo>
                    <a:pt x="4282" y="463"/>
                  </a:lnTo>
                  <a:lnTo>
                    <a:pt x="4629" y="463"/>
                  </a:lnTo>
                  <a:lnTo>
                    <a:pt x="4629" y="463"/>
                  </a:lnTo>
                  <a:lnTo>
                    <a:pt x="4745" y="579"/>
                  </a:lnTo>
                  <a:lnTo>
                    <a:pt x="4977" y="579"/>
                  </a:lnTo>
                  <a:lnTo>
                    <a:pt x="5092" y="695"/>
                  </a:lnTo>
                  <a:lnTo>
                    <a:pt x="5324" y="811"/>
                  </a:lnTo>
                  <a:lnTo>
                    <a:pt x="5440" y="927"/>
                  </a:lnTo>
                  <a:lnTo>
                    <a:pt x="5555" y="927"/>
                  </a:lnTo>
                  <a:lnTo>
                    <a:pt x="5787" y="927"/>
                  </a:lnTo>
                  <a:lnTo>
                    <a:pt x="6018" y="811"/>
                  </a:lnTo>
                  <a:lnTo>
                    <a:pt x="6018" y="811"/>
                  </a:lnTo>
                  <a:lnTo>
                    <a:pt x="5671" y="463"/>
                  </a:lnTo>
                  <a:lnTo>
                    <a:pt x="5671" y="463"/>
                  </a:lnTo>
                  <a:lnTo>
                    <a:pt x="5902" y="348"/>
                  </a:lnTo>
                  <a:lnTo>
                    <a:pt x="6134" y="232"/>
                  </a:lnTo>
                  <a:lnTo>
                    <a:pt x="6365" y="116"/>
                  </a:lnTo>
                  <a:lnTo>
                    <a:pt x="6597" y="0"/>
                  </a:lnTo>
                  <a:lnTo>
                    <a:pt x="6828" y="0"/>
                  </a:lnTo>
                  <a:lnTo>
                    <a:pt x="6944" y="116"/>
                  </a:lnTo>
                  <a:lnTo>
                    <a:pt x="7060" y="232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847800" y="4250880"/>
              <a:ext cx="103320" cy="173880"/>
            </a:xfrm>
            <a:custGeom>
              <a:avLst/>
              <a:gdLst/>
              <a:ahLst/>
              <a:rect l="l" t="t" r="r" b="b"/>
              <a:pathLst>
                <a:path w="2893" h="3243">
                  <a:moveTo>
                    <a:pt x="2893" y="927"/>
                  </a:moveTo>
                  <a:lnTo>
                    <a:pt x="2893" y="1159"/>
                  </a:lnTo>
                  <a:lnTo>
                    <a:pt x="2893" y="1390"/>
                  </a:lnTo>
                  <a:lnTo>
                    <a:pt x="2893" y="1622"/>
                  </a:lnTo>
                  <a:lnTo>
                    <a:pt x="2893" y="1853"/>
                  </a:lnTo>
                  <a:lnTo>
                    <a:pt x="2777" y="2085"/>
                  </a:lnTo>
                  <a:lnTo>
                    <a:pt x="2661" y="2317"/>
                  </a:lnTo>
                  <a:lnTo>
                    <a:pt x="2546" y="2548"/>
                  </a:lnTo>
                  <a:lnTo>
                    <a:pt x="2430" y="2780"/>
                  </a:lnTo>
                  <a:lnTo>
                    <a:pt x="2430" y="2780"/>
                  </a:lnTo>
                  <a:lnTo>
                    <a:pt x="2314" y="2896"/>
                  </a:lnTo>
                  <a:lnTo>
                    <a:pt x="2199" y="3012"/>
                  </a:lnTo>
                  <a:lnTo>
                    <a:pt x="1967" y="3127"/>
                  </a:lnTo>
                  <a:lnTo>
                    <a:pt x="1851" y="3243"/>
                  </a:lnTo>
                  <a:lnTo>
                    <a:pt x="1620" y="3243"/>
                  </a:lnTo>
                  <a:lnTo>
                    <a:pt x="1388" y="3243"/>
                  </a:lnTo>
                  <a:lnTo>
                    <a:pt x="1157" y="3243"/>
                  </a:lnTo>
                  <a:lnTo>
                    <a:pt x="1041" y="3243"/>
                  </a:lnTo>
                  <a:lnTo>
                    <a:pt x="1041" y="3243"/>
                  </a:lnTo>
                  <a:lnTo>
                    <a:pt x="810" y="3127"/>
                  </a:lnTo>
                  <a:lnTo>
                    <a:pt x="694" y="3127"/>
                  </a:lnTo>
                  <a:lnTo>
                    <a:pt x="463" y="3012"/>
                  </a:lnTo>
                  <a:lnTo>
                    <a:pt x="347" y="2896"/>
                  </a:lnTo>
                  <a:lnTo>
                    <a:pt x="231" y="2664"/>
                  </a:lnTo>
                  <a:lnTo>
                    <a:pt x="231" y="2548"/>
                  </a:lnTo>
                  <a:lnTo>
                    <a:pt x="115" y="2433"/>
                  </a:lnTo>
                  <a:lnTo>
                    <a:pt x="0" y="2201"/>
                  </a:lnTo>
                  <a:lnTo>
                    <a:pt x="0" y="2201"/>
                  </a:lnTo>
                  <a:lnTo>
                    <a:pt x="231" y="2317"/>
                  </a:lnTo>
                  <a:lnTo>
                    <a:pt x="347" y="2317"/>
                  </a:lnTo>
                  <a:lnTo>
                    <a:pt x="578" y="2317"/>
                  </a:lnTo>
                  <a:lnTo>
                    <a:pt x="810" y="2317"/>
                  </a:lnTo>
                  <a:lnTo>
                    <a:pt x="926" y="2317"/>
                  </a:lnTo>
                  <a:lnTo>
                    <a:pt x="1157" y="2201"/>
                  </a:lnTo>
                  <a:lnTo>
                    <a:pt x="1388" y="2201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736" y="1738"/>
                  </a:lnTo>
                  <a:lnTo>
                    <a:pt x="1851" y="1506"/>
                  </a:lnTo>
                  <a:lnTo>
                    <a:pt x="1851" y="1390"/>
                  </a:lnTo>
                  <a:lnTo>
                    <a:pt x="1967" y="1159"/>
                  </a:lnTo>
                  <a:lnTo>
                    <a:pt x="1967" y="1043"/>
                  </a:lnTo>
                  <a:lnTo>
                    <a:pt x="1851" y="811"/>
                  </a:lnTo>
                  <a:lnTo>
                    <a:pt x="1736" y="695"/>
                  </a:lnTo>
                  <a:lnTo>
                    <a:pt x="1736" y="695"/>
                  </a:lnTo>
                  <a:lnTo>
                    <a:pt x="1504" y="232"/>
                  </a:lnTo>
                  <a:lnTo>
                    <a:pt x="1504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116"/>
                  </a:lnTo>
                  <a:lnTo>
                    <a:pt x="2314" y="232"/>
                  </a:lnTo>
                  <a:lnTo>
                    <a:pt x="2546" y="348"/>
                  </a:lnTo>
                  <a:lnTo>
                    <a:pt x="2661" y="580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2027520" y="4257000"/>
              <a:ext cx="74520" cy="173880"/>
            </a:xfrm>
            <a:custGeom>
              <a:avLst/>
              <a:gdLst/>
              <a:ahLst/>
              <a:rect l="l" t="t" r="r" b="b"/>
              <a:pathLst>
                <a:path w="2084" h="3243">
                  <a:moveTo>
                    <a:pt x="2084" y="464"/>
                  </a:moveTo>
                  <a:lnTo>
                    <a:pt x="2084" y="811"/>
                  </a:lnTo>
                  <a:lnTo>
                    <a:pt x="2084" y="1043"/>
                  </a:lnTo>
                  <a:lnTo>
                    <a:pt x="1968" y="1274"/>
                  </a:lnTo>
                  <a:lnTo>
                    <a:pt x="1852" y="1622"/>
                  </a:lnTo>
                  <a:lnTo>
                    <a:pt x="1736" y="1853"/>
                  </a:lnTo>
                  <a:lnTo>
                    <a:pt x="1621" y="2085"/>
                  </a:lnTo>
                  <a:lnTo>
                    <a:pt x="1505" y="2317"/>
                  </a:lnTo>
                  <a:lnTo>
                    <a:pt x="1389" y="2548"/>
                  </a:lnTo>
                  <a:lnTo>
                    <a:pt x="1389" y="2548"/>
                  </a:lnTo>
                  <a:lnTo>
                    <a:pt x="1158" y="2664"/>
                  </a:lnTo>
                  <a:lnTo>
                    <a:pt x="1042" y="2780"/>
                  </a:lnTo>
                  <a:lnTo>
                    <a:pt x="926" y="2896"/>
                  </a:lnTo>
                  <a:lnTo>
                    <a:pt x="695" y="3011"/>
                  </a:lnTo>
                  <a:lnTo>
                    <a:pt x="579" y="3127"/>
                  </a:lnTo>
                  <a:lnTo>
                    <a:pt x="463" y="3243"/>
                  </a:lnTo>
                  <a:lnTo>
                    <a:pt x="232" y="3243"/>
                  </a:lnTo>
                  <a:lnTo>
                    <a:pt x="0" y="3243"/>
                  </a:lnTo>
                  <a:lnTo>
                    <a:pt x="0" y="3243"/>
                  </a:lnTo>
                  <a:lnTo>
                    <a:pt x="116" y="2896"/>
                  </a:lnTo>
                  <a:lnTo>
                    <a:pt x="116" y="2548"/>
                  </a:lnTo>
                  <a:lnTo>
                    <a:pt x="232" y="2317"/>
                  </a:lnTo>
                  <a:lnTo>
                    <a:pt x="348" y="1969"/>
                  </a:lnTo>
                  <a:lnTo>
                    <a:pt x="348" y="1622"/>
                  </a:lnTo>
                  <a:lnTo>
                    <a:pt x="348" y="1274"/>
                  </a:lnTo>
                  <a:lnTo>
                    <a:pt x="348" y="927"/>
                  </a:lnTo>
                  <a:lnTo>
                    <a:pt x="232" y="579"/>
                  </a:lnTo>
                  <a:lnTo>
                    <a:pt x="232" y="579"/>
                  </a:lnTo>
                  <a:lnTo>
                    <a:pt x="348" y="232"/>
                  </a:lnTo>
                  <a:lnTo>
                    <a:pt x="463" y="116"/>
                  </a:lnTo>
                  <a:lnTo>
                    <a:pt x="695" y="0"/>
                  </a:lnTo>
                  <a:lnTo>
                    <a:pt x="1042" y="0"/>
                  </a:lnTo>
                  <a:lnTo>
                    <a:pt x="1273" y="116"/>
                  </a:lnTo>
                  <a:lnTo>
                    <a:pt x="1621" y="232"/>
                  </a:lnTo>
                  <a:lnTo>
                    <a:pt x="1852" y="348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089440" y="4269600"/>
              <a:ext cx="119880" cy="142920"/>
            </a:xfrm>
            <a:custGeom>
              <a:avLst/>
              <a:gdLst/>
              <a:ahLst/>
              <a:rect l="l" t="t" r="r" b="b"/>
              <a:pathLst>
                <a:path w="3357" h="2664">
                  <a:moveTo>
                    <a:pt x="3357" y="347"/>
                  </a:moveTo>
                  <a:lnTo>
                    <a:pt x="3125" y="811"/>
                  </a:lnTo>
                  <a:lnTo>
                    <a:pt x="2894" y="1158"/>
                  </a:lnTo>
                  <a:lnTo>
                    <a:pt x="2546" y="1505"/>
                  </a:lnTo>
                  <a:lnTo>
                    <a:pt x="2199" y="1853"/>
                  </a:lnTo>
                  <a:lnTo>
                    <a:pt x="1852" y="2200"/>
                  </a:lnTo>
                  <a:lnTo>
                    <a:pt x="1505" y="2432"/>
                  </a:lnTo>
                  <a:lnTo>
                    <a:pt x="1042" y="2548"/>
                  </a:lnTo>
                  <a:lnTo>
                    <a:pt x="695" y="2664"/>
                  </a:lnTo>
                  <a:lnTo>
                    <a:pt x="695" y="2664"/>
                  </a:lnTo>
                  <a:lnTo>
                    <a:pt x="0" y="2548"/>
                  </a:lnTo>
                  <a:lnTo>
                    <a:pt x="0" y="2548"/>
                  </a:lnTo>
                  <a:lnTo>
                    <a:pt x="348" y="2200"/>
                  </a:lnTo>
                  <a:lnTo>
                    <a:pt x="463" y="1853"/>
                  </a:lnTo>
                  <a:lnTo>
                    <a:pt x="695" y="1505"/>
                  </a:lnTo>
                  <a:lnTo>
                    <a:pt x="810" y="1158"/>
                  </a:lnTo>
                  <a:lnTo>
                    <a:pt x="926" y="811"/>
                  </a:lnTo>
                  <a:lnTo>
                    <a:pt x="1158" y="579"/>
                  </a:lnTo>
                  <a:lnTo>
                    <a:pt x="1505" y="232"/>
                  </a:lnTo>
                  <a:lnTo>
                    <a:pt x="1852" y="116"/>
                  </a:lnTo>
                  <a:lnTo>
                    <a:pt x="1852" y="116"/>
                  </a:lnTo>
                  <a:lnTo>
                    <a:pt x="2083" y="0"/>
                  </a:lnTo>
                  <a:lnTo>
                    <a:pt x="2315" y="0"/>
                  </a:lnTo>
                  <a:lnTo>
                    <a:pt x="2431" y="0"/>
                  </a:lnTo>
                  <a:lnTo>
                    <a:pt x="2662" y="0"/>
                  </a:lnTo>
                  <a:lnTo>
                    <a:pt x="2778" y="116"/>
                  </a:lnTo>
                  <a:lnTo>
                    <a:pt x="3009" y="116"/>
                  </a:lnTo>
                  <a:lnTo>
                    <a:pt x="3125" y="232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1923840" y="4287960"/>
              <a:ext cx="99000" cy="186480"/>
            </a:xfrm>
            <a:custGeom>
              <a:avLst/>
              <a:gdLst/>
              <a:ahLst/>
              <a:rect l="l" t="t" r="r" b="b"/>
              <a:pathLst>
                <a:path w="2778" h="3475">
                  <a:moveTo>
                    <a:pt x="2778" y="1158"/>
                  </a:moveTo>
                  <a:lnTo>
                    <a:pt x="2662" y="1506"/>
                  </a:lnTo>
                  <a:lnTo>
                    <a:pt x="2662" y="1738"/>
                  </a:lnTo>
                  <a:lnTo>
                    <a:pt x="2546" y="2085"/>
                  </a:lnTo>
                  <a:lnTo>
                    <a:pt x="2430" y="2317"/>
                  </a:lnTo>
                  <a:lnTo>
                    <a:pt x="2430" y="2664"/>
                  </a:lnTo>
                  <a:lnTo>
                    <a:pt x="2199" y="2896"/>
                  </a:lnTo>
                  <a:lnTo>
                    <a:pt x="2083" y="3127"/>
                  </a:lnTo>
                  <a:lnTo>
                    <a:pt x="1736" y="3243"/>
                  </a:lnTo>
                  <a:lnTo>
                    <a:pt x="1736" y="3243"/>
                  </a:lnTo>
                  <a:lnTo>
                    <a:pt x="1620" y="3359"/>
                  </a:lnTo>
                  <a:lnTo>
                    <a:pt x="1505" y="3359"/>
                  </a:lnTo>
                  <a:lnTo>
                    <a:pt x="1273" y="3359"/>
                  </a:lnTo>
                  <a:lnTo>
                    <a:pt x="1157" y="3475"/>
                  </a:lnTo>
                  <a:lnTo>
                    <a:pt x="1042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579" y="3359"/>
                  </a:lnTo>
                  <a:lnTo>
                    <a:pt x="579" y="3359"/>
                  </a:lnTo>
                  <a:lnTo>
                    <a:pt x="347" y="3127"/>
                  </a:lnTo>
                  <a:lnTo>
                    <a:pt x="231" y="2896"/>
                  </a:lnTo>
                  <a:lnTo>
                    <a:pt x="231" y="2664"/>
                  </a:lnTo>
                  <a:lnTo>
                    <a:pt x="116" y="2432"/>
                  </a:lnTo>
                  <a:lnTo>
                    <a:pt x="116" y="2201"/>
                  </a:lnTo>
                  <a:lnTo>
                    <a:pt x="116" y="1969"/>
                  </a:lnTo>
                  <a:lnTo>
                    <a:pt x="0" y="1738"/>
                  </a:lnTo>
                  <a:lnTo>
                    <a:pt x="0" y="1506"/>
                  </a:lnTo>
                  <a:lnTo>
                    <a:pt x="0" y="1506"/>
                  </a:lnTo>
                  <a:lnTo>
                    <a:pt x="926" y="1274"/>
                  </a:lnTo>
                  <a:lnTo>
                    <a:pt x="926" y="1274"/>
                  </a:lnTo>
                  <a:lnTo>
                    <a:pt x="926" y="1390"/>
                  </a:lnTo>
                  <a:lnTo>
                    <a:pt x="926" y="1506"/>
                  </a:lnTo>
                  <a:lnTo>
                    <a:pt x="926" y="1622"/>
                  </a:lnTo>
                  <a:lnTo>
                    <a:pt x="926" y="1738"/>
                  </a:lnTo>
                  <a:lnTo>
                    <a:pt x="926" y="1853"/>
                  </a:lnTo>
                  <a:lnTo>
                    <a:pt x="926" y="1853"/>
                  </a:lnTo>
                  <a:lnTo>
                    <a:pt x="926" y="1969"/>
                  </a:lnTo>
                  <a:lnTo>
                    <a:pt x="1042" y="2085"/>
                  </a:lnTo>
                  <a:lnTo>
                    <a:pt x="1042" y="2085"/>
                  </a:lnTo>
                  <a:lnTo>
                    <a:pt x="1157" y="1738"/>
                  </a:lnTo>
                  <a:lnTo>
                    <a:pt x="1273" y="1390"/>
                  </a:lnTo>
                  <a:lnTo>
                    <a:pt x="1389" y="1158"/>
                  </a:lnTo>
                  <a:lnTo>
                    <a:pt x="1620" y="927"/>
                  </a:lnTo>
                  <a:lnTo>
                    <a:pt x="1852" y="579"/>
                  </a:lnTo>
                  <a:lnTo>
                    <a:pt x="2083" y="348"/>
                  </a:lnTo>
                  <a:lnTo>
                    <a:pt x="2315" y="232"/>
                  </a:lnTo>
                  <a:lnTo>
                    <a:pt x="2546" y="0"/>
                  </a:lnTo>
                  <a:lnTo>
                    <a:pt x="2546" y="0"/>
                  </a:lnTo>
                  <a:lnTo>
                    <a:pt x="2662" y="116"/>
                  </a:lnTo>
                  <a:lnTo>
                    <a:pt x="2778" y="232"/>
                  </a:lnTo>
                  <a:lnTo>
                    <a:pt x="2778" y="348"/>
                  </a:lnTo>
                  <a:lnTo>
                    <a:pt x="2778" y="579"/>
                  </a:lnTo>
                  <a:lnTo>
                    <a:pt x="2778" y="695"/>
                  </a:lnTo>
                  <a:lnTo>
                    <a:pt x="2778" y="927"/>
                  </a:lnTo>
                  <a:lnTo>
                    <a:pt x="2778" y="1043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1141560" y="4319280"/>
              <a:ext cx="827640" cy="254880"/>
            </a:xfrm>
            <a:custGeom>
              <a:avLst/>
              <a:gdLst/>
              <a:ahLst/>
              <a:rect l="l" t="t" r="r" b="b"/>
              <a:pathLst>
                <a:path w="23146" h="4749">
                  <a:moveTo>
                    <a:pt x="23146" y="0"/>
                  </a:moveTo>
                  <a:lnTo>
                    <a:pt x="22336" y="232"/>
                  </a:lnTo>
                  <a:lnTo>
                    <a:pt x="21526" y="464"/>
                  </a:lnTo>
                  <a:lnTo>
                    <a:pt x="20600" y="695"/>
                  </a:lnTo>
                  <a:lnTo>
                    <a:pt x="19790" y="1043"/>
                  </a:lnTo>
                  <a:lnTo>
                    <a:pt x="18980" y="1274"/>
                  </a:lnTo>
                  <a:lnTo>
                    <a:pt x="18054" y="1390"/>
                  </a:lnTo>
                  <a:lnTo>
                    <a:pt x="17128" y="1622"/>
                  </a:lnTo>
                  <a:lnTo>
                    <a:pt x="16318" y="1738"/>
                  </a:lnTo>
                  <a:lnTo>
                    <a:pt x="16318" y="1738"/>
                  </a:lnTo>
                  <a:lnTo>
                    <a:pt x="4397" y="4054"/>
                  </a:lnTo>
                  <a:lnTo>
                    <a:pt x="810" y="4749"/>
                  </a:lnTo>
                  <a:lnTo>
                    <a:pt x="0" y="4401"/>
                  </a:lnTo>
                  <a:lnTo>
                    <a:pt x="0" y="4401"/>
                  </a:lnTo>
                  <a:lnTo>
                    <a:pt x="2314" y="3938"/>
                  </a:lnTo>
                  <a:lnTo>
                    <a:pt x="4629" y="3591"/>
                  </a:lnTo>
                  <a:lnTo>
                    <a:pt x="6944" y="3127"/>
                  </a:lnTo>
                  <a:lnTo>
                    <a:pt x="9258" y="2664"/>
                  </a:lnTo>
                  <a:lnTo>
                    <a:pt x="11573" y="2201"/>
                  </a:lnTo>
                  <a:lnTo>
                    <a:pt x="13888" y="1738"/>
                  </a:lnTo>
                  <a:lnTo>
                    <a:pt x="16202" y="1274"/>
                  </a:lnTo>
                  <a:lnTo>
                    <a:pt x="18633" y="927"/>
                  </a:lnTo>
                  <a:lnTo>
                    <a:pt x="18633" y="927"/>
                  </a:lnTo>
                  <a:lnTo>
                    <a:pt x="19211" y="811"/>
                  </a:lnTo>
                  <a:lnTo>
                    <a:pt x="19674" y="695"/>
                  </a:lnTo>
                  <a:lnTo>
                    <a:pt x="20253" y="695"/>
                  </a:lnTo>
                  <a:lnTo>
                    <a:pt x="20831" y="579"/>
                  </a:lnTo>
                  <a:lnTo>
                    <a:pt x="21410" y="464"/>
                  </a:lnTo>
                  <a:lnTo>
                    <a:pt x="21989" y="348"/>
                  </a:lnTo>
                  <a:lnTo>
                    <a:pt x="22567" y="116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756720" y="4356360"/>
              <a:ext cx="74160" cy="335520"/>
            </a:xfrm>
            <a:custGeom>
              <a:avLst/>
              <a:gdLst/>
              <a:ahLst/>
              <a:rect l="l" t="t" r="r" b="b"/>
              <a:pathLst>
                <a:path w="2083" h="6254">
                  <a:moveTo>
                    <a:pt x="1620" y="0"/>
                  </a:moveTo>
                  <a:lnTo>
                    <a:pt x="1273" y="695"/>
                  </a:lnTo>
                  <a:lnTo>
                    <a:pt x="1041" y="1506"/>
                  </a:lnTo>
                  <a:lnTo>
                    <a:pt x="925" y="2316"/>
                  </a:lnTo>
                  <a:lnTo>
                    <a:pt x="925" y="3127"/>
                  </a:lnTo>
                  <a:lnTo>
                    <a:pt x="1041" y="3822"/>
                  </a:lnTo>
                  <a:lnTo>
                    <a:pt x="1273" y="4633"/>
                  </a:lnTo>
                  <a:lnTo>
                    <a:pt x="1620" y="5328"/>
                  </a:lnTo>
                  <a:lnTo>
                    <a:pt x="2083" y="5907"/>
                  </a:lnTo>
                  <a:lnTo>
                    <a:pt x="2083" y="5907"/>
                  </a:lnTo>
                  <a:lnTo>
                    <a:pt x="2083" y="6254"/>
                  </a:lnTo>
                  <a:lnTo>
                    <a:pt x="2083" y="6254"/>
                  </a:lnTo>
                  <a:lnTo>
                    <a:pt x="1851" y="6254"/>
                  </a:lnTo>
                  <a:lnTo>
                    <a:pt x="1736" y="6254"/>
                  </a:lnTo>
                  <a:lnTo>
                    <a:pt x="1504" y="6254"/>
                  </a:lnTo>
                  <a:lnTo>
                    <a:pt x="1388" y="6138"/>
                  </a:lnTo>
                  <a:lnTo>
                    <a:pt x="1273" y="6022"/>
                  </a:lnTo>
                  <a:lnTo>
                    <a:pt x="1041" y="5907"/>
                  </a:lnTo>
                  <a:lnTo>
                    <a:pt x="925" y="5907"/>
                  </a:lnTo>
                  <a:lnTo>
                    <a:pt x="810" y="5791"/>
                  </a:lnTo>
                  <a:lnTo>
                    <a:pt x="810" y="5791"/>
                  </a:lnTo>
                  <a:lnTo>
                    <a:pt x="462" y="5212"/>
                  </a:lnTo>
                  <a:lnTo>
                    <a:pt x="231" y="4748"/>
                  </a:lnTo>
                  <a:lnTo>
                    <a:pt x="0" y="4169"/>
                  </a:lnTo>
                  <a:lnTo>
                    <a:pt x="0" y="3475"/>
                  </a:lnTo>
                  <a:lnTo>
                    <a:pt x="0" y="2896"/>
                  </a:lnTo>
                  <a:lnTo>
                    <a:pt x="0" y="2201"/>
                  </a:lnTo>
                  <a:lnTo>
                    <a:pt x="115" y="1622"/>
                  </a:lnTo>
                  <a:lnTo>
                    <a:pt x="231" y="1043"/>
                  </a:lnTo>
                  <a:lnTo>
                    <a:pt x="231" y="1043"/>
                  </a:lnTo>
                  <a:lnTo>
                    <a:pt x="347" y="927"/>
                  </a:lnTo>
                  <a:lnTo>
                    <a:pt x="462" y="695"/>
                  </a:lnTo>
                  <a:lnTo>
                    <a:pt x="694" y="579"/>
                  </a:lnTo>
                  <a:lnTo>
                    <a:pt x="810" y="348"/>
                  </a:lnTo>
                  <a:lnTo>
                    <a:pt x="925" y="232"/>
                  </a:lnTo>
                  <a:lnTo>
                    <a:pt x="1157" y="116"/>
                  </a:lnTo>
                  <a:lnTo>
                    <a:pt x="1388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810720" y="4375080"/>
              <a:ext cx="37080" cy="279720"/>
            </a:xfrm>
            <a:custGeom>
              <a:avLst/>
              <a:gdLst/>
              <a:ahLst/>
              <a:rect l="l" t="t" r="r" b="b"/>
              <a:pathLst>
                <a:path w="1042" h="5211">
                  <a:moveTo>
                    <a:pt x="694" y="1968"/>
                  </a:moveTo>
                  <a:lnTo>
                    <a:pt x="1042" y="3706"/>
                  </a:lnTo>
                  <a:lnTo>
                    <a:pt x="810" y="5211"/>
                  </a:lnTo>
                  <a:lnTo>
                    <a:pt x="810" y="5211"/>
                  </a:lnTo>
                  <a:lnTo>
                    <a:pt x="463" y="4632"/>
                  </a:lnTo>
                  <a:lnTo>
                    <a:pt x="232" y="3937"/>
                  </a:lnTo>
                  <a:lnTo>
                    <a:pt x="0" y="3358"/>
                  </a:lnTo>
                  <a:lnTo>
                    <a:pt x="0" y="2663"/>
                  </a:lnTo>
                  <a:lnTo>
                    <a:pt x="0" y="1968"/>
                  </a:lnTo>
                  <a:lnTo>
                    <a:pt x="0" y="1274"/>
                  </a:lnTo>
                  <a:lnTo>
                    <a:pt x="232" y="579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694" y="231"/>
                  </a:lnTo>
                  <a:lnTo>
                    <a:pt x="810" y="463"/>
                  </a:lnTo>
                  <a:lnTo>
                    <a:pt x="810" y="695"/>
                  </a:lnTo>
                  <a:lnTo>
                    <a:pt x="810" y="926"/>
                  </a:lnTo>
                  <a:lnTo>
                    <a:pt x="694" y="1158"/>
                  </a:lnTo>
                  <a:lnTo>
                    <a:pt x="694" y="1505"/>
                  </a:lnTo>
                  <a:lnTo>
                    <a:pt x="579" y="1737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1878480" y="4381560"/>
              <a:ext cx="32760" cy="55800"/>
            </a:xfrm>
            <a:custGeom>
              <a:avLst/>
              <a:gdLst/>
              <a:ahLst/>
              <a:rect l="l" t="t" r="r" b="b"/>
              <a:pathLst>
                <a:path w="926" h="1042">
                  <a:moveTo>
                    <a:pt x="926" y="926"/>
                  </a:moveTo>
                  <a:lnTo>
                    <a:pt x="926" y="1042"/>
                  </a:lnTo>
                  <a:lnTo>
                    <a:pt x="926" y="1042"/>
                  </a:lnTo>
                  <a:lnTo>
                    <a:pt x="810" y="1042"/>
                  </a:lnTo>
                  <a:lnTo>
                    <a:pt x="694" y="1042"/>
                  </a:lnTo>
                  <a:lnTo>
                    <a:pt x="579" y="1042"/>
                  </a:lnTo>
                  <a:lnTo>
                    <a:pt x="463" y="926"/>
                  </a:lnTo>
                  <a:lnTo>
                    <a:pt x="347" y="926"/>
                  </a:lnTo>
                  <a:lnTo>
                    <a:pt x="231" y="810"/>
                  </a:lnTo>
                  <a:lnTo>
                    <a:pt x="116" y="694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579" y="0"/>
                  </a:lnTo>
                  <a:lnTo>
                    <a:pt x="694" y="115"/>
                  </a:lnTo>
                  <a:lnTo>
                    <a:pt x="810" y="115"/>
                  </a:lnTo>
                  <a:lnTo>
                    <a:pt x="810" y="347"/>
                  </a:lnTo>
                  <a:lnTo>
                    <a:pt x="810" y="463"/>
                  </a:lnTo>
                  <a:lnTo>
                    <a:pt x="926" y="579"/>
                  </a:lnTo>
                  <a:lnTo>
                    <a:pt x="926" y="810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562320" y="4393800"/>
              <a:ext cx="227520" cy="391680"/>
            </a:xfrm>
            <a:custGeom>
              <a:avLst/>
              <a:gdLst/>
              <a:ahLst/>
              <a:rect l="l" t="t" r="r" b="b"/>
              <a:pathLst>
                <a:path w="6365" h="7296">
                  <a:moveTo>
                    <a:pt x="6365" y="5791"/>
                  </a:moveTo>
                  <a:lnTo>
                    <a:pt x="5671" y="6022"/>
                  </a:lnTo>
                  <a:lnTo>
                    <a:pt x="4977" y="6370"/>
                  </a:lnTo>
                  <a:lnTo>
                    <a:pt x="4282" y="6717"/>
                  </a:lnTo>
                  <a:lnTo>
                    <a:pt x="3588" y="7065"/>
                  </a:lnTo>
                  <a:lnTo>
                    <a:pt x="2778" y="7296"/>
                  </a:lnTo>
                  <a:lnTo>
                    <a:pt x="2083" y="7296"/>
                  </a:lnTo>
                  <a:lnTo>
                    <a:pt x="1389" y="6949"/>
                  </a:lnTo>
                  <a:lnTo>
                    <a:pt x="810" y="6370"/>
                  </a:lnTo>
                  <a:lnTo>
                    <a:pt x="810" y="6370"/>
                  </a:lnTo>
                  <a:lnTo>
                    <a:pt x="463" y="5906"/>
                  </a:lnTo>
                  <a:lnTo>
                    <a:pt x="116" y="5327"/>
                  </a:lnTo>
                  <a:lnTo>
                    <a:pt x="0" y="4748"/>
                  </a:lnTo>
                  <a:lnTo>
                    <a:pt x="0" y="4169"/>
                  </a:lnTo>
                  <a:lnTo>
                    <a:pt x="0" y="3590"/>
                  </a:lnTo>
                  <a:lnTo>
                    <a:pt x="0" y="3011"/>
                  </a:lnTo>
                  <a:lnTo>
                    <a:pt x="116" y="2432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695" y="1274"/>
                  </a:lnTo>
                  <a:lnTo>
                    <a:pt x="1157" y="811"/>
                  </a:lnTo>
                  <a:lnTo>
                    <a:pt x="1736" y="579"/>
                  </a:lnTo>
                  <a:lnTo>
                    <a:pt x="2431" y="463"/>
                  </a:lnTo>
                  <a:lnTo>
                    <a:pt x="3125" y="348"/>
                  </a:lnTo>
                  <a:lnTo>
                    <a:pt x="3935" y="232"/>
                  </a:lnTo>
                  <a:lnTo>
                    <a:pt x="4629" y="232"/>
                  </a:lnTo>
                  <a:lnTo>
                    <a:pt x="5208" y="0"/>
                  </a:lnTo>
                  <a:lnTo>
                    <a:pt x="5208" y="0"/>
                  </a:lnTo>
                  <a:lnTo>
                    <a:pt x="5092" y="811"/>
                  </a:lnTo>
                  <a:lnTo>
                    <a:pt x="4977" y="1506"/>
                  </a:lnTo>
                  <a:lnTo>
                    <a:pt x="4977" y="2316"/>
                  </a:lnTo>
                  <a:lnTo>
                    <a:pt x="4977" y="3127"/>
                  </a:lnTo>
                  <a:lnTo>
                    <a:pt x="5092" y="3938"/>
                  </a:lnTo>
                  <a:lnTo>
                    <a:pt x="5324" y="4633"/>
                  </a:lnTo>
                  <a:lnTo>
                    <a:pt x="5787" y="5327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close/>
                </a:path>
              </a:pathLst>
            </a:custGeom>
            <a:solidFill>
              <a:srgbClr val="ff3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1026000" y="4399920"/>
              <a:ext cx="835920" cy="857880"/>
            </a:xfrm>
            <a:custGeom>
              <a:avLst/>
              <a:gdLst/>
              <a:ahLst/>
              <a:rect l="l" t="t" r="r" b="b"/>
              <a:pathLst>
                <a:path w="23378" h="15982">
                  <a:moveTo>
                    <a:pt x="23378" y="6949"/>
                  </a:moveTo>
                  <a:lnTo>
                    <a:pt x="23031" y="7180"/>
                  </a:lnTo>
                  <a:lnTo>
                    <a:pt x="22568" y="7412"/>
                  </a:lnTo>
                  <a:lnTo>
                    <a:pt x="22221" y="7528"/>
                  </a:lnTo>
                  <a:lnTo>
                    <a:pt x="21758" y="7528"/>
                  </a:lnTo>
                  <a:lnTo>
                    <a:pt x="21295" y="7643"/>
                  </a:lnTo>
                  <a:lnTo>
                    <a:pt x="20832" y="7643"/>
                  </a:lnTo>
                  <a:lnTo>
                    <a:pt x="20369" y="7759"/>
                  </a:lnTo>
                  <a:lnTo>
                    <a:pt x="19906" y="7875"/>
                  </a:lnTo>
                  <a:lnTo>
                    <a:pt x="19906" y="7875"/>
                  </a:lnTo>
                  <a:lnTo>
                    <a:pt x="16203" y="9033"/>
                  </a:lnTo>
                  <a:lnTo>
                    <a:pt x="2778" y="15055"/>
                  </a:lnTo>
                  <a:lnTo>
                    <a:pt x="2778" y="15055"/>
                  </a:lnTo>
                  <a:lnTo>
                    <a:pt x="2546" y="15171"/>
                  </a:lnTo>
                  <a:lnTo>
                    <a:pt x="2199" y="15403"/>
                  </a:lnTo>
                  <a:lnTo>
                    <a:pt x="1852" y="15518"/>
                  </a:lnTo>
                  <a:lnTo>
                    <a:pt x="1505" y="15750"/>
                  </a:lnTo>
                  <a:lnTo>
                    <a:pt x="1157" y="15866"/>
                  </a:lnTo>
                  <a:lnTo>
                    <a:pt x="810" y="15982"/>
                  </a:lnTo>
                  <a:lnTo>
                    <a:pt x="463" y="15982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0" y="14592"/>
                  </a:lnTo>
                  <a:lnTo>
                    <a:pt x="116" y="13202"/>
                  </a:lnTo>
                  <a:lnTo>
                    <a:pt x="116" y="11813"/>
                  </a:lnTo>
                  <a:lnTo>
                    <a:pt x="232" y="10423"/>
                  </a:lnTo>
                  <a:lnTo>
                    <a:pt x="347" y="8917"/>
                  </a:lnTo>
                  <a:lnTo>
                    <a:pt x="347" y="7528"/>
                  </a:lnTo>
                  <a:lnTo>
                    <a:pt x="463" y="6138"/>
                  </a:lnTo>
                  <a:lnTo>
                    <a:pt x="579" y="4748"/>
                  </a:lnTo>
                  <a:lnTo>
                    <a:pt x="579" y="4748"/>
                  </a:lnTo>
                  <a:lnTo>
                    <a:pt x="1157" y="4748"/>
                  </a:lnTo>
                  <a:lnTo>
                    <a:pt x="1620" y="4980"/>
                  </a:lnTo>
                  <a:lnTo>
                    <a:pt x="2083" y="5211"/>
                  </a:lnTo>
                  <a:lnTo>
                    <a:pt x="2546" y="5559"/>
                  </a:lnTo>
                  <a:lnTo>
                    <a:pt x="3009" y="5790"/>
                  </a:lnTo>
                  <a:lnTo>
                    <a:pt x="3472" y="5790"/>
                  </a:lnTo>
                  <a:lnTo>
                    <a:pt x="3935" y="5675"/>
                  </a:lnTo>
                  <a:lnTo>
                    <a:pt x="4514" y="5327"/>
                  </a:lnTo>
                  <a:lnTo>
                    <a:pt x="4514" y="5327"/>
                  </a:lnTo>
                  <a:lnTo>
                    <a:pt x="4514" y="5211"/>
                  </a:lnTo>
                  <a:lnTo>
                    <a:pt x="4629" y="5096"/>
                  </a:lnTo>
                  <a:lnTo>
                    <a:pt x="4629" y="4980"/>
                  </a:lnTo>
                  <a:lnTo>
                    <a:pt x="4745" y="4980"/>
                  </a:lnTo>
                  <a:lnTo>
                    <a:pt x="4745" y="4864"/>
                  </a:lnTo>
                  <a:lnTo>
                    <a:pt x="4745" y="4748"/>
                  </a:lnTo>
                  <a:lnTo>
                    <a:pt x="4861" y="4632"/>
                  </a:lnTo>
                  <a:lnTo>
                    <a:pt x="4861" y="4517"/>
                  </a:lnTo>
                  <a:lnTo>
                    <a:pt x="4861" y="4517"/>
                  </a:lnTo>
                  <a:lnTo>
                    <a:pt x="4861" y="4401"/>
                  </a:lnTo>
                  <a:lnTo>
                    <a:pt x="4745" y="4285"/>
                  </a:lnTo>
                  <a:lnTo>
                    <a:pt x="4745" y="4169"/>
                  </a:lnTo>
                  <a:lnTo>
                    <a:pt x="4745" y="4053"/>
                  </a:lnTo>
                  <a:lnTo>
                    <a:pt x="4745" y="3937"/>
                  </a:lnTo>
                  <a:lnTo>
                    <a:pt x="4629" y="3822"/>
                  </a:lnTo>
                  <a:lnTo>
                    <a:pt x="4629" y="3706"/>
                  </a:lnTo>
                  <a:lnTo>
                    <a:pt x="4514" y="3706"/>
                  </a:lnTo>
                  <a:lnTo>
                    <a:pt x="4514" y="3706"/>
                  </a:lnTo>
                  <a:lnTo>
                    <a:pt x="6828" y="3127"/>
                  </a:lnTo>
                  <a:lnTo>
                    <a:pt x="9143" y="2664"/>
                  </a:lnTo>
                  <a:lnTo>
                    <a:pt x="11458" y="2316"/>
                  </a:lnTo>
                  <a:lnTo>
                    <a:pt x="13772" y="1853"/>
                  </a:lnTo>
                  <a:lnTo>
                    <a:pt x="15971" y="1390"/>
                  </a:lnTo>
                  <a:lnTo>
                    <a:pt x="18286" y="1042"/>
                  </a:lnTo>
                  <a:lnTo>
                    <a:pt x="20600" y="579"/>
                  </a:lnTo>
                  <a:lnTo>
                    <a:pt x="22799" y="0"/>
                  </a:lnTo>
                  <a:lnTo>
                    <a:pt x="22799" y="0"/>
                  </a:lnTo>
                  <a:lnTo>
                    <a:pt x="22799" y="926"/>
                  </a:lnTo>
                  <a:lnTo>
                    <a:pt x="22799" y="1737"/>
                  </a:lnTo>
                  <a:lnTo>
                    <a:pt x="22799" y="2664"/>
                  </a:lnTo>
                  <a:lnTo>
                    <a:pt x="22799" y="3590"/>
                  </a:lnTo>
                  <a:lnTo>
                    <a:pt x="22915" y="4401"/>
                  </a:lnTo>
                  <a:lnTo>
                    <a:pt x="23031" y="5327"/>
                  </a:lnTo>
                  <a:lnTo>
                    <a:pt x="23147" y="6138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852120" y="4437360"/>
              <a:ext cx="20520" cy="111600"/>
            </a:xfrm>
            <a:custGeom>
              <a:avLst/>
              <a:gdLst/>
              <a:ahLst/>
              <a:rect l="l" t="t" r="r" b="b"/>
              <a:pathLst>
                <a:path w="579" h="2084">
                  <a:moveTo>
                    <a:pt x="579" y="695"/>
                  </a:moveTo>
                  <a:lnTo>
                    <a:pt x="116" y="2084"/>
                  </a:lnTo>
                  <a:lnTo>
                    <a:pt x="116" y="2084"/>
                  </a:lnTo>
                  <a:lnTo>
                    <a:pt x="0" y="1853"/>
                  </a:lnTo>
                  <a:lnTo>
                    <a:pt x="0" y="1621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0" y="810"/>
                  </a:lnTo>
                  <a:lnTo>
                    <a:pt x="0" y="579"/>
                  </a:lnTo>
                  <a:lnTo>
                    <a:pt x="0" y="231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232" y="0"/>
                  </a:lnTo>
                  <a:lnTo>
                    <a:pt x="348" y="116"/>
                  </a:lnTo>
                  <a:lnTo>
                    <a:pt x="348" y="116"/>
                  </a:lnTo>
                  <a:lnTo>
                    <a:pt x="463" y="231"/>
                  </a:lnTo>
                  <a:lnTo>
                    <a:pt x="463" y="347"/>
                  </a:lnTo>
                  <a:lnTo>
                    <a:pt x="463" y="463"/>
                  </a:lnTo>
                  <a:lnTo>
                    <a:pt x="463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587160" y="4654800"/>
              <a:ext cx="144720" cy="105480"/>
            </a:xfrm>
            <a:custGeom>
              <a:avLst/>
              <a:gdLst/>
              <a:ahLst/>
              <a:rect l="l" t="t" r="r" b="b"/>
              <a:pathLst>
                <a:path w="4050" h="1969">
                  <a:moveTo>
                    <a:pt x="1157" y="1274"/>
                  </a:moveTo>
                  <a:lnTo>
                    <a:pt x="1157" y="1158"/>
                  </a:lnTo>
                  <a:lnTo>
                    <a:pt x="1157" y="1042"/>
                  </a:lnTo>
                  <a:lnTo>
                    <a:pt x="1041" y="1042"/>
                  </a:lnTo>
                  <a:lnTo>
                    <a:pt x="1041" y="927"/>
                  </a:lnTo>
                  <a:lnTo>
                    <a:pt x="1041" y="811"/>
                  </a:lnTo>
                  <a:lnTo>
                    <a:pt x="925" y="695"/>
                  </a:lnTo>
                  <a:lnTo>
                    <a:pt x="925" y="579"/>
                  </a:lnTo>
                  <a:lnTo>
                    <a:pt x="925" y="463"/>
                  </a:lnTo>
                  <a:lnTo>
                    <a:pt x="925" y="463"/>
                  </a:lnTo>
                  <a:lnTo>
                    <a:pt x="1157" y="463"/>
                  </a:lnTo>
                  <a:lnTo>
                    <a:pt x="1273" y="579"/>
                  </a:lnTo>
                  <a:lnTo>
                    <a:pt x="1388" y="695"/>
                  </a:lnTo>
                  <a:lnTo>
                    <a:pt x="1504" y="927"/>
                  </a:lnTo>
                  <a:lnTo>
                    <a:pt x="1620" y="1042"/>
                  </a:lnTo>
                  <a:lnTo>
                    <a:pt x="1620" y="1158"/>
                  </a:lnTo>
                  <a:lnTo>
                    <a:pt x="1851" y="1274"/>
                  </a:lnTo>
                  <a:lnTo>
                    <a:pt x="1967" y="1390"/>
                  </a:lnTo>
                  <a:lnTo>
                    <a:pt x="1967" y="1390"/>
                  </a:lnTo>
                  <a:lnTo>
                    <a:pt x="1851" y="1274"/>
                  </a:lnTo>
                  <a:lnTo>
                    <a:pt x="1851" y="1158"/>
                  </a:lnTo>
                  <a:lnTo>
                    <a:pt x="1851" y="1042"/>
                  </a:lnTo>
                  <a:lnTo>
                    <a:pt x="1736" y="927"/>
                  </a:lnTo>
                  <a:lnTo>
                    <a:pt x="1736" y="811"/>
                  </a:lnTo>
                  <a:lnTo>
                    <a:pt x="1736" y="695"/>
                  </a:lnTo>
                  <a:lnTo>
                    <a:pt x="1620" y="579"/>
                  </a:lnTo>
                  <a:lnTo>
                    <a:pt x="1620" y="463"/>
                  </a:lnTo>
                  <a:lnTo>
                    <a:pt x="1620" y="463"/>
                  </a:lnTo>
                  <a:lnTo>
                    <a:pt x="1851" y="463"/>
                  </a:lnTo>
                  <a:lnTo>
                    <a:pt x="1967" y="579"/>
                  </a:lnTo>
                  <a:lnTo>
                    <a:pt x="2083" y="811"/>
                  </a:lnTo>
                  <a:lnTo>
                    <a:pt x="2083" y="927"/>
                  </a:lnTo>
                  <a:lnTo>
                    <a:pt x="2198" y="1158"/>
                  </a:lnTo>
                  <a:lnTo>
                    <a:pt x="2314" y="1274"/>
                  </a:lnTo>
                  <a:lnTo>
                    <a:pt x="2546" y="1274"/>
                  </a:lnTo>
                  <a:lnTo>
                    <a:pt x="2777" y="1274"/>
                  </a:lnTo>
                  <a:lnTo>
                    <a:pt x="2777" y="1274"/>
                  </a:lnTo>
                  <a:lnTo>
                    <a:pt x="2661" y="1158"/>
                  </a:lnTo>
                  <a:lnTo>
                    <a:pt x="2661" y="1042"/>
                  </a:lnTo>
                  <a:lnTo>
                    <a:pt x="2661" y="1042"/>
                  </a:lnTo>
                  <a:lnTo>
                    <a:pt x="2546" y="927"/>
                  </a:lnTo>
                  <a:lnTo>
                    <a:pt x="2546" y="811"/>
                  </a:lnTo>
                  <a:lnTo>
                    <a:pt x="2430" y="695"/>
                  </a:lnTo>
                  <a:lnTo>
                    <a:pt x="2430" y="695"/>
                  </a:lnTo>
                  <a:lnTo>
                    <a:pt x="2430" y="579"/>
                  </a:lnTo>
                  <a:lnTo>
                    <a:pt x="2430" y="579"/>
                  </a:lnTo>
                  <a:lnTo>
                    <a:pt x="2546" y="579"/>
                  </a:lnTo>
                  <a:lnTo>
                    <a:pt x="2777" y="695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3009" y="1042"/>
                  </a:lnTo>
                  <a:lnTo>
                    <a:pt x="3124" y="1158"/>
                  </a:lnTo>
                  <a:lnTo>
                    <a:pt x="3356" y="1158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356" y="927"/>
                  </a:lnTo>
                  <a:lnTo>
                    <a:pt x="3240" y="811"/>
                  </a:lnTo>
                  <a:lnTo>
                    <a:pt x="3124" y="695"/>
                  </a:lnTo>
                  <a:lnTo>
                    <a:pt x="3009" y="579"/>
                  </a:lnTo>
                  <a:lnTo>
                    <a:pt x="3009" y="463"/>
                  </a:lnTo>
                  <a:lnTo>
                    <a:pt x="3009" y="348"/>
                  </a:lnTo>
                  <a:lnTo>
                    <a:pt x="3009" y="232"/>
                  </a:lnTo>
                  <a:lnTo>
                    <a:pt x="3009" y="232"/>
                  </a:lnTo>
                  <a:lnTo>
                    <a:pt x="3124" y="348"/>
                  </a:lnTo>
                  <a:lnTo>
                    <a:pt x="3240" y="348"/>
                  </a:lnTo>
                  <a:lnTo>
                    <a:pt x="3356" y="463"/>
                  </a:lnTo>
                  <a:lnTo>
                    <a:pt x="3471" y="579"/>
                  </a:lnTo>
                  <a:lnTo>
                    <a:pt x="3587" y="695"/>
                  </a:lnTo>
                  <a:lnTo>
                    <a:pt x="3819" y="811"/>
                  </a:lnTo>
                  <a:lnTo>
                    <a:pt x="3934" y="811"/>
                  </a:lnTo>
                  <a:lnTo>
                    <a:pt x="4050" y="927"/>
                  </a:lnTo>
                  <a:lnTo>
                    <a:pt x="4050" y="927"/>
                  </a:lnTo>
                  <a:lnTo>
                    <a:pt x="3934" y="1042"/>
                  </a:lnTo>
                  <a:lnTo>
                    <a:pt x="3819" y="1042"/>
                  </a:lnTo>
                  <a:lnTo>
                    <a:pt x="3703" y="1158"/>
                  </a:lnTo>
                  <a:lnTo>
                    <a:pt x="3587" y="1158"/>
                  </a:lnTo>
                  <a:lnTo>
                    <a:pt x="3471" y="1158"/>
                  </a:lnTo>
                  <a:lnTo>
                    <a:pt x="3356" y="1158"/>
                  </a:lnTo>
                  <a:lnTo>
                    <a:pt x="3356" y="1274"/>
                  </a:lnTo>
                  <a:lnTo>
                    <a:pt x="3471" y="1390"/>
                  </a:lnTo>
                  <a:lnTo>
                    <a:pt x="3471" y="1390"/>
                  </a:lnTo>
                  <a:lnTo>
                    <a:pt x="3009" y="1506"/>
                  </a:lnTo>
                  <a:lnTo>
                    <a:pt x="3009" y="1506"/>
                  </a:lnTo>
                  <a:lnTo>
                    <a:pt x="2893" y="1621"/>
                  </a:lnTo>
                  <a:lnTo>
                    <a:pt x="2777" y="1737"/>
                  </a:lnTo>
                  <a:lnTo>
                    <a:pt x="2661" y="1737"/>
                  </a:lnTo>
                  <a:lnTo>
                    <a:pt x="2546" y="1853"/>
                  </a:lnTo>
                  <a:lnTo>
                    <a:pt x="2314" y="1853"/>
                  </a:lnTo>
                  <a:lnTo>
                    <a:pt x="2198" y="1853"/>
                  </a:lnTo>
                  <a:lnTo>
                    <a:pt x="1967" y="1969"/>
                  </a:lnTo>
                  <a:lnTo>
                    <a:pt x="1851" y="1969"/>
                  </a:lnTo>
                  <a:lnTo>
                    <a:pt x="1851" y="1969"/>
                  </a:lnTo>
                  <a:lnTo>
                    <a:pt x="1736" y="1969"/>
                  </a:lnTo>
                  <a:lnTo>
                    <a:pt x="1504" y="1969"/>
                  </a:lnTo>
                  <a:lnTo>
                    <a:pt x="1273" y="1853"/>
                  </a:lnTo>
                  <a:lnTo>
                    <a:pt x="1157" y="1737"/>
                  </a:lnTo>
                  <a:lnTo>
                    <a:pt x="925" y="1621"/>
                  </a:lnTo>
                  <a:lnTo>
                    <a:pt x="810" y="1506"/>
                  </a:lnTo>
                  <a:lnTo>
                    <a:pt x="694" y="1390"/>
                  </a:lnTo>
                  <a:lnTo>
                    <a:pt x="462" y="1274"/>
                  </a:lnTo>
                  <a:lnTo>
                    <a:pt x="462" y="1274"/>
                  </a:lnTo>
                  <a:lnTo>
                    <a:pt x="347" y="1158"/>
                  </a:lnTo>
                  <a:lnTo>
                    <a:pt x="231" y="927"/>
                  </a:lnTo>
                  <a:lnTo>
                    <a:pt x="231" y="811"/>
                  </a:lnTo>
                  <a:lnTo>
                    <a:pt x="115" y="579"/>
                  </a:lnTo>
                  <a:lnTo>
                    <a:pt x="0" y="463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5" y="116"/>
                  </a:lnTo>
                  <a:lnTo>
                    <a:pt x="231" y="348"/>
                  </a:lnTo>
                  <a:lnTo>
                    <a:pt x="347" y="463"/>
                  </a:lnTo>
                  <a:lnTo>
                    <a:pt x="462" y="695"/>
                  </a:lnTo>
                  <a:lnTo>
                    <a:pt x="578" y="811"/>
                  </a:lnTo>
                  <a:lnTo>
                    <a:pt x="810" y="1042"/>
                  </a:lnTo>
                  <a:lnTo>
                    <a:pt x="925" y="1158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719640" y="4654800"/>
              <a:ext cx="37080" cy="43200"/>
            </a:xfrm>
            <a:custGeom>
              <a:avLst/>
              <a:gdLst/>
              <a:ahLst/>
              <a:rect l="l" t="t" r="r" b="b"/>
              <a:pathLst>
                <a:path w="1042" h="811">
                  <a:moveTo>
                    <a:pt x="1042" y="811"/>
                  </a:moveTo>
                  <a:lnTo>
                    <a:pt x="926" y="811"/>
                  </a:lnTo>
                  <a:lnTo>
                    <a:pt x="810" y="811"/>
                  </a:lnTo>
                  <a:lnTo>
                    <a:pt x="694" y="811"/>
                  </a:lnTo>
                  <a:lnTo>
                    <a:pt x="579" y="811"/>
                  </a:lnTo>
                  <a:lnTo>
                    <a:pt x="463" y="695"/>
                  </a:lnTo>
                  <a:lnTo>
                    <a:pt x="347" y="695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231" y="232"/>
                  </a:lnTo>
                  <a:lnTo>
                    <a:pt x="463" y="348"/>
                  </a:lnTo>
                  <a:lnTo>
                    <a:pt x="694" y="348"/>
                  </a:lnTo>
                  <a:lnTo>
                    <a:pt x="810" y="348"/>
                  </a:lnTo>
                  <a:lnTo>
                    <a:pt x="926" y="463"/>
                  </a:lnTo>
                  <a:lnTo>
                    <a:pt x="1042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984600" y="4661280"/>
              <a:ext cx="45360" cy="553320"/>
            </a:xfrm>
            <a:custGeom>
              <a:avLst/>
              <a:gdLst/>
              <a:ahLst/>
              <a:rect l="l" t="t" r="r" b="b"/>
              <a:pathLst>
                <a:path w="1273" h="10307">
                  <a:moveTo>
                    <a:pt x="1273" y="116"/>
                  </a:moveTo>
                  <a:lnTo>
                    <a:pt x="1273" y="1274"/>
                  </a:lnTo>
                  <a:lnTo>
                    <a:pt x="1157" y="2548"/>
                  </a:lnTo>
                  <a:lnTo>
                    <a:pt x="1157" y="3706"/>
                  </a:lnTo>
                  <a:lnTo>
                    <a:pt x="1041" y="4980"/>
                  </a:lnTo>
                  <a:lnTo>
                    <a:pt x="926" y="6254"/>
                  </a:lnTo>
                  <a:lnTo>
                    <a:pt x="810" y="7528"/>
                  </a:lnTo>
                  <a:lnTo>
                    <a:pt x="694" y="8917"/>
                  </a:lnTo>
                  <a:lnTo>
                    <a:pt x="694" y="10191"/>
                  </a:lnTo>
                  <a:lnTo>
                    <a:pt x="694" y="10191"/>
                  </a:lnTo>
                  <a:lnTo>
                    <a:pt x="578" y="10191"/>
                  </a:lnTo>
                  <a:lnTo>
                    <a:pt x="463" y="10191"/>
                  </a:lnTo>
                  <a:lnTo>
                    <a:pt x="347" y="10191"/>
                  </a:lnTo>
                  <a:lnTo>
                    <a:pt x="347" y="10307"/>
                  </a:lnTo>
                  <a:lnTo>
                    <a:pt x="231" y="10307"/>
                  </a:lnTo>
                  <a:lnTo>
                    <a:pt x="116" y="10307"/>
                  </a:lnTo>
                  <a:lnTo>
                    <a:pt x="116" y="10307"/>
                  </a:lnTo>
                  <a:lnTo>
                    <a:pt x="0" y="10307"/>
                  </a:lnTo>
                  <a:lnTo>
                    <a:pt x="0" y="10307"/>
                  </a:lnTo>
                  <a:lnTo>
                    <a:pt x="0" y="9033"/>
                  </a:lnTo>
                  <a:lnTo>
                    <a:pt x="116" y="7759"/>
                  </a:lnTo>
                  <a:lnTo>
                    <a:pt x="231" y="6485"/>
                  </a:lnTo>
                  <a:lnTo>
                    <a:pt x="347" y="5211"/>
                  </a:lnTo>
                  <a:lnTo>
                    <a:pt x="463" y="4053"/>
                  </a:lnTo>
                  <a:lnTo>
                    <a:pt x="578" y="2779"/>
                  </a:lnTo>
                  <a:lnTo>
                    <a:pt x="694" y="1505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1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959760" y="4679640"/>
              <a:ext cx="45360" cy="528480"/>
            </a:xfrm>
            <a:custGeom>
              <a:avLst/>
              <a:gdLst/>
              <a:ahLst/>
              <a:rect l="l" t="t" r="r" b="b"/>
              <a:pathLst>
                <a:path w="1273" h="9844">
                  <a:moveTo>
                    <a:pt x="1273" y="0"/>
                  </a:moveTo>
                  <a:lnTo>
                    <a:pt x="1042" y="1158"/>
                  </a:lnTo>
                  <a:lnTo>
                    <a:pt x="926" y="2432"/>
                  </a:lnTo>
                  <a:lnTo>
                    <a:pt x="811" y="3590"/>
                  </a:lnTo>
                  <a:lnTo>
                    <a:pt x="695" y="4864"/>
                  </a:lnTo>
                  <a:lnTo>
                    <a:pt x="579" y="6138"/>
                  </a:lnTo>
                  <a:lnTo>
                    <a:pt x="463" y="7412"/>
                  </a:lnTo>
                  <a:lnTo>
                    <a:pt x="463" y="8570"/>
                  </a:lnTo>
                  <a:lnTo>
                    <a:pt x="348" y="9844"/>
                  </a:lnTo>
                  <a:lnTo>
                    <a:pt x="348" y="9844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348" y="9844"/>
                  </a:lnTo>
                  <a:lnTo>
                    <a:pt x="348" y="9728"/>
                  </a:lnTo>
                  <a:lnTo>
                    <a:pt x="232" y="9728"/>
                  </a:lnTo>
                  <a:lnTo>
                    <a:pt x="116" y="9728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8570"/>
                  </a:lnTo>
                  <a:lnTo>
                    <a:pt x="116" y="7412"/>
                  </a:lnTo>
                  <a:lnTo>
                    <a:pt x="116" y="6254"/>
                  </a:lnTo>
                  <a:lnTo>
                    <a:pt x="232" y="4980"/>
                  </a:lnTo>
                  <a:lnTo>
                    <a:pt x="348" y="3822"/>
                  </a:lnTo>
                  <a:lnTo>
                    <a:pt x="463" y="2548"/>
                  </a:lnTo>
                  <a:lnTo>
                    <a:pt x="579" y="1390"/>
                  </a:lnTo>
                  <a:lnTo>
                    <a:pt x="811" y="232"/>
                  </a:lnTo>
                  <a:lnTo>
                    <a:pt x="811" y="232"/>
                  </a:lnTo>
                  <a:lnTo>
                    <a:pt x="926" y="232"/>
                  </a:lnTo>
                  <a:lnTo>
                    <a:pt x="926" y="116"/>
                  </a:lnTo>
                  <a:lnTo>
                    <a:pt x="1042" y="116"/>
                  </a:lnTo>
                  <a:lnTo>
                    <a:pt x="1042" y="116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926640" y="4698360"/>
              <a:ext cx="45360" cy="472320"/>
            </a:xfrm>
            <a:custGeom>
              <a:avLst/>
              <a:gdLst/>
              <a:ahLst/>
              <a:rect l="l" t="t" r="r" b="b"/>
              <a:pathLst>
                <a:path w="1273" h="8801">
                  <a:moveTo>
                    <a:pt x="578" y="8801"/>
                  </a:moveTo>
                  <a:lnTo>
                    <a:pt x="462" y="8801"/>
                  </a:lnTo>
                  <a:lnTo>
                    <a:pt x="462" y="8801"/>
                  </a:lnTo>
                  <a:lnTo>
                    <a:pt x="347" y="8801"/>
                  </a:lnTo>
                  <a:lnTo>
                    <a:pt x="231" y="8801"/>
                  </a:lnTo>
                  <a:lnTo>
                    <a:pt x="231" y="8801"/>
                  </a:lnTo>
                  <a:lnTo>
                    <a:pt x="115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115" y="7643"/>
                  </a:lnTo>
                  <a:lnTo>
                    <a:pt x="231" y="6485"/>
                  </a:lnTo>
                  <a:lnTo>
                    <a:pt x="347" y="5443"/>
                  </a:lnTo>
                  <a:lnTo>
                    <a:pt x="462" y="4285"/>
                  </a:lnTo>
                  <a:lnTo>
                    <a:pt x="694" y="3127"/>
                  </a:lnTo>
                  <a:lnTo>
                    <a:pt x="925" y="2084"/>
                  </a:lnTo>
                  <a:lnTo>
                    <a:pt x="1041" y="1042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157" y="1042"/>
                  </a:lnTo>
                  <a:lnTo>
                    <a:pt x="1041" y="2200"/>
                  </a:lnTo>
                  <a:lnTo>
                    <a:pt x="925" y="3242"/>
                  </a:lnTo>
                  <a:lnTo>
                    <a:pt x="810" y="4401"/>
                  </a:lnTo>
                  <a:lnTo>
                    <a:pt x="810" y="5443"/>
                  </a:lnTo>
                  <a:lnTo>
                    <a:pt x="694" y="6485"/>
                  </a:lnTo>
                  <a:lnTo>
                    <a:pt x="694" y="7643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1642320" y="4860000"/>
              <a:ext cx="264600" cy="945000"/>
            </a:xfrm>
            <a:custGeom>
              <a:avLst/>
              <a:gdLst/>
              <a:ahLst/>
              <a:rect l="l" t="t" r="r" b="b"/>
              <a:pathLst>
                <a:path w="7407" h="17603">
                  <a:moveTo>
                    <a:pt x="3356" y="0"/>
                  </a:moveTo>
                  <a:lnTo>
                    <a:pt x="3588" y="463"/>
                  </a:lnTo>
                  <a:lnTo>
                    <a:pt x="3935" y="1042"/>
                  </a:lnTo>
                  <a:lnTo>
                    <a:pt x="4282" y="1505"/>
                  </a:lnTo>
                  <a:lnTo>
                    <a:pt x="4630" y="1969"/>
                  </a:lnTo>
                  <a:lnTo>
                    <a:pt x="4861" y="2432"/>
                  </a:lnTo>
                  <a:lnTo>
                    <a:pt x="5208" y="2895"/>
                  </a:lnTo>
                  <a:lnTo>
                    <a:pt x="5440" y="3358"/>
                  </a:lnTo>
                  <a:lnTo>
                    <a:pt x="5555" y="3937"/>
                  </a:lnTo>
                  <a:lnTo>
                    <a:pt x="5555" y="3937"/>
                  </a:lnTo>
                  <a:lnTo>
                    <a:pt x="5555" y="4632"/>
                  </a:lnTo>
                  <a:lnTo>
                    <a:pt x="5324" y="5443"/>
                  </a:lnTo>
                  <a:lnTo>
                    <a:pt x="5208" y="6254"/>
                  </a:lnTo>
                  <a:lnTo>
                    <a:pt x="4977" y="7064"/>
                  </a:lnTo>
                  <a:lnTo>
                    <a:pt x="4861" y="7875"/>
                  </a:lnTo>
                  <a:lnTo>
                    <a:pt x="4745" y="8686"/>
                  </a:lnTo>
                  <a:lnTo>
                    <a:pt x="4630" y="9496"/>
                  </a:lnTo>
                  <a:lnTo>
                    <a:pt x="4514" y="10307"/>
                  </a:lnTo>
                  <a:lnTo>
                    <a:pt x="4514" y="10307"/>
                  </a:lnTo>
                  <a:lnTo>
                    <a:pt x="4630" y="10654"/>
                  </a:lnTo>
                  <a:lnTo>
                    <a:pt x="4861" y="10886"/>
                  </a:lnTo>
                  <a:lnTo>
                    <a:pt x="5092" y="11118"/>
                  </a:lnTo>
                  <a:lnTo>
                    <a:pt x="5208" y="11349"/>
                  </a:lnTo>
                  <a:lnTo>
                    <a:pt x="5440" y="11697"/>
                  </a:lnTo>
                  <a:lnTo>
                    <a:pt x="5555" y="11928"/>
                  </a:lnTo>
                  <a:lnTo>
                    <a:pt x="5787" y="12160"/>
                  </a:lnTo>
                  <a:lnTo>
                    <a:pt x="5903" y="12507"/>
                  </a:lnTo>
                  <a:lnTo>
                    <a:pt x="5903" y="12507"/>
                  </a:lnTo>
                  <a:lnTo>
                    <a:pt x="5440" y="12507"/>
                  </a:lnTo>
                  <a:lnTo>
                    <a:pt x="5208" y="12623"/>
                  </a:lnTo>
                  <a:lnTo>
                    <a:pt x="4861" y="12739"/>
                  </a:lnTo>
                  <a:lnTo>
                    <a:pt x="4514" y="12739"/>
                  </a:lnTo>
                  <a:lnTo>
                    <a:pt x="4167" y="12855"/>
                  </a:lnTo>
                  <a:lnTo>
                    <a:pt x="3935" y="13086"/>
                  </a:lnTo>
                  <a:lnTo>
                    <a:pt x="3588" y="13202"/>
                  </a:lnTo>
                  <a:lnTo>
                    <a:pt x="3356" y="13434"/>
                  </a:lnTo>
                  <a:lnTo>
                    <a:pt x="3356" y="13434"/>
                  </a:lnTo>
                  <a:lnTo>
                    <a:pt x="3704" y="13318"/>
                  </a:lnTo>
                  <a:lnTo>
                    <a:pt x="4051" y="13318"/>
                  </a:lnTo>
                  <a:lnTo>
                    <a:pt x="4398" y="13202"/>
                  </a:lnTo>
                  <a:lnTo>
                    <a:pt x="4745" y="13086"/>
                  </a:lnTo>
                  <a:lnTo>
                    <a:pt x="5092" y="13086"/>
                  </a:lnTo>
                  <a:lnTo>
                    <a:pt x="5440" y="12971"/>
                  </a:lnTo>
                  <a:lnTo>
                    <a:pt x="5787" y="12971"/>
                  </a:lnTo>
                  <a:lnTo>
                    <a:pt x="6134" y="12971"/>
                  </a:lnTo>
                  <a:lnTo>
                    <a:pt x="6134" y="12971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250" y="13086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318"/>
                  </a:lnTo>
                  <a:lnTo>
                    <a:pt x="6250" y="13318"/>
                  </a:lnTo>
                  <a:lnTo>
                    <a:pt x="5903" y="13318"/>
                  </a:lnTo>
                  <a:lnTo>
                    <a:pt x="5555" y="13318"/>
                  </a:lnTo>
                  <a:lnTo>
                    <a:pt x="5324" y="13434"/>
                  </a:lnTo>
                  <a:lnTo>
                    <a:pt x="5092" y="13550"/>
                  </a:lnTo>
                  <a:lnTo>
                    <a:pt x="4745" y="13781"/>
                  </a:lnTo>
                  <a:lnTo>
                    <a:pt x="4514" y="13897"/>
                  </a:lnTo>
                  <a:lnTo>
                    <a:pt x="4282" y="14129"/>
                  </a:lnTo>
                  <a:lnTo>
                    <a:pt x="4051" y="14244"/>
                  </a:lnTo>
                  <a:lnTo>
                    <a:pt x="4051" y="14244"/>
                  </a:lnTo>
                  <a:lnTo>
                    <a:pt x="4167" y="14244"/>
                  </a:lnTo>
                  <a:lnTo>
                    <a:pt x="4282" y="14244"/>
                  </a:lnTo>
                  <a:lnTo>
                    <a:pt x="4514" y="14244"/>
                  </a:lnTo>
                  <a:lnTo>
                    <a:pt x="4630" y="14129"/>
                  </a:lnTo>
                  <a:lnTo>
                    <a:pt x="4745" y="14013"/>
                  </a:lnTo>
                  <a:lnTo>
                    <a:pt x="4861" y="14013"/>
                  </a:lnTo>
                  <a:lnTo>
                    <a:pt x="5092" y="14013"/>
                  </a:lnTo>
                  <a:lnTo>
                    <a:pt x="5208" y="13897"/>
                  </a:lnTo>
                  <a:lnTo>
                    <a:pt x="5208" y="13897"/>
                  </a:lnTo>
                  <a:lnTo>
                    <a:pt x="5440" y="13897"/>
                  </a:lnTo>
                  <a:lnTo>
                    <a:pt x="5555" y="13897"/>
                  </a:lnTo>
                  <a:lnTo>
                    <a:pt x="5787" y="13897"/>
                  </a:lnTo>
                  <a:lnTo>
                    <a:pt x="6018" y="13781"/>
                  </a:lnTo>
                  <a:lnTo>
                    <a:pt x="6134" y="13781"/>
                  </a:lnTo>
                  <a:lnTo>
                    <a:pt x="6366" y="13781"/>
                  </a:lnTo>
                  <a:lnTo>
                    <a:pt x="6481" y="13781"/>
                  </a:lnTo>
                  <a:lnTo>
                    <a:pt x="6713" y="13781"/>
                  </a:lnTo>
                  <a:lnTo>
                    <a:pt x="6713" y="13781"/>
                  </a:lnTo>
                  <a:lnTo>
                    <a:pt x="6828" y="14244"/>
                  </a:lnTo>
                  <a:lnTo>
                    <a:pt x="7060" y="14592"/>
                  </a:lnTo>
                  <a:lnTo>
                    <a:pt x="7176" y="15055"/>
                  </a:lnTo>
                  <a:lnTo>
                    <a:pt x="7291" y="15518"/>
                  </a:lnTo>
                  <a:lnTo>
                    <a:pt x="7407" y="15982"/>
                  </a:lnTo>
                  <a:lnTo>
                    <a:pt x="7407" y="16329"/>
                  </a:lnTo>
                  <a:lnTo>
                    <a:pt x="7407" y="16792"/>
                  </a:lnTo>
                  <a:lnTo>
                    <a:pt x="7176" y="17255"/>
                  </a:lnTo>
                  <a:lnTo>
                    <a:pt x="7176" y="17255"/>
                  </a:lnTo>
                  <a:lnTo>
                    <a:pt x="6713" y="17371"/>
                  </a:lnTo>
                  <a:lnTo>
                    <a:pt x="6250" y="17487"/>
                  </a:lnTo>
                  <a:lnTo>
                    <a:pt x="5671" y="17603"/>
                  </a:lnTo>
                  <a:lnTo>
                    <a:pt x="5208" y="17487"/>
                  </a:lnTo>
                  <a:lnTo>
                    <a:pt x="4745" y="17371"/>
                  </a:lnTo>
                  <a:lnTo>
                    <a:pt x="4167" y="17255"/>
                  </a:lnTo>
                  <a:lnTo>
                    <a:pt x="3704" y="17024"/>
                  </a:lnTo>
                  <a:lnTo>
                    <a:pt x="3356" y="16792"/>
                  </a:lnTo>
                  <a:lnTo>
                    <a:pt x="3356" y="16792"/>
                  </a:lnTo>
                  <a:lnTo>
                    <a:pt x="2894" y="16329"/>
                  </a:lnTo>
                  <a:lnTo>
                    <a:pt x="2662" y="15634"/>
                  </a:lnTo>
                  <a:lnTo>
                    <a:pt x="2431" y="15055"/>
                  </a:lnTo>
                  <a:lnTo>
                    <a:pt x="2199" y="14360"/>
                  </a:lnTo>
                  <a:lnTo>
                    <a:pt x="1968" y="13665"/>
                  </a:lnTo>
                  <a:lnTo>
                    <a:pt x="1620" y="13202"/>
                  </a:lnTo>
                  <a:lnTo>
                    <a:pt x="1158" y="12855"/>
                  </a:lnTo>
                  <a:lnTo>
                    <a:pt x="463" y="12623"/>
                  </a:lnTo>
                  <a:lnTo>
                    <a:pt x="463" y="12623"/>
                  </a:lnTo>
                  <a:lnTo>
                    <a:pt x="232" y="12507"/>
                  </a:lnTo>
                  <a:lnTo>
                    <a:pt x="232" y="12391"/>
                  </a:lnTo>
                  <a:lnTo>
                    <a:pt x="116" y="12276"/>
                  </a:lnTo>
                  <a:lnTo>
                    <a:pt x="0" y="12044"/>
                  </a:lnTo>
                  <a:lnTo>
                    <a:pt x="0" y="11928"/>
                  </a:lnTo>
                  <a:lnTo>
                    <a:pt x="0" y="11812"/>
                  </a:lnTo>
                  <a:lnTo>
                    <a:pt x="0" y="11581"/>
                  </a:lnTo>
                  <a:lnTo>
                    <a:pt x="116" y="11465"/>
                  </a:lnTo>
                  <a:lnTo>
                    <a:pt x="116" y="11465"/>
                  </a:lnTo>
                  <a:lnTo>
                    <a:pt x="347" y="11118"/>
                  </a:lnTo>
                  <a:lnTo>
                    <a:pt x="579" y="10770"/>
                  </a:lnTo>
                  <a:lnTo>
                    <a:pt x="926" y="10539"/>
                  </a:lnTo>
                  <a:lnTo>
                    <a:pt x="1273" y="10307"/>
                  </a:lnTo>
                  <a:lnTo>
                    <a:pt x="1620" y="10075"/>
                  </a:lnTo>
                  <a:lnTo>
                    <a:pt x="1968" y="9844"/>
                  </a:lnTo>
                  <a:lnTo>
                    <a:pt x="2199" y="9612"/>
                  </a:lnTo>
                  <a:lnTo>
                    <a:pt x="2431" y="9265"/>
                  </a:lnTo>
                  <a:lnTo>
                    <a:pt x="2431" y="9265"/>
                  </a:lnTo>
                  <a:lnTo>
                    <a:pt x="2546" y="8570"/>
                  </a:lnTo>
                  <a:lnTo>
                    <a:pt x="2662" y="7991"/>
                  </a:lnTo>
                  <a:lnTo>
                    <a:pt x="2778" y="7412"/>
                  </a:lnTo>
                  <a:lnTo>
                    <a:pt x="2894" y="6833"/>
                  </a:lnTo>
                  <a:lnTo>
                    <a:pt x="3009" y="6254"/>
                  </a:lnTo>
                  <a:lnTo>
                    <a:pt x="3125" y="5675"/>
                  </a:lnTo>
                  <a:lnTo>
                    <a:pt x="3241" y="5095"/>
                  </a:lnTo>
                  <a:lnTo>
                    <a:pt x="3241" y="4516"/>
                  </a:lnTo>
                  <a:lnTo>
                    <a:pt x="3241" y="4516"/>
                  </a:lnTo>
                  <a:lnTo>
                    <a:pt x="3125" y="4053"/>
                  </a:lnTo>
                  <a:lnTo>
                    <a:pt x="3009" y="3706"/>
                  </a:lnTo>
                  <a:lnTo>
                    <a:pt x="2778" y="3243"/>
                  </a:lnTo>
                  <a:lnTo>
                    <a:pt x="2546" y="2895"/>
                  </a:lnTo>
                  <a:lnTo>
                    <a:pt x="2315" y="2548"/>
                  </a:lnTo>
                  <a:lnTo>
                    <a:pt x="2083" y="2200"/>
                  </a:lnTo>
                  <a:lnTo>
                    <a:pt x="1736" y="1853"/>
                  </a:lnTo>
                  <a:lnTo>
                    <a:pt x="1505" y="1505"/>
                  </a:lnTo>
                  <a:lnTo>
                    <a:pt x="1505" y="1505"/>
                  </a:lnTo>
                  <a:lnTo>
                    <a:pt x="1389" y="1390"/>
                  </a:lnTo>
                  <a:lnTo>
                    <a:pt x="1273" y="1274"/>
                  </a:lnTo>
                  <a:lnTo>
                    <a:pt x="1273" y="1158"/>
                  </a:lnTo>
                  <a:lnTo>
                    <a:pt x="1273" y="1042"/>
                  </a:lnTo>
                  <a:lnTo>
                    <a:pt x="1389" y="926"/>
                  </a:lnTo>
                  <a:lnTo>
                    <a:pt x="1389" y="811"/>
                  </a:lnTo>
                  <a:lnTo>
                    <a:pt x="1505" y="811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852" y="463"/>
                  </a:lnTo>
                  <a:lnTo>
                    <a:pt x="1852" y="463"/>
                  </a:lnTo>
                  <a:lnTo>
                    <a:pt x="1852" y="579"/>
                  </a:lnTo>
                  <a:lnTo>
                    <a:pt x="1736" y="695"/>
                  </a:lnTo>
                  <a:lnTo>
                    <a:pt x="1620" y="811"/>
                  </a:lnTo>
                  <a:lnTo>
                    <a:pt x="1505" y="926"/>
                  </a:lnTo>
                  <a:lnTo>
                    <a:pt x="1505" y="1042"/>
                  </a:lnTo>
                  <a:lnTo>
                    <a:pt x="1505" y="1158"/>
                  </a:lnTo>
                  <a:lnTo>
                    <a:pt x="1505" y="1274"/>
                  </a:lnTo>
                  <a:lnTo>
                    <a:pt x="1852" y="1274"/>
                  </a:lnTo>
                  <a:lnTo>
                    <a:pt x="1852" y="1274"/>
                  </a:lnTo>
                  <a:lnTo>
                    <a:pt x="1968" y="1158"/>
                  </a:lnTo>
                  <a:lnTo>
                    <a:pt x="2083" y="926"/>
                  </a:lnTo>
                  <a:lnTo>
                    <a:pt x="2315" y="695"/>
                  </a:lnTo>
                  <a:lnTo>
                    <a:pt x="2431" y="579"/>
                  </a:lnTo>
                  <a:lnTo>
                    <a:pt x="2662" y="463"/>
                  </a:lnTo>
                  <a:lnTo>
                    <a:pt x="2894" y="347"/>
                  </a:lnTo>
                  <a:lnTo>
                    <a:pt x="3125" y="116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1716840" y="4884840"/>
              <a:ext cx="41400" cy="80640"/>
            </a:xfrm>
            <a:custGeom>
              <a:avLst/>
              <a:gdLst/>
              <a:ahLst/>
              <a:rect l="l" t="t" r="r" b="b"/>
              <a:pathLst>
                <a:path w="1158" h="1506">
                  <a:moveTo>
                    <a:pt x="1158" y="0"/>
                  </a:moveTo>
                  <a:lnTo>
                    <a:pt x="1158" y="116"/>
                  </a:lnTo>
                  <a:lnTo>
                    <a:pt x="1042" y="232"/>
                  </a:lnTo>
                  <a:lnTo>
                    <a:pt x="1042" y="348"/>
                  </a:lnTo>
                  <a:lnTo>
                    <a:pt x="926" y="463"/>
                  </a:lnTo>
                  <a:lnTo>
                    <a:pt x="811" y="463"/>
                  </a:lnTo>
                  <a:lnTo>
                    <a:pt x="695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463" y="811"/>
                  </a:lnTo>
                  <a:lnTo>
                    <a:pt x="463" y="927"/>
                  </a:lnTo>
                  <a:lnTo>
                    <a:pt x="348" y="1042"/>
                  </a:lnTo>
                  <a:lnTo>
                    <a:pt x="348" y="1158"/>
                  </a:lnTo>
                  <a:lnTo>
                    <a:pt x="232" y="1274"/>
                  </a:lnTo>
                  <a:lnTo>
                    <a:pt x="232" y="1274"/>
                  </a:lnTo>
                  <a:lnTo>
                    <a:pt x="116" y="1390"/>
                  </a:lnTo>
                  <a:lnTo>
                    <a:pt x="116" y="1506"/>
                  </a:lnTo>
                  <a:lnTo>
                    <a:pt x="116" y="1506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1042"/>
                  </a:lnTo>
                  <a:lnTo>
                    <a:pt x="0" y="811"/>
                  </a:lnTo>
                  <a:lnTo>
                    <a:pt x="116" y="695"/>
                  </a:lnTo>
                  <a:lnTo>
                    <a:pt x="232" y="579"/>
                  </a:lnTo>
                  <a:lnTo>
                    <a:pt x="348" y="463"/>
                  </a:lnTo>
                  <a:lnTo>
                    <a:pt x="348" y="348"/>
                  </a:lnTo>
                  <a:lnTo>
                    <a:pt x="348" y="348"/>
                  </a:lnTo>
                  <a:lnTo>
                    <a:pt x="463" y="232"/>
                  </a:lnTo>
                  <a:lnTo>
                    <a:pt x="579" y="232"/>
                  </a:lnTo>
                  <a:lnTo>
                    <a:pt x="695" y="116"/>
                  </a:lnTo>
                  <a:lnTo>
                    <a:pt x="811" y="116"/>
                  </a:lnTo>
                  <a:lnTo>
                    <a:pt x="811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1729440" y="4922280"/>
              <a:ext cx="28800" cy="49680"/>
            </a:xfrm>
            <a:custGeom>
              <a:avLst/>
              <a:gdLst/>
              <a:ahLst/>
              <a:rect l="l" t="t" r="r" b="b"/>
              <a:pathLst>
                <a:path w="810" h="926">
                  <a:moveTo>
                    <a:pt x="810" y="0"/>
                  </a:moveTo>
                  <a:lnTo>
                    <a:pt x="694" y="116"/>
                  </a:lnTo>
                  <a:lnTo>
                    <a:pt x="694" y="232"/>
                  </a:lnTo>
                  <a:lnTo>
                    <a:pt x="694" y="347"/>
                  </a:lnTo>
                  <a:lnTo>
                    <a:pt x="578" y="463"/>
                  </a:lnTo>
                  <a:lnTo>
                    <a:pt x="463" y="579"/>
                  </a:lnTo>
                  <a:lnTo>
                    <a:pt x="463" y="695"/>
                  </a:lnTo>
                  <a:lnTo>
                    <a:pt x="347" y="811"/>
                  </a:lnTo>
                  <a:lnTo>
                    <a:pt x="347" y="926"/>
                  </a:lnTo>
                  <a:lnTo>
                    <a:pt x="347" y="926"/>
                  </a:lnTo>
                  <a:lnTo>
                    <a:pt x="0" y="926"/>
                  </a:lnTo>
                  <a:lnTo>
                    <a:pt x="0" y="926"/>
                  </a:lnTo>
                  <a:lnTo>
                    <a:pt x="0" y="811"/>
                  </a:lnTo>
                  <a:lnTo>
                    <a:pt x="115" y="579"/>
                  </a:lnTo>
                  <a:lnTo>
                    <a:pt x="115" y="463"/>
                  </a:lnTo>
                  <a:lnTo>
                    <a:pt x="231" y="347"/>
                  </a:lnTo>
                  <a:lnTo>
                    <a:pt x="347" y="232"/>
                  </a:lnTo>
                  <a:lnTo>
                    <a:pt x="463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1758240" y="4965840"/>
              <a:ext cx="12240" cy="18360"/>
            </a:xfrm>
            <a:custGeom>
              <a:avLst/>
              <a:gdLst/>
              <a:ahLst/>
              <a:rect l="l" t="t" r="r" b="b"/>
              <a:pathLst>
                <a:path w="347" h="347">
                  <a:moveTo>
                    <a:pt x="231" y="347"/>
                  </a:moveTo>
                  <a:lnTo>
                    <a:pt x="0" y="231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1063080" y="5140080"/>
              <a:ext cx="310320" cy="690120"/>
            </a:xfrm>
            <a:custGeom>
              <a:avLst/>
              <a:gdLst/>
              <a:ahLst/>
              <a:rect l="l" t="t" r="r" b="b"/>
              <a:pathLst>
                <a:path w="8680" h="12855">
                  <a:moveTo>
                    <a:pt x="7059" y="0"/>
                  </a:moveTo>
                  <a:lnTo>
                    <a:pt x="6944" y="116"/>
                  </a:lnTo>
                  <a:lnTo>
                    <a:pt x="6712" y="232"/>
                  </a:lnTo>
                  <a:lnTo>
                    <a:pt x="6596" y="348"/>
                  </a:lnTo>
                  <a:lnTo>
                    <a:pt x="6481" y="464"/>
                  </a:lnTo>
                  <a:lnTo>
                    <a:pt x="6365" y="579"/>
                  </a:lnTo>
                  <a:lnTo>
                    <a:pt x="6134" y="695"/>
                  </a:lnTo>
                  <a:lnTo>
                    <a:pt x="6018" y="811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1043"/>
                  </a:lnTo>
                  <a:lnTo>
                    <a:pt x="6018" y="1043"/>
                  </a:lnTo>
                  <a:lnTo>
                    <a:pt x="6018" y="1158"/>
                  </a:lnTo>
                  <a:lnTo>
                    <a:pt x="6134" y="1158"/>
                  </a:lnTo>
                  <a:lnTo>
                    <a:pt x="6249" y="1274"/>
                  </a:lnTo>
                  <a:lnTo>
                    <a:pt x="6249" y="1158"/>
                  </a:lnTo>
                  <a:lnTo>
                    <a:pt x="6365" y="1158"/>
                  </a:lnTo>
                  <a:lnTo>
                    <a:pt x="6365" y="1158"/>
                  </a:lnTo>
                  <a:lnTo>
                    <a:pt x="7291" y="348"/>
                  </a:lnTo>
                  <a:lnTo>
                    <a:pt x="7291" y="348"/>
                  </a:lnTo>
                  <a:lnTo>
                    <a:pt x="7291" y="464"/>
                  </a:lnTo>
                  <a:lnTo>
                    <a:pt x="7291" y="579"/>
                  </a:lnTo>
                  <a:lnTo>
                    <a:pt x="7291" y="695"/>
                  </a:lnTo>
                  <a:lnTo>
                    <a:pt x="7175" y="695"/>
                  </a:lnTo>
                  <a:lnTo>
                    <a:pt x="7059" y="811"/>
                  </a:lnTo>
                  <a:lnTo>
                    <a:pt x="6944" y="927"/>
                  </a:lnTo>
                  <a:lnTo>
                    <a:pt x="6828" y="1043"/>
                  </a:lnTo>
                  <a:lnTo>
                    <a:pt x="6828" y="1158"/>
                  </a:lnTo>
                  <a:lnTo>
                    <a:pt x="6828" y="1158"/>
                  </a:lnTo>
                  <a:lnTo>
                    <a:pt x="6712" y="1158"/>
                  </a:lnTo>
                  <a:lnTo>
                    <a:pt x="6712" y="1158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828" y="1506"/>
                  </a:lnTo>
                  <a:lnTo>
                    <a:pt x="6944" y="1506"/>
                  </a:lnTo>
                  <a:lnTo>
                    <a:pt x="7059" y="1506"/>
                  </a:lnTo>
                  <a:lnTo>
                    <a:pt x="7175" y="1390"/>
                  </a:lnTo>
                  <a:lnTo>
                    <a:pt x="7175" y="1274"/>
                  </a:lnTo>
                  <a:lnTo>
                    <a:pt x="7291" y="1158"/>
                  </a:lnTo>
                  <a:lnTo>
                    <a:pt x="7407" y="1158"/>
                  </a:lnTo>
                  <a:lnTo>
                    <a:pt x="7522" y="1043"/>
                  </a:lnTo>
                  <a:lnTo>
                    <a:pt x="7522" y="1043"/>
                  </a:lnTo>
                  <a:lnTo>
                    <a:pt x="7638" y="1274"/>
                  </a:lnTo>
                  <a:lnTo>
                    <a:pt x="7754" y="1506"/>
                  </a:lnTo>
                  <a:lnTo>
                    <a:pt x="7870" y="1737"/>
                  </a:lnTo>
                  <a:lnTo>
                    <a:pt x="8101" y="2085"/>
                  </a:lnTo>
                  <a:lnTo>
                    <a:pt x="8101" y="2316"/>
                  </a:lnTo>
                  <a:lnTo>
                    <a:pt x="8217" y="2548"/>
                  </a:lnTo>
                  <a:lnTo>
                    <a:pt x="8101" y="2780"/>
                  </a:lnTo>
                  <a:lnTo>
                    <a:pt x="7985" y="3011"/>
                  </a:lnTo>
                  <a:lnTo>
                    <a:pt x="7985" y="3011"/>
                  </a:lnTo>
                  <a:lnTo>
                    <a:pt x="7522" y="3359"/>
                  </a:lnTo>
                  <a:lnTo>
                    <a:pt x="7291" y="3706"/>
                  </a:lnTo>
                  <a:lnTo>
                    <a:pt x="6944" y="4054"/>
                  </a:lnTo>
                  <a:lnTo>
                    <a:pt x="6712" y="4517"/>
                  </a:lnTo>
                  <a:lnTo>
                    <a:pt x="6481" y="4864"/>
                  </a:lnTo>
                  <a:lnTo>
                    <a:pt x="6249" y="5212"/>
                  </a:lnTo>
                  <a:lnTo>
                    <a:pt x="5902" y="5559"/>
                  </a:lnTo>
                  <a:lnTo>
                    <a:pt x="5555" y="5791"/>
                  </a:lnTo>
                  <a:lnTo>
                    <a:pt x="5555" y="5791"/>
                  </a:lnTo>
                  <a:lnTo>
                    <a:pt x="5439" y="6486"/>
                  </a:lnTo>
                  <a:lnTo>
                    <a:pt x="5323" y="7180"/>
                  </a:lnTo>
                  <a:lnTo>
                    <a:pt x="5208" y="7760"/>
                  </a:lnTo>
                  <a:lnTo>
                    <a:pt x="5208" y="8454"/>
                  </a:lnTo>
                  <a:lnTo>
                    <a:pt x="5208" y="9149"/>
                  </a:lnTo>
                  <a:lnTo>
                    <a:pt x="5323" y="9844"/>
                  </a:lnTo>
                  <a:lnTo>
                    <a:pt x="5555" y="10423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6018" y="10886"/>
                  </a:lnTo>
                  <a:lnTo>
                    <a:pt x="6018" y="10771"/>
                  </a:lnTo>
                  <a:lnTo>
                    <a:pt x="6018" y="10771"/>
                  </a:lnTo>
                  <a:lnTo>
                    <a:pt x="6018" y="10655"/>
                  </a:lnTo>
                  <a:lnTo>
                    <a:pt x="6018" y="10539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6018" y="10423"/>
                  </a:lnTo>
                  <a:lnTo>
                    <a:pt x="6134" y="10423"/>
                  </a:lnTo>
                  <a:lnTo>
                    <a:pt x="6134" y="10539"/>
                  </a:lnTo>
                  <a:lnTo>
                    <a:pt x="6249" y="10539"/>
                  </a:lnTo>
                  <a:lnTo>
                    <a:pt x="6249" y="10655"/>
                  </a:lnTo>
                  <a:lnTo>
                    <a:pt x="6365" y="10655"/>
                  </a:lnTo>
                  <a:lnTo>
                    <a:pt x="6365" y="10771"/>
                  </a:lnTo>
                  <a:lnTo>
                    <a:pt x="6481" y="10886"/>
                  </a:lnTo>
                  <a:lnTo>
                    <a:pt x="6481" y="10886"/>
                  </a:lnTo>
                  <a:lnTo>
                    <a:pt x="6365" y="11465"/>
                  </a:lnTo>
                  <a:lnTo>
                    <a:pt x="6365" y="11465"/>
                  </a:lnTo>
                  <a:lnTo>
                    <a:pt x="6481" y="11465"/>
                  </a:lnTo>
                  <a:lnTo>
                    <a:pt x="6596" y="11465"/>
                  </a:lnTo>
                  <a:lnTo>
                    <a:pt x="6712" y="11465"/>
                  </a:lnTo>
                  <a:lnTo>
                    <a:pt x="6712" y="11350"/>
                  </a:lnTo>
                  <a:lnTo>
                    <a:pt x="6712" y="11234"/>
                  </a:lnTo>
                  <a:lnTo>
                    <a:pt x="6828" y="11118"/>
                  </a:lnTo>
                  <a:lnTo>
                    <a:pt x="6828" y="11002"/>
                  </a:lnTo>
                  <a:lnTo>
                    <a:pt x="6944" y="10886"/>
                  </a:lnTo>
                  <a:lnTo>
                    <a:pt x="6944" y="10886"/>
                  </a:lnTo>
                  <a:lnTo>
                    <a:pt x="7175" y="10886"/>
                  </a:lnTo>
                  <a:lnTo>
                    <a:pt x="7407" y="10886"/>
                  </a:lnTo>
                  <a:lnTo>
                    <a:pt x="7638" y="10886"/>
                  </a:lnTo>
                  <a:lnTo>
                    <a:pt x="7870" y="10886"/>
                  </a:lnTo>
                  <a:lnTo>
                    <a:pt x="8101" y="11002"/>
                  </a:lnTo>
                  <a:lnTo>
                    <a:pt x="8332" y="11002"/>
                  </a:lnTo>
                  <a:lnTo>
                    <a:pt x="8564" y="11234"/>
                  </a:lnTo>
                  <a:lnTo>
                    <a:pt x="8564" y="11581"/>
                  </a:lnTo>
                  <a:lnTo>
                    <a:pt x="8564" y="11581"/>
                  </a:lnTo>
                  <a:lnTo>
                    <a:pt x="8680" y="11929"/>
                  </a:lnTo>
                  <a:lnTo>
                    <a:pt x="8564" y="12160"/>
                  </a:lnTo>
                  <a:lnTo>
                    <a:pt x="8448" y="12392"/>
                  </a:lnTo>
                  <a:lnTo>
                    <a:pt x="8217" y="12508"/>
                  </a:lnTo>
                  <a:lnTo>
                    <a:pt x="7985" y="12624"/>
                  </a:lnTo>
                  <a:lnTo>
                    <a:pt x="7638" y="12624"/>
                  </a:lnTo>
                  <a:lnTo>
                    <a:pt x="7291" y="12739"/>
                  </a:lnTo>
                  <a:lnTo>
                    <a:pt x="7059" y="12855"/>
                  </a:lnTo>
                  <a:lnTo>
                    <a:pt x="7059" y="12855"/>
                  </a:lnTo>
                  <a:lnTo>
                    <a:pt x="6596" y="12855"/>
                  </a:lnTo>
                  <a:lnTo>
                    <a:pt x="6018" y="12739"/>
                  </a:lnTo>
                  <a:lnTo>
                    <a:pt x="5555" y="12739"/>
                  </a:lnTo>
                  <a:lnTo>
                    <a:pt x="5092" y="12624"/>
                  </a:lnTo>
                  <a:lnTo>
                    <a:pt x="4513" y="12508"/>
                  </a:lnTo>
                  <a:lnTo>
                    <a:pt x="4166" y="12276"/>
                  </a:lnTo>
                  <a:lnTo>
                    <a:pt x="3703" y="12044"/>
                  </a:lnTo>
                  <a:lnTo>
                    <a:pt x="3240" y="11813"/>
                  </a:lnTo>
                  <a:lnTo>
                    <a:pt x="3240" y="11813"/>
                  </a:lnTo>
                  <a:lnTo>
                    <a:pt x="2893" y="11234"/>
                  </a:lnTo>
                  <a:lnTo>
                    <a:pt x="2662" y="10539"/>
                  </a:lnTo>
                  <a:lnTo>
                    <a:pt x="2430" y="9960"/>
                  </a:lnTo>
                  <a:lnTo>
                    <a:pt x="2199" y="9265"/>
                  </a:lnTo>
                  <a:lnTo>
                    <a:pt x="1851" y="8686"/>
                  </a:lnTo>
                  <a:lnTo>
                    <a:pt x="1504" y="8107"/>
                  </a:lnTo>
                  <a:lnTo>
                    <a:pt x="926" y="7644"/>
                  </a:lnTo>
                  <a:lnTo>
                    <a:pt x="231" y="7412"/>
                  </a:lnTo>
                  <a:lnTo>
                    <a:pt x="231" y="7412"/>
                  </a:lnTo>
                  <a:lnTo>
                    <a:pt x="115" y="7296"/>
                  </a:lnTo>
                  <a:lnTo>
                    <a:pt x="115" y="7296"/>
                  </a:lnTo>
                  <a:lnTo>
                    <a:pt x="0" y="7180"/>
                  </a:lnTo>
                  <a:lnTo>
                    <a:pt x="0" y="7065"/>
                  </a:lnTo>
                  <a:lnTo>
                    <a:pt x="0" y="6949"/>
                  </a:lnTo>
                  <a:lnTo>
                    <a:pt x="0" y="6833"/>
                  </a:lnTo>
                  <a:lnTo>
                    <a:pt x="0" y="6717"/>
                  </a:lnTo>
                  <a:lnTo>
                    <a:pt x="0" y="6601"/>
                  </a:lnTo>
                  <a:lnTo>
                    <a:pt x="0" y="6601"/>
                  </a:lnTo>
                  <a:lnTo>
                    <a:pt x="231" y="6370"/>
                  </a:lnTo>
                  <a:lnTo>
                    <a:pt x="463" y="6138"/>
                  </a:lnTo>
                  <a:lnTo>
                    <a:pt x="810" y="6022"/>
                  </a:lnTo>
                  <a:lnTo>
                    <a:pt x="1157" y="5907"/>
                  </a:lnTo>
                  <a:lnTo>
                    <a:pt x="1504" y="5907"/>
                  </a:lnTo>
                  <a:lnTo>
                    <a:pt x="1851" y="5791"/>
                  </a:lnTo>
                  <a:lnTo>
                    <a:pt x="2199" y="5675"/>
                  </a:lnTo>
                  <a:lnTo>
                    <a:pt x="2430" y="5559"/>
                  </a:lnTo>
                  <a:lnTo>
                    <a:pt x="2430" y="5559"/>
                  </a:lnTo>
                  <a:lnTo>
                    <a:pt x="3009" y="5328"/>
                  </a:lnTo>
                  <a:lnTo>
                    <a:pt x="3472" y="4980"/>
                  </a:lnTo>
                  <a:lnTo>
                    <a:pt x="3935" y="4633"/>
                  </a:lnTo>
                  <a:lnTo>
                    <a:pt x="4398" y="4285"/>
                  </a:lnTo>
                  <a:lnTo>
                    <a:pt x="4860" y="3822"/>
                  </a:lnTo>
                  <a:lnTo>
                    <a:pt x="5323" y="3475"/>
                  </a:lnTo>
                  <a:lnTo>
                    <a:pt x="5671" y="3011"/>
                  </a:lnTo>
                  <a:lnTo>
                    <a:pt x="6018" y="2432"/>
                  </a:lnTo>
                  <a:lnTo>
                    <a:pt x="6018" y="2432"/>
                  </a:lnTo>
                  <a:lnTo>
                    <a:pt x="6018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249" y="2548"/>
                  </a:lnTo>
                  <a:lnTo>
                    <a:pt x="6249" y="2548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201"/>
                  </a:lnTo>
                  <a:lnTo>
                    <a:pt x="6134" y="1969"/>
                  </a:lnTo>
                  <a:lnTo>
                    <a:pt x="6018" y="1737"/>
                  </a:lnTo>
                  <a:lnTo>
                    <a:pt x="5902" y="1506"/>
                  </a:lnTo>
                  <a:lnTo>
                    <a:pt x="5786" y="1274"/>
                  </a:lnTo>
                  <a:lnTo>
                    <a:pt x="5671" y="1043"/>
                  </a:lnTo>
                  <a:lnTo>
                    <a:pt x="5555" y="811"/>
                  </a:lnTo>
                  <a:lnTo>
                    <a:pt x="5439" y="579"/>
                  </a:lnTo>
                  <a:lnTo>
                    <a:pt x="5439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811"/>
                  </a:lnTo>
                  <a:lnTo>
                    <a:pt x="5671" y="811"/>
                  </a:lnTo>
                  <a:lnTo>
                    <a:pt x="5786" y="811"/>
                  </a:lnTo>
                  <a:lnTo>
                    <a:pt x="5786" y="811"/>
                  </a:lnTo>
                  <a:lnTo>
                    <a:pt x="5902" y="695"/>
                  </a:lnTo>
                  <a:lnTo>
                    <a:pt x="6018" y="579"/>
                  </a:lnTo>
                  <a:lnTo>
                    <a:pt x="6249" y="464"/>
                  </a:lnTo>
                  <a:lnTo>
                    <a:pt x="6365" y="348"/>
                  </a:lnTo>
                  <a:lnTo>
                    <a:pt x="6481" y="232"/>
                  </a:lnTo>
                  <a:lnTo>
                    <a:pt x="6712" y="116"/>
                  </a:lnTo>
                  <a:lnTo>
                    <a:pt x="6828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0" name=""/>
          <p:cNvSpPr/>
          <p:nvPr/>
        </p:nvSpPr>
        <p:spPr>
          <a:xfrm>
            <a:off x="685800" y="1447920"/>
            <a:ext cx="758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We have seen how t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2743200" y="2057400"/>
            <a:ext cx="5181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istinguish between an equation and an expres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2" name="" descr=""/>
          <p:cNvPicPr/>
          <p:nvPr/>
        </p:nvPicPr>
        <p:blipFill>
          <a:blip r:embed="rId1"/>
          <a:stretch/>
        </p:blipFill>
        <p:spPr>
          <a:xfrm>
            <a:off x="3124080" y="3048120"/>
            <a:ext cx="4496040" cy="339084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1058" dur="indefinite" restart="never" nodeType="tmRoot">
          <p:childTnLst>
            <p:seq>
              <p:cTn id="1059" dur="indefinite" nodeType="mainSeq">
                <p:childTnLst>
                  <p:par>
                    <p:cTn id="1060" fill="hold">
                      <p:stCondLst>
                        <p:cond delay="indefinite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4" dur="5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5" dur="5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0" dur="5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"/>
          <p:cNvSpPr/>
          <p:nvPr/>
        </p:nvSpPr>
        <p:spPr>
          <a:xfrm>
            <a:off x="3124080" y="60948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4" name=""/>
          <p:cNvGrpSpPr/>
          <p:nvPr/>
        </p:nvGrpSpPr>
        <p:grpSpPr>
          <a:xfrm>
            <a:off x="533520" y="2895480"/>
            <a:ext cx="2209680" cy="2971800"/>
            <a:chOff x="533520" y="2895480"/>
            <a:chExt cx="2209680" cy="2971800"/>
          </a:xfrm>
        </p:grpSpPr>
        <p:sp>
          <p:nvSpPr>
            <p:cNvPr id="795" name=""/>
            <p:cNvSpPr/>
            <p:nvPr/>
          </p:nvSpPr>
          <p:spPr>
            <a:xfrm>
              <a:off x="533520" y="2895480"/>
              <a:ext cx="2209680" cy="297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541440" y="2907720"/>
              <a:ext cx="2193480" cy="2946960"/>
            </a:xfrm>
            <a:custGeom>
              <a:avLst/>
              <a:gdLst/>
              <a:ahLst/>
              <a:rect l="l" t="t" r="r" b="b"/>
              <a:pathLst>
                <a:path w="61339" h="54893">
                  <a:moveTo>
                    <a:pt x="20369" y="694"/>
                  </a:moveTo>
                  <a:lnTo>
                    <a:pt x="20485" y="579"/>
                  </a:lnTo>
                  <a:lnTo>
                    <a:pt x="20485" y="463"/>
                  </a:lnTo>
                  <a:lnTo>
                    <a:pt x="20601" y="463"/>
                  </a:lnTo>
                  <a:lnTo>
                    <a:pt x="20717" y="347"/>
                  </a:lnTo>
                  <a:lnTo>
                    <a:pt x="20832" y="347"/>
                  </a:lnTo>
                  <a:lnTo>
                    <a:pt x="20948" y="347"/>
                  </a:lnTo>
                  <a:lnTo>
                    <a:pt x="21064" y="231"/>
                  </a:lnTo>
                  <a:lnTo>
                    <a:pt x="21179" y="231"/>
                  </a:lnTo>
                  <a:lnTo>
                    <a:pt x="21179" y="231"/>
                  </a:lnTo>
                  <a:lnTo>
                    <a:pt x="21411" y="231"/>
                  </a:lnTo>
                  <a:lnTo>
                    <a:pt x="21527" y="347"/>
                  </a:lnTo>
                  <a:lnTo>
                    <a:pt x="21758" y="463"/>
                  </a:lnTo>
                  <a:lnTo>
                    <a:pt x="21990" y="579"/>
                  </a:lnTo>
                  <a:lnTo>
                    <a:pt x="22105" y="694"/>
                  </a:lnTo>
                  <a:lnTo>
                    <a:pt x="22221" y="810"/>
                  </a:lnTo>
                  <a:lnTo>
                    <a:pt x="22453" y="1042"/>
                  </a:lnTo>
                  <a:lnTo>
                    <a:pt x="22568" y="1274"/>
                  </a:lnTo>
                  <a:lnTo>
                    <a:pt x="22568" y="1274"/>
                  </a:lnTo>
                  <a:lnTo>
                    <a:pt x="22684" y="1158"/>
                  </a:lnTo>
                  <a:lnTo>
                    <a:pt x="22915" y="1042"/>
                  </a:lnTo>
                  <a:lnTo>
                    <a:pt x="23031" y="1042"/>
                  </a:lnTo>
                  <a:lnTo>
                    <a:pt x="23147" y="1042"/>
                  </a:lnTo>
                  <a:lnTo>
                    <a:pt x="23378" y="1042"/>
                  </a:lnTo>
                  <a:lnTo>
                    <a:pt x="23494" y="1042"/>
                  </a:lnTo>
                  <a:lnTo>
                    <a:pt x="23726" y="1042"/>
                  </a:lnTo>
                  <a:lnTo>
                    <a:pt x="23841" y="1158"/>
                  </a:lnTo>
                  <a:lnTo>
                    <a:pt x="23841" y="1158"/>
                  </a:lnTo>
                  <a:lnTo>
                    <a:pt x="23957" y="1158"/>
                  </a:lnTo>
                  <a:lnTo>
                    <a:pt x="24188" y="1274"/>
                  </a:lnTo>
                  <a:lnTo>
                    <a:pt x="24304" y="1389"/>
                  </a:lnTo>
                  <a:lnTo>
                    <a:pt x="24420" y="1505"/>
                  </a:lnTo>
                  <a:lnTo>
                    <a:pt x="24536" y="1621"/>
                  </a:lnTo>
                  <a:lnTo>
                    <a:pt x="24651" y="1621"/>
                  </a:lnTo>
                  <a:lnTo>
                    <a:pt x="24767" y="1621"/>
                  </a:lnTo>
                  <a:lnTo>
                    <a:pt x="24999" y="1389"/>
                  </a:lnTo>
                  <a:lnTo>
                    <a:pt x="24999" y="1389"/>
                  </a:lnTo>
                  <a:lnTo>
                    <a:pt x="25114" y="1389"/>
                  </a:lnTo>
                  <a:lnTo>
                    <a:pt x="25346" y="1505"/>
                  </a:lnTo>
                  <a:lnTo>
                    <a:pt x="25462" y="1505"/>
                  </a:lnTo>
                  <a:lnTo>
                    <a:pt x="25577" y="1621"/>
                  </a:lnTo>
                  <a:lnTo>
                    <a:pt x="25693" y="1737"/>
                  </a:lnTo>
                  <a:lnTo>
                    <a:pt x="25809" y="1853"/>
                  </a:lnTo>
                  <a:lnTo>
                    <a:pt x="25924" y="1968"/>
                  </a:lnTo>
                  <a:lnTo>
                    <a:pt x="26040" y="1968"/>
                  </a:lnTo>
                  <a:lnTo>
                    <a:pt x="26040" y="1968"/>
                  </a:lnTo>
                  <a:lnTo>
                    <a:pt x="26272" y="1968"/>
                  </a:lnTo>
                  <a:lnTo>
                    <a:pt x="26503" y="1853"/>
                  </a:lnTo>
                  <a:lnTo>
                    <a:pt x="26735" y="1853"/>
                  </a:lnTo>
                  <a:lnTo>
                    <a:pt x="26966" y="1737"/>
                  </a:lnTo>
                  <a:lnTo>
                    <a:pt x="27082" y="1737"/>
                  </a:lnTo>
                  <a:lnTo>
                    <a:pt x="27313" y="1737"/>
                  </a:lnTo>
                  <a:lnTo>
                    <a:pt x="27545" y="1853"/>
                  </a:lnTo>
                  <a:lnTo>
                    <a:pt x="27660" y="1968"/>
                  </a:lnTo>
                  <a:lnTo>
                    <a:pt x="27660" y="1968"/>
                  </a:lnTo>
                  <a:lnTo>
                    <a:pt x="28123" y="2316"/>
                  </a:lnTo>
                  <a:lnTo>
                    <a:pt x="28123" y="2316"/>
                  </a:lnTo>
                  <a:lnTo>
                    <a:pt x="28239" y="2084"/>
                  </a:lnTo>
                  <a:lnTo>
                    <a:pt x="28471" y="1968"/>
                  </a:lnTo>
                  <a:lnTo>
                    <a:pt x="28586" y="1968"/>
                  </a:lnTo>
                  <a:lnTo>
                    <a:pt x="28818" y="1968"/>
                  </a:lnTo>
                  <a:lnTo>
                    <a:pt x="29049" y="1968"/>
                  </a:lnTo>
                  <a:lnTo>
                    <a:pt x="29281" y="1968"/>
                  </a:lnTo>
                  <a:lnTo>
                    <a:pt x="29512" y="1968"/>
                  </a:lnTo>
                  <a:lnTo>
                    <a:pt x="29744" y="1968"/>
                  </a:lnTo>
                  <a:lnTo>
                    <a:pt x="29744" y="1968"/>
                  </a:lnTo>
                  <a:lnTo>
                    <a:pt x="29859" y="2084"/>
                  </a:lnTo>
                  <a:lnTo>
                    <a:pt x="29975" y="2200"/>
                  </a:lnTo>
                  <a:lnTo>
                    <a:pt x="29975" y="2316"/>
                  </a:lnTo>
                  <a:lnTo>
                    <a:pt x="30091" y="2432"/>
                  </a:lnTo>
                  <a:lnTo>
                    <a:pt x="30207" y="2547"/>
                  </a:lnTo>
                  <a:lnTo>
                    <a:pt x="30322" y="2663"/>
                  </a:lnTo>
                  <a:lnTo>
                    <a:pt x="30438" y="2779"/>
                  </a:lnTo>
                  <a:lnTo>
                    <a:pt x="30554" y="2779"/>
                  </a:lnTo>
                  <a:lnTo>
                    <a:pt x="30554" y="2779"/>
                  </a:lnTo>
                  <a:lnTo>
                    <a:pt x="30670" y="2779"/>
                  </a:lnTo>
                  <a:lnTo>
                    <a:pt x="30785" y="2663"/>
                  </a:lnTo>
                  <a:lnTo>
                    <a:pt x="30901" y="2663"/>
                  </a:lnTo>
                  <a:lnTo>
                    <a:pt x="31132" y="2663"/>
                  </a:lnTo>
                  <a:lnTo>
                    <a:pt x="31248" y="2663"/>
                  </a:lnTo>
                  <a:lnTo>
                    <a:pt x="31364" y="2663"/>
                  </a:lnTo>
                  <a:lnTo>
                    <a:pt x="31595" y="2663"/>
                  </a:lnTo>
                  <a:lnTo>
                    <a:pt x="31711" y="2663"/>
                  </a:lnTo>
                  <a:lnTo>
                    <a:pt x="31711" y="2663"/>
                  </a:lnTo>
                  <a:lnTo>
                    <a:pt x="31943" y="2895"/>
                  </a:lnTo>
                  <a:lnTo>
                    <a:pt x="32058" y="3011"/>
                  </a:lnTo>
                  <a:lnTo>
                    <a:pt x="32174" y="3126"/>
                  </a:lnTo>
                  <a:lnTo>
                    <a:pt x="32290" y="3358"/>
                  </a:lnTo>
                  <a:lnTo>
                    <a:pt x="32521" y="3474"/>
                  </a:lnTo>
                  <a:lnTo>
                    <a:pt x="32637" y="3474"/>
                  </a:lnTo>
                  <a:lnTo>
                    <a:pt x="-32668" y="3474"/>
                  </a:lnTo>
                  <a:lnTo>
                    <a:pt x="-32436" y="3242"/>
                  </a:lnTo>
                  <a:lnTo>
                    <a:pt x="-32436" y="3242"/>
                  </a:lnTo>
                  <a:lnTo>
                    <a:pt x="-32205" y="3242"/>
                  </a:lnTo>
                  <a:lnTo>
                    <a:pt x="-31973" y="3242"/>
                  </a:lnTo>
                  <a:lnTo>
                    <a:pt x="-31626" y="3358"/>
                  </a:lnTo>
                  <a:lnTo>
                    <a:pt x="-31395" y="3474"/>
                  </a:lnTo>
                  <a:lnTo>
                    <a:pt x="-31163" y="3706"/>
                  </a:lnTo>
                  <a:lnTo>
                    <a:pt x="-30932" y="3706"/>
                  </a:lnTo>
                  <a:lnTo>
                    <a:pt x="-30584" y="3821"/>
                  </a:lnTo>
                  <a:lnTo>
                    <a:pt x="-30237" y="3706"/>
                  </a:lnTo>
                  <a:lnTo>
                    <a:pt x="-30237" y="3706"/>
                  </a:lnTo>
                  <a:lnTo>
                    <a:pt x="-30006" y="3821"/>
                  </a:lnTo>
                  <a:lnTo>
                    <a:pt x="-29774" y="3937"/>
                  </a:lnTo>
                  <a:lnTo>
                    <a:pt x="-29543" y="3937"/>
                  </a:lnTo>
                  <a:lnTo>
                    <a:pt x="-29311" y="3937"/>
                  </a:lnTo>
                  <a:lnTo>
                    <a:pt x="-29080" y="3821"/>
                  </a:lnTo>
                  <a:lnTo>
                    <a:pt x="-28733" y="3937"/>
                  </a:lnTo>
                  <a:lnTo>
                    <a:pt x="-28501" y="4053"/>
                  </a:lnTo>
                  <a:lnTo>
                    <a:pt x="-28385" y="4169"/>
                  </a:lnTo>
                  <a:lnTo>
                    <a:pt x="-28385" y="4169"/>
                  </a:lnTo>
                  <a:lnTo>
                    <a:pt x="-28038" y="4169"/>
                  </a:lnTo>
                  <a:lnTo>
                    <a:pt x="-27807" y="4169"/>
                  </a:lnTo>
                  <a:lnTo>
                    <a:pt x="-27575" y="4169"/>
                  </a:lnTo>
                  <a:lnTo>
                    <a:pt x="-27344" y="4285"/>
                  </a:lnTo>
                  <a:lnTo>
                    <a:pt x="-27112" y="4400"/>
                  </a:lnTo>
                  <a:lnTo>
                    <a:pt x="-26881" y="4516"/>
                  </a:lnTo>
                  <a:lnTo>
                    <a:pt x="-26650" y="4516"/>
                  </a:lnTo>
                  <a:lnTo>
                    <a:pt x="-26418" y="4285"/>
                  </a:lnTo>
                  <a:lnTo>
                    <a:pt x="-26418" y="4285"/>
                  </a:lnTo>
                  <a:lnTo>
                    <a:pt x="-26187" y="4400"/>
                  </a:lnTo>
                  <a:lnTo>
                    <a:pt x="-25955" y="4516"/>
                  </a:lnTo>
                  <a:lnTo>
                    <a:pt x="-25724" y="4632"/>
                  </a:lnTo>
                  <a:lnTo>
                    <a:pt x="-25608" y="4748"/>
                  </a:lnTo>
                  <a:lnTo>
                    <a:pt x="-25492" y="4979"/>
                  </a:lnTo>
                  <a:lnTo>
                    <a:pt x="-25376" y="5095"/>
                  </a:lnTo>
                  <a:lnTo>
                    <a:pt x="-25261" y="5327"/>
                  </a:lnTo>
                  <a:lnTo>
                    <a:pt x="-25145" y="5558"/>
                  </a:lnTo>
                  <a:lnTo>
                    <a:pt x="-25145" y="5558"/>
                  </a:lnTo>
                  <a:lnTo>
                    <a:pt x="-25145" y="6022"/>
                  </a:lnTo>
                  <a:lnTo>
                    <a:pt x="-25145" y="6369"/>
                  </a:lnTo>
                  <a:lnTo>
                    <a:pt x="-25376" y="6717"/>
                  </a:lnTo>
                  <a:lnTo>
                    <a:pt x="-25492" y="7064"/>
                  </a:lnTo>
                  <a:lnTo>
                    <a:pt x="-25724" y="7296"/>
                  </a:lnTo>
                  <a:lnTo>
                    <a:pt x="-25839" y="7643"/>
                  </a:lnTo>
                  <a:lnTo>
                    <a:pt x="-25955" y="7990"/>
                  </a:lnTo>
                  <a:lnTo>
                    <a:pt x="-26071" y="8454"/>
                  </a:lnTo>
                  <a:lnTo>
                    <a:pt x="-26071" y="8454"/>
                  </a:lnTo>
                  <a:lnTo>
                    <a:pt x="-26534" y="9959"/>
                  </a:lnTo>
                  <a:lnTo>
                    <a:pt x="-26997" y="11465"/>
                  </a:lnTo>
                  <a:lnTo>
                    <a:pt x="-27344" y="13086"/>
                  </a:lnTo>
                  <a:lnTo>
                    <a:pt x="-27691" y="14707"/>
                  </a:lnTo>
                  <a:lnTo>
                    <a:pt x="-28038" y="16329"/>
                  </a:lnTo>
                  <a:lnTo>
                    <a:pt x="-28270" y="17950"/>
                  </a:lnTo>
                  <a:lnTo>
                    <a:pt x="-28501" y="19571"/>
                  </a:lnTo>
                  <a:lnTo>
                    <a:pt x="-28617" y="21193"/>
                  </a:lnTo>
                  <a:lnTo>
                    <a:pt x="-28617" y="21193"/>
                  </a:lnTo>
                  <a:lnTo>
                    <a:pt x="-28501" y="21309"/>
                  </a:lnTo>
                  <a:lnTo>
                    <a:pt x="-28501" y="21309"/>
                  </a:lnTo>
                  <a:lnTo>
                    <a:pt x="-26650" y="20845"/>
                  </a:lnTo>
                  <a:lnTo>
                    <a:pt x="-24914" y="20498"/>
                  </a:lnTo>
                  <a:lnTo>
                    <a:pt x="-23178" y="20150"/>
                  </a:lnTo>
                  <a:lnTo>
                    <a:pt x="-21326" y="19919"/>
                  </a:lnTo>
                  <a:lnTo>
                    <a:pt x="-19590" y="19571"/>
                  </a:lnTo>
                  <a:lnTo>
                    <a:pt x="-17738" y="19224"/>
                  </a:lnTo>
                  <a:lnTo>
                    <a:pt x="-16002" y="18992"/>
                  </a:lnTo>
                  <a:lnTo>
                    <a:pt x="-14266" y="18645"/>
                  </a:lnTo>
                  <a:lnTo>
                    <a:pt x="-14266" y="18645"/>
                  </a:lnTo>
                  <a:lnTo>
                    <a:pt x="-12993" y="18761"/>
                  </a:lnTo>
                  <a:lnTo>
                    <a:pt x="-11720" y="18877"/>
                  </a:lnTo>
                  <a:lnTo>
                    <a:pt x="-10563" y="18992"/>
                  </a:lnTo>
                  <a:lnTo>
                    <a:pt x="-9290" y="18992"/>
                  </a:lnTo>
                  <a:lnTo>
                    <a:pt x="-8017" y="19108"/>
                  </a:lnTo>
                  <a:lnTo>
                    <a:pt x="-6859" y="19224"/>
                  </a:lnTo>
                  <a:lnTo>
                    <a:pt x="-5586" y="19340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803"/>
                  </a:lnTo>
                  <a:lnTo>
                    <a:pt x="-4197" y="19803"/>
                  </a:lnTo>
                  <a:lnTo>
                    <a:pt x="-4313" y="19803"/>
                  </a:lnTo>
                  <a:lnTo>
                    <a:pt x="-4313" y="19803"/>
                  </a:lnTo>
                  <a:lnTo>
                    <a:pt x="-17044" y="25246"/>
                  </a:lnTo>
                  <a:lnTo>
                    <a:pt x="-17044" y="25246"/>
                  </a:lnTo>
                  <a:lnTo>
                    <a:pt x="-17159" y="25246"/>
                  </a:lnTo>
                  <a:lnTo>
                    <a:pt x="-17391" y="25246"/>
                  </a:lnTo>
                  <a:lnTo>
                    <a:pt x="-17622" y="25362"/>
                  </a:lnTo>
                  <a:lnTo>
                    <a:pt x="-17854" y="25362"/>
                  </a:lnTo>
                  <a:lnTo>
                    <a:pt x="-17970" y="25478"/>
                  </a:lnTo>
                  <a:lnTo>
                    <a:pt x="-18201" y="25478"/>
                  </a:lnTo>
                  <a:lnTo>
                    <a:pt x="-18317" y="25478"/>
                  </a:lnTo>
                  <a:lnTo>
                    <a:pt x="-18548" y="25594"/>
                  </a:lnTo>
                  <a:lnTo>
                    <a:pt x="-18548" y="25594"/>
                  </a:lnTo>
                  <a:lnTo>
                    <a:pt x="-18548" y="25941"/>
                  </a:lnTo>
                  <a:lnTo>
                    <a:pt x="-18664" y="26288"/>
                  </a:lnTo>
                  <a:lnTo>
                    <a:pt x="-18895" y="26636"/>
                  </a:lnTo>
                  <a:lnTo>
                    <a:pt x="-19127" y="26983"/>
                  </a:lnTo>
                  <a:lnTo>
                    <a:pt x="-19358" y="27215"/>
                  </a:lnTo>
                  <a:lnTo>
                    <a:pt x="-19706" y="27562"/>
                  </a:lnTo>
                  <a:lnTo>
                    <a:pt x="-19937" y="27794"/>
                  </a:lnTo>
                  <a:lnTo>
                    <a:pt x="-20284" y="28026"/>
                  </a:lnTo>
                  <a:lnTo>
                    <a:pt x="-20284" y="28026"/>
                  </a:lnTo>
                  <a:lnTo>
                    <a:pt x="-20631" y="28141"/>
                  </a:lnTo>
                  <a:lnTo>
                    <a:pt x="-20863" y="28257"/>
                  </a:lnTo>
                  <a:lnTo>
                    <a:pt x="-21094" y="28373"/>
                  </a:lnTo>
                  <a:lnTo>
                    <a:pt x="-21442" y="28373"/>
                  </a:lnTo>
                  <a:lnTo>
                    <a:pt x="-21673" y="28489"/>
                  </a:lnTo>
                  <a:lnTo>
                    <a:pt x="-22020" y="28489"/>
                  </a:lnTo>
                  <a:lnTo>
                    <a:pt x="-22252" y="28373"/>
                  </a:lnTo>
                  <a:lnTo>
                    <a:pt x="-22483" y="28141"/>
                  </a:lnTo>
                  <a:lnTo>
                    <a:pt x="-22483" y="28141"/>
                  </a:lnTo>
                  <a:lnTo>
                    <a:pt x="-22715" y="28257"/>
                  </a:lnTo>
                  <a:lnTo>
                    <a:pt x="-22830" y="28373"/>
                  </a:lnTo>
                  <a:lnTo>
                    <a:pt x="-23062" y="28489"/>
                  </a:lnTo>
                  <a:lnTo>
                    <a:pt x="-23293" y="28605"/>
                  </a:lnTo>
                  <a:lnTo>
                    <a:pt x="-23409" y="28605"/>
                  </a:lnTo>
                  <a:lnTo>
                    <a:pt x="-23640" y="28720"/>
                  </a:lnTo>
                  <a:lnTo>
                    <a:pt x="-23872" y="28720"/>
                  </a:lnTo>
                  <a:lnTo>
                    <a:pt x="-24103" y="28605"/>
                  </a:lnTo>
                  <a:lnTo>
                    <a:pt x="-24103" y="28605"/>
                  </a:lnTo>
                  <a:lnTo>
                    <a:pt x="-24335" y="28952"/>
                  </a:lnTo>
                  <a:lnTo>
                    <a:pt x="-24566" y="29184"/>
                  </a:lnTo>
                  <a:lnTo>
                    <a:pt x="-24798" y="29299"/>
                  </a:lnTo>
                  <a:lnTo>
                    <a:pt x="-25145" y="29415"/>
                  </a:lnTo>
                  <a:lnTo>
                    <a:pt x="-25376" y="29531"/>
                  </a:lnTo>
                  <a:lnTo>
                    <a:pt x="-25724" y="29531"/>
                  </a:lnTo>
                  <a:lnTo>
                    <a:pt x="-26071" y="29647"/>
                  </a:lnTo>
                  <a:lnTo>
                    <a:pt x="-26418" y="29531"/>
                  </a:lnTo>
                  <a:lnTo>
                    <a:pt x="-26418" y="29531"/>
                  </a:lnTo>
                  <a:lnTo>
                    <a:pt x="-26534" y="29531"/>
                  </a:lnTo>
                  <a:lnTo>
                    <a:pt x="-26650" y="29415"/>
                  </a:lnTo>
                  <a:lnTo>
                    <a:pt x="-26765" y="29299"/>
                  </a:lnTo>
                  <a:lnTo>
                    <a:pt x="-26881" y="29184"/>
                  </a:lnTo>
                  <a:lnTo>
                    <a:pt x="-26997" y="29068"/>
                  </a:lnTo>
                  <a:lnTo>
                    <a:pt x="-27112" y="28952"/>
                  </a:lnTo>
                  <a:lnTo>
                    <a:pt x="-27228" y="28952"/>
                  </a:lnTo>
                  <a:lnTo>
                    <a:pt x="-27460" y="29068"/>
                  </a:lnTo>
                  <a:lnTo>
                    <a:pt x="-27460" y="29068"/>
                  </a:lnTo>
                  <a:lnTo>
                    <a:pt x="-27575" y="29184"/>
                  </a:lnTo>
                  <a:lnTo>
                    <a:pt x="-27691" y="29299"/>
                  </a:lnTo>
                  <a:lnTo>
                    <a:pt x="-27923" y="29415"/>
                  </a:lnTo>
                  <a:lnTo>
                    <a:pt x="-28038" y="29531"/>
                  </a:lnTo>
                  <a:lnTo>
                    <a:pt x="-28270" y="29647"/>
                  </a:lnTo>
                  <a:lnTo>
                    <a:pt x="-28385" y="29763"/>
                  </a:lnTo>
                  <a:lnTo>
                    <a:pt x="-28617" y="29879"/>
                  </a:lnTo>
                  <a:lnTo>
                    <a:pt x="-28733" y="29994"/>
                  </a:lnTo>
                  <a:lnTo>
                    <a:pt x="-28733" y="29994"/>
                  </a:lnTo>
                  <a:lnTo>
                    <a:pt x="-28733" y="30689"/>
                  </a:lnTo>
                  <a:lnTo>
                    <a:pt x="-28733" y="31268"/>
                  </a:lnTo>
                  <a:lnTo>
                    <a:pt x="-28617" y="31963"/>
                  </a:lnTo>
                  <a:lnTo>
                    <a:pt x="-28501" y="32542"/>
                  </a:lnTo>
                  <a:lnTo>
                    <a:pt x="-28385" y="-32299"/>
                  </a:lnTo>
                  <a:lnTo>
                    <a:pt x="-28385" y="-31720"/>
                  </a:lnTo>
                  <a:lnTo>
                    <a:pt x="-28270" y="-31025"/>
                  </a:lnTo>
                  <a:lnTo>
                    <a:pt x="-28154" y="-30446"/>
                  </a:lnTo>
                  <a:lnTo>
                    <a:pt x="-28154" y="-30446"/>
                  </a:lnTo>
                  <a:lnTo>
                    <a:pt x="-28501" y="-30214"/>
                  </a:lnTo>
                  <a:lnTo>
                    <a:pt x="-28733" y="-29983"/>
                  </a:lnTo>
                  <a:lnTo>
                    <a:pt x="-29196" y="-29867"/>
                  </a:lnTo>
                  <a:lnTo>
                    <a:pt x="-29543" y="-29867"/>
                  </a:lnTo>
                  <a:lnTo>
                    <a:pt x="-29890" y="-29751"/>
                  </a:lnTo>
                  <a:lnTo>
                    <a:pt x="-30237" y="-29751"/>
                  </a:lnTo>
                  <a:lnTo>
                    <a:pt x="-30700" y="-29635"/>
                  </a:lnTo>
                  <a:lnTo>
                    <a:pt x="-31047" y="-29635"/>
                  </a:lnTo>
                  <a:lnTo>
                    <a:pt x="-31047" y="-29635"/>
                  </a:lnTo>
                  <a:lnTo>
                    <a:pt x="-31047" y="-29288"/>
                  </a:lnTo>
                  <a:lnTo>
                    <a:pt x="-31047" y="-29288"/>
                  </a:lnTo>
                  <a:lnTo>
                    <a:pt x="-30700" y="-28825"/>
                  </a:lnTo>
                  <a:lnTo>
                    <a:pt x="-30353" y="-28246"/>
                  </a:lnTo>
                  <a:lnTo>
                    <a:pt x="-30006" y="-27782"/>
                  </a:lnTo>
                  <a:lnTo>
                    <a:pt x="-29774" y="-27319"/>
                  </a:lnTo>
                  <a:lnTo>
                    <a:pt x="-29427" y="-26856"/>
                  </a:lnTo>
                  <a:lnTo>
                    <a:pt x="-29080" y="-26277"/>
                  </a:lnTo>
                  <a:lnTo>
                    <a:pt x="-28848" y="-25814"/>
                  </a:lnTo>
                  <a:lnTo>
                    <a:pt x="-28617" y="-25235"/>
                  </a:lnTo>
                  <a:lnTo>
                    <a:pt x="-28617" y="-25235"/>
                  </a:lnTo>
                  <a:lnTo>
                    <a:pt x="-28733" y="-24540"/>
                  </a:lnTo>
                  <a:lnTo>
                    <a:pt x="-28848" y="-23729"/>
                  </a:lnTo>
                  <a:lnTo>
                    <a:pt x="-28964" y="-23034"/>
                  </a:lnTo>
                  <a:lnTo>
                    <a:pt x="-29196" y="-22224"/>
                  </a:lnTo>
                  <a:lnTo>
                    <a:pt x="-29311" y="-21529"/>
                  </a:lnTo>
                  <a:lnTo>
                    <a:pt x="-29543" y="-20718"/>
                  </a:lnTo>
                  <a:lnTo>
                    <a:pt x="-29659" y="-20023"/>
                  </a:lnTo>
                  <a:lnTo>
                    <a:pt x="-29890" y="-19213"/>
                  </a:lnTo>
                  <a:lnTo>
                    <a:pt x="-29890" y="-19213"/>
                  </a:lnTo>
                  <a:lnTo>
                    <a:pt x="-29774" y="-18865"/>
                  </a:lnTo>
                  <a:lnTo>
                    <a:pt x="-29543" y="-18518"/>
                  </a:lnTo>
                  <a:lnTo>
                    <a:pt x="-29427" y="-18286"/>
                  </a:lnTo>
                  <a:lnTo>
                    <a:pt x="-29196" y="-18054"/>
                  </a:lnTo>
                  <a:lnTo>
                    <a:pt x="-28964" y="-17707"/>
                  </a:lnTo>
                  <a:lnTo>
                    <a:pt x="-28733" y="-17475"/>
                  </a:lnTo>
                  <a:lnTo>
                    <a:pt x="-28501" y="-17244"/>
                  </a:lnTo>
                  <a:lnTo>
                    <a:pt x="-28501" y="-16896"/>
                  </a:lnTo>
                  <a:lnTo>
                    <a:pt x="-28501" y="-16896"/>
                  </a:lnTo>
                  <a:lnTo>
                    <a:pt x="-28385" y="-16665"/>
                  </a:lnTo>
                  <a:lnTo>
                    <a:pt x="-28154" y="-16317"/>
                  </a:lnTo>
                  <a:lnTo>
                    <a:pt x="-28038" y="-16086"/>
                  </a:lnTo>
                  <a:lnTo>
                    <a:pt x="-27807" y="-15854"/>
                  </a:lnTo>
                  <a:lnTo>
                    <a:pt x="-27691" y="-15622"/>
                  </a:lnTo>
                  <a:lnTo>
                    <a:pt x="-27575" y="-15391"/>
                  </a:lnTo>
                  <a:lnTo>
                    <a:pt x="-27344" y="-15159"/>
                  </a:lnTo>
                  <a:lnTo>
                    <a:pt x="-27344" y="-14928"/>
                  </a:lnTo>
                  <a:lnTo>
                    <a:pt x="-27344" y="-14928"/>
                  </a:lnTo>
                  <a:lnTo>
                    <a:pt x="-27228" y="-14464"/>
                  </a:lnTo>
                  <a:lnTo>
                    <a:pt x="-26997" y="-14117"/>
                  </a:lnTo>
                  <a:lnTo>
                    <a:pt x="-26881" y="-13654"/>
                  </a:lnTo>
                  <a:lnTo>
                    <a:pt x="-26881" y="-13190"/>
                  </a:lnTo>
                  <a:lnTo>
                    <a:pt x="-26765" y="-12727"/>
                  </a:lnTo>
                  <a:lnTo>
                    <a:pt x="-26765" y="-12380"/>
                  </a:lnTo>
                  <a:lnTo>
                    <a:pt x="-26881" y="-11917"/>
                  </a:lnTo>
                  <a:lnTo>
                    <a:pt x="-27228" y="-11569"/>
                  </a:lnTo>
                  <a:lnTo>
                    <a:pt x="-27228" y="-11569"/>
                  </a:lnTo>
                  <a:lnTo>
                    <a:pt x="-27228" y="-11453"/>
                  </a:lnTo>
                  <a:lnTo>
                    <a:pt x="-27344" y="-11453"/>
                  </a:lnTo>
                  <a:lnTo>
                    <a:pt x="-27344" y="-11453"/>
                  </a:lnTo>
                  <a:lnTo>
                    <a:pt x="-27460" y="-11453"/>
                  </a:lnTo>
                  <a:lnTo>
                    <a:pt x="-27460" y="-11453"/>
                  </a:lnTo>
                  <a:lnTo>
                    <a:pt x="-27575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8154" y="-11222"/>
                  </a:lnTo>
                  <a:lnTo>
                    <a:pt x="-28733" y="-11106"/>
                  </a:lnTo>
                  <a:lnTo>
                    <a:pt x="-29311" y="-11106"/>
                  </a:lnTo>
                  <a:lnTo>
                    <a:pt x="-29890" y="-11222"/>
                  </a:lnTo>
                  <a:lnTo>
                    <a:pt x="-30353" y="-11337"/>
                  </a:lnTo>
                  <a:lnTo>
                    <a:pt x="-30932" y="-11453"/>
                  </a:lnTo>
                  <a:lnTo>
                    <a:pt x="-31395" y="-11685"/>
                  </a:lnTo>
                  <a:lnTo>
                    <a:pt x="-31857" y="-12032"/>
                  </a:lnTo>
                  <a:lnTo>
                    <a:pt x="-31857" y="-12032"/>
                  </a:lnTo>
                  <a:lnTo>
                    <a:pt x="-32320" y="-12496"/>
                  </a:lnTo>
                  <a:lnTo>
                    <a:pt x="-32552" y="-13075"/>
                  </a:lnTo>
                  <a:lnTo>
                    <a:pt x="32753" y="-13769"/>
                  </a:lnTo>
                  <a:lnTo>
                    <a:pt x="32637" y="-14464"/>
                  </a:lnTo>
                  <a:lnTo>
                    <a:pt x="32405" y="-15159"/>
                  </a:lnTo>
                  <a:lnTo>
                    <a:pt x="32058" y="-15622"/>
                  </a:lnTo>
                  <a:lnTo>
                    <a:pt x="31595" y="-16086"/>
                  </a:lnTo>
                  <a:lnTo>
                    <a:pt x="30785" y="-16201"/>
                  </a:lnTo>
                  <a:lnTo>
                    <a:pt x="30785" y="-16201"/>
                  </a:lnTo>
                  <a:lnTo>
                    <a:pt x="30670" y="-16317"/>
                  </a:lnTo>
                  <a:lnTo>
                    <a:pt x="30554" y="-16549"/>
                  </a:lnTo>
                  <a:lnTo>
                    <a:pt x="30438" y="-16781"/>
                  </a:lnTo>
                  <a:lnTo>
                    <a:pt x="30322" y="-16896"/>
                  </a:lnTo>
                  <a:lnTo>
                    <a:pt x="30322" y="-17128"/>
                  </a:lnTo>
                  <a:lnTo>
                    <a:pt x="30322" y="-17360"/>
                  </a:lnTo>
                  <a:lnTo>
                    <a:pt x="30322" y="-17591"/>
                  </a:lnTo>
                  <a:lnTo>
                    <a:pt x="30322" y="-17823"/>
                  </a:lnTo>
                  <a:lnTo>
                    <a:pt x="30322" y="-17823"/>
                  </a:lnTo>
                  <a:lnTo>
                    <a:pt x="30554" y="-18170"/>
                  </a:lnTo>
                  <a:lnTo>
                    <a:pt x="30785" y="-18518"/>
                  </a:lnTo>
                  <a:lnTo>
                    <a:pt x="31132" y="-18749"/>
                  </a:lnTo>
                  <a:lnTo>
                    <a:pt x="31480" y="-18981"/>
                  </a:lnTo>
                  <a:lnTo>
                    <a:pt x="31827" y="-19213"/>
                  </a:lnTo>
                  <a:lnTo>
                    <a:pt x="32174" y="-19444"/>
                  </a:lnTo>
                  <a:lnTo>
                    <a:pt x="32405" y="-19676"/>
                  </a:lnTo>
                  <a:lnTo>
                    <a:pt x="32637" y="-20139"/>
                  </a:lnTo>
                  <a:lnTo>
                    <a:pt x="32637" y="-20139"/>
                  </a:lnTo>
                  <a:lnTo>
                    <a:pt x="-32668" y="-20950"/>
                  </a:lnTo>
                  <a:lnTo>
                    <a:pt x="-32436" y="-21876"/>
                  </a:lnTo>
                  <a:lnTo>
                    <a:pt x="-32205" y="-22803"/>
                  </a:lnTo>
                  <a:lnTo>
                    <a:pt x="-32089" y="-23729"/>
                  </a:lnTo>
                  <a:lnTo>
                    <a:pt x="-32089" y="-24656"/>
                  </a:lnTo>
                  <a:lnTo>
                    <a:pt x="-32205" y="-25466"/>
                  </a:lnTo>
                  <a:lnTo>
                    <a:pt x="-32552" y="-26277"/>
                  </a:lnTo>
                  <a:lnTo>
                    <a:pt x="32290" y="-27088"/>
                  </a:lnTo>
                  <a:lnTo>
                    <a:pt x="32290" y="-27088"/>
                  </a:lnTo>
                  <a:lnTo>
                    <a:pt x="30901" y="-28593"/>
                  </a:lnTo>
                  <a:lnTo>
                    <a:pt x="30901" y="-28593"/>
                  </a:lnTo>
                  <a:lnTo>
                    <a:pt x="29744" y="-28130"/>
                  </a:lnTo>
                  <a:lnTo>
                    <a:pt x="28586" y="-27667"/>
                  </a:lnTo>
                  <a:lnTo>
                    <a:pt x="27545" y="-27203"/>
                  </a:lnTo>
                  <a:lnTo>
                    <a:pt x="26387" y="-26740"/>
                  </a:lnTo>
                  <a:lnTo>
                    <a:pt x="25230" y="-26161"/>
                  </a:lnTo>
                  <a:lnTo>
                    <a:pt x="24073" y="-25698"/>
                  </a:lnTo>
                  <a:lnTo>
                    <a:pt x="23031" y="-25119"/>
                  </a:lnTo>
                  <a:lnTo>
                    <a:pt x="21874" y="-24656"/>
                  </a:lnTo>
                  <a:lnTo>
                    <a:pt x="21874" y="-24656"/>
                  </a:lnTo>
                  <a:lnTo>
                    <a:pt x="21990" y="-24192"/>
                  </a:lnTo>
                  <a:lnTo>
                    <a:pt x="22221" y="-23845"/>
                  </a:lnTo>
                  <a:lnTo>
                    <a:pt x="22337" y="-23382"/>
                  </a:lnTo>
                  <a:lnTo>
                    <a:pt x="22568" y="-23034"/>
                  </a:lnTo>
                  <a:lnTo>
                    <a:pt x="22684" y="-22687"/>
                  </a:lnTo>
                  <a:lnTo>
                    <a:pt x="22915" y="-22224"/>
                  </a:lnTo>
                  <a:lnTo>
                    <a:pt x="23147" y="-21876"/>
                  </a:lnTo>
                  <a:lnTo>
                    <a:pt x="23263" y="-21529"/>
                  </a:lnTo>
                  <a:lnTo>
                    <a:pt x="23263" y="-21529"/>
                  </a:lnTo>
                  <a:lnTo>
                    <a:pt x="23263" y="-21181"/>
                  </a:lnTo>
                  <a:lnTo>
                    <a:pt x="23147" y="-20950"/>
                  </a:lnTo>
                  <a:lnTo>
                    <a:pt x="23031" y="-20718"/>
                  </a:lnTo>
                  <a:lnTo>
                    <a:pt x="22915" y="-20486"/>
                  </a:lnTo>
                  <a:lnTo>
                    <a:pt x="22684" y="-20371"/>
                  </a:lnTo>
                  <a:lnTo>
                    <a:pt x="22453" y="-20139"/>
                  </a:lnTo>
                  <a:lnTo>
                    <a:pt x="22221" y="-19907"/>
                  </a:lnTo>
                  <a:lnTo>
                    <a:pt x="22105" y="-19792"/>
                  </a:lnTo>
                  <a:lnTo>
                    <a:pt x="22105" y="-19792"/>
                  </a:lnTo>
                  <a:lnTo>
                    <a:pt x="20601" y="-17939"/>
                  </a:lnTo>
                  <a:lnTo>
                    <a:pt x="20601" y="-17939"/>
                  </a:lnTo>
                  <a:lnTo>
                    <a:pt x="20485" y="-17475"/>
                  </a:lnTo>
                  <a:lnTo>
                    <a:pt x="20485" y="-17012"/>
                  </a:lnTo>
                  <a:lnTo>
                    <a:pt x="20369" y="-16433"/>
                  </a:lnTo>
                  <a:lnTo>
                    <a:pt x="20254" y="-15970"/>
                  </a:lnTo>
                  <a:lnTo>
                    <a:pt x="20254" y="-15507"/>
                  </a:lnTo>
                  <a:lnTo>
                    <a:pt x="20254" y="-15043"/>
                  </a:lnTo>
                  <a:lnTo>
                    <a:pt x="20254" y="-14580"/>
                  </a:lnTo>
                  <a:lnTo>
                    <a:pt x="20369" y="-14117"/>
                  </a:lnTo>
                  <a:lnTo>
                    <a:pt x="20369" y="-14117"/>
                  </a:lnTo>
                  <a:lnTo>
                    <a:pt x="20485" y="-14117"/>
                  </a:lnTo>
                  <a:lnTo>
                    <a:pt x="20601" y="-14117"/>
                  </a:lnTo>
                  <a:lnTo>
                    <a:pt x="20832" y="-14001"/>
                  </a:lnTo>
                  <a:lnTo>
                    <a:pt x="20832" y="-13885"/>
                  </a:lnTo>
                  <a:lnTo>
                    <a:pt x="20948" y="-13769"/>
                  </a:lnTo>
                  <a:lnTo>
                    <a:pt x="21064" y="-13654"/>
                  </a:lnTo>
                  <a:lnTo>
                    <a:pt x="21179" y="-13538"/>
                  </a:lnTo>
                  <a:lnTo>
                    <a:pt x="21411" y="-13538"/>
                  </a:lnTo>
                  <a:lnTo>
                    <a:pt x="21411" y="-13538"/>
                  </a:lnTo>
                  <a:lnTo>
                    <a:pt x="23031" y="-13422"/>
                  </a:lnTo>
                  <a:lnTo>
                    <a:pt x="23031" y="-13422"/>
                  </a:lnTo>
                  <a:lnTo>
                    <a:pt x="23031" y="-13306"/>
                  </a:lnTo>
                  <a:lnTo>
                    <a:pt x="23147" y="-13190"/>
                  </a:lnTo>
                  <a:lnTo>
                    <a:pt x="23263" y="-13075"/>
                  </a:lnTo>
                  <a:lnTo>
                    <a:pt x="23378" y="-12959"/>
                  </a:lnTo>
                  <a:lnTo>
                    <a:pt x="23494" y="-12843"/>
                  </a:lnTo>
                  <a:lnTo>
                    <a:pt x="23610" y="-12611"/>
                  </a:lnTo>
                  <a:lnTo>
                    <a:pt x="23610" y="-12496"/>
                  </a:lnTo>
                  <a:lnTo>
                    <a:pt x="23726" y="-12264"/>
                  </a:lnTo>
                  <a:lnTo>
                    <a:pt x="23726" y="-12264"/>
                  </a:lnTo>
                  <a:lnTo>
                    <a:pt x="23726" y="-12032"/>
                  </a:lnTo>
                  <a:lnTo>
                    <a:pt x="23610" y="-11801"/>
                  </a:lnTo>
                  <a:lnTo>
                    <a:pt x="23494" y="-11569"/>
                  </a:lnTo>
                  <a:lnTo>
                    <a:pt x="23378" y="-11453"/>
                  </a:lnTo>
                  <a:lnTo>
                    <a:pt x="23147" y="-11222"/>
                  </a:lnTo>
                  <a:lnTo>
                    <a:pt x="22915" y="-11106"/>
                  </a:lnTo>
                  <a:lnTo>
                    <a:pt x="22684" y="-10990"/>
                  </a:lnTo>
                  <a:lnTo>
                    <a:pt x="22453" y="-10874"/>
                  </a:lnTo>
                  <a:lnTo>
                    <a:pt x="22453" y="-10874"/>
                  </a:lnTo>
                  <a:lnTo>
                    <a:pt x="21758" y="-10643"/>
                  </a:lnTo>
                  <a:lnTo>
                    <a:pt x="21179" y="-10643"/>
                  </a:lnTo>
                  <a:lnTo>
                    <a:pt x="20485" y="-10643"/>
                  </a:lnTo>
                  <a:lnTo>
                    <a:pt x="19791" y="-10758"/>
                  </a:lnTo>
                  <a:lnTo>
                    <a:pt x="19096" y="-10990"/>
                  </a:lnTo>
                  <a:lnTo>
                    <a:pt x="18518" y="-11222"/>
                  </a:lnTo>
                  <a:lnTo>
                    <a:pt x="17939" y="-11569"/>
                  </a:lnTo>
                  <a:lnTo>
                    <a:pt x="17360" y="-11917"/>
                  </a:lnTo>
                  <a:lnTo>
                    <a:pt x="17360" y="-11917"/>
                  </a:lnTo>
                  <a:lnTo>
                    <a:pt x="17013" y="-12496"/>
                  </a:lnTo>
                  <a:lnTo>
                    <a:pt x="16782" y="-13190"/>
                  </a:lnTo>
                  <a:lnTo>
                    <a:pt x="16550" y="-13769"/>
                  </a:lnTo>
                  <a:lnTo>
                    <a:pt x="16319" y="-14464"/>
                  </a:lnTo>
                  <a:lnTo>
                    <a:pt x="15972" y="-15043"/>
                  </a:lnTo>
                  <a:lnTo>
                    <a:pt x="15509" y="-15622"/>
                  </a:lnTo>
                  <a:lnTo>
                    <a:pt x="15046" y="-16086"/>
                  </a:lnTo>
                  <a:lnTo>
                    <a:pt x="14351" y="-16317"/>
                  </a:lnTo>
                  <a:lnTo>
                    <a:pt x="14351" y="-16317"/>
                  </a:lnTo>
                  <a:lnTo>
                    <a:pt x="14236" y="-16433"/>
                  </a:lnTo>
                  <a:lnTo>
                    <a:pt x="14120" y="-16549"/>
                  </a:lnTo>
                  <a:lnTo>
                    <a:pt x="14120" y="-16781"/>
                  </a:lnTo>
                  <a:lnTo>
                    <a:pt x="14004" y="-16896"/>
                  </a:lnTo>
                  <a:lnTo>
                    <a:pt x="14004" y="-17128"/>
                  </a:lnTo>
                  <a:lnTo>
                    <a:pt x="14004" y="-17244"/>
                  </a:lnTo>
                  <a:lnTo>
                    <a:pt x="14120" y="-17360"/>
                  </a:lnTo>
                  <a:lnTo>
                    <a:pt x="14120" y="-17591"/>
                  </a:lnTo>
                  <a:lnTo>
                    <a:pt x="14120" y="-17591"/>
                  </a:lnTo>
                  <a:lnTo>
                    <a:pt x="14467" y="-17939"/>
                  </a:lnTo>
                  <a:lnTo>
                    <a:pt x="14930" y="-18286"/>
                  </a:lnTo>
                  <a:lnTo>
                    <a:pt x="15393" y="-18402"/>
                  </a:lnTo>
                  <a:lnTo>
                    <a:pt x="15972" y="-18633"/>
                  </a:lnTo>
                  <a:lnTo>
                    <a:pt x="16434" y="-18749"/>
                  </a:lnTo>
                  <a:lnTo>
                    <a:pt x="17013" y="-18865"/>
                  </a:lnTo>
                  <a:lnTo>
                    <a:pt x="17476" y="-19097"/>
                  </a:lnTo>
                  <a:lnTo>
                    <a:pt x="17939" y="-19444"/>
                  </a:lnTo>
                  <a:lnTo>
                    <a:pt x="17939" y="-19444"/>
                  </a:lnTo>
                  <a:lnTo>
                    <a:pt x="18286" y="-19792"/>
                  </a:lnTo>
                  <a:lnTo>
                    <a:pt x="18633" y="-20023"/>
                  </a:lnTo>
                  <a:lnTo>
                    <a:pt x="18981" y="-20255"/>
                  </a:lnTo>
                  <a:lnTo>
                    <a:pt x="19328" y="-20602"/>
                  </a:lnTo>
                  <a:lnTo>
                    <a:pt x="19559" y="-20950"/>
                  </a:lnTo>
                  <a:lnTo>
                    <a:pt x="19791" y="-21297"/>
                  </a:lnTo>
                  <a:lnTo>
                    <a:pt x="20022" y="-21645"/>
                  </a:lnTo>
                  <a:lnTo>
                    <a:pt x="20369" y="-21992"/>
                  </a:lnTo>
                  <a:lnTo>
                    <a:pt x="20369" y="-21992"/>
                  </a:lnTo>
                  <a:lnTo>
                    <a:pt x="20138" y="-22108"/>
                  </a:lnTo>
                  <a:lnTo>
                    <a:pt x="20022" y="-22339"/>
                  </a:lnTo>
                  <a:lnTo>
                    <a:pt x="19906" y="-22571"/>
                  </a:lnTo>
                  <a:lnTo>
                    <a:pt x="19906" y="-22803"/>
                  </a:lnTo>
                  <a:lnTo>
                    <a:pt x="19791" y="-23034"/>
                  </a:lnTo>
                  <a:lnTo>
                    <a:pt x="19675" y="-23266"/>
                  </a:lnTo>
                  <a:lnTo>
                    <a:pt x="19559" y="-23382"/>
                  </a:lnTo>
                  <a:lnTo>
                    <a:pt x="19443" y="-23613"/>
                  </a:lnTo>
                  <a:lnTo>
                    <a:pt x="19443" y="-23613"/>
                  </a:lnTo>
                  <a:lnTo>
                    <a:pt x="18633" y="-23266"/>
                  </a:lnTo>
                  <a:lnTo>
                    <a:pt x="17823" y="-22918"/>
                  </a:lnTo>
                  <a:lnTo>
                    <a:pt x="17129" y="-22571"/>
                  </a:lnTo>
                  <a:lnTo>
                    <a:pt x="16319" y="-22224"/>
                  </a:lnTo>
                  <a:lnTo>
                    <a:pt x="15624" y="-21876"/>
                  </a:lnTo>
                  <a:lnTo>
                    <a:pt x="14814" y="-21529"/>
                  </a:lnTo>
                  <a:lnTo>
                    <a:pt x="14120" y="-21297"/>
                  </a:lnTo>
                  <a:lnTo>
                    <a:pt x="13194" y="-21181"/>
                  </a:lnTo>
                  <a:lnTo>
                    <a:pt x="13194" y="-21181"/>
                  </a:lnTo>
                  <a:lnTo>
                    <a:pt x="13194" y="-21297"/>
                  </a:lnTo>
                  <a:lnTo>
                    <a:pt x="13194" y="-21413"/>
                  </a:lnTo>
                  <a:lnTo>
                    <a:pt x="13078" y="-21645"/>
                  </a:lnTo>
                  <a:lnTo>
                    <a:pt x="13078" y="-21760"/>
                  </a:lnTo>
                  <a:lnTo>
                    <a:pt x="13078" y="-21876"/>
                  </a:lnTo>
                  <a:lnTo>
                    <a:pt x="13078" y="-22108"/>
                  </a:lnTo>
                  <a:lnTo>
                    <a:pt x="13078" y="-22224"/>
                  </a:lnTo>
                  <a:lnTo>
                    <a:pt x="12962" y="-22339"/>
                  </a:lnTo>
                  <a:lnTo>
                    <a:pt x="12962" y="-22339"/>
                  </a:lnTo>
                  <a:lnTo>
                    <a:pt x="12847" y="-22224"/>
                  </a:lnTo>
                  <a:lnTo>
                    <a:pt x="12731" y="-22224"/>
                  </a:lnTo>
                  <a:lnTo>
                    <a:pt x="12615" y="-22108"/>
                  </a:lnTo>
                  <a:lnTo>
                    <a:pt x="12500" y="-22108"/>
                  </a:lnTo>
                  <a:lnTo>
                    <a:pt x="12384" y="-22108"/>
                  </a:lnTo>
                  <a:lnTo>
                    <a:pt x="12268" y="-21992"/>
                  </a:lnTo>
                  <a:lnTo>
                    <a:pt x="12152" y="-22108"/>
                  </a:lnTo>
                  <a:lnTo>
                    <a:pt x="12037" y="-22108"/>
                  </a:lnTo>
                  <a:lnTo>
                    <a:pt x="12037" y="-22108"/>
                  </a:lnTo>
                  <a:lnTo>
                    <a:pt x="12037" y="-22339"/>
                  </a:lnTo>
                  <a:lnTo>
                    <a:pt x="12037" y="-22339"/>
                  </a:lnTo>
                  <a:lnTo>
                    <a:pt x="12037" y="-22455"/>
                  </a:lnTo>
                  <a:lnTo>
                    <a:pt x="11921" y="-22455"/>
                  </a:lnTo>
                  <a:lnTo>
                    <a:pt x="11805" y="-22455"/>
                  </a:lnTo>
                  <a:lnTo>
                    <a:pt x="11689" y="-22455"/>
                  </a:lnTo>
                  <a:lnTo>
                    <a:pt x="11574" y="-22339"/>
                  </a:lnTo>
                  <a:lnTo>
                    <a:pt x="11574" y="-22339"/>
                  </a:lnTo>
                  <a:lnTo>
                    <a:pt x="11458" y="-22339"/>
                  </a:lnTo>
                  <a:lnTo>
                    <a:pt x="11342" y="-22339"/>
                  </a:lnTo>
                  <a:lnTo>
                    <a:pt x="11342" y="-22339"/>
                  </a:lnTo>
                  <a:lnTo>
                    <a:pt x="11342" y="-22455"/>
                  </a:lnTo>
                  <a:lnTo>
                    <a:pt x="11342" y="-22571"/>
                  </a:lnTo>
                  <a:lnTo>
                    <a:pt x="11342" y="-22687"/>
                  </a:lnTo>
                  <a:lnTo>
                    <a:pt x="11342" y="-22803"/>
                  </a:lnTo>
                  <a:lnTo>
                    <a:pt x="11342" y="-22918"/>
                  </a:lnTo>
                  <a:lnTo>
                    <a:pt x="11342" y="-23034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226" y="-23150"/>
                  </a:lnTo>
                  <a:lnTo>
                    <a:pt x="11111" y="-23034"/>
                  </a:lnTo>
                  <a:lnTo>
                    <a:pt x="10995" y="-23034"/>
                  </a:lnTo>
                  <a:lnTo>
                    <a:pt x="10879" y="-22918"/>
                  </a:lnTo>
                  <a:lnTo>
                    <a:pt x="10648" y="-22918"/>
                  </a:lnTo>
                  <a:lnTo>
                    <a:pt x="10532" y="-22918"/>
                  </a:lnTo>
                  <a:lnTo>
                    <a:pt x="10416" y="-22918"/>
                  </a:lnTo>
                  <a:lnTo>
                    <a:pt x="10301" y="-22918"/>
                  </a:lnTo>
                  <a:lnTo>
                    <a:pt x="10301" y="-22918"/>
                  </a:lnTo>
                  <a:lnTo>
                    <a:pt x="10416" y="-24192"/>
                  </a:lnTo>
                  <a:lnTo>
                    <a:pt x="10648" y="-25350"/>
                  </a:lnTo>
                  <a:lnTo>
                    <a:pt x="10764" y="-26509"/>
                  </a:lnTo>
                  <a:lnTo>
                    <a:pt x="10879" y="-27782"/>
                  </a:lnTo>
                  <a:lnTo>
                    <a:pt x="10995" y="-28941"/>
                  </a:lnTo>
                  <a:lnTo>
                    <a:pt x="11226" y="-30099"/>
                  </a:lnTo>
                  <a:lnTo>
                    <a:pt x="11342" y="-31257"/>
                  </a:lnTo>
                  <a:lnTo>
                    <a:pt x="11574" y="-32415"/>
                  </a:lnTo>
                  <a:lnTo>
                    <a:pt x="11574" y="-32415"/>
                  </a:lnTo>
                  <a:lnTo>
                    <a:pt x="11458" y="-32531"/>
                  </a:lnTo>
                  <a:lnTo>
                    <a:pt x="11342" y="-32646"/>
                  </a:lnTo>
                  <a:lnTo>
                    <a:pt x="11111" y="-32762"/>
                  </a:lnTo>
                  <a:lnTo>
                    <a:pt x="10995" y="32658"/>
                  </a:lnTo>
                  <a:lnTo>
                    <a:pt x="10879" y="32542"/>
                  </a:lnTo>
                  <a:lnTo>
                    <a:pt x="10648" y="32426"/>
                  </a:lnTo>
                  <a:lnTo>
                    <a:pt x="10532" y="32311"/>
                  </a:lnTo>
                  <a:lnTo>
                    <a:pt x="10532" y="32195"/>
                  </a:lnTo>
                  <a:lnTo>
                    <a:pt x="10532" y="32195"/>
                  </a:lnTo>
                  <a:lnTo>
                    <a:pt x="10532" y="32542"/>
                  </a:lnTo>
                  <a:lnTo>
                    <a:pt x="10532" y="-32762"/>
                  </a:lnTo>
                  <a:lnTo>
                    <a:pt x="10648" y="-32415"/>
                  </a:lnTo>
                  <a:lnTo>
                    <a:pt x="10764" y="-32067"/>
                  </a:lnTo>
                  <a:lnTo>
                    <a:pt x="10879" y="-31720"/>
                  </a:lnTo>
                  <a:lnTo>
                    <a:pt x="10879" y="-31488"/>
                  </a:lnTo>
                  <a:lnTo>
                    <a:pt x="10879" y="-31141"/>
                  </a:lnTo>
                  <a:lnTo>
                    <a:pt x="10879" y="-30793"/>
                  </a:lnTo>
                  <a:lnTo>
                    <a:pt x="10879" y="-30793"/>
                  </a:lnTo>
                  <a:lnTo>
                    <a:pt x="10764" y="-30678"/>
                  </a:lnTo>
                  <a:lnTo>
                    <a:pt x="10648" y="-30562"/>
                  </a:lnTo>
                  <a:lnTo>
                    <a:pt x="10532" y="-30562"/>
                  </a:lnTo>
                  <a:lnTo>
                    <a:pt x="10301" y="-30446"/>
                  </a:lnTo>
                  <a:lnTo>
                    <a:pt x="10185" y="-30446"/>
                  </a:lnTo>
                  <a:lnTo>
                    <a:pt x="9953" y="-30562"/>
                  </a:lnTo>
                  <a:lnTo>
                    <a:pt x="9838" y="-30562"/>
                  </a:lnTo>
                  <a:lnTo>
                    <a:pt x="9722" y="-30678"/>
                  </a:lnTo>
                  <a:lnTo>
                    <a:pt x="9722" y="-30678"/>
                  </a:lnTo>
                  <a:lnTo>
                    <a:pt x="9491" y="-30678"/>
                  </a:lnTo>
                  <a:lnTo>
                    <a:pt x="9259" y="-30909"/>
                  </a:lnTo>
                  <a:lnTo>
                    <a:pt x="9143" y="-31025"/>
                  </a:lnTo>
                  <a:lnTo>
                    <a:pt x="9028" y="-31257"/>
                  </a:lnTo>
                  <a:lnTo>
                    <a:pt x="8912" y="-31488"/>
                  </a:lnTo>
                  <a:lnTo>
                    <a:pt x="8796" y="-31604"/>
                  </a:lnTo>
                  <a:lnTo>
                    <a:pt x="8680" y="-31836"/>
                  </a:lnTo>
                  <a:lnTo>
                    <a:pt x="8565" y="-32067"/>
                  </a:lnTo>
                  <a:lnTo>
                    <a:pt x="8565" y="-32067"/>
                  </a:lnTo>
                  <a:lnTo>
                    <a:pt x="7870" y="-31836"/>
                  </a:lnTo>
                  <a:lnTo>
                    <a:pt x="7292" y="-31604"/>
                  </a:lnTo>
                  <a:lnTo>
                    <a:pt x="6597" y="-31373"/>
                  </a:lnTo>
                  <a:lnTo>
                    <a:pt x="6019" y="-31025"/>
                  </a:lnTo>
                  <a:lnTo>
                    <a:pt x="5440" y="-30793"/>
                  </a:lnTo>
                  <a:lnTo>
                    <a:pt x="4861" y="-30562"/>
                  </a:lnTo>
                  <a:lnTo>
                    <a:pt x="4167" y="-30330"/>
                  </a:lnTo>
                  <a:lnTo>
                    <a:pt x="3588" y="-30099"/>
                  </a:lnTo>
                  <a:lnTo>
                    <a:pt x="3588" y="-30099"/>
                  </a:lnTo>
                  <a:lnTo>
                    <a:pt x="3241" y="-30099"/>
                  </a:lnTo>
                  <a:lnTo>
                    <a:pt x="2894" y="-30099"/>
                  </a:lnTo>
                  <a:lnTo>
                    <a:pt x="2547" y="-30099"/>
                  </a:lnTo>
                  <a:lnTo>
                    <a:pt x="2199" y="-30330"/>
                  </a:lnTo>
                  <a:lnTo>
                    <a:pt x="1852" y="-30446"/>
                  </a:lnTo>
                  <a:lnTo>
                    <a:pt x="1505" y="-30678"/>
                  </a:lnTo>
                  <a:lnTo>
                    <a:pt x="1274" y="-30909"/>
                  </a:lnTo>
                  <a:lnTo>
                    <a:pt x="926" y="-31141"/>
                  </a:lnTo>
                  <a:lnTo>
                    <a:pt x="926" y="-31141"/>
                  </a:lnTo>
                  <a:lnTo>
                    <a:pt x="579" y="-31720"/>
                  </a:lnTo>
                  <a:lnTo>
                    <a:pt x="232" y="-32415"/>
                  </a:lnTo>
                  <a:lnTo>
                    <a:pt x="116" y="32426"/>
                  </a:lnTo>
                  <a:lnTo>
                    <a:pt x="0" y="31731"/>
                  </a:lnTo>
                  <a:lnTo>
                    <a:pt x="0" y="31037"/>
                  </a:lnTo>
                  <a:lnTo>
                    <a:pt x="116" y="30342"/>
                  </a:lnTo>
                  <a:lnTo>
                    <a:pt x="348" y="29647"/>
                  </a:lnTo>
                  <a:lnTo>
                    <a:pt x="579" y="29068"/>
                  </a:lnTo>
                  <a:lnTo>
                    <a:pt x="579" y="29068"/>
                  </a:lnTo>
                  <a:lnTo>
                    <a:pt x="1158" y="28257"/>
                  </a:lnTo>
                  <a:lnTo>
                    <a:pt x="1968" y="27910"/>
                  </a:lnTo>
                  <a:lnTo>
                    <a:pt x="2894" y="27678"/>
                  </a:lnTo>
                  <a:lnTo>
                    <a:pt x="3820" y="27562"/>
                  </a:lnTo>
                  <a:lnTo>
                    <a:pt x="4745" y="27562"/>
                  </a:lnTo>
                  <a:lnTo>
                    <a:pt x="5671" y="27331"/>
                  </a:lnTo>
                  <a:lnTo>
                    <a:pt x="6597" y="27099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523" y="26520"/>
                  </a:lnTo>
                  <a:lnTo>
                    <a:pt x="7523" y="26520"/>
                  </a:lnTo>
                  <a:lnTo>
                    <a:pt x="7639" y="26520"/>
                  </a:lnTo>
                  <a:lnTo>
                    <a:pt x="7639" y="26520"/>
                  </a:lnTo>
                  <a:lnTo>
                    <a:pt x="7755" y="26520"/>
                  </a:lnTo>
                  <a:lnTo>
                    <a:pt x="7755" y="26520"/>
                  </a:lnTo>
                  <a:lnTo>
                    <a:pt x="7870" y="26520"/>
                  </a:lnTo>
                  <a:lnTo>
                    <a:pt x="7870" y="26520"/>
                  </a:lnTo>
                  <a:lnTo>
                    <a:pt x="7292" y="25709"/>
                  </a:lnTo>
                  <a:lnTo>
                    <a:pt x="6713" y="25014"/>
                  </a:lnTo>
                  <a:lnTo>
                    <a:pt x="6250" y="24204"/>
                  </a:lnTo>
                  <a:lnTo>
                    <a:pt x="5787" y="23393"/>
                  </a:lnTo>
                  <a:lnTo>
                    <a:pt x="5440" y="22582"/>
                  </a:lnTo>
                  <a:lnTo>
                    <a:pt x="5208" y="21772"/>
                  </a:lnTo>
                  <a:lnTo>
                    <a:pt x="5208" y="20845"/>
                  </a:lnTo>
                  <a:lnTo>
                    <a:pt x="5324" y="19919"/>
                  </a:lnTo>
                  <a:lnTo>
                    <a:pt x="5324" y="19919"/>
                  </a:lnTo>
                  <a:lnTo>
                    <a:pt x="5440" y="19571"/>
                  </a:lnTo>
                  <a:lnTo>
                    <a:pt x="5671" y="19224"/>
                  </a:lnTo>
                  <a:lnTo>
                    <a:pt x="6019" y="19108"/>
                  </a:lnTo>
                  <a:lnTo>
                    <a:pt x="6366" y="18992"/>
                  </a:lnTo>
                  <a:lnTo>
                    <a:pt x="6713" y="18877"/>
                  </a:lnTo>
                  <a:lnTo>
                    <a:pt x="7060" y="18761"/>
                  </a:lnTo>
                  <a:lnTo>
                    <a:pt x="7523" y="18761"/>
                  </a:lnTo>
                  <a:lnTo>
                    <a:pt x="7870" y="18645"/>
                  </a:lnTo>
                  <a:lnTo>
                    <a:pt x="7870" y="18645"/>
                  </a:lnTo>
                  <a:lnTo>
                    <a:pt x="8565" y="18529"/>
                  </a:lnTo>
                  <a:lnTo>
                    <a:pt x="9259" y="18529"/>
                  </a:lnTo>
                  <a:lnTo>
                    <a:pt x="9953" y="18529"/>
                  </a:lnTo>
                  <a:lnTo>
                    <a:pt x="10648" y="18645"/>
                  </a:lnTo>
                  <a:lnTo>
                    <a:pt x="11342" y="18645"/>
                  </a:lnTo>
                  <a:lnTo>
                    <a:pt x="11921" y="18877"/>
                  </a:lnTo>
                  <a:lnTo>
                    <a:pt x="12615" y="18992"/>
                  </a:lnTo>
                  <a:lnTo>
                    <a:pt x="13310" y="19108"/>
                  </a:lnTo>
                  <a:lnTo>
                    <a:pt x="13310" y="19108"/>
                  </a:lnTo>
                  <a:lnTo>
                    <a:pt x="13425" y="18992"/>
                  </a:lnTo>
                  <a:lnTo>
                    <a:pt x="13425" y="18992"/>
                  </a:lnTo>
                  <a:lnTo>
                    <a:pt x="13773" y="17139"/>
                  </a:lnTo>
                  <a:lnTo>
                    <a:pt x="14004" y="15286"/>
                  </a:lnTo>
                  <a:lnTo>
                    <a:pt x="14351" y="13434"/>
                  </a:lnTo>
                  <a:lnTo>
                    <a:pt x="14814" y="11581"/>
                  </a:lnTo>
                  <a:lnTo>
                    <a:pt x="15161" y="9728"/>
                  </a:lnTo>
                  <a:lnTo>
                    <a:pt x="15509" y="7875"/>
                  </a:lnTo>
                  <a:lnTo>
                    <a:pt x="15856" y="6138"/>
                  </a:lnTo>
                  <a:lnTo>
                    <a:pt x="16203" y="4285"/>
                  </a:lnTo>
                  <a:lnTo>
                    <a:pt x="16203" y="4285"/>
                  </a:lnTo>
                  <a:lnTo>
                    <a:pt x="16319" y="4053"/>
                  </a:lnTo>
                  <a:lnTo>
                    <a:pt x="16319" y="3821"/>
                  </a:lnTo>
                  <a:lnTo>
                    <a:pt x="16203" y="3590"/>
                  </a:lnTo>
                  <a:lnTo>
                    <a:pt x="16203" y="3358"/>
                  </a:lnTo>
                  <a:lnTo>
                    <a:pt x="16319" y="3126"/>
                  </a:lnTo>
                  <a:lnTo>
                    <a:pt x="16434" y="3011"/>
                  </a:lnTo>
                  <a:lnTo>
                    <a:pt x="16550" y="2895"/>
                  </a:lnTo>
                  <a:lnTo>
                    <a:pt x="16897" y="2895"/>
                  </a:lnTo>
                  <a:lnTo>
                    <a:pt x="16897" y="2895"/>
                  </a:lnTo>
                  <a:lnTo>
                    <a:pt x="16782" y="2663"/>
                  </a:lnTo>
                  <a:lnTo>
                    <a:pt x="16782" y="2316"/>
                  </a:lnTo>
                  <a:lnTo>
                    <a:pt x="16782" y="1968"/>
                  </a:lnTo>
                  <a:lnTo>
                    <a:pt x="16782" y="1621"/>
                  </a:lnTo>
                  <a:lnTo>
                    <a:pt x="16897" y="1389"/>
                  </a:lnTo>
                  <a:lnTo>
                    <a:pt x="17013" y="1042"/>
                  </a:lnTo>
                  <a:lnTo>
                    <a:pt x="17129" y="810"/>
                  </a:lnTo>
                  <a:lnTo>
                    <a:pt x="17360" y="579"/>
                  </a:lnTo>
                  <a:lnTo>
                    <a:pt x="17360" y="579"/>
                  </a:lnTo>
                  <a:lnTo>
                    <a:pt x="17707" y="347"/>
                  </a:lnTo>
                  <a:lnTo>
                    <a:pt x="18055" y="115"/>
                  </a:lnTo>
                  <a:lnTo>
                    <a:pt x="18518" y="0"/>
                  </a:lnTo>
                  <a:lnTo>
                    <a:pt x="18981" y="0"/>
                  </a:lnTo>
                  <a:lnTo>
                    <a:pt x="19328" y="0"/>
                  </a:lnTo>
                  <a:lnTo>
                    <a:pt x="19791" y="115"/>
                  </a:lnTo>
                  <a:lnTo>
                    <a:pt x="20138" y="347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1158120" y="2932560"/>
              <a:ext cx="115560" cy="192600"/>
            </a:xfrm>
            <a:custGeom>
              <a:avLst/>
              <a:gdLst/>
              <a:ahLst/>
              <a:rect l="l" t="t" r="r" b="b"/>
              <a:pathLst>
                <a:path w="3240" h="3590">
                  <a:moveTo>
                    <a:pt x="3124" y="926"/>
                  </a:moveTo>
                  <a:lnTo>
                    <a:pt x="3124" y="1274"/>
                  </a:lnTo>
                  <a:lnTo>
                    <a:pt x="3240" y="1621"/>
                  </a:lnTo>
                  <a:lnTo>
                    <a:pt x="3240" y="1969"/>
                  </a:lnTo>
                  <a:lnTo>
                    <a:pt x="3240" y="2316"/>
                  </a:lnTo>
                  <a:lnTo>
                    <a:pt x="3240" y="2663"/>
                  </a:lnTo>
                  <a:lnTo>
                    <a:pt x="3124" y="2895"/>
                  </a:lnTo>
                  <a:lnTo>
                    <a:pt x="3009" y="3243"/>
                  </a:lnTo>
                  <a:lnTo>
                    <a:pt x="2893" y="3590"/>
                  </a:lnTo>
                  <a:lnTo>
                    <a:pt x="2893" y="3590"/>
                  </a:lnTo>
                  <a:lnTo>
                    <a:pt x="2546" y="3590"/>
                  </a:lnTo>
                  <a:lnTo>
                    <a:pt x="2546" y="3243"/>
                  </a:lnTo>
                  <a:lnTo>
                    <a:pt x="2661" y="3243"/>
                  </a:lnTo>
                  <a:lnTo>
                    <a:pt x="2661" y="3243"/>
                  </a:lnTo>
                  <a:lnTo>
                    <a:pt x="2661" y="3011"/>
                  </a:lnTo>
                  <a:lnTo>
                    <a:pt x="2777" y="2663"/>
                  </a:lnTo>
                  <a:lnTo>
                    <a:pt x="2893" y="2432"/>
                  </a:lnTo>
                  <a:lnTo>
                    <a:pt x="2893" y="2084"/>
                  </a:lnTo>
                  <a:lnTo>
                    <a:pt x="3009" y="1737"/>
                  </a:lnTo>
                  <a:lnTo>
                    <a:pt x="2893" y="1505"/>
                  </a:lnTo>
                  <a:lnTo>
                    <a:pt x="2893" y="1158"/>
                  </a:lnTo>
                  <a:lnTo>
                    <a:pt x="2777" y="926"/>
                  </a:lnTo>
                  <a:lnTo>
                    <a:pt x="2777" y="926"/>
                  </a:lnTo>
                  <a:lnTo>
                    <a:pt x="2661" y="811"/>
                  </a:lnTo>
                  <a:lnTo>
                    <a:pt x="2546" y="695"/>
                  </a:lnTo>
                  <a:lnTo>
                    <a:pt x="2430" y="579"/>
                  </a:lnTo>
                  <a:lnTo>
                    <a:pt x="2198" y="463"/>
                  </a:lnTo>
                  <a:lnTo>
                    <a:pt x="2083" y="347"/>
                  </a:lnTo>
                  <a:lnTo>
                    <a:pt x="1967" y="231"/>
                  </a:lnTo>
                  <a:lnTo>
                    <a:pt x="1851" y="231"/>
                  </a:lnTo>
                  <a:lnTo>
                    <a:pt x="1736" y="231"/>
                  </a:lnTo>
                  <a:lnTo>
                    <a:pt x="1736" y="231"/>
                  </a:lnTo>
                  <a:lnTo>
                    <a:pt x="1504" y="231"/>
                  </a:lnTo>
                  <a:lnTo>
                    <a:pt x="1273" y="347"/>
                  </a:lnTo>
                  <a:lnTo>
                    <a:pt x="1041" y="347"/>
                  </a:lnTo>
                  <a:lnTo>
                    <a:pt x="925" y="463"/>
                  </a:lnTo>
                  <a:lnTo>
                    <a:pt x="694" y="695"/>
                  </a:lnTo>
                  <a:lnTo>
                    <a:pt x="578" y="811"/>
                  </a:lnTo>
                  <a:lnTo>
                    <a:pt x="462" y="926"/>
                  </a:lnTo>
                  <a:lnTo>
                    <a:pt x="347" y="1158"/>
                  </a:lnTo>
                  <a:lnTo>
                    <a:pt x="347" y="1158"/>
                  </a:lnTo>
                  <a:lnTo>
                    <a:pt x="347" y="2432"/>
                  </a:lnTo>
                  <a:lnTo>
                    <a:pt x="347" y="2432"/>
                  </a:lnTo>
                  <a:lnTo>
                    <a:pt x="115" y="2316"/>
                  </a:lnTo>
                  <a:lnTo>
                    <a:pt x="115" y="2200"/>
                  </a:lnTo>
                  <a:lnTo>
                    <a:pt x="0" y="1969"/>
                  </a:lnTo>
                  <a:lnTo>
                    <a:pt x="0" y="1737"/>
                  </a:lnTo>
                  <a:lnTo>
                    <a:pt x="0" y="1505"/>
                  </a:lnTo>
                  <a:lnTo>
                    <a:pt x="0" y="1390"/>
                  </a:lnTo>
                  <a:lnTo>
                    <a:pt x="0" y="1158"/>
                  </a:lnTo>
                  <a:lnTo>
                    <a:pt x="115" y="926"/>
                  </a:lnTo>
                  <a:lnTo>
                    <a:pt x="115" y="926"/>
                  </a:lnTo>
                  <a:lnTo>
                    <a:pt x="347" y="579"/>
                  </a:lnTo>
                  <a:lnTo>
                    <a:pt x="694" y="231"/>
                  </a:lnTo>
                  <a:lnTo>
                    <a:pt x="1041" y="116"/>
                  </a:lnTo>
                  <a:lnTo>
                    <a:pt x="1504" y="0"/>
                  </a:lnTo>
                  <a:lnTo>
                    <a:pt x="2083" y="0"/>
                  </a:lnTo>
                  <a:lnTo>
                    <a:pt x="2430" y="231"/>
                  </a:lnTo>
                  <a:lnTo>
                    <a:pt x="2777" y="463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1282320" y="2945160"/>
              <a:ext cx="65880" cy="211320"/>
            </a:xfrm>
            <a:custGeom>
              <a:avLst/>
              <a:gdLst/>
              <a:ahLst/>
              <a:rect l="l" t="t" r="r" b="b"/>
              <a:pathLst>
                <a:path w="1851" h="3938">
                  <a:moveTo>
                    <a:pt x="1851" y="1853"/>
                  </a:moveTo>
                  <a:lnTo>
                    <a:pt x="1851" y="1969"/>
                  </a:lnTo>
                  <a:lnTo>
                    <a:pt x="1851" y="2201"/>
                  </a:lnTo>
                  <a:lnTo>
                    <a:pt x="1851" y="2317"/>
                  </a:lnTo>
                  <a:lnTo>
                    <a:pt x="1736" y="2432"/>
                  </a:lnTo>
                  <a:lnTo>
                    <a:pt x="1736" y="2548"/>
                  </a:lnTo>
                  <a:lnTo>
                    <a:pt x="1736" y="2664"/>
                  </a:lnTo>
                  <a:lnTo>
                    <a:pt x="1736" y="2896"/>
                  </a:lnTo>
                  <a:lnTo>
                    <a:pt x="1736" y="3012"/>
                  </a:lnTo>
                  <a:lnTo>
                    <a:pt x="1736" y="3012"/>
                  </a:lnTo>
                  <a:lnTo>
                    <a:pt x="1620" y="3127"/>
                  </a:lnTo>
                  <a:lnTo>
                    <a:pt x="1620" y="3243"/>
                  </a:lnTo>
                  <a:lnTo>
                    <a:pt x="1504" y="3359"/>
                  </a:lnTo>
                  <a:lnTo>
                    <a:pt x="1388" y="3475"/>
                  </a:lnTo>
                  <a:lnTo>
                    <a:pt x="1273" y="3591"/>
                  </a:lnTo>
                  <a:lnTo>
                    <a:pt x="1157" y="3706"/>
                  </a:lnTo>
                  <a:lnTo>
                    <a:pt x="1041" y="3822"/>
                  </a:lnTo>
                  <a:lnTo>
                    <a:pt x="925" y="3938"/>
                  </a:lnTo>
                  <a:lnTo>
                    <a:pt x="925" y="3938"/>
                  </a:lnTo>
                  <a:lnTo>
                    <a:pt x="810" y="3938"/>
                  </a:lnTo>
                  <a:lnTo>
                    <a:pt x="810" y="3938"/>
                  </a:lnTo>
                  <a:lnTo>
                    <a:pt x="694" y="3938"/>
                  </a:lnTo>
                  <a:lnTo>
                    <a:pt x="694" y="3822"/>
                  </a:lnTo>
                  <a:lnTo>
                    <a:pt x="694" y="3822"/>
                  </a:lnTo>
                  <a:lnTo>
                    <a:pt x="694" y="3706"/>
                  </a:lnTo>
                  <a:lnTo>
                    <a:pt x="694" y="3706"/>
                  </a:lnTo>
                  <a:lnTo>
                    <a:pt x="694" y="3591"/>
                  </a:lnTo>
                  <a:lnTo>
                    <a:pt x="694" y="3591"/>
                  </a:lnTo>
                  <a:lnTo>
                    <a:pt x="925" y="3243"/>
                  </a:lnTo>
                  <a:lnTo>
                    <a:pt x="1157" y="3012"/>
                  </a:lnTo>
                  <a:lnTo>
                    <a:pt x="1273" y="2664"/>
                  </a:lnTo>
                  <a:lnTo>
                    <a:pt x="1273" y="2317"/>
                  </a:lnTo>
                  <a:lnTo>
                    <a:pt x="1273" y="1969"/>
                  </a:lnTo>
                  <a:lnTo>
                    <a:pt x="1157" y="1622"/>
                  </a:lnTo>
                  <a:lnTo>
                    <a:pt x="1041" y="1274"/>
                  </a:lnTo>
                  <a:lnTo>
                    <a:pt x="1041" y="811"/>
                  </a:lnTo>
                  <a:lnTo>
                    <a:pt x="1041" y="811"/>
                  </a:lnTo>
                  <a:lnTo>
                    <a:pt x="925" y="811"/>
                  </a:lnTo>
                  <a:lnTo>
                    <a:pt x="810" y="695"/>
                  </a:lnTo>
                  <a:lnTo>
                    <a:pt x="694" y="580"/>
                  </a:lnTo>
                  <a:lnTo>
                    <a:pt x="578" y="464"/>
                  </a:lnTo>
                  <a:lnTo>
                    <a:pt x="462" y="464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5" y="464"/>
                  </a:lnTo>
                  <a:lnTo>
                    <a:pt x="115" y="464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115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2" y="0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925" y="232"/>
                  </a:lnTo>
                  <a:lnTo>
                    <a:pt x="1041" y="232"/>
                  </a:lnTo>
                  <a:lnTo>
                    <a:pt x="1041" y="232"/>
                  </a:lnTo>
                  <a:lnTo>
                    <a:pt x="1273" y="464"/>
                  </a:lnTo>
                  <a:lnTo>
                    <a:pt x="1388" y="580"/>
                  </a:lnTo>
                  <a:lnTo>
                    <a:pt x="1504" y="811"/>
                  </a:lnTo>
                  <a:lnTo>
                    <a:pt x="1620" y="1043"/>
                  </a:lnTo>
                  <a:lnTo>
                    <a:pt x="1620" y="1159"/>
                  </a:lnTo>
                  <a:lnTo>
                    <a:pt x="1736" y="1390"/>
                  </a:lnTo>
                  <a:lnTo>
                    <a:pt x="1736" y="1622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1182960" y="2970000"/>
              <a:ext cx="49320" cy="99360"/>
            </a:xfrm>
            <a:custGeom>
              <a:avLst/>
              <a:gdLst/>
              <a:ahLst/>
              <a:rect l="l" t="t" r="r" b="b"/>
              <a:pathLst>
                <a:path w="1389" h="1853">
                  <a:moveTo>
                    <a:pt x="1389" y="347"/>
                  </a:moveTo>
                  <a:lnTo>
                    <a:pt x="1157" y="579"/>
                  </a:lnTo>
                  <a:lnTo>
                    <a:pt x="1042" y="810"/>
                  </a:lnTo>
                  <a:lnTo>
                    <a:pt x="926" y="1042"/>
                  </a:lnTo>
                  <a:lnTo>
                    <a:pt x="810" y="1389"/>
                  </a:lnTo>
                  <a:lnTo>
                    <a:pt x="810" y="1621"/>
                  </a:lnTo>
                  <a:lnTo>
                    <a:pt x="694" y="1853"/>
                  </a:lnTo>
                  <a:lnTo>
                    <a:pt x="463" y="1853"/>
                  </a:lnTo>
                  <a:lnTo>
                    <a:pt x="116" y="1737"/>
                  </a:lnTo>
                  <a:lnTo>
                    <a:pt x="116" y="1737"/>
                  </a:lnTo>
                  <a:lnTo>
                    <a:pt x="0" y="1505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6" y="810"/>
                  </a:lnTo>
                  <a:lnTo>
                    <a:pt x="116" y="579"/>
                  </a:lnTo>
                  <a:lnTo>
                    <a:pt x="231" y="347"/>
                  </a:lnTo>
                  <a:lnTo>
                    <a:pt x="463" y="231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7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389" y="231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1356840" y="2988720"/>
              <a:ext cx="65880" cy="192600"/>
            </a:xfrm>
            <a:custGeom>
              <a:avLst/>
              <a:gdLst/>
              <a:ahLst/>
              <a:rect l="l" t="t" r="r" b="b"/>
              <a:pathLst>
                <a:path w="1851" h="3590">
                  <a:moveTo>
                    <a:pt x="1620" y="695"/>
                  </a:moveTo>
                  <a:lnTo>
                    <a:pt x="1736" y="927"/>
                  </a:lnTo>
                  <a:lnTo>
                    <a:pt x="1736" y="1158"/>
                  </a:lnTo>
                  <a:lnTo>
                    <a:pt x="1851" y="1390"/>
                  </a:lnTo>
                  <a:lnTo>
                    <a:pt x="1851" y="1621"/>
                  </a:lnTo>
                  <a:lnTo>
                    <a:pt x="1851" y="1853"/>
                  </a:lnTo>
                  <a:lnTo>
                    <a:pt x="1851" y="2085"/>
                  </a:lnTo>
                  <a:lnTo>
                    <a:pt x="1851" y="2316"/>
                  </a:lnTo>
                  <a:lnTo>
                    <a:pt x="1736" y="2432"/>
                  </a:lnTo>
                  <a:lnTo>
                    <a:pt x="1736" y="2432"/>
                  </a:lnTo>
                  <a:lnTo>
                    <a:pt x="1736" y="2664"/>
                  </a:lnTo>
                  <a:lnTo>
                    <a:pt x="1620" y="2780"/>
                  </a:lnTo>
                  <a:lnTo>
                    <a:pt x="1504" y="2895"/>
                  </a:lnTo>
                  <a:lnTo>
                    <a:pt x="1388" y="3127"/>
                  </a:lnTo>
                  <a:lnTo>
                    <a:pt x="1273" y="3243"/>
                  </a:lnTo>
                  <a:lnTo>
                    <a:pt x="1157" y="3359"/>
                  </a:lnTo>
                  <a:lnTo>
                    <a:pt x="1041" y="3474"/>
                  </a:lnTo>
                  <a:lnTo>
                    <a:pt x="926" y="3590"/>
                  </a:lnTo>
                  <a:lnTo>
                    <a:pt x="926" y="3590"/>
                  </a:lnTo>
                  <a:lnTo>
                    <a:pt x="810" y="3590"/>
                  </a:lnTo>
                  <a:lnTo>
                    <a:pt x="694" y="3590"/>
                  </a:lnTo>
                  <a:lnTo>
                    <a:pt x="694" y="3474"/>
                  </a:lnTo>
                  <a:lnTo>
                    <a:pt x="578" y="3474"/>
                  </a:lnTo>
                  <a:lnTo>
                    <a:pt x="578" y="3359"/>
                  </a:lnTo>
                  <a:lnTo>
                    <a:pt x="578" y="3359"/>
                  </a:lnTo>
                  <a:lnTo>
                    <a:pt x="578" y="3243"/>
                  </a:lnTo>
                  <a:lnTo>
                    <a:pt x="578" y="3127"/>
                  </a:lnTo>
                  <a:lnTo>
                    <a:pt x="578" y="3127"/>
                  </a:lnTo>
                  <a:lnTo>
                    <a:pt x="694" y="3127"/>
                  </a:lnTo>
                  <a:lnTo>
                    <a:pt x="810" y="3011"/>
                  </a:lnTo>
                  <a:lnTo>
                    <a:pt x="926" y="2895"/>
                  </a:lnTo>
                  <a:lnTo>
                    <a:pt x="1041" y="2780"/>
                  </a:lnTo>
                  <a:lnTo>
                    <a:pt x="1041" y="2664"/>
                  </a:lnTo>
                  <a:lnTo>
                    <a:pt x="1157" y="2432"/>
                  </a:lnTo>
                  <a:lnTo>
                    <a:pt x="1157" y="2316"/>
                  </a:lnTo>
                  <a:lnTo>
                    <a:pt x="1157" y="2201"/>
                  </a:lnTo>
                  <a:lnTo>
                    <a:pt x="1157" y="2201"/>
                  </a:lnTo>
                  <a:lnTo>
                    <a:pt x="1157" y="1969"/>
                  </a:lnTo>
                  <a:lnTo>
                    <a:pt x="1157" y="1621"/>
                  </a:lnTo>
                  <a:lnTo>
                    <a:pt x="1157" y="1390"/>
                  </a:lnTo>
                  <a:lnTo>
                    <a:pt x="1041" y="1042"/>
                  </a:lnTo>
                  <a:lnTo>
                    <a:pt x="926" y="811"/>
                  </a:lnTo>
                  <a:lnTo>
                    <a:pt x="810" y="579"/>
                  </a:lnTo>
                  <a:lnTo>
                    <a:pt x="578" y="348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231" y="232"/>
                  </a:lnTo>
                  <a:lnTo>
                    <a:pt x="231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6"/>
                  </a:lnTo>
                  <a:lnTo>
                    <a:pt x="1273" y="232"/>
                  </a:lnTo>
                  <a:lnTo>
                    <a:pt x="1504" y="463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1431360" y="3013560"/>
              <a:ext cx="57600" cy="186480"/>
            </a:xfrm>
            <a:custGeom>
              <a:avLst/>
              <a:gdLst/>
              <a:ahLst/>
              <a:rect l="l" t="t" r="r" b="b"/>
              <a:pathLst>
                <a:path w="1620" h="3475">
                  <a:moveTo>
                    <a:pt x="1620" y="1390"/>
                  </a:moveTo>
                  <a:lnTo>
                    <a:pt x="1620" y="1622"/>
                  </a:lnTo>
                  <a:lnTo>
                    <a:pt x="1620" y="1853"/>
                  </a:lnTo>
                  <a:lnTo>
                    <a:pt x="1620" y="2085"/>
                  </a:lnTo>
                  <a:lnTo>
                    <a:pt x="1620" y="2317"/>
                  </a:lnTo>
                  <a:lnTo>
                    <a:pt x="1620" y="2432"/>
                  </a:lnTo>
                  <a:lnTo>
                    <a:pt x="1620" y="2664"/>
                  </a:lnTo>
                  <a:lnTo>
                    <a:pt x="1504" y="2896"/>
                  </a:lnTo>
                  <a:lnTo>
                    <a:pt x="1389" y="3011"/>
                  </a:lnTo>
                  <a:lnTo>
                    <a:pt x="1389" y="3011"/>
                  </a:lnTo>
                  <a:lnTo>
                    <a:pt x="1273" y="3127"/>
                  </a:lnTo>
                  <a:lnTo>
                    <a:pt x="1157" y="3127"/>
                  </a:lnTo>
                  <a:lnTo>
                    <a:pt x="1041" y="3243"/>
                  </a:lnTo>
                  <a:lnTo>
                    <a:pt x="1041" y="3359"/>
                  </a:lnTo>
                  <a:lnTo>
                    <a:pt x="926" y="3475"/>
                  </a:lnTo>
                  <a:lnTo>
                    <a:pt x="926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694" y="3359"/>
                  </a:lnTo>
                  <a:lnTo>
                    <a:pt x="694" y="3243"/>
                  </a:lnTo>
                  <a:lnTo>
                    <a:pt x="810" y="3127"/>
                  </a:lnTo>
                  <a:lnTo>
                    <a:pt x="810" y="3011"/>
                  </a:lnTo>
                  <a:lnTo>
                    <a:pt x="926" y="2896"/>
                  </a:lnTo>
                  <a:lnTo>
                    <a:pt x="1041" y="2780"/>
                  </a:lnTo>
                  <a:lnTo>
                    <a:pt x="1157" y="2664"/>
                  </a:lnTo>
                  <a:lnTo>
                    <a:pt x="1273" y="2548"/>
                  </a:lnTo>
                  <a:lnTo>
                    <a:pt x="1273" y="2432"/>
                  </a:lnTo>
                  <a:lnTo>
                    <a:pt x="1273" y="2432"/>
                  </a:lnTo>
                  <a:lnTo>
                    <a:pt x="1389" y="2085"/>
                  </a:lnTo>
                  <a:lnTo>
                    <a:pt x="1389" y="1853"/>
                  </a:lnTo>
                  <a:lnTo>
                    <a:pt x="1273" y="1506"/>
                  </a:lnTo>
                  <a:lnTo>
                    <a:pt x="1157" y="1274"/>
                  </a:lnTo>
                  <a:lnTo>
                    <a:pt x="1041" y="1043"/>
                  </a:lnTo>
                  <a:lnTo>
                    <a:pt x="810" y="811"/>
                  </a:lnTo>
                  <a:lnTo>
                    <a:pt x="579" y="579"/>
                  </a:lnTo>
                  <a:lnTo>
                    <a:pt x="347" y="348"/>
                  </a:lnTo>
                  <a:lnTo>
                    <a:pt x="347" y="348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6" y="348"/>
                  </a:lnTo>
                  <a:lnTo>
                    <a:pt x="116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463" y="0"/>
                  </a:lnTo>
                  <a:lnTo>
                    <a:pt x="694" y="116"/>
                  </a:lnTo>
                  <a:lnTo>
                    <a:pt x="926" y="348"/>
                  </a:lnTo>
                  <a:lnTo>
                    <a:pt x="1041" y="464"/>
                  </a:lnTo>
                  <a:lnTo>
                    <a:pt x="1273" y="695"/>
                  </a:lnTo>
                  <a:lnTo>
                    <a:pt x="1389" y="927"/>
                  </a:lnTo>
                  <a:lnTo>
                    <a:pt x="1504" y="1158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1493640" y="3025800"/>
              <a:ext cx="74160" cy="192600"/>
            </a:xfrm>
            <a:custGeom>
              <a:avLst/>
              <a:gdLst/>
              <a:ahLst/>
              <a:rect l="l" t="t" r="r" b="b"/>
              <a:pathLst>
                <a:path w="2083" h="3590">
                  <a:moveTo>
                    <a:pt x="2083" y="1390"/>
                  </a:moveTo>
                  <a:lnTo>
                    <a:pt x="2083" y="1737"/>
                  </a:lnTo>
                  <a:lnTo>
                    <a:pt x="2083" y="1969"/>
                  </a:lnTo>
                  <a:lnTo>
                    <a:pt x="2083" y="2200"/>
                  </a:lnTo>
                  <a:lnTo>
                    <a:pt x="2083" y="2548"/>
                  </a:lnTo>
                  <a:lnTo>
                    <a:pt x="1967" y="2779"/>
                  </a:lnTo>
                  <a:lnTo>
                    <a:pt x="1967" y="3011"/>
                  </a:lnTo>
                  <a:lnTo>
                    <a:pt x="1852" y="3243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504" y="3474"/>
                  </a:lnTo>
                  <a:lnTo>
                    <a:pt x="1389" y="3474"/>
                  </a:lnTo>
                  <a:lnTo>
                    <a:pt x="1273" y="3590"/>
                  </a:lnTo>
                  <a:lnTo>
                    <a:pt x="1273" y="3590"/>
                  </a:lnTo>
                  <a:lnTo>
                    <a:pt x="1157" y="3590"/>
                  </a:lnTo>
                  <a:lnTo>
                    <a:pt x="1041" y="3590"/>
                  </a:lnTo>
                  <a:lnTo>
                    <a:pt x="1041" y="3474"/>
                  </a:lnTo>
                  <a:lnTo>
                    <a:pt x="1041" y="3474"/>
                  </a:lnTo>
                  <a:lnTo>
                    <a:pt x="1157" y="3358"/>
                  </a:lnTo>
                  <a:lnTo>
                    <a:pt x="1273" y="3243"/>
                  </a:lnTo>
                  <a:lnTo>
                    <a:pt x="1389" y="3011"/>
                  </a:lnTo>
                  <a:lnTo>
                    <a:pt x="1504" y="2895"/>
                  </a:lnTo>
                  <a:lnTo>
                    <a:pt x="1504" y="2664"/>
                  </a:lnTo>
                  <a:lnTo>
                    <a:pt x="1620" y="2432"/>
                  </a:lnTo>
                  <a:lnTo>
                    <a:pt x="1620" y="2200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620" y="1621"/>
                  </a:lnTo>
                  <a:lnTo>
                    <a:pt x="1504" y="1390"/>
                  </a:lnTo>
                  <a:lnTo>
                    <a:pt x="1389" y="1274"/>
                  </a:lnTo>
                  <a:lnTo>
                    <a:pt x="1273" y="1042"/>
                  </a:lnTo>
                  <a:lnTo>
                    <a:pt x="1157" y="811"/>
                  </a:lnTo>
                  <a:lnTo>
                    <a:pt x="1041" y="695"/>
                  </a:lnTo>
                  <a:lnTo>
                    <a:pt x="810" y="463"/>
                  </a:lnTo>
                  <a:lnTo>
                    <a:pt x="810" y="463"/>
                  </a:lnTo>
                  <a:lnTo>
                    <a:pt x="694" y="463"/>
                  </a:lnTo>
                  <a:lnTo>
                    <a:pt x="579" y="347"/>
                  </a:lnTo>
                  <a:lnTo>
                    <a:pt x="463" y="347"/>
                  </a:lnTo>
                  <a:lnTo>
                    <a:pt x="347" y="463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347" y="0"/>
                  </a:lnTo>
                  <a:lnTo>
                    <a:pt x="579" y="0"/>
                  </a:lnTo>
                  <a:lnTo>
                    <a:pt x="926" y="116"/>
                  </a:lnTo>
                  <a:lnTo>
                    <a:pt x="1157" y="347"/>
                  </a:lnTo>
                  <a:lnTo>
                    <a:pt x="1389" y="579"/>
                  </a:lnTo>
                  <a:lnTo>
                    <a:pt x="1620" y="811"/>
                  </a:lnTo>
                  <a:lnTo>
                    <a:pt x="1852" y="1158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1559880" y="3032280"/>
              <a:ext cx="70200" cy="173880"/>
            </a:xfrm>
            <a:custGeom>
              <a:avLst/>
              <a:gdLst/>
              <a:ahLst/>
              <a:rect l="l" t="t" r="r" b="b"/>
              <a:pathLst>
                <a:path w="1967" h="3242">
                  <a:moveTo>
                    <a:pt x="1388" y="463"/>
                  </a:moveTo>
                  <a:lnTo>
                    <a:pt x="1620" y="695"/>
                  </a:lnTo>
                  <a:lnTo>
                    <a:pt x="1736" y="810"/>
                  </a:lnTo>
                  <a:lnTo>
                    <a:pt x="1851" y="1042"/>
                  </a:lnTo>
                  <a:lnTo>
                    <a:pt x="1967" y="1274"/>
                  </a:lnTo>
                  <a:lnTo>
                    <a:pt x="1967" y="1621"/>
                  </a:lnTo>
                  <a:lnTo>
                    <a:pt x="1967" y="1853"/>
                  </a:lnTo>
                  <a:lnTo>
                    <a:pt x="1967" y="2084"/>
                  </a:lnTo>
                  <a:lnTo>
                    <a:pt x="1967" y="2316"/>
                  </a:lnTo>
                  <a:lnTo>
                    <a:pt x="1967" y="2316"/>
                  </a:lnTo>
                  <a:lnTo>
                    <a:pt x="1851" y="2548"/>
                  </a:lnTo>
                  <a:lnTo>
                    <a:pt x="1851" y="2663"/>
                  </a:lnTo>
                  <a:lnTo>
                    <a:pt x="1736" y="2779"/>
                  </a:lnTo>
                  <a:lnTo>
                    <a:pt x="1620" y="2895"/>
                  </a:lnTo>
                  <a:lnTo>
                    <a:pt x="1620" y="3011"/>
                  </a:lnTo>
                  <a:lnTo>
                    <a:pt x="1504" y="3127"/>
                  </a:lnTo>
                  <a:lnTo>
                    <a:pt x="1388" y="3242"/>
                  </a:lnTo>
                  <a:lnTo>
                    <a:pt x="1273" y="3242"/>
                  </a:lnTo>
                  <a:lnTo>
                    <a:pt x="1273" y="3242"/>
                  </a:lnTo>
                  <a:lnTo>
                    <a:pt x="1273" y="3011"/>
                  </a:lnTo>
                  <a:lnTo>
                    <a:pt x="1388" y="2663"/>
                  </a:lnTo>
                  <a:lnTo>
                    <a:pt x="1504" y="2316"/>
                  </a:lnTo>
                  <a:lnTo>
                    <a:pt x="1620" y="1969"/>
                  </a:lnTo>
                  <a:lnTo>
                    <a:pt x="1620" y="1621"/>
                  </a:lnTo>
                  <a:lnTo>
                    <a:pt x="1620" y="1274"/>
                  </a:lnTo>
                  <a:lnTo>
                    <a:pt x="1504" y="926"/>
                  </a:lnTo>
                  <a:lnTo>
                    <a:pt x="1273" y="695"/>
                  </a:lnTo>
                  <a:lnTo>
                    <a:pt x="1273" y="695"/>
                  </a:lnTo>
                  <a:lnTo>
                    <a:pt x="1157" y="579"/>
                  </a:lnTo>
                  <a:lnTo>
                    <a:pt x="925" y="579"/>
                  </a:lnTo>
                  <a:lnTo>
                    <a:pt x="810" y="463"/>
                  </a:lnTo>
                  <a:lnTo>
                    <a:pt x="578" y="463"/>
                  </a:lnTo>
                  <a:lnTo>
                    <a:pt x="463" y="463"/>
                  </a:lnTo>
                  <a:lnTo>
                    <a:pt x="231" y="463"/>
                  </a:lnTo>
                  <a:lnTo>
                    <a:pt x="115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231" y="116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925" y="116"/>
                  </a:lnTo>
                  <a:lnTo>
                    <a:pt x="1157" y="231"/>
                  </a:lnTo>
                  <a:lnTo>
                    <a:pt x="1273" y="347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642320" y="3069360"/>
              <a:ext cx="53640" cy="167760"/>
            </a:xfrm>
            <a:custGeom>
              <a:avLst/>
              <a:gdLst/>
              <a:ahLst/>
              <a:rect l="l" t="t" r="r" b="b"/>
              <a:pathLst>
                <a:path w="1505" h="3127">
                  <a:moveTo>
                    <a:pt x="1505" y="1158"/>
                  </a:moveTo>
                  <a:lnTo>
                    <a:pt x="1505" y="1389"/>
                  </a:lnTo>
                  <a:lnTo>
                    <a:pt x="1505" y="1737"/>
                  </a:lnTo>
                  <a:lnTo>
                    <a:pt x="1505" y="1968"/>
                  </a:lnTo>
                  <a:lnTo>
                    <a:pt x="1389" y="2316"/>
                  </a:lnTo>
                  <a:lnTo>
                    <a:pt x="1273" y="2547"/>
                  </a:lnTo>
                  <a:lnTo>
                    <a:pt x="1158" y="2779"/>
                  </a:lnTo>
                  <a:lnTo>
                    <a:pt x="926" y="2895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2895"/>
                  </a:lnTo>
                  <a:lnTo>
                    <a:pt x="695" y="2779"/>
                  </a:lnTo>
                  <a:lnTo>
                    <a:pt x="810" y="2663"/>
                  </a:lnTo>
                  <a:lnTo>
                    <a:pt x="810" y="2432"/>
                  </a:lnTo>
                  <a:lnTo>
                    <a:pt x="926" y="2316"/>
                  </a:lnTo>
                  <a:lnTo>
                    <a:pt x="926" y="2200"/>
                  </a:lnTo>
                  <a:lnTo>
                    <a:pt x="1042" y="1968"/>
                  </a:lnTo>
                  <a:lnTo>
                    <a:pt x="1042" y="1737"/>
                  </a:lnTo>
                  <a:lnTo>
                    <a:pt x="1042" y="1737"/>
                  </a:lnTo>
                  <a:lnTo>
                    <a:pt x="1042" y="1621"/>
                  </a:lnTo>
                  <a:lnTo>
                    <a:pt x="1042" y="1389"/>
                  </a:lnTo>
                  <a:lnTo>
                    <a:pt x="926" y="1158"/>
                  </a:lnTo>
                  <a:lnTo>
                    <a:pt x="926" y="926"/>
                  </a:lnTo>
                  <a:lnTo>
                    <a:pt x="926" y="810"/>
                  </a:lnTo>
                  <a:lnTo>
                    <a:pt x="810" y="695"/>
                  </a:lnTo>
                  <a:lnTo>
                    <a:pt x="579" y="463"/>
                  </a:lnTo>
                  <a:lnTo>
                    <a:pt x="463" y="347"/>
                  </a:lnTo>
                  <a:lnTo>
                    <a:pt x="463" y="347"/>
                  </a:lnTo>
                  <a:lnTo>
                    <a:pt x="347" y="347"/>
                  </a:lnTo>
                  <a:lnTo>
                    <a:pt x="232" y="347"/>
                  </a:lnTo>
                  <a:lnTo>
                    <a:pt x="232" y="347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2" y="0"/>
                  </a:lnTo>
                  <a:lnTo>
                    <a:pt x="232" y="0"/>
                  </a:lnTo>
                  <a:lnTo>
                    <a:pt x="463" y="0"/>
                  </a:lnTo>
                  <a:lnTo>
                    <a:pt x="695" y="115"/>
                  </a:lnTo>
                  <a:lnTo>
                    <a:pt x="926" y="231"/>
                  </a:lnTo>
                  <a:lnTo>
                    <a:pt x="1042" y="347"/>
                  </a:lnTo>
                  <a:lnTo>
                    <a:pt x="1158" y="579"/>
                  </a:lnTo>
                  <a:lnTo>
                    <a:pt x="1273" y="695"/>
                  </a:lnTo>
                  <a:lnTo>
                    <a:pt x="1389" y="926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1091880" y="3088080"/>
              <a:ext cx="852480" cy="1181160"/>
            </a:xfrm>
            <a:custGeom>
              <a:avLst/>
              <a:gdLst/>
              <a:ahLst/>
              <a:rect l="l" t="t" r="r" b="b"/>
              <a:pathLst>
                <a:path w="23841" h="22004">
                  <a:moveTo>
                    <a:pt x="4050" y="116"/>
                  </a:moveTo>
                  <a:lnTo>
                    <a:pt x="4050" y="232"/>
                  </a:lnTo>
                  <a:lnTo>
                    <a:pt x="3935" y="348"/>
                  </a:lnTo>
                  <a:lnTo>
                    <a:pt x="3935" y="463"/>
                  </a:lnTo>
                  <a:lnTo>
                    <a:pt x="3935" y="579"/>
                  </a:lnTo>
                  <a:lnTo>
                    <a:pt x="3935" y="695"/>
                  </a:lnTo>
                  <a:lnTo>
                    <a:pt x="3935" y="811"/>
                  </a:lnTo>
                  <a:lnTo>
                    <a:pt x="4050" y="927"/>
                  </a:lnTo>
                  <a:lnTo>
                    <a:pt x="4050" y="1042"/>
                  </a:lnTo>
                  <a:lnTo>
                    <a:pt x="4050" y="1042"/>
                  </a:lnTo>
                  <a:lnTo>
                    <a:pt x="4166" y="1158"/>
                  </a:lnTo>
                  <a:lnTo>
                    <a:pt x="4166" y="1274"/>
                  </a:lnTo>
                  <a:lnTo>
                    <a:pt x="4282" y="1274"/>
                  </a:lnTo>
                  <a:lnTo>
                    <a:pt x="4398" y="1274"/>
                  </a:lnTo>
                  <a:lnTo>
                    <a:pt x="4398" y="1274"/>
                  </a:lnTo>
                  <a:lnTo>
                    <a:pt x="4513" y="1274"/>
                  </a:lnTo>
                  <a:lnTo>
                    <a:pt x="4629" y="1274"/>
                  </a:lnTo>
                  <a:lnTo>
                    <a:pt x="4745" y="1274"/>
                  </a:lnTo>
                  <a:lnTo>
                    <a:pt x="4745" y="1274"/>
                  </a:lnTo>
                  <a:lnTo>
                    <a:pt x="4861" y="1158"/>
                  </a:lnTo>
                  <a:lnTo>
                    <a:pt x="4976" y="1042"/>
                  </a:lnTo>
                  <a:lnTo>
                    <a:pt x="5092" y="927"/>
                  </a:lnTo>
                  <a:lnTo>
                    <a:pt x="5208" y="695"/>
                  </a:lnTo>
                  <a:lnTo>
                    <a:pt x="5324" y="579"/>
                  </a:lnTo>
                  <a:lnTo>
                    <a:pt x="5439" y="463"/>
                  </a:lnTo>
                  <a:lnTo>
                    <a:pt x="5439" y="348"/>
                  </a:lnTo>
                  <a:lnTo>
                    <a:pt x="5439" y="116"/>
                  </a:lnTo>
                  <a:lnTo>
                    <a:pt x="5439" y="116"/>
                  </a:lnTo>
                  <a:lnTo>
                    <a:pt x="5786" y="232"/>
                  </a:lnTo>
                  <a:lnTo>
                    <a:pt x="5786" y="232"/>
                  </a:lnTo>
                  <a:lnTo>
                    <a:pt x="5671" y="348"/>
                  </a:lnTo>
                  <a:lnTo>
                    <a:pt x="5439" y="463"/>
                  </a:lnTo>
                  <a:lnTo>
                    <a:pt x="5439" y="579"/>
                  </a:lnTo>
                  <a:lnTo>
                    <a:pt x="5324" y="811"/>
                  </a:lnTo>
                  <a:lnTo>
                    <a:pt x="5324" y="927"/>
                  </a:lnTo>
                  <a:lnTo>
                    <a:pt x="5324" y="1158"/>
                  </a:lnTo>
                  <a:lnTo>
                    <a:pt x="5439" y="1390"/>
                  </a:lnTo>
                  <a:lnTo>
                    <a:pt x="5439" y="1506"/>
                  </a:lnTo>
                  <a:lnTo>
                    <a:pt x="5439" y="1506"/>
                  </a:lnTo>
                  <a:lnTo>
                    <a:pt x="5555" y="1737"/>
                  </a:lnTo>
                  <a:lnTo>
                    <a:pt x="5671" y="1737"/>
                  </a:lnTo>
                  <a:lnTo>
                    <a:pt x="5786" y="1853"/>
                  </a:lnTo>
                  <a:lnTo>
                    <a:pt x="5902" y="1853"/>
                  </a:lnTo>
                  <a:lnTo>
                    <a:pt x="6018" y="1853"/>
                  </a:lnTo>
                  <a:lnTo>
                    <a:pt x="6249" y="1853"/>
                  </a:lnTo>
                  <a:lnTo>
                    <a:pt x="6365" y="1853"/>
                  </a:lnTo>
                  <a:lnTo>
                    <a:pt x="6481" y="1737"/>
                  </a:lnTo>
                  <a:lnTo>
                    <a:pt x="6481" y="1737"/>
                  </a:lnTo>
                  <a:lnTo>
                    <a:pt x="6712" y="1737"/>
                  </a:lnTo>
                  <a:lnTo>
                    <a:pt x="6828" y="1621"/>
                  </a:lnTo>
                  <a:lnTo>
                    <a:pt x="6944" y="1390"/>
                  </a:lnTo>
                  <a:lnTo>
                    <a:pt x="7060" y="1274"/>
                  </a:lnTo>
                  <a:lnTo>
                    <a:pt x="7175" y="1042"/>
                  </a:lnTo>
                  <a:lnTo>
                    <a:pt x="7291" y="927"/>
                  </a:lnTo>
                  <a:lnTo>
                    <a:pt x="7291" y="695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638" y="695"/>
                  </a:lnTo>
                  <a:lnTo>
                    <a:pt x="7522" y="811"/>
                  </a:lnTo>
                  <a:lnTo>
                    <a:pt x="7407" y="1042"/>
                  </a:lnTo>
                  <a:lnTo>
                    <a:pt x="7407" y="1158"/>
                  </a:lnTo>
                  <a:lnTo>
                    <a:pt x="7291" y="1274"/>
                  </a:lnTo>
                  <a:lnTo>
                    <a:pt x="7291" y="1390"/>
                  </a:lnTo>
                  <a:lnTo>
                    <a:pt x="7291" y="1506"/>
                  </a:lnTo>
                  <a:lnTo>
                    <a:pt x="7291" y="1621"/>
                  </a:lnTo>
                  <a:lnTo>
                    <a:pt x="7291" y="1621"/>
                  </a:lnTo>
                  <a:lnTo>
                    <a:pt x="7407" y="1737"/>
                  </a:lnTo>
                  <a:lnTo>
                    <a:pt x="7407" y="1969"/>
                  </a:lnTo>
                  <a:lnTo>
                    <a:pt x="7407" y="2085"/>
                  </a:lnTo>
                  <a:lnTo>
                    <a:pt x="7522" y="2200"/>
                  </a:lnTo>
                  <a:lnTo>
                    <a:pt x="7522" y="2316"/>
                  </a:lnTo>
                  <a:lnTo>
                    <a:pt x="7638" y="2316"/>
                  </a:lnTo>
                  <a:lnTo>
                    <a:pt x="7754" y="2432"/>
                  </a:lnTo>
                  <a:lnTo>
                    <a:pt x="7870" y="2432"/>
                  </a:lnTo>
                  <a:lnTo>
                    <a:pt x="7870" y="2432"/>
                  </a:lnTo>
                  <a:lnTo>
                    <a:pt x="8101" y="2432"/>
                  </a:lnTo>
                  <a:lnTo>
                    <a:pt x="8217" y="2432"/>
                  </a:lnTo>
                  <a:lnTo>
                    <a:pt x="8333" y="2316"/>
                  </a:lnTo>
                  <a:lnTo>
                    <a:pt x="8448" y="2200"/>
                  </a:lnTo>
                  <a:lnTo>
                    <a:pt x="8564" y="2200"/>
                  </a:lnTo>
                  <a:lnTo>
                    <a:pt x="8564" y="2085"/>
                  </a:lnTo>
                  <a:lnTo>
                    <a:pt x="8680" y="1969"/>
                  </a:lnTo>
                  <a:lnTo>
                    <a:pt x="8911" y="1969"/>
                  </a:lnTo>
                  <a:lnTo>
                    <a:pt x="8911" y="1969"/>
                  </a:lnTo>
                  <a:lnTo>
                    <a:pt x="8911" y="1853"/>
                  </a:lnTo>
                  <a:lnTo>
                    <a:pt x="8911" y="1737"/>
                  </a:lnTo>
                  <a:lnTo>
                    <a:pt x="9027" y="1737"/>
                  </a:lnTo>
                  <a:lnTo>
                    <a:pt x="9143" y="1621"/>
                  </a:lnTo>
                  <a:lnTo>
                    <a:pt x="9258" y="1506"/>
                  </a:lnTo>
                  <a:lnTo>
                    <a:pt x="9374" y="1390"/>
                  </a:lnTo>
                  <a:lnTo>
                    <a:pt x="9374" y="1274"/>
                  </a:lnTo>
                  <a:lnTo>
                    <a:pt x="9490" y="1158"/>
                  </a:lnTo>
                  <a:lnTo>
                    <a:pt x="9490" y="1158"/>
                  </a:lnTo>
                  <a:lnTo>
                    <a:pt x="9837" y="1274"/>
                  </a:lnTo>
                  <a:lnTo>
                    <a:pt x="9837" y="1274"/>
                  </a:lnTo>
                  <a:lnTo>
                    <a:pt x="9837" y="1390"/>
                  </a:lnTo>
                  <a:lnTo>
                    <a:pt x="9721" y="1621"/>
                  </a:lnTo>
                  <a:lnTo>
                    <a:pt x="9721" y="1853"/>
                  </a:lnTo>
                  <a:lnTo>
                    <a:pt x="9606" y="2085"/>
                  </a:lnTo>
                  <a:lnTo>
                    <a:pt x="9606" y="2200"/>
                  </a:lnTo>
                  <a:lnTo>
                    <a:pt x="9721" y="2432"/>
                  </a:lnTo>
                  <a:lnTo>
                    <a:pt x="9721" y="2664"/>
                  </a:lnTo>
                  <a:lnTo>
                    <a:pt x="9953" y="2780"/>
                  </a:lnTo>
                  <a:lnTo>
                    <a:pt x="9953" y="2780"/>
                  </a:lnTo>
                  <a:lnTo>
                    <a:pt x="10069" y="2780"/>
                  </a:lnTo>
                  <a:lnTo>
                    <a:pt x="10184" y="2780"/>
                  </a:lnTo>
                  <a:lnTo>
                    <a:pt x="10300" y="2780"/>
                  </a:lnTo>
                  <a:lnTo>
                    <a:pt x="10531" y="2780"/>
                  </a:lnTo>
                  <a:lnTo>
                    <a:pt x="10647" y="2780"/>
                  </a:lnTo>
                  <a:lnTo>
                    <a:pt x="10763" y="2664"/>
                  </a:lnTo>
                  <a:lnTo>
                    <a:pt x="10763" y="2548"/>
                  </a:lnTo>
                  <a:lnTo>
                    <a:pt x="10879" y="2432"/>
                  </a:lnTo>
                  <a:lnTo>
                    <a:pt x="10879" y="2432"/>
                  </a:lnTo>
                  <a:lnTo>
                    <a:pt x="10763" y="2432"/>
                  </a:lnTo>
                  <a:lnTo>
                    <a:pt x="10763" y="2432"/>
                  </a:lnTo>
                  <a:lnTo>
                    <a:pt x="10994" y="2316"/>
                  </a:lnTo>
                  <a:lnTo>
                    <a:pt x="11110" y="2200"/>
                  </a:lnTo>
                  <a:lnTo>
                    <a:pt x="11226" y="1969"/>
                  </a:lnTo>
                  <a:lnTo>
                    <a:pt x="11342" y="1737"/>
                  </a:lnTo>
                  <a:lnTo>
                    <a:pt x="11457" y="1506"/>
                  </a:lnTo>
                  <a:lnTo>
                    <a:pt x="11689" y="1506"/>
                  </a:lnTo>
                  <a:lnTo>
                    <a:pt x="11805" y="1506"/>
                  </a:lnTo>
                  <a:lnTo>
                    <a:pt x="12036" y="1621"/>
                  </a:lnTo>
                  <a:lnTo>
                    <a:pt x="12036" y="1621"/>
                  </a:lnTo>
                  <a:lnTo>
                    <a:pt x="12036" y="1737"/>
                  </a:lnTo>
                  <a:lnTo>
                    <a:pt x="11920" y="1969"/>
                  </a:lnTo>
                  <a:lnTo>
                    <a:pt x="11920" y="2085"/>
                  </a:lnTo>
                  <a:lnTo>
                    <a:pt x="11805" y="2200"/>
                  </a:lnTo>
                  <a:lnTo>
                    <a:pt x="11805" y="2432"/>
                  </a:lnTo>
                  <a:lnTo>
                    <a:pt x="11805" y="2548"/>
                  </a:lnTo>
                  <a:lnTo>
                    <a:pt x="11920" y="2780"/>
                  </a:lnTo>
                  <a:lnTo>
                    <a:pt x="12036" y="2895"/>
                  </a:lnTo>
                  <a:lnTo>
                    <a:pt x="12036" y="2895"/>
                  </a:lnTo>
                  <a:lnTo>
                    <a:pt x="12152" y="3011"/>
                  </a:lnTo>
                  <a:lnTo>
                    <a:pt x="12267" y="3127"/>
                  </a:lnTo>
                  <a:lnTo>
                    <a:pt x="12383" y="3127"/>
                  </a:lnTo>
                  <a:lnTo>
                    <a:pt x="12499" y="3127"/>
                  </a:lnTo>
                  <a:lnTo>
                    <a:pt x="12615" y="3127"/>
                  </a:lnTo>
                  <a:lnTo>
                    <a:pt x="12730" y="3127"/>
                  </a:lnTo>
                  <a:lnTo>
                    <a:pt x="12846" y="3011"/>
                  </a:lnTo>
                  <a:lnTo>
                    <a:pt x="12962" y="3011"/>
                  </a:lnTo>
                  <a:lnTo>
                    <a:pt x="12962" y="3011"/>
                  </a:lnTo>
                  <a:lnTo>
                    <a:pt x="12846" y="2780"/>
                  </a:lnTo>
                  <a:lnTo>
                    <a:pt x="12962" y="2664"/>
                  </a:lnTo>
                  <a:lnTo>
                    <a:pt x="13078" y="2548"/>
                  </a:lnTo>
                  <a:lnTo>
                    <a:pt x="13193" y="2432"/>
                  </a:lnTo>
                  <a:lnTo>
                    <a:pt x="13309" y="2316"/>
                  </a:lnTo>
                  <a:lnTo>
                    <a:pt x="13425" y="2200"/>
                  </a:lnTo>
                  <a:lnTo>
                    <a:pt x="13541" y="2085"/>
                  </a:lnTo>
                  <a:lnTo>
                    <a:pt x="13656" y="1969"/>
                  </a:lnTo>
                  <a:lnTo>
                    <a:pt x="13656" y="1969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3772" y="2085"/>
                  </a:lnTo>
                  <a:lnTo>
                    <a:pt x="13772" y="2316"/>
                  </a:lnTo>
                  <a:lnTo>
                    <a:pt x="13772" y="2432"/>
                  </a:lnTo>
                  <a:lnTo>
                    <a:pt x="13656" y="2664"/>
                  </a:lnTo>
                  <a:lnTo>
                    <a:pt x="13772" y="2780"/>
                  </a:lnTo>
                  <a:lnTo>
                    <a:pt x="13772" y="2895"/>
                  </a:lnTo>
                  <a:lnTo>
                    <a:pt x="13888" y="3127"/>
                  </a:lnTo>
                  <a:lnTo>
                    <a:pt x="14003" y="3127"/>
                  </a:lnTo>
                  <a:lnTo>
                    <a:pt x="14003" y="3127"/>
                  </a:lnTo>
                  <a:lnTo>
                    <a:pt x="14119" y="3127"/>
                  </a:lnTo>
                  <a:lnTo>
                    <a:pt x="14235" y="3127"/>
                  </a:lnTo>
                  <a:lnTo>
                    <a:pt x="14351" y="3127"/>
                  </a:lnTo>
                  <a:lnTo>
                    <a:pt x="14466" y="3127"/>
                  </a:lnTo>
                  <a:lnTo>
                    <a:pt x="14582" y="3011"/>
                  </a:lnTo>
                  <a:lnTo>
                    <a:pt x="14582" y="3011"/>
                  </a:lnTo>
                  <a:lnTo>
                    <a:pt x="14698" y="2895"/>
                  </a:lnTo>
                  <a:lnTo>
                    <a:pt x="14814" y="2780"/>
                  </a:lnTo>
                  <a:lnTo>
                    <a:pt x="14814" y="2780"/>
                  </a:lnTo>
                  <a:lnTo>
                    <a:pt x="14814" y="2664"/>
                  </a:lnTo>
                  <a:lnTo>
                    <a:pt x="14814" y="2664"/>
                  </a:lnTo>
                  <a:lnTo>
                    <a:pt x="14814" y="2548"/>
                  </a:lnTo>
                  <a:lnTo>
                    <a:pt x="14929" y="2432"/>
                  </a:lnTo>
                  <a:lnTo>
                    <a:pt x="14929" y="2316"/>
                  </a:lnTo>
                  <a:lnTo>
                    <a:pt x="15045" y="2316"/>
                  </a:lnTo>
                  <a:lnTo>
                    <a:pt x="15045" y="2200"/>
                  </a:lnTo>
                  <a:lnTo>
                    <a:pt x="15161" y="2085"/>
                  </a:lnTo>
                  <a:lnTo>
                    <a:pt x="15161" y="2085"/>
                  </a:lnTo>
                  <a:lnTo>
                    <a:pt x="15624" y="2085"/>
                  </a:lnTo>
                  <a:lnTo>
                    <a:pt x="15624" y="2085"/>
                  </a:lnTo>
                  <a:lnTo>
                    <a:pt x="15624" y="2200"/>
                  </a:lnTo>
                  <a:lnTo>
                    <a:pt x="15508" y="2432"/>
                  </a:lnTo>
                  <a:lnTo>
                    <a:pt x="15508" y="2548"/>
                  </a:lnTo>
                  <a:lnTo>
                    <a:pt x="15508" y="2664"/>
                  </a:lnTo>
                  <a:lnTo>
                    <a:pt x="15508" y="2780"/>
                  </a:lnTo>
                  <a:lnTo>
                    <a:pt x="15508" y="2895"/>
                  </a:lnTo>
                  <a:lnTo>
                    <a:pt x="15624" y="3011"/>
                  </a:lnTo>
                  <a:lnTo>
                    <a:pt x="15739" y="3127"/>
                  </a:lnTo>
                  <a:lnTo>
                    <a:pt x="15739" y="3127"/>
                  </a:lnTo>
                  <a:lnTo>
                    <a:pt x="15739" y="3243"/>
                  </a:lnTo>
                  <a:lnTo>
                    <a:pt x="15855" y="3243"/>
                  </a:lnTo>
                  <a:lnTo>
                    <a:pt x="15855" y="3243"/>
                  </a:lnTo>
                  <a:lnTo>
                    <a:pt x="15971" y="3359"/>
                  </a:lnTo>
                  <a:lnTo>
                    <a:pt x="16087" y="3359"/>
                  </a:lnTo>
                  <a:lnTo>
                    <a:pt x="16202" y="3359"/>
                  </a:lnTo>
                  <a:lnTo>
                    <a:pt x="16202" y="3359"/>
                  </a:lnTo>
                  <a:lnTo>
                    <a:pt x="16318" y="3359"/>
                  </a:lnTo>
                  <a:lnTo>
                    <a:pt x="16318" y="3359"/>
                  </a:lnTo>
                  <a:lnTo>
                    <a:pt x="16550" y="3243"/>
                  </a:lnTo>
                  <a:lnTo>
                    <a:pt x="16665" y="3011"/>
                  </a:lnTo>
                  <a:lnTo>
                    <a:pt x="16781" y="2895"/>
                  </a:lnTo>
                  <a:lnTo>
                    <a:pt x="17012" y="2664"/>
                  </a:lnTo>
                  <a:lnTo>
                    <a:pt x="17128" y="2432"/>
                  </a:lnTo>
                  <a:lnTo>
                    <a:pt x="17244" y="2316"/>
                  </a:lnTo>
                  <a:lnTo>
                    <a:pt x="17475" y="2316"/>
                  </a:lnTo>
                  <a:lnTo>
                    <a:pt x="17823" y="2432"/>
                  </a:lnTo>
                  <a:lnTo>
                    <a:pt x="17823" y="2432"/>
                  </a:lnTo>
                  <a:lnTo>
                    <a:pt x="17823" y="2548"/>
                  </a:lnTo>
                  <a:lnTo>
                    <a:pt x="17707" y="2664"/>
                  </a:lnTo>
                  <a:lnTo>
                    <a:pt x="17707" y="2780"/>
                  </a:lnTo>
                  <a:lnTo>
                    <a:pt x="17591" y="2895"/>
                  </a:lnTo>
                  <a:lnTo>
                    <a:pt x="17591" y="3011"/>
                  </a:lnTo>
                  <a:lnTo>
                    <a:pt x="17475" y="3127"/>
                  </a:lnTo>
                  <a:lnTo>
                    <a:pt x="17475" y="3243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707" y="3590"/>
                  </a:lnTo>
                  <a:lnTo>
                    <a:pt x="17707" y="3590"/>
                  </a:lnTo>
                  <a:lnTo>
                    <a:pt x="17823" y="3706"/>
                  </a:lnTo>
                  <a:lnTo>
                    <a:pt x="17938" y="3706"/>
                  </a:lnTo>
                  <a:lnTo>
                    <a:pt x="18054" y="3706"/>
                  </a:lnTo>
                  <a:lnTo>
                    <a:pt x="18170" y="3706"/>
                  </a:lnTo>
                  <a:lnTo>
                    <a:pt x="18286" y="3706"/>
                  </a:lnTo>
                  <a:lnTo>
                    <a:pt x="18286" y="3706"/>
                  </a:lnTo>
                  <a:lnTo>
                    <a:pt x="18401" y="3590"/>
                  </a:lnTo>
                  <a:lnTo>
                    <a:pt x="18517" y="3474"/>
                  </a:lnTo>
                  <a:lnTo>
                    <a:pt x="18748" y="3359"/>
                  </a:lnTo>
                  <a:lnTo>
                    <a:pt x="18864" y="3243"/>
                  </a:lnTo>
                  <a:lnTo>
                    <a:pt x="18980" y="3127"/>
                  </a:lnTo>
                  <a:lnTo>
                    <a:pt x="19096" y="3011"/>
                  </a:lnTo>
                  <a:lnTo>
                    <a:pt x="19211" y="2780"/>
                  </a:lnTo>
                  <a:lnTo>
                    <a:pt x="19327" y="2664"/>
                  </a:lnTo>
                  <a:lnTo>
                    <a:pt x="19327" y="2664"/>
                  </a:lnTo>
                  <a:lnTo>
                    <a:pt x="19559" y="2664"/>
                  </a:lnTo>
                  <a:lnTo>
                    <a:pt x="19559" y="2664"/>
                  </a:lnTo>
                  <a:lnTo>
                    <a:pt x="19559" y="2780"/>
                  </a:lnTo>
                  <a:lnTo>
                    <a:pt x="19559" y="3011"/>
                  </a:lnTo>
                  <a:lnTo>
                    <a:pt x="19559" y="3127"/>
                  </a:lnTo>
                  <a:lnTo>
                    <a:pt x="19443" y="3359"/>
                  </a:lnTo>
                  <a:lnTo>
                    <a:pt x="19443" y="3474"/>
                  </a:lnTo>
                  <a:lnTo>
                    <a:pt x="19559" y="3590"/>
                  </a:lnTo>
                  <a:lnTo>
                    <a:pt x="19674" y="3706"/>
                  </a:lnTo>
                  <a:lnTo>
                    <a:pt x="19790" y="3822"/>
                  </a:lnTo>
                  <a:lnTo>
                    <a:pt x="19790" y="3822"/>
                  </a:lnTo>
                  <a:lnTo>
                    <a:pt x="19906" y="3822"/>
                  </a:lnTo>
                  <a:lnTo>
                    <a:pt x="20022" y="3822"/>
                  </a:lnTo>
                  <a:lnTo>
                    <a:pt x="20137" y="3822"/>
                  </a:lnTo>
                  <a:lnTo>
                    <a:pt x="20253" y="3822"/>
                  </a:lnTo>
                  <a:lnTo>
                    <a:pt x="20369" y="3706"/>
                  </a:lnTo>
                  <a:lnTo>
                    <a:pt x="20484" y="3706"/>
                  </a:lnTo>
                  <a:lnTo>
                    <a:pt x="20600" y="3590"/>
                  </a:lnTo>
                  <a:lnTo>
                    <a:pt x="20716" y="3590"/>
                  </a:lnTo>
                  <a:lnTo>
                    <a:pt x="20716" y="3590"/>
                  </a:lnTo>
                  <a:lnTo>
                    <a:pt x="20600" y="3474"/>
                  </a:lnTo>
                  <a:lnTo>
                    <a:pt x="20600" y="3359"/>
                  </a:lnTo>
                  <a:lnTo>
                    <a:pt x="20716" y="3243"/>
                  </a:lnTo>
                  <a:lnTo>
                    <a:pt x="20716" y="3127"/>
                  </a:lnTo>
                  <a:lnTo>
                    <a:pt x="20832" y="3127"/>
                  </a:lnTo>
                  <a:lnTo>
                    <a:pt x="20832" y="3011"/>
                  </a:lnTo>
                  <a:lnTo>
                    <a:pt x="20947" y="2895"/>
                  </a:lnTo>
                  <a:lnTo>
                    <a:pt x="20947" y="2780"/>
                  </a:lnTo>
                  <a:lnTo>
                    <a:pt x="20947" y="2780"/>
                  </a:lnTo>
                  <a:lnTo>
                    <a:pt x="20947" y="2895"/>
                  </a:lnTo>
                  <a:lnTo>
                    <a:pt x="20947" y="3011"/>
                  </a:lnTo>
                  <a:lnTo>
                    <a:pt x="20947" y="3127"/>
                  </a:lnTo>
                  <a:lnTo>
                    <a:pt x="20947" y="3359"/>
                  </a:lnTo>
                  <a:lnTo>
                    <a:pt x="20832" y="3474"/>
                  </a:lnTo>
                  <a:lnTo>
                    <a:pt x="20832" y="3590"/>
                  </a:lnTo>
                  <a:lnTo>
                    <a:pt x="20832" y="3706"/>
                  </a:lnTo>
                  <a:lnTo>
                    <a:pt x="20832" y="3822"/>
                  </a:lnTo>
                  <a:lnTo>
                    <a:pt x="20832" y="3822"/>
                  </a:lnTo>
                  <a:lnTo>
                    <a:pt x="20947" y="3938"/>
                  </a:lnTo>
                  <a:lnTo>
                    <a:pt x="20947" y="3938"/>
                  </a:lnTo>
                  <a:lnTo>
                    <a:pt x="21063" y="4053"/>
                  </a:lnTo>
                  <a:lnTo>
                    <a:pt x="21179" y="4053"/>
                  </a:lnTo>
                  <a:lnTo>
                    <a:pt x="21295" y="4053"/>
                  </a:lnTo>
                  <a:lnTo>
                    <a:pt x="21295" y="4053"/>
                  </a:lnTo>
                  <a:lnTo>
                    <a:pt x="21410" y="4053"/>
                  </a:lnTo>
                  <a:lnTo>
                    <a:pt x="21526" y="4053"/>
                  </a:lnTo>
                  <a:lnTo>
                    <a:pt x="21526" y="4053"/>
                  </a:lnTo>
                  <a:lnTo>
                    <a:pt x="21642" y="3938"/>
                  </a:lnTo>
                  <a:lnTo>
                    <a:pt x="21642" y="3822"/>
                  </a:lnTo>
                  <a:lnTo>
                    <a:pt x="21758" y="3706"/>
                  </a:lnTo>
                  <a:lnTo>
                    <a:pt x="21873" y="3590"/>
                  </a:lnTo>
                  <a:lnTo>
                    <a:pt x="21989" y="3474"/>
                  </a:lnTo>
                  <a:lnTo>
                    <a:pt x="22105" y="3359"/>
                  </a:lnTo>
                  <a:lnTo>
                    <a:pt x="22105" y="3243"/>
                  </a:lnTo>
                  <a:lnTo>
                    <a:pt x="22220" y="3011"/>
                  </a:lnTo>
                  <a:lnTo>
                    <a:pt x="22220" y="3011"/>
                  </a:lnTo>
                  <a:lnTo>
                    <a:pt x="22105" y="3127"/>
                  </a:lnTo>
                  <a:lnTo>
                    <a:pt x="22105" y="3243"/>
                  </a:lnTo>
                  <a:lnTo>
                    <a:pt x="22105" y="3359"/>
                  </a:lnTo>
                  <a:lnTo>
                    <a:pt x="22105" y="3474"/>
                  </a:lnTo>
                  <a:lnTo>
                    <a:pt x="22105" y="3590"/>
                  </a:lnTo>
                  <a:lnTo>
                    <a:pt x="22105" y="3706"/>
                  </a:lnTo>
                  <a:lnTo>
                    <a:pt x="22105" y="3822"/>
                  </a:lnTo>
                  <a:lnTo>
                    <a:pt x="22220" y="3938"/>
                  </a:lnTo>
                  <a:lnTo>
                    <a:pt x="22220" y="3938"/>
                  </a:lnTo>
                  <a:lnTo>
                    <a:pt x="22336" y="4053"/>
                  </a:lnTo>
                  <a:lnTo>
                    <a:pt x="22452" y="4169"/>
                  </a:lnTo>
                  <a:lnTo>
                    <a:pt x="22568" y="4169"/>
                  </a:lnTo>
                  <a:lnTo>
                    <a:pt x="22683" y="4053"/>
                  </a:lnTo>
                  <a:lnTo>
                    <a:pt x="22799" y="3938"/>
                  </a:lnTo>
                  <a:lnTo>
                    <a:pt x="22915" y="3822"/>
                  </a:lnTo>
                  <a:lnTo>
                    <a:pt x="23031" y="3822"/>
                  </a:lnTo>
                  <a:lnTo>
                    <a:pt x="23146" y="3822"/>
                  </a:lnTo>
                  <a:lnTo>
                    <a:pt x="23146" y="3822"/>
                  </a:lnTo>
                  <a:lnTo>
                    <a:pt x="23146" y="3938"/>
                  </a:lnTo>
                  <a:lnTo>
                    <a:pt x="23146" y="3938"/>
                  </a:lnTo>
                  <a:lnTo>
                    <a:pt x="23146" y="4053"/>
                  </a:lnTo>
                  <a:lnTo>
                    <a:pt x="23146" y="4169"/>
                  </a:lnTo>
                  <a:lnTo>
                    <a:pt x="23146" y="4285"/>
                  </a:lnTo>
                  <a:lnTo>
                    <a:pt x="23262" y="4285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841" y="4285"/>
                  </a:lnTo>
                  <a:lnTo>
                    <a:pt x="23841" y="4285"/>
                  </a:lnTo>
                  <a:lnTo>
                    <a:pt x="23378" y="5906"/>
                  </a:lnTo>
                  <a:lnTo>
                    <a:pt x="22799" y="7528"/>
                  </a:lnTo>
                  <a:lnTo>
                    <a:pt x="22452" y="9265"/>
                  </a:lnTo>
                  <a:lnTo>
                    <a:pt x="21989" y="11002"/>
                  </a:lnTo>
                  <a:lnTo>
                    <a:pt x="21642" y="12739"/>
                  </a:lnTo>
                  <a:lnTo>
                    <a:pt x="21410" y="14476"/>
                  </a:lnTo>
                  <a:lnTo>
                    <a:pt x="21179" y="16213"/>
                  </a:lnTo>
                  <a:lnTo>
                    <a:pt x="21063" y="17951"/>
                  </a:lnTo>
                  <a:lnTo>
                    <a:pt x="21063" y="17951"/>
                  </a:lnTo>
                  <a:lnTo>
                    <a:pt x="18517" y="18414"/>
                  </a:lnTo>
                  <a:lnTo>
                    <a:pt x="15971" y="18877"/>
                  </a:lnTo>
                  <a:lnTo>
                    <a:pt x="13541" y="19456"/>
                  </a:lnTo>
                  <a:lnTo>
                    <a:pt x="11110" y="20035"/>
                  </a:lnTo>
                  <a:lnTo>
                    <a:pt x="8564" y="20614"/>
                  </a:lnTo>
                  <a:lnTo>
                    <a:pt x="6134" y="21077"/>
                  </a:lnTo>
                  <a:lnTo>
                    <a:pt x="3588" y="21656"/>
                  </a:lnTo>
                  <a:lnTo>
                    <a:pt x="926" y="22004"/>
                  </a:lnTo>
                  <a:lnTo>
                    <a:pt x="926" y="22004"/>
                  </a:lnTo>
                  <a:lnTo>
                    <a:pt x="1041" y="21888"/>
                  </a:lnTo>
                  <a:lnTo>
                    <a:pt x="1041" y="21656"/>
                  </a:lnTo>
                  <a:lnTo>
                    <a:pt x="1041" y="21541"/>
                  </a:lnTo>
                  <a:lnTo>
                    <a:pt x="1041" y="21309"/>
                  </a:lnTo>
                  <a:lnTo>
                    <a:pt x="1041" y="21193"/>
                  </a:lnTo>
                  <a:lnTo>
                    <a:pt x="926" y="20962"/>
                  </a:lnTo>
                  <a:lnTo>
                    <a:pt x="926" y="20730"/>
                  </a:lnTo>
                  <a:lnTo>
                    <a:pt x="926" y="20614"/>
                  </a:lnTo>
                  <a:lnTo>
                    <a:pt x="926" y="20614"/>
                  </a:lnTo>
                  <a:lnTo>
                    <a:pt x="810" y="20498"/>
                  </a:lnTo>
                  <a:lnTo>
                    <a:pt x="694" y="20383"/>
                  </a:lnTo>
                  <a:lnTo>
                    <a:pt x="579" y="20267"/>
                  </a:lnTo>
                  <a:lnTo>
                    <a:pt x="463" y="20267"/>
                  </a:lnTo>
                  <a:lnTo>
                    <a:pt x="347" y="20151"/>
                  </a:lnTo>
                  <a:lnTo>
                    <a:pt x="231" y="20151"/>
                  </a:lnTo>
                  <a:lnTo>
                    <a:pt x="116" y="20035"/>
                  </a:lnTo>
                  <a:lnTo>
                    <a:pt x="0" y="20035"/>
                  </a:lnTo>
                  <a:lnTo>
                    <a:pt x="0" y="20035"/>
                  </a:lnTo>
                  <a:lnTo>
                    <a:pt x="347" y="17603"/>
                  </a:lnTo>
                  <a:lnTo>
                    <a:pt x="694" y="15055"/>
                  </a:lnTo>
                  <a:lnTo>
                    <a:pt x="1273" y="12623"/>
                  </a:lnTo>
                  <a:lnTo>
                    <a:pt x="1852" y="10076"/>
                  </a:lnTo>
                  <a:lnTo>
                    <a:pt x="2430" y="7644"/>
                  </a:lnTo>
                  <a:lnTo>
                    <a:pt x="2893" y="5096"/>
                  </a:lnTo>
                  <a:lnTo>
                    <a:pt x="3472" y="2548"/>
                  </a:lnTo>
                  <a:lnTo>
                    <a:pt x="3935" y="0"/>
                  </a:lnTo>
                  <a:lnTo>
                    <a:pt x="3935" y="0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1038240" y="3094200"/>
              <a:ext cx="111600" cy="845280"/>
            </a:xfrm>
            <a:custGeom>
              <a:avLst/>
              <a:gdLst/>
              <a:ahLst/>
              <a:rect l="l" t="t" r="r" b="b"/>
              <a:pathLst>
                <a:path w="3125" h="15750">
                  <a:moveTo>
                    <a:pt x="3125" y="0"/>
                  </a:moveTo>
                  <a:lnTo>
                    <a:pt x="3125" y="347"/>
                  </a:lnTo>
                  <a:lnTo>
                    <a:pt x="3125" y="811"/>
                  </a:lnTo>
                  <a:lnTo>
                    <a:pt x="3009" y="1274"/>
                  </a:lnTo>
                  <a:lnTo>
                    <a:pt x="2894" y="1737"/>
                  </a:lnTo>
                  <a:lnTo>
                    <a:pt x="2894" y="2084"/>
                  </a:lnTo>
                  <a:lnTo>
                    <a:pt x="2778" y="2548"/>
                  </a:lnTo>
                  <a:lnTo>
                    <a:pt x="2662" y="2895"/>
                  </a:lnTo>
                  <a:lnTo>
                    <a:pt x="2546" y="3358"/>
                  </a:lnTo>
                  <a:lnTo>
                    <a:pt x="2546" y="3358"/>
                  </a:lnTo>
                  <a:lnTo>
                    <a:pt x="2199" y="4748"/>
                  </a:lnTo>
                  <a:lnTo>
                    <a:pt x="1968" y="6138"/>
                  </a:lnTo>
                  <a:lnTo>
                    <a:pt x="1736" y="7528"/>
                  </a:lnTo>
                  <a:lnTo>
                    <a:pt x="1389" y="8917"/>
                  </a:lnTo>
                  <a:lnTo>
                    <a:pt x="1158" y="10307"/>
                  </a:lnTo>
                  <a:lnTo>
                    <a:pt x="926" y="11812"/>
                  </a:lnTo>
                  <a:lnTo>
                    <a:pt x="695" y="13086"/>
                  </a:lnTo>
                  <a:lnTo>
                    <a:pt x="463" y="14476"/>
                  </a:lnTo>
                  <a:lnTo>
                    <a:pt x="463" y="14476"/>
                  </a:lnTo>
                  <a:lnTo>
                    <a:pt x="348" y="14592"/>
                  </a:lnTo>
                  <a:lnTo>
                    <a:pt x="348" y="14824"/>
                  </a:lnTo>
                  <a:lnTo>
                    <a:pt x="348" y="14939"/>
                  </a:lnTo>
                  <a:lnTo>
                    <a:pt x="348" y="15055"/>
                  </a:lnTo>
                  <a:lnTo>
                    <a:pt x="232" y="15287"/>
                  </a:lnTo>
                  <a:lnTo>
                    <a:pt x="232" y="15403"/>
                  </a:lnTo>
                  <a:lnTo>
                    <a:pt x="232" y="15518"/>
                  </a:lnTo>
                  <a:lnTo>
                    <a:pt x="232" y="15750"/>
                  </a:lnTo>
                  <a:lnTo>
                    <a:pt x="232" y="15750"/>
                  </a:lnTo>
                  <a:lnTo>
                    <a:pt x="0" y="15750"/>
                  </a:lnTo>
                  <a:lnTo>
                    <a:pt x="0" y="15750"/>
                  </a:lnTo>
                  <a:lnTo>
                    <a:pt x="116" y="14824"/>
                  </a:lnTo>
                  <a:lnTo>
                    <a:pt x="348" y="14013"/>
                  </a:lnTo>
                  <a:lnTo>
                    <a:pt x="463" y="13086"/>
                  </a:lnTo>
                  <a:lnTo>
                    <a:pt x="579" y="12276"/>
                  </a:lnTo>
                  <a:lnTo>
                    <a:pt x="695" y="11349"/>
                  </a:lnTo>
                  <a:lnTo>
                    <a:pt x="810" y="10423"/>
                  </a:lnTo>
                  <a:lnTo>
                    <a:pt x="926" y="9612"/>
                  </a:lnTo>
                  <a:lnTo>
                    <a:pt x="1042" y="8686"/>
                  </a:lnTo>
                  <a:lnTo>
                    <a:pt x="1042" y="8686"/>
                  </a:lnTo>
                  <a:lnTo>
                    <a:pt x="1273" y="7643"/>
                  </a:lnTo>
                  <a:lnTo>
                    <a:pt x="1505" y="6601"/>
                  </a:lnTo>
                  <a:lnTo>
                    <a:pt x="1736" y="5559"/>
                  </a:lnTo>
                  <a:lnTo>
                    <a:pt x="1968" y="4516"/>
                  </a:lnTo>
                  <a:lnTo>
                    <a:pt x="2199" y="3358"/>
                  </a:lnTo>
                  <a:lnTo>
                    <a:pt x="2431" y="2316"/>
                  </a:lnTo>
                  <a:lnTo>
                    <a:pt x="2662" y="1274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1059120" y="3094200"/>
              <a:ext cx="119880" cy="864000"/>
            </a:xfrm>
            <a:custGeom>
              <a:avLst/>
              <a:gdLst/>
              <a:ahLst/>
              <a:rect l="l" t="t" r="r" b="b"/>
              <a:pathLst>
                <a:path w="3356" h="16097">
                  <a:moveTo>
                    <a:pt x="3356" y="0"/>
                  </a:moveTo>
                  <a:lnTo>
                    <a:pt x="3125" y="1390"/>
                  </a:lnTo>
                  <a:lnTo>
                    <a:pt x="2893" y="2779"/>
                  </a:lnTo>
                  <a:lnTo>
                    <a:pt x="2662" y="4053"/>
                  </a:lnTo>
                  <a:lnTo>
                    <a:pt x="2315" y="5443"/>
                  </a:lnTo>
                  <a:lnTo>
                    <a:pt x="2083" y="6833"/>
                  </a:lnTo>
                  <a:lnTo>
                    <a:pt x="1736" y="8107"/>
                  </a:lnTo>
                  <a:lnTo>
                    <a:pt x="1505" y="9496"/>
                  </a:lnTo>
                  <a:lnTo>
                    <a:pt x="1273" y="10770"/>
                  </a:lnTo>
                  <a:lnTo>
                    <a:pt x="1273" y="10770"/>
                  </a:lnTo>
                  <a:lnTo>
                    <a:pt x="1157" y="11002"/>
                  </a:lnTo>
                  <a:lnTo>
                    <a:pt x="1157" y="11233"/>
                  </a:lnTo>
                  <a:lnTo>
                    <a:pt x="1042" y="11465"/>
                  </a:lnTo>
                  <a:lnTo>
                    <a:pt x="1042" y="11697"/>
                  </a:lnTo>
                  <a:lnTo>
                    <a:pt x="926" y="11928"/>
                  </a:lnTo>
                  <a:lnTo>
                    <a:pt x="926" y="12276"/>
                  </a:lnTo>
                  <a:lnTo>
                    <a:pt x="926" y="12507"/>
                  </a:lnTo>
                  <a:lnTo>
                    <a:pt x="810" y="12739"/>
                  </a:lnTo>
                  <a:lnTo>
                    <a:pt x="810" y="12739"/>
                  </a:lnTo>
                  <a:lnTo>
                    <a:pt x="926" y="13086"/>
                  </a:lnTo>
                  <a:lnTo>
                    <a:pt x="810" y="13550"/>
                  </a:lnTo>
                  <a:lnTo>
                    <a:pt x="810" y="13897"/>
                  </a:lnTo>
                  <a:lnTo>
                    <a:pt x="694" y="14360"/>
                  </a:lnTo>
                  <a:lnTo>
                    <a:pt x="579" y="14824"/>
                  </a:lnTo>
                  <a:lnTo>
                    <a:pt x="463" y="15171"/>
                  </a:lnTo>
                  <a:lnTo>
                    <a:pt x="463" y="15634"/>
                  </a:lnTo>
                  <a:lnTo>
                    <a:pt x="463" y="16097"/>
                  </a:lnTo>
                  <a:lnTo>
                    <a:pt x="463" y="16097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347" y="13897"/>
                  </a:lnTo>
                  <a:lnTo>
                    <a:pt x="694" y="11928"/>
                  </a:lnTo>
                  <a:lnTo>
                    <a:pt x="1042" y="9960"/>
                  </a:lnTo>
                  <a:lnTo>
                    <a:pt x="1389" y="7875"/>
                  </a:lnTo>
                  <a:lnTo>
                    <a:pt x="1852" y="5906"/>
                  </a:lnTo>
                  <a:lnTo>
                    <a:pt x="2199" y="3937"/>
                  </a:lnTo>
                  <a:lnTo>
                    <a:pt x="2546" y="1969"/>
                  </a:lnTo>
                  <a:lnTo>
                    <a:pt x="2893" y="0"/>
                  </a:lnTo>
                  <a:lnTo>
                    <a:pt x="2893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240" y="0"/>
                  </a:lnTo>
                  <a:lnTo>
                    <a:pt x="3240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1067040" y="3094200"/>
              <a:ext cx="144720" cy="1087920"/>
            </a:xfrm>
            <a:custGeom>
              <a:avLst/>
              <a:gdLst/>
              <a:ahLst/>
              <a:rect l="l" t="t" r="r" b="b"/>
              <a:pathLst>
                <a:path w="4051" h="20267">
                  <a:moveTo>
                    <a:pt x="3704" y="116"/>
                  </a:moveTo>
                  <a:lnTo>
                    <a:pt x="3935" y="0"/>
                  </a:lnTo>
                  <a:lnTo>
                    <a:pt x="4051" y="232"/>
                  </a:lnTo>
                  <a:lnTo>
                    <a:pt x="4051" y="232"/>
                  </a:lnTo>
                  <a:lnTo>
                    <a:pt x="3588" y="2779"/>
                  </a:lnTo>
                  <a:lnTo>
                    <a:pt x="3009" y="5211"/>
                  </a:lnTo>
                  <a:lnTo>
                    <a:pt x="2547" y="7643"/>
                  </a:lnTo>
                  <a:lnTo>
                    <a:pt x="1968" y="10075"/>
                  </a:lnTo>
                  <a:lnTo>
                    <a:pt x="1389" y="12623"/>
                  </a:lnTo>
                  <a:lnTo>
                    <a:pt x="926" y="15055"/>
                  </a:lnTo>
                  <a:lnTo>
                    <a:pt x="579" y="17603"/>
                  </a:lnTo>
                  <a:lnTo>
                    <a:pt x="348" y="20035"/>
                  </a:lnTo>
                  <a:lnTo>
                    <a:pt x="348" y="20035"/>
                  </a:lnTo>
                  <a:lnTo>
                    <a:pt x="348" y="20151"/>
                  </a:lnTo>
                  <a:lnTo>
                    <a:pt x="232" y="20151"/>
                  </a:lnTo>
                  <a:lnTo>
                    <a:pt x="232" y="20151"/>
                  </a:lnTo>
                  <a:lnTo>
                    <a:pt x="116" y="20151"/>
                  </a:lnTo>
                  <a:lnTo>
                    <a:pt x="116" y="20151"/>
                  </a:lnTo>
                  <a:lnTo>
                    <a:pt x="116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348" y="18761"/>
                  </a:lnTo>
                  <a:lnTo>
                    <a:pt x="579" y="17140"/>
                  </a:lnTo>
                  <a:lnTo>
                    <a:pt x="695" y="15634"/>
                  </a:lnTo>
                  <a:lnTo>
                    <a:pt x="926" y="14129"/>
                  </a:lnTo>
                  <a:lnTo>
                    <a:pt x="1042" y="12507"/>
                  </a:lnTo>
                  <a:lnTo>
                    <a:pt x="1158" y="11002"/>
                  </a:lnTo>
                  <a:lnTo>
                    <a:pt x="1505" y="9496"/>
                  </a:lnTo>
                  <a:lnTo>
                    <a:pt x="1852" y="7991"/>
                  </a:lnTo>
                  <a:lnTo>
                    <a:pt x="1852" y="7991"/>
                  </a:lnTo>
                  <a:lnTo>
                    <a:pt x="1968" y="6948"/>
                  </a:lnTo>
                  <a:lnTo>
                    <a:pt x="2199" y="5906"/>
                  </a:lnTo>
                  <a:lnTo>
                    <a:pt x="2431" y="4980"/>
                  </a:lnTo>
                  <a:lnTo>
                    <a:pt x="2778" y="4053"/>
                  </a:lnTo>
                  <a:lnTo>
                    <a:pt x="3009" y="3011"/>
                  </a:lnTo>
                  <a:lnTo>
                    <a:pt x="3241" y="2084"/>
                  </a:lnTo>
                  <a:lnTo>
                    <a:pt x="3472" y="1042"/>
                  </a:lnTo>
                  <a:lnTo>
                    <a:pt x="3588" y="0"/>
                  </a:lnTo>
                  <a:lnTo>
                    <a:pt x="3588" y="0"/>
                  </a:lnTo>
                  <a:lnTo>
                    <a:pt x="3704" y="0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1712880" y="3106800"/>
              <a:ext cx="57600" cy="142920"/>
            </a:xfrm>
            <a:custGeom>
              <a:avLst/>
              <a:gdLst/>
              <a:ahLst/>
              <a:rect l="l" t="t" r="r" b="b"/>
              <a:pathLst>
                <a:path w="1620" h="2663">
                  <a:moveTo>
                    <a:pt x="1620" y="810"/>
                  </a:moveTo>
                  <a:lnTo>
                    <a:pt x="1620" y="1042"/>
                  </a:lnTo>
                  <a:lnTo>
                    <a:pt x="1620" y="1158"/>
                  </a:lnTo>
                  <a:lnTo>
                    <a:pt x="1620" y="1389"/>
                  </a:lnTo>
                  <a:lnTo>
                    <a:pt x="1620" y="1621"/>
                  </a:lnTo>
                  <a:lnTo>
                    <a:pt x="1620" y="1852"/>
                  </a:lnTo>
                  <a:lnTo>
                    <a:pt x="1504" y="1968"/>
                  </a:lnTo>
                  <a:lnTo>
                    <a:pt x="1388" y="2200"/>
                  </a:lnTo>
                  <a:lnTo>
                    <a:pt x="1388" y="2316"/>
                  </a:lnTo>
                  <a:lnTo>
                    <a:pt x="1388" y="2316"/>
                  </a:lnTo>
                  <a:lnTo>
                    <a:pt x="1273" y="2432"/>
                  </a:lnTo>
                  <a:lnTo>
                    <a:pt x="1157" y="2432"/>
                  </a:lnTo>
                  <a:lnTo>
                    <a:pt x="1157" y="2547"/>
                  </a:lnTo>
                  <a:lnTo>
                    <a:pt x="1041" y="2547"/>
                  </a:lnTo>
                  <a:lnTo>
                    <a:pt x="1041" y="2663"/>
                  </a:lnTo>
                  <a:lnTo>
                    <a:pt x="926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926" y="2432"/>
                  </a:lnTo>
                  <a:lnTo>
                    <a:pt x="926" y="2200"/>
                  </a:lnTo>
                  <a:lnTo>
                    <a:pt x="1041" y="1968"/>
                  </a:lnTo>
                  <a:lnTo>
                    <a:pt x="1157" y="1737"/>
                  </a:lnTo>
                  <a:lnTo>
                    <a:pt x="1157" y="1505"/>
                  </a:lnTo>
                  <a:lnTo>
                    <a:pt x="1157" y="1158"/>
                  </a:lnTo>
                  <a:lnTo>
                    <a:pt x="1041" y="926"/>
                  </a:lnTo>
                  <a:lnTo>
                    <a:pt x="1041" y="694"/>
                  </a:lnTo>
                  <a:lnTo>
                    <a:pt x="1041" y="694"/>
                  </a:lnTo>
                  <a:lnTo>
                    <a:pt x="926" y="579"/>
                  </a:lnTo>
                  <a:lnTo>
                    <a:pt x="810" y="463"/>
                  </a:lnTo>
                  <a:lnTo>
                    <a:pt x="694" y="347"/>
                  </a:lnTo>
                  <a:lnTo>
                    <a:pt x="578" y="347"/>
                  </a:lnTo>
                  <a:lnTo>
                    <a:pt x="463" y="231"/>
                  </a:lnTo>
                  <a:lnTo>
                    <a:pt x="231" y="231"/>
                  </a:lnTo>
                  <a:lnTo>
                    <a:pt x="115" y="231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5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5"/>
                  </a:lnTo>
                  <a:lnTo>
                    <a:pt x="1273" y="347"/>
                  </a:lnTo>
                  <a:lnTo>
                    <a:pt x="1504" y="579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1783080" y="3125520"/>
              <a:ext cx="41040" cy="136800"/>
            </a:xfrm>
            <a:custGeom>
              <a:avLst/>
              <a:gdLst/>
              <a:ahLst/>
              <a:rect l="l" t="t" r="r" b="b"/>
              <a:pathLst>
                <a:path w="1157" h="2548">
                  <a:moveTo>
                    <a:pt x="1042" y="811"/>
                  </a:moveTo>
                  <a:lnTo>
                    <a:pt x="1042" y="926"/>
                  </a:lnTo>
                  <a:lnTo>
                    <a:pt x="1157" y="1158"/>
                  </a:lnTo>
                  <a:lnTo>
                    <a:pt x="1157" y="1274"/>
                  </a:lnTo>
                  <a:lnTo>
                    <a:pt x="1157" y="1505"/>
                  </a:lnTo>
                  <a:lnTo>
                    <a:pt x="1157" y="1621"/>
                  </a:lnTo>
                  <a:lnTo>
                    <a:pt x="1157" y="1853"/>
                  </a:lnTo>
                  <a:lnTo>
                    <a:pt x="1157" y="1969"/>
                  </a:lnTo>
                  <a:lnTo>
                    <a:pt x="1042" y="2200"/>
                  </a:lnTo>
                  <a:lnTo>
                    <a:pt x="1042" y="2200"/>
                  </a:lnTo>
                  <a:lnTo>
                    <a:pt x="695" y="2548"/>
                  </a:lnTo>
                  <a:lnTo>
                    <a:pt x="695" y="2548"/>
                  </a:lnTo>
                  <a:lnTo>
                    <a:pt x="695" y="2200"/>
                  </a:lnTo>
                  <a:lnTo>
                    <a:pt x="695" y="1969"/>
                  </a:lnTo>
                  <a:lnTo>
                    <a:pt x="810" y="1621"/>
                  </a:lnTo>
                  <a:lnTo>
                    <a:pt x="810" y="1274"/>
                  </a:lnTo>
                  <a:lnTo>
                    <a:pt x="810" y="1042"/>
                  </a:lnTo>
                  <a:lnTo>
                    <a:pt x="695" y="811"/>
                  </a:lnTo>
                  <a:lnTo>
                    <a:pt x="463" y="579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810" y="347"/>
                  </a:lnTo>
                  <a:lnTo>
                    <a:pt x="926" y="463"/>
                  </a:lnTo>
                  <a:lnTo>
                    <a:pt x="926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1832760" y="3137760"/>
              <a:ext cx="41040" cy="130320"/>
            </a:xfrm>
            <a:custGeom>
              <a:avLst/>
              <a:gdLst/>
              <a:ahLst/>
              <a:rect l="l" t="t" r="r" b="b"/>
              <a:pathLst>
                <a:path w="1157" h="2432">
                  <a:moveTo>
                    <a:pt x="1157" y="926"/>
                  </a:moveTo>
                  <a:lnTo>
                    <a:pt x="1157" y="1158"/>
                  </a:lnTo>
                  <a:lnTo>
                    <a:pt x="1157" y="1389"/>
                  </a:lnTo>
                  <a:lnTo>
                    <a:pt x="1157" y="1505"/>
                  </a:lnTo>
                  <a:lnTo>
                    <a:pt x="1157" y="1737"/>
                  </a:lnTo>
                  <a:lnTo>
                    <a:pt x="1042" y="1968"/>
                  </a:lnTo>
                  <a:lnTo>
                    <a:pt x="926" y="2200"/>
                  </a:lnTo>
                  <a:lnTo>
                    <a:pt x="810" y="2316"/>
                  </a:lnTo>
                  <a:lnTo>
                    <a:pt x="579" y="2432"/>
                  </a:lnTo>
                  <a:lnTo>
                    <a:pt x="579" y="2432"/>
                  </a:lnTo>
                  <a:lnTo>
                    <a:pt x="694" y="2316"/>
                  </a:lnTo>
                  <a:lnTo>
                    <a:pt x="694" y="2200"/>
                  </a:lnTo>
                  <a:lnTo>
                    <a:pt x="694" y="1968"/>
                  </a:lnTo>
                  <a:lnTo>
                    <a:pt x="810" y="1853"/>
                  </a:lnTo>
                  <a:lnTo>
                    <a:pt x="810" y="1621"/>
                  </a:lnTo>
                  <a:lnTo>
                    <a:pt x="926" y="1389"/>
                  </a:lnTo>
                  <a:lnTo>
                    <a:pt x="926" y="1273"/>
                  </a:lnTo>
                  <a:lnTo>
                    <a:pt x="810" y="1042"/>
                  </a:lnTo>
                  <a:lnTo>
                    <a:pt x="810" y="1042"/>
                  </a:lnTo>
                  <a:lnTo>
                    <a:pt x="810" y="926"/>
                  </a:lnTo>
                  <a:lnTo>
                    <a:pt x="694" y="810"/>
                  </a:lnTo>
                  <a:lnTo>
                    <a:pt x="463" y="694"/>
                  </a:lnTo>
                  <a:lnTo>
                    <a:pt x="347" y="579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23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7" y="0"/>
                  </a:lnTo>
                  <a:lnTo>
                    <a:pt x="579" y="115"/>
                  </a:lnTo>
                  <a:lnTo>
                    <a:pt x="694" y="231"/>
                  </a:lnTo>
                  <a:lnTo>
                    <a:pt x="810" y="347"/>
                  </a:lnTo>
                  <a:lnTo>
                    <a:pt x="926" y="579"/>
                  </a:lnTo>
                  <a:lnTo>
                    <a:pt x="1042" y="810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1890720" y="3156480"/>
              <a:ext cx="28800" cy="111600"/>
            </a:xfrm>
            <a:custGeom>
              <a:avLst/>
              <a:gdLst/>
              <a:ahLst/>
              <a:rect l="l" t="t" r="r" b="b"/>
              <a:pathLst>
                <a:path w="810" h="2085">
                  <a:moveTo>
                    <a:pt x="810" y="579"/>
                  </a:moveTo>
                  <a:lnTo>
                    <a:pt x="810" y="811"/>
                  </a:lnTo>
                  <a:lnTo>
                    <a:pt x="810" y="1042"/>
                  </a:lnTo>
                  <a:lnTo>
                    <a:pt x="810" y="1158"/>
                  </a:lnTo>
                  <a:lnTo>
                    <a:pt x="810" y="1390"/>
                  </a:lnTo>
                  <a:lnTo>
                    <a:pt x="695" y="1621"/>
                  </a:lnTo>
                  <a:lnTo>
                    <a:pt x="695" y="1737"/>
                  </a:lnTo>
                  <a:lnTo>
                    <a:pt x="579" y="1969"/>
                  </a:lnTo>
                  <a:lnTo>
                    <a:pt x="347" y="2085"/>
                  </a:lnTo>
                  <a:lnTo>
                    <a:pt x="347" y="2085"/>
                  </a:lnTo>
                  <a:lnTo>
                    <a:pt x="463" y="1969"/>
                  </a:lnTo>
                  <a:lnTo>
                    <a:pt x="463" y="1737"/>
                  </a:lnTo>
                  <a:lnTo>
                    <a:pt x="579" y="1506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1"/>
                  </a:lnTo>
                  <a:lnTo>
                    <a:pt x="579" y="579"/>
                  </a:lnTo>
                  <a:lnTo>
                    <a:pt x="347" y="347"/>
                  </a:lnTo>
                  <a:lnTo>
                    <a:pt x="347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2" y="0"/>
                  </a:lnTo>
                  <a:lnTo>
                    <a:pt x="347" y="0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695" y="347"/>
                  </a:lnTo>
                  <a:lnTo>
                    <a:pt x="695" y="463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1932120" y="3169080"/>
              <a:ext cx="37080" cy="118080"/>
            </a:xfrm>
            <a:custGeom>
              <a:avLst/>
              <a:gdLst/>
              <a:ahLst/>
              <a:rect l="l" t="t" r="r" b="b"/>
              <a:pathLst>
                <a:path w="1042" h="2200">
                  <a:moveTo>
                    <a:pt x="1042" y="694"/>
                  </a:moveTo>
                  <a:lnTo>
                    <a:pt x="1042" y="926"/>
                  </a:lnTo>
                  <a:lnTo>
                    <a:pt x="1042" y="1042"/>
                  </a:lnTo>
                  <a:lnTo>
                    <a:pt x="1042" y="1274"/>
                  </a:lnTo>
                  <a:lnTo>
                    <a:pt x="926" y="1505"/>
                  </a:lnTo>
                  <a:lnTo>
                    <a:pt x="926" y="1737"/>
                  </a:lnTo>
                  <a:lnTo>
                    <a:pt x="811" y="1853"/>
                  </a:lnTo>
                  <a:lnTo>
                    <a:pt x="579" y="2084"/>
                  </a:lnTo>
                  <a:lnTo>
                    <a:pt x="463" y="2200"/>
                  </a:lnTo>
                  <a:lnTo>
                    <a:pt x="463" y="2200"/>
                  </a:lnTo>
                  <a:lnTo>
                    <a:pt x="116" y="2200"/>
                  </a:lnTo>
                  <a:lnTo>
                    <a:pt x="116" y="2200"/>
                  </a:lnTo>
                  <a:lnTo>
                    <a:pt x="232" y="1968"/>
                  </a:lnTo>
                  <a:lnTo>
                    <a:pt x="348" y="1737"/>
                  </a:lnTo>
                  <a:lnTo>
                    <a:pt x="463" y="1621"/>
                  </a:lnTo>
                  <a:lnTo>
                    <a:pt x="463" y="1389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0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8" y="0"/>
                  </a:lnTo>
                  <a:lnTo>
                    <a:pt x="463" y="0"/>
                  </a:lnTo>
                  <a:lnTo>
                    <a:pt x="579" y="115"/>
                  </a:lnTo>
                  <a:lnTo>
                    <a:pt x="811" y="231"/>
                  </a:lnTo>
                  <a:lnTo>
                    <a:pt x="926" y="347"/>
                  </a:lnTo>
                  <a:lnTo>
                    <a:pt x="1042" y="579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1340280" y="3312000"/>
              <a:ext cx="223200" cy="397800"/>
            </a:xfrm>
            <a:custGeom>
              <a:avLst/>
              <a:gdLst/>
              <a:ahLst/>
              <a:rect l="l" t="t" r="r" b="b"/>
              <a:pathLst>
                <a:path w="6249" h="7412">
                  <a:moveTo>
                    <a:pt x="5439" y="1969"/>
                  </a:moveTo>
                  <a:lnTo>
                    <a:pt x="5439" y="2085"/>
                  </a:lnTo>
                  <a:lnTo>
                    <a:pt x="5555" y="2085"/>
                  </a:lnTo>
                  <a:lnTo>
                    <a:pt x="5555" y="2085"/>
                  </a:lnTo>
                  <a:lnTo>
                    <a:pt x="5671" y="2085"/>
                  </a:lnTo>
                  <a:lnTo>
                    <a:pt x="5671" y="2085"/>
                  </a:lnTo>
                  <a:lnTo>
                    <a:pt x="5786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853"/>
                  </a:lnTo>
                  <a:lnTo>
                    <a:pt x="6018" y="1853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249" y="1737"/>
                  </a:lnTo>
                  <a:lnTo>
                    <a:pt x="6249" y="1737"/>
                  </a:lnTo>
                  <a:lnTo>
                    <a:pt x="6249" y="1853"/>
                  </a:lnTo>
                  <a:lnTo>
                    <a:pt x="6249" y="1969"/>
                  </a:lnTo>
                  <a:lnTo>
                    <a:pt x="6249" y="2085"/>
                  </a:lnTo>
                  <a:lnTo>
                    <a:pt x="6134" y="2201"/>
                  </a:lnTo>
                  <a:lnTo>
                    <a:pt x="6018" y="2316"/>
                  </a:lnTo>
                  <a:lnTo>
                    <a:pt x="5902" y="2432"/>
                  </a:lnTo>
                  <a:lnTo>
                    <a:pt x="5786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3127"/>
                  </a:lnTo>
                  <a:lnTo>
                    <a:pt x="5555" y="3822"/>
                  </a:lnTo>
                  <a:lnTo>
                    <a:pt x="5555" y="4401"/>
                  </a:lnTo>
                  <a:lnTo>
                    <a:pt x="5323" y="4980"/>
                  </a:lnTo>
                  <a:lnTo>
                    <a:pt x="5208" y="5675"/>
                  </a:lnTo>
                  <a:lnTo>
                    <a:pt x="4861" y="6138"/>
                  </a:lnTo>
                  <a:lnTo>
                    <a:pt x="4398" y="6601"/>
                  </a:lnTo>
                  <a:lnTo>
                    <a:pt x="3935" y="7065"/>
                  </a:lnTo>
                  <a:lnTo>
                    <a:pt x="3935" y="7065"/>
                  </a:lnTo>
                  <a:lnTo>
                    <a:pt x="3703" y="7180"/>
                  </a:lnTo>
                  <a:lnTo>
                    <a:pt x="3356" y="7296"/>
                  </a:lnTo>
                  <a:lnTo>
                    <a:pt x="3125" y="7412"/>
                  </a:lnTo>
                  <a:lnTo>
                    <a:pt x="2893" y="7412"/>
                  </a:lnTo>
                  <a:lnTo>
                    <a:pt x="2546" y="7412"/>
                  </a:lnTo>
                  <a:lnTo>
                    <a:pt x="2199" y="7412"/>
                  </a:lnTo>
                  <a:lnTo>
                    <a:pt x="1967" y="7296"/>
                  </a:lnTo>
                  <a:lnTo>
                    <a:pt x="1620" y="7296"/>
                  </a:lnTo>
                  <a:lnTo>
                    <a:pt x="1620" y="7296"/>
                  </a:lnTo>
                  <a:lnTo>
                    <a:pt x="1389" y="7180"/>
                  </a:lnTo>
                  <a:lnTo>
                    <a:pt x="1157" y="7065"/>
                  </a:lnTo>
                  <a:lnTo>
                    <a:pt x="926" y="6949"/>
                  </a:lnTo>
                  <a:lnTo>
                    <a:pt x="694" y="6717"/>
                  </a:lnTo>
                  <a:lnTo>
                    <a:pt x="578" y="6601"/>
                  </a:lnTo>
                  <a:lnTo>
                    <a:pt x="347" y="6370"/>
                  </a:lnTo>
                  <a:lnTo>
                    <a:pt x="231" y="6138"/>
                  </a:lnTo>
                  <a:lnTo>
                    <a:pt x="116" y="5907"/>
                  </a:lnTo>
                  <a:lnTo>
                    <a:pt x="116" y="5907"/>
                  </a:lnTo>
                  <a:lnTo>
                    <a:pt x="0" y="5559"/>
                  </a:lnTo>
                  <a:lnTo>
                    <a:pt x="0" y="5096"/>
                  </a:lnTo>
                  <a:lnTo>
                    <a:pt x="0" y="4748"/>
                  </a:lnTo>
                  <a:lnTo>
                    <a:pt x="0" y="4285"/>
                  </a:lnTo>
                  <a:lnTo>
                    <a:pt x="0" y="3938"/>
                  </a:lnTo>
                  <a:lnTo>
                    <a:pt x="116" y="3590"/>
                  </a:lnTo>
                  <a:lnTo>
                    <a:pt x="347" y="3243"/>
                  </a:lnTo>
                  <a:lnTo>
                    <a:pt x="578" y="2895"/>
                  </a:lnTo>
                  <a:lnTo>
                    <a:pt x="578" y="2895"/>
                  </a:lnTo>
                  <a:lnTo>
                    <a:pt x="926" y="2432"/>
                  </a:lnTo>
                  <a:lnTo>
                    <a:pt x="1273" y="2085"/>
                  </a:lnTo>
                  <a:lnTo>
                    <a:pt x="1736" y="1853"/>
                  </a:lnTo>
                  <a:lnTo>
                    <a:pt x="2083" y="1622"/>
                  </a:lnTo>
                  <a:lnTo>
                    <a:pt x="2546" y="1390"/>
                  </a:lnTo>
                  <a:lnTo>
                    <a:pt x="3009" y="1274"/>
                  </a:lnTo>
                  <a:lnTo>
                    <a:pt x="3587" y="1158"/>
                  </a:lnTo>
                  <a:lnTo>
                    <a:pt x="4050" y="1158"/>
                  </a:lnTo>
                  <a:lnTo>
                    <a:pt x="4050" y="1158"/>
                  </a:lnTo>
                  <a:lnTo>
                    <a:pt x="3587" y="927"/>
                  </a:lnTo>
                  <a:lnTo>
                    <a:pt x="3240" y="811"/>
                  </a:lnTo>
                  <a:lnTo>
                    <a:pt x="2777" y="579"/>
                  </a:lnTo>
                  <a:lnTo>
                    <a:pt x="2314" y="463"/>
                  </a:lnTo>
                  <a:lnTo>
                    <a:pt x="1851" y="463"/>
                  </a:lnTo>
                  <a:lnTo>
                    <a:pt x="1389" y="463"/>
                  </a:lnTo>
                  <a:lnTo>
                    <a:pt x="926" y="579"/>
                  </a:lnTo>
                  <a:lnTo>
                    <a:pt x="578" y="695"/>
                  </a:lnTo>
                  <a:lnTo>
                    <a:pt x="578" y="695"/>
                  </a:lnTo>
                  <a:lnTo>
                    <a:pt x="578" y="463"/>
                  </a:lnTo>
                  <a:lnTo>
                    <a:pt x="694" y="348"/>
                  </a:lnTo>
                  <a:lnTo>
                    <a:pt x="926" y="232"/>
                  </a:lnTo>
                  <a:lnTo>
                    <a:pt x="1041" y="116"/>
                  </a:lnTo>
                  <a:lnTo>
                    <a:pt x="1273" y="116"/>
                  </a:lnTo>
                  <a:lnTo>
                    <a:pt x="1504" y="0"/>
                  </a:lnTo>
                  <a:lnTo>
                    <a:pt x="1620" y="0"/>
                  </a:lnTo>
                  <a:lnTo>
                    <a:pt x="1851" y="0"/>
                  </a:lnTo>
                  <a:lnTo>
                    <a:pt x="1851" y="0"/>
                  </a:lnTo>
                  <a:lnTo>
                    <a:pt x="2314" y="116"/>
                  </a:lnTo>
                  <a:lnTo>
                    <a:pt x="2777" y="232"/>
                  </a:lnTo>
                  <a:lnTo>
                    <a:pt x="3356" y="463"/>
                  </a:lnTo>
                  <a:lnTo>
                    <a:pt x="3819" y="579"/>
                  </a:lnTo>
                  <a:lnTo>
                    <a:pt x="4282" y="811"/>
                  </a:lnTo>
                  <a:lnTo>
                    <a:pt x="4745" y="1043"/>
                  </a:lnTo>
                  <a:lnTo>
                    <a:pt x="5092" y="1506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1572120" y="3367800"/>
              <a:ext cx="186120" cy="410040"/>
            </a:xfrm>
            <a:custGeom>
              <a:avLst/>
              <a:gdLst/>
              <a:ahLst/>
              <a:rect l="l" t="t" r="r" b="b"/>
              <a:pathLst>
                <a:path w="5208" h="7643">
                  <a:moveTo>
                    <a:pt x="4976" y="347"/>
                  </a:moveTo>
                  <a:lnTo>
                    <a:pt x="4976" y="347"/>
                  </a:lnTo>
                  <a:lnTo>
                    <a:pt x="4861" y="347"/>
                  </a:lnTo>
                  <a:lnTo>
                    <a:pt x="4745" y="347"/>
                  </a:lnTo>
                  <a:lnTo>
                    <a:pt x="4629" y="347"/>
                  </a:lnTo>
                  <a:lnTo>
                    <a:pt x="4513" y="347"/>
                  </a:lnTo>
                  <a:lnTo>
                    <a:pt x="4398" y="347"/>
                  </a:lnTo>
                  <a:lnTo>
                    <a:pt x="4282" y="231"/>
                  </a:lnTo>
                  <a:lnTo>
                    <a:pt x="4166" y="347"/>
                  </a:lnTo>
                  <a:lnTo>
                    <a:pt x="4166" y="347"/>
                  </a:lnTo>
                  <a:lnTo>
                    <a:pt x="4050" y="347"/>
                  </a:lnTo>
                  <a:lnTo>
                    <a:pt x="3819" y="463"/>
                  </a:lnTo>
                  <a:lnTo>
                    <a:pt x="3703" y="463"/>
                  </a:lnTo>
                  <a:lnTo>
                    <a:pt x="3472" y="579"/>
                  </a:lnTo>
                  <a:lnTo>
                    <a:pt x="3356" y="579"/>
                  </a:lnTo>
                  <a:lnTo>
                    <a:pt x="3240" y="694"/>
                  </a:lnTo>
                  <a:lnTo>
                    <a:pt x="3009" y="810"/>
                  </a:lnTo>
                  <a:lnTo>
                    <a:pt x="2893" y="926"/>
                  </a:lnTo>
                  <a:lnTo>
                    <a:pt x="2893" y="926"/>
                  </a:lnTo>
                  <a:lnTo>
                    <a:pt x="3240" y="926"/>
                  </a:lnTo>
                  <a:lnTo>
                    <a:pt x="3472" y="1042"/>
                  </a:lnTo>
                  <a:lnTo>
                    <a:pt x="3819" y="1158"/>
                  </a:lnTo>
                  <a:lnTo>
                    <a:pt x="4050" y="1273"/>
                  </a:lnTo>
                  <a:lnTo>
                    <a:pt x="4282" y="1389"/>
                  </a:lnTo>
                  <a:lnTo>
                    <a:pt x="4513" y="1621"/>
                  </a:lnTo>
                  <a:lnTo>
                    <a:pt x="4745" y="1852"/>
                  </a:lnTo>
                  <a:lnTo>
                    <a:pt x="4976" y="2084"/>
                  </a:lnTo>
                  <a:lnTo>
                    <a:pt x="4976" y="2084"/>
                  </a:lnTo>
                  <a:lnTo>
                    <a:pt x="5092" y="2663"/>
                  </a:lnTo>
                  <a:lnTo>
                    <a:pt x="5208" y="3242"/>
                  </a:lnTo>
                  <a:lnTo>
                    <a:pt x="5208" y="3821"/>
                  </a:lnTo>
                  <a:lnTo>
                    <a:pt x="5092" y="4400"/>
                  </a:lnTo>
                  <a:lnTo>
                    <a:pt x="4976" y="4979"/>
                  </a:lnTo>
                  <a:lnTo>
                    <a:pt x="4745" y="5558"/>
                  </a:lnTo>
                  <a:lnTo>
                    <a:pt x="4513" y="6137"/>
                  </a:lnTo>
                  <a:lnTo>
                    <a:pt x="4166" y="6601"/>
                  </a:lnTo>
                  <a:lnTo>
                    <a:pt x="4166" y="6601"/>
                  </a:lnTo>
                  <a:lnTo>
                    <a:pt x="3819" y="6948"/>
                  </a:lnTo>
                  <a:lnTo>
                    <a:pt x="3472" y="7180"/>
                  </a:lnTo>
                  <a:lnTo>
                    <a:pt x="3125" y="7411"/>
                  </a:lnTo>
                  <a:lnTo>
                    <a:pt x="2662" y="7527"/>
                  </a:lnTo>
                  <a:lnTo>
                    <a:pt x="2199" y="7643"/>
                  </a:lnTo>
                  <a:lnTo>
                    <a:pt x="1736" y="7643"/>
                  </a:lnTo>
                  <a:lnTo>
                    <a:pt x="1273" y="7643"/>
                  </a:lnTo>
                  <a:lnTo>
                    <a:pt x="810" y="7527"/>
                  </a:lnTo>
                  <a:lnTo>
                    <a:pt x="810" y="7527"/>
                  </a:lnTo>
                  <a:lnTo>
                    <a:pt x="463" y="7064"/>
                  </a:lnTo>
                  <a:lnTo>
                    <a:pt x="231" y="6485"/>
                  </a:lnTo>
                  <a:lnTo>
                    <a:pt x="0" y="5906"/>
                  </a:lnTo>
                  <a:lnTo>
                    <a:pt x="0" y="5211"/>
                  </a:lnTo>
                  <a:lnTo>
                    <a:pt x="116" y="4632"/>
                  </a:lnTo>
                  <a:lnTo>
                    <a:pt x="231" y="3937"/>
                  </a:lnTo>
                  <a:lnTo>
                    <a:pt x="347" y="3358"/>
                  </a:lnTo>
                  <a:lnTo>
                    <a:pt x="578" y="2779"/>
                  </a:lnTo>
                  <a:lnTo>
                    <a:pt x="578" y="2779"/>
                  </a:lnTo>
                  <a:lnTo>
                    <a:pt x="578" y="2547"/>
                  </a:lnTo>
                  <a:lnTo>
                    <a:pt x="694" y="2432"/>
                  </a:lnTo>
                  <a:lnTo>
                    <a:pt x="810" y="2316"/>
                  </a:lnTo>
                  <a:lnTo>
                    <a:pt x="810" y="2200"/>
                  </a:lnTo>
                  <a:lnTo>
                    <a:pt x="926" y="1968"/>
                  </a:lnTo>
                  <a:lnTo>
                    <a:pt x="1041" y="1852"/>
                  </a:lnTo>
                  <a:lnTo>
                    <a:pt x="1041" y="1737"/>
                  </a:lnTo>
                  <a:lnTo>
                    <a:pt x="1157" y="1621"/>
                  </a:lnTo>
                  <a:lnTo>
                    <a:pt x="1157" y="1621"/>
                  </a:lnTo>
                  <a:lnTo>
                    <a:pt x="1041" y="1505"/>
                  </a:lnTo>
                  <a:lnTo>
                    <a:pt x="926" y="1505"/>
                  </a:lnTo>
                  <a:lnTo>
                    <a:pt x="926" y="1389"/>
                  </a:lnTo>
                  <a:lnTo>
                    <a:pt x="810" y="1389"/>
                  </a:lnTo>
                  <a:lnTo>
                    <a:pt x="694" y="1389"/>
                  </a:lnTo>
                  <a:lnTo>
                    <a:pt x="694" y="1389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694" y="1158"/>
                  </a:lnTo>
                  <a:lnTo>
                    <a:pt x="810" y="1158"/>
                  </a:lnTo>
                  <a:lnTo>
                    <a:pt x="926" y="1158"/>
                  </a:lnTo>
                  <a:lnTo>
                    <a:pt x="1041" y="1158"/>
                  </a:lnTo>
                  <a:lnTo>
                    <a:pt x="1157" y="1158"/>
                  </a:lnTo>
                  <a:lnTo>
                    <a:pt x="1389" y="1158"/>
                  </a:lnTo>
                  <a:lnTo>
                    <a:pt x="1504" y="1158"/>
                  </a:lnTo>
                  <a:lnTo>
                    <a:pt x="1620" y="1158"/>
                  </a:lnTo>
                  <a:lnTo>
                    <a:pt x="1620" y="1158"/>
                  </a:lnTo>
                  <a:lnTo>
                    <a:pt x="1967" y="926"/>
                  </a:lnTo>
                  <a:lnTo>
                    <a:pt x="2430" y="694"/>
                  </a:lnTo>
                  <a:lnTo>
                    <a:pt x="2777" y="347"/>
                  </a:lnTo>
                  <a:lnTo>
                    <a:pt x="3240" y="115"/>
                  </a:lnTo>
                  <a:lnTo>
                    <a:pt x="3703" y="0"/>
                  </a:lnTo>
                  <a:lnTo>
                    <a:pt x="4166" y="0"/>
                  </a:lnTo>
                  <a:lnTo>
                    <a:pt x="4629" y="0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1352880" y="3399120"/>
              <a:ext cx="173520" cy="285840"/>
            </a:xfrm>
            <a:custGeom>
              <a:avLst/>
              <a:gdLst/>
              <a:ahLst/>
              <a:rect l="l" t="t" r="r" b="b"/>
              <a:pathLst>
                <a:path w="4861" h="5327">
                  <a:moveTo>
                    <a:pt x="4398" y="463"/>
                  </a:moveTo>
                  <a:lnTo>
                    <a:pt x="4629" y="926"/>
                  </a:lnTo>
                  <a:lnTo>
                    <a:pt x="4745" y="1389"/>
                  </a:lnTo>
                  <a:lnTo>
                    <a:pt x="4745" y="1968"/>
                  </a:lnTo>
                  <a:lnTo>
                    <a:pt x="4861" y="2432"/>
                  </a:lnTo>
                  <a:lnTo>
                    <a:pt x="4745" y="2895"/>
                  </a:lnTo>
                  <a:lnTo>
                    <a:pt x="4629" y="3474"/>
                  </a:lnTo>
                  <a:lnTo>
                    <a:pt x="4398" y="3937"/>
                  </a:lnTo>
                  <a:lnTo>
                    <a:pt x="4051" y="4285"/>
                  </a:lnTo>
                  <a:lnTo>
                    <a:pt x="4051" y="4285"/>
                  </a:lnTo>
                  <a:lnTo>
                    <a:pt x="3935" y="4516"/>
                  </a:lnTo>
                  <a:lnTo>
                    <a:pt x="3819" y="4632"/>
                  </a:lnTo>
                  <a:lnTo>
                    <a:pt x="3588" y="4864"/>
                  </a:lnTo>
                  <a:lnTo>
                    <a:pt x="3356" y="4979"/>
                  </a:lnTo>
                  <a:lnTo>
                    <a:pt x="3125" y="5095"/>
                  </a:lnTo>
                  <a:lnTo>
                    <a:pt x="3009" y="5211"/>
                  </a:lnTo>
                  <a:lnTo>
                    <a:pt x="2778" y="5327"/>
                  </a:lnTo>
                  <a:lnTo>
                    <a:pt x="2430" y="5327"/>
                  </a:lnTo>
                  <a:lnTo>
                    <a:pt x="2430" y="5327"/>
                  </a:lnTo>
                  <a:lnTo>
                    <a:pt x="2083" y="5327"/>
                  </a:lnTo>
                  <a:lnTo>
                    <a:pt x="1736" y="5211"/>
                  </a:lnTo>
                  <a:lnTo>
                    <a:pt x="1389" y="5211"/>
                  </a:lnTo>
                  <a:lnTo>
                    <a:pt x="1157" y="5095"/>
                  </a:lnTo>
                  <a:lnTo>
                    <a:pt x="810" y="4864"/>
                  </a:lnTo>
                  <a:lnTo>
                    <a:pt x="579" y="4748"/>
                  </a:lnTo>
                  <a:lnTo>
                    <a:pt x="347" y="4400"/>
                  </a:lnTo>
                  <a:lnTo>
                    <a:pt x="231" y="4053"/>
                  </a:lnTo>
                  <a:lnTo>
                    <a:pt x="231" y="4053"/>
                  </a:lnTo>
                  <a:lnTo>
                    <a:pt x="116" y="3590"/>
                  </a:lnTo>
                  <a:lnTo>
                    <a:pt x="0" y="3242"/>
                  </a:lnTo>
                  <a:lnTo>
                    <a:pt x="116" y="2779"/>
                  </a:lnTo>
                  <a:lnTo>
                    <a:pt x="231" y="2316"/>
                  </a:lnTo>
                  <a:lnTo>
                    <a:pt x="347" y="1853"/>
                  </a:lnTo>
                  <a:lnTo>
                    <a:pt x="579" y="1505"/>
                  </a:lnTo>
                  <a:lnTo>
                    <a:pt x="810" y="1158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504" y="579"/>
                  </a:lnTo>
                  <a:lnTo>
                    <a:pt x="1852" y="463"/>
                  </a:lnTo>
                  <a:lnTo>
                    <a:pt x="2199" y="347"/>
                  </a:lnTo>
                  <a:lnTo>
                    <a:pt x="2546" y="231"/>
                  </a:lnTo>
                  <a:lnTo>
                    <a:pt x="2893" y="115"/>
                  </a:lnTo>
                  <a:lnTo>
                    <a:pt x="3240" y="115"/>
                  </a:lnTo>
                  <a:lnTo>
                    <a:pt x="3703" y="115"/>
                  </a:lnTo>
                  <a:lnTo>
                    <a:pt x="4051" y="0"/>
                  </a:lnTo>
                  <a:lnTo>
                    <a:pt x="4051" y="0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1419120" y="3411360"/>
              <a:ext cx="86760" cy="124200"/>
            </a:xfrm>
            <a:custGeom>
              <a:avLst/>
              <a:gdLst/>
              <a:ahLst/>
              <a:rect l="l" t="t" r="r" b="b"/>
              <a:pathLst>
                <a:path w="2430" h="2316">
                  <a:moveTo>
                    <a:pt x="2314" y="579"/>
                  </a:moveTo>
                  <a:lnTo>
                    <a:pt x="2430" y="811"/>
                  </a:lnTo>
                  <a:lnTo>
                    <a:pt x="2430" y="1042"/>
                  </a:lnTo>
                  <a:lnTo>
                    <a:pt x="2430" y="1274"/>
                  </a:lnTo>
                  <a:lnTo>
                    <a:pt x="2314" y="1506"/>
                  </a:lnTo>
                  <a:lnTo>
                    <a:pt x="2199" y="1737"/>
                  </a:lnTo>
                  <a:lnTo>
                    <a:pt x="2083" y="1969"/>
                  </a:lnTo>
                  <a:lnTo>
                    <a:pt x="1851" y="2085"/>
                  </a:lnTo>
                  <a:lnTo>
                    <a:pt x="1620" y="2201"/>
                  </a:lnTo>
                  <a:lnTo>
                    <a:pt x="1620" y="2201"/>
                  </a:lnTo>
                  <a:lnTo>
                    <a:pt x="1504" y="2201"/>
                  </a:lnTo>
                  <a:lnTo>
                    <a:pt x="1388" y="2316"/>
                  </a:lnTo>
                  <a:lnTo>
                    <a:pt x="1157" y="2316"/>
                  </a:lnTo>
                  <a:lnTo>
                    <a:pt x="1041" y="2201"/>
                  </a:lnTo>
                  <a:lnTo>
                    <a:pt x="926" y="2201"/>
                  </a:lnTo>
                  <a:lnTo>
                    <a:pt x="810" y="2201"/>
                  </a:lnTo>
                  <a:lnTo>
                    <a:pt x="578" y="2085"/>
                  </a:lnTo>
                  <a:lnTo>
                    <a:pt x="463" y="2085"/>
                  </a:lnTo>
                  <a:lnTo>
                    <a:pt x="463" y="2085"/>
                  </a:lnTo>
                  <a:lnTo>
                    <a:pt x="347" y="1969"/>
                  </a:lnTo>
                  <a:lnTo>
                    <a:pt x="231" y="1737"/>
                  </a:lnTo>
                  <a:lnTo>
                    <a:pt x="115" y="1622"/>
                  </a:lnTo>
                  <a:lnTo>
                    <a:pt x="115" y="1390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578" y="232"/>
                  </a:lnTo>
                  <a:lnTo>
                    <a:pt x="810" y="116"/>
                  </a:lnTo>
                  <a:lnTo>
                    <a:pt x="1273" y="0"/>
                  </a:lnTo>
                  <a:lnTo>
                    <a:pt x="1620" y="0"/>
                  </a:lnTo>
                  <a:lnTo>
                    <a:pt x="1851" y="116"/>
                  </a:lnTo>
                  <a:lnTo>
                    <a:pt x="2199" y="232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1588680" y="3442320"/>
              <a:ext cx="153000" cy="310680"/>
            </a:xfrm>
            <a:custGeom>
              <a:avLst/>
              <a:gdLst/>
              <a:ahLst/>
              <a:rect l="l" t="t" r="r" b="b"/>
              <a:pathLst>
                <a:path w="4282" h="5791">
                  <a:moveTo>
                    <a:pt x="4166" y="927"/>
                  </a:moveTo>
                  <a:lnTo>
                    <a:pt x="4282" y="1506"/>
                  </a:lnTo>
                  <a:lnTo>
                    <a:pt x="4282" y="1969"/>
                  </a:lnTo>
                  <a:lnTo>
                    <a:pt x="4282" y="2432"/>
                  </a:lnTo>
                  <a:lnTo>
                    <a:pt x="4166" y="2895"/>
                  </a:lnTo>
                  <a:lnTo>
                    <a:pt x="4050" y="3359"/>
                  </a:lnTo>
                  <a:lnTo>
                    <a:pt x="3935" y="3822"/>
                  </a:lnTo>
                  <a:lnTo>
                    <a:pt x="3703" y="4285"/>
                  </a:lnTo>
                  <a:lnTo>
                    <a:pt x="3587" y="4633"/>
                  </a:lnTo>
                  <a:lnTo>
                    <a:pt x="3587" y="4633"/>
                  </a:lnTo>
                  <a:lnTo>
                    <a:pt x="3240" y="4980"/>
                  </a:lnTo>
                  <a:lnTo>
                    <a:pt x="3009" y="5327"/>
                  </a:lnTo>
                  <a:lnTo>
                    <a:pt x="2662" y="5443"/>
                  </a:lnTo>
                  <a:lnTo>
                    <a:pt x="2199" y="5675"/>
                  </a:lnTo>
                  <a:lnTo>
                    <a:pt x="1851" y="5791"/>
                  </a:lnTo>
                  <a:lnTo>
                    <a:pt x="1504" y="5791"/>
                  </a:lnTo>
                  <a:lnTo>
                    <a:pt x="1041" y="5791"/>
                  </a:lnTo>
                  <a:lnTo>
                    <a:pt x="578" y="5791"/>
                  </a:lnTo>
                  <a:lnTo>
                    <a:pt x="578" y="5791"/>
                  </a:lnTo>
                  <a:lnTo>
                    <a:pt x="231" y="5096"/>
                  </a:lnTo>
                  <a:lnTo>
                    <a:pt x="0" y="4401"/>
                  </a:lnTo>
                  <a:lnTo>
                    <a:pt x="0" y="3706"/>
                  </a:lnTo>
                  <a:lnTo>
                    <a:pt x="0" y="3011"/>
                  </a:lnTo>
                  <a:lnTo>
                    <a:pt x="231" y="2316"/>
                  </a:lnTo>
                  <a:lnTo>
                    <a:pt x="463" y="1622"/>
                  </a:lnTo>
                  <a:lnTo>
                    <a:pt x="810" y="927"/>
                  </a:lnTo>
                  <a:lnTo>
                    <a:pt x="1157" y="348"/>
                  </a:lnTo>
                  <a:lnTo>
                    <a:pt x="1157" y="348"/>
                  </a:lnTo>
                  <a:lnTo>
                    <a:pt x="1389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0"/>
                  </a:lnTo>
                  <a:lnTo>
                    <a:pt x="2314" y="0"/>
                  </a:lnTo>
                  <a:lnTo>
                    <a:pt x="2662" y="0"/>
                  </a:lnTo>
                  <a:lnTo>
                    <a:pt x="2893" y="116"/>
                  </a:lnTo>
                  <a:lnTo>
                    <a:pt x="3124" y="116"/>
                  </a:lnTo>
                  <a:lnTo>
                    <a:pt x="3124" y="116"/>
                  </a:lnTo>
                  <a:lnTo>
                    <a:pt x="3240" y="232"/>
                  </a:lnTo>
                  <a:lnTo>
                    <a:pt x="3472" y="232"/>
                  </a:lnTo>
                  <a:lnTo>
                    <a:pt x="3587" y="348"/>
                  </a:lnTo>
                  <a:lnTo>
                    <a:pt x="3703" y="463"/>
                  </a:lnTo>
                  <a:lnTo>
                    <a:pt x="3819" y="579"/>
                  </a:lnTo>
                  <a:lnTo>
                    <a:pt x="3935" y="695"/>
                  </a:lnTo>
                  <a:lnTo>
                    <a:pt x="4050" y="811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1460520" y="3454920"/>
              <a:ext cx="20520" cy="30960"/>
            </a:xfrm>
            <a:custGeom>
              <a:avLst/>
              <a:gdLst/>
              <a:ahLst/>
              <a:rect l="l" t="t" r="r" b="b"/>
              <a:pathLst>
                <a:path w="579" h="579">
                  <a:moveTo>
                    <a:pt x="463" y="579"/>
                  </a:moveTo>
                  <a:lnTo>
                    <a:pt x="463" y="579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116" y="347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116"/>
                  </a:lnTo>
                  <a:lnTo>
                    <a:pt x="579" y="116"/>
                  </a:lnTo>
                  <a:lnTo>
                    <a:pt x="579" y="231"/>
                  </a:lnTo>
                  <a:lnTo>
                    <a:pt x="579" y="347"/>
                  </a:lnTo>
                  <a:lnTo>
                    <a:pt x="579" y="463"/>
                  </a:lnTo>
                  <a:lnTo>
                    <a:pt x="579" y="463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1617840" y="3479760"/>
              <a:ext cx="65880" cy="99360"/>
            </a:xfrm>
            <a:custGeom>
              <a:avLst/>
              <a:gdLst/>
              <a:ahLst/>
              <a:rect l="l" t="t" r="r" b="b"/>
              <a:pathLst>
                <a:path w="1852" h="1853">
                  <a:moveTo>
                    <a:pt x="1852" y="579"/>
                  </a:moveTo>
                  <a:lnTo>
                    <a:pt x="1852" y="811"/>
                  </a:lnTo>
                  <a:lnTo>
                    <a:pt x="1852" y="927"/>
                  </a:lnTo>
                  <a:lnTo>
                    <a:pt x="1736" y="1158"/>
                  </a:lnTo>
                  <a:lnTo>
                    <a:pt x="1736" y="1390"/>
                  </a:lnTo>
                  <a:lnTo>
                    <a:pt x="1620" y="1506"/>
                  </a:lnTo>
                  <a:lnTo>
                    <a:pt x="1389" y="1621"/>
                  </a:lnTo>
                  <a:lnTo>
                    <a:pt x="1273" y="1737"/>
                  </a:lnTo>
                  <a:lnTo>
                    <a:pt x="1041" y="1853"/>
                  </a:lnTo>
                  <a:lnTo>
                    <a:pt x="1041" y="1853"/>
                  </a:lnTo>
                  <a:lnTo>
                    <a:pt x="926" y="1853"/>
                  </a:lnTo>
                  <a:lnTo>
                    <a:pt x="694" y="1853"/>
                  </a:lnTo>
                  <a:lnTo>
                    <a:pt x="579" y="1737"/>
                  </a:lnTo>
                  <a:lnTo>
                    <a:pt x="463" y="1737"/>
                  </a:lnTo>
                  <a:lnTo>
                    <a:pt x="347" y="1621"/>
                  </a:lnTo>
                  <a:lnTo>
                    <a:pt x="231" y="1506"/>
                  </a:lnTo>
                  <a:lnTo>
                    <a:pt x="116" y="1390"/>
                  </a:lnTo>
                  <a:lnTo>
                    <a:pt x="0" y="1274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927"/>
                  </a:lnTo>
                  <a:lnTo>
                    <a:pt x="0" y="811"/>
                  </a:lnTo>
                  <a:lnTo>
                    <a:pt x="0" y="695"/>
                  </a:lnTo>
                  <a:lnTo>
                    <a:pt x="0" y="463"/>
                  </a:lnTo>
                  <a:lnTo>
                    <a:pt x="116" y="348"/>
                  </a:lnTo>
                  <a:lnTo>
                    <a:pt x="116" y="232"/>
                  </a:lnTo>
                  <a:lnTo>
                    <a:pt x="231" y="116"/>
                  </a:lnTo>
                  <a:lnTo>
                    <a:pt x="231" y="116"/>
                  </a:lnTo>
                  <a:lnTo>
                    <a:pt x="463" y="0"/>
                  </a:lnTo>
                  <a:lnTo>
                    <a:pt x="694" y="0"/>
                  </a:lnTo>
                  <a:lnTo>
                    <a:pt x="926" y="0"/>
                  </a:lnTo>
                  <a:lnTo>
                    <a:pt x="1157" y="0"/>
                  </a:lnTo>
                  <a:lnTo>
                    <a:pt x="1389" y="0"/>
                  </a:lnTo>
                  <a:lnTo>
                    <a:pt x="1620" y="116"/>
                  </a:lnTo>
                  <a:lnTo>
                    <a:pt x="1736" y="348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1646640" y="3510720"/>
              <a:ext cx="20520" cy="37080"/>
            </a:xfrm>
            <a:custGeom>
              <a:avLst/>
              <a:gdLst/>
              <a:ahLst/>
              <a:rect l="l" t="t" r="r" b="b"/>
              <a:pathLst>
                <a:path w="579" h="695">
                  <a:moveTo>
                    <a:pt x="463" y="116"/>
                  </a:moveTo>
                  <a:lnTo>
                    <a:pt x="463" y="116"/>
                  </a:lnTo>
                  <a:lnTo>
                    <a:pt x="579" y="232"/>
                  </a:lnTo>
                  <a:lnTo>
                    <a:pt x="463" y="348"/>
                  </a:lnTo>
                  <a:lnTo>
                    <a:pt x="463" y="463"/>
                  </a:lnTo>
                  <a:lnTo>
                    <a:pt x="463" y="463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695"/>
                  </a:lnTo>
                  <a:lnTo>
                    <a:pt x="231" y="695"/>
                  </a:lnTo>
                  <a:lnTo>
                    <a:pt x="116" y="695"/>
                  </a:lnTo>
                  <a:lnTo>
                    <a:pt x="116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231" y="116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1220400" y="3784320"/>
              <a:ext cx="57600" cy="37080"/>
            </a:xfrm>
            <a:custGeom>
              <a:avLst/>
              <a:gdLst/>
              <a:ahLst/>
              <a:rect l="l" t="t" r="r" b="b"/>
              <a:pathLst>
                <a:path w="1620" h="695">
                  <a:moveTo>
                    <a:pt x="1620" y="116"/>
                  </a:moveTo>
                  <a:lnTo>
                    <a:pt x="1388" y="116"/>
                  </a:lnTo>
                  <a:lnTo>
                    <a:pt x="1157" y="116"/>
                  </a:lnTo>
                  <a:lnTo>
                    <a:pt x="1041" y="231"/>
                  </a:lnTo>
                  <a:lnTo>
                    <a:pt x="810" y="347"/>
                  </a:lnTo>
                  <a:lnTo>
                    <a:pt x="578" y="347"/>
                  </a:lnTo>
                  <a:lnTo>
                    <a:pt x="462" y="463"/>
                  </a:lnTo>
                  <a:lnTo>
                    <a:pt x="347" y="579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0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115" y="347"/>
                  </a:lnTo>
                  <a:lnTo>
                    <a:pt x="115" y="347"/>
                  </a:lnTo>
                  <a:lnTo>
                    <a:pt x="231" y="231"/>
                  </a:lnTo>
                  <a:lnTo>
                    <a:pt x="462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0"/>
                  </a:lnTo>
                  <a:lnTo>
                    <a:pt x="1157" y="0"/>
                  </a:lnTo>
                  <a:lnTo>
                    <a:pt x="1388" y="0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1207800" y="3827880"/>
              <a:ext cx="517320" cy="173880"/>
            </a:xfrm>
            <a:custGeom>
              <a:avLst/>
              <a:gdLst/>
              <a:ahLst/>
              <a:rect l="l" t="t" r="r" b="b"/>
              <a:pathLst>
                <a:path w="14467" h="3243">
                  <a:moveTo>
                    <a:pt x="3820" y="232"/>
                  </a:moveTo>
                  <a:lnTo>
                    <a:pt x="3704" y="232"/>
                  </a:lnTo>
                  <a:lnTo>
                    <a:pt x="3472" y="232"/>
                  </a:lnTo>
                  <a:lnTo>
                    <a:pt x="3357" y="232"/>
                  </a:lnTo>
                  <a:lnTo>
                    <a:pt x="3125" y="232"/>
                  </a:lnTo>
                  <a:lnTo>
                    <a:pt x="3009" y="348"/>
                  </a:lnTo>
                  <a:lnTo>
                    <a:pt x="2778" y="348"/>
                  </a:lnTo>
                  <a:lnTo>
                    <a:pt x="2662" y="348"/>
                  </a:lnTo>
                  <a:lnTo>
                    <a:pt x="2431" y="464"/>
                  </a:lnTo>
                  <a:lnTo>
                    <a:pt x="2431" y="464"/>
                  </a:lnTo>
                  <a:lnTo>
                    <a:pt x="2431" y="695"/>
                  </a:lnTo>
                  <a:lnTo>
                    <a:pt x="2431" y="695"/>
                  </a:lnTo>
                  <a:lnTo>
                    <a:pt x="2894" y="1159"/>
                  </a:lnTo>
                  <a:lnTo>
                    <a:pt x="3472" y="1622"/>
                  </a:lnTo>
                  <a:lnTo>
                    <a:pt x="4051" y="1853"/>
                  </a:lnTo>
                  <a:lnTo>
                    <a:pt x="4745" y="2085"/>
                  </a:lnTo>
                  <a:lnTo>
                    <a:pt x="5440" y="2201"/>
                  </a:lnTo>
                  <a:lnTo>
                    <a:pt x="6018" y="2432"/>
                  </a:lnTo>
                  <a:lnTo>
                    <a:pt x="6713" y="2548"/>
                  </a:lnTo>
                  <a:lnTo>
                    <a:pt x="7291" y="2780"/>
                  </a:lnTo>
                  <a:lnTo>
                    <a:pt x="7291" y="2780"/>
                  </a:lnTo>
                  <a:lnTo>
                    <a:pt x="7639" y="2780"/>
                  </a:lnTo>
                  <a:lnTo>
                    <a:pt x="7986" y="2780"/>
                  </a:lnTo>
                  <a:lnTo>
                    <a:pt x="8333" y="2780"/>
                  </a:lnTo>
                  <a:lnTo>
                    <a:pt x="8680" y="2664"/>
                  </a:lnTo>
                  <a:lnTo>
                    <a:pt x="9027" y="2664"/>
                  </a:lnTo>
                  <a:lnTo>
                    <a:pt x="9375" y="2548"/>
                  </a:lnTo>
                  <a:lnTo>
                    <a:pt x="9722" y="2432"/>
                  </a:lnTo>
                  <a:lnTo>
                    <a:pt x="10069" y="2317"/>
                  </a:lnTo>
                  <a:lnTo>
                    <a:pt x="10069" y="2317"/>
                  </a:lnTo>
                  <a:lnTo>
                    <a:pt x="10185" y="2317"/>
                  </a:lnTo>
                  <a:lnTo>
                    <a:pt x="10185" y="2317"/>
                  </a:lnTo>
                  <a:lnTo>
                    <a:pt x="10301" y="2317"/>
                  </a:lnTo>
                  <a:lnTo>
                    <a:pt x="10416" y="2317"/>
                  </a:lnTo>
                  <a:lnTo>
                    <a:pt x="10532" y="2317"/>
                  </a:lnTo>
                  <a:lnTo>
                    <a:pt x="10648" y="2201"/>
                  </a:lnTo>
                  <a:lnTo>
                    <a:pt x="10763" y="2201"/>
                  </a:lnTo>
                  <a:lnTo>
                    <a:pt x="10763" y="2085"/>
                  </a:lnTo>
                  <a:lnTo>
                    <a:pt x="10763" y="2085"/>
                  </a:lnTo>
                  <a:lnTo>
                    <a:pt x="10879" y="2201"/>
                  </a:lnTo>
                  <a:lnTo>
                    <a:pt x="10879" y="2201"/>
                  </a:lnTo>
                  <a:lnTo>
                    <a:pt x="11226" y="1969"/>
                  </a:lnTo>
                  <a:lnTo>
                    <a:pt x="11574" y="1853"/>
                  </a:lnTo>
                  <a:lnTo>
                    <a:pt x="11921" y="1738"/>
                  </a:lnTo>
                  <a:lnTo>
                    <a:pt x="12268" y="1622"/>
                  </a:lnTo>
                  <a:lnTo>
                    <a:pt x="12615" y="1506"/>
                  </a:lnTo>
                  <a:lnTo>
                    <a:pt x="12962" y="1506"/>
                  </a:lnTo>
                  <a:lnTo>
                    <a:pt x="13310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888" y="1390"/>
                  </a:lnTo>
                  <a:lnTo>
                    <a:pt x="14004" y="1390"/>
                  </a:lnTo>
                  <a:lnTo>
                    <a:pt x="14120" y="1274"/>
                  </a:lnTo>
                  <a:lnTo>
                    <a:pt x="14120" y="1159"/>
                  </a:lnTo>
                  <a:lnTo>
                    <a:pt x="14235" y="1159"/>
                  </a:lnTo>
                  <a:lnTo>
                    <a:pt x="14351" y="1159"/>
                  </a:lnTo>
                  <a:lnTo>
                    <a:pt x="14467" y="1159"/>
                  </a:lnTo>
                  <a:lnTo>
                    <a:pt x="14467" y="1159"/>
                  </a:lnTo>
                  <a:lnTo>
                    <a:pt x="14467" y="1274"/>
                  </a:lnTo>
                  <a:lnTo>
                    <a:pt x="14351" y="1390"/>
                  </a:lnTo>
                  <a:lnTo>
                    <a:pt x="14351" y="1506"/>
                  </a:lnTo>
                  <a:lnTo>
                    <a:pt x="14235" y="1622"/>
                  </a:lnTo>
                  <a:lnTo>
                    <a:pt x="14120" y="1738"/>
                  </a:lnTo>
                  <a:lnTo>
                    <a:pt x="14004" y="1853"/>
                  </a:lnTo>
                  <a:lnTo>
                    <a:pt x="13888" y="1853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2962" y="1969"/>
                  </a:lnTo>
                  <a:lnTo>
                    <a:pt x="12152" y="2085"/>
                  </a:lnTo>
                  <a:lnTo>
                    <a:pt x="11458" y="2317"/>
                  </a:lnTo>
                  <a:lnTo>
                    <a:pt x="10648" y="2548"/>
                  </a:lnTo>
                  <a:lnTo>
                    <a:pt x="9953" y="2780"/>
                  </a:lnTo>
                  <a:lnTo>
                    <a:pt x="9143" y="3011"/>
                  </a:lnTo>
                  <a:lnTo>
                    <a:pt x="8333" y="3127"/>
                  </a:lnTo>
                  <a:lnTo>
                    <a:pt x="7523" y="3243"/>
                  </a:lnTo>
                  <a:lnTo>
                    <a:pt x="7523" y="3243"/>
                  </a:lnTo>
                  <a:lnTo>
                    <a:pt x="6713" y="3011"/>
                  </a:lnTo>
                  <a:lnTo>
                    <a:pt x="6018" y="2896"/>
                  </a:lnTo>
                  <a:lnTo>
                    <a:pt x="5208" y="2664"/>
                  </a:lnTo>
                  <a:lnTo>
                    <a:pt x="4514" y="2432"/>
                  </a:lnTo>
                  <a:lnTo>
                    <a:pt x="3704" y="2201"/>
                  </a:lnTo>
                  <a:lnTo>
                    <a:pt x="3125" y="1738"/>
                  </a:lnTo>
                  <a:lnTo>
                    <a:pt x="2431" y="1274"/>
                  </a:lnTo>
                  <a:lnTo>
                    <a:pt x="1968" y="695"/>
                  </a:lnTo>
                  <a:lnTo>
                    <a:pt x="1968" y="695"/>
                  </a:lnTo>
                  <a:lnTo>
                    <a:pt x="1736" y="811"/>
                  </a:lnTo>
                  <a:lnTo>
                    <a:pt x="1505" y="927"/>
                  </a:lnTo>
                  <a:lnTo>
                    <a:pt x="1273" y="1043"/>
                  </a:lnTo>
                  <a:lnTo>
                    <a:pt x="1042" y="1159"/>
                  </a:lnTo>
                  <a:lnTo>
                    <a:pt x="810" y="1274"/>
                  </a:lnTo>
                  <a:lnTo>
                    <a:pt x="579" y="1506"/>
                  </a:lnTo>
                  <a:lnTo>
                    <a:pt x="463" y="1622"/>
                  </a:lnTo>
                  <a:lnTo>
                    <a:pt x="348" y="1853"/>
                  </a:lnTo>
                  <a:lnTo>
                    <a:pt x="348" y="1853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116" y="1390"/>
                  </a:lnTo>
                  <a:lnTo>
                    <a:pt x="348" y="1159"/>
                  </a:lnTo>
                  <a:lnTo>
                    <a:pt x="463" y="927"/>
                  </a:lnTo>
                  <a:lnTo>
                    <a:pt x="810" y="811"/>
                  </a:lnTo>
                  <a:lnTo>
                    <a:pt x="1042" y="695"/>
                  </a:lnTo>
                  <a:lnTo>
                    <a:pt x="1273" y="579"/>
                  </a:lnTo>
                  <a:lnTo>
                    <a:pt x="1621" y="348"/>
                  </a:lnTo>
                  <a:lnTo>
                    <a:pt x="1852" y="232"/>
                  </a:lnTo>
                  <a:lnTo>
                    <a:pt x="1852" y="232"/>
                  </a:lnTo>
                  <a:lnTo>
                    <a:pt x="2084" y="116"/>
                  </a:lnTo>
                  <a:lnTo>
                    <a:pt x="2315" y="116"/>
                  </a:lnTo>
                  <a:lnTo>
                    <a:pt x="2546" y="0"/>
                  </a:lnTo>
                  <a:lnTo>
                    <a:pt x="2778" y="0"/>
                  </a:lnTo>
                  <a:lnTo>
                    <a:pt x="3125" y="0"/>
                  </a:lnTo>
                  <a:lnTo>
                    <a:pt x="3357" y="116"/>
                  </a:lnTo>
                  <a:lnTo>
                    <a:pt x="3588" y="116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2213640" y="3927600"/>
              <a:ext cx="343440" cy="298440"/>
            </a:xfrm>
            <a:custGeom>
              <a:avLst/>
              <a:gdLst/>
              <a:ahLst/>
              <a:rect l="l" t="t" r="r" b="b"/>
              <a:pathLst>
                <a:path w="9606" h="5559">
                  <a:moveTo>
                    <a:pt x="9606" y="695"/>
                  </a:moveTo>
                  <a:lnTo>
                    <a:pt x="9606" y="811"/>
                  </a:lnTo>
                  <a:lnTo>
                    <a:pt x="9606" y="811"/>
                  </a:lnTo>
                  <a:lnTo>
                    <a:pt x="9490" y="811"/>
                  </a:lnTo>
                  <a:lnTo>
                    <a:pt x="9375" y="811"/>
                  </a:lnTo>
                  <a:lnTo>
                    <a:pt x="9259" y="811"/>
                  </a:lnTo>
                  <a:lnTo>
                    <a:pt x="9143" y="811"/>
                  </a:lnTo>
                  <a:lnTo>
                    <a:pt x="9027" y="811"/>
                  </a:lnTo>
                  <a:lnTo>
                    <a:pt x="8912" y="927"/>
                  </a:lnTo>
                  <a:lnTo>
                    <a:pt x="8796" y="927"/>
                  </a:lnTo>
                  <a:lnTo>
                    <a:pt x="8680" y="1043"/>
                  </a:lnTo>
                  <a:lnTo>
                    <a:pt x="8680" y="1043"/>
                  </a:lnTo>
                  <a:lnTo>
                    <a:pt x="8912" y="1158"/>
                  </a:lnTo>
                  <a:lnTo>
                    <a:pt x="8912" y="1158"/>
                  </a:lnTo>
                  <a:lnTo>
                    <a:pt x="8680" y="1158"/>
                  </a:lnTo>
                  <a:lnTo>
                    <a:pt x="8564" y="1274"/>
                  </a:lnTo>
                  <a:lnTo>
                    <a:pt x="8333" y="1274"/>
                  </a:lnTo>
                  <a:lnTo>
                    <a:pt x="8102" y="1274"/>
                  </a:lnTo>
                  <a:lnTo>
                    <a:pt x="7986" y="1390"/>
                  </a:lnTo>
                  <a:lnTo>
                    <a:pt x="7754" y="1390"/>
                  </a:lnTo>
                  <a:lnTo>
                    <a:pt x="7639" y="1506"/>
                  </a:lnTo>
                  <a:lnTo>
                    <a:pt x="7407" y="1622"/>
                  </a:lnTo>
                  <a:lnTo>
                    <a:pt x="7407" y="1622"/>
                  </a:lnTo>
                  <a:lnTo>
                    <a:pt x="7639" y="1622"/>
                  </a:lnTo>
                  <a:lnTo>
                    <a:pt x="7754" y="1622"/>
                  </a:lnTo>
                  <a:lnTo>
                    <a:pt x="7870" y="1738"/>
                  </a:lnTo>
                  <a:lnTo>
                    <a:pt x="7986" y="1738"/>
                  </a:lnTo>
                  <a:lnTo>
                    <a:pt x="8102" y="1738"/>
                  </a:lnTo>
                  <a:lnTo>
                    <a:pt x="8217" y="1853"/>
                  </a:lnTo>
                  <a:lnTo>
                    <a:pt x="8333" y="1853"/>
                  </a:lnTo>
                  <a:lnTo>
                    <a:pt x="8564" y="1853"/>
                  </a:lnTo>
                  <a:lnTo>
                    <a:pt x="8564" y="1853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680" y="2085"/>
                  </a:lnTo>
                  <a:lnTo>
                    <a:pt x="8680" y="2085"/>
                  </a:lnTo>
                  <a:lnTo>
                    <a:pt x="8796" y="1969"/>
                  </a:lnTo>
                  <a:lnTo>
                    <a:pt x="8796" y="1969"/>
                  </a:lnTo>
                  <a:lnTo>
                    <a:pt x="8912" y="1969"/>
                  </a:lnTo>
                  <a:lnTo>
                    <a:pt x="8912" y="1969"/>
                  </a:lnTo>
                  <a:lnTo>
                    <a:pt x="9027" y="1969"/>
                  </a:lnTo>
                  <a:lnTo>
                    <a:pt x="9027" y="1969"/>
                  </a:lnTo>
                  <a:lnTo>
                    <a:pt x="8796" y="2085"/>
                  </a:lnTo>
                  <a:lnTo>
                    <a:pt x="8680" y="2085"/>
                  </a:lnTo>
                  <a:lnTo>
                    <a:pt x="8449" y="2201"/>
                  </a:lnTo>
                  <a:lnTo>
                    <a:pt x="8333" y="2317"/>
                  </a:lnTo>
                  <a:lnTo>
                    <a:pt x="8102" y="2317"/>
                  </a:lnTo>
                  <a:lnTo>
                    <a:pt x="7986" y="2432"/>
                  </a:lnTo>
                  <a:lnTo>
                    <a:pt x="7754" y="2664"/>
                  </a:lnTo>
                  <a:lnTo>
                    <a:pt x="7639" y="2780"/>
                  </a:lnTo>
                  <a:lnTo>
                    <a:pt x="7639" y="2780"/>
                  </a:lnTo>
                  <a:lnTo>
                    <a:pt x="7870" y="2780"/>
                  </a:lnTo>
                  <a:lnTo>
                    <a:pt x="8102" y="2780"/>
                  </a:lnTo>
                  <a:lnTo>
                    <a:pt x="8333" y="2780"/>
                  </a:lnTo>
                  <a:lnTo>
                    <a:pt x="8564" y="2664"/>
                  </a:lnTo>
                  <a:lnTo>
                    <a:pt x="8796" y="2548"/>
                  </a:lnTo>
                  <a:lnTo>
                    <a:pt x="9027" y="2548"/>
                  </a:lnTo>
                  <a:lnTo>
                    <a:pt x="9259" y="2432"/>
                  </a:lnTo>
                  <a:lnTo>
                    <a:pt x="9490" y="2432"/>
                  </a:lnTo>
                  <a:lnTo>
                    <a:pt x="9490" y="2432"/>
                  </a:lnTo>
                  <a:lnTo>
                    <a:pt x="8564" y="2896"/>
                  </a:lnTo>
                  <a:lnTo>
                    <a:pt x="7754" y="3243"/>
                  </a:lnTo>
                  <a:lnTo>
                    <a:pt x="6828" y="3590"/>
                  </a:lnTo>
                  <a:lnTo>
                    <a:pt x="6018" y="3938"/>
                  </a:lnTo>
                  <a:lnTo>
                    <a:pt x="5092" y="4401"/>
                  </a:lnTo>
                  <a:lnTo>
                    <a:pt x="4282" y="4749"/>
                  </a:lnTo>
                  <a:lnTo>
                    <a:pt x="3357" y="5096"/>
                  </a:lnTo>
                  <a:lnTo>
                    <a:pt x="2546" y="5559"/>
                  </a:lnTo>
                  <a:lnTo>
                    <a:pt x="2546" y="5559"/>
                  </a:lnTo>
                  <a:lnTo>
                    <a:pt x="2431" y="5443"/>
                  </a:lnTo>
                  <a:lnTo>
                    <a:pt x="2199" y="5328"/>
                  </a:lnTo>
                  <a:lnTo>
                    <a:pt x="1968" y="5212"/>
                  </a:lnTo>
                  <a:lnTo>
                    <a:pt x="1736" y="5212"/>
                  </a:lnTo>
                  <a:lnTo>
                    <a:pt x="1505" y="5096"/>
                  </a:lnTo>
                  <a:lnTo>
                    <a:pt x="1389" y="4980"/>
                  </a:lnTo>
                  <a:lnTo>
                    <a:pt x="1273" y="4864"/>
                  </a:lnTo>
                  <a:lnTo>
                    <a:pt x="1273" y="4517"/>
                  </a:lnTo>
                  <a:lnTo>
                    <a:pt x="1273" y="4517"/>
                  </a:lnTo>
                  <a:lnTo>
                    <a:pt x="1389" y="4401"/>
                  </a:lnTo>
                  <a:lnTo>
                    <a:pt x="1505" y="4170"/>
                  </a:lnTo>
                  <a:lnTo>
                    <a:pt x="1621" y="4054"/>
                  </a:lnTo>
                  <a:lnTo>
                    <a:pt x="1852" y="3822"/>
                  </a:lnTo>
                  <a:lnTo>
                    <a:pt x="1968" y="3706"/>
                  </a:lnTo>
                  <a:lnTo>
                    <a:pt x="2083" y="3590"/>
                  </a:lnTo>
                  <a:lnTo>
                    <a:pt x="2199" y="3359"/>
                  </a:lnTo>
                  <a:lnTo>
                    <a:pt x="2315" y="3243"/>
                  </a:lnTo>
                  <a:lnTo>
                    <a:pt x="2315" y="3243"/>
                  </a:lnTo>
                  <a:lnTo>
                    <a:pt x="2083" y="3011"/>
                  </a:lnTo>
                  <a:lnTo>
                    <a:pt x="1621" y="2896"/>
                  </a:lnTo>
                  <a:lnTo>
                    <a:pt x="1273" y="2896"/>
                  </a:lnTo>
                  <a:lnTo>
                    <a:pt x="810" y="2896"/>
                  </a:lnTo>
                  <a:lnTo>
                    <a:pt x="347" y="2780"/>
                  </a:lnTo>
                  <a:lnTo>
                    <a:pt x="116" y="2664"/>
                  </a:lnTo>
                  <a:lnTo>
                    <a:pt x="0" y="2317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810" y="1274"/>
                  </a:lnTo>
                  <a:lnTo>
                    <a:pt x="1736" y="811"/>
                  </a:lnTo>
                  <a:lnTo>
                    <a:pt x="2662" y="464"/>
                  </a:lnTo>
                  <a:lnTo>
                    <a:pt x="3588" y="232"/>
                  </a:lnTo>
                  <a:lnTo>
                    <a:pt x="4630" y="0"/>
                  </a:lnTo>
                  <a:lnTo>
                    <a:pt x="5555" y="0"/>
                  </a:lnTo>
                  <a:lnTo>
                    <a:pt x="6597" y="116"/>
                  </a:lnTo>
                  <a:lnTo>
                    <a:pt x="7639" y="348"/>
                  </a:lnTo>
                  <a:lnTo>
                    <a:pt x="7639" y="348"/>
                  </a:lnTo>
                  <a:lnTo>
                    <a:pt x="7870" y="464"/>
                  </a:lnTo>
                  <a:lnTo>
                    <a:pt x="8102" y="464"/>
                  </a:lnTo>
                  <a:lnTo>
                    <a:pt x="8333" y="464"/>
                  </a:lnTo>
                  <a:lnTo>
                    <a:pt x="8564" y="464"/>
                  </a:lnTo>
                  <a:lnTo>
                    <a:pt x="8796" y="579"/>
                  </a:lnTo>
                  <a:lnTo>
                    <a:pt x="9143" y="579"/>
                  </a:lnTo>
                  <a:lnTo>
                    <a:pt x="9375" y="579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1042560" y="3964680"/>
              <a:ext cx="1208160" cy="466200"/>
            </a:xfrm>
            <a:custGeom>
              <a:avLst/>
              <a:gdLst/>
              <a:ahLst/>
              <a:rect l="l" t="t" r="r" b="b"/>
              <a:pathLst>
                <a:path w="33794" h="8686">
                  <a:moveTo>
                    <a:pt x="-31742" y="0"/>
                  </a:moveTo>
                  <a:lnTo>
                    <a:pt x="-31974" y="116"/>
                  </a:lnTo>
                  <a:lnTo>
                    <a:pt x="-32205" y="348"/>
                  </a:lnTo>
                  <a:lnTo>
                    <a:pt x="-32437" y="463"/>
                  </a:lnTo>
                  <a:lnTo>
                    <a:pt x="-32668" y="579"/>
                  </a:lnTo>
                  <a:lnTo>
                    <a:pt x="32637" y="811"/>
                  </a:lnTo>
                  <a:lnTo>
                    <a:pt x="32521" y="927"/>
                  </a:lnTo>
                  <a:lnTo>
                    <a:pt x="32289" y="1158"/>
                  </a:lnTo>
                  <a:lnTo>
                    <a:pt x="32174" y="1390"/>
                  </a:lnTo>
                  <a:lnTo>
                    <a:pt x="32174" y="1390"/>
                  </a:lnTo>
                  <a:lnTo>
                    <a:pt x="32289" y="1506"/>
                  </a:lnTo>
                  <a:lnTo>
                    <a:pt x="32289" y="1737"/>
                  </a:lnTo>
                  <a:lnTo>
                    <a:pt x="32405" y="1853"/>
                  </a:lnTo>
                  <a:lnTo>
                    <a:pt x="32405" y="1969"/>
                  </a:lnTo>
                  <a:lnTo>
                    <a:pt x="32521" y="2085"/>
                  </a:lnTo>
                  <a:lnTo>
                    <a:pt x="32637" y="2201"/>
                  </a:lnTo>
                  <a:lnTo>
                    <a:pt x="32752" y="2316"/>
                  </a:lnTo>
                  <a:lnTo>
                    <a:pt x="-32668" y="2432"/>
                  </a:lnTo>
                  <a:lnTo>
                    <a:pt x="-32668" y="2432"/>
                  </a:lnTo>
                  <a:lnTo>
                    <a:pt x="29628" y="3011"/>
                  </a:lnTo>
                  <a:lnTo>
                    <a:pt x="26271" y="3590"/>
                  </a:lnTo>
                  <a:lnTo>
                    <a:pt x="23031" y="4169"/>
                  </a:lnTo>
                  <a:lnTo>
                    <a:pt x="19790" y="4864"/>
                  </a:lnTo>
                  <a:lnTo>
                    <a:pt x="16550" y="5443"/>
                  </a:lnTo>
                  <a:lnTo>
                    <a:pt x="13309" y="6138"/>
                  </a:lnTo>
                  <a:lnTo>
                    <a:pt x="10069" y="6833"/>
                  </a:lnTo>
                  <a:lnTo>
                    <a:pt x="6713" y="7644"/>
                  </a:lnTo>
                  <a:lnTo>
                    <a:pt x="6713" y="7644"/>
                  </a:lnTo>
                  <a:lnTo>
                    <a:pt x="0" y="8686"/>
                  </a:lnTo>
                  <a:lnTo>
                    <a:pt x="0" y="8686"/>
                  </a:lnTo>
                  <a:lnTo>
                    <a:pt x="0" y="8454"/>
                  </a:lnTo>
                  <a:lnTo>
                    <a:pt x="0" y="8223"/>
                  </a:lnTo>
                  <a:lnTo>
                    <a:pt x="0" y="7991"/>
                  </a:lnTo>
                  <a:lnTo>
                    <a:pt x="0" y="7760"/>
                  </a:lnTo>
                  <a:lnTo>
                    <a:pt x="116" y="7528"/>
                  </a:lnTo>
                  <a:lnTo>
                    <a:pt x="116" y="7296"/>
                  </a:lnTo>
                  <a:lnTo>
                    <a:pt x="232" y="7065"/>
                  </a:lnTo>
                  <a:lnTo>
                    <a:pt x="232" y="6833"/>
                  </a:lnTo>
                  <a:lnTo>
                    <a:pt x="232" y="6833"/>
                  </a:lnTo>
                  <a:lnTo>
                    <a:pt x="694" y="6486"/>
                  </a:lnTo>
                  <a:lnTo>
                    <a:pt x="694" y="6486"/>
                  </a:lnTo>
                  <a:lnTo>
                    <a:pt x="2662" y="6138"/>
                  </a:lnTo>
                  <a:lnTo>
                    <a:pt x="4745" y="5791"/>
                  </a:lnTo>
                  <a:lnTo>
                    <a:pt x="6713" y="5327"/>
                  </a:lnTo>
                  <a:lnTo>
                    <a:pt x="8796" y="4980"/>
                  </a:lnTo>
                  <a:lnTo>
                    <a:pt x="10879" y="4633"/>
                  </a:lnTo>
                  <a:lnTo>
                    <a:pt x="12962" y="4169"/>
                  </a:lnTo>
                  <a:lnTo>
                    <a:pt x="14930" y="3706"/>
                  </a:lnTo>
                  <a:lnTo>
                    <a:pt x="17013" y="3243"/>
                  </a:lnTo>
                  <a:lnTo>
                    <a:pt x="17013" y="3243"/>
                  </a:lnTo>
                  <a:lnTo>
                    <a:pt x="30553" y="579"/>
                  </a:lnTo>
                  <a:lnTo>
                    <a:pt x="30553" y="579"/>
                  </a:lnTo>
                  <a:lnTo>
                    <a:pt x="31016" y="463"/>
                  </a:lnTo>
                  <a:lnTo>
                    <a:pt x="31363" y="463"/>
                  </a:lnTo>
                  <a:lnTo>
                    <a:pt x="31826" y="348"/>
                  </a:lnTo>
                  <a:lnTo>
                    <a:pt x="32174" y="232"/>
                  </a:lnTo>
                  <a:lnTo>
                    <a:pt x="32521" y="232"/>
                  </a:lnTo>
                  <a:lnTo>
                    <a:pt x="-32552" y="116"/>
                  </a:lnTo>
                  <a:lnTo>
                    <a:pt x="-32205" y="116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827280" y="4045680"/>
              <a:ext cx="169560" cy="204840"/>
            </a:xfrm>
            <a:custGeom>
              <a:avLst/>
              <a:gdLst/>
              <a:ahLst/>
              <a:rect l="l" t="t" r="r" b="b"/>
              <a:pathLst>
                <a:path w="4745" h="3821">
                  <a:moveTo>
                    <a:pt x="4745" y="695"/>
                  </a:moveTo>
                  <a:lnTo>
                    <a:pt x="4514" y="2895"/>
                  </a:lnTo>
                  <a:lnTo>
                    <a:pt x="4514" y="2895"/>
                  </a:lnTo>
                  <a:lnTo>
                    <a:pt x="4282" y="3011"/>
                  </a:lnTo>
                  <a:lnTo>
                    <a:pt x="4051" y="3242"/>
                  </a:lnTo>
                  <a:lnTo>
                    <a:pt x="3819" y="3474"/>
                  </a:lnTo>
                  <a:lnTo>
                    <a:pt x="3588" y="3590"/>
                  </a:lnTo>
                  <a:lnTo>
                    <a:pt x="3356" y="3706"/>
                  </a:lnTo>
                  <a:lnTo>
                    <a:pt x="3125" y="3821"/>
                  </a:lnTo>
                  <a:lnTo>
                    <a:pt x="2893" y="3706"/>
                  </a:lnTo>
                  <a:lnTo>
                    <a:pt x="2662" y="3358"/>
                  </a:lnTo>
                  <a:lnTo>
                    <a:pt x="2662" y="3358"/>
                  </a:lnTo>
                  <a:lnTo>
                    <a:pt x="2430" y="3358"/>
                  </a:lnTo>
                  <a:lnTo>
                    <a:pt x="2315" y="3358"/>
                  </a:lnTo>
                  <a:lnTo>
                    <a:pt x="2199" y="3474"/>
                  </a:lnTo>
                  <a:lnTo>
                    <a:pt x="1967" y="3474"/>
                  </a:lnTo>
                  <a:lnTo>
                    <a:pt x="1852" y="3590"/>
                  </a:lnTo>
                  <a:lnTo>
                    <a:pt x="1736" y="3706"/>
                  </a:lnTo>
                  <a:lnTo>
                    <a:pt x="1505" y="3706"/>
                  </a:lnTo>
                  <a:lnTo>
                    <a:pt x="1389" y="3821"/>
                  </a:lnTo>
                  <a:lnTo>
                    <a:pt x="1389" y="3821"/>
                  </a:lnTo>
                  <a:lnTo>
                    <a:pt x="1042" y="3474"/>
                  </a:lnTo>
                  <a:lnTo>
                    <a:pt x="810" y="3127"/>
                  </a:lnTo>
                  <a:lnTo>
                    <a:pt x="579" y="2663"/>
                  </a:lnTo>
                  <a:lnTo>
                    <a:pt x="463" y="2200"/>
                  </a:lnTo>
                  <a:lnTo>
                    <a:pt x="231" y="1853"/>
                  </a:lnTo>
                  <a:lnTo>
                    <a:pt x="116" y="1389"/>
                  </a:lnTo>
                  <a:lnTo>
                    <a:pt x="0" y="926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463" y="231"/>
                  </a:lnTo>
                  <a:lnTo>
                    <a:pt x="1157" y="0"/>
                  </a:lnTo>
                  <a:lnTo>
                    <a:pt x="1736" y="0"/>
                  </a:lnTo>
                  <a:lnTo>
                    <a:pt x="2430" y="0"/>
                  </a:lnTo>
                  <a:lnTo>
                    <a:pt x="3009" y="116"/>
                  </a:lnTo>
                  <a:lnTo>
                    <a:pt x="3703" y="231"/>
                  </a:lnTo>
                  <a:lnTo>
                    <a:pt x="4282" y="463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1001160" y="4089240"/>
              <a:ext cx="24480" cy="105480"/>
            </a:xfrm>
            <a:custGeom>
              <a:avLst/>
              <a:gdLst/>
              <a:ahLst/>
              <a:rect l="l" t="t" r="r" b="b"/>
              <a:pathLst>
                <a:path w="694" h="1969">
                  <a:moveTo>
                    <a:pt x="578" y="1969"/>
                  </a:moveTo>
                  <a:lnTo>
                    <a:pt x="463" y="1969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969"/>
                  </a:lnTo>
                  <a:lnTo>
                    <a:pt x="0" y="1969"/>
                  </a:lnTo>
                  <a:lnTo>
                    <a:pt x="0" y="1853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347" y="0"/>
                  </a:lnTo>
                  <a:lnTo>
                    <a:pt x="694" y="116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034280" y="4101480"/>
              <a:ext cx="28800" cy="105480"/>
            </a:xfrm>
            <a:custGeom>
              <a:avLst/>
              <a:gdLst/>
              <a:ahLst/>
              <a:rect l="l" t="t" r="r" b="b"/>
              <a:pathLst>
                <a:path w="810" h="1969">
                  <a:moveTo>
                    <a:pt x="694" y="232"/>
                  </a:moveTo>
                  <a:lnTo>
                    <a:pt x="810" y="463"/>
                  </a:lnTo>
                  <a:lnTo>
                    <a:pt x="694" y="579"/>
                  </a:lnTo>
                  <a:lnTo>
                    <a:pt x="694" y="695"/>
                  </a:lnTo>
                  <a:lnTo>
                    <a:pt x="694" y="927"/>
                  </a:lnTo>
                  <a:lnTo>
                    <a:pt x="694" y="1042"/>
                  </a:lnTo>
                  <a:lnTo>
                    <a:pt x="694" y="1274"/>
                  </a:lnTo>
                  <a:lnTo>
                    <a:pt x="694" y="1390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737"/>
                  </a:lnTo>
                  <a:lnTo>
                    <a:pt x="578" y="1737"/>
                  </a:lnTo>
                  <a:lnTo>
                    <a:pt x="463" y="1853"/>
                  </a:lnTo>
                  <a:lnTo>
                    <a:pt x="463" y="1853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853"/>
                  </a:lnTo>
                  <a:lnTo>
                    <a:pt x="115" y="1853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506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231" y="232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116"/>
                  </a:lnTo>
                  <a:lnTo>
                    <a:pt x="347" y="116"/>
                  </a:lnTo>
                  <a:lnTo>
                    <a:pt x="463" y="232"/>
                  </a:lnTo>
                  <a:lnTo>
                    <a:pt x="463" y="232"/>
                  </a:lnTo>
                  <a:lnTo>
                    <a:pt x="578" y="347"/>
                  </a:lnTo>
                  <a:lnTo>
                    <a:pt x="578" y="347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1046520" y="4101480"/>
              <a:ext cx="1241280" cy="441360"/>
            </a:xfrm>
            <a:custGeom>
              <a:avLst/>
              <a:gdLst/>
              <a:ahLst/>
              <a:rect l="l" t="t" r="r" b="b"/>
              <a:pathLst>
                <a:path w="34719" h="8223">
                  <a:moveTo>
                    <a:pt x="-31048" y="0"/>
                  </a:moveTo>
                  <a:lnTo>
                    <a:pt x="-31279" y="232"/>
                  </a:lnTo>
                  <a:lnTo>
                    <a:pt x="-31395" y="347"/>
                  </a:lnTo>
                  <a:lnTo>
                    <a:pt x="-31627" y="579"/>
                  </a:lnTo>
                  <a:lnTo>
                    <a:pt x="-31742" y="811"/>
                  </a:lnTo>
                  <a:lnTo>
                    <a:pt x="-31858" y="1042"/>
                  </a:lnTo>
                  <a:lnTo>
                    <a:pt x="-31858" y="1390"/>
                  </a:lnTo>
                  <a:lnTo>
                    <a:pt x="-31858" y="1621"/>
                  </a:lnTo>
                  <a:lnTo>
                    <a:pt x="-31742" y="1853"/>
                  </a:lnTo>
                  <a:lnTo>
                    <a:pt x="-31742" y="1853"/>
                  </a:lnTo>
                  <a:lnTo>
                    <a:pt x="-31742" y="2085"/>
                  </a:lnTo>
                  <a:lnTo>
                    <a:pt x="-31627" y="2200"/>
                  </a:lnTo>
                  <a:lnTo>
                    <a:pt x="-31511" y="2200"/>
                  </a:lnTo>
                  <a:lnTo>
                    <a:pt x="-31395" y="2316"/>
                  </a:lnTo>
                  <a:lnTo>
                    <a:pt x="-31279" y="2432"/>
                  </a:lnTo>
                  <a:lnTo>
                    <a:pt x="-31164" y="2432"/>
                  </a:lnTo>
                  <a:lnTo>
                    <a:pt x="-30932" y="2548"/>
                  </a:lnTo>
                  <a:lnTo>
                    <a:pt x="-30817" y="2548"/>
                  </a:lnTo>
                  <a:lnTo>
                    <a:pt x="-30817" y="2548"/>
                  </a:lnTo>
                  <a:lnTo>
                    <a:pt x="-31048" y="2664"/>
                  </a:lnTo>
                  <a:lnTo>
                    <a:pt x="-31395" y="2664"/>
                  </a:lnTo>
                  <a:lnTo>
                    <a:pt x="-31627" y="2779"/>
                  </a:lnTo>
                  <a:lnTo>
                    <a:pt x="-31858" y="2779"/>
                  </a:lnTo>
                  <a:lnTo>
                    <a:pt x="-32090" y="2779"/>
                  </a:lnTo>
                  <a:lnTo>
                    <a:pt x="-32437" y="2895"/>
                  </a:lnTo>
                  <a:lnTo>
                    <a:pt x="-32668" y="2895"/>
                  </a:lnTo>
                  <a:lnTo>
                    <a:pt x="32636" y="3011"/>
                  </a:lnTo>
                  <a:lnTo>
                    <a:pt x="32636" y="3011"/>
                  </a:lnTo>
                  <a:lnTo>
                    <a:pt x="32405" y="2895"/>
                  </a:lnTo>
                  <a:lnTo>
                    <a:pt x="32173" y="2779"/>
                  </a:lnTo>
                  <a:lnTo>
                    <a:pt x="31942" y="2779"/>
                  </a:lnTo>
                  <a:lnTo>
                    <a:pt x="31710" y="2779"/>
                  </a:lnTo>
                  <a:lnTo>
                    <a:pt x="31479" y="2779"/>
                  </a:lnTo>
                  <a:lnTo>
                    <a:pt x="31247" y="2779"/>
                  </a:lnTo>
                  <a:lnTo>
                    <a:pt x="31016" y="2895"/>
                  </a:lnTo>
                  <a:lnTo>
                    <a:pt x="30785" y="2895"/>
                  </a:lnTo>
                  <a:lnTo>
                    <a:pt x="30785" y="2895"/>
                  </a:lnTo>
                  <a:lnTo>
                    <a:pt x="29974" y="3474"/>
                  </a:lnTo>
                  <a:lnTo>
                    <a:pt x="29974" y="3474"/>
                  </a:lnTo>
                  <a:lnTo>
                    <a:pt x="29974" y="3359"/>
                  </a:lnTo>
                  <a:lnTo>
                    <a:pt x="29974" y="3359"/>
                  </a:lnTo>
                  <a:lnTo>
                    <a:pt x="29859" y="3243"/>
                  </a:lnTo>
                  <a:lnTo>
                    <a:pt x="29859" y="3127"/>
                  </a:lnTo>
                  <a:lnTo>
                    <a:pt x="29859" y="3127"/>
                  </a:lnTo>
                  <a:lnTo>
                    <a:pt x="29859" y="3011"/>
                  </a:lnTo>
                  <a:lnTo>
                    <a:pt x="29859" y="3011"/>
                  </a:lnTo>
                  <a:lnTo>
                    <a:pt x="29974" y="2895"/>
                  </a:lnTo>
                  <a:lnTo>
                    <a:pt x="29974" y="2895"/>
                  </a:lnTo>
                  <a:lnTo>
                    <a:pt x="-32321" y="2316"/>
                  </a:lnTo>
                  <a:lnTo>
                    <a:pt x="-32321" y="2316"/>
                  </a:lnTo>
                  <a:lnTo>
                    <a:pt x="-32205" y="2316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553" y="2085"/>
                  </a:lnTo>
                  <a:lnTo>
                    <a:pt x="32521" y="2200"/>
                  </a:lnTo>
                  <a:lnTo>
                    <a:pt x="31942" y="2200"/>
                  </a:lnTo>
                  <a:lnTo>
                    <a:pt x="31479" y="2316"/>
                  </a:lnTo>
                  <a:lnTo>
                    <a:pt x="31016" y="2432"/>
                  </a:lnTo>
                  <a:lnTo>
                    <a:pt x="30437" y="2548"/>
                  </a:lnTo>
                  <a:lnTo>
                    <a:pt x="29974" y="2664"/>
                  </a:lnTo>
                  <a:lnTo>
                    <a:pt x="29512" y="2779"/>
                  </a:lnTo>
                  <a:lnTo>
                    <a:pt x="29512" y="2779"/>
                  </a:lnTo>
                  <a:lnTo>
                    <a:pt x="29396" y="2664"/>
                  </a:lnTo>
                  <a:lnTo>
                    <a:pt x="29164" y="2664"/>
                  </a:lnTo>
                  <a:lnTo>
                    <a:pt x="28933" y="2548"/>
                  </a:lnTo>
                  <a:lnTo>
                    <a:pt x="28701" y="2548"/>
                  </a:lnTo>
                  <a:lnTo>
                    <a:pt x="28470" y="2432"/>
                  </a:lnTo>
                  <a:lnTo>
                    <a:pt x="28238" y="2548"/>
                  </a:lnTo>
                  <a:lnTo>
                    <a:pt x="28123" y="2548"/>
                  </a:lnTo>
                  <a:lnTo>
                    <a:pt x="27891" y="2664"/>
                  </a:lnTo>
                  <a:lnTo>
                    <a:pt x="27891" y="2664"/>
                  </a:lnTo>
                  <a:lnTo>
                    <a:pt x="27660" y="2895"/>
                  </a:lnTo>
                  <a:lnTo>
                    <a:pt x="27544" y="3011"/>
                  </a:lnTo>
                  <a:lnTo>
                    <a:pt x="27428" y="3011"/>
                  </a:lnTo>
                  <a:lnTo>
                    <a:pt x="27197" y="3011"/>
                  </a:lnTo>
                  <a:lnTo>
                    <a:pt x="27081" y="2895"/>
                  </a:lnTo>
                  <a:lnTo>
                    <a:pt x="26850" y="2895"/>
                  </a:lnTo>
                  <a:lnTo>
                    <a:pt x="26618" y="2895"/>
                  </a:lnTo>
                  <a:lnTo>
                    <a:pt x="26502" y="3127"/>
                  </a:lnTo>
                  <a:lnTo>
                    <a:pt x="26502" y="3127"/>
                  </a:lnTo>
                  <a:lnTo>
                    <a:pt x="26387" y="3474"/>
                  </a:lnTo>
                  <a:lnTo>
                    <a:pt x="26155" y="3706"/>
                  </a:lnTo>
                  <a:lnTo>
                    <a:pt x="25924" y="3822"/>
                  </a:lnTo>
                  <a:lnTo>
                    <a:pt x="25577" y="3822"/>
                  </a:lnTo>
                  <a:lnTo>
                    <a:pt x="25229" y="3822"/>
                  </a:lnTo>
                  <a:lnTo>
                    <a:pt x="24882" y="3822"/>
                  </a:lnTo>
                  <a:lnTo>
                    <a:pt x="24651" y="3822"/>
                  </a:lnTo>
                  <a:lnTo>
                    <a:pt x="24304" y="3938"/>
                  </a:lnTo>
                  <a:lnTo>
                    <a:pt x="24304" y="3938"/>
                  </a:lnTo>
                  <a:lnTo>
                    <a:pt x="21526" y="4517"/>
                  </a:lnTo>
                  <a:lnTo>
                    <a:pt x="18633" y="5096"/>
                  </a:lnTo>
                  <a:lnTo>
                    <a:pt x="15855" y="5559"/>
                  </a:lnTo>
                  <a:lnTo>
                    <a:pt x="13078" y="6138"/>
                  </a:lnTo>
                  <a:lnTo>
                    <a:pt x="10184" y="6717"/>
                  </a:lnTo>
                  <a:lnTo>
                    <a:pt x="7407" y="7296"/>
                  </a:lnTo>
                  <a:lnTo>
                    <a:pt x="4513" y="7759"/>
                  </a:lnTo>
                  <a:lnTo>
                    <a:pt x="1620" y="8223"/>
                  </a:lnTo>
                  <a:lnTo>
                    <a:pt x="1620" y="8223"/>
                  </a:lnTo>
                  <a:lnTo>
                    <a:pt x="1389" y="8107"/>
                  </a:lnTo>
                  <a:lnTo>
                    <a:pt x="1157" y="7875"/>
                  </a:lnTo>
                  <a:lnTo>
                    <a:pt x="926" y="7759"/>
                  </a:lnTo>
                  <a:lnTo>
                    <a:pt x="694" y="7528"/>
                  </a:lnTo>
                  <a:lnTo>
                    <a:pt x="463" y="7296"/>
                  </a:lnTo>
                  <a:lnTo>
                    <a:pt x="231" y="7064"/>
                  </a:lnTo>
                  <a:lnTo>
                    <a:pt x="116" y="6717"/>
                  </a:lnTo>
                  <a:lnTo>
                    <a:pt x="0" y="6485"/>
                  </a:lnTo>
                  <a:lnTo>
                    <a:pt x="0" y="6485"/>
                  </a:lnTo>
                  <a:lnTo>
                    <a:pt x="4398" y="5675"/>
                  </a:lnTo>
                  <a:lnTo>
                    <a:pt x="8680" y="4864"/>
                  </a:lnTo>
                  <a:lnTo>
                    <a:pt x="12846" y="3938"/>
                  </a:lnTo>
                  <a:lnTo>
                    <a:pt x="17128" y="3127"/>
                  </a:lnTo>
                  <a:lnTo>
                    <a:pt x="21295" y="2316"/>
                  </a:lnTo>
                  <a:lnTo>
                    <a:pt x="25577" y="1506"/>
                  </a:lnTo>
                  <a:lnTo>
                    <a:pt x="29859" y="695"/>
                  </a:lnTo>
                  <a:lnTo>
                    <a:pt x="-31279" y="116"/>
                  </a:lnTo>
                  <a:lnTo>
                    <a:pt x="-31279" y="116"/>
                  </a:lnTo>
                  <a:lnTo>
                    <a:pt x="-31279" y="0"/>
                  </a:lnTo>
                  <a:lnTo>
                    <a:pt x="-31279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856080" y="4194720"/>
              <a:ext cx="322560" cy="565560"/>
            </a:xfrm>
            <a:custGeom>
              <a:avLst/>
              <a:gdLst/>
              <a:ahLst/>
              <a:rect l="l" t="t" r="r" b="b"/>
              <a:pathLst>
                <a:path w="9027" h="10539">
                  <a:moveTo>
                    <a:pt x="7176" y="579"/>
                  </a:moveTo>
                  <a:lnTo>
                    <a:pt x="7176" y="695"/>
                  </a:lnTo>
                  <a:lnTo>
                    <a:pt x="7176" y="811"/>
                  </a:lnTo>
                  <a:lnTo>
                    <a:pt x="7176" y="927"/>
                  </a:lnTo>
                  <a:lnTo>
                    <a:pt x="7060" y="1042"/>
                  </a:lnTo>
                  <a:lnTo>
                    <a:pt x="7060" y="1158"/>
                  </a:lnTo>
                  <a:lnTo>
                    <a:pt x="6944" y="1274"/>
                  </a:lnTo>
                  <a:lnTo>
                    <a:pt x="6828" y="1274"/>
                  </a:lnTo>
                  <a:lnTo>
                    <a:pt x="6713" y="1274"/>
                  </a:lnTo>
                  <a:lnTo>
                    <a:pt x="6713" y="1274"/>
                  </a:lnTo>
                  <a:lnTo>
                    <a:pt x="6597" y="1274"/>
                  </a:lnTo>
                  <a:lnTo>
                    <a:pt x="6365" y="1274"/>
                  </a:lnTo>
                  <a:lnTo>
                    <a:pt x="6134" y="1274"/>
                  </a:lnTo>
                  <a:lnTo>
                    <a:pt x="6018" y="1274"/>
                  </a:lnTo>
                  <a:lnTo>
                    <a:pt x="5787" y="1390"/>
                  </a:lnTo>
                  <a:lnTo>
                    <a:pt x="5671" y="1506"/>
                  </a:lnTo>
                  <a:lnTo>
                    <a:pt x="5555" y="1622"/>
                  </a:lnTo>
                  <a:lnTo>
                    <a:pt x="5440" y="1737"/>
                  </a:lnTo>
                  <a:lnTo>
                    <a:pt x="5440" y="1737"/>
                  </a:lnTo>
                  <a:lnTo>
                    <a:pt x="5324" y="1969"/>
                  </a:lnTo>
                  <a:lnTo>
                    <a:pt x="5092" y="2201"/>
                  </a:lnTo>
                  <a:lnTo>
                    <a:pt x="4977" y="2432"/>
                  </a:lnTo>
                  <a:lnTo>
                    <a:pt x="4861" y="2664"/>
                  </a:lnTo>
                  <a:lnTo>
                    <a:pt x="4745" y="2895"/>
                  </a:lnTo>
                  <a:lnTo>
                    <a:pt x="4745" y="3127"/>
                  </a:lnTo>
                  <a:lnTo>
                    <a:pt x="4629" y="3359"/>
                  </a:lnTo>
                  <a:lnTo>
                    <a:pt x="4745" y="3590"/>
                  </a:lnTo>
                  <a:lnTo>
                    <a:pt x="4745" y="3590"/>
                  </a:lnTo>
                  <a:lnTo>
                    <a:pt x="4629" y="3822"/>
                  </a:lnTo>
                  <a:lnTo>
                    <a:pt x="4629" y="4054"/>
                  </a:lnTo>
                  <a:lnTo>
                    <a:pt x="4629" y="4401"/>
                  </a:lnTo>
                  <a:lnTo>
                    <a:pt x="4745" y="4633"/>
                  </a:lnTo>
                  <a:lnTo>
                    <a:pt x="4861" y="4864"/>
                  </a:lnTo>
                  <a:lnTo>
                    <a:pt x="4861" y="5212"/>
                  </a:lnTo>
                  <a:lnTo>
                    <a:pt x="4977" y="5443"/>
                  </a:lnTo>
                  <a:lnTo>
                    <a:pt x="5092" y="5675"/>
                  </a:lnTo>
                  <a:lnTo>
                    <a:pt x="5092" y="5675"/>
                  </a:lnTo>
                  <a:lnTo>
                    <a:pt x="5555" y="6138"/>
                  </a:lnTo>
                  <a:lnTo>
                    <a:pt x="5902" y="6486"/>
                  </a:lnTo>
                  <a:lnTo>
                    <a:pt x="6481" y="6717"/>
                  </a:lnTo>
                  <a:lnTo>
                    <a:pt x="6944" y="6949"/>
                  </a:lnTo>
                  <a:lnTo>
                    <a:pt x="7523" y="7180"/>
                  </a:lnTo>
                  <a:lnTo>
                    <a:pt x="7986" y="7296"/>
                  </a:lnTo>
                  <a:lnTo>
                    <a:pt x="8564" y="7528"/>
                  </a:lnTo>
                  <a:lnTo>
                    <a:pt x="9027" y="7875"/>
                  </a:lnTo>
                  <a:lnTo>
                    <a:pt x="9027" y="7875"/>
                  </a:lnTo>
                  <a:lnTo>
                    <a:pt x="9027" y="7991"/>
                  </a:lnTo>
                  <a:lnTo>
                    <a:pt x="9027" y="8107"/>
                  </a:lnTo>
                  <a:lnTo>
                    <a:pt x="9027" y="8223"/>
                  </a:lnTo>
                  <a:lnTo>
                    <a:pt x="8911" y="8339"/>
                  </a:lnTo>
                  <a:lnTo>
                    <a:pt x="8911" y="8454"/>
                  </a:lnTo>
                  <a:lnTo>
                    <a:pt x="8911" y="8570"/>
                  </a:lnTo>
                  <a:lnTo>
                    <a:pt x="8796" y="8686"/>
                  </a:lnTo>
                  <a:lnTo>
                    <a:pt x="8796" y="8802"/>
                  </a:lnTo>
                  <a:lnTo>
                    <a:pt x="8796" y="8802"/>
                  </a:lnTo>
                  <a:lnTo>
                    <a:pt x="8449" y="8918"/>
                  </a:lnTo>
                  <a:lnTo>
                    <a:pt x="8217" y="9033"/>
                  </a:lnTo>
                  <a:lnTo>
                    <a:pt x="7870" y="8918"/>
                  </a:lnTo>
                  <a:lnTo>
                    <a:pt x="7638" y="8918"/>
                  </a:lnTo>
                  <a:lnTo>
                    <a:pt x="7291" y="8686"/>
                  </a:lnTo>
                  <a:lnTo>
                    <a:pt x="7060" y="8570"/>
                  </a:lnTo>
                  <a:lnTo>
                    <a:pt x="6828" y="8454"/>
                  </a:lnTo>
                  <a:lnTo>
                    <a:pt x="6597" y="8223"/>
                  </a:lnTo>
                  <a:lnTo>
                    <a:pt x="6597" y="8223"/>
                  </a:lnTo>
                  <a:lnTo>
                    <a:pt x="6134" y="8223"/>
                  </a:lnTo>
                  <a:lnTo>
                    <a:pt x="5787" y="8107"/>
                  </a:lnTo>
                  <a:lnTo>
                    <a:pt x="5440" y="7991"/>
                  </a:lnTo>
                  <a:lnTo>
                    <a:pt x="5092" y="7759"/>
                  </a:lnTo>
                  <a:lnTo>
                    <a:pt x="4745" y="7528"/>
                  </a:lnTo>
                  <a:lnTo>
                    <a:pt x="4398" y="7296"/>
                  </a:lnTo>
                  <a:lnTo>
                    <a:pt x="4051" y="7065"/>
                  </a:lnTo>
                  <a:lnTo>
                    <a:pt x="3704" y="6949"/>
                  </a:lnTo>
                  <a:lnTo>
                    <a:pt x="3704" y="6949"/>
                  </a:lnTo>
                  <a:lnTo>
                    <a:pt x="3588" y="6833"/>
                  </a:lnTo>
                  <a:lnTo>
                    <a:pt x="3472" y="6949"/>
                  </a:lnTo>
                  <a:lnTo>
                    <a:pt x="4861" y="8223"/>
                  </a:lnTo>
                  <a:lnTo>
                    <a:pt x="4861" y="8223"/>
                  </a:lnTo>
                  <a:lnTo>
                    <a:pt x="4514" y="8223"/>
                  </a:lnTo>
                  <a:lnTo>
                    <a:pt x="4166" y="8107"/>
                  </a:lnTo>
                  <a:lnTo>
                    <a:pt x="3819" y="7875"/>
                  </a:lnTo>
                  <a:lnTo>
                    <a:pt x="3588" y="7644"/>
                  </a:lnTo>
                  <a:lnTo>
                    <a:pt x="3241" y="7412"/>
                  </a:lnTo>
                  <a:lnTo>
                    <a:pt x="3009" y="7180"/>
                  </a:lnTo>
                  <a:lnTo>
                    <a:pt x="2662" y="7065"/>
                  </a:lnTo>
                  <a:lnTo>
                    <a:pt x="2430" y="6949"/>
                  </a:lnTo>
                  <a:lnTo>
                    <a:pt x="2430" y="6949"/>
                  </a:lnTo>
                  <a:lnTo>
                    <a:pt x="2546" y="7180"/>
                  </a:lnTo>
                  <a:lnTo>
                    <a:pt x="2662" y="7412"/>
                  </a:lnTo>
                  <a:lnTo>
                    <a:pt x="2893" y="7644"/>
                  </a:lnTo>
                  <a:lnTo>
                    <a:pt x="3125" y="7875"/>
                  </a:lnTo>
                  <a:lnTo>
                    <a:pt x="3241" y="7991"/>
                  </a:lnTo>
                  <a:lnTo>
                    <a:pt x="3472" y="8223"/>
                  </a:lnTo>
                  <a:lnTo>
                    <a:pt x="3704" y="8454"/>
                  </a:lnTo>
                  <a:lnTo>
                    <a:pt x="3935" y="8570"/>
                  </a:lnTo>
                  <a:lnTo>
                    <a:pt x="3935" y="8570"/>
                  </a:lnTo>
                  <a:lnTo>
                    <a:pt x="3935" y="8686"/>
                  </a:lnTo>
                  <a:lnTo>
                    <a:pt x="3819" y="8686"/>
                  </a:lnTo>
                  <a:lnTo>
                    <a:pt x="3588" y="8802"/>
                  </a:lnTo>
                  <a:lnTo>
                    <a:pt x="3472" y="8802"/>
                  </a:lnTo>
                  <a:lnTo>
                    <a:pt x="3356" y="8802"/>
                  </a:lnTo>
                  <a:lnTo>
                    <a:pt x="3241" y="8802"/>
                  </a:lnTo>
                  <a:lnTo>
                    <a:pt x="3009" y="8802"/>
                  </a:lnTo>
                  <a:lnTo>
                    <a:pt x="3009" y="8686"/>
                  </a:lnTo>
                  <a:lnTo>
                    <a:pt x="3009" y="8686"/>
                  </a:lnTo>
                  <a:lnTo>
                    <a:pt x="2662" y="8570"/>
                  </a:lnTo>
                  <a:lnTo>
                    <a:pt x="2546" y="8339"/>
                  </a:lnTo>
                  <a:lnTo>
                    <a:pt x="2315" y="8107"/>
                  </a:lnTo>
                  <a:lnTo>
                    <a:pt x="2083" y="7875"/>
                  </a:lnTo>
                  <a:lnTo>
                    <a:pt x="1852" y="7644"/>
                  </a:lnTo>
                  <a:lnTo>
                    <a:pt x="1620" y="7412"/>
                  </a:lnTo>
                  <a:lnTo>
                    <a:pt x="1505" y="7296"/>
                  </a:lnTo>
                  <a:lnTo>
                    <a:pt x="1273" y="7065"/>
                  </a:lnTo>
                  <a:lnTo>
                    <a:pt x="1273" y="7065"/>
                  </a:lnTo>
                  <a:lnTo>
                    <a:pt x="1157" y="7412"/>
                  </a:lnTo>
                  <a:lnTo>
                    <a:pt x="1157" y="7759"/>
                  </a:lnTo>
                  <a:lnTo>
                    <a:pt x="1157" y="8107"/>
                  </a:lnTo>
                  <a:lnTo>
                    <a:pt x="1157" y="8454"/>
                  </a:lnTo>
                  <a:lnTo>
                    <a:pt x="1273" y="8802"/>
                  </a:lnTo>
                  <a:lnTo>
                    <a:pt x="1389" y="9149"/>
                  </a:lnTo>
                  <a:lnTo>
                    <a:pt x="1505" y="9612"/>
                  </a:lnTo>
                  <a:lnTo>
                    <a:pt x="1620" y="9960"/>
                  </a:lnTo>
                  <a:lnTo>
                    <a:pt x="1620" y="9960"/>
                  </a:lnTo>
                  <a:lnTo>
                    <a:pt x="1620" y="10539"/>
                  </a:lnTo>
                  <a:lnTo>
                    <a:pt x="1620" y="10539"/>
                  </a:lnTo>
                  <a:lnTo>
                    <a:pt x="1389" y="10539"/>
                  </a:lnTo>
                  <a:lnTo>
                    <a:pt x="1273" y="10539"/>
                  </a:lnTo>
                  <a:lnTo>
                    <a:pt x="1042" y="10423"/>
                  </a:lnTo>
                  <a:lnTo>
                    <a:pt x="926" y="10423"/>
                  </a:lnTo>
                  <a:lnTo>
                    <a:pt x="810" y="10191"/>
                  </a:lnTo>
                  <a:lnTo>
                    <a:pt x="695" y="10076"/>
                  </a:lnTo>
                  <a:lnTo>
                    <a:pt x="579" y="9960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116" y="9149"/>
                  </a:lnTo>
                  <a:lnTo>
                    <a:pt x="0" y="8570"/>
                  </a:lnTo>
                  <a:lnTo>
                    <a:pt x="116" y="7991"/>
                  </a:lnTo>
                  <a:lnTo>
                    <a:pt x="347" y="7412"/>
                  </a:lnTo>
                  <a:lnTo>
                    <a:pt x="579" y="6833"/>
                  </a:lnTo>
                  <a:lnTo>
                    <a:pt x="810" y="6138"/>
                  </a:lnTo>
                  <a:lnTo>
                    <a:pt x="926" y="5559"/>
                  </a:lnTo>
                  <a:lnTo>
                    <a:pt x="926" y="4864"/>
                  </a:lnTo>
                  <a:lnTo>
                    <a:pt x="926" y="4864"/>
                  </a:lnTo>
                  <a:lnTo>
                    <a:pt x="1157" y="4864"/>
                  </a:lnTo>
                  <a:lnTo>
                    <a:pt x="1389" y="4864"/>
                  </a:lnTo>
                  <a:lnTo>
                    <a:pt x="1620" y="4864"/>
                  </a:lnTo>
                  <a:lnTo>
                    <a:pt x="1852" y="4748"/>
                  </a:lnTo>
                  <a:lnTo>
                    <a:pt x="2083" y="4633"/>
                  </a:lnTo>
                  <a:lnTo>
                    <a:pt x="2315" y="4517"/>
                  </a:lnTo>
                  <a:lnTo>
                    <a:pt x="2546" y="4401"/>
                  </a:lnTo>
                  <a:lnTo>
                    <a:pt x="2662" y="4169"/>
                  </a:lnTo>
                  <a:lnTo>
                    <a:pt x="2662" y="4169"/>
                  </a:lnTo>
                  <a:lnTo>
                    <a:pt x="2778" y="3822"/>
                  </a:lnTo>
                  <a:lnTo>
                    <a:pt x="3009" y="3475"/>
                  </a:lnTo>
                  <a:lnTo>
                    <a:pt x="3125" y="3127"/>
                  </a:lnTo>
                  <a:lnTo>
                    <a:pt x="3241" y="2780"/>
                  </a:lnTo>
                  <a:lnTo>
                    <a:pt x="3241" y="2432"/>
                  </a:lnTo>
                  <a:lnTo>
                    <a:pt x="3241" y="2085"/>
                  </a:lnTo>
                  <a:lnTo>
                    <a:pt x="3125" y="1737"/>
                  </a:lnTo>
                  <a:lnTo>
                    <a:pt x="3009" y="1390"/>
                  </a:lnTo>
                  <a:lnTo>
                    <a:pt x="3009" y="1390"/>
                  </a:lnTo>
                  <a:lnTo>
                    <a:pt x="3125" y="1274"/>
                  </a:lnTo>
                  <a:lnTo>
                    <a:pt x="3241" y="1042"/>
                  </a:lnTo>
                  <a:lnTo>
                    <a:pt x="3472" y="811"/>
                  </a:lnTo>
                  <a:lnTo>
                    <a:pt x="3704" y="695"/>
                  </a:lnTo>
                  <a:lnTo>
                    <a:pt x="3819" y="579"/>
                  </a:lnTo>
                  <a:lnTo>
                    <a:pt x="4051" y="463"/>
                  </a:lnTo>
                  <a:lnTo>
                    <a:pt x="4282" y="463"/>
                  </a:lnTo>
                  <a:lnTo>
                    <a:pt x="4629" y="463"/>
                  </a:lnTo>
                  <a:lnTo>
                    <a:pt x="4629" y="463"/>
                  </a:lnTo>
                  <a:lnTo>
                    <a:pt x="4745" y="579"/>
                  </a:lnTo>
                  <a:lnTo>
                    <a:pt x="4977" y="579"/>
                  </a:lnTo>
                  <a:lnTo>
                    <a:pt x="5092" y="695"/>
                  </a:lnTo>
                  <a:lnTo>
                    <a:pt x="5324" y="811"/>
                  </a:lnTo>
                  <a:lnTo>
                    <a:pt x="5440" y="927"/>
                  </a:lnTo>
                  <a:lnTo>
                    <a:pt x="5555" y="927"/>
                  </a:lnTo>
                  <a:lnTo>
                    <a:pt x="5787" y="927"/>
                  </a:lnTo>
                  <a:lnTo>
                    <a:pt x="6018" y="811"/>
                  </a:lnTo>
                  <a:lnTo>
                    <a:pt x="6018" y="811"/>
                  </a:lnTo>
                  <a:lnTo>
                    <a:pt x="5671" y="463"/>
                  </a:lnTo>
                  <a:lnTo>
                    <a:pt x="5671" y="463"/>
                  </a:lnTo>
                  <a:lnTo>
                    <a:pt x="5902" y="348"/>
                  </a:lnTo>
                  <a:lnTo>
                    <a:pt x="6134" y="232"/>
                  </a:lnTo>
                  <a:lnTo>
                    <a:pt x="6365" y="116"/>
                  </a:lnTo>
                  <a:lnTo>
                    <a:pt x="6597" y="0"/>
                  </a:lnTo>
                  <a:lnTo>
                    <a:pt x="6828" y="0"/>
                  </a:lnTo>
                  <a:lnTo>
                    <a:pt x="6944" y="116"/>
                  </a:lnTo>
                  <a:lnTo>
                    <a:pt x="7060" y="232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847800" y="4250880"/>
              <a:ext cx="103320" cy="173880"/>
            </a:xfrm>
            <a:custGeom>
              <a:avLst/>
              <a:gdLst/>
              <a:ahLst/>
              <a:rect l="l" t="t" r="r" b="b"/>
              <a:pathLst>
                <a:path w="2893" h="3243">
                  <a:moveTo>
                    <a:pt x="2893" y="927"/>
                  </a:moveTo>
                  <a:lnTo>
                    <a:pt x="2893" y="1159"/>
                  </a:lnTo>
                  <a:lnTo>
                    <a:pt x="2893" y="1390"/>
                  </a:lnTo>
                  <a:lnTo>
                    <a:pt x="2893" y="1622"/>
                  </a:lnTo>
                  <a:lnTo>
                    <a:pt x="2893" y="1853"/>
                  </a:lnTo>
                  <a:lnTo>
                    <a:pt x="2777" y="2085"/>
                  </a:lnTo>
                  <a:lnTo>
                    <a:pt x="2661" y="2317"/>
                  </a:lnTo>
                  <a:lnTo>
                    <a:pt x="2546" y="2548"/>
                  </a:lnTo>
                  <a:lnTo>
                    <a:pt x="2430" y="2780"/>
                  </a:lnTo>
                  <a:lnTo>
                    <a:pt x="2430" y="2780"/>
                  </a:lnTo>
                  <a:lnTo>
                    <a:pt x="2314" y="2896"/>
                  </a:lnTo>
                  <a:lnTo>
                    <a:pt x="2199" y="3012"/>
                  </a:lnTo>
                  <a:lnTo>
                    <a:pt x="1967" y="3127"/>
                  </a:lnTo>
                  <a:lnTo>
                    <a:pt x="1851" y="3243"/>
                  </a:lnTo>
                  <a:lnTo>
                    <a:pt x="1620" y="3243"/>
                  </a:lnTo>
                  <a:lnTo>
                    <a:pt x="1388" y="3243"/>
                  </a:lnTo>
                  <a:lnTo>
                    <a:pt x="1157" y="3243"/>
                  </a:lnTo>
                  <a:lnTo>
                    <a:pt x="1041" y="3243"/>
                  </a:lnTo>
                  <a:lnTo>
                    <a:pt x="1041" y="3243"/>
                  </a:lnTo>
                  <a:lnTo>
                    <a:pt x="810" y="3127"/>
                  </a:lnTo>
                  <a:lnTo>
                    <a:pt x="694" y="3127"/>
                  </a:lnTo>
                  <a:lnTo>
                    <a:pt x="463" y="3012"/>
                  </a:lnTo>
                  <a:lnTo>
                    <a:pt x="347" y="2896"/>
                  </a:lnTo>
                  <a:lnTo>
                    <a:pt x="231" y="2664"/>
                  </a:lnTo>
                  <a:lnTo>
                    <a:pt x="231" y="2548"/>
                  </a:lnTo>
                  <a:lnTo>
                    <a:pt x="115" y="2433"/>
                  </a:lnTo>
                  <a:lnTo>
                    <a:pt x="0" y="2201"/>
                  </a:lnTo>
                  <a:lnTo>
                    <a:pt x="0" y="2201"/>
                  </a:lnTo>
                  <a:lnTo>
                    <a:pt x="231" y="2317"/>
                  </a:lnTo>
                  <a:lnTo>
                    <a:pt x="347" y="2317"/>
                  </a:lnTo>
                  <a:lnTo>
                    <a:pt x="578" y="2317"/>
                  </a:lnTo>
                  <a:lnTo>
                    <a:pt x="810" y="2317"/>
                  </a:lnTo>
                  <a:lnTo>
                    <a:pt x="926" y="2317"/>
                  </a:lnTo>
                  <a:lnTo>
                    <a:pt x="1157" y="2201"/>
                  </a:lnTo>
                  <a:lnTo>
                    <a:pt x="1388" y="2201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736" y="1738"/>
                  </a:lnTo>
                  <a:lnTo>
                    <a:pt x="1851" y="1506"/>
                  </a:lnTo>
                  <a:lnTo>
                    <a:pt x="1851" y="1390"/>
                  </a:lnTo>
                  <a:lnTo>
                    <a:pt x="1967" y="1159"/>
                  </a:lnTo>
                  <a:lnTo>
                    <a:pt x="1967" y="1043"/>
                  </a:lnTo>
                  <a:lnTo>
                    <a:pt x="1851" y="811"/>
                  </a:lnTo>
                  <a:lnTo>
                    <a:pt x="1736" y="695"/>
                  </a:lnTo>
                  <a:lnTo>
                    <a:pt x="1736" y="695"/>
                  </a:lnTo>
                  <a:lnTo>
                    <a:pt x="1504" y="232"/>
                  </a:lnTo>
                  <a:lnTo>
                    <a:pt x="1504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116"/>
                  </a:lnTo>
                  <a:lnTo>
                    <a:pt x="2314" y="232"/>
                  </a:lnTo>
                  <a:lnTo>
                    <a:pt x="2546" y="348"/>
                  </a:lnTo>
                  <a:lnTo>
                    <a:pt x="2661" y="580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2027520" y="4257000"/>
              <a:ext cx="74520" cy="173880"/>
            </a:xfrm>
            <a:custGeom>
              <a:avLst/>
              <a:gdLst/>
              <a:ahLst/>
              <a:rect l="l" t="t" r="r" b="b"/>
              <a:pathLst>
                <a:path w="2084" h="3243">
                  <a:moveTo>
                    <a:pt x="2084" y="464"/>
                  </a:moveTo>
                  <a:lnTo>
                    <a:pt x="2084" y="811"/>
                  </a:lnTo>
                  <a:lnTo>
                    <a:pt x="2084" y="1043"/>
                  </a:lnTo>
                  <a:lnTo>
                    <a:pt x="1968" y="1274"/>
                  </a:lnTo>
                  <a:lnTo>
                    <a:pt x="1852" y="1622"/>
                  </a:lnTo>
                  <a:lnTo>
                    <a:pt x="1736" y="1853"/>
                  </a:lnTo>
                  <a:lnTo>
                    <a:pt x="1621" y="2085"/>
                  </a:lnTo>
                  <a:lnTo>
                    <a:pt x="1505" y="2317"/>
                  </a:lnTo>
                  <a:lnTo>
                    <a:pt x="1389" y="2548"/>
                  </a:lnTo>
                  <a:lnTo>
                    <a:pt x="1389" y="2548"/>
                  </a:lnTo>
                  <a:lnTo>
                    <a:pt x="1158" y="2664"/>
                  </a:lnTo>
                  <a:lnTo>
                    <a:pt x="1042" y="2780"/>
                  </a:lnTo>
                  <a:lnTo>
                    <a:pt x="926" y="2896"/>
                  </a:lnTo>
                  <a:lnTo>
                    <a:pt x="695" y="3011"/>
                  </a:lnTo>
                  <a:lnTo>
                    <a:pt x="579" y="3127"/>
                  </a:lnTo>
                  <a:lnTo>
                    <a:pt x="463" y="3243"/>
                  </a:lnTo>
                  <a:lnTo>
                    <a:pt x="232" y="3243"/>
                  </a:lnTo>
                  <a:lnTo>
                    <a:pt x="0" y="3243"/>
                  </a:lnTo>
                  <a:lnTo>
                    <a:pt x="0" y="3243"/>
                  </a:lnTo>
                  <a:lnTo>
                    <a:pt x="116" y="2896"/>
                  </a:lnTo>
                  <a:lnTo>
                    <a:pt x="116" y="2548"/>
                  </a:lnTo>
                  <a:lnTo>
                    <a:pt x="232" y="2317"/>
                  </a:lnTo>
                  <a:lnTo>
                    <a:pt x="348" y="1969"/>
                  </a:lnTo>
                  <a:lnTo>
                    <a:pt x="348" y="1622"/>
                  </a:lnTo>
                  <a:lnTo>
                    <a:pt x="348" y="1274"/>
                  </a:lnTo>
                  <a:lnTo>
                    <a:pt x="348" y="927"/>
                  </a:lnTo>
                  <a:lnTo>
                    <a:pt x="232" y="579"/>
                  </a:lnTo>
                  <a:lnTo>
                    <a:pt x="232" y="579"/>
                  </a:lnTo>
                  <a:lnTo>
                    <a:pt x="348" y="232"/>
                  </a:lnTo>
                  <a:lnTo>
                    <a:pt x="463" y="116"/>
                  </a:lnTo>
                  <a:lnTo>
                    <a:pt x="695" y="0"/>
                  </a:lnTo>
                  <a:lnTo>
                    <a:pt x="1042" y="0"/>
                  </a:lnTo>
                  <a:lnTo>
                    <a:pt x="1273" y="116"/>
                  </a:lnTo>
                  <a:lnTo>
                    <a:pt x="1621" y="232"/>
                  </a:lnTo>
                  <a:lnTo>
                    <a:pt x="1852" y="348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2089440" y="4269600"/>
              <a:ext cx="119880" cy="142920"/>
            </a:xfrm>
            <a:custGeom>
              <a:avLst/>
              <a:gdLst/>
              <a:ahLst/>
              <a:rect l="l" t="t" r="r" b="b"/>
              <a:pathLst>
                <a:path w="3357" h="2664">
                  <a:moveTo>
                    <a:pt x="3357" y="347"/>
                  </a:moveTo>
                  <a:lnTo>
                    <a:pt x="3125" y="811"/>
                  </a:lnTo>
                  <a:lnTo>
                    <a:pt x="2894" y="1158"/>
                  </a:lnTo>
                  <a:lnTo>
                    <a:pt x="2546" y="1505"/>
                  </a:lnTo>
                  <a:lnTo>
                    <a:pt x="2199" y="1853"/>
                  </a:lnTo>
                  <a:lnTo>
                    <a:pt x="1852" y="2200"/>
                  </a:lnTo>
                  <a:lnTo>
                    <a:pt x="1505" y="2432"/>
                  </a:lnTo>
                  <a:lnTo>
                    <a:pt x="1042" y="2548"/>
                  </a:lnTo>
                  <a:lnTo>
                    <a:pt x="695" y="2664"/>
                  </a:lnTo>
                  <a:lnTo>
                    <a:pt x="695" y="2664"/>
                  </a:lnTo>
                  <a:lnTo>
                    <a:pt x="0" y="2548"/>
                  </a:lnTo>
                  <a:lnTo>
                    <a:pt x="0" y="2548"/>
                  </a:lnTo>
                  <a:lnTo>
                    <a:pt x="348" y="2200"/>
                  </a:lnTo>
                  <a:lnTo>
                    <a:pt x="463" y="1853"/>
                  </a:lnTo>
                  <a:lnTo>
                    <a:pt x="695" y="1505"/>
                  </a:lnTo>
                  <a:lnTo>
                    <a:pt x="810" y="1158"/>
                  </a:lnTo>
                  <a:lnTo>
                    <a:pt x="926" y="811"/>
                  </a:lnTo>
                  <a:lnTo>
                    <a:pt x="1158" y="579"/>
                  </a:lnTo>
                  <a:lnTo>
                    <a:pt x="1505" y="232"/>
                  </a:lnTo>
                  <a:lnTo>
                    <a:pt x="1852" y="116"/>
                  </a:lnTo>
                  <a:lnTo>
                    <a:pt x="1852" y="116"/>
                  </a:lnTo>
                  <a:lnTo>
                    <a:pt x="2083" y="0"/>
                  </a:lnTo>
                  <a:lnTo>
                    <a:pt x="2315" y="0"/>
                  </a:lnTo>
                  <a:lnTo>
                    <a:pt x="2431" y="0"/>
                  </a:lnTo>
                  <a:lnTo>
                    <a:pt x="2662" y="0"/>
                  </a:lnTo>
                  <a:lnTo>
                    <a:pt x="2778" y="116"/>
                  </a:lnTo>
                  <a:lnTo>
                    <a:pt x="3009" y="116"/>
                  </a:lnTo>
                  <a:lnTo>
                    <a:pt x="3125" y="232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1923840" y="4287960"/>
              <a:ext cx="99000" cy="186480"/>
            </a:xfrm>
            <a:custGeom>
              <a:avLst/>
              <a:gdLst/>
              <a:ahLst/>
              <a:rect l="l" t="t" r="r" b="b"/>
              <a:pathLst>
                <a:path w="2778" h="3475">
                  <a:moveTo>
                    <a:pt x="2778" y="1158"/>
                  </a:moveTo>
                  <a:lnTo>
                    <a:pt x="2662" y="1506"/>
                  </a:lnTo>
                  <a:lnTo>
                    <a:pt x="2662" y="1738"/>
                  </a:lnTo>
                  <a:lnTo>
                    <a:pt x="2546" y="2085"/>
                  </a:lnTo>
                  <a:lnTo>
                    <a:pt x="2430" y="2317"/>
                  </a:lnTo>
                  <a:lnTo>
                    <a:pt x="2430" y="2664"/>
                  </a:lnTo>
                  <a:lnTo>
                    <a:pt x="2199" y="2896"/>
                  </a:lnTo>
                  <a:lnTo>
                    <a:pt x="2083" y="3127"/>
                  </a:lnTo>
                  <a:lnTo>
                    <a:pt x="1736" y="3243"/>
                  </a:lnTo>
                  <a:lnTo>
                    <a:pt x="1736" y="3243"/>
                  </a:lnTo>
                  <a:lnTo>
                    <a:pt x="1620" y="3359"/>
                  </a:lnTo>
                  <a:lnTo>
                    <a:pt x="1505" y="3359"/>
                  </a:lnTo>
                  <a:lnTo>
                    <a:pt x="1273" y="3359"/>
                  </a:lnTo>
                  <a:lnTo>
                    <a:pt x="1157" y="3475"/>
                  </a:lnTo>
                  <a:lnTo>
                    <a:pt x="1042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579" y="3359"/>
                  </a:lnTo>
                  <a:lnTo>
                    <a:pt x="579" y="3359"/>
                  </a:lnTo>
                  <a:lnTo>
                    <a:pt x="347" y="3127"/>
                  </a:lnTo>
                  <a:lnTo>
                    <a:pt x="231" y="2896"/>
                  </a:lnTo>
                  <a:lnTo>
                    <a:pt x="231" y="2664"/>
                  </a:lnTo>
                  <a:lnTo>
                    <a:pt x="116" y="2432"/>
                  </a:lnTo>
                  <a:lnTo>
                    <a:pt x="116" y="2201"/>
                  </a:lnTo>
                  <a:lnTo>
                    <a:pt x="116" y="1969"/>
                  </a:lnTo>
                  <a:lnTo>
                    <a:pt x="0" y="1738"/>
                  </a:lnTo>
                  <a:lnTo>
                    <a:pt x="0" y="1506"/>
                  </a:lnTo>
                  <a:lnTo>
                    <a:pt x="0" y="1506"/>
                  </a:lnTo>
                  <a:lnTo>
                    <a:pt x="926" y="1274"/>
                  </a:lnTo>
                  <a:lnTo>
                    <a:pt x="926" y="1274"/>
                  </a:lnTo>
                  <a:lnTo>
                    <a:pt x="926" y="1390"/>
                  </a:lnTo>
                  <a:lnTo>
                    <a:pt x="926" y="1506"/>
                  </a:lnTo>
                  <a:lnTo>
                    <a:pt x="926" y="1622"/>
                  </a:lnTo>
                  <a:lnTo>
                    <a:pt x="926" y="1738"/>
                  </a:lnTo>
                  <a:lnTo>
                    <a:pt x="926" y="1853"/>
                  </a:lnTo>
                  <a:lnTo>
                    <a:pt x="926" y="1853"/>
                  </a:lnTo>
                  <a:lnTo>
                    <a:pt x="926" y="1969"/>
                  </a:lnTo>
                  <a:lnTo>
                    <a:pt x="1042" y="2085"/>
                  </a:lnTo>
                  <a:lnTo>
                    <a:pt x="1042" y="2085"/>
                  </a:lnTo>
                  <a:lnTo>
                    <a:pt x="1157" y="1738"/>
                  </a:lnTo>
                  <a:lnTo>
                    <a:pt x="1273" y="1390"/>
                  </a:lnTo>
                  <a:lnTo>
                    <a:pt x="1389" y="1158"/>
                  </a:lnTo>
                  <a:lnTo>
                    <a:pt x="1620" y="927"/>
                  </a:lnTo>
                  <a:lnTo>
                    <a:pt x="1852" y="579"/>
                  </a:lnTo>
                  <a:lnTo>
                    <a:pt x="2083" y="348"/>
                  </a:lnTo>
                  <a:lnTo>
                    <a:pt x="2315" y="232"/>
                  </a:lnTo>
                  <a:lnTo>
                    <a:pt x="2546" y="0"/>
                  </a:lnTo>
                  <a:lnTo>
                    <a:pt x="2546" y="0"/>
                  </a:lnTo>
                  <a:lnTo>
                    <a:pt x="2662" y="116"/>
                  </a:lnTo>
                  <a:lnTo>
                    <a:pt x="2778" y="232"/>
                  </a:lnTo>
                  <a:lnTo>
                    <a:pt x="2778" y="348"/>
                  </a:lnTo>
                  <a:lnTo>
                    <a:pt x="2778" y="579"/>
                  </a:lnTo>
                  <a:lnTo>
                    <a:pt x="2778" y="695"/>
                  </a:lnTo>
                  <a:lnTo>
                    <a:pt x="2778" y="927"/>
                  </a:lnTo>
                  <a:lnTo>
                    <a:pt x="2778" y="1043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1141560" y="4319280"/>
              <a:ext cx="827640" cy="254880"/>
            </a:xfrm>
            <a:custGeom>
              <a:avLst/>
              <a:gdLst/>
              <a:ahLst/>
              <a:rect l="l" t="t" r="r" b="b"/>
              <a:pathLst>
                <a:path w="23146" h="4749">
                  <a:moveTo>
                    <a:pt x="23146" y="0"/>
                  </a:moveTo>
                  <a:lnTo>
                    <a:pt x="22336" y="232"/>
                  </a:lnTo>
                  <a:lnTo>
                    <a:pt x="21526" y="464"/>
                  </a:lnTo>
                  <a:lnTo>
                    <a:pt x="20600" y="695"/>
                  </a:lnTo>
                  <a:lnTo>
                    <a:pt x="19790" y="1043"/>
                  </a:lnTo>
                  <a:lnTo>
                    <a:pt x="18980" y="1274"/>
                  </a:lnTo>
                  <a:lnTo>
                    <a:pt x="18054" y="1390"/>
                  </a:lnTo>
                  <a:lnTo>
                    <a:pt x="17128" y="1622"/>
                  </a:lnTo>
                  <a:lnTo>
                    <a:pt x="16318" y="1738"/>
                  </a:lnTo>
                  <a:lnTo>
                    <a:pt x="16318" y="1738"/>
                  </a:lnTo>
                  <a:lnTo>
                    <a:pt x="4397" y="4054"/>
                  </a:lnTo>
                  <a:lnTo>
                    <a:pt x="810" y="4749"/>
                  </a:lnTo>
                  <a:lnTo>
                    <a:pt x="0" y="4401"/>
                  </a:lnTo>
                  <a:lnTo>
                    <a:pt x="0" y="4401"/>
                  </a:lnTo>
                  <a:lnTo>
                    <a:pt x="2314" y="3938"/>
                  </a:lnTo>
                  <a:lnTo>
                    <a:pt x="4629" y="3591"/>
                  </a:lnTo>
                  <a:lnTo>
                    <a:pt x="6944" y="3127"/>
                  </a:lnTo>
                  <a:lnTo>
                    <a:pt x="9258" y="2664"/>
                  </a:lnTo>
                  <a:lnTo>
                    <a:pt x="11573" y="2201"/>
                  </a:lnTo>
                  <a:lnTo>
                    <a:pt x="13888" y="1738"/>
                  </a:lnTo>
                  <a:lnTo>
                    <a:pt x="16202" y="1274"/>
                  </a:lnTo>
                  <a:lnTo>
                    <a:pt x="18633" y="927"/>
                  </a:lnTo>
                  <a:lnTo>
                    <a:pt x="18633" y="927"/>
                  </a:lnTo>
                  <a:lnTo>
                    <a:pt x="19211" y="811"/>
                  </a:lnTo>
                  <a:lnTo>
                    <a:pt x="19674" y="695"/>
                  </a:lnTo>
                  <a:lnTo>
                    <a:pt x="20253" y="695"/>
                  </a:lnTo>
                  <a:lnTo>
                    <a:pt x="20831" y="579"/>
                  </a:lnTo>
                  <a:lnTo>
                    <a:pt x="21410" y="464"/>
                  </a:lnTo>
                  <a:lnTo>
                    <a:pt x="21989" y="348"/>
                  </a:lnTo>
                  <a:lnTo>
                    <a:pt x="22567" y="116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56720" y="4356360"/>
              <a:ext cx="74160" cy="335520"/>
            </a:xfrm>
            <a:custGeom>
              <a:avLst/>
              <a:gdLst/>
              <a:ahLst/>
              <a:rect l="l" t="t" r="r" b="b"/>
              <a:pathLst>
                <a:path w="2083" h="6254">
                  <a:moveTo>
                    <a:pt x="1620" y="0"/>
                  </a:moveTo>
                  <a:lnTo>
                    <a:pt x="1273" y="695"/>
                  </a:lnTo>
                  <a:lnTo>
                    <a:pt x="1041" y="1506"/>
                  </a:lnTo>
                  <a:lnTo>
                    <a:pt x="925" y="2316"/>
                  </a:lnTo>
                  <a:lnTo>
                    <a:pt x="925" y="3127"/>
                  </a:lnTo>
                  <a:lnTo>
                    <a:pt x="1041" y="3822"/>
                  </a:lnTo>
                  <a:lnTo>
                    <a:pt x="1273" y="4633"/>
                  </a:lnTo>
                  <a:lnTo>
                    <a:pt x="1620" y="5328"/>
                  </a:lnTo>
                  <a:lnTo>
                    <a:pt x="2083" y="5907"/>
                  </a:lnTo>
                  <a:lnTo>
                    <a:pt x="2083" y="5907"/>
                  </a:lnTo>
                  <a:lnTo>
                    <a:pt x="2083" y="6254"/>
                  </a:lnTo>
                  <a:lnTo>
                    <a:pt x="2083" y="6254"/>
                  </a:lnTo>
                  <a:lnTo>
                    <a:pt x="1851" y="6254"/>
                  </a:lnTo>
                  <a:lnTo>
                    <a:pt x="1736" y="6254"/>
                  </a:lnTo>
                  <a:lnTo>
                    <a:pt x="1504" y="6254"/>
                  </a:lnTo>
                  <a:lnTo>
                    <a:pt x="1388" y="6138"/>
                  </a:lnTo>
                  <a:lnTo>
                    <a:pt x="1273" y="6022"/>
                  </a:lnTo>
                  <a:lnTo>
                    <a:pt x="1041" y="5907"/>
                  </a:lnTo>
                  <a:lnTo>
                    <a:pt x="925" y="5907"/>
                  </a:lnTo>
                  <a:lnTo>
                    <a:pt x="810" y="5791"/>
                  </a:lnTo>
                  <a:lnTo>
                    <a:pt x="810" y="5791"/>
                  </a:lnTo>
                  <a:lnTo>
                    <a:pt x="462" y="5212"/>
                  </a:lnTo>
                  <a:lnTo>
                    <a:pt x="231" y="4748"/>
                  </a:lnTo>
                  <a:lnTo>
                    <a:pt x="0" y="4169"/>
                  </a:lnTo>
                  <a:lnTo>
                    <a:pt x="0" y="3475"/>
                  </a:lnTo>
                  <a:lnTo>
                    <a:pt x="0" y="2896"/>
                  </a:lnTo>
                  <a:lnTo>
                    <a:pt x="0" y="2201"/>
                  </a:lnTo>
                  <a:lnTo>
                    <a:pt x="115" y="1622"/>
                  </a:lnTo>
                  <a:lnTo>
                    <a:pt x="231" y="1043"/>
                  </a:lnTo>
                  <a:lnTo>
                    <a:pt x="231" y="1043"/>
                  </a:lnTo>
                  <a:lnTo>
                    <a:pt x="347" y="927"/>
                  </a:lnTo>
                  <a:lnTo>
                    <a:pt x="462" y="695"/>
                  </a:lnTo>
                  <a:lnTo>
                    <a:pt x="694" y="579"/>
                  </a:lnTo>
                  <a:lnTo>
                    <a:pt x="810" y="348"/>
                  </a:lnTo>
                  <a:lnTo>
                    <a:pt x="925" y="232"/>
                  </a:lnTo>
                  <a:lnTo>
                    <a:pt x="1157" y="116"/>
                  </a:lnTo>
                  <a:lnTo>
                    <a:pt x="1388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810720" y="4375080"/>
              <a:ext cx="37080" cy="279720"/>
            </a:xfrm>
            <a:custGeom>
              <a:avLst/>
              <a:gdLst/>
              <a:ahLst/>
              <a:rect l="l" t="t" r="r" b="b"/>
              <a:pathLst>
                <a:path w="1042" h="5211">
                  <a:moveTo>
                    <a:pt x="694" y="1968"/>
                  </a:moveTo>
                  <a:lnTo>
                    <a:pt x="1042" y="3706"/>
                  </a:lnTo>
                  <a:lnTo>
                    <a:pt x="810" y="5211"/>
                  </a:lnTo>
                  <a:lnTo>
                    <a:pt x="810" y="5211"/>
                  </a:lnTo>
                  <a:lnTo>
                    <a:pt x="463" y="4632"/>
                  </a:lnTo>
                  <a:lnTo>
                    <a:pt x="232" y="3937"/>
                  </a:lnTo>
                  <a:lnTo>
                    <a:pt x="0" y="3358"/>
                  </a:lnTo>
                  <a:lnTo>
                    <a:pt x="0" y="2663"/>
                  </a:lnTo>
                  <a:lnTo>
                    <a:pt x="0" y="1968"/>
                  </a:lnTo>
                  <a:lnTo>
                    <a:pt x="0" y="1274"/>
                  </a:lnTo>
                  <a:lnTo>
                    <a:pt x="232" y="579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694" y="231"/>
                  </a:lnTo>
                  <a:lnTo>
                    <a:pt x="810" y="463"/>
                  </a:lnTo>
                  <a:lnTo>
                    <a:pt x="810" y="695"/>
                  </a:lnTo>
                  <a:lnTo>
                    <a:pt x="810" y="926"/>
                  </a:lnTo>
                  <a:lnTo>
                    <a:pt x="694" y="1158"/>
                  </a:lnTo>
                  <a:lnTo>
                    <a:pt x="694" y="1505"/>
                  </a:lnTo>
                  <a:lnTo>
                    <a:pt x="579" y="1737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1878480" y="4381560"/>
              <a:ext cx="32760" cy="55800"/>
            </a:xfrm>
            <a:custGeom>
              <a:avLst/>
              <a:gdLst/>
              <a:ahLst/>
              <a:rect l="l" t="t" r="r" b="b"/>
              <a:pathLst>
                <a:path w="926" h="1042">
                  <a:moveTo>
                    <a:pt x="926" y="926"/>
                  </a:moveTo>
                  <a:lnTo>
                    <a:pt x="926" y="1042"/>
                  </a:lnTo>
                  <a:lnTo>
                    <a:pt x="926" y="1042"/>
                  </a:lnTo>
                  <a:lnTo>
                    <a:pt x="810" y="1042"/>
                  </a:lnTo>
                  <a:lnTo>
                    <a:pt x="694" y="1042"/>
                  </a:lnTo>
                  <a:lnTo>
                    <a:pt x="579" y="1042"/>
                  </a:lnTo>
                  <a:lnTo>
                    <a:pt x="463" y="926"/>
                  </a:lnTo>
                  <a:lnTo>
                    <a:pt x="347" y="926"/>
                  </a:lnTo>
                  <a:lnTo>
                    <a:pt x="231" y="810"/>
                  </a:lnTo>
                  <a:lnTo>
                    <a:pt x="116" y="694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579" y="0"/>
                  </a:lnTo>
                  <a:lnTo>
                    <a:pt x="694" y="115"/>
                  </a:lnTo>
                  <a:lnTo>
                    <a:pt x="810" y="115"/>
                  </a:lnTo>
                  <a:lnTo>
                    <a:pt x="810" y="347"/>
                  </a:lnTo>
                  <a:lnTo>
                    <a:pt x="810" y="463"/>
                  </a:lnTo>
                  <a:lnTo>
                    <a:pt x="926" y="579"/>
                  </a:lnTo>
                  <a:lnTo>
                    <a:pt x="926" y="810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2320" y="4393800"/>
              <a:ext cx="227520" cy="391680"/>
            </a:xfrm>
            <a:custGeom>
              <a:avLst/>
              <a:gdLst/>
              <a:ahLst/>
              <a:rect l="l" t="t" r="r" b="b"/>
              <a:pathLst>
                <a:path w="6365" h="7296">
                  <a:moveTo>
                    <a:pt x="6365" y="5791"/>
                  </a:moveTo>
                  <a:lnTo>
                    <a:pt x="5671" y="6022"/>
                  </a:lnTo>
                  <a:lnTo>
                    <a:pt x="4977" y="6370"/>
                  </a:lnTo>
                  <a:lnTo>
                    <a:pt x="4282" y="6717"/>
                  </a:lnTo>
                  <a:lnTo>
                    <a:pt x="3588" y="7065"/>
                  </a:lnTo>
                  <a:lnTo>
                    <a:pt x="2778" y="7296"/>
                  </a:lnTo>
                  <a:lnTo>
                    <a:pt x="2083" y="7296"/>
                  </a:lnTo>
                  <a:lnTo>
                    <a:pt x="1389" y="6949"/>
                  </a:lnTo>
                  <a:lnTo>
                    <a:pt x="810" y="6370"/>
                  </a:lnTo>
                  <a:lnTo>
                    <a:pt x="810" y="6370"/>
                  </a:lnTo>
                  <a:lnTo>
                    <a:pt x="463" y="5906"/>
                  </a:lnTo>
                  <a:lnTo>
                    <a:pt x="116" y="5327"/>
                  </a:lnTo>
                  <a:lnTo>
                    <a:pt x="0" y="4748"/>
                  </a:lnTo>
                  <a:lnTo>
                    <a:pt x="0" y="4169"/>
                  </a:lnTo>
                  <a:lnTo>
                    <a:pt x="0" y="3590"/>
                  </a:lnTo>
                  <a:lnTo>
                    <a:pt x="0" y="3011"/>
                  </a:lnTo>
                  <a:lnTo>
                    <a:pt x="116" y="2432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695" y="1274"/>
                  </a:lnTo>
                  <a:lnTo>
                    <a:pt x="1157" y="811"/>
                  </a:lnTo>
                  <a:lnTo>
                    <a:pt x="1736" y="579"/>
                  </a:lnTo>
                  <a:lnTo>
                    <a:pt x="2431" y="463"/>
                  </a:lnTo>
                  <a:lnTo>
                    <a:pt x="3125" y="348"/>
                  </a:lnTo>
                  <a:lnTo>
                    <a:pt x="3935" y="232"/>
                  </a:lnTo>
                  <a:lnTo>
                    <a:pt x="4629" y="232"/>
                  </a:lnTo>
                  <a:lnTo>
                    <a:pt x="5208" y="0"/>
                  </a:lnTo>
                  <a:lnTo>
                    <a:pt x="5208" y="0"/>
                  </a:lnTo>
                  <a:lnTo>
                    <a:pt x="5092" y="811"/>
                  </a:lnTo>
                  <a:lnTo>
                    <a:pt x="4977" y="1506"/>
                  </a:lnTo>
                  <a:lnTo>
                    <a:pt x="4977" y="2316"/>
                  </a:lnTo>
                  <a:lnTo>
                    <a:pt x="4977" y="3127"/>
                  </a:lnTo>
                  <a:lnTo>
                    <a:pt x="5092" y="3938"/>
                  </a:lnTo>
                  <a:lnTo>
                    <a:pt x="5324" y="4633"/>
                  </a:lnTo>
                  <a:lnTo>
                    <a:pt x="5787" y="5327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close/>
                </a:path>
              </a:pathLst>
            </a:custGeom>
            <a:solidFill>
              <a:srgbClr val="ff3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1026000" y="4399920"/>
              <a:ext cx="835920" cy="857880"/>
            </a:xfrm>
            <a:custGeom>
              <a:avLst/>
              <a:gdLst/>
              <a:ahLst/>
              <a:rect l="l" t="t" r="r" b="b"/>
              <a:pathLst>
                <a:path w="23378" h="15982">
                  <a:moveTo>
                    <a:pt x="23378" y="6949"/>
                  </a:moveTo>
                  <a:lnTo>
                    <a:pt x="23031" y="7180"/>
                  </a:lnTo>
                  <a:lnTo>
                    <a:pt x="22568" y="7412"/>
                  </a:lnTo>
                  <a:lnTo>
                    <a:pt x="22221" y="7528"/>
                  </a:lnTo>
                  <a:lnTo>
                    <a:pt x="21758" y="7528"/>
                  </a:lnTo>
                  <a:lnTo>
                    <a:pt x="21295" y="7643"/>
                  </a:lnTo>
                  <a:lnTo>
                    <a:pt x="20832" y="7643"/>
                  </a:lnTo>
                  <a:lnTo>
                    <a:pt x="20369" y="7759"/>
                  </a:lnTo>
                  <a:lnTo>
                    <a:pt x="19906" y="7875"/>
                  </a:lnTo>
                  <a:lnTo>
                    <a:pt x="19906" y="7875"/>
                  </a:lnTo>
                  <a:lnTo>
                    <a:pt x="16203" y="9033"/>
                  </a:lnTo>
                  <a:lnTo>
                    <a:pt x="2778" y="15055"/>
                  </a:lnTo>
                  <a:lnTo>
                    <a:pt x="2778" y="15055"/>
                  </a:lnTo>
                  <a:lnTo>
                    <a:pt x="2546" y="15171"/>
                  </a:lnTo>
                  <a:lnTo>
                    <a:pt x="2199" y="15403"/>
                  </a:lnTo>
                  <a:lnTo>
                    <a:pt x="1852" y="15518"/>
                  </a:lnTo>
                  <a:lnTo>
                    <a:pt x="1505" y="15750"/>
                  </a:lnTo>
                  <a:lnTo>
                    <a:pt x="1157" y="15866"/>
                  </a:lnTo>
                  <a:lnTo>
                    <a:pt x="810" y="15982"/>
                  </a:lnTo>
                  <a:lnTo>
                    <a:pt x="463" y="15982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0" y="14592"/>
                  </a:lnTo>
                  <a:lnTo>
                    <a:pt x="116" y="13202"/>
                  </a:lnTo>
                  <a:lnTo>
                    <a:pt x="116" y="11813"/>
                  </a:lnTo>
                  <a:lnTo>
                    <a:pt x="232" y="10423"/>
                  </a:lnTo>
                  <a:lnTo>
                    <a:pt x="347" y="8917"/>
                  </a:lnTo>
                  <a:lnTo>
                    <a:pt x="347" y="7528"/>
                  </a:lnTo>
                  <a:lnTo>
                    <a:pt x="463" y="6138"/>
                  </a:lnTo>
                  <a:lnTo>
                    <a:pt x="579" y="4748"/>
                  </a:lnTo>
                  <a:lnTo>
                    <a:pt x="579" y="4748"/>
                  </a:lnTo>
                  <a:lnTo>
                    <a:pt x="1157" y="4748"/>
                  </a:lnTo>
                  <a:lnTo>
                    <a:pt x="1620" y="4980"/>
                  </a:lnTo>
                  <a:lnTo>
                    <a:pt x="2083" y="5211"/>
                  </a:lnTo>
                  <a:lnTo>
                    <a:pt x="2546" y="5559"/>
                  </a:lnTo>
                  <a:lnTo>
                    <a:pt x="3009" y="5790"/>
                  </a:lnTo>
                  <a:lnTo>
                    <a:pt x="3472" y="5790"/>
                  </a:lnTo>
                  <a:lnTo>
                    <a:pt x="3935" y="5675"/>
                  </a:lnTo>
                  <a:lnTo>
                    <a:pt x="4514" y="5327"/>
                  </a:lnTo>
                  <a:lnTo>
                    <a:pt x="4514" y="5327"/>
                  </a:lnTo>
                  <a:lnTo>
                    <a:pt x="4514" y="5211"/>
                  </a:lnTo>
                  <a:lnTo>
                    <a:pt x="4629" y="5096"/>
                  </a:lnTo>
                  <a:lnTo>
                    <a:pt x="4629" y="4980"/>
                  </a:lnTo>
                  <a:lnTo>
                    <a:pt x="4745" y="4980"/>
                  </a:lnTo>
                  <a:lnTo>
                    <a:pt x="4745" y="4864"/>
                  </a:lnTo>
                  <a:lnTo>
                    <a:pt x="4745" y="4748"/>
                  </a:lnTo>
                  <a:lnTo>
                    <a:pt x="4861" y="4632"/>
                  </a:lnTo>
                  <a:lnTo>
                    <a:pt x="4861" y="4517"/>
                  </a:lnTo>
                  <a:lnTo>
                    <a:pt x="4861" y="4517"/>
                  </a:lnTo>
                  <a:lnTo>
                    <a:pt x="4861" y="4401"/>
                  </a:lnTo>
                  <a:lnTo>
                    <a:pt x="4745" y="4285"/>
                  </a:lnTo>
                  <a:lnTo>
                    <a:pt x="4745" y="4169"/>
                  </a:lnTo>
                  <a:lnTo>
                    <a:pt x="4745" y="4053"/>
                  </a:lnTo>
                  <a:lnTo>
                    <a:pt x="4745" y="3937"/>
                  </a:lnTo>
                  <a:lnTo>
                    <a:pt x="4629" y="3822"/>
                  </a:lnTo>
                  <a:lnTo>
                    <a:pt x="4629" y="3706"/>
                  </a:lnTo>
                  <a:lnTo>
                    <a:pt x="4514" y="3706"/>
                  </a:lnTo>
                  <a:lnTo>
                    <a:pt x="4514" y="3706"/>
                  </a:lnTo>
                  <a:lnTo>
                    <a:pt x="6828" y="3127"/>
                  </a:lnTo>
                  <a:lnTo>
                    <a:pt x="9143" y="2664"/>
                  </a:lnTo>
                  <a:lnTo>
                    <a:pt x="11458" y="2316"/>
                  </a:lnTo>
                  <a:lnTo>
                    <a:pt x="13772" y="1853"/>
                  </a:lnTo>
                  <a:lnTo>
                    <a:pt x="15971" y="1390"/>
                  </a:lnTo>
                  <a:lnTo>
                    <a:pt x="18286" y="1042"/>
                  </a:lnTo>
                  <a:lnTo>
                    <a:pt x="20600" y="579"/>
                  </a:lnTo>
                  <a:lnTo>
                    <a:pt x="22799" y="0"/>
                  </a:lnTo>
                  <a:lnTo>
                    <a:pt x="22799" y="0"/>
                  </a:lnTo>
                  <a:lnTo>
                    <a:pt x="22799" y="926"/>
                  </a:lnTo>
                  <a:lnTo>
                    <a:pt x="22799" y="1737"/>
                  </a:lnTo>
                  <a:lnTo>
                    <a:pt x="22799" y="2664"/>
                  </a:lnTo>
                  <a:lnTo>
                    <a:pt x="22799" y="3590"/>
                  </a:lnTo>
                  <a:lnTo>
                    <a:pt x="22915" y="4401"/>
                  </a:lnTo>
                  <a:lnTo>
                    <a:pt x="23031" y="5327"/>
                  </a:lnTo>
                  <a:lnTo>
                    <a:pt x="23147" y="6138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852120" y="4437360"/>
              <a:ext cx="20520" cy="111600"/>
            </a:xfrm>
            <a:custGeom>
              <a:avLst/>
              <a:gdLst/>
              <a:ahLst/>
              <a:rect l="l" t="t" r="r" b="b"/>
              <a:pathLst>
                <a:path w="579" h="2084">
                  <a:moveTo>
                    <a:pt x="579" y="695"/>
                  </a:moveTo>
                  <a:lnTo>
                    <a:pt x="116" y="2084"/>
                  </a:lnTo>
                  <a:lnTo>
                    <a:pt x="116" y="2084"/>
                  </a:lnTo>
                  <a:lnTo>
                    <a:pt x="0" y="1853"/>
                  </a:lnTo>
                  <a:lnTo>
                    <a:pt x="0" y="1621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0" y="810"/>
                  </a:lnTo>
                  <a:lnTo>
                    <a:pt x="0" y="579"/>
                  </a:lnTo>
                  <a:lnTo>
                    <a:pt x="0" y="231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232" y="0"/>
                  </a:lnTo>
                  <a:lnTo>
                    <a:pt x="348" y="116"/>
                  </a:lnTo>
                  <a:lnTo>
                    <a:pt x="348" y="116"/>
                  </a:lnTo>
                  <a:lnTo>
                    <a:pt x="463" y="231"/>
                  </a:lnTo>
                  <a:lnTo>
                    <a:pt x="463" y="347"/>
                  </a:lnTo>
                  <a:lnTo>
                    <a:pt x="463" y="463"/>
                  </a:lnTo>
                  <a:lnTo>
                    <a:pt x="463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87160" y="4654800"/>
              <a:ext cx="144720" cy="105480"/>
            </a:xfrm>
            <a:custGeom>
              <a:avLst/>
              <a:gdLst/>
              <a:ahLst/>
              <a:rect l="l" t="t" r="r" b="b"/>
              <a:pathLst>
                <a:path w="4050" h="1969">
                  <a:moveTo>
                    <a:pt x="1157" y="1274"/>
                  </a:moveTo>
                  <a:lnTo>
                    <a:pt x="1157" y="1158"/>
                  </a:lnTo>
                  <a:lnTo>
                    <a:pt x="1157" y="1042"/>
                  </a:lnTo>
                  <a:lnTo>
                    <a:pt x="1041" y="1042"/>
                  </a:lnTo>
                  <a:lnTo>
                    <a:pt x="1041" y="927"/>
                  </a:lnTo>
                  <a:lnTo>
                    <a:pt x="1041" y="811"/>
                  </a:lnTo>
                  <a:lnTo>
                    <a:pt x="925" y="695"/>
                  </a:lnTo>
                  <a:lnTo>
                    <a:pt x="925" y="579"/>
                  </a:lnTo>
                  <a:lnTo>
                    <a:pt x="925" y="463"/>
                  </a:lnTo>
                  <a:lnTo>
                    <a:pt x="925" y="463"/>
                  </a:lnTo>
                  <a:lnTo>
                    <a:pt x="1157" y="463"/>
                  </a:lnTo>
                  <a:lnTo>
                    <a:pt x="1273" y="579"/>
                  </a:lnTo>
                  <a:lnTo>
                    <a:pt x="1388" y="695"/>
                  </a:lnTo>
                  <a:lnTo>
                    <a:pt x="1504" y="927"/>
                  </a:lnTo>
                  <a:lnTo>
                    <a:pt x="1620" y="1042"/>
                  </a:lnTo>
                  <a:lnTo>
                    <a:pt x="1620" y="1158"/>
                  </a:lnTo>
                  <a:lnTo>
                    <a:pt x="1851" y="1274"/>
                  </a:lnTo>
                  <a:lnTo>
                    <a:pt x="1967" y="1390"/>
                  </a:lnTo>
                  <a:lnTo>
                    <a:pt x="1967" y="1390"/>
                  </a:lnTo>
                  <a:lnTo>
                    <a:pt x="1851" y="1274"/>
                  </a:lnTo>
                  <a:lnTo>
                    <a:pt x="1851" y="1158"/>
                  </a:lnTo>
                  <a:lnTo>
                    <a:pt x="1851" y="1042"/>
                  </a:lnTo>
                  <a:lnTo>
                    <a:pt x="1736" y="927"/>
                  </a:lnTo>
                  <a:lnTo>
                    <a:pt x="1736" y="811"/>
                  </a:lnTo>
                  <a:lnTo>
                    <a:pt x="1736" y="695"/>
                  </a:lnTo>
                  <a:lnTo>
                    <a:pt x="1620" y="579"/>
                  </a:lnTo>
                  <a:lnTo>
                    <a:pt x="1620" y="463"/>
                  </a:lnTo>
                  <a:lnTo>
                    <a:pt x="1620" y="463"/>
                  </a:lnTo>
                  <a:lnTo>
                    <a:pt x="1851" y="463"/>
                  </a:lnTo>
                  <a:lnTo>
                    <a:pt x="1967" y="579"/>
                  </a:lnTo>
                  <a:lnTo>
                    <a:pt x="2083" y="811"/>
                  </a:lnTo>
                  <a:lnTo>
                    <a:pt x="2083" y="927"/>
                  </a:lnTo>
                  <a:lnTo>
                    <a:pt x="2198" y="1158"/>
                  </a:lnTo>
                  <a:lnTo>
                    <a:pt x="2314" y="1274"/>
                  </a:lnTo>
                  <a:lnTo>
                    <a:pt x="2546" y="1274"/>
                  </a:lnTo>
                  <a:lnTo>
                    <a:pt x="2777" y="1274"/>
                  </a:lnTo>
                  <a:lnTo>
                    <a:pt x="2777" y="1274"/>
                  </a:lnTo>
                  <a:lnTo>
                    <a:pt x="2661" y="1158"/>
                  </a:lnTo>
                  <a:lnTo>
                    <a:pt x="2661" y="1042"/>
                  </a:lnTo>
                  <a:lnTo>
                    <a:pt x="2661" y="1042"/>
                  </a:lnTo>
                  <a:lnTo>
                    <a:pt x="2546" y="927"/>
                  </a:lnTo>
                  <a:lnTo>
                    <a:pt x="2546" y="811"/>
                  </a:lnTo>
                  <a:lnTo>
                    <a:pt x="2430" y="695"/>
                  </a:lnTo>
                  <a:lnTo>
                    <a:pt x="2430" y="695"/>
                  </a:lnTo>
                  <a:lnTo>
                    <a:pt x="2430" y="579"/>
                  </a:lnTo>
                  <a:lnTo>
                    <a:pt x="2430" y="579"/>
                  </a:lnTo>
                  <a:lnTo>
                    <a:pt x="2546" y="579"/>
                  </a:lnTo>
                  <a:lnTo>
                    <a:pt x="2777" y="695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3009" y="1042"/>
                  </a:lnTo>
                  <a:lnTo>
                    <a:pt x="3124" y="1158"/>
                  </a:lnTo>
                  <a:lnTo>
                    <a:pt x="3356" y="1158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356" y="927"/>
                  </a:lnTo>
                  <a:lnTo>
                    <a:pt x="3240" y="811"/>
                  </a:lnTo>
                  <a:lnTo>
                    <a:pt x="3124" y="695"/>
                  </a:lnTo>
                  <a:lnTo>
                    <a:pt x="3009" y="579"/>
                  </a:lnTo>
                  <a:lnTo>
                    <a:pt x="3009" y="463"/>
                  </a:lnTo>
                  <a:lnTo>
                    <a:pt x="3009" y="348"/>
                  </a:lnTo>
                  <a:lnTo>
                    <a:pt x="3009" y="232"/>
                  </a:lnTo>
                  <a:lnTo>
                    <a:pt x="3009" y="232"/>
                  </a:lnTo>
                  <a:lnTo>
                    <a:pt x="3124" y="348"/>
                  </a:lnTo>
                  <a:lnTo>
                    <a:pt x="3240" y="348"/>
                  </a:lnTo>
                  <a:lnTo>
                    <a:pt x="3356" y="463"/>
                  </a:lnTo>
                  <a:lnTo>
                    <a:pt x="3471" y="579"/>
                  </a:lnTo>
                  <a:lnTo>
                    <a:pt x="3587" y="695"/>
                  </a:lnTo>
                  <a:lnTo>
                    <a:pt x="3819" y="811"/>
                  </a:lnTo>
                  <a:lnTo>
                    <a:pt x="3934" y="811"/>
                  </a:lnTo>
                  <a:lnTo>
                    <a:pt x="4050" y="927"/>
                  </a:lnTo>
                  <a:lnTo>
                    <a:pt x="4050" y="927"/>
                  </a:lnTo>
                  <a:lnTo>
                    <a:pt x="3934" y="1042"/>
                  </a:lnTo>
                  <a:lnTo>
                    <a:pt x="3819" y="1042"/>
                  </a:lnTo>
                  <a:lnTo>
                    <a:pt x="3703" y="1158"/>
                  </a:lnTo>
                  <a:lnTo>
                    <a:pt x="3587" y="1158"/>
                  </a:lnTo>
                  <a:lnTo>
                    <a:pt x="3471" y="1158"/>
                  </a:lnTo>
                  <a:lnTo>
                    <a:pt x="3356" y="1158"/>
                  </a:lnTo>
                  <a:lnTo>
                    <a:pt x="3356" y="1274"/>
                  </a:lnTo>
                  <a:lnTo>
                    <a:pt x="3471" y="1390"/>
                  </a:lnTo>
                  <a:lnTo>
                    <a:pt x="3471" y="1390"/>
                  </a:lnTo>
                  <a:lnTo>
                    <a:pt x="3009" y="1506"/>
                  </a:lnTo>
                  <a:lnTo>
                    <a:pt x="3009" y="1506"/>
                  </a:lnTo>
                  <a:lnTo>
                    <a:pt x="2893" y="1621"/>
                  </a:lnTo>
                  <a:lnTo>
                    <a:pt x="2777" y="1737"/>
                  </a:lnTo>
                  <a:lnTo>
                    <a:pt x="2661" y="1737"/>
                  </a:lnTo>
                  <a:lnTo>
                    <a:pt x="2546" y="1853"/>
                  </a:lnTo>
                  <a:lnTo>
                    <a:pt x="2314" y="1853"/>
                  </a:lnTo>
                  <a:lnTo>
                    <a:pt x="2198" y="1853"/>
                  </a:lnTo>
                  <a:lnTo>
                    <a:pt x="1967" y="1969"/>
                  </a:lnTo>
                  <a:lnTo>
                    <a:pt x="1851" y="1969"/>
                  </a:lnTo>
                  <a:lnTo>
                    <a:pt x="1851" y="1969"/>
                  </a:lnTo>
                  <a:lnTo>
                    <a:pt x="1736" y="1969"/>
                  </a:lnTo>
                  <a:lnTo>
                    <a:pt x="1504" y="1969"/>
                  </a:lnTo>
                  <a:lnTo>
                    <a:pt x="1273" y="1853"/>
                  </a:lnTo>
                  <a:lnTo>
                    <a:pt x="1157" y="1737"/>
                  </a:lnTo>
                  <a:lnTo>
                    <a:pt x="925" y="1621"/>
                  </a:lnTo>
                  <a:lnTo>
                    <a:pt x="810" y="1506"/>
                  </a:lnTo>
                  <a:lnTo>
                    <a:pt x="694" y="1390"/>
                  </a:lnTo>
                  <a:lnTo>
                    <a:pt x="462" y="1274"/>
                  </a:lnTo>
                  <a:lnTo>
                    <a:pt x="462" y="1274"/>
                  </a:lnTo>
                  <a:lnTo>
                    <a:pt x="347" y="1158"/>
                  </a:lnTo>
                  <a:lnTo>
                    <a:pt x="231" y="927"/>
                  </a:lnTo>
                  <a:lnTo>
                    <a:pt x="231" y="811"/>
                  </a:lnTo>
                  <a:lnTo>
                    <a:pt x="115" y="579"/>
                  </a:lnTo>
                  <a:lnTo>
                    <a:pt x="0" y="463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5" y="116"/>
                  </a:lnTo>
                  <a:lnTo>
                    <a:pt x="231" y="348"/>
                  </a:lnTo>
                  <a:lnTo>
                    <a:pt x="347" y="463"/>
                  </a:lnTo>
                  <a:lnTo>
                    <a:pt x="462" y="695"/>
                  </a:lnTo>
                  <a:lnTo>
                    <a:pt x="578" y="811"/>
                  </a:lnTo>
                  <a:lnTo>
                    <a:pt x="810" y="1042"/>
                  </a:lnTo>
                  <a:lnTo>
                    <a:pt x="925" y="1158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719640" y="4654800"/>
              <a:ext cx="37080" cy="43200"/>
            </a:xfrm>
            <a:custGeom>
              <a:avLst/>
              <a:gdLst/>
              <a:ahLst/>
              <a:rect l="l" t="t" r="r" b="b"/>
              <a:pathLst>
                <a:path w="1042" h="811">
                  <a:moveTo>
                    <a:pt x="1042" y="811"/>
                  </a:moveTo>
                  <a:lnTo>
                    <a:pt x="926" y="811"/>
                  </a:lnTo>
                  <a:lnTo>
                    <a:pt x="810" y="811"/>
                  </a:lnTo>
                  <a:lnTo>
                    <a:pt x="694" y="811"/>
                  </a:lnTo>
                  <a:lnTo>
                    <a:pt x="579" y="811"/>
                  </a:lnTo>
                  <a:lnTo>
                    <a:pt x="463" y="695"/>
                  </a:lnTo>
                  <a:lnTo>
                    <a:pt x="347" y="695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231" y="232"/>
                  </a:lnTo>
                  <a:lnTo>
                    <a:pt x="463" y="348"/>
                  </a:lnTo>
                  <a:lnTo>
                    <a:pt x="694" y="348"/>
                  </a:lnTo>
                  <a:lnTo>
                    <a:pt x="810" y="348"/>
                  </a:lnTo>
                  <a:lnTo>
                    <a:pt x="926" y="463"/>
                  </a:lnTo>
                  <a:lnTo>
                    <a:pt x="1042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984600" y="4661280"/>
              <a:ext cx="45360" cy="553320"/>
            </a:xfrm>
            <a:custGeom>
              <a:avLst/>
              <a:gdLst/>
              <a:ahLst/>
              <a:rect l="l" t="t" r="r" b="b"/>
              <a:pathLst>
                <a:path w="1273" h="10307">
                  <a:moveTo>
                    <a:pt x="1273" y="116"/>
                  </a:moveTo>
                  <a:lnTo>
                    <a:pt x="1273" y="1274"/>
                  </a:lnTo>
                  <a:lnTo>
                    <a:pt x="1157" y="2548"/>
                  </a:lnTo>
                  <a:lnTo>
                    <a:pt x="1157" y="3706"/>
                  </a:lnTo>
                  <a:lnTo>
                    <a:pt x="1041" y="4980"/>
                  </a:lnTo>
                  <a:lnTo>
                    <a:pt x="926" y="6254"/>
                  </a:lnTo>
                  <a:lnTo>
                    <a:pt x="810" y="7528"/>
                  </a:lnTo>
                  <a:lnTo>
                    <a:pt x="694" y="8917"/>
                  </a:lnTo>
                  <a:lnTo>
                    <a:pt x="694" y="10191"/>
                  </a:lnTo>
                  <a:lnTo>
                    <a:pt x="694" y="10191"/>
                  </a:lnTo>
                  <a:lnTo>
                    <a:pt x="578" y="10191"/>
                  </a:lnTo>
                  <a:lnTo>
                    <a:pt x="463" y="10191"/>
                  </a:lnTo>
                  <a:lnTo>
                    <a:pt x="347" y="10191"/>
                  </a:lnTo>
                  <a:lnTo>
                    <a:pt x="347" y="10307"/>
                  </a:lnTo>
                  <a:lnTo>
                    <a:pt x="231" y="10307"/>
                  </a:lnTo>
                  <a:lnTo>
                    <a:pt x="116" y="10307"/>
                  </a:lnTo>
                  <a:lnTo>
                    <a:pt x="116" y="10307"/>
                  </a:lnTo>
                  <a:lnTo>
                    <a:pt x="0" y="10307"/>
                  </a:lnTo>
                  <a:lnTo>
                    <a:pt x="0" y="10307"/>
                  </a:lnTo>
                  <a:lnTo>
                    <a:pt x="0" y="9033"/>
                  </a:lnTo>
                  <a:lnTo>
                    <a:pt x="116" y="7759"/>
                  </a:lnTo>
                  <a:lnTo>
                    <a:pt x="231" y="6485"/>
                  </a:lnTo>
                  <a:lnTo>
                    <a:pt x="347" y="5211"/>
                  </a:lnTo>
                  <a:lnTo>
                    <a:pt x="463" y="4053"/>
                  </a:lnTo>
                  <a:lnTo>
                    <a:pt x="578" y="2779"/>
                  </a:lnTo>
                  <a:lnTo>
                    <a:pt x="694" y="1505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1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959760" y="4679640"/>
              <a:ext cx="45360" cy="528480"/>
            </a:xfrm>
            <a:custGeom>
              <a:avLst/>
              <a:gdLst/>
              <a:ahLst/>
              <a:rect l="l" t="t" r="r" b="b"/>
              <a:pathLst>
                <a:path w="1273" h="9844">
                  <a:moveTo>
                    <a:pt x="1273" y="0"/>
                  </a:moveTo>
                  <a:lnTo>
                    <a:pt x="1042" y="1158"/>
                  </a:lnTo>
                  <a:lnTo>
                    <a:pt x="926" y="2432"/>
                  </a:lnTo>
                  <a:lnTo>
                    <a:pt x="811" y="3590"/>
                  </a:lnTo>
                  <a:lnTo>
                    <a:pt x="695" y="4864"/>
                  </a:lnTo>
                  <a:lnTo>
                    <a:pt x="579" y="6138"/>
                  </a:lnTo>
                  <a:lnTo>
                    <a:pt x="463" y="7412"/>
                  </a:lnTo>
                  <a:lnTo>
                    <a:pt x="463" y="8570"/>
                  </a:lnTo>
                  <a:lnTo>
                    <a:pt x="348" y="9844"/>
                  </a:lnTo>
                  <a:lnTo>
                    <a:pt x="348" y="9844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348" y="9844"/>
                  </a:lnTo>
                  <a:lnTo>
                    <a:pt x="348" y="9728"/>
                  </a:lnTo>
                  <a:lnTo>
                    <a:pt x="232" y="9728"/>
                  </a:lnTo>
                  <a:lnTo>
                    <a:pt x="116" y="9728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8570"/>
                  </a:lnTo>
                  <a:lnTo>
                    <a:pt x="116" y="7412"/>
                  </a:lnTo>
                  <a:lnTo>
                    <a:pt x="116" y="6254"/>
                  </a:lnTo>
                  <a:lnTo>
                    <a:pt x="232" y="4980"/>
                  </a:lnTo>
                  <a:lnTo>
                    <a:pt x="348" y="3822"/>
                  </a:lnTo>
                  <a:lnTo>
                    <a:pt x="463" y="2548"/>
                  </a:lnTo>
                  <a:lnTo>
                    <a:pt x="579" y="1390"/>
                  </a:lnTo>
                  <a:lnTo>
                    <a:pt x="811" y="232"/>
                  </a:lnTo>
                  <a:lnTo>
                    <a:pt x="811" y="232"/>
                  </a:lnTo>
                  <a:lnTo>
                    <a:pt x="926" y="232"/>
                  </a:lnTo>
                  <a:lnTo>
                    <a:pt x="926" y="116"/>
                  </a:lnTo>
                  <a:lnTo>
                    <a:pt x="1042" y="116"/>
                  </a:lnTo>
                  <a:lnTo>
                    <a:pt x="1042" y="116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926640" y="4698360"/>
              <a:ext cx="45360" cy="472320"/>
            </a:xfrm>
            <a:custGeom>
              <a:avLst/>
              <a:gdLst/>
              <a:ahLst/>
              <a:rect l="l" t="t" r="r" b="b"/>
              <a:pathLst>
                <a:path w="1273" h="8801">
                  <a:moveTo>
                    <a:pt x="578" y="8801"/>
                  </a:moveTo>
                  <a:lnTo>
                    <a:pt x="462" y="8801"/>
                  </a:lnTo>
                  <a:lnTo>
                    <a:pt x="462" y="8801"/>
                  </a:lnTo>
                  <a:lnTo>
                    <a:pt x="347" y="8801"/>
                  </a:lnTo>
                  <a:lnTo>
                    <a:pt x="231" y="8801"/>
                  </a:lnTo>
                  <a:lnTo>
                    <a:pt x="231" y="8801"/>
                  </a:lnTo>
                  <a:lnTo>
                    <a:pt x="115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115" y="7643"/>
                  </a:lnTo>
                  <a:lnTo>
                    <a:pt x="231" y="6485"/>
                  </a:lnTo>
                  <a:lnTo>
                    <a:pt x="347" y="5443"/>
                  </a:lnTo>
                  <a:lnTo>
                    <a:pt x="462" y="4285"/>
                  </a:lnTo>
                  <a:lnTo>
                    <a:pt x="694" y="3127"/>
                  </a:lnTo>
                  <a:lnTo>
                    <a:pt x="925" y="2084"/>
                  </a:lnTo>
                  <a:lnTo>
                    <a:pt x="1041" y="1042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157" y="1042"/>
                  </a:lnTo>
                  <a:lnTo>
                    <a:pt x="1041" y="2200"/>
                  </a:lnTo>
                  <a:lnTo>
                    <a:pt x="925" y="3242"/>
                  </a:lnTo>
                  <a:lnTo>
                    <a:pt x="810" y="4401"/>
                  </a:lnTo>
                  <a:lnTo>
                    <a:pt x="810" y="5443"/>
                  </a:lnTo>
                  <a:lnTo>
                    <a:pt x="694" y="6485"/>
                  </a:lnTo>
                  <a:lnTo>
                    <a:pt x="694" y="7643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1642320" y="4860000"/>
              <a:ext cx="264600" cy="945000"/>
            </a:xfrm>
            <a:custGeom>
              <a:avLst/>
              <a:gdLst/>
              <a:ahLst/>
              <a:rect l="l" t="t" r="r" b="b"/>
              <a:pathLst>
                <a:path w="7407" h="17603">
                  <a:moveTo>
                    <a:pt x="3356" y="0"/>
                  </a:moveTo>
                  <a:lnTo>
                    <a:pt x="3588" y="463"/>
                  </a:lnTo>
                  <a:lnTo>
                    <a:pt x="3935" y="1042"/>
                  </a:lnTo>
                  <a:lnTo>
                    <a:pt x="4282" y="1505"/>
                  </a:lnTo>
                  <a:lnTo>
                    <a:pt x="4630" y="1969"/>
                  </a:lnTo>
                  <a:lnTo>
                    <a:pt x="4861" y="2432"/>
                  </a:lnTo>
                  <a:lnTo>
                    <a:pt x="5208" y="2895"/>
                  </a:lnTo>
                  <a:lnTo>
                    <a:pt x="5440" y="3358"/>
                  </a:lnTo>
                  <a:lnTo>
                    <a:pt x="5555" y="3937"/>
                  </a:lnTo>
                  <a:lnTo>
                    <a:pt x="5555" y="3937"/>
                  </a:lnTo>
                  <a:lnTo>
                    <a:pt x="5555" y="4632"/>
                  </a:lnTo>
                  <a:lnTo>
                    <a:pt x="5324" y="5443"/>
                  </a:lnTo>
                  <a:lnTo>
                    <a:pt x="5208" y="6254"/>
                  </a:lnTo>
                  <a:lnTo>
                    <a:pt x="4977" y="7064"/>
                  </a:lnTo>
                  <a:lnTo>
                    <a:pt x="4861" y="7875"/>
                  </a:lnTo>
                  <a:lnTo>
                    <a:pt x="4745" y="8686"/>
                  </a:lnTo>
                  <a:lnTo>
                    <a:pt x="4630" y="9496"/>
                  </a:lnTo>
                  <a:lnTo>
                    <a:pt x="4514" y="10307"/>
                  </a:lnTo>
                  <a:lnTo>
                    <a:pt x="4514" y="10307"/>
                  </a:lnTo>
                  <a:lnTo>
                    <a:pt x="4630" y="10654"/>
                  </a:lnTo>
                  <a:lnTo>
                    <a:pt x="4861" y="10886"/>
                  </a:lnTo>
                  <a:lnTo>
                    <a:pt x="5092" y="11118"/>
                  </a:lnTo>
                  <a:lnTo>
                    <a:pt x="5208" y="11349"/>
                  </a:lnTo>
                  <a:lnTo>
                    <a:pt x="5440" y="11697"/>
                  </a:lnTo>
                  <a:lnTo>
                    <a:pt x="5555" y="11928"/>
                  </a:lnTo>
                  <a:lnTo>
                    <a:pt x="5787" y="12160"/>
                  </a:lnTo>
                  <a:lnTo>
                    <a:pt x="5903" y="12507"/>
                  </a:lnTo>
                  <a:lnTo>
                    <a:pt x="5903" y="12507"/>
                  </a:lnTo>
                  <a:lnTo>
                    <a:pt x="5440" y="12507"/>
                  </a:lnTo>
                  <a:lnTo>
                    <a:pt x="5208" y="12623"/>
                  </a:lnTo>
                  <a:lnTo>
                    <a:pt x="4861" y="12739"/>
                  </a:lnTo>
                  <a:lnTo>
                    <a:pt x="4514" y="12739"/>
                  </a:lnTo>
                  <a:lnTo>
                    <a:pt x="4167" y="12855"/>
                  </a:lnTo>
                  <a:lnTo>
                    <a:pt x="3935" y="13086"/>
                  </a:lnTo>
                  <a:lnTo>
                    <a:pt x="3588" y="13202"/>
                  </a:lnTo>
                  <a:lnTo>
                    <a:pt x="3356" y="13434"/>
                  </a:lnTo>
                  <a:lnTo>
                    <a:pt x="3356" y="13434"/>
                  </a:lnTo>
                  <a:lnTo>
                    <a:pt x="3704" y="13318"/>
                  </a:lnTo>
                  <a:lnTo>
                    <a:pt x="4051" y="13318"/>
                  </a:lnTo>
                  <a:lnTo>
                    <a:pt x="4398" y="13202"/>
                  </a:lnTo>
                  <a:lnTo>
                    <a:pt x="4745" y="13086"/>
                  </a:lnTo>
                  <a:lnTo>
                    <a:pt x="5092" y="13086"/>
                  </a:lnTo>
                  <a:lnTo>
                    <a:pt x="5440" y="12971"/>
                  </a:lnTo>
                  <a:lnTo>
                    <a:pt x="5787" y="12971"/>
                  </a:lnTo>
                  <a:lnTo>
                    <a:pt x="6134" y="12971"/>
                  </a:lnTo>
                  <a:lnTo>
                    <a:pt x="6134" y="12971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250" y="13086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318"/>
                  </a:lnTo>
                  <a:lnTo>
                    <a:pt x="6250" y="13318"/>
                  </a:lnTo>
                  <a:lnTo>
                    <a:pt x="5903" y="13318"/>
                  </a:lnTo>
                  <a:lnTo>
                    <a:pt x="5555" y="13318"/>
                  </a:lnTo>
                  <a:lnTo>
                    <a:pt x="5324" y="13434"/>
                  </a:lnTo>
                  <a:lnTo>
                    <a:pt x="5092" y="13550"/>
                  </a:lnTo>
                  <a:lnTo>
                    <a:pt x="4745" y="13781"/>
                  </a:lnTo>
                  <a:lnTo>
                    <a:pt x="4514" y="13897"/>
                  </a:lnTo>
                  <a:lnTo>
                    <a:pt x="4282" y="14129"/>
                  </a:lnTo>
                  <a:lnTo>
                    <a:pt x="4051" y="14244"/>
                  </a:lnTo>
                  <a:lnTo>
                    <a:pt x="4051" y="14244"/>
                  </a:lnTo>
                  <a:lnTo>
                    <a:pt x="4167" y="14244"/>
                  </a:lnTo>
                  <a:lnTo>
                    <a:pt x="4282" y="14244"/>
                  </a:lnTo>
                  <a:lnTo>
                    <a:pt x="4514" y="14244"/>
                  </a:lnTo>
                  <a:lnTo>
                    <a:pt x="4630" y="14129"/>
                  </a:lnTo>
                  <a:lnTo>
                    <a:pt x="4745" y="14013"/>
                  </a:lnTo>
                  <a:lnTo>
                    <a:pt x="4861" y="14013"/>
                  </a:lnTo>
                  <a:lnTo>
                    <a:pt x="5092" y="14013"/>
                  </a:lnTo>
                  <a:lnTo>
                    <a:pt x="5208" y="13897"/>
                  </a:lnTo>
                  <a:lnTo>
                    <a:pt x="5208" y="13897"/>
                  </a:lnTo>
                  <a:lnTo>
                    <a:pt x="5440" y="13897"/>
                  </a:lnTo>
                  <a:lnTo>
                    <a:pt x="5555" y="13897"/>
                  </a:lnTo>
                  <a:lnTo>
                    <a:pt x="5787" y="13897"/>
                  </a:lnTo>
                  <a:lnTo>
                    <a:pt x="6018" y="13781"/>
                  </a:lnTo>
                  <a:lnTo>
                    <a:pt x="6134" y="13781"/>
                  </a:lnTo>
                  <a:lnTo>
                    <a:pt x="6366" y="13781"/>
                  </a:lnTo>
                  <a:lnTo>
                    <a:pt x="6481" y="13781"/>
                  </a:lnTo>
                  <a:lnTo>
                    <a:pt x="6713" y="13781"/>
                  </a:lnTo>
                  <a:lnTo>
                    <a:pt x="6713" y="13781"/>
                  </a:lnTo>
                  <a:lnTo>
                    <a:pt x="6828" y="14244"/>
                  </a:lnTo>
                  <a:lnTo>
                    <a:pt x="7060" y="14592"/>
                  </a:lnTo>
                  <a:lnTo>
                    <a:pt x="7176" y="15055"/>
                  </a:lnTo>
                  <a:lnTo>
                    <a:pt x="7291" y="15518"/>
                  </a:lnTo>
                  <a:lnTo>
                    <a:pt x="7407" y="15982"/>
                  </a:lnTo>
                  <a:lnTo>
                    <a:pt x="7407" y="16329"/>
                  </a:lnTo>
                  <a:lnTo>
                    <a:pt x="7407" y="16792"/>
                  </a:lnTo>
                  <a:lnTo>
                    <a:pt x="7176" y="17255"/>
                  </a:lnTo>
                  <a:lnTo>
                    <a:pt x="7176" y="17255"/>
                  </a:lnTo>
                  <a:lnTo>
                    <a:pt x="6713" y="17371"/>
                  </a:lnTo>
                  <a:lnTo>
                    <a:pt x="6250" y="17487"/>
                  </a:lnTo>
                  <a:lnTo>
                    <a:pt x="5671" y="17603"/>
                  </a:lnTo>
                  <a:lnTo>
                    <a:pt x="5208" y="17487"/>
                  </a:lnTo>
                  <a:lnTo>
                    <a:pt x="4745" y="17371"/>
                  </a:lnTo>
                  <a:lnTo>
                    <a:pt x="4167" y="17255"/>
                  </a:lnTo>
                  <a:lnTo>
                    <a:pt x="3704" y="17024"/>
                  </a:lnTo>
                  <a:lnTo>
                    <a:pt x="3356" y="16792"/>
                  </a:lnTo>
                  <a:lnTo>
                    <a:pt x="3356" y="16792"/>
                  </a:lnTo>
                  <a:lnTo>
                    <a:pt x="2894" y="16329"/>
                  </a:lnTo>
                  <a:lnTo>
                    <a:pt x="2662" y="15634"/>
                  </a:lnTo>
                  <a:lnTo>
                    <a:pt x="2431" y="15055"/>
                  </a:lnTo>
                  <a:lnTo>
                    <a:pt x="2199" y="14360"/>
                  </a:lnTo>
                  <a:lnTo>
                    <a:pt x="1968" y="13665"/>
                  </a:lnTo>
                  <a:lnTo>
                    <a:pt x="1620" y="13202"/>
                  </a:lnTo>
                  <a:lnTo>
                    <a:pt x="1158" y="12855"/>
                  </a:lnTo>
                  <a:lnTo>
                    <a:pt x="463" y="12623"/>
                  </a:lnTo>
                  <a:lnTo>
                    <a:pt x="463" y="12623"/>
                  </a:lnTo>
                  <a:lnTo>
                    <a:pt x="232" y="12507"/>
                  </a:lnTo>
                  <a:lnTo>
                    <a:pt x="232" y="12391"/>
                  </a:lnTo>
                  <a:lnTo>
                    <a:pt x="116" y="12276"/>
                  </a:lnTo>
                  <a:lnTo>
                    <a:pt x="0" y="12044"/>
                  </a:lnTo>
                  <a:lnTo>
                    <a:pt x="0" y="11928"/>
                  </a:lnTo>
                  <a:lnTo>
                    <a:pt x="0" y="11812"/>
                  </a:lnTo>
                  <a:lnTo>
                    <a:pt x="0" y="11581"/>
                  </a:lnTo>
                  <a:lnTo>
                    <a:pt x="116" y="11465"/>
                  </a:lnTo>
                  <a:lnTo>
                    <a:pt x="116" y="11465"/>
                  </a:lnTo>
                  <a:lnTo>
                    <a:pt x="347" y="11118"/>
                  </a:lnTo>
                  <a:lnTo>
                    <a:pt x="579" y="10770"/>
                  </a:lnTo>
                  <a:lnTo>
                    <a:pt x="926" y="10539"/>
                  </a:lnTo>
                  <a:lnTo>
                    <a:pt x="1273" y="10307"/>
                  </a:lnTo>
                  <a:lnTo>
                    <a:pt x="1620" y="10075"/>
                  </a:lnTo>
                  <a:lnTo>
                    <a:pt x="1968" y="9844"/>
                  </a:lnTo>
                  <a:lnTo>
                    <a:pt x="2199" y="9612"/>
                  </a:lnTo>
                  <a:lnTo>
                    <a:pt x="2431" y="9265"/>
                  </a:lnTo>
                  <a:lnTo>
                    <a:pt x="2431" y="9265"/>
                  </a:lnTo>
                  <a:lnTo>
                    <a:pt x="2546" y="8570"/>
                  </a:lnTo>
                  <a:lnTo>
                    <a:pt x="2662" y="7991"/>
                  </a:lnTo>
                  <a:lnTo>
                    <a:pt x="2778" y="7412"/>
                  </a:lnTo>
                  <a:lnTo>
                    <a:pt x="2894" y="6833"/>
                  </a:lnTo>
                  <a:lnTo>
                    <a:pt x="3009" y="6254"/>
                  </a:lnTo>
                  <a:lnTo>
                    <a:pt x="3125" y="5675"/>
                  </a:lnTo>
                  <a:lnTo>
                    <a:pt x="3241" y="5095"/>
                  </a:lnTo>
                  <a:lnTo>
                    <a:pt x="3241" y="4516"/>
                  </a:lnTo>
                  <a:lnTo>
                    <a:pt x="3241" y="4516"/>
                  </a:lnTo>
                  <a:lnTo>
                    <a:pt x="3125" y="4053"/>
                  </a:lnTo>
                  <a:lnTo>
                    <a:pt x="3009" y="3706"/>
                  </a:lnTo>
                  <a:lnTo>
                    <a:pt x="2778" y="3243"/>
                  </a:lnTo>
                  <a:lnTo>
                    <a:pt x="2546" y="2895"/>
                  </a:lnTo>
                  <a:lnTo>
                    <a:pt x="2315" y="2548"/>
                  </a:lnTo>
                  <a:lnTo>
                    <a:pt x="2083" y="2200"/>
                  </a:lnTo>
                  <a:lnTo>
                    <a:pt x="1736" y="1853"/>
                  </a:lnTo>
                  <a:lnTo>
                    <a:pt x="1505" y="1505"/>
                  </a:lnTo>
                  <a:lnTo>
                    <a:pt x="1505" y="1505"/>
                  </a:lnTo>
                  <a:lnTo>
                    <a:pt x="1389" y="1390"/>
                  </a:lnTo>
                  <a:lnTo>
                    <a:pt x="1273" y="1274"/>
                  </a:lnTo>
                  <a:lnTo>
                    <a:pt x="1273" y="1158"/>
                  </a:lnTo>
                  <a:lnTo>
                    <a:pt x="1273" y="1042"/>
                  </a:lnTo>
                  <a:lnTo>
                    <a:pt x="1389" y="926"/>
                  </a:lnTo>
                  <a:lnTo>
                    <a:pt x="1389" y="811"/>
                  </a:lnTo>
                  <a:lnTo>
                    <a:pt x="1505" y="811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852" y="463"/>
                  </a:lnTo>
                  <a:lnTo>
                    <a:pt x="1852" y="463"/>
                  </a:lnTo>
                  <a:lnTo>
                    <a:pt x="1852" y="579"/>
                  </a:lnTo>
                  <a:lnTo>
                    <a:pt x="1736" y="695"/>
                  </a:lnTo>
                  <a:lnTo>
                    <a:pt x="1620" y="811"/>
                  </a:lnTo>
                  <a:lnTo>
                    <a:pt x="1505" y="926"/>
                  </a:lnTo>
                  <a:lnTo>
                    <a:pt x="1505" y="1042"/>
                  </a:lnTo>
                  <a:lnTo>
                    <a:pt x="1505" y="1158"/>
                  </a:lnTo>
                  <a:lnTo>
                    <a:pt x="1505" y="1274"/>
                  </a:lnTo>
                  <a:lnTo>
                    <a:pt x="1852" y="1274"/>
                  </a:lnTo>
                  <a:lnTo>
                    <a:pt x="1852" y="1274"/>
                  </a:lnTo>
                  <a:lnTo>
                    <a:pt x="1968" y="1158"/>
                  </a:lnTo>
                  <a:lnTo>
                    <a:pt x="2083" y="926"/>
                  </a:lnTo>
                  <a:lnTo>
                    <a:pt x="2315" y="695"/>
                  </a:lnTo>
                  <a:lnTo>
                    <a:pt x="2431" y="579"/>
                  </a:lnTo>
                  <a:lnTo>
                    <a:pt x="2662" y="463"/>
                  </a:lnTo>
                  <a:lnTo>
                    <a:pt x="2894" y="347"/>
                  </a:lnTo>
                  <a:lnTo>
                    <a:pt x="3125" y="116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1716840" y="4884840"/>
              <a:ext cx="41400" cy="80640"/>
            </a:xfrm>
            <a:custGeom>
              <a:avLst/>
              <a:gdLst/>
              <a:ahLst/>
              <a:rect l="l" t="t" r="r" b="b"/>
              <a:pathLst>
                <a:path w="1158" h="1506">
                  <a:moveTo>
                    <a:pt x="1158" y="0"/>
                  </a:moveTo>
                  <a:lnTo>
                    <a:pt x="1158" y="116"/>
                  </a:lnTo>
                  <a:lnTo>
                    <a:pt x="1042" y="232"/>
                  </a:lnTo>
                  <a:lnTo>
                    <a:pt x="1042" y="348"/>
                  </a:lnTo>
                  <a:lnTo>
                    <a:pt x="926" y="463"/>
                  </a:lnTo>
                  <a:lnTo>
                    <a:pt x="811" y="463"/>
                  </a:lnTo>
                  <a:lnTo>
                    <a:pt x="695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463" y="811"/>
                  </a:lnTo>
                  <a:lnTo>
                    <a:pt x="463" y="927"/>
                  </a:lnTo>
                  <a:lnTo>
                    <a:pt x="348" y="1042"/>
                  </a:lnTo>
                  <a:lnTo>
                    <a:pt x="348" y="1158"/>
                  </a:lnTo>
                  <a:lnTo>
                    <a:pt x="232" y="1274"/>
                  </a:lnTo>
                  <a:lnTo>
                    <a:pt x="232" y="1274"/>
                  </a:lnTo>
                  <a:lnTo>
                    <a:pt x="116" y="1390"/>
                  </a:lnTo>
                  <a:lnTo>
                    <a:pt x="116" y="1506"/>
                  </a:lnTo>
                  <a:lnTo>
                    <a:pt x="116" y="1506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1042"/>
                  </a:lnTo>
                  <a:lnTo>
                    <a:pt x="0" y="811"/>
                  </a:lnTo>
                  <a:lnTo>
                    <a:pt x="116" y="695"/>
                  </a:lnTo>
                  <a:lnTo>
                    <a:pt x="232" y="579"/>
                  </a:lnTo>
                  <a:lnTo>
                    <a:pt x="348" y="463"/>
                  </a:lnTo>
                  <a:lnTo>
                    <a:pt x="348" y="348"/>
                  </a:lnTo>
                  <a:lnTo>
                    <a:pt x="348" y="348"/>
                  </a:lnTo>
                  <a:lnTo>
                    <a:pt x="463" y="232"/>
                  </a:lnTo>
                  <a:lnTo>
                    <a:pt x="579" y="232"/>
                  </a:lnTo>
                  <a:lnTo>
                    <a:pt x="695" y="116"/>
                  </a:lnTo>
                  <a:lnTo>
                    <a:pt x="811" y="116"/>
                  </a:lnTo>
                  <a:lnTo>
                    <a:pt x="811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1729440" y="4922280"/>
              <a:ext cx="28800" cy="49680"/>
            </a:xfrm>
            <a:custGeom>
              <a:avLst/>
              <a:gdLst/>
              <a:ahLst/>
              <a:rect l="l" t="t" r="r" b="b"/>
              <a:pathLst>
                <a:path w="810" h="926">
                  <a:moveTo>
                    <a:pt x="810" y="0"/>
                  </a:moveTo>
                  <a:lnTo>
                    <a:pt x="694" y="116"/>
                  </a:lnTo>
                  <a:lnTo>
                    <a:pt x="694" y="232"/>
                  </a:lnTo>
                  <a:lnTo>
                    <a:pt x="694" y="347"/>
                  </a:lnTo>
                  <a:lnTo>
                    <a:pt x="578" y="463"/>
                  </a:lnTo>
                  <a:lnTo>
                    <a:pt x="463" y="579"/>
                  </a:lnTo>
                  <a:lnTo>
                    <a:pt x="463" y="695"/>
                  </a:lnTo>
                  <a:lnTo>
                    <a:pt x="347" y="811"/>
                  </a:lnTo>
                  <a:lnTo>
                    <a:pt x="347" y="926"/>
                  </a:lnTo>
                  <a:lnTo>
                    <a:pt x="347" y="926"/>
                  </a:lnTo>
                  <a:lnTo>
                    <a:pt x="0" y="926"/>
                  </a:lnTo>
                  <a:lnTo>
                    <a:pt x="0" y="926"/>
                  </a:lnTo>
                  <a:lnTo>
                    <a:pt x="0" y="811"/>
                  </a:lnTo>
                  <a:lnTo>
                    <a:pt x="115" y="579"/>
                  </a:lnTo>
                  <a:lnTo>
                    <a:pt x="115" y="463"/>
                  </a:lnTo>
                  <a:lnTo>
                    <a:pt x="231" y="347"/>
                  </a:lnTo>
                  <a:lnTo>
                    <a:pt x="347" y="232"/>
                  </a:lnTo>
                  <a:lnTo>
                    <a:pt x="463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758240" y="4965840"/>
              <a:ext cx="12240" cy="18360"/>
            </a:xfrm>
            <a:custGeom>
              <a:avLst/>
              <a:gdLst/>
              <a:ahLst/>
              <a:rect l="l" t="t" r="r" b="b"/>
              <a:pathLst>
                <a:path w="347" h="347">
                  <a:moveTo>
                    <a:pt x="231" y="347"/>
                  </a:moveTo>
                  <a:lnTo>
                    <a:pt x="0" y="231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1063080" y="5140080"/>
              <a:ext cx="310320" cy="690120"/>
            </a:xfrm>
            <a:custGeom>
              <a:avLst/>
              <a:gdLst/>
              <a:ahLst/>
              <a:rect l="l" t="t" r="r" b="b"/>
              <a:pathLst>
                <a:path w="8680" h="12855">
                  <a:moveTo>
                    <a:pt x="7059" y="0"/>
                  </a:moveTo>
                  <a:lnTo>
                    <a:pt x="6944" y="116"/>
                  </a:lnTo>
                  <a:lnTo>
                    <a:pt x="6712" y="232"/>
                  </a:lnTo>
                  <a:lnTo>
                    <a:pt x="6596" y="348"/>
                  </a:lnTo>
                  <a:lnTo>
                    <a:pt x="6481" y="464"/>
                  </a:lnTo>
                  <a:lnTo>
                    <a:pt x="6365" y="579"/>
                  </a:lnTo>
                  <a:lnTo>
                    <a:pt x="6134" y="695"/>
                  </a:lnTo>
                  <a:lnTo>
                    <a:pt x="6018" y="811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1043"/>
                  </a:lnTo>
                  <a:lnTo>
                    <a:pt x="6018" y="1043"/>
                  </a:lnTo>
                  <a:lnTo>
                    <a:pt x="6018" y="1158"/>
                  </a:lnTo>
                  <a:lnTo>
                    <a:pt x="6134" y="1158"/>
                  </a:lnTo>
                  <a:lnTo>
                    <a:pt x="6249" y="1274"/>
                  </a:lnTo>
                  <a:lnTo>
                    <a:pt x="6249" y="1158"/>
                  </a:lnTo>
                  <a:lnTo>
                    <a:pt x="6365" y="1158"/>
                  </a:lnTo>
                  <a:lnTo>
                    <a:pt x="6365" y="1158"/>
                  </a:lnTo>
                  <a:lnTo>
                    <a:pt x="7291" y="348"/>
                  </a:lnTo>
                  <a:lnTo>
                    <a:pt x="7291" y="348"/>
                  </a:lnTo>
                  <a:lnTo>
                    <a:pt x="7291" y="464"/>
                  </a:lnTo>
                  <a:lnTo>
                    <a:pt x="7291" y="579"/>
                  </a:lnTo>
                  <a:lnTo>
                    <a:pt x="7291" y="695"/>
                  </a:lnTo>
                  <a:lnTo>
                    <a:pt x="7175" y="695"/>
                  </a:lnTo>
                  <a:lnTo>
                    <a:pt x="7059" y="811"/>
                  </a:lnTo>
                  <a:lnTo>
                    <a:pt x="6944" y="927"/>
                  </a:lnTo>
                  <a:lnTo>
                    <a:pt x="6828" y="1043"/>
                  </a:lnTo>
                  <a:lnTo>
                    <a:pt x="6828" y="1158"/>
                  </a:lnTo>
                  <a:lnTo>
                    <a:pt x="6828" y="1158"/>
                  </a:lnTo>
                  <a:lnTo>
                    <a:pt x="6712" y="1158"/>
                  </a:lnTo>
                  <a:lnTo>
                    <a:pt x="6712" y="1158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828" y="1506"/>
                  </a:lnTo>
                  <a:lnTo>
                    <a:pt x="6944" y="1506"/>
                  </a:lnTo>
                  <a:lnTo>
                    <a:pt x="7059" y="1506"/>
                  </a:lnTo>
                  <a:lnTo>
                    <a:pt x="7175" y="1390"/>
                  </a:lnTo>
                  <a:lnTo>
                    <a:pt x="7175" y="1274"/>
                  </a:lnTo>
                  <a:lnTo>
                    <a:pt x="7291" y="1158"/>
                  </a:lnTo>
                  <a:lnTo>
                    <a:pt x="7407" y="1158"/>
                  </a:lnTo>
                  <a:lnTo>
                    <a:pt x="7522" y="1043"/>
                  </a:lnTo>
                  <a:lnTo>
                    <a:pt x="7522" y="1043"/>
                  </a:lnTo>
                  <a:lnTo>
                    <a:pt x="7638" y="1274"/>
                  </a:lnTo>
                  <a:lnTo>
                    <a:pt x="7754" y="1506"/>
                  </a:lnTo>
                  <a:lnTo>
                    <a:pt x="7870" y="1737"/>
                  </a:lnTo>
                  <a:lnTo>
                    <a:pt x="8101" y="2085"/>
                  </a:lnTo>
                  <a:lnTo>
                    <a:pt x="8101" y="2316"/>
                  </a:lnTo>
                  <a:lnTo>
                    <a:pt x="8217" y="2548"/>
                  </a:lnTo>
                  <a:lnTo>
                    <a:pt x="8101" y="2780"/>
                  </a:lnTo>
                  <a:lnTo>
                    <a:pt x="7985" y="3011"/>
                  </a:lnTo>
                  <a:lnTo>
                    <a:pt x="7985" y="3011"/>
                  </a:lnTo>
                  <a:lnTo>
                    <a:pt x="7522" y="3359"/>
                  </a:lnTo>
                  <a:lnTo>
                    <a:pt x="7291" y="3706"/>
                  </a:lnTo>
                  <a:lnTo>
                    <a:pt x="6944" y="4054"/>
                  </a:lnTo>
                  <a:lnTo>
                    <a:pt x="6712" y="4517"/>
                  </a:lnTo>
                  <a:lnTo>
                    <a:pt x="6481" y="4864"/>
                  </a:lnTo>
                  <a:lnTo>
                    <a:pt x="6249" y="5212"/>
                  </a:lnTo>
                  <a:lnTo>
                    <a:pt x="5902" y="5559"/>
                  </a:lnTo>
                  <a:lnTo>
                    <a:pt x="5555" y="5791"/>
                  </a:lnTo>
                  <a:lnTo>
                    <a:pt x="5555" y="5791"/>
                  </a:lnTo>
                  <a:lnTo>
                    <a:pt x="5439" y="6486"/>
                  </a:lnTo>
                  <a:lnTo>
                    <a:pt x="5323" y="7180"/>
                  </a:lnTo>
                  <a:lnTo>
                    <a:pt x="5208" y="7760"/>
                  </a:lnTo>
                  <a:lnTo>
                    <a:pt x="5208" y="8454"/>
                  </a:lnTo>
                  <a:lnTo>
                    <a:pt x="5208" y="9149"/>
                  </a:lnTo>
                  <a:lnTo>
                    <a:pt x="5323" y="9844"/>
                  </a:lnTo>
                  <a:lnTo>
                    <a:pt x="5555" y="10423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6018" y="10886"/>
                  </a:lnTo>
                  <a:lnTo>
                    <a:pt x="6018" y="10771"/>
                  </a:lnTo>
                  <a:lnTo>
                    <a:pt x="6018" y="10771"/>
                  </a:lnTo>
                  <a:lnTo>
                    <a:pt x="6018" y="10655"/>
                  </a:lnTo>
                  <a:lnTo>
                    <a:pt x="6018" y="10539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6018" y="10423"/>
                  </a:lnTo>
                  <a:lnTo>
                    <a:pt x="6134" y="10423"/>
                  </a:lnTo>
                  <a:lnTo>
                    <a:pt x="6134" y="10539"/>
                  </a:lnTo>
                  <a:lnTo>
                    <a:pt x="6249" y="10539"/>
                  </a:lnTo>
                  <a:lnTo>
                    <a:pt x="6249" y="10655"/>
                  </a:lnTo>
                  <a:lnTo>
                    <a:pt x="6365" y="10655"/>
                  </a:lnTo>
                  <a:lnTo>
                    <a:pt x="6365" y="10771"/>
                  </a:lnTo>
                  <a:lnTo>
                    <a:pt x="6481" y="10886"/>
                  </a:lnTo>
                  <a:lnTo>
                    <a:pt x="6481" y="10886"/>
                  </a:lnTo>
                  <a:lnTo>
                    <a:pt x="6365" y="11465"/>
                  </a:lnTo>
                  <a:lnTo>
                    <a:pt x="6365" y="11465"/>
                  </a:lnTo>
                  <a:lnTo>
                    <a:pt x="6481" y="11465"/>
                  </a:lnTo>
                  <a:lnTo>
                    <a:pt x="6596" y="11465"/>
                  </a:lnTo>
                  <a:lnTo>
                    <a:pt x="6712" y="11465"/>
                  </a:lnTo>
                  <a:lnTo>
                    <a:pt x="6712" y="11350"/>
                  </a:lnTo>
                  <a:lnTo>
                    <a:pt x="6712" y="11234"/>
                  </a:lnTo>
                  <a:lnTo>
                    <a:pt x="6828" y="11118"/>
                  </a:lnTo>
                  <a:lnTo>
                    <a:pt x="6828" y="11002"/>
                  </a:lnTo>
                  <a:lnTo>
                    <a:pt x="6944" y="10886"/>
                  </a:lnTo>
                  <a:lnTo>
                    <a:pt x="6944" y="10886"/>
                  </a:lnTo>
                  <a:lnTo>
                    <a:pt x="7175" y="10886"/>
                  </a:lnTo>
                  <a:lnTo>
                    <a:pt x="7407" y="10886"/>
                  </a:lnTo>
                  <a:lnTo>
                    <a:pt x="7638" y="10886"/>
                  </a:lnTo>
                  <a:lnTo>
                    <a:pt x="7870" y="10886"/>
                  </a:lnTo>
                  <a:lnTo>
                    <a:pt x="8101" y="11002"/>
                  </a:lnTo>
                  <a:lnTo>
                    <a:pt x="8332" y="11002"/>
                  </a:lnTo>
                  <a:lnTo>
                    <a:pt x="8564" y="11234"/>
                  </a:lnTo>
                  <a:lnTo>
                    <a:pt x="8564" y="11581"/>
                  </a:lnTo>
                  <a:lnTo>
                    <a:pt x="8564" y="11581"/>
                  </a:lnTo>
                  <a:lnTo>
                    <a:pt x="8680" y="11929"/>
                  </a:lnTo>
                  <a:lnTo>
                    <a:pt x="8564" y="12160"/>
                  </a:lnTo>
                  <a:lnTo>
                    <a:pt x="8448" y="12392"/>
                  </a:lnTo>
                  <a:lnTo>
                    <a:pt x="8217" y="12508"/>
                  </a:lnTo>
                  <a:lnTo>
                    <a:pt x="7985" y="12624"/>
                  </a:lnTo>
                  <a:lnTo>
                    <a:pt x="7638" y="12624"/>
                  </a:lnTo>
                  <a:lnTo>
                    <a:pt x="7291" y="12739"/>
                  </a:lnTo>
                  <a:lnTo>
                    <a:pt x="7059" y="12855"/>
                  </a:lnTo>
                  <a:lnTo>
                    <a:pt x="7059" y="12855"/>
                  </a:lnTo>
                  <a:lnTo>
                    <a:pt x="6596" y="12855"/>
                  </a:lnTo>
                  <a:lnTo>
                    <a:pt x="6018" y="12739"/>
                  </a:lnTo>
                  <a:lnTo>
                    <a:pt x="5555" y="12739"/>
                  </a:lnTo>
                  <a:lnTo>
                    <a:pt x="5092" y="12624"/>
                  </a:lnTo>
                  <a:lnTo>
                    <a:pt x="4513" y="12508"/>
                  </a:lnTo>
                  <a:lnTo>
                    <a:pt x="4166" y="12276"/>
                  </a:lnTo>
                  <a:lnTo>
                    <a:pt x="3703" y="12044"/>
                  </a:lnTo>
                  <a:lnTo>
                    <a:pt x="3240" y="11813"/>
                  </a:lnTo>
                  <a:lnTo>
                    <a:pt x="3240" y="11813"/>
                  </a:lnTo>
                  <a:lnTo>
                    <a:pt x="2893" y="11234"/>
                  </a:lnTo>
                  <a:lnTo>
                    <a:pt x="2662" y="10539"/>
                  </a:lnTo>
                  <a:lnTo>
                    <a:pt x="2430" y="9960"/>
                  </a:lnTo>
                  <a:lnTo>
                    <a:pt x="2199" y="9265"/>
                  </a:lnTo>
                  <a:lnTo>
                    <a:pt x="1851" y="8686"/>
                  </a:lnTo>
                  <a:lnTo>
                    <a:pt x="1504" y="8107"/>
                  </a:lnTo>
                  <a:lnTo>
                    <a:pt x="926" y="7644"/>
                  </a:lnTo>
                  <a:lnTo>
                    <a:pt x="231" y="7412"/>
                  </a:lnTo>
                  <a:lnTo>
                    <a:pt x="231" y="7412"/>
                  </a:lnTo>
                  <a:lnTo>
                    <a:pt x="115" y="7296"/>
                  </a:lnTo>
                  <a:lnTo>
                    <a:pt x="115" y="7296"/>
                  </a:lnTo>
                  <a:lnTo>
                    <a:pt x="0" y="7180"/>
                  </a:lnTo>
                  <a:lnTo>
                    <a:pt x="0" y="7065"/>
                  </a:lnTo>
                  <a:lnTo>
                    <a:pt x="0" y="6949"/>
                  </a:lnTo>
                  <a:lnTo>
                    <a:pt x="0" y="6833"/>
                  </a:lnTo>
                  <a:lnTo>
                    <a:pt x="0" y="6717"/>
                  </a:lnTo>
                  <a:lnTo>
                    <a:pt x="0" y="6601"/>
                  </a:lnTo>
                  <a:lnTo>
                    <a:pt x="0" y="6601"/>
                  </a:lnTo>
                  <a:lnTo>
                    <a:pt x="231" y="6370"/>
                  </a:lnTo>
                  <a:lnTo>
                    <a:pt x="463" y="6138"/>
                  </a:lnTo>
                  <a:lnTo>
                    <a:pt x="810" y="6022"/>
                  </a:lnTo>
                  <a:lnTo>
                    <a:pt x="1157" y="5907"/>
                  </a:lnTo>
                  <a:lnTo>
                    <a:pt x="1504" y="5907"/>
                  </a:lnTo>
                  <a:lnTo>
                    <a:pt x="1851" y="5791"/>
                  </a:lnTo>
                  <a:lnTo>
                    <a:pt x="2199" y="5675"/>
                  </a:lnTo>
                  <a:lnTo>
                    <a:pt x="2430" y="5559"/>
                  </a:lnTo>
                  <a:lnTo>
                    <a:pt x="2430" y="5559"/>
                  </a:lnTo>
                  <a:lnTo>
                    <a:pt x="3009" y="5328"/>
                  </a:lnTo>
                  <a:lnTo>
                    <a:pt x="3472" y="4980"/>
                  </a:lnTo>
                  <a:lnTo>
                    <a:pt x="3935" y="4633"/>
                  </a:lnTo>
                  <a:lnTo>
                    <a:pt x="4398" y="4285"/>
                  </a:lnTo>
                  <a:lnTo>
                    <a:pt x="4860" y="3822"/>
                  </a:lnTo>
                  <a:lnTo>
                    <a:pt x="5323" y="3475"/>
                  </a:lnTo>
                  <a:lnTo>
                    <a:pt x="5671" y="3011"/>
                  </a:lnTo>
                  <a:lnTo>
                    <a:pt x="6018" y="2432"/>
                  </a:lnTo>
                  <a:lnTo>
                    <a:pt x="6018" y="2432"/>
                  </a:lnTo>
                  <a:lnTo>
                    <a:pt x="6018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249" y="2548"/>
                  </a:lnTo>
                  <a:lnTo>
                    <a:pt x="6249" y="2548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201"/>
                  </a:lnTo>
                  <a:lnTo>
                    <a:pt x="6134" y="1969"/>
                  </a:lnTo>
                  <a:lnTo>
                    <a:pt x="6018" y="1737"/>
                  </a:lnTo>
                  <a:lnTo>
                    <a:pt x="5902" y="1506"/>
                  </a:lnTo>
                  <a:lnTo>
                    <a:pt x="5786" y="1274"/>
                  </a:lnTo>
                  <a:lnTo>
                    <a:pt x="5671" y="1043"/>
                  </a:lnTo>
                  <a:lnTo>
                    <a:pt x="5555" y="811"/>
                  </a:lnTo>
                  <a:lnTo>
                    <a:pt x="5439" y="579"/>
                  </a:lnTo>
                  <a:lnTo>
                    <a:pt x="5439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811"/>
                  </a:lnTo>
                  <a:lnTo>
                    <a:pt x="5671" y="811"/>
                  </a:lnTo>
                  <a:lnTo>
                    <a:pt x="5786" y="811"/>
                  </a:lnTo>
                  <a:lnTo>
                    <a:pt x="5786" y="811"/>
                  </a:lnTo>
                  <a:lnTo>
                    <a:pt x="5902" y="695"/>
                  </a:lnTo>
                  <a:lnTo>
                    <a:pt x="6018" y="579"/>
                  </a:lnTo>
                  <a:lnTo>
                    <a:pt x="6249" y="464"/>
                  </a:lnTo>
                  <a:lnTo>
                    <a:pt x="6365" y="348"/>
                  </a:lnTo>
                  <a:lnTo>
                    <a:pt x="6481" y="232"/>
                  </a:lnTo>
                  <a:lnTo>
                    <a:pt x="6712" y="116"/>
                  </a:lnTo>
                  <a:lnTo>
                    <a:pt x="6828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2" name=""/>
          <p:cNvSpPr/>
          <p:nvPr/>
        </p:nvSpPr>
        <p:spPr>
          <a:xfrm>
            <a:off x="685800" y="1447920"/>
            <a:ext cx="758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We have seen how t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2971800" y="2057400"/>
            <a:ext cx="4952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4800" indent="-3348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valuate expressions given the values of the varia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4" name="" descr=""/>
          <p:cNvPicPr/>
          <p:nvPr/>
        </p:nvPicPr>
        <p:blipFill>
          <a:blip r:embed="rId1"/>
          <a:stretch/>
        </p:blipFill>
        <p:spPr>
          <a:xfrm>
            <a:off x="3371760" y="3124080"/>
            <a:ext cx="4476960" cy="33530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071" dur="indefinite" restart="never" nodeType="tmRoot">
          <p:childTnLst>
            <p:seq>
              <p:cTn id="1072" dur="indefinite" nodeType="mainSeq">
                <p:childTnLst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7" dur="5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8" dur="5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3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"/>
          <p:cNvSpPr/>
          <p:nvPr/>
        </p:nvSpPr>
        <p:spPr>
          <a:xfrm>
            <a:off x="3124080" y="60948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6" name=""/>
          <p:cNvGrpSpPr/>
          <p:nvPr/>
        </p:nvGrpSpPr>
        <p:grpSpPr>
          <a:xfrm>
            <a:off x="533520" y="2895480"/>
            <a:ext cx="2209680" cy="2971800"/>
            <a:chOff x="533520" y="2895480"/>
            <a:chExt cx="2209680" cy="2971800"/>
          </a:xfrm>
        </p:grpSpPr>
        <p:sp>
          <p:nvSpPr>
            <p:cNvPr id="857" name=""/>
            <p:cNvSpPr/>
            <p:nvPr/>
          </p:nvSpPr>
          <p:spPr>
            <a:xfrm>
              <a:off x="533520" y="2895480"/>
              <a:ext cx="2209680" cy="297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541440" y="2907720"/>
              <a:ext cx="2193480" cy="2946960"/>
            </a:xfrm>
            <a:custGeom>
              <a:avLst/>
              <a:gdLst/>
              <a:ahLst/>
              <a:rect l="l" t="t" r="r" b="b"/>
              <a:pathLst>
                <a:path w="61339" h="54893">
                  <a:moveTo>
                    <a:pt x="20369" y="694"/>
                  </a:moveTo>
                  <a:lnTo>
                    <a:pt x="20485" y="579"/>
                  </a:lnTo>
                  <a:lnTo>
                    <a:pt x="20485" y="463"/>
                  </a:lnTo>
                  <a:lnTo>
                    <a:pt x="20601" y="463"/>
                  </a:lnTo>
                  <a:lnTo>
                    <a:pt x="20717" y="347"/>
                  </a:lnTo>
                  <a:lnTo>
                    <a:pt x="20832" y="347"/>
                  </a:lnTo>
                  <a:lnTo>
                    <a:pt x="20948" y="347"/>
                  </a:lnTo>
                  <a:lnTo>
                    <a:pt x="21064" y="231"/>
                  </a:lnTo>
                  <a:lnTo>
                    <a:pt x="21179" y="231"/>
                  </a:lnTo>
                  <a:lnTo>
                    <a:pt x="21179" y="231"/>
                  </a:lnTo>
                  <a:lnTo>
                    <a:pt x="21411" y="231"/>
                  </a:lnTo>
                  <a:lnTo>
                    <a:pt x="21527" y="347"/>
                  </a:lnTo>
                  <a:lnTo>
                    <a:pt x="21758" y="463"/>
                  </a:lnTo>
                  <a:lnTo>
                    <a:pt x="21990" y="579"/>
                  </a:lnTo>
                  <a:lnTo>
                    <a:pt x="22105" y="694"/>
                  </a:lnTo>
                  <a:lnTo>
                    <a:pt x="22221" y="810"/>
                  </a:lnTo>
                  <a:lnTo>
                    <a:pt x="22453" y="1042"/>
                  </a:lnTo>
                  <a:lnTo>
                    <a:pt x="22568" y="1274"/>
                  </a:lnTo>
                  <a:lnTo>
                    <a:pt x="22568" y="1274"/>
                  </a:lnTo>
                  <a:lnTo>
                    <a:pt x="22684" y="1158"/>
                  </a:lnTo>
                  <a:lnTo>
                    <a:pt x="22915" y="1042"/>
                  </a:lnTo>
                  <a:lnTo>
                    <a:pt x="23031" y="1042"/>
                  </a:lnTo>
                  <a:lnTo>
                    <a:pt x="23147" y="1042"/>
                  </a:lnTo>
                  <a:lnTo>
                    <a:pt x="23378" y="1042"/>
                  </a:lnTo>
                  <a:lnTo>
                    <a:pt x="23494" y="1042"/>
                  </a:lnTo>
                  <a:lnTo>
                    <a:pt x="23726" y="1042"/>
                  </a:lnTo>
                  <a:lnTo>
                    <a:pt x="23841" y="1158"/>
                  </a:lnTo>
                  <a:lnTo>
                    <a:pt x="23841" y="1158"/>
                  </a:lnTo>
                  <a:lnTo>
                    <a:pt x="23957" y="1158"/>
                  </a:lnTo>
                  <a:lnTo>
                    <a:pt x="24188" y="1274"/>
                  </a:lnTo>
                  <a:lnTo>
                    <a:pt x="24304" y="1389"/>
                  </a:lnTo>
                  <a:lnTo>
                    <a:pt x="24420" y="1505"/>
                  </a:lnTo>
                  <a:lnTo>
                    <a:pt x="24536" y="1621"/>
                  </a:lnTo>
                  <a:lnTo>
                    <a:pt x="24651" y="1621"/>
                  </a:lnTo>
                  <a:lnTo>
                    <a:pt x="24767" y="1621"/>
                  </a:lnTo>
                  <a:lnTo>
                    <a:pt x="24999" y="1389"/>
                  </a:lnTo>
                  <a:lnTo>
                    <a:pt x="24999" y="1389"/>
                  </a:lnTo>
                  <a:lnTo>
                    <a:pt x="25114" y="1389"/>
                  </a:lnTo>
                  <a:lnTo>
                    <a:pt x="25346" y="1505"/>
                  </a:lnTo>
                  <a:lnTo>
                    <a:pt x="25462" y="1505"/>
                  </a:lnTo>
                  <a:lnTo>
                    <a:pt x="25577" y="1621"/>
                  </a:lnTo>
                  <a:lnTo>
                    <a:pt x="25693" y="1737"/>
                  </a:lnTo>
                  <a:lnTo>
                    <a:pt x="25809" y="1853"/>
                  </a:lnTo>
                  <a:lnTo>
                    <a:pt x="25924" y="1968"/>
                  </a:lnTo>
                  <a:lnTo>
                    <a:pt x="26040" y="1968"/>
                  </a:lnTo>
                  <a:lnTo>
                    <a:pt x="26040" y="1968"/>
                  </a:lnTo>
                  <a:lnTo>
                    <a:pt x="26272" y="1968"/>
                  </a:lnTo>
                  <a:lnTo>
                    <a:pt x="26503" y="1853"/>
                  </a:lnTo>
                  <a:lnTo>
                    <a:pt x="26735" y="1853"/>
                  </a:lnTo>
                  <a:lnTo>
                    <a:pt x="26966" y="1737"/>
                  </a:lnTo>
                  <a:lnTo>
                    <a:pt x="27082" y="1737"/>
                  </a:lnTo>
                  <a:lnTo>
                    <a:pt x="27313" y="1737"/>
                  </a:lnTo>
                  <a:lnTo>
                    <a:pt x="27545" y="1853"/>
                  </a:lnTo>
                  <a:lnTo>
                    <a:pt x="27660" y="1968"/>
                  </a:lnTo>
                  <a:lnTo>
                    <a:pt x="27660" y="1968"/>
                  </a:lnTo>
                  <a:lnTo>
                    <a:pt x="28123" y="2316"/>
                  </a:lnTo>
                  <a:lnTo>
                    <a:pt x="28123" y="2316"/>
                  </a:lnTo>
                  <a:lnTo>
                    <a:pt x="28239" y="2084"/>
                  </a:lnTo>
                  <a:lnTo>
                    <a:pt x="28471" y="1968"/>
                  </a:lnTo>
                  <a:lnTo>
                    <a:pt x="28586" y="1968"/>
                  </a:lnTo>
                  <a:lnTo>
                    <a:pt x="28818" y="1968"/>
                  </a:lnTo>
                  <a:lnTo>
                    <a:pt x="29049" y="1968"/>
                  </a:lnTo>
                  <a:lnTo>
                    <a:pt x="29281" y="1968"/>
                  </a:lnTo>
                  <a:lnTo>
                    <a:pt x="29512" y="1968"/>
                  </a:lnTo>
                  <a:lnTo>
                    <a:pt x="29744" y="1968"/>
                  </a:lnTo>
                  <a:lnTo>
                    <a:pt x="29744" y="1968"/>
                  </a:lnTo>
                  <a:lnTo>
                    <a:pt x="29859" y="2084"/>
                  </a:lnTo>
                  <a:lnTo>
                    <a:pt x="29975" y="2200"/>
                  </a:lnTo>
                  <a:lnTo>
                    <a:pt x="29975" y="2316"/>
                  </a:lnTo>
                  <a:lnTo>
                    <a:pt x="30091" y="2432"/>
                  </a:lnTo>
                  <a:lnTo>
                    <a:pt x="30207" y="2547"/>
                  </a:lnTo>
                  <a:lnTo>
                    <a:pt x="30322" y="2663"/>
                  </a:lnTo>
                  <a:lnTo>
                    <a:pt x="30438" y="2779"/>
                  </a:lnTo>
                  <a:lnTo>
                    <a:pt x="30554" y="2779"/>
                  </a:lnTo>
                  <a:lnTo>
                    <a:pt x="30554" y="2779"/>
                  </a:lnTo>
                  <a:lnTo>
                    <a:pt x="30670" y="2779"/>
                  </a:lnTo>
                  <a:lnTo>
                    <a:pt x="30785" y="2663"/>
                  </a:lnTo>
                  <a:lnTo>
                    <a:pt x="30901" y="2663"/>
                  </a:lnTo>
                  <a:lnTo>
                    <a:pt x="31132" y="2663"/>
                  </a:lnTo>
                  <a:lnTo>
                    <a:pt x="31248" y="2663"/>
                  </a:lnTo>
                  <a:lnTo>
                    <a:pt x="31364" y="2663"/>
                  </a:lnTo>
                  <a:lnTo>
                    <a:pt x="31595" y="2663"/>
                  </a:lnTo>
                  <a:lnTo>
                    <a:pt x="31711" y="2663"/>
                  </a:lnTo>
                  <a:lnTo>
                    <a:pt x="31711" y="2663"/>
                  </a:lnTo>
                  <a:lnTo>
                    <a:pt x="31943" y="2895"/>
                  </a:lnTo>
                  <a:lnTo>
                    <a:pt x="32058" y="3011"/>
                  </a:lnTo>
                  <a:lnTo>
                    <a:pt x="32174" y="3126"/>
                  </a:lnTo>
                  <a:lnTo>
                    <a:pt x="32290" y="3358"/>
                  </a:lnTo>
                  <a:lnTo>
                    <a:pt x="32521" y="3474"/>
                  </a:lnTo>
                  <a:lnTo>
                    <a:pt x="32637" y="3474"/>
                  </a:lnTo>
                  <a:lnTo>
                    <a:pt x="-32668" y="3474"/>
                  </a:lnTo>
                  <a:lnTo>
                    <a:pt x="-32436" y="3242"/>
                  </a:lnTo>
                  <a:lnTo>
                    <a:pt x="-32436" y="3242"/>
                  </a:lnTo>
                  <a:lnTo>
                    <a:pt x="-32205" y="3242"/>
                  </a:lnTo>
                  <a:lnTo>
                    <a:pt x="-31973" y="3242"/>
                  </a:lnTo>
                  <a:lnTo>
                    <a:pt x="-31626" y="3358"/>
                  </a:lnTo>
                  <a:lnTo>
                    <a:pt x="-31395" y="3474"/>
                  </a:lnTo>
                  <a:lnTo>
                    <a:pt x="-31163" y="3706"/>
                  </a:lnTo>
                  <a:lnTo>
                    <a:pt x="-30932" y="3706"/>
                  </a:lnTo>
                  <a:lnTo>
                    <a:pt x="-30584" y="3821"/>
                  </a:lnTo>
                  <a:lnTo>
                    <a:pt x="-30237" y="3706"/>
                  </a:lnTo>
                  <a:lnTo>
                    <a:pt x="-30237" y="3706"/>
                  </a:lnTo>
                  <a:lnTo>
                    <a:pt x="-30006" y="3821"/>
                  </a:lnTo>
                  <a:lnTo>
                    <a:pt x="-29774" y="3937"/>
                  </a:lnTo>
                  <a:lnTo>
                    <a:pt x="-29543" y="3937"/>
                  </a:lnTo>
                  <a:lnTo>
                    <a:pt x="-29311" y="3937"/>
                  </a:lnTo>
                  <a:lnTo>
                    <a:pt x="-29080" y="3821"/>
                  </a:lnTo>
                  <a:lnTo>
                    <a:pt x="-28733" y="3937"/>
                  </a:lnTo>
                  <a:lnTo>
                    <a:pt x="-28501" y="4053"/>
                  </a:lnTo>
                  <a:lnTo>
                    <a:pt x="-28385" y="4169"/>
                  </a:lnTo>
                  <a:lnTo>
                    <a:pt x="-28385" y="4169"/>
                  </a:lnTo>
                  <a:lnTo>
                    <a:pt x="-28038" y="4169"/>
                  </a:lnTo>
                  <a:lnTo>
                    <a:pt x="-27807" y="4169"/>
                  </a:lnTo>
                  <a:lnTo>
                    <a:pt x="-27575" y="4169"/>
                  </a:lnTo>
                  <a:lnTo>
                    <a:pt x="-27344" y="4285"/>
                  </a:lnTo>
                  <a:lnTo>
                    <a:pt x="-27112" y="4400"/>
                  </a:lnTo>
                  <a:lnTo>
                    <a:pt x="-26881" y="4516"/>
                  </a:lnTo>
                  <a:lnTo>
                    <a:pt x="-26650" y="4516"/>
                  </a:lnTo>
                  <a:lnTo>
                    <a:pt x="-26418" y="4285"/>
                  </a:lnTo>
                  <a:lnTo>
                    <a:pt x="-26418" y="4285"/>
                  </a:lnTo>
                  <a:lnTo>
                    <a:pt x="-26187" y="4400"/>
                  </a:lnTo>
                  <a:lnTo>
                    <a:pt x="-25955" y="4516"/>
                  </a:lnTo>
                  <a:lnTo>
                    <a:pt x="-25724" y="4632"/>
                  </a:lnTo>
                  <a:lnTo>
                    <a:pt x="-25608" y="4748"/>
                  </a:lnTo>
                  <a:lnTo>
                    <a:pt x="-25492" y="4979"/>
                  </a:lnTo>
                  <a:lnTo>
                    <a:pt x="-25376" y="5095"/>
                  </a:lnTo>
                  <a:lnTo>
                    <a:pt x="-25261" y="5327"/>
                  </a:lnTo>
                  <a:lnTo>
                    <a:pt x="-25145" y="5558"/>
                  </a:lnTo>
                  <a:lnTo>
                    <a:pt x="-25145" y="5558"/>
                  </a:lnTo>
                  <a:lnTo>
                    <a:pt x="-25145" y="6022"/>
                  </a:lnTo>
                  <a:lnTo>
                    <a:pt x="-25145" y="6369"/>
                  </a:lnTo>
                  <a:lnTo>
                    <a:pt x="-25376" y="6717"/>
                  </a:lnTo>
                  <a:lnTo>
                    <a:pt x="-25492" y="7064"/>
                  </a:lnTo>
                  <a:lnTo>
                    <a:pt x="-25724" y="7296"/>
                  </a:lnTo>
                  <a:lnTo>
                    <a:pt x="-25839" y="7643"/>
                  </a:lnTo>
                  <a:lnTo>
                    <a:pt x="-25955" y="7990"/>
                  </a:lnTo>
                  <a:lnTo>
                    <a:pt x="-26071" y="8454"/>
                  </a:lnTo>
                  <a:lnTo>
                    <a:pt x="-26071" y="8454"/>
                  </a:lnTo>
                  <a:lnTo>
                    <a:pt x="-26534" y="9959"/>
                  </a:lnTo>
                  <a:lnTo>
                    <a:pt x="-26997" y="11465"/>
                  </a:lnTo>
                  <a:lnTo>
                    <a:pt x="-27344" y="13086"/>
                  </a:lnTo>
                  <a:lnTo>
                    <a:pt x="-27691" y="14707"/>
                  </a:lnTo>
                  <a:lnTo>
                    <a:pt x="-28038" y="16329"/>
                  </a:lnTo>
                  <a:lnTo>
                    <a:pt x="-28270" y="17950"/>
                  </a:lnTo>
                  <a:lnTo>
                    <a:pt x="-28501" y="19571"/>
                  </a:lnTo>
                  <a:lnTo>
                    <a:pt x="-28617" y="21193"/>
                  </a:lnTo>
                  <a:lnTo>
                    <a:pt x="-28617" y="21193"/>
                  </a:lnTo>
                  <a:lnTo>
                    <a:pt x="-28501" y="21309"/>
                  </a:lnTo>
                  <a:lnTo>
                    <a:pt x="-28501" y="21309"/>
                  </a:lnTo>
                  <a:lnTo>
                    <a:pt x="-26650" y="20845"/>
                  </a:lnTo>
                  <a:lnTo>
                    <a:pt x="-24914" y="20498"/>
                  </a:lnTo>
                  <a:lnTo>
                    <a:pt x="-23178" y="20150"/>
                  </a:lnTo>
                  <a:lnTo>
                    <a:pt x="-21326" y="19919"/>
                  </a:lnTo>
                  <a:lnTo>
                    <a:pt x="-19590" y="19571"/>
                  </a:lnTo>
                  <a:lnTo>
                    <a:pt x="-17738" y="19224"/>
                  </a:lnTo>
                  <a:lnTo>
                    <a:pt x="-16002" y="18992"/>
                  </a:lnTo>
                  <a:lnTo>
                    <a:pt x="-14266" y="18645"/>
                  </a:lnTo>
                  <a:lnTo>
                    <a:pt x="-14266" y="18645"/>
                  </a:lnTo>
                  <a:lnTo>
                    <a:pt x="-12993" y="18761"/>
                  </a:lnTo>
                  <a:lnTo>
                    <a:pt x="-11720" y="18877"/>
                  </a:lnTo>
                  <a:lnTo>
                    <a:pt x="-10563" y="18992"/>
                  </a:lnTo>
                  <a:lnTo>
                    <a:pt x="-9290" y="18992"/>
                  </a:lnTo>
                  <a:lnTo>
                    <a:pt x="-8017" y="19108"/>
                  </a:lnTo>
                  <a:lnTo>
                    <a:pt x="-6859" y="19224"/>
                  </a:lnTo>
                  <a:lnTo>
                    <a:pt x="-5586" y="19340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803"/>
                  </a:lnTo>
                  <a:lnTo>
                    <a:pt x="-4197" y="19803"/>
                  </a:lnTo>
                  <a:lnTo>
                    <a:pt x="-4313" y="19803"/>
                  </a:lnTo>
                  <a:lnTo>
                    <a:pt x="-4313" y="19803"/>
                  </a:lnTo>
                  <a:lnTo>
                    <a:pt x="-17044" y="25246"/>
                  </a:lnTo>
                  <a:lnTo>
                    <a:pt x="-17044" y="25246"/>
                  </a:lnTo>
                  <a:lnTo>
                    <a:pt x="-17159" y="25246"/>
                  </a:lnTo>
                  <a:lnTo>
                    <a:pt x="-17391" y="25246"/>
                  </a:lnTo>
                  <a:lnTo>
                    <a:pt x="-17622" y="25362"/>
                  </a:lnTo>
                  <a:lnTo>
                    <a:pt x="-17854" y="25362"/>
                  </a:lnTo>
                  <a:lnTo>
                    <a:pt x="-17970" y="25478"/>
                  </a:lnTo>
                  <a:lnTo>
                    <a:pt x="-18201" y="25478"/>
                  </a:lnTo>
                  <a:lnTo>
                    <a:pt x="-18317" y="25478"/>
                  </a:lnTo>
                  <a:lnTo>
                    <a:pt x="-18548" y="25594"/>
                  </a:lnTo>
                  <a:lnTo>
                    <a:pt x="-18548" y="25594"/>
                  </a:lnTo>
                  <a:lnTo>
                    <a:pt x="-18548" y="25941"/>
                  </a:lnTo>
                  <a:lnTo>
                    <a:pt x="-18664" y="26288"/>
                  </a:lnTo>
                  <a:lnTo>
                    <a:pt x="-18895" y="26636"/>
                  </a:lnTo>
                  <a:lnTo>
                    <a:pt x="-19127" y="26983"/>
                  </a:lnTo>
                  <a:lnTo>
                    <a:pt x="-19358" y="27215"/>
                  </a:lnTo>
                  <a:lnTo>
                    <a:pt x="-19706" y="27562"/>
                  </a:lnTo>
                  <a:lnTo>
                    <a:pt x="-19937" y="27794"/>
                  </a:lnTo>
                  <a:lnTo>
                    <a:pt x="-20284" y="28026"/>
                  </a:lnTo>
                  <a:lnTo>
                    <a:pt x="-20284" y="28026"/>
                  </a:lnTo>
                  <a:lnTo>
                    <a:pt x="-20631" y="28141"/>
                  </a:lnTo>
                  <a:lnTo>
                    <a:pt x="-20863" y="28257"/>
                  </a:lnTo>
                  <a:lnTo>
                    <a:pt x="-21094" y="28373"/>
                  </a:lnTo>
                  <a:lnTo>
                    <a:pt x="-21442" y="28373"/>
                  </a:lnTo>
                  <a:lnTo>
                    <a:pt x="-21673" y="28489"/>
                  </a:lnTo>
                  <a:lnTo>
                    <a:pt x="-22020" y="28489"/>
                  </a:lnTo>
                  <a:lnTo>
                    <a:pt x="-22252" y="28373"/>
                  </a:lnTo>
                  <a:lnTo>
                    <a:pt x="-22483" y="28141"/>
                  </a:lnTo>
                  <a:lnTo>
                    <a:pt x="-22483" y="28141"/>
                  </a:lnTo>
                  <a:lnTo>
                    <a:pt x="-22715" y="28257"/>
                  </a:lnTo>
                  <a:lnTo>
                    <a:pt x="-22830" y="28373"/>
                  </a:lnTo>
                  <a:lnTo>
                    <a:pt x="-23062" y="28489"/>
                  </a:lnTo>
                  <a:lnTo>
                    <a:pt x="-23293" y="28605"/>
                  </a:lnTo>
                  <a:lnTo>
                    <a:pt x="-23409" y="28605"/>
                  </a:lnTo>
                  <a:lnTo>
                    <a:pt x="-23640" y="28720"/>
                  </a:lnTo>
                  <a:lnTo>
                    <a:pt x="-23872" y="28720"/>
                  </a:lnTo>
                  <a:lnTo>
                    <a:pt x="-24103" y="28605"/>
                  </a:lnTo>
                  <a:lnTo>
                    <a:pt x="-24103" y="28605"/>
                  </a:lnTo>
                  <a:lnTo>
                    <a:pt x="-24335" y="28952"/>
                  </a:lnTo>
                  <a:lnTo>
                    <a:pt x="-24566" y="29184"/>
                  </a:lnTo>
                  <a:lnTo>
                    <a:pt x="-24798" y="29299"/>
                  </a:lnTo>
                  <a:lnTo>
                    <a:pt x="-25145" y="29415"/>
                  </a:lnTo>
                  <a:lnTo>
                    <a:pt x="-25376" y="29531"/>
                  </a:lnTo>
                  <a:lnTo>
                    <a:pt x="-25724" y="29531"/>
                  </a:lnTo>
                  <a:lnTo>
                    <a:pt x="-26071" y="29647"/>
                  </a:lnTo>
                  <a:lnTo>
                    <a:pt x="-26418" y="29531"/>
                  </a:lnTo>
                  <a:lnTo>
                    <a:pt x="-26418" y="29531"/>
                  </a:lnTo>
                  <a:lnTo>
                    <a:pt x="-26534" y="29531"/>
                  </a:lnTo>
                  <a:lnTo>
                    <a:pt x="-26650" y="29415"/>
                  </a:lnTo>
                  <a:lnTo>
                    <a:pt x="-26765" y="29299"/>
                  </a:lnTo>
                  <a:lnTo>
                    <a:pt x="-26881" y="29184"/>
                  </a:lnTo>
                  <a:lnTo>
                    <a:pt x="-26997" y="29068"/>
                  </a:lnTo>
                  <a:lnTo>
                    <a:pt x="-27112" y="28952"/>
                  </a:lnTo>
                  <a:lnTo>
                    <a:pt x="-27228" y="28952"/>
                  </a:lnTo>
                  <a:lnTo>
                    <a:pt x="-27460" y="29068"/>
                  </a:lnTo>
                  <a:lnTo>
                    <a:pt x="-27460" y="29068"/>
                  </a:lnTo>
                  <a:lnTo>
                    <a:pt x="-27575" y="29184"/>
                  </a:lnTo>
                  <a:lnTo>
                    <a:pt x="-27691" y="29299"/>
                  </a:lnTo>
                  <a:lnTo>
                    <a:pt x="-27923" y="29415"/>
                  </a:lnTo>
                  <a:lnTo>
                    <a:pt x="-28038" y="29531"/>
                  </a:lnTo>
                  <a:lnTo>
                    <a:pt x="-28270" y="29647"/>
                  </a:lnTo>
                  <a:lnTo>
                    <a:pt x="-28385" y="29763"/>
                  </a:lnTo>
                  <a:lnTo>
                    <a:pt x="-28617" y="29879"/>
                  </a:lnTo>
                  <a:lnTo>
                    <a:pt x="-28733" y="29994"/>
                  </a:lnTo>
                  <a:lnTo>
                    <a:pt x="-28733" y="29994"/>
                  </a:lnTo>
                  <a:lnTo>
                    <a:pt x="-28733" y="30689"/>
                  </a:lnTo>
                  <a:lnTo>
                    <a:pt x="-28733" y="31268"/>
                  </a:lnTo>
                  <a:lnTo>
                    <a:pt x="-28617" y="31963"/>
                  </a:lnTo>
                  <a:lnTo>
                    <a:pt x="-28501" y="32542"/>
                  </a:lnTo>
                  <a:lnTo>
                    <a:pt x="-28385" y="-32299"/>
                  </a:lnTo>
                  <a:lnTo>
                    <a:pt x="-28385" y="-31720"/>
                  </a:lnTo>
                  <a:lnTo>
                    <a:pt x="-28270" y="-31025"/>
                  </a:lnTo>
                  <a:lnTo>
                    <a:pt x="-28154" y="-30446"/>
                  </a:lnTo>
                  <a:lnTo>
                    <a:pt x="-28154" y="-30446"/>
                  </a:lnTo>
                  <a:lnTo>
                    <a:pt x="-28501" y="-30214"/>
                  </a:lnTo>
                  <a:lnTo>
                    <a:pt x="-28733" y="-29983"/>
                  </a:lnTo>
                  <a:lnTo>
                    <a:pt x="-29196" y="-29867"/>
                  </a:lnTo>
                  <a:lnTo>
                    <a:pt x="-29543" y="-29867"/>
                  </a:lnTo>
                  <a:lnTo>
                    <a:pt x="-29890" y="-29751"/>
                  </a:lnTo>
                  <a:lnTo>
                    <a:pt x="-30237" y="-29751"/>
                  </a:lnTo>
                  <a:lnTo>
                    <a:pt x="-30700" y="-29635"/>
                  </a:lnTo>
                  <a:lnTo>
                    <a:pt x="-31047" y="-29635"/>
                  </a:lnTo>
                  <a:lnTo>
                    <a:pt x="-31047" y="-29635"/>
                  </a:lnTo>
                  <a:lnTo>
                    <a:pt x="-31047" y="-29288"/>
                  </a:lnTo>
                  <a:lnTo>
                    <a:pt x="-31047" y="-29288"/>
                  </a:lnTo>
                  <a:lnTo>
                    <a:pt x="-30700" y="-28825"/>
                  </a:lnTo>
                  <a:lnTo>
                    <a:pt x="-30353" y="-28246"/>
                  </a:lnTo>
                  <a:lnTo>
                    <a:pt x="-30006" y="-27782"/>
                  </a:lnTo>
                  <a:lnTo>
                    <a:pt x="-29774" y="-27319"/>
                  </a:lnTo>
                  <a:lnTo>
                    <a:pt x="-29427" y="-26856"/>
                  </a:lnTo>
                  <a:lnTo>
                    <a:pt x="-29080" y="-26277"/>
                  </a:lnTo>
                  <a:lnTo>
                    <a:pt x="-28848" y="-25814"/>
                  </a:lnTo>
                  <a:lnTo>
                    <a:pt x="-28617" y="-25235"/>
                  </a:lnTo>
                  <a:lnTo>
                    <a:pt x="-28617" y="-25235"/>
                  </a:lnTo>
                  <a:lnTo>
                    <a:pt x="-28733" y="-24540"/>
                  </a:lnTo>
                  <a:lnTo>
                    <a:pt x="-28848" y="-23729"/>
                  </a:lnTo>
                  <a:lnTo>
                    <a:pt x="-28964" y="-23034"/>
                  </a:lnTo>
                  <a:lnTo>
                    <a:pt x="-29196" y="-22224"/>
                  </a:lnTo>
                  <a:lnTo>
                    <a:pt x="-29311" y="-21529"/>
                  </a:lnTo>
                  <a:lnTo>
                    <a:pt x="-29543" y="-20718"/>
                  </a:lnTo>
                  <a:lnTo>
                    <a:pt x="-29659" y="-20023"/>
                  </a:lnTo>
                  <a:lnTo>
                    <a:pt x="-29890" y="-19213"/>
                  </a:lnTo>
                  <a:lnTo>
                    <a:pt x="-29890" y="-19213"/>
                  </a:lnTo>
                  <a:lnTo>
                    <a:pt x="-29774" y="-18865"/>
                  </a:lnTo>
                  <a:lnTo>
                    <a:pt x="-29543" y="-18518"/>
                  </a:lnTo>
                  <a:lnTo>
                    <a:pt x="-29427" y="-18286"/>
                  </a:lnTo>
                  <a:lnTo>
                    <a:pt x="-29196" y="-18054"/>
                  </a:lnTo>
                  <a:lnTo>
                    <a:pt x="-28964" y="-17707"/>
                  </a:lnTo>
                  <a:lnTo>
                    <a:pt x="-28733" y="-17475"/>
                  </a:lnTo>
                  <a:lnTo>
                    <a:pt x="-28501" y="-17244"/>
                  </a:lnTo>
                  <a:lnTo>
                    <a:pt x="-28501" y="-16896"/>
                  </a:lnTo>
                  <a:lnTo>
                    <a:pt x="-28501" y="-16896"/>
                  </a:lnTo>
                  <a:lnTo>
                    <a:pt x="-28385" y="-16665"/>
                  </a:lnTo>
                  <a:lnTo>
                    <a:pt x="-28154" y="-16317"/>
                  </a:lnTo>
                  <a:lnTo>
                    <a:pt x="-28038" y="-16086"/>
                  </a:lnTo>
                  <a:lnTo>
                    <a:pt x="-27807" y="-15854"/>
                  </a:lnTo>
                  <a:lnTo>
                    <a:pt x="-27691" y="-15622"/>
                  </a:lnTo>
                  <a:lnTo>
                    <a:pt x="-27575" y="-15391"/>
                  </a:lnTo>
                  <a:lnTo>
                    <a:pt x="-27344" y="-15159"/>
                  </a:lnTo>
                  <a:lnTo>
                    <a:pt x="-27344" y="-14928"/>
                  </a:lnTo>
                  <a:lnTo>
                    <a:pt x="-27344" y="-14928"/>
                  </a:lnTo>
                  <a:lnTo>
                    <a:pt x="-27228" y="-14464"/>
                  </a:lnTo>
                  <a:lnTo>
                    <a:pt x="-26997" y="-14117"/>
                  </a:lnTo>
                  <a:lnTo>
                    <a:pt x="-26881" y="-13654"/>
                  </a:lnTo>
                  <a:lnTo>
                    <a:pt x="-26881" y="-13190"/>
                  </a:lnTo>
                  <a:lnTo>
                    <a:pt x="-26765" y="-12727"/>
                  </a:lnTo>
                  <a:lnTo>
                    <a:pt x="-26765" y="-12380"/>
                  </a:lnTo>
                  <a:lnTo>
                    <a:pt x="-26881" y="-11917"/>
                  </a:lnTo>
                  <a:lnTo>
                    <a:pt x="-27228" y="-11569"/>
                  </a:lnTo>
                  <a:lnTo>
                    <a:pt x="-27228" y="-11569"/>
                  </a:lnTo>
                  <a:lnTo>
                    <a:pt x="-27228" y="-11453"/>
                  </a:lnTo>
                  <a:lnTo>
                    <a:pt x="-27344" y="-11453"/>
                  </a:lnTo>
                  <a:lnTo>
                    <a:pt x="-27344" y="-11453"/>
                  </a:lnTo>
                  <a:lnTo>
                    <a:pt x="-27460" y="-11453"/>
                  </a:lnTo>
                  <a:lnTo>
                    <a:pt x="-27460" y="-11453"/>
                  </a:lnTo>
                  <a:lnTo>
                    <a:pt x="-27575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8154" y="-11222"/>
                  </a:lnTo>
                  <a:lnTo>
                    <a:pt x="-28733" y="-11106"/>
                  </a:lnTo>
                  <a:lnTo>
                    <a:pt x="-29311" y="-11106"/>
                  </a:lnTo>
                  <a:lnTo>
                    <a:pt x="-29890" y="-11222"/>
                  </a:lnTo>
                  <a:lnTo>
                    <a:pt x="-30353" y="-11337"/>
                  </a:lnTo>
                  <a:lnTo>
                    <a:pt x="-30932" y="-11453"/>
                  </a:lnTo>
                  <a:lnTo>
                    <a:pt x="-31395" y="-11685"/>
                  </a:lnTo>
                  <a:lnTo>
                    <a:pt x="-31857" y="-12032"/>
                  </a:lnTo>
                  <a:lnTo>
                    <a:pt x="-31857" y="-12032"/>
                  </a:lnTo>
                  <a:lnTo>
                    <a:pt x="-32320" y="-12496"/>
                  </a:lnTo>
                  <a:lnTo>
                    <a:pt x="-32552" y="-13075"/>
                  </a:lnTo>
                  <a:lnTo>
                    <a:pt x="32753" y="-13769"/>
                  </a:lnTo>
                  <a:lnTo>
                    <a:pt x="32637" y="-14464"/>
                  </a:lnTo>
                  <a:lnTo>
                    <a:pt x="32405" y="-15159"/>
                  </a:lnTo>
                  <a:lnTo>
                    <a:pt x="32058" y="-15622"/>
                  </a:lnTo>
                  <a:lnTo>
                    <a:pt x="31595" y="-16086"/>
                  </a:lnTo>
                  <a:lnTo>
                    <a:pt x="30785" y="-16201"/>
                  </a:lnTo>
                  <a:lnTo>
                    <a:pt x="30785" y="-16201"/>
                  </a:lnTo>
                  <a:lnTo>
                    <a:pt x="30670" y="-16317"/>
                  </a:lnTo>
                  <a:lnTo>
                    <a:pt x="30554" y="-16549"/>
                  </a:lnTo>
                  <a:lnTo>
                    <a:pt x="30438" y="-16781"/>
                  </a:lnTo>
                  <a:lnTo>
                    <a:pt x="30322" y="-16896"/>
                  </a:lnTo>
                  <a:lnTo>
                    <a:pt x="30322" y="-17128"/>
                  </a:lnTo>
                  <a:lnTo>
                    <a:pt x="30322" y="-17360"/>
                  </a:lnTo>
                  <a:lnTo>
                    <a:pt x="30322" y="-17591"/>
                  </a:lnTo>
                  <a:lnTo>
                    <a:pt x="30322" y="-17823"/>
                  </a:lnTo>
                  <a:lnTo>
                    <a:pt x="30322" y="-17823"/>
                  </a:lnTo>
                  <a:lnTo>
                    <a:pt x="30554" y="-18170"/>
                  </a:lnTo>
                  <a:lnTo>
                    <a:pt x="30785" y="-18518"/>
                  </a:lnTo>
                  <a:lnTo>
                    <a:pt x="31132" y="-18749"/>
                  </a:lnTo>
                  <a:lnTo>
                    <a:pt x="31480" y="-18981"/>
                  </a:lnTo>
                  <a:lnTo>
                    <a:pt x="31827" y="-19213"/>
                  </a:lnTo>
                  <a:lnTo>
                    <a:pt x="32174" y="-19444"/>
                  </a:lnTo>
                  <a:lnTo>
                    <a:pt x="32405" y="-19676"/>
                  </a:lnTo>
                  <a:lnTo>
                    <a:pt x="32637" y="-20139"/>
                  </a:lnTo>
                  <a:lnTo>
                    <a:pt x="32637" y="-20139"/>
                  </a:lnTo>
                  <a:lnTo>
                    <a:pt x="-32668" y="-20950"/>
                  </a:lnTo>
                  <a:lnTo>
                    <a:pt x="-32436" y="-21876"/>
                  </a:lnTo>
                  <a:lnTo>
                    <a:pt x="-32205" y="-22803"/>
                  </a:lnTo>
                  <a:lnTo>
                    <a:pt x="-32089" y="-23729"/>
                  </a:lnTo>
                  <a:lnTo>
                    <a:pt x="-32089" y="-24656"/>
                  </a:lnTo>
                  <a:lnTo>
                    <a:pt x="-32205" y="-25466"/>
                  </a:lnTo>
                  <a:lnTo>
                    <a:pt x="-32552" y="-26277"/>
                  </a:lnTo>
                  <a:lnTo>
                    <a:pt x="32290" y="-27088"/>
                  </a:lnTo>
                  <a:lnTo>
                    <a:pt x="32290" y="-27088"/>
                  </a:lnTo>
                  <a:lnTo>
                    <a:pt x="30901" y="-28593"/>
                  </a:lnTo>
                  <a:lnTo>
                    <a:pt x="30901" y="-28593"/>
                  </a:lnTo>
                  <a:lnTo>
                    <a:pt x="29744" y="-28130"/>
                  </a:lnTo>
                  <a:lnTo>
                    <a:pt x="28586" y="-27667"/>
                  </a:lnTo>
                  <a:lnTo>
                    <a:pt x="27545" y="-27203"/>
                  </a:lnTo>
                  <a:lnTo>
                    <a:pt x="26387" y="-26740"/>
                  </a:lnTo>
                  <a:lnTo>
                    <a:pt x="25230" y="-26161"/>
                  </a:lnTo>
                  <a:lnTo>
                    <a:pt x="24073" y="-25698"/>
                  </a:lnTo>
                  <a:lnTo>
                    <a:pt x="23031" y="-25119"/>
                  </a:lnTo>
                  <a:lnTo>
                    <a:pt x="21874" y="-24656"/>
                  </a:lnTo>
                  <a:lnTo>
                    <a:pt x="21874" y="-24656"/>
                  </a:lnTo>
                  <a:lnTo>
                    <a:pt x="21990" y="-24192"/>
                  </a:lnTo>
                  <a:lnTo>
                    <a:pt x="22221" y="-23845"/>
                  </a:lnTo>
                  <a:lnTo>
                    <a:pt x="22337" y="-23382"/>
                  </a:lnTo>
                  <a:lnTo>
                    <a:pt x="22568" y="-23034"/>
                  </a:lnTo>
                  <a:lnTo>
                    <a:pt x="22684" y="-22687"/>
                  </a:lnTo>
                  <a:lnTo>
                    <a:pt x="22915" y="-22224"/>
                  </a:lnTo>
                  <a:lnTo>
                    <a:pt x="23147" y="-21876"/>
                  </a:lnTo>
                  <a:lnTo>
                    <a:pt x="23263" y="-21529"/>
                  </a:lnTo>
                  <a:lnTo>
                    <a:pt x="23263" y="-21529"/>
                  </a:lnTo>
                  <a:lnTo>
                    <a:pt x="23263" y="-21181"/>
                  </a:lnTo>
                  <a:lnTo>
                    <a:pt x="23147" y="-20950"/>
                  </a:lnTo>
                  <a:lnTo>
                    <a:pt x="23031" y="-20718"/>
                  </a:lnTo>
                  <a:lnTo>
                    <a:pt x="22915" y="-20486"/>
                  </a:lnTo>
                  <a:lnTo>
                    <a:pt x="22684" y="-20371"/>
                  </a:lnTo>
                  <a:lnTo>
                    <a:pt x="22453" y="-20139"/>
                  </a:lnTo>
                  <a:lnTo>
                    <a:pt x="22221" y="-19907"/>
                  </a:lnTo>
                  <a:lnTo>
                    <a:pt x="22105" y="-19792"/>
                  </a:lnTo>
                  <a:lnTo>
                    <a:pt x="22105" y="-19792"/>
                  </a:lnTo>
                  <a:lnTo>
                    <a:pt x="20601" y="-17939"/>
                  </a:lnTo>
                  <a:lnTo>
                    <a:pt x="20601" y="-17939"/>
                  </a:lnTo>
                  <a:lnTo>
                    <a:pt x="20485" y="-17475"/>
                  </a:lnTo>
                  <a:lnTo>
                    <a:pt x="20485" y="-17012"/>
                  </a:lnTo>
                  <a:lnTo>
                    <a:pt x="20369" y="-16433"/>
                  </a:lnTo>
                  <a:lnTo>
                    <a:pt x="20254" y="-15970"/>
                  </a:lnTo>
                  <a:lnTo>
                    <a:pt x="20254" y="-15507"/>
                  </a:lnTo>
                  <a:lnTo>
                    <a:pt x="20254" y="-15043"/>
                  </a:lnTo>
                  <a:lnTo>
                    <a:pt x="20254" y="-14580"/>
                  </a:lnTo>
                  <a:lnTo>
                    <a:pt x="20369" y="-14117"/>
                  </a:lnTo>
                  <a:lnTo>
                    <a:pt x="20369" y="-14117"/>
                  </a:lnTo>
                  <a:lnTo>
                    <a:pt x="20485" y="-14117"/>
                  </a:lnTo>
                  <a:lnTo>
                    <a:pt x="20601" y="-14117"/>
                  </a:lnTo>
                  <a:lnTo>
                    <a:pt x="20832" y="-14001"/>
                  </a:lnTo>
                  <a:lnTo>
                    <a:pt x="20832" y="-13885"/>
                  </a:lnTo>
                  <a:lnTo>
                    <a:pt x="20948" y="-13769"/>
                  </a:lnTo>
                  <a:lnTo>
                    <a:pt x="21064" y="-13654"/>
                  </a:lnTo>
                  <a:lnTo>
                    <a:pt x="21179" y="-13538"/>
                  </a:lnTo>
                  <a:lnTo>
                    <a:pt x="21411" y="-13538"/>
                  </a:lnTo>
                  <a:lnTo>
                    <a:pt x="21411" y="-13538"/>
                  </a:lnTo>
                  <a:lnTo>
                    <a:pt x="23031" y="-13422"/>
                  </a:lnTo>
                  <a:lnTo>
                    <a:pt x="23031" y="-13422"/>
                  </a:lnTo>
                  <a:lnTo>
                    <a:pt x="23031" y="-13306"/>
                  </a:lnTo>
                  <a:lnTo>
                    <a:pt x="23147" y="-13190"/>
                  </a:lnTo>
                  <a:lnTo>
                    <a:pt x="23263" y="-13075"/>
                  </a:lnTo>
                  <a:lnTo>
                    <a:pt x="23378" y="-12959"/>
                  </a:lnTo>
                  <a:lnTo>
                    <a:pt x="23494" y="-12843"/>
                  </a:lnTo>
                  <a:lnTo>
                    <a:pt x="23610" y="-12611"/>
                  </a:lnTo>
                  <a:lnTo>
                    <a:pt x="23610" y="-12496"/>
                  </a:lnTo>
                  <a:lnTo>
                    <a:pt x="23726" y="-12264"/>
                  </a:lnTo>
                  <a:lnTo>
                    <a:pt x="23726" y="-12264"/>
                  </a:lnTo>
                  <a:lnTo>
                    <a:pt x="23726" y="-12032"/>
                  </a:lnTo>
                  <a:lnTo>
                    <a:pt x="23610" y="-11801"/>
                  </a:lnTo>
                  <a:lnTo>
                    <a:pt x="23494" y="-11569"/>
                  </a:lnTo>
                  <a:lnTo>
                    <a:pt x="23378" y="-11453"/>
                  </a:lnTo>
                  <a:lnTo>
                    <a:pt x="23147" y="-11222"/>
                  </a:lnTo>
                  <a:lnTo>
                    <a:pt x="22915" y="-11106"/>
                  </a:lnTo>
                  <a:lnTo>
                    <a:pt x="22684" y="-10990"/>
                  </a:lnTo>
                  <a:lnTo>
                    <a:pt x="22453" y="-10874"/>
                  </a:lnTo>
                  <a:lnTo>
                    <a:pt x="22453" y="-10874"/>
                  </a:lnTo>
                  <a:lnTo>
                    <a:pt x="21758" y="-10643"/>
                  </a:lnTo>
                  <a:lnTo>
                    <a:pt x="21179" y="-10643"/>
                  </a:lnTo>
                  <a:lnTo>
                    <a:pt x="20485" y="-10643"/>
                  </a:lnTo>
                  <a:lnTo>
                    <a:pt x="19791" y="-10758"/>
                  </a:lnTo>
                  <a:lnTo>
                    <a:pt x="19096" y="-10990"/>
                  </a:lnTo>
                  <a:lnTo>
                    <a:pt x="18518" y="-11222"/>
                  </a:lnTo>
                  <a:lnTo>
                    <a:pt x="17939" y="-11569"/>
                  </a:lnTo>
                  <a:lnTo>
                    <a:pt x="17360" y="-11917"/>
                  </a:lnTo>
                  <a:lnTo>
                    <a:pt x="17360" y="-11917"/>
                  </a:lnTo>
                  <a:lnTo>
                    <a:pt x="17013" y="-12496"/>
                  </a:lnTo>
                  <a:lnTo>
                    <a:pt x="16782" y="-13190"/>
                  </a:lnTo>
                  <a:lnTo>
                    <a:pt x="16550" y="-13769"/>
                  </a:lnTo>
                  <a:lnTo>
                    <a:pt x="16319" y="-14464"/>
                  </a:lnTo>
                  <a:lnTo>
                    <a:pt x="15972" y="-15043"/>
                  </a:lnTo>
                  <a:lnTo>
                    <a:pt x="15509" y="-15622"/>
                  </a:lnTo>
                  <a:lnTo>
                    <a:pt x="15046" y="-16086"/>
                  </a:lnTo>
                  <a:lnTo>
                    <a:pt x="14351" y="-16317"/>
                  </a:lnTo>
                  <a:lnTo>
                    <a:pt x="14351" y="-16317"/>
                  </a:lnTo>
                  <a:lnTo>
                    <a:pt x="14236" y="-16433"/>
                  </a:lnTo>
                  <a:lnTo>
                    <a:pt x="14120" y="-16549"/>
                  </a:lnTo>
                  <a:lnTo>
                    <a:pt x="14120" y="-16781"/>
                  </a:lnTo>
                  <a:lnTo>
                    <a:pt x="14004" y="-16896"/>
                  </a:lnTo>
                  <a:lnTo>
                    <a:pt x="14004" y="-17128"/>
                  </a:lnTo>
                  <a:lnTo>
                    <a:pt x="14004" y="-17244"/>
                  </a:lnTo>
                  <a:lnTo>
                    <a:pt x="14120" y="-17360"/>
                  </a:lnTo>
                  <a:lnTo>
                    <a:pt x="14120" y="-17591"/>
                  </a:lnTo>
                  <a:lnTo>
                    <a:pt x="14120" y="-17591"/>
                  </a:lnTo>
                  <a:lnTo>
                    <a:pt x="14467" y="-17939"/>
                  </a:lnTo>
                  <a:lnTo>
                    <a:pt x="14930" y="-18286"/>
                  </a:lnTo>
                  <a:lnTo>
                    <a:pt x="15393" y="-18402"/>
                  </a:lnTo>
                  <a:lnTo>
                    <a:pt x="15972" y="-18633"/>
                  </a:lnTo>
                  <a:lnTo>
                    <a:pt x="16434" y="-18749"/>
                  </a:lnTo>
                  <a:lnTo>
                    <a:pt x="17013" y="-18865"/>
                  </a:lnTo>
                  <a:lnTo>
                    <a:pt x="17476" y="-19097"/>
                  </a:lnTo>
                  <a:lnTo>
                    <a:pt x="17939" y="-19444"/>
                  </a:lnTo>
                  <a:lnTo>
                    <a:pt x="17939" y="-19444"/>
                  </a:lnTo>
                  <a:lnTo>
                    <a:pt x="18286" y="-19792"/>
                  </a:lnTo>
                  <a:lnTo>
                    <a:pt x="18633" y="-20023"/>
                  </a:lnTo>
                  <a:lnTo>
                    <a:pt x="18981" y="-20255"/>
                  </a:lnTo>
                  <a:lnTo>
                    <a:pt x="19328" y="-20602"/>
                  </a:lnTo>
                  <a:lnTo>
                    <a:pt x="19559" y="-20950"/>
                  </a:lnTo>
                  <a:lnTo>
                    <a:pt x="19791" y="-21297"/>
                  </a:lnTo>
                  <a:lnTo>
                    <a:pt x="20022" y="-21645"/>
                  </a:lnTo>
                  <a:lnTo>
                    <a:pt x="20369" y="-21992"/>
                  </a:lnTo>
                  <a:lnTo>
                    <a:pt x="20369" y="-21992"/>
                  </a:lnTo>
                  <a:lnTo>
                    <a:pt x="20138" y="-22108"/>
                  </a:lnTo>
                  <a:lnTo>
                    <a:pt x="20022" y="-22339"/>
                  </a:lnTo>
                  <a:lnTo>
                    <a:pt x="19906" y="-22571"/>
                  </a:lnTo>
                  <a:lnTo>
                    <a:pt x="19906" y="-22803"/>
                  </a:lnTo>
                  <a:lnTo>
                    <a:pt x="19791" y="-23034"/>
                  </a:lnTo>
                  <a:lnTo>
                    <a:pt x="19675" y="-23266"/>
                  </a:lnTo>
                  <a:lnTo>
                    <a:pt x="19559" y="-23382"/>
                  </a:lnTo>
                  <a:lnTo>
                    <a:pt x="19443" y="-23613"/>
                  </a:lnTo>
                  <a:lnTo>
                    <a:pt x="19443" y="-23613"/>
                  </a:lnTo>
                  <a:lnTo>
                    <a:pt x="18633" y="-23266"/>
                  </a:lnTo>
                  <a:lnTo>
                    <a:pt x="17823" y="-22918"/>
                  </a:lnTo>
                  <a:lnTo>
                    <a:pt x="17129" y="-22571"/>
                  </a:lnTo>
                  <a:lnTo>
                    <a:pt x="16319" y="-22224"/>
                  </a:lnTo>
                  <a:lnTo>
                    <a:pt x="15624" y="-21876"/>
                  </a:lnTo>
                  <a:lnTo>
                    <a:pt x="14814" y="-21529"/>
                  </a:lnTo>
                  <a:lnTo>
                    <a:pt x="14120" y="-21297"/>
                  </a:lnTo>
                  <a:lnTo>
                    <a:pt x="13194" y="-21181"/>
                  </a:lnTo>
                  <a:lnTo>
                    <a:pt x="13194" y="-21181"/>
                  </a:lnTo>
                  <a:lnTo>
                    <a:pt x="13194" y="-21297"/>
                  </a:lnTo>
                  <a:lnTo>
                    <a:pt x="13194" y="-21413"/>
                  </a:lnTo>
                  <a:lnTo>
                    <a:pt x="13078" y="-21645"/>
                  </a:lnTo>
                  <a:lnTo>
                    <a:pt x="13078" y="-21760"/>
                  </a:lnTo>
                  <a:lnTo>
                    <a:pt x="13078" y="-21876"/>
                  </a:lnTo>
                  <a:lnTo>
                    <a:pt x="13078" y="-22108"/>
                  </a:lnTo>
                  <a:lnTo>
                    <a:pt x="13078" y="-22224"/>
                  </a:lnTo>
                  <a:lnTo>
                    <a:pt x="12962" y="-22339"/>
                  </a:lnTo>
                  <a:lnTo>
                    <a:pt x="12962" y="-22339"/>
                  </a:lnTo>
                  <a:lnTo>
                    <a:pt x="12847" y="-22224"/>
                  </a:lnTo>
                  <a:lnTo>
                    <a:pt x="12731" y="-22224"/>
                  </a:lnTo>
                  <a:lnTo>
                    <a:pt x="12615" y="-22108"/>
                  </a:lnTo>
                  <a:lnTo>
                    <a:pt x="12500" y="-22108"/>
                  </a:lnTo>
                  <a:lnTo>
                    <a:pt x="12384" y="-22108"/>
                  </a:lnTo>
                  <a:lnTo>
                    <a:pt x="12268" y="-21992"/>
                  </a:lnTo>
                  <a:lnTo>
                    <a:pt x="12152" y="-22108"/>
                  </a:lnTo>
                  <a:lnTo>
                    <a:pt x="12037" y="-22108"/>
                  </a:lnTo>
                  <a:lnTo>
                    <a:pt x="12037" y="-22108"/>
                  </a:lnTo>
                  <a:lnTo>
                    <a:pt x="12037" y="-22339"/>
                  </a:lnTo>
                  <a:lnTo>
                    <a:pt x="12037" y="-22339"/>
                  </a:lnTo>
                  <a:lnTo>
                    <a:pt x="12037" y="-22455"/>
                  </a:lnTo>
                  <a:lnTo>
                    <a:pt x="11921" y="-22455"/>
                  </a:lnTo>
                  <a:lnTo>
                    <a:pt x="11805" y="-22455"/>
                  </a:lnTo>
                  <a:lnTo>
                    <a:pt x="11689" y="-22455"/>
                  </a:lnTo>
                  <a:lnTo>
                    <a:pt x="11574" y="-22339"/>
                  </a:lnTo>
                  <a:lnTo>
                    <a:pt x="11574" y="-22339"/>
                  </a:lnTo>
                  <a:lnTo>
                    <a:pt x="11458" y="-22339"/>
                  </a:lnTo>
                  <a:lnTo>
                    <a:pt x="11342" y="-22339"/>
                  </a:lnTo>
                  <a:lnTo>
                    <a:pt x="11342" y="-22339"/>
                  </a:lnTo>
                  <a:lnTo>
                    <a:pt x="11342" y="-22455"/>
                  </a:lnTo>
                  <a:lnTo>
                    <a:pt x="11342" y="-22571"/>
                  </a:lnTo>
                  <a:lnTo>
                    <a:pt x="11342" y="-22687"/>
                  </a:lnTo>
                  <a:lnTo>
                    <a:pt x="11342" y="-22803"/>
                  </a:lnTo>
                  <a:lnTo>
                    <a:pt x="11342" y="-22918"/>
                  </a:lnTo>
                  <a:lnTo>
                    <a:pt x="11342" y="-23034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226" y="-23150"/>
                  </a:lnTo>
                  <a:lnTo>
                    <a:pt x="11111" y="-23034"/>
                  </a:lnTo>
                  <a:lnTo>
                    <a:pt x="10995" y="-23034"/>
                  </a:lnTo>
                  <a:lnTo>
                    <a:pt x="10879" y="-22918"/>
                  </a:lnTo>
                  <a:lnTo>
                    <a:pt x="10648" y="-22918"/>
                  </a:lnTo>
                  <a:lnTo>
                    <a:pt x="10532" y="-22918"/>
                  </a:lnTo>
                  <a:lnTo>
                    <a:pt x="10416" y="-22918"/>
                  </a:lnTo>
                  <a:lnTo>
                    <a:pt x="10301" y="-22918"/>
                  </a:lnTo>
                  <a:lnTo>
                    <a:pt x="10301" y="-22918"/>
                  </a:lnTo>
                  <a:lnTo>
                    <a:pt x="10416" y="-24192"/>
                  </a:lnTo>
                  <a:lnTo>
                    <a:pt x="10648" y="-25350"/>
                  </a:lnTo>
                  <a:lnTo>
                    <a:pt x="10764" y="-26509"/>
                  </a:lnTo>
                  <a:lnTo>
                    <a:pt x="10879" y="-27782"/>
                  </a:lnTo>
                  <a:lnTo>
                    <a:pt x="10995" y="-28941"/>
                  </a:lnTo>
                  <a:lnTo>
                    <a:pt x="11226" y="-30099"/>
                  </a:lnTo>
                  <a:lnTo>
                    <a:pt x="11342" y="-31257"/>
                  </a:lnTo>
                  <a:lnTo>
                    <a:pt x="11574" y="-32415"/>
                  </a:lnTo>
                  <a:lnTo>
                    <a:pt x="11574" y="-32415"/>
                  </a:lnTo>
                  <a:lnTo>
                    <a:pt x="11458" y="-32531"/>
                  </a:lnTo>
                  <a:lnTo>
                    <a:pt x="11342" y="-32646"/>
                  </a:lnTo>
                  <a:lnTo>
                    <a:pt x="11111" y="-32762"/>
                  </a:lnTo>
                  <a:lnTo>
                    <a:pt x="10995" y="32658"/>
                  </a:lnTo>
                  <a:lnTo>
                    <a:pt x="10879" y="32542"/>
                  </a:lnTo>
                  <a:lnTo>
                    <a:pt x="10648" y="32426"/>
                  </a:lnTo>
                  <a:lnTo>
                    <a:pt x="10532" y="32311"/>
                  </a:lnTo>
                  <a:lnTo>
                    <a:pt x="10532" y="32195"/>
                  </a:lnTo>
                  <a:lnTo>
                    <a:pt x="10532" y="32195"/>
                  </a:lnTo>
                  <a:lnTo>
                    <a:pt x="10532" y="32542"/>
                  </a:lnTo>
                  <a:lnTo>
                    <a:pt x="10532" y="-32762"/>
                  </a:lnTo>
                  <a:lnTo>
                    <a:pt x="10648" y="-32415"/>
                  </a:lnTo>
                  <a:lnTo>
                    <a:pt x="10764" y="-32067"/>
                  </a:lnTo>
                  <a:lnTo>
                    <a:pt x="10879" y="-31720"/>
                  </a:lnTo>
                  <a:lnTo>
                    <a:pt x="10879" y="-31488"/>
                  </a:lnTo>
                  <a:lnTo>
                    <a:pt x="10879" y="-31141"/>
                  </a:lnTo>
                  <a:lnTo>
                    <a:pt x="10879" y="-30793"/>
                  </a:lnTo>
                  <a:lnTo>
                    <a:pt x="10879" y="-30793"/>
                  </a:lnTo>
                  <a:lnTo>
                    <a:pt x="10764" y="-30678"/>
                  </a:lnTo>
                  <a:lnTo>
                    <a:pt x="10648" y="-30562"/>
                  </a:lnTo>
                  <a:lnTo>
                    <a:pt x="10532" y="-30562"/>
                  </a:lnTo>
                  <a:lnTo>
                    <a:pt x="10301" y="-30446"/>
                  </a:lnTo>
                  <a:lnTo>
                    <a:pt x="10185" y="-30446"/>
                  </a:lnTo>
                  <a:lnTo>
                    <a:pt x="9953" y="-30562"/>
                  </a:lnTo>
                  <a:lnTo>
                    <a:pt x="9838" y="-30562"/>
                  </a:lnTo>
                  <a:lnTo>
                    <a:pt x="9722" y="-30678"/>
                  </a:lnTo>
                  <a:lnTo>
                    <a:pt x="9722" y="-30678"/>
                  </a:lnTo>
                  <a:lnTo>
                    <a:pt x="9491" y="-30678"/>
                  </a:lnTo>
                  <a:lnTo>
                    <a:pt x="9259" y="-30909"/>
                  </a:lnTo>
                  <a:lnTo>
                    <a:pt x="9143" y="-31025"/>
                  </a:lnTo>
                  <a:lnTo>
                    <a:pt x="9028" y="-31257"/>
                  </a:lnTo>
                  <a:lnTo>
                    <a:pt x="8912" y="-31488"/>
                  </a:lnTo>
                  <a:lnTo>
                    <a:pt x="8796" y="-31604"/>
                  </a:lnTo>
                  <a:lnTo>
                    <a:pt x="8680" y="-31836"/>
                  </a:lnTo>
                  <a:lnTo>
                    <a:pt x="8565" y="-32067"/>
                  </a:lnTo>
                  <a:lnTo>
                    <a:pt x="8565" y="-32067"/>
                  </a:lnTo>
                  <a:lnTo>
                    <a:pt x="7870" y="-31836"/>
                  </a:lnTo>
                  <a:lnTo>
                    <a:pt x="7292" y="-31604"/>
                  </a:lnTo>
                  <a:lnTo>
                    <a:pt x="6597" y="-31373"/>
                  </a:lnTo>
                  <a:lnTo>
                    <a:pt x="6019" y="-31025"/>
                  </a:lnTo>
                  <a:lnTo>
                    <a:pt x="5440" y="-30793"/>
                  </a:lnTo>
                  <a:lnTo>
                    <a:pt x="4861" y="-30562"/>
                  </a:lnTo>
                  <a:lnTo>
                    <a:pt x="4167" y="-30330"/>
                  </a:lnTo>
                  <a:lnTo>
                    <a:pt x="3588" y="-30099"/>
                  </a:lnTo>
                  <a:lnTo>
                    <a:pt x="3588" y="-30099"/>
                  </a:lnTo>
                  <a:lnTo>
                    <a:pt x="3241" y="-30099"/>
                  </a:lnTo>
                  <a:lnTo>
                    <a:pt x="2894" y="-30099"/>
                  </a:lnTo>
                  <a:lnTo>
                    <a:pt x="2547" y="-30099"/>
                  </a:lnTo>
                  <a:lnTo>
                    <a:pt x="2199" y="-30330"/>
                  </a:lnTo>
                  <a:lnTo>
                    <a:pt x="1852" y="-30446"/>
                  </a:lnTo>
                  <a:lnTo>
                    <a:pt x="1505" y="-30678"/>
                  </a:lnTo>
                  <a:lnTo>
                    <a:pt x="1274" y="-30909"/>
                  </a:lnTo>
                  <a:lnTo>
                    <a:pt x="926" y="-31141"/>
                  </a:lnTo>
                  <a:lnTo>
                    <a:pt x="926" y="-31141"/>
                  </a:lnTo>
                  <a:lnTo>
                    <a:pt x="579" y="-31720"/>
                  </a:lnTo>
                  <a:lnTo>
                    <a:pt x="232" y="-32415"/>
                  </a:lnTo>
                  <a:lnTo>
                    <a:pt x="116" y="32426"/>
                  </a:lnTo>
                  <a:lnTo>
                    <a:pt x="0" y="31731"/>
                  </a:lnTo>
                  <a:lnTo>
                    <a:pt x="0" y="31037"/>
                  </a:lnTo>
                  <a:lnTo>
                    <a:pt x="116" y="30342"/>
                  </a:lnTo>
                  <a:lnTo>
                    <a:pt x="348" y="29647"/>
                  </a:lnTo>
                  <a:lnTo>
                    <a:pt x="579" y="29068"/>
                  </a:lnTo>
                  <a:lnTo>
                    <a:pt x="579" y="29068"/>
                  </a:lnTo>
                  <a:lnTo>
                    <a:pt x="1158" y="28257"/>
                  </a:lnTo>
                  <a:lnTo>
                    <a:pt x="1968" y="27910"/>
                  </a:lnTo>
                  <a:lnTo>
                    <a:pt x="2894" y="27678"/>
                  </a:lnTo>
                  <a:lnTo>
                    <a:pt x="3820" y="27562"/>
                  </a:lnTo>
                  <a:lnTo>
                    <a:pt x="4745" y="27562"/>
                  </a:lnTo>
                  <a:lnTo>
                    <a:pt x="5671" y="27331"/>
                  </a:lnTo>
                  <a:lnTo>
                    <a:pt x="6597" y="27099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523" y="26520"/>
                  </a:lnTo>
                  <a:lnTo>
                    <a:pt x="7523" y="26520"/>
                  </a:lnTo>
                  <a:lnTo>
                    <a:pt x="7639" y="26520"/>
                  </a:lnTo>
                  <a:lnTo>
                    <a:pt x="7639" y="26520"/>
                  </a:lnTo>
                  <a:lnTo>
                    <a:pt x="7755" y="26520"/>
                  </a:lnTo>
                  <a:lnTo>
                    <a:pt x="7755" y="26520"/>
                  </a:lnTo>
                  <a:lnTo>
                    <a:pt x="7870" y="26520"/>
                  </a:lnTo>
                  <a:lnTo>
                    <a:pt x="7870" y="26520"/>
                  </a:lnTo>
                  <a:lnTo>
                    <a:pt x="7292" y="25709"/>
                  </a:lnTo>
                  <a:lnTo>
                    <a:pt x="6713" y="25014"/>
                  </a:lnTo>
                  <a:lnTo>
                    <a:pt x="6250" y="24204"/>
                  </a:lnTo>
                  <a:lnTo>
                    <a:pt x="5787" y="23393"/>
                  </a:lnTo>
                  <a:lnTo>
                    <a:pt x="5440" y="22582"/>
                  </a:lnTo>
                  <a:lnTo>
                    <a:pt x="5208" y="21772"/>
                  </a:lnTo>
                  <a:lnTo>
                    <a:pt x="5208" y="20845"/>
                  </a:lnTo>
                  <a:lnTo>
                    <a:pt x="5324" y="19919"/>
                  </a:lnTo>
                  <a:lnTo>
                    <a:pt x="5324" y="19919"/>
                  </a:lnTo>
                  <a:lnTo>
                    <a:pt x="5440" y="19571"/>
                  </a:lnTo>
                  <a:lnTo>
                    <a:pt x="5671" y="19224"/>
                  </a:lnTo>
                  <a:lnTo>
                    <a:pt x="6019" y="19108"/>
                  </a:lnTo>
                  <a:lnTo>
                    <a:pt x="6366" y="18992"/>
                  </a:lnTo>
                  <a:lnTo>
                    <a:pt x="6713" y="18877"/>
                  </a:lnTo>
                  <a:lnTo>
                    <a:pt x="7060" y="18761"/>
                  </a:lnTo>
                  <a:lnTo>
                    <a:pt x="7523" y="18761"/>
                  </a:lnTo>
                  <a:lnTo>
                    <a:pt x="7870" y="18645"/>
                  </a:lnTo>
                  <a:lnTo>
                    <a:pt x="7870" y="18645"/>
                  </a:lnTo>
                  <a:lnTo>
                    <a:pt x="8565" y="18529"/>
                  </a:lnTo>
                  <a:lnTo>
                    <a:pt x="9259" y="18529"/>
                  </a:lnTo>
                  <a:lnTo>
                    <a:pt x="9953" y="18529"/>
                  </a:lnTo>
                  <a:lnTo>
                    <a:pt x="10648" y="18645"/>
                  </a:lnTo>
                  <a:lnTo>
                    <a:pt x="11342" y="18645"/>
                  </a:lnTo>
                  <a:lnTo>
                    <a:pt x="11921" y="18877"/>
                  </a:lnTo>
                  <a:lnTo>
                    <a:pt x="12615" y="18992"/>
                  </a:lnTo>
                  <a:lnTo>
                    <a:pt x="13310" y="19108"/>
                  </a:lnTo>
                  <a:lnTo>
                    <a:pt x="13310" y="19108"/>
                  </a:lnTo>
                  <a:lnTo>
                    <a:pt x="13425" y="18992"/>
                  </a:lnTo>
                  <a:lnTo>
                    <a:pt x="13425" y="18992"/>
                  </a:lnTo>
                  <a:lnTo>
                    <a:pt x="13773" y="17139"/>
                  </a:lnTo>
                  <a:lnTo>
                    <a:pt x="14004" y="15286"/>
                  </a:lnTo>
                  <a:lnTo>
                    <a:pt x="14351" y="13434"/>
                  </a:lnTo>
                  <a:lnTo>
                    <a:pt x="14814" y="11581"/>
                  </a:lnTo>
                  <a:lnTo>
                    <a:pt x="15161" y="9728"/>
                  </a:lnTo>
                  <a:lnTo>
                    <a:pt x="15509" y="7875"/>
                  </a:lnTo>
                  <a:lnTo>
                    <a:pt x="15856" y="6138"/>
                  </a:lnTo>
                  <a:lnTo>
                    <a:pt x="16203" y="4285"/>
                  </a:lnTo>
                  <a:lnTo>
                    <a:pt x="16203" y="4285"/>
                  </a:lnTo>
                  <a:lnTo>
                    <a:pt x="16319" y="4053"/>
                  </a:lnTo>
                  <a:lnTo>
                    <a:pt x="16319" y="3821"/>
                  </a:lnTo>
                  <a:lnTo>
                    <a:pt x="16203" y="3590"/>
                  </a:lnTo>
                  <a:lnTo>
                    <a:pt x="16203" y="3358"/>
                  </a:lnTo>
                  <a:lnTo>
                    <a:pt x="16319" y="3126"/>
                  </a:lnTo>
                  <a:lnTo>
                    <a:pt x="16434" y="3011"/>
                  </a:lnTo>
                  <a:lnTo>
                    <a:pt x="16550" y="2895"/>
                  </a:lnTo>
                  <a:lnTo>
                    <a:pt x="16897" y="2895"/>
                  </a:lnTo>
                  <a:lnTo>
                    <a:pt x="16897" y="2895"/>
                  </a:lnTo>
                  <a:lnTo>
                    <a:pt x="16782" y="2663"/>
                  </a:lnTo>
                  <a:lnTo>
                    <a:pt x="16782" y="2316"/>
                  </a:lnTo>
                  <a:lnTo>
                    <a:pt x="16782" y="1968"/>
                  </a:lnTo>
                  <a:lnTo>
                    <a:pt x="16782" y="1621"/>
                  </a:lnTo>
                  <a:lnTo>
                    <a:pt x="16897" y="1389"/>
                  </a:lnTo>
                  <a:lnTo>
                    <a:pt x="17013" y="1042"/>
                  </a:lnTo>
                  <a:lnTo>
                    <a:pt x="17129" y="810"/>
                  </a:lnTo>
                  <a:lnTo>
                    <a:pt x="17360" y="579"/>
                  </a:lnTo>
                  <a:lnTo>
                    <a:pt x="17360" y="579"/>
                  </a:lnTo>
                  <a:lnTo>
                    <a:pt x="17707" y="347"/>
                  </a:lnTo>
                  <a:lnTo>
                    <a:pt x="18055" y="115"/>
                  </a:lnTo>
                  <a:lnTo>
                    <a:pt x="18518" y="0"/>
                  </a:lnTo>
                  <a:lnTo>
                    <a:pt x="18981" y="0"/>
                  </a:lnTo>
                  <a:lnTo>
                    <a:pt x="19328" y="0"/>
                  </a:lnTo>
                  <a:lnTo>
                    <a:pt x="19791" y="115"/>
                  </a:lnTo>
                  <a:lnTo>
                    <a:pt x="20138" y="347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1158120" y="2932560"/>
              <a:ext cx="115560" cy="192600"/>
            </a:xfrm>
            <a:custGeom>
              <a:avLst/>
              <a:gdLst/>
              <a:ahLst/>
              <a:rect l="l" t="t" r="r" b="b"/>
              <a:pathLst>
                <a:path w="3240" h="3590">
                  <a:moveTo>
                    <a:pt x="3124" y="926"/>
                  </a:moveTo>
                  <a:lnTo>
                    <a:pt x="3124" y="1274"/>
                  </a:lnTo>
                  <a:lnTo>
                    <a:pt x="3240" y="1621"/>
                  </a:lnTo>
                  <a:lnTo>
                    <a:pt x="3240" y="1969"/>
                  </a:lnTo>
                  <a:lnTo>
                    <a:pt x="3240" y="2316"/>
                  </a:lnTo>
                  <a:lnTo>
                    <a:pt x="3240" y="2663"/>
                  </a:lnTo>
                  <a:lnTo>
                    <a:pt x="3124" y="2895"/>
                  </a:lnTo>
                  <a:lnTo>
                    <a:pt x="3009" y="3243"/>
                  </a:lnTo>
                  <a:lnTo>
                    <a:pt x="2893" y="3590"/>
                  </a:lnTo>
                  <a:lnTo>
                    <a:pt x="2893" y="3590"/>
                  </a:lnTo>
                  <a:lnTo>
                    <a:pt x="2546" y="3590"/>
                  </a:lnTo>
                  <a:lnTo>
                    <a:pt x="2546" y="3243"/>
                  </a:lnTo>
                  <a:lnTo>
                    <a:pt x="2661" y="3243"/>
                  </a:lnTo>
                  <a:lnTo>
                    <a:pt x="2661" y="3243"/>
                  </a:lnTo>
                  <a:lnTo>
                    <a:pt x="2661" y="3011"/>
                  </a:lnTo>
                  <a:lnTo>
                    <a:pt x="2777" y="2663"/>
                  </a:lnTo>
                  <a:lnTo>
                    <a:pt x="2893" y="2432"/>
                  </a:lnTo>
                  <a:lnTo>
                    <a:pt x="2893" y="2084"/>
                  </a:lnTo>
                  <a:lnTo>
                    <a:pt x="3009" y="1737"/>
                  </a:lnTo>
                  <a:lnTo>
                    <a:pt x="2893" y="1505"/>
                  </a:lnTo>
                  <a:lnTo>
                    <a:pt x="2893" y="1158"/>
                  </a:lnTo>
                  <a:lnTo>
                    <a:pt x="2777" y="926"/>
                  </a:lnTo>
                  <a:lnTo>
                    <a:pt x="2777" y="926"/>
                  </a:lnTo>
                  <a:lnTo>
                    <a:pt x="2661" y="811"/>
                  </a:lnTo>
                  <a:lnTo>
                    <a:pt x="2546" y="695"/>
                  </a:lnTo>
                  <a:lnTo>
                    <a:pt x="2430" y="579"/>
                  </a:lnTo>
                  <a:lnTo>
                    <a:pt x="2198" y="463"/>
                  </a:lnTo>
                  <a:lnTo>
                    <a:pt x="2083" y="347"/>
                  </a:lnTo>
                  <a:lnTo>
                    <a:pt x="1967" y="231"/>
                  </a:lnTo>
                  <a:lnTo>
                    <a:pt x="1851" y="231"/>
                  </a:lnTo>
                  <a:lnTo>
                    <a:pt x="1736" y="231"/>
                  </a:lnTo>
                  <a:lnTo>
                    <a:pt x="1736" y="231"/>
                  </a:lnTo>
                  <a:lnTo>
                    <a:pt x="1504" y="231"/>
                  </a:lnTo>
                  <a:lnTo>
                    <a:pt x="1273" y="347"/>
                  </a:lnTo>
                  <a:lnTo>
                    <a:pt x="1041" y="347"/>
                  </a:lnTo>
                  <a:lnTo>
                    <a:pt x="925" y="463"/>
                  </a:lnTo>
                  <a:lnTo>
                    <a:pt x="694" y="695"/>
                  </a:lnTo>
                  <a:lnTo>
                    <a:pt x="578" y="811"/>
                  </a:lnTo>
                  <a:lnTo>
                    <a:pt x="462" y="926"/>
                  </a:lnTo>
                  <a:lnTo>
                    <a:pt x="347" y="1158"/>
                  </a:lnTo>
                  <a:lnTo>
                    <a:pt x="347" y="1158"/>
                  </a:lnTo>
                  <a:lnTo>
                    <a:pt x="347" y="2432"/>
                  </a:lnTo>
                  <a:lnTo>
                    <a:pt x="347" y="2432"/>
                  </a:lnTo>
                  <a:lnTo>
                    <a:pt x="115" y="2316"/>
                  </a:lnTo>
                  <a:lnTo>
                    <a:pt x="115" y="2200"/>
                  </a:lnTo>
                  <a:lnTo>
                    <a:pt x="0" y="1969"/>
                  </a:lnTo>
                  <a:lnTo>
                    <a:pt x="0" y="1737"/>
                  </a:lnTo>
                  <a:lnTo>
                    <a:pt x="0" y="1505"/>
                  </a:lnTo>
                  <a:lnTo>
                    <a:pt x="0" y="1390"/>
                  </a:lnTo>
                  <a:lnTo>
                    <a:pt x="0" y="1158"/>
                  </a:lnTo>
                  <a:lnTo>
                    <a:pt x="115" y="926"/>
                  </a:lnTo>
                  <a:lnTo>
                    <a:pt x="115" y="926"/>
                  </a:lnTo>
                  <a:lnTo>
                    <a:pt x="347" y="579"/>
                  </a:lnTo>
                  <a:lnTo>
                    <a:pt x="694" y="231"/>
                  </a:lnTo>
                  <a:lnTo>
                    <a:pt x="1041" y="116"/>
                  </a:lnTo>
                  <a:lnTo>
                    <a:pt x="1504" y="0"/>
                  </a:lnTo>
                  <a:lnTo>
                    <a:pt x="2083" y="0"/>
                  </a:lnTo>
                  <a:lnTo>
                    <a:pt x="2430" y="231"/>
                  </a:lnTo>
                  <a:lnTo>
                    <a:pt x="2777" y="463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1282320" y="2945160"/>
              <a:ext cx="65880" cy="211320"/>
            </a:xfrm>
            <a:custGeom>
              <a:avLst/>
              <a:gdLst/>
              <a:ahLst/>
              <a:rect l="l" t="t" r="r" b="b"/>
              <a:pathLst>
                <a:path w="1851" h="3938">
                  <a:moveTo>
                    <a:pt x="1851" y="1853"/>
                  </a:moveTo>
                  <a:lnTo>
                    <a:pt x="1851" y="1969"/>
                  </a:lnTo>
                  <a:lnTo>
                    <a:pt x="1851" y="2201"/>
                  </a:lnTo>
                  <a:lnTo>
                    <a:pt x="1851" y="2317"/>
                  </a:lnTo>
                  <a:lnTo>
                    <a:pt x="1736" y="2432"/>
                  </a:lnTo>
                  <a:lnTo>
                    <a:pt x="1736" y="2548"/>
                  </a:lnTo>
                  <a:lnTo>
                    <a:pt x="1736" y="2664"/>
                  </a:lnTo>
                  <a:lnTo>
                    <a:pt x="1736" y="2896"/>
                  </a:lnTo>
                  <a:lnTo>
                    <a:pt x="1736" y="3012"/>
                  </a:lnTo>
                  <a:lnTo>
                    <a:pt x="1736" y="3012"/>
                  </a:lnTo>
                  <a:lnTo>
                    <a:pt x="1620" y="3127"/>
                  </a:lnTo>
                  <a:lnTo>
                    <a:pt x="1620" y="3243"/>
                  </a:lnTo>
                  <a:lnTo>
                    <a:pt x="1504" y="3359"/>
                  </a:lnTo>
                  <a:lnTo>
                    <a:pt x="1388" y="3475"/>
                  </a:lnTo>
                  <a:lnTo>
                    <a:pt x="1273" y="3591"/>
                  </a:lnTo>
                  <a:lnTo>
                    <a:pt x="1157" y="3706"/>
                  </a:lnTo>
                  <a:lnTo>
                    <a:pt x="1041" y="3822"/>
                  </a:lnTo>
                  <a:lnTo>
                    <a:pt x="925" y="3938"/>
                  </a:lnTo>
                  <a:lnTo>
                    <a:pt x="925" y="3938"/>
                  </a:lnTo>
                  <a:lnTo>
                    <a:pt x="810" y="3938"/>
                  </a:lnTo>
                  <a:lnTo>
                    <a:pt x="810" y="3938"/>
                  </a:lnTo>
                  <a:lnTo>
                    <a:pt x="694" y="3938"/>
                  </a:lnTo>
                  <a:lnTo>
                    <a:pt x="694" y="3822"/>
                  </a:lnTo>
                  <a:lnTo>
                    <a:pt x="694" y="3822"/>
                  </a:lnTo>
                  <a:lnTo>
                    <a:pt x="694" y="3706"/>
                  </a:lnTo>
                  <a:lnTo>
                    <a:pt x="694" y="3706"/>
                  </a:lnTo>
                  <a:lnTo>
                    <a:pt x="694" y="3591"/>
                  </a:lnTo>
                  <a:lnTo>
                    <a:pt x="694" y="3591"/>
                  </a:lnTo>
                  <a:lnTo>
                    <a:pt x="925" y="3243"/>
                  </a:lnTo>
                  <a:lnTo>
                    <a:pt x="1157" y="3012"/>
                  </a:lnTo>
                  <a:lnTo>
                    <a:pt x="1273" y="2664"/>
                  </a:lnTo>
                  <a:lnTo>
                    <a:pt x="1273" y="2317"/>
                  </a:lnTo>
                  <a:lnTo>
                    <a:pt x="1273" y="1969"/>
                  </a:lnTo>
                  <a:lnTo>
                    <a:pt x="1157" y="1622"/>
                  </a:lnTo>
                  <a:lnTo>
                    <a:pt x="1041" y="1274"/>
                  </a:lnTo>
                  <a:lnTo>
                    <a:pt x="1041" y="811"/>
                  </a:lnTo>
                  <a:lnTo>
                    <a:pt x="1041" y="811"/>
                  </a:lnTo>
                  <a:lnTo>
                    <a:pt x="925" y="811"/>
                  </a:lnTo>
                  <a:lnTo>
                    <a:pt x="810" y="695"/>
                  </a:lnTo>
                  <a:lnTo>
                    <a:pt x="694" y="580"/>
                  </a:lnTo>
                  <a:lnTo>
                    <a:pt x="578" y="464"/>
                  </a:lnTo>
                  <a:lnTo>
                    <a:pt x="462" y="464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5" y="464"/>
                  </a:lnTo>
                  <a:lnTo>
                    <a:pt x="115" y="464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115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2" y="0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925" y="232"/>
                  </a:lnTo>
                  <a:lnTo>
                    <a:pt x="1041" y="232"/>
                  </a:lnTo>
                  <a:lnTo>
                    <a:pt x="1041" y="232"/>
                  </a:lnTo>
                  <a:lnTo>
                    <a:pt x="1273" y="464"/>
                  </a:lnTo>
                  <a:lnTo>
                    <a:pt x="1388" y="580"/>
                  </a:lnTo>
                  <a:lnTo>
                    <a:pt x="1504" y="811"/>
                  </a:lnTo>
                  <a:lnTo>
                    <a:pt x="1620" y="1043"/>
                  </a:lnTo>
                  <a:lnTo>
                    <a:pt x="1620" y="1159"/>
                  </a:lnTo>
                  <a:lnTo>
                    <a:pt x="1736" y="1390"/>
                  </a:lnTo>
                  <a:lnTo>
                    <a:pt x="1736" y="1622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1182960" y="2970000"/>
              <a:ext cx="49320" cy="99360"/>
            </a:xfrm>
            <a:custGeom>
              <a:avLst/>
              <a:gdLst/>
              <a:ahLst/>
              <a:rect l="l" t="t" r="r" b="b"/>
              <a:pathLst>
                <a:path w="1389" h="1853">
                  <a:moveTo>
                    <a:pt x="1389" y="347"/>
                  </a:moveTo>
                  <a:lnTo>
                    <a:pt x="1157" y="579"/>
                  </a:lnTo>
                  <a:lnTo>
                    <a:pt x="1042" y="810"/>
                  </a:lnTo>
                  <a:lnTo>
                    <a:pt x="926" y="1042"/>
                  </a:lnTo>
                  <a:lnTo>
                    <a:pt x="810" y="1389"/>
                  </a:lnTo>
                  <a:lnTo>
                    <a:pt x="810" y="1621"/>
                  </a:lnTo>
                  <a:lnTo>
                    <a:pt x="694" y="1853"/>
                  </a:lnTo>
                  <a:lnTo>
                    <a:pt x="463" y="1853"/>
                  </a:lnTo>
                  <a:lnTo>
                    <a:pt x="116" y="1737"/>
                  </a:lnTo>
                  <a:lnTo>
                    <a:pt x="116" y="1737"/>
                  </a:lnTo>
                  <a:lnTo>
                    <a:pt x="0" y="1505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6" y="810"/>
                  </a:lnTo>
                  <a:lnTo>
                    <a:pt x="116" y="579"/>
                  </a:lnTo>
                  <a:lnTo>
                    <a:pt x="231" y="347"/>
                  </a:lnTo>
                  <a:lnTo>
                    <a:pt x="463" y="231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7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389" y="231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1356840" y="2988720"/>
              <a:ext cx="65880" cy="192600"/>
            </a:xfrm>
            <a:custGeom>
              <a:avLst/>
              <a:gdLst/>
              <a:ahLst/>
              <a:rect l="l" t="t" r="r" b="b"/>
              <a:pathLst>
                <a:path w="1851" h="3590">
                  <a:moveTo>
                    <a:pt x="1620" y="695"/>
                  </a:moveTo>
                  <a:lnTo>
                    <a:pt x="1736" y="927"/>
                  </a:lnTo>
                  <a:lnTo>
                    <a:pt x="1736" y="1158"/>
                  </a:lnTo>
                  <a:lnTo>
                    <a:pt x="1851" y="1390"/>
                  </a:lnTo>
                  <a:lnTo>
                    <a:pt x="1851" y="1621"/>
                  </a:lnTo>
                  <a:lnTo>
                    <a:pt x="1851" y="1853"/>
                  </a:lnTo>
                  <a:lnTo>
                    <a:pt x="1851" y="2085"/>
                  </a:lnTo>
                  <a:lnTo>
                    <a:pt x="1851" y="2316"/>
                  </a:lnTo>
                  <a:lnTo>
                    <a:pt x="1736" y="2432"/>
                  </a:lnTo>
                  <a:lnTo>
                    <a:pt x="1736" y="2432"/>
                  </a:lnTo>
                  <a:lnTo>
                    <a:pt x="1736" y="2664"/>
                  </a:lnTo>
                  <a:lnTo>
                    <a:pt x="1620" y="2780"/>
                  </a:lnTo>
                  <a:lnTo>
                    <a:pt x="1504" y="2895"/>
                  </a:lnTo>
                  <a:lnTo>
                    <a:pt x="1388" y="3127"/>
                  </a:lnTo>
                  <a:lnTo>
                    <a:pt x="1273" y="3243"/>
                  </a:lnTo>
                  <a:lnTo>
                    <a:pt x="1157" y="3359"/>
                  </a:lnTo>
                  <a:lnTo>
                    <a:pt x="1041" y="3474"/>
                  </a:lnTo>
                  <a:lnTo>
                    <a:pt x="926" y="3590"/>
                  </a:lnTo>
                  <a:lnTo>
                    <a:pt x="926" y="3590"/>
                  </a:lnTo>
                  <a:lnTo>
                    <a:pt x="810" y="3590"/>
                  </a:lnTo>
                  <a:lnTo>
                    <a:pt x="694" y="3590"/>
                  </a:lnTo>
                  <a:lnTo>
                    <a:pt x="694" y="3474"/>
                  </a:lnTo>
                  <a:lnTo>
                    <a:pt x="578" y="3474"/>
                  </a:lnTo>
                  <a:lnTo>
                    <a:pt x="578" y="3359"/>
                  </a:lnTo>
                  <a:lnTo>
                    <a:pt x="578" y="3359"/>
                  </a:lnTo>
                  <a:lnTo>
                    <a:pt x="578" y="3243"/>
                  </a:lnTo>
                  <a:lnTo>
                    <a:pt x="578" y="3127"/>
                  </a:lnTo>
                  <a:lnTo>
                    <a:pt x="578" y="3127"/>
                  </a:lnTo>
                  <a:lnTo>
                    <a:pt x="694" y="3127"/>
                  </a:lnTo>
                  <a:lnTo>
                    <a:pt x="810" y="3011"/>
                  </a:lnTo>
                  <a:lnTo>
                    <a:pt x="926" y="2895"/>
                  </a:lnTo>
                  <a:lnTo>
                    <a:pt x="1041" y="2780"/>
                  </a:lnTo>
                  <a:lnTo>
                    <a:pt x="1041" y="2664"/>
                  </a:lnTo>
                  <a:lnTo>
                    <a:pt x="1157" y="2432"/>
                  </a:lnTo>
                  <a:lnTo>
                    <a:pt x="1157" y="2316"/>
                  </a:lnTo>
                  <a:lnTo>
                    <a:pt x="1157" y="2201"/>
                  </a:lnTo>
                  <a:lnTo>
                    <a:pt x="1157" y="2201"/>
                  </a:lnTo>
                  <a:lnTo>
                    <a:pt x="1157" y="1969"/>
                  </a:lnTo>
                  <a:lnTo>
                    <a:pt x="1157" y="1621"/>
                  </a:lnTo>
                  <a:lnTo>
                    <a:pt x="1157" y="1390"/>
                  </a:lnTo>
                  <a:lnTo>
                    <a:pt x="1041" y="1042"/>
                  </a:lnTo>
                  <a:lnTo>
                    <a:pt x="926" y="811"/>
                  </a:lnTo>
                  <a:lnTo>
                    <a:pt x="810" y="579"/>
                  </a:lnTo>
                  <a:lnTo>
                    <a:pt x="578" y="348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231" y="232"/>
                  </a:lnTo>
                  <a:lnTo>
                    <a:pt x="231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6"/>
                  </a:lnTo>
                  <a:lnTo>
                    <a:pt x="1273" y="232"/>
                  </a:lnTo>
                  <a:lnTo>
                    <a:pt x="1504" y="463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1431360" y="3013560"/>
              <a:ext cx="57600" cy="186480"/>
            </a:xfrm>
            <a:custGeom>
              <a:avLst/>
              <a:gdLst/>
              <a:ahLst/>
              <a:rect l="l" t="t" r="r" b="b"/>
              <a:pathLst>
                <a:path w="1620" h="3475">
                  <a:moveTo>
                    <a:pt x="1620" y="1390"/>
                  </a:moveTo>
                  <a:lnTo>
                    <a:pt x="1620" y="1622"/>
                  </a:lnTo>
                  <a:lnTo>
                    <a:pt x="1620" y="1853"/>
                  </a:lnTo>
                  <a:lnTo>
                    <a:pt x="1620" y="2085"/>
                  </a:lnTo>
                  <a:lnTo>
                    <a:pt x="1620" y="2317"/>
                  </a:lnTo>
                  <a:lnTo>
                    <a:pt x="1620" y="2432"/>
                  </a:lnTo>
                  <a:lnTo>
                    <a:pt x="1620" y="2664"/>
                  </a:lnTo>
                  <a:lnTo>
                    <a:pt x="1504" y="2896"/>
                  </a:lnTo>
                  <a:lnTo>
                    <a:pt x="1389" y="3011"/>
                  </a:lnTo>
                  <a:lnTo>
                    <a:pt x="1389" y="3011"/>
                  </a:lnTo>
                  <a:lnTo>
                    <a:pt x="1273" y="3127"/>
                  </a:lnTo>
                  <a:lnTo>
                    <a:pt x="1157" y="3127"/>
                  </a:lnTo>
                  <a:lnTo>
                    <a:pt x="1041" y="3243"/>
                  </a:lnTo>
                  <a:lnTo>
                    <a:pt x="1041" y="3359"/>
                  </a:lnTo>
                  <a:lnTo>
                    <a:pt x="926" y="3475"/>
                  </a:lnTo>
                  <a:lnTo>
                    <a:pt x="926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694" y="3359"/>
                  </a:lnTo>
                  <a:lnTo>
                    <a:pt x="694" y="3243"/>
                  </a:lnTo>
                  <a:lnTo>
                    <a:pt x="810" y="3127"/>
                  </a:lnTo>
                  <a:lnTo>
                    <a:pt x="810" y="3011"/>
                  </a:lnTo>
                  <a:lnTo>
                    <a:pt x="926" y="2896"/>
                  </a:lnTo>
                  <a:lnTo>
                    <a:pt x="1041" y="2780"/>
                  </a:lnTo>
                  <a:lnTo>
                    <a:pt x="1157" y="2664"/>
                  </a:lnTo>
                  <a:lnTo>
                    <a:pt x="1273" y="2548"/>
                  </a:lnTo>
                  <a:lnTo>
                    <a:pt x="1273" y="2432"/>
                  </a:lnTo>
                  <a:lnTo>
                    <a:pt x="1273" y="2432"/>
                  </a:lnTo>
                  <a:lnTo>
                    <a:pt x="1389" y="2085"/>
                  </a:lnTo>
                  <a:lnTo>
                    <a:pt x="1389" y="1853"/>
                  </a:lnTo>
                  <a:lnTo>
                    <a:pt x="1273" y="1506"/>
                  </a:lnTo>
                  <a:lnTo>
                    <a:pt x="1157" y="1274"/>
                  </a:lnTo>
                  <a:lnTo>
                    <a:pt x="1041" y="1043"/>
                  </a:lnTo>
                  <a:lnTo>
                    <a:pt x="810" y="811"/>
                  </a:lnTo>
                  <a:lnTo>
                    <a:pt x="579" y="579"/>
                  </a:lnTo>
                  <a:lnTo>
                    <a:pt x="347" y="348"/>
                  </a:lnTo>
                  <a:lnTo>
                    <a:pt x="347" y="348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6" y="348"/>
                  </a:lnTo>
                  <a:lnTo>
                    <a:pt x="116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463" y="0"/>
                  </a:lnTo>
                  <a:lnTo>
                    <a:pt x="694" y="116"/>
                  </a:lnTo>
                  <a:lnTo>
                    <a:pt x="926" y="348"/>
                  </a:lnTo>
                  <a:lnTo>
                    <a:pt x="1041" y="464"/>
                  </a:lnTo>
                  <a:lnTo>
                    <a:pt x="1273" y="695"/>
                  </a:lnTo>
                  <a:lnTo>
                    <a:pt x="1389" y="927"/>
                  </a:lnTo>
                  <a:lnTo>
                    <a:pt x="1504" y="1158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1493640" y="3025800"/>
              <a:ext cx="74160" cy="192600"/>
            </a:xfrm>
            <a:custGeom>
              <a:avLst/>
              <a:gdLst/>
              <a:ahLst/>
              <a:rect l="l" t="t" r="r" b="b"/>
              <a:pathLst>
                <a:path w="2083" h="3590">
                  <a:moveTo>
                    <a:pt x="2083" y="1390"/>
                  </a:moveTo>
                  <a:lnTo>
                    <a:pt x="2083" y="1737"/>
                  </a:lnTo>
                  <a:lnTo>
                    <a:pt x="2083" y="1969"/>
                  </a:lnTo>
                  <a:lnTo>
                    <a:pt x="2083" y="2200"/>
                  </a:lnTo>
                  <a:lnTo>
                    <a:pt x="2083" y="2548"/>
                  </a:lnTo>
                  <a:lnTo>
                    <a:pt x="1967" y="2779"/>
                  </a:lnTo>
                  <a:lnTo>
                    <a:pt x="1967" y="3011"/>
                  </a:lnTo>
                  <a:lnTo>
                    <a:pt x="1852" y="3243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504" y="3474"/>
                  </a:lnTo>
                  <a:lnTo>
                    <a:pt x="1389" y="3474"/>
                  </a:lnTo>
                  <a:lnTo>
                    <a:pt x="1273" y="3590"/>
                  </a:lnTo>
                  <a:lnTo>
                    <a:pt x="1273" y="3590"/>
                  </a:lnTo>
                  <a:lnTo>
                    <a:pt x="1157" y="3590"/>
                  </a:lnTo>
                  <a:lnTo>
                    <a:pt x="1041" y="3590"/>
                  </a:lnTo>
                  <a:lnTo>
                    <a:pt x="1041" y="3474"/>
                  </a:lnTo>
                  <a:lnTo>
                    <a:pt x="1041" y="3474"/>
                  </a:lnTo>
                  <a:lnTo>
                    <a:pt x="1157" y="3358"/>
                  </a:lnTo>
                  <a:lnTo>
                    <a:pt x="1273" y="3243"/>
                  </a:lnTo>
                  <a:lnTo>
                    <a:pt x="1389" y="3011"/>
                  </a:lnTo>
                  <a:lnTo>
                    <a:pt x="1504" y="2895"/>
                  </a:lnTo>
                  <a:lnTo>
                    <a:pt x="1504" y="2664"/>
                  </a:lnTo>
                  <a:lnTo>
                    <a:pt x="1620" y="2432"/>
                  </a:lnTo>
                  <a:lnTo>
                    <a:pt x="1620" y="2200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620" y="1621"/>
                  </a:lnTo>
                  <a:lnTo>
                    <a:pt x="1504" y="1390"/>
                  </a:lnTo>
                  <a:lnTo>
                    <a:pt x="1389" y="1274"/>
                  </a:lnTo>
                  <a:lnTo>
                    <a:pt x="1273" y="1042"/>
                  </a:lnTo>
                  <a:lnTo>
                    <a:pt x="1157" y="811"/>
                  </a:lnTo>
                  <a:lnTo>
                    <a:pt x="1041" y="695"/>
                  </a:lnTo>
                  <a:lnTo>
                    <a:pt x="810" y="463"/>
                  </a:lnTo>
                  <a:lnTo>
                    <a:pt x="810" y="463"/>
                  </a:lnTo>
                  <a:lnTo>
                    <a:pt x="694" y="463"/>
                  </a:lnTo>
                  <a:lnTo>
                    <a:pt x="579" y="347"/>
                  </a:lnTo>
                  <a:lnTo>
                    <a:pt x="463" y="347"/>
                  </a:lnTo>
                  <a:lnTo>
                    <a:pt x="347" y="463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347" y="0"/>
                  </a:lnTo>
                  <a:lnTo>
                    <a:pt x="579" y="0"/>
                  </a:lnTo>
                  <a:lnTo>
                    <a:pt x="926" y="116"/>
                  </a:lnTo>
                  <a:lnTo>
                    <a:pt x="1157" y="347"/>
                  </a:lnTo>
                  <a:lnTo>
                    <a:pt x="1389" y="579"/>
                  </a:lnTo>
                  <a:lnTo>
                    <a:pt x="1620" y="811"/>
                  </a:lnTo>
                  <a:lnTo>
                    <a:pt x="1852" y="1158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1559880" y="3032280"/>
              <a:ext cx="70200" cy="173880"/>
            </a:xfrm>
            <a:custGeom>
              <a:avLst/>
              <a:gdLst/>
              <a:ahLst/>
              <a:rect l="l" t="t" r="r" b="b"/>
              <a:pathLst>
                <a:path w="1967" h="3242">
                  <a:moveTo>
                    <a:pt x="1388" y="463"/>
                  </a:moveTo>
                  <a:lnTo>
                    <a:pt x="1620" y="695"/>
                  </a:lnTo>
                  <a:lnTo>
                    <a:pt x="1736" y="810"/>
                  </a:lnTo>
                  <a:lnTo>
                    <a:pt x="1851" y="1042"/>
                  </a:lnTo>
                  <a:lnTo>
                    <a:pt x="1967" y="1274"/>
                  </a:lnTo>
                  <a:lnTo>
                    <a:pt x="1967" y="1621"/>
                  </a:lnTo>
                  <a:lnTo>
                    <a:pt x="1967" y="1853"/>
                  </a:lnTo>
                  <a:lnTo>
                    <a:pt x="1967" y="2084"/>
                  </a:lnTo>
                  <a:lnTo>
                    <a:pt x="1967" y="2316"/>
                  </a:lnTo>
                  <a:lnTo>
                    <a:pt x="1967" y="2316"/>
                  </a:lnTo>
                  <a:lnTo>
                    <a:pt x="1851" y="2548"/>
                  </a:lnTo>
                  <a:lnTo>
                    <a:pt x="1851" y="2663"/>
                  </a:lnTo>
                  <a:lnTo>
                    <a:pt x="1736" y="2779"/>
                  </a:lnTo>
                  <a:lnTo>
                    <a:pt x="1620" y="2895"/>
                  </a:lnTo>
                  <a:lnTo>
                    <a:pt x="1620" y="3011"/>
                  </a:lnTo>
                  <a:lnTo>
                    <a:pt x="1504" y="3127"/>
                  </a:lnTo>
                  <a:lnTo>
                    <a:pt x="1388" y="3242"/>
                  </a:lnTo>
                  <a:lnTo>
                    <a:pt x="1273" y="3242"/>
                  </a:lnTo>
                  <a:lnTo>
                    <a:pt x="1273" y="3242"/>
                  </a:lnTo>
                  <a:lnTo>
                    <a:pt x="1273" y="3011"/>
                  </a:lnTo>
                  <a:lnTo>
                    <a:pt x="1388" y="2663"/>
                  </a:lnTo>
                  <a:lnTo>
                    <a:pt x="1504" y="2316"/>
                  </a:lnTo>
                  <a:lnTo>
                    <a:pt x="1620" y="1969"/>
                  </a:lnTo>
                  <a:lnTo>
                    <a:pt x="1620" y="1621"/>
                  </a:lnTo>
                  <a:lnTo>
                    <a:pt x="1620" y="1274"/>
                  </a:lnTo>
                  <a:lnTo>
                    <a:pt x="1504" y="926"/>
                  </a:lnTo>
                  <a:lnTo>
                    <a:pt x="1273" y="695"/>
                  </a:lnTo>
                  <a:lnTo>
                    <a:pt x="1273" y="695"/>
                  </a:lnTo>
                  <a:lnTo>
                    <a:pt x="1157" y="579"/>
                  </a:lnTo>
                  <a:lnTo>
                    <a:pt x="925" y="579"/>
                  </a:lnTo>
                  <a:lnTo>
                    <a:pt x="810" y="463"/>
                  </a:lnTo>
                  <a:lnTo>
                    <a:pt x="578" y="463"/>
                  </a:lnTo>
                  <a:lnTo>
                    <a:pt x="463" y="463"/>
                  </a:lnTo>
                  <a:lnTo>
                    <a:pt x="231" y="463"/>
                  </a:lnTo>
                  <a:lnTo>
                    <a:pt x="115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231" y="116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925" y="116"/>
                  </a:lnTo>
                  <a:lnTo>
                    <a:pt x="1157" y="231"/>
                  </a:lnTo>
                  <a:lnTo>
                    <a:pt x="1273" y="347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1642320" y="3069360"/>
              <a:ext cx="53640" cy="167760"/>
            </a:xfrm>
            <a:custGeom>
              <a:avLst/>
              <a:gdLst/>
              <a:ahLst/>
              <a:rect l="l" t="t" r="r" b="b"/>
              <a:pathLst>
                <a:path w="1505" h="3127">
                  <a:moveTo>
                    <a:pt x="1505" y="1158"/>
                  </a:moveTo>
                  <a:lnTo>
                    <a:pt x="1505" y="1389"/>
                  </a:lnTo>
                  <a:lnTo>
                    <a:pt x="1505" y="1737"/>
                  </a:lnTo>
                  <a:lnTo>
                    <a:pt x="1505" y="1968"/>
                  </a:lnTo>
                  <a:lnTo>
                    <a:pt x="1389" y="2316"/>
                  </a:lnTo>
                  <a:lnTo>
                    <a:pt x="1273" y="2547"/>
                  </a:lnTo>
                  <a:lnTo>
                    <a:pt x="1158" y="2779"/>
                  </a:lnTo>
                  <a:lnTo>
                    <a:pt x="926" y="2895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2895"/>
                  </a:lnTo>
                  <a:lnTo>
                    <a:pt x="695" y="2779"/>
                  </a:lnTo>
                  <a:lnTo>
                    <a:pt x="810" y="2663"/>
                  </a:lnTo>
                  <a:lnTo>
                    <a:pt x="810" y="2432"/>
                  </a:lnTo>
                  <a:lnTo>
                    <a:pt x="926" y="2316"/>
                  </a:lnTo>
                  <a:lnTo>
                    <a:pt x="926" y="2200"/>
                  </a:lnTo>
                  <a:lnTo>
                    <a:pt x="1042" y="1968"/>
                  </a:lnTo>
                  <a:lnTo>
                    <a:pt x="1042" y="1737"/>
                  </a:lnTo>
                  <a:lnTo>
                    <a:pt x="1042" y="1737"/>
                  </a:lnTo>
                  <a:lnTo>
                    <a:pt x="1042" y="1621"/>
                  </a:lnTo>
                  <a:lnTo>
                    <a:pt x="1042" y="1389"/>
                  </a:lnTo>
                  <a:lnTo>
                    <a:pt x="926" y="1158"/>
                  </a:lnTo>
                  <a:lnTo>
                    <a:pt x="926" y="926"/>
                  </a:lnTo>
                  <a:lnTo>
                    <a:pt x="926" y="810"/>
                  </a:lnTo>
                  <a:lnTo>
                    <a:pt x="810" y="695"/>
                  </a:lnTo>
                  <a:lnTo>
                    <a:pt x="579" y="463"/>
                  </a:lnTo>
                  <a:lnTo>
                    <a:pt x="463" y="347"/>
                  </a:lnTo>
                  <a:lnTo>
                    <a:pt x="463" y="347"/>
                  </a:lnTo>
                  <a:lnTo>
                    <a:pt x="347" y="347"/>
                  </a:lnTo>
                  <a:lnTo>
                    <a:pt x="232" y="347"/>
                  </a:lnTo>
                  <a:lnTo>
                    <a:pt x="232" y="347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2" y="0"/>
                  </a:lnTo>
                  <a:lnTo>
                    <a:pt x="232" y="0"/>
                  </a:lnTo>
                  <a:lnTo>
                    <a:pt x="463" y="0"/>
                  </a:lnTo>
                  <a:lnTo>
                    <a:pt x="695" y="115"/>
                  </a:lnTo>
                  <a:lnTo>
                    <a:pt x="926" y="231"/>
                  </a:lnTo>
                  <a:lnTo>
                    <a:pt x="1042" y="347"/>
                  </a:lnTo>
                  <a:lnTo>
                    <a:pt x="1158" y="579"/>
                  </a:lnTo>
                  <a:lnTo>
                    <a:pt x="1273" y="695"/>
                  </a:lnTo>
                  <a:lnTo>
                    <a:pt x="1389" y="926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1091880" y="3088080"/>
              <a:ext cx="852480" cy="1181160"/>
            </a:xfrm>
            <a:custGeom>
              <a:avLst/>
              <a:gdLst/>
              <a:ahLst/>
              <a:rect l="l" t="t" r="r" b="b"/>
              <a:pathLst>
                <a:path w="23841" h="22004">
                  <a:moveTo>
                    <a:pt x="4050" y="116"/>
                  </a:moveTo>
                  <a:lnTo>
                    <a:pt x="4050" y="232"/>
                  </a:lnTo>
                  <a:lnTo>
                    <a:pt x="3935" y="348"/>
                  </a:lnTo>
                  <a:lnTo>
                    <a:pt x="3935" y="463"/>
                  </a:lnTo>
                  <a:lnTo>
                    <a:pt x="3935" y="579"/>
                  </a:lnTo>
                  <a:lnTo>
                    <a:pt x="3935" y="695"/>
                  </a:lnTo>
                  <a:lnTo>
                    <a:pt x="3935" y="811"/>
                  </a:lnTo>
                  <a:lnTo>
                    <a:pt x="4050" y="927"/>
                  </a:lnTo>
                  <a:lnTo>
                    <a:pt x="4050" y="1042"/>
                  </a:lnTo>
                  <a:lnTo>
                    <a:pt x="4050" y="1042"/>
                  </a:lnTo>
                  <a:lnTo>
                    <a:pt x="4166" y="1158"/>
                  </a:lnTo>
                  <a:lnTo>
                    <a:pt x="4166" y="1274"/>
                  </a:lnTo>
                  <a:lnTo>
                    <a:pt x="4282" y="1274"/>
                  </a:lnTo>
                  <a:lnTo>
                    <a:pt x="4398" y="1274"/>
                  </a:lnTo>
                  <a:lnTo>
                    <a:pt x="4398" y="1274"/>
                  </a:lnTo>
                  <a:lnTo>
                    <a:pt x="4513" y="1274"/>
                  </a:lnTo>
                  <a:lnTo>
                    <a:pt x="4629" y="1274"/>
                  </a:lnTo>
                  <a:lnTo>
                    <a:pt x="4745" y="1274"/>
                  </a:lnTo>
                  <a:lnTo>
                    <a:pt x="4745" y="1274"/>
                  </a:lnTo>
                  <a:lnTo>
                    <a:pt x="4861" y="1158"/>
                  </a:lnTo>
                  <a:lnTo>
                    <a:pt x="4976" y="1042"/>
                  </a:lnTo>
                  <a:lnTo>
                    <a:pt x="5092" y="927"/>
                  </a:lnTo>
                  <a:lnTo>
                    <a:pt x="5208" y="695"/>
                  </a:lnTo>
                  <a:lnTo>
                    <a:pt x="5324" y="579"/>
                  </a:lnTo>
                  <a:lnTo>
                    <a:pt x="5439" y="463"/>
                  </a:lnTo>
                  <a:lnTo>
                    <a:pt x="5439" y="348"/>
                  </a:lnTo>
                  <a:lnTo>
                    <a:pt x="5439" y="116"/>
                  </a:lnTo>
                  <a:lnTo>
                    <a:pt x="5439" y="116"/>
                  </a:lnTo>
                  <a:lnTo>
                    <a:pt x="5786" y="232"/>
                  </a:lnTo>
                  <a:lnTo>
                    <a:pt x="5786" y="232"/>
                  </a:lnTo>
                  <a:lnTo>
                    <a:pt x="5671" y="348"/>
                  </a:lnTo>
                  <a:lnTo>
                    <a:pt x="5439" y="463"/>
                  </a:lnTo>
                  <a:lnTo>
                    <a:pt x="5439" y="579"/>
                  </a:lnTo>
                  <a:lnTo>
                    <a:pt x="5324" y="811"/>
                  </a:lnTo>
                  <a:lnTo>
                    <a:pt x="5324" y="927"/>
                  </a:lnTo>
                  <a:lnTo>
                    <a:pt x="5324" y="1158"/>
                  </a:lnTo>
                  <a:lnTo>
                    <a:pt x="5439" y="1390"/>
                  </a:lnTo>
                  <a:lnTo>
                    <a:pt x="5439" y="1506"/>
                  </a:lnTo>
                  <a:lnTo>
                    <a:pt x="5439" y="1506"/>
                  </a:lnTo>
                  <a:lnTo>
                    <a:pt x="5555" y="1737"/>
                  </a:lnTo>
                  <a:lnTo>
                    <a:pt x="5671" y="1737"/>
                  </a:lnTo>
                  <a:lnTo>
                    <a:pt x="5786" y="1853"/>
                  </a:lnTo>
                  <a:lnTo>
                    <a:pt x="5902" y="1853"/>
                  </a:lnTo>
                  <a:lnTo>
                    <a:pt x="6018" y="1853"/>
                  </a:lnTo>
                  <a:lnTo>
                    <a:pt x="6249" y="1853"/>
                  </a:lnTo>
                  <a:lnTo>
                    <a:pt x="6365" y="1853"/>
                  </a:lnTo>
                  <a:lnTo>
                    <a:pt x="6481" y="1737"/>
                  </a:lnTo>
                  <a:lnTo>
                    <a:pt x="6481" y="1737"/>
                  </a:lnTo>
                  <a:lnTo>
                    <a:pt x="6712" y="1737"/>
                  </a:lnTo>
                  <a:lnTo>
                    <a:pt x="6828" y="1621"/>
                  </a:lnTo>
                  <a:lnTo>
                    <a:pt x="6944" y="1390"/>
                  </a:lnTo>
                  <a:lnTo>
                    <a:pt x="7060" y="1274"/>
                  </a:lnTo>
                  <a:lnTo>
                    <a:pt x="7175" y="1042"/>
                  </a:lnTo>
                  <a:lnTo>
                    <a:pt x="7291" y="927"/>
                  </a:lnTo>
                  <a:lnTo>
                    <a:pt x="7291" y="695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638" y="695"/>
                  </a:lnTo>
                  <a:lnTo>
                    <a:pt x="7522" y="811"/>
                  </a:lnTo>
                  <a:lnTo>
                    <a:pt x="7407" y="1042"/>
                  </a:lnTo>
                  <a:lnTo>
                    <a:pt x="7407" y="1158"/>
                  </a:lnTo>
                  <a:lnTo>
                    <a:pt x="7291" y="1274"/>
                  </a:lnTo>
                  <a:lnTo>
                    <a:pt x="7291" y="1390"/>
                  </a:lnTo>
                  <a:lnTo>
                    <a:pt x="7291" y="1506"/>
                  </a:lnTo>
                  <a:lnTo>
                    <a:pt x="7291" y="1621"/>
                  </a:lnTo>
                  <a:lnTo>
                    <a:pt x="7291" y="1621"/>
                  </a:lnTo>
                  <a:lnTo>
                    <a:pt x="7407" y="1737"/>
                  </a:lnTo>
                  <a:lnTo>
                    <a:pt x="7407" y="1969"/>
                  </a:lnTo>
                  <a:lnTo>
                    <a:pt x="7407" y="2085"/>
                  </a:lnTo>
                  <a:lnTo>
                    <a:pt x="7522" y="2200"/>
                  </a:lnTo>
                  <a:lnTo>
                    <a:pt x="7522" y="2316"/>
                  </a:lnTo>
                  <a:lnTo>
                    <a:pt x="7638" y="2316"/>
                  </a:lnTo>
                  <a:lnTo>
                    <a:pt x="7754" y="2432"/>
                  </a:lnTo>
                  <a:lnTo>
                    <a:pt x="7870" y="2432"/>
                  </a:lnTo>
                  <a:lnTo>
                    <a:pt x="7870" y="2432"/>
                  </a:lnTo>
                  <a:lnTo>
                    <a:pt x="8101" y="2432"/>
                  </a:lnTo>
                  <a:lnTo>
                    <a:pt x="8217" y="2432"/>
                  </a:lnTo>
                  <a:lnTo>
                    <a:pt x="8333" y="2316"/>
                  </a:lnTo>
                  <a:lnTo>
                    <a:pt x="8448" y="2200"/>
                  </a:lnTo>
                  <a:lnTo>
                    <a:pt x="8564" y="2200"/>
                  </a:lnTo>
                  <a:lnTo>
                    <a:pt x="8564" y="2085"/>
                  </a:lnTo>
                  <a:lnTo>
                    <a:pt x="8680" y="1969"/>
                  </a:lnTo>
                  <a:lnTo>
                    <a:pt x="8911" y="1969"/>
                  </a:lnTo>
                  <a:lnTo>
                    <a:pt x="8911" y="1969"/>
                  </a:lnTo>
                  <a:lnTo>
                    <a:pt x="8911" y="1853"/>
                  </a:lnTo>
                  <a:lnTo>
                    <a:pt x="8911" y="1737"/>
                  </a:lnTo>
                  <a:lnTo>
                    <a:pt x="9027" y="1737"/>
                  </a:lnTo>
                  <a:lnTo>
                    <a:pt x="9143" y="1621"/>
                  </a:lnTo>
                  <a:lnTo>
                    <a:pt x="9258" y="1506"/>
                  </a:lnTo>
                  <a:lnTo>
                    <a:pt x="9374" y="1390"/>
                  </a:lnTo>
                  <a:lnTo>
                    <a:pt x="9374" y="1274"/>
                  </a:lnTo>
                  <a:lnTo>
                    <a:pt x="9490" y="1158"/>
                  </a:lnTo>
                  <a:lnTo>
                    <a:pt x="9490" y="1158"/>
                  </a:lnTo>
                  <a:lnTo>
                    <a:pt x="9837" y="1274"/>
                  </a:lnTo>
                  <a:lnTo>
                    <a:pt x="9837" y="1274"/>
                  </a:lnTo>
                  <a:lnTo>
                    <a:pt x="9837" y="1390"/>
                  </a:lnTo>
                  <a:lnTo>
                    <a:pt x="9721" y="1621"/>
                  </a:lnTo>
                  <a:lnTo>
                    <a:pt x="9721" y="1853"/>
                  </a:lnTo>
                  <a:lnTo>
                    <a:pt x="9606" y="2085"/>
                  </a:lnTo>
                  <a:lnTo>
                    <a:pt x="9606" y="2200"/>
                  </a:lnTo>
                  <a:lnTo>
                    <a:pt x="9721" y="2432"/>
                  </a:lnTo>
                  <a:lnTo>
                    <a:pt x="9721" y="2664"/>
                  </a:lnTo>
                  <a:lnTo>
                    <a:pt x="9953" y="2780"/>
                  </a:lnTo>
                  <a:lnTo>
                    <a:pt x="9953" y="2780"/>
                  </a:lnTo>
                  <a:lnTo>
                    <a:pt x="10069" y="2780"/>
                  </a:lnTo>
                  <a:lnTo>
                    <a:pt x="10184" y="2780"/>
                  </a:lnTo>
                  <a:lnTo>
                    <a:pt x="10300" y="2780"/>
                  </a:lnTo>
                  <a:lnTo>
                    <a:pt x="10531" y="2780"/>
                  </a:lnTo>
                  <a:lnTo>
                    <a:pt x="10647" y="2780"/>
                  </a:lnTo>
                  <a:lnTo>
                    <a:pt x="10763" y="2664"/>
                  </a:lnTo>
                  <a:lnTo>
                    <a:pt x="10763" y="2548"/>
                  </a:lnTo>
                  <a:lnTo>
                    <a:pt x="10879" y="2432"/>
                  </a:lnTo>
                  <a:lnTo>
                    <a:pt x="10879" y="2432"/>
                  </a:lnTo>
                  <a:lnTo>
                    <a:pt x="10763" y="2432"/>
                  </a:lnTo>
                  <a:lnTo>
                    <a:pt x="10763" y="2432"/>
                  </a:lnTo>
                  <a:lnTo>
                    <a:pt x="10994" y="2316"/>
                  </a:lnTo>
                  <a:lnTo>
                    <a:pt x="11110" y="2200"/>
                  </a:lnTo>
                  <a:lnTo>
                    <a:pt x="11226" y="1969"/>
                  </a:lnTo>
                  <a:lnTo>
                    <a:pt x="11342" y="1737"/>
                  </a:lnTo>
                  <a:lnTo>
                    <a:pt x="11457" y="1506"/>
                  </a:lnTo>
                  <a:lnTo>
                    <a:pt x="11689" y="1506"/>
                  </a:lnTo>
                  <a:lnTo>
                    <a:pt x="11805" y="1506"/>
                  </a:lnTo>
                  <a:lnTo>
                    <a:pt x="12036" y="1621"/>
                  </a:lnTo>
                  <a:lnTo>
                    <a:pt x="12036" y="1621"/>
                  </a:lnTo>
                  <a:lnTo>
                    <a:pt x="12036" y="1737"/>
                  </a:lnTo>
                  <a:lnTo>
                    <a:pt x="11920" y="1969"/>
                  </a:lnTo>
                  <a:lnTo>
                    <a:pt x="11920" y="2085"/>
                  </a:lnTo>
                  <a:lnTo>
                    <a:pt x="11805" y="2200"/>
                  </a:lnTo>
                  <a:lnTo>
                    <a:pt x="11805" y="2432"/>
                  </a:lnTo>
                  <a:lnTo>
                    <a:pt x="11805" y="2548"/>
                  </a:lnTo>
                  <a:lnTo>
                    <a:pt x="11920" y="2780"/>
                  </a:lnTo>
                  <a:lnTo>
                    <a:pt x="12036" y="2895"/>
                  </a:lnTo>
                  <a:lnTo>
                    <a:pt x="12036" y="2895"/>
                  </a:lnTo>
                  <a:lnTo>
                    <a:pt x="12152" y="3011"/>
                  </a:lnTo>
                  <a:lnTo>
                    <a:pt x="12267" y="3127"/>
                  </a:lnTo>
                  <a:lnTo>
                    <a:pt x="12383" y="3127"/>
                  </a:lnTo>
                  <a:lnTo>
                    <a:pt x="12499" y="3127"/>
                  </a:lnTo>
                  <a:lnTo>
                    <a:pt x="12615" y="3127"/>
                  </a:lnTo>
                  <a:lnTo>
                    <a:pt x="12730" y="3127"/>
                  </a:lnTo>
                  <a:lnTo>
                    <a:pt x="12846" y="3011"/>
                  </a:lnTo>
                  <a:lnTo>
                    <a:pt x="12962" y="3011"/>
                  </a:lnTo>
                  <a:lnTo>
                    <a:pt x="12962" y="3011"/>
                  </a:lnTo>
                  <a:lnTo>
                    <a:pt x="12846" y="2780"/>
                  </a:lnTo>
                  <a:lnTo>
                    <a:pt x="12962" y="2664"/>
                  </a:lnTo>
                  <a:lnTo>
                    <a:pt x="13078" y="2548"/>
                  </a:lnTo>
                  <a:lnTo>
                    <a:pt x="13193" y="2432"/>
                  </a:lnTo>
                  <a:lnTo>
                    <a:pt x="13309" y="2316"/>
                  </a:lnTo>
                  <a:lnTo>
                    <a:pt x="13425" y="2200"/>
                  </a:lnTo>
                  <a:lnTo>
                    <a:pt x="13541" y="2085"/>
                  </a:lnTo>
                  <a:lnTo>
                    <a:pt x="13656" y="1969"/>
                  </a:lnTo>
                  <a:lnTo>
                    <a:pt x="13656" y="1969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3772" y="2085"/>
                  </a:lnTo>
                  <a:lnTo>
                    <a:pt x="13772" y="2316"/>
                  </a:lnTo>
                  <a:lnTo>
                    <a:pt x="13772" y="2432"/>
                  </a:lnTo>
                  <a:lnTo>
                    <a:pt x="13656" y="2664"/>
                  </a:lnTo>
                  <a:lnTo>
                    <a:pt x="13772" y="2780"/>
                  </a:lnTo>
                  <a:lnTo>
                    <a:pt x="13772" y="2895"/>
                  </a:lnTo>
                  <a:lnTo>
                    <a:pt x="13888" y="3127"/>
                  </a:lnTo>
                  <a:lnTo>
                    <a:pt x="14003" y="3127"/>
                  </a:lnTo>
                  <a:lnTo>
                    <a:pt x="14003" y="3127"/>
                  </a:lnTo>
                  <a:lnTo>
                    <a:pt x="14119" y="3127"/>
                  </a:lnTo>
                  <a:lnTo>
                    <a:pt x="14235" y="3127"/>
                  </a:lnTo>
                  <a:lnTo>
                    <a:pt x="14351" y="3127"/>
                  </a:lnTo>
                  <a:lnTo>
                    <a:pt x="14466" y="3127"/>
                  </a:lnTo>
                  <a:lnTo>
                    <a:pt x="14582" y="3011"/>
                  </a:lnTo>
                  <a:lnTo>
                    <a:pt x="14582" y="3011"/>
                  </a:lnTo>
                  <a:lnTo>
                    <a:pt x="14698" y="2895"/>
                  </a:lnTo>
                  <a:lnTo>
                    <a:pt x="14814" y="2780"/>
                  </a:lnTo>
                  <a:lnTo>
                    <a:pt x="14814" y="2780"/>
                  </a:lnTo>
                  <a:lnTo>
                    <a:pt x="14814" y="2664"/>
                  </a:lnTo>
                  <a:lnTo>
                    <a:pt x="14814" y="2664"/>
                  </a:lnTo>
                  <a:lnTo>
                    <a:pt x="14814" y="2548"/>
                  </a:lnTo>
                  <a:lnTo>
                    <a:pt x="14929" y="2432"/>
                  </a:lnTo>
                  <a:lnTo>
                    <a:pt x="14929" y="2316"/>
                  </a:lnTo>
                  <a:lnTo>
                    <a:pt x="15045" y="2316"/>
                  </a:lnTo>
                  <a:lnTo>
                    <a:pt x="15045" y="2200"/>
                  </a:lnTo>
                  <a:lnTo>
                    <a:pt x="15161" y="2085"/>
                  </a:lnTo>
                  <a:lnTo>
                    <a:pt x="15161" y="2085"/>
                  </a:lnTo>
                  <a:lnTo>
                    <a:pt x="15624" y="2085"/>
                  </a:lnTo>
                  <a:lnTo>
                    <a:pt x="15624" y="2085"/>
                  </a:lnTo>
                  <a:lnTo>
                    <a:pt x="15624" y="2200"/>
                  </a:lnTo>
                  <a:lnTo>
                    <a:pt x="15508" y="2432"/>
                  </a:lnTo>
                  <a:lnTo>
                    <a:pt x="15508" y="2548"/>
                  </a:lnTo>
                  <a:lnTo>
                    <a:pt x="15508" y="2664"/>
                  </a:lnTo>
                  <a:lnTo>
                    <a:pt x="15508" y="2780"/>
                  </a:lnTo>
                  <a:lnTo>
                    <a:pt x="15508" y="2895"/>
                  </a:lnTo>
                  <a:lnTo>
                    <a:pt x="15624" y="3011"/>
                  </a:lnTo>
                  <a:lnTo>
                    <a:pt x="15739" y="3127"/>
                  </a:lnTo>
                  <a:lnTo>
                    <a:pt x="15739" y="3127"/>
                  </a:lnTo>
                  <a:lnTo>
                    <a:pt x="15739" y="3243"/>
                  </a:lnTo>
                  <a:lnTo>
                    <a:pt x="15855" y="3243"/>
                  </a:lnTo>
                  <a:lnTo>
                    <a:pt x="15855" y="3243"/>
                  </a:lnTo>
                  <a:lnTo>
                    <a:pt x="15971" y="3359"/>
                  </a:lnTo>
                  <a:lnTo>
                    <a:pt x="16087" y="3359"/>
                  </a:lnTo>
                  <a:lnTo>
                    <a:pt x="16202" y="3359"/>
                  </a:lnTo>
                  <a:lnTo>
                    <a:pt x="16202" y="3359"/>
                  </a:lnTo>
                  <a:lnTo>
                    <a:pt x="16318" y="3359"/>
                  </a:lnTo>
                  <a:lnTo>
                    <a:pt x="16318" y="3359"/>
                  </a:lnTo>
                  <a:lnTo>
                    <a:pt x="16550" y="3243"/>
                  </a:lnTo>
                  <a:lnTo>
                    <a:pt x="16665" y="3011"/>
                  </a:lnTo>
                  <a:lnTo>
                    <a:pt x="16781" y="2895"/>
                  </a:lnTo>
                  <a:lnTo>
                    <a:pt x="17012" y="2664"/>
                  </a:lnTo>
                  <a:lnTo>
                    <a:pt x="17128" y="2432"/>
                  </a:lnTo>
                  <a:lnTo>
                    <a:pt x="17244" y="2316"/>
                  </a:lnTo>
                  <a:lnTo>
                    <a:pt x="17475" y="2316"/>
                  </a:lnTo>
                  <a:lnTo>
                    <a:pt x="17823" y="2432"/>
                  </a:lnTo>
                  <a:lnTo>
                    <a:pt x="17823" y="2432"/>
                  </a:lnTo>
                  <a:lnTo>
                    <a:pt x="17823" y="2548"/>
                  </a:lnTo>
                  <a:lnTo>
                    <a:pt x="17707" y="2664"/>
                  </a:lnTo>
                  <a:lnTo>
                    <a:pt x="17707" y="2780"/>
                  </a:lnTo>
                  <a:lnTo>
                    <a:pt x="17591" y="2895"/>
                  </a:lnTo>
                  <a:lnTo>
                    <a:pt x="17591" y="3011"/>
                  </a:lnTo>
                  <a:lnTo>
                    <a:pt x="17475" y="3127"/>
                  </a:lnTo>
                  <a:lnTo>
                    <a:pt x="17475" y="3243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707" y="3590"/>
                  </a:lnTo>
                  <a:lnTo>
                    <a:pt x="17707" y="3590"/>
                  </a:lnTo>
                  <a:lnTo>
                    <a:pt x="17823" y="3706"/>
                  </a:lnTo>
                  <a:lnTo>
                    <a:pt x="17938" y="3706"/>
                  </a:lnTo>
                  <a:lnTo>
                    <a:pt x="18054" y="3706"/>
                  </a:lnTo>
                  <a:lnTo>
                    <a:pt x="18170" y="3706"/>
                  </a:lnTo>
                  <a:lnTo>
                    <a:pt x="18286" y="3706"/>
                  </a:lnTo>
                  <a:lnTo>
                    <a:pt x="18286" y="3706"/>
                  </a:lnTo>
                  <a:lnTo>
                    <a:pt x="18401" y="3590"/>
                  </a:lnTo>
                  <a:lnTo>
                    <a:pt x="18517" y="3474"/>
                  </a:lnTo>
                  <a:lnTo>
                    <a:pt x="18748" y="3359"/>
                  </a:lnTo>
                  <a:lnTo>
                    <a:pt x="18864" y="3243"/>
                  </a:lnTo>
                  <a:lnTo>
                    <a:pt x="18980" y="3127"/>
                  </a:lnTo>
                  <a:lnTo>
                    <a:pt x="19096" y="3011"/>
                  </a:lnTo>
                  <a:lnTo>
                    <a:pt x="19211" y="2780"/>
                  </a:lnTo>
                  <a:lnTo>
                    <a:pt x="19327" y="2664"/>
                  </a:lnTo>
                  <a:lnTo>
                    <a:pt x="19327" y="2664"/>
                  </a:lnTo>
                  <a:lnTo>
                    <a:pt x="19559" y="2664"/>
                  </a:lnTo>
                  <a:lnTo>
                    <a:pt x="19559" y="2664"/>
                  </a:lnTo>
                  <a:lnTo>
                    <a:pt x="19559" y="2780"/>
                  </a:lnTo>
                  <a:lnTo>
                    <a:pt x="19559" y="3011"/>
                  </a:lnTo>
                  <a:lnTo>
                    <a:pt x="19559" y="3127"/>
                  </a:lnTo>
                  <a:lnTo>
                    <a:pt x="19443" y="3359"/>
                  </a:lnTo>
                  <a:lnTo>
                    <a:pt x="19443" y="3474"/>
                  </a:lnTo>
                  <a:lnTo>
                    <a:pt x="19559" y="3590"/>
                  </a:lnTo>
                  <a:lnTo>
                    <a:pt x="19674" y="3706"/>
                  </a:lnTo>
                  <a:lnTo>
                    <a:pt x="19790" y="3822"/>
                  </a:lnTo>
                  <a:lnTo>
                    <a:pt x="19790" y="3822"/>
                  </a:lnTo>
                  <a:lnTo>
                    <a:pt x="19906" y="3822"/>
                  </a:lnTo>
                  <a:lnTo>
                    <a:pt x="20022" y="3822"/>
                  </a:lnTo>
                  <a:lnTo>
                    <a:pt x="20137" y="3822"/>
                  </a:lnTo>
                  <a:lnTo>
                    <a:pt x="20253" y="3822"/>
                  </a:lnTo>
                  <a:lnTo>
                    <a:pt x="20369" y="3706"/>
                  </a:lnTo>
                  <a:lnTo>
                    <a:pt x="20484" y="3706"/>
                  </a:lnTo>
                  <a:lnTo>
                    <a:pt x="20600" y="3590"/>
                  </a:lnTo>
                  <a:lnTo>
                    <a:pt x="20716" y="3590"/>
                  </a:lnTo>
                  <a:lnTo>
                    <a:pt x="20716" y="3590"/>
                  </a:lnTo>
                  <a:lnTo>
                    <a:pt x="20600" y="3474"/>
                  </a:lnTo>
                  <a:lnTo>
                    <a:pt x="20600" y="3359"/>
                  </a:lnTo>
                  <a:lnTo>
                    <a:pt x="20716" y="3243"/>
                  </a:lnTo>
                  <a:lnTo>
                    <a:pt x="20716" y="3127"/>
                  </a:lnTo>
                  <a:lnTo>
                    <a:pt x="20832" y="3127"/>
                  </a:lnTo>
                  <a:lnTo>
                    <a:pt x="20832" y="3011"/>
                  </a:lnTo>
                  <a:lnTo>
                    <a:pt x="20947" y="2895"/>
                  </a:lnTo>
                  <a:lnTo>
                    <a:pt x="20947" y="2780"/>
                  </a:lnTo>
                  <a:lnTo>
                    <a:pt x="20947" y="2780"/>
                  </a:lnTo>
                  <a:lnTo>
                    <a:pt x="20947" y="2895"/>
                  </a:lnTo>
                  <a:lnTo>
                    <a:pt x="20947" y="3011"/>
                  </a:lnTo>
                  <a:lnTo>
                    <a:pt x="20947" y="3127"/>
                  </a:lnTo>
                  <a:lnTo>
                    <a:pt x="20947" y="3359"/>
                  </a:lnTo>
                  <a:lnTo>
                    <a:pt x="20832" y="3474"/>
                  </a:lnTo>
                  <a:lnTo>
                    <a:pt x="20832" y="3590"/>
                  </a:lnTo>
                  <a:lnTo>
                    <a:pt x="20832" y="3706"/>
                  </a:lnTo>
                  <a:lnTo>
                    <a:pt x="20832" y="3822"/>
                  </a:lnTo>
                  <a:lnTo>
                    <a:pt x="20832" y="3822"/>
                  </a:lnTo>
                  <a:lnTo>
                    <a:pt x="20947" y="3938"/>
                  </a:lnTo>
                  <a:lnTo>
                    <a:pt x="20947" y="3938"/>
                  </a:lnTo>
                  <a:lnTo>
                    <a:pt x="21063" y="4053"/>
                  </a:lnTo>
                  <a:lnTo>
                    <a:pt x="21179" y="4053"/>
                  </a:lnTo>
                  <a:lnTo>
                    <a:pt x="21295" y="4053"/>
                  </a:lnTo>
                  <a:lnTo>
                    <a:pt x="21295" y="4053"/>
                  </a:lnTo>
                  <a:lnTo>
                    <a:pt x="21410" y="4053"/>
                  </a:lnTo>
                  <a:lnTo>
                    <a:pt x="21526" y="4053"/>
                  </a:lnTo>
                  <a:lnTo>
                    <a:pt x="21526" y="4053"/>
                  </a:lnTo>
                  <a:lnTo>
                    <a:pt x="21642" y="3938"/>
                  </a:lnTo>
                  <a:lnTo>
                    <a:pt x="21642" y="3822"/>
                  </a:lnTo>
                  <a:lnTo>
                    <a:pt x="21758" y="3706"/>
                  </a:lnTo>
                  <a:lnTo>
                    <a:pt x="21873" y="3590"/>
                  </a:lnTo>
                  <a:lnTo>
                    <a:pt x="21989" y="3474"/>
                  </a:lnTo>
                  <a:lnTo>
                    <a:pt x="22105" y="3359"/>
                  </a:lnTo>
                  <a:lnTo>
                    <a:pt x="22105" y="3243"/>
                  </a:lnTo>
                  <a:lnTo>
                    <a:pt x="22220" y="3011"/>
                  </a:lnTo>
                  <a:lnTo>
                    <a:pt x="22220" y="3011"/>
                  </a:lnTo>
                  <a:lnTo>
                    <a:pt x="22105" y="3127"/>
                  </a:lnTo>
                  <a:lnTo>
                    <a:pt x="22105" y="3243"/>
                  </a:lnTo>
                  <a:lnTo>
                    <a:pt x="22105" y="3359"/>
                  </a:lnTo>
                  <a:lnTo>
                    <a:pt x="22105" y="3474"/>
                  </a:lnTo>
                  <a:lnTo>
                    <a:pt x="22105" y="3590"/>
                  </a:lnTo>
                  <a:lnTo>
                    <a:pt x="22105" y="3706"/>
                  </a:lnTo>
                  <a:lnTo>
                    <a:pt x="22105" y="3822"/>
                  </a:lnTo>
                  <a:lnTo>
                    <a:pt x="22220" y="3938"/>
                  </a:lnTo>
                  <a:lnTo>
                    <a:pt x="22220" y="3938"/>
                  </a:lnTo>
                  <a:lnTo>
                    <a:pt x="22336" y="4053"/>
                  </a:lnTo>
                  <a:lnTo>
                    <a:pt x="22452" y="4169"/>
                  </a:lnTo>
                  <a:lnTo>
                    <a:pt x="22568" y="4169"/>
                  </a:lnTo>
                  <a:lnTo>
                    <a:pt x="22683" y="4053"/>
                  </a:lnTo>
                  <a:lnTo>
                    <a:pt x="22799" y="3938"/>
                  </a:lnTo>
                  <a:lnTo>
                    <a:pt x="22915" y="3822"/>
                  </a:lnTo>
                  <a:lnTo>
                    <a:pt x="23031" y="3822"/>
                  </a:lnTo>
                  <a:lnTo>
                    <a:pt x="23146" y="3822"/>
                  </a:lnTo>
                  <a:lnTo>
                    <a:pt x="23146" y="3822"/>
                  </a:lnTo>
                  <a:lnTo>
                    <a:pt x="23146" y="3938"/>
                  </a:lnTo>
                  <a:lnTo>
                    <a:pt x="23146" y="3938"/>
                  </a:lnTo>
                  <a:lnTo>
                    <a:pt x="23146" y="4053"/>
                  </a:lnTo>
                  <a:lnTo>
                    <a:pt x="23146" y="4169"/>
                  </a:lnTo>
                  <a:lnTo>
                    <a:pt x="23146" y="4285"/>
                  </a:lnTo>
                  <a:lnTo>
                    <a:pt x="23262" y="4285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841" y="4285"/>
                  </a:lnTo>
                  <a:lnTo>
                    <a:pt x="23841" y="4285"/>
                  </a:lnTo>
                  <a:lnTo>
                    <a:pt x="23378" y="5906"/>
                  </a:lnTo>
                  <a:lnTo>
                    <a:pt x="22799" y="7528"/>
                  </a:lnTo>
                  <a:lnTo>
                    <a:pt x="22452" y="9265"/>
                  </a:lnTo>
                  <a:lnTo>
                    <a:pt x="21989" y="11002"/>
                  </a:lnTo>
                  <a:lnTo>
                    <a:pt x="21642" y="12739"/>
                  </a:lnTo>
                  <a:lnTo>
                    <a:pt x="21410" y="14476"/>
                  </a:lnTo>
                  <a:lnTo>
                    <a:pt x="21179" y="16213"/>
                  </a:lnTo>
                  <a:lnTo>
                    <a:pt x="21063" y="17951"/>
                  </a:lnTo>
                  <a:lnTo>
                    <a:pt x="21063" y="17951"/>
                  </a:lnTo>
                  <a:lnTo>
                    <a:pt x="18517" y="18414"/>
                  </a:lnTo>
                  <a:lnTo>
                    <a:pt x="15971" y="18877"/>
                  </a:lnTo>
                  <a:lnTo>
                    <a:pt x="13541" y="19456"/>
                  </a:lnTo>
                  <a:lnTo>
                    <a:pt x="11110" y="20035"/>
                  </a:lnTo>
                  <a:lnTo>
                    <a:pt x="8564" y="20614"/>
                  </a:lnTo>
                  <a:lnTo>
                    <a:pt x="6134" y="21077"/>
                  </a:lnTo>
                  <a:lnTo>
                    <a:pt x="3588" y="21656"/>
                  </a:lnTo>
                  <a:lnTo>
                    <a:pt x="926" y="22004"/>
                  </a:lnTo>
                  <a:lnTo>
                    <a:pt x="926" y="22004"/>
                  </a:lnTo>
                  <a:lnTo>
                    <a:pt x="1041" y="21888"/>
                  </a:lnTo>
                  <a:lnTo>
                    <a:pt x="1041" y="21656"/>
                  </a:lnTo>
                  <a:lnTo>
                    <a:pt x="1041" y="21541"/>
                  </a:lnTo>
                  <a:lnTo>
                    <a:pt x="1041" y="21309"/>
                  </a:lnTo>
                  <a:lnTo>
                    <a:pt x="1041" y="21193"/>
                  </a:lnTo>
                  <a:lnTo>
                    <a:pt x="926" y="20962"/>
                  </a:lnTo>
                  <a:lnTo>
                    <a:pt x="926" y="20730"/>
                  </a:lnTo>
                  <a:lnTo>
                    <a:pt x="926" y="20614"/>
                  </a:lnTo>
                  <a:lnTo>
                    <a:pt x="926" y="20614"/>
                  </a:lnTo>
                  <a:lnTo>
                    <a:pt x="810" y="20498"/>
                  </a:lnTo>
                  <a:lnTo>
                    <a:pt x="694" y="20383"/>
                  </a:lnTo>
                  <a:lnTo>
                    <a:pt x="579" y="20267"/>
                  </a:lnTo>
                  <a:lnTo>
                    <a:pt x="463" y="20267"/>
                  </a:lnTo>
                  <a:lnTo>
                    <a:pt x="347" y="20151"/>
                  </a:lnTo>
                  <a:lnTo>
                    <a:pt x="231" y="20151"/>
                  </a:lnTo>
                  <a:lnTo>
                    <a:pt x="116" y="20035"/>
                  </a:lnTo>
                  <a:lnTo>
                    <a:pt x="0" y="20035"/>
                  </a:lnTo>
                  <a:lnTo>
                    <a:pt x="0" y="20035"/>
                  </a:lnTo>
                  <a:lnTo>
                    <a:pt x="347" y="17603"/>
                  </a:lnTo>
                  <a:lnTo>
                    <a:pt x="694" y="15055"/>
                  </a:lnTo>
                  <a:lnTo>
                    <a:pt x="1273" y="12623"/>
                  </a:lnTo>
                  <a:lnTo>
                    <a:pt x="1852" y="10076"/>
                  </a:lnTo>
                  <a:lnTo>
                    <a:pt x="2430" y="7644"/>
                  </a:lnTo>
                  <a:lnTo>
                    <a:pt x="2893" y="5096"/>
                  </a:lnTo>
                  <a:lnTo>
                    <a:pt x="3472" y="2548"/>
                  </a:lnTo>
                  <a:lnTo>
                    <a:pt x="3935" y="0"/>
                  </a:lnTo>
                  <a:lnTo>
                    <a:pt x="3935" y="0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1038240" y="3094200"/>
              <a:ext cx="111600" cy="845280"/>
            </a:xfrm>
            <a:custGeom>
              <a:avLst/>
              <a:gdLst/>
              <a:ahLst/>
              <a:rect l="l" t="t" r="r" b="b"/>
              <a:pathLst>
                <a:path w="3125" h="15750">
                  <a:moveTo>
                    <a:pt x="3125" y="0"/>
                  </a:moveTo>
                  <a:lnTo>
                    <a:pt x="3125" y="347"/>
                  </a:lnTo>
                  <a:lnTo>
                    <a:pt x="3125" y="811"/>
                  </a:lnTo>
                  <a:lnTo>
                    <a:pt x="3009" y="1274"/>
                  </a:lnTo>
                  <a:lnTo>
                    <a:pt x="2894" y="1737"/>
                  </a:lnTo>
                  <a:lnTo>
                    <a:pt x="2894" y="2084"/>
                  </a:lnTo>
                  <a:lnTo>
                    <a:pt x="2778" y="2548"/>
                  </a:lnTo>
                  <a:lnTo>
                    <a:pt x="2662" y="2895"/>
                  </a:lnTo>
                  <a:lnTo>
                    <a:pt x="2546" y="3358"/>
                  </a:lnTo>
                  <a:lnTo>
                    <a:pt x="2546" y="3358"/>
                  </a:lnTo>
                  <a:lnTo>
                    <a:pt x="2199" y="4748"/>
                  </a:lnTo>
                  <a:lnTo>
                    <a:pt x="1968" y="6138"/>
                  </a:lnTo>
                  <a:lnTo>
                    <a:pt x="1736" y="7528"/>
                  </a:lnTo>
                  <a:lnTo>
                    <a:pt x="1389" y="8917"/>
                  </a:lnTo>
                  <a:lnTo>
                    <a:pt x="1158" y="10307"/>
                  </a:lnTo>
                  <a:lnTo>
                    <a:pt x="926" y="11812"/>
                  </a:lnTo>
                  <a:lnTo>
                    <a:pt x="695" y="13086"/>
                  </a:lnTo>
                  <a:lnTo>
                    <a:pt x="463" y="14476"/>
                  </a:lnTo>
                  <a:lnTo>
                    <a:pt x="463" y="14476"/>
                  </a:lnTo>
                  <a:lnTo>
                    <a:pt x="348" y="14592"/>
                  </a:lnTo>
                  <a:lnTo>
                    <a:pt x="348" y="14824"/>
                  </a:lnTo>
                  <a:lnTo>
                    <a:pt x="348" y="14939"/>
                  </a:lnTo>
                  <a:lnTo>
                    <a:pt x="348" y="15055"/>
                  </a:lnTo>
                  <a:lnTo>
                    <a:pt x="232" y="15287"/>
                  </a:lnTo>
                  <a:lnTo>
                    <a:pt x="232" y="15403"/>
                  </a:lnTo>
                  <a:lnTo>
                    <a:pt x="232" y="15518"/>
                  </a:lnTo>
                  <a:lnTo>
                    <a:pt x="232" y="15750"/>
                  </a:lnTo>
                  <a:lnTo>
                    <a:pt x="232" y="15750"/>
                  </a:lnTo>
                  <a:lnTo>
                    <a:pt x="0" y="15750"/>
                  </a:lnTo>
                  <a:lnTo>
                    <a:pt x="0" y="15750"/>
                  </a:lnTo>
                  <a:lnTo>
                    <a:pt x="116" y="14824"/>
                  </a:lnTo>
                  <a:lnTo>
                    <a:pt x="348" y="14013"/>
                  </a:lnTo>
                  <a:lnTo>
                    <a:pt x="463" y="13086"/>
                  </a:lnTo>
                  <a:lnTo>
                    <a:pt x="579" y="12276"/>
                  </a:lnTo>
                  <a:lnTo>
                    <a:pt x="695" y="11349"/>
                  </a:lnTo>
                  <a:lnTo>
                    <a:pt x="810" y="10423"/>
                  </a:lnTo>
                  <a:lnTo>
                    <a:pt x="926" y="9612"/>
                  </a:lnTo>
                  <a:lnTo>
                    <a:pt x="1042" y="8686"/>
                  </a:lnTo>
                  <a:lnTo>
                    <a:pt x="1042" y="8686"/>
                  </a:lnTo>
                  <a:lnTo>
                    <a:pt x="1273" y="7643"/>
                  </a:lnTo>
                  <a:lnTo>
                    <a:pt x="1505" y="6601"/>
                  </a:lnTo>
                  <a:lnTo>
                    <a:pt x="1736" y="5559"/>
                  </a:lnTo>
                  <a:lnTo>
                    <a:pt x="1968" y="4516"/>
                  </a:lnTo>
                  <a:lnTo>
                    <a:pt x="2199" y="3358"/>
                  </a:lnTo>
                  <a:lnTo>
                    <a:pt x="2431" y="2316"/>
                  </a:lnTo>
                  <a:lnTo>
                    <a:pt x="2662" y="1274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1059120" y="3094200"/>
              <a:ext cx="119880" cy="864000"/>
            </a:xfrm>
            <a:custGeom>
              <a:avLst/>
              <a:gdLst/>
              <a:ahLst/>
              <a:rect l="l" t="t" r="r" b="b"/>
              <a:pathLst>
                <a:path w="3356" h="16097">
                  <a:moveTo>
                    <a:pt x="3356" y="0"/>
                  </a:moveTo>
                  <a:lnTo>
                    <a:pt x="3125" y="1390"/>
                  </a:lnTo>
                  <a:lnTo>
                    <a:pt x="2893" y="2779"/>
                  </a:lnTo>
                  <a:lnTo>
                    <a:pt x="2662" y="4053"/>
                  </a:lnTo>
                  <a:lnTo>
                    <a:pt x="2315" y="5443"/>
                  </a:lnTo>
                  <a:lnTo>
                    <a:pt x="2083" y="6833"/>
                  </a:lnTo>
                  <a:lnTo>
                    <a:pt x="1736" y="8107"/>
                  </a:lnTo>
                  <a:lnTo>
                    <a:pt x="1505" y="9496"/>
                  </a:lnTo>
                  <a:lnTo>
                    <a:pt x="1273" y="10770"/>
                  </a:lnTo>
                  <a:lnTo>
                    <a:pt x="1273" y="10770"/>
                  </a:lnTo>
                  <a:lnTo>
                    <a:pt x="1157" y="11002"/>
                  </a:lnTo>
                  <a:lnTo>
                    <a:pt x="1157" y="11233"/>
                  </a:lnTo>
                  <a:lnTo>
                    <a:pt x="1042" y="11465"/>
                  </a:lnTo>
                  <a:lnTo>
                    <a:pt x="1042" y="11697"/>
                  </a:lnTo>
                  <a:lnTo>
                    <a:pt x="926" y="11928"/>
                  </a:lnTo>
                  <a:lnTo>
                    <a:pt x="926" y="12276"/>
                  </a:lnTo>
                  <a:lnTo>
                    <a:pt x="926" y="12507"/>
                  </a:lnTo>
                  <a:lnTo>
                    <a:pt x="810" y="12739"/>
                  </a:lnTo>
                  <a:lnTo>
                    <a:pt x="810" y="12739"/>
                  </a:lnTo>
                  <a:lnTo>
                    <a:pt x="926" y="13086"/>
                  </a:lnTo>
                  <a:lnTo>
                    <a:pt x="810" y="13550"/>
                  </a:lnTo>
                  <a:lnTo>
                    <a:pt x="810" y="13897"/>
                  </a:lnTo>
                  <a:lnTo>
                    <a:pt x="694" y="14360"/>
                  </a:lnTo>
                  <a:lnTo>
                    <a:pt x="579" y="14824"/>
                  </a:lnTo>
                  <a:lnTo>
                    <a:pt x="463" y="15171"/>
                  </a:lnTo>
                  <a:lnTo>
                    <a:pt x="463" y="15634"/>
                  </a:lnTo>
                  <a:lnTo>
                    <a:pt x="463" y="16097"/>
                  </a:lnTo>
                  <a:lnTo>
                    <a:pt x="463" y="16097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347" y="13897"/>
                  </a:lnTo>
                  <a:lnTo>
                    <a:pt x="694" y="11928"/>
                  </a:lnTo>
                  <a:lnTo>
                    <a:pt x="1042" y="9960"/>
                  </a:lnTo>
                  <a:lnTo>
                    <a:pt x="1389" y="7875"/>
                  </a:lnTo>
                  <a:lnTo>
                    <a:pt x="1852" y="5906"/>
                  </a:lnTo>
                  <a:lnTo>
                    <a:pt x="2199" y="3937"/>
                  </a:lnTo>
                  <a:lnTo>
                    <a:pt x="2546" y="1969"/>
                  </a:lnTo>
                  <a:lnTo>
                    <a:pt x="2893" y="0"/>
                  </a:lnTo>
                  <a:lnTo>
                    <a:pt x="2893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240" y="0"/>
                  </a:lnTo>
                  <a:lnTo>
                    <a:pt x="3240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067040" y="3094200"/>
              <a:ext cx="144720" cy="1087920"/>
            </a:xfrm>
            <a:custGeom>
              <a:avLst/>
              <a:gdLst/>
              <a:ahLst/>
              <a:rect l="l" t="t" r="r" b="b"/>
              <a:pathLst>
                <a:path w="4051" h="20267">
                  <a:moveTo>
                    <a:pt x="3704" y="116"/>
                  </a:moveTo>
                  <a:lnTo>
                    <a:pt x="3935" y="0"/>
                  </a:lnTo>
                  <a:lnTo>
                    <a:pt x="4051" y="232"/>
                  </a:lnTo>
                  <a:lnTo>
                    <a:pt x="4051" y="232"/>
                  </a:lnTo>
                  <a:lnTo>
                    <a:pt x="3588" y="2779"/>
                  </a:lnTo>
                  <a:lnTo>
                    <a:pt x="3009" y="5211"/>
                  </a:lnTo>
                  <a:lnTo>
                    <a:pt x="2547" y="7643"/>
                  </a:lnTo>
                  <a:lnTo>
                    <a:pt x="1968" y="10075"/>
                  </a:lnTo>
                  <a:lnTo>
                    <a:pt x="1389" y="12623"/>
                  </a:lnTo>
                  <a:lnTo>
                    <a:pt x="926" y="15055"/>
                  </a:lnTo>
                  <a:lnTo>
                    <a:pt x="579" y="17603"/>
                  </a:lnTo>
                  <a:lnTo>
                    <a:pt x="348" y="20035"/>
                  </a:lnTo>
                  <a:lnTo>
                    <a:pt x="348" y="20035"/>
                  </a:lnTo>
                  <a:lnTo>
                    <a:pt x="348" y="20151"/>
                  </a:lnTo>
                  <a:lnTo>
                    <a:pt x="232" y="20151"/>
                  </a:lnTo>
                  <a:lnTo>
                    <a:pt x="232" y="20151"/>
                  </a:lnTo>
                  <a:lnTo>
                    <a:pt x="116" y="20151"/>
                  </a:lnTo>
                  <a:lnTo>
                    <a:pt x="116" y="20151"/>
                  </a:lnTo>
                  <a:lnTo>
                    <a:pt x="116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348" y="18761"/>
                  </a:lnTo>
                  <a:lnTo>
                    <a:pt x="579" y="17140"/>
                  </a:lnTo>
                  <a:lnTo>
                    <a:pt x="695" y="15634"/>
                  </a:lnTo>
                  <a:lnTo>
                    <a:pt x="926" y="14129"/>
                  </a:lnTo>
                  <a:lnTo>
                    <a:pt x="1042" y="12507"/>
                  </a:lnTo>
                  <a:lnTo>
                    <a:pt x="1158" y="11002"/>
                  </a:lnTo>
                  <a:lnTo>
                    <a:pt x="1505" y="9496"/>
                  </a:lnTo>
                  <a:lnTo>
                    <a:pt x="1852" y="7991"/>
                  </a:lnTo>
                  <a:lnTo>
                    <a:pt x="1852" y="7991"/>
                  </a:lnTo>
                  <a:lnTo>
                    <a:pt x="1968" y="6948"/>
                  </a:lnTo>
                  <a:lnTo>
                    <a:pt x="2199" y="5906"/>
                  </a:lnTo>
                  <a:lnTo>
                    <a:pt x="2431" y="4980"/>
                  </a:lnTo>
                  <a:lnTo>
                    <a:pt x="2778" y="4053"/>
                  </a:lnTo>
                  <a:lnTo>
                    <a:pt x="3009" y="3011"/>
                  </a:lnTo>
                  <a:lnTo>
                    <a:pt x="3241" y="2084"/>
                  </a:lnTo>
                  <a:lnTo>
                    <a:pt x="3472" y="1042"/>
                  </a:lnTo>
                  <a:lnTo>
                    <a:pt x="3588" y="0"/>
                  </a:lnTo>
                  <a:lnTo>
                    <a:pt x="3588" y="0"/>
                  </a:lnTo>
                  <a:lnTo>
                    <a:pt x="3704" y="0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1712880" y="3106800"/>
              <a:ext cx="57600" cy="142920"/>
            </a:xfrm>
            <a:custGeom>
              <a:avLst/>
              <a:gdLst/>
              <a:ahLst/>
              <a:rect l="l" t="t" r="r" b="b"/>
              <a:pathLst>
                <a:path w="1620" h="2663">
                  <a:moveTo>
                    <a:pt x="1620" y="810"/>
                  </a:moveTo>
                  <a:lnTo>
                    <a:pt x="1620" y="1042"/>
                  </a:lnTo>
                  <a:lnTo>
                    <a:pt x="1620" y="1158"/>
                  </a:lnTo>
                  <a:lnTo>
                    <a:pt x="1620" y="1389"/>
                  </a:lnTo>
                  <a:lnTo>
                    <a:pt x="1620" y="1621"/>
                  </a:lnTo>
                  <a:lnTo>
                    <a:pt x="1620" y="1852"/>
                  </a:lnTo>
                  <a:lnTo>
                    <a:pt x="1504" y="1968"/>
                  </a:lnTo>
                  <a:lnTo>
                    <a:pt x="1388" y="2200"/>
                  </a:lnTo>
                  <a:lnTo>
                    <a:pt x="1388" y="2316"/>
                  </a:lnTo>
                  <a:lnTo>
                    <a:pt x="1388" y="2316"/>
                  </a:lnTo>
                  <a:lnTo>
                    <a:pt x="1273" y="2432"/>
                  </a:lnTo>
                  <a:lnTo>
                    <a:pt x="1157" y="2432"/>
                  </a:lnTo>
                  <a:lnTo>
                    <a:pt x="1157" y="2547"/>
                  </a:lnTo>
                  <a:lnTo>
                    <a:pt x="1041" y="2547"/>
                  </a:lnTo>
                  <a:lnTo>
                    <a:pt x="1041" y="2663"/>
                  </a:lnTo>
                  <a:lnTo>
                    <a:pt x="926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926" y="2432"/>
                  </a:lnTo>
                  <a:lnTo>
                    <a:pt x="926" y="2200"/>
                  </a:lnTo>
                  <a:lnTo>
                    <a:pt x="1041" y="1968"/>
                  </a:lnTo>
                  <a:lnTo>
                    <a:pt x="1157" y="1737"/>
                  </a:lnTo>
                  <a:lnTo>
                    <a:pt x="1157" y="1505"/>
                  </a:lnTo>
                  <a:lnTo>
                    <a:pt x="1157" y="1158"/>
                  </a:lnTo>
                  <a:lnTo>
                    <a:pt x="1041" y="926"/>
                  </a:lnTo>
                  <a:lnTo>
                    <a:pt x="1041" y="694"/>
                  </a:lnTo>
                  <a:lnTo>
                    <a:pt x="1041" y="694"/>
                  </a:lnTo>
                  <a:lnTo>
                    <a:pt x="926" y="579"/>
                  </a:lnTo>
                  <a:lnTo>
                    <a:pt x="810" y="463"/>
                  </a:lnTo>
                  <a:lnTo>
                    <a:pt x="694" y="347"/>
                  </a:lnTo>
                  <a:lnTo>
                    <a:pt x="578" y="347"/>
                  </a:lnTo>
                  <a:lnTo>
                    <a:pt x="463" y="231"/>
                  </a:lnTo>
                  <a:lnTo>
                    <a:pt x="231" y="231"/>
                  </a:lnTo>
                  <a:lnTo>
                    <a:pt x="115" y="231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5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5"/>
                  </a:lnTo>
                  <a:lnTo>
                    <a:pt x="1273" y="347"/>
                  </a:lnTo>
                  <a:lnTo>
                    <a:pt x="1504" y="579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1783080" y="3125520"/>
              <a:ext cx="41040" cy="136800"/>
            </a:xfrm>
            <a:custGeom>
              <a:avLst/>
              <a:gdLst/>
              <a:ahLst/>
              <a:rect l="l" t="t" r="r" b="b"/>
              <a:pathLst>
                <a:path w="1157" h="2548">
                  <a:moveTo>
                    <a:pt x="1042" y="811"/>
                  </a:moveTo>
                  <a:lnTo>
                    <a:pt x="1042" y="926"/>
                  </a:lnTo>
                  <a:lnTo>
                    <a:pt x="1157" y="1158"/>
                  </a:lnTo>
                  <a:lnTo>
                    <a:pt x="1157" y="1274"/>
                  </a:lnTo>
                  <a:lnTo>
                    <a:pt x="1157" y="1505"/>
                  </a:lnTo>
                  <a:lnTo>
                    <a:pt x="1157" y="1621"/>
                  </a:lnTo>
                  <a:lnTo>
                    <a:pt x="1157" y="1853"/>
                  </a:lnTo>
                  <a:lnTo>
                    <a:pt x="1157" y="1969"/>
                  </a:lnTo>
                  <a:lnTo>
                    <a:pt x="1042" y="2200"/>
                  </a:lnTo>
                  <a:lnTo>
                    <a:pt x="1042" y="2200"/>
                  </a:lnTo>
                  <a:lnTo>
                    <a:pt x="695" y="2548"/>
                  </a:lnTo>
                  <a:lnTo>
                    <a:pt x="695" y="2548"/>
                  </a:lnTo>
                  <a:lnTo>
                    <a:pt x="695" y="2200"/>
                  </a:lnTo>
                  <a:lnTo>
                    <a:pt x="695" y="1969"/>
                  </a:lnTo>
                  <a:lnTo>
                    <a:pt x="810" y="1621"/>
                  </a:lnTo>
                  <a:lnTo>
                    <a:pt x="810" y="1274"/>
                  </a:lnTo>
                  <a:lnTo>
                    <a:pt x="810" y="1042"/>
                  </a:lnTo>
                  <a:lnTo>
                    <a:pt x="695" y="811"/>
                  </a:lnTo>
                  <a:lnTo>
                    <a:pt x="463" y="579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810" y="347"/>
                  </a:lnTo>
                  <a:lnTo>
                    <a:pt x="926" y="463"/>
                  </a:lnTo>
                  <a:lnTo>
                    <a:pt x="926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1832760" y="3137760"/>
              <a:ext cx="41040" cy="130320"/>
            </a:xfrm>
            <a:custGeom>
              <a:avLst/>
              <a:gdLst/>
              <a:ahLst/>
              <a:rect l="l" t="t" r="r" b="b"/>
              <a:pathLst>
                <a:path w="1157" h="2432">
                  <a:moveTo>
                    <a:pt x="1157" y="926"/>
                  </a:moveTo>
                  <a:lnTo>
                    <a:pt x="1157" y="1158"/>
                  </a:lnTo>
                  <a:lnTo>
                    <a:pt x="1157" y="1389"/>
                  </a:lnTo>
                  <a:lnTo>
                    <a:pt x="1157" y="1505"/>
                  </a:lnTo>
                  <a:lnTo>
                    <a:pt x="1157" y="1737"/>
                  </a:lnTo>
                  <a:lnTo>
                    <a:pt x="1042" y="1968"/>
                  </a:lnTo>
                  <a:lnTo>
                    <a:pt x="926" y="2200"/>
                  </a:lnTo>
                  <a:lnTo>
                    <a:pt x="810" y="2316"/>
                  </a:lnTo>
                  <a:lnTo>
                    <a:pt x="579" y="2432"/>
                  </a:lnTo>
                  <a:lnTo>
                    <a:pt x="579" y="2432"/>
                  </a:lnTo>
                  <a:lnTo>
                    <a:pt x="694" y="2316"/>
                  </a:lnTo>
                  <a:lnTo>
                    <a:pt x="694" y="2200"/>
                  </a:lnTo>
                  <a:lnTo>
                    <a:pt x="694" y="1968"/>
                  </a:lnTo>
                  <a:lnTo>
                    <a:pt x="810" y="1853"/>
                  </a:lnTo>
                  <a:lnTo>
                    <a:pt x="810" y="1621"/>
                  </a:lnTo>
                  <a:lnTo>
                    <a:pt x="926" y="1389"/>
                  </a:lnTo>
                  <a:lnTo>
                    <a:pt x="926" y="1273"/>
                  </a:lnTo>
                  <a:lnTo>
                    <a:pt x="810" y="1042"/>
                  </a:lnTo>
                  <a:lnTo>
                    <a:pt x="810" y="1042"/>
                  </a:lnTo>
                  <a:lnTo>
                    <a:pt x="810" y="926"/>
                  </a:lnTo>
                  <a:lnTo>
                    <a:pt x="694" y="810"/>
                  </a:lnTo>
                  <a:lnTo>
                    <a:pt x="463" y="694"/>
                  </a:lnTo>
                  <a:lnTo>
                    <a:pt x="347" y="579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23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7" y="0"/>
                  </a:lnTo>
                  <a:lnTo>
                    <a:pt x="579" y="115"/>
                  </a:lnTo>
                  <a:lnTo>
                    <a:pt x="694" y="231"/>
                  </a:lnTo>
                  <a:lnTo>
                    <a:pt x="810" y="347"/>
                  </a:lnTo>
                  <a:lnTo>
                    <a:pt x="926" y="579"/>
                  </a:lnTo>
                  <a:lnTo>
                    <a:pt x="1042" y="810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1890720" y="3156480"/>
              <a:ext cx="28800" cy="111600"/>
            </a:xfrm>
            <a:custGeom>
              <a:avLst/>
              <a:gdLst/>
              <a:ahLst/>
              <a:rect l="l" t="t" r="r" b="b"/>
              <a:pathLst>
                <a:path w="810" h="2085">
                  <a:moveTo>
                    <a:pt x="810" y="579"/>
                  </a:moveTo>
                  <a:lnTo>
                    <a:pt x="810" y="811"/>
                  </a:lnTo>
                  <a:lnTo>
                    <a:pt x="810" y="1042"/>
                  </a:lnTo>
                  <a:lnTo>
                    <a:pt x="810" y="1158"/>
                  </a:lnTo>
                  <a:lnTo>
                    <a:pt x="810" y="1390"/>
                  </a:lnTo>
                  <a:lnTo>
                    <a:pt x="695" y="1621"/>
                  </a:lnTo>
                  <a:lnTo>
                    <a:pt x="695" y="1737"/>
                  </a:lnTo>
                  <a:lnTo>
                    <a:pt x="579" y="1969"/>
                  </a:lnTo>
                  <a:lnTo>
                    <a:pt x="347" y="2085"/>
                  </a:lnTo>
                  <a:lnTo>
                    <a:pt x="347" y="2085"/>
                  </a:lnTo>
                  <a:lnTo>
                    <a:pt x="463" y="1969"/>
                  </a:lnTo>
                  <a:lnTo>
                    <a:pt x="463" y="1737"/>
                  </a:lnTo>
                  <a:lnTo>
                    <a:pt x="579" y="1506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1"/>
                  </a:lnTo>
                  <a:lnTo>
                    <a:pt x="579" y="579"/>
                  </a:lnTo>
                  <a:lnTo>
                    <a:pt x="347" y="347"/>
                  </a:lnTo>
                  <a:lnTo>
                    <a:pt x="347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2" y="0"/>
                  </a:lnTo>
                  <a:lnTo>
                    <a:pt x="347" y="0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695" y="347"/>
                  </a:lnTo>
                  <a:lnTo>
                    <a:pt x="695" y="463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1932120" y="3169080"/>
              <a:ext cx="37080" cy="118080"/>
            </a:xfrm>
            <a:custGeom>
              <a:avLst/>
              <a:gdLst/>
              <a:ahLst/>
              <a:rect l="l" t="t" r="r" b="b"/>
              <a:pathLst>
                <a:path w="1042" h="2200">
                  <a:moveTo>
                    <a:pt x="1042" y="694"/>
                  </a:moveTo>
                  <a:lnTo>
                    <a:pt x="1042" y="926"/>
                  </a:lnTo>
                  <a:lnTo>
                    <a:pt x="1042" y="1042"/>
                  </a:lnTo>
                  <a:lnTo>
                    <a:pt x="1042" y="1274"/>
                  </a:lnTo>
                  <a:lnTo>
                    <a:pt x="926" y="1505"/>
                  </a:lnTo>
                  <a:lnTo>
                    <a:pt x="926" y="1737"/>
                  </a:lnTo>
                  <a:lnTo>
                    <a:pt x="811" y="1853"/>
                  </a:lnTo>
                  <a:lnTo>
                    <a:pt x="579" y="2084"/>
                  </a:lnTo>
                  <a:lnTo>
                    <a:pt x="463" y="2200"/>
                  </a:lnTo>
                  <a:lnTo>
                    <a:pt x="463" y="2200"/>
                  </a:lnTo>
                  <a:lnTo>
                    <a:pt x="116" y="2200"/>
                  </a:lnTo>
                  <a:lnTo>
                    <a:pt x="116" y="2200"/>
                  </a:lnTo>
                  <a:lnTo>
                    <a:pt x="232" y="1968"/>
                  </a:lnTo>
                  <a:lnTo>
                    <a:pt x="348" y="1737"/>
                  </a:lnTo>
                  <a:lnTo>
                    <a:pt x="463" y="1621"/>
                  </a:lnTo>
                  <a:lnTo>
                    <a:pt x="463" y="1389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0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8" y="0"/>
                  </a:lnTo>
                  <a:lnTo>
                    <a:pt x="463" y="0"/>
                  </a:lnTo>
                  <a:lnTo>
                    <a:pt x="579" y="115"/>
                  </a:lnTo>
                  <a:lnTo>
                    <a:pt x="811" y="231"/>
                  </a:lnTo>
                  <a:lnTo>
                    <a:pt x="926" y="347"/>
                  </a:lnTo>
                  <a:lnTo>
                    <a:pt x="1042" y="579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1340280" y="3312000"/>
              <a:ext cx="223200" cy="397800"/>
            </a:xfrm>
            <a:custGeom>
              <a:avLst/>
              <a:gdLst/>
              <a:ahLst/>
              <a:rect l="l" t="t" r="r" b="b"/>
              <a:pathLst>
                <a:path w="6249" h="7412">
                  <a:moveTo>
                    <a:pt x="5439" y="1969"/>
                  </a:moveTo>
                  <a:lnTo>
                    <a:pt x="5439" y="2085"/>
                  </a:lnTo>
                  <a:lnTo>
                    <a:pt x="5555" y="2085"/>
                  </a:lnTo>
                  <a:lnTo>
                    <a:pt x="5555" y="2085"/>
                  </a:lnTo>
                  <a:lnTo>
                    <a:pt x="5671" y="2085"/>
                  </a:lnTo>
                  <a:lnTo>
                    <a:pt x="5671" y="2085"/>
                  </a:lnTo>
                  <a:lnTo>
                    <a:pt x="5786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853"/>
                  </a:lnTo>
                  <a:lnTo>
                    <a:pt x="6018" y="1853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249" y="1737"/>
                  </a:lnTo>
                  <a:lnTo>
                    <a:pt x="6249" y="1737"/>
                  </a:lnTo>
                  <a:lnTo>
                    <a:pt x="6249" y="1853"/>
                  </a:lnTo>
                  <a:lnTo>
                    <a:pt x="6249" y="1969"/>
                  </a:lnTo>
                  <a:lnTo>
                    <a:pt x="6249" y="2085"/>
                  </a:lnTo>
                  <a:lnTo>
                    <a:pt x="6134" y="2201"/>
                  </a:lnTo>
                  <a:lnTo>
                    <a:pt x="6018" y="2316"/>
                  </a:lnTo>
                  <a:lnTo>
                    <a:pt x="5902" y="2432"/>
                  </a:lnTo>
                  <a:lnTo>
                    <a:pt x="5786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3127"/>
                  </a:lnTo>
                  <a:lnTo>
                    <a:pt x="5555" y="3822"/>
                  </a:lnTo>
                  <a:lnTo>
                    <a:pt x="5555" y="4401"/>
                  </a:lnTo>
                  <a:lnTo>
                    <a:pt x="5323" y="4980"/>
                  </a:lnTo>
                  <a:lnTo>
                    <a:pt x="5208" y="5675"/>
                  </a:lnTo>
                  <a:lnTo>
                    <a:pt x="4861" y="6138"/>
                  </a:lnTo>
                  <a:lnTo>
                    <a:pt x="4398" y="6601"/>
                  </a:lnTo>
                  <a:lnTo>
                    <a:pt x="3935" y="7065"/>
                  </a:lnTo>
                  <a:lnTo>
                    <a:pt x="3935" y="7065"/>
                  </a:lnTo>
                  <a:lnTo>
                    <a:pt x="3703" y="7180"/>
                  </a:lnTo>
                  <a:lnTo>
                    <a:pt x="3356" y="7296"/>
                  </a:lnTo>
                  <a:lnTo>
                    <a:pt x="3125" y="7412"/>
                  </a:lnTo>
                  <a:lnTo>
                    <a:pt x="2893" y="7412"/>
                  </a:lnTo>
                  <a:lnTo>
                    <a:pt x="2546" y="7412"/>
                  </a:lnTo>
                  <a:lnTo>
                    <a:pt x="2199" y="7412"/>
                  </a:lnTo>
                  <a:lnTo>
                    <a:pt x="1967" y="7296"/>
                  </a:lnTo>
                  <a:lnTo>
                    <a:pt x="1620" y="7296"/>
                  </a:lnTo>
                  <a:lnTo>
                    <a:pt x="1620" y="7296"/>
                  </a:lnTo>
                  <a:lnTo>
                    <a:pt x="1389" y="7180"/>
                  </a:lnTo>
                  <a:lnTo>
                    <a:pt x="1157" y="7065"/>
                  </a:lnTo>
                  <a:lnTo>
                    <a:pt x="926" y="6949"/>
                  </a:lnTo>
                  <a:lnTo>
                    <a:pt x="694" y="6717"/>
                  </a:lnTo>
                  <a:lnTo>
                    <a:pt x="578" y="6601"/>
                  </a:lnTo>
                  <a:lnTo>
                    <a:pt x="347" y="6370"/>
                  </a:lnTo>
                  <a:lnTo>
                    <a:pt x="231" y="6138"/>
                  </a:lnTo>
                  <a:lnTo>
                    <a:pt x="116" y="5907"/>
                  </a:lnTo>
                  <a:lnTo>
                    <a:pt x="116" y="5907"/>
                  </a:lnTo>
                  <a:lnTo>
                    <a:pt x="0" y="5559"/>
                  </a:lnTo>
                  <a:lnTo>
                    <a:pt x="0" y="5096"/>
                  </a:lnTo>
                  <a:lnTo>
                    <a:pt x="0" y="4748"/>
                  </a:lnTo>
                  <a:lnTo>
                    <a:pt x="0" y="4285"/>
                  </a:lnTo>
                  <a:lnTo>
                    <a:pt x="0" y="3938"/>
                  </a:lnTo>
                  <a:lnTo>
                    <a:pt x="116" y="3590"/>
                  </a:lnTo>
                  <a:lnTo>
                    <a:pt x="347" y="3243"/>
                  </a:lnTo>
                  <a:lnTo>
                    <a:pt x="578" y="2895"/>
                  </a:lnTo>
                  <a:lnTo>
                    <a:pt x="578" y="2895"/>
                  </a:lnTo>
                  <a:lnTo>
                    <a:pt x="926" y="2432"/>
                  </a:lnTo>
                  <a:lnTo>
                    <a:pt x="1273" y="2085"/>
                  </a:lnTo>
                  <a:lnTo>
                    <a:pt x="1736" y="1853"/>
                  </a:lnTo>
                  <a:lnTo>
                    <a:pt x="2083" y="1622"/>
                  </a:lnTo>
                  <a:lnTo>
                    <a:pt x="2546" y="1390"/>
                  </a:lnTo>
                  <a:lnTo>
                    <a:pt x="3009" y="1274"/>
                  </a:lnTo>
                  <a:lnTo>
                    <a:pt x="3587" y="1158"/>
                  </a:lnTo>
                  <a:lnTo>
                    <a:pt x="4050" y="1158"/>
                  </a:lnTo>
                  <a:lnTo>
                    <a:pt x="4050" y="1158"/>
                  </a:lnTo>
                  <a:lnTo>
                    <a:pt x="3587" y="927"/>
                  </a:lnTo>
                  <a:lnTo>
                    <a:pt x="3240" y="811"/>
                  </a:lnTo>
                  <a:lnTo>
                    <a:pt x="2777" y="579"/>
                  </a:lnTo>
                  <a:lnTo>
                    <a:pt x="2314" y="463"/>
                  </a:lnTo>
                  <a:lnTo>
                    <a:pt x="1851" y="463"/>
                  </a:lnTo>
                  <a:lnTo>
                    <a:pt x="1389" y="463"/>
                  </a:lnTo>
                  <a:lnTo>
                    <a:pt x="926" y="579"/>
                  </a:lnTo>
                  <a:lnTo>
                    <a:pt x="578" y="695"/>
                  </a:lnTo>
                  <a:lnTo>
                    <a:pt x="578" y="695"/>
                  </a:lnTo>
                  <a:lnTo>
                    <a:pt x="578" y="463"/>
                  </a:lnTo>
                  <a:lnTo>
                    <a:pt x="694" y="348"/>
                  </a:lnTo>
                  <a:lnTo>
                    <a:pt x="926" y="232"/>
                  </a:lnTo>
                  <a:lnTo>
                    <a:pt x="1041" y="116"/>
                  </a:lnTo>
                  <a:lnTo>
                    <a:pt x="1273" y="116"/>
                  </a:lnTo>
                  <a:lnTo>
                    <a:pt x="1504" y="0"/>
                  </a:lnTo>
                  <a:lnTo>
                    <a:pt x="1620" y="0"/>
                  </a:lnTo>
                  <a:lnTo>
                    <a:pt x="1851" y="0"/>
                  </a:lnTo>
                  <a:lnTo>
                    <a:pt x="1851" y="0"/>
                  </a:lnTo>
                  <a:lnTo>
                    <a:pt x="2314" y="116"/>
                  </a:lnTo>
                  <a:lnTo>
                    <a:pt x="2777" y="232"/>
                  </a:lnTo>
                  <a:lnTo>
                    <a:pt x="3356" y="463"/>
                  </a:lnTo>
                  <a:lnTo>
                    <a:pt x="3819" y="579"/>
                  </a:lnTo>
                  <a:lnTo>
                    <a:pt x="4282" y="811"/>
                  </a:lnTo>
                  <a:lnTo>
                    <a:pt x="4745" y="1043"/>
                  </a:lnTo>
                  <a:lnTo>
                    <a:pt x="5092" y="1506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1572120" y="3367800"/>
              <a:ext cx="186120" cy="410040"/>
            </a:xfrm>
            <a:custGeom>
              <a:avLst/>
              <a:gdLst/>
              <a:ahLst/>
              <a:rect l="l" t="t" r="r" b="b"/>
              <a:pathLst>
                <a:path w="5208" h="7643">
                  <a:moveTo>
                    <a:pt x="4976" y="347"/>
                  </a:moveTo>
                  <a:lnTo>
                    <a:pt x="4976" y="347"/>
                  </a:lnTo>
                  <a:lnTo>
                    <a:pt x="4861" y="347"/>
                  </a:lnTo>
                  <a:lnTo>
                    <a:pt x="4745" y="347"/>
                  </a:lnTo>
                  <a:lnTo>
                    <a:pt x="4629" y="347"/>
                  </a:lnTo>
                  <a:lnTo>
                    <a:pt x="4513" y="347"/>
                  </a:lnTo>
                  <a:lnTo>
                    <a:pt x="4398" y="347"/>
                  </a:lnTo>
                  <a:lnTo>
                    <a:pt x="4282" y="231"/>
                  </a:lnTo>
                  <a:lnTo>
                    <a:pt x="4166" y="347"/>
                  </a:lnTo>
                  <a:lnTo>
                    <a:pt x="4166" y="347"/>
                  </a:lnTo>
                  <a:lnTo>
                    <a:pt x="4050" y="347"/>
                  </a:lnTo>
                  <a:lnTo>
                    <a:pt x="3819" y="463"/>
                  </a:lnTo>
                  <a:lnTo>
                    <a:pt x="3703" y="463"/>
                  </a:lnTo>
                  <a:lnTo>
                    <a:pt x="3472" y="579"/>
                  </a:lnTo>
                  <a:lnTo>
                    <a:pt x="3356" y="579"/>
                  </a:lnTo>
                  <a:lnTo>
                    <a:pt x="3240" y="694"/>
                  </a:lnTo>
                  <a:lnTo>
                    <a:pt x="3009" y="810"/>
                  </a:lnTo>
                  <a:lnTo>
                    <a:pt x="2893" y="926"/>
                  </a:lnTo>
                  <a:lnTo>
                    <a:pt x="2893" y="926"/>
                  </a:lnTo>
                  <a:lnTo>
                    <a:pt x="3240" y="926"/>
                  </a:lnTo>
                  <a:lnTo>
                    <a:pt x="3472" y="1042"/>
                  </a:lnTo>
                  <a:lnTo>
                    <a:pt x="3819" y="1158"/>
                  </a:lnTo>
                  <a:lnTo>
                    <a:pt x="4050" y="1273"/>
                  </a:lnTo>
                  <a:lnTo>
                    <a:pt x="4282" y="1389"/>
                  </a:lnTo>
                  <a:lnTo>
                    <a:pt x="4513" y="1621"/>
                  </a:lnTo>
                  <a:lnTo>
                    <a:pt x="4745" y="1852"/>
                  </a:lnTo>
                  <a:lnTo>
                    <a:pt x="4976" y="2084"/>
                  </a:lnTo>
                  <a:lnTo>
                    <a:pt x="4976" y="2084"/>
                  </a:lnTo>
                  <a:lnTo>
                    <a:pt x="5092" y="2663"/>
                  </a:lnTo>
                  <a:lnTo>
                    <a:pt x="5208" y="3242"/>
                  </a:lnTo>
                  <a:lnTo>
                    <a:pt x="5208" y="3821"/>
                  </a:lnTo>
                  <a:lnTo>
                    <a:pt x="5092" y="4400"/>
                  </a:lnTo>
                  <a:lnTo>
                    <a:pt x="4976" y="4979"/>
                  </a:lnTo>
                  <a:lnTo>
                    <a:pt x="4745" y="5558"/>
                  </a:lnTo>
                  <a:lnTo>
                    <a:pt x="4513" y="6137"/>
                  </a:lnTo>
                  <a:lnTo>
                    <a:pt x="4166" y="6601"/>
                  </a:lnTo>
                  <a:lnTo>
                    <a:pt x="4166" y="6601"/>
                  </a:lnTo>
                  <a:lnTo>
                    <a:pt x="3819" y="6948"/>
                  </a:lnTo>
                  <a:lnTo>
                    <a:pt x="3472" y="7180"/>
                  </a:lnTo>
                  <a:lnTo>
                    <a:pt x="3125" y="7411"/>
                  </a:lnTo>
                  <a:lnTo>
                    <a:pt x="2662" y="7527"/>
                  </a:lnTo>
                  <a:lnTo>
                    <a:pt x="2199" y="7643"/>
                  </a:lnTo>
                  <a:lnTo>
                    <a:pt x="1736" y="7643"/>
                  </a:lnTo>
                  <a:lnTo>
                    <a:pt x="1273" y="7643"/>
                  </a:lnTo>
                  <a:lnTo>
                    <a:pt x="810" y="7527"/>
                  </a:lnTo>
                  <a:lnTo>
                    <a:pt x="810" y="7527"/>
                  </a:lnTo>
                  <a:lnTo>
                    <a:pt x="463" y="7064"/>
                  </a:lnTo>
                  <a:lnTo>
                    <a:pt x="231" y="6485"/>
                  </a:lnTo>
                  <a:lnTo>
                    <a:pt x="0" y="5906"/>
                  </a:lnTo>
                  <a:lnTo>
                    <a:pt x="0" y="5211"/>
                  </a:lnTo>
                  <a:lnTo>
                    <a:pt x="116" y="4632"/>
                  </a:lnTo>
                  <a:lnTo>
                    <a:pt x="231" y="3937"/>
                  </a:lnTo>
                  <a:lnTo>
                    <a:pt x="347" y="3358"/>
                  </a:lnTo>
                  <a:lnTo>
                    <a:pt x="578" y="2779"/>
                  </a:lnTo>
                  <a:lnTo>
                    <a:pt x="578" y="2779"/>
                  </a:lnTo>
                  <a:lnTo>
                    <a:pt x="578" y="2547"/>
                  </a:lnTo>
                  <a:lnTo>
                    <a:pt x="694" y="2432"/>
                  </a:lnTo>
                  <a:lnTo>
                    <a:pt x="810" y="2316"/>
                  </a:lnTo>
                  <a:lnTo>
                    <a:pt x="810" y="2200"/>
                  </a:lnTo>
                  <a:lnTo>
                    <a:pt x="926" y="1968"/>
                  </a:lnTo>
                  <a:lnTo>
                    <a:pt x="1041" y="1852"/>
                  </a:lnTo>
                  <a:lnTo>
                    <a:pt x="1041" y="1737"/>
                  </a:lnTo>
                  <a:lnTo>
                    <a:pt x="1157" y="1621"/>
                  </a:lnTo>
                  <a:lnTo>
                    <a:pt x="1157" y="1621"/>
                  </a:lnTo>
                  <a:lnTo>
                    <a:pt x="1041" y="1505"/>
                  </a:lnTo>
                  <a:lnTo>
                    <a:pt x="926" y="1505"/>
                  </a:lnTo>
                  <a:lnTo>
                    <a:pt x="926" y="1389"/>
                  </a:lnTo>
                  <a:lnTo>
                    <a:pt x="810" y="1389"/>
                  </a:lnTo>
                  <a:lnTo>
                    <a:pt x="694" y="1389"/>
                  </a:lnTo>
                  <a:lnTo>
                    <a:pt x="694" y="1389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694" y="1158"/>
                  </a:lnTo>
                  <a:lnTo>
                    <a:pt x="810" y="1158"/>
                  </a:lnTo>
                  <a:lnTo>
                    <a:pt x="926" y="1158"/>
                  </a:lnTo>
                  <a:lnTo>
                    <a:pt x="1041" y="1158"/>
                  </a:lnTo>
                  <a:lnTo>
                    <a:pt x="1157" y="1158"/>
                  </a:lnTo>
                  <a:lnTo>
                    <a:pt x="1389" y="1158"/>
                  </a:lnTo>
                  <a:lnTo>
                    <a:pt x="1504" y="1158"/>
                  </a:lnTo>
                  <a:lnTo>
                    <a:pt x="1620" y="1158"/>
                  </a:lnTo>
                  <a:lnTo>
                    <a:pt x="1620" y="1158"/>
                  </a:lnTo>
                  <a:lnTo>
                    <a:pt x="1967" y="926"/>
                  </a:lnTo>
                  <a:lnTo>
                    <a:pt x="2430" y="694"/>
                  </a:lnTo>
                  <a:lnTo>
                    <a:pt x="2777" y="347"/>
                  </a:lnTo>
                  <a:lnTo>
                    <a:pt x="3240" y="115"/>
                  </a:lnTo>
                  <a:lnTo>
                    <a:pt x="3703" y="0"/>
                  </a:lnTo>
                  <a:lnTo>
                    <a:pt x="4166" y="0"/>
                  </a:lnTo>
                  <a:lnTo>
                    <a:pt x="4629" y="0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1352880" y="3399120"/>
              <a:ext cx="173520" cy="285840"/>
            </a:xfrm>
            <a:custGeom>
              <a:avLst/>
              <a:gdLst/>
              <a:ahLst/>
              <a:rect l="l" t="t" r="r" b="b"/>
              <a:pathLst>
                <a:path w="4861" h="5327">
                  <a:moveTo>
                    <a:pt x="4398" y="463"/>
                  </a:moveTo>
                  <a:lnTo>
                    <a:pt x="4629" y="926"/>
                  </a:lnTo>
                  <a:lnTo>
                    <a:pt x="4745" y="1389"/>
                  </a:lnTo>
                  <a:lnTo>
                    <a:pt x="4745" y="1968"/>
                  </a:lnTo>
                  <a:lnTo>
                    <a:pt x="4861" y="2432"/>
                  </a:lnTo>
                  <a:lnTo>
                    <a:pt x="4745" y="2895"/>
                  </a:lnTo>
                  <a:lnTo>
                    <a:pt x="4629" y="3474"/>
                  </a:lnTo>
                  <a:lnTo>
                    <a:pt x="4398" y="3937"/>
                  </a:lnTo>
                  <a:lnTo>
                    <a:pt x="4051" y="4285"/>
                  </a:lnTo>
                  <a:lnTo>
                    <a:pt x="4051" y="4285"/>
                  </a:lnTo>
                  <a:lnTo>
                    <a:pt x="3935" y="4516"/>
                  </a:lnTo>
                  <a:lnTo>
                    <a:pt x="3819" y="4632"/>
                  </a:lnTo>
                  <a:lnTo>
                    <a:pt x="3588" y="4864"/>
                  </a:lnTo>
                  <a:lnTo>
                    <a:pt x="3356" y="4979"/>
                  </a:lnTo>
                  <a:lnTo>
                    <a:pt x="3125" y="5095"/>
                  </a:lnTo>
                  <a:lnTo>
                    <a:pt x="3009" y="5211"/>
                  </a:lnTo>
                  <a:lnTo>
                    <a:pt x="2778" y="5327"/>
                  </a:lnTo>
                  <a:lnTo>
                    <a:pt x="2430" y="5327"/>
                  </a:lnTo>
                  <a:lnTo>
                    <a:pt x="2430" y="5327"/>
                  </a:lnTo>
                  <a:lnTo>
                    <a:pt x="2083" y="5327"/>
                  </a:lnTo>
                  <a:lnTo>
                    <a:pt x="1736" y="5211"/>
                  </a:lnTo>
                  <a:lnTo>
                    <a:pt x="1389" y="5211"/>
                  </a:lnTo>
                  <a:lnTo>
                    <a:pt x="1157" y="5095"/>
                  </a:lnTo>
                  <a:lnTo>
                    <a:pt x="810" y="4864"/>
                  </a:lnTo>
                  <a:lnTo>
                    <a:pt x="579" y="4748"/>
                  </a:lnTo>
                  <a:lnTo>
                    <a:pt x="347" y="4400"/>
                  </a:lnTo>
                  <a:lnTo>
                    <a:pt x="231" y="4053"/>
                  </a:lnTo>
                  <a:lnTo>
                    <a:pt x="231" y="4053"/>
                  </a:lnTo>
                  <a:lnTo>
                    <a:pt x="116" y="3590"/>
                  </a:lnTo>
                  <a:lnTo>
                    <a:pt x="0" y="3242"/>
                  </a:lnTo>
                  <a:lnTo>
                    <a:pt x="116" y="2779"/>
                  </a:lnTo>
                  <a:lnTo>
                    <a:pt x="231" y="2316"/>
                  </a:lnTo>
                  <a:lnTo>
                    <a:pt x="347" y="1853"/>
                  </a:lnTo>
                  <a:lnTo>
                    <a:pt x="579" y="1505"/>
                  </a:lnTo>
                  <a:lnTo>
                    <a:pt x="810" y="1158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504" y="579"/>
                  </a:lnTo>
                  <a:lnTo>
                    <a:pt x="1852" y="463"/>
                  </a:lnTo>
                  <a:lnTo>
                    <a:pt x="2199" y="347"/>
                  </a:lnTo>
                  <a:lnTo>
                    <a:pt x="2546" y="231"/>
                  </a:lnTo>
                  <a:lnTo>
                    <a:pt x="2893" y="115"/>
                  </a:lnTo>
                  <a:lnTo>
                    <a:pt x="3240" y="115"/>
                  </a:lnTo>
                  <a:lnTo>
                    <a:pt x="3703" y="115"/>
                  </a:lnTo>
                  <a:lnTo>
                    <a:pt x="4051" y="0"/>
                  </a:lnTo>
                  <a:lnTo>
                    <a:pt x="4051" y="0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1419120" y="3411360"/>
              <a:ext cx="86760" cy="124200"/>
            </a:xfrm>
            <a:custGeom>
              <a:avLst/>
              <a:gdLst/>
              <a:ahLst/>
              <a:rect l="l" t="t" r="r" b="b"/>
              <a:pathLst>
                <a:path w="2430" h="2316">
                  <a:moveTo>
                    <a:pt x="2314" y="579"/>
                  </a:moveTo>
                  <a:lnTo>
                    <a:pt x="2430" y="811"/>
                  </a:lnTo>
                  <a:lnTo>
                    <a:pt x="2430" y="1042"/>
                  </a:lnTo>
                  <a:lnTo>
                    <a:pt x="2430" y="1274"/>
                  </a:lnTo>
                  <a:lnTo>
                    <a:pt x="2314" y="1506"/>
                  </a:lnTo>
                  <a:lnTo>
                    <a:pt x="2199" y="1737"/>
                  </a:lnTo>
                  <a:lnTo>
                    <a:pt x="2083" y="1969"/>
                  </a:lnTo>
                  <a:lnTo>
                    <a:pt x="1851" y="2085"/>
                  </a:lnTo>
                  <a:lnTo>
                    <a:pt x="1620" y="2201"/>
                  </a:lnTo>
                  <a:lnTo>
                    <a:pt x="1620" y="2201"/>
                  </a:lnTo>
                  <a:lnTo>
                    <a:pt x="1504" y="2201"/>
                  </a:lnTo>
                  <a:lnTo>
                    <a:pt x="1388" y="2316"/>
                  </a:lnTo>
                  <a:lnTo>
                    <a:pt x="1157" y="2316"/>
                  </a:lnTo>
                  <a:lnTo>
                    <a:pt x="1041" y="2201"/>
                  </a:lnTo>
                  <a:lnTo>
                    <a:pt x="926" y="2201"/>
                  </a:lnTo>
                  <a:lnTo>
                    <a:pt x="810" y="2201"/>
                  </a:lnTo>
                  <a:lnTo>
                    <a:pt x="578" y="2085"/>
                  </a:lnTo>
                  <a:lnTo>
                    <a:pt x="463" y="2085"/>
                  </a:lnTo>
                  <a:lnTo>
                    <a:pt x="463" y="2085"/>
                  </a:lnTo>
                  <a:lnTo>
                    <a:pt x="347" y="1969"/>
                  </a:lnTo>
                  <a:lnTo>
                    <a:pt x="231" y="1737"/>
                  </a:lnTo>
                  <a:lnTo>
                    <a:pt x="115" y="1622"/>
                  </a:lnTo>
                  <a:lnTo>
                    <a:pt x="115" y="1390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578" y="232"/>
                  </a:lnTo>
                  <a:lnTo>
                    <a:pt x="810" y="116"/>
                  </a:lnTo>
                  <a:lnTo>
                    <a:pt x="1273" y="0"/>
                  </a:lnTo>
                  <a:lnTo>
                    <a:pt x="1620" y="0"/>
                  </a:lnTo>
                  <a:lnTo>
                    <a:pt x="1851" y="116"/>
                  </a:lnTo>
                  <a:lnTo>
                    <a:pt x="2199" y="232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588680" y="3442320"/>
              <a:ext cx="153000" cy="310680"/>
            </a:xfrm>
            <a:custGeom>
              <a:avLst/>
              <a:gdLst/>
              <a:ahLst/>
              <a:rect l="l" t="t" r="r" b="b"/>
              <a:pathLst>
                <a:path w="4282" h="5791">
                  <a:moveTo>
                    <a:pt x="4166" y="927"/>
                  </a:moveTo>
                  <a:lnTo>
                    <a:pt x="4282" y="1506"/>
                  </a:lnTo>
                  <a:lnTo>
                    <a:pt x="4282" y="1969"/>
                  </a:lnTo>
                  <a:lnTo>
                    <a:pt x="4282" y="2432"/>
                  </a:lnTo>
                  <a:lnTo>
                    <a:pt x="4166" y="2895"/>
                  </a:lnTo>
                  <a:lnTo>
                    <a:pt x="4050" y="3359"/>
                  </a:lnTo>
                  <a:lnTo>
                    <a:pt x="3935" y="3822"/>
                  </a:lnTo>
                  <a:lnTo>
                    <a:pt x="3703" y="4285"/>
                  </a:lnTo>
                  <a:lnTo>
                    <a:pt x="3587" y="4633"/>
                  </a:lnTo>
                  <a:lnTo>
                    <a:pt x="3587" y="4633"/>
                  </a:lnTo>
                  <a:lnTo>
                    <a:pt x="3240" y="4980"/>
                  </a:lnTo>
                  <a:lnTo>
                    <a:pt x="3009" y="5327"/>
                  </a:lnTo>
                  <a:lnTo>
                    <a:pt x="2662" y="5443"/>
                  </a:lnTo>
                  <a:lnTo>
                    <a:pt x="2199" y="5675"/>
                  </a:lnTo>
                  <a:lnTo>
                    <a:pt x="1851" y="5791"/>
                  </a:lnTo>
                  <a:lnTo>
                    <a:pt x="1504" y="5791"/>
                  </a:lnTo>
                  <a:lnTo>
                    <a:pt x="1041" y="5791"/>
                  </a:lnTo>
                  <a:lnTo>
                    <a:pt x="578" y="5791"/>
                  </a:lnTo>
                  <a:lnTo>
                    <a:pt x="578" y="5791"/>
                  </a:lnTo>
                  <a:lnTo>
                    <a:pt x="231" y="5096"/>
                  </a:lnTo>
                  <a:lnTo>
                    <a:pt x="0" y="4401"/>
                  </a:lnTo>
                  <a:lnTo>
                    <a:pt x="0" y="3706"/>
                  </a:lnTo>
                  <a:lnTo>
                    <a:pt x="0" y="3011"/>
                  </a:lnTo>
                  <a:lnTo>
                    <a:pt x="231" y="2316"/>
                  </a:lnTo>
                  <a:lnTo>
                    <a:pt x="463" y="1622"/>
                  </a:lnTo>
                  <a:lnTo>
                    <a:pt x="810" y="927"/>
                  </a:lnTo>
                  <a:lnTo>
                    <a:pt x="1157" y="348"/>
                  </a:lnTo>
                  <a:lnTo>
                    <a:pt x="1157" y="348"/>
                  </a:lnTo>
                  <a:lnTo>
                    <a:pt x="1389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0"/>
                  </a:lnTo>
                  <a:lnTo>
                    <a:pt x="2314" y="0"/>
                  </a:lnTo>
                  <a:lnTo>
                    <a:pt x="2662" y="0"/>
                  </a:lnTo>
                  <a:lnTo>
                    <a:pt x="2893" y="116"/>
                  </a:lnTo>
                  <a:lnTo>
                    <a:pt x="3124" y="116"/>
                  </a:lnTo>
                  <a:lnTo>
                    <a:pt x="3124" y="116"/>
                  </a:lnTo>
                  <a:lnTo>
                    <a:pt x="3240" y="232"/>
                  </a:lnTo>
                  <a:lnTo>
                    <a:pt x="3472" y="232"/>
                  </a:lnTo>
                  <a:lnTo>
                    <a:pt x="3587" y="348"/>
                  </a:lnTo>
                  <a:lnTo>
                    <a:pt x="3703" y="463"/>
                  </a:lnTo>
                  <a:lnTo>
                    <a:pt x="3819" y="579"/>
                  </a:lnTo>
                  <a:lnTo>
                    <a:pt x="3935" y="695"/>
                  </a:lnTo>
                  <a:lnTo>
                    <a:pt x="4050" y="811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1460520" y="3454920"/>
              <a:ext cx="20520" cy="30960"/>
            </a:xfrm>
            <a:custGeom>
              <a:avLst/>
              <a:gdLst/>
              <a:ahLst/>
              <a:rect l="l" t="t" r="r" b="b"/>
              <a:pathLst>
                <a:path w="579" h="579">
                  <a:moveTo>
                    <a:pt x="463" y="579"/>
                  </a:moveTo>
                  <a:lnTo>
                    <a:pt x="463" y="579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116" y="347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116"/>
                  </a:lnTo>
                  <a:lnTo>
                    <a:pt x="579" y="116"/>
                  </a:lnTo>
                  <a:lnTo>
                    <a:pt x="579" y="231"/>
                  </a:lnTo>
                  <a:lnTo>
                    <a:pt x="579" y="347"/>
                  </a:lnTo>
                  <a:lnTo>
                    <a:pt x="579" y="463"/>
                  </a:lnTo>
                  <a:lnTo>
                    <a:pt x="579" y="463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1617840" y="3479760"/>
              <a:ext cx="65880" cy="99360"/>
            </a:xfrm>
            <a:custGeom>
              <a:avLst/>
              <a:gdLst/>
              <a:ahLst/>
              <a:rect l="l" t="t" r="r" b="b"/>
              <a:pathLst>
                <a:path w="1852" h="1853">
                  <a:moveTo>
                    <a:pt x="1852" y="579"/>
                  </a:moveTo>
                  <a:lnTo>
                    <a:pt x="1852" y="811"/>
                  </a:lnTo>
                  <a:lnTo>
                    <a:pt x="1852" y="927"/>
                  </a:lnTo>
                  <a:lnTo>
                    <a:pt x="1736" y="1158"/>
                  </a:lnTo>
                  <a:lnTo>
                    <a:pt x="1736" y="1390"/>
                  </a:lnTo>
                  <a:lnTo>
                    <a:pt x="1620" y="1506"/>
                  </a:lnTo>
                  <a:lnTo>
                    <a:pt x="1389" y="1621"/>
                  </a:lnTo>
                  <a:lnTo>
                    <a:pt x="1273" y="1737"/>
                  </a:lnTo>
                  <a:lnTo>
                    <a:pt x="1041" y="1853"/>
                  </a:lnTo>
                  <a:lnTo>
                    <a:pt x="1041" y="1853"/>
                  </a:lnTo>
                  <a:lnTo>
                    <a:pt x="926" y="1853"/>
                  </a:lnTo>
                  <a:lnTo>
                    <a:pt x="694" y="1853"/>
                  </a:lnTo>
                  <a:lnTo>
                    <a:pt x="579" y="1737"/>
                  </a:lnTo>
                  <a:lnTo>
                    <a:pt x="463" y="1737"/>
                  </a:lnTo>
                  <a:lnTo>
                    <a:pt x="347" y="1621"/>
                  </a:lnTo>
                  <a:lnTo>
                    <a:pt x="231" y="1506"/>
                  </a:lnTo>
                  <a:lnTo>
                    <a:pt x="116" y="1390"/>
                  </a:lnTo>
                  <a:lnTo>
                    <a:pt x="0" y="1274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927"/>
                  </a:lnTo>
                  <a:lnTo>
                    <a:pt x="0" y="811"/>
                  </a:lnTo>
                  <a:lnTo>
                    <a:pt x="0" y="695"/>
                  </a:lnTo>
                  <a:lnTo>
                    <a:pt x="0" y="463"/>
                  </a:lnTo>
                  <a:lnTo>
                    <a:pt x="116" y="348"/>
                  </a:lnTo>
                  <a:lnTo>
                    <a:pt x="116" y="232"/>
                  </a:lnTo>
                  <a:lnTo>
                    <a:pt x="231" y="116"/>
                  </a:lnTo>
                  <a:lnTo>
                    <a:pt x="231" y="116"/>
                  </a:lnTo>
                  <a:lnTo>
                    <a:pt x="463" y="0"/>
                  </a:lnTo>
                  <a:lnTo>
                    <a:pt x="694" y="0"/>
                  </a:lnTo>
                  <a:lnTo>
                    <a:pt x="926" y="0"/>
                  </a:lnTo>
                  <a:lnTo>
                    <a:pt x="1157" y="0"/>
                  </a:lnTo>
                  <a:lnTo>
                    <a:pt x="1389" y="0"/>
                  </a:lnTo>
                  <a:lnTo>
                    <a:pt x="1620" y="116"/>
                  </a:lnTo>
                  <a:lnTo>
                    <a:pt x="1736" y="348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1646640" y="3510720"/>
              <a:ext cx="20520" cy="37080"/>
            </a:xfrm>
            <a:custGeom>
              <a:avLst/>
              <a:gdLst/>
              <a:ahLst/>
              <a:rect l="l" t="t" r="r" b="b"/>
              <a:pathLst>
                <a:path w="579" h="695">
                  <a:moveTo>
                    <a:pt x="463" y="116"/>
                  </a:moveTo>
                  <a:lnTo>
                    <a:pt x="463" y="116"/>
                  </a:lnTo>
                  <a:lnTo>
                    <a:pt x="579" y="232"/>
                  </a:lnTo>
                  <a:lnTo>
                    <a:pt x="463" y="348"/>
                  </a:lnTo>
                  <a:lnTo>
                    <a:pt x="463" y="463"/>
                  </a:lnTo>
                  <a:lnTo>
                    <a:pt x="463" y="463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695"/>
                  </a:lnTo>
                  <a:lnTo>
                    <a:pt x="231" y="695"/>
                  </a:lnTo>
                  <a:lnTo>
                    <a:pt x="116" y="695"/>
                  </a:lnTo>
                  <a:lnTo>
                    <a:pt x="116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231" y="116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220400" y="3784320"/>
              <a:ext cx="57600" cy="37080"/>
            </a:xfrm>
            <a:custGeom>
              <a:avLst/>
              <a:gdLst/>
              <a:ahLst/>
              <a:rect l="l" t="t" r="r" b="b"/>
              <a:pathLst>
                <a:path w="1620" h="695">
                  <a:moveTo>
                    <a:pt x="1620" y="116"/>
                  </a:moveTo>
                  <a:lnTo>
                    <a:pt x="1388" y="116"/>
                  </a:lnTo>
                  <a:lnTo>
                    <a:pt x="1157" y="116"/>
                  </a:lnTo>
                  <a:lnTo>
                    <a:pt x="1041" y="231"/>
                  </a:lnTo>
                  <a:lnTo>
                    <a:pt x="810" y="347"/>
                  </a:lnTo>
                  <a:lnTo>
                    <a:pt x="578" y="347"/>
                  </a:lnTo>
                  <a:lnTo>
                    <a:pt x="462" y="463"/>
                  </a:lnTo>
                  <a:lnTo>
                    <a:pt x="347" y="579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0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115" y="347"/>
                  </a:lnTo>
                  <a:lnTo>
                    <a:pt x="115" y="347"/>
                  </a:lnTo>
                  <a:lnTo>
                    <a:pt x="231" y="231"/>
                  </a:lnTo>
                  <a:lnTo>
                    <a:pt x="462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0"/>
                  </a:lnTo>
                  <a:lnTo>
                    <a:pt x="1157" y="0"/>
                  </a:lnTo>
                  <a:lnTo>
                    <a:pt x="1388" y="0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1207800" y="3827880"/>
              <a:ext cx="517320" cy="173880"/>
            </a:xfrm>
            <a:custGeom>
              <a:avLst/>
              <a:gdLst/>
              <a:ahLst/>
              <a:rect l="l" t="t" r="r" b="b"/>
              <a:pathLst>
                <a:path w="14467" h="3243">
                  <a:moveTo>
                    <a:pt x="3820" y="232"/>
                  </a:moveTo>
                  <a:lnTo>
                    <a:pt x="3704" y="232"/>
                  </a:lnTo>
                  <a:lnTo>
                    <a:pt x="3472" y="232"/>
                  </a:lnTo>
                  <a:lnTo>
                    <a:pt x="3357" y="232"/>
                  </a:lnTo>
                  <a:lnTo>
                    <a:pt x="3125" y="232"/>
                  </a:lnTo>
                  <a:lnTo>
                    <a:pt x="3009" y="348"/>
                  </a:lnTo>
                  <a:lnTo>
                    <a:pt x="2778" y="348"/>
                  </a:lnTo>
                  <a:lnTo>
                    <a:pt x="2662" y="348"/>
                  </a:lnTo>
                  <a:lnTo>
                    <a:pt x="2431" y="464"/>
                  </a:lnTo>
                  <a:lnTo>
                    <a:pt x="2431" y="464"/>
                  </a:lnTo>
                  <a:lnTo>
                    <a:pt x="2431" y="695"/>
                  </a:lnTo>
                  <a:lnTo>
                    <a:pt x="2431" y="695"/>
                  </a:lnTo>
                  <a:lnTo>
                    <a:pt x="2894" y="1159"/>
                  </a:lnTo>
                  <a:lnTo>
                    <a:pt x="3472" y="1622"/>
                  </a:lnTo>
                  <a:lnTo>
                    <a:pt x="4051" y="1853"/>
                  </a:lnTo>
                  <a:lnTo>
                    <a:pt x="4745" y="2085"/>
                  </a:lnTo>
                  <a:lnTo>
                    <a:pt x="5440" y="2201"/>
                  </a:lnTo>
                  <a:lnTo>
                    <a:pt x="6018" y="2432"/>
                  </a:lnTo>
                  <a:lnTo>
                    <a:pt x="6713" y="2548"/>
                  </a:lnTo>
                  <a:lnTo>
                    <a:pt x="7291" y="2780"/>
                  </a:lnTo>
                  <a:lnTo>
                    <a:pt x="7291" y="2780"/>
                  </a:lnTo>
                  <a:lnTo>
                    <a:pt x="7639" y="2780"/>
                  </a:lnTo>
                  <a:lnTo>
                    <a:pt x="7986" y="2780"/>
                  </a:lnTo>
                  <a:lnTo>
                    <a:pt x="8333" y="2780"/>
                  </a:lnTo>
                  <a:lnTo>
                    <a:pt x="8680" y="2664"/>
                  </a:lnTo>
                  <a:lnTo>
                    <a:pt x="9027" y="2664"/>
                  </a:lnTo>
                  <a:lnTo>
                    <a:pt x="9375" y="2548"/>
                  </a:lnTo>
                  <a:lnTo>
                    <a:pt x="9722" y="2432"/>
                  </a:lnTo>
                  <a:lnTo>
                    <a:pt x="10069" y="2317"/>
                  </a:lnTo>
                  <a:lnTo>
                    <a:pt x="10069" y="2317"/>
                  </a:lnTo>
                  <a:lnTo>
                    <a:pt x="10185" y="2317"/>
                  </a:lnTo>
                  <a:lnTo>
                    <a:pt x="10185" y="2317"/>
                  </a:lnTo>
                  <a:lnTo>
                    <a:pt x="10301" y="2317"/>
                  </a:lnTo>
                  <a:lnTo>
                    <a:pt x="10416" y="2317"/>
                  </a:lnTo>
                  <a:lnTo>
                    <a:pt x="10532" y="2317"/>
                  </a:lnTo>
                  <a:lnTo>
                    <a:pt x="10648" y="2201"/>
                  </a:lnTo>
                  <a:lnTo>
                    <a:pt x="10763" y="2201"/>
                  </a:lnTo>
                  <a:lnTo>
                    <a:pt x="10763" y="2085"/>
                  </a:lnTo>
                  <a:lnTo>
                    <a:pt x="10763" y="2085"/>
                  </a:lnTo>
                  <a:lnTo>
                    <a:pt x="10879" y="2201"/>
                  </a:lnTo>
                  <a:lnTo>
                    <a:pt x="10879" y="2201"/>
                  </a:lnTo>
                  <a:lnTo>
                    <a:pt x="11226" y="1969"/>
                  </a:lnTo>
                  <a:lnTo>
                    <a:pt x="11574" y="1853"/>
                  </a:lnTo>
                  <a:lnTo>
                    <a:pt x="11921" y="1738"/>
                  </a:lnTo>
                  <a:lnTo>
                    <a:pt x="12268" y="1622"/>
                  </a:lnTo>
                  <a:lnTo>
                    <a:pt x="12615" y="1506"/>
                  </a:lnTo>
                  <a:lnTo>
                    <a:pt x="12962" y="1506"/>
                  </a:lnTo>
                  <a:lnTo>
                    <a:pt x="13310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888" y="1390"/>
                  </a:lnTo>
                  <a:lnTo>
                    <a:pt x="14004" y="1390"/>
                  </a:lnTo>
                  <a:lnTo>
                    <a:pt x="14120" y="1274"/>
                  </a:lnTo>
                  <a:lnTo>
                    <a:pt x="14120" y="1159"/>
                  </a:lnTo>
                  <a:lnTo>
                    <a:pt x="14235" y="1159"/>
                  </a:lnTo>
                  <a:lnTo>
                    <a:pt x="14351" y="1159"/>
                  </a:lnTo>
                  <a:lnTo>
                    <a:pt x="14467" y="1159"/>
                  </a:lnTo>
                  <a:lnTo>
                    <a:pt x="14467" y="1159"/>
                  </a:lnTo>
                  <a:lnTo>
                    <a:pt x="14467" y="1274"/>
                  </a:lnTo>
                  <a:lnTo>
                    <a:pt x="14351" y="1390"/>
                  </a:lnTo>
                  <a:lnTo>
                    <a:pt x="14351" y="1506"/>
                  </a:lnTo>
                  <a:lnTo>
                    <a:pt x="14235" y="1622"/>
                  </a:lnTo>
                  <a:lnTo>
                    <a:pt x="14120" y="1738"/>
                  </a:lnTo>
                  <a:lnTo>
                    <a:pt x="14004" y="1853"/>
                  </a:lnTo>
                  <a:lnTo>
                    <a:pt x="13888" y="1853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2962" y="1969"/>
                  </a:lnTo>
                  <a:lnTo>
                    <a:pt x="12152" y="2085"/>
                  </a:lnTo>
                  <a:lnTo>
                    <a:pt x="11458" y="2317"/>
                  </a:lnTo>
                  <a:lnTo>
                    <a:pt x="10648" y="2548"/>
                  </a:lnTo>
                  <a:lnTo>
                    <a:pt x="9953" y="2780"/>
                  </a:lnTo>
                  <a:lnTo>
                    <a:pt x="9143" y="3011"/>
                  </a:lnTo>
                  <a:lnTo>
                    <a:pt x="8333" y="3127"/>
                  </a:lnTo>
                  <a:lnTo>
                    <a:pt x="7523" y="3243"/>
                  </a:lnTo>
                  <a:lnTo>
                    <a:pt x="7523" y="3243"/>
                  </a:lnTo>
                  <a:lnTo>
                    <a:pt x="6713" y="3011"/>
                  </a:lnTo>
                  <a:lnTo>
                    <a:pt x="6018" y="2896"/>
                  </a:lnTo>
                  <a:lnTo>
                    <a:pt x="5208" y="2664"/>
                  </a:lnTo>
                  <a:lnTo>
                    <a:pt x="4514" y="2432"/>
                  </a:lnTo>
                  <a:lnTo>
                    <a:pt x="3704" y="2201"/>
                  </a:lnTo>
                  <a:lnTo>
                    <a:pt x="3125" y="1738"/>
                  </a:lnTo>
                  <a:lnTo>
                    <a:pt x="2431" y="1274"/>
                  </a:lnTo>
                  <a:lnTo>
                    <a:pt x="1968" y="695"/>
                  </a:lnTo>
                  <a:lnTo>
                    <a:pt x="1968" y="695"/>
                  </a:lnTo>
                  <a:lnTo>
                    <a:pt x="1736" y="811"/>
                  </a:lnTo>
                  <a:lnTo>
                    <a:pt x="1505" y="927"/>
                  </a:lnTo>
                  <a:lnTo>
                    <a:pt x="1273" y="1043"/>
                  </a:lnTo>
                  <a:lnTo>
                    <a:pt x="1042" y="1159"/>
                  </a:lnTo>
                  <a:lnTo>
                    <a:pt x="810" y="1274"/>
                  </a:lnTo>
                  <a:lnTo>
                    <a:pt x="579" y="1506"/>
                  </a:lnTo>
                  <a:lnTo>
                    <a:pt x="463" y="1622"/>
                  </a:lnTo>
                  <a:lnTo>
                    <a:pt x="348" y="1853"/>
                  </a:lnTo>
                  <a:lnTo>
                    <a:pt x="348" y="1853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116" y="1390"/>
                  </a:lnTo>
                  <a:lnTo>
                    <a:pt x="348" y="1159"/>
                  </a:lnTo>
                  <a:lnTo>
                    <a:pt x="463" y="927"/>
                  </a:lnTo>
                  <a:lnTo>
                    <a:pt x="810" y="811"/>
                  </a:lnTo>
                  <a:lnTo>
                    <a:pt x="1042" y="695"/>
                  </a:lnTo>
                  <a:lnTo>
                    <a:pt x="1273" y="579"/>
                  </a:lnTo>
                  <a:lnTo>
                    <a:pt x="1621" y="348"/>
                  </a:lnTo>
                  <a:lnTo>
                    <a:pt x="1852" y="232"/>
                  </a:lnTo>
                  <a:lnTo>
                    <a:pt x="1852" y="232"/>
                  </a:lnTo>
                  <a:lnTo>
                    <a:pt x="2084" y="116"/>
                  </a:lnTo>
                  <a:lnTo>
                    <a:pt x="2315" y="116"/>
                  </a:lnTo>
                  <a:lnTo>
                    <a:pt x="2546" y="0"/>
                  </a:lnTo>
                  <a:lnTo>
                    <a:pt x="2778" y="0"/>
                  </a:lnTo>
                  <a:lnTo>
                    <a:pt x="3125" y="0"/>
                  </a:lnTo>
                  <a:lnTo>
                    <a:pt x="3357" y="116"/>
                  </a:lnTo>
                  <a:lnTo>
                    <a:pt x="3588" y="116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2213640" y="3927600"/>
              <a:ext cx="343440" cy="298440"/>
            </a:xfrm>
            <a:custGeom>
              <a:avLst/>
              <a:gdLst/>
              <a:ahLst/>
              <a:rect l="l" t="t" r="r" b="b"/>
              <a:pathLst>
                <a:path w="9606" h="5559">
                  <a:moveTo>
                    <a:pt x="9606" y="695"/>
                  </a:moveTo>
                  <a:lnTo>
                    <a:pt x="9606" y="811"/>
                  </a:lnTo>
                  <a:lnTo>
                    <a:pt x="9606" y="811"/>
                  </a:lnTo>
                  <a:lnTo>
                    <a:pt x="9490" y="811"/>
                  </a:lnTo>
                  <a:lnTo>
                    <a:pt x="9375" y="811"/>
                  </a:lnTo>
                  <a:lnTo>
                    <a:pt x="9259" y="811"/>
                  </a:lnTo>
                  <a:lnTo>
                    <a:pt x="9143" y="811"/>
                  </a:lnTo>
                  <a:lnTo>
                    <a:pt x="9027" y="811"/>
                  </a:lnTo>
                  <a:lnTo>
                    <a:pt x="8912" y="927"/>
                  </a:lnTo>
                  <a:lnTo>
                    <a:pt x="8796" y="927"/>
                  </a:lnTo>
                  <a:lnTo>
                    <a:pt x="8680" y="1043"/>
                  </a:lnTo>
                  <a:lnTo>
                    <a:pt x="8680" y="1043"/>
                  </a:lnTo>
                  <a:lnTo>
                    <a:pt x="8912" y="1158"/>
                  </a:lnTo>
                  <a:lnTo>
                    <a:pt x="8912" y="1158"/>
                  </a:lnTo>
                  <a:lnTo>
                    <a:pt x="8680" y="1158"/>
                  </a:lnTo>
                  <a:lnTo>
                    <a:pt x="8564" y="1274"/>
                  </a:lnTo>
                  <a:lnTo>
                    <a:pt x="8333" y="1274"/>
                  </a:lnTo>
                  <a:lnTo>
                    <a:pt x="8102" y="1274"/>
                  </a:lnTo>
                  <a:lnTo>
                    <a:pt x="7986" y="1390"/>
                  </a:lnTo>
                  <a:lnTo>
                    <a:pt x="7754" y="1390"/>
                  </a:lnTo>
                  <a:lnTo>
                    <a:pt x="7639" y="1506"/>
                  </a:lnTo>
                  <a:lnTo>
                    <a:pt x="7407" y="1622"/>
                  </a:lnTo>
                  <a:lnTo>
                    <a:pt x="7407" y="1622"/>
                  </a:lnTo>
                  <a:lnTo>
                    <a:pt x="7639" y="1622"/>
                  </a:lnTo>
                  <a:lnTo>
                    <a:pt x="7754" y="1622"/>
                  </a:lnTo>
                  <a:lnTo>
                    <a:pt x="7870" y="1738"/>
                  </a:lnTo>
                  <a:lnTo>
                    <a:pt x="7986" y="1738"/>
                  </a:lnTo>
                  <a:lnTo>
                    <a:pt x="8102" y="1738"/>
                  </a:lnTo>
                  <a:lnTo>
                    <a:pt x="8217" y="1853"/>
                  </a:lnTo>
                  <a:lnTo>
                    <a:pt x="8333" y="1853"/>
                  </a:lnTo>
                  <a:lnTo>
                    <a:pt x="8564" y="1853"/>
                  </a:lnTo>
                  <a:lnTo>
                    <a:pt x="8564" y="1853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680" y="2085"/>
                  </a:lnTo>
                  <a:lnTo>
                    <a:pt x="8680" y="2085"/>
                  </a:lnTo>
                  <a:lnTo>
                    <a:pt x="8796" y="1969"/>
                  </a:lnTo>
                  <a:lnTo>
                    <a:pt x="8796" y="1969"/>
                  </a:lnTo>
                  <a:lnTo>
                    <a:pt x="8912" y="1969"/>
                  </a:lnTo>
                  <a:lnTo>
                    <a:pt x="8912" y="1969"/>
                  </a:lnTo>
                  <a:lnTo>
                    <a:pt x="9027" y="1969"/>
                  </a:lnTo>
                  <a:lnTo>
                    <a:pt x="9027" y="1969"/>
                  </a:lnTo>
                  <a:lnTo>
                    <a:pt x="8796" y="2085"/>
                  </a:lnTo>
                  <a:lnTo>
                    <a:pt x="8680" y="2085"/>
                  </a:lnTo>
                  <a:lnTo>
                    <a:pt x="8449" y="2201"/>
                  </a:lnTo>
                  <a:lnTo>
                    <a:pt x="8333" y="2317"/>
                  </a:lnTo>
                  <a:lnTo>
                    <a:pt x="8102" y="2317"/>
                  </a:lnTo>
                  <a:lnTo>
                    <a:pt x="7986" y="2432"/>
                  </a:lnTo>
                  <a:lnTo>
                    <a:pt x="7754" y="2664"/>
                  </a:lnTo>
                  <a:lnTo>
                    <a:pt x="7639" y="2780"/>
                  </a:lnTo>
                  <a:lnTo>
                    <a:pt x="7639" y="2780"/>
                  </a:lnTo>
                  <a:lnTo>
                    <a:pt x="7870" y="2780"/>
                  </a:lnTo>
                  <a:lnTo>
                    <a:pt x="8102" y="2780"/>
                  </a:lnTo>
                  <a:lnTo>
                    <a:pt x="8333" y="2780"/>
                  </a:lnTo>
                  <a:lnTo>
                    <a:pt x="8564" y="2664"/>
                  </a:lnTo>
                  <a:lnTo>
                    <a:pt x="8796" y="2548"/>
                  </a:lnTo>
                  <a:lnTo>
                    <a:pt x="9027" y="2548"/>
                  </a:lnTo>
                  <a:lnTo>
                    <a:pt x="9259" y="2432"/>
                  </a:lnTo>
                  <a:lnTo>
                    <a:pt x="9490" y="2432"/>
                  </a:lnTo>
                  <a:lnTo>
                    <a:pt x="9490" y="2432"/>
                  </a:lnTo>
                  <a:lnTo>
                    <a:pt x="8564" y="2896"/>
                  </a:lnTo>
                  <a:lnTo>
                    <a:pt x="7754" y="3243"/>
                  </a:lnTo>
                  <a:lnTo>
                    <a:pt x="6828" y="3590"/>
                  </a:lnTo>
                  <a:lnTo>
                    <a:pt x="6018" y="3938"/>
                  </a:lnTo>
                  <a:lnTo>
                    <a:pt x="5092" y="4401"/>
                  </a:lnTo>
                  <a:lnTo>
                    <a:pt x="4282" y="4749"/>
                  </a:lnTo>
                  <a:lnTo>
                    <a:pt x="3357" y="5096"/>
                  </a:lnTo>
                  <a:lnTo>
                    <a:pt x="2546" y="5559"/>
                  </a:lnTo>
                  <a:lnTo>
                    <a:pt x="2546" y="5559"/>
                  </a:lnTo>
                  <a:lnTo>
                    <a:pt x="2431" y="5443"/>
                  </a:lnTo>
                  <a:lnTo>
                    <a:pt x="2199" y="5328"/>
                  </a:lnTo>
                  <a:lnTo>
                    <a:pt x="1968" y="5212"/>
                  </a:lnTo>
                  <a:lnTo>
                    <a:pt x="1736" y="5212"/>
                  </a:lnTo>
                  <a:lnTo>
                    <a:pt x="1505" y="5096"/>
                  </a:lnTo>
                  <a:lnTo>
                    <a:pt x="1389" y="4980"/>
                  </a:lnTo>
                  <a:lnTo>
                    <a:pt x="1273" y="4864"/>
                  </a:lnTo>
                  <a:lnTo>
                    <a:pt x="1273" y="4517"/>
                  </a:lnTo>
                  <a:lnTo>
                    <a:pt x="1273" y="4517"/>
                  </a:lnTo>
                  <a:lnTo>
                    <a:pt x="1389" y="4401"/>
                  </a:lnTo>
                  <a:lnTo>
                    <a:pt x="1505" y="4170"/>
                  </a:lnTo>
                  <a:lnTo>
                    <a:pt x="1621" y="4054"/>
                  </a:lnTo>
                  <a:lnTo>
                    <a:pt x="1852" y="3822"/>
                  </a:lnTo>
                  <a:lnTo>
                    <a:pt x="1968" y="3706"/>
                  </a:lnTo>
                  <a:lnTo>
                    <a:pt x="2083" y="3590"/>
                  </a:lnTo>
                  <a:lnTo>
                    <a:pt x="2199" y="3359"/>
                  </a:lnTo>
                  <a:lnTo>
                    <a:pt x="2315" y="3243"/>
                  </a:lnTo>
                  <a:lnTo>
                    <a:pt x="2315" y="3243"/>
                  </a:lnTo>
                  <a:lnTo>
                    <a:pt x="2083" y="3011"/>
                  </a:lnTo>
                  <a:lnTo>
                    <a:pt x="1621" y="2896"/>
                  </a:lnTo>
                  <a:lnTo>
                    <a:pt x="1273" y="2896"/>
                  </a:lnTo>
                  <a:lnTo>
                    <a:pt x="810" y="2896"/>
                  </a:lnTo>
                  <a:lnTo>
                    <a:pt x="347" y="2780"/>
                  </a:lnTo>
                  <a:lnTo>
                    <a:pt x="116" y="2664"/>
                  </a:lnTo>
                  <a:lnTo>
                    <a:pt x="0" y="2317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810" y="1274"/>
                  </a:lnTo>
                  <a:lnTo>
                    <a:pt x="1736" y="811"/>
                  </a:lnTo>
                  <a:lnTo>
                    <a:pt x="2662" y="464"/>
                  </a:lnTo>
                  <a:lnTo>
                    <a:pt x="3588" y="232"/>
                  </a:lnTo>
                  <a:lnTo>
                    <a:pt x="4630" y="0"/>
                  </a:lnTo>
                  <a:lnTo>
                    <a:pt x="5555" y="0"/>
                  </a:lnTo>
                  <a:lnTo>
                    <a:pt x="6597" y="116"/>
                  </a:lnTo>
                  <a:lnTo>
                    <a:pt x="7639" y="348"/>
                  </a:lnTo>
                  <a:lnTo>
                    <a:pt x="7639" y="348"/>
                  </a:lnTo>
                  <a:lnTo>
                    <a:pt x="7870" y="464"/>
                  </a:lnTo>
                  <a:lnTo>
                    <a:pt x="8102" y="464"/>
                  </a:lnTo>
                  <a:lnTo>
                    <a:pt x="8333" y="464"/>
                  </a:lnTo>
                  <a:lnTo>
                    <a:pt x="8564" y="464"/>
                  </a:lnTo>
                  <a:lnTo>
                    <a:pt x="8796" y="579"/>
                  </a:lnTo>
                  <a:lnTo>
                    <a:pt x="9143" y="579"/>
                  </a:lnTo>
                  <a:lnTo>
                    <a:pt x="9375" y="579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1042560" y="3964680"/>
              <a:ext cx="1208160" cy="466200"/>
            </a:xfrm>
            <a:custGeom>
              <a:avLst/>
              <a:gdLst/>
              <a:ahLst/>
              <a:rect l="l" t="t" r="r" b="b"/>
              <a:pathLst>
                <a:path w="33794" h="8686">
                  <a:moveTo>
                    <a:pt x="-31742" y="0"/>
                  </a:moveTo>
                  <a:lnTo>
                    <a:pt x="-31974" y="116"/>
                  </a:lnTo>
                  <a:lnTo>
                    <a:pt x="-32205" y="348"/>
                  </a:lnTo>
                  <a:lnTo>
                    <a:pt x="-32437" y="463"/>
                  </a:lnTo>
                  <a:lnTo>
                    <a:pt x="-32668" y="579"/>
                  </a:lnTo>
                  <a:lnTo>
                    <a:pt x="32637" y="811"/>
                  </a:lnTo>
                  <a:lnTo>
                    <a:pt x="32521" y="927"/>
                  </a:lnTo>
                  <a:lnTo>
                    <a:pt x="32289" y="1158"/>
                  </a:lnTo>
                  <a:lnTo>
                    <a:pt x="32174" y="1390"/>
                  </a:lnTo>
                  <a:lnTo>
                    <a:pt x="32174" y="1390"/>
                  </a:lnTo>
                  <a:lnTo>
                    <a:pt x="32289" y="1506"/>
                  </a:lnTo>
                  <a:lnTo>
                    <a:pt x="32289" y="1737"/>
                  </a:lnTo>
                  <a:lnTo>
                    <a:pt x="32405" y="1853"/>
                  </a:lnTo>
                  <a:lnTo>
                    <a:pt x="32405" y="1969"/>
                  </a:lnTo>
                  <a:lnTo>
                    <a:pt x="32521" y="2085"/>
                  </a:lnTo>
                  <a:lnTo>
                    <a:pt x="32637" y="2201"/>
                  </a:lnTo>
                  <a:lnTo>
                    <a:pt x="32752" y="2316"/>
                  </a:lnTo>
                  <a:lnTo>
                    <a:pt x="-32668" y="2432"/>
                  </a:lnTo>
                  <a:lnTo>
                    <a:pt x="-32668" y="2432"/>
                  </a:lnTo>
                  <a:lnTo>
                    <a:pt x="29628" y="3011"/>
                  </a:lnTo>
                  <a:lnTo>
                    <a:pt x="26271" y="3590"/>
                  </a:lnTo>
                  <a:lnTo>
                    <a:pt x="23031" y="4169"/>
                  </a:lnTo>
                  <a:lnTo>
                    <a:pt x="19790" y="4864"/>
                  </a:lnTo>
                  <a:lnTo>
                    <a:pt x="16550" y="5443"/>
                  </a:lnTo>
                  <a:lnTo>
                    <a:pt x="13309" y="6138"/>
                  </a:lnTo>
                  <a:lnTo>
                    <a:pt x="10069" y="6833"/>
                  </a:lnTo>
                  <a:lnTo>
                    <a:pt x="6713" y="7644"/>
                  </a:lnTo>
                  <a:lnTo>
                    <a:pt x="6713" y="7644"/>
                  </a:lnTo>
                  <a:lnTo>
                    <a:pt x="0" y="8686"/>
                  </a:lnTo>
                  <a:lnTo>
                    <a:pt x="0" y="8686"/>
                  </a:lnTo>
                  <a:lnTo>
                    <a:pt x="0" y="8454"/>
                  </a:lnTo>
                  <a:lnTo>
                    <a:pt x="0" y="8223"/>
                  </a:lnTo>
                  <a:lnTo>
                    <a:pt x="0" y="7991"/>
                  </a:lnTo>
                  <a:lnTo>
                    <a:pt x="0" y="7760"/>
                  </a:lnTo>
                  <a:lnTo>
                    <a:pt x="116" y="7528"/>
                  </a:lnTo>
                  <a:lnTo>
                    <a:pt x="116" y="7296"/>
                  </a:lnTo>
                  <a:lnTo>
                    <a:pt x="232" y="7065"/>
                  </a:lnTo>
                  <a:lnTo>
                    <a:pt x="232" y="6833"/>
                  </a:lnTo>
                  <a:lnTo>
                    <a:pt x="232" y="6833"/>
                  </a:lnTo>
                  <a:lnTo>
                    <a:pt x="694" y="6486"/>
                  </a:lnTo>
                  <a:lnTo>
                    <a:pt x="694" y="6486"/>
                  </a:lnTo>
                  <a:lnTo>
                    <a:pt x="2662" y="6138"/>
                  </a:lnTo>
                  <a:lnTo>
                    <a:pt x="4745" y="5791"/>
                  </a:lnTo>
                  <a:lnTo>
                    <a:pt x="6713" y="5327"/>
                  </a:lnTo>
                  <a:lnTo>
                    <a:pt x="8796" y="4980"/>
                  </a:lnTo>
                  <a:lnTo>
                    <a:pt x="10879" y="4633"/>
                  </a:lnTo>
                  <a:lnTo>
                    <a:pt x="12962" y="4169"/>
                  </a:lnTo>
                  <a:lnTo>
                    <a:pt x="14930" y="3706"/>
                  </a:lnTo>
                  <a:lnTo>
                    <a:pt x="17013" y="3243"/>
                  </a:lnTo>
                  <a:lnTo>
                    <a:pt x="17013" y="3243"/>
                  </a:lnTo>
                  <a:lnTo>
                    <a:pt x="30553" y="579"/>
                  </a:lnTo>
                  <a:lnTo>
                    <a:pt x="30553" y="579"/>
                  </a:lnTo>
                  <a:lnTo>
                    <a:pt x="31016" y="463"/>
                  </a:lnTo>
                  <a:lnTo>
                    <a:pt x="31363" y="463"/>
                  </a:lnTo>
                  <a:lnTo>
                    <a:pt x="31826" y="348"/>
                  </a:lnTo>
                  <a:lnTo>
                    <a:pt x="32174" y="232"/>
                  </a:lnTo>
                  <a:lnTo>
                    <a:pt x="32521" y="232"/>
                  </a:lnTo>
                  <a:lnTo>
                    <a:pt x="-32552" y="116"/>
                  </a:lnTo>
                  <a:lnTo>
                    <a:pt x="-32205" y="116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827280" y="4045680"/>
              <a:ext cx="169560" cy="204840"/>
            </a:xfrm>
            <a:custGeom>
              <a:avLst/>
              <a:gdLst/>
              <a:ahLst/>
              <a:rect l="l" t="t" r="r" b="b"/>
              <a:pathLst>
                <a:path w="4745" h="3821">
                  <a:moveTo>
                    <a:pt x="4745" y="695"/>
                  </a:moveTo>
                  <a:lnTo>
                    <a:pt x="4514" y="2895"/>
                  </a:lnTo>
                  <a:lnTo>
                    <a:pt x="4514" y="2895"/>
                  </a:lnTo>
                  <a:lnTo>
                    <a:pt x="4282" y="3011"/>
                  </a:lnTo>
                  <a:lnTo>
                    <a:pt x="4051" y="3242"/>
                  </a:lnTo>
                  <a:lnTo>
                    <a:pt x="3819" y="3474"/>
                  </a:lnTo>
                  <a:lnTo>
                    <a:pt x="3588" y="3590"/>
                  </a:lnTo>
                  <a:lnTo>
                    <a:pt x="3356" y="3706"/>
                  </a:lnTo>
                  <a:lnTo>
                    <a:pt x="3125" y="3821"/>
                  </a:lnTo>
                  <a:lnTo>
                    <a:pt x="2893" y="3706"/>
                  </a:lnTo>
                  <a:lnTo>
                    <a:pt x="2662" y="3358"/>
                  </a:lnTo>
                  <a:lnTo>
                    <a:pt x="2662" y="3358"/>
                  </a:lnTo>
                  <a:lnTo>
                    <a:pt x="2430" y="3358"/>
                  </a:lnTo>
                  <a:lnTo>
                    <a:pt x="2315" y="3358"/>
                  </a:lnTo>
                  <a:lnTo>
                    <a:pt x="2199" y="3474"/>
                  </a:lnTo>
                  <a:lnTo>
                    <a:pt x="1967" y="3474"/>
                  </a:lnTo>
                  <a:lnTo>
                    <a:pt x="1852" y="3590"/>
                  </a:lnTo>
                  <a:lnTo>
                    <a:pt x="1736" y="3706"/>
                  </a:lnTo>
                  <a:lnTo>
                    <a:pt x="1505" y="3706"/>
                  </a:lnTo>
                  <a:lnTo>
                    <a:pt x="1389" y="3821"/>
                  </a:lnTo>
                  <a:lnTo>
                    <a:pt x="1389" y="3821"/>
                  </a:lnTo>
                  <a:lnTo>
                    <a:pt x="1042" y="3474"/>
                  </a:lnTo>
                  <a:lnTo>
                    <a:pt x="810" y="3127"/>
                  </a:lnTo>
                  <a:lnTo>
                    <a:pt x="579" y="2663"/>
                  </a:lnTo>
                  <a:lnTo>
                    <a:pt x="463" y="2200"/>
                  </a:lnTo>
                  <a:lnTo>
                    <a:pt x="231" y="1853"/>
                  </a:lnTo>
                  <a:lnTo>
                    <a:pt x="116" y="1389"/>
                  </a:lnTo>
                  <a:lnTo>
                    <a:pt x="0" y="926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463" y="231"/>
                  </a:lnTo>
                  <a:lnTo>
                    <a:pt x="1157" y="0"/>
                  </a:lnTo>
                  <a:lnTo>
                    <a:pt x="1736" y="0"/>
                  </a:lnTo>
                  <a:lnTo>
                    <a:pt x="2430" y="0"/>
                  </a:lnTo>
                  <a:lnTo>
                    <a:pt x="3009" y="116"/>
                  </a:lnTo>
                  <a:lnTo>
                    <a:pt x="3703" y="231"/>
                  </a:lnTo>
                  <a:lnTo>
                    <a:pt x="4282" y="463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1001160" y="4089240"/>
              <a:ext cx="24480" cy="105480"/>
            </a:xfrm>
            <a:custGeom>
              <a:avLst/>
              <a:gdLst/>
              <a:ahLst/>
              <a:rect l="l" t="t" r="r" b="b"/>
              <a:pathLst>
                <a:path w="694" h="1969">
                  <a:moveTo>
                    <a:pt x="578" y="1969"/>
                  </a:moveTo>
                  <a:lnTo>
                    <a:pt x="463" y="1969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969"/>
                  </a:lnTo>
                  <a:lnTo>
                    <a:pt x="0" y="1969"/>
                  </a:lnTo>
                  <a:lnTo>
                    <a:pt x="0" y="1853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347" y="0"/>
                  </a:lnTo>
                  <a:lnTo>
                    <a:pt x="694" y="116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1034280" y="4101480"/>
              <a:ext cx="28800" cy="105480"/>
            </a:xfrm>
            <a:custGeom>
              <a:avLst/>
              <a:gdLst/>
              <a:ahLst/>
              <a:rect l="l" t="t" r="r" b="b"/>
              <a:pathLst>
                <a:path w="810" h="1969">
                  <a:moveTo>
                    <a:pt x="694" y="232"/>
                  </a:moveTo>
                  <a:lnTo>
                    <a:pt x="810" y="463"/>
                  </a:lnTo>
                  <a:lnTo>
                    <a:pt x="694" y="579"/>
                  </a:lnTo>
                  <a:lnTo>
                    <a:pt x="694" y="695"/>
                  </a:lnTo>
                  <a:lnTo>
                    <a:pt x="694" y="927"/>
                  </a:lnTo>
                  <a:lnTo>
                    <a:pt x="694" y="1042"/>
                  </a:lnTo>
                  <a:lnTo>
                    <a:pt x="694" y="1274"/>
                  </a:lnTo>
                  <a:lnTo>
                    <a:pt x="694" y="1390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737"/>
                  </a:lnTo>
                  <a:lnTo>
                    <a:pt x="578" y="1737"/>
                  </a:lnTo>
                  <a:lnTo>
                    <a:pt x="463" y="1853"/>
                  </a:lnTo>
                  <a:lnTo>
                    <a:pt x="463" y="1853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853"/>
                  </a:lnTo>
                  <a:lnTo>
                    <a:pt x="115" y="1853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506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231" y="232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116"/>
                  </a:lnTo>
                  <a:lnTo>
                    <a:pt x="347" y="116"/>
                  </a:lnTo>
                  <a:lnTo>
                    <a:pt x="463" y="232"/>
                  </a:lnTo>
                  <a:lnTo>
                    <a:pt x="463" y="232"/>
                  </a:lnTo>
                  <a:lnTo>
                    <a:pt x="578" y="347"/>
                  </a:lnTo>
                  <a:lnTo>
                    <a:pt x="578" y="347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1046520" y="4101480"/>
              <a:ext cx="1241280" cy="441360"/>
            </a:xfrm>
            <a:custGeom>
              <a:avLst/>
              <a:gdLst/>
              <a:ahLst/>
              <a:rect l="l" t="t" r="r" b="b"/>
              <a:pathLst>
                <a:path w="34719" h="8223">
                  <a:moveTo>
                    <a:pt x="-31048" y="0"/>
                  </a:moveTo>
                  <a:lnTo>
                    <a:pt x="-31279" y="232"/>
                  </a:lnTo>
                  <a:lnTo>
                    <a:pt x="-31395" y="347"/>
                  </a:lnTo>
                  <a:lnTo>
                    <a:pt x="-31627" y="579"/>
                  </a:lnTo>
                  <a:lnTo>
                    <a:pt x="-31742" y="811"/>
                  </a:lnTo>
                  <a:lnTo>
                    <a:pt x="-31858" y="1042"/>
                  </a:lnTo>
                  <a:lnTo>
                    <a:pt x="-31858" y="1390"/>
                  </a:lnTo>
                  <a:lnTo>
                    <a:pt x="-31858" y="1621"/>
                  </a:lnTo>
                  <a:lnTo>
                    <a:pt x="-31742" y="1853"/>
                  </a:lnTo>
                  <a:lnTo>
                    <a:pt x="-31742" y="1853"/>
                  </a:lnTo>
                  <a:lnTo>
                    <a:pt x="-31742" y="2085"/>
                  </a:lnTo>
                  <a:lnTo>
                    <a:pt x="-31627" y="2200"/>
                  </a:lnTo>
                  <a:lnTo>
                    <a:pt x="-31511" y="2200"/>
                  </a:lnTo>
                  <a:lnTo>
                    <a:pt x="-31395" y="2316"/>
                  </a:lnTo>
                  <a:lnTo>
                    <a:pt x="-31279" y="2432"/>
                  </a:lnTo>
                  <a:lnTo>
                    <a:pt x="-31164" y="2432"/>
                  </a:lnTo>
                  <a:lnTo>
                    <a:pt x="-30932" y="2548"/>
                  </a:lnTo>
                  <a:lnTo>
                    <a:pt x="-30817" y="2548"/>
                  </a:lnTo>
                  <a:lnTo>
                    <a:pt x="-30817" y="2548"/>
                  </a:lnTo>
                  <a:lnTo>
                    <a:pt x="-31048" y="2664"/>
                  </a:lnTo>
                  <a:lnTo>
                    <a:pt x="-31395" y="2664"/>
                  </a:lnTo>
                  <a:lnTo>
                    <a:pt x="-31627" y="2779"/>
                  </a:lnTo>
                  <a:lnTo>
                    <a:pt x="-31858" y="2779"/>
                  </a:lnTo>
                  <a:lnTo>
                    <a:pt x="-32090" y="2779"/>
                  </a:lnTo>
                  <a:lnTo>
                    <a:pt x="-32437" y="2895"/>
                  </a:lnTo>
                  <a:lnTo>
                    <a:pt x="-32668" y="2895"/>
                  </a:lnTo>
                  <a:lnTo>
                    <a:pt x="32636" y="3011"/>
                  </a:lnTo>
                  <a:lnTo>
                    <a:pt x="32636" y="3011"/>
                  </a:lnTo>
                  <a:lnTo>
                    <a:pt x="32405" y="2895"/>
                  </a:lnTo>
                  <a:lnTo>
                    <a:pt x="32173" y="2779"/>
                  </a:lnTo>
                  <a:lnTo>
                    <a:pt x="31942" y="2779"/>
                  </a:lnTo>
                  <a:lnTo>
                    <a:pt x="31710" y="2779"/>
                  </a:lnTo>
                  <a:lnTo>
                    <a:pt x="31479" y="2779"/>
                  </a:lnTo>
                  <a:lnTo>
                    <a:pt x="31247" y="2779"/>
                  </a:lnTo>
                  <a:lnTo>
                    <a:pt x="31016" y="2895"/>
                  </a:lnTo>
                  <a:lnTo>
                    <a:pt x="30785" y="2895"/>
                  </a:lnTo>
                  <a:lnTo>
                    <a:pt x="30785" y="2895"/>
                  </a:lnTo>
                  <a:lnTo>
                    <a:pt x="29974" y="3474"/>
                  </a:lnTo>
                  <a:lnTo>
                    <a:pt x="29974" y="3474"/>
                  </a:lnTo>
                  <a:lnTo>
                    <a:pt x="29974" y="3359"/>
                  </a:lnTo>
                  <a:lnTo>
                    <a:pt x="29974" y="3359"/>
                  </a:lnTo>
                  <a:lnTo>
                    <a:pt x="29859" y="3243"/>
                  </a:lnTo>
                  <a:lnTo>
                    <a:pt x="29859" y="3127"/>
                  </a:lnTo>
                  <a:lnTo>
                    <a:pt x="29859" y="3127"/>
                  </a:lnTo>
                  <a:lnTo>
                    <a:pt x="29859" y="3011"/>
                  </a:lnTo>
                  <a:lnTo>
                    <a:pt x="29859" y="3011"/>
                  </a:lnTo>
                  <a:lnTo>
                    <a:pt x="29974" y="2895"/>
                  </a:lnTo>
                  <a:lnTo>
                    <a:pt x="29974" y="2895"/>
                  </a:lnTo>
                  <a:lnTo>
                    <a:pt x="-32321" y="2316"/>
                  </a:lnTo>
                  <a:lnTo>
                    <a:pt x="-32321" y="2316"/>
                  </a:lnTo>
                  <a:lnTo>
                    <a:pt x="-32205" y="2316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553" y="2085"/>
                  </a:lnTo>
                  <a:lnTo>
                    <a:pt x="32521" y="2200"/>
                  </a:lnTo>
                  <a:lnTo>
                    <a:pt x="31942" y="2200"/>
                  </a:lnTo>
                  <a:lnTo>
                    <a:pt x="31479" y="2316"/>
                  </a:lnTo>
                  <a:lnTo>
                    <a:pt x="31016" y="2432"/>
                  </a:lnTo>
                  <a:lnTo>
                    <a:pt x="30437" y="2548"/>
                  </a:lnTo>
                  <a:lnTo>
                    <a:pt x="29974" y="2664"/>
                  </a:lnTo>
                  <a:lnTo>
                    <a:pt x="29512" y="2779"/>
                  </a:lnTo>
                  <a:lnTo>
                    <a:pt x="29512" y="2779"/>
                  </a:lnTo>
                  <a:lnTo>
                    <a:pt x="29396" y="2664"/>
                  </a:lnTo>
                  <a:lnTo>
                    <a:pt x="29164" y="2664"/>
                  </a:lnTo>
                  <a:lnTo>
                    <a:pt x="28933" y="2548"/>
                  </a:lnTo>
                  <a:lnTo>
                    <a:pt x="28701" y="2548"/>
                  </a:lnTo>
                  <a:lnTo>
                    <a:pt x="28470" y="2432"/>
                  </a:lnTo>
                  <a:lnTo>
                    <a:pt x="28238" y="2548"/>
                  </a:lnTo>
                  <a:lnTo>
                    <a:pt x="28123" y="2548"/>
                  </a:lnTo>
                  <a:lnTo>
                    <a:pt x="27891" y="2664"/>
                  </a:lnTo>
                  <a:lnTo>
                    <a:pt x="27891" y="2664"/>
                  </a:lnTo>
                  <a:lnTo>
                    <a:pt x="27660" y="2895"/>
                  </a:lnTo>
                  <a:lnTo>
                    <a:pt x="27544" y="3011"/>
                  </a:lnTo>
                  <a:lnTo>
                    <a:pt x="27428" y="3011"/>
                  </a:lnTo>
                  <a:lnTo>
                    <a:pt x="27197" y="3011"/>
                  </a:lnTo>
                  <a:lnTo>
                    <a:pt x="27081" y="2895"/>
                  </a:lnTo>
                  <a:lnTo>
                    <a:pt x="26850" y="2895"/>
                  </a:lnTo>
                  <a:lnTo>
                    <a:pt x="26618" y="2895"/>
                  </a:lnTo>
                  <a:lnTo>
                    <a:pt x="26502" y="3127"/>
                  </a:lnTo>
                  <a:lnTo>
                    <a:pt x="26502" y="3127"/>
                  </a:lnTo>
                  <a:lnTo>
                    <a:pt x="26387" y="3474"/>
                  </a:lnTo>
                  <a:lnTo>
                    <a:pt x="26155" y="3706"/>
                  </a:lnTo>
                  <a:lnTo>
                    <a:pt x="25924" y="3822"/>
                  </a:lnTo>
                  <a:lnTo>
                    <a:pt x="25577" y="3822"/>
                  </a:lnTo>
                  <a:lnTo>
                    <a:pt x="25229" y="3822"/>
                  </a:lnTo>
                  <a:lnTo>
                    <a:pt x="24882" y="3822"/>
                  </a:lnTo>
                  <a:lnTo>
                    <a:pt x="24651" y="3822"/>
                  </a:lnTo>
                  <a:lnTo>
                    <a:pt x="24304" y="3938"/>
                  </a:lnTo>
                  <a:lnTo>
                    <a:pt x="24304" y="3938"/>
                  </a:lnTo>
                  <a:lnTo>
                    <a:pt x="21526" y="4517"/>
                  </a:lnTo>
                  <a:lnTo>
                    <a:pt x="18633" y="5096"/>
                  </a:lnTo>
                  <a:lnTo>
                    <a:pt x="15855" y="5559"/>
                  </a:lnTo>
                  <a:lnTo>
                    <a:pt x="13078" y="6138"/>
                  </a:lnTo>
                  <a:lnTo>
                    <a:pt x="10184" y="6717"/>
                  </a:lnTo>
                  <a:lnTo>
                    <a:pt x="7407" y="7296"/>
                  </a:lnTo>
                  <a:lnTo>
                    <a:pt x="4513" y="7759"/>
                  </a:lnTo>
                  <a:lnTo>
                    <a:pt x="1620" y="8223"/>
                  </a:lnTo>
                  <a:lnTo>
                    <a:pt x="1620" y="8223"/>
                  </a:lnTo>
                  <a:lnTo>
                    <a:pt x="1389" y="8107"/>
                  </a:lnTo>
                  <a:lnTo>
                    <a:pt x="1157" y="7875"/>
                  </a:lnTo>
                  <a:lnTo>
                    <a:pt x="926" y="7759"/>
                  </a:lnTo>
                  <a:lnTo>
                    <a:pt x="694" y="7528"/>
                  </a:lnTo>
                  <a:lnTo>
                    <a:pt x="463" y="7296"/>
                  </a:lnTo>
                  <a:lnTo>
                    <a:pt x="231" y="7064"/>
                  </a:lnTo>
                  <a:lnTo>
                    <a:pt x="116" y="6717"/>
                  </a:lnTo>
                  <a:lnTo>
                    <a:pt x="0" y="6485"/>
                  </a:lnTo>
                  <a:lnTo>
                    <a:pt x="0" y="6485"/>
                  </a:lnTo>
                  <a:lnTo>
                    <a:pt x="4398" y="5675"/>
                  </a:lnTo>
                  <a:lnTo>
                    <a:pt x="8680" y="4864"/>
                  </a:lnTo>
                  <a:lnTo>
                    <a:pt x="12846" y="3938"/>
                  </a:lnTo>
                  <a:lnTo>
                    <a:pt x="17128" y="3127"/>
                  </a:lnTo>
                  <a:lnTo>
                    <a:pt x="21295" y="2316"/>
                  </a:lnTo>
                  <a:lnTo>
                    <a:pt x="25577" y="1506"/>
                  </a:lnTo>
                  <a:lnTo>
                    <a:pt x="29859" y="695"/>
                  </a:lnTo>
                  <a:lnTo>
                    <a:pt x="-31279" y="116"/>
                  </a:lnTo>
                  <a:lnTo>
                    <a:pt x="-31279" y="116"/>
                  </a:lnTo>
                  <a:lnTo>
                    <a:pt x="-31279" y="0"/>
                  </a:lnTo>
                  <a:lnTo>
                    <a:pt x="-31279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856080" y="4194720"/>
              <a:ext cx="322560" cy="565560"/>
            </a:xfrm>
            <a:custGeom>
              <a:avLst/>
              <a:gdLst/>
              <a:ahLst/>
              <a:rect l="l" t="t" r="r" b="b"/>
              <a:pathLst>
                <a:path w="9027" h="10539">
                  <a:moveTo>
                    <a:pt x="7176" y="579"/>
                  </a:moveTo>
                  <a:lnTo>
                    <a:pt x="7176" y="695"/>
                  </a:lnTo>
                  <a:lnTo>
                    <a:pt x="7176" y="811"/>
                  </a:lnTo>
                  <a:lnTo>
                    <a:pt x="7176" y="927"/>
                  </a:lnTo>
                  <a:lnTo>
                    <a:pt x="7060" y="1042"/>
                  </a:lnTo>
                  <a:lnTo>
                    <a:pt x="7060" y="1158"/>
                  </a:lnTo>
                  <a:lnTo>
                    <a:pt x="6944" y="1274"/>
                  </a:lnTo>
                  <a:lnTo>
                    <a:pt x="6828" y="1274"/>
                  </a:lnTo>
                  <a:lnTo>
                    <a:pt x="6713" y="1274"/>
                  </a:lnTo>
                  <a:lnTo>
                    <a:pt x="6713" y="1274"/>
                  </a:lnTo>
                  <a:lnTo>
                    <a:pt x="6597" y="1274"/>
                  </a:lnTo>
                  <a:lnTo>
                    <a:pt x="6365" y="1274"/>
                  </a:lnTo>
                  <a:lnTo>
                    <a:pt x="6134" y="1274"/>
                  </a:lnTo>
                  <a:lnTo>
                    <a:pt x="6018" y="1274"/>
                  </a:lnTo>
                  <a:lnTo>
                    <a:pt x="5787" y="1390"/>
                  </a:lnTo>
                  <a:lnTo>
                    <a:pt x="5671" y="1506"/>
                  </a:lnTo>
                  <a:lnTo>
                    <a:pt x="5555" y="1622"/>
                  </a:lnTo>
                  <a:lnTo>
                    <a:pt x="5440" y="1737"/>
                  </a:lnTo>
                  <a:lnTo>
                    <a:pt x="5440" y="1737"/>
                  </a:lnTo>
                  <a:lnTo>
                    <a:pt x="5324" y="1969"/>
                  </a:lnTo>
                  <a:lnTo>
                    <a:pt x="5092" y="2201"/>
                  </a:lnTo>
                  <a:lnTo>
                    <a:pt x="4977" y="2432"/>
                  </a:lnTo>
                  <a:lnTo>
                    <a:pt x="4861" y="2664"/>
                  </a:lnTo>
                  <a:lnTo>
                    <a:pt x="4745" y="2895"/>
                  </a:lnTo>
                  <a:lnTo>
                    <a:pt x="4745" y="3127"/>
                  </a:lnTo>
                  <a:lnTo>
                    <a:pt x="4629" y="3359"/>
                  </a:lnTo>
                  <a:lnTo>
                    <a:pt x="4745" y="3590"/>
                  </a:lnTo>
                  <a:lnTo>
                    <a:pt x="4745" y="3590"/>
                  </a:lnTo>
                  <a:lnTo>
                    <a:pt x="4629" y="3822"/>
                  </a:lnTo>
                  <a:lnTo>
                    <a:pt x="4629" y="4054"/>
                  </a:lnTo>
                  <a:lnTo>
                    <a:pt x="4629" y="4401"/>
                  </a:lnTo>
                  <a:lnTo>
                    <a:pt x="4745" y="4633"/>
                  </a:lnTo>
                  <a:lnTo>
                    <a:pt x="4861" y="4864"/>
                  </a:lnTo>
                  <a:lnTo>
                    <a:pt x="4861" y="5212"/>
                  </a:lnTo>
                  <a:lnTo>
                    <a:pt x="4977" y="5443"/>
                  </a:lnTo>
                  <a:lnTo>
                    <a:pt x="5092" y="5675"/>
                  </a:lnTo>
                  <a:lnTo>
                    <a:pt x="5092" y="5675"/>
                  </a:lnTo>
                  <a:lnTo>
                    <a:pt x="5555" y="6138"/>
                  </a:lnTo>
                  <a:lnTo>
                    <a:pt x="5902" y="6486"/>
                  </a:lnTo>
                  <a:lnTo>
                    <a:pt x="6481" y="6717"/>
                  </a:lnTo>
                  <a:lnTo>
                    <a:pt x="6944" y="6949"/>
                  </a:lnTo>
                  <a:lnTo>
                    <a:pt x="7523" y="7180"/>
                  </a:lnTo>
                  <a:lnTo>
                    <a:pt x="7986" y="7296"/>
                  </a:lnTo>
                  <a:lnTo>
                    <a:pt x="8564" y="7528"/>
                  </a:lnTo>
                  <a:lnTo>
                    <a:pt x="9027" y="7875"/>
                  </a:lnTo>
                  <a:lnTo>
                    <a:pt x="9027" y="7875"/>
                  </a:lnTo>
                  <a:lnTo>
                    <a:pt x="9027" y="7991"/>
                  </a:lnTo>
                  <a:lnTo>
                    <a:pt x="9027" y="8107"/>
                  </a:lnTo>
                  <a:lnTo>
                    <a:pt x="9027" y="8223"/>
                  </a:lnTo>
                  <a:lnTo>
                    <a:pt x="8911" y="8339"/>
                  </a:lnTo>
                  <a:lnTo>
                    <a:pt x="8911" y="8454"/>
                  </a:lnTo>
                  <a:lnTo>
                    <a:pt x="8911" y="8570"/>
                  </a:lnTo>
                  <a:lnTo>
                    <a:pt x="8796" y="8686"/>
                  </a:lnTo>
                  <a:lnTo>
                    <a:pt x="8796" y="8802"/>
                  </a:lnTo>
                  <a:lnTo>
                    <a:pt x="8796" y="8802"/>
                  </a:lnTo>
                  <a:lnTo>
                    <a:pt x="8449" y="8918"/>
                  </a:lnTo>
                  <a:lnTo>
                    <a:pt x="8217" y="9033"/>
                  </a:lnTo>
                  <a:lnTo>
                    <a:pt x="7870" y="8918"/>
                  </a:lnTo>
                  <a:lnTo>
                    <a:pt x="7638" y="8918"/>
                  </a:lnTo>
                  <a:lnTo>
                    <a:pt x="7291" y="8686"/>
                  </a:lnTo>
                  <a:lnTo>
                    <a:pt x="7060" y="8570"/>
                  </a:lnTo>
                  <a:lnTo>
                    <a:pt x="6828" y="8454"/>
                  </a:lnTo>
                  <a:lnTo>
                    <a:pt x="6597" y="8223"/>
                  </a:lnTo>
                  <a:lnTo>
                    <a:pt x="6597" y="8223"/>
                  </a:lnTo>
                  <a:lnTo>
                    <a:pt x="6134" y="8223"/>
                  </a:lnTo>
                  <a:lnTo>
                    <a:pt x="5787" y="8107"/>
                  </a:lnTo>
                  <a:lnTo>
                    <a:pt x="5440" y="7991"/>
                  </a:lnTo>
                  <a:lnTo>
                    <a:pt x="5092" y="7759"/>
                  </a:lnTo>
                  <a:lnTo>
                    <a:pt x="4745" y="7528"/>
                  </a:lnTo>
                  <a:lnTo>
                    <a:pt x="4398" y="7296"/>
                  </a:lnTo>
                  <a:lnTo>
                    <a:pt x="4051" y="7065"/>
                  </a:lnTo>
                  <a:lnTo>
                    <a:pt x="3704" y="6949"/>
                  </a:lnTo>
                  <a:lnTo>
                    <a:pt x="3704" y="6949"/>
                  </a:lnTo>
                  <a:lnTo>
                    <a:pt x="3588" y="6833"/>
                  </a:lnTo>
                  <a:lnTo>
                    <a:pt x="3472" y="6949"/>
                  </a:lnTo>
                  <a:lnTo>
                    <a:pt x="4861" y="8223"/>
                  </a:lnTo>
                  <a:lnTo>
                    <a:pt x="4861" y="8223"/>
                  </a:lnTo>
                  <a:lnTo>
                    <a:pt x="4514" y="8223"/>
                  </a:lnTo>
                  <a:lnTo>
                    <a:pt x="4166" y="8107"/>
                  </a:lnTo>
                  <a:lnTo>
                    <a:pt x="3819" y="7875"/>
                  </a:lnTo>
                  <a:lnTo>
                    <a:pt x="3588" y="7644"/>
                  </a:lnTo>
                  <a:lnTo>
                    <a:pt x="3241" y="7412"/>
                  </a:lnTo>
                  <a:lnTo>
                    <a:pt x="3009" y="7180"/>
                  </a:lnTo>
                  <a:lnTo>
                    <a:pt x="2662" y="7065"/>
                  </a:lnTo>
                  <a:lnTo>
                    <a:pt x="2430" y="6949"/>
                  </a:lnTo>
                  <a:lnTo>
                    <a:pt x="2430" y="6949"/>
                  </a:lnTo>
                  <a:lnTo>
                    <a:pt x="2546" y="7180"/>
                  </a:lnTo>
                  <a:lnTo>
                    <a:pt x="2662" y="7412"/>
                  </a:lnTo>
                  <a:lnTo>
                    <a:pt x="2893" y="7644"/>
                  </a:lnTo>
                  <a:lnTo>
                    <a:pt x="3125" y="7875"/>
                  </a:lnTo>
                  <a:lnTo>
                    <a:pt x="3241" y="7991"/>
                  </a:lnTo>
                  <a:lnTo>
                    <a:pt x="3472" y="8223"/>
                  </a:lnTo>
                  <a:lnTo>
                    <a:pt x="3704" y="8454"/>
                  </a:lnTo>
                  <a:lnTo>
                    <a:pt x="3935" y="8570"/>
                  </a:lnTo>
                  <a:lnTo>
                    <a:pt x="3935" y="8570"/>
                  </a:lnTo>
                  <a:lnTo>
                    <a:pt x="3935" y="8686"/>
                  </a:lnTo>
                  <a:lnTo>
                    <a:pt x="3819" y="8686"/>
                  </a:lnTo>
                  <a:lnTo>
                    <a:pt x="3588" y="8802"/>
                  </a:lnTo>
                  <a:lnTo>
                    <a:pt x="3472" y="8802"/>
                  </a:lnTo>
                  <a:lnTo>
                    <a:pt x="3356" y="8802"/>
                  </a:lnTo>
                  <a:lnTo>
                    <a:pt x="3241" y="8802"/>
                  </a:lnTo>
                  <a:lnTo>
                    <a:pt x="3009" y="8802"/>
                  </a:lnTo>
                  <a:lnTo>
                    <a:pt x="3009" y="8686"/>
                  </a:lnTo>
                  <a:lnTo>
                    <a:pt x="3009" y="8686"/>
                  </a:lnTo>
                  <a:lnTo>
                    <a:pt x="2662" y="8570"/>
                  </a:lnTo>
                  <a:lnTo>
                    <a:pt x="2546" y="8339"/>
                  </a:lnTo>
                  <a:lnTo>
                    <a:pt x="2315" y="8107"/>
                  </a:lnTo>
                  <a:lnTo>
                    <a:pt x="2083" y="7875"/>
                  </a:lnTo>
                  <a:lnTo>
                    <a:pt x="1852" y="7644"/>
                  </a:lnTo>
                  <a:lnTo>
                    <a:pt x="1620" y="7412"/>
                  </a:lnTo>
                  <a:lnTo>
                    <a:pt x="1505" y="7296"/>
                  </a:lnTo>
                  <a:lnTo>
                    <a:pt x="1273" y="7065"/>
                  </a:lnTo>
                  <a:lnTo>
                    <a:pt x="1273" y="7065"/>
                  </a:lnTo>
                  <a:lnTo>
                    <a:pt x="1157" y="7412"/>
                  </a:lnTo>
                  <a:lnTo>
                    <a:pt x="1157" y="7759"/>
                  </a:lnTo>
                  <a:lnTo>
                    <a:pt x="1157" y="8107"/>
                  </a:lnTo>
                  <a:lnTo>
                    <a:pt x="1157" y="8454"/>
                  </a:lnTo>
                  <a:lnTo>
                    <a:pt x="1273" y="8802"/>
                  </a:lnTo>
                  <a:lnTo>
                    <a:pt x="1389" y="9149"/>
                  </a:lnTo>
                  <a:lnTo>
                    <a:pt x="1505" y="9612"/>
                  </a:lnTo>
                  <a:lnTo>
                    <a:pt x="1620" y="9960"/>
                  </a:lnTo>
                  <a:lnTo>
                    <a:pt x="1620" y="9960"/>
                  </a:lnTo>
                  <a:lnTo>
                    <a:pt x="1620" y="10539"/>
                  </a:lnTo>
                  <a:lnTo>
                    <a:pt x="1620" y="10539"/>
                  </a:lnTo>
                  <a:lnTo>
                    <a:pt x="1389" y="10539"/>
                  </a:lnTo>
                  <a:lnTo>
                    <a:pt x="1273" y="10539"/>
                  </a:lnTo>
                  <a:lnTo>
                    <a:pt x="1042" y="10423"/>
                  </a:lnTo>
                  <a:lnTo>
                    <a:pt x="926" y="10423"/>
                  </a:lnTo>
                  <a:lnTo>
                    <a:pt x="810" y="10191"/>
                  </a:lnTo>
                  <a:lnTo>
                    <a:pt x="695" y="10076"/>
                  </a:lnTo>
                  <a:lnTo>
                    <a:pt x="579" y="9960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116" y="9149"/>
                  </a:lnTo>
                  <a:lnTo>
                    <a:pt x="0" y="8570"/>
                  </a:lnTo>
                  <a:lnTo>
                    <a:pt x="116" y="7991"/>
                  </a:lnTo>
                  <a:lnTo>
                    <a:pt x="347" y="7412"/>
                  </a:lnTo>
                  <a:lnTo>
                    <a:pt x="579" y="6833"/>
                  </a:lnTo>
                  <a:lnTo>
                    <a:pt x="810" y="6138"/>
                  </a:lnTo>
                  <a:lnTo>
                    <a:pt x="926" y="5559"/>
                  </a:lnTo>
                  <a:lnTo>
                    <a:pt x="926" y="4864"/>
                  </a:lnTo>
                  <a:lnTo>
                    <a:pt x="926" y="4864"/>
                  </a:lnTo>
                  <a:lnTo>
                    <a:pt x="1157" y="4864"/>
                  </a:lnTo>
                  <a:lnTo>
                    <a:pt x="1389" y="4864"/>
                  </a:lnTo>
                  <a:lnTo>
                    <a:pt x="1620" y="4864"/>
                  </a:lnTo>
                  <a:lnTo>
                    <a:pt x="1852" y="4748"/>
                  </a:lnTo>
                  <a:lnTo>
                    <a:pt x="2083" y="4633"/>
                  </a:lnTo>
                  <a:lnTo>
                    <a:pt x="2315" y="4517"/>
                  </a:lnTo>
                  <a:lnTo>
                    <a:pt x="2546" y="4401"/>
                  </a:lnTo>
                  <a:lnTo>
                    <a:pt x="2662" y="4169"/>
                  </a:lnTo>
                  <a:lnTo>
                    <a:pt x="2662" y="4169"/>
                  </a:lnTo>
                  <a:lnTo>
                    <a:pt x="2778" y="3822"/>
                  </a:lnTo>
                  <a:lnTo>
                    <a:pt x="3009" y="3475"/>
                  </a:lnTo>
                  <a:lnTo>
                    <a:pt x="3125" y="3127"/>
                  </a:lnTo>
                  <a:lnTo>
                    <a:pt x="3241" y="2780"/>
                  </a:lnTo>
                  <a:lnTo>
                    <a:pt x="3241" y="2432"/>
                  </a:lnTo>
                  <a:lnTo>
                    <a:pt x="3241" y="2085"/>
                  </a:lnTo>
                  <a:lnTo>
                    <a:pt x="3125" y="1737"/>
                  </a:lnTo>
                  <a:lnTo>
                    <a:pt x="3009" y="1390"/>
                  </a:lnTo>
                  <a:lnTo>
                    <a:pt x="3009" y="1390"/>
                  </a:lnTo>
                  <a:lnTo>
                    <a:pt x="3125" y="1274"/>
                  </a:lnTo>
                  <a:lnTo>
                    <a:pt x="3241" y="1042"/>
                  </a:lnTo>
                  <a:lnTo>
                    <a:pt x="3472" y="811"/>
                  </a:lnTo>
                  <a:lnTo>
                    <a:pt x="3704" y="695"/>
                  </a:lnTo>
                  <a:lnTo>
                    <a:pt x="3819" y="579"/>
                  </a:lnTo>
                  <a:lnTo>
                    <a:pt x="4051" y="463"/>
                  </a:lnTo>
                  <a:lnTo>
                    <a:pt x="4282" y="463"/>
                  </a:lnTo>
                  <a:lnTo>
                    <a:pt x="4629" y="463"/>
                  </a:lnTo>
                  <a:lnTo>
                    <a:pt x="4629" y="463"/>
                  </a:lnTo>
                  <a:lnTo>
                    <a:pt x="4745" y="579"/>
                  </a:lnTo>
                  <a:lnTo>
                    <a:pt x="4977" y="579"/>
                  </a:lnTo>
                  <a:lnTo>
                    <a:pt x="5092" y="695"/>
                  </a:lnTo>
                  <a:lnTo>
                    <a:pt x="5324" y="811"/>
                  </a:lnTo>
                  <a:lnTo>
                    <a:pt x="5440" y="927"/>
                  </a:lnTo>
                  <a:lnTo>
                    <a:pt x="5555" y="927"/>
                  </a:lnTo>
                  <a:lnTo>
                    <a:pt x="5787" y="927"/>
                  </a:lnTo>
                  <a:lnTo>
                    <a:pt x="6018" y="811"/>
                  </a:lnTo>
                  <a:lnTo>
                    <a:pt x="6018" y="811"/>
                  </a:lnTo>
                  <a:lnTo>
                    <a:pt x="5671" y="463"/>
                  </a:lnTo>
                  <a:lnTo>
                    <a:pt x="5671" y="463"/>
                  </a:lnTo>
                  <a:lnTo>
                    <a:pt x="5902" y="348"/>
                  </a:lnTo>
                  <a:lnTo>
                    <a:pt x="6134" y="232"/>
                  </a:lnTo>
                  <a:lnTo>
                    <a:pt x="6365" y="116"/>
                  </a:lnTo>
                  <a:lnTo>
                    <a:pt x="6597" y="0"/>
                  </a:lnTo>
                  <a:lnTo>
                    <a:pt x="6828" y="0"/>
                  </a:lnTo>
                  <a:lnTo>
                    <a:pt x="6944" y="116"/>
                  </a:lnTo>
                  <a:lnTo>
                    <a:pt x="7060" y="232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847800" y="4250880"/>
              <a:ext cx="103320" cy="173880"/>
            </a:xfrm>
            <a:custGeom>
              <a:avLst/>
              <a:gdLst/>
              <a:ahLst/>
              <a:rect l="l" t="t" r="r" b="b"/>
              <a:pathLst>
                <a:path w="2893" h="3243">
                  <a:moveTo>
                    <a:pt x="2893" y="927"/>
                  </a:moveTo>
                  <a:lnTo>
                    <a:pt x="2893" y="1159"/>
                  </a:lnTo>
                  <a:lnTo>
                    <a:pt x="2893" y="1390"/>
                  </a:lnTo>
                  <a:lnTo>
                    <a:pt x="2893" y="1622"/>
                  </a:lnTo>
                  <a:lnTo>
                    <a:pt x="2893" y="1853"/>
                  </a:lnTo>
                  <a:lnTo>
                    <a:pt x="2777" y="2085"/>
                  </a:lnTo>
                  <a:lnTo>
                    <a:pt x="2661" y="2317"/>
                  </a:lnTo>
                  <a:lnTo>
                    <a:pt x="2546" y="2548"/>
                  </a:lnTo>
                  <a:lnTo>
                    <a:pt x="2430" y="2780"/>
                  </a:lnTo>
                  <a:lnTo>
                    <a:pt x="2430" y="2780"/>
                  </a:lnTo>
                  <a:lnTo>
                    <a:pt x="2314" y="2896"/>
                  </a:lnTo>
                  <a:lnTo>
                    <a:pt x="2199" y="3012"/>
                  </a:lnTo>
                  <a:lnTo>
                    <a:pt x="1967" y="3127"/>
                  </a:lnTo>
                  <a:lnTo>
                    <a:pt x="1851" y="3243"/>
                  </a:lnTo>
                  <a:lnTo>
                    <a:pt x="1620" y="3243"/>
                  </a:lnTo>
                  <a:lnTo>
                    <a:pt x="1388" y="3243"/>
                  </a:lnTo>
                  <a:lnTo>
                    <a:pt x="1157" y="3243"/>
                  </a:lnTo>
                  <a:lnTo>
                    <a:pt x="1041" y="3243"/>
                  </a:lnTo>
                  <a:lnTo>
                    <a:pt x="1041" y="3243"/>
                  </a:lnTo>
                  <a:lnTo>
                    <a:pt x="810" y="3127"/>
                  </a:lnTo>
                  <a:lnTo>
                    <a:pt x="694" y="3127"/>
                  </a:lnTo>
                  <a:lnTo>
                    <a:pt x="463" y="3012"/>
                  </a:lnTo>
                  <a:lnTo>
                    <a:pt x="347" y="2896"/>
                  </a:lnTo>
                  <a:lnTo>
                    <a:pt x="231" y="2664"/>
                  </a:lnTo>
                  <a:lnTo>
                    <a:pt x="231" y="2548"/>
                  </a:lnTo>
                  <a:lnTo>
                    <a:pt x="115" y="2433"/>
                  </a:lnTo>
                  <a:lnTo>
                    <a:pt x="0" y="2201"/>
                  </a:lnTo>
                  <a:lnTo>
                    <a:pt x="0" y="2201"/>
                  </a:lnTo>
                  <a:lnTo>
                    <a:pt x="231" y="2317"/>
                  </a:lnTo>
                  <a:lnTo>
                    <a:pt x="347" y="2317"/>
                  </a:lnTo>
                  <a:lnTo>
                    <a:pt x="578" y="2317"/>
                  </a:lnTo>
                  <a:lnTo>
                    <a:pt x="810" y="2317"/>
                  </a:lnTo>
                  <a:lnTo>
                    <a:pt x="926" y="2317"/>
                  </a:lnTo>
                  <a:lnTo>
                    <a:pt x="1157" y="2201"/>
                  </a:lnTo>
                  <a:lnTo>
                    <a:pt x="1388" y="2201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736" y="1738"/>
                  </a:lnTo>
                  <a:lnTo>
                    <a:pt x="1851" y="1506"/>
                  </a:lnTo>
                  <a:lnTo>
                    <a:pt x="1851" y="1390"/>
                  </a:lnTo>
                  <a:lnTo>
                    <a:pt x="1967" y="1159"/>
                  </a:lnTo>
                  <a:lnTo>
                    <a:pt x="1967" y="1043"/>
                  </a:lnTo>
                  <a:lnTo>
                    <a:pt x="1851" y="811"/>
                  </a:lnTo>
                  <a:lnTo>
                    <a:pt x="1736" y="695"/>
                  </a:lnTo>
                  <a:lnTo>
                    <a:pt x="1736" y="695"/>
                  </a:lnTo>
                  <a:lnTo>
                    <a:pt x="1504" y="232"/>
                  </a:lnTo>
                  <a:lnTo>
                    <a:pt x="1504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116"/>
                  </a:lnTo>
                  <a:lnTo>
                    <a:pt x="2314" y="232"/>
                  </a:lnTo>
                  <a:lnTo>
                    <a:pt x="2546" y="348"/>
                  </a:lnTo>
                  <a:lnTo>
                    <a:pt x="2661" y="580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2027520" y="4257000"/>
              <a:ext cx="74520" cy="173880"/>
            </a:xfrm>
            <a:custGeom>
              <a:avLst/>
              <a:gdLst/>
              <a:ahLst/>
              <a:rect l="l" t="t" r="r" b="b"/>
              <a:pathLst>
                <a:path w="2084" h="3243">
                  <a:moveTo>
                    <a:pt x="2084" y="464"/>
                  </a:moveTo>
                  <a:lnTo>
                    <a:pt x="2084" y="811"/>
                  </a:lnTo>
                  <a:lnTo>
                    <a:pt x="2084" y="1043"/>
                  </a:lnTo>
                  <a:lnTo>
                    <a:pt x="1968" y="1274"/>
                  </a:lnTo>
                  <a:lnTo>
                    <a:pt x="1852" y="1622"/>
                  </a:lnTo>
                  <a:lnTo>
                    <a:pt x="1736" y="1853"/>
                  </a:lnTo>
                  <a:lnTo>
                    <a:pt x="1621" y="2085"/>
                  </a:lnTo>
                  <a:lnTo>
                    <a:pt x="1505" y="2317"/>
                  </a:lnTo>
                  <a:lnTo>
                    <a:pt x="1389" y="2548"/>
                  </a:lnTo>
                  <a:lnTo>
                    <a:pt x="1389" y="2548"/>
                  </a:lnTo>
                  <a:lnTo>
                    <a:pt x="1158" y="2664"/>
                  </a:lnTo>
                  <a:lnTo>
                    <a:pt x="1042" y="2780"/>
                  </a:lnTo>
                  <a:lnTo>
                    <a:pt x="926" y="2896"/>
                  </a:lnTo>
                  <a:lnTo>
                    <a:pt x="695" y="3011"/>
                  </a:lnTo>
                  <a:lnTo>
                    <a:pt x="579" y="3127"/>
                  </a:lnTo>
                  <a:lnTo>
                    <a:pt x="463" y="3243"/>
                  </a:lnTo>
                  <a:lnTo>
                    <a:pt x="232" y="3243"/>
                  </a:lnTo>
                  <a:lnTo>
                    <a:pt x="0" y="3243"/>
                  </a:lnTo>
                  <a:lnTo>
                    <a:pt x="0" y="3243"/>
                  </a:lnTo>
                  <a:lnTo>
                    <a:pt x="116" y="2896"/>
                  </a:lnTo>
                  <a:lnTo>
                    <a:pt x="116" y="2548"/>
                  </a:lnTo>
                  <a:lnTo>
                    <a:pt x="232" y="2317"/>
                  </a:lnTo>
                  <a:lnTo>
                    <a:pt x="348" y="1969"/>
                  </a:lnTo>
                  <a:lnTo>
                    <a:pt x="348" y="1622"/>
                  </a:lnTo>
                  <a:lnTo>
                    <a:pt x="348" y="1274"/>
                  </a:lnTo>
                  <a:lnTo>
                    <a:pt x="348" y="927"/>
                  </a:lnTo>
                  <a:lnTo>
                    <a:pt x="232" y="579"/>
                  </a:lnTo>
                  <a:lnTo>
                    <a:pt x="232" y="579"/>
                  </a:lnTo>
                  <a:lnTo>
                    <a:pt x="348" y="232"/>
                  </a:lnTo>
                  <a:lnTo>
                    <a:pt x="463" y="116"/>
                  </a:lnTo>
                  <a:lnTo>
                    <a:pt x="695" y="0"/>
                  </a:lnTo>
                  <a:lnTo>
                    <a:pt x="1042" y="0"/>
                  </a:lnTo>
                  <a:lnTo>
                    <a:pt x="1273" y="116"/>
                  </a:lnTo>
                  <a:lnTo>
                    <a:pt x="1621" y="232"/>
                  </a:lnTo>
                  <a:lnTo>
                    <a:pt x="1852" y="348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2089440" y="4269600"/>
              <a:ext cx="119880" cy="142920"/>
            </a:xfrm>
            <a:custGeom>
              <a:avLst/>
              <a:gdLst/>
              <a:ahLst/>
              <a:rect l="l" t="t" r="r" b="b"/>
              <a:pathLst>
                <a:path w="3357" h="2664">
                  <a:moveTo>
                    <a:pt x="3357" y="347"/>
                  </a:moveTo>
                  <a:lnTo>
                    <a:pt x="3125" y="811"/>
                  </a:lnTo>
                  <a:lnTo>
                    <a:pt x="2894" y="1158"/>
                  </a:lnTo>
                  <a:lnTo>
                    <a:pt x="2546" y="1505"/>
                  </a:lnTo>
                  <a:lnTo>
                    <a:pt x="2199" y="1853"/>
                  </a:lnTo>
                  <a:lnTo>
                    <a:pt x="1852" y="2200"/>
                  </a:lnTo>
                  <a:lnTo>
                    <a:pt x="1505" y="2432"/>
                  </a:lnTo>
                  <a:lnTo>
                    <a:pt x="1042" y="2548"/>
                  </a:lnTo>
                  <a:lnTo>
                    <a:pt x="695" y="2664"/>
                  </a:lnTo>
                  <a:lnTo>
                    <a:pt x="695" y="2664"/>
                  </a:lnTo>
                  <a:lnTo>
                    <a:pt x="0" y="2548"/>
                  </a:lnTo>
                  <a:lnTo>
                    <a:pt x="0" y="2548"/>
                  </a:lnTo>
                  <a:lnTo>
                    <a:pt x="348" y="2200"/>
                  </a:lnTo>
                  <a:lnTo>
                    <a:pt x="463" y="1853"/>
                  </a:lnTo>
                  <a:lnTo>
                    <a:pt x="695" y="1505"/>
                  </a:lnTo>
                  <a:lnTo>
                    <a:pt x="810" y="1158"/>
                  </a:lnTo>
                  <a:lnTo>
                    <a:pt x="926" y="811"/>
                  </a:lnTo>
                  <a:lnTo>
                    <a:pt x="1158" y="579"/>
                  </a:lnTo>
                  <a:lnTo>
                    <a:pt x="1505" y="232"/>
                  </a:lnTo>
                  <a:lnTo>
                    <a:pt x="1852" y="116"/>
                  </a:lnTo>
                  <a:lnTo>
                    <a:pt x="1852" y="116"/>
                  </a:lnTo>
                  <a:lnTo>
                    <a:pt x="2083" y="0"/>
                  </a:lnTo>
                  <a:lnTo>
                    <a:pt x="2315" y="0"/>
                  </a:lnTo>
                  <a:lnTo>
                    <a:pt x="2431" y="0"/>
                  </a:lnTo>
                  <a:lnTo>
                    <a:pt x="2662" y="0"/>
                  </a:lnTo>
                  <a:lnTo>
                    <a:pt x="2778" y="116"/>
                  </a:lnTo>
                  <a:lnTo>
                    <a:pt x="3009" y="116"/>
                  </a:lnTo>
                  <a:lnTo>
                    <a:pt x="3125" y="232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1923840" y="4287960"/>
              <a:ext cx="99000" cy="186480"/>
            </a:xfrm>
            <a:custGeom>
              <a:avLst/>
              <a:gdLst/>
              <a:ahLst/>
              <a:rect l="l" t="t" r="r" b="b"/>
              <a:pathLst>
                <a:path w="2778" h="3475">
                  <a:moveTo>
                    <a:pt x="2778" y="1158"/>
                  </a:moveTo>
                  <a:lnTo>
                    <a:pt x="2662" y="1506"/>
                  </a:lnTo>
                  <a:lnTo>
                    <a:pt x="2662" y="1738"/>
                  </a:lnTo>
                  <a:lnTo>
                    <a:pt x="2546" y="2085"/>
                  </a:lnTo>
                  <a:lnTo>
                    <a:pt x="2430" y="2317"/>
                  </a:lnTo>
                  <a:lnTo>
                    <a:pt x="2430" y="2664"/>
                  </a:lnTo>
                  <a:lnTo>
                    <a:pt x="2199" y="2896"/>
                  </a:lnTo>
                  <a:lnTo>
                    <a:pt x="2083" y="3127"/>
                  </a:lnTo>
                  <a:lnTo>
                    <a:pt x="1736" y="3243"/>
                  </a:lnTo>
                  <a:lnTo>
                    <a:pt x="1736" y="3243"/>
                  </a:lnTo>
                  <a:lnTo>
                    <a:pt x="1620" y="3359"/>
                  </a:lnTo>
                  <a:lnTo>
                    <a:pt x="1505" y="3359"/>
                  </a:lnTo>
                  <a:lnTo>
                    <a:pt x="1273" y="3359"/>
                  </a:lnTo>
                  <a:lnTo>
                    <a:pt x="1157" y="3475"/>
                  </a:lnTo>
                  <a:lnTo>
                    <a:pt x="1042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579" y="3359"/>
                  </a:lnTo>
                  <a:lnTo>
                    <a:pt x="579" y="3359"/>
                  </a:lnTo>
                  <a:lnTo>
                    <a:pt x="347" y="3127"/>
                  </a:lnTo>
                  <a:lnTo>
                    <a:pt x="231" y="2896"/>
                  </a:lnTo>
                  <a:lnTo>
                    <a:pt x="231" y="2664"/>
                  </a:lnTo>
                  <a:lnTo>
                    <a:pt x="116" y="2432"/>
                  </a:lnTo>
                  <a:lnTo>
                    <a:pt x="116" y="2201"/>
                  </a:lnTo>
                  <a:lnTo>
                    <a:pt x="116" y="1969"/>
                  </a:lnTo>
                  <a:lnTo>
                    <a:pt x="0" y="1738"/>
                  </a:lnTo>
                  <a:lnTo>
                    <a:pt x="0" y="1506"/>
                  </a:lnTo>
                  <a:lnTo>
                    <a:pt x="0" y="1506"/>
                  </a:lnTo>
                  <a:lnTo>
                    <a:pt x="926" y="1274"/>
                  </a:lnTo>
                  <a:lnTo>
                    <a:pt x="926" y="1274"/>
                  </a:lnTo>
                  <a:lnTo>
                    <a:pt x="926" y="1390"/>
                  </a:lnTo>
                  <a:lnTo>
                    <a:pt x="926" y="1506"/>
                  </a:lnTo>
                  <a:lnTo>
                    <a:pt x="926" y="1622"/>
                  </a:lnTo>
                  <a:lnTo>
                    <a:pt x="926" y="1738"/>
                  </a:lnTo>
                  <a:lnTo>
                    <a:pt x="926" y="1853"/>
                  </a:lnTo>
                  <a:lnTo>
                    <a:pt x="926" y="1853"/>
                  </a:lnTo>
                  <a:lnTo>
                    <a:pt x="926" y="1969"/>
                  </a:lnTo>
                  <a:lnTo>
                    <a:pt x="1042" y="2085"/>
                  </a:lnTo>
                  <a:lnTo>
                    <a:pt x="1042" y="2085"/>
                  </a:lnTo>
                  <a:lnTo>
                    <a:pt x="1157" y="1738"/>
                  </a:lnTo>
                  <a:lnTo>
                    <a:pt x="1273" y="1390"/>
                  </a:lnTo>
                  <a:lnTo>
                    <a:pt x="1389" y="1158"/>
                  </a:lnTo>
                  <a:lnTo>
                    <a:pt x="1620" y="927"/>
                  </a:lnTo>
                  <a:lnTo>
                    <a:pt x="1852" y="579"/>
                  </a:lnTo>
                  <a:lnTo>
                    <a:pt x="2083" y="348"/>
                  </a:lnTo>
                  <a:lnTo>
                    <a:pt x="2315" y="232"/>
                  </a:lnTo>
                  <a:lnTo>
                    <a:pt x="2546" y="0"/>
                  </a:lnTo>
                  <a:lnTo>
                    <a:pt x="2546" y="0"/>
                  </a:lnTo>
                  <a:lnTo>
                    <a:pt x="2662" y="116"/>
                  </a:lnTo>
                  <a:lnTo>
                    <a:pt x="2778" y="232"/>
                  </a:lnTo>
                  <a:lnTo>
                    <a:pt x="2778" y="348"/>
                  </a:lnTo>
                  <a:lnTo>
                    <a:pt x="2778" y="579"/>
                  </a:lnTo>
                  <a:lnTo>
                    <a:pt x="2778" y="695"/>
                  </a:lnTo>
                  <a:lnTo>
                    <a:pt x="2778" y="927"/>
                  </a:lnTo>
                  <a:lnTo>
                    <a:pt x="2778" y="1043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1141560" y="4319280"/>
              <a:ext cx="827640" cy="254880"/>
            </a:xfrm>
            <a:custGeom>
              <a:avLst/>
              <a:gdLst/>
              <a:ahLst/>
              <a:rect l="l" t="t" r="r" b="b"/>
              <a:pathLst>
                <a:path w="23146" h="4749">
                  <a:moveTo>
                    <a:pt x="23146" y="0"/>
                  </a:moveTo>
                  <a:lnTo>
                    <a:pt x="22336" y="232"/>
                  </a:lnTo>
                  <a:lnTo>
                    <a:pt x="21526" y="464"/>
                  </a:lnTo>
                  <a:lnTo>
                    <a:pt x="20600" y="695"/>
                  </a:lnTo>
                  <a:lnTo>
                    <a:pt x="19790" y="1043"/>
                  </a:lnTo>
                  <a:lnTo>
                    <a:pt x="18980" y="1274"/>
                  </a:lnTo>
                  <a:lnTo>
                    <a:pt x="18054" y="1390"/>
                  </a:lnTo>
                  <a:lnTo>
                    <a:pt x="17128" y="1622"/>
                  </a:lnTo>
                  <a:lnTo>
                    <a:pt x="16318" y="1738"/>
                  </a:lnTo>
                  <a:lnTo>
                    <a:pt x="16318" y="1738"/>
                  </a:lnTo>
                  <a:lnTo>
                    <a:pt x="4397" y="4054"/>
                  </a:lnTo>
                  <a:lnTo>
                    <a:pt x="810" y="4749"/>
                  </a:lnTo>
                  <a:lnTo>
                    <a:pt x="0" y="4401"/>
                  </a:lnTo>
                  <a:lnTo>
                    <a:pt x="0" y="4401"/>
                  </a:lnTo>
                  <a:lnTo>
                    <a:pt x="2314" y="3938"/>
                  </a:lnTo>
                  <a:lnTo>
                    <a:pt x="4629" y="3591"/>
                  </a:lnTo>
                  <a:lnTo>
                    <a:pt x="6944" y="3127"/>
                  </a:lnTo>
                  <a:lnTo>
                    <a:pt x="9258" y="2664"/>
                  </a:lnTo>
                  <a:lnTo>
                    <a:pt x="11573" y="2201"/>
                  </a:lnTo>
                  <a:lnTo>
                    <a:pt x="13888" y="1738"/>
                  </a:lnTo>
                  <a:lnTo>
                    <a:pt x="16202" y="1274"/>
                  </a:lnTo>
                  <a:lnTo>
                    <a:pt x="18633" y="927"/>
                  </a:lnTo>
                  <a:lnTo>
                    <a:pt x="18633" y="927"/>
                  </a:lnTo>
                  <a:lnTo>
                    <a:pt x="19211" y="811"/>
                  </a:lnTo>
                  <a:lnTo>
                    <a:pt x="19674" y="695"/>
                  </a:lnTo>
                  <a:lnTo>
                    <a:pt x="20253" y="695"/>
                  </a:lnTo>
                  <a:lnTo>
                    <a:pt x="20831" y="579"/>
                  </a:lnTo>
                  <a:lnTo>
                    <a:pt x="21410" y="464"/>
                  </a:lnTo>
                  <a:lnTo>
                    <a:pt x="21989" y="348"/>
                  </a:lnTo>
                  <a:lnTo>
                    <a:pt x="22567" y="116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756720" y="4356360"/>
              <a:ext cx="74160" cy="335520"/>
            </a:xfrm>
            <a:custGeom>
              <a:avLst/>
              <a:gdLst/>
              <a:ahLst/>
              <a:rect l="l" t="t" r="r" b="b"/>
              <a:pathLst>
                <a:path w="2083" h="6254">
                  <a:moveTo>
                    <a:pt x="1620" y="0"/>
                  </a:moveTo>
                  <a:lnTo>
                    <a:pt x="1273" y="695"/>
                  </a:lnTo>
                  <a:lnTo>
                    <a:pt x="1041" y="1506"/>
                  </a:lnTo>
                  <a:lnTo>
                    <a:pt x="925" y="2316"/>
                  </a:lnTo>
                  <a:lnTo>
                    <a:pt x="925" y="3127"/>
                  </a:lnTo>
                  <a:lnTo>
                    <a:pt x="1041" y="3822"/>
                  </a:lnTo>
                  <a:lnTo>
                    <a:pt x="1273" y="4633"/>
                  </a:lnTo>
                  <a:lnTo>
                    <a:pt x="1620" y="5328"/>
                  </a:lnTo>
                  <a:lnTo>
                    <a:pt x="2083" y="5907"/>
                  </a:lnTo>
                  <a:lnTo>
                    <a:pt x="2083" y="5907"/>
                  </a:lnTo>
                  <a:lnTo>
                    <a:pt x="2083" y="6254"/>
                  </a:lnTo>
                  <a:lnTo>
                    <a:pt x="2083" y="6254"/>
                  </a:lnTo>
                  <a:lnTo>
                    <a:pt x="1851" y="6254"/>
                  </a:lnTo>
                  <a:lnTo>
                    <a:pt x="1736" y="6254"/>
                  </a:lnTo>
                  <a:lnTo>
                    <a:pt x="1504" y="6254"/>
                  </a:lnTo>
                  <a:lnTo>
                    <a:pt x="1388" y="6138"/>
                  </a:lnTo>
                  <a:lnTo>
                    <a:pt x="1273" y="6022"/>
                  </a:lnTo>
                  <a:lnTo>
                    <a:pt x="1041" y="5907"/>
                  </a:lnTo>
                  <a:lnTo>
                    <a:pt x="925" y="5907"/>
                  </a:lnTo>
                  <a:lnTo>
                    <a:pt x="810" y="5791"/>
                  </a:lnTo>
                  <a:lnTo>
                    <a:pt x="810" y="5791"/>
                  </a:lnTo>
                  <a:lnTo>
                    <a:pt x="462" y="5212"/>
                  </a:lnTo>
                  <a:lnTo>
                    <a:pt x="231" y="4748"/>
                  </a:lnTo>
                  <a:lnTo>
                    <a:pt x="0" y="4169"/>
                  </a:lnTo>
                  <a:lnTo>
                    <a:pt x="0" y="3475"/>
                  </a:lnTo>
                  <a:lnTo>
                    <a:pt x="0" y="2896"/>
                  </a:lnTo>
                  <a:lnTo>
                    <a:pt x="0" y="2201"/>
                  </a:lnTo>
                  <a:lnTo>
                    <a:pt x="115" y="1622"/>
                  </a:lnTo>
                  <a:lnTo>
                    <a:pt x="231" y="1043"/>
                  </a:lnTo>
                  <a:lnTo>
                    <a:pt x="231" y="1043"/>
                  </a:lnTo>
                  <a:lnTo>
                    <a:pt x="347" y="927"/>
                  </a:lnTo>
                  <a:lnTo>
                    <a:pt x="462" y="695"/>
                  </a:lnTo>
                  <a:lnTo>
                    <a:pt x="694" y="579"/>
                  </a:lnTo>
                  <a:lnTo>
                    <a:pt x="810" y="348"/>
                  </a:lnTo>
                  <a:lnTo>
                    <a:pt x="925" y="232"/>
                  </a:lnTo>
                  <a:lnTo>
                    <a:pt x="1157" y="116"/>
                  </a:lnTo>
                  <a:lnTo>
                    <a:pt x="1388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810720" y="4375080"/>
              <a:ext cx="37080" cy="279720"/>
            </a:xfrm>
            <a:custGeom>
              <a:avLst/>
              <a:gdLst/>
              <a:ahLst/>
              <a:rect l="l" t="t" r="r" b="b"/>
              <a:pathLst>
                <a:path w="1042" h="5211">
                  <a:moveTo>
                    <a:pt x="694" y="1968"/>
                  </a:moveTo>
                  <a:lnTo>
                    <a:pt x="1042" y="3706"/>
                  </a:lnTo>
                  <a:lnTo>
                    <a:pt x="810" y="5211"/>
                  </a:lnTo>
                  <a:lnTo>
                    <a:pt x="810" y="5211"/>
                  </a:lnTo>
                  <a:lnTo>
                    <a:pt x="463" y="4632"/>
                  </a:lnTo>
                  <a:lnTo>
                    <a:pt x="232" y="3937"/>
                  </a:lnTo>
                  <a:lnTo>
                    <a:pt x="0" y="3358"/>
                  </a:lnTo>
                  <a:lnTo>
                    <a:pt x="0" y="2663"/>
                  </a:lnTo>
                  <a:lnTo>
                    <a:pt x="0" y="1968"/>
                  </a:lnTo>
                  <a:lnTo>
                    <a:pt x="0" y="1274"/>
                  </a:lnTo>
                  <a:lnTo>
                    <a:pt x="232" y="579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694" y="231"/>
                  </a:lnTo>
                  <a:lnTo>
                    <a:pt x="810" y="463"/>
                  </a:lnTo>
                  <a:lnTo>
                    <a:pt x="810" y="695"/>
                  </a:lnTo>
                  <a:lnTo>
                    <a:pt x="810" y="926"/>
                  </a:lnTo>
                  <a:lnTo>
                    <a:pt x="694" y="1158"/>
                  </a:lnTo>
                  <a:lnTo>
                    <a:pt x="694" y="1505"/>
                  </a:lnTo>
                  <a:lnTo>
                    <a:pt x="579" y="1737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1878480" y="4381560"/>
              <a:ext cx="32760" cy="55800"/>
            </a:xfrm>
            <a:custGeom>
              <a:avLst/>
              <a:gdLst/>
              <a:ahLst/>
              <a:rect l="l" t="t" r="r" b="b"/>
              <a:pathLst>
                <a:path w="926" h="1042">
                  <a:moveTo>
                    <a:pt x="926" y="926"/>
                  </a:moveTo>
                  <a:lnTo>
                    <a:pt x="926" y="1042"/>
                  </a:lnTo>
                  <a:lnTo>
                    <a:pt x="926" y="1042"/>
                  </a:lnTo>
                  <a:lnTo>
                    <a:pt x="810" y="1042"/>
                  </a:lnTo>
                  <a:lnTo>
                    <a:pt x="694" y="1042"/>
                  </a:lnTo>
                  <a:lnTo>
                    <a:pt x="579" y="1042"/>
                  </a:lnTo>
                  <a:lnTo>
                    <a:pt x="463" y="926"/>
                  </a:lnTo>
                  <a:lnTo>
                    <a:pt x="347" y="926"/>
                  </a:lnTo>
                  <a:lnTo>
                    <a:pt x="231" y="810"/>
                  </a:lnTo>
                  <a:lnTo>
                    <a:pt x="116" y="694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579" y="0"/>
                  </a:lnTo>
                  <a:lnTo>
                    <a:pt x="694" y="115"/>
                  </a:lnTo>
                  <a:lnTo>
                    <a:pt x="810" y="115"/>
                  </a:lnTo>
                  <a:lnTo>
                    <a:pt x="810" y="347"/>
                  </a:lnTo>
                  <a:lnTo>
                    <a:pt x="810" y="463"/>
                  </a:lnTo>
                  <a:lnTo>
                    <a:pt x="926" y="579"/>
                  </a:lnTo>
                  <a:lnTo>
                    <a:pt x="926" y="810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562320" y="4393800"/>
              <a:ext cx="227520" cy="391680"/>
            </a:xfrm>
            <a:custGeom>
              <a:avLst/>
              <a:gdLst/>
              <a:ahLst/>
              <a:rect l="l" t="t" r="r" b="b"/>
              <a:pathLst>
                <a:path w="6365" h="7296">
                  <a:moveTo>
                    <a:pt x="6365" y="5791"/>
                  </a:moveTo>
                  <a:lnTo>
                    <a:pt x="5671" y="6022"/>
                  </a:lnTo>
                  <a:lnTo>
                    <a:pt x="4977" y="6370"/>
                  </a:lnTo>
                  <a:lnTo>
                    <a:pt x="4282" y="6717"/>
                  </a:lnTo>
                  <a:lnTo>
                    <a:pt x="3588" y="7065"/>
                  </a:lnTo>
                  <a:lnTo>
                    <a:pt x="2778" y="7296"/>
                  </a:lnTo>
                  <a:lnTo>
                    <a:pt x="2083" y="7296"/>
                  </a:lnTo>
                  <a:lnTo>
                    <a:pt x="1389" y="6949"/>
                  </a:lnTo>
                  <a:lnTo>
                    <a:pt x="810" y="6370"/>
                  </a:lnTo>
                  <a:lnTo>
                    <a:pt x="810" y="6370"/>
                  </a:lnTo>
                  <a:lnTo>
                    <a:pt x="463" y="5906"/>
                  </a:lnTo>
                  <a:lnTo>
                    <a:pt x="116" y="5327"/>
                  </a:lnTo>
                  <a:lnTo>
                    <a:pt x="0" y="4748"/>
                  </a:lnTo>
                  <a:lnTo>
                    <a:pt x="0" y="4169"/>
                  </a:lnTo>
                  <a:lnTo>
                    <a:pt x="0" y="3590"/>
                  </a:lnTo>
                  <a:lnTo>
                    <a:pt x="0" y="3011"/>
                  </a:lnTo>
                  <a:lnTo>
                    <a:pt x="116" y="2432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695" y="1274"/>
                  </a:lnTo>
                  <a:lnTo>
                    <a:pt x="1157" y="811"/>
                  </a:lnTo>
                  <a:lnTo>
                    <a:pt x="1736" y="579"/>
                  </a:lnTo>
                  <a:lnTo>
                    <a:pt x="2431" y="463"/>
                  </a:lnTo>
                  <a:lnTo>
                    <a:pt x="3125" y="348"/>
                  </a:lnTo>
                  <a:lnTo>
                    <a:pt x="3935" y="232"/>
                  </a:lnTo>
                  <a:lnTo>
                    <a:pt x="4629" y="232"/>
                  </a:lnTo>
                  <a:lnTo>
                    <a:pt x="5208" y="0"/>
                  </a:lnTo>
                  <a:lnTo>
                    <a:pt x="5208" y="0"/>
                  </a:lnTo>
                  <a:lnTo>
                    <a:pt x="5092" y="811"/>
                  </a:lnTo>
                  <a:lnTo>
                    <a:pt x="4977" y="1506"/>
                  </a:lnTo>
                  <a:lnTo>
                    <a:pt x="4977" y="2316"/>
                  </a:lnTo>
                  <a:lnTo>
                    <a:pt x="4977" y="3127"/>
                  </a:lnTo>
                  <a:lnTo>
                    <a:pt x="5092" y="3938"/>
                  </a:lnTo>
                  <a:lnTo>
                    <a:pt x="5324" y="4633"/>
                  </a:lnTo>
                  <a:lnTo>
                    <a:pt x="5787" y="5327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close/>
                </a:path>
              </a:pathLst>
            </a:custGeom>
            <a:solidFill>
              <a:srgbClr val="ff3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1026000" y="4399920"/>
              <a:ext cx="835920" cy="857880"/>
            </a:xfrm>
            <a:custGeom>
              <a:avLst/>
              <a:gdLst/>
              <a:ahLst/>
              <a:rect l="l" t="t" r="r" b="b"/>
              <a:pathLst>
                <a:path w="23378" h="15982">
                  <a:moveTo>
                    <a:pt x="23378" y="6949"/>
                  </a:moveTo>
                  <a:lnTo>
                    <a:pt x="23031" y="7180"/>
                  </a:lnTo>
                  <a:lnTo>
                    <a:pt x="22568" y="7412"/>
                  </a:lnTo>
                  <a:lnTo>
                    <a:pt x="22221" y="7528"/>
                  </a:lnTo>
                  <a:lnTo>
                    <a:pt x="21758" y="7528"/>
                  </a:lnTo>
                  <a:lnTo>
                    <a:pt x="21295" y="7643"/>
                  </a:lnTo>
                  <a:lnTo>
                    <a:pt x="20832" y="7643"/>
                  </a:lnTo>
                  <a:lnTo>
                    <a:pt x="20369" y="7759"/>
                  </a:lnTo>
                  <a:lnTo>
                    <a:pt x="19906" y="7875"/>
                  </a:lnTo>
                  <a:lnTo>
                    <a:pt x="19906" y="7875"/>
                  </a:lnTo>
                  <a:lnTo>
                    <a:pt x="16203" y="9033"/>
                  </a:lnTo>
                  <a:lnTo>
                    <a:pt x="2778" y="15055"/>
                  </a:lnTo>
                  <a:lnTo>
                    <a:pt x="2778" y="15055"/>
                  </a:lnTo>
                  <a:lnTo>
                    <a:pt x="2546" y="15171"/>
                  </a:lnTo>
                  <a:lnTo>
                    <a:pt x="2199" y="15403"/>
                  </a:lnTo>
                  <a:lnTo>
                    <a:pt x="1852" y="15518"/>
                  </a:lnTo>
                  <a:lnTo>
                    <a:pt x="1505" y="15750"/>
                  </a:lnTo>
                  <a:lnTo>
                    <a:pt x="1157" y="15866"/>
                  </a:lnTo>
                  <a:lnTo>
                    <a:pt x="810" y="15982"/>
                  </a:lnTo>
                  <a:lnTo>
                    <a:pt x="463" y="15982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0" y="14592"/>
                  </a:lnTo>
                  <a:lnTo>
                    <a:pt x="116" y="13202"/>
                  </a:lnTo>
                  <a:lnTo>
                    <a:pt x="116" y="11813"/>
                  </a:lnTo>
                  <a:lnTo>
                    <a:pt x="232" y="10423"/>
                  </a:lnTo>
                  <a:lnTo>
                    <a:pt x="347" y="8917"/>
                  </a:lnTo>
                  <a:lnTo>
                    <a:pt x="347" y="7528"/>
                  </a:lnTo>
                  <a:lnTo>
                    <a:pt x="463" y="6138"/>
                  </a:lnTo>
                  <a:lnTo>
                    <a:pt x="579" y="4748"/>
                  </a:lnTo>
                  <a:lnTo>
                    <a:pt x="579" y="4748"/>
                  </a:lnTo>
                  <a:lnTo>
                    <a:pt x="1157" y="4748"/>
                  </a:lnTo>
                  <a:lnTo>
                    <a:pt x="1620" y="4980"/>
                  </a:lnTo>
                  <a:lnTo>
                    <a:pt x="2083" y="5211"/>
                  </a:lnTo>
                  <a:lnTo>
                    <a:pt x="2546" y="5559"/>
                  </a:lnTo>
                  <a:lnTo>
                    <a:pt x="3009" y="5790"/>
                  </a:lnTo>
                  <a:lnTo>
                    <a:pt x="3472" y="5790"/>
                  </a:lnTo>
                  <a:lnTo>
                    <a:pt x="3935" y="5675"/>
                  </a:lnTo>
                  <a:lnTo>
                    <a:pt x="4514" y="5327"/>
                  </a:lnTo>
                  <a:lnTo>
                    <a:pt x="4514" y="5327"/>
                  </a:lnTo>
                  <a:lnTo>
                    <a:pt x="4514" y="5211"/>
                  </a:lnTo>
                  <a:lnTo>
                    <a:pt x="4629" y="5096"/>
                  </a:lnTo>
                  <a:lnTo>
                    <a:pt x="4629" y="4980"/>
                  </a:lnTo>
                  <a:lnTo>
                    <a:pt x="4745" y="4980"/>
                  </a:lnTo>
                  <a:lnTo>
                    <a:pt x="4745" y="4864"/>
                  </a:lnTo>
                  <a:lnTo>
                    <a:pt x="4745" y="4748"/>
                  </a:lnTo>
                  <a:lnTo>
                    <a:pt x="4861" y="4632"/>
                  </a:lnTo>
                  <a:lnTo>
                    <a:pt x="4861" y="4517"/>
                  </a:lnTo>
                  <a:lnTo>
                    <a:pt x="4861" y="4517"/>
                  </a:lnTo>
                  <a:lnTo>
                    <a:pt x="4861" y="4401"/>
                  </a:lnTo>
                  <a:lnTo>
                    <a:pt x="4745" y="4285"/>
                  </a:lnTo>
                  <a:lnTo>
                    <a:pt x="4745" y="4169"/>
                  </a:lnTo>
                  <a:lnTo>
                    <a:pt x="4745" y="4053"/>
                  </a:lnTo>
                  <a:lnTo>
                    <a:pt x="4745" y="3937"/>
                  </a:lnTo>
                  <a:lnTo>
                    <a:pt x="4629" y="3822"/>
                  </a:lnTo>
                  <a:lnTo>
                    <a:pt x="4629" y="3706"/>
                  </a:lnTo>
                  <a:lnTo>
                    <a:pt x="4514" y="3706"/>
                  </a:lnTo>
                  <a:lnTo>
                    <a:pt x="4514" y="3706"/>
                  </a:lnTo>
                  <a:lnTo>
                    <a:pt x="6828" y="3127"/>
                  </a:lnTo>
                  <a:lnTo>
                    <a:pt x="9143" y="2664"/>
                  </a:lnTo>
                  <a:lnTo>
                    <a:pt x="11458" y="2316"/>
                  </a:lnTo>
                  <a:lnTo>
                    <a:pt x="13772" y="1853"/>
                  </a:lnTo>
                  <a:lnTo>
                    <a:pt x="15971" y="1390"/>
                  </a:lnTo>
                  <a:lnTo>
                    <a:pt x="18286" y="1042"/>
                  </a:lnTo>
                  <a:lnTo>
                    <a:pt x="20600" y="579"/>
                  </a:lnTo>
                  <a:lnTo>
                    <a:pt x="22799" y="0"/>
                  </a:lnTo>
                  <a:lnTo>
                    <a:pt x="22799" y="0"/>
                  </a:lnTo>
                  <a:lnTo>
                    <a:pt x="22799" y="926"/>
                  </a:lnTo>
                  <a:lnTo>
                    <a:pt x="22799" y="1737"/>
                  </a:lnTo>
                  <a:lnTo>
                    <a:pt x="22799" y="2664"/>
                  </a:lnTo>
                  <a:lnTo>
                    <a:pt x="22799" y="3590"/>
                  </a:lnTo>
                  <a:lnTo>
                    <a:pt x="22915" y="4401"/>
                  </a:lnTo>
                  <a:lnTo>
                    <a:pt x="23031" y="5327"/>
                  </a:lnTo>
                  <a:lnTo>
                    <a:pt x="23147" y="6138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852120" y="4437360"/>
              <a:ext cx="20520" cy="111600"/>
            </a:xfrm>
            <a:custGeom>
              <a:avLst/>
              <a:gdLst/>
              <a:ahLst/>
              <a:rect l="l" t="t" r="r" b="b"/>
              <a:pathLst>
                <a:path w="579" h="2084">
                  <a:moveTo>
                    <a:pt x="579" y="695"/>
                  </a:moveTo>
                  <a:lnTo>
                    <a:pt x="116" y="2084"/>
                  </a:lnTo>
                  <a:lnTo>
                    <a:pt x="116" y="2084"/>
                  </a:lnTo>
                  <a:lnTo>
                    <a:pt x="0" y="1853"/>
                  </a:lnTo>
                  <a:lnTo>
                    <a:pt x="0" y="1621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0" y="810"/>
                  </a:lnTo>
                  <a:lnTo>
                    <a:pt x="0" y="579"/>
                  </a:lnTo>
                  <a:lnTo>
                    <a:pt x="0" y="231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232" y="0"/>
                  </a:lnTo>
                  <a:lnTo>
                    <a:pt x="348" y="116"/>
                  </a:lnTo>
                  <a:lnTo>
                    <a:pt x="348" y="116"/>
                  </a:lnTo>
                  <a:lnTo>
                    <a:pt x="463" y="231"/>
                  </a:lnTo>
                  <a:lnTo>
                    <a:pt x="463" y="347"/>
                  </a:lnTo>
                  <a:lnTo>
                    <a:pt x="463" y="463"/>
                  </a:lnTo>
                  <a:lnTo>
                    <a:pt x="463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587160" y="4654800"/>
              <a:ext cx="144720" cy="105480"/>
            </a:xfrm>
            <a:custGeom>
              <a:avLst/>
              <a:gdLst/>
              <a:ahLst/>
              <a:rect l="l" t="t" r="r" b="b"/>
              <a:pathLst>
                <a:path w="4050" h="1969">
                  <a:moveTo>
                    <a:pt x="1157" y="1274"/>
                  </a:moveTo>
                  <a:lnTo>
                    <a:pt x="1157" y="1158"/>
                  </a:lnTo>
                  <a:lnTo>
                    <a:pt x="1157" y="1042"/>
                  </a:lnTo>
                  <a:lnTo>
                    <a:pt x="1041" y="1042"/>
                  </a:lnTo>
                  <a:lnTo>
                    <a:pt x="1041" y="927"/>
                  </a:lnTo>
                  <a:lnTo>
                    <a:pt x="1041" y="811"/>
                  </a:lnTo>
                  <a:lnTo>
                    <a:pt x="925" y="695"/>
                  </a:lnTo>
                  <a:lnTo>
                    <a:pt x="925" y="579"/>
                  </a:lnTo>
                  <a:lnTo>
                    <a:pt x="925" y="463"/>
                  </a:lnTo>
                  <a:lnTo>
                    <a:pt x="925" y="463"/>
                  </a:lnTo>
                  <a:lnTo>
                    <a:pt x="1157" y="463"/>
                  </a:lnTo>
                  <a:lnTo>
                    <a:pt x="1273" y="579"/>
                  </a:lnTo>
                  <a:lnTo>
                    <a:pt x="1388" y="695"/>
                  </a:lnTo>
                  <a:lnTo>
                    <a:pt x="1504" y="927"/>
                  </a:lnTo>
                  <a:lnTo>
                    <a:pt x="1620" y="1042"/>
                  </a:lnTo>
                  <a:lnTo>
                    <a:pt x="1620" y="1158"/>
                  </a:lnTo>
                  <a:lnTo>
                    <a:pt x="1851" y="1274"/>
                  </a:lnTo>
                  <a:lnTo>
                    <a:pt x="1967" y="1390"/>
                  </a:lnTo>
                  <a:lnTo>
                    <a:pt x="1967" y="1390"/>
                  </a:lnTo>
                  <a:lnTo>
                    <a:pt x="1851" y="1274"/>
                  </a:lnTo>
                  <a:lnTo>
                    <a:pt x="1851" y="1158"/>
                  </a:lnTo>
                  <a:lnTo>
                    <a:pt x="1851" y="1042"/>
                  </a:lnTo>
                  <a:lnTo>
                    <a:pt x="1736" y="927"/>
                  </a:lnTo>
                  <a:lnTo>
                    <a:pt x="1736" y="811"/>
                  </a:lnTo>
                  <a:lnTo>
                    <a:pt x="1736" y="695"/>
                  </a:lnTo>
                  <a:lnTo>
                    <a:pt x="1620" y="579"/>
                  </a:lnTo>
                  <a:lnTo>
                    <a:pt x="1620" y="463"/>
                  </a:lnTo>
                  <a:lnTo>
                    <a:pt x="1620" y="463"/>
                  </a:lnTo>
                  <a:lnTo>
                    <a:pt x="1851" y="463"/>
                  </a:lnTo>
                  <a:lnTo>
                    <a:pt x="1967" y="579"/>
                  </a:lnTo>
                  <a:lnTo>
                    <a:pt x="2083" y="811"/>
                  </a:lnTo>
                  <a:lnTo>
                    <a:pt x="2083" y="927"/>
                  </a:lnTo>
                  <a:lnTo>
                    <a:pt x="2198" y="1158"/>
                  </a:lnTo>
                  <a:lnTo>
                    <a:pt x="2314" y="1274"/>
                  </a:lnTo>
                  <a:lnTo>
                    <a:pt x="2546" y="1274"/>
                  </a:lnTo>
                  <a:lnTo>
                    <a:pt x="2777" y="1274"/>
                  </a:lnTo>
                  <a:lnTo>
                    <a:pt x="2777" y="1274"/>
                  </a:lnTo>
                  <a:lnTo>
                    <a:pt x="2661" y="1158"/>
                  </a:lnTo>
                  <a:lnTo>
                    <a:pt x="2661" y="1042"/>
                  </a:lnTo>
                  <a:lnTo>
                    <a:pt x="2661" y="1042"/>
                  </a:lnTo>
                  <a:lnTo>
                    <a:pt x="2546" y="927"/>
                  </a:lnTo>
                  <a:lnTo>
                    <a:pt x="2546" y="811"/>
                  </a:lnTo>
                  <a:lnTo>
                    <a:pt x="2430" y="695"/>
                  </a:lnTo>
                  <a:lnTo>
                    <a:pt x="2430" y="695"/>
                  </a:lnTo>
                  <a:lnTo>
                    <a:pt x="2430" y="579"/>
                  </a:lnTo>
                  <a:lnTo>
                    <a:pt x="2430" y="579"/>
                  </a:lnTo>
                  <a:lnTo>
                    <a:pt x="2546" y="579"/>
                  </a:lnTo>
                  <a:lnTo>
                    <a:pt x="2777" y="695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3009" y="1042"/>
                  </a:lnTo>
                  <a:lnTo>
                    <a:pt x="3124" y="1158"/>
                  </a:lnTo>
                  <a:lnTo>
                    <a:pt x="3356" y="1158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356" y="927"/>
                  </a:lnTo>
                  <a:lnTo>
                    <a:pt x="3240" y="811"/>
                  </a:lnTo>
                  <a:lnTo>
                    <a:pt x="3124" y="695"/>
                  </a:lnTo>
                  <a:lnTo>
                    <a:pt x="3009" y="579"/>
                  </a:lnTo>
                  <a:lnTo>
                    <a:pt x="3009" y="463"/>
                  </a:lnTo>
                  <a:lnTo>
                    <a:pt x="3009" y="348"/>
                  </a:lnTo>
                  <a:lnTo>
                    <a:pt x="3009" y="232"/>
                  </a:lnTo>
                  <a:lnTo>
                    <a:pt x="3009" y="232"/>
                  </a:lnTo>
                  <a:lnTo>
                    <a:pt x="3124" y="348"/>
                  </a:lnTo>
                  <a:lnTo>
                    <a:pt x="3240" y="348"/>
                  </a:lnTo>
                  <a:lnTo>
                    <a:pt x="3356" y="463"/>
                  </a:lnTo>
                  <a:lnTo>
                    <a:pt x="3471" y="579"/>
                  </a:lnTo>
                  <a:lnTo>
                    <a:pt x="3587" y="695"/>
                  </a:lnTo>
                  <a:lnTo>
                    <a:pt x="3819" y="811"/>
                  </a:lnTo>
                  <a:lnTo>
                    <a:pt x="3934" y="811"/>
                  </a:lnTo>
                  <a:lnTo>
                    <a:pt x="4050" y="927"/>
                  </a:lnTo>
                  <a:lnTo>
                    <a:pt x="4050" y="927"/>
                  </a:lnTo>
                  <a:lnTo>
                    <a:pt x="3934" y="1042"/>
                  </a:lnTo>
                  <a:lnTo>
                    <a:pt x="3819" y="1042"/>
                  </a:lnTo>
                  <a:lnTo>
                    <a:pt x="3703" y="1158"/>
                  </a:lnTo>
                  <a:lnTo>
                    <a:pt x="3587" y="1158"/>
                  </a:lnTo>
                  <a:lnTo>
                    <a:pt x="3471" y="1158"/>
                  </a:lnTo>
                  <a:lnTo>
                    <a:pt x="3356" y="1158"/>
                  </a:lnTo>
                  <a:lnTo>
                    <a:pt x="3356" y="1274"/>
                  </a:lnTo>
                  <a:lnTo>
                    <a:pt x="3471" y="1390"/>
                  </a:lnTo>
                  <a:lnTo>
                    <a:pt x="3471" y="1390"/>
                  </a:lnTo>
                  <a:lnTo>
                    <a:pt x="3009" y="1506"/>
                  </a:lnTo>
                  <a:lnTo>
                    <a:pt x="3009" y="1506"/>
                  </a:lnTo>
                  <a:lnTo>
                    <a:pt x="2893" y="1621"/>
                  </a:lnTo>
                  <a:lnTo>
                    <a:pt x="2777" y="1737"/>
                  </a:lnTo>
                  <a:lnTo>
                    <a:pt x="2661" y="1737"/>
                  </a:lnTo>
                  <a:lnTo>
                    <a:pt x="2546" y="1853"/>
                  </a:lnTo>
                  <a:lnTo>
                    <a:pt x="2314" y="1853"/>
                  </a:lnTo>
                  <a:lnTo>
                    <a:pt x="2198" y="1853"/>
                  </a:lnTo>
                  <a:lnTo>
                    <a:pt x="1967" y="1969"/>
                  </a:lnTo>
                  <a:lnTo>
                    <a:pt x="1851" y="1969"/>
                  </a:lnTo>
                  <a:lnTo>
                    <a:pt x="1851" y="1969"/>
                  </a:lnTo>
                  <a:lnTo>
                    <a:pt x="1736" y="1969"/>
                  </a:lnTo>
                  <a:lnTo>
                    <a:pt x="1504" y="1969"/>
                  </a:lnTo>
                  <a:lnTo>
                    <a:pt x="1273" y="1853"/>
                  </a:lnTo>
                  <a:lnTo>
                    <a:pt x="1157" y="1737"/>
                  </a:lnTo>
                  <a:lnTo>
                    <a:pt x="925" y="1621"/>
                  </a:lnTo>
                  <a:lnTo>
                    <a:pt x="810" y="1506"/>
                  </a:lnTo>
                  <a:lnTo>
                    <a:pt x="694" y="1390"/>
                  </a:lnTo>
                  <a:lnTo>
                    <a:pt x="462" y="1274"/>
                  </a:lnTo>
                  <a:lnTo>
                    <a:pt x="462" y="1274"/>
                  </a:lnTo>
                  <a:lnTo>
                    <a:pt x="347" y="1158"/>
                  </a:lnTo>
                  <a:lnTo>
                    <a:pt x="231" y="927"/>
                  </a:lnTo>
                  <a:lnTo>
                    <a:pt x="231" y="811"/>
                  </a:lnTo>
                  <a:lnTo>
                    <a:pt x="115" y="579"/>
                  </a:lnTo>
                  <a:lnTo>
                    <a:pt x="0" y="463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5" y="116"/>
                  </a:lnTo>
                  <a:lnTo>
                    <a:pt x="231" y="348"/>
                  </a:lnTo>
                  <a:lnTo>
                    <a:pt x="347" y="463"/>
                  </a:lnTo>
                  <a:lnTo>
                    <a:pt x="462" y="695"/>
                  </a:lnTo>
                  <a:lnTo>
                    <a:pt x="578" y="811"/>
                  </a:lnTo>
                  <a:lnTo>
                    <a:pt x="810" y="1042"/>
                  </a:lnTo>
                  <a:lnTo>
                    <a:pt x="925" y="1158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719640" y="4654800"/>
              <a:ext cx="37080" cy="43200"/>
            </a:xfrm>
            <a:custGeom>
              <a:avLst/>
              <a:gdLst/>
              <a:ahLst/>
              <a:rect l="l" t="t" r="r" b="b"/>
              <a:pathLst>
                <a:path w="1042" h="811">
                  <a:moveTo>
                    <a:pt x="1042" y="811"/>
                  </a:moveTo>
                  <a:lnTo>
                    <a:pt x="926" y="811"/>
                  </a:lnTo>
                  <a:lnTo>
                    <a:pt x="810" y="811"/>
                  </a:lnTo>
                  <a:lnTo>
                    <a:pt x="694" y="811"/>
                  </a:lnTo>
                  <a:lnTo>
                    <a:pt x="579" y="811"/>
                  </a:lnTo>
                  <a:lnTo>
                    <a:pt x="463" y="695"/>
                  </a:lnTo>
                  <a:lnTo>
                    <a:pt x="347" y="695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231" y="232"/>
                  </a:lnTo>
                  <a:lnTo>
                    <a:pt x="463" y="348"/>
                  </a:lnTo>
                  <a:lnTo>
                    <a:pt x="694" y="348"/>
                  </a:lnTo>
                  <a:lnTo>
                    <a:pt x="810" y="348"/>
                  </a:lnTo>
                  <a:lnTo>
                    <a:pt x="926" y="463"/>
                  </a:lnTo>
                  <a:lnTo>
                    <a:pt x="1042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984600" y="4661280"/>
              <a:ext cx="45360" cy="553320"/>
            </a:xfrm>
            <a:custGeom>
              <a:avLst/>
              <a:gdLst/>
              <a:ahLst/>
              <a:rect l="l" t="t" r="r" b="b"/>
              <a:pathLst>
                <a:path w="1273" h="10307">
                  <a:moveTo>
                    <a:pt x="1273" y="116"/>
                  </a:moveTo>
                  <a:lnTo>
                    <a:pt x="1273" y="1274"/>
                  </a:lnTo>
                  <a:lnTo>
                    <a:pt x="1157" y="2548"/>
                  </a:lnTo>
                  <a:lnTo>
                    <a:pt x="1157" y="3706"/>
                  </a:lnTo>
                  <a:lnTo>
                    <a:pt x="1041" y="4980"/>
                  </a:lnTo>
                  <a:lnTo>
                    <a:pt x="926" y="6254"/>
                  </a:lnTo>
                  <a:lnTo>
                    <a:pt x="810" y="7528"/>
                  </a:lnTo>
                  <a:lnTo>
                    <a:pt x="694" y="8917"/>
                  </a:lnTo>
                  <a:lnTo>
                    <a:pt x="694" y="10191"/>
                  </a:lnTo>
                  <a:lnTo>
                    <a:pt x="694" y="10191"/>
                  </a:lnTo>
                  <a:lnTo>
                    <a:pt x="578" y="10191"/>
                  </a:lnTo>
                  <a:lnTo>
                    <a:pt x="463" y="10191"/>
                  </a:lnTo>
                  <a:lnTo>
                    <a:pt x="347" y="10191"/>
                  </a:lnTo>
                  <a:lnTo>
                    <a:pt x="347" y="10307"/>
                  </a:lnTo>
                  <a:lnTo>
                    <a:pt x="231" y="10307"/>
                  </a:lnTo>
                  <a:lnTo>
                    <a:pt x="116" y="10307"/>
                  </a:lnTo>
                  <a:lnTo>
                    <a:pt x="116" y="10307"/>
                  </a:lnTo>
                  <a:lnTo>
                    <a:pt x="0" y="10307"/>
                  </a:lnTo>
                  <a:lnTo>
                    <a:pt x="0" y="10307"/>
                  </a:lnTo>
                  <a:lnTo>
                    <a:pt x="0" y="9033"/>
                  </a:lnTo>
                  <a:lnTo>
                    <a:pt x="116" y="7759"/>
                  </a:lnTo>
                  <a:lnTo>
                    <a:pt x="231" y="6485"/>
                  </a:lnTo>
                  <a:lnTo>
                    <a:pt x="347" y="5211"/>
                  </a:lnTo>
                  <a:lnTo>
                    <a:pt x="463" y="4053"/>
                  </a:lnTo>
                  <a:lnTo>
                    <a:pt x="578" y="2779"/>
                  </a:lnTo>
                  <a:lnTo>
                    <a:pt x="694" y="1505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1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959760" y="4679640"/>
              <a:ext cx="45360" cy="528480"/>
            </a:xfrm>
            <a:custGeom>
              <a:avLst/>
              <a:gdLst/>
              <a:ahLst/>
              <a:rect l="l" t="t" r="r" b="b"/>
              <a:pathLst>
                <a:path w="1273" h="9844">
                  <a:moveTo>
                    <a:pt x="1273" y="0"/>
                  </a:moveTo>
                  <a:lnTo>
                    <a:pt x="1042" y="1158"/>
                  </a:lnTo>
                  <a:lnTo>
                    <a:pt x="926" y="2432"/>
                  </a:lnTo>
                  <a:lnTo>
                    <a:pt x="811" y="3590"/>
                  </a:lnTo>
                  <a:lnTo>
                    <a:pt x="695" y="4864"/>
                  </a:lnTo>
                  <a:lnTo>
                    <a:pt x="579" y="6138"/>
                  </a:lnTo>
                  <a:lnTo>
                    <a:pt x="463" y="7412"/>
                  </a:lnTo>
                  <a:lnTo>
                    <a:pt x="463" y="8570"/>
                  </a:lnTo>
                  <a:lnTo>
                    <a:pt x="348" y="9844"/>
                  </a:lnTo>
                  <a:lnTo>
                    <a:pt x="348" y="9844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348" y="9844"/>
                  </a:lnTo>
                  <a:lnTo>
                    <a:pt x="348" y="9728"/>
                  </a:lnTo>
                  <a:lnTo>
                    <a:pt x="232" y="9728"/>
                  </a:lnTo>
                  <a:lnTo>
                    <a:pt x="116" y="9728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8570"/>
                  </a:lnTo>
                  <a:lnTo>
                    <a:pt x="116" y="7412"/>
                  </a:lnTo>
                  <a:lnTo>
                    <a:pt x="116" y="6254"/>
                  </a:lnTo>
                  <a:lnTo>
                    <a:pt x="232" y="4980"/>
                  </a:lnTo>
                  <a:lnTo>
                    <a:pt x="348" y="3822"/>
                  </a:lnTo>
                  <a:lnTo>
                    <a:pt x="463" y="2548"/>
                  </a:lnTo>
                  <a:lnTo>
                    <a:pt x="579" y="1390"/>
                  </a:lnTo>
                  <a:lnTo>
                    <a:pt x="811" y="232"/>
                  </a:lnTo>
                  <a:lnTo>
                    <a:pt x="811" y="232"/>
                  </a:lnTo>
                  <a:lnTo>
                    <a:pt x="926" y="232"/>
                  </a:lnTo>
                  <a:lnTo>
                    <a:pt x="926" y="116"/>
                  </a:lnTo>
                  <a:lnTo>
                    <a:pt x="1042" y="116"/>
                  </a:lnTo>
                  <a:lnTo>
                    <a:pt x="1042" y="116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926640" y="4698360"/>
              <a:ext cx="45360" cy="472320"/>
            </a:xfrm>
            <a:custGeom>
              <a:avLst/>
              <a:gdLst/>
              <a:ahLst/>
              <a:rect l="l" t="t" r="r" b="b"/>
              <a:pathLst>
                <a:path w="1273" h="8801">
                  <a:moveTo>
                    <a:pt x="578" y="8801"/>
                  </a:moveTo>
                  <a:lnTo>
                    <a:pt x="462" y="8801"/>
                  </a:lnTo>
                  <a:lnTo>
                    <a:pt x="462" y="8801"/>
                  </a:lnTo>
                  <a:lnTo>
                    <a:pt x="347" y="8801"/>
                  </a:lnTo>
                  <a:lnTo>
                    <a:pt x="231" y="8801"/>
                  </a:lnTo>
                  <a:lnTo>
                    <a:pt x="231" y="8801"/>
                  </a:lnTo>
                  <a:lnTo>
                    <a:pt x="115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115" y="7643"/>
                  </a:lnTo>
                  <a:lnTo>
                    <a:pt x="231" y="6485"/>
                  </a:lnTo>
                  <a:lnTo>
                    <a:pt x="347" y="5443"/>
                  </a:lnTo>
                  <a:lnTo>
                    <a:pt x="462" y="4285"/>
                  </a:lnTo>
                  <a:lnTo>
                    <a:pt x="694" y="3127"/>
                  </a:lnTo>
                  <a:lnTo>
                    <a:pt x="925" y="2084"/>
                  </a:lnTo>
                  <a:lnTo>
                    <a:pt x="1041" y="1042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157" y="1042"/>
                  </a:lnTo>
                  <a:lnTo>
                    <a:pt x="1041" y="2200"/>
                  </a:lnTo>
                  <a:lnTo>
                    <a:pt x="925" y="3242"/>
                  </a:lnTo>
                  <a:lnTo>
                    <a:pt x="810" y="4401"/>
                  </a:lnTo>
                  <a:lnTo>
                    <a:pt x="810" y="5443"/>
                  </a:lnTo>
                  <a:lnTo>
                    <a:pt x="694" y="6485"/>
                  </a:lnTo>
                  <a:lnTo>
                    <a:pt x="694" y="7643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1642320" y="4860000"/>
              <a:ext cx="264600" cy="945000"/>
            </a:xfrm>
            <a:custGeom>
              <a:avLst/>
              <a:gdLst/>
              <a:ahLst/>
              <a:rect l="l" t="t" r="r" b="b"/>
              <a:pathLst>
                <a:path w="7407" h="17603">
                  <a:moveTo>
                    <a:pt x="3356" y="0"/>
                  </a:moveTo>
                  <a:lnTo>
                    <a:pt x="3588" y="463"/>
                  </a:lnTo>
                  <a:lnTo>
                    <a:pt x="3935" y="1042"/>
                  </a:lnTo>
                  <a:lnTo>
                    <a:pt x="4282" y="1505"/>
                  </a:lnTo>
                  <a:lnTo>
                    <a:pt x="4630" y="1969"/>
                  </a:lnTo>
                  <a:lnTo>
                    <a:pt x="4861" y="2432"/>
                  </a:lnTo>
                  <a:lnTo>
                    <a:pt x="5208" y="2895"/>
                  </a:lnTo>
                  <a:lnTo>
                    <a:pt x="5440" y="3358"/>
                  </a:lnTo>
                  <a:lnTo>
                    <a:pt x="5555" y="3937"/>
                  </a:lnTo>
                  <a:lnTo>
                    <a:pt x="5555" y="3937"/>
                  </a:lnTo>
                  <a:lnTo>
                    <a:pt x="5555" y="4632"/>
                  </a:lnTo>
                  <a:lnTo>
                    <a:pt x="5324" y="5443"/>
                  </a:lnTo>
                  <a:lnTo>
                    <a:pt x="5208" y="6254"/>
                  </a:lnTo>
                  <a:lnTo>
                    <a:pt x="4977" y="7064"/>
                  </a:lnTo>
                  <a:lnTo>
                    <a:pt x="4861" y="7875"/>
                  </a:lnTo>
                  <a:lnTo>
                    <a:pt x="4745" y="8686"/>
                  </a:lnTo>
                  <a:lnTo>
                    <a:pt x="4630" y="9496"/>
                  </a:lnTo>
                  <a:lnTo>
                    <a:pt x="4514" y="10307"/>
                  </a:lnTo>
                  <a:lnTo>
                    <a:pt x="4514" y="10307"/>
                  </a:lnTo>
                  <a:lnTo>
                    <a:pt x="4630" y="10654"/>
                  </a:lnTo>
                  <a:lnTo>
                    <a:pt x="4861" y="10886"/>
                  </a:lnTo>
                  <a:lnTo>
                    <a:pt x="5092" y="11118"/>
                  </a:lnTo>
                  <a:lnTo>
                    <a:pt x="5208" y="11349"/>
                  </a:lnTo>
                  <a:lnTo>
                    <a:pt x="5440" y="11697"/>
                  </a:lnTo>
                  <a:lnTo>
                    <a:pt x="5555" y="11928"/>
                  </a:lnTo>
                  <a:lnTo>
                    <a:pt x="5787" y="12160"/>
                  </a:lnTo>
                  <a:lnTo>
                    <a:pt x="5903" y="12507"/>
                  </a:lnTo>
                  <a:lnTo>
                    <a:pt x="5903" y="12507"/>
                  </a:lnTo>
                  <a:lnTo>
                    <a:pt x="5440" y="12507"/>
                  </a:lnTo>
                  <a:lnTo>
                    <a:pt x="5208" y="12623"/>
                  </a:lnTo>
                  <a:lnTo>
                    <a:pt x="4861" y="12739"/>
                  </a:lnTo>
                  <a:lnTo>
                    <a:pt x="4514" y="12739"/>
                  </a:lnTo>
                  <a:lnTo>
                    <a:pt x="4167" y="12855"/>
                  </a:lnTo>
                  <a:lnTo>
                    <a:pt x="3935" y="13086"/>
                  </a:lnTo>
                  <a:lnTo>
                    <a:pt x="3588" y="13202"/>
                  </a:lnTo>
                  <a:lnTo>
                    <a:pt x="3356" y="13434"/>
                  </a:lnTo>
                  <a:lnTo>
                    <a:pt x="3356" y="13434"/>
                  </a:lnTo>
                  <a:lnTo>
                    <a:pt x="3704" y="13318"/>
                  </a:lnTo>
                  <a:lnTo>
                    <a:pt x="4051" y="13318"/>
                  </a:lnTo>
                  <a:lnTo>
                    <a:pt x="4398" y="13202"/>
                  </a:lnTo>
                  <a:lnTo>
                    <a:pt x="4745" y="13086"/>
                  </a:lnTo>
                  <a:lnTo>
                    <a:pt x="5092" y="13086"/>
                  </a:lnTo>
                  <a:lnTo>
                    <a:pt x="5440" y="12971"/>
                  </a:lnTo>
                  <a:lnTo>
                    <a:pt x="5787" y="12971"/>
                  </a:lnTo>
                  <a:lnTo>
                    <a:pt x="6134" y="12971"/>
                  </a:lnTo>
                  <a:lnTo>
                    <a:pt x="6134" y="12971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250" y="13086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318"/>
                  </a:lnTo>
                  <a:lnTo>
                    <a:pt x="6250" y="13318"/>
                  </a:lnTo>
                  <a:lnTo>
                    <a:pt x="5903" y="13318"/>
                  </a:lnTo>
                  <a:lnTo>
                    <a:pt x="5555" y="13318"/>
                  </a:lnTo>
                  <a:lnTo>
                    <a:pt x="5324" y="13434"/>
                  </a:lnTo>
                  <a:lnTo>
                    <a:pt x="5092" y="13550"/>
                  </a:lnTo>
                  <a:lnTo>
                    <a:pt x="4745" y="13781"/>
                  </a:lnTo>
                  <a:lnTo>
                    <a:pt x="4514" y="13897"/>
                  </a:lnTo>
                  <a:lnTo>
                    <a:pt x="4282" y="14129"/>
                  </a:lnTo>
                  <a:lnTo>
                    <a:pt x="4051" y="14244"/>
                  </a:lnTo>
                  <a:lnTo>
                    <a:pt x="4051" y="14244"/>
                  </a:lnTo>
                  <a:lnTo>
                    <a:pt x="4167" y="14244"/>
                  </a:lnTo>
                  <a:lnTo>
                    <a:pt x="4282" y="14244"/>
                  </a:lnTo>
                  <a:lnTo>
                    <a:pt x="4514" y="14244"/>
                  </a:lnTo>
                  <a:lnTo>
                    <a:pt x="4630" y="14129"/>
                  </a:lnTo>
                  <a:lnTo>
                    <a:pt x="4745" y="14013"/>
                  </a:lnTo>
                  <a:lnTo>
                    <a:pt x="4861" y="14013"/>
                  </a:lnTo>
                  <a:lnTo>
                    <a:pt x="5092" y="14013"/>
                  </a:lnTo>
                  <a:lnTo>
                    <a:pt x="5208" y="13897"/>
                  </a:lnTo>
                  <a:lnTo>
                    <a:pt x="5208" y="13897"/>
                  </a:lnTo>
                  <a:lnTo>
                    <a:pt x="5440" y="13897"/>
                  </a:lnTo>
                  <a:lnTo>
                    <a:pt x="5555" y="13897"/>
                  </a:lnTo>
                  <a:lnTo>
                    <a:pt x="5787" y="13897"/>
                  </a:lnTo>
                  <a:lnTo>
                    <a:pt x="6018" y="13781"/>
                  </a:lnTo>
                  <a:lnTo>
                    <a:pt x="6134" y="13781"/>
                  </a:lnTo>
                  <a:lnTo>
                    <a:pt x="6366" y="13781"/>
                  </a:lnTo>
                  <a:lnTo>
                    <a:pt x="6481" y="13781"/>
                  </a:lnTo>
                  <a:lnTo>
                    <a:pt x="6713" y="13781"/>
                  </a:lnTo>
                  <a:lnTo>
                    <a:pt x="6713" y="13781"/>
                  </a:lnTo>
                  <a:lnTo>
                    <a:pt x="6828" y="14244"/>
                  </a:lnTo>
                  <a:lnTo>
                    <a:pt x="7060" y="14592"/>
                  </a:lnTo>
                  <a:lnTo>
                    <a:pt x="7176" y="15055"/>
                  </a:lnTo>
                  <a:lnTo>
                    <a:pt x="7291" y="15518"/>
                  </a:lnTo>
                  <a:lnTo>
                    <a:pt x="7407" y="15982"/>
                  </a:lnTo>
                  <a:lnTo>
                    <a:pt x="7407" y="16329"/>
                  </a:lnTo>
                  <a:lnTo>
                    <a:pt x="7407" y="16792"/>
                  </a:lnTo>
                  <a:lnTo>
                    <a:pt x="7176" y="17255"/>
                  </a:lnTo>
                  <a:lnTo>
                    <a:pt x="7176" y="17255"/>
                  </a:lnTo>
                  <a:lnTo>
                    <a:pt x="6713" y="17371"/>
                  </a:lnTo>
                  <a:lnTo>
                    <a:pt x="6250" y="17487"/>
                  </a:lnTo>
                  <a:lnTo>
                    <a:pt x="5671" y="17603"/>
                  </a:lnTo>
                  <a:lnTo>
                    <a:pt x="5208" y="17487"/>
                  </a:lnTo>
                  <a:lnTo>
                    <a:pt x="4745" y="17371"/>
                  </a:lnTo>
                  <a:lnTo>
                    <a:pt x="4167" y="17255"/>
                  </a:lnTo>
                  <a:lnTo>
                    <a:pt x="3704" y="17024"/>
                  </a:lnTo>
                  <a:lnTo>
                    <a:pt x="3356" y="16792"/>
                  </a:lnTo>
                  <a:lnTo>
                    <a:pt x="3356" y="16792"/>
                  </a:lnTo>
                  <a:lnTo>
                    <a:pt x="2894" y="16329"/>
                  </a:lnTo>
                  <a:lnTo>
                    <a:pt x="2662" y="15634"/>
                  </a:lnTo>
                  <a:lnTo>
                    <a:pt x="2431" y="15055"/>
                  </a:lnTo>
                  <a:lnTo>
                    <a:pt x="2199" y="14360"/>
                  </a:lnTo>
                  <a:lnTo>
                    <a:pt x="1968" y="13665"/>
                  </a:lnTo>
                  <a:lnTo>
                    <a:pt x="1620" y="13202"/>
                  </a:lnTo>
                  <a:lnTo>
                    <a:pt x="1158" y="12855"/>
                  </a:lnTo>
                  <a:lnTo>
                    <a:pt x="463" y="12623"/>
                  </a:lnTo>
                  <a:lnTo>
                    <a:pt x="463" y="12623"/>
                  </a:lnTo>
                  <a:lnTo>
                    <a:pt x="232" y="12507"/>
                  </a:lnTo>
                  <a:lnTo>
                    <a:pt x="232" y="12391"/>
                  </a:lnTo>
                  <a:lnTo>
                    <a:pt x="116" y="12276"/>
                  </a:lnTo>
                  <a:lnTo>
                    <a:pt x="0" y="12044"/>
                  </a:lnTo>
                  <a:lnTo>
                    <a:pt x="0" y="11928"/>
                  </a:lnTo>
                  <a:lnTo>
                    <a:pt x="0" y="11812"/>
                  </a:lnTo>
                  <a:lnTo>
                    <a:pt x="0" y="11581"/>
                  </a:lnTo>
                  <a:lnTo>
                    <a:pt x="116" y="11465"/>
                  </a:lnTo>
                  <a:lnTo>
                    <a:pt x="116" y="11465"/>
                  </a:lnTo>
                  <a:lnTo>
                    <a:pt x="347" y="11118"/>
                  </a:lnTo>
                  <a:lnTo>
                    <a:pt x="579" y="10770"/>
                  </a:lnTo>
                  <a:lnTo>
                    <a:pt x="926" y="10539"/>
                  </a:lnTo>
                  <a:lnTo>
                    <a:pt x="1273" y="10307"/>
                  </a:lnTo>
                  <a:lnTo>
                    <a:pt x="1620" y="10075"/>
                  </a:lnTo>
                  <a:lnTo>
                    <a:pt x="1968" y="9844"/>
                  </a:lnTo>
                  <a:lnTo>
                    <a:pt x="2199" y="9612"/>
                  </a:lnTo>
                  <a:lnTo>
                    <a:pt x="2431" y="9265"/>
                  </a:lnTo>
                  <a:lnTo>
                    <a:pt x="2431" y="9265"/>
                  </a:lnTo>
                  <a:lnTo>
                    <a:pt x="2546" y="8570"/>
                  </a:lnTo>
                  <a:lnTo>
                    <a:pt x="2662" y="7991"/>
                  </a:lnTo>
                  <a:lnTo>
                    <a:pt x="2778" y="7412"/>
                  </a:lnTo>
                  <a:lnTo>
                    <a:pt x="2894" y="6833"/>
                  </a:lnTo>
                  <a:lnTo>
                    <a:pt x="3009" y="6254"/>
                  </a:lnTo>
                  <a:lnTo>
                    <a:pt x="3125" y="5675"/>
                  </a:lnTo>
                  <a:lnTo>
                    <a:pt x="3241" y="5095"/>
                  </a:lnTo>
                  <a:lnTo>
                    <a:pt x="3241" y="4516"/>
                  </a:lnTo>
                  <a:lnTo>
                    <a:pt x="3241" y="4516"/>
                  </a:lnTo>
                  <a:lnTo>
                    <a:pt x="3125" y="4053"/>
                  </a:lnTo>
                  <a:lnTo>
                    <a:pt x="3009" y="3706"/>
                  </a:lnTo>
                  <a:lnTo>
                    <a:pt x="2778" y="3243"/>
                  </a:lnTo>
                  <a:lnTo>
                    <a:pt x="2546" y="2895"/>
                  </a:lnTo>
                  <a:lnTo>
                    <a:pt x="2315" y="2548"/>
                  </a:lnTo>
                  <a:lnTo>
                    <a:pt x="2083" y="2200"/>
                  </a:lnTo>
                  <a:lnTo>
                    <a:pt x="1736" y="1853"/>
                  </a:lnTo>
                  <a:lnTo>
                    <a:pt x="1505" y="1505"/>
                  </a:lnTo>
                  <a:lnTo>
                    <a:pt x="1505" y="1505"/>
                  </a:lnTo>
                  <a:lnTo>
                    <a:pt x="1389" y="1390"/>
                  </a:lnTo>
                  <a:lnTo>
                    <a:pt x="1273" y="1274"/>
                  </a:lnTo>
                  <a:lnTo>
                    <a:pt x="1273" y="1158"/>
                  </a:lnTo>
                  <a:lnTo>
                    <a:pt x="1273" y="1042"/>
                  </a:lnTo>
                  <a:lnTo>
                    <a:pt x="1389" y="926"/>
                  </a:lnTo>
                  <a:lnTo>
                    <a:pt x="1389" y="811"/>
                  </a:lnTo>
                  <a:lnTo>
                    <a:pt x="1505" y="811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852" y="463"/>
                  </a:lnTo>
                  <a:lnTo>
                    <a:pt x="1852" y="463"/>
                  </a:lnTo>
                  <a:lnTo>
                    <a:pt x="1852" y="579"/>
                  </a:lnTo>
                  <a:lnTo>
                    <a:pt x="1736" y="695"/>
                  </a:lnTo>
                  <a:lnTo>
                    <a:pt x="1620" y="811"/>
                  </a:lnTo>
                  <a:lnTo>
                    <a:pt x="1505" y="926"/>
                  </a:lnTo>
                  <a:lnTo>
                    <a:pt x="1505" y="1042"/>
                  </a:lnTo>
                  <a:lnTo>
                    <a:pt x="1505" y="1158"/>
                  </a:lnTo>
                  <a:lnTo>
                    <a:pt x="1505" y="1274"/>
                  </a:lnTo>
                  <a:lnTo>
                    <a:pt x="1852" y="1274"/>
                  </a:lnTo>
                  <a:lnTo>
                    <a:pt x="1852" y="1274"/>
                  </a:lnTo>
                  <a:lnTo>
                    <a:pt x="1968" y="1158"/>
                  </a:lnTo>
                  <a:lnTo>
                    <a:pt x="2083" y="926"/>
                  </a:lnTo>
                  <a:lnTo>
                    <a:pt x="2315" y="695"/>
                  </a:lnTo>
                  <a:lnTo>
                    <a:pt x="2431" y="579"/>
                  </a:lnTo>
                  <a:lnTo>
                    <a:pt x="2662" y="463"/>
                  </a:lnTo>
                  <a:lnTo>
                    <a:pt x="2894" y="347"/>
                  </a:lnTo>
                  <a:lnTo>
                    <a:pt x="3125" y="116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1716840" y="4884840"/>
              <a:ext cx="41400" cy="80640"/>
            </a:xfrm>
            <a:custGeom>
              <a:avLst/>
              <a:gdLst/>
              <a:ahLst/>
              <a:rect l="l" t="t" r="r" b="b"/>
              <a:pathLst>
                <a:path w="1158" h="1506">
                  <a:moveTo>
                    <a:pt x="1158" y="0"/>
                  </a:moveTo>
                  <a:lnTo>
                    <a:pt x="1158" y="116"/>
                  </a:lnTo>
                  <a:lnTo>
                    <a:pt x="1042" y="232"/>
                  </a:lnTo>
                  <a:lnTo>
                    <a:pt x="1042" y="348"/>
                  </a:lnTo>
                  <a:lnTo>
                    <a:pt x="926" y="463"/>
                  </a:lnTo>
                  <a:lnTo>
                    <a:pt x="811" y="463"/>
                  </a:lnTo>
                  <a:lnTo>
                    <a:pt x="695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463" y="811"/>
                  </a:lnTo>
                  <a:lnTo>
                    <a:pt x="463" y="927"/>
                  </a:lnTo>
                  <a:lnTo>
                    <a:pt x="348" y="1042"/>
                  </a:lnTo>
                  <a:lnTo>
                    <a:pt x="348" y="1158"/>
                  </a:lnTo>
                  <a:lnTo>
                    <a:pt x="232" y="1274"/>
                  </a:lnTo>
                  <a:lnTo>
                    <a:pt x="232" y="1274"/>
                  </a:lnTo>
                  <a:lnTo>
                    <a:pt x="116" y="1390"/>
                  </a:lnTo>
                  <a:lnTo>
                    <a:pt x="116" y="1506"/>
                  </a:lnTo>
                  <a:lnTo>
                    <a:pt x="116" y="1506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1042"/>
                  </a:lnTo>
                  <a:lnTo>
                    <a:pt x="0" y="811"/>
                  </a:lnTo>
                  <a:lnTo>
                    <a:pt x="116" y="695"/>
                  </a:lnTo>
                  <a:lnTo>
                    <a:pt x="232" y="579"/>
                  </a:lnTo>
                  <a:lnTo>
                    <a:pt x="348" y="463"/>
                  </a:lnTo>
                  <a:lnTo>
                    <a:pt x="348" y="348"/>
                  </a:lnTo>
                  <a:lnTo>
                    <a:pt x="348" y="348"/>
                  </a:lnTo>
                  <a:lnTo>
                    <a:pt x="463" y="232"/>
                  </a:lnTo>
                  <a:lnTo>
                    <a:pt x="579" y="232"/>
                  </a:lnTo>
                  <a:lnTo>
                    <a:pt x="695" y="116"/>
                  </a:lnTo>
                  <a:lnTo>
                    <a:pt x="811" y="116"/>
                  </a:lnTo>
                  <a:lnTo>
                    <a:pt x="811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1729440" y="4922280"/>
              <a:ext cx="28800" cy="49680"/>
            </a:xfrm>
            <a:custGeom>
              <a:avLst/>
              <a:gdLst/>
              <a:ahLst/>
              <a:rect l="l" t="t" r="r" b="b"/>
              <a:pathLst>
                <a:path w="810" h="926">
                  <a:moveTo>
                    <a:pt x="810" y="0"/>
                  </a:moveTo>
                  <a:lnTo>
                    <a:pt x="694" y="116"/>
                  </a:lnTo>
                  <a:lnTo>
                    <a:pt x="694" y="232"/>
                  </a:lnTo>
                  <a:lnTo>
                    <a:pt x="694" y="347"/>
                  </a:lnTo>
                  <a:lnTo>
                    <a:pt x="578" y="463"/>
                  </a:lnTo>
                  <a:lnTo>
                    <a:pt x="463" y="579"/>
                  </a:lnTo>
                  <a:lnTo>
                    <a:pt x="463" y="695"/>
                  </a:lnTo>
                  <a:lnTo>
                    <a:pt x="347" y="811"/>
                  </a:lnTo>
                  <a:lnTo>
                    <a:pt x="347" y="926"/>
                  </a:lnTo>
                  <a:lnTo>
                    <a:pt x="347" y="926"/>
                  </a:lnTo>
                  <a:lnTo>
                    <a:pt x="0" y="926"/>
                  </a:lnTo>
                  <a:lnTo>
                    <a:pt x="0" y="926"/>
                  </a:lnTo>
                  <a:lnTo>
                    <a:pt x="0" y="811"/>
                  </a:lnTo>
                  <a:lnTo>
                    <a:pt x="115" y="579"/>
                  </a:lnTo>
                  <a:lnTo>
                    <a:pt x="115" y="463"/>
                  </a:lnTo>
                  <a:lnTo>
                    <a:pt x="231" y="347"/>
                  </a:lnTo>
                  <a:lnTo>
                    <a:pt x="347" y="232"/>
                  </a:lnTo>
                  <a:lnTo>
                    <a:pt x="463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1758240" y="4965840"/>
              <a:ext cx="12240" cy="18360"/>
            </a:xfrm>
            <a:custGeom>
              <a:avLst/>
              <a:gdLst/>
              <a:ahLst/>
              <a:rect l="l" t="t" r="r" b="b"/>
              <a:pathLst>
                <a:path w="347" h="347">
                  <a:moveTo>
                    <a:pt x="231" y="347"/>
                  </a:moveTo>
                  <a:lnTo>
                    <a:pt x="0" y="231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1063080" y="5140080"/>
              <a:ext cx="310320" cy="690120"/>
            </a:xfrm>
            <a:custGeom>
              <a:avLst/>
              <a:gdLst/>
              <a:ahLst/>
              <a:rect l="l" t="t" r="r" b="b"/>
              <a:pathLst>
                <a:path w="8680" h="12855">
                  <a:moveTo>
                    <a:pt x="7059" y="0"/>
                  </a:moveTo>
                  <a:lnTo>
                    <a:pt x="6944" y="116"/>
                  </a:lnTo>
                  <a:lnTo>
                    <a:pt x="6712" y="232"/>
                  </a:lnTo>
                  <a:lnTo>
                    <a:pt x="6596" y="348"/>
                  </a:lnTo>
                  <a:lnTo>
                    <a:pt x="6481" y="464"/>
                  </a:lnTo>
                  <a:lnTo>
                    <a:pt x="6365" y="579"/>
                  </a:lnTo>
                  <a:lnTo>
                    <a:pt x="6134" y="695"/>
                  </a:lnTo>
                  <a:lnTo>
                    <a:pt x="6018" y="811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1043"/>
                  </a:lnTo>
                  <a:lnTo>
                    <a:pt x="6018" y="1043"/>
                  </a:lnTo>
                  <a:lnTo>
                    <a:pt x="6018" y="1158"/>
                  </a:lnTo>
                  <a:lnTo>
                    <a:pt x="6134" y="1158"/>
                  </a:lnTo>
                  <a:lnTo>
                    <a:pt x="6249" y="1274"/>
                  </a:lnTo>
                  <a:lnTo>
                    <a:pt x="6249" y="1158"/>
                  </a:lnTo>
                  <a:lnTo>
                    <a:pt x="6365" y="1158"/>
                  </a:lnTo>
                  <a:lnTo>
                    <a:pt x="6365" y="1158"/>
                  </a:lnTo>
                  <a:lnTo>
                    <a:pt x="7291" y="348"/>
                  </a:lnTo>
                  <a:lnTo>
                    <a:pt x="7291" y="348"/>
                  </a:lnTo>
                  <a:lnTo>
                    <a:pt x="7291" y="464"/>
                  </a:lnTo>
                  <a:lnTo>
                    <a:pt x="7291" y="579"/>
                  </a:lnTo>
                  <a:lnTo>
                    <a:pt x="7291" y="695"/>
                  </a:lnTo>
                  <a:lnTo>
                    <a:pt x="7175" y="695"/>
                  </a:lnTo>
                  <a:lnTo>
                    <a:pt x="7059" y="811"/>
                  </a:lnTo>
                  <a:lnTo>
                    <a:pt x="6944" y="927"/>
                  </a:lnTo>
                  <a:lnTo>
                    <a:pt x="6828" y="1043"/>
                  </a:lnTo>
                  <a:lnTo>
                    <a:pt x="6828" y="1158"/>
                  </a:lnTo>
                  <a:lnTo>
                    <a:pt x="6828" y="1158"/>
                  </a:lnTo>
                  <a:lnTo>
                    <a:pt x="6712" y="1158"/>
                  </a:lnTo>
                  <a:lnTo>
                    <a:pt x="6712" y="1158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828" y="1506"/>
                  </a:lnTo>
                  <a:lnTo>
                    <a:pt x="6944" y="1506"/>
                  </a:lnTo>
                  <a:lnTo>
                    <a:pt x="7059" y="1506"/>
                  </a:lnTo>
                  <a:lnTo>
                    <a:pt x="7175" y="1390"/>
                  </a:lnTo>
                  <a:lnTo>
                    <a:pt x="7175" y="1274"/>
                  </a:lnTo>
                  <a:lnTo>
                    <a:pt x="7291" y="1158"/>
                  </a:lnTo>
                  <a:lnTo>
                    <a:pt x="7407" y="1158"/>
                  </a:lnTo>
                  <a:lnTo>
                    <a:pt x="7522" y="1043"/>
                  </a:lnTo>
                  <a:lnTo>
                    <a:pt x="7522" y="1043"/>
                  </a:lnTo>
                  <a:lnTo>
                    <a:pt x="7638" y="1274"/>
                  </a:lnTo>
                  <a:lnTo>
                    <a:pt x="7754" y="1506"/>
                  </a:lnTo>
                  <a:lnTo>
                    <a:pt x="7870" y="1737"/>
                  </a:lnTo>
                  <a:lnTo>
                    <a:pt x="8101" y="2085"/>
                  </a:lnTo>
                  <a:lnTo>
                    <a:pt x="8101" y="2316"/>
                  </a:lnTo>
                  <a:lnTo>
                    <a:pt x="8217" y="2548"/>
                  </a:lnTo>
                  <a:lnTo>
                    <a:pt x="8101" y="2780"/>
                  </a:lnTo>
                  <a:lnTo>
                    <a:pt x="7985" y="3011"/>
                  </a:lnTo>
                  <a:lnTo>
                    <a:pt x="7985" y="3011"/>
                  </a:lnTo>
                  <a:lnTo>
                    <a:pt x="7522" y="3359"/>
                  </a:lnTo>
                  <a:lnTo>
                    <a:pt x="7291" y="3706"/>
                  </a:lnTo>
                  <a:lnTo>
                    <a:pt x="6944" y="4054"/>
                  </a:lnTo>
                  <a:lnTo>
                    <a:pt x="6712" y="4517"/>
                  </a:lnTo>
                  <a:lnTo>
                    <a:pt x="6481" y="4864"/>
                  </a:lnTo>
                  <a:lnTo>
                    <a:pt x="6249" y="5212"/>
                  </a:lnTo>
                  <a:lnTo>
                    <a:pt x="5902" y="5559"/>
                  </a:lnTo>
                  <a:lnTo>
                    <a:pt x="5555" y="5791"/>
                  </a:lnTo>
                  <a:lnTo>
                    <a:pt x="5555" y="5791"/>
                  </a:lnTo>
                  <a:lnTo>
                    <a:pt x="5439" y="6486"/>
                  </a:lnTo>
                  <a:lnTo>
                    <a:pt x="5323" y="7180"/>
                  </a:lnTo>
                  <a:lnTo>
                    <a:pt x="5208" y="7760"/>
                  </a:lnTo>
                  <a:lnTo>
                    <a:pt x="5208" y="8454"/>
                  </a:lnTo>
                  <a:lnTo>
                    <a:pt x="5208" y="9149"/>
                  </a:lnTo>
                  <a:lnTo>
                    <a:pt x="5323" y="9844"/>
                  </a:lnTo>
                  <a:lnTo>
                    <a:pt x="5555" y="10423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6018" y="10886"/>
                  </a:lnTo>
                  <a:lnTo>
                    <a:pt x="6018" y="10771"/>
                  </a:lnTo>
                  <a:lnTo>
                    <a:pt x="6018" y="10771"/>
                  </a:lnTo>
                  <a:lnTo>
                    <a:pt x="6018" y="10655"/>
                  </a:lnTo>
                  <a:lnTo>
                    <a:pt x="6018" y="10539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6018" y="10423"/>
                  </a:lnTo>
                  <a:lnTo>
                    <a:pt x="6134" y="10423"/>
                  </a:lnTo>
                  <a:lnTo>
                    <a:pt x="6134" y="10539"/>
                  </a:lnTo>
                  <a:lnTo>
                    <a:pt x="6249" y="10539"/>
                  </a:lnTo>
                  <a:lnTo>
                    <a:pt x="6249" y="10655"/>
                  </a:lnTo>
                  <a:lnTo>
                    <a:pt x="6365" y="10655"/>
                  </a:lnTo>
                  <a:lnTo>
                    <a:pt x="6365" y="10771"/>
                  </a:lnTo>
                  <a:lnTo>
                    <a:pt x="6481" y="10886"/>
                  </a:lnTo>
                  <a:lnTo>
                    <a:pt x="6481" y="10886"/>
                  </a:lnTo>
                  <a:lnTo>
                    <a:pt x="6365" y="11465"/>
                  </a:lnTo>
                  <a:lnTo>
                    <a:pt x="6365" y="11465"/>
                  </a:lnTo>
                  <a:lnTo>
                    <a:pt x="6481" y="11465"/>
                  </a:lnTo>
                  <a:lnTo>
                    <a:pt x="6596" y="11465"/>
                  </a:lnTo>
                  <a:lnTo>
                    <a:pt x="6712" y="11465"/>
                  </a:lnTo>
                  <a:lnTo>
                    <a:pt x="6712" y="11350"/>
                  </a:lnTo>
                  <a:lnTo>
                    <a:pt x="6712" y="11234"/>
                  </a:lnTo>
                  <a:lnTo>
                    <a:pt x="6828" y="11118"/>
                  </a:lnTo>
                  <a:lnTo>
                    <a:pt x="6828" y="11002"/>
                  </a:lnTo>
                  <a:lnTo>
                    <a:pt x="6944" y="10886"/>
                  </a:lnTo>
                  <a:lnTo>
                    <a:pt x="6944" y="10886"/>
                  </a:lnTo>
                  <a:lnTo>
                    <a:pt x="7175" y="10886"/>
                  </a:lnTo>
                  <a:lnTo>
                    <a:pt x="7407" y="10886"/>
                  </a:lnTo>
                  <a:lnTo>
                    <a:pt x="7638" y="10886"/>
                  </a:lnTo>
                  <a:lnTo>
                    <a:pt x="7870" y="10886"/>
                  </a:lnTo>
                  <a:lnTo>
                    <a:pt x="8101" y="11002"/>
                  </a:lnTo>
                  <a:lnTo>
                    <a:pt x="8332" y="11002"/>
                  </a:lnTo>
                  <a:lnTo>
                    <a:pt x="8564" y="11234"/>
                  </a:lnTo>
                  <a:lnTo>
                    <a:pt x="8564" y="11581"/>
                  </a:lnTo>
                  <a:lnTo>
                    <a:pt x="8564" y="11581"/>
                  </a:lnTo>
                  <a:lnTo>
                    <a:pt x="8680" y="11929"/>
                  </a:lnTo>
                  <a:lnTo>
                    <a:pt x="8564" y="12160"/>
                  </a:lnTo>
                  <a:lnTo>
                    <a:pt x="8448" y="12392"/>
                  </a:lnTo>
                  <a:lnTo>
                    <a:pt x="8217" y="12508"/>
                  </a:lnTo>
                  <a:lnTo>
                    <a:pt x="7985" y="12624"/>
                  </a:lnTo>
                  <a:lnTo>
                    <a:pt x="7638" y="12624"/>
                  </a:lnTo>
                  <a:lnTo>
                    <a:pt x="7291" y="12739"/>
                  </a:lnTo>
                  <a:lnTo>
                    <a:pt x="7059" y="12855"/>
                  </a:lnTo>
                  <a:lnTo>
                    <a:pt x="7059" y="12855"/>
                  </a:lnTo>
                  <a:lnTo>
                    <a:pt x="6596" y="12855"/>
                  </a:lnTo>
                  <a:lnTo>
                    <a:pt x="6018" y="12739"/>
                  </a:lnTo>
                  <a:lnTo>
                    <a:pt x="5555" y="12739"/>
                  </a:lnTo>
                  <a:lnTo>
                    <a:pt x="5092" y="12624"/>
                  </a:lnTo>
                  <a:lnTo>
                    <a:pt x="4513" y="12508"/>
                  </a:lnTo>
                  <a:lnTo>
                    <a:pt x="4166" y="12276"/>
                  </a:lnTo>
                  <a:lnTo>
                    <a:pt x="3703" y="12044"/>
                  </a:lnTo>
                  <a:lnTo>
                    <a:pt x="3240" y="11813"/>
                  </a:lnTo>
                  <a:lnTo>
                    <a:pt x="3240" y="11813"/>
                  </a:lnTo>
                  <a:lnTo>
                    <a:pt x="2893" y="11234"/>
                  </a:lnTo>
                  <a:lnTo>
                    <a:pt x="2662" y="10539"/>
                  </a:lnTo>
                  <a:lnTo>
                    <a:pt x="2430" y="9960"/>
                  </a:lnTo>
                  <a:lnTo>
                    <a:pt x="2199" y="9265"/>
                  </a:lnTo>
                  <a:lnTo>
                    <a:pt x="1851" y="8686"/>
                  </a:lnTo>
                  <a:lnTo>
                    <a:pt x="1504" y="8107"/>
                  </a:lnTo>
                  <a:lnTo>
                    <a:pt x="926" y="7644"/>
                  </a:lnTo>
                  <a:lnTo>
                    <a:pt x="231" y="7412"/>
                  </a:lnTo>
                  <a:lnTo>
                    <a:pt x="231" y="7412"/>
                  </a:lnTo>
                  <a:lnTo>
                    <a:pt x="115" y="7296"/>
                  </a:lnTo>
                  <a:lnTo>
                    <a:pt x="115" y="7296"/>
                  </a:lnTo>
                  <a:lnTo>
                    <a:pt x="0" y="7180"/>
                  </a:lnTo>
                  <a:lnTo>
                    <a:pt x="0" y="7065"/>
                  </a:lnTo>
                  <a:lnTo>
                    <a:pt x="0" y="6949"/>
                  </a:lnTo>
                  <a:lnTo>
                    <a:pt x="0" y="6833"/>
                  </a:lnTo>
                  <a:lnTo>
                    <a:pt x="0" y="6717"/>
                  </a:lnTo>
                  <a:lnTo>
                    <a:pt x="0" y="6601"/>
                  </a:lnTo>
                  <a:lnTo>
                    <a:pt x="0" y="6601"/>
                  </a:lnTo>
                  <a:lnTo>
                    <a:pt x="231" y="6370"/>
                  </a:lnTo>
                  <a:lnTo>
                    <a:pt x="463" y="6138"/>
                  </a:lnTo>
                  <a:lnTo>
                    <a:pt x="810" y="6022"/>
                  </a:lnTo>
                  <a:lnTo>
                    <a:pt x="1157" y="5907"/>
                  </a:lnTo>
                  <a:lnTo>
                    <a:pt x="1504" y="5907"/>
                  </a:lnTo>
                  <a:lnTo>
                    <a:pt x="1851" y="5791"/>
                  </a:lnTo>
                  <a:lnTo>
                    <a:pt x="2199" y="5675"/>
                  </a:lnTo>
                  <a:lnTo>
                    <a:pt x="2430" y="5559"/>
                  </a:lnTo>
                  <a:lnTo>
                    <a:pt x="2430" y="5559"/>
                  </a:lnTo>
                  <a:lnTo>
                    <a:pt x="3009" y="5328"/>
                  </a:lnTo>
                  <a:lnTo>
                    <a:pt x="3472" y="4980"/>
                  </a:lnTo>
                  <a:lnTo>
                    <a:pt x="3935" y="4633"/>
                  </a:lnTo>
                  <a:lnTo>
                    <a:pt x="4398" y="4285"/>
                  </a:lnTo>
                  <a:lnTo>
                    <a:pt x="4860" y="3822"/>
                  </a:lnTo>
                  <a:lnTo>
                    <a:pt x="5323" y="3475"/>
                  </a:lnTo>
                  <a:lnTo>
                    <a:pt x="5671" y="3011"/>
                  </a:lnTo>
                  <a:lnTo>
                    <a:pt x="6018" y="2432"/>
                  </a:lnTo>
                  <a:lnTo>
                    <a:pt x="6018" y="2432"/>
                  </a:lnTo>
                  <a:lnTo>
                    <a:pt x="6018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249" y="2548"/>
                  </a:lnTo>
                  <a:lnTo>
                    <a:pt x="6249" y="2548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201"/>
                  </a:lnTo>
                  <a:lnTo>
                    <a:pt x="6134" y="1969"/>
                  </a:lnTo>
                  <a:lnTo>
                    <a:pt x="6018" y="1737"/>
                  </a:lnTo>
                  <a:lnTo>
                    <a:pt x="5902" y="1506"/>
                  </a:lnTo>
                  <a:lnTo>
                    <a:pt x="5786" y="1274"/>
                  </a:lnTo>
                  <a:lnTo>
                    <a:pt x="5671" y="1043"/>
                  </a:lnTo>
                  <a:lnTo>
                    <a:pt x="5555" y="811"/>
                  </a:lnTo>
                  <a:lnTo>
                    <a:pt x="5439" y="579"/>
                  </a:lnTo>
                  <a:lnTo>
                    <a:pt x="5439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811"/>
                  </a:lnTo>
                  <a:lnTo>
                    <a:pt x="5671" y="811"/>
                  </a:lnTo>
                  <a:lnTo>
                    <a:pt x="5786" y="811"/>
                  </a:lnTo>
                  <a:lnTo>
                    <a:pt x="5786" y="811"/>
                  </a:lnTo>
                  <a:lnTo>
                    <a:pt x="5902" y="695"/>
                  </a:lnTo>
                  <a:lnTo>
                    <a:pt x="6018" y="579"/>
                  </a:lnTo>
                  <a:lnTo>
                    <a:pt x="6249" y="464"/>
                  </a:lnTo>
                  <a:lnTo>
                    <a:pt x="6365" y="348"/>
                  </a:lnTo>
                  <a:lnTo>
                    <a:pt x="6481" y="232"/>
                  </a:lnTo>
                  <a:lnTo>
                    <a:pt x="6712" y="116"/>
                  </a:lnTo>
                  <a:lnTo>
                    <a:pt x="6828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4" name=""/>
          <p:cNvSpPr/>
          <p:nvPr/>
        </p:nvSpPr>
        <p:spPr>
          <a:xfrm>
            <a:off x="685800" y="1447920"/>
            <a:ext cx="758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We have seen how t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2514600" y="2209680"/>
            <a:ext cx="579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4800" indent="-3348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dentify monomial express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6" name="" descr=""/>
          <p:cNvPicPr/>
          <p:nvPr/>
        </p:nvPicPr>
        <p:blipFill>
          <a:blip r:embed="rId1"/>
          <a:stretch/>
        </p:blipFill>
        <p:spPr>
          <a:xfrm>
            <a:off x="3200400" y="2895480"/>
            <a:ext cx="4486320" cy="33912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084" dur="indefinite" restart="never" nodeType="tmRoot">
          <p:childTnLst>
            <p:seq>
              <p:cTn id="1085" dur="indefinite" nodeType="mainSeq">
                <p:childTnLst>
                  <p:par>
                    <p:cTn id="1086" fill="hold">
                      <p:stCondLst>
                        <p:cond delay="indefinite"/>
                      </p:stCondLst>
                      <p:childTnLst>
                        <p:par>
                          <p:cTn id="1087" fill="hold">
                            <p:stCondLst>
                              <p:cond delay="0"/>
                            </p:stCondLst>
                            <p:childTnLst>
                              <p:par>
                                <p:cTn id="108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0" dur="500" fill="hold"/>
                                        <p:tgtEl>
                                          <p:spTgt spid="9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1" dur="500" fill="hold"/>
                                        <p:tgtEl>
                                          <p:spTgt spid="9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6" dur="500"/>
                                        <p:tgtEl>
                                          <p:spTgt spid="9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"/>
          <p:cNvSpPr/>
          <p:nvPr/>
        </p:nvSpPr>
        <p:spPr>
          <a:xfrm>
            <a:off x="3124080" y="60948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8" name=""/>
          <p:cNvGrpSpPr/>
          <p:nvPr/>
        </p:nvGrpSpPr>
        <p:grpSpPr>
          <a:xfrm>
            <a:off x="533520" y="2895480"/>
            <a:ext cx="2209680" cy="2971800"/>
            <a:chOff x="533520" y="2895480"/>
            <a:chExt cx="2209680" cy="2971800"/>
          </a:xfrm>
        </p:grpSpPr>
        <p:sp>
          <p:nvSpPr>
            <p:cNvPr id="919" name=""/>
            <p:cNvSpPr/>
            <p:nvPr/>
          </p:nvSpPr>
          <p:spPr>
            <a:xfrm>
              <a:off x="533520" y="2895480"/>
              <a:ext cx="2209680" cy="297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541440" y="2907720"/>
              <a:ext cx="2193480" cy="2946960"/>
            </a:xfrm>
            <a:custGeom>
              <a:avLst/>
              <a:gdLst/>
              <a:ahLst/>
              <a:rect l="l" t="t" r="r" b="b"/>
              <a:pathLst>
                <a:path w="61339" h="54893">
                  <a:moveTo>
                    <a:pt x="20369" y="694"/>
                  </a:moveTo>
                  <a:lnTo>
                    <a:pt x="20485" y="579"/>
                  </a:lnTo>
                  <a:lnTo>
                    <a:pt x="20485" y="463"/>
                  </a:lnTo>
                  <a:lnTo>
                    <a:pt x="20601" y="463"/>
                  </a:lnTo>
                  <a:lnTo>
                    <a:pt x="20717" y="347"/>
                  </a:lnTo>
                  <a:lnTo>
                    <a:pt x="20832" y="347"/>
                  </a:lnTo>
                  <a:lnTo>
                    <a:pt x="20948" y="347"/>
                  </a:lnTo>
                  <a:lnTo>
                    <a:pt x="21064" y="231"/>
                  </a:lnTo>
                  <a:lnTo>
                    <a:pt x="21179" y="231"/>
                  </a:lnTo>
                  <a:lnTo>
                    <a:pt x="21179" y="231"/>
                  </a:lnTo>
                  <a:lnTo>
                    <a:pt x="21411" y="231"/>
                  </a:lnTo>
                  <a:lnTo>
                    <a:pt x="21527" y="347"/>
                  </a:lnTo>
                  <a:lnTo>
                    <a:pt x="21758" y="463"/>
                  </a:lnTo>
                  <a:lnTo>
                    <a:pt x="21990" y="579"/>
                  </a:lnTo>
                  <a:lnTo>
                    <a:pt x="22105" y="694"/>
                  </a:lnTo>
                  <a:lnTo>
                    <a:pt x="22221" y="810"/>
                  </a:lnTo>
                  <a:lnTo>
                    <a:pt x="22453" y="1042"/>
                  </a:lnTo>
                  <a:lnTo>
                    <a:pt x="22568" y="1274"/>
                  </a:lnTo>
                  <a:lnTo>
                    <a:pt x="22568" y="1274"/>
                  </a:lnTo>
                  <a:lnTo>
                    <a:pt x="22684" y="1158"/>
                  </a:lnTo>
                  <a:lnTo>
                    <a:pt x="22915" y="1042"/>
                  </a:lnTo>
                  <a:lnTo>
                    <a:pt x="23031" y="1042"/>
                  </a:lnTo>
                  <a:lnTo>
                    <a:pt x="23147" y="1042"/>
                  </a:lnTo>
                  <a:lnTo>
                    <a:pt x="23378" y="1042"/>
                  </a:lnTo>
                  <a:lnTo>
                    <a:pt x="23494" y="1042"/>
                  </a:lnTo>
                  <a:lnTo>
                    <a:pt x="23726" y="1042"/>
                  </a:lnTo>
                  <a:lnTo>
                    <a:pt x="23841" y="1158"/>
                  </a:lnTo>
                  <a:lnTo>
                    <a:pt x="23841" y="1158"/>
                  </a:lnTo>
                  <a:lnTo>
                    <a:pt x="23957" y="1158"/>
                  </a:lnTo>
                  <a:lnTo>
                    <a:pt x="24188" y="1274"/>
                  </a:lnTo>
                  <a:lnTo>
                    <a:pt x="24304" y="1389"/>
                  </a:lnTo>
                  <a:lnTo>
                    <a:pt x="24420" y="1505"/>
                  </a:lnTo>
                  <a:lnTo>
                    <a:pt x="24536" y="1621"/>
                  </a:lnTo>
                  <a:lnTo>
                    <a:pt x="24651" y="1621"/>
                  </a:lnTo>
                  <a:lnTo>
                    <a:pt x="24767" y="1621"/>
                  </a:lnTo>
                  <a:lnTo>
                    <a:pt x="24999" y="1389"/>
                  </a:lnTo>
                  <a:lnTo>
                    <a:pt x="24999" y="1389"/>
                  </a:lnTo>
                  <a:lnTo>
                    <a:pt x="25114" y="1389"/>
                  </a:lnTo>
                  <a:lnTo>
                    <a:pt x="25346" y="1505"/>
                  </a:lnTo>
                  <a:lnTo>
                    <a:pt x="25462" y="1505"/>
                  </a:lnTo>
                  <a:lnTo>
                    <a:pt x="25577" y="1621"/>
                  </a:lnTo>
                  <a:lnTo>
                    <a:pt x="25693" y="1737"/>
                  </a:lnTo>
                  <a:lnTo>
                    <a:pt x="25809" y="1853"/>
                  </a:lnTo>
                  <a:lnTo>
                    <a:pt x="25924" y="1968"/>
                  </a:lnTo>
                  <a:lnTo>
                    <a:pt x="26040" y="1968"/>
                  </a:lnTo>
                  <a:lnTo>
                    <a:pt x="26040" y="1968"/>
                  </a:lnTo>
                  <a:lnTo>
                    <a:pt x="26272" y="1968"/>
                  </a:lnTo>
                  <a:lnTo>
                    <a:pt x="26503" y="1853"/>
                  </a:lnTo>
                  <a:lnTo>
                    <a:pt x="26735" y="1853"/>
                  </a:lnTo>
                  <a:lnTo>
                    <a:pt x="26966" y="1737"/>
                  </a:lnTo>
                  <a:lnTo>
                    <a:pt x="27082" y="1737"/>
                  </a:lnTo>
                  <a:lnTo>
                    <a:pt x="27313" y="1737"/>
                  </a:lnTo>
                  <a:lnTo>
                    <a:pt x="27545" y="1853"/>
                  </a:lnTo>
                  <a:lnTo>
                    <a:pt x="27660" y="1968"/>
                  </a:lnTo>
                  <a:lnTo>
                    <a:pt x="27660" y="1968"/>
                  </a:lnTo>
                  <a:lnTo>
                    <a:pt x="28123" y="2316"/>
                  </a:lnTo>
                  <a:lnTo>
                    <a:pt x="28123" y="2316"/>
                  </a:lnTo>
                  <a:lnTo>
                    <a:pt x="28239" y="2084"/>
                  </a:lnTo>
                  <a:lnTo>
                    <a:pt x="28471" y="1968"/>
                  </a:lnTo>
                  <a:lnTo>
                    <a:pt x="28586" y="1968"/>
                  </a:lnTo>
                  <a:lnTo>
                    <a:pt x="28818" y="1968"/>
                  </a:lnTo>
                  <a:lnTo>
                    <a:pt x="29049" y="1968"/>
                  </a:lnTo>
                  <a:lnTo>
                    <a:pt x="29281" y="1968"/>
                  </a:lnTo>
                  <a:lnTo>
                    <a:pt x="29512" y="1968"/>
                  </a:lnTo>
                  <a:lnTo>
                    <a:pt x="29744" y="1968"/>
                  </a:lnTo>
                  <a:lnTo>
                    <a:pt x="29744" y="1968"/>
                  </a:lnTo>
                  <a:lnTo>
                    <a:pt x="29859" y="2084"/>
                  </a:lnTo>
                  <a:lnTo>
                    <a:pt x="29975" y="2200"/>
                  </a:lnTo>
                  <a:lnTo>
                    <a:pt x="29975" y="2316"/>
                  </a:lnTo>
                  <a:lnTo>
                    <a:pt x="30091" y="2432"/>
                  </a:lnTo>
                  <a:lnTo>
                    <a:pt x="30207" y="2547"/>
                  </a:lnTo>
                  <a:lnTo>
                    <a:pt x="30322" y="2663"/>
                  </a:lnTo>
                  <a:lnTo>
                    <a:pt x="30438" y="2779"/>
                  </a:lnTo>
                  <a:lnTo>
                    <a:pt x="30554" y="2779"/>
                  </a:lnTo>
                  <a:lnTo>
                    <a:pt x="30554" y="2779"/>
                  </a:lnTo>
                  <a:lnTo>
                    <a:pt x="30670" y="2779"/>
                  </a:lnTo>
                  <a:lnTo>
                    <a:pt x="30785" y="2663"/>
                  </a:lnTo>
                  <a:lnTo>
                    <a:pt x="30901" y="2663"/>
                  </a:lnTo>
                  <a:lnTo>
                    <a:pt x="31132" y="2663"/>
                  </a:lnTo>
                  <a:lnTo>
                    <a:pt x="31248" y="2663"/>
                  </a:lnTo>
                  <a:lnTo>
                    <a:pt x="31364" y="2663"/>
                  </a:lnTo>
                  <a:lnTo>
                    <a:pt x="31595" y="2663"/>
                  </a:lnTo>
                  <a:lnTo>
                    <a:pt x="31711" y="2663"/>
                  </a:lnTo>
                  <a:lnTo>
                    <a:pt x="31711" y="2663"/>
                  </a:lnTo>
                  <a:lnTo>
                    <a:pt x="31943" y="2895"/>
                  </a:lnTo>
                  <a:lnTo>
                    <a:pt x="32058" y="3011"/>
                  </a:lnTo>
                  <a:lnTo>
                    <a:pt x="32174" y="3126"/>
                  </a:lnTo>
                  <a:lnTo>
                    <a:pt x="32290" y="3358"/>
                  </a:lnTo>
                  <a:lnTo>
                    <a:pt x="32521" y="3474"/>
                  </a:lnTo>
                  <a:lnTo>
                    <a:pt x="32637" y="3474"/>
                  </a:lnTo>
                  <a:lnTo>
                    <a:pt x="-32668" y="3474"/>
                  </a:lnTo>
                  <a:lnTo>
                    <a:pt x="-32436" y="3242"/>
                  </a:lnTo>
                  <a:lnTo>
                    <a:pt x="-32436" y="3242"/>
                  </a:lnTo>
                  <a:lnTo>
                    <a:pt x="-32205" y="3242"/>
                  </a:lnTo>
                  <a:lnTo>
                    <a:pt x="-31973" y="3242"/>
                  </a:lnTo>
                  <a:lnTo>
                    <a:pt x="-31626" y="3358"/>
                  </a:lnTo>
                  <a:lnTo>
                    <a:pt x="-31395" y="3474"/>
                  </a:lnTo>
                  <a:lnTo>
                    <a:pt x="-31163" y="3706"/>
                  </a:lnTo>
                  <a:lnTo>
                    <a:pt x="-30932" y="3706"/>
                  </a:lnTo>
                  <a:lnTo>
                    <a:pt x="-30584" y="3821"/>
                  </a:lnTo>
                  <a:lnTo>
                    <a:pt x="-30237" y="3706"/>
                  </a:lnTo>
                  <a:lnTo>
                    <a:pt x="-30237" y="3706"/>
                  </a:lnTo>
                  <a:lnTo>
                    <a:pt x="-30006" y="3821"/>
                  </a:lnTo>
                  <a:lnTo>
                    <a:pt x="-29774" y="3937"/>
                  </a:lnTo>
                  <a:lnTo>
                    <a:pt x="-29543" y="3937"/>
                  </a:lnTo>
                  <a:lnTo>
                    <a:pt x="-29311" y="3937"/>
                  </a:lnTo>
                  <a:lnTo>
                    <a:pt x="-29080" y="3821"/>
                  </a:lnTo>
                  <a:lnTo>
                    <a:pt x="-28733" y="3937"/>
                  </a:lnTo>
                  <a:lnTo>
                    <a:pt x="-28501" y="4053"/>
                  </a:lnTo>
                  <a:lnTo>
                    <a:pt x="-28385" y="4169"/>
                  </a:lnTo>
                  <a:lnTo>
                    <a:pt x="-28385" y="4169"/>
                  </a:lnTo>
                  <a:lnTo>
                    <a:pt x="-28038" y="4169"/>
                  </a:lnTo>
                  <a:lnTo>
                    <a:pt x="-27807" y="4169"/>
                  </a:lnTo>
                  <a:lnTo>
                    <a:pt x="-27575" y="4169"/>
                  </a:lnTo>
                  <a:lnTo>
                    <a:pt x="-27344" y="4285"/>
                  </a:lnTo>
                  <a:lnTo>
                    <a:pt x="-27112" y="4400"/>
                  </a:lnTo>
                  <a:lnTo>
                    <a:pt x="-26881" y="4516"/>
                  </a:lnTo>
                  <a:lnTo>
                    <a:pt x="-26650" y="4516"/>
                  </a:lnTo>
                  <a:lnTo>
                    <a:pt x="-26418" y="4285"/>
                  </a:lnTo>
                  <a:lnTo>
                    <a:pt x="-26418" y="4285"/>
                  </a:lnTo>
                  <a:lnTo>
                    <a:pt x="-26187" y="4400"/>
                  </a:lnTo>
                  <a:lnTo>
                    <a:pt x="-25955" y="4516"/>
                  </a:lnTo>
                  <a:lnTo>
                    <a:pt x="-25724" y="4632"/>
                  </a:lnTo>
                  <a:lnTo>
                    <a:pt x="-25608" y="4748"/>
                  </a:lnTo>
                  <a:lnTo>
                    <a:pt x="-25492" y="4979"/>
                  </a:lnTo>
                  <a:lnTo>
                    <a:pt x="-25376" y="5095"/>
                  </a:lnTo>
                  <a:lnTo>
                    <a:pt x="-25261" y="5327"/>
                  </a:lnTo>
                  <a:lnTo>
                    <a:pt x="-25145" y="5558"/>
                  </a:lnTo>
                  <a:lnTo>
                    <a:pt x="-25145" y="5558"/>
                  </a:lnTo>
                  <a:lnTo>
                    <a:pt x="-25145" y="6022"/>
                  </a:lnTo>
                  <a:lnTo>
                    <a:pt x="-25145" y="6369"/>
                  </a:lnTo>
                  <a:lnTo>
                    <a:pt x="-25376" y="6717"/>
                  </a:lnTo>
                  <a:lnTo>
                    <a:pt x="-25492" y="7064"/>
                  </a:lnTo>
                  <a:lnTo>
                    <a:pt x="-25724" y="7296"/>
                  </a:lnTo>
                  <a:lnTo>
                    <a:pt x="-25839" y="7643"/>
                  </a:lnTo>
                  <a:lnTo>
                    <a:pt x="-25955" y="7990"/>
                  </a:lnTo>
                  <a:lnTo>
                    <a:pt x="-26071" y="8454"/>
                  </a:lnTo>
                  <a:lnTo>
                    <a:pt x="-26071" y="8454"/>
                  </a:lnTo>
                  <a:lnTo>
                    <a:pt x="-26534" y="9959"/>
                  </a:lnTo>
                  <a:lnTo>
                    <a:pt x="-26997" y="11465"/>
                  </a:lnTo>
                  <a:lnTo>
                    <a:pt x="-27344" y="13086"/>
                  </a:lnTo>
                  <a:lnTo>
                    <a:pt x="-27691" y="14707"/>
                  </a:lnTo>
                  <a:lnTo>
                    <a:pt x="-28038" y="16329"/>
                  </a:lnTo>
                  <a:lnTo>
                    <a:pt x="-28270" y="17950"/>
                  </a:lnTo>
                  <a:lnTo>
                    <a:pt x="-28501" y="19571"/>
                  </a:lnTo>
                  <a:lnTo>
                    <a:pt x="-28617" y="21193"/>
                  </a:lnTo>
                  <a:lnTo>
                    <a:pt x="-28617" y="21193"/>
                  </a:lnTo>
                  <a:lnTo>
                    <a:pt x="-28501" y="21309"/>
                  </a:lnTo>
                  <a:lnTo>
                    <a:pt x="-28501" y="21309"/>
                  </a:lnTo>
                  <a:lnTo>
                    <a:pt x="-26650" y="20845"/>
                  </a:lnTo>
                  <a:lnTo>
                    <a:pt x="-24914" y="20498"/>
                  </a:lnTo>
                  <a:lnTo>
                    <a:pt x="-23178" y="20150"/>
                  </a:lnTo>
                  <a:lnTo>
                    <a:pt x="-21326" y="19919"/>
                  </a:lnTo>
                  <a:lnTo>
                    <a:pt x="-19590" y="19571"/>
                  </a:lnTo>
                  <a:lnTo>
                    <a:pt x="-17738" y="19224"/>
                  </a:lnTo>
                  <a:lnTo>
                    <a:pt x="-16002" y="18992"/>
                  </a:lnTo>
                  <a:lnTo>
                    <a:pt x="-14266" y="18645"/>
                  </a:lnTo>
                  <a:lnTo>
                    <a:pt x="-14266" y="18645"/>
                  </a:lnTo>
                  <a:lnTo>
                    <a:pt x="-12993" y="18761"/>
                  </a:lnTo>
                  <a:lnTo>
                    <a:pt x="-11720" y="18877"/>
                  </a:lnTo>
                  <a:lnTo>
                    <a:pt x="-10563" y="18992"/>
                  </a:lnTo>
                  <a:lnTo>
                    <a:pt x="-9290" y="18992"/>
                  </a:lnTo>
                  <a:lnTo>
                    <a:pt x="-8017" y="19108"/>
                  </a:lnTo>
                  <a:lnTo>
                    <a:pt x="-6859" y="19224"/>
                  </a:lnTo>
                  <a:lnTo>
                    <a:pt x="-5586" y="19340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803"/>
                  </a:lnTo>
                  <a:lnTo>
                    <a:pt x="-4197" y="19803"/>
                  </a:lnTo>
                  <a:lnTo>
                    <a:pt x="-4313" y="19803"/>
                  </a:lnTo>
                  <a:lnTo>
                    <a:pt x="-4313" y="19803"/>
                  </a:lnTo>
                  <a:lnTo>
                    <a:pt x="-17044" y="25246"/>
                  </a:lnTo>
                  <a:lnTo>
                    <a:pt x="-17044" y="25246"/>
                  </a:lnTo>
                  <a:lnTo>
                    <a:pt x="-17159" y="25246"/>
                  </a:lnTo>
                  <a:lnTo>
                    <a:pt x="-17391" y="25246"/>
                  </a:lnTo>
                  <a:lnTo>
                    <a:pt x="-17622" y="25362"/>
                  </a:lnTo>
                  <a:lnTo>
                    <a:pt x="-17854" y="25362"/>
                  </a:lnTo>
                  <a:lnTo>
                    <a:pt x="-17970" y="25478"/>
                  </a:lnTo>
                  <a:lnTo>
                    <a:pt x="-18201" y="25478"/>
                  </a:lnTo>
                  <a:lnTo>
                    <a:pt x="-18317" y="25478"/>
                  </a:lnTo>
                  <a:lnTo>
                    <a:pt x="-18548" y="25594"/>
                  </a:lnTo>
                  <a:lnTo>
                    <a:pt x="-18548" y="25594"/>
                  </a:lnTo>
                  <a:lnTo>
                    <a:pt x="-18548" y="25941"/>
                  </a:lnTo>
                  <a:lnTo>
                    <a:pt x="-18664" y="26288"/>
                  </a:lnTo>
                  <a:lnTo>
                    <a:pt x="-18895" y="26636"/>
                  </a:lnTo>
                  <a:lnTo>
                    <a:pt x="-19127" y="26983"/>
                  </a:lnTo>
                  <a:lnTo>
                    <a:pt x="-19358" y="27215"/>
                  </a:lnTo>
                  <a:lnTo>
                    <a:pt x="-19706" y="27562"/>
                  </a:lnTo>
                  <a:lnTo>
                    <a:pt x="-19937" y="27794"/>
                  </a:lnTo>
                  <a:lnTo>
                    <a:pt x="-20284" y="28026"/>
                  </a:lnTo>
                  <a:lnTo>
                    <a:pt x="-20284" y="28026"/>
                  </a:lnTo>
                  <a:lnTo>
                    <a:pt x="-20631" y="28141"/>
                  </a:lnTo>
                  <a:lnTo>
                    <a:pt x="-20863" y="28257"/>
                  </a:lnTo>
                  <a:lnTo>
                    <a:pt x="-21094" y="28373"/>
                  </a:lnTo>
                  <a:lnTo>
                    <a:pt x="-21442" y="28373"/>
                  </a:lnTo>
                  <a:lnTo>
                    <a:pt x="-21673" y="28489"/>
                  </a:lnTo>
                  <a:lnTo>
                    <a:pt x="-22020" y="28489"/>
                  </a:lnTo>
                  <a:lnTo>
                    <a:pt x="-22252" y="28373"/>
                  </a:lnTo>
                  <a:lnTo>
                    <a:pt x="-22483" y="28141"/>
                  </a:lnTo>
                  <a:lnTo>
                    <a:pt x="-22483" y="28141"/>
                  </a:lnTo>
                  <a:lnTo>
                    <a:pt x="-22715" y="28257"/>
                  </a:lnTo>
                  <a:lnTo>
                    <a:pt x="-22830" y="28373"/>
                  </a:lnTo>
                  <a:lnTo>
                    <a:pt x="-23062" y="28489"/>
                  </a:lnTo>
                  <a:lnTo>
                    <a:pt x="-23293" y="28605"/>
                  </a:lnTo>
                  <a:lnTo>
                    <a:pt x="-23409" y="28605"/>
                  </a:lnTo>
                  <a:lnTo>
                    <a:pt x="-23640" y="28720"/>
                  </a:lnTo>
                  <a:lnTo>
                    <a:pt x="-23872" y="28720"/>
                  </a:lnTo>
                  <a:lnTo>
                    <a:pt x="-24103" y="28605"/>
                  </a:lnTo>
                  <a:lnTo>
                    <a:pt x="-24103" y="28605"/>
                  </a:lnTo>
                  <a:lnTo>
                    <a:pt x="-24335" y="28952"/>
                  </a:lnTo>
                  <a:lnTo>
                    <a:pt x="-24566" y="29184"/>
                  </a:lnTo>
                  <a:lnTo>
                    <a:pt x="-24798" y="29299"/>
                  </a:lnTo>
                  <a:lnTo>
                    <a:pt x="-25145" y="29415"/>
                  </a:lnTo>
                  <a:lnTo>
                    <a:pt x="-25376" y="29531"/>
                  </a:lnTo>
                  <a:lnTo>
                    <a:pt x="-25724" y="29531"/>
                  </a:lnTo>
                  <a:lnTo>
                    <a:pt x="-26071" y="29647"/>
                  </a:lnTo>
                  <a:lnTo>
                    <a:pt x="-26418" y="29531"/>
                  </a:lnTo>
                  <a:lnTo>
                    <a:pt x="-26418" y="29531"/>
                  </a:lnTo>
                  <a:lnTo>
                    <a:pt x="-26534" y="29531"/>
                  </a:lnTo>
                  <a:lnTo>
                    <a:pt x="-26650" y="29415"/>
                  </a:lnTo>
                  <a:lnTo>
                    <a:pt x="-26765" y="29299"/>
                  </a:lnTo>
                  <a:lnTo>
                    <a:pt x="-26881" y="29184"/>
                  </a:lnTo>
                  <a:lnTo>
                    <a:pt x="-26997" y="29068"/>
                  </a:lnTo>
                  <a:lnTo>
                    <a:pt x="-27112" y="28952"/>
                  </a:lnTo>
                  <a:lnTo>
                    <a:pt x="-27228" y="28952"/>
                  </a:lnTo>
                  <a:lnTo>
                    <a:pt x="-27460" y="29068"/>
                  </a:lnTo>
                  <a:lnTo>
                    <a:pt x="-27460" y="29068"/>
                  </a:lnTo>
                  <a:lnTo>
                    <a:pt x="-27575" y="29184"/>
                  </a:lnTo>
                  <a:lnTo>
                    <a:pt x="-27691" y="29299"/>
                  </a:lnTo>
                  <a:lnTo>
                    <a:pt x="-27923" y="29415"/>
                  </a:lnTo>
                  <a:lnTo>
                    <a:pt x="-28038" y="29531"/>
                  </a:lnTo>
                  <a:lnTo>
                    <a:pt x="-28270" y="29647"/>
                  </a:lnTo>
                  <a:lnTo>
                    <a:pt x="-28385" y="29763"/>
                  </a:lnTo>
                  <a:lnTo>
                    <a:pt x="-28617" y="29879"/>
                  </a:lnTo>
                  <a:lnTo>
                    <a:pt x="-28733" y="29994"/>
                  </a:lnTo>
                  <a:lnTo>
                    <a:pt x="-28733" y="29994"/>
                  </a:lnTo>
                  <a:lnTo>
                    <a:pt x="-28733" y="30689"/>
                  </a:lnTo>
                  <a:lnTo>
                    <a:pt x="-28733" y="31268"/>
                  </a:lnTo>
                  <a:lnTo>
                    <a:pt x="-28617" y="31963"/>
                  </a:lnTo>
                  <a:lnTo>
                    <a:pt x="-28501" y="32542"/>
                  </a:lnTo>
                  <a:lnTo>
                    <a:pt x="-28385" y="-32299"/>
                  </a:lnTo>
                  <a:lnTo>
                    <a:pt x="-28385" y="-31720"/>
                  </a:lnTo>
                  <a:lnTo>
                    <a:pt x="-28270" y="-31025"/>
                  </a:lnTo>
                  <a:lnTo>
                    <a:pt x="-28154" y="-30446"/>
                  </a:lnTo>
                  <a:lnTo>
                    <a:pt x="-28154" y="-30446"/>
                  </a:lnTo>
                  <a:lnTo>
                    <a:pt x="-28501" y="-30214"/>
                  </a:lnTo>
                  <a:lnTo>
                    <a:pt x="-28733" y="-29983"/>
                  </a:lnTo>
                  <a:lnTo>
                    <a:pt x="-29196" y="-29867"/>
                  </a:lnTo>
                  <a:lnTo>
                    <a:pt x="-29543" y="-29867"/>
                  </a:lnTo>
                  <a:lnTo>
                    <a:pt x="-29890" y="-29751"/>
                  </a:lnTo>
                  <a:lnTo>
                    <a:pt x="-30237" y="-29751"/>
                  </a:lnTo>
                  <a:lnTo>
                    <a:pt x="-30700" y="-29635"/>
                  </a:lnTo>
                  <a:lnTo>
                    <a:pt x="-31047" y="-29635"/>
                  </a:lnTo>
                  <a:lnTo>
                    <a:pt x="-31047" y="-29635"/>
                  </a:lnTo>
                  <a:lnTo>
                    <a:pt x="-31047" y="-29288"/>
                  </a:lnTo>
                  <a:lnTo>
                    <a:pt x="-31047" y="-29288"/>
                  </a:lnTo>
                  <a:lnTo>
                    <a:pt x="-30700" y="-28825"/>
                  </a:lnTo>
                  <a:lnTo>
                    <a:pt x="-30353" y="-28246"/>
                  </a:lnTo>
                  <a:lnTo>
                    <a:pt x="-30006" y="-27782"/>
                  </a:lnTo>
                  <a:lnTo>
                    <a:pt x="-29774" y="-27319"/>
                  </a:lnTo>
                  <a:lnTo>
                    <a:pt x="-29427" y="-26856"/>
                  </a:lnTo>
                  <a:lnTo>
                    <a:pt x="-29080" y="-26277"/>
                  </a:lnTo>
                  <a:lnTo>
                    <a:pt x="-28848" y="-25814"/>
                  </a:lnTo>
                  <a:lnTo>
                    <a:pt x="-28617" y="-25235"/>
                  </a:lnTo>
                  <a:lnTo>
                    <a:pt x="-28617" y="-25235"/>
                  </a:lnTo>
                  <a:lnTo>
                    <a:pt x="-28733" y="-24540"/>
                  </a:lnTo>
                  <a:lnTo>
                    <a:pt x="-28848" y="-23729"/>
                  </a:lnTo>
                  <a:lnTo>
                    <a:pt x="-28964" y="-23034"/>
                  </a:lnTo>
                  <a:lnTo>
                    <a:pt x="-29196" y="-22224"/>
                  </a:lnTo>
                  <a:lnTo>
                    <a:pt x="-29311" y="-21529"/>
                  </a:lnTo>
                  <a:lnTo>
                    <a:pt x="-29543" y="-20718"/>
                  </a:lnTo>
                  <a:lnTo>
                    <a:pt x="-29659" y="-20023"/>
                  </a:lnTo>
                  <a:lnTo>
                    <a:pt x="-29890" y="-19213"/>
                  </a:lnTo>
                  <a:lnTo>
                    <a:pt x="-29890" y="-19213"/>
                  </a:lnTo>
                  <a:lnTo>
                    <a:pt x="-29774" y="-18865"/>
                  </a:lnTo>
                  <a:lnTo>
                    <a:pt x="-29543" y="-18518"/>
                  </a:lnTo>
                  <a:lnTo>
                    <a:pt x="-29427" y="-18286"/>
                  </a:lnTo>
                  <a:lnTo>
                    <a:pt x="-29196" y="-18054"/>
                  </a:lnTo>
                  <a:lnTo>
                    <a:pt x="-28964" y="-17707"/>
                  </a:lnTo>
                  <a:lnTo>
                    <a:pt x="-28733" y="-17475"/>
                  </a:lnTo>
                  <a:lnTo>
                    <a:pt x="-28501" y="-17244"/>
                  </a:lnTo>
                  <a:lnTo>
                    <a:pt x="-28501" y="-16896"/>
                  </a:lnTo>
                  <a:lnTo>
                    <a:pt x="-28501" y="-16896"/>
                  </a:lnTo>
                  <a:lnTo>
                    <a:pt x="-28385" y="-16665"/>
                  </a:lnTo>
                  <a:lnTo>
                    <a:pt x="-28154" y="-16317"/>
                  </a:lnTo>
                  <a:lnTo>
                    <a:pt x="-28038" y="-16086"/>
                  </a:lnTo>
                  <a:lnTo>
                    <a:pt x="-27807" y="-15854"/>
                  </a:lnTo>
                  <a:lnTo>
                    <a:pt x="-27691" y="-15622"/>
                  </a:lnTo>
                  <a:lnTo>
                    <a:pt x="-27575" y="-15391"/>
                  </a:lnTo>
                  <a:lnTo>
                    <a:pt x="-27344" y="-15159"/>
                  </a:lnTo>
                  <a:lnTo>
                    <a:pt x="-27344" y="-14928"/>
                  </a:lnTo>
                  <a:lnTo>
                    <a:pt x="-27344" y="-14928"/>
                  </a:lnTo>
                  <a:lnTo>
                    <a:pt x="-27228" y="-14464"/>
                  </a:lnTo>
                  <a:lnTo>
                    <a:pt x="-26997" y="-14117"/>
                  </a:lnTo>
                  <a:lnTo>
                    <a:pt x="-26881" y="-13654"/>
                  </a:lnTo>
                  <a:lnTo>
                    <a:pt x="-26881" y="-13190"/>
                  </a:lnTo>
                  <a:lnTo>
                    <a:pt x="-26765" y="-12727"/>
                  </a:lnTo>
                  <a:lnTo>
                    <a:pt x="-26765" y="-12380"/>
                  </a:lnTo>
                  <a:lnTo>
                    <a:pt x="-26881" y="-11917"/>
                  </a:lnTo>
                  <a:lnTo>
                    <a:pt x="-27228" y="-11569"/>
                  </a:lnTo>
                  <a:lnTo>
                    <a:pt x="-27228" y="-11569"/>
                  </a:lnTo>
                  <a:lnTo>
                    <a:pt x="-27228" y="-11453"/>
                  </a:lnTo>
                  <a:lnTo>
                    <a:pt x="-27344" y="-11453"/>
                  </a:lnTo>
                  <a:lnTo>
                    <a:pt x="-27344" y="-11453"/>
                  </a:lnTo>
                  <a:lnTo>
                    <a:pt x="-27460" y="-11453"/>
                  </a:lnTo>
                  <a:lnTo>
                    <a:pt x="-27460" y="-11453"/>
                  </a:lnTo>
                  <a:lnTo>
                    <a:pt x="-27575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8154" y="-11222"/>
                  </a:lnTo>
                  <a:lnTo>
                    <a:pt x="-28733" y="-11106"/>
                  </a:lnTo>
                  <a:lnTo>
                    <a:pt x="-29311" y="-11106"/>
                  </a:lnTo>
                  <a:lnTo>
                    <a:pt x="-29890" y="-11222"/>
                  </a:lnTo>
                  <a:lnTo>
                    <a:pt x="-30353" y="-11337"/>
                  </a:lnTo>
                  <a:lnTo>
                    <a:pt x="-30932" y="-11453"/>
                  </a:lnTo>
                  <a:lnTo>
                    <a:pt x="-31395" y="-11685"/>
                  </a:lnTo>
                  <a:lnTo>
                    <a:pt x="-31857" y="-12032"/>
                  </a:lnTo>
                  <a:lnTo>
                    <a:pt x="-31857" y="-12032"/>
                  </a:lnTo>
                  <a:lnTo>
                    <a:pt x="-32320" y="-12496"/>
                  </a:lnTo>
                  <a:lnTo>
                    <a:pt x="-32552" y="-13075"/>
                  </a:lnTo>
                  <a:lnTo>
                    <a:pt x="32753" y="-13769"/>
                  </a:lnTo>
                  <a:lnTo>
                    <a:pt x="32637" y="-14464"/>
                  </a:lnTo>
                  <a:lnTo>
                    <a:pt x="32405" y="-15159"/>
                  </a:lnTo>
                  <a:lnTo>
                    <a:pt x="32058" y="-15622"/>
                  </a:lnTo>
                  <a:lnTo>
                    <a:pt x="31595" y="-16086"/>
                  </a:lnTo>
                  <a:lnTo>
                    <a:pt x="30785" y="-16201"/>
                  </a:lnTo>
                  <a:lnTo>
                    <a:pt x="30785" y="-16201"/>
                  </a:lnTo>
                  <a:lnTo>
                    <a:pt x="30670" y="-16317"/>
                  </a:lnTo>
                  <a:lnTo>
                    <a:pt x="30554" y="-16549"/>
                  </a:lnTo>
                  <a:lnTo>
                    <a:pt x="30438" y="-16781"/>
                  </a:lnTo>
                  <a:lnTo>
                    <a:pt x="30322" y="-16896"/>
                  </a:lnTo>
                  <a:lnTo>
                    <a:pt x="30322" y="-17128"/>
                  </a:lnTo>
                  <a:lnTo>
                    <a:pt x="30322" y="-17360"/>
                  </a:lnTo>
                  <a:lnTo>
                    <a:pt x="30322" y="-17591"/>
                  </a:lnTo>
                  <a:lnTo>
                    <a:pt x="30322" y="-17823"/>
                  </a:lnTo>
                  <a:lnTo>
                    <a:pt x="30322" y="-17823"/>
                  </a:lnTo>
                  <a:lnTo>
                    <a:pt x="30554" y="-18170"/>
                  </a:lnTo>
                  <a:lnTo>
                    <a:pt x="30785" y="-18518"/>
                  </a:lnTo>
                  <a:lnTo>
                    <a:pt x="31132" y="-18749"/>
                  </a:lnTo>
                  <a:lnTo>
                    <a:pt x="31480" y="-18981"/>
                  </a:lnTo>
                  <a:lnTo>
                    <a:pt x="31827" y="-19213"/>
                  </a:lnTo>
                  <a:lnTo>
                    <a:pt x="32174" y="-19444"/>
                  </a:lnTo>
                  <a:lnTo>
                    <a:pt x="32405" y="-19676"/>
                  </a:lnTo>
                  <a:lnTo>
                    <a:pt x="32637" y="-20139"/>
                  </a:lnTo>
                  <a:lnTo>
                    <a:pt x="32637" y="-20139"/>
                  </a:lnTo>
                  <a:lnTo>
                    <a:pt x="-32668" y="-20950"/>
                  </a:lnTo>
                  <a:lnTo>
                    <a:pt x="-32436" y="-21876"/>
                  </a:lnTo>
                  <a:lnTo>
                    <a:pt x="-32205" y="-22803"/>
                  </a:lnTo>
                  <a:lnTo>
                    <a:pt x="-32089" y="-23729"/>
                  </a:lnTo>
                  <a:lnTo>
                    <a:pt x="-32089" y="-24656"/>
                  </a:lnTo>
                  <a:lnTo>
                    <a:pt x="-32205" y="-25466"/>
                  </a:lnTo>
                  <a:lnTo>
                    <a:pt x="-32552" y="-26277"/>
                  </a:lnTo>
                  <a:lnTo>
                    <a:pt x="32290" y="-27088"/>
                  </a:lnTo>
                  <a:lnTo>
                    <a:pt x="32290" y="-27088"/>
                  </a:lnTo>
                  <a:lnTo>
                    <a:pt x="30901" y="-28593"/>
                  </a:lnTo>
                  <a:lnTo>
                    <a:pt x="30901" y="-28593"/>
                  </a:lnTo>
                  <a:lnTo>
                    <a:pt x="29744" y="-28130"/>
                  </a:lnTo>
                  <a:lnTo>
                    <a:pt x="28586" y="-27667"/>
                  </a:lnTo>
                  <a:lnTo>
                    <a:pt x="27545" y="-27203"/>
                  </a:lnTo>
                  <a:lnTo>
                    <a:pt x="26387" y="-26740"/>
                  </a:lnTo>
                  <a:lnTo>
                    <a:pt x="25230" y="-26161"/>
                  </a:lnTo>
                  <a:lnTo>
                    <a:pt x="24073" y="-25698"/>
                  </a:lnTo>
                  <a:lnTo>
                    <a:pt x="23031" y="-25119"/>
                  </a:lnTo>
                  <a:lnTo>
                    <a:pt x="21874" y="-24656"/>
                  </a:lnTo>
                  <a:lnTo>
                    <a:pt x="21874" y="-24656"/>
                  </a:lnTo>
                  <a:lnTo>
                    <a:pt x="21990" y="-24192"/>
                  </a:lnTo>
                  <a:lnTo>
                    <a:pt x="22221" y="-23845"/>
                  </a:lnTo>
                  <a:lnTo>
                    <a:pt x="22337" y="-23382"/>
                  </a:lnTo>
                  <a:lnTo>
                    <a:pt x="22568" y="-23034"/>
                  </a:lnTo>
                  <a:lnTo>
                    <a:pt x="22684" y="-22687"/>
                  </a:lnTo>
                  <a:lnTo>
                    <a:pt x="22915" y="-22224"/>
                  </a:lnTo>
                  <a:lnTo>
                    <a:pt x="23147" y="-21876"/>
                  </a:lnTo>
                  <a:lnTo>
                    <a:pt x="23263" y="-21529"/>
                  </a:lnTo>
                  <a:lnTo>
                    <a:pt x="23263" y="-21529"/>
                  </a:lnTo>
                  <a:lnTo>
                    <a:pt x="23263" y="-21181"/>
                  </a:lnTo>
                  <a:lnTo>
                    <a:pt x="23147" y="-20950"/>
                  </a:lnTo>
                  <a:lnTo>
                    <a:pt x="23031" y="-20718"/>
                  </a:lnTo>
                  <a:lnTo>
                    <a:pt x="22915" y="-20486"/>
                  </a:lnTo>
                  <a:lnTo>
                    <a:pt x="22684" y="-20371"/>
                  </a:lnTo>
                  <a:lnTo>
                    <a:pt x="22453" y="-20139"/>
                  </a:lnTo>
                  <a:lnTo>
                    <a:pt x="22221" y="-19907"/>
                  </a:lnTo>
                  <a:lnTo>
                    <a:pt x="22105" y="-19792"/>
                  </a:lnTo>
                  <a:lnTo>
                    <a:pt x="22105" y="-19792"/>
                  </a:lnTo>
                  <a:lnTo>
                    <a:pt x="20601" y="-17939"/>
                  </a:lnTo>
                  <a:lnTo>
                    <a:pt x="20601" y="-17939"/>
                  </a:lnTo>
                  <a:lnTo>
                    <a:pt x="20485" y="-17475"/>
                  </a:lnTo>
                  <a:lnTo>
                    <a:pt x="20485" y="-17012"/>
                  </a:lnTo>
                  <a:lnTo>
                    <a:pt x="20369" y="-16433"/>
                  </a:lnTo>
                  <a:lnTo>
                    <a:pt x="20254" y="-15970"/>
                  </a:lnTo>
                  <a:lnTo>
                    <a:pt x="20254" y="-15507"/>
                  </a:lnTo>
                  <a:lnTo>
                    <a:pt x="20254" y="-15043"/>
                  </a:lnTo>
                  <a:lnTo>
                    <a:pt x="20254" y="-14580"/>
                  </a:lnTo>
                  <a:lnTo>
                    <a:pt x="20369" y="-14117"/>
                  </a:lnTo>
                  <a:lnTo>
                    <a:pt x="20369" y="-14117"/>
                  </a:lnTo>
                  <a:lnTo>
                    <a:pt x="20485" y="-14117"/>
                  </a:lnTo>
                  <a:lnTo>
                    <a:pt x="20601" y="-14117"/>
                  </a:lnTo>
                  <a:lnTo>
                    <a:pt x="20832" y="-14001"/>
                  </a:lnTo>
                  <a:lnTo>
                    <a:pt x="20832" y="-13885"/>
                  </a:lnTo>
                  <a:lnTo>
                    <a:pt x="20948" y="-13769"/>
                  </a:lnTo>
                  <a:lnTo>
                    <a:pt x="21064" y="-13654"/>
                  </a:lnTo>
                  <a:lnTo>
                    <a:pt x="21179" y="-13538"/>
                  </a:lnTo>
                  <a:lnTo>
                    <a:pt x="21411" y="-13538"/>
                  </a:lnTo>
                  <a:lnTo>
                    <a:pt x="21411" y="-13538"/>
                  </a:lnTo>
                  <a:lnTo>
                    <a:pt x="23031" y="-13422"/>
                  </a:lnTo>
                  <a:lnTo>
                    <a:pt x="23031" y="-13422"/>
                  </a:lnTo>
                  <a:lnTo>
                    <a:pt x="23031" y="-13306"/>
                  </a:lnTo>
                  <a:lnTo>
                    <a:pt x="23147" y="-13190"/>
                  </a:lnTo>
                  <a:lnTo>
                    <a:pt x="23263" y="-13075"/>
                  </a:lnTo>
                  <a:lnTo>
                    <a:pt x="23378" y="-12959"/>
                  </a:lnTo>
                  <a:lnTo>
                    <a:pt x="23494" y="-12843"/>
                  </a:lnTo>
                  <a:lnTo>
                    <a:pt x="23610" y="-12611"/>
                  </a:lnTo>
                  <a:lnTo>
                    <a:pt x="23610" y="-12496"/>
                  </a:lnTo>
                  <a:lnTo>
                    <a:pt x="23726" y="-12264"/>
                  </a:lnTo>
                  <a:lnTo>
                    <a:pt x="23726" y="-12264"/>
                  </a:lnTo>
                  <a:lnTo>
                    <a:pt x="23726" y="-12032"/>
                  </a:lnTo>
                  <a:lnTo>
                    <a:pt x="23610" y="-11801"/>
                  </a:lnTo>
                  <a:lnTo>
                    <a:pt x="23494" y="-11569"/>
                  </a:lnTo>
                  <a:lnTo>
                    <a:pt x="23378" y="-11453"/>
                  </a:lnTo>
                  <a:lnTo>
                    <a:pt x="23147" y="-11222"/>
                  </a:lnTo>
                  <a:lnTo>
                    <a:pt x="22915" y="-11106"/>
                  </a:lnTo>
                  <a:lnTo>
                    <a:pt x="22684" y="-10990"/>
                  </a:lnTo>
                  <a:lnTo>
                    <a:pt x="22453" y="-10874"/>
                  </a:lnTo>
                  <a:lnTo>
                    <a:pt x="22453" y="-10874"/>
                  </a:lnTo>
                  <a:lnTo>
                    <a:pt x="21758" y="-10643"/>
                  </a:lnTo>
                  <a:lnTo>
                    <a:pt x="21179" y="-10643"/>
                  </a:lnTo>
                  <a:lnTo>
                    <a:pt x="20485" y="-10643"/>
                  </a:lnTo>
                  <a:lnTo>
                    <a:pt x="19791" y="-10758"/>
                  </a:lnTo>
                  <a:lnTo>
                    <a:pt x="19096" y="-10990"/>
                  </a:lnTo>
                  <a:lnTo>
                    <a:pt x="18518" y="-11222"/>
                  </a:lnTo>
                  <a:lnTo>
                    <a:pt x="17939" y="-11569"/>
                  </a:lnTo>
                  <a:lnTo>
                    <a:pt x="17360" y="-11917"/>
                  </a:lnTo>
                  <a:lnTo>
                    <a:pt x="17360" y="-11917"/>
                  </a:lnTo>
                  <a:lnTo>
                    <a:pt x="17013" y="-12496"/>
                  </a:lnTo>
                  <a:lnTo>
                    <a:pt x="16782" y="-13190"/>
                  </a:lnTo>
                  <a:lnTo>
                    <a:pt x="16550" y="-13769"/>
                  </a:lnTo>
                  <a:lnTo>
                    <a:pt x="16319" y="-14464"/>
                  </a:lnTo>
                  <a:lnTo>
                    <a:pt x="15972" y="-15043"/>
                  </a:lnTo>
                  <a:lnTo>
                    <a:pt x="15509" y="-15622"/>
                  </a:lnTo>
                  <a:lnTo>
                    <a:pt x="15046" y="-16086"/>
                  </a:lnTo>
                  <a:lnTo>
                    <a:pt x="14351" y="-16317"/>
                  </a:lnTo>
                  <a:lnTo>
                    <a:pt x="14351" y="-16317"/>
                  </a:lnTo>
                  <a:lnTo>
                    <a:pt x="14236" y="-16433"/>
                  </a:lnTo>
                  <a:lnTo>
                    <a:pt x="14120" y="-16549"/>
                  </a:lnTo>
                  <a:lnTo>
                    <a:pt x="14120" y="-16781"/>
                  </a:lnTo>
                  <a:lnTo>
                    <a:pt x="14004" y="-16896"/>
                  </a:lnTo>
                  <a:lnTo>
                    <a:pt x="14004" y="-17128"/>
                  </a:lnTo>
                  <a:lnTo>
                    <a:pt x="14004" y="-17244"/>
                  </a:lnTo>
                  <a:lnTo>
                    <a:pt x="14120" y="-17360"/>
                  </a:lnTo>
                  <a:lnTo>
                    <a:pt x="14120" y="-17591"/>
                  </a:lnTo>
                  <a:lnTo>
                    <a:pt x="14120" y="-17591"/>
                  </a:lnTo>
                  <a:lnTo>
                    <a:pt x="14467" y="-17939"/>
                  </a:lnTo>
                  <a:lnTo>
                    <a:pt x="14930" y="-18286"/>
                  </a:lnTo>
                  <a:lnTo>
                    <a:pt x="15393" y="-18402"/>
                  </a:lnTo>
                  <a:lnTo>
                    <a:pt x="15972" y="-18633"/>
                  </a:lnTo>
                  <a:lnTo>
                    <a:pt x="16434" y="-18749"/>
                  </a:lnTo>
                  <a:lnTo>
                    <a:pt x="17013" y="-18865"/>
                  </a:lnTo>
                  <a:lnTo>
                    <a:pt x="17476" y="-19097"/>
                  </a:lnTo>
                  <a:lnTo>
                    <a:pt x="17939" y="-19444"/>
                  </a:lnTo>
                  <a:lnTo>
                    <a:pt x="17939" y="-19444"/>
                  </a:lnTo>
                  <a:lnTo>
                    <a:pt x="18286" y="-19792"/>
                  </a:lnTo>
                  <a:lnTo>
                    <a:pt x="18633" y="-20023"/>
                  </a:lnTo>
                  <a:lnTo>
                    <a:pt x="18981" y="-20255"/>
                  </a:lnTo>
                  <a:lnTo>
                    <a:pt x="19328" y="-20602"/>
                  </a:lnTo>
                  <a:lnTo>
                    <a:pt x="19559" y="-20950"/>
                  </a:lnTo>
                  <a:lnTo>
                    <a:pt x="19791" y="-21297"/>
                  </a:lnTo>
                  <a:lnTo>
                    <a:pt x="20022" y="-21645"/>
                  </a:lnTo>
                  <a:lnTo>
                    <a:pt x="20369" y="-21992"/>
                  </a:lnTo>
                  <a:lnTo>
                    <a:pt x="20369" y="-21992"/>
                  </a:lnTo>
                  <a:lnTo>
                    <a:pt x="20138" y="-22108"/>
                  </a:lnTo>
                  <a:lnTo>
                    <a:pt x="20022" y="-22339"/>
                  </a:lnTo>
                  <a:lnTo>
                    <a:pt x="19906" y="-22571"/>
                  </a:lnTo>
                  <a:lnTo>
                    <a:pt x="19906" y="-22803"/>
                  </a:lnTo>
                  <a:lnTo>
                    <a:pt x="19791" y="-23034"/>
                  </a:lnTo>
                  <a:lnTo>
                    <a:pt x="19675" y="-23266"/>
                  </a:lnTo>
                  <a:lnTo>
                    <a:pt x="19559" y="-23382"/>
                  </a:lnTo>
                  <a:lnTo>
                    <a:pt x="19443" y="-23613"/>
                  </a:lnTo>
                  <a:lnTo>
                    <a:pt x="19443" y="-23613"/>
                  </a:lnTo>
                  <a:lnTo>
                    <a:pt x="18633" y="-23266"/>
                  </a:lnTo>
                  <a:lnTo>
                    <a:pt x="17823" y="-22918"/>
                  </a:lnTo>
                  <a:lnTo>
                    <a:pt x="17129" y="-22571"/>
                  </a:lnTo>
                  <a:lnTo>
                    <a:pt x="16319" y="-22224"/>
                  </a:lnTo>
                  <a:lnTo>
                    <a:pt x="15624" y="-21876"/>
                  </a:lnTo>
                  <a:lnTo>
                    <a:pt x="14814" y="-21529"/>
                  </a:lnTo>
                  <a:lnTo>
                    <a:pt x="14120" y="-21297"/>
                  </a:lnTo>
                  <a:lnTo>
                    <a:pt x="13194" y="-21181"/>
                  </a:lnTo>
                  <a:lnTo>
                    <a:pt x="13194" y="-21181"/>
                  </a:lnTo>
                  <a:lnTo>
                    <a:pt x="13194" y="-21297"/>
                  </a:lnTo>
                  <a:lnTo>
                    <a:pt x="13194" y="-21413"/>
                  </a:lnTo>
                  <a:lnTo>
                    <a:pt x="13078" y="-21645"/>
                  </a:lnTo>
                  <a:lnTo>
                    <a:pt x="13078" y="-21760"/>
                  </a:lnTo>
                  <a:lnTo>
                    <a:pt x="13078" y="-21876"/>
                  </a:lnTo>
                  <a:lnTo>
                    <a:pt x="13078" y="-22108"/>
                  </a:lnTo>
                  <a:lnTo>
                    <a:pt x="13078" y="-22224"/>
                  </a:lnTo>
                  <a:lnTo>
                    <a:pt x="12962" y="-22339"/>
                  </a:lnTo>
                  <a:lnTo>
                    <a:pt x="12962" y="-22339"/>
                  </a:lnTo>
                  <a:lnTo>
                    <a:pt x="12847" y="-22224"/>
                  </a:lnTo>
                  <a:lnTo>
                    <a:pt x="12731" y="-22224"/>
                  </a:lnTo>
                  <a:lnTo>
                    <a:pt x="12615" y="-22108"/>
                  </a:lnTo>
                  <a:lnTo>
                    <a:pt x="12500" y="-22108"/>
                  </a:lnTo>
                  <a:lnTo>
                    <a:pt x="12384" y="-22108"/>
                  </a:lnTo>
                  <a:lnTo>
                    <a:pt x="12268" y="-21992"/>
                  </a:lnTo>
                  <a:lnTo>
                    <a:pt x="12152" y="-22108"/>
                  </a:lnTo>
                  <a:lnTo>
                    <a:pt x="12037" y="-22108"/>
                  </a:lnTo>
                  <a:lnTo>
                    <a:pt x="12037" y="-22108"/>
                  </a:lnTo>
                  <a:lnTo>
                    <a:pt x="12037" y="-22339"/>
                  </a:lnTo>
                  <a:lnTo>
                    <a:pt x="12037" y="-22339"/>
                  </a:lnTo>
                  <a:lnTo>
                    <a:pt x="12037" y="-22455"/>
                  </a:lnTo>
                  <a:lnTo>
                    <a:pt x="11921" y="-22455"/>
                  </a:lnTo>
                  <a:lnTo>
                    <a:pt x="11805" y="-22455"/>
                  </a:lnTo>
                  <a:lnTo>
                    <a:pt x="11689" y="-22455"/>
                  </a:lnTo>
                  <a:lnTo>
                    <a:pt x="11574" y="-22339"/>
                  </a:lnTo>
                  <a:lnTo>
                    <a:pt x="11574" y="-22339"/>
                  </a:lnTo>
                  <a:lnTo>
                    <a:pt x="11458" y="-22339"/>
                  </a:lnTo>
                  <a:lnTo>
                    <a:pt x="11342" y="-22339"/>
                  </a:lnTo>
                  <a:lnTo>
                    <a:pt x="11342" y="-22339"/>
                  </a:lnTo>
                  <a:lnTo>
                    <a:pt x="11342" y="-22455"/>
                  </a:lnTo>
                  <a:lnTo>
                    <a:pt x="11342" y="-22571"/>
                  </a:lnTo>
                  <a:lnTo>
                    <a:pt x="11342" y="-22687"/>
                  </a:lnTo>
                  <a:lnTo>
                    <a:pt x="11342" y="-22803"/>
                  </a:lnTo>
                  <a:lnTo>
                    <a:pt x="11342" y="-22918"/>
                  </a:lnTo>
                  <a:lnTo>
                    <a:pt x="11342" y="-23034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226" y="-23150"/>
                  </a:lnTo>
                  <a:lnTo>
                    <a:pt x="11111" y="-23034"/>
                  </a:lnTo>
                  <a:lnTo>
                    <a:pt x="10995" y="-23034"/>
                  </a:lnTo>
                  <a:lnTo>
                    <a:pt x="10879" y="-22918"/>
                  </a:lnTo>
                  <a:lnTo>
                    <a:pt x="10648" y="-22918"/>
                  </a:lnTo>
                  <a:lnTo>
                    <a:pt x="10532" y="-22918"/>
                  </a:lnTo>
                  <a:lnTo>
                    <a:pt x="10416" y="-22918"/>
                  </a:lnTo>
                  <a:lnTo>
                    <a:pt x="10301" y="-22918"/>
                  </a:lnTo>
                  <a:lnTo>
                    <a:pt x="10301" y="-22918"/>
                  </a:lnTo>
                  <a:lnTo>
                    <a:pt x="10416" y="-24192"/>
                  </a:lnTo>
                  <a:lnTo>
                    <a:pt x="10648" y="-25350"/>
                  </a:lnTo>
                  <a:lnTo>
                    <a:pt x="10764" y="-26509"/>
                  </a:lnTo>
                  <a:lnTo>
                    <a:pt x="10879" y="-27782"/>
                  </a:lnTo>
                  <a:lnTo>
                    <a:pt x="10995" y="-28941"/>
                  </a:lnTo>
                  <a:lnTo>
                    <a:pt x="11226" y="-30099"/>
                  </a:lnTo>
                  <a:lnTo>
                    <a:pt x="11342" y="-31257"/>
                  </a:lnTo>
                  <a:lnTo>
                    <a:pt x="11574" y="-32415"/>
                  </a:lnTo>
                  <a:lnTo>
                    <a:pt x="11574" y="-32415"/>
                  </a:lnTo>
                  <a:lnTo>
                    <a:pt x="11458" y="-32531"/>
                  </a:lnTo>
                  <a:lnTo>
                    <a:pt x="11342" y="-32646"/>
                  </a:lnTo>
                  <a:lnTo>
                    <a:pt x="11111" y="-32762"/>
                  </a:lnTo>
                  <a:lnTo>
                    <a:pt x="10995" y="32658"/>
                  </a:lnTo>
                  <a:lnTo>
                    <a:pt x="10879" y="32542"/>
                  </a:lnTo>
                  <a:lnTo>
                    <a:pt x="10648" y="32426"/>
                  </a:lnTo>
                  <a:lnTo>
                    <a:pt x="10532" y="32311"/>
                  </a:lnTo>
                  <a:lnTo>
                    <a:pt x="10532" y="32195"/>
                  </a:lnTo>
                  <a:lnTo>
                    <a:pt x="10532" y="32195"/>
                  </a:lnTo>
                  <a:lnTo>
                    <a:pt x="10532" y="32542"/>
                  </a:lnTo>
                  <a:lnTo>
                    <a:pt x="10532" y="-32762"/>
                  </a:lnTo>
                  <a:lnTo>
                    <a:pt x="10648" y="-32415"/>
                  </a:lnTo>
                  <a:lnTo>
                    <a:pt x="10764" y="-32067"/>
                  </a:lnTo>
                  <a:lnTo>
                    <a:pt x="10879" y="-31720"/>
                  </a:lnTo>
                  <a:lnTo>
                    <a:pt x="10879" y="-31488"/>
                  </a:lnTo>
                  <a:lnTo>
                    <a:pt x="10879" y="-31141"/>
                  </a:lnTo>
                  <a:lnTo>
                    <a:pt x="10879" y="-30793"/>
                  </a:lnTo>
                  <a:lnTo>
                    <a:pt x="10879" y="-30793"/>
                  </a:lnTo>
                  <a:lnTo>
                    <a:pt x="10764" y="-30678"/>
                  </a:lnTo>
                  <a:lnTo>
                    <a:pt x="10648" y="-30562"/>
                  </a:lnTo>
                  <a:lnTo>
                    <a:pt x="10532" y="-30562"/>
                  </a:lnTo>
                  <a:lnTo>
                    <a:pt x="10301" y="-30446"/>
                  </a:lnTo>
                  <a:lnTo>
                    <a:pt x="10185" y="-30446"/>
                  </a:lnTo>
                  <a:lnTo>
                    <a:pt x="9953" y="-30562"/>
                  </a:lnTo>
                  <a:lnTo>
                    <a:pt x="9838" y="-30562"/>
                  </a:lnTo>
                  <a:lnTo>
                    <a:pt x="9722" y="-30678"/>
                  </a:lnTo>
                  <a:lnTo>
                    <a:pt x="9722" y="-30678"/>
                  </a:lnTo>
                  <a:lnTo>
                    <a:pt x="9491" y="-30678"/>
                  </a:lnTo>
                  <a:lnTo>
                    <a:pt x="9259" y="-30909"/>
                  </a:lnTo>
                  <a:lnTo>
                    <a:pt x="9143" y="-31025"/>
                  </a:lnTo>
                  <a:lnTo>
                    <a:pt x="9028" y="-31257"/>
                  </a:lnTo>
                  <a:lnTo>
                    <a:pt x="8912" y="-31488"/>
                  </a:lnTo>
                  <a:lnTo>
                    <a:pt x="8796" y="-31604"/>
                  </a:lnTo>
                  <a:lnTo>
                    <a:pt x="8680" y="-31836"/>
                  </a:lnTo>
                  <a:lnTo>
                    <a:pt x="8565" y="-32067"/>
                  </a:lnTo>
                  <a:lnTo>
                    <a:pt x="8565" y="-32067"/>
                  </a:lnTo>
                  <a:lnTo>
                    <a:pt x="7870" y="-31836"/>
                  </a:lnTo>
                  <a:lnTo>
                    <a:pt x="7292" y="-31604"/>
                  </a:lnTo>
                  <a:lnTo>
                    <a:pt x="6597" y="-31373"/>
                  </a:lnTo>
                  <a:lnTo>
                    <a:pt x="6019" y="-31025"/>
                  </a:lnTo>
                  <a:lnTo>
                    <a:pt x="5440" y="-30793"/>
                  </a:lnTo>
                  <a:lnTo>
                    <a:pt x="4861" y="-30562"/>
                  </a:lnTo>
                  <a:lnTo>
                    <a:pt x="4167" y="-30330"/>
                  </a:lnTo>
                  <a:lnTo>
                    <a:pt x="3588" y="-30099"/>
                  </a:lnTo>
                  <a:lnTo>
                    <a:pt x="3588" y="-30099"/>
                  </a:lnTo>
                  <a:lnTo>
                    <a:pt x="3241" y="-30099"/>
                  </a:lnTo>
                  <a:lnTo>
                    <a:pt x="2894" y="-30099"/>
                  </a:lnTo>
                  <a:lnTo>
                    <a:pt x="2547" y="-30099"/>
                  </a:lnTo>
                  <a:lnTo>
                    <a:pt x="2199" y="-30330"/>
                  </a:lnTo>
                  <a:lnTo>
                    <a:pt x="1852" y="-30446"/>
                  </a:lnTo>
                  <a:lnTo>
                    <a:pt x="1505" y="-30678"/>
                  </a:lnTo>
                  <a:lnTo>
                    <a:pt x="1274" y="-30909"/>
                  </a:lnTo>
                  <a:lnTo>
                    <a:pt x="926" y="-31141"/>
                  </a:lnTo>
                  <a:lnTo>
                    <a:pt x="926" y="-31141"/>
                  </a:lnTo>
                  <a:lnTo>
                    <a:pt x="579" y="-31720"/>
                  </a:lnTo>
                  <a:lnTo>
                    <a:pt x="232" y="-32415"/>
                  </a:lnTo>
                  <a:lnTo>
                    <a:pt x="116" y="32426"/>
                  </a:lnTo>
                  <a:lnTo>
                    <a:pt x="0" y="31731"/>
                  </a:lnTo>
                  <a:lnTo>
                    <a:pt x="0" y="31037"/>
                  </a:lnTo>
                  <a:lnTo>
                    <a:pt x="116" y="30342"/>
                  </a:lnTo>
                  <a:lnTo>
                    <a:pt x="348" y="29647"/>
                  </a:lnTo>
                  <a:lnTo>
                    <a:pt x="579" y="29068"/>
                  </a:lnTo>
                  <a:lnTo>
                    <a:pt x="579" y="29068"/>
                  </a:lnTo>
                  <a:lnTo>
                    <a:pt x="1158" y="28257"/>
                  </a:lnTo>
                  <a:lnTo>
                    <a:pt x="1968" y="27910"/>
                  </a:lnTo>
                  <a:lnTo>
                    <a:pt x="2894" y="27678"/>
                  </a:lnTo>
                  <a:lnTo>
                    <a:pt x="3820" y="27562"/>
                  </a:lnTo>
                  <a:lnTo>
                    <a:pt x="4745" y="27562"/>
                  </a:lnTo>
                  <a:lnTo>
                    <a:pt x="5671" y="27331"/>
                  </a:lnTo>
                  <a:lnTo>
                    <a:pt x="6597" y="27099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523" y="26520"/>
                  </a:lnTo>
                  <a:lnTo>
                    <a:pt x="7523" y="26520"/>
                  </a:lnTo>
                  <a:lnTo>
                    <a:pt x="7639" y="26520"/>
                  </a:lnTo>
                  <a:lnTo>
                    <a:pt x="7639" y="26520"/>
                  </a:lnTo>
                  <a:lnTo>
                    <a:pt x="7755" y="26520"/>
                  </a:lnTo>
                  <a:lnTo>
                    <a:pt x="7755" y="26520"/>
                  </a:lnTo>
                  <a:lnTo>
                    <a:pt x="7870" y="26520"/>
                  </a:lnTo>
                  <a:lnTo>
                    <a:pt x="7870" y="26520"/>
                  </a:lnTo>
                  <a:lnTo>
                    <a:pt x="7292" y="25709"/>
                  </a:lnTo>
                  <a:lnTo>
                    <a:pt x="6713" y="25014"/>
                  </a:lnTo>
                  <a:lnTo>
                    <a:pt x="6250" y="24204"/>
                  </a:lnTo>
                  <a:lnTo>
                    <a:pt x="5787" y="23393"/>
                  </a:lnTo>
                  <a:lnTo>
                    <a:pt x="5440" y="22582"/>
                  </a:lnTo>
                  <a:lnTo>
                    <a:pt x="5208" y="21772"/>
                  </a:lnTo>
                  <a:lnTo>
                    <a:pt x="5208" y="20845"/>
                  </a:lnTo>
                  <a:lnTo>
                    <a:pt x="5324" y="19919"/>
                  </a:lnTo>
                  <a:lnTo>
                    <a:pt x="5324" y="19919"/>
                  </a:lnTo>
                  <a:lnTo>
                    <a:pt x="5440" y="19571"/>
                  </a:lnTo>
                  <a:lnTo>
                    <a:pt x="5671" y="19224"/>
                  </a:lnTo>
                  <a:lnTo>
                    <a:pt x="6019" y="19108"/>
                  </a:lnTo>
                  <a:lnTo>
                    <a:pt x="6366" y="18992"/>
                  </a:lnTo>
                  <a:lnTo>
                    <a:pt x="6713" y="18877"/>
                  </a:lnTo>
                  <a:lnTo>
                    <a:pt x="7060" y="18761"/>
                  </a:lnTo>
                  <a:lnTo>
                    <a:pt x="7523" y="18761"/>
                  </a:lnTo>
                  <a:lnTo>
                    <a:pt x="7870" y="18645"/>
                  </a:lnTo>
                  <a:lnTo>
                    <a:pt x="7870" y="18645"/>
                  </a:lnTo>
                  <a:lnTo>
                    <a:pt x="8565" y="18529"/>
                  </a:lnTo>
                  <a:lnTo>
                    <a:pt x="9259" y="18529"/>
                  </a:lnTo>
                  <a:lnTo>
                    <a:pt x="9953" y="18529"/>
                  </a:lnTo>
                  <a:lnTo>
                    <a:pt x="10648" y="18645"/>
                  </a:lnTo>
                  <a:lnTo>
                    <a:pt x="11342" y="18645"/>
                  </a:lnTo>
                  <a:lnTo>
                    <a:pt x="11921" y="18877"/>
                  </a:lnTo>
                  <a:lnTo>
                    <a:pt x="12615" y="18992"/>
                  </a:lnTo>
                  <a:lnTo>
                    <a:pt x="13310" y="19108"/>
                  </a:lnTo>
                  <a:lnTo>
                    <a:pt x="13310" y="19108"/>
                  </a:lnTo>
                  <a:lnTo>
                    <a:pt x="13425" y="18992"/>
                  </a:lnTo>
                  <a:lnTo>
                    <a:pt x="13425" y="18992"/>
                  </a:lnTo>
                  <a:lnTo>
                    <a:pt x="13773" y="17139"/>
                  </a:lnTo>
                  <a:lnTo>
                    <a:pt x="14004" y="15286"/>
                  </a:lnTo>
                  <a:lnTo>
                    <a:pt x="14351" y="13434"/>
                  </a:lnTo>
                  <a:lnTo>
                    <a:pt x="14814" y="11581"/>
                  </a:lnTo>
                  <a:lnTo>
                    <a:pt x="15161" y="9728"/>
                  </a:lnTo>
                  <a:lnTo>
                    <a:pt x="15509" y="7875"/>
                  </a:lnTo>
                  <a:lnTo>
                    <a:pt x="15856" y="6138"/>
                  </a:lnTo>
                  <a:lnTo>
                    <a:pt x="16203" y="4285"/>
                  </a:lnTo>
                  <a:lnTo>
                    <a:pt x="16203" y="4285"/>
                  </a:lnTo>
                  <a:lnTo>
                    <a:pt x="16319" y="4053"/>
                  </a:lnTo>
                  <a:lnTo>
                    <a:pt x="16319" y="3821"/>
                  </a:lnTo>
                  <a:lnTo>
                    <a:pt x="16203" y="3590"/>
                  </a:lnTo>
                  <a:lnTo>
                    <a:pt x="16203" y="3358"/>
                  </a:lnTo>
                  <a:lnTo>
                    <a:pt x="16319" y="3126"/>
                  </a:lnTo>
                  <a:lnTo>
                    <a:pt x="16434" y="3011"/>
                  </a:lnTo>
                  <a:lnTo>
                    <a:pt x="16550" y="2895"/>
                  </a:lnTo>
                  <a:lnTo>
                    <a:pt x="16897" y="2895"/>
                  </a:lnTo>
                  <a:lnTo>
                    <a:pt x="16897" y="2895"/>
                  </a:lnTo>
                  <a:lnTo>
                    <a:pt x="16782" y="2663"/>
                  </a:lnTo>
                  <a:lnTo>
                    <a:pt x="16782" y="2316"/>
                  </a:lnTo>
                  <a:lnTo>
                    <a:pt x="16782" y="1968"/>
                  </a:lnTo>
                  <a:lnTo>
                    <a:pt x="16782" y="1621"/>
                  </a:lnTo>
                  <a:lnTo>
                    <a:pt x="16897" y="1389"/>
                  </a:lnTo>
                  <a:lnTo>
                    <a:pt x="17013" y="1042"/>
                  </a:lnTo>
                  <a:lnTo>
                    <a:pt x="17129" y="810"/>
                  </a:lnTo>
                  <a:lnTo>
                    <a:pt x="17360" y="579"/>
                  </a:lnTo>
                  <a:lnTo>
                    <a:pt x="17360" y="579"/>
                  </a:lnTo>
                  <a:lnTo>
                    <a:pt x="17707" y="347"/>
                  </a:lnTo>
                  <a:lnTo>
                    <a:pt x="18055" y="115"/>
                  </a:lnTo>
                  <a:lnTo>
                    <a:pt x="18518" y="0"/>
                  </a:lnTo>
                  <a:lnTo>
                    <a:pt x="18981" y="0"/>
                  </a:lnTo>
                  <a:lnTo>
                    <a:pt x="19328" y="0"/>
                  </a:lnTo>
                  <a:lnTo>
                    <a:pt x="19791" y="115"/>
                  </a:lnTo>
                  <a:lnTo>
                    <a:pt x="20138" y="347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1158120" y="2932560"/>
              <a:ext cx="115560" cy="192600"/>
            </a:xfrm>
            <a:custGeom>
              <a:avLst/>
              <a:gdLst/>
              <a:ahLst/>
              <a:rect l="l" t="t" r="r" b="b"/>
              <a:pathLst>
                <a:path w="3240" h="3590">
                  <a:moveTo>
                    <a:pt x="3124" y="926"/>
                  </a:moveTo>
                  <a:lnTo>
                    <a:pt x="3124" y="1274"/>
                  </a:lnTo>
                  <a:lnTo>
                    <a:pt x="3240" y="1621"/>
                  </a:lnTo>
                  <a:lnTo>
                    <a:pt x="3240" y="1969"/>
                  </a:lnTo>
                  <a:lnTo>
                    <a:pt x="3240" y="2316"/>
                  </a:lnTo>
                  <a:lnTo>
                    <a:pt x="3240" y="2663"/>
                  </a:lnTo>
                  <a:lnTo>
                    <a:pt x="3124" y="2895"/>
                  </a:lnTo>
                  <a:lnTo>
                    <a:pt x="3009" y="3243"/>
                  </a:lnTo>
                  <a:lnTo>
                    <a:pt x="2893" y="3590"/>
                  </a:lnTo>
                  <a:lnTo>
                    <a:pt x="2893" y="3590"/>
                  </a:lnTo>
                  <a:lnTo>
                    <a:pt x="2546" y="3590"/>
                  </a:lnTo>
                  <a:lnTo>
                    <a:pt x="2546" y="3243"/>
                  </a:lnTo>
                  <a:lnTo>
                    <a:pt x="2661" y="3243"/>
                  </a:lnTo>
                  <a:lnTo>
                    <a:pt x="2661" y="3243"/>
                  </a:lnTo>
                  <a:lnTo>
                    <a:pt x="2661" y="3011"/>
                  </a:lnTo>
                  <a:lnTo>
                    <a:pt x="2777" y="2663"/>
                  </a:lnTo>
                  <a:lnTo>
                    <a:pt x="2893" y="2432"/>
                  </a:lnTo>
                  <a:lnTo>
                    <a:pt x="2893" y="2084"/>
                  </a:lnTo>
                  <a:lnTo>
                    <a:pt x="3009" y="1737"/>
                  </a:lnTo>
                  <a:lnTo>
                    <a:pt x="2893" y="1505"/>
                  </a:lnTo>
                  <a:lnTo>
                    <a:pt x="2893" y="1158"/>
                  </a:lnTo>
                  <a:lnTo>
                    <a:pt x="2777" y="926"/>
                  </a:lnTo>
                  <a:lnTo>
                    <a:pt x="2777" y="926"/>
                  </a:lnTo>
                  <a:lnTo>
                    <a:pt x="2661" y="811"/>
                  </a:lnTo>
                  <a:lnTo>
                    <a:pt x="2546" y="695"/>
                  </a:lnTo>
                  <a:lnTo>
                    <a:pt x="2430" y="579"/>
                  </a:lnTo>
                  <a:lnTo>
                    <a:pt x="2198" y="463"/>
                  </a:lnTo>
                  <a:lnTo>
                    <a:pt x="2083" y="347"/>
                  </a:lnTo>
                  <a:lnTo>
                    <a:pt x="1967" y="231"/>
                  </a:lnTo>
                  <a:lnTo>
                    <a:pt x="1851" y="231"/>
                  </a:lnTo>
                  <a:lnTo>
                    <a:pt x="1736" y="231"/>
                  </a:lnTo>
                  <a:lnTo>
                    <a:pt x="1736" y="231"/>
                  </a:lnTo>
                  <a:lnTo>
                    <a:pt x="1504" y="231"/>
                  </a:lnTo>
                  <a:lnTo>
                    <a:pt x="1273" y="347"/>
                  </a:lnTo>
                  <a:lnTo>
                    <a:pt x="1041" y="347"/>
                  </a:lnTo>
                  <a:lnTo>
                    <a:pt x="925" y="463"/>
                  </a:lnTo>
                  <a:lnTo>
                    <a:pt x="694" y="695"/>
                  </a:lnTo>
                  <a:lnTo>
                    <a:pt x="578" y="811"/>
                  </a:lnTo>
                  <a:lnTo>
                    <a:pt x="462" y="926"/>
                  </a:lnTo>
                  <a:lnTo>
                    <a:pt x="347" y="1158"/>
                  </a:lnTo>
                  <a:lnTo>
                    <a:pt x="347" y="1158"/>
                  </a:lnTo>
                  <a:lnTo>
                    <a:pt x="347" y="2432"/>
                  </a:lnTo>
                  <a:lnTo>
                    <a:pt x="347" y="2432"/>
                  </a:lnTo>
                  <a:lnTo>
                    <a:pt x="115" y="2316"/>
                  </a:lnTo>
                  <a:lnTo>
                    <a:pt x="115" y="2200"/>
                  </a:lnTo>
                  <a:lnTo>
                    <a:pt x="0" y="1969"/>
                  </a:lnTo>
                  <a:lnTo>
                    <a:pt x="0" y="1737"/>
                  </a:lnTo>
                  <a:lnTo>
                    <a:pt x="0" y="1505"/>
                  </a:lnTo>
                  <a:lnTo>
                    <a:pt x="0" y="1390"/>
                  </a:lnTo>
                  <a:lnTo>
                    <a:pt x="0" y="1158"/>
                  </a:lnTo>
                  <a:lnTo>
                    <a:pt x="115" y="926"/>
                  </a:lnTo>
                  <a:lnTo>
                    <a:pt x="115" y="926"/>
                  </a:lnTo>
                  <a:lnTo>
                    <a:pt x="347" y="579"/>
                  </a:lnTo>
                  <a:lnTo>
                    <a:pt x="694" y="231"/>
                  </a:lnTo>
                  <a:lnTo>
                    <a:pt x="1041" y="116"/>
                  </a:lnTo>
                  <a:lnTo>
                    <a:pt x="1504" y="0"/>
                  </a:lnTo>
                  <a:lnTo>
                    <a:pt x="2083" y="0"/>
                  </a:lnTo>
                  <a:lnTo>
                    <a:pt x="2430" y="231"/>
                  </a:lnTo>
                  <a:lnTo>
                    <a:pt x="2777" y="463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1282320" y="2945160"/>
              <a:ext cx="65880" cy="211320"/>
            </a:xfrm>
            <a:custGeom>
              <a:avLst/>
              <a:gdLst/>
              <a:ahLst/>
              <a:rect l="l" t="t" r="r" b="b"/>
              <a:pathLst>
                <a:path w="1851" h="3938">
                  <a:moveTo>
                    <a:pt x="1851" y="1853"/>
                  </a:moveTo>
                  <a:lnTo>
                    <a:pt x="1851" y="1969"/>
                  </a:lnTo>
                  <a:lnTo>
                    <a:pt x="1851" y="2201"/>
                  </a:lnTo>
                  <a:lnTo>
                    <a:pt x="1851" y="2317"/>
                  </a:lnTo>
                  <a:lnTo>
                    <a:pt x="1736" y="2432"/>
                  </a:lnTo>
                  <a:lnTo>
                    <a:pt x="1736" y="2548"/>
                  </a:lnTo>
                  <a:lnTo>
                    <a:pt x="1736" y="2664"/>
                  </a:lnTo>
                  <a:lnTo>
                    <a:pt x="1736" y="2896"/>
                  </a:lnTo>
                  <a:lnTo>
                    <a:pt x="1736" y="3012"/>
                  </a:lnTo>
                  <a:lnTo>
                    <a:pt x="1736" y="3012"/>
                  </a:lnTo>
                  <a:lnTo>
                    <a:pt x="1620" y="3127"/>
                  </a:lnTo>
                  <a:lnTo>
                    <a:pt x="1620" y="3243"/>
                  </a:lnTo>
                  <a:lnTo>
                    <a:pt x="1504" y="3359"/>
                  </a:lnTo>
                  <a:lnTo>
                    <a:pt x="1388" y="3475"/>
                  </a:lnTo>
                  <a:lnTo>
                    <a:pt x="1273" y="3591"/>
                  </a:lnTo>
                  <a:lnTo>
                    <a:pt x="1157" y="3706"/>
                  </a:lnTo>
                  <a:lnTo>
                    <a:pt x="1041" y="3822"/>
                  </a:lnTo>
                  <a:lnTo>
                    <a:pt x="925" y="3938"/>
                  </a:lnTo>
                  <a:lnTo>
                    <a:pt x="925" y="3938"/>
                  </a:lnTo>
                  <a:lnTo>
                    <a:pt x="810" y="3938"/>
                  </a:lnTo>
                  <a:lnTo>
                    <a:pt x="810" y="3938"/>
                  </a:lnTo>
                  <a:lnTo>
                    <a:pt x="694" y="3938"/>
                  </a:lnTo>
                  <a:lnTo>
                    <a:pt x="694" y="3822"/>
                  </a:lnTo>
                  <a:lnTo>
                    <a:pt x="694" y="3822"/>
                  </a:lnTo>
                  <a:lnTo>
                    <a:pt x="694" y="3706"/>
                  </a:lnTo>
                  <a:lnTo>
                    <a:pt x="694" y="3706"/>
                  </a:lnTo>
                  <a:lnTo>
                    <a:pt x="694" y="3591"/>
                  </a:lnTo>
                  <a:lnTo>
                    <a:pt x="694" y="3591"/>
                  </a:lnTo>
                  <a:lnTo>
                    <a:pt x="925" y="3243"/>
                  </a:lnTo>
                  <a:lnTo>
                    <a:pt x="1157" y="3012"/>
                  </a:lnTo>
                  <a:lnTo>
                    <a:pt x="1273" y="2664"/>
                  </a:lnTo>
                  <a:lnTo>
                    <a:pt x="1273" y="2317"/>
                  </a:lnTo>
                  <a:lnTo>
                    <a:pt x="1273" y="1969"/>
                  </a:lnTo>
                  <a:lnTo>
                    <a:pt x="1157" y="1622"/>
                  </a:lnTo>
                  <a:lnTo>
                    <a:pt x="1041" y="1274"/>
                  </a:lnTo>
                  <a:lnTo>
                    <a:pt x="1041" y="811"/>
                  </a:lnTo>
                  <a:lnTo>
                    <a:pt x="1041" y="811"/>
                  </a:lnTo>
                  <a:lnTo>
                    <a:pt x="925" y="811"/>
                  </a:lnTo>
                  <a:lnTo>
                    <a:pt x="810" y="695"/>
                  </a:lnTo>
                  <a:lnTo>
                    <a:pt x="694" y="580"/>
                  </a:lnTo>
                  <a:lnTo>
                    <a:pt x="578" y="464"/>
                  </a:lnTo>
                  <a:lnTo>
                    <a:pt x="462" y="464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5" y="464"/>
                  </a:lnTo>
                  <a:lnTo>
                    <a:pt x="115" y="464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115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2" y="0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925" y="232"/>
                  </a:lnTo>
                  <a:lnTo>
                    <a:pt x="1041" y="232"/>
                  </a:lnTo>
                  <a:lnTo>
                    <a:pt x="1041" y="232"/>
                  </a:lnTo>
                  <a:lnTo>
                    <a:pt x="1273" y="464"/>
                  </a:lnTo>
                  <a:lnTo>
                    <a:pt x="1388" y="580"/>
                  </a:lnTo>
                  <a:lnTo>
                    <a:pt x="1504" y="811"/>
                  </a:lnTo>
                  <a:lnTo>
                    <a:pt x="1620" y="1043"/>
                  </a:lnTo>
                  <a:lnTo>
                    <a:pt x="1620" y="1159"/>
                  </a:lnTo>
                  <a:lnTo>
                    <a:pt x="1736" y="1390"/>
                  </a:lnTo>
                  <a:lnTo>
                    <a:pt x="1736" y="1622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1182960" y="2970000"/>
              <a:ext cx="49320" cy="99360"/>
            </a:xfrm>
            <a:custGeom>
              <a:avLst/>
              <a:gdLst/>
              <a:ahLst/>
              <a:rect l="l" t="t" r="r" b="b"/>
              <a:pathLst>
                <a:path w="1389" h="1853">
                  <a:moveTo>
                    <a:pt x="1389" y="347"/>
                  </a:moveTo>
                  <a:lnTo>
                    <a:pt x="1157" y="579"/>
                  </a:lnTo>
                  <a:lnTo>
                    <a:pt x="1042" y="810"/>
                  </a:lnTo>
                  <a:lnTo>
                    <a:pt x="926" y="1042"/>
                  </a:lnTo>
                  <a:lnTo>
                    <a:pt x="810" y="1389"/>
                  </a:lnTo>
                  <a:lnTo>
                    <a:pt x="810" y="1621"/>
                  </a:lnTo>
                  <a:lnTo>
                    <a:pt x="694" y="1853"/>
                  </a:lnTo>
                  <a:lnTo>
                    <a:pt x="463" y="1853"/>
                  </a:lnTo>
                  <a:lnTo>
                    <a:pt x="116" y="1737"/>
                  </a:lnTo>
                  <a:lnTo>
                    <a:pt x="116" y="1737"/>
                  </a:lnTo>
                  <a:lnTo>
                    <a:pt x="0" y="1505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6" y="810"/>
                  </a:lnTo>
                  <a:lnTo>
                    <a:pt x="116" y="579"/>
                  </a:lnTo>
                  <a:lnTo>
                    <a:pt x="231" y="347"/>
                  </a:lnTo>
                  <a:lnTo>
                    <a:pt x="463" y="231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7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389" y="231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1356840" y="2988720"/>
              <a:ext cx="65880" cy="192600"/>
            </a:xfrm>
            <a:custGeom>
              <a:avLst/>
              <a:gdLst/>
              <a:ahLst/>
              <a:rect l="l" t="t" r="r" b="b"/>
              <a:pathLst>
                <a:path w="1851" h="3590">
                  <a:moveTo>
                    <a:pt x="1620" y="695"/>
                  </a:moveTo>
                  <a:lnTo>
                    <a:pt x="1736" y="927"/>
                  </a:lnTo>
                  <a:lnTo>
                    <a:pt x="1736" y="1158"/>
                  </a:lnTo>
                  <a:lnTo>
                    <a:pt x="1851" y="1390"/>
                  </a:lnTo>
                  <a:lnTo>
                    <a:pt x="1851" y="1621"/>
                  </a:lnTo>
                  <a:lnTo>
                    <a:pt x="1851" y="1853"/>
                  </a:lnTo>
                  <a:lnTo>
                    <a:pt x="1851" y="2085"/>
                  </a:lnTo>
                  <a:lnTo>
                    <a:pt x="1851" y="2316"/>
                  </a:lnTo>
                  <a:lnTo>
                    <a:pt x="1736" y="2432"/>
                  </a:lnTo>
                  <a:lnTo>
                    <a:pt x="1736" y="2432"/>
                  </a:lnTo>
                  <a:lnTo>
                    <a:pt x="1736" y="2664"/>
                  </a:lnTo>
                  <a:lnTo>
                    <a:pt x="1620" y="2780"/>
                  </a:lnTo>
                  <a:lnTo>
                    <a:pt x="1504" y="2895"/>
                  </a:lnTo>
                  <a:lnTo>
                    <a:pt x="1388" y="3127"/>
                  </a:lnTo>
                  <a:lnTo>
                    <a:pt x="1273" y="3243"/>
                  </a:lnTo>
                  <a:lnTo>
                    <a:pt x="1157" y="3359"/>
                  </a:lnTo>
                  <a:lnTo>
                    <a:pt x="1041" y="3474"/>
                  </a:lnTo>
                  <a:lnTo>
                    <a:pt x="926" y="3590"/>
                  </a:lnTo>
                  <a:lnTo>
                    <a:pt x="926" y="3590"/>
                  </a:lnTo>
                  <a:lnTo>
                    <a:pt x="810" y="3590"/>
                  </a:lnTo>
                  <a:lnTo>
                    <a:pt x="694" y="3590"/>
                  </a:lnTo>
                  <a:lnTo>
                    <a:pt x="694" y="3474"/>
                  </a:lnTo>
                  <a:lnTo>
                    <a:pt x="578" y="3474"/>
                  </a:lnTo>
                  <a:lnTo>
                    <a:pt x="578" y="3359"/>
                  </a:lnTo>
                  <a:lnTo>
                    <a:pt x="578" y="3359"/>
                  </a:lnTo>
                  <a:lnTo>
                    <a:pt x="578" y="3243"/>
                  </a:lnTo>
                  <a:lnTo>
                    <a:pt x="578" y="3127"/>
                  </a:lnTo>
                  <a:lnTo>
                    <a:pt x="578" y="3127"/>
                  </a:lnTo>
                  <a:lnTo>
                    <a:pt x="694" y="3127"/>
                  </a:lnTo>
                  <a:lnTo>
                    <a:pt x="810" y="3011"/>
                  </a:lnTo>
                  <a:lnTo>
                    <a:pt x="926" y="2895"/>
                  </a:lnTo>
                  <a:lnTo>
                    <a:pt x="1041" y="2780"/>
                  </a:lnTo>
                  <a:lnTo>
                    <a:pt x="1041" y="2664"/>
                  </a:lnTo>
                  <a:lnTo>
                    <a:pt x="1157" y="2432"/>
                  </a:lnTo>
                  <a:lnTo>
                    <a:pt x="1157" y="2316"/>
                  </a:lnTo>
                  <a:lnTo>
                    <a:pt x="1157" y="2201"/>
                  </a:lnTo>
                  <a:lnTo>
                    <a:pt x="1157" y="2201"/>
                  </a:lnTo>
                  <a:lnTo>
                    <a:pt x="1157" y="1969"/>
                  </a:lnTo>
                  <a:lnTo>
                    <a:pt x="1157" y="1621"/>
                  </a:lnTo>
                  <a:lnTo>
                    <a:pt x="1157" y="1390"/>
                  </a:lnTo>
                  <a:lnTo>
                    <a:pt x="1041" y="1042"/>
                  </a:lnTo>
                  <a:lnTo>
                    <a:pt x="926" y="811"/>
                  </a:lnTo>
                  <a:lnTo>
                    <a:pt x="810" y="579"/>
                  </a:lnTo>
                  <a:lnTo>
                    <a:pt x="578" y="348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231" y="232"/>
                  </a:lnTo>
                  <a:lnTo>
                    <a:pt x="231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6"/>
                  </a:lnTo>
                  <a:lnTo>
                    <a:pt x="1273" y="232"/>
                  </a:lnTo>
                  <a:lnTo>
                    <a:pt x="1504" y="463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1431360" y="3013560"/>
              <a:ext cx="57600" cy="186480"/>
            </a:xfrm>
            <a:custGeom>
              <a:avLst/>
              <a:gdLst/>
              <a:ahLst/>
              <a:rect l="l" t="t" r="r" b="b"/>
              <a:pathLst>
                <a:path w="1620" h="3475">
                  <a:moveTo>
                    <a:pt x="1620" y="1390"/>
                  </a:moveTo>
                  <a:lnTo>
                    <a:pt x="1620" y="1622"/>
                  </a:lnTo>
                  <a:lnTo>
                    <a:pt x="1620" y="1853"/>
                  </a:lnTo>
                  <a:lnTo>
                    <a:pt x="1620" y="2085"/>
                  </a:lnTo>
                  <a:lnTo>
                    <a:pt x="1620" y="2317"/>
                  </a:lnTo>
                  <a:lnTo>
                    <a:pt x="1620" y="2432"/>
                  </a:lnTo>
                  <a:lnTo>
                    <a:pt x="1620" y="2664"/>
                  </a:lnTo>
                  <a:lnTo>
                    <a:pt x="1504" y="2896"/>
                  </a:lnTo>
                  <a:lnTo>
                    <a:pt x="1389" y="3011"/>
                  </a:lnTo>
                  <a:lnTo>
                    <a:pt x="1389" y="3011"/>
                  </a:lnTo>
                  <a:lnTo>
                    <a:pt x="1273" y="3127"/>
                  </a:lnTo>
                  <a:lnTo>
                    <a:pt x="1157" y="3127"/>
                  </a:lnTo>
                  <a:lnTo>
                    <a:pt x="1041" y="3243"/>
                  </a:lnTo>
                  <a:lnTo>
                    <a:pt x="1041" y="3359"/>
                  </a:lnTo>
                  <a:lnTo>
                    <a:pt x="926" y="3475"/>
                  </a:lnTo>
                  <a:lnTo>
                    <a:pt x="926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694" y="3359"/>
                  </a:lnTo>
                  <a:lnTo>
                    <a:pt x="694" y="3243"/>
                  </a:lnTo>
                  <a:lnTo>
                    <a:pt x="810" y="3127"/>
                  </a:lnTo>
                  <a:lnTo>
                    <a:pt x="810" y="3011"/>
                  </a:lnTo>
                  <a:lnTo>
                    <a:pt x="926" y="2896"/>
                  </a:lnTo>
                  <a:lnTo>
                    <a:pt x="1041" y="2780"/>
                  </a:lnTo>
                  <a:lnTo>
                    <a:pt x="1157" y="2664"/>
                  </a:lnTo>
                  <a:lnTo>
                    <a:pt x="1273" y="2548"/>
                  </a:lnTo>
                  <a:lnTo>
                    <a:pt x="1273" y="2432"/>
                  </a:lnTo>
                  <a:lnTo>
                    <a:pt x="1273" y="2432"/>
                  </a:lnTo>
                  <a:lnTo>
                    <a:pt x="1389" y="2085"/>
                  </a:lnTo>
                  <a:lnTo>
                    <a:pt x="1389" y="1853"/>
                  </a:lnTo>
                  <a:lnTo>
                    <a:pt x="1273" y="1506"/>
                  </a:lnTo>
                  <a:lnTo>
                    <a:pt x="1157" y="1274"/>
                  </a:lnTo>
                  <a:lnTo>
                    <a:pt x="1041" y="1043"/>
                  </a:lnTo>
                  <a:lnTo>
                    <a:pt x="810" y="811"/>
                  </a:lnTo>
                  <a:lnTo>
                    <a:pt x="579" y="579"/>
                  </a:lnTo>
                  <a:lnTo>
                    <a:pt x="347" y="348"/>
                  </a:lnTo>
                  <a:lnTo>
                    <a:pt x="347" y="348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6" y="348"/>
                  </a:lnTo>
                  <a:lnTo>
                    <a:pt x="116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463" y="0"/>
                  </a:lnTo>
                  <a:lnTo>
                    <a:pt x="694" y="116"/>
                  </a:lnTo>
                  <a:lnTo>
                    <a:pt x="926" y="348"/>
                  </a:lnTo>
                  <a:lnTo>
                    <a:pt x="1041" y="464"/>
                  </a:lnTo>
                  <a:lnTo>
                    <a:pt x="1273" y="695"/>
                  </a:lnTo>
                  <a:lnTo>
                    <a:pt x="1389" y="927"/>
                  </a:lnTo>
                  <a:lnTo>
                    <a:pt x="1504" y="1158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1493640" y="3025800"/>
              <a:ext cx="74160" cy="192600"/>
            </a:xfrm>
            <a:custGeom>
              <a:avLst/>
              <a:gdLst/>
              <a:ahLst/>
              <a:rect l="l" t="t" r="r" b="b"/>
              <a:pathLst>
                <a:path w="2083" h="3590">
                  <a:moveTo>
                    <a:pt x="2083" y="1390"/>
                  </a:moveTo>
                  <a:lnTo>
                    <a:pt x="2083" y="1737"/>
                  </a:lnTo>
                  <a:lnTo>
                    <a:pt x="2083" y="1969"/>
                  </a:lnTo>
                  <a:lnTo>
                    <a:pt x="2083" y="2200"/>
                  </a:lnTo>
                  <a:lnTo>
                    <a:pt x="2083" y="2548"/>
                  </a:lnTo>
                  <a:lnTo>
                    <a:pt x="1967" y="2779"/>
                  </a:lnTo>
                  <a:lnTo>
                    <a:pt x="1967" y="3011"/>
                  </a:lnTo>
                  <a:lnTo>
                    <a:pt x="1852" y="3243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504" y="3474"/>
                  </a:lnTo>
                  <a:lnTo>
                    <a:pt x="1389" y="3474"/>
                  </a:lnTo>
                  <a:lnTo>
                    <a:pt x="1273" y="3590"/>
                  </a:lnTo>
                  <a:lnTo>
                    <a:pt x="1273" y="3590"/>
                  </a:lnTo>
                  <a:lnTo>
                    <a:pt x="1157" y="3590"/>
                  </a:lnTo>
                  <a:lnTo>
                    <a:pt x="1041" y="3590"/>
                  </a:lnTo>
                  <a:lnTo>
                    <a:pt x="1041" y="3474"/>
                  </a:lnTo>
                  <a:lnTo>
                    <a:pt x="1041" y="3474"/>
                  </a:lnTo>
                  <a:lnTo>
                    <a:pt x="1157" y="3358"/>
                  </a:lnTo>
                  <a:lnTo>
                    <a:pt x="1273" y="3243"/>
                  </a:lnTo>
                  <a:lnTo>
                    <a:pt x="1389" y="3011"/>
                  </a:lnTo>
                  <a:lnTo>
                    <a:pt x="1504" y="2895"/>
                  </a:lnTo>
                  <a:lnTo>
                    <a:pt x="1504" y="2664"/>
                  </a:lnTo>
                  <a:lnTo>
                    <a:pt x="1620" y="2432"/>
                  </a:lnTo>
                  <a:lnTo>
                    <a:pt x="1620" y="2200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620" y="1621"/>
                  </a:lnTo>
                  <a:lnTo>
                    <a:pt x="1504" y="1390"/>
                  </a:lnTo>
                  <a:lnTo>
                    <a:pt x="1389" y="1274"/>
                  </a:lnTo>
                  <a:lnTo>
                    <a:pt x="1273" y="1042"/>
                  </a:lnTo>
                  <a:lnTo>
                    <a:pt x="1157" y="811"/>
                  </a:lnTo>
                  <a:lnTo>
                    <a:pt x="1041" y="695"/>
                  </a:lnTo>
                  <a:lnTo>
                    <a:pt x="810" y="463"/>
                  </a:lnTo>
                  <a:lnTo>
                    <a:pt x="810" y="463"/>
                  </a:lnTo>
                  <a:lnTo>
                    <a:pt x="694" y="463"/>
                  </a:lnTo>
                  <a:lnTo>
                    <a:pt x="579" y="347"/>
                  </a:lnTo>
                  <a:lnTo>
                    <a:pt x="463" y="347"/>
                  </a:lnTo>
                  <a:lnTo>
                    <a:pt x="347" y="463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347" y="0"/>
                  </a:lnTo>
                  <a:lnTo>
                    <a:pt x="579" y="0"/>
                  </a:lnTo>
                  <a:lnTo>
                    <a:pt x="926" y="116"/>
                  </a:lnTo>
                  <a:lnTo>
                    <a:pt x="1157" y="347"/>
                  </a:lnTo>
                  <a:lnTo>
                    <a:pt x="1389" y="579"/>
                  </a:lnTo>
                  <a:lnTo>
                    <a:pt x="1620" y="811"/>
                  </a:lnTo>
                  <a:lnTo>
                    <a:pt x="1852" y="1158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1559880" y="3032280"/>
              <a:ext cx="70200" cy="173880"/>
            </a:xfrm>
            <a:custGeom>
              <a:avLst/>
              <a:gdLst/>
              <a:ahLst/>
              <a:rect l="l" t="t" r="r" b="b"/>
              <a:pathLst>
                <a:path w="1967" h="3242">
                  <a:moveTo>
                    <a:pt x="1388" y="463"/>
                  </a:moveTo>
                  <a:lnTo>
                    <a:pt x="1620" y="695"/>
                  </a:lnTo>
                  <a:lnTo>
                    <a:pt x="1736" y="810"/>
                  </a:lnTo>
                  <a:lnTo>
                    <a:pt x="1851" y="1042"/>
                  </a:lnTo>
                  <a:lnTo>
                    <a:pt x="1967" y="1274"/>
                  </a:lnTo>
                  <a:lnTo>
                    <a:pt x="1967" y="1621"/>
                  </a:lnTo>
                  <a:lnTo>
                    <a:pt x="1967" y="1853"/>
                  </a:lnTo>
                  <a:lnTo>
                    <a:pt x="1967" y="2084"/>
                  </a:lnTo>
                  <a:lnTo>
                    <a:pt x="1967" y="2316"/>
                  </a:lnTo>
                  <a:lnTo>
                    <a:pt x="1967" y="2316"/>
                  </a:lnTo>
                  <a:lnTo>
                    <a:pt x="1851" y="2548"/>
                  </a:lnTo>
                  <a:lnTo>
                    <a:pt x="1851" y="2663"/>
                  </a:lnTo>
                  <a:lnTo>
                    <a:pt x="1736" y="2779"/>
                  </a:lnTo>
                  <a:lnTo>
                    <a:pt x="1620" y="2895"/>
                  </a:lnTo>
                  <a:lnTo>
                    <a:pt x="1620" y="3011"/>
                  </a:lnTo>
                  <a:lnTo>
                    <a:pt x="1504" y="3127"/>
                  </a:lnTo>
                  <a:lnTo>
                    <a:pt x="1388" y="3242"/>
                  </a:lnTo>
                  <a:lnTo>
                    <a:pt x="1273" y="3242"/>
                  </a:lnTo>
                  <a:lnTo>
                    <a:pt x="1273" y="3242"/>
                  </a:lnTo>
                  <a:lnTo>
                    <a:pt x="1273" y="3011"/>
                  </a:lnTo>
                  <a:lnTo>
                    <a:pt x="1388" y="2663"/>
                  </a:lnTo>
                  <a:lnTo>
                    <a:pt x="1504" y="2316"/>
                  </a:lnTo>
                  <a:lnTo>
                    <a:pt x="1620" y="1969"/>
                  </a:lnTo>
                  <a:lnTo>
                    <a:pt x="1620" y="1621"/>
                  </a:lnTo>
                  <a:lnTo>
                    <a:pt x="1620" y="1274"/>
                  </a:lnTo>
                  <a:lnTo>
                    <a:pt x="1504" y="926"/>
                  </a:lnTo>
                  <a:lnTo>
                    <a:pt x="1273" y="695"/>
                  </a:lnTo>
                  <a:lnTo>
                    <a:pt x="1273" y="695"/>
                  </a:lnTo>
                  <a:lnTo>
                    <a:pt x="1157" y="579"/>
                  </a:lnTo>
                  <a:lnTo>
                    <a:pt x="925" y="579"/>
                  </a:lnTo>
                  <a:lnTo>
                    <a:pt x="810" y="463"/>
                  </a:lnTo>
                  <a:lnTo>
                    <a:pt x="578" y="463"/>
                  </a:lnTo>
                  <a:lnTo>
                    <a:pt x="463" y="463"/>
                  </a:lnTo>
                  <a:lnTo>
                    <a:pt x="231" y="463"/>
                  </a:lnTo>
                  <a:lnTo>
                    <a:pt x="115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231" y="116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925" y="116"/>
                  </a:lnTo>
                  <a:lnTo>
                    <a:pt x="1157" y="231"/>
                  </a:lnTo>
                  <a:lnTo>
                    <a:pt x="1273" y="347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1642320" y="3069360"/>
              <a:ext cx="53640" cy="167760"/>
            </a:xfrm>
            <a:custGeom>
              <a:avLst/>
              <a:gdLst/>
              <a:ahLst/>
              <a:rect l="l" t="t" r="r" b="b"/>
              <a:pathLst>
                <a:path w="1505" h="3127">
                  <a:moveTo>
                    <a:pt x="1505" y="1158"/>
                  </a:moveTo>
                  <a:lnTo>
                    <a:pt x="1505" y="1389"/>
                  </a:lnTo>
                  <a:lnTo>
                    <a:pt x="1505" y="1737"/>
                  </a:lnTo>
                  <a:lnTo>
                    <a:pt x="1505" y="1968"/>
                  </a:lnTo>
                  <a:lnTo>
                    <a:pt x="1389" y="2316"/>
                  </a:lnTo>
                  <a:lnTo>
                    <a:pt x="1273" y="2547"/>
                  </a:lnTo>
                  <a:lnTo>
                    <a:pt x="1158" y="2779"/>
                  </a:lnTo>
                  <a:lnTo>
                    <a:pt x="926" y="2895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2895"/>
                  </a:lnTo>
                  <a:lnTo>
                    <a:pt x="695" y="2779"/>
                  </a:lnTo>
                  <a:lnTo>
                    <a:pt x="810" y="2663"/>
                  </a:lnTo>
                  <a:lnTo>
                    <a:pt x="810" y="2432"/>
                  </a:lnTo>
                  <a:lnTo>
                    <a:pt x="926" y="2316"/>
                  </a:lnTo>
                  <a:lnTo>
                    <a:pt x="926" y="2200"/>
                  </a:lnTo>
                  <a:lnTo>
                    <a:pt x="1042" y="1968"/>
                  </a:lnTo>
                  <a:lnTo>
                    <a:pt x="1042" y="1737"/>
                  </a:lnTo>
                  <a:lnTo>
                    <a:pt x="1042" y="1737"/>
                  </a:lnTo>
                  <a:lnTo>
                    <a:pt x="1042" y="1621"/>
                  </a:lnTo>
                  <a:lnTo>
                    <a:pt x="1042" y="1389"/>
                  </a:lnTo>
                  <a:lnTo>
                    <a:pt x="926" y="1158"/>
                  </a:lnTo>
                  <a:lnTo>
                    <a:pt x="926" y="926"/>
                  </a:lnTo>
                  <a:lnTo>
                    <a:pt x="926" y="810"/>
                  </a:lnTo>
                  <a:lnTo>
                    <a:pt x="810" y="695"/>
                  </a:lnTo>
                  <a:lnTo>
                    <a:pt x="579" y="463"/>
                  </a:lnTo>
                  <a:lnTo>
                    <a:pt x="463" y="347"/>
                  </a:lnTo>
                  <a:lnTo>
                    <a:pt x="463" y="347"/>
                  </a:lnTo>
                  <a:lnTo>
                    <a:pt x="347" y="347"/>
                  </a:lnTo>
                  <a:lnTo>
                    <a:pt x="232" y="347"/>
                  </a:lnTo>
                  <a:lnTo>
                    <a:pt x="232" y="347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2" y="0"/>
                  </a:lnTo>
                  <a:lnTo>
                    <a:pt x="232" y="0"/>
                  </a:lnTo>
                  <a:lnTo>
                    <a:pt x="463" y="0"/>
                  </a:lnTo>
                  <a:lnTo>
                    <a:pt x="695" y="115"/>
                  </a:lnTo>
                  <a:lnTo>
                    <a:pt x="926" y="231"/>
                  </a:lnTo>
                  <a:lnTo>
                    <a:pt x="1042" y="347"/>
                  </a:lnTo>
                  <a:lnTo>
                    <a:pt x="1158" y="579"/>
                  </a:lnTo>
                  <a:lnTo>
                    <a:pt x="1273" y="695"/>
                  </a:lnTo>
                  <a:lnTo>
                    <a:pt x="1389" y="926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1091880" y="3088080"/>
              <a:ext cx="852480" cy="1181160"/>
            </a:xfrm>
            <a:custGeom>
              <a:avLst/>
              <a:gdLst/>
              <a:ahLst/>
              <a:rect l="l" t="t" r="r" b="b"/>
              <a:pathLst>
                <a:path w="23841" h="22004">
                  <a:moveTo>
                    <a:pt x="4050" y="116"/>
                  </a:moveTo>
                  <a:lnTo>
                    <a:pt x="4050" y="232"/>
                  </a:lnTo>
                  <a:lnTo>
                    <a:pt x="3935" y="348"/>
                  </a:lnTo>
                  <a:lnTo>
                    <a:pt x="3935" y="463"/>
                  </a:lnTo>
                  <a:lnTo>
                    <a:pt x="3935" y="579"/>
                  </a:lnTo>
                  <a:lnTo>
                    <a:pt x="3935" y="695"/>
                  </a:lnTo>
                  <a:lnTo>
                    <a:pt x="3935" y="811"/>
                  </a:lnTo>
                  <a:lnTo>
                    <a:pt x="4050" y="927"/>
                  </a:lnTo>
                  <a:lnTo>
                    <a:pt x="4050" y="1042"/>
                  </a:lnTo>
                  <a:lnTo>
                    <a:pt x="4050" y="1042"/>
                  </a:lnTo>
                  <a:lnTo>
                    <a:pt x="4166" y="1158"/>
                  </a:lnTo>
                  <a:lnTo>
                    <a:pt x="4166" y="1274"/>
                  </a:lnTo>
                  <a:lnTo>
                    <a:pt x="4282" y="1274"/>
                  </a:lnTo>
                  <a:lnTo>
                    <a:pt x="4398" y="1274"/>
                  </a:lnTo>
                  <a:lnTo>
                    <a:pt x="4398" y="1274"/>
                  </a:lnTo>
                  <a:lnTo>
                    <a:pt x="4513" y="1274"/>
                  </a:lnTo>
                  <a:lnTo>
                    <a:pt x="4629" y="1274"/>
                  </a:lnTo>
                  <a:lnTo>
                    <a:pt x="4745" y="1274"/>
                  </a:lnTo>
                  <a:lnTo>
                    <a:pt x="4745" y="1274"/>
                  </a:lnTo>
                  <a:lnTo>
                    <a:pt x="4861" y="1158"/>
                  </a:lnTo>
                  <a:lnTo>
                    <a:pt x="4976" y="1042"/>
                  </a:lnTo>
                  <a:lnTo>
                    <a:pt x="5092" y="927"/>
                  </a:lnTo>
                  <a:lnTo>
                    <a:pt x="5208" y="695"/>
                  </a:lnTo>
                  <a:lnTo>
                    <a:pt x="5324" y="579"/>
                  </a:lnTo>
                  <a:lnTo>
                    <a:pt x="5439" y="463"/>
                  </a:lnTo>
                  <a:lnTo>
                    <a:pt x="5439" y="348"/>
                  </a:lnTo>
                  <a:lnTo>
                    <a:pt x="5439" y="116"/>
                  </a:lnTo>
                  <a:lnTo>
                    <a:pt x="5439" y="116"/>
                  </a:lnTo>
                  <a:lnTo>
                    <a:pt x="5786" y="232"/>
                  </a:lnTo>
                  <a:lnTo>
                    <a:pt x="5786" y="232"/>
                  </a:lnTo>
                  <a:lnTo>
                    <a:pt x="5671" y="348"/>
                  </a:lnTo>
                  <a:lnTo>
                    <a:pt x="5439" y="463"/>
                  </a:lnTo>
                  <a:lnTo>
                    <a:pt x="5439" y="579"/>
                  </a:lnTo>
                  <a:lnTo>
                    <a:pt x="5324" y="811"/>
                  </a:lnTo>
                  <a:lnTo>
                    <a:pt x="5324" y="927"/>
                  </a:lnTo>
                  <a:lnTo>
                    <a:pt x="5324" y="1158"/>
                  </a:lnTo>
                  <a:lnTo>
                    <a:pt x="5439" y="1390"/>
                  </a:lnTo>
                  <a:lnTo>
                    <a:pt x="5439" y="1506"/>
                  </a:lnTo>
                  <a:lnTo>
                    <a:pt x="5439" y="1506"/>
                  </a:lnTo>
                  <a:lnTo>
                    <a:pt x="5555" y="1737"/>
                  </a:lnTo>
                  <a:lnTo>
                    <a:pt x="5671" y="1737"/>
                  </a:lnTo>
                  <a:lnTo>
                    <a:pt x="5786" y="1853"/>
                  </a:lnTo>
                  <a:lnTo>
                    <a:pt x="5902" y="1853"/>
                  </a:lnTo>
                  <a:lnTo>
                    <a:pt x="6018" y="1853"/>
                  </a:lnTo>
                  <a:lnTo>
                    <a:pt x="6249" y="1853"/>
                  </a:lnTo>
                  <a:lnTo>
                    <a:pt x="6365" y="1853"/>
                  </a:lnTo>
                  <a:lnTo>
                    <a:pt x="6481" y="1737"/>
                  </a:lnTo>
                  <a:lnTo>
                    <a:pt x="6481" y="1737"/>
                  </a:lnTo>
                  <a:lnTo>
                    <a:pt x="6712" y="1737"/>
                  </a:lnTo>
                  <a:lnTo>
                    <a:pt x="6828" y="1621"/>
                  </a:lnTo>
                  <a:lnTo>
                    <a:pt x="6944" y="1390"/>
                  </a:lnTo>
                  <a:lnTo>
                    <a:pt x="7060" y="1274"/>
                  </a:lnTo>
                  <a:lnTo>
                    <a:pt x="7175" y="1042"/>
                  </a:lnTo>
                  <a:lnTo>
                    <a:pt x="7291" y="927"/>
                  </a:lnTo>
                  <a:lnTo>
                    <a:pt x="7291" y="695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638" y="695"/>
                  </a:lnTo>
                  <a:lnTo>
                    <a:pt x="7522" y="811"/>
                  </a:lnTo>
                  <a:lnTo>
                    <a:pt x="7407" y="1042"/>
                  </a:lnTo>
                  <a:lnTo>
                    <a:pt x="7407" y="1158"/>
                  </a:lnTo>
                  <a:lnTo>
                    <a:pt x="7291" y="1274"/>
                  </a:lnTo>
                  <a:lnTo>
                    <a:pt x="7291" y="1390"/>
                  </a:lnTo>
                  <a:lnTo>
                    <a:pt x="7291" y="1506"/>
                  </a:lnTo>
                  <a:lnTo>
                    <a:pt x="7291" y="1621"/>
                  </a:lnTo>
                  <a:lnTo>
                    <a:pt x="7291" y="1621"/>
                  </a:lnTo>
                  <a:lnTo>
                    <a:pt x="7407" y="1737"/>
                  </a:lnTo>
                  <a:lnTo>
                    <a:pt x="7407" y="1969"/>
                  </a:lnTo>
                  <a:lnTo>
                    <a:pt x="7407" y="2085"/>
                  </a:lnTo>
                  <a:lnTo>
                    <a:pt x="7522" y="2200"/>
                  </a:lnTo>
                  <a:lnTo>
                    <a:pt x="7522" y="2316"/>
                  </a:lnTo>
                  <a:lnTo>
                    <a:pt x="7638" y="2316"/>
                  </a:lnTo>
                  <a:lnTo>
                    <a:pt x="7754" y="2432"/>
                  </a:lnTo>
                  <a:lnTo>
                    <a:pt x="7870" y="2432"/>
                  </a:lnTo>
                  <a:lnTo>
                    <a:pt x="7870" y="2432"/>
                  </a:lnTo>
                  <a:lnTo>
                    <a:pt x="8101" y="2432"/>
                  </a:lnTo>
                  <a:lnTo>
                    <a:pt x="8217" y="2432"/>
                  </a:lnTo>
                  <a:lnTo>
                    <a:pt x="8333" y="2316"/>
                  </a:lnTo>
                  <a:lnTo>
                    <a:pt x="8448" y="2200"/>
                  </a:lnTo>
                  <a:lnTo>
                    <a:pt x="8564" y="2200"/>
                  </a:lnTo>
                  <a:lnTo>
                    <a:pt x="8564" y="2085"/>
                  </a:lnTo>
                  <a:lnTo>
                    <a:pt x="8680" y="1969"/>
                  </a:lnTo>
                  <a:lnTo>
                    <a:pt x="8911" y="1969"/>
                  </a:lnTo>
                  <a:lnTo>
                    <a:pt x="8911" y="1969"/>
                  </a:lnTo>
                  <a:lnTo>
                    <a:pt x="8911" y="1853"/>
                  </a:lnTo>
                  <a:lnTo>
                    <a:pt x="8911" y="1737"/>
                  </a:lnTo>
                  <a:lnTo>
                    <a:pt x="9027" y="1737"/>
                  </a:lnTo>
                  <a:lnTo>
                    <a:pt x="9143" y="1621"/>
                  </a:lnTo>
                  <a:lnTo>
                    <a:pt x="9258" y="1506"/>
                  </a:lnTo>
                  <a:lnTo>
                    <a:pt x="9374" y="1390"/>
                  </a:lnTo>
                  <a:lnTo>
                    <a:pt x="9374" y="1274"/>
                  </a:lnTo>
                  <a:lnTo>
                    <a:pt x="9490" y="1158"/>
                  </a:lnTo>
                  <a:lnTo>
                    <a:pt x="9490" y="1158"/>
                  </a:lnTo>
                  <a:lnTo>
                    <a:pt x="9837" y="1274"/>
                  </a:lnTo>
                  <a:lnTo>
                    <a:pt x="9837" y="1274"/>
                  </a:lnTo>
                  <a:lnTo>
                    <a:pt x="9837" y="1390"/>
                  </a:lnTo>
                  <a:lnTo>
                    <a:pt x="9721" y="1621"/>
                  </a:lnTo>
                  <a:lnTo>
                    <a:pt x="9721" y="1853"/>
                  </a:lnTo>
                  <a:lnTo>
                    <a:pt x="9606" y="2085"/>
                  </a:lnTo>
                  <a:lnTo>
                    <a:pt x="9606" y="2200"/>
                  </a:lnTo>
                  <a:lnTo>
                    <a:pt x="9721" y="2432"/>
                  </a:lnTo>
                  <a:lnTo>
                    <a:pt x="9721" y="2664"/>
                  </a:lnTo>
                  <a:lnTo>
                    <a:pt x="9953" y="2780"/>
                  </a:lnTo>
                  <a:lnTo>
                    <a:pt x="9953" y="2780"/>
                  </a:lnTo>
                  <a:lnTo>
                    <a:pt x="10069" y="2780"/>
                  </a:lnTo>
                  <a:lnTo>
                    <a:pt x="10184" y="2780"/>
                  </a:lnTo>
                  <a:lnTo>
                    <a:pt x="10300" y="2780"/>
                  </a:lnTo>
                  <a:lnTo>
                    <a:pt x="10531" y="2780"/>
                  </a:lnTo>
                  <a:lnTo>
                    <a:pt x="10647" y="2780"/>
                  </a:lnTo>
                  <a:lnTo>
                    <a:pt x="10763" y="2664"/>
                  </a:lnTo>
                  <a:lnTo>
                    <a:pt x="10763" y="2548"/>
                  </a:lnTo>
                  <a:lnTo>
                    <a:pt x="10879" y="2432"/>
                  </a:lnTo>
                  <a:lnTo>
                    <a:pt x="10879" y="2432"/>
                  </a:lnTo>
                  <a:lnTo>
                    <a:pt x="10763" y="2432"/>
                  </a:lnTo>
                  <a:lnTo>
                    <a:pt x="10763" y="2432"/>
                  </a:lnTo>
                  <a:lnTo>
                    <a:pt x="10994" y="2316"/>
                  </a:lnTo>
                  <a:lnTo>
                    <a:pt x="11110" y="2200"/>
                  </a:lnTo>
                  <a:lnTo>
                    <a:pt x="11226" y="1969"/>
                  </a:lnTo>
                  <a:lnTo>
                    <a:pt x="11342" y="1737"/>
                  </a:lnTo>
                  <a:lnTo>
                    <a:pt x="11457" y="1506"/>
                  </a:lnTo>
                  <a:lnTo>
                    <a:pt x="11689" y="1506"/>
                  </a:lnTo>
                  <a:lnTo>
                    <a:pt x="11805" y="1506"/>
                  </a:lnTo>
                  <a:lnTo>
                    <a:pt x="12036" y="1621"/>
                  </a:lnTo>
                  <a:lnTo>
                    <a:pt x="12036" y="1621"/>
                  </a:lnTo>
                  <a:lnTo>
                    <a:pt x="12036" y="1737"/>
                  </a:lnTo>
                  <a:lnTo>
                    <a:pt x="11920" y="1969"/>
                  </a:lnTo>
                  <a:lnTo>
                    <a:pt x="11920" y="2085"/>
                  </a:lnTo>
                  <a:lnTo>
                    <a:pt x="11805" y="2200"/>
                  </a:lnTo>
                  <a:lnTo>
                    <a:pt x="11805" y="2432"/>
                  </a:lnTo>
                  <a:lnTo>
                    <a:pt x="11805" y="2548"/>
                  </a:lnTo>
                  <a:lnTo>
                    <a:pt x="11920" y="2780"/>
                  </a:lnTo>
                  <a:lnTo>
                    <a:pt x="12036" y="2895"/>
                  </a:lnTo>
                  <a:lnTo>
                    <a:pt x="12036" y="2895"/>
                  </a:lnTo>
                  <a:lnTo>
                    <a:pt x="12152" y="3011"/>
                  </a:lnTo>
                  <a:lnTo>
                    <a:pt x="12267" y="3127"/>
                  </a:lnTo>
                  <a:lnTo>
                    <a:pt x="12383" y="3127"/>
                  </a:lnTo>
                  <a:lnTo>
                    <a:pt x="12499" y="3127"/>
                  </a:lnTo>
                  <a:lnTo>
                    <a:pt x="12615" y="3127"/>
                  </a:lnTo>
                  <a:lnTo>
                    <a:pt x="12730" y="3127"/>
                  </a:lnTo>
                  <a:lnTo>
                    <a:pt x="12846" y="3011"/>
                  </a:lnTo>
                  <a:lnTo>
                    <a:pt x="12962" y="3011"/>
                  </a:lnTo>
                  <a:lnTo>
                    <a:pt x="12962" y="3011"/>
                  </a:lnTo>
                  <a:lnTo>
                    <a:pt x="12846" y="2780"/>
                  </a:lnTo>
                  <a:lnTo>
                    <a:pt x="12962" y="2664"/>
                  </a:lnTo>
                  <a:lnTo>
                    <a:pt x="13078" y="2548"/>
                  </a:lnTo>
                  <a:lnTo>
                    <a:pt x="13193" y="2432"/>
                  </a:lnTo>
                  <a:lnTo>
                    <a:pt x="13309" y="2316"/>
                  </a:lnTo>
                  <a:lnTo>
                    <a:pt x="13425" y="2200"/>
                  </a:lnTo>
                  <a:lnTo>
                    <a:pt x="13541" y="2085"/>
                  </a:lnTo>
                  <a:lnTo>
                    <a:pt x="13656" y="1969"/>
                  </a:lnTo>
                  <a:lnTo>
                    <a:pt x="13656" y="1969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3772" y="2085"/>
                  </a:lnTo>
                  <a:lnTo>
                    <a:pt x="13772" y="2316"/>
                  </a:lnTo>
                  <a:lnTo>
                    <a:pt x="13772" y="2432"/>
                  </a:lnTo>
                  <a:lnTo>
                    <a:pt x="13656" y="2664"/>
                  </a:lnTo>
                  <a:lnTo>
                    <a:pt x="13772" y="2780"/>
                  </a:lnTo>
                  <a:lnTo>
                    <a:pt x="13772" y="2895"/>
                  </a:lnTo>
                  <a:lnTo>
                    <a:pt x="13888" y="3127"/>
                  </a:lnTo>
                  <a:lnTo>
                    <a:pt x="14003" y="3127"/>
                  </a:lnTo>
                  <a:lnTo>
                    <a:pt x="14003" y="3127"/>
                  </a:lnTo>
                  <a:lnTo>
                    <a:pt x="14119" y="3127"/>
                  </a:lnTo>
                  <a:lnTo>
                    <a:pt x="14235" y="3127"/>
                  </a:lnTo>
                  <a:lnTo>
                    <a:pt x="14351" y="3127"/>
                  </a:lnTo>
                  <a:lnTo>
                    <a:pt x="14466" y="3127"/>
                  </a:lnTo>
                  <a:lnTo>
                    <a:pt x="14582" y="3011"/>
                  </a:lnTo>
                  <a:lnTo>
                    <a:pt x="14582" y="3011"/>
                  </a:lnTo>
                  <a:lnTo>
                    <a:pt x="14698" y="2895"/>
                  </a:lnTo>
                  <a:lnTo>
                    <a:pt x="14814" y="2780"/>
                  </a:lnTo>
                  <a:lnTo>
                    <a:pt x="14814" y="2780"/>
                  </a:lnTo>
                  <a:lnTo>
                    <a:pt x="14814" y="2664"/>
                  </a:lnTo>
                  <a:lnTo>
                    <a:pt x="14814" y="2664"/>
                  </a:lnTo>
                  <a:lnTo>
                    <a:pt x="14814" y="2548"/>
                  </a:lnTo>
                  <a:lnTo>
                    <a:pt x="14929" y="2432"/>
                  </a:lnTo>
                  <a:lnTo>
                    <a:pt x="14929" y="2316"/>
                  </a:lnTo>
                  <a:lnTo>
                    <a:pt x="15045" y="2316"/>
                  </a:lnTo>
                  <a:lnTo>
                    <a:pt x="15045" y="2200"/>
                  </a:lnTo>
                  <a:lnTo>
                    <a:pt x="15161" y="2085"/>
                  </a:lnTo>
                  <a:lnTo>
                    <a:pt x="15161" y="2085"/>
                  </a:lnTo>
                  <a:lnTo>
                    <a:pt x="15624" y="2085"/>
                  </a:lnTo>
                  <a:lnTo>
                    <a:pt x="15624" y="2085"/>
                  </a:lnTo>
                  <a:lnTo>
                    <a:pt x="15624" y="2200"/>
                  </a:lnTo>
                  <a:lnTo>
                    <a:pt x="15508" y="2432"/>
                  </a:lnTo>
                  <a:lnTo>
                    <a:pt x="15508" y="2548"/>
                  </a:lnTo>
                  <a:lnTo>
                    <a:pt x="15508" y="2664"/>
                  </a:lnTo>
                  <a:lnTo>
                    <a:pt x="15508" y="2780"/>
                  </a:lnTo>
                  <a:lnTo>
                    <a:pt x="15508" y="2895"/>
                  </a:lnTo>
                  <a:lnTo>
                    <a:pt x="15624" y="3011"/>
                  </a:lnTo>
                  <a:lnTo>
                    <a:pt x="15739" y="3127"/>
                  </a:lnTo>
                  <a:lnTo>
                    <a:pt x="15739" y="3127"/>
                  </a:lnTo>
                  <a:lnTo>
                    <a:pt x="15739" y="3243"/>
                  </a:lnTo>
                  <a:lnTo>
                    <a:pt x="15855" y="3243"/>
                  </a:lnTo>
                  <a:lnTo>
                    <a:pt x="15855" y="3243"/>
                  </a:lnTo>
                  <a:lnTo>
                    <a:pt x="15971" y="3359"/>
                  </a:lnTo>
                  <a:lnTo>
                    <a:pt x="16087" y="3359"/>
                  </a:lnTo>
                  <a:lnTo>
                    <a:pt x="16202" y="3359"/>
                  </a:lnTo>
                  <a:lnTo>
                    <a:pt x="16202" y="3359"/>
                  </a:lnTo>
                  <a:lnTo>
                    <a:pt x="16318" y="3359"/>
                  </a:lnTo>
                  <a:lnTo>
                    <a:pt x="16318" y="3359"/>
                  </a:lnTo>
                  <a:lnTo>
                    <a:pt x="16550" y="3243"/>
                  </a:lnTo>
                  <a:lnTo>
                    <a:pt x="16665" y="3011"/>
                  </a:lnTo>
                  <a:lnTo>
                    <a:pt x="16781" y="2895"/>
                  </a:lnTo>
                  <a:lnTo>
                    <a:pt x="17012" y="2664"/>
                  </a:lnTo>
                  <a:lnTo>
                    <a:pt x="17128" y="2432"/>
                  </a:lnTo>
                  <a:lnTo>
                    <a:pt x="17244" y="2316"/>
                  </a:lnTo>
                  <a:lnTo>
                    <a:pt x="17475" y="2316"/>
                  </a:lnTo>
                  <a:lnTo>
                    <a:pt x="17823" y="2432"/>
                  </a:lnTo>
                  <a:lnTo>
                    <a:pt x="17823" y="2432"/>
                  </a:lnTo>
                  <a:lnTo>
                    <a:pt x="17823" y="2548"/>
                  </a:lnTo>
                  <a:lnTo>
                    <a:pt x="17707" y="2664"/>
                  </a:lnTo>
                  <a:lnTo>
                    <a:pt x="17707" y="2780"/>
                  </a:lnTo>
                  <a:lnTo>
                    <a:pt x="17591" y="2895"/>
                  </a:lnTo>
                  <a:lnTo>
                    <a:pt x="17591" y="3011"/>
                  </a:lnTo>
                  <a:lnTo>
                    <a:pt x="17475" y="3127"/>
                  </a:lnTo>
                  <a:lnTo>
                    <a:pt x="17475" y="3243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707" y="3590"/>
                  </a:lnTo>
                  <a:lnTo>
                    <a:pt x="17707" y="3590"/>
                  </a:lnTo>
                  <a:lnTo>
                    <a:pt x="17823" y="3706"/>
                  </a:lnTo>
                  <a:lnTo>
                    <a:pt x="17938" y="3706"/>
                  </a:lnTo>
                  <a:lnTo>
                    <a:pt x="18054" y="3706"/>
                  </a:lnTo>
                  <a:lnTo>
                    <a:pt x="18170" y="3706"/>
                  </a:lnTo>
                  <a:lnTo>
                    <a:pt x="18286" y="3706"/>
                  </a:lnTo>
                  <a:lnTo>
                    <a:pt x="18286" y="3706"/>
                  </a:lnTo>
                  <a:lnTo>
                    <a:pt x="18401" y="3590"/>
                  </a:lnTo>
                  <a:lnTo>
                    <a:pt x="18517" y="3474"/>
                  </a:lnTo>
                  <a:lnTo>
                    <a:pt x="18748" y="3359"/>
                  </a:lnTo>
                  <a:lnTo>
                    <a:pt x="18864" y="3243"/>
                  </a:lnTo>
                  <a:lnTo>
                    <a:pt x="18980" y="3127"/>
                  </a:lnTo>
                  <a:lnTo>
                    <a:pt x="19096" y="3011"/>
                  </a:lnTo>
                  <a:lnTo>
                    <a:pt x="19211" y="2780"/>
                  </a:lnTo>
                  <a:lnTo>
                    <a:pt x="19327" y="2664"/>
                  </a:lnTo>
                  <a:lnTo>
                    <a:pt x="19327" y="2664"/>
                  </a:lnTo>
                  <a:lnTo>
                    <a:pt x="19559" y="2664"/>
                  </a:lnTo>
                  <a:lnTo>
                    <a:pt x="19559" y="2664"/>
                  </a:lnTo>
                  <a:lnTo>
                    <a:pt x="19559" y="2780"/>
                  </a:lnTo>
                  <a:lnTo>
                    <a:pt x="19559" y="3011"/>
                  </a:lnTo>
                  <a:lnTo>
                    <a:pt x="19559" y="3127"/>
                  </a:lnTo>
                  <a:lnTo>
                    <a:pt x="19443" y="3359"/>
                  </a:lnTo>
                  <a:lnTo>
                    <a:pt x="19443" y="3474"/>
                  </a:lnTo>
                  <a:lnTo>
                    <a:pt x="19559" y="3590"/>
                  </a:lnTo>
                  <a:lnTo>
                    <a:pt x="19674" y="3706"/>
                  </a:lnTo>
                  <a:lnTo>
                    <a:pt x="19790" y="3822"/>
                  </a:lnTo>
                  <a:lnTo>
                    <a:pt x="19790" y="3822"/>
                  </a:lnTo>
                  <a:lnTo>
                    <a:pt x="19906" y="3822"/>
                  </a:lnTo>
                  <a:lnTo>
                    <a:pt x="20022" y="3822"/>
                  </a:lnTo>
                  <a:lnTo>
                    <a:pt x="20137" y="3822"/>
                  </a:lnTo>
                  <a:lnTo>
                    <a:pt x="20253" y="3822"/>
                  </a:lnTo>
                  <a:lnTo>
                    <a:pt x="20369" y="3706"/>
                  </a:lnTo>
                  <a:lnTo>
                    <a:pt x="20484" y="3706"/>
                  </a:lnTo>
                  <a:lnTo>
                    <a:pt x="20600" y="3590"/>
                  </a:lnTo>
                  <a:lnTo>
                    <a:pt x="20716" y="3590"/>
                  </a:lnTo>
                  <a:lnTo>
                    <a:pt x="20716" y="3590"/>
                  </a:lnTo>
                  <a:lnTo>
                    <a:pt x="20600" y="3474"/>
                  </a:lnTo>
                  <a:lnTo>
                    <a:pt x="20600" y="3359"/>
                  </a:lnTo>
                  <a:lnTo>
                    <a:pt x="20716" y="3243"/>
                  </a:lnTo>
                  <a:lnTo>
                    <a:pt x="20716" y="3127"/>
                  </a:lnTo>
                  <a:lnTo>
                    <a:pt x="20832" y="3127"/>
                  </a:lnTo>
                  <a:lnTo>
                    <a:pt x="20832" y="3011"/>
                  </a:lnTo>
                  <a:lnTo>
                    <a:pt x="20947" y="2895"/>
                  </a:lnTo>
                  <a:lnTo>
                    <a:pt x="20947" y="2780"/>
                  </a:lnTo>
                  <a:lnTo>
                    <a:pt x="20947" y="2780"/>
                  </a:lnTo>
                  <a:lnTo>
                    <a:pt x="20947" y="2895"/>
                  </a:lnTo>
                  <a:lnTo>
                    <a:pt x="20947" y="3011"/>
                  </a:lnTo>
                  <a:lnTo>
                    <a:pt x="20947" y="3127"/>
                  </a:lnTo>
                  <a:lnTo>
                    <a:pt x="20947" y="3359"/>
                  </a:lnTo>
                  <a:lnTo>
                    <a:pt x="20832" y="3474"/>
                  </a:lnTo>
                  <a:lnTo>
                    <a:pt x="20832" y="3590"/>
                  </a:lnTo>
                  <a:lnTo>
                    <a:pt x="20832" y="3706"/>
                  </a:lnTo>
                  <a:lnTo>
                    <a:pt x="20832" y="3822"/>
                  </a:lnTo>
                  <a:lnTo>
                    <a:pt x="20832" y="3822"/>
                  </a:lnTo>
                  <a:lnTo>
                    <a:pt x="20947" y="3938"/>
                  </a:lnTo>
                  <a:lnTo>
                    <a:pt x="20947" y="3938"/>
                  </a:lnTo>
                  <a:lnTo>
                    <a:pt x="21063" y="4053"/>
                  </a:lnTo>
                  <a:lnTo>
                    <a:pt x="21179" y="4053"/>
                  </a:lnTo>
                  <a:lnTo>
                    <a:pt x="21295" y="4053"/>
                  </a:lnTo>
                  <a:lnTo>
                    <a:pt x="21295" y="4053"/>
                  </a:lnTo>
                  <a:lnTo>
                    <a:pt x="21410" y="4053"/>
                  </a:lnTo>
                  <a:lnTo>
                    <a:pt x="21526" y="4053"/>
                  </a:lnTo>
                  <a:lnTo>
                    <a:pt x="21526" y="4053"/>
                  </a:lnTo>
                  <a:lnTo>
                    <a:pt x="21642" y="3938"/>
                  </a:lnTo>
                  <a:lnTo>
                    <a:pt x="21642" y="3822"/>
                  </a:lnTo>
                  <a:lnTo>
                    <a:pt x="21758" y="3706"/>
                  </a:lnTo>
                  <a:lnTo>
                    <a:pt x="21873" y="3590"/>
                  </a:lnTo>
                  <a:lnTo>
                    <a:pt x="21989" y="3474"/>
                  </a:lnTo>
                  <a:lnTo>
                    <a:pt x="22105" y="3359"/>
                  </a:lnTo>
                  <a:lnTo>
                    <a:pt x="22105" y="3243"/>
                  </a:lnTo>
                  <a:lnTo>
                    <a:pt x="22220" y="3011"/>
                  </a:lnTo>
                  <a:lnTo>
                    <a:pt x="22220" y="3011"/>
                  </a:lnTo>
                  <a:lnTo>
                    <a:pt x="22105" y="3127"/>
                  </a:lnTo>
                  <a:lnTo>
                    <a:pt x="22105" y="3243"/>
                  </a:lnTo>
                  <a:lnTo>
                    <a:pt x="22105" y="3359"/>
                  </a:lnTo>
                  <a:lnTo>
                    <a:pt x="22105" y="3474"/>
                  </a:lnTo>
                  <a:lnTo>
                    <a:pt x="22105" y="3590"/>
                  </a:lnTo>
                  <a:lnTo>
                    <a:pt x="22105" y="3706"/>
                  </a:lnTo>
                  <a:lnTo>
                    <a:pt x="22105" y="3822"/>
                  </a:lnTo>
                  <a:lnTo>
                    <a:pt x="22220" y="3938"/>
                  </a:lnTo>
                  <a:lnTo>
                    <a:pt x="22220" y="3938"/>
                  </a:lnTo>
                  <a:lnTo>
                    <a:pt x="22336" y="4053"/>
                  </a:lnTo>
                  <a:lnTo>
                    <a:pt x="22452" y="4169"/>
                  </a:lnTo>
                  <a:lnTo>
                    <a:pt x="22568" y="4169"/>
                  </a:lnTo>
                  <a:lnTo>
                    <a:pt x="22683" y="4053"/>
                  </a:lnTo>
                  <a:lnTo>
                    <a:pt x="22799" y="3938"/>
                  </a:lnTo>
                  <a:lnTo>
                    <a:pt x="22915" y="3822"/>
                  </a:lnTo>
                  <a:lnTo>
                    <a:pt x="23031" y="3822"/>
                  </a:lnTo>
                  <a:lnTo>
                    <a:pt x="23146" y="3822"/>
                  </a:lnTo>
                  <a:lnTo>
                    <a:pt x="23146" y="3822"/>
                  </a:lnTo>
                  <a:lnTo>
                    <a:pt x="23146" y="3938"/>
                  </a:lnTo>
                  <a:lnTo>
                    <a:pt x="23146" y="3938"/>
                  </a:lnTo>
                  <a:lnTo>
                    <a:pt x="23146" y="4053"/>
                  </a:lnTo>
                  <a:lnTo>
                    <a:pt x="23146" y="4169"/>
                  </a:lnTo>
                  <a:lnTo>
                    <a:pt x="23146" y="4285"/>
                  </a:lnTo>
                  <a:lnTo>
                    <a:pt x="23262" y="4285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841" y="4285"/>
                  </a:lnTo>
                  <a:lnTo>
                    <a:pt x="23841" y="4285"/>
                  </a:lnTo>
                  <a:lnTo>
                    <a:pt x="23378" y="5906"/>
                  </a:lnTo>
                  <a:lnTo>
                    <a:pt x="22799" y="7528"/>
                  </a:lnTo>
                  <a:lnTo>
                    <a:pt x="22452" y="9265"/>
                  </a:lnTo>
                  <a:lnTo>
                    <a:pt x="21989" y="11002"/>
                  </a:lnTo>
                  <a:lnTo>
                    <a:pt x="21642" y="12739"/>
                  </a:lnTo>
                  <a:lnTo>
                    <a:pt x="21410" y="14476"/>
                  </a:lnTo>
                  <a:lnTo>
                    <a:pt x="21179" y="16213"/>
                  </a:lnTo>
                  <a:lnTo>
                    <a:pt x="21063" y="17951"/>
                  </a:lnTo>
                  <a:lnTo>
                    <a:pt x="21063" y="17951"/>
                  </a:lnTo>
                  <a:lnTo>
                    <a:pt x="18517" y="18414"/>
                  </a:lnTo>
                  <a:lnTo>
                    <a:pt x="15971" y="18877"/>
                  </a:lnTo>
                  <a:lnTo>
                    <a:pt x="13541" y="19456"/>
                  </a:lnTo>
                  <a:lnTo>
                    <a:pt x="11110" y="20035"/>
                  </a:lnTo>
                  <a:lnTo>
                    <a:pt x="8564" y="20614"/>
                  </a:lnTo>
                  <a:lnTo>
                    <a:pt x="6134" y="21077"/>
                  </a:lnTo>
                  <a:lnTo>
                    <a:pt x="3588" y="21656"/>
                  </a:lnTo>
                  <a:lnTo>
                    <a:pt x="926" y="22004"/>
                  </a:lnTo>
                  <a:lnTo>
                    <a:pt x="926" y="22004"/>
                  </a:lnTo>
                  <a:lnTo>
                    <a:pt x="1041" y="21888"/>
                  </a:lnTo>
                  <a:lnTo>
                    <a:pt x="1041" y="21656"/>
                  </a:lnTo>
                  <a:lnTo>
                    <a:pt x="1041" y="21541"/>
                  </a:lnTo>
                  <a:lnTo>
                    <a:pt x="1041" y="21309"/>
                  </a:lnTo>
                  <a:lnTo>
                    <a:pt x="1041" y="21193"/>
                  </a:lnTo>
                  <a:lnTo>
                    <a:pt x="926" y="20962"/>
                  </a:lnTo>
                  <a:lnTo>
                    <a:pt x="926" y="20730"/>
                  </a:lnTo>
                  <a:lnTo>
                    <a:pt x="926" y="20614"/>
                  </a:lnTo>
                  <a:lnTo>
                    <a:pt x="926" y="20614"/>
                  </a:lnTo>
                  <a:lnTo>
                    <a:pt x="810" y="20498"/>
                  </a:lnTo>
                  <a:lnTo>
                    <a:pt x="694" y="20383"/>
                  </a:lnTo>
                  <a:lnTo>
                    <a:pt x="579" y="20267"/>
                  </a:lnTo>
                  <a:lnTo>
                    <a:pt x="463" y="20267"/>
                  </a:lnTo>
                  <a:lnTo>
                    <a:pt x="347" y="20151"/>
                  </a:lnTo>
                  <a:lnTo>
                    <a:pt x="231" y="20151"/>
                  </a:lnTo>
                  <a:lnTo>
                    <a:pt x="116" y="20035"/>
                  </a:lnTo>
                  <a:lnTo>
                    <a:pt x="0" y="20035"/>
                  </a:lnTo>
                  <a:lnTo>
                    <a:pt x="0" y="20035"/>
                  </a:lnTo>
                  <a:lnTo>
                    <a:pt x="347" y="17603"/>
                  </a:lnTo>
                  <a:lnTo>
                    <a:pt x="694" y="15055"/>
                  </a:lnTo>
                  <a:lnTo>
                    <a:pt x="1273" y="12623"/>
                  </a:lnTo>
                  <a:lnTo>
                    <a:pt x="1852" y="10076"/>
                  </a:lnTo>
                  <a:lnTo>
                    <a:pt x="2430" y="7644"/>
                  </a:lnTo>
                  <a:lnTo>
                    <a:pt x="2893" y="5096"/>
                  </a:lnTo>
                  <a:lnTo>
                    <a:pt x="3472" y="2548"/>
                  </a:lnTo>
                  <a:lnTo>
                    <a:pt x="3935" y="0"/>
                  </a:lnTo>
                  <a:lnTo>
                    <a:pt x="3935" y="0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1038240" y="3094200"/>
              <a:ext cx="111600" cy="845280"/>
            </a:xfrm>
            <a:custGeom>
              <a:avLst/>
              <a:gdLst/>
              <a:ahLst/>
              <a:rect l="l" t="t" r="r" b="b"/>
              <a:pathLst>
                <a:path w="3125" h="15750">
                  <a:moveTo>
                    <a:pt x="3125" y="0"/>
                  </a:moveTo>
                  <a:lnTo>
                    <a:pt x="3125" y="347"/>
                  </a:lnTo>
                  <a:lnTo>
                    <a:pt x="3125" y="811"/>
                  </a:lnTo>
                  <a:lnTo>
                    <a:pt x="3009" y="1274"/>
                  </a:lnTo>
                  <a:lnTo>
                    <a:pt x="2894" y="1737"/>
                  </a:lnTo>
                  <a:lnTo>
                    <a:pt x="2894" y="2084"/>
                  </a:lnTo>
                  <a:lnTo>
                    <a:pt x="2778" y="2548"/>
                  </a:lnTo>
                  <a:lnTo>
                    <a:pt x="2662" y="2895"/>
                  </a:lnTo>
                  <a:lnTo>
                    <a:pt x="2546" y="3358"/>
                  </a:lnTo>
                  <a:lnTo>
                    <a:pt x="2546" y="3358"/>
                  </a:lnTo>
                  <a:lnTo>
                    <a:pt x="2199" y="4748"/>
                  </a:lnTo>
                  <a:lnTo>
                    <a:pt x="1968" y="6138"/>
                  </a:lnTo>
                  <a:lnTo>
                    <a:pt x="1736" y="7528"/>
                  </a:lnTo>
                  <a:lnTo>
                    <a:pt x="1389" y="8917"/>
                  </a:lnTo>
                  <a:lnTo>
                    <a:pt x="1158" y="10307"/>
                  </a:lnTo>
                  <a:lnTo>
                    <a:pt x="926" y="11812"/>
                  </a:lnTo>
                  <a:lnTo>
                    <a:pt x="695" y="13086"/>
                  </a:lnTo>
                  <a:lnTo>
                    <a:pt x="463" y="14476"/>
                  </a:lnTo>
                  <a:lnTo>
                    <a:pt x="463" y="14476"/>
                  </a:lnTo>
                  <a:lnTo>
                    <a:pt x="348" y="14592"/>
                  </a:lnTo>
                  <a:lnTo>
                    <a:pt x="348" y="14824"/>
                  </a:lnTo>
                  <a:lnTo>
                    <a:pt x="348" y="14939"/>
                  </a:lnTo>
                  <a:lnTo>
                    <a:pt x="348" y="15055"/>
                  </a:lnTo>
                  <a:lnTo>
                    <a:pt x="232" y="15287"/>
                  </a:lnTo>
                  <a:lnTo>
                    <a:pt x="232" y="15403"/>
                  </a:lnTo>
                  <a:lnTo>
                    <a:pt x="232" y="15518"/>
                  </a:lnTo>
                  <a:lnTo>
                    <a:pt x="232" y="15750"/>
                  </a:lnTo>
                  <a:lnTo>
                    <a:pt x="232" y="15750"/>
                  </a:lnTo>
                  <a:lnTo>
                    <a:pt x="0" y="15750"/>
                  </a:lnTo>
                  <a:lnTo>
                    <a:pt x="0" y="15750"/>
                  </a:lnTo>
                  <a:lnTo>
                    <a:pt x="116" y="14824"/>
                  </a:lnTo>
                  <a:lnTo>
                    <a:pt x="348" y="14013"/>
                  </a:lnTo>
                  <a:lnTo>
                    <a:pt x="463" y="13086"/>
                  </a:lnTo>
                  <a:lnTo>
                    <a:pt x="579" y="12276"/>
                  </a:lnTo>
                  <a:lnTo>
                    <a:pt x="695" y="11349"/>
                  </a:lnTo>
                  <a:lnTo>
                    <a:pt x="810" y="10423"/>
                  </a:lnTo>
                  <a:lnTo>
                    <a:pt x="926" y="9612"/>
                  </a:lnTo>
                  <a:lnTo>
                    <a:pt x="1042" y="8686"/>
                  </a:lnTo>
                  <a:lnTo>
                    <a:pt x="1042" y="8686"/>
                  </a:lnTo>
                  <a:lnTo>
                    <a:pt x="1273" y="7643"/>
                  </a:lnTo>
                  <a:lnTo>
                    <a:pt x="1505" y="6601"/>
                  </a:lnTo>
                  <a:lnTo>
                    <a:pt x="1736" y="5559"/>
                  </a:lnTo>
                  <a:lnTo>
                    <a:pt x="1968" y="4516"/>
                  </a:lnTo>
                  <a:lnTo>
                    <a:pt x="2199" y="3358"/>
                  </a:lnTo>
                  <a:lnTo>
                    <a:pt x="2431" y="2316"/>
                  </a:lnTo>
                  <a:lnTo>
                    <a:pt x="2662" y="1274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1059120" y="3094200"/>
              <a:ext cx="119880" cy="864000"/>
            </a:xfrm>
            <a:custGeom>
              <a:avLst/>
              <a:gdLst/>
              <a:ahLst/>
              <a:rect l="l" t="t" r="r" b="b"/>
              <a:pathLst>
                <a:path w="3356" h="16097">
                  <a:moveTo>
                    <a:pt x="3356" y="0"/>
                  </a:moveTo>
                  <a:lnTo>
                    <a:pt x="3125" y="1390"/>
                  </a:lnTo>
                  <a:lnTo>
                    <a:pt x="2893" y="2779"/>
                  </a:lnTo>
                  <a:lnTo>
                    <a:pt x="2662" y="4053"/>
                  </a:lnTo>
                  <a:lnTo>
                    <a:pt x="2315" y="5443"/>
                  </a:lnTo>
                  <a:lnTo>
                    <a:pt x="2083" y="6833"/>
                  </a:lnTo>
                  <a:lnTo>
                    <a:pt x="1736" y="8107"/>
                  </a:lnTo>
                  <a:lnTo>
                    <a:pt x="1505" y="9496"/>
                  </a:lnTo>
                  <a:lnTo>
                    <a:pt x="1273" y="10770"/>
                  </a:lnTo>
                  <a:lnTo>
                    <a:pt x="1273" y="10770"/>
                  </a:lnTo>
                  <a:lnTo>
                    <a:pt x="1157" y="11002"/>
                  </a:lnTo>
                  <a:lnTo>
                    <a:pt x="1157" y="11233"/>
                  </a:lnTo>
                  <a:lnTo>
                    <a:pt x="1042" y="11465"/>
                  </a:lnTo>
                  <a:lnTo>
                    <a:pt x="1042" y="11697"/>
                  </a:lnTo>
                  <a:lnTo>
                    <a:pt x="926" y="11928"/>
                  </a:lnTo>
                  <a:lnTo>
                    <a:pt x="926" y="12276"/>
                  </a:lnTo>
                  <a:lnTo>
                    <a:pt x="926" y="12507"/>
                  </a:lnTo>
                  <a:lnTo>
                    <a:pt x="810" y="12739"/>
                  </a:lnTo>
                  <a:lnTo>
                    <a:pt x="810" y="12739"/>
                  </a:lnTo>
                  <a:lnTo>
                    <a:pt x="926" y="13086"/>
                  </a:lnTo>
                  <a:lnTo>
                    <a:pt x="810" y="13550"/>
                  </a:lnTo>
                  <a:lnTo>
                    <a:pt x="810" y="13897"/>
                  </a:lnTo>
                  <a:lnTo>
                    <a:pt x="694" y="14360"/>
                  </a:lnTo>
                  <a:lnTo>
                    <a:pt x="579" y="14824"/>
                  </a:lnTo>
                  <a:lnTo>
                    <a:pt x="463" y="15171"/>
                  </a:lnTo>
                  <a:lnTo>
                    <a:pt x="463" y="15634"/>
                  </a:lnTo>
                  <a:lnTo>
                    <a:pt x="463" y="16097"/>
                  </a:lnTo>
                  <a:lnTo>
                    <a:pt x="463" y="16097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347" y="13897"/>
                  </a:lnTo>
                  <a:lnTo>
                    <a:pt x="694" y="11928"/>
                  </a:lnTo>
                  <a:lnTo>
                    <a:pt x="1042" y="9960"/>
                  </a:lnTo>
                  <a:lnTo>
                    <a:pt x="1389" y="7875"/>
                  </a:lnTo>
                  <a:lnTo>
                    <a:pt x="1852" y="5906"/>
                  </a:lnTo>
                  <a:lnTo>
                    <a:pt x="2199" y="3937"/>
                  </a:lnTo>
                  <a:lnTo>
                    <a:pt x="2546" y="1969"/>
                  </a:lnTo>
                  <a:lnTo>
                    <a:pt x="2893" y="0"/>
                  </a:lnTo>
                  <a:lnTo>
                    <a:pt x="2893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240" y="0"/>
                  </a:lnTo>
                  <a:lnTo>
                    <a:pt x="3240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1067040" y="3094200"/>
              <a:ext cx="144720" cy="1087920"/>
            </a:xfrm>
            <a:custGeom>
              <a:avLst/>
              <a:gdLst/>
              <a:ahLst/>
              <a:rect l="l" t="t" r="r" b="b"/>
              <a:pathLst>
                <a:path w="4051" h="20267">
                  <a:moveTo>
                    <a:pt x="3704" y="116"/>
                  </a:moveTo>
                  <a:lnTo>
                    <a:pt x="3935" y="0"/>
                  </a:lnTo>
                  <a:lnTo>
                    <a:pt x="4051" y="232"/>
                  </a:lnTo>
                  <a:lnTo>
                    <a:pt x="4051" y="232"/>
                  </a:lnTo>
                  <a:lnTo>
                    <a:pt x="3588" y="2779"/>
                  </a:lnTo>
                  <a:lnTo>
                    <a:pt x="3009" y="5211"/>
                  </a:lnTo>
                  <a:lnTo>
                    <a:pt x="2547" y="7643"/>
                  </a:lnTo>
                  <a:lnTo>
                    <a:pt x="1968" y="10075"/>
                  </a:lnTo>
                  <a:lnTo>
                    <a:pt x="1389" y="12623"/>
                  </a:lnTo>
                  <a:lnTo>
                    <a:pt x="926" y="15055"/>
                  </a:lnTo>
                  <a:lnTo>
                    <a:pt x="579" y="17603"/>
                  </a:lnTo>
                  <a:lnTo>
                    <a:pt x="348" y="20035"/>
                  </a:lnTo>
                  <a:lnTo>
                    <a:pt x="348" y="20035"/>
                  </a:lnTo>
                  <a:lnTo>
                    <a:pt x="348" y="20151"/>
                  </a:lnTo>
                  <a:lnTo>
                    <a:pt x="232" y="20151"/>
                  </a:lnTo>
                  <a:lnTo>
                    <a:pt x="232" y="20151"/>
                  </a:lnTo>
                  <a:lnTo>
                    <a:pt x="116" y="20151"/>
                  </a:lnTo>
                  <a:lnTo>
                    <a:pt x="116" y="20151"/>
                  </a:lnTo>
                  <a:lnTo>
                    <a:pt x="116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348" y="18761"/>
                  </a:lnTo>
                  <a:lnTo>
                    <a:pt x="579" y="17140"/>
                  </a:lnTo>
                  <a:lnTo>
                    <a:pt x="695" y="15634"/>
                  </a:lnTo>
                  <a:lnTo>
                    <a:pt x="926" y="14129"/>
                  </a:lnTo>
                  <a:lnTo>
                    <a:pt x="1042" y="12507"/>
                  </a:lnTo>
                  <a:lnTo>
                    <a:pt x="1158" y="11002"/>
                  </a:lnTo>
                  <a:lnTo>
                    <a:pt x="1505" y="9496"/>
                  </a:lnTo>
                  <a:lnTo>
                    <a:pt x="1852" y="7991"/>
                  </a:lnTo>
                  <a:lnTo>
                    <a:pt x="1852" y="7991"/>
                  </a:lnTo>
                  <a:lnTo>
                    <a:pt x="1968" y="6948"/>
                  </a:lnTo>
                  <a:lnTo>
                    <a:pt x="2199" y="5906"/>
                  </a:lnTo>
                  <a:lnTo>
                    <a:pt x="2431" y="4980"/>
                  </a:lnTo>
                  <a:lnTo>
                    <a:pt x="2778" y="4053"/>
                  </a:lnTo>
                  <a:lnTo>
                    <a:pt x="3009" y="3011"/>
                  </a:lnTo>
                  <a:lnTo>
                    <a:pt x="3241" y="2084"/>
                  </a:lnTo>
                  <a:lnTo>
                    <a:pt x="3472" y="1042"/>
                  </a:lnTo>
                  <a:lnTo>
                    <a:pt x="3588" y="0"/>
                  </a:lnTo>
                  <a:lnTo>
                    <a:pt x="3588" y="0"/>
                  </a:lnTo>
                  <a:lnTo>
                    <a:pt x="3704" y="0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1712880" y="3106800"/>
              <a:ext cx="57600" cy="142920"/>
            </a:xfrm>
            <a:custGeom>
              <a:avLst/>
              <a:gdLst/>
              <a:ahLst/>
              <a:rect l="l" t="t" r="r" b="b"/>
              <a:pathLst>
                <a:path w="1620" h="2663">
                  <a:moveTo>
                    <a:pt x="1620" y="810"/>
                  </a:moveTo>
                  <a:lnTo>
                    <a:pt x="1620" y="1042"/>
                  </a:lnTo>
                  <a:lnTo>
                    <a:pt x="1620" y="1158"/>
                  </a:lnTo>
                  <a:lnTo>
                    <a:pt x="1620" y="1389"/>
                  </a:lnTo>
                  <a:lnTo>
                    <a:pt x="1620" y="1621"/>
                  </a:lnTo>
                  <a:lnTo>
                    <a:pt x="1620" y="1852"/>
                  </a:lnTo>
                  <a:lnTo>
                    <a:pt x="1504" y="1968"/>
                  </a:lnTo>
                  <a:lnTo>
                    <a:pt x="1388" y="2200"/>
                  </a:lnTo>
                  <a:lnTo>
                    <a:pt x="1388" y="2316"/>
                  </a:lnTo>
                  <a:lnTo>
                    <a:pt x="1388" y="2316"/>
                  </a:lnTo>
                  <a:lnTo>
                    <a:pt x="1273" y="2432"/>
                  </a:lnTo>
                  <a:lnTo>
                    <a:pt x="1157" y="2432"/>
                  </a:lnTo>
                  <a:lnTo>
                    <a:pt x="1157" y="2547"/>
                  </a:lnTo>
                  <a:lnTo>
                    <a:pt x="1041" y="2547"/>
                  </a:lnTo>
                  <a:lnTo>
                    <a:pt x="1041" y="2663"/>
                  </a:lnTo>
                  <a:lnTo>
                    <a:pt x="926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926" y="2432"/>
                  </a:lnTo>
                  <a:lnTo>
                    <a:pt x="926" y="2200"/>
                  </a:lnTo>
                  <a:lnTo>
                    <a:pt x="1041" y="1968"/>
                  </a:lnTo>
                  <a:lnTo>
                    <a:pt x="1157" y="1737"/>
                  </a:lnTo>
                  <a:lnTo>
                    <a:pt x="1157" y="1505"/>
                  </a:lnTo>
                  <a:lnTo>
                    <a:pt x="1157" y="1158"/>
                  </a:lnTo>
                  <a:lnTo>
                    <a:pt x="1041" y="926"/>
                  </a:lnTo>
                  <a:lnTo>
                    <a:pt x="1041" y="694"/>
                  </a:lnTo>
                  <a:lnTo>
                    <a:pt x="1041" y="694"/>
                  </a:lnTo>
                  <a:lnTo>
                    <a:pt x="926" y="579"/>
                  </a:lnTo>
                  <a:lnTo>
                    <a:pt x="810" y="463"/>
                  </a:lnTo>
                  <a:lnTo>
                    <a:pt x="694" y="347"/>
                  </a:lnTo>
                  <a:lnTo>
                    <a:pt x="578" y="347"/>
                  </a:lnTo>
                  <a:lnTo>
                    <a:pt x="463" y="231"/>
                  </a:lnTo>
                  <a:lnTo>
                    <a:pt x="231" y="231"/>
                  </a:lnTo>
                  <a:lnTo>
                    <a:pt x="115" y="231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5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5"/>
                  </a:lnTo>
                  <a:lnTo>
                    <a:pt x="1273" y="347"/>
                  </a:lnTo>
                  <a:lnTo>
                    <a:pt x="1504" y="579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1783080" y="3125520"/>
              <a:ext cx="41040" cy="136800"/>
            </a:xfrm>
            <a:custGeom>
              <a:avLst/>
              <a:gdLst/>
              <a:ahLst/>
              <a:rect l="l" t="t" r="r" b="b"/>
              <a:pathLst>
                <a:path w="1157" h="2548">
                  <a:moveTo>
                    <a:pt x="1042" y="811"/>
                  </a:moveTo>
                  <a:lnTo>
                    <a:pt x="1042" y="926"/>
                  </a:lnTo>
                  <a:lnTo>
                    <a:pt x="1157" y="1158"/>
                  </a:lnTo>
                  <a:lnTo>
                    <a:pt x="1157" y="1274"/>
                  </a:lnTo>
                  <a:lnTo>
                    <a:pt x="1157" y="1505"/>
                  </a:lnTo>
                  <a:lnTo>
                    <a:pt x="1157" y="1621"/>
                  </a:lnTo>
                  <a:lnTo>
                    <a:pt x="1157" y="1853"/>
                  </a:lnTo>
                  <a:lnTo>
                    <a:pt x="1157" y="1969"/>
                  </a:lnTo>
                  <a:lnTo>
                    <a:pt x="1042" y="2200"/>
                  </a:lnTo>
                  <a:lnTo>
                    <a:pt x="1042" y="2200"/>
                  </a:lnTo>
                  <a:lnTo>
                    <a:pt x="695" y="2548"/>
                  </a:lnTo>
                  <a:lnTo>
                    <a:pt x="695" y="2548"/>
                  </a:lnTo>
                  <a:lnTo>
                    <a:pt x="695" y="2200"/>
                  </a:lnTo>
                  <a:lnTo>
                    <a:pt x="695" y="1969"/>
                  </a:lnTo>
                  <a:lnTo>
                    <a:pt x="810" y="1621"/>
                  </a:lnTo>
                  <a:lnTo>
                    <a:pt x="810" y="1274"/>
                  </a:lnTo>
                  <a:lnTo>
                    <a:pt x="810" y="1042"/>
                  </a:lnTo>
                  <a:lnTo>
                    <a:pt x="695" y="811"/>
                  </a:lnTo>
                  <a:lnTo>
                    <a:pt x="463" y="579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810" y="347"/>
                  </a:lnTo>
                  <a:lnTo>
                    <a:pt x="926" y="463"/>
                  </a:lnTo>
                  <a:lnTo>
                    <a:pt x="926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1832760" y="3137760"/>
              <a:ext cx="41040" cy="130320"/>
            </a:xfrm>
            <a:custGeom>
              <a:avLst/>
              <a:gdLst/>
              <a:ahLst/>
              <a:rect l="l" t="t" r="r" b="b"/>
              <a:pathLst>
                <a:path w="1157" h="2432">
                  <a:moveTo>
                    <a:pt x="1157" y="926"/>
                  </a:moveTo>
                  <a:lnTo>
                    <a:pt x="1157" y="1158"/>
                  </a:lnTo>
                  <a:lnTo>
                    <a:pt x="1157" y="1389"/>
                  </a:lnTo>
                  <a:lnTo>
                    <a:pt x="1157" y="1505"/>
                  </a:lnTo>
                  <a:lnTo>
                    <a:pt x="1157" y="1737"/>
                  </a:lnTo>
                  <a:lnTo>
                    <a:pt x="1042" y="1968"/>
                  </a:lnTo>
                  <a:lnTo>
                    <a:pt x="926" y="2200"/>
                  </a:lnTo>
                  <a:lnTo>
                    <a:pt x="810" y="2316"/>
                  </a:lnTo>
                  <a:lnTo>
                    <a:pt x="579" y="2432"/>
                  </a:lnTo>
                  <a:lnTo>
                    <a:pt x="579" y="2432"/>
                  </a:lnTo>
                  <a:lnTo>
                    <a:pt x="694" y="2316"/>
                  </a:lnTo>
                  <a:lnTo>
                    <a:pt x="694" y="2200"/>
                  </a:lnTo>
                  <a:lnTo>
                    <a:pt x="694" y="1968"/>
                  </a:lnTo>
                  <a:lnTo>
                    <a:pt x="810" y="1853"/>
                  </a:lnTo>
                  <a:lnTo>
                    <a:pt x="810" y="1621"/>
                  </a:lnTo>
                  <a:lnTo>
                    <a:pt x="926" y="1389"/>
                  </a:lnTo>
                  <a:lnTo>
                    <a:pt x="926" y="1273"/>
                  </a:lnTo>
                  <a:lnTo>
                    <a:pt x="810" y="1042"/>
                  </a:lnTo>
                  <a:lnTo>
                    <a:pt x="810" y="1042"/>
                  </a:lnTo>
                  <a:lnTo>
                    <a:pt x="810" y="926"/>
                  </a:lnTo>
                  <a:lnTo>
                    <a:pt x="694" y="810"/>
                  </a:lnTo>
                  <a:lnTo>
                    <a:pt x="463" y="694"/>
                  </a:lnTo>
                  <a:lnTo>
                    <a:pt x="347" y="579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23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7" y="0"/>
                  </a:lnTo>
                  <a:lnTo>
                    <a:pt x="579" y="115"/>
                  </a:lnTo>
                  <a:lnTo>
                    <a:pt x="694" y="231"/>
                  </a:lnTo>
                  <a:lnTo>
                    <a:pt x="810" y="347"/>
                  </a:lnTo>
                  <a:lnTo>
                    <a:pt x="926" y="579"/>
                  </a:lnTo>
                  <a:lnTo>
                    <a:pt x="1042" y="810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1890720" y="3156480"/>
              <a:ext cx="28800" cy="111600"/>
            </a:xfrm>
            <a:custGeom>
              <a:avLst/>
              <a:gdLst/>
              <a:ahLst/>
              <a:rect l="l" t="t" r="r" b="b"/>
              <a:pathLst>
                <a:path w="810" h="2085">
                  <a:moveTo>
                    <a:pt x="810" y="579"/>
                  </a:moveTo>
                  <a:lnTo>
                    <a:pt x="810" y="811"/>
                  </a:lnTo>
                  <a:lnTo>
                    <a:pt x="810" y="1042"/>
                  </a:lnTo>
                  <a:lnTo>
                    <a:pt x="810" y="1158"/>
                  </a:lnTo>
                  <a:lnTo>
                    <a:pt x="810" y="1390"/>
                  </a:lnTo>
                  <a:lnTo>
                    <a:pt x="695" y="1621"/>
                  </a:lnTo>
                  <a:lnTo>
                    <a:pt x="695" y="1737"/>
                  </a:lnTo>
                  <a:lnTo>
                    <a:pt x="579" y="1969"/>
                  </a:lnTo>
                  <a:lnTo>
                    <a:pt x="347" y="2085"/>
                  </a:lnTo>
                  <a:lnTo>
                    <a:pt x="347" y="2085"/>
                  </a:lnTo>
                  <a:lnTo>
                    <a:pt x="463" y="1969"/>
                  </a:lnTo>
                  <a:lnTo>
                    <a:pt x="463" y="1737"/>
                  </a:lnTo>
                  <a:lnTo>
                    <a:pt x="579" y="1506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1"/>
                  </a:lnTo>
                  <a:lnTo>
                    <a:pt x="579" y="579"/>
                  </a:lnTo>
                  <a:lnTo>
                    <a:pt x="347" y="347"/>
                  </a:lnTo>
                  <a:lnTo>
                    <a:pt x="347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2" y="0"/>
                  </a:lnTo>
                  <a:lnTo>
                    <a:pt x="347" y="0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695" y="347"/>
                  </a:lnTo>
                  <a:lnTo>
                    <a:pt x="695" y="463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1932120" y="3169080"/>
              <a:ext cx="37080" cy="118080"/>
            </a:xfrm>
            <a:custGeom>
              <a:avLst/>
              <a:gdLst/>
              <a:ahLst/>
              <a:rect l="l" t="t" r="r" b="b"/>
              <a:pathLst>
                <a:path w="1042" h="2200">
                  <a:moveTo>
                    <a:pt x="1042" y="694"/>
                  </a:moveTo>
                  <a:lnTo>
                    <a:pt x="1042" y="926"/>
                  </a:lnTo>
                  <a:lnTo>
                    <a:pt x="1042" y="1042"/>
                  </a:lnTo>
                  <a:lnTo>
                    <a:pt x="1042" y="1274"/>
                  </a:lnTo>
                  <a:lnTo>
                    <a:pt x="926" y="1505"/>
                  </a:lnTo>
                  <a:lnTo>
                    <a:pt x="926" y="1737"/>
                  </a:lnTo>
                  <a:lnTo>
                    <a:pt x="811" y="1853"/>
                  </a:lnTo>
                  <a:lnTo>
                    <a:pt x="579" y="2084"/>
                  </a:lnTo>
                  <a:lnTo>
                    <a:pt x="463" y="2200"/>
                  </a:lnTo>
                  <a:lnTo>
                    <a:pt x="463" y="2200"/>
                  </a:lnTo>
                  <a:lnTo>
                    <a:pt x="116" y="2200"/>
                  </a:lnTo>
                  <a:lnTo>
                    <a:pt x="116" y="2200"/>
                  </a:lnTo>
                  <a:lnTo>
                    <a:pt x="232" y="1968"/>
                  </a:lnTo>
                  <a:lnTo>
                    <a:pt x="348" y="1737"/>
                  </a:lnTo>
                  <a:lnTo>
                    <a:pt x="463" y="1621"/>
                  </a:lnTo>
                  <a:lnTo>
                    <a:pt x="463" y="1389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0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8" y="0"/>
                  </a:lnTo>
                  <a:lnTo>
                    <a:pt x="463" y="0"/>
                  </a:lnTo>
                  <a:lnTo>
                    <a:pt x="579" y="115"/>
                  </a:lnTo>
                  <a:lnTo>
                    <a:pt x="811" y="231"/>
                  </a:lnTo>
                  <a:lnTo>
                    <a:pt x="926" y="347"/>
                  </a:lnTo>
                  <a:lnTo>
                    <a:pt x="1042" y="579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1340280" y="3312000"/>
              <a:ext cx="223200" cy="397800"/>
            </a:xfrm>
            <a:custGeom>
              <a:avLst/>
              <a:gdLst/>
              <a:ahLst/>
              <a:rect l="l" t="t" r="r" b="b"/>
              <a:pathLst>
                <a:path w="6249" h="7412">
                  <a:moveTo>
                    <a:pt x="5439" y="1969"/>
                  </a:moveTo>
                  <a:lnTo>
                    <a:pt x="5439" y="2085"/>
                  </a:lnTo>
                  <a:lnTo>
                    <a:pt x="5555" y="2085"/>
                  </a:lnTo>
                  <a:lnTo>
                    <a:pt x="5555" y="2085"/>
                  </a:lnTo>
                  <a:lnTo>
                    <a:pt x="5671" y="2085"/>
                  </a:lnTo>
                  <a:lnTo>
                    <a:pt x="5671" y="2085"/>
                  </a:lnTo>
                  <a:lnTo>
                    <a:pt x="5786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853"/>
                  </a:lnTo>
                  <a:lnTo>
                    <a:pt x="6018" y="1853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249" y="1737"/>
                  </a:lnTo>
                  <a:lnTo>
                    <a:pt x="6249" y="1737"/>
                  </a:lnTo>
                  <a:lnTo>
                    <a:pt x="6249" y="1853"/>
                  </a:lnTo>
                  <a:lnTo>
                    <a:pt x="6249" y="1969"/>
                  </a:lnTo>
                  <a:lnTo>
                    <a:pt x="6249" y="2085"/>
                  </a:lnTo>
                  <a:lnTo>
                    <a:pt x="6134" y="2201"/>
                  </a:lnTo>
                  <a:lnTo>
                    <a:pt x="6018" y="2316"/>
                  </a:lnTo>
                  <a:lnTo>
                    <a:pt x="5902" y="2432"/>
                  </a:lnTo>
                  <a:lnTo>
                    <a:pt x="5786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3127"/>
                  </a:lnTo>
                  <a:lnTo>
                    <a:pt x="5555" y="3822"/>
                  </a:lnTo>
                  <a:lnTo>
                    <a:pt x="5555" y="4401"/>
                  </a:lnTo>
                  <a:lnTo>
                    <a:pt x="5323" y="4980"/>
                  </a:lnTo>
                  <a:lnTo>
                    <a:pt x="5208" y="5675"/>
                  </a:lnTo>
                  <a:lnTo>
                    <a:pt x="4861" y="6138"/>
                  </a:lnTo>
                  <a:lnTo>
                    <a:pt x="4398" y="6601"/>
                  </a:lnTo>
                  <a:lnTo>
                    <a:pt x="3935" y="7065"/>
                  </a:lnTo>
                  <a:lnTo>
                    <a:pt x="3935" y="7065"/>
                  </a:lnTo>
                  <a:lnTo>
                    <a:pt x="3703" y="7180"/>
                  </a:lnTo>
                  <a:lnTo>
                    <a:pt x="3356" y="7296"/>
                  </a:lnTo>
                  <a:lnTo>
                    <a:pt x="3125" y="7412"/>
                  </a:lnTo>
                  <a:lnTo>
                    <a:pt x="2893" y="7412"/>
                  </a:lnTo>
                  <a:lnTo>
                    <a:pt x="2546" y="7412"/>
                  </a:lnTo>
                  <a:lnTo>
                    <a:pt x="2199" y="7412"/>
                  </a:lnTo>
                  <a:lnTo>
                    <a:pt x="1967" y="7296"/>
                  </a:lnTo>
                  <a:lnTo>
                    <a:pt x="1620" y="7296"/>
                  </a:lnTo>
                  <a:lnTo>
                    <a:pt x="1620" y="7296"/>
                  </a:lnTo>
                  <a:lnTo>
                    <a:pt x="1389" y="7180"/>
                  </a:lnTo>
                  <a:lnTo>
                    <a:pt x="1157" y="7065"/>
                  </a:lnTo>
                  <a:lnTo>
                    <a:pt x="926" y="6949"/>
                  </a:lnTo>
                  <a:lnTo>
                    <a:pt x="694" y="6717"/>
                  </a:lnTo>
                  <a:lnTo>
                    <a:pt x="578" y="6601"/>
                  </a:lnTo>
                  <a:lnTo>
                    <a:pt x="347" y="6370"/>
                  </a:lnTo>
                  <a:lnTo>
                    <a:pt x="231" y="6138"/>
                  </a:lnTo>
                  <a:lnTo>
                    <a:pt x="116" y="5907"/>
                  </a:lnTo>
                  <a:lnTo>
                    <a:pt x="116" y="5907"/>
                  </a:lnTo>
                  <a:lnTo>
                    <a:pt x="0" y="5559"/>
                  </a:lnTo>
                  <a:lnTo>
                    <a:pt x="0" y="5096"/>
                  </a:lnTo>
                  <a:lnTo>
                    <a:pt x="0" y="4748"/>
                  </a:lnTo>
                  <a:lnTo>
                    <a:pt x="0" y="4285"/>
                  </a:lnTo>
                  <a:lnTo>
                    <a:pt x="0" y="3938"/>
                  </a:lnTo>
                  <a:lnTo>
                    <a:pt x="116" y="3590"/>
                  </a:lnTo>
                  <a:lnTo>
                    <a:pt x="347" y="3243"/>
                  </a:lnTo>
                  <a:lnTo>
                    <a:pt x="578" y="2895"/>
                  </a:lnTo>
                  <a:lnTo>
                    <a:pt x="578" y="2895"/>
                  </a:lnTo>
                  <a:lnTo>
                    <a:pt x="926" y="2432"/>
                  </a:lnTo>
                  <a:lnTo>
                    <a:pt x="1273" y="2085"/>
                  </a:lnTo>
                  <a:lnTo>
                    <a:pt x="1736" y="1853"/>
                  </a:lnTo>
                  <a:lnTo>
                    <a:pt x="2083" y="1622"/>
                  </a:lnTo>
                  <a:lnTo>
                    <a:pt x="2546" y="1390"/>
                  </a:lnTo>
                  <a:lnTo>
                    <a:pt x="3009" y="1274"/>
                  </a:lnTo>
                  <a:lnTo>
                    <a:pt x="3587" y="1158"/>
                  </a:lnTo>
                  <a:lnTo>
                    <a:pt x="4050" y="1158"/>
                  </a:lnTo>
                  <a:lnTo>
                    <a:pt x="4050" y="1158"/>
                  </a:lnTo>
                  <a:lnTo>
                    <a:pt x="3587" y="927"/>
                  </a:lnTo>
                  <a:lnTo>
                    <a:pt x="3240" y="811"/>
                  </a:lnTo>
                  <a:lnTo>
                    <a:pt x="2777" y="579"/>
                  </a:lnTo>
                  <a:lnTo>
                    <a:pt x="2314" y="463"/>
                  </a:lnTo>
                  <a:lnTo>
                    <a:pt x="1851" y="463"/>
                  </a:lnTo>
                  <a:lnTo>
                    <a:pt x="1389" y="463"/>
                  </a:lnTo>
                  <a:lnTo>
                    <a:pt x="926" y="579"/>
                  </a:lnTo>
                  <a:lnTo>
                    <a:pt x="578" y="695"/>
                  </a:lnTo>
                  <a:lnTo>
                    <a:pt x="578" y="695"/>
                  </a:lnTo>
                  <a:lnTo>
                    <a:pt x="578" y="463"/>
                  </a:lnTo>
                  <a:lnTo>
                    <a:pt x="694" y="348"/>
                  </a:lnTo>
                  <a:lnTo>
                    <a:pt x="926" y="232"/>
                  </a:lnTo>
                  <a:lnTo>
                    <a:pt x="1041" y="116"/>
                  </a:lnTo>
                  <a:lnTo>
                    <a:pt x="1273" y="116"/>
                  </a:lnTo>
                  <a:lnTo>
                    <a:pt x="1504" y="0"/>
                  </a:lnTo>
                  <a:lnTo>
                    <a:pt x="1620" y="0"/>
                  </a:lnTo>
                  <a:lnTo>
                    <a:pt x="1851" y="0"/>
                  </a:lnTo>
                  <a:lnTo>
                    <a:pt x="1851" y="0"/>
                  </a:lnTo>
                  <a:lnTo>
                    <a:pt x="2314" y="116"/>
                  </a:lnTo>
                  <a:lnTo>
                    <a:pt x="2777" y="232"/>
                  </a:lnTo>
                  <a:lnTo>
                    <a:pt x="3356" y="463"/>
                  </a:lnTo>
                  <a:lnTo>
                    <a:pt x="3819" y="579"/>
                  </a:lnTo>
                  <a:lnTo>
                    <a:pt x="4282" y="811"/>
                  </a:lnTo>
                  <a:lnTo>
                    <a:pt x="4745" y="1043"/>
                  </a:lnTo>
                  <a:lnTo>
                    <a:pt x="5092" y="1506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1572120" y="3367800"/>
              <a:ext cx="186120" cy="410040"/>
            </a:xfrm>
            <a:custGeom>
              <a:avLst/>
              <a:gdLst/>
              <a:ahLst/>
              <a:rect l="l" t="t" r="r" b="b"/>
              <a:pathLst>
                <a:path w="5208" h="7643">
                  <a:moveTo>
                    <a:pt x="4976" y="347"/>
                  </a:moveTo>
                  <a:lnTo>
                    <a:pt x="4976" y="347"/>
                  </a:lnTo>
                  <a:lnTo>
                    <a:pt x="4861" y="347"/>
                  </a:lnTo>
                  <a:lnTo>
                    <a:pt x="4745" y="347"/>
                  </a:lnTo>
                  <a:lnTo>
                    <a:pt x="4629" y="347"/>
                  </a:lnTo>
                  <a:lnTo>
                    <a:pt x="4513" y="347"/>
                  </a:lnTo>
                  <a:lnTo>
                    <a:pt x="4398" y="347"/>
                  </a:lnTo>
                  <a:lnTo>
                    <a:pt x="4282" y="231"/>
                  </a:lnTo>
                  <a:lnTo>
                    <a:pt x="4166" y="347"/>
                  </a:lnTo>
                  <a:lnTo>
                    <a:pt x="4166" y="347"/>
                  </a:lnTo>
                  <a:lnTo>
                    <a:pt x="4050" y="347"/>
                  </a:lnTo>
                  <a:lnTo>
                    <a:pt x="3819" y="463"/>
                  </a:lnTo>
                  <a:lnTo>
                    <a:pt x="3703" y="463"/>
                  </a:lnTo>
                  <a:lnTo>
                    <a:pt x="3472" y="579"/>
                  </a:lnTo>
                  <a:lnTo>
                    <a:pt x="3356" y="579"/>
                  </a:lnTo>
                  <a:lnTo>
                    <a:pt x="3240" y="694"/>
                  </a:lnTo>
                  <a:lnTo>
                    <a:pt x="3009" y="810"/>
                  </a:lnTo>
                  <a:lnTo>
                    <a:pt x="2893" y="926"/>
                  </a:lnTo>
                  <a:lnTo>
                    <a:pt x="2893" y="926"/>
                  </a:lnTo>
                  <a:lnTo>
                    <a:pt x="3240" y="926"/>
                  </a:lnTo>
                  <a:lnTo>
                    <a:pt x="3472" y="1042"/>
                  </a:lnTo>
                  <a:lnTo>
                    <a:pt x="3819" y="1158"/>
                  </a:lnTo>
                  <a:lnTo>
                    <a:pt x="4050" y="1273"/>
                  </a:lnTo>
                  <a:lnTo>
                    <a:pt x="4282" y="1389"/>
                  </a:lnTo>
                  <a:lnTo>
                    <a:pt x="4513" y="1621"/>
                  </a:lnTo>
                  <a:lnTo>
                    <a:pt x="4745" y="1852"/>
                  </a:lnTo>
                  <a:lnTo>
                    <a:pt x="4976" y="2084"/>
                  </a:lnTo>
                  <a:lnTo>
                    <a:pt x="4976" y="2084"/>
                  </a:lnTo>
                  <a:lnTo>
                    <a:pt x="5092" y="2663"/>
                  </a:lnTo>
                  <a:lnTo>
                    <a:pt x="5208" y="3242"/>
                  </a:lnTo>
                  <a:lnTo>
                    <a:pt x="5208" y="3821"/>
                  </a:lnTo>
                  <a:lnTo>
                    <a:pt x="5092" y="4400"/>
                  </a:lnTo>
                  <a:lnTo>
                    <a:pt x="4976" y="4979"/>
                  </a:lnTo>
                  <a:lnTo>
                    <a:pt x="4745" y="5558"/>
                  </a:lnTo>
                  <a:lnTo>
                    <a:pt x="4513" y="6137"/>
                  </a:lnTo>
                  <a:lnTo>
                    <a:pt x="4166" y="6601"/>
                  </a:lnTo>
                  <a:lnTo>
                    <a:pt x="4166" y="6601"/>
                  </a:lnTo>
                  <a:lnTo>
                    <a:pt x="3819" y="6948"/>
                  </a:lnTo>
                  <a:lnTo>
                    <a:pt x="3472" y="7180"/>
                  </a:lnTo>
                  <a:lnTo>
                    <a:pt x="3125" y="7411"/>
                  </a:lnTo>
                  <a:lnTo>
                    <a:pt x="2662" y="7527"/>
                  </a:lnTo>
                  <a:lnTo>
                    <a:pt x="2199" y="7643"/>
                  </a:lnTo>
                  <a:lnTo>
                    <a:pt x="1736" y="7643"/>
                  </a:lnTo>
                  <a:lnTo>
                    <a:pt x="1273" y="7643"/>
                  </a:lnTo>
                  <a:lnTo>
                    <a:pt x="810" y="7527"/>
                  </a:lnTo>
                  <a:lnTo>
                    <a:pt x="810" y="7527"/>
                  </a:lnTo>
                  <a:lnTo>
                    <a:pt x="463" y="7064"/>
                  </a:lnTo>
                  <a:lnTo>
                    <a:pt x="231" y="6485"/>
                  </a:lnTo>
                  <a:lnTo>
                    <a:pt x="0" y="5906"/>
                  </a:lnTo>
                  <a:lnTo>
                    <a:pt x="0" y="5211"/>
                  </a:lnTo>
                  <a:lnTo>
                    <a:pt x="116" y="4632"/>
                  </a:lnTo>
                  <a:lnTo>
                    <a:pt x="231" y="3937"/>
                  </a:lnTo>
                  <a:lnTo>
                    <a:pt x="347" y="3358"/>
                  </a:lnTo>
                  <a:lnTo>
                    <a:pt x="578" y="2779"/>
                  </a:lnTo>
                  <a:lnTo>
                    <a:pt x="578" y="2779"/>
                  </a:lnTo>
                  <a:lnTo>
                    <a:pt x="578" y="2547"/>
                  </a:lnTo>
                  <a:lnTo>
                    <a:pt x="694" y="2432"/>
                  </a:lnTo>
                  <a:lnTo>
                    <a:pt x="810" y="2316"/>
                  </a:lnTo>
                  <a:lnTo>
                    <a:pt x="810" y="2200"/>
                  </a:lnTo>
                  <a:lnTo>
                    <a:pt x="926" y="1968"/>
                  </a:lnTo>
                  <a:lnTo>
                    <a:pt x="1041" y="1852"/>
                  </a:lnTo>
                  <a:lnTo>
                    <a:pt x="1041" y="1737"/>
                  </a:lnTo>
                  <a:lnTo>
                    <a:pt x="1157" y="1621"/>
                  </a:lnTo>
                  <a:lnTo>
                    <a:pt x="1157" y="1621"/>
                  </a:lnTo>
                  <a:lnTo>
                    <a:pt x="1041" y="1505"/>
                  </a:lnTo>
                  <a:lnTo>
                    <a:pt x="926" y="1505"/>
                  </a:lnTo>
                  <a:lnTo>
                    <a:pt x="926" y="1389"/>
                  </a:lnTo>
                  <a:lnTo>
                    <a:pt x="810" y="1389"/>
                  </a:lnTo>
                  <a:lnTo>
                    <a:pt x="694" y="1389"/>
                  </a:lnTo>
                  <a:lnTo>
                    <a:pt x="694" y="1389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694" y="1158"/>
                  </a:lnTo>
                  <a:lnTo>
                    <a:pt x="810" y="1158"/>
                  </a:lnTo>
                  <a:lnTo>
                    <a:pt x="926" y="1158"/>
                  </a:lnTo>
                  <a:lnTo>
                    <a:pt x="1041" y="1158"/>
                  </a:lnTo>
                  <a:lnTo>
                    <a:pt x="1157" y="1158"/>
                  </a:lnTo>
                  <a:lnTo>
                    <a:pt x="1389" y="1158"/>
                  </a:lnTo>
                  <a:lnTo>
                    <a:pt x="1504" y="1158"/>
                  </a:lnTo>
                  <a:lnTo>
                    <a:pt x="1620" y="1158"/>
                  </a:lnTo>
                  <a:lnTo>
                    <a:pt x="1620" y="1158"/>
                  </a:lnTo>
                  <a:lnTo>
                    <a:pt x="1967" y="926"/>
                  </a:lnTo>
                  <a:lnTo>
                    <a:pt x="2430" y="694"/>
                  </a:lnTo>
                  <a:lnTo>
                    <a:pt x="2777" y="347"/>
                  </a:lnTo>
                  <a:lnTo>
                    <a:pt x="3240" y="115"/>
                  </a:lnTo>
                  <a:lnTo>
                    <a:pt x="3703" y="0"/>
                  </a:lnTo>
                  <a:lnTo>
                    <a:pt x="4166" y="0"/>
                  </a:lnTo>
                  <a:lnTo>
                    <a:pt x="4629" y="0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1352880" y="3399120"/>
              <a:ext cx="173520" cy="285840"/>
            </a:xfrm>
            <a:custGeom>
              <a:avLst/>
              <a:gdLst/>
              <a:ahLst/>
              <a:rect l="l" t="t" r="r" b="b"/>
              <a:pathLst>
                <a:path w="4861" h="5327">
                  <a:moveTo>
                    <a:pt x="4398" y="463"/>
                  </a:moveTo>
                  <a:lnTo>
                    <a:pt x="4629" y="926"/>
                  </a:lnTo>
                  <a:lnTo>
                    <a:pt x="4745" y="1389"/>
                  </a:lnTo>
                  <a:lnTo>
                    <a:pt x="4745" y="1968"/>
                  </a:lnTo>
                  <a:lnTo>
                    <a:pt x="4861" y="2432"/>
                  </a:lnTo>
                  <a:lnTo>
                    <a:pt x="4745" y="2895"/>
                  </a:lnTo>
                  <a:lnTo>
                    <a:pt x="4629" y="3474"/>
                  </a:lnTo>
                  <a:lnTo>
                    <a:pt x="4398" y="3937"/>
                  </a:lnTo>
                  <a:lnTo>
                    <a:pt x="4051" y="4285"/>
                  </a:lnTo>
                  <a:lnTo>
                    <a:pt x="4051" y="4285"/>
                  </a:lnTo>
                  <a:lnTo>
                    <a:pt x="3935" y="4516"/>
                  </a:lnTo>
                  <a:lnTo>
                    <a:pt x="3819" y="4632"/>
                  </a:lnTo>
                  <a:lnTo>
                    <a:pt x="3588" y="4864"/>
                  </a:lnTo>
                  <a:lnTo>
                    <a:pt x="3356" y="4979"/>
                  </a:lnTo>
                  <a:lnTo>
                    <a:pt x="3125" y="5095"/>
                  </a:lnTo>
                  <a:lnTo>
                    <a:pt x="3009" y="5211"/>
                  </a:lnTo>
                  <a:lnTo>
                    <a:pt x="2778" y="5327"/>
                  </a:lnTo>
                  <a:lnTo>
                    <a:pt x="2430" y="5327"/>
                  </a:lnTo>
                  <a:lnTo>
                    <a:pt x="2430" y="5327"/>
                  </a:lnTo>
                  <a:lnTo>
                    <a:pt x="2083" y="5327"/>
                  </a:lnTo>
                  <a:lnTo>
                    <a:pt x="1736" y="5211"/>
                  </a:lnTo>
                  <a:lnTo>
                    <a:pt x="1389" y="5211"/>
                  </a:lnTo>
                  <a:lnTo>
                    <a:pt x="1157" y="5095"/>
                  </a:lnTo>
                  <a:lnTo>
                    <a:pt x="810" y="4864"/>
                  </a:lnTo>
                  <a:lnTo>
                    <a:pt x="579" y="4748"/>
                  </a:lnTo>
                  <a:lnTo>
                    <a:pt x="347" y="4400"/>
                  </a:lnTo>
                  <a:lnTo>
                    <a:pt x="231" y="4053"/>
                  </a:lnTo>
                  <a:lnTo>
                    <a:pt x="231" y="4053"/>
                  </a:lnTo>
                  <a:lnTo>
                    <a:pt x="116" y="3590"/>
                  </a:lnTo>
                  <a:lnTo>
                    <a:pt x="0" y="3242"/>
                  </a:lnTo>
                  <a:lnTo>
                    <a:pt x="116" y="2779"/>
                  </a:lnTo>
                  <a:lnTo>
                    <a:pt x="231" y="2316"/>
                  </a:lnTo>
                  <a:lnTo>
                    <a:pt x="347" y="1853"/>
                  </a:lnTo>
                  <a:lnTo>
                    <a:pt x="579" y="1505"/>
                  </a:lnTo>
                  <a:lnTo>
                    <a:pt x="810" y="1158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504" y="579"/>
                  </a:lnTo>
                  <a:lnTo>
                    <a:pt x="1852" y="463"/>
                  </a:lnTo>
                  <a:lnTo>
                    <a:pt x="2199" y="347"/>
                  </a:lnTo>
                  <a:lnTo>
                    <a:pt x="2546" y="231"/>
                  </a:lnTo>
                  <a:lnTo>
                    <a:pt x="2893" y="115"/>
                  </a:lnTo>
                  <a:lnTo>
                    <a:pt x="3240" y="115"/>
                  </a:lnTo>
                  <a:lnTo>
                    <a:pt x="3703" y="115"/>
                  </a:lnTo>
                  <a:lnTo>
                    <a:pt x="4051" y="0"/>
                  </a:lnTo>
                  <a:lnTo>
                    <a:pt x="4051" y="0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1419120" y="3411360"/>
              <a:ext cx="86760" cy="124200"/>
            </a:xfrm>
            <a:custGeom>
              <a:avLst/>
              <a:gdLst/>
              <a:ahLst/>
              <a:rect l="l" t="t" r="r" b="b"/>
              <a:pathLst>
                <a:path w="2430" h="2316">
                  <a:moveTo>
                    <a:pt x="2314" y="579"/>
                  </a:moveTo>
                  <a:lnTo>
                    <a:pt x="2430" y="811"/>
                  </a:lnTo>
                  <a:lnTo>
                    <a:pt x="2430" y="1042"/>
                  </a:lnTo>
                  <a:lnTo>
                    <a:pt x="2430" y="1274"/>
                  </a:lnTo>
                  <a:lnTo>
                    <a:pt x="2314" y="1506"/>
                  </a:lnTo>
                  <a:lnTo>
                    <a:pt x="2199" y="1737"/>
                  </a:lnTo>
                  <a:lnTo>
                    <a:pt x="2083" y="1969"/>
                  </a:lnTo>
                  <a:lnTo>
                    <a:pt x="1851" y="2085"/>
                  </a:lnTo>
                  <a:lnTo>
                    <a:pt x="1620" y="2201"/>
                  </a:lnTo>
                  <a:lnTo>
                    <a:pt x="1620" y="2201"/>
                  </a:lnTo>
                  <a:lnTo>
                    <a:pt x="1504" y="2201"/>
                  </a:lnTo>
                  <a:lnTo>
                    <a:pt x="1388" y="2316"/>
                  </a:lnTo>
                  <a:lnTo>
                    <a:pt x="1157" y="2316"/>
                  </a:lnTo>
                  <a:lnTo>
                    <a:pt x="1041" y="2201"/>
                  </a:lnTo>
                  <a:lnTo>
                    <a:pt x="926" y="2201"/>
                  </a:lnTo>
                  <a:lnTo>
                    <a:pt x="810" y="2201"/>
                  </a:lnTo>
                  <a:lnTo>
                    <a:pt x="578" y="2085"/>
                  </a:lnTo>
                  <a:lnTo>
                    <a:pt x="463" y="2085"/>
                  </a:lnTo>
                  <a:lnTo>
                    <a:pt x="463" y="2085"/>
                  </a:lnTo>
                  <a:lnTo>
                    <a:pt x="347" y="1969"/>
                  </a:lnTo>
                  <a:lnTo>
                    <a:pt x="231" y="1737"/>
                  </a:lnTo>
                  <a:lnTo>
                    <a:pt x="115" y="1622"/>
                  </a:lnTo>
                  <a:lnTo>
                    <a:pt x="115" y="1390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578" y="232"/>
                  </a:lnTo>
                  <a:lnTo>
                    <a:pt x="810" y="116"/>
                  </a:lnTo>
                  <a:lnTo>
                    <a:pt x="1273" y="0"/>
                  </a:lnTo>
                  <a:lnTo>
                    <a:pt x="1620" y="0"/>
                  </a:lnTo>
                  <a:lnTo>
                    <a:pt x="1851" y="116"/>
                  </a:lnTo>
                  <a:lnTo>
                    <a:pt x="2199" y="232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1588680" y="3442320"/>
              <a:ext cx="153000" cy="310680"/>
            </a:xfrm>
            <a:custGeom>
              <a:avLst/>
              <a:gdLst/>
              <a:ahLst/>
              <a:rect l="l" t="t" r="r" b="b"/>
              <a:pathLst>
                <a:path w="4282" h="5791">
                  <a:moveTo>
                    <a:pt x="4166" y="927"/>
                  </a:moveTo>
                  <a:lnTo>
                    <a:pt x="4282" y="1506"/>
                  </a:lnTo>
                  <a:lnTo>
                    <a:pt x="4282" y="1969"/>
                  </a:lnTo>
                  <a:lnTo>
                    <a:pt x="4282" y="2432"/>
                  </a:lnTo>
                  <a:lnTo>
                    <a:pt x="4166" y="2895"/>
                  </a:lnTo>
                  <a:lnTo>
                    <a:pt x="4050" y="3359"/>
                  </a:lnTo>
                  <a:lnTo>
                    <a:pt x="3935" y="3822"/>
                  </a:lnTo>
                  <a:lnTo>
                    <a:pt x="3703" y="4285"/>
                  </a:lnTo>
                  <a:lnTo>
                    <a:pt x="3587" y="4633"/>
                  </a:lnTo>
                  <a:lnTo>
                    <a:pt x="3587" y="4633"/>
                  </a:lnTo>
                  <a:lnTo>
                    <a:pt x="3240" y="4980"/>
                  </a:lnTo>
                  <a:lnTo>
                    <a:pt x="3009" y="5327"/>
                  </a:lnTo>
                  <a:lnTo>
                    <a:pt x="2662" y="5443"/>
                  </a:lnTo>
                  <a:lnTo>
                    <a:pt x="2199" y="5675"/>
                  </a:lnTo>
                  <a:lnTo>
                    <a:pt x="1851" y="5791"/>
                  </a:lnTo>
                  <a:lnTo>
                    <a:pt x="1504" y="5791"/>
                  </a:lnTo>
                  <a:lnTo>
                    <a:pt x="1041" y="5791"/>
                  </a:lnTo>
                  <a:lnTo>
                    <a:pt x="578" y="5791"/>
                  </a:lnTo>
                  <a:lnTo>
                    <a:pt x="578" y="5791"/>
                  </a:lnTo>
                  <a:lnTo>
                    <a:pt x="231" y="5096"/>
                  </a:lnTo>
                  <a:lnTo>
                    <a:pt x="0" y="4401"/>
                  </a:lnTo>
                  <a:lnTo>
                    <a:pt x="0" y="3706"/>
                  </a:lnTo>
                  <a:lnTo>
                    <a:pt x="0" y="3011"/>
                  </a:lnTo>
                  <a:lnTo>
                    <a:pt x="231" y="2316"/>
                  </a:lnTo>
                  <a:lnTo>
                    <a:pt x="463" y="1622"/>
                  </a:lnTo>
                  <a:lnTo>
                    <a:pt x="810" y="927"/>
                  </a:lnTo>
                  <a:lnTo>
                    <a:pt x="1157" y="348"/>
                  </a:lnTo>
                  <a:lnTo>
                    <a:pt x="1157" y="348"/>
                  </a:lnTo>
                  <a:lnTo>
                    <a:pt x="1389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0"/>
                  </a:lnTo>
                  <a:lnTo>
                    <a:pt x="2314" y="0"/>
                  </a:lnTo>
                  <a:lnTo>
                    <a:pt x="2662" y="0"/>
                  </a:lnTo>
                  <a:lnTo>
                    <a:pt x="2893" y="116"/>
                  </a:lnTo>
                  <a:lnTo>
                    <a:pt x="3124" y="116"/>
                  </a:lnTo>
                  <a:lnTo>
                    <a:pt x="3124" y="116"/>
                  </a:lnTo>
                  <a:lnTo>
                    <a:pt x="3240" y="232"/>
                  </a:lnTo>
                  <a:lnTo>
                    <a:pt x="3472" y="232"/>
                  </a:lnTo>
                  <a:lnTo>
                    <a:pt x="3587" y="348"/>
                  </a:lnTo>
                  <a:lnTo>
                    <a:pt x="3703" y="463"/>
                  </a:lnTo>
                  <a:lnTo>
                    <a:pt x="3819" y="579"/>
                  </a:lnTo>
                  <a:lnTo>
                    <a:pt x="3935" y="695"/>
                  </a:lnTo>
                  <a:lnTo>
                    <a:pt x="4050" y="811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1460520" y="3454920"/>
              <a:ext cx="20520" cy="30960"/>
            </a:xfrm>
            <a:custGeom>
              <a:avLst/>
              <a:gdLst/>
              <a:ahLst/>
              <a:rect l="l" t="t" r="r" b="b"/>
              <a:pathLst>
                <a:path w="579" h="579">
                  <a:moveTo>
                    <a:pt x="463" y="579"/>
                  </a:moveTo>
                  <a:lnTo>
                    <a:pt x="463" y="579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116" y="347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116"/>
                  </a:lnTo>
                  <a:lnTo>
                    <a:pt x="579" y="116"/>
                  </a:lnTo>
                  <a:lnTo>
                    <a:pt x="579" y="231"/>
                  </a:lnTo>
                  <a:lnTo>
                    <a:pt x="579" y="347"/>
                  </a:lnTo>
                  <a:lnTo>
                    <a:pt x="579" y="463"/>
                  </a:lnTo>
                  <a:lnTo>
                    <a:pt x="579" y="463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1617840" y="3479760"/>
              <a:ext cx="65880" cy="99360"/>
            </a:xfrm>
            <a:custGeom>
              <a:avLst/>
              <a:gdLst/>
              <a:ahLst/>
              <a:rect l="l" t="t" r="r" b="b"/>
              <a:pathLst>
                <a:path w="1852" h="1853">
                  <a:moveTo>
                    <a:pt x="1852" y="579"/>
                  </a:moveTo>
                  <a:lnTo>
                    <a:pt x="1852" y="811"/>
                  </a:lnTo>
                  <a:lnTo>
                    <a:pt x="1852" y="927"/>
                  </a:lnTo>
                  <a:lnTo>
                    <a:pt x="1736" y="1158"/>
                  </a:lnTo>
                  <a:lnTo>
                    <a:pt x="1736" y="1390"/>
                  </a:lnTo>
                  <a:lnTo>
                    <a:pt x="1620" y="1506"/>
                  </a:lnTo>
                  <a:lnTo>
                    <a:pt x="1389" y="1621"/>
                  </a:lnTo>
                  <a:lnTo>
                    <a:pt x="1273" y="1737"/>
                  </a:lnTo>
                  <a:lnTo>
                    <a:pt x="1041" y="1853"/>
                  </a:lnTo>
                  <a:lnTo>
                    <a:pt x="1041" y="1853"/>
                  </a:lnTo>
                  <a:lnTo>
                    <a:pt x="926" y="1853"/>
                  </a:lnTo>
                  <a:lnTo>
                    <a:pt x="694" y="1853"/>
                  </a:lnTo>
                  <a:lnTo>
                    <a:pt x="579" y="1737"/>
                  </a:lnTo>
                  <a:lnTo>
                    <a:pt x="463" y="1737"/>
                  </a:lnTo>
                  <a:lnTo>
                    <a:pt x="347" y="1621"/>
                  </a:lnTo>
                  <a:lnTo>
                    <a:pt x="231" y="1506"/>
                  </a:lnTo>
                  <a:lnTo>
                    <a:pt x="116" y="1390"/>
                  </a:lnTo>
                  <a:lnTo>
                    <a:pt x="0" y="1274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927"/>
                  </a:lnTo>
                  <a:lnTo>
                    <a:pt x="0" y="811"/>
                  </a:lnTo>
                  <a:lnTo>
                    <a:pt x="0" y="695"/>
                  </a:lnTo>
                  <a:lnTo>
                    <a:pt x="0" y="463"/>
                  </a:lnTo>
                  <a:lnTo>
                    <a:pt x="116" y="348"/>
                  </a:lnTo>
                  <a:lnTo>
                    <a:pt x="116" y="232"/>
                  </a:lnTo>
                  <a:lnTo>
                    <a:pt x="231" y="116"/>
                  </a:lnTo>
                  <a:lnTo>
                    <a:pt x="231" y="116"/>
                  </a:lnTo>
                  <a:lnTo>
                    <a:pt x="463" y="0"/>
                  </a:lnTo>
                  <a:lnTo>
                    <a:pt x="694" y="0"/>
                  </a:lnTo>
                  <a:lnTo>
                    <a:pt x="926" y="0"/>
                  </a:lnTo>
                  <a:lnTo>
                    <a:pt x="1157" y="0"/>
                  </a:lnTo>
                  <a:lnTo>
                    <a:pt x="1389" y="0"/>
                  </a:lnTo>
                  <a:lnTo>
                    <a:pt x="1620" y="116"/>
                  </a:lnTo>
                  <a:lnTo>
                    <a:pt x="1736" y="348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1646640" y="3510720"/>
              <a:ext cx="20520" cy="37080"/>
            </a:xfrm>
            <a:custGeom>
              <a:avLst/>
              <a:gdLst/>
              <a:ahLst/>
              <a:rect l="l" t="t" r="r" b="b"/>
              <a:pathLst>
                <a:path w="579" h="695">
                  <a:moveTo>
                    <a:pt x="463" y="116"/>
                  </a:moveTo>
                  <a:lnTo>
                    <a:pt x="463" y="116"/>
                  </a:lnTo>
                  <a:lnTo>
                    <a:pt x="579" y="232"/>
                  </a:lnTo>
                  <a:lnTo>
                    <a:pt x="463" y="348"/>
                  </a:lnTo>
                  <a:lnTo>
                    <a:pt x="463" y="463"/>
                  </a:lnTo>
                  <a:lnTo>
                    <a:pt x="463" y="463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695"/>
                  </a:lnTo>
                  <a:lnTo>
                    <a:pt x="231" y="695"/>
                  </a:lnTo>
                  <a:lnTo>
                    <a:pt x="116" y="695"/>
                  </a:lnTo>
                  <a:lnTo>
                    <a:pt x="116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231" y="116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1220400" y="3784320"/>
              <a:ext cx="57600" cy="37080"/>
            </a:xfrm>
            <a:custGeom>
              <a:avLst/>
              <a:gdLst/>
              <a:ahLst/>
              <a:rect l="l" t="t" r="r" b="b"/>
              <a:pathLst>
                <a:path w="1620" h="695">
                  <a:moveTo>
                    <a:pt x="1620" y="116"/>
                  </a:moveTo>
                  <a:lnTo>
                    <a:pt x="1388" y="116"/>
                  </a:lnTo>
                  <a:lnTo>
                    <a:pt x="1157" y="116"/>
                  </a:lnTo>
                  <a:lnTo>
                    <a:pt x="1041" y="231"/>
                  </a:lnTo>
                  <a:lnTo>
                    <a:pt x="810" y="347"/>
                  </a:lnTo>
                  <a:lnTo>
                    <a:pt x="578" y="347"/>
                  </a:lnTo>
                  <a:lnTo>
                    <a:pt x="462" y="463"/>
                  </a:lnTo>
                  <a:lnTo>
                    <a:pt x="347" y="579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0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115" y="347"/>
                  </a:lnTo>
                  <a:lnTo>
                    <a:pt x="115" y="347"/>
                  </a:lnTo>
                  <a:lnTo>
                    <a:pt x="231" y="231"/>
                  </a:lnTo>
                  <a:lnTo>
                    <a:pt x="462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0"/>
                  </a:lnTo>
                  <a:lnTo>
                    <a:pt x="1157" y="0"/>
                  </a:lnTo>
                  <a:lnTo>
                    <a:pt x="1388" y="0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1207800" y="3827880"/>
              <a:ext cx="517320" cy="173880"/>
            </a:xfrm>
            <a:custGeom>
              <a:avLst/>
              <a:gdLst/>
              <a:ahLst/>
              <a:rect l="l" t="t" r="r" b="b"/>
              <a:pathLst>
                <a:path w="14467" h="3243">
                  <a:moveTo>
                    <a:pt x="3820" y="232"/>
                  </a:moveTo>
                  <a:lnTo>
                    <a:pt x="3704" y="232"/>
                  </a:lnTo>
                  <a:lnTo>
                    <a:pt x="3472" y="232"/>
                  </a:lnTo>
                  <a:lnTo>
                    <a:pt x="3357" y="232"/>
                  </a:lnTo>
                  <a:lnTo>
                    <a:pt x="3125" y="232"/>
                  </a:lnTo>
                  <a:lnTo>
                    <a:pt x="3009" y="348"/>
                  </a:lnTo>
                  <a:lnTo>
                    <a:pt x="2778" y="348"/>
                  </a:lnTo>
                  <a:lnTo>
                    <a:pt x="2662" y="348"/>
                  </a:lnTo>
                  <a:lnTo>
                    <a:pt x="2431" y="464"/>
                  </a:lnTo>
                  <a:lnTo>
                    <a:pt x="2431" y="464"/>
                  </a:lnTo>
                  <a:lnTo>
                    <a:pt x="2431" y="695"/>
                  </a:lnTo>
                  <a:lnTo>
                    <a:pt x="2431" y="695"/>
                  </a:lnTo>
                  <a:lnTo>
                    <a:pt x="2894" y="1159"/>
                  </a:lnTo>
                  <a:lnTo>
                    <a:pt x="3472" y="1622"/>
                  </a:lnTo>
                  <a:lnTo>
                    <a:pt x="4051" y="1853"/>
                  </a:lnTo>
                  <a:lnTo>
                    <a:pt x="4745" y="2085"/>
                  </a:lnTo>
                  <a:lnTo>
                    <a:pt x="5440" y="2201"/>
                  </a:lnTo>
                  <a:lnTo>
                    <a:pt x="6018" y="2432"/>
                  </a:lnTo>
                  <a:lnTo>
                    <a:pt x="6713" y="2548"/>
                  </a:lnTo>
                  <a:lnTo>
                    <a:pt x="7291" y="2780"/>
                  </a:lnTo>
                  <a:lnTo>
                    <a:pt x="7291" y="2780"/>
                  </a:lnTo>
                  <a:lnTo>
                    <a:pt x="7639" y="2780"/>
                  </a:lnTo>
                  <a:lnTo>
                    <a:pt x="7986" y="2780"/>
                  </a:lnTo>
                  <a:lnTo>
                    <a:pt x="8333" y="2780"/>
                  </a:lnTo>
                  <a:lnTo>
                    <a:pt x="8680" y="2664"/>
                  </a:lnTo>
                  <a:lnTo>
                    <a:pt x="9027" y="2664"/>
                  </a:lnTo>
                  <a:lnTo>
                    <a:pt x="9375" y="2548"/>
                  </a:lnTo>
                  <a:lnTo>
                    <a:pt x="9722" y="2432"/>
                  </a:lnTo>
                  <a:lnTo>
                    <a:pt x="10069" y="2317"/>
                  </a:lnTo>
                  <a:lnTo>
                    <a:pt x="10069" y="2317"/>
                  </a:lnTo>
                  <a:lnTo>
                    <a:pt x="10185" y="2317"/>
                  </a:lnTo>
                  <a:lnTo>
                    <a:pt x="10185" y="2317"/>
                  </a:lnTo>
                  <a:lnTo>
                    <a:pt x="10301" y="2317"/>
                  </a:lnTo>
                  <a:lnTo>
                    <a:pt x="10416" y="2317"/>
                  </a:lnTo>
                  <a:lnTo>
                    <a:pt x="10532" y="2317"/>
                  </a:lnTo>
                  <a:lnTo>
                    <a:pt x="10648" y="2201"/>
                  </a:lnTo>
                  <a:lnTo>
                    <a:pt x="10763" y="2201"/>
                  </a:lnTo>
                  <a:lnTo>
                    <a:pt x="10763" y="2085"/>
                  </a:lnTo>
                  <a:lnTo>
                    <a:pt x="10763" y="2085"/>
                  </a:lnTo>
                  <a:lnTo>
                    <a:pt x="10879" y="2201"/>
                  </a:lnTo>
                  <a:lnTo>
                    <a:pt x="10879" y="2201"/>
                  </a:lnTo>
                  <a:lnTo>
                    <a:pt x="11226" y="1969"/>
                  </a:lnTo>
                  <a:lnTo>
                    <a:pt x="11574" y="1853"/>
                  </a:lnTo>
                  <a:lnTo>
                    <a:pt x="11921" y="1738"/>
                  </a:lnTo>
                  <a:lnTo>
                    <a:pt x="12268" y="1622"/>
                  </a:lnTo>
                  <a:lnTo>
                    <a:pt x="12615" y="1506"/>
                  </a:lnTo>
                  <a:lnTo>
                    <a:pt x="12962" y="1506"/>
                  </a:lnTo>
                  <a:lnTo>
                    <a:pt x="13310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888" y="1390"/>
                  </a:lnTo>
                  <a:lnTo>
                    <a:pt x="14004" y="1390"/>
                  </a:lnTo>
                  <a:lnTo>
                    <a:pt x="14120" y="1274"/>
                  </a:lnTo>
                  <a:lnTo>
                    <a:pt x="14120" y="1159"/>
                  </a:lnTo>
                  <a:lnTo>
                    <a:pt x="14235" y="1159"/>
                  </a:lnTo>
                  <a:lnTo>
                    <a:pt x="14351" y="1159"/>
                  </a:lnTo>
                  <a:lnTo>
                    <a:pt x="14467" y="1159"/>
                  </a:lnTo>
                  <a:lnTo>
                    <a:pt x="14467" y="1159"/>
                  </a:lnTo>
                  <a:lnTo>
                    <a:pt x="14467" y="1274"/>
                  </a:lnTo>
                  <a:lnTo>
                    <a:pt x="14351" y="1390"/>
                  </a:lnTo>
                  <a:lnTo>
                    <a:pt x="14351" y="1506"/>
                  </a:lnTo>
                  <a:lnTo>
                    <a:pt x="14235" y="1622"/>
                  </a:lnTo>
                  <a:lnTo>
                    <a:pt x="14120" y="1738"/>
                  </a:lnTo>
                  <a:lnTo>
                    <a:pt x="14004" y="1853"/>
                  </a:lnTo>
                  <a:lnTo>
                    <a:pt x="13888" y="1853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2962" y="1969"/>
                  </a:lnTo>
                  <a:lnTo>
                    <a:pt x="12152" y="2085"/>
                  </a:lnTo>
                  <a:lnTo>
                    <a:pt x="11458" y="2317"/>
                  </a:lnTo>
                  <a:lnTo>
                    <a:pt x="10648" y="2548"/>
                  </a:lnTo>
                  <a:lnTo>
                    <a:pt x="9953" y="2780"/>
                  </a:lnTo>
                  <a:lnTo>
                    <a:pt x="9143" y="3011"/>
                  </a:lnTo>
                  <a:lnTo>
                    <a:pt x="8333" y="3127"/>
                  </a:lnTo>
                  <a:lnTo>
                    <a:pt x="7523" y="3243"/>
                  </a:lnTo>
                  <a:lnTo>
                    <a:pt x="7523" y="3243"/>
                  </a:lnTo>
                  <a:lnTo>
                    <a:pt x="6713" y="3011"/>
                  </a:lnTo>
                  <a:lnTo>
                    <a:pt x="6018" y="2896"/>
                  </a:lnTo>
                  <a:lnTo>
                    <a:pt x="5208" y="2664"/>
                  </a:lnTo>
                  <a:lnTo>
                    <a:pt x="4514" y="2432"/>
                  </a:lnTo>
                  <a:lnTo>
                    <a:pt x="3704" y="2201"/>
                  </a:lnTo>
                  <a:lnTo>
                    <a:pt x="3125" y="1738"/>
                  </a:lnTo>
                  <a:lnTo>
                    <a:pt x="2431" y="1274"/>
                  </a:lnTo>
                  <a:lnTo>
                    <a:pt x="1968" y="695"/>
                  </a:lnTo>
                  <a:lnTo>
                    <a:pt x="1968" y="695"/>
                  </a:lnTo>
                  <a:lnTo>
                    <a:pt x="1736" y="811"/>
                  </a:lnTo>
                  <a:lnTo>
                    <a:pt x="1505" y="927"/>
                  </a:lnTo>
                  <a:lnTo>
                    <a:pt x="1273" y="1043"/>
                  </a:lnTo>
                  <a:lnTo>
                    <a:pt x="1042" y="1159"/>
                  </a:lnTo>
                  <a:lnTo>
                    <a:pt x="810" y="1274"/>
                  </a:lnTo>
                  <a:lnTo>
                    <a:pt x="579" y="1506"/>
                  </a:lnTo>
                  <a:lnTo>
                    <a:pt x="463" y="1622"/>
                  </a:lnTo>
                  <a:lnTo>
                    <a:pt x="348" y="1853"/>
                  </a:lnTo>
                  <a:lnTo>
                    <a:pt x="348" y="1853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116" y="1390"/>
                  </a:lnTo>
                  <a:lnTo>
                    <a:pt x="348" y="1159"/>
                  </a:lnTo>
                  <a:lnTo>
                    <a:pt x="463" y="927"/>
                  </a:lnTo>
                  <a:lnTo>
                    <a:pt x="810" y="811"/>
                  </a:lnTo>
                  <a:lnTo>
                    <a:pt x="1042" y="695"/>
                  </a:lnTo>
                  <a:lnTo>
                    <a:pt x="1273" y="579"/>
                  </a:lnTo>
                  <a:lnTo>
                    <a:pt x="1621" y="348"/>
                  </a:lnTo>
                  <a:lnTo>
                    <a:pt x="1852" y="232"/>
                  </a:lnTo>
                  <a:lnTo>
                    <a:pt x="1852" y="232"/>
                  </a:lnTo>
                  <a:lnTo>
                    <a:pt x="2084" y="116"/>
                  </a:lnTo>
                  <a:lnTo>
                    <a:pt x="2315" y="116"/>
                  </a:lnTo>
                  <a:lnTo>
                    <a:pt x="2546" y="0"/>
                  </a:lnTo>
                  <a:lnTo>
                    <a:pt x="2778" y="0"/>
                  </a:lnTo>
                  <a:lnTo>
                    <a:pt x="3125" y="0"/>
                  </a:lnTo>
                  <a:lnTo>
                    <a:pt x="3357" y="116"/>
                  </a:lnTo>
                  <a:lnTo>
                    <a:pt x="3588" y="116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2213640" y="3927600"/>
              <a:ext cx="343440" cy="298440"/>
            </a:xfrm>
            <a:custGeom>
              <a:avLst/>
              <a:gdLst/>
              <a:ahLst/>
              <a:rect l="l" t="t" r="r" b="b"/>
              <a:pathLst>
                <a:path w="9606" h="5559">
                  <a:moveTo>
                    <a:pt x="9606" y="695"/>
                  </a:moveTo>
                  <a:lnTo>
                    <a:pt x="9606" y="811"/>
                  </a:lnTo>
                  <a:lnTo>
                    <a:pt x="9606" y="811"/>
                  </a:lnTo>
                  <a:lnTo>
                    <a:pt x="9490" y="811"/>
                  </a:lnTo>
                  <a:lnTo>
                    <a:pt x="9375" y="811"/>
                  </a:lnTo>
                  <a:lnTo>
                    <a:pt x="9259" y="811"/>
                  </a:lnTo>
                  <a:lnTo>
                    <a:pt x="9143" y="811"/>
                  </a:lnTo>
                  <a:lnTo>
                    <a:pt x="9027" y="811"/>
                  </a:lnTo>
                  <a:lnTo>
                    <a:pt x="8912" y="927"/>
                  </a:lnTo>
                  <a:lnTo>
                    <a:pt x="8796" y="927"/>
                  </a:lnTo>
                  <a:lnTo>
                    <a:pt x="8680" y="1043"/>
                  </a:lnTo>
                  <a:lnTo>
                    <a:pt x="8680" y="1043"/>
                  </a:lnTo>
                  <a:lnTo>
                    <a:pt x="8912" y="1158"/>
                  </a:lnTo>
                  <a:lnTo>
                    <a:pt x="8912" y="1158"/>
                  </a:lnTo>
                  <a:lnTo>
                    <a:pt x="8680" y="1158"/>
                  </a:lnTo>
                  <a:lnTo>
                    <a:pt x="8564" y="1274"/>
                  </a:lnTo>
                  <a:lnTo>
                    <a:pt x="8333" y="1274"/>
                  </a:lnTo>
                  <a:lnTo>
                    <a:pt x="8102" y="1274"/>
                  </a:lnTo>
                  <a:lnTo>
                    <a:pt x="7986" y="1390"/>
                  </a:lnTo>
                  <a:lnTo>
                    <a:pt x="7754" y="1390"/>
                  </a:lnTo>
                  <a:lnTo>
                    <a:pt x="7639" y="1506"/>
                  </a:lnTo>
                  <a:lnTo>
                    <a:pt x="7407" y="1622"/>
                  </a:lnTo>
                  <a:lnTo>
                    <a:pt x="7407" y="1622"/>
                  </a:lnTo>
                  <a:lnTo>
                    <a:pt x="7639" y="1622"/>
                  </a:lnTo>
                  <a:lnTo>
                    <a:pt x="7754" y="1622"/>
                  </a:lnTo>
                  <a:lnTo>
                    <a:pt x="7870" y="1738"/>
                  </a:lnTo>
                  <a:lnTo>
                    <a:pt x="7986" y="1738"/>
                  </a:lnTo>
                  <a:lnTo>
                    <a:pt x="8102" y="1738"/>
                  </a:lnTo>
                  <a:lnTo>
                    <a:pt x="8217" y="1853"/>
                  </a:lnTo>
                  <a:lnTo>
                    <a:pt x="8333" y="1853"/>
                  </a:lnTo>
                  <a:lnTo>
                    <a:pt x="8564" y="1853"/>
                  </a:lnTo>
                  <a:lnTo>
                    <a:pt x="8564" y="1853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680" y="2085"/>
                  </a:lnTo>
                  <a:lnTo>
                    <a:pt x="8680" y="2085"/>
                  </a:lnTo>
                  <a:lnTo>
                    <a:pt x="8796" y="1969"/>
                  </a:lnTo>
                  <a:lnTo>
                    <a:pt x="8796" y="1969"/>
                  </a:lnTo>
                  <a:lnTo>
                    <a:pt x="8912" y="1969"/>
                  </a:lnTo>
                  <a:lnTo>
                    <a:pt x="8912" y="1969"/>
                  </a:lnTo>
                  <a:lnTo>
                    <a:pt x="9027" y="1969"/>
                  </a:lnTo>
                  <a:lnTo>
                    <a:pt x="9027" y="1969"/>
                  </a:lnTo>
                  <a:lnTo>
                    <a:pt x="8796" y="2085"/>
                  </a:lnTo>
                  <a:lnTo>
                    <a:pt x="8680" y="2085"/>
                  </a:lnTo>
                  <a:lnTo>
                    <a:pt x="8449" y="2201"/>
                  </a:lnTo>
                  <a:lnTo>
                    <a:pt x="8333" y="2317"/>
                  </a:lnTo>
                  <a:lnTo>
                    <a:pt x="8102" y="2317"/>
                  </a:lnTo>
                  <a:lnTo>
                    <a:pt x="7986" y="2432"/>
                  </a:lnTo>
                  <a:lnTo>
                    <a:pt x="7754" y="2664"/>
                  </a:lnTo>
                  <a:lnTo>
                    <a:pt x="7639" y="2780"/>
                  </a:lnTo>
                  <a:lnTo>
                    <a:pt x="7639" y="2780"/>
                  </a:lnTo>
                  <a:lnTo>
                    <a:pt x="7870" y="2780"/>
                  </a:lnTo>
                  <a:lnTo>
                    <a:pt x="8102" y="2780"/>
                  </a:lnTo>
                  <a:lnTo>
                    <a:pt x="8333" y="2780"/>
                  </a:lnTo>
                  <a:lnTo>
                    <a:pt x="8564" y="2664"/>
                  </a:lnTo>
                  <a:lnTo>
                    <a:pt x="8796" y="2548"/>
                  </a:lnTo>
                  <a:lnTo>
                    <a:pt x="9027" y="2548"/>
                  </a:lnTo>
                  <a:lnTo>
                    <a:pt x="9259" y="2432"/>
                  </a:lnTo>
                  <a:lnTo>
                    <a:pt x="9490" y="2432"/>
                  </a:lnTo>
                  <a:lnTo>
                    <a:pt x="9490" y="2432"/>
                  </a:lnTo>
                  <a:lnTo>
                    <a:pt x="8564" y="2896"/>
                  </a:lnTo>
                  <a:lnTo>
                    <a:pt x="7754" y="3243"/>
                  </a:lnTo>
                  <a:lnTo>
                    <a:pt x="6828" y="3590"/>
                  </a:lnTo>
                  <a:lnTo>
                    <a:pt x="6018" y="3938"/>
                  </a:lnTo>
                  <a:lnTo>
                    <a:pt x="5092" y="4401"/>
                  </a:lnTo>
                  <a:lnTo>
                    <a:pt x="4282" y="4749"/>
                  </a:lnTo>
                  <a:lnTo>
                    <a:pt x="3357" y="5096"/>
                  </a:lnTo>
                  <a:lnTo>
                    <a:pt x="2546" y="5559"/>
                  </a:lnTo>
                  <a:lnTo>
                    <a:pt x="2546" y="5559"/>
                  </a:lnTo>
                  <a:lnTo>
                    <a:pt x="2431" y="5443"/>
                  </a:lnTo>
                  <a:lnTo>
                    <a:pt x="2199" y="5328"/>
                  </a:lnTo>
                  <a:lnTo>
                    <a:pt x="1968" y="5212"/>
                  </a:lnTo>
                  <a:lnTo>
                    <a:pt x="1736" y="5212"/>
                  </a:lnTo>
                  <a:lnTo>
                    <a:pt x="1505" y="5096"/>
                  </a:lnTo>
                  <a:lnTo>
                    <a:pt x="1389" y="4980"/>
                  </a:lnTo>
                  <a:lnTo>
                    <a:pt x="1273" y="4864"/>
                  </a:lnTo>
                  <a:lnTo>
                    <a:pt x="1273" y="4517"/>
                  </a:lnTo>
                  <a:lnTo>
                    <a:pt x="1273" y="4517"/>
                  </a:lnTo>
                  <a:lnTo>
                    <a:pt x="1389" y="4401"/>
                  </a:lnTo>
                  <a:lnTo>
                    <a:pt x="1505" y="4170"/>
                  </a:lnTo>
                  <a:lnTo>
                    <a:pt x="1621" y="4054"/>
                  </a:lnTo>
                  <a:lnTo>
                    <a:pt x="1852" y="3822"/>
                  </a:lnTo>
                  <a:lnTo>
                    <a:pt x="1968" y="3706"/>
                  </a:lnTo>
                  <a:lnTo>
                    <a:pt x="2083" y="3590"/>
                  </a:lnTo>
                  <a:lnTo>
                    <a:pt x="2199" y="3359"/>
                  </a:lnTo>
                  <a:lnTo>
                    <a:pt x="2315" y="3243"/>
                  </a:lnTo>
                  <a:lnTo>
                    <a:pt x="2315" y="3243"/>
                  </a:lnTo>
                  <a:lnTo>
                    <a:pt x="2083" y="3011"/>
                  </a:lnTo>
                  <a:lnTo>
                    <a:pt x="1621" y="2896"/>
                  </a:lnTo>
                  <a:lnTo>
                    <a:pt x="1273" y="2896"/>
                  </a:lnTo>
                  <a:lnTo>
                    <a:pt x="810" y="2896"/>
                  </a:lnTo>
                  <a:lnTo>
                    <a:pt x="347" y="2780"/>
                  </a:lnTo>
                  <a:lnTo>
                    <a:pt x="116" y="2664"/>
                  </a:lnTo>
                  <a:lnTo>
                    <a:pt x="0" y="2317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810" y="1274"/>
                  </a:lnTo>
                  <a:lnTo>
                    <a:pt x="1736" y="811"/>
                  </a:lnTo>
                  <a:lnTo>
                    <a:pt x="2662" y="464"/>
                  </a:lnTo>
                  <a:lnTo>
                    <a:pt x="3588" y="232"/>
                  </a:lnTo>
                  <a:lnTo>
                    <a:pt x="4630" y="0"/>
                  </a:lnTo>
                  <a:lnTo>
                    <a:pt x="5555" y="0"/>
                  </a:lnTo>
                  <a:lnTo>
                    <a:pt x="6597" y="116"/>
                  </a:lnTo>
                  <a:lnTo>
                    <a:pt x="7639" y="348"/>
                  </a:lnTo>
                  <a:lnTo>
                    <a:pt x="7639" y="348"/>
                  </a:lnTo>
                  <a:lnTo>
                    <a:pt x="7870" y="464"/>
                  </a:lnTo>
                  <a:lnTo>
                    <a:pt x="8102" y="464"/>
                  </a:lnTo>
                  <a:lnTo>
                    <a:pt x="8333" y="464"/>
                  </a:lnTo>
                  <a:lnTo>
                    <a:pt x="8564" y="464"/>
                  </a:lnTo>
                  <a:lnTo>
                    <a:pt x="8796" y="579"/>
                  </a:lnTo>
                  <a:lnTo>
                    <a:pt x="9143" y="579"/>
                  </a:lnTo>
                  <a:lnTo>
                    <a:pt x="9375" y="579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1042560" y="3964680"/>
              <a:ext cx="1208160" cy="466200"/>
            </a:xfrm>
            <a:custGeom>
              <a:avLst/>
              <a:gdLst/>
              <a:ahLst/>
              <a:rect l="l" t="t" r="r" b="b"/>
              <a:pathLst>
                <a:path w="33794" h="8686">
                  <a:moveTo>
                    <a:pt x="-31742" y="0"/>
                  </a:moveTo>
                  <a:lnTo>
                    <a:pt x="-31974" y="116"/>
                  </a:lnTo>
                  <a:lnTo>
                    <a:pt x="-32205" y="348"/>
                  </a:lnTo>
                  <a:lnTo>
                    <a:pt x="-32437" y="463"/>
                  </a:lnTo>
                  <a:lnTo>
                    <a:pt x="-32668" y="579"/>
                  </a:lnTo>
                  <a:lnTo>
                    <a:pt x="32637" y="811"/>
                  </a:lnTo>
                  <a:lnTo>
                    <a:pt x="32521" y="927"/>
                  </a:lnTo>
                  <a:lnTo>
                    <a:pt x="32289" y="1158"/>
                  </a:lnTo>
                  <a:lnTo>
                    <a:pt x="32174" y="1390"/>
                  </a:lnTo>
                  <a:lnTo>
                    <a:pt x="32174" y="1390"/>
                  </a:lnTo>
                  <a:lnTo>
                    <a:pt x="32289" y="1506"/>
                  </a:lnTo>
                  <a:lnTo>
                    <a:pt x="32289" y="1737"/>
                  </a:lnTo>
                  <a:lnTo>
                    <a:pt x="32405" y="1853"/>
                  </a:lnTo>
                  <a:lnTo>
                    <a:pt x="32405" y="1969"/>
                  </a:lnTo>
                  <a:lnTo>
                    <a:pt x="32521" y="2085"/>
                  </a:lnTo>
                  <a:lnTo>
                    <a:pt x="32637" y="2201"/>
                  </a:lnTo>
                  <a:lnTo>
                    <a:pt x="32752" y="2316"/>
                  </a:lnTo>
                  <a:lnTo>
                    <a:pt x="-32668" y="2432"/>
                  </a:lnTo>
                  <a:lnTo>
                    <a:pt x="-32668" y="2432"/>
                  </a:lnTo>
                  <a:lnTo>
                    <a:pt x="29628" y="3011"/>
                  </a:lnTo>
                  <a:lnTo>
                    <a:pt x="26271" y="3590"/>
                  </a:lnTo>
                  <a:lnTo>
                    <a:pt x="23031" y="4169"/>
                  </a:lnTo>
                  <a:lnTo>
                    <a:pt x="19790" y="4864"/>
                  </a:lnTo>
                  <a:lnTo>
                    <a:pt x="16550" y="5443"/>
                  </a:lnTo>
                  <a:lnTo>
                    <a:pt x="13309" y="6138"/>
                  </a:lnTo>
                  <a:lnTo>
                    <a:pt x="10069" y="6833"/>
                  </a:lnTo>
                  <a:lnTo>
                    <a:pt x="6713" y="7644"/>
                  </a:lnTo>
                  <a:lnTo>
                    <a:pt x="6713" y="7644"/>
                  </a:lnTo>
                  <a:lnTo>
                    <a:pt x="0" y="8686"/>
                  </a:lnTo>
                  <a:lnTo>
                    <a:pt x="0" y="8686"/>
                  </a:lnTo>
                  <a:lnTo>
                    <a:pt x="0" y="8454"/>
                  </a:lnTo>
                  <a:lnTo>
                    <a:pt x="0" y="8223"/>
                  </a:lnTo>
                  <a:lnTo>
                    <a:pt x="0" y="7991"/>
                  </a:lnTo>
                  <a:lnTo>
                    <a:pt x="0" y="7760"/>
                  </a:lnTo>
                  <a:lnTo>
                    <a:pt x="116" y="7528"/>
                  </a:lnTo>
                  <a:lnTo>
                    <a:pt x="116" y="7296"/>
                  </a:lnTo>
                  <a:lnTo>
                    <a:pt x="232" y="7065"/>
                  </a:lnTo>
                  <a:lnTo>
                    <a:pt x="232" y="6833"/>
                  </a:lnTo>
                  <a:lnTo>
                    <a:pt x="232" y="6833"/>
                  </a:lnTo>
                  <a:lnTo>
                    <a:pt x="694" y="6486"/>
                  </a:lnTo>
                  <a:lnTo>
                    <a:pt x="694" y="6486"/>
                  </a:lnTo>
                  <a:lnTo>
                    <a:pt x="2662" y="6138"/>
                  </a:lnTo>
                  <a:lnTo>
                    <a:pt x="4745" y="5791"/>
                  </a:lnTo>
                  <a:lnTo>
                    <a:pt x="6713" y="5327"/>
                  </a:lnTo>
                  <a:lnTo>
                    <a:pt x="8796" y="4980"/>
                  </a:lnTo>
                  <a:lnTo>
                    <a:pt x="10879" y="4633"/>
                  </a:lnTo>
                  <a:lnTo>
                    <a:pt x="12962" y="4169"/>
                  </a:lnTo>
                  <a:lnTo>
                    <a:pt x="14930" y="3706"/>
                  </a:lnTo>
                  <a:lnTo>
                    <a:pt x="17013" y="3243"/>
                  </a:lnTo>
                  <a:lnTo>
                    <a:pt x="17013" y="3243"/>
                  </a:lnTo>
                  <a:lnTo>
                    <a:pt x="30553" y="579"/>
                  </a:lnTo>
                  <a:lnTo>
                    <a:pt x="30553" y="579"/>
                  </a:lnTo>
                  <a:lnTo>
                    <a:pt x="31016" y="463"/>
                  </a:lnTo>
                  <a:lnTo>
                    <a:pt x="31363" y="463"/>
                  </a:lnTo>
                  <a:lnTo>
                    <a:pt x="31826" y="348"/>
                  </a:lnTo>
                  <a:lnTo>
                    <a:pt x="32174" y="232"/>
                  </a:lnTo>
                  <a:lnTo>
                    <a:pt x="32521" y="232"/>
                  </a:lnTo>
                  <a:lnTo>
                    <a:pt x="-32552" y="116"/>
                  </a:lnTo>
                  <a:lnTo>
                    <a:pt x="-32205" y="116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827280" y="4045680"/>
              <a:ext cx="169560" cy="204840"/>
            </a:xfrm>
            <a:custGeom>
              <a:avLst/>
              <a:gdLst/>
              <a:ahLst/>
              <a:rect l="l" t="t" r="r" b="b"/>
              <a:pathLst>
                <a:path w="4745" h="3821">
                  <a:moveTo>
                    <a:pt x="4745" y="695"/>
                  </a:moveTo>
                  <a:lnTo>
                    <a:pt x="4514" y="2895"/>
                  </a:lnTo>
                  <a:lnTo>
                    <a:pt x="4514" y="2895"/>
                  </a:lnTo>
                  <a:lnTo>
                    <a:pt x="4282" y="3011"/>
                  </a:lnTo>
                  <a:lnTo>
                    <a:pt x="4051" y="3242"/>
                  </a:lnTo>
                  <a:lnTo>
                    <a:pt x="3819" y="3474"/>
                  </a:lnTo>
                  <a:lnTo>
                    <a:pt x="3588" y="3590"/>
                  </a:lnTo>
                  <a:lnTo>
                    <a:pt x="3356" y="3706"/>
                  </a:lnTo>
                  <a:lnTo>
                    <a:pt x="3125" y="3821"/>
                  </a:lnTo>
                  <a:lnTo>
                    <a:pt x="2893" y="3706"/>
                  </a:lnTo>
                  <a:lnTo>
                    <a:pt x="2662" y="3358"/>
                  </a:lnTo>
                  <a:lnTo>
                    <a:pt x="2662" y="3358"/>
                  </a:lnTo>
                  <a:lnTo>
                    <a:pt x="2430" y="3358"/>
                  </a:lnTo>
                  <a:lnTo>
                    <a:pt x="2315" y="3358"/>
                  </a:lnTo>
                  <a:lnTo>
                    <a:pt x="2199" y="3474"/>
                  </a:lnTo>
                  <a:lnTo>
                    <a:pt x="1967" y="3474"/>
                  </a:lnTo>
                  <a:lnTo>
                    <a:pt x="1852" y="3590"/>
                  </a:lnTo>
                  <a:lnTo>
                    <a:pt x="1736" y="3706"/>
                  </a:lnTo>
                  <a:lnTo>
                    <a:pt x="1505" y="3706"/>
                  </a:lnTo>
                  <a:lnTo>
                    <a:pt x="1389" y="3821"/>
                  </a:lnTo>
                  <a:lnTo>
                    <a:pt x="1389" y="3821"/>
                  </a:lnTo>
                  <a:lnTo>
                    <a:pt x="1042" y="3474"/>
                  </a:lnTo>
                  <a:lnTo>
                    <a:pt x="810" y="3127"/>
                  </a:lnTo>
                  <a:lnTo>
                    <a:pt x="579" y="2663"/>
                  </a:lnTo>
                  <a:lnTo>
                    <a:pt x="463" y="2200"/>
                  </a:lnTo>
                  <a:lnTo>
                    <a:pt x="231" y="1853"/>
                  </a:lnTo>
                  <a:lnTo>
                    <a:pt x="116" y="1389"/>
                  </a:lnTo>
                  <a:lnTo>
                    <a:pt x="0" y="926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463" y="231"/>
                  </a:lnTo>
                  <a:lnTo>
                    <a:pt x="1157" y="0"/>
                  </a:lnTo>
                  <a:lnTo>
                    <a:pt x="1736" y="0"/>
                  </a:lnTo>
                  <a:lnTo>
                    <a:pt x="2430" y="0"/>
                  </a:lnTo>
                  <a:lnTo>
                    <a:pt x="3009" y="116"/>
                  </a:lnTo>
                  <a:lnTo>
                    <a:pt x="3703" y="231"/>
                  </a:lnTo>
                  <a:lnTo>
                    <a:pt x="4282" y="463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1001160" y="4089240"/>
              <a:ext cx="24480" cy="105480"/>
            </a:xfrm>
            <a:custGeom>
              <a:avLst/>
              <a:gdLst/>
              <a:ahLst/>
              <a:rect l="l" t="t" r="r" b="b"/>
              <a:pathLst>
                <a:path w="694" h="1969">
                  <a:moveTo>
                    <a:pt x="578" y="1969"/>
                  </a:moveTo>
                  <a:lnTo>
                    <a:pt x="463" y="1969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969"/>
                  </a:lnTo>
                  <a:lnTo>
                    <a:pt x="0" y="1969"/>
                  </a:lnTo>
                  <a:lnTo>
                    <a:pt x="0" y="1853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347" y="0"/>
                  </a:lnTo>
                  <a:lnTo>
                    <a:pt x="694" y="116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1034280" y="4101480"/>
              <a:ext cx="28800" cy="105480"/>
            </a:xfrm>
            <a:custGeom>
              <a:avLst/>
              <a:gdLst/>
              <a:ahLst/>
              <a:rect l="l" t="t" r="r" b="b"/>
              <a:pathLst>
                <a:path w="810" h="1969">
                  <a:moveTo>
                    <a:pt x="694" y="232"/>
                  </a:moveTo>
                  <a:lnTo>
                    <a:pt x="810" y="463"/>
                  </a:lnTo>
                  <a:lnTo>
                    <a:pt x="694" y="579"/>
                  </a:lnTo>
                  <a:lnTo>
                    <a:pt x="694" y="695"/>
                  </a:lnTo>
                  <a:lnTo>
                    <a:pt x="694" y="927"/>
                  </a:lnTo>
                  <a:lnTo>
                    <a:pt x="694" y="1042"/>
                  </a:lnTo>
                  <a:lnTo>
                    <a:pt x="694" y="1274"/>
                  </a:lnTo>
                  <a:lnTo>
                    <a:pt x="694" y="1390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737"/>
                  </a:lnTo>
                  <a:lnTo>
                    <a:pt x="578" y="1737"/>
                  </a:lnTo>
                  <a:lnTo>
                    <a:pt x="463" y="1853"/>
                  </a:lnTo>
                  <a:lnTo>
                    <a:pt x="463" y="1853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853"/>
                  </a:lnTo>
                  <a:lnTo>
                    <a:pt x="115" y="1853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506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231" y="232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116"/>
                  </a:lnTo>
                  <a:lnTo>
                    <a:pt x="347" y="116"/>
                  </a:lnTo>
                  <a:lnTo>
                    <a:pt x="463" y="232"/>
                  </a:lnTo>
                  <a:lnTo>
                    <a:pt x="463" y="232"/>
                  </a:lnTo>
                  <a:lnTo>
                    <a:pt x="578" y="347"/>
                  </a:lnTo>
                  <a:lnTo>
                    <a:pt x="578" y="347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1046520" y="4101480"/>
              <a:ext cx="1241280" cy="441360"/>
            </a:xfrm>
            <a:custGeom>
              <a:avLst/>
              <a:gdLst/>
              <a:ahLst/>
              <a:rect l="l" t="t" r="r" b="b"/>
              <a:pathLst>
                <a:path w="34719" h="8223">
                  <a:moveTo>
                    <a:pt x="-31048" y="0"/>
                  </a:moveTo>
                  <a:lnTo>
                    <a:pt x="-31279" y="232"/>
                  </a:lnTo>
                  <a:lnTo>
                    <a:pt x="-31395" y="347"/>
                  </a:lnTo>
                  <a:lnTo>
                    <a:pt x="-31627" y="579"/>
                  </a:lnTo>
                  <a:lnTo>
                    <a:pt x="-31742" y="811"/>
                  </a:lnTo>
                  <a:lnTo>
                    <a:pt x="-31858" y="1042"/>
                  </a:lnTo>
                  <a:lnTo>
                    <a:pt x="-31858" y="1390"/>
                  </a:lnTo>
                  <a:lnTo>
                    <a:pt x="-31858" y="1621"/>
                  </a:lnTo>
                  <a:lnTo>
                    <a:pt x="-31742" y="1853"/>
                  </a:lnTo>
                  <a:lnTo>
                    <a:pt x="-31742" y="1853"/>
                  </a:lnTo>
                  <a:lnTo>
                    <a:pt x="-31742" y="2085"/>
                  </a:lnTo>
                  <a:lnTo>
                    <a:pt x="-31627" y="2200"/>
                  </a:lnTo>
                  <a:lnTo>
                    <a:pt x="-31511" y="2200"/>
                  </a:lnTo>
                  <a:lnTo>
                    <a:pt x="-31395" y="2316"/>
                  </a:lnTo>
                  <a:lnTo>
                    <a:pt x="-31279" y="2432"/>
                  </a:lnTo>
                  <a:lnTo>
                    <a:pt x="-31164" y="2432"/>
                  </a:lnTo>
                  <a:lnTo>
                    <a:pt x="-30932" y="2548"/>
                  </a:lnTo>
                  <a:lnTo>
                    <a:pt x="-30817" y="2548"/>
                  </a:lnTo>
                  <a:lnTo>
                    <a:pt x="-30817" y="2548"/>
                  </a:lnTo>
                  <a:lnTo>
                    <a:pt x="-31048" y="2664"/>
                  </a:lnTo>
                  <a:lnTo>
                    <a:pt x="-31395" y="2664"/>
                  </a:lnTo>
                  <a:lnTo>
                    <a:pt x="-31627" y="2779"/>
                  </a:lnTo>
                  <a:lnTo>
                    <a:pt x="-31858" y="2779"/>
                  </a:lnTo>
                  <a:lnTo>
                    <a:pt x="-32090" y="2779"/>
                  </a:lnTo>
                  <a:lnTo>
                    <a:pt x="-32437" y="2895"/>
                  </a:lnTo>
                  <a:lnTo>
                    <a:pt x="-32668" y="2895"/>
                  </a:lnTo>
                  <a:lnTo>
                    <a:pt x="32636" y="3011"/>
                  </a:lnTo>
                  <a:lnTo>
                    <a:pt x="32636" y="3011"/>
                  </a:lnTo>
                  <a:lnTo>
                    <a:pt x="32405" y="2895"/>
                  </a:lnTo>
                  <a:lnTo>
                    <a:pt x="32173" y="2779"/>
                  </a:lnTo>
                  <a:lnTo>
                    <a:pt x="31942" y="2779"/>
                  </a:lnTo>
                  <a:lnTo>
                    <a:pt x="31710" y="2779"/>
                  </a:lnTo>
                  <a:lnTo>
                    <a:pt x="31479" y="2779"/>
                  </a:lnTo>
                  <a:lnTo>
                    <a:pt x="31247" y="2779"/>
                  </a:lnTo>
                  <a:lnTo>
                    <a:pt x="31016" y="2895"/>
                  </a:lnTo>
                  <a:lnTo>
                    <a:pt x="30785" y="2895"/>
                  </a:lnTo>
                  <a:lnTo>
                    <a:pt x="30785" y="2895"/>
                  </a:lnTo>
                  <a:lnTo>
                    <a:pt x="29974" y="3474"/>
                  </a:lnTo>
                  <a:lnTo>
                    <a:pt x="29974" y="3474"/>
                  </a:lnTo>
                  <a:lnTo>
                    <a:pt x="29974" y="3359"/>
                  </a:lnTo>
                  <a:lnTo>
                    <a:pt x="29974" y="3359"/>
                  </a:lnTo>
                  <a:lnTo>
                    <a:pt x="29859" y="3243"/>
                  </a:lnTo>
                  <a:lnTo>
                    <a:pt x="29859" y="3127"/>
                  </a:lnTo>
                  <a:lnTo>
                    <a:pt x="29859" y="3127"/>
                  </a:lnTo>
                  <a:lnTo>
                    <a:pt x="29859" y="3011"/>
                  </a:lnTo>
                  <a:lnTo>
                    <a:pt x="29859" y="3011"/>
                  </a:lnTo>
                  <a:lnTo>
                    <a:pt x="29974" y="2895"/>
                  </a:lnTo>
                  <a:lnTo>
                    <a:pt x="29974" y="2895"/>
                  </a:lnTo>
                  <a:lnTo>
                    <a:pt x="-32321" y="2316"/>
                  </a:lnTo>
                  <a:lnTo>
                    <a:pt x="-32321" y="2316"/>
                  </a:lnTo>
                  <a:lnTo>
                    <a:pt x="-32205" y="2316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553" y="2085"/>
                  </a:lnTo>
                  <a:lnTo>
                    <a:pt x="32521" y="2200"/>
                  </a:lnTo>
                  <a:lnTo>
                    <a:pt x="31942" y="2200"/>
                  </a:lnTo>
                  <a:lnTo>
                    <a:pt x="31479" y="2316"/>
                  </a:lnTo>
                  <a:lnTo>
                    <a:pt x="31016" y="2432"/>
                  </a:lnTo>
                  <a:lnTo>
                    <a:pt x="30437" y="2548"/>
                  </a:lnTo>
                  <a:lnTo>
                    <a:pt x="29974" y="2664"/>
                  </a:lnTo>
                  <a:lnTo>
                    <a:pt x="29512" y="2779"/>
                  </a:lnTo>
                  <a:lnTo>
                    <a:pt x="29512" y="2779"/>
                  </a:lnTo>
                  <a:lnTo>
                    <a:pt x="29396" y="2664"/>
                  </a:lnTo>
                  <a:lnTo>
                    <a:pt x="29164" y="2664"/>
                  </a:lnTo>
                  <a:lnTo>
                    <a:pt x="28933" y="2548"/>
                  </a:lnTo>
                  <a:lnTo>
                    <a:pt x="28701" y="2548"/>
                  </a:lnTo>
                  <a:lnTo>
                    <a:pt x="28470" y="2432"/>
                  </a:lnTo>
                  <a:lnTo>
                    <a:pt x="28238" y="2548"/>
                  </a:lnTo>
                  <a:lnTo>
                    <a:pt x="28123" y="2548"/>
                  </a:lnTo>
                  <a:lnTo>
                    <a:pt x="27891" y="2664"/>
                  </a:lnTo>
                  <a:lnTo>
                    <a:pt x="27891" y="2664"/>
                  </a:lnTo>
                  <a:lnTo>
                    <a:pt x="27660" y="2895"/>
                  </a:lnTo>
                  <a:lnTo>
                    <a:pt x="27544" y="3011"/>
                  </a:lnTo>
                  <a:lnTo>
                    <a:pt x="27428" y="3011"/>
                  </a:lnTo>
                  <a:lnTo>
                    <a:pt x="27197" y="3011"/>
                  </a:lnTo>
                  <a:lnTo>
                    <a:pt x="27081" y="2895"/>
                  </a:lnTo>
                  <a:lnTo>
                    <a:pt x="26850" y="2895"/>
                  </a:lnTo>
                  <a:lnTo>
                    <a:pt x="26618" y="2895"/>
                  </a:lnTo>
                  <a:lnTo>
                    <a:pt x="26502" y="3127"/>
                  </a:lnTo>
                  <a:lnTo>
                    <a:pt x="26502" y="3127"/>
                  </a:lnTo>
                  <a:lnTo>
                    <a:pt x="26387" y="3474"/>
                  </a:lnTo>
                  <a:lnTo>
                    <a:pt x="26155" y="3706"/>
                  </a:lnTo>
                  <a:lnTo>
                    <a:pt x="25924" y="3822"/>
                  </a:lnTo>
                  <a:lnTo>
                    <a:pt x="25577" y="3822"/>
                  </a:lnTo>
                  <a:lnTo>
                    <a:pt x="25229" y="3822"/>
                  </a:lnTo>
                  <a:lnTo>
                    <a:pt x="24882" y="3822"/>
                  </a:lnTo>
                  <a:lnTo>
                    <a:pt x="24651" y="3822"/>
                  </a:lnTo>
                  <a:lnTo>
                    <a:pt x="24304" y="3938"/>
                  </a:lnTo>
                  <a:lnTo>
                    <a:pt x="24304" y="3938"/>
                  </a:lnTo>
                  <a:lnTo>
                    <a:pt x="21526" y="4517"/>
                  </a:lnTo>
                  <a:lnTo>
                    <a:pt x="18633" y="5096"/>
                  </a:lnTo>
                  <a:lnTo>
                    <a:pt x="15855" y="5559"/>
                  </a:lnTo>
                  <a:lnTo>
                    <a:pt x="13078" y="6138"/>
                  </a:lnTo>
                  <a:lnTo>
                    <a:pt x="10184" y="6717"/>
                  </a:lnTo>
                  <a:lnTo>
                    <a:pt x="7407" y="7296"/>
                  </a:lnTo>
                  <a:lnTo>
                    <a:pt x="4513" y="7759"/>
                  </a:lnTo>
                  <a:lnTo>
                    <a:pt x="1620" y="8223"/>
                  </a:lnTo>
                  <a:lnTo>
                    <a:pt x="1620" y="8223"/>
                  </a:lnTo>
                  <a:lnTo>
                    <a:pt x="1389" y="8107"/>
                  </a:lnTo>
                  <a:lnTo>
                    <a:pt x="1157" y="7875"/>
                  </a:lnTo>
                  <a:lnTo>
                    <a:pt x="926" y="7759"/>
                  </a:lnTo>
                  <a:lnTo>
                    <a:pt x="694" y="7528"/>
                  </a:lnTo>
                  <a:lnTo>
                    <a:pt x="463" y="7296"/>
                  </a:lnTo>
                  <a:lnTo>
                    <a:pt x="231" y="7064"/>
                  </a:lnTo>
                  <a:lnTo>
                    <a:pt x="116" y="6717"/>
                  </a:lnTo>
                  <a:lnTo>
                    <a:pt x="0" y="6485"/>
                  </a:lnTo>
                  <a:lnTo>
                    <a:pt x="0" y="6485"/>
                  </a:lnTo>
                  <a:lnTo>
                    <a:pt x="4398" y="5675"/>
                  </a:lnTo>
                  <a:lnTo>
                    <a:pt x="8680" y="4864"/>
                  </a:lnTo>
                  <a:lnTo>
                    <a:pt x="12846" y="3938"/>
                  </a:lnTo>
                  <a:lnTo>
                    <a:pt x="17128" y="3127"/>
                  </a:lnTo>
                  <a:lnTo>
                    <a:pt x="21295" y="2316"/>
                  </a:lnTo>
                  <a:lnTo>
                    <a:pt x="25577" y="1506"/>
                  </a:lnTo>
                  <a:lnTo>
                    <a:pt x="29859" y="695"/>
                  </a:lnTo>
                  <a:lnTo>
                    <a:pt x="-31279" y="116"/>
                  </a:lnTo>
                  <a:lnTo>
                    <a:pt x="-31279" y="116"/>
                  </a:lnTo>
                  <a:lnTo>
                    <a:pt x="-31279" y="0"/>
                  </a:lnTo>
                  <a:lnTo>
                    <a:pt x="-31279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856080" y="4194720"/>
              <a:ext cx="322560" cy="565560"/>
            </a:xfrm>
            <a:custGeom>
              <a:avLst/>
              <a:gdLst/>
              <a:ahLst/>
              <a:rect l="l" t="t" r="r" b="b"/>
              <a:pathLst>
                <a:path w="9027" h="10539">
                  <a:moveTo>
                    <a:pt x="7176" y="579"/>
                  </a:moveTo>
                  <a:lnTo>
                    <a:pt x="7176" y="695"/>
                  </a:lnTo>
                  <a:lnTo>
                    <a:pt x="7176" y="811"/>
                  </a:lnTo>
                  <a:lnTo>
                    <a:pt x="7176" y="927"/>
                  </a:lnTo>
                  <a:lnTo>
                    <a:pt x="7060" y="1042"/>
                  </a:lnTo>
                  <a:lnTo>
                    <a:pt x="7060" y="1158"/>
                  </a:lnTo>
                  <a:lnTo>
                    <a:pt x="6944" y="1274"/>
                  </a:lnTo>
                  <a:lnTo>
                    <a:pt x="6828" y="1274"/>
                  </a:lnTo>
                  <a:lnTo>
                    <a:pt x="6713" y="1274"/>
                  </a:lnTo>
                  <a:lnTo>
                    <a:pt x="6713" y="1274"/>
                  </a:lnTo>
                  <a:lnTo>
                    <a:pt x="6597" y="1274"/>
                  </a:lnTo>
                  <a:lnTo>
                    <a:pt x="6365" y="1274"/>
                  </a:lnTo>
                  <a:lnTo>
                    <a:pt x="6134" y="1274"/>
                  </a:lnTo>
                  <a:lnTo>
                    <a:pt x="6018" y="1274"/>
                  </a:lnTo>
                  <a:lnTo>
                    <a:pt x="5787" y="1390"/>
                  </a:lnTo>
                  <a:lnTo>
                    <a:pt x="5671" y="1506"/>
                  </a:lnTo>
                  <a:lnTo>
                    <a:pt x="5555" y="1622"/>
                  </a:lnTo>
                  <a:lnTo>
                    <a:pt x="5440" y="1737"/>
                  </a:lnTo>
                  <a:lnTo>
                    <a:pt x="5440" y="1737"/>
                  </a:lnTo>
                  <a:lnTo>
                    <a:pt x="5324" y="1969"/>
                  </a:lnTo>
                  <a:lnTo>
                    <a:pt x="5092" y="2201"/>
                  </a:lnTo>
                  <a:lnTo>
                    <a:pt x="4977" y="2432"/>
                  </a:lnTo>
                  <a:lnTo>
                    <a:pt x="4861" y="2664"/>
                  </a:lnTo>
                  <a:lnTo>
                    <a:pt x="4745" y="2895"/>
                  </a:lnTo>
                  <a:lnTo>
                    <a:pt x="4745" y="3127"/>
                  </a:lnTo>
                  <a:lnTo>
                    <a:pt x="4629" y="3359"/>
                  </a:lnTo>
                  <a:lnTo>
                    <a:pt x="4745" y="3590"/>
                  </a:lnTo>
                  <a:lnTo>
                    <a:pt x="4745" y="3590"/>
                  </a:lnTo>
                  <a:lnTo>
                    <a:pt x="4629" y="3822"/>
                  </a:lnTo>
                  <a:lnTo>
                    <a:pt x="4629" y="4054"/>
                  </a:lnTo>
                  <a:lnTo>
                    <a:pt x="4629" y="4401"/>
                  </a:lnTo>
                  <a:lnTo>
                    <a:pt x="4745" y="4633"/>
                  </a:lnTo>
                  <a:lnTo>
                    <a:pt x="4861" y="4864"/>
                  </a:lnTo>
                  <a:lnTo>
                    <a:pt x="4861" y="5212"/>
                  </a:lnTo>
                  <a:lnTo>
                    <a:pt x="4977" y="5443"/>
                  </a:lnTo>
                  <a:lnTo>
                    <a:pt x="5092" y="5675"/>
                  </a:lnTo>
                  <a:lnTo>
                    <a:pt x="5092" y="5675"/>
                  </a:lnTo>
                  <a:lnTo>
                    <a:pt x="5555" y="6138"/>
                  </a:lnTo>
                  <a:lnTo>
                    <a:pt x="5902" y="6486"/>
                  </a:lnTo>
                  <a:lnTo>
                    <a:pt x="6481" y="6717"/>
                  </a:lnTo>
                  <a:lnTo>
                    <a:pt x="6944" y="6949"/>
                  </a:lnTo>
                  <a:lnTo>
                    <a:pt x="7523" y="7180"/>
                  </a:lnTo>
                  <a:lnTo>
                    <a:pt x="7986" y="7296"/>
                  </a:lnTo>
                  <a:lnTo>
                    <a:pt x="8564" y="7528"/>
                  </a:lnTo>
                  <a:lnTo>
                    <a:pt x="9027" y="7875"/>
                  </a:lnTo>
                  <a:lnTo>
                    <a:pt x="9027" y="7875"/>
                  </a:lnTo>
                  <a:lnTo>
                    <a:pt x="9027" y="7991"/>
                  </a:lnTo>
                  <a:lnTo>
                    <a:pt x="9027" y="8107"/>
                  </a:lnTo>
                  <a:lnTo>
                    <a:pt x="9027" y="8223"/>
                  </a:lnTo>
                  <a:lnTo>
                    <a:pt x="8911" y="8339"/>
                  </a:lnTo>
                  <a:lnTo>
                    <a:pt x="8911" y="8454"/>
                  </a:lnTo>
                  <a:lnTo>
                    <a:pt x="8911" y="8570"/>
                  </a:lnTo>
                  <a:lnTo>
                    <a:pt x="8796" y="8686"/>
                  </a:lnTo>
                  <a:lnTo>
                    <a:pt x="8796" y="8802"/>
                  </a:lnTo>
                  <a:lnTo>
                    <a:pt x="8796" y="8802"/>
                  </a:lnTo>
                  <a:lnTo>
                    <a:pt x="8449" y="8918"/>
                  </a:lnTo>
                  <a:lnTo>
                    <a:pt x="8217" y="9033"/>
                  </a:lnTo>
                  <a:lnTo>
                    <a:pt x="7870" y="8918"/>
                  </a:lnTo>
                  <a:lnTo>
                    <a:pt x="7638" y="8918"/>
                  </a:lnTo>
                  <a:lnTo>
                    <a:pt x="7291" y="8686"/>
                  </a:lnTo>
                  <a:lnTo>
                    <a:pt x="7060" y="8570"/>
                  </a:lnTo>
                  <a:lnTo>
                    <a:pt x="6828" y="8454"/>
                  </a:lnTo>
                  <a:lnTo>
                    <a:pt x="6597" y="8223"/>
                  </a:lnTo>
                  <a:lnTo>
                    <a:pt x="6597" y="8223"/>
                  </a:lnTo>
                  <a:lnTo>
                    <a:pt x="6134" y="8223"/>
                  </a:lnTo>
                  <a:lnTo>
                    <a:pt x="5787" y="8107"/>
                  </a:lnTo>
                  <a:lnTo>
                    <a:pt x="5440" y="7991"/>
                  </a:lnTo>
                  <a:lnTo>
                    <a:pt x="5092" y="7759"/>
                  </a:lnTo>
                  <a:lnTo>
                    <a:pt x="4745" y="7528"/>
                  </a:lnTo>
                  <a:lnTo>
                    <a:pt x="4398" y="7296"/>
                  </a:lnTo>
                  <a:lnTo>
                    <a:pt x="4051" y="7065"/>
                  </a:lnTo>
                  <a:lnTo>
                    <a:pt x="3704" y="6949"/>
                  </a:lnTo>
                  <a:lnTo>
                    <a:pt x="3704" y="6949"/>
                  </a:lnTo>
                  <a:lnTo>
                    <a:pt x="3588" y="6833"/>
                  </a:lnTo>
                  <a:lnTo>
                    <a:pt x="3472" y="6949"/>
                  </a:lnTo>
                  <a:lnTo>
                    <a:pt x="4861" y="8223"/>
                  </a:lnTo>
                  <a:lnTo>
                    <a:pt x="4861" y="8223"/>
                  </a:lnTo>
                  <a:lnTo>
                    <a:pt x="4514" y="8223"/>
                  </a:lnTo>
                  <a:lnTo>
                    <a:pt x="4166" y="8107"/>
                  </a:lnTo>
                  <a:lnTo>
                    <a:pt x="3819" y="7875"/>
                  </a:lnTo>
                  <a:lnTo>
                    <a:pt x="3588" y="7644"/>
                  </a:lnTo>
                  <a:lnTo>
                    <a:pt x="3241" y="7412"/>
                  </a:lnTo>
                  <a:lnTo>
                    <a:pt x="3009" y="7180"/>
                  </a:lnTo>
                  <a:lnTo>
                    <a:pt x="2662" y="7065"/>
                  </a:lnTo>
                  <a:lnTo>
                    <a:pt x="2430" y="6949"/>
                  </a:lnTo>
                  <a:lnTo>
                    <a:pt x="2430" y="6949"/>
                  </a:lnTo>
                  <a:lnTo>
                    <a:pt x="2546" y="7180"/>
                  </a:lnTo>
                  <a:lnTo>
                    <a:pt x="2662" y="7412"/>
                  </a:lnTo>
                  <a:lnTo>
                    <a:pt x="2893" y="7644"/>
                  </a:lnTo>
                  <a:lnTo>
                    <a:pt x="3125" y="7875"/>
                  </a:lnTo>
                  <a:lnTo>
                    <a:pt x="3241" y="7991"/>
                  </a:lnTo>
                  <a:lnTo>
                    <a:pt x="3472" y="8223"/>
                  </a:lnTo>
                  <a:lnTo>
                    <a:pt x="3704" y="8454"/>
                  </a:lnTo>
                  <a:lnTo>
                    <a:pt x="3935" y="8570"/>
                  </a:lnTo>
                  <a:lnTo>
                    <a:pt x="3935" y="8570"/>
                  </a:lnTo>
                  <a:lnTo>
                    <a:pt x="3935" y="8686"/>
                  </a:lnTo>
                  <a:lnTo>
                    <a:pt x="3819" y="8686"/>
                  </a:lnTo>
                  <a:lnTo>
                    <a:pt x="3588" y="8802"/>
                  </a:lnTo>
                  <a:lnTo>
                    <a:pt x="3472" y="8802"/>
                  </a:lnTo>
                  <a:lnTo>
                    <a:pt x="3356" y="8802"/>
                  </a:lnTo>
                  <a:lnTo>
                    <a:pt x="3241" y="8802"/>
                  </a:lnTo>
                  <a:lnTo>
                    <a:pt x="3009" y="8802"/>
                  </a:lnTo>
                  <a:lnTo>
                    <a:pt x="3009" y="8686"/>
                  </a:lnTo>
                  <a:lnTo>
                    <a:pt x="3009" y="8686"/>
                  </a:lnTo>
                  <a:lnTo>
                    <a:pt x="2662" y="8570"/>
                  </a:lnTo>
                  <a:lnTo>
                    <a:pt x="2546" y="8339"/>
                  </a:lnTo>
                  <a:lnTo>
                    <a:pt x="2315" y="8107"/>
                  </a:lnTo>
                  <a:lnTo>
                    <a:pt x="2083" y="7875"/>
                  </a:lnTo>
                  <a:lnTo>
                    <a:pt x="1852" y="7644"/>
                  </a:lnTo>
                  <a:lnTo>
                    <a:pt x="1620" y="7412"/>
                  </a:lnTo>
                  <a:lnTo>
                    <a:pt x="1505" y="7296"/>
                  </a:lnTo>
                  <a:lnTo>
                    <a:pt x="1273" y="7065"/>
                  </a:lnTo>
                  <a:lnTo>
                    <a:pt x="1273" y="7065"/>
                  </a:lnTo>
                  <a:lnTo>
                    <a:pt x="1157" y="7412"/>
                  </a:lnTo>
                  <a:lnTo>
                    <a:pt x="1157" y="7759"/>
                  </a:lnTo>
                  <a:lnTo>
                    <a:pt x="1157" y="8107"/>
                  </a:lnTo>
                  <a:lnTo>
                    <a:pt x="1157" y="8454"/>
                  </a:lnTo>
                  <a:lnTo>
                    <a:pt x="1273" y="8802"/>
                  </a:lnTo>
                  <a:lnTo>
                    <a:pt x="1389" y="9149"/>
                  </a:lnTo>
                  <a:lnTo>
                    <a:pt x="1505" y="9612"/>
                  </a:lnTo>
                  <a:lnTo>
                    <a:pt x="1620" y="9960"/>
                  </a:lnTo>
                  <a:lnTo>
                    <a:pt x="1620" y="9960"/>
                  </a:lnTo>
                  <a:lnTo>
                    <a:pt x="1620" y="10539"/>
                  </a:lnTo>
                  <a:lnTo>
                    <a:pt x="1620" y="10539"/>
                  </a:lnTo>
                  <a:lnTo>
                    <a:pt x="1389" y="10539"/>
                  </a:lnTo>
                  <a:lnTo>
                    <a:pt x="1273" y="10539"/>
                  </a:lnTo>
                  <a:lnTo>
                    <a:pt x="1042" y="10423"/>
                  </a:lnTo>
                  <a:lnTo>
                    <a:pt x="926" y="10423"/>
                  </a:lnTo>
                  <a:lnTo>
                    <a:pt x="810" y="10191"/>
                  </a:lnTo>
                  <a:lnTo>
                    <a:pt x="695" y="10076"/>
                  </a:lnTo>
                  <a:lnTo>
                    <a:pt x="579" y="9960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116" y="9149"/>
                  </a:lnTo>
                  <a:lnTo>
                    <a:pt x="0" y="8570"/>
                  </a:lnTo>
                  <a:lnTo>
                    <a:pt x="116" y="7991"/>
                  </a:lnTo>
                  <a:lnTo>
                    <a:pt x="347" y="7412"/>
                  </a:lnTo>
                  <a:lnTo>
                    <a:pt x="579" y="6833"/>
                  </a:lnTo>
                  <a:lnTo>
                    <a:pt x="810" y="6138"/>
                  </a:lnTo>
                  <a:lnTo>
                    <a:pt x="926" y="5559"/>
                  </a:lnTo>
                  <a:lnTo>
                    <a:pt x="926" y="4864"/>
                  </a:lnTo>
                  <a:lnTo>
                    <a:pt x="926" y="4864"/>
                  </a:lnTo>
                  <a:lnTo>
                    <a:pt x="1157" y="4864"/>
                  </a:lnTo>
                  <a:lnTo>
                    <a:pt x="1389" y="4864"/>
                  </a:lnTo>
                  <a:lnTo>
                    <a:pt x="1620" y="4864"/>
                  </a:lnTo>
                  <a:lnTo>
                    <a:pt x="1852" y="4748"/>
                  </a:lnTo>
                  <a:lnTo>
                    <a:pt x="2083" y="4633"/>
                  </a:lnTo>
                  <a:lnTo>
                    <a:pt x="2315" y="4517"/>
                  </a:lnTo>
                  <a:lnTo>
                    <a:pt x="2546" y="4401"/>
                  </a:lnTo>
                  <a:lnTo>
                    <a:pt x="2662" y="4169"/>
                  </a:lnTo>
                  <a:lnTo>
                    <a:pt x="2662" y="4169"/>
                  </a:lnTo>
                  <a:lnTo>
                    <a:pt x="2778" y="3822"/>
                  </a:lnTo>
                  <a:lnTo>
                    <a:pt x="3009" y="3475"/>
                  </a:lnTo>
                  <a:lnTo>
                    <a:pt x="3125" y="3127"/>
                  </a:lnTo>
                  <a:lnTo>
                    <a:pt x="3241" y="2780"/>
                  </a:lnTo>
                  <a:lnTo>
                    <a:pt x="3241" y="2432"/>
                  </a:lnTo>
                  <a:lnTo>
                    <a:pt x="3241" y="2085"/>
                  </a:lnTo>
                  <a:lnTo>
                    <a:pt x="3125" y="1737"/>
                  </a:lnTo>
                  <a:lnTo>
                    <a:pt x="3009" y="1390"/>
                  </a:lnTo>
                  <a:lnTo>
                    <a:pt x="3009" y="1390"/>
                  </a:lnTo>
                  <a:lnTo>
                    <a:pt x="3125" y="1274"/>
                  </a:lnTo>
                  <a:lnTo>
                    <a:pt x="3241" y="1042"/>
                  </a:lnTo>
                  <a:lnTo>
                    <a:pt x="3472" y="811"/>
                  </a:lnTo>
                  <a:lnTo>
                    <a:pt x="3704" y="695"/>
                  </a:lnTo>
                  <a:lnTo>
                    <a:pt x="3819" y="579"/>
                  </a:lnTo>
                  <a:lnTo>
                    <a:pt x="4051" y="463"/>
                  </a:lnTo>
                  <a:lnTo>
                    <a:pt x="4282" y="463"/>
                  </a:lnTo>
                  <a:lnTo>
                    <a:pt x="4629" y="463"/>
                  </a:lnTo>
                  <a:lnTo>
                    <a:pt x="4629" y="463"/>
                  </a:lnTo>
                  <a:lnTo>
                    <a:pt x="4745" y="579"/>
                  </a:lnTo>
                  <a:lnTo>
                    <a:pt x="4977" y="579"/>
                  </a:lnTo>
                  <a:lnTo>
                    <a:pt x="5092" y="695"/>
                  </a:lnTo>
                  <a:lnTo>
                    <a:pt x="5324" y="811"/>
                  </a:lnTo>
                  <a:lnTo>
                    <a:pt x="5440" y="927"/>
                  </a:lnTo>
                  <a:lnTo>
                    <a:pt x="5555" y="927"/>
                  </a:lnTo>
                  <a:lnTo>
                    <a:pt x="5787" y="927"/>
                  </a:lnTo>
                  <a:lnTo>
                    <a:pt x="6018" y="811"/>
                  </a:lnTo>
                  <a:lnTo>
                    <a:pt x="6018" y="811"/>
                  </a:lnTo>
                  <a:lnTo>
                    <a:pt x="5671" y="463"/>
                  </a:lnTo>
                  <a:lnTo>
                    <a:pt x="5671" y="463"/>
                  </a:lnTo>
                  <a:lnTo>
                    <a:pt x="5902" y="348"/>
                  </a:lnTo>
                  <a:lnTo>
                    <a:pt x="6134" y="232"/>
                  </a:lnTo>
                  <a:lnTo>
                    <a:pt x="6365" y="116"/>
                  </a:lnTo>
                  <a:lnTo>
                    <a:pt x="6597" y="0"/>
                  </a:lnTo>
                  <a:lnTo>
                    <a:pt x="6828" y="0"/>
                  </a:lnTo>
                  <a:lnTo>
                    <a:pt x="6944" y="116"/>
                  </a:lnTo>
                  <a:lnTo>
                    <a:pt x="7060" y="232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847800" y="4250880"/>
              <a:ext cx="103320" cy="173880"/>
            </a:xfrm>
            <a:custGeom>
              <a:avLst/>
              <a:gdLst/>
              <a:ahLst/>
              <a:rect l="l" t="t" r="r" b="b"/>
              <a:pathLst>
                <a:path w="2893" h="3243">
                  <a:moveTo>
                    <a:pt x="2893" y="927"/>
                  </a:moveTo>
                  <a:lnTo>
                    <a:pt x="2893" y="1159"/>
                  </a:lnTo>
                  <a:lnTo>
                    <a:pt x="2893" y="1390"/>
                  </a:lnTo>
                  <a:lnTo>
                    <a:pt x="2893" y="1622"/>
                  </a:lnTo>
                  <a:lnTo>
                    <a:pt x="2893" y="1853"/>
                  </a:lnTo>
                  <a:lnTo>
                    <a:pt x="2777" y="2085"/>
                  </a:lnTo>
                  <a:lnTo>
                    <a:pt x="2661" y="2317"/>
                  </a:lnTo>
                  <a:lnTo>
                    <a:pt x="2546" y="2548"/>
                  </a:lnTo>
                  <a:lnTo>
                    <a:pt x="2430" y="2780"/>
                  </a:lnTo>
                  <a:lnTo>
                    <a:pt x="2430" y="2780"/>
                  </a:lnTo>
                  <a:lnTo>
                    <a:pt x="2314" y="2896"/>
                  </a:lnTo>
                  <a:lnTo>
                    <a:pt x="2199" y="3012"/>
                  </a:lnTo>
                  <a:lnTo>
                    <a:pt x="1967" y="3127"/>
                  </a:lnTo>
                  <a:lnTo>
                    <a:pt x="1851" y="3243"/>
                  </a:lnTo>
                  <a:lnTo>
                    <a:pt x="1620" y="3243"/>
                  </a:lnTo>
                  <a:lnTo>
                    <a:pt x="1388" y="3243"/>
                  </a:lnTo>
                  <a:lnTo>
                    <a:pt x="1157" y="3243"/>
                  </a:lnTo>
                  <a:lnTo>
                    <a:pt x="1041" y="3243"/>
                  </a:lnTo>
                  <a:lnTo>
                    <a:pt x="1041" y="3243"/>
                  </a:lnTo>
                  <a:lnTo>
                    <a:pt x="810" y="3127"/>
                  </a:lnTo>
                  <a:lnTo>
                    <a:pt x="694" y="3127"/>
                  </a:lnTo>
                  <a:lnTo>
                    <a:pt x="463" y="3012"/>
                  </a:lnTo>
                  <a:lnTo>
                    <a:pt x="347" y="2896"/>
                  </a:lnTo>
                  <a:lnTo>
                    <a:pt x="231" y="2664"/>
                  </a:lnTo>
                  <a:lnTo>
                    <a:pt x="231" y="2548"/>
                  </a:lnTo>
                  <a:lnTo>
                    <a:pt x="115" y="2433"/>
                  </a:lnTo>
                  <a:lnTo>
                    <a:pt x="0" y="2201"/>
                  </a:lnTo>
                  <a:lnTo>
                    <a:pt x="0" y="2201"/>
                  </a:lnTo>
                  <a:lnTo>
                    <a:pt x="231" y="2317"/>
                  </a:lnTo>
                  <a:lnTo>
                    <a:pt x="347" y="2317"/>
                  </a:lnTo>
                  <a:lnTo>
                    <a:pt x="578" y="2317"/>
                  </a:lnTo>
                  <a:lnTo>
                    <a:pt x="810" y="2317"/>
                  </a:lnTo>
                  <a:lnTo>
                    <a:pt x="926" y="2317"/>
                  </a:lnTo>
                  <a:lnTo>
                    <a:pt x="1157" y="2201"/>
                  </a:lnTo>
                  <a:lnTo>
                    <a:pt x="1388" y="2201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736" y="1738"/>
                  </a:lnTo>
                  <a:lnTo>
                    <a:pt x="1851" y="1506"/>
                  </a:lnTo>
                  <a:lnTo>
                    <a:pt x="1851" y="1390"/>
                  </a:lnTo>
                  <a:lnTo>
                    <a:pt x="1967" y="1159"/>
                  </a:lnTo>
                  <a:lnTo>
                    <a:pt x="1967" y="1043"/>
                  </a:lnTo>
                  <a:lnTo>
                    <a:pt x="1851" y="811"/>
                  </a:lnTo>
                  <a:lnTo>
                    <a:pt x="1736" y="695"/>
                  </a:lnTo>
                  <a:lnTo>
                    <a:pt x="1736" y="695"/>
                  </a:lnTo>
                  <a:lnTo>
                    <a:pt x="1504" y="232"/>
                  </a:lnTo>
                  <a:lnTo>
                    <a:pt x="1504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116"/>
                  </a:lnTo>
                  <a:lnTo>
                    <a:pt x="2314" y="232"/>
                  </a:lnTo>
                  <a:lnTo>
                    <a:pt x="2546" y="348"/>
                  </a:lnTo>
                  <a:lnTo>
                    <a:pt x="2661" y="580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2027520" y="4257000"/>
              <a:ext cx="74520" cy="173880"/>
            </a:xfrm>
            <a:custGeom>
              <a:avLst/>
              <a:gdLst/>
              <a:ahLst/>
              <a:rect l="l" t="t" r="r" b="b"/>
              <a:pathLst>
                <a:path w="2084" h="3243">
                  <a:moveTo>
                    <a:pt x="2084" y="464"/>
                  </a:moveTo>
                  <a:lnTo>
                    <a:pt x="2084" y="811"/>
                  </a:lnTo>
                  <a:lnTo>
                    <a:pt x="2084" y="1043"/>
                  </a:lnTo>
                  <a:lnTo>
                    <a:pt x="1968" y="1274"/>
                  </a:lnTo>
                  <a:lnTo>
                    <a:pt x="1852" y="1622"/>
                  </a:lnTo>
                  <a:lnTo>
                    <a:pt x="1736" y="1853"/>
                  </a:lnTo>
                  <a:lnTo>
                    <a:pt x="1621" y="2085"/>
                  </a:lnTo>
                  <a:lnTo>
                    <a:pt x="1505" y="2317"/>
                  </a:lnTo>
                  <a:lnTo>
                    <a:pt x="1389" y="2548"/>
                  </a:lnTo>
                  <a:lnTo>
                    <a:pt x="1389" y="2548"/>
                  </a:lnTo>
                  <a:lnTo>
                    <a:pt x="1158" y="2664"/>
                  </a:lnTo>
                  <a:lnTo>
                    <a:pt x="1042" y="2780"/>
                  </a:lnTo>
                  <a:lnTo>
                    <a:pt x="926" y="2896"/>
                  </a:lnTo>
                  <a:lnTo>
                    <a:pt x="695" y="3011"/>
                  </a:lnTo>
                  <a:lnTo>
                    <a:pt x="579" y="3127"/>
                  </a:lnTo>
                  <a:lnTo>
                    <a:pt x="463" y="3243"/>
                  </a:lnTo>
                  <a:lnTo>
                    <a:pt x="232" y="3243"/>
                  </a:lnTo>
                  <a:lnTo>
                    <a:pt x="0" y="3243"/>
                  </a:lnTo>
                  <a:lnTo>
                    <a:pt x="0" y="3243"/>
                  </a:lnTo>
                  <a:lnTo>
                    <a:pt x="116" y="2896"/>
                  </a:lnTo>
                  <a:lnTo>
                    <a:pt x="116" y="2548"/>
                  </a:lnTo>
                  <a:lnTo>
                    <a:pt x="232" y="2317"/>
                  </a:lnTo>
                  <a:lnTo>
                    <a:pt x="348" y="1969"/>
                  </a:lnTo>
                  <a:lnTo>
                    <a:pt x="348" y="1622"/>
                  </a:lnTo>
                  <a:lnTo>
                    <a:pt x="348" y="1274"/>
                  </a:lnTo>
                  <a:lnTo>
                    <a:pt x="348" y="927"/>
                  </a:lnTo>
                  <a:lnTo>
                    <a:pt x="232" y="579"/>
                  </a:lnTo>
                  <a:lnTo>
                    <a:pt x="232" y="579"/>
                  </a:lnTo>
                  <a:lnTo>
                    <a:pt x="348" y="232"/>
                  </a:lnTo>
                  <a:lnTo>
                    <a:pt x="463" y="116"/>
                  </a:lnTo>
                  <a:lnTo>
                    <a:pt x="695" y="0"/>
                  </a:lnTo>
                  <a:lnTo>
                    <a:pt x="1042" y="0"/>
                  </a:lnTo>
                  <a:lnTo>
                    <a:pt x="1273" y="116"/>
                  </a:lnTo>
                  <a:lnTo>
                    <a:pt x="1621" y="232"/>
                  </a:lnTo>
                  <a:lnTo>
                    <a:pt x="1852" y="348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2089440" y="4269600"/>
              <a:ext cx="119880" cy="142920"/>
            </a:xfrm>
            <a:custGeom>
              <a:avLst/>
              <a:gdLst/>
              <a:ahLst/>
              <a:rect l="l" t="t" r="r" b="b"/>
              <a:pathLst>
                <a:path w="3357" h="2664">
                  <a:moveTo>
                    <a:pt x="3357" y="347"/>
                  </a:moveTo>
                  <a:lnTo>
                    <a:pt x="3125" y="811"/>
                  </a:lnTo>
                  <a:lnTo>
                    <a:pt x="2894" y="1158"/>
                  </a:lnTo>
                  <a:lnTo>
                    <a:pt x="2546" y="1505"/>
                  </a:lnTo>
                  <a:lnTo>
                    <a:pt x="2199" y="1853"/>
                  </a:lnTo>
                  <a:lnTo>
                    <a:pt x="1852" y="2200"/>
                  </a:lnTo>
                  <a:lnTo>
                    <a:pt x="1505" y="2432"/>
                  </a:lnTo>
                  <a:lnTo>
                    <a:pt x="1042" y="2548"/>
                  </a:lnTo>
                  <a:lnTo>
                    <a:pt x="695" y="2664"/>
                  </a:lnTo>
                  <a:lnTo>
                    <a:pt x="695" y="2664"/>
                  </a:lnTo>
                  <a:lnTo>
                    <a:pt x="0" y="2548"/>
                  </a:lnTo>
                  <a:lnTo>
                    <a:pt x="0" y="2548"/>
                  </a:lnTo>
                  <a:lnTo>
                    <a:pt x="348" y="2200"/>
                  </a:lnTo>
                  <a:lnTo>
                    <a:pt x="463" y="1853"/>
                  </a:lnTo>
                  <a:lnTo>
                    <a:pt x="695" y="1505"/>
                  </a:lnTo>
                  <a:lnTo>
                    <a:pt x="810" y="1158"/>
                  </a:lnTo>
                  <a:lnTo>
                    <a:pt x="926" y="811"/>
                  </a:lnTo>
                  <a:lnTo>
                    <a:pt x="1158" y="579"/>
                  </a:lnTo>
                  <a:lnTo>
                    <a:pt x="1505" y="232"/>
                  </a:lnTo>
                  <a:lnTo>
                    <a:pt x="1852" y="116"/>
                  </a:lnTo>
                  <a:lnTo>
                    <a:pt x="1852" y="116"/>
                  </a:lnTo>
                  <a:lnTo>
                    <a:pt x="2083" y="0"/>
                  </a:lnTo>
                  <a:lnTo>
                    <a:pt x="2315" y="0"/>
                  </a:lnTo>
                  <a:lnTo>
                    <a:pt x="2431" y="0"/>
                  </a:lnTo>
                  <a:lnTo>
                    <a:pt x="2662" y="0"/>
                  </a:lnTo>
                  <a:lnTo>
                    <a:pt x="2778" y="116"/>
                  </a:lnTo>
                  <a:lnTo>
                    <a:pt x="3009" y="116"/>
                  </a:lnTo>
                  <a:lnTo>
                    <a:pt x="3125" y="232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1923840" y="4287960"/>
              <a:ext cx="99000" cy="186480"/>
            </a:xfrm>
            <a:custGeom>
              <a:avLst/>
              <a:gdLst/>
              <a:ahLst/>
              <a:rect l="l" t="t" r="r" b="b"/>
              <a:pathLst>
                <a:path w="2778" h="3475">
                  <a:moveTo>
                    <a:pt x="2778" y="1158"/>
                  </a:moveTo>
                  <a:lnTo>
                    <a:pt x="2662" y="1506"/>
                  </a:lnTo>
                  <a:lnTo>
                    <a:pt x="2662" y="1738"/>
                  </a:lnTo>
                  <a:lnTo>
                    <a:pt x="2546" y="2085"/>
                  </a:lnTo>
                  <a:lnTo>
                    <a:pt x="2430" y="2317"/>
                  </a:lnTo>
                  <a:lnTo>
                    <a:pt x="2430" y="2664"/>
                  </a:lnTo>
                  <a:lnTo>
                    <a:pt x="2199" y="2896"/>
                  </a:lnTo>
                  <a:lnTo>
                    <a:pt x="2083" y="3127"/>
                  </a:lnTo>
                  <a:lnTo>
                    <a:pt x="1736" y="3243"/>
                  </a:lnTo>
                  <a:lnTo>
                    <a:pt x="1736" y="3243"/>
                  </a:lnTo>
                  <a:lnTo>
                    <a:pt x="1620" y="3359"/>
                  </a:lnTo>
                  <a:lnTo>
                    <a:pt x="1505" y="3359"/>
                  </a:lnTo>
                  <a:lnTo>
                    <a:pt x="1273" y="3359"/>
                  </a:lnTo>
                  <a:lnTo>
                    <a:pt x="1157" y="3475"/>
                  </a:lnTo>
                  <a:lnTo>
                    <a:pt x="1042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579" y="3359"/>
                  </a:lnTo>
                  <a:lnTo>
                    <a:pt x="579" y="3359"/>
                  </a:lnTo>
                  <a:lnTo>
                    <a:pt x="347" y="3127"/>
                  </a:lnTo>
                  <a:lnTo>
                    <a:pt x="231" y="2896"/>
                  </a:lnTo>
                  <a:lnTo>
                    <a:pt x="231" y="2664"/>
                  </a:lnTo>
                  <a:lnTo>
                    <a:pt x="116" y="2432"/>
                  </a:lnTo>
                  <a:lnTo>
                    <a:pt x="116" y="2201"/>
                  </a:lnTo>
                  <a:lnTo>
                    <a:pt x="116" y="1969"/>
                  </a:lnTo>
                  <a:lnTo>
                    <a:pt x="0" y="1738"/>
                  </a:lnTo>
                  <a:lnTo>
                    <a:pt x="0" y="1506"/>
                  </a:lnTo>
                  <a:lnTo>
                    <a:pt x="0" y="1506"/>
                  </a:lnTo>
                  <a:lnTo>
                    <a:pt x="926" y="1274"/>
                  </a:lnTo>
                  <a:lnTo>
                    <a:pt x="926" y="1274"/>
                  </a:lnTo>
                  <a:lnTo>
                    <a:pt x="926" y="1390"/>
                  </a:lnTo>
                  <a:lnTo>
                    <a:pt x="926" y="1506"/>
                  </a:lnTo>
                  <a:lnTo>
                    <a:pt x="926" y="1622"/>
                  </a:lnTo>
                  <a:lnTo>
                    <a:pt x="926" y="1738"/>
                  </a:lnTo>
                  <a:lnTo>
                    <a:pt x="926" y="1853"/>
                  </a:lnTo>
                  <a:lnTo>
                    <a:pt x="926" y="1853"/>
                  </a:lnTo>
                  <a:lnTo>
                    <a:pt x="926" y="1969"/>
                  </a:lnTo>
                  <a:lnTo>
                    <a:pt x="1042" y="2085"/>
                  </a:lnTo>
                  <a:lnTo>
                    <a:pt x="1042" y="2085"/>
                  </a:lnTo>
                  <a:lnTo>
                    <a:pt x="1157" y="1738"/>
                  </a:lnTo>
                  <a:lnTo>
                    <a:pt x="1273" y="1390"/>
                  </a:lnTo>
                  <a:lnTo>
                    <a:pt x="1389" y="1158"/>
                  </a:lnTo>
                  <a:lnTo>
                    <a:pt x="1620" y="927"/>
                  </a:lnTo>
                  <a:lnTo>
                    <a:pt x="1852" y="579"/>
                  </a:lnTo>
                  <a:lnTo>
                    <a:pt x="2083" y="348"/>
                  </a:lnTo>
                  <a:lnTo>
                    <a:pt x="2315" y="232"/>
                  </a:lnTo>
                  <a:lnTo>
                    <a:pt x="2546" y="0"/>
                  </a:lnTo>
                  <a:lnTo>
                    <a:pt x="2546" y="0"/>
                  </a:lnTo>
                  <a:lnTo>
                    <a:pt x="2662" y="116"/>
                  </a:lnTo>
                  <a:lnTo>
                    <a:pt x="2778" y="232"/>
                  </a:lnTo>
                  <a:lnTo>
                    <a:pt x="2778" y="348"/>
                  </a:lnTo>
                  <a:lnTo>
                    <a:pt x="2778" y="579"/>
                  </a:lnTo>
                  <a:lnTo>
                    <a:pt x="2778" y="695"/>
                  </a:lnTo>
                  <a:lnTo>
                    <a:pt x="2778" y="927"/>
                  </a:lnTo>
                  <a:lnTo>
                    <a:pt x="2778" y="1043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1141560" y="4319280"/>
              <a:ext cx="827640" cy="254880"/>
            </a:xfrm>
            <a:custGeom>
              <a:avLst/>
              <a:gdLst/>
              <a:ahLst/>
              <a:rect l="l" t="t" r="r" b="b"/>
              <a:pathLst>
                <a:path w="23146" h="4749">
                  <a:moveTo>
                    <a:pt x="23146" y="0"/>
                  </a:moveTo>
                  <a:lnTo>
                    <a:pt x="22336" y="232"/>
                  </a:lnTo>
                  <a:lnTo>
                    <a:pt x="21526" y="464"/>
                  </a:lnTo>
                  <a:lnTo>
                    <a:pt x="20600" y="695"/>
                  </a:lnTo>
                  <a:lnTo>
                    <a:pt x="19790" y="1043"/>
                  </a:lnTo>
                  <a:lnTo>
                    <a:pt x="18980" y="1274"/>
                  </a:lnTo>
                  <a:lnTo>
                    <a:pt x="18054" y="1390"/>
                  </a:lnTo>
                  <a:lnTo>
                    <a:pt x="17128" y="1622"/>
                  </a:lnTo>
                  <a:lnTo>
                    <a:pt x="16318" y="1738"/>
                  </a:lnTo>
                  <a:lnTo>
                    <a:pt x="16318" y="1738"/>
                  </a:lnTo>
                  <a:lnTo>
                    <a:pt x="4397" y="4054"/>
                  </a:lnTo>
                  <a:lnTo>
                    <a:pt x="810" y="4749"/>
                  </a:lnTo>
                  <a:lnTo>
                    <a:pt x="0" y="4401"/>
                  </a:lnTo>
                  <a:lnTo>
                    <a:pt x="0" y="4401"/>
                  </a:lnTo>
                  <a:lnTo>
                    <a:pt x="2314" y="3938"/>
                  </a:lnTo>
                  <a:lnTo>
                    <a:pt x="4629" y="3591"/>
                  </a:lnTo>
                  <a:lnTo>
                    <a:pt x="6944" y="3127"/>
                  </a:lnTo>
                  <a:lnTo>
                    <a:pt x="9258" y="2664"/>
                  </a:lnTo>
                  <a:lnTo>
                    <a:pt x="11573" y="2201"/>
                  </a:lnTo>
                  <a:lnTo>
                    <a:pt x="13888" y="1738"/>
                  </a:lnTo>
                  <a:lnTo>
                    <a:pt x="16202" y="1274"/>
                  </a:lnTo>
                  <a:lnTo>
                    <a:pt x="18633" y="927"/>
                  </a:lnTo>
                  <a:lnTo>
                    <a:pt x="18633" y="927"/>
                  </a:lnTo>
                  <a:lnTo>
                    <a:pt x="19211" y="811"/>
                  </a:lnTo>
                  <a:lnTo>
                    <a:pt x="19674" y="695"/>
                  </a:lnTo>
                  <a:lnTo>
                    <a:pt x="20253" y="695"/>
                  </a:lnTo>
                  <a:lnTo>
                    <a:pt x="20831" y="579"/>
                  </a:lnTo>
                  <a:lnTo>
                    <a:pt x="21410" y="464"/>
                  </a:lnTo>
                  <a:lnTo>
                    <a:pt x="21989" y="348"/>
                  </a:lnTo>
                  <a:lnTo>
                    <a:pt x="22567" y="116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756720" y="4356360"/>
              <a:ext cx="74160" cy="335520"/>
            </a:xfrm>
            <a:custGeom>
              <a:avLst/>
              <a:gdLst/>
              <a:ahLst/>
              <a:rect l="l" t="t" r="r" b="b"/>
              <a:pathLst>
                <a:path w="2083" h="6254">
                  <a:moveTo>
                    <a:pt x="1620" y="0"/>
                  </a:moveTo>
                  <a:lnTo>
                    <a:pt x="1273" y="695"/>
                  </a:lnTo>
                  <a:lnTo>
                    <a:pt x="1041" y="1506"/>
                  </a:lnTo>
                  <a:lnTo>
                    <a:pt x="925" y="2316"/>
                  </a:lnTo>
                  <a:lnTo>
                    <a:pt x="925" y="3127"/>
                  </a:lnTo>
                  <a:lnTo>
                    <a:pt x="1041" y="3822"/>
                  </a:lnTo>
                  <a:lnTo>
                    <a:pt x="1273" y="4633"/>
                  </a:lnTo>
                  <a:lnTo>
                    <a:pt x="1620" y="5328"/>
                  </a:lnTo>
                  <a:lnTo>
                    <a:pt x="2083" y="5907"/>
                  </a:lnTo>
                  <a:lnTo>
                    <a:pt x="2083" y="5907"/>
                  </a:lnTo>
                  <a:lnTo>
                    <a:pt x="2083" y="6254"/>
                  </a:lnTo>
                  <a:lnTo>
                    <a:pt x="2083" y="6254"/>
                  </a:lnTo>
                  <a:lnTo>
                    <a:pt x="1851" y="6254"/>
                  </a:lnTo>
                  <a:lnTo>
                    <a:pt x="1736" y="6254"/>
                  </a:lnTo>
                  <a:lnTo>
                    <a:pt x="1504" y="6254"/>
                  </a:lnTo>
                  <a:lnTo>
                    <a:pt x="1388" y="6138"/>
                  </a:lnTo>
                  <a:lnTo>
                    <a:pt x="1273" y="6022"/>
                  </a:lnTo>
                  <a:lnTo>
                    <a:pt x="1041" y="5907"/>
                  </a:lnTo>
                  <a:lnTo>
                    <a:pt x="925" y="5907"/>
                  </a:lnTo>
                  <a:lnTo>
                    <a:pt x="810" y="5791"/>
                  </a:lnTo>
                  <a:lnTo>
                    <a:pt x="810" y="5791"/>
                  </a:lnTo>
                  <a:lnTo>
                    <a:pt x="462" y="5212"/>
                  </a:lnTo>
                  <a:lnTo>
                    <a:pt x="231" y="4748"/>
                  </a:lnTo>
                  <a:lnTo>
                    <a:pt x="0" y="4169"/>
                  </a:lnTo>
                  <a:lnTo>
                    <a:pt x="0" y="3475"/>
                  </a:lnTo>
                  <a:lnTo>
                    <a:pt x="0" y="2896"/>
                  </a:lnTo>
                  <a:lnTo>
                    <a:pt x="0" y="2201"/>
                  </a:lnTo>
                  <a:lnTo>
                    <a:pt x="115" y="1622"/>
                  </a:lnTo>
                  <a:lnTo>
                    <a:pt x="231" y="1043"/>
                  </a:lnTo>
                  <a:lnTo>
                    <a:pt x="231" y="1043"/>
                  </a:lnTo>
                  <a:lnTo>
                    <a:pt x="347" y="927"/>
                  </a:lnTo>
                  <a:lnTo>
                    <a:pt x="462" y="695"/>
                  </a:lnTo>
                  <a:lnTo>
                    <a:pt x="694" y="579"/>
                  </a:lnTo>
                  <a:lnTo>
                    <a:pt x="810" y="348"/>
                  </a:lnTo>
                  <a:lnTo>
                    <a:pt x="925" y="232"/>
                  </a:lnTo>
                  <a:lnTo>
                    <a:pt x="1157" y="116"/>
                  </a:lnTo>
                  <a:lnTo>
                    <a:pt x="1388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810720" y="4375080"/>
              <a:ext cx="37080" cy="279720"/>
            </a:xfrm>
            <a:custGeom>
              <a:avLst/>
              <a:gdLst/>
              <a:ahLst/>
              <a:rect l="l" t="t" r="r" b="b"/>
              <a:pathLst>
                <a:path w="1042" h="5211">
                  <a:moveTo>
                    <a:pt x="694" y="1968"/>
                  </a:moveTo>
                  <a:lnTo>
                    <a:pt x="1042" y="3706"/>
                  </a:lnTo>
                  <a:lnTo>
                    <a:pt x="810" y="5211"/>
                  </a:lnTo>
                  <a:lnTo>
                    <a:pt x="810" y="5211"/>
                  </a:lnTo>
                  <a:lnTo>
                    <a:pt x="463" y="4632"/>
                  </a:lnTo>
                  <a:lnTo>
                    <a:pt x="232" y="3937"/>
                  </a:lnTo>
                  <a:lnTo>
                    <a:pt x="0" y="3358"/>
                  </a:lnTo>
                  <a:lnTo>
                    <a:pt x="0" y="2663"/>
                  </a:lnTo>
                  <a:lnTo>
                    <a:pt x="0" y="1968"/>
                  </a:lnTo>
                  <a:lnTo>
                    <a:pt x="0" y="1274"/>
                  </a:lnTo>
                  <a:lnTo>
                    <a:pt x="232" y="579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694" y="231"/>
                  </a:lnTo>
                  <a:lnTo>
                    <a:pt x="810" y="463"/>
                  </a:lnTo>
                  <a:lnTo>
                    <a:pt x="810" y="695"/>
                  </a:lnTo>
                  <a:lnTo>
                    <a:pt x="810" y="926"/>
                  </a:lnTo>
                  <a:lnTo>
                    <a:pt x="694" y="1158"/>
                  </a:lnTo>
                  <a:lnTo>
                    <a:pt x="694" y="1505"/>
                  </a:lnTo>
                  <a:lnTo>
                    <a:pt x="579" y="1737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1878480" y="4381560"/>
              <a:ext cx="32760" cy="55800"/>
            </a:xfrm>
            <a:custGeom>
              <a:avLst/>
              <a:gdLst/>
              <a:ahLst/>
              <a:rect l="l" t="t" r="r" b="b"/>
              <a:pathLst>
                <a:path w="926" h="1042">
                  <a:moveTo>
                    <a:pt x="926" y="926"/>
                  </a:moveTo>
                  <a:lnTo>
                    <a:pt x="926" y="1042"/>
                  </a:lnTo>
                  <a:lnTo>
                    <a:pt x="926" y="1042"/>
                  </a:lnTo>
                  <a:lnTo>
                    <a:pt x="810" y="1042"/>
                  </a:lnTo>
                  <a:lnTo>
                    <a:pt x="694" y="1042"/>
                  </a:lnTo>
                  <a:lnTo>
                    <a:pt x="579" y="1042"/>
                  </a:lnTo>
                  <a:lnTo>
                    <a:pt x="463" y="926"/>
                  </a:lnTo>
                  <a:lnTo>
                    <a:pt x="347" y="926"/>
                  </a:lnTo>
                  <a:lnTo>
                    <a:pt x="231" y="810"/>
                  </a:lnTo>
                  <a:lnTo>
                    <a:pt x="116" y="694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579" y="0"/>
                  </a:lnTo>
                  <a:lnTo>
                    <a:pt x="694" y="115"/>
                  </a:lnTo>
                  <a:lnTo>
                    <a:pt x="810" y="115"/>
                  </a:lnTo>
                  <a:lnTo>
                    <a:pt x="810" y="347"/>
                  </a:lnTo>
                  <a:lnTo>
                    <a:pt x="810" y="463"/>
                  </a:lnTo>
                  <a:lnTo>
                    <a:pt x="926" y="579"/>
                  </a:lnTo>
                  <a:lnTo>
                    <a:pt x="926" y="810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562320" y="4393800"/>
              <a:ext cx="227520" cy="391680"/>
            </a:xfrm>
            <a:custGeom>
              <a:avLst/>
              <a:gdLst/>
              <a:ahLst/>
              <a:rect l="l" t="t" r="r" b="b"/>
              <a:pathLst>
                <a:path w="6365" h="7296">
                  <a:moveTo>
                    <a:pt x="6365" y="5791"/>
                  </a:moveTo>
                  <a:lnTo>
                    <a:pt x="5671" y="6022"/>
                  </a:lnTo>
                  <a:lnTo>
                    <a:pt x="4977" y="6370"/>
                  </a:lnTo>
                  <a:lnTo>
                    <a:pt x="4282" y="6717"/>
                  </a:lnTo>
                  <a:lnTo>
                    <a:pt x="3588" y="7065"/>
                  </a:lnTo>
                  <a:lnTo>
                    <a:pt x="2778" y="7296"/>
                  </a:lnTo>
                  <a:lnTo>
                    <a:pt x="2083" y="7296"/>
                  </a:lnTo>
                  <a:lnTo>
                    <a:pt x="1389" y="6949"/>
                  </a:lnTo>
                  <a:lnTo>
                    <a:pt x="810" y="6370"/>
                  </a:lnTo>
                  <a:lnTo>
                    <a:pt x="810" y="6370"/>
                  </a:lnTo>
                  <a:lnTo>
                    <a:pt x="463" y="5906"/>
                  </a:lnTo>
                  <a:lnTo>
                    <a:pt x="116" y="5327"/>
                  </a:lnTo>
                  <a:lnTo>
                    <a:pt x="0" y="4748"/>
                  </a:lnTo>
                  <a:lnTo>
                    <a:pt x="0" y="4169"/>
                  </a:lnTo>
                  <a:lnTo>
                    <a:pt x="0" y="3590"/>
                  </a:lnTo>
                  <a:lnTo>
                    <a:pt x="0" y="3011"/>
                  </a:lnTo>
                  <a:lnTo>
                    <a:pt x="116" y="2432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695" y="1274"/>
                  </a:lnTo>
                  <a:lnTo>
                    <a:pt x="1157" y="811"/>
                  </a:lnTo>
                  <a:lnTo>
                    <a:pt x="1736" y="579"/>
                  </a:lnTo>
                  <a:lnTo>
                    <a:pt x="2431" y="463"/>
                  </a:lnTo>
                  <a:lnTo>
                    <a:pt x="3125" y="348"/>
                  </a:lnTo>
                  <a:lnTo>
                    <a:pt x="3935" y="232"/>
                  </a:lnTo>
                  <a:lnTo>
                    <a:pt x="4629" y="232"/>
                  </a:lnTo>
                  <a:lnTo>
                    <a:pt x="5208" y="0"/>
                  </a:lnTo>
                  <a:lnTo>
                    <a:pt x="5208" y="0"/>
                  </a:lnTo>
                  <a:lnTo>
                    <a:pt x="5092" y="811"/>
                  </a:lnTo>
                  <a:lnTo>
                    <a:pt x="4977" y="1506"/>
                  </a:lnTo>
                  <a:lnTo>
                    <a:pt x="4977" y="2316"/>
                  </a:lnTo>
                  <a:lnTo>
                    <a:pt x="4977" y="3127"/>
                  </a:lnTo>
                  <a:lnTo>
                    <a:pt x="5092" y="3938"/>
                  </a:lnTo>
                  <a:lnTo>
                    <a:pt x="5324" y="4633"/>
                  </a:lnTo>
                  <a:lnTo>
                    <a:pt x="5787" y="5327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close/>
                </a:path>
              </a:pathLst>
            </a:custGeom>
            <a:solidFill>
              <a:srgbClr val="ff3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1026000" y="4399920"/>
              <a:ext cx="835920" cy="857880"/>
            </a:xfrm>
            <a:custGeom>
              <a:avLst/>
              <a:gdLst/>
              <a:ahLst/>
              <a:rect l="l" t="t" r="r" b="b"/>
              <a:pathLst>
                <a:path w="23378" h="15982">
                  <a:moveTo>
                    <a:pt x="23378" y="6949"/>
                  </a:moveTo>
                  <a:lnTo>
                    <a:pt x="23031" y="7180"/>
                  </a:lnTo>
                  <a:lnTo>
                    <a:pt x="22568" y="7412"/>
                  </a:lnTo>
                  <a:lnTo>
                    <a:pt x="22221" y="7528"/>
                  </a:lnTo>
                  <a:lnTo>
                    <a:pt x="21758" y="7528"/>
                  </a:lnTo>
                  <a:lnTo>
                    <a:pt x="21295" y="7643"/>
                  </a:lnTo>
                  <a:lnTo>
                    <a:pt x="20832" y="7643"/>
                  </a:lnTo>
                  <a:lnTo>
                    <a:pt x="20369" y="7759"/>
                  </a:lnTo>
                  <a:lnTo>
                    <a:pt x="19906" y="7875"/>
                  </a:lnTo>
                  <a:lnTo>
                    <a:pt x="19906" y="7875"/>
                  </a:lnTo>
                  <a:lnTo>
                    <a:pt x="16203" y="9033"/>
                  </a:lnTo>
                  <a:lnTo>
                    <a:pt x="2778" y="15055"/>
                  </a:lnTo>
                  <a:lnTo>
                    <a:pt x="2778" y="15055"/>
                  </a:lnTo>
                  <a:lnTo>
                    <a:pt x="2546" y="15171"/>
                  </a:lnTo>
                  <a:lnTo>
                    <a:pt x="2199" y="15403"/>
                  </a:lnTo>
                  <a:lnTo>
                    <a:pt x="1852" y="15518"/>
                  </a:lnTo>
                  <a:lnTo>
                    <a:pt x="1505" y="15750"/>
                  </a:lnTo>
                  <a:lnTo>
                    <a:pt x="1157" y="15866"/>
                  </a:lnTo>
                  <a:lnTo>
                    <a:pt x="810" y="15982"/>
                  </a:lnTo>
                  <a:lnTo>
                    <a:pt x="463" y="15982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0" y="14592"/>
                  </a:lnTo>
                  <a:lnTo>
                    <a:pt x="116" y="13202"/>
                  </a:lnTo>
                  <a:lnTo>
                    <a:pt x="116" y="11813"/>
                  </a:lnTo>
                  <a:lnTo>
                    <a:pt x="232" y="10423"/>
                  </a:lnTo>
                  <a:lnTo>
                    <a:pt x="347" y="8917"/>
                  </a:lnTo>
                  <a:lnTo>
                    <a:pt x="347" y="7528"/>
                  </a:lnTo>
                  <a:lnTo>
                    <a:pt x="463" y="6138"/>
                  </a:lnTo>
                  <a:lnTo>
                    <a:pt x="579" y="4748"/>
                  </a:lnTo>
                  <a:lnTo>
                    <a:pt x="579" y="4748"/>
                  </a:lnTo>
                  <a:lnTo>
                    <a:pt x="1157" y="4748"/>
                  </a:lnTo>
                  <a:lnTo>
                    <a:pt x="1620" y="4980"/>
                  </a:lnTo>
                  <a:lnTo>
                    <a:pt x="2083" y="5211"/>
                  </a:lnTo>
                  <a:lnTo>
                    <a:pt x="2546" y="5559"/>
                  </a:lnTo>
                  <a:lnTo>
                    <a:pt x="3009" y="5790"/>
                  </a:lnTo>
                  <a:lnTo>
                    <a:pt x="3472" y="5790"/>
                  </a:lnTo>
                  <a:lnTo>
                    <a:pt x="3935" y="5675"/>
                  </a:lnTo>
                  <a:lnTo>
                    <a:pt x="4514" y="5327"/>
                  </a:lnTo>
                  <a:lnTo>
                    <a:pt x="4514" y="5327"/>
                  </a:lnTo>
                  <a:lnTo>
                    <a:pt x="4514" y="5211"/>
                  </a:lnTo>
                  <a:lnTo>
                    <a:pt x="4629" y="5096"/>
                  </a:lnTo>
                  <a:lnTo>
                    <a:pt x="4629" y="4980"/>
                  </a:lnTo>
                  <a:lnTo>
                    <a:pt x="4745" y="4980"/>
                  </a:lnTo>
                  <a:lnTo>
                    <a:pt x="4745" y="4864"/>
                  </a:lnTo>
                  <a:lnTo>
                    <a:pt x="4745" y="4748"/>
                  </a:lnTo>
                  <a:lnTo>
                    <a:pt x="4861" y="4632"/>
                  </a:lnTo>
                  <a:lnTo>
                    <a:pt x="4861" y="4517"/>
                  </a:lnTo>
                  <a:lnTo>
                    <a:pt x="4861" y="4517"/>
                  </a:lnTo>
                  <a:lnTo>
                    <a:pt x="4861" y="4401"/>
                  </a:lnTo>
                  <a:lnTo>
                    <a:pt x="4745" y="4285"/>
                  </a:lnTo>
                  <a:lnTo>
                    <a:pt x="4745" y="4169"/>
                  </a:lnTo>
                  <a:lnTo>
                    <a:pt x="4745" y="4053"/>
                  </a:lnTo>
                  <a:lnTo>
                    <a:pt x="4745" y="3937"/>
                  </a:lnTo>
                  <a:lnTo>
                    <a:pt x="4629" y="3822"/>
                  </a:lnTo>
                  <a:lnTo>
                    <a:pt x="4629" y="3706"/>
                  </a:lnTo>
                  <a:lnTo>
                    <a:pt x="4514" y="3706"/>
                  </a:lnTo>
                  <a:lnTo>
                    <a:pt x="4514" y="3706"/>
                  </a:lnTo>
                  <a:lnTo>
                    <a:pt x="6828" y="3127"/>
                  </a:lnTo>
                  <a:lnTo>
                    <a:pt x="9143" y="2664"/>
                  </a:lnTo>
                  <a:lnTo>
                    <a:pt x="11458" y="2316"/>
                  </a:lnTo>
                  <a:lnTo>
                    <a:pt x="13772" y="1853"/>
                  </a:lnTo>
                  <a:lnTo>
                    <a:pt x="15971" y="1390"/>
                  </a:lnTo>
                  <a:lnTo>
                    <a:pt x="18286" y="1042"/>
                  </a:lnTo>
                  <a:lnTo>
                    <a:pt x="20600" y="579"/>
                  </a:lnTo>
                  <a:lnTo>
                    <a:pt x="22799" y="0"/>
                  </a:lnTo>
                  <a:lnTo>
                    <a:pt x="22799" y="0"/>
                  </a:lnTo>
                  <a:lnTo>
                    <a:pt x="22799" y="926"/>
                  </a:lnTo>
                  <a:lnTo>
                    <a:pt x="22799" y="1737"/>
                  </a:lnTo>
                  <a:lnTo>
                    <a:pt x="22799" y="2664"/>
                  </a:lnTo>
                  <a:lnTo>
                    <a:pt x="22799" y="3590"/>
                  </a:lnTo>
                  <a:lnTo>
                    <a:pt x="22915" y="4401"/>
                  </a:lnTo>
                  <a:lnTo>
                    <a:pt x="23031" y="5327"/>
                  </a:lnTo>
                  <a:lnTo>
                    <a:pt x="23147" y="6138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852120" y="4437360"/>
              <a:ext cx="20520" cy="111600"/>
            </a:xfrm>
            <a:custGeom>
              <a:avLst/>
              <a:gdLst/>
              <a:ahLst/>
              <a:rect l="l" t="t" r="r" b="b"/>
              <a:pathLst>
                <a:path w="579" h="2084">
                  <a:moveTo>
                    <a:pt x="579" y="695"/>
                  </a:moveTo>
                  <a:lnTo>
                    <a:pt x="116" y="2084"/>
                  </a:lnTo>
                  <a:lnTo>
                    <a:pt x="116" y="2084"/>
                  </a:lnTo>
                  <a:lnTo>
                    <a:pt x="0" y="1853"/>
                  </a:lnTo>
                  <a:lnTo>
                    <a:pt x="0" y="1621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0" y="810"/>
                  </a:lnTo>
                  <a:lnTo>
                    <a:pt x="0" y="579"/>
                  </a:lnTo>
                  <a:lnTo>
                    <a:pt x="0" y="231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232" y="0"/>
                  </a:lnTo>
                  <a:lnTo>
                    <a:pt x="348" y="116"/>
                  </a:lnTo>
                  <a:lnTo>
                    <a:pt x="348" y="116"/>
                  </a:lnTo>
                  <a:lnTo>
                    <a:pt x="463" y="231"/>
                  </a:lnTo>
                  <a:lnTo>
                    <a:pt x="463" y="347"/>
                  </a:lnTo>
                  <a:lnTo>
                    <a:pt x="463" y="463"/>
                  </a:lnTo>
                  <a:lnTo>
                    <a:pt x="463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587160" y="4654800"/>
              <a:ext cx="144720" cy="105480"/>
            </a:xfrm>
            <a:custGeom>
              <a:avLst/>
              <a:gdLst/>
              <a:ahLst/>
              <a:rect l="l" t="t" r="r" b="b"/>
              <a:pathLst>
                <a:path w="4050" h="1969">
                  <a:moveTo>
                    <a:pt x="1157" y="1274"/>
                  </a:moveTo>
                  <a:lnTo>
                    <a:pt x="1157" y="1158"/>
                  </a:lnTo>
                  <a:lnTo>
                    <a:pt x="1157" y="1042"/>
                  </a:lnTo>
                  <a:lnTo>
                    <a:pt x="1041" y="1042"/>
                  </a:lnTo>
                  <a:lnTo>
                    <a:pt x="1041" y="927"/>
                  </a:lnTo>
                  <a:lnTo>
                    <a:pt x="1041" y="811"/>
                  </a:lnTo>
                  <a:lnTo>
                    <a:pt x="925" y="695"/>
                  </a:lnTo>
                  <a:lnTo>
                    <a:pt x="925" y="579"/>
                  </a:lnTo>
                  <a:lnTo>
                    <a:pt x="925" y="463"/>
                  </a:lnTo>
                  <a:lnTo>
                    <a:pt x="925" y="463"/>
                  </a:lnTo>
                  <a:lnTo>
                    <a:pt x="1157" y="463"/>
                  </a:lnTo>
                  <a:lnTo>
                    <a:pt x="1273" y="579"/>
                  </a:lnTo>
                  <a:lnTo>
                    <a:pt x="1388" y="695"/>
                  </a:lnTo>
                  <a:lnTo>
                    <a:pt x="1504" y="927"/>
                  </a:lnTo>
                  <a:lnTo>
                    <a:pt x="1620" y="1042"/>
                  </a:lnTo>
                  <a:lnTo>
                    <a:pt x="1620" y="1158"/>
                  </a:lnTo>
                  <a:lnTo>
                    <a:pt x="1851" y="1274"/>
                  </a:lnTo>
                  <a:lnTo>
                    <a:pt x="1967" y="1390"/>
                  </a:lnTo>
                  <a:lnTo>
                    <a:pt x="1967" y="1390"/>
                  </a:lnTo>
                  <a:lnTo>
                    <a:pt x="1851" y="1274"/>
                  </a:lnTo>
                  <a:lnTo>
                    <a:pt x="1851" y="1158"/>
                  </a:lnTo>
                  <a:lnTo>
                    <a:pt x="1851" y="1042"/>
                  </a:lnTo>
                  <a:lnTo>
                    <a:pt x="1736" y="927"/>
                  </a:lnTo>
                  <a:lnTo>
                    <a:pt x="1736" y="811"/>
                  </a:lnTo>
                  <a:lnTo>
                    <a:pt x="1736" y="695"/>
                  </a:lnTo>
                  <a:lnTo>
                    <a:pt x="1620" y="579"/>
                  </a:lnTo>
                  <a:lnTo>
                    <a:pt x="1620" y="463"/>
                  </a:lnTo>
                  <a:lnTo>
                    <a:pt x="1620" y="463"/>
                  </a:lnTo>
                  <a:lnTo>
                    <a:pt x="1851" y="463"/>
                  </a:lnTo>
                  <a:lnTo>
                    <a:pt x="1967" y="579"/>
                  </a:lnTo>
                  <a:lnTo>
                    <a:pt x="2083" y="811"/>
                  </a:lnTo>
                  <a:lnTo>
                    <a:pt x="2083" y="927"/>
                  </a:lnTo>
                  <a:lnTo>
                    <a:pt x="2198" y="1158"/>
                  </a:lnTo>
                  <a:lnTo>
                    <a:pt x="2314" y="1274"/>
                  </a:lnTo>
                  <a:lnTo>
                    <a:pt x="2546" y="1274"/>
                  </a:lnTo>
                  <a:lnTo>
                    <a:pt x="2777" y="1274"/>
                  </a:lnTo>
                  <a:lnTo>
                    <a:pt x="2777" y="1274"/>
                  </a:lnTo>
                  <a:lnTo>
                    <a:pt x="2661" y="1158"/>
                  </a:lnTo>
                  <a:lnTo>
                    <a:pt x="2661" y="1042"/>
                  </a:lnTo>
                  <a:lnTo>
                    <a:pt x="2661" y="1042"/>
                  </a:lnTo>
                  <a:lnTo>
                    <a:pt x="2546" y="927"/>
                  </a:lnTo>
                  <a:lnTo>
                    <a:pt x="2546" y="811"/>
                  </a:lnTo>
                  <a:lnTo>
                    <a:pt x="2430" y="695"/>
                  </a:lnTo>
                  <a:lnTo>
                    <a:pt x="2430" y="695"/>
                  </a:lnTo>
                  <a:lnTo>
                    <a:pt x="2430" y="579"/>
                  </a:lnTo>
                  <a:lnTo>
                    <a:pt x="2430" y="579"/>
                  </a:lnTo>
                  <a:lnTo>
                    <a:pt x="2546" y="579"/>
                  </a:lnTo>
                  <a:lnTo>
                    <a:pt x="2777" y="695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3009" y="1042"/>
                  </a:lnTo>
                  <a:lnTo>
                    <a:pt x="3124" y="1158"/>
                  </a:lnTo>
                  <a:lnTo>
                    <a:pt x="3356" y="1158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356" y="927"/>
                  </a:lnTo>
                  <a:lnTo>
                    <a:pt x="3240" y="811"/>
                  </a:lnTo>
                  <a:lnTo>
                    <a:pt x="3124" y="695"/>
                  </a:lnTo>
                  <a:lnTo>
                    <a:pt x="3009" y="579"/>
                  </a:lnTo>
                  <a:lnTo>
                    <a:pt x="3009" y="463"/>
                  </a:lnTo>
                  <a:lnTo>
                    <a:pt x="3009" y="348"/>
                  </a:lnTo>
                  <a:lnTo>
                    <a:pt x="3009" y="232"/>
                  </a:lnTo>
                  <a:lnTo>
                    <a:pt x="3009" y="232"/>
                  </a:lnTo>
                  <a:lnTo>
                    <a:pt x="3124" y="348"/>
                  </a:lnTo>
                  <a:lnTo>
                    <a:pt x="3240" y="348"/>
                  </a:lnTo>
                  <a:lnTo>
                    <a:pt x="3356" y="463"/>
                  </a:lnTo>
                  <a:lnTo>
                    <a:pt x="3471" y="579"/>
                  </a:lnTo>
                  <a:lnTo>
                    <a:pt x="3587" y="695"/>
                  </a:lnTo>
                  <a:lnTo>
                    <a:pt x="3819" y="811"/>
                  </a:lnTo>
                  <a:lnTo>
                    <a:pt x="3934" y="811"/>
                  </a:lnTo>
                  <a:lnTo>
                    <a:pt x="4050" y="927"/>
                  </a:lnTo>
                  <a:lnTo>
                    <a:pt x="4050" y="927"/>
                  </a:lnTo>
                  <a:lnTo>
                    <a:pt x="3934" y="1042"/>
                  </a:lnTo>
                  <a:lnTo>
                    <a:pt x="3819" y="1042"/>
                  </a:lnTo>
                  <a:lnTo>
                    <a:pt x="3703" y="1158"/>
                  </a:lnTo>
                  <a:lnTo>
                    <a:pt x="3587" y="1158"/>
                  </a:lnTo>
                  <a:lnTo>
                    <a:pt x="3471" y="1158"/>
                  </a:lnTo>
                  <a:lnTo>
                    <a:pt x="3356" y="1158"/>
                  </a:lnTo>
                  <a:lnTo>
                    <a:pt x="3356" y="1274"/>
                  </a:lnTo>
                  <a:lnTo>
                    <a:pt x="3471" y="1390"/>
                  </a:lnTo>
                  <a:lnTo>
                    <a:pt x="3471" y="1390"/>
                  </a:lnTo>
                  <a:lnTo>
                    <a:pt x="3009" y="1506"/>
                  </a:lnTo>
                  <a:lnTo>
                    <a:pt x="3009" y="1506"/>
                  </a:lnTo>
                  <a:lnTo>
                    <a:pt x="2893" y="1621"/>
                  </a:lnTo>
                  <a:lnTo>
                    <a:pt x="2777" y="1737"/>
                  </a:lnTo>
                  <a:lnTo>
                    <a:pt x="2661" y="1737"/>
                  </a:lnTo>
                  <a:lnTo>
                    <a:pt x="2546" y="1853"/>
                  </a:lnTo>
                  <a:lnTo>
                    <a:pt x="2314" y="1853"/>
                  </a:lnTo>
                  <a:lnTo>
                    <a:pt x="2198" y="1853"/>
                  </a:lnTo>
                  <a:lnTo>
                    <a:pt x="1967" y="1969"/>
                  </a:lnTo>
                  <a:lnTo>
                    <a:pt x="1851" y="1969"/>
                  </a:lnTo>
                  <a:lnTo>
                    <a:pt x="1851" y="1969"/>
                  </a:lnTo>
                  <a:lnTo>
                    <a:pt x="1736" y="1969"/>
                  </a:lnTo>
                  <a:lnTo>
                    <a:pt x="1504" y="1969"/>
                  </a:lnTo>
                  <a:lnTo>
                    <a:pt x="1273" y="1853"/>
                  </a:lnTo>
                  <a:lnTo>
                    <a:pt x="1157" y="1737"/>
                  </a:lnTo>
                  <a:lnTo>
                    <a:pt x="925" y="1621"/>
                  </a:lnTo>
                  <a:lnTo>
                    <a:pt x="810" y="1506"/>
                  </a:lnTo>
                  <a:lnTo>
                    <a:pt x="694" y="1390"/>
                  </a:lnTo>
                  <a:lnTo>
                    <a:pt x="462" y="1274"/>
                  </a:lnTo>
                  <a:lnTo>
                    <a:pt x="462" y="1274"/>
                  </a:lnTo>
                  <a:lnTo>
                    <a:pt x="347" y="1158"/>
                  </a:lnTo>
                  <a:lnTo>
                    <a:pt x="231" y="927"/>
                  </a:lnTo>
                  <a:lnTo>
                    <a:pt x="231" y="811"/>
                  </a:lnTo>
                  <a:lnTo>
                    <a:pt x="115" y="579"/>
                  </a:lnTo>
                  <a:lnTo>
                    <a:pt x="0" y="463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5" y="116"/>
                  </a:lnTo>
                  <a:lnTo>
                    <a:pt x="231" y="348"/>
                  </a:lnTo>
                  <a:lnTo>
                    <a:pt x="347" y="463"/>
                  </a:lnTo>
                  <a:lnTo>
                    <a:pt x="462" y="695"/>
                  </a:lnTo>
                  <a:lnTo>
                    <a:pt x="578" y="811"/>
                  </a:lnTo>
                  <a:lnTo>
                    <a:pt x="810" y="1042"/>
                  </a:lnTo>
                  <a:lnTo>
                    <a:pt x="925" y="1158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719640" y="4654800"/>
              <a:ext cx="37080" cy="43200"/>
            </a:xfrm>
            <a:custGeom>
              <a:avLst/>
              <a:gdLst/>
              <a:ahLst/>
              <a:rect l="l" t="t" r="r" b="b"/>
              <a:pathLst>
                <a:path w="1042" h="811">
                  <a:moveTo>
                    <a:pt x="1042" y="811"/>
                  </a:moveTo>
                  <a:lnTo>
                    <a:pt x="926" y="811"/>
                  </a:lnTo>
                  <a:lnTo>
                    <a:pt x="810" y="811"/>
                  </a:lnTo>
                  <a:lnTo>
                    <a:pt x="694" y="811"/>
                  </a:lnTo>
                  <a:lnTo>
                    <a:pt x="579" y="811"/>
                  </a:lnTo>
                  <a:lnTo>
                    <a:pt x="463" y="695"/>
                  </a:lnTo>
                  <a:lnTo>
                    <a:pt x="347" y="695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231" y="232"/>
                  </a:lnTo>
                  <a:lnTo>
                    <a:pt x="463" y="348"/>
                  </a:lnTo>
                  <a:lnTo>
                    <a:pt x="694" y="348"/>
                  </a:lnTo>
                  <a:lnTo>
                    <a:pt x="810" y="348"/>
                  </a:lnTo>
                  <a:lnTo>
                    <a:pt x="926" y="463"/>
                  </a:lnTo>
                  <a:lnTo>
                    <a:pt x="1042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984600" y="4661280"/>
              <a:ext cx="45360" cy="553320"/>
            </a:xfrm>
            <a:custGeom>
              <a:avLst/>
              <a:gdLst/>
              <a:ahLst/>
              <a:rect l="l" t="t" r="r" b="b"/>
              <a:pathLst>
                <a:path w="1273" h="10307">
                  <a:moveTo>
                    <a:pt x="1273" y="116"/>
                  </a:moveTo>
                  <a:lnTo>
                    <a:pt x="1273" y="1274"/>
                  </a:lnTo>
                  <a:lnTo>
                    <a:pt x="1157" y="2548"/>
                  </a:lnTo>
                  <a:lnTo>
                    <a:pt x="1157" y="3706"/>
                  </a:lnTo>
                  <a:lnTo>
                    <a:pt x="1041" y="4980"/>
                  </a:lnTo>
                  <a:lnTo>
                    <a:pt x="926" y="6254"/>
                  </a:lnTo>
                  <a:lnTo>
                    <a:pt x="810" y="7528"/>
                  </a:lnTo>
                  <a:lnTo>
                    <a:pt x="694" y="8917"/>
                  </a:lnTo>
                  <a:lnTo>
                    <a:pt x="694" y="10191"/>
                  </a:lnTo>
                  <a:lnTo>
                    <a:pt x="694" y="10191"/>
                  </a:lnTo>
                  <a:lnTo>
                    <a:pt x="578" y="10191"/>
                  </a:lnTo>
                  <a:lnTo>
                    <a:pt x="463" y="10191"/>
                  </a:lnTo>
                  <a:lnTo>
                    <a:pt x="347" y="10191"/>
                  </a:lnTo>
                  <a:lnTo>
                    <a:pt x="347" y="10307"/>
                  </a:lnTo>
                  <a:lnTo>
                    <a:pt x="231" y="10307"/>
                  </a:lnTo>
                  <a:lnTo>
                    <a:pt x="116" y="10307"/>
                  </a:lnTo>
                  <a:lnTo>
                    <a:pt x="116" y="10307"/>
                  </a:lnTo>
                  <a:lnTo>
                    <a:pt x="0" y="10307"/>
                  </a:lnTo>
                  <a:lnTo>
                    <a:pt x="0" y="10307"/>
                  </a:lnTo>
                  <a:lnTo>
                    <a:pt x="0" y="9033"/>
                  </a:lnTo>
                  <a:lnTo>
                    <a:pt x="116" y="7759"/>
                  </a:lnTo>
                  <a:lnTo>
                    <a:pt x="231" y="6485"/>
                  </a:lnTo>
                  <a:lnTo>
                    <a:pt x="347" y="5211"/>
                  </a:lnTo>
                  <a:lnTo>
                    <a:pt x="463" y="4053"/>
                  </a:lnTo>
                  <a:lnTo>
                    <a:pt x="578" y="2779"/>
                  </a:lnTo>
                  <a:lnTo>
                    <a:pt x="694" y="1505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1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959760" y="4679640"/>
              <a:ext cx="45360" cy="528480"/>
            </a:xfrm>
            <a:custGeom>
              <a:avLst/>
              <a:gdLst/>
              <a:ahLst/>
              <a:rect l="l" t="t" r="r" b="b"/>
              <a:pathLst>
                <a:path w="1273" h="9844">
                  <a:moveTo>
                    <a:pt x="1273" y="0"/>
                  </a:moveTo>
                  <a:lnTo>
                    <a:pt x="1042" y="1158"/>
                  </a:lnTo>
                  <a:lnTo>
                    <a:pt x="926" y="2432"/>
                  </a:lnTo>
                  <a:lnTo>
                    <a:pt x="811" y="3590"/>
                  </a:lnTo>
                  <a:lnTo>
                    <a:pt x="695" y="4864"/>
                  </a:lnTo>
                  <a:lnTo>
                    <a:pt x="579" y="6138"/>
                  </a:lnTo>
                  <a:lnTo>
                    <a:pt x="463" y="7412"/>
                  </a:lnTo>
                  <a:lnTo>
                    <a:pt x="463" y="8570"/>
                  </a:lnTo>
                  <a:lnTo>
                    <a:pt x="348" y="9844"/>
                  </a:lnTo>
                  <a:lnTo>
                    <a:pt x="348" y="9844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348" y="9844"/>
                  </a:lnTo>
                  <a:lnTo>
                    <a:pt x="348" y="9728"/>
                  </a:lnTo>
                  <a:lnTo>
                    <a:pt x="232" y="9728"/>
                  </a:lnTo>
                  <a:lnTo>
                    <a:pt x="116" y="9728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8570"/>
                  </a:lnTo>
                  <a:lnTo>
                    <a:pt x="116" y="7412"/>
                  </a:lnTo>
                  <a:lnTo>
                    <a:pt x="116" y="6254"/>
                  </a:lnTo>
                  <a:lnTo>
                    <a:pt x="232" y="4980"/>
                  </a:lnTo>
                  <a:lnTo>
                    <a:pt x="348" y="3822"/>
                  </a:lnTo>
                  <a:lnTo>
                    <a:pt x="463" y="2548"/>
                  </a:lnTo>
                  <a:lnTo>
                    <a:pt x="579" y="1390"/>
                  </a:lnTo>
                  <a:lnTo>
                    <a:pt x="811" y="232"/>
                  </a:lnTo>
                  <a:lnTo>
                    <a:pt x="811" y="232"/>
                  </a:lnTo>
                  <a:lnTo>
                    <a:pt x="926" y="232"/>
                  </a:lnTo>
                  <a:lnTo>
                    <a:pt x="926" y="116"/>
                  </a:lnTo>
                  <a:lnTo>
                    <a:pt x="1042" y="116"/>
                  </a:lnTo>
                  <a:lnTo>
                    <a:pt x="1042" y="116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926640" y="4698360"/>
              <a:ext cx="45360" cy="472320"/>
            </a:xfrm>
            <a:custGeom>
              <a:avLst/>
              <a:gdLst/>
              <a:ahLst/>
              <a:rect l="l" t="t" r="r" b="b"/>
              <a:pathLst>
                <a:path w="1273" h="8801">
                  <a:moveTo>
                    <a:pt x="578" y="8801"/>
                  </a:moveTo>
                  <a:lnTo>
                    <a:pt x="462" y="8801"/>
                  </a:lnTo>
                  <a:lnTo>
                    <a:pt x="462" y="8801"/>
                  </a:lnTo>
                  <a:lnTo>
                    <a:pt x="347" y="8801"/>
                  </a:lnTo>
                  <a:lnTo>
                    <a:pt x="231" y="8801"/>
                  </a:lnTo>
                  <a:lnTo>
                    <a:pt x="231" y="8801"/>
                  </a:lnTo>
                  <a:lnTo>
                    <a:pt x="115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115" y="7643"/>
                  </a:lnTo>
                  <a:lnTo>
                    <a:pt x="231" y="6485"/>
                  </a:lnTo>
                  <a:lnTo>
                    <a:pt x="347" y="5443"/>
                  </a:lnTo>
                  <a:lnTo>
                    <a:pt x="462" y="4285"/>
                  </a:lnTo>
                  <a:lnTo>
                    <a:pt x="694" y="3127"/>
                  </a:lnTo>
                  <a:lnTo>
                    <a:pt x="925" y="2084"/>
                  </a:lnTo>
                  <a:lnTo>
                    <a:pt x="1041" y="1042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157" y="1042"/>
                  </a:lnTo>
                  <a:lnTo>
                    <a:pt x="1041" y="2200"/>
                  </a:lnTo>
                  <a:lnTo>
                    <a:pt x="925" y="3242"/>
                  </a:lnTo>
                  <a:lnTo>
                    <a:pt x="810" y="4401"/>
                  </a:lnTo>
                  <a:lnTo>
                    <a:pt x="810" y="5443"/>
                  </a:lnTo>
                  <a:lnTo>
                    <a:pt x="694" y="6485"/>
                  </a:lnTo>
                  <a:lnTo>
                    <a:pt x="694" y="7643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1642320" y="4860000"/>
              <a:ext cx="264600" cy="945000"/>
            </a:xfrm>
            <a:custGeom>
              <a:avLst/>
              <a:gdLst/>
              <a:ahLst/>
              <a:rect l="l" t="t" r="r" b="b"/>
              <a:pathLst>
                <a:path w="7407" h="17603">
                  <a:moveTo>
                    <a:pt x="3356" y="0"/>
                  </a:moveTo>
                  <a:lnTo>
                    <a:pt x="3588" y="463"/>
                  </a:lnTo>
                  <a:lnTo>
                    <a:pt x="3935" y="1042"/>
                  </a:lnTo>
                  <a:lnTo>
                    <a:pt x="4282" y="1505"/>
                  </a:lnTo>
                  <a:lnTo>
                    <a:pt x="4630" y="1969"/>
                  </a:lnTo>
                  <a:lnTo>
                    <a:pt x="4861" y="2432"/>
                  </a:lnTo>
                  <a:lnTo>
                    <a:pt x="5208" y="2895"/>
                  </a:lnTo>
                  <a:lnTo>
                    <a:pt x="5440" y="3358"/>
                  </a:lnTo>
                  <a:lnTo>
                    <a:pt x="5555" y="3937"/>
                  </a:lnTo>
                  <a:lnTo>
                    <a:pt x="5555" y="3937"/>
                  </a:lnTo>
                  <a:lnTo>
                    <a:pt x="5555" y="4632"/>
                  </a:lnTo>
                  <a:lnTo>
                    <a:pt x="5324" y="5443"/>
                  </a:lnTo>
                  <a:lnTo>
                    <a:pt x="5208" y="6254"/>
                  </a:lnTo>
                  <a:lnTo>
                    <a:pt x="4977" y="7064"/>
                  </a:lnTo>
                  <a:lnTo>
                    <a:pt x="4861" y="7875"/>
                  </a:lnTo>
                  <a:lnTo>
                    <a:pt x="4745" y="8686"/>
                  </a:lnTo>
                  <a:lnTo>
                    <a:pt x="4630" y="9496"/>
                  </a:lnTo>
                  <a:lnTo>
                    <a:pt x="4514" y="10307"/>
                  </a:lnTo>
                  <a:lnTo>
                    <a:pt x="4514" y="10307"/>
                  </a:lnTo>
                  <a:lnTo>
                    <a:pt x="4630" y="10654"/>
                  </a:lnTo>
                  <a:lnTo>
                    <a:pt x="4861" y="10886"/>
                  </a:lnTo>
                  <a:lnTo>
                    <a:pt x="5092" y="11118"/>
                  </a:lnTo>
                  <a:lnTo>
                    <a:pt x="5208" y="11349"/>
                  </a:lnTo>
                  <a:lnTo>
                    <a:pt x="5440" y="11697"/>
                  </a:lnTo>
                  <a:lnTo>
                    <a:pt x="5555" y="11928"/>
                  </a:lnTo>
                  <a:lnTo>
                    <a:pt x="5787" y="12160"/>
                  </a:lnTo>
                  <a:lnTo>
                    <a:pt x="5903" y="12507"/>
                  </a:lnTo>
                  <a:lnTo>
                    <a:pt x="5903" y="12507"/>
                  </a:lnTo>
                  <a:lnTo>
                    <a:pt x="5440" y="12507"/>
                  </a:lnTo>
                  <a:lnTo>
                    <a:pt x="5208" y="12623"/>
                  </a:lnTo>
                  <a:lnTo>
                    <a:pt x="4861" y="12739"/>
                  </a:lnTo>
                  <a:lnTo>
                    <a:pt x="4514" y="12739"/>
                  </a:lnTo>
                  <a:lnTo>
                    <a:pt x="4167" y="12855"/>
                  </a:lnTo>
                  <a:lnTo>
                    <a:pt x="3935" y="13086"/>
                  </a:lnTo>
                  <a:lnTo>
                    <a:pt x="3588" y="13202"/>
                  </a:lnTo>
                  <a:lnTo>
                    <a:pt x="3356" y="13434"/>
                  </a:lnTo>
                  <a:lnTo>
                    <a:pt x="3356" y="13434"/>
                  </a:lnTo>
                  <a:lnTo>
                    <a:pt x="3704" y="13318"/>
                  </a:lnTo>
                  <a:lnTo>
                    <a:pt x="4051" y="13318"/>
                  </a:lnTo>
                  <a:lnTo>
                    <a:pt x="4398" y="13202"/>
                  </a:lnTo>
                  <a:lnTo>
                    <a:pt x="4745" y="13086"/>
                  </a:lnTo>
                  <a:lnTo>
                    <a:pt x="5092" y="13086"/>
                  </a:lnTo>
                  <a:lnTo>
                    <a:pt x="5440" y="12971"/>
                  </a:lnTo>
                  <a:lnTo>
                    <a:pt x="5787" y="12971"/>
                  </a:lnTo>
                  <a:lnTo>
                    <a:pt x="6134" y="12971"/>
                  </a:lnTo>
                  <a:lnTo>
                    <a:pt x="6134" y="12971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250" y="13086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318"/>
                  </a:lnTo>
                  <a:lnTo>
                    <a:pt x="6250" y="13318"/>
                  </a:lnTo>
                  <a:lnTo>
                    <a:pt x="5903" y="13318"/>
                  </a:lnTo>
                  <a:lnTo>
                    <a:pt x="5555" y="13318"/>
                  </a:lnTo>
                  <a:lnTo>
                    <a:pt x="5324" y="13434"/>
                  </a:lnTo>
                  <a:lnTo>
                    <a:pt x="5092" y="13550"/>
                  </a:lnTo>
                  <a:lnTo>
                    <a:pt x="4745" y="13781"/>
                  </a:lnTo>
                  <a:lnTo>
                    <a:pt x="4514" y="13897"/>
                  </a:lnTo>
                  <a:lnTo>
                    <a:pt x="4282" y="14129"/>
                  </a:lnTo>
                  <a:lnTo>
                    <a:pt x="4051" y="14244"/>
                  </a:lnTo>
                  <a:lnTo>
                    <a:pt x="4051" y="14244"/>
                  </a:lnTo>
                  <a:lnTo>
                    <a:pt x="4167" y="14244"/>
                  </a:lnTo>
                  <a:lnTo>
                    <a:pt x="4282" y="14244"/>
                  </a:lnTo>
                  <a:lnTo>
                    <a:pt x="4514" y="14244"/>
                  </a:lnTo>
                  <a:lnTo>
                    <a:pt x="4630" y="14129"/>
                  </a:lnTo>
                  <a:lnTo>
                    <a:pt x="4745" y="14013"/>
                  </a:lnTo>
                  <a:lnTo>
                    <a:pt x="4861" y="14013"/>
                  </a:lnTo>
                  <a:lnTo>
                    <a:pt x="5092" y="14013"/>
                  </a:lnTo>
                  <a:lnTo>
                    <a:pt x="5208" y="13897"/>
                  </a:lnTo>
                  <a:lnTo>
                    <a:pt x="5208" y="13897"/>
                  </a:lnTo>
                  <a:lnTo>
                    <a:pt x="5440" y="13897"/>
                  </a:lnTo>
                  <a:lnTo>
                    <a:pt x="5555" y="13897"/>
                  </a:lnTo>
                  <a:lnTo>
                    <a:pt x="5787" y="13897"/>
                  </a:lnTo>
                  <a:lnTo>
                    <a:pt x="6018" y="13781"/>
                  </a:lnTo>
                  <a:lnTo>
                    <a:pt x="6134" y="13781"/>
                  </a:lnTo>
                  <a:lnTo>
                    <a:pt x="6366" y="13781"/>
                  </a:lnTo>
                  <a:lnTo>
                    <a:pt x="6481" y="13781"/>
                  </a:lnTo>
                  <a:lnTo>
                    <a:pt x="6713" y="13781"/>
                  </a:lnTo>
                  <a:lnTo>
                    <a:pt x="6713" y="13781"/>
                  </a:lnTo>
                  <a:lnTo>
                    <a:pt x="6828" y="14244"/>
                  </a:lnTo>
                  <a:lnTo>
                    <a:pt x="7060" y="14592"/>
                  </a:lnTo>
                  <a:lnTo>
                    <a:pt x="7176" y="15055"/>
                  </a:lnTo>
                  <a:lnTo>
                    <a:pt x="7291" y="15518"/>
                  </a:lnTo>
                  <a:lnTo>
                    <a:pt x="7407" y="15982"/>
                  </a:lnTo>
                  <a:lnTo>
                    <a:pt x="7407" y="16329"/>
                  </a:lnTo>
                  <a:lnTo>
                    <a:pt x="7407" y="16792"/>
                  </a:lnTo>
                  <a:lnTo>
                    <a:pt x="7176" y="17255"/>
                  </a:lnTo>
                  <a:lnTo>
                    <a:pt x="7176" y="17255"/>
                  </a:lnTo>
                  <a:lnTo>
                    <a:pt x="6713" y="17371"/>
                  </a:lnTo>
                  <a:lnTo>
                    <a:pt x="6250" y="17487"/>
                  </a:lnTo>
                  <a:lnTo>
                    <a:pt x="5671" y="17603"/>
                  </a:lnTo>
                  <a:lnTo>
                    <a:pt x="5208" y="17487"/>
                  </a:lnTo>
                  <a:lnTo>
                    <a:pt x="4745" y="17371"/>
                  </a:lnTo>
                  <a:lnTo>
                    <a:pt x="4167" y="17255"/>
                  </a:lnTo>
                  <a:lnTo>
                    <a:pt x="3704" y="17024"/>
                  </a:lnTo>
                  <a:lnTo>
                    <a:pt x="3356" y="16792"/>
                  </a:lnTo>
                  <a:lnTo>
                    <a:pt x="3356" y="16792"/>
                  </a:lnTo>
                  <a:lnTo>
                    <a:pt x="2894" y="16329"/>
                  </a:lnTo>
                  <a:lnTo>
                    <a:pt x="2662" y="15634"/>
                  </a:lnTo>
                  <a:lnTo>
                    <a:pt x="2431" y="15055"/>
                  </a:lnTo>
                  <a:lnTo>
                    <a:pt x="2199" y="14360"/>
                  </a:lnTo>
                  <a:lnTo>
                    <a:pt x="1968" y="13665"/>
                  </a:lnTo>
                  <a:lnTo>
                    <a:pt x="1620" y="13202"/>
                  </a:lnTo>
                  <a:lnTo>
                    <a:pt x="1158" y="12855"/>
                  </a:lnTo>
                  <a:lnTo>
                    <a:pt x="463" y="12623"/>
                  </a:lnTo>
                  <a:lnTo>
                    <a:pt x="463" y="12623"/>
                  </a:lnTo>
                  <a:lnTo>
                    <a:pt x="232" y="12507"/>
                  </a:lnTo>
                  <a:lnTo>
                    <a:pt x="232" y="12391"/>
                  </a:lnTo>
                  <a:lnTo>
                    <a:pt x="116" y="12276"/>
                  </a:lnTo>
                  <a:lnTo>
                    <a:pt x="0" y="12044"/>
                  </a:lnTo>
                  <a:lnTo>
                    <a:pt x="0" y="11928"/>
                  </a:lnTo>
                  <a:lnTo>
                    <a:pt x="0" y="11812"/>
                  </a:lnTo>
                  <a:lnTo>
                    <a:pt x="0" y="11581"/>
                  </a:lnTo>
                  <a:lnTo>
                    <a:pt x="116" y="11465"/>
                  </a:lnTo>
                  <a:lnTo>
                    <a:pt x="116" y="11465"/>
                  </a:lnTo>
                  <a:lnTo>
                    <a:pt x="347" y="11118"/>
                  </a:lnTo>
                  <a:lnTo>
                    <a:pt x="579" y="10770"/>
                  </a:lnTo>
                  <a:lnTo>
                    <a:pt x="926" y="10539"/>
                  </a:lnTo>
                  <a:lnTo>
                    <a:pt x="1273" y="10307"/>
                  </a:lnTo>
                  <a:lnTo>
                    <a:pt x="1620" y="10075"/>
                  </a:lnTo>
                  <a:lnTo>
                    <a:pt x="1968" y="9844"/>
                  </a:lnTo>
                  <a:lnTo>
                    <a:pt x="2199" y="9612"/>
                  </a:lnTo>
                  <a:lnTo>
                    <a:pt x="2431" y="9265"/>
                  </a:lnTo>
                  <a:lnTo>
                    <a:pt x="2431" y="9265"/>
                  </a:lnTo>
                  <a:lnTo>
                    <a:pt x="2546" y="8570"/>
                  </a:lnTo>
                  <a:lnTo>
                    <a:pt x="2662" y="7991"/>
                  </a:lnTo>
                  <a:lnTo>
                    <a:pt x="2778" y="7412"/>
                  </a:lnTo>
                  <a:lnTo>
                    <a:pt x="2894" y="6833"/>
                  </a:lnTo>
                  <a:lnTo>
                    <a:pt x="3009" y="6254"/>
                  </a:lnTo>
                  <a:lnTo>
                    <a:pt x="3125" y="5675"/>
                  </a:lnTo>
                  <a:lnTo>
                    <a:pt x="3241" y="5095"/>
                  </a:lnTo>
                  <a:lnTo>
                    <a:pt x="3241" y="4516"/>
                  </a:lnTo>
                  <a:lnTo>
                    <a:pt x="3241" y="4516"/>
                  </a:lnTo>
                  <a:lnTo>
                    <a:pt x="3125" y="4053"/>
                  </a:lnTo>
                  <a:lnTo>
                    <a:pt x="3009" y="3706"/>
                  </a:lnTo>
                  <a:lnTo>
                    <a:pt x="2778" y="3243"/>
                  </a:lnTo>
                  <a:lnTo>
                    <a:pt x="2546" y="2895"/>
                  </a:lnTo>
                  <a:lnTo>
                    <a:pt x="2315" y="2548"/>
                  </a:lnTo>
                  <a:lnTo>
                    <a:pt x="2083" y="2200"/>
                  </a:lnTo>
                  <a:lnTo>
                    <a:pt x="1736" y="1853"/>
                  </a:lnTo>
                  <a:lnTo>
                    <a:pt x="1505" y="1505"/>
                  </a:lnTo>
                  <a:lnTo>
                    <a:pt x="1505" y="1505"/>
                  </a:lnTo>
                  <a:lnTo>
                    <a:pt x="1389" y="1390"/>
                  </a:lnTo>
                  <a:lnTo>
                    <a:pt x="1273" y="1274"/>
                  </a:lnTo>
                  <a:lnTo>
                    <a:pt x="1273" y="1158"/>
                  </a:lnTo>
                  <a:lnTo>
                    <a:pt x="1273" y="1042"/>
                  </a:lnTo>
                  <a:lnTo>
                    <a:pt x="1389" y="926"/>
                  </a:lnTo>
                  <a:lnTo>
                    <a:pt x="1389" y="811"/>
                  </a:lnTo>
                  <a:lnTo>
                    <a:pt x="1505" y="811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852" y="463"/>
                  </a:lnTo>
                  <a:lnTo>
                    <a:pt x="1852" y="463"/>
                  </a:lnTo>
                  <a:lnTo>
                    <a:pt x="1852" y="579"/>
                  </a:lnTo>
                  <a:lnTo>
                    <a:pt x="1736" y="695"/>
                  </a:lnTo>
                  <a:lnTo>
                    <a:pt x="1620" y="811"/>
                  </a:lnTo>
                  <a:lnTo>
                    <a:pt x="1505" y="926"/>
                  </a:lnTo>
                  <a:lnTo>
                    <a:pt x="1505" y="1042"/>
                  </a:lnTo>
                  <a:lnTo>
                    <a:pt x="1505" y="1158"/>
                  </a:lnTo>
                  <a:lnTo>
                    <a:pt x="1505" y="1274"/>
                  </a:lnTo>
                  <a:lnTo>
                    <a:pt x="1852" y="1274"/>
                  </a:lnTo>
                  <a:lnTo>
                    <a:pt x="1852" y="1274"/>
                  </a:lnTo>
                  <a:lnTo>
                    <a:pt x="1968" y="1158"/>
                  </a:lnTo>
                  <a:lnTo>
                    <a:pt x="2083" y="926"/>
                  </a:lnTo>
                  <a:lnTo>
                    <a:pt x="2315" y="695"/>
                  </a:lnTo>
                  <a:lnTo>
                    <a:pt x="2431" y="579"/>
                  </a:lnTo>
                  <a:lnTo>
                    <a:pt x="2662" y="463"/>
                  </a:lnTo>
                  <a:lnTo>
                    <a:pt x="2894" y="347"/>
                  </a:lnTo>
                  <a:lnTo>
                    <a:pt x="3125" y="116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1716840" y="4884840"/>
              <a:ext cx="41400" cy="80640"/>
            </a:xfrm>
            <a:custGeom>
              <a:avLst/>
              <a:gdLst/>
              <a:ahLst/>
              <a:rect l="l" t="t" r="r" b="b"/>
              <a:pathLst>
                <a:path w="1158" h="1506">
                  <a:moveTo>
                    <a:pt x="1158" y="0"/>
                  </a:moveTo>
                  <a:lnTo>
                    <a:pt x="1158" y="116"/>
                  </a:lnTo>
                  <a:lnTo>
                    <a:pt x="1042" y="232"/>
                  </a:lnTo>
                  <a:lnTo>
                    <a:pt x="1042" y="348"/>
                  </a:lnTo>
                  <a:lnTo>
                    <a:pt x="926" y="463"/>
                  </a:lnTo>
                  <a:lnTo>
                    <a:pt x="811" y="463"/>
                  </a:lnTo>
                  <a:lnTo>
                    <a:pt x="695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463" y="811"/>
                  </a:lnTo>
                  <a:lnTo>
                    <a:pt x="463" y="927"/>
                  </a:lnTo>
                  <a:lnTo>
                    <a:pt x="348" y="1042"/>
                  </a:lnTo>
                  <a:lnTo>
                    <a:pt x="348" y="1158"/>
                  </a:lnTo>
                  <a:lnTo>
                    <a:pt x="232" y="1274"/>
                  </a:lnTo>
                  <a:lnTo>
                    <a:pt x="232" y="1274"/>
                  </a:lnTo>
                  <a:lnTo>
                    <a:pt x="116" y="1390"/>
                  </a:lnTo>
                  <a:lnTo>
                    <a:pt x="116" y="1506"/>
                  </a:lnTo>
                  <a:lnTo>
                    <a:pt x="116" y="1506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1042"/>
                  </a:lnTo>
                  <a:lnTo>
                    <a:pt x="0" y="811"/>
                  </a:lnTo>
                  <a:lnTo>
                    <a:pt x="116" y="695"/>
                  </a:lnTo>
                  <a:lnTo>
                    <a:pt x="232" y="579"/>
                  </a:lnTo>
                  <a:lnTo>
                    <a:pt x="348" y="463"/>
                  </a:lnTo>
                  <a:lnTo>
                    <a:pt x="348" y="348"/>
                  </a:lnTo>
                  <a:lnTo>
                    <a:pt x="348" y="348"/>
                  </a:lnTo>
                  <a:lnTo>
                    <a:pt x="463" y="232"/>
                  </a:lnTo>
                  <a:lnTo>
                    <a:pt x="579" y="232"/>
                  </a:lnTo>
                  <a:lnTo>
                    <a:pt x="695" y="116"/>
                  </a:lnTo>
                  <a:lnTo>
                    <a:pt x="811" y="116"/>
                  </a:lnTo>
                  <a:lnTo>
                    <a:pt x="811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1729440" y="4922280"/>
              <a:ext cx="28800" cy="49680"/>
            </a:xfrm>
            <a:custGeom>
              <a:avLst/>
              <a:gdLst/>
              <a:ahLst/>
              <a:rect l="l" t="t" r="r" b="b"/>
              <a:pathLst>
                <a:path w="810" h="926">
                  <a:moveTo>
                    <a:pt x="810" y="0"/>
                  </a:moveTo>
                  <a:lnTo>
                    <a:pt x="694" y="116"/>
                  </a:lnTo>
                  <a:lnTo>
                    <a:pt x="694" y="232"/>
                  </a:lnTo>
                  <a:lnTo>
                    <a:pt x="694" y="347"/>
                  </a:lnTo>
                  <a:lnTo>
                    <a:pt x="578" y="463"/>
                  </a:lnTo>
                  <a:lnTo>
                    <a:pt x="463" y="579"/>
                  </a:lnTo>
                  <a:lnTo>
                    <a:pt x="463" y="695"/>
                  </a:lnTo>
                  <a:lnTo>
                    <a:pt x="347" y="811"/>
                  </a:lnTo>
                  <a:lnTo>
                    <a:pt x="347" y="926"/>
                  </a:lnTo>
                  <a:lnTo>
                    <a:pt x="347" y="926"/>
                  </a:lnTo>
                  <a:lnTo>
                    <a:pt x="0" y="926"/>
                  </a:lnTo>
                  <a:lnTo>
                    <a:pt x="0" y="926"/>
                  </a:lnTo>
                  <a:lnTo>
                    <a:pt x="0" y="811"/>
                  </a:lnTo>
                  <a:lnTo>
                    <a:pt x="115" y="579"/>
                  </a:lnTo>
                  <a:lnTo>
                    <a:pt x="115" y="463"/>
                  </a:lnTo>
                  <a:lnTo>
                    <a:pt x="231" y="347"/>
                  </a:lnTo>
                  <a:lnTo>
                    <a:pt x="347" y="232"/>
                  </a:lnTo>
                  <a:lnTo>
                    <a:pt x="463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1758240" y="4965840"/>
              <a:ext cx="12240" cy="18360"/>
            </a:xfrm>
            <a:custGeom>
              <a:avLst/>
              <a:gdLst/>
              <a:ahLst/>
              <a:rect l="l" t="t" r="r" b="b"/>
              <a:pathLst>
                <a:path w="347" h="347">
                  <a:moveTo>
                    <a:pt x="231" y="347"/>
                  </a:moveTo>
                  <a:lnTo>
                    <a:pt x="0" y="231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1063080" y="5140080"/>
              <a:ext cx="310320" cy="690120"/>
            </a:xfrm>
            <a:custGeom>
              <a:avLst/>
              <a:gdLst/>
              <a:ahLst/>
              <a:rect l="l" t="t" r="r" b="b"/>
              <a:pathLst>
                <a:path w="8680" h="12855">
                  <a:moveTo>
                    <a:pt x="7059" y="0"/>
                  </a:moveTo>
                  <a:lnTo>
                    <a:pt x="6944" y="116"/>
                  </a:lnTo>
                  <a:lnTo>
                    <a:pt x="6712" y="232"/>
                  </a:lnTo>
                  <a:lnTo>
                    <a:pt x="6596" y="348"/>
                  </a:lnTo>
                  <a:lnTo>
                    <a:pt x="6481" y="464"/>
                  </a:lnTo>
                  <a:lnTo>
                    <a:pt x="6365" y="579"/>
                  </a:lnTo>
                  <a:lnTo>
                    <a:pt x="6134" y="695"/>
                  </a:lnTo>
                  <a:lnTo>
                    <a:pt x="6018" y="811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1043"/>
                  </a:lnTo>
                  <a:lnTo>
                    <a:pt x="6018" y="1043"/>
                  </a:lnTo>
                  <a:lnTo>
                    <a:pt x="6018" y="1158"/>
                  </a:lnTo>
                  <a:lnTo>
                    <a:pt x="6134" y="1158"/>
                  </a:lnTo>
                  <a:lnTo>
                    <a:pt x="6249" y="1274"/>
                  </a:lnTo>
                  <a:lnTo>
                    <a:pt x="6249" y="1158"/>
                  </a:lnTo>
                  <a:lnTo>
                    <a:pt x="6365" y="1158"/>
                  </a:lnTo>
                  <a:lnTo>
                    <a:pt x="6365" y="1158"/>
                  </a:lnTo>
                  <a:lnTo>
                    <a:pt x="7291" y="348"/>
                  </a:lnTo>
                  <a:lnTo>
                    <a:pt x="7291" y="348"/>
                  </a:lnTo>
                  <a:lnTo>
                    <a:pt x="7291" y="464"/>
                  </a:lnTo>
                  <a:lnTo>
                    <a:pt x="7291" y="579"/>
                  </a:lnTo>
                  <a:lnTo>
                    <a:pt x="7291" y="695"/>
                  </a:lnTo>
                  <a:lnTo>
                    <a:pt x="7175" y="695"/>
                  </a:lnTo>
                  <a:lnTo>
                    <a:pt x="7059" y="811"/>
                  </a:lnTo>
                  <a:lnTo>
                    <a:pt x="6944" y="927"/>
                  </a:lnTo>
                  <a:lnTo>
                    <a:pt x="6828" y="1043"/>
                  </a:lnTo>
                  <a:lnTo>
                    <a:pt x="6828" y="1158"/>
                  </a:lnTo>
                  <a:lnTo>
                    <a:pt x="6828" y="1158"/>
                  </a:lnTo>
                  <a:lnTo>
                    <a:pt x="6712" y="1158"/>
                  </a:lnTo>
                  <a:lnTo>
                    <a:pt x="6712" y="1158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828" y="1506"/>
                  </a:lnTo>
                  <a:lnTo>
                    <a:pt x="6944" y="1506"/>
                  </a:lnTo>
                  <a:lnTo>
                    <a:pt x="7059" y="1506"/>
                  </a:lnTo>
                  <a:lnTo>
                    <a:pt x="7175" y="1390"/>
                  </a:lnTo>
                  <a:lnTo>
                    <a:pt x="7175" y="1274"/>
                  </a:lnTo>
                  <a:lnTo>
                    <a:pt x="7291" y="1158"/>
                  </a:lnTo>
                  <a:lnTo>
                    <a:pt x="7407" y="1158"/>
                  </a:lnTo>
                  <a:lnTo>
                    <a:pt x="7522" y="1043"/>
                  </a:lnTo>
                  <a:lnTo>
                    <a:pt x="7522" y="1043"/>
                  </a:lnTo>
                  <a:lnTo>
                    <a:pt x="7638" y="1274"/>
                  </a:lnTo>
                  <a:lnTo>
                    <a:pt x="7754" y="1506"/>
                  </a:lnTo>
                  <a:lnTo>
                    <a:pt x="7870" y="1737"/>
                  </a:lnTo>
                  <a:lnTo>
                    <a:pt x="8101" y="2085"/>
                  </a:lnTo>
                  <a:lnTo>
                    <a:pt x="8101" y="2316"/>
                  </a:lnTo>
                  <a:lnTo>
                    <a:pt x="8217" y="2548"/>
                  </a:lnTo>
                  <a:lnTo>
                    <a:pt x="8101" y="2780"/>
                  </a:lnTo>
                  <a:lnTo>
                    <a:pt x="7985" y="3011"/>
                  </a:lnTo>
                  <a:lnTo>
                    <a:pt x="7985" y="3011"/>
                  </a:lnTo>
                  <a:lnTo>
                    <a:pt x="7522" y="3359"/>
                  </a:lnTo>
                  <a:lnTo>
                    <a:pt x="7291" y="3706"/>
                  </a:lnTo>
                  <a:lnTo>
                    <a:pt x="6944" y="4054"/>
                  </a:lnTo>
                  <a:lnTo>
                    <a:pt x="6712" y="4517"/>
                  </a:lnTo>
                  <a:lnTo>
                    <a:pt x="6481" y="4864"/>
                  </a:lnTo>
                  <a:lnTo>
                    <a:pt x="6249" y="5212"/>
                  </a:lnTo>
                  <a:lnTo>
                    <a:pt x="5902" y="5559"/>
                  </a:lnTo>
                  <a:lnTo>
                    <a:pt x="5555" y="5791"/>
                  </a:lnTo>
                  <a:lnTo>
                    <a:pt x="5555" y="5791"/>
                  </a:lnTo>
                  <a:lnTo>
                    <a:pt x="5439" y="6486"/>
                  </a:lnTo>
                  <a:lnTo>
                    <a:pt x="5323" y="7180"/>
                  </a:lnTo>
                  <a:lnTo>
                    <a:pt x="5208" y="7760"/>
                  </a:lnTo>
                  <a:lnTo>
                    <a:pt x="5208" y="8454"/>
                  </a:lnTo>
                  <a:lnTo>
                    <a:pt x="5208" y="9149"/>
                  </a:lnTo>
                  <a:lnTo>
                    <a:pt x="5323" y="9844"/>
                  </a:lnTo>
                  <a:lnTo>
                    <a:pt x="5555" y="10423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6018" y="10886"/>
                  </a:lnTo>
                  <a:lnTo>
                    <a:pt x="6018" y="10771"/>
                  </a:lnTo>
                  <a:lnTo>
                    <a:pt x="6018" y="10771"/>
                  </a:lnTo>
                  <a:lnTo>
                    <a:pt x="6018" y="10655"/>
                  </a:lnTo>
                  <a:lnTo>
                    <a:pt x="6018" y="10539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6018" y="10423"/>
                  </a:lnTo>
                  <a:lnTo>
                    <a:pt x="6134" y="10423"/>
                  </a:lnTo>
                  <a:lnTo>
                    <a:pt x="6134" y="10539"/>
                  </a:lnTo>
                  <a:lnTo>
                    <a:pt x="6249" y="10539"/>
                  </a:lnTo>
                  <a:lnTo>
                    <a:pt x="6249" y="10655"/>
                  </a:lnTo>
                  <a:lnTo>
                    <a:pt x="6365" y="10655"/>
                  </a:lnTo>
                  <a:lnTo>
                    <a:pt x="6365" y="10771"/>
                  </a:lnTo>
                  <a:lnTo>
                    <a:pt x="6481" y="10886"/>
                  </a:lnTo>
                  <a:lnTo>
                    <a:pt x="6481" y="10886"/>
                  </a:lnTo>
                  <a:lnTo>
                    <a:pt x="6365" y="11465"/>
                  </a:lnTo>
                  <a:lnTo>
                    <a:pt x="6365" y="11465"/>
                  </a:lnTo>
                  <a:lnTo>
                    <a:pt x="6481" y="11465"/>
                  </a:lnTo>
                  <a:lnTo>
                    <a:pt x="6596" y="11465"/>
                  </a:lnTo>
                  <a:lnTo>
                    <a:pt x="6712" y="11465"/>
                  </a:lnTo>
                  <a:lnTo>
                    <a:pt x="6712" y="11350"/>
                  </a:lnTo>
                  <a:lnTo>
                    <a:pt x="6712" y="11234"/>
                  </a:lnTo>
                  <a:lnTo>
                    <a:pt x="6828" y="11118"/>
                  </a:lnTo>
                  <a:lnTo>
                    <a:pt x="6828" y="11002"/>
                  </a:lnTo>
                  <a:lnTo>
                    <a:pt x="6944" y="10886"/>
                  </a:lnTo>
                  <a:lnTo>
                    <a:pt x="6944" y="10886"/>
                  </a:lnTo>
                  <a:lnTo>
                    <a:pt x="7175" y="10886"/>
                  </a:lnTo>
                  <a:lnTo>
                    <a:pt x="7407" y="10886"/>
                  </a:lnTo>
                  <a:lnTo>
                    <a:pt x="7638" y="10886"/>
                  </a:lnTo>
                  <a:lnTo>
                    <a:pt x="7870" y="10886"/>
                  </a:lnTo>
                  <a:lnTo>
                    <a:pt x="8101" y="11002"/>
                  </a:lnTo>
                  <a:lnTo>
                    <a:pt x="8332" y="11002"/>
                  </a:lnTo>
                  <a:lnTo>
                    <a:pt x="8564" y="11234"/>
                  </a:lnTo>
                  <a:lnTo>
                    <a:pt x="8564" y="11581"/>
                  </a:lnTo>
                  <a:lnTo>
                    <a:pt x="8564" y="11581"/>
                  </a:lnTo>
                  <a:lnTo>
                    <a:pt x="8680" y="11929"/>
                  </a:lnTo>
                  <a:lnTo>
                    <a:pt x="8564" y="12160"/>
                  </a:lnTo>
                  <a:lnTo>
                    <a:pt x="8448" y="12392"/>
                  </a:lnTo>
                  <a:lnTo>
                    <a:pt x="8217" y="12508"/>
                  </a:lnTo>
                  <a:lnTo>
                    <a:pt x="7985" y="12624"/>
                  </a:lnTo>
                  <a:lnTo>
                    <a:pt x="7638" y="12624"/>
                  </a:lnTo>
                  <a:lnTo>
                    <a:pt x="7291" y="12739"/>
                  </a:lnTo>
                  <a:lnTo>
                    <a:pt x="7059" y="12855"/>
                  </a:lnTo>
                  <a:lnTo>
                    <a:pt x="7059" y="12855"/>
                  </a:lnTo>
                  <a:lnTo>
                    <a:pt x="6596" y="12855"/>
                  </a:lnTo>
                  <a:lnTo>
                    <a:pt x="6018" y="12739"/>
                  </a:lnTo>
                  <a:lnTo>
                    <a:pt x="5555" y="12739"/>
                  </a:lnTo>
                  <a:lnTo>
                    <a:pt x="5092" y="12624"/>
                  </a:lnTo>
                  <a:lnTo>
                    <a:pt x="4513" y="12508"/>
                  </a:lnTo>
                  <a:lnTo>
                    <a:pt x="4166" y="12276"/>
                  </a:lnTo>
                  <a:lnTo>
                    <a:pt x="3703" y="12044"/>
                  </a:lnTo>
                  <a:lnTo>
                    <a:pt x="3240" y="11813"/>
                  </a:lnTo>
                  <a:lnTo>
                    <a:pt x="3240" y="11813"/>
                  </a:lnTo>
                  <a:lnTo>
                    <a:pt x="2893" y="11234"/>
                  </a:lnTo>
                  <a:lnTo>
                    <a:pt x="2662" y="10539"/>
                  </a:lnTo>
                  <a:lnTo>
                    <a:pt x="2430" y="9960"/>
                  </a:lnTo>
                  <a:lnTo>
                    <a:pt x="2199" y="9265"/>
                  </a:lnTo>
                  <a:lnTo>
                    <a:pt x="1851" y="8686"/>
                  </a:lnTo>
                  <a:lnTo>
                    <a:pt x="1504" y="8107"/>
                  </a:lnTo>
                  <a:lnTo>
                    <a:pt x="926" y="7644"/>
                  </a:lnTo>
                  <a:lnTo>
                    <a:pt x="231" y="7412"/>
                  </a:lnTo>
                  <a:lnTo>
                    <a:pt x="231" y="7412"/>
                  </a:lnTo>
                  <a:lnTo>
                    <a:pt x="115" y="7296"/>
                  </a:lnTo>
                  <a:lnTo>
                    <a:pt x="115" y="7296"/>
                  </a:lnTo>
                  <a:lnTo>
                    <a:pt x="0" y="7180"/>
                  </a:lnTo>
                  <a:lnTo>
                    <a:pt x="0" y="7065"/>
                  </a:lnTo>
                  <a:lnTo>
                    <a:pt x="0" y="6949"/>
                  </a:lnTo>
                  <a:lnTo>
                    <a:pt x="0" y="6833"/>
                  </a:lnTo>
                  <a:lnTo>
                    <a:pt x="0" y="6717"/>
                  </a:lnTo>
                  <a:lnTo>
                    <a:pt x="0" y="6601"/>
                  </a:lnTo>
                  <a:lnTo>
                    <a:pt x="0" y="6601"/>
                  </a:lnTo>
                  <a:lnTo>
                    <a:pt x="231" y="6370"/>
                  </a:lnTo>
                  <a:lnTo>
                    <a:pt x="463" y="6138"/>
                  </a:lnTo>
                  <a:lnTo>
                    <a:pt x="810" y="6022"/>
                  </a:lnTo>
                  <a:lnTo>
                    <a:pt x="1157" y="5907"/>
                  </a:lnTo>
                  <a:lnTo>
                    <a:pt x="1504" y="5907"/>
                  </a:lnTo>
                  <a:lnTo>
                    <a:pt x="1851" y="5791"/>
                  </a:lnTo>
                  <a:lnTo>
                    <a:pt x="2199" y="5675"/>
                  </a:lnTo>
                  <a:lnTo>
                    <a:pt x="2430" y="5559"/>
                  </a:lnTo>
                  <a:lnTo>
                    <a:pt x="2430" y="5559"/>
                  </a:lnTo>
                  <a:lnTo>
                    <a:pt x="3009" y="5328"/>
                  </a:lnTo>
                  <a:lnTo>
                    <a:pt x="3472" y="4980"/>
                  </a:lnTo>
                  <a:lnTo>
                    <a:pt x="3935" y="4633"/>
                  </a:lnTo>
                  <a:lnTo>
                    <a:pt x="4398" y="4285"/>
                  </a:lnTo>
                  <a:lnTo>
                    <a:pt x="4860" y="3822"/>
                  </a:lnTo>
                  <a:lnTo>
                    <a:pt x="5323" y="3475"/>
                  </a:lnTo>
                  <a:lnTo>
                    <a:pt x="5671" y="3011"/>
                  </a:lnTo>
                  <a:lnTo>
                    <a:pt x="6018" y="2432"/>
                  </a:lnTo>
                  <a:lnTo>
                    <a:pt x="6018" y="2432"/>
                  </a:lnTo>
                  <a:lnTo>
                    <a:pt x="6018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249" y="2548"/>
                  </a:lnTo>
                  <a:lnTo>
                    <a:pt x="6249" y="2548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201"/>
                  </a:lnTo>
                  <a:lnTo>
                    <a:pt x="6134" y="1969"/>
                  </a:lnTo>
                  <a:lnTo>
                    <a:pt x="6018" y="1737"/>
                  </a:lnTo>
                  <a:lnTo>
                    <a:pt x="5902" y="1506"/>
                  </a:lnTo>
                  <a:lnTo>
                    <a:pt x="5786" y="1274"/>
                  </a:lnTo>
                  <a:lnTo>
                    <a:pt x="5671" y="1043"/>
                  </a:lnTo>
                  <a:lnTo>
                    <a:pt x="5555" y="811"/>
                  </a:lnTo>
                  <a:lnTo>
                    <a:pt x="5439" y="579"/>
                  </a:lnTo>
                  <a:lnTo>
                    <a:pt x="5439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811"/>
                  </a:lnTo>
                  <a:lnTo>
                    <a:pt x="5671" y="811"/>
                  </a:lnTo>
                  <a:lnTo>
                    <a:pt x="5786" y="811"/>
                  </a:lnTo>
                  <a:lnTo>
                    <a:pt x="5786" y="811"/>
                  </a:lnTo>
                  <a:lnTo>
                    <a:pt x="5902" y="695"/>
                  </a:lnTo>
                  <a:lnTo>
                    <a:pt x="6018" y="579"/>
                  </a:lnTo>
                  <a:lnTo>
                    <a:pt x="6249" y="464"/>
                  </a:lnTo>
                  <a:lnTo>
                    <a:pt x="6365" y="348"/>
                  </a:lnTo>
                  <a:lnTo>
                    <a:pt x="6481" y="232"/>
                  </a:lnTo>
                  <a:lnTo>
                    <a:pt x="6712" y="116"/>
                  </a:lnTo>
                  <a:lnTo>
                    <a:pt x="6828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6" name=""/>
          <p:cNvSpPr/>
          <p:nvPr/>
        </p:nvSpPr>
        <p:spPr>
          <a:xfrm>
            <a:off x="685800" y="1447920"/>
            <a:ext cx="758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We have seen how to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3124080" y="2057400"/>
            <a:ext cx="5029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4800" indent="-3348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termine the coefficient and degree of a monom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8" name="" descr=""/>
          <p:cNvPicPr/>
          <p:nvPr/>
        </p:nvPicPr>
        <p:blipFill>
          <a:blip r:embed="rId1"/>
          <a:stretch/>
        </p:blipFill>
        <p:spPr>
          <a:xfrm>
            <a:off x="3276720" y="3048120"/>
            <a:ext cx="4514760" cy="33811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3" dur="500" fill="hold"/>
                                        <p:tgtEl>
                                          <p:spTgt spid="9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4" dur="500" fill="hold"/>
                                        <p:tgtEl>
                                          <p:spTgt spid="9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5" fill="hold">
                      <p:stCondLst>
                        <p:cond delay="indefinite"/>
                      </p:stCondLst>
                      <p:childTnLst>
                        <p:par>
                          <p:cTn id="1106" fill="hold">
                            <p:stCondLst>
                              <p:cond delay="0"/>
                            </p:stCondLst>
                            <p:childTnLst>
                              <p:par>
                                <p:cTn id="1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9" dur="500"/>
                                        <p:tgtEl>
                                          <p:spTgt spid="9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438280" y="685800"/>
            <a:ext cx="441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quations/Express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352680" y="1523880"/>
            <a:ext cx="2819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ff"/>
                </a:solidFill>
                <a:latin typeface="Comic Sans MS"/>
              </a:rPr>
              <a:t>Equat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990720" y="2438280"/>
            <a:ext cx="7467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mathematical expression that contains an equal sig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762120" y="3657600"/>
            <a:ext cx="7361280" cy="2666880"/>
            <a:chOff x="762120" y="3657600"/>
            <a:chExt cx="7361280" cy="2666880"/>
          </a:xfrm>
        </p:grpSpPr>
        <p:pic>
          <p:nvPicPr>
            <p:cNvPr id="233" name="" descr=""/>
            <p:cNvPicPr/>
            <p:nvPr/>
          </p:nvPicPr>
          <p:blipFill>
            <a:blip r:embed="rId1"/>
            <a:stretch/>
          </p:blipFill>
          <p:spPr>
            <a:xfrm>
              <a:off x="5943600" y="3657600"/>
              <a:ext cx="2179800" cy="266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" name=""/>
            <p:cNvSpPr/>
            <p:nvPr/>
          </p:nvSpPr>
          <p:spPr>
            <a:xfrm>
              <a:off x="762120" y="5029200"/>
              <a:ext cx="533376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(Einstein’s formula relating mass and energy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5" name=""/>
          <p:cNvSpPr/>
          <p:nvPr/>
        </p:nvSpPr>
        <p:spPr>
          <a:xfrm>
            <a:off x="1523880" y="3733920"/>
            <a:ext cx="2895840" cy="1008360"/>
          </a:xfrm>
          <a:prstGeom prst="rect">
            <a:avLst/>
          </a:prstGeom>
          <a:noFill/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ff"/>
                </a:solidFill>
                <a:latin typeface="Comic Sans MS"/>
              </a:rPr>
              <a:t>E = mc</a:t>
            </a:r>
            <a:r>
              <a:rPr b="0" lang="en-US" sz="6000" spc="-1" strike="noStrike" baseline="30000">
                <a:solidFill>
                  <a:srgbClr val="3333ff"/>
                </a:solidFill>
                <a:latin typeface="Comic Sans MS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"/>
          <p:cNvSpPr/>
          <p:nvPr/>
        </p:nvSpPr>
        <p:spPr>
          <a:xfrm>
            <a:off x="3124080" y="60948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0" name=""/>
          <p:cNvGrpSpPr/>
          <p:nvPr/>
        </p:nvGrpSpPr>
        <p:grpSpPr>
          <a:xfrm>
            <a:off x="533520" y="2895480"/>
            <a:ext cx="2209680" cy="2971800"/>
            <a:chOff x="533520" y="2895480"/>
            <a:chExt cx="2209680" cy="2971800"/>
          </a:xfrm>
        </p:grpSpPr>
        <p:sp>
          <p:nvSpPr>
            <p:cNvPr id="981" name=""/>
            <p:cNvSpPr/>
            <p:nvPr/>
          </p:nvSpPr>
          <p:spPr>
            <a:xfrm>
              <a:off x="533520" y="2895480"/>
              <a:ext cx="2209680" cy="297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541440" y="2907720"/>
              <a:ext cx="2193480" cy="2946960"/>
            </a:xfrm>
            <a:custGeom>
              <a:avLst/>
              <a:gdLst/>
              <a:ahLst/>
              <a:rect l="l" t="t" r="r" b="b"/>
              <a:pathLst>
                <a:path w="61339" h="54893">
                  <a:moveTo>
                    <a:pt x="20369" y="694"/>
                  </a:moveTo>
                  <a:lnTo>
                    <a:pt x="20485" y="579"/>
                  </a:lnTo>
                  <a:lnTo>
                    <a:pt x="20485" y="463"/>
                  </a:lnTo>
                  <a:lnTo>
                    <a:pt x="20601" y="463"/>
                  </a:lnTo>
                  <a:lnTo>
                    <a:pt x="20717" y="347"/>
                  </a:lnTo>
                  <a:lnTo>
                    <a:pt x="20832" y="347"/>
                  </a:lnTo>
                  <a:lnTo>
                    <a:pt x="20948" y="347"/>
                  </a:lnTo>
                  <a:lnTo>
                    <a:pt x="21064" y="231"/>
                  </a:lnTo>
                  <a:lnTo>
                    <a:pt x="21179" y="231"/>
                  </a:lnTo>
                  <a:lnTo>
                    <a:pt x="21179" y="231"/>
                  </a:lnTo>
                  <a:lnTo>
                    <a:pt x="21411" y="231"/>
                  </a:lnTo>
                  <a:lnTo>
                    <a:pt x="21527" y="347"/>
                  </a:lnTo>
                  <a:lnTo>
                    <a:pt x="21758" y="463"/>
                  </a:lnTo>
                  <a:lnTo>
                    <a:pt x="21990" y="579"/>
                  </a:lnTo>
                  <a:lnTo>
                    <a:pt x="22105" y="694"/>
                  </a:lnTo>
                  <a:lnTo>
                    <a:pt x="22221" y="810"/>
                  </a:lnTo>
                  <a:lnTo>
                    <a:pt x="22453" y="1042"/>
                  </a:lnTo>
                  <a:lnTo>
                    <a:pt x="22568" y="1274"/>
                  </a:lnTo>
                  <a:lnTo>
                    <a:pt x="22568" y="1274"/>
                  </a:lnTo>
                  <a:lnTo>
                    <a:pt x="22684" y="1158"/>
                  </a:lnTo>
                  <a:lnTo>
                    <a:pt x="22915" y="1042"/>
                  </a:lnTo>
                  <a:lnTo>
                    <a:pt x="23031" y="1042"/>
                  </a:lnTo>
                  <a:lnTo>
                    <a:pt x="23147" y="1042"/>
                  </a:lnTo>
                  <a:lnTo>
                    <a:pt x="23378" y="1042"/>
                  </a:lnTo>
                  <a:lnTo>
                    <a:pt x="23494" y="1042"/>
                  </a:lnTo>
                  <a:lnTo>
                    <a:pt x="23726" y="1042"/>
                  </a:lnTo>
                  <a:lnTo>
                    <a:pt x="23841" y="1158"/>
                  </a:lnTo>
                  <a:lnTo>
                    <a:pt x="23841" y="1158"/>
                  </a:lnTo>
                  <a:lnTo>
                    <a:pt x="23957" y="1158"/>
                  </a:lnTo>
                  <a:lnTo>
                    <a:pt x="24188" y="1274"/>
                  </a:lnTo>
                  <a:lnTo>
                    <a:pt x="24304" y="1389"/>
                  </a:lnTo>
                  <a:lnTo>
                    <a:pt x="24420" y="1505"/>
                  </a:lnTo>
                  <a:lnTo>
                    <a:pt x="24536" y="1621"/>
                  </a:lnTo>
                  <a:lnTo>
                    <a:pt x="24651" y="1621"/>
                  </a:lnTo>
                  <a:lnTo>
                    <a:pt x="24767" y="1621"/>
                  </a:lnTo>
                  <a:lnTo>
                    <a:pt x="24999" y="1389"/>
                  </a:lnTo>
                  <a:lnTo>
                    <a:pt x="24999" y="1389"/>
                  </a:lnTo>
                  <a:lnTo>
                    <a:pt x="25114" y="1389"/>
                  </a:lnTo>
                  <a:lnTo>
                    <a:pt x="25346" y="1505"/>
                  </a:lnTo>
                  <a:lnTo>
                    <a:pt x="25462" y="1505"/>
                  </a:lnTo>
                  <a:lnTo>
                    <a:pt x="25577" y="1621"/>
                  </a:lnTo>
                  <a:lnTo>
                    <a:pt x="25693" y="1737"/>
                  </a:lnTo>
                  <a:lnTo>
                    <a:pt x="25809" y="1853"/>
                  </a:lnTo>
                  <a:lnTo>
                    <a:pt x="25924" y="1968"/>
                  </a:lnTo>
                  <a:lnTo>
                    <a:pt x="26040" y="1968"/>
                  </a:lnTo>
                  <a:lnTo>
                    <a:pt x="26040" y="1968"/>
                  </a:lnTo>
                  <a:lnTo>
                    <a:pt x="26272" y="1968"/>
                  </a:lnTo>
                  <a:lnTo>
                    <a:pt x="26503" y="1853"/>
                  </a:lnTo>
                  <a:lnTo>
                    <a:pt x="26735" y="1853"/>
                  </a:lnTo>
                  <a:lnTo>
                    <a:pt x="26966" y="1737"/>
                  </a:lnTo>
                  <a:lnTo>
                    <a:pt x="27082" y="1737"/>
                  </a:lnTo>
                  <a:lnTo>
                    <a:pt x="27313" y="1737"/>
                  </a:lnTo>
                  <a:lnTo>
                    <a:pt x="27545" y="1853"/>
                  </a:lnTo>
                  <a:lnTo>
                    <a:pt x="27660" y="1968"/>
                  </a:lnTo>
                  <a:lnTo>
                    <a:pt x="27660" y="1968"/>
                  </a:lnTo>
                  <a:lnTo>
                    <a:pt x="28123" y="2316"/>
                  </a:lnTo>
                  <a:lnTo>
                    <a:pt x="28123" y="2316"/>
                  </a:lnTo>
                  <a:lnTo>
                    <a:pt x="28239" y="2084"/>
                  </a:lnTo>
                  <a:lnTo>
                    <a:pt x="28471" y="1968"/>
                  </a:lnTo>
                  <a:lnTo>
                    <a:pt x="28586" y="1968"/>
                  </a:lnTo>
                  <a:lnTo>
                    <a:pt x="28818" y="1968"/>
                  </a:lnTo>
                  <a:lnTo>
                    <a:pt x="29049" y="1968"/>
                  </a:lnTo>
                  <a:lnTo>
                    <a:pt x="29281" y="1968"/>
                  </a:lnTo>
                  <a:lnTo>
                    <a:pt x="29512" y="1968"/>
                  </a:lnTo>
                  <a:lnTo>
                    <a:pt x="29744" y="1968"/>
                  </a:lnTo>
                  <a:lnTo>
                    <a:pt x="29744" y="1968"/>
                  </a:lnTo>
                  <a:lnTo>
                    <a:pt x="29859" y="2084"/>
                  </a:lnTo>
                  <a:lnTo>
                    <a:pt x="29975" y="2200"/>
                  </a:lnTo>
                  <a:lnTo>
                    <a:pt x="29975" y="2316"/>
                  </a:lnTo>
                  <a:lnTo>
                    <a:pt x="30091" y="2432"/>
                  </a:lnTo>
                  <a:lnTo>
                    <a:pt x="30207" y="2547"/>
                  </a:lnTo>
                  <a:lnTo>
                    <a:pt x="30322" y="2663"/>
                  </a:lnTo>
                  <a:lnTo>
                    <a:pt x="30438" y="2779"/>
                  </a:lnTo>
                  <a:lnTo>
                    <a:pt x="30554" y="2779"/>
                  </a:lnTo>
                  <a:lnTo>
                    <a:pt x="30554" y="2779"/>
                  </a:lnTo>
                  <a:lnTo>
                    <a:pt x="30670" y="2779"/>
                  </a:lnTo>
                  <a:lnTo>
                    <a:pt x="30785" y="2663"/>
                  </a:lnTo>
                  <a:lnTo>
                    <a:pt x="30901" y="2663"/>
                  </a:lnTo>
                  <a:lnTo>
                    <a:pt x="31132" y="2663"/>
                  </a:lnTo>
                  <a:lnTo>
                    <a:pt x="31248" y="2663"/>
                  </a:lnTo>
                  <a:lnTo>
                    <a:pt x="31364" y="2663"/>
                  </a:lnTo>
                  <a:lnTo>
                    <a:pt x="31595" y="2663"/>
                  </a:lnTo>
                  <a:lnTo>
                    <a:pt x="31711" y="2663"/>
                  </a:lnTo>
                  <a:lnTo>
                    <a:pt x="31711" y="2663"/>
                  </a:lnTo>
                  <a:lnTo>
                    <a:pt x="31943" y="2895"/>
                  </a:lnTo>
                  <a:lnTo>
                    <a:pt x="32058" y="3011"/>
                  </a:lnTo>
                  <a:lnTo>
                    <a:pt x="32174" y="3126"/>
                  </a:lnTo>
                  <a:lnTo>
                    <a:pt x="32290" y="3358"/>
                  </a:lnTo>
                  <a:lnTo>
                    <a:pt x="32521" y="3474"/>
                  </a:lnTo>
                  <a:lnTo>
                    <a:pt x="32637" y="3474"/>
                  </a:lnTo>
                  <a:lnTo>
                    <a:pt x="-32668" y="3474"/>
                  </a:lnTo>
                  <a:lnTo>
                    <a:pt x="-32436" y="3242"/>
                  </a:lnTo>
                  <a:lnTo>
                    <a:pt x="-32436" y="3242"/>
                  </a:lnTo>
                  <a:lnTo>
                    <a:pt x="-32205" y="3242"/>
                  </a:lnTo>
                  <a:lnTo>
                    <a:pt x="-31973" y="3242"/>
                  </a:lnTo>
                  <a:lnTo>
                    <a:pt x="-31626" y="3358"/>
                  </a:lnTo>
                  <a:lnTo>
                    <a:pt x="-31395" y="3474"/>
                  </a:lnTo>
                  <a:lnTo>
                    <a:pt x="-31163" y="3706"/>
                  </a:lnTo>
                  <a:lnTo>
                    <a:pt x="-30932" y="3706"/>
                  </a:lnTo>
                  <a:lnTo>
                    <a:pt x="-30584" y="3821"/>
                  </a:lnTo>
                  <a:lnTo>
                    <a:pt x="-30237" y="3706"/>
                  </a:lnTo>
                  <a:lnTo>
                    <a:pt x="-30237" y="3706"/>
                  </a:lnTo>
                  <a:lnTo>
                    <a:pt x="-30006" y="3821"/>
                  </a:lnTo>
                  <a:lnTo>
                    <a:pt x="-29774" y="3937"/>
                  </a:lnTo>
                  <a:lnTo>
                    <a:pt x="-29543" y="3937"/>
                  </a:lnTo>
                  <a:lnTo>
                    <a:pt x="-29311" y="3937"/>
                  </a:lnTo>
                  <a:lnTo>
                    <a:pt x="-29080" y="3821"/>
                  </a:lnTo>
                  <a:lnTo>
                    <a:pt x="-28733" y="3937"/>
                  </a:lnTo>
                  <a:lnTo>
                    <a:pt x="-28501" y="4053"/>
                  </a:lnTo>
                  <a:lnTo>
                    <a:pt x="-28385" y="4169"/>
                  </a:lnTo>
                  <a:lnTo>
                    <a:pt x="-28385" y="4169"/>
                  </a:lnTo>
                  <a:lnTo>
                    <a:pt x="-28038" y="4169"/>
                  </a:lnTo>
                  <a:lnTo>
                    <a:pt x="-27807" y="4169"/>
                  </a:lnTo>
                  <a:lnTo>
                    <a:pt x="-27575" y="4169"/>
                  </a:lnTo>
                  <a:lnTo>
                    <a:pt x="-27344" y="4285"/>
                  </a:lnTo>
                  <a:lnTo>
                    <a:pt x="-27112" y="4400"/>
                  </a:lnTo>
                  <a:lnTo>
                    <a:pt x="-26881" y="4516"/>
                  </a:lnTo>
                  <a:lnTo>
                    <a:pt x="-26650" y="4516"/>
                  </a:lnTo>
                  <a:lnTo>
                    <a:pt x="-26418" y="4285"/>
                  </a:lnTo>
                  <a:lnTo>
                    <a:pt x="-26418" y="4285"/>
                  </a:lnTo>
                  <a:lnTo>
                    <a:pt x="-26187" y="4400"/>
                  </a:lnTo>
                  <a:lnTo>
                    <a:pt x="-25955" y="4516"/>
                  </a:lnTo>
                  <a:lnTo>
                    <a:pt x="-25724" y="4632"/>
                  </a:lnTo>
                  <a:lnTo>
                    <a:pt x="-25608" y="4748"/>
                  </a:lnTo>
                  <a:lnTo>
                    <a:pt x="-25492" y="4979"/>
                  </a:lnTo>
                  <a:lnTo>
                    <a:pt x="-25376" y="5095"/>
                  </a:lnTo>
                  <a:lnTo>
                    <a:pt x="-25261" y="5327"/>
                  </a:lnTo>
                  <a:lnTo>
                    <a:pt x="-25145" y="5558"/>
                  </a:lnTo>
                  <a:lnTo>
                    <a:pt x="-25145" y="5558"/>
                  </a:lnTo>
                  <a:lnTo>
                    <a:pt x="-25145" y="6022"/>
                  </a:lnTo>
                  <a:lnTo>
                    <a:pt x="-25145" y="6369"/>
                  </a:lnTo>
                  <a:lnTo>
                    <a:pt x="-25376" y="6717"/>
                  </a:lnTo>
                  <a:lnTo>
                    <a:pt x="-25492" y="7064"/>
                  </a:lnTo>
                  <a:lnTo>
                    <a:pt x="-25724" y="7296"/>
                  </a:lnTo>
                  <a:lnTo>
                    <a:pt x="-25839" y="7643"/>
                  </a:lnTo>
                  <a:lnTo>
                    <a:pt x="-25955" y="7990"/>
                  </a:lnTo>
                  <a:lnTo>
                    <a:pt x="-26071" y="8454"/>
                  </a:lnTo>
                  <a:lnTo>
                    <a:pt x="-26071" y="8454"/>
                  </a:lnTo>
                  <a:lnTo>
                    <a:pt x="-26534" y="9959"/>
                  </a:lnTo>
                  <a:lnTo>
                    <a:pt x="-26997" y="11465"/>
                  </a:lnTo>
                  <a:lnTo>
                    <a:pt x="-27344" y="13086"/>
                  </a:lnTo>
                  <a:lnTo>
                    <a:pt x="-27691" y="14707"/>
                  </a:lnTo>
                  <a:lnTo>
                    <a:pt x="-28038" y="16329"/>
                  </a:lnTo>
                  <a:lnTo>
                    <a:pt x="-28270" y="17950"/>
                  </a:lnTo>
                  <a:lnTo>
                    <a:pt x="-28501" y="19571"/>
                  </a:lnTo>
                  <a:lnTo>
                    <a:pt x="-28617" y="21193"/>
                  </a:lnTo>
                  <a:lnTo>
                    <a:pt x="-28617" y="21193"/>
                  </a:lnTo>
                  <a:lnTo>
                    <a:pt x="-28501" y="21309"/>
                  </a:lnTo>
                  <a:lnTo>
                    <a:pt x="-28501" y="21309"/>
                  </a:lnTo>
                  <a:lnTo>
                    <a:pt x="-26650" y="20845"/>
                  </a:lnTo>
                  <a:lnTo>
                    <a:pt x="-24914" y="20498"/>
                  </a:lnTo>
                  <a:lnTo>
                    <a:pt x="-23178" y="20150"/>
                  </a:lnTo>
                  <a:lnTo>
                    <a:pt x="-21326" y="19919"/>
                  </a:lnTo>
                  <a:lnTo>
                    <a:pt x="-19590" y="19571"/>
                  </a:lnTo>
                  <a:lnTo>
                    <a:pt x="-17738" y="19224"/>
                  </a:lnTo>
                  <a:lnTo>
                    <a:pt x="-16002" y="18992"/>
                  </a:lnTo>
                  <a:lnTo>
                    <a:pt x="-14266" y="18645"/>
                  </a:lnTo>
                  <a:lnTo>
                    <a:pt x="-14266" y="18645"/>
                  </a:lnTo>
                  <a:lnTo>
                    <a:pt x="-12993" y="18761"/>
                  </a:lnTo>
                  <a:lnTo>
                    <a:pt x="-11720" y="18877"/>
                  </a:lnTo>
                  <a:lnTo>
                    <a:pt x="-10563" y="18992"/>
                  </a:lnTo>
                  <a:lnTo>
                    <a:pt x="-9290" y="18992"/>
                  </a:lnTo>
                  <a:lnTo>
                    <a:pt x="-8017" y="19108"/>
                  </a:lnTo>
                  <a:lnTo>
                    <a:pt x="-6859" y="19224"/>
                  </a:lnTo>
                  <a:lnTo>
                    <a:pt x="-5586" y="19340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803"/>
                  </a:lnTo>
                  <a:lnTo>
                    <a:pt x="-4197" y="19803"/>
                  </a:lnTo>
                  <a:lnTo>
                    <a:pt x="-4313" y="19803"/>
                  </a:lnTo>
                  <a:lnTo>
                    <a:pt x="-4313" y="19803"/>
                  </a:lnTo>
                  <a:lnTo>
                    <a:pt x="-17044" y="25246"/>
                  </a:lnTo>
                  <a:lnTo>
                    <a:pt x="-17044" y="25246"/>
                  </a:lnTo>
                  <a:lnTo>
                    <a:pt x="-17159" y="25246"/>
                  </a:lnTo>
                  <a:lnTo>
                    <a:pt x="-17391" y="25246"/>
                  </a:lnTo>
                  <a:lnTo>
                    <a:pt x="-17622" y="25362"/>
                  </a:lnTo>
                  <a:lnTo>
                    <a:pt x="-17854" y="25362"/>
                  </a:lnTo>
                  <a:lnTo>
                    <a:pt x="-17970" y="25478"/>
                  </a:lnTo>
                  <a:lnTo>
                    <a:pt x="-18201" y="25478"/>
                  </a:lnTo>
                  <a:lnTo>
                    <a:pt x="-18317" y="25478"/>
                  </a:lnTo>
                  <a:lnTo>
                    <a:pt x="-18548" y="25594"/>
                  </a:lnTo>
                  <a:lnTo>
                    <a:pt x="-18548" y="25594"/>
                  </a:lnTo>
                  <a:lnTo>
                    <a:pt x="-18548" y="25941"/>
                  </a:lnTo>
                  <a:lnTo>
                    <a:pt x="-18664" y="26288"/>
                  </a:lnTo>
                  <a:lnTo>
                    <a:pt x="-18895" y="26636"/>
                  </a:lnTo>
                  <a:lnTo>
                    <a:pt x="-19127" y="26983"/>
                  </a:lnTo>
                  <a:lnTo>
                    <a:pt x="-19358" y="27215"/>
                  </a:lnTo>
                  <a:lnTo>
                    <a:pt x="-19706" y="27562"/>
                  </a:lnTo>
                  <a:lnTo>
                    <a:pt x="-19937" y="27794"/>
                  </a:lnTo>
                  <a:lnTo>
                    <a:pt x="-20284" y="28026"/>
                  </a:lnTo>
                  <a:lnTo>
                    <a:pt x="-20284" y="28026"/>
                  </a:lnTo>
                  <a:lnTo>
                    <a:pt x="-20631" y="28141"/>
                  </a:lnTo>
                  <a:lnTo>
                    <a:pt x="-20863" y="28257"/>
                  </a:lnTo>
                  <a:lnTo>
                    <a:pt x="-21094" y="28373"/>
                  </a:lnTo>
                  <a:lnTo>
                    <a:pt x="-21442" y="28373"/>
                  </a:lnTo>
                  <a:lnTo>
                    <a:pt x="-21673" y="28489"/>
                  </a:lnTo>
                  <a:lnTo>
                    <a:pt x="-22020" y="28489"/>
                  </a:lnTo>
                  <a:lnTo>
                    <a:pt x="-22252" y="28373"/>
                  </a:lnTo>
                  <a:lnTo>
                    <a:pt x="-22483" y="28141"/>
                  </a:lnTo>
                  <a:lnTo>
                    <a:pt x="-22483" y="28141"/>
                  </a:lnTo>
                  <a:lnTo>
                    <a:pt x="-22715" y="28257"/>
                  </a:lnTo>
                  <a:lnTo>
                    <a:pt x="-22830" y="28373"/>
                  </a:lnTo>
                  <a:lnTo>
                    <a:pt x="-23062" y="28489"/>
                  </a:lnTo>
                  <a:lnTo>
                    <a:pt x="-23293" y="28605"/>
                  </a:lnTo>
                  <a:lnTo>
                    <a:pt x="-23409" y="28605"/>
                  </a:lnTo>
                  <a:lnTo>
                    <a:pt x="-23640" y="28720"/>
                  </a:lnTo>
                  <a:lnTo>
                    <a:pt x="-23872" y="28720"/>
                  </a:lnTo>
                  <a:lnTo>
                    <a:pt x="-24103" y="28605"/>
                  </a:lnTo>
                  <a:lnTo>
                    <a:pt x="-24103" y="28605"/>
                  </a:lnTo>
                  <a:lnTo>
                    <a:pt x="-24335" y="28952"/>
                  </a:lnTo>
                  <a:lnTo>
                    <a:pt x="-24566" y="29184"/>
                  </a:lnTo>
                  <a:lnTo>
                    <a:pt x="-24798" y="29299"/>
                  </a:lnTo>
                  <a:lnTo>
                    <a:pt x="-25145" y="29415"/>
                  </a:lnTo>
                  <a:lnTo>
                    <a:pt x="-25376" y="29531"/>
                  </a:lnTo>
                  <a:lnTo>
                    <a:pt x="-25724" y="29531"/>
                  </a:lnTo>
                  <a:lnTo>
                    <a:pt x="-26071" y="29647"/>
                  </a:lnTo>
                  <a:lnTo>
                    <a:pt x="-26418" y="29531"/>
                  </a:lnTo>
                  <a:lnTo>
                    <a:pt x="-26418" y="29531"/>
                  </a:lnTo>
                  <a:lnTo>
                    <a:pt x="-26534" y="29531"/>
                  </a:lnTo>
                  <a:lnTo>
                    <a:pt x="-26650" y="29415"/>
                  </a:lnTo>
                  <a:lnTo>
                    <a:pt x="-26765" y="29299"/>
                  </a:lnTo>
                  <a:lnTo>
                    <a:pt x="-26881" y="29184"/>
                  </a:lnTo>
                  <a:lnTo>
                    <a:pt x="-26997" y="29068"/>
                  </a:lnTo>
                  <a:lnTo>
                    <a:pt x="-27112" y="28952"/>
                  </a:lnTo>
                  <a:lnTo>
                    <a:pt x="-27228" y="28952"/>
                  </a:lnTo>
                  <a:lnTo>
                    <a:pt x="-27460" y="29068"/>
                  </a:lnTo>
                  <a:lnTo>
                    <a:pt x="-27460" y="29068"/>
                  </a:lnTo>
                  <a:lnTo>
                    <a:pt x="-27575" y="29184"/>
                  </a:lnTo>
                  <a:lnTo>
                    <a:pt x="-27691" y="29299"/>
                  </a:lnTo>
                  <a:lnTo>
                    <a:pt x="-27923" y="29415"/>
                  </a:lnTo>
                  <a:lnTo>
                    <a:pt x="-28038" y="29531"/>
                  </a:lnTo>
                  <a:lnTo>
                    <a:pt x="-28270" y="29647"/>
                  </a:lnTo>
                  <a:lnTo>
                    <a:pt x="-28385" y="29763"/>
                  </a:lnTo>
                  <a:lnTo>
                    <a:pt x="-28617" y="29879"/>
                  </a:lnTo>
                  <a:lnTo>
                    <a:pt x="-28733" y="29994"/>
                  </a:lnTo>
                  <a:lnTo>
                    <a:pt x="-28733" y="29994"/>
                  </a:lnTo>
                  <a:lnTo>
                    <a:pt x="-28733" y="30689"/>
                  </a:lnTo>
                  <a:lnTo>
                    <a:pt x="-28733" y="31268"/>
                  </a:lnTo>
                  <a:lnTo>
                    <a:pt x="-28617" y="31963"/>
                  </a:lnTo>
                  <a:lnTo>
                    <a:pt x="-28501" y="32542"/>
                  </a:lnTo>
                  <a:lnTo>
                    <a:pt x="-28385" y="-32299"/>
                  </a:lnTo>
                  <a:lnTo>
                    <a:pt x="-28385" y="-31720"/>
                  </a:lnTo>
                  <a:lnTo>
                    <a:pt x="-28270" y="-31025"/>
                  </a:lnTo>
                  <a:lnTo>
                    <a:pt x="-28154" y="-30446"/>
                  </a:lnTo>
                  <a:lnTo>
                    <a:pt x="-28154" y="-30446"/>
                  </a:lnTo>
                  <a:lnTo>
                    <a:pt x="-28501" y="-30214"/>
                  </a:lnTo>
                  <a:lnTo>
                    <a:pt x="-28733" y="-29983"/>
                  </a:lnTo>
                  <a:lnTo>
                    <a:pt x="-29196" y="-29867"/>
                  </a:lnTo>
                  <a:lnTo>
                    <a:pt x="-29543" y="-29867"/>
                  </a:lnTo>
                  <a:lnTo>
                    <a:pt x="-29890" y="-29751"/>
                  </a:lnTo>
                  <a:lnTo>
                    <a:pt x="-30237" y="-29751"/>
                  </a:lnTo>
                  <a:lnTo>
                    <a:pt x="-30700" y="-29635"/>
                  </a:lnTo>
                  <a:lnTo>
                    <a:pt x="-31047" y="-29635"/>
                  </a:lnTo>
                  <a:lnTo>
                    <a:pt x="-31047" y="-29635"/>
                  </a:lnTo>
                  <a:lnTo>
                    <a:pt x="-31047" y="-29288"/>
                  </a:lnTo>
                  <a:lnTo>
                    <a:pt x="-31047" y="-29288"/>
                  </a:lnTo>
                  <a:lnTo>
                    <a:pt x="-30700" y="-28825"/>
                  </a:lnTo>
                  <a:lnTo>
                    <a:pt x="-30353" y="-28246"/>
                  </a:lnTo>
                  <a:lnTo>
                    <a:pt x="-30006" y="-27782"/>
                  </a:lnTo>
                  <a:lnTo>
                    <a:pt x="-29774" y="-27319"/>
                  </a:lnTo>
                  <a:lnTo>
                    <a:pt x="-29427" y="-26856"/>
                  </a:lnTo>
                  <a:lnTo>
                    <a:pt x="-29080" y="-26277"/>
                  </a:lnTo>
                  <a:lnTo>
                    <a:pt x="-28848" y="-25814"/>
                  </a:lnTo>
                  <a:lnTo>
                    <a:pt x="-28617" y="-25235"/>
                  </a:lnTo>
                  <a:lnTo>
                    <a:pt x="-28617" y="-25235"/>
                  </a:lnTo>
                  <a:lnTo>
                    <a:pt x="-28733" y="-24540"/>
                  </a:lnTo>
                  <a:lnTo>
                    <a:pt x="-28848" y="-23729"/>
                  </a:lnTo>
                  <a:lnTo>
                    <a:pt x="-28964" y="-23034"/>
                  </a:lnTo>
                  <a:lnTo>
                    <a:pt x="-29196" y="-22224"/>
                  </a:lnTo>
                  <a:lnTo>
                    <a:pt x="-29311" y="-21529"/>
                  </a:lnTo>
                  <a:lnTo>
                    <a:pt x="-29543" y="-20718"/>
                  </a:lnTo>
                  <a:lnTo>
                    <a:pt x="-29659" y="-20023"/>
                  </a:lnTo>
                  <a:lnTo>
                    <a:pt x="-29890" y="-19213"/>
                  </a:lnTo>
                  <a:lnTo>
                    <a:pt x="-29890" y="-19213"/>
                  </a:lnTo>
                  <a:lnTo>
                    <a:pt x="-29774" y="-18865"/>
                  </a:lnTo>
                  <a:lnTo>
                    <a:pt x="-29543" y="-18518"/>
                  </a:lnTo>
                  <a:lnTo>
                    <a:pt x="-29427" y="-18286"/>
                  </a:lnTo>
                  <a:lnTo>
                    <a:pt x="-29196" y="-18054"/>
                  </a:lnTo>
                  <a:lnTo>
                    <a:pt x="-28964" y="-17707"/>
                  </a:lnTo>
                  <a:lnTo>
                    <a:pt x="-28733" y="-17475"/>
                  </a:lnTo>
                  <a:lnTo>
                    <a:pt x="-28501" y="-17244"/>
                  </a:lnTo>
                  <a:lnTo>
                    <a:pt x="-28501" y="-16896"/>
                  </a:lnTo>
                  <a:lnTo>
                    <a:pt x="-28501" y="-16896"/>
                  </a:lnTo>
                  <a:lnTo>
                    <a:pt x="-28385" y="-16665"/>
                  </a:lnTo>
                  <a:lnTo>
                    <a:pt x="-28154" y="-16317"/>
                  </a:lnTo>
                  <a:lnTo>
                    <a:pt x="-28038" y="-16086"/>
                  </a:lnTo>
                  <a:lnTo>
                    <a:pt x="-27807" y="-15854"/>
                  </a:lnTo>
                  <a:lnTo>
                    <a:pt x="-27691" y="-15622"/>
                  </a:lnTo>
                  <a:lnTo>
                    <a:pt x="-27575" y="-15391"/>
                  </a:lnTo>
                  <a:lnTo>
                    <a:pt x="-27344" y="-15159"/>
                  </a:lnTo>
                  <a:lnTo>
                    <a:pt x="-27344" y="-14928"/>
                  </a:lnTo>
                  <a:lnTo>
                    <a:pt x="-27344" y="-14928"/>
                  </a:lnTo>
                  <a:lnTo>
                    <a:pt x="-27228" y="-14464"/>
                  </a:lnTo>
                  <a:lnTo>
                    <a:pt x="-26997" y="-14117"/>
                  </a:lnTo>
                  <a:lnTo>
                    <a:pt x="-26881" y="-13654"/>
                  </a:lnTo>
                  <a:lnTo>
                    <a:pt x="-26881" y="-13190"/>
                  </a:lnTo>
                  <a:lnTo>
                    <a:pt x="-26765" y="-12727"/>
                  </a:lnTo>
                  <a:lnTo>
                    <a:pt x="-26765" y="-12380"/>
                  </a:lnTo>
                  <a:lnTo>
                    <a:pt x="-26881" y="-11917"/>
                  </a:lnTo>
                  <a:lnTo>
                    <a:pt x="-27228" y="-11569"/>
                  </a:lnTo>
                  <a:lnTo>
                    <a:pt x="-27228" y="-11569"/>
                  </a:lnTo>
                  <a:lnTo>
                    <a:pt x="-27228" y="-11453"/>
                  </a:lnTo>
                  <a:lnTo>
                    <a:pt x="-27344" y="-11453"/>
                  </a:lnTo>
                  <a:lnTo>
                    <a:pt x="-27344" y="-11453"/>
                  </a:lnTo>
                  <a:lnTo>
                    <a:pt x="-27460" y="-11453"/>
                  </a:lnTo>
                  <a:lnTo>
                    <a:pt x="-27460" y="-11453"/>
                  </a:lnTo>
                  <a:lnTo>
                    <a:pt x="-27575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8154" y="-11222"/>
                  </a:lnTo>
                  <a:lnTo>
                    <a:pt x="-28733" y="-11106"/>
                  </a:lnTo>
                  <a:lnTo>
                    <a:pt x="-29311" y="-11106"/>
                  </a:lnTo>
                  <a:lnTo>
                    <a:pt x="-29890" y="-11222"/>
                  </a:lnTo>
                  <a:lnTo>
                    <a:pt x="-30353" y="-11337"/>
                  </a:lnTo>
                  <a:lnTo>
                    <a:pt x="-30932" y="-11453"/>
                  </a:lnTo>
                  <a:lnTo>
                    <a:pt x="-31395" y="-11685"/>
                  </a:lnTo>
                  <a:lnTo>
                    <a:pt x="-31857" y="-12032"/>
                  </a:lnTo>
                  <a:lnTo>
                    <a:pt x="-31857" y="-12032"/>
                  </a:lnTo>
                  <a:lnTo>
                    <a:pt x="-32320" y="-12496"/>
                  </a:lnTo>
                  <a:lnTo>
                    <a:pt x="-32552" y="-13075"/>
                  </a:lnTo>
                  <a:lnTo>
                    <a:pt x="32753" y="-13769"/>
                  </a:lnTo>
                  <a:lnTo>
                    <a:pt x="32637" y="-14464"/>
                  </a:lnTo>
                  <a:lnTo>
                    <a:pt x="32405" y="-15159"/>
                  </a:lnTo>
                  <a:lnTo>
                    <a:pt x="32058" y="-15622"/>
                  </a:lnTo>
                  <a:lnTo>
                    <a:pt x="31595" y="-16086"/>
                  </a:lnTo>
                  <a:lnTo>
                    <a:pt x="30785" y="-16201"/>
                  </a:lnTo>
                  <a:lnTo>
                    <a:pt x="30785" y="-16201"/>
                  </a:lnTo>
                  <a:lnTo>
                    <a:pt x="30670" y="-16317"/>
                  </a:lnTo>
                  <a:lnTo>
                    <a:pt x="30554" y="-16549"/>
                  </a:lnTo>
                  <a:lnTo>
                    <a:pt x="30438" y="-16781"/>
                  </a:lnTo>
                  <a:lnTo>
                    <a:pt x="30322" y="-16896"/>
                  </a:lnTo>
                  <a:lnTo>
                    <a:pt x="30322" y="-17128"/>
                  </a:lnTo>
                  <a:lnTo>
                    <a:pt x="30322" y="-17360"/>
                  </a:lnTo>
                  <a:lnTo>
                    <a:pt x="30322" y="-17591"/>
                  </a:lnTo>
                  <a:lnTo>
                    <a:pt x="30322" y="-17823"/>
                  </a:lnTo>
                  <a:lnTo>
                    <a:pt x="30322" y="-17823"/>
                  </a:lnTo>
                  <a:lnTo>
                    <a:pt x="30554" y="-18170"/>
                  </a:lnTo>
                  <a:lnTo>
                    <a:pt x="30785" y="-18518"/>
                  </a:lnTo>
                  <a:lnTo>
                    <a:pt x="31132" y="-18749"/>
                  </a:lnTo>
                  <a:lnTo>
                    <a:pt x="31480" y="-18981"/>
                  </a:lnTo>
                  <a:lnTo>
                    <a:pt x="31827" y="-19213"/>
                  </a:lnTo>
                  <a:lnTo>
                    <a:pt x="32174" y="-19444"/>
                  </a:lnTo>
                  <a:lnTo>
                    <a:pt x="32405" y="-19676"/>
                  </a:lnTo>
                  <a:lnTo>
                    <a:pt x="32637" y="-20139"/>
                  </a:lnTo>
                  <a:lnTo>
                    <a:pt x="32637" y="-20139"/>
                  </a:lnTo>
                  <a:lnTo>
                    <a:pt x="-32668" y="-20950"/>
                  </a:lnTo>
                  <a:lnTo>
                    <a:pt x="-32436" y="-21876"/>
                  </a:lnTo>
                  <a:lnTo>
                    <a:pt x="-32205" y="-22803"/>
                  </a:lnTo>
                  <a:lnTo>
                    <a:pt x="-32089" y="-23729"/>
                  </a:lnTo>
                  <a:lnTo>
                    <a:pt x="-32089" y="-24656"/>
                  </a:lnTo>
                  <a:lnTo>
                    <a:pt x="-32205" y="-25466"/>
                  </a:lnTo>
                  <a:lnTo>
                    <a:pt x="-32552" y="-26277"/>
                  </a:lnTo>
                  <a:lnTo>
                    <a:pt x="32290" y="-27088"/>
                  </a:lnTo>
                  <a:lnTo>
                    <a:pt x="32290" y="-27088"/>
                  </a:lnTo>
                  <a:lnTo>
                    <a:pt x="30901" y="-28593"/>
                  </a:lnTo>
                  <a:lnTo>
                    <a:pt x="30901" y="-28593"/>
                  </a:lnTo>
                  <a:lnTo>
                    <a:pt x="29744" y="-28130"/>
                  </a:lnTo>
                  <a:lnTo>
                    <a:pt x="28586" y="-27667"/>
                  </a:lnTo>
                  <a:lnTo>
                    <a:pt x="27545" y="-27203"/>
                  </a:lnTo>
                  <a:lnTo>
                    <a:pt x="26387" y="-26740"/>
                  </a:lnTo>
                  <a:lnTo>
                    <a:pt x="25230" y="-26161"/>
                  </a:lnTo>
                  <a:lnTo>
                    <a:pt x="24073" y="-25698"/>
                  </a:lnTo>
                  <a:lnTo>
                    <a:pt x="23031" y="-25119"/>
                  </a:lnTo>
                  <a:lnTo>
                    <a:pt x="21874" y="-24656"/>
                  </a:lnTo>
                  <a:lnTo>
                    <a:pt x="21874" y="-24656"/>
                  </a:lnTo>
                  <a:lnTo>
                    <a:pt x="21990" y="-24192"/>
                  </a:lnTo>
                  <a:lnTo>
                    <a:pt x="22221" y="-23845"/>
                  </a:lnTo>
                  <a:lnTo>
                    <a:pt x="22337" y="-23382"/>
                  </a:lnTo>
                  <a:lnTo>
                    <a:pt x="22568" y="-23034"/>
                  </a:lnTo>
                  <a:lnTo>
                    <a:pt x="22684" y="-22687"/>
                  </a:lnTo>
                  <a:lnTo>
                    <a:pt x="22915" y="-22224"/>
                  </a:lnTo>
                  <a:lnTo>
                    <a:pt x="23147" y="-21876"/>
                  </a:lnTo>
                  <a:lnTo>
                    <a:pt x="23263" y="-21529"/>
                  </a:lnTo>
                  <a:lnTo>
                    <a:pt x="23263" y="-21529"/>
                  </a:lnTo>
                  <a:lnTo>
                    <a:pt x="23263" y="-21181"/>
                  </a:lnTo>
                  <a:lnTo>
                    <a:pt x="23147" y="-20950"/>
                  </a:lnTo>
                  <a:lnTo>
                    <a:pt x="23031" y="-20718"/>
                  </a:lnTo>
                  <a:lnTo>
                    <a:pt x="22915" y="-20486"/>
                  </a:lnTo>
                  <a:lnTo>
                    <a:pt x="22684" y="-20371"/>
                  </a:lnTo>
                  <a:lnTo>
                    <a:pt x="22453" y="-20139"/>
                  </a:lnTo>
                  <a:lnTo>
                    <a:pt x="22221" y="-19907"/>
                  </a:lnTo>
                  <a:lnTo>
                    <a:pt x="22105" y="-19792"/>
                  </a:lnTo>
                  <a:lnTo>
                    <a:pt x="22105" y="-19792"/>
                  </a:lnTo>
                  <a:lnTo>
                    <a:pt x="20601" y="-17939"/>
                  </a:lnTo>
                  <a:lnTo>
                    <a:pt x="20601" y="-17939"/>
                  </a:lnTo>
                  <a:lnTo>
                    <a:pt x="20485" y="-17475"/>
                  </a:lnTo>
                  <a:lnTo>
                    <a:pt x="20485" y="-17012"/>
                  </a:lnTo>
                  <a:lnTo>
                    <a:pt x="20369" y="-16433"/>
                  </a:lnTo>
                  <a:lnTo>
                    <a:pt x="20254" y="-15970"/>
                  </a:lnTo>
                  <a:lnTo>
                    <a:pt x="20254" y="-15507"/>
                  </a:lnTo>
                  <a:lnTo>
                    <a:pt x="20254" y="-15043"/>
                  </a:lnTo>
                  <a:lnTo>
                    <a:pt x="20254" y="-14580"/>
                  </a:lnTo>
                  <a:lnTo>
                    <a:pt x="20369" y="-14117"/>
                  </a:lnTo>
                  <a:lnTo>
                    <a:pt x="20369" y="-14117"/>
                  </a:lnTo>
                  <a:lnTo>
                    <a:pt x="20485" y="-14117"/>
                  </a:lnTo>
                  <a:lnTo>
                    <a:pt x="20601" y="-14117"/>
                  </a:lnTo>
                  <a:lnTo>
                    <a:pt x="20832" y="-14001"/>
                  </a:lnTo>
                  <a:lnTo>
                    <a:pt x="20832" y="-13885"/>
                  </a:lnTo>
                  <a:lnTo>
                    <a:pt x="20948" y="-13769"/>
                  </a:lnTo>
                  <a:lnTo>
                    <a:pt x="21064" y="-13654"/>
                  </a:lnTo>
                  <a:lnTo>
                    <a:pt x="21179" y="-13538"/>
                  </a:lnTo>
                  <a:lnTo>
                    <a:pt x="21411" y="-13538"/>
                  </a:lnTo>
                  <a:lnTo>
                    <a:pt x="21411" y="-13538"/>
                  </a:lnTo>
                  <a:lnTo>
                    <a:pt x="23031" y="-13422"/>
                  </a:lnTo>
                  <a:lnTo>
                    <a:pt x="23031" y="-13422"/>
                  </a:lnTo>
                  <a:lnTo>
                    <a:pt x="23031" y="-13306"/>
                  </a:lnTo>
                  <a:lnTo>
                    <a:pt x="23147" y="-13190"/>
                  </a:lnTo>
                  <a:lnTo>
                    <a:pt x="23263" y="-13075"/>
                  </a:lnTo>
                  <a:lnTo>
                    <a:pt x="23378" y="-12959"/>
                  </a:lnTo>
                  <a:lnTo>
                    <a:pt x="23494" y="-12843"/>
                  </a:lnTo>
                  <a:lnTo>
                    <a:pt x="23610" y="-12611"/>
                  </a:lnTo>
                  <a:lnTo>
                    <a:pt x="23610" y="-12496"/>
                  </a:lnTo>
                  <a:lnTo>
                    <a:pt x="23726" y="-12264"/>
                  </a:lnTo>
                  <a:lnTo>
                    <a:pt x="23726" y="-12264"/>
                  </a:lnTo>
                  <a:lnTo>
                    <a:pt x="23726" y="-12032"/>
                  </a:lnTo>
                  <a:lnTo>
                    <a:pt x="23610" y="-11801"/>
                  </a:lnTo>
                  <a:lnTo>
                    <a:pt x="23494" y="-11569"/>
                  </a:lnTo>
                  <a:lnTo>
                    <a:pt x="23378" y="-11453"/>
                  </a:lnTo>
                  <a:lnTo>
                    <a:pt x="23147" y="-11222"/>
                  </a:lnTo>
                  <a:lnTo>
                    <a:pt x="22915" y="-11106"/>
                  </a:lnTo>
                  <a:lnTo>
                    <a:pt x="22684" y="-10990"/>
                  </a:lnTo>
                  <a:lnTo>
                    <a:pt x="22453" y="-10874"/>
                  </a:lnTo>
                  <a:lnTo>
                    <a:pt x="22453" y="-10874"/>
                  </a:lnTo>
                  <a:lnTo>
                    <a:pt x="21758" y="-10643"/>
                  </a:lnTo>
                  <a:lnTo>
                    <a:pt x="21179" y="-10643"/>
                  </a:lnTo>
                  <a:lnTo>
                    <a:pt x="20485" y="-10643"/>
                  </a:lnTo>
                  <a:lnTo>
                    <a:pt x="19791" y="-10758"/>
                  </a:lnTo>
                  <a:lnTo>
                    <a:pt x="19096" y="-10990"/>
                  </a:lnTo>
                  <a:lnTo>
                    <a:pt x="18518" y="-11222"/>
                  </a:lnTo>
                  <a:lnTo>
                    <a:pt x="17939" y="-11569"/>
                  </a:lnTo>
                  <a:lnTo>
                    <a:pt x="17360" y="-11917"/>
                  </a:lnTo>
                  <a:lnTo>
                    <a:pt x="17360" y="-11917"/>
                  </a:lnTo>
                  <a:lnTo>
                    <a:pt x="17013" y="-12496"/>
                  </a:lnTo>
                  <a:lnTo>
                    <a:pt x="16782" y="-13190"/>
                  </a:lnTo>
                  <a:lnTo>
                    <a:pt x="16550" y="-13769"/>
                  </a:lnTo>
                  <a:lnTo>
                    <a:pt x="16319" y="-14464"/>
                  </a:lnTo>
                  <a:lnTo>
                    <a:pt x="15972" y="-15043"/>
                  </a:lnTo>
                  <a:lnTo>
                    <a:pt x="15509" y="-15622"/>
                  </a:lnTo>
                  <a:lnTo>
                    <a:pt x="15046" y="-16086"/>
                  </a:lnTo>
                  <a:lnTo>
                    <a:pt x="14351" y="-16317"/>
                  </a:lnTo>
                  <a:lnTo>
                    <a:pt x="14351" y="-16317"/>
                  </a:lnTo>
                  <a:lnTo>
                    <a:pt x="14236" y="-16433"/>
                  </a:lnTo>
                  <a:lnTo>
                    <a:pt x="14120" y="-16549"/>
                  </a:lnTo>
                  <a:lnTo>
                    <a:pt x="14120" y="-16781"/>
                  </a:lnTo>
                  <a:lnTo>
                    <a:pt x="14004" y="-16896"/>
                  </a:lnTo>
                  <a:lnTo>
                    <a:pt x="14004" y="-17128"/>
                  </a:lnTo>
                  <a:lnTo>
                    <a:pt x="14004" y="-17244"/>
                  </a:lnTo>
                  <a:lnTo>
                    <a:pt x="14120" y="-17360"/>
                  </a:lnTo>
                  <a:lnTo>
                    <a:pt x="14120" y="-17591"/>
                  </a:lnTo>
                  <a:lnTo>
                    <a:pt x="14120" y="-17591"/>
                  </a:lnTo>
                  <a:lnTo>
                    <a:pt x="14467" y="-17939"/>
                  </a:lnTo>
                  <a:lnTo>
                    <a:pt x="14930" y="-18286"/>
                  </a:lnTo>
                  <a:lnTo>
                    <a:pt x="15393" y="-18402"/>
                  </a:lnTo>
                  <a:lnTo>
                    <a:pt x="15972" y="-18633"/>
                  </a:lnTo>
                  <a:lnTo>
                    <a:pt x="16434" y="-18749"/>
                  </a:lnTo>
                  <a:lnTo>
                    <a:pt x="17013" y="-18865"/>
                  </a:lnTo>
                  <a:lnTo>
                    <a:pt x="17476" y="-19097"/>
                  </a:lnTo>
                  <a:lnTo>
                    <a:pt x="17939" y="-19444"/>
                  </a:lnTo>
                  <a:lnTo>
                    <a:pt x="17939" y="-19444"/>
                  </a:lnTo>
                  <a:lnTo>
                    <a:pt x="18286" y="-19792"/>
                  </a:lnTo>
                  <a:lnTo>
                    <a:pt x="18633" y="-20023"/>
                  </a:lnTo>
                  <a:lnTo>
                    <a:pt x="18981" y="-20255"/>
                  </a:lnTo>
                  <a:lnTo>
                    <a:pt x="19328" y="-20602"/>
                  </a:lnTo>
                  <a:lnTo>
                    <a:pt x="19559" y="-20950"/>
                  </a:lnTo>
                  <a:lnTo>
                    <a:pt x="19791" y="-21297"/>
                  </a:lnTo>
                  <a:lnTo>
                    <a:pt x="20022" y="-21645"/>
                  </a:lnTo>
                  <a:lnTo>
                    <a:pt x="20369" y="-21992"/>
                  </a:lnTo>
                  <a:lnTo>
                    <a:pt x="20369" y="-21992"/>
                  </a:lnTo>
                  <a:lnTo>
                    <a:pt x="20138" y="-22108"/>
                  </a:lnTo>
                  <a:lnTo>
                    <a:pt x="20022" y="-22339"/>
                  </a:lnTo>
                  <a:lnTo>
                    <a:pt x="19906" y="-22571"/>
                  </a:lnTo>
                  <a:lnTo>
                    <a:pt x="19906" y="-22803"/>
                  </a:lnTo>
                  <a:lnTo>
                    <a:pt x="19791" y="-23034"/>
                  </a:lnTo>
                  <a:lnTo>
                    <a:pt x="19675" y="-23266"/>
                  </a:lnTo>
                  <a:lnTo>
                    <a:pt x="19559" y="-23382"/>
                  </a:lnTo>
                  <a:lnTo>
                    <a:pt x="19443" y="-23613"/>
                  </a:lnTo>
                  <a:lnTo>
                    <a:pt x="19443" y="-23613"/>
                  </a:lnTo>
                  <a:lnTo>
                    <a:pt x="18633" y="-23266"/>
                  </a:lnTo>
                  <a:lnTo>
                    <a:pt x="17823" y="-22918"/>
                  </a:lnTo>
                  <a:lnTo>
                    <a:pt x="17129" y="-22571"/>
                  </a:lnTo>
                  <a:lnTo>
                    <a:pt x="16319" y="-22224"/>
                  </a:lnTo>
                  <a:lnTo>
                    <a:pt x="15624" y="-21876"/>
                  </a:lnTo>
                  <a:lnTo>
                    <a:pt x="14814" y="-21529"/>
                  </a:lnTo>
                  <a:lnTo>
                    <a:pt x="14120" y="-21297"/>
                  </a:lnTo>
                  <a:lnTo>
                    <a:pt x="13194" y="-21181"/>
                  </a:lnTo>
                  <a:lnTo>
                    <a:pt x="13194" y="-21181"/>
                  </a:lnTo>
                  <a:lnTo>
                    <a:pt x="13194" y="-21297"/>
                  </a:lnTo>
                  <a:lnTo>
                    <a:pt x="13194" y="-21413"/>
                  </a:lnTo>
                  <a:lnTo>
                    <a:pt x="13078" y="-21645"/>
                  </a:lnTo>
                  <a:lnTo>
                    <a:pt x="13078" y="-21760"/>
                  </a:lnTo>
                  <a:lnTo>
                    <a:pt x="13078" y="-21876"/>
                  </a:lnTo>
                  <a:lnTo>
                    <a:pt x="13078" y="-22108"/>
                  </a:lnTo>
                  <a:lnTo>
                    <a:pt x="13078" y="-22224"/>
                  </a:lnTo>
                  <a:lnTo>
                    <a:pt x="12962" y="-22339"/>
                  </a:lnTo>
                  <a:lnTo>
                    <a:pt x="12962" y="-22339"/>
                  </a:lnTo>
                  <a:lnTo>
                    <a:pt x="12847" y="-22224"/>
                  </a:lnTo>
                  <a:lnTo>
                    <a:pt x="12731" y="-22224"/>
                  </a:lnTo>
                  <a:lnTo>
                    <a:pt x="12615" y="-22108"/>
                  </a:lnTo>
                  <a:lnTo>
                    <a:pt x="12500" y="-22108"/>
                  </a:lnTo>
                  <a:lnTo>
                    <a:pt x="12384" y="-22108"/>
                  </a:lnTo>
                  <a:lnTo>
                    <a:pt x="12268" y="-21992"/>
                  </a:lnTo>
                  <a:lnTo>
                    <a:pt x="12152" y="-22108"/>
                  </a:lnTo>
                  <a:lnTo>
                    <a:pt x="12037" y="-22108"/>
                  </a:lnTo>
                  <a:lnTo>
                    <a:pt x="12037" y="-22108"/>
                  </a:lnTo>
                  <a:lnTo>
                    <a:pt x="12037" y="-22339"/>
                  </a:lnTo>
                  <a:lnTo>
                    <a:pt x="12037" y="-22339"/>
                  </a:lnTo>
                  <a:lnTo>
                    <a:pt x="12037" y="-22455"/>
                  </a:lnTo>
                  <a:lnTo>
                    <a:pt x="11921" y="-22455"/>
                  </a:lnTo>
                  <a:lnTo>
                    <a:pt x="11805" y="-22455"/>
                  </a:lnTo>
                  <a:lnTo>
                    <a:pt x="11689" y="-22455"/>
                  </a:lnTo>
                  <a:lnTo>
                    <a:pt x="11574" y="-22339"/>
                  </a:lnTo>
                  <a:lnTo>
                    <a:pt x="11574" y="-22339"/>
                  </a:lnTo>
                  <a:lnTo>
                    <a:pt x="11458" y="-22339"/>
                  </a:lnTo>
                  <a:lnTo>
                    <a:pt x="11342" y="-22339"/>
                  </a:lnTo>
                  <a:lnTo>
                    <a:pt x="11342" y="-22339"/>
                  </a:lnTo>
                  <a:lnTo>
                    <a:pt x="11342" y="-22455"/>
                  </a:lnTo>
                  <a:lnTo>
                    <a:pt x="11342" y="-22571"/>
                  </a:lnTo>
                  <a:lnTo>
                    <a:pt x="11342" y="-22687"/>
                  </a:lnTo>
                  <a:lnTo>
                    <a:pt x="11342" y="-22803"/>
                  </a:lnTo>
                  <a:lnTo>
                    <a:pt x="11342" y="-22918"/>
                  </a:lnTo>
                  <a:lnTo>
                    <a:pt x="11342" y="-23034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226" y="-23150"/>
                  </a:lnTo>
                  <a:lnTo>
                    <a:pt x="11111" y="-23034"/>
                  </a:lnTo>
                  <a:lnTo>
                    <a:pt x="10995" y="-23034"/>
                  </a:lnTo>
                  <a:lnTo>
                    <a:pt x="10879" y="-22918"/>
                  </a:lnTo>
                  <a:lnTo>
                    <a:pt x="10648" y="-22918"/>
                  </a:lnTo>
                  <a:lnTo>
                    <a:pt x="10532" y="-22918"/>
                  </a:lnTo>
                  <a:lnTo>
                    <a:pt x="10416" y="-22918"/>
                  </a:lnTo>
                  <a:lnTo>
                    <a:pt x="10301" y="-22918"/>
                  </a:lnTo>
                  <a:lnTo>
                    <a:pt x="10301" y="-22918"/>
                  </a:lnTo>
                  <a:lnTo>
                    <a:pt x="10416" y="-24192"/>
                  </a:lnTo>
                  <a:lnTo>
                    <a:pt x="10648" y="-25350"/>
                  </a:lnTo>
                  <a:lnTo>
                    <a:pt x="10764" y="-26509"/>
                  </a:lnTo>
                  <a:lnTo>
                    <a:pt x="10879" y="-27782"/>
                  </a:lnTo>
                  <a:lnTo>
                    <a:pt x="10995" y="-28941"/>
                  </a:lnTo>
                  <a:lnTo>
                    <a:pt x="11226" y="-30099"/>
                  </a:lnTo>
                  <a:lnTo>
                    <a:pt x="11342" y="-31257"/>
                  </a:lnTo>
                  <a:lnTo>
                    <a:pt x="11574" y="-32415"/>
                  </a:lnTo>
                  <a:lnTo>
                    <a:pt x="11574" y="-32415"/>
                  </a:lnTo>
                  <a:lnTo>
                    <a:pt x="11458" y="-32531"/>
                  </a:lnTo>
                  <a:lnTo>
                    <a:pt x="11342" y="-32646"/>
                  </a:lnTo>
                  <a:lnTo>
                    <a:pt x="11111" y="-32762"/>
                  </a:lnTo>
                  <a:lnTo>
                    <a:pt x="10995" y="32658"/>
                  </a:lnTo>
                  <a:lnTo>
                    <a:pt x="10879" y="32542"/>
                  </a:lnTo>
                  <a:lnTo>
                    <a:pt x="10648" y="32426"/>
                  </a:lnTo>
                  <a:lnTo>
                    <a:pt x="10532" y="32311"/>
                  </a:lnTo>
                  <a:lnTo>
                    <a:pt x="10532" y="32195"/>
                  </a:lnTo>
                  <a:lnTo>
                    <a:pt x="10532" y="32195"/>
                  </a:lnTo>
                  <a:lnTo>
                    <a:pt x="10532" y="32542"/>
                  </a:lnTo>
                  <a:lnTo>
                    <a:pt x="10532" y="-32762"/>
                  </a:lnTo>
                  <a:lnTo>
                    <a:pt x="10648" y="-32415"/>
                  </a:lnTo>
                  <a:lnTo>
                    <a:pt x="10764" y="-32067"/>
                  </a:lnTo>
                  <a:lnTo>
                    <a:pt x="10879" y="-31720"/>
                  </a:lnTo>
                  <a:lnTo>
                    <a:pt x="10879" y="-31488"/>
                  </a:lnTo>
                  <a:lnTo>
                    <a:pt x="10879" y="-31141"/>
                  </a:lnTo>
                  <a:lnTo>
                    <a:pt x="10879" y="-30793"/>
                  </a:lnTo>
                  <a:lnTo>
                    <a:pt x="10879" y="-30793"/>
                  </a:lnTo>
                  <a:lnTo>
                    <a:pt x="10764" y="-30678"/>
                  </a:lnTo>
                  <a:lnTo>
                    <a:pt x="10648" y="-30562"/>
                  </a:lnTo>
                  <a:lnTo>
                    <a:pt x="10532" y="-30562"/>
                  </a:lnTo>
                  <a:lnTo>
                    <a:pt x="10301" y="-30446"/>
                  </a:lnTo>
                  <a:lnTo>
                    <a:pt x="10185" y="-30446"/>
                  </a:lnTo>
                  <a:lnTo>
                    <a:pt x="9953" y="-30562"/>
                  </a:lnTo>
                  <a:lnTo>
                    <a:pt x="9838" y="-30562"/>
                  </a:lnTo>
                  <a:lnTo>
                    <a:pt x="9722" y="-30678"/>
                  </a:lnTo>
                  <a:lnTo>
                    <a:pt x="9722" y="-30678"/>
                  </a:lnTo>
                  <a:lnTo>
                    <a:pt x="9491" y="-30678"/>
                  </a:lnTo>
                  <a:lnTo>
                    <a:pt x="9259" y="-30909"/>
                  </a:lnTo>
                  <a:lnTo>
                    <a:pt x="9143" y="-31025"/>
                  </a:lnTo>
                  <a:lnTo>
                    <a:pt x="9028" y="-31257"/>
                  </a:lnTo>
                  <a:lnTo>
                    <a:pt x="8912" y="-31488"/>
                  </a:lnTo>
                  <a:lnTo>
                    <a:pt x="8796" y="-31604"/>
                  </a:lnTo>
                  <a:lnTo>
                    <a:pt x="8680" y="-31836"/>
                  </a:lnTo>
                  <a:lnTo>
                    <a:pt x="8565" y="-32067"/>
                  </a:lnTo>
                  <a:lnTo>
                    <a:pt x="8565" y="-32067"/>
                  </a:lnTo>
                  <a:lnTo>
                    <a:pt x="7870" y="-31836"/>
                  </a:lnTo>
                  <a:lnTo>
                    <a:pt x="7292" y="-31604"/>
                  </a:lnTo>
                  <a:lnTo>
                    <a:pt x="6597" y="-31373"/>
                  </a:lnTo>
                  <a:lnTo>
                    <a:pt x="6019" y="-31025"/>
                  </a:lnTo>
                  <a:lnTo>
                    <a:pt x="5440" y="-30793"/>
                  </a:lnTo>
                  <a:lnTo>
                    <a:pt x="4861" y="-30562"/>
                  </a:lnTo>
                  <a:lnTo>
                    <a:pt x="4167" y="-30330"/>
                  </a:lnTo>
                  <a:lnTo>
                    <a:pt x="3588" y="-30099"/>
                  </a:lnTo>
                  <a:lnTo>
                    <a:pt x="3588" y="-30099"/>
                  </a:lnTo>
                  <a:lnTo>
                    <a:pt x="3241" y="-30099"/>
                  </a:lnTo>
                  <a:lnTo>
                    <a:pt x="2894" y="-30099"/>
                  </a:lnTo>
                  <a:lnTo>
                    <a:pt x="2547" y="-30099"/>
                  </a:lnTo>
                  <a:lnTo>
                    <a:pt x="2199" y="-30330"/>
                  </a:lnTo>
                  <a:lnTo>
                    <a:pt x="1852" y="-30446"/>
                  </a:lnTo>
                  <a:lnTo>
                    <a:pt x="1505" y="-30678"/>
                  </a:lnTo>
                  <a:lnTo>
                    <a:pt x="1274" y="-30909"/>
                  </a:lnTo>
                  <a:lnTo>
                    <a:pt x="926" y="-31141"/>
                  </a:lnTo>
                  <a:lnTo>
                    <a:pt x="926" y="-31141"/>
                  </a:lnTo>
                  <a:lnTo>
                    <a:pt x="579" y="-31720"/>
                  </a:lnTo>
                  <a:lnTo>
                    <a:pt x="232" y="-32415"/>
                  </a:lnTo>
                  <a:lnTo>
                    <a:pt x="116" y="32426"/>
                  </a:lnTo>
                  <a:lnTo>
                    <a:pt x="0" y="31731"/>
                  </a:lnTo>
                  <a:lnTo>
                    <a:pt x="0" y="31037"/>
                  </a:lnTo>
                  <a:lnTo>
                    <a:pt x="116" y="30342"/>
                  </a:lnTo>
                  <a:lnTo>
                    <a:pt x="348" y="29647"/>
                  </a:lnTo>
                  <a:lnTo>
                    <a:pt x="579" y="29068"/>
                  </a:lnTo>
                  <a:lnTo>
                    <a:pt x="579" y="29068"/>
                  </a:lnTo>
                  <a:lnTo>
                    <a:pt x="1158" y="28257"/>
                  </a:lnTo>
                  <a:lnTo>
                    <a:pt x="1968" y="27910"/>
                  </a:lnTo>
                  <a:lnTo>
                    <a:pt x="2894" y="27678"/>
                  </a:lnTo>
                  <a:lnTo>
                    <a:pt x="3820" y="27562"/>
                  </a:lnTo>
                  <a:lnTo>
                    <a:pt x="4745" y="27562"/>
                  </a:lnTo>
                  <a:lnTo>
                    <a:pt x="5671" y="27331"/>
                  </a:lnTo>
                  <a:lnTo>
                    <a:pt x="6597" y="27099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523" y="26520"/>
                  </a:lnTo>
                  <a:lnTo>
                    <a:pt x="7523" y="26520"/>
                  </a:lnTo>
                  <a:lnTo>
                    <a:pt x="7639" y="26520"/>
                  </a:lnTo>
                  <a:lnTo>
                    <a:pt x="7639" y="26520"/>
                  </a:lnTo>
                  <a:lnTo>
                    <a:pt x="7755" y="26520"/>
                  </a:lnTo>
                  <a:lnTo>
                    <a:pt x="7755" y="26520"/>
                  </a:lnTo>
                  <a:lnTo>
                    <a:pt x="7870" y="26520"/>
                  </a:lnTo>
                  <a:lnTo>
                    <a:pt x="7870" y="26520"/>
                  </a:lnTo>
                  <a:lnTo>
                    <a:pt x="7292" y="25709"/>
                  </a:lnTo>
                  <a:lnTo>
                    <a:pt x="6713" y="25014"/>
                  </a:lnTo>
                  <a:lnTo>
                    <a:pt x="6250" y="24204"/>
                  </a:lnTo>
                  <a:lnTo>
                    <a:pt x="5787" y="23393"/>
                  </a:lnTo>
                  <a:lnTo>
                    <a:pt x="5440" y="22582"/>
                  </a:lnTo>
                  <a:lnTo>
                    <a:pt x="5208" y="21772"/>
                  </a:lnTo>
                  <a:lnTo>
                    <a:pt x="5208" y="20845"/>
                  </a:lnTo>
                  <a:lnTo>
                    <a:pt x="5324" y="19919"/>
                  </a:lnTo>
                  <a:lnTo>
                    <a:pt x="5324" y="19919"/>
                  </a:lnTo>
                  <a:lnTo>
                    <a:pt x="5440" y="19571"/>
                  </a:lnTo>
                  <a:lnTo>
                    <a:pt x="5671" y="19224"/>
                  </a:lnTo>
                  <a:lnTo>
                    <a:pt x="6019" y="19108"/>
                  </a:lnTo>
                  <a:lnTo>
                    <a:pt x="6366" y="18992"/>
                  </a:lnTo>
                  <a:lnTo>
                    <a:pt x="6713" y="18877"/>
                  </a:lnTo>
                  <a:lnTo>
                    <a:pt x="7060" y="18761"/>
                  </a:lnTo>
                  <a:lnTo>
                    <a:pt x="7523" y="18761"/>
                  </a:lnTo>
                  <a:lnTo>
                    <a:pt x="7870" y="18645"/>
                  </a:lnTo>
                  <a:lnTo>
                    <a:pt x="7870" y="18645"/>
                  </a:lnTo>
                  <a:lnTo>
                    <a:pt x="8565" y="18529"/>
                  </a:lnTo>
                  <a:lnTo>
                    <a:pt x="9259" y="18529"/>
                  </a:lnTo>
                  <a:lnTo>
                    <a:pt x="9953" y="18529"/>
                  </a:lnTo>
                  <a:lnTo>
                    <a:pt x="10648" y="18645"/>
                  </a:lnTo>
                  <a:lnTo>
                    <a:pt x="11342" y="18645"/>
                  </a:lnTo>
                  <a:lnTo>
                    <a:pt x="11921" y="18877"/>
                  </a:lnTo>
                  <a:lnTo>
                    <a:pt x="12615" y="18992"/>
                  </a:lnTo>
                  <a:lnTo>
                    <a:pt x="13310" y="19108"/>
                  </a:lnTo>
                  <a:lnTo>
                    <a:pt x="13310" y="19108"/>
                  </a:lnTo>
                  <a:lnTo>
                    <a:pt x="13425" y="18992"/>
                  </a:lnTo>
                  <a:lnTo>
                    <a:pt x="13425" y="18992"/>
                  </a:lnTo>
                  <a:lnTo>
                    <a:pt x="13773" y="17139"/>
                  </a:lnTo>
                  <a:lnTo>
                    <a:pt x="14004" y="15286"/>
                  </a:lnTo>
                  <a:lnTo>
                    <a:pt x="14351" y="13434"/>
                  </a:lnTo>
                  <a:lnTo>
                    <a:pt x="14814" y="11581"/>
                  </a:lnTo>
                  <a:lnTo>
                    <a:pt x="15161" y="9728"/>
                  </a:lnTo>
                  <a:lnTo>
                    <a:pt x="15509" y="7875"/>
                  </a:lnTo>
                  <a:lnTo>
                    <a:pt x="15856" y="6138"/>
                  </a:lnTo>
                  <a:lnTo>
                    <a:pt x="16203" y="4285"/>
                  </a:lnTo>
                  <a:lnTo>
                    <a:pt x="16203" y="4285"/>
                  </a:lnTo>
                  <a:lnTo>
                    <a:pt x="16319" y="4053"/>
                  </a:lnTo>
                  <a:lnTo>
                    <a:pt x="16319" y="3821"/>
                  </a:lnTo>
                  <a:lnTo>
                    <a:pt x="16203" y="3590"/>
                  </a:lnTo>
                  <a:lnTo>
                    <a:pt x="16203" y="3358"/>
                  </a:lnTo>
                  <a:lnTo>
                    <a:pt x="16319" y="3126"/>
                  </a:lnTo>
                  <a:lnTo>
                    <a:pt x="16434" y="3011"/>
                  </a:lnTo>
                  <a:lnTo>
                    <a:pt x="16550" y="2895"/>
                  </a:lnTo>
                  <a:lnTo>
                    <a:pt x="16897" y="2895"/>
                  </a:lnTo>
                  <a:lnTo>
                    <a:pt x="16897" y="2895"/>
                  </a:lnTo>
                  <a:lnTo>
                    <a:pt x="16782" y="2663"/>
                  </a:lnTo>
                  <a:lnTo>
                    <a:pt x="16782" y="2316"/>
                  </a:lnTo>
                  <a:lnTo>
                    <a:pt x="16782" y="1968"/>
                  </a:lnTo>
                  <a:lnTo>
                    <a:pt x="16782" y="1621"/>
                  </a:lnTo>
                  <a:lnTo>
                    <a:pt x="16897" y="1389"/>
                  </a:lnTo>
                  <a:lnTo>
                    <a:pt x="17013" y="1042"/>
                  </a:lnTo>
                  <a:lnTo>
                    <a:pt x="17129" y="810"/>
                  </a:lnTo>
                  <a:lnTo>
                    <a:pt x="17360" y="579"/>
                  </a:lnTo>
                  <a:lnTo>
                    <a:pt x="17360" y="579"/>
                  </a:lnTo>
                  <a:lnTo>
                    <a:pt x="17707" y="347"/>
                  </a:lnTo>
                  <a:lnTo>
                    <a:pt x="18055" y="115"/>
                  </a:lnTo>
                  <a:lnTo>
                    <a:pt x="18518" y="0"/>
                  </a:lnTo>
                  <a:lnTo>
                    <a:pt x="18981" y="0"/>
                  </a:lnTo>
                  <a:lnTo>
                    <a:pt x="19328" y="0"/>
                  </a:lnTo>
                  <a:lnTo>
                    <a:pt x="19791" y="115"/>
                  </a:lnTo>
                  <a:lnTo>
                    <a:pt x="20138" y="347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1158120" y="2932560"/>
              <a:ext cx="115560" cy="192600"/>
            </a:xfrm>
            <a:custGeom>
              <a:avLst/>
              <a:gdLst/>
              <a:ahLst/>
              <a:rect l="l" t="t" r="r" b="b"/>
              <a:pathLst>
                <a:path w="3240" h="3590">
                  <a:moveTo>
                    <a:pt x="3124" y="926"/>
                  </a:moveTo>
                  <a:lnTo>
                    <a:pt x="3124" y="1274"/>
                  </a:lnTo>
                  <a:lnTo>
                    <a:pt x="3240" y="1621"/>
                  </a:lnTo>
                  <a:lnTo>
                    <a:pt x="3240" y="1969"/>
                  </a:lnTo>
                  <a:lnTo>
                    <a:pt x="3240" y="2316"/>
                  </a:lnTo>
                  <a:lnTo>
                    <a:pt x="3240" y="2663"/>
                  </a:lnTo>
                  <a:lnTo>
                    <a:pt x="3124" y="2895"/>
                  </a:lnTo>
                  <a:lnTo>
                    <a:pt x="3009" y="3243"/>
                  </a:lnTo>
                  <a:lnTo>
                    <a:pt x="2893" y="3590"/>
                  </a:lnTo>
                  <a:lnTo>
                    <a:pt x="2893" y="3590"/>
                  </a:lnTo>
                  <a:lnTo>
                    <a:pt x="2546" y="3590"/>
                  </a:lnTo>
                  <a:lnTo>
                    <a:pt x="2546" y="3243"/>
                  </a:lnTo>
                  <a:lnTo>
                    <a:pt x="2661" y="3243"/>
                  </a:lnTo>
                  <a:lnTo>
                    <a:pt x="2661" y="3243"/>
                  </a:lnTo>
                  <a:lnTo>
                    <a:pt x="2661" y="3011"/>
                  </a:lnTo>
                  <a:lnTo>
                    <a:pt x="2777" y="2663"/>
                  </a:lnTo>
                  <a:lnTo>
                    <a:pt x="2893" y="2432"/>
                  </a:lnTo>
                  <a:lnTo>
                    <a:pt x="2893" y="2084"/>
                  </a:lnTo>
                  <a:lnTo>
                    <a:pt x="3009" y="1737"/>
                  </a:lnTo>
                  <a:lnTo>
                    <a:pt x="2893" y="1505"/>
                  </a:lnTo>
                  <a:lnTo>
                    <a:pt x="2893" y="1158"/>
                  </a:lnTo>
                  <a:lnTo>
                    <a:pt x="2777" y="926"/>
                  </a:lnTo>
                  <a:lnTo>
                    <a:pt x="2777" y="926"/>
                  </a:lnTo>
                  <a:lnTo>
                    <a:pt x="2661" y="811"/>
                  </a:lnTo>
                  <a:lnTo>
                    <a:pt x="2546" y="695"/>
                  </a:lnTo>
                  <a:lnTo>
                    <a:pt x="2430" y="579"/>
                  </a:lnTo>
                  <a:lnTo>
                    <a:pt x="2198" y="463"/>
                  </a:lnTo>
                  <a:lnTo>
                    <a:pt x="2083" y="347"/>
                  </a:lnTo>
                  <a:lnTo>
                    <a:pt x="1967" y="231"/>
                  </a:lnTo>
                  <a:lnTo>
                    <a:pt x="1851" y="231"/>
                  </a:lnTo>
                  <a:lnTo>
                    <a:pt x="1736" y="231"/>
                  </a:lnTo>
                  <a:lnTo>
                    <a:pt x="1736" y="231"/>
                  </a:lnTo>
                  <a:lnTo>
                    <a:pt x="1504" y="231"/>
                  </a:lnTo>
                  <a:lnTo>
                    <a:pt x="1273" y="347"/>
                  </a:lnTo>
                  <a:lnTo>
                    <a:pt x="1041" y="347"/>
                  </a:lnTo>
                  <a:lnTo>
                    <a:pt x="925" y="463"/>
                  </a:lnTo>
                  <a:lnTo>
                    <a:pt x="694" y="695"/>
                  </a:lnTo>
                  <a:lnTo>
                    <a:pt x="578" y="811"/>
                  </a:lnTo>
                  <a:lnTo>
                    <a:pt x="462" y="926"/>
                  </a:lnTo>
                  <a:lnTo>
                    <a:pt x="347" y="1158"/>
                  </a:lnTo>
                  <a:lnTo>
                    <a:pt x="347" y="1158"/>
                  </a:lnTo>
                  <a:lnTo>
                    <a:pt x="347" y="2432"/>
                  </a:lnTo>
                  <a:lnTo>
                    <a:pt x="347" y="2432"/>
                  </a:lnTo>
                  <a:lnTo>
                    <a:pt x="115" y="2316"/>
                  </a:lnTo>
                  <a:lnTo>
                    <a:pt x="115" y="2200"/>
                  </a:lnTo>
                  <a:lnTo>
                    <a:pt x="0" y="1969"/>
                  </a:lnTo>
                  <a:lnTo>
                    <a:pt x="0" y="1737"/>
                  </a:lnTo>
                  <a:lnTo>
                    <a:pt x="0" y="1505"/>
                  </a:lnTo>
                  <a:lnTo>
                    <a:pt x="0" y="1390"/>
                  </a:lnTo>
                  <a:lnTo>
                    <a:pt x="0" y="1158"/>
                  </a:lnTo>
                  <a:lnTo>
                    <a:pt x="115" y="926"/>
                  </a:lnTo>
                  <a:lnTo>
                    <a:pt x="115" y="926"/>
                  </a:lnTo>
                  <a:lnTo>
                    <a:pt x="347" y="579"/>
                  </a:lnTo>
                  <a:lnTo>
                    <a:pt x="694" y="231"/>
                  </a:lnTo>
                  <a:lnTo>
                    <a:pt x="1041" y="116"/>
                  </a:lnTo>
                  <a:lnTo>
                    <a:pt x="1504" y="0"/>
                  </a:lnTo>
                  <a:lnTo>
                    <a:pt x="2083" y="0"/>
                  </a:lnTo>
                  <a:lnTo>
                    <a:pt x="2430" y="231"/>
                  </a:lnTo>
                  <a:lnTo>
                    <a:pt x="2777" y="463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1282320" y="2945160"/>
              <a:ext cx="65880" cy="211320"/>
            </a:xfrm>
            <a:custGeom>
              <a:avLst/>
              <a:gdLst/>
              <a:ahLst/>
              <a:rect l="l" t="t" r="r" b="b"/>
              <a:pathLst>
                <a:path w="1851" h="3938">
                  <a:moveTo>
                    <a:pt x="1851" y="1853"/>
                  </a:moveTo>
                  <a:lnTo>
                    <a:pt x="1851" y="1969"/>
                  </a:lnTo>
                  <a:lnTo>
                    <a:pt x="1851" y="2201"/>
                  </a:lnTo>
                  <a:lnTo>
                    <a:pt x="1851" y="2317"/>
                  </a:lnTo>
                  <a:lnTo>
                    <a:pt x="1736" y="2432"/>
                  </a:lnTo>
                  <a:lnTo>
                    <a:pt x="1736" y="2548"/>
                  </a:lnTo>
                  <a:lnTo>
                    <a:pt x="1736" y="2664"/>
                  </a:lnTo>
                  <a:lnTo>
                    <a:pt x="1736" y="2896"/>
                  </a:lnTo>
                  <a:lnTo>
                    <a:pt x="1736" y="3012"/>
                  </a:lnTo>
                  <a:lnTo>
                    <a:pt x="1736" y="3012"/>
                  </a:lnTo>
                  <a:lnTo>
                    <a:pt x="1620" y="3127"/>
                  </a:lnTo>
                  <a:lnTo>
                    <a:pt x="1620" y="3243"/>
                  </a:lnTo>
                  <a:lnTo>
                    <a:pt x="1504" y="3359"/>
                  </a:lnTo>
                  <a:lnTo>
                    <a:pt x="1388" y="3475"/>
                  </a:lnTo>
                  <a:lnTo>
                    <a:pt x="1273" y="3591"/>
                  </a:lnTo>
                  <a:lnTo>
                    <a:pt x="1157" y="3706"/>
                  </a:lnTo>
                  <a:lnTo>
                    <a:pt x="1041" y="3822"/>
                  </a:lnTo>
                  <a:lnTo>
                    <a:pt x="925" y="3938"/>
                  </a:lnTo>
                  <a:lnTo>
                    <a:pt x="925" y="3938"/>
                  </a:lnTo>
                  <a:lnTo>
                    <a:pt x="810" y="3938"/>
                  </a:lnTo>
                  <a:lnTo>
                    <a:pt x="810" y="3938"/>
                  </a:lnTo>
                  <a:lnTo>
                    <a:pt x="694" y="3938"/>
                  </a:lnTo>
                  <a:lnTo>
                    <a:pt x="694" y="3822"/>
                  </a:lnTo>
                  <a:lnTo>
                    <a:pt x="694" y="3822"/>
                  </a:lnTo>
                  <a:lnTo>
                    <a:pt x="694" y="3706"/>
                  </a:lnTo>
                  <a:lnTo>
                    <a:pt x="694" y="3706"/>
                  </a:lnTo>
                  <a:lnTo>
                    <a:pt x="694" y="3591"/>
                  </a:lnTo>
                  <a:lnTo>
                    <a:pt x="694" y="3591"/>
                  </a:lnTo>
                  <a:lnTo>
                    <a:pt x="925" y="3243"/>
                  </a:lnTo>
                  <a:lnTo>
                    <a:pt x="1157" y="3012"/>
                  </a:lnTo>
                  <a:lnTo>
                    <a:pt x="1273" y="2664"/>
                  </a:lnTo>
                  <a:lnTo>
                    <a:pt x="1273" y="2317"/>
                  </a:lnTo>
                  <a:lnTo>
                    <a:pt x="1273" y="1969"/>
                  </a:lnTo>
                  <a:lnTo>
                    <a:pt x="1157" y="1622"/>
                  </a:lnTo>
                  <a:lnTo>
                    <a:pt x="1041" y="1274"/>
                  </a:lnTo>
                  <a:lnTo>
                    <a:pt x="1041" y="811"/>
                  </a:lnTo>
                  <a:lnTo>
                    <a:pt x="1041" y="811"/>
                  </a:lnTo>
                  <a:lnTo>
                    <a:pt x="925" y="811"/>
                  </a:lnTo>
                  <a:lnTo>
                    <a:pt x="810" y="695"/>
                  </a:lnTo>
                  <a:lnTo>
                    <a:pt x="694" y="580"/>
                  </a:lnTo>
                  <a:lnTo>
                    <a:pt x="578" y="464"/>
                  </a:lnTo>
                  <a:lnTo>
                    <a:pt x="462" y="464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5" y="464"/>
                  </a:lnTo>
                  <a:lnTo>
                    <a:pt x="115" y="464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115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2" y="0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925" y="232"/>
                  </a:lnTo>
                  <a:lnTo>
                    <a:pt x="1041" y="232"/>
                  </a:lnTo>
                  <a:lnTo>
                    <a:pt x="1041" y="232"/>
                  </a:lnTo>
                  <a:lnTo>
                    <a:pt x="1273" y="464"/>
                  </a:lnTo>
                  <a:lnTo>
                    <a:pt x="1388" y="580"/>
                  </a:lnTo>
                  <a:lnTo>
                    <a:pt x="1504" y="811"/>
                  </a:lnTo>
                  <a:lnTo>
                    <a:pt x="1620" y="1043"/>
                  </a:lnTo>
                  <a:lnTo>
                    <a:pt x="1620" y="1159"/>
                  </a:lnTo>
                  <a:lnTo>
                    <a:pt x="1736" y="1390"/>
                  </a:lnTo>
                  <a:lnTo>
                    <a:pt x="1736" y="1622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1182960" y="2970000"/>
              <a:ext cx="49320" cy="99360"/>
            </a:xfrm>
            <a:custGeom>
              <a:avLst/>
              <a:gdLst/>
              <a:ahLst/>
              <a:rect l="l" t="t" r="r" b="b"/>
              <a:pathLst>
                <a:path w="1389" h="1853">
                  <a:moveTo>
                    <a:pt x="1389" y="347"/>
                  </a:moveTo>
                  <a:lnTo>
                    <a:pt x="1157" y="579"/>
                  </a:lnTo>
                  <a:lnTo>
                    <a:pt x="1042" y="810"/>
                  </a:lnTo>
                  <a:lnTo>
                    <a:pt x="926" y="1042"/>
                  </a:lnTo>
                  <a:lnTo>
                    <a:pt x="810" y="1389"/>
                  </a:lnTo>
                  <a:lnTo>
                    <a:pt x="810" y="1621"/>
                  </a:lnTo>
                  <a:lnTo>
                    <a:pt x="694" y="1853"/>
                  </a:lnTo>
                  <a:lnTo>
                    <a:pt x="463" y="1853"/>
                  </a:lnTo>
                  <a:lnTo>
                    <a:pt x="116" y="1737"/>
                  </a:lnTo>
                  <a:lnTo>
                    <a:pt x="116" y="1737"/>
                  </a:lnTo>
                  <a:lnTo>
                    <a:pt x="0" y="1505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6" y="810"/>
                  </a:lnTo>
                  <a:lnTo>
                    <a:pt x="116" y="579"/>
                  </a:lnTo>
                  <a:lnTo>
                    <a:pt x="231" y="347"/>
                  </a:lnTo>
                  <a:lnTo>
                    <a:pt x="463" y="231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7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389" y="231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1356840" y="2988720"/>
              <a:ext cx="65880" cy="192600"/>
            </a:xfrm>
            <a:custGeom>
              <a:avLst/>
              <a:gdLst/>
              <a:ahLst/>
              <a:rect l="l" t="t" r="r" b="b"/>
              <a:pathLst>
                <a:path w="1851" h="3590">
                  <a:moveTo>
                    <a:pt x="1620" y="695"/>
                  </a:moveTo>
                  <a:lnTo>
                    <a:pt x="1736" y="927"/>
                  </a:lnTo>
                  <a:lnTo>
                    <a:pt x="1736" y="1158"/>
                  </a:lnTo>
                  <a:lnTo>
                    <a:pt x="1851" y="1390"/>
                  </a:lnTo>
                  <a:lnTo>
                    <a:pt x="1851" y="1621"/>
                  </a:lnTo>
                  <a:lnTo>
                    <a:pt x="1851" y="1853"/>
                  </a:lnTo>
                  <a:lnTo>
                    <a:pt x="1851" y="2085"/>
                  </a:lnTo>
                  <a:lnTo>
                    <a:pt x="1851" y="2316"/>
                  </a:lnTo>
                  <a:lnTo>
                    <a:pt x="1736" y="2432"/>
                  </a:lnTo>
                  <a:lnTo>
                    <a:pt x="1736" y="2432"/>
                  </a:lnTo>
                  <a:lnTo>
                    <a:pt x="1736" y="2664"/>
                  </a:lnTo>
                  <a:lnTo>
                    <a:pt x="1620" y="2780"/>
                  </a:lnTo>
                  <a:lnTo>
                    <a:pt x="1504" y="2895"/>
                  </a:lnTo>
                  <a:lnTo>
                    <a:pt x="1388" y="3127"/>
                  </a:lnTo>
                  <a:lnTo>
                    <a:pt x="1273" y="3243"/>
                  </a:lnTo>
                  <a:lnTo>
                    <a:pt x="1157" y="3359"/>
                  </a:lnTo>
                  <a:lnTo>
                    <a:pt x="1041" y="3474"/>
                  </a:lnTo>
                  <a:lnTo>
                    <a:pt x="926" y="3590"/>
                  </a:lnTo>
                  <a:lnTo>
                    <a:pt x="926" y="3590"/>
                  </a:lnTo>
                  <a:lnTo>
                    <a:pt x="810" y="3590"/>
                  </a:lnTo>
                  <a:lnTo>
                    <a:pt x="694" y="3590"/>
                  </a:lnTo>
                  <a:lnTo>
                    <a:pt x="694" y="3474"/>
                  </a:lnTo>
                  <a:lnTo>
                    <a:pt x="578" y="3474"/>
                  </a:lnTo>
                  <a:lnTo>
                    <a:pt x="578" y="3359"/>
                  </a:lnTo>
                  <a:lnTo>
                    <a:pt x="578" y="3359"/>
                  </a:lnTo>
                  <a:lnTo>
                    <a:pt x="578" y="3243"/>
                  </a:lnTo>
                  <a:lnTo>
                    <a:pt x="578" y="3127"/>
                  </a:lnTo>
                  <a:lnTo>
                    <a:pt x="578" y="3127"/>
                  </a:lnTo>
                  <a:lnTo>
                    <a:pt x="694" y="3127"/>
                  </a:lnTo>
                  <a:lnTo>
                    <a:pt x="810" y="3011"/>
                  </a:lnTo>
                  <a:lnTo>
                    <a:pt x="926" y="2895"/>
                  </a:lnTo>
                  <a:lnTo>
                    <a:pt x="1041" y="2780"/>
                  </a:lnTo>
                  <a:lnTo>
                    <a:pt x="1041" y="2664"/>
                  </a:lnTo>
                  <a:lnTo>
                    <a:pt x="1157" y="2432"/>
                  </a:lnTo>
                  <a:lnTo>
                    <a:pt x="1157" y="2316"/>
                  </a:lnTo>
                  <a:lnTo>
                    <a:pt x="1157" y="2201"/>
                  </a:lnTo>
                  <a:lnTo>
                    <a:pt x="1157" y="2201"/>
                  </a:lnTo>
                  <a:lnTo>
                    <a:pt x="1157" y="1969"/>
                  </a:lnTo>
                  <a:lnTo>
                    <a:pt x="1157" y="1621"/>
                  </a:lnTo>
                  <a:lnTo>
                    <a:pt x="1157" y="1390"/>
                  </a:lnTo>
                  <a:lnTo>
                    <a:pt x="1041" y="1042"/>
                  </a:lnTo>
                  <a:lnTo>
                    <a:pt x="926" y="811"/>
                  </a:lnTo>
                  <a:lnTo>
                    <a:pt x="810" y="579"/>
                  </a:lnTo>
                  <a:lnTo>
                    <a:pt x="578" y="348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231" y="232"/>
                  </a:lnTo>
                  <a:lnTo>
                    <a:pt x="231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6"/>
                  </a:lnTo>
                  <a:lnTo>
                    <a:pt x="1273" y="232"/>
                  </a:lnTo>
                  <a:lnTo>
                    <a:pt x="1504" y="463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1431360" y="3013560"/>
              <a:ext cx="57600" cy="186480"/>
            </a:xfrm>
            <a:custGeom>
              <a:avLst/>
              <a:gdLst/>
              <a:ahLst/>
              <a:rect l="l" t="t" r="r" b="b"/>
              <a:pathLst>
                <a:path w="1620" h="3475">
                  <a:moveTo>
                    <a:pt x="1620" y="1390"/>
                  </a:moveTo>
                  <a:lnTo>
                    <a:pt x="1620" y="1622"/>
                  </a:lnTo>
                  <a:lnTo>
                    <a:pt x="1620" y="1853"/>
                  </a:lnTo>
                  <a:lnTo>
                    <a:pt x="1620" y="2085"/>
                  </a:lnTo>
                  <a:lnTo>
                    <a:pt x="1620" y="2317"/>
                  </a:lnTo>
                  <a:lnTo>
                    <a:pt x="1620" y="2432"/>
                  </a:lnTo>
                  <a:lnTo>
                    <a:pt x="1620" y="2664"/>
                  </a:lnTo>
                  <a:lnTo>
                    <a:pt x="1504" y="2896"/>
                  </a:lnTo>
                  <a:lnTo>
                    <a:pt x="1389" y="3011"/>
                  </a:lnTo>
                  <a:lnTo>
                    <a:pt x="1389" y="3011"/>
                  </a:lnTo>
                  <a:lnTo>
                    <a:pt x="1273" y="3127"/>
                  </a:lnTo>
                  <a:lnTo>
                    <a:pt x="1157" y="3127"/>
                  </a:lnTo>
                  <a:lnTo>
                    <a:pt x="1041" y="3243"/>
                  </a:lnTo>
                  <a:lnTo>
                    <a:pt x="1041" y="3359"/>
                  </a:lnTo>
                  <a:lnTo>
                    <a:pt x="926" y="3475"/>
                  </a:lnTo>
                  <a:lnTo>
                    <a:pt x="926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694" y="3359"/>
                  </a:lnTo>
                  <a:lnTo>
                    <a:pt x="694" y="3243"/>
                  </a:lnTo>
                  <a:lnTo>
                    <a:pt x="810" y="3127"/>
                  </a:lnTo>
                  <a:lnTo>
                    <a:pt x="810" y="3011"/>
                  </a:lnTo>
                  <a:lnTo>
                    <a:pt x="926" y="2896"/>
                  </a:lnTo>
                  <a:lnTo>
                    <a:pt x="1041" y="2780"/>
                  </a:lnTo>
                  <a:lnTo>
                    <a:pt x="1157" y="2664"/>
                  </a:lnTo>
                  <a:lnTo>
                    <a:pt x="1273" y="2548"/>
                  </a:lnTo>
                  <a:lnTo>
                    <a:pt x="1273" y="2432"/>
                  </a:lnTo>
                  <a:lnTo>
                    <a:pt x="1273" y="2432"/>
                  </a:lnTo>
                  <a:lnTo>
                    <a:pt x="1389" y="2085"/>
                  </a:lnTo>
                  <a:lnTo>
                    <a:pt x="1389" y="1853"/>
                  </a:lnTo>
                  <a:lnTo>
                    <a:pt x="1273" y="1506"/>
                  </a:lnTo>
                  <a:lnTo>
                    <a:pt x="1157" y="1274"/>
                  </a:lnTo>
                  <a:lnTo>
                    <a:pt x="1041" y="1043"/>
                  </a:lnTo>
                  <a:lnTo>
                    <a:pt x="810" y="811"/>
                  </a:lnTo>
                  <a:lnTo>
                    <a:pt x="579" y="579"/>
                  </a:lnTo>
                  <a:lnTo>
                    <a:pt x="347" y="348"/>
                  </a:lnTo>
                  <a:lnTo>
                    <a:pt x="347" y="348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6" y="348"/>
                  </a:lnTo>
                  <a:lnTo>
                    <a:pt x="116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463" y="0"/>
                  </a:lnTo>
                  <a:lnTo>
                    <a:pt x="694" y="116"/>
                  </a:lnTo>
                  <a:lnTo>
                    <a:pt x="926" y="348"/>
                  </a:lnTo>
                  <a:lnTo>
                    <a:pt x="1041" y="464"/>
                  </a:lnTo>
                  <a:lnTo>
                    <a:pt x="1273" y="695"/>
                  </a:lnTo>
                  <a:lnTo>
                    <a:pt x="1389" y="927"/>
                  </a:lnTo>
                  <a:lnTo>
                    <a:pt x="1504" y="1158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1493640" y="3025800"/>
              <a:ext cx="74160" cy="192600"/>
            </a:xfrm>
            <a:custGeom>
              <a:avLst/>
              <a:gdLst/>
              <a:ahLst/>
              <a:rect l="l" t="t" r="r" b="b"/>
              <a:pathLst>
                <a:path w="2083" h="3590">
                  <a:moveTo>
                    <a:pt x="2083" y="1390"/>
                  </a:moveTo>
                  <a:lnTo>
                    <a:pt x="2083" y="1737"/>
                  </a:lnTo>
                  <a:lnTo>
                    <a:pt x="2083" y="1969"/>
                  </a:lnTo>
                  <a:lnTo>
                    <a:pt x="2083" y="2200"/>
                  </a:lnTo>
                  <a:lnTo>
                    <a:pt x="2083" y="2548"/>
                  </a:lnTo>
                  <a:lnTo>
                    <a:pt x="1967" y="2779"/>
                  </a:lnTo>
                  <a:lnTo>
                    <a:pt x="1967" y="3011"/>
                  </a:lnTo>
                  <a:lnTo>
                    <a:pt x="1852" y="3243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504" y="3474"/>
                  </a:lnTo>
                  <a:lnTo>
                    <a:pt x="1389" y="3474"/>
                  </a:lnTo>
                  <a:lnTo>
                    <a:pt x="1273" y="3590"/>
                  </a:lnTo>
                  <a:lnTo>
                    <a:pt x="1273" y="3590"/>
                  </a:lnTo>
                  <a:lnTo>
                    <a:pt x="1157" y="3590"/>
                  </a:lnTo>
                  <a:lnTo>
                    <a:pt x="1041" y="3590"/>
                  </a:lnTo>
                  <a:lnTo>
                    <a:pt x="1041" y="3474"/>
                  </a:lnTo>
                  <a:lnTo>
                    <a:pt x="1041" y="3474"/>
                  </a:lnTo>
                  <a:lnTo>
                    <a:pt x="1157" y="3358"/>
                  </a:lnTo>
                  <a:lnTo>
                    <a:pt x="1273" y="3243"/>
                  </a:lnTo>
                  <a:lnTo>
                    <a:pt x="1389" y="3011"/>
                  </a:lnTo>
                  <a:lnTo>
                    <a:pt x="1504" y="2895"/>
                  </a:lnTo>
                  <a:lnTo>
                    <a:pt x="1504" y="2664"/>
                  </a:lnTo>
                  <a:lnTo>
                    <a:pt x="1620" y="2432"/>
                  </a:lnTo>
                  <a:lnTo>
                    <a:pt x="1620" y="2200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620" y="1621"/>
                  </a:lnTo>
                  <a:lnTo>
                    <a:pt x="1504" y="1390"/>
                  </a:lnTo>
                  <a:lnTo>
                    <a:pt x="1389" y="1274"/>
                  </a:lnTo>
                  <a:lnTo>
                    <a:pt x="1273" y="1042"/>
                  </a:lnTo>
                  <a:lnTo>
                    <a:pt x="1157" y="811"/>
                  </a:lnTo>
                  <a:lnTo>
                    <a:pt x="1041" y="695"/>
                  </a:lnTo>
                  <a:lnTo>
                    <a:pt x="810" y="463"/>
                  </a:lnTo>
                  <a:lnTo>
                    <a:pt x="810" y="463"/>
                  </a:lnTo>
                  <a:lnTo>
                    <a:pt x="694" y="463"/>
                  </a:lnTo>
                  <a:lnTo>
                    <a:pt x="579" y="347"/>
                  </a:lnTo>
                  <a:lnTo>
                    <a:pt x="463" y="347"/>
                  </a:lnTo>
                  <a:lnTo>
                    <a:pt x="347" y="463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347" y="0"/>
                  </a:lnTo>
                  <a:lnTo>
                    <a:pt x="579" y="0"/>
                  </a:lnTo>
                  <a:lnTo>
                    <a:pt x="926" y="116"/>
                  </a:lnTo>
                  <a:lnTo>
                    <a:pt x="1157" y="347"/>
                  </a:lnTo>
                  <a:lnTo>
                    <a:pt x="1389" y="579"/>
                  </a:lnTo>
                  <a:lnTo>
                    <a:pt x="1620" y="811"/>
                  </a:lnTo>
                  <a:lnTo>
                    <a:pt x="1852" y="1158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1559880" y="3032280"/>
              <a:ext cx="70200" cy="173880"/>
            </a:xfrm>
            <a:custGeom>
              <a:avLst/>
              <a:gdLst/>
              <a:ahLst/>
              <a:rect l="l" t="t" r="r" b="b"/>
              <a:pathLst>
                <a:path w="1967" h="3242">
                  <a:moveTo>
                    <a:pt x="1388" y="463"/>
                  </a:moveTo>
                  <a:lnTo>
                    <a:pt x="1620" y="695"/>
                  </a:lnTo>
                  <a:lnTo>
                    <a:pt x="1736" y="810"/>
                  </a:lnTo>
                  <a:lnTo>
                    <a:pt x="1851" y="1042"/>
                  </a:lnTo>
                  <a:lnTo>
                    <a:pt x="1967" y="1274"/>
                  </a:lnTo>
                  <a:lnTo>
                    <a:pt x="1967" y="1621"/>
                  </a:lnTo>
                  <a:lnTo>
                    <a:pt x="1967" y="1853"/>
                  </a:lnTo>
                  <a:lnTo>
                    <a:pt x="1967" y="2084"/>
                  </a:lnTo>
                  <a:lnTo>
                    <a:pt x="1967" y="2316"/>
                  </a:lnTo>
                  <a:lnTo>
                    <a:pt x="1967" y="2316"/>
                  </a:lnTo>
                  <a:lnTo>
                    <a:pt x="1851" y="2548"/>
                  </a:lnTo>
                  <a:lnTo>
                    <a:pt x="1851" y="2663"/>
                  </a:lnTo>
                  <a:lnTo>
                    <a:pt x="1736" y="2779"/>
                  </a:lnTo>
                  <a:lnTo>
                    <a:pt x="1620" y="2895"/>
                  </a:lnTo>
                  <a:lnTo>
                    <a:pt x="1620" y="3011"/>
                  </a:lnTo>
                  <a:lnTo>
                    <a:pt x="1504" y="3127"/>
                  </a:lnTo>
                  <a:lnTo>
                    <a:pt x="1388" y="3242"/>
                  </a:lnTo>
                  <a:lnTo>
                    <a:pt x="1273" y="3242"/>
                  </a:lnTo>
                  <a:lnTo>
                    <a:pt x="1273" y="3242"/>
                  </a:lnTo>
                  <a:lnTo>
                    <a:pt x="1273" y="3011"/>
                  </a:lnTo>
                  <a:lnTo>
                    <a:pt x="1388" y="2663"/>
                  </a:lnTo>
                  <a:lnTo>
                    <a:pt x="1504" y="2316"/>
                  </a:lnTo>
                  <a:lnTo>
                    <a:pt x="1620" y="1969"/>
                  </a:lnTo>
                  <a:lnTo>
                    <a:pt x="1620" y="1621"/>
                  </a:lnTo>
                  <a:lnTo>
                    <a:pt x="1620" y="1274"/>
                  </a:lnTo>
                  <a:lnTo>
                    <a:pt x="1504" y="926"/>
                  </a:lnTo>
                  <a:lnTo>
                    <a:pt x="1273" y="695"/>
                  </a:lnTo>
                  <a:lnTo>
                    <a:pt x="1273" y="695"/>
                  </a:lnTo>
                  <a:lnTo>
                    <a:pt x="1157" y="579"/>
                  </a:lnTo>
                  <a:lnTo>
                    <a:pt x="925" y="579"/>
                  </a:lnTo>
                  <a:lnTo>
                    <a:pt x="810" y="463"/>
                  </a:lnTo>
                  <a:lnTo>
                    <a:pt x="578" y="463"/>
                  </a:lnTo>
                  <a:lnTo>
                    <a:pt x="463" y="463"/>
                  </a:lnTo>
                  <a:lnTo>
                    <a:pt x="231" y="463"/>
                  </a:lnTo>
                  <a:lnTo>
                    <a:pt x="115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231" y="116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925" y="116"/>
                  </a:lnTo>
                  <a:lnTo>
                    <a:pt x="1157" y="231"/>
                  </a:lnTo>
                  <a:lnTo>
                    <a:pt x="1273" y="347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1642320" y="3069360"/>
              <a:ext cx="53640" cy="167760"/>
            </a:xfrm>
            <a:custGeom>
              <a:avLst/>
              <a:gdLst/>
              <a:ahLst/>
              <a:rect l="l" t="t" r="r" b="b"/>
              <a:pathLst>
                <a:path w="1505" h="3127">
                  <a:moveTo>
                    <a:pt x="1505" y="1158"/>
                  </a:moveTo>
                  <a:lnTo>
                    <a:pt x="1505" y="1389"/>
                  </a:lnTo>
                  <a:lnTo>
                    <a:pt x="1505" y="1737"/>
                  </a:lnTo>
                  <a:lnTo>
                    <a:pt x="1505" y="1968"/>
                  </a:lnTo>
                  <a:lnTo>
                    <a:pt x="1389" y="2316"/>
                  </a:lnTo>
                  <a:lnTo>
                    <a:pt x="1273" y="2547"/>
                  </a:lnTo>
                  <a:lnTo>
                    <a:pt x="1158" y="2779"/>
                  </a:lnTo>
                  <a:lnTo>
                    <a:pt x="926" y="2895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2895"/>
                  </a:lnTo>
                  <a:lnTo>
                    <a:pt x="695" y="2779"/>
                  </a:lnTo>
                  <a:lnTo>
                    <a:pt x="810" y="2663"/>
                  </a:lnTo>
                  <a:lnTo>
                    <a:pt x="810" y="2432"/>
                  </a:lnTo>
                  <a:lnTo>
                    <a:pt x="926" y="2316"/>
                  </a:lnTo>
                  <a:lnTo>
                    <a:pt x="926" y="2200"/>
                  </a:lnTo>
                  <a:lnTo>
                    <a:pt x="1042" y="1968"/>
                  </a:lnTo>
                  <a:lnTo>
                    <a:pt x="1042" y="1737"/>
                  </a:lnTo>
                  <a:lnTo>
                    <a:pt x="1042" y="1737"/>
                  </a:lnTo>
                  <a:lnTo>
                    <a:pt x="1042" y="1621"/>
                  </a:lnTo>
                  <a:lnTo>
                    <a:pt x="1042" y="1389"/>
                  </a:lnTo>
                  <a:lnTo>
                    <a:pt x="926" y="1158"/>
                  </a:lnTo>
                  <a:lnTo>
                    <a:pt x="926" y="926"/>
                  </a:lnTo>
                  <a:lnTo>
                    <a:pt x="926" y="810"/>
                  </a:lnTo>
                  <a:lnTo>
                    <a:pt x="810" y="695"/>
                  </a:lnTo>
                  <a:lnTo>
                    <a:pt x="579" y="463"/>
                  </a:lnTo>
                  <a:lnTo>
                    <a:pt x="463" y="347"/>
                  </a:lnTo>
                  <a:lnTo>
                    <a:pt x="463" y="347"/>
                  </a:lnTo>
                  <a:lnTo>
                    <a:pt x="347" y="347"/>
                  </a:lnTo>
                  <a:lnTo>
                    <a:pt x="232" y="347"/>
                  </a:lnTo>
                  <a:lnTo>
                    <a:pt x="232" y="347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2" y="0"/>
                  </a:lnTo>
                  <a:lnTo>
                    <a:pt x="232" y="0"/>
                  </a:lnTo>
                  <a:lnTo>
                    <a:pt x="463" y="0"/>
                  </a:lnTo>
                  <a:lnTo>
                    <a:pt x="695" y="115"/>
                  </a:lnTo>
                  <a:lnTo>
                    <a:pt x="926" y="231"/>
                  </a:lnTo>
                  <a:lnTo>
                    <a:pt x="1042" y="347"/>
                  </a:lnTo>
                  <a:lnTo>
                    <a:pt x="1158" y="579"/>
                  </a:lnTo>
                  <a:lnTo>
                    <a:pt x="1273" y="695"/>
                  </a:lnTo>
                  <a:lnTo>
                    <a:pt x="1389" y="926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1091880" y="3088080"/>
              <a:ext cx="852480" cy="1181160"/>
            </a:xfrm>
            <a:custGeom>
              <a:avLst/>
              <a:gdLst/>
              <a:ahLst/>
              <a:rect l="l" t="t" r="r" b="b"/>
              <a:pathLst>
                <a:path w="23841" h="22004">
                  <a:moveTo>
                    <a:pt x="4050" y="116"/>
                  </a:moveTo>
                  <a:lnTo>
                    <a:pt x="4050" y="232"/>
                  </a:lnTo>
                  <a:lnTo>
                    <a:pt x="3935" y="348"/>
                  </a:lnTo>
                  <a:lnTo>
                    <a:pt x="3935" y="463"/>
                  </a:lnTo>
                  <a:lnTo>
                    <a:pt x="3935" y="579"/>
                  </a:lnTo>
                  <a:lnTo>
                    <a:pt x="3935" y="695"/>
                  </a:lnTo>
                  <a:lnTo>
                    <a:pt x="3935" y="811"/>
                  </a:lnTo>
                  <a:lnTo>
                    <a:pt x="4050" y="927"/>
                  </a:lnTo>
                  <a:lnTo>
                    <a:pt x="4050" y="1042"/>
                  </a:lnTo>
                  <a:lnTo>
                    <a:pt x="4050" y="1042"/>
                  </a:lnTo>
                  <a:lnTo>
                    <a:pt x="4166" y="1158"/>
                  </a:lnTo>
                  <a:lnTo>
                    <a:pt x="4166" y="1274"/>
                  </a:lnTo>
                  <a:lnTo>
                    <a:pt x="4282" y="1274"/>
                  </a:lnTo>
                  <a:lnTo>
                    <a:pt x="4398" y="1274"/>
                  </a:lnTo>
                  <a:lnTo>
                    <a:pt x="4398" y="1274"/>
                  </a:lnTo>
                  <a:lnTo>
                    <a:pt x="4513" y="1274"/>
                  </a:lnTo>
                  <a:lnTo>
                    <a:pt x="4629" y="1274"/>
                  </a:lnTo>
                  <a:lnTo>
                    <a:pt x="4745" y="1274"/>
                  </a:lnTo>
                  <a:lnTo>
                    <a:pt x="4745" y="1274"/>
                  </a:lnTo>
                  <a:lnTo>
                    <a:pt x="4861" y="1158"/>
                  </a:lnTo>
                  <a:lnTo>
                    <a:pt x="4976" y="1042"/>
                  </a:lnTo>
                  <a:lnTo>
                    <a:pt x="5092" y="927"/>
                  </a:lnTo>
                  <a:lnTo>
                    <a:pt x="5208" y="695"/>
                  </a:lnTo>
                  <a:lnTo>
                    <a:pt x="5324" y="579"/>
                  </a:lnTo>
                  <a:lnTo>
                    <a:pt x="5439" y="463"/>
                  </a:lnTo>
                  <a:lnTo>
                    <a:pt x="5439" y="348"/>
                  </a:lnTo>
                  <a:lnTo>
                    <a:pt x="5439" y="116"/>
                  </a:lnTo>
                  <a:lnTo>
                    <a:pt x="5439" y="116"/>
                  </a:lnTo>
                  <a:lnTo>
                    <a:pt x="5786" y="232"/>
                  </a:lnTo>
                  <a:lnTo>
                    <a:pt x="5786" y="232"/>
                  </a:lnTo>
                  <a:lnTo>
                    <a:pt x="5671" y="348"/>
                  </a:lnTo>
                  <a:lnTo>
                    <a:pt x="5439" y="463"/>
                  </a:lnTo>
                  <a:lnTo>
                    <a:pt x="5439" y="579"/>
                  </a:lnTo>
                  <a:lnTo>
                    <a:pt x="5324" y="811"/>
                  </a:lnTo>
                  <a:lnTo>
                    <a:pt x="5324" y="927"/>
                  </a:lnTo>
                  <a:lnTo>
                    <a:pt x="5324" y="1158"/>
                  </a:lnTo>
                  <a:lnTo>
                    <a:pt x="5439" y="1390"/>
                  </a:lnTo>
                  <a:lnTo>
                    <a:pt x="5439" y="1506"/>
                  </a:lnTo>
                  <a:lnTo>
                    <a:pt x="5439" y="1506"/>
                  </a:lnTo>
                  <a:lnTo>
                    <a:pt x="5555" y="1737"/>
                  </a:lnTo>
                  <a:lnTo>
                    <a:pt x="5671" y="1737"/>
                  </a:lnTo>
                  <a:lnTo>
                    <a:pt x="5786" y="1853"/>
                  </a:lnTo>
                  <a:lnTo>
                    <a:pt x="5902" y="1853"/>
                  </a:lnTo>
                  <a:lnTo>
                    <a:pt x="6018" y="1853"/>
                  </a:lnTo>
                  <a:lnTo>
                    <a:pt x="6249" y="1853"/>
                  </a:lnTo>
                  <a:lnTo>
                    <a:pt x="6365" y="1853"/>
                  </a:lnTo>
                  <a:lnTo>
                    <a:pt x="6481" y="1737"/>
                  </a:lnTo>
                  <a:lnTo>
                    <a:pt x="6481" y="1737"/>
                  </a:lnTo>
                  <a:lnTo>
                    <a:pt x="6712" y="1737"/>
                  </a:lnTo>
                  <a:lnTo>
                    <a:pt x="6828" y="1621"/>
                  </a:lnTo>
                  <a:lnTo>
                    <a:pt x="6944" y="1390"/>
                  </a:lnTo>
                  <a:lnTo>
                    <a:pt x="7060" y="1274"/>
                  </a:lnTo>
                  <a:lnTo>
                    <a:pt x="7175" y="1042"/>
                  </a:lnTo>
                  <a:lnTo>
                    <a:pt x="7291" y="927"/>
                  </a:lnTo>
                  <a:lnTo>
                    <a:pt x="7291" y="695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638" y="695"/>
                  </a:lnTo>
                  <a:lnTo>
                    <a:pt x="7522" y="811"/>
                  </a:lnTo>
                  <a:lnTo>
                    <a:pt x="7407" y="1042"/>
                  </a:lnTo>
                  <a:lnTo>
                    <a:pt x="7407" y="1158"/>
                  </a:lnTo>
                  <a:lnTo>
                    <a:pt x="7291" y="1274"/>
                  </a:lnTo>
                  <a:lnTo>
                    <a:pt x="7291" y="1390"/>
                  </a:lnTo>
                  <a:lnTo>
                    <a:pt x="7291" y="1506"/>
                  </a:lnTo>
                  <a:lnTo>
                    <a:pt x="7291" y="1621"/>
                  </a:lnTo>
                  <a:lnTo>
                    <a:pt x="7291" y="1621"/>
                  </a:lnTo>
                  <a:lnTo>
                    <a:pt x="7407" y="1737"/>
                  </a:lnTo>
                  <a:lnTo>
                    <a:pt x="7407" y="1969"/>
                  </a:lnTo>
                  <a:lnTo>
                    <a:pt x="7407" y="2085"/>
                  </a:lnTo>
                  <a:lnTo>
                    <a:pt x="7522" y="2200"/>
                  </a:lnTo>
                  <a:lnTo>
                    <a:pt x="7522" y="2316"/>
                  </a:lnTo>
                  <a:lnTo>
                    <a:pt x="7638" y="2316"/>
                  </a:lnTo>
                  <a:lnTo>
                    <a:pt x="7754" y="2432"/>
                  </a:lnTo>
                  <a:lnTo>
                    <a:pt x="7870" y="2432"/>
                  </a:lnTo>
                  <a:lnTo>
                    <a:pt x="7870" y="2432"/>
                  </a:lnTo>
                  <a:lnTo>
                    <a:pt x="8101" y="2432"/>
                  </a:lnTo>
                  <a:lnTo>
                    <a:pt x="8217" y="2432"/>
                  </a:lnTo>
                  <a:lnTo>
                    <a:pt x="8333" y="2316"/>
                  </a:lnTo>
                  <a:lnTo>
                    <a:pt x="8448" y="2200"/>
                  </a:lnTo>
                  <a:lnTo>
                    <a:pt x="8564" y="2200"/>
                  </a:lnTo>
                  <a:lnTo>
                    <a:pt x="8564" y="2085"/>
                  </a:lnTo>
                  <a:lnTo>
                    <a:pt x="8680" y="1969"/>
                  </a:lnTo>
                  <a:lnTo>
                    <a:pt x="8911" y="1969"/>
                  </a:lnTo>
                  <a:lnTo>
                    <a:pt x="8911" y="1969"/>
                  </a:lnTo>
                  <a:lnTo>
                    <a:pt x="8911" y="1853"/>
                  </a:lnTo>
                  <a:lnTo>
                    <a:pt x="8911" y="1737"/>
                  </a:lnTo>
                  <a:lnTo>
                    <a:pt x="9027" y="1737"/>
                  </a:lnTo>
                  <a:lnTo>
                    <a:pt x="9143" y="1621"/>
                  </a:lnTo>
                  <a:lnTo>
                    <a:pt x="9258" y="1506"/>
                  </a:lnTo>
                  <a:lnTo>
                    <a:pt x="9374" y="1390"/>
                  </a:lnTo>
                  <a:lnTo>
                    <a:pt x="9374" y="1274"/>
                  </a:lnTo>
                  <a:lnTo>
                    <a:pt x="9490" y="1158"/>
                  </a:lnTo>
                  <a:lnTo>
                    <a:pt x="9490" y="1158"/>
                  </a:lnTo>
                  <a:lnTo>
                    <a:pt x="9837" y="1274"/>
                  </a:lnTo>
                  <a:lnTo>
                    <a:pt x="9837" y="1274"/>
                  </a:lnTo>
                  <a:lnTo>
                    <a:pt x="9837" y="1390"/>
                  </a:lnTo>
                  <a:lnTo>
                    <a:pt x="9721" y="1621"/>
                  </a:lnTo>
                  <a:lnTo>
                    <a:pt x="9721" y="1853"/>
                  </a:lnTo>
                  <a:lnTo>
                    <a:pt x="9606" y="2085"/>
                  </a:lnTo>
                  <a:lnTo>
                    <a:pt x="9606" y="2200"/>
                  </a:lnTo>
                  <a:lnTo>
                    <a:pt x="9721" y="2432"/>
                  </a:lnTo>
                  <a:lnTo>
                    <a:pt x="9721" y="2664"/>
                  </a:lnTo>
                  <a:lnTo>
                    <a:pt x="9953" y="2780"/>
                  </a:lnTo>
                  <a:lnTo>
                    <a:pt x="9953" y="2780"/>
                  </a:lnTo>
                  <a:lnTo>
                    <a:pt x="10069" y="2780"/>
                  </a:lnTo>
                  <a:lnTo>
                    <a:pt x="10184" y="2780"/>
                  </a:lnTo>
                  <a:lnTo>
                    <a:pt x="10300" y="2780"/>
                  </a:lnTo>
                  <a:lnTo>
                    <a:pt x="10531" y="2780"/>
                  </a:lnTo>
                  <a:lnTo>
                    <a:pt x="10647" y="2780"/>
                  </a:lnTo>
                  <a:lnTo>
                    <a:pt x="10763" y="2664"/>
                  </a:lnTo>
                  <a:lnTo>
                    <a:pt x="10763" y="2548"/>
                  </a:lnTo>
                  <a:lnTo>
                    <a:pt x="10879" y="2432"/>
                  </a:lnTo>
                  <a:lnTo>
                    <a:pt x="10879" y="2432"/>
                  </a:lnTo>
                  <a:lnTo>
                    <a:pt x="10763" y="2432"/>
                  </a:lnTo>
                  <a:lnTo>
                    <a:pt x="10763" y="2432"/>
                  </a:lnTo>
                  <a:lnTo>
                    <a:pt x="10994" y="2316"/>
                  </a:lnTo>
                  <a:lnTo>
                    <a:pt x="11110" y="2200"/>
                  </a:lnTo>
                  <a:lnTo>
                    <a:pt x="11226" y="1969"/>
                  </a:lnTo>
                  <a:lnTo>
                    <a:pt x="11342" y="1737"/>
                  </a:lnTo>
                  <a:lnTo>
                    <a:pt x="11457" y="1506"/>
                  </a:lnTo>
                  <a:lnTo>
                    <a:pt x="11689" y="1506"/>
                  </a:lnTo>
                  <a:lnTo>
                    <a:pt x="11805" y="1506"/>
                  </a:lnTo>
                  <a:lnTo>
                    <a:pt x="12036" y="1621"/>
                  </a:lnTo>
                  <a:lnTo>
                    <a:pt x="12036" y="1621"/>
                  </a:lnTo>
                  <a:lnTo>
                    <a:pt x="12036" y="1737"/>
                  </a:lnTo>
                  <a:lnTo>
                    <a:pt x="11920" y="1969"/>
                  </a:lnTo>
                  <a:lnTo>
                    <a:pt x="11920" y="2085"/>
                  </a:lnTo>
                  <a:lnTo>
                    <a:pt x="11805" y="2200"/>
                  </a:lnTo>
                  <a:lnTo>
                    <a:pt x="11805" y="2432"/>
                  </a:lnTo>
                  <a:lnTo>
                    <a:pt x="11805" y="2548"/>
                  </a:lnTo>
                  <a:lnTo>
                    <a:pt x="11920" y="2780"/>
                  </a:lnTo>
                  <a:lnTo>
                    <a:pt x="12036" y="2895"/>
                  </a:lnTo>
                  <a:lnTo>
                    <a:pt x="12036" y="2895"/>
                  </a:lnTo>
                  <a:lnTo>
                    <a:pt x="12152" y="3011"/>
                  </a:lnTo>
                  <a:lnTo>
                    <a:pt x="12267" y="3127"/>
                  </a:lnTo>
                  <a:lnTo>
                    <a:pt x="12383" y="3127"/>
                  </a:lnTo>
                  <a:lnTo>
                    <a:pt x="12499" y="3127"/>
                  </a:lnTo>
                  <a:lnTo>
                    <a:pt x="12615" y="3127"/>
                  </a:lnTo>
                  <a:lnTo>
                    <a:pt x="12730" y="3127"/>
                  </a:lnTo>
                  <a:lnTo>
                    <a:pt x="12846" y="3011"/>
                  </a:lnTo>
                  <a:lnTo>
                    <a:pt x="12962" y="3011"/>
                  </a:lnTo>
                  <a:lnTo>
                    <a:pt x="12962" y="3011"/>
                  </a:lnTo>
                  <a:lnTo>
                    <a:pt x="12846" y="2780"/>
                  </a:lnTo>
                  <a:lnTo>
                    <a:pt x="12962" y="2664"/>
                  </a:lnTo>
                  <a:lnTo>
                    <a:pt x="13078" y="2548"/>
                  </a:lnTo>
                  <a:lnTo>
                    <a:pt x="13193" y="2432"/>
                  </a:lnTo>
                  <a:lnTo>
                    <a:pt x="13309" y="2316"/>
                  </a:lnTo>
                  <a:lnTo>
                    <a:pt x="13425" y="2200"/>
                  </a:lnTo>
                  <a:lnTo>
                    <a:pt x="13541" y="2085"/>
                  </a:lnTo>
                  <a:lnTo>
                    <a:pt x="13656" y="1969"/>
                  </a:lnTo>
                  <a:lnTo>
                    <a:pt x="13656" y="1969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3772" y="2085"/>
                  </a:lnTo>
                  <a:lnTo>
                    <a:pt x="13772" y="2316"/>
                  </a:lnTo>
                  <a:lnTo>
                    <a:pt x="13772" y="2432"/>
                  </a:lnTo>
                  <a:lnTo>
                    <a:pt x="13656" y="2664"/>
                  </a:lnTo>
                  <a:lnTo>
                    <a:pt x="13772" y="2780"/>
                  </a:lnTo>
                  <a:lnTo>
                    <a:pt x="13772" y="2895"/>
                  </a:lnTo>
                  <a:lnTo>
                    <a:pt x="13888" y="3127"/>
                  </a:lnTo>
                  <a:lnTo>
                    <a:pt x="14003" y="3127"/>
                  </a:lnTo>
                  <a:lnTo>
                    <a:pt x="14003" y="3127"/>
                  </a:lnTo>
                  <a:lnTo>
                    <a:pt x="14119" y="3127"/>
                  </a:lnTo>
                  <a:lnTo>
                    <a:pt x="14235" y="3127"/>
                  </a:lnTo>
                  <a:lnTo>
                    <a:pt x="14351" y="3127"/>
                  </a:lnTo>
                  <a:lnTo>
                    <a:pt x="14466" y="3127"/>
                  </a:lnTo>
                  <a:lnTo>
                    <a:pt x="14582" y="3011"/>
                  </a:lnTo>
                  <a:lnTo>
                    <a:pt x="14582" y="3011"/>
                  </a:lnTo>
                  <a:lnTo>
                    <a:pt x="14698" y="2895"/>
                  </a:lnTo>
                  <a:lnTo>
                    <a:pt x="14814" y="2780"/>
                  </a:lnTo>
                  <a:lnTo>
                    <a:pt x="14814" y="2780"/>
                  </a:lnTo>
                  <a:lnTo>
                    <a:pt x="14814" y="2664"/>
                  </a:lnTo>
                  <a:lnTo>
                    <a:pt x="14814" y="2664"/>
                  </a:lnTo>
                  <a:lnTo>
                    <a:pt x="14814" y="2548"/>
                  </a:lnTo>
                  <a:lnTo>
                    <a:pt x="14929" y="2432"/>
                  </a:lnTo>
                  <a:lnTo>
                    <a:pt x="14929" y="2316"/>
                  </a:lnTo>
                  <a:lnTo>
                    <a:pt x="15045" y="2316"/>
                  </a:lnTo>
                  <a:lnTo>
                    <a:pt x="15045" y="2200"/>
                  </a:lnTo>
                  <a:lnTo>
                    <a:pt x="15161" y="2085"/>
                  </a:lnTo>
                  <a:lnTo>
                    <a:pt x="15161" y="2085"/>
                  </a:lnTo>
                  <a:lnTo>
                    <a:pt x="15624" y="2085"/>
                  </a:lnTo>
                  <a:lnTo>
                    <a:pt x="15624" y="2085"/>
                  </a:lnTo>
                  <a:lnTo>
                    <a:pt x="15624" y="2200"/>
                  </a:lnTo>
                  <a:lnTo>
                    <a:pt x="15508" y="2432"/>
                  </a:lnTo>
                  <a:lnTo>
                    <a:pt x="15508" y="2548"/>
                  </a:lnTo>
                  <a:lnTo>
                    <a:pt x="15508" y="2664"/>
                  </a:lnTo>
                  <a:lnTo>
                    <a:pt x="15508" y="2780"/>
                  </a:lnTo>
                  <a:lnTo>
                    <a:pt x="15508" y="2895"/>
                  </a:lnTo>
                  <a:lnTo>
                    <a:pt x="15624" y="3011"/>
                  </a:lnTo>
                  <a:lnTo>
                    <a:pt x="15739" y="3127"/>
                  </a:lnTo>
                  <a:lnTo>
                    <a:pt x="15739" y="3127"/>
                  </a:lnTo>
                  <a:lnTo>
                    <a:pt x="15739" y="3243"/>
                  </a:lnTo>
                  <a:lnTo>
                    <a:pt x="15855" y="3243"/>
                  </a:lnTo>
                  <a:lnTo>
                    <a:pt x="15855" y="3243"/>
                  </a:lnTo>
                  <a:lnTo>
                    <a:pt x="15971" y="3359"/>
                  </a:lnTo>
                  <a:lnTo>
                    <a:pt x="16087" y="3359"/>
                  </a:lnTo>
                  <a:lnTo>
                    <a:pt x="16202" y="3359"/>
                  </a:lnTo>
                  <a:lnTo>
                    <a:pt x="16202" y="3359"/>
                  </a:lnTo>
                  <a:lnTo>
                    <a:pt x="16318" y="3359"/>
                  </a:lnTo>
                  <a:lnTo>
                    <a:pt x="16318" y="3359"/>
                  </a:lnTo>
                  <a:lnTo>
                    <a:pt x="16550" y="3243"/>
                  </a:lnTo>
                  <a:lnTo>
                    <a:pt x="16665" y="3011"/>
                  </a:lnTo>
                  <a:lnTo>
                    <a:pt x="16781" y="2895"/>
                  </a:lnTo>
                  <a:lnTo>
                    <a:pt x="17012" y="2664"/>
                  </a:lnTo>
                  <a:lnTo>
                    <a:pt x="17128" y="2432"/>
                  </a:lnTo>
                  <a:lnTo>
                    <a:pt x="17244" y="2316"/>
                  </a:lnTo>
                  <a:lnTo>
                    <a:pt x="17475" y="2316"/>
                  </a:lnTo>
                  <a:lnTo>
                    <a:pt x="17823" y="2432"/>
                  </a:lnTo>
                  <a:lnTo>
                    <a:pt x="17823" y="2432"/>
                  </a:lnTo>
                  <a:lnTo>
                    <a:pt x="17823" y="2548"/>
                  </a:lnTo>
                  <a:lnTo>
                    <a:pt x="17707" y="2664"/>
                  </a:lnTo>
                  <a:lnTo>
                    <a:pt x="17707" y="2780"/>
                  </a:lnTo>
                  <a:lnTo>
                    <a:pt x="17591" y="2895"/>
                  </a:lnTo>
                  <a:lnTo>
                    <a:pt x="17591" y="3011"/>
                  </a:lnTo>
                  <a:lnTo>
                    <a:pt x="17475" y="3127"/>
                  </a:lnTo>
                  <a:lnTo>
                    <a:pt x="17475" y="3243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707" y="3590"/>
                  </a:lnTo>
                  <a:lnTo>
                    <a:pt x="17707" y="3590"/>
                  </a:lnTo>
                  <a:lnTo>
                    <a:pt x="17823" y="3706"/>
                  </a:lnTo>
                  <a:lnTo>
                    <a:pt x="17938" y="3706"/>
                  </a:lnTo>
                  <a:lnTo>
                    <a:pt x="18054" y="3706"/>
                  </a:lnTo>
                  <a:lnTo>
                    <a:pt x="18170" y="3706"/>
                  </a:lnTo>
                  <a:lnTo>
                    <a:pt x="18286" y="3706"/>
                  </a:lnTo>
                  <a:lnTo>
                    <a:pt x="18286" y="3706"/>
                  </a:lnTo>
                  <a:lnTo>
                    <a:pt x="18401" y="3590"/>
                  </a:lnTo>
                  <a:lnTo>
                    <a:pt x="18517" y="3474"/>
                  </a:lnTo>
                  <a:lnTo>
                    <a:pt x="18748" y="3359"/>
                  </a:lnTo>
                  <a:lnTo>
                    <a:pt x="18864" y="3243"/>
                  </a:lnTo>
                  <a:lnTo>
                    <a:pt x="18980" y="3127"/>
                  </a:lnTo>
                  <a:lnTo>
                    <a:pt x="19096" y="3011"/>
                  </a:lnTo>
                  <a:lnTo>
                    <a:pt x="19211" y="2780"/>
                  </a:lnTo>
                  <a:lnTo>
                    <a:pt x="19327" y="2664"/>
                  </a:lnTo>
                  <a:lnTo>
                    <a:pt x="19327" y="2664"/>
                  </a:lnTo>
                  <a:lnTo>
                    <a:pt x="19559" y="2664"/>
                  </a:lnTo>
                  <a:lnTo>
                    <a:pt x="19559" y="2664"/>
                  </a:lnTo>
                  <a:lnTo>
                    <a:pt x="19559" y="2780"/>
                  </a:lnTo>
                  <a:lnTo>
                    <a:pt x="19559" y="3011"/>
                  </a:lnTo>
                  <a:lnTo>
                    <a:pt x="19559" y="3127"/>
                  </a:lnTo>
                  <a:lnTo>
                    <a:pt x="19443" y="3359"/>
                  </a:lnTo>
                  <a:lnTo>
                    <a:pt x="19443" y="3474"/>
                  </a:lnTo>
                  <a:lnTo>
                    <a:pt x="19559" y="3590"/>
                  </a:lnTo>
                  <a:lnTo>
                    <a:pt x="19674" y="3706"/>
                  </a:lnTo>
                  <a:lnTo>
                    <a:pt x="19790" y="3822"/>
                  </a:lnTo>
                  <a:lnTo>
                    <a:pt x="19790" y="3822"/>
                  </a:lnTo>
                  <a:lnTo>
                    <a:pt x="19906" y="3822"/>
                  </a:lnTo>
                  <a:lnTo>
                    <a:pt x="20022" y="3822"/>
                  </a:lnTo>
                  <a:lnTo>
                    <a:pt x="20137" y="3822"/>
                  </a:lnTo>
                  <a:lnTo>
                    <a:pt x="20253" y="3822"/>
                  </a:lnTo>
                  <a:lnTo>
                    <a:pt x="20369" y="3706"/>
                  </a:lnTo>
                  <a:lnTo>
                    <a:pt x="20484" y="3706"/>
                  </a:lnTo>
                  <a:lnTo>
                    <a:pt x="20600" y="3590"/>
                  </a:lnTo>
                  <a:lnTo>
                    <a:pt x="20716" y="3590"/>
                  </a:lnTo>
                  <a:lnTo>
                    <a:pt x="20716" y="3590"/>
                  </a:lnTo>
                  <a:lnTo>
                    <a:pt x="20600" y="3474"/>
                  </a:lnTo>
                  <a:lnTo>
                    <a:pt x="20600" y="3359"/>
                  </a:lnTo>
                  <a:lnTo>
                    <a:pt x="20716" y="3243"/>
                  </a:lnTo>
                  <a:lnTo>
                    <a:pt x="20716" y="3127"/>
                  </a:lnTo>
                  <a:lnTo>
                    <a:pt x="20832" y="3127"/>
                  </a:lnTo>
                  <a:lnTo>
                    <a:pt x="20832" y="3011"/>
                  </a:lnTo>
                  <a:lnTo>
                    <a:pt x="20947" y="2895"/>
                  </a:lnTo>
                  <a:lnTo>
                    <a:pt x="20947" y="2780"/>
                  </a:lnTo>
                  <a:lnTo>
                    <a:pt x="20947" y="2780"/>
                  </a:lnTo>
                  <a:lnTo>
                    <a:pt x="20947" y="2895"/>
                  </a:lnTo>
                  <a:lnTo>
                    <a:pt x="20947" y="3011"/>
                  </a:lnTo>
                  <a:lnTo>
                    <a:pt x="20947" y="3127"/>
                  </a:lnTo>
                  <a:lnTo>
                    <a:pt x="20947" y="3359"/>
                  </a:lnTo>
                  <a:lnTo>
                    <a:pt x="20832" y="3474"/>
                  </a:lnTo>
                  <a:lnTo>
                    <a:pt x="20832" y="3590"/>
                  </a:lnTo>
                  <a:lnTo>
                    <a:pt x="20832" y="3706"/>
                  </a:lnTo>
                  <a:lnTo>
                    <a:pt x="20832" y="3822"/>
                  </a:lnTo>
                  <a:lnTo>
                    <a:pt x="20832" y="3822"/>
                  </a:lnTo>
                  <a:lnTo>
                    <a:pt x="20947" y="3938"/>
                  </a:lnTo>
                  <a:lnTo>
                    <a:pt x="20947" y="3938"/>
                  </a:lnTo>
                  <a:lnTo>
                    <a:pt x="21063" y="4053"/>
                  </a:lnTo>
                  <a:lnTo>
                    <a:pt x="21179" y="4053"/>
                  </a:lnTo>
                  <a:lnTo>
                    <a:pt x="21295" y="4053"/>
                  </a:lnTo>
                  <a:lnTo>
                    <a:pt x="21295" y="4053"/>
                  </a:lnTo>
                  <a:lnTo>
                    <a:pt x="21410" y="4053"/>
                  </a:lnTo>
                  <a:lnTo>
                    <a:pt x="21526" y="4053"/>
                  </a:lnTo>
                  <a:lnTo>
                    <a:pt x="21526" y="4053"/>
                  </a:lnTo>
                  <a:lnTo>
                    <a:pt x="21642" y="3938"/>
                  </a:lnTo>
                  <a:lnTo>
                    <a:pt x="21642" y="3822"/>
                  </a:lnTo>
                  <a:lnTo>
                    <a:pt x="21758" y="3706"/>
                  </a:lnTo>
                  <a:lnTo>
                    <a:pt x="21873" y="3590"/>
                  </a:lnTo>
                  <a:lnTo>
                    <a:pt x="21989" y="3474"/>
                  </a:lnTo>
                  <a:lnTo>
                    <a:pt x="22105" y="3359"/>
                  </a:lnTo>
                  <a:lnTo>
                    <a:pt x="22105" y="3243"/>
                  </a:lnTo>
                  <a:lnTo>
                    <a:pt x="22220" y="3011"/>
                  </a:lnTo>
                  <a:lnTo>
                    <a:pt x="22220" y="3011"/>
                  </a:lnTo>
                  <a:lnTo>
                    <a:pt x="22105" y="3127"/>
                  </a:lnTo>
                  <a:lnTo>
                    <a:pt x="22105" y="3243"/>
                  </a:lnTo>
                  <a:lnTo>
                    <a:pt x="22105" y="3359"/>
                  </a:lnTo>
                  <a:lnTo>
                    <a:pt x="22105" y="3474"/>
                  </a:lnTo>
                  <a:lnTo>
                    <a:pt x="22105" y="3590"/>
                  </a:lnTo>
                  <a:lnTo>
                    <a:pt x="22105" y="3706"/>
                  </a:lnTo>
                  <a:lnTo>
                    <a:pt x="22105" y="3822"/>
                  </a:lnTo>
                  <a:lnTo>
                    <a:pt x="22220" y="3938"/>
                  </a:lnTo>
                  <a:lnTo>
                    <a:pt x="22220" y="3938"/>
                  </a:lnTo>
                  <a:lnTo>
                    <a:pt x="22336" y="4053"/>
                  </a:lnTo>
                  <a:lnTo>
                    <a:pt x="22452" y="4169"/>
                  </a:lnTo>
                  <a:lnTo>
                    <a:pt x="22568" y="4169"/>
                  </a:lnTo>
                  <a:lnTo>
                    <a:pt x="22683" y="4053"/>
                  </a:lnTo>
                  <a:lnTo>
                    <a:pt x="22799" y="3938"/>
                  </a:lnTo>
                  <a:lnTo>
                    <a:pt x="22915" y="3822"/>
                  </a:lnTo>
                  <a:lnTo>
                    <a:pt x="23031" y="3822"/>
                  </a:lnTo>
                  <a:lnTo>
                    <a:pt x="23146" y="3822"/>
                  </a:lnTo>
                  <a:lnTo>
                    <a:pt x="23146" y="3822"/>
                  </a:lnTo>
                  <a:lnTo>
                    <a:pt x="23146" y="3938"/>
                  </a:lnTo>
                  <a:lnTo>
                    <a:pt x="23146" y="3938"/>
                  </a:lnTo>
                  <a:lnTo>
                    <a:pt x="23146" y="4053"/>
                  </a:lnTo>
                  <a:lnTo>
                    <a:pt x="23146" y="4169"/>
                  </a:lnTo>
                  <a:lnTo>
                    <a:pt x="23146" y="4285"/>
                  </a:lnTo>
                  <a:lnTo>
                    <a:pt x="23262" y="4285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841" y="4285"/>
                  </a:lnTo>
                  <a:lnTo>
                    <a:pt x="23841" y="4285"/>
                  </a:lnTo>
                  <a:lnTo>
                    <a:pt x="23378" y="5906"/>
                  </a:lnTo>
                  <a:lnTo>
                    <a:pt x="22799" y="7528"/>
                  </a:lnTo>
                  <a:lnTo>
                    <a:pt x="22452" y="9265"/>
                  </a:lnTo>
                  <a:lnTo>
                    <a:pt x="21989" y="11002"/>
                  </a:lnTo>
                  <a:lnTo>
                    <a:pt x="21642" y="12739"/>
                  </a:lnTo>
                  <a:lnTo>
                    <a:pt x="21410" y="14476"/>
                  </a:lnTo>
                  <a:lnTo>
                    <a:pt x="21179" y="16213"/>
                  </a:lnTo>
                  <a:lnTo>
                    <a:pt x="21063" y="17951"/>
                  </a:lnTo>
                  <a:lnTo>
                    <a:pt x="21063" y="17951"/>
                  </a:lnTo>
                  <a:lnTo>
                    <a:pt x="18517" y="18414"/>
                  </a:lnTo>
                  <a:lnTo>
                    <a:pt x="15971" y="18877"/>
                  </a:lnTo>
                  <a:lnTo>
                    <a:pt x="13541" y="19456"/>
                  </a:lnTo>
                  <a:lnTo>
                    <a:pt x="11110" y="20035"/>
                  </a:lnTo>
                  <a:lnTo>
                    <a:pt x="8564" y="20614"/>
                  </a:lnTo>
                  <a:lnTo>
                    <a:pt x="6134" y="21077"/>
                  </a:lnTo>
                  <a:lnTo>
                    <a:pt x="3588" y="21656"/>
                  </a:lnTo>
                  <a:lnTo>
                    <a:pt x="926" y="22004"/>
                  </a:lnTo>
                  <a:lnTo>
                    <a:pt x="926" y="22004"/>
                  </a:lnTo>
                  <a:lnTo>
                    <a:pt x="1041" y="21888"/>
                  </a:lnTo>
                  <a:lnTo>
                    <a:pt x="1041" y="21656"/>
                  </a:lnTo>
                  <a:lnTo>
                    <a:pt x="1041" y="21541"/>
                  </a:lnTo>
                  <a:lnTo>
                    <a:pt x="1041" y="21309"/>
                  </a:lnTo>
                  <a:lnTo>
                    <a:pt x="1041" y="21193"/>
                  </a:lnTo>
                  <a:lnTo>
                    <a:pt x="926" y="20962"/>
                  </a:lnTo>
                  <a:lnTo>
                    <a:pt x="926" y="20730"/>
                  </a:lnTo>
                  <a:lnTo>
                    <a:pt x="926" y="20614"/>
                  </a:lnTo>
                  <a:lnTo>
                    <a:pt x="926" y="20614"/>
                  </a:lnTo>
                  <a:lnTo>
                    <a:pt x="810" y="20498"/>
                  </a:lnTo>
                  <a:lnTo>
                    <a:pt x="694" y="20383"/>
                  </a:lnTo>
                  <a:lnTo>
                    <a:pt x="579" y="20267"/>
                  </a:lnTo>
                  <a:lnTo>
                    <a:pt x="463" y="20267"/>
                  </a:lnTo>
                  <a:lnTo>
                    <a:pt x="347" y="20151"/>
                  </a:lnTo>
                  <a:lnTo>
                    <a:pt x="231" y="20151"/>
                  </a:lnTo>
                  <a:lnTo>
                    <a:pt x="116" y="20035"/>
                  </a:lnTo>
                  <a:lnTo>
                    <a:pt x="0" y="20035"/>
                  </a:lnTo>
                  <a:lnTo>
                    <a:pt x="0" y="20035"/>
                  </a:lnTo>
                  <a:lnTo>
                    <a:pt x="347" y="17603"/>
                  </a:lnTo>
                  <a:lnTo>
                    <a:pt x="694" y="15055"/>
                  </a:lnTo>
                  <a:lnTo>
                    <a:pt x="1273" y="12623"/>
                  </a:lnTo>
                  <a:lnTo>
                    <a:pt x="1852" y="10076"/>
                  </a:lnTo>
                  <a:lnTo>
                    <a:pt x="2430" y="7644"/>
                  </a:lnTo>
                  <a:lnTo>
                    <a:pt x="2893" y="5096"/>
                  </a:lnTo>
                  <a:lnTo>
                    <a:pt x="3472" y="2548"/>
                  </a:lnTo>
                  <a:lnTo>
                    <a:pt x="3935" y="0"/>
                  </a:lnTo>
                  <a:lnTo>
                    <a:pt x="3935" y="0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1038240" y="3094200"/>
              <a:ext cx="111600" cy="845280"/>
            </a:xfrm>
            <a:custGeom>
              <a:avLst/>
              <a:gdLst/>
              <a:ahLst/>
              <a:rect l="l" t="t" r="r" b="b"/>
              <a:pathLst>
                <a:path w="3125" h="15750">
                  <a:moveTo>
                    <a:pt x="3125" y="0"/>
                  </a:moveTo>
                  <a:lnTo>
                    <a:pt x="3125" y="347"/>
                  </a:lnTo>
                  <a:lnTo>
                    <a:pt x="3125" y="811"/>
                  </a:lnTo>
                  <a:lnTo>
                    <a:pt x="3009" y="1274"/>
                  </a:lnTo>
                  <a:lnTo>
                    <a:pt x="2894" y="1737"/>
                  </a:lnTo>
                  <a:lnTo>
                    <a:pt x="2894" y="2084"/>
                  </a:lnTo>
                  <a:lnTo>
                    <a:pt x="2778" y="2548"/>
                  </a:lnTo>
                  <a:lnTo>
                    <a:pt x="2662" y="2895"/>
                  </a:lnTo>
                  <a:lnTo>
                    <a:pt x="2546" y="3358"/>
                  </a:lnTo>
                  <a:lnTo>
                    <a:pt x="2546" y="3358"/>
                  </a:lnTo>
                  <a:lnTo>
                    <a:pt x="2199" y="4748"/>
                  </a:lnTo>
                  <a:lnTo>
                    <a:pt x="1968" y="6138"/>
                  </a:lnTo>
                  <a:lnTo>
                    <a:pt x="1736" y="7528"/>
                  </a:lnTo>
                  <a:lnTo>
                    <a:pt x="1389" y="8917"/>
                  </a:lnTo>
                  <a:lnTo>
                    <a:pt x="1158" y="10307"/>
                  </a:lnTo>
                  <a:lnTo>
                    <a:pt x="926" y="11812"/>
                  </a:lnTo>
                  <a:lnTo>
                    <a:pt x="695" y="13086"/>
                  </a:lnTo>
                  <a:lnTo>
                    <a:pt x="463" y="14476"/>
                  </a:lnTo>
                  <a:lnTo>
                    <a:pt x="463" y="14476"/>
                  </a:lnTo>
                  <a:lnTo>
                    <a:pt x="348" y="14592"/>
                  </a:lnTo>
                  <a:lnTo>
                    <a:pt x="348" y="14824"/>
                  </a:lnTo>
                  <a:lnTo>
                    <a:pt x="348" y="14939"/>
                  </a:lnTo>
                  <a:lnTo>
                    <a:pt x="348" y="15055"/>
                  </a:lnTo>
                  <a:lnTo>
                    <a:pt x="232" y="15287"/>
                  </a:lnTo>
                  <a:lnTo>
                    <a:pt x="232" y="15403"/>
                  </a:lnTo>
                  <a:lnTo>
                    <a:pt x="232" y="15518"/>
                  </a:lnTo>
                  <a:lnTo>
                    <a:pt x="232" y="15750"/>
                  </a:lnTo>
                  <a:lnTo>
                    <a:pt x="232" y="15750"/>
                  </a:lnTo>
                  <a:lnTo>
                    <a:pt x="0" y="15750"/>
                  </a:lnTo>
                  <a:lnTo>
                    <a:pt x="0" y="15750"/>
                  </a:lnTo>
                  <a:lnTo>
                    <a:pt x="116" y="14824"/>
                  </a:lnTo>
                  <a:lnTo>
                    <a:pt x="348" y="14013"/>
                  </a:lnTo>
                  <a:lnTo>
                    <a:pt x="463" y="13086"/>
                  </a:lnTo>
                  <a:lnTo>
                    <a:pt x="579" y="12276"/>
                  </a:lnTo>
                  <a:lnTo>
                    <a:pt x="695" y="11349"/>
                  </a:lnTo>
                  <a:lnTo>
                    <a:pt x="810" y="10423"/>
                  </a:lnTo>
                  <a:lnTo>
                    <a:pt x="926" y="9612"/>
                  </a:lnTo>
                  <a:lnTo>
                    <a:pt x="1042" y="8686"/>
                  </a:lnTo>
                  <a:lnTo>
                    <a:pt x="1042" y="8686"/>
                  </a:lnTo>
                  <a:lnTo>
                    <a:pt x="1273" y="7643"/>
                  </a:lnTo>
                  <a:lnTo>
                    <a:pt x="1505" y="6601"/>
                  </a:lnTo>
                  <a:lnTo>
                    <a:pt x="1736" y="5559"/>
                  </a:lnTo>
                  <a:lnTo>
                    <a:pt x="1968" y="4516"/>
                  </a:lnTo>
                  <a:lnTo>
                    <a:pt x="2199" y="3358"/>
                  </a:lnTo>
                  <a:lnTo>
                    <a:pt x="2431" y="2316"/>
                  </a:lnTo>
                  <a:lnTo>
                    <a:pt x="2662" y="1274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1059120" y="3094200"/>
              <a:ext cx="119880" cy="864000"/>
            </a:xfrm>
            <a:custGeom>
              <a:avLst/>
              <a:gdLst/>
              <a:ahLst/>
              <a:rect l="l" t="t" r="r" b="b"/>
              <a:pathLst>
                <a:path w="3356" h="16097">
                  <a:moveTo>
                    <a:pt x="3356" y="0"/>
                  </a:moveTo>
                  <a:lnTo>
                    <a:pt x="3125" y="1390"/>
                  </a:lnTo>
                  <a:lnTo>
                    <a:pt x="2893" y="2779"/>
                  </a:lnTo>
                  <a:lnTo>
                    <a:pt x="2662" y="4053"/>
                  </a:lnTo>
                  <a:lnTo>
                    <a:pt x="2315" y="5443"/>
                  </a:lnTo>
                  <a:lnTo>
                    <a:pt x="2083" y="6833"/>
                  </a:lnTo>
                  <a:lnTo>
                    <a:pt x="1736" y="8107"/>
                  </a:lnTo>
                  <a:lnTo>
                    <a:pt x="1505" y="9496"/>
                  </a:lnTo>
                  <a:lnTo>
                    <a:pt x="1273" y="10770"/>
                  </a:lnTo>
                  <a:lnTo>
                    <a:pt x="1273" y="10770"/>
                  </a:lnTo>
                  <a:lnTo>
                    <a:pt x="1157" y="11002"/>
                  </a:lnTo>
                  <a:lnTo>
                    <a:pt x="1157" y="11233"/>
                  </a:lnTo>
                  <a:lnTo>
                    <a:pt x="1042" y="11465"/>
                  </a:lnTo>
                  <a:lnTo>
                    <a:pt x="1042" y="11697"/>
                  </a:lnTo>
                  <a:lnTo>
                    <a:pt x="926" y="11928"/>
                  </a:lnTo>
                  <a:lnTo>
                    <a:pt x="926" y="12276"/>
                  </a:lnTo>
                  <a:lnTo>
                    <a:pt x="926" y="12507"/>
                  </a:lnTo>
                  <a:lnTo>
                    <a:pt x="810" y="12739"/>
                  </a:lnTo>
                  <a:lnTo>
                    <a:pt x="810" y="12739"/>
                  </a:lnTo>
                  <a:lnTo>
                    <a:pt x="926" y="13086"/>
                  </a:lnTo>
                  <a:lnTo>
                    <a:pt x="810" y="13550"/>
                  </a:lnTo>
                  <a:lnTo>
                    <a:pt x="810" y="13897"/>
                  </a:lnTo>
                  <a:lnTo>
                    <a:pt x="694" y="14360"/>
                  </a:lnTo>
                  <a:lnTo>
                    <a:pt x="579" y="14824"/>
                  </a:lnTo>
                  <a:lnTo>
                    <a:pt x="463" y="15171"/>
                  </a:lnTo>
                  <a:lnTo>
                    <a:pt x="463" y="15634"/>
                  </a:lnTo>
                  <a:lnTo>
                    <a:pt x="463" y="16097"/>
                  </a:lnTo>
                  <a:lnTo>
                    <a:pt x="463" y="16097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347" y="13897"/>
                  </a:lnTo>
                  <a:lnTo>
                    <a:pt x="694" y="11928"/>
                  </a:lnTo>
                  <a:lnTo>
                    <a:pt x="1042" y="9960"/>
                  </a:lnTo>
                  <a:lnTo>
                    <a:pt x="1389" y="7875"/>
                  </a:lnTo>
                  <a:lnTo>
                    <a:pt x="1852" y="5906"/>
                  </a:lnTo>
                  <a:lnTo>
                    <a:pt x="2199" y="3937"/>
                  </a:lnTo>
                  <a:lnTo>
                    <a:pt x="2546" y="1969"/>
                  </a:lnTo>
                  <a:lnTo>
                    <a:pt x="2893" y="0"/>
                  </a:lnTo>
                  <a:lnTo>
                    <a:pt x="2893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240" y="0"/>
                  </a:lnTo>
                  <a:lnTo>
                    <a:pt x="3240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1067040" y="3094200"/>
              <a:ext cx="144720" cy="1087920"/>
            </a:xfrm>
            <a:custGeom>
              <a:avLst/>
              <a:gdLst/>
              <a:ahLst/>
              <a:rect l="l" t="t" r="r" b="b"/>
              <a:pathLst>
                <a:path w="4051" h="20267">
                  <a:moveTo>
                    <a:pt x="3704" y="116"/>
                  </a:moveTo>
                  <a:lnTo>
                    <a:pt x="3935" y="0"/>
                  </a:lnTo>
                  <a:lnTo>
                    <a:pt x="4051" y="232"/>
                  </a:lnTo>
                  <a:lnTo>
                    <a:pt x="4051" y="232"/>
                  </a:lnTo>
                  <a:lnTo>
                    <a:pt x="3588" y="2779"/>
                  </a:lnTo>
                  <a:lnTo>
                    <a:pt x="3009" y="5211"/>
                  </a:lnTo>
                  <a:lnTo>
                    <a:pt x="2547" y="7643"/>
                  </a:lnTo>
                  <a:lnTo>
                    <a:pt x="1968" y="10075"/>
                  </a:lnTo>
                  <a:lnTo>
                    <a:pt x="1389" y="12623"/>
                  </a:lnTo>
                  <a:lnTo>
                    <a:pt x="926" y="15055"/>
                  </a:lnTo>
                  <a:lnTo>
                    <a:pt x="579" y="17603"/>
                  </a:lnTo>
                  <a:lnTo>
                    <a:pt x="348" y="20035"/>
                  </a:lnTo>
                  <a:lnTo>
                    <a:pt x="348" y="20035"/>
                  </a:lnTo>
                  <a:lnTo>
                    <a:pt x="348" y="20151"/>
                  </a:lnTo>
                  <a:lnTo>
                    <a:pt x="232" y="20151"/>
                  </a:lnTo>
                  <a:lnTo>
                    <a:pt x="232" y="20151"/>
                  </a:lnTo>
                  <a:lnTo>
                    <a:pt x="116" y="20151"/>
                  </a:lnTo>
                  <a:lnTo>
                    <a:pt x="116" y="20151"/>
                  </a:lnTo>
                  <a:lnTo>
                    <a:pt x="116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348" y="18761"/>
                  </a:lnTo>
                  <a:lnTo>
                    <a:pt x="579" y="17140"/>
                  </a:lnTo>
                  <a:lnTo>
                    <a:pt x="695" y="15634"/>
                  </a:lnTo>
                  <a:lnTo>
                    <a:pt x="926" y="14129"/>
                  </a:lnTo>
                  <a:lnTo>
                    <a:pt x="1042" y="12507"/>
                  </a:lnTo>
                  <a:lnTo>
                    <a:pt x="1158" y="11002"/>
                  </a:lnTo>
                  <a:lnTo>
                    <a:pt x="1505" y="9496"/>
                  </a:lnTo>
                  <a:lnTo>
                    <a:pt x="1852" y="7991"/>
                  </a:lnTo>
                  <a:lnTo>
                    <a:pt x="1852" y="7991"/>
                  </a:lnTo>
                  <a:lnTo>
                    <a:pt x="1968" y="6948"/>
                  </a:lnTo>
                  <a:lnTo>
                    <a:pt x="2199" y="5906"/>
                  </a:lnTo>
                  <a:lnTo>
                    <a:pt x="2431" y="4980"/>
                  </a:lnTo>
                  <a:lnTo>
                    <a:pt x="2778" y="4053"/>
                  </a:lnTo>
                  <a:lnTo>
                    <a:pt x="3009" y="3011"/>
                  </a:lnTo>
                  <a:lnTo>
                    <a:pt x="3241" y="2084"/>
                  </a:lnTo>
                  <a:lnTo>
                    <a:pt x="3472" y="1042"/>
                  </a:lnTo>
                  <a:lnTo>
                    <a:pt x="3588" y="0"/>
                  </a:lnTo>
                  <a:lnTo>
                    <a:pt x="3588" y="0"/>
                  </a:lnTo>
                  <a:lnTo>
                    <a:pt x="3704" y="0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1712880" y="3106800"/>
              <a:ext cx="57600" cy="142920"/>
            </a:xfrm>
            <a:custGeom>
              <a:avLst/>
              <a:gdLst/>
              <a:ahLst/>
              <a:rect l="l" t="t" r="r" b="b"/>
              <a:pathLst>
                <a:path w="1620" h="2663">
                  <a:moveTo>
                    <a:pt x="1620" y="810"/>
                  </a:moveTo>
                  <a:lnTo>
                    <a:pt x="1620" y="1042"/>
                  </a:lnTo>
                  <a:lnTo>
                    <a:pt x="1620" y="1158"/>
                  </a:lnTo>
                  <a:lnTo>
                    <a:pt x="1620" y="1389"/>
                  </a:lnTo>
                  <a:lnTo>
                    <a:pt x="1620" y="1621"/>
                  </a:lnTo>
                  <a:lnTo>
                    <a:pt x="1620" y="1852"/>
                  </a:lnTo>
                  <a:lnTo>
                    <a:pt x="1504" y="1968"/>
                  </a:lnTo>
                  <a:lnTo>
                    <a:pt x="1388" y="2200"/>
                  </a:lnTo>
                  <a:lnTo>
                    <a:pt x="1388" y="2316"/>
                  </a:lnTo>
                  <a:lnTo>
                    <a:pt x="1388" y="2316"/>
                  </a:lnTo>
                  <a:lnTo>
                    <a:pt x="1273" y="2432"/>
                  </a:lnTo>
                  <a:lnTo>
                    <a:pt x="1157" y="2432"/>
                  </a:lnTo>
                  <a:lnTo>
                    <a:pt x="1157" y="2547"/>
                  </a:lnTo>
                  <a:lnTo>
                    <a:pt x="1041" y="2547"/>
                  </a:lnTo>
                  <a:lnTo>
                    <a:pt x="1041" y="2663"/>
                  </a:lnTo>
                  <a:lnTo>
                    <a:pt x="926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926" y="2432"/>
                  </a:lnTo>
                  <a:lnTo>
                    <a:pt x="926" y="2200"/>
                  </a:lnTo>
                  <a:lnTo>
                    <a:pt x="1041" y="1968"/>
                  </a:lnTo>
                  <a:lnTo>
                    <a:pt x="1157" y="1737"/>
                  </a:lnTo>
                  <a:lnTo>
                    <a:pt x="1157" y="1505"/>
                  </a:lnTo>
                  <a:lnTo>
                    <a:pt x="1157" y="1158"/>
                  </a:lnTo>
                  <a:lnTo>
                    <a:pt x="1041" y="926"/>
                  </a:lnTo>
                  <a:lnTo>
                    <a:pt x="1041" y="694"/>
                  </a:lnTo>
                  <a:lnTo>
                    <a:pt x="1041" y="694"/>
                  </a:lnTo>
                  <a:lnTo>
                    <a:pt x="926" y="579"/>
                  </a:lnTo>
                  <a:lnTo>
                    <a:pt x="810" y="463"/>
                  </a:lnTo>
                  <a:lnTo>
                    <a:pt x="694" y="347"/>
                  </a:lnTo>
                  <a:lnTo>
                    <a:pt x="578" y="347"/>
                  </a:lnTo>
                  <a:lnTo>
                    <a:pt x="463" y="231"/>
                  </a:lnTo>
                  <a:lnTo>
                    <a:pt x="231" y="231"/>
                  </a:lnTo>
                  <a:lnTo>
                    <a:pt x="115" y="231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5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5"/>
                  </a:lnTo>
                  <a:lnTo>
                    <a:pt x="1273" y="347"/>
                  </a:lnTo>
                  <a:lnTo>
                    <a:pt x="1504" y="579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1783080" y="3125520"/>
              <a:ext cx="41040" cy="136800"/>
            </a:xfrm>
            <a:custGeom>
              <a:avLst/>
              <a:gdLst/>
              <a:ahLst/>
              <a:rect l="l" t="t" r="r" b="b"/>
              <a:pathLst>
                <a:path w="1157" h="2548">
                  <a:moveTo>
                    <a:pt x="1042" y="811"/>
                  </a:moveTo>
                  <a:lnTo>
                    <a:pt x="1042" y="926"/>
                  </a:lnTo>
                  <a:lnTo>
                    <a:pt x="1157" y="1158"/>
                  </a:lnTo>
                  <a:lnTo>
                    <a:pt x="1157" y="1274"/>
                  </a:lnTo>
                  <a:lnTo>
                    <a:pt x="1157" y="1505"/>
                  </a:lnTo>
                  <a:lnTo>
                    <a:pt x="1157" y="1621"/>
                  </a:lnTo>
                  <a:lnTo>
                    <a:pt x="1157" y="1853"/>
                  </a:lnTo>
                  <a:lnTo>
                    <a:pt x="1157" y="1969"/>
                  </a:lnTo>
                  <a:lnTo>
                    <a:pt x="1042" y="2200"/>
                  </a:lnTo>
                  <a:lnTo>
                    <a:pt x="1042" y="2200"/>
                  </a:lnTo>
                  <a:lnTo>
                    <a:pt x="695" y="2548"/>
                  </a:lnTo>
                  <a:lnTo>
                    <a:pt x="695" y="2548"/>
                  </a:lnTo>
                  <a:lnTo>
                    <a:pt x="695" y="2200"/>
                  </a:lnTo>
                  <a:lnTo>
                    <a:pt x="695" y="1969"/>
                  </a:lnTo>
                  <a:lnTo>
                    <a:pt x="810" y="1621"/>
                  </a:lnTo>
                  <a:lnTo>
                    <a:pt x="810" y="1274"/>
                  </a:lnTo>
                  <a:lnTo>
                    <a:pt x="810" y="1042"/>
                  </a:lnTo>
                  <a:lnTo>
                    <a:pt x="695" y="811"/>
                  </a:lnTo>
                  <a:lnTo>
                    <a:pt x="463" y="579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810" y="347"/>
                  </a:lnTo>
                  <a:lnTo>
                    <a:pt x="926" y="463"/>
                  </a:lnTo>
                  <a:lnTo>
                    <a:pt x="926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1832760" y="3137760"/>
              <a:ext cx="41040" cy="130320"/>
            </a:xfrm>
            <a:custGeom>
              <a:avLst/>
              <a:gdLst/>
              <a:ahLst/>
              <a:rect l="l" t="t" r="r" b="b"/>
              <a:pathLst>
                <a:path w="1157" h="2432">
                  <a:moveTo>
                    <a:pt x="1157" y="926"/>
                  </a:moveTo>
                  <a:lnTo>
                    <a:pt x="1157" y="1158"/>
                  </a:lnTo>
                  <a:lnTo>
                    <a:pt x="1157" y="1389"/>
                  </a:lnTo>
                  <a:lnTo>
                    <a:pt x="1157" y="1505"/>
                  </a:lnTo>
                  <a:lnTo>
                    <a:pt x="1157" y="1737"/>
                  </a:lnTo>
                  <a:lnTo>
                    <a:pt x="1042" y="1968"/>
                  </a:lnTo>
                  <a:lnTo>
                    <a:pt x="926" y="2200"/>
                  </a:lnTo>
                  <a:lnTo>
                    <a:pt x="810" y="2316"/>
                  </a:lnTo>
                  <a:lnTo>
                    <a:pt x="579" y="2432"/>
                  </a:lnTo>
                  <a:lnTo>
                    <a:pt x="579" y="2432"/>
                  </a:lnTo>
                  <a:lnTo>
                    <a:pt x="694" y="2316"/>
                  </a:lnTo>
                  <a:lnTo>
                    <a:pt x="694" y="2200"/>
                  </a:lnTo>
                  <a:lnTo>
                    <a:pt x="694" y="1968"/>
                  </a:lnTo>
                  <a:lnTo>
                    <a:pt x="810" y="1853"/>
                  </a:lnTo>
                  <a:lnTo>
                    <a:pt x="810" y="1621"/>
                  </a:lnTo>
                  <a:lnTo>
                    <a:pt x="926" y="1389"/>
                  </a:lnTo>
                  <a:lnTo>
                    <a:pt x="926" y="1273"/>
                  </a:lnTo>
                  <a:lnTo>
                    <a:pt x="810" y="1042"/>
                  </a:lnTo>
                  <a:lnTo>
                    <a:pt x="810" y="1042"/>
                  </a:lnTo>
                  <a:lnTo>
                    <a:pt x="810" y="926"/>
                  </a:lnTo>
                  <a:lnTo>
                    <a:pt x="694" y="810"/>
                  </a:lnTo>
                  <a:lnTo>
                    <a:pt x="463" y="694"/>
                  </a:lnTo>
                  <a:lnTo>
                    <a:pt x="347" y="579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23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7" y="0"/>
                  </a:lnTo>
                  <a:lnTo>
                    <a:pt x="579" y="115"/>
                  </a:lnTo>
                  <a:lnTo>
                    <a:pt x="694" y="231"/>
                  </a:lnTo>
                  <a:lnTo>
                    <a:pt x="810" y="347"/>
                  </a:lnTo>
                  <a:lnTo>
                    <a:pt x="926" y="579"/>
                  </a:lnTo>
                  <a:lnTo>
                    <a:pt x="1042" y="810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1890720" y="3156480"/>
              <a:ext cx="28800" cy="111600"/>
            </a:xfrm>
            <a:custGeom>
              <a:avLst/>
              <a:gdLst/>
              <a:ahLst/>
              <a:rect l="l" t="t" r="r" b="b"/>
              <a:pathLst>
                <a:path w="810" h="2085">
                  <a:moveTo>
                    <a:pt x="810" y="579"/>
                  </a:moveTo>
                  <a:lnTo>
                    <a:pt x="810" y="811"/>
                  </a:lnTo>
                  <a:lnTo>
                    <a:pt x="810" y="1042"/>
                  </a:lnTo>
                  <a:lnTo>
                    <a:pt x="810" y="1158"/>
                  </a:lnTo>
                  <a:lnTo>
                    <a:pt x="810" y="1390"/>
                  </a:lnTo>
                  <a:lnTo>
                    <a:pt x="695" y="1621"/>
                  </a:lnTo>
                  <a:lnTo>
                    <a:pt x="695" y="1737"/>
                  </a:lnTo>
                  <a:lnTo>
                    <a:pt x="579" y="1969"/>
                  </a:lnTo>
                  <a:lnTo>
                    <a:pt x="347" y="2085"/>
                  </a:lnTo>
                  <a:lnTo>
                    <a:pt x="347" y="2085"/>
                  </a:lnTo>
                  <a:lnTo>
                    <a:pt x="463" y="1969"/>
                  </a:lnTo>
                  <a:lnTo>
                    <a:pt x="463" y="1737"/>
                  </a:lnTo>
                  <a:lnTo>
                    <a:pt x="579" y="1506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1"/>
                  </a:lnTo>
                  <a:lnTo>
                    <a:pt x="579" y="579"/>
                  </a:lnTo>
                  <a:lnTo>
                    <a:pt x="347" y="347"/>
                  </a:lnTo>
                  <a:lnTo>
                    <a:pt x="347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2" y="0"/>
                  </a:lnTo>
                  <a:lnTo>
                    <a:pt x="347" y="0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695" y="347"/>
                  </a:lnTo>
                  <a:lnTo>
                    <a:pt x="695" y="463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1932120" y="3169080"/>
              <a:ext cx="37080" cy="118080"/>
            </a:xfrm>
            <a:custGeom>
              <a:avLst/>
              <a:gdLst/>
              <a:ahLst/>
              <a:rect l="l" t="t" r="r" b="b"/>
              <a:pathLst>
                <a:path w="1042" h="2200">
                  <a:moveTo>
                    <a:pt x="1042" y="694"/>
                  </a:moveTo>
                  <a:lnTo>
                    <a:pt x="1042" y="926"/>
                  </a:lnTo>
                  <a:lnTo>
                    <a:pt x="1042" y="1042"/>
                  </a:lnTo>
                  <a:lnTo>
                    <a:pt x="1042" y="1274"/>
                  </a:lnTo>
                  <a:lnTo>
                    <a:pt x="926" y="1505"/>
                  </a:lnTo>
                  <a:lnTo>
                    <a:pt x="926" y="1737"/>
                  </a:lnTo>
                  <a:lnTo>
                    <a:pt x="811" y="1853"/>
                  </a:lnTo>
                  <a:lnTo>
                    <a:pt x="579" y="2084"/>
                  </a:lnTo>
                  <a:lnTo>
                    <a:pt x="463" y="2200"/>
                  </a:lnTo>
                  <a:lnTo>
                    <a:pt x="463" y="2200"/>
                  </a:lnTo>
                  <a:lnTo>
                    <a:pt x="116" y="2200"/>
                  </a:lnTo>
                  <a:lnTo>
                    <a:pt x="116" y="2200"/>
                  </a:lnTo>
                  <a:lnTo>
                    <a:pt x="232" y="1968"/>
                  </a:lnTo>
                  <a:lnTo>
                    <a:pt x="348" y="1737"/>
                  </a:lnTo>
                  <a:lnTo>
                    <a:pt x="463" y="1621"/>
                  </a:lnTo>
                  <a:lnTo>
                    <a:pt x="463" y="1389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0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8" y="0"/>
                  </a:lnTo>
                  <a:lnTo>
                    <a:pt x="463" y="0"/>
                  </a:lnTo>
                  <a:lnTo>
                    <a:pt x="579" y="115"/>
                  </a:lnTo>
                  <a:lnTo>
                    <a:pt x="811" y="231"/>
                  </a:lnTo>
                  <a:lnTo>
                    <a:pt x="926" y="347"/>
                  </a:lnTo>
                  <a:lnTo>
                    <a:pt x="1042" y="579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1340280" y="3312000"/>
              <a:ext cx="223200" cy="397800"/>
            </a:xfrm>
            <a:custGeom>
              <a:avLst/>
              <a:gdLst/>
              <a:ahLst/>
              <a:rect l="l" t="t" r="r" b="b"/>
              <a:pathLst>
                <a:path w="6249" h="7412">
                  <a:moveTo>
                    <a:pt x="5439" y="1969"/>
                  </a:moveTo>
                  <a:lnTo>
                    <a:pt x="5439" y="2085"/>
                  </a:lnTo>
                  <a:lnTo>
                    <a:pt x="5555" y="2085"/>
                  </a:lnTo>
                  <a:lnTo>
                    <a:pt x="5555" y="2085"/>
                  </a:lnTo>
                  <a:lnTo>
                    <a:pt x="5671" y="2085"/>
                  </a:lnTo>
                  <a:lnTo>
                    <a:pt x="5671" y="2085"/>
                  </a:lnTo>
                  <a:lnTo>
                    <a:pt x="5786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853"/>
                  </a:lnTo>
                  <a:lnTo>
                    <a:pt x="6018" y="1853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249" y="1737"/>
                  </a:lnTo>
                  <a:lnTo>
                    <a:pt x="6249" y="1737"/>
                  </a:lnTo>
                  <a:lnTo>
                    <a:pt x="6249" y="1853"/>
                  </a:lnTo>
                  <a:lnTo>
                    <a:pt x="6249" y="1969"/>
                  </a:lnTo>
                  <a:lnTo>
                    <a:pt x="6249" y="2085"/>
                  </a:lnTo>
                  <a:lnTo>
                    <a:pt x="6134" y="2201"/>
                  </a:lnTo>
                  <a:lnTo>
                    <a:pt x="6018" y="2316"/>
                  </a:lnTo>
                  <a:lnTo>
                    <a:pt x="5902" y="2432"/>
                  </a:lnTo>
                  <a:lnTo>
                    <a:pt x="5786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3127"/>
                  </a:lnTo>
                  <a:lnTo>
                    <a:pt x="5555" y="3822"/>
                  </a:lnTo>
                  <a:lnTo>
                    <a:pt x="5555" y="4401"/>
                  </a:lnTo>
                  <a:lnTo>
                    <a:pt x="5323" y="4980"/>
                  </a:lnTo>
                  <a:lnTo>
                    <a:pt x="5208" y="5675"/>
                  </a:lnTo>
                  <a:lnTo>
                    <a:pt x="4861" y="6138"/>
                  </a:lnTo>
                  <a:lnTo>
                    <a:pt x="4398" y="6601"/>
                  </a:lnTo>
                  <a:lnTo>
                    <a:pt x="3935" y="7065"/>
                  </a:lnTo>
                  <a:lnTo>
                    <a:pt x="3935" y="7065"/>
                  </a:lnTo>
                  <a:lnTo>
                    <a:pt x="3703" y="7180"/>
                  </a:lnTo>
                  <a:lnTo>
                    <a:pt x="3356" y="7296"/>
                  </a:lnTo>
                  <a:lnTo>
                    <a:pt x="3125" y="7412"/>
                  </a:lnTo>
                  <a:lnTo>
                    <a:pt x="2893" y="7412"/>
                  </a:lnTo>
                  <a:lnTo>
                    <a:pt x="2546" y="7412"/>
                  </a:lnTo>
                  <a:lnTo>
                    <a:pt x="2199" y="7412"/>
                  </a:lnTo>
                  <a:lnTo>
                    <a:pt x="1967" y="7296"/>
                  </a:lnTo>
                  <a:lnTo>
                    <a:pt x="1620" y="7296"/>
                  </a:lnTo>
                  <a:lnTo>
                    <a:pt x="1620" y="7296"/>
                  </a:lnTo>
                  <a:lnTo>
                    <a:pt x="1389" y="7180"/>
                  </a:lnTo>
                  <a:lnTo>
                    <a:pt x="1157" y="7065"/>
                  </a:lnTo>
                  <a:lnTo>
                    <a:pt x="926" y="6949"/>
                  </a:lnTo>
                  <a:lnTo>
                    <a:pt x="694" y="6717"/>
                  </a:lnTo>
                  <a:lnTo>
                    <a:pt x="578" y="6601"/>
                  </a:lnTo>
                  <a:lnTo>
                    <a:pt x="347" y="6370"/>
                  </a:lnTo>
                  <a:lnTo>
                    <a:pt x="231" y="6138"/>
                  </a:lnTo>
                  <a:lnTo>
                    <a:pt x="116" y="5907"/>
                  </a:lnTo>
                  <a:lnTo>
                    <a:pt x="116" y="5907"/>
                  </a:lnTo>
                  <a:lnTo>
                    <a:pt x="0" y="5559"/>
                  </a:lnTo>
                  <a:lnTo>
                    <a:pt x="0" y="5096"/>
                  </a:lnTo>
                  <a:lnTo>
                    <a:pt x="0" y="4748"/>
                  </a:lnTo>
                  <a:lnTo>
                    <a:pt x="0" y="4285"/>
                  </a:lnTo>
                  <a:lnTo>
                    <a:pt x="0" y="3938"/>
                  </a:lnTo>
                  <a:lnTo>
                    <a:pt x="116" y="3590"/>
                  </a:lnTo>
                  <a:lnTo>
                    <a:pt x="347" y="3243"/>
                  </a:lnTo>
                  <a:lnTo>
                    <a:pt x="578" y="2895"/>
                  </a:lnTo>
                  <a:lnTo>
                    <a:pt x="578" y="2895"/>
                  </a:lnTo>
                  <a:lnTo>
                    <a:pt x="926" y="2432"/>
                  </a:lnTo>
                  <a:lnTo>
                    <a:pt x="1273" y="2085"/>
                  </a:lnTo>
                  <a:lnTo>
                    <a:pt x="1736" y="1853"/>
                  </a:lnTo>
                  <a:lnTo>
                    <a:pt x="2083" y="1622"/>
                  </a:lnTo>
                  <a:lnTo>
                    <a:pt x="2546" y="1390"/>
                  </a:lnTo>
                  <a:lnTo>
                    <a:pt x="3009" y="1274"/>
                  </a:lnTo>
                  <a:lnTo>
                    <a:pt x="3587" y="1158"/>
                  </a:lnTo>
                  <a:lnTo>
                    <a:pt x="4050" y="1158"/>
                  </a:lnTo>
                  <a:lnTo>
                    <a:pt x="4050" y="1158"/>
                  </a:lnTo>
                  <a:lnTo>
                    <a:pt x="3587" y="927"/>
                  </a:lnTo>
                  <a:lnTo>
                    <a:pt x="3240" y="811"/>
                  </a:lnTo>
                  <a:lnTo>
                    <a:pt x="2777" y="579"/>
                  </a:lnTo>
                  <a:lnTo>
                    <a:pt x="2314" y="463"/>
                  </a:lnTo>
                  <a:lnTo>
                    <a:pt x="1851" y="463"/>
                  </a:lnTo>
                  <a:lnTo>
                    <a:pt x="1389" y="463"/>
                  </a:lnTo>
                  <a:lnTo>
                    <a:pt x="926" y="579"/>
                  </a:lnTo>
                  <a:lnTo>
                    <a:pt x="578" y="695"/>
                  </a:lnTo>
                  <a:lnTo>
                    <a:pt x="578" y="695"/>
                  </a:lnTo>
                  <a:lnTo>
                    <a:pt x="578" y="463"/>
                  </a:lnTo>
                  <a:lnTo>
                    <a:pt x="694" y="348"/>
                  </a:lnTo>
                  <a:lnTo>
                    <a:pt x="926" y="232"/>
                  </a:lnTo>
                  <a:lnTo>
                    <a:pt x="1041" y="116"/>
                  </a:lnTo>
                  <a:lnTo>
                    <a:pt x="1273" y="116"/>
                  </a:lnTo>
                  <a:lnTo>
                    <a:pt x="1504" y="0"/>
                  </a:lnTo>
                  <a:lnTo>
                    <a:pt x="1620" y="0"/>
                  </a:lnTo>
                  <a:lnTo>
                    <a:pt x="1851" y="0"/>
                  </a:lnTo>
                  <a:lnTo>
                    <a:pt x="1851" y="0"/>
                  </a:lnTo>
                  <a:lnTo>
                    <a:pt x="2314" y="116"/>
                  </a:lnTo>
                  <a:lnTo>
                    <a:pt x="2777" y="232"/>
                  </a:lnTo>
                  <a:lnTo>
                    <a:pt x="3356" y="463"/>
                  </a:lnTo>
                  <a:lnTo>
                    <a:pt x="3819" y="579"/>
                  </a:lnTo>
                  <a:lnTo>
                    <a:pt x="4282" y="811"/>
                  </a:lnTo>
                  <a:lnTo>
                    <a:pt x="4745" y="1043"/>
                  </a:lnTo>
                  <a:lnTo>
                    <a:pt x="5092" y="1506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1572120" y="3367800"/>
              <a:ext cx="186120" cy="410040"/>
            </a:xfrm>
            <a:custGeom>
              <a:avLst/>
              <a:gdLst/>
              <a:ahLst/>
              <a:rect l="l" t="t" r="r" b="b"/>
              <a:pathLst>
                <a:path w="5208" h="7643">
                  <a:moveTo>
                    <a:pt x="4976" y="347"/>
                  </a:moveTo>
                  <a:lnTo>
                    <a:pt x="4976" y="347"/>
                  </a:lnTo>
                  <a:lnTo>
                    <a:pt x="4861" y="347"/>
                  </a:lnTo>
                  <a:lnTo>
                    <a:pt x="4745" y="347"/>
                  </a:lnTo>
                  <a:lnTo>
                    <a:pt x="4629" y="347"/>
                  </a:lnTo>
                  <a:lnTo>
                    <a:pt x="4513" y="347"/>
                  </a:lnTo>
                  <a:lnTo>
                    <a:pt x="4398" y="347"/>
                  </a:lnTo>
                  <a:lnTo>
                    <a:pt x="4282" y="231"/>
                  </a:lnTo>
                  <a:lnTo>
                    <a:pt x="4166" y="347"/>
                  </a:lnTo>
                  <a:lnTo>
                    <a:pt x="4166" y="347"/>
                  </a:lnTo>
                  <a:lnTo>
                    <a:pt x="4050" y="347"/>
                  </a:lnTo>
                  <a:lnTo>
                    <a:pt x="3819" y="463"/>
                  </a:lnTo>
                  <a:lnTo>
                    <a:pt x="3703" y="463"/>
                  </a:lnTo>
                  <a:lnTo>
                    <a:pt x="3472" y="579"/>
                  </a:lnTo>
                  <a:lnTo>
                    <a:pt x="3356" y="579"/>
                  </a:lnTo>
                  <a:lnTo>
                    <a:pt x="3240" y="694"/>
                  </a:lnTo>
                  <a:lnTo>
                    <a:pt x="3009" y="810"/>
                  </a:lnTo>
                  <a:lnTo>
                    <a:pt x="2893" y="926"/>
                  </a:lnTo>
                  <a:lnTo>
                    <a:pt x="2893" y="926"/>
                  </a:lnTo>
                  <a:lnTo>
                    <a:pt x="3240" y="926"/>
                  </a:lnTo>
                  <a:lnTo>
                    <a:pt x="3472" y="1042"/>
                  </a:lnTo>
                  <a:lnTo>
                    <a:pt x="3819" y="1158"/>
                  </a:lnTo>
                  <a:lnTo>
                    <a:pt x="4050" y="1273"/>
                  </a:lnTo>
                  <a:lnTo>
                    <a:pt x="4282" y="1389"/>
                  </a:lnTo>
                  <a:lnTo>
                    <a:pt x="4513" y="1621"/>
                  </a:lnTo>
                  <a:lnTo>
                    <a:pt x="4745" y="1852"/>
                  </a:lnTo>
                  <a:lnTo>
                    <a:pt x="4976" y="2084"/>
                  </a:lnTo>
                  <a:lnTo>
                    <a:pt x="4976" y="2084"/>
                  </a:lnTo>
                  <a:lnTo>
                    <a:pt x="5092" y="2663"/>
                  </a:lnTo>
                  <a:lnTo>
                    <a:pt x="5208" y="3242"/>
                  </a:lnTo>
                  <a:lnTo>
                    <a:pt x="5208" y="3821"/>
                  </a:lnTo>
                  <a:lnTo>
                    <a:pt x="5092" y="4400"/>
                  </a:lnTo>
                  <a:lnTo>
                    <a:pt x="4976" y="4979"/>
                  </a:lnTo>
                  <a:lnTo>
                    <a:pt x="4745" y="5558"/>
                  </a:lnTo>
                  <a:lnTo>
                    <a:pt x="4513" y="6137"/>
                  </a:lnTo>
                  <a:lnTo>
                    <a:pt x="4166" y="6601"/>
                  </a:lnTo>
                  <a:lnTo>
                    <a:pt x="4166" y="6601"/>
                  </a:lnTo>
                  <a:lnTo>
                    <a:pt x="3819" y="6948"/>
                  </a:lnTo>
                  <a:lnTo>
                    <a:pt x="3472" y="7180"/>
                  </a:lnTo>
                  <a:lnTo>
                    <a:pt x="3125" y="7411"/>
                  </a:lnTo>
                  <a:lnTo>
                    <a:pt x="2662" y="7527"/>
                  </a:lnTo>
                  <a:lnTo>
                    <a:pt x="2199" y="7643"/>
                  </a:lnTo>
                  <a:lnTo>
                    <a:pt x="1736" y="7643"/>
                  </a:lnTo>
                  <a:lnTo>
                    <a:pt x="1273" y="7643"/>
                  </a:lnTo>
                  <a:lnTo>
                    <a:pt x="810" y="7527"/>
                  </a:lnTo>
                  <a:lnTo>
                    <a:pt x="810" y="7527"/>
                  </a:lnTo>
                  <a:lnTo>
                    <a:pt x="463" y="7064"/>
                  </a:lnTo>
                  <a:lnTo>
                    <a:pt x="231" y="6485"/>
                  </a:lnTo>
                  <a:lnTo>
                    <a:pt x="0" y="5906"/>
                  </a:lnTo>
                  <a:lnTo>
                    <a:pt x="0" y="5211"/>
                  </a:lnTo>
                  <a:lnTo>
                    <a:pt x="116" y="4632"/>
                  </a:lnTo>
                  <a:lnTo>
                    <a:pt x="231" y="3937"/>
                  </a:lnTo>
                  <a:lnTo>
                    <a:pt x="347" y="3358"/>
                  </a:lnTo>
                  <a:lnTo>
                    <a:pt x="578" y="2779"/>
                  </a:lnTo>
                  <a:lnTo>
                    <a:pt x="578" y="2779"/>
                  </a:lnTo>
                  <a:lnTo>
                    <a:pt x="578" y="2547"/>
                  </a:lnTo>
                  <a:lnTo>
                    <a:pt x="694" y="2432"/>
                  </a:lnTo>
                  <a:lnTo>
                    <a:pt x="810" y="2316"/>
                  </a:lnTo>
                  <a:lnTo>
                    <a:pt x="810" y="2200"/>
                  </a:lnTo>
                  <a:lnTo>
                    <a:pt x="926" y="1968"/>
                  </a:lnTo>
                  <a:lnTo>
                    <a:pt x="1041" y="1852"/>
                  </a:lnTo>
                  <a:lnTo>
                    <a:pt x="1041" y="1737"/>
                  </a:lnTo>
                  <a:lnTo>
                    <a:pt x="1157" y="1621"/>
                  </a:lnTo>
                  <a:lnTo>
                    <a:pt x="1157" y="1621"/>
                  </a:lnTo>
                  <a:lnTo>
                    <a:pt x="1041" y="1505"/>
                  </a:lnTo>
                  <a:lnTo>
                    <a:pt x="926" y="1505"/>
                  </a:lnTo>
                  <a:lnTo>
                    <a:pt x="926" y="1389"/>
                  </a:lnTo>
                  <a:lnTo>
                    <a:pt x="810" y="1389"/>
                  </a:lnTo>
                  <a:lnTo>
                    <a:pt x="694" y="1389"/>
                  </a:lnTo>
                  <a:lnTo>
                    <a:pt x="694" y="1389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694" y="1158"/>
                  </a:lnTo>
                  <a:lnTo>
                    <a:pt x="810" y="1158"/>
                  </a:lnTo>
                  <a:lnTo>
                    <a:pt x="926" y="1158"/>
                  </a:lnTo>
                  <a:lnTo>
                    <a:pt x="1041" y="1158"/>
                  </a:lnTo>
                  <a:lnTo>
                    <a:pt x="1157" y="1158"/>
                  </a:lnTo>
                  <a:lnTo>
                    <a:pt x="1389" y="1158"/>
                  </a:lnTo>
                  <a:lnTo>
                    <a:pt x="1504" y="1158"/>
                  </a:lnTo>
                  <a:lnTo>
                    <a:pt x="1620" y="1158"/>
                  </a:lnTo>
                  <a:lnTo>
                    <a:pt x="1620" y="1158"/>
                  </a:lnTo>
                  <a:lnTo>
                    <a:pt x="1967" y="926"/>
                  </a:lnTo>
                  <a:lnTo>
                    <a:pt x="2430" y="694"/>
                  </a:lnTo>
                  <a:lnTo>
                    <a:pt x="2777" y="347"/>
                  </a:lnTo>
                  <a:lnTo>
                    <a:pt x="3240" y="115"/>
                  </a:lnTo>
                  <a:lnTo>
                    <a:pt x="3703" y="0"/>
                  </a:lnTo>
                  <a:lnTo>
                    <a:pt x="4166" y="0"/>
                  </a:lnTo>
                  <a:lnTo>
                    <a:pt x="4629" y="0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1352880" y="3399120"/>
              <a:ext cx="173520" cy="285840"/>
            </a:xfrm>
            <a:custGeom>
              <a:avLst/>
              <a:gdLst/>
              <a:ahLst/>
              <a:rect l="l" t="t" r="r" b="b"/>
              <a:pathLst>
                <a:path w="4861" h="5327">
                  <a:moveTo>
                    <a:pt x="4398" y="463"/>
                  </a:moveTo>
                  <a:lnTo>
                    <a:pt x="4629" y="926"/>
                  </a:lnTo>
                  <a:lnTo>
                    <a:pt x="4745" y="1389"/>
                  </a:lnTo>
                  <a:lnTo>
                    <a:pt x="4745" y="1968"/>
                  </a:lnTo>
                  <a:lnTo>
                    <a:pt x="4861" y="2432"/>
                  </a:lnTo>
                  <a:lnTo>
                    <a:pt x="4745" y="2895"/>
                  </a:lnTo>
                  <a:lnTo>
                    <a:pt x="4629" y="3474"/>
                  </a:lnTo>
                  <a:lnTo>
                    <a:pt x="4398" y="3937"/>
                  </a:lnTo>
                  <a:lnTo>
                    <a:pt x="4051" y="4285"/>
                  </a:lnTo>
                  <a:lnTo>
                    <a:pt x="4051" y="4285"/>
                  </a:lnTo>
                  <a:lnTo>
                    <a:pt x="3935" y="4516"/>
                  </a:lnTo>
                  <a:lnTo>
                    <a:pt x="3819" y="4632"/>
                  </a:lnTo>
                  <a:lnTo>
                    <a:pt x="3588" y="4864"/>
                  </a:lnTo>
                  <a:lnTo>
                    <a:pt x="3356" y="4979"/>
                  </a:lnTo>
                  <a:lnTo>
                    <a:pt x="3125" y="5095"/>
                  </a:lnTo>
                  <a:lnTo>
                    <a:pt x="3009" y="5211"/>
                  </a:lnTo>
                  <a:lnTo>
                    <a:pt x="2778" y="5327"/>
                  </a:lnTo>
                  <a:lnTo>
                    <a:pt x="2430" y="5327"/>
                  </a:lnTo>
                  <a:lnTo>
                    <a:pt x="2430" y="5327"/>
                  </a:lnTo>
                  <a:lnTo>
                    <a:pt x="2083" y="5327"/>
                  </a:lnTo>
                  <a:lnTo>
                    <a:pt x="1736" y="5211"/>
                  </a:lnTo>
                  <a:lnTo>
                    <a:pt x="1389" y="5211"/>
                  </a:lnTo>
                  <a:lnTo>
                    <a:pt x="1157" y="5095"/>
                  </a:lnTo>
                  <a:lnTo>
                    <a:pt x="810" y="4864"/>
                  </a:lnTo>
                  <a:lnTo>
                    <a:pt x="579" y="4748"/>
                  </a:lnTo>
                  <a:lnTo>
                    <a:pt x="347" y="4400"/>
                  </a:lnTo>
                  <a:lnTo>
                    <a:pt x="231" y="4053"/>
                  </a:lnTo>
                  <a:lnTo>
                    <a:pt x="231" y="4053"/>
                  </a:lnTo>
                  <a:lnTo>
                    <a:pt x="116" y="3590"/>
                  </a:lnTo>
                  <a:lnTo>
                    <a:pt x="0" y="3242"/>
                  </a:lnTo>
                  <a:lnTo>
                    <a:pt x="116" y="2779"/>
                  </a:lnTo>
                  <a:lnTo>
                    <a:pt x="231" y="2316"/>
                  </a:lnTo>
                  <a:lnTo>
                    <a:pt x="347" y="1853"/>
                  </a:lnTo>
                  <a:lnTo>
                    <a:pt x="579" y="1505"/>
                  </a:lnTo>
                  <a:lnTo>
                    <a:pt x="810" y="1158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504" y="579"/>
                  </a:lnTo>
                  <a:lnTo>
                    <a:pt x="1852" y="463"/>
                  </a:lnTo>
                  <a:lnTo>
                    <a:pt x="2199" y="347"/>
                  </a:lnTo>
                  <a:lnTo>
                    <a:pt x="2546" y="231"/>
                  </a:lnTo>
                  <a:lnTo>
                    <a:pt x="2893" y="115"/>
                  </a:lnTo>
                  <a:lnTo>
                    <a:pt x="3240" y="115"/>
                  </a:lnTo>
                  <a:lnTo>
                    <a:pt x="3703" y="115"/>
                  </a:lnTo>
                  <a:lnTo>
                    <a:pt x="4051" y="0"/>
                  </a:lnTo>
                  <a:lnTo>
                    <a:pt x="4051" y="0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1419120" y="3411360"/>
              <a:ext cx="86760" cy="124200"/>
            </a:xfrm>
            <a:custGeom>
              <a:avLst/>
              <a:gdLst/>
              <a:ahLst/>
              <a:rect l="l" t="t" r="r" b="b"/>
              <a:pathLst>
                <a:path w="2430" h="2316">
                  <a:moveTo>
                    <a:pt x="2314" y="579"/>
                  </a:moveTo>
                  <a:lnTo>
                    <a:pt x="2430" y="811"/>
                  </a:lnTo>
                  <a:lnTo>
                    <a:pt x="2430" y="1042"/>
                  </a:lnTo>
                  <a:lnTo>
                    <a:pt x="2430" y="1274"/>
                  </a:lnTo>
                  <a:lnTo>
                    <a:pt x="2314" y="1506"/>
                  </a:lnTo>
                  <a:lnTo>
                    <a:pt x="2199" y="1737"/>
                  </a:lnTo>
                  <a:lnTo>
                    <a:pt x="2083" y="1969"/>
                  </a:lnTo>
                  <a:lnTo>
                    <a:pt x="1851" y="2085"/>
                  </a:lnTo>
                  <a:lnTo>
                    <a:pt x="1620" y="2201"/>
                  </a:lnTo>
                  <a:lnTo>
                    <a:pt x="1620" y="2201"/>
                  </a:lnTo>
                  <a:lnTo>
                    <a:pt x="1504" y="2201"/>
                  </a:lnTo>
                  <a:lnTo>
                    <a:pt x="1388" y="2316"/>
                  </a:lnTo>
                  <a:lnTo>
                    <a:pt x="1157" y="2316"/>
                  </a:lnTo>
                  <a:lnTo>
                    <a:pt x="1041" y="2201"/>
                  </a:lnTo>
                  <a:lnTo>
                    <a:pt x="926" y="2201"/>
                  </a:lnTo>
                  <a:lnTo>
                    <a:pt x="810" y="2201"/>
                  </a:lnTo>
                  <a:lnTo>
                    <a:pt x="578" y="2085"/>
                  </a:lnTo>
                  <a:lnTo>
                    <a:pt x="463" y="2085"/>
                  </a:lnTo>
                  <a:lnTo>
                    <a:pt x="463" y="2085"/>
                  </a:lnTo>
                  <a:lnTo>
                    <a:pt x="347" y="1969"/>
                  </a:lnTo>
                  <a:lnTo>
                    <a:pt x="231" y="1737"/>
                  </a:lnTo>
                  <a:lnTo>
                    <a:pt x="115" y="1622"/>
                  </a:lnTo>
                  <a:lnTo>
                    <a:pt x="115" y="1390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578" y="232"/>
                  </a:lnTo>
                  <a:lnTo>
                    <a:pt x="810" y="116"/>
                  </a:lnTo>
                  <a:lnTo>
                    <a:pt x="1273" y="0"/>
                  </a:lnTo>
                  <a:lnTo>
                    <a:pt x="1620" y="0"/>
                  </a:lnTo>
                  <a:lnTo>
                    <a:pt x="1851" y="116"/>
                  </a:lnTo>
                  <a:lnTo>
                    <a:pt x="2199" y="232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1588680" y="3442320"/>
              <a:ext cx="153000" cy="310680"/>
            </a:xfrm>
            <a:custGeom>
              <a:avLst/>
              <a:gdLst/>
              <a:ahLst/>
              <a:rect l="l" t="t" r="r" b="b"/>
              <a:pathLst>
                <a:path w="4282" h="5791">
                  <a:moveTo>
                    <a:pt x="4166" y="927"/>
                  </a:moveTo>
                  <a:lnTo>
                    <a:pt x="4282" y="1506"/>
                  </a:lnTo>
                  <a:lnTo>
                    <a:pt x="4282" y="1969"/>
                  </a:lnTo>
                  <a:lnTo>
                    <a:pt x="4282" y="2432"/>
                  </a:lnTo>
                  <a:lnTo>
                    <a:pt x="4166" y="2895"/>
                  </a:lnTo>
                  <a:lnTo>
                    <a:pt x="4050" y="3359"/>
                  </a:lnTo>
                  <a:lnTo>
                    <a:pt x="3935" y="3822"/>
                  </a:lnTo>
                  <a:lnTo>
                    <a:pt x="3703" y="4285"/>
                  </a:lnTo>
                  <a:lnTo>
                    <a:pt x="3587" y="4633"/>
                  </a:lnTo>
                  <a:lnTo>
                    <a:pt x="3587" y="4633"/>
                  </a:lnTo>
                  <a:lnTo>
                    <a:pt x="3240" y="4980"/>
                  </a:lnTo>
                  <a:lnTo>
                    <a:pt x="3009" y="5327"/>
                  </a:lnTo>
                  <a:lnTo>
                    <a:pt x="2662" y="5443"/>
                  </a:lnTo>
                  <a:lnTo>
                    <a:pt x="2199" y="5675"/>
                  </a:lnTo>
                  <a:lnTo>
                    <a:pt x="1851" y="5791"/>
                  </a:lnTo>
                  <a:lnTo>
                    <a:pt x="1504" y="5791"/>
                  </a:lnTo>
                  <a:lnTo>
                    <a:pt x="1041" y="5791"/>
                  </a:lnTo>
                  <a:lnTo>
                    <a:pt x="578" y="5791"/>
                  </a:lnTo>
                  <a:lnTo>
                    <a:pt x="578" y="5791"/>
                  </a:lnTo>
                  <a:lnTo>
                    <a:pt x="231" y="5096"/>
                  </a:lnTo>
                  <a:lnTo>
                    <a:pt x="0" y="4401"/>
                  </a:lnTo>
                  <a:lnTo>
                    <a:pt x="0" y="3706"/>
                  </a:lnTo>
                  <a:lnTo>
                    <a:pt x="0" y="3011"/>
                  </a:lnTo>
                  <a:lnTo>
                    <a:pt x="231" y="2316"/>
                  </a:lnTo>
                  <a:lnTo>
                    <a:pt x="463" y="1622"/>
                  </a:lnTo>
                  <a:lnTo>
                    <a:pt x="810" y="927"/>
                  </a:lnTo>
                  <a:lnTo>
                    <a:pt x="1157" y="348"/>
                  </a:lnTo>
                  <a:lnTo>
                    <a:pt x="1157" y="348"/>
                  </a:lnTo>
                  <a:lnTo>
                    <a:pt x="1389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0"/>
                  </a:lnTo>
                  <a:lnTo>
                    <a:pt x="2314" y="0"/>
                  </a:lnTo>
                  <a:lnTo>
                    <a:pt x="2662" y="0"/>
                  </a:lnTo>
                  <a:lnTo>
                    <a:pt x="2893" y="116"/>
                  </a:lnTo>
                  <a:lnTo>
                    <a:pt x="3124" y="116"/>
                  </a:lnTo>
                  <a:lnTo>
                    <a:pt x="3124" y="116"/>
                  </a:lnTo>
                  <a:lnTo>
                    <a:pt x="3240" y="232"/>
                  </a:lnTo>
                  <a:lnTo>
                    <a:pt x="3472" y="232"/>
                  </a:lnTo>
                  <a:lnTo>
                    <a:pt x="3587" y="348"/>
                  </a:lnTo>
                  <a:lnTo>
                    <a:pt x="3703" y="463"/>
                  </a:lnTo>
                  <a:lnTo>
                    <a:pt x="3819" y="579"/>
                  </a:lnTo>
                  <a:lnTo>
                    <a:pt x="3935" y="695"/>
                  </a:lnTo>
                  <a:lnTo>
                    <a:pt x="4050" y="811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1460520" y="3454920"/>
              <a:ext cx="20520" cy="30960"/>
            </a:xfrm>
            <a:custGeom>
              <a:avLst/>
              <a:gdLst/>
              <a:ahLst/>
              <a:rect l="l" t="t" r="r" b="b"/>
              <a:pathLst>
                <a:path w="579" h="579">
                  <a:moveTo>
                    <a:pt x="463" y="579"/>
                  </a:moveTo>
                  <a:lnTo>
                    <a:pt x="463" y="579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116" y="347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116"/>
                  </a:lnTo>
                  <a:lnTo>
                    <a:pt x="579" y="116"/>
                  </a:lnTo>
                  <a:lnTo>
                    <a:pt x="579" y="231"/>
                  </a:lnTo>
                  <a:lnTo>
                    <a:pt x="579" y="347"/>
                  </a:lnTo>
                  <a:lnTo>
                    <a:pt x="579" y="463"/>
                  </a:lnTo>
                  <a:lnTo>
                    <a:pt x="579" y="463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1617840" y="3479760"/>
              <a:ext cx="65880" cy="99360"/>
            </a:xfrm>
            <a:custGeom>
              <a:avLst/>
              <a:gdLst/>
              <a:ahLst/>
              <a:rect l="l" t="t" r="r" b="b"/>
              <a:pathLst>
                <a:path w="1852" h="1853">
                  <a:moveTo>
                    <a:pt x="1852" y="579"/>
                  </a:moveTo>
                  <a:lnTo>
                    <a:pt x="1852" y="811"/>
                  </a:lnTo>
                  <a:lnTo>
                    <a:pt x="1852" y="927"/>
                  </a:lnTo>
                  <a:lnTo>
                    <a:pt x="1736" y="1158"/>
                  </a:lnTo>
                  <a:lnTo>
                    <a:pt x="1736" y="1390"/>
                  </a:lnTo>
                  <a:lnTo>
                    <a:pt x="1620" y="1506"/>
                  </a:lnTo>
                  <a:lnTo>
                    <a:pt x="1389" y="1621"/>
                  </a:lnTo>
                  <a:lnTo>
                    <a:pt x="1273" y="1737"/>
                  </a:lnTo>
                  <a:lnTo>
                    <a:pt x="1041" y="1853"/>
                  </a:lnTo>
                  <a:lnTo>
                    <a:pt x="1041" y="1853"/>
                  </a:lnTo>
                  <a:lnTo>
                    <a:pt x="926" y="1853"/>
                  </a:lnTo>
                  <a:lnTo>
                    <a:pt x="694" y="1853"/>
                  </a:lnTo>
                  <a:lnTo>
                    <a:pt x="579" y="1737"/>
                  </a:lnTo>
                  <a:lnTo>
                    <a:pt x="463" y="1737"/>
                  </a:lnTo>
                  <a:lnTo>
                    <a:pt x="347" y="1621"/>
                  </a:lnTo>
                  <a:lnTo>
                    <a:pt x="231" y="1506"/>
                  </a:lnTo>
                  <a:lnTo>
                    <a:pt x="116" y="1390"/>
                  </a:lnTo>
                  <a:lnTo>
                    <a:pt x="0" y="1274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927"/>
                  </a:lnTo>
                  <a:lnTo>
                    <a:pt x="0" y="811"/>
                  </a:lnTo>
                  <a:lnTo>
                    <a:pt x="0" y="695"/>
                  </a:lnTo>
                  <a:lnTo>
                    <a:pt x="0" y="463"/>
                  </a:lnTo>
                  <a:lnTo>
                    <a:pt x="116" y="348"/>
                  </a:lnTo>
                  <a:lnTo>
                    <a:pt x="116" y="232"/>
                  </a:lnTo>
                  <a:lnTo>
                    <a:pt x="231" y="116"/>
                  </a:lnTo>
                  <a:lnTo>
                    <a:pt x="231" y="116"/>
                  </a:lnTo>
                  <a:lnTo>
                    <a:pt x="463" y="0"/>
                  </a:lnTo>
                  <a:lnTo>
                    <a:pt x="694" y="0"/>
                  </a:lnTo>
                  <a:lnTo>
                    <a:pt x="926" y="0"/>
                  </a:lnTo>
                  <a:lnTo>
                    <a:pt x="1157" y="0"/>
                  </a:lnTo>
                  <a:lnTo>
                    <a:pt x="1389" y="0"/>
                  </a:lnTo>
                  <a:lnTo>
                    <a:pt x="1620" y="116"/>
                  </a:lnTo>
                  <a:lnTo>
                    <a:pt x="1736" y="348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1646640" y="3510720"/>
              <a:ext cx="20520" cy="37080"/>
            </a:xfrm>
            <a:custGeom>
              <a:avLst/>
              <a:gdLst/>
              <a:ahLst/>
              <a:rect l="l" t="t" r="r" b="b"/>
              <a:pathLst>
                <a:path w="579" h="695">
                  <a:moveTo>
                    <a:pt x="463" y="116"/>
                  </a:moveTo>
                  <a:lnTo>
                    <a:pt x="463" y="116"/>
                  </a:lnTo>
                  <a:lnTo>
                    <a:pt x="579" y="232"/>
                  </a:lnTo>
                  <a:lnTo>
                    <a:pt x="463" y="348"/>
                  </a:lnTo>
                  <a:lnTo>
                    <a:pt x="463" y="463"/>
                  </a:lnTo>
                  <a:lnTo>
                    <a:pt x="463" y="463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695"/>
                  </a:lnTo>
                  <a:lnTo>
                    <a:pt x="231" y="695"/>
                  </a:lnTo>
                  <a:lnTo>
                    <a:pt x="116" y="695"/>
                  </a:lnTo>
                  <a:lnTo>
                    <a:pt x="116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231" y="116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1220400" y="3784320"/>
              <a:ext cx="57600" cy="37080"/>
            </a:xfrm>
            <a:custGeom>
              <a:avLst/>
              <a:gdLst/>
              <a:ahLst/>
              <a:rect l="l" t="t" r="r" b="b"/>
              <a:pathLst>
                <a:path w="1620" h="695">
                  <a:moveTo>
                    <a:pt x="1620" y="116"/>
                  </a:moveTo>
                  <a:lnTo>
                    <a:pt x="1388" y="116"/>
                  </a:lnTo>
                  <a:lnTo>
                    <a:pt x="1157" y="116"/>
                  </a:lnTo>
                  <a:lnTo>
                    <a:pt x="1041" y="231"/>
                  </a:lnTo>
                  <a:lnTo>
                    <a:pt x="810" y="347"/>
                  </a:lnTo>
                  <a:lnTo>
                    <a:pt x="578" y="347"/>
                  </a:lnTo>
                  <a:lnTo>
                    <a:pt x="462" y="463"/>
                  </a:lnTo>
                  <a:lnTo>
                    <a:pt x="347" y="579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0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115" y="347"/>
                  </a:lnTo>
                  <a:lnTo>
                    <a:pt x="115" y="347"/>
                  </a:lnTo>
                  <a:lnTo>
                    <a:pt x="231" y="231"/>
                  </a:lnTo>
                  <a:lnTo>
                    <a:pt x="462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0"/>
                  </a:lnTo>
                  <a:lnTo>
                    <a:pt x="1157" y="0"/>
                  </a:lnTo>
                  <a:lnTo>
                    <a:pt x="1388" y="0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1207800" y="3827880"/>
              <a:ext cx="517320" cy="173880"/>
            </a:xfrm>
            <a:custGeom>
              <a:avLst/>
              <a:gdLst/>
              <a:ahLst/>
              <a:rect l="l" t="t" r="r" b="b"/>
              <a:pathLst>
                <a:path w="14467" h="3243">
                  <a:moveTo>
                    <a:pt x="3820" y="232"/>
                  </a:moveTo>
                  <a:lnTo>
                    <a:pt x="3704" y="232"/>
                  </a:lnTo>
                  <a:lnTo>
                    <a:pt x="3472" y="232"/>
                  </a:lnTo>
                  <a:lnTo>
                    <a:pt x="3357" y="232"/>
                  </a:lnTo>
                  <a:lnTo>
                    <a:pt x="3125" y="232"/>
                  </a:lnTo>
                  <a:lnTo>
                    <a:pt x="3009" y="348"/>
                  </a:lnTo>
                  <a:lnTo>
                    <a:pt x="2778" y="348"/>
                  </a:lnTo>
                  <a:lnTo>
                    <a:pt x="2662" y="348"/>
                  </a:lnTo>
                  <a:lnTo>
                    <a:pt x="2431" y="464"/>
                  </a:lnTo>
                  <a:lnTo>
                    <a:pt x="2431" y="464"/>
                  </a:lnTo>
                  <a:lnTo>
                    <a:pt x="2431" y="695"/>
                  </a:lnTo>
                  <a:lnTo>
                    <a:pt x="2431" y="695"/>
                  </a:lnTo>
                  <a:lnTo>
                    <a:pt x="2894" y="1159"/>
                  </a:lnTo>
                  <a:lnTo>
                    <a:pt x="3472" y="1622"/>
                  </a:lnTo>
                  <a:lnTo>
                    <a:pt x="4051" y="1853"/>
                  </a:lnTo>
                  <a:lnTo>
                    <a:pt x="4745" y="2085"/>
                  </a:lnTo>
                  <a:lnTo>
                    <a:pt x="5440" y="2201"/>
                  </a:lnTo>
                  <a:lnTo>
                    <a:pt x="6018" y="2432"/>
                  </a:lnTo>
                  <a:lnTo>
                    <a:pt x="6713" y="2548"/>
                  </a:lnTo>
                  <a:lnTo>
                    <a:pt x="7291" y="2780"/>
                  </a:lnTo>
                  <a:lnTo>
                    <a:pt x="7291" y="2780"/>
                  </a:lnTo>
                  <a:lnTo>
                    <a:pt x="7639" y="2780"/>
                  </a:lnTo>
                  <a:lnTo>
                    <a:pt x="7986" y="2780"/>
                  </a:lnTo>
                  <a:lnTo>
                    <a:pt x="8333" y="2780"/>
                  </a:lnTo>
                  <a:lnTo>
                    <a:pt x="8680" y="2664"/>
                  </a:lnTo>
                  <a:lnTo>
                    <a:pt x="9027" y="2664"/>
                  </a:lnTo>
                  <a:lnTo>
                    <a:pt x="9375" y="2548"/>
                  </a:lnTo>
                  <a:lnTo>
                    <a:pt x="9722" y="2432"/>
                  </a:lnTo>
                  <a:lnTo>
                    <a:pt x="10069" y="2317"/>
                  </a:lnTo>
                  <a:lnTo>
                    <a:pt x="10069" y="2317"/>
                  </a:lnTo>
                  <a:lnTo>
                    <a:pt x="10185" y="2317"/>
                  </a:lnTo>
                  <a:lnTo>
                    <a:pt x="10185" y="2317"/>
                  </a:lnTo>
                  <a:lnTo>
                    <a:pt x="10301" y="2317"/>
                  </a:lnTo>
                  <a:lnTo>
                    <a:pt x="10416" y="2317"/>
                  </a:lnTo>
                  <a:lnTo>
                    <a:pt x="10532" y="2317"/>
                  </a:lnTo>
                  <a:lnTo>
                    <a:pt x="10648" y="2201"/>
                  </a:lnTo>
                  <a:lnTo>
                    <a:pt x="10763" y="2201"/>
                  </a:lnTo>
                  <a:lnTo>
                    <a:pt x="10763" y="2085"/>
                  </a:lnTo>
                  <a:lnTo>
                    <a:pt x="10763" y="2085"/>
                  </a:lnTo>
                  <a:lnTo>
                    <a:pt x="10879" y="2201"/>
                  </a:lnTo>
                  <a:lnTo>
                    <a:pt x="10879" y="2201"/>
                  </a:lnTo>
                  <a:lnTo>
                    <a:pt x="11226" y="1969"/>
                  </a:lnTo>
                  <a:lnTo>
                    <a:pt x="11574" y="1853"/>
                  </a:lnTo>
                  <a:lnTo>
                    <a:pt x="11921" y="1738"/>
                  </a:lnTo>
                  <a:lnTo>
                    <a:pt x="12268" y="1622"/>
                  </a:lnTo>
                  <a:lnTo>
                    <a:pt x="12615" y="1506"/>
                  </a:lnTo>
                  <a:lnTo>
                    <a:pt x="12962" y="1506"/>
                  </a:lnTo>
                  <a:lnTo>
                    <a:pt x="13310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888" y="1390"/>
                  </a:lnTo>
                  <a:lnTo>
                    <a:pt x="14004" y="1390"/>
                  </a:lnTo>
                  <a:lnTo>
                    <a:pt x="14120" y="1274"/>
                  </a:lnTo>
                  <a:lnTo>
                    <a:pt x="14120" y="1159"/>
                  </a:lnTo>
                  <a:lnTo>
                    <a:pt x="14235" y="1159"/>
                  </a:lnTo>
                  <a:lnTo>
                    <a:pt x="14351" y="1159"/>
                  </a:lnTo>
                  <a:lnTo>
                    <a:pt x="14467" y="1159"/>
                  </a:lnTo>
                  <a:lnTo>
                    <a:pt x="14467" y="1159"/>
                  </a:lnTo>
                  <a:lnTo>
                    <a:pt x="14467" y="1274"/>
                  </a:lnTo>
                  <a:lnTo>
                    <a:pt x="14351" y="1390"/>
                  </a:lnTo>
                  <a:lnTo>
                    <a:pt x="14351" y="1506"/>
                  </a:lnTo>
                  <a:lnTo>
                    <a:pt x="14235" y="1622"/>
                  </a:lnTo>
                  <a:lnTo>
                    <a:pt x="14120" y="1738"/>
                  </a:lnTo>
                  <a:lnTo>
                    <a:pt x="14004" y="1853"/>
                  </a:lnTo>
                  <a:lnTo>
                    <a:pt x="13888" y="1853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2962" y="1969"/>
                  </a:lnTo>
                  <a:lnTo>
                    <a:pt x="12152" y="2085"/>
                  </a:lnTo>
                  <a:lnTo>
                    <a:pt x="11458" y="2317"/>
                  </a:lnTo>
                  <a:lnTo>
                    <a:pt x="10648" y="2548"/>
                  </a:lnTo>
                  <a:lnTo>
                    <a:pt x="9953" y="2780"/>
                  </a:lnTo>
                  <a:lnTo>
                    <a:pt x="9143" y="3011"/>
                  </a:lnTo>
                  <a:lnTo>
                    <a:pt x="8333" y="3127"/>
                  </a:lnTo>
                  <a:lnTo>
                    <a:pt x="7523" y="3243"/>
                  </a:lnTo>
                  <a:lnTo>
                    <a:pt x="7523" y="3243"/>
                  </a:lnTo>
                  <a:lnTo>
                    <a:pt x="6713" y="3011"/>
                  </a:lnTo>
                  <a:lnTo>
                    <a:pt x="6018" y="2896"/>
                  </a:lnTo>
                  <a:lnTo>
                    <a:pt x="5208" y="2664"/>
                  </a:lnTo>
                  <a:lnTo>
                    <a:pt x="4514" y="2432"/>
                  </a:lnTo>
                  <a:lnTo>
                    <a:pt x="3704" y="2201"/>
                  </a:lnTo>
                  <a:lnTo>
                    <a:pt x="3125" y="1738"/>
                  </a:lnTo>
                  <a:lnTo>
                    <a:pt x="2431" y="1274"/>
                  </a:lnTo>
                  <a:lnTo>
                    <a:pt x="1968" y="695"/>
                  </a:lnTo>
                  <a:lnTo>
                    <a:pt x="1968" y="695"/>
                  </a:lnTo>
                  <a:lnTo>
                    <a:pt x="1736" y="811"/>
                  </a:lnTo>
                  <a:lnTo>
                    <a:pt x="1505" y="927"/>
                  </a:lnTo>
                  <a:lnTo>
                    <a:pt x="1273" y="1043"/>
                  </a:lnTo>
                  <a:lnTo>
                    <a:pt x="1042" y="1159"/>
                  </a:lnTo>
                  <a:lnTo>
                    <a:pt x="810" y="1274"/>
                  </a:lnTo>
                  <a:lnTo>
                    <a:pt x="579" y="1506"/>
                  </a:lnTo>
                  <a:lnTo>
                    <a:pt x="463" y="1622"/>
                  </a:lnTo>
                  <a:lnTo>
                    <a:pt x="348" y="1853"/>
                  </a:lnTo>
                  <a:lnTo>
                    <a:pt x="348" y="1853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116" y="1390"/>
                  </a:lnTo>
                  <a:lnTo>
                    <a:pt x="348" y="1159"/>
                  </a:lnTo>
                  <a:lnTo>
                    <a:pt x="463" y="927"/>
                  </a:lnTo>
                  <a:lnTo>
                    <a:pt x="810" y="811"/>
                  </a:lnTo>
                  <a:lnTo>
                    <a:pt x="1042" y="695"/>
                  </a:lnTo>
                  <a:lnTo>
                    <a:pt x="1273" y="579"/>
                  </a:lnTo>
                  <a:lnTo>
                    <a:pt x="1621" y="348"/>
                  </a:lnTo>
                  <a:lnTo>
                    <a:pt x="1852" y="232"/>
                  </a:lnTo>
                  <a:lnTo>
                    <a:pt x="1852" y="232"/>
                  </a:lnTo>
                  <a:lnTo>
                    <a:pt x="2084" y="116"/>
                  </a:lnTo>
                  <a:lnTo>
                    <a:pt x="2315" y="116"/>
                  </a:lnTo>
                  <a:lnTo>
                    <a:pt x="2546" y="0"/>
                  </a:lnTo>
                  <a:lnTo>
                    <a:pt x="2778" y="0"/>
                  </a:lnTo>
                  <a:lnTo>
                    <a:pt x="3125" y="0"/>
                  </a:lnTo>
                  <a:lnTo>
                    <a:pt x="3357" y="116"/>
                  </a:lnTo>
                  <a:lnTo>
                    <a:pt x="3588" y="116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2213640" y="3927600"/>
              <a:ext cx="343440" cy="298440"/>
            </a:xfrm>
            <a:custGeom>
              <a:avLst/>
              <a:gdLst/>
              <a:ahLst/>
              <a:rect l="l" t="t" r="r" b="b"/>
              <a:pathLst>
                <a:path w="9606" h="5559">
                  <a:moveTo>
                    <a:pt x="9606" y="695"/>
                  </a:moveTo>
                  <a:lnTo>
                    <a:pt x="9606" y="811"/>
                  </a:lnTo>
                  <a:lnTo>
                    <a:pt x="9606" y="811"/>
                  </a:lnTo>
                  <a:lnTo>
                    <a:pt x="9490" y="811"/>
                  </a:lnTo>
                  <a:lnTo>
                    <a:pt x="9375" y="811"/>
                  </a:lnTo>
                  <a:lnTo>
                    <a:pt x="9259" y="811"/>
                  </a:lnTo>
                  <a:lnTo>
                    <a:pt x="9143" y="811"/>
                  </a:lnTo>
                  <a:lnTo>
                    <a:pt x="9027" y="811"/>
                  </a:lnTo>
                  <a:lnTo>
                    <a:pt x="8912" y="927"/>
                  </a:lnTo>
                  <a:lnTo>
                    <a:pt x="8796" y="927"/>
                  </a:lnTo>
                  <a:lnTo>
                    <a:pt x="8680" y="1043"/>
                  </a:lnTo>
                  <a:lnTo>
                    <a:pt x="8680" y="1043"/>
                  </a:lnTo>
                  <a:lnTo>
                    <a:pt x="8912" y="1158"/>
                  </a:lnTo>
                  <a:lnTo>
                    <a:pt x="8912" y="1158"/>
                  </a:lnTo>
                  <a:lnTo>
                    <a:pt x="8680" y="1158"/>
                  </a:lnTo>
                  <a:lnTo>
                    <a:pt x="8564" y="1274"/>
                  </a:lnTo>
                  <a:lnTo>
                    <a:pt x="8333" y="1274"/>
                  </a:lnTo>
                  <a:lnTo>
                    <a:pt x="8102" y="1274"/>
                  </a:lnTo>
                  <a:lnTo>
                    <a:pt x="7986" y="1390"/>
                  </a:lnTo>
                  <a:lnTo>
                    <a:pt x="7754" y="1390"/>
                  </a:lnTo>
                  <a:lnTo>
                    <a:pt x="7639" y="1506"/>
                  </a:lnTo>
                  <a:lnTo>
                    <a:pt x="7407" y="1622"/>
                  </a:lnTo>
                  <a:lnTo>
                    <a:pt x="7407" y="1622"/>
                  </a:lnTo>
                  <a:lnTo>
                    <a:pt x="7639" y="1622"/>
                  </a:lnTo>
                  <a:lnTo>
                    <a:pt x="7754" y="1622"/>
                  </a:lnTo>
                  <a:lnTo>
                    <a:pt x="7870" y="1738"/>
                  </a:lnTo>
                  <a:lnTo>
                    <a:pt x="7986" y="1738"/>
                  </a:lnTo>
                  <a:lnTo>
                    <a:pt x="8102" y="1738"/>
                  </a:lnTo>
                  <a:lnTo>
                    <a:pt x="8217" y="1853"/>
                  </a:lnTo>
                  <a:lnTo>
                    <a:pt x="8333" y="1853"/>
                  </a:lnTo>
                  <a:lnTo>
                    <a:pt x="8564" y="1853"/>
                  </a:lnTo>
                  <a:lnTo>
                    <a:pt x="8564" y="1853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680" y="2085"/>
                  </a:lnTo>
                  <a:lnTo>
                    <a:pt x="8680" y="2085"/>
                  </a:lnTo>
                  <a:lnTo>
                    <a:pt x="8796" y="1969"/>
                  </a:lnTo>
                  <a:lnTo>
                    <a:pt x="8796" y="1969"/>
                  </a:lnTo>
                  <a:lnTo>
                    <a:pt x="8912" y="1969"/>
                  </a:lnTo>
                  <a:lnTo>
                    <a:pt x="8912" y="1969"/>
                  </a:lnTo>
                  <a:lnTo>
                    <a:pt x="9027" y="1969"/>
                  </a:lnTo>
                  <a:lnTo>
                    <a:pt x="9027" y="1969"/>
                  </a:lnTo>
                  <a:lnTo>
                    <a:pt x="8796" y="2085"/>
                  </a:lnTo>
                  <a:lnTo>
                    <a:pt x="8680" y="2085"/>
                  </a:lnTo>
                  <a:lnTo>
                    <a:pt x="8449" y="2201"/>
                  </a:lnTo>
                  <a:lnTo>
                    <a:pt x="8333" y="2317"/>
                  </a:lnTo>
                  <a:lnTo>
                    <a:pt x="8102" y="2317"/>
                  </a:lnTo>
                  <a:lnTo>
                    <a:pt x="7986" y="2432"/>
                  </a:lnTo>
                  <a:lnTo>
                    <a:pt x="7754" y="2664"/>
                  </a:lnTo>
                  <a:lnTo>
                    <a:pt x="7639" y="2780"/>
                  </a:lnTo>
                  <a:lnTo>
                    <a:pt x="7639" y="2780"/>
                  </a:lnTo>
                  <a:lnTo>
                    <a:pt x="7870" y="2780"/>
                  </a:lnTo>
                  <a:lnTo>
                    <a:pt x="8102" y="2780"/>
                  </a:lnTo>
                  <a:lnTo>
                    <a:pt x="8333" y="2780"/>
                  </a:lnTo>
                  <a:lnTo>
                    <a:pt x="8564" y="2664"/>
                  </a:lnTo>
                  <a:lnTo>
                    <a:pt x="8796" y="2548"/>
                  </a:lnTo>
                  <a:lnTo>
                    <a:pt x="9027" y="2548"/>
                  </a:lnTo>
                  <a:lnTo>
                    <a:pt x="9259" y="2432"/>
                  </a:lnTo>
                  <a:lnTo>
                    <a:pt x="9490" y="2432"/>
                  </a:lnTo>
                  <a:lnTo>
                    <a:pt x="9490" y="2432"/>
                  </a:lnTo>
                  <a:lnTo>
                    <a:pt x="8564" y="2896"/>
                  </a:lnTo>
                  <a:lnTo>
                    <a:pt x="7754" y="3243"/>
                  </a:lnTo>
                  <a:lnTo>
                    <a:pt x="6828" y="3590"/>
                  </a:lnTo>
                  <a:lnTo>
                    <a:pt x="6018" y="3938"/>
                  </a:lnTo>
                  <a:lnTo>
                    <a:pt x="5092" y="4401"/>
                  </a:lnTo>
                  <a:lnTo>
                    <a:pt x="4282" y="4749"/>
                  </a:lnTo>
                  <a:lnTo>
                    <a:pt x="3357" y="5096"/>
                  </a:lnTo>
                  <a:lnTo>
                    <a:pt x="2546" y="5559"/>
                  </a:lnTo>
                  <a:lnTo>
                    <a:pt x="2546" y="5559"/>
                  </a:lnTo>
                  <a:lnTo>
                    <a:pt x="2431" y="5443"/>
                  </a:lnTo>
                  <a:lnTo>
                    <a:pt x="2199" y="5328"/>
                  </a:lnTo>
                  <a:lnTo>
                    <a:pt x="1968" y="5212"/>
                  </a:lnTo>
                  <a:lnTo>
                    <a:pt x="1736" y="5212"/>
                  </a:lnTo>
                  <a:lnTo>
                    <a:pt x="1505" y="5096"/>
                  </a:lnTo>
                  <a:lnTo>
                    <a:pt x="1389" y="4980"/>
                  </a:lnTo>
                  <a:lnTo>
                    <a:pt x="1273" y="4864"/>
                  </a:lnTo>
                  <a:lnTo>
                    <a:pt x="1273" y="4517"/>
                  </a:lnTo>
                  <a:lnTo>
                    <a:pt x="1273" y="4517"/>
                  </a:lnTo>
                  <a:lnTo>
                    <a:pt x="1389" y="4401"/>
                  </a:lnTo>
                  <a:lnTo>
                    <a:pt x="1505" y="4170"/>
                  </a:lnTo>
                  <a:lnTo>
                    <a:pt x="1621" y="4054"/>
                  </a:lnTo>
                  <a:lnTo>
                    <a:pt x="1852" y="3822"/>
                  </a:lnTo>
                  <a:lnTo>
                    <a:pt x="1968" y="3706"/>
                  </a:lnTo>
                  <a:lnTo>
                    <a:pt x="2083" y="3590"/>
                  </a:lnTo>
                  <a:lnTo>
                    <a:pt x="2199" y="3359"/>
                  </a:lnTo>
                  <a:lnTo>
                    <a:pt x="2315" y="3243"/>
                  </a:lnTo>
                  <a:lnTo>
                    <a:pt x="2315" y="3243"/>
                  </a:lnTo>
                  <a:lnTo>
                    <a:pt x="2083" y="3011"/>
                  </a:lnTo>
                  <a:lnTo>
                    <a:pt x="1621" y="2896"/>
                  </a:lnTo>
                  <a:lnTo>
                    <a:pt x="1273" y="2896"/>
                  </a:lnTo>
                  <a:lnTo>
                    <a:pt x="810" y="2896"/>
                  </a:lnTo>
                  <a:lnTo>
                    <a:pt x="347" y="2780"/>
                  </a:lnTo>
                  <a:lnTo>
                    <a:pt x="116" y="2664"/>
                  </a:lnTo>
                  <a:lnTo>
                    <a:pt x="0" y="2317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810" y="1274"/>
                  </a:lnTo>
                  <a:lnTo>
                    <a:pt x="1736" y="811"/>
                  </a:lnTo>
                  <a:lnTo>
                    <a:pt x="2662" y="464"/>
                  </a:lnTo>
                  <a:lnTo>
                    <a:pt x="3588" y="232"/>
                  </a:lnTo>
                  <a:lnTo>
                    <a:pt x="4630" y="0"/>
                  </a:lnTo>
                  <a:lnTo>
                    <a:pt x="5555" y="0"/>
                  </a:lnTo>
                  <a:lnTo>
                    <a:pt x="6597" y="116"/>
                  </a:lnTo>
                  <a:lnTo>
                    <a:pt x="7639" y="348"/>
                  </a:lnTo>
                  <a:lnTo>
                    <a:pt x="7639" y="348"/>
                  </a:lnTo>
                  <a:lnTo>
                    <a:pt x="7870" y="464"/>
                  </a:lnTo>
                  <a:lnTo>
                    <a:pt x="8102" y="464"/>
                  </a:lnTo>
                  <a:lnTo>
                    <a:pt x="8333" y="464"/>
                  </a:lnTo>
                  <a:lnTo>
                    <a:pt x="8564" y="464"/>
                  </a:lnTo>
                  <a:lnTo>
                    <a:pt x="8796" y="579"/>
                  </a:lnTo>
                  <a:lnTo>
                    <a:pt x="9143" y="579"/>
                  </a:lnTo>
                  <a:lnTo>
                    <a:pt x="9375" y="579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1042560" y="3964680"/>
              <a:ext cx="1208160" cy="466200"/>
            </a:xfrm>
            <a:custGeom>
              <a:avLst/>
              <a:gdLst/>
              <a:ahLst/>
              <a:rect l="l" t="t" r="r" b="b"/>
              <a:pathLst>
                <a:path w="33794" h="8686">
                  <a:moveTo>
                    <a:pt x="-31742" y="0"/>
                  </a:moveTo>
                  <a:lnTo>
                    <a:pt x="-31974" y="116"/>
                  </a:lnTo>
                  <a:lnTo>
                    <a:pt x="-32205" y="348"/>
                  </a:lnTo>
                  <a:lnTo>
                    <a:pt x="-32437" y="463"/>
                  </a:lnTo>
                  <a:lnTo>
                    <a:pt x="-32668" y="579"/>
                  </a:lnTo>
                  <a:lnTo>
                    <a:pt x="32637" y="811"/>
                  </a:lnTo>
                  <a:lnTo>
                    <a:pt x="32521" y="927"/>
                  </a:lnTo>
                  <a:lnTo>
                    <a:pt x="32289" y="1158"/>
                  </a:lnTo>
                  <a:lnTo>
                    <a:pt x="32174" y="1390"/>
                  </a:lnTo>
                  <a:lnTo>
                    <a:pt x="32174" y="1390"/>
                  </a:lnTo>
                  <a:lnTo>
                    <a:pt x="32289" y="1506"/>
                  </a:lnTo>
                  <a:lnTo>
                    <a:pt x="32289" y="1737"/>
                  </a:lnTo>
                  <a:lnTo>
                    <a:pt x="32405" y="1853"/>
                  </a:lnTo>
                  <a:lnTo>
                    <a:pt x="32405" y="1969"/>
                  </a:lnTo>
                  <a:lnTo>
                    <a:pt x="32521" y="2085"/>
                  </a:lnTo>
                  <a:lnTo>
                    <a:pt x="32637" y="2201"/>
                  </a:lnTo>
                  <a:lnTo>
                    <a:pt x="32752" y="2316"/>
                  </a:lnTo>
                  <a:lnTo>
                    <a:pt x="-32668" y="2432"/>
                  </a:lnTo>
                  <a:lnTo>
                    <a:pt x="-32668" y="2432"/>
                  </a:lnTo>
                  <a:lnTo>
                    <a:pt x="29628" y="3011"/>
                  </a:lnTo>
                  <a:lnTo>
                    <a:pt x="26271" y="3590"/>
                  </a:lnTo>
                  <a:lnTo>
                    <a:pt x="23031" y="4169"/>
                  </a:lnTo>
                  <a:lnTo>
                    <a:pt x="19790" y="4864"/>
                  </a:lnTo>
                  <a:lnTo>
                    <a:pt x="16550" y="5443"/>
                  </a:lnTo>
                  <a:lnTo>
                    <a:pt x="13309" y="6138"/>
                  </a:lnTo>
                  <a:lnTo>
                    <a:pt x="10069" y="6833"/>
                  </a:lnTo>
                  <a:lnTo>
                    <a:pt x="6713" y="7644"/>
                  </a:lnTo>
                  <a:lnTo>
                    <a:pt x="6713" y="7644"/>
                  </a:lnTo>
                  <a:lnTo>
                    <a:pt x="0" y="8686"/>
                  </a:lnTo>
                  <a:lnTo>
                    <a:pt x="0" y="8686"/>
                  </a:lnTo>
                  <a:lnTo>
                    <a:pt x="0" y="8454"/>
                  </a:lnTo>
                  <a:lnTo>
                    <a:pt x="0" y="8223"/>
                  </a:lnTo>
                  <a:lnTo>
                    <a:pt x="0" y="7991"/>
                  </a:lnTo>
                  <a:lnTo>
                    <a:pt x="0" y="7760"/>
                  </a:lnTo>
                  <a:lnTo>
                    <a:pt x="116" y="7528"/>
                  </a:lnTo>
                  <a:lnTo>
                    <a:pt x="116" y="7296"/>
                  </a:lnTo>
                  <a:lnTo>
                    <a:pt x="232" y="7065"/>
                  </a:lnTo>
                  <a:lnTo>
                    <a:pt x="232" y="6833"/>
                  </a:lnTo>
                  <a:lnTo>
                    <a:pt x="232" y="6833"/>
                  </a:lnTo>
                  <a:lnTo>
                    <a:pt x="694" y="6486"/>
                  </a:lnTo>
                  <a:lnTo>
                    <a:pt x="694" y="6486"/>
                  </a:lnTo>
                  <a:lnTo>
                    <a:pt x="2662" y="6138"/>
                  </a:lnTo>
                  <a:lnTo>
                    <a:pt x="4745" y="5791"/>
                  </a:lnTo>
                  <a:lnTo>
                    <a:pt x="6713" y="5327"/>
                  </a:lnTo>
                  <a:lnTo>
                    <a:pt x="8796" y="4980"/>
                  </a:lnTo>
                  <a:lnTo>
                    <a:pt x="10879" y="4633"/>
                  </a:lnTo>
                  <a:lnTo>
                    <a:pt x="12962" y="4169"/>
                  </a:lnTo>
                  <a:lnTo>
                    <a:pt x="14930" y="3706"/>
                  </a:lnTo>
                  <a:lnTo>
                    <a:pt x="17013" y="3243"/>
                  </a:lnTo>
                  <a:lnTo>
                    <a:pt x="17013" y="3243"/>
                  </a:lnTo>
                  <a:lnTo>
                    <a:pt x="30553" y="579"/>
                  </a:lnTo>
                  <a:lnTo>
                    <a:pt x="30553" y="579"/>
                  </a:lnTo>
                  <a:lnTo>
                    <a:pt x="31016" y="463"/>
                  </a:lnTo>
                  <a:lnTo>
                    <a:pt x="31363" y="463"/>
                  </a:lnTo>
                  <a:lnTo>
                    <a:pt x="31826" y="348"/>
                  </a:lnTo>
                  <a:lnTo>
                    <a:pt x="32174" y="232"/>
                  </a:lnTo>
                  <a:lnTo>
                    <a:pt x="32521" y="232"/>
                  </a:lnTo>
                  <a:lnTo>
                    <a:pt x="-32552" y="116"/>
                  </a:lnTo>
                  <a:lnTo>
                    <a:pt x="-32205" y="116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827280" y="4045680"/>
              <a:ext cx="169560" cy="204840"/>
            </a:xfrm>
            <a:custGeom>
              <a:avLst/>
              <a:gdLst/>
              <a:ahLst/>
              <a:rect l="l" t="t" r="r" b="b"/>
              <a:pathLst>
                <a:path w="4745" h="3821">
                  <a:moveTo>
                    <a:pt x="4745" y="695"/>
                  </a:moveTo>
                  <a:lnTo>
                    <a:pt x="4514" y="2895"/>
                  </a:lnTo>
                  <a:lnTo>
                    <a:pt x="4514" y="2895"/>
                  </a:lnTo>
                  <a:lnTo>
                    <a:pt x="4282" y="3011"/>
                  </a:lnTo>
                  <a:lnTo>
                    <a:pt x="4051" y="3242"/>
                  </a:lnTo>
                  <a:lnTo>
                    <a:pt x="3819" y="3474"/>
                  </a:lnTo>
                  <a:lnTo>
                    <a:pt x="3588" y="3590"/>
                  </a:lnTo>
                  <a:lnTo>
                    <a:pt x="3356" y="3706"/>
                  </a:lnTo>
                  <a:lnTo>
                    <a:pt x="3125" y="3821"/>
                  </a:lnTo>
                  <a:lnTo>
                    <a:pt x="2893" y="3706"/>
                  </a:lnTo>
                  <a:lnTo>
                    <a:pt x="2662" y="3358"/>
                  </a:lnTo>
                  <a:lnTo>
                    <a:pt x="2662" y="3358"/>
                  </a:lnTo>
                  <a:lnTo>
                    <a:pt x="2430" y="3358"/>
                  </a:lnTo>
                  <a:lnTo>
                    <a:pt x="2315" y="3358"/>
                  </a:lnTo>
                  <a:lnTo>
                    <a:pt x="2199" y="3474"/>
                  </a:lnTo>
                  <a:lnTo>
                    <a:pt x="1967" y="3474"/>
                  </a:lnTo>
                  <a:lnTo>
                    <a:pt x="1852" y="3590"/>
                  </a:lnTo>
                  <a:lnTo>
                    <a:pt x="1736" y="3706"/>
                  </a:lnTo>
                  <a:lnTo>
                    <a:pt x="1505" y="3706"/>
                  </a:lnTo>
                  <a:lnTo>
                    <a:pt x="1389" y="3821"/>
                  </a:lnTo>
                  <a:lnTo>
                    <a:pt x="1389" y="3821"/>
                  </a:lnTo>
                  <a:lnTo>
                    <a:pt x="1042" y="3474"/>
                  </a:lnTo>
                  <a:lnTo>
                    <a:pt x="810" y="3127"/>
                  </a:lnTo>
                  <a:lnTo>
                    <a:pt x="579" y="2663"/>
                  </a:lnTo>
                  <a:lnTo>
                    <a:pt x="463" y="2200"/>
                  </a:lnTo>
                  <a:lnTo>
                    <a:pt x="231" y="1853"/>
                  </a:lnTo>
                  <a:lnTo>
                    <a:pt x="116" y="1389"/>
                  </a:lnTo>
                  <a:lnTo>
                    <a:pt x="0" y="926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463" y="231"/>
                  </a:lnTo>
                  <a:lnTo>
                    <a:pt x="1157" y="0"/>
                  </a:lnTo>
                  <a:lnTo>
                    <a:pt x="1736" y="0"/>
                  </a:lnTo>
                  <a:lnTo>
                    <a:pt x="2430" y="0"/>
                  </a:lnTo>
                  <a:lnTo>
                    <a:pt x="3009" y="116"/>
                  </a:lnTo>
                  <a:lnTo>
                    <a:pt x="3703" y="231"/>
                  </a:lnTo>
                  <a:lnTo>
                    <a:pt x="4282" y="463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1001160" y="4089240"/>
              <a:ext cx="24480" cy="105480"/>
            </a:xfrm>
            <a:custGeom>
              <a:avLst/>
              <a:gdLst/>
              <a:ahLst/>
              <a:rect l="l" t="t" r="r" b="b"/>
              <a:pathLst>
                <a:path w="694" h="1969">
                  <a:moveTo>
                    <a:pt x="578" y="1969"/>
                  </a:moveTo>
                  <a:lnTo>
                    <a:pt x="463" y="1969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969"/>
                  </a:lnTo>
                  <a:lnTo>
                    <a:pt x="0" y="1969"/>
                  </a:lnTo>
                  <a:lnTo>
                    <a:pt x="0" y="1853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347" y="0"/>
                  </a:lnTo>
                  <a:lnTo>
                    <a:pt x="694" y="116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1034280" y="4101480"/>
              <a:ext cx="28800" cy="105480"/>
            </a:xfrm>
            <a:custGeom>
              <a:avLst/>
              <a:gdLst/>
              <a:ahLst/>
              <a:rect l="l" t="t" r="r" b="b"/>
              <a:pathLst>
                <a:path w="810" h="1969">
                  <a:moveTo>
                    <a:pt x="694" y="232"/>
                  </a:moveTo>
                  <a:lnTo>
                    <a:pt x="810" y="463"/>
                  </a:lnTo>
                  <a:lnTo>
                    <a:pt x="694" y="579"/>
                  </a:lnTo>
                  <a:lnTo>
                    <a:pt x="694" y="695"/>
                  </a:lnTo>
                  <a:lnTo>
                    <a:pt x="694" y="927"/>
                  </a:lnTo>
                  <a:lnTo>
                    <a:pt x="694" y="1042"/>
                  </a:lnTo>
                  <a:lnTo>
                    <a:pt x="694" y="1274"/>
                  </a:lnTo>
                  <a:lnTo>
                    <a:pt x="694" y="1390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737"/>
                  </a:lnTo>
                  <a:lnTo>
                    <a:pt x="578" y="1737"/>
                  </a:lnTo>
                  <a:lnTo>
                    <a:pt x="463" y="1853"/>
                  </a:lnTo>
                  <a:lnTo>
                    <a:pt x="463" y="1853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853"/>
                  </a:lnTo>
                  <a:lnTo>
                    <a:pt x="115" y="1853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506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231" y="232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116"/>
                  </a:lnTo>
                  <a:lnTo>
                    <a:pt x="347" y="116"/>
                  </a:lnTo>
                  <a:lnTo>
                    <a:pt x="463" y="232"/>
                  </a:lnTo>
                  <a:lnTo>
                    <a:pt x="463" y="232"/>
                  </a:lnTo>
                  <a:lnTo>
                    <a:pt x="578" y="347"/>
                  </a:lnTo>
                  <a:lnTo>
                    <a:pt x="578" y="347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1046520" y="4101480"/>
              <a:ext cx="1241280" cy="441360"/>
            </a:xfrm>
            <a:custGeom>
              <a:avLst/>
              <a:gdLst/>
              <a:ahLst/>
              <a:rect l="l" t="t" r="r" b="b"/>
              <a:pathLst>
                <a:path w="34719" h="8223">
                  <a:moveTo>
                    <a:pt x="-31048" y="0"/>
                  </a:moveTo>
                  <a:lnTo>
                    <a:pt x="-31279" y="232"/>
                  </a:lnTo>
                  <a:lnTo>
                    <a:pt x="-31395" y="347"/>
                  </a:lnTo>
                  <a:lnTo>
                    <a:pt x="-31627" y="579"/>
                  </a:lnTo>
                  <a:lnTo>
                    <a:pt x="-31742" y="811"/>
                  </a:lnTo>
                  <a:lnTo>
                    <a:pt x="-31858" y="1042"/>
                  </a:lnTo>
                  <a:lnTo>
                    <a:pt x="-31858" y="1390"/>
                  </a:lnTo>
                  <a:lnTo>
                    <a:pt x="-31858" y="1621"/>
                  </a:lnTo>
                  <a:lnTo>
                    <a:pt x="-31742" y="1853"/>
                  </a:lnTo>
                  <a:lnTo>
                    <a:pt x="-31742" y="1853"/>
                  </a:lnTo>
                  <a:lnTo>
                    <a:pt x="-31742" y="2085"/>
                  </a:lnTo>
                  <a:lnTo>
                    <a:pt x="-31627" y="2200"/>
                  </a:lnTo>
                  <a:lnTo>
                    <a:pt x="-31511" y="2200"/>
                  </a:lnTo>
                  <a:lnTo>
                    <a:pt x="-31395" y="2316"/>
                  </a:lnTo>
                  <a:lnTo>
                    <a:pt x="-31279" y="2432"/>
                  </a:lnTo>
                  <a:lnTo>
                    <a:pt x="-31164" y="2432"/>
                  </a:lnTo>
                  <a:lnTo>
                    <a:pt x="-30932" y="2548"/>
                  </a:lnTo>
                  <a:lnTo>
                    <a:pt x="-30817" y="2548"/>
                  </a:lnTo>
                  <a:lnTo>
                    <a:pt x="-30817" y="2548"/>
                  </a:lnTo>
                  <a:lnTo>
                    <a:pt x="-31048" y="2664"/>
                  </a:lnTo>
                  <a:lnTo>
                    <a:pt x="-31395" y="2664"/>
                  </a:lnTo>
                  <a:lnTo>
                    <a:pt x="-31627" y="2779"/>
                  </a:lnTo>
                  <a:lnTo>
                    <a:pt x="-31858" y="2779"/>
                  </a:lnTo>
                  <a:lnTo>
                    <a:pt x="-32090" y="2779"/>
                  </a:lnTo>
                  <a:lnTo>
                    <a:pt x="-32437" y="2895"/>
                  </a:lnTo>
                  <a:lnTo>
                    <a:pt x="-32668" y="2895"/>
                  </a:lnTo>
                  <a:lnTo>
                    <a:pt x="32636" y="3011"/>
                  </a:lnTo>
                  <a:lnTo>
                    <a:pt x="32636" y="3011"/>
                  </a:lnTo>
                  <a:lnTo>
                    <a:pt x="32405" y="2895"/>
                  </a:lnTo>
                  <a:lnTo>
                    <a:pt x="32173" y="2779"/>
                  </a:lnTo>
                  <a:lnTo>
                    <a:pt x="31942" y="2779"/>
                  </a:lnTo>
                  <a:lnTo>
                    <a:pt x="31710" y="2779"/>
                  </a:lnTo>
                  <a:lnTo>
                    <a:pt x="31479" y="2779"/>
                  </a:lnTo>
                  <a:lnTo>
                    <a:pt x="31247" y="2779"/>
                  </a:lnTo>
                  <a:lnTo>
                    <a:pt x="31016" y="2895"/>
                  </a:lnTo>
                  <a:lnTo>
                    <a:pt x="30785" y="2895"/>
                  </a:lnTo>
                  <a:lnTo>
                    <a:pt x="30785" y="2895"/>
                  </a:lnTo>
                  <a:lnTo>
                    <a:pt x="29974" y="3474"/>
                  </a:lnTo>
                  <a:lnTo>
                    <a:pt x="29974" y="3474"/>
                  </a:lnTo>
                  <a:lnTo>
                    <a:pt x="29974" y="3359"/>
                  </a:lnTo>
                  <a:lnTo>
                    <a:pt x="29974" y="3359"/>
                  </a:lnTo>
                  <a:lnTo>
                    <a:pt x="29859" y="3243"/>
                  </a:lnTo>
                  <a:lnTo>
                    <a:pt x="29859" y="3127"/>
                  </a:lnTo>
                  <a:lnTo>
                    <a:pt x="29859" y="3127"/>
                  </a:lnTo>
                  <a:lnTo>
                    <a:pt x="29859" y="3011"/>
                  </a:lnTo>
                  <a:lnTo>
                    <a:pt x="29859" y="3011"/>
                  </a:lnTo>
                  <a:lnTo>
                    <a:pt x="29974" y="2895"/>
                  </a:lnTo>
                  <a:lnTo>
                    <a:pt x="29974" y="2895"/>
                  </a:lnTo>
                  <a:lnTo>
                    <a:pt x="-32321" y="2316"/>
                  </a:lnTo>
                  <a:lnTo>
                    <a:pt x="-32321" y="2316"/>
                  </a:lnTo>
                  <a:lnTo>
                    <a:pt x="-32205" y="2316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553" y="2085"/>
                  </a:lnTo>
                  <a:lnTo>
                    <a:pt x="32521" y="2200"/>
                  </a:lnTo>
                  <a:lnTo>
                    <a:pt x="31942" y="2200"/>
                  </a:lnTo>
                  <a:lnTo>
                    <a:pt x="31479" y="2316"/>
                  </a:lnTo>
                  <a:lnTo>
                    <a:pt x="31016" y="2432"/>
                  </a:lnTo>
                  <a:lnTo>
                    <a:pt x="30437" y="2548"/>
                  </a:lnTo>
                  <a:lnTo>
                    <a:pt x="29974" y="2664"/>
                  </a:lnTo>
                  <a:lnTo>
                    <a:pt x="29512" y="2779"/>
                  </a:lnTo>
                  <a:lnTo>
                    <a:pt x="29512" y="2779"/>
                  </a:lnTo>
                  <a:lnTo>
                    <a:pt x="29396" y="2664"/>
                  </a:lnTo>
                  <a:lnTo>
                    <a:pt x="29164" y="2664"/>
                  </a:lnTo>
                  <a:lnTo>
                    <a:pt x="28933" y="2548"/>
                  </a:lnTo>
                  <a:lnTo>
                    <a:pt x="28701" y="2548"/>
                  </a:lnTo>
                  <a:lnTo>
                    <a:pt x="28470" y="2432"/>
                  </a:lnTo>
                  <a:lnTo>
                    <a:pt x="28238" y="2548"/>
                  </a:lnTo>
                  <a:lnTo>
                    <a:pt x="28123" y="2548"/>
                  </a:lnTo>
                  <a:lnTo>
                    <a:pt x="27891" y="2664"/>
                  </a:lnTo>
                  <a:lnTo>
                    <a:pt x="27891" y="2664"/>
                  </a:lnTo>
                  <a:lnTo>
                    <a:pt x="27660" y="2895"/>
                  </a:lnTo>
                  <a:lnTo>
                    <a:pt x="27544" y="3011"/>
                  </a:lnTo>
                  <a:lnTo>
                    <a:pt x="27428" y="3011"/>
                  </a:lnTo>
                  <a:lnTo>
                    <a:pt x="27197" y="3011"/>
                  </a:lnTo>
                  <a:lnTo>
                    <a:pt x="27081" y="2895"/>
                  </a:lnTo>
                  <a:lnTo>
                    <a:pt x="26850" y="2895"/>
                  </a:lnTo>
                  <a:lnTo>
                    <a:pt x="26618" y="2895"/>
                  </a:lnTo>
                  <a:lnTo>
                    <a:pt x="26502" y="3127"/>
                  </a:lnTo>
                  <a:lnTo>
                    <a:pt x="26502" y="3127"/>
                  </a:lnTo>
                  <a:lnTo>
                    <a:pt x="26387" y="3474"/>
                  </a:lnTo>
                  <a:lnTo>
                    <a:pt x="26155" y="3706"/>
                  </a:lnTo>
                  <a:lnTo>
                    <a:pt x="25924" y="3822"/>
                  </a:lnTo>
                  <a:lnTo>
                    <a:pt x="25577" y="3822"/>
                  </a:lnTo>
                  <a:lnTo>
                    <a:pt x="25229" y="3822"/>
                  </a:lnTo>
                  <a:lnTo>
                    <a:pt x="24882" y="3822"/>
                  </a:lnTo>
                  <a:lnTo>
                    <a:pt x="24651" y="3822"/>
                  </a:lnTo>
                  <a:lnTo>
                    <a:pt x="24304" y="3938"/>
                  </a:lnTo>
                  <a:lnTo>
                    <a:pt x="24304" y="3938"/>
                  </a:lnTo>
                  <a:lnTo>
                    <a:pt x="21526" y="4517"/>
                  </a:lnTo>
                  <a:lnTo>
                    <a:pt x="18633" y="5096"/>
                  </a:lnTo>
                  <a:lnTo>
                    <a:pt x="15855" y="5559"/>
                  </a:lnTo>
                  <a:lnTo>
                    <a:pt x="13078" y="6138"/>
                  </a:lnTo>
                  <a:lnTo>
                    <a:pt x="10184" y="6717"/>
                  </a:lnTo>
                  <a:lnTo>
                    <a:pt x="7407" y="7296"/>
                  </a:lnTo>
                  <a:lnTo>
                    <a:pt x="4513" y="7759"/>
                  </a:lnTo>
                  <a:lnTo>
                    <a:pt x="1620" y="8223"/>
                  </a:lnTo>
                  <a:lnTo>
                    <a:pt x="1620" y="8223"/>
                  </a:lnTo>
                  <a:lnTo>
                    <a:pt x="1389" y="8107"/>
                  </a:lnTo>
                  <a:lnTo>
                    <a:pt x="1157" y="7875"/>
                  </a:lnTo>
                  <a:lnTo>
                    <a:pt x="926" y="7759"/>
                  </a:lnTo>
                  <a:lnTo>
                    <a:pt x="694" y="7528"/>
                  </a:lnTo>
                  <a:lnTo>
                    <a:pt x="463" y="7296"/>
                  </a:lnTo>
                  <a:lnTo>
                    <a:pt x="231" y="7064"/>
                  </a:lnTo>
                  <a:lnTo>
                    <a:pt x="116" y="6717"/>
                  </a:lnTo>
                  <a:lnTo>
                    <a:pt x="0" y="6485"/>
                  </a:lnTo>
                  <a:lnTo>
                    <a:pt x="0" y="6485"/>
                  </a:lnTo>
                  <a:lnTo>
                    <a:pt x="4398" y="5675"/>
                  </a:lnTo>
                  <a:lnTo>
                    <a:pt x="8680" y="4864"/>
                  </a:lnTo>
                  <a:lnTo>
                    <a:pt x="12846" y="3938"/>
                  </a:lnTo>
                  <a:lnTo>
                    <a:pt x="17128" y="3127"/>
                  </a:lnTo>
                  <a:lnTo>
                    <a:pt x="21295" y="2316"/>
                  </a:lnTo>
                  <a:lnTo>
                    <a:pt x="25577" y="1506"/>
                  </a:lnTo>
                  <a:lnTo>
                    <a:pt x="29859" y="695"/>
                  </a:lnTo>
                  <a:lnTo>
                    <a:pt x="-31279" y="116"/>
                  </a:lnTo>
                  <a:lnTo>
                    <a:pt x="-31279" y="116"/>
                  </a:lnTo>
                  <a:lnTo>
                    <a:pt x="-31279" y="0"/>
                  </a:lnTo>
                  <a:lnTo>
                    <a:pt x="-31279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856080" y="4194720"/>
              <a:ext cx="322560" cy="565560"/>
            </a:xfrm>
            <a:custGeom>
              <a:avLst/>
              <a:gdLst/>
              <a:ahLst/>
              <a:rect l="l" t="t" r="r" b="b"/>
              <a:pathLst>
                <a:path w="9027" h="10539">
                  <a:moveTo>
                    <a:pt x="7176" y="579"/>
                  </a:moveTo>
                  <a:lnTo>
                    <a:pt x="7176" y="695"/>
                  </a:lnTo>
                  <a:lnTo>
                    <a:pt x="7176" y="811"/>
                  </a:lnTo>
                  <a:lnTo>
                    <a:pt x="7176" y="927"/>
                  </a:lnTo>
                  <a:lnTo>
                    <a:pt x="7060" y="1042"/>
                  </a:lnTo>
                  <a:lnTo>
                    <a:pt x="7060" y="1158"/>
                  </a:lnTo>
                  <a:lnTo>
                    <a:pt x="6944" y="1274"/>
                  </a:lnTo>
                  <a:lnTo>
                    <a:pt x="6828" y="1274"/>
                  </a:lnTo>
                  <a:lnTo>
                    <a:pt x="6713" y="1274"/>
                  </a:lnTo>
                  <a:lnTo>
                    <a:pt x="6713" y="1274"/>
                  </a:lnTo>
                  <a:lnTo>
                    <a:pt x="6597" y="1274"/>
                  </a:lnTo>
                  <a:lnTo>
                    <a:pt x="6365" y="1274"/>
                  </a:lnTo>
                  <a:lnTo>
                    <a:pt x="6134" y="1274"/>
                  </a:lnTo>
                  <a:lnTo>
                    <a:pt x="6018" y="1274"/>
                  </a:lnTo>
                  <a:lnTo>
                    <a:pt x="5787" y="1390"/>
                  </a:lnTo>
                  <a:lnTo>
                    <a:pt x="5671" y="1506"/>
                  </a:lnTo>
                  <a:lnTo>
                    <a:pt x="5555" y="1622"/>
                  </a:lnTo>
                  <a:lnTo>
                    <a:pt x="5440" y="1737"/>
                  </a:lnTo>
                  <a:lnTo>
                    <a:pt x="5440" y="1737"/>
                  </a:lnTo>
                  <a:lnTo>
                    <a:pt x="5324" y="1969"/>
                  </a:lnTo>
                  <a:lnTo>
                    <a:pt x="5092" y="2201"/>
                  </a:lnTo>
                  <a:lnTo>
                    <a:pt x="4977" y="2432"/>
                  </a:lnTo>
                  <a:lnTo>
                    <a:pt x="4861" y="2664"/>
                  </a:lnTo>
                  <a:lnTo>
                    <a:pt x="4745" y="2895"/>
                  </a:lnTo>
                  <a:lnTo>
                    <a:pt x="4745" y="3127"/>
                  </a:lnTo>
                  <a:lnTo>
                    <a:pt x="4629" y="3359"/>
                  </a:lnTo>
                  <a:lnTo>
                    <a:pt x="4745" y="3590"/>
                  </a:lnTo>
                  <a:lnTo>
                    <a:pt x="4745" y="3590"/>
                  </a:lnTo>
                  <a:lnTo>
                    <a:pt x="4629" y="3822"/>
                  </a:lnTo>
                  <a:lnTo>
                    <a:pt x="4629" y="4054"/>
                  </a:lnTo>
                  <a:lnTo>
                    <a:pt x="4629" y="4401"/>
                  </a:lnTo>
                  <a:lnTo>
                    <a:pt x="4745" y="4633"/>
                  </a:lnTo>
                  <a:lnTo>
                    <a:pt x="4861" y="4864"/>
                  </a:lnTo>
                  <a:lnTo>
                    <a:pt x="4861" y="5212"/>
                  </a:lnTo>
                  <a:lnTo>
                    <a:pt x="4977" y="5443"/>
                  </a:lnTo>
                  <a:lnTo>
                    <a:pt x="5092" y="5675"/>
                  </a:lnTo>
                  <a:lnTo>
                    <a:pt x="5092" y="5675"/>
                  </a:lnTo>
                  <a:lnTo>
                    <a:pt x="5555" y="6138"/>
                  </a:lnTo>
                  <a:lnTo>
                    <a:pt x="5902" y="6486"/>
                  </a:lnTo>
                  <a:lnTo>
                    <a:pt x="6481" y="6717"/>
                  </a:lnTo>
                  <a:lnTo>
                    <a:pt x="6944" y="6949"/>
                  </a:lnTo>
                  <a:lnTo>
                    <a:pt x="7523" y="7180"/>
                  </a:lnTo>
                  <a:lnTo>
                    <a:pt x="7986" y="7296"/>
                  </a:lnTo>
                  <a:lnTo>
                    <a:pt x="8564" y="7528"/>
                  </a:lnTo>
                  <a:lnTo>
                    <a:pt x="9027" y="7875"/>
                  </a:lnTo>
                  <a:lnTo>
                    <a:pt x="9027" y="7875"/>
                  </a:lnTo>
                  <a:lnTo>
                    <a:pt x="9027" y="7991"/>
                  </a:lnTo>
                  <a:lnTo>
                    <a:pt x="9027" y="8107"/>
                  </a:lnTo>
                  <a:lnTo>
                    <a:pt x="9027" y="8223"/>
                  </a:lnTo>
                  <a:lnTo>
                    <a:pt x="8911" y="8339"/>
                  </a:lnTo>
                  <a:lnTo>
                    <a:pt x="8911" y="8454"/>
                  </a:lnTo>
                  <a:lnTo>
                    <a:pt x="8911" y="8570"/>
                  </a:lnTo>
                  <a:lnTo>
                    <a:pt x="8796" y="8686"/>
                  </a:lnTo>
                  <a:lnTo>
                    <a:pt x="8796" y="8802"/>
                  </a:lnTo>
                  <a:lnTo>
                    <a:pt x="8796" y="8802"/>
                  </a:lnTo>
                  <a:lnTo>
                    <a:pt x="8449" y="8918"/>
                  </a:lnTo>
                  <a:lnTo>
                    <a:pt x="8217" y="9033"/>
                  </a:lnTo>
                  <a:lnTo>
                    <a:pt x="7870" y="8918"/>
                  </a:lnTo>
                  <a:lnTo>
                    <a:pt x="7638" y="8918"/>
                  </a:lnTo>
                  <a:lnTo>
                    <a:pt x="7291" y="8686"/>
                  </a:lnTo>
                  <a:lnTo>
                    <a:pt x="7060" y="8570"/>
                  </a:lnTo>
                  <a:lnTo>
                    <a:pt x="6828" y="8454"/>
                  </a:lnTo>
                  <a:lnTo>
                    <a:pt x="6597" y="8223"/>
                  </a:lnTo>
                  <a:lnTo>
                    <a:pt x="6597" y="8223"/>
                  </a:lnTo>
                  <a:lnTo>
                    <a:pt x="6134" y="8223"/>
                  </a:lnTo>
                  <a:lnTo>
                    <a:pt x="5787" y="8107"/>
                  </a:lnTo>
                  <a:lnTo>
                    <a:pt x="5440" y="7991"/>
                  </a:lnTo>
                  <a:lnTo>
                    <a:pt x="5092" y="7759"/>
                  </a:lnTo>
                  <a:lnTo>
                    <a:pt x="4745" y="7528"/>
                  </a:lnTo>
                  <a:lnTo>
                    <a:pt x="4398" y="7296"/>
                  </a:lnTo>
                  <a:lnTo>
                    <a:pt x="4051" y="7065"/>
                  </a:lnTo>
                  <a:lnTo>
                    <a:pt x="3704" y="6949"/>
                  </a:lnTo>
                  <a:lnTo>
                    <a:pt x="3704" y="6949"/>
                  </a:lnTo>
                  <a:lnTo>
                    <a:pt x="3588" y="6833"/>
                  </a:lnTo>
                  <a:lnTo>
                    <a:pt x="3472" y="6949"/>
                  </a:lnTo>
                  <a:lnTo>
                    <a:pt x="4861" y="8223"/>
                  </a:lnTo>
                  <a:lnTo>
                    <a:pt x="4861" y="8223"/>
                  </a:lnTo>
                  <a:lnTo>
                    <a:pt x="4514" y="8223"/>
                  </a:lnTo>
                  <a:lnTo>
                    <a:pt x="4166" y="8107"/>
                  </a:lnTo>
                  <a:lnTo>
                    <a:pt x="3819" y="7875"/>
                  </a:lnTo>
                  <a:lnTo>
                    <a:pt x="3588" y="7644"/>
                  </a:lnTo>
                  <a:lnTo>
                    <a:pt x="3241" y="7412"/>
                  </a:lnTo>
                  <a:lnTo>
                    <a:pt x="3009" y="7180"/>
                  </a:lnTo>
                  <a:lnTo>
                    <a:pt x="2662" y="7065"/>
                  </a:lnTo>
                  <a:lnTo>
                    <a:pt x="2430" y="6949"/>
                  </a:lnTo>
                  <a:lnTo>
                    <a:pt x="2430" y="6949"/>
                  </a:lnTo>
                  <a:lnTo>
                    <a:pt x="2546" y="7180"/>
                  </a:lnTo>
                  <a:lnTo>
                    <a:pt x="2662" y="7412"/>
                  </a:lnTo>
                  <a:lnTo>
                    <a:pt x="2893" y="7644"/>
                  </a:lnTo>
                  <a:lnTo>
                    <a:pt x="3125" y="7875"/>
                  </a:lnTo>
                  <a:lnTo>
                    <a:pt x="3241" y="7991"/>
                  </a:lnTo>
                  <a:lnTo>
                    <a:pt x="3472" y="8223"/>
                  </a:lnTo>
                  <a:lnTo>
                    <a:pt x="3704" y="8454"/>
                  </a:lnTo>
                  <a:lnTo>
                    <a:pt x="3935" y="8570"/>
                  </a:lnTo>
                  <a:lnTo>
                    <a:pt x="3935" y="8570"/>
                  </a:lnTo>
                  <a:lnTo>
                    <a:pt x="3935" y="8686"/>
                  </a:lnTo>
                  <a:lnTo>
                    <a:pt x="3819" y="8686"/>
                  </a:lnTo>
                  <a:lnTo>
                    <a:pt x="3588" y="8802"/>
                  </a:lnTo>
                  <a:lnTo>
                    <a:pt x="3472" y="8802"/>
                  </a:lnTo>
                  <a:lnTo>
                    <a:pt x="3356" y="8802"/>
                  </a:lnTo>
                  <a:lnTo>
                    <a:pt x="3241" y="8802"/>
                  </a:lnTo>
                  <a:lnTo>
                    <a:pt x="3009" y="8802"/>
                  </a:lnTo>
                  <a:lnTo>
                    <a:pt x="3009" y="8686"/>
                  </a:lnTo>
                  <a:lnTo>
                    <a:pt x="3009" y="8686"/>
                  </a:lnTo>
                  <a:lnTo>
                    <a:pt x="2662" y="8570"/>
                  </a:lnTo>
                  <a:lnTo>
                    <a:pt x="2546" y="8339"/>
                  </a:lnTo>
                  <a:lnTo>
                    <a:pt x="2315" y="8107"/>
                  </a:lnTo>
                  <a:lnTo>
                    <a:pt x="2083" y="7875"/>
                  </a:lnTo>
                  <a:lnTo>
                    <a:pt x="1852" y="7644"/>
                  </a:lnTo>
                  <a:lnTo>
                    <a:pt x="1620" y="7412"/>
                  </a:lnTo>
                  <a:lnTo>
                    <a:pt x="1505" y="7296"/>
                  </a:lnTo>
                  <a:lnTo>
                    <a:pt x="1273" y="7065"/>
                  </a:lnTo>
                  <a:lnTo>
                    <a:pt x="1273" y="7065"/>
                  </a:lnTo>
                  <a:lnTo>
                    <a:pt x="1157" y="7412"/>
                  </a:lnTo>
                  <a:lnTo>
                    <a:pt x="1157" y="7759"/>
                  </a:lnTo>
                  <a:lnTo>
                    <a:pt x="1157" y="8107"/>
                  </a:lnTo>
                  <a:lnTo>
                    <a:pt x="1157" y="8454"/>
                  </a:lnTo>
                  <a:lnTo>
                    <a:pt x="1273" y="8802"/>
                  </a:lnTo>
                  <a:lnTo>
                    <a:pt x="1389" y="9149"/>
                  </a:lnTo>
                  <a:lnTo>
                    <a:pt x="1505" y="9612"/>
                  </a:lnTo>
                  <a:lnTo>
                    <a:pt x="1620" y="9960"/>
                  </a:lnTo>
                  <a:lnTo>
                    <a:pt x="1620" y="9960"/>
                  </a:lnTo>
                  <a:lnTo>
                    <a:pt x="1620" y="10539"/>
                  </a:lnTo>
                  <a:lnTo>
                    <a:pt x="1620" y="10539"/>
                  </a:lnTo>
                  <a:lnTo>
                    <a:pt x="1389" y="10539"/>
                  </a:lnTo>
                  <a:lnTo>
                    <a:pt x="1273" y="10539"/>
                  </a:lnTo>
                  <a:lnTo>
                    <a:pt x="1042" y="10423"/>
                  </a:lnTo>
                  <a:lnTo>
                    <a:pt x="926" y="10423"/>
                  </a:lnTo>
                  <a:lnTo>
                    <a:pt x="810" y="10191"/>
                  </a:lnTo>
                  <a:lnTo>
                    <a:pt x="695" y="10076"/>
                  </a:lnTo>
                  <a:lnTo>
                    <a:pt x="579" y="9960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116" y="9149"/>
                  </a:lnTo>
                  <a:lnTo>
                    <a:pt x="0" y="8570"/>
                  </a:lnTo>
                  <a:lnTo>
                    <a:pt x="116" y="7991"/>
                  </a:lnTo>
                  <a:lnTo>
                    <a:pt x="347" y="7412"/>
                  </a:lnTo>
                  <a:lnTo>
                    <a:pt x="579" y="6833"/>
                  </a:lnTo>
                  <a:lnTo>
                    <a:pt x="810" y="6138"/>
                  </a:lnTo>
                  <a:lnTo>
                    <a:pt x="926" y="5559"/>
                  </a:lnTo>
                  <a:lnTo>
                    <a:pt x="926" y="4864"/>
                  </a:lnTo>
                  <a:lnTo>
                    <a:pt x="926" y="4864"/>
                  </a:lnTo>
                  <a:lnTo>
                    <a:pt x="1157" y="4864"/>
                  </a:lnTo>
                  <a:lnTo>
                    <a:pt x="1389" y="4864"/>
                  </a:lnTo>
                  <a:lnTo>
                    <a:pt x="1620" y="4864"/>
                  </a:lnTo>
                  <a:lnTo>
                    <a:pt x="1852" y="4748"/>
                  </a:lnTo>
                  <a:lnTo>
                    <a:pt x="2083" y="4633"/>
                  </a:lnTo>
                  <a:lnTo>
                    <a:pt x="2315" y="4517"/>
                  </a:lnTo>
                  <a:lnTo>
                    <a:pt x="2546" y="4401"/>
                  </a:lnTo>
                  <a:lnTo>
                    <a:pt x="2662" y="4169"/>
                  </a:lnTo>
                  <a:lnTo>
                    <a:pt x="2662" y="4169"/>
                  </a:lnTo>
                  <a:lnTo>
                    <a:pt x="2778" y="3822"/>
                  </a:lnTo>
                  <a:lnTo>
                    <a:pt x="3009" y="3475"/>
                  </a:lnTo>
                  <a:lnTo>
                    <a:pt x="3125" y="3127"/>
                  </a:lnTo>
                  <a:lnTo>
                    <a:pt x="3241" y="2780"/>
                  </a:lnTo>
                  <a:lnTo>
                    <a:pt x="3241" y="2432"/>
                  </a:lnTo>
                  <a:lnTo>
                    <a:pt x="3241" y="2085"/>
                  </a:lnTo>
                  <a:lnTo>
                    <a:pt x="3125" y="1737"/>
                  </a:lnTo>
                  <a:lnTo>
                    <a:pt x="3009" y="1390"/>
                  </a:lnTo>
                  <a:lnTo>
                    <a:pt x="3009" y="1390"/>
                  </a:lnTo>
                  <a:lnTo>
                    <a:pt x="3125" y="1274"/>
                  </a:lnTo>
                  <a:lnTo>
                    <a:pt x="3241" y="1042"/>
                  </a:lnTo>
                  <a:lnTo>
                    <a:pt x="3472" y="811"/>
                  </a:lnTo>
                  <a:lnTo>
                    <a:pt x="3704" y="695"/>
                  </a:lnTo>
                  <a:lnTo>
                    <a:pt x="3819" y="579"/>
                  </a:lnTo>
                  <a:lnTo>
                    <a:pt x="4051" y="463"/>
                  </a:lnTo>
                  <a:lnTo>
                    <a:pt x="4282" y="463"/>
                  </a:lnTo>
                  <a:lnTo>
                    <a:pt x="4629" y="463"/>
                  </a:lnTo>
                  <a:lnTo>
                    <a:pt x="4629" y="463"/>
                  </a:lnTo>
                  <a:lnTo>
                    <a:pt x="4745" y="579"/>
                  </a:lnTo>
                  <a:lnTo>
                    <a:pt x="4977" y="579"/>
                  </a:lnTo>
                  <a:lnTo>
                    <a:pt x="5092" y="695"/>
                  </a:lnTo>
                  <a:lnTo>
                    <a:pt x="5324" y="811"/>
                  </a:lnTo>
                  <a:lnTo>
                    <a:pt x="5440" y="927"/>
                  </a:lnTo>
                  <a:lnTo>
                    <a:pt x="5555" y="927"/>
                  </a:lnTo>
                  <a:lnTo>
                    <a:pt x="5787" y="927"/>
                  </a:lnTo>
                  <a:lnTo>
                    <a:pt x="6018" y="811"/>
                  </a:lnTo>
                  <a:lnTo>
                    <a:pt x="6018" y="811"/>
                  </a:lnTo>
                  <a:lnTo>
                    <a:pt x="5671" y="463"/>
                  </a:lnTo>
                  <a:lnTo>
                    <a:pt x="5671" y="463"/>
                  </a:lnTo>
                  <a:lnTo>
                    <a:pt x="5902" y="348"/>
                  </a:lnTo>
                  <a:lnTo>
                    <a:pt x="6134" y="232"/>
                  </a:lnTo>
                  <a:lnTo>
                    <a:pt x="6365" y="116"/>
                  </a:lnTo>
                  <a:lnTo>
                    <a:pt x="6597" y="0"/>
                  </a:lnTo>
                  <a:lnTo>
                    <a:pt x="6828" y="0"/>
                  </a:lnTo>
                  <a:lnTo>
                    <a:pt x="6944" y="116"/>
                  </a:lnTo>
                  <a:lnTo>
                    <a:pt x="7060" y="232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847800" y="4250880"/>
              <a:ext cx="103320" cy="173880"/>
            </a:xfrm>
            <a:custGeom>
              <a:avLst/>
              <a:gdLst/>
              <a:ahLst/>
              <a:rect l="l" t="t" r="r" b="b"/>
              <a:pathLst>
                <a:path w="2893" h="3243">
                  <a:moveTo>
                    <a:pt x="2893" y="927"/>
                  </a:moveTo>
                  <a:lnTo>
                    <a:pt x="2893" y="1159"/>
                  </a:lnTo>
                  <a:lnTo>
                    <a:pt x="2893" y="1390"/>
                  </a:lnTo>
                  <a:lnTo>
                    <a:pt x="2893" y="1622"/>
                  </a:lnTo>
                  <a:lnTo>
                    <a:pt x="2893" y="1853"/>
                  </a:lnTo>
                  <a:lnTo>
                    <a:pt x="2777" y="2085"/>
                  </a:lnTo>
                  <a:lnTo>
                    <a:pt x="2661" y="2317"/>
                  </a:lnTo>
                  <a:lnTo>
                    <a:pt x="2546" y="2548"/>
                  </a:lnTo>
                  <a:lnTo>
                    <a:pt x="2430" y="2780"/>
                  </a:lnTo>
                  <a:lnTo>
                    <a:pt x="2430" y="2780"/>
                  </a:lnTo>
                  <a:lnTo>
                    <a:pt x="2314" y="2896"/>
                  </a:lnTo>
                  <a:lnTo>
                    <a:pt x="2199" y="3012"/>
                  </a:lnTo>
                  <a:lnTo>
                    <a:pt x="1967" y="3127"/>
                  </a:lnTo>
                  <a:lnTo>
                    <a:pt x="1851" y="3243"/>
                  </a:lnTo>
                  <a:lnTo>
                    <a:pt x="1620" y="3243"/>
                  </a:lnTo>
                  <a:lnTo>
                    <a:pt x="1388" y="3243"/>
                  </a:lnTo>
                  <a:lnTo>
                    <a:pt x="1157" y="3243"/>
                  </a:lnTo>
                  <a:lnTo>
                    <a:pt x="1041" y="3243"/>
                  </a:lnTo>
                  <a:lnTo>
                    <a:pt x="1041" y="3243"/>
                  </a:lnTo>
                  <a:lnTo>
                    <a:pt x="810" y="3127"/>
                  </a:lnTo>
                  <a:lnTo>
                    <a:pt x="694" y="3127"/>
                  </a:lnTo>
                  <a:lnTo>
                    <a:pt x="463" y="3012"/>
                  </a:lnTo>
                  <a:lnTo>
                    <a:pt x="347" y="2896"/>
                  </a:lnTo>
                  <a:lnTo>
                    <a:pt x="231" y="2664"/>
                  </a:lnTo>
                  <a:lnTo>
                    <a:pt x="231" y="2548"/>
                  </a:lnTo>
                  <a:lnTo>
                    <a:pt x="115" y="2433"/>
                  </a:lnTo>
                  <a:lnTo>
                    <a:pt x="0" y="2201"/>
                  </a:lnTo>
                  <a:lnTo>
                    <a:pt x="0" y="2201"/>
                  </a:lnTo>
                  <a:lnTo>
                    <a:pt x="231" y="2317"/>
                  </a:lnTo>
                  <a:lnTo>
                    <a:pt x="347" y="2317"/>
                  </a:lnTo>
                  <a:lnTo>
                    <a:pt x="578" y="2317"/>
                  </a:lnTo>
                  <a:lnTo>
                    <a:pt x="810" y="2317"/>
                  </a:lnTo>
                  <a:lnTo>
                    <a:pt x="926" y="2317"/>
                  </a:lnTo>
                  <a:lnTo>
                    <a:pt x="1157" y="2201"/>
                  </a:lnTo>
                  <a:lnTo>
                    <a:pt x="1388" y="2201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736" y="1738"/>
                  </a:lnTo>
                  <a:lnTo>
                    <a:pt x="1851" y="1506"/>
                  </a:lnTo>
                  <a:lnTo>
                    <a:pt x="1851" y="1390"/>
                  </a:lnTo>
                  <a:lnTo>
                    <a:pt x="1967" y="1159"/>
                  </a:lnTo>
                  <a:lnTo>
                    <a:pt x="1967" y="1043"/>
                  </a:lnTo>
                  <a:lnTo>
                    <a:pt x="1851" y="811"/>
                  </a:lnTo>
                  <a:lnTo>
                    <a:pt x="1736" y="695"/>
                  </a:lnTo>
                  <a:lnTo>
                    <a:pt x="1736" y="695"/>
                  </a:lnTo>
                  <a:lnTo>
                    <a:pt x="1504" y="232"/>
                  </a:lnTo>
                  <a:lnTo>
                    <a:pt x="1504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116"/>
                  </a:lnTo>
                  <a:lnTo>
                    <a:pt x="2314" y="232"/>
                  </a:lnTo>
                  <a:lnTo>
                    <a:pt x="2546" y="348"/>
                  </a:lnTo>
                  <a:lnTo>
                    <a:pt x="2661" y="580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2027520" y="4257000"/>
              <a:ext cx="74520" cy="173880"/>
            </a:xfrm>
            <a:custGeom>
              <a:avLst/>
              <a:gdLst/>
              <a:ahLst/>
              <a:rect l="l" t="t" r="r" b="b"/>
              <a:pathLst>
                <a:path w="2084" h="3243">
                  <a:moveTo>
                    <a:pt x="2084" y="464"/>
                  </a:moveTo>
                  <a:lnTo>
                    <a:pt x="2084" y="811"/>
                  </a:lnTo>
                  <a:lnTo>
                    <a:pt x="2084" y="1043"/>
                  </a:lnTo>
                  <a:lnTo>
                    <a:pt x="1968" y="1274"/>
                  </a:lnTo>
                  <a:lnTo>
                    <a:pt x="1852" y="1622"/>
                  </a:lnTo>
                  <a:lnTo>
                    <a:pt x="1736" y="1853"/>
                  </a:lnTo>
                  <a:lnTo>
                    <a:pt x="1621" y="2085"/>
                  </a:lnTo>
                  <a:lnTo>
                    <a:pt x="1505" y="2317"/>
                  </a:lnTo>
                  <a:lnTo>
                    <a:pt x="1389" y="2548"/>
                  </a:lnTo>
                  <a:lnTo>
                    <a:pt x="1389" y="2548"/>
                  </a:lnTo>
                  <a:lnTo>
                    <a:pt x="1158" y="2664"/>
                  </a:lnTo>
                  <a:lnTo>
                    <a:pt x="1042" y="2780"/>
                  </a:lnTo>
                  <a:lnTo>
                    <a:pt x="926" y="2896"/>
                  </a:lnTo>
                  <a:lnTo>
                    <a:pt x="695" y="3011"/>
                  </a:lnTo>
                  <a:lnTo>
                    <a:pt x="579" y="3127"/>
                  </a:lnTo>
                  <a:lnTo>
                    <a:pt x="463" y="3243"/>
                  </a:lnTo>
                  <a:lnTo>
                    <a:pt x="232" y="3243"/>
                  </a:lnTo>
                  <a:lnTo>
                    <a:pt x="0" y="3243"/>
                  </a:lnTo>
                  <a:lnTo>
                    <a:pt x="0" y="3243"/>
                  </a:lnTo>
                  <a:lnTo>
                    <a:pt x="116" y="2896"/>
                  </a:lnTo>
                  <a:lnTo>
                    <a:pt x="116" y="2548"/>
                  </a:lnTo>
                  <a:lnTo>
                    <a:pt x="232" y="2317"/>
                  </a:lnTo>
                  <a:lnTo>
                    <a:pt x="348" y="1969"/>
                  </a:lnTo>
                  <a:lnTo>
                    <a:pt x="348" y="1622"/>
                  </a:lnTo>
                  <a:lnTo>
                    <a:pt x="348" y="1274"/>
                  </a:lnTo>
                  <a:lnTo>
                    <a:pt x="348" y="927"/>
                  </a:lnTo>
                  <a:lnTo>
                    <a:pt x="232" y="579"/>
                  </a:lnTo>
                  <a:lnTo>
                    <a:pt x="232" y="579"/>
                  </a:lnTo>
                  <a:lnTo>
                    <a:pt x="348" y="232"/>
                  </a:lnTo>
                  <a:lnTo>
                    <a:pt x="463" y="116"/>
                  </a:lnTo>
                  <a:lnTo>
                    <a:pt x="695" y="0"/>
                  </a:lnTo>
                  <a:lnTo>
                    <a:pt x="1042" y="0"/>
                  </a:lnTo>
                  <a:lnTo>
                    <a:pt x="1273" y="116"/>
                  </a:lnTo>
                  <a:lnTo>
                    <a:pt x="1621" y="232"/>
                  </a:lnTo>
                  <a:lnTo>
                    <a:pt x="1852" y="348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2089440" y="4269600"/>
              <a:ext cx="119880" cy="142920"/>
            </a:xfrm>
            <a:custGeom>
              <a:avLst/>
              <a:gdLst/>
              <a:ahLst/>
              <a:rect l="l" t="t" r="r" b="b"/>
              <a:pathLst>
                <a:path w="3357" h="2664">
                  <a:moveTo>
                    <a:pt x="3357" y="347"/>
                  </a:moveTo>
                  <a:lnTo>
                    <a:pt x="3125" y="811"/>
                  </a:lnTo>
                  <a:lnTo>
                    <a:pt x="2894" y="1158"/>
                  </a:lnTo>
                  <a:lnTo>
                    <a:pt x="2546" y="1505"/>
                  </a:lnTo>
                  <a:lnTo>
                    <a:pt x="2199" y="1853"/>
                  </a:lnTo>
                  <a:lnTo>
                    <a:pt x="1852" y="2200"/>
                  </a:lnTo>
                  <a:lnTo>
                    <a:pt x="1505" y="2432"/>
                  </a:lnTo>
                  <a:lnTo>
                    <a:pt x="1042" y="2548"/>
                  </a:lnTo>
                  <a:lnTo>
                    <a:pt x="695" y="2664"/>
                  </a:lnTo>
                  <a:lnTo>
                    <a:pt x="695" y="2664"/>
                  </a:lnTo>
                  <a:lnTo>
                    <a:pt x="0" y="2548"/>
                  </a:lnTo>
                  <a:lnTo>
                    <a:pt x="0" y="2548"/>
                  </a:lnTo>
                  <a:lnTo>
                    <a:pt x="348" y="2200"/>
                  </a:lnTo>
                  <a:lnTo>
                    <a:pt x="463" y="1853"/>
                  </a:lnTo>
                  <a:lnTo>
                    <a:pt x="695" y="1505"/>
                  </a:lnTo>
                  <a:lnTo>
                    <a:pt x="810" y="1158"/>
                  </a:lnTo>
                  <a:lnTo>
                    <a:pt x="926" y="811"/>
                  </a:lnTo>
                  <a:lnTo>
                    <a:pt x="1158" y="579"/>
                  </a:lnTo>
                  <a:lnTo>
                    <a:pt x="1505" y="232"/>
                  </a:lnTo>
                  <a:lnTo>
                    <a:pt x="1852" y="116"/>
                  </a:lnTo>
                  <a:lnTo>
                    <a:pt x="1852" y="116"/>
                  </a:lnTo>
                  <a:lnTo>
                    <a:pt x="2083" y="0"/>
                  </a:lnTo>
                  <a:lnTo>
                    <a:pt x="2315" y="0"/>
                  </a:lnTo>
                  <a:lnTo>
                    <a:pt x="2431" y="0"/>
                  </a:lnTo>
                  <a:lnTo>
                    <a:pt x="2662" y="0"/>
                  </a:lnTo>
                  <a:lnTo>
                    <a:pt x="2778" y="116"/>
                  </a:lnTo>
                  <a:lnTo>
                    <a:pt x="3009" y="116"/>
                  </a:lnTo>
                  <a:lnTo>
                    <a:pt x="3125" y="232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1923840" y="4287960"/>
              <a:ext cx="99000" cy="186480"/>
            </a:xfrm>
            <a:custGeom>
              <a:avLst/>
              <a:gdLst/>
              <a:ahLst/>
              <a:rect l="l" t="t" r="r" b="b"/>
              <a:pathLst>
                <a:path w="2778" h="3475">
                  <a:moveTo>
                    <a:pt x="2778" y="1158"/>
                  </a:moveTo>
                  <a:lnTo>
                    <a:pt x="2662" y="1506"/>
                  </a:lnTo>
                  <a:lnTo>
                    <a:pt x="2662" y="1738"/>
                  </a:lnTo>
                  <a:lnTo>
                    <a:pt x="2546" y="2085"/>
                  </a:lnTo>
                  <a:lnTo>
                    <a:pt x="2430" y="2317"/>
                  </a:lnTo>
                  <a:lnTo>
                    <a:pt x="2430" y="2664"/>
                  </a:lnTo>
                  <a:lnTo>
                    <a:pt x="2199" y="2896"/>
                  </a:lnTo>
                  <a:lnTo>
                    <a:pt x="2083" y="3127"/>
                  </a:lnTo>
                  <a:lnTo>
                    <a:pt x="1736" y="3243"/>
                  </a:lnTo>
                  <a:lnTo>
                    <a:pt x="1736" y="3243"/>
                  </a:lnTo>
                  <a:lnTo>
                    <a:pt x="1620" y="3359"/>
                  </a:lnTo>
                  <a:lnTo>
                    <a:pt x="1505" y="3359"/>
                  </a:lnTo>
                  <a:lnTo>
                    <a:pt x="1273" y="3359"/>
                  </a:lnTo>
                  <a:lnTo>
                    <a:pt x="1157" y="3475"/>
                  </a:lnTo>
                  <a:lnTo>
                    <a:pt x="1042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579" y="3359"/>
                  </a:lnTo>
                  <a:lnTo>
                    <a:pt x="579" y="3359"/>
                  </a:lnTo>
                  <a:lnTo>
                    <a:pt x="347" y="3127"/>
                  </a:lnTo>
                  <a:lnTo>
                    <a:pt x="231" y="2896"/>
                  </a:lnTo>
                  <a:lnTo>
                    <a:pt x="231" y="2664"/>
                  </a:lnTo>
                  <a:lnTo>
                    <a:pt x="116" y="2432"/>
                  </a:lnTo>
                  <a:lnTo>
                    <a:pt x="116" y="2201"/>
                  </a:lnTo>
                  <a:lnTo>
                    <a:pt x="116" y="1969"/>
                  </a:lnTo>
                  <a:lnTo>
                    <a:pt x="0" y="1738"/>
                  </a:lnTo>
                  <a:lnTo>
                    <a:pt x="0" y="1506"/>
                  </a:lnTo>
                  <a:lnTo>
                    <a:pt x="0" y="1506"/>
                  </a:lnTo>
                  <a:lnTo>
                    <a:pt x="926" y="1274"/>
                  </a:lnTo>
                  <a:lnTo>
                    <a:pt x="926" y="1274"/>
                  </a:lnTo>
                  <a:lnTo>
                    <a:pt x="926" y="1390"/>
                  </a:lnTo>
                  <a:lnTo>
                    <a:pt x="926" y="1506"/>
                  </a:lnTo>
                  <a:lnTo>
                    <a:pt x="926" y="1622"/>
                  </a:lnTo>
                  <a:lnTo>
                    <a:pt x="926" y="1738"/>
                  </a:lnTo>
                  <a:lnTo>
                    <a:pt x="926" y="1853"/>
                  </a:lnTo>
                  <a:lnTo>
                    <a:pt x="926" y="1853"/>
                  </a:lnTo>
                  <a:lnTo>
                    <a:pt x="926" y="1969"/>
                  </a:lnTo>
                  <a:lnTo>
                    <a:pt x="1042" y="2085"/>
                  </a:lnTo>
                  <a:lnTo>
                    <a:pt x="1042" y="2085"/>
                  </a:lnTo>
                  <a:lnTo>
                    <a:pt x="1157" y="1738"/>
                  </a:lnTo>
                  <a:lnTo>
                    <a:pt x="1273" y="1390"/>
                  </a:lnTo>
                  <a:lnTo>
                    <a:pt x="1389" y="1158"/>
                  </a:lnTo>
                  <a:lnTo>
                    <a:pt x="1620" y="927"/>
                  </a:lnTo>
                  <a:lnTo>
                    <a:pt x="1852" y="579"/>
                  </a:lnTo>
                  <a:lnTo>
                    <a:pt x="2083" y="348"/>
                  </a:lnTo>
                  <a:lnTo>
                    <a:pt x="2315" y="232"/>
                  </a:lnTo>
                  <a:lnTo>
                    <a:pt x="2546" y="0"/>
                  </a:lnTo>
                  <a:lnTo>
                    <a:pt x="2546" y="0"/>
                  </a:lnTo>
                  <a:lnTo>
                    <a:pt x="2662" y="116"/>
                  </a:lnTo>
                  <a:lnTo>
                    <a:pt x="2778" y="232"/>
                  </a:lnTo>
                  <a:lnTo>
                    <a:pt x="2778" y="348"/>
                  </a:lnTo>
                  <a:lnTo>
                    <a:pt x="2778" y="579"/>
                  </a:lnTo>
                  <a:lnTo>
                    <a:pt x="2778" y="695"/>
                  </a:lnTo>
                  <a:lnTo>
                    <a:pt x="2778" y="927"/>
                  </a:lnTo>
                  <a:lnTo>
                    <a:pt x="2778" y="1043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1141560" y="4319280"/>
              <a:ext cx="827640" cy="254880"/>
            </a:xfrm>
            <a:custGeom>
              <a:avLst/>
              <a:gdLst/>
              <a:ahLst/>
              <a:rect l="l" t="t" r="r" b="b"/>
              <a:pathLst>
                <a:path w="23146" h="4749">
                  <a:moveTo>
                    <a:pt x="23146" y="0"/>
                  </a:moveTo>
                  <a:lnTo>
                    <a:pt x="22336" y="232"/>
                  </a:lnTo>
                  <a:lnTo>
                    <a:pt x="21526" y="464"/>
                  </a:lnTo>
                  <a:lnTo>
                    <a:pt x="20600" y="695"/>
                  </a:lnTo>
                  <a:lnTo>
                    <a:pt x="19790" y="1043"/>
                  </a:lnTo>
                  <a:lnTo>
                    <a:pt x="18980" y="1274"/>
                  </a:lnTo>
                  <a:lnTo>
                    <a:pt x="18054" y="1390"/>
                  </a:lnTo>
                  <a:lnTo>
                    <a:pt x="17128" y="1622"/>
                  </a:lnTo>
                  <a:lnTo>
                    <a:pt x="16318" y="1738"/>
                  </a:lnTo>
                  <a:lnTo>
                    <a:pt x="16318" y="1738"/>
                  </a:lnTo>
                  <a:lnTo>
                    <a:pt x="4397" y="4054"/>
                  </a:lnTo>
                  <a:lnTo>
                    <a:pt x="810" y="4749"/>
                  </a:lnTo>
                  <a:lnTo>
                    <a:pt x="0" y="4401"/>
                  </a:lnTo>
                  <a:lnTo>
                    <a:pt x="0" y="4401"/>
                  </a:lnTo>
                  <a:lnTo>
                    <a:pt x="2314" y="3938"/>
                  </a:lnTo>
                  <a:lnTo>
                    <a:pt x="4629" y="3591"/>
                  </a:lnTo>
                  <a:lnTo>
                    <a:pt x="6944" y="3127"/>
                  </a:lnTo>
                  <a:lnTo>
                    <a:pt x="9258" y="2664"/>
                  </a:lnTo>
                  <a:lnTo>
                    <a:pt x="11573" y="2201"/>
                  </a:lnTo>
                  <a:lnTo>
                    <a:pt x="13888" y="1738"/>
                  </a:lnTo>
                  <a:lnTo>
                    <a:pt x="16202" y="1274"/>
                  </a:lnTo>
                  <a:lnTo>
                    <a:pt x="18633" y="927"/>
                  </a:lnTo>
                  <a:lnTo>
                    <a:pt x="18633" y="927"/>
                  </a:lnTo>
                  <a:lnTo>
                    <a:pt x="19211" y="811"/>
                  </a:lnTo>
                  <a:lnTo>
                    <a:pt x="19674" y="695"/>
                  </a:lnTo>
                  <a:lnTo>
                    <a:pt x="20253" y="695"/>
                  </a:lnTo>
                  <a:lnTo>
                    <a:pt x="20831" y="579"/>
                  </a:lnTo>
                  <a:lnTo>
                    <a:pt x="21410" y="464"/>
                  </a:lnTo>
                  <a:lnTo>
                    <a:pt x="21989" y="348"/>
                  </a:lnTo>
                  <a:lnTo>
                    <a:pt x="22567" y="116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756720" y="4356360"/>
              <a:ext cx="74160" cy="335520"/>
            </a:xfrm>
            <a:custGeom>
              <a:avLst/>
              <a:gdLst/>
              <a:ahLst/>
              <a:rect l="l" t="t" r="r" b="b"/>
              <a:pathLst>
                <a:path w="2083" h="6254">
                  <a:moveTo>
                    <a:pt x="1620" y="0"/>
                  </a:moveTo>
                  <a:lnTo>
                    <a:pt x="1273" y="695"/>
                  </a:lnTo>
                  <a:lnTo>
                    <a:pt x="1041" y="1506"/>
                  </a:lnTo>
                  <a:lnTo>
                    <a:pt x="925" y="2316"/>
                  </a:lnTo>
                  <a:lnTo>
                    <a:pt x="925" y="3127"/>
                  </a:lnTo>
                  <a:lnTo>
                    <a:pt x="1041" y="3822"/>
                  </a:lnTo>
                  <a:lnTo>
                    <a:pt x="1273" y="4633"/>
                  </a:lnTo>
                  <a:lnTo>
                    <a:pt x="1620" y="5328"/>
                  </a:lnTo>
                  <a:lnTo>
                    <a:pt x="2083" y="5907"/>
                  </a:lnTo>
                  <a:lnTo>
                    <a:pt x="2083" y="5907"/>
                  </a:lnTo>
                  <a:lnTo>
                    <a:pt x="2083" y="6254"/>
                  </a:lnTo>
                  <a:lnTo>
                    <a:pt x="2083" y="6254"/>
                  </a:lnTo>
                  <a:lnTo>
                    <a:pt x="1851" y="6254"/>
                  </a:lnTo>
                  <a:lnTo>
                    <a:pt x="1736" y="6254"/>
                  </a:lnTo>
                  <a:lnTo>
                    <a:pt x="1504" y="6254"/>
                  </a:lnTo>
                  <a:lnTo>
                    <a:pt x="1388" y="6138"/>
                  </a:lnTo>
                  <a:lnTo>
                    <a:pt x="1273" y="6022"/>
                  </a:lnTo>
                  <a:lnTo>
                    <a:pt x="1041" y="5907"/>
                  </a:lnTo>
                  <a:lnTo>
                    <a:pt x="925" y="5907"/>
                  </a:lnTo>
                  <a:lnTo>
                    <a:pt x="810" y="5791"/>
                  </a:lnTo>
                  <a:lnTo>
                    <a:pt x="810" y="5791"/>
                  </a:lnTo>
                  <a:lnTo>
                    <a:pt x="462" y="5212"/>
                  </a:lnTo>
                  <a:lnTo>
                    <a:pt x="231" y="4748"/>
                  </a:lnTo>
                  <a:lnTo>
                    <a:pt x="0" y="4169"/>
                  </a:lnTo>
                  <a:lnTo>
                    <a:pt x="0" y="3475"/>
                  </a:lnTo>
                  <a:lnTo>
                    <a:pt x="0" y="2896"/>
                  </a:lnTo>
                  <a:lnTo>
                    <a:pt x="0" y="2201"/>
                  </a:lnTo>
                  <a:lnTo>
                    <a:pt x="115" y="1622"/>
                  </a:lnTo>
                  <a:lnTo>
                    <a:pt x="231" y="1043"/>
                  </a:lnTo>
                  <a:lnTo>
                    <a:pt x="231" y="1043"/>
                  </a:lnTo>
                  <a:lnTo>
                    <a:pt x="347" y="927"/>
                  </a:lnTo>
                  <a:lnTo>
                    <a:pt x="462" y="695"/>
                  </a:lnTo>
                  <a:lnTo>
                    <a:pt x="694" y="579"/>
                  </a:lnTo>
                  <a:lnTo>
                    <a:pt x="810" y="348"/>
                  </a:lnTo>
                  <a:lnTo>
                    <a:pt x="925" y="232"/>
                  </a:lnTo>
                  <a:lnTo>
                    <a:pt x="1157" y="116"/>
                  </a:lnTo>
                  <a:lnTo>
                    <a:pt x="1388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810720" y="4375080"/>
              <a:ext cx="37080" cy="279720"/>
            </a:xfrm>
            <a:custGeom>
              <a:avLst/>
              <a:gdLst/>
              <a:ahLst/>
              <a:rect l="l" t="t" r="r" b="b"/>
              <a:pathLst>
                <a:path w="1042" h="5211">
                  <a:moveTo>
                    <a:pt x="694" y="1968"/>
                  </a:moveTo>
                  <a:lnTo>
                    <a:pt x="1042" y="3706"/>
                  </a:lnTo>
                  <a:lnTo>
                    <a:pt x="810" y="5211"/>
                  </a:lnTo>
                  <a:lnTo>
                    <a:pt x="810" y="5211"/>
                  </a:lnTo>
                  <a:lnTo>
                    <a:pt x="463" y="4632"/>
                  </a:lnTo>
                  <a:lnTo>
                    <a:pt x="232" y="3937"/>
                  </a:lnTo>
                  <a:lnTo>
                    <a:pt x="0" y="3358"/>
                  </a:lnTo>
                  <a:lnTo>
                    <a:pt x="0" y="2663"/>
                  </a:lnTo>
                  <a:lnTo>
                    <a:pt x="0" y="1968"/>
                  </a:lnTo>
                  <a:lnTo>
                    <a:pt x="0" y="1274"/>
                  </a:lnTo>
                  <a:lnTo>
                    <a:pt x="232" y="579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694" y="231"/>
                  </a:lnTo>
                  <a:lnTo>
                    <a:pt x="810" y="463"/>
                  </a:lnTo>
                  <a:lnTo>
                    <a:pt x="810" y="695"/>
                  </a:lnTo>
                  <a:lnTo>
                    <a:pt x="810" y="926"/>
                  </a:lnTo>
                  <a:lnTo>
                    <a:pt x="694" y="1158"/>
                  </a:lnTo>
                  <a:lnTo>
                    <a:pt x="694" y="1505"/>
                  </a:lnTo>
                  <a:lnTo>
                    <a:pt x="579" y="1737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1878480" y="4381560"/>
              <a:ext cx="32760" cy="55800"/>
            </a:xfrm>
            <a:custGeom>
              <a:avLst/>
              <a:gdLst/>
              <a:ahLst/>
              <a:rect l="l" t="t" r="r" b="b"/>
              <a:pathLst>
                <a:path w="926" h="1042">
                  <a:moveTo>
                    <a:pt x="926" y="926"/>
                  </a:moveTo>
                  <a:lnTo>
                    <a:pt x="926" y="1042"/>
                  </a:lnTo>
                  <a:lnTo>
                    <a:pt x="926" y="1042"/>
                  </a:lnTo>
                  <a:lnTo>
                    <a:pt x="810" y="1042"/>
                  </a:lnTo>
                  <a:lnTo>
                    <a:pt x="694" y="1042"/>
                  </a:lnTo>
                  <a:lnTo>
                    <a:pt x="579" y="1042"/>
                  </a:lnTo>
                  <a:lnTo>
                    <a:pt x="463" y="926"/>
                  </a:lnTo>
                  <a:lnTo>
                    <a:pt x="347" y="926"/>
                  </a:lnTo>
                  <a:lnTo>
                    <a:pt x="231" y="810"/>
                  </a:lnTo>
                  <a:lnTo>
                    <a:pt x="116" y="694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579" y="0"/>
                  </a:lnTo>
                  <a:lnTo>
                    <a:pt x="694" y="115"/>
                  </a:lnTo>
                  <a:lnTo>
                    <a:pt x="810" y="115"/>
                  </a:lnTo>
                  <a:lnTo>
                    <a:pt x="810" y="347"/>
                  </a:lnTo>
                  <a:lnTo>
                    <a:pt x="810" y="463"/>
                  </a:lnTo>
                  <a:lnTo>
                    <a:pt x="926" y="579"/>
                  </a:lnTo>
                  <a:lnTo>
                    <a:pt x="926" y="810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562320" y="4393800"/>
              <a:ext cx="227520" cy="391680"/>
            </a:xfrm>
            <a:custGeom>
              <a:avLst/>
              <a:gdLst/>
              <a:ahLst/>
              <a:rect l="l" t="t" r="r" b="b"/>
              <a:pathLst>
                <a:path w="6365" h="7296">
                  <a:moveTo>
                    <a:pt x="6365" y="5791"/>
                  </a:moveTo>
                  <a:lnTo>
                    <a:pt x="5671" y="6022"/>
                  </a:lnTo>
                  <a:lnTo>
                    <a:pt x="4977" y="6370"/>
                  </a:lnTo>
                  <a:lnTo>
                    <a:pt x="4282" y="6717"/>
                  </a:lnTo>
                  <a:lnTo>
                    <a:pt x="3588" y="7065"/>
                  </a:lnTo>
                  <a:lnTo>
                    <a:pt x="2778" y="7296"/>
                  </a:lnTo>
                  <a:lnTo>
                    <a:pt x="2083" y="7296"/>
                  </a:lnTo>
                  <a:lnTo>
                    <a:pt x="1389" y="6949"/>
                  </a:lnTo>
                  <a:lnTo>
                    <a:pt x="810" y="6370"/>
                  </a:lnTo>
                  <a:lnTo>
                    <a:pt x="810" y="6370"/>
                  </a:lnTo>
                  <a:lnTo>
                    <a:pt x="463" y="5906"/>
                  </a:lnTo>
                  <a:lnTo>
                    <a:pt x="116" y="5327"/>
                  </a:lnTo>
                  <a:lnTo>
                    <a:pt x="0" y="4748"/>
                  </a:lnTo>
                  <a:lnTo>
                    <a:pt x="0" y="4169"/>
                  </a:lnTo>
                  <a:lnTo>
                    <a:pt x="0" y="3590"/>
                  </a:lnTo>
                  <a:lnTo>
                    <a:pt x="0" y="3011"/>
                  </a:lnTo>
                  <a:lnTo>
                    <a:pt x="116" y="2432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695" y="1274"/>
                  </a:lnTo>
                  <a:lnTo>
                    <a:pt x="1157" y="811"/>
                  </a:lnTo>
                  <a:lnTo>
                    <a:pt x="1736" y="579"/>
                  </a:lnTo>
                  <a:lnTo>
                    <a:pt x="2431" y="463"/>
                  </a:lnTo>
                  <a:lnTo>
                    <a:pt x="3125" y="348"/>
                  </a:lnTo>
                  <a:lnTo>
                    <a:pt x="3935" y="232"/>
                  </a:lnTo>
                  <a:lnTo>
                    <a:pt x="4629" y="232"/>
                  </a:lnTo>
                  <a:lnTo>
                    <a:pt x="5208" y="0"/>
                  </a:lnTo>
                  <a:lnTo>
                    <a:pt x="5208" y="0"/>
                  </a:lnTo>
                  <a:lnTo>
                    <a:pt x="5092" y="811"/>
                  </a:lnTo>
                  <a:lnTo>
                    <a:pt x="4977" y="1506"/>
                  </a:lnTo>
                  <a:lnTo>
                    <a:pt x="4977" y="2316"/>
                  </a:lnTo>
                  <a:lnTo>
                    <a:pt x="4977" y="3127"/>
                  </a:lnTo>
                  <a:lnTo>
                    <a:pt x="5092" y="3938"/>
                  </a:lnTo>
                  <a:lnTo>
                    <a:pt x="5324" y="4633"/>
                  </a:lnTo>
                  <a:lnTo>
                    <a:pt x="5787" y="5327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close/>
                </a:path>
              </a:pathLst>
            </a:custGeom>
            <a:solidFill>
              <a:srgbClr val="ff3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1026000" y="4399920"/>
              <a:ext cx="835920" cy="857880"/>
            </a:xfrm>
            <a:custGeom>
              <a:avLst/>
              <a:gdLst/>
              <a:ahLst/>
              <a:rect l="l" t="t" r="r" b="b"/>
              <a:pathLst>
                <a:path w="23378" h="15982">
                  <a:moveTo>
                    <a:pt x="23378" y="6949"/>
                  </a:moveTo>
                  <a:lnTo>
                    <a:pt x="23031" y="7180"/>
                  </a:lnTo>
                  <a:lnTo>
                    <a:pt x="22568" y="7412"/>
                  </a:lnTo>
                  <a:lnTo>
                    <a:pt x="22221" y="7528"/>
                  </a:lnTo>
                  <a:lnTo>
                    <a:pt x="21758" y="7528"/>
                  </a:lnTo>
                  <a:lnTo>
                    <a:pt x="21295" y="7643"/>
                  </a:lnTo>
                  <a:lnTo>
                    <a:pt x="20832" y="7643"/>
                  </a:lnTo>
                  <a:lnTo>
                    <a:pt x="20369" y="7759"/>
                  </a:lnTo>
                  <a:lnTo>
                    <a:pt x="19906" y="7875"/>
                  </a:lnTo>
                  <a:lnTo>
                    <a:pt x="19906" y="7875"/>
                  </a:lnTo>
                  <a:lnTo>
                    <a:pt x="16203" y="9033"/>
                  </a:lnTo>
                  <a:lnTo>
                    <a:pt x="2778" y="15055"/>
                  </a:lnTo>
                  <a:lnTo>
                    <a:pt x="2778" y="15055"/>
                  </a:lnTo>
                  <a:lnTo>
                    <a:pt x="2546" y="15171"/>
                  </a:lnTo>
                  <a:lnTo>
                    <a:pt x="2199" y="15403"/>
                  </a:lnTo>
                  <a:lnTo>
                    <a:pt x="1852" y="15518"/>
                  </a:lnTo>
                  <a:lnTo>
                    <a:pt x="1505" y="15750"/>
                  </a:lnTo>
                  <a:lnTo>
                    <a:pt x="1157" y="15866"/>
                  </a:lnTo>
                  <a:lnTo>
                    <a:pt x="810" y="15982"/>
                  </a:lnTo>
                  <a:lnTo>
                    <a:pt x="463" y="15982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0" y="14592"/>
                  </a:lnTo>
                  <a:lnTo>
                    <a:pt x="116" y="13202"/>
                  </a:lnTo>
                  <a:lnTo>
                    <a:pt x="116" y="11813"/>
                  </a:lnTo>
                  <a:lnTo>
                    <a:pt x="232" y="10423"/>
                  </a:lnTo>
                  <a:lnTo>
                    <a:pt x="347" y="8917"/>
                  </a:lnTo>
                  <a:lnTo>
                    <a:pt x="347" y="7528"/>
                  </a:lnTo>
                  <a:lnTo>
                    <a:pt x="463" y="6138"/>
                  </a:lnTo>
                  <a:lnTo>
                    <a:pt x="579" y="4748"/>
                  </a:lnTo>
                  <a:lnTo>
                    <a:pt x="579" y="4748"/>
                  </a:lnTo>
                  <a:lnTo>
                    <a:pt x="1157" y="4748"/>
                  </a:lnTo>
                  <a:lnTo>
                    <a:pt x="1620" y="4980"/>
                  </a:lnTo>
                  <a:lnTo>
                    <a:pt x="2083" y="5211"/>
                  </a:lnTo>
                  <a:lnTo>
                    <a:pt x="2546" y="5559"/>
                  </a:lnTo>
                  <a:lnTo>
                    <a:pt x="3009" y="5790"/>
                  </a:lnTo>
                  <a:lnTo>
                    <a:pt x="3472" y="5790"/>
                  </a:lnTo>
                  <a:lnTo>
                    <a:pt x="3935" y="5675"/>
                  </a:lnTo>
                  <a:lnTo>
                    <a:pt x="4514" y="5327"/>
                  </a:lnTo>
                  <a:lnTo>
                    <a:pt x="4514" y="5327"/>
                  </a:lnTo>
                  <a:lnTo>
                    <a:pt x="4514" y="5211"/>
                  </a:lnTo>
                  <a:lnTo>
                    <a:pt x="4629" y="5096"/>
                  </a:lnTo>
                  <a:lnTo>
                    <a:pt x="4629" y="4980"/>
                  </a:lnTo>
                  <a:lnTo>
                    <a:pt x="4745" y="4980"/>
                  </a:lnTo>
                  <a:lnTo>
                    <a:pt x="4745" y="4864"/>
                  </a:lnTo>
                  <a:lnTo>
                    <a:pt x="4745" y="4748"/>
                  </a:lnTo>
                  <a:lnTo>
                    <a:pt x="4861" y="4632"/>
                  </a:lnTo>
                  <a:lnTo>
                    <a:pt x="4861" y="4517"/>
                  </a:lnTo>
                  <a:lnTo>
                    <a:pt x="4861" y="4517"/>
                  </a:lnTo>
                  <a:lnTo>
                    <a:pt x="4861" y="4401"/>
                  </a:lnTo>
                  <a:lnTo>
                    <a:pt x="4745" y="4285"/>
                  </a:lnTo>
                  <a:lnTo>
                    <a:pt x="4745" y="4169"/>
                  </a:lnTo>
                  <a:lnTo>
                    <a:pt x="4745" y="4053"/>
                  </a:lnTo>
                  <a:lnTo>
                    <a:pt x="4745" y="3937"/>
                  </a:lnTo>
                  <a:lnTo>
                    <a:pt x="4629" y="3822"/>
                  </a:lnTo>
                  <a:lnTo>
                    <a:pt x="4629" y="3706"/>
                  </a:lnTo>
                  <a:lnTo>
                    <a:pt x="4514" y="3706"/>
                  </a:lnTo>
                  <a:lnTo>
                    <a:pt x="4514" y="3706"/>
                  </a:lnTo>
                  <a:lnTo>
                    <a:pt x="6828" y="3127"/>
                  </a:lnTo>
                  <a:lnTo>
                    <a:pt x="9143" y="2664"/>
                  </a:lnTo>
                  <a:lnTo>
                    <a:pt x="11458" y="2316"/>
                  </a:lnTo>
                  <a:lnTo>
                    <a:pt x="13772" y="1853"/>
                  </a:lnTo>
                  <a:lnTo>
                    <a:pt x="15971" y="1390"/>
                  </a:lnTo>
                  <a:lnTo>
                    <a:pt x="18286" y="1042"/>
                  </a:lnTo>
                  <a:lnTo>
                    <a:pt x="20600" y="579"/>
                  </a:lnTo>
                  <a:lnTo>
                    <a:pt x="22799" y="0"/>
                  </a:lnTo>
                  <a:lnTo>
                    <a:pt x="22799" y="0"/>
                  </a:lnTo>
                  <a:lnTo>
                    <a:pt x="22799" y="926"/>
                  </a:lnTo>
                  <a:lnTo>
                    <a:pt x="22799" y="1737"/>
                  </a:lnTo>
                  <a:lnTo>
                    <a:pt x="22799" y="2664"/>
                  </a:lnTo>
                  <a:lnTo>
                    <a:pt x="22799" y="3590"/>
                  </a:lnTo>
                  <a:lnTo>
                    <a:pt x="22915" y="4401"/>
                  </a:lnTo>
                  <a:lnTo>
                    <a:pt x="23031" y="5327"/>
                  </a:lnTo>
                  <a:lnTo>
                    <a:pt x="23147" y="6138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852120" y="4437360"/>
              <a:ext cx="20520" cy="111600"/>
            </a:xfrm>
            <a:custGeom>
              <a:avLst/>
              <a:gdLst/>
              <a:ahLst/>
              <a:rect l="l" t="t" r="r" b="b"/>
              <a:pathLst>
                <a:path w="579" h="2084">
                  <a:moveTo>
                    <a:pt x="579" y="695"/>
                  </a:moveTo>
                  <a:lnTo>
                    <a:pt x="116" y="2084"/>
                  </a:lnTo>
                  <a:lnTo>
                    <a:pt x="116" y="2084"/>
                  </a:lnTo>
                  <a:lnTo>
                    <a:pt x="0" y="1853"/>
                  </a:lnTo>
                  <a:lnTo>
                    <a:pt x="0" y="1621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0" y="810"/>
                  </a:lnTo>
                  <a:lnTo>
                    <a:pt x="0" y="579"/>
                  </a:lnTo>
                  <a:lnTo>
                    <a:pt x="0" y="231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232" y="0"/>
                  </a:lnTo>
                  <a:lnTo>
                    <a:pt x="348" y="116"/>
                  </a:lnTo>
                  <a:lnTo>
                    <a:pt x="348" y="116"/>
                  </a:lnTo>
                  <a:lnTo>
                    <a:pt x="463" y="231"/>
                  </a:lnTo>
                  <a:lnTo>
                    <a:pt x="463" y="347"/>
                  </a:lnTo>
                  <a:lnTo>
                    <a:pt x="463" y="463"/>
                  </a:lnTo>
                  <a:lnTo>
                    <a:pt x="463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587160" y="4654800"/>
              <a:ext cx="144720" cy="105480"/>
            </a:xfrm>
            <a:custGeom>
              <a:avLst/>
              <a:gdLst/>
              <a:ahLst/>
              <a:rect l="l" t="t" r="r" b="b"/>
              <a:pathLst>
                <a:path w="4050" h="1969">
                  <a:moveTo>
                    <a:pt x="1157" y="1274"/>
                  </a:moveTo>
                  <a:lnTo>
                    <a:pt x="1157" y="1158"/>
                  </a:lnTo>
                  <a:lnTo>
                    <a:pt x="1157" y="1042"/>
                  </a:lnTo>
                  <a:lnTo>
                    <a:pt x="1041" y="1042"/>
                  </a:lnTo>
                  <a:lnTo>
                    <a:pt x="1041" y="927"/>
                  </a:lnTo>
                  <a:lnTo>
                    <a:pt x="1041" y="811"/>
                  </a:lnTo>
                  <a:lnTo>
                    <a:pt x="925" y="695"/>
                  </a:lnTo>
                  <a:lnTo>
                    <a:pt x="925" y="579"/>
                  </a:lnTo>
                  <a:lnTo>
                    <a:pt x="925" y="463"/>
                  </a:lnTo>
                  <a:lnTo>
                    <a:pt x="925" y="463"/>
                  </a:lnTo>
                  <a:lnTo>
                    <a:pt x="1157" y="463"/>
                  </a:lnTo>
                  <a:lnTo>
                    <a:pt x="1273" y="579"/>
                  </a:lnTo>
                  <a:lnTo>
                    <a:pt x="1388" y="695"/>
                  </a:lnTo>
                  <a:lnTo>
                    <a:pt x="1504" y="927"/>
                  </a:lnTo>
                  <a:lnTo>
                    <a:pt x="1620" y="1042"/>
                  </a:lnTo>
                  <a:lnTo>
                    <a:pt x="1620" y="1158"/>
                  </a:lnTo>
                  <a:lnTo>
                    <a:pt x="1851" y="1274"/>
                  </a:lnTo>
                  <a:lnTo>
                    <a:pt x="1967" y="1390"/>
                  </a:lnTo>
                  <a:lnTo>
                    <a:pt x="1967" y="1390"/>
                  </a:lnTo>
                  <a:lnTo>
                    <a:pt x="1851" y="1274"/>
                  </a:lnTo>
                  <a:lnTo>
                    <a:pt x="1851" y="1158"/>
                  </a:lnTo>
                  <a:lnTo>
                    <a:pt x="1851" y="1042"/>
                  </a:lnTo>
                  <a:lnTo>
                    <a:pt x="1736" y="927"/>
                  </a:lnTo>
                  <a:lnTo>
                    <a:pt x="1736" y="811"/>
                  </a:lnTo>
                  <a:lnTo>
                    <a:pt x="1736" y="695"/>
                  </a:lnTo>
                  <a:lnTo>
                    <a:pt x="1620" y="579"/>
                  </a:lnTo>
                  <a:lnTo>
                    <a:pt x="1620" y="463"/>
                  </a:lnTo>
                  <a:lnTo>
                    <a:pt x="1620" y="463"/>
                  </a:lnTo>
                  <a:lnTo>
                    <a:pt x="1851" y="463"/>
                  </a:lnTo>
                  <a:lnTo>
                    <a:pt x="1967" y="579"/>
                  </a:lnTo>
                  <a:lnTo>
                    <a:pt x="2083" y="811"/>
                  </a:lnTo>
                  <a:lnTo>
                    <a:pt x="2083" y="927"/>
                  </a:lnTo>
                  <a:lnTo>
                    <a:pt x="2198" y="1158"/>
                  </a:lnTo>
                  <a:lnTo>
                    <a:pt x="2314" y="1274"/>
                  </a:lnTo>
                  <a:lnTo>
                    <a:pt x="2546" y="1274"/>
                  </a:lnTo>
                  <a:lnTo>
                    <a:pt x="2777" y="1274"/>
                  </a:lnTo>
                  <a:lnTo>
                    <a:pt x="2777" y="1274"/>
                  </a:lnTo>
                  <a:lnTo>
                    <a:pt x="2661" y="1158"/>
                  </a:lnTo>
                  <a:lnTo>
                    <a:pt x="2661" y="1042"/>
                  </a:lnTo>
                  <a:lnTo>
                    <a:pt x="2661" y="1042"/>
                  </a:lnTo>
                  <a:lnTo>
                    <a:pt x="2546" y="927"/>
                  </a:lnTo>
                  <a:lnTo>
                    <a:pt x="2546" y="811"/>
                  </a:lnTo>
                  <a:lnTo>
                    <a:pt x="2430" y="695"/>
                  </a:lnTo>
                  <a:lnTo>
                    <a:pt x="2430" y="695"/>
                  </a:lnTo>
                  <a:lnTo>
                    <a:pt x="2430" y="579"/>
                  </a:lnTo>
                  <a:lnTo>
                    <a:pt x="2430" y="579"/>
                  </a:lnTo>
                  <a:lnTo>
                    <a:pt x="2546" y="579"/>
                  </a:lnTo>
                  <a:lnTo>
                    <a:pt x="2777" y="695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3009" y="1042"/>
                  </a:lnTo>
                  <a:lnTo>
                    <a:pt x="3124" y="1158"/>
                  </a:lnTo>
                  <a:lnTo>
                    <a:pt x="3356" y="1158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356" y="927"/>
                  </a:lnTo>
                  <a:lnTo>
                    <a:pt x="3240" y="811"/>
                  </a:lnTo>
                  <a:lnTo>
                    <a:pt x="3124" y="695"/>
                  </a:lnTo>
                  <a:lnTo>
                    <a:pt x="3009" y="579"/>
                  </a:lnTo>
                  <a:lnTo>
                    <a:pt x="3009" y="463"/>
                  </a:lnTo>
                  <a:lnTo>
                    <a:pt x="3009" y="348"/>
                  </a:lnTo>
                  <a:lnTo>
                    <a:pt x="3009" y="232"/>
                  </a:lnTo>
                  <a:lnTo>
                    <a:pt x="3009" y="232"/>
                  </a:lnTo>
                  <a:lnTo>
                    <a:pt x="3124" y="348"/>
                  </a:lnTo>
                  <a:lnTo>
                    <a:pt x="3240" y="348"/>
                  </a:lnTo>
                  <a:lnTo>
                    <a:pt x="3356" y="463"/>
                  </a:lnTo>
                  <a:lnTo>
                    <a:pt x="3471" y="579"/>
                  </a:lnTo>
                  <a:lnTo>
                    <a:pt x="3587" y="695"/>
                  </a:lnTo>
                  <a:lnTo>
                    <a:pt x="3819" y="811"/>
                  </a:lnTo>
                  <a:lnTo>
                    <a:pt x="3934" y="811"/>
                  </a:lnTo>
                  <a:lnTo>
                    <a:pt x="4050" y="927"/>
                  </a:lnTo>
                  <a:lnTo>
                    <a:pt x="4050" y="927"/>
                  </a:lnTo>
                  <a:lnTo>
                    <a:pt x="3934" y="1042"/>
                  </a:lnTo>
                  <a:lnTo>
                    <a:pt x="3819" y="1042"/>
                  </a:lnTo>
                  <a:lnTo>
                    <a:pt x="3703" y="1158"/>
                  </a:lnTo>
                  <a:lnTo>
                    <a:pt x="3587" y="1158"/>
                  </a:lnTo>
                  <a:lnTo>
                    <a:pt x="3471" y="1158"/>
                  </a:lnTo>
                  <a:lnTo>
                    <a:pt x="3356" y="1158"/>
                  </a:lnTo>
                  <a:lnTo>
                    <a:pt x="3356" y="1274"/>
                  </a:lnTo>
                  <a:lnTo>
                    <a:pt x="3471" y="1390"/>
                  </a:lnTo>
                  <a:lnTo>
                    <a:pt x="3471" y="1390"/>
                  </a:lnTo>
                  <a:lnTo>
                    <a:pt x="3009" y="1506"/>
                  </a:lnTo>
                  <a:lnTo>
                    <a:pt x="3009" y="1506"/>
                  </a:lnTo>
                  <a:lnTo>
                    <a:pt x="2893" y="1621"/>
                  </a:lnTo>
                  <a:lnTo>
                    <a:pt x="2777" y="1737"/>
                  </a:lnTo>
                  <a:lnTo>
                    <a:pt x="2661" y="1737"/>
                  </a:lnTo>
                  <a:lnTo>
                    <a:pt x="2546" y="1853"/>
                  </a:lnTo>
                  <a:lnTo>
                    <a:pt x="2314" y="1853"/>
                  </a:lnTo>
                  <a:lnTo>
                    <a:pt x="2198" y="1853"/>
                  </a:lnTo>
                  <a:lnTo>
                    <a:pt x="1967" y="1969"/>
                  </a:lnTo>
                  <a:lnTo>
                    <a:pt x="1851" y="1969"/>
                  </a:lnTo>
                  <a:lnTo>
                    <a:pt x="1851" y="1969"/>
                  </a:lnTo>
                  <a:lnTo>
                    <a:pt x="1736" y="1969"/>
                  </a:lnTo>
                  <a:lnTo>
                    <a:pt x="1504" y="1969"/>
                  </a:lnTo>
                  <a:lnTo>
                    <a:pt x="1273" y="1853"/>
                  </a:lnTo>
                  <a:lnTo>
                    <a:pt x="1157" y="1737"/>
                  </a:lnTo>
                  <a:lnTo>
                    <a:pt x="925" y="1621"/>
                  </a:lnTo>
                  <a:lnTo>
                    <a:pt x="810" y="1506"/>
                  </a:lnTo>
                  <a:lnTo>
                    <a:pt x="694" y="1390"/>
                  </a:lnTo>
                  <a:lnTo>
                    <a:pt x="462" y="1274"/>
                  </a:lnTo>
                  <a:lnTo>
                    <a:pt x="462" y="1274"/>
                  </a:lnTo>
                  <a:lnTo>
                    <a:pt x="347" y="1158"/>
                  </a:lnTo>
                  <a:lnTo>
                    <a:pt x="231" y="927"/>
                  </a:lnTo>
                  <a:lnTo>
                    <a:pt x="231" y="811"/>
                  </a:lnTo>
                  <a:lnTo>
                    <a:pt x="115" y="579"/>
                  </a:lnTo>
                  <a:lnTo>
                    <a:pt x="0" y="463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5" y="116"/>
                  </a:lnTo>
                  <a:lnTo>
                    <a:pt x="231" y="348"/>
                  </a:lnTo>
                  <a:lnTo>
                    <a:pt x="347" y="463"/>
                  </a:lnTo>
                  <a:lnTo>
                    <a:pt x="462" y="695"/>
                  </a:lnTo>
                  <a:lnTo>
                    <a:pt x="578" y="811"/>
                  </a:lnTo>
                  <a:lnTo>
                    <a:pt x="810" y="1042"/>
                  </a:lnTo>
                  <a:lnTo>
                    <a:pt x="925" y="1158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719640" y="4654800"/>
              <a:ext cx="37080" cy="43200"/>
            </a:xfrm>
            <a:custGeom>
              <a:avLst/>
              <a:gdLst/>
              <a:ahLst/>
              <a:rect l="l" t="t" r="r" b="b"/>
              <a:pathLst>
                <a:path w="1042" h="811">
                  <a:moveTo>
                    <a:pt x="1042" y="811"/>
                  </a:moveTo>
                  <a:lnTo>
                    <a:pt x="926" y="811"/>
                  </a:lnTo>
                  <a:lnTo>
                    <a:pt x="810" y="811"/>
                  </a:lnTo>
                  <a:lnTo>
                    <a:pt x="694" y="811"/>
                  </a:lnTo>
                  <a:lnTo>
                    <a:pt x="579" y="811"/>
                  </a:lnTo>
                  <a:lnTo>
                    <a:pt x="463" y="695"/>
                  </a:lnTo>
                  <a:lnTo>
                    <a:pt x="347" y="695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231" y="232"/>
                  </a:lnTo>
                  <a:lnTo>
                    <a:pt x="463" y="348"/>
                  </a:lnTo>
                  <a:lnTo>
                    <a:pt x="694" y="348"/>
                  </a:lnTo>
                  <a:lnTo>
                    <a:pt x="810" y="348"/>
                  </a:lnTo>
                  <a:lnTo>
                    <a:pt x="926" y="463"/>
                  </a:lnTo>
                  <a:lnTo>
                    <a:pt x="1042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984600" y="4661280"/>
              <a:ext cx="45360" cy="553320"/>
            </a:xfrm>
            <a:custGeom>
              <a:avLst/>
              <a:gdLst/>
              <a:ahLst/>
              <a:rect l="l" t="t" r="r" b="b"/>
              <a:pathLst>
                <a:path w="1273" h="10307">
                  <a:moveTo>
                    <a:pt x="1273" y="116"/>
                  </a:moveTo>
                  <a:lnTo>
                    <a:pt x="1273" y="1274"/>
                  </a:lnTo>
                  <a:lnTo>
                    <a:pt x="1157" y="2548"/>
                  </a:lnTo>
                  <a:lnTo>
                    <a:pt x="1157" y="3706"/>
                  </a:lnTo>
                  <a:lnTo>
                    <a:pt x="1041" y="4980"/>
                  </a:lnTo>
                  <a:lnTo>
                    <a:pt x="926" y="6254"/>
                  </a:lnTo>
                  <a:lnTo>
                    <a:pt x="810" y="7528"/>
                  </a:lnTo>
                  <a:lnTo>
                    <a:pt x="694" y="8917"/>
                  </a:lnTo>
                  <a:lnTo>
                    <a:pt x="694" y="10191"/>
                  </a:lnTo>
                  <a:lnTo>
                    <a:pt x="694" y="10191"/>
                  </a:lnTo>
                  <a:lnTo>
                    <a:pt x="578" y="10191"/>
                  </a:lnTo>
                  <a:lnTo>
                    <a:pt x="463" y="10191"/>
                  </a:lnTo>
                  <a:lnTo>
                    <a:pt x="347" y="10191"/>
                  </a:lnTo>
                  <a:lnTo>
                    <a:pt x="347" y="10307"/>
                  </a:lnTo>
                  <a:lnTo>
                    <a:pt x="231" y="10307"/>
                  </a:lnTo>
                  <a:lnTo>
                    <a:pt x="116" y="10307"/>
                  </a:lnTo>
                  <a:lnTo>
                    <a:pt x="116" y="10307"/>
                  </a:lnTo>
                  <a:lnTo>
                    <a:pt x="0" y="10307"/>
                  </a:lnTo>
                  <a:lnTo>
                    <a:pt x="0" y="10307"/>
                  </a:lnTo>
                  <a:lnTo>
                    <a:pt x="0" y="9033"/>
                  </a:lnTo>
                  <a:lnTo>
                    <a:pt x="116" y="7759"/>
                  </a:lnTo>
                  <a:lnTo>
                    <a:pt x="231" y="6485"/>
                  </a:lnTo>
                  <a:lnTo>
                    <a:pt x="347" y="5211"/>
                  </a:lnTo>
                  <a:lnTo>
                    <a:pt x="463" y="4053"/>
                  </a:lnTo>
                  <a:lnTo>
                    <a:pt x="578" y="2779"/>
                  </a:lnTo>
                  <a:lnTo>
                    <a:pt x="694" y="1505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1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959760" y="4679640"/>
              <a:ext cx="45360" cy="528480"/>
            </a:xfrm>
            <a:custGeom>
              <a:avLst/>
              <a:gdLst/>
              <a:ahLst/>
              <a:rect l="l" t="t" r="r" b="b"/>
              <a:pathLst>
                <a:path w="1273" h="9844">
                  <a:moveTo>
                    <a:pt x="1273" y="0"/>
                  </a:moveTo>
                  <a:lnTo>
                    <a:pt x="1042" y="1158"/>
                  </a:lnTo>
                  <a:lnTo>
                    <a:pt x="926" y="2432"/>
                  </a:lnTo>
                  <a:lnTo>
                    <a:pt x="811" y="3590"/>
                  </a:lnTo>
                  <a:lnTo>
                    <a:pt x="695" y="4864"/>
                  </a:lnTo>
                  <a:lnTo>
                    <a:pt x="579" y="6138"/>
                  </a:lnTo>
                  <a:lnTo>
                    <a:pt x="463" y="7412"/>
                  </a:lnTo>
                  <a:lnTo>
                    <a:pt x="463" y="8570"/>
                  </a:lnTo>
                  <a:lnTo>
                    <a:pt x="348" y="9844"/>
                  </a:lnTo>
                  <a:lnTo>
                    <a:pt x="348" y="9844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348" y="9844"/>
                  </a:lnTo>
                  <a:lnTo>
                    <a:pt x="348" y="9728"/>
                  </a:lnTo>
                  <a:lnTo>
                    <a:pt x="232" y="9728"/>
                  </a:lnTo>
                  <a:lnTo>
                    <a:pt x="116" y="9728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8570"/>
                  </a:lnTo>
                  <a:lnTo>
                    <a:pt x="116" y="7412"/>
                  </a:lnTo>
                  <a:lnTo>
                    <a:pt x="116" y="6254"/>
                  </a:lnTo>
                  <a:lnTo>
                    <a:pt x="232" y="4980"/>
                  </a:lnTo>
                  <a:lnTo>
                    <a:pt x="348" y="3822"/>
                  </a:lnTo>
                  <a:lnTo>
                    <a:pt x="463" y="2548"/>
                  </a:lnTo>
                  <a:lnTo>
                    <a:pt x="579" y="1390"/>
                  </a:lnTo>
                  <a:lnTo>
                    <a:pt x="811" y="232"/>
                  </a:lnTo>
                  <a:lnTo>
                    <a:pt x="811" y="232"/>
                  </a:lnTo>
                  <a:lnTo>
                    <a:pt x="926" y="232"/>
                  </a:lnTo>
                  <a:lnTo>
                    <a:pt x="926" y="116"/>
                  </a:lnTo>
                  <a:lnTo>
                    <a:pt x="1042" y="116"/>
                  </a:lnTo>
                  <a:lnTo>
                    <a:pt x="1042" y="116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926640" y="4698360"/>
              <a:ext cx="45360" cy="472320"/>
            </a:xfrm>
            <a:custGeom>
              <a:avLst/>
              <a:gdLst/>
              <a:ahLst/>
              <a:rect l="l" t="t" r="r" b="b"/>
              <a:pathLst>
                <a:path w="1273" h="8801">
                  <a:moveTo>
                    <a:pt x="578" y="8801"/>
                  </a:moveTo>
                  <a:lnTo>
                    <a:pt x="462" y="8801"/>
                  </a:lnTo>
                  <a:lnTo>
                    <a:pt x="462" y="8801"/>
                  </a:lnTo>
                  <a:lnTo>
                    <a:pt x="347" y="8801"/>
                  </a:lnTo>
                  <a:lnTo>
                    <a:pt x="231" y="8801"/>
                  </a:lnTo>
                  <a:lnTo>
                    <a:pt x="231" y="8801"/>
                  </a:lnTo>
                  <a:lnTo>
                    <a:pt x="115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115" y="7643"/>
                  </a:lnTo>
                  <a:lnTo>
                    <a:pt x="231" y="6485"/>
                  </a:lnTo>
                  <a:lnTo>
                    <a:pt x="347" y="5443"/>
                  </a:lnTo>
                  <a:lnTo>
                    <a:pt x="462" y="4285"/>
                  </a:lnTo>
                  <a:lnTo>
                    <a:pt x="694" y="3127"/>
                  </a:lnTo>
                  <a:lnTo>
                    <a:pt x="925" y="2084"/>
                  </a:lnTo>
                  <a:lnTo>
                    <a:pt x="1041" y="1042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157" y="1042"/>
                  </a:lnTo>
                  <a:lnTo>
                    <a:pt x="1041" y="2200"/>
                  </a:lnTo>
                  <a:lnTo>
                    <a:pt x="925" y="3242"/>
                  </a:lnTo>
                  <a:lnTo>
                    <a:pt x="810" y="4401"/>
                  </a:lnTo>
                  <a:lnTo>
                    <a:pt x="810" y="5443"/>
                  </a:lnTo>
                  <a:lnTo>
                    <a:pt x="694" y="6485"/>
                  </a:lnTo>
                  <a:lnTo>
                    <a:pt x="694" y="7643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1642320" y="4860000"/>
              <a:ext cx="264600" cy="945000"/>
            </a:xfrm>
            <a:custGeom>
              <a:avLst/>
              <a:gdLst/>
              <a:ahLst/>
              <a:rect l="l" t="t" r="r" b="b"/>
              <a:pathLst>
                <a:path w="7407" h="17603">
                  <a:moveTo>
                    <a:pt x="3356" y="0"/>
                  </a:moveTo>
                  <a:lnTo>
                    <a:pt x="3588" y="463"/>
                  </a:lnTo>
                  <a:lnTo>
                    <a:pt x="3935" y="1042"/>
                  </a:lnTo>
                  <a:lnTo>
                    <a:pt x="4282" y="1505"/>
                  </a:lnTo>
                  <a:lnTo>
                    <a:pt x="4630" y="1969"/>
                  </a:lnTo>
                  <a:lnTo>
                    <a:pt x="4861" y="2432"/>
                  </a:lnTo>
                  <a:lnTo>
                    <a:pt x="5208" y="2895"/>
                  </a:lnTo>
                  <a:lnTo>
                    <a:pt x="5440" y="3358"/>
                  </a:lnTo>
                  <a:lnTo>
                    <a:pt x="5555" y="3937"/>
                  </a:lnTo>
                  <a:lnTo>
                    <a:pt x="5555" y="3937"/>
                  </a:lnTo>
                  <a:lnTo>
                    <a:pt x="5555" y="4632"/>
                  </a:lnTo>
                  <a:lnTo>
                    <a:pt x="5324" y="5443"/>
                  </a:lnTo>
                  <a:lnTo>
                    <a:pt x="5208" y="6254"/>
                  </a:lnTo>
                  <a:lnTo>
                    <a:pt x="4977" y="7064"/>
                  </a:lnTo>
                  <a:lnTo>
                    <a:pt x="4861" y="7875"/>
                  </a:lnTo>
                  <a:lnTo>
                    <a:pt x="4745" y="8686"/>
                  </a:lnTo>
                  <a:lnTo>
                    <a:pt x="4630" y="9496"/>
                  </a:lnTo>
                  <a:lnTo>
                    <a:pt x="4514" y="10307"/>
                  </a:lnTo>
                  <a:lnTo>
                    <a:pt x="4514" y="10307"/>
                  </a:lnTo>
                  <a:lnTo>
                    <a:pt x="4630" y="10654"/>
                  </a:lnTo>
                  <a:lnTo>
                    <a:pt x="4861" y="10886"/>
                  </a:lnTo>
                  <a:lnTo>
                    <a:pt x="5092" y="11118"/>
                  </a:lnTo>
                  <a:lnTo>
                    <a:pt x="5208" y="11349"/>
                  </a:lnTo>
                  <a:lnTo>
                    <a:pt x="5440" y="11697"/>
                  </a:lnTo>
                  <a:lnTo>
                    <a:pt x="5555" y="11928"/>
                  </a:lnTo>
                  <a:lnTo>
                    <a:pt x="5787" y="12160"/>
                  </a:lnTo>
                  <a:lnTo>
                    <a:pt x="5903" y="12507"/>
                  </a:lnTo>
                  <a:lnTo>
                    <a:pt x="5903" y="12507"/>
                  </a:lnTo>
                  <a:lnTo>
                    <a:pt x="5440" y="12507"/>
                  </a:lnTo>
                  <a:lnTo>
                    <a:pt x="5208" y="12623"/>
                  </a:lnTo>
                  <a:lnTo>
                    <a:pt x="4861" y="12739"/>
                  </a:lnTo>
                  <a:lnTo>
                    <a:pt x="4514" y="12739"/>
                  </a:lnTo>
                  <a:lnTo>
                    <a:pt x="4167" y="12855"/>
                  </a:lnTo>
                  <a:lnTo>
                    <a:pt x="3935" y="13086"/>
                  </a:lnTo>
                  <a:lnTo>
                    <a:pt x="3588" y="13202"/>
                  </a:lnTo>
                  <a:lnTo>
                    <a:pt x="3356" y="13434"/>
                  </a:lnTo>
                  <a:lnTo>
                    <a:pt x="3356" y="13434"/>
                  </a:lnTo>
                  <a:lnTo>
                    <a:pt x="3704" y="13318"/>
                  </a:lnTo>
                  <a:lnTo>
                    <a:pt x="4051" y="13318"/>
                  </a:lnTo>
                  <a:lnTo>
                    <a:pt x="4398" y="13202"/>
                  </a:lnTo>
                  <a:lnTo>
                    <a:pt x="4745" y="13086"/>
                  </a:lnTo>
                  <a:lnTo>
                    <a:pt x="5092" y="13086"/>
                  </a:lnTo>
                  <a:lnTo>
                    <a:pt x="5440" y="12971"/>
                  </a:lnTo>
                  <a:lnTo>
                    <a:pt x="5787" y="12971"/>
                  </a:lnTo>
                  <a:lnTo>
                    <a:pt x="6134" y="12971"/>
                  </a:lnTo>
                  <a:lnTo>
                    <a:pt x="6134" y="12971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250" y="13086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318"/>
                  </a:lnTo>
                  <a:lnTo>
                    <a:pt x="6250" y="13318"/>
                  </a:lnTo>
                  <a:lnTo>
                    <a:pt x="5903" y="13318"/>
                  </a:lnTo>
                  <a:lnTo>
                    <a:pt x="5555" y="13318"/>
                  </a:lnTo>
                  <a:lnTo>
                    <a:pt x="5324" y="13434"/>
                  </a:lnTo>
                  <a:lnTo>
                    <a:pt x="5092" y="13550"/>
                  </a:lnTo>
                  <a:lnTo>
                    <a:pt x="4745" y="13781"/>
                  </a:lnTo>
                  <a:lnTo>
                    <a:pt x="4514" y="13897"/>
                  </a:lnTo>
                  <a:lnTo>
                    <a:pt x="4282" y="14129"/>
                  </a:lnTo>
                  <a:lnTo>
                    <a:pt x="4051" y="14244"/>
                  </a:lnTo>
                  <a:lnTo>
                    <a:pt x="4051" y="14244"/>
                  </a:lnTo>
                  <a:lnTo>
                    <a:pt x="4167" y="14244"/>
                  </a:lnTo>
                  <a:lnTo>
                    <a:pt x="4282" y="14244"/>
                  </a:lnTo>
                  <a:lnTo>
                    <a:pt x="4514" y="14244"/>
                  </a:lnTo>
                  <a:lnTo>
                    <a:pt x="4630" y="14129"/>
                  </a:lnTo>
                  <a:lnTo>
                    <a:pt x="4745" y="14013"/>
                  </a:lnTo>
                  <a:lnTo>
                    <a:pt x="4861" y="14013"/>
                  </a:lnTo>
                  <a:lnTo>
                    <a:pt x="5092" y="14013"/>
                  </a:lnTo>
                  <a:lnTo>
                    <a:pt x="5208" y="13897"/>
                  </a:lnTo>
                  <a:lnTo>
                    <a:pt x="5208" y="13897"/>
                  </a:lnTo>
                  <a:lnTo>
                    <a:pt x="5440" y="13897"/>
                  </a:lnTo>
                  <a:lnTo>
                    <a:pt x="5555" y="13897"/>
                  </a:lnTo>
                  <a:lnTo>
                    <a:pt x="5787" y="13897"/>
                  </a:lnTo>
                  <a:lnTo>
                    <a:pt x="6018" y="13781"/>
                  </a:lnTo>
                  <a:lnTo>
                    <a:pt x="6134" y="13781"/>
                  </a:lnTo>
                  <a:lnTo>
                    <a:pt x="6366" y="13781"/>
                  </a:lnTo>
                  <a:lnTo>
                    <a:pt x="6481" y="13781"/>
                  </a:lnTo>
                  <a:lnTo>
                    <a:pt x="6713" y="13781"/>
                  </a:lnTo>
                  <a:lnTo>
                    <a:pt x="6713" y="13781"/>
                  </a:lnTo>
                  <a:lnTo>
                    <a:pt x="6828" y="14244"/>
                  </a:lnTo>
                  <a:lnTo>
                    <a:pt x="7060" y="14592"/>
                  </a:lnTo>
                  <a:lnTo>
                    <a:pt x="7176" y="15055"/>
                  </a:lnTo>
                  <a:lnTo>
                    <a:pt x="7291" y="15518"/>
                  </a:lnTo>
                  <a:lnTo>
                    <a:pt x="7407" y="15982"/>
                  </a:lnTo>
                  <a:lnTo>
                    <a:pt x="7407" y="16329"/>
                  </a:lnTo>
                  <a:lnTo>
                    <a:pt x="7407" y="16792"/>
                  </a:lnTo>
                  <a:lnTo>
                    <a:pt x="7176" y="17255"/>
                  </a:lnTo>
                  <a:lnTo>
                    <a:pt x="7176" y="17255"/>
                  </a:lnTo>
                  <a:lnTo>
                    <a:pt x="6713" y="17371"/>
                  </a:lnTo>
                  <a:lnTo>
                    <a:pt x="6250" y="17487"/>
                  </a:lnTo>
                  <a:lnTo>
                    <a:pt x="5671" y="17603"/>
                  </a:lnTo>
                  <a:lnTo>
                    <a:pt x="5208" y="17487"/>
                  </a:lnTo>
                  <a:lnTo>
                    <a:pt x="4745" y="17371"/>
                  </a:lnTo>
                  <a:lnTo>
                    <a:pt x="4167" y="17255"/>
                  </a:lnTo>
                  <a:lnTo>
                    <a:pt x="3704" y="17024"/>
                  </a:lnTo>
                  <a:lnTo>
                    <a:pt x="3356" y="16792"/>
                  </a:lnTo>
                  <a:lnTo>
                    <a:pt x="3356" y="16792"/>
                  </a:lnTo>
                  <a:lnTo>
                    <a:pt x="2894" y="16329"/>
                  </a:lnTo>
                  <a:lnTo>
                    <a:pt x="2662" y="15634"/>
                  </a:lnTo>
                  <a:lnTo>
                    <a:pt x="2431" y="15055"/>
                  </a:lnTo>
                  <a:lnTo>
                    <a:pt x="2199" y="14360"/>
                  </a:lnTo>
                  <a:lnTo>
                    <a:pt x="1968" y="13665"/>
                  </a:lnTo>
                  <a:lnTo>
                    <a:pt x="1620" y="13202"/>
                  </a:lnTo>
                  <a:lnTo>
                    <a:pt x="1158" y="12855"/>
                  </a:lnTo>
                  <a:lnTo>
                    <a:pt x="463" y="12623"/>
                  </a:lnTo>
                  <a:lnTo>
                    <a:pt x="463" y="12623"/>
                  </a:lnTo>
                  <a:lnTo>
                    <a:pt x="232" y="12507"/>
                  </a:lnTo>
                  <a:lnTo>
                    <a:pt x="232" y="12391"/>
                  </a:lnTo>
                  <a:lnTo>
                    <a:pt x="116" y="12276"/>
                  </a:lnTo>
                  <a:lnTo>
                    <a:pt x="0" y="12044"/>
                  </a:lnTo>
                  <a:lnTo>
                    <a:pt x="0" y="11928"/>
                  </a:lnTo>
                  <a:lnTo>
                    <a:pt x="0" y="11812"/>
                  </a:lnTo>
                  <a:lnTo>
                    <a:pt x="0" y="11581"/>
                  </a:lnTo>
                  <a:lnTo>
                    <a:pt x="116" y="11465"/>
                  </a:lnTo>
                  <a:lnTo>
                    <a:pt x="116" y="11465"/>
                  </a:lnTo>
                  <a:lnTo>
                    <a:pt x="347" y="11118"/>
                  </a:lnTo>
                  <a:lnTo>
                    <a:pt x="579" y="10770"/>
                  </a:lnTo>
                  <a:lnTo>
                    <a:pt x="926" y="10539"/>
                  </a:lnTo>
                  <a:lnTo>
                    <a:pt x="1273" y="10307"/>
                  </a:lnTo>
                  <a:lnTo>
                    <a:pt x="1620" y="10075"/>
                  </a:lnTo>
                  <a:lnTo>
                    <a:pt x="1968" y="9844"/>
                  </a:lnTo>
                  <a:lnTo>
                    <a:pt x="2199" y="9612"/>
                  </a:lnTo>
                  <a:lnTo>
                    <a:pt x="2431" y="9265"/>
                  </a:lnTo>
                  <a:lnTo>
                    <a:pt x="2431" y="9265"/>
                  </a:lnTo>
                  <a:lnTo>
                    <a:pt x="2546" y="8570"/>
                  </a:lnTo>
                  <a:lnTo>
                    <a:pt x="2662" y="7991"/>
                  </a:lnTo>
                  <a:lnTo>
                    <a:pt x="2778" y="7412"/>
                  </a:lnTo>
                  <a:lnTo>
                    <a:pt x="2894" y="6833"/>
                  </a:lnTo>
                  <a:lnTo>
                    <a:pt x="3009" y="6254"/>
                  </a:lnTo>
                  <a:lnTo>
                    <a:pt x="3125" y="5675"/>
                  </a:lnTo>
                  <a:lnTo>
                    <a:pt x="3241" y="5095"/>
                  </a:lnTo>
                  <a:lnTo>
                    <a:pt x="3241" y="4516"/>
                  </a:lnTo>
                  <a:lnTo>
                    <a:pt x="3241" y="4516"/>
                  </a:lnTo>
                  <a:lnTo>
                    <a:pt x="3125" y="4053"/>
                  </a:lnTo>
                  <a:lnTo>
                    <a:pt x="3009" y="3706"/>
                  </a:lnTo>
                  <a:lnTo>
                    <a:pt x="2778" y="3243"/>
                  </a:lnTo>
                  <a:lnTo>
                    <a:pt x="2546" y="2895"/>
                  </a:lnTo>
                  <a:lnTo>
                    <a:pt x="2315" y="2548"/>
                  </a:lnTo>
                  <a:lnTo>
                    <a:pt x="2083" y="2200"/>
                  </a:lnTo>
                  <a:lnTo>
                    <a:pt x="1736" y="1853"/>
                  </a:lnTo>
                  <a:lnTo>
                    <a:pt x="1505" y="1505"/>
                  </a:lnTo>
                  <a:lnTo>
                    <a:pt x="1505" y="1505"/>
                  </a:lnTo>
                  <a:lnTo>
                    <a:pt x="1389" y="1390"/>
                  </a:lnTo>
                  <a:lnTo>
                    <a:pt x="1273" y="1274"/>
                  </a:lnTo>
                  <a:lnTo>
                    <a:pt x="1273" y="1158"/>
                  </a:lnTo>
                  <a:lnTo>
                    <a:pt x="1273" y="1042"/>
                  </a:lnTo>
                  <a:lnTo>
                    <a:pt x="1389" y="926"/>
                  </a:lnTo>
                  <a:lnTo>
                    <a:pt x="1389" y="811"/>
                  </a:lnTo>
                  <a:lnTo>
                    <a:pt x="1505" y="811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852" y="463"/>
                  </a:lnTo>
                  <a:lnTo>
                    <a:pt x="1852" y="463"/>
                  </a:lnTo>
                  <a:lnTo>
                    <a:pt x="1852" y="579"/>
                  </a:lnTo>
                  <a:lnTo>
                    <a:pt x="1736" y="695"/>
                  </a:lnTo>
                  <a:lnTo>
                    <a:pt x="1620" y="811"/>
                  </a:lnTo>
                  <a:lnTo>
                    <a:pt x="1505" y="926"/>
                  </a:lnTo>
                  <a:lnTo>
                    <a:pt x="1505" y="1042"/>
                  </a:lnTo>
                  <a:lnTo>
                    <a:pt x="1505" y="1158"/>
                  </a:lnTo>
                  <a:lnTo>
                    <a:pt x="1505" y="1274"/>
                  </a:lnTo>
                  <a:lnTo>
                    <a:pt x="1852" y="1274"/>
                  </a:lnTo>
                  <a:lnTo>
                    <a:pt x="1852" y="1274"/>
                  </a:lnTo>
                  <a:lnTo>
                    <a:pt x="1968" y="1158"/>
                  </a:lnTo>
                  <a:lnTo>
                    <a:pt x="2083" y="926"/>
                  </a:lnTo>
                  <a:lnTo>
                    <a:pt x="2315" y="695"/>
                  </a:lnTo>
                  <a:lnTo>
                    <a:pt x="2431" y="579"/>
                  </a:lnTo>
                  <a:lnTo>
                    <a:pt x="2662" y="463"/>
                  </a:lnTo>
                  <a:lnTo>
                    <a:pt x="2894" y="347"/>
                  </a:lnTo>
                  <a:lnTo>
                    <a:pt x="3125" y="116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1716840" y="4884840"/>
              <a:ext cx="41400" cy="80640"/>
            </a:xfrm>
            <a:custGeom>
              <a:avLst/>
              <a:gdLst/>
              <a:ahLst/>
              <a:rect l="l" t="t" r="r" b="b"/>
              <a:pathLst>
                <a:path w="1158" h="1506">
                  <a:moveTo>
                    <a:pt x="1158" y="0"/>
                  </a:moveTo>
                  <a:lnTo>
                    <a:pt x="1158" y="116"/>
                  </a:lnTo>
                  <a:lnTo>
                    <a:pt x="1042" y="232"/>
                  </a:lnTo>
                  <a:lnTo>
                    <a:pt x="1042" y="348"/>
                  </a:lnTo>
                  <a:lnTo>
                    <a:pt x="926" y="463"/>
                  </a:lnTo>
                  <a:lnTo>
                    <a:pt x="811" y="463"/>
                  </a:lnTo>
                  <a:lnTo>
                    <a:pt x="695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463" y="811"/>
                  </a:lnTo>
                  <a:lnTo>
                    <a:pt x="463" y="927"/>
                  </a:lnTo>
                  <a:lnTo>
                    <a:pt x="348" y="1042"/>
                  </a:lnTo>
                  <a:lnTo>
                    <a:pt x="348" y="1158"/>
                  </a:lnTo>
                  <a:lnTo>
                    <a:pt x="232" y="1274"/>
                  </a:lnTo>
                  <a:lnTo>
                    <a:pt x="232" y="1274"/>
                  </a:lnTo>
                  <a:lnTo>
                    <a:pt x="116" y="1390"/>
                  </a:lnTo>
                  <a:lnTo>
                    <a:pt x="116" y="1506"/>
                  </a:lnTo>
                  <a:lnTo>
                    <a:pt x="116" y="1506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1042"/>
                  </a:lnTo>
                  <a:lnTo>
                    <a:pt x="0" y="811"/>
                  </a:lnTo>
                  <a:lnTo>
                    <a:pt x="116" y="695"/>
                  </a:lnTo>
                  <a:lnTo>
                    <a:pt x="232" y="579"/>
                  </a:lnTo>
                  <a:lnTo>
                    <a:pt x="348" y="463"/>
                  </a:lnTo>
                  <a:lnTo>
                    <a:pt x="348" y="348"/>
                  </a:lnTo>
                  <a:lnTo>
                    <a:pt x="348" y="348"/>
                  </a:lnTo>
                  <a:lnTo>
                    <a:pt x="463" y="232"/>
                  </a:lnTo>
                  <a:lnTo>
                    <a:pt x="579" y="232"/>
                  </a:lnTo>
                  <a:lnTo>
                    <a:pt x="695" y="116"/>
                  </a:lnTo>
                  <a:lnTo>
                    <a:pt x="811" y="116"/>
                  </a:lnTo>
                  <a:lnTo>
                    <a:pt x="811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1729440" y="4922280"/>
              <a:ext cx="28800" cy="49680"/>
            </a:xfrm>
            <a:custGeom>
              <a:avLst/>
              <a:gdLst/>
              <a:ahLst/>
              <a:rect l="l" t="t" r="r" b="b"/>
              <a:pathLst>
                <a:path w="810" h="926">
                  <a:moveTo>
                    <a:pt x="810" y="0"/>
                  </a:moveTo>
                  <a:lnTo>
                    <a:pt x="694" y="116"/>
                  </a:lnTo>
                  <a:lnTo>
                    <a:pt x="694" y="232"/>
                  </a:lnTo>
                  <a:lnTo>
                    <a:pt x="694" y="347"/>
                  </a:lnTo>
                  <a:lnTo>
                    <a:pt x="578" y="463"/>
                  </a:lnTo>
                  <a:lnTo>
                    <a:pt x="463" y="579"/>
                  </a:lnTo>
                  <a:lnTo>
                    <a:pt x="463" y="695"/>
                  </a:lnTo>
                  <a:lnTo>
                    <a:pt x="347" y="811"/>
                  </a:lnTo>
                  <a:lnTo>
                    <a:pt x="347" y="926"/>
                  </a:lnTo>
                  <a:lnTo>
                    <a:pt x="347" y="926"/>
                  </a:lnTo>
                  <a:lnTo>
                    <a:pt x="0" y="926"/>
                  </a:lnTo>
                  <a:lnTo>
                    <a:pt x="0" y="926"/>
                  </a:lnTo>
                  <a:lnTo>
                    <a:pt x="0" y="811"/>
                  </a:lnTo>
                  <a:lnTo>
                    <a:pt x="115" y="579"/>
                  </a:lnTo>
                  <a:lnTo>
                    <a:pt x="115" y="463"/>
                  </a:lnTo>
                  <a:lnTo>
                    <a:pt x="231" y="347"/>
                  </a:lnTo>
                  <a:lnTo>
                    <a:pt x="347" y="232"/>
                  </a:lnTo>
                  <a:lnTo>
                    <a:pt x="463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1758240" y="4965840"/>
              <a:ext cx="12240" cy="18360"/>
            </a:xfrm>
            <a:custGeom>
              <a:avLst/>
              <a:gdLst/>
              <a:ahLst/>
              <a:rect l="l" t="t" r="r" b="b"/>
              <a:pathLst>
                <a:path w="347" h="347">
                  <a:moveTo>
                    <a:pt x="231" y="347"/>
                  </a:moveTo>
                  <a:lnTo>
                    <a:pt x="0" y="231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1063080" y="5140080"/>
              <a:ext cx="310320" cy="690120"/>
            </a:xfrm>
            <a:custGeom>
              <a:avLst/>
              <a:gdLst/>
              <a:ahLst/>
              <a:rect l="l" t="t" r="r" b="b"/>
              <a:pathLst>
                <a:path w="8680" h="12855">
                  <a:moveTo>
                    <a:pt x="7059" y="0"/>
                  </a:moveTo>
                  <a:lnTo>
                    <a:pt x="6944" y="116"/>
                  </a:lnTo>
                  <a:lnTo>
                    <a:pt x="6712" y="232"/>
                  </a:lnTo>
                  <a:lnTo>
                    <a:pt x="6596" y="348"/>
                  </a:lnTo>
                  <a:lnTo>
                    <a:pt x="6481" y="464"/>
                  </a:lnTo>
                  <a:lnTo>
                    <a:pt x="6365" y="579"/>
                  </a:lnTo>
                  <a:lnTo>
                    <a:pt x="6134" y="695"/>
                  </a:lnTo>
                  <a:lnTo>
                    <a:pt x="6018" y="811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1043"/>
                  </a:lnTo>
                  <a:lnTo>
                    <a:pt x="6018" y="1043"/>
                  </a:lnTo>
                  <a:lnTo>
                    <a:pt x="6018" y="1158"/>
                  </a:lnTo>
                  <a:lnTo>
                    <a:pt x="6134" y="1158"/>
                  </a:lnTo>
                  <a:lnTo>
                    <a:pt x="6249" y="1274"/>
                  </a:lnTo>
                  <a:lnTo>
                    <a:pt x="6249" y="1158"/>
                  </a:lnTo>
                  <a:lnTo>
                    <a:pt x="6365" y="1158"/>
                  </a:lnTo>
                  <a:lnTo>
                    <a:pt x="6365" y="1158"/>
                  </a:lnTo>
                  <a:lnTo>
                    <a:pt x="7291" y="348"/>
                  </a:lnTo>
                  <a:lnTo>
                    <a:pt x="7291" y="348"/>
                  </a:lnTo>
                  <a:lnTo>
                    <a:pt x="7291" y="464"/>
                  </a:lnTo>
                  <a:lnTo>
                    <a:pt x="7291" y="579"/>
                  </a:lnTo>
                  <a:lnTo>
                    <a:pt x="7291" y="695"/>
                  </a:lnTo>
                  <a:lnTo>
                    <a:pt x="7175" y="695"/>
                  </a:lnTo>
                  <a:lnTo>
                    <a:pt x="7059" y="811"/>
                  </a:lnTo>
                  <a:lnTo>
                    <a:pt x="6944" y="927"/>
                  </a:lnTo>
                  <a:lnTo>
                    <a:pt x="6828" y="1043"/>
                  </a:lnTo>
                  <a:lnTo>
                    <a:pt x="6828" y="1158"/>
                  </a:lnTo>
                  <a:lnTo>
                    <a:pt x="6828" y="1158"/>
                  </a:lnTo>
                  <a:lnTo>
                    <a:pt x="6712" y="1158"/>
                  </a:lnTo>
                  <a:lnTo>
                    <a:pt x="6712" y="1158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828" y="1506"/>
                  </a:lnTo>
                  <a:lnTo>
                    <a:pt x="6944" y="1506"/>
                  </a:lnTo>
                  <a:lnTo>
                    <a:pt x="7059" y="1506"/>
                  </a:lnTo>
                  <a:lnTo>
                    <a:pt x="7175" y="1390"/>
                  </a:lnTo>
                  <a:lnTo>
                    <a:pt x="7175" y="1274"/>
                  </a:lnTo>
                  <a:lnTo>
                    <a:pt x="7291" y="1158"/>
                  </a:lnTo>
                  <a:lnTo>
                    <a:pt x="7407" y="1158"/>
                  </a:lnTo>
                  <a:lnTo>
                    <a:pt x="7522" y="1043"/>
                  </a:lnTo>
                  <a:lnTo>
                    <a:pt x="7522" y="1043"/>
                  </a:lnTo>
                  <a:lnTo>
                    <a:pt x="7638" y="1274"/>
                  </a:lnTo>
                  <a:lnTo>
                    <a:pt x="7754" y="1506"/>
                  </a:lnTo>
                  <a:lnTo>
                    <a:pt x="7870" y="1737"/>
                  </a:lnTo>
                  <a:lnTo>
                    <a:pt x="8101" y="2085"/>
                  </a:lnTo>
                  <a:lnTo>
                    <a:pt x="8101" y="2316"/>
                  </a:lnTo>
                  <a:lnTo>
                    <a:pt x="8217" y="2548"/>
                  </a:lnTo>
                  <a:lnTo>
                    <a:pt x="8101" y="2780"/>
                  </a:lnTo>
                  <a:lnTo>
                    <a:pt x="7985" y="3011"/>
                  </a:lnTo>
                  <a:lnTo>
                    <a:pt x="7985" y="3011"/>
                  </a:lnTo>
                  <a:lnTo>
                    <a:pt x="7522" y="3359"/>
                  </a:lnTo>
                  <a:lnTo>
                    <a:pt x="7291" y="3706"/>
                  </a:lnTo>
                  <a:lnTo>
                    <a:pt x="6944" y="4054"/>
                  </a:lnTo>
                  <a:lnTo>
                    <a:pt x="6712" y="4517"/>
                  </a:lnTo>
                  <a:lnTo>
                    <a:pt x="6481" y="4864"/>
                  </a:lnTo>
                  <a:lnTo>
                    <a:pt x="6249" y="5212"/>
                  </a:lnTo>
                  <a:lnTo>
                    <a:pt x="5902" y="5559"/>
                  </a:lnTo>
                  <a:lnTo>
                    <a:pt x="5555" y="5791"/>
                  </a:lnTo>
                  <a:lnTo>
                    <a:pt x="5555" y="5791"/>
                  </a:lnTo>
                  <a:lnTo>
                    <a:pt x="5439" y="6486"/>
                  </a:lnTo>
                  <a:lnTo>
                    <a:pt x="5323" y="7180"/>
                  </a:lnTo>
                  <a:lnTo>
                    <a:pt x="5208" y="7760"/>
                  </a:lnTo>
                  <a:lnTo>
                    <a:pt x="5208" y="8454"/>
                  </a:lnTo>
                  <a:lnTo>
                    <a:pt x="5208" y="9149"/>
                  </a:lnTo>
                  <a:lnTo>
                    <a:pt x="5323" y="9844"/>
                  </a:lnTo>
                  <a:lnTo>
                    <a:pt x="5555" y="10423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6018" y="10886"/>
                  </a:lnTo>
                  <a:lnTo>
                    <a:pt x="6018" y="10771"/>
                  </a:lnTo>
                  <a:lnTo>
                    <a:pt x="6018" y="10771"/>
                  </a:lnTo>
                  <a:lnTo>
                    <a:pt x="6018" y="10655"/>
                  </a:lnTo>
                  <a:lnTo>
                    <a:pt x="6018" y="10539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6018" y="10423"/>
                  </a:lnTo>
                  <a:lnTo>
                    <a:pt x="6134" y="10423"/>
                  </a:lnTo>
                  <a:lnTo>
                    <a:pt x="6134" y="10539"/>
                  </a:lnTo>
                  <a:lnTo>
                    <a:pt x="6249" y="10539"/>
                  </a:lnTo>
                  <a:lnTo>
                    <a:pt x="6249" y="10655"/>
                  </a:lnTo>
                  <a:lnTo>
                    <a:pt x="6365" y="10655"/>
                  </a:lnTo>
                  <a:lnTo>
                    <a:pt x="6365" y="10771"/>
                  </a:lnTo>
                  <a:lnTo>
                    <a:pt x="6481" y="10886"/>
                  </a:lnTo>
                  <a:lnTo>
                    <a:pt x="6481" y="10886"/>
                  </a:lnTo>
                  <a:lnTo>
                    <a:pt x="6365" y="11465"/>
                  </a:lnTo>
                  <a:lnTo>
                    <a:pt x="6365" y="11465"/>
                  </a:lnTo>
                  <a:lnTo>
                    <a:pt x="6481" y="11465"/>
                  </a:lnTo>
                  <a:lnTo>
                    <a:pt x="6596" y="11465"/>
                  </a:lnTo>
                  <a:lnTo>
                    <a:pt x="6712" y="11465"/>
                  </a:lnTo>
                  <a:lnTo>
                    <a:pt x="6712" y="11350"/>
                  </a:lnTo>
                  <a:lnTo>
                    <a:pt x="6712" y="11234"/>
                  </a:lnTo>
                  <a:lnTo>
                    <a:pt x="6828" y="11118"/>
                  </a:lnTo>
                  <a:lnTo>
                    <a:pt x="6828" y="11002"/>
                  </a:lnTo>
                  <a:lnTo>
                    <a:pt x="6944" y="10886"/>
                  </a:lnTo>
                  <a:lnTo>
                    <a:pt x="6944" y="10886"/>
                  </a:lnTo>
                  <a:lnTo>
                    <a:pt x="7175" y="10886"/>
                  </a:lnTo>
                  <a:lnTo>
                    <a:pt x="7407" y="10886"/>
                  </a:lnTo>
                  <a:lnTo>
                    <a:pt x="7638" y="10886"/>
                  </a:lnTo>
                  <a:lnTo>
                    <a:pt x="7870" y="10886"/>
                  </a:lnTo>
                  <a:lnTo>
                    <a:pt x="8101" y="11002"/>
                  </a:lnTo>
                  <a:lnTo>
                    <a:pt x="8332" y="11002"/>
                  </a:lnTo>
                  <a:lnTo>
                    <a:pt x="8564" y="11234"/>
                  </a:lnTo>
                  <a:lnTo>
                    <a:pt x="8564" y="11581"/>
                  </a:lnTo>
                  <a:lnTo>
                    <a:pt x="8564" y="11581"/>
                  </a:lnTo>
                  <a:lnTo>
                    <a:pt x="8680" y="11929"/>
                  </a:lnTo>
                  <a:lnTo>
                    <a:pt x="8564" y="12160"/>
                  </a:lnTo>
                  <a:lnTo>
                    <a:pt x="8448" y="12392"/>
                  </a:lnTo>
                  <a:lnTo>
                    <a:pt x="8217" y="12508"/>
                  </a:lnTo>
                  <a:lnTo>
                    <a:pt x="7985" y="12624"/>
                  </a:lnTo>
                  <a:lnTo>
                    <a:pt x="7638" y="12624"/>
                  </a:lnTo>
                  <a:lnTo>
                    <a:pt x="7291" y="12739"/>
                  </a:lnTo>
                  <a:lnTo>
                    <a:pt x="7059" y="12855"/>
                  </a:lnTo>
                  <a:lnTo>
                    <a:pt x="7059" y="12855"/>
                  </a:lnTo>
                  <a:lnTo>
                    <a:pt x="6596" y="12855"/>
                  </a:lnTo>
                  <a:lnTo>
                    <a:pt x="6018" y="12739"/>
                  </a:lnTo>
                  <a:lnTo>
                    <a:pt x="5555" y="12739"/>
                  </a:lnTo>
                  <a:lnTo>
                    <a:pt x="5092" y="12624"/>
                  </a:lnTo>
                  <a:lnTo>
                    <a:pt x="4513" y="12508"/>
                  </a:lnTo>
                  <a:lnTo>
                    <a:pt x="4166" y="12276"/>
                  </a:lnTo>
                  <a:lnTo>
                    <a:pt x="3703" y="12044"/>
                  </a:lnTo>
                  <a:lnTo>
                    <a:pt x="3240" y="11813"/>
                  </a:lnTo>
                  <a:lnTo>
                    <a:pt x="3240" y="11813"/>
                  </a:lnTo>
                  <a:lnTo>
                    <a:pt x="2893" y="11234"/>
                  </a:lnTo>
                  <a:lnTo>
                    <a:pt x="2662" y="10539"/>
                  </a:lnTo>
                  <a:lnTo>
                    <a:pt x="2430" y="9960"/>
                  </a:lnTo>
                  <a:lnTo>
                    <a:pt x="2199" y="9265"/>
                  </a:lnTo>
                  <a:lnTo>
                    <a:pt x="1851" y="8686"/>
                  </a:lnTo>
                  <a:lnTo>
                    <a:pt x="1504" y="8107"/>
                  </a:lnTo>
                  <a:lnTo>
                    <a:pt x="926" y="7644"/>
                  </a:lnTo>
                  <a:lnTo>
                    <a:pt x="231" y="7412"/>
                  </a:lnTo>
                  <a:lnTo>
                    <a:pt x="231" y="7412"/>
                  </a:lnTo>
                  <a:lnTo>
                    <a:pt x="115" y="7296"/>
                  </a:lnTo>
                  <a:lnTo>
                    <a:pt x="115" y="7296"/>
                  </a:lnTo>
                  <a:lnTo>
                    <a:pt x="0" y="7180"/>
                  </a:lnTo>
                  <a:lnTo>
                    <a:pt x="0" y="7065"/>
                  </a:lnTo>
                  <a:lnTo>
                    <a:pt x="0" y="6949"/>
                  </a:lnTo>
                  <a:lnTo>
                    <a:pt x="0" y="6833"/>
                  </a:lnTo>
                  <a:lnTo>
                    <a:pt x="0" y="6717"/>
                  </a:lnTo>
                  <a:lnTo>
                    <a:pt x="0" y="6601"/>
                  </a:lnTo>
                  <a:lnTo>
                    <a:pt x="0" y="6601"/>
                  </a:lnTo>
                  <a:lnTo>
                    <a:pt x="231" y="6370"/>
                  </a:lnTo>
                  <a:lnTo>
                    <a:pt x="463" y="6138"/>
                  </a:lnTo>
                  <a:lnTo>
                    <a:pt x="810" y="6022"/>
                  </a:lnTo>
                  <a:lnTo>
                    <a:pt x="1157" y="5907"/>
                  </a:lnTo>
                  <a:lnTo>
                    <a:pt x="1504" y="5907"/>
                  </a:lnTo>
                  <a:lnTo>
                    <a:pt x="1851" y="5791"/>
                  </a:lnTo>
                  <a:lnTo>
                    <a:pt x="2199" y="5675"/>
                  </a:lnTo>
                  <a:lnTo>
                    <a:pt x="2430" y="5559"/>
                  </a:lnTo>
                  <a:lnTo>
                    <a:pt x="2430" y="5559"/>
                  </a:lnTo>
                  <a:lnTo>
                    <a:pt x="3009" y="5328"/>
                  </a:lnTo>
                  <a:lnTo>
                    <a:pt x="3472" y="4980"/>
                  </a:lnTo>
                  <a:lnTo>
                    <a:pt x="3935" y="4633"/>
                  </a:lnTo>
                  <a:lnTo>
                    <a:pt x="4398" y="4285"/>
                  </a:lnTo>
                  <a:lnTo>
                    <a:pt x="4860" y="3822"/>
                  </a:lnTo>
                  <a:lnTo>
                    <a:pt x="5323" y="3475"/>
                  </a:lnTo>
                  <a:lnTo>
                    <a:pt x="5671" y="3011"/>
                  </a:lnTo>
                  <a:lnTo>
                    <a:pt x="6018" y="2432"/>
                  </a:lnTo>
                  <a:lnTo>
                    <a:pt x="6018" y="2432"/>
                  </a:lnTo>
                  <a:lnTo>
                    <a:pt x="6018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249" y="2548"/>
                  </a:lnTo>
                  <a:lnTo>
                    <a:pt x="6249" y="2548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201"/>
                  </a:lnTo>
                  <a:lnTo>
                    <a:pt x="6134" y="1969"/>
                  </a:lnTo>
                  <a:lnTo>
                    <a:pt x="6018" y="1737"/>
                  </a:lnTo>
                  <a:lnTo>
                    <a:pt x="5902" y="1506"/>
                  </a:lnTo>
                  <a:lnTo>
                    <a:pt x="5786" y="1274"/>
                  </a:lnTo>
                  <a:lnTo>
                    <a:pt x="5671" y="1043"/>
                  </a:lnTo>
                  <a:lnTo>
                    <a:pt x="5555" y="811"/>
                  </a:lnTo>
                  <a:lnTo>
                    <a:pt x="5439" y="579"/>
                  </a:lnTo>
                  <a:lnTo>
                    <a:pt x="5439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811"/>
                  </a:lnTo>
                  <a:lnTo>
                    <a:pt x="5671" y="811"/>
                  </a:lnTo>
                  <a:lnTo>
                    <a:pt x="5786" y="811"/>
                  </a:lnTo>
                  <a:lnTo>
                    <a:pt x="5786" y="811"/>
                  </a:lnTo>
                  <a:lnTo>
                    <a:pt x="5902" y="695"/>
                  </a:lnTo>
                  <a:lnTo>
                    <a:pt x="6018" y="579"/>
                  </a:lnTo>
                  <a:lnTo>
                    <a:pt x="6249" y="464"/>
                  </a:lnTo>
                  <a:lnTo>
                    <a:pt x="6365" y="348"/>
                  </a:lnTo>
                  <a:lnTo>
                    <a:pt x="6481" y="232"/>
                  </a:lnTo>
                  <a:lnTo>
                    <a:pt x="6712" y="116"/>
                  </a:lnTo>
                  <a:lnTo>
                    <a:pt x="6828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8" name=""/>
          <p:cNvSpPr/>
          <p:nvPr/>
        </p:nvSpPr>
        <p:spPr>
          <a:xfrm>
            <a:off x="685800" y="1447920"/>
            <a:ext cx="758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We have seen how t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2819520" y="1981080"/>
            <a:ext cx="5333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4800" indent="-3348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dentify polynomials and the terms within t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0" name="" descr=""/>
          <p:cNvPicPr/>
          <p:nvPr/>
        </p:nvPicPr>
        <p:blipFill>
          <a:blip r:embed="rId1"/>
          <a:stretch/>
        </p:blipFill>
        <p:spPr>
          <a:xfrm>
            <a:off x="3505320" y="3048120"/>
            <a:ext cx="4495680" cy="33526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110" dur="indefinite" restart="never" nodeType="tmRoot">
          <p:childTnLst>
            <p:seq>
              <p:cTn id="1111" dur="indefinite" nodeType="mainSeq">
                <p:childTnLst>
                  <p:par>
                    <p:cTn id="1112" fill="hold">
                      <p:stCondLst>
                        <p:cond delay="indefinite"/>
                      </p:stCondLst>
                      <p:childTnLst>
                        <p:par>
                          <p:cTn id="1113" fill="hold">
                            <p:stCondLst>
                              <p:cond delay="0"/>
                            </p:stCondLst>
                            <p:childTnLst>
                              <p:par>
                                <p:cTn id="11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6" dur="500" fill="hold"/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7" dur="500" fill="hold"/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8" fill="hold">
                      <p:stCondLst>
                        <p:cond delay="indefinite"/>
                      </p:stCondLst>
                      <p:childTnLst>
                        <p:par>
                          <p:cTn id="1119" fill="hold">
                            <p:stCondLst>
                              <p:cond delay="0"/>
                            </p:stCondLst>
                            <p:childTnLst>
                              <p:par>
                                <p:cTn id="11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2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"/>
          <p:cNvSpPr/>
          <p:nvPr/>
        </p:nvSpPr>
        <p:spPr>
          <a:xfrm>
            <a:off x="3124080" y="60948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2" name=""/>
          <p:cNvGrpSpPr/>
          <p:nvPr/>
        </p:nvGrpSpPr>
        <p:grpSpPr>
          <a:xfrm>
            <a:off x="533520" y="2895480"/>
            <a:ext cx="2209680" cy="2971800"/>
            <a:chOff x="533520" y="2895480"/>
            <a:chExt cx="2209680" cy="2971800"/>
          </a:xfrm>
        </p:grpSpPr>
        <p:sp>
          <p:nvSpPr>
            <p:cNvPr id="1043" name=""/>
            <p:cNvSpPr/>
            <p:nvPr/>
          </p:nvSpPr>
          <p:spPr>
            <a:xfrm>
              <a:off x="533520" y="2895480"/>
              <a:ext cx="2209680" cy="297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541440" y="2907720"/>
              <a:ext cx="2193480" cy="2946960"/>
            </a:xfrm>
            <a:custGeom>
              <a:avLst/>
              <a:gdLst/>
              <a:ahLst/>
              <a:rect l="l" t="t" r="r" b="b"/>
              <a:pathLst>
                <a:path w="61339" h="54893">
                  <a:moveTo>
                    <a:pt x="20369" y="694"/>
                  </a:moveTo>
                  <a:lnTo>
                    <a:pt x="20485" y="579"/>
                  </a:lnTo>
                  <a:lnTo>
                    <a:pt x="20485" y="463"/>
                  </a:lnTo>
                  <a:lnTo>
                    <a:pt x="20601" y="463"/>
                  </a:lnTo>
                  <a:lnTo>
                    <a:pt x="20717" y="347"/>
                  </a:lnTo>
                  <a:lnTo>
                    <a:pt x="20832" y="347"/>
                  </a:lnTo>
                  <a:lnTo>
                    <a:pt x="20948" y="347"/>
                  </a:lnTo>
                  <a:lnTo>
                    <a:pt x="21064" y="231"/>
                  </a:lnTo>
                  <a:lnTo>
                    <a:pt x="21179" y="231"/>
                  </a:lnTo>
                  <a:lnTo>
                    <a:pt x="21179" y="231"/>
                  </a:lnTo>
                  <a:lnTo>
                    <a:pt x="21411" y="231"/>
                  </a:lnTo>
                  <a:lnTo>
                    <a:pt x="21527" y="347"/>
                  </a:lnTo>
                  <a:lnTo>
                    <a:pt x="21758" y="463"/>
                  </a:lnTo>
                  <a:lnTo>
                    <a:pt x="21990" y="579"/>
                  </a:lnTo>
                  <a:lnTo>
                    <a:pt x="22105" y="694"/>
                  </a:lnTo>
                  <a:lnTo>
                    <a:pt x="22221" y="810"/>
                  </a:lnTo>
                  <a:lnTo>
                    <a:pt x="22453" y="1042"/>
                  </a:lnTo>
                  <a:lnTo>
                    <a:pt x="22568" y="1274"/>
                  </a:lnTo>
                  <a:lnTo>
                    <a:pt x="22568" y="1274"/>
                  </a:lnTo>
                  <a:lnTo>
                    <a:pt x="22684" y="1158"/>
                  </a:lnTo>
                  <a:lnTo>
                    <a:pt x="22915" y="1042"/>
                  </a:lnTo>
                  <a:lnTo>
                    <a:pt x="23031" y="1042"/>
                  </a:lnTo>
                  <a:lnTo>
                    <a:pt x="23147" y="1042"/>
                  </a:lnTo>
                  <a:lnTo>
                    <a:pt x="23378" y="1042"/>
                  </a:lnTo>
                  <a:lnTo>
                    <a:pt x="23494" y="1042"/>
                  </a:lnTo>
                  <a:lnTo>
                    <a:pt x="23726" y="1042"/>
                  </a:lnTo>
                  <a:lnTo>
                    <a:pt x="23841" y="1158"/>
                  </a:lnTo>
                  <a:lnTo>
                    <a:pt x="23841" y="1158"/>
                  </a:lnTo>
                  <a:lnTo>
                    <a:pt x="23957" y="1158"/>
                  </a:lnTo>
                  <a:lnTo>
                    <a:pt x="24188" y="1274"/>
                  </a:lnTo>
                  <a:lnTo>
                    <a:pt x="24304" y="1389"/>
                  </a:lnTo>
                  <a:lnTo>
                    <a:pt x="24420" y="1505"/>
                  </a:lnTo>
                  <a:lnTo>
                    <a:pt x="24536" y="1621"/>
                  </a:lnTo>
                  <a:lnTo>
                    <a:pt x="24651" y="1621"/>
                  </a:lnTo>
                  <a:lnTo>
                    <a:pt x="24767" y="1621"/>
                  </a:lnTo>
                  <a:lnTo>
                    <a:pt x="24999" y="1389"/>
                  </a:lnTo>
                  <a:lnTo>
                    <a:pt x="24999" y="1389"/>
                  </a:lnTo>
                  <a:lnTo>
                    <a:pt x="25114" y="1389"/>
                  </a:lnTo>
                  <a:lnTo>
                    <a:pt x="25346" y="1505"/>
                  </a:lnTo>
                  <a:lnTo>
                    <a:pt x="25462" y="1505"/>
                  </a:lnTo>
                  <a:lnTo>
                    <a:pt x="25577" y="1621"/>
                  </a:lnTo>
                  <a:lnTo>
                    <a:pt x="25693" y="1737"/>
                  </a:lnTo>
                  <a:lnTo>
                    <a:pt x="25809" y="1853"/>
                  </a:lnTo>
                  <a:lnTo>
                    <a:pt x="25924" y="1968"/>
                  </a:lnTo>
                  <a:lnTo>
                    <a:pt x="26040" y="1968"/>
                  </a:lnTo>
                  <a:lnTo>
                    <a:pt x="26040" y="1968"/>
                  </a:lnTo>
                  <a:lnTo>
                    <a:pt x="26272" y="1968"/>
                  </a:lnTo>
                  <a:lnTo>
                    <a:pt x="26503" y="1853"/>
                  </a:lnTo>
                  <a:lnTo>
                    <a:pt x="26735" y="1853"/>
                  </a:lnTo>
                  <a:lnTo>
                    <a:pt x="26966" y="1737"/>
                  </a:lnTo>
                  <a:lnTo>
                    <a:pt x="27082" y="1737"/>
                  </a:lnTo>
                  <a:lnTo>
                    <a:pt x="27313" y="1737"/>
                  </a:lnTo>
                  <a:lnTo>
                    <a:pt x="27545" y="1853"/>
                  </a:lnTo>
                  <a:lnTo>
                    <a:pt x="27660" y="1968"/>
                  </a:lnTo>
                  <a:lnTo>
                    <a:pt x="27660" y="1968"/>
                  </a:lnTo>
                  <a:lnTo>
                    <a:pt x="28123" y="2316"/>
                  </a:lnTo>
                  <a:lnTo>
                    <a:pt x="28123" y="2316"/>
                  </a:lnTo>
                  <a:lnTo>
                    <a:pt x="28239" y="2084"/>
                  </a:lnTo>
                  <a:lnTo>
                    <a:pt x="28471" y="1968"/>
                  </a:lnTo>
                  <a:lnTo>
                    <a:pt x="28586" y="1968"/>
                  </a:lnTo>
                  <a:lnTo>
                    <a:pt x="28818" y="1968"/>
                  </a:lnTo>
                  <a:lnTo>
                    <a:pt x="29049" y="1968"/>
                  </a:lnTo>
                  <a:lnTo>
                    <a:pt x="29281" y="1968"/>
                  </a:lnTo>
                  <a:lnTo>
                    <a:pt x="29512" y="1968"/>
                  </a:lnTo>
                  <a:lnTo>
                    <a:pt x="29744" y="1968"/>
                  </a:lnTo>
                  <a:lnTo>
                    <a:pt x="29744" y="1968"/>
                  </a:lnTo>
                  <a:lnTo>
                    <a:pt x="29859" y="2084"/>
                  </a:lnTo>
                  <a:lnTo>
                    <a:pt x="29975" y="2200"/>
                  </a:lnTo>
                  <a:lnTo>
                    <a:pt x="29975" y="2316"/>
                  </a:lnTo>
                  <a:lnTo>
                    <a:pt x="30091" y="2432"/>
                  </a:lnTo>
                  <a:lnTo>
                    <a:pt x="30207" y="2547"/>
                  </a:lnTo>
                  <a:lnTo>
                    <a:pt x="30322" y="2663"/>
                  </a:lnTo>
                  <a:lnTo>
                    <a:pt x="30438" y="2779"/>
                  </a:lnTo>
                  <a:lnTo>
                    <a:pt x="30554" y="2779"/>
                  </a:lnTo>
                  <a:lnTo>
                    <a:pt x="30554" y="2779"/>
                  </a:lnTo>
                  <a:lnTo>
                    <a:pt x="30670" y="2779"/>
                  </a:lnTo>
                  <a:lnTo>
                    <a:pt x="30785" y="2663"/>
                  </a:lnTo>
                  <a:lnTo>
                    <a:pt x="30901" y="2663"/>
                  </a:lnTo>
                  <a:lnTo>
                    <a:pt x="31132" y="2663"/>
                  </a:lnTo>
                  <a:lnTo>
                    <a:pt x="31248" y="2663"/>
                  </a:lnTo>
                  <a:lnTo>
                    <a:pt x="31364" y="2663"/>
                  </a:lnTo>
                  <a:lnTo>
                    <a:pt x="31595" y="2663"/>
                  </a:lnTo>
                  <a:lnTo>
                    <a:pt x="31711" y="2663"/>
                  </a:lnTo>
                  <a:lnTo>
                    <a:pt x="31711" y="2663"/>
                  </a:lnTo>
                  <a:lnTo>
                    <a:pt x="31943" y="2895"/>
                  </a:lnTo>
                  <a:lnTo>
                    <a:pt x="32058" y="3011"/>
                  </a:lnTo>
                  <a:lnTo>
                    <a:pt x="32174" y="3126"/>
                  </a:lnTo>
                  <a:lnTo>
                    <a:pt x="32290" y="3358"/>
                  </a:lnTo>
                  <a:lnTo>
                    <a:pt x="32521" y="3474"/>
                  </a:lnTo>
                  <a:lnTo>
                    <a:pt x="32637" y="3474"/>
                  </a:lnTo>
                  <a:lnTo>
                    <a:pt x="-32668" y="3474"/>
                  </a:lnTo>
                  <a:lnTo>
                    <a:pt x="-32436" y="3242"/>
                  </a:lnTo>
                  <a:lnTo>
                    <a:pt x="-32436" y="3242"/>
                  </a:lnTo>
                  <a:lnTo>
                    <a:pt x="-32205" y="3242"/>
                  </a:lnTo>
                  <a:lnTo>
                    <a:pt x="-31973" y="3242"/>
                  </a:lnTo>
                  <a:lnTo>
                    <a:pt x="-31626" y="3358"/>
                  </a:lnTo>
                  <a:lnTo>
                    <a:pt x="-31395" y="3474"/>
                  </a:lnTo>
                  <a:lnTo>
                    <a:pt x="-31163" y="3706"/>
                  </a:lnTo>
                  <a:lnTo>
                    <a:pt x="-30932" y="3706"/>
                  </a:lnTo>
                  <a:lnTo>
                    <a:pt x="-30584" y="3821"/>
                  </a:lnTo>
                  <a:lnTo>
                    <a:pt x="-30237" y="3706"/>
                  </a:lnTo>
                  <a:lnTo>
                    <a:pt x="-30237" y="3706"/>
                  </a:lnTo>
                  <a:lnTo>
                    <a:pt x="-30006" y="3821"/>
                  </a:lnTo>
                  <a:lnTo>
                    <a:pt x="-29774" y="3937"/>
                  </a:lnTo>
                  <a:lnTo>
                    <a:pt x="-29543" y="3937"/>
                  </a:lnTo>
                  <a:lnTo>
                    <a:pt x="-29311" y="3937"/>
                  </a:lnTo>
                  <a:lnTo>
                    <a:pt x="-29080" y="3821"/>
                  </a:lnTo>
                  <a:lnTo>
                    <a:pt x="-28733" y="3937"/>
                  </a:lnTo>
                  <a:lnTo>
                    <a:pt x="-28501" y="4053"/>
                  </a:lnTo>
                  <a:lnTo>
                    <a:pt x="-28385" y="4169"/>
                  </a:lnTo>
                  <a:lnTo>
                    <a:pt x="-28385" y="4169"/>
                  </a:lnTo>
                  <a:lnTo>
                    <a:pt x="-28038" y="4169"/>
                  </a:lnTo>
                  <a:lnTo>
                    <a:pt x="-27807" y="4169"/>
                  </a:lnTo>
                  <a:lnTo>
                    <a:pt x="-27575" y="4169"/>
                  </a:lnTo>
                  <a:lnTo>
                    <a:pt x="-27344" y="4285"/>
                  </a:lnTo>
                  <a:lnTo>
                    <a:pt x="-27112" y="4400"/>
                  </a:lnTo>
                  <a:lnTo>
                    <a:pt x="-26881" y="4516"/>
                  </a:lnTo>
                  <a:lnTo>
                    <a:pt x="-26650" y="4516"/>
                  </a:lnTo>
                  <a:lnTo>
                    <a:pt x="-26418" y="4285"/>
                  </a:lnTo>
                  <a:lnTo>
                    <a:pt x="-26418" y="4285"/>
                  </a:lnTo>
                  <a:lnTo>
                    <a:pt x="-26187" y="4400"/>
                  </a:lnTo>
                  <a:lnTo>
                    <a:pt x="-25955" y="4516"/>
                  </a:lnTo>
                  <a:lnTo>
                    <a:pt x="-25724" y="4632"/>
                  </a:lnTo>
                  <a:lnTo>
                    <a:pt x="-25608" y="4748"/>
                  </a:lnTo>
                  <a:lnTo>
                    <a:pt x="-25492" y="4979"/>
                  </a:lnTo>
                  <a:lnTo>
                    <a:pt x="-25376" y="5095"/>
                  </a:lnTo>
                  <a:lnTo>
                    <a:pt x="-25261" y="5327"/>
                  </a:lnTo>
                  <a:lnTo>
                    <a:pt x="-25145" y="5558"/>
                  </a:lnTo>
                  <a:lnTo>
                    <a:pt x="-25145" y="5558"/>
                  </a:lnTo>
                  <a:lnTo>
                    <a:pt x="-25145" y="6022"/>
                  </a:lnTo>
                  <a:lnTo>
                    <a:pt x="-25145" y="6369"/>
                  </a:lnTo>
                  <a:lnTo>
                    <a:pt x="-25376" y="6717"/>
                  </a:lnTo>
                  <a:lnTo>
                    <a:pt x="-25492" y="7064"/>
                  </a:lnTo>
                  <a:lnTo>
                    <a:pt x="-25724" y="7296"/>
                  </a:lnTo>
                  <a:lnTo>
                    <a:pt x="-25839" y="7643"/>
                  </a:lnTo>
                  <a:lnTo>
                    <a:pt x="-25955" y="7990"/>
                  </a:lnTo>
                  <a:lnTo>
                    <a:pt x="-26071" y="8454"/>
                  </a:lnTo>
                  <a:lnTo>
                    <a:pt x="-26071" y="8454"/>
                  </a:lnTo>
                  <a:lnTo>
                    <a:pt x="-26534" y="9959"/>
                  </a:lnTo>
                  <a:lnTo>
                    <a:pt x="-26997" y="11465"/>
                  </a:lnTo>
                  <a:lnTo>
                    <a:pt x="-27344" y="13086"/>
                  </a:lnTo>
                  <a:lnTo>
                    <a:pt x="-27691" y="14707"/>
                  </a:lnTo>
                  <a:lnTo>
                    <a:pt x="-28038" y="16329"/>
                  </a:lnTo>
                  <a:lnTo>
                    <a:pt x="-28270" y="17950"/>
                  </a:lnTo>
                  <a:lnTo>
                    <a:pt x="-28501" y="19571"/>
                  </a:lnTo>
                  <a:lnTo>
                    <a:pt x="-28617" y="21193"/>
                  </a:lnTo>
                  <a:lnTo>
                    <a:pt x="-28617" y="21193"/>
                  </a:lnTo>
                  <a:lnTo>
                    <a:pt x="-28501" y="21309"/>
                  </a:lnTo>
                  <a:lnTo>
                    <a:pt x="-28501" y="21309"/>
                  </a:lnTo>
                  <a:lnTo>
                    <a:pt x="-26650" y="20845"/>
                  </a:lnTo>
                  <a:lnTo>
                    <a:pt x="-24914" y="20498"/>
                  </a:lnTo>
                  <a:lnTo>
                    <a:pt x="-23178" y="20150"/>
                  </a:lnTo>
                  <a:lnTo>
                    <a:pt x="-21326" y="19919"/>
                  </a:lnTo>
                  <a:lnTo>
                    <a:pt x="-19590" y="19571"/>
                  </a:lnTo>
                  <a:lnTo>
                    <a:pt x="-17738" y="19224"/>
                  </a:lnTo>
                  <a:lnTo>
                    <a:pt x="-16002" y="18992"/>
                  </a:lnTo>
                  <a:lnTo>
                    <a:pt x="-14266" y="18645"/>
                  </a:lnTo>
                  <a:lnTo>
                    <a:pt x="-14266" y="18645"/>
                  </a:lnTo>
                  <a:lnTo>
                    <a:pt x="-12993" y="18761"/>
                  </a:lnTo>
                  <a:lnTo>
                    <a:pt x="-11720" y="18877"/>
                  </a:lnTo>
                  <a:lnTo>
                    <a:pt x="-10563" y="18992"/>
                  </a:lnTo>
                  <a:lnTo>
                    <a:pt x="-9290" y="18992"/>
                  </a:lnTo>
                  <a:lnTo>
                    <a:pt x="-8017" y="19108"/>
                  </a:lnTo>
                  <a:lnTo>
                    <a:pt x="-6859" y="19224"/>
                  </a:lnTo>
                  <a:lnTo>
                    <a:pt x="-5586" y="19340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803"/>
                  </a:lnTo>
                  <a:lnTo>
                    <a:pt x="-4197" y="19803"/>
                  </a:lnTo>
                  <a:lnTo>
                    <a:pt x="-4313" y="19803"/>
                  </a:lnTo>
                  <a:lnTo>
                    <a:pt x="-4313" y="19803"/>
                  </a:lnTo>
                  <a:lnTo>
                    <a:pt x="-17044" y="25246"/>
                  </a:lnTo>
                  <a:lnTo>
                    <a:pt x="-17044" y="25246"/>
                  </a:lnTo>
                  <a:lnTo>
                    <a:pt x="-17159" y="25246"/>
                  </a:lnTo>
                  <a:lnTo>
                    <a:pt x="-17391" y="25246"/>
                  </a:lnTo>
                  <a:lnTo>
                    <a:pt x="-17622" y="25362"/>
                  </a:lnTo>
                  <a:lnTo>
                    <a:pt x="-17854" y="25362"/>
                  </a:lnTo>
                  <a:lnTo>
                    <a:pt x="-17970" y="25478"/>
                  </a:lnTo>
                  <a:lnTo>
                    <a:pt x="-18201" y="25478"/>
                  </a:lnTo>
                  <a:lnTo>
                    <a:pt x="-18317" y="25478"/>
                  </a:lnTo>
                  <a:lnTo>
                    <a:pt x="-18548" y="25594"/>
                  </a:lnTo>
                  <a:lnTo>
                    <a:pt x="-18548" y="25594"/>
                  </a:lnTo>
                  <a:lnTo>
                    <a:pt x="-18548" y="25941"/>
                  </a:lnTo>
                  <a:lnTo>
                    <a:pt x="-18664" y="26288"/>
                  </a:lnTo>
                  <a:lnTo>
                    <a:pt x="-18895" y="26636"/>
                  </a:lnTo>
                  <a:lnTo>
                    <a:pt x="-19127" y="26983"/>
                  </a:lnTo>
                  <a:lnTo>
                    <a:pt x="-19358" y="27215"/>
                  </a:lnTo>
                  <a:lnTo>
                    <a:pt x="-19706" y="27562"/>
                  </a:lnTo>
                  <a:lnTo>
                    <a:pt x="-19937" y="27794"/>
                  </a:lnTo>
                  <a:lnTo>
                    <a:pt x="-20284" y="28026"/>
                  </a:lnTo>
                  <a:lnTo>
                    <a:pt x="-20284" y="28026"/>
                  </a:lnTo>
                  <a:lnTo>
                    <a:pt x="-20631" y="28141"/>
                  </a:lnTo>
                  <a:lnTo>
                    <a:pt x="-20863" y="28257"/>
                  </a:lnTo>
                  <a:lnTo>
                    <a:pt x="-21094" y="28373"/>
                  </a:lnTo>
                  <a:lnTo>
                    <a:pt x="-21442" y="28373"/>
                  </a:lnTo>
                  <a:lnTo>
                    <a:pt x="-21673" y="28489"/>
                  </a:lnTo>
                  <a:lnTo>
                    <a:pt x="-22020" y="28489"/>
                  </a:lnTo>
                  <a:lnTo>
                    <a:pt x="-22252" y="28373"/>
                  </a:lnTo>
                  <a:lnTo>
                    <a:pt x="-22483" y="28141"/>
                  </a:lnTo>
                  <a:lnTo>
                    <a:pt x="-22483" y="28141"/>
                  </a:lnTo>
                  <a:lnTo>
                    <a:pt x="-22715" y="28257"/>
                  </a:lnTo>
                  <a:lnTo>
                    <a:pt x="-22830" y="28373"/>
                  </a:lnTo>
                  <a:lnTo>
                    <a:pt x="-23062" y="28489"/>
                  </a:lnTo>
                  <a:lnTo>
                    <a:pt x="-23293" y="28605"/>
                  </a:lnTo>
                  <a:lnTo>
                    <a:pt x="-23409" y="28605"/>
                  </a:lnTo>
                  <a:lnTo>
                    <a:pt x="-23640" y="28720"/>
                  </a:lnTo>
                  <a:lnTo>
                    <a:pt x="-23872" y="28720"/>
                  </a:lnTo>
                  <a:lnTo>
                    <a:pt x="-24103" y="28605"/>
                  </a:lnTo>
                  <a:lnTo>
                    <a:pt x="-24103" y="28605"/>
                  </a:lnTo>
                  <a:lnTo>
                    <a:pt x="-24335" y="28952"/>
                  </a:lnTo>
                  <a:lnTo>
                    <a:pt x="-24566" y="29184"/>
                  </a:lnTo>
                  <a:lnTo>
                    <a:pt x="-24798" y="29299"/>
                  </a:lnTo>
                  <a:lnTo>
                    <a:pt x="-25145" y="29415"/>
                  </a:lnTo>
                  <a:lnTo>
                    <a:pt x="-25376" y="29531"/>
                  </a:lnTo>
                  <a:lnTo>
                    <a:pt x="-25724" y="29531"/>
                  </a:lnTo>
                  <a:lnTo>
                    <a:pt x="-26071" y="29647"/>
                  </a:lnTo>
                  <a:lnTo>
                    <a:pt x="-26418" y="29531"/>
                  </a:lnTo>
                  <a:lnTo>
                    <a:pt x="-26418" y="29531"/>
                  </a:lnTo>
                  <a:lnTo>
                    <a:pt x="-26534" y="29531"/>
                  </a:lnTo>
                  <a:lnTo>
                    <a:pt x="-26650" y="29415"/>
                  </a:lnTo>
                  <a:lnTo>
                    <a:pt x="-26765" y="29299"/>
                  </a:lnTo>
                  <a:lnTo>
                    <a:pt x="-26881" y="29184"/>
                  </a:lnTo>
                  <a:lnTo>
                    <a:pt x="-26997" y="29068"/>
                  </a:lnTo>
                  <a:lnTo>
                    <a:pt x="-27112" y="28952"/>
                  </a:lnTo>
                  <a:lnTo>
                    <a:pt x="-27228" y="28952"/>
                  </a:lnTo>
                  <a:lnTo>
                    <a:pt x="-27460" y="29068"/>
                  </a:lnTo>
                  <a:lnTo>
                    <a:pt x="-27460" y="29068"/>
                  </a:lnTo>
                  <a:lnTo>
                    <a:pt x="-27575" y="29184"/>
                  </a:lnTo>
                  <a:lnTo>
                    <a:pt x="-27691" y="29299"/>
                  </a:lnTo>
                  <a:lnTo>
                    <a:pt x="-27923" y="29415"/>
                  </a:lnTo>
                  <a:lnTo>
                    <a:pt x="-28038" y="29531"/>
                  </a:lnTo>
                  <a:lnTo>
                    <a:pt x="-28270" y="29647"/>
                  </a:lnTo>
                  <a:lnTo>
                    <a:pt x="-28385" y="29763"/>
                  </a:lnTo>
                  <a:lnTo>
                    <a:pt x="-28617" y="29879"/>
                  </a:lnTo>
                  <a:lnTo>
                    <a:pt x="-28733" y="29994"/>
                  </a:lnTo>
                  <a:lnTo>
                    <a:pt x="-28733" y="29994"/>
                  </a:lnTo>
                  <a:lnTo>
                    <a:pt x="-28733" y="30689"/>
                  </a:lnTo>
                  <a:lnTo>
                    <a:pt x="-28733" y="31268"/>
                  </a:lnTo>
                  <a:lnTo>
                    <a:pt x="-28617" y="31963"/>
                  </a:lnTo>
                  <a:lnTo>
                    <a:pt x="-28501" y="32542"/>
                  </a:lnTo>
                  <a:lnTo>
                    <a:pt x="-28385" y="-32299"/>
                  </a:lnTo>
                  <a:lnTo>
                    <a:pt x="-28385" y="-31720"/>
                  </a:lnTo>
                  <a:lnTo>
                    <a:pt x="-28270" y="-31025"/>
                  </a:lnTo>
                  <a:lnTo>
                    <a:pt x="-28154" y="-30446"/>
                  </a:lnTo>
                  <a:lnTo>
                    <a:pt x="-28154" y="-30446"/>
                  </a:lnTo>
                  <a:lnTo>
                    <a:pt x="-28501" y="-30214"/>
                  </a:lnTo>
                  <a:lnTo>
                    <a:pt x="-28733" y="-29983"/>
                  </a:lnTo>
                  <a:lnTo>
                    <a:pt x="-29196" y="-29867"/>
                  </a:lnTo>
                  <a:lnTo>
                    <a:pt x="-29543" y="-29867"/>
                  </a:lnTo>
                  <a:lnTo>
                    <a:pt x="-29890" y="-29751"/>
                  </a:lnTo>
                  <a:lnTo>
                    <a:pt x="-30237" y="-29751"/>
                  </a:lnTo>
                  <a:lnTo>
                    <a:pt x="-30700" y="-29635"/>
                  </a:lnTo>
                  <a:lnTo>
                    <a:pt x="-31047" y="-29635"/>
                  </a:lnTo>
                  <a:lnTo>
                    <a:pt x="-31047" y="-29635"/>
                  </a:lnTo>
                  <a:lnTo>
                    <a:pt x="-31047" y="-29288"/>
                  </a:lnTo>
                  <a:lnTo>
                    <a:pt x="-31047" y="-29288"/>
                  </a:lnTo>
                  <a:lnTo>
                    <a:pt x="-30700" y="-28825"/>
                  </a:lnTo>
                  <a:lnTo>
                    <a:pt x="-30353" y="-28246"/>
                  </a:lnTo>
                  <a:lnTo>
                    <a:pt x="-30006" y="-27782"/>
                  </a:lnTo>
                  <a:lnTo>
                    <a:pt x="-29774" y="-27319"/>
                  </a:lnTo>
                  <a:lnTo>
                    <a:pt x="-29427" y="-26856"/>
                  </a:lnTo>
                  <a:lnTo>
                    <a:pt x="-29080" y="-26277"/>
                  </a:lnTo>
                  <a:lnTo>
                    <a:pt x="-28848" y="-25814"/>
                  </a:lnTo>
                  <a:lnTo>
                    <a:pt x="-28617" y="-25235"/>
                  </a:lnTo>
                  <a:lnTo>
                    <a:pt x="-28617" y="-25235"/>
                  </a:lnTo>
                  <a:lnTo>
                    <a:pt x="-28733" y="-24540"/>
                  </a:lnTo>
                  <a:lnTo>
                    <a:pt x="-28848" y="-23729"/>
                  </a:lnTo>
                  <a:lnTo>
                    <a:pt x="-28964" y="-23034"/>
                  </a:lnTo>
                  <a:lnTo>
                    <a:pt x="-29196" y="-22224"/>
                  </a:lnTo>
                  <a:lnTo>
                    <a:pt x="-29311" y="-21529"/>
                  </a:lnTo>
                  <a:lnTo>
                    <a:pt x="-29543" y="-20718"/>
                  </a:lnTo>
                  <a:lnTo>
                    <a:pt x="-29659" y="-20023"/>
                  </a:lnTo>
                  <a:lnTo>
                    <a:pt x="-29890" y="-19213"/>
                  </a:lnTo>
                  <a:lnTo>
                    <a:pt x="-29890" y="-19213"/>
                  </a:lnTo>
                  <a:lnTo>
                    <a:pt x="-29774" y="-18865"/>
                  </a:lnTo>
                  <a:lnTo>
                    <a:pt x="-29543" y="-18518"/>
                  </a:lnTo>
                  <a:lnTo>
                    <a:pt x="-29427" y="-18286"/>
                  </a:lnTo>
                  <a:lnTo>
                    <a:pt x="-29196" y="-18054"/>
                  </a:lnTo>
                  <a:lnTo>
                    <a:pt x="-28964" y="-17707"/>
                  </a:lnTo>
                  <a:lnTo>
                    <a:pt x="-28733" y="-17475"/>
                  </a:lnTo>
                  <a:lnTo>
                    <a:pt x="-28501" y="-17244"/>
                  </a:lnTo>
                  <a:lnTo>
                    <a:pt x="-28501" y="-16896"/>
                  </a:lnTo>
                  <a:lnTo>
                    <a:pt x="-28501" y="-16896"/>
                  </a:lnTo>
                  <a:lnTo>
                    <a:pt x="-28385" y="-16665"/>
                  </a:lnTo>
                  <a:lnTo>
                    <a:pt x="-28154" y="-16317"/>
                  </a:lnTo>
                  <a:lnTo>
                    <a:pt x="-28038" y="-16086"/>
                  </a:lnTo>
                  <a:lnTo>
                    <a:pt x="-27807" y="-15854"/>
                  </a:lnTo>
                  <a:lnTo>
                    <a:pt x="-27691" y="-15622"/>
                  </a:lnTo>
                  <a:lnTo>
                    <a:pt x="-27575" y="-15391"/>
                  </a:lnTo>
                  <a:lnTo>
                    <a:pt x="-27344" y="-15159"/>
                  </a:lnTo>
                  <a:lnTo>
                    <a:pt x="-27344" y="-14928"/>
                  </a:lnTo>
                  <a:lnTo>
                    <a:pt x="-27344" y="-14928"/>
                  </a:lnTo>
                  <a:lnTo>
                    <a:pt x="-27228" y="-14464"/>
                  </a:lnTo>
                  <a:lnTo>
                    <a:pt x="-26997" y="-14117"/>
                  </a:lnTo>
                  <a:lnTo>
                    <a:pt x="-26881" y="-13654"/>
                  </a:lnTo>
                  <a:lnTo>
                    <a:pt x="-26881" y="-13190"/>
                  </a:lnTo>
                  <a:lnTo>
                    <a:pt x="-26765" y="-12727"/>
                  </a:lnTo>
                  <a:lnTo>
                    <a:pt x="-26765" y="-12380"/>
                  </a:lnTo>
                  <a:lnTo>
                    <a:pt x="-26881" y="-11917"/>
                  </a:lnTo>
                  <a:lnTo>
                    <a:pt x="-27228" y="-11569"/>
                  </a:lnTo>
                  <a:lnTo>
                    <a:pt x="-27228" y="-11569"/>
                  </a:lnTo>
                  <a:lnTo>
                    <a:pt x="-27228" y="-11453"/>
                  </a:lnTo>
                  <a:lnTo>
                    <a:pt x="-27344" y="-11453"/>
                  </a:lnTo>
                  <a:lnTo>
                    <a:pt x="-27344" y="-11453"/>
                  </a:lnTo>
                  <a:lnTo>
                    <a:pt x="-27460" y="-11453"/>
                  </a:lnTo>
                  <a:lnTo>
                    <a:pt x="-27460" y="-11453"/>
                  </a:lnTo>
                  <a:lnTo>
                    <a:pt x="-27575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8154" y="-11222"/>
                  </a:lnTo>
                  <a:lnTo>
                    <a:pt x="-28733" y="-11106"/>
                  </a:lnTo>
                  <a:lnTo>
                    <a:pt x="-29311" y="-11106"/>
                  </a:lnTo>
                  <a:lnTo>
                    <a:pt x="-29890" y="-11222"/>
                  </a:lnTo>
                  <a:lnTo>
                    <a:pt x="-30353" y="-11337"/>
                  </a:lnTo>
                  <a:lnTo>
                    <a:pt x="-30932" y="-11453"/>
                  </a:lnTo>
                  <a:lnTo>
                    <a:pt x="-31395" y="-11685"/>
                  </a:lnTo>
                  <a:lnTo>
                    <a:pt x="-31857" y="-12032"/>
                  </a:lnTo>
                  <a:lnTo>
                    <a:pt x="-31857" y="-12032"/>
                  </a:lnTo>
                  <a:lnTo>
                    <a:pt x="-32320" y="-12496"/>
                  </a:lnTo>
                  <a:lnTo>
                    <a:pt x="-32552" y="-13075"/>
                  </a:lnTo>
                  <a:lnTo>
                    <a:pt x="32753" y="-13769"/>
                  </a:lnTo>
                  <a:lnTo>
                    <a:pt x="32637" y="-14464"/>
                  </a:lnTo>
                  <a:lnTo>
                    <a:pt x="32405" y="-15159"/>
                  </a:lnTo>
                  <a:lnTo>
                    <a:pt x="32058" y="-15622"/>
                  </a:lnTo>
                  <a:lnTo>
                    <a:pt x="31595" y="-16086"/>
                  </a:lnTo>
                  <a:lnTo>
                    <a:pt x="30785" y="-16201"/>
                  </a:lnTo>
                  <a:lnTo>
                    <a:pt x="30785" y="-16201"/>
                  </a:lnTo>
                  <a:lnTo>
                    <a:pt x="30670" y="-16317"/>
                  </a:lnTo>
                  <a:lnTo>
                    <a:pt x="30554" y="-16549"/>
                  </a:lnTo>
                  <a:lnTo>
                    <a:pt x="30438" y="-16781"/>
                  </a:lnTo>
                  <a:lnTo>
                    <a:pt x="30322" y="-16896"/>
                  </a:lnTo>
                  <a:lnTo>
                    <a:pt x="30322" y="-17128"/>
                  </a:lnTo>
                  <a:lnTo>
                    <a:pt x="30322" y="-17360"/>
                  </a:lnTo>
                  <a:lnTo>
                    <a:pt x="30322" y="-17591"/>
                  </a:lnTo>
                  <a:lnTo>
                    <a:pt x="30322" y="-17823"/>
                  </a:lnTo>
                  <a:lnTo>
                    <a:pt x="30322" y="-17823"/>
                  </a:lnTo>
                  <a:lnTo>
                    <a:pt x="30554" y="-18170"/>
                  </a:lnTo>
                  <a:lnTo>
                    <a:pt x="30785" y="-18518"/>
                  </a:lnTo>
                  <a:lnTo>
                    <a:pt x="31132" y="-18749"/>
                  </a:lnTo>
                  <a:lnTo>
                    <a:pt x="31480" y="-18981"/>
                  </a:lnTo>
                  <a:lnTo>
                    <a:pt x="31827" y="-19213"/>
                  </a:lnTo>
                  <a:lnTo>
                    <a:pt x="32174" y="-19444"/>
                  </a:lnTo>
                  <a:lnTo>
                    <a:pt x="32405" y="-19676"/>
                  </a:lnTo>
                  <a:lnTo>
                    <a:pt x="32637" y="-20139"/>
                  </a:lnTo>
                  <a:lnTo>
                    <a:pt x="32637" y="-20139"/>
                  </a:lnTo>
                  <a:lnTo>
                    <a:pt x="-32668" y="-20950"/>
                  </a:lnTo>
                  <a:lnTo>
                    <a:pt x="-32436" y="-21876"/>
                  </a:lnTo>
                  <a:lnTo>
                    <a:pt x="-32205" y="-22803"/>
                  </a:lnTo>
                  <a:lnTo>
                    <a:pt x="-32089" y="-23729"/>
                  </a:lnTo>
                  <a:lnTo>
                    <a:pt x="-32089" y="-24656"/>
                  </a:lnTo>
                  <a:lnTo>
                    <a:pt x="-32205" y="-25466"/>
                  </a:lnTo>
                  <a:lnTo>
                    <a:pt x="-32552" y="-26277"/>
                  </a:lnTo>
                  <a:lnTo>
                    <a:pt x="32290" y="-27088"/>
                  </a:lnTo>
                  <a:lnTo>
                    <a:pt x="32290" y="-27088"/>
                  </a:lnTo>
                  <a:lnTo>
                    <a:pt x="30901" y="-28593"/>
                  </a:lnTo>
                  <a:lnTo>
                    <a:pt x="30901" y="-28593"/>
                  </a:lnTo>
                  <a:lnTo>
                    <a:pt x="29744" y="-28130"/>
                  </a:lnTo>
                  <a:lnTo>
                    <a:pt x="28586" y="-27667"/>
                  </a:lnTo>
                  <a:lnTo>
                    <a:pt x="27545" y="-27203"/>
                  </a:lnTo>
                  <a:lnTo>
                    <a:pt x="26387" y="-26740"/>
                  </a:lnTo>
                  <a:lnTo>
                    <a:pt x="25230" y="-26161"/>
                  </a:lnTo>
                  <a:lnTo>
                    <a:pt x="24073" y="-25698"/>
                  </a:lnTo>
                  <a:lnTo>
                    <a:pt x="23031" y="-25119"/>
                  </a:lnTo>
                  <a:lnTo>
                    <a:pt x="21874" y="-24656"/>
                  </a:lnTo>
                  <a:lnTo>
                    <a:pt x="21874" y="-24656"/>
                  </a:lnTo>
                  <a:lnTo>
                    <a:pt x="21990" y="-24192"/>
                  </a:lnTo>
                  <a:lnTo>
                    <a:pt x="22221" y="-23845"/>
                  </a:lnTo>
                  <a:lnTo>
                    <a:pt x="22337" y="-23382"/>
                  </a:lnTo>
                  <a:lnTo>
                    <a:pt x="22568" y="-23034"/>
                  </a:lnTo>
                  <a:lnTo>
                    <a:pt x="22684" y="-22687"/>
                  </a:lnTo>
                  <a:lnTo>
                    <a:pt x="22915" y="-22224"/>
                  </a:lnTo>
                  <a:lnTo>
                    <a:pt x="23147" y="-21876"/>
                  </a:lnTo>
                  <a:lnTo>
                    <a:pt x="23263" y="-21529"/>
                  </a:lnTo>
                  <a:lnTo>
                    <a:pt x="23263" y="-21529"/>
                  </a:lnTo>
                  <a:lnTo>
                    <a:pt x="23263" y="-21181"/>
                  </a:lnTo>
                  <a:lnTo>
                    <a:pt x="23147" y="-20950"/>
                  </a:lnTo>
                  <a:lnTo>
                    <a:pt x="23031" y="-20718"/>
                  </a:lnTo>
                  <a:lnTo>
                    <a:pt x="22915" y="-20486"/>
                  </a:lnTo>
                  <a:lnTo>
                    <a:pt x="22684" y="-20371"/>
                  </a:lnTo>
                  <a:lnTo>
                    <a:pt x="22453" y="-20139"/>
                  </a:lnTo>
                  <a:lnTo>
                    <a:pt x="22221" y="-19907"/>
                  </a:lnTo>
                  <a:lnTo>
                    <a:pt x="22105" y="-19792"/>
                  </a:lnTo>
                  <a:lnTo>
                    <a:pt x="22105" y="-19792"/>
                  </a:lnTo>
                  <a:lnTo>
                    <a:pt x="20601" y="-17939"/>
                  </a:lnTo>
                  <a:lnTo>
                    <a:pt x="20601" y="-17939"/>
                  </a:lnTo>
                  <a:lnTo>
                    <a:pt x="20485" y="-17475"/>
                  </a:lnTo>
                  <a:lnTo>
                    <a:pt x="20485" y="-17012"/>
                  </a:lnTo>
                  <a:lnTo>
                    <a:pt x="20369" y="-16433"/>
                  </a:lnTo>
                  <a:lnTo>
                    <a:pt x="20254" y="-15970"/>
                  </a:lnTo>
                  <a:lnTo>
                    <a:pt x="20254" y="-15507"/>
                  </a:lnTo>
                  <a:lnTo>
                    <a:pt x="20254" y="-15043"/>
                  </a:lnTo>
                  <a:lnTo>
                    <a:pt x="20254" y="-14580"/>
                  </a:lnTo>
                  <a:lnTo>
                    <a:pt x="20369" y="-14117"/>
                  </a:lnTo>
                  <a:lnTo>
                    <a:pt x="20369" y="-14117"/>
                  </a:lnTo>
                  <a:lnTo>
                    <a:pt x="20485" y="-14117"/>
                  </a:lnTo>
                  <a:lnTo>
                    <a:pt x="20601" y="-14117"/>
                  </a:lnTo>
                  <a:lnTo>
                    <a:pt x="20832" y="-14001"/>
                  </a:lnTo>
                  <a:lnTo>
                    <a:pt x="20832" y="-13885"/>
                  </a:lnTo>
                  <a:lnTo>
                    <a:pt x="20948" y="-13769"/>
                  </a:lnTo>
                  <a:lnTo>
                    <a:pt x="21064" y="-13654"/>
                  </a:lnTo>
                  <a:lnTo>
                    <a:pt x="21179" y="-13538"/>
                  </a:lnTo>
                  <a:lnTo>
                    <a:pt x="21411" y="-13538"/>
                  </a:lnTo>
                  <a:lnTo>
                    <a:pt x="21411" y="-13538"/>
                  </a:lnTo>
                  <a:lnTo>
                    <a:pt x="23031" y="-13422"/>
                  </a:lnTo>
                  <a:lnTo>
                    <a:pt x="23031" y="-13422"/>
                  </a:lnTo>
                  <a:lnTo>
                    <a:pt x="23031" y="-13306"/>
                  </a:lnTo>
                  <a:lnTo>
                    <a:pt x="23147" y="-13190"/>
                  </a:lnTo>
                  <a:lnTo>
                    <a:pt x="23263" y="-13075"/>
                  </a:lnTo>
                  <a:lnTo>
                    <a:pt x="23378" y="-12959"/>
                  </a:lnTo>
                  <a:lnTo>
                    <a:pt x="23494" y="-12843"/>
                  </a:lnTo>
                  <a:lnTo>
                    <a:pt x="23610" y="-12611"/>
                  </a:lnTo>
                  <a:lnTo>
                    <a:pt x="23610" y="-12496"/>
                  </a:lnTo>
                  <a:lnTo>
                    <a:pt x="23726" y="-12264"/>
                  </a:lnTo>
                  <a:lnTo>
                    <a:pt x="23726" y="-12264"/>
                  </a:lnTo>
                  <a:lnTo>
                    <a:pt x="23726" y="-12032"/>
                  </a:lnTo>
                  <a:lnTo>
                    <a:pt x="23610" y="-11801"/>
                  </a:lnTo>
                  <a:lnTo>
                    <a:pt x="23494" y="-11569"/>
                  </a:lnTo>
                  <a:lnTo>
                    <a:pt x="23378" y="-11453"/>
                  </a:lnTo>
                  <a:lnTo>
                    <a:pt x="23147" y="-11222"/>
                  </a:lnTo>
                  <a:lnTo>
                    <a:pt x="22915" y="-11106"/>
                  </a:lnTo>
                  <a:lnTo>
                    <a:pt x="22684" y="-10990"/>
                  </a:lnTo>
                  <a:lnTo>
                    <a:pt x="22453" y="-10874"/>
                  </a:lnTo>
                  <a:lnTo>
                    <a:pt x="22453" y="-10874"/>
                  </a:lnTo>
                  <a:lnTo>
                    <a:pt x="21758" y="-10643"/>
                  </a:lnTo>
                  <a:lnTo>
                    <a:pt x="21179" y="-10643"/>
                  </a:lnTo>
                  <a:lnTo>
                    <a:pt x="20485" y="-10643"/>
                  </a:lnTo>
                  <a:lnTo>
                    <a:pt x="19791" y="-10758"/>
                  </a:lnTo>
                  <a:lnTo>
                    <a:pt x="19096" y="-10990"/>
                  </a:lnTo>
                  <a:lnTo>
                    <a:pt x="18518" y="-11222"/>
                  </a:lnTo>
                  <a:lnTo>
                    <a:pt x="17939" y="-11569"/>
                  </a:lnTo>
                  <a:lnTo>
                    <a:pt x="17360" y="-11917"/>
                  </a:lnTo>
                  <a:lnTo>
                    <a:pt x="17360" y="-11917"/>
                  </a:lnTo>
                  <a:lnTo>
                    <a:pt x="17013" y="-12496"/>
                  </a:lnTo>
                  <a:lnTo>
                    <a:pt x="16782" y="-13190"/>
                  </a:lnTo>
                  <a:lnTo>
                    <a:pt x="16550" y="-13769"/>
                  </a:lnTo>
                  <a:lnTo>
                    <a:pt x="16319" y="-14464"/>
                  </a:lnTo>
                  <a:lnTo>
                    <a:pt x="15972" y="-15043"/>
                  </a:lnTo>
                  <a:lnTo>
                    <a:pt x="15509" y="-15622"/>
                  </a:lnTo>
                  <a:lnTo>
                    <a:pt x="15046" y="-16086"/>
                  </a:lnTo>
                  <a:lnTo>
                    <a:pt x="14351" y="-16317"/>
                  </a:lnTo>
                  <a:lnTo>
                    <a:pt x="14351" y="-16317"/>
                  </a:lnTo>
                  <a:lnTo>
                    <a:pt x="14236" y="-16433"/>
                  </a:lnTo>
                  <a:lnTo>
                    <a:pt x="14120" y="-16549"/>
                  </a:lnTo>
                  <a:lnTo>
                    <a:pt x="14120" y="-16781"/>
                  </a:lnTo>
                  <a:lnTo>
                    <a:pt x="14004" y="-16896"/>
                  </a:lnTo>
                  <a:lnTo>
                    <a:pt x="14004" y="-17128"/>
                  </a:lnTo>
                  <a:lnTo>
                    <a:pt x="14004" y="-17244"/>
                  </a:lnTo>
                  <a:lnTo>
                    <a:pt x="14120" y="-17360"/>
                  </a:lnTo>
                  <a:lnTo>
                    <a:pt x="14120" y="-17591"/>
                  </a:lnTo>
                  <a:lnTo>
                    <a:pt x="14120" y="-17591"/>
                  </a:lnTo>
                  <a:lnTo>
                    <a:pt x="14467" y="-17939"/>
                  </a:lnTo>
                  <a:lnTo>
                    <a:pt x="14930" y="-18286"/>
                  </a:lnTo>
                  <a:lnTo>
                    <a:pt x="15393" y="-18402"/>
                  </a:lnTo>
                  <a:lnTo>
                    <a:pt x="15972" y="-18633"/>
                  </a:lnTo>
                  <a:lnTo>
                    <a:pt x="16434" y="-18749"/>
                  </a:lnTo>
                  <a:lnTo>
                    <a:pt x="17013" y="-18865"/>
                  </a:lnTo>
                  <a:lnTo>
                    <a:pt x="17476" y="-19097"/>
                  </a:lnTo>
                  <a:lnTo>
                    <a:pt x="17939" y="-19444"/>
                  </a:lnTo>
                  <a:lnTo>
                    <a:pt x="17939" y="-19444"/>
                  </a:lnTo>
                  <a:lnTo>
                    <a:pt x="18286" y="-19792"/>
                  </a:lnTo>
                  <a:lnTo>
                    <a:pt x="18633" y="-20023"/>
                  </a:lnTo>
                  <a:lnTo>
                    <a:pt x="18981" y="-20255"/>
                  </a:lnTo>
                  <a:lnTo>
                    <a:pt x="19328" y="-20602"/>
                  </a:lnTo>
                  <a:lnTo>
                    <a:pt x="19559" y="-20950"/>
                  </a:lnTo>
                  <a:lnTo>
                    <a:pt x="19791" y="-21297"/>
                  </a:lnTo>
                  <a:lnTo>
                    <a:pt x="20022" y="-21645"/>
                  </a:lnTo>
                  <a:lnTo>
                    <a:pt x="20369" y="-21992"/>
                  </a:lnTo>
                  <a:lnTo>
                    <a:pt x="20369" y="-21992"/>
                  </a:lnTo>
                  <a:lnTo>
                    <a:pt x="20138" y="-22108"/>
                  </a:lnTo>
                  <a:lnTo>
                    <a:pt x="20022" y="-22339"/>
                  </a:lnTo>
                  <a:lnTo>
                    <a:pt x="19906" y="-22571"/>
                  </a:lnTo>
                  <a:lnTo>
                    <a:pt x="19906" y="-22803"/>
                  </a:lnTo>
                  <a:lnTo>
                    <a:pt x="19791" y="-23034"/>
                  </a:lnTo>
                  <a:lnTo>
                    <a:pt x="19675" y="-23266"/>
                  </a:lnTo>
                  <a:lnTo>
                    <a:pt x="19559" y="-23382"/>
                  </a:lnTo>
                  <a:lnTo>
                    <a:pt x="19443" y="-23613"/>
                  </a:lnTo>
                  <a:lnTo>
                    <a:pt x="19443" y="-23613"/>
                  </a:lnTo>
                  <a:lnTo>
                    <a:pt x="18633" y="-23266"/>
                  </a:lnTo>
                  <a:lnTo>
                    <a:pt x="17823" y="-22918"/>
                  </a:lnTo>
                  <a:lnTo>
                    <a:pt x="17129" y="-22571"/>
                  </a:lnTo>
                  <a:lnTo>
                    <a:pt x="16319" y="-22224"/>
                  </a:lnTo>
                  <a:lnTo>
                    <a:pt x="15624" y="-21876"/>
                  </a:lnTo>
                  <a:lnTo>
                    <a:pt x="14814" y="-21529"/>
                  </a:lnTo>
                  <a:lnTo>
                    <a:pt x="14120" y="-21297"/>
                  </a:lnTo>
                  <a:lnTo>
                    <a:pt x="13194" y="-21181"/>
                  </a:lnTo>
                  <a:lnTo>
                    <a:pt x="13194" y="-21181"/>
                  </a:lnTo>
                  <a:lnTo>
                    <a:pt x="13194" y="-21297"/>
                  </a:lnTo>
                  <a:lnTo>
                    <a:pt x="13194" y="-21413"/>
                  </a:lnTo>
                  <a:lnTo>
                    <a:pt x="13078" y="-21645"/>
                  </a:lnTo>
                  <a:lnTo>
                    <a:pt x="13078" y="-21760"/>
                  </a:lnTo>
                  <a:lnTo>
                    <a:pt x="13078" y="-21876"/>
                  </a:lnTo>
                  <a:lnTo>
                    <a:pt x="13078" y="-22108"/>
                  </a:lnTo>
                  <a:lnTo>
                    <a:pt x="13078" y="-22224"/>
                  </a:lnTo>
                  <a:lnTo>
                    <a:pt x="12962" y="-22339"/>
                  </a:lnTo>
                  <a:lnTo>
                    <a:pt x="12962" y="-22339"/>
                  </a:lnTo>
                  <a:lnTo>
                    <a:pt x="12847" y="-22224"/>
                  </a:lnTo>
                  <a:lnTo>
                    <a:pt x="12731" y="-22224"/>
                  </a:lnTo>
                  <a:lnTo>
                    <a:pt x="12615" y="-22108"/>
                  </a:lnTo>
                  <a:lnTo>
                    <a:pt x="12500" y="-22108"/>
                  </a:lnTo>
                  <a:lnTo>
                    <a:pt x="12384" y="-22108"/>
                  </a:lnTo>
                  <a:lnTo>
                    <a:pt x="12268" y="-21992"/>
                  </a:lnTo>
                  <a:lnTo>
                    <a:pt x="12152" y="-22108"/>
                  </a:lnTo>
                  <a:lnTo>
                    <a:pt x="12037" y="-22108"/>
                  </a:lnTo>
                  <a:lnTo>
                    <a:pt x="12037" y="-22108"/>
                  </a:lnTo>
                  <a:lnTo>
                    <a:pt x="12037" y="-22339"/>
                  </a:lnTo>
                  <a:lnTo>
                    <a:pt x="12037" y="-22339"/>
                  </a:lnTo>
                  <a:lnTo>
                    <a:pt x="12037" y="-22455"/>
                  </a:lnTo>
                  <a:lnTo>
                    <a:pt x="11921" y="-22455"/>
                  </a:lnTo>
                  <a:lnTo>
                    <a:pt x="11805" y="-22455"/>
                  </a:lnTo>
                  <a:lnTo>
                    <a:pt x="11689" y="-22455"/>
                  </a:lnTo>
                  <a:lnTo>
                    <a:pt x="11574" y="-22339"/>
                  </a:lnTo>
                  <a:lnTo>
                    <a:pt x="11574" y="-22339"/>
                  </a:lnTo>
                  <a:lnTo>
                    <a:pt x="11458" y="-22339"/>
                  </a:lnTo>
                  <a:lnTo>
                    <a:pt x="11342" y="-22339"/>
                  </a:lnTo>
                  <a:lnTo>
                    <a:pt x="11342" y="-22339"/>
                  </a:lnTo>
                  <a:lnTo>
                    <a:pt x="11342" y="-22455"/>
                  </a:lnTo>
                  <a:lnTo>
                    <a:pt x="11342" y="-22571"/>
                  </a:lnTo>
                  <a:lnTo>
                    <a:pt x="11342" y="-22687"/>
                  </a:lnTo>
                  <a:lnTo>
                    <a:pt x="11342" y="-22803"/>
                  </a:lnTo>
                  <a:lnTo>
                    <a:pt x="11342" y="-22918"/>
                  </a:lnTo>
                  <a:lnTo>
                    <a:pt x="11342" y="-23034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226" y="-23150"/>
                  </a:lnTo>
                  <a:lnTo>
                    <a:pt x="11111" y="-23034"/>
                  </a:lnTo>
                  <a:lnTo>
                    <a:pt x="10995" y="-23034"/>
                  </a:lnTo>
                  <a:lnTo>
                    <a:pt x="10879" y="-22918"/>
                  </a:lnTo>
                  <a:lnTo>
                    <a:pt x="10648" y="-22918"/>
                  </a:lnTo>
                  <a:lnTo>
                    <a:pt x="10532" y="-22918"/>
                  </a:lnTo>
                  <a:lnTo>
                    <a:pt x="10416" y="-22918"/>
                  </a:lnTo>
                  <a:lnTo>
                    <a:pt x="10301" y="-22918"/>
                  </a:lnTo>
                  <a:lnTo>
                    <a:pt x="10301" y="-22918"/>
                  </a:lnTo>
                  <a:lnTo>
                    <a:pt x="10416" y="-24192"/>
                  </a:lnTo>
                  <a:lnTo>
                    <a:pt x="10648" y="-25350"/>
                  </a:lnTo>
                  <a:lnTo>
                    <a:pt x="10764" y="-26509"/>
                  </a:lnTo>
                  <a:lnTo>
                    <a:pt x="10879" y="-27782"/>
                  </a:lnTo>
                  <a:lnTo>
                    <a:pt x="10995" y="-28941"/>
                  </a:lnTo>
                  <a:lnTo>
                    <a:pt x="11226" y="-30099"/>
                  </a:lnTo>
                  <a:lnTo>
                    <a:pt x="11342" y="-31257"/>
                  </a:lnTo>
                  <a:lnTo>
                    <a:pt x="11574" y="-32415"/>
                  </a:lnTo>
                  <a:lnTo>
                    <a:pt x="11574" y="-32415"/>
                  </a:lnTo>
                  <a:lnTo>
                    <a:pt x="11458" y="-32531"/>
                  </a:lnTo>
                  <a:lnTo>
                    <a:pt x="11342" y="-32646"/>
                  </a:lnTo>
                  <a:lnTo>
                    <a:pt x="11111" y="-32762"/>
                  </a:lnTo>
                  <a:lnTo>
                    <a:pt x="10995" y="32658"/>
                  </a:lnTo>
                  <a:lnTo>
                    <a:pt x="10879" y="32542"/>
                  </a:lnTo>
                  <a:lnTo>
                    <a:pt x="10648" y="32426"/>
                  </a:lnTo>
                  <a:lnTo>
                    <a:pt x="10532" y="32311"/>
                  </a:lnTo>
                  <a:lnTo>
                    <a:pt x="10532" y="32195"/>
                  </a:lnTo>
                  <a:lnTo>
                    <a:pt x="10532" y="32195"/>
                  </a:lnTo>
                  <a:lnTo>
                    <a:pt x="10532" y="32542"/>
                  </a:lnTo>
                  <a:lnTo>
                    <a:pt x="10532" y="-32762"/>
                  </a:lnTo>
                  <a:lnTo>
                    <a:pt x="10648" y="-32415"/>
                  </a:lnTo>
                  <a:lnTo>
                    <a:pt x="10764" y="-32067"/>
                  </a:lnTo>
                  <a:lnTo>
                    <a:pt x="10879" y="-31720"/>
                  </a:lnTo>
                  <a:lnTo>
                    <a:pt x="10879" y="-31488"/>
                  </a:lnTo>
                  <a:lnTo>
                    <a:pt x="10879" y="-31141"/>
                  </a:lnTo>
                  <a:lnTo>
                    <a:pt x="10879" y="-30793"/>
                  </a:lnTo>
                  <a:lnTo>
                    <a:pt x="10879" y="-30793"/>
                  </a:lnTo>
                  <a:lnTo>
                    <a:pt x="10764" y="-30678"/>
                  </a:lnTo>
                  <a:lnTo>
                    <a:pt x="10648" y="-30562"/>
                  </a:lnTo>
                  <a:lnTo>
                    <a:pt x="10532" y="-30562"/>
                  </a:lnTo>
                  <a:lnTo>
                    <a:pt x="10301" y="-30446"/>
                  </a:lnTo>
                  <a:lnTo>
                    <a:pt x="10185" y="-30446"/>
                  </a:lnTo>
                  <a:lnTo>
                    <a:pt x="9953" y="-30562"/>
                  </a:lnTo>
                  <a:lnTo>
                    <a:pt x="9838" y="-30562"/>
                  </a:lnTo>
                  <a:lnTo>
                    <a:pt x="9722" y="-30678"/>
                  </a:lnTo>
                  <a:lnTo>
                    <a:pt x="9722" y="-30678"/>
                  </a:lnTo>
                  <a:lnTo>
                    <a:pt x="9491" y="-30678"/>
                  </a:lnTo>
                  <a:lnTo>
                    <a:pt x="9259" y="-30909"/>
                  </a:lnTo>
                  <a:lnTo>
                    <a:pt x="9143" y="-31025"/>
                  </a:lnTo>
                  <a:lnTo>
                    <a:pt x="9028" y="-31257"/>
                  </a:lnTo>
                  <a:lnTo>
                    <a:pt x="8912" y="-31488"/>
                  </a:lnTo>
                  <a:lnTo>
                    <a:pt x="8796" y="-31604"/>
                  </a:lnTo>
                  <a:lnTo>
                    <a:pt x="8680" y="-31836"/>
                  </a:lnTo>
                  <a:lnTo>
                    <a:pt x="8565" y="-32067"/>
                  </a:lnTo>
                  <a:lnTo>
                    <a:pt x="8565" y="-32067"/>
                  </a:lnTo>
                  <a:lnTo>
                    <a:pt x="7870" y="-31836"/>
                  </a:lnTo>
                  <a:lnTo>
                    <a:pt x="7292" y="-31604"/>
                  </a:lnTo>
                  <a:lnTo>
                    <a:pt x="6597" y="-31373"/>
                  </a:lnTo>
                  <a:lnTo>
                    <a:pt x="6019" y="-31025"/>
                  </a:lnTo>
                  <a:lnTo>
                    <a:pt x="5440" y="-30793"/>
                  </a:lnTo>
                  <a:lnTo>
                    <a:pt x="4861" y="-30562"/>
                  </a:lnTo>
                  <a:lnTo>
                    <a:pt x="4167" y="-30330"/>
                  </a:lnTo>
                  <a:lnTo>
                    <a:pt x="3588" y="-30099"/>
                  </a:lnTo>
                  <a:lnTo>
                    <a:pt x="3588" y="-30099"/>
                  </a:lnTo>
                  <a:lnTo>
                    <a:pt x="3241" y="-30099"/>
                  </a:lnTo>
                  <a:lnTo>
                    <a:pt x="2894" y="-30099"/>
                  </a:lnTo>
                  <a:lnTo>
                    <a:pt x="2547" y="-30099"/>
                  </a:lnTo>
                  <a:lnTo>
                    <a:pt x="2199" y="-30330"/>
                  </a:lnTo>
                  <a:lnTo>
                    <a:pt x="1852" y="-30446"/>
                  </a:lnTo>
                  <a:lnTo>
                    <a:pt x="1505" y="-30678"/>
                  </a:lnTo>
                  <a:lnTo>
                    <a:pt x="1274" y="-30909"/>
                  </a:lnTo>
                  <a:lnTo>
                    <a:pt x="926" y="-31141"/>
                  </a:lnTo>
                  <a:lnTo>
                    <a:pt x="926" y="-31141"/>
                  </a:lnTo>
                  <a:lnTo>
                    <a:pt x="579" y="-31720"/>
                  </a:lnTo>
                  <a:lnTo>
                    <a:pt x="232" y="-32415"/>
                  </a:lnTo>
                  <a:lnTo>
                    <a:pt x="116" y="32426"/>
                  </a:lnTo>
                  <a:lnTo>
                    <a:pt x="0" y="31731"/>
                  </a:lnTo>
                  <a:lnTo>
                    <a:pt x="0" y="31037"/>
                  </a:lnTo>
                  <a:lnTo>
                    <a:pt x="116" y="30342"/>
                  </a:lnTo>
                  <a:lnTo>
                    <a:pt x="348" y="29647"/>
                  </a:lnTo>
                  <a:lnTo>
                    <a:pt x="579" y="29068"/>
                  </a:lnTo>
                  <a:lnTo>
                    <a:pt x="579" y="29068"/>
                  </a:lnTo>
                  <a:lnTo>
                    <a:pt x="1158" y="28257"/>
                  </a:lnTo>
                  <a:lnTo>
                    <a:pt x="1968" y="27910"/>
                  </a:lnTo>
                  <a:lnTo>
                    <a:pt x="2894" y="27678"/>
                  </a:lnTo>
                  <a:lnTo>
                    <a:pt x="3820" y="27562"/>
                  </a:lnTo>
                  <a:lnTo>
                    <a:pt x="4745" y="27562"/>
                  </a:lnTo>
                  <a:lnTo>
                    <a:pt x="5671" y="27331"/>
                  </a:lnTo>
                  <a:lnTo>
                    <a:pt x="6597" y="27099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523" y="26520"/>
                  </a:lnTo>
                  <a:lnTo>
                    <a:pt x="7523" y="26520"/>
                  </a:lnTo>
                  <a:lnTo>
                    <a:pt x="7639" y="26520"/>
                  </a:lnTo>
                  <a:lnTo>
                    <a:pt x="7639" y="26520"/>
                  </a:lnTo>
                  <a:lnTo>
                    <a:pt x="7755" y="26520"/>
                  </a:lnTo>
                  <a:lnTo>
                    <a:pt x="7755" y="26520"/>
                  </a:lnTo>
                  <a:lnTo>
                    <a:pt x="7870" y="26520"/>
                  </a:lnTo>
                  <a:lnTo>
                    <a:pt x="7870" y="26520"/>
                  </a:lnTo>
                  <a:lnTo>
                    <a:pt x="7292" y="25709"/>
                  </a:lnTo>
                  <a:lnTo>
                    <a:pt x="6713" y="25014"/>
                  </a:lnTo>
                  <a:lnTo>
                    <a:pt x="6250" y="24204"/>
                  </a:lnTo>
                  <a:lnTo>
                    <a:pt x="5787" y="23393"/>
                  </a:lnTo>
                  <a:lnTo>
                    <a:pt x="5440" y="22582"/>
                  </a:lnTo>
                  <a:lnTo>
                    <a:pt x="5208" y="21772"/>
                  </a:lnTo>
                  <a:lnTo>
                    <a:pt x="5208" y="20845"/>
                  </a:lnTo>
                  <a:lnTo>
                    <a:pt x="5324" y="19919"/>
                  </a:lnTo>
                  <a:lnTo>
                    <a:pt x="5324" y="19919"/>
                  </a:lnTo>
                  <a:lnTo>
                    <a:pt x="5440" y="19571"/>
                  </a:lnTo>
                  <a:lnTo>
                    <a:pt x="5671" y="19224"/>
                  </a:lnTo>
                  <a:lnTo>
                    <a:pt x="6019" y="19108"/>
                  </a:lnTo>
                  <a:lnTo>
                    <a:pt x="6366" y="18992"/>
                  </a:lnTo>
                  <a:lnTo>
                    <a:pt x="6713" y="18877"/>
                  </a:lnTo>
                  <a:lnTo>
                    <a:pt x="7060" y="18761"/>
                  </a:lnTo>
                  <a:lnTo>
                    <a:pt x="7523" y="18761"/>
                  </a:lnTo>
                  <a:lnTo>
                    <a:pt x="7870" y="18645"/>
                  </a:lnTo>
                  <a:lnTo>
                    <a:pt x="7870" y="18645"/>
                  </a:lnTo>
                  <a:lnTo>
                    <a:pt x="8565" y="18529"/>
                  </a:lnTo>
                  <a:lnTo>
                    <a:pt x="9259" y="18529"/>
                  </a:lnTo>
                  <a:lnTo>
                    <a:pt x="9953" y="18529"/>
                  </a:lnTo>
                  <a:lnTo>
                    <a:pt x="10648" y="18645"/>
                  </a:lnTo>
                  <a:lnTo>
                    <a:pt x="11342" y="18645"/>
                  </a:lnTo>
                  <a:lnTo>
                    <a:pt x="11921" y="18877"/>
                  </a:lnTo>
                  <a:lnTo>
                    <a:pt x="12615" y="18992"/>
                  </a:lnTo>
                  <a:lnTo>
                    <a:pt x="13310" y="19108"/>
                  </a:lnTo>
                  <a:lnTo>
                    <a:pt x="13310" y="19108"/>
                  </a:lnTo>
                  <a:lnTo>
                    <a:pt x="13425" y="18992"/>
                  </a:lnTo>
                  <a:lnTo>
                    <a:pt x="13425" y="18992"/>
                  </a:lnTo>
                  <a:lnTo>
                    <a:pt x="13773" y="17139"/>
                  </a:lnTo>
                  <a:lnTo>
                    <a:pt x="14004" y="15286"/>
                  </a:lnTo>
                  <a:lnTo>
                    <a:pt x="14351" y="13434"/>
                  </a:lnTo>
                  <a:lnTo>
                    <a:pt x="14814" y="11581"/>
                  </a:lnTo>
                  <a:lnTo>
                    <a:pt x="15161" y="9728"/>
                  </a:lnTo>
                  <a:lnTo>
                    <a:pt x="15509" y="7875"/>
                  </a:lnTo>
                  <a:lnTo>
                    <a:pt x="15856" y="6138"/>
                  </a:lnTo>
                  <a:lnTo>
                    <a:pt x="16203" y="4285"/>
                  </a:lnTo>
                  <a:lnTo>
                    <a:pt x="16203" y="4285"/>
                  </a:lnTo>
                  <a:lnTo>
                    <a:pt x="16319" y="4053"/>
                  </a:lnTo>
                  <a:lnTo>
                    <a:pt x="16319" y="3821"/>
                  </a:lnTo>
                  <a:lnTo>
                    <a:pt x="16203" y="3590"/>
                  </a:lnTo>
                  <a:lnTo>
                    <a:pt x="16203" y="3358"/>
                  </a:lnTo>
                  <a:lnTo>
                    <a:pt x="16319" y="3126"/>
                  </a:lnTo>
                  <a:lnTo>
                    <a:pt x="16434" y="3011"/>
                  </a:lnTo>
                  <a:lnTo>
                    <a:pt x="16550" y="2895"/>
                  </a:lnTo>
                  <a:lnTo>
                    <a:pt x="16897" y="2895"/>
                  </a:lnTo>
                  <a:lnTo>
                    <a:pt x="16897" y="2895"/>
                  </a:lnTo>
                  <a:lnTo>
                    <a:pt x="16782" y="2663"/>
                  </a:lnTo>
                  <a:lnTo>
                    <a:pt x="16782" y="2316"/>
                  </a:lnTo>
                  <a:lnTo>
                    <a:pt x="16782" y="1968"/>
                  </a:lnTo>
                  <a:lnTo>
                    <a:pt x="16782" y="1621"/>
                  </a:lnTo>
                  <a:lnTo>
                    <a:pt x="16897" y="1389"/>
                  </a:lnTo>
                  <a:lnTo>
                    <a:pt x="17013" y="1042"/>
                  </a:lnTo>
                  <a:lnTo>
                    <a:pt x="17129" y="810"/>
                  </a:lnTo>
                  <a:lnTo>
                    <a:pt x="17360" y="579"/>
                  </a:lnTo>
                  <a:lnTo>
                    <a:pt x="17360" y="579"/>
                  </a:lnTo>
                  <a:lnTo>
                    <a:pt x="17707" y="347"/>
                  </a:lnTo>
                  <a:lnTo>
                    <a:pt x="18055" y="115"/>
                  </a:lnTo>
                  <a:lnTo>
                    <a:pt x="18518" y="0"/>
                  </a:lnTo>
                  <a:lnTo>
                    <a:pt x="18981" y="0"/>
                  </a:lnTo>
                  <a:lnTo>
                    <a:pt x="19328" y="0"/>
                  </a:lnTo>
                  <a:lnTo>
                    <a:pt x="19791" y="115"/>
                  </a:lnTo>
                  <a:lnTo>
                    <a:pt x="20138" y="347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1158120" y="2932560"/>
              <a:ext cx="115560" cy="192600"/>
            </a:xfrm>
            <a:custGeom>
              <a:avLst/>
              <a:gdLst/>
              <a:ahLst/>
              <a:rect l="l" t="t" r="r" b="b"/>
              <a:pathLst>
                <a:path w="3240" h="3590">
                  <a:moveTo>
                    <a:pt x="3124" y="926"/>
                  </a:moveTo>
                  <a:lnTo>
                    <a:pt x="3124" y="1274"/>
                  </a:lnTo>
                  <a:lnTo>
                    <a:pt x="3240" y="1621"/>
                  </a:lnTo>
                  <a:lnTo>
                    <a:pt x="3240" y="1969"/>
                  </a:lnTo>
                  <a:lnTo>
                    <a:pt x="3240" y="2316"/>
                  </a:lnTo>
                  <a:lnTo>
                    <a:pt x="3240" y="2663"/>
                  </a:lnTo>
                  <a:lnTo>
                    <a:pt x="3124" y="2895"/>
                  </a:lnTo>
                  <a:lnTo>
                    <a:pt x="3009" y="3243"/>
                  </a:lnTo>
                  <a:lnTo>
                    <a:pt x="2893" y="3590"/>
                  </a:lnTo>
                  <a:lnTo>
                    <a:pt x="2893" y="3590"/>
                  </a:lnTo>
                  <a:lnTo>
                    <a:pt x="2546" y="3590"/>
                  </a:lnTo>
                  <a:lnTo>
                    <a:pt x="2546" y="3243"/>
                  </a:lnTo>
                  <a:lnTo>
                    <a:pt x="2661" y="3243"/>
                  </a:lnTo>
                  <a:lnTo>
                    <a:pt x="2661" y="3243"/>
                  </a:lnTo>
                  <a:lnTo>
                    <a:pt x="2661" y="3011"/>
                  </a:lnTo>
                  <a:lnTo>
                    <a:pt x="2777" y="2663"/>
                  </a:lnTo>
                  <a:lnTo>
                    <a:pt x="2893" y="2432"/>
                  </a:lnTo>
                  <a:lnTo>
                    <a:pt x="2893" y="2084"/>
                  </a:lnTo>
                  <a:lnTo>
                    <a:pt x="3009" y="1737"/>
                  </a:lnTo>
                  <a:lnTo>
                    <a:pt x="2893" y="1505"/>
                  </a:lnTo>
                  <a:lnTo>
                    <a:pt x="2893" y="1158"/>
                  </a:lnTo>
                  <a:lnTo>
                    <a:pt x="2777" y="926"/>
                  </a:lnTo>
                  <a:lnTo>
                    <a:pt x="2777" y="926"/>
                  </a:lnTo>
                  <a:lnTo>
                    <a:pt x="2661" y="811"/>
                  </a:lnTo>
                  <a:lnTo>
                    <a:pt x="2546" y="695"/>
                  </a:lnTo>
                  <a:lnTo>
                    <a:pt x="2430" y="579"/>
                  </a:lnTo>
                  <a:lnTo>
                    <a:pt x="2198" y="463"/>
                  </a:lnTo>
                  <a:lnTo>
                    <a:pt x="2083" y="347"/>
                  </a:lnTo>
                  <a:lnTo>
                    <a:pt x="1967" y="231"/>
                  </a:lnTo>
                  <a:lnTo>
                    <a:pt x="1851" y="231"/>
                  </a:lnTo>
                  <a:lnTo>
                    <a:pt x="1736" y="231"/>
                  </a:lnTo>
                  <a:lnTo>
                    <a:pt x="1736" y="231"/>
                  </a:lnTo>
                  <a:lnTo>
                    <a:pt x="1504" y="231"/>
                  </a:lnTo>
                  <a:lnTo>
                    <a:pt x="1273" y="347"/>
                  </a:lnTo>
                  <a:lnTo>
                    <a:pt x="1041" y="347"/>
                  </a:lnTo>
                  <a:lnTo>
                    <a:pt x="925" y="463"/>
                  </a:lnTo>
                  <a:lnTo>
                    <a:pt x="694" y="695"/>
                  </a:lnTo>
                  <a:lnTo>
                    <a:pt x="578" y="811"/>
                  </a:lnTo>
                  <a:lnTo>
                    <a:pt x="462" y="926"/>
                  </a:lnTo>
                  <a:lnTo>
                    <a:pt x="347" y="1158"/>
                  </a:lnTo>
                  <a:lnTo>
                    <a:pt x="347" y="1158"/>
                  </a:lnTo>
                  <a:lnTo>
                    <a:pt x="347" y="2432"/>
                  </a:lnTo>
                  <a:lnTo>
                    <a:pt x="347" y="2432"/>
                  </a:lnTo>
                  <a:lnTo>
                    <a:pt x="115" y="2316"/>
                  </a:lnTo>
                  <a:lnTo>
                    <a:pt x="115" y="2200"/>
                  </a:lnTo>
                  <a:lnTo>
                    <a:pt x="0" y="1969"/>
                  </a:lnTo>
                  <a:lnTo>
                    <a:pt x="0" y="1737"/>
                  </a:lnTo>
                  <a:lnTo>
                    <a:pt x="0" y="1505"/>
                  </a:lnTo>
                  <a:lnTo>
                    <a:pt x="0" y="1390"/>
                  </a:lnTo>
                  <a:lnTo>
                    <a:pt x="0" y="1158"/>
                  </a:lnTo>
                  <a:lnTo>
                    <a:pt x="115" y="926"/>
                  </a:lnTo>
                  <a:lnTo>
                    <a:pt x="115" y="926"/>
                  </a:lnTo>
                  <a:lnTo>
                    <a:pt x="347" y="579"/>
                  </a:lnTo>
                  <a:lnTo>
                    <a:pt x="694" y="231"/>
                  </a:lnTo>
                  <a:lnTo>
                    <a:pt x="1041" y="116"/>
                  </a:lnTo>
                  <a:lnTo>
                    <a:pt x="1504" y="0"/>
                  </a:lnTo>
                  <a:lnTo>
                    <a:pt x="2083" y="0"/>
                  </a:lnTo>
                  <a:lnTo>
                    <a:pt x="2430" y="231"/>
                  </a:lnTo>
                  <a:lnTo>
                    <a:pt x="2777" y="463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1282320" y="2945160"/>
              <a:ext cx="65880" cy="211320"/>
            </a:xfrm>
            <a:custGeom>
              <a:avLst/>
              <a:gdLst/>
              <a:ahLst/>
              <a:rect l="l" t="t" r="r" b="b"/>
              <a:pathLst>
                <a:path w="1851" h="3938">
                  <a:moveTo>
                    <a:pt x="1851" y="1853"/>
                  </a:moveTo>
                  <a:lnTo>
                    <a:pt x="1851" y="1969"/>
                  </a:lnTo>
                  <a:lnTo>
                    <a:pt x="1851" y="2201"/>
                  </a:lnTo>
                  <a:lnTo>
                    <a:pt x="1851" y="2317"/>
                  </a:lnTo>
                  <a:lnTo>
                    <a:pt x="1736" y="2432"/>
                  </a:lnTo>
                  <a:lnTo>
                    <a:pt x="1736" y="2548"/>
                  </a:lnTo>
                  <a:lnTo>
                    <a:pt x="1736" y="2664"/>
                  </a:lnTo>
                  <a:lnTo>
                    <a:pt x="1736" y="2896"/>
                  </a:lnTo>
                  <a:lnTo>
                    <a:pt x="1736" y="3012"/>
                  </a:lnTo>
                  <a:lnTo>
                    <a:pt x="1736" y="3012"/>
                  </a:lnTo>
                  <a:lnTo>
                    <a:pt x="1620" y="3127"/>
                  </a:lnTo>
                  <a:lnTo>
                    <a:pt x="1620" y="3243"/>
                  </a:lnTo>
                  <a:lnTo>
                    <a:pt x="1504" y="3359"/>
                  </a:lnTo>
                  <a:lnTo>
                    <a:pt x="1388" y="3475"/>
                  </a:lnTo>
                  <a:lnTo>
                    <a:pt x="1273" y="3591"/>
                  </a:lnTo>
                  <a:lnTo>
                    <a:pt x="1157" y="3706"/>
                  </a:lnTo>
                  <a:lnTo>
                    <a:pt x="1041" y="3822"/>
                  </a:lnTo>
                  <a:lnTo>
                    <a:pt x="925" y="3938"/>
                  </a:lnTo>
                  <a:lnTo>
                    <a:pt x="925" y="3938"/>
                  </a:lnTo>
                  <a:lnTo>
                    <a:pt x="810" y="3938"/>
                  </a:lnTo>
                  <a:lnTo>
                    <a:pt x="810" y="3938"/>
                  </a:lnTo>
                  <a:lnTo>
                    <a:pt x="694" y="3938"/>
                  </a:lnTo>
                  <a:lnTo>
                    <a:pt x="694" y="3822"/>
                  </a:lnTo>
                  <a:lnTo>
                    <a:pt x="694" y="3822"/>
                  </a:lnTo>
                  <a:lnTo>
                    <a:pt x="694" y="3706"/>
                  </a:lnTo>
                  <a:lnTo>
                    <a:pt x="694" y="3706"/>
                  </a:lnTo>
                  <a:lnTo>
                    <a:pt x="694" y="3591"/>
                  </a:lnTo>
                  <a:lnTo>
                    <a:pt x="694" y="3591"/>
                  </a:lnTo>
                  <a:lnTo>
                    <a:pt x="925" y="3243"/>
                  </a:lnTo>
                  <a:lnTo>
                    <a:pt x="1157" y="3012"/>
                  </a:lnTo>
                  <a:lnTo>
                    <a:pt x="1273" y="2664"/>
                  </a:lnTo>
                  <a:lnTo>
                    <a:pt x="1273" y="2317"/>
                  </a:lnTo>
                  <a:lnTo>
                    <a:pt x="1273" y="1969"/>
                  </a:lnTo>
                  <a:lnTo>
                    <a:pt x="1157" y="1622"/>
                  </a:lnTo>
                  <a:lnTo>
                    <a:pt x="1041" y="1274"/>
                  </a:lnTo>
                  <a:lnTo>
                    <a:pt x="1041" y="811"/>
                  </a:lnTo>
                  <a:lnTo>
                    <a:pt x="1041" y="811"/>
                  </a:lnTo>
                  <a:lnTo>
                    <a:pt x="925" y="811"/>
                  </a:lnTo>
                  <a:lnTo>
                    <a:pt x="810" y="695"/>
                  </a:lnTo>
                  <a:lnTo>
                    <a:pt x="694" y="580"/>
                  </a:lnTo>
                  <a:lnTo>
                    <a:pt x="578" y="464"/>
                  </a:lnTo>
                  <a:lnTo>
                    <a:pt x="462" y="464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5" y="464"/>
                  </a:lnTo>
                  <a:lnTo>
                    <a:pt x="115" y="464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115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2" y="0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925" y="232"/>
                  </a:lnTo>
                  <a:lnTo>
                    <a:pt x="1041" y="232"/>
                  </a:lnTo>
                  <a:lnTo>
                    <a:pt x="1041" y="232"/>
                  </a:lnTo>
                  <a:lnTo>
                    <a:pt x="1273" y="464"/>
                  </a:lnTo>
                  <a:lnTo>
                    <a:pt x="1388" y="580"/>
                  </a:lnTo>
                  <a:lnTo>
                    <a:pt x="1504" y="811"/>
                  </a:lnTo>
                  <a:lnTo>
                    <a:pt x="1620" y="1043"/>
                  </a:lnTo>
                  <a:lnTo>
                    <a:pt x="1620" y="1159"/>
                  </a:lnTo>
                  <a:lnTo>
                    <a:pt x="1736" y="1390"/>
                  </a:lnTo>
                  <a:lnTo>
                    <a:pt x="1736" y="1622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1182960" y="2970000"/>
              <a:ext cx="49320" cy="99360"/>
            </a:xfrm>
            <a:custGeom>
              <a:avLst/>
              <a:gdLst/>
              <a:ahLst/>
              <a:rect l="l" t="t" r="r" b="b"/>
              <a:pathLst>
                <a:path w="1389" h="1853">
                  <a:moveTo>
                    <a:pt x="1389" y="347"/>
                  </a:moveTo>
                  <a:lnTo>
                    <a:pt x="1157" y="579"/>
                  </a:lnTo>
                  <a:lnTo>
                    <a:pt x="1042" y="810"/>
                  </a:lnTo>
                  <a:lnTo>
                    <a:pt x="926" y="1042"/>
                  </a:lnTo>
                  <a:lnTo>
                    <a:pt x="810" y="1389"/>
                  </a:lnTo>
                  <a:lnTo>
                    <a:pt x="810" y="1621"/>
                  </a:lnTo>
                  <a:lnTo>
                    <a:pt x="694" y="1853"/>
                  </a:lnTo>
                  <a:lnTo>
                    <a:pt x="463" y="1853"/>
                  </a:lnTo>
                  <a:lnTo>
                    <a:pt x="116" y="1737"/>
                  </a:lnTo>
                  <a:lnTo>
                    <a:pt x="116" y="1737"/>
                  </a:lnTo>
                  <a:lnTo>
                    <a:pt x="0" y="1505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6" y="810"/>
                  </a:lnTo>
                  <a:lnTo>
                    <a:pt x="116" y="579"/>
                  </a:lnTo>
                  <a:lnTo>
                    <a:pt x="231" y="347"/>
                  </a:lnTo>
                  <a:lnTo>
                    <a:pt x="463" y="231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7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389" y="231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1356840" y="2988720"/>
              <a:ext cx="65880" cy="192600"/>
            </a:xfrm>
            <a:custGeom>
              <a:avLst/>
              <a:gdLst/>
              <a:ahLst/>
              <a:rect l="l" t="t" r="r" b="b"/>
              <a:pathLst>
                <a:path w="1851" h="3590">
                  <a:moveTo>
                    <a:pt x="1620" y="695"/>
                  </a:moveTo>
                  <a:lnTo>
                    <a:pt x="1736" y="927"/>
                  </a:lnTo>
                  <a:lnTo>
                    <a:pt x="1736" y="1158"/>
                  </a:lnTo>
                  <a:lnTo>
                    <a:pt x="1851" y="1390"/>
                  </a:lnTo>
                  <a:lnTo>
                    <a:pt x="1851" y="1621"/>
                  </a:lnTo>
                  <a:lnTo>
                    <a:pt x="1851" y="1853"/>
                  </a:lnTo>
                  <a:lnTo>
                    <a:pt x="1851" y="2085"/>
                  </a:lnTo>
                  <a:lnTo>
                    <a:pt x="1851" y="2316"/>
                  </a:lnTo>
                  <a:lnTo>
                    <a:pt x="1736" y="2432"/>
                  </a:lnTo>
                  <a:lnTo>
                    <a:pt x="1736" y="2432"/>
                  </a:lnTo>
                  <a:lnTo>
                    <a:pt x="1736" y="2664"/>
                  </a:lnTo>
                  <a:lnTo>
                    <a:pt x="1620" y="2780"/>
                  </a:lnTo>
                  <a:lnTo>
                    <a:pt x="1504" y="2895"/>
                  </a:lnTo>
                  <a:lnTo>
                    <a:pt x="1388" y="3127"/>
                  </a:lnTo>
                  <a:lnTo>
                    <a:pt x="1273" y="3243"/>
                  </a:lnTo>
                  <a:lnTo>
                    <a:pt x="1157" y="3359"/>
                  </a:lnTo>
                  <a:lnTo>
                    <a:pt x="1041" y="3474"/>
                  </a:lnTo>
                  <a:lnTo>
                    <a:pt x="926" y="3590"/>
                  </a:lnTo>
                  <a:lnTo>
                    <a:pt x="926" y="3590"/>
                  </a:lnTo>
                  <a:lnTo>
                    <a:pt x="810" y="3590"/>
                  </a:lnTo>
                  <a:lnTo>
                    <a:pt x="694" y="3590"/>
                  </a:lnTo>
                  <a:lnTo>
                    <a:pt x="694" y="3474"/>
                  </a:lnTo>
                  <a:lnTo>
                    <a:pt x="578" y="3474"/>
                  </a:lnTo>
                  <a:lnTo>
                    <a:pt x="578" y="3359"/>
                  </a:lnTo>
                  <a:lnTo>
                    <a:pt x="578" y="3359"/>
                  </a:lnTo>
                  <a:lnTo>
                    <a:pt x="578" y="3243"/>
                  </a:lnTo>
                  <a:lnTo>
                    <a:pt x="578" y="3127"/>
                  </a:lnTo>
                  <a:lnTo>
                    <a:pt x="578" y="3127"/>
                  </a:lnTo>
                  <a:lnTo>
                    <a:pt x="694" y="3127"/>
                  </a:lnTo>
                  <a:lnTo>
                    <a:pt x="810" y="3011"/>
                  </a:lnTo>
                  <a:lnTo>
                    <a:pt x="926" y="2895"/>
                  </a:lnTo>
                  <a:lnTo>
                    <a:pt x="1041" y="2780"/>
                  </a:lnTo>
                  <a:lnTo>
                    <a:pt x="1041" y="2664"/>
                  </a:lnTo>
                  <a:lnTo>
                    <a:pt x="1157" y="2432"/>
                  </a:lnTo>
                  <a:lnTo>
                    <a:pt x="1157" y="2316"/>
                  </a:lnTo>
                  <a:lnTo>
                    <a:pt x="1157" y="2201"/>
                  </a:lnTo>
                  <a:lnTo>
                    <a:pt x="1157" y="2201"/>
                  </a:lnTo>
                  <a:lnTo>
                    <a:pt x="1157" y="1969"/>
                  </a:lnTo>
                  <a:lnTo>
                    <a:pt x="1157" y="1621"/>
                  </a:lnTo>
                  <a:lnTo>
                    <a:pt x="1157" y="1390"/>
                  </a:lnTo>
                  <a:lnTo>
                    <a:pt x="1041" y="1042"/>
                  </a:lnTo>
                  <a:lnTo>
                    <a:pt x="926" y="811"/>
                  </a:lnTo>
                  <a:lnTo>
                    <a:pt x="810" y="579"/>
                  </a:lnTo>
                  <a:lnTo>
                    <a:pt x="578" y="348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231" y="232"/>
                  </a:lnTo>
                  <a:lnTo>
                    <a:pt x="231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6"/>
                  </a:lnTo>
                  <a:lnTo>
                    <a:pt x="1273" y="232"/>
                  </a:lnTo>
                  <a:lnTo>
                    <a:pt x="1504" y="463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1431360" y="3013560"/>
              <a:ext cx="57600" cy="186480"/>
            </a:xfrm>
            <a:custGeom>
              <a:avLst/>
              <a:gdLst/>
              <a:ahLst/>
              <a:rect l="l" t="t" r="r" b="b"/>
              <a:pathLst>
                <a:path w="1620" h="3475">
                  <a:moveTo>
                    <a:pt x="1620" y="1390"/>
                  </a:moveTo>
                  <a:lnTo>
                    <a:pt x="1620" y="1622"/>
                  </a:lnTo>
                  <a:lnTo>
                    <a:pt x="1620" y="1853"/>
                  </a:lnTo>
                  <a:lnTo>
                    <a:pt x="1620" y="2085"/>
                  </a:lnTo>
                  <a:lnTo>
                    <a:pt x="1620" y="2317"/>
                  </a:lnTo>
                  <a:lnTo>
                    <a:pt x="1620" y="2432"/>
                  </a:lnTo>
                  <a:lnTo>
                    <a:pt x="1620" y="2664"/>
                  </a:lnTo>
                  <a:lnTo>
                    <a:pt x="1504" y="2896"/>
                  </a:lnTo>
                  <a:lnTo>
                    <a:pt x="1389" y="3011"/>
                  </a:lnTo>
                  <a:lnTo>
                    <a:pt x="1389" y="3011"/>
                  </a:lnTo>
                  <a:lnTo>
                    <a:pt x="1273" y="3127"/>
                  </a:lnTo>
                  <a:lnTo>
                    <a:pt x="1157" y="3127"/>
                  </a:lnTo>
                  <a:lnTo>
                    <a:pt x="1041" y="3243"/>
                  </a:lnTo>
                  <a:lnTo>
                    <a:pt x="1041" y="3359"/>
                  </a:lnTo>
                  <a:lnTo>
                    <a:pt x="926" y="3475"/>
                  </a:lnTo>
                  <a:lnTo>
                    <a:pt x="926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694" y="3359"/>
                  </a:lnTo>
                  <a:lnTo>
                    <a:pt x="694" y="3243"/>
                  </a:lnTo>
                  <a:lnTo>
                    <a:pt x="810" y="3127"/>
                  </a:lnTo>
                  <a:lnTo>
                    <a:pt x="810" y="3011"/>
                  </a:lnTo>
                  <a:lnTo>
                    <a:pt x="926" y="2896"/>
                  </a:lnTo>
                  <a:lnTo>
                    <a:pt x="1041" y="2780"/>
                  </a:lnTo>
                  <a:lnTo>
                    <a:pt x="1157" y="2664"/>
                  </a:lnTo>
                  <a:lnTo>
                    <a:pt x="1273" y="2548"/>
                  </a:lnTo>
                  <a:lnTo>
                    <a:pt x="1273" y="2432"/>
                  </a:lnTo>
                  <a:lnTo>
                    <a:pt x="1273" y="2432"/>
                  </a:lnTo>
                  <a:lnTo>
                    <a:pt x="1389" y="2085"/>
                  </a:lnTo>
                  <a:lnTo>
                    <a:pt x="1389" y="1853"/>
                  </a:lnTo>
                  <a:lnTo>
                    <a:pt x="1273" y="1506"/>
                  </a:lnTo>
                  <a:lnTo>
                    <a:pt x="1157" y="1274"/>
                  </a:lnTo>
                  <a:lnTo>
                    <a:pt x="1041" y="1043"/>
                  </a:lnTo>
                  <a:lnTo>
                    <a:pt x="810" y="811"/>
                  </a:lnTo>
                  <a:lnTo>
                    <a:pt x="579" y="579"/>
                  </a:lnTo>
                  <a:lnTo>
                    <a:pt x="347" y="348"/>
                  </a:lnTo>
                  <a:lnTo>
                    <a:pt x="347" y="348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6" y="348"/>
                  </a:lnTo>
                  <a:lnTo>
                    <a:pt x="116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463" y="0"/>
                  </a:lnTo>
                  <a:lnTo>
                    <a:pt x="694" y="116"/>
                  </a:lnTo>
                  <a:lnTo>
                    <a:pt x="926" y="348"/>
                  </a:lnTo>
                  <a:lnTo>
                    <a:pt x="1041" y="464"/>
                  </a:lnTo>
                  <a:lnTo>
                    <a:pt x="1273" y="695"/>
                  </a:lnTo>
                  <a:lnTo>
                    <a:pt x="1389" y="927"/>
                  </a:lnTo>
                  <a:lnTo>
                    <a:pt x="1504" y="1158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1493640" y="3025800"/>
              <a:ext cx="74160" cy="192600"/>
            </a:xfrm>
            <a:custGeom>
              <a:avLst/>
              <a:gdLst/>
              <a:ahLst/>
              <a:rect l="l" t="t" r="r" b="b"/>
              <a:pathLst>
                <a:path w="2083" h="3590">
                  <a:moveTo>
                    <a:pt x="2083" y="1390"/>
                  </a:moveTo>
                  <a:lnTo>
                    <a:pt x="2083" y="1737"/>
                  </a:lnTo>
                  <a:lnTo>
                    <a:pt x="2083" y="1969"/>
                  </a:lnTo>
                  <a:lnTo>
                    <a:pt x="2083" y="2200"/>
                  </a:lnTo>
                  <a:lnTo>
                    <a:pt x="2083" y="2548"/>
                  </a:lnTo>
                  <a:lnTo>
                    <a:pt x="1967" y="2779"/>
                  </a:lnTo>
                  <a:lnTo>
                    <a:pt x="1967" y="3011"/>
                  </a:lnTo>
                  <a:lnTo>
                    <a:pt x="1852" y="3243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504" y="3474"/>
                  </a:lnTo>
                  <a:lnTo>
                    <a:pt x="1389" y="3474"/>
                  </a:lnTo>
                  <a:lnTo>
                    <a:pt x="1273" y="3590"/>
                  </a:lnTo>
                  <a:lnTo>
                    <a:pt x="1273" y="3590"/>
                  </a:lnTo>
                  <a:lnTo>
                    <a:pt x="1157" y="3590"/>
                  </a:lnTo>
                  <a:lnTo>
                    <a:pt x="1041" y="3590"/>
                  </a:lnTo>
                  <a:lnTo>
                    <a:pt x="1041" y="3474"/>
                  </a:lnTo>
                  <a:lnTo>
                    <a:pt x="1041" y="3474"/>
                  </a:lnTo>
                  <a:lnTo>
                    <a:pt x="1157" y="3358"/>
                  </a:lnTo>
                  <a:lnTo>
                    <a:pt x="1273" y="3243"/>
                  </a:lnTo>
                  <a:lnTo>
                    <a:pt x="1389" y="3011"/>
                  </a:lnTo>
                  <a:lnTo>
                    <a:pt x="1504" y="2895"/>
                  </a:lnTo>
                  <a:lnTo>
                    <a:pt x="1504" y="2664"/>
                  </a:lnTo>
                  <a:lnTo>
                    <a:pt x="1620" y="2432"/>
                  </a:lnTo>
                  <a:lnTo>
                    <a:pt x="1620" y="2200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620" y="1621"/>
                  </a:lnTo>
                  <a:lnTo>
                    <a:pt x="1504" y="1390"/>
                  </a:lnTo>
                  <a:lnTo>
                    <a:pt x="1389" y="1274"/>
                  </a:lnTo>
                  <a:lnTo>
                    <a:pt x="1273" y="1042"/>
                  </a:lnTo>
                  <a:lnTo>
                    <a:pt x="1157" y="811"/>
                  </a:lnTo>
                  <a:lnTo>
                    <a:pt x="1041" y="695"/>
                  </a:lnTo>
                  <a:lnTo>
                    <a:pt x="810" y="463"/>
                  </a:lnTo>
                  <a:lnTo>
                    <a:pt x="810" y="463"/>
                  </a:lnTo>
                  <a:lnTo>
                    <a:pt x="694" y="463"/>
                  </a:lnTo>
                  <a:lnTo>
                    <a:pt x="579" y="347"/>
                  </a:lnTo>
                  <a:lnTo>
                    <a:pt x="463" y="347"/>
                  </a:lnTo>
                  <a:lnTo>
                    <a:pt x="347" y="463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347" y="0"/>
                  </a:lnTo>
                  <a:lnTo>
                    <a:pt x="579" y="0"/>
                  </a:lnTo>
                  <a:lnTo>
                    <a:pt x="926" y="116"/>
                  </a:lnTo>
                  <a:lnTo>
                    <a:pt x="1157" y="347"/>
                  </a:lnTo>
                  <a:lnTo>
                    <a:pt x="1389" y="579"/>
                  </a:lnTo>
                  <a:lnTo>
                    <a:pt x="1620" y="811"/>
                  </a:lnTo>
                  <a:lnTo>
                    <a:pt x="1852" y="1158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1559880" y="3032280"/>
              <a:ext cx="70200" cy="173880"/>
            </a:xfrm>
            <a:custGeom>
              <a:avLst/>
              <a:gdLst/>
              <a:ahLst/>
              <a:rect l="l" t="t" r="r" b="b"/>
              <a:pathLst>
                <a:path w="1967" h="3242">
                  <a:moveTo>
                    <a:pt x="1388" y="463"/>
                  </a:moveTo>
                  <a:lnTo>
                    <a:pt x="1620" y="695"/>
                  </a:lnTo>
                  <a:lnTo>
                    <a:pt x="1736" y="810"/>
                  </a:lnTo>
                  <a:lnTo>
                    <a:pt x="1851" y="1042"/>
                  </a:lnTo>
                  <a:lnTo>
                    <a:pt x="1967" y="1274"/>
                  </a:lnTo>
                  <a:lnTo>
                    <a:pt x="1967" y="1621"/>
                  </a:lnTo>
                  <a:lnTo>
                    <a:pt x="1967" y="1853"/>
                  </a:lnTo>
                  <a:lnTo>
                    <a:pt x="1967" y="2084"/>
                  </a:lnTo>
                  <a:lnTo>
                    <a:pt x="1967" y="2316"/>
                  </a:lnTo>
                  <a:lnTo>
                    <a:pt x="1967" y="2316"/>
                  </a:lnTo>
                  <a:lnTo>
                    <a:pt x="1851" y="2548"/>
                  </a:lnTo>
                  <a:lnTo>
                    <a:pt x="1851" y="2663"/>
                  </a:lnTo>
                  <a:lnTo>
                    <a:pt x="1736" y="2779"/>
                  </a:lnTo>
                  <a:lnTo>
                    <a:pt x="1620" y="2895"/>
                  </a:lnTo>
                  <a:lnTo>
                    <a:pt x="1620" y="3011"/>
                  </a:lnTo>
                  <a:lnTo>
                    <a:pt x="1504" y="3127"/>
                  </a:lnTo>
                  <a:lnTo>
                    <a:pt x="1388" y="3242"/>
                  </a:lnTo>
                  <a:lnTo>
                    <a:pt x="1273" y="3242"/>
                  </a:lnTo>
                  <a:lnTo>
                    <a:pt x="1273" y="3242"/>
                  </a:lnTo>
                  <a:lnTo>
                    <a:pt x="1273" y="3011"/>
                  </a:lnTo>
                  <a:lnTo>
                    <a:pt x="1388" y="2663"/>
                  </a:lnTo>
                  <a:lnTo>
                    <a:pt x="1504" y="2316"/>
                  </a:lnTo>
                  <a:lnTo>
                    <a:pt x="1620" y="1969"/>
                  </a:lnTo>
                  <a:lnTo>
                    <a:pt x="1620" y="1621"/>
                  </a:lnTo>
                  <a:lnTo>
                    <a:pt x="1620" y="1274"/>
                  </a:lnTo>
                  <a:lnTo>
                    <a:pt x="1504" y="926"/>
                  </a:lnTo>
                  <a:lnTo>
                    <a:pt x="1273" y="695"/>
                  </a:lnTo>
                  <a:lnTo>
                    <a:pt x="1273" y="695"/>
                  </a:lnTo>
                  <a:lnTo>
                    <a:pt x="1157" y="579"/>
                  </a:lnTo>
                  <a:lnTo>
                    <a:pt x="925" y="579"/>
                  </a:lnTo>
                  <a:lnTo>
                    <a:pt x="810" y="463"/>
                  </a:lnTo>
                  <a:lnTo>
                    <a:pt x="578" y="463"/>
                  </a:lnTo>
                  <a:lnTo>
                    <a:pt x="463" y="463"/>
                  </a:lnTo>
                  <a:lnTo>
                    <a:pt x="231" y="463"/>
                  </a:lnTo>
                  <a:lnTo>
                    <a:pt x="115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231" y="116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925" y="116"/>
                  </a:lnTo>
                  <a:lnTo>
                    <a:pt x="1157" y="231"/>
                  </a:lnTo>
                  <a:lnTo>
                    <a:pt x="1273" y="347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1642320" y="3069360"/>
              <a:ext cx="53640" cy="167760"/>
            </a:xfrm>
            <a:custGeom>
              <a:avLst/>
              <a:gdLst/>
              <a:ahLst/>
              <a:rect l="l" t="t" r="r" b="b"/>
              <a:pathLst>
                <a:path w="1505" h="3127">
                  <a:moveTo>
                    <a:pt x="1505" y="1158"/>
                  </a:moveTo>
                  <a:lnTo>
                    <a:pt x="1505" y="1389"/>
                  </a:lnTo>
                  <a:lnTo>
                    <a:pt x="1505" y="1737"/>
                  </a:lnTo>
                  <a:lnTo>
                    <a:pt x="1505" y="1968"/>
                  </a:lnTo>
                  <a:lnTo>
                    <a:pt x="1389" y="2316"/>
                  </a:lnTo>
                  <a:lnTo>
                    <a:pt x="1273" y="2547"/>
                  </a:lnTo>
                  <a:lnTo>
                    <a:pt x="1158" y="2779"/>
                  </a:lnTo>
                  <a:lnTo>
                    <a:pt x="926" y="2895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2895"/>
                  </a:lnTo>
                  <a:lnTo>
                    <a:pt x="695" y="2779"/>
                  </a:lnTo>
                  <a:lnTo>
                    <a:pt x="810" y="2663"/>
                  </a:lnTo>
                  <a:lnTo>
                    <a:pt x="810" y="2432"/>
                  </a:lnTo>
                  <a:lnTo>
                    <a:pt x="926" y="2316"/>
                  </a:lnTo>
                  <a:lnTo>
                    <a:pt x="926" y="2200"/>
                  </a:lnTo>
                  <a:lnTo>
                    <a:pt x="1042" y="1968"/>
                  </a:lnTo>
                  <a:lnTo>
                    <a:pt x="1042" y="1737"/>
                  </a:lnTo>
                  <a:lnTo>
                    <a:pt x="1042" y="1737"/>
                  </a:lnTo>
                  <a:lnTo>
                    <a:pt x="1042" y="1621"/>
                  </a:lnTo>
                  <a:lnTo>
                    <a:pt x="1042" y="1389"/>
                  </a:lnTo>
                  <a:lnTo>
                    <a:pt x="926" y="1158"/>
                  </a:lnTo>
                  <a:lnTo>
                    <a:pt x="926" y="926"/>
                  </a:lnTo>
                  <a:lnTo>
                    <a:pt x="926" y="810"/>
                  </a:lnTo>
                  <a:lnTo>
                    <a:pt x="810" y="695"/>
                  </a:lnTo>
                  <a:lnTo>
                    <a:pt x="579" y="463"/>
                  </a:lnTo>
                  <a:lnTo>
                    <a:pt x="463" y="347"/>
                  </a:lnTo>
                  <a:lnTo>
                    <a:pt x="463" y="347"/>
                  </a:lnTo>
                  <a:lnTo>
                    <a:pt x="347" y="347"/>
                  </a:lnTo>
                  <a:lnTo>
                    <a:pt x="232" y="347"/>
                  </a:lnTo>
                  <a:lnTo>
                    <a:pt x="232" y="347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2" y="0"/>
                  </a:lnTo>
                  <a:lnTo>
                    <a:pt x="232" y="0"/>
                  </a:lnTo>
                  <a:lnTo>
                    <a:pt x="463" y="0"/>
                  </a:lnTo>
                  <a:lnTo>
                    <a:pt x="695" y="115"/>
                  </a:lnTo>
                  <a:lnTo>
                    <a:pt x="926" y="231"/>
                  </a:lnTo>
                  <a:lnTo>
                    <a:pt x="1042" y="347"/>
                  </a:lnTo>
                  <a:lnTo>
                    <a:pt x="1158" y="579"/>
                  </a:lnTo>
                  <a:lnTo>
                    <a:pt x="1273" y="695"/>
                  </a:lnTo>
                  <a:lnTo>
                    <a:pt x="1389" y="926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1091880" y="3088080"/>
              <a:ext cx="852480" cy="1181160"/>
            </a:xfrm>
            <a:custGeom>
              <a:avLst/>
              <a:gdLst/>
              <a:ahLst/>
              <a:rect l="l" t="t" r="r" b="b"/>
              <a:pathLst>
                <a:path w="23841" h="22004">
                  <a:moveTo>
                    <a:pt x="4050" y="116"/>
                  </a:moveTo>
                  <a:lnTo>
                    <a:pt x="4050" y="232"/>
                  </a:lnTo>
                  <a:lnTo>
                    <a:pt x="3935" y="348"/>
                  </a:lnTo>
                  <a:lnTo>
                    <a:pt x="3935" y="463"/>
                  </a:lnTo>
                  <a:lnTo>
                    <a:pt x="3935" y="579"/>
                  </a:lnTo>
                  <a:lnTo>
                    <a:pt x="3935" y="695"/>
                  </a:lnTo>
                  <a:lnTo>
                    <a:pt x="3935" y="811"/>
                  </a:lnTo>
                  <a:lnTo>
                    <a:pt x="4050" y="927"/>
                  </a:lnTo>
                  <a:lnTo>
                    <a:pt x="4050" y="1042"/>
                  </a:lnTo>
                  <a:lnTo>
                    <a:pt x="4050" y="1042"/>
                  </a:lnTo>
                  <a:lnTo>
                    <a:pt x="4166" y="1158"/>
                  </a:lnTo>
                  <a:lnTo>
                    <a:pt x="4166" y="1274"/>
                  </a:lnTo>
                  <a:lnTo>
                    <a:pt x="4282" y="1274"/>
                  </a:lnTo>
                  <a:lnTo>
                    <a:pt x="4398" y="1274"/>
                  </a:lnTo>
                  <a:lnTo>
                    <a:pt x="4398" y="1274"/>
                  </a:lnTo>
                  <a:lnTo>
                    <a:pt x="4513" y="1274"/>
                  </a:lnTo>
                  <a:lnTo>
                    <a:pt x="4629" y="1274"/>
                  </a:lnTo>
                  <a:lnTo>
                    <a:pt x="4745" y="1274"/>
                  </a:lnTo>
                  <a:lnTo>
                    <a:pt x="4745" y="1274"/>
                  </a:lnTo>
                  <a:lnTo>
                    <a:pt x="4861" y="1158"/>
                  </a:lnTo>
                  <a:lnTo>
                    <a:pt x="4976" y="1042"/>
                  </a:lnTo>
                  <a:lnTo>
                    <a:pt x="5092" y="927"/>
                  </a:lnTo>
                  <a:lnTo>
                    <a:pt x="5208" y="695"/>
                  </a:lnTo>
                  <a:lnTo>
                    <a:pt x="5324" y="579"/>
                  </a:lnTo>
                  <a:lnTo>
                    <a:pt x="5439" y="463"/>
                  </a:lnTo>
                  <a:lnTo>
                    <a:pt x="5439" y="348"/>
                  </a:lnTo>
                  <a:lnTo>
                    <a:pt x="5439" y="116"/>
                  </a:lnTo>
                  <a:lnTo>
                    <a:pt x="5439" y="116"/>
                  </a:lnTo>
                  <a:lnTo>
                    <a:pt x="5786" y="232"/>
                  </a:lnTo>
                  <a:lnTo>
                    <a:pt x="5786" y="232"/>
                  </a:lnTo>
                  <a:lnTo>
                    <a:pt x="5671" y="348"/>
                  </a:lnTo>
                  <a:lnTo>
                    <a:pt x="5439" y="463"/>
                  </a:lnTo>
                  <a:lnTo>
                    <a:pt x="5439" y="579"/>
                  </a:lnTo>
                  <a:lnTo>
                    <a:pt x="5324" y="811"/>
                  </a:lnTo>
                  <a:lnTo>
                    <a:pt x="5324" y="927"/>
                  </a:lnTo>
                  <a:lnTo>
                    <a:pt x="5324" y="1158"/>
                  </a:lnTo>
                  <a:lnTo>
                    <a:pt x="5439" y="1390"/>
                  </a:lnTo>
                  <a:lnTo>
                    <a:pt x="5439" y="1506"/>
                  </a:lnTo>
                  <a:lnTo>
                    <a:pt x="5439" y="1506"/>
                  </a:lnTo>
                  <a:lnTo>
                    <a:pt x="5555" y="1737"/>
                  </a:lnTo>
                  <a:lnTo>
                    <a:pt x="5671" y="1737"/>
                  </a:lnTo>
                  <a:lnTo>
                    <a:pt x="5786" y="1853"/>
                  </a:lnTo>
                  <a:lnTo>
                    <a:pt x="5902" y="1853"/>
                  </a:lnTo>
                  <a:lnTo>
                    <a:pt x="6018" y="1853"/>
                  </a:lnTo>
                  <a:lnTo>
                    <a:pt x="6249" y="1853"/>
                  </a:lnTo>
                  <a:lnTo>
                    <a:pt x="6365" y="1853"/>
                  </a:lnTo>
                  <a:lnTo>
                    <a:pt x="6481" y="1737"/>
                  </a:lnTo>
                  <a:lnTo>
                    <a:pt x="6481" y="1737"/>
                  </a:lnTo>
                  <a:lnTo>
                    <a:pt x="6712" y="1737"/>
                  </a:lnTo>
                  <a:lnTo>
                    <a:pt x="6828" y="1621"/>
                  </a:lnTo>
                  <a:lnTo>
                    <a:pt x="6944" y="1390"/>
                  </a:lnTo>
                  <a:lnTo>
                    <a:pt x="7060" y="1274"/>
                  </a:lnTo>
                  <a:lnTo>
                    <a:pt x="7175" y="1042"/>
                  </a:lnTo>
                  <a:lnTo>
                    <a:pt x="7291" y="927"/>
                  </a:lnTo>
                  <a:lnTo>
                    <a:pt x="7291" y="695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638" y="695"/>
                  </a:lnTo>
                  <a:lnTo>
                    <a:pt x="7522" y="811"/>
                  </a:lnTo>
                  <a:lnTo>
                    <a:pt x="7407" y="1042"/>
                  </a:lnTo>
                  <a:lnTo>
                    <a:pt x="7407" y="1158"/>
                  </a:lnTo>
                  <a:lnTo>
                    <a:pt x="7291" y="1274"/>
                  </a:lnTo>
                  <a:lnTo>
                    <a:pt x="7291" y="1390"/>
                  </a:lnTo>
                  <a:lnTo>
                    <a:pt x="7291" y="1506"/>
                  </a:lnTo>
                  <a:lnTo>
                    <a:pt x="7291" y="1621"/>
                  </a:lnTo>
                  <a:lnTo>
                    <a:pt x="7291" y="1621"/>
                  </a:lnTo>
                  <a:lnTo>
                    <a:pt x="7407" y="1737"/>
                  </a:lnTo>
                  <a:lnTo>
                    <a:pt x="7407" y="1969"/>
                  </a:lnTo>
                  <a:lnTo>
                    <a:pt x="7407" y="2085"/>
                  </a:lnTo>
                  <a:lnTo>
                    <a:pt x="7522" y="2200"/>
                  </a:lnTo>
                  <a:lnTo>
                    <a:pt x="7522" y="2316"/>
                  </a:lnTo>
                  <a:lnTo>
                    <a:pt x="7638" y="2316"/>
                  </a:lnTo>
                  <a:lnTo>
                    <a:pt x="7754" y="2432"/>
                  </a:lnTo>
                  <a:lnTo>
                    <a:pt x="7870" y="2432"/>
                  </a:lnTo>
                  <a:lnTo>
                    <a:pt x="7870" y="2432"/>
                  </a:lnTo>
                  <a:lnTo>
                    <a:pt x="8101" y="2432"/>
                  </a:lnTo>
                  <a:lnTo>
                    <a:pt x="8217" y="2432"/>
                  </a:lnTo>
                  <a:lnTo>
                    <a:pt x="8333" y="2316"/>
                  </a:lnTo>
                  <a:lnTo>
                    <a:pt x="8448" y="2200"/>
                  </a:lnTo>
                  <a:lnTo>
                    <a:pt x="8564" y="2200"/>
                  </a:lnTo>
                  <a:lnTo>
                    <a:pt x="8564" y="2085"/>
                  </a:lnTo>
                  <a:lnTo>
                    <a:pt x="8680" y="1969"/>
                  </a:lnTo>
                  <a:lnTo>
                    <a:pt x="8911" y="1969"/>
                  </a:lnTo>
                  <a:lnTo>
                    <a:pt x="8911" y="1969"/>
                  </a:lnTo>
                  <a:lnTo>
                    <a:pt x="8911" y="1853"/>
                  </a:lnTo>
                  <a:lnTo>
                    <a:pt x="8911" y="1737"/>
                  </a:lnTo>
                  <a:lnTo>
                    <a:pt x="9027" y="1737"/>
                  </a:lnTo>
                  <a:lnTo>
                    <a:pt x="9143" y="1621"/>
                  </a:lnTo>
                  <a:lnTo>
                    <a:pt x="9258" y="1506"/>
                  </a:lnTo>
                  <a:lnTo>
                    <a:pt x="9374" y="1390"/>
                  </a:lnTo>
                  <a:lnTo>
                    <a:pt x="9374" y="1274"/>
                  </a:lnTo>
                  <a:lnTo>
                    <a:pt x="9490" y="1158"/>
                  </a:lnTo>
                  <a:lnTo>
                    <a:pt x="9490" y="1158"/>
                  </a:lnTo>
                  <a:lnTo>
                    <a:pt x="9837" y="1274"/>
                  </a:lnTo>
                  <a:lnTo>
                    <a:pt x="9837" y="1274"/>
                  </a:lnTo>
                  <a:lnTo>
                    <a:pt x="9837" y="1390"/>
                  </a:lnTo>
                  <a:lnTo>
                    <a:pt x="9721" y="1621"/>
                  </a:lnTo>
                  <a:lnTo>
                    <a:pt x="9721" y="1853"/>
                  </a:lnTo>
                  <a:lnTo>
                    <a:pt x="9606" y="2085"/>
                  </a:lnTo>
                  <a:lnTo>
                    <a:pt x="9606" y="2200"/>
                  </a:lnTo>
                  <a:lnTo>
                    <a:pt x="9721" y="2432"/>
                  </a:lnTo>
                  <a:lnTo>
                    <a:pt x="9721" y="2664"/>
                  </a:lnTo>
                  <a:lnTo>
                    <a:pt x="9953" y="2780"/>
                  </a:lnTo>
                  <a:lnTo>
                    <a:pt x="9953" y="2780"/>
                  </a:lnTo>
                  <a:lnTo>
                    <a:pt x="10069" y="2780"/>
                  </a:lnTo>
                  <a:lnTo>
                    <a:pt x="10184" y="2780"/>
                  </a:lnTo>
                  <a:lnTo>
                    <a:pt x="10300" y="2780"/>
                  </a:lnTo>
                  <a:lnTo>
                    <a:pt x="10531" y="2780"/>
                  </a:lnTo>
                  <a:lnTo>
                    <a:pt x="10647" y="2780"/>
                  </a:lnTo>
                  <a:lnTo>
                    <a:pt x="10763" y="2664"/>
                  </a:lnTo>
                  <a:lnTo>
                    <a:pt x="10763" y="2548"/>
                  </a:lnTo>
                  <a:lnTo>
                    <a:pt x="10879" y="2432"/>
                  </a:lnTo>
                  <a:lnTo>
                    <a:pt x="10879" y="2432"/>
                  </a:lnTo>
                  <a:lnTo>
                    <a:pt x="10763" y="2432"/>
                  </a:lnTo>
                  <a:lnTo>
                    <a:pt x="10763" y="2432"/>
                  </a:lnTo>
                  <a:lnTo>
                    <a:pt x="10994" y="2316"/>
                  </a:lnTo>
                  <a:lnTo>
                    <a:pt x="11110" y="2200"/>
                  </a:lnTo>
                  <a:lnTo>
                    <a:pt x="11226" y="1969"/>
                  </a:lnTo>
                  <a:lnTo>
                    <a:pt x="11342" y="1737"/>
                  </a:lnTo>
                  <a:lnTo>
                    <a:pt x="11457" y="1506"/>
                  </a:lnTo>
                  <a:lnTo>
                    <a:pt x="11689" y="1506"/>
                  </a:lnTo>
                  <a:lnTo>
                    <a:pt x="11805" y="1506"/>
                  </a:lnTo>
                  <a:lnTo>
                    <a:pt x="12036" y="1621"/>
                  </a:lnTo>
                  <a:lnTo>
                    <a:pt x="12036" y="1621"/>
                  </a:lnTo>
                  <a:lnTo>
                    <a:pt x="12036" y="1737"/>
                  </a:lnTo>
                  <a:lnTo>
                    <a:pt x="11920" y="1969"/>
                  </a:lnTo>
                  <a:lnTo>
                    <a:pt x="11920" y="2085"/>
                  </a:lnTo>
                  <a:lnTo>
                    <a:pt x="11805" y="2200"/>
                  </a:lnTo>
                  <a:lnTo>
                    <a:pt x="11805" y="2432"/>
                  </a:lnTo>
                  <a:lnTo>
                    <a:pt x="11805" y="2548"/>
                  </a:lnTo>
                  <a:lnTo>
                    <a:pt x="11920" y="2780"/>
                  </a:lnTo>
                  <a:lnTo>
                    <a:pt x="12036" y="2895"/>
                  </a:lnTo>
                  <a:lnTo>
                    <a:pt x="12036" y="2895"/>
                  </a:lnTo>
                  <a:lnTo>
                    <a:pt x="12152" y="3011"/>
                  </a:lnTo>
                  <a:lnTo>
                    <a:pt x="12267" y="3127"/>
                  </a:lnTo>
                  <a:lnTo>
                    <a:pt x="12383" y="3127"/>
                  </a:lnTo>
                  <a:lnTo>
                    <a:pt x="12499" y="3127"/>
                  </a:lnTo>
                  <a:lnTo>
                    <a:pt x="12615" y="3127"/>
                  </a:lnTo>
                  <a:lnTo>
                    <a:pt x="12730" y="3127"/>
                  </a:lnTo>
                  <a:lnTo>
                    <a:pt x="12846" y="3011"/>
                  </a:lnTo>
                  <a:lnTo>
                    <a:pt x="12962" y="3011"/>
                  </a:lnTo>
                  <a:lnTo>
                    <a:pt x="12962" y="3011"/>
                  </a:lnTo>
                  <a:lnTo>
                    <a:pt x="12846" y="2780"/>
                  </a:lnTo>
                  <a:lnTo>
                    <a:pt x="12962" y="2664"/>
                  </a:lnTo>
                  <a:lnTo>
                    <a:pt x="13078" y="2548"/>
                  </a:lnTo>
                  <a:lnTo>
                    <a:pt x="13193" y="2432"/>
                  </a:lnTo>
                  <a:lnTo>
                    <a:pt x="13309" y="2316"/>
                  </a:lnTo>
                  <a:lnTo>
                    <a:pt x="13425" y="2200"/>
                  </a:lnTo>
                  <a:lnTo>
                    <a:pt x="13541" y="2085"/>
                  </a:lnTo>
                  <a:lnTo>
                    <a:pt x="13656" y="1969"/>
                  </a:lnTo>
                  <a:lnTo>
                    <a:pt x="13656" y="1969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3772" y="2085"/>
                  </a:lnTo>
                  <a:lnTo>
                    <a:pt x="13772" y="2316"/>
                  </a:lnTo>
                  <a:lnTo>
                    <a:pt x="13772" y="2432"/>
                  </a:lnTo>
                  <a:lnTo>
                    <a:pt x="13656" y="2664"/>
                  </a:lnTo>
                  <a:lnTo>
                    <a:pt x="13772" y="2780"/>
                  </a:lnTo>
                  <a:lnTo>
                    <a:pt x="13772" y="2895"/>
                  </a:lnTo>
                  <a:lnTo>
                    <a:pt x="13888" y="3127"/>
                  </a:lnTo>
                  <a:lnTo>
                    <a:pt x="14003" y="3127"/>
                  </a:lnTo>
                  <a:lnTo>
                    <a:pt x="14003" y="3127"/>
                  </a:lnTo>
                  <a:lnTo>
                    <a:pt x="14119" y="3127"/>
                  </a:lnTo>
                  <a:lnTo>
                    <a:pt x="14235" y="3127"/>
                  </a:lnTo>
                  <a:lnTo>
                    <a:pt x="14351" y="3127"/>
                  </a:lnTo>
                  <a:lnTo>
                    <a:pt x="14466" y="3127"/>
                  </a:lnTo>
                  <a:lnTo>
                    <a:pt x="14582" y="3011"/>
                  </a:lnTo>
                  <a:lnTo>
                    <a:pt x="14582" y="3011"/>
                  </a:lnTo>
                  <a:lnTo>
                    <a:pt x="14698" y="2895"/>
                  </a:lnTo>
                  <a:lnTo>
                    <a:pt x="14814" y="2780"/>
                  </a:lnTo>
                  <a:lnTo>
                    <a:pt x="14814" y="2780"/>
                  </a:lnTo>
                  <a:lnTo>
                    <a:pt x="14814" y="2664"/>
                  </a:lnTo>
                  <a:lnTo>
                    <a:pt x="14814" y="2664"/>
                  </a:lnTo>
                  <a:lnTo>
                    <a:pt x="14814" y="2548"/>
                  </a:lnTo>
                  <a:lnTo>
                    <a:pt x="14929" y="2432"/>
                  </a:lnTo>
                  <a:lnTo>
                    <a:pt x="14929" y="2316"/>
                  </a:lnTo>
                  <a:lnTo>
                    <a:pt x="15045" y="2316"/>
                  </a:lnTo>
                  <a:lnTo>
                    <a:pt x="15045" y="2200"/>
                  </a:lnTo>
                  <a:lnTo>
                    <a:pt x="15161" y="2085"/>
                  </a:lnTo>
                  <a:lnTo>
                    <a:pt x="15161" y="2085"/>
                  </a:lnTo>
                  <a:lnTo>
                    <a:pt x="15624" y="2085"/>
                  </a:lnTo>
                  <a:lnTo>
                    <a:pt x="15624" y="2085"/>
                  </a:lnTo>
                  <a:lnTo>
                    <a:pt x="15624" y="2200"/>
                  </a:lnTo>
                  <a:lnTo>
                    <a:pt x="15508" y="2432"/>
                  </a:lnTo>
                  <a:lnTo>
                    <a:pt x="15508" y="2548"/>
                  </a:lnTo>
                  <a:lnTo>
                    <a:pt x="15508" y="2664"/>
                  </a:lnTo>
                  <a:lnTo>
                    <a:pt x="15508" y="2780"/>
                  </a:lnTo>
                  <a:lnTo>
                    <a:pt x="15508" y="2895"/>
                  </a:lnTo>
                  <a:lnTo>
                    <a:pt x="15624" y="3011"/>
                  </a:lnTo>
                  <a:lnTo>
                    <a:pt x="15739" y="3127"/>
                  </a:lnTo>
                  <a:lnTo>
                    <a:pt x="15739" y="3127"/>
                  </a:lnTo>
                  <a:lnTo>
                    <a:pt x="15739" y="3243"/>
                  </a:lnTo>
                  <a:lnTo>
                    <a:pt x="15855" y="3243"/>
                  </a:lnTo>
                  <a:lnTo>
                    <a:pt x="15855" y="3243"/>
                  </a:lnTo>
                  <a:lnTo>
                    <a:pt x="15971" y="3359"/>
                  </a:lnTo>
                  <a:lnTo>
                    <a:pt x="16087" y="3359"/>
                  </a:lnTo>
                  <a:lnTo>
                    <a:pt x="16202" y="3359"/>
                  </a:lnTo>
                  <a:lnTo>
                    <a:pt x="16202" y="3359"/>
                  </a:lnTo>
                  <a:lnTo>
                    <a:pt x="16318" y="3359"/>
                  </a:lnTo>
                  <a:lnTo>
                    <a:pt x="16318" y="3359"/>
                  </a:lnTo>
                  <a:lnTo>
                    <a:pt x="16550" y="3243"/>
                  </a:lnTo>
                  <a:lnTo>
                    <a:pt x="16665" y="3011"/>
                  </a:lnTo>
                  <a:lnTo>
                    <a:pt x="16781" y="2895"/>
                  </a:lnTo>
                  <a:lnTo>
                    <a:pt x="17012" y="2664"/>
                  </a:lnTo>
                  <a:lnTo>
                    <a:pt x="17128" y="2432"/>
                  </a:lnTo>
                  <a:lnTo>
                    <a:pt x="17244" y="2316"/>
                  </a:lnTo>
                  <a:lnTo>
                    <a:pt x="17475" y="2316"/>
                  </a:lnTo>
                  <a:lnTo>
                    <a:pt x="17823" y="2432"/>
                  </a:lnTo>
                  <a:lnTo>
                    <a:pt x="17823" y="2432"/>
                  </a:lnTo>
                  <a:lnTo>
                    <a:pt x="17823" y="2548"/>
                  </a:lnTo>
                  <a:lnTo>
                    <a:pt x="17707" y="2664"/>
                  </a:lnTo>
                  <a:lnTo>
                    <a:pt x="17707" y="2780"/>
                  </a:lnTo>
                  <a:lnTo>
                    <a:pt x="17591" y="2895"/>
                  </a:lnTo>
                  <a:lnTo>
                    <a:pt x="17591" y="3011"/>
                  </a:lnTo>
                  <a:lnTo>
                    <a:pt x="17475" y="3127"/>
                  </a:lnTo>
                  <a:lnTo>
                    <a:pt x="17475" y="3243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707" y="3590"/>
                  </a:lnTo>
                  <a:lnTo>
                    <a:pt x="17707" y="3590"/>
                  </a:lnTo>
                  <a:lnTo>
                    <a:pt x="17823" y="3706"/>
                  </a:lnTo>
                  <a:lnTo>
                    <a:pt x="17938" y="3706"/>
                  </a:lnTo>
                  <a:lnTo>
                    <a:pt x="18054" y="3706"/>
                  </a:lnTo>
                  <a:lnTo>
                    <a:pt x="18170" y="3706"/>
                  </a:lnTo>
                  <a:lnTo>
                    <a:pt x="18286" y="3706"/>
                  </a:lnTo>
                  <a:lnTo>
                    <a:pt x="18286" y="3706"/>
                  </a:lnTo>
                  <a:lnTo>
                    <a:pt x="18401" y="3590"/>
                  </a:lnTo>
                  <a:lnTo>
                    <a:pt x="18517" y="3474"/>
                  </a:lnTo>
                  <a:lnTo>
                    <a:pt x="18748" y="3359"/>
                  </a:lnTo>
                  <a:lnTo>
                    <a:pt x="18864" y="3243"/>
                  </a:lnTo>
                  <a:lnTo>
                    <a:pt x="18980" y="3127"/>
                  </a:lnTo>
                  <a:lnTo>
                    <a:pt x="19096" y="3011"/>
                  </a:lnTo>
                  <a:lnTo>
                    <a:pt x="19211" y="2780"/>
                  </a:lnTo>
                  <a:lnTo>
                    <a:pt x="19327" y="2664"/>
                  </a:lnTo>
                  <a:lnTo>
                    <a:pt x="19327" y="2664"/>
                  </a:lnTo>
                  <a:lnTo>
                    <a:pt x="19559" y="2664"/>
                  </a:lnTo>
                  <a:lnTo>
                    <a:pt x="19559" y="2664"/>
                  </a:lnTo>
                  <a:lnTo>
                    <a:pt x="19559" y="2780"/>
                  </a:lnTo>
                  <a:lnTo>
                    <a:pt x="19559" y="3011"/>
                  </a:lnTo>
                  <a:lnTo>
                    <a:pt x="19559" y="3127"/>
                  </a:lnTo>
                  <a:lnTo>
                    <a:pt x="19443" y="3359"/>
                  </a:lnTo>
                  <a:lnTo>
                    <a:pt x="19443" y="3474"/>
                  </a:lnTo>
                  <a:lnTo>
                    <a:pt x="19559" y="3590"/>
                  </a:lnTo>
                  <a:lnTo>
                    <a:pt x="19674" y="3706"/>
                  </a:lnTo>
                  <a:lnTo>
                    <a:pt x="19790" y="3822"/>
                  </a:lnTo>
                  <a:lnTo>
                    <a:pt x="19790" y="3822"/>
                  </a:lnTo>
                  <a:lnTo>
                    <a:pt x="19906" y="3822"/>
                  </a:lnTo>
                  <a:lnTo>
                    <a:pt x="20022" y="3822"/>
                  </a:lnTo>
                  <a:lnTo>
                    <a:pt x="20137" y="3822"/>
                  </a:lnTo>
                  <a:lnTo>
                    <a:pt x="20253" y="3822"/>
                  </a:lnTo>
                  <a:lnTo>
                    <a:pt x="20369" y="3706"/>
                  </a:lnTo>
                  <a:lnTo>
                    <a:pt x="20484" y="3706"/>
                  </a:lnTo>
                  <a:lnTo>
                    <a:pt x="20600" y="3590"/>
                  </a:lnTo>
                  <a:lnTo>
                    <a:pt x="20716" y="3590"/>
                  </a:lnTo>
                  <a:lnTo>
                    <a:pt x="20716" y="3590"/>
                  </a:lnTo>
                  <a:lnTo>
                    <a:pt x="20600" y="3474"/>
                  </a:lnTo>
                  <a:lnTo>
                    <a:pt x="20600" y="3359"/>
                  </a:lnTo>
                  <a:lnTo>
                    <a:pt x="20716" y="3243"/>
                  </a:lnTo>
                  <a:lnTo>
                    <a:pt x="20716" y="3127"/>
                  </a:lnTo>
                  <a:lnTo>
                    <a:pt x="20832" y="3127"/>
                  </a:lnTo>
                  <a:lnTo>
                    <a:pt x="20832" y="3011"/>
                  </a:lnTo>
                  <a:lnTo>
                    <a:pt x="20947" y="2895"/>
                  </a:lnTo>
                  <a:lnTo>
                    <a:pt x="20947" y="2780"/>
                  </a:lnTo>
                  <a:lnTo>
                    <a:pt x="20947" y="2780"/>
                  </a:lnTo>
                  <a:lnTo>
                    <a:pt x="20947" y="2895"/>
                  </a:lnTo>
                  <a:lnTo>
                    <a:pt x="20947" y="3011"/>
                  </a:lnTo>
                  <a:lnTo>
                    <a:pt x="20947" y="3127"/>
                  </a:lnTo>
                  <a:lnTo>
                    <a:pt x="20947" y="3359"/>
                  </a:lnTo>
                  <a:lnTo>
                    <a:pt x="20832" y="3474"/>
                  </a:lnTo>
                  <a:lnTo>
                    <a:pt x="20832" y="3590"/>
                  </a:lnTo>
                  <a:lnTo>
                    <a:pt x="20832" y="3706"/>
                  </a:lnTo>
                  <a:lnTo>
                    <a:pt x="20832" y="3822"/>
                  </a:lnTo>
                  <a:lnTo>
                    <a:pt x="20832" y="3822"/>
                  </a:lnTo>
                  <a:lnTo>
                    <a:pt x="20947" y="3938"/>
                  </a:lnTo>
                  <a:lnTo>
                    <a:pt x="20947" y="3938"/>
                  </a:lnTo>
                  <a:lnTo>
                    <a:pt x="21063" y="4053"/>
                  </a:lnTo>
                  <a:lnTo>
                    <a:pt x="21179" y="4053"/>
                  </a:lnTo>
                  <a:lnTo>
                    <a:pt x="21295" y="4053"/>
                  </a:lnTo>
                  <a:lnTo>
                    <a:pt x="21295" y="4053"/>
                  </a:lnTo>
                  <a:lnTo>
                    <a:pt x="21410" y="4053"/>
                  </a:lnTo>
                  <a:lnTo>
                    <a:pt x="21526" y="4053"/>
                  </a:lnTo>
                  <a:lnTo>
                    <a:pt x="21526" y="4053"/>
                  </a:lnTo>
                  <a:lnTo>
                    <a:pt x="21642" y="3938"/>
                  </a:lnTo>
                  <a:lnTo>
                    <a:pt x="21642" y="3822"/>
                  </a:lnTo>
                  <a:lnTo>
                    <a:pt x="21758" y="3706"/>
                  </a:lnTo>
                  <a:lnTo>
                    <a:pt x="21873" y="3590"/>
                  </a:lnTo>
                  <a:lnTo>
                    <a:pt x="21989" y="3474"/>
                  </a:lnTo>
                  <a:lnTo>
                    <a:pt x="22105" y="3359"/>
                  </a:lnTo>
                  <a:lnTo>
                    <a:pt x="22105" y="3243"/>
                  </a:lnTo>
                  <a:lnTo>
                    <a:pt x="22220" y="3011"/>
                  </a:lnTo>
                  <a:lnTo>
                    <a:pt x="22220" y="3011"/>
                  </a:lnTo>
                  <a:lnTo>
                    <a:pt x="22105" y="3127"/>
                  </a:lnTo>
                  <a:lnTo>
                    <a:pt x="22105" y="3243"/>
                  </a:lnTo>
                  <a:lnTo>
                    <a:pt x="22105" y="3359"/>
                  </a:lnTo>
                  <a:lnTo>
                    <a:pt x="22105" y="3474"/>
                  </a:lnTo>
                  <a:lnTo>
                    <a:pt x="22105" y="3590"/>
                  </a:lnTo>
                  <a:lnTo>
                    <a:pt x="22105" y="3706"/>
                  </a:lnTo>
                  <a:lnTo>
                    <a:pt x="22105" y="3822"/>
                  </a:lnTo>
                  <a:lnTo>
                    <a:pt x="22220" y="3938"/>
                  </a:lnTo>
                  <a:lnTo>
                    <a:pt x="22220" y="3938"/>
                  </a:lnTo>
                  <a:lnTo>
                    <a:pt x="22336" y="4053"/>
                  </a:lnTo>
                  <a:lnTo>
                    <a:pt x="22452" y="4169"/>
                  </a:lnTo>
                  <a:lnTo>
                    <a:pt x="22568" y="4169"/>
                  </a:lnTo>
                  <a:lnTo>
                    <a:pt x="22683" y="4053"/>
                  </a:lnTo>
                  <a:lnTo>
                    <a:pt x="22799" y="3938"/>
                  </a:lnTo>
                  <a:lnTo>
                    <a:pt x="22915" y="3822"/>
                  </a:lnTo>
                  <a:lnTo>
                    <a:pt x="23031" y="3822"/>
                  </a:lnTo>
                  <a:lnTo>
                    <a:pt x="23146" y="3822"/>
                  </a:lnTo>
                  <a:lnTo>
                    <a:pt x="23146" y="3822"/>
                  </a:lnTo>
                  <a:lnTo>
                    <a:pt x="23146" y="3938"/>
                  </a:lnTo>
                  <a:lnTo>
                    <a:pt x="23146" y="3938"/>
                  </a:lnTo>
                  <a:lnTo>
                    <a:pt x="23146" y="4053"/>
                  </a:lnTo>
                  <a:lnTo>
                    <a:pt x="23146" y="4169"/>
                  </a:lnTo>
                  <a:lnTo>
                    <a:pt x="23146" y="4285"/>
                  </a:lnTo>
                  <a:lnTo>
                    <a:pt x="23262" y="4285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841" y="4285"/>
                  </a:lnTo>
                  <a:lnTo>
                    <a:pt x="23841" y="4285"/>
                  </a:lnTo>
                  <a:lnTo>
                    <a:pt x="23378" y="5906"/>
                  </a:lnTo>
                  <a:lnTo>
                    <a:pt x="22799" y="7528"/>
                  </a:lnTo>
                  <a:lnTo>
                    <a:pt x="22452" y="9265"/>
                  </a:lnTo>
                  <a:lnTo>
                    <a:pt x="21989" y="11002"/>
                  </a:lnTo>
                  <a:lnTo>
                    <a:pt x="21642" y="12739"/>
                  </a:lnTo>
                  <a:lnTo>
                    <a:pt x="21410" y="14476"/>
                  </a:lnTo>
                  <a:lnTo>
                    <a:pt x="21179" y="16213"/>
                  </a:lnTo>
                  <a:lnTo>
                    <a:pt x="21063" y="17951"/>
                  </a:lnTo>
                  <a:lnTo>
                    <a:pt x="21063" y="17951"/>
                  </a:lnTo>
                  <a:lnTo>
                    <a:pt x="18517" y="18414"/>
                  </a:lnTo>
                  <a:lnTo>
                    <a:pt x="15971" y="18877"/>
                  </a:lnTo>
                  <a:lnTo>
                    <a:pt x="13541" y="19456"/>
                  </a:lnTo>
                  <a:lnTo>
                    <a:pt x="11110" y="20035"/>
                  </a:lnTo>
                  <a:lnTo>
                    <a:pt x="8564" y="20614"/>
                  </a:lnTo>
                  <a:lnTo>
                    <a:pt x="6134" y="21077"/>
                  </a:lnTo>
                  <a:lnTo>
                    <a:pt x="3588" y="21656"/>
                  </a:lnTo>
                  <a:lnTo>
                    <a:pt x="926" y="22004"/>
                  </a:lnTo>
                  <a:lnTo>
                    <a:pt x="926" y="22004"/>
                  </a:lnTo>
                  <a:lnTo>
                    <a:pt x="1041" y="21888"/>
                  </a:lnTo>
                  <a:lnTo>
                    <a:pt x="1041" y="21656"/>
                  </a:lnTo>
                  <a:lnTo>
                    <a:pt x="1041" y="21541"/>
                  </a:lnTo>
                  <a:lnTo>
                    <a:pt x="1041" y="21309"/>
                  </a:lnTo>
                  <a:lnTo>
                    <a:pt x="1041" y="21193"/>
                  </a:lnTo>
                  <a:lnTo>
                    <a:pt x="926" y="20962"/>
                  </a:lnTo>
                  <a:lnTo>
                    <a:pt x="926" y="20730"/>
                  </a:lnTo>
                  <a:lnTo>
                    <a:pt x="926" y="20614"/>
                  </a:lnTo>
                  <a:lnTo>
                    <a:pt x="926" y="20614"/>
                  </a:lnTo>
                  <a:lnTo>
                    <a:pt x="810" y="20498"/>
                  </a:lnTo>
                  <a:lnTo>
                    <a:pt x="694" y="20383"/>
                  </a:lnTo>
                  <a:lnTo>
                    <a:pt x="579" y="20267"/>
                  </a:lnTo>
                  <a:lnTo>
                    <a:pt x="463" y="20267"/>
                  </a:lnTo>
                  <a:lnTo>
                    <a:pt x="347" y="20151"/>
                  </a:lnTo>
                  <a:lnTo>
                    <a:pt x="231" y="20151"/>
                  </a:lnTo>
                  <a:lnTo>
                    <a:pt x="116" y="20035"/>
                  </a:lnTo>
                  <a:lnTo>
                    <a:pt x="0" y="20035"/>
                  </a:lnTo>
                  <a:lnTo>
                    <a:pt x="0" y="20035"/>
                  </a:lnTo>
                  <a:lnTo>
                    <a:pt x="347" y="17603"/>
                  </a:lnTo>
                  <a:lnTo>
                    <a:pt x="694" y="15055"/>
                  </a:lnTo>
                  <a:lnTo>
                    <a:pt x="1273" y="12623"/>
                  </a:lnTo>
                  <a:lnTo>
                    <a:pt x="1852" y="10076"/>
                  </a:lnTo>
                  <a:lnTo>
                    <a:pt x="2430" y="7644"/>
                  </a:lnTo>
                  <a:lnTo>
                    <a:pt x="2893" y="5096"/>
                  </a:lnTo>
                  <a:lnTo>
                    <a:pt x="3472" y="2548"/>
                  </a:lnTo>
                  <a:lnTo>
                    <a:pt x="3935" y="0"/>
                  </a:lnTo>
                  <a:lnTo>
                    <a:pt x="3935" y="0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1038240" y="3094200"/>
              <a:ext cx="111600" cy="845280"/>
            </a:xfrm>
            <a:custGeom>
              <a:avLst/>
              <a:gdLst/>
              <a:ahLst/>
              <a:rect l="l" t="t" r="r" b="b"/>
              <a:pathLst>
                <a:path w="3125" h="15750">
                  <a:moveTo>
                    <a:pt x="3125" y="0"/>
                  </a:moveTo>
                  <a:lnTo>
                    <a:pt x="3125" y="347"/>
                  </a:lnTo>
                  <a:lnTo>
                    <a:pt x="3125" y="811"/>
                  </a:lnTo>
                  <a:lnTo>
                    <a:pt x="3009" y="1274"/>
                  </a:lnTo>
                  <a:lnTo>
                    <a:pt x="2894" y="1737"/>
                  </a:lnTo>
                  <a:lnTo>
                    <a:pt x="2894" y="2084"/>
                  </a:lnTo>
                  <a:lnTo>
                    <a:pt x="2778" y="2548"/>
                  </a:lnTo>
                  <a:lnTo>
                    <a:pt x="2662" y="2895"/>
                  </a:lnTo>
                  <a:lnTo>
                    <a:pt x="2546" y="3358"/>
                  </a:lnTo>
                  <a:lnTo>
                    <a:pt x="2546" y="3358"/>
                  </a:lnTo>
                  <a:lnTo>
                    <a:pt x="2199" y="4748"/>
                  </a:lnTo>
                  <a:lnTo>
                    <a:pt x="1968" y="6138"/>
                  </a:lnTo>
                  <a:lnTo>
                    <a:pt x="1736" y="7528"/>
                  </a:lnTo>
                  <a:lnTo>
                    <a:pt x="1389" y="8917"/>
                  </a:lnTo>
                  <a:lnTo>
                    <a:pt x="1158" y="10307"/>
                  </a:lnTo>
                  <a:lnTo>
                    <a:pt x="926" y="11812"/>
                  </a:lnTo>
                  <a:lnTo>
                    <a:pt x="695" y="13086"/>
                  </a:lnTo>
                  <a:lnTo>
                    <a:pt x="463" y="14476"/>
                  </a:lnTo>
                  <a:lnTo>
                    <a:pt x="463" y="14476"/>
                  </a:lnTo>
                  <a:lnTo>
                    <a:pt x="348" y="14592"/>
                  </a:lnTo>
                  <a:lnTo>
                    <a:pt x="348" y="14824"/>
                  </a:lnTo>
                  <a:lnTo>
                    <a:pt x="348" y="14939"/>
                  </a:lnTo>
                  <a:lnTo>
                    <a:pt x="348" y="15055"/>
                  </a:lnTo>
                  <a:lnTo>
                    <a:pt x="232" y="15287"/>
                  </a:lnTo>
                  <a:lnTo>
                    <a:pt x="232" y="15403"/>
                  </a:lnTo>
                  <a:lnTo>
                    <a:pt x="232" y="15518"/>
                  </a:lnTo>
                  <a:lnTo>
                    <a:pt x="232" y="15750"/>
                  </a:lnTo>
                  <a:lnTo>
                    <a:pt x="232" y="15750"/>
                  </a:lnTo>
                  <a:lnTo>
                    <a:pt x="0" y="15750"/>
                  </a:lnTo>
                  <a:lnTo>
                    <a:pt x="0" y="15750"/>
                  </a:lnTo>
                  <a:lnTo>
                    <a:pt x="116" y="14824"/>
                  </a:lnTo>
                  <a:lnTo>
                    <a:pt x="348" y="14013"/>
                  </a:lnTo>
                  <a:lnTo>
                    <a:pt x="463" y="13086"/>
                  </a:lnTo>
                  <a:lnTo>
                    <a:pt x="579" y="12276"/>
                  </a:lnTo>
                  <a:lnTo>
                    <a:pt x="695" y="11349"/>
                  </a:lnTo>
                  <a:lnTo>
                    <a:pt x="810" y="10423"/>
                  </a:lnTo>
                  <a:lnTo>
                    <a:pt x="926" y="9612"/>
                  </a:lnTo>
                  <a:lnTo>
                    <a:pt x="1042" y="8686"/>
                  </a:lnTo>
                  <a:lnTo>
                    <a:pt x="1042" y="8686"/>
                  </a:lnTo>
                  <a:lnTo>
                    <a:pt x="1273" y="7643"/>
                  </a:lnTo>
                  <a:lnTo>
                    <a:pt x="1505" y="6601"/>
                  </a:lnTo>
                  <a:lnTo>
                    <a:pt x="1736" y="5559"/>
                  </a:lnTo>
                  <a:lnTo>
                    <a:pt x="1968" y="4516"/>
                  </a:lnTo>
                  <a:lnTo>
                    <a:pt x="2199" y="3358"/>
                  </a:lnTo>
                  <a:lnTo>
                    <a:pt x="2431" y="2316"/>
                  </a:lnTo>
                  <a:lnTo>
                    <a:pt x="2662" y="1274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1059120" y="3094200"/>
              <a:ext cx="119880" cy="864000"/>
            </a:xfrm>
            <a:custGeom>
              <a:avLst/>
              <a:gdLst/>
              <a:ahLst/>
              <a:rect l="l" t="t" r="r" b="b"/>
              <a:pathLst>
                <a:path w="3356" h="16097">
                  <a:moveTo>
                    <a:pt x="3356" y="0"/>
                  </a:moveTo>
                  <a:lnTo>
                    <a:pt x="3125" y="1390"/>
                  </a:lnTo>
                  <a:lnTo>
                    <a:pt x="2893" y="2779"/>
                  </a:lnTo>
                  <a:lnTo>
                    <a:pt x="2662" y="4053"/>
                  </a:lnTo>
                  <a:lnTo>
                    <a:pt x="2315" y="5443"/>
                  </a:lnTo>
                  <a:lnTo>
                    <a:pt x="2083" y="6833"/>
                  </a:lnTo>
                  <a:lnTo>
                    <a:pt x="1736" y="8107"/>
                  </a:lnTo>
                  <a:lnTo>
                    <a:pt x="1505" y="9496"/>
                  </a:lnTo>
                  <a:lnTo>
                    <a:pt x="1273" y="10770"/>
                  </a:lnTo>
                  <a:lnTo>
                    <a:pt x="1273" y="10770"/>
                  </a:lnTo>
                  <a:lnTo>
                    <a:pt x="1157" y="11002"/>
                  </a:lnTo>
                  <a:lnTo>
                    <a:pt x="1157" y="11233"/>
                  </a:lnTo>
                  <a:lnTo>
                    <a:pt x="1042" y="11465"/>
                  </a:lnTo>
                  <a:lnTo>
                    <a:pt x="1042" y="11697"/>
                  </a:lnTo>
                  <a:lnTo>
                    <a:pt x="926" y="11928"/>
                  </a:lnTo>
                  <a:lnTo>
                    <a:pt x="926" y="12276"/>
                  </a:lnTo>
                  <a:lnTo>
                    <a:pt x="926" y="12507"/>
                  </a:lnTo>
                  <a:lnTo>
                    <a:pt x="810" y="12739"/>
                  </a:lnTo>
                  <a:lnTo>
                    <a:pt x="810" y="12739"/>
                  </a:lnTo>
                  <a:lnTo>
                    <a:pt x="926" y="13086"/>
                  </a:lnTo>
                  <a:lnTo>
                    <a:pt x="810" y="13550"/>
                  </a:lnTo>
                  <a:lnTo>
                    <a:pt x="810" y="13897"/>
                  </a:lnTo>
                  <a:lnTo>
                    <a:pt x="694" y="14360"/>
                  </a:lnTo>
                  <a:lnTo>
                    <a:pt x="579" y="14824"/>
                  </a:lnTo>
                  <a:lnTo>
                    <a:pt x="463" y="15171"/>
                  </a:lnTo>
                  <a:lnTo>
                    <a:pt x="463" y="15634"/>
                  </a:lnTo>
                  <a:lnTo>
                    <a:pt x="463" y="16097"/>
                  </a:lnTo>
                  <a:lnTo>
                    <a:pt x="463" y="16097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347" y="13897"/>
                  </a:lnTo>
                  <a:lnTo>
                    <a:pt x="694" y="11928"/>
                  </a:lnTo>
                  <a:lnTo>
                    <a:pt x="1042" y="9960"/>
                  </a:lnTo>
                  <a:lnTo>
                    <a:pt x="1389" y="7875"/>
                  </a:lnTo>
                  <a:lnTo>
                    <a:pt x="1852" y="5906"/>
                  </a:lnTo>
                  <a:lnTo>
                    <a:pt x="2199" y="3937"/>
                  </a:lnTo>
                  <a:lnTo>
                    <a:pt x="2546" y="1969"/>
                  </a:lnTo>
                  <a:lnTo>
                    <a:pt x="2893" y="0"/>
                  </a:lnTo>
                  <a:lnTo>
                    <a:pt x="2893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240" y="0"/>
                  </a:lnTo>
                  <a:lnTo>
                    <a:pt x="3240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1067040" y="3094200"/>
              <a:ext cx="144720" cy="1087920"/>
            </a:xfrm>
            <a:custGeom>
              <a:avLst/>
              <a:gdLst/>
              <a:ahLst/>
              <a:rect l="l" t="t" r="r" b="b"/>
              <a:pathLst>
                <a:path w="4051" h="20267">
                  <a:moveTo>
                    <a:pt x="3704" y="116"/>
                  </a:moveTo>
                  <a:lnTo>
                    <a:pt x="3935" y="0"/>
                  </a:lnTo>
                  <a:lnTo>
                    <a:pt x="4051" y="232"/>
                  </a:lnTo>
                  <a:lnTo>
                    <a:pt x="4051" y="232"/>
                  </a:lnTo>
                  <a:lnTo>
                    <a:pt x="3588" y="2779"/>
                  </a:lnTo>
                  <a:lnTo>
                    <a:pt x="3009" y="5211"/>
                  </a:lnTo>
                  <a:lnTo>
                    <a:pt x="2547" y="7643"/>
                  </a:lnTo>
                  <a:lnTo>
                    <a:pt x="1968" y="10075"/>
                  </a:lnTo>
                  <a:lnTo>
                    <a:pt x="1389" y="12623"/>
                  </a:lnTo>
                  <a:lnTo>
                    <a:pt x="926" y="15055"/>
                  </a:lnTo>
                  <a:lnTo>
                    <a:pt x="579" y="17603"/>
                  </a:lnTo>
                  <a:lnTo>
                    <a:pt x="348" y="20035"/>
                  </a:lnTo>
                  <a:lnTo>
                    <a:pt x="348" y="20035"/>
                  </a:lnTo>
                  <a:lnTo>
                    <a:pt x="348" y="20151"/>
                  </a:lnTo>
                  <a:lnTo>
                    <a:pt x="232" y="20151"/>
                  </a:lnTo>
                  <a:lnTo>
                    <a:pt x="232" y="20151"/>
                  </a:lnTo>
                  <a:lnTo>
                    <a:pt x="116" y="20151"/>
                  </a:lnTo>
                  <a:lnTo>
                    <a:pt x="116" y="20151"/>
                  </a:lnTo>
                  <a:lnTo>
                    <a:pt x="116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348" y="18761"/>
                  </a:lnTo>
                  <a:lnTo>
                    <a:pt x="579" y="17140"/>
                  </a:lnTo>
                  <a:lnTo>
                    <a:pt x="695" y="15634"/>
                  </a:lnTo>
                  <a:lnTo>
                    <a:pt x="926" y="14129"/>
                  </a:lnTo>
                  <a:lnTo>
                    <a:pt x="1042" y="12507"/>
                  </a:lnTo>
                  <a:lnTo>
                    <a:pt x="1158" y="11002"/>
                  </a:lnTo>
                  <a:lnTo>
                    <a:pt x="1505" y="9496"/>
                  </a:lnTo>
                  <a:lnTo>
                    <a:pt x="1852" y="7991"/>
                  </a:lnTo>
                  <a:lnTo>
                    <a:pt x="1852" y="7991"/>
                  </a:lnTo>
                  <a:lnTo>
                    <a:pt x="1968" y="6948"/>
                  </a:lnTo>
                  <a:lnTo>
                    <a:pt x="2199" y="5906"/>
                  </a:lnTo>
                  <a:lnTo>
                    <a:pt x="2431" y="4980"/>
                  </a:lnTo>
                  <a:lnTo>
                    <a:pt x="2778" y="4053"/>
                  </a:lnTo>
                  <a:lnTo>
                    <a:pt x="3009" y="3011"/>
                  </a:lnTo>
                  <a:lnTo>
                    <a:pt x="3241" y="2084"/>
                  </a:lnTo>
                  <a:lnTo>
                    <a:pt x="3472" y="1042"/>
                  </a:lnTo>
                  <a:lnTo>
                    <a:pt x="3588" y="0"/>
                  </a:lnTo>
                  <a:lnTo>
                    <a:pt x="3588" y="0"/>
                  </a:lnTo>
                  <a:lnTo>
                    <a:pt x="3704" y="0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1712880" y="3106800"/>
              <a:ext cx="57600" cy="142920"/>
            </a:xfrm>
            <a:custGeom>
              <a:avLst/>
              <a:gdLst/>
              <a:ahLst/>
              <a:rect l="l" t="t" r="r" b="b"/>
              <a:pathLst>
                <a:path w="1620" h="2663">
                  <a:moveTo>
                    <a:pt x="1620" y="810"/>
                  </a:moveTo>
                  <a:lnTo>
                    <a:pt x="1620" y="1042"/>
                  </a:lnTo>
                  <a:lnTo>
                    <a:pt x="1620" y="1158"/>
                  </a:lnTo>
                  <a:lnTo>
                    <a:pt x="1620" y="1389"/>
                  </a:lnTo>
                  <a:lnTo>
                    <a:pt x="1620" y="1621"/>
                  </a:lnTo>
                  <a:lnTo>
                    <a:pt x="1620" y="1852"/>
                  </a:lnTo>
                  <a:lnTo>
                    <a:pt x="1504" y="1968"/>
                  </a:lnTo>
                  <a:lnTo>
                    <a:pt x="1388" y="2200"/>
                  </a:lnTo>
                  <a:lnTo>
                    <a:pt x="1388" y="2316"/>
                  </a:lnTo>
                  <a:lnTo>
                    <a:pt x="1388" y="2316"/>
                  </a:lnTo>
                  <a:lnTo>
                    <a:pt x="1273" y="2432"/>
                  </a:lnTo>
                  <a:lnTo>
                    <a:pt x="1157" y="2432"/>
                  </a:lnTo>
                  <a:lnTo>
                    <a:pt x="1157" y="2547"/>
                  </a:lnTo>
                  <a:lnTo>
                    <a:pt x="1041" y="2547"/>
                  </a:lnTo>
                  <a:lnTo>
                    <a:pt x="1041" y="2663"/>
                  </a:lnTo>
                  <a:lnTo>
                    <a:pt x="926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926" y="2432"/>
                  </a:lnTo>
                  <a:lnTo>
                    <a:pt x="926" y="2200"/>
                  </a:lnTo>
                  <a:lnTo>
                    <a:pt x="1041" y="1968"/>
                  </a:lnTo>
                  <a:lnTo>
                    <a:pt x="1157" y="1737"/>
                  </a:lnTo>
                  <a:lnTo>
                    <a:pt x="1157" y="1505"/>
                  </a:lnTo>
                  <a:lnTo>
                    <a:pt x="1157" y="1158"/>
                  </a:lnTo>
                  <a:lnTo>
                    <a:pt x="1041" y="926"/>
                  </a:lnTo>
                  <a:lnTo>
                    <a:pt x="1041" y="694"/>
                  </a:lnTo>
                  <a:lnTo>
                    <a:pt x="1041" y="694"/>
                  </a:lnTo>
                  <a:lnTo>
                    <a:pt x="926" y="579"/>
                  </a:lnTo>
                  <a:lnTo>
                    <a:pt x="810" y="463"/>
                  </a:lnTo>
                  <a:lnTo>
                    <a:pt x="694" y="347"/>
                  </a:lnTo>
                  <a:lnTo>
                    <a:pt x="578" y="347"/>
                  </a:lnTo>
                  <a:lnTo>
                    <a:pt x="463" y="231"/>
                  </a:lnTo>
                  <a:lnTo>
                    <a:pt x="231" y="231"/>
                  </a:lnTo>
                  <a:lnTo>
                    <a:pt x="115" y="231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5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5"/>
                  </a:lnTo>
                  <a:lnTo>
                    <a:pt x="1273" y="347"/>
                  </a:lnTo>
                  <a:lnTo>
                    <a:pt x="1504" y="579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1783080" y="3125520"/>
              <a:ext cx="41040" cy="136800"/>
            </a:xfrm>
            <a:custGeom>
              <a:avLst/>
              <a:gdLst/>
              <a:ahLst/>
              <a:rect l="l" t="t" r="r" b="b"/>
              <a:pathLst>
                <a:path w="1157" h="2548">
                  <a:moveTo>
                    <a:pt x="1042" y="811"/>
                  </a:moveTo>
                  <a:lnTo>
                    <a:pt x="1042" y="926"/>
                  </a:lnTo>
                  <a:lnTo>
                    <a:pt x="1157" y="1158"/>
                  </a:lnTo>
                  <a:lnTo>
                    <a:pt x="1157" y="1274"/>
                  </a:lnTo>
                  <a:lnTo>
                    <a:pt x="1157" y="1505"/>
                  </a:lnTo>
                  <a:lnTo>
                    <a:pt x="1157" y="1621"/>
                  </a:lnTo>
                  <a:lnTo>
                    <a:pt x="1157" y="1853"/>
                  </a:lnTo>
                  <a:lnTo>
                    <a:pt x="1157" y="1969"/>
                  </a:lnTo>
                  <a:lnTo>
                    <a:pt x="1042" y="2200"/>
                  </a:lnTo>
                  <a:lnTo>
                    <a:pt x="1042" y="2200"/>
                  </a:lnTo>
                  <a:lnTo>
                    <a:pt x="695" y="2548"/>
                  </a:lnTo>
                  <a:lnTo>
                    <a:pt x="695" y="2548"/>
                  </a:lnTo>
                  <a:lnTo>
                    <a:pt x="695" y="2200"/>
                  </a:lnTo>
                  <a:lnTo>
                    <a:pt x="695" y="1969"/>
                  </a:lnTo>
                  <a:lnTo>
                    <a:pt x="810" y="1621"/>
                  </a:lnTo>
                  <a:lnTo>
                    <a:pt x="810" y="1274"/>
                  </a:lnTo>
                  <a:lnTo>
                    <a:pt x="810" y="1042"/>
                  </a:lnTo>
                  <a:lnTo>
                    <a:pt x="695" y="811"/>
                  </a:lnTo>
                  <a:lnTo>
                    <a:pt x="463" y="579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810" y="347"/>
                  </a:lnTo>
                  <a:lnTo>
                    <a:pt x="926" y="463"/>
                  </a:lnTo>
                  <a:lnTo>
                    <a:pt x="926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1832760" y="3137760"/>
              <a:ext cx="41040" cy="130320"/>
            </a:xfrm>
            <a:custGeom>
              <a:avLst/>
              <a:gdLst/>
              <a:ahLst/>
              <a:rect l="l" t="t" r="r" b="b"/>
              <a:pathLst>
                <a:path w="1157" h="2432">
                  <a:moveTo>
                    <a:pt x="1157" y="926"/>
                  </a:moveTo>
                  <a:lnTo>
                    <a:pt x="1157" y="1158"/>
                  </a:lnTo>
                  <a:lnTo>
                    <a:pt x="1157" y="1389"/>
                  </a:lnTo>
                  <a:lnTo>
                    <a:pt x="1157" y="1505"/>
                  </a:lnTo>
                  <a:lnTo>
                    <a:pt x="1157" y="1737"/>
                  </a:lnTo>
                  <a:lnTo>
                    <a:pt x="1042" y="1968"/>
                  </a:lnTo>
                  <a:lnTo>
                    <a:pt x="926" y="2200"/>
                  </a:lnTo>
                  <a:lnTo>
                    <a:pt x="810" y="2316"/>
                  </a:lnTo>
                  <a:lnTo>
                    <a:pt x="579" y="2432"/>
                  </a:lnTo>
                  <a:lnTo>
                    <a:pt x="579" y="2432"/>
                  </a:lnTo>
                  <a:lnTo>
                    <a:pt x="694" y="2316"/>
                  </a:lnTo>
                  <a:lnTo>
                    <a:pt x="694" y="2200"/>
                  </a:lnTo>
                  <a:lnTo>
                    <a:pt x="694" y="1968"/>
                  </a:lnTo>
                  <a:lnTo>
                    <a:pt x="810" y="1853"/>
                  </a:lnTo>
                  <a:lnTo>
                    <a:pt x="810" y="1621"/>
                  </a:lnTo>
                  <a:lnTo>
                    <a:pt x="926" y="1389"/>
                  </a:lnTo>
                  <a:lnTo>
                    <a:pt x="926" y="1273"/>
                  </a:lnTo>
                  <a:lnTo>
                    <a:pt x="810" y="1042"/>
                  </a:lnTo>
                  <a:lnTo>
                    <a:pt x="810" y="1042"/>
                  </a:lnTo>
                  <a:lnTo>
                    <a:pt x="810" y="926"/>
                  </a:lnTo>
                  <a:lnTo>
                    <a:pt x="694" y="810"/>
                  </a:lnTo>
                  <a:lnTo>
                    <a:pt x="463" y="694"/>
                  </a:lnTo>
                  <a:lnTo>
                    <a:pt x="347" y="579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23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7" y="0"/>
                  </a:lnTo>
                  <a:lnTo>
                    <a:pt x="579" y="115"/>
                  </a:lnTo>
                  <a:lnTo>
                    <a:pt x="694" y="231"/>
                  </a:lnTo>
                  <a:lnTo>
                    <a:pt x="810" y="347"/>
                  </a:lnTo>
                  <a:lnTo>
                    <a:pt x="926" y="579"/>
                  </a:lnTo>
                  <a:lnTo>
                    <a:pt x="1042" y="810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1890720" y="3156480"/>
              <a:ext cx="28800" cy="111600"/>
            </a:xfrm>
            <a:custGeom>
              <a:avLst/>
              <a:gdLst/>
              <a:ahLst/>
              <a:rect l="l" t="t" r="r" b="b"/>
              <a:pathLst>
                <a:path w="810" h="2085">
                  <a:moveTo>
                    <a:pt x="810" y="579"/>
                  </a:moveTo>
                  <a:lnTo>
                    <a:pt x="810" y="811"/>
                  </a:lnTo>
                  <a:lnTo>
                    <a:pt x="810" y="1042"/>
                  </a:lnTo>
                  <a:lnTo>
                    <a:pt x="810" y="1158"/>
                  </a:lnTo>
                  <a:lnTo>
                    <a:pt x="810" y="1390"/>
                  </a:lnTo>
                  <a:lnTo>
                    <a:pt x="695" y="1621"/>
                  </a:lnTo>
                  <a:lnTo>
                    <a:pt x="695" y="1737"/>
                  </a:lnTo>
                  <a:lnTo>
                    <a:pt x="579" y="1969"/>
                  </a:lnTo>
                  <a:lnTo>
                    <a:pt x="347" y="2085"/>
                  </a:lnTo>
                  <a:lnTo>
                    <a:pt x="347" y="2085"/>
                  </a:lnTo>
                  <a:lnTo>
                    <a:pt x="463" y="1969"/>
                  </a:lnTo>
                  <a:lnTo>
                    <a:pt x="463" y="1737"/>
                  </a:lnTo>
                  <a:lnTo>
                    <a:pt x="579" y="1506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1"/>
                  </a:lnTo>
                  <a:lnTo>
                    <a:pt x="579" y="579"/>
                  </a:lnTo>
                  <a:lnTo>
                    <a:pt x="347" y="347"/>
                  </a:lnTo>
                  <a:lnTo>
                    <a:pt x="347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2" y="0"/>
                  </a:lnTo>
                  <a:lnTo>
                    <a:pt x="347" y="0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695" y="347"/>
                  </a:lnTo>
                  <a:lnTo>
                    <a:pt x="695" y="463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1932120" y="3169080"/>
              <a:ext cx="37080" cy="118080"/>
            </a:xfrm>
            <a:custGeom>
              <a:avLst/>
              <a:gdLst/>
              <a:ahLst/>
              <a:rect l="l" t="t" r="r" b="b"/>
              <a:pathLst>
                <a:path w="1042" h="2200">
                  <a:moveTo>
                    <a:pt x="1042" y="694"/>
                  </a:moveTo>
                  <a:lnTo>
                    <a:pt x="1042" y="926"/>
                  </a:lnTo>
                  <a:lnTo>
                    <a:pt x="1042" y="1042"/>
                  </a:lnTo>
                  <a:lnTo>
                    <a:pt x="1042" y="1274"/>
                  </a:lnTo>
                  <a:lnTo>
                    <a:pt x="926" y="1505"/>
                  </a:lnTo>
                  <a:lnTo>
                    <a:pt x="926" y="1737"/>
                  </a:lnTo>
                  <a:lnTo>
                    <a:pt x="811" y="1853"/>
                  </a:lnTo>
                  <a:lnTo>
                    <a:pt x="579" y="2084"/>
                  </a:lnTo>
                  <a:lnTo>
                    <a:pt x="463" y="2200"/>
                  </a:lnTo>
                  <a:lnTo>
                    <a:pt x="463" y="2200"/>
                  </a:lnTo>
                  <a:lnTo>
                    <a:pt x="116" y="2200"/>
                  </a:lnTo>
                  <a:lnTo>
                    <a:pt x="116" y="2200"/>
                  </a:lnTo>
                  <a:lnTo>
                    <a:pt x="232" y="1968"/>
                  </a:lnTo>
                  <a:lnTo>
                    <a:pt x="348" y="1737"/>
                  </a:lnTo>
                  <a:lnTo>
                    <a:pt x="463" y="1621"/>
                  </a:lnTo>
                  <a:lnTo>
                    <a:pt x="463" y="1389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0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8" y="0"/>
                  </a:lnTo>
                  <a:lnTo>
                    <a:pt x="463" y="0"/>
                  </a:lnTo>
                  <a:lnTo>
                    <a:pt x="579" y="115"/>
                  </a:lnTo>
                  <a:lnTo>
                    <a:pt x="811" y="231"/>
                  </a:lnTo>
                  <a:lnTo>
                    <a:pt x="926" y="347"/>
                  </a:lnTo>
                  <a:lnTo>
                    <a:pt x="1042" y="579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1340280" y="3312000"/>
              <a:ext cx="223200" cy="397800"/>
            </a:xfrm>
            <a:custGeom>
              <a:avLst/>
              <a:gdLst/>
              <a:ahLst/>
              <a:rect l="l" t="t" r="r" b="b"/>
              <a:pathLst>
                <a:path w="6249" h="7412">
                  <a:moveTo>
                    <a:pt x="5439" y="1969"/>
                  </a:moveTo>
                  <a:lnTo>
                    <a:pt x="5439" y="2085"/>
                  </a:lnTo>
                  <a:lnTo>
                    <a:pt x="5555" y="2085"/>
                  </a:lnTo>
                  <a:lnTo>
                    <a:pt x="5555" y="2085"/>
                  </a:lnTo>
                  <a:lnTo>
                    <a:pt x="5671" y="2085"/>
                  </a:lnTo>
                  <a:lnTo>
                    <a:pt x="5671" y="2085"/>
                  </a:lnTo>
                  <a:lnTo>
                    <a:pt x="5786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853"/>
                  </a:lnTo>
                  <a:lnTo>
                    <a:pt x="6018" y="1853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249" y="1737"/>
                  </a:lnTo>
                  <a:lnTo>
                    <a:pt x="6249" y="1737"/>
                  </a:lnTo>
                  <a:lnTo>
                    <a:pt x="6249" y="1853"/>
                  </a:lnTo>
                  <a:lnTo>
                    <a:pt x="6249" y="1969"/>
                  </a:lnTo>
                  <a:lnTo>
                    <a:pt x="6249" y="2085"/>
                  </a:lnTo>
                  <a:lnTo>
                    <a:pt x="6134" y="2201"/>
                  </a:lnTo>
                  <a:lnTo>
                    <a:pt x="6018" y="2316"/>
                  </a:lnTo>
                  <a:lnTo>
                    <a:pt x="5902" y="2432"/>
                  </a:lnTo>
                  <a:lnTo>
                    <a:pt x="5786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3127"/>
                  </a:lnTo>
                  <a:lnTo>
                    <a:pt x="5555" y="3822"/>
                  </a:lnTo>
                  <a:lnTo>
                    <a:pt x="5555" y="4401"/>
                  </a:lnTo>
                  <a:lnTo>
                    <a:pt x="5323" y="4980"/>
                  </a:lnTo>
                  <a:lnTo>
                    <a:pt x="5208" y="5675"/>
                  </a:lnTo>
                  <a:lnTo>
                    <a:pt x="4861" y="6138"/>
                  </a:lnTo>
                  <a:lnTo>
                    <a:pt x="4398" y="6601"/>
                  </a:lnTo>
                  <a:lnTo>
                    <a:pt x="3935" y="7065"/>
                  </a:lnTo>
                  <a:lnTo>
                    <a:pt x="3935" y="7065"/>
                  </a:lnTo>
                  <a:lnTo>
                    <a:pt x="3703" y="7180"/>
                  </a:lnTo>
                  <a:lnTo>
                    <a:pt x="3356" y="7296"/>
                  </a:lnTo>
                  <a:lnTo>
                    <a:pt x="3125" y="7412"/>
                  </a:lnTo>
                  <a:lnTo>
                    <a:pt x="2893" y="7412"/>
                  </a:lnTo>
                  <a:lnTo>
                    <a:pt x="2546" y="7412"/>
                  </a:lnTo>
                  <a:lnTo>
                    <a:pt x="2199" y="7412"/>
                  </a:lnTo>
                  <a:lnTo>
                    <a:pt x="1967" y="7296"/>
                  </a:lnTo>
                  <a:lnTo>
                    <a:pt x="1620" y="7296"/>
                  </a:lnTo>
                  <a:lnTo>
                    <a:pt x="1620" y="7296"/>
                  </a:lnTo>
                  <a:lnTo>
                    <a:pt x="1389" y="7180"/>
                  </a:lnTo>
                  <a:lnTo>
                    <a:pt x="1157" y="7065"/>
                  </a:lnTo>
                  <a:lnTo>
                    <a:pt x="926" y="6949"/>
                  </a:lnTo>
                  <a:lnTo>
                    <a:pt x="694" y="6717"/>
                  </a:lnTo>
                  <a:lnTo>
                    <a:pt x="578" y="6601"/>
                  </a:lnTo>
                  <a:lnTo>
                    <a:pt x="347" y="6370"/>
                  </a:lnTo>
                  <a:lnTo>
                    <a:pt x="231" y="6138"/>
                  </a:lnTo>
                  <a:lnTo>
                    <a:pt x="116" y="5907"/>
                  </a:lnTo>
                  <a:lnTo>
                    <a:pt x="116" y="5907"/>
                  </a:lnTo>
                  <a:lnTo>
                    <a:pt x="0" y="5559"/>
                  </a:lnTo>
                  <a:lnTo>
                    <a:pt x="0" y="5096"/>
                  </a:lnTo>
                  <a:lnTo>
                    <a:pt x="0" y="4748"/>
                  </a:lnTo>
                  <a:lnTo>
                    <a:pt x="0" y="4285"/>
                  </a:lnTo>
                  <a:lnTo>
                    <a:pt x="0" y="3938"/>
                  </a:lnTo>
                  <a:lnTo>
                    <a:pt x="116" y="3590"/>
                  </a:lnTo>
                  <a:lnTo>
                    <a:pt x="347" y="3243"/>
                  </a:lnTo>
                  <a:lnTo>
                    <a:pt x="578" y="2895"/>
                  </a:lnTo>
                  <a:lnTo>
                    <a:pt x="578" y="2895"/>
                  </a:lnTo>
                  <a:lnTo>
                    <a:pt x="926" y="2432"/>
                  </a:lnTo>
                  <a:lnTo>
                    <a:pt x="1273" y="2085"/>
                  </a:lnTo>
                  <a:lnTo>
                    <a:pt x="1736" y="1853"/>
                  </a:lnTo>
                  <a:lnTo>
                    <a:pt x="2083" y="1622"/>
                  </a:lnTo>
                  <a:lnTo>
                    <a:pt x="2546" y="1390"/>
                  </a:lnTo>
                  <a:lnTo>
                    <a:pt x="3009" y="1274"/>
                  </a:lnTo>
                  <a:lnTo>
                    <a:pt x="3587" y="1158"/>
                  </a:lnTo>
                  <a:lnTo>
                    <a:pt x="4050" y="1158"/>
                  </a:lnTo>
                  <a:lnTo>
                    <a:pt x="4050" y="1158"/>
                  </a:lnTo>
                  <a:lnTo>
                    <a:pt x="3587" y="927"/>
                  </a:lnTo>
                  <a:lnTo>
                    <a:pt x="3240" y="811"/>
                  </a:lnTo>
                  <a:lnTo>
                    <a:pt x="2777" y="579"/>
                  </a:lnTo>
                  <a:lnTo>
                    <a:pt x="2314" y="463"/>
                  </a:lnTo>
                  <a:lnTo>
                    <a:pt x="1851" y="463"/>
                  </a:lnTo>
                  <a:lnTo>
                    <a:pt x="1389" y="463"/>
                  </a:lnTo>
                  <a:lnTo>
                    <a:pt x="926" y="579"/>
                  </a:lnTo>
                  <a:lnTo>
                    <a:pt x="578" y="695"/>
                  </a:lnTo>
                  <a:lnTo>
                    <a:pt x="578" y="695"/>
                  </a:lnTo>
                  <a:lnTo>
                    <a:pt x="578" y="463"/>
                  </a:lnTo>
                  <a:lnTo>
                    <a:pt x="694" y="348"/>
                  </a:lnTo>
                  <a:lnTo>
                    <a:pt x="926" y="232"/>
                  </a:lnTo>
                  <a:lnTo>
                    <a:pt x="1041" y="116"/>
                  </a:lnTo>
                  <a:lnTo>
                    <a:pt x="1273" y="116"/>
                  </a:lnTo>
                  <a:lnTo>
                    <a:pt x="1504" y="0"/>
                  </a:lnTo>
                  <a:lnTo>
                    <a:pt x="1620" y="0"/>
                  </a:lnTo>
                  <a:lnTo>
                    <a:pt x="1851" y="0"/>
                  </a:lnTo>
                  <a:lnTo>
                    <a:pt x="1851" y="0"/>
                  </a:lnTo>
                  <a:lnTo>
                    <a:pt x="2314" y="116"/>
                  </a:lnTo>
                  <a:lnTo>
                    <a:pt x="2777" y="232"/>
                  </a:lnTo>
                  <a:lnTo>
                    <a:pt x="3356" y="463"/>
                  </a:lnTo>
                  <a:lnTo>
                    <a:pt x="3819" y="579"/>
                  </a:lnTo>
                  <a:lnTo>
                    <a:pt x="4282" y="811"/>
                  </a:lnTo>
                  <a:lnTo>
                    <a:pt x="4745" y="1043"/>
                  </a:lnTo>
                  <a:lnTo>
                    <a:pt x="5092" y="1506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1572120" y="3367800"/>
              <a:ext cx="186120" cy="410040"/>
            </a:xfrm>
            <a:custGeom>
              <a:avLst/>
              <a:gdLst/>
              <a:ahLst/>
              <a:rect l="l" t="t" r="r" b="b"/>
              <a:pathLst>
                <a:path w="5208" h="7643">
                  <a:moveTo>
                    <a:pt x="4976" y="347"/>
                  </a:moveTo>
                  <a:lnTo>
                    <a:pt x="4976" y="347"/>
                  </a:lnTo>
                  <a:lnTo>
                    <a:pt x="4861" y="347"/>
                  </a:lnTo>
                  <a:lnTo>
                    <a:pt x="4745" y="347"/>
                  </a:lnTo>
                  <a:lnTo>
                    <a:pt x="4629" y="347"/>
                  </a:lnTo>
                  <a:lnTo>
                    <a:pt x="4513" y="347"/>
                  </a:lnTo>
                  <a:lnTo>
                    <a:pt x="4398" y="347"/>
                  </a:lnTo>
                  <a:lnTo>
                    <a:pt x="4282" y="231"/>
                  </a:lnTo>
                  <a:lnTo>
                    <a:pt x="4166" y="347"/>
                  </a:lnTo>
                  <a:lnTo>
                    <a:pt x="4166" y="347"/>
                  </a:lnTo>
                  <a:lnTo>
                    <a:pt x="4050" y="347"/>
                  </a:lnTo>
                  <a:lnTo>
                    <a:pt x="3819" y="463"/>
                  </a:lnTo>
                  <a:lnTo>
                    <a:pt x="3703" y="463"/>
                  </a:lnTo>
                  <a:lnTo>
                    <a:pt x="3472" y="579"/>
                  </a:lnTo>
                  <a:lnTo>
                    <a:pt x="3356" y="579"/>
                  </a:lnTo>
                  <a:lnTo>
                    <a:pt x="3240" y="694"/>
                  </a:lnTo>
                  <a:lnTo>
                    <a:pt x="3009" y="810"/>
                  </a:lnTo>
                  <a:lnTo>
                    <a:pt x="2893" y="926"/>
                  </a:lnTo>
                  <a:lnTo>
                    <a:pt x="2893" y="926"/>
                  </a:lnTo>
                  <a:lnTo>
                    <a:pt x="3240" y="926"/>
                  </a:lnTo>
                  <a:lnTo>
                    <a:pt x="3472" y="1042"/>
                  </a:lnTo>
                  <a:lnTo>
                    <a:pt x="3819" y="1158"/>
                  </a:lnTo>
                  <a:lnTo>
                    <a:pt x="4050" y="1273"/>
                  </a:lnTo>
                  <a:lnTo>
                    <a:pt x="4282" y="1389"/>
                  </a:lnTo>
                  <a:lnTo>
                    <a:pt x="4513" y="1621"/>
                  </a:lnTo>
                  <a:lnTo>
                    <a:pt x="4745" y="1852"/>
                  </a:lnTo>
                  <a:lnTo>
                    <a:pt x="4976" y="2084"/>
                  </a:lnTo>
                  <a:lnTo>
                    <a:pt x="4976" y="2084"/>
                  </a:lnTo>
                  <a:lnTo>
                    <a:pt x="5092" y="2663"/>
                  </a:lnTo>
                  <a:lnTo>
                    <a:pt x="5208" y="3242"/>
                  </a:lnTo>
                  <a:lnTo>
                    <a:pt x="5208" y="3821"/>
                  </a:lnTo>
                  <a:lnTo>
                    <a:pt x="5092" y="4400"/>
                  </a:lnTo>
                  <a:lnTo>
                    <a:pt x="4976" y="4979"/>
                  </a:lnTo>
                  <a:lnTo>
                    <a:pt x="4745" y="5558"/>
                  </a:lnTo>
                  <a:lnTo>
                    <a:pt x="4513" y="6137"/>
                  </a:lnTo>
                  <a:lnTo>
                    <a:pt x="4166" y="6601"/>
                  </a:lnTo>
                  <a:lnTo>
                    <a:pt x="4166" y="6601"/>
                  </a:lnTo>
                  <a:lnTo>
                    <a:pt x="3819" y="6948"/>
                  </a:lnTo>
                  <a:lnTo>
                    <a:pt x="3472" y="7180"/>
                  </a:lnTo>
                  <a:lnTo>
                    <a:pt x="3125" y="7411"/>
                  </a:lnTo>
                  <a:lnTo>
                    <a:pt x="2662" y="7527"/>
                  </a:lnTo>
                  <a:lnTo>
                    <a:pt x="2199" y="7643"/>
                  </a:lnTo>
                  <a:lnTo>
                    <a:pt x="1736" y="7643"/>
                  </a:lnTo>
                  <a:lnTo>
                    <a:pt x="1273" y="7643"/>
                  </a:lnTo>
                  <a:lnTo>
                    <a:pt x="810" y="7527"/>
                  </a:lnTo>
                  <a:lnTo>
                    <a:pt x="810" y="7527"/>
                  </a:lnTo>
                  <a:lnTo>
                    <a:pt x="463" y="7064"/>
                  </a:lnTo>
                  <a:lnTo>
                    <a:pt x="231" y="6485"/>
                  </a:lnTo>
                  <a:lnTo>
                    <a:pt x="0" y="5906"/>
                  </a:lnTo>
                  <a:lnTo>
                    <a:pt x="0" y="5211"/>
                  </a:lnTo>
                  <a:lnTo>
                    <a:pt x="116" y="4632"/>
                  </a:lnTo>
                  <a:lnTo>
                    <a:pt x="231" y="3937"/>
                  </a:lnTo>
                  <a:lnTo>
                    <a:pt x="347" y="3358"/>
                  </a:lnTo>
                  <a:lnTo>
                    <a:pt x="578" y="2779"/>
                  </a:lnTo>
                  <a:lnTo>
                    <a:pt x="578" y="2779"/>
                  </a:lnTo>
                  <a:lnTo>
                    <a:pt x="578" y="2547"/>
                  </a:lnTo>
                  <a:lnTo>
                    <a:pt x="694" y="2432"/>
                  </a:lnTo>
                  <a:lnTo>
                    <a:pt x="810" y="2316"/>
                  </a:lnTo>
                  <a:lnTo>
                    <a:pt x="810" y="2200"/>
                  </a:lnTo>
                  <a:lnTo>
                    <a:pt x="926" y="1968"/>
                  </a:lnTo>
                  <a:lnTo>
                    <a:pt x="1041" y="1852"/>
                  </a:lnTo>
                  <a:lnTo>
                    <a:pt x="1041" y="1737"/>
                  </a:lnTo>
                  <a:lnTo>
                    <a:pt x="1157" y="1621"/>
                  </a:lnTo>
                  <a:lnTo>
                    <a:pt x="1157" y="1621"/>
                  </a:lnTo>
                  <a:lnTo>
                    <a:pt x="1041" y="1505"/>
                  </a:lnTo>
                  <a:lnTo>
                    <a:pt x="926" y="1505"/>
                  </a:lnTo>
                  <a:lnTo>
                    <a:pt x="926" y="1389"/>
                  </a:lnTo>
                  <a:lnTo>
                    <a:pt x="810" y="1389"/>
                  </a:lnTo>
                  <a:lnTo>
                    <a:pt x="694" y="1389"/>
                  </a:lnTo>
                  <a:lnTo>
                    <a:pt x="694" y="1389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694" y="1158"/>
                  </a:lnTo>
                  <a:lnTo>
                    <a:pt x="810" y="1158"/>
                  </a:lnTo>
                  <a:lnTo>
                    <a:pt x="926" y="1158"/>
                  </a:lnTo>
                  <a:lnTo>
                    <a:pt x="1041" y="1158"/>
                  </a:lnTo>
                  <a:lnTo>
                    <a:pt x="1157" y="1158"/>
                  </a:lnTo>
                  <a:lnTo>
                    <a:pt x="1389" y="1158"/>
                  </a:lnTo>
                  <a:lnTo>
                    <a:pt x="1504" y="1158"/>
                  </a:lnTo>
                  <a:lnTo>
                    <a:pt x="1620" y="1158"/>
                  </a:lnTo>
                  <a:lnTo>
                    <a:pt x="1620" y="1158"/>
                  </a:lnTo>
                  <a:lnTo>
                    <a:pt x="1967" y="926"/>
                  </a:lnTo>
                  <a:lnTo>
                    <a:pt x="2430" y="694"/>
                  </a:lnTo>
                  <a:lnTo>
                    <a:pt x="2777" y="347"/>
                  </a:lnTo>
                  <a:lnTo>
                    <a:pt x="3240" y="115"/>
                  </a:lnTo>
                  <a:lnTo>
                    <a:pt x="3703" y="0"/>
                  </a:lnTo>
                  <a:lnTo>
                    <a:pt x="4166" y="0"/>
                  </a:lnTo>
                  <a:lnTo>
                    <a:pt x="4629" y="0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1352880" y="3399120"/>
              <a:ext cx="173520" cy="285840"/>
            </a:xfrm>
            <a:custGeom>
              <a:avLst/>
              <a:gdLst/>
              <a:ahLst/>
              <a:rect l="l" t="t" r="r" b="b"/>
              <a:pathLst>
                <a:path w="4861" h="5327">
                  <a:moveTo>
                    <a:pt x="4398" y="463"/>
                  </a:moveTo>
                  <a:lnTo>
                    <a:pt x="4629" y="926"/>
                  </a:lnTo>
                  <a:lnTo>
                    <a:pt x="4745" y="1389"/>
                  </a:lnTo>
                  <a:lnTo>
                    <a:pt x="4745" y="1968"/>
                  </a:lnTo>
                  <a:lnTo>
                    <a:pt x="4861" y="2432"/>
                  </a:lnTo>
                  <a:lnTo>
                    <a:pt x="4745" y="2895"/>
                  </a:lnTo>
                  <a:lnTo>
                    <a:pt x="4629" y="3474"/>
                  </a:lnTo>
                  <a:lnTo>
                    <a:pt x="4398" y="3937"/>
                  </a:lnTo>
                  <a:lnTo>
                    <a:pt x="4051" y="4285"/>
                  </a:lnTo>
                  <a:lnTo>
                    <a:pt x="4051" y="4285"/>
                  </a:lnTo>
                  <a:lnTo>
                    <a:pt x="3935" y="4516"/>
                  </a:lnTo>
                  <a:lnTo>
                    <a:pt x="3819" y="4632"/>
                  </a:lnTo>
                  <a:lnTo>
                    <a:pt x="3588" y="4864"/>
                  </a:lnTo>
                  <a:lnTo>
                    <a:pt x="3356" y="4979"/>
                  </a:lnTo>
                  <a:lnTo>
                    <a:pt x="3125" y="5095"/>
                  </a:lnTo>
                  <a:lnTo>
                    <a:pt x="3009" y="5211"/>
                  </a:lnTo>
                  <a:lnTo>
                    <a:pt x="2778" y="5327"/>
                  </a:lnTo>
                  <a:lnTo>
                    <a:pt x="2430" y="5327"/>
                  </a:lnTo>
                  <a:lnTo>
                    <a:pt x="2430" y="5327"/>
                  </a:lnTo>
                  <a:lnTo>
                    <a:pt x="2083" y="5327"/>
                  </a:lnTo>
                  <a:lnTo>
                    <a:pt x="1736" y="5211"/>
                  </a:lnTo>
                  <a:lnTo>
                    <a:pt x="1389" y="5211"/>
                  </a:lnTo>
                  <a:lnTo>
                    <a:pt x="1157" y="5095"/>
                  </a:lnTo>
                  <a:lnTo>
                    <a:pt x="810" y="4864"/>
                  </a:lnTo>
                  <a:lnTo>
                    <a:pt x="579" y="4748"/>
                  </a:lnTo>
                  <a:lnTo>
                    <a:pt x="347" y="4400"/>
                  </a:lnTo>
                  <a:lnTo>
                    <a:pt x="231" y="4053"/>
                  </a:lnTo>
                  <a:lnTo>
                    <a:pt x="231" y="4053"/>
                  </a:lnTo>
                  <a:lnTo>
                    <a:pt x="116" y="3590"/>
                  </a:lnTo>
                  <a:lnTo>
                    <a:pt x="0" y="3242"/>
                  </a:lnTo>
                  <a:lnTo>
                    <a:pt x="116" y="2779"/>
                  </a:lnTo>
                  <a:lnTo>
                    <a:pt x="231" y="2316"/>
                  </a:lnTo>
                  <a:lnTo>
                    <a:pt x="347" y="1853"/>
                  </a:lnTo>
                  <a:lnTo>
                    <a:pt x="579" y="1505"/>
                  </a:lnTo>
                  <a:lnTo>
                    <a:pt x="810" y="1158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504" y="579"/>
                  </a:lnTo>
                  <a:lnTo>
                    <a:pt x="1852" y="463"/>
                  </a:lnTo>
                  <a:lnTo>
                    <a:pt x="2199" y="347"/>
                  </a:lnTo>
                  <a:lnTo>
                    <a:pt x="2546" y="231"/>
                  </a:lnTo>
                  <a:lnTo>
                    <a:pt x="2893" y="115"/>
                  </a:lnTo>
                  <a:lnTo>
                    <a:pt x="3240" y="115"/>
                  </a:lnTo>
                  <a:lnTo>
                    <a:pt x="3703" y="115"/>
                  </a:lnTo>
                  <a:lnTo>
                    <a:pt x="4051" y="0"/>
                  </a:lnTo>
                  <a:lnTo>
                    <a:pt x="4051" y="0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1419120" y="3411360"/>
              <a:ext cx="86760" cy="124200"/>
            </a:xfrm>
            <a:custGeom>
              <a:avLst/>
              <a:gdLst/>
              <a:ahLst/>
              <a:rect l="l" t="t" r="r" b="b"/>
              <a:pathLst>
                <a:path w="2430" h="2316">
                  <a:moveTo>
                    <a:pt x="2314" y="579"/>
                  </a:moveTo>
                  <a:lnTo>
                    <a:pt x="2430" y="811"/>
                  </a:lnTo>
                  <a:lnTo>
                    <a:pt x="2430" y="1042"/>
                  </a:lnTo>
                  <a:lnTo>
                    <a:pt x="2430" y="1274"/>
                  </a:lnTo>
                  <a:lnTo>
                    <a:pt x="2314" y="1506"/>
                  </a:lnTo>
                  <a:lnTo>
                    <a:pt x="2199" y="1737"/>
                  </a:lnTo>
                  <a:lnTo>
                    <a:pt x="2083" y="1969"/>
                  </a:lnTo>
                  <a:lnTo>
                    <a:pt x="1851" y="2085"/>
                  </a:lnTo>
                  <a:lnTo>
                    <a:pt x="1620" y="2201"/>
                  </a:lnTo>
                  <a:lnTo>
                    <a:pt x="1620" y="2201"/>
                  </a:lnTo>
                  <a:lnTo>
                    <a:pt x="1504" y="2201"/>
                  </a:lnTo>
                  <a:lnTo>
                    <a:pt x="1388" y="2316"/>
                  </a:lnTo>
                  <a:lnTo>
                    <a:pt x="1157" y="2316"/>
                  </a:lnTo>
                  <a:lnTo>
                    <a:pt x="1041" y="2201"/>
                  </a:lnTo>
                  <a:lnTo>
                    <a:pt x="926" y="2201"/>
                  </a:lnTo>
                  <a:lnTo>
                    <a:pt x="810" y="2201"/>
                  </a:lnTo>
                  <a:lnTo>
                    <a:pt x="578" y="2085"/>
                  </a:lnTo>
                  <a:lnTo>
                    <a:pt x="463" y="2085"/>
                  </a:lnTo>
                  <a:lnTo>
                    <a:pt x="463" y="2085"/>
                  </a:lnTo>
                  <a:lnTo>
                    <a:pt x="347" y="1969"/>
                  </a:lnTo>
                  <a:lnTo>
                    <a:pt x="231" y="1737"/>
                  </a:lnTo>
                  <a:lnTo>
                    <a:pt x="115" y="1622"/>
                  </a:lnTo>
                  <a:lnTo>
                    <a:pt x="115" y="1390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578" y="232"/>
                  </a:lnTo>
                  <a:lnTo>
                    <a:pt x="810" y="116"/>
                  </a:lnTo>
                  <a:lnTo>
                    <a:pt x="1273" y="0"/>
                  </a:lnTo>
                  <a:lnTo>
                    <a:pt x="1620" y="0"/>
                  </a:lnTo>
                  <a:lnTo>
                    <a:pt x="1851" y="116"/>
                  </a:lnTo>
                  <a:lnTo>
                    <a:pt x="2199" y="232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1588680" y="3442320"/>
              <a:ext cx="153000" cy="310680"/>
            </a:xfrm>
            <a:custGeom>
              <a:avLst/>
              <a:gdLst/>
              <a:ahLst/>
              <a:rect l="l" t="t" r="r" b="b"/>
              <a:pathLst>
                <a:path w="4282" h="5791">
                  <a:moveTo>
                    <a:pt x="4166" y="927"/>
                  </a:moveTo>
                  <a:lnTo>
                    <a:pt x="4282" y="1506"/>
                  </a:lnTo>
                  <a:lnTo>
                    <a:pt x="4282" y="1969"/>
                  </a:lnTo>
                  <a:lnTo>
                    <a:pt x="4282" y="2432"/>
                  </a:lnTo>
                  <a:lnTo>
                    <a:pt x="4166" y="2895"/>
                  </a:lnTo>
                  <a:lnTo>
                    <a:pt x="4050" y="3359"/>
                  </a:lnTo>
                  <a:lnTo>
                    <a:pt x="3935" y="3822"/>
                  </a:lnTo>
                  <a:lnTo>
                    <a:pt x="3703" y="4285"/>
                  </a:lnTo>
                  <a:lnTo>
                    <a:pt x="3587" y="4633"/>
                  </a:lnTo>
                  <a:lnTo>
                    <a:pt x="3587" y="4633"/>
                  </a:lnTo>
                  <a:lnTo>
                    <a:pt x="3240" y="4980"/>
                  </a:lnTo>
                  <a:lnTo>
                    <a:pt x="3009" y="5327"/>
                  </a:lnTo>
                  <a:lnTo>
                    <a:pt x="2662" y="5443"/>
                  </a:lnTo>
                  <a:lnTo>
                    <a:pt x="2199" y="5675"/>
                  </a:lnTo>
                  <a:lnTo>
                    <a:pt x="1851" y="5791"/>
                  </a:lnTo>
                  <a:lnTo>
                    <a:pt x="1504" y="5791"/>
                  </a:lnTo>
                  <a:lnTo>
                    <a:pt x="1041" y="5791"/>
                  </a:lnTo>
                  <a:lnTo>
                    <a:pt x="578" y="5791"/>
                  </a:lnTo>
                  <a:lnTo>
                    <a:pt x="578" y="5791"/>
                  </a:lnTo>
                  <a:lnTo>
                    <a:pt x="231" y="5096"/>
                  </a:lnTo>
                  <a:lnTo>
                    <a:pt x="0" y="4401"/>
                  </a:lnTo>
                  <a:lnTo>
                    <a:pt x="0" y="3706"/>
                  </a:lnTo>
                  <a:lnTo>
                    <a:pt x="0" y="3011"/>
                  </a:lnTo>
                  <a:lnTo>
                    <a:pt x="231" y="2316"/>
                  </a:lnTo>
                  <a:lnTo>
                    <a:pt x="463" y="1622"/>
                  </a:lnTo>
                  <a:lnTo>
                    <a:pt x="810" y="927"/>
                  </a:lnTo>
                  <a:lnTo>
                    <a:pt x="1157" y="348"/>
                  </a:lnTo>
                  <a:lnTo>
                    <a:pt x="1157" y="348"/>
                  </a:lnTo>
                  <a:lnTo>
                    <a:pt x="1389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0"/>
                  </a:lnTo>
                  <a:lnTo>
                    <a:pt x="2314" y="0"/>
                  </a:lnTo>
                  <a:lnTo>
                    <a:pt x="2662" y="0"/>
                  </a:lnTo>
                  <a:lnTo>
                    <a:pt x="2893" y="116"/>
                  </a:lnTo>
                  <a:lnTo>
                    <a:pt x="3124" y="116"/>
                  </a:lnTo>
                  <a:lnTo>
                    <a:pt x="3124" y="116"/>
                  </a:lnTo>
                  <a:lnTo>
                    <a:pt x="3240" y="232"/>
                  </a:lnTo>
                  <a:lnTo>
                    <a:pt x="3472" y="232"/>
                  </a:lnTo>
                  <a:lnTo>
                    <a:pt x="3587" y="348"/>
                  </a:lnTo>
                  <a:lnTo>
                    <a:pt x="3703" y="463"/>
                  </a:lnTo>
                  <a:lnTo>
                    <a:pt x="3819" y="579"/>
                  </a:lnTo>
                  <a:lnTo>
                    <a:pt x="3935" y="695"/>
                  </a:lnTo>
                  <a:lnTo>
                    <a:pt x="4050" y="811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1460520" y="3454920"/>
              <a:ext cx="20520" cy="30960"/>
            </a:xfrm>
            <a:custGeom>
              <a:avLst/>
              <a:gdLst/>
              <a:ahLst/>
              <a:rect l="l" t="t" r="r" b="b"/>
              <a:pathLst>
                <a:path w="579" h="579">
                  <a:moveTo>
                    <a:pt x="463" y="579"/>
                  </a:moveTo>
                  <a:lnTo>
                    <a:pt x="463" y="579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116" y="347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116"/>
                  </a:lnTo>
                  <a:lnTo>
                    <a:pt x="579" y="116"/>
                  </a:lnTo>
                  <a:lnTo>
                    <a:pt x="579" y="231"/>
                  </a:lnTo>
                  <a:lnTo>
                    <a:pt x="579" y="347"/>
                  </a:lnTo>
                  <a:lnTo>
                    <a:pt x="579" y="463"/>
                  </a:lnTo>
                  <a:lnTo>
                    <a:pt x="579" y="463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1617840" y="3479760"/>
              <a:ext cx="65880" cy="99360"/>
            </a:xfrm>
            <a:custGeom>
              <a:avLst/>
              <a:gdLst/>
              <a:ahLst/>
              <a:rect l="l" t="t" r="r" b="b"/>
              <a:pathLst>
                <a:path w="1852" h="1853">
                  <a:moveTo>
                    <a:pt x="1852" y="579"/>
                  </a:moveTo>
                  <a:lnTo>
                    <a:pt x="1852" y="811"/>
                  </a:lnTo>
                  <a:lnTo>
                    <a:pt x="1852" y="927"/>
                  </a:lnTo>
                  <a:lnTo>
                    <a:pt x="1736" y="1158"/>
                  </a:lnTo>
                  <a:lnTo>
                    <a:pt x="1736" y="1390"/>
                  </a:lnTo>
                  <a:lnTo>
                    <a:pt x="1620" y="1506"/>
                  </a:lnTo>
                  <a:lnTo>
                    <a:pt x="1389" y="1621"/>
                  </a:lnTo>
                  <a:lnTo>
                    <a:pt x="1273" y="1737"/>
                  </a:lnTo>
                  <a:lnTo>
                    <a:pt x="1041" y="1853"/>
                  </a:lnTo>
                  <a:lnTo>
                    <a:pt x="1041" y="1853"/>
                  </a:lnTo>
                  <a:lnTo>
                    <a:pt x="926" y="1853"/>
                  </a:lnTo>
                  <a:lnTo>
                    <a:pt x="694" y="1853"/>
                  </a:lnTo>
                  <a:lnTo>
                    <a:pt x="579" y="1737"/>
                  </a:lnTo>
                  <a:lnTo>
                    <a:pt x="463" y="1737"/>
                  </a:lnTo>
                  <a:lnTo>
                    <a:pt x="347" y="1621"/>
                  </a:lnTo>
                  <a:lnTo>
                    <a:pt x="231" y="1506"/>
                  </a:lnTo>
                  <a:lnTo>
                    <a:pt x="116" y="1390"/>
                  </a:lnTo>
                  <a:lnTo>
                    <a:pt x="0" y="1274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927"/>
                  </a:lnTo>
                  <a:lnTo>
                    <a:pt x="0" y="811"/>
                  </a:lnTo>
                  <a:lnTo>
                    <a:pt x="0" y="695"/>
                  </a:lnTo>
                  <a:lnTo>
                    <a:pt x="0" y="463"/>
                  </a:lnTo>
                  <a:lnTo>
                    <a:pt x="116" y="348"/>
                  </a:lnTo>
                  <a:lnTo>
                    <a:pt x="116" y="232"/>
                  </a:lnTo>
                  <a:lnTo>
                    <a:pt x="231" y="116"/>
                  </a:lnTo>
                  <a:lnTo>
                    <a:pt x="231" y="116"/>
                  </a:lnTo>
                  <a:lnTo>
                    <a:pt x="463" y="0"/>
                  </a:lnTo>
                  <a:lnTo>
                    <a:pt x="694" y="0"/>
                  </a:lnTo>
                  <a:lnTo>
                    <a:pt x="926" y="0"/>
                  </a:lnTo>
                  <a:lnTo>
                    <a:pt x="1157" y="0"/>
                  </a:lnTo>
                  <a:lnTo>
                    <a:pt x="1389" y="0"/>
                  </a:lnTo>
                  <a:lnTo>
                    <a:pt x="1620" y="116"/>
                  </a:lnTo>
                  <a:lnTo>
                    <a:pt x="1736" y="348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1646640" y="3510720"/>
              <a:ext cx="20520" cy="37080"/>
            </a:xfrm>
            <a:custGeom>
              <a:avLst/>
              <a:gdLst/>
              <a:ahLst/>
              <a:rect l="l" t="t" r="r" b="b"/>
              <a:pathLst>
                <a:path w="579" h="695">
                  <a:moveTo>
                    <a:pt x="463" y="116"/>
                  </a:moveTo>
                  <a:lnTo>
                    <a:pt x="463" y="116"/>
                  </a:lnTo>
                  <a:lnTo>
                    <a:pt x="579" y="232"/>
                  </a:lnTo>
                  <a:lnTo>
                    <a:pt x="463" y="348"/>
                  </a:lnTo>
                  <a:lnTo>
                    <a:pt x="463" y="463"/>
                  </a:lnTo>
                  <a:lnTo>
                    <a:pt x="463" y="463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695"/>
                  </a:lnTo>
                  <a:lnTo>
                    <a:pt x="231" y="695"/>
                  </a:lnTo>
                  <a:lnTo>
                    <a:pt x="116" y="695"/>
                  </a:lnTo>
                  <a:lnTo>
                    <a:pt x="116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231" y="116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1220400" y="3784320"/>
              <a:ext cx="57600" cy="37080"/>
            </a:xfrm>
            <a:custGeom>
              <a:avLst/>
              <a:gdLst/>
              <a:ahLst/>
              <a:rect l="l" t="t" r="r" b="b"/>
              <a:pathLst>
                <a:path w="1620" h="695">
                  <a:moveTo>
                    <a:pt x="1620" y="116"/>
                  </a:moveTo>
                  <a:lnTo>
                    <a:pt x="1388" y="116"/>
                  </a:lnTo>
                  <a:lnTo>
                    <a:pt x="1157" y="116"/>
                  </a:lnTo>
                  <a:lnTo>
                    <a:pt x="1041" y="231"/>
                  </a:lnTo>
                  <a:lnTo>
                    <a:pt x="810" y="347"/>
                  </a:lnTo>
                  <a:lnTo>
                    <a:pt x="578" y="347"/>
                  </a:lnTo>
                  <a:lnTo>
                    <a:pt x="462" y="463"/>
                  </a:lnTo>
                  <a:lnTo>
                    <a:pt x="347" y="579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0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115" y="347"/>
                  </a:lnTo>
                  <a:lnTo>
                    <a:pt x="115" y="347"/>
                  </a:lnTo>
                  <a:lnTo>
                    <a:pt x="231" y="231"/>
                  </a:lnTo>
                  <a:lnTo>
                    <a:pt x="462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0"/>
                  </a:lnTo>
                  <a:lnTo>
                    <a:pt x="1157" y="0"/>
                  </a:lnTo>
                  <a:lnTo>
                    <a:pt x="1388" y="0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1207800" y="3827880"/>
              <a:ext cx="517320" cy="173880"/>
            </a:xfrm>
            <a:custGeom>
              <a:avLst/>
              <a:gdLst/>
              <a:ahLst/>
              <a:rect l="l" t="t" r="r" b="b"/>
              <a:pathLst>
                <a:path w="14467" h="3243">
                  <a:moveTo>
                    <a:pt x="3820" y="232"/>
                  </a:moveTo>
                  <a:lnTo>
                    <a:pt x="3704" y="232"/>
                  </a:lnTo>
                  <a:lnTo>
                    <a:pt x="3472" y="232"/>
                  </a:lnTo>
                  <a:lnTo>
                    <a:pt x="3357" y="232"/>
                  </a:lnTo>
                  <a:lnTo>
                    <a:pt x="3125" y="232"/>
                  </a:lnTo>
                  <a:lnTo>
                    <a:pt x="3009" y="348"/>
                  </a:lnTo>
                  <a:lnTo>
                    <a:pt x="2778" y="348"/>
                  </a:lnTo>
                  <a:lnTo>
                    <a:pt x="2662" y="348"/>
                  </a:lnTo>
                  <a:lnTo>
                    <a:pt x="2431" y="464"/>
                  </a:lnTo>
                  <a:lnTo>
                    <a:pt x="2431" y="464"/>
                  </a:lnTo>
                  <a:lnTo>
                    <a:pt x="2431" y="695"/>
                  </a:lnTo>
                  <a:lnTo>
                    <a:pt x="2431" y="695"/>
                  </a:lnTo>
                  <a:lnTo>
                    <a:pt x="2894" y="1159"/>
                  </a:lnTo>
                  <a:lnTo>
                    <a:pt x="3472" y="1622"/>
                  </a:lnTo>
                  <a:lnTo>
                    <a:pt x="4051" y="1853"/>
                  </a:lnTo>
                  <a:lnTo>
                    <a:pt x="4745" y="2085"/>
                  </a:lnTo>
                  <a:lnTo>
                    <a:pt x="5440" y="2201"/>
                  </a:lnTo>
                  <a:lnTo>
                    <a:pt x="6018" y="2432"/>
                  </a:lnTo>
                  <a:lnTo>
                    <a:pt x="6713" y="2548"/>
                  </a:lnTo>
                  <a:lnTo>
                    <a:pt x="7291" y="2780"/>
                  </a:lnTo>
                  <a:lnTo>
                    <a:pt x="7291" y="2780"/>
                  </a:lnTo>
                  <a:lnTo>
                    <a:pt x="7639" y="2780"/>
                  </a:lnTo>
                  <a:lnTo>
                    <a:pt x="7986" y="2780"/>
                  </a:lnTo>
                  <a:lnTo>
                    <a:pt x="8333" y="2780"/>
                  </a:lnTo>
                  <a:lnTo>
                    <a:pt x="8680" y="2664"/>
                  </a:lnTo>
                  <a:lnTo>
                    <a:pt x="9027" y="2664"/>
                  </a:lnTo>
                  <a:lnTo>
                    <a:pt x="9375" y="2548"/>
                  </a:lnTo>
                  <a:lnTo>
                    <a:pt x="9722" y="2432"/>
                  </a:lnTo>
                  <a:lnTo>
                    <a:pt x="10069" y="2317"/>
                  </a:lnTo>
                  <a:lnTo>
                    <a:pt x="10069" y="2317"/>
                  </a:lnTo>
                  <a:lnTo>
                    <a:pt x="10185" y="2317"/>
                  </a:lnTo>
                  <a:lnTo>
                    <a:pt x="10185" y="2317"/>
                  </a:lnTo>
                  <a:lnTo>
                    <a:pt x="10301" y="2317"/>
                  </a:lnTo>
                  <a:lnTo>
                    <a:pt x="10416" y="2317"/>
                  </a:lnTo>
                  <a:lnTo>
                    <a:pt x="10532" y="2317"/>
                  </a:lnTo>
                  <a:lnTo>
                    <a:pt x="10648" y="2201"/>
                  </a:lnTo>
                  <a:lnTo>
                    <a:pt x="10763" y="2201"/>
                  </a:lnTo>
                  <a:lnTo>
                    <a:pt x="10763" y="2085"/>
                  </a:lnTo>
                  <a:lnTo>
                    <a:pt x="10763" y="2085"/>
                  </a:lnTo>
                  <a:lnTo>
                    <a:pt x="10879" y="2201"/>
                  </a:lnTo>
                  <a:lnTo>
                    <a:pt x="10879" y="2201"/>
                  </a:lnTo>
                  <a:lnTo>
                    <a:pt x="11226" y="1969"/>
                  </a:lnTo>
                  <a:lnTo>
                    <a:pt x="11574" y="1853"/>
                  </a:lnTo>
                  <a:lnTo>
                    <a:pt x="11921" y="1738"/>
                  </a:lnTo>
                  <a:lnTo>
                    <a:pt x="12268" y="1622"/>
                  </a:lnTo>
                  <a:lnTo>
                    <a:pt x="12615" y="1506"/>
                  </a:lnTo>
                  <a:lnTo>
                    <a:pt x="12962" y="1506"/>
                  </a:lnTo>
                  <a:lnTo>
                    <a:pt x="13310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888" y="1390"/>
                  </a:lnTo>
                  <a:lnTo>
                    <a:pt x="14004" y="1390"/>
                  </a:lnTo>
                  <a:lnTo>
                    <a:pt x="14120" y="1274"/>
                  </a:lnTo>
                  <a:lnTo>
                    <a:pt x="14120" y="1159"/>
                  </a:lnTo>
                  <a:lnTo>
                    <a:pt x="14235" y="1159"/>
                  </a:lnTo>
                  <a:lnTo>
                    <a:pt x="14351" y="1159"/>
                  </a:lnTo>
                  <a:lnTo>
                    <a:pt x="14467" y="1159"/>
                  </a:lnTo>
                  <a:lnTo>
                    <a:pt x="14467" y="1159"/>
                  </a:lnTo>
                  <a:lnTo>
                    <a:pt x="14467" y="1274"/>
                  </a:lnTo>
                  <a:lnTo>
                    <a:pt x="14351" y="1390"/>
                  </a:lnTo>
                  <a:lnTo>
                    <a:pt x="14351" y="1506"/>
                  </a:lnTo>
                  <a:lnTo>
                    <a:pt x="14235" y="1622"/>
                  </a:lnTo>
                  <a:lnTo>
                    <a:pt x="14120" y="1738"/>
                  </a:lnTo>
                  <a:lnTo>
                    <a:pt x="14004" y="1853"/>
                  </a:lnTo>
                  <a:lnTo>
                    <a:pt x="13888" y="1853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2962" y="1969"/>
                  </a:lnTo>
                  <a:lnTo>
                    <a:pt x="12152" y="2085"/>
                  </a:lnTo>
                  <a:lnTo>
                    <a:pt x="11458" y="2317"/>
                  </a:lnTo>
                  <a:lnTo>
                    <a:pt x="10648" y="2548"/>
                  </a:lnTo>
                  <a:lnTo>
                    <a:pt x="9953" y="2780"/>
                  </a:lnTo>
                  <a:lnTo>
                    <a:pt x="9143" y="3011"/>
                  </a:lnTo>
                  <a:lnTo>
                    <a:pt x="8333" y="3127"/>
                  </a:lnTo>
                  <a:lnTo>
                    <a:pt x="7523" y="3243"/>
                  </a:lnTo>
                  <a:lnTo>
                    <a:pt x="7523" y="3243"/>
                  </a:lnTo>
                  <a:lnTo>
                    <a:pt x="6713" y="3011"/>
                  </a:lnTo>
                  <a:lnTo>
                    <a:pt x="6018" y="2896"/>
                  </a:lnTo>
                  <a:lnTo>
                    <a:pt x="5208" y="2664"/>
                  </a:lnTo>
                  <a:lnTo>
                    <a:pt x="4514" y="2432"/>
                  </a:lnTo>
                  <a:lnTo>
                    <a:pt x="3704" y="2201"/>
                  </a:lnTo>
                  <a:lnTo>
                    <a:pt x="3125" y="1738"/>
                  </a:lnTo>
                  <a:lnTo>
                    <a:pt x="2431" y="1274"/>
                  </a:lnTo>
                  <a:lnTo>
                    <a:pt x="1968" y="695"/>
                  </a:lnTo>
                  <a:lnTo>
                    <a:pt x="1968" y="695"/>
                  </a:lnTo>
                  <a:lnTo>
                    <a:pt x="1736" y="811"/>
                  </a:lnTo>
                  <a:lnTo>
                    <a:pt x="1505" y="927"/>
                  </a:lnTo>
                  <a:lnTo>
                    <a:pt x="1273" y="1043"/>
                  </a:lnTo>
                  <a:lnTo>
                    <a:pt x="1042" y="1159"/>
                  </a:lnTo>
                  <a:lnTo>
                    <a:pt x="810" y="1274"/>
                  </a:lnTo>
                  <a:lnTo>
                    <a:pt x="579" y="1506"/>
                  </a:lnTo>
                  <a:lnTo>
                    <a:pt x="463" y="1622"/>
                  </a:lnTo>
                  <a:lnTo>
                    <a:pt x="348" y="1853"/>
                  </a:lnTo>
                  <a:lnTo>
                    <a:pt x="348" y="1853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116" y="1390"/>
                  </a:lnTo>
                  <a:lnTo>
                    <a:pt x="348" y="1159"/>
                  </a:lnTo>
                  <a:lnTo>
                    <a:pt x="463" y="927"/>
                  </a:lnTo>
                  <a:lnTo>
                    <a:pt x="810" y="811"/>
                  </a:lnTo>
                  <a:lnTo>
                    <a:pt x="1042" y="695"/>
                  </a:lnTo>
                  <a:lnTo>
                    <a:pt x="1273" y="579"/>
                  </a:lnTo>
                  <a:lnTo>
                    <a:pt x="1621" y="348"/>
                  </a:lnTo>
                  <a:lnTo>
                    <a:pt x="1852" y="232"/>
                  </a:lnTo>
                  <a:lnTo>
                    <a:pt x="1852" y="232"/>
                  </a:lnTo>
                  <a:lnTo>
                    <a:pt x="2084" y="116"/>
                  </a:lnTo>
                  <a:lnTo>
                    <a:pt x="2315" y="116"/>
                  </a:lnTo>
                  <a:lnTo>
                    <a:pt x="2546" y="0"/>
                  </a:lnTo>
                  <a:lnTo>
                    <a:pt x="2778" y="0"/>
                  </a:lnTo>
                  <a:lnTo>
                    <a:pt x="3125" y="0"/>
                  </a:lnTo>
                  <a:lnTo>
                    <a:pt x="3357" y="116"/>
                  </a:lnTo>
                  <a:lnTo>
                    <a:pt x="3588" y="116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2213640" y="3927600"/>
              <a:ext cx="343440" cy="298440"/>
            </a:xfrm>
            <a:custGeom>
              <a:avLst/>
              <a:gdLst/>
              <a:ahLst/>
              <a:rect l="l" t="t" r="r" b="b"/>
              <a:pathLst>
                <a:path w="9606" h="5559">
                  <a:moveTo>
                    <a:pt x="9606" y="695"/>
                  </a:moveTo>
                  <a:lnTo>
                    <a:pt x="9606" y="811"/>
                  </a:lnTo>
                  <a:lnTo>
                    <a:pt x="9606" y="811"/>
                  </a:lnTo>
                  <a:lnTo>
                    <a:pt x="9490" y="811"/>
                  </a:lnTo>
                  <a:lnTo>
                    <a:pt x="9375" y="811"/>
                  </a:lnTo>
                  <a:lnTo>
                    <a:pt x="9259" y="811"/>
                  </a:lnTo>
                  <a:lnTo>
                    <a:pt x="9143" y="811"/>
                  </a:lnTo>
                  <a:lnTo>
                    <a:pt x="9027" y="811"/>
                  </a:lnTo>
                  <a:lnTo>
                    <a:pt x="8912" y="927"/>
                  </a:lnTo>
                  <a:lnTo>
                    <a:pt x="8796" y="927"/>
                  </a:lnTo>
                  <a:lnTo>
                    <a:pt x="8680" y="1043"/>
                  </a:lnTo>
                  <a:lnTo>
                    <a:pt x="8680" y="1043"/>
                  </a:lnTo>
                  <a:lnTo>
                    <a:pt x="8912" y="1158"/>
                  </a:lnTo>
                  <a:lnTo>
                    <a:pt x="8912" y="1158"/>
                  </a:lnTo>
                  <a:lnTo>
                    <a:pt x="8680" y="1158"/>
                  </a:lnTo>
                  <a:lnTo>
                    <a:pt x="8564" y="1274"/>
                  </a:lnTo>
                  <a:lnTo>
                    <a:pt x="8333" y="1274"/>
                  </a:lnTo>
                  <a:lnTo>
                    <a:pt x="8102" y="1274"/>
                  </a:lnTo>
                  <a:lnTo>
                    <a:pt x="7986" y="1390"/>
                  </a:lnTo>
                  <a:lnTo>
                    <a:pt x="7754" y="1390"/>
                  </a:lnTo>
                  <a:lnTo>
                    <a:pt x="7639" y="1506"/>
                  </a:lnTo>
                  <a:lnTo>
                    <a:pt x="7407" y="1622"/>
                  </a:lnTo>
                  <a:lnTo>
                    <a:pt x="7407" y="1622"/>
                  </a:lnTo>
                  <a:lnTo>
                    <a:pt x="7639" y="1622"/>
                  </a:lnTo>
                  <a:lnTo>
                    <a:pt x="7754" y="1622"/>
                  </a:lnTo>
                  <a:lnTo>
                    <a:pt x="7870" y="1738"/>
                  </a:lnTo>
                  <a:lnTo>
                    <a:pt x="7986" y="1738"/>
                  </a:lnTo>
                  <a:lnTo>
                    <a:pt x="8102" y="1738"/>
                  </a:lnTo>
                  <a:lnTo>
                    <a:pt x="8217" y="1853"/>
                  </a:lnTo>
                  <a:lnTo>
                    <a:pt x="8333" y="1853"/>
                  </a:lnTo>
                  <a:lnTo>
                    <a:pt x="8564" y="1853"/>
                  </a:lnTo>
                  <a:lnTo>
                    <a:pt x="8564" y="1853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680" y="2085"/>
                  </a:lnTo>
                  <a:lnTo>
                    <a:pt x="8680" y="2085"/>
                  </a:lnTo>
                  <a:lnTo>
                    <a:pt x="8796" y="1969"/>
                  </a:lnTo>
                  <a:lnTo>
                    <a:pt x="8796" y="1969"/>
                  </a:lnTo>
                  <a:lnTo>
                    <a:pt x="8912" y="1969"/>
                  </a:lnTo>
                  <a:lnTo>
                    <a:pt x="8912" y="1969"/>
                  </a:lnTo>
                  <a:lnTo>
                    <a:pt x="9027" y="1969"/>
                  </a:lnTo>
                  <a:lnTo>
                    <a:pt x="9027" y="1969"/>
                  </a:lnTo>
                  <a:lnTo>
                    <a:pt x="8796" y="2085"/>
                  </a:lnTo>
                  <a:lnTo>
                    <a:pt x="8680" y="2085"/>
                  </a:lnTo>
                  <a:lnTo>
                    <a:pt x="8449" y="2201"/>
                  </a:lnTo>
                  <a:lnTo>
                    <a:pt x="8333" y="2317"/>
                  </a:lnTo>
                  <a:lnTo>
                    <a:pt x="8102" y="2317"/>
                  </a:lnTo>
                  <a:lnTo>
                    <a:pt x="7986" y="2432"/>
                  </a:lnTo>
                  <a:lnTo>
                    <a:pt x="7754" y="2664"/>
                  </a:lnTo>
                  <a:lnTo>
                    <a:pt x="7639" y="2780"/>
                  </a:lnTo>
                  <a:lnTo>
                    <a:pt x="7639" y="2780"/>
                  </a:lnTo>
                  <a:lnTo>
                    <a:pt x="7870" y="2780"/>
                  </a:lnTo>
                  <a:lnTo>
                    <a:pt x="8102" y="2780"/>
                  </a:lnTo>
                  <a:lnTo>
                    <a:pt x="8333" y="2780"/>
                  </a:lnTo>
                  <a:lnTo>
                    <a:pt x="8564" y="2664"/>
                  </a:lnTo>
                  <a:lnTo>
                    <a:pt x="8796" y="2548"/>
                  </a:lnTo>
                  <a:lnTo>
                    <a:pt x="9027" y="2548"/>
                  </a:lnTo>
                  <a:lnTo>
                    <a:pt x="9259" y="2432"/>
                  </a:lnTo>
                  <a:lnTo>
                    <a:pt x="9490" y="2432"/>
                  </a:lnTo>
                  <a:lnTo>
                    <a:pt x="9490" y="2432"/>
                  </a:lnTo>
                  <a:lnTo>
                    <a:pt x="8564" y="2896"/>
                  </a:lnTo>
                  <a:lnTo>
                    <a:pt x="7754" y="3243"/>
                  </a:lnTo>
                  <a:lnTo>
                    <a:pt x="6828" y="3590"/>
                  </a:lnTo>
                  <a:lnTo>
                    <a:pt x="6018" y="3938"/>
                  </a:lnTo>
                  <a:lnTo>
                    <a:pt x="5092" y="4401"/>
                  </a:lnTo>
                  <a:lnTo>
                    <a:pt x="4282" y="4749"/>
                  </a:lnTo>
                  <a:lnTo>
                    <a:pt x="3357" y="5096"/>
                  </a:lnTo>
                  <a:lnTo>
                    <a:pt x="2546" y="5559"/>
                  </a:lnTo>
                  <a:lnTo>
                    <a:pt x="2546" y="5559"/>
                  </a:lnTo>
                  <a:lnTo>
                    <a:pt x="2431" y="5443"/>
                  </a:lnTo>
                  <a:lnTo>
                    <a:pt x="2199" y="5328"/>
                  </a:lnTo>
                  <a:lnTo>
                    <a:pt x="1968" y="5212"/>
                  </a:lnTo>
                  <a:lnTo>
                    <a:pt x="1736" y="5212"/>
                  </a:lnTo>
                  <a:lnTo>
                    <a:pt x="1505" y="5096"/>
                  </a:lnTo>
                  <a:lnTo>
                    <a:pt x="1389" y="4980"/>
                  </a:lnTo>
                  <a:lnTo>
                    <a:pt x="1273" y="4864"/>
                  </a:lnTo>
                  <a:lnTo>
                    <a:pt x="1273" y="4517"/>
                  </a:lnTo>
                  <a:lnTo>
                    <a:pt x="1273" y="4517"/>
                  </a:lnTo>
                  <a:lnTo>
                    <a:pt x="1389" y="4401"/>
                  </a:lnTo>
                  <a:lnTo>
                    <a:pt x="1505" y="4170"/>
                  </a:lnTo>
                  <a:lnTo>
                    <a:pt x="1621" y="4054"/>
                  </a:lnTo>
                  <a:lnTo>
                    <a:pt x="1852" y="3822"/>
                  </a:lnTo>
                  <a:lnTo>
                    <a:pt x="1968" y="3706"/>
                  </a:lnTo>
                  <a:lnTo>
                    <a:pt x="2083" y="3590"/>
                  </a:lnTo>
                  <a:lnTo>
                    <a:pt x="2199" y="3359"/>
                  </a:lnTo>
                  <a:lnTo>
                    <a:pt x="2315" y="3243"/>
                  </a:lnTo>
                  <a:lnTo>
                    <a:pt x="2315" y="3243"/>
                  </a:lnTo>
                  <a:lnTo>
                    <a:pt x="2083" y="3011"/>
                  </a:lnTo>
                  <a:lnTo>
                    <a:pt x="1621" y="2896"/>
                  </a:lnTo>
                  <a:lnTo>
                    <a:pt x="1273" y="2896"/>
                  </a:lnTo>
                  <a:lnTo>
                    <a:pt x="810" y="2896"/>
                  </a:lnTo>
                  <a:lnTo>
                    <a:pt x="347" y="2780"/>
                  </a:lnTo>
                  <a:lnTo>
                    <a:pt x="116" y="2664"/>
                  </a:lnTo>
                  <a:lnTo>
                    <a:pt x="0" y="2317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810" y="1274"/>
                  </a:lnTo>
                  <a:lnTo>
                    <a:pt x="1736" y="811"/>
                  </a:lnTo>
                  <a:lnTo>
                    <a:pt x="2662" y="464"/>
                  </a:lnTo>
                  <a:lnTo>
                    <a:pt x="3588" y="232"/>
                  </a:lnTo>
                  <a:lnTo>
                    <a:pt x="4630" y="0"/>
                  </a:lnTo>
                  <a:lnTo>
                    <a:pt x="5555" y="0"/>
                  </a:lnTo>
                  <a:lnTo>
                    <a:pt x="6597" y="116"/>
                  </a:lnTo>
                  <a:lnTo>
                    <a:pt x="7639" y="348"/>
                  </a:lnTo>
                  <a:lnTo>
                    <a:pt x="7639" y="348"/>
                  </a:lnTo>
                  <a:lnTo>
                    <a:pt x="7870" y="464"/>
                  </a:lnTo>
                  <a:lnTo>
                    <a:pt x="8102" y="464"/>
                  </a:lnTo>
                  <a:lnTo>
                    <a:pt x="8333" y="464"/>
                  </a:lnTo>
                  <a:lnTo>
                    <a:pt x="8564" y="464"/>
                  </a:lnTo>
                  <a:lnTo>
                    <a:pt x="8796" y="579"/>
                  </a:lnTo>
                  <a:lnTo>
                    <a:pt x="9143" y="579"/>
                  </a:lnTo>
                  <a:lnTo>
                    <a:pt x="9375" y="579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1042560" y="3964680"/>
              <a:ext cx="1208160" cy="466200"/>
            </a:xfrm>
            <a:custGeom>
              <a:avLst/>
              <a:gdLst/>
              <a:ahLst/>
              <a:rect l="l" t="t" r="r" b="b"/>
              <a:pathLst>
                <a:path w="33794" h="8686">
                  <a:moveTo>
                    <a:pt x="-31742" y="0"/>
                  </a:moveTo>
                  <a:lnTo>
                    <a:pt x="-31974" y="116"/>
                  </a:lnTo>
                  <a:lnTo>
                    <a:pt x="-32205" y="348"/>
                  </a:lnTo>
                  <a:lnTo>
                    <a:pt x="-32437" y="463"/>
                  </a:lnTo>
                  <a:lnTo>
                    <a:pt x="-32668" y="579"/>
                  </a:lnTo>
                  <a:lnTo>
                    <a:pt x="32637" y="811"/>
                  </a:lnTo>
                  <a:lnTo>
                    <a:pt x="32521" y="927"/>
                  </a:lnTo>
                  <a:lnTo>
                    <a:pt x="32289" y="1158"/>
                  </a:lnTo>
                  <a:lnTo>
                    <a:pt x="32174" y="1390"/>
                  </a:lnTo>
                  <a:lnTo>
                    <a:pt x="32174" y="1390"/>
                  </a:lnTo>
                  <a:lnTo>
                    <a:pt x="32289" y="1506"/>
                  </a:lnTo>
                  <a:lnTo>
                    <a:pt x="32289" y="1737"/>
                  </a:lnTo>
                  <a:lnTo>
                    <a:pt x="32405" y="1853"/>
                  </a:lnTo>
                  <a:lnTo>
                    <a:pt x="32405" y="1969"/>
                  </a:lnTo>
                  <a:lnTo>
                    <a:pt x="32521" y="2085"/>
                  </a:lnTo>
                  <a:lnTo>
                    <a:pt x="32637" y="2201"/>
                  </a:lnTo>
                  <a:lnTo>
                    <a:pt x="32752" y="2316"/>
                  </a:lnTo>
                  <a:lnTo>
                    <a:pt x="-32668" y="2432"/>
                  </a:lnTo>
                  <a:lnTo>
                    <a:pt x="-32668" y="2432"/>
                  </a:lnTo>
                  <a:lnTo>
                    <a:pt x="29628" y="3011"/>
                  </a:lnTo>
                  <a:lnTo>
                    <a:pt x="26271" y="3590"/>
                  </a:lnTo>
                  <a:lnTo>
                    <a:pt x="23031" y="4169"/>
                  </a:lnTo>
                  <a:lnTo>
                    <a:pt x="19790" y="4864"/>
                  </a:lnTo>
                  <a:lnTo>
                    <a:pt x="16550" y="5443"/>
                  </a:lnTo>
                  <a:lnTo>
                    <a:pt x="13309" y="6138"/>
                  </a:lnTo>
                  <a:lnTo>
                    <a:pt x="10069" y="6833"/>
                  </a:lnTo>
                  <a:lnTo>
                    <a:pt x="6713" y="7644"/>
                  </a:lnTo>
                  <a:lnTo>
                    <a:pt x="6713" y="7644"/>
                  </a:lnTo>
                  <a:lnTo>
                    <a:pt x="0" y="8686"/>
                  </a:lnTo>
                  <a:lnTo>
                    <a:pt x="0" y="8686"/>
                  </a:lnTo>
                  <a:lnTo>
                    <a:pt x="0" y="8454"/>
                  </a:lnTo>
                  <a:lnTo>
                    <a:pt x="0" y="8223"/>
                  </a:lnTo>
                  <a:lnTo>
                    <a:pt x="0" y="7991"/>
                  </a:lnTo>
                  <a:lnTo>
                    <a:pt x="0" y="7760"/>
                  </a:lnTo>
                  <a:lnTo>
                    <a:pt x="116" y="7528"/>
                  </a:lnTo>
                  <a:lnTo>
                    <a:pt x="116" y="7296"/>
                  </a:lnTo>
                  <a:lnTo>
                    <a:pt x="232" y="7065"/>
                  </a:lnTo>
                  <a:lnTo>
                    <a:pt x="232" y="6833"/>
                  </a:lnTo>
                  <a:lnTo>
                    <a:pt x="232" y="6833"/>
                  </a:lnTo>
                  <a:lnTo>
                    <a:pt x="694" y="6486"/>
                  </a:lnTo>
                  <a:lnTo>
                    <a:pt x="694" y="6486"/>
                  </a:lnTo>
                  <a:lnTo>
                    <a:pt x="2662" y="6138"/>
                  </a:lnTo>
                  <a:lnTo>
                    <a:pt x="4745" y="5791"/>
                  </a:lnTo>
                  <a:lnTo>
                    <a:pt x="6713" y="5327"/>
                  </a:lnTo>
                  <a:lnTo>
                    <a:pt x="8796" y="4980"/>
                  </a:lnTo>
                  <a:lnTo>
                    <a:pt x="10879" y="4633"/>
                  </a:lnTo>
                  <a:lnTo>
                    <a:pt x="12962" y="4169"/>
                  </a:lnTo>
                  <a:lnTo>
                    <a:pt x="14930" y="3706"/>
                  </a:lnTo>
                  <a:lnTo>
                    <a:pt x="17013" y="3243"/>
                  </a:lnTo>
                  <a:lnTo>
                    <a:pt x="17013" y="3243"/>
                  </a:lnTo>
                  <a:lnTo>
                    <a:pt x="30553" y="579"/>
                  </a:lnTo>
                  <a:lnTo>
                    <a:pt x="30553" y="579"/>
                  </a:lnTo>
                  <a:lnTo>
                    <a:pt x="31016" y="463"/>
                  </a:lnTo>
                  <a:lnTo>
                    <a:pt x="31363" y="463"/>
                  </a:lnTo>
                  <a:lnTo>
                    <a:pt x="31826" y="348"/>
                  </a:lnTo>
                  <a:lnTo>
                    <a:pt x="32174" y="232"/>
                  </a:lnTo>
                  <a:lnTo>
                    <a:pt x="32521" y="232"/>
                  </a:lnTo>
                  <a:lnTo>
                    <a:pt x="-32552" y="116"/>
                  </a:lnTo>
                  <a:lnTo>
                    <a:pt x="-32205" y="116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827280" y="4045680"/>
              <a:ext cx="169560" cy="204840"/>
            </a:xfrm>
            <a:custGeom>
              <a:avLst/>
              <a:gdLst/>
              <a:ahLst/>
              <a:rect l="l" t="t" r="r" b="b"/>
              <a:pathLst>
                <a:path w="4745" h="3821">
                  <a:moveTo>
                    <a:pt x="4745" y="695"/>
                  </a:moveTo>
                  <a:lnTo>
                    <a:pt x="4514" y="2895"/>
                  </a:lnTo>
                  <a:lnTo>
                    <a:pt x="4514" y="2895"/>
                  </a:lnTo>
                  <a:lnTo>
                    <a:pt x="4282" y="3011"/>
                  </a:lnTo>
                  <a:lnTo>
                    <a:pt x="4051" y="3242"/>
                  </a:lnTo>
                  <a:lnTo>
                    <a:pt x="3819" y="3474"/>
                  </a:lnTo>
                  <a:lnTo>
                    <a:pt x="3588" y="3590"/>
                  </a:lnTo>
                  <a:lnTo>
                    <a:pt x="3356" y="3706"/>
                  </a:lnTo>
                  <a:lnTo>
                    <a:pt x="3125" y="3821"/>
                  </a:lnTo>
                  <a:lnTo>
                    <a:pt x="2893" y="3706"/>
                  </a:lnTo>
                  <a:lnTo>
                    <a:pt x="2662" y="3358"/>
                  </a:lnTo>
                  <a:lnTo>
                    <a:pt x="2662" y="3358"/>
                  </a:lnTo>
                  <a:lnTo>
                    <a:pt x="2430" y="3358"/>
                  </a:lnTo>
                  <a:lnTo>
                    <a:pt x="2315" y="3358"/>
                  </a:lnTo>
                  <a:lnTo>
                    <a:pt x="2199" y="3474"/>
                  </a:lnTo>
                  <a:lnTo>
                    <a:pt x="1967" y="3474"/>
                  </a:lnTo>
                  <a:lnTo>
                    <a:pt x="1852" y="3590"/>
                  </a:lnTo>
                  <a:lnTo>
                    <a:pt x="1736" y="3706"/>
                  </a:lnTo>
                  <a:lnTo>
                    <a:pt x="1505" y="3706"/>
                  </a:lnTo>
                  <a:lnTo>
                    <a:pt x="1389" y="3821"/>
                  </a:lnTo>
                  <a:lnTo>
                    <a:pt x="1389" y="3821"/>
                  </a:lnTo>
                  <a:lnTo>
                    <a:pt x="1042" y="3474"/>
                  </a:lnTo>
                  <a:lnTo>
                    <a:pt x="810" y="3127"/>
                  </a:lnTo>
                  <a:lnTo>
                    <a:pt x="579" y="2663"/>
                  </a:lnTo>
                  <a:lnTo>
                    <a:pt x="463" y="2200"/>
                  </a:lnTo>
                  <a:lnTo>
                    <a:pt x="231" y="1853"/>
                  </a:lnTo>
                  <a:lnTo>
                    <a:pt x="116" y="1389"/>
                  </a:lnTo>
                  <a:lnTo>
                    <a:pt x="0" y="926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463" y="231"/>
                  </a:lnTo>
                  <a:lnTo>
                    <a:pt x="1157" y="0"/>
                  </a:lnTo>
                  <a:lnTo>
                    <a:pt x="1736" y="0"/>
                  </a:lnTo>
                  <a:lnTo>
                    <a:pt x="2430" y="0"/>
                  </a:lnTo>
                  <a:lnTo>
                    <a:pt x="3009" y="116"/>
                  </a:lnTo>
                  <a:lnTo>
                    <a:pt x="3703" y="231"/>
                  </a:lnTo>
                  <a:lnTo>
                    <a:pt x="4282" y="463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1001160" y="4089240"/>
              <a:ext cx="24480" cy="105480"/>
            </a:xfrm>
            <a:custGeom>
              <a:avLst/>
              <a:gdLst/>
              <a:ahLst/>
              <a:rect l="l" t="t" r="r" b="b"/>
              <a:pathLst>
                <a:path w="694" h="1969">
                  <a:moveTo>
                    <a:pt x="578" y="1969"/>
                  </a:moveTo>
                  <a:lnTo>
                    <a:pt x="463" y="1969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969"/>
                  </a:lnTo>
                  <a:lnTo>
                    <a:pt x="0" y="1969"/>
                  </a:lnTo>
                  <a:lnTo>
                    <a:pt x="0" y="1853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347" y="0"/>
                  </a:lnTo>
                  <a:lnTo>
                    <a:pt x="694" y="116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1034280" y="4101480"/>
              <a:ext cx="28800" cy="105480"/>
            </a:xfrm>
            <a:custGeom>
              <a:avLst/>
              <a:gdLst/>
              <a:ahLst/>
              <a:rect l="l" t="t" r="r" b="b"/>
              <a:pathLst>
                <a:path w="810" h="1969">
                  <a:moveTo>
                    <a:pt x="694" y="232"/>
                  </a:moveTo>
                  <a:lnTo>
                    <a:pt x="810" y="463"/>
                  </a:lnTo>
                  <a:lnTo>
                    <a:pt x="694" y="579"/>
                  </a:lnTo>
                  <a:lnTo>
                    <a:pt x="694" y="695"/>
                  </a:lnTo>
                  <a:lnTo>
                    <a:pt x="694" y="927"/>
                  </a:lnTo>
                  <a:lnTo>
                    <a:pt x="694" y="1042"/>
                  </a:lnTo>
                  <a:lnTo>
                    <a:pt x="694" y="1274"/>
                  </a:lnTo>
                  <a:lnTo>
                    <a:pt x="694" y="1390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737"/>
                  </a:lnTo>
                  <a:lnTo>
                    <a:pt x="578" y="1737"/>
                  </a:lnTo>
                  <a:lnTo>
                    <a:pt x="463" y="1853"/>
                  </a:lnTo>
                  <a:lnTo>
                    <a:pt x="463" y="1853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853"/>
                  </a:lnTo>
                  <a:lnTo>
                    <a:pt x="115" y="1853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506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231" y="232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116"/>
                  </a:lnTo>
                  <a:lnTo>
                    <a:pt x="347" y="116"/>
                  </a:lnTo>
                  <a:lnTo>
                    <a:pt x="463" y="232"/>
                  </a:lnTo>
                  <a:lnTo>
                    <a:pt x="463" y="232"/>
                  </a:lnTo>
                  <a:lnTo>
                    <a:pt x="578" y="347"/>
                  </a:lnTo>
                  <a:lnTo>
                    <a:pt x="578" y="347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1046520" y="4101480"/>
              <a:ext cx="1241280" cy="441360"/>
            </a:xfrm>
            <a:custGeom>
              <a:avLst/>
              <a:gdLst/>
              <a:ahLst/>
              <a:rect l="l" t="t" r="r" b="b"/>
              <a:pathLst>
                <a:path w="34719" h="8223">
                  <a:moveTo>
                    <a:pt x="-31048" y="0"/>
                  </a:moveTo>
                  <a:lnTo>
                    <a:pt x="-31279" y="232"/>
                  </a:lnTo>
                  <a:lnTo>
                    <a:pt x="-31395" y="347"/>
                  </a:lnTo>
                  <a:lnTo>
                    <a:pt x="-31627" y="579"/>
                  </a:lnTo>
                  <a:lnTo>
                    <a:pt x="-31742" y="811"/>
                  </a:lnTo>
                  <a:lnTo>
                    <a:pt x="-31858" y="1042"/>
                  </a:lnTo>
                  <a:lnTo>
                    <a:pt x="-31858" y="1390"/>
                  </a:lnTo>
                  <a:lnTo>
                    <a:pt x="-31858" y="1621"/>
                  </a:lnTo>
                  <a:lnTo>
                    <a:pt x="-31742" y="1853"/>
                  </a:lnTo>
                  <a:lnTo>
                    <a:pt x="-31742" y="1853"/>
                  </a:lnTo>
                  <a:lnTo>
                    <a:pt x="-31742" y="2085"/>
                  </a:lnTo>
                  <a:lnTo>
                    <a:pt x="-31627" y="2200"/>
                  </a:lnTo>
                  <a:lnTo>
                    <a:pt x="-31511" y="2200"/>
                  </a:lnTo>
                  <a:lnTo>
                    <a:pt x="-31395" y="2316"/>
                  </a:lnTo>
                  <a:lnTo>
                    <a:pt x="-31279" y="2432"/>
                  </a:lnTo>
                  <a:lnTo>
                    <a:pt x="-31164" y="2432"/>
                  </a:lnTo>
                  <a:lnTo>
                    <a:pt x="-30932" y="2548"/>
                  </a:lnTo>
                  <a:lnTo>
                    <a:pt x="-30817" y="2548"/>
                  </a:lnTo>
                  <a:lnTo>
                    <a:pt x="-30817" y="2548"/>
                  </a:lnTo>
                  <a:lnTo>
                    <a:pt x="-31048" y="2664"/>
                  </a:lnTo>
                  <a:lnTo>
                    <a:pt x="-31395" y="2664"/>
                  </a:lnTo>
                  <a:lnTo>
                    <a:pt x="-31627" y="2779"/>
                  </a:lnTo>
                  <a:lnTo>
                    <a:pt x="-31858" y="2779"/>
                  </a:lnTo>
                  <a:lnTo>
                    <a:pt x="-32090" y="2779"/>
                  </a:lnTo>
                  <a:lnTo>
                    <a:pt x="-32437" y="2895"/>
                  </a:lnTo>
                  <a:lnTo>
                    <a:pt x="-32668" y="2895"/>
                  </a:lnTo>
                  <a:lnTo>
                    <a:pt x="32636" y="3011"/>
                  </a:lnTo>
                  <a:lnTo>
                    <a:pt x="32636" y="3011"/>
                  </a:lnTo>
                  <a:lnTo>
                    <a:pt x="32405" y="2895"/>
                  </a:lnTo>
                  <a:lnTo>
                    <a:pt x="32173" y="2779"/>
                  </a:lnTo>
                  <a:lnTo>
                    <a:pt x="31942" y="2779"/>
                  </a:lnTo>
                  <a:lnTo>
                    <a:pt x="31710" y="2779"/>
                  </a:lnTo>
                  <a:lnTo>
                    <a:pt x="31479" y="2779"/>
                  </a:lnTo>
                  <a:lnTo>
                    <a:pt x="31247" y="2779"/>
                  </a:lnTo>
                  <a:lnTo>
                    <a:pt x="31016" y="2895"/>
                  </a:lnTo>
                  <a:lnTo>
                    <a:pt x="30785" y="2895"/>
                  </a:lnTo>
                  <a:lnTo>
                    <a:pt x="30785" y="2895"/>
                  </a:lnTo>
                  <a:lnTo>
                    <a:pt x="29974" y="3474"/>
                  </a:lnTo>
                  <a:lnTo>
                    <a:pt x="29974" y="3474"/>
                  </a:lnTo>
                  <a:lnTo>
                    <a:pt x="29974" y="3359"/>
                  </a:lnTo>
                  <a:lnTo>
                    <a:pt x="29974" y="3359"/>
                  </a:lnTo>
                  <a:lnTo>
                    <a:pt x="29859" y="3243"/>
                  </a:lnTo>
                  <a:lnTo>
                    <a:pt x="29859" y="3127"/>
                  </a:lnTo>
                  <a:lnTo>
                    <a:pt x="29859" y="3127"/>
                  </a:lnTo>
                  <a:lnTo>
                    <a:pt x="29859" y="3011"/>
                  </a:lnTo>
                  <a:lnTo>
                    <a:pt x="29859" y="3011"/>
                  </a:lnTo>
                  <a:lnTo>
                    <a:pt x="29974" y="2895"/>
                  </a:lnTo>
                  <a:lnTo>
                    <a:pt x="29974" y="2895"/>
                  </a:lnTo>
                  <a:lnTo>
                    <a:pt x="-32321" y="2316"/>
                  </a:lnTo>
                  <a:lnTo>
                    <a:pt x="-32321" y="2316"/>
                  </a:lnTo>
                  <a:lnTo>
                    <a:pt x="-32205" y="2316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553" y="2085"/>
                  </a:lnTo>
                  <a:lnTo>
                    <a:pt x="32521" y="2200"/>
                  </a:lnTo>
                  <a:lnTo>
                    <a:pt x="31942" y="2200"/>
                  </a:lnTo>
                  <a:lnTo>
                    <a:pt x="31479" y="2316"/>
                  </a:lnTo>
                  <a:lnTo>
                    <a:pt x="31016" y="2432"/>
                  </a:lnTo>
                  <a:lnTo>
                    <a:pt x="30437" y="2548"/>
                  </a:lnTo>
                  <a:lnTo>
                    <a:pt x="29974" y="2664"/>
                  </a:lnTo>
                  <a:lnTo>
                    <a:pt x="29512" y="2779"/>
                  </a:lnTo>
                  <a:lnTo>
                    <a:pt x="29512" y="2779"/>
                  </a:lnTo>
                  <a:lnTo>
                    <a:pt x="29396" y="2664"/>
                  </a:lnTo>
                  <a:lnTo>
                    <a:pt x="29164" y="2664"/>
                  </a:lnTo>
                  <a:lnTo>
                    <a:pt x="28933" y="2548"/>
                  </a:lnTo>
                  <a:lnTo>
                    <a:pt x="28701" y="2548"/>
                  </a:lnTo>
                  <a:lnTo>
                    <a:pt x="28470" y="2432"/>
                  </a:lnTo>
                  <a:lnTo>
                    <a:pt x="28238" y="2548"/>
                  </a:lnTo>
                  <a:lnTo>
                    <a:pt x="28123" y="2548"/>
                  </a:lnTo>
                  <a:lnTo>
                    <a:pt x="27891" y="2664"/>
                  </a:lnTo>
                  <a:lnTo>
                    <a:pt x="27891" y="2664"/>
                  </a:lnTo>
                  <a:lnTo>
                    <a:pt x="27660" y="2895"/>
                  </a:lnTo>
                  <a:lnTo>
                    <a:pt x="27544" y="3011"/>
                  </a:lnTo>
                  <a:lnTo>
                    <a:pt x="27428" y="3011"/>
                  </a:lnTo>
                  <a:lnTo>
                    <a:pt x="27197" y="3011"/>
                  </a:lnTo>
                  <a:lnTo>
                    <a:pt x="27081" y="2895"/>
                  </a:lnTo>
                  <a:lnTo>
                    <a:pt x="26850" y="2895"/>
                  </a:lnTo>
                  <a:lnTo>
                    <a:pt x="26618" y="2895"/>
                  </a:lnTo>
                  <a:lnTo>
                    <a:pt x="26502" y="3127"/>
                  </a:lnTo>
                  <a:lnTo>
                    <a:pt x="26502" y="3127"/>
                  </a:lnTo>
                  <a:lnTo>
                    <a:pt x="26387" y="3474"/>
                  </a:lnTo>
                  <a:lnTo>
                    <a:pt x="26155" y="3706"/>
                  </a:lnTo>
                  <a:lnTo>
                    <a:pt x="25924" y="3822"/>
                  </a:lnTo>
                  <a:lnTo>
                    <a:pt x="25577" y="3822"/>
                  </a:lnTo>
                  <a:lnTo>
                    <a:pt x="25229" y="3822"/>
                  </a:lnTo>
                  <a:lnTo>
                    <a:pt x="24882" y="3822"/>
                  </a:lnTo>
                  <a:lnTo>
                    <a:pt x="24651" y="3822"/>
                  </a:lnTo>
                  <a:lnTo>
                    <a:pt x="24304" y="3938"/>
                  </a:lnTo>
                  <a:lnTo>
                    <a:pt x="24304" y="3938"/>
                  </a:lnTo>
                  <a:lnTo>
                    <a:pt x="21526" y="4517"/>
                  </a:lnTo>
                  <a:lnTo>
                    <a:pt x="18633" y="5096"/>
                  </a:lnTo>
                  <a:lnTo>
                    <a:pt x="15855" y="5559"/>
                  </a:lnTo>
                  <a:lnTo>
                    <a:pt x="13078" y="6138"/>
                  </a:lnTo>
                  <a:lnTo>
                    <a:pt x="10184" y="6717"/>
                  </a:lnTo>
                  <a:lnTo>
                    <a:pt x="7407" y="7296"/>
                  </a:lnTo>
                  <a:lnTo>
                    <a:pt x="4513" y="7759"/>
                  </a:lnTo>
                  <a:lnTo>
                    <a:pt x="1620" y="8223"/>
                  </a:lnTo>
                  <a:lnTo>
                    <a:pt x="1620" y="8223"/>
                  </a:lnTo>
                  <a:lnTo>
                    <a:pt x="1389" y="8107"/>
                  </a:lnTo>
                  <a:lnTo>
                    <a:pt x="1157" y="7875"/>
                  </a:lnTo>
                  <a:lnTo>
                    <a:pt x="926" y="7759"/>
                  </a:lnTo>
                  <a:lnTo>
                    <a:pt x="694" y="7528"/>
                  </a:lnTo>
                  <a:lnTo>
                    <a:pt x="463" y="7296"/>
                  </a:lnTo>
                  <a:lnTo>
                    <a:pt x="231" y="7064"/>
                  </a:lnTo>
                  <a:lnTo>
                    <a:pt x="116" y="6717"/>
                  </a:lnTo>
                  <a:lnTo>
                    <a:pt x="0" y="6485"/>
                  </a:lnTo>
                  <a:lnTo>
                    <a:pt x="0" y="6485"/>
                  </a:lnTo>
                  <a:lnTo>
                    <a:pt x="4398" y="5675"/>
                  </a:lnTo>
                  <a:lnTo>
                    <a:pt x="8680" y="4864"/>
                  </a:lnTo>
                  <a:lnTo>
                    <a:pt x="12846" y="3938"/>
                  </a:lnTo>
                  <a:lnTo>
                    <a:pt x="17128" y="3127"/>
                  </a:lnTo>
                  <a:lnTo>
                    <a:pt x="21295" y="2316"/>
                  </a:lnTo>
                  <a:lnTo>
                    <a:pt x="25577" y="1506"/>
                  </a:lnTo>
                  <a:lnTo>
                    <a:pt x="29859" y="695"/>
                  </a:lnTo>
                  <a:lnTo>
                    <a:pt x="-31279" y="116"/>
                  </a:lnTo>
                  <a:lnTo>
                    <a:pt x="-31279" y="116"/>
                  </a:lnTo>
                  <a:lnTo>
                    <a:pt x="-31279" y="0"/>
                  </a:lnTo>
                  <a:lnTo>
                    <a:pt x="-31279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856080" y="4194720"/>
              <a:ext cx="322560" cy="565560"/>
            </a:xfrm>
            <a:custGeom>
              <a:avLst/>
              <a:gdLst/>
              <a:ahLst/>
              <a:rect l="l" t="t" r="r" b="b"/>
              <a:pathLst>
                <a:path w="9027" h="10539">
                  <a:moveTo>
                    <a:pt x="7176" y="579"/>
                  </a:moveTo>
                  <a:lnTo>
                    <a:pt x="7176" y="695"/>
                  </a:lnTo>
                  <a:lnTo>
                    <a:pt x="7176" y="811"/>
                  </a:lnTo>
                  <a:lnTo>
                    <a:pt x="7176" y="927"/>
                  </a:lnTo>
                  <a:lnTo>
                    <a:pt x="7060" y="1042"/>
                  </a:lnTo>
                  <a:lnTo>
                    <a:pt x="7060" y="1158"/>
                  </a:lnTo>
                  <a:lnTo>
                    <a:pt x="6944" y="1274"/>
                  </a:lnTo>
                  <a:lnTo>
                    <a:pt x="6828" y="1274"/>
                  </a:lnTo>
                  <a:lnTo>
                    <a:pt x="6713" y="1274"/>
                  </a:lnTo>
                  <a:lnTo>
                    <a:pt x="6713" y="1274"/>
                  </a:lnTo>
                  <a:lnTo>
                    <a:pt x="6597" y="1274"/>
                  </a:lnTo>
                  <a:lnTo>
                    <a:pt x="6365" y="1274"/>
                  </a:lnTo>
                  <a:lnTo>
                    <a:pt x="6134" y="1274"/>
                  </a:lnTo>
                  <a:lnTo>
                    <a:pt x="6018" y="1274"/>
                  </a:lnTo>
                  <a:lnTo>
                    <a:pt x="5787" y="1390"/>
                  </a:lnTo>
                  <a:lnTo>
                    <a:pt x="5671" y="1506"/>
                  </a:lnTo>
                  <a:lnTo>
                    <a:pt x="5555" y="1622"/>
                  </a:lnTo>
                  <a:lnTo>
                    <a:pt x="5440" y="1737"/>
                  </a:lnTo>
                  <a:lnTo>
                    <a:pt x="5440" y="1737"/>
                  </a:lnTo>
                  <a:lnTo>
                    <a:pt x="5324" y="1969"/>
                  </a:lnTo>
                  <a:lnTo>
                    <a:pt x="5092" y="2201"/>
                  </a:lnTo>
                  <a:lnTo>
                    <a:pt x="4977" y="2432"/>
                  </a:lnTo>
                  <a:lnTo>
                    <a:pt x="4861" y="2664"/>
                  </a:lnTo>
                  <a:lnTo>
                    <a:pt x="4745" y="2895"/>
                  </a:lnTo>
                  <a:lnTo>
                    <a:pt x="4745" y="3127"/>
                  </a:lnTo>
                  <a:lnTo>
                    <a:pt x="4629" y="3359"/>
                  </a:lnTo>
                  <a:lnTo>
                    <a:pt x="4745" y="3590"/>
                  </a:lnTo>
                  <a:lnTo>
                    <a:pt x="4745" y="3590"/>
                  </a:lnTo>
                  <a:lnTo>
                    <a:pt x="4629" y="3822"/>
                  </a:lnTo>
                  <a:lnTo>
                    <a:pt x="4629" y="4054"/>
                  </a:lnTo>
                  <a:lnTo>
                    <a:pt x="4629" y="4401"/>
                  </a:lnTo>
                  <a:lnTo>
                    <a:pt x="4745" y="4633"/>
                  </a:lnTo>
                  <a:lnTo>
                    <a:pt x="4861" y="4864"/>
                  </a:lnTo>
                  <a:lnTo>
                    <a:pt x="4861" y="5212"/>
                  </a:lnTo>
                  <a:lnTo>
                    <a:pt x="4977" y="5443"/>
                  </a:lnTo>
                  <a:lnTo>
                    <a:pt x="5092" y="5675"/>
                  </a:lnTo>
                  <a:lnTo>
                    <a:pt x="5092" y="5675"/>
                  </a:lnTo>
                  <a:lnTo>
                    <a:pt x="5555" y="6138"/>
                  </a:lnTo>
                  <a:lnTo>
                    <a:pt x="5902" y="6486"/>
                  </a:lnTo>
                  <a:lnTo>
                    <a:pt x="6481" y="6717"/>
                  </a:lnTo>
                  <a:lnTo>
                    <a:pt x="6944" y="6949"/>
                  </a:lnTo>
                  <a:lnTo>
                    <a:pt x="7523" y="7180"/>
                  </a:lnTo>
                  <a:lnTo>
                    <a:pt x="7986" y="7296"/>
                  </a:lnTo>
                  <a:lnTo>
                    <a:pt x="8564" y="7528"/>
                  </a:lnTo>
                  <a:lnTo>
                    <a:pt x="9027" y="7875"/>
                  </a:lnTo>
                  <a:lnTo>
                    <a:pt x="9027" y="7875"/>
                  </a:lnTo>
                  <a:lnTo>
                    <a:pt x="9027" y="7991"/>
                  </a:lnTo>
                  <a:lnTo>
                    <a:pt x="9027" y="8107"/>
                  </a:lnTo>
                  <a:lnTo>
                    <a:pt x="9027" y="8223"/>
                  </a:lnTo>
                  <a:lnTo>
                    <a:pt x="8911" y="8339"/>
                  </a:lnTo>
                  <a:lnTo>
                    <a:pt x="8911" y="8454"/>
                  </a:lnTo>
                  <a:lnTo>
                    <a:pt x="8911" y="8570"/>
                  </a:lnTo>
                  <a:lnTo>
                    <a:pt x="8796" y="8686"/>
                  </a:lnTo>
                  <a:lnTo>
                    <a:pt x="8796" y="8802"/>
                  </a:lnTo>
                  <a:lnTo>
                    <a:pt x="8796" y="8802"/>
                  </a:lnTo>
                  <a:lnTo>
                    <a:pt x="8449" y="8918"/>
                  </a:lnTo>
                  <a:lnTo>
                    <a:pt x="8217" y="9033"/>
                  </a:lnTo>
                  <a:lnTo>
                    <a:pt x="7870" y="8918"/>
                  </a:lnTo>
                  <a:lnTo>
                    <a:pt x="7638" y="8918"/>
                  </a:lnTo>
                  <a:lnTo>
                    <a:pt x="7291" y="8686"/>
                  </a:lnTo>
                  <a:lnTo>
                    <a:pt x="7060" y="8570"/>
                  </a:lnTo>
                  <a:lnTo>
                    <a:pt x="6828" y="8454"/>
                  </a:lnTo>
                  <a:lnTo>
                    <a:pt x="6597" y="8223"/>
                  </a:lnTo>
                  <a:lnTo>
                    <a:pt x="6597" y="8223"/>
                  </a:lnTo>
                  <a:lnTo>
                    <a:pt x="6134" y="8223"/>
                  </a:lnTo>
                  <a:lnTo>
                    <a:pt x="5787" y="8107"/>
                  </a:lnTo>
                  <a:lnTo>
                    <a:pt x="5440" y="7991"/>
                  </a:lnTo>
                  <a:lnTo>
                    <a:pt x="5092" y="7759"/>
                  </a:lnTo>
                  <a:lnTo>
                    <a:pt x="4745" y="7528"/>
                  </a:lnTo>
                  <a:lnTo>
                    <a:pt x="4398" y="7296"/>
                  </a:lnTo>
                  <a:lnTo>
                    <a:pt x="4051" y="7065"/>
                  </a:lnTo>
                  <a:lnTo>
                    <a:pt x="3704" y="6949"/>
                  </a:lnTo>
                  <a:lnTo>
                    <a:pt x="3704" y="6949"/>
                  </a:lnTo>
                  <a:lnTo>
                    <a:pt x="3588" y="6833"/>
                  </a:lnTo>
                  <a:lnTo>
                    <a:pt x="3472" y="6949"/>
                  </a:lnTo>
                  <a:lnTo>
                    <a:pt x="4861" y="8223"/>
                  </a:lnTo>
                  <a:lnTo>
                    <a:pt x="4861" y="8223"/>
                  </a:lnTo>
                  <a:lnTo>
                    <a:pt x="4514" y="8223"/>
                  </a:lnTo>
                  <a:lnTo>
                    <a:pt x="4166" y="8107"/>
                  </a:lnTo>
                  <a:lnTo>
                    <a:pt x="3819" y="7875"/>
                  </a:lnTo>
                  <a:lnTo>
                    <a:pt x="3588" y="7644"/>
                  </a:lnTo>
                  <a:lnTo>
                    <a:pt x="3241" y="7412"/>
                  </a:lnTo>
                  <a:lnTo>
                    <a:pt x="3009" y="7180"/>
                  </a:lnTo>
                  <a:lnTo>
                    <a:pt x="2662" y="7065"/>
                  </a:lnTo>
                  <a:lnTo>
                    <a:pt x="2430" y="6949"/>
                  </a:lnTo>
                  <a:lnTo>
                    <a:pt x="2430" y="6949"/>
                  </a:lnTo>
                  <a:lnTo>
                    <a:pt x="2546" y="7180"/>
                  </a:lnTo>
                  <a:lnTo>
                    <a:pt x="2662" y="7412"/>
                  </a:lnTo>
                  <a:lnTo>
                    <a:pt x="2893" y="7644"/>
                  </a:lnTo>
                  <a:lnTo>
                    <a:pt x="3125" y="7875"/>
                  </a:lnTo>
                  <a:lnTo>
                    <a:pt x="3241" y="7991"/>
                  </a:lnTo>
                  <a:lnTo>
                    <a:pt x="3472" y="8223"/>
                  </a:lnTo>
                  <a:lnTo>
                    <a:pt x="3704" y="8454"/>
                  </a:lnTo>
                  <a:lnTo>
                    <a:pt x="3935" y="8570"/>
                  </a:lnTo>
                  <a:lnTo>
                    <a:pt x="3935" y="8570"/>
                  </a:lnTo>
                  <a:lnTo>
                    <a:pt x="3935" y="8686"/>
                  </a:lnTo>
                  <a:lnTo>
                    <a:pt x="3819" y="8686"/>
                  </a:lnTo>
                  <a:lnTo>
                    <a:pt x="3588" y="8802"/>
                  </a:lnTo>
                  <a:lnTo>
                    <a:pt x="3472" y="8802"/>
                  </a:lnTo>
                  <a:lnTo>
                    <a:pt x="3356" y="8802"/>
                  </a:lnTo>
                  <a:lnTo>
                    <a:pt x="3241" y="8802"/>
                  </a:lnTo>
                  <a:lnTo>
                    <a:pt x="3009" y="8802"/>
                  </a:lnTo>
                  <a:lnTo>
                    <a:pt x="3009" y="8686"/>
                  </a:lnTo>
                  <a:lnTo>
                    <a:pt x="3009" y="8686"/>
                  </a:lnTo>
                  <a:lnTo>
                    <a:pt x="2662" y="8570"/>
                  </a:lnTo>
                  <a:lnTo>
                    <a:pt x="2546" y="8339"/>
                  </a:lnTo>
                  <a:lnTo>
                    <a:pt x="2315" y="8107"/>
                  </a:lnTo>
                  <a:lnTo>
                    <a:pt x="2083" y="7875"/>
                  </a:lnTo>
                  <a:lnTo>
                    <a:pt x="1852" y="7644"/>
                  </a:lnTo>
                  <a:lnTo>
                    <a:pt x="1620" y="7412"/>
                  </a:lnTo>
                  <a:lnTo>
                    <a:pt x="1505" y="7296"/>
                  </a:lnTo>
                  <a:lnTo>
                    <a:pt x="1273" y="7065"/>
                  </a:lnTo>
                  <a:lnTo>
                    <a:pt x="1273" y="7065"/>
                  </a:lnTo>
                  <a:lnTo>
                    <a:pt x="1157" y="7412"/>
                  </a:lnTo>
                  <a:lnTo>
                    <a:pt x="1157" y="7759"/>
                  </a:lnTo>
                  <a:lnTo>
                    <a:pt x="1157" y="8107"/>
                  </a:lnTo>
                  <a:lnTo>
                    <a:pt x="1157" y="8454"/>
                  </a:lnTo>
                  <a:lnTo>
                    <a:pt x="1273" y="8802"/>
                  </a:lnTo>
                  <a:lnTo>
                    <a:pt x="1389" y="9149"/>
                  </a:lnTo>
                  <a:lnTo>
                    <a:pt x="1505" y="9612"/>
                  </a:lnTo>
                  <a:lnTo>
                    <a:pt x="1620" y="9960"/>
                  </a:lnTo>
                  <a:lnTo>
                    <a:pt x="1620" y="9960"/>
                  </a:lnTo>
                  <a:lnTo>
                    <a:pt x="1620" y="10539"/>
                  </a:lnTo>
                  <a:lnTo>
                    <a:pt x="1620" y="10539"/>
                  </a:lnTo>
                  <a:lnTo>
                    <a:pt x="1389" y="10539"/>
                  </a:lnTo>
                  <a:lnTo>
                    <a:pt x="1273" y="10539"/>
                  </a:lnTo>
                  <a:lnTo>
                    <a:pt x="1042" y="10423"/>
                  </a:lnTo>
                  <a:lnTo>
                    <a:pt x="926" y="10423"/>
                  </a:lnTo>
                  <a:lnTo>
                    <a:pt x="810" y="10191"/>
                  </a:lnTo>
                  <a:lnTo>
                    <a:pt x="695" y="10076"/>
                  </a:lnTo>
                  <a:lnTo>
                    <a:pt x="579" y="9960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116" y="9149"/>
                  </a:lnTo>
                  <a:lnTo>
                    <a:pt x="0" y="8570"/>
                  </a:lnTo>
                  <a:lnTo>
                    <a:pt x="116" y="7991"/>
                  </a:lnTo>
                  <a:lnTo>
                    <a:pt x="347" y="7412"/>
                  </a:lnTo>
                  <a:lnTo>
                    <a:pt x="579" y="6833"/>
                  </a:lnTo>
                  <a:lnTo>
                    <a:pt x="810" y="6138"/>
                  </a:lnTo>
                  <a:lnTo>
                    <a:pt x="926" y="5559"/>
                  </a:lnTo>
                  <a:lnTo>
                    <a:pt x="926" y="4864"/>
                  </a:lnTo>
                  <a:lnTo>
                    <a:pt x="926" y="4864"/>
                  </a:lnTo>
                  <a:lnTo>
                    <a:pt x="1157" y="4864"/>
                  </a:lnTo>
                  <a:lnTo>
                    <a:pt x="1389" y="4864"/>
                  </a:lnTo>
                  <a:lnTo>
                    <a:pt x="1620" y="4864"/>
                  </a:lnTo>
                  <a:lnTo>
                    <a:pt x="1852" y="4748"/>
                  </a:lnTo>
                  <a:lnTo>
                    <a:pt x="2083" y="4633"/>
                  </a:lnTo>
                  <a:lnTo>
                    <a:pt x="2315" y="4517"/>
                  </a:lnTo>
                  <a:lnTo>
                    <a:pt x="2546" y="4401"/>
                  </a:lnTo>
                  <a:lnTo>
                    <a:pt x="2662" y="4169"/>
                  </a:lnTo>
                  <a:lnTo>
                    <a:pt x="2662" y="4169"/>
                  </a:lnTo>
                  <a:lnTo>
                    <a:pt x="2778" y="3822"/>
                  </a:lnTo>
                  <a:lnTo>
                    <a:pt x="3009" y="3475"/>
                  </a:lnTo>
                  <a:lnTo>
                    <a:pt x="3125" y="3127"/>
                  </a:lnTo>
                  <a:lnTo>
                    <a:pt x="3241" y="2780"/>
                  </a:lnTo>
                  <a:lnTo>
                    <a:pt x="3241" y="2432"/>
                  </a:lnTo>
                  <a:lnTo>
                    <a:pt x="3241" y="2085"/>
                  </a:lnTo>
                  <a:lnTo>
                    <a:pt x="3125" y="1737"/>
                  </a:lnTo>
                  <a:lnTo>
                    <a:pt x="3009" y="1390"/>
                  </a:lnTo>
                  <a:lnTo>
                    <a:pt x="3009" y="1390"/>
                  </a:lnTo>
                  <a:lnTo>
                    <a:pt x="3125" y="1274"/>
                  </a:lnTo>
                  <a:lnTo>
                    <a:pt x="3241" y="1042"/>
                  </a:lnTo>
                  <a:lnTo>
                    <a:pt x="3472" y="811"/>
                  </a:lnTo>
                  <a:lnTo>
                    <a:pt x="3704" y="695"/>
                  </a:lnTo>
                  <a:lnTo>
                    <a:pt x="3819" y="579"/>
                  </a:lnTo>
                  <a:lnTo>
                    <a:pt x="4051" y="463"/>
                  </a:lnTo>
                  <a:lnTo>
                    <a:pt x="4282" y="463"/>
                  </a:lnTo>
                  <a:lnTo>
                    <a:pt x="4629" y="463"/>
                  </a:lnTo>
                  <a:lnTo>
                    <a:pt x="4629" y="463"/>
                  </a:lnTo>
                  <a:lnTo>
                    <a:pt x="4745" y="579"/>
                  </a:lnTo>
                  <a:lnTo>
                    <a:pt x="4977" y="579"/>
                  </a:lnTo>
                  <a:lnTo>
                    <a:pt x="5092" y="695"/>
                  </a:lnTo>
                  <a:lnTo>
                    <a:pt x="5324" y="811"/>
                  </a:lnTo>
                  <a:lnTo>
                    <a:pt x="5440" y="927"/>
                  </a:lnTo>
                  <a:lnTo>
                    <a:pt x="5555" y="927"/>
                  </a:lnTo>
                  <a:lnTo>
                    <a:pt x="5787" y="927"/>
                  </a:lnTo>
                  <a:lnTo>
                    <a:pt x="6018" y="811"/>
                  </a:lnTo>
                  <a:lnTo>
                    <a:pt x="6018" y="811"/>
                  </a:lnTo>
                  <a:lnTo>
                    <a:pt x="5671" y="463"/>
                  </a:lnTo>
                  <a:lnTo>
                    <a:pt x="5671" y="463"/>
                  </a:lnTo>
                  <a:lnTo>
                    <a:pt x="5902" y="348"/>
                  </a:lnTo>
                  <a:lnTo>
                    <a:pt x="6134" y="232"/>
                  </a:lnTo>
                  <a:lnTo>
                    <a:pt x="6365" y="116"/>
                  </a:lnTo>
                  <a:lnTo>
                    <a:pt x="6597" y="0"/>
                  </a:lnTo>
                  <a:lnTo>
                    <a:pt x="6828" y="0"/>
                  </a:lnTo>
                  <a:lnTo>
                    <a:pt x="6944" y="116"/>
                  </a:lnTo>
                  <a:lnTo>
                    <a:pt x="7060" y="232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847800" y="4250880"/>
              <a:ext cx="103320" cy="173880"/>
            </a:xfrm>
            <a:custGeom>
              <a:avLst/>
              <a:gdLst/>
              <a:ahLst/>
              <a:rect l="l" t="t" r="r" b="b"/>
              <a:pathLst>
                <a:path w="2893" h="3243">
                  <a:moveTo>
                    <a:pt x="2893" y="927"/>
                  </a:moveTo>
                  <a:lnTo>
                    <a:pt x="2893" y="1159"/>
                  </a:lnTo>
                  <a:lnTo>
                    <a:pt x="2893" y="1390"/>
                  </a:lnTo>
                  <a:lnTo>
                    <a:pt x="2893" y="1622"/>
                  </a:lnTo>
                  <a:lnTo>
                    <a:pt x="2893" y="1853"/>
                  </a:lnTo>
                  <a:lnTo>
                    <a:pt x="2777" y="2085"/>
                  </a:lnTo>
                  <a:lnTo>
                    <a:pt x="2661" y="2317"/>
                  </a:lnTo>
                  <a:lnTo>
                    <a:pt x="2546" y="2548"/>
                  </a:lnTo>
                  <a:lnTo>
                    <a:pt x="2430" y="2780"/>
                  </a:lnTo>
                  <a:lnTo>
                    <a:pt x="2430" y="2780"/>
                  </a:lnTo>
                  <a:lnTo>
                    <a:pt x="2314" y="2896"/>
                  </a:lnTo>
                  <a:lnTo>
                    <a:pt x="2199" y="3012"/>
                  </a:lnTo>
                  <a:lnTo>
                    <a:pt x="1967" y="3127"/>
                  </a:lnTo>
                  <a:lnTo>
                    <a:pt x="1851" y="3243"/>
                  </a:lnTo>
                  <a:lnTo>
                    <a:pt x="1620" y="3243"/>
                  </a:lnTo>
                  <a:lnTo>
                    <a:pt x="1388" y="3243"/>
                  </a:lnTo>
                  <a:lnTo>
                    <a:pt x="1157" y="3243"/>
                  </a:lnTo>
                  <a:lnTo>
                    <a:pt x="1041" y="3243"/>
                  </a:lnTo>
                  <a:lnTo>
                    <a:pt x="1041" y="3243"/>
                  </a:lnTo>
                  <a:lnTo>
                    <a:pt x="810" y="3127"/>
                  </a:lnTo>
                  <a:lnTo>
                    <a:pt x="694" y="3127"/>
                  </a:lnTo>
                  <a:lnTo>
                    <a:pt x="463" y="3012"/>
                  </a:lnTo>
                  <a:lnTo>
                    <a:pt x="347" y="2896"/>
                  </a:lnTo>
                  <a:lnTo>
                    <a:pt x="231" y="2664"/>
                  </a:lnTo>
                  <a:lnTo>
                    <a:pt x="231" y="2548"/>
                  </a:lnTo>
                  <a:lnTo>
                    <a:pt x="115" y="2433"/>
                  </a:lnTo>
                  <a:lnTo>
                    <a:pt x="0" y="2201"/>
                  </a:lnTo>
                  <a:lnTo>
                    <a:pt x="0" y="2201"/>
                  </a:lnTo>
                  <a:lnTo>
                    <a:pt x="231" y="2317"/>
                  </a:lnTo>
                  <a:lnTo>
                    <a:pt x="347" y="2317"/>
                  </a:lnTo>
                  <a:lnTo>
                    <a:pt x="578" y="2317"/>
                  </a:lnTo>
                  <a:lnTo>
                    <a:pt x="810" y="2317"/>
                  </a:lnTo>
                  <a:lnTo>
                    <a:pt x="926" y="2317"/>
                  </a:lnTo>
                  <a:lnTo>
                    <a:pt x="1157" y="2201"/>
                  </a:lnTo>
                  <a:lnTo>
                    <a:pt x="1388" y="2201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736" y="1738"/>
                  </a:lnTo>
                  <a:lnTo>
                    <a:pt x="1851" y="1506"/>
                  </a:lnTo>
                  <a:lnTo>
                    <a:pt x="1851" y="1390"/>
                  </a:lnTo>
                  <a:lnTo>
                    <a:pt x="1967" y="1159"/>
                  </a:lnTo>
                  <a:lnTo>
                    <a:pt x="1967" y="1043"/>
                  </a:lnTo>
                  <a:lnTo>
                    <a:pt x="1851" y="811"/>
                  </a:lnTo>
                  <a:lnTo>
                    <a:pt x="1736" y="695"/>
                  </a:lnTo>
                  <a:lnTo>
                    <a:pt x="1736" y="695"/>
                  </a:lnTo>
                  <a:lnTo>
                    <a:pt x="1504" y="232"/>
                  </a:lnTo>
                  <a:lnTo>
                    <a:pt x="1504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116"/>
                  </a:lnTo>
                  <a:lnTo>
                    <a:pt x="2314" y="232"/>
                  </a:lnTo>
                  <a:lnTo>
                    <a:pt x="2546" y="348"/>
                  </a:lnTo>
                  <a:lnTo>
                    <a:pt x="2661" y="580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2027520" y="4257000"/>
              <a:ext cx="74520" cy="173880"/>
            </a:xfrm>
            <a:custGeom>
              <a:avLst/>
              <a:gdLst/>
              <a:ahLst/>
              <a:rect l="l" t="t" r="r" b="b"/>
              <a:pathLst>
                <a:path w="2084" h="3243">
                  <a:moveTo>
                    <a:pt x="2084" y="464"/>
                  </a:moveTo>
                  <a:lnTo>
                    <a:pt x="2084" y="811"/>
                  </a:lnTo>
                  <a:lnTo>
                    <a:pt x="2084" y="1043"/>
                  </a:lnTo>
                  <a:lnTo>
                    <a:pt x="1968" y="1274"/>
                  </a:lnTo>
                  <a:lnTo>
                    <a:pt x="1852" y="1622"/>
                  </a:lnTo>
                  <a:lnTo>
                    <a:pt x="1736" y="1853"/>
                  </a:lnTo>
                  <a:lnTo>
                    <a:pt x="1621" y="2085"/>
                  </a:lnTo>
                  <a:lnTo>
                    <a:pt x="1505" y="2317"/>
                  </a:lnTo>
                  <a:lnTo>
                    <a:pt x="1389" y="2548"/>
                  </a:lnTo>
                  <a:lnTo>
                    <a:pt x="1389" y="2548"/>
                  </a:lnTo>
                  <a:lnTo>
                    <a:pt x="1158" y="2664"/>
                  </a:lnTo>
                  <a:lnTo>
                    <a:pt x="1042" y="2780"/>
                  </a:lnTo>
                  <a:lnTo>
                    <a:pt x="926" y="2896"/>
                  </a:lnTo>
                  <a:lnTo>
                    <a:pt x="695" y="3011"/>
                  </a:lnTo>
                  <a:lnTo>
                    <a:pt x="579" y="3127"/>
                  </a:lnTo>
                  <a:lnTo>
                    <a:pt x="463" y="3243"/>
                  </a:lnTo>
                  <a:lnTo>
                    <a:pt x="232" y="3243"/>
                  </a:lnTo>
                  <a:lnTo>
                    <a:pt x="0" y="3243"/>
                  </a:lnTo>
                  <a:lnTo>
                    <a:pt x="0" y="3243"/>
                  </a:lnTo>
                  <a:lnTo>
                    <a:pt x="116" y="2896"/>
                  </a:lnTo>
                  <a:lnTo>
                    <a:pt x="116" y="2548"/>
                  </a:lnTo>
                  <a:lnTo>
                    <a:pt x="232" y="2317"/>
                  </a:lnTo>
                  <a:lnTo>
                    <a:pt x="348" y="1969"/>
                  </a:lnTo>
                  <a:lnTo>
                    <a:pt x="348" y="1622"/>
                  </a:lnTo>
                  <a:lnTo>
                    <a:pt x="348" y="1274"/>
                  </a:lnTo>
                  <a:lnTo>
                    <a:pt x="348" y="927"/>
                  </a:lnTo>
                  <a:lnTo>
                    <a:pt x="232" y="579"/>
                  </a:lnTo>
                  <a:lnTo>
                    <a:pt x="232" y="579"/>
                  </a:lnTo>
                  <a:lnTo>
                    <a:pt x="348" y="232"/>
                  </a:lnTo>
                  <a:lnTo>
                    <a:pt x="463" y="116"/>
                  </a:lnTo>
                  <a:lnTo>
                    <a:pt x="695" y="0"/>
                  </a:lnTo>
                  <a:lnTo>
                    <a:pt x="1042" y="0"/>
                  </a:lnTo>
                  <a:lnTo>
                    <a:pt x="1273" y="116"/>
                  </a:lnTo>
                  <a:lnTo>
                    <a:pt x="1621" y="232"/>
                  </a:lnTo>
                  <a:lnTo>
                    <a:pt x="1852" y="348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2089440" y="4269600"/>
              <a:ext cx="119880" cy="142920"/>
            </a:xfrm>
            <a:custGeom>
              <a:avLst/>
              <a:gdLst/>
              <a:ahLst/>
              <a:rect l="l" t="t" r="r" b="b"/>
              <a:pathLst>
                <a:path w="3357" h="2664">
                  <a:moveTo>
                    <a:pt x="3357" y="347"/>
                  </a:moveTo>
                  <a:lnTo>
                    <a:pt x="3125" y="811"/>
                  </a:lnTo>
                  <a:lnTo>
                    <a:pt x="2894" y="1158"/>
                  </a:lnTo>
                  <a:lnTo>
                    <a:pt x="2546" y="1505"/>
                  </a:lnTo>
                  <a:lnTo>
                    <a:pt x="2199" y="1853"/>
                  </a:lnTo>
                  <a:lnTo>
                    <a:pt x="1852" y="2200"/>
                  </a:lnTo>
                  <a:lnTo>
                    <a:pt x="1505" y="2432"/>
                  </a:lnTo>
                  <a:lnTo>
                    <a:pt x="1042" y="2548"/>
                  </a:lnTo>
                  <a:lnTo>
                    <a:pt x="695" y="2664"/>
                  </a:lnTo>
                  <a:lnTo>
                    <a:pt x="695" y="2664"/>
                  </a:lnTo>
                  <a:lnTo>
                    <a:pt x="0" y="2548"/>
                  </a:lnTo>
                  <a:lnTo>
                    <a:pt x="0" y="2548"/>
                  </a:lnTo>
                  <a:lnTo>
                    <a:pt x="348" y="2200"/>
                  </a:lnTo>
                  <a:lnTo>
                    <a:pt x="463" y="1853"/>
                  </a:lnTo>
                  <a:lnTo>
                    <a:pt x="695" y="1505"/>
                  </a:lnTo>
                  <a:lnTo>
                    <a:pt x="810" y="1158"/>
                  </a:lnTo>
                  <a:lnTo>
                    <a:pt x="926" y="811"/>
                  </a:lnTo>
                  <a:lnTo>
                    <a:pt x="1158" y="579"/>
                  </a:lnTo>
                  <a:lnTo>
                    <a:pt x="1505" y="232"/>
                  </a:lnTo>
                  <a:lnTo>
                    <a:pt x="1852" y="116"/>
                  </a:lnTo>
                  <a:lnTo>
                    <a:pt x="1852" y="116"/>
                  </a:lnTo>
                  <a:lnTo>
                    <a:pt x="2083" y="0"/>
                  </a:lnTo>
                  <a:lnTo>
                    <a:pt x="2315" y="0"/>
                  </a:lnTo>
                  <a:lnTo>
                    <a:pt x="2431" y="0"/>
                  </a:lnTo>
                  <a:lnTo>
                    <a:pt x="2662" y="0"/>
                  </a:lnTo>
                  <a:lnTo>
                    <a:pt x="2778" y="116"/>
                  </a:lnTo>
                  <a:lnTo>
                    <a:pt x="3009" y="116"/>
                  </a:lnTo>
                  <a:lnTo>
                    <a:pt x="3125" y="232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1923840" y="4287960"/>
              <a:ext cx="99000" cy="186480"/>
            </a:xfrm>
            <a:custGeom>
              <a:avLst/>
              <a:gdLst/>
              <a:ahLst/>
              <a:rect l="l" t="t" r="r" b="b"/>
              <a:pathLst>
                <a:path w="2778" h="3475">
                  <a:moveTo>
                    <a:pt x="2778" y="1158"/>
                  </a:moveTo>
                  <a:lnTo>
                    <a:pt x="2662" y="1506"/>
                  </a:lnTo>
                  <a:lnTo>
                    <a:pt x="2662" y="1738"/>
                  </a:lnTo>
                  <a:lnTo>
                    <a:pt x="2546" y="2085"/>
                  </a:lnTo>
                  <a:lnTo>
                    <a:pt x="2430" y="2317"/>
                  </a:lnTo>
                  <a:lnTo>
                    <a:pt x="2430" y="2664"/>
                  </a:lnTo>
                  <a:lnTo>
                    <a:pt x="2199" y="2896"/>
                  </a:lnTo>
                  <a:lnTo>
                    <a:pt x="2083" y="3127"/>
                  </a:lnTo>
                  <a:lnTo>
                    <a:pt x="1736" y="3243"/>
                  </a:lnTo>
                  <a:lnTo>
                    <a:pt x="1736" y="3243"/>
                  </a:lnTo>
                  <a:lnTo>
                    <a:pt x="1620" y="3359"/>
                  </a:lnTo>
                  <a:lnTo>
                    <a:pt x="1505" y="3359"/>
                  </a:lnTo>
                  <a:lnTo>
                    <a:pt x="1273" y="3359"/>
                  </a:lnTo>
                  <a:lnTo>
                    <a:pt x="1157" y="3475"/>
                  </a:lnTo>
                  <a:lnTo>
                    <a:pt x="1042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579" y="3359"/>
                  </a:lnTo>
                  <a:lnTo>
                    <a:pt x="579" y="3359"/>
                  </a:lnTo>
                  <a:lnTo>
                    <a:pt x="347" y="3127"/>
                  </a:lnTo>
                  <a:lnTo>
                    <a:pt x="231" y="2896"/>
                  </a:lnTo>
                  <a:lnTo>
                    <a:pt x="231" y="2664"/>
                  </a:lnTo>
                  <a:lnTo>
                    <a:pt x="116" y="2432"/>
                  </a:lnTo>
                  <a:lnTo>
                    <a:pt x="116" y="2201"/>
                  </a:lnTo>
                  <a:lnTo>
                    <a:pt x="116" y="1969"/>
                  </a:lnTo>
                  <a:lnTo>
                    <a:pt x="0" y="1738"/>
                  </a:lnTo>
                  <a:lnTo>
                    <a:pt x="0" y="1506"/>
                  </a:lnTo>
                  <a:lnTo>
                    <a:pt x="0" y="1506"/>
                  </a:lnTo>
                  <a:lnTo>
                    <a:pt x="926" y="1274"/>
                  </a:lnTo>
                  <a:lnTo>
                    <a:pt x="926" y="1274"/>
                  </a:lnTo>
                  <a:lnTo>
                    <a:pt x="926" y="1390"/>
                  </a:lnTo>
                  <a:lnTo>
                    <a:pt x="926" y="1506"/>
                  </a:lnTo>
                  <a:lnTo>
                    <a:pt x="926" y="1622"/>
                  </a:lnTo>
                  <a:lnTo>
                    <a:pt x="926" y="1738"/>
                  </a:lnTo>
                  <a:lnTo>
                    <a:pt x="926" y="1853"/>
                  </a:lnTo>
                  <a:lnTo>
                    <a:pt x="926" y="1853"/>
                  </a:lnTo>
                  <a:lnTo>
                    <a:pt x="926" y="1969"/>
                  </a:lnTo>
                  <a:lnTo>
                    <a:pt x="1042" y="2085"/>
                  </a:lnTo>
                  <a:lnTo>
                    <a:pt x="1042" y="2085"/>
                  </a:lnTo>
                  <a:lnTo>
                    <a:pt x="1157" y="1738"/>
                  </a:lnTo>
                  <a:lnTo>
                    <a:pt x="1273" y="1390"/>
                  </a:lnTo>
                  <a:lnTo>
                    <a:pt x="1389" y="1158"/>
                  </a:lnTo>
                  <a:lnTo>
                    <a:pt x="1620" y="927"/>
                  </a:lnTo>
                  <a:lnTo>
                    <a:pt x="1852" y="579"/>
                  </a:lnTo>
                  <a:lnTo>
                    <a:pt x="2083" y="348"/>
                  </a:lnTo>
                  <a:lnTo>
                    <a:pt x="2315" y="232"/>
                  </a:lnTo>
                  <a:lnTo>
                    <a:pt x="2546" y="0"/>
                  </a:lnTo>
                  <a:lnTo>
                    <a:pt x="2546" y="0"/>
                  </a:lnTo>
                  <a:lnTo>
                    <a:pt x="2662" y="116"/>
                  </a:lnTo>
                  <a:lnTo>
                    <a:pt x="2778" y="232"/>
                  </a:lnTo>
                  <a:lnTo>
                    <a:pt x="2778" y="348"/>
                  </a:lnTo>
                  <a:lnTo>
                    <a:pt x="2778" y="579"/>
                  </a:lnTo>
                  <a:lnTo>
                    <a:pt x="2778" y="695"/>
                  </a:lnTo>
                  <a:lnTo>
                    <a:pt x="2778" y="927"/>
                  </a:lnTo>
                  <a:lnTo>
                    <a:pt x="2778" y="1043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1141560" y="4319280"/>
              <a:ext cx="827640" cy="254880"/>
            </a:xfrm>
            <a:custGeom>
              <a:avLst/>
              <a:gdLst/>
              <a:ahLst/>
              <a:rect l="l" t="t" r="r" b="b"/>
              <a:pathLst>
                <a:path w="23146" h="4749">
                  <a:moveTo>
                    <a:pt x="23146" y="0"/>
                  </a:moveTo>
                  <a:lnTo>
                    <a:pt x="22336" y="232"/>
                  </a:lnTo>
                  <a:lnTo>
                    <a:pt x="21526" y="464"/>
                  </a:lnTo>
                  <a:lnTo>
                    <a:pt x="20600" y="695"/>
                  </a:lnTo>
                  <a:lnTo>
                    <a:pt x="19790" y="1043"/>
                  </a:lnTo>
                  <a:lnTo>
                    <a:pt x="18980" y="1274"/>
                  </a:lnTo>
                  <a:lnTo>
                    <a:pt x="18054" y="1390"/>
                  </a:lnTo>
                  <a:lnTo>
                    <a:pt x="17128" y="1622"/>
                  </a:lnTo>
                  <a:lnTo>
                    <a:pt x="16318" y="1738"/>
                  </a:lnTo>
                  <a:lnTo>
                    <a:pt x="16318" y="1738"/>
                  </a:lnTo>
                  <a:lnTo>
                    <a:pt x="4397" y="4054"/>
                  </a:lnTo>
                  <a:lnTo>
                    <a:pt x="810" y="4749"/>
                  </a:lnTo>
                  <a:lnTo>
                    <a:pt x="0" y="4401"/>
                  </a:lnTo>
                  <a:lnTo>
                    <a:pt x="0" y="4401"/>
                  </a:lnTo>
                  <a:lnTo>
                    <a:pt x="2314" y="3938"/>
                  </a:lnTo>
                  <a:lnTo>
                    <a:pt x="4629" y="3591"/>
                  </a:lnTo>
                  <a:lnTo>
                    <a:pt x="6944" y="3127"/>
                  </a:lnTo>
                  <a:lnTo>
                    <a:pt x="9258" y="2664"/>
                  </a:lnTo>
                  <a:lnTo>
                    <a:pt x="11573" y="2201"/>
                  </a:lnTo>
                  <a:lnTo>
                    <a:pt x="13888" y="1738"/>
                  </a:lnTo>
                  <a:lnTo>
                    <a:pt x="16202" y="1274"/>
                  </a:lnTo>
                  <a:lnTo>
                    <a:pt x="18633" y="927"/>
                  </a:lnTo>
                  <a:lnTo>
                    <a:pt x="18633" y="927"/>
                  </a:lnTo>
                  <a:lnTo>
                    <a:pt x="19211" y="811"/>
                  </a:lnTo>
                  <a:lnTo>
                    <a:pt x="19674" y="695"/>
                  </a:lnTo>
                  <a:lnTo>
                    <a:pt x="20253" y="695"/>
                  </a:lnTo>
                  <a:lnTo>
                    <a:pt x="20831" y="579"/>
                  </a:lnTo>
                  <a:lnTo>
                    <a:pt x="21410" y="464"/>
                  </a:lnTo>
                  <a:lnTo>
                    <a:pt x="21989" y="348"/>
                  </a:lnTo>
                  <a:lnTo>
                    <a:pt x="22567" y="116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756720" y="4356360"/>
              <a:ext cx="74160" cy="335520"/>
            </a:xfrm>
            <a:custGeom>
              <a:avLst/>
              <a:gdLst/>
              <a:ahLst/>
              <a:rect l="l" t="t" r="r" b="b"/>
              <a:pathLst>
                <a:path w="2083" h="6254">
                  <a:moveTo>
                    <a:pt x="1620" y="0"/>
                  </a:moveTo>
                  <a:lnTo>
                    <a:pt x="1273" y="695"/>
                  </a:lnTo>
                  <a:lnTo>
                    <a:pt x="1041" y="1506"/>
                  </a:lnTo>
                  <a:lnTo>
                    <a:pt x="925" y="2316"/>
                  </a:lnTo>
                  <a:lnTo>
                    <a:pt x="925" y="3127"/>
                  </a:lnTo>
                  <a:lnTo>
                    <a:pt x="1041" y="3822"/>
                  </a:lnTo>
                  <a:lnTo>
                    <a:pt x="1273" y="4633"/>
                  </a:lnTo>
                  <a:lnTo>
                    <a:pt x="1620" y="5328"/>
                  </a:lnTo>
                  <a:lnTo>
                    <a:pt x="2083" y="5907"/>
                  </a:lnTo>
                  <a:lnTo>
                    <a:pt x="2083" y="5907"/>
                  </a:lnTo>
                  <a:lnTo>
                    <a:pt x="2083" y="6254"/>
                  </a:lnTo>
                  <a:lnTo>
                    <a:pt x="2083" y="6254"/>
                  </a:lnTo>
                  <a:lnTo>
                    <a:pt x="1851" y="6254"/>
                  </a:lnTo>
                  <a:lnTo>
                    <a:pt x="1736" y="6254"/>
                  </a:lnTo>
                  <a:lnTo>
                    <a:pt x="1504" y="6254"/>
                  </a:lnTo>
                  <a:lnTo>
                    <a:pt x="1388" y="6138"/>
                  </a:lnTo>
                  <a:lnTo>
                    <a:pt x="1273" y="6022"/>
                  </a:lnTo>
                  <a:lnTo>
                    <a:pt x="1041" y="5907"/>
                  </a:lnTo>
                  <a:lnTo>
                    <a:pt x="925" y="5907"/>
                  </a:lnTo>
                  <a:lnTo>
                    <a:pt x="810" y="5791"/>
                  </a:lnTo>
                  <a:lnTo>
                    <a:pt x="810" y="5791"/>
                  </a:lnTo>
                  <a:lnTo>
                    <a:pt x="462" y="5212"/>
                  </a:lnTo>
                  <a:lnTo>
                    <a:pt x="231" y="4748"/>
                  </a:lnTo>
                  <a:lnTo>
                    <a:pt x="0" y="4169"/>
                  </a:lnTo>
                  <a:lnTo>
                    <a:pt x="0" y="3475"/>
                  </a:lnTo>
                  <a:lnTo>
                    <a:pt x="0" y="2896"/>
                  </a:lnTo>
                  <a:lnTo>
                    <a:pt x="0" y="2201"/>
                  </a:lnTo>
                  <a:lnTo>
                    <a:pt x="115" y="1622"/>
                  </a:lnTo>
                  <a:lnTo>
                    <a:pt x="231" y="1043"/>
                  </a:lnTo>
                  <a:lnTo>
                    <a:pt x="231" y="1043"/>
                  </a:lnTo>
                  <a:lnTo>
                    <a:pt x="347" y="927"/>
                  </a:lnTo>
                  <a:lnTo>
                    <a:pt x="462" y="695"/>
                  </a:lnTo>
                  <a:lnTo>
                    <a:pt x="694" y="579"/>
                  </a:lnTo>
                  <a:lnTo>
                    <a:pt x="810" y="348"/>
                  </a:lnTo>
                  <a:lnTo>
                    <a:pt x="925" y="232"/>
                  </a:lnTo>
                  <a:lnTo>
                    <a:pt x="1157" y="116"/>
                  </a:lnTo>
                  <a:lnTo>
                    <a:pt x="1388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810720" y="4375080"/>
              <a:ext cx="37080" cy="279720"/>
            </a:xfrm>
            <a:custGeom>
              <a:avLst/>
              <a:gdLst/>
              <a:ahLst/>
              <a:rect l="l" t="t" r="r" b="b"/>
              <a:pathLst>
                <a:path w="1042" h="5211">
                  <a:moveTo>
                    <a:pt x="694" y="1968"/>
                  </a:moveTo>
                  <a:lnTo>
                    <a:pt x="1042" y="3706"/>
                  </a:lnTo>
                  <a:lnTo>
                    <a:pt x="810" y="5211"/>
                  </a:lnTo>
                  <a:lnTo>
                    <a:pt x="810" y="5211"/>
                  </a:lnTo>
                  <a:lnTo>
                    <a:pt x="463" y="4632"/>
                  </a:lnTo>
                  <a:lnTo>
                    <a:pt x="232" y="3937"/>
                  </a:lnTo>
                  <a:lnTo>
                    <a:pt x="0" y="3358"/>
                  </a:lnTo>
                  <a:lnTo>
                    <a:pt x="0" y="2663"/>
                  </a:lnTo>
                  <a:lnTo>
                    <a:pt x="0" y="1968"/>
                  </a:lnTo>
                  <a:lnTo>
                    <a:pt x="0" y="1274"/>
                  </a:lnTo>
                  <a:lnTo>
                    <a:pt x="232" y="579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694" y="231"/>
                  </a:lnTo>
                  <a:lnTo>
                    <a:pt x="810" y="463"/>
                  </a:lnTo>
                  <a:lnTo>
                    <a:pt x="810" y="695"/>
                  </a:lnTo>
                  <a:lnTo>
                    <a:pt x="810" y="926"/>
                  </a:lnTo>
                  <a:lnTo>
                    <a:pt x="694" y="1158"/>
                  </a:lnTo>
                  <a:lnTo>
                    <a:pt x="694" y="1505"/>
                  </a:lnTo>
                  <a:lnTo>
                    <a:pt x="579" y="1737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1878480" y="4381560"/>
              <a:ext cx="32760" cy="55800"/>
            </a:xfrm>
            <a:custGeom>
              <a:avLst/>
              <a:gdLst/>
              <a:ahLst/>
              <a:rect l="l" t="t" r="r" b="b"/>
              <a:pathLst>
                <a:path w="926" h="1042">
                  <a:moveTo>
                    <a:pt x="926" y="926"/>
                  </a:moveTo>
                  <a:lnTo>
                    <a:pt x="926" y="1042"/>
                  </a:lnTo>
                  <a:lnTo>
                    <a:pt x="926" y="1042"/>
                  </a:lnTo>
                  <a:lnTo>
                    <a:pt x="810" y="1042"/>
                  </a:lnTo>
                  <a:lnTo>
                    <a:pt x="694" y="1042"/>
                  </a:lnTo>
                  <a:lnTo>
                    <a:pt x="579" y="1042"/>
                  </a:lnTo>
                  <a:lnTo>
                    <a:pt x="463" y="926"/>
                  </a:lnTo>
                  <a:lnTo>
                    <a:pt x="347" y="926"/>
                  </a:lnTo>
                  <a:lnTo>
                    <a:pt x="231" y="810"/>
                  </a:lnTo>
                  <a:lnTo>
                    <a:pt x="116" y="694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579" y="0"/>
                  </a:lnTo>
                  <a:lnTo>
                    <a:pt x="694" y="115"/>
                  </a:lnTo>
                  <a:lnTo>
                    <a:pt x="810" y="115"/>
                  </a:lnTo>
                  <a:lnTo>
                    <a:pt x="810" y="347"/>
                  </a:lnTo>
                  <a:lnTo>
                    <a:pt x="810" y="463"/>
                  </a:lnTo>
                  <a:lnTo>
                    <a:pt x="926" y="579"/>
                  </a:lnTo>
                  <a:lnTo>
                    <a:pt x="926" y="810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562320" y="4393800"/>
              <a:ext cx="227520" cy="391680"/>
            </a:xfrm>
            <a:custGeom>
              <a:avLst/>
              <a:gdLst/>
              <a:ahLst/>
              <a:rect l="l" t="t" r="r" b="b"/>
              <a:pathLst>
                <a:path w="6365" h="7296">
                  <a:moveTo>
                    <a:pt x="6365" y="5791"/>
                  </a:moveTo>
                  <a:lnTo>
                    <a:pt x="5671" y="6022"/>
                  </a:lnTo>
                  <a:lnTo>
                    <a:pt x="4977" y="6370"/>
                  </a:lnTo>
                  <a:lnTo>
                    <a:pt x="4282" y="6717"/>
                  </a:lnTo>
                  <a:lnTo>
                    <a:pt x="3588" y="7065"/>
                  </a:lnTo>
                  <a:lnTo>
                    <a:pt x="2778" y="7296"/>
                  </a:lnTo>
                  <a:lnTo>
                    <a:pt x="2083" y="7296"/>
                  </a:lnTo>
                  <a:lnTo>
                    <a:pt x="1389" y="6949"/>
                  </a:lnTo>
                  <a:lnTo>
                    <a:pt x="810" y="6370"/>
                  </a:lnTo>
                  <a:lnTo>
                    <a:pt x="810" y="6370"/>
                  </a:lnTo>
                  <a:lnTo>
                    <a:pt x="463" y="5906"/>
                  </a:lnTo>
                  <a:lnTo>
                    <a:pt x="116" y="5327"/>
                  </a:lnTo>
                  <a:lnTo>
                    <a:pt x="0" y="4748"/>
                  </a:lnTo>
                  <a:lnTo>
                    <a:pt x="0" y="4169"/>
                  </a:lnTo>
                  <a:lnTo>
                    <a:pt x="0" y="3590"/>
                  </a:lnTo>
                  <a:lnTo>
                    <a:pt x="0" y="3011"/>
                  </a:lnTo>
                  <a:lnTo>
                    <a:pt x="116" y="2432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695" y="1274"/>
                  </a:lnTo>
                  <a:lnTo>
                    <a:pt x="1157" y="811"/>
                  </a:lnTo>
                  <a:lnTo>
                    <a:pt x="1736" y="579"/>
                  </a:lnTo>
                  <a:lnTo>
                    <a:pt x="2431" y="463"/>
                  </a:lnTo>
                  <a:lnTo>
                    <a:pt x="3125" y="348"/>
                  </a:lnTo>
                  <a:lnTo>
                    <a:pt x="3935" y="232"/>
                  </a:lnTo>
                  <a:lnTo>
                    <a:pt x="4629" y="232"/>
                  </a:lnTo>
                  <a:lnTo>
                    <a:pt x="5208" y="0"/>
                  </a:lnTo>
                  <a:lnTo>
                    <a:pt x="5208" y="0"/>
                  </a:lnTo>
                  <a:lnTo>
                    <a:pt x="5092" y="811"/>
                  </a:lnTo>
                  <a:lnTo>
                    <a:pt x="4977" y="1506"/>
                  </a:lnTo>
                  <a:lnTo>
                    <a:pt x="4977" y="2316"/>
                  </a:lnTo>
                  <a:lnTo>
                    <a:pt x="4977" y="3127"/>
                  </a:lnTo>
                  <a:lnTo>
                    <a:pt x="5092" y="3938"/>
                  </a:lnTo>
                  <a:lnTo>
                    <a:pt x="5324" y="4633"/>
                  </a:lnTo>
                  <a:lnTo>
                    <a:pt x="5787" y="5327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close/>
                </a:path>
              </a:pathLst>
            </a:custGeom>
            <a:solidFill>
              <a:srgbClr val="ff3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1026000" y="4399920"/>
              <a:ext cx="835920" cy="857880"/>
            </a:xfrm>
            <a:custGeom>
              <a:avLst/>
              <a:gdLst/>
              <a:ahLst/>
              <a:rect l="l" t="t" r="r" b="b"/>
              <a:pathLst>
                <a:path w="23378" h="15982">
                  <a:moveTo>
                    <a:pt x="23378" y="6949"/>
                  </a:moveTo>
                  <a:lnTo>
                    <a:pt x="23031" y="7180"/>
                  </a:lnTo>
                  <a:lnTo>
                    <a:pt x="22568" y="7412"/>
                  </a:lnTo>
                  <a:lnTo>
                    <a:pt x="22221" y="7528"/>
                  </a:lnTo>
                  <a:lnTo>
                    <a:pt x="21758" y="7528"/>
                  </a:lnTo>
                  <a:lnTo>
                    <a:pt x="21295" y="7643"/>
                  </a:lnTo>
                  <a:lnTo>
                    <a:pt x="20832" y="7643"/>
                  </a:lnTo>
                  <a:lnTo>
                    <a:pt x="20369" y="7759"/>
                  </a:lnTo>
                  <a:lnTo>
                    <a:pt x="19906" y="7875"/>
                  </a:lnTo>
                  <a:lnTo>
                    <a:pt x="19906" y="7875"/>
                  </a:lnTo>
                  <a:lnTo>
                    <a:pt x="16203" y="9033"/>
                  </a:lnTo>
                  <a:lnTo>
                    <a:pt x="2778" y="15055"/>
                  </a:lnTo>
                  <a:lnTo>
                    <a:pt x="2778" y="15055"/>
                  </a:lnTo>
                  <a:lnTo>
                    <a:pt x="2546" y="15171"/>
                  </a:lnTo>
                  <a:lnTo>
                    <a:pt x="2199" y="15403"/>
                  </a:lnTo>
                  <a:lnTo>
                    <a:pt x="1852" y="15518"/>
                  </a:lnTo>
                  <a:lnTo>
                    <a:pt x="1505" y="15750"/>
                  </a:lnTo>
                  <a:lnTo>
                    <a:pt x="1157" y="15866"/>
                  </a:lnTo>
                  <a:lnTo>
                    <a:pt x="810" y="15982"/>
                  </a:lnTo>
                  <a:lnTo>
                    <a:pt x="463" y="15982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0" y="14592"/>
                  </a:lnTo>
                  <a:lnTo>
                    <a:pt x="116" y="13202"/>
                  </a:lnTo>
                  <a:lnTo>
                    <a:pt x="116" y="11813"/>
                  </a:lnTo>
                  <a:lnTo>
                    <a:pt x="232" y="10423"/>
                  </a:lnTo>
                  <a:lnTo>
                    <a:pt x="347" y="8917"/>
                  </a:lnTo>
                  <a:lnTo>
                    <a:pt x="347" y="7528"/>
                  </a:lnTo>
                  <a:lnTo>
                    <a:pt x="463" y="6138"/>
                  </a:lnTo>
                  <a:lnTo>
                    <a:pt x="579" y="4748"/>
                  </a:lnTo>
                  <a:lnTo>
                    <a:pt x="579" y="4748"/>
                  </a:lnTo>
                  <a:lnTo>
                    <a:pt x="1157" y="4748"/>
                  </a:lnTo>
                  <a:lnTo>
                    <a:pt x="1620" y="4980"/>
                  </a:lnTo>
                  <a:lnTo>
                    <a:pt x="2083" y="5211"/>
                  </a:lnTo>
                  <a:lnTo>
                    <a:pt x="2546" y="5559"/>
                  </a:lnTo>
                  <a:lnTo>
                    <a:pt x="3009" y="5790"/>
                  </a:lnTo>
                  <a:lnTo>
                    <a:pt x="3472" y="5790"/>
                  </a:lnTo>
                  <a:lnTo>
                    <a:pt x="3935" y="5675"/>
                  </a:lnTo>
                  <a:lnTo>
                    <a:pt x="4514" y="5327"/>
                  </a:lnTo>
                  <a:lnTo>
                    <a:pt x="4514" y="5327"/>
                  </a:lnTo>
                  <a:lnTo>
                    <a:pt x="4514" y="5211"/>
                  </a:lnTo>
                  <a:lnTo>
                    <a:pt x="4629" y="5096"/>
                  </a:lnTo>
                  <a:lnTo>
                    <a:pt x="4629" y="4980"/>
                  </a:lnTo>
                  <a:lnTo>
                    <a:pt x="4745" y="4980"/>
                  </a:lnTo>
                  <a:lnTo>
                    <a:pt x="4745" y="4864"/>
                  </a:lnTo>
                  <a:lnTo>
                    <a:pt x="4745" y="4748"/>
                  </a:lnTo>
                  <a:lnTo>
                    <a:pt x="4861" y="4632"/>
                  </a:lnTo>
                  <a:lnTo>
                    <a:pt x="4861" y="4517"/>
                  </a:lnTo>
                  <a:lnTo>
                    <a:pt x="4861" y="4517"/>
                  </a:lnTo>
                  <a:lnTo>
                    <a:pt x="4861" y="4401"/>
                  </a:lnTo>
                  <a:lnTo>
                    <a:pt x="4745" y="4285"/>
                  </a:lnTo>
                  <a:lnTo>
                    <a:pt x="4745" y="4169"/>
                  </a:lnTo>
                  <a:lnTo>
                    <a:pt x="4745" y="4053"/>
                  </a:lnTo>
                  <a:lnTo>
                    <a:pt x="4745" y="3937"/>
                  </a:lnTo>
                  <a:lnTo>
                    <a:pt x="4629" y="3822"/>
                  </a:lnTo>
                  <a:lnTo>
                    <a:pt x="4629" y="3706"/>
                  </a:lnTo>
                  <a:lnTo>
                    <a:pt x="4514" y="3706"/>
                  </a:lnTo>
                  <a:lnTo>
                    <a:pt x="4514" y="3706"/>
                  </a:lnTo>
                  <a:lnTo>
                    <a:pt x="6828" y="3127"/>
                  </a:lnTo>
                  <a:lnTo>
                    <a:pt x="9143" y="2664"/>
                  </a:lnTo>
                  <a:lnTo>
                    <a:pt x="11458" y="2316"/>
                  </a:lnTo>
                  <a:lnTo>
                    <a:pt x="13772" y="1853"/>
                  </a:lnTo>
                  <a:lnTo>
                    <a:pt x="15971" y="1390"/>
                  </a:lnTo>
                  <a:lnTo>
                    <a:pt x="18286" y="1042"/>
                  </a:lnTo>
                  <a:lnTo>
                    <a:pt x="20600" y="579"/>
                  </a:lnTo>
                  <a:lnTo>
                    <a:pt x="22799" y="0"/>
                  </a:lnTo>
                  <a:lnTo>
                    <a:pt x="22799" y="0"/>
                  </a:lnTo>
                  <a:lnTo>
                    <a:pt x="22799" y="926"/>
                  </a:lnTo>
                  <a:lnTo>
                    <a:pt x="22799" y="1737"/>
                  </a:lnTo>
                  <a:lnTo>
                    <a:pt x="22799" y="2664"/>
                  </a:lnTo>
                  <a:lnTo>
                    <a:pt x="22799" y="3590"/>
                  </a:lnTo>
                  <a:lnTo>
                    <a:pt x="22915" y="4401"/>
                  </a:lnTo>
                  <a:lnTo>
                    <a:pt x="23031" y="5327"/>
                  </a:lnTo>
                  <a:lnTo>
                    <a:pt x="23147" y="6138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852120" y="4437360"/>
              <a:ext cx="20520" cy="111600"/>
            </a:xfrm>
            <a:custGeom>
              <a:avLst/>
              <a:gdLst/>
              <a:ahLst/>
              <a:rect l="l" t="t" r="r" b="b"/>
              <a:pathLst>
                <a:path w="579" h="2084">
                  <a:moveTo>
                    <a:pt x="579" y="695"/>
                  </a:moveTo>
                  <a:lnTo>
                    <a:pt x="116" y="2084"/>
                  </a:lnTo>
                  <a:lnTo>
                    <a:pt x="116" y="2084"/>
                  </a:lnTo>
                  <a:lnTo>
                    <a:pt x="0" y="1853"/>
                  </a:lnTo>
                  <a:lnTo>
                    <a:pt x="0" y="1621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0" y="810"/>
                  </a:lnTo>
                  <a:lnTo>
                    <a:pt x="0" y="579"/>
                  </a:lnTo>
                  <a:lnTo>
                    <a:pt x="0" y="231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232" y="0"/>
                  </a:lnTo>
                  <a:lnTo>
                    <a:pt x="348" y="116"/>
                  </a:lnTo>
                  <a:lnTo>
                    <a:pt x="348" y="116"/>
                  </a:lnTo>
                  <a:lnTo>
                    <a:pt x="463" y="231"/>
                  </a:lnTo>
                  <a:lnTo>
                    <a:pt x="463" y="347"/>
                  </a:lnTo>
                  <a:lnTo>
                    <a:pt x="463" y="463"/>
                  </a:lnTo>
                  <a:lnTo>
                    <a:pt x="463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587160" y="4654800"/>
              <a:ext cx="144720" cy="105480"/>
            </a:xfrm>
            <a:custGeom>
              <a:avLst/>
              <a:gdLst/>
              <a:ahLst/>
              <a:rect l="l" t="t" r="r" b="b"/>
              <a:pathLst>
                <a:path w="4050" h="1969">
                  <a:moveTo>
                    <a:pt x="1157" y="1274"/>
                  </a:moveTo>
                  <a:lnTo>
                    <a:pt x="1157" y="1158"/>
                  </a:lnTo>
                  <a:lnTo>
                    <a:pt x="1157" y="1042"/>
                  </a:lnTo>
                  <a:lnTo>
                    <a:pt x="1041" y="1042"/>
                  </a:lnTo>
                  <a:lnTo>
                    <a:pt x="1041" y="927"/>
                  </a:lnTo>
                  <a:lnTo>
                    <a:pt x="1041" y="811"/>
                  </a:lnTo>
                  <a:lnTo>
                    <a:pt x="925" y="695"/>
                  </a:lnTo>
                  <a:lnTo>
                    <a:pt x="925" y="579"/>
                  </a:lnTo>
                  <a:lnTo>
                    <a:pt x="925" y="463"/>
                  </a:lnTo>
                  <a:lnTo>
                    <a:pt x="925" y="463"/>
                  </a:lnTo>
                  <a:lnTo>
                    <a:pt x="1157" y="463"/>
                  </a:lnTo>
                  <a:lnTo>
                    <a:pt x="1273" y="579"/>
                  </a:lnTo>
                  <a:lnTo>
                    <a:pt x="1388" y="695"/>
                  </a:lnTo>
                  <a:lnTo>
                    <a:pt x="1504" y="927"/>
                  </a:lnTo>
                  <a:lnTo>
                    <a:pt x="1620" y="1042"/>
                  </a:lnTo>
                  <a:lnTo>
                    <a:pt x="1620" y="1158"/>
                  </a:lnTo>
                  <a:lnTo>
                    <a:pt x="1851" y="1274"/>
                  </a:lnTo>
                  <a:lnTo>
                    <a:pt x="1967" y="1390"/>
                  </a:lnTo>
                  <a:lnTo>
                    <a:pt x="1967" y="1390"/>
                  </a:lnTo>
                  <a:lnTo>
                    <a:pt x="1851" y="1274"/>
                  </a:lnTo>
                  <a:lnTo>
                    <a:pt x="1851" y="1158"/>
                  </a:lnTo>
                  <a:lnTo>
                    <a:pt x="1851" y="1042"/>
                  </a:lnTo>
                  <a:lnTo>
                    <a:pt x="1736" y="927"/>
                  </a:lnTo>
                  <a:lnTo>
                    <a:pt x="1736" y="811"/>
                  </a:lnTo>
                  <a:lnTo>
                    <a:pt x="1736" y="695"/>
                  </a:lnTo>
                  <a:lnTo>
                    <a:pt x="1620" y="579"/>
                  </a:lnTo>
                  <a:lnTo>
                    <a:pt x="1620" y="463"/>
                  </a:lnTo>
                  <a:lnTo>
                    <a:pt x="1620" y="463"/>
                  </a:lnTo>
                  <a:lnTo>
                    <a:pt x="1851" y="463"/>
                  </a:lnTo>
                  <a:lnTo>
                    <a:pt x="1967" y="579"/>
                  </a:lnTo>
                  <a:lnTo>
                    <a:pt x="2083" y="811"/>
                  </a:lnTo>
                  <a:lnTo>
                    <a:pt x="2083" y="927"/>
                  </a:lnTo>
                  <a:lnTo>
                    <a:pt x="2198" y="1158"/>
                  </a:lnTo>
                  <a:lnTo>
                    <a:pt x="2314" y="1274"/>
                  </a:lnTo>
                  <a:lnTo>
                    <a:pt x="2546" y="1274"/>
                  </a:lnTo>
                  <a:lnTo>
                    <a:pt x="2777" y="1274"/>
                  </a:lnTo>
                  <a:lnTo>
                    <a:pt x="2777" y="1274"/>
                  </a:lnTo>
                  <a:lnTo>
                    <a:pt x="2661" y="1158"/>
                  </a:lnTo>
                  <a:lnTo>
                    <a:pt x="2661" y="1042"/>
                  </a:lnTo>
                  <a:lnTo>
                    <a:pt x="2661" y="1042"/>
                  </a:lnTo>
                  <a:lnTo>
                    <a:pt x="2546" y="927"/>
                  </a:lnTo>
                  <a:lnTo>
                    <a:pt x="2546" y="811"/>
                  </a:lnTo>
                  <a:lnTo>
                    <a:pt x="2430" y="695"/>
                  </a:lnTo>
                  <a:lnTo>
                    <a:pt x="2430" y="695"/>
                  </a:lnTo>
                  <a:lnTo>
                    <a:pt x="2430" y="579"/>
                  </a:lnTo>
                  <a:lnTo>
                    <a:pt x="2430" y="579"/>
                  </a:lnTo>
                  <a:lnTo>
                    <a:pt x="2546" y="579"/>
                  </a:lnTo>
                  <a:lnTo>
                    <a:pt x="2777" y="695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3009" y="1042"/>
                  </a:lnTo>
                  <a:lnTo>
                    <a:pt x="3124" y="1158"/>
                  </a:lnTo>
                  <a:lnTo>
                    <a:pt x="3356" y="1158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356" y="927"/>
                  </a:lnTo>
                  <a:lnTo>
                    <a:pt x="3240" y="811"/>
                  </a:lnTo>
                  <a:lnTo>
                    <a:pt x="3124" y="695"/>
                  </a:lnTo>
                  <a:lnTo>
                    <a:pt x="3009" y="579"/>
                  </a:lnTo>
                  <a:lnTo>
                    <a:pt x="3009" y="463"/>
                  </a:lnTo>
                  <a:lnTo>
                    <a:pt x="3009" y="348"/>
                  </a:lnTo>
                  <a:lnTo>
                    <a:pt x="3009" y="232"/>
                  </a:lnTo>
                  <a:lnTo>
                    <a:pt x="3009" y="232"/>
                  </a:lnTo>
                  <a:lnTo>
                    <a:pt x="3124" y="348"/>
                  </a:lnTo>
                  <a:lnTo>
                    <a:pt x="3240" y="348"/>
                  </a:lnTo>
                  <a:lnTo>
                    <a:pt x="3356" y="463"/>
                  </a:lnTo>
                  <a:lnTo>
                    <a:pt x="3471" y="579"/>
                  </a:lnTo>
                  <a:lnTo>
                    <a:pt x="3587" y="695"/>
                  </a:lnTo>
                  <a:lnTo>
                    <a:pt x="3819" y="811"/>
                  </a:lnTo>
                  <a:lnTo>
                    <a:pt x="3934" y="811"/>
                  </a:lnTo>
                  <a:lnTo>
                    <a:pt x="4050" y="927"/>
                  </a:lnTo>
                  <a:lnTo>
                    <a:pt x="4050" y="927"/>
                  </a:lnTo>
                  <a:lnTo>
                    <a:pt x="3934" y="1042"/>
                  </a:lnTo>
                  <a:lnTo>
                    <a:pt x="3819" y="1042"/>
                  </a:lnTo>
                  <a:lnTo>
                    <a:pt x="3703" y="1158"/>
                  </a:lnTo>
                  <a:lnTo>
                    <a:pt x="3587" y="1158"/>
                  </a:lnTo>
                  <a:lnTo>
                    <a:pt x="3471" y="1158"/>
                  </a:lnTo>
                  <a:lnTo>
                    <a:pt x="3356" y="1158"/>
                  </a:lnTo>
                  <a:lnTo>
                    <a:pt x="3356" y="1274"/>
                  </a:lnTo>
                  <a:lnTo>
                    <a:pt x="3471" y="1390"/>
                  </a:lnTo>
                  <a:lnTo>
                    <a:pt x="3471" y="1390"/>
                  </a:lnTo>
                  <a:lnTo>
                    <a:pt x="3009" y="1506"/>
                  </a:lnTo>
                  <a:lnTo>
                    <a:pt x="3009" y="1506"/>
                  </a:lnTo>
                  <a:lnTo>
                    <a:pt x="2893" y="1621"/>
                  </a:lnTo>
                  <a:lnTo>
                    <a:pt x="2777" y="1737"/>
                  </a:lnTo>
                  <a:lnTo>
                    <a:pt x="2661" y="1737"/>
                  </a:lnTo>
                  <a:lnTo>
                    <a:pt x="2546" y="1853"/>
                  </a:lnTo>
                  <a:lnTo>
                    <a:pt x="2314" y="1853"/>
                  </a:lnTo>
                  <a:lnTo>
                    <a:pt x="2198" y="1853"/>
                  </a:lnTo>
                  <a:lnTo>
                    <a:pt x="1967" y="1969"/>
                  </a:lnTo>
                  <a:lnTo>
                    <a:pt x="1851" y="1969"/>
                  </a:lnTo>
                  <a:lnTo>
                    <a:pt x="1851" y="1969"/>
                  </a:lnTo>
                  <a:lnTo>
                    <a:pt x="1736" y="1969"/>
                  </a:lnTo>
                  <a:lnTo>
                    <a:pt x="1504" y="1969"/>
                  </a:lnTo>
                  <a:lnTo>
                    <a:pt x="1273" y="1853"/>
                  </a:lnTo>
                  <a:lnTo>
                    <a:pt x="1157" y="1737"/>
                  </a:lnTo>
                  <a:lnTo>
                    <a:pt x="925" y="1621"/>
                  </a:lnTo>
                  <a:lnTo>
                    <a:pt x="810" y="1506"/>
                  </a:lnTo>
                  <a:lnTo>
                    <a:pt x="694" y="1390"/>
                  </a:lnTo>
                  <a:lnTo>
                    <a:pt x="462" y="1274"/>
                  </a:lnTo>
                  <a:lnTo>
                    <a:pt x="462" y="1274"/>
                  </a:lnTo>
                  <a:lnTo>
                    <a:pt x="347" y="1158"/>
                  </a:lnTo>
                  <a:lnTo>
                    <a:pt x="231" y="927"/>
                  </a:lnTo>
                  <a:lnTo>
                    <a:pt x="231" y="811"/>
                  </a:lnTo>
                  <a:lnTo>
                    <a:pt x="115" y="579"/>
                  </a:lnTo>
                  <a:lnTo>
                    <a:pt x="0" y="463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5" y="116"/>
                  </a:lnTo>
                  <a:lnTo>
                    <a:pt x="231" y="348"/>
                  </a:lnTo>
                  <a:lnTo>
                    <a:pt x="347" y="463"/>
                  </a:lnTo>
                  <a:lnTo>
                    <a:pt x="462" y="695"/>
                  </a:lnTo>
                  <a:lnTo>
                    <a:pt x="578" y="811"/>
                  </a:lnTo>
                  <a:lnTo>
                    <a:pt x="810" y="1042"/>
                  </a:lnTo>
                  <a:lnTo>
                    <a:pt x="925" y="1158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719640" y="4654800"/>
              <a:ext cx="37080" cy="43200"/>
            </a:xfrm>
            <a:custGeom>
              <a:avLst/>
              <a:gdLst/>
              <a:ahLst/>
              <a:rect l="l" t="t" r="r" b="b"/>
              <a:pathLst>
                <a:path w="1042" h="811">
                  <a:moveTo>
                    <a:pt x="1042" y="811"/>
                  </a:moveTo>
                  <a:lnTo>
                    <a:pt x="926" y="811"/>
                  </a:lnTo>
                  <a:lnTo>
                    <a:pt x="810" y="811"/>
                  </a:lnTo>
                  <a:lnTo>
                    <a:pt x="694" y="811"/>
                  </a:lnTo>
                  <a:lnTo>
                    <a:pt x="579" y="811"/>
                  </a:lnTo>
                  <a:lnTo>
                    <a:pt x="463" y="695"/>
                  </a:lnTo>
                  <a:lnTo>
                    <a:pt x="347" y="695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231" y="232"/>
                  </a:lnTo>
                  <a:lnTo>
                    <a:pt x="463" y="348"/>
                  </a:lnTo>
                  <a:lnTo>
                    <a:pt x="694" y="348"/>
                  </a:lnTo>
                  <a:lnTo>
                    <a:pt x="810" y="348"/>
                  </a:lnTo>
                  <a:lnTo>
                    <a:pt x="926" y="463"/>
                  </a:lnTo>
                  <a:lnTo>
                    <a:pt x="1042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984600" y="4661280"/>
              <a:ext cx="45360" cy="553320"/>
            </a:xfrm>
            <a:custGeom>
              <a:avLst/>
              <a:gdLst/>
              <a:ahLst/>
              <a:rect l="l" t="t" r="r" b="b"/>
              <a:pathLst>
                <a:path w="1273" h="10307">
                  <a:moveTo>
                    <a:pt x="1273" y="116"/>
                  </a:moveTo>
                  <a:lnTo>
                    <a:pt x="1273" y="1274"/>
                  </a:lnTo>
                  <a:lnTo>
                    <a:pt x="1157" y="2548"/>
                  </a:lnTo>
                  <a:lnTo>
                    <a:pt x="1157" y="3706"/>
                  </a:lnTo>
                  <a:lnTo>
                    <a:pt x="1041" y="4980"/>
                  </a:lnTo>
                  <a:lnTo>
                    <a:pt x="926" y="6254"/>
                  </a:lnTo>
                  <a:lnTo>
                    <a:pt x="810" y="7528"/>
                  </a:lnTo>
                  <a:lnTo>
                    <a:pt x="694" y="8917"/>
                  </a:lnTo>
                  <a:lnTo>
                    <a:pt x="694" y="10191"/>
                  </a:lnTo>
                  <a:lnTo>
                    <a:pt x="694" y="10191"/>
                  </a:lnTo>
                  <a:lnTo>
                    <a:pt x="578" y="10191"/>
                  </a:lnTo>
                  <a:lnTo>
                    <a:pt x="463" y="10191"/>
                  </a:lnTo>
                  <a:lnTo>
                    <a:pt x="347" y="10191"/>
                  </a:lnTo>
                  <a:lnTo>
                    <a:pt x="347" y="10307"/>
                  </a:lnTo>
                  <a:lnTo>
                    <a:pt x="231" y="10307"/>
                  </a:lnTo>
                  <a:lnTo>
                    <a:pt x="116" y="10307"/>
                  </a:lnTo>
                  <a:lnTo>
                    <a:pt x="116" y="10307"/>
                  </a:lnTo>
                  <a:lnTo>
                    <a:pt x="0" y="10307"/>
                  </a:lnTo>
                  <a:lnTo>
                    <a:pt x="0" y="10307"/>
                  </a:lnTo>
                  <a:lnTo>
                    <a:pt x="0" y="9033"/>
                  </a:lnTo>
                  <a:lnTo>
                    <a:pt x="116" y="7759"/>
                  </a:lnTo>
                  <a:lnTo>
                    <a:pt x="231" y="6485"/>
                  </a:lnTo>
                  <a:lnTo>
                    <a:pt x="347" y="5211"/>
                  </a:lnTo>
                  <a:lnTo>
                    <a:pt x="463" y="4053"/>
                  </a:lnTo>
                  <a:lnTo>
                    <a:pt x="578" y="2779"/>
                  </a:lnTo>
                  <a:lnTo>
                    <a:pt x="694" y="1505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1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959760" y="4679640"/>
              <a:ext cx="45360" cy="528480"/>
            </a:xfrm>
            <a:custGeom>
              <a:avLst/>
              <a:gdLst/>
              <a:ahLst/>
              <a:rect l="l" t="t" r="r" b="b"/>
              <a:pathLst>
                <a:path w="1273" h="9844">
                  <a:moveTo>
                    <a:pt x="1273" y="0"/>
                  </a:moveTo>
                  <a:lnTo>
                    <a:pt x="1042" y="1158"/>
                  </a:lnTo>
                  <a:lnTo>
                    <a:pt x="926" y="2432"/>
                  </a:lnTo>
                  <a:lnTo>
                    <a:pt x="811" y="3590"/>
                  </a:lnTo>
                  <a:lnTo>
                    <a:pt x="695" y="4864"/>
                  </a:lnTo>
                  <a:lnTo>
                    <a:pt x="579" y="6138"/>
                  </a:lnTo>
                  <a:lnTo>
                    <a:pt x="463" y="7412"/>
                  </a:lnTo>
                  <a:lnTo>
                    <a:pt x="463" y="8570"/>
                  </a:lnTo>
                  <a:lnTo>
                    <a:pt x="348" y="9844"/>
                  </a:lnTo>
                  <a:lnTo>
                    <a:pt x="348" y="9844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348" y="9844"/>
                  </a:lnTo>
                  <a:lnTo>
                    <a:pt x="348" y="9728"/>
                  </a:lnTo>
                  <a:lnTo>
                    <a:pt x="232" y="9728"/>
                  </a:lnTo>
                  <a:lnTo>
                    <a:pt x="116" y="9728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8570"/>
                  </a:lnTo>
                  <a:lnTo>
                    <a:pt x="116" y="7412"/>
                  </a:lnTo>
                  <a:lnTo>
                    <a:pt x="116" y="6254"/>
                  </a:lnTo>
                  <a:lnTo>
                    <a:pt x="232" y="4980"/>
                  </a:lnTo>
                  <a:lnTo>
                    <a:pt x="348" y="3822"/>
                  </a:lnTo>
                  <a:lnTo>
                    <a:pt x="463" y="2548"/>
                  </a:lnTo>
                  <a:lnTo>
                    <a:pt x="579" y="1390"/>
                  </a:lnTo>
                  <a:lnTo>
                    <a:pt x="811" y="232"/>
                  </a:lnTo>
                  <a:lnTo>
                    <a:pt x="811" y="232"/>
                  </a:lnTo>
                  <a:lnTo>
                    <a:pt x="926" y="232"/>
                  </a:lnTo>
                  <a:lnTo>
                    <a:pt x="926" y="116"/>
                  </a:lnTo>
                  <a:lnTo>
                    <a:pt x="1042" y="116"/>
                  </a:lnTo>
                  <a:lnTo>
                    <a:pt x="1042" y="116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926640" y="4698360"/>
              <a:ext cx="45360" cy="472320"/>
            </a:xfrm>
            <a:custGeom>
              <a:avLst/>
              <a:gdLst/>
              <a:ahLst/>
              <a:rect l="l" t="t" r="r" b="b"/>
              <a:pathLst>
                <a:path w="1273" h="8801">
                  <a:moveTo>
                    <a:pt x="578" y="8801"/>
                  </a:moveTo>
                  <a:lnTo>
                    <a:pt x="462" y="8801"/>
                  </a:lnTo>
                  <a:lnTo>
                    <a:pt x="462" y="8801"/>
                  </a:lnTo>
                  <a:lnTo>
                    <a:pt x="347" y="8801"/>
                  </a:lnTo>
                  <a:lnTo>
                    <a:pt x="231" y="8801"/>
                  </a:lnTo>
                  <a:lnTo>
                    <a:pt x="231" y="8801"/>
                  </a:lnTo>
                  <a:lnTo>
                    <a:pt x="115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115" y="7643"/>
                  </a:lnTo>
                  <a:lnTo>
                    <a:pt x="231" y="6485"/>
                  </a:lnTo>
                  <a:lnTo>
                    <a:pt x="347" y="5443"/>
                  </a:lnTo>
                  <a:lnTo>
                    <a:pt x="462" y="4285"/>
                  </a:lnTo>
                  <a:lnTo>
                    <a:pt x="694" y="3127"/>
                  </a:lnTo>
                  <a:lnTo>
                    <a:pt x="925" y="2084"/>
                  </a:lnTo>
                  <a:lnTo>
                    <a:pt x="1041" y="1042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157" y="1042"/>
                  </a:lnTo>
                  <a:lnTo>
                    <a:pt x="1041" y="2200"/>
                  </a:lnTo>
                  <a:lnTo>
                    <a:pt x="925" y="3242"/>
                  </a:lnTo>
                  <a:lnTo>
                    <a:pt x="810" y="4401"/>
                  </a:lnTo>
                  <a:lnTo>
                    <a:pt x="810" y="5443"/>
                  </a:lnTo>
                  <a:lnTo>
                    <a:pt x="694" y="6485"/>
                  </a:lnTo>
                  <a:lnTo>
                    <a:pt x="694" y="7643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1642320" y="4860000"/>
              <a:ext cx="264600" cy="945000"/>
            </a:xfrm>
            <a:custGeom>
              <a:avLst/>
              <a:gdLst/>
              <a:ahLst/>
              <a:rect l="l" t="t" r="r" b="b"/>
              <a:pathLst>
                <a:path w="7407" h="17603">
                  <a:moveTo>
                    <a:pt x="3356" y="0"/>
                  </a:moveTo>
                  <a:lnTo>
                    <a:pt x="3588" y="463"/>
                  </a:lnTo>
                  <a:lnTo>
                    <a:pt x="3935" y="1042"/>
                  </a:lnTo>
                  <a:lnTo>
                    <a:pt x="4282" y="1505"/>
                  </a:lnTo>
                  <a:lnTo>
                    <a:pt x="4630" y="1969"/>
                  </a:lnTo>
                  <a:lnTo>
                    <a:pt x="4861" y="2432"/>
                  </a:lnTo>
                  <a:lnTo>
                    <a:pt x="5208" y="2895"/>
                  </a:lnTo>
                  <a:lnTo>
                    <a:pt x="5440" y="3358"/>
                  </a:lnTo>
                  <a:lnTo>
                    <a:pt x="5555" y="3937"/>
                  </a:lnTo>
                  <a:lnTo>
                    <a:pt x="5555" y="3937"/>
                  </a:lnTo>
                  <a:lnTo>
                    <a:pt x="5555" y="4632"/>
                  </a:lnTo>
                  <a:lnTo>
                    <a:pt x="5324" y="5443"/>
                  </a:lnTo>
                  <a:lnTo>
                    <a:pt x="5208" y="6254"/>
                  </a:lnTo>
                  <a:lnTo>
                    <a:pt x="4977" y="7064"/>
                  </a:lnTo>
                  <a:lnTo>
                    <a:pt x="4861" y="7875"/>
                  </a:lnTo>
                  <a:lnTo>
                    <a:pt x="4745" y="8686"/>
                  </a:lnTo>
                  <a:lnTo>
                    <a:pt x="4630" y="9496"/>
                  </a:lnTo>
                  <a:lnTo>
                    <a:pt x="4514" y="10307"/>
                  </a:lnTo>
                  <a:lnTo>
                    <a:pt x="4514" y="10307"/>
                  </a:lnTo>
                  <a:lnTo>
                    <a:pt x="4630" y="10654"/>
                  </a:lnTo>
                  <a:lnTo>
                    <a:pt x="4861" y="10886"/>
                  </a:lnTo>
                  <a:lnTo>
                    <a:pt x="5092" y="11118"/>
                  </a:lnTo>
                  <a:lnTo>
                    <a:pt x="5208" y="11349"/>
                  </a:lnTo>
                  <a:lnTo>
                    <a:pt x="5440" y="11697"/>
                  </a:lnTo>
                  <a:lnTo>
                    <a:pt x="5555" y="11928"/>
                  </a:lnTo>
                  <a:lnTo>
                    <a:pt x="5787" y="12160"/>
                  </a:lnTo>
                  <a:lnTo>
                    <a:pt x="5903" y="12507"/>
                  </a:lnTo>
                  <a:lnTo>
                    <a:pt x="5903" y="12507"/>
                  </a:lnTo>
                  <a:lnTo>
                    <a:pt x="5440" y="12507"/>
                  </a:lnTo>
                  <a:lnTo>
                    <a:pt x="5208" y="12623"/>
                  </a:lnTo>
                  <a:lnTo>
                    <a:pt x="4861" y="12739"/>
                  </a:lnTo>
                  <a:lnTo>
                    <a:pt x="4514" y="12739"/>
                  </a:lnTo>
                  <a:lnTo>
                    <a:pt x="4167" y="12855"/>
                  </a:lnTo>
                  <a:lnTo>
                    <a:pt x="3935" y="13086"/>
                  </a:lnTo>
                  <a:lnTo>
                    <a:pt x="3588" y="13202"/>
                  </a:lnTo>
                  <a:lnTo>
                    <a:pt x="3356" y="13434"/>
                  </a:lnTo>
                  <a:lnTo>
                    <a:pt x="3356" y="13434"/>
                  </a:lnTo>
                  <a:lnTo>
                    <a:pt x="3704" y="13318"/>
                  </a:lnTo>
                  <a:lnTo>
                    <a:pt x="4051" y="13318"/>
                  </a:lnTo>
                  <a:lnTo>
                    <a:pt x="4398" y="13202"/>
                  </a:lnTo>
                  <a:lnTo>
                    <a:pt x="4745" y="13086"/>
                  </a:lnTo>
                  <a:lnTo>
                    <a:pt x="5092" y="13086"/>
                  </a:lnTo>
                  <a:lnTo>
                    <a:pt x="5440" y="12971"/>
                  </a:lnTo>
                  <a:lnTo>
                    <a:pt x="5787" y="12971"/>
                  </a:lnTo>
                  <a:lnTo>
                    <a:pt x="6134" y="12971"/>
                  </a:lnTo>
                  <a:lnTo>
                    <a:pt x="6134" y="12971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250" y="13086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318"/>
                  </a:lnTo>
                  <a:lnTo>
                    <a:pt x="6250" y="13318"/>
                  </a:lnTo>
                  <a:lnTo>
                    <a:pt x="5903" y="13318"/>
                  </a:lnTo>
                  <a:lnTo>
                    <a:pt x="5555" y="13318"/>
                  </a:lnTo>
                  <a:lnTo>
                    <a:pt x="5324" y="13434"/>
                  </a:lnTo>
                  <a:lnTo>
                    <a:pt x="5092" y="13550"/>
                  </a:lnTo>
                  <a:lnTo>
                    <a:pt x="4745" y="13781"/>
                  </a:lnTo>
                  <a:lnTo>
                    <a:pt x="4514" y="13897"/>
                  </a:lnTo>
                  <a:lnTo>
                    <a:pt x="4282" y="14129"/>
                  </a:lnTo>
                  <a:lnTo>
                    <a:pt x="4051" y="14244"/>
                  </a:lnTo>
                  <a:lnTo>
                    <a:pt x="4051" y="14244"/>
                  </a:lnTo>
                  <a:lnTo>
                    <a:pt x="4167" y="14244"/>
                  </a:lnTo>
                  <a:lnTo>
                    <a:pt x="4282" y="14244"/>
                  </a:lnTo>
                  <a:lnTo>
                    <a:pt x="4514" y="14244"/>
                  </a:lnTo>
                  <a:lnTo>
                    <a:pt x="4630" y="14129"/>
                  </a:lnTo>
                  <a:lnTo>
                    <a:pt x="4745" y="14013"/>
                  </a:lnTo>
                  <a:lnTo>
                    <a:pt x="4861" y="14013"/>
                  </a:lnTo>
                  <a:lnTo>
                    <a:pt x="5092" y="14013"/>
                  </a:lnTo>
                  <a:lnTo>
                    <a:pt x="5208" y="13897"/>
                  </a:lnTo>
                  <a:lnTo>
                    <a:pt x="5208" y="13897"/>
                  </a:lnTo>
                  <a:lnTo>
                    <a:pt x="5440" y="13897"/>
                  </a:lnTo>
                  <a:lnTo>
                    <a:pt x="5555" y="13897"/>
                  </a:lnTo>
                  <a:lnTo>
                    <a:pt x="5787" y="13897"/>
                  </a:lnTo>
                  <a:lnTo>
                    <a:pt x="6018" y="13781"/>
                  </a:lnTo>
                  <a:lnTo>
                    <a:pt x="6134" y="13781"/>
                  </a:lnTo>
                  <a:lnTo>
                    <a:pt x="6366" y="13781"/>
                  </a:lnTo>
                  <a:lnTo>
                    <a:pt x="6481" y="13781"/>
                  </a:lnTo>
                  <a:lnTo>
                    <a:pt x="6713" y="13781"/>
                  </a:lnTo>
                  <a:lnTo>
                    <a:pt x="6713" y="13781"/>
                  </a:lnTo>
                  <a:lnTo>
                    <a:pt x="6828" y="14244"/>
                  </a:lnTo>
                  <a:lnTo>
                    <a:pt x="7060" y="14592"/>
                  </a:lnTo>
                  <a:lnTo>
                    <a:pt x="7176" y="15055"/>
                  </a:lnTo>
                  <a:lnTo>
                    <a:pt x="7291" y="15518"/>
                  </a:lnTo>
                  <a:lnTo>
                    <a:pt x="7407" y="15982"/>
                  </a:lnTo>
                  <a:lnTo>
                    <a:pt x="7407" y="16329"/>
                  </a:lnTo>
                  <a:lnTo>
                    <a:pt x="7407" y="16792"/>
                  </a:lnTo>
                  <a:lnTo>
                    <a:pt x="7176" y="17255"/>
                  </a:lnTo>
                  <a:lnTo>
                    <a:pt x="7176" y="17255"/>
                  </a:lnTo>
                  <a:lnTo>
                    <a:pt x="6713" y="17371"/>
                  </a:lnTo>
                  <a:lnTo>
                    <a:pt x="6250" y="17487"/>
                  </a:lnTo>
                  <a:lnTo>
                    <a:pt x="5671" y="17603"/>
                  </a:lnTo>
                  <a:lnTo>
                    <a:pt x="5208" y="17487"/>
                  </a:lnTo>
                  <a:lnTo>
                    <a:pt x="4745" y="17371"/>
                  </a:lnTo>
                  <a:lnTo>
                    <a:pt x="4167" y="17255"/>
                  </a:lnTo>
                  <a:lnTo>
                    <a:pt x="3704" y="17024"/>
                  </a:lnTo>
                  <a:lnTo>
                    <a:pt x="3356" y="16792"/>
                  </a:lnTo>
                  <a:lnTo>
                    <a:pt x="3356" y="16792"/>
                  </a:lnTo>
                  <a:lnTo>
                    <a:pt x="2894" y="16329"/>
                  </a:lnTo>
                  <a:lnTo>
                    <a:pt x="2662" y="15634"/>
                  </a:lnTo>
                  <a:lnTo>
                    <a:pt x="2431" y="15055"/>
                  </a:lnTo>
                  <a:lnTo>
                    <a:pt x="2199" y="14360"/>
                  </a:lnTo>
                  <a:lnTo>
                    <a:pt x="1968" y="13665"/>
                  </a:lnTo>
                  <a:lnTo>
                    <a:pt x="1620" y="13202"/>
                  </a:lnTo>
                  <a:lnTo>
                    <a:pt x="1158" y="12855"/>
                  </a:lnTo>
                  <a:lnTo>
                    <a:pt x="463" y="12623"/>
                  </a:lnTo>
                  <a:lnTo>
                    <a:pt x="463" y="12623"/>
                  </a:lnTo>
                  <a:lnTo>
                    <a:pt x="232" y="12507"/>
                  </a:lnTo>
                  <a:lnTo>
                    <a:pt x="232" y="12391"/>
                  </a:lnTo>
                  <a:lnTo>
                    <a:pt x="116" y="12276"/>
                  </a:lnTo>
                  <a:lnTo>
                    <a:pt x="0" y="12044"/>
                  </a:lnTo>
                  <a:lnTo>
                    <a:pt x="0" y="11928"/>
                  </a:lnTo>
                  <a:lnTo>
                    <a:pt x="0" y="11812"/>
                  </a:lnTo>
                  <a:lnTo>
                    <a:pt x="0" y="11581"/>
                  </a:lnTo>
                  <a:lnTo>
                    <a:pt x="116" y="11465"/>
                  </a:lnTo>
                  <a:lnTo>
                    <a:pt x="116" y="11465"/>
                  </a:lnTo>
                  <a:lnTo>
                    <a:pt x="347" y="11118"/>
                  </a:lnTo>
                  <a:lnTo>
                    <a:pt x="579" y="10770"/>
                  </a:lnTo>
                  <a:lnTo>
                    <a:pt x="926" y="10539"/>
                  </a:lnTo>
                  <a:lnTo>
                    <a:pt x="1273" y="10307"/>
                  </a:lnTo>
                  <a:lnTo>
                    <a:pt x="1620" y="10075"/>
                  </a:lnTo>
                  <a:lnTo>
                    <a:pt x="1968" y="9844"/>
                  </a:lnTo>
                  <a:lnTo>
                    <a:pt x="2199" y="9612"/>
                  </a:lnTo>
                  <a:lnTo>
                    <a:pt x="2431" y="9265"/>
                  </a:lnTo>
                  <a:lnTo>
                    <a:pt x="2431" y="9265"/>
                  </a:lnTo>
                  <a:lnTo>
                    <a:pt x="2546" y="8570"/>
                  </a:lnTo>
                  <a:lnTo>
                    <a:pt x="2662" y="7991"/>
                  </a:lnTo>
                  <a:lnTo>
                    <a:pt x="2778" y="7412"/>
                  </a:lnTo>
                  <a:lnTo>
                    <a:pt x="2894" y="6833"/>
                  </a:lnTo>
                  <a:lnTo>
                    <a:pt x="3009" y="6254"/>
                  </a:lnTo>
                  <a:lnTo>
                    <a:pt x="3125" y="5675"/>
                  </a:lnTo>
                  <a:lnTo>
                    <a:pt x="3241" y="5095"/>
                  </a:lnTo>
                  <a:lnTo>
                    <a:pt x="3241" y="4516"/>
                  </a:lnTo>
                  <a:lnTo>
                    <a:pt x="3241" y="4516"/>
                  </a:lnTo>
                  <a:lnTo>
                    <a:pt x="3125" y="4053"/>
                  </a:lnTo>
                  <a:lnTo>
                    <a:pt x="3009" y="3706"/>
                  </a:lnTo>
                  <a:lnTo>
                    <a:pt x="2778" y="3243"/>
                  </a:lnTo>
                  <a:lnTo>
                    <a:pt x="2546" y="2895"/>
                  </a:lnTo>
                  <a:lnTo>
                    <a:pt x="2315" y="2548"/>
                  </a:lnTo>
                  <a:lnTo>
                    <a:pt x="2083" y="2200"/>
                  </a:lnTo>
                  <a:lnTo>
                    <a:pt x="1736" y="1853"/>
                  </a:lnTo>
                  <a:lnTo>
                    <a:pt x="1505" y="1505"/>
                  </a:lnTo>
                  <a:lnTo>
                    <a:pt x="1505" y="1505"/>
                  </a:lnTo>
                  <a:lnTo>
                    <a:pt x="1389" y="1390"/>
                  </a:lnTo>
                  <a:lnTo>
                    <a:pt x="1273" y="1274"/>
                  </a:lnTo>
                  <a:lnTo>
                    <a:pt x="1273" y="1158"/>
                  </a:lnTo>
                  <a:lnTo>
                    <a:pt x="1273" y="1042"/>
                  </a:lnTo>
                  <a:lnTo>
                    <a:pt x="1389" y="926"/>
                  </a:lnTo>
                  <a:lnTo>
                    <a:pt x="1389" y="811"/>
                  </a:lnTo>
                  <a:lnTo>
                    <a:pt x="1505" y="811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852" y="463"/>
                  </a:lnTo>
                  <a:lnTo>
                    <a:pt x="1852" y="463"/>
                  </a:lnTo>
                  <a:lnTo>
                    <a:pt x="1852" y="579"/>
                  </a:lnTo>
                  <a:lnTo>
                    <a:pt x="1736" y="695"/>
                  </a:lnTo>
                  <a:lnTo>
                    <a:pt x="1620" y="811"/>
                  </a:lnTo>
                  <a:lnTo>
                    <a:pt x="1505" y="926"/>
                  </a:lnTo>
                  <a:lnTo>
                    <a:pt x="1505" y="1042"/>
                  </a:lnTo>
                  <a:lnTo>
                    <a:pt x="1505" y="1158"/>
                  </a:lnTo>
                  <a:lnTo>
                    <a:pt x="1505" y="1274"/>
                  </a:lnTo>
                  <a:lnTo>
                    <a:pt x="1852" y="1274"/>
                  </a:lnTo>
                  <a:lnTo>
                    <a:pt x="1852" y="1274"/>
                  </a:lnTo>
                  <a:lnTo>
                    <a:pt x="1968" y="1158"/>
                  </a:lnTo>
                  <a:lnTo>
                    <a:pt x="2083" y="926"/>
                  </a:lnTo>
                  <a:lnTo>
                    <a:pt x="2315" y="695"/>
                  </a:lnTo>
                  <a:lnTo>
                    <a:pt x="2431" y="579"/>
                  </a:lnTo>
                  <a:lnTo>
                    <a:pt x="2662" y="463"/>
                  </a:lnTo>
                  <a:lnTo>
                    <a:pt x="2894" y="347"/>
                  </a:lnTo>
                  <a:lnTo>
                    <a:pt x="3125" y="116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1716840" y="4884840"/>
              <a:ext cx="41400" cy="80640"/>
            </a:xfrm>
            <a:custGeom>
              <a:avLst/>
              <a:gdLst/>
              <a:ahLst/>
              <a:rect l="l" t="t" r="r" b="b"/>
              <a:pathLst>
                <a:path w="1158" h="1506">
                  <a:moveTo>
                    <a:pt x="1158" y="0"/>
                  </a:moveTo>
                  <a:lnTo>
                    <a:pt x="1158" y="116"/>
                  </a:lnTo>
                  <a:lnTo>
                    <a:pt x="1042" y="232"/>
                  </a:lnTo>
                  <a:lnTo>
                    <a:pt x="1042" y="348"/>
                  </a:lnTo>
                  <a:lnTo>
                    <a:pt x="926" y="463"/>
                  </a:lnTo>
                  <a:lnTo>
                    <a:pt x="811" y="463"/>
                  </a:lnTo>
                  <a:lnTo>
                    <a:pt x="695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463" y="811"/>
                  </a:lnTo>
                  <a:lnTo>
                    <a:pt x="463" y="927"/>
                  </a:lnTo>
                  <a:lnTo>
                    <a:pt x="348" y="1042"/>
                  </a:lnTo>
                  <a:lnTo>
                    <a:pt x="348" y="1158"/>
                  </a:lnTo>
                  <a:lnTo>
                    <a:pt x="232" y="1274"/>
                  </a:lnTo>
                  <a:lnTo>
                    <a:pt x="232" y="1274"/>
                  </a:lnTo>
                  <a:lnTo>
                    <a:pt x="116" y="1390"/>
                  </a:lnTo>
                  <a:lnTo>
                    <a:pt x="116" y="1506"/>
                  </a:lnTo>
                  <a:lnTo>
                    <a:pt x="116" y="1506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1042"/>
                  </a:lnTo>
                  <a:lnTo>
                    <a:pt x="0" y="811"/>
                  </a:lnTo>
                  <a:lnTo>
                    <a:pt x="116" y="695"/>
                  </a:lnTo>
                  <a:lnTo>
                    <a:pt x="232" y="579"/>
                  </a:lnTo>
                  <a:lnTo>
                    <a:pt x="348" y="463"/>
                  </a:lnTo>
                  <a:lnTo>
                    <a:pt x="348" y="348"/>
                  </a:lnTo>
                  <a:lnTo>
                    <a:pt x="348" y="348"/>
                  </a:lnTo>
                  <a:lnTo>
                    <a:pt x="463" y="232"/>
                  </a:lnTo>
                  <a:lnTo>
                    <a:pt x="579" y="232"/>
                  </a:lnTo>
                  <a:lnTo>
                    <a:pt x="695" y="116"/>
                  </a:lnTo>
                  <a:lnTo>
                    <a:pt x="811" y="116"/>
                  </a:lnTo>
                  <a:lnTo>
                    <a:pt x="811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1729440" y="4922280"/>
              <a:ext cx="28800" cy="49680"/>
            </a:xfrm>
            <a:custGeom>
              <a:avLst/>
              <a:gdLst/>
              <a:ahLst/>
              <a:rect l="l" t="t" r="r" b="b"/>
              <a:pathLst>
                <a:path w="810" h="926">
                  <a:moveTo>
                    <a:pt x="810" y="0"/>
                  </a:moveTo>
                  <a:lnTo>
                    <a:pt x="694" y="116"/>
                  </a:lnTo>
                  <a:lnTo>
                    <a:pt x="694" y="232"/>
                  </a:lnTo>
                  <a:lnTo>
                    <a:pt x="694" y="347"/>
                  </a:lnTo>
                  <a:lnTo>
                    <a:pt x="578" y="463"/>
                  </a:lnTo>
                  <a:lnTo>
                    <a:pt x="463" y="579"/>
                  </a:lnTo>
                  <a:lnTo>
                    <a:pt x="463" y="695"/>
                  </a:lnTo>
                  <a:lnTo>
                    <a:pt x="347" y="811"/>
                  </a:lnTo>
                  <a:lnTo>
                    <a:pt x="347" y="926"/>
                  </a:lnTo>
                  <a:lnTo>
                    <a:pt x="347" y="926"/>
                  </a:lnTo>
                  <a:lnTo>
                    <a:pt x="0" y="926"/>
                  </a:lnTo>
                  <a:lnTo>
                    <a:pt x="0" y="926"/>
                  </a:lnTo>
                  <a:lnTo>
                    <a:pt x="0" y="811"/>
                  </a:lnTo>
                  <a:lnTo>
                    <a:pt x="115" y="579"/>
                  </a:lnTo>
                  <a:lnTo>
                    <a:pt x="115" y="463"/>
                  </a:lnTo>
                  <a:lnTo>
                    <a:pt x="231" y="347"/>
                  </a:lnTo>
                  <a:lnTo>
                    <a:pt x="347" y="232"/>
                  </a:lnTo>
                  <a:lnTo>
                    <a:pt x="463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1758240" y="4965840"/>
              <a:ext cx="12240" cy="18360"/>
            </a:xfrm>
            <a:custGeom>
              <a:avLst/>
              <a:gdLst/>
              <a:ahLst/>
              <a:rect l="l" t="t" r="r" b="b"/>
              <a:pathLst>
                <a:path w="347" h="347">
                  <a:moveTo>
                    <a:pt x="231" y="347"/>
                  </a:moveTo>
                  <a:lnTo>
                    <a:pt x="0" y="231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1063080" y="5140080"/>
              <a:ext cx="310320" cy="690120"/>
            </a:xfrm>
            <a:custGeom>
              <a:avLst/>
              <a:gdLst/>
              <a:ahLst/>
              <a:rect l="l" t="t" r="r" b="b"/>
              <a:pathLst>
                <a:path w="8680" h="12855">
                  <a:moveTo>
                    <a:pt x="7059" y="0"/>
                  </a:moveTo>
                  <a:lnTo>
                    <a:pt x="6944" y="116"/>
                  </a:lnTo>
                  <a:lnTo>
                    <a:pt x="6712" y="232"/>
                  </a:lnTo>
                  <a:lnTo>
                    <a:pt x="6596" y="348"/>
                  </a:lnTo>
                  <a:lnTo>
                    <a:pt x="6481" y="464"/>
                  </a:lnTo>
                  <a:lnTo>
                    <a:pt x="6365" y="579"/>
                  </a:lnTo>
                  <a:lnTo>
                    <a:pt x="6134" y="695"/>
                  </a:lnTo>
                  <a:lnTo>
                    <a:pt x="6018" y="811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1043"/>
                  </a:lnTo>
                  <a:lnTo>
                    <a:pt x="6018" y="1043"/>
                  </a:lnTo>
                  <a:lnTo>
                    <a:pt x="6018" y="1158"/>
                  </a:lnTo>
                  <a:lnTo>
                    <a:pt x="6134" y="1158"/>
                  </a:lnTo>
                  <a:lnTo>
                    <a:pt x="6249" y="1274"/>
                  </a:lnTo>
                  <a:lnTo>
                    <a:pt x="6249" y="1158"/>
                  </a:lnTo>
                  <a:lnTo>
                    <a:pt x="6365" y="1158"/>
                  </a:lnTo>
                  <a:lnTo>
                    <a:pt x="6365" y="1158"/>
                  </a:lnTo>
                  <a:lnTo>
                    <a:pt x="7291" y="348"/>
                  </a:lnTo>
                  <a:lnTo>
                    <a:pt x="7291" y="348"/>
                  </a:lnTo>
                  <a:lnTo>
                    <a:pt x="7291" y="464"/>
                  </a:lnTo>
                  <a:lnTo>
                    <a:pt x="7291" y="579"/>
                  </a:lnTo>
                  <a:lnTo>
                    <a:pt x="7291" y="695"/>
                  </a:lnTo>
                  <a:lnTo>
                    <a:pt x="7175" y="695"/>
                  </a:lnTo>
                  <a:lnTo>
                    <a:pt x="7059" y="811"/>
                  </a:lnTo>
                  <a:lnTo>
                    <a:pt x="6944" y="927"/>
                  </a:lnTo>
                  <a:lnTo>
                    <a:pt x="6828" y="1043"/>
                  </a:lnTo>
                  <a:lnTo>
                    <a:pt x="6828" y="1158"/>
                  </a:lnTo>
                  <a:lnTo>
                    <a:pt x="6828" y="1158"/>
                  </a:lnTo>
                  <a:lnTo>
                    <a:pt x="6712" y="1158"/>
                  </a:lnTo>
                  <a:lnTo>
                    <a:pt x="6712" y="1158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828" y="1506"/>
                  </a:lnTo>
                  <a:lnTo>
                    <a:pt x="6944" y="1506"/>
                  </a:lnTo>
                  <a:lnTo>
                    <a:pt x="7059" y="1506"/>
                  </a:lnTo>
                  <a:lnTo>
                    <a:pt x="7175" y="1390"/>
                  </a:lnTo>
                  <a:lnTo>
                    <a:pt x="7175" y="1274"/>
                  </a:lnTo>
                  <a:lnTo>
                    <a:pt x="7291" y="1158"/>
                  </a:lnTo>
                  <a:lnTo>
                    <a:pt x="7407" y="1158"/>
                  </a:lnTo>
                  <a:lnTo>
                    <a:pt x="7522" y="1043"/>
                  </a:lnTo>
                  <a:lnTo>
                    <a:pt x="7522" y="1043"/>
                  </a:lnTo>
                  <a:lnTo>
                    <a:pt x="7638" y="1274"/>
                  </a:lnTo>
                  <a:lnTo>
                    <a:pt x="7754" y="1506"/>
                  </a:lnTo>
                  <a:lnTo>
                    <a:pt x="7870" y="1737"/>
                  </a:lnTo>
                  <a:lnTo>
                    <a:pt x="8101" y="2085"/>
                  </a:lnTo>
                  <a:lnTo>
                    <a:pt x="8101" y="2316"/>
                  </a:lnTo>
                  <a:lnTo>
                    <a:pt x="8217" y="2548"/>
                  </a:lnTo>
                  <a:lnTo>
                    <a:pt x="8101" y="2780"/>
                  </a:lnTo>
                  <a:lnTo>
                    <a:pt x="7985" y="3011"/>
                  </a:lnTo>
                  <a:lnTo>
                    <a:pt x="7985" y="3011"/>
                  </a:lnTo>
                  <a:lnTo>
                    <a:pt x="7522" y="3359"/>
                  </a:lnTo>
                  <a:lnTo>
                    <a:pt x="7291" y="3706"/>
                  </a:lnTo>
                  <a:lnTo>
                    <a:pt x="6944" y="4054"/>
                  </a:lnTo>
                  <a:lnTo>
                    <a:pt x="6712" y="4517"/>
                  </a:lnTo>
                  <a:lnTo>
                    <a:pt x="6481" y="4864"/>
                  </a:lnTo>
                  <a:lnTo>
                    <a:pt x="6249" y="5212"/>
                  </a:lnTo>
                  <a:lnTo>
                    <a:pt x="5902" y="5559"/>
                  </a:lnTo>
                  <a:lnTo>
                    <a:pt x="5555" y="5791"/>
                  </a:lnTo>
                  <a:lnTo>
                    <a:pt x="5555" y="5791"/>
                  </a:lnTo>
                  <a:lnTo>
                    <a:pt x="5439" y="6486"/>
                  </a:lnTo>
                  <a:lnTo>
                    <a:pt x="5323" y="7180"/>
                  </a:lnTo>
                  <a:lnTo>
                    <a:pt x="5208" y="7760"/>
                  </a:lnTo>
                  <a:lnTo>
                    <a:pt x="5208" y="8454"/>
                  </a:lnTo>
                  <a:lnTo>
                    <a:pt x="5208" y="9149"/>
                  </a:lnTo>
                  <a:lnTo>
                    <a:pt x="5323" y="9844"/>
                  </a:lnTo>
                  <a:lnTo>
                    <a:pt x="5555" y="10423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6018" y="10886"/>
                  </a:lnTo>
                  <a:lnTo>
                    <a:pt x="6018" y="10771"/>
                  </a:lnTo>
                  <a:lnTo>
                    <a:pt x="6018" y="10771"/>
                  </a:lnTo>
                  <a:lnTo>
                    <a:pt x="6018" y="10655"/>
                  </a:lnTo>
                  <a:lnTo>
                    <a:pt x="6018" y="10539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6018" y="10423"/>
                  </a:lnTo>
                  <a:lnTo>
                    <a:pt x="6134" y="10423"/>
                  </a:lnTo>
                  <a:lnTo>
                    <a:pt x="6134" y="10539"/>
                  </a:lnTo>
                  <a:lnTo>
                    <a:pt x="6249" y="10539"/>
                  </a:lnTo>
                  <a:lnTo>
                    <a:pt x="6249" y="10655"/>
                  </a:lnTo>
                  <a:lnTo>
                    <a:pt x="6365" y="10655"/>
                  </a:lnTo>
                  <a:lnTo>
                    <a:pt x="6365" y="10771"/>
                  </a:lnTo>
                  <a:lnTo>
                    <a:pt x="6481" y="10886"/>
                  </a:lnTo>
                  <a:lnTo>
                    <a:pt x="6481" y="10886"/>
                  </a:lnTo>
                  <a:lnTo>
                    <a:pt x="6365" y="11465"/>
                  </a:lnTo>
                  <a:lnTo>
                    <a:pt x="6365" y="11465"/>
                  </a:lnTo>
                  <a:lnTo>
                    <a:pt x="6481" y="11465"/>
                  </a:lnTo>
                  <a:lnTo>
                    <a:pt x="6596" y="11465"/>
                  </a:lnTo>
                  <a:lnTo>
                    <a:pt x="6712" y="11465"/>
                  </a:lnTo>
                  <a:lnTo>
                    <a:pt x="6712" y="11350"/>
                  </a:lnTo>
                  <a:lnTo>
                    <a:pt x="6712" y="11234"/>
                  </a:lnTo>
                  <a:lnTo>
                    <a:pt x="6828" y="11118"/>
                  </a:lnTo>
                  <a:lnTo>
                    <a:pt x="6828" y="11002"/>
                  </a:lnTo>
                  <a:lnTo>
                    <a:pt x="6944" y="10886"/>
                  </a:lnTo>
                  <a:lnTo>
                    <a:pt x="6944" y="10886"/>
                  </a:lnTo>
                  <a:lnTo>
                    <a:pt x="7175" y="10886"/>
                  </a:lnTo>
                  <a:lnTo>
                    <a:pt x="7407" y="10886"/>
                  </a:lnTo>
                  <a:lnTo>
                    <a:pt x="7638" y="10886"/>
                  </a:lnTo>
                  <a:lnTo>
                    <a:pt x="7870" y="10886"/>
                  </a:lnTo>
                  <a:lnTo>
                    <a:pt x="8101" y="11002"/>
                  </a:lnTo>
                  <a:lnTo>
                    <a:pt x="8332" y="11002"/>
                  </a:lnTo>
                  <a:lnTo>
                    <a:pt x="8564" y="11234"/>
                  </a:lnTo>
                  <a:lnTo>
                    <a:pt x="8564" y="11581"/>
                  </a:lnTo>
                  <a:lnTo>
                    <a:pt x="8564" y="11581"/>
                  </a:lnTo>
                  <a:lnTo>
                    <a:pt x="8680" y="11929"/>
                  </a:lnTo>
                  <a:lnTo>
                    <a:pt x="8564" y="12160"/>
                  </a:lnTo>
                  <a:lnTo>
                    <a:pt x="8448" y="12392"/>
                  </a:lnTo>
                  <a:lnTo>
                    <a:pt x="8217" y="12508"/>
                  </a:lnTo>
                  <a:lnTo>
                    <a:pt x="7985" y="12624"/>
                  </a:lnTo>
                  <a:lnTo>
                    <a:pt x="7638" y="12624"/>
                  </a:lnTo>
                  <a:lnTo>
                    <a:pt x="7291" y="12739"/>
                  </a:lnTo>
                  <a:lnTo>
                    <a:pt x="7059" y="12855"/>
                  </a:lnTo>
                  <a:lnTo>
                    <a:pt x="7059" y="12855"/>
                  </a:lnTo>
                  <a:lnTo>
                    <a:pt x="6596" y="12855"/>
                  </a:lnTo>
                  <a:lnTo>
                    <a:pt x="6018" y="12739"/>
                  </a:lnTo>
                  <a:lnTo>
                    <a:pt x="5555" y="12739"/>
                  </a:lnTo>
                  <a:lnTo>
                    <a:pt x="5092" y="12624"/>
                  </a:lnTo>
                  <a:lnTo>
                    <a:pt x="4513" y="12508"/>
                  </a:lnTo>
                  <a:lnTo>
                    <a:pt x="4166" y="12276"/>
                  </a:lnTo>
                  <a:lnTo>
                    <a:pt x="3703" y="12044"/>
                  </a:lnTo>
                  <a:lnTo>
                    <a:pt x="3240" y="11813"/>
                  </a:lnTo>
                  <a:lnTo>
                    <a:pt x="3240" y="11813"/>
                  </a:lnTo>
                  <a:lnTo>
                    <a:pt x="2893" y="11234"/>
                  </a:lnTo>
                  <a:lnTo>
                    <a:pt x="2662" y="10539"/>
                  </a:lnTo>
                  <a:lnTo>
                    <a:pt x="2430" y="9960"/>
                  </a:lnTo>
                  <a:lnTo>
                    <a:pt x="2199" y="9265"/>
                  </a:lnTo>
                  <a:lnTo>
                    <a:pt x="1851" y="8686"/>
                  </a:lnTo>
                  <a:lnTo>
                    <a:pt x="1504" y="8107"/>
                  </a:lnTo>
                  <a:lnTo>
                    <a:pt x="926" y="7644"/>
                  </a:lnTo>
                  <a:lnTo>
                    <a:pt x="231" y="7412"/>
                  </a:lnTo>
                  <a:lnTo>
                    <a:pt x="231" y="7412"/>
                  </a:lnTo>
                  <a:lnTo>
                    <a:pt x="115" y="7296"/>
                  </a:lnTo>
                  <a:lnTo>
                    <a:pt x="115" y="7296"/>
                  </a:lnTo>
                  <a:lnTo>
                    <a:pt x="0" y="7180"/>
                  </a:lnTo>
                  <a:lnTo>
                    <a:pt x="0" y="7065"/>
                  </a:lnTo>
                  <a:lnTo>
                    <a:pt x="0" y="6949"/>
                  </a:lnTo>
                  <a:lnTo>
                    <a:pt x="0" y="6833"/>
                  </a:lnTo>
                  <a:lnTo>
                    <a:pt x="0" y="6717"/>
                  </a:lnTo>
                  <a:lnTo>
                    <a:pt x="0" y="6601"/>
                  </a:lnTo>
                  <a:lnTo>
                    <a:pt x="0" y="6601"/>
                  </a:lnTo>
                  <a:lnTo>
                    <a:pt x="231" y="6370"/>
                  </a:lnTo>
                  <a:lnTo>
                    <a:pt x="463" y="6138"/>
                  </a:lnTo>
                  <a:lnTo>
                    <a:pt x="810" y="6022"/>
                  </a:lnTo>
                  <a:lnTo>
                    <a:pt x="1157" y="5907"/>
                  </a:lnTo>
                  <a:lnTo>
                    <a:pt x="1504" y="5907"/>
                  </a:lnTo>
                  <a:lnTo>
                    <a:pt x="1851" y="5791"/>
                  </a:lnTo>
                  <a:lnTo>
                    <a:pt x="2199" y="5675"/>
                  </a:lnTo>
                  <a:lnTo>
                    <a:pt x="2430" y="5559"/>
                  </a:lnTo>
                  <a:lnTo>
                    <a:pt x="2430" y="5559"/>
                  </a:lnTo>
                  <a:lnTo>
                    <a:pt x="3009" y="5328"/>
                  </a:lnTo>
                  <a:lnTo>
                    <a:pt x="3472" y="4980"/>
                  </a:lnTo>
                  <a:lnTo>
                    <a:pt x="3935" y="4633"/>
                  </a:lnTo>
                  <a:lnTo>
                    <a:pt x="4398" y="4285"/>
                  </a:lnTo>
                  <a:lnTo>
                    <a:pt x="4860" y="3822"/>
                  </a:lnTo>
                  <a:lnTo>
                    <a:pt x="5323" y="3475"/>
                  </a:lnTo>
                  <a:lnTo>
                    <a:pt x="5671" y="3011"/>
                  </a:lnTo>
                  <a:lnTo>
                    <a:pt x="6018" y="2432"/>
                  </a:lnTo>
                  <a:lnTo>
                    <a:pt x="6018" y="2432"/>
                  </a:lnTo>
                  <a:lnTo>
                    <a:pt x="6018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249" y="2548"/>
                  </a:lnTo>
                  <a:lnTo>
                    <a:pt x="6249" y="2548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201"/>
                  </a:lnTo>
                  <a:lnTo>
                    <a:pt x="6134" y="1969"/>
                  </a:lnTo>
                  <a:lnTo>
                    <a:pt x="6018" y="1737"/>
                  </a:lnTo>
                  <a:lnTo>
                    <a:pt x="5902" y="1506"/>
                  </a:lnTo>
                  <a:lnTo>
                    <a:pt x="5786" y="1274"/>
                  </a:lnTo>
                  <a:lnTo>
                    <a:pt x="5671" y="1043"/>
                  </a:lnTo>
                  <a:lnTo>
                    <a:pt x="5555" y="811"/>
                  </a:lnTo>
                  <a:lnTo>
                    <a:pt x="5439" y="579"/>
                  </a:lnTo>
                  <a:lnTo>
                    <a:pt x="5439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811"/>
                  </a:lnTo>
                  <a:lnTo>
                    <a:pt x="5671" y="811"/>
                  </a:lnTo>
                  <a:lnTo>
                    <a:pt x="5786" y="811"/>
                  </a:lnTo>
                  <a:lnTo>
                    <a:pt x="5786" y="811"/>
                  </a:lnTo>
                  <a:lnTo>
                    <a:pt x="5902" y="695"/>
                  </a:lnTo>
                  <a:lnTo>
                    <a:pt x="6018" y="579"/>
                  </a:lnTo>
                  <a:lnTo>
                    <a:pt x="6249" y="464"/>
                  </a:lnTo>
                  <a:lnTo>
                    <a:pt x="6365" y="348"/>
                  </a:lnTo>
                  <a:lnTo>
                    <a:pt x="6481" y="232"/>
                  </a:lnTo>
                  <a:lnTo>
                    <a:pt x="6712" y="116"/>
                  </a:lnTo>
                  <a:lnTo>
                    <a:pt x="6828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0" name=""/>
          <p:cNvSpPr/>
          <p:nvPr/>
        </p:nvSpPr>
        <p:spPr>
          <a:xfrm>
            <a:off x="685800" y="1219320"/>
            <a:ext cx="758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We have seen how t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2209680" y="1828800"/>
            <a:ext cx="6400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termine the degree of a polynomial and write it with terms in descending order of deg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2" name="" descr=""/>
          <p:cNvPicPr/>
          <p:nvPr/>
        </p:nvPicPr>
        <p:blipFill>
          <a:blip r:embed="rId1"/>
          <a:stretch/>
        </p:blipFill>
        <p:spPr>
          <a:xfrm>
            <a:off x="3276720" y="3408480"/>
            <a:ext cx="4038480" cy="29923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123" dur="indefinite" restart="never" nodeType="tmRoot">
          <p:childTnLst>
            <p:seq>
              <p:cTn id="1124" dur="indefinite" nodeType="mainSeq">
                <p:childTnLst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9" dur="500" fill="hold"/>
                                        <p:tgtEl>
                                          <p:spTgt spid="1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0" dur="500" fill="hold"/>
                                        <p:tgtEl>
                                          <p:spTgt spid="1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1" fill="hold">
                      <p:stCondLst>
                        <p:cond delay="indefinite"/>
                      </p:stCondLst>
                      <p:childTnLst>
                        <p:par>
                          <p:cTn id="1132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5" dur="500"/>
                                        <p:tgtEl>
                                          <p:spTgt spid="1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3" name=""/>
          <p:cNvGrpSpPr/>
          <p:nvPr/>
        </p:nvGrpSpPr>
        <p:grpSpPr>
          <a:xfrm>
            <a:off x="1447920" y="1600200"/>
            <a:ext cx="5105160" cy="3124080"/>
            <a:chOff x="1447920" y="1600200"/>
            <a:chExt cx="5105160" cy="3124080"/>
          </a:xfrm>
        </p:grpSpPr>
        <p:sp>
          <p:nvSpPr>
            <p:cNvPr id="1104" name=""/>
            <p:cNvSpPr/>
            <p:nvPr/>
          </p:nvSpPr>
          <p:spPr>
            <a:xfrm>
              <a:off x="4495680" y="1600200"/>
              <a:ext cx="2057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Next…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05" name=""/>
            <p:cNvGrpSpPr/>
            <p:nvPr/>
          </p:nvGrpSpPr>
          <p:grpSpPr>
            <a:xfrm>
              <a:off x="1447920" y="3951000"/>
              <a:ext cx="1829160" cy="773280"/>
              <a:chOff x="1447920" y="3951000"/>
              <a:chExt cx="1829160" cy="773280"/>
            </a:xfrm>
          </p:grpSpPr>
          <p:cxnSp>
            <p:nvCxnSpPr>
              <p:cNvPr id="1106" name=""/>
              <p:cNvCxnSpPr/>
              <p:nvPr/>
            </p:nvCxnSpPr>
            <p:spPr>
              <a:xfrm flipH="1" rot="16200000">
                <a:off x="1975680" y="3422880"/>
                <a:ext cx="773640" cy="1829520"/>
              </a:xfrm>
              <a:prstGeom prst="curvedConnector2">
                <a:avLst/>
              </a:prstGeom>
              <a:ln w="38160">
                <a:solidFill>
                  <a:srgbClr val="000000"/>
                </a:solidFill>
                <a:miter/>
              </a:ln>
            </p:spPr>
          </p:cxnSp>
          <p:sp>
            <p:nvSpPr>
              <p:cNvPr id="1107" name=""/>
              <p:cNvSpPr/>
              <p:nvPr/>
            </p:nvSpPr>
            <p:spPr>
              <a:xfrm>
                <a:off x="2876760" y="4719600"/>
                <a:ext cx="399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108" name="" descr=""/>
          <p:cNvPicPr/>
          <p:nvPr/>
        </p:nvPicPr>
        <p:blipFill>
          <a:blip r:embed="rId1"/>
          <a:stretch/>
        </p:blipFill>
        <p:spPr>
          <a:xfrm>
            <a:off x="609480" y="1371600"/>
            <a:ext cx="3429000" cy="2567160"/>
          </a:xfrm>
          <a:prstGeom prst="rect">
            <a:avLst/>
          </a:prstGeom>
          <a:ln w="0">
            <a:noFill/>
          </a:ln>
        </p:spPr>
      </p:pic>
      <p:pic>
        <p:nvPicPr>
          <p:cNvPr id="1109" name="" descr=""/>
          <p:cNvPicPr/>
          <p:nvPr/>
        </p:nvPicPr>
        <p:blipFill>
          <a:blip r:embed="rId2"/>
          <a:stretch/>
        </p:blipFill>
        <p:spPr>
          <a:xfrm>
            <a:off x="3276720" y="2511360"/>
            <a:ext cx="5105160" cy="387180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  <p:timing>
    <p:tnLst>
      <p:par>
        <p:cTn id="1136" dur="indefinite" restart="never" nodeType="tmRoot">
          <p:childTnLst>
            <p:seq>
              <p:cTn id="1137" dur="indefinite" nodeType="mainSeq">
                <p:childTnLst>
                  <p:par>
                    <p:cTn id="1138" fill="hold">
                      <p:stCondLst>
                        <p:cond delay="indefinite"/>
                      </p:stCondLst>
                      <p:childTnLst>
                        <p:par>
                          <p:cTn id="1139" fill="hold">
                            <p:stCondLst>
                              <p:cond delay="0"/>
                            </p:stCondLst>
                            <p:childTnLst>
                              <p:par>
                                <p:cTn id="11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2" dur="500"/>
                                        <p:tgtEl>
                                          <p:spTgt spid="1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3" fill="hold">
                      <p:stCondLst>
                        <p:cond delay="indefinite"/>
                      </p:stCondLst>
                      <p:childTnLst>
                        <p:par>
                          <p:cTn id="1144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7" dur="500"/>
                                        <p:tgtEl>
                                          <p:spTgt spid="1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2362320" y="685800"/>
            <a:ext cx="441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quations/Express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048120" y="1523880"/>
            <a:ext cx="4114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00cc"/>
                </a:solidFill>
                <a:latin typeface="Comic Sans MS"/>
              </a:rPr>
              <a:t>Express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914400" y="2514600"/>
            <a:ext cx="7315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mathematical relationship without an equal sig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9" name=""/>
              <p:cNvSpPr txBox="1"/>
              <p:nvPr/>
            </p:nvSpPr>
            <p:spPr>
              <a:xfrm>
                <a:off x="2039760" y="3956040"/>
                <a:ext cx="2171880" cy="13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9</m:t>
                        </m:r>
                        <m:r>
                          <m:t xml:space="preserve">c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2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40" name=""/>
          <p:cNvGrpSpPr/>
          <p:nvPr/>
        </p:nvGrpSpPr>
        <p:grpSpPr>
          <a:xfrm>
            <a:off x="457200" y="3429000"/>
            <a:ext cx="8305920" cy="2730240"/>
            <a:chOff x="457200" y="3429000"/>
            <a:chExt cx="8305920" cy="2730240"/>
          </a:xfrm>
        </p:grpSpPr>
        <p:pic>
          <p:nvPicPr>
            <p:cNvPr id="241" name="" descr=""/>
            <p:cNvPicPr/>
            <p:nvPr/>
          </p:nvPicPr>
          <p:blipFill>
            <a:blip r:embed="rId1"/>
            <a:stretch/>
          </p:blipFill>
          <p:spPr>
            <a:xfrm>
              <a:off x="5702760" y="3429000"/>
              <a:ext cx="2331360" cy="243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2" name=""/>
            <p:cNvSpPr/>
            <p:nvPr/>
          </p:nvSpPr>
          <p:spPr>
            <a:xfrm>
              <a:off x="457200" y="5638680"/>
              <a:ext cx="8305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   </a:t>
              </a: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(Fahrenheit temperature in terms of Celsius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3505320" y="5018040"/>
            <a:ext cx="2057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=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6000" spc="-1" strike="noStrike">
                <a:solidFill>
                  <a:srgbClr val="6600cc"/>
                </a:solidFill>
                <a:latin typeface="Comic Sans MS"/>
              </a:rPr>
              <a:t>-25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362320" y="685800"/>
            <a:ext cx="441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quations/Express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838080" y="1523880"/>
            <a:ext cx="7620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00"/>
                </a:solidFill>
                <a:latin typeface="Comic Sans MS"/>
              </a:rPr>
              <a:t>Numeric Express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6" name=""/>
              <p:cNvSpPr txBox="1"/>
              <p:nvPr/>
            </p:nvSpPr>
            <p:spPr>
              <a:xfrm>
                <a:off x="1143000" y="4103640"/>
                <a:ext cx="6934320" cy="86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e>
                    </m:rad>
                    <m:r>
                      <m:t xml:space="preserve">−</m:t>
                    </m:r>
                    <m:r>
                      <m:t xml:space="preserve">5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(</m:t>
                        </m:r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[</m:t>
                        </m:r>
                        <m:sSup>
                          <m:e>
                            <m:r>
                              <m:t xml:space="preserve">4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÷</m:t>
                        </m:r>
                        <m:r>
                          <m:t xml:space="preserve">8</m:t>
                        </m:r>
                        <m:r>
                          <m:t xml:space="preserve">]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47" name=""/>
          <p:cNvSpPr/>
          <p:nvPr/>
        </p:nvSpPr>
        <p:spPr>
          <a:xfrm>
            <a:off x="838080" y="2590920"/>
            <a:ext cx="7620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ntains only numbers and can be evaluated as giv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2362320" y="685800"/>
            <a:ext cx="441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quations/Express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762120" y="1600200"/>
            <a:ext cx="7696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00"/>
                </a:solidFill>
                <a:latin typeface="Comic Sans MS"/>
              </a:rPr>
              <a:t>Algebraic Express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762120" y="2666880"/>
            <a:ext cx="7924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ntains variables and cannot be evaluated unless given values for the unknow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371600" y="4572000"/>
            <a:ext cx="6172200" cy="1008360"/>
          </a:xfrm>
          <a:prstGeom prst="rect">
            <a:avLst/>
          </a:prstGeom>
          <a:noFill/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6000" spc="-1" strike="noStrike">
                <a:solidFill>
                  <a:srgbClr val="006600"/>
                </a:solidFill>
                <a:latin typeface="Comic Sans MS"/>
              </a:rPr>
              <a:t>x</a:t>
            </a:r>
            <a:r>
              <a:rPr b="0" lang="en-US" sz="6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 – 2</a:t>
            </a:r>
            <a:r>
              <a:rPr b="0" lang="en-US" sz="6000" spc="-1" strike="noStrike">
                <a:solidFill>
                  <a:srgbClr val="006600"/>
                </a:solidFill>
                <a:latin typeface="Comic Sans MS"/>
              </a:rPr>
              <a:t>x</a:t>
            </a:r>
            <a:r>
              <a:rPr b="0" lang="en-US" sz="6000" spc="-1" strike="noStrike">
                <a:solidFill>
                  <a:srgbClr val="3333ff"/>
                </a:solidFill>
                <a:latin typeface="Comic Sans MS"/>
              </a:rPr>
              <a:t>y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 + 4</a:t>
            </a:r>
            <a:r>
              <a:rPr b="0" lang="en-US" sz="6000" spc="-1" strike="noStrike">
                <a:solidFill>
                  <a:srgbClr val="3333ff"/>
                </a:solidFill>
                <a:latin typeface="Comic Sans MS"/>
              </a:rPr>
              <a:t>y</a:t>
            </a:r>
            <a:r>
              <a:rPr b="0" lang="en-US" sz="6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03T23:15:18Z</dcterms:created>
  <dc:creator>Community Campus</dc:creator>
  <dc:description/>
  <dc:language>en-US</dc:language>
  <cp:lastModifiedBy>iddcws</cp:lastModifiedBy>
  <cp:lastPrinted>2001-10-01T15:58:25Z</cp:lastPrinted>
  <dcterms:modified xsi:type="dcterms:W3CDTF">2003-01-28T18:51:22Z</dcterms:modified>
  <cp:revision>153</cp:revision>
  <dc:subject/>
  <dc:title>PowerPoint Presentation</dc:title>
</cp:coreProperties>
</file>