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380880"/>
            <a:ext cx="9905760" cy="7696080"/>
          </a:xfrm>
          <a:prstGeom prst="rect">
            <a:avLst/>
          </a:prstGeom>
          <a:ln w="0">
            <a:noFill/>
          </a:ln>
        </p:spPr>
      </p:pic>
      <p:sp>
        <p:nvSpPr>
          <p:cNvPr id="1" name=""/>
          <p:cNvSpPr/>
          <p:nvPr/>
        </p:nvSpPr>
        <p:spPr>
          <a:xfrm>
            <a:off x="532800" y="457200"/>
            <a:ext cx="261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T086  Prealgebra</a:t>
            </a:r>
            <a:endParaRPr b="0" lang="en-US" sz="2000" spc="-1" strike="noStrike">
              <a:solidFill>
                <a:srgbClr val="000000"/>
              </a:solidFill>
              <a:latin typeface="Times New Roman"/>
            </a:endParaRPr>
          </a:p>
        </p:txBody>
      </p:sp>
      <p:sp>
        <p:nvSpPr>
          <p:cNvPr id="2" name=""/>
          <p:cNvSpPr/>
          <p:nvPr/>
        </p:nvSpPr>
        <p:spPr>
          <a:xfrm>
            <a:off x="6426720" y="457200"/>
            <a:ext cx="21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lass 10  Unit A </a:t>
            </a:r>
            <a:endParaRPr b="0" lang="en-US" sz="2000" spc="-1" strike="noStrike">
              <a:solidFill>
                <a:srgbClr val="000000"/>
              </a:solidFill>
              <a:latin typeface="Times New Roman"/>
            </a:endParaRPr>
          </a:p>
        </p:txBody>
      </p:sp>
      <p:sp>
        <p:nvSpPr>
          <p:cNvPr id="3" name="">
            <a:hlinkClick r:id="" action="ppaction://hlinkshowjump?jump=endshow"/>
          </p:cNvPr>
          <p:cNvSpPr/>
          <p:nvPr/>
        </p:nvSpPr>
        <p:spPr>
          <a:xfrm>
            <a:off x="0" y="0"/>
            <a:ext cx="1981080" cy="304920"/>
          </a:xfrm>
          <a:custGeom>
            <a:avLst/>
            <a:gdLst>
              <a:gd name="textAreaLeft" fmla="*/ 19440 w 1981080"/>
              <a:gd name="textAreaRight" fmla="*/ 1961640 w 1981080"/>
              <a:gd name="textAreaTop" fmla="*/ 19440 h 304920"/>
              <a:gd name="textAreaBottom" fmla="*/ 285480 h 304920"/>
            </a:gdLst>
            <a:ahLst/>
            <a:rect l="textAreaLeft" t="textAreaTop" r="textAreaRight" b="textAreaBottom"/>
            <a:pathLst>
              <a:path w="140196" h="21600">
                <a:moveTo>
                  <a:pt x="0" y="0"/>
                </a:moveTo>
                <a:lnTo>
                  <a:pt x="140196" y="0"/>
                </a:lnTo>
                <a:lnTo>
                  <a:pt x="140196" y="21600"/>
                </a:lnTo>
                <a:lnTo>
                  <a:pt x="0" y="21600"/>
                </a:lnTo>
                <a:close/>
              </a:path>
              <a:path fill="lightenLess" w="140196" h="21600">
                <a:moveTo>
                  <a:pt x="0" y="0"/>
                </a:moveTo>
                <a:lnTo>
                  <a:pt x="140196" y="0"/>
                </a:lnTo>
                <a:lnTo>
                  <a:pt x="138796" y="1400"/>
                </a:lnTo>
                <a:lnTo>
                  <a:pt x="1400" y="1400"/>
                </a:lnTo>
                <a:close/>
              </a:path>
              <a:path fill="darken" w="140196" h="21600">
                <a:moveTo>
                  <a:pt x="140196" y="0"/>
                </a:moveTo>
                <a:lnTo>
                  <a:pt x="140196" y="21600"/>
                </a:lnTo>
                <a:lnTo>
                  <a:pt x="138796" y="20200"/>
                </a:lnTo>
                <a:lnTo>
                  <a:pt x="138796" y="1400"/>
                </a:lnTo>
                <a:close/>
              </a:path>
              <a:path fill="darkenLess" w="140196" h="21600">
                <a:moveTo>
                  <a:pt x="140196" y="21600"/>
                </a:moveTo>
                <a:lnTo>
                  <a:pt x="0" y="21600"/>
                </a:lnTo>
                <a:lnTo>
                  <a:pt x="1400" y="20200"/>
                </a:lnTo>
                <a:lnTo>
                  <a:pt x="138796" y="20200"/>
                </a:lnTo>
                <a:close/>
              </a:path>
              <a:path fill="lighten" w="140196" h="21600">
                <a:moveTo>
                  <a:pt x="0" y="21600"/>
                </a:moveTo>
                <a:lnTo>
                  <a:pt x="0" y="0"/>
                </a:lnTo>
                <a:lnTo>
                  <a:pt x="1400" y="1400"/>
                </a:lnTo>
                <a:lnTo>
                  <a:pt x="1400" y="20200"/>
                </a:lnTo>
                <a:close/>
              </a:path>
            </a:pathLst>
          </a:cu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it to T O C</a:t>
            </a:r>
            <a:endParaRPr b="0" lang="en-US" sz="1800" spc="-1" strike="noStrike">
              <a:solidFill>
                <a:srgbClr val="000000"/>
              </a:solidFill>
              <a:latin typeface="Times New Roman"/>
            </a:endParaRPr>
          </a:p>
        </p:txBody>
      </p:sp>
      <p:sp>
        <p:nvSpPr>
          <p:cNvPr id="4" name=""/>
          <p:cNvSpPr/>
          <p:nvPr/>
        </p:nvSpPr>
        <p:spPr>
          <a:xfrm>
            <a:off x="2057400" y="6629400"/>
            <a:ext cx="5105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Pima Community College 2000</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
          <p:cNvSpPr/>
          <p:nvPr/>
        </p:nvSpPr>
        <p:spPr>
          <a:xfrm>
            <a:off x="2355840" y="233208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 name=""/>
          <p:cNvSpPr/>
          <p:nvPr/>
        </p:nvSpPr>
        <p:spPr>
          <a:xfrm>
            <a:off x="2155680" y="2268360"/>
            <a:ext cx="180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 name="" descr=""/>
          <p:cNvPicPr/>
          <p:nvPr/>
        </p:nvPicPr>
        <p:blipFill>
          <a:blip r:embed="rId1"/>
          <a:stretch/>
        </p:blipFill>
        <p:spPr>
          <a:xfrm>
            <a:off x="1209600" y="1219320"/>
            <a:ext cx="7324920" cy="4375080"/>
          </a:xfrm>
          <a:prstGeom prst="rect">
            <a:avLst/>
          </a:prstGeom>
          <a:ln w="0">
            <a:noFill/>
          </a:ln>
        </p:spPr>
      </p:pic>
      <p:sp>
        <p:nvSpPr>
          <p:cNvPr id="44" name=""/>
          <p:cNvSpPr txBox="1"/>
          <p:nvPr/>
        </p:nvSpPr>
        <p:spPr>
          <a:xfrm>
            <a:off x="2590920" y="2286000"/>
            <a:ext cx="4647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solidFill>
                  <a:srgbClr val="33cccc"/>
                </a:solidFill>
                <a:effectLst>
                  <a:outerShdw dist="40186" dir="1096358" blurRad="0" rotWithShape="0">
                    <a:srgbClr val="c0c0c0"/>
                  </a:outerShdw>
                </a:effectLst>
                <a:latin typeface="Comic Sans MS"/>
              </a:rPr>
              <a:t>Word Problems</a:t>
            </a:r>
            <a:endParaRPr b="0" lang="en-US" sz="4400" spc="1" strike="noStrike">
              <a:ln w="0">
                <a:noFill/>
              </a:ln>
              <a:solidFill>
                <a:srgbClr val="33cccc"/>
              </a:solidFill>
              <a:effectLst>
                <a:outerShdw dist="40186" dir="1096358" blurRad="0" rotWithShape="0">
                  <a:srgbClr val="c0c0c0"/>
                </a:outerShdw>
              </a:effectLst>
              <a:latin typeface="Comic Sans MS"/>
              <a:ea typeface="Comic Sans MS"/>
            </a:endParaRPr>
          </a:p>
        </p:txBody>
      </p:sp>
      <p:grpSp>
        <p:nvGrpSpPr>
          <p:cNvPr id="45" name=""/>
          <p:cNvGrpSpPr/>
          <p:nvPr/>
        </p:nvGrpSpPr>
        <p:grpSpPr>
          <a:xfrm>
            <a:off x="1209600" y="4662360"/>
            <a:ext cx="1981080" cy="1862280"/>
            <a:chOff x="1209600" y="4662360"/>
            <a:chExt cx="1981080" cy="1862280"/>
          </a:xfrm>
        </p:grpSpPr>
        <p:sp>
          <p:nvSpPr>
            <p:cNvPr id="46" name=""/>
            <p:cNvSpPr/>
            <p:nvPr/>
          </p:nvSpPr>
          <p:spPr>
            <a:xfrm>
              <a:off x="1209600" y="4662360"/>
              <a:ext cx="1981080" cy="1862280"/>
            </a:xfrm>
            <a:custGeom>
              <a:avLst/>
              <a:gdLst/>
              <a:ahLst/>
              <a:rect l="l" t="t" r="r" b="b"/>
              <a:pathLst>
                <a:path w="1980" h="2827">
                  <a:moveTo>
                    <a:pt x="1257" y="180"/>
                  </a:moveTo>
                  <a:lnTo>
                    <a:pt x="1250" y="184"/>
                  </a:lnTo>
                  <a:lnTo>
                    <a:pt x="1243" y="188"/>
                  </a:lnTo>
                  <a:lnTo>
                    <a:pt x="1236" y="194"/>
                  </a:lnTo>
                  <a:lnTo>
                    <a:pt x="1231" y="199"/>
                  </a:lnTo>
                  <a:lnTo>
                    <a:pt x="1224" y="205"/>
                  </a:lnTo>
                  <a:lnTo>
                    <a:pt x="1218" y="210"/>
                  </a:lnTo>
                  <a:lnTo>
                    <a:pt x="1214" y="216"/>
                  </a:lnTo>
                  <a:lnTo>
                    <a:pt x="1208" y="223"/>
                  </a:lnTo>
                  <a:lnTo>
                    <a:pt x="1226" y="232"/>
                  </a:lnTo>
                  <a:lnTo>
                    <a:pt x="1243" y="240"/>
                  </a:lnTo>
                  <a:lnTo>
                    <a:pt x="1260" y="248"/>
                  </a:lnTo>
                  <a:lnTo>
                    <a:pt x="1277" y="257"/>
                  </a:lnTo>
                  <a:lnTo>
                    <a:pt x="1293" y="264"/>
                  </a:lnTo>
                  <a:lnTo>
                    <a:pt x="1309" y="271"/>
                  </a:lnTo>
                  <a:lnTo>
                    <a:pt x="1324" y="278"/>
                  </a:lnTo>
                  <a:lnTo>
                    <a:pt x="1339" y="284"/>
                  </a:lnTo>
                  <a:lnTo>
                    <a:pt x="1402" y="309"/>
                  </a:lnTo>
                  <a:lnTo>
                    <a:pt x="1460" y="337"/>
                  </a:lnTo>
                  <a:lnTo>
                    <a:pt x="1510" y="366"/>
                  </a:lnTo>
                  <a:lnTo>
                    <a:pt x="1557" y="397"/>
                  </a:lnTo>
                  <a:lnTo>
                    <a:pt x="1596" y="431"/>
                  </a:lnTo>
                  <a:lnTo>
                    <a:pt x="1631" y="466"/>
                  </a:lnTo>
                  <a:lnTo>
                    <a:pt x="1661" y="503"/>
                  </a:lnTo>
                  <a:lnTo>
                    <a:pt x="1687" y="541"/>
                  </a:lnTo>
                  <a:lnTo>
                    <a:pt x="1710" y="582"/>
                  </a:lnTo>
                  <a:lnTo>
                    <a:pt x="1728" y="622"/>
                  </a:lnTo>
                  <a:lnTo>
                    <a:pt x="1744" y="664"/>
                  </a:lnTo>
                  <a:lnTo>
                    <a:pt x="1755" y="708"/>
                  </a:lnTo>
                  <a:lnTo>
                    <a:pt x="1765" y="753"/>
                  </a:lnTo>
                  <a:lnTo>
                    <a:pt x="1772" y="798"/>
                  </a:lnTo>
                  <a:lnTo>
                    <a:pt x="1778" y="844"/>
                  </a:lnTo>
                  <a:lnTo>
                    <a:pt x="1781" y="892"/>
                  </a:lnTo>
                  <a:lnTo>
                    <a:pt x="1781" y="895"/>
                  </a:lnTo>
                  <a:lnTo>
                    <a:pt x="1781" y="898"/>
                  </a:lnTo>
                  <a:lnTo>
                    <a:pt x="1781" y="902"/>
                  </a:lnTo>
                  <a:lnTo>
                    <a:pt x="1781" y="905"/>
                  </a:lnTo>
                  <a:lnTo>
                    <a:pt x="1783" y="905"/>
                  </a:lnTo>
                  <a:lnTo>
                    <a:pt x="1787" y="905"/>
                  </a:lnTo>
                  <a:lnTo>
                    <a:pt x="1789" y="905"/>
                  </a:lnTo>
                  <a:lnTo>
                    <a:pt x="1791" y="906"/>
                  </a:lnTo>
                  <a:lnTo>
                    <a:pt x="1802" y="908"/>
                  </a:lnTo>
                  <a:lnTo>
                    <a:pt x="1812" y="910"/>
                  </a:lnTo>
                  <a:lnTo>
                    <a:pt x="1820" y="913"/>
                  </a:lnTo>
                  <a:lnTo>
                    <a:pt x="1828" y="916"/>
                  </a:lnTo>
                  <a:lnTo>
                    <a:pt x="1834" y="920"/>
                  </a:lnTo>
                  <a:lnTo>
                    <a:pt x="1838" y="925"/>
                  </a:lnTo>
                  <a:lnTo>
                    <a:pt x="1842" y="927"/>
                  </a:lnTo>
                  <a:lnTo>
                    <a:pt x="1844" y="932"/>
                  </a:lnTo>
                  <a:lnTo>
                    <a:pt x="1849" y="916"/>
                  </a:lnTo>
                  <a:lnTo>
                    <a:pt x="1854" y="902"/>
                  </a:lnTo>
                  <a:lnTo>
                    <a:pt x="1860" y="889"/>
                  </a:lnTo>
                  <a:lnTo>
                    <a:pt x="1867" y="878"/>
                  </a:lnTo>
                  <a:lnTo>
                    <a:pt x="1874" y="868"/>
                  </a:lnTo>
                  <a:lnTo>
                    <a:pt x="1881" y="861"/>
                  </a:lnTo>
                  <a:lnTo>
                    <a:pt x="1890" y="856"/>
                  </a:lnTo>
                  <a:lnTo>
                    <a:pt x="1898" y="853"/>
                  </a:lnTo>
                  <a:lnTo>
                    <a:pt x="1898" y="903"/>
                  </a:lnTo>
                  <a:lnTo>
                    <a:pt x="1888" y="909"/>
                  </a:lnTo>
                  <a:lnTo>
                    <a:pt x="1879" y="918"/>
                  </a:lnTo>
                  <a:lnTo>
                    <a:pt x="1871" y="929"/>
                  </a:lnTo>
                  <a:lnTo>
                    <a:pt x="1863" y="944"/>
                  </a:lnTo>
                  <a:lnTo>
                    <a:pt x="1858" y="961"/>
                  </a:lnTo>
                  <a:lnTo>
                    <a:pt x="1853" y="979"/>
                  </a:lnTo>
                  <a:lnTo>
                    <a:pt x="1850" y="1000"/>
                  </a:lnTo>
                  <a:lnTo>
                    <a:pt x="1849" y="1023"/>
                  </a:lnTo>
                  <a:lnTo>
                    <a:pt x="1849" y="1024"/>
                  </a:lnTo>
                  <a:lnTo>
                    <a:pt x="1850" y="1024"/>
                  </a:lnTo>
                  <a:lnTo>
                    <a:pt x="1850" y="1026"/>
                  </a:lnTo>
                  <a:lnTo>
                    <a:pt x="1850" y="1027"/>
                  </a:lnTo>
                  <a:lnTo>
                    <a:pt x="1859" y="1052"/>
                  </a:lnTo>
                  <a:lnTo>
                    <a:pt x="1865" y="1076"/>
                  </a:lnTo>
                  <a:lnTo>
                    <a:pt x="1870" y="1099"/>
                  </a:lnTo>
                  <a:lnTo>
                    <a:pt x="1873" y="1120"/>
                  </a:lnTo>
                  <a:lnTo>
                    <a:pt x="1877" y="1126"/>
                  </a:lnTo>
                  <a:lnTo>
                    <a:pt x="1880" y="1130"/>
                  </a:lnTo>
                  <a:lnTo>
                    <a:pt x="1885" y="1133"/>
                  </a:lnTo>
                  <a:lnTo>
                    <a:pt x="1889" y="1137"/>
                  </a:lnTo>
                  <a:lnTo>
                    <a:pt x="1893" y="1140"/>
                  </a:lnTo>
                  <a:lnTo>
                    <a:pt x="1897" y="1141"/>
                  </a:lnTo>
                  <a:lnTo>
                    <a:pt x="1903" y="1142"/>
                  </a:lnTo>
                  <a:lnTo>
                    <a:pt x="1907" y="1142"/>
                  </a:lnTo>
                  <a:lnTo>
                    <a:pt x="1918" y="1140"/>
                  </a:lnTo>
                  <a:lnTo>
                    <a:pt x="1930" y="1133"/>
                  </a:lnTo>
                  <a:lnTo>
                    <a:pt x="1939" y="1121"/>
                  </a:lnTo>
                  <a:lnTo>
                    <a:pt x="1948" y="1107"/>
                  </a:lnTo>
                  <a:lnTo>
                    <a:pt x="1955" y="1090"/>
                  </a:lnTo>
                  <a:lnTo>
                    <a:pt x="1960" y="1069"/>
                  </a:lnTo>
                  <a:lnTo>
                    <a:pt x="1964" y="1047"/>
                  </a:lnTo>
                  <a:lnTo>
                    <a:pt x="1965" y="1023"/>
                  </a:lnTo>
                  <a:lnTo>
                    <a:pt x="1964" y="999"/>
                  </a:lnTo>
                  <a:lnTo>
                    <a:pt x="1960" y="977"/>
                  </a:lnTo>
                  <a:lnTo>
                    <a:pt x="1955" y="955"/>
                  </a:lnTo>
                  <a:lnTo>
                    <a:pt x="1948" y="937"/>
                  </a:lnTo>
                  <a:lnTo>
                    <a:pt x="1939" y="923"/>
                  </a:lnTo>
                  <a:lnTo>
                    <a:pt x="1930" y="912"/>
                  </a:lnTo>
                  <a:lnTo>
                    <a:pt x="1918" y="905"/>
                  </a:lnTo>
                  <a:lnTo>
                    <a:pt x="1907" y="902"/>
                  </a:lnTo>
                  <a:lnTo>
                    <a:pt x="1905" y="902"/>
                  </a:lnTo>
                  <a:lnTo>
                    <a:pt x="1903" y="902"/>
                  </a:lnTo>
                  <a:lnTo>
                    <a:pt x="1900" y="903"/>
                  </a:lnTo>
                  <a:lnTo>
                    <a:pt x="1898" y="903"/>
                  </a:lnTo>
                  <a:lnTo>
                    <a:pt x="1898" y="853"/>
                  </a:lnTo>
                  <a:lnTo>
                    <a:pt x="1900" y="853"/>
                  </a:lnTo>
                  <a:lnTo>
                    <a:pt x="1903" y="851"/>
                  </a:lnTo>
                  <a:lnTo>
                    <a:pt x="1905" y="851"/>
                  </a:lnTo>
                  <a:lnTo>
                    <a:pt x="1907" y="851"/>
                  </a:lnTo>
                  <a:lnTo>
                    <a:pt x="1922" y="854"/>
                  </a:lnTo>
                  <a:lnTo>
                    <a:pt x="1935" y="864"/>
                  </a:lnTo>
                  <a:lnTo>
                    <a:pt x="1948" y="881"/>
                  </a:lnTo>
                  <a:lnTo>
                    <a:pt x="1959" y="901"/>
                  </a:lnTo>
                  <a:lnTo>
                    <a:pt x="1968" y="927"/>
                  </a:lnTo>
                  <a:lnTo>
                    <a:pt x="1975" y="955"/>
                  </a:lnTo>
                  <a:lnTo>
                    <a:pt x="1979" y="988"/>
                  </a:lnTo>
                  <a:lnTo>
                    <a:pt x="1980" y="1023"/>
                  </a:lnTo>
                  <a:lnTo>
                    <a:pt x="1979" y="1057"/>
                  </a:lnTo>
                  <a:lnTo>
                    <a:pt x="1975" y="1089"/>
                  </a:lnTo>
                  <a:lnTo>
                    <a:pt x="1968" y="1119"/>
                  </a:lnTo>
                  <a:lnTo>
                    <a:pt x="1959" y="1144"/>
                  </a:lnTo>
                  <a:lnTo>
                    <a:pt x="1948" y="1165"/>
                  </a:lnTo>
                  <a:lnTo>
                    <a:pt x="1935" y="1180"/>
                  </a:lnTo>
                  <a:lnTo>
                    <a:pt x="1922" y="1192"/>
                  </a:lnTo>
                  <a:lnTo>
                    <a:pt x="1907" y="1194"/>
                  </a:lnTo>
                  <a:lnTo>
                    <a:pt x="1899" y="1193"/>
                  </a:lnTo>
                  <a:lnTo>
                    <a:pt x="1891" y="1190"/>
                  </a:lnTo>
                  <a:lnTo>
                    <a:pt x="1884" y="1186"/>
                  </a:lnTo>
                  <a:lnTo>
                    <a:pt x="1877" y="1179"/>
                  </a:lnTo>
                  <a:lnTo>
                    <a:pt x="1876" y="1189"/>
                  </a:lnTo>
                  <a:lnTo>
                    <a:pt x="1876" y="1194"/>
                  </a:lnTo>
                  <a:lnTo>
                    <a:pt x="1876" y="1199"/>
                  </a:lnTo>
                  <a:lnTo>
                    <a:pt x="1876" y="1200"/>
                  </a:lnTo>
                  <a:lnTo>
                    <a:pt x="1878" y="1203"/>
                  </a:lnTo>
                  <a:lnTo>
                    <a:pt x="1884" y="1213"/>
                  </a:lnTo>
                  <a:lnTo>
                    <a:pt x="1891" y="1225"/>
                  </a:lnTo>
                  <a:lnTo>
                    <a:pt x="1899" y="1242"/>
                  </a:lnTo>
                  <a:lnTo>
                    <a:pt x="1906" y="1259"/>
                  </a:lnTo>
                  <a:lnTo>
                    <a:pt x="1909" y="1276"/>
                  </a:lnTo>
                  <a:lnTo>
                    <a:pt x="1908" y="1293"/>
                  </a:lnTo>
                  <a:lnTo>
                    <a:pt x="1902" y="1306"/>
                  </a:lnTo>
                  <a:lnTo>
                    <a:pt x="1895" y="1310"/>
                  </a:lnTo>
                  <a:lnTo>
                    <a:pt x="1884" y="1313"/>
                  </a:lnTo>
                  <a:lnTo>
                    <a:pt x="1869" y="1315"/>
                  </a:lnTo>
                  <a:lnTo>
                    <a:pt x="1851" y="1315"/>
                  </a:lnTo>
                  <a:lnTo>
                    <a:pt x="1832" y="1315"/>
                  </a:lnTo>
                  <a:lnTo>
                    <a:pt x="1810" y="1314"/>
                  </a:lnTo>
                  <a:lnTo>
                    <a:pt x="1789" y="1313"/>
                  </a:lnTo>
                  <a:lnTo>
                    <a:pt x="1766" y="1310"/>
                  </a:lnTo>
                  <a:lnTo>
                    <a:pt x="1764" y="1320"/>
                  </a:lnTo>
                  <a:lnTo>
                    <a:pt x="1763" y="1329"/>
                  </a:lnTo>
                  <a:lnTo>
                    <a:pt x="1761" y="1341"/>
                  </a:lnTo>
                  <a:lnTo>
                    <a:pt x="1758" y="1351"/>
                  </a:lnTo>
                  <a:lnTo>
                    <a:pt x="1740" y="1436"/>
                  </a:lnTo>
                  <a:lnTo>
                    <a:pt x="1729" y="1516"/>
                  </a:lnTo>
                  <a:lnTo>
                    <a:pt x="1723" y="1594"/>
                  </a:lnTo>
                  <a:lnTo>
                    <a:pt x="1721" y="1668"/>
                  </a:lnTo>
                  <a:lnTo>
                    <a:pt x="1723" y="1737"/>
                  </a:lnTo>
                  <a:lnTo>
                    <a:pt x="1727" y="1802"/>
                  </a:lnTo>
                  <a:lnTo>
                    <a:pt x="1732" y="1862"/>
                  </a:lnTo>
                  <a:lnTo>
                    <a:pt x="1738" y="1918"/>
                  </a:lnTo>
                  <a:lnTo>
                    <a:pt x="1740" y="1935"/>
                  </a:lnTo>
                  <a:lnTo>
                    <a:pt x="1743" y="1952"/>
                  </a:lnTo>
                  <a:lnTo>
                    <a:pt x="1745" y="1968"/>
                  </a:lnTo>
                  <a:lnTo>
                    <a:pt x="1748" y="1982"/>
                  </a:lnTo>
                  <a:lnTo>
                    <a:pt x="1750" y="1993"/>
                  </a:lnTo>
                  <a:lnTo>
                    <a:pt x="1754" y="2004"/>
                  </a:lnTo>
                  <a:lnTo>
                    <a:pt x="1756" y="2015"/>
                  </a:lnTo>
                  <a:lnTo>
                    <a:pt x="1758" y="2027"/>
                  </a:lnTo>
                  <a:lnTo>
                    <a:pt x="1767" y="2029"/>
                  </a:lnTo>
                  <a:lnTo>
                    <a:pt x="1776" y="2032"/>
                  </a:lnTo>
                  <a:lnTo>
                    <a:pt x="1784" y="2037"/>
                  </a:lnTo>
                  <a:lnTo>
                    <a:pt x="1792" y="2041"/>
                  </a:lnTo>
                  <a:lnTo>
                    <a:pt x="1798" y="2048"/>
                  </a:lnTo>
                  <a:lnTo>
                    <a:pt x="1802" y="2055"/>
                  </a:lnTo>
                  <a:lnTo>
                    <a:pt x="1806" y="2063"/>
                  </a:lnTo>
                  <a:lnTo>
                    <a:pt x="1808" y="2073"/>
                  </a:lnTo>
                  <a:lnTo>
                    <a:pt x="1809" y="2096"/>
                  </a:lnTo>
                  <a:lnTo>
                    <a:pt x="1808" y="2117"/>
                  </a:lnTo>
                  <a:lnTo>
                    <a:pt x="1803" y="2138"/>
                  </a:lnTo>
                  <a:lnTo>
                    <a:pt x="1798" y="2156"/>
                  </a:lnTo>
                  <a:lnTo>
                    <a:pt x="1811" y="2197"/>
                  </a:lnTo>
                  <a:lnTo>
                    <a:pt x="1823" y="2238"/>
                  </a:lnTo>
                  <a:lnTo>
                    <a:pt x="1829" y="2275"/>
                  </a:lnTo>
                  <a:lnTo>
                    <a:pt x="1832" y="2312"/>
                  </a:lnTo>
                  <a:lnTo>
                    <a:pt x="1826" y="2347"/>
                  </a:lnTo>
                  <a:lnTo>
                    <a:pt x="1812" y="2381"/>
                  </a:lnTo>
                  <a:lnTo>
                    <a:pt x="1788" y="2412"/>
                  </a:lnTo>
                  <a:lnTo>
                    <a:pt x="1752" y="2441"/>
                  </a:lnTo>
                  <a:lnTo>
                    <a:pt x="1734" y="2454"/>
                  </a:lnTo>
                  <a:lnTo>
                    <a:pt x="1717" y="2464"/>
                  </a:lnTo>
                  <a:lnTo>
                    <a:pt x="1701" y="2474"/>
                  </a:lnTo>
                  <a:lnTo>
                    <a:pt x="1685" y="2481"/>
                  </a:lnTo>
                  <a:lnTo>
                    <a:pt x="1669" y="2488"/>
                  </a:lnTo>
                  <a:lnTo>
                    <a:pt x="1652" y="2493"/>
                  </a:lnTo>
                  <a:lnTo>
                    <a:pt x="1634" y="2498"/>
                  </a:lnTo>
                  <a:lnTo>
                    <a:pt x="1615" y="2500"/>
                  </a:lnTo>
                  <a:lnTo>
                    <a:pt x="1588" y="2744"/>
                  </a:lnTo>
                  <a:lnTo>
                    <a:pt x="1599" y="2794"/>
                  </a:lnTo>
                  <a:lnTo>
                    <a:pt x="1564" y="2801"/>
                  </a:lnTo>
                  <a:lnTo>
                    <a:pt x="1562" y="2803"/>
                  </a:lnTo>
                  <a:lnTo>
                    <a:pt x="1559" y="2805"/>
                  </a:lnTo>
                  <a:lnTo>
                    <a:pt x="1553" y="2808"/>
                  </a:lnTo>
                  <a:lnTo>
                    <a:pt x="1545" y="2812"/>
                  </a:lnTo>
                  <a:lnTo>
                    <a:pt x="1535" y="2817"/>
                  </a:lnTo>
                  <a:lnTo>
                    <a:pt x="1523" y="2821"/>
                  </a:lnTo>
                  <a:lnTo>
                    <a:pt x="1507" y="2824"/>
                  </a:lnTo>
                  <a:lnTo>
                    <a:pt x="1489" y="2827"/>
                  </a:lnTo>
                  <a:lnTo>
                    <a:pt x="1467" y="2827"/>
                  </a:lnTo>
                  <a:lnTo>
                    <a:pt x="1443" y="2824"/>
                  </a:lnTo>
                  <a:lnTo>
                    <a:pt x="1413" y="2820"/>
                  </a:lnTo>
                  <a:lnTo>
                    <a:pt x="1382" y="2811"/>
                  </a:lnTo>
                  <a:lnTo>
                    <a:pt x="1346" y="2800"/>
                  </a:lnTo>
                  <a:lnTo>
                    <a:pt x="1305" y="2784"/>
                  </a:lnTo>
                  <a:lnTo>
                    <a:pt x="1261" y="2765"/>
                  </a:lnTo>
                  <a:lnTo>
                    <a:pt x="1212" y="2739"/>
                  </a:lnTo>
                  <a:lnTo>
                    <a:pt x="1157" y="2710"/>
                  </a:lnTo>
                  <a:lnTo>
                    <a:pt x="1108" y="2683"/>
                  </a:lnTo>
                  <a:lnTo>
                    <a:pt x="1063" y="2658"/>
                  </a:lnTo>
                  <a:lnTo>
                    <a:pt x="1022" y="2634"/>
                  </a:lnTo>
                  <a:lnTo>
                    <a:pt x="985" y="2611"/>
                  </a:lnTo>
                  <a:lnTo>
                    <a:pt x="952" y="2592"/>
                  </a:lnTo>
                  <a:lnTo>
                    <a:pt x="923" y="2574"/>
                  </a:lnTo>
                  <a:lnTo>
                    <a:pt x="897" y="2558"/>
                  </a:lnTo>
                  <a:lnTo>
                    <a:pt x="874" y="2543"/>
                  </a:lnTo>
                  <a:lnTo>
                    <a:pt x="855" y="2530"/>
                  </a:lnTo>
                  <a:lnTo>
                    <a:pt x="840" y="2519"/>
                  </a:lnTo>
                  <a:lnTo>
                    <a:pt x="827" y="2510"/>
                  </a:lnTo>
                  <a:lnTo>
                    <a:pt x="817" y="2502"/>
                  </a:lnTo>
                  <a:lnTo>
                    <a:pt x="809" y="2496"/>
                  </a:lnTo>
                  <a:lnTo>
                    <a:pt x="805" y="2493"/>
                  </a:lnTo>
                  <a:lnTo>
                    <a:pt x="802" y="2491"/>
                  </a:lnTo>
                  <a:lnTo>
                    <a:pt x="697" y="2126"/>
                  </a:lnTo>
                  <a:lnTo>
                    <a:pt x="695" y="2134"/>
                  </a:lnTo>
                  <a:lnTo>
                    <a:pt x="692" y="2142"/>
                  </a:lnTo>
                  <a:lnTo>
                    <a:pt x="688" y="2150"/>
                  </a:lnTo>
                  <a:lnTo>
                    <a:pt x="684" y="2160"/>
                  </a:lnTo>
                  <a:lnTo>
                    <a:pt x="679" y="2169"/>
                  </a:lnTo>
                  <a:lnTo>
                    <a:pt x="675" y="2177"/>
                  </a:lnTo>
                  <a:lnTo>
                    <a:pt x="669" y="2186"/>
                  </a:lnTo>
                  <a:lnTo>
                    <a:pt x="663" y="2194"/>
                  </a:lnTo>
                  <a:lnTo>
                    <a:pt x="650" y="2209"/>
                  </a:lnTo>
                  <a:lnTo>
                    <a:pt x="635" y="2228"/>
                  </a:lnTo>
                  <a:lnTo>
                    <a:pt x="620" y="2247"/>
                  </a:lnTo>
                  <a:lnTo>
                    <a:pt x="604" y="2264"/>
                  </a:lnTo>
                  <a:lnTo>
                    <a:pt x="589" y="2281"/>
                  </a:lnTo>
                  <a:lnTo>
                    <a:pt x="577" y="2294"/>
                  </a:lnTo>
                  <a:lnTo>
                    <a:pt x="566" y="2304"/>
                  </a:lnTo>
                  <a:lnTo>
                    <a:pt x="558" y="2306"/>
                  </a:lnTo>
                  <a:lnTo>
                    <a:pt x="550" y="2306"/>
                  </a:lnTo>
                  <a:lnTo>
                    <a:pt x="540" y="2306"/>
                  </a:lnTo>
                  <a:lnTo>
                    <a:pt x="527" y="2306"/>
                  </a:lnTo>
                  <a:lnTo>
                    <a:pt x="515" y="2306"/>
                  </a:lnTo>
                  <a:lnTo>
                    <a:pt x="504" y="2306"/>
                  </a:lnTo>
                  <a:lnTo>
                    <a:pt x="493" y="2306"/>
                  </a:lnTo>
                  <a:lnTo>
                    <a:pt x="487" y="2306"/>
                  </a:lnTo>
                  <a:lnTo>
                    <a:pt x="484" y="2306"/>
                  </a:lnTo>
                  <a:lnTo>
                    <a:pt x="479" y="2228"/>
                  </a:lnTo>
                  <a:lnTo>
                    <a:pt x="458" y="2280"/>
                  </a:lnTo>
                  <a:lnTo>
                    <a:pt x="431" y="2273"/>
                  </a:lnTo>
                  <a:lnTo>
                    <a:pt x="431" y="2228"/>
                  </a:lnTo>
                  <a:lnTo>
                    <a:pt x="427" y="2228"/>
                  </a:lnTo>
                  <a:lnTo>
                    <a:pt x="413" y="2229"/>
                  </a:lnTo>
                  <a:lnTo>
                    <a:pt x="394" y="2228"/>
                  </a:lnTo>
                  <a:lnTo>
                    <a:pt x="372" y="2225"/>
                  </a:lnTo>
                  <a:lnTo>
                    <a:pt x="348" y="2219"/>
                  </a:lnTo>
                  <a:lnTo>
                    <a:pt x="325" y="2208"/>
                  </a:lnTo>
                  <a:lnTo>
                    <a:pt x="307" y="2191"/>
                  </a:lnTo>
                  <a:lnTo>
                    <a:pt x="295" y="2169"/>
                  </a:lnTo>
                  <a:lnTo>
                    <a:pt x="286" y="2136"/>
                  </a:lnTo>
                  <a:lnTo>
                    <a:pt x="277" y="2097"/>
                  </a:lnTo>
                  <a:lnTo>
                    <a:pt x="268" y="2051"/>
                  </a:lnTo>
                  <a:lnTo>
                    <a:pt x="263" y="2001"/>
                  </a:lnTo>
                  <a:lnTo>
                    <a:pt x="262" y="1952"/>
                  </a:lnTo>
                  <a:lnTo>
                    <a:pt x="269" y="1903"/>
                  </a:lnTo>
                  <a:lnTo>
                    <a:pt x="285" y="1859"/>
                  </a:lnTo>
                  <a:lnTo>
                    <a:pt x="311" y="1821"/>
                  </a:lnTo>
                  <a:lnTo>
                    <a:pt x="322" y="1810"/>
                  </a:lnTo>
                  <a:lnTo>
                    <a:pt x="334" y="1802"/>
                  </a:lnTo>
                  <a:lnTo>
                    <a:pt x="347" y="1793"/>
                  </a:lnTo>
                  <a:lnTo>
                    <a:pt x="359" y="1786"/>
                  </a:lnTo>
                  <a:lnTo>
                    <a:pt x="372" y="1779"/>
                  </a:lnTo>
                  <a:lnTo>
                    <a:pt x="385" y="1774"/>
                  </a:lnTo>
                  <a:lnTo>
                    <a:pt x="399" y="1769"/>
                  </a:lnTo>
                  <a:lnTo>
                    <a:pt x="412" y="1767"/>
                  </a:lnTo>
                  <a:lnTo>
                    <a:pt x="425" y="1764"/>
                  </a:lnTo>
                  <a:lnTo>
                    <a:pt x="438" y="1761"/>
                  </a:lnTo>
                  <a:lnTo>
                    <a:pt x="451" y="1760"/>
                  </a:lnTo>
                  <a:lnTo>
                    <a:pt x="463" y="1758"/>
                  </a:lnTo>
                  <a:lnTo>
                    <a:pt x="475" y="1758"/>
                  </a:lnTo>
                  <a:lnTo>
                    <a:pt x="487" y="1758"/>
                  </a:lnTo>
                  <a:lnTo>
                    <a:pt x="497" y="1758"/>
                  </a:lnTo>
                  <a:lnTo>
                    <a:pt x="507" y="1758"/>
                  </a:lnTo>
                  <a:lnTo>
                    <a:pt x="500" y="1755"/>
                  </a:lnTo>
                  <a:lnTo>
                    <a:pt x="491" y="1753"/>
                  </a:lnTo>
                  <a:lnTo>
                    <a:pt x="483" y="1750"/>
                  </a:lnTo>
                  <a:lnTo>
                    <a:pt x="473" y="1746"/>
                  </a:lnTo>
                  <a:lnTo>
                    <a:pt x="464" y="1741"/>
                  </a:lnTo>
                  <a:lnTo>
                    <a:pt x="453" y="1737"/>
                  </a:lnTo>
                  <a:lnTo>
                    <a:pt x="442" y="1731"/>
                  </a:lnTo>
                  <a:lnTo>
                    <a:pt x="429" y="1724"/>
                  </a:lnTo>
                  <a:lnTo>
                    <a:pt x="417" y="1717"/>
                  </a:lnTo>
                  <a:lnTo>
                    <a:pt x="402" y="1709"/>
                  </a:lnTo>
                  <a:lnTo>
                    <a:pt x="389" y="1701"/>
                  </a:lnTo>
                  <a:lnTo>
                    <a:pt x="373" y="1691"/>
                  </a:lnTo>
                  <a:lnTo>
                    <a:pt x="357" y="1679"/>
                  </a:lnTo>
                  <a:lnTo>
                    <a:pt x="340" y="1667"/>
                  </a:lnTo>
                  <a:lnTo>
                    <a:pt x="322" y="1654"/>
                  </a:lnTo>
                  <a:lnTo>
                    <a:pt x="304" y="1640"/>
                  </a:lnTo>
                  <a:lnTo>
                    <a:pt x="294" y="1632"/>
                  </a:lnTo>
                  <a:lnTo>
                    <a:pt x="285" y="1625"/>
                  </a:lnTo>
                  <a:lnTo>
                    <a:pt x="276" y="1616"/>
                  </a:lnTo>
                  <a:lnTo>
                    <a:pt x="268" y="1609"/>
                  </a:lnTo>
                  <a:lnTo>
                    <a:pt x="261" y="1601"/>
                  </a:lnTo>
                  <a:lnTo>
                    <a:pt x="253" y="1594"/>
                  </a:lnTo>
                  <a:lnTo>
                    <a:pt x="247" y="1587"/>
                  </a:lnTo>
                  <a:lnTo>
                    <a:pt x="241" y="1580"/>
                  </a:lnTo>
                  <a:lnTo>
                    <a:pt x="231" y="1580"/>
                  </a:lnTo>
                  <a:lnTo>
                    <a:pt x="227" y="1571"/>
                  </a:lnTo>
                  <a:lnTo>
                    <a:pt x="224" y="1563"/>
                  </a:lnTo>
                  <a:lnTo>
                    <a:pt x="219" y="1554"/>
                  </a:lnTo>
                  <a:lnTo>
                    <a:pt x="216" y="1544"/>
                  </a:lnTo>
                  <a:lnTo>
                    <a:pt x="212" y="1536"/>
                  </a:lnTo>
                  <a:lnTo>
                    <a:pt x="208" y="1528"/>
                  </a:lnTo>
                  <a:lnTo>
                    <a:pt x="205" y="1519"/>
                  </a:lnTo>
                  <a:lnTo>
                    <a:pt x="204" y="1512"/>
                  </a:lnTo>
                  <a:lnTo>
                    <a:pt x="157" y="1452"/>
                  </a:lnTo>
                  <a:lnTo>
                    <a:pt x="118" y="1384"/>
                  </a:lnTo>
                  <a:lnTo>
                    <a:pt x="84" y="1314"/>
                  </a:lnTo>
                  <a:lnTo>
                    <a:pt x="57" y="1238"/>
                  </a:lnTo>
                  <a:lnTo>
                    <a:pt x="35" y="1159"/>
                  </a:lnTo>
                  <a:lnTo>
                    <a:pt x="19" y="1078"/>
                  </a:lnTo>
                  <a:lnTo>
                    <a:pt x="8" y="993"/>
                  </a:lnTo>
                  <a:lnTo>
                    <a:pt x="2" y="909"/>
                  </a:lnTo>
                  <a:lnTo>
                    <a:pt x="0" y="825"/>
                  </a:lnTo>
                  <a:lnTo>
                    <a:pt x="3" y="740"/>
                  </a:lnTo>
                  <a:lnTo>
                    <a:pt x="11" y="657"/>
                  </a:lnTo>
                  <a:lnTo>
                    <a:pt x="22" y="577"/>
                  </a:lnTo>
                  <a:lnTo>
                    <a:pt x="38" y="499"/>
                  </a:lnTo>
                  <a:lnTo>
                    <a:pt x="58" y="426"/>
                  </a:lnTo>
                  <a:lnTo>
                    <a:pt x="81" y="355"/>
                  </a:lnTo>
                  <a:lnTo>
                    <a:pt x="107" y="291"/>
                  </a:lnTo>
                  <a:lnTo>
                    <a:pt x="123" y="261"/>
                  </a:lnTo>
                  <a:lnTo>
                    <a:pt x="143" y="229"/>
                  </a:lnTo>
                  <a:lnTo>
                    <a:pt x="169" y="198"/>
                  </a:lnTo>
                  <a:lnTo>
                    <a:pt x="199" y="167"/>
                  </a:lnTo>
                  <a:lnTo>
                    <a:pt x="233" y="136"/>
                  </a:lnTo>
                  <a:lnTo>
                    <a:pt x="271" y="108"/>
                  </a:lnTo>
                  <a:lnTo>
                    <a:pt x="314" y="81"/>
                  </a:lnTo>
                  <a:lnTo>
                    <a:pt x="359" y="57"/>
                  </a:lnTo>
                  <a:lnTo>
                    <a:pt x="409" y="36"/>
                  </a:lnTo>
                  <a:lnTo>
                    <a:pt x="461" y="21"/>
                  </a:lnTo>
                  <a:lnTo>
                    <a:pt x="515" y="8"/>
                  </a:lnTo>
                  <a:lnTo>
                    <a:pt x="571" y="1"/>
                  </a:lnTo>
                  <a:lnTo>
                    <a:pt x="631" y="0"/>
                  </a:lnTo>
                  <a:lnTo>
                    <a:pt x="692" y="5"/>
                  </a:lnTo>
                  <a:lnTo>
                    <a:pt x="754" y="16"/>
                  </a:lnTo>
                  <a:lnTo>
                    <a:pt x="818" y="36"/>
                  </a:lnTo>
                  <a:lnTo>
                    <a:pt x="837" y="43"/>
                  </a:lnTo>
                  <a:lnTo>
                    <a:pt x="855" y="50"/>
                  </a:lnTo>
                  <a:lnTo>
                    <a:pt x="873" y="57"/>
                  </a:lnTo>
                  <a:lnTo>
                    <a:pt x="893" y="64"/>
                  </a:lnTo>
                  <a:lnTo>
                    <a:pt x="909" y="73"/>
                  </a:lnTo>
                  <a:lnTo>
                    <a:pt x="927" y="80"/>
                  </a:lnTo>
                  <a:lnTo>
                    <a:pt x="944" y="88"/>
                  </a:lnTo>
                  <a:lnTo>
                    <a:pt x="961" y="95"/>
                  </a:lnTo>
                  <a:lnTo>
                    <a:pt x="978" y="104"/>
                  </a:lnTo>
                  <a:lnTo>
                    <a:pt x="995" y="112"/>
                  </a:lnTo>
                  <a:lnTo>
                    <a:pt x="1011" y="120"/>
                  </a:lnTo>
                  <a:lnTo>
                    <a:pt x="1028" y="127"/>
                  </a:lnTo>
                  <a:lnTo>
                    <a:pt x="1044" y="136"/>
                  </a:lnTo>
                  <a:lnTo>
                    <a:pt x="1059" y="144"/>
                  </a:lnTo>
                  <a:lnTo>
                    <a:pt x="1074" y="151"/>
                  </a:lnTo>
                  <a:lnTo>
                    <a:pt x="1090" y="160"/>
                  </a:lnTo>
                  <a:lnTo>
                    <a:pt x="1102" y="147"/>
                  </a:lnTo>
                  <a:lnTo>
                    <a:pt x="1116" y="136"/>
                  </a:lnTo>
                  <a:lnTo>
                    <a:pt x="1129" y="126"/>
                  </a:lnTo>
                  <a:lnTo>
                    <a:pt x="1144" y="116"/>
                  </a:lnTo>
                  <a:lnTo>
                    <a:pt x="1160" y="109"/>
                  </a:lnTo>
                  <a:lnTo>
                    <a:pt x="1177" y="102"/>
                  </a:lnTo>
                  <a:lnTo>
                    <a:pt x="1194" y="97"/>
                  </a:lnTo>
                  <a:lnTo>
                    <a:pt x="1212" y="94"/>
                  </a:lnTo>
                  <a:lnTo>
                    <a:pt x="1244" y="91"/>
                  </a:lnTo>
                  <a:lnTo>
                    <a:pt x="1267" y="95"/>
                  </a:lnTo>
                  <a:lnTo>
                    <a:pt x="1283" y="101"/>
                  </a:lnTo>
                  <a:lnTo>
                    <a:pt x="1292" y="111"/>
                  </a:lnTo>
                  <a:lnTo>
                    <a:pt x="1297" y="120"/>
                  </a:lnTo>
                  <a:lnTo>
                    <a:pt x="1298" y="130"/>
                  </a:lnTo>
                  <a:lnTo>
                    <a:pt x="1300" y="137"/>
                  </a:lnTo>
                  <a:lnTo>
                    <a:pt x="1300" y="142"/>
                  </a:lnTo>
                  <a:lnTo>
                    <a:pt x="1297" y="143"/>
                  </a:lnTo>
                  <a:lnTo>
                    <a:pt x="1302" y="142"/>
                  </a:lnTo>
                  <a:lnTo>
                    <a:pt x="1306" y="140"/>
                  </a:lnTo>
                  <a:lnTo>
                    <a:pt x="1312" y="139"/>
                  </a:lnTo>
                  <a:lnTo>
                    <a:pt x="1316" y="137"/>
                  </a:lnTo>
                  <a:lnTo>
                    <a:pt x="1322" y="136"/>
                  </a:lnTo>
                  <a:lnTo>
                    <a:pt x="1327" y="135"/>
                  </a:lnTo>
                  <a:lnTo>
                    <a:pt x="1332" y="133"/>
                  </a:lnTo>
                  <a:lnTo>
                    <a:pt x="1338" y="133"/>
                  </a:lnTo>
                  <a:lnTo>
                    <a:pt x="1373" y="133"/>
                  </a:lnTo>
                  <a:lnTo>
                    <a:pt x="1404" y="144"/>
                  </a:lnTo>
                  <a:lnTo>
                    <a:pt x="1430" y="161"/>
                  </a:lnTo>
                  <a:lnTo>
                    <a:pt x="1453" y="184"/>
                  </a:lnTo>
                  <a:lnTo>
                    <a:pt x="1470" y="206"/>
                  </a:lnTo>
                  <a:lnTo>
                    <a:pt x="1483" y="226"/>
                  </a:lnTo>
                  <a:lnTo>
                    <a:pt x="1491" y="241"/>
                  </a:lnTo>
                  <a:lnTo>
                    <a:pt x="1495" y="248"/>
                  </a:lnTo>
                  <a:lnTo>
                    <a:pt x="1467" y="267"/>
                  </a:lnTo>
                  <a:lnTo>
                    <a:pt x="1464" y="261"/>
                  </a:lnTo>
                  <a:lnTo>
                    <a:pt x="1454" y="248"/>
                  </a:lnTo>
                  <a:lnTo>
                    <a:pt x="1439" y="229"/>
                  </a:lnTo>
                  <a:lnTo>
                    <a:pt x="1419" y="209"/>
                  </a:lnTo>
                  <a:lnTo>
                    <a:pt x="1396" y="188"/>
                  </a:lnTo>
                  <a:lnTo>
                    <a:pt x="1371" y="171"/>
                  </a:lnTo>
                  <a:lnTo>
                    <a:pt x="1342" y="161"/>
                  </a:lnTo>
                  <a:lnTo>
                    <a:pt x="1313" y="160"/>
                  </a:lnTo>
                  <a:lnTo>
                    <a:pt x="1306" y="161"/>
                  </a:lnTo>
                  <a:lnTo>
                    <a:pt x="1298" y="163"/>
                  </a:lnTo>
                  <a:lnTo>
                    <a:pt x="1292" y="164"/>
                  </a:lnTo>
                  <a:lnTo>
                    <a:pt x="1284" y="167"/>
                  </a:lnTo>
                  <a:lnTo>
                    <a:pt x="1276" y="170"/>
                  </a:lnTo>
                  <a:lnTo>
                    <a:pt x="1269" y="172"/>
                  </a:lnTo>
                  <a:lnTo>
                    <a:pt x="1262" y="177"/>
                  </a:lnTo>
                  <a:lnTo>
                    <a:pt x="1257" y="180"/>
                  </a:lnTo>
                  <a:lnTo>
                    <a:pt x="1257" y="168"/>
                  </a:lnTo>
                  <a:lnTo>
                    <a:pt x="1280" y="150"/>
                  </a:lnTo>
                  <a:lnTo>
                    <a:pt x="1279" y="147"/>
                  </a:lnTo>
                  <a:lnTo>
                    <a:pt x="1277" y="143"/>
                  </a:lnTo>
                  <a:lnTo>
                    <a:pt x="1272" y="135"/>
                  </a:lnTo>
                  <a:lnTo>
                    <a:pt x="1266" y="126"/>
                  </a:lnTo>
                  <a:lnTo>
                    <a:pt x="1256" y="119"/>
                  </a:lnTo>
                  <a:lnTo>
                    <a:pt x="1242" y="113"/>
                  </a:lnTo>
                  <a:lnTo>
                    <a:pt x="1225" y="112"/>
                  </a:lnTo>
                  <a:lnTo>
                    <a:pt x="1204" y="115"/>
                  </a:lnTo>
                  <a:lnTo>
                    <a:pt x="1182" y="122"/>
                  </a:lnTo>
                  <a:lnTo>
                    <a:pt x="1163" y="132"/>
                  </a:lnTo>
                  <a:lnTo>
                    <a:pt x="1148" y="142"/>
                  </a:lnTo>
                  <a:lnTo>
                    <a:pt x="1135" y="150"/>
                  </a:lnTo>
                  <a:lnTo>
                    <a:pt x="1126" y="160"/>
                  </a:lnTo>
                  <a:lnTo>
                    <a:pt x="1119" y="167"/>
                  </a:lnTo>
                  <a:lnTo>
                    <a:pt x="1115" y="172"/>
                  </a:lnTo>
                  <a:lnTo>
                    <a:pt x="1113" y="174"/>
                  </a:lnTo>
                  <a:lnTo>
                    <a:pt x="1191" y="215"/>
                  </a:lnTo>
                  <a:lnTo>
                    <a:pt x="1192" y="213"/>
                  </a:lnTo>
                  <a:lnTo>
                    <a:pt x="1196" y="209"/>
                  </a:lnTo>
                  <a:lnTo>
                    <a:pt x="1201" y="205"/>
                  </a:lnTo>
                  <a:lnTo>
                    <a:pt x="1207" y="198"/>
                  </a:lnTo>
                  <a:lnTo>
                    <a:pt x="1214" y="192"/>
                  </a:lnTo>
                  <a:lnTo>
                    <a:pt x="1221" y="187"/>
                  </a:lnTo>
                  <a:lnTo>
                    <a:pt x="1227" y="181"/>
                  </a:lnTo>
                  <a:lnTo>
                    <a:pt x="1232" y="178"/>
                  </a:lnTo>
                  <a:lnTo>
                    <a:pt x="1241" y="174"/>
                  </a:lnTo>
                  <a:lnTo>
                    <a:pt x="1249" y="171"/>
                  </a:lnTo>
                  <a:lnTo>
                    <a:pt x="1254" y="168"/>
                  </a:lnTo>
                  <a:lnTo>
                    <a:pt x="1257" y="168"/>
                  </a:lnTo>
                  <a:lnTo>
                    <a:pt x="125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040200" y="5302080"/>
              <a:ext cx="5400" cy="14400"/>
            </a:xfrm>
            <a:custGeom>
              <a:avLst/>
              <a:gdLst/>
              <a:ahLst/>
              <a:rect l="l" t="t" r="r" b="b"/>
              <a:pathLst>
                <a:path w="7" h="22">
                  <a:moveTo>
                    <a:pt x="5" y="22"/>
                  </a:moveTo>
                  <a:lnTo>
                    <a:pt x="4" y="20"/>
                  </a:lnTo>
                  <a:lnTo>
                    <a:pt x="3" y="18"/>
                  </a:lnTo>
                  <a:lnTo>
                    <a:pt x="2" y="15"/>
                  </a:lnTo>
                  <a:lnTo>
                    <a:pt x="0" y="14"/>
                  </a:lnTo>
                  <a:lnTo>
                    <a:pt x="7" y="0"/>
                  </a:lnTo>
                  <a:lnTo>
                    <a:pt x="6" y="6"/>
                  </a:lnTo>
                  <a:lnTo>
                    <a:pt x="6" y="11"/>
                  </a:lnTo>
                  <a:lnTo>
                    <a:pt x="5" y="17"/>
                  </a:lnTo>
                  <a:lnTo>
                    <a:pt x="5" y="2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 name=""/>
            <p:cNvSpPr/>
            <p:nvPr/>
          </p:nvSpPr>
          <p:spPr>
            <a:xfrm>
              <a:off x="3004200" y="5276880"/>
              <a:ext cx="16920" cy="15840"/>
            </a:xfrm>
            <a:custGeom>
              <a:avLst/>
              <a:gdLst/>
              <a:ahLst/>
              <a:rect l="l" t="t" r="r" b="b"/>
              <a:pathLst>
                <a:path w="17" h="24">
                  <a:moveTo>
                    <a:pt x="17" y="24"/>
                  </a:moveTo>
                  <a:lnTo>
                    <a:pt x="14" y="19"/>
                  </a:lnTo>
                  <a:lnTo>
                    <a:pt x="9" y="12"/>
                  </a:lnTo>
                  <a:lnTo>
                    <a:pt x="5" y="6"/>
                  </a:lnTo>
                  <a:lnTo>
                    <a:pt x="0" y="0"/>
                  </a:lnTo>
                  <a:lnTo>
                    <a:pt x="6" y="6"/>
                  </a:lnTo>
                  <a:lnTo>
                    <a:pt x="11" y="12"/>
                  </a:lnTo>
                  <a:lnTo>
                    <a:pt x="14" y="17"/>
                  </a:lnTo>
                  <a:lnTo>
                    <a:pt x="17" y="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 name=""/>
            <p:cNvSpPr/>
            <p:nvPr/>
          </p:nvSpPr>
          <p:spPr>
            <a:xfrm>
              <a:off x="1657440" y="4832280"/>
              <a:ext cx="1391760" cy="1614600"/>
            </a:xfrm>
            <a:custGeom>
              <a:avLst/>
              <a:gdLst/>
              <a:ahLst/>
              <a:rect l="l" t="t" r="r" b="b"/>
              <a:pathLst>
                <a:path w="1390" h="2451">
                  <a:moveTo>
                    <a:pt x="1260" y="1034"/>
                  </a:moveTo>
                  <a:lnTo>
                    <a:pt x="1237" y="1033"/>
                  </a:lnTo>
                  <a:lnTo>
                    <a:pt x="1236" y="1034"/>
                  </a:lnTo>
                  <a:lnTo>
                    <a:pt x="1236" y="1034"/>
                  </a:lnTo>
                  <a:lnTo>
                    <a:pt x="1236" y="1034"/>
                  </a:lnTo>
                  <a:lnTo>
                    <a:pt x="1236" y="1036"/>
                  </a:lnTo>
                  <a:lnTo>
                    <a:pt x="1228" y="1036"/>
                  </a:lnTo>
                  <a:lnTo>
                    <a:pt x="1220" y="1036"/>
                  </a:lnTo>
                  <a:lnTo>
                    <a:pt x="1213" y="1036"/>
                  </a:lnTo>
                  <a:lnTo>
                    <a:pt x="1208" y="1036"/>
                  </a:lnTo>
                  <a:lnTo>
                    <a:pt x="1203" y="1036"/>
                  </a:lnTo>
                  <a:lnTo>
                    <a:pt x="1200" y="1036"/>
                  </a:lnTo>
                  <a:lnTo>
                    <a:pt x="1198" y="1036"/>
                  </a:lnTo>
                  <a:lnTo>
                    <a:pt x="1196" y="1036"/>
                  </a:lnTo>
                  <a:lnTo>
                    <a:pt x="1198" y="1036"/>
                  </a:lnTo>
                  <a:lnTo>
                    <a:pt x="1200" y="1036"/>
                  </a:lnTo>
                  <a:lnTo>
                    <a:pt x="1203" y="1037"/>
                  </a:lnTo>
                  <a:lnTo>
                    <a:pt x="1208" y="1037"/>
                  </a:lnTo>
                  <a:lnTo>
                    <a:pt x="1213" y="1039"/>
                  </a:lnTo>
                  <a:lnTo>
                    <a:pt x="1220" y="1040"/>
                  </a:lnTo>
                  <a:lnTo>
                    <a:pt x="1227" y="1040"/>
                  </a:lnTo>
                  <a:lnTo>
                    <a:pt x="1236" y="1041"/>
                  </a:lnTo>
                  <a:lnTo>
                    <a:pt x="1235" y="1051"/>
                  </a:lnTo>
                  <a:lnTo>
                    <a:pt x="1235" y="1063"/>
                  </a:lnTo>
                  <a:lnTo>
                    <a:pt x="1234" y="1072"/>
                  </a:lnTo>
                  <a:lnTo>
                    <a:pt x="1233" y="1084"/>
                  </a:lnTo>
                  <a:lnTo>
                    <a:pt x="1225" y="1178"/>
                  </a:lnTo>
                  <a:lnTo>
                    <a:pt x="1218" y="1272"/>
                  </a:lnTo>
                  <a:lnTo>
                    <a:pt x="1211" y="1365"/>
                  </a:lnTo>
                  <a:lnTo>
                    <a:pt x="1208" y="1455"/>
                  </a:lnTo>
                  <a:lnTo>
                    <a:pt x="1206" y="1539"/>
                  </a:lnTo>
                  <a:lnTo>
                    <a:pt x="1208" y="1618"/>
                  </a:lnTo>
                  <a:lnTo>
                    <a:pt x="1213" y="1690"/>
                  </a:lnTo>
                  <a:lnTo>
                    <a:pt x="1224" y="1751"/>
                  </a:lnTo>
                  <a:lnTo>
                    <a:pt x="1225" y="1753"/>
                  </a:lnTo>
                  <a:lnTo>
                    <a:pt x="1225" y="1756"/>
                  </a:lnTo>
                  <a:lnTo>
                    <a:pt x="1226" y="1757"/>
                  </a:lnTo>
                  <a:lnTo>
                    <a:pt x="1226" y="1760"/>
                  </a:lnTo>
                  <a:lnTo>
                    <a:pt x="1210" y="1757"/>
                  </a:lnTo>
                  <a:lnTo>
                    <a:pt x="1193" y="1756"/>
                  </a:lnTo>
                  <a:lnTo>
                    <a:pt x="1177" y="1753"/>
                  </a:lnTo>
                  <a:lnTo>
                    <a:pt x="1163" y="1751"/>
                  </a:lnTo>
                  <a:lnTo>
                    <a:pt x="1148" y="1751"/>
                  </a:lnTo>
                  <a:lnTo>
                    <a:pt x="1136" y="1750"/>
                  </a:lnTo>
                  <a:lnTo>
                    <a:pt x="1124" y="1751"/>
                  </a:lnTo>
                  <a:lnTo>
                    <a:pt x="1116" y="1753"/>
                  </a:lnTo>
                  <a:lnTo>
                    <a:pt x="1104" y="1756"/>
                  </a:lnTo>
                  <a:lnTo>
                    <a:pt x="1096" y="1757"/>
                  </a:lnTo>
                  <a:lnTo>
                    <a:pt x="1089" y="1758"/>
                  </a:lnTo>
                  <a:lnTo>
                    <a:pt x="1085" y="1758"/>
                  </a:lnTo>
                  <a:lnTo>
                    <a:pt x="1083" y="1758"/>
                  </a:lnTo>
                  <a:lnTo>
                    <a:pt x="1082" y="1758"/>
                  </a:lnTo>
                  <a:lnTo>
                    <a:pt x="1080" y="1757"/>
                  </a:lnTo>
                  <a:lnTo>
                    <a:pt x="1080" y="1757"/>
                  </a:lnTo>
                  <a:lnTo>
                    <a:pt x="1086" y="1742"/>
                  </a:lnTo>
                  <a:lnTo>
                    <a:pt x="1098" y="1701"/>
                  </a:lnTo>
                  <a:lnTo>
                    <a:pt x="1115" y="1643"/>
                  </a:lnTo>
                  <a:lnTo>
                    <a:pt x="1133" y="1577"/>
                  </a:lnTo>
                  <a:lnTo>
                    <a:pt x="1147" y="1512"/>
                  </a:lnTo>
                  <a:lnTo>
                    <a:pt x="1155" y="1458"/>
                  </a:lnTo>
                  <a:lnTo>
                    <a:pt x="1153" y="1420"/>
                  </a:lnTo>
                  <a:lnTo>
                    <a:pt x="1136" y="1408"/>
                  </a:lnTo>
                  <a:lnTo>
                    <a:pt x="1131" y="1415"/>
                  </a:lnTo>
                  <a:lnTo>
                    <a:pt x="1120" y="1432"/>
                  </a:lnTo>
                  <a:lnTo>
                    <a:pt x="1102" y="1460"/>
                  </a:lnTo>
                  <a:lnTo>
                    <a:pt x="1078" y="1497"/>
                  </a:lnTo>
                  <a:lnTo>
                    <a:pt x="1051" y="1541"/>
                  </a:lnTo>
                  <a:lnTo>
                    <a:pt x="1022" y="1590"/>
                  </a:lnTo>
                  <a:lnTo>
                    <a:pt x="990" y="1640"/>
                  </a:lnTo>
                  <a:lnTo>
                    <a:pt x="960" y="1694"/>
                  </a:lnTo>
                  <a:lnTo>
                    <a:pt x="929" y="1747"/>
                  </a:lnTo>
                  <a:lnTo>
                    <a:pt x="901" y="1799"/>
                  </a:lnTo>
                  <a:lnTo>
                    <a:pt x="876" y="1848"/>
                  </a:lnTo>
                  <a:lnTo>
                    <a:pt x="856" y="1892"/>
                  </a:lnTo>
                  <a:lnTo>
                    <a:pt x="842" y="1929"/>
                  </a:lnTo>
                  <a:lnTo>
                    <a:pt x="836" y="1958"/>
                  </a:lnTo>
                  <a:lnTo>
                    <a:pt x="837" y="1976"/>
                  </a:lnTo>
                  <a:lnTo>
                    <a:pt x="848" y="1983"/>
                  </a:lnTo>
                  <a:lnTo>
                    <a:pt x="865" y="1982"/>
                  </a:lnTo>
                  <a:lnTo>
                    <a:pt x="883" y="1978"/>
                  </a:lnTo>
                  <a:lnTo>
                    <a:pt x="902" y="1969"/>
                  </a:lnTo>
                  <a:lnTo>
                    <a:pt x="923" y="1959"/>
                  </a:lnTo>
                  <a:lnTo>
                    <a:pt x="944" y="1947"/>
                  </a:lnTo>
                  <a:lnTo>
                    <a:pt x="967" y="1931"/>
                  </a:lnTo>
                  <a:lnTo>
                    <a:pt x="988" y="1916"/>
                  </a:lnTo>
                  <a:lnTo>
                    <a:pt x="1012" y="1899"/>
                  </a:lnTo>
                  <a:lnTo>
                    <a:pt x="1034" y="1882"/>
                  </a:lnTo>
                  <a:lnTo>
                    <a:pt x="1057" y="1865"/>
                  </a:lnTo>
                  <a:lnTo>
                    <a:pt x="1080" y="1848"/>
                  </a:lnTo>
                  <a:lnTo>
                    <a:pt x="1103" y="1833"/>
                  </a:lnTo>
                  <a:lnTo>
                    <a:pt x="1125" y="1820"/>
                  </a:lnTo>
                  <a:lnTo>
                    <a:pt x="1147" y="1809"/>
                  </a:lnTo>
                  <a:lnTo>
                    <a:pt x="1168" y="1801"/>
                  </a:lnTo>
                  <a:lnTo>
                    <a:pt x="1189" y="1795"/>
                  </a:lnTo>
                  <a:lnTo>
                    <a:pt x="1200" y="1794"/>
                  </a:lnTo>
                  <a:lnTo>
                    <a:pt x="1210" y="1791"/>
                  </a:lnTo>
                  <a:lnTo>
                    <a:pt x="1220" y="1789"/>
                  </a:lnTo>
                  <a:lnTo>
                    <a:pt x="1229" y="1788"/>
                  </a:lnTo>
                  <a:lnTo>
                    <a:pt x="1237" y="1785"/>
                  </a:lnTo>
                  <a:lnTo>
                    <a:pt x="1245" y="1784"/>
                  </a:lnTo>
                  <a:lnTo>
                    <a:pt x="1252" y="1782"/>
                  </a:lnTo>
                  <a:lnTo>
                    <a:pt x="1257" y="1781"/>
                  </a:lnTo>
                  <a:lnTo>
                    <a:pt x="1265" y="1782"/>
                  </a:lnTo>
                  <a:lnTo>
                    <a:pt x="1274" y="1785"/>
                  </a:lnTo>
                  <a:lnTo>
                    <a:pt x="1282" y="1787"/>
                  </a:lnTo>
                  <a:lnTo>
                    <a:pt x="1290" y="1789"/>
                  </a:lnTo>
                  <a:lnTo>
                    <a:pt x="1297" y="1799"/>
                  </a:lnTo>
                  <a:lnTo>
                    <a:pt x="1302" y="1810"/>
                  </a:lnTo>
                  <a:lnTo>
                    <a:pt x="1306" y="1824"/>
                  </a:lnTo>
                  <a:lnTo>
                    <a:pt x="1305" y="1841"/>
                  </a:lnTo>
                  <a:lnTo>
                    <a:pt x="1302" y="1862"/>
                  </a:lnTo>
                  <a:lnTo>
                    <a:pt x="1299" y="1878"/>
                  </a:lnTo>
                  <a:lnTo>
                    <a:pt x="1296" y="1889"/>
                  </a:lnTo>
                  <a:lnTo>
                    <a:pt x="1290" y="1895"/>
                  </a:lnTo>
                  <a:lnTo>
                    <a:pt x="1282" y="1896"/>
                  </a:lnTo>
                  <a:lnTo>
                    <a:pt x="1270" y="1893"/>
                  </a:lnTo>
                  <a:lnTo>
                    <a:pt x="1254" y="1889"/>
                  </a:lnTo>
                  <a:lnTo>
                    <a:pt x="1234" y="1881"/>
                  </a:lnTo>
                  <a:lnTo>
                    <a:pt x="1210" y="1875"/>
                  </a:lnTo>
                  <a:lnTo>
                    <a:pt x="1186" y="1877"/>
                  </a:lnTo>
                  <a:lnTo>
                    <a:pt x="1163" y="1882"/>
                  </a:lnTo>
                  <a:lnTo>
                    <a:pt x="1141" y="1891"/>
                  </a:lnTo>
                  <a:lnTo>
                    <a:pt x="1123" y="1900"/>
                  </a:lnTo>
                  <a:lnTo>
                    <a:pt x="1109" y="1910"/>
                  </a:lnTo>
                  <a:lnTo>
                    <a:pt x="1100" y="1917"/>
                  </a:lnTo>
                  <a:lnTo>
                    <a:pt x="1096" y="1920"/>
                  </a:lnTo>
                  <a:lnTo>
                    <a:pt x="1101" y="1920"/>
                  </a:lnTo>
                  <a:lnTo>
                    <a:pt x="1113" y="1920"/>
                  </a:lnTo>
                  <a:lnTo>
                    <a:pt x="1132" y="1921"/>
                  </a:lnTo>
                  <a:lnTo>
                    <a:pt x="1157" y="1924"/>
                  </a:lnTo>
                  <a:lnTo>
                    <a:pt x="1184" y="1929"/>
                  </a:lnTo>
                  <a:lnTo>
                    <a:pt x="1215" y="1934"/>
                  </a:lnTo>
                  <a:lnTo>
                    <a:pt x="1244" y="1943"/>
                  </a:lnTo>
                  <a:lnTo>
                    <a:pt x="1273" y="1954"/>
                  </a:lnTo>
                  <a:lnTo>
                    <a:pt x="1275" y="1955"/>
                  </a:lnTo>
                  <a:lnTo>
                    <a:pt x="1279" y="1955"/>
                  </a:lnTo>
                  <a:lnTo>
                    <a:pt x="1281" y="1955"/>
                  </a:lnTo>
                  <a:lnTo>
                    <a:pt x="1283" y="1957"/>
                  </a:lnTo>
                  <a:lnTo>
                    <a:pt x="1293" y="1990"/>
                  </a:lnTo>
                  <a:lnTo>
                    <a:pt x="1301" y="2016"/>
                  </a:lnTo>
                  <a:lnTo>
                    <a:pt x="1305" y="2037"/>
                  </a:lnTo>
                  <a:lnTo>
                    <a:pt x="1305" y="2052"/>
                  </a:lnTo>
                  <a:lnTo>
                    <a:pt x="1300" y="2065"/>
                  </a:lnTo>
                  <a:lnTo>
                    <a:pt x="1293" y="2076"/>
                  </a:lnTo>
                  <a:lnTo>
                    <a:pt x="1282" y="2086"/>
                  </a:lnTo>
                  <a:lnTo>
                    <a:pt x="1266" y="2097"/>
                  </a:lnTo>
                  <a:lnTo>
                    <a:pt x="1247" y="2110"/>
                  </a:lnTo>
                  <a:lnTo>
                    <a:pt x="1231" y="2121"/>
                  </a:lnTo>
                  <a:lnTo>
                    <a:pt x="1216" y="2130"/>
                  </a:lnTo>
                  <a:lnTo>
                    <a:pt x="1203" y="2138"/>
                  </a:lnTo>
                  <a:lnTo>
                    <a:pt x="1192" y="2146"/>
                  </a:lnTo>
                  <a:lnTo>
                    <a:pt x="1182" y="2152"/>
                  </a:lnTo>
                  <a:lnTo>
                    <a:pt x="1174" y="2158"/>
                  </a:lnTo>
                  <a:lnTo>
                    <a:pt x="1167" y="2162"/>
                  </a:lnTo>
                  <a:lnTo>
                    <a:pt x="1158" y="2165"/>
                  </a:lnTo>
                  <a:lnTo>
                    <a:pt x="1148" y="2166"/>
                  </a:lnTo>
                  <a:lnTo>
                    <a:pt x="1137" y="2169"/>
                  </a:lnTo>
                  <a:lnTo>
                    <a:pt x="1123" y="2169"/>
                  </a:lnTo>
                  <a:lnTo>
                    <a:pt x="1109" y="2169"/>
                  </a:lnTo>
                  <a:lnTo>
                    <a:pt x="1093" y="2168"/>
                  </a:lnTo>
                  <a:lnTo>
                    <a:pt x="1076" y="2165"/>
                  </a:lnTo>
                  <a:lnTo>
                    <a:pt x="1057" y="2160"/>
                  </a:lnTo>
                  <a:lnTo>
                    <a:pt x="1031" y="2153"/>
                  </a:lnTo>
                  <a:lnTo>
                    <a:pt x="1010" y="2146"/>
                  </a:lnTo>
                  <a:lnTo>
                    <a:pt x="995" y="2142"/>
                  </a:lnTo>
                  <a:lnTo>
                    <a:pt x="985" y="2138"/>
                  </a:lnTo>
                  <a:lnTo>
                    <a:pt x="977" y="2135"/>
                  </a:lnTo>
                  <a:lnTo>
                    <a:pt x="973" y="2132"/>
                  </a:lnTo>
                  <a:lnTo>
                    <a:pt x="971" y="2132"/>
                  </a:lnTo>
                  <a:lnTo>
                    <a:pt x="970" y="2131"/>
                  </a:lnTo>
                  <a:lnTo>
                    <a:pt x="971" y="2132"/>
                  </a:lnTo>
                  <a:lnTo>
                    <a:pt x="974" y="2137"/>
                  </a:lnTo>
                  <a:lnTo>
                    <a:pt x="980" y="2144"/>
                  </a:lnTo>
                  <a:lnTo>
                    <a:pt x="989" y="2152"/>
                  </a:lnTo>
                  <a:lnTo>
                    <a:pt x="1001" y="2162"/>
                  </a:lnTo>
                  <a:lnTo>
                    <a:pt x="1019" y="2173"/>
                  </a:lnTo>
                  <a:lnTo>
                    <a:pt x="1041" y="2183"/>
                  </a:lnTo>
                  <a:lnTo>
                    <a:pt x="1069" y="2194"/>
                  </a:lnTo>
                  <a:lnTo>
                    <a:pt x="1077" y="2197"/>
                  </a:lnTo>
                  <a:lnTo>
                    <a:pt x="1084" y="2200"/>
                  </a:lnTo>
                  <a:lnTo>
                    <a:pt x="1091" y="2203"/>
                  </a:lnTo>
                  <a:lnTo>
                    <a:pt x="1097" y="2205"/>
                  </a:lnTo>
                  <a:lnTo>
                    <a:pt x="1103" y="2207"/>
                  </a:lnTo>
                  <a:lnTo>
                    <a:pt x="1109" y="2210"/>
                  </a:lnTo>
                  <a:lnTo>
                    <a:pt x="1114" y="2211"/>
                  </a:lnTo>
                  <a:lnTo>
                    <a:pt x="1119" y="2212"/>
                  </a:lnTo>
                  <a:lnTo>
                    <a:pt x="1120" y="2225"/>
                  </a:lnTo>
                  <a:lnTo>
                    <a:pt x="1122" y="2252"/>
                  </a:lnTo>
                  <a:lnTo>
                    <a:pt x="1066" y="2451"/>
                  </a:lnTo>
                  <a:lnTo>
                    <a:pt x="1056" y="2451"/>
                  </a:lnTo>
                  <a:lnTo>
                    <a:pt x="1045" y="2451"/>
                  </a:lnTo>
                  <a:lnTo>
                    <a:pt x="1035" y="2451"/>
                  </a:lnTo>
                  <a:lnTo>
                    <a:pt x="1025" y="2451"/>
                  </a:lnTo>
                  <a:lnTo>
                    <a:pt x="1014" y="2450"/>
                  </a:lnTo>
                  <a:lnTo>
                    <a:pt x="1001" y="2447"/>
                  </a:lnTo>
                  <a:lnTo>
                    <a:pt x="988" y="2446"/>
                  </a:lnTo>
                  <a:lnTo>
                    <a:pt x="973" y="2443"/>
                  </a:lnTo>
                  <a:lnTo>
                    <a:pt x="957" y="2439"/>
                  </a:lnTo>
                  <a:lnTo>
                    <a:pt x="939" y="2435"/>
                  </a:lnTo>
                  <a:lnTo>
                    <a:pt x="920" y="2429"/>
                  </a:lnTo>
                  <a:lnTo>
                    <a:pt x="898" y="2423"/>
                  </a:lnTo>
                  <a:lnTo>
                    <a:pt x="873" y="2416"/>
                  </a:lnTo>
                  <a:lnTo>
                    <a:pt x="846" y="2408"/>
                  </a:lnTo>
                  <a:lnTo>
                    <a:pt x="815" y="2398"/>
                  </a:lnTo>
                  <a:lnTo>
                    <a:pt x="783" y="2388"/>
                  </a:lnTo>
                  <a:lnTo>
                    <a:pt x="741" y="2374"/>
                  </a:lnTo>
                  <a:lnTo>
                    <a:pt x="700" y="2359"/>
                  </a:lnTo>
                  <a:lnTo>
                    <a:pt x="663" y="2343"/>
                  </a:lnTo>
                  <a:lnTo>
                    <a:pt x="628" y="2326"/>
                  </a:lnTo>
                  <a:lnTo>
                    <a:pt x="596" y="2309"/>
                  </a:lnTo>
                  <a:lnTo>
                    <a:pt x="565" y="2294"/>
                  </a:lnTo>
                  <a:lnTo>
                    <a:pt x="536" y="2277"/>
                  </a:lnTo>
                  <a:lnTo>
                    <a:pt x="510" y="2260"/>
                  </a:lnTo>
                  <a:lnTo>
                    <a:pt x="486" y="2245"/>
                  </a:lnTo>
                  <a:lnTo>
                    <a:pt x="465" y="2229"/>
                  </a:lnTo>
                  <a:lnTo>
                    <a:pt x="446" y="2215"/>
                  </a:lnTo>
                  <a:lnTo>
                    <a:pt x="429" y="2201"/>
                  </a:lnTo>
                  <a:lnTo>
                    <a:pt x="414" y="2189"/>
                  </a:lnTo>
                  <a:lnTo>
                    <a:pt x="402" y="2179"/>
                  </a:lnTo>
                  <a:lnTo>
                    <a:pt x="393" y="2169"/>
                  </a:lnTo>
                  <a:lnTo>
                    <a:pt x="385" y="2162"/>
                  </a:lnTo>
                  <a:lnTo>
                    <a:pt x="246" y="1415"/>
                  </a:lnTo>
                  <a:lnTo>
                    <a:pt x="227" y="1417"/>
                  </a:lnTo>
                  <a:lnTo>
                    <a:pt x="207" y="1417"/>
                  </a:lnTo>
                  <a:lnTo>
                    <a:pt x="187" y="1413"/>
                  </a:lnTo>
                  <a:lnTo>
                    <a:pt x="167" y="1406"/>
                  </a:lnTo>
                  <a:lnTo>
                    <a:pt x="147" y="1397"/>
                  </a:lnTo>
                  <a:lnTo>
                    <a:pt x="128" y="1384"/>
                  </a:lnTo>
                  <a:lnTo>
                    <a:pt x="107" y="1370"/>
                  </a:lnTo>
                  <a:lnTo>
                    <a:pt x="89" y="1352"/>
                  </a:lnTo>
                  <a:lnTo>
                    <a:pt x="65" y="1323"/>
                  </a:lnTo>
                  <a:lnTo>
                    <a:pt x="44" y="1289"/>
                  </a:lnTo>
                  <a:lnTo>
                    <a:pt x="29" y="1255"/>
                  </a:lnTo>
                  <a:lnTo>
                    <a:pt x="18" y="1219"/>
                  </a:lnTo>
                  <a:lnTo>
                    <a:pt x="12" y="1183"/>
                  </a:lnTo>
                  <a:lnTo>
                    <a:pt x="12" y="1147"/>
                  </a:lnTo>
                  <a:lnTo>
                    <a:pt x="15" y="1113"/>
                  </a:lnTo>
                  <a:lnTo>
                    <a:pt x="25" y="1082"/>
                  </a:lnTo>
                  <a:lnTo>
                    <a:pt x="33" y="1075"/>
                  </a:lnTo>
                  <a:lnTo>
                    <a:pt x="43" y="1070"/>
                  </a:lnTo>
                  <a:lnTo>
                    <a:pt x="53" y="1063"/>
                  </a:lnTo>
                  <a:lnTo>
                    <a:pt x="66" y="1056"/>
                  </a:lnTo>
                  <a:lnTo>
                    <a:pt x="79" y="1049"/>
                  </a:lnTo>
                  <a:lnTo>
                    <a:pt x="94" y="1043"/>
                  </a:lnTo>
                  <a:lnTo>
                    <a:pt x="111" y="1037"/>
                  </a:lnTo>
                  <a:lnTo>
                    <a:pt x="129" y="1032"/>
                  </a:lnTo>
                  <a:lnTo>
                    <a:pt x="147" y="1029"/>
                  </a:lnTo>
                  <a:lnTo>
                    <a:pt x="166" y="1029"/>
                  </a:lnTo>
                  <a:lnTo>
                    <a:pt x="184" y="1032"/>
                  </a:lnTo>
                  <a:lnTo>
                    <a:pt x="203" y="1037"/>
                  </a:lnTo>
                  <a:lnTo>
                    <a:pt x="220" y="1044"/>
                  </a:lnTo>
                  <a:lnTo>
                    <a:pt x="238" y="1054"/>
                  </a:lnTo>
                  <a:lnTo>
                    <a:pt x="254" y="1064"/>
                  </a:lnTo>
                  <a:lnTo>
                    <a:pt x="270" y="1074"/>
                  </a:lnTo>
                  <a:lnTo>
                    <a:pt x="284" y="1085"/>
                  </a:lnTo>
                  <a:lnTo>
                    <a:pt x="297" y="1095"/>
                  </a:lnTo>
                  <a:lnTo>
                    <a:pt x="309" y="1106"/>
                  </a:lnTo>
                  <a:lnTo>
                    <a:pt x="318" y="1115"/>
                  </a:lnTo>
                  <a:lnTo>
                    <a:pt x="326" y="1123"/>
                  </a:lnTo>
                  <a:lnTo>
                    <a:pt x="333" y="1129"/>
                  </a:lnTo>
                  <a:lnTo>
                    <a:pt x="336" y="1133"/>
                  </a:lnTo>
                  <a:lnTo>
                    <a:pt x="337" y="1134"/>
                  </a:lnTo>
                  <a:lnTo>
                    <a:pt x="335" y="1129"/>
                  </a:lnTo>
                  <a:lnTo>
                    <a:pt x="330" y="1113"/>
                  </a:lnTo>
                  <a:lnTo>
                    <a:pt x="319" y="1091"/>
                  </a:lnTo>
                  <a:lnTo>
                    <a:pt x="306" y="1064"/>
                  </a:lnTo>
                  <a:lnTo>
                    <a:pt x="321" y="1016"/>
                  </a:lnTo>
                  <a:lnTo>
                    <a:pt x="319" y="1015"/>
                  </a:lnTo>
                  <a:lnTo>
                    <a:pt x="317" y="1012"/>
                  </a:lnTo>
                  <a:lnTo>
                    <a:pt x="313" y="1008"/>
                  </a:lnTo>
                  <a:lnTo>
                    <a:pt x="306" y="1001"/>
                  </a:lnTo>
                  <a:lnTo>
                    <a:pt x="298" y="992"/>
                  </a:lnTo>
                  <a:lnTo>
                    <a:pt x="288" y="981"/>
                  </a:lnTo>
                  <a:lnTo>
                    <a:pt x="277" y="970"/>
                  </a:lnTo>
                  <a:lnTo>
                    <a:pt x="262" y="956"/>
                  </a:lnTo>
                  <a:lnTo>
                    <a:pt x="246" y="940"/>
                  </a:lnTo>
                  <a:lnTo>
                    <a:pt x="229" y="922"/>
                  </a:lnTo>
                  <a:lnTo>
                    <a:pt x="209" y="904"/>
                  </a:lnTo>
                  <a:lnTo>
                    <a:pt x="186" y="883"/>
                  </a:lnTo>
                  <a:lnTo>
                    <a:pt x="163" y="862"/>
                  </a:lnTo>
                  <a:lnTo>
                    <a:pt x="137" y="838"/>
                  </a:lnTo>
                  <a:lnTo>
                    <a:pt x="109" y="814"/>
                  </a:lnTo>
                  <a:lnTo>
                    <a:pt x="78" y="787"/>
                  </a:lnTo>
                  <a:lnTo>
                    <a:pt x="68" y="777"/>
                  </a:lnTo>
                  <a:lnTo>
                    <a:pt x="59" y="767"/>
                  </a:lnTo>
                  <a:lnTo>
                    <a:pt x="51" y="758"/>
                  </a:lnTo>
                  <a:lnTo>
                    <a:pt x="43" y="746"/>
                  </a:lnTo>
                  <a:lnTo>
                    <a:pt x="36" y="735"/>
                  </a:lnTo>
                  <a:lnTo>
                    <a:pt x="30" y="722"/>
                  </a:lnTo>
                  <a:lnTo>
                    <a:pt x="24" y="710"/>
                  </a:lnTo>
                  <a:lnTo>
                    <a:pt x="19" y="697"/>
                  </a:lnTo>
                  <a:lnTo>
                    <a:pt x="10" y="642"/>
                  </a:lnTo>
                  <a:lnTo>
                    <a:pt x="4" y="589"/>
                  </a:lnTo>
                  <a:lnTo>
                    <a:pt x="0" y="537"/>
                  </a:lnTo>
                  <a:lnTo>
                    <a:pt x="1" y="485"/>
                  </a:lnTo>
                  <a:lnTo>
                    <a:pt x="6" y="434"/>
                  </a:lnTo>
                  <a:lnTo>
                    <a:pt x="15" y="384"/>
                  </a:lnTo>
                  <a:lnTo>
                    <a:pt x="29" y="336"/>
                  </a:lnTo>
                  <a:lnTo>
                    <a:pt x="47" y="288"/>
                  </a:lnTo>
                  <a:lnTo>
                    <a:pt x="58" y="264"/>
                  </a:lnTo>
                  <a:lnTo>
                    <a:pt x="69" y="240"/>
                  </a:lnTo>
                  <a:lnTo>
                    <a:pt x="82" y="215"/>
                  </a:lnTo>
                  <a:lnTo>
                    <a:pt x="95" y="191"/>
                  </a:lnTo>
                  <a:lnTo>
                    <a:pt x="110" y="166"/>
                  </a:lnTo>
                  <a:lnTo>
                    <a:pt x="127" y="142"/>
                  </a:lnTo>
                  <a:lnTo>
                    <a:pt x="144" y="119"/>
                  </a:lnTo>
                  <a:lnTo>
                    <a:pt x="163" y="97"/>
                  </a:lnTo>
                  <a:lnTo>
                    <a:pt x="182" y="77"/>
                  </a:lnTo>
                  <a:lnTo>
                    <a:pt x="204" y="57"/>
                  </a:lnTo>
                  <a:lnTo>
                    <a:pt x="227" y="41"/>
                  </a:lnTo>
                  <a:lnTo>
                    <a:pt x="253" y="27"/>
                  </a:lnTo>
                  <a:lnTo>
                    <a:pt x="280" y="15"/>
                  </a:lnTo>
                  <a:lnTo>
                    <a:pt x="308" y="7"/>
                  </a:lnTo>
                  <a:lnTo>
                    <a:pt x="340" y="1"/>
                  </a:lnTo>
                  <a:lnTo>
                    <a:pt x="372" y="0"/>
                  </a:lnTo>
                  <a:lnTo>
                    <a:pt x="386" y="0"/>
                  </a:lnTo>
                  <a:lnTo>
                    <a:pt x="399" y="0"/>
                  </a:lnTo>
                  <a:lnTo>
                    <a:pt x="413" y="1"/>
                  </a:lnTo>
                  <a:lnTo>
                    <a:pt x="426" y="1"/>
                  </a:lnTo>
                  <a:lnTo>
                    <a:pt x="439" y="1"/>
                  </a:lnTo>
                  <a:lnTo>
                    <a:pt x="452" y="3"/>
                  </a:lnTo>
                  <a:lnTo>
                    <a:pt x="465" y="3"/>
                  </a:lnTo>
                  <a:lnTo>
                    <a:pt x="477" y="4"/>
                  </a:lnTo>
                  <a:lnTo>
                    <a:pt x="490" y="4"/>
                  </a:lnTo>
                  <a:lnTo>
                    <a:pt x="502" y="5"/>
                  </a:lnTo>
                  <a:lnTo>
                    <a:pt x="514" y="7"/>
                  </a:lnTo>
                  <a:lnTo>
                    <a:pt x="527" y="7"/>
                  </a:lnTo>
                  <a:lnTo>
                    <a:pt x="539" y="8"/>
                  </a:lnTo>
                  <a:lnTo>
                    <a:pt x="550" y="10"/>
                  </a:lnTo>
                  <a:lnTo>
                    <a:pt x="563" y="10"/>
                  </a:lnTo>
                  <a:lnTo>
                    <a:pt x="574" y="11"/>
                  </a:lnTo>
                  <a:lnTo>
                    <a:pt x="563" y="41"/>
                  </a:lnTo>
                  <a:lnTo>
                    <a:pt x="554" y="69"/>
                  </a:lnTo>
                  <a:lnTo>
                    <a:pt x="546" y="94"/>
                  </a:lnTo>
                  <a:lnTo>
                    <a:pt x="540" y="118"/>
                  </a:lnTo>
                  <a:lnTo>
                    <a:pt x="537" y="138"/>
                  </a:lnTo>
                  <a:lnTo>
                    <a:pt x="534" y="153"/>
                  </a:lnTo>
                  <a:lnTo>
                    <a:pt x="532" y="163"/>
                  </a:lnTo>
                  <a:lnTo>
                    <a:pt x="531" y="167"/>
                  </a:lnTo>
                  <a:lnTo>
                    <a:pt x="563" y="171"/>
                  </a:lnTo>
                  <a:lnTo>
                    <a:pt x="564" y="157"/>
                  </a:lnTo>
                  <a:lnTo>
                    <a:pt x="567" y="121"/>
                  </a:lnTo>
                  <a:lnTo>
                    <a:pt x="575" y="70"/>
                  </a:lnTo>
                  <a:lnTo>
                    <a:pt x="591" y="12"/>
                  </a:lnTo>
                  <a:lnTo>
                    <a:pt x="607" y="14"/>
                  </a:lnTo>
                  <a:lnTo>
                    <a:pt x="622" y="17"/>
                  </a:lnTo>
                  <a:lnTo>
                    <a:pt x="637" y="18"/>
                  </a:lnTo>
                  <a:lnTo>
                    <a:pt x="652" y="21"/>
                  </a:lnTo>
                  <a:lnTo>
                    <a:pt x="667" y="22"/>
                  </a:lnTo>
                  <a:lnTo>
                    <a:pt x="681" y="25"/>
                  </a:lnTo>
                  <a:lnTo>
                    <a:pt x="696" y="27"/>
                  </a:lnTo>
                  <a:lnTo>
                    <a:pt x="709" y="29"/>
                  </a:lnTo>
                  <a:lnTo>
                    <a:pt x="696" y="62"/>
                  </a:lnTo>
                  <a:lnTo>
                    <a:pt x="685" y="93"/>
                  </a:lnTo>
                  <a:lnTo>
                    <a:pt x="676" y="122"/>
                  </a:lnTo>
                  <a:lnTo>
                    <a:pt x="669" y="149"/>
                  </a:lnTo>
                  <a:lnTo>
                    <a:pt x="663" y="171"/>
                  </a:lnTo>
                  <a:lnTo>
                    <a:pt x="660" y="190"/>
                  </a:lnTo>
                  <a:lnTo>
                    <a:pt x="659" y="202"/>
                  </a:lnTo>
                  <a:lnTo>
                    <a:pt x="658" y="206"/>
                  </a:lnTo>
                  <a:lnTo>
                    <a:pt x="689" y="211"/>
                  </a:lnTo>
                  <a:lnTo>
                    <a:pt x="689" y="206"/>
                  </a:lnTo>
                  <a:lnTo>
                    <a:pt x="690" y="194"/>
                  </a:lnTo>
                  <a:lnTo>
                    <a:pt x="691" y="176"/>
                  </a:lnTo>
                  <a:lnTo>
                    <a:pt x="694" y="153"/>
                  </a:lnTo>
                  <a:lnTo>
                    <a:pt x="698" y="126"/>
                  </a:lnTo>
                  <a:lnTo>
                    <a:pt x="704" y="95"/>
                  </a:lnTo>
                  <a:lnTo>
                    <a:pt x="712" y="64"/>
                  </a:lnTo>
                  <a:lnTo>
                    <a:pt x="723" y="34"/>
                  </a:lnTo>
                  <a:lnTo>
                    <a:pt x="805" y="52"/>
                  </a:lnTo>
                  <a:lnTo>
                    <a:pt x="877" y="74"/>
                  </a:lnTo>
                  <a:lnTo>
                    <a:pt x="942" y="101"/>
                  </a:lnTo>
                  <a:lnTo>
                    <a:pt x="998" y="129"/>
                  </a:lnTo>
                  <a:lnTo>
                    <a:pt x="1047" y="161"/>
                  </a:lnTo>
                  <a:lnTo>
                    <a:pt x="1088" y="195"/>
                  </a:lnTo>
                  <a:lnTo>
                    <a:pt x="1124" y="232"/>
                  </a:lnTo>
                  <a:lnTo>
                    <a:pt x="1155" y="268"/>
                  </a:lnTo>
                  <a:lnTo>
                    <a:pt x="1178" y="308"/>
                  </a:lnTo>
                  <a:lnTo>
                    <a:pt x="1199" y="348"/>
                  </a:lnTo>
                  <a:lnTo>
                    <a:pt x="1215" y="389"/>
                  </a:lnTo>
                  <a:lnTo>
                    <a:pt x="1227" y="430"/>
                  </a:lnTo>
                  <a:lnTo>
                    <a:pt x="1236" y="471"/>
                  </a:lnTo>
                  <a:lnTo>
                    <a:pt x="1243" y="512"/>
                  </a:lnTo>
                  <a:lnTo>
                    <a:pt x="1247" y="552"/>
                  </a:lnTo>
                  <a:lnTo>
                    <a:pt x="1251" y="592"/>
                  </a:lnTo>
                  <a:lnTo>
                    <a:pt x="1211" y="554"/>
                  </a:lnTo>
                  <a:lnTo>
                    <a:pt x="1180" y="517"/>
                  </a:lnTo>
                  <a:lnTo>
                    <a:pt x="1156" y="486"/>
                  </a:lnTo>
                  <a:lnTo>
                    <a:pt x="1138" y="458"/>
                  </a:lnTo>
                  <a:lnTo>
                    <a:pt x="1125" y="436"/>
                  </a:lnTo>
                  <a:lnTo>
                    <a:pt x="1118" y="417"/>
                  </a:lnTo>
                  <a:lnTo>
                    <a:pt x="1113" y="407"/>
                  </a:lnTo>
                  <a:lnTo>
                    <a:pt x="1112" y="403"/>
                  </a:lnTo>
                  <a:lnTo>
                    <a:pt x="1113" y="410"/>
                  </a:lnTo>
                  <a:lnTo>
                    <a:pt x="1118" y="427"/>
                  </a:lnTo>
                  <a:lnTo>
                    <a:pt x="1125" y="454"/>
                  </a:lnTo>
                  <a:lnTo>
                    <a:pt x="1137" y="488"/>
                  </a:lnTo>
                  <a:lnTo>
                    <a:pt x="1154" y="524"/>
                  </a:lnTo>
                  <a:lnTo>
                    <a:pt x="1175" y="561"/>
                  </a:lnTo>
                  <a:lnTo>
                    <a:pt x="1202" y="597"/>
                  </a:lnTo>
                  <a:lnTo>
                    <a:pt x="1236" y="628"/>
                  </a:lnTo>
                  <a:lnTo>
                    <a:pt x="1242" y="632"/>
                  </a:lnTo>
                  <a:lnTo>
                    <a:pt x="1247" y="638"/>
                  </a:lnTo>
                  <a:lnTo>
                    <a:pt x="1253" y="642"/>
                  </a:lnTo>
                  <a:lnTo>
                    <a:pt x="1259" y="648"/>
                  </a:lnTo>
                  <a:lnTo>
                    <a:pt x="1251" y="648"/>
                  </a:lnTo>
                  <a:lnTo>
                    <a:pt x="1244" y="648"/>
                  </a:lnTo>
                  <a:lnTo>
                    <a:pt x="1238" y="649"/>
                  </a:lnTo>
                  <a:lnTo>
                    <a:pt x="1233" y="649"/>
                  </a:lnTo>
                  <a:lnTo>
                    <a:pt x="1227" y="637"/>
                  </a:lnTo>
                  <a:lnTo>
                    <a:pt x="1221" y="627"/>
                  </a:lnTo>
                  <a:lnTo>
                    <a:pt x="1215" y="617"/>
                  </a:lnTo>
                  <a:lnTo>
                    <a:pt x="1208" y="609"/>
                  </a:lnTo>
                  <a:lnTo>
                    <a:pt x="1200" y="603"/>
                  </a:lnTo>
                  <a:lnTo>
                    <a:pt x="1193" y="599"/>
                  </a:lnTo>
                  <a:lnTo>
                    <a:pt x="1185" y="596"/>
                  </a:lnTo>
                  <a:lnTo>
                    <a:pt x="1177" y="594"/>
                  </a:lnTo>
                  <a:lnTo>
                    <a:pt x="1163" y="597"/>
                  </a:lnTo>
                  <a:lnTo>
                    <a:pt x="1149" y="607"/>
                  </a:lnTo>
                  <a:lnTo>
                    <a:pt x="1136" y="624"/>
                  </a:lnTo>
                  <a:lnTo>
                    <a:pt x="1125" y="644"/>
                  </a:lnTo>
                  <a:lnTo>
                    <a:pt x="1115" y="670"/>
                  </a:lnTo>
                  <a:lnTo>
                    <a:pt x="1109" y="698"/>
                  </a:lnTo>
                  <a:lnTo>
                    <a:pt x="1104" y="731"/>
                  </a:lnTo>
                  <a:lnTo>
                    <a:pt x="1103" y="766"/>
                  </a:lnTo>
                  <a:lnTo>
                    <a:pt x="1104" y="800"/>
                  </a:lnTo>
                  <a:lnTo>
                    <a:pt x="1109" y="832"/>
                  </a:lnTo>
                  <a:lnTo>
                    <a:pt x="1115" y="862"/>
                  </a:lnTo>
                  <a:lnTo>
                    <a:pt x="1125" y="887"/>
                  </a:lnTo>
                  <a:lnTo>
                    <a:pt x="1136" y="908"/>
                  </a:lnTo>
                  <a:lnTo>
                    <a:pt x="1149" y="923"/>
                  </a:lnTo>
                  <a:lnTo>
                    <a:pt x="1163" y="935"/>
                  </a:lnTo>
                  <a:lnTo>
                    <a:pt x="1177" y="937"/>
                  </a:lnTo>
                  <a:lnTo>
                    <a:pt x="1192" y="935"/>
                  </a:lnTo>
                  <a:lnTo>
                    <a:pt x="1207" y="923"/>
                  </a:lnTo>
                  <a:lnTo>
                    <a:pt x="1219" y="908"/>
                  </a:lnTo>
                  <a:lnTo>
                    <a:pt x="1230" y="887"/>
                  </a:lnTo>
                  <a:lnTo>
                    <a:pt x="1239" y="862"/>
                  </a:lnTo>
                  <a:lnTo>
                    <a:pt x="1246" y="832"/>
                  </a:lnTo>
                  <a:lnTo>
                    <a:pt x="1251" y="800"/>
                  </a:lnTo>
                  <a:lnTo>
                    <a:pt x="1252" y="766"/>
                  </a:lnTo>
                  <a:lnTo>
                    <a:pt x="1251" y="743"/>
                  </a:lnTo>
                  <a:lnTo>
                    <a:pt x="1249" y="722"/>
                  </a:lnTo>
                  <a:lnTo>
                    <a:pt x="1246" y="703"/>
                  </a:lnTo>
                  <a:lnTo>
                    <a:pt x="1243" y="684"/>
                  </a:lnTo>
                  <a:lnTo>
                    <a:pt x="1246" y="683"/>
                  </a:lnTo>
                  <a:lnTo>
                    <a:pt x="1249" y="682"/>
                  </a:lnTo>
                  <a:lnTo>
                    <a:pt x="1254" y="679"/>
                  </a:lnTo>
                  <a:lnTo>
                    <a:pt x="1259" y="677"/>
                  </a:lnTo>
                  <a:lnTo>
                    <a:pt x="1263" y="676"/>
                  </a:lnTo>
                  <a:lnTo>
                    <a:pt x="1269" y="675"/>
                  </a:lnTo>
                  <a:lnTo>
                    <a:pt x="1274" y="673"/>
                  </a:lnTo>
                  <a:lnTo>
                    <a:pt x="1280" y="672"/>
                  </a:lnTo>
                  <a:lnTo>
                    <a:pt x="1302" y="707"/>
                  </a:lnTo>
                  <a:lnTo>
                    <a:pt x="1322" y="743"/>
                  </a:lnTo>
                  <a:lnTo>
                    <a:pt x="1337" y="781"/>
                  </a:lnTo>
                  <a:lnTo>
                    <a:pt x="1351" y="819"/>
                  </a:lnTo>
                  <a:lnTo>
                    <a:pt x="1360" y="855"/>
                  </a:lnTo>
                  <a:lnTo>
                    <a:pt x="1367" y="887"/>
                  </a:lnTo>
                  <a:lnTo>
                    <a:pt x="1372" y="912"/>
                  </a:lnTo>
                  <a:lnTo>
                    <a:pt x="1375" y="930"/>
                  </a:lnTo>
                  <a:lnTo>
                    <a:pt x="1379" y="954"/>
                  </a:lnTo>
                  <a:lnTo>
                    <a:pt x="1385" y="963"/>
                  </a:lnTo>
                  <a:lnTo>
                    <a:pt x="1389" y="973"/>
                  </a:lnTo>
                  <a:lnTo>
                    <a:pt x="1390" y="997"/>
                  </a:lnTo>
                  <a:lnTo>
                    <a:pt x="1387" y="1006"/>
                  </a:lnTo>
                  <a:lnTo>
                    <a:pt x="1378" y="1015"/>
                  </a:lnTo>
                  <a:lnTo>
                    <a:pt x="1363" y="1020"/>
                  </a:lnTo>
                  <a:lnTo>
                    <a:pt x="1346" y="1026"/>
                  </a:lnTo>
                  <a:lnTo>
                    <a:pt x="1326" y="1029"/>
                  </a:lnTo>
                  <a:lnTo>
                    <a:pt x="1304" y="1032"/>
                  </a:lnTo>
                  <a:lnTo>
                    <a:pt x="1281" y="1033"/>
                  </a:lnTo>
                  <a:lnTo>
                    <a:pt x="1260" y="1034"/>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778120" y="5256360"/>
              <a:ext cx="116280" cy="158760"/>
            </a:xfrm>
            <a:custGeom>
              <a:avLst/>
              <a:gdLst/>
              <a:ahLst/>
              <a:rect l="l" t="t" r="r" b="b"/>
              <a:pathLst>
                <a:path w="116" h="240">
                  <a:moveTo>
                    <a:pt x="116" y="121"/>
                  </a:moveTo>
                  <a:lnTo>
                    <a:pt x="115" y="145"/>
                  </a:lnTo>
                  <a:lnTo>
                    <a:pt x="111" y="167"/>
                  </a:lnTo>
                  <a:lnTo>
                    <a:pt x="106" y="188"/>
                  </a:lnTo>
                  <a:lnTo>
                    <a:pt x="99" y="205"/>
                  </a:lnTo>
                  <a:lnTo>
                    <a:pt x="90" y="219"/>
                  </a:lnTo>
                  <a:lnTo>
                    <a:pt x="80" y="231"/>
                  </a:lnTo>
                  <a:lnTo>
                    <a:pt x="70" y="238"/>
                  </a:lnTo>
                  <a:lnTo>
                    <a:pt x="57" y="240"/>
                  </a:lnTo>
                  <a:lnTo>
                    <a:pt x="46" y="238"/>
                  </a:lnTo>
                  <a:lnTo>
                    <a:pt x="35" y="231"/>
                  </a:lnTo>
                  <a:lnTo>
                    <a:pt x="26" y="219"/>
                  </a:lnTo>
                  <a:lnTo>
                    <a:pt x="17" y="205"/>
                  </a:lnTo>
                  <a:lnTo>
                    <a:pt x="10" y="188"/>
                  </a:lnTo>
                  <a:lnTo>
                    <a:pt x="4" y="167"/>
                  </a:lnTo>
                  <a:lnTo>
                    <a:pt x="1" y="145"/>
                  </a:lnTo>
                  <a:lnTo>
                    <a:pt x="0" y="121"/>
                  </a:lnTo>
                  <a:lnTo>
                    <a:pt x="1" y="97"/>
                  </a:lnTo>
                  <a:lnTo>
                    <a:pt x="4" y="75"/>
                  </a:lnTo>
                  <a:lnTo>
                    <a:pt x="10" y="53"/>
                  </a:lnTo>
                  <a:lnTo>
                    <a:pt x="17" y="35"/>
                  </a:lnTo>
                  <a:lnTo>
                    <a:pt x="26" y="21"/>
                  </a:lnTo>
                  <a:lnTo>
                    <a:pt x="35" y="10"/>
                  </a:lnTo>
                  <a:lnTo>
                    <a:pt x="46" y="3"/>
                  </a:lnTo>
                  <a:lnTo>
                    <a:pt x="57" y="0"/>
                  </a:lnTo>
                  <a:lnTo>
                    <a:pt x="70" y="3"/>
                  </a:lnTo>
                  <a:lnTo>
                    <a:pt x="80" y="10"/>
                  </a:lnTo>
                  <a:lnTo>
                    <a:pt x="90" y="21"/>
                  </a:lnTo>
                  <a:lnTo>
                    <a:pt x="99" y="35"/>
                  </a:lnTo>
                  <a:lnTo>
                    <a:pt x="106" y="53"/>
                  </a:lnTo>
                  <a:lnTo>
                    <a:pt x="111" y="75"/>
                  </a:lnTo>
                  <a:lnTo>
                    <a:pt x="115" y="97"/>
                  </a:lnTo>
                  <a:lnTo>
                    <a:pt x="116" y="121"/>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403360" y="5000760"/>
              <a:ext cx="250560" cy="331560"/>
            </a:xfrm>
            <a:custGeom>
              <a:avLst/>
              <a:gdLst/>
              <a:ahLst/>
              <a:rect l="l" t="t" r="r" b="b"/>
              <a:pathLst>
                <a:path w="250" h="503">
                  <a:moveTo>
                    <a:pt x="15" y="380"/>
                  </a:moveTo>
                  <a:lnTo>
                    <a:pt x="18" y="316"/>
                  </a:lnTo>
                  <a:lnTo>
                    <a:pt x="25" y="257"/>
                  </a:lnTo>
                  <a:lnTo>
                    <a:pt x="38" y="204"/>
                  </a:lnTo>
                  <a:lnTo>
                    <a:pt x="54" y="158"/>
                  </a:lnTo>
                  <a:lnTo>
                    <a:pt x="73" y="118"/>
                  </a:lnTo>
                  <a:lnTo>
                    <a:pt x="94" y="90"/>
                  </a:lnTo>
                  <a:lnTo>
                    <a:pt x="119" y="72"/>
                  </a:lnTo>
                  <a:lnTo>
                    <a:pt x="145" y="65"/>
                  </a:lnTo>
                  <a:lnTo>
                    <a:pt x="161" y="68"/>
                  </a:lnTo>
                  <a:lnTo>
                    <a:pt x="177" y="73"/>
                  </a:lnTo>
                  <a:lnTo>
                    <a:pt x="191" y="84"/>
                  </a:lnTo>
                  <a:lnTo>
                    <a:pt x="205" y="100"/>
                  </a:lnTo>
                  <a:lnTo>
                    <a:pt x="217" y="118"/>
                  </a:lnTo>
                  <a:lnTo>
                    <a:pt x="230" y="139"/>
                  </a:lnTo>
                  <a:lnTo>
                    <a:pt x="241" y="165"/>
                  </a:lnTo>
                  <a:lnTo>
                    <a:pt x="250" y="191"/>
                  </a:lnTo>
                  <a:lnTo>
                    <a:pt x="241" y="150"/>
                  </a:lnTo>
                  <a:lnTo>
                    <a:pt x="230" y="114"/>
                  </a:lnTo>
                  <a:lnTo>
                    <a:pt x="217" y="82"/>
                  </a:lnTo>
                  <a:lnTo>
                    <a:pt x="202" y="53"/>
                  </a:lnTo>
                  <a:lnTo>
                    <a:pt x="186" y="31"/>
                  </a:lnTo>
                  <a:lnTo>
                    <a:pt x="168" y="14"/>
                  </a:lnTo>
                  <a:lnTo>
                    <a:pt x="149" y="4"/>
                  </a:lnTo>
                  <a:lnTo>
                    <a:pt x="129" y="0"/>
                  </a:lnTo>
                  <a:lnTo>
                    <a:pt x="103" y="7"/>
                  </a:lnTo>
                  <a:lnTo>
                    <a:pt x="78" y="25"/>
                  </a:lnTo>
                  <a:lnTo>
                    <a:pt x="57" y="53"/>
                  </a:lnTo>
                  <a:lnTo>
                    <a:pt x="38" y="91"/>
                  </a:lnTo>
                  <a:lnTo>
                    <a:pt x="22" y="139"/>
                  </a:lnTo>
                  <a:lnTo>
                    <a:pt x="10" y="193"/>
                  </a:lnTo>
                  <a:lnTo>
                    <a:pt x="2" y="252"/>
                  </a:lnTo>
                  <a:lnTo>
                    <a:pt x="0" y="315"/>
                  </a:lnTo>
                  <a:lnTo>
                    <a:pt x="2" y="367"/>
                  </a:lnTo>
                  <a:lnTo>
                    <a:pt x="6" y="416"/>
                  </a:lnTo>
                  <a:lnTo>
                    <a:pt x="15" y="461"/>
                  </a:lnTo>
                  <a:lnTo>
                    <a:pt x="25" y="503"/>
                  </a:lnTo>
                  <a:lnTo>
                    <a:pt x="21" y="474"/>
                  </a:lnTo>
                  <a:lnTo>
                    <a:pt x="18" y="444"/>
                  </a:lnTo>
                  <a:lnTo>
                    <a:pt x="16" y="412"/>
                  </a:lnTo>
                  <a:lnTo>
                    <a:pt x="15"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454120" y="5292720"/>
              <a:ext cx="243000" cy="127080"/>
            </a:xfrm>
            <a:custGeom>
              <a:avLst/>
              <a:gdLst/>
              <a:ahLst/>
              <a:rect l="l" t="t" r="r" b="b"/>
              <a:pathLst>
                <a:path w="242" h="192">
                  <a:moveTo>
                    <a:pt x="201" y="0"/>
                  </a:moveTo>
                  <a:lnTo>
                    <a:pt x="203" y="87"/>
                  </a:lnTo>
                  <a:lnTo>
                    <a:pt x="212" y="143"/>
                  </a:lnTo>
                  <a:lnTo>
                    <a:pt x="212" y="143"/>
                  </a:lnTo>
                  <a:lnTo>
                    <a:pt x="211" y="145"/>
                  </a:lnTo>
                  <a:lnTo>
                    <a:pt x="209" y="147"/>
                  </a:lnTo>
                  <a:lnTo>
                    <a:pt x="203" y="149"/>
                  </a:lnTo>
                  <a:lnTo>
                    <a:pt x="194" y="152"/>
                  </a:lnTo>
                  <a:lnTo>
                    <a:pt x="180" y="156"/>
                  </a:lnTo>
                  <a:lnTo>
                    <a:pt x="159" y="159"/>
                  </a:lnTo>
                  <a:lnTo>
                    <a:pt x="132" y="163"/>
                  </a:lnTo>
                  <a:lnTo>
                    <a:pt x="103" y="164"/>
                  </a:lnTo>
                  <a:lnTo>
                    <a:pt x="77" y="164"/>
                  </a:lnTo>
                  <a:lnTo>
                    <a:pt x="53" y="162"/>
                  </a:lnTo>
                  <a:lnTo>
                    <a:pt x="35" y="157"/>
                  </a:lnTo>
                  <a:lnTo>
                    <a:pt x="21" y="153"/>
                  </a:lnTo>
                  <a:lnTo>
                    <a:pt x="9" y="149"/>
                  </a:lnTo>
                  <a:lnTo>
                    <a:pt x="3" y="146"/>
                  </a:lnTo>
                  <a:lnTo>
                    <a:pt x="0" y="145"/>
                  </a:lnTo>
                  <a:lnTo>
                    <a:pt x="4" y="147"/>
                  </a:lnTo>
                  <a:lnTo>
                    <a:pt x="13" y="153"/>
                  </a:lnTo>
                  <a:lnTo>
                    <a:pt x="27" y="160"/>
                  </a:lnTo>
                  <a:lnTo>
                    <a:pt x="45" y="170"/>
                  </a:lnTo>
                  <a:lnTo>
                    <a:pt x="67" y="178"/>
                  </a:lnTo>
                  <a:lnTo>
                    <a:pt x="89" y="187"/>
                  </a:lnTo>
                  <a:lnTo>
                    <a:pt x="114" y="191"/>
                  </a:lnTo>
                  <a:lnTo>
                    <a:pt x="138" y="192"/>
                  </a:lnTo>
                  <a:lnTo>
                    <a:pt x="160" y="190"/>
                  </a:lnTo>
                  <a:lnTo>
                    <a:pt x="181" y="185"/>
                  </a:lnTo>
                  <a:lnTo>
                    <a:pt x="199" y="181"/>
                  </a:lnTo>
                  <a:lnTo>
                    <a:pt x="213" y="176"/>
                  </a:lnTo>
                  <a:lnTo>
                    <a:pt x="226" y="171"/>
                  </a:lnTo>
                  <a:lnTo>
                    <a:pt x="235" y="167"/>
                  </a:lnTo>
                  <a:lnTo>
                    <a:pt x="239" y="164"/>
                  </a:lnTo>
                  <a:lnTo>
                    <a:pt x="242" y="163"/>
                  </a:lnTo>
                  <a:lnTo>
                    <a:pt x="220" y="104"/>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09120" y="5508720"/>
              <a:ext cx="287640" cy="623880"/>
            </a:xfrm>
            <a:custGeom>
              <a:avLst/>
              <a:gdLst/>
              <a:ahLst/>
              <a:rect l="l" t="t" r="r" b="b"/>
              <a:pathLst>
                <a:path w="289" h="945">
                  <a:moveTo>
                    <a:pt x="73" y="410"/>
                  </a:moveTo>
                  <a:lnTo>
                    <a:pt x="49" y="535"/>
                  </a:lnTo>
                  <a:lnTo>
                    <a:pt x="30" y="645"/>
                  </a:lnTo>
                  <a:lnTo>
                    <a:pt x="17" y="736"/>
                  </a:lnTo>
                  <a:lnTo>
                    <a:pt x="9" y="811"/>
                  </a:lnTo>
                  <a:lnTo>
                    <a:pt x="3" y="870"/>
                  </a:lnTo>
                  <a:lnTo>
                    <a:pt x="1" y="911"/>
                  </a:lnTo>
                  <a:lnTo>
                    <a:pt x="0" y="936"/>
                  </a:lnTo>
                  <a:lnTo>
                    <a:pt x="0" y="945"/>
                  </a:lnTo>
                  <a:lnTo>
                    <a:pt x="1" y="937"/>
                  </a:lnTo>
                  <a:lnTo>
                    <a:pt x="6" y="916"/>
                  </a:lnTo>
                  <a:lnTo>
                    <a:pt x="11" y="883"/>
                  </a:lnTo>
                  <a:lnTo>
                    <a:pt x="19" y="840"/>
                  </a:lnTo>
                  <a:lnTo>
                    <a:pt x="29" y="788"/>
                  </a:lnTo>
                  <a:lnTo>
                    <a:pt x="40" y="731"/>
                  </a:lnTo>
                  <a:lnTo>
                    <a:pt x="53" y="668"/>
                  </a:lnTo>
                  <a:lnTo>
                    <a:pt x="67" y="603"/>
                  </a:lnTo>
                  <a:lnTo>
                    <a:pt x="80" y="535"/>
                  </a:lnTo>
                  <a:lnTo>
                    <a:pt x="96" y="469"/>
                  </a:lnTo>
                  <a:lnTo>
                    <a:pt x="111" y="405"/>
                  </a:lnTo>
                  <a:lnTo>
                    <a:pt x="126" y="344"/>
                  </a:lnTo>
                  <a:lnTo>
                    <a:pt x="141" y="291"/>
                  </a:lnTo>
                  <a:lnTo>
                    <a:pt x="156" y="244"/>
                  </a:lnTo>
                  <a:lnTo>
                    <a:pt x="170" y="206"/>
                  </a:lnTo>
                  <a:lnTo>
                    <a:pt x="184" y="181"/>
                  </a:lnTo>
                  <a:lnTo>
                    <a:pt x="207" y="143"/>
                  </a:lnTo>
                  <a:lnTo>
                    <a:pt x="229" y="109"/>
                  </a:lnTo>
                  <a:lnTo>
                    <a:pt x="247" y="79"/>
                  </a:lnTo>
                  <a:lnTo>
                    <a:pt x="262" y="52"/>
                  </a:lnTo>
                  <a:lnTo>
                    <a:pt x="273" y="31"/>
                  </a:lnTo>
                  <a:lnTo>
                    <a:pt x="282" y="14"/>
                  </a:lnTo>
                  <a:lnTo>
                    <a:pt x="286" y="4"/>
                  </a:lnTo>
                  <a:lnTo>
                    <a:pt x="289" y="0"/>
                  </a:lnTo>
                  <a:lnTo>
                    <a:pt x="288" y="1"/>
                  </a:lnTo>
                  <a:lnTo>
                    <a:pt x="282" y="3"/>
                  </a:lnTo>
                  <a:lnTo>
                    <a:pt x="275" y="7"/>
                  </a:lnTo>
                  <a:lnTo>
                    <a:pt x="265" y="14"/>
                  </a:lnTo>
                  <a:lnTo>
                    <a:pt x="254" y="24"/>
                  </a:lnTo>
                  <a:lnTo>
                    <a:pt x="240" y="36"/>
                  </a:lnTo>
                  <a:lnTo>
                    <a:pt x="224" y="52"/>
                  </a:lnTo>
                  <a:lnTo>
                    <a:pt x="209" y="72"/>
                  </a:lnTo>
                  <a:lnTo>
                    <a:pt x="192" y="97"/>
                  </a:lnTo>
                  <a:lnTo>
                    <a:pt x="174" y="125"/>
                  </a:lnTo>
                  <a:lnTo>
                    <a:pt x="156" y="159"/>
                  </a:lnTo>
                  <a:lnTo>
                    <a:pt x="138" y="197"/>
                  </a:lnTo>
                  <a:lnTo>
                    <a:pt x="121" y="240"/>
                  </a:lnTo>
                  <a:lnTo>
                    <a:pt x="104" y="291"/>
                  </a:lnTo>
                  <a:lnTo>
                    <a:pt x="88" y="347"/>
                  </a:lnTo>
                  <a:lnTo>
                    <a:pt x="73"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48360" y="6141960"/>
              <a:ext cx="189720" cy="130320"/>
            </a:xfrm>
            <a:custGeom>
              <a:avLst/>
              <a:gdLst/>
              <a:ahLst/>
              <a:rect l="l" t="t" r="r" b="b"/>
              <a:pathLst>
                <a:path w="191" h="197">
                  <a:moveTo>
                    <a:pt x="2" y="0"/>
                  </a:moveTo>
                  <a:lnTo>
                    <a:pt x="1" y="10"/>
                  </a:lnTo>
                  <a:lnTo>
                    <a:pt x="0" y="34"/>
                  </a:lnTo>
                  <a:lnTo>
                    <a:pt x="0" y="68"/>
                  </a:lnTo>
                  <a:lnTo>
                    <a:pt x="1" y="106"/>
                  </a:lnTo>
                  <a:lnTo>
                    <a:pt x="6" y="142"/>
                  </a:lnTo>
                  <a:lnTo>
                    <a:pt x="18" y="175"/>
                  </a:lnTo>
                  <a:lnTo>
                    <a:pt x="34" y="194"/>
                  </a:lnTo>
                  <a:lnTo>
                    <a:pt x="59" y="197"/>
                  </a:lnTo>
                  <a:lnTo>
                    <a:pt x="87" y="185"/>
                  </a:lnTo>
                  <a:lnTo>
                    <a:pt x="113" y="162"/>
                  </a:lnTo>
                  <a:lnTo>
                    <a:pt x="136" y="135"/>
                  </a:lnTo>
                  <a:lnTo>
                    <a:pt x="155" y="106"/>
                  </a:lnTo>
                  <a:lnTo>
                    <a:pt x="170" y="78"/>
                  </a:lnTo>
                  <a:lnTo>
                    <a:pt x="182" y="54"/>
                  </a:lnTo>
                  <a:lnTo>
                    <a:pt x="189" y="37"/>
                  </a:lnTo>
                  <a:lnTo>
                    <a:pt x="191" y="30"/>
                  </a:lnTo>
                  <a:lnTo>
                    <a:pt x="188" y="34"/>
                  </a:lnTo>
                  <a:lnTo>
                    <a:pt x="179" y="45"/>
                  </a:lnTo>
                  <a:lnTo>
                    <a:pt x="165" y="61"/>
                  </a:lnTo>
                  <a:lnTo>
                    <a:pt x="148" y="78"/>
                  </a:lnTo>
                  <a:lnTo>
                    <a:pt x="129" y="96"/>
                  </a:lnTo>
                  <a:lnTo>
                    <a:pt x="109" y="113"/>
                  </a:lnTo>
                  <a:lnTo>
                    <a:pt x="89" y="125"/>
                  </a:lnTo>
                  <a:lnTo>
                    <a:pt x="69" y="131"/>
                  </a:lnTo>
                  <a:lnTo>
                    <a:pt x="50" y="127"/>
                  </a:lnTo>
                  <a:lnTo>
                    <a:pt x="36" y="113"/>
                  </a:lnTo>
                  <a:lnTo>
                    <a:pt x="23" y="92"/>
                  </a:lnTo>
                  <a:lnTo>
                    <a:pt x="14" y="68"/>
                  </a:lnTo>
                  <a:lnTo>
                    <a:pt x="9" y="43"/>
                  </a:lnTo>
                  <a:lnTo>
                    <a:pt x="4" y="21"/>
                  </a:lnTo>
                  <a:lnTo>
                    <a:pt x="3"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27280" y="6235560"/>
              <a:ext cx="1440" cy="36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 name=""/>
            <p:cNvSpPr/>
            <p:nvPr/>
          </p:nvSpPr>
          <p:spPr>
            <a:xfrm>
              <a:off x="1770480" y="5565600"/>
              <a:ext cx="203040" cy="51120"/>
            </a:xfrm>
            <a:custGeom>
              <a:avLst/>
              <a:gdLst/>
              <a:ahLst/>
              <a:rect l="l" t="t" r="r" b="b"/>
              <a:pathLst>
                <a:path w="204" h="80">
                  <a:moveTo>
                    <a:pt x="0" y="7"/>
                  </a:moveTo>
                  <a:lnTo>
                    <a:pt x="0" y="9"/>
                  </a:lnTo>
                  <a:lnTo>
                    <a:pt x="1" y="11"/>
                  </a:lnTo>
                  <a:lnTo>
                    <a:pt x="5" y="14"/>
                  </a:lnTo>
                  <a:lnTo>
                    <a:pt x="10" y="18"/>
                  </a:lnTo>
                  <a:lnTo>
                    <a:pt x="19" y="24"/>
                  </a:lnTo>
                  <a:lnTo>
                    <a:pt x="33" y="27"/>
                  </a:lnTo>
                  <a:lnTo>
                    <a:pt x="51" y="30"/>
                  </a:lnTo>
                  <a:lnTo>
                    <a:pt x="74" y="31"/>
                  </a:lnTo>
                  <a:lnTo>
                    <a:pt x="100" y="34"/>
                  </a:lnTo>
                  <a:lnTo>
                    <a:pt x="125" y="38"/>
                  </a:lnTo>
                  <a:lnTo>
                    <a:pt x="147" y="47"/>
                  </a:lnTo>
                  <a:lnTo>
                    <a:pt x="166" y="55"/>
                  </a:lnTo>
                  <a:lnTo>
                    <a:pt x="182" y="65"/>
                  </a:lnTo>
                  <a:lnTo>
                    <a:pt x="194" y="73"/>
                  </a:lnTo>
                  <a:lnTo>
                    <a:pt x="202" y="77"/>
                  </a:lnTo>
                  <a:lnTo>
                    <a:pt x="204" y="80"/>
                  </a:lnTo>
                  <a:lnTo>
                    <a:pt x="203" y="79"/>
                  </a:lnTo>
                  <a:lnTo>
                    <a:pt x="197" y="73"/>
                  </a:lnTo>
                  <a:lnTo>
                    <a:pt x="189" y="65"/>
                  </a:lnTo>
                  <a:lnTo>
                    <a:pt x="178" y="55"/>
                  </a:lnTo>
                  <a:lnTo>
                    <a:pt x="164" y="44"/>
                  </a:lnTo>
                  <a:lnTo>
                    <a:pt x="147" y="33"/>
                  </a:lnTo>
                  <a:lnTo>
                    <a:pt x="125" y="23"/>
                  </a:lnTo>
                  <a:lnTo>
                    <a:pt x="102" y="13"/>
                  </a:lnTo>
                  <a:lnTo>
                    <a:pt x="78" y="6"/>
                  </a:lnTo>
                  <a:lnTo>
                    <a:pt x="58" y="2"/>
                  </a:lnTo>
                  <a:lnTo>
                    <a:pt x="41" y="0"/>
                  </a:lnTo>
                  <a:lnTo>
                    <a:pt x="26" y="0"/>
                  </a:lnTo>
                  <a:lnTo>
                    <a:pt x="15" y="3"/>
                  </a:lnTo>
                  <a:lnTo>
                    <a:pt x="7" y="4"/>
                  </a:lnTo>
                  <a:lnTo>
                    <a:pt x="1" y="6"/>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 name=""/>
            <p:cNvSpPr/>
            <p:nvPr/>
          </p:nvSpPr>
          <p:spPr>
            <a:xfrm>
              <a:off x="2798640" y="5543640"/>
              <a:ext cx="31680" cy="150840"/>
            </a:xfrm>
            <a:custGeom>
              <a:avLst/>
              <a:gdLst/>
              <a:ahLst/>
              <a:rect l="l" t="t" r="r" b="b"/>
              <a:pathLst>
                <a:path w="31" h="229">
                  <a:moveTo>
                    <a:pt x="21" y="10"/>
                  </a:moveTo>
                  <a:lnTo>
                    <a:pt x="17" y="18"/>
                  </a:lnTo>
                  <a:lnTo>
                    <a:pt x="12" y="41"/>
                  </a:lnTo>
                  <a:lnTo>
                    <a:pt x="5" y="73"/>
                  </a:lnTo>
                  <a:lnTo>
                    <a:pt x="0" y="112"/>
                  </a:lnTo>
                  <a:lnTo>
                    <a:pt x="1" y="153"/>
                  </a:lnTo>
                  <a:lnTo>
                    <a:pt x="5" y="191"/>
                  </a:lnTo>
                  <a:lnTo>
                    <a:pt x="8" y="218"/>
                  </a:lnTo>
                  <a:lnTo>
                    <a:pt x="10" y="229"/>
                  </a:lnTo>
                  <a:lnTo>
                    <a:pt x="23" y="228"/>
                  </a:lnTo>
                  <a:lnTo>
                    <a:pt x="23" y="226"/>
                  </a:lnTo>
                  <a:lnTo>
                    <a:pt x="22" y="223"/>
                  </a:lnTo>
                  <a:lnTo>
                    <a:pt x="19" y="215"/>
                  </a:lnTo>
                  <a:lnTo>
                    <a:pt x="16" y="199"/>
                  </a:lnTo>
                  <a:lnTo>
                    <a:pt x="16" y="159"/>
                  </a:lnTo>
                  <a:lnTo>
                    <a:pt x="22" y="91"/>
                  </a:lnTo>
                  <a:lnTo>
                    <a:pt x="27" y="28"/>
                  </a:lnTo>
                  <a:lnTo>
                    <a:pt x="31" y="0"/>
                  </a:lnTo>
                  <a:lnTo>
                    <a:pt x="2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772280" y="5811840"/>
              <a:ext cx="133560" cy="208080"/>
            </a:xfrm>
            <a:custGeom>
              <a:avLst/>
              <a:gdLst/>
              <a:ahLst/>
              <a:rect l="l" t="t" r="r" b="b"/>
              <a:pathLst>
                <a:path w="133" h="318">
                  <a:moveTo>
                    <a:pt x="94" y="159"/>
                  </a:moveTo>
                  <a:lnTo>
                    <a:pt x="103" y="153"/>
                  </a:lnTo>
                  <a:lnTo>
                    <a:pt x="110" y="146"/>
                  </a:lnTo>
                  <a:lnTo>
                    <a:pt x="116" y="138"/>
                  </a:lnTo>
                  <a:lnTo>
                    <a:pt x="122" y="129"/>
                  </a:lnTo>
                  <a:lnTo>
                    <a:pt x="127" y="118"/>
                  </a:lnTo>
                  <a:lnTo>
                    <a:pt x="130" y="107"/>
                  </a:lnTo>
                  <a:lnTo>
                    <a:pt x="132" y="96"/>
                  </a:lnTo>
                  <a:lnTo>
                    <a:pt x="133" y="83"/>
                  </a:lnTo>
                  <a:lnTo>
                    <a:pt x="132" y="66"/>
                  </a:lnTo>
                  <a:lnTo>
                    <a:pt x="128" y="51"/>
                  </a:lnTo>
                  <a:lnTo>
                    <a:pt x="122" y="37"/>
                  </a:lnTo>
                  <a:lnTo>
                    <a:pt x="114" y="24"/>
                  </a:lnTo>
                  <a:lnTo>
                    <a:pt x="104" y="14"/>
                  </a:lnTo>
                  <a:lnTo>
                    <a:pt x="93" y="7"/>
                  </a:lnTo>
                  <a:lnTo>
                    <a:pt x="80" y="2"/>
                  </a:lnTo>
                  <a:lnTo>
                    <a:pt x="67" y="0"/>
                  </a:lnTo>
                  <a:lnTo>
                    <a:pt x="53" y="2"/>
                  </a:lnTo>
                  <a:lnTo>
                    <a:pt x="41" y="7"/>
                  </a:lnTo>
                  <a:lnTo>
                    <a:pt x="30" y="14"/>
                  </a:lnTo>
                  <a:lnTo>
                    <a:pt x="21" y="24"/>
                  </a:lnTo>
                  <a:lnTo>
                    <a:pt x="12" y="37"/>
                  </a:lnTo>
                  <a:lnTo>
                    <a:pt x="6" y="51"/>
                  </a:lnTo>
                  <a:lnTo>
                    <a:pt x="1" y="66"/>
                  </a:lnTo>
                  <a:lnTo>
                    <a:pt x="0" y="83"/>
                  </a:lnTo>
                  <a:lnTo>
                    <a:pt x="1" y="96"/>
                  </a:lnTo>
                  <a:lnTo>
                    <a:pt x="4" y="107"/>
                  </a:lnTo>
                  <a:lnTo>
                    <a:pt x="7" y="118"/>
                  </a:lnTo>
                  <a:lnTo>
                    <a:pt x="12" y="129"/>
                  </a:lnTo>
                  <a:lnTo>
                    <a:pt x="17" y="138"/>
                  </a:lnTo>
                  <a:lnTo>
                    <a:pt x="25" y="146"/>
                  </a:lnTo>
                  <a:lnTo>
                    <a:pt x="32" y="153"/>
                  </a:lnTo>
                  <a:lnTo>
                    <a:pt x="41" y="159"/>
                  </a:lnTo>
                  <a:lnTo>
                    <a:pt x="32" y="165"/>
                  </a:lnTo>
                  <a:lnTo>
                    <a:pt x="25" y="172"/>
                  </a:lnTo>
                  <a:lnTo>
                    <a:pt x="17" y="180"/>
                  </a:lnTo>
                  <a:lnTo>
                    <a:pt x="12" y="188"/>
                  </a:lnTo>
                  <a:lnTo>
                    <a:pt x="7" y="200"/>
                  </a:lnTo>
                  <a:lnTo>
                    <a:pt x="4" y="211"/>
                  </a:lnTo>
                  <a:lnTo>
                    <a:pt x="1" y="222"/>
                  </a:lnTo>
                  <a:lnTo>
                    <a:pt x="0" y="235"/>
                  </a:lnTo>
                  <a:lnTo>
                    <a:pt x="1" y="252"/>
                  </a:lnTo>
                  <a:lnTo>
                    <a:pt x="6" y="267"/>
                  </a:lnTo>
                  <a:lnTo>
                    <a:pt x="12" y="281"/>
                  </a:lnTo>
                  <a:lnTo>
                    <a:pt x="21" y="293"/>
                  </a:lnTo>
                  <a:lnTo>
                    <a:pt x="30" y="304"/>
                  </a:lnTo>
                  <a:lnTo>
                    <a:pt x="41" y="311"/>
                  </a:lnTo>
                  <a:lnTo>
                    <a:pt x="53" y="316"/>
                  </a:lnTo>
                  <a:lnTo>
                    <a:pt x="67" y="318"/>
                  </a:lnTo>
                  <a:lnTo>
                    <a:pt x="80" y="316"/>
                  </a:lnTo>
                  <a:lnTo>
                    <a:pt x="93" y="311"/>
                  </a:lnTo>
                  <a:lnTo>
                    <a:pt x="104" y="304"/>
                  </a:lnTo>
                  <a:lnTo>
                    <a:pt x="114" y="293"/>
                  </a:lnTo>
                  <a:lnTo>
                    <a:pt x="122" y="281"/>
                  </a:lnTo>
                  <a:lnTo>
                    <a:pt x="128" y="267"/>
                  </a:lnTo>
                  <a:lnTo>
                    <a:pt x="132" y="252"/>
                  </a:lnTo>
                  <a:lnTo>
                    <a:pt x="133" y="235"/>
                  </a:lnTo>
                  <a:lnTo>
                    <a:pt x="132" y="222"/>
                  </a:lnTo>
                  <a:lnTo>
                    <a:pt x="130" y="211"/>
                  </a:lnTo>
                  <a:lnTo>
                    <a:pt x="127" y="200"/>
                  </a:lnTo>
                  <a:lnTo>
                    <a:pt x="122" y="188"/>
                  </a:lnTo>
                  <a:lnTo>
                    <a:pt x="116" y="180"/>
                  </a:lnTo>
                  <a:lnTo>
                    <a:pt x="110" y="172"/>
                  </a:lnTo>
                  <a:lnTo>
                    <a:pt x="103" y="165"/>
                  </a:lnTo>
                  <a:lnTo>
                    <a:pt x="94" y="159"/>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348560" y="5138640"/>
              <a:ext cx="243000" cy="69840"/>
            </a:xfrm>
            <a:custGeom>
              <a:avLst/>
              <a:gdLst/>
              <a:ahLst/>
              <a:rect l="l" t="t" r="r" b="b"/>
              <a:pathLst>
                <a:path w="242" h="105">
                  <a:moveTo>
                    <a:pt x="238" y="19"/>
                  </a:moveTo>
                  <a:lnTo>
                    <a:pt x="239" y="14"/>
                  </a:lnTo>
                  <a:lnTo>
                    <a:pt x="241" y="9"/>
                  </a:lnTo>
                  <a:lnTo>
                    <a:pt x="241" y="5"/>
                  </a:lnTo>
                  <a:lnTo>
                    <a:pt x="242" y="0"/>
                  </a:lnTo>
                  <a:lnTo>
                    <a:pt x="221" y="1"/>
                  </a:lnTo>
                  <a:lnTo>
                    <a:pt x="201" y="4"/>
                  </a:lnTo>
                  <a:lnTo>
                    <a:pt x="182" y="8"/>
                  </a:lnTo>
                  <a:lnTo>
                    <a:pt x="164" y="12"/>
                  </a:lnTo>
                  <a:lnTo>
                    <a:pt x="146" y="16"/>
                  </a:lnTo>
                  <a:lnTo>
                    <a:pt x="128" y="22"/>
                  </a:lnTo>
                  <a:lnTo>
                    <a:pt x="112" y="28"/>
                  </a:lnTo>
                  <a:lnTo>
                    <a:pt x="96" y="35"/>
                  </a:lnTo>
                  <a:lnTo>
                    <a:pt x="80" y="42"/>
                  </a:lnTo>
                  <a:lnTo>
                    <a:pt x="66" y="49"/>
                  </a:lnTo>
                  <a:lnTo>
                    <a:pt x="52" y="57"/>
                  </a:lnTo>
                  <a:lnTo>
                    <a:pt x="40" y="66"/>
                  </a:lnTo>
                  <a:lnTo>
                    <a:pt x="29" y="75"/>
                  </a:lnTo>
                  <a:lnTo>
                    <a:pt x="18" y="85"/>
                  </a:lnTo>
                  <a:lnTo>
                    <a:pt x="8" y="95"/>
                  </a:lnTo>
                  <a:lnTo>
                    <a:pt x="0" y="105"/>
                  </a:lnTo>
                  <a:lnTo>
                    <a:pt x="11" y="97"/>
                  </a:lnTo>
                  <a:lnTo>
                    <a:pt x="21" y="88"/>
                  </a:lnTo>
                  <a:lnTo>
                    <a:pt x="32" y="81"/>
                  </a:lnTo>
                  <a:lnTo>
                    <a:pt x="44" y="73"/>
                  </a:lnTo>
                  <a:lnTo>
                    <a:pt x="57" y="66"/>
                  </a:lnTo>
                  <a:lnTo>
                    <a:pt x="70" y="60"/>
                  </a:lnTo>
                  <a:lnTo>
                    <a:pt x="85" y="53"/>
                  </a:lnTo>
                  <a:lnTo>
                    <a:pt x="100" y="47"/>
                  </a:lnTo>
                  <a:lnTo>
                    <a:pt x="115" y="42"/>
                  </a:lnTo>
                  <a:lnTo>
                    <a:pt x="131" y="37"/>
                  </a:lnTo>
                  <a:lnTo>
                    <a:pt x="148" y="33"/>
                  </a:lnTo>
                  <a:lnTo>
                    <a:pt x="165" y="29"/>
                  </a:lnTo>
                  <a:lnTo>
                    <a:pt x="183" y="26"/>
                  </a:lnTo>
                  <a:lnTo>
                    <a:pt x="201" y="23"/>
                  </a:lnTo>
                  <a:lnTo>
                    <a:pt x="219" y="21"/>
                  </a:lnTo>
                  <a:lnTo>
                    <a:pt x="238" y="19"/>
                  </a:lnTo>
                  <a:close/>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 name=""/>
            <p:cNvSpPr/>
            <p:nvPr/>
          </p:nvSpPr>
          <p:spPr>
            <a:xfrm>
              <a:off x="1354320" y="5195880"/>
              <a:ext cx="225720" cy="68400"/>
            </a:xfrm>
            <a:custGeom>
              <a:avLst/>
              <a:gdLst/>
              <a:ahLst/>
              <a:rect l="l" t="t" r="r" b="b"/>
              <a:pathLst>
                <a:path w="227" h="104">
                  <a:moveTo>
                    <a:pt x="225" y="20"/>
                  </a:moveTo>
                  <a:lnTo>
                    <a:pt x="225" y="14"/>
                  </a:lnTo>
                  <a:lnTo>
                    <a:pt x="227" y="10"/>
                  </a:lnTo>
                  <a:lnTo>
                    <a:pt x="227" y="6"/>
                  </a:lnTo>
                  <a:lnTo>
                    <a:pt x="227" y="0"/>
                  </a:lnTo>
                  <a:lnTo>
                    <a:pt x="207" y="3"/>
                  </a:lnTo>
                  <a:lnTo>
                    <a:pt x="189" y="6"/>
                  </a:lnTo>
                  <a:lnTo>
                    <a:pt x="171" y="9"/>
                  </a:lnTo>
                  <a:lnTo>
                    <a:pt x="153" y="13"/>
                  </a:lnTo>
                  <a:lnTo>
                    <a:pt x="136" y="19"/>
                  </a:lnTo>
                  <a:lnTo>
                    <a:pt x="121" y="23"/>
                  </a:lnTo>
                  <a:lnTo>
                    <a:pt x="105" y="30"/>
                  </a:lnTo>
                  <a:lnTo>
                    <a:pt x="90" y="35"/>
                  </a:lnTo>
                  <a:lnTo>
                    <a:pt x="75" y="42"/>
                  </a:lnTo>
                  <a:lnTo>
                    <a:pt x="62" y="51"/>
                  </a:lnTo>
                  <a:lnTo>
                    <a:pt x="50" y="58"/>
                  </a:lnTo>
                  <a:lnTo>
                    <a:pt x="37" y="66"/>
                  </a:lnTo>
                  <a:lnTo>
                    <a:pt x="27" y="76"/>
                  </a:lnTo>
                  <a:lnTo>
                    <a:pt x="17" y="85"/>
                  </a:lnTo>
                  <a:lnTo>
                    <a:pt x="8" y="94"/>
                  </a:lnTo>
                  <a:lnTo>
                    <a:pt x="0" y="104"/>
                  </a:lnTo>
                  <a:lnTo>
                    <a:pt x="9" y="96"/>
                  </a:lnTo>
                  <a:lnTo>
                    <a:pt x="19" y="89"/>
                  </a:lnTo>
                  <a:lnTo>
                    <a:pt x="30" y="80"/>
                  </a:lnTo>
                  <a:lnTo>
                    <a:pt x="42" y="73"/>
                  </a:lnTo>
                  <a:lnTo>
                    <a:pt x="54" y="68"/>
                  </a:lnTo>
                  <a:lnTo>
                    <a:pt x="66" y="61"/>
                  </a:lnTo>
                  <a:lnTo>
                    <a:pt x="80" y="55"/>
                  </a:lnTo>
                  <a:lnTo>
                    <a:pt x="95" y="49"/>
                  </a:lnTo>
                  <a:lnTo>
                    <a:pt x="109" y="44"/>
                  </a:lnTo>
                  <a:lnTo>
                    <a:pt x="124" y="38"/>
                  </a:lnTo>
                  <a:lnTo>
                    <a:pt x="140" y="34"/>
                  </a:lnTo>
                  <a:lnTo>
                    <a:pt x="157" y="31"/>
                  </a:lnTo>
                  <a:lnTo>
                    <a:pt x="174" y="27"/>
                  </a:lnTo>
                  <a:lnTo>
                    <a:pt x="190" y="24"/>
                  </a:lnTo>
                  <a:lnTo>
                    <a:pt x="207" y="21"/>
                  </a:lnTo>
                  <a:lnTo>
                    <a:pt x="225" y="20"/>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 name=""/>
            <p:cNvSpPr/>
            <p:nvPr/>
          </p:nvSpPr>
          <p:spPr>
            <a:xfrm>
              <a:off x="1384560" y="5243400"/>
              <a:ext cx="197640" cy="65160"/>
            </a:xfrm>
            <a:custGeom>
              <a:avLst/>
              <a:gdLst/>
              <a:ahLst/>
              <a:rect l="l" t="t" r="r" b="b"/>
              <a:pathLst>
                <a:path w="198" h="100">
                  <a:moveTo>
                    <a:pt x="198" y="19"/>
                  </a:moveTo>
                  <a:lnTo>
                    <a:pt x="197" y="13"/>
                  </a:lnTo>
                  <a:lnTo>
                    <a:pt x="197" y="9"/>
                  </a:lnTo>
                  <a:lnTo>
                    <a:pt x="197" y="5"/>
                  </a:lnTo>
                  <a:lnTo>
                    <a:pt x="196" y="0"/>
                  </a:lnTo>
                  <a:lnTo>
                    <a:pt x="180" y="3"/>
                  </a:lnTo>
                  <a:lnTo>
                    <a:pt x="163" y="6"/>
                  </a:lnTo>
                  <a:lnTo>
                    <a:pt x="148" y="10"/>
                  </a:lnTo>
                  <a:lnTo>
                    <a:pt x="134" y="14"/>
                  </a:lnTo>
                  <a:lnTo>
                    <a:pt x="119" y="20"/>
                  </a:lnTo>
                  <a:lnTo>
                    <a:pt x="104" y="26"/>
                  </a:lnTo>
                  <a:lnTo>
                    <a:pt x="92" y="31"/>
                  </a:lnTo>
                  <a:lnTo>
                    <a:pt x="78" y="37"/>
                  </a:lnTo>
                  <a:lnTo>
                    <a:pt x="66" y="44"/>
                  </a:lnTo>
                  <a:lnTo>
                    <a:pt x="55" y="51"/>
                  </a:lnTo>
                  <a:lnTo>
                    <a:pt x="44" y="58"/>
                  </a:lnTo>
                  <a:lnTo>
                    <a:pt x="34" y="66"/>
                  </a:lnTo>
                  <a:lnTo>
                    <a:pt x="24" y="73"/>
                  </a:lnTo>
                  <a:lnTo>
                    <a:pt x="15" y="82"/>
                  </a:lnTo>
                  <a:lnTo>
                    <a:pt x="7" y="92"/>
                  </a:lnTo>
                  <a:lnTo>
                    <a:pt x="0" y="100"/>
                  </a:lnTo>
                  <a:lnTo>
                    <a:pt x="8" y="93"/>
                  </a:lnTo>
                  <a:lnTo>
                    <a:pt x="17" y="86"/>
                  </a:lnTo>
                  <a:lnTo>
                    <a:pt x="28" y="79"/>
                  </a:lnTo>
                  <a:lnTo>
                    <a:pt x="38" y="72"/>
                  </a:lnTo>
                  <a:lnTo>
                    <a:pt x="49" y="65"/>
                  </a:lnTo>
                  <a:lnTo>
                    <a:pt x="60" y="59"/>
                  </a:lnTo>
                  <a:lnTo>
                    <a:pt x="72" y="54"/>
                  </a:lnTo>
                  <a:lnTo>
                    <a:pt x="84" y="48"/>
                  </a:lnTo>
                  <a:lnTo>
                    <a:pt x="96" y="44"/>
                  </a:lnTo>
                  <a:lnTo>
                    <a:pt x="110" y="38"/>
                  </a:lnTo>
                  <a:lnTo>
                    <a:pt x="123" y="34"/>
                  </a:lnTo>
                  <a:lnTo>
                    <a:pt x="138" y="30"/>
                  </a:lnTo>
                  <a:lnTo>
                    <a:pt x="153" y="27"/>
                  </a:lnTo>
                  <a:lnTo>
                    <a:pt x="167" y="24"/>
                  </a:lnTo>
                  <a:lnTo>
                    <a:pt x="182" y="21"/>
                  </a:lnTo>
                  <a:lnTo>
                    <a:pt x="198" y="1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 name=""/>
            <p:cNvSpPr/>
            <p:nvPr/>
          </p:nvSpPr>
          <p:spPr>
            <a:xfrm>
              <a:off x="1412640" y="5297400"/>
              <a:ext cx="188280" cy="63720"/>
            </a:xfrm>
            <a:custGeom>
              <a:avLst/>
              <a:gdLst/>
              <a:ahLst/>
              <a:rect l="l" t="t" r="r" b="b"/>
              <a:pathLst>
                <a:path w="188" h="97">
                  <a:moveTo>
                    <a:pt x="188" y="16"/>
                  </a:moveTo>
                  <a:lnTo>
                    <a:pt x="187" y="12"/>
                  </a:lnTo>
                  <a:lnTo>
                    <a:pt x="186" y="8"/>
                  </a:lnTo>
                  <a:lnTo>
                    <a:pt x="183" y="4"/>
                  </a:lnTo>
                  <a:lnTo>
                    <a:pt x="182" y="0"/>
                  </a:lnTo>
                  <a:lnTo>
                    <a:pt x="166" y="2"/>
                  </a:lnTo>
                  <a:lnTo>
                    <a:pt x="152" y="7"/>
                  </a:lnTo>
                  <a:lnTo>
                    <a:pt x="138" y="11"/>
                  </a:lnTo>
                  <a:lnTo>
                    <a:pt x="124" y="15"/>
                  </a:lnTo>
                  <a:lnTo>
                    <a:pt x="110" y="19"/>
                  </a:lnTo>
                  <a:lnTo>
                    <a:pt x="98" y="25"/>
                  </a:lnTo>
                  <a:lnTo>
                    <a:pt x="84" y="30"/>
                  </a:lnTo>
                  <a:lnTo>
                    <a:pt x="73" y="37"/>
                  </a:lnTo>
                  <a:lnTo>
                    <a:pt x="62" y="43"/>
                  </a:lnTo>
                  <a:lnTo>
                    <a:pt x="50" y="50"/>
                  </a:lnTo>
                  <a:lnTo>
                    <a:pt x="40" y="57"/>
                  </a:lnTo>
                  <a:lnTo>
                    <a:pt x="31" y="64"/>
                  </a:lnTo>
                  <a:lnTo>
                    <a:pt x="22" y="73"/>
                  </a:lnTo>
                  <a:lnTo>
                    <a:pt x="14" y="80"/>
                  </a:lnTo>
                  <a:lnTo>
                    <a:pt x="6" y="88"/>
                  </a:lnTo>
                  <a:lnTo>
                    <a:pt x="0" y="97"/>
                  </a:lnTo>
                  <a:lnTo>
                    <a:pt x="7" y="89"/>
                  </a:lnTo>
                  <a:lnTo>
                    <a:pt x="16" y="82"/>
                  </a:lnTo>
                  <a:lnTo>
                    <a:pt x="25" y="75"/>
                  </a:lnTo>
                  <a:lnTo>
                    <a:pt x="36" y="70"/>
                  </a:lnTo>
                  <a:lnTo>
                    <a:pt x="46" y="64"/>
                  </a:lnTo>
                  <a:lnTo>
                    <a:pt x="57" y="57"/>
                  </a:lnTo>
                  <a:lnTo>
                    <a:pt x="68" y="53"/>
                  </a:lnTo>
                  <a:lnTo>
                    <a:pt x="80" y="47"/>
                  </a:lnTo>
                  <a:lnTo>
                    <a:pt x="92" y="42"/>
                  </a:lnTo>
                  <a:lnTo>
                    <a:pt x="104" y="37"/>
                  </a:lnTo>
                  <a:lnTo>
                    <a:pt x="118" y="33"/>
                  </a:lnTo>
                  <a:lnTo>
                    <a:pt x="131" y="29"/>
                  </a:lnTo>
                  <a:lnTo>
                    <a:pt x="145" y="25"/>
                  </a:lnTo>
                  <a:lnTo>
                    <a:pt x="159" y="22"/>
                  </a:lnTo>
                  <a:lnTo>
                    <a:pt x="173" y="19"/>
                  </a:lnTo>
                  <a:lnTo>
                    <a:pt x="188" y="16"/>
                  </a:lnTo>
                  <a:close/>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 name=""/>
            <p:cNvSpPr/>
            <p:nvPr/>
          </p:nvSpPr>
          <p:spPr>
            <a:xfrm>
              <a:off x="1463400" y="5343480"/>
              <a:ext cx="178920" cy="61920"/>
            </a:xfrm>
            <a:custGeom>
              <a:avLst/>
              <a:gdLst/>
              <a:ahLst/>
              <a:rect l="l" t="t" r="r" b="b"/>
              <a:pathLst>
                <a:path w="179" h="94">
                  <a:moveTo>
                    <a:pt x="179" y="16"/>
                  </a:moveTo>
                  <a:lnTo>
                    <a:pt x="175" y="11"/>
                  </a:lnTo>
                  <a:lnTo>
                    <a:pt x="173" y="7"/>
                  </a:lnTo>
                  <a:lnTo>
                    <a:pt x="170" y="4"/>
                  </a:lnTo>
                  <a:lnTo>
                    <a:pt x="166" y="0"/>
                  </a:lnTo>
                  <a:lnTo>
                    <a:pt x="139" y="7"/>
                  </a:lnTo>
                  <a:lnTo>
                    <a:pt x="113" y="16"/>
                  </a:lnTo>
                  <a:lnTo>
                    <a:pt x="89" y="26"/>
                  </a:lnTo>
                  <a:lnTo>
                    <a:pt x="67" y="37"/>
                  </a:lnTo>
                  <a:lnTo>
                    <a:pt x="47" y="49"/>
                  </a:lnTo>
                  <a:lnTo>
                    <a:pt x="30" y="63"/>
                  </a:lnTo>
                  <a:lnTo>
                    <a:pt x="14" y="79"/>
                  </a:lnTo>
                  <a:lnTo>
                    <a:pt x="0" y="94"/>
                  </a:lnTo>
                  <a:lnTo>
                    <a:pt x="16" y="80"/>
                  </a:lnTo>
                  <a:lnTo>
                    <a:pt x="34" y="69"/>
                  </a:lnTo>
                  <a:lnTo>
                    <a:pt x="55" y="56"/>
                  </a:lnTo>
                  <a:lnTo>
                    <a:pt x="76" y="47"/>
                  </a:lnTo>
                  <a:lnTo>
                    <a:pt x="100" y="37"/>
                  </a:lnTo>
                  <a:lnTo>
                    <a:pt x="124" y="28"/>
                  </a:lnTo>
                  <a:lnTo>
                    <a:pt x="150" y="21"/>
                  </a:lnTo>
                  <a:lnTo>
                    <a:pt x="179" y="16"/>
                  </a:lnTo>
                  <a:close/>
                </a:path>
              </a:pathLst>
            </a:custGeom>
            <a:solidFill>
              <a:srgbClr val="c0c0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 name=""/>
            <p:cNvSpPr/>
            <p:nvPr/>
          </p:nvSpPr>
          <p:spPr>
            <a:xfrm>
              <a:off x="1518120" y="5384880"/>
              <a:ext cx="188280" cy="61920"/>
            </a:xfrm>
            <a:custGeom>
              <a:avLst/>
              <a:gdLst/>
              <a:ahLst/>
              <a:rect l="l" t="t" r="r" b="b"/>
              <a:pathLst>
                <a:path w="188" h="96">
                  <a:moveTo>
                    <a:pt x="188" y="16"/>
                  </a:moveTo>
                  <a:lnTo>
                    <a:pt x="183" y="11"/>
                  </a:lnTo>
                  <a:lnTo>
                    <a:pt x="180" y="7"/>
                  </a:lnTo>
                  <a:lnTo>
                    <a:pt x="175" y="4"/>
                  </a:lnTo>
                  <a:lnTo>
                    <a:pt x="171" y="0"/>
                  </a:lnTo>
                  <a:lnTo>
                    <a:pt x="143" y="7"/>
                  </a:lnTo>
                  <a:lnTo>
                    <a:pt x="117" y="16"/>
                  </a:lnTo>
                  <a:lnTo>
                    <a:pt x="92" y="27"/>
                  </a:lnTo>
                  <a:lnTo>
                    <a:pt x="68" y="38"/>
                  </a:lnTo>
                  <a:lnTo>
                    <a:pt x="48" y="51"/>
                  </a:lnTo>
                  <a:lnTo>
                    <a:pt x="29" y="65"/>
                  </a:lnTo>
                  <a:lnTo>
                    <a:pt x="13" y="80"/>
                  </a:lnTo>
                  <a:lnTo>
                    <a:pt x="0" y="96"/>
                  </a:lnTo>
                  <a:lnTo>
                    <a:pt x="7" y="89"/>
                  </a:lnTo>
                  <a:lnTo>
                    <a:pt x="16" y="82"/>
                  </a:lnTo>
                  <a:lnTo>
                    <a:pt x="25" y="75"/>
                  </a:lnTo>
                  <a:lnTo>
                    <a:pt x="36" y="69"/>
                  </a:lnTo>
                  <a:lnTo>
                    <a:pt x="46" y="63"/>
                  </a:lnTo>
                  <a:lnTo>
                    <a:pt x="56" y="56"/>
                  </a:lnTo>
                  <a:lnTo>
                    <a:pt x="67" y="52"/>
                  </a:lnTo>
                  <a:lnTo>
                    <a:pt x="80" y="46"/>
                  </a:lnTo>
                  <a:lnTo>
                    <a:pt x="92" y="41"/>
                  </a:lnTo>
                  <a:lnTo>
                    <a:pt x="104" y="37"/>
                  </a:lnTo>
                  <a:lnTo>
                    <a:pt x="117" y="32"/>
                  </a:lnTo>
                  <a:lnTo>
                    <a:pt x="130" y="28"/>
                  </a:lnTo>
                  <a:lnTo>
                    <a:pt x="144" y="24"/>
                  </a:lnTo>
                  <a:lnTo>
                    <a:pt x="158" y="21"/>
                  </a:lnTo>
                  <a:lnTo>
                    <a:pt x="173" y="18"/>
                  </a:lnTo>
                  <a:lnTo>
                    <a:pt x="188" y="16"/>
                  </a:lnTo>
                  <a:close/>
                </a:path>
              </a:pathLst>
            </a:custGeom>
            <a:solidFill>
              <a:srgbClr val="c0c0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 name=""/>
            <p:cNvSpPr/>
            <p:nvPr/>
          </p:nvSpPr>
          <p:spPr>
            <a:xfrm>
              <a:off x="1584000" y="5418000"/>
              <a:ext cx="182520" cy="61920"/>
            </a:xfrm>
            <a:custGeom>
              <a:avLst/>
              <a:gdLst/>
              <a:ahLst/>
              <a:rect l="l" t="t" r="r" b="b"/>
              <a:pathLst>
                <a:path w="182" h="94">
                  <a:moveTo>
                    <a:pt x="182" y="14"/>
                  </a:moveTo>
                  <a:lnTo>
                    <a:pt x="177" y="11"/>
                  </a:lnTo>
                  <a:lnTo>
                    <a:pt x="173" y="7"/>
                  </a:lnTo>
                  <a:lnTo>
                    <a:pt x="168" y="4"/>
                  </a:lnTo>
                  <a:lnTo>
                    <a:pt x="164" y="0"/>
                  </a:lnTo>
                  <a:lnTo>
                    <a:pt x="136" y="7"/>
                  </a:lnTo>
                  <a:lnTo>
                    <a:pt x="112" y="17"/>
                  </a:lnTo>
                  <a:lnTo>
                    <a:pt x="88" y="26"/>
                  </a:lnTo>
                  <a:lnTo>
                    <a:pt x="67" y="38"/>
                  </a:lnTo>
                  <a:lnTo>
                    <a:pt x="46" y="50"/>
                  </a:lnTo>
                  <a:lnTo>
                    <a:pt x="28" y="64"/>
                  </a:lnTo>
                  <a:lnTo>
                    <a:pt x="14" y="78"/>
                  </a:lnTo>
                  <a:lnTo>
                    <a:pt x="0" y="94"/>
                  </a:lnTo>
                  <a:lnTo>
                    <a:pt x="8" y="87"/>
                  </a:lnTo>
                  <a:lnTo>
                    <a:pt x="16" y="80"/>
                  </a:lnTo>
                  <a:lnTo>
                    <a:pt x="25" y="74"/>
                  </a:lnTo>
                  <a:lnTo>
                    <a:pt x="35" y="67"/>
                  </a:lnTo>
                  <a:lnTo>
                    <a:pt x="45" y="62"/>
                  </a:lnTo>
                  <a:lnTo>
                    <a:pt x="55" y="56"/>
                  </a:lnTo>
                  <a:lnTo>
                    <a:pt x="65" y="50"/>
                  </a:lnTo>
                  <a:lnTo>
                    <a:pt x="78" y="45"/>
                  </a:lnTo>
                  <a:lnTo>
                    <a:pt x="89" y="40"/>
                  </a:lnTo>
                  <a:lnTo>
                    <a:pt x="102" y="35"/>
                  </a:lnTo>
                  <a:lnTo>
                    <a:pt x="114" y="31"/>
                  </a:lnTo>
                  <a:lnTo>
                    <a:pt x="126" y="26"/>
                  </a:lnTo>
                  <a:lnTo>
                    <a:pt x="140" y="24"/>
                  </a:lnTo>
                  <a:lnTo>
                    <a:pt x="153" y="19"/>
                  </a:lnTo>
                  <a:lnTo>
                    <a:pt x="167" y="17"/>
                  </a:lnTo>
                  <a:lnTo>
                    <a:pt x="182" y="14"/>
                  </a:lnTo>
                  <a:close/>
                </a:path>
              </a:pathLst>
            </a:custGeom>
            <a:solidFill>
              <a:srgbClr val="c0c0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1648080" y="5451480"/>
              <a:ext cx="189720" cy="63360"/>
            </a:xfrm>
            <a:custGeom>
              <a:avLst/>
              <a:gdLst/>
              <a:ahLst/>
              <a:rect l="l" t="t" r="r" b="b"/>
              <a:pathLst>
                <a:path w="191" h="95">
                  <a:moveTo>
                    <a:pt x="191" y="15"/>
                  </a:moveTo>
                  <a:lnTo>
                    <a:pt x="185" y="11"/>
                  </a:lnTo>
                  <a:lnTo>
                    <a:pt x="181" y="7"/>
                  </a:lnTo>
                  <a:lnTo>
                    <a:pt x="175" y="4"/>
                  </a:lnTo>
                  <a:lnTo>
                    <a:pt x="169" y="0"/>
                  </a:lnTo>
                  <a:lnTo>
                    <a:pt x="141" y="7"/>
                  </a:lnTo>
                  <a:lnTo>
                    <a:pt x="115" y="15"/>
                  </a:lnTo>
                  <a:lnTo>
                    <a:pt x="90" y="26"/>
                  </a:lnTo>
                  <a:lnTo>
                    <a:pt x="68" y="38"/>
                  </a:lnTo>
                  <a:lnTo>
                    <a:pt x="48" y="50"/>
                  </a:lnTo>
                  <a:lnTo>
                    <a:pt x="29" y="64"/>
                  </a:lnTo>
                  <a:lnTo>
                    <a:pt x="14" y="80"/>
                  </a:lnTo>
                  <a:lnTo>
                    <a:pt x="0" y="95"/>
                  </a:lnTo>
                  <a:lnTo>
                    <a:pt x="8" y="88"/>
                  </a:lnTo>
                  <a:lnTo>
                    <a:pt x="17" y="81"/>
                  </a:lnTo>
                  <a:lnTo>
                    <a:pt x="26" y="74"/>
                  </a:lnTo>
                  <a:lnTo>
                    <a:pt x="36" y="67"/>
                  </a:lnTo>
                  <a:lnTo>
                    <a:pt x="46" y="62"/>
                  </a:lnTo>
                  <a:lnTo>
                    <a:pt x="58" y="56"/>
                  </a:lnTo>
                  <a:lnTo>
                    <a:pt x="69" y="50"/>
                  </a:lnTo>
                  <a:lnTo>
                    <a:pt x="80" y="45"/>
                  </a:lnTo>
                  <a:lnTo>
                    <a:pt x="93" y="39"/>
                  </a:lnTo>
                  <a:lnTo>
                    <a:pt x="106" y="35"/>
                  </a:lnTo>
                  <a:lnTo>
                    <a:pt x="119" y="31"/>
                  </a:lnTo>
                  <a:lnTo>
                    <a:pt x="132" y="26"/>
                  </a:lnTo>
                  <a:lnTo>
                    <a:pt x="147" y="24"/>
                  </a:lnTo>
                  <a:lnTo>
                    <a:pt x="161" y="21"/>
                  </a:lnTo>
                  <a:lnTo>
                    <a:pt x="176" y="18"/>
                  </a:lnTo>
                  <a:lnTo>
                    <a:pt x="191" y="15"/>
                  </a:lnTo>
                  <a:close/>
                </a:path>
              </a:pathLst>
            </a:cu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 name=""/>
            <p:cNvSpPr/>
            <p:nvPr/>
          </p:nvSpPr>
          <p:spPr>
            <a:xfrm>
              <a:off x="2179440" y="5492880"/>
              <a:ext cx="361080" cy="236520"/>
            </a:xfrm>
            <a:custGeom>
              <a:avLst/>
              <a:gdLst/>
              <a:ahLst/>
              <a:rect l="l" t="t" r="r" b="b"/>
              <a:pathLst>
                <a:path w="362" h="357">
                  <a:moveTo>
                    <a:pt x="182" y="0"/>
                  </a:moveTo>
                  <a:lnTo>
                    <a:pt x="164" y="1"/>
                  </a:lnTo>
                  <a:lnTo>
                    <a:pt x="146" y="4"/>
                  </a:lnTo>
                  <a:lnTo>
                    <a:pt x="128" y="8"/>
                  </a:lnTo>
                  <a:lnTo>
                    <a:pt x="111" y="14"/>
                  </a:lnTo>
                  <a:lnTo>
                    <a:pt x="95" y="21"/>
                  </a:lnTo>
                  <a:lnTo>
                    <a:pt x="80" y="31"/>
                  </a:lnTo>
                  <a:lnTo>
                    <a:pt x="67" y="41"/>
                  </a:lnTo>
                  <a:lnTo>
                    <a:pt x="53" y="52"/>
                  </a:lnTo>
                  <a:lnTo>
                    <a:pt x="42" y="65"/>
                  </a:lnTo>
                  <a:lnTo>
                    <a:pt x="31" y="79"/>
                  </a:lnTo>
                  <a:lnTo>
                    <a:pt x="22" y="93"/>
                  </a:lnTo>
                  <a:lnTo>
                    <a:pt x="15" y="108"/>
                  </a:lnTo>
                  <a:lnTo>
                    <a:pt x="8" y="125"/>
                  </a:lnTo>
                  <a:lnTo>
                    <a:pt x="4" y="142"/>
                  </a:lnTo>
                  <a:lnTo>
                    <a:pt x="1" y="159"/>
                  </a:lnTo>
                  <a:lnTo>
                    <a:pt x="0" y="177"/>
                  </a:lnTo>
                  <a:lnTo>
                    <a:pt x="1" y="195"/>
                  </a:lnTo>
                  <a:lnTo>
                    <a:pt x="4" y="214"/>
                  </a:lnTo>
                  <a:lnTo>
                    <a:pt x="8" y="230"/>
                  </a:lnTo>
                  <a:lnTo>
                    <a:pt x="15" y="247"/>
                  </a:lnTo>
                  <a:lnTo>
                    <a:pt x="22" y="263"/>
                  </a:lnTo>
                  <a:lnTo>
                    <a:pt x="31" y="278"/>
                  </a:lnTo>
                  <a:lnTo>
                    <a:pt x="42" y="292"/>
                  </a:lnTo>
                  <a:lnTo>
                    <a:pt x="53" y="305"/>
                  </a:lnTo>
                  <a:lnTo>
                    <a:pt x="67" y="316"/>
                  </a:lnTo>
                  <a:lnTo>
                    <a:pt x="80" y="326"/>
                  </a:lnTo>
                  <a:lnTo>
                    <a:pt x="95" y="336"/>
                  </a:lnTo>
                  <a:lnTo>
                    <a:pt x="111" y="343"/>
                  </a:lnTo>
                  <a:lnTo>
                    <a:pt x="128" y="349"/>
                  </a:lnTo>
                  <a:lnTo>
                    <a:pt x="146" y="353"/>
                  </a:lnTo>
                  <a:lnTo>
                    <a:pt x="164" y="356"/>
                  </a:lnTo>
                  <a:lnTo>
                    <a:pt x="182" y="357"/>
                  </a:lnTo>
                  <a:lnTo>
                    <a:pt x="200" y="356"/>
                  </a:lnTo>
                  <a:lnTo>
                    <a:pt x="218" y="353"/>
                  </a:lnTo>
                  <a:lnTo>
                    <a:pt x="235" y="349"/>
                  </a:lnTo>
                  <a:lnTo>
                    <a:pt x="252" y="343"/>
                  </a:lnTo>
                  <a:lnTo>
                    <a:pt x="267" y="336"/>
                  </a:lnTo>
                  <a:lnTo>
                    <a:pt x="282" y="326"/>
                  </a:lnTo>
                  <a:lnTo>
                    <a:pt x="297" y="316"/>
                  </a:lnTo>
                  <a:lnTo>
                    <a:pt x="309" y="305"/>
                  </a:lnTo>
                  <a:lnTo>
                    <a:pt x="320" y="292"/>
                  </a:lnTo>
                  <a:lnTo>
                    <a:pt x="332" y="278"/>
                  </a:lnTo>
                  <a:lnTo>
                    <a:pt x="341" y="263"/>
                  </a:lnTo>
                  <a:lnTo>
                    <a:pt x="347" y="247"/>
                  </a:lnTo>
                  <a:lnTo>
                    <a:pt x="354" y="230"/>
                  </a:lnTo>
                  <a:lnTo>
                    <a:pt x="359" y="214"/>
                  </a:lnTo>
                  <a:lnTo>
                    <a:pt x="361" y="195"/>
                  </a:lnTo>
                  <a:lnTo>
                    <a:pt x="362" y="177"/>
                  </a:lnTo>
                  <a:lnTo>
                    <a:pt x="361" y="159"/>
                  </a:lnTo>
                  <a:lnTo>
                    <a:pt x="359" y="142"/>
                  </a:lnTo>
                  <a:lnTo>
                    <a:pt x="354" y="125"/>
                  </a:lnTo>
                  <a:lnTo>
                    <a:pt x="347" y="108"/>
                  </a:lnTo>
                  <a:lnTo>
                    <a:pt x="341" y="93"/>
                  </a:lnTo>
                  <a:lnTo>
                    <a:pt x="332" y="79"/>
                  </a:lnTo>
                  <a:lnTo>
                    <a:pt x="320" y="65"/>
                  </a:lnTo>
                  <a:lnTo>
                    <a:pt x="309" y="52"/>
                  </a:lnTo>
                  <a:lnTo>
                    <a:pt x="297" y="41"/>
                  </a:lnTo>
                  <a:lnTo>
                    <a:pt x="282" y="31"/>
                  </a:lnTo>
                  <a:lnTo>
                    <a:pt x="267" y="21"/>
                  </a:lnTo>
                  <a:lnTo>
                    <a:pt x="252" y="14"/>
                  </a:lnTo>
                  <a:lnTo>
                    <a:pt x="235" y="8"/>
                  </a:lnTo>
                  <a:lnTo>
                    <a:pt x="218" y="4"/>
                  </a:lnTo>
                  <a:lnTo>
                    <a:pt x="200" y="1"/>
                  </a:lnTo>
                  <a:lnTo>
                    <a:pt x="182" y="0"/>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01760" y="5511960"/>
              <a:ext cx="318600" cy="198360"/>
            </a:xfrm>
            <a:custGeom>
              <a:avLst/>
              <a:gdLst/>
              <a:ahLst/>
              <a:rect l="l" t="t" r="r" b="b"/>
              <a:pathLst>
                <a:path w="317" h="301">
                  <a:moveTo>
                    <a:pt x="159" y="0"/>
                  </a:moveTo>
                  <a:lnTo>
                    <a:pt x="127" y="3"/>
                  </a:lnTo>
                  <a:lnTo>
                    <a:pt x="97" y="11"/>
                  </a:lnTo>
                  <a:lnTo>
                    <a:pt x="70" y="25"/>
                  </a:lnTo>
                  <a:lnTo>
                    <a:pt x="46" y="44"/>
                  </a:lnTo>
                  <a:lnTo>
                    <a:pt x="27" y="66"/>
                  </a:lnTo>
                  <a:lnTo>
                    <a:pt x="12" y="91"/>
                  </a:lnTo>
                  <a:lnTo>
                    <a:pt x="3" y="120"/>
                  </a:lnTo>
                  <a:lnTo>
                    <a:pt x="0" y="149"/>
                  </a:lnTo>
                  <a:lnTo>
                    <a:pt x="3" y="180"/>
                  </a:lnTo>
                  <a:lnTo>
                    <a:pt x="12" y="208"/>
                  </a:lnTo>
                  <a:lnTo>
                    <a:pt x="27" y="235"/>
                  </a:lnTo>
                  <a:lnTo>
                    <a:pt x="46" y="256"/>
                  </a:lnTo>
                  <a:lnTo>
                    <a:pt x="70" y="276"/>
                  </a:lnTo>
                  <a:lnTo>
                    <a:pt x="97" y="290"/>
                  </a:lnTo>
                  <a:lnTo>
                    <a:pt x="127" y="298"/>
                  </a:lnTo>
                  <a:lnTo>
                    <a:pt x="159" y="301"/>
                  </a:lnTo>
                  <a:lnTo>
                    <a:pt x="190" y="298"/>
                  </a:lnTo>
                  <a:lnTo>
                    <a:pt x="220" y="290"/>
                  </a:lnTo>
                  <a:lnTo>
                    <a:pt x="247" y="276"/>
                  </a:lnTo>
                  <a:lnTo>
                    <a:pt x="270" y="256"/>
                  </a:lnTo>
                  <a:lnTo>
                    <a:pt x="289" y="235"/>
                  </a:lnTo>
                  <a:lnTo>
                    <a:pt x="304" y="208"/>
                  </a:lnTo>
                  <a:lnTo>
                    <a:pt x="313" y="180"/>
                  </a:lnTo>
                  <a:lnTo>
                    <a:pt x="317" y="149"/>
                  </a:lnTo>
                  <a:lnTo>
                    <a:pt x="313" y="120"/>
                  </a:lnTo>
                  <a:lnTo>
                    <a:pt x="304" y="91"/>
                  </a:lnTo>
                  <a:lnTo>
                    <a:pt x="289" y="66"/>
                  </a:lnTo>
                  <a:lnTo>
                    <a:pt x="270" y="44"/>
                  </a:lnTo>
                  <a:lnTo>
                    <a:pt x="247" y="25"/>
                  </a:lnTo>
                  <a:lnTo>
                    <a:pt x="220" y="11"/>
                  </a:lnTo>
                  <a:lnTo>
                    <a:pt x="190" y="3"/>
                  </a:lnTo>
                  <a:lnTo>
                    <a:pt x="159" y="0"/>
                  </a:lnTo>
                  <a:close/>
                </a:path>
              </a:pathLst>
            </a:custGeom>
            <a:solidFill>
              <a:srgbClr val="f2c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24080" y="5530680"/>
              <a:ext cx="271080" cy="162000"/>
            </a:xfrm>
            <a:custGeom>
              <a:avLst/>
              <a:gdLst/>
              <a:ahLst/>
              <a:rect l="l" t="t" r="r" b="b"/>
              <a:pathLst>
                <a:path w="272" h="245">
                  <a:moveTo>
                    <a:pt x="137" y="0"/>
                  </a:moveTo>
                  <a:lnTo>
                    <a:pt x="110" y="3"/>
                  </a:lnTo>
                  <a:lnTo>
                    <a:pt x="84" y="10"/>
                  </a:lnTo>
                  <a:lnTo>
                    <a:pt x="60" y="21"/>
                  </a:lnTo>
                  <a:lnTo>
                    <a:pt x="40" y="35"/>
                  </a:lnTo>
                  <a:lnTo>
                    <a:pt x="24" y="54"/>
                  </a:lnTo>
                  <a:lnTo>
                    <a:pt x="10" y="75"/>
                  </a:lnTo>
                  <a:lnTo>
                    <a:pt x="3" y="97"/>
                  </a:lnTo>
                  <a:lnTo>
                    <a:pt x="0" y="121"/>
                  </a:lnTo>
                  <a:lnTo>
                    <a:pt x="3" y="146"/>
                  </a:lnTo>
                  <a:lnTo>
                    <a:pt x="10" y="169"/>
                  </a:lnTo>
                  <a:lnTo>
                    <a:pt x="24" y="190"/>
                  </a:lnTo>
                  <a:lnTo>
                    <a:pt x="40" y="208"/>
                  </a:lnTo>
                  <a:lnTo>
                    <a:pt x="60" y="224"/>
                  </a:lnTo>
                  <a:lnTo>
                    <a:pt x="84" y="235"/>
                  </a:lnTo>
                  <a:lnTo>
                    <a:pt x="110" y="242"/>
                  </a:lnTo>
                  <a:lnTo>
                    <a:pt x="137" y="245"/>
                  </a:lnTo>
                  <a:lnTo>
                    <a:pt x="164" y="242"/>
                  </a:lnTo>
                  <a:lnTo>
                    <a:pt x="190" y="235"/>
                  </a:lnTo>
                  <a:lnTo>
                    <a:pt x="212" y="224"/>
                  </a:lnTo>
                  <a:lnTo>
                    <a:pt x="233" y="208"/>
                  </a:lnTo>
                  <a:lnTo>
                    <a:pt x="248" y="190"/>
                  </a:lnTo>
                  <a:lnTo>
                    <a:pt x="262" y="169"/>
                  </a:lnTo>
                  <a:lnTo>
                    <a:pt x="270" y="146"/>
                  </a:lnTo>
                  <a:lnTo>
                    <a:pt x="272" y="121"/>
                  </a:lnTo>
                  <a:lnTo>
                    <a:pt x="270" y="97"/>
                  </a:lnTo>
                  <a:lnTo>
                    <a:pt x="262" y="75"/>
                  </a:lnTo>
                  <a:lnTo>
                    <a:pt x="248" y="54"/>
                  </a:lnTo>
                  <a:lnTo>
                    <a:pt x="233" y="35"/>
                  </a:lnTo>
                  <a:lnTo>
                    <a:pt x="212" y="21"/>
                  </a:lnTo>
                  <a:lnTo>
                    <a:pt x="190" y="10"/>
                  </a:lnTo>
                  <a:lnTo>
                    <a:pt x="164" y="3"/>
                  </a:lnTo>
                  <a:lnTo>
                    <a:pt x="137" y="0"/>
                  </a:lnTo>
                  <a:close/>
                </a:path>
              </a:pathLst>
            </a:custGeom>
            <a:solidFill>
              <a:srgbClr val="f2b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46760" y="5549760"/>
              <a:ext cx="225720" cy="122400"/>
            </a:xfrm>
            <a:custGeom>
              <a:avLst/>
              <a:gdLst/>
              <a:ahLst/>
              <a:rect l="l" t="t" r="r" b="b"/>
              <a:pathLst>
                <a:path w="226" h="187">
                  <a:moveTo>
                    <a:pt x="114" y="0"/>
                  </a:moveTo>
                  <a:lnTo>
                    <a:pt x="91" y="2"/>
                  </a:lnTo>
                  <a:lnTo>
                    <a:pt x="70" y="7"/>
                  </a:lnTo>
                  <a:lnTo>
                    <a:pt x="49" y="16"/>
                  </a:lnTo>
                  <a:lnTo>
                    <a:pt x="34" y="27"/>
                  </a:lnTo>
                  <a:lnTo>
                    <a:pt x="19" y="41"/>
                  </a:lnTo>
                  <a:lnTo>
                    <a:pt x="9" y="57"/>
                  </a:lnTo>
                  <a:lnTo>
                    <a:pt x="2" y="75"/>
                  </a:lnTo>
                  <a:lnTo>
                    <a:pt x="0" y="93"/>
                  </a:lnTo>
                  <a:lnTo>
                    <a:pt x="2" y="113"/>
                  </a:lnTo>
                  <a:lnTo>
                    <a:pt x="9" y="130"/>
                  </a:lnTo>
                  <a:lnTo>
                    <a:pt x="19" y="145"/>
                  </a:lnTo>
                  <a:lnTo>
                    <a:pt x="34" y="159"/>
                  </a:lnTo>
                  <a:lnTo>
                    <a:pt x="49" y="172"/>
                  </a:lnTo>
                  <a:lnTo>
                    <a:pt x="70" y="180"/>
                  </a:lnTo>
                  <a:lnTo>
                    <a:pt x="91" y="186"/>
                  </a:lnTo>
                  <a:lnTo>
                    <a:pt x="114" y="187"/>
                  </a:lnTo>
                  <a:lnTo>
                    <a:pt x="136" y="186"/>
                  </a:lnTo>
                  <a:lnTo>
                    <a:pt x="158" y="180"/>
                  </a:lnTo>
                  <a:lnTo>
                    <a:pt x="177" y="172"/>
                  </a:lnTo>
                  <a:lnTo>
                    <a:pt x="194" y="159"/>
                  </a:lnTo>
                  <a:lnTo>
                    <a:pt x="207" y="145"/>
                  </a:lnTo>
                  <a:lnTo>
                    <a:pt x="217" y="130"/>
                  </a:lnTo>
                  <a:lnTo>
                    <a:pt x="224" y="113"/>
                  </a:lnTo>
                  <a:lnTo>
                    <a:pt x="226" y="93"/>
                  </a:lnTo>
                  <a:lnTo>
                    <a:pt x="224" y="75"/>
                  </a:lnTo>
                  <a:lnTo>
                    <a:pt x="217" y="57"/>
                  </a:lnTo>
                  <a:lnTo>
                    <a:pt x="207" y="41"/>
                  </a:lnTo>
                  <a:lnTo>
                    <a:pt x="194" y="27"/>
                  </a:lnTo>
                  <a:lnTo>
                    <a:pt x="177" y="16"/>
                  </a:lnTo>
                  <a:lnTo>
                    <a:pt x="158" y="7"/>
                  </a:lnTo>
                  <a:lnTo>
                    <a:pt x="136" y="2"/>
                  </a:lnTo>
                  <a:lnTo>
                    <a:pt x="114" y="0"/>
                  </a:lnTo>
                  <a:close/>
                </a:path>
              </a:pathLst>
            </a:custGeom>
            <a:solidFill>
              <a:srgbClr val="f2a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269440" y="5567400"/>
              <a:ext cx="181080" cy="85680"/>
            </a:xfrm>
            <a:custGeom>
              <a:avLst/>
              <a:gdLst/>
              <a:ahLst/>
              <a:rect l="l" t="t" r="r" b="b"/>
              <a:pathLst>
                <a:path w="182" h="131">
                  <a:moveTo>
                    <a:pt x="92" y="0"/>
                  </a:moveTo>
                  <a:lnTo>
                    <a:pt x="74" y="2"/>
                  </a:lnTo>
                  <a:lnTo>
                    <a:pt x="56" y="6"/>
                  </a:lnTo>
                  <a:lnTo>
                    <a:pt x="41" y="12"/>
                  </a:lnTo>
                  <a:lnTo>
                    <a:pt x="27" y="19"/>
                  </a:lnTo>
                  <a:lnTo>
                    <a:pt x="16" y="29"/>
                  </a:lnTo>
                  <a:lnTo>
                    <a:pt x="7" y="40"/>
                  </a:lnTo>
                  <a:lnTo>
                    <a:pt x="3" y="52"/>
                  </a:lnTo>
                  <a:lnTo>
                    <a:pt x="0" y="65"/>
                  </a:lnTo>
                  <a:lnTo>
                    <a:pt x="3" y="78"/>
                  </a:lnTo>
                  <a:lnTo>
                    <a:pt x="7" y="90"/>
                  </a:lnTo>
                  <a:lnTo>
                    <a:pt x="16" y="102"/>
                  </a:lnTo>
                  <a:lnTo>
                    <a:pt x="27" y="111"/>
                  </a:lnTo>
                  <a:lnTo>
                    <a:pt x="41" y="120"/>
                  </a:lnTo>
                  <a:lnTo>
                    <a:pt x="56" y="126"/>
                  </a:lnTo>
                  <a:lnTo>
                    <a:pt x="74" y="130"/>
                  </a:lnTo>
                  <a:lnTo>
                    <a:pt x="92" y="131"/>
                  </a:lnTo>
                  <a:lnTo>
                    <a:pt x="110" y="130"/>
                  </a:lnTo>
                  <a:lnTo>
                    <a:pt x="127" y="126"/>
                  </a:lnTo>
                  <a:lnTo>
                    <a:pt x="141" y="120"/>
                  </a:lnTo>
                  <a:lnTo>
                    <a:pt x="155" y="111"/>
                  </a:lnTo>
                  <a:lnTo>
                    <a:pt x="166" y="102"/>
                  </a:lnTo>
                  <a:lnTo>
                    <a:pt x="175" y="90"/>
                  </a:lnTo>
                  <a:lnTo>
                    <a:pt x="180" y="78"/>
                  </a:lnTo>
                  <a:lnTo>
                    <a:pt x="182" y="65"/>
                  </a:lnTo>
                  <a:lnTo>
                    <a:pt x="180" y="52"/>
                  </a:lnTo>
                  <a:lnTo>
                    <a:pt x="175" y="40"/>
                  </a:lnTo>
                  <a:lnTo>
                    <a:pt x="166" y="29"/>
                  </a:lnTo>
                  <a:lnTo>
                    <a:pt x="155" y="19"/>
                  </a:lnTo>
                  <a:lnTo>
                    <a:pt x="141" y="12"/>
                  </a:lnTo>
                  <a:lnTo>
                    <a:pt x="127" y="6"/>
                  </a:lnTo>
                  <a:lnTo>
                    <a:pt x="110" y="2"/>
                  </a:lnTo>
                  <a:lnTo>
                    <a:pt x="92" y="0"/>
                  </a:lnTo>
                  <a:close/>
                </a:path>
              </a:pathLst>
            </a:custGeom>
            <a:solidFill>
              <a:srgbClr val="f296a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2166120" y="5589720"/>
              <a:ext cx="274320" cy="129960"/>
            </a:xfrm>
            <a:custGeom>
              <a:avLst/>
              <a:gdLst/>
              <a:ahLst/>
              <a:rect l="l" t="t" r="r" b="b"/>
              <a:pathLst>
                <a:path w="273" h="197">
                  <a:moveTo>
                    <a:pt x="136" y="158"/>
                  </a:moveTo>
                  <a:lnTo>
                    <a:pt x="104" y="145"/>
                  </a:lnTo>
                  <a:lnTo>
                    <a:pt x="75" y="125"/>
                  </a:lnTo>
                  <a:lnTo>
                    <a:pt x="52" y="99"/>
                  </a:lnTo>
                  <a:lnTo>
                    <a:pt x="32" y="72"/>
                  </a:lnTo>
                  <a:lnTo>
                    <a:pt x="18" y="45"/>
                  </a:lnTo>
                  <a:lnTo>
                    <a:pt x="8" y="23"/>
                  </a:lnTo>
                  <a:lnTo>
                    <a:pt x="2" y="6"/>
                  </a:lnTo>
                  <a:lnTo>
                    <a:pt x="0" y="0"/>
                  </a:lnTo>
                  <a:lnTo>
                    <a:pt x="1" y="9"/>
                  </a:lnTo>
                  <a:lnTo>
                    <a:pt x="3" y="31"/>
                  </a:lnTo>
                  <a:lnTo>
                    <a:pt x="8" y="62"/>
                  </a:lnTo>
                  <a:lnTo>
                    <a:pt x="17" y="99"/>
                  </a:lnTo>
                  <a:lnTo>
                    <a:pt x="29" y="135"/>
                  </a:lnTo>
                  <a:lnTo>
                    <a:pt x="47" y="166"/>
                  </a:lnTo>
                  <a:lnTo>
                    <a:pt x="70" y="189"/>
                  </a:lnTo>
                  <a:lnTo>
                    <a:pt x="100" y="197"/>
                  </a:lnTo>
                  <a:lnTo>
                    <a:pt x="133" y="196"/>
                  </a:lnTo>
                  <a:lnTo>
                    <a:pt x="164" y="191"/>
                  </a:lnTo>
                  <a:lnTo>
                    <a:pt x="194" y="187"/>
                  </a:lnTo>
                  <a:lnTo>
                    <a:pt x="220" y="180"/>
                  </a:lnTo>
                  <a:lnTo>
                    <a:pt x="241" y="174"/>
                  </a:lnTo>
                  <a:lnTo>
                    <a:pt x="258" y="170"/>
                  </a:lnTo>
                  <a:lnTo>
                    <a:pt x="269" y="166"/>
                  </a:lnTo>
                  <a:lnTo>
                    <a:pt x="273" y="165"/>
                  </a:lnTo>
                  <a:lnTo>
                    <a:pt x="270" y="165"/>
                  </a:lnTo>
                  <a:lnTo>
                    <a:pt x="265" y="166"/>
                  </a:lnTo>
                  <a:lnTo>
                    <a:pt x="255" y="167"/>
                  </a:lnTo>
                  <a:lnTo>
                    <a:pt x="240" y="169"/>
                  </a:lnTo>
                  <a:lnTo>
                    <a:pt x="221" y="169"/>
                  </a:lnTo>
                  <a:lnTo>
                    <a:pt x="197" y="167"/>
                  </a:lnTo>
                  <a:lnTo>
                    <a:pt x="169" y="163"/>
                  </a:lnTo>
                  <a:lnTo>
                    <a:pt x="136"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 name=""/>
          <p:cNvSpPr/>
          <p:nvPr/>
        </p:nvSpPr>
        <p:spPr>
          <a:xfrm>
            <a:off x="2057400" y="700200"/>
            <a:ext cx="5638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Decimals</a:t>
            </a:r>
            <a:endParaRPr b="0" lang="en-US" sz="2800" spc="-1" strike="noStrike">
              <a:solidFill>
                <a:srgbClr val="000000"/>
              </a:solidFill>
              <a:latin typeface="Times New Roman"/>
            </a:endParaRPr>
          </a:p>
        </p:txBody>
      </p:sp>
      <p:sp>
        <p:nvSpPr>
          <p:cNvPr id="74" name=""/>
          <p:cNvSpPr txBox="1"/>
          <p:nvPr/>
        </p:nvSpPr>
        <p:spPr>
          <a:xfrm>
            <a:off x="3200400" y="4832280"/>
            <a:ext cx="5334120" cy="1400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3366ff"/>
                    </a:gs>
                    <a:gs pos="50000">
                      <a:srgbClr val="9999ff"/>
                    </a:gs>
                    <a:gs pos="100000">
                      <a:srgbClr val="3366ff"/>
                    </a:gs>
                  </a:gsLst>
                  <a:lin ang="5400000"/>
                </a:gradFill>
                <a:effectLst>
                  <a:outerShdw dist="40186" dir="1096358" blurRad="0" rotWithShape="0">
                    <a:srgbClr val="808080"/>
                  </a:outerShdw>
                </a:effectLst>
                <a:latin typeface="Comic Sans MS"/>
              </a:rPr>
              <a:t>with decimals</a:t>
            </a:r>
            <a:endParaRPr b="1" lang="en-US" sz="2400" spc="1" strike="noStrike">
              <a:ln w="12600">
                <a:solidFill>
                  <a:srgbClr val="000000"/>
                </a:solidFill>
                <a:miter/>
              </a:ln>
              <a:gradFill rotWithShape="0">
                <a:gsLst>
                  <a:gs pos="0">
                    <a:srgbClr val="3366ff"/>
                  </a:gs>
                  <a:gs pos="50000">
                    <a:srgbClr val="9999ff"/>
                  </a:gs>
                  <a:gs pos="100000">
                    <a:srgbClr val="3366ff"/>
                  </a:gs>
                </a:gsLst>
                <a:lin ang="5400000"/>
              </a:gradFill>
              <a:effectLst>
                <a:outerShdw dist="40186" dir="1096358" blurRad="0" rotWithShape="0">
                  <a:srgbClr val="808080"/>
                </a:outerShdw>
              </a:effectLst>
              <a:latin typeface="Comic Sans MS"/>
              <a:ea typeface="Comic Sans MS"/>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14" name=""/>
          <p:cNvSpPr/>
          <p:nvPr/>
        </p:nvSpPr>
        <p:spPr>
          <a:xfrm>
            <a:off x="609480" y="1355760"/>
            <a:ext cx="78487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 compares his checkbook record with his monthly bank statement, which says he has $876.47. Stan sees that checks for $32.84, $97.10, and $158.78 have not been cashed yet. How much money does Stan really have available?</a:t>
            </a:r>
            <a:endParaRPr b="0" lang="en-US" sz="4000" spc="-1" strike="noStrike">
              <a:solidFill>
                <a:srgbClr val="000000"/>
              </a:solidFill>
              <a:latin typeface="Times New Roman"/>
            </a:endParaRPr>
          </a:p>
        </p:txBody>
      </p:sp>
      <p:sp>
        <p:nvSpPr>
          <p:cNvPr id="315" name=""/>
          <p:cNvSpPr/>
          <p:nvPr/>
        </p:nvSpPr>
        <p:spPr>
          <a:xfrm>
            <a:off x="609480" y="1355760"/>
            <a:ext cx="78487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 compares his checkbook record with his monthly bank statement, which says he </a:t>
            </a:r>
            <a:r>
              <a:rPr b="0" lang="en-US" sz="4000" spc="-1" strike="noStrike">
                <a:solidFill>
                  <a:srgbClr val="00cc99"/>
                </a:solidFill>
                <a:latin typeface="Comic Sans MS"/>
              </a:rPr>
              <a:t>has $876.47</a:t>
            </a:r>
            <a:r>
              <a:rPr b="0" lang="en-US" sz="4000" spc="-1" strike="noStrike">
                <a:solidFill>
                  <a:srgbClr val="000000"/>
                </a:solidFill>
                <a:latin typeface="Comic Sans MS"/>
              </a:rPr>
              <a:t>. Stan sees that </a:t>
            </a:r>
            <a:r>
              <a:rPr b="0" lang="en-US" sz="4000" spc="-1" strike="noStrike">
                <a:solidFill>
                  <a:srgbClr val="00cc99"/>
                </a:solidFill>
                <a:latin typeface="Comic Sans MS"/>
              </a:rPr>
              <a:t>checks for $32.84, $97.10, and $158.78</a:t>
            </a:r>
            <a:r>
              <a:rPr b="0" lang="en-US" sz="4000" spc="-1" strike="noStrike">
                <a:solidFill>
                  <a:srgbClr val="000000"/>
                </a:solidFill>
                <a:latin typeface="Comic Sans MS"/>
              </a:rPr>
              <a:t> have </a:t>
            </a:r>
            <a:r>
              <a:rPr b="0" lang="en-US" sz="4000" spc="-1" strike="noStrike">
                <a:solidFill>
                  <a:srgbClr val="00cc99"/>
                </a:solidFill>
                <a:latin typeface="Comic Sans MS"/>
              </a:rPr>
              <a:t>not been cashed</a:t>
            </a:r>
            <a:r>
              <a:rPr b="0" lang="en-US" sz="4000" spc="-1" strike="noStrike">
                <a:solidFill>
                  <a:srgbClr val="000000"/>
                </a:solidFill>
                <a:latin typeface="Comic Sans MS"/>
              </a:rPr>
              <a:t> yet. How much money does Stan really have available?</a:t>
            </a:r>
            <a:endParaRPr b="0" lang="en-US" sz="4000" spc="-1" strike="noStrike">
              <a:solidFill>
                <a:srgbClr val="000000"/>
              </a:solidFill>
              <a:latin typeface="Times New Roman"/>
            </a:endParaRPr>
          </a:p>
        </p:txBody>
      </p:sp>
      <p:sp>
        <p:nvSpPr>
          <p:cNvPr id="316" name=""/>
          <p:cNvSpPr/>
          <p:nvPr/>
        </p:nvSpPr>
        <p:spPr>
          <a:xfrm>
            <a:off x="609480" y="1355760"/>
            <a:ext cx="78487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n compares his checkbook record with his monthly bank statement, which says he </a:t>
            </a:r>
            <a:r>
              <a:rPr b="0" lang="en-US" sz="4000" spc="-1" strike="noStrike">
                <a:solidFill>
                  <a:srgbClr val="00cc99"/>
                </a:solidFill>
                <a:latin typeface="Comic Sans MS"/>
              </a:rPr>
              <a:t>has $876.47</a:t>
            </a:r>
            <a:r>
              <a:rPr b="0" lang="en-US" sz="4000" spc="-1" strike="noStrike">
                <a:solidFill>
                  <a:srgbClr val="000000"/>
                </a:solidFill>
                <a:latin typeface="Comic Sans MS"/>
              </a:rPr>
              <a:t>. Stan sees that </a:t>
            </a:r>
            <a:r>
              <a:rPr b="0" lang="en-US" sz="4000" spc="-1" strike="noStrike">
                <a:solidFill>
                  <a:srgbClr val="00cc99"/>
                </a:solidFill>
                <a:latin typeface="Comic Sans MS"/>
              </a:rPr>
              <a:t>checks for $32.84, $97.10, and $158.78</a:t>
            </a:r>
            <a:r>
              <a:rPr b="0" lang="en-US" sz="4000" spc="-1" strike="noStrike">
                <a:solidFill>
                  <a:srgbClr val="000000"/>
                </a:solidFill>
                <a:latin typeface="Comic Sans MS"/>
              </a:rPr>
              <a:t> have </a:t>
            </a:r>
            <a:r>
              <a:rPr b="0" lang="en-US" sz="4000" spc="-1" strike="noStrike">
                <a:solidFill>
                  <a:srgbClr val="00cc99"/>
                </a:solidFill>
                <a:latin typeface="Comic Sans MS"/>
              </a:rPr>
              <a:t>not been cashed</a:t>
            </a:r>
            <a:r>
              <a:rPr b="0" lang="en-US" sz="4000" spc="-1" strike="noStrike">
                <a:solidFill>
                  <a:srgbClr val="000000"/>
                </a:solidFill>
                <a:latin typeface="Comic Sans MS"/>
              </a:rPr>
              <a:t> yet. </a:t>
            </a:r>
            <a:r>
              <a:rPr b="0" lang="en-US" sz="4000" spc="-1" strike="noStrike">
                <a:solidFill>
                  <a:srgbClr val="0000ff"/>
                </a:solidFill>
                <a:latin typeface="Comic Sans MS"/>
              </a:rPr>
              <a:t>How much money</a:t>
            </a:r>
            <a:r>
              <a:rPr b="0" lang="en-US" sz="4000" spc="-1" strike="noStrike">
                <a:solidFill>
                  <a:srgbClr val="000000"/>
                </a:solidFill>
                <a:latin typeface="Comic Sans MS"/>
              </a:rPr>
              <a:t> does Stan really have available?</a:t>
            </a:r>
            <a:endParaRPr b="0" lang="en-US" sz="4000" spc="-1" strike="noStrike">
              <a:solidFill>
                <a:srgbClr val="000000"/>
              </a:solidFill>
              <a:latin typeface="Times New Roman"/>
            </a:endParaRPr>
          </a:p>
        </p:txBody>
      </p:sp>
      <p:sp>
        <p:nvSpPr>
          <p:cNvPr id="317"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pull dir="l"/>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315"/>
                                        </p:tgtEl>
                                        <p:attrNameLst>
                                          <p:attrName>style.visibility</p:attrName>
                                        </p:attrNameLst>
                                      </p:cBhvr>
                                      <p:to>
                                        <p:strVal val="visible"/>
                                      </p:to>
                                    </p:set>
                                    <p:animEffect filter="dissolve" transition="in">
                                      <p:cBhvr additive="repl">
                                        <p:cTn id="142" dur="500"/>
                                        <p:tgtEl>
                                          <p:spTgt spid="3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16"/>
                                        </p:tgtEl>
                                        <p:attrNameLst>
                                          <p:attrName>style.visibility</p:attrName>
                                        </p:attrNameLst>
                                      </p:cBhvr>
                                      <p:to>
                                        <p:strVal val="visible"/>
                                      </p:to>
                                    </p:set>
                                    <p:animEffect filter="dissolve" transition="in">
                                      <p:cBhvr additive="repl">
                                        <p:cTn id="14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18" name=""/>
          <p:cNvSpPr/>
          <p:nvPr/>
        </p:nvSpPr>
        <p:spPr>
          <a:xfrm>
            <a:off x="45720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319" name=""/>
          <p:cNvSpPr/>
          <p:nvPr/>
        </p:nvSpPr>
        <p:spPr>
          <a:xfrm>
            <a:off x="448920" y="2011320"/>
            <a:ext cx="601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Monthly bank balance $876.47</a:t>
            </a:r>
            <a:endParaRPr b="0" lang="en-US" sz="3200" spc="-1" strike="noStrike">
              <a:solidFill>
                <a:srgbClr val="000000"/>
              </a:solidFill>
              <a:latin typeface="Times New Roman"/>
            </a:endParaRPr>
          </a:p>
        </p:txBody>
      </p:sp>
      <p:sp>
        <p:nvSpPr>
          <p:cNvPr id="320" name=""/>
          <p:cNvSpPr/>
          <p:nvPr/>
        </p:nvSpPr>
        <p:spPr>
          <a:xfrm>
            <a:off x="554040" y="2544840"/>
            <a:ext cx="806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Uncashed checks $32.84, $97.10, $158.78</a:t>
            </a:r>
            <a:endParaRPr b="0" lang="en-US" sz="3200" spc="-1" strike="noStrike">
              <a:solidFill>
                <a:srgbClr val="000000"/>
              </a:solidFill>
              <a:latin typeface="Times New Roman"/>
            </a:endParaRPr>
          </a:p>
        </p:txBody>
      </p:sp>
      <p:sp>
        <p:nvSpPr>
          <p:cNvPr id="321" name=""/>
          <p:cNvSpPr/>
          <p:nvPr/>
        </p:nvSpPr>
        <p:spPr>
          <a:xfrm>
            <a:off x="457200" y="327672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                   Money actually available</a:t>
            </a:r>
            <a:endParaRPr b="0" lang="en-US" sz="3200" spc="-1" strike="noStrike">
              <a:solidFill>
                <a:srgbClr val="000000"/>
              </a:solidFill>
              <a:latin typeface="Times New Roman"/>
            </a:endParaRPr>
          </a:p>
        </p:txBody>
      </p:sp>
      <p:grpSp>
        <p:nvGrpSpPr>
          <p:cNvPr id="322" name=""/>
          <p:cNvGrpSpPr/>
          <p:nvPr/>
        </p:nvGrpSpPr>
        <p:grpSpPr>
          <a:xfrm>
            <a:off x="5181480" y="3276360"/>
            <a:ext cx="3530160" cy="3124440"/>
            <a:chOff x="5181480" y="3276360"/>
            <a:chExt cx="3530160" cy="3124440"/>
          </a:xfrm>
        </p:grpSpPr>
        <p:sp>
          <p:nvSpPr>
            <p:cNvPr id="323" name=""/>
            <p:cNvSpPr/>
            <p:nvPr/>
          </p:nvSpPr>
          <p:spPr>
            <a:xfrm>
              <a:off x="5181480" y="3276720"/>
              <a:ext cx="20574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220160" y="457992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76.47</a:t>
              </a:r>
              <a:endParaRPr b="0" lang="en-US" sz="2800" spc="-1" strike="noStrike">
                <a:solidFill>
                  <a:srgbClr val="000000"/>
                </a:solidFill>
                <a:latin typeface="Times New Roman"/>
              </a:endParaRPr>
            </a:p>
          </p:txBody>
        </p:sp>
        <p:sp>
          <p:nvSpPr>
            <p:cNvPr id="325" name=""/>
            <p:cNvSpPr/>
            <p:nvPr/>
          </p:nvSpPr>
          <p:spPr>
            <a:xfrm flipV="1">
              <a:off x="7543800" y="3276720"/>
              <a:ext cx="0" cy="134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43800" y="5057640"/>
              <a:ext cx="0" cy="134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566680" y="586728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2.84</a:t>
              </a:r>
              <a:endParaRPr b="0" lang="en-US" sz="2800" spc="-1" strike="noStrike">
                <a:solidFill>
                  <a:srgbClr val="000000"/>
                </a:solidFill>
                <a:latin typeface="Times New Roman"/>
              </a:endParaRPr>
            </a:p>
          </p:txBody>
        </p:sp>
        <p:sp>
          <p:nvSpPr>
            <p:cNvPr id="328" name=""/>
            <p:cNvSpPr/>
            <p:nvPr/>
          </p:nvSpPr>
          <p:spPr>
            <a:xfrm>
              <a:off x="5181480" y="58672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65240" y="534816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7.10</a:t>
              </a:r>
              <a:endParaRPr b="0" lang="en-US" sz="2800" spc="-1" strike="noStrike">
                <a:solidFill>
                  <a:srgbClr val="000000"/>
                </a:solidFill>
                <a:latin typeface="Times New Roman"/>
              </a:endParaRPr>
            </a:p>
          </p:txBody>
        </p:sp>
        <p:sp>
          <p:nvSpPr>
            <p:cNvPr id="330" name=""/>
            <p:cNvSpPr/>
            <p:nvPr/>
          </p:nvSpPr>
          <p:spPr>
            <a:xfrm>
              <a:off x="5181480" y="53341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464440" y="481500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8.78</a:t>
              </a:r>
              <a:endParaRPr b="0" lang="en-US" sz="2800" spc="-1" strike="noStrike">
                <a:solidFill>
                  <a:srgbClr val="000000"/>
                </a:solidFill>
                <a:latin typeface="Times New Roman"/>
              </a:endParaRPr>
            </a:p>
          </p:txBody>
        </p:sp>
        <p:sp>
          <p:nvSpPr>
            <p:cNvPr id="332" name=""/>
            <p:cNvSpPr/>
            <p:nvPr/>
          </p:nvSpPr>
          <p:spPr>
            <a:xfrm>
              <a:off x="5181480" y="48006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57800" y="382428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ailable</a:t>
              </a:r>
              <a:endParaRPr b="0" lang="en-US" sz="2800" spc="-1" strike="noStrike">
                <a:solidFill>
                  <a:srgbClr val="000000"/>
                </a:solidFill>
                <a:latin typeface="Times New Roman"/>
              </a:endParaRPr>
            </a:p>
          </p:txBody>
        </p:sp>
        <p:sp>
          <p:nvSpPr>
            <p:cNvPr id="334" name=""/>
            <p:cNvSpPr/>
            <p:nvPr/>
          </p:nvSpPr>
          <p:spPr>
            <a:xfrm>
              <a:off x="61722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6172200" y="3276360"/>
              <a:ext cx="0" cy="5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685800" y="4572000"/>
            <a:ext cx="4114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 Balance – uncashed checks</a:t>
            </a:r>
            <a:endParaRPr b="0" lang="en-US" sz="3600" spc="-1" strike="noStrike">
              <a:solidFill>
                <a:srgbClr val="000000"/>
              </a:solidFill>
              <a:latin typeface="Times New Roman"/>
            </a:endParaRPr>
          </a:p>
        </p:txBody>
      </p:sp>
      <p:sp>
        <p:nvSpPr>
          <p:cNvPr id="337"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19"/>
                                        </p:tgtEl>
                                        <p:attrNameLst>
                                          <p:attrName>style.visibility</p:attrName>
                                        </p:attrNameLst>
                                      </p:cBhvr>
                                      <p:to>
                                        <p:strVal val="visible"/>
                                      </p:to>
                                    </p:set>
                                    <p:animEffect filter="wipe(left)" transition="in">
                                      <p:cBhvr additive="repl">
                                        <p:cTn id="154" dur="500"/>
                                        <p:tgtEl>
                                          <p:spTgt spid="31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20"/>
                                        </p:tgtEl>
                                        <p:attrNameLst>
                                          <p:attrName>style.visibility</p:attrName>
                                        </p:attrNameLst>
                                      </p:cBhvr>
                                      <p:to>
                                        <p:strVal val="visible"/>
                                      </p:to>
                                    </p:set>
                                    <p:animEffect filter="wipe(left)" transition="in">
                                      <p:cBhvr additive="repl">
                                        <p:cTn id="159" dur="500"/>
                                        <p:tgtEl>
                                          <p:spTgt spid="32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21"/>
                                        </p:tgtEl>
                                        <p:attrNameLst>
                                          <p:attrName>style.visibility</p:attrName>
                                        </p:attrNameLst>
                                      </p:cBhvr>
                                      <p:to>
                                        <p:strVal val="visible"/>
                                      </p:to>
                                    </p:set>
                                    <p:animEffect filter="dissolve" transition="in">
                                      <p:cBhvr additive="repl">
                                        <p:cTn id="164" dur="500"/>
                                        <p:tgtEl>
                                          <p:spTgt spid="32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22"/>
                                        </p:tgtEl>
                                        <p:attrNameLst>
                                          <p:attrName>style.visibility</p:attrName>
                                        </p:attrNameLst>
                                      </p:cBhvr>
                                      <p:to>
                                        <p:strVal val="visible"/>
                                      </p:to>
                                    </p:set>
                                    <p:animEffect filter="dissolve" transition="in">
                                      <p:cBhvr additive="repl">
                                        <p:cTn id="169" dur="500"/>
                                        <p:tgtEl>
                                          <p:spTgt spid="32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336"/>
                                        </p:tgtEl>
                                        <p:attrNameLst>
                                          <p:attrName>style.visibility</p:attrName>
                                        </p:attrNameLst>
                                      </p:cBhvr>
                                      <p:to>
                                        <p:strVal val="visible"/>
                                      </p:to>
                                    </p:set>
                                    <p:anim calcmode="lin" valueType="num">
                                      <p:cBhvr additive="base">
                                        <p:cTn id="174" dur="500" fill="hold"/>
                                        <p:tgtEl>
                                          <p:spTgt spid="336"/>
                                        </p:tgtEl>
                                        <p:attrNameLst>
                                          <p:attrName>ppt_x</p:attrName>
                                        </p:attrNameLst>
                                      </p:cBhvr>
                                      <p:tavLst>
                                        <p:tav tm="0">
                                          <p:val>
                                            <p:strVal val="0-#ppt_w/2"/>
                                          </p:val>
                                        </p:tav>
                                        <p:tav tm="100000">
                                          <p:val>
                                            <p:strVal val="#ppt_x"/>
                                          </p:val>
                                        </p:tav>
                                      </p:tavLst>
                                    </p:anim>
                                    <p:anim calcmode="lin" valueType="num">
                                      <p:cBhvr additive="base">
                                        <p:cTn id="17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38" name=""/>
          <p:cNvSpPr/>
          <p:nvPr/>
        </p:nvSpPr>
        <p:spPr>
          <a:xfrm>
            <a:off x="1600200" y="1295280"/>
            <a:ext cx="5867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                Balance – uncashed checks</a:t>
            </a:r>
            <a:endParaRPr b="0" lang="en-US" sz="3600" spc="-1" strike="noStrike">
              <a:solidFill>
                <a:srgbClr val="000000"/>
              </a:solidFill>
              <a:latin typeface="Times New Roman"/>
            </a:endParaRPr>
          </a:p>
        </p:txBody>
      </p:sp>
      <p:sp>
        <p:nvSpPr>
          <p:cNvPr id="339" name=""/>
          <p:cNvSpPr/>
          <p:nvPr/>
        </p:nvSpPr>
        <p:spPr>
          <a:xfrm>
            <a:off x="1523880" y="263520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 – uncashed checks</a:t>
            </a:r>
            <a:endParaRPr b="0" lang="en-US" sz="3600" spc="-1" strike="noStrike">
              <a:solidFill>
                <a:srgbClr val="000000"/>
              </a:solidFill>
              <a:latin typeface="Times New Roman"/>
            </a:endParaRPr>
          </a:p>
        </p:txBody>
      </p:sp>
      <p:grpSp>
        <p:nvGrpSpPr>
          <p:cNvPr id="340" name=""/>
          <p:cNvGrpSpPr/>
          <p:nvPr/>
        </p:nvGrpSpPr>
        <p:grpSpPr>
          <a:xfrm>
            <a:off x="2666880" y="3397320"/>
            <a:ext cx="3733920" cy="2471040"/>
            <a:chOff x="2666880" y="3397320"/>
            <a:chExt cx="3733920" cy="2471040"/>
          </a:xfrm>
        </p:grpSpPr>
        <p:sp>
          <p:nvSpPr>
            <p:cNvPr id="341" name=""/>
            <p:cNvSpPr/>
            <p:nvPr/>
          </p:nvSpPr>
          <p:spPr>
            <a:xfrm>
              <a:off x="2666880" y="339732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Total uncashed</a:t>
              </a:r>
              <a:endParaRPr b="0" lang="en-US" sz="3600" spc="-1" strike="noStrike">
                <a:solidFill>
                  <a:srgbClr val="000000"/>
                </a:solidFill>
                <a:latin typeface="Times New Roman"/>
              </a:endParaRPr>
            </a:p>
          </p:txBody>
        </p:sp>
        <p:grpSp>
          <p:nvGrpSpPr>
            <p:cNvPr id="342" name=""/>
            <p:cNvGrpSpPr/>
            <p:nvPr/>
          </p:nvGrpSpPr>
          <p:grpSpPr>
            <a:xfrm>
              <a:off x="3352680" y="4006800"/>
              <a:ext cx="2133720" cy="1861560"/>
              <a:chOff x="3352680" y="4006800"/>
              <a:chExt cx="2133720" cy="1861560"/>
            </a:xfrm>
          </p:grpSpPr>
          <p:sp>
            <p:nvSpPr>
              <p:cNvPr id="343" name=""/>
              <p:cNvSpPr/>
              <p:nvPr/>
            </p:nvSpPr>
            <p:spPr>
              <a:xfrm>
                <a:off x="3352680" y="400680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8.78</a:t>
                </a:r>
                <a:endParaRPr b="0" lang="en-US" sz="3600" spc="-1" strike="noStrike">
                  <a:solidFill>
                    <a:srgbClr val="000000"/>
                  </a:solidFill>
                  <a:latin typeface="Times New Roman"/>
                </a:endParaRPr>
              </a:p>
            </p:txBody>
          </p:sp>
          <p:sp>
            <p:nvSpPr>
              <p:cNvPr id="344" name=""/>
              <p:cNvSpPr/>
              <p:nvPr/>
            </p:nvSpPr>
            <p:spPr>
              <a:xfrm>
                <a:off x="3958560" y="458424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7.10</a:t>
                </a:r>
                <a:endParaRPr b="0" lang="en-US" sz="3600" spc="-1" strike="noStrike">
                  <a:solidFill>
                    <a:srgbClr val="000000"/>
                  </a:solidFill>
                  <a:latin typeface="Times New Roman"/>
                </a:endParaRPr>
              </a:p>
            </p:txBody>
          </p:sp>
          <p:sp>
            <p:nvSpPr>
              <p:cNvPr id="345" name=""/>
              <p:cNvSpPr/>
              <p:nvPr/>
            </p:nvSpPr>
            <p:spPr>
              <a:xfrm>
                <a:off x="3994920" y="522576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2.84</a:t>
                </a:r>
                <a:endParaRPr b="0" lang="en-US" sz="3600" spc="-1" strike="noStrike">
                  <a:solidFill>
                    <a:srgbClr val="000000"/>
                  </a:solidFill>
                  <a:latin typeface="Times New Roman"/>
                </a:endParaRPr>
              </a:p>
            </p:txBody>
          </p:sp>
          <p:sp>
            <p:nvSpPr>
              <p:cNvPr id="346" name=""/>
              <p:cNvSpPr/>
              <p:nvPr/>
            </p:nvSpPr>
            <p:spPr>
              <a:xfrm>
                <a:off x="3352680" y="586728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7" name=""/>
          <p:cNvSpPr/>
          <p:nvPr/>
        </p:nvSpPr>
        <p:spPr>
          <a:xfrm>
            <a:off x="3507120" y="591192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88.72</a:t>
            </a:r>
            <a:endParaRPr b="0" lang="en-US" sz="3600" spc="-1" strike="noStrike">
              <a:solidFill>
                <a:srgbClr val="000000"/>
              </a:solidFill>
              <a:latin typeface="Times New Roman"/>
            </a:endParaRPr>
          </a:p>
        </p:txBody>
      </p:sp>
      <p:sp>
        <p:nvSpPr>
          <p:cNvPr id="348"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8" presetSubtype="6">
                                  <p:stCondLst>
                                    <p:cond delay="0"/>
                                  </p:stCondLst>
                                  <p:childTnLst>
                                    <p:set>
                                      <p:cBhvr>
                                        <p:cTn id="181" dur="1" fill="hold">
                                          <p:stCondLst>
                                            <p:cond delay="0"/>
                                          </p:stCondLst>
                                        </p:cTn>
                                        <p:tgtEl>
                                          <p:spTgt spid="339"/>
                                        </p:tgtEl>
                                        <p:attrNameLst>
                                          <p:attrName>style.visibility</p:attrName>
                                        </p:attrNameLst>
                                      </p:cBhvr>
                                      <p:to>
                                        <p:strVal val="visible"/>
                                      </p:to>
                                    </p:set>
                                    <p:animEffect filter="strips(downRight)" transition="in">
                                      <p:cBhvr additive="repl">
                                        <p:cTn id="182" dur="500"/>
                                        <p:tgtEl>
                                          <p:spTgt spid="33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340"/>
                                        </p:tgtEl>
                                        <p:attrNameLst>
                                          <p:attrName>style.visibility</p:attrName>
                                        </p:attrNameLst>
                                      </p:cBhvr>
                                      <p:to>
                                        <p:strVal val="visible"/>
                                      </p:to>
                                    </p:set>
                                    <p:animEffect filter="wipe(up)" transition="in">
                                      <p:cBhvr additive="repl">
                                        <p:cTn id="187" dur="500"/>
                                        <p:tgtEl>
                                          <p:spTgt spid="34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47"/>
                                        </p:tgtEl>
                                        <p:attrNameLst>
                                          <p:attrName>style.visibility</p:attrName>
                                        </p:attrNameLst>
                                      </p:cBhvr>
                                      <p:to>
                                        <p:strVal val="visible"/>
                                      </p:to>
                                    </p:set>
                                    <p:animEffect filter="dissolve" transition="in">
                                      <p:cBhvr additive="repl">
                                        <p:cTn id="192"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49" name=""/>
          <p:cNvSpPr/>
          <p:nvPr/>
        </p:nvSpPr>
        <p:spPr>
          <a:xfrm>
            <a:off x="1600200" y="1295280"/>
            <a:ext cx="5867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                Balance – uncashed checks</a:t>
            </a:r>
            <a:endParaRPr b="0" lang="en-US" sz="3600" spc="-1" strike="noStrike">
              <a:solidFill>
                <a:srgbClr val="000000"/>
              </a:solidFill>
              <a:latin typeface="Times New Roman"/>
            </a:endParaRPr>
          </a:p>
        </p:txBody>
      </p:sp>
      <p:sp>
        <p:nvSpPr>
          <p:cNvPr id="350" name=""/>
          <p:cNvSpPr/>
          <p:nvPr/>
        </p:nvSpPr>
        <p:spPr>
          <a:xfrm>
            <a:off x="1600200" y="342900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vailable =              $876.47 – $288.72</a:t>
            </a:r>
            <a:endParaRPr b="0" lang="en-US" sz="3600" spc="-1" strike="noStrike">
              <a:solidFill>
                <a:srgbClr val="000000"/>
              </a:solidFill>
              <a:latin typeface="Times New Roman"/>
            </a:endParaRPr>
          </a:p>
        </p:txBody>
      </p:sp>
      <p:sp>
        <p:nvSpPr>
          <p:cNvPr id="351" name=""/>
          <p:cNvSpPr/>
          <p:nvPr/>
        </p:nvSpPr>
        <p:spPr>
          <a:xfrm>
            <a:off x="1523880" y="263520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 – uncashed checks</a:t>
            </a:r>
            <a:endParaRPr b="0" lang="en-US" sz="3600" spc="-1" strike="noStrike">
              <a:solidFill>
                <a:srgbClr val="000000"/>
              </a:solidFill>
              <a:latin typeface="Times New Roman"/>
            </a:endParaRPr>
          </a:p>
        </p:txBody>
      </p:sp>
      <p:grpSp>
        <p:nvGrpSpPr>
          <p:cNvPr id="352" name=""/>
          <p:cNvGrpSpPr/>
          <p:nvPr/>
        </p:nvGrpSpPr>
        <p:grpSpPr>
          <a:xfrm>
            <a:off x="804960" y="4648320"/>
            <a:ext cx="2351160" cy="1785600"/>
            <a:chOff x="804960" y="4648320"/>
            <a:chExt cx="2351160" cy="1785600"/>
          </a:xfrm>
        </p:grpSpPr>
        <p:sp>
          <p:nvSpPr>
            <p:cNvPr id="353" name=""/>
            <p:cNvSpPr/>
            <p:nvPr/>
          </p:nvSpPr>
          <p:spPr>
            <a:xfrm>
              <a:off x="1211760" y="464832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a:t>
              </a:r>
              <a:endParaRPr b="0" lang="en-US" sz="3600" spc="-1" strike="noStrike">
                <a:solidFill>
                  <a:srgbClr val="000000"/>
                </a:solidFill>
                <a:latin typeface="Times New Roman"/>
              </a:endParaRPr>
            </a:p>
          </p:txBody>
        </p:sp>
        <p:sp>
          <p:nvSpPr>
            <p:cNvPr id="354" name=""/>
            <p:cNvSpPr/>
            <p:nvPr/>
          </p:nvSpPr>
          <p:spPr>
            <a:xfrm>
              <a:off x="869040" y="5181480"/>
              <a:ext cx="222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288.72</a:t>
              </a:r>
              <a:endParaRPr b="0" lang="en-US" sz="3600" spc="-1" strike="noStrike">
                <a:solidFill>
                  <a:srgbClr val="000000"/>
                </a:solidFill>
                <a:latin typeface="Times New Roman"/>
              </a:endParaRPr>
            </a:p>
          </p:txBody>
        </p:sp>
        <p:sp>
          <p:nvSpPr>
            <p:cNvPr id="355" name=""/>
            <p:cNvSpPr/>
            <p:nvPr/>
          </p:nvSpPr>
          <p:spPr>
            <a:xfrm>
              <a:off x="804960" y="5823000"/>
              <a:ext cx="235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211760" y="579132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587.75</a:t>
              </a:r>
              <a:endParaRPr b="0" lang="en-US" sz="3600" spc="-1" strike="noStrike">
                <a:solidFill>
                  <a:srgbClr val="000000"/>
                </a:solidFill>
                <a:latin typeface="Times New Roman"/>
              </a:endParaRPr>
            </a:p>
          </p:txBody>
        </p:sp>
      </p:grpSp>
      <p:sp>
        <p:nvSpPr>
          <p:cNvPr id="357" name=""/>
          <p:cNvSpPr/>
          <p:nvPr/>
        </p:nvSpPr>
        <p:spPr>
          <a:xfrm>
            <a:off x="3429000" y="5149800"/>
            <a:ext cx="5029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vailable = </a:t>
            </a:r>
            <a:r>
              <a:rPr b="0" lang="en-US" sz="4000" spc="-1" strike="noStrike">
                <a:solidFill>
                  <a:srgbClr val="0000ff"/>
                </a:solidFill>
                <a:latin typeface="Comic Sans MS"/>
              </a:rPr>
              <a:t>$587.75</a:t>
            </a:r>
            <a:endParaRPr b="0" lang="en-US" sz="4000" spc="-1" strike="noStrike">
              <a:solidFill>
                <a:srgbClr val="000000"/>
              </a:solidFill>
              <a:latin typeface="Times New Roman"/>
            </a:endParaRPr>
          </a:p>
        </p:txBody>
      </p:sp>
      <p:sp>
        <p:nvSpPr>
          <p:cNvPr id="358"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wipe dir="r"/>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352"/>
                                        </p:tgtEl>
                                        <p:attrNameLst>
                                          <p:attrName>style.visibility</p:attrName>
                                        </p:attrNameLst>
                                      </p:cBhvr>
                                      <p:to>
                                        <p:strVal val="visible"/>
                                      </p:to>
                                    </p:set>
                                    <p:animEffect filter="wipe(up)" transition="in">
                                      <p:cBhvr additive="repl">
                                        <p:cTn id="199" dur="500"/>
                                        <p:tgtEl>
                                          <p:spTgt spid="352"/>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357"/>
                                        </p:tgtEl>
                                        <p:attrNameLst>
                                          <p:attrName>style.visibility</p:attrName>
                                        </p:attrNameLst>
                                      </p:cBhvr>
                                      <p:to>
                                        <p:strVal val="visible"/>
                                      </p:to>
                                    </p:set>
                                    <p:anim calcmode="lin" valueType="num">
                                      <p:cBhvr additive="repl">
                                        <p:cTn id="204" dur="500" fill="hold"/>
                                        <p:tgtEl>
                                          <p:spTgt spid="357"/>
                                        </p:tgtEl>
                                        <p:attrNameLst>
                                          <p:attrName>ppt_w</p:attrName>
                                        </p:attrNameLst>
                                      </p:cBhvr>
                                      <p:tavLst>
                                        <p:tav tm="0">
                                          <p:val>
                                            <p:fltVal val="0"/>
                                          </p:val>
                                        </p:tav>
                                        <p:tav tm="100000">
                                          <p:val>
                                            <p:strVal val="#ppt_w"/>
                                          </p:val>
                                        </p:tav>
                                      </p:tavLst>
                                    </p:anim>
                                    <p:anim calcmode="lin" valueType="num">
                                      <p:cBhvr additive="repl">
                                        <p:cTn id="205" dur="500" fill="hold"/>
                                        <p:tgtEl>
                                          <p:spTgt spid="3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59" name=""/>
          <p:cNvSpPr/>
          <p:nvPr/>
        </p:nvSpPr>
        <p:spPr>
          <a:xfrm>
            <a:off x="3429000" y="146196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eck:</a:t>
            </a:r>
            <a:endParaRPr b="0" lang="en-US" sz="4000" spc="-1" strike="noStrike">
              <a:solidFill>
                <a:srgbClr val="000000"/>
              </a:solidFill>
              <a:latin typeface="Times New Roman"/>
            </a:endParaRPr>
          </a:p>
        </p:txBody>
      </p:sp>
      <p:sp>
        <p:nvSpPr>
          <p:cNvPr id="360" name=""/>
          <p:cNvSpPr/>
          <p:nvPr/>
        </p:nvSpPr>
        <p:spPr>
          <a:xfrm>
            <a:off x="533520" y="2286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alance = Available + uncashed</a:t>
            </a:r>
            <a:endParaRPr b="0" lang="en-US" sz="3600" spc="-1" strike="noStrike">
              <a:solidFill>
                <a:srgbClr val="000000"/>
              </a:solidFill>
              <a:latin typeface="Times New Roman"/>
            </a:endParaRPr>
          </a:p>
        </p:txBody>
      </p:sp>
      <p:sp>
        <p:nvSpPr>
          <p:cNvPr id="361" name=""/>
          <p:cNvSpPr/>
          <p:nvPr/>
        </p:nvSpPr>
        <p:spPr>
          <a:xfrm>
            <a:off x="533520" y="304812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 =? $587.75 + $288.72</a:t>
            </a:r>
            <a:endParaRPr b="0" lang="en-US" sz="3600" spc="-1" strike="noStrike">
              <a:solidFill>
                <a:srgbClr val="000000"/>
              </a:solidFill>
              <a:latin typeface="Times New Roman"/>
            </a:endParaRPr>
          </a:p>
        </p:txBody>
      </p:sp>
      <p:grpSp>
        <p:nvGrpSpPr>
          <p:cNvPr id="362" name=""/>
          <p:cNvGrpSpPr/>
          <p:nvPr/>
        </p:nvGrpSpPr>
        <p:grpSpPr>
          <a:xfrm>
            <a:off x="838080" y="4070520"/>
            <a:ext cx="2590920" cy="1982160"/>
            <a:chOff x="838080" y="4070520"/>
            <a:chExt cx="2590920" cy="1982160"/>
          </a:xfrm>
        </p:grpSpPr>
        <p:sp>
          <p:nvSpPr>
            <p:cNvPr id="363" name=""/>
            <p:cNvSpPr/>
            <p:nvPr/>
          </p:nvSpPr>
          <p:spPr>
            <a:xfrm>
              <a:off x="1408320" y="407052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87.75</a:t>
              </a:r>
              <a:endParaRPr b="0" lang="en-US" sz="3600" spc="-1" strike="noStrike">
                <a:solidFill>
                  <a:srgbClr val="000000"/>
                </a:solidFill>
                <a:latin typeface="Times New Roman"/>
              </a:endParaRPr>
            </a:p>
          </p:txBody>
        </p:sp>
        <p:sp>
          <p:nvSpPr>
            <p:cNvPr id="364" name=""/>
            <p:cNvSpPr/>
            <p:nvPr/>
          </p:nvSpPr>
          <p:spPr>
            <a:xfrm>
              <a:off x="1040040" y="4680000"/>
              <a:ext cx="225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288.72</a:t>
              </a:r>
              <a:endParaRPr b="0" lang="en-US" sz="3600" spc="-1" strike="noStrike">
                <a:solidFill>
                  <a:srgbClr val="000000"/>
                </a:solidFill>
                <a:latin typeface="Times New Roman"/>
              </a:endParaRPr>
            </a:p>
          </p:txBody>
        </p:sp>
        <p:sp>
          <p:nvSpPr>
            <p:cNvPr id="365" name=""/>
            <p:cNvSpPr/>
            <p:nvPr/>
          </p:nvSpPr>
          <p:spPr>
            <a:xfrm>
              <a:off x="838080" y="5365800"/>
              <a:ext cx="2590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08320" y="5410080"/>
              <a:ext cx="187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a:t>
              </a:r>
              <a:endParaRPr b="0" lang="en-US" sz="3600" spc="-1" strike="noStrike">
                <a:solidFill>
                  <a:srgbClr val="000000"/>
                </a:solidFill>
                <a:latin typeface="Times New Roman"/>
              </a:endParaRPr>
            </a:p>
          </p:txBody>
        </p:sp>
      </p:grpSp>
      <p:sp>
        <p:nvSpPr>
          <p:cNvPr id="367" name=""/>
          <p:cNvSpPr/>
          <p:nvPr/>
        </p:nvSpPr>
        <p:spPr>
          <a:xfrm>
            <a:off x="3352680" y="3809880"/>
            <a:ext cx="487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76.47 = $876.47</a:t>
            </a:r>
            <a:endParaRPr b="0" lang="en-US" sz="3600" spc="-1" strike="noStrike">
              <a:solidFill>
                <a:srgbClr val="000000"/>
              </a:solidFill>
              <a:latin typeface="Times New Roman"/>
            </a:endParaRPr>
          </a:p>
        </p:txBody>
      </p:sp>
      <p:sp>
        <p:nvSpPr>
          <p:cNvPr id="368" name=""/>
          <p:cNvSpPr/>
          <p:nvPr/>
        </p:nvSpPr>
        <p:spPr>
          <a:xfrm>
            <a:off x="5064120" y="4572000"/>
            <a:ext cx="1163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OK!</a:t>
            </a:r>
            <a:endParaRPr b="0" lang="en-US" sz="4400" spc="-1" strike="noStrike">
              <a:solidFill>
                <a:srgbClr val="000000"/>
              </a:solidFill>
              <a:latin typeface="Times New Roman"/>
            </a:endParaRPr>
          </a:p>
        </p:txBody>
      </p:sp>
      <p:sp>
        <p:nvSpPr>
          <p:cNvPr id="369"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cover dir="d"/>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8" presetSubtype="6">
                                  <p:stCondLst>
                                    <p:cond delay="0"/>
                                  </p:stCondLst>
                                  <p:childTnLst>
                                    <p:set>
                                      <p:cBhvr>
                                        <p:cTn id="211" dur="1" fill="hold">
                                          <p:stCondLst>
                                            <p:cond delay="0"/>
                                          </p:stCondLst>
                                        </p:cTn>
                                        <p:tgtEl>
                                          <p:spTgt spid="360"/>
                                        </p:tgtEl>
                                        <p:attrNameLst>
                                          <p:attrName>style.visibility</p:attrName>
                                        </p:attrNameLst>
                                      </p:cBhvr>
                                      <p:to>
                                        <p:strVal val="visible"/>
                                      </p:to>
                                    </p:set>
                                    <p:animEffect filter="strips(downRight)" transition="in">
                                      <p:cBhvr additive="repl">
                                        <p:cTn id="212" dur="500"/>
                                        <p:tgtEl>
                                          <p:spTgt spid="36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6">
                                  <p:stCondLst>
                                    <p:cond delay="0"/>
                                  </p:stCondLst>
                                  <p:childTnLst>
                                    <p:set>
                                      <p:cBhvr>
                                        <p:cTn id="216" dur="1" fill="hold">
                                          <p:stCondLst>
                                            <p:cond delay="0"/>
                                          </p:stCondLst>
                                        </p:cTn>
                                        <p:tgtEl>
                                          <p:spTgt spid="361"/>
                                        </p:tgtEl>
                                        <p:attrNameLst>
                                          <p:attrName>style.visibility</p:attrName>
                                        </p:attrNameLst>
                                      </p:cBhvr>
                                      <p:to>
                                        <p:strVal val="visible"/>
                                      </p:to>
                                    </p:set>
                                    <p:animEffect filter="strips(downRight)" transition="in">
                                      <p:cBhvr additive="repl">
                                        <p:cTn id="217" dur="500"/>
                                        <p:tgtEl>
                                          <p:spTgt spid="36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362"/>
                                        </p:tgtEl>
                                        <p:attrNameLst>
                                          <p:attrName>style.visibility</p:attrName>
                                        </p:attrNameLst>
                                      </p:cBhvr>
                                      <p:to>
                                        <p:strVal val="visible"/>
                                      </p:to>
                                    </p:set>
                                    <p:animEffect filter="wipe(up)" transition="in">
                                      <p:cBhvr additive="repl">
                                        <p:cTn id="222" dur="500"/>
                                        <p:tgtEl>
                                          <p:spTgt spid="3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6">
                                  <p:stCondLst>
                                    <p:cond delay="0"/>
                                  </p:stCondLst>
                                  <p:childTnLst>
                                    <p:set>
                                      <p:cBhvr>
                                        <p:cTn id="226" dur="1" fill="hold">
                                          <p:stCondLst>
                                            <p:cond delay="0"/>
                                          </p:stCondLst>
                                        </p:cTn>
                                        <p:tgtEl>
                                          <p:spTgt spid="367"/>
                                        </p:tgtEl>
                                        <p:attrNameLst>
                                          <p:attrName>style.visibility</p:attrName>
                                        </p:attrNameLst>
                                      </p:cBhvr>
                                      <p:to>
                                        <p:strVal val="visible"/>
                                      </p:to>
                                    </p:set>
                                    <p:animEffect filter="strips(downRight)" transition="in">
                                      <p:cBhvr additive="repl">
                                        <p:cTn id="227" dur="500"/>
                                        <p:tgtEl>
                                          <p:spTgt spid="36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68"/>
                                        </p:tgtEl>
                                        <p:attrNameLst>
                                          <p:attrName>style.visibility</p:attrName>
                                        </p:attrNameLst>
                                      </p:cBhvr>
                                      <p:to>
                                        <p:strVal val="visible"/>
                                      </p:to>
                                    </p:set>
                                    <p:anim calcmode="lin" valueType="num">
                                      <p:cBhvr additive="base">
                                        <p:cTn id="232" dur="500" fill="hold"/>
                                        <p:tgtEl>
                                          <p:spTgt spid="368"/>
                                        </p:tgtEl>
                                        <p:attrNameLst>
                                          <p:attrName>ppt_x</p:attrName>
                                        </p:attrNameLst>
                                      </p:cBhvr>
                                      <p:tavLst>
                                        <p:tav tm="0">
                                          <p:val>
                                            <p:strVal val="#ppt_x"/>
                                          </p:val>
                                        </p:tav>
                                        <p:tav tm="100000">
                                          <p:val>
                                            <p:strVal val="#ppt_x"/>
                                          </p:val>
                                        </p:tav>
                                      </p:tavLst>
                                    </p:anim>
                                    <p:anim calcmode="lin" valueType="num">
                                      <p:cBhvr additive="base">
                                        <p:cTn id="23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70" name=""/>
          <p:cNvSpPr/>
          <p:nvPr/>
        </p:nvSpPr>
        <p:spPr>
          <a:xfrm>
            <a:off x="685800" y="1600200"/>
            <a:ext cx="77724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 ad for a computer system lists the price as $899.95. There is an instant rebate of $55.55 and a mail-in rebate of $66.66. What is the final price for the system after both rebates?</a:t>
            </a:r>
            <a:endParaRPr b="0" lang="en-US" sz="4000" spc="-1" strike="noStrike">
              <a:solidFill>
                <a:srgbClr val="000000"/>
              </a:solidFill>
              <a:latin typeface="Times New Roman"/>
            </a:endParaRPr>
          </a:p>
        </p:txBody>
      </p:sp>
      <p:sp>
        <p:nvSpPr>
          <p:cNvPr id="371" name=""/>
          <p:cNvSpPr/>
          <p:nvPr/>
        </p:nvSpPr>
        <p:spPr>
          <a:xfrm>
            <a:off x="685800" y="1600200"/>
            <a:ext cx="77724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 ad for a computer system lists the </a:t>
            </a:r>
            <a:r>
              <a:rPr b="0" lang="en-US" sz="4000" spc="-1" strike="noStrike">
                <a:solidFill>
                  <a:srgbClr val="00cc99"/>
                </a:solidFill>
                <a:latin typeface="Comic Sans MS"/>
              </a:rPr>
              <a:t>price</a:t>
            </a:r>
            <a:r>
              <a:rPr b="0" lang="en-US" sz="4000" spc="-1" strike="noStrike">
                <a:solidFill>
                  <a:srgbClr val="000000"/>
                </a:solidFill>
                <a:latin typeface="Comic Sans MS"/>
              </a:rPr>
              <a:t> as </a:t>
            </a:r>
            <a:r>
              <a:rPr b="0" lang="en-US" sz="4000" spc="-1" strike="noStrike">
                <a:solidFill>
                  <a:srgbClr val="00cc99"/>
                </a:solidFill>
                <a:latin typeface="Comic Sans MS"/>
              </a:rPr>
              <a:t>$899.95</a:t>
            </a:r>
            <a:r>
              <a:rPr b="0" lang="en-US" sz="4000" spc="-1" strike="noStrike">
                <a:solidFill>
                  <a:srgbClr val="000000"/>
                </a:solidFill>
                <a:latin typeface="Comic Sans MS"/>
              </a:rPr>
              <a:t>. There is an instant </a:t>
            </a:r>
            <a:r>
              <a:rPr b="0" lang="en-US" sz="4000" spc="-1" strike="noStrike">
                <a:solidFill>
                  <a:srgbClr val="00cc99"/>
                </a:solidFill>
                <a:latin typeface="Comic Sans MS"/>
              </a:rPr>
              <a:t>rebate</a:t>
            </a:r>
            <a:r>
              <a:rPr b="0" lang="en-US" sz="4000" spc="-1" strike="noStrike">
                <a:solidFill>
                  <a:srgbClr val="000000"/>
                </a:solidFill>
                <a:latin typeface="Comic Sans MS"/>
              </a:rPr>
              <a:t> of </a:t>
            </a:r>
            <a:r>
              <a:rPr b="0" lang="en-US" sz="4000" spc="-1" strike="noStrike">
                <a:solidFill>
                  <a:srgbClr val="00cc99"/>
                </a:solidFill>
                <a:latin typeface="Comic Sans MS"/>
              </a:rPr>
              <a:t>$55.55</a:t>
            </a:r>
            <a:r>
              <a:rPr b="0" lang="en-US" sz="4000" spc="-1" strike="noStrike">
                <a:solidFill>
                  <a:srgbClr val="000000"/>
                </a:solidFill>
                <a:latin typeface="Comic Sans MS"/>
              </a:rPr>
              <a:t> and a mail-in </a:t>
            </a:r>
            <a:r>
              <a:rPr b="0" lang="en-US" sz="4000" spc="-1" strike="noStrike">
                <a:solidFill>
                  <a:srgbClr val="00cc99"/>
                </a:solidFill>
                <a:latin typeface="Comic Sans MS"/>
              </a:rPr>
              <a:t>rebate</a:t>
            </a:r>
            <a:r>
              <a:rPr b="0" lang="en-US" sz="4000" spc="-1" strike="noStrike">
                <a:solidFill>
                  <a:srgbClr val="000000"/>
                </a:solidFill>
                <a:latin typeface="Comic Sans MS"/>
              </a:rPr>
              <a:t> of </a:t>
            </a:r>
            <a:r>
              <a:rPr b="0" lang="en-US" sz="4000" spc="-1" strike="noStrike">
                <a:solidFill>
                  <a:srgbClr val="00cc99"/>
                </a:solidFill>
                <a:latin typeface="Comic Sans MS"/>
              </a:rPr>
              <a:t>$66.66</a:t>
            </a:r>
            <a:r>
              <a:rPr b="0" lang="en-US" sz="4000" spc="-1" strike="noStrike">
                <a:solidFill>
                  <a:srgbClr val="000000"/>
                </a:solidFill>
                <a:latin typeface="Comic Sans MS"/>
              </a:rPr>
              <a:t>. What is the final price for the system after both rebates?</a:t>
            </a:r>
            <a:endParaRPr b="0" lang="en-US" sz="4000" spc="-1" strike="noStrike">
              <a:solidFill>
                <a:srgbClr val="000000"/>
              </a:solidFill>
              <a:latin typeface="Times New Roman"/>
            </a:endParaRPr>
          </a:p>
        </p:txBody>
      </p:sp>
      <p:sp>
        <p:nvSpPr>
          <p:cNvPr id="372" name=""/>
          <p:cNvSpPr/>
          <p:nvPr/>
        </p:nvSpPr>
        <p:spPr>
          <a:xfrm>
            <a:off x="685800" y="1600200"/>
            <a:ext cx="77724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 ad for a computer system lists the </a:t>
            </a:r>
            <a:r>
              <a:rPr b="0" lang="en-US" sz="4000" spc="-1" strike="noStrike">
                <a:solidFill>
                  <a:srgbClr val="00cc99"/>
                </a:solidFill>
                <a:latin typeface="Comic Sans MS"/>
              </a:rPr>
              <a:t>price</a:t>
            </a:r>
            <a:r>
              <a:rPr b="0" lang="en-US" sz="4000" spc="-1" strike="noStrike">
                <a:solidFill>
                  <a:srgbClr val="000000"/>
                </a:solidFill>
                <a:latin typeface="Comic Sans MS"/>
              </a:rPr>
              <a:t> as </a:t>
            </a:r>
            <a:r>
              <a:rPr b="0" lang="en-US" sz="4000" spc="-1" strike="noStrike">
                <a:solidFill>
                  <a:srgbClr val="00cc99"/>
                </a:solidFill>
                <a:latin typeface="Comic Sans MS"/>
              </a:rPr>
              <a:t>$899.95</a:t>
            </a:r>
            <a:r>
              <a:rPr b="0" lang="en-US" sz="4000" spc="-1" strike="noStrike">
                <a:solidFill>
                  <a:srgbClr val="000000"/>
                </a:solidFill>
                <a:latin typeface="Comic Sans MS"/>
              </a:rPr>
              <a:t>. There is an instant </a:t>
            </a:r>
            <a:r>
              <a:rPr b="0" lang="en-US" sz="4000" spc="-1" strike="noStrike">
                <a:solidFill>
                  <a:srgbClr val="00cc99"/>
                </a:solidFill>
                <a:latin typeface="Comic Sans MS"/>
              </a:rPr>
              <a:t>rebate</a:t>
            </a:r>
            <a:r>
              <a:rPr b="0" lang="en-US" sz="4000" spc="-1" strike="noStrike">
                <a:solidFill>
                  <a:srgbClr val="000000"/>
                </a:solidFill>
                <a:latin typeface="Comic Sans MS"/>
              </a:rPr>
              <a:t> of </a:t>
            </a:r>
            <a:r>
              <a:rPr b="0" lang="en-US" sz="4000" spc="-1" strike="noStrike">
                <a:solidFill>
                  <a:srgbClr val="00cc99"/>
                </a:solidFill>
                <a:latin typeface="Comic Sans MS"/>
              </a:rPr>
              <a:t>$55.55</a:t>
            </a:r>
            <a:r>
              <a:rPr b="0" lang="en-US" sz="4000" spc="-1" strike="noStrike">
                <a:solidFill>
                  <a:srgbClr val="000000"/>
                </a:solidFill>
                <a:latin typeface="Comic Sans MS"/>
              </a:rPr>
              <a:t> and a mail-in </a:t>
            </a:r>
            <a:r>
              <a:rPr b="0" lang="en-US" sz="4000" spc="-1" strike="noStrike">
                <a:solidFill>
                  <a:srgbClr val="00cc99"/>
                </a:solidFill>
                <a:latin typeface="Comic Sans MS"/>
              </a:rPr>
              <a:t>rebate</a:t>
            </a:r>
            <a:r>
              <a:rPr b="0" lang="en-US" sz="4000" spc="-1" strike="noStrike">
                <a:solidFill>
                  <a:srgbClr val="000000"/>
                </a:solidFill>
                <a:latin typeface="Comic Sans MS"/>
              </a:rPr>
              <a:t> of </a:t>
            </a:r>
            <a:r>
              <a:rPr b="0" lang="en-US" sz="4000" spc="-1" strike="noStrike">
                <a:solidFill>
                  <a:srgbClr val="00cc99"/>
                </a:solidFill>
                <a:latin typeface="Comic Sans MS"/>
              </a:rPr>
              <a:t>$66.66</a:t>
            </a:r>
            <a:r>
              <a:rPr b="0" lang="en-US" sz="4000" spc="-1" strike="noStrike">
                <a:solidFill>
                  <a:srgbClr val="000000"/>
                </a:solidFill>
                <a:latin typeface="Comic Sans MS"/>
              </a:rPr>
              <a:t>. </a:t>
            </a:r>
            <a:r>
              <a:rPr b="0" lang="en-US" sz="4000" spc="-1" strike="noStrike">
                <a:solidFill>
                  <a:srgbClr val="0000ff"/>
                </a:solidFill>
                <a:latin typeface="Comic Sans MS"/>
              </a:rPr>
              <a:t>What is</a:t>
            </a:r>
            <a:r>
              <a:rPr b="0" lang="en-US" sz="4000" spc="-1" strike="noStrike">
                <a:solidFill>
                  <a:srgbClr val="000000"/>
                </a:solidFill>
                <a:latin typeface="Comic Sans MS"/>
              </a:rPr>
              <a:t> the </a:t>
            </a:r>
            <a:r>
              <a:rPr b="0" lang="en-US" sz="4000" spc="-1" strike="noStrike">
                <a:solidFill>
                  <a:srgbClr val="0000ff"/>
                </a:solidFill>
                <a:latin typeface="Comic Sans MS"/>
              </a:rPr>
              <a:t>final price</a:t>
            </a:r>
            <a:r>
              <a:rPr b="0" lang="en-US" sz="4000" spc="-1" strike="noStrike">
                <a:solidFill>
                  <a:srgbClr val="000000"/>
                </a:solidFill>
                <a:latin typeface="Comic Sans MS"/>
              </a:rPr>
              <a:t> for the system after both rebates</a:t>
            </a:r>
            <a:r>
              <a:rPr b="0" lang="en-US" sz="4000" spc="-1" strike="noStrike">
                <a:solidFill>
                  <a:srgbClr val="0000ff"/>
                </a:solidFill>
                <a:latin typeface="Comic Sans MS"/>
              </a:rPr>
              <a:t>?</a:t>
            </a:r>
            <a:endParaRPr b="0" lang="en-US" sz="4000" spc="-1" strike="noStrike">
              <a:solidFill>
                <a:srgbClr val="000000"/>
              </a:solidFill>
              <a:latin typeface="Times New Roman"/>
            </a:endParaRPr>
          </a:p>
        </p:txBody>
      </p:sp>
      <p:sp>
        <p:nvSpPr>
          <p:cNvPr id="373"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pull dir="l"/>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71"/>
                                        </p:tgtEl>
                                        <p:attrNameLst>
                                          <p:attrName>style.visibility</p:attrName>
                                        </p:attrNameLst>
                                      </p:cBhvr>
                                      <p:to>
                                        <p:strVal val="visible"/>
                                      </p:to>
                                    </p:set>
                                    <p:animEffect filter="dissolve" transition="in">
                                      <p:cBhvr additive="repl">
                                        <p:cTn id="240" dur="500"/>
                                        <p:tgtEl>
                                          <p:spTgt spid="37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372"/>
                                        </p:tgtEl>
                                        <p:attrNameLst>
                                          <p:attrName>style.visibility</p:attrName>
                                        </p:attrNameLst>
                                      </p:cBhvr>
                                      <p:to>
                                        <p:strVal val="visible"/>
                                      </p:to>
                                    </p:set>
                                    <p:animEffect filter="dissolve" transition="in">
                                      <p:cBhvr additive="repl">
                                        <p:cTn id="245"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74" name=""/>
          <p:cNvSpPr/>
          <p:nvPr/>
        </p:nvSpPr>
        <p:spPr>
          <a:xfrm>
            <a:off x="45720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375" name=""/>
          <p:cNvSpPr/>
          <p:nvPr/>
        </p:nvSpPr>
        <p:spPr>
          <a:xfrm>
            <a:off x="457200" y="3687840"/>
            <a:ext cx="373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         Final price of computer system</a:t>
            </a:r>
            <a:endParaRPr b="0" lang="en-US" sz="3200" spc="-1" strike="noStrike">
              <a:solidFill>
                <a:srgbClr val="000000"/>
              </a:solidFill>
              <a:latin typeface="Times New Roman"/>
            </a:endParaRPr>
          </a:p>
        </p:txBody>
      </p:sp>
      <p:sp>
        <p:nvSpPr>
          <p:cNvPr id="376" name=""/>
          <p:cNvSpPr/>
          <p:nvPr/>
        </p:nvSpPr>
        <p:spPr>
          <a:xfrm>
            <a:off x="457200" y="201132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Original price of computer $899.95  Instant rebate $55.55</a:t>
            </a: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	</a:t>
            </a:r>
            <a:r>
              <a:rPr b="0" lang="en-US" sz="3200" spc="-1" strike="noStrike">
                <a:solidFill>
                  <a:srgbClr val="00cc99"/>
                </a:solidFill>
                <a:latin typeface="Comic Sans MS"/>
              </a:rPr>
              <a:t>     Mail-in rebate $66.66</a:t>
            </a:r>
            <a:endParaRPr b="0" lang="en-US" sz="3200" spc="-1" strike="noStrike">
              <a:solidFill>
                <a:srgbClr val="000000"/>
              </a:solidFill>
              <a:latin typeface="Times New Roman"/>
            </a:endParaRPr>
          </a:p>
        </p:txBody>
      </p:sp>
      <p:grpSp>
        <p:nvGrpSpPr>
          <p:cNvPr id="377" name=""/>
          <p:cNvGrpSpPr/>
          <p:nvPr/>
        </p:nvGrpSpPr>
        <p:grpSpPr>
          <a:xfrm>
            <a:off x="4572000" y="3641400"/>
            <a:ext cx="3957840" cy="2731320"/>
            <a:chOff x="4572000" y="3641400"/>
            <a:chExt cx="3957840" cy="2731320"/>
          </a:xfrm>
        </p:grpSpPr>
        <p:sp>
          <p:nvSpPr>
            <p:cNvPr id="378" name=""/>
            <p:cNvSpPr/>
            <p:nvPr/>
          </p:nvSpPr>
          <p:spPr>
            <a:xfrm flipV="1">
              <a:off x="7086600" y="364140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4572000" y="3641760"/>
              <a:ext cx="3957840" cy="2730960"/>
              <a:chOff x="4572000" y="3641760"/>
              <a:chExt cx="3957840" cy="2730960"/>
            </a:xfrm>
          </p:grpSpPr>
          <p:sp>
            <p:nvSpPr>
              <p:cNvPr id="380" name=""/>
              <p:cNvSpPr/>
              <p:nvPr/>
            </p:nvSpPr>
            <p:spPr>
              <a:xfrm>
                <a:off x="4572000" y="3641760"/>
                <a:ext cx="2209680" cy="268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840360" y="4692600"/>
                <a:ext cx="168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99.95</a:t>
                </a:r>
                <a:endParaRPr b="0" lang="en-US" sz="3200" spc="-1" strike="noStrike">
                  <a:solidFill>
                    <a:srgbClr val="000000"/>
                  </a:solidFill>
                  <a:latin typeface="Times New Roman"/>
                </a:endParaRPr>
              </a:p>
            </p:txBody>
          </p:sp>
          <p:sp>
            <p:nvSpPr>
              <p:cNvPr id="382" name=""/>
              <p:cNvSpPr/>
              <p:nvPr/>
            </p:nvSpPr>
            <p:spPr>
              <a:xfrm>
                <a:off x="4948560" y="579132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5.55</a:t>
                </a:r>
                <a:endParaRPr b="0" lang="en-US" sz="3200" spc="-1" strike="noStrike">
                  <a:solidFill>
                    <a:srgbClr val="000000"/>
                  </a:solidFill>
                  <a:latin typeface="Times New Roman"/>
                </a:endParaRPr>
              </a:p>
            </p:txBody>
          </p:sp>
          <p:sp>
            <p:nvSpPr>
              <p:cNvPr id="383" name=""/>
              <p:cNvSpPr/>
              <p:nvPr/>
            </p:nvSpPr>
            <p:spPr>
              <a:xfrm>
                <a:off x="4948560" y="518148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6.66</a:t>
                </a:r>
                <a:endParaRPr b="0" lang="en-US" sz="3200" spc="-1" strike="noStrike">
                  <a:solidFill>
                    <a:srgbClr val="000000"/>
                  </a:solidFill>
                  <a:latin typeface="Times New Roman"/>
                </a:endParaRPr>
              </a:p>
            </p:txBody>
          </p:sp>
          <p:sp>
            <p:nvSpPr>
              <p:cNvPr id="384" name=""/>
              <p:cNvSpPr/>
              <p:nvPr/>
            </p:nvSpPr>
            <p:spPr>
              <a:xfrm>
                <a:off x="4944960" y="3886200"/>
                <a:ext cx="146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al Price</a:t>
                </a:r>
                <a:endParaRPr b="0" lang="en-US" sz="3200" spc="-1" strike="noStrike">
                  <a:solidFill>
                    <a:srgbClr val="000000"/>
                  </a:solidFill>
                  <a:latin typeface="Times New Roman"/>
                </a:endParaRPr>
              </a:p>
            </p:txBody>
          </p:sp>
          <p:sp>
            <p:nvSpPr>
              <p:cNvPr id="385" name=""/>
              <p:cNvSpPr/>
              <p:nvPr/>
            </p:nvSpPr>
            <p:spPr>
              <a:xfrm>
                <a:off x="4572000" y="57913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572000" y="518148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086600" y="527364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8"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376"/>
                                        </p:tgtEl>
                                        <p:attrNameLst>
                                          <p:attrName>style.visibility</p:attrName>
                                        </p:attrNameLst>
                                      </p:cBhvr>
                                      <p:to>
                                        <p:strVal val="visible"/>
                                      </p:to>
                                    </p:set>
                                    <p:animEffect filter="dissolve" transition="in">
                                      <p:cBhvr additive="repl">
                                        <p:cTn id="252" dur="500"/>
                                        <p:tgtEl>
                                          <p:spTgt spid="376"/>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375"/>
                                        </p:tgtEl>
                                        <p:attrNameLst>
                                          <p:attrName>style.visibility</p:attrName>
                                        </p:attrNameLst>
                                      </p:cBhvr>
                                      <p:to>
                                        <p:strVal val="visible"/>
                                      </p:to>
                                    </p:set>
                                    <p:animEffect filter="dissolve" transition="in">
                                      <p:cBhvr additive="repl">
                                        <p:cTn id="257" dur="500"/>
                                        <p:tgtEl>
                                          <p:spTgt spid="37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77"/>
                                        </p:tgtEl>
                                        <p:attrNameLst>
                                          <p:attrName>style.visibility</p:attrName>
                                        </p:attrNameLst>
                                      </p:cBhvr>
                                      <p:to>
                                        <p:strVal val="visible"/>
                                      </p:to>
                                    </p:set>
                                    <p:animEffect filter="dissolve" transition="in">
                                      <p:cBhvr additive="repl">
                                        <p:cTn id="26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389"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grpSp>
        <p:nvGrpSpPr>
          <p:cNvPr id="390" name=""/>
          <p:cNvGrpSpPr/>
          <p:nvPr/>
        </p:nvGrpSpPr>
        <p:grpSpPr>
          <a:xfrm>
            <a:off x="631800" y="1523520"/>
            <a:ext cx="2854440" cy="2706120"/>
            <a:chOff x="631800" y="1523520"/>
            <a:chExt cx="2854440" cy="2706120"/>
          </a:xfrm>
        </p:grpSpPr>
        <p:sp>
          <p:nvSpPr>
            <p:cNvPr id="391" name=""/>
            <p:cNvSpPr/>
            <p:nvPr/>
          </p:nvSpPr>
          <p:spPr>
            <a:xfrm flipV="1">
              <a:off x="2438280" y="152352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31800" y="1523880"/>
              <a:ext cx="1540080" cy="268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80880" y="267156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99.95</a:t>
              </a:r>
              <a:endParaRPr b="0" lang="en-US" sz="2400" spc="-1" strike="noStrike">
                <a:solidFill>
                  <a:srgbClr val="000000"/>
                </a:solidFill>
                <a:latin typeface="Times New Roman"/>
              </a:endParaRPr>
            </a:p>
          </p:txBody>
        </p:sp>
        <p:sp>
          <p:nvSpPr>
            <p:cNvPr id="394" name=""/>
            <p:cNvSpPr/>
            <p:nvPr/>
          </p:nvSpPr>
          <p:spPr>
            <a:xfrm>
              <a:off x="834840" y="37699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55</a:t>
              </a:r>
              <a:endParaRPr b="0" lang="en-US" sz="2400" spc="-1" strike="noStrike">
                <a:solidFill>
                  <a:srgbClr val="000000"/>
                </a:solidFill>
                <a:latin typeface="Times New Roman"/>
              </a:endParaRPr>
            </a:p>
          </p:txBody>
        </p:sp>
        <p:sp>
          <p:nvSpPr>
            <p:cNvPr id="395" name=""/>
            <p:cNvSpPr/>
            <p:nvPr/>
          </p:nvSpPr>
          <p:spPr>
            <a:xfrm>
              <a:off x="834840" y="316044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6.66</a:t>
              </a:r>
              <a:endParaRPr b="0" lang="en-US" sz="2400" spc="-1" strike="noStrike">
                <a:solidFill>
                  <a:srgbClr val="000000"/>
                </a:solidFill>
                <a:latin typeface="Times New Roman"/>
              </a:endParaRPr>
            </a:p>
          </p:txBody>
        </p:sp>
        <p:sp>
          <p:nvSpPr>
            <p:cNvPr id="396" name=""/>
            <p:cNvSpPr/>
            <p:nvPr/>
          </p:nvSpPr>
          <p:spPr>
            <a:xfrm>
              <a:off x="868320" y="1768320"/>
              <a:ext cx="106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rice</a:t>
              </a:r>
              <a:endParaRPr b="0" lang="en-US" sz="2400" spc="-1" strike="noStrike">
                <a:solidFill>
                  <a:srgbClr val="000000"/>
                </a:solidFill>
                <a:latin typeface="Times New Roman"/>
              </a:endParaRPr>
            </a:p>
          </p:txBody>
        </p:sp>
        <p:sp>
          <p:nvSpPr>
            <p:cNvPr id="397" name=""/>
            <p:cNvSpPr/>
            <p:nvPr/>
          </p:nvSpPr>
          <p:spPr>
            <a:xfrm>
              <a:off x="631800" y="367308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31800" y="306360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438280" y="315576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3886200" y="2362320"/>
            <a:ext cx="41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t f = final price</a:t>
            </a:r>
            <a:endParaRPr b="0" lang="en-US" sz="3600" spc="-1" strike="noStrike">
              <a:solidFill>
                <a:srgbClr val="000000"/>
              </a:solidFill>
              <a:latin typeface="Times New Roman"/>
            </a:endParaRPr>
          </a:p>
        </p:txBody>
      </p:sp>
      <p:sp>
        <p:nvSpPr>
          <p:cNvPr id="401" name=""/>
          <p:cNvSpPr/>
          <p:nvPr/>
        </p:nvSpPr>
        <p:spPr>
          <a:xfrm>
            <a:off x="2666880" y="324468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 + 66.66 + 55.55 = 899.95</a:t>
            </a:r>
            <a:endParaRPr b="0" lang="en-US" sz="3600" spc="-1" strike="noStrike">
              <a:solidFill>
                <a:srgbClr val="000000"/>
              </a:solidFill>
              <a:latin typeface="Times New Roman"/>
            </a:endParaRPr>
          </a:p>
        </p:txBody>
      </p:sp>
      <p:grpSp>
        <p:nvGrpSpPr>
          <p:cNvPr id="402" name=""/>
          <p:cNvGrpSpPr/>
          <p:nvPr/>
        </p:nvGrpSpPr>
        <p:grpSpPr>
          <a:xfrm>
            <a:off x="4419720" y="4159080"/>
            <a:ext cx="1981080" cy="1284120"/>
            <a:chOff x="4419720" y="4159080"/>
            <a:chExt cx="1981080" cy="1284120"/>
          </a:xfrm>
        </p:grpSpPr>
        <p:sp>
          <p:nvSpPr>
            <p:cNvPr id="403" name=""/>
            <p:cNvSpPr/>
            <p:nvPr/>
          </p:nvSpPr>
          <p:spPr>
            <a:xfrm>
              <a:off x="4864680" y="415908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66.66</a:t>
              </a:r>
              <a:endParaRPr b="0" lang="en-US" sz="3600" spc="-1" strike="noStrike">
                <a:solidFill>
                  <a:srgbClr val="000000"/>
                </a:solidFill>
                <a:latin typeface="Times New Roman"/>
              </a:endParaRPr>
            </a:p>
          </p:txBody>
        </p:sp>
        <p:sp>
          <p:nvSpPr>
            <p:cNvPr id="404" name=""/>
            <p:cNvSpPr/>
            <p:nvPr/>
          </p:nvSpPr>
          <p:spPr>
            <a:xfrm>
              <a:off x="4515480" y="4800600"/>
              <a:ext cx="173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55.55</a:t>
              </a:r>
              <a:endParaRPr b="0" lang="en-US" sz="3600" spc="-1" strike="noStrike">
                <a:solidFill>
                  <a:srgbClr val="000000"/>
                </a:solidFill>
                <a:latin typeface="Times New Roman"/>
              </a:endParaRPr>
            </a:p>
          </p:txBody>
        </p:sp>
        <p:sp>
          <p:nvSpPr>
            <p:cNvPr id="405" name=""/>
            <p:cNvSpPr/>
            <p:nvPr/>
          </p:nvSpPr>
          <p:spPr>
            <a:xfrm>
              <a:off x="4419720" y="544212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4591080" y="553068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2.21</a:t>
            </a:r>
            <a:endParaRPr b="0" lang="en-US" sz="3600" spc="-1" strike="noStrike">
              <a:solidFill>
                <a:srgbClr val="000000"/>
              </a:solidFill>
              <a:latin typeface="Times New Roman"/>
            </a:endParaRPr>
          </a:p>
        </p:txBody>
      </p:sp>
      <p:sp>
        <p:nvSpPr>
          <p:cNvPr id="407"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8" presetSubtype="6">
                                  <p:stCondLst>
                                    <p:cond delay="0"/>
                                  </p:stCondLst>
                                  <p:childTnLst>
                                    <p:set>
                                      <p:cBhvr>
                                        <p:cTn id="268" dur="1" fill="hold">
                                          <p:stCondLst>
                                            <p:cond delay="0"/>
                                          </p:stCondLst>
                                        </p:cTn>
                                        <p:tgtEl>
                                          <p:spTgt spid="400"/>
                                        </p:tgtEl>
                                        <p:attrNameLst>
                                          <p:attrName>style.visibility</p:attrName>
                                        </p:attrNameLst>
                                      </p:cBhvr>
                                      <p:to>
                                        <p:strVal val="visible"/>
                                      </p:to>
                                    </p:set>
                                    <p:animEffect filter="strips(downRight)" transition="in">
                                      <p:cBhvr additive="repl">
                                        <p:cTn id="269" dur="500"/>
                                        <p:tgtEl>
                                          <p:spTgt spid="40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401"/>
                                        </p:tgtEl>
                                        <p:attrNameLst>
                                          <p:attrName>style.visibility</p:attrName>
                                        </p:attrNameLst>
                                      </p:cBhvr>
                                      <p:to>
                                        <p:strVal val="visible"/>
                                      </p:to>
                                    </p:set>
                                    <p:animEffect filter="strips(downRight)" transition="in">
                                      <p:cBhvr additive="repl">
                                        <p:cTn id="274" dur="500"/>
                                        <p:tgtEl>
                                          <p:spTgt spid="40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402"/>
                                        </p:tgtEl>
                                        <p:attrNameLst>
                                          <p:attrName>style.visibility</p:attrName>
                                        </p:attrNameLst>
                                      </p:cBhvr>
                                      <p:to>
                                        <p:strVal val="visible"/>
                                      </p:to>
                                    </p:set>
                                    <p:animEffect filter="strips(downRight)" transition="in">
                                      <p:cBhvr additive="repl">
                                        <p:cTn id="279" dur="500"/>
                                        <p:tgtEl>
                                          <p:spTgt spid="40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406"/>
                                        </p:tgtEl>
                                        <p:attrNameLst>
                                          <p:attrName>style.visibility</p:attrName>
                                        </p:attrNameLst>
                                      </p:cBhvr>
                                      <p:to>
                                        <p:strVal val="visible"/>
                                      </p:to>
                                    </p:set>
                                    <p:animEffect filter="strips(downRight)" transition="in">
                                      <p:cBhvr additive="repl">
                                        <p:cTn id="28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08"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grpSp>
        <p:nvGrpSpPr>
          <p:cNvPr id="409" name=""/>
          <p:cNvGrpSpPr/>
          <p:nvPr/>
        </p:nvGrpSpPr>
        <p:grpSpPr>
          <a:xfrm>
            <a:off x="631800" y="1523520"/>
            <a:ext cx="2854440" cy="2706120"/>
            <a:chOff x="631800" y="1523520"/>
            <a:chExt cx="2854440" cy="2706120"/>
          </a:xfrm>
        </p:grpSpPr>
        <p:sp>
          <p:nvSpPr>
            <p:cNvPr id="410" name=""/>
            <p:cNvSpPr/>
            <p:nvPr/>
          </p:nvSpPr>
          <p:spPr>
            <a:xfrm flipV="1">
              <a:off x="2438280" y="152352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1800" y="1523880"/>
              <a:ext cx="1540080" cy="268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180880" y="267156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99.95</a:t>
              </a:r>
              <a:endParaRPr b="0" lang="en-US" sz="2400" spc="-1" strike="noStrike">
                <a:solidFill>
                  <a:srgbClr val="000000"/>
                </a:solidFill>
                <a:latin typeface="Times New Roman"/>
              </a:endParaRPr>
            </a:p>
          </p:txBody>
        </p:sp>
        <p:sp>
          <p:nvSpPr>
            <p:cNvPr id="413" name=""/>
            <p:cNvSpPr/>
            <p:nvPr/>
          </p:nvSpPr>
          <p:spPr>
            <a:xfrm>
              <a:off x="834840" y="37699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55</a:t>
              </a:r>
              <a:endParaRPr b="0" lang="en-US" sz="2400" spc="-1" strike="noStrike">
                <a:solidFill>
                  <a:srgbClr val="000000"/>
                </a:solidFill>
                <a:latin typeface="Times New Roman"/>
              </a:endParaRPr>
            </a:p>
          </p:txBody>
        </p:sp>
        <p:sp>
          <p:nvSpPr>
            <p:cNvPr id="414" name=""/>
            <p:cNvSpPr/>
            <p:nvPr/>
          </p:nvSpPr>
          <p:spPr>
            <a:xfrm>
              <a:off x="834840" y="316044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6.66</a:t>
              </a:r>
              <a:endParaRPr b="0" lang="en-US" sz="2400" spc="-1" strike="noStrike">
                <a:solidFill>
                  <a:srgbClr val="000000"/>
                </a:solidFill>
                <a:latin typeface="Times New Roman"/>
              </a:endParaRPr>
            </a:p>
          </p:txBody>
        </p:sp>
        <p:sp>
          <p:nvSpPr>
            <p:cNvPr id="415" name=""/>
            <p:cNvSpPr/>
            <p:nvPr/>
          </p:nvSpPr>
          <p:spPr>
            <a:xfrm>
              <a:off x="868320" y="1768320"/>
              <a:ext cx="106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rice</a:t>
              </a:r>
              <a:endParaRPr b="0" lang="en-US" sz="2400" spc="-1" strike="noStrike">
                <a:solidFill>
                  <a:srgbClr val="000000"/>
                </a:solidFill>
                <a:latin typeface="Times New Roman"/>
              </a:endParaRPr>
            </a:p>
          </p:txBody>
        </p:sp>
        <p:sp>
          <p:nvSpPr>
            <p:cNvPr id="416" name=""/>
            <p:cNvSpPr/>
            <p:nvPr/>
          </p:nvSpPr>
          <p:spPr>
            <a:xfrm>
              <a:off x="631800" y="367308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31800" y="306360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438280" y="315576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3886200" y="2362320"/>
            <a:ext cx="41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t f = final price</a:t>
            </a:r>
            <a:endParaRPr b="0" lang="en-US" sz="3600" spc="-1" strike="noStrike">
              <a:solidFill>
                <a:srgbClr val="000000"/>
              </a:solidFill>
              <a:latin typeface="Times New Roman"/>
            </a:endParaRPr>
          </a:p>
        </p:txBody>
      </p:sp>
      <p:sp>
        <p:nvSpPr>
          <p:cNvPr id="420" name=""/>
          <p:cNvSpPr/>
          <p:nvPr/>
        </p:nvSpPr>
        <p:spPr>
          <a:xfrm>
            <a:off x="2666880" y="324468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 + 66.66 + 55.55 = 899.95</a:t>
            </a:r>
            <a:endParaRPr b="0" lang="en-US" sz="3600" spc="-1" strike="noStrike">
              <a:solidFill>
                <a:srgbClr val="000000"/>
              </a:solidFill>
              <a:latin typeface="Times New Roman"/>
            </a:endParaRPr>
          </a:p>
        </p:txBody>
      </p:sp>
      <p:sp>
        <p:nvSpPr>
          <p:cNvPr id="421" name=""/>
          <p:cNvSpPr/>
          <p:nvPr/>
        </p:nvSpPr>
        <p:spPr>
          <a:xfrm>
            <a:off x="2666880" y="415908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 + 122.21 = 899.95</a:t>
            </a:r>
            <a:endParaRPr b="0" lang="en-US" sz="3600" spc="-1" strike="noStrike">
              <a:solidFill>
                <a:srgbClr val="000000"/>
              </a:solidFill>
              <a:latin typeface="Times New Roman"/>
            </a:endParaRPr>
          </a:p>
        </p:txBody>
      </p:sp>
      <p:grpSp>
        <p:nvGrpSpPr>
          <p:cNvPr id="422" name=""/>
          <p:cNvGrpSpPr/>
          <p:nvPr/>
        </p:nvGrpSpPr>
        <p:grpSpPr>
          <a:xfrm>
            <a:off x="3352680" y="4800600"/>
            <a:ext cx="4515120" cy="642600"/>
            <a:chOff x="3352680" y="4800600"/>
            <a:chExt cx="4515120" cy="642600"/>
          </a:xfrm>
        </p:grpSpPr>
        <p:sp>
          <p:nvSpPr>
            <p:cNvPr id="423" name=""/>
            <p:cNvSpPr/>
            <p:nvPr/>
          </p:nvSpPr>
          <p:spPr>
            <a:xfrm>
              <a:off x="3866760" y="4800600"/>
              <a:ext cx="381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2.21  - 122.21</a:t>
              </a:r>
              <a:endParaRPr b="0" lang="en-US" sz="3600" spc="-1" strike="noStrike">
                <a:solidFill>
                  <a:srgbClr val="000000"/>
                </a:solidFill>
                <a:latin typeface="Times New Roman"/>
              </a:endParaRPr>
            </a:p>
          </p:txBody>
        </p:sp>
        <p:sp>
          <p:nvSpPr>
            <p:cNvPr id="424" name=""/>
            <p:cNvSpPr/>
            <p:nvPr/>
          </p:nvSpPr>
          <p:spPr>
            <a:xfrm>
              <a:off x="3352680" y="5442120"/>
              <a:ext cx="451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4495680" y="54547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 = 777.74</a:t>
            </a:r>
            <a:endParaRPr b="0" lang="en-US" sz="3600" spc="-1" strike="noStrike">
              <a:solidFill>
                <a:srgbClr val="000000"/>
              </a:solidFill>
              <a:latin typeface="Times New Roman"/>
            </a:endParaRPr>
          </a:p>
        </p:txBody>
      </p:sp>
      <p:sp>
        <p:nvSpPr>
          <p:cNvPr id="426"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8" presetSubtype="6">
                                  <p:stCondLst>
                                    <p:cond delay="0"/>
                                  </p:stCondLst>
                                  <p:childTnLst>
                                    <p:set>
                                      <p:cBhvr>
                                        <p:cTn id="290" dur="1" fill="hold">
                                          <p:stCondLst>
                                            <p:cond delay="0"/>
                                          </p:stCondLst>
                                        </p:cTn>
                                        <p:tgtEl>
                                          <p:spTgt spid="422"/>
                                        </p:tgtEl>
                                        <p:attrNameLst>
                                          <p:attrName>style.visibility</p:attrName>
                                        </p:attrNameLst>
                                      </p:cBhvr>
                                      <p:to>
                                        <p:strVal val="visible"/>
                                      </p:to>
                                    </p:set>
                                    <p:animEffect filter="strips(downRight)" transition="in">
                                      <p:cBhvr additive="repl">
                                        <p:cTn id="291" dur="500"/>
                                        <p:tgtEl>
                                          <p:spTgt spid="42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16">
                                  <p:stCondLst>
                                    <p:cond delay="0"/>
                                  </p:stCondLst>
                                  <p:childTnLst>
                                    <p:set>
                                      <p:cBhvr>
                                        <p:cTn id="295" dur="1" fill="hold">
                                          <p:stCondLst>
                                            <p:cond delay="0"/>
                                          </p:stCondLst>
                                        </p:cTn>
                                        <p:tgtEl>
                                          <p:spTgt spid="425"/>
                                        </p:tgtEl>
                                        <p:attrNameLst>
                                          <p:attrName>style.visibility</p:attrName>
                                        </p:attrNameLst>
                                      </p:cBhvr>
                                      <p:to>
                                        <p:strVal val="visible"/>
                                      </p:to>
                                    </p:set>
                                    <p:anim calcmode="lin" valueType="num">
                                      <p:cBhvr additive="repl">
                                        <p:cTn id="296" dur="500" fill="hold"/>
                                        <p:tgtEl>
                                          <p:spTgt spid="425"/>
                                        </p:tgtEl>
                                        <p:attrNameLst>
                                          <p:attrName>ppt_w</p:attrName>
                                        </p:attrNameLst>
                                      </p:cBhvr>
                                      <p:tavLst>
                                        <p:tav tm="0">
                                          <p:val>
                                            <p:fltVal val="0"/>
                                          </p:val>
                                        </p:tav>
                                        <p:tav tm="100000">
                                          <p:val>
                                            <p:strVal val="#ppt_w"/>
                                          </p:val>
                                        </p:tav>
                                      </p:tavLst>
                                    </p:anim>
                                    <p:anim calcmode="lin" valueType="num">
                                      <p:cBhvr additive="repl">
                                        <p:cTn id="297" dur="500" fill="hold"/>
                                        <p:tgtEl>
                                          <p:spTgt spid="4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27"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grpSp>
        <p:nvGrpSpPr>
          <p:cNvPr id="428" name=""/>
          <p:cNvGrpSpPr/>
          <p:nvPr/>
        </p:nvGrpSpPr>
        <p:grpSpPr>
          <a:xfrm>
            <a:off x="631800" y="1523520"/>
            <a:ext cx="2854440" cy="2706120"/>
            <a:chOff x="631800" y="1523520"/>
            <a:chExt cx="2854440" cy="2706120"/>
          </a:xfrm>
        </p:grpSpPr>
        <p:sp>
          <p:nvSpPr>
            <p:cNvPr id="429" name=""/>
            <p:cNvSpPr/>
            <p:nvPr/>
          </p:nvSpPr>
          <p:spPr>
            <a:xfrm flipV="1">
              <a:off x="2438280" y="152352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31800" y="1523880"/>
              <a:ext cx="1540080" cy="268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180880" y="267156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99.95</a:t>
              </a:r>
              <a:endParaRPr b="0" lang="en-US" sz="2400" spc="-1" strike="noStrike">
                <a:solidFill>
                  <a:srgbClr val="000000"/>
                </a:solidFill>
                <a:latin typeface="Times New Roman"/>
              </a:endParaRPr>
            </a:p>
          </p:txBody>
        </p:sp>
        <p:sp>
          <p:nvSpPr>
            <p:cNvPr id="432" name=""/>
            <p:cNvSpPr/>
            <p:nvPr/>
          </p:nvSpPr>
          <p:spPr>
            <a:xfrm>
              <a:off x="834840" y="376992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55</a:t>
              </a:r>
              <a:endParaRPr b="0" lang="en-US" sz="2400" spc="-1" strike="noStrike">
                <a:solidFill>
                  <a:srgbClr val="000000"/>
                </a:solidFill>
                <a:latin typeface="Times New Roman"/>
              </a:endParaRPr>
            </a:p>
          </p:txBody>
        </p:sp>
        <p:sp>
          <p:nvSpPr>
            <p:cNvPr id="433" name=""/>
            <p:cNvSpPr/>
            <p:nvPr/>
          </p:nvSpPr>
          <p:spPr>
            <a:xfrm>
              <a:off x="834840" y="316044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6.66</a:t>
              </a:r>
              <a:endParaRPr b="0" lang="en-US" sz="2400" spc="-1" strike="noStrike">
                <a:solidFill>
                  <a:srgbClr val="000000"/>
                </a:solidFill>
                <a:latin typeface="Times New Roman"/>
              </a:endParaRPr>
            </a:p>
          </p:txBody>
        </p:sp>
        <p:sp>
          <p:nvSpPr>
            <p:cNvPr id="434" name=""/>
            <p:cNvSpPr/>
            <p:nvPr/>
          </p:nvSpPr>
          <p:spPr>
            <a:xfrm>
              <a:off x="868320" y="1768320"/>
              <a:ext cx="106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rice</a:t>
              </a:r>
              <a:endParaRPr b="0" lang="en-US" sz="2400" spc="-1" strike="noStrike">
                <a:solidFill>
                  <a:srgbClr val="000000"/>
                </a:solidFill>
                <a:latin typeface="Times New Roman"/>
              </a:endParaRPr>
            </a:p>
          </p:txBody>
        </p:sp>
        <p:sp>
          <p:nvSpPr>
            <p:cNvPr id="435" name=""/>
            <p:cNvSpPr/>
            <p:nvPr/>
          </p:nvSpPr>
          <p:spPr>
            <a:xfrm>
              <a:off x="631800" y="367308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1800" y="3063600"/>
              <a:ext cx="154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3155760"/>
              <a:ext cx="0" cy="105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3886200" y="2362320"/>
            <a:ext cx="41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t f = final price</a:t>
            </a:r>
            <a:endParaRPr b="0" lang="en-US" sz="3600" spc="-1" strike="noStrike">
              <a:solidFill>
                <a:srgbClr val="000000"/>
              </a:solidFill>
              <a:latin typeface="Times New Roman"/>
            </a:endParaRPr>
          </a:p>
        </p:txBody>
      </p:sp>
      <p:sp>
        <p:nvSpPr>
          <p:cNvPr id="439" name=""/>
          <p:cNvSpPr/>
          <p:nvPr/>
        </p:nvSpPr>
        <p:spPr>
          <a:xfrm>
            <a:off x="2666880" y="324468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 + 66.66 + 55.55 = 899.95</a:t>
            </a:r>
            <a:endParaRPr b="0" lang="en-US" sz="3600" spc="-1" strike="noStrike">
              <a:solidFill>
                <a:srgbClr val="000000"/>
              </a:solidFill>
              <a:latin typeface="Times New Roman"/>
            </a:endParaRPr>
          </a:p>
        </p:txBody>
      </p:sp>
      <p:sp>
        <p:nvSpPr>
          <p:cNvPr id="440" name=""/>
          <p:cNvSpPr/>
          <p:nvPr/>
        </p:nvSpPr>
        <p:spPr>
          <a:xfrm>
            <a:off x="2666880" y="415908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 + 122.21 = 899.95</a:t>
            </a:r>
            <a:endParaRPr b="0" lang="en-US" sz="3600" spc="-1" strike="noStrike">
              <a:solidFill>
                <a:srgbClr val="000000"/>
              </a:solidFill>
              <a:latin typeface="Times New Roman"/>
            </a:endParaRPr>
          </a:p>
        </p:txBody>
      </p:sp>
      <p:sp>
        <p:nvSpPr>
          <p:cNvPr id="441" name=""/>
          <p:cNvSpPr/>
          <p:nvPr/>
        </p:nvSpPr>
        <p:spPr>
          <a:xfrm>
            <a:off x="3866760" y="4800600"/>
            <a:ext cx="381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2.21  - 122.21</a:t>
            </a:r>
            <a:endParaRPr b="0" lang="en-US" sz="3600" spc="-1" strike="noStrike">
              <a:solidFill>
                <a:srgbClr val="000000"/>
              </a:solidFill>
              <a:latin typeface="Times New Roman"/>
            </a:endParaRPr>
          </a:p>
        </p:txBody>
      </p:sp>
      <p:sp>
        <p:nvSpPr>
          <p:cNvPr id="442" name=""/>
          <p:cNvSpPr/>
          <p:nvPr/>
        </p:nvSpPr>
        <p:spPr>
          <a:xfrm>
            <a:off x="3352680" y="5442120"/>
            <a:ext cx="451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257640" y="5454720"/>
            <a:ext cx="4743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Final cost = $777.74</a:t>
            </a:r>
            <a:endParaRPr b="0" lang="en-US" sz="3600" spc="-1" strike="noStrike">
              <a:solidFill>
                <a:srgbClr val="000000"/>
              </a:solidFill>
              <a:latin typeface="Times New Roman"/>
            </a:endParaRPr>
          </a:p>
        </p:txBody>
      </p:sp>
      <p:sp>
        <p:nvSpPr>
          <p:cNvPr id="444"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5" name=""/>
          <p:cNvGrpSpPr/>
          <p:nvPr/>
        </p:nvGrpSpPr>
        <p:grpSpPr>
          <a:xfrm>
            <a:off x="533520" y="2895480"/>
            <a:ext cx="2361960" cy="2971800"/>
            <a:chOff x="533520" y="2895480"/>
            <a:chExt cx="2361960" cy="2971800"/>
          </a:xfrm>
        </p:grpSpPr>
        <p:sp>
          <p:nvSpPr>
            <p:cNvPr id="76"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1"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3"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4"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0"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5"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0"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1"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2"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731880" y="1447920"/>
            <a:ext cx="7954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hen you finish this unit, you will be able to:</a:t>
            </a:r>
            <a:endParaRPr b="0" lang="en-US" sz="3200" spc="-1" strike="noStrike">
              <a:solidFill>
                <a:srgbClr val="000000"/>
              </a:solidFill>
              <a:latin typeface="Times New Roman"/>
            </a:endParaRPr>
          </a:p>
        </p:txBody>
      </p:sp>
      <p:sp>
        <p:nvSpPr>
          <p:cNvPr id="134" name=""/>
          <p:cNvSpPr/>
          <p:nvPr/>
        </p:nvSpPr>
        <p:spPr>
          <a:xfrm>
            <a:off x="2895480" y="2514600"/>
            <a:ext cx="5562720" cy="301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ve word problems involving addition, subtraction, multiplication and division of decimal numbers</a:t>
            </a:r>
            <a:endParaRPr b="0" lang="en-US" sz="3200" spc="-1" strike="noStrike">
              <a:solidFill>
                <a:srgbClr val="000000"/>
              </a:solidFill>
              <a:latin typeface="Times New Roman"/>
            </a:endParaRPr>
          </a:p>
        </p:txBody>
      </p:sp>
      <p:sp>
        <p:nvSpPr>
          <p:cNvPr id="135" name=""/>
          <p:cNvSpPr/>
          <p:nvPr/>
        </p:nvSpPr>
        <p:spPr>
          <a:xfrm>
            <a:off x="3809880" y="7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5" name=""/>
          <p:cNvSpPr/>
          <p:nvPr/>
        </p:nvSpPr>
        <p:spPr>
          <a:xfrm>
            <a:off x="3429000" y="146196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eck:</a:t>
            </a:r>
            <a:endParaRPr b="0" lang="en-US" sz="4000" spc="-1" strike="noStrike">
              <a:solidFill>
                <a:srgbClr val="000000"/>
              </a:solidFill>
              <a:latin typeface="Times New Roman"/>
            </a:endParaRPr>
          </a:p>
        </p:txBody>
      </p:sp>
      <p:sp>
        <p:nvSpPr>
          <p:cNvPr id="446" name=""/>
          <p:cNvSpPr/>
          <p:nvPr/>
        </p:nvSpPr>
        <p:spPr>
          <a:xfrm>
            <a:off x="800280" y="231444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inal cost + rebate = original price</a:t>
            </a:r>
            <a:endParaRPr b="0" lang="en-US" sz="3600" spc="-1" strike="noStrike">
              <a:solidFill>
                <a:srgbClr val="000000"/>
              </a:solidFill>
              <a:latin typeface="Times New Roman"/>
            </a:endParaRPr>
          </a:p>
        </p:txBody>
      </p:sp>
      <p:sp>
        <p:nvSpPr>
          <p:cNvPr id="447" name=""/>
          <p:cNvSpPr/>
          <p:nvPr/>
        </p:nvSpPr>
        <p:spPr>
          <a:xfrm>
            <a:off x="685800" y="312408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77.74 + $122.21 =? $899.95</a:t>
            </a:r>
            <a:endParaRPr b="0" lang="en-US" sz="3600" spc="-1" strike="noStrike">
              <a:solidFill>
                <a:srgbClr val="000000"/>
              </a:solidFill>
              <a:latin typeface="Times New Roman"/>
            </a:endParaRPr>
          </a:p>
        </p:txBody>
      </p:sp>
      <p:grpSp>
        <p:nvGrpSpPr>
          <p:cNvPr id="448" name=""/>
          <p:cNvGrpSpPr/>
          <p:nvPr/>
        </p:nvGrpSpPr>
        <p:grpSpPr>
          <a:xfrm>
            <a:off x="658800" y="4006800"/>
            <a:ext cx="2060640" cy="1937880"/>
            <a:chOff x="658800" y="4006800"/>
            <a:chExt cx="2060640" cy="1937880"/>
          </a:xfrm>
        </p:grpSpPr>
        <p:sp>
          <p:nvSpPr>
            <p:cNvPr id="449" name=""/>
            <p:cNvSpPr/>
            <p:nvPr/>
          </p:nvSpPr>
          <p:spPr>
            <a:xfrm>
              <a:off x="1064880" y="400680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77.74</a:t>
              </a:r>
              <a:endParaRPr b="0" lang="en-US" sz="3600" spc="-1" strike="noStrike">
                <a:solidFill>
                  <a:srgbClr val="000000"/>
                </a:solidFill>
                <a:latin typeface="Times New Roman"/>
              </a:endParaRPr>
            </a:p>
          </p:txBody>
        </p:sp>
        <p:sp>
          <p:nvSpPr>
            <p:cNvPr id="450" name=""/>
            <p:cNvSpPr/>
            <p:nvPr/>
          </p:nvSpPr>
          <p:spPr>
            <a:xfrm>
              <a:off x="658800" y="4616280"/>
              <a:ext cx="199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2.21</a:t>
              </a:r>
              <a:endParaRPr b="0" lang="en-US" sz="3600" spc="-1" strike="noStrike">
                <a:solidFill>
                  <a:srgbClr val="000000"/>
                </a:solidFill>
                <a:latin typeface="Times New Roman"/>
              </a:endParaRPr>
            </a:p>
          </p:txBody>
        </p:sp>
        <p:sp>
          <p:nvSpPr>
            <p:cNvPr id="451" name=""/>
            <p:cNvSpPr/>
            <p:nvPr/>
          </p:nvSpPr>
          <p:spPr>
            <a:xfrm>
              <a:off x="685800" y="5257800"/>
              <a:ext cx="203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049040" y="5302080"/>
              <a:ext cx="161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99.95</a:t>
              </a:r>
              <a:endParaRPr b="0" lang="en-US" sz="3600" spc="-1" strike="noStrike">
                <a:solidFill>
                  <a:srgbClr val="000000"/>
                </a:solidFill>
                <a:latin typeface="Times New Roman"/>
              </a:endParaRPr>
            </a:p>
          </p:txBody>
        </p:sp>
      </p:grpSp>
      <p:sp>
        <p:nvSpPr>
          <p:cNvPr id="453" name=""/>
          <p:cNvSpPr/>
          <p:nvPr/>
        </p:nvSpPr>
        <p:spPr>
          <a:xfrm>
            <a:off x="3352680" y="3886200"/>
            <a:ext cx="522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99.95 = $899.95</a:t>
            </a:r>
            <a:endParaRPr b="0" lang="en-US" sz="3600" spc="-1" strike="noStrike">
              <a:solidFill>
                <a:srgbClr val="000000"/>
              </a:solidFill>
              <a:latin typeface="Times New Roman"/>
            </a:endParaRPr>
          </a:p>
        </p:txBody>
      </p:sp>
      <p:sp>
        <p:nvSpPr>
          <p:cNvPr id="454" name=""/>
          <p:cNvSpPr/>
          <p:nvPr/>
        </p:nvSpPr>
        <p:spPr>
          <a:xfrm>
            <a:off x="5064120" y="4648320"/>
            <a:ext cx="116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OK!</a:t>
            </a:r>
            <a:endParaRPr b="0" lang="en-US" sz="3600" spc="-1" strike="noStrike">
              <a:solidFill>
                <a:srgbClr val="000000"/>
              </a:solidFill>
              <a:latin typeface="Times New Roman"/>
            </a:endParaRPr>
          </a:p>
        </p:txBody>
      </p:sp>
      <p:sp>
        <p:nvSpPr>
          <p:cNvPr id="455"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cover dir="d"/>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8" presetSubtype="6">
                                  <p:stCondLst>
                                    <p:cond delay="0"/>
                                  </p:stCondLst>
                                  <p:childTnLst>
                                    <p:set>
                                      <p:cBhvr>
                                        <p:cTn id="303" dur="1" fill="hold">
                                          <p:stCondLst>
                                            <p:cond delay="0"/>
                                          </p:stCondLst>
                                        </p:cTn>
                                        <p:tgtEl>
                                          <p:spTgt spid="446"/>
                                        </p:tgtEl>
                                        <p:attrNameLst>
                                          <p:attrName>style.visibility</p:attrName>
                                        </p:attrNameLst>
                                      </p:cBhvr>
                                      <p:to>
                                        <p:strVal val="visible"/>
                                      </p:to>
                                    </p:set>
                                    <p:animEffect filter="strips(downRight)" transition="in">
                                      <p:cBhvr additive="repl">
                                        <p:cTn id="304" dur="500"/>
                                        <p:tgtEl>
                                          <p:spTgt spid="446"/>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8" presetSubtype="6">
                                  <p:stCondLst>
                                    <p:cond delay="0"/>
                                  </p:stCondLst>
                                  <p:childTnLst>
                                    <p:set>
                                      <p:cBhvr>
                                        <p:cTn id="308" dur="1" fill="hold">
                                          <p:stCondLst>
                                            <p:cond delay="0"/>
                                          </p:stCondLst>
                                        </p:cTn>
                                        <p:tgtEl>
                                          <p:spTgt spid="447"/>
                                        </p:tgtEl>
                                        <p:attrNameLst>
                                          <p:attrName>style.visibility</p:attrName>
                                        </p:attrNameLst>
                                      </p:cBhvr>
                                      <p:to>
                                        <p:strVal val="visible"/>
                                      </p:to>
                                    </p:set>
                                    <p:animEffect filter="strips(downRight)" transition="in">
                                      <p:cBhvr additive="repl">
                                        <p:cTn id="309" dur="500"/>
                                        <p:tgtEl>
                                          <p:spTgt spid="44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8" presetSubtype="6">
                                  <p:stCondLst>
                                    <p:cond delay="0"/>
                                  </p:stCondLst>
                                  <p:childTnLst>
                                    <p:set>
                                      <p:cBhvr>
                                        <p:cTn id="313" dur="1" fill="hold">
                                          <p:stCondLst>
                                            <p:cond delay="0"/>
                                          </p:stCondLst>
                                        </p:cTn>
                                        <p:tgtEl>
                                          <p:spTgt spid="448"/>
                                        </p:tgtEl>
                                        <p:attrNameLst>
                                          <p:attrName>style.visibility</p:attrName>
                                        </p:attrNameLst>
                                      </p:cBhvr>
                                      <p:to>
                                        <p:strVal val="visible"/>
                                      </p:to>
                                    </p:set>
                                    <p:animEffect filter="strips(downRight)" transition="in">
                                      <p:cBhvr additive="repl">
                                        <p:cTn id="314" dur="500"/>
                                        <p:tgtEl>
                                          <p:spTgt spid="44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8" presetSubtype="6">
                                  <p:stCondLst>
                                    <p:cond delay="0"/>
                                  </p:stCondLst>
                                  <p:childTnLst>
                                    <p:set>
                                      <p:cBhvr>
                                        <p:cTn id="318" dur="1" fill="hold">
                                          <p:stCondLst>
                                            <p:cond delay="0"/>
                                          </p:stCondLst>
                                        </p:cTn>
                                        <p:tgtEl>
                                          <p:spTgt spid="453"/>
                                        </p:tgtEl>
                                        <p:attrNameLst>
                                          <p:attrName>style.visibility</p:attrName>
                                        </p:attrNameLst>
                                      </p:cBhvr>
                                      <p:to>
                                        <p:strVal val="visible"/>
                                      </p:to>
                                    </p:set>
                                    <p:animEffect filter="strips(downRight)" transition="in">
                                      <p:cBhvr additive="repl">
                                        <p:cTn id="319" dur="500"/>
                                        <p:tgtEl>
                                          <p:spTgt spid="45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8" presetSubtype="6">
                                  <p:stCondLst>
                                    <p:cond delay="0"/>
                                  </p:stCondLst>
                                  <p:childTnLst>
                                    <p:set>
                                      <p:cBhvr>
                                        <p:cTn id="323" dur="1" fill="hold">
                                          <p:stCondLst>
                                            <p:cond delay="0"/>
                                          </p:stCondLst>
                                        </p:cTn>
                                        <p:tgtEl>
                                          <p:spTgt spid="454"/>
                                        </p:tgtEl>
                                        <p:attrNameLst>
                                          <p:attrName>style.visibility</p:attrName>
                                        </p:attrNameLst>
                                      </p:cBhvr>
                                      <p:to>
                                        <p:strVal val="visible"/>
                                      </p:to>
                                    </p:set>
                                    <p:animEffect filter="strips(downRight)" transition="in">
                                      <p:cBhvr additive="repl">
                                        <p:cTn id="32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456" name=""/>
          <p:cNvGrpSpPr/>
          <p:nvPr/>
        </p:nvGrpSpPr>
        <p:grpSpPr>
          <a:xfrm>
            <a:off x="1523880" y="3733920"/>
            <a:ext cx="2052720" cy="2286000"/>
            <a:chOff x="1523880" y="3733920"/>
            <a:chExt cx="2052720" cy="2286000"/>
          </a:xfrm>
        </p:grpSpPr>
        <p:grpSp>
          <p:nvGrpSpPr>
            <p:cNvPr id="457" name=""/>
            <p:cNvGrpSpPr/>
            <p:nvPr/>
          </p:nvGrpSpPr>
          <p:grpSpPr>
            <a:xfrm>
              <a:off x="1523880" y="3772080"/>
              <a:ext cx="2052720" cy="2247840"/>
              <a:chOff x="1523880" y="3772080"/>
              <a:chExt cx="2052720" cy="2247840"/>
            </a:xfrm>
          </p:grpSpPr>
          <p:sp>
            <p:nvSpPr>
              <p:cNvPr id="458" name=""/>
              <p:cNvSpPr/>
              <p:nvPr/>
            </p:nvSpPr>
            <p:spPr>
              <a:xfrm>
                <a:off x="1523880" y="3772080"/>
                <a:ext cx="2016360" cy="2247840"/>
              </a:xfrm>
              <a:custGeom>
                <a:avLst/>
                <a:gdLst/>
                <a:ahLst/>
                <a:rect l="l" t="t" r="r" b="b"/>
                <a:pathLst>
                  <a:path w="2541" h="2832">
                    <a:moveTo>
                      <a:pt x="1110" y="62"/>
                    </a:moveTo>
                    <a:lnTo>
                      <a:pt x="960" y="606"/>
                    </a:lnTo>
                    <a:lnTo>
                      <a:pt x="834" y="912"/>
                    </a:lnTo>
                    <a:lnTo>
                      <a:pt x="661" y="1220"/>
                    </a:lnTo>
                    <a:lnTo>
                      <a:pt x="426" y="1543"/>
                    </a:lnTo>
                    <a:lnTo>
                      <a:pt x="150" y="1842"/>
                    </a:lnTo>
                    <a:lnTo>
                      <a:pt x="0" y="2062"/>
                    </a:lnTo>
                    <a:lnTo>
                      <a:pt x="606" y="2362"/>
                    </a:lnTo>
                    <a:lnTo>
                      <a:pt x="912" y="2591"/>
                    </a:lnTo>
                    <a:lnTo>
                      <a:pt x="1188" y="2786"/>
                    </a:lnTo>
                    <a:lnTo>
                      <a:pt x="1346" y="2832"/>
                    </a:lnTo>
                    <a:lnTo>
                      <a:pt x="1581" y="2425"/>
                    </a:lnTo>
                    <a:lnTo>
                      <a:pt x="1817" y="2079"/>
                    </a:lnTo>
                    <a:lnTo>
                      <a:pt x="2108" y="1747"/>
                    </a:lnTo>
                    <a:lnTo>
                      <a:pt x="2321" y="1456"/>
                    </a:lnTo>
                    <a:lnTo>
                      <a:pt x="2454" y="1173"/>
                    </a:lnTo>
                    <a:lnTo>
                      <a:pt x="2406" y="1102"/>
                    </a:lnTo>
                    <a:lnTo>
                      <a:pt x="2541" y="676"/>
                    </a:lnTo>
                    <a:lnTo>
                      <a:pt x="2446" y="581"/>
                    </a:lnTo>
                    <a:lnTo>
                      <a:pt x="2399" y="424"/>
                    </a:lnTo>
                    <a:lnTo>
                      <a:pt x="2030" y="361"/>
                    </a:lnTo>
                    <a:lnTo>
                      <a:pt x="1692" y="243"/>
                    </a:lnTo>
                    <a:lnTo>
                      <a:pt x="1275" y="62"/>
                    </a:lnTo>
                    <a:lnTo>
                      <a:pt x="1140" y="0"/>
                    </a:lnTo>
                    <a:lnTo>
                      <a:pt x="1110" y="62"/>
                    </a:lnTo>
                    <a:lnTo>
                      <a:pt x="1110" y="62"/>
                    </a:lnTo>
                    <a:close/>
                  </a:path>
                </a:pathLst>
              </a:custGeom>
              <a:solidFill>
                <a:srgbClr val="fff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381040" y="4181760"/>
                <a:ext cx="635040" cy="907920"/>
              </a:xfrm>
              <a:custGeom>
                <a:avLst/>
                <a:gdLst/>
                <a:ahLst/>
                <a:rect l="l" t="t" r="r" b="b"/>
                <a:pathLst>
                  <a:path w="800" h="1142">
                    <a:moveTo>
                      <a:pt x="159" y="76"/>
                    </a:moveTo>
                    <a:lnTo>
                      <a:pt x="357" y="0"/>
                    </a:lnTo>
                    <a:lnTo>
                      <a:pt x="509" y="0"/>
                    </a:lnTo>
                    <a:lnTo>
                      <a:pt x="661" y="53"/>
                    </a:lnTo>
                    <a:lnTo>
                      <a:pt x="760" y="152"/>
                    </a:lnTo>
                    <a:lnTo>
                      <a:pt x="800" y="289"/>
                    </a:lnTo>
                    <a:lnTo>
                      <a:pt x="739" y="448"/>
                    </a:lnTo>
                    <a:lnTo>
                      <a:pt x="625" y="570"/>
                    </a:lnTo>
                    <a:lnTo>
                      <a:pt x="471" y="669"/>
                    </a:lnTo>
                    <a:lnTo>
                      <a:pt x="319" y="754"/>
                    </a:lnTo>
                    <a:lnTo>
                      <a:pt x="182" y="853"/>
                    </a:lnTo>
                    <a:lnTo>
                      <a:pt x="76" y="990"/>
                    </a:lnTo>
                    <a:lnTo>
                      <a:pt x="7" y="1142"/>
                    </a:lnTo>
                    <a:lnTo>
                      <a:pt x="0" y="929"/>
                    </a:lnTo>
                    <a:lnTo>
                      <a:pt x="30" y="838"/>
                    </a:lnTo>
                    <a:lnTo>
                      <a:pt x="114" y="724"/>
                    </a:lnTo>
                    <a:lnTo>
                      <a:pt x="205" y="640"/>
                    </a:lnTo>
                    <a:lnTo>
                      <a:pt x="327" y="564"/>
                    </a:lnTo>
                    <a:lnTo>
                      <a:pt x="448" y="464"/>
                    </a:lnTo>
                    <a:lnTo>
                      <a:pt x="494" y="357"/>
                    </a:lnTo>
                    <a:lnTo>
                      <a:pt x="456" y="273"/>
                    </a:lnTo>
                    <a:lnTo>
                      <a:pt x="387" y="273"/>
                    </a:lnTo>
                    <a:lnTo>
                      <a:pt x="288" y="327"/>
                    </a:lnTo>
                    <a:lnTo>
                      <a:pt x="228" y="380"/>
                    </a:lnTo>
                    <a:lnTo>
                      <a:pt x="152" y="418"/>
                    </a:lnTo>
                    <a:lnTo>
                      <a:pt x="91" y="418"/>
                    </a:lnTo>
                    <a:lnTo>
                      <a:pt x="38" y="388"/>
                    </a:lnTo>
                    <a:lnTo>
                      <a:pt x="15" y="296"/>
                    </a:lnTo>
                    <a:lnTo>
                      <a:pt x="91" y="243"/>
                    </a:lnTo>
                    <a:lnTo>
                      <a:pt x="83" y="129"/>
                    </a:lnTo>
                    <a:lnTo>
                      <a:pt x="159" y="76"/>
                    </a:lnTo>
                    <a:lnTo>
                      <a:pt x="159"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170080" y="5143680"/>
                <a:ext cx="338040" cy="309600"/>
              </a:xfrm>
              <a:custGeom>
                <a:avLst/>
                <a:gdLst/>
                <a:ahLst/>
                <a:rect l="l" t="t" r="r" b="b"/>
                <a:pathLst>
                  <a:path w="426" h="389">
                    <a:moveTo>
                      <a:pt x="251" y="0"/>
                    </a:moveTo>
                    <a:lnTo>
                      <a:pt x="84" y="60"/>
                    </a:lnTo>
                    <a:lnTo>
                      <a:pt x="31" y="138"/>
                    </a:lnTo>
                    <a:lnTo>
                      <a:pt x="0" y="237"/>
                    </a:lnTo>
                    <a:lnTo>
                      <a:pt x="31" y="328"/>
                    </a:lnTo>
                    <a:lnTo>
                      <a:pt x="107" y="389"/>
                    </a:lnTo>
                    <a:lnTo>
                      <a:pt x="229" y="389"/>
                    </a:lnTo>
                    <a:lnTo>
                      <a:pt x="289" y="366"/>
                    </a:lnTo>
                    <a:lnTo>
                      <a:pt x="335" y="306"/>
                    </a:lnTo>
                    <a:lnTo>
                      <a:pt x="343" y="230"/>
                    </a:lnTo>
                    <a:lnTo>
                      <a:pt x="312" y="144"/>
                    </a:lnTo>
                    <a:lnTo>
                      <a:pt x="373" y="174"/>
                    </a:lnTo>
                    <a:lnTo>
                      <a:pt x="396" y="252"/>
                    </a:lnTo>
                    <a:lnTo>
                      <a:pt x="426" y="169"/>
                    </a:lnTo>
                    <a:lnTo>
                      <a:pt x="396" y="91"/>
                    </a:lnTo>
                    <a:lnTo>
                      <a:pt x="343" y="38"/>
                    </a:lnTo>
                    <a:lnTo>
                      <a:pt x="251" y="0"/>
                    </a:lnTo>
                    <a:lnTo>
                      <a:pt x="2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620800" y="4277160"/>
                <a:ext cx="955800" cy="1742760"/>
              </a:xfrm>
              <a:custGeom>
                <a:avLst/>
                <a:gdLst/>
                <a:ahLst/>
                <a:rect l="l" t="t" r="r" b="b"/>
                <a:pathLst>
                  <a:path w="1203" h="2195">
                    <a:moveTo>
                      <a:pt x="916" y="0"/>
                    </a:moveTo>
                    <a:lnTo>
                      <a:pt x="846" y="304"/>
                    </a:lnTo>
                    <a:lnTo>
                      <a:pt x="754" y="555"/>
                    </a:lnTo>
                    <a:lnTo>
                      <a:pt x="640" y="800"/>
                    </a:lnTo>
                    <a:lnTo>
                      <a:pt x="471" y="1121"/>
                    </a:lnTo>
                    <a:lnTo>
                      <a:pt x="317" y="1383"/>
                    </a:lnTo>
                    <a:lnTo>
                      <a:pt x="182" y="1617"/>
                    </a:lnTo>
                    <a:lnTo>
                      <a:pt x="63" y="1917"/>
                    </a:lnTo>
                    <a:lnTo>
                      <a:pt x="11" y="2051"/>
                    </a:lnTo>
                    <a:lnTo>
                      <a:pt x="0" y="2163"/>
                    </a:lnTo>
                    <a:lnTo>
                      <a:pt x="32" y="2195"/>
                    </a:lnTo>
                    <a:lnTo>
                      <a:pt x="74" y="2170"/>
                    </a:lnTo>
                    <a:lnTo>
                      <a:pt x="150" y="1963"/>
                    </a:lnTo>
                    <a:lnTo>
                      <a:pt x="140" y="2125"/>
                    </a:lnTo>
                    <a:lnTo>
                      <a:pt x="308" y="1887"/>
                    </a:lnTo>
                    <a:lnTo>
                      <a:pt x="500" y="1625"/>
                    </a:lnTo>
                    <a:lnTo>
                      <a:pt x="770" y="1309"/>
                    </a:lnTo>
                    <a:lnTo>
                      <a:pt x="1000" y="1051"/>
                    </a:lnTo>
                    <a:lnTo>
                      <a:pt x="1074" y="920"/>
                    </a:lnTo>
                    <a:lnTo>
                      <a:pt x="1028" y="874"/>
                    </a:lnTo>
                    <a:lnTo>
                      <a:pt x="965" y="874"/>
                    </a:lnTo>
                    <a:lnTo>
                      <a:pt x="916" y="916"/>
                    </a:lnTo>
                    <a:lnTo>
                      <a:pt x="804" y="1045"/>
                    </a:lnTo>
                    <a:lnTo>
                      <a:pt x="682" y="1191"/>
                    </a:lnTo>
                    <a:lnTo>
                      <a:pt x="517" y="1391"/>
                    </a:lnTo>
                    <a:lnTo>
                      <a:pt x="675" y="1125"/>
                    </a:lnTo>
                    <a:lnTo>
                      <a:pt x="825" y="887"/>
                    </a:lnTo>
                    <a:lnTo>
                      <a:pt x="1074" y="471"/>
                    </a:lnTo>
                    <a:lnTo>
                      <a:pt x="1203" y="157"/>
                    </a:lnTo>
                    <a:lnTo>
                      <a:pt x="1178" y="115"/>
                    </a:lnTo>
                    <a:lnTo>
                      <a:pt x="1136" y="112"/>
                    </a:lnTo>
                    <a:lnTo>
                      <a:pt x="1102" y="153"/>
                    </a:lnTo>
                    <a:lnTo>
                      <a:pt x="1087" y="230"/>
                    </a:lnTo>
                    <a:lnTo>
                      <a:pt x="1021" y="395"/>
                    </a:lnTo>
                    <a:lnTo>
                      <a:pt x="912" y="633"/>
                    </a:lnTo>
                    <a:lnTo>
                      <a:pt x="749" y="912"/>
                    </a:lnTo>
                    <a:lnTo>
                      <a:pt x="574" y="1174"/>
                    </a:lnTo>
                    <a:lnTo>
                      <a:pt x="408" y="1412"/>
                    </a:lnTo>
                    <a:lnTo>
                      <a:pt x="249" y="1716"/>
                    </a:lnTo>
                    <a:lnTo>
                      <a:pt x="403" y="1345"/>
                    </a:lnTo>
                    <a:lnTo>
                      <a:pt x="591" y="988"/>
                    </a:lnTo>
                    <a:lnTo>
                      <a:pt x="766" y="646"/>
                    </a:lnTo>
                    <a:lnTo>
                      <a:pt x="878" y="370"/>
                    </a:lnTo>
                    <a:lnTo>
                      <a:pt x="958" y="133"/>
                    </a:lnTo>
                    <a:lnTo>
                      <a:pt x="975" y="7"/>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560600" y="3733920"/>
              <a:ext cx="1882800" cy="2189160"/>
              <a:chOff x="1560600" y="3733920"/>
              <a:chExt cx="1882800" cy="2189160"/>
            </a:xfrm>
          </p:grpSpPr>
          <p:sp>
            <p:nvSpPr>
              <p:cNvPr id="463" name=""/>
              <p:cNvSpPr/>
              <p:nvPr/>
            </p:nvSpPr>
            <p:spPr>
              <a:xfrm>
                <a:off x="1592280" y="4137480"/>
                <a:ext cx="1811160" cy="1725480"/>
              </a:xfrm>
              <a:custGeom>
                <a:avLst/>
                <a:gdLst/>
                <a:ahLst/>
                <a:rect l="l" t="t" r="r" b="b"/>
                <a:pathLst>
                  <a:path w="2281" h="2175">
                    <a:moveTo>
                      <a:pt x="2108" y="0"/>
                    </a:moveTo>
                    <a:lnTo>
                      <a:pt x="2013" y="356"/>
                    </a:lnTo>
                    <a:lnTo>
                      <a:pt x="1903" y="592"/>
                    </a:lnTo>
                    <a:lnTo>
                      <a:pt x="1738" y="890"/>
                    </a:lnTo>
                    <a:lnTo>
                      <a:pt x="1550" y="1198"/>
                    </a:lnTo>
                    <a:lnTo>
                      <a:pt x="1384" y="1498"/>
                    </a:lnTo>
                    <a:lnTo>
                      <a:pt x="1266" y="1757"/>
                    </a:lnTo>
                    <a:lnTo>
                      <a:pt x="1196" y="1962"/>
                    </a:lnTo>
                    <a:lnTo>
                      <a:pt x="715" y="1662"/>
                    </a:lnTo>
                    <a:lnTo>
                      <a:pt x="464" y="1536"/>
                    </a:lnTo>
                    <a:lnTo>
                      <a:pt x="164" y="1418"/>
                    </a:lnTo>
                    <a:lnTo>
                      <a:pt x="0" y="1386"/>
                    </a:lnTo>
                    <a:lnTo>
                      <a:pt x="652" y="1686"/>
                    </a:lnTo>
                    <a:lnTo>
                      <a:pt x="905" y="1867"/>
                    </a:lnTo>
                    <a:lnTo>
                      <a:pt x="1171" y="2065"/>
                    </a:lnTo>
                    <a:lnTo>
                      <a:pt x="1314" y="2175"/>
                    </a:lnTo>
                    <a:lnTo>
                      <a:pt x="1462" y="1757"/>
                    </a:lnTo>
                    <a:lnTo>
                      <a:pt x="1635" y="1466"/>
                    </a:lnTo>
                    <a:lnTo>
                      <a:pt x="1833" y="1166"/>
                    </a:lnTo>
                    <a:lnTo>
                      <a:pt x="2029" y="852"/>
                    </a:lnTo>
                    <a:lnTo>
                      <a:pt x="2194" y="489"/>
                    </a:lnTo>
                    <a:lnTo>
                      <a:pt x="2281" y="143"/>
                    </a:lnTo>
                    <a:lnTo>
                      <a:pt x="2108" y="0"/>
                    </a:lnTo>
                    <a:lnTo>
                      <a:pt x="2108" y="0"/>
                    </a:lnTo>
                    <a:close/>
                  </a:path>
                </a:pathLst>
              </a:custGeom>
              <a:solidFill>
                <a:srgbClr val="ff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560600" y="5104080"/>
                <a:ext cx="182520" cy="250920"/>
              </a:xfrm>
              <a:custGeom>
                <a:avLst/>
                <a:gdLst/>
                <a:ahLst/>
                <a:rect l="l" t="t" r="r" b="b"/>
                <a:pathLst>
                  <a:path w="230" h="315">
                    <a:moveTo>
                      <a:pt x="212" y="0"/>
                    </a:moveTo>
                    <a:lnTo>
                      <a:pt x="146" y="78"/>
                    </a:lnTo>
                    <a:lnTo>
                      <a:pt x="45" y="209"/>
                    </a:lnTo>
                    <a:lnTo>
                      <a:pt x="0" y="304"/>
                    </a:lnTo>
                    <a:lnTo>
                      <a:pt x="66" y="315"/>
                    </a:lnTo>
                    <a:lnTo>
                      <a:pt x="108" y="266"/>
                    </a:lnTo>
                    <a:lnTo>
                      <a:pt x="161" y="146"/>
                    </a:lnTo>
                    <a:lnTo>
                      <a:pt x="230" y="53"/>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216160" y="3795840"/>
                <a:ext cx="285840" cy="628920"/>
              </a:xfrm>
              <a:custGeom>
                <a:avLst/>
                <a:gdLst/>
                <a:ahLst/>
                <a:rect l="l" t="t" r="r" b="b"/>
                <a:pathLst>
                  <a:path w="362" h="792">
                    <a:moveTo>
                      <a:pt x="0" y="751"/>
                    </a:moveTo>
                    <a:lnTo>
                      <a:pt x="124" y="509"/>
                    </a:lnTo>
                    <a:lnTo>
                      <a:pt x="191" y="310"/>
                    </a:lnTo>
                    <a:lnTo>
                      <a:pt x="249" y="131"/>
                    </a:lnTo>
                    <a:lnTo>
                      <a:pt x="299" y="0"/>
                    </a:lnTo>
                    <a:lnTo>
                      <a:pt x="337" y="9"/>
                    </a:lnTo>
                    <a:lnTo>
                      <a:pt x="362" y="51"/>
                    </a:lnTo>
                    <a:lnTo>
                      <a:pt x="350" y="131"/>
                    </a:lnTo>
                    <a:lnTo>
                      <a:pt x="278" y="313"/>
                    </a:lnTo>
                    <a:lnTo>
                      <a:pt x="179" y="530"/>
                    </a:lnTo>
                    <a:lnTo>
                      <a:pt x="82" y="709"/>
                    </a:lnTo>
                    <a:lnTo>
                      <a:pt x="37" y="792"/>
                    </a:lnTo>
                    <a:lnTo>
                      <a:pt x="0" y="751"/>
                    </a:lnTo>
                    <a:lnTo>
                      <a:pt x="0" y="7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6440" y="3733920"/>
                <a:ext cx="966960" cy="412920"/>
              </a:xfrm>
              <a:custGeom>
                <a:avLst/>
                <a:gdLst/>
                <a:ahLst/>
                <a:rect l="l" t="t" r="r" b="b"/>
                <a:pathLst>
                  <a:path w="1219" h="521">
                    <a:moveTo>
                      <a:pt x="36" y="0"/>
                    </a:moveTo>
                    <a:lnTo>
                      <a:pt x="221" y="104"/>
                    </a:lnTo>
                    <a:lnTo>
                      <a:pt x="540" y="237"/>
                    </a:lnTo>
                    <a:lnTo>
                      <a:pt x="861" y="346"/>
                    </a:lnTo>
                    <a:lnTo>
                      <a:pt x="1133" y="433"/>
                    </a:lnTo>
                    <a:lnTo>
                      <a:pt x="1198" y="479"/>
                    </a:lnTo>
                    <a:lnTo>
                      <a:pt x="1219" y="521"/>
                    </a:lnTo>
                    <a:lnTo>
                      <a:pt x="1169" y="517"/>
                    </a:lnTo>
                    <a:lnTo>
                      <a:pt x="1036" y="486"/>
                    </a:lnTo>
                    <a:lnTo>
                      <a:pt x="557" y="321"/>
                    </a:lnTo>
                    <a:lnTo>
                      <a:pt x="266" y="203"/>
                    </a:lnTo>
                    <a:lnTo>
                      <a:pt x="54" y="84"/>
                    </a:lnTo>
                    <a:lnTo>
                      <a:pt x="0" y="25"/>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649520" y="5388120"/>
                <a:ext cx="922320" cy="534960"/>
              </a:xfrm>
              <a:custGeom>
                <a:avLst/>
                <a:gdLst/>
                <a:ahLst/>
                <a:rect l="l" t="t" r="r" b="b"/>
                <a:pathLst>
                  <a:path w="1161" h="675">
                    <a:moveTo>
                      <a:pt x="28" y="0"/>
                    </a:moveTo>
                    <a:lnTo>
                      <a:pt x="408" y="164"/>
                    </a:lnTo>
                    <a:lnTo>
                      <a:pt x="762" y="373"/>
                    </a:lnTo>
                    <a:lnTo>
                      <a:pt x="1003" y="559"/>
                    </a:lnTo>
                    <a:lnTo>
                      <a:pt x="1161" y="667"/>
                    </a:lnTo>
                    <a:lnTo>
                      <a:pt x="1146" y="675"/>
                    </a:lnTo>
                    <a:lnTo>
                      <a:pt x="1074" y="675"/>
                    </a:lnTo>
                    <a:lnTo>
                      <a:pt x="908" y="593"/>
                    </a:lnTo>
                    <a:lnTo>
                      <a:pt x="728" y="456"/>
                    </a:lnTo>
                    <a:lnTo>
                      <a:pt x="336" y="185"/>
                    </a:lnTo>
                    <a:lnTo>
                      <a:pt x="83" y="80"/>
                    </a:lnTo>
                    <a:lnTo>
                      <a:pt x="0" y="6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8" name=""/>
          <p:cNvGrpSpPr/>
          <p:nvPr/>
        </p:nvGrpSpPr>
        <p:grpSpPr>
          <a:xfrm>
            <a:off x="982800" y="2631960"/>
            <a:ext cx="2052000" cy="2286000"/>
            <a:chOff x="982800" y="2631960"/>
            <a:chExt cx="2052000" cy="2286000"/>
          </a:xfrm>
        </p:grpSpPr>
        <p:grpSp>
          <p:nvGrpSpPr>
            <p:cNvPr id="469" name=""/>
            <p:cNvGrpSpPr/>
            <p:nvPr/>
          </p:nvGrpSpPr>
          <p:grpSpPr>
            <a:xfrm>
              <a:off x="982800" y="2670120"/>
              <a:ext cx="2052000" cy="2247840"/>
              <a:chOff x="982800" y="2670120"/>
              <a:chExt cx="2052000" cy="2247840"/>
            </a:xfrm>
          </p:grpSpPr>
          <p:sp>
            <p:nvSpPr>
              <p:cNvPr id="470" name=""/>
              <p:cNvSpPr/>
              <p:nvPr/>
            </p:nvSpPr>
            <p:spPr>
              <a:xfrm>
                <a:off x="982800" y="2670120"/>
                <a:ext cx="2016000" cy="2247840"/>
              </a:xfrm>
              <a:custGeom>
                <a:avLst/>
                <a:gdLst/>
                <a:ahLst/>
                <a:rect l="l" t="t" r="r" b="b"/>
                <a:pathLst>
                  <a:path w="2541" h="2832">
                    <a:moveTo>
                      <a:pt x="1110" y="62"/>
                    </a:moveTo>
                    <a:lnTo>
                      <a:pt x="960" y="606"/>
                    </a:lnTo>
                    <a:lnTo>
                      <a:pt x="834" y="912"/>
                    </a:lnTo>
                    <a:lnTo>
                      <a:pt x="661" y="1220"/>
                    </a:lnTo>
                    <a:lnTo>
                      <a:pt x="426" y="1543"/>
                    </a:lnTo>
                    <a:lnTo>
                      <a:pt x="150" y="1842"/>
                    </a:lnTo>
                    <a:lnTo>
                      <a:pt x="0" y="2062"/>
                    </a:lnTo>
                    <a:lnTo>
                      <a:pt x="606" y="2362"/>
                    </a:lnTo>
                    <a:lnTo>
                      <a:pt x="912" y="2591"/>
                    </a:lnTo>
                    <a:lnTo>
                      <a:pt x="1188" y="2786"/>
                    </a:lnTo>
                    <a:lnTo>
                      <a:pt x="1346" y="2832"/>
                    </a:lnTo>
                    <a:lnTo>
                      <a:pt x="1581" y="2425"/>
                    </a:lnTo>
                    <a:lnTo>
                      <a:pt x="1817" y="2079"/>
                    </a:lnTo>
                    <a:lnTo>
                      <a:pt x="2108" y="1747"/>
                    </a:lnTo>
                    <a:lnTo>
                      <a:pt x="2321" y="1456"/>
                    </a:lnTo>
                    <a:lnTo>
                      <a:pt x="2454" y="1173"/>
                    </a:lnTo>
                    <a:lnTo>
                      <a:pt x="2406" y="1102"/>
                    </a:lnTo>
                    <a:lnTo>
                      <a:pt x="2541" y="676"/>
                    </a:lnTo>
                    <a:lnTo>
                      <a:pt x="2446" y="581"/>
                    </a:lnTo>
                    <a:lnTo>
                      <a:pt x="2399" y="424"/>
                    </a:lnTo>
                    <a:lnTo>
                      <a:pt x="2030" y="361"/>
                    </a:lnTo>
                    <a:lnTo>
                      <a:pt x="1692" y="243"/>
                    </a:lnTo>
                    <a:lnTo>
                      <a:pt x="1275" y="62"/>
                    </a:lnTo>
                    <a:lnTo>
                      <a:pt x="1140" y="0"/>
                    </a:lnTo>
                    <a:lnTo>
                      <a:pt x="1110" y="62"/>
                    </a:lnTo>
                    <a:lnTo>
                      <a:pt x="1110" y="62"/>
                    </a:lnTo>
                    <a:close/>
                  </a:path>
                </a:pathLst>
              </a:custGeom>
              <a:solidFill>
                <a:srgbClr val="fff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839600" y="3079800"/>
                <a:ext cx="634680" cy="907920"/>
              </a:xfrm>
              <a:custGeom>
                <a:avLst/>
                <a:gdLst/>
                <a:ahLst/>
                <a:rect l="l" t="t" r="r" b="b"/>
                <a:pathLst>
                  <a:path w="800" h="1142">
                    <a:moveTo>
                      <a:pt x="159" y="76"/>
                    </a:moveTo>
                    <a:lnTo>
                      <a:pt x="357" y="0"/>
                    </a:lnTo>
                    <a:lnTo>
                      <a:pt x="509" y="0"/>
                    </a:lnTo>
                    <a:lnTo>
                      <a:pt x="661" y="53"/>
                    </a:lnTo>
                    <a:lnTo>
                      <a:pt x="760" y="152"/>
                    </a:lnTo>
                    <a:lnTo>
                      <a:pt x="800" y="289"/>
                    </a:lnTo>
                    <a:lnTo>
                      <a:pt x="739" y="448"/>
                    </a:lnTo>
                    <a:lnTo>
                      <a:pt x="625" y="570"/>
                    </a:lnTo>
                    <a:lnTo>
                      <a:pt x="471" y="669"/>
                    </a:lnTo>
                    <a:lnTo>
                      <a:pt x="319" y="754"/>
                    </a:lnTo>
                    <a:lnTo>
                      <a:pt x="182" y="853"/>
                    </a:lnTo>
                    <a:lnTo>
                      <a:pt x="76" y="990"/>
                    </a:lnTo>
                    <a:lnTo>
                      <a:pt x="7" y="1142"/>
                    </a:lnTo>
                    <a:lnTo>
                      <a:pt x="0" y="929"/>
                    </a:lnTo>
                    <a:lnTo>
                      <a:pt x="30" y="838"/>
                    </a:lnTo>
                    <a:lnTo>
                      <a:pt x="114" y="724"/>
                    </a:lnTo>
                    <a:lnTo>
                      <a:pt x="205" y="640"/>
                    </a:lnTo>
                    <a:lnTo>
                      <a:pt x="327" y="564"/>
                    </a:lnTo>
                    <a:lnTo>
                      <a:pt x="448" y="464"/>
                    </a:lnTo>
                    <a:lnTo>
                      <a:pt x="494" y="357"/>
                    </a:lnTo>
                    <a:lnTo>
                      <a:pt x="456" y="273"/>
                    </a:lnTo>
                    <a:lnTo>
                      <a:pt x="387" y="273"/>
                    </a:lnTo>
                    <a:lnTo>
                      <a:pt x="288" y="327"/>
                    </a:lnTo>
                    <a:lnTo>
                      <a:pt x="228" y="380"/>
                    </a:lnTo>
                    <a:lnTo>
                      <a:pt x="152" y="418"/>
                    </a:lnTo>
                    <a:lnTo>
                      <a:pt x="91" y="418"/>
                    </a:lnTo>
                    <a:lnTo>
                      <a:pt x="38" y="388"/>
                    </a:lnTo>
                    <a:lnTo>
                      <a:pt x="15" y="296"/>
                    </a:lnTo>
                    <a:lnTo>
                      <a:pt x="91" y="243"/>
                    </a:lnTo>
                    <a:lnTo>
                      <a:pt x="83" y="129"/>
                    </a:lnTo>
                    <a:lnTo>
                      <a:pt x="159" y="76"/>
                    </a:lnTo>
                    <a:lnTo>
                      <a:pt x="159"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628640" y="4041720"/>
                <a:ext cx="337680" cy="309600"/>
              </a:xfrm>
              <a:custGeom>
                <a:avLst/>
                <a:gdLst/>
                <a:ahLst/>
                <a:rect l="l" t="t" r="r" b="b"/>
                <a:pathLst>
                  <a:path w="426" h="389">
                    <a:moveTo>
                      <a:pt x="251" y="0"/>
                    </a:moveTo>
                    <a:lnTo>
                      <a:pt x="84" y="60"/>
                    </a:lnTo>
                    <a:lnTo>
                      <a:pt x="31" y="138"/>
                    </a:lnTo>
                    <a:lnTo>
                      <a:pt x="0" y="237"/>
                    </a:lnTo>
                    <a:lnTo>
                      <a:pt x="31" y="328"/>
                    </a:lnTo>
                    <a:lnTo>
                      <a:pt x="107" y="389"/>
                    </a:lnTo>
                    <a:lnTo>
                      <a:pt x="229" y="389"/>
                    </a:lnTo>
                    <a:lnTo>
                      <a:pt x="289" y="366"/>
                    </a:lnTo>
                    <a:lnTo>
                      <a:pt x="335" y="306"/>
                    </a:lnTo>
                    <a:lnTo>
                      <a:pt x="343" y="230"/>
                    </a:lnTo>
                    <a:lnTo>
                      <a:pt x="312" y="144"/>
                    </a:lnTo>
                    <a:lnTo>
                      <a:pt x="373" y="174"/>
                    </a:lnTo>
                    <a:lnTo>
                      <a:pt x="396" y="252"/>
                    </a:lnTo>
                    <a:lnTo>
                      <a:pt x="426" y="169"/>
                    </a:lnTo>
                    <a:lnTo>
                      <a:pt x="396" y="91"/>
                    </a:lnTo>
                    <a:lnTo>
                      <a:pt x="343" y="38"/>
                    </a:lnTo>
                    <a:lnTo>
                      <a:pt x="251" y="0"/>
                    </a:lnTo>
                    <a:lnTo>
                      <a:pt x="2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079360" y="3175200"/>
                <a:ext cx="955440" cy="1742760"/>
              </a:xfrm>
              <a:custGeom>
                <a:avLst/>
                <a:gdLst/>
                <a:ahLst/>
                <a:rect l="l" t="t" r="r" b="b"/>
                <a:pathLst>
                  <a:path w="1203" h="2195">
                    <a:moveTo>
                      <a:pt x="916" y="0"/>
                    </a:moveTo>
                    <a:lnTo>
                      <a:pt x="846" y="304"/>
                    </a:lnTo>
                    <a:lnTo>
                      <a:pt x="754" y="555"/>
                    </a:lnTo>
                    <a:lnTo>
                      <a:pt x="640" y="800"/>
                    </a:lnTo>
                    <a:lnTo>
                      <a:pt x="471" y="1121"/>
                    </a:lnTo>
                    <a:lnTo>
                      <a:pt x="317" y="1383"/>
                    </a:lnTo>
                    <a:lnTo>
                      <a:pt x="182" y="1617"/>
                    </a:lnTo>
                    <a:lnTo>
                      <a:pt x="63" y="1917"/>
                    </a:lnTo>
                    <a:lnTo>
                      <a:pt x="11" y="2051"/>
                    </a:lnTo>
                    <a:lnTo>
                      <a:pt x="0" y="2163"/>
                    </a:lnTo>
                    <a:lnTo>
                      <a:pt x="32" y="2195"/>
                    </a:lnTo>
                    <a:lnTo>
                      <a:pt x="74" y="2170"/>
                    </a:lnTo>
                    <a:lnTo>
                      <a:pt x="150" y="1963"/>
                    </a:lnTo>
                    <a:lnTo>
                      <a:pt x="140" y="2125"/>
                    </a:lnTo>
                    <a:lnTo>
                      <a:pt x="308" y="1887"/>
                    </a:lnTo>
                    <a:lnTo>
                      <a:pt x="500" y="1625"/>
                    </a:lnTo>
                    <a:lnTo>
                      <a:pt x="770" y="1309"/>
                    </a:lnTo>
                    <a:lnTo>
                      <a:pt x="1000" y="1051"/>
                    </a:lnTo>
                    <a:lnTo>
                      <a:pt x="1074" y="920"/>
                    </a:lnTo>
                    <a:lnTo>
                      <a:pt x="1028" y="874"/>
                    </a:lnTo>
                    <a:lnTo>
                      <a:pt x="965" y="874"/>
                    </a:lnTo>
                    <a:lnTo>
                      <a:pt x="916" y="916"/>
                    </a:lnTo>
                    <a:lnTo>
                      <a:pt x="804" y="1045"/>
                    </a:lnTo>
                    <a:lnTo>
                      <a:pt x="682" y="1191"/>
                    </a:lnTo>
                    <a:lnTo>
                      <a:pt x="517" y="1391"/>
                    </a:lnTo>
                    <a:lnTo>
                      <a:pt x="675" y="1125"/>
                    </a:lnTo>
                    <a:lnTo>
                      <a:pt x="825" y="887"/>
                    </a:lnTo>
                    <a:lnTo>
                      <a:pt x="1074" y="471"/>
                    </a:lnTo>
                    <a:lnTo>
                      <a:pt x="1203" y="157"/>
                    </a:lnTo>
                    <a:lnTo>
                      <a:pt x="1178" y="115"/>
                    </a:lnTo>
                    <a:lnTo>
                      <a:pt x="1136" y="112"/>
                    </a:lnTo>
                    <a:lnTo>
                      <a:pt x="1102" y="153"/>
                    </a:lnTo>
                    <a:lnTo>
                      <a:pt x="1087" y="230"/>
                    </a:lnTo>
                    <a:lnTo>
                      <a:pt x="1021" y="395"/>
                    </a:lnTo>
                    <a:lnTo>
                      <a:pt x="912" y="633"/>
                    </a:lnTo>
                    <a:lnTo>
                      <a:pt x="749" y="912"/>
                    </a:lnTo>
                    <a:lnTo>
                      <a:pt x="574" y="1174"/>
                    </a:lnTo>
                    <a:lnTo>
                      <a:pt x="408" y="1412"/>
                    </a:lnTo>
                    <a:lnTo>
                      <a:pt x="249" y="1716"/>
                    </a:lnTo>
                    <a:lnTo>
                      <a:pt x="403" y="1345"/>
                    </a:lnTo>
                    <a:lnTo>
                      <a:pt x="591" y="988"/>
                    </a:lnTo>
                    <a:lnTo>
                      <a:pt x="766" y="646"/>
                    </a:lnTo>
                    <a:lnTo>
                      <a:pt x="878" y="370"/>
                    </a:lnTo>
                    <a:lnTo>
                      <a:pt x="958" y="133"/>
                    </a:lnTo>
                    <a:lnTo>
                      <a:pt x="975" y="7"/>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1019160" y="2631960"/>
              <a:ext cx="1882080" cy="2189160"/>
              <a:chOff x="1019160" y="2631960"/>
              <a:chExt cx="1882080" cy="2189160"/>
            </a:xfrm>
          </p:grpSpPr>
          <p:sp>
            <p:nvSpPr>
              <p:cNvPr id="475" name=""/>
              <p:cNvSpPr/>
              <p:nvPr/>
            </p:nvSpPr>
            <p:spPr>
              <a:xfrm>
                <a:off x="1050480" y="3035520"/>
                <a:ext cx="1810800" cy="1725480"/>
              </a:xfrm>
              <a:custGeom>
                <a:avLst/>
                <a:gdLst/>
                <a:ahLst/>
                <a:rect l="l" t="t" r="r" b="b"/>
                <a:pathLst>
                  <a:path w="2281" h="2175">
                    <a:moveTo>
                      <a:pt x="2108" y="0"/>
                    </a:moveTo>
                    <a:lnTo>
                      <a:pt x="2013" y="356"/>
                    </a:lnTo>
                    <a:lnTo>
                      <a:pt x="1903" y="592"/>
                    </a:lnTo>
                    <a:lnTo>
                      <a:pt x="1738" y="890"/>
                    </a:lnTo>
                    <a:lnTo>
                      <a:pt x="1550" y="1198"/>
                    </a:lnTo>
                    <a:lnTo>
                      <a:pt x="1384" y="1498"/>
                    </a:lnTo>
                    <a:lnTo>
                      <a:pt x="1266" y="1757"/>
                    </a:lnTo>
                    <a:lnTo>
                      <a:pt x="1196" y="1962"/>
                    </a:lnTo>
                    <a:lnTo>
                      <a:pt x="715" y="1662"/>
                    </a:lnTo>
                    <a:lnTo>
                      <a:pt x="464" y="1536"/>
                    </a:lnTo>
                    <a:lnTo>
                      <a:pt x="164" y="1418"/>
                    </a:lnTo>
                    <a:lnTo>
                      <a:pt x="0" y="1386"/>
                    </a:lnTo>
                    <a:lnTo>
                      <a:pt x="652" y="1686"/>
                    </a:lnTo>
                    <a:lnTo>
                      <a:pt x="905" y="1867"/>
                    </a:lnTo>
                    <a:lnTo>
                      <a:pt x="1171" y="2065"/>
                    </a:lnTo>
                    <a:lnTo>
                      <a:pt x="1314" y="2175"/>
                    </a:lnTo>
                    <a:lnTo>
                      <a:pt x="1462" y="1757"/>
                    </a:lnTo>
                    <a:lnTo>
                      <a:pt x="1635" y="1466"/>
                    </a:lnTo>
                    <a:lnTo>
                      <a:pt x="1833" y="1166"/>
                    </a:lnTo>
                    <a:lnTo>
                      <a:pt x="2029" y="852"/>
                    </a:lnTo>
                    <a:lnTo>
                      <a:pt x="2194" y="489"/>
                    </a:lnTo>
                    <a:lnTo>
                      <a:pt x="2281" y="143"/>
                    </a:lnTo>
                    <a:lnTo>
                      <a:pt x="2108" y="0"/>
                    </a:lnTo>
                    <a:lnTo>
                      <a:pt x="2108" y="0"/>
                    </a:lnTo>
                    <a:close/>
                  </a:path>
                </a:pathLst>
              </a:custGeom>
              <a:solidFill>
                <a:srgbClr val="ff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019160" y="4002120"/>
                <a:ext cx="182160" cy="250920"/>
              </a:xfrm>
              <a:custGeom>
                <a:avLst/>
                <a:gdLst/>
                <a:ahLst/>
                <a:rect l="l" t="t" r="r" b="b"/>
                <a:pathLst>
                  <a:path w="230" h="315">
                    <a:moveTo>
                      <a:pt x="212" y="0"/>
                    </a:moveTo>
                    <a:lnTo>
                      <a:pt x="146" y="78"/>
                    </a:lnTo>
                    <a:lnTo>
                      <a:pt x="45" y="209"/>
                    </a:lnTo>
                    <a:lnTo>
                      <a:pt x="0" y="304"/>
                    </a:lnTo>
                    <a:lnTo>
                      <a:pt x="66" y="315"/>
                    </a:lnTo>
                    <a:lnTo>
                      <a:pt x="108" y="266"/>
                    </a:lnTo>
                    <a:lnTo>
                      <a:pt x="161" y="146"/>
                    </a:lnTo>
                    <a:lnTo>
                      <a:pt x="230" y="53"/>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674360" y="2693880"/>
                <a:ext cx="285480" cy="628920"/>
              </a:xfrm>
              <a:custGeom>
                <a:avLst/>
                <a:gdLst/>
                <a:ahLst/>
                <a:rect l="l" t="t" r="r" b="b"/>
                <a:pathLst>
                  <a:path w="362" h="792">
                    <a:moveTo>
                      <a:pt x="0" y="751"/>
                    </a:moveTo>
                    <a:lnTo>
                      <a:pt x="124" y="509"/>
                    </a:lnTo>
                    <a:lnTo>
                      <a:pt x="191" y="310"/>
                    </a:lnTo>
                    <a:lnTo>
                      <a:pt x="249" y="131"/>
                    </a:lnTo>
                    <a:lnTo>
                      <a:pt x="299" y="0"/>
                    </a:lnTo>
                    <a:lnTo>
                      <a:pt x="337" y="9"/>
                    </a:lnTo>
                    <a:lnTo>
                      <a:pt x="362" y="51"/>
                    </a:lnTo>
                    <a:lnTo>
                      <a:pt x="350" y="131"/>
                    </a:lnTo>
                    <a:lnTo>
                      <a:pt x="278" y="313"/>
                    </a:lnTo>
                    <a:lnTo>
                      <a:pt x="179" y="530"/>
                    </a:lnTo>
                    <a:lnTo>
                      <a:pt x="82" y="709"/>
                    </a:lnTo>
                    <a:lnTo>
                      <a:pt x="37" y="792"/>
                    </a:lnTo>
                    <a:lnTo>
                      <a:pt x="0" y="751"/>
                    </a:lnTo>
                    <a:lnTo>
                      <a:pt x="0" y="7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934640" y="2631960"/>
                <a:ext cx="966600" cy="412920"/>
              </a:xfrm>
              <a:custGeom>
                <a:avLst/>
                <a:gdLst/>
                <a:ahLst/>
                <a:rect l="l" t="t" r="r" b="b"/>
                <a:pathLst>
                  <a:path w="1219" h="521">
                    <a:moveTo>
                      <a:pt x="36" y="0"/>
                    </a:moveTo>
                    <a:lnTo>
                      <a:pt x="221" y="104"/>
                    </a:lnTo>
                    <a:lnTo>
                      <a:pt x="540" y="237"/>
                    </a:lnTo>
                    <a:lnTo>
                      <a:pt x="861" y="346"/>
                    </a:lnTo>
                    <a:lnTo>
                      <a:pt x="1133" y="433"/>
                    </a:lnTo>
                    <a:lnTo>
                      <a:pt x="1198" y="479"/>
                    </a:lnTo>
                    <a:lnTo>
                      <a:pt x="1219" y="521"/>
                    </a:lnTo>
                    <a:lnTo>
                      <a:pt x="1169" y="517"/>
                    </a:lnTo>
                    <a:lnTo>
                      <a:pt x="1036" y="486"/>
                    </a:lnTo>
                    <a:lnTo>
                      <a:pt x="557" y="321"/>
                    </a:lnTo>
                    <a:lnTo>
                      <a:pt x="266" y="203"/>
                    </a:lnTo>
                    <a:lnTo>
                      <a:pt x="54" y="84"/>
                    </a:lnTo>
                    <a:lnTo>
                      <a:pt x="0" y="25"/>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107720" y="4286160"/>
                <a:ext cx="921960" cy="534960"/>
              </a:xfrm>
              <a:custGeom>
                <a:avLst/>
                <a:gdLst/>
                <a:ahLst/>
                <a:rect l="l" t="t" r="r" b="b"/>
                <a:pathLst>
                  <a:path w="1161" h="675">
                    <a:moveTo>
                      <a:pt x="28" y="0"/>
                    </a:moveTo>
                    <a:lnTo>
                      <a:pt x="408" y="164"/>
                    </a:lnTo>
                    <a:lnTo>
                      <a:pt x="762" y="373"/>
                    </a:lnTo>
                    <a:lnTo>
                      <a:pt x="1003" y="559"/>
                    </a:lnTo>
                    <a:lnTo>
                      <a:pt x="1161" y="667"/>
                    </a:lnTo>
                    <a:lnTo>
                      <a:pt x="1146" y="675"/>
                    </a:lnTo>
                    <a:lnTo>
                      <a:pt x="1074" y="675"/>
                    </a:lnTo>
                    <a:lnTo>
                      <a:pt x="908" y="593"/>
                    </a:lnTo>
                    <a:lnTo>
                      <a:pt x="728" y="456"/>
                    </a:lnTo>
                    <a:lnTo>
                      <a:pt x="336" y="185"/>
                    </a:lnTo>
                    <a:lnTo>
                      <a:pt x="83" y="80"/>
                    </a:lnTo>
                    <a:lnTo>
                      <a:pt x="0" y="6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609480" y="1270080"/>
            <a:ext cx="1211400" cy="2636280"/>
            <a:chOff x="609480" y="1270080"/>
            <a:chExt cx="1211400" cy="2636280"/>
          </a:xfrm>
        </p:grpSpPr>
        <p:sp>
          <p:nvSpPr>
            <p:cNvPr id="481" name=""/>
            <p:cNvSpPr/>
            <p:nvPr/>
          </p:nvSpPr>
          <p:spPr>
            <a:xfrm>
              <a:off x="1087560" y="2901600"/>
              <a:ext cx="649080" cy="1004760"/>
            </a:xfrm>
            <a:custGeom>
              <a:avLst/>
              <a:gdLst/>
              <a:ahLst/>
              <a:rect l="l" t="t" r="r" b="b"/>
              <a:pathLst>
                <a:path w="817" h="1268">
                  <a:moveTo>
                    <a:pt x="7" y="371"/>
                  </a:moveTo>
                  <a:lnTo>
                    <a:pt x="0" y="521"/>
                  </a:lnTo>
                  <a:lnTo>
                    <a:pt x="15" y="741"/>
                  </a:lnTo>
                  <a:lnTo>
                    <a:pt x="62" y="947"/>
                  </a:lnTo>
                  <a:lnTo>
                    <a:pt x="140" y="1110"/>
                  </a:lnTo>
                  <a:lnTo>
                    <a:pt x="275" y="1268"/>
                  </a:lnTo>
                  <a:lnTo>
                    <a:pt x="574" y="709"/>
                  </a:lnTo>
                  <a:lnTo>
                    <a:pt x="518" y="536"/>
                  </a:lnTo>
                  <a:lnTo>
                    <a:pt x="480" y="378"/>
                  </a:lnTo>
                  <a:lnTo>
                    <a:pt x="691" y="608"/>
                  </a:lnTo>
                  <a:lnTo>
                    <a:pt x="817" y="371"/>
                  </a:lnTo>
                  <a:lnTo>
                    <a:pt x="684" y="300"/>
                  </a:lnTo>
                  <a:lnTo>
                    <a:pt x="604" y="205"/>
                  </a:lnTo>
                  <a:lnTo>
                    <a:pt x="543" y="95"/>
                  </a:lnTo>
                  <a:lnTo>
                    <a:pt x="408" y="0"/>
                  </a:lnTo>
                  <a:lnTo>
                    <a:pt x="258" y="17"/>
                  </a:lnTo>
                  <a:lnTo>
                    <a:pt x="7" y="371"/>
                  </a:lnTo>
                  <a:lnTo>
                    <a:pt x="7" y="3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01720" y="1270080"/>
              <a:ext cx="985680" cy="893520"/>
            </a:xfrm>
            <a:custGeom>
              <a:avLst/>
              <a:gdLst/>
              <a:ahLst/>
              <a:rect l="l" t="t" r="r" b="b"/>
              <a:pathLst>
                <a:path w="1244" h="1126">
                  <a:moveTo>
                    <a:pt x="0" y="882"/>
                  </a:moveTo>
                  <a:lnTo>
                    <a:pt x="54" y="669"/>
                  </a:lnTo>
                  <a:lnTo>
                    <a:pt x="189" y="472"/>
                  </a:lnTo>
                  <a:lnTo>
                    <a:pt x="346" y="331"/>
                  </a:lnTo>
                  <a:lnTo>
                    <a:pt x="550" y="198"/>
                  </a:lnTo>
                  <a:lnTo>
                    <a:pt x="755" y="126"/>
                  </a:lnTo>
                  <a:lnTo>
                    <a:pt x="928" y="118"/>
                  </a:lnTo>
                  <a:lnTo>
                    <a:pt x="1069" y="158"/>
                  </a:lnTo>
                  <a:lnTo>
                    <a:pt x="1164" y="78"/>
                  </a:lnTo>
                  <a:lnTo>
                    <a:pt x="1244" y="0"/>
                  </a:lnTo>
                  <a:lnTo>
                    <a:pt x="1211" y="158"/>
                  </a:lnTo>
                  <a:lnTo>
                    <a:pt x="1133" y="276"/>
                  </a:lnTo>
                  <a:lnTo>
                    <a:pt x="1078" y="356"/>
                  </a:lnTo>
                  <a:lnTo>
                    <a:pt x="1148" y="449"/>
                  </a:lnTo>
                  <a:lnTo>
                    <a:pt x="1078" y="551"/>
                  </a:lnTo>
                  <a:lnTo>
                    <a:pt x="1006" y="677"/>
                  </a:lnTo>
                  <a:lnTo>
                    <a:pt x="966" y="882"/>
                  </a:lnTo>
                  <a:lnTo>
                    <a:pt x="905" y="1126"/>
                  </a:lnTo>
                  <a:lnTo>
                    <a:pt x="605" y="709"/>
                  </a:lnTo>
                  <a:lnTo>
                    <a:pt x="306" y="614"/>
                  </a:lnTo>
                  <a:lnTo>
                    <a:pt x="78" y="685"/>
                  </a:lnTo>
                  <a:lnTo>
                    <a:pt x="0" y="882"/>
                  </a:lnTo>
                  <a:lnTo>
                    <a:pt x="0" y="882"/>
                  </a:lnTo>
                  <a:close/>
                </a:path>
              </a:pathLst>
            </a:custGeom>
            <a:solidFill>
              <a:srgbClr val="dda5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31800" y="1682280"/>
              <a:ext cx="973080" cy="1638000"/>
            </a:xfrm>
            <a:custGeom>
              <a:avLst/>
              <a:gdLst/>
              <a:ahLst/>
              <a:rect l="l" t="t" r="r" b="b"/>
              <a:pathLst>
                <a:path w="1226" h="2064">
                  <a:moveTo>
                    <a:pt x="534" y="32"/>
                  </a:moveTo>
                  <a:lnTo>
                    <a:pt x="368" y="221"/>
                  </a:lnTo>
                  <a:lnTo>
                    <a:pt x="228" y="489"/>
                  </a:lnTo>
                  <a:lnTo>
                    <a:pt x="180" y="774"/>
                  </a:lnTo>
                  <a:lnTo>
                    <a:pt x="85" y="882"/>
                  </a:lnTo>
                  <a:lnTo>
                    <a:pt x="7" y="985"/>
                  </a:lnTo>
                  <a:lnTo>
                    <a:pt x="0" y="1230"/>
                  </a:lnTo>
                  <a:lnTo>
                    <a:pt x="70" y="1426"/>
                  </a:lnTo>
                  <a:lnTo>
                    <a:pt x="228" y="1513"/>
                  </a:lnTo>
                  <a:lnTo>
                    <a:pt x="368" y="1639"/>
                  </a:lnTo>
                  <a:lnTo>
                    <a:pt x="440" y="1796"/>
                  </a:lnTo>
                  <a:lnTo>
                    <a:pt x="589" y="1977"/>
                  </a:lnTo>
                  <a:lnTo>
                    <a:pt x="794" y="2064"/>
                  </a:lnTo>
                  <a:lnTo>
                    <a:pt x="959" y="2017"/>
                  </a:lnTo>
                  <a:lnTo>
                    <a:pt x="1022" y="1852"/>
                  </a:lnTo>
                  <a:lnTo>
                    <a:pt x="1045" y="1506"/>
                  </a:lnTo>
                  <a:lnTo>
                    <a:pt x="1077" y="1167"/>
                  </a:lnTo>
                  <a:lnTo>
                    <a:pt x="1163" y="852"/>
                  </a:lnTo>
                  <a:lnTo>
                    <a:pt x="1226" y="506"/>
                  </a:lnTo>
                  <a:lnTo>
                    <a:pt x="1148" y="198"/>
                  </a:lnTo>
                  <a:lnTo>
                    <a:pt x="747" y="0"/>
                  </a:lnTo>
                  <a:lnTo>
                    <a:pt x="534" y="32"/>
                  </a:lnTo>
                  <a:lnTo>
                    <a:pt x="534" y="32"/>
                  </a:lnTo>
                  <a:close/>
                </a:path>
              </a:pathLst>
            </a:custGeom>
            <a:solidFill>
              <a:srgbClr val="ffd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63640" y="1776240"/>
              <a:ext cx="517320" cy="1374120"/>
            </a:xfrm>
            <a:custGeom>
              <a:avLst/>
              <a:gdLst/>
              <a:ahLst/>
              <a:rect l="l" t="t" r="r" b="b"/>
              <a:pathLst>
                <a:path w="652" h="1732">
                  <a:moveTo>
                    <a:pt x="173" y="133"/>
                  </a:moveTo>
                  <a:lnTo>
                    <a:pt x="86" y="306"/>
                  </a:lnTo>
                  <a:lnTo>
                    <a:pt x="31" y="519"/>
                  </a:lnTo>
                  <a:lnTo>
                    <a:pt x="0" y="747"/>
                  </a:lnTo>
                  <a:lnTo>
                    <a:pt x="31" y="1000"/>
                  </a:lnTo>
                  <a:lnTo>
                    <a:pt x="86" y="1228"/>
                  </a:lnTo>
                  <a:lnTo>
                    <a:pt x="189" y="1464"/>
                  </a:lnTo>
                  <a:lnTo>
                    <a:pt x="316" y="1629"/>
                  </a:lnTo>
                  <a:lnTo>
                    <a:pt x="432" y="1724"/>
                  </a:lnTo>
                  <a:lnTo>
                    <a:pt x="527" y="1732"/>
                  </a:lnTo>
                  <a:lnTo>
                    <a:pt x="590" y="1684"/>
                  </a:lnTo>
                  <a:lnTo>
                    <a:pt x="622" y="1574"/>
                  </a:lnTo>
                  <a:lnTo>
                    <a:pt x="629" y="1511"/>
                  </a:lnTo>
                  <a:lnTo>
                    <a:pt x="645" y="1370"/>
                  </a:lnTo>
                  <a:lnTo>
                    <a:pt x="652" y="1203"/>
                  </a:lnTo>
                  <a:lnTo>
                    <a:pt x="652" y="985"/>
                  </a:lnTo>
                  <a:lnTo>
                    <a:pt x="432" y="927"/>
                  </a:lnTo>
                  <a:lnTo>
                    <a:pt x="582" y="827"/>
                  </a:lnTo>
                  <a:lnTo>
                    <a:pt x="582" y="747"/>
                  </a:lnTo>
                  <a:lnTo>
                    <a:pt x="504" y="677"/>
                  </a:lnTo>
                  <a:lnTo>
                    <a:pt x="457" y="566"/>
                  </a:lnTo>
                  <a:lnTo>
                    <a:pt x="464" y="393"/>
                  </a:lnTo>
                  <a:lnTo>
                    <a:pt x="582" y="291"/>
                  </a:lnTo>
                  <a:lnTo>
                    <a:pt x="582" y="110"/>
                  </a:lnTo>
                  <a:lnTo>
                    <a:pt x="512" y="30"/>
                  </a:lnTo>
                  <a:lnTo>
                    <a:pt x="386" y="0"/>
                  </a:lnTo>
                  <a:lnTo>
                    <a:pt x="268" y="30"/>
                  </a:lnTo>
                  <a:lnTo>
                    <a:pt x="173" y="133"/>
                  </a:lnTo>
                  <a:lnTo>
                    <a:pt x="173" y="133"/>
                  </a:lnTo>
                  <a:close/>
                </a:path>
              </a:pathLst>
            </a:custGeom>
            <a:solidFill>
              <a:srgbClr val="ffe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88920" y="1311120"/>
              <a:ext cx="587520" cy="475920"/>
            </a:xfrm>
            <a:custGeom>
              <a:avLst/>
              <a:gdLst/>
              <a:ahLst/>
              <a:rect l="l" t="t" r="r" b="b"/>
              <a:pathLst>
                <a:path w="741" h="600">
                  <a:moveTo>
                    <a:pt x="0" y="465"/>
                  </a:moveTo>
                  <a:lnTo>
                    <a:pt x="266" y="199"/>
                  </a:lnTo>
                  <a:lnTo>
                    <a:pt x="492" y="66"/>
                  </a:lnTo>
                  <a:lnTo>
                    <a:pt x="633" y="0"/>
                  </a:lnTo>
                  <a:lnTo>
                    <a:pt x="741" y="7"/>
                  </a:lnTo>
                  <a:lnTo>
                    <a:pt x="608" y="91"/>
                  </a:lnTo>
                  <a:lnTo>
                    <a:pt x="392" y="258"/>
                  </a:lnTo>
                  <a:lnTo>
                    <a:pt x="167" y="458"/>
                  </a:lnTo>
                  <a:lnTo>
                    <a:pt x="50" y="600"/>
                  </a:lnTo>
                  <a:lnTo>
                    <a:pt x="17" y="566"/>
                  </a:lnTo>
                  <a:lnTo>
                    <a:pt x="0" y="465"/>
                  </a:lnTo>
                  <a:lnTo>
                    <a:pt x="0"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227240" y="1284120"/>
              <a:ext cx="574560" cy="435960"/>
            </a:xfrm>
            <a:custGeom>
              <a:avLst/>
              <a:gdLst/>
              <a:ahLst/>
              <a:rect l="l" t="t" r="r" b="b"/>
              <a:pathLst>
                <a:path w="725" h="552">
                  <a:moveTo>
                    <a:pt x="0" y="476"/>
                  </a:moveTo>
                  <a:lnTo>
                    <a:pt x="50" y="534"/>
                  </a:lnTo>
                  <a:lnTo>
                    <a:pt x="99" y="485"/>
                  </a:lnTo>
                  <a:lnTo>
                    <a:pt x="217" y="552"/>
                  </a:lnTo>
                  <a:lnTo>
                    <a:pt x="459" y="276"/>
                  </a:lnTo>
                  <a:lnTo>
                    <a:pt x="516" y="285"/>
                  </a:lnTo>
                  <a:lnTo>
                    <a:pt x="683" y="93"/>
                  </a:lnTo>
                  <a:lnTo>
                    <a:pt x="725" y="0"/>
                  </a:lnTo>
                  <a:lnTo>
                    <a:pt x="666" y="17"/>
                  </a:lnTo>
                  <a:lnTo>
                    <a:pt x="516" y="160"/>
                  </a:lnTo>
                  <a:lnTo>
                    <a:pt x="441" y="118"/>
                  </a:lnTo>
                  <a:lnTo>
                    <a:pt x="382" y="135"/>
                  </a:lnTo>
                  <a:lnTo>
                    <a:pt x="151" y="318"/>
                  </a:lnTo>
                  <a:lnTo>
                    <a:pt x="0" y="476"/>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76360" y="1530000"/>
              <a:ext cx="233280" cy="296640"/>
            </a:xfrm>
            <a:custGeom>
              <a:avLst/>
              <a:gdLst/>
              <a:ahLst/>
              <a:rect l="l" t="t" r="r" b="b"/>
              <a:pathLst>
                <a:path w="293" h="375">
                  <a:moveTo>
                    <a:pt x="0" y="266"/>
                  </a:moveTo>
                  <a:lnTo>
                    <a:pt x="175" y="50"/>
                  </a:lnTo>
                  <a:lnTo>
                    <a:pt x="293" y="0"/>
                  </a:lnTo>
                  <a:lnTo>
                    <a:pt x="217" y="109"/>
                  </a:lnTo>
                  <a:lnTo>
                    <a:pt x="135" y="274"/>
                  </a:lnTo>
                  <a:lnTo>
                    <a:pt x="76" y="375"/>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35120" y="1757160"/>
              <a:ext cx="247680" cy="628200"/>
            </a:xfrm>
            <a:custGeom>
              <a:avLst/>
              <a:gdLst/>
              <a:ahLst/>
              <a:rect l="l" t="t" r="r" b="b"/>
              <a:pathLst>
                <a:path w="311" h="793">
                  <a:moveTo>
                    <a:pt x="273" y="0"/>
                  </a:moveTo>
                  <a:lnTo>
                    <a:pt x="311" y="67"/>
                  </a:lnTo>
                  <a:lnTo>
                    <a:pt x="270" y="150"/>
                  </a:lnTo>
                  <a:lnTo>
                    <a:pt x="211" y="272"/>
                  </a:lnTo>
                  <a:lnTo>
                    <a:pt x="154" y="479"/>
                  </a:lnTo>
                  <a:lnTo>
                    <a:pt x="127" y="683"/>
                  </a:lnTo>
                  <a:lnTo>
                    <a:pt x="137" y="793"/>
                  </a:lnTo>
                  <a:lnTo>
                    <a:pt x="95" y="762"/>
                  </a:lnTo>
                  <a:lnTo>
                    <a:pt x="57" y="772"/>
                  </a:lnTo>
                  <a:lnTo>
                    <a:pt x="24" y="742"/>
                  </a:lnTo>
                  <a:lnTo>
                    <a:pt x="0" y="534"/>
                  </a:lnTo>
                  <a:lnTo>
                    <a:pt x="49" y="245"/>
                  </a:lnTo>
                  <a:lnTo>
                    <a:pt x="144" y="59"/>
                  </a:lnTo>
                  <a:lnTo>
                    <a:pt x="220" y="13"/>
                  </a:lnTo>
                  <a:lnTo>
                    <a:pt x="273" y="0"/>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9480" y="1836360"/>
              <a:ext cx="1133640" cy="1906200"/>
            </a:xfrm>
            <a:custGeom>
              <a:avLst/>
              <a:gdLst/>
              <a:ahLst/>
              <a:rect l="l" t="t" r="r" b="b"/>
              <a:pathLst>
                <a:path w="1427" h="2401">
                  <a:moveTo>
                    <a:pt x="103" y="686"/>
                  </a:moveTo>
                  <a:lnTo>
                    <a:pt x="190" y="724"/>
                  </a:lnTo>
                  <a:lnTo>
                    <a:pt x="165" y="766"/>
                  </a:lnTo>
                  <a:lnTo>
                    <a:pt x="110" y="821"/>
                  </a:lnTo>
                  <a:lnTo>
                    <a:pt x="95" y="916"/>
                  </a:lnTo>
                  <a:lnTo>
                    <a:pt x="127" y="1062"/>
                  </a:lnTo>
                  <a:lnTo>
                    <a:pt x="173" y="1178"/>
                  </a:lnTo>
                  <a:lnTo>
                    <a:pt x="270" y="1228"/>
                  </a:lnTo>
                  <a:lnTo>
                    <a:pt x="270" y="1133"/>
                  </a:lnTo>
                  <a:lnTo>
                    <a:pt x="316" y="1154"/>
                  </a:lnTo>
                  <a:lnTo>
                    <a:pt x="390" y="1279"/>
                  </a:lnTo>
                  <a:lnTo>
                    <a:pt x="477" y="1465"/>
                  </a:lnTo>
                  <a:lnTo>
                    <a:pt x="641" y="1680"/>
                  </a:lnTo>
                  <a:lnTo>
                    <a:pt x="774" y="1787"/>
                  </a:lnTo>
                  <a:lnTo>
                    <a:pt x="886" y="1825"/>
                  </a:lnTo>
                  <a:lnTo>
                    <a:pt x="956" y="1792"/>
                  </a:lnTo>
                  <a:lnTo>
                    <a:pt x="981" y="1699"/>
                  </a:lnTo>
                  <a:lnTo>
                    <a:pt x="1015" y="1524"/>
                  </a:lnTo>
                  <a:lnTo>
                    <a:pt x="1023" y="1270"/>
                  </a:lnTo>
                  <a:lnTo>
                    <a:pt x="1064" y="878"/>
                  </a:lnTo>
                  <a:lnTo>
                    <a:pt x="1131" y="454"/>
                  </a:lnTo>
                  <a:lnTo>
                    <a:pt x="1156" y="228"/>
                  </a:lnTo>
                  <a:lnTo>
                    <a:pt x="1152" y="103"/>
                  </a:lnTo>
                  <a:lnTo>
                    <a:pt x="1118" y="0"/>
                  </a:lnTo>
                  <a:lnTo>
                    <a:pt x="1159" y="25"/>
                  </a:lnTo>
                  <a:lnTo>
                    <a:pt x="1194" y="91"/>
                  </a:lnTo>
                  <a:lnTo>
                    <a:pt x="1207" y="192"/>
                  </a:lnTo>
                  <a:lnTo>
                    <a:pt x="1197" y="319"/>
                  </a:lnTo>
                  <a:lnTo>
                    <a:pt x="1180" y="500"/>
                  </a:lnTo>
                  <a:lnTo>
                    <a:pt x="1253" y="511"/>
                  </a:lnTo>
                  <a:lnTo>
                    <a:pt x="1268" y="570"/>
                  </a:lnTo>
                  <a:lnTo>
                    <a:pt x="1247" y="654"/>
                  </a:lnTo>
                  <a:lnTo>
                    <a:pt x="1186" y="766"/>
                  </a:lnTo>
                  <a:lnTo>
                    <a:pt x="1152" y="878"/>
                  </a:lnTo>
                  <a:lnTo>
                    <a:pt x="1118" y="958"/>
                  </a:lnTo>
                  <a:lnTo>
                    <a:pt x="1106" y="1070"/>
                  </a:lnTo>
                  <a:lnTo>
                    <a:pt x="1097" y="1220"/>
                  </a:lnTo>
                  <a:lnTo>
                    <a:pt x="1089" y="1367"/>
                  </a:lnTo>
                  <a:lnTo>
                    <a:pt x="1093" y="1446"/>
                  </a:lnTo>
                  <a:lnTo>
                    <a:pt x="1148" y="1475"/>
                  </a:lnTo>
                  <a:lnTo>
                    <a:pt x="1180" y="1576"/>
                  </a:lnTo>
                  <a:lnTo>
                    <a:pt x="1243" y="1688"/>
                  </a:lnTo>
                  <a:lnTo>
                    <a:pt x="1327" y="1745"/>
                  </a:lnTo>
                  <a:lnTo>
                    <a:pt x="1427" y="1804"/>
                  </a:lnTo>
                  <a:lnTo>
                    <a:pt x="1389" y="1834"/>
                  </a:lnTo>
                  <a:lnTo>
                    <a:pt x="1327" y="1825"/>
                  </a:lnTo>
                  <a:lnTo>
                    <a:pt x="1302" y="1884"/>
                  </a:lnTo>
                  <a:lnTo>
                    <a:pt x="1361" y="1943"/>
                  </a:lnTo>
                  <a:lnTo>
                    <a:pt x="1093" y="2300"/>
                  </a:lnTo>
                  <a:lnTo>
                    <a:pt x="994" y="2401"/>
                  </a:lnTo>
                  <a:lnTo>
                    <a:pt x="964" y="2338"/>
                  </a:lnTo>
                  <a:lnTo>
                    <a:pt x="1057" y="2216"/>
                  </a:lnTo>
                  <a:lnTo>
                    <a:pt x="1152" y="2070"/>
                  </a:lnTo>
                  <a:lnTo>
                    <a:pt x="1253" y="1933"/>
                  </a:lnTo>
                  <a:lnTo>
                    <a:pt x="1082" y="1688"/>
                  </a:lnTo>
                  <a:lnTo>
                    <a:pt x="1068" y="1733"/>
                  </a:lnTo>
                  <a:lnTo>
                    <a:pt x="1068" y="1825"/>
                  </a:lnTo>
                  <a:lnTo>
                    <a:pt x="1135" y="2003"/>
                  </a:lnTo>
                  <a:lnTo>
                    <a:pt x="1102" y="2070"/>
                  </a:lnTo>
                  <a:lnTo>
                    <a:pt x="1047" y="2034"/>
                  </a:lnTo>
                  <a:lnTo>
                    <a:pt x="943" y="2021"/>
                  </a:lnTo>
                  <a:lnTo>
                    <a:pt x="872" y="1988"/>
                  </a:lnTo>
                  <a:lnTo>
                    <a:pt x="969" y="2233"/>
                  </a:lnTo>
                  <a:lnTo>
                    <a:pt x="990" y="2262"/>
                  </a:lnTo>
                  <a:lnTo>
                    <a:pt x="943" y="2313"/>
                  </a:lnTo>
                  <a:lnTo>
                    <a:pt x="876" y="2167"/>
                  </a:lnTo>
                  <a:lnTo>
                    <a:pt x="823" y="2009"/>
                  </a:lnTo>
                  <a:lnTo>
                    <a:pt x="781" y="1829"/>
                  </a:lnTo>
                  <a:lnTo>
                    <a:pt x="652" y="1758"/>
                  </a:lnTo>
                  <a:lnTo>
                    <a:pt x="547" y="1671"/>
                  </a:lnTo>
                  <a:lnTo>
                    <a:pt x="435" y="1534"/>
                  </a:lnTo>
                  <a:lnTo>
                    <a:pt x="348" y="1388"/>
                  </a:lnTo>
                  <a:lnTo>
                    <a:pt x="295" y="1279"/>
                  </a:lnTo>
                  <a:lnTo>
                    <a:pt x="219" y="1270"/>
                  </a:lnTo>
                  <a:lnTo>
                    <a:pt x="120" y="1216"/>
                  </a:lnTo>
                  <a:lnTo>
                    <a:pt x="65" y="1129"/>
                  </a:lnTo>
                  <a:lnTo>
                    <a:pt x="0" y="916"/>
                  </a:lnTo>
                  <a:lnTo>
                    <a:pt x="8" y="787"/>
                  </a:lnTo>
                  <a:lnTo>
                    <a:pt x="44" y="717"/>
                  </a:lnTo>
                  <a:lnTo>
                    <a:pt x="103" y="686"/>
                  </a:lnTo>
                  <a:lnTo>
                    <a:pt x="103"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01640" y="2511000"/>
              <a:ext cx="138240" cy="166320"/>
            </a:xfrm>
            <a:custGeom>
              <a:avLst/>
              <a:gdLst/>
              <a:ahLst/>
              <a:rect l="l" t="t" r="r" b="b"/>
              <a:pathLst>
                <a:path w="175" h="209">
                  <a:moveTo>
                    <a:pt x="32" y="0"/>
                  </a:moveTo>
                  <a:lnTo>
                    <a:pt x="91" y="17"/>
                  </a:lnTo>
                  <a:lnTo>
                    <a:pt x="154" y="74"/>
                  </a:lnTo>
                  <a:lnTo>
                    <a:pt x="175" y="129"/>
                  </a:lnTo>
                  <a:lnTo>
                    <a:pt x="165" y="178"/>
                  </a:lnTo>
                  <a:lnTo>
                    <a:pt x="137" y="209"/>
                  </a:lnTo>
                  <a:lnTo>
                    <a:pt x="95" y="171"/>
                  </a:lnTo>
                  <a:lnTo>
                    <a:pt x="66" y="104"/>
                  </a:lnTo>
                  <a:lnTo>
                    <a:pt x="32" y="49"/>
                  </a:lnTo>
                  <a:lnTo>
                    <a:pt x="0" y="28"/>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146240" y="2419200"/>
              <a:ext cx="244440" cy="161280"/>
            </a:xfrm>
            <a:custGeom>
              <a:avLst/>
              <a:gdLst/>
              <a:ahLst/>
              <a:rect l="l" t="t" r="r" b="b"/>
              <a:pathLst>
                <a:path w="308" h="203">
                  <a:moveTo>
                    <a:pt x="0" y="119"/>
                  </a:moveTo>
                  <a:lnTo>
                    <a:pt x="114" y="91"/>
                  </a:lnTo>
                  <a:lnTo>
                    <a:pt x="224" y="45"/>
                  </a:lnTo>
                  <a:lnTo>
                    <a:pt x="308" y="0"/>
                  </a:lnTo>
                  <a:lnTo>
                    <a:pt x="308" y="32"/>
                  </a:lnTo>
                  <a:lnTo>
                    <a:pt x="237" y="95"/>
                  </a:lnTo>
                  <a:lnTo>
                    <a:pt x="245" y="133"/>
                  </a:lnTo>
                  <a:lnTo>
                    <a:pt x="171" y="182"/>
                  </a:lnTo>
                  <a:lnTo>
                    <a:pt x="93" y="203"/>
                  </a:lnTo>
                  <a:lnTo>
                    <a:pt x="24" y="186"/>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084320" y="2123640"/>
              <a:ext cx="65160" cy="123480"/>
            </a:xfrm>
            <a:custGeom>
              <a:avLst/>
              <a:gdLst/>
              <a:ahLst/>
              <a:rect l="l" t="t" r="r" b="b"/>
              <a:pathLst>
                <a:path w="81" h="156">
                  <a:moveTo>
                    <a:pt x="11" y="17"/>
                  </a:moveTo>
                  <a:lnTo>
                    <a:pt x="0" y="93"/>
                  </a:lnTo>
                  <a:lnTo>
                    <a:pt x="4" y="143"/>
                  </a:lnTo>
                  <a:lnTo>
                    <a:pt x="53" y="156"/>
                  </a:lnTo>
                  <a:lnTo>
                    <a:pt x="74" y="114"/>
                  </a:lnTo>
                  <a:lnTo>
                    <a:pt x="81" y="34"/>
                  </a:lnTo>
                  <a:lnTo>
                    <a:pt x="53" y="0"/>
                  </a:lnTo>
                  <a:lnTo>
                    <a:pt x="11" y="17"/>
                  </a:lnTo>
                  <a:lnTo>
                    <a:pt x="1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243080" y="2079360"/>
              <a:ext cx="73080" cy="93240"/>
            </a:xfrm>
            <a:custGeom>
              <a:avLst/>
              <a:gdLst/>
              <a:ahLst/>
              <a:rect l="l" t="t" r="r" b="b"/>
              <a:pathLst>
                <a:path w="92" h="120">
                  <a:moveTo>
                    <a:pt x="25" y="8"/>
                  </a:moveTo>
                  <a:lnTo>
                    <a:pt x="0" y="67"/>
                  </a:lnTo>
                  <a:lnTo>
                    <a:pt x="17" y="120"/>
                  </a:lnTo>
                  <a:lnTo>
                    <a:pt x="71" y="120"/>
                  </a:lnTo>
                  <a:lnTo>
                    <a:pt x="92" y="57"/>
                  </a:lnTo>
                  <a:lnTo>
                    <a:pt x="78" y="0"/>
                  </a:lnTo>
                  <a:lnTo>
                    <a:pt x="46" y="0"/>
                  </a:lnTo>
                  <a:lnTo>
                    <a:pt x="25" y="8"/>
                  </a:lnTo>
                  <a:lnTo>
                    <a:pt x="25" y="8"/>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4" name=""/>
            <p:cNvSpPr/>
            <p:nvPr/>
          </p:nvSpPr>
          <p:spPr>
            <a:xfrm>
              <a:off x="1224000" y="2993760"/>
              <a:ext cx="150840" cy="129960"/>
            </a:xfrm>
            <a:custGeom>
              <a:avLst/>
              <a:gdLst/>
              <a:ahLst/>
              <a:rect l="l" t="t" r="r" b="b"/>
              <a:pathLst>
                <a:path w="190" h="163">
                  <a:moveTo>
                    <a:pt x="161" y="0"/>
                  </a:moveTo>
                  <a:lnTo>
                    <a:pt x="87" y="45"/>
                  </a:lnTo>
                  <a:lnTo>
                    <a:pt x="24" y="91"/>
                  </a:lnTo>
                  <a:lnTo>
                    <a:pt x="0" y="133"/>
                  </a:lnTo>
                  <a:lnTo>
                    <a:pt x="45" y="163"/>
                  </a:lnTo>
                  <a:lnTo>
                    <a:pt x="78" y="133"/>
                  </a:lnTo>
                  <a:lnTo>
                    <a:pt x="102" y="87"/>
                  </a:lnTo>
                  <a:lnTo>
                    <a:pt x="161" y="63"/>
                  </a:lnTo>
                  <a:lnTo>
                    <a:pt x="190" y="42"/>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23920" y="3282480"/>
              <a:ext cx="250920" cy="568080"/>
            </a:xfrm>
            <a:custGeom>
              <a:avLst/>
              <a:gdLst/>
              <a:ahLst/>
              <a:rect l="l" t="t" r="r" b="b"/>
              <a:pathLst>
                <a:path w="316" h="717">
                  <a:moveTo>
                    <a:pt x="8" y="0"/>
                  </a:moveTo>
                  <a:lnTo>
                    <a:pt x="0" y="182"/>
                  </a:lnTo>
                  <a:lnTo>
                    <a:pt x="12" y="346"/>
                  </a:lnTo>
                  <a:lnTo>
                    <a:pt x="42" y="479"/>
                  </a:lnTo>
                  <a:lnTo>
                    <a:pt x="95" y="629"/>
                  </a:lnTo>
                  <a:lnTo>
                    <a:pt x="137" y="709"/>
                  </a:lnTo>
                  <a:lnTo>
                    <a:pt x="185" y="675"/>
                  </a:lnTo>
                  <a:lnTo>
                    <a:pt x="253" y="717"/>
                  </a:lnTo>
                  <a:lnTo>
                    <a:pt x="312" y="717"/>
                  </a:lnTo>
                  <a:lnTo>
                    <a:pt x="242" y="675"/>
                  </a:lnTo>
                  <a:lnTo>
                    <a:pt x="207" y="629"/>
                  </a:lnTo>
                  <a:lnTo>
                    <a:pt x="242" y="601"/>
                  </a:lnTo>
                  <a:lnTo>
                    <a:pt x="280" y="608"/>
                  </a:lnTo>
                  <a:lnTo>
                    <a:pt x="308" y="642"/>
                  </a:lnTo>
                  <a:lnTo>
                    <a:pt x="316" y="604"/>
                  </a:lnTo>
                  <a:lnTo>
                    <a:pt x="304" y="570"/>
                  </a:lnTo>
                  <a:lnTo>
                    <a:pt x="270" y="542"/>
                  </a:lnTo>
                  <a:lnTo>
                    <a:pt x="242" y="542"/>
                  </a:lnTo>
                  <a:lnTo>
                    <a:pt x="175" y="441"/>
                  </a:lnTo>
                  <a:lnTo>
                    <a:pt x="154" y="363"/>
                  </a:lnTo>
                  <a:lnTo>
                    <a:pt x="133" y="245"/>
                  </a:lnTo>
                  <a:lnTo>
                    <a:pt x="126" y="112"/>
                  </a:lnTo>
                  <a:lnTo>
                    <a:pt x="122" y="4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685880" y="3282480"/>
              <a:ext cx="135000" cy="85680"/>
            </a:xfrm>
            <a:custGeom>
              <a:avLst/>
              <a:gdLst/>
              <a:ahLst/>
              <a:rect l="l" t="t" r="r" b="b"/>
              <a:pathLst>
                <a:path w="171" h="108">
                  <a:moveTo>
                    <a:pt x="14" y="59"/>
                  </a:moveTo>
                  <a:lnTo>
                    <a:pt x="101" y="66"/>
                  </a:lnTo>
                  <a:lnTo>
                    <a:pt x="133" y="55"/>
                  </a:lnTo>
                  <a:lnTo>
                    <a:pt x="109" y="25"/>
                  </a:lnTo>
                  <a:lnTo>
                    <a:pt x="118" y="0"/>
                  </a:lnTo>
                  <a:lnTo>
                    <a:pt x="168" y="25"/>
                  </a:lnTo>
                  <a:lnTo>
                    <a:pt x="171" y="63"/>
                  </a:lnTo>
                  <a:lnTo>
                    <a:pt x="133" y="97"/>
                  </a:lnTo>
                  <a:lnTo>
                    <a:pt x="52" y="108"/>
                  </a:lnTo>
                  <a:lnTo>
                    <a:pt x="0" y="97"/>
                  </a:lnTo>
                  <a:lnTo>
                    <a:pt x="14" y="59"/>
                  </a:lnTo>
                  <a:lnTo>
                    <a:pt x="14"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497" name=""/>
          <p:cNvSpPr txBox="1"/>
          <p:nvPr/>
        </p:nvSpPr>
        <p:spPr>
          <a:xfrm>
            <a:off x="3429000" y="2124000"/>
            <a:ext cx="5105520" cy="243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ord Problems</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 </a:t>
            </a: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ith </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Two Unknowns</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p:txBody>
      </p:sp>
      <p:sp>
        <p:nvSpPr>
          <p:cNvPr id="498"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9" name=""/>
          <p:cNvSpPr/>
          <p:nvPr/>
        </p:nvSpPr>
        <p:spPr>
          <a:xfrm>
            <a:off x="609480" y="1533600"/>
            <a:ext cx="7925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work, Amy receives $22.25 per hour for up to 40 hours per week. Any time beyond that is paid at a rate of $37.80 per hour. If she receives $1173.50 in her paycheck, how much time did she work that week? Express the time in hours and minutes. (60min = 1hr)</a:t>
            </a:r>
            <a:endParaRPr b="0" lang="en-US" sz="3600" spc="-1" strike="noStrike">
              <a:solidFill>
                <a:srgbClr val="000000"/>
              </a:solidFill>
              <a:latin typeface="Times New Roman"/>
            </a:endParaRPr>
          </a:p>
        </p:txBody>
      </p:sp>
      <p:sp>
        <p:nvSpPr>
          <p:cNvPr id="500"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01" name=""/>
          <p:cNvSpPr/>
          <p:nvPr/>
        </p:nvSpPr>
        <p:spPr>
          <a:xfrm>
            <a:off x="609480" y="1533600"/>
            <a:ext cx="7925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work, Amy receives </a:t>
            </a:r>
            <a:r>
              <a:rPr b="0" lang="en-US" sz="3600" spc="-1" strike="noStrike">
                <a:solidFill>
                  <a:srgbClr val="00cc99"/>
                </a:solidFill>
                <a:latin typeface="Comic Sans MS"/>
              </a:rPr>
              <a:t>$22.25 per hour for up to 40 hours per week</a:t>
            </a:r>
            <a:r>
              <a:rPr b="0" lang="en-US" sz="3600" spc="-1" strike="noStrike">
                <a:solidFill>
                  <a:srgbClr val="000000"/>
                </a:solidFill>
                <a:latin typeface="Comic Sans MS"/>
              </a:rPr>
              <a:t>. Any </a:t>
            </a:r>
            <a:r>
              <a:rPr b="0" lang="en-US" sz="3600" spc="-1" strike="noStrike">
                <a:solidFill>
                  <a:srgbClr val="00cc99"/>
                </a:solidFill>
                <a:latin typeface="Comic Sans MS"/>
              </a:rPr>
              <a:t>time beyond</a:t>
            </a:r>
            <a:r>
              <a:rPr b="0" lang="en-US" sz="3600" spc="-1" strike="noStrike">
                <a:solidFill>
                  <a:srgbClr val="000000"/>
                </a:solidFill>
                <a:latin typeface="Comic Sans MS"/>
              </a:rPr>
              <a:t> that is paid at a </a:t>
            </a:r>
            <a:r>
              <a:rPr b="0" lang="en-US" sz="3600" spc="-1" strike="noStrike">
                <a:solidFill>
                  <a:srgbClr val="00cc99"/>
                </a:solidFill>
                <a:latin typeface="Comic Sans MS"/>
              </a:rPr>
              <a:t>rate of $37.80</a:t>
            </a:r>
            <a:r>
              <a:rPr b="0" lang="en-US" sz="3600" spc="-1" strike="noStrike">
                <a:solidFill>
                  <a:srgbClr val="000000"/>
                </a:solidFill>
                <a:latin typeface="Comic Sans MS"/>
              </a:rPr>
              <a:t> per hour. If she </a:t>
            </a:r>
            <a:r>
              <a:rPr b="0" lang="en-US" sz="3600" spc="-1" strike="noStrike">
                <a:solidFill>
                  <a:srgbClr val="00cc99"/>
                </a:solidFill>
                <a:latin typeface="Comic Sans MS"/>
              </a:rPr>
              <a:t>receives $1173.50</a:t>
            </a:r>
            <a:r>
              <a:rPr b="0" lang="en-US" sz="3600" spc="-1" strike="noStrike">
                <a:solidFill>
                  <a:srgbClr val="000000"/>
                </a:solidFill>
                <a:latin typeface="Comic Sans MS"/>
              </a:rPr>
              <a:t> in her paycheck, how much time did she work that week? Express the time in hours and minutes. (60min = 1hr)</a:t>
            </a:r>
            <a:endParaRPr b="0" lang="en-US" sz="3600" spc="-1" strike="noStrike">
              <a:solidFill>
                <a:srgbClr val="000000"/>
              </a:solidFill>
              <a:latin typeface="Times New Roman"/>
            </a:endParaRPr>
          </a:p>
        </p:txBody>
      </p:sp>
      <p:sp>
        <p:nvSpPr>
          <p:cNvPr id="502" name=""/>
          <p:cNvSpPr/>
          <p:nvPr/>
        </p:nvSpPr>
        <p:spPr>
          <a:xfrm>
            <a:off x="609480" y="1533600"/>
            <a:ext cx="7925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work, Amy receives </a:t>
            </a:r>
            <a:r>
              <a:rPr b="0" lang="en-US" sz="3600" spc="-1" strike="noStrike">
                <a:solidFill>
                  <a:srgbClr val="00cc99"/>
                </a:solidFill>
                <a:latin typeface="Comic Sans MS"/>
              </a:rPr>
              <a:t>$22.25 per hour for up to 40 hours per week</a:t>
            </a:r>
            <a:r>
              <a:rPr b="0" lang="en-US" sz="3600" spc="-1" strike="noStrike">
                <a:solidFill>
                  <a:srgbClr val="000000"/>
                </a:solidFill>
                <a:latin typeface="Comic Sans MS"/>
              </a:rPr>
              <a:t>. Any </a:t>
            </a:r>
            <a:r>
              <a:rPr b="0" lang="en-US" sz="3600" spc="-1" strike="noStrike">
                <a:solidFill>
                  <a:srgbClr val="00cc99"/>
                </a:solidFill>
                <a:latin typeface="Comic Sans MS"/>
              </a:rPr>
              <a:t>time beyond</a:t>
            </a:r>
            <a:r>
              <a:rPr b="0" lang="en-US" sz="3600" spc="-1" strike="noStrike">
                <a:solidFill>
                  <a:srgbClr val="000000"/>
                </a:solidFill>
                <a:latin typeface="Comic Sans MS"/>
              </a:rPr>
              <a:t> that is paid at a </a:t>
            </a:r>
            <a:r>
              <a:rPr b="0" lang="en-US" sz="3600" spc="-1" strike="noStrike">
                <a:solidFill>
                  <a:srgbClr val="00cc99"/>
                </a:solidFill>
                <a:latin typeface="Comic Sans MS"/>
              </a:rPr>
              <a:t>rate of $37.80</a:t>
            </a:r>
            <a:r>
              <a:rPr b="0" lang="en-US" sz="3600" spc="-1" strike="noStrike">
                <a:solidFill>
                  <a:srgbClr val="000000"/>
                </a:solidFill>
                <a:latin typeface="Comic Sans MS"/>
              </a:rPr>
              <a:t> per hour. If she </a:t>
            </a:r>
            <a:r>
              <a:rPr b="0" lang="en-US" sz="3600" spc="-1" strike="noStrike">
                <a:solidFill>
                  <a:srgbClr val="00cc99"/>
                </a:solidFill>
                <a:latin typeface="Comic Sans MS"/>
              </a:rPr>
              <a:t>receives $1173.50</a:t>
            </a:r>
            <a:r>
              <a:rPr b="0" lang="en-US" sz="3600" spc="-1" strike="noStrike">
                <a:solidFill>
                  <a:srgbClr val="000000"/>
                </a:solidFill>
                <a:latin typeface="Comic Sans MS"/>
              </a:rPr>
              <a:t> in her paycheck, </a:t>
            </a:r>
            <a:r>
              <a:rPr b="0" lang="en-US" sz="3600" spc="-1" strike="noStrike">
                <a:solidFill>
                  <a:srgbClr val="0000ff"/>
                </a:solidFill>
                <a:latin typeface="Comic Sans MS"/>
              </a:rPr>
              <a:t>how much time did she work that week</a:t>
            </a:r>
            <a:r>
              <a:rPr b="0" lang="en-US" sz="3600" spc="-1" strike="noStrike">
                <a:solidFill>
                  <a:srgbClr val="000000"/>
                </a:solidFill>
                <a:latin typeface="Comic Sans MS"/>
              </a:rPr>
              <a:t>? Express the time in hours and minutes. (60min = 1hr)</a:t>
            </a:r>
            <a:endParaRPr b="0" lang="en-US" sz="3600" spc="-1" strike="noStrike">
              <a:solidFill>
                <a:srgbClr val="000000"/>
              </a:solidFill>
              <a:latin typeface="Times New Roman"/>
            </a:endParaRPr>
          </a:p>
        </p:txBody>
      </p:sp>
    </p:spTree>
  </p:cSld>
  <p:transition>
    <p:pull dir="l"/>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501"/>
                                        </p:tgtEl>
                                        <p:attrNameLst>
                                          <p:attrName>style.visibility</p:attrName>
                                        </p:attrNameLst>
                                      </p:cBhvr>
                                      <p:to>
                                        <p:strVal val="visible"/>
                                      </p:to>
                                    </p:set>
                                    <p:animEffect filter="dissolve" transition="in">
                                      <p:cBhvr additive="repl">
                                        <p:cTn id="331" dur="500"/>
                                        <p:tgtEl>
                                          <p:spTgt spid="50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02"/>
                                        </p:tgtEl>
                                        <p:attrNameLst>
                                          <p:attrName>style.visibility</p:attrName>
                                        </p:attrNameLst>
                                      </p:cBhvr>
                                      <p:to>
                                        <p:strVal val="visible"/>
                                      </p:to>
                                    </p:set>
                                    <p:animEffect filter="dissolve" transition="in">
                                      <p:cBhvr additive="repl">
                                        <p:cTn id="33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3"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04" name=""/>
          <p:cNvSpPr/>
          <p:nvPr/>
        </p:nvSpPr>
        <p:spPr>
          <a:xfrm>
            <a:off x="533520" y="1447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505" name=""/>
          <p:cNvSpPr/>
          <p:nvPr/>
        </p:nvSpPr>
        <p:spPr>
          <a:xfrm>
            <a:off x="533520" y="3657600"/>
            <a:ext cx="3276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                How many hours did Amy work?</a:t>
            </a:r>
            <a:endParaRPr b="0" lang="en-US" sz="3200" spc="-1" strike="noStrike">
              <a:solidFill>
                <a:srgbClr val="000000"/>
              </a:solidFill>
              <a:latin typeface="Times New Roman"/>
            </a:endParaRPr>
          </a:p>
        </p:txBody>
      </p:sp>
      <p:sp>
        <p:nvSpPr>
          <p:cNvPr id="506" name=""/>
          <p:cNvSpPr/>
          <p:nvPr/>
        </p:nvSpPr>
        <p:spPr>
          <a:xfrm>
            <a:off x="533520" y="198108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22.50 per hour to 40 hours $37.80 after that   $1173.50 in paycheck</a:t>
            </a:r>
            <a:endParaRPr b="0" lang="en-US" sz="3200" spc="-1" strike="noStrike">
              <a:solidFill>
                <a:srgbClr val="000000"/>
              </a:solidFill>
              <a:latin typeface="Times New Roman"/>
            </a:endParaRPr>
          </a:p>
        </p:txBody>
      </p:sp>
      <p:grpSp>
        <p:nvGrpSpPr>
          <p:cNvPr id="507" name=""/>
          <p:cNvGrpSpPr/>
          <p:nvPr/>
        </p:nvGrpSpPr>
        <p:grpSpPr>
          <a:xfrm>
            <a:off x="4876920" y="2604600"/>
            <a:ext cx="3716280" cy="3948120"/>
            <a:chOff x="4876920" y="2604600"/>
            <a:chExt cx="3716280" cy="3948120"/>
          </a:xfrm>
        </p:grpSpPr>
        <p:grpSp>
          <p:nvGrpSpPr>
            <p:cNvPr id="508" name=""/>
            <p:cNvGrpSpPr/>
            <p:nvPr/>
          </p:nvGrpSpPr>
          <p:grpSpPr>
            <a:xfrm>
              <a:off x="4876920" y="2604960"/>
              <a:ext cx="2703960" cy="3947400"/>
              <a:chOff x="4876920" y="2604960"/>
              <a:chExt cx="2703960" cy="3947400"/>
            </a:xfrm>
          </p:grpSpPr>
          <p:sp>
            <p:nvSpPr>
              <p:cNvPr id="509" name=""/>
              <p:cNvSpPr/>
              <p:nvPr/>
            </p:nvSpPr>
            <p:spPr>
              <a:xfrm>
                <a:off x="4876920" y="2604960"/>
                <a:ext cx="2703960" cy="394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876920" y="3706560"/>
                <a:ext cx="2703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306400" y="2834280"/>
                <a:ext cx="19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 40) h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7.80</a:t>
                </a:r>
                <a:endParaRPr b="0" lang="en-US" sz="2800" spc="-1" strike="noStrike">
                  <a:solidFill>
                    <a:srgbClr val="000000"/>
                  </a:solidFill>
                  <a:latin typeface="Times New Roman"/>
                </a:endParaRPr>
              </a:p>
            </p:txBody>
          </p:sp>
          <p:sp>
            <p:nvSpPr>
              <p:cNvPr id="512" name=""/>
              <p:cNvSpPr/>
              <p:nvPr/>
            </p:nvSpPr>
            <p:spPr>
              <a:xfrm>
                <a:off x="5429880" y="3938040"/>
                <a:ext cx="121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0 hrs</a:t>
                </a:r>
                <a:endParaRPr b="0" lang="en-US" sz="2800" spc="-1" strike="noStrike">
                  <a:solidFill>
                    <a:srgbClr val="000000"/>
                  </a:solidFill>
                  <a:latin typeface="Times New Roman"/>
                </a:endParaRPr>
              </a:p>
            </p:txBody>
          </p:sp>
          <p:sp>
            <p:nvSpPr>
              <p:cNvPr id="513" name=""/>
              <p:cNvSpPr/>
              <p:nvPr/>
            </p:nvSpPr>
            <p:spPr>
              <a:xfrm>
                <a:off x="5290560" y="4892040"/>
                <a:ext cx="1288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2.50</a:t>
                </a:r>
                <a:endParaRPr b="0" lang="en-US" sz="2800" spc="-1" strike="noStrike">
                  <a:solidFill>
                    <a:srgbClr val="000000"/>
                  </a:solidFill>
                  <a:latin typeface="Times New Roman"/>
                </a:endParaRPr>
              </a:p>
            </p:txBody>
          </p:sp>
        </p:grpSp>
        <p:sp>
          <p:nvSpPr>
            <p:cNvPr id="514" name=""/>
            <p:cNvSpPr/>
            <p:nvPr/>
          </p:nvSpPr>
          <p:spPr>
            <a:xfrm>
              <a:off x="7595640" y="4276440"/>
              <a:ext cx="99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hrs</a:t>
              </a:r>
              <a:endParaRPr b="0" lang="en-US" sz="2800" spc="-1" strike="noStrike">
                <a:solidFill>
                  <a:srgbClr val="000000"/>
                </a:solidFill>
                <a:latin typeface="Times New Roman"/>
              </a:endParaRPr>
            </a:p>
          </p:txBody>
        </p:sp>
        <p:sp>
          <p:nvSpPr>
            <p:cNvPr id="515" name=""/>
            <p:cNvSpPr/>
            <p:nvPr/>
          </p:nvSpPr>
          <p:spPr>
            <a:xfrm flipV="1">
              <a:off x="7774560" y="2604600"/>
              <a:ext cx="0" cy="16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774560" y="4928760"/>
              <a:ext cx="0" cy="16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dissolv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506"/>
                                        </p:tgtEl>
                                        <p:attrNameLst>
                                          <p:attrName>style.visibility</p:attrName>
                                        </p:attrNameLst>
                                      </p:cBhvr>
                                      <p:to>
                                        <p:strVal val="visible"/>
                                      </p:to>
                                    </p:set>
                                    <p:animEffect filter="dissolve" transition="in">
                                      <p:cBhvr additive="repl">
                                        <p:cTn id="343" dur="500"/>
                                        <p:tgtEl>
                                          <p:spTgt spid="50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505"/>
                                        </p:tgtEl>
                                        <p:attrNameLst>
                                          <p:attrName>style.visibility</p:attrName>
                                        </p:attrNameLst>
                                      </p:cBhvr>
                                      <p:to>
                                        <p:strVal val="visible"/>
                                      </p:to>
                                    </p:set>
                                    <p:animEffect filter="dissolve" transition="in">
                                      <p:cBhvr additive="repl">
                                        <p:cTn id="348" dur="500"/>
                                        <p:tgtEl>
                                          <p:spTgt spid="50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507"/>
                                        </p:tgtEl>
                                        <p:attrNameLst>
                                          <p:attrName>style.visibility</p:attrName>
                                        </p:attrNameLst>
                                      </p:cBhvr>
                                      <p:to>
                                        <p:strVal val="visible"/>
                                      </p:to>
                                    </p:set>
                                    <p:animEffect filter="dissolve" transition="in">
                                      <p:cBhvr additive="repl">
                                        <p:cTn id="353"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7"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18" name=""/>
          <p:cNvSpPr/>
          <p:nvPr/>
        </p:nvSpPr>
        <p:spPr>
          <a:xfrm>
            <a:off x="3448080" y="1447920"/>
            <a:ext cx="230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519" name=""/>
          <p:cNvSpPr/>
          <p:nvPr/>
        </p:nvSpPr>
        <p:spPr>
          <a:xfrm>
            <a:off x="3048120" y="2286000"/>
            <a:ext cx="556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t x = the total number of hours that Amy works</a:t>
            </a:r>
            <a:endParaRPr b="0" lang="en-US" sz="3600" spc="-1" strike="noStrike">
              <a:solidFill>
                <a:srgbClr val="000000"/>
              </a:solidFill>
              <a:latin typeface="Times New Roman"/>
            </a:endParaRPr>
          </a:p>
        </p:txBody>
      </p:sp>
      <p:grpSp>
        <p:nvGrpSpPr>
          <p:cNvPr id="520" name=""/>
          <p:cNvGrpSpPr/>
          <p:nvPr/>
        </p:nvGrpSpPr>
        <p:grpSpPr>
          <a:xfrm>
            <a:off x="439560" y="2149560"/>
            <a:ext cx="3115440" cy="3183840"/>
            <a:chOff x="439560" y="2149560"/>
            <a:chExt cx="3115440" cy="3183840"/>
          </a:xfrm>
        </p:grpSpPr>
        <p:sp>
          <p:nvSpPr>
            <p:cNvPr id="521" name=""/>
            <p:cNvSpPr/>
            <p:nvPr/>
          </p:nvSpPr>
          <p:spPr>
            <a:xfrm>
              <a:off x="439560" y="3241080"/>
              <a:ext cx="212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439560" y="2149560"/>
              <a:ext cx="2125440" cy="3183840"/>
              <a:chOff x="439560" y="2149560"/>
              <a:chExt cx="2125440" cy="3183840"/>
            </a:xfrm>
          </p:grpSpPr>
          <p:sp>
            <p:nvSpPr>
              <p:cNvPr id="523" name=""/>
              <p:cNvSpPr/>
              <p:nvPr/>
            </p:nvSpPr>
            <p:spPr>
              <a:xfrm>
                <a:off x="439560" y="2149560"/>
                <a:ext cx="2125440" cy="3183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70400" y="244692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 40) hrs</a:t>
                </a:r>
                <a:br>
                  <a:rPr sz="2400"/>
                </a:br>
                <a:r>
                  <a:rPr b="0" lang="en-US" sz="2400" spc="-1" strike="noStrike">
                    <a:solidFill>
                      <a:srgbClr val="000000"/>
                    </a:solidFill>
                    <a:latin typeface="Comic Sans MS"/>
                  </a:rPr>
                  <a:t>$37.80</a:t>
                </a:r>
                <a:endParaRPr b="0" lang="en-US" sz="2400" spc="-1" strike="noStrike">
                  <a:solidFill>
                    <a:srgbClr val="000000"/>
                  </a:solidFill>
                  <a:latin typeface="Times New Roman"/>
                </a:endParaRPr>
              </a:p>
            </p:txBody>
          </p:sp>
          <p:sp>
            <p:nvSpPr>
              <p:cNvPr id="525" name=""/>
              <p:cNvSpPr/>
              <p:nvPr/>
            </p:nvSpPr>
            <p:spPr>
              <a:xfrm>
                <a:off x="865080" y="3529080"/>
                <a:ext cx="10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hrs</a:t>
                </a:r>
                <a:endParaRPr b="0" lang="en-US" sz="2400" spc="-1" strike="noStrike">
                  <a:solidFill>
                    <a:srgbClr val="000000"/>
                  </a:solidFill>
                  <a:latin typeface="Times New Roman"/>
                </a:endParaRPr>
              </a:p>
            </p:txBody>
          </p:sp>
          <p:sp>
            <p:nvSpPr>
              <p:cNvPr id="526" name=""/>
              <p:cNvSpPr/>
              <p:nvPr/>
            </p:nvSpPr>
            <p:spPr>
              <a:xfrm>
                <a:off x="756360" y="44751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50</a:t>
                </a:r>
                <a:endParaRPr b="0" lang="en-US" sz="2400" spc="-1" strike="noStrike">
                  <a:solidFill>
                    <a:srgbClr val="000000"/>
                  </a:solidFill>
                  <a:latin typeface="Times New Roman"/>
                </a:endParaRPr>
              </a:p>
            </p:txBody>
          </p:sp>
        </p:grpSp>
        <p:sp>
          <p:nvSpPr>
            <p:cNvPr id="527" name=""/>
            <p:cNvSpPr/>
            <p:nvPr/>
          </p:nvSpPr>
          <p:spPr>
            <a:xfrm>
              <a:off x="2557440" y="3432600"/>
              <a:ext cx="99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hrs</a:t>
              </a:r>
              <a:endParaRPr b="0" lang="en-US" sz="2800" spc="-1" strike="noStrike">
                <a:solidFill>
                  <a:srgbClr val="000000"/>
                </a:solidFill>
                <a:latin typeface="Times New Roman"/>
              </a:endParaRPr>
            </a:p>
          </p:txBody>
        </p:sp>
        <p:sp>
          <p:nvSpPr>
            <p:cNvPr id="528" name=""/>
            <p:cNvSpPr/>
            <p:nvPr/>
          </p:nvSpPr>
          <p:spPr>
            <a:xfrm flipV="1">
              <a:off x="2738160" y="2149560"/>
              <a:ext cx="0" cy="133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738160" y="3969000"/>
              <a:ext cx="0" cy="133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
          <p:cNvSpPr/>
          <p:nvPr/>
        </p:nvSpPr>
        <p:spPr>
          <a:xfrm>
            <a:off x="3581280" y="3610080"/>
            <a:ext cx="4496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0 hours at $22.50   The rest at $37.80</a:t>
            </a:r>
            <a:endParaRPr b="0" lang="en-US" sz="3600" spc="-1" strike="noStrike">
              <a:solidFill>
                <a:srgbClr val="000000"/>
              </a:solidFill>
              <a:latin typeface="Times New Roman"/>
            </a:endParaRPr>
          </a:p>
        </p:txBody>
      </p:sp>
      <p:sp>
        <p:nvSpPr>
          <p:cNvPr id="531" name=""/>
          <p:cNvSpPr/>
          <p:nvPr/>
        </p:nvSpPr>
        <p:spPr>
          <a:xfrm>
            <a:off x="2895480" y="4952880"/>
            <a:ext cx="541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rest = x – 40 hours</a:t>
            </a:r>
            <a:endParaRPr b="0" lang="en-US" sz="3600" spc="-1" strike="noStrike">
              <a:solidFill>
                <a:srgbClr val="000000"/>
              </a:solidFill>
              <a:latin typeface="Times New Roman"/>
            </a:endParaRPr>
          </a:p>
        </p:txBody>
      </p:sp>
      <p:sp>
        <p:nvSpPr>
          <p:cNvPr id="532" name=""/>
          <p:cNvSpPr/>
          <p:nvPr/>
        </p:nvSpPr>
        <p:spPr>
          <a:xfrm>
            <a:off x="685800" y="5715000"/>
            <a:ext cx="78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tal pay = 40 hours pay + overtime</a:t>
            </a:r>
            <a:endParaRPr b="0" lang="en-US" sz="3600" spc="-1" strike="noStrike">
              <a:solidFill>
                <a:srgbClr val="000000"/>
              </a:solidFill>
              <a:latin typeface="Times New Roman"/>
            </a:endParaRPr>
          </a:p>
        </p:txBody>
      </p:sp>
    </p:spTree>
  </p:cSld>
  <p:transition>
    <p:dissolve/>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519"/>
                                        </p:tgtEl>
                                        <p:attrNameLst>
                                          <p:attrName>style.visibility</p:attrName>
                                        </p:attrNameLst>
                                      </p:cBhvr>
                                      <p:to>
                                        <p:strVal val="visible"/>
                                      </p:to>
                                    </p:set>
                                    <p:animEffect filter="wipe(left)" transition="in">
                                      <p:cBhvr additive="repl">
                                        <p:cTn id="360" dur="500"/>
                                        <p:tgtEl>
                                          <p:spTgt spid="51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530"/>
                                        </p:tgtEl>
                                        <p:attrNameLst>
                                          <p:attrName>style.visibility</p:attrName>
                                        </p:attrNameLst>
                                      </p:cBhvr>
                                      <p:to>
                                        <p:strVal val="visible"/>
                                      </p:to>
                                    </p:set>
                                    <p:animEffect filter="wipe(left)" transition="in">
                                      <p:cBhvr additive="repl">
                                        <p:cTn id="365" dur="500"/>
                                        <p:tgtEl>
                                          <p:spTgt spid="530"/>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531"/>
                                        </p:tgtEl>
                                        <p:attrNameLst>
                                          <p:attrName>style.visibility</p:attrName>
                                        </p:attrNameLst>
                                      </p:cBhvr>
                                      <p:to>
                                        <p:strVal val="visible"/>
                                      </p:to>
                                    </p:set>
                                    <p:animEffect filter="wipe(left)" transition="in">
                                      <p:cBhvr additive="repl">
                                        <p:cTn id="370" dur="500"/>
                                        <p:tgtEl>
                                          <p:spTgt spid="53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532"/>
                                        </p:tgtEl>
                                        <p:attrNameLst>
                                          <p:attrName>style.visibility</p:attrName>
                                        </p:attrNameLst>
                                      </p:cBhvr>
                                      <p:to>
                                        <p:strVal val="visible"/>
                                      </p:to>
                                    </p:set>
                                    <p:animEffect filter="wipe(left)" transition="in">
                                      <p:cBhvr additive="repl">
                                        <p:cTn id="375"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3"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34" name=""/>
          <p:cNvSpPr/>
          <p:nvPr/>
        </p:nvSpPr>
        <p:spPr>
          <a:xfrm>
            <a:off x="3448080" y="1447920"/>
            <a:ext cx="230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535" name=""/>
          <p:cNvSpPr/>
          <p:nvPr/>
        </p:nvSpPr>
        <p:spPr>
          <a:xfrm>
            <a:off x="2895480" y="2286000"/>
            <a:ext cx="556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tal pay = 40 hours pay </a:t>
            </a:r>
            <a:r>
              <a:rPr b="0" lang="en-US" sz="3600" spc="-1" strike="noStrike">
                <a:solidFill>
                  <a:srgbClr val="000000"/>
                </a:solidFill>
                <a:latin typeface="Comic Sans MS"/>
              </a:rPr>
              <a:t>	</a:t>
            </a:r>
            <a:r>
              <a:rPr b="0" lang="en-US" sz="3600" spc="-1" strike="noStrike">
                <a:solidFill>
                  <a:srgbClr val="000000"/>
                </a:solidFill>
                <a:latin typeface="Comic Sans MS"/>
              </a:rPr>
              <a:t>       + overtime</a:t>
            </a:r>
            <a:endParaRPr b="0" lang="en-US" sz="3600" spc="-1" strike="noStrike">
              <a:solidFill>
                <a:srgbClr val="000000"/>
              </a:solidFill>
              <a:latin typeface="Times New Roman"/>
            </a:endParaRPr>
          </a:p>
        </p:txBody>
      </p:sp>
      <p:sp>
        <p:nvSpPr>
          <p:cNvPr id="536" name=""/>
          <p:cNvSpPr/>
          <p:nvPr/>
        </p:nvSpPr>
        <p:spPr>
          <a:xfrm>
            <a:off x="4514760" y="3610080"/>
            <a:ext cx="232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a:t>
            </a:r>
            <a:endParaRPr b="0" lang="en-US" sz="3600" spc="-1" strike="noStrike">
              <a:solidFill>
                <a:srgbClr val="000000"/>
              </a:solidFill>
              <a:latin typeface="Times New Roman"/>
            </a:endParaRPr>
          </a:p>
        </p:txBody>
      </p:sp>
      <p:sp>
        <p:nvSpPr>
          <p:cNvPr id="537" name=""/>
          <p:cNvSpPr/>
          <p:nvPr/>
        </p:nvSpPr>
        <p:spPr>
          <a:xfrm>
            <a:off x="3962520" y="43876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40)($22.50)</a:t>
            </a:r>
            <a:endParaRPr b="0" lang="en-US" sz="3600" spc="-1" strike="noStrike">
              <a:solidFill>
                <a:srgbClr val="000000"/>
              </a:solidFill>
              <a:latin typeface="Times New Roman"/>
            </a:endParaRPr>
          </a:p>
        </p:txBody>
      </p:sp>
      <p:sp>
        <p:nvSpPr>
          <p:cNvPr id="538" name=""/>
          <p:cNvSpPr/>
          <p:nvPr/>
        </p:nvSpPr>
        <p:spPr>
          <a:xfrm>
            <a:off x="3772080" y="5149800"/>
            <a:ext cx="3809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x – 40)(37.80)</a:t>
            </a:r>
            <a:endParaRPr b="0" lang="en-US" sz="3600" spc="-1" strike="noStrike">
              <a:solidFill>
                <a:srgbClr val="000000"/>
              </a:solidFill>
              <a:latin typeface="Times New Roman"/>
            </a:endParaRPr>
          </a:p>
        </p:txBody>
      </p:sp>
      <p:grpSp>
        <p:nvGrpSpPr>
          <p:cNvPr id="539" name=""/>
          <p:cNvGrpSpPr/>
          <p:nvPr/>
        </p:nvGrpSpPr>
        <p:grpSpPr>
          <a:xfrm>
            <a:off x="439560" y="2149560"/>
            <a:ext cx="3115440" cy="3183840"/>
            <a:chOff x="439560" y="2149560"/>
            <a:chExt cx="3115440" cy="3183840"/>
          </a:xfrm>
        </p:grpSpPr>
        <p:sp>
          <p:nvSpPr>
            <p:cNvPr id="540" name=""/>
            <p:cNvSpPr/>
            <p:nvPr/>
          </p:nvSpPr>
          <p:spPr>
            <a:xfrm>
              <a:off x="439560" y="3241080"/>
              <a:ext cx="212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439560" y="2149560"/>
              <a:ext cx="2125440" cy="3183840"/>
              <a:chOff x="439560" y="2149560"/>
              <a:chExt cx="2125440" cy="3183840"/>
            </a:xfrm>
          </p:grpSpPr>
          <p:sp>
            <p:nvSpPr>
              <p:cNvPr id="542" name=""/>
              <p:cNvSpPr/>
              <p:nvPr/>
            </p:nvSpPr>
            <p:spPr>
              <a:xfrm>
                <a:off x="439560" y="2149560"/>
                <a:ext cx="2125440" cy="3183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70400" y="244692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 40) hrs</a:t>
                </a:r>
                <a:br>
                  <a:rPr sz="2400"/>
                </a:br>
                <a:r>
                  <a:rPr b="0" lang="en-US" sz="2400" spc="-1" strike="noStrike">
                    <a:solidFill>
                      <a:srgbClr val="000000"/>
                    </a:solidFill>
                    <a:latin typeface="Comic Sans MS"/>
                  </a:rPr>
                  <a:t>$37.80</a:t>
                </a:r>
                <a:endParaRPr b="0" lang="en-US" sz="2400" spc="-1" strike="noStrike">
                  <a:solidFill>
                    <a:srgbClr val="000000"/>
                  </a:solidFill>
                  <a:latin typeface="Times New Roman"/>
                </a:endParaRPr>
              </a:p>
            </p:txBody>
          </p:sp>
          <p:sp>
            <p:nvSpPr>
              <p:cNvPr id="544" name=""/>
              <p:cNvSpPr/>
              <p:nvPr/>
            </p:nvSpPr>
            <p:spPr>
              <a:xfrm>
                <a:off x="865080" y="3529080"/>
                <a:ext cx="106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0 hrs</a:t>
                </a:r>
                <a:endParaRPr b="0" lang="en-US" sz="2400" spc="-1" strike="noStrike">
                  <a:solidFill>
                    <a:srgbClr val="000000"/>
                  </a:solidFill>
                  <a:latin typeface="Times New Roman"/>
                </a:endParaRPr>
              </a:p>
            </p:txBody>
          </p:sp>
          <p:sp>
            <p:nvSpPr>
              <p:cNvPr id="545" name=""/>
              <p:cNvSpPr/>
              <p:nvPr/>
            </p:nvSpPr>
            <p:spPr>
              <a:xfrm>
                <a:off x="756360" y="447516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50</a:t>
                </a:r>
                <a:endParaRPr b="0" lang="en-US" sz="2400" spc="-1" strike="noStrike">
                  <a:solidFill>
                    <a:srgbClr val="000000"/>
                  </a:solidFill>
                  <a:latin typeface="Times New Roman"/>
                </a:endParaRPr>
              </a:p>
            </p:txBody>
          </p:sp>
        </p:grpSp>
        <p:sp>
          <p:nvSpPr>
            <p:cNvPr id="546" name=""/>
            <p:cNvSpPr/>
            <p:nvPr/>
          </p:nvSpPr>
          <p:spPr>
            <a:xfrm>
              <a:off x="2557440" y="3432600"/>
              <a:ext cx="99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hrs</a:t>
              </a:r>
              <a:endParaRPr b="0" lang="en-US" sz="2800" spc="-1" strike="noStrike">
                <a:solidFill>
                  <a:srgbClr val="000000"/>
                </a:solidFill>
                <a:latin typeface="Times New Roman"/>
              </a:endParaRPr>
            </a:p>
          </p:txBody>
        </p:sp>
        <p:sp>
          <p:nvSpPr>
            <p:cNvPr id="547" name=""/>
            <p:cNvSpPr/>
            <p:nvPr/>
          </p:nvSpPr>
          <p:spPr>
            <a:xfrm flipV="1">
              <a:off x="2738160" y="2149560"/>
              <a:ext cx="0" cy="133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738160" y="3969000"/>
              <a:ext cx="0" cy="133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536"/>
                                        </p:tgtEl>
                                        <p:attrNameLst>
                                          <p:attrName>style.visibility</p:attrName>
                                        </p:attrNameLst>
                                      </p:cBhvr>
                                      <p:to>
                                        <p:strVal val="visible"/>
                                      </p:to>
                                    </p:set>
                                    <p:animEffect filter="wipe(left)" transition="in">
                                      <p:cBhvr additive="repl">
                                        <p:cTn id="382" dur="500"/>
                                        <p:tgtEl>
                                          <p:spTgt spid="53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537"/>
                                        </p:tgtEl>
                                        <p:attrNameLst>
                                          <p:attrName>style.visibility</p:attrName>
                                        </p:attrNameLst>
                                      </p:cBhvr>
                                      <p:to>
                                        <p:strVal val="visible"/>
                                      </p:to>
                                    </p:set>
                                    <p:animEffect filter="wipe(left)" transition="in">
                                      <p:cBhvr additive="repl">
                                        <p:cTn id="387" dur="500"/>
                                        <p:tgtEl>
                                          <p:spTgt spid="53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538"/>
                                        </p:tgtEl>
                                        <p:attrNameLst>
                                          <p:attrName>style.visibility</p:attrName>
                                        </p:attrNameLst>
                                      </p:cBhvr>
                                      <p:to>
                                        <p:strVal val="visible"/>
                                      </p:to>
                                    </p:set>
                                    <p:animEffect filter="wipe(left)" transition="in">
                                      <p:cBhvr additive="repl">
                                        <p:cTn id="392"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9"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50"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22.50)(40)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 ($37.80)(x – 40)</a:t>
            </a:r>
            <a:endParaRPr b="0" lang="en-US" sz="3600" spc="-1" strike="noStrike">
              <a:solidFill>
                <a:srgbClr val="000000"/>
              </a:solidFill>
              <a:latin typeface="Times New Roman"/>
            </a:endParaRPr>
          </a:p>
        </p:txBody>
      </p:sp>
      <p:sp>
        <p:nvSpPr>
          <p:cNvPr id="551" name=""/>
          <p:cNvSpPr/>
          <p:nvPr/>
        </p:nvSpPr>
        <p:spPr>
          <a:xfrm>
            <a:off x="685800" y="277164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890 + 37.80x                </a:t>
            </a:r>
            <a:r>
              <a:rPr b="0" lang="en-US" sz="3600" spc="-1" strike="noStrike">
                <a:solidFill>
                  <a:srgbClr val="000000"/>
                </a:solidFill>
                <a:latin typeface="Comic Sans MS"/>
              </a:rPr>
              <a:t>	</a:t>
            </a:r>
            <a:r>
              <a:rPr b="0" lang="en-US" sz="3600" spc="-1" strike="noStrike">
                <a:solidFill>
                  <a:srgbClr val="000000"/>
                </a:solidFill>
                <a:latin typeface="Comic Sans MS"/>
              </a:rPr>
              <a:t>     – (37.80)(40)</a:t>
            </a:r>
            <a:endParaRPr b="0" lang="en-US" sz="3600" spc="-1" strike="noStrike">
              <a:solidFill>
                <a:srgbClr val="000000"/>
              </a:solidFill>
              <a:latin typeface="Times New Roman"/>
            </a:endParaRPr>
          </a:p>
        </p:txBody>
      </p:sp>
      <p:sp>
        <p:nvSpPr>
          <p:cNvPr id="552" name=""/>
          <p:cNvSpPr/>
          <p:nvPr/>
        </p:nvSpPr>
        <p:spPr>
          <a:xfrm>
            <a:off x="1828800" y="411480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890 + 37.80x – 1512</a:t>
            </a:r>
            <a:endParaRPr b="0" lang="en-US" sz="3600" spc="-1" strike="noStrike">
              <a:solidFill>
                <a:srgbClr val="000000"/>
              </a:solidFill>
              <a:latin typeface="Times New Roman"/>
            </a:endParaRPr>
          </a:p>
        </p:txBody>
      </p:sp>
      <p:sp>
        <p:nvSpPr>
          <p:cNvPr id="553" name=""/>
          <p:cNvSpPr/>
          <p:nvPr/>
        </p:nvSpPr>
        <p:spPr>
          <a:xfrm>
            <a:off x="1828800" y="487692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37.80x – 622</a:t>
            </a:r>
            <a:endParaRPr b="0" lang="en-US" sz="3600" spc="-1" strike="noStrike">
              <a:solidFill>
                <a:srgbClr val="000000"/>
              </a:solidFill>
              <a:latin typeface="Times New Roman"/>
            </a:endParaRPr>
          </a:p>
        </p:txBody>
      </p:sp>
    </p:spTree>
  </p:cSld>
  <p:transition>
    <p:dissolve/>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551"/>
                                        </p:tgtEl>
                                        <p:attrNameLst>
                                          <p:attrName>style.visibility</p:attrName>
                                        </p:attrNameLst>
                                      </p:cBhvr>
                                      <p:to>
                                        <p:strVal val="visible"/>
                                      </p:to>
                                    </p:set>
                                    <p:animEffect filter="wipe(left)" transition="in">
                                      <p:cBhvr additive="repl">
                                        <p:cTn id="399" dur="500"/>
                                        <p:tgtEl>
                                          <p:spTgt spid="55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552"/>
                                        </p:tgtEl>
                                        <p:attrNameLst>
                                          <p:attrName>style.visibility</p:attrName>
                                        </p:attrNameLst>
                                      </p:cBhvr>
                                      <p:to>
                                        <p:strVal val="visible"/>
                                      </p:to>
                                    </p:set>
                                    <p:animEffect filter="wipe(left)" transition="in">
                                      <p:cBhvr additive="repl">
                                        <p:cTn id="404" dur="500"/>
                                        <p:tgtEl>
                                          <p:spTgt spid="552"/>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553"/>
                                        </p:tgtEl>
                                        <p:attrNameLst>
                                          <p:attrName>style.visibility</p:attrName>
                                        </p:attrNameLst>
                                      </p:cBhvr>
                                      <p:to>
                                        <p:strVal val="visible"/>
                                      </p:to>
                                    </p:set>
                                    <p:animEffect filter="wipe(left)" transition="in">
                                      <p:cBhvr additive="repl">
                                        <p:cTn id="409"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54"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55" name=""/>
          <p:cNvSpPr/>
          <p:nvPr/>
        </p:nvSpPr>
        <p:spPr>
          <a:xfrm>
            <a:off x="685800" y="14479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22.50)(40)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 ($37.80)(x – 40)</a:t>
            </a:r>
            <a:endParaRPr b="0" lang="en-US" sz="3600" spc="-1" strike="noStrike">
              <a:solidFill>
                <a:srgbClr val="000000"/>
              </a:solidFill>
              <a:latin typeface="Times New Roman"/>
            </a:endParaRPr>
          </a:p>
        </p:txBody>
      </p:sp>
      <p:sp>
        <p:nvSpPr>
          <p:cNvPr id="556" name=""/>
          <p:cNvSpPr/>
          <p:nvPr/>
        </p:nvSpPr>
        <p:spPr>
          <a:xfrm>
            <a:off x="1828800" y="277164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37.80x – 622</a:t>
            </a:r>
            <a:endParaRPr b="0" lang="en-US" sz="3600" spc="-1" strike="noStrike">
              <a:solidFill>
                <a:srgbClr val="000000"/>
              </a:solidFill>
              <a:latin typeface="Times New Roman"/>
            </a:endParaRPr>
          </a:p>
        </p:txBody>
      </p:sp>
      <p:sp>
        <p:nvSpPr>
          <p:cNvPr id="557" name=""/>
          <p:cNvSpPr/>
          <p:nvPr/>
        </p:nvSpPr>
        <p:spPr>
          <a:xfrm>
            <a:off x="2590920" y="4159080"/>
            <a:ext cx="396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795.50 = 37.80x</a:t>
            </a:r>
            <a:endParaRPr b="0" lang="en-US" sz="3600" spc="-1" strike="noStrike">
              <a:solidFill>
                <a:srgbClr val="000000"/>
              </a:solidFill>
              <a:latin typeface="Times New Roman"/>
            </a:endParaRPr>
          </a:p>
        </p:txBody>
      </p:sp>
      <p:grpSp>
        <p:nvGrpSpPr>
          <p:cNvPr id="558" name=""/>
          <p:cNvGrpSpPr/>
          <p:nvPr/>
        </p:nvGrpSpPr>
        <p:grpSpPr>
          <a:xfrm>
            <a:off x="1295280" y="3397320"/>
            <a:ext cx="6019920" cy="642600"/>
            <a:chOff x="1295280" y="3397320"/>
            <a:chExt cx="6019920" cy="642600"/>
          </a:xfrm>
        </p:grpSpPr>
        <p:sp>
          <p:nvSpPr>
            <p:cNvPr id="559" name=""/>
            <p:cNvSpPr/>
            <p:nvPr/>
          </p:nvSpPr>
          <p:spPr>
            <a:xfrm>
              <a:off x="2438280" y="3397320"/>
              <a:ext cx="487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622 = </a:t>
              </a:r>
              <a:r>
                <a:rPr b="0" lang="en-US" sz="3600" spc="-1" strike="noStrike">
                  <a:solidFill>
                    <a:srgbClr val="000000"/>
                  </a:solidFill>
                  <a:latin typeface="Comic Sans MS"/>
                </a:rPr>
                <a:t>	</a:t>
              </a:r>
              <a:r>
                <a:rPr b="0" lang="en-US" sz="3600" spc="-1" strike="noStrike">
                  <a:solidFill>
                    <a:srgbClr val="000000"/>
                  </a:solidFill>
                  <a:latin typeface="Comic Sans MS"/>
                </a:rPr>
                <a:t>	</a:t>
              </a:r>
              <a:r>
                <a:rPr b="0" lang="en-US" sz="3600" spc="-1" strike="noStrike">
                  <a:solidFill>
                    <a:srgbClr val="000000"/>
                  </a:solidFill>
                  <a:latin typeface="Comic Sans MS"/>
                </a:rPr>
                <a:t>    + 622</a:t>
              </a:r>
              <a:endParaRPr b="0" lang="en-US" sz="3600" spc="-1" strike="noStrike">
                <a:solidFill>
                  <a:srgbClr val="000000"/>
                </a:solidFill>
                <a:latin typeface="Times New Roman"/>
              </a:endParaRPr>
            </a:p>
          </p:txBody>
        </p:sp>
        <p:sp>
          <p:nvSpPr>
            <p:cNvPr id="560" name=""/>
            <p:cNvSpPr/>
            <p:nvPr/>
          </p:nvSpPr>
          <p:spPr>
            <a:xfrm>
              <a:off x="1295280" y="4038480"/>
              <a:ext cx="6019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558"/>
                                        </p:tgtEl>
                                        <p:attrNameLst>
                                          <p:attrName>style.visibility</p:attrName>
                                        </p:attrNameLst>
                                      </p:cBhvr>
                                      <p:to>
                                        <p:strVal val="visible"/>
                                      </p:to>
                                    </p:set>
                                    <p:animEffect filter="wipe(left)" transition="in">
                                      <p:cBhvr additive="repl">
                                        <p:cTn id="416" dur="500"/>
                                        <p:tgtEl>
                                          <p:spTgt spid="55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557"/>
                                        </p:tgtEl>
                                        <p:attrNameLst>
                                          <p:attrName>style.visibility</p:attrName>
                                        </p:attrNameLst>
                                      </p:cBhvr>
                                      <p:to>
                                        <p:strVal val="visible"/>
                                      </p:to>
                                    </p:set>
                                    <p:animEffect filter="wipe(left)" transition="in">
                                      <p:cBhvr additive="repl">
                                        <p:cTn id="421"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1"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62" name=""/>
          <p:cNvSpPr/>
          <p:nvPr/>
        </p:nvSpPr>
        <p:spPr>
          <a:xfrm>
            <a:off x="251460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795.50 = 37.80x</a:t>
            </a:r>
            <a:endParaRPr b="0" lang="en-US" sz="3600" spc="-1" strike="noStrike">
              <a:solidFill>
                <a:srgbClr val="000000"/>
              </a:solidFill>
              <a:latin typeface="Times New Roman"/>
            </a:endParaRPr>
          </a:p>
        </p:txBody>
      </p:sp>
      <p:grpSp>
        <p:nvGrpSpPr>
          <p:cNvPr id="563" name=""/>
          <p:cNvGrpSpPr/>
          <p:nvPr/>
        </p:nvGrpSpPr>
        <p:grpSpPr>
          <a:xfrm>
            <a:off x="2514600" y="2089080"/>
            <a:ext cx="4038480" cy="655200"/>
            <a:chOff x="2514600" y="2089080"/>
            <a:chExt cx="4038480" cy="655200"/>
          </a:xfrm>
        </p:grpSpPr>
        <p:sp>
          <p:nvSpPr>
            <p:cNvPr id="564" name=""/>
            <p:cNvSpPr/>
            <p:nvPr/>
          </p:nvSpPr>
          <p:spPr>
            <a:xfrm>
              <a:off x="2851920" y="210168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7.80</a:t>
              </a:r>
              <a:endParaRPr b="0" lang="en-US" sz="3600" spc="-1" strike="noStrike">
                <a:solidFill>
                  <a:srgbClr val="000000"/>
                </a:solidFill>
                <a:latin typeface="Times New Roman"/>
              </a:endParaRPr>
            </a:p>
          </p:txBody>
        </p:sp>
        <p:sp>
          <p:nvSpPr>
            <p:cNvPr id="565" name=""/>
            <p:cNvSpPr/>
            <p:nvPr/>
          </p:nvSpPr>
          <p:spPr>
            <a:xfrm>
              <a:off x="2514600" y="208908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941000" y="2101680"/>
              <a:ext cx="1351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7.80</a:t>
              </a:r>
              <a:endParaRPr b="0" lang="en-US" sz="3600" spc="-1" strike="noStrike">
                <a:solidFill>
                  <a:srgbClr val="000000"/>
                </a:solidFill>
                <a:latin typeface="Times New Roman"/>
              </a:endParaRPr>
            </a:p>
          </p:txBody>
        </p:sp>
        <p:sp>
          <p:nvSpPr>
            <p:cNvPr id="567" name=""/>
            <p:cNvSpPr/>
            <p:nvPr/>
          </p:nvSpPr>
          <p:spPr>
            <a:xfrm>
              <a:off x="4832280" y="2089080"/>
              <a:ext cx="1720800" cy="12600"/>
            </a:xfrm>
            <a:prstGeom prst="line">
              <a:avLst/>
            </a:prstGeom>
            <a:ln w="381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568" name=""/>
          <p:cNvSpPr/>
          <p:nvPr/>
        </p:nvSpPr>
        <p:spPr>
          <a:xfrm>
            <a:off x="3581280" y="2940120"/>
            <a:ext cx="198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7.5 = x</a:t>
            </a:r>
            <a:endParaRPr b="0" lang="en-US" sz="3600" spc="-1" strike="noStrike">
              <a:solidFill>
                <a:srgbClr val="000000"/>
              </a:solidFill>
              <a:latin typeface="Times New Roman"/>
            </a:endParaRPr>
          </a:p>
        </p:txBody>
      </p:sp>
      <p:sp>
        <p:nvSpPr>
          <p:cNvPr id="569" name=""/>
          <p:cNvSpPr/>
          <p:nvPr/>
        </p:nvSpPr>
        <p:spPr>
          <a:xfrm>
            <a:off x="2819520" y="370188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x = </a:t>
            </a:r>
            <a:r>
              <a:rPr b="0" lang="en-US" sz="3600" spc="-1" strike="noStrike">
                <a:solidFill>
                  <a:srgbClr val="0000ff"/>
                </a:solidFill>
                <a:latin typeface="Comic Sans MS"/>
              </a:rPr>
              <a:t>47.5 hours</a:t>
            </a:r>
            <a:endParaRPr b="0" lang="en-US" sz="3600" spc="-1" strike="noStrike">
              <a:solidFill>
                <a:srgbClr val="000000"/>
              </a:solidFill>
              <a:latin typeface="Times New Roman"/>
            </a:endParaRPr>
          </a:p>
        </p:txBody>
      </p:sp>
      <p:sp>
        <p:nvSpPr>
          <p:cNvPr id="570" name=""/>
          <p:cNvSpPr/>
          <p:nvPr/>
        </p:nvSpPr>
        <p:spPr>
          <a:xfrm>
            <a:off x="1905120" y="454032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y worked </a:t>
            </a:r>
            <a:r>
              <a:rPr b="0" lang="en-US" sz="3600" spc="-1" strike="noStrike">
                <a:solidFill>
                  <a:srgbClr val="0000ff"/>
                </a:solidFill>
                <a:latin typeface="Comic Sans MS"/>
              </a:rPr>
              <a:t>47.5 hours</a:t>
            </a:r>
            <a:endParaRPr b="0" lang="en-US" sz="3600" spc="-1" strike="noStrike">
              <a:solidFill>
                <a:srgbClr val="000000"/>
              </a:solidFill>
              <a:latin typeface="Times New Roman"/>
            </a:endParaRPr>
          </a:p>
        </p:txBody>
      </p:sp>
      <p:sp>
        <p:nvSpPr>
          <p:cNvPr id="571" name=""/>
          <p:cNvSpPr/>
          <p:nvPr/>
        </p:nvSpPr>
        <p:spPr>
          <a:xfrm>
            <a:off x="1905120" y="533412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 hours and minutes?</a:t>
            </a:r>
            <a:endParaRPr b="0" lang="en-US" sz="3600" spc="-1" strike="noStrike">
              <a:solidFill>
                <a:srgbClr val="000000"/>
              </a:solidFill>
              <a:latin typeface="Times New Roman"/>
            </a:endParaRPr>
          </a:p>
        </p:txBody>
      </p:sp>
    </p:spTree>
  </p:cSld>
  <p:transition>
    <p:wipe dir="r"/>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563"/>
                                        </p:tgtEl>
                                        <p:attrNameLst>
                                          <p:attrName>style.visibility</p:attrName>
                                        </p:attrNameLst>
                                      </p:cBhvr>
                                      <p:to>
                                        <p:strVal val="visible"/>
                                      </p:to>
                                    </p:set>
                                    <p:animEffect filter="wipe(left)" transition="in">
                                      <p:cBhvr additive="repl">
                                        <p:cTn id="428" dur="500"/>
                                        <p:tgtEl>
                                          <p:spTgt spid="56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568"/>
                                        </p:tgtEl>
                                        <p:attrNameLst>
                                          <p:attrName>style.visibility</p:attrName>
                                        </p:attrNameLst>
                                      </p:cBhvr>
                                      <p:to>
                                        <p:strVal val="visible"/>
                                      </p:to>
                                    </p:set>
                                    <p:animEffect filter="wipe(left)" transition="in">
                                      <p:cBhvr additive="repl">
                                        <p:cTn id="433" dur="500"/>
                                        <p:tgtEl>
                                          <p:spTgt spid="56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569"/>
                                        </p:tgtEl>
                                        <p:attrNameLst>
                                          <p:attrName>style.visibility</p:attrName>
                                        </p:attrNameLst>
                                      </p:cBhvr>
                                      <p:to>
                                        <p:strVal val="visible"/>
                                      </p:to>
                                    </p:set>
                                    <p:anim calcmode="lin" valueType="num">
                                      <p:cBhvr additive="repl">
                                        <p:cTn id="438" dur="500" fill="hold"/>
                                        <p:tgtEl>
                                          <p:spTgt spid="569"/>
                                        </p:tgtEl>
                                        <p:attrNameLst>
                                          <p:attrName>ppt_w</p:attrName>
                                        </p:attrNameLst>
                                      </p:cBhvr>
                                      <p:tavLst>
                                        <p:tav tm="0">
                                          <p:val>
                                            <p:fltVal val="0"/>
                                          </p:val>
                                        </p:tav>
                                        <p:tav tm="100000">
                                          <p:val>
                                            <p:strVal val="#ppt_w"/>
                                          </p:val>
                                        </p:tav>
                                      </p:tavLst>
                                    </p:anim>
                                    <p:anim calcmode="lin" valueType="num">
                                      <p:cBhvr additive="repl">
                                        <p:cTn id="439"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570"/>
                                        </p:tgtEl>
                                        <p:attrNameLst>
                                          <p:attrName>style.visibility</p:attrName>
                                        </p:attrNameLst>
                                      </p:cBhvr>
                                      <p:to>
                                        <p:strVal val="visible"/>
                                      </p:to>
                                    </p:set>
                                    <p:animEffect filter="dissolve" transition="in">
                                      <p:cBhvr additive="repl">
                                        <p:cTn id="444" dur="500"/>
                                        <p:tgtEl>
                                          <p:spTgt spid="57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571"/>
                                        </p:tgtEl>
                                        <p:attrNameLst>
                                          <p:attrName>style.visibility</p:attrName>
                                        </p:attrNameLst>
                                      </p:cBhvr>
                                      <p:to>
                                        <p:strVal val="visible"/>
                                      </p:to>
                                    </p:set>
                                    <p:animEffect filter="dissolve" transition="in">
                                      <p:cBhvr additive="repl">
                                        <p:cTn id="4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2"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73" name=""/>
          <p:cNvSpPr/>
          <p:nvPr/>
        </p:nvSpPr>
        <p:spPr>
          <a:xfrm>
            <a:off x="1828800" y="144792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y worked </a:t>
            </a:r>
            <a:r>
              <a:rPr b="0" lang="en-US" sz="3600" spc="-1" strike="noStrike">
                <a:solidFill>
                  <a:srgbClr val="0000ff"/>
                </a:solidFill>
                <a:latin typeface="Comic Sans MS"/>
              </a:rPr>
              <a:t>47.5 hours</a:t>
            </a:r>
            <a:endParaRPr b="0" lang="en-US" sz="3600" spc="-1" strike="noStrike">
              <a:solidFill>
                <a:srgbClr val="000000"/>
              </a:solidFill>
              <a:latin typeface="Times New Roman"/>
            </a:endParaRPr>
          </a:p>
        </p:txBody>
      </p:sp>
      <p:sp>
        <p:nvSpPr>
          <p:cNvPr id="574" name=""/>
          <p:cNvSpPr/>
          <p:nvPr/>
        </p:nvSpPr>
        <p:spPr>
          <a:xfrm>
            <a:off x="2895480" y="2209680"/>
            <a:ext cx="327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7.5 = 47 + .5</a:t>
            </a:r>
            <a:endParaRPr b="0" lang="en-US" sz="3600" spc="-1" strike="noStrike">
              <a:solidFill>
                <a:srgbClr val="000000"/>
              </a:solidFill>
              <a:latin typeface="Times New Roman"/>
            </a:endParaRPr>
          </a:p>
        </p:txBody>
      </p:sp>
      <p:sp>
        <p:nvSpPr>
          <p:cNvPr id="575" name=""/>
          <p:cNvSpPr/>
          <p:nvPr/>
        </p:nvSpPr>
        <p:spPr>
          <a:xfrm>
            <a:off x="2819520" y="2971800"/>
            <a:ext cx="3504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 hour = 60 min</a:t>
            </a:r>
            <a:endParaRPr b="0" lang="en-US" sz="3600" spc="-1" strike="noStrike">
              <a:solidFill>
                <a:srgbClr val="000000"/>
              </a:solidFill>
              <a:latin typeface="Times New Roman"/>
            </a:endParaRPr>
          </a:p>
        </p:txBody>
      </p:sp>
      <p:sp>
        <p:nvSpPr>
          <p:cNvPr id="576" name=""/>
          <p:cNvSpPr/>
          <p:nvPr/>
        </p:nvSpPr>
        <p:spPr>
          <a:xfrm>
            <a:off x="2133720" y="373392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 hour = (.5)(60 min)</a:t>
            </a:r>
            <a:endParaRPr b="0" lang="en-US" sz="3600" spc="-1" strike="noStrike">
              <a:solidFill>
                <a:srgbClr val="000000"/>
              </a:solidFill>
              <a:latin typeface="Times New Roman"/>
            </a:endParaRPr>
          </a:p>
        </p:txBody>
      </p:sp>
      <p:sp>
        <p:nvSpPr>
          <p:cNvPr id="577" name=""/>
          <p:cNvSpPr/>
          <p:nvPr/>
        </p:nvSpPr>
        <p:spPr>
          <a:xfrm>
            <a:off x="1600200" y="5334120"/>
            <a:ext cx="5943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my worked </a:t>
            </a:r>
            <a:r>
              <a:rPr b="0" lang="en-US" sz="3600" spc="-1" strike="noStrike">
                <a:solidFill>
                  <a:srgbClr val="0000ff"/>
                </a:solidFill>
                <a:latin typeface="Comic Sans MS"/>
              </a:rPr>
              <a:t>47 hrs 30 min</a:t>
            </a:r>
            <a:endParaRPr b="0" lang="en-US" sz="3600" spc="-1" strike="noStrike">
              <a:solidFill>
                <a:srgbClr val="000000"/>
              </a:solidFill>
              <a:latin typeface="Times New Roman"/>
            </a:endParaRPr>
          </a:p>
        </p:txBody>
      </p:sp>
      <p:sp>
        <p:nvSpPr>
          <p:cNvPr id="578" name=""/>
          <p:cNvSpPr/>
          <p:nvPr/>
        </p:nvSpPr>
        <p:spPr>
          <a:xfrm>
            <a:off x="3505320" y="449568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30 min</a:t>
            </a:r>
            <a:endParaRPr b="0" lang="en-US" sz="3600" spc="-1" strike="noStrike">
              <a:solidFill>
                <a:srgbClr val="000000"/>
              </a:solidFill>
              <a:latin typeface="Times New Roman"/>
            </a:endParaRPr>
          </a:p>
        </p:txBody>
      </p:sp>
    </p:spTree>
  </p:cSld>
  <p:transition>
    <p:dissolve/>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574"/>
                                        </p:tgtEl>
                                        <p:attrNameLst>
                                          <p:attrName>style.visibility</p:attrName>
                                        </p:attrNameLst>
                                      </p:cBhvr>
                                      <p:to>
                                        <p:strVal val="visible"/>
                                      </p:to>
                                    </p:set>
                                    <p:animEffect filter="wipe(left)" transition="in">
                                      <p:cBhvr additive="repl">
                                        <p:cTn id="456" dur="500"/>
                                        <p:tgtEl>
                                          <p:spTgt spid="574"/>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575"/>
                                        </p:tgtEl>
                                        <p:attrNameLst>
                                          <p:attrName>style.visibility</p:attrName>
                                        </p:attrNameLst>
                                      </p:cBhvr>
                                      <p:to>
                                        <p:strVal val="visible"/>
                                      </p:to>
                                    </p:set>
                                    <p:animEffect filter="wipe(left)" transition="in">
                                      <p:cBhvr additive="repl">
                                        <p:cTn id="461" dur="500"/>
                                        <p:tgtEl>
                                          <p:spTgt spid="57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576"/>
                                        </p:tgtEl>
                                        <p:attrNameLst>
                                          <p:attrName>style.visibility</p:attrName>
                                        </p:attrNameLst>
                                      </p:cBhvr>
                                      <p:to>
                                        <p:strVal val="visible"/>
                                      </p:to>
                                    </p:set>
                                    <p:animEffect filter="wipe(left)" transition="in">
                                      <p:cBhvr additive="repl">
                                        <p:cTn id="466" dur="500"/>
                                        <p:tgtEl>
                                          <p:spTgt spid="5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78"/>
                                        </p:tgtEl>
                                        <p:attrNameLst>
                                          <p:attrName>style.visibility</p:attrName>
                                        </p:attrNameLst>
                                      </p:cBhvr>
                                      <p:to>
                                        <p:strVal val="visible"/>
                                      </p:to>
                                    </p:set>
                                    <p:animEffect filter="wipe(left)" transition="in">
                                      <p:cBhvr additive="repl">
                                        <p:cTn id="471" dur="500"/>
                                        <p:tgtEl>
                                          <p:spTgt spid="57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16">
                                  <p:stCondLst>
                                    <p:cond delay="0"/>
                                  </p:stCondLst>
                                  <p:childTnLst>
                                    <p:set>
                                      <p:cBhvr>
                                        <p:cTn id="475" dur="1" fill="hold">
                                          <p:stCondLst>
                                            <p:cond delay="0"/>
                                          </p:stCondLst>
                                        </p:cTn>
                                        <p:tgtEl>
                                          <p:spTgt spid="577"/>
                                        </p:tgtEl>
                                        <p:attrNameLst>
                                          <p:attrName>style.visibility</p:attrName>
                                        </p:attrNameLst>
                                      </p:cBhvr>
                                      <p:to>
                                        <p:strVal val="visible"/>
                                      </p:to>
                                    </p:set>
                                    <p:anim calcmode="lin" valueType="num">
                                      <p:cBhvr additive="repl">
                                        <p:cTn id="476" dur="500" fill="hold"/>
                                        <p:tgtEl>
                                          <p:spTgt spid="577"/>
                                        </p:tgtEl>
                                        <p:attrNameLst>
                                          <p:attrName>ppt_w</p:attrName>
                                        </p:attrNameLst>
                                      </p:cBhvr>
                                      <p:tavLst>
                                        <p:tav tm="0">
                                          <p:val>
                                            <p:fltVal val="0"/>
                                          </p:val>
                                        </p:tav>
                                        <p:tav tm="100000">
                                          <p:val>
                                            <p:strVal val="#ppt_w"/>
                                          </p:val>
                                        </p:tav>
                                      </p:tavLst>
                                    </p:anim>
                                    <p:anim calcmode="lin" valueType="num">
                                      <p:cBhvr additive="repl">
                                        <p:cTn id="477" dur="500" fill="hold"/>
                                        <p:tgtEl>
                                          <p:spTgt spid="5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36" name=""/>
          <p:cNvGrpSpPr/>
          <p:nvPr/>
        </p:nvGrpSpPr>
        <p:grpSpPr>
          <a:xfrm>
            <a:off x="533520" y="2895480"/>
            <a:ext cx="2361960" cy="2971800"/>
            <a:chOff x="533520" y="2895480"/>
            <a:chExt cx="2361960" cy="2971800"/>
          </a:xfrm>
        </p:grpSpPr>
        <p:sp>
          <p:nvSpPr>
            <p:cNvPr id="137"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2"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4"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5"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1"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1"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731880" y="1447920"/>
            <a:ext cx="7954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hen you finish this unit, you will be able to:</a:t>
            </a:r>
            <a:endParaRPr b="0" lang="en-US" sz="3200" spc="-1" strike="noStrike">
              <a:solidFill>
                <a:srgbClr val="000000"/>
              </a:solidFill>
              <a:latin typeface="Times New Roman"/>
            </a:endParaRPr>
          </a:p>
        </p:txBody>
      </p:sp>
      <p:sp>
        <p:nvSpPr>
          <p:cNvPr id="195" name=""/>
          <p:cNvSpPr/>
          <p:nvPr/>
        </p:nvSpPr>
        <p:spPr>
          <a:xfrm>
            <a:off x="2895480" y="2514600"/>
            <a:ext cx="5562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ve word problems that require finding two related unknowns</a:t>
            </a:r>
            <a:endParaRPr b="0" lang="en-US" sz="3200" spc="-1" strike="noStrike">
              <a:solidFill>
                <a:srgbClr val="000000"/>
              </a:solidFill>
              <a:latin typeface="Times New Roman"/>
            </a:endParaRPr>
          </a:p>
        </p:txBody>
      </p:sp>
      <p:sp>
        <p:nvSpPr>
          <p:cNvPr id="196" name=""/>
          <p:cNvSpPr/>
          <p:nvPr/>
        </p:nvSpPr>
        <p:spPr>
          <a:xfrm>
            <a:off x="3809880" y="7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95"/>
                                        </p:tgtEl>
                                        <p:attrNameLst>
                                          <p:attrName>style.visibility</p:attrName>
                                        </p:attrNameLst>
                                      </p:cBhvr>
                                      <p:to>
                                        <p:strVal val="visible"/>
                                      </p:to>
                                    </p:set>
                                    <p:anim calcmode="lin" valueType="num">
                                      <p:cBhvr additive="repl">
                                        <p:cTn id="15" dur="500" fill="hold"/>
                                        <p:tgtEl>
                                          <p:spTgt spid="195"/>
                                        </p:tgtEl>
                                        <p:attrNameLst>
                                          <p:attrName>ppt_w</p:attrName>
                                        </p:attrNameLst>
                                      </p:cBhvr>
                                      <p:tavLst>
                                        <p:tav tm="0">
                                          <p:val>
                                            <p:fltVal val="0"/>
                                          </p:val>
                                        </p:tav>
                                        <p:tav tm="100000">
                                          <p:val>
                                            <p:strVal val="#ppt_w"/>
                                          </p:val>
                                        </p:tav>
                                      </p:tavLst>
                                    </p:anim>
                                    <p:anim calcmode="lin" valueType="num">
                                      <p:cBhvr additive="repl">
                                        <p:cTn id="16"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79"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80" name=""/>
          <p:cNvSpPr/>
          <p:nvPr/>
        </p:nvSpPr>
        <p:spPr>
          <a:xfrm>
            <a:off x="3733920" y="14479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a:t>
            </a:r>
            <a:endParaRPr b="0" lang="en-US" sz="3600" spc="-1" strike="noStrike">
              <a:solidFill>
                <a:srgbClr val="000000"/>
              </a:solidFill>
              <a:latin typeface="Times New Roman"/>
            </a:endParaRPr>
          </a:p>
        </p:txBody>
      </p:sp>
      <p:sp>
        <p:nvSpPr>
          <p:cNvPr id="581" name=""/>
          <p:cNvSpPr/>
          <p:nvPr/>
        </p:nvSpPr>
        <p:spPr>
          <a:xfrm>
            <a:off x="1066680" y="2209680"/>
            <a:ext cx="7010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890 + (37.80)(x – 40)</a:t>
            </a:r>
            <a:endParaRPr b="0" lang="en-US" sz="3600" spc="-1" strike="noStrike">
              <a:solidFill>
                <a:srgbClr val="000000"/>
              </a:solidFill>
              <a:latin typeface="Times New Roman"/>
            </a:endParaRPr>
          </a:p>
        </p:txBody>
      </p:sp>
      <p:sp>
        <p:nvSpPr>
          <p:cNvPr id="582" name=""/>
          <p:cNvSpPr/>
          <p:nvPr/>
        </p:nvSpPr>
        <p:spPr>
          <a:xfrm>
            <a:off x="685800" y="297180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890 + (37.80)(47.5 – 40)</a:t>
            </a:r>
            <a:endParaRPr b="0" lang="en-US" sz="3600" spc="-1" strike="noStrike">
              <a:solidFill>
                <a:srgbClr val="000000"/>
              </a:solidFill>
              <a:latin typeface="Times New Roman"/>
            </a:endParaRPr>
          </a:p>
        </p:txBody>
      </p:sp>
      <p:sp>
        <p:nvSpPr>
          <p:cNvPr id="583" name=""/>
          <p:cNvSpPr/>
          <p:nvPr/>
        </p:nvSpPr>
        <p:spPr>
          <a:xfrm>
            <a:off x="2666880" y="4495680"/>
            <a:ext cx="3810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890 + 283.50</a:t>
            </a:r>
            <a:endParaRPr b="0" lang="en-US" sz="3600" spc="-1" strike="noStrike">
              <a:solidFill>
                <a:srgbClr val="000000"/>
              </a:solidFill>
              <a:latin typeface="Times New Roman"/>
            </a:endParaRPr>
          </a:p>
        </p:txBody>
      </p:sp>
      <p:sp>
        <p:nvSpPr>
          <p:cNvPr id="584" name=""/>
          <p:cNvSpPr/>
          <p:nvPr/>
        </p:nvSpPr>
        <p:spPr>
          <a:xfrm>
            <a:off x="1219320" y="3733920"/>
            <a:ext cx="662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890 + (37.80)(7.5)</a:t>
            </a:r>
            <a:endParaRPr b="0" lang="en-US" sz="3600" spc="-1" strike="noStrike">
              <a:solidFill>
                <a:srgbClr val="000000"/>
              </a:solidFill>
              <a:latin typeface="Times New Roman"/>
            </a:endParaRPr>
          </a:p>
        </p:txBody>
      </p:sp>
      <p:sp>
        <p:nvSpPr>
          <p:cNvPr id="585" name=""/>
          <p:cNvSpPr/>
          <p:nvPr/>
        </p:nvSpPr>
        <p:spPr>
          <a:xfrm>
            <a:off x="2438280" y="525780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73.50 = 1173.50</a:t>
            </a:r>
            <a:endParaRPr b="0" lang="en-US" sz="3600" spc="-1" strike="noStrike">
              <a:solidFill>
                <a:srgbClr val="000000"/>
              </a:solidFill>
              <a:latin typeface="Times New Roman"/>
            </a:endParaRPr>
          </a:p>
        </p:txBody>
      </p:sp>
      <p:sp>
        <p:nvSpPr>
          <p:cNvPr id="586" name=""/>
          <p:cNvSpPr/>
          <p:nvPr/>
        </p:nvSpPr>
        <p:spPr>
          <a:xfrm>
            <a:off x="6781680" y="5257800"/>
            <a:ext cx="1676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OK!</a:t>
            </a:r>
            <a:endParaRPr b="0" lang="en-US" sz="4400" spc="-1" strike="noStrike">
              <a:solidFill>
                <a:srgbClr val="000000"/>
              </a:solidFill>
              <a:latin typeface="Times New Roman"/>
            </a:endParaRPr>
          </a:p>
        </p:txBody>
      </p:sp>
    </p:spTree>
  </p:cSld>
  <p:transition>
    <p:cover dir="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581"/>
                                        </p:tgtEl>
                                        <p:attrNameLst>
                                          <p:attrName>style.visibility</p:attrName>
                                        </p:attrNameLst>
                                      </p:cBhvr>
                                      <p:to>
                                        <p:strVal val="visible"/>
                                      </p:to>
                                    </p:set>
                                    <p:animEffect filter="wipe(left)" transition="in">
                                      <p:cBhvr additive="repl">
                                        <p:cTn id="484" dur="500"/>
                                        <p:tgtEl>
                                          <p:spTgt spid="581"/>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582"/>
                                        </p:tgtEl>
                                        <p:attrNameLst>
                                          <p:attrName>style.visibility</p:attrName>
                                        </p:attrNameLst>
                                      </p:cBhvr>
                                      <p:to>
                                        <p:strVal val="visible"/>
                                      </p:to>
                                    </p:set>
                                    <p:animEffect filter="wipe(left)" transition="in">
                                      <p:cBhvr additive="repl">
                                        <p:cTn id="489" dur="500"/>
                                        <p:tgtEl>
                                          <p:spTgt spid="582"/>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584"/>
                                        </p:tgtEl>
                                        <p:attrNameLst>
                                          <p:attrName>style.visibility</p:attrName>
                                        </p:attrNameLst>
                                      </p:cBhvr>
                                      <p:to>
                                        <p:strVal val="visible"/>
                                      </p:to>
                                    </p:set>
                                    <p:animEffect filter="wipe(left)" transition="in">
                                      <p:cBhvr additive="repl">
                                        <p:cTn id="494" dur="500"/>
                                        <p:tgtEl>
                                          <p:spTgt spid="584"/>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583"/>
                                        </p:tgtEl>
                                        <p:attrNameLst>
                                          <p:attrName>style.visibility</p:attrName>
                                        </p:attrNameLst>
                                      </p:cBhvr>
                                      <p:to>
                                        <p:strVal val="visible"/>
                                      </p:to>
                                    </p:set>
                                    <p:animEffect filter="wipe(left)" transition="in">
                                      <p:cBhvr additive="repl">
                                        <p:cTn id="499" dur="500"/>
                                        <p:tgtEl>
                                          <p:spTgt spid="58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585"/>
                                        </p:tgtEl>
                                        <p:attrNameLst>
                                          <p:attrName>style.visibility</p:attrName>
                                        </p:attrNameLst>
                                      </p:cBhvr>
                                      <p:to>
                                        <p:strVal val="visible"/>
                                      </p:to>
                                    </p:set>
                                    <p:animEffect filter="wipe(left)" transition="in">
                                      <p:cBhvr additive="repl">
                                        <p:cTn id="504" dur="500"/>
                                        <p:tgtEl>
                                          <p:spTgt spid="585"/>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586"/>
                                        </p:tgtEl>
                                        <p:attrNameLst>
                                          <p:attrName>style.visibility</p:attrName>
                                        </p:attrNameLst>
                                      </p:cBhvr>
                                      <p:to>
                                        <p:strVal val="visible"/>
                                      </p:to>
                                    </p:set>
                                    <p:animEffect filter="slide(fromBottom)" transition="in">
                                      <p:cBhvr additive="repl">
                                        <p:cTn id="509"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7"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88" name=""/>
          <p:cNvSpPr/>
          <p:nvPr/>
        </p:nvSpPr>
        <p:spPr>
          <a:xfrm>
            <a:off x="685800" y="1447920"/>
            <a:ext cx="77724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otal receipts for a basketball game are $1400 for 788 tickets sold. Adults pay $2.50, students pay $1.25. How many tickets of each kind were sold?</a:t>
            </a:r>
            <a:endParaRPr b="0" lang="en-US" sz="4400" spc="-1" strike="noStrike">
              <a:solidFill>
                <a:srgbClr val="000000"/>
              </a:solidFill>
              <a:latin typeface="Times New Roman"/>
            </a:endParaRPr>
          </a:p>
        </p:txBody>
      </p:sp>
      <p:sp>
        <p:nvSpPr>
          <p:cNvPr id="589" name=""/>
          <p:cNvSpPr/>
          <p:nvPr/>
        </p:nvSpPr>
        <p:spPr>
          <a:xfrm>
            <a:off x="685800" y="1447920"/>
            <a:ext cx="77724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otal receipts for a basketball game are </a:t>
            </a:r>
            <a:r>
              <a:rPr b="0" lang="en-US" sz="4400" spc="-1" strike="noStrike">
                <a:solidFill>
                  <a:srgbClr val="00cc99"/>
                </a:solidFill>
                <a:latin typeface="Comic Sans MS"/>
              </a:rPr>
              <a:t>$1400 for 788 tickets</a:t>
            </a:r>
            <a:r>
              <a:rPr b="0" lang="en-US" sz="4400" spc="-1" strike="noStrike">
                <a:solidFill>
                  <a:srgbClr val="000000"/>
                </a:solidFill>
                <a:latin typeface="Comic Sans MS"/>
              </a:rPr>
              <a:t> sold. </a:t>
            </a:r>
            <a:r>
              <a:rPr b="0" lang="en-US" sz="4400" spc="-1" strike="noStrike">
                <a:solidFill>
                  <a:srgbClr val="00cc99"/>
                </a:solidFill>
                <a:latin typeface="Comic Sans MS"/>
              </a:rPr>
              <a:t>Adults pay $2.50</a:t>
            </a:r>
            <a:r>
              <a:rPr b="0" lang="en-US" sz="4400" spc="-1" strike="noStrike">
                <a:solidFill>
                  <a:srgbClr val="000000"/>
                </a:solidFill>
                <a:latin typeface="Comic Sans MS"/>
              </a:rPr>
              <a:t>, </a:t>
            </a:r>
            <a:r>
              <a:rPr b="0" lang="en-US" sz="4400" spc="-1" strike="noStrike">
                <a:solidFill>
                  <a:srgbClr val="00cc99"/>
                </a:solidFill>
                <a:latin typeface="Comic Sans MS"/>
              </a:rPr>
              <a:t>students pay $1.25</a:t>
            </a:r>
            <a:r>
              <a:rPr b="0" lang="en-US" sz="4400" spc="-1" strike="noStrike">
                <a:solidFill>
                  <a:srgbClr val="000000"/>
                </a:solidFill>
                <a:latin typeface="Comic Sans MS"/>
              </a:rPr>
              <a:t>. How many tickets of each kind were sold?</a:t>
            </a:r>
            <a:endParaRPr b="0" lang="en-US" sz="4400" spc="-1" strike="noStrike">
              <a:solidFill>
                <a:srgbClr val="000000"/>
              </a:solidFill>
              <a:latin typeface="Times New Roman"/>
            </a:endParaRPr>
          </a:p>
        </p:txBody>
      </p:sp>
      <p:sp>
        <p:nvSpPr>
          <p:cNvPr id="590" name=""/>
          <p:cNvSpPr/>
          <p:nvPr/>
        </p:nvSpPr>
        <p:spPr>
          <a:xfrm>
            <a:off x="685800" y="1447920"/>
            <a:ext cx="77724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total receipts for a basketball game are </a:t>
            </a:r>
            <a:r>
              <a:rPr b="0" lang="en-US" sz="4400" spc="-1" strike="noStrike">
                <a:solidFill>
                  <a:srgbClr val="00cc99"/>
                </a:solidFill>
                <a:latin typeface="Comic Sans MS"/>
              </a:rPr>
              <a:t>$1400 for 788 tickets</a:t>
            </a:r>
            <a:r>
              <a:rPr b="0" lang="en-US" sz="4400" spc="-1" strike="noStrike">
                <a:solidFill>
                  <a:srgbClr val="000000"/>
                </a:solidFill>
                <a:latin typeface="Comic Sans MS"/>
              </a:rPr>
              <a:t> sold. </a:t>
            </a:r>
            <a:r>
              <a:rPr b="0" lang="en-US" sz="4400" spc="-1" strike="noStrike">
                <a:solidFill>
                  <a:srgbClr val="00cc99"/>
                </a:solidFill>
                <a:latin typeface="Comic Sans MS"/>
              </a:rPr>
              <a:t>Adults pay $2.50</a:t>
            </a:r>
            <a:r>
              <a:rPr b="0" lang="en-US" sz="4400" spc="-1" strike="noStrike">
                <a:solidFill>
                  <a:srgbClr val="000000"/>
                </a:solidFill>
                <a:latin typeface="Comic Sans MS"/>
              </a:rPr>
              <a:t>, </a:t>
            </a:r>
            <a:r>
              <a:rPr b="0" lang="en-US" sz="4400" spc="-1" strike="noStrike">
                <a:solidFill>
                  <a:srgbClr val="00cc99"/>
                </a:solidFill>
                <a:latin typeface="Comic Sans MS"/>
              </a:rPr>
              <a:t>students pay $1.25</a:t>
            </a:r>
            <a:r>
              <a:rPr b="0" lang="en-US" sz="4400" spc="-1" strike="noStrike">
                <a:solidFill>
                  <a:srgbClr val="000000"/>
                </a:solidFill>
                <a:latin typeface="Comic Sans MS"/>
              </a:rPr>
              <a:t>. </a:t>
            </a:r>
            <a:r>
              <a:rPr b="0" lang="en-US" sz="4400" spc="-1" strike="noStrike">
                <a:solidFill>
                  <a:srgbClr val="0000ff"/>
                </a:solidFill>
                <a:latin typeface="Comic Sans MS"/>
              </a:rPr>
              <a:t>How many tickets of each kind were sold?</a:t>
            </a:r>
            <a:endParaRPr b="0" lang="en-US" sz="4400" spc="-1" strike="noStrike">
              <a:solidFill>
                <a:srgbClr val="000000"/>
              </a:solidFill>
              <a:latin typeface="Times New Roman"/>
            </a:endParaRPr>
          </a:p>
        </p:txBody>
      </p:sp>
    </p:spTree>
  </p:cSld>
  <p:transition>
    <p:pull dir="l"/>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589"/>
                                        </p:tgtEl>
                                        <p:attrNameLst>
                                          <p:attrName>style.visibility</p:attrName>
                                        </p:attrNameLst>
                                      </p:cBhvr>
                                      <p:to>
                                        <p:strVal val="visible"/>
                                      </p:to>
                                    </p:set>
                                    <p:animEffect filter="dissolve" transition="in">
                                      <p:cBhvr additive="repl">
                                        <p:cTn id="516" dur="500"/>
                                        <p:tgtEl>
                                          <p:spTgt spid="58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590"/>
                                        </p:tgtEl>
                                        <p:attrNameLst>
                                          <p:attrName>style.visibility</p:attrName>
                                        </p:attrNameLst>
                                      </p:cBhvr>
                                      <p:to>
                                        <p:strVal val="visible"/>
                                      </p:to>
                                    </p:set>
                                    <p:animEffect filter="dissolve" transition="in">
                                      <p:cBhvr additive="repl">
                                        <p:cTn id="521"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1"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592" name=""/>
          <p:cNvSpPr/>
          <p:nvPr/>
        </p:nvSpPr>
        <p:spPr>
          <a:xfrm>
            <a:off x="533520" y="1447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593" name=""/>
          <p:cNvSpPr/>
          <p:nvPr/>
        </p:nvSpPr>
        <p:spPr>
          <a:xfrm>
            <a:off x="533520" y="3657600"/>
            <a:ext cx="5715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s:                       Number of student tickets? Number of adult tickets?</a:t>
            </a:r>
            <a:endParaRPr b="0" lang="en-US" sz="3200" spc="-1" strike="noStrike">
              <a:solidFill>
                <a:srgbClr val="000000"/>
              </a:solidFill>
              <a:latin typeface="Times New Roman"/>
            </a:endParaRPr>
          </a:p>
        </p:txBody>
      </p:sp>
      <p:sp>
        <p:nvSpPr>
          <p:cNvPr id="594" name=""/>
          <p:cNvSpPr/>
          <p:nvPr/>
        </p:nvSpPr>
        <p:spPr>
          <a:xfrm>
            <a:off x="533520" y="1981080"/>
            <a:ext cx="5943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Total receipts $1400         788 tickets sold            Adults $2.50, students $1.25</a:t>
            </a:r>
            <a:endParaRPr b="0" lang="en-US" sz="3200" spc="-1" strike="noStrike">
              <a:solidFill>
                <a:srgbClr val="000000"/>
              </a:solidFill>
              <a:latin typeface="Times New Roman"/>
            </a:endParaRPr>
          </a:p>
        </p:txBody>
      </p:sp>
      <p:grpSp>
        <p:nvGrpSpPr>
          <p:cNvPr id="595" name=""/>
          <p:cNvGrpSpPr/>
          <p:nvPr/>
        </p:nvGrpSpPr>
        <p:grpSpPr>
          <a:xfrm>
            <a:off x="4289400" y="3657600"/>
            <a:ext cx="4092480" cy="2609280"/>
            <a:chOff x="4289400" y="3657600"/>
            <a:chExt cx="4092480" cy="2609280"/>
          </a:xfrm>
        </p:grpSpPr>
        <p:sp>
          <p:nvSpPr>
            <p:cNvPr id="596" name=""/>
            <p:cNvSpPr/>
            <p:nvPr/>
          </p:nvSpPr>
          <p:spPr>
            <a:xfrm>
              <a:off x="6477120" y="3657600"/>
              <a:ext cx="1904760" cy="259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77120" y="487692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696720" y="4052880"/>
              <a:ext cx="146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a:t>
              </a:r>
              <a:endParaRPr b="0" lang="en-US" sz="2800" spc="-1" strike="noStrike">
                <a:solidFill>
                  <a:srgbClr val="000000"/>
                </a:solidFill>
                <a:latin typeface="Times New Roman"/>
              </a:endParaRPr>
            </a:p>
          </p:txBody>
        </p:sp>
        <p:sp>
          <p:nvSpPr>
            <p:cNvPr id="599" name=""/>
            <p:cNvSpPr/>
            <p:nvPr/>
          </p:nvSpPr>
          <p:spPr>
            <a:xfrm>
              <a:off x="6910920" y="5272200"/>
              <a:ext cx="103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ult</a:t>
              </a:r>
              <a:endParaRPr b="0" lang="en-US" sz="2800" spc="-1" strike="noStrike">
                <a:solidFill>
                  <a:srgbClr val="000000"/>
                </a:solidFill>
                <a:latin typeface="Times New Roman"/>
              </a:endParaRPr>
            </a:p>
          </p:txBody>
        </p:sp>
        <p:sp>
          <p:nvSpPr>
            <p:cNvPr id="600" name=""/>
            <p:cNvSpPr/>
            <p:nvPr/>
          </p:nvSpPr>
          <p:spPr>
            <a:xfrm>
              <a:off x="4289400" y="5319720"/>
              <a:ext cx="2263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tickets $1400</a:t>
              </a:r>
              <a:endParaRPr b="0" lang="en-US" sz="2800" spc="-1" strike="noStrike">
                <a:solidFill>
                  <a:srgbClr val="000000"/>
                </a:solidFill>
                <a:latin typeface="Times New Roman"/>
              </a:endParaRPr>
            </a:p>
          </p:txBody>
        </p:sp>
      </p:grpSp>
    </p:spTree>
  </p:cSld>
  <p:transition>
    <p:dissolv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594"/>
                                        </p:tgtEl>
                                        <p:attrNameLst>
                                          <p:attrName>style.visibility</p:attrName>
                                        </p:attrNameLst>
                                      </p:cBhvr>
                                      <p:to>
                                        <p:strVal val="visible"/>
                                      </p:to>
                                    </p:set>
                                    <p:animEffect filter="dissolve" transition="in">
                                      <p:cBhvr additive="repl">
                                        <p:cTn id="528" dur="500"/>
                                        <p:tgtEl>
                                          <p:spTgt spid="594"/>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593"/>
                                        </p:tgtEl>
                                        <p:attrNameLst>
                                          <p:attrName>style.visibility</p:attrName>
                                        </p:attrNameLst>
                                      </p:cBhvr>
                                      <p:to>
                                        <p:strVal val="visible"/>
                                      </p:to>
                                    </p:set>
                                    <p:animEffect filter="dissolve" transition="in">
                                      <p:cBhvr additive="repl">
                                        <p:cTn id="533" dur="500"/>
                                        <p:tgtEl>
                                          <p:spTgt spid="59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595"/>
                                        </p:tgtEl>
                                        <p:attrNameLst>
                                          <p:attrName>style.visibility</p:attrName>
                                        </p:attrNameLst>
                                      </p:cBhvr>
                                      <p:to>
                                        <p:strVal val="visible"/>
                                      </p:to>
                                    </p:set>
                                    <p:animEffect filter="dissolve" transition="in">
                                      <p:cBhvr additive="repl">
                                        <p:cTn id="53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1"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602" name=""/>
          <p:cNvSpPr/>
          <p:nvPr/>
        </p:nvSpPr>
        <p:spPr>
          <a:xfrm>
            <a:off x="3448080" y="1447920"/>
            <a:ext cx="230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603" name=""/>
          <p:cNvSpPr/>
          <p:nvPr/>
        </p:nvSpPr>
        <p:spPr>
          <a:xfrm>
            <a:off x="2895480" y="2286000"/>
            <a:ext cx="4496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t t = number of student tickets sold</a:t>
            </a:r>
            <a:endParaRPr b="0" lang="en-US" sz="3600" spc="-1" strike="noStrike">
              <a:solidFill>
                <a:srgbClr val="000000"/>
              </a:solidFill>
              <a:latin typeface="Times New Roman"/>
            </a:endParaRPr>
          </a:p>
        </p:txBody>
      </p:sp>
      <p:sp>
        <p:nvSpPr>
          <p:cNvPr id="604" name=""/>
          <p:cNvSpPr/>
          <p:nvPr/>
        </p:nvSpPr>
        <p:spPr>
          <a:xfrm>
            <a:off x="2895480" y="3610080"/>
            <a:ext cx="567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tal received = student money + adult money</a:t>
            </a:r>
            <a:endParaRPr b="0" lang="en-US" sz="3600" spc="-1" strike="noStrike">
              <a:solidFill>
                <a:srgbClr val="000000"/>
              </a:solidFill>
              <a:latin typeface="Times New Roman"/>
            </a:endParaRPr>
          </a:p>
        </p:txBody>
      </p:sp>
      <p:sp>
        <p:nvSpPr>
          <p:cNvPr id="605" name=""/>
          <p:cNvSpPr/>
          <p:nvPr/>
        </p:nvSpPr>
        <p:spPr>
          <a:xfrm>
            <a:off x="1371600" y="556272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00</a:t>
            </a:r>
            <a:endParaRPr b="0" lang="en-US" sz="3600" spc="-1" strike="noStrike">
              <a:solidFill>
                <a:srgbClr val="000000"/>
              </a:solidFill>
              <a:latin typeface="Times New Roman"/>
            </a:endParaRPr>
          </a:p>
        </p:txBody>
      </p:sp>
      <p:sp>
        <p:nvSpPr>
          <p:cNvPr id="606" name=""/>
          <p:cNvSpPr/>
          <p:nvPr/>
        </p:nvSpPr>
        <p:spPr>
          <a:xfrm>
            <a:off x="2895480" y="556272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5t</a:t>
            </a:r>
            <a:endParaRPr b="0" lang="en-US" sz="3600" spc="-1" strike="noStrike">
              <a:solidFill>
                <a:srgbClr val="000000"/>
              </a:solidFill>
              <a:latin typeface="Times New Roman"/>
            </a:endParaRPr>
          </a:p>
        </p:txBody>
      </p:sp>
      <p:sp>
        <p:nvSpPr>
          <p:cNvPr id="607" name=""/>
          <p:cNvSpPr/>
          <p:nvPr/>
        </p:nvSpPr>
        <p:spPr>
          <a:xfrm>
            <a:off x="4724280" y="5562720"/>
            <a:ext cx="388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2.50(788 – t)</a:t>
            </a:r>
            <a:endParaRPr b="0" lang="en-US" sz="3600" spc="-1" strike="noStrike">
              <a:solidFill>
                <a:srgbClr val="000000"/>
              </a:solidFill>
              <a:latin typeface="Times New Roman"/>
            </a:endParaRPr>
          </a:p>
        </p:txBody>
      </p:sp>
      <p:sp>
        <p:nvSpPr>
          <p:cNvPr id="608" name=""/>
          <p:cNvSpPr/>
          <p:nvPr/>
        </p:nvSpPr>
        <p:spPr>
          <a:xfrm>
            <a:off x="758880" y="3352680"/>
            <a:ext cx="166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 t tickets</a:t>
            </a:r>
            <a:endParaRPr b="0" lang="en-US" sz="2800" spc="-1" strike="noStrike">
              <a:solidFill>
                <a:srgbClr val="000000"/>
              </a:solidFill>
              <a:latin typeface="Times New Roman"/>
            </a:endParaRPr>
          </a:p>
        </p:txBody>
      </p:sp>
      <p:grpSp>
        <p:nvGrpSpPr>
          <p:cNvPr id="609" name=""/>
          <p:cNvGrpSpPr/>
          <p:nvPr/>
        </p:nvGrpSpPr>
        <p:grpSpPr>
          <a:xfrm>
            <a:off x="457200" y="1905120"/>
            <a:ext cx="2263680" cy="3537720"/>
            <a:chOff x="457200" y="1905120"/>
            <a:chExt cx="2263680" cy="3537720"/>
          </a:xfrm>
        </p:grpSpPr>
        <p:sp>
          <p:nvSpPr>
            <p:cNvPr id="610" name=""/>
            <p:cNvSpPr/>
            <p:nvPr/>
          </p:nvSpPr>
          <p:spPr>
            <a:xfrm>
              <a:off x="636480" y="1905120"/>
              <a:ext cx="1904400" cy="259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09480" y="3124080"/>
              <a:ext cx="190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58520" y="2057400"/>
              <a:ext cx="166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  tickets</a:t>
              </a:r>
              <a:endParaRPr b="0" lang="en-US" sz="2800" spc="-1" strike="noStrike">
                <a:solidFill>
                  <a:srgbClr val="000000"/>
                </a:solidFill>
                <a:latin typeface="Times New Roman"/>
              </a:endParaRPr>
            </a:p>
          </p:txBody>
        </p:sp>
        <p:sp>
          <p:nvSpPr>
            <p:cNvPr id="613" name=""/>
            <p:cNvSpPr/>
            <p:nvPr/>
          </p:nvSpPr>
          <p:spPr>
            <a:xfrm>
              <a:off x="457200" y="4495680"/>
              <a:ext cx="2263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tickets $1400</a:t>
              </a:r>
              <a:endParaRPr b="0" lang="en-US" sz="2800" spc="-1" strike="noStrike">
                <a:solidFill>
                  <a:srgbClr val="000000"/>
                </a:solidFill>
                <a:latin typeface="Times New Roman"/>
              </a:endParaRPr>
            </a:p>
          </p:txBody>
        </p:sp>
      </p:grpSp>
    </p:spTree>
  </p:cSld>
  <p:transition>
    <p:dissolve/>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8" presetSubtype="6">
                                  <p:stCondLst>
                                    <p:cond delay="0"/>
                                  </p:stCondLst>
                                  <p:childTnLst>
                                    <p:set>
                                      <p:cBhvr>
                                        <p:cTn id="544" dur="1" fill="hold">
                                          <p:stCondLst>
                                            <p:cond delay="0"/>
                                          </p:stCondLst>
                                        </p:cTn>
                                        <p:tgtEl>
                                          <p:spTgt spid="603"/>
                                        </p:tgtEl>
                                        <p:attrNameLst>
                                          <p:attrName>style.visibility</p:attrName>
                                        </p:attrNameLst>
                                      </p:cBhvr>
                                      <p:to>
                                        <p:strVal val="visible"/>
                                      </p:to>
                                    </p:set>
                                    <p:animEffect filter="strips(downRight)" transition="in">
                                      <p:cBhvr additive="repl">
                                        <p:cTn id="545" dur="500"/>
                                        <p:tgtEl>
                                          <p:spTgt spid="60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608"/>
                                        </p:tgtEl>
                                        <p:attrNameLst>
                                          <p:attrName>style.visibility</p:attrName>
                                        </p:attrNameLst>
                                      </p:cBhvr>
                                      <p:to>
                                        <p:strVal val="visible"/>
                                      </p:to>
                                    </p:set>
                                    <p:animEffect filter="dissolve" transition="in">
                                      <p:cBhvr additive="repl">
                                        <p:cTn id="550" dur="500"/>
                                        <p:tgtEl>
                                          <p:spTgt spid="60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8" presetSubtype="6">
                                  <p:stCondLst>
                                    <p:cond delay="0"/>
                                  </p:stCondLst>
                                  <p:childTnLst>
                                    <p:set>
                                      <p:cBhvr>
                                        <p:cTn id="554" dur="1" fill="hold">
                                          <p:stCondLst>
                                            <p:cond delay="0"/>
                                          </p:stCondLst>
                                        </p:cTn>
                                        <p:tgtEl>
                                          <p:spTgt spid="604"/>
                                        </p:tgtEl>
                                        <p:attrNameLst>
                                          <p:attrName>style.visibility</p:attrName>
                                        </p:attrNameLst>
                                      </p:cBhvr>
                                      <p:to>
                                        <p:strVal val="visible"/>
                                      </p:to>
                                    </p:set>
                                    <p:animEffect filter="strips(downRight)" transition="in">
                                      <p:cBhvr additive="repl">
                                        <p:cTn id="555" dur="500"/>
                                        <p:tgtEl>
                                          <p:spTgt spid="604"/>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8" presetSubtype="6">
                                  <p:stCondLst>
                                    <p:cond delay="0"/>
                                  </p:stCondLst>
                                  <p:childTnLst>
                                    <p:set>
                                      <p:cBhvr>
                                        <p:cTn id="559" dur="1" fill="hold">
                                          <p:stCondLst>
                                            <p:cond delay="0"/>
                                          </p:stCondLst>
                                        </p:cTn>
                                        <p:tgtEl>
                                          <p:spTgt spid="605"/>
                                        </p:tgtEl>
                                        <p:attrNameLst>
                                          <p:attrName>style.visibility</p:attrName>
                                        </p:attrNameLst>
                                      </p:cBhvr>
                                      <p:to>
                                        <p:strVal val="visible"/>
                                      </p:to>
                                    </p:set>
                                    <p:animEffect filter="strips(downRight)" transition="in">
                                      <p:cBhvr additive="repl">
                                        <p:cTn id="560" dur="500"/>
                                        <p:tgtEl>
                                          <p:spTgt spid="605"/>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8" presetSubtype="6">
                                  <p:stCondLst>
                                    <p:cond delay="0"/>
                                  </p:stCondLst>
                                  <p:childTnLst>
                                    <p:set>
                                      <p:cBhvr>
                                        <p:cTn id="564" dur="1" fill="hold">
                                          <p:stCondLst>
                                            <p:cond delay="0"/>
                                          </p:stCondLst>
                                        </p:cTn>
                                        <p:tgtEl>
                                          <p:spTgt spid="606"/>
                                        </p:tgtEl>
                                        <p:attrNameLst>
                                          <p:attrName>style.visibility</p:attrName>
                                        </p:attrNameLst>
                                      </p:cBhvr>
                                      <p:to>
                                        <p:strVal val="visible"/>
                                      </p:to>
                                    </p:set>
                                    <p:animEffect filter="strips(downRight)" transition="in">
                                      <p:cBhvr additive="repl">
                                        <p:cTn id="565" dur="500"/>
                                        <p:tgtEl>
                                          <p:spTgt spid="60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8" presetSubtype="6">
                                  <p:stCondLst>
                                    <p:cond delay="0"/>
                                  </p:stCondLst>
                                  <p:childTnLst>
                                    <p:set>
                                      <p:cBhvr>
                                        <p:cTn id="569" dur="1" fill="hold">
                                          <p:stCondLst>
                                            <p:cond delay="0"/>
                                          </p:stCondLst>
                                        </p:cTn>
                                        <p:tgtEl>
                                          <p:spTgt spid="607"/>
                                        </p:tgtEl>
                                        <p:attrNameLst>
                                          <p:attrName>style.visibility</p:attrName>
                                        </p:attrNameLst>
                                      </p:cBhvr>
                                      <p:to>
                                        <p:strVal val="visible"/>
                                      </p:to>
                                    </p:set>
                                    <p:animEffect filter="strips(downRight)" transition="in">
                                      <p:cBhvr additive="repl">
                                        <p:cTn id="570"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4"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615" name=""/>
          <p:cNvSpPr/>
          <p:nvPr/>
        </p:nvSpPr>
        <p:spPr>
          <a:xfrm>
            <a:off x="2405160" y="1447920"/>
            <a:ext cx="635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00 = 1.25t + 2.50(788 – t)</a:t>
            </a:r>
            <a:endParaRPr b="0" lang="en-US" sz="3600" spc="-1" strike="noStrike">
              <a:solidFill>
                <a:srgbClr val="000000"/>
              </a:solidFill>
              <a:latin typeface="Times New Roman"/>
            </a:endParaRPr>
          </a:p>
        </p:txBody>
      </p:sp>
      <p:sp>
        <p:nvSpPr>
          <p:cNvPr id="616" name=""/>
          <p:cNvSpPr/>
          <p:nvPr/>
        </p:nvSpPr>
        <p:spPr>
          <a:xfrm>
            <a:off x="2438280" y="220968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5t + (2.50)(788) – 2.50t</a:t>
            </a:r>
            <a:endParaRPr b="0" lang="en-US" sz="3600" spc="-1" strike="noStrike">
              <a:solidFill>
                <a:srgbClr val="000000"/>
              </a:solidFill>
              <a:latin typeface="Times New Roman"/>
            </a:endParaRPr>
          </a:p>
        </p:txBody>
      </p:sp>
      <p:sp>
        <p:nvSpPr>
          <p:cNvPr id="617" name=""/>
          <p:cNvSpPr/>
          <p:nvPr/>
        </p:nvSpPr>
        <p:spPr>
          <a:xfrm>
            <a:off x="3251160" y="2971800"/>
            <a:ext cx="484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5t + 1970 – 2.50t</a:t>
            </a:r>
            <a:endParaRPr b="0" lang="en-US" sz="3600" spc="-1" strike="noStrike">
              <a:solidFill>
                <a:srgbClr val="000000"/>
              </a:solidFill>
              <a:latin typeface="Times New Roman"/>
            </a:endParaRPr>
          </a:p>
        </p:txBody>
      </p:sp>
      <p:sp>
        <p:nvSpPr>
          <p:cNvPr id="618" name=""/>
          <p:cNvSpPr/>
          <p:nvPr/>
        </p:nvSpPr>
        <p:spPr>
          <a:xfrm>
            <a:off x="758880" y="3352680"/>
            <a:ext cx="166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 t tickets</a:t>
            </a:r>
            <a:endParaRPr b="0" lang="en-US" sz="2800" spc="-1" strike="noStrike">
              <a:solidFill>
                <a:srgbClr val="000000"/>
              </a:solidFill>
              <a:latin typeface="Times New Roman"/>
            </a:endParaRPr>
          </a:p>
        </p:txBody>
      </p:sp>
      <p:grpSp>
        <p:nvGrpSpPr>
          <p:cNvPr id="619" name=""/>
          <p:cNvGrpSpPr/>
          <p:nvPr/>
        </p:nvGrpSpPr>
        <p:grpSpPr>
          <a:xfrm>
            <a:off x="457200" y="1905120"/>
            <a:ext cx="2263680" cy="3537720"/>
            <a:chOff x="457200" y="1905120"/>
            <a:chExt cx="2263680" cy="3537720"/>
          </a:xfrm>
        </p:grpSpPr>
        <p:sp>
          <p:nvSpPr>
            <p:cNvPr id="620" name=""/>
            <p:cNvSpPr/>
            <p:nvPr/>
          </p:nvSpPr>
          <p:spPr>
            <a:xfrm>
              <a:off x="636480" y="1905120"/>
              <a:ext cx="1904400" cy="259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9480" y="3124080"/>
              <a:ext cx="190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58520" y="2057400"/>
              <a:ext cx="166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  tickets</a:t>
              </a:r>
              <a:endParaRPr b="0" lang="en-US" sz="2800" spc="-1" strike="noStrike">
                <a:solidFill>
                  <a:srgbClr val="000000"/>
                </a:solidFill>
                <a:latin typeface="Times New Roman"/>
              </a:endParaRPr>
            </a:p>
          </p:txBody>
        </p:sp>
        <p:sp>
          <p:nvSpPr>
            <p:cNvPr id="623" name=""/>
            <p:cNvSpPr/>
            <p:nvPr/>
          </p:nvSpPr>
          <p:spPr>
            <a:xfrm>
              <a:off x="457200" y="4495680"/>
              <a:ext cx="2263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tickets $1400</a:t>
              </a:r>
              <a:endParaRPr b="0" lang="en-US" sz="2800" spc="-1" strike="noStrike">
                <a:solidFill>
                  <a:srgbClr val="000000"/>
                </a:solidFill>
                <a:latin typeface="Times New Roman"/>
              </a:endParaRPr>
            </a:p>
          </p:txBody>
        </p:sp>
      </p:grpSp>
      <p:sp>
        <p:nvSpPr>
          <p:cNvPr id="624" name=""/>
          <p:cNvSpPr/>
          <p:nvPr/>
        </p:nvSpPr>
        <p:spPr>
          <a:xfrm>
            <a:off x="3505320" y="512136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70 = -1.25t</a:t>
            </a:r>
            <a:endParaRPr b="0" lang="en-US" sz="3600" spc="-1" strike="noStrike">
              <a:solidFill>
                <a:srgbClr val="000000"/>
              </a:solidFill>
              <a:latin typeface="Times New Roman"/>
            </a:endParaRPr>
          </a:p>
        </p:txBody>
      </p:sp>
      <p:sp>
        <p:nvSpPr>
          <p:cNvPr id="625" name=""/>
          <p:cNvSpPr/>
          <p:nvPr/>
        </p:nvSpPr>
        <p:spPr>
          <a:xfrm>
            <a:off x="3467160" y="3733920"/>
            <a:ext cx="441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00 = 1970 – 1.25t</a:t>
            </a:r>
            <a:endParaRPr b="0" lang="en-US" sz="3600" spc="-1" strike="noStrike">
              <a:solidFill>
                <a:srgbClr val="000000"/>
              </a:solidFill>
              <a:latin typeface="Times New Roman"/>
            </a:endParaRPr>
          </a:p>
        </p:txBody>
      </p:sp>
      <p:grpSp>
        <p:nvGrpSpPr>
          <p:cNvPr id="626" name=""/>
          <p:cNvGrpSpPr/>
          <p:nvPr/>
        </p:nvGrpSpPr>
        <p:grpSpPr>
          <a:xfrm>
            <a:off x="3162240" y="4343400"/>
            <a:ext cx="4724640" cy="642600"/>
            <a:chOff x="3162240" y="4343400"/>
            <a:chExt cx="4724640" cy="642600"/>
          </a:xfrm>
        </p:grpSpPr>
        <p:sp>
          <p:nvSpPr>
            <p:cNvPr id="627" name=""/>
            <p:cNvSpPr/>
            <p:nvPr/>
          </p:nvSpPr>
          <p:spPr>
            <a:xfrm>
              <a:off x="3162240" y="4343400"/>
              <a:ext cx="39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970  - 1970</a:t>
              </a:r>
              <a:endParaRPr b="0" lang="en-US" sz="3600" spc="-1" strike="noStrike">
                <a:solidFill>
                  <a:srgbClr val="000000"/>
                </a:solidFill>
                <a:latin typeface="Times New Roman"/>
              </a:endParaRPr>
            </a:p>
          </p:txBody>
        </p:sp>
        <p:sp>
          <p:nvSpPr>
            <p:cNvPr id="628" name=""/>
            <p:cNvSpPr/>
            <p:nvPr/>
          </p:nvSpPr>
          <p:spPr>
            <a:xfrm>
              <a:off x="3162240" y="4984920"/>
              <a:ext cx="472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r"/>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8" presetSubtype="6">
                                  <p:stCondLst>
                                    <p:cond delay="0"/>
                                  </p:stCondLst>
                                  <p:childTnLst>
                                    <p:set>
                                      <p:cBhvr>
                                        <p:cTn id="576" dur="1" fill="hold">
                                          <p:stCondLst>
                                            <p:cond delay="0"/>
                                          </p:stCondLst>
                                        </p:cTn>
                                        <p:tgtEl>
                                          <p:spTgt spid="616"/>
                                        </p:tgtEl>
                                        <p:attrNameLst>
                                          <p:attrName>style.visibility</p:attrName>
                                        </p:attrNameLst>
                                      </p:cBhvr>
                                      <p:to>
                                        <p:strVal val="visible"/>
                                      </p:to>
                                    </p:set>
                                    <p:animEffect filter="strips(downRight)" transition="in">
                                      <p:cBhvr additive="repl">
                                        <p:cTn id="577" dur="500"/>
                                        <p:tgtEl>
                                          <p:spTgt spid="61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6">
                                  <p:stCondLst>
                                    <p:cond delay="0"/>
                                  </p:stCondLst>
                                  <p:childTnLst>
                                    <p:set>
                                      <p:cBhvr>
                                        <p:cTn id="581" dur="1" fill="hold">
                                          <p:stCondLst>
                                            <p:cond delay="0"/>
                                          </p:stCondLst>
                                        </p:cTn>
                                        <p:tgtEl>
                                          <p:spTgt spid="617"/>
                                        </p:tgtEl>
                                        <p:attrNameLst>
                                          <p:attrName>style.visibility</p:attrName>
                                        </p:attrNameLst>
                                      </p:cBhvr>
                                      <p:to>
                                        <p:strVal val="visible"/>
                                      </p:to>
                                    </p:set>
                                    <p:animEffect filter="strips(downRight)" transition="in">
                                      <p:cBhvr additive="repl">
                                        <p:cTn id="582" dur="500"/>
                                        <p:tgtEl>
                                          <p:spTgt spid="617"/>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6">
                                  <p:stCondLst>
                                    <p:cond delay="0"/>
                                  </p:stCondLst>
                                  <p:childTnLst>
                                    <p:set>
                                      <p:cBhvr>
                                        <p:cTn id="586" dur="1" fill="hold">
                                          <p:stCondLst>
                                            <p:cond delay="0"/>
                                          </p:stCondLst>
                                        </p:cTn>
                                        <p:tgtEl>
                                          <p:spTgt spid="625"/>
                                        </p:tgtEl>
                                        <p:attrNameLst>
                                          <p:attrName>style.visibility</p:attrName>
                                        </p:attrNameLst>
                                      </p:cBhvr>
                                      <p:to>
                                        <p:strVal val="visible"/>
                                      </p:to>
                                    </p:set>
                                    <p:animEffect filter="strips(downRight)" transition="in">
                                      <p:cBhvr additive="repl">
                                        <p:cTn id="587" dur="500"/>
                                        <p:tgtEl>
                                          <p:spTgt spid="62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6">
                                  <p:stCondLst>
                                    <p:cond delay="0"/>
                                  </p:stCondLst>
                                  <p:childTnLst>
                                    <p:set>
                                      <p:cBhvr>
                                        <p:cTn id="591" dur="1" fill="hold">
                                          <p:stCondLst>
                                            <p:cond delay="0"/>
                                          </p:stCondLst>
                                        </p:cTn>
                                        <p:tgtEl>
                                          <p:spTgt spid="626"/>
                                        </p:tgtEl>
                                        <p:attrNameLst>
                                          <p:attrName>style.visibility</p:attrName>
                                        </p:attrNameLst>
                                      </p:cBhvr>
                                      <p:to>
                                        <p:strVal val="visible"/>
                                      </p:to>
                                    </p:set>
                                    <p:animEffect filter="strips(downRight)" transition="in">
                                      <p:cBhvr additive="repl">
                                        <p:cTn id="592" dur="500"/>
                                        <p:tgtEl>
                                          <p:spTgt spid="62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6">
                                  <p:stCondLst>
                                    <p:cond delay="0"/>
                                  </p:stCondLst>
                                  <p:childTnLst>
                                    <p:set>
                                      <p:cBhvr>
                                        <p:cTn id="596" dur="1" fill="hold">
                                          <p:stCondLst>
                                            <p:cond delay="0"/>
                                          </p:stCondLst>
                                        </p:cTn>
                                        <p:tgtEl>
                                          <p:spTgt spid="624"/>
                                        </p:tgtEl>
                                        <p:attrNameLst>
                                          <p:attrName>style.visibility</p:attrName>
                                        </p:attrNameLst>
                                      </p:cBhvr>
                                      <p:to>
                                        <p:strVal val="visible"/>
                                      </p:to>
                                    </p:set>
                                    <p:animEffect filter="strips(downRight)" transition="in">
                                      <p:cBhvr additive="repl">
                                        <p:cTn id="597"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29"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630" name=""/>
          <p:cNvSpPr/>
          <p:nvPr/>
        </p:nvSpPr>
        <p:spPr>
          <a:xfrm>
            <a:off x="3090960" y="1447920"/>
            <a:ext cx="300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70 = -1.25t</a:t>
            </a:r>
            <a:endParaRPr b="0" lang="en-US" sz="3600" spc="-1" strike="noStrike">
              <a:solidFill>
                <a:srgbClr val="000000"/>
              </a:solidFill>
              <a:latin typeface="Times New Roman"/>
            </a:endParaRPr>
          </a:p>
        </p:txBody>
      </p:sp>
      <p:sp>
        <p:nvSpPr>
          <p:cNvPr id="631" name=""/>
          <p:cNvSpPr/>
          <p:nvPr/>
        </p:nvSpPr>
        <p:spPr>
          <a:xfrm>
            <a:off x="2514600" y="2209680"/>
            <a:ext cx="624852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Take opposites of both sides</a:t>
            </a:r>
            <a:endParaRPr b="0" lang="en-US" sz="3500" spc="-1" strike="noStrike">
              <a:solidFill>
                <a:srgbClr val="000000"/>
              </a:solidFill>
              <a:latin typeface="Times New Roman"/>
            </a:endParaRPr>
          </a:p>
        </p:txBody>
      </p:sp>
      <p:sp>
        <p:nvSpPr>
          <p:cNvPr id="632" name=""/>
          <p:cNvSpPr/>
          <p:nvPr/>
        </p:nvSpPr>
        <p:spPr>
          <a:xfrm>
            <a:off x="4216320" y="2971800"/>
            <a:ext cx="284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70 = 1.25t</a:t>
            </a:r>
            <a:endParaRPr b="0" lang="en-US" sz="3600" spc="-1" strike="noStrike">
              <a:solidFill>
                <a:srgbClr val="000000"/>
              </a:solidFill>
              <a:latin typeface="Times New Roman"/>
            </a:endParaRPr>
          </a:p>
        </p:txBody>
      </p:sp>
      <p:sp>
        <p:nvSpPr>
          <p:cNvPr id="633" name=""/>
          <p:cNvSpPr/>
          <p:nvPr/>
        </p:nvSpPr>
        <p:spPr>
          <a:xfrm>
            <a:off x="758880" y="3352680"/>
            <a:ext cx="166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 t tickets</a:t>
            </a:r>
            <a:endParaRPr b="0" lang="en-US" sz="2800" spc="-1" strike="noStrike">
              <a:solidFill>
                <a:srgbClr val="000000"/>
              </a:solidFill>
              <a:latin typeface="Times New Roman"/>
            </a:endParaRPr>
          </a:p>
        </p:txBody>
      </p:sp>
      <p:grpSp>
        <p:nvGrpSpPr>
          <p:cNvPr id="634" name=""/>
          <p:cNvGrpSpPr/>
          <p:nvPr/>
        </p:nvGrpSpPr>
        <p:grpSpPr>
          <a:xfrm>
            <a:off x="457200" y="1905120"/>
            <a:ext cx="2263680" cy="3537720"/>
            <a:chOff x="457200" y="1905120"/>
            <a:chExt cx="2263680" cy="3537720"/>
          </a:xfrm>
        </p:grpSpPr>
        <p:sp>
          <p:nvSpPr>
            <p:cNvPr id="635" name=""/>
            <p:cNvSpPr/>
            <p:nvPr/>
          </p:nvSpPr>
          <p:spPr>
            <a:xfrm>
              <a:off x="636480" y="1905120"/>
              <a:ext cx="1904400" cy="259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09480" y="3124080"/>
              <a:ext cx="190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58520" y="2057400"/>
              <a:ext cx="166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  tickets</a:t>
              </a:r>
              <a:endParaRPr b="0" lang="en-US" sz="2800" spc="-1" strike="noStrike">
                <a:solidFill>
                  <a:srgbClr val="000000"/>
                </a:solidFill>
                <a:latin typeface="Times New Roman"/>
              </a:endParaRPr>
            </a:p>
          </p:txBody>
        </p:sp>
        <p:sp>
          <p:nvSpPr>
            <p:cNvPr id="638" name=""/>
            <p:cNvSpPr/>
            <p:nvPr/>
          </p:nvSpPr>
          <p:spPr>
            <a:xfrm>
              <a:off x="457200" y="4495680"/>
              <a:ext cx="2263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tickets $1400</a:t>
              </a:r>
              <a:endParaRPr b="0" lang="en-US" sz="2800" spc="-1" strike="noStrike">
                <a:solidFill>
                  <a:srgbClr val="000000"/>
                </a:solidFill>
                <a:latin typeface="Times New Roman"/>
              </a:endParaRPr>
            </a:p>
          </p:txBody>
        </p:sp>
      </p:grpSp>
      <p:grpSp>
        <p:nvGrpSpPr>
          <p:cNvPr id="639" name=""/>
          <p:cNvGrpSpPr/>
          <p:nvPr/>
        </p:nvGrpSpPr>
        <p:grpSpPr>
          <a:xfrm>
            <a:off x="4216320" y="3581280"/>
            <a:ext cx="2768760" cy="642600"/>
            <a:chOff x="4216320" y="3581280"/>
            <a:chExt cx="2768760" cy="642600"/>
          </a:xfrm>
        </p:grpSpPr>
        <p:sp>
          <p:nvSpPr>
            <p:cNvPr id="640" name=""/>
            <p:cNvSpPr/>
            <p:nvPr/>
          </p:nvSpPr>
          <p:spPr>
            <a:xfrm>
              <a:off x="4257720" y="3581280"/>
              <a:ext cx="10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5</a:t>
              </a:r>
              <a:endParaRPr b="0" lang="en-US" sz="3600" spc="-1" strike="noStrike">
                <a:solidFill>
                  <a:srgbClr val="000000"/>
                </a:solidFill>
                <a:latin typeface="Times New Roman"/>
              </a:endParaRPr>
            </a:p>
          </p:txBody>
        </p:sp>
        <p:sp>
          <p:nvSpPr>
            <p:cNvPr id="641" name=""/>
            <p:cNvSpPr/>
            <p:nvPr/>
          </p:nvSpPr>
          <p:spPr>
            <a:xfrm>
              <a:off x="4216320" y="3581280"/>
              <a:ext cx="111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781600" y="3581280"/>
              <a:ext cx="108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5</a:t>
              </a:r>
              <a:endParaRPr b="0" lang="en-US" sz="3600" spc="-1" strike="noStrike">
                <a:solidFill>
                  <a:srgbClr val="000000"/>
                </a:solidFill>
                <a:latin typeface="Times New Roman"/>
              </a:endParaRPr>
            </a:p>
          </p:txBody>
        </p:sp>
        <p:sp>
          <p:nvSpPr>
            <p:cNvPr id="643" name=""/>
            <p:cNvSpPr/>
            <p:nvPr/>
          </p:nvSpPr>
          <p:spPr>
            <a:xfrm>
              <a:off x="5638680" y="3581280"/>
              <a:ext cx="1346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
          <p:cNvSpPr/>
          <p:nvPr/>
        </p:nvSpPr>
        <p:spPr>
          <a:xfrm>
            <a:off x="4686480" y="4387680"/>
            <a:ext cx="1904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456</a:t>
            </a:r>
            <a:r>
              <a:rPr b="0" lang="en-US" sz="3600" spc="-1" strike="noStrike">
                <a:solidFill>
                  <a:srgbClr val="000000"/>
                </a:solidFill>
                <a:latin typeface="Comic Sans MS"/>
              </a:rPr>
              <a:t> = t</a:t>
            </a:r>
            <a:endParaRPr b="0" lang="en-US" sz="3600" spc="-1" strike="noStrike">
              <a:solidFill>
                <a:srgbClr val="000000"/>
              </a:solidFill>
              <a:latin typeface="Times New Roman"/>
            </a:endParaRPr>
          </a:p>
        </p:txBody>
      </p:sp>
      <p:sp>
        <p:nvSpPr>
          <p:cNvPr id="645" name=""/>
          <p:cNvSpPr/>
          <p:nvPr/>
        </p:nvSpPr>
        <p:spPr>
          <a:xfrm>
            <a:off x="3379680" y="5149800"/>
            <a:ext cx="451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456</a:t>
            </a:r>
            <a:r>
              <a:rPr b="0" lang="en-US" sz="3600" spc="-1" strike="noStrike">
                <a:solidFill>
                  <a:srgbClr val="000000"/>
                </a:solidFill>
                <a:latin typeface="Comic Sans MS"/>
              </a:rPr>
              <a:t> student tickets</a:t>
            </a:r>
            <a:endParaRPr b="0" lang="en-US" sz="3600" spc="-1" strike="noStrike">
              <a:solidFill>
                <a:srgbClr val="000000"/>
              </a:solidFill>
              <a:latin typeface="Times New Roman"/>
            </a:endParaRPr>
          </a:p>
        </p:txBody>
      </p:sp>
    </p:spTree>
  </p:cSld>
  <p:transition>
    <p:wipe dir="r"/>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6">
                                  <p:stCondLst>
                                    <p:cond delay="0"/>
                                  </p:stCondLst>
                                  <p:childTnLst>
                                    <p:set>
                                      <p:cBhvr>
                                        <p:cTn id="603" dur="1" fill="hold">
                                          <p:stCondLst>
                                            <p:cond delay="0"/>
                                          </p:stCondLst>
                                        </p:cTn>
                                        <p:tgtEl>
                                          <p:spTgt spid="631"/>
                                        </p:tgtEl>
                                        <p:attrNameLst>
                                          <p:attrName>style.visibility</p:attrName>
                                        </p:attrNameLst>
                                      </p:cBhvr>
                                      <p:to>
                                        <p:strVal val="visible"/>
                                      </p:to>
                                    </p:set>
                                    <p:animEffect filter="strips(downRight)" transition="in">
                                      <p:cBhvr additive="repl">
                                        <p:cTn id="604" dur="500"/>
                                        <p:tgtEl>
                                          <p:spTgt spid="631"/>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8" presetSubtype="6">
                                  <p:stCondLst>
                                    <p:cond delay="0"/>
                                  </p:stCondLst>
                                  <p:childTnLst>
                                    <p:set>
                                      <p:cBhvr>
                                        <p:cTn id="608" dur="1" fill="hold">
                                          <p:stCondLst>
                                            <p:cond delay="0"/>
                                          </p:stCondLst>
                                        </p:cTn>
                                        <p:tgtEl>
                                          <p:spTgt spid="632"/>
                                        </p:tgtEl>
                                        <p:attrNameLst>
                                          <p:attrName>style.visibility</p:attrName>
                                        </p:attrNameLst>
                                      </p:cBhvr>
                                      <p:to>
                                        <p:strVal val="visible"/>
                                      </p:to>
                                    </p:set>
                                    <p:animEffect filter="strips(downRight)" transition="in">
                                      <p:cBhvr additive="repl">
                                        <p:cTn id="609" dur="500"/>
                                        <p:tgtEl>
                                          <p:spTgt spid="63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8" presetSubtype="6">
                                  <p:stCondLst>
                                    <p:cond delay="0"/>
                                  </p:stCondLst>
                                  <p:childTnLst>
                                    <p:set>
                                      <p:cBhvr>
                                        <p:cTn id="613" dur="1" fill="hold">
                                          <p:stCondLst>
                                            <p:cond delay="0"/>
                                          </p:stCondLst>
                                        </p:cTn>
                                        <p:tgtEl>
                                          <p:spTgt spid="639"/>
                                        </p:tgtEl>
                                        <p:attrNameLst>
                                          <p:attrName>style.visibility</p:attrName>
                                        </p:attrNameLst>
                                      </p:cBhvr>
                                      <p:to>
                                        <p:strVal val="visible"/>
                                      </p:to>
                                    </p:set>
                                    <p:animEffect filter="strips(downRight)" transition="in">
                                      <p:cBhvr additive="repl">
                                        <p:cTn id="614" dur="500"/>
                                        <p:tgtEl>
                                          <p:spTgt spid="639"/>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3" presetSubtype="16">
                                  <p:stCondLst>
                                    <p:cond delay="0"/>
                                  </p:stCondLst>
                                  <p:childTnLst>
                                    <p:set>
                                      <p:cBhvr>
                                        <p:cTn id="618" dur="1" fill="hold">
                                          <p:stCondLst>
                                            <p:cond delay="0"/>
                                          </p:stCondLst>
                                        </p:cTn>
                                        <p:tgtEl>
                                          <p:spTgt spid="644"/>
                                        </p:tgtEl>
                                        <p:attrNameLst>
                                          <p:attrName>style.visibility</p:attrName>
                                        </p:attrNameLst>
                                      </p:cBhvr>
                                      <p:to>
                                        <p:strVal val="visible"/>
                                      </p:to>
                                    </p:set>
                                    <p:anim calcmode="lin" valueType="num">
                                      <p:cBhvr additive="repl">
                                        <p:cTn id="619" dur="500" fill="hold"/>
                                        <p:tgtEl>
                                          <p:spTgt spid="644"/>
                                        </p:tgtEl>
                                        <p:attrNameLst>
                                          <p:attrName>ppt_w</p:attrName>
                                        </p:attrNameLst>
                                      </p:cBhvr>
                                      <p:tavLst>
                                        <p:tav tm="0">
                                          <p:val>
                                            <p:fltVal val="0"/>
                                          </p:val>
                                        </p:tav>
                                        <p:tav tm="100000">
                                          <p:val>
                                            <p:strVal val="#ppt_w"/>
                                          </p:val>
                                        </p:tav>
                                      </p:tavLst>
                                    </p:anim>
                                    <p:anim calcmode="lin" valueType="num">
                                      <p:cBhvr additive="repl">
                                        <p:cTn id="620" dur="500" fill="hold"/>
                                        <p:tgtEl>
                                          <p:spTgt spid="644"/>
                                        </p:tgtEl>
                                        <p:attrNameLst>
                                          <p:attrName>ppt_h</p:attrName>
                                        </p:attrNameLst>
                                      </p:cBhvr>
                                      <p:tavLst>
                                        <p:tav tm="0">
                                          <p:val>
                                            <p:fltVal val="0"/>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645"/>
                                        </p:tgtEl>
                                        <p:attrNameLst>
                                          <p:attrName>style.visibility</p:attrName>
                                        </p:attrNameLst>
                                      </p:cBhvr>
                                      <p:to>
                                        <p:strVal val="visible"/>
                                      </p:to>
                                    </p:set>
                                    <p:animEffect filter="dissolve" transition="in">
                                      <p:cBhvr additive="repl">
                                        <p:cTn id="625"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6"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647" name=""/>
          <p:cNvSpPr/>
          <p:nvPr/>
        </p:nvSpPr>
        <p:spPr>
          <a:xfrm>
            <a:off x="2514600" y="1447920"/>
            <a:ext cx="517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ult tickets = 788 - t</a:t>
            </a:r>
            <a:endParaRPr b="0" lang="en-US" sz="3600" spc="-1" strike="noStrike">
              <a:solidFill>
                <a:srgbClr val="000000"/>
              </a:solidFill>
              <a:latin typeface="Times New Roman"/>
            </a:endParaRPr>
          </a:p>
        </p:txBody>
      </p:sp>
      <p:sp>
        <p:nvSpPr>
          <p:cNvPr id="648" name=""/>
          <p:cNvSpPr/>
          <p:nvPr/>
        </p:nvSpPr>
        <p:spPr>
          <a:xfrm>
            <a:off x="3657600" y="2209680"/>
            <a:ext cx="281952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 788 - 456</a:t>
            </a:r>
            <a:endParaRPr b="0" lang="en-US" sz="3500" spc="-1" strike="noStrike">
              <a:solidFill>
                <a:srgbClr val="000000"/>
              </a:solidFill>
              <a:latin typeface="Times New Roman"/>
            </a:endParaRPr>
          </a:p>
        </p:txBody>
      </p:sp>
      <p:sp>
        <p:nvSpPr>
          <p:cNvPr id="649" name=""/>
          <p:cNvSpPr/>
          <p:nvPr/>
        </p:nvSpPr>
        <p:spPr>
          <a:xfrm>
            <a:off x="758880" y="3352680"/>
            <a:ext cx="1660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 t tickets</a:t>
            </a:r>
            <a:endParaRPr b="0" lang="en-US" sz="2800" spc="-1" strike="noStrike">
              <a:solidFill>
                <a:srgbClr val="000000"/>
              </a:solidFill>
              <a:latin typeface="Times New Roman"/>
            </a:endParaRPr>
          </a:p>
        </p:txBody>
      </p:sp>
      <p:grpSp>
        <p:nvGrpSpPr>
          <p:cNvPr id="650" name=""/>
          <p:cNvGrpSpPr/>
          <p:nvPr/>
        </p:nvGrpSpPr>
        <p:grpSpPr>
          <a:xfrm>
            <a:off x="457200" y="1905120"/>
            <a:ext cx="2263680" cy="3537720"/>
            <a:chOff x="457200" y="1905120"/>
            <a:chExt cx="2263680" cy="3537720"/>
          </a:xfrm>
        </p:grpSpPr>
        <p:sp>
          <p:nvSpPr>
            <p:cNvPr id="651" name=""/>
            <p:cNvSpPr/>
            <p:nvPr/>
          </p:nvSpPr>
          <p:spPr>
            <a:xfrm>
              <a:off x="636480" y="1905120"/>
              <a:ext cx="1904400" cy="259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09480" y="3124080"/>
              <a:ext cx="190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58520" y="2057400"/>
              <a:ext cx="166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  tickets</a:t>
              </a:r>
              <a:endParaRPr b="0" lang="en-US" sz="2800" spc="-1" strike="noStrike">
                <a:solidFill>
                  <a:srgbClr val="000000"/>
                </a:solidFill>
                <a:latin typeface="Times New Roman"/>
              </a:endParaRPr>
            </a:p>
          </p:txBody>
        </p:sp>
        <p:sp>
          <p:nvSpPr>
            <p:cNvPr id="654" name=""/>
            <p:cNvSpPr/>
            <p:nvPr/>
          </p:nvSpPr>
          <p:spPr>
            <a:xfrm>
              <a:off x="457200" y="4495680"/>
              <a:ext cx="2263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88 tickets $1400</a:t>
              </a:r>
              <a:endParaRPr b="0" lang="en-US" sz="2800" spc="-1" strike="noStrike">
                <a:solidFill>
                  <a:srgbClr val="000000"/>
                </a:solidFill>
                <a:latin typeface="Times New Roman"/>
              </a:endParaRPr>
            </a:p>
          </p:txBody>
        </p:sp>
      </p:grpSp>
      <p:sp>
        <p:nvSpPr>
          <p:cNvPr id="655" name=""/>
          <p:cNvSpPr/>
          <p:nvPr/>
        </p:nvSpPr>
        <p:spPr>
          <a:xfrm>
            <a:off x="3657600" y="2955960"/>
            <a:ext cx="160020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 </a:t>
            </a:r>
            <a:r>
              <a:rPr b="0" lang="en-US" sz="3500" spc="-1" strike="noStrike">
                <a:solidFill>
                  <a:srgbClr val="0000ff"/>
                </a:solidFill>
                <a:latin typeface="Comic Sans MS"/>
              </a:rPr>
              <a:t>322</a:t>
            </a:r>
            <a:endParaRPr b="0" lang="en-US" sz="3500" spc="-1" strike="noStrike">
              <a:solidFill>
                <a:srgbClr val="000000"/>
              </a:solidFill>
              <a:latin typeface="Times New Roman"/>
            </a:endParaRPr>
          </a:p>
        </p:txBody>
      </p:sp>
    </p:spTree>
  </p:cSld>
  <p:transition>
    <p:wipe dir="r"/>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8" presetSubtype="6">
                                  <p:stCondLst>
                                    <p:cond delay="0"/>
                                  </p:stCondLst>
                                  <p:childTnLst>
                                    <p:set>
                                      <p:cBhvr>
                                        <p:cTn id="631" dur="1" fill="hold">
                                          <p:stCondLst>
                                            <p:cond delay="0"/>
                                          </p:stCondLst>
                                        </p:cTn>
                                        <p:tgtEl>
                                          <p:spTgt spid="648"/>
                                        </p:tgtEl>
                                        <p:attrNameLst>
                                          <p:attrName>style.visibility</p:attrName>
                                        </p:attrNameLst>
                                      </p:cBhvr>
                                      <p:to>
                                        <p:strVal val="visible"/>
                                      </p:to>
                                    </p:set>
                                    <p:animEffect filter="strips(downRight)" transition="in">
                                      <p:cBhvr additive="repl">
                                        <p:cTn id="632" dur="500"/>
                                        <p:tgtEl>
                                          <p:spTgt spid="64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3" presetSubtype="16">
                                  <p:stCondLst>
                                    <p:cond delay="0"/>
                                  </p:stCondLst>
                                  <p:childTnLst>
                                    <p:set>
                                      <p:cBhvr>
                                        <p:cTn id="636" dur="1" fill="hold">
                                          <p:stCondLst>
                                            <p:cond delay="0"/>
                                          </p:stCondLst>
                                        </p:cTn>
                                        <p:tgtEl>
                                          <p:spTgt spid="655"/>
                                        </p:tgtEl>
                                        <p:attrNameLst>
                                          <p:attrName>style.visibility</p:attrName>
                                        </p:attrNameLst>
                                      </p:cBhvr>
                                      <p:to>
                                        <p:strVal val="visible"/>
                                      </p:to>
                                    </p:set>
                                    <p:anim calcmode="lin" valueType="num">
                                      <p:cBhvr additive="repl">
                                        <p:cTn id="637" dur="500" fill="hold"/>
                                        <p:tgtEl>
                                          <p:spTgt spid="655"/>
                                        </p:tgtEl>
                                        <p:attrNameLst>
                                          <p:attrName>ppt_w</p:attrName>
                                        </p:attrNameLst>
                                      </p:cBhvr>
                                      <p:tavLst>
                                        <p:tav tm="0">
                                          <p:val>
                                            <p:fltVal val="0"/>
                                          </p:val>
                                        </p:tav>
                                        <p:tav tm="100000">
                                          <p:val>
                                            <p:strVal val="#ppt_w"/>
                                          </p:val>
                                        </p:tav>
                                      </p:tavLst>
                                    </p:anim>
                                    <p:anim calcmode="lin" valueType="num">
                                      <p:cBhvr additive="repl">
                                        <p:cTn id="638" dur="500" fill="hold"/>
                                        <p:tgtEl>
                                          <p:spTgt spid="6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56" name=""/>
          <p:cNvSpPr/>
          <p:nvPr/>
        </p:nvSpPr>
        <p:spPr>
          <a:xfrm>
            <a:off x="1905120" y="7002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d Problems with 2 Unknowns</a:t>
            </a:r>
            <a:endParaRPr b="0" lang="en-US" sz="2800" spc="-1" strike="noStrike">
              <a:solidFill>
                <a:srgbClr val="000000"/>
              </a:solidFill>
              <a:latin typeface="Times New Roman"/>
            </a:endParaRPr>
          </a:p>
        </p:txBody>
      </p:sp>
      <p:sp>
        <p:nvSpPr>
          <p:cNvPr id="657" name=""/>
          <p:cNvSpPr/>
          <p:nvPr/>
        </p:nvSpPr>
        <p:spPr>
          <a:xfrm>
            <a:off x="3733920" y="144792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a:t>
            </a:r>
            <a:endParaRPr b="0" lang="en-US" sz="3600" spc="-1" strike="noStrike">
              <a:solidFill>
                <a:srgbClr val="000000"/>
              </a:solidFill>
              <a:latin typeface="Times New Roman"/>
            </a:endParaRPr>
          </a:p>
        </p:txBody>
      </p:sp>
      <p:sp>
        <p:nvSpPr>
          <p:cNvPr id="658" name=""/>
          <p:cNvSpPr/>
          <p:nvPr/>
        </p:nvSpPr>
        <p:spPr>
          <a:xfrm>
            <a:off x="914400" y="22096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00 = $1.25t + $2.50(788 – t)</a:t>
            </a:r>
            <a:endParaRPr b="0" lang="en-US" sz="3600" spc="-1" strike="noStrike">
              <a:solidFill>
                <a:srgbClr val="000000"/>
              </a:solidFill>
              <a:latin typeface="Times New Roman"/>
            </a:endParaRPr>
          </a:p>
        </p:txBody>
      </p:sp>
      <p:sp>
        <p:nvSpPr>
          <p:cNvPr id="659" name=""/>
          <p:cNvSpPr/>
          <p:nvPr/>
        </p:nvSpPr>
        <p:spPr>
          <a:xfrm>
            <a:off x="1562040" y="2971800"/>
            <a:ext cx="609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1.25(456) + $2.50(332)</a:t>
            </a:r>
            <a:endParaRPr b="0" lang="en-US" sz="3600" spc="-1" strike="noStrike">
              <a:solidFill>
                <a:srgbClr val="000000"/>
              </a:solidFill>
              <a:latin typeface="Times New Roman"/>
            </a:endParaRPr>
          </a:p>
        </p:txBody>
      </p:sp>
      <p:sp>
        <p:nvSpPr>
          <p:cNvPr id="660" name=""/>
          <p:cNvSpPr/>
          <p:nvPr/>
        </p:nvSpPr>
        <p:spPr>
          <a:xfrm>
            <a:off x="2895480" y="449568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00 = $1400</a:t>
            </a:r>
            <a:endParaRPr b="0" lang="en-US" sz="3600" spc="-1" strike="noStrike">
              <a:solidFill>
                <a:srgbClr val="000000"/>
              </a:solidFill>
              <a:latin typeface="Times New Roman"/>
            </a:endParaRPr>
          </a:p>
        </p:txBody>
      </p:sp>
      <p:sp>
        <p:nvSpPr>
          <p:cNvPr id="661" name=""/>
          <p:cNvSpPr/>
          <p:nvPr/>
        </p:nvSpPr>
        <p:spPr>
          <a:xfrm>
            <a:off x="3086280" y="373392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570 + 830</a:t>
            </a:r>
            <a:endParaRPr b="0" lang="en-US" sz="3600" spc="-1" strike="noStrike">
              <a:solidFill>
                <a:srgbClr val="000000"/>
              </a:solidFill>
              <a:latin typeface="Times New Roman"/>
            </a:endParaRPr>
          </a:p>
        </p:txBody>
      </p:sp>
      <p:sp>
        <p:nvSpPr>
          <p:cNvPr id="662" name=""/>
          <p:cNvSpPr/>
          <p:nvPr/>
        </p:nvSpPr>
        <p:spPr>
          <a:xfrm>
            <a:off x="6477120" y="4495680"/>
            <a:ext cx="1523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OK!</a:t>
            </a:r>
            <a:endParaRPr b="0" lang="en-US" sz="4400" spc="-1" strike="noStrike">
              <a:solidFill>
                <a:srgbClr val="000000"/>
              </a:solidFill>
              <a:latin typeface="Times New Roman"/>
            </a:endParaRPr>
          </a:p>
        </p:txBody>
      </p:sp>
    </p:spTree>
  </p:cSld>
  <p:transition>
    <p:cover dir="d"/>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8" presetSubtype="6">
                                  <p:stCondLst>
                                    <p:cond delay="0"/>
                                  </p:stCondLst>
                                  <p:childTnLst>
                                    <p:set>
                                      <p:cBhvr>
                                        <p:cTn id="644" dur="1" fill="hold">
                                          <p:stCondLst>
                                            <p:cond delay="0"/>
                                          </p:stCondLst>
                                        </p:cTn>
                                        <p:tgtEl>
                                          <p:spTgt spid="658"/>
                                        </p:tgtEl>
                                        <p:attrNameLst>
                                          <p:attrName>style.visibility</p:attrName>
                                        </p:attrNameLst>
                                      </p:cBhvr>
                                      <p:to>
                                        <p:strVal val="visible"/>
                                      </p:to>
                                    </p:set>
                                    <p:animEffect filter="strips(downRight)" transition="in">
                                      <p:cBhvr additive="repl">
                                        <p:cTn id="645" dur="500"/>
                                        <p:tgtEl>
                                          <p:spTgt spid="65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8" presetSubtype="6">
                                  <p:stCondLst>
                                    <p:cond delay="0"/>
                                  </p:stCondLst>
                                  <p:childTnLst>
                                    <p:set>
                                      <p:cBhvr>
                                        <p:cTn id="649" dur="1" fill="hold">
                                          <p:stCondLst>
                                            <p:cond delay="0"/>
                                          </p:stCondLst>
                                        </p:cTn>
                                        <p:tgtEl>
                                          <p:spTgt spid="659"/>
                                        </p:tgtEl>
                                        <p:attrNameLst>
                                          <p:attrName>style.visibility</p:attrName>
                                        </p:attrNameLst>
                                      </p:cBhvr>
                                      <p:to>
                                        <p:strVal val="visible"/>
                                      </p:to>
                                    </p:set>
                                    <p:animEffect filter="strips(downRight)" transition="in">
                                      <p:cBhvr additive="repl">
                                        <p:cTn id="650" dur="500"/>
                                        <p:tgtEl>
                                          <p:spTgt spid="659"/>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8" presetSubtype="6">
                                  <p:stCondLst>
                                    <p:cond delay="0"/>
                                  </p:stCondLst>
                                  <p:childTnLst>
                                    <p:set>
                                      <p:cBhvr>
                                        <p:cTn id="654" dur="1" fill="hold">
                                          <p:stCondLst>
                                            <p:cond delay="0"/>
                                          </p:stCondLst>
                                        </p:cTn>
                                        <p:tgtEl>
                                          <p:spTgt spid="661"/>
                                        </p:tgtEl>
                                        <p:attrNameLst>
                                          <p:attrName>style.visibility</p:attrName>
                                        </p:attrNameLst>
                                      </p:cBhvr>
                                      <p:to>
                                        <p:strVal val="visible"/>
                                      </p:to>
                                    </p:set>
                                    <p:animEffect filter="strips(downRight)" transition="in">
                                      <p:cBhvr additive="repl">
                                        <p:cTn id="655" dur="500"/>
                                        <p:tgtEl>
                                          <p:spTgt spid="661"/>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8" presetSubtype="6">
                                  <p:stCondLst>
                                    <p:cond delay="0"/>
                                  </p:stCondLst>
                                  <p:childTnLst>
                                    <p:set>
                                      <p:cBhvr>
                                        <p:cTn id="659" dur="1" fill="hold">
                                          <p:stCondLst>
                                            <p:cond delay="0"/>
                                          </p:stCondLst>
                                        </p:cTn>
                                        <p:tgtEl>
                                          <p:spTgt spid="660"/>
                                        </p:tgtEl>
                                        <p:attrNameLst>
                                          <p:attrName>style.visibility</p:attrName>
                                        </p:attrNameLst>
                                      </p:cBhvr>
                                      <p:to>
                                        <p:strVal val="visible"/>
                                      </p:to>
                                    </p:set>
                                    <p:animEffect filter="strips(downRight)" transition="in">
                                      <p:cBhvr additive="repl">
                                        <p:cTn id="660" dur="500"/>
                                        <p:tgtEl>
                                          <p:spTgt spid="66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4">
                                  <p:stCondLst>
                                    <p:cond delay="0"/>
                                  </p:stCondLst>
                                  <p:childTnLst>
                                    <p:set>
                                      <p:cBhvr>
                                        <p:cTn id="664" dur="1" fill="hold">
                                          <p:stCondLst>
                                            <p:cond delay="0"/>
                                          </p:stCondLst>
                                        </p:cTn>
                                        <p:tgtEl>
                                          <p:spTgt spid="662"/>
                                        </p:tgtEl>
                                        <p:attrNameLst>
                                          <p:attrName>style.visibility</p:attrName>
                                        </p:attrNameLst>
                                      </p:cBhvr>
                                      <p:to>
                                        <p:strVal val="visible"/>
                                      </p:to>
                                    </p:set>
                                    <p:animEffect filter="slide(fromBottom)" transition="in">
                                      <p:cBhvr additive="repl">
                                        <p:cTn id="665"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3" name=""/>
          <p:cNvSpPr txBox="1"/>
          <p:nvPr/>
        </p:nvSpPr>
        <p:spPr>
          <a:xfrm>
            <a:off x="3276720" y="2590920"/>
            <a:ext cx="510516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ord Problems</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 </a:t>
            </a: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ith </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Simple Geometry</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p:txBody>
      </p:sp>
      <p:sp>
        <p:nvSpPr>
          <p:cNvPr id="664"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
        <p:nvSpPr>
          <p:cNvPr id="665" name=""/>
          <p:cNvSpPr/>
          <p:nvPr/>
        </p:nvSpPr>
        <p:spPr>
          <a:xfrm>
            <a:off x="1019160" y="2670120"/>
            <a:ext cx="2016000" cy="2247840"/>
          </a:xfrm>
          <a:custGeom>
            <a:avLst/>
            <a:gdLst/>
            <a:ahLst/>
            <a:rect l="l" t="t" r="r" b="b"/>
            <a:pathLst>
              <a:path w="2541" h="2832">
                <a:moveTo>
                  <a:pt x="1110" y="62"/>
                </a:moveTo>
                <a:lnTo>
                  <a:pt x="960" y="606"/>
                </a:lnTo>
                <a:lnTo>
                  <a:pt x="834" y="912"/>
                </a:lnTo>
                <a:lnTo>
                  <a:pt x="661" y="1220"/>
                </a:lnTo>
                <a:lnTo>
                  <a:pt x="426" y="1543"/>
                </a:lnTo>
                <a:lnTo>
                  <a:pt x="150" y="1842"/>
                </a:lnTo>
                <a:lnTo>
                  <a:pt x="0" y="2062"/>
                </a:lnTo>
                <a:lnTo>
                  <a:pt x="606" y="2362"/>
                </a:lnTo>
                <a:lnTo>
                  <a:pt x="912" y="2591"/>
                </a:lnTo>
                <a:lnTo>
                  <a:pt x="1188" y="2786"/>
                </a:lnTo>
                <a:lnTo>
                  <a:pt x="1346" y="2832"/>
                </a:lnTo>
                <a:lnTo>
                  <a:pt x="1581" y="2425"/>
                </a:lnTo>
                <a:lnTo>
                  <a:pt x="1817" y="2079"/>
                </a:lnTo>
                <a:lnTo>
                  <a:pt x="2108" y="1747"/>
                </a:lnTo>
                <a:lnTo>
                  <a:pt x="2321" y="1456"/>
                </a:lnTo>
                <a:lnTo>
                  <a:pt x="2454" y="1173"/>
                </a:lnTo>
                <a:lnTo>
                  <a:pt x="2406" y="1102"/>
                </a:lnTo>
                <a:lnTo>
                  <a:pt x="2541" y="676"/>
                </a:lnTo>
                <a:lnTo>
                  <a:pt x="2446" y="581"/>
                </a:lnTo>
                <a:lnTo>
                  <a:pt x="2399" y="424"/>
                </a:lnTo>
                <a:lnTo>
                  <a:pt x="2030" y="361"/>
                </a:lnTo>
                <a:lnTo>
                  <a:pt x="1692" y="243"/>
                </a:lnTo>
                <a:lnTo>
                  <a:pt x="1275" y="62"/>
                </a:lnTo>
                <a:lnTo>
                  <a:pt x="1140" y="0"/>
                </a:lnTo>
                <a:lnTo>
                  <a:pt x="1110" y="62"/>
                </a:lnTo>
                <a:lnTo>
                  <a:pt x="1110" y="62"/>
                </a:lnTo>
                <a:close/>
              </a:path>
            </a:pathLst>
          </a:custGeom>
          <a:solidFill>
            <a:srgbClr val="fff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079720" y="3174840"/>
            <a:ext cx="955440" cy="1743120"/>
          </a:xfrm>
          <a:custGeom>
            <a:avLst/>
            <a:gdLst/>
            <a:ahLst/>
            <a:rect l="l" t="t" r="r" b="b"/>
            <a:pathLst>
              <a:path w="1203" h="2195">
                <a:moveTo>
                  <a:pt x="916" y="0"/>
                </a:moveTo>
                <a:lnTo>
                  <a:pt x="846" y="304"/>
                </a:lnTo>
                <a:lnTo>
                  <a:pt x="754" y="555"/>
                </a:lnTo>
                <a:lnTo>
                  <a:pt x="640" y="800"/>
                </a:lnTo>
                <a:lnTo>
                  <a:pt x="471" y="1121"/>
                </a:lnTo>
                <a:lnTo>
                  <a:pt x="317" y="1383"/>
                </a:lnTo>
                <a:lnTo>
                  <a:pt x="182" y="1617"/>
                </a:lnTo>
                <a:lnTo>
                  <a:pt x="63" y="1917"/>
                </a:lnTo>
                <a:lnTo>
                  <a:pt x="11" y="2051"/>
                </a:lnTo>
                <a:lnTo>
                  <a:pt x="0" y="2163"/>
                </a:lnTo>
                <a:lnTo>
                  <a:pt x="32" y="2195"/>
                </a:lnTo>
                <a:lnTo>
                  <a:pt x="74" y="2170"/>
                </a:lnTo>
                <a:lnTo>
                  <a:pt x="150" y="1963"/>
                </a:lnTo>
                <a:lnTo>
                  <a:pt x="140" y="2125"/>
                </a:lnTo>
                <a:lnTo>
                  <a:pt x="308" y="1887"/>
                </a:lnTo>
                <a:lnTo>
                  <a:pt x="500" y="1625"/>
                </a:lnTo>
                <a:lnTo>
                  <a:pt x="770" y="1309"/>
                </a:lnTo>
                <a:lnTo>
                  <a:pt x="1000" y="1051"/>
                </a:lnTo>
                <a:lnTo>
                  <a:pt x="1074" y="920"/>
                </a:lnTo>
                <a:lnTo>
                  <a:pt x="1028" y="874"/>
                </a:lnTo>
                <a:lnTo>
                  <a:pt x="965" y="874"/>
                </a:lnTo>
                <a:lnTo>
                  <a:pt x="916" y="916"/>
                </a:lnTo>
                <a:lnTo>
                  <a:pt x="804" y="1045"/>
                </a:lnTo>
                <a:lnTo>
                  <a:pt x="682" y="1191"/>
                </a:lnTo>
                <a:lnTo>
                  <a:pt x="517" y="1391"/>
                </a:lnTo>
                <a:lnTo>
                  <a:pt x="675" y="1125"/>
                </a:lnTo>
                <a:lnTo>
                  <a:pt x="825" y="887"/>
                </a:lnTo>
                <a:lnTo>
                  <a:pt x="1074" y="471"/>
                </a:lnTo>
                <a:lnTo>
                  <a:pt x="1203" y="157"/>
                </a:lnTo>
                <a:lnTo>
                  <a:pt x="1178" y="115"/>
                </a:lnTo>
                <a:lnTo>
                  <a:pt x="1136" y="112"/>
                </a:lnTo>
                <a:lnTo>
                  <a:pt x="1102" y="153"/>
                </a:lnTo>
                <a:lnTo>
                  <a:pt x="1087" y="230"/>
                </a:lnTo>
                <a:lnTo>
                  <a:pt x="1021" y="395"/>
                </a:lnTo>
                <a:lnTo>
                  <a:pt x="912" y="633"/>
                </a:lnTo>
                <a:lnTo>
                  <a:pt x="749" y="912"/>
                </a:lnTo>
                <a:lnTo>
                  <a:pt x="574" y="1174"/>
                </a:lnTo>
                <a:lnTo>
                  <a:pt x="408" y="1412"/>
                </a:lnTo>
                <a:lnTo>
                  <a:pt x="249" y="1716"/>
                </a:lnTo>
                <a:lnTo>
                  <a:pt x="403" y="1345"/>
                </a:lnTo>
                <a:lnTo>
                  <a:pt x="591" y="988"/>
                </a:lnTo>
                <a:lnTo>
                  <a:pt x="766" y="646"/>
                </a:lnTo>
                <a:lnTo>
                  <a:pt x="878" y="370"/>
                </a:lnTo>
                <a:lnTo>
                  <a:pt x="958" y="133"/>
                </a:lnTo>
                <a:lnTo>
                  <a:pt x="975" y="7"/>
                </a:lnTo>
                <a:lnTo>
                  <a:pt x="916" y="0"/>
                </a:lnTo>
                <a:lnTo>
                  <a:pt x="9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1019160" y="2631960"/>
            <a:ext cx="1882800" cy="2189160"/>
            <a:chOff x="1019160" y="2631960"/>
            <a:chExt cx="1882800" cy="2189160"/>
          </a:xfrm>
        </p:grpSpPr>
        <p:sp>
          <p:nvSpPr>
            <p:cNvPr id="668" name=""/>
            <p:cNvSpPr/>
            <p:nvPr/>
          </p:nvSpPr>
          <p:spPr>
            <a:xfrm>
              <a:off x="1050840" y="3035520"/>
              <a:ext cx="1811160" cy="1725480"/>
            </a:xfrm>
            <a:custGeom>
              <a:avLst/>
              <a:gdLst/>
              <a:ahLst/>
              <a:rect l="l" t="t" r="r" b="b"/>
              <a:pathLst>
                <a:path w="2281" h="2175">
                  <a:moveTo>
                    <a:pt x="2108" y="0"/>
                  </a:moveTo>
                  <a:lnTo>
                    <a:pt x="2013" y="356"/>
                  </a:lnTo>
                  <a:lnTo>
                    <a:pt x="1903" y="592"/>
                  </a:lnTo>
                  <a:lnTo>
                    <a:pt x="1738" y="890"/>
                  </a:lnTo>
                  <a:lnTo>
                    <a:pt x="1550" y="1198"/>
                  </a:lnTo>
                  <a:lnTo>
                    <a:pt x="1384" y="1498"/>
                  </a:lnTo>
                  <a:lnTo>
                    <a:pt x="1266" y="1757"/>
                  </a:lnTo>
                  <a:lnTo>
                    <a:pt x="1196" y="1962"/>
                  </a:lnTo>
                  <a:lnTo>
                    <a:pt x="715" y="1662"/>
                  </a:lnTo>
                  <a:lnTo>
                    <a:pt x="464" y="1536"/>
                  </a:lnTo>
                  <a:lnTo>
                    <a:pt x="164" y="1418"/>
                  </a:lnTo>
                  <a:lnTo>
                    <a:pt x="0" y="1386"/>
                  </a:lnTo>
                  <a:lnTo>
                    <a:pt x="652" y="1686"/>
                  </a:lnTo>
                  <a:lnTo>
                    <a:pt x="905" y="1867"/>
                  </a:lnTo>
                  <a:lnTo>
                    <a:pt x="1171" y="2065"/>
                  </a:lnTo>
                  <a:lnTo>
                    <a:pt x="1314" y="2175"/>
                  </a:lnTo>
                  <a:lnTo>
                    <a:pt x="1462" y="1757"/>
                  </a:lnTo>
                  <a:lnTo>
                    <a:pt x="1635" y="1466"/>
                  </a:lnTo>
                  <a:lnTo>
                    <a:pt x="1833" y="1166"/>
                  </a:lnTo>
                  <a:lnTo>
                    <a:pt x="2029" y="852"/>
                  </a:lnTo>
                  <a:lnTo>
                    <a:pt x="2194" y="489"/>
                  </a:lnTo>
                  <a:lnTo>
                    <a:pt x="2281" y="143"/>
                  </a:lnTo>
                  <a:lnTo>
                    <a:pt x="2108" y="0"/>
                  </a:lnTo>
                  <a:lnTo>
                    <a:pt x="2108" y="0"/>
                  </a:lnTo>
                  <a:close/>
                </a:path>
              </a:pathLst>
            </a:custGeom>
            <a:solidFill>
              <a:srgbClr val="ff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019160" y="4002120"/>
              <a:ext cx="182520" cy="250920"/>
            </a:xfrm>
            <a:custGeom>
              <a:avLst/>
              <a:gdLst/>
              <a:ahLst/>
              <a:rect l="l" t="t" r="r" b="b"/>
              <a:pathLst>
                <a:path w="230" h="315">
                  <a:moveTo>
                    <a:pt x="212" y="0"/>
                  </a:moveTo>
                  <a:lnTo>
                    <a:pt x="146" y="78"/>
                  </a:lnTo>
                  <a:lnTo>
                    <a:pt x="45" y="209"/>
                  </a:lnTo>
                  <a:lnTo>
                    <a:pt x="0" y="304"/>
                  </a:lnTo>
                  <a:lnTo>
                    <a:pt x="66" y="315"/>
                  </a:lnTo>
                  <a:lnTo>
                    <a:pt x="108" y="266"/>
                  </a:lnTo>
                  <a:lnTo>
                    <a:pt x="161" y="146"/>
                  </a:lnTo>
                  <a:lnTo>
                    <a:pt x="230" y="53"/>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74720" y="2693880"/>
              <a:ext cx="285840" cy="628920"/>
            </a:xfrm>
            <a:custGeom>
              <a:avLst/>
              <a:gdLst/>
              <a:ahLst/>
              <a:rect l="l" t="t" r="r" b="b"/>
              <a:pathLst>
                <a:path w="362" h="792">
                  <a:moveTo>
                    <a:pt x="0" y="751"/>
                  </a:moveTo>
                  <a:lnTo>
                    <a:pt x="124" y="509"/>
                  </a:lnTo>
                  <a:lnTo>
                    <a:pt x="191" y="310"/>
                  </a:lnTo>
                  <a:lnTo>
                    <a:pt x="249" y="131"/>
                  </a:lnTo>
                  <a:lnTo>
                    <a:pt x="299" y="0"/>
                  </a:lnTo>
                  <a:lnTo>
                    <a:pt x="337" y="9"/>
                  </a:lnTo>
                  <a:lnTo>
                    <a:pt x="362" y="51"/>
                  </a:lnTo>
                  <a:lnTo>
                    <a:pt x="350" y="131"/>
                  </a:lnTo>
                  <a:lnTo>
                    <a:pt x="278" y="313"/>
                  </a:lnTo>
                  <a:lnTo>
                    <a:pt x="179" y="530"/>
                  </a:lnTo>
                  <a:lnTo>
                    <a:pt x="82" y="709"/>
                  </a:lnTo>
                  <a:lnTo>
                    <a:pt x="37" y="792"/>
                  </a:lnTo>
                  <a:lnTo>
                    <a:pt x="0" y="751"/>
                  </a:lnTo>
                  <a:lnTo>
                    <a:pt x="0" y="7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935000" y="2631960"/>
              <a:ext cx="966960" cy="412920"/>
            </a:xfrm>
            <a:custGeom>
              <a:avLst/>
              <a:gdLst/>
              <a:ahLst/>
              <a:rect l="l" t="t" r="r" b="b"/>
              <a:pathLst>
                <a:path w="1219" h="521">
                  <a:moveTo>
                    <a:pt x="36" y="0"/>
                  </a:moveTo>
                  <a:lnTo>
                    <a:pt x="221" y="104"/>
                  </a:lnTo>
                  <a:lnTo>
                    <a:pt x="540" y="237"/>
                  </a:lnTo>
                  <a:lnTo>
                    <a:pt x="861" y="346"/>
                  </a:lnTo>
                  <a:lnTo>
                    <a:pt x="1133" y="433"/>
                  </a:lnTo>
                  <a:lnTo>
                    <a:pt x="1198" y="479"/>
                  </a:lnTo>
                  <a:lnTo>
                    <a:pt x="1219" y="521"/>
                  </a:lnTo>
                  <a:lnTo>
                    <a:pt x="1169" y="517"/>
                  </a:lnTo>
                  <a:lnTo>
                    <a:pt x="1036" y="486"/>
                  </a:lnTo>
                  <a:lnTo>
                    <a:pt x="557" y="321"/>
                  </a:lnTo>
                  <a:lnTo>
                    <a:pt x="266" y="203"/>
                  </a:lnTo>
                  <a:lnTo>
                    <a:pt x="54" y="84"/>
                  </a:lnTo>
                  <a:lnTo>
                    <a:pt x="0" y="25"/>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108080" y="4286160"/>
              <a:ext cx="922320" cy="534960"/>
            </a:xfrm>
            <a:custGeom>
              <a:avLst/>
              <a:gdLst/>
              <a:ahLst/>
              <a:rect l="l" t="t" r="r" b="b"/>
              <a:pathLst>
                <a:path w="1161" h="675">
                  <a:moveTo>
                    <a:pt x="28" y="0"/>
                  </a:moveTo>
                  <a:lnTo>
                    <a:pt x="408" y="164"/>
                  </a:lnTo>
                  <a:lnTo>
                    <a:pt x="762" y="373"/>
                  </a:lnTo>
                  <a:lnTo>
                    <a:pt x="1003" y="559"/>
                  </a:lnTo>
                  <a:lnTo>
                    <a:pt x="1161" y="667"/>
                  </a:lnTo>
                  <a:lnTo>
                    <a:pt x="1146" y="675"/>
                  </a:lnTo>
                  <a:lnTo>
                    <a:pt x="1074" y="675"/>
                  </a:lnTo>
                  <a:lnTo>
                    <a:pt x="908" y="593"/>
                  </a:lnTo>
                  <a:lnTo>
                    <a:pt x="728" y="456"/>
                  </a:lnTo>
                  <a:lnTo>
                    <a:pt x="336" y="185"/>
                  </a:lnTo>
                  <a:lnTo>
                    <a:pt x="83" y="80"/>
                  </a:lnTo>
                  <a:lnTo>
                    <a:pt x="0" y="6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09480" y="1270080"/>
            <a:ext cx="1211400" cy="2636280"/>
            <a:chOff x="609480" y="1270080"/>
            <a:chExt cx="1211400" cy="2636280"/>
          </a:xfrm>
        </p:grpSpPr>
        <p:sp>
          <p:nvSpPr>
            <p:cNvPr id="674" name=""/>
            <p:cNvSpPr/>
            <p:nvPr/>
          </p:nvSpPr>
          <p:spPr>
            <a:xfrm>
              <a:off x="1087560" y="2901600"/>
              <a:ext cx="649080" cy="1004760"/>
            </a:xfrm>
            <a:custGeom>
              <a:avLst/>
              <a:gdLst/>
              <a:ahLst/>
              <a:rect l="l" t="t" r="r" b="b"/>
              <a:pathLst>
                <a:path w="817" h="1268">
                  <a:moveTo>
                    <a:pt x="7" y="371"/>
                  </a:moveTo>
                  <a:lnTo>
                    <a:pt x="0" y="521"/>
                  </a:lnTo>
                  <a:lnTo>
                    <a:pt x="15" y="741"/>
                  </a:lnTo>
                  <a:lnTo>
                    <a:pt x="62" y="947"/>
                  </a:lnTo>
                  <a:lnTo>
                    <a:pt x="140" y="1110"/>
                  </a:lnTo>
                  <a:lnTo>
                    <a:pt x="275" y="1268"/>
                  </a:lnTo>
                  <a:lnTo>
                    <a:pt x="574" y="709"/>
                  </a:lnTo>
                  <a:lnTo>
                    <a:pt x="518" y="536"/>
                  </a:lnTo>
                  <a:lnTo>
                    <a:pt x="480" y="378"/>
                  </a:lnTo>
                  <a:lnTo>
                    <a:pt x="691" y="608"/>
                  </a:lnTo>
                  <a:lnTo>
                    <a:pt x="817" y="371"/>
                  </a:lnTo>
                  <a:lnTo>
                    <a:pt x="684" y="300"/>
                  </a:lnTo>
                  <a:lnTo>
                    <a:pt x="604" y="205"/>
                  </a:lnTo>
                  <a:lnTo>
                    <a:pt x="543" y="95"/>
                  </a:lnTo>
                  <a:lnTo>
                    <a:pt x="408" y="0"/>
                  </a:lnTo>
                  <a:lnTo>
                    <a:pt x="258" y="17"/>
                  </a:lnTo>
                  <a:lnTo>
                    <a:pt x="7" y="371"/>
                  </a:lnTo>
                  <a:lnTo>
                    <a:pt x="7" y="371"/>
                  </a:lnTo>
                  <a:close/>
                </a:path>
              </a:pathLst>
            </a:custGeom>
            <a:solidFill>
              <a:srgbClr val="ffc4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01720" y="1270080"/>
              <a:ext cx="985680" cy="893520"/>
            </a:xfrm>
            <a:custGeom>
              <a:avLst/>
              <a:gdLst/>
              <a:ahLst/>
              <a:rect l="l" t="t" r="r" b="b"/>
              <a:pathLst>
                <a:path w="1244" h="1126">
                  <a:moveTo>
                    <a:pt x="0" y="882"/>
                  </a:moveTo>
                  <a:lnTo>
                    <a:pt x="54" y="669"/>
                  </a:lnTo>
                  <a:lnTo>
                    <a:pt x="189" y="472"/>
                  </a:lnTo>
                  <a:lnTo>
                    <a:pt x="346" y="331"/>
                  </a:lnTo>
                  <a:lnTo>
                    <a:pt x="550" y="198"/>
                  </a:lnTo>
                  <a:lnTo>
                    <a:pt x="755" y="126"/>
                  </a:lnTo>
                  <a:lnTo>
                    <a:pt x="928" y="118"/>
                  </a:lnTo>
                  <a:lnTo>
                    <a:pt x="1069" y="158"/>
                  </a:lnTo>
                  <a:lnTo>
                    <a:pt x="1164" y="78"/>
                  </a:lnTo>
                  <a:lnTo>
                    <a:pt x="1244" y="0"/>
                  </a:lnTo>
                  <a:lnTo>
                    <a:pt x="1211" y="158"/>
                  </a:lnTo>
                  <a:lnTo>
                    <a:pt x="1133" y="276"/>
                  </a:lnTo>
                  <a:lnTo>
                    <a:pt x="1078" y="356"/>
                  </a:lnTo>
                  <a:lnTo>
                    <a:pt x="1148" y="449"/>
                  </a:lnTo>
                  <a:lnTo>
                    <a:pt x="1078" y="551"/>
                  </a:lnTo>
                  <a:lnTo>
                    <a:pt x="1006" y="677"/>
                  </a:lnTo>
                  <a:lnTo>
                    <a:pt x="966" y="882"/>
                  </a:lnTo>
                  <a:lnTo>
                    <a:pt x="905" y="1126"/>
                  </a:lnTo>
                  <a:lnTo>
                    <a:pt x="605" y="709"/>
                  </a:lnTo>
                  <a:lnTo>
                    <a:pt x="306" y="614"/>
                  </a:lnTo>
                  <a:lnTo>
                    <a:pt x="78" y="685"/>
                  </a:lnTo>
                  <a:lnTo>
                    <a:pt x="0" y="882"/>
                  </a:lnTo>
                  <a:lnTo>
                    <a:pt x="0" y="882"/>
                  </a:lnTo>
                  <a:close/>
                </a:path>
              </a:pathLst>
            </a:custGeom>
            <a:solidFill>
              <a:srgbClr val="dda5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31800" y="1682280"/>
              <a:ext cx="973080" cy="1638000"/>
            </a:xfrm>
            <a:custGeom>
              <a:avLst/>
              <a:gdLst/>
              <a:ahLst/>
              <a:rect l="l" t="t" r="r" b="b"/>
              <a:pathLst>
                <a:path w="1226" h="2064">
                  <a:moveTo>
                    <a:pt x="534" y="32"/>
                  </a:moveTo>
                  <a:lnTo>
                    <a:pt x="368" y="221"/>
                  </a:lnTo>
                  <a:lnTo>
                    <a:pt x="228" y="489"/>
                  </a:lnTo>
                  <a:lnTo>
                    <a:pt x="180" y="774"/>
                  </a:lnTo>
                  <a:lnTo>
                    <a:pt x="85" y="882"/>
                  </a:lnTo>
                  <a:lnTo>
                    <a:pt x="7" y="985"/>
                  </a:lnTo>
                  <a:lnTo>
                    <a:pt x="0" y="1230"/>
                  </a:lnTo>
                  <a:lnTo>
                    <a:pt x="70" y="1426"/>
                  </a:lnTo>
                  <a:lnTo>
                    <a:pt x="228" y="1513"/>
                  </a:lnTo>
                  <a:lnTo>
                    <a:pt x="368" y="1639"/>
                  </a:lnTo>
                  <a:lnTo>
                    <a:pt x="440" y="1796"/>
                  </a:lnTo>
                  <a:lnTo>
                    <a:pt x="589" y="1977"/>
                  </a:lnTo>
                  <a:lnTo>
                    <a:pt x="794" y="2064"/>
                  </a:lnTo>
                  <a:lnTo>
                    <a:pt x="959" y="2017"/>
                  </a:lnTo>
                  <a:lnTo>
                    <a:pt x="1022" y="1852"/>
                  </a:lnTo>
                  <a:lnTo>
                    <a:pt x="1045" y="1506"/>
                  </a:lnTo>
                  <a:lnTo>
                    <a:pt x="1077" y="1167"/>
                  </a:lnTo>
                  <a:lnTo>
                    <a:pt x="1163" y="852"/>
                  </a:lnTo>
                  <a:lnTo>
                    <a:pt x="1226" y="506"/>
                  </a:lnTo>
                  <a:lnTo>
                    <a:pt x="1148" y="198"/>
                  </a:lnTo>
                  <a:lnTo>
                    <a:pt x="747" y="0"/>
                  </a:lnTo>
                  <a:lnTo>
                    <a:pt x="534" y="32"/>
                  </a:lnTo>
                  <a:lnTo>
                    <a:pt x="534" y="32"/>
                  </a:lnTo>
                  <a:close/>
                </a:path>
              </a:pathLst>
            </a:custGeom>
            <a:solidFill>
              <a:srgbClr val="ffd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63640" y="1776240"/>
              <a:ext cx="517320" cy="1374120"/>
            </a:xfrm>
            <a:custGeom>
              <a:avLst/>
              <a:gdLst/>
              <a:ahLst/>
              <a:rect l="l" t="t" r="r" b="b"/>
              <a:pathLst>
                <a:path w="652" h="1732">
                  <a:moveTo>
                    <a:pt x="173" y="133"/>
                  </a:moveTo>
                  <a:lnTo>
                    <a:pt x="86" y="306"/>
                  </a:lnTo>
                  <a:lnTo>
                    <a:pt x="31" y="519"/>
                  </a:lnTo>
                  <a:lnTo>
                    <a:pt x="0" y="747"/>
                  </a:lnTo>
                  <a:lnTo>
                    <a:pt x="31" y="1000"/>
                  </a:lnTo>
                  <a:lnTo>
                    <a:pt x="86" y="1228"/>
                  </a:lnTo>
                  <a:lnTo>
                    <a:pt x="189" y="1464"/>
                  </a:lnTo>
                  <a:lnTo>
                    <a:pt x="316" y="1629"/>
                  </a:lnTo>
                  <a:lnTo>
                    <a:pt x="432" y="1724"/>
                  </a:lnTo>
                  <a:lnTo>
                    <a:pt x="527" y="1732"/>
                  </a:lnTo>
                  <a:lnTo>
                    <a:pt x="590" y="1684"/>
                  </a:lnTo>
                  <a:lnTo>
                    <a:pt x="622" y="1574"/>
                  </a:lnTo>
                  <a:lnTo>
                    <a:pt x="629" y="1511"/>
                  </a:lnTo>
                  <a:lnTo>
                    <a:pt x="645" y="1370"/>
                  </a:lnTo>
                  <a:lnTo>
                    <a:pt x="652" y="1203"/>
                  </a:lnTo>
                  <a:lnTo>
                    <a:pt x="652" y="985"/>
                  </a:lnTo>
                  <a:lnTo>
                    <a:pt x="432" y="927"/>
                  </a:lnTo>
                  <a:lnTo>
                    <a:pt x="582" y="827"/>
                  </a:lnTo>
                  <a:lnTo>
                    <a:pt x="582" y="747"/>
                  </a:lnTo>
                  <a:lnTo>
                    <a:pt x="504" y="677"/>
                  </a:lnTo>
                  <a:lnTo>
                    <a:pt x="457" y="566"/>
                  </a:lnTo>
                  <a:lnTo>
                    <a:pt x="464" y="393"/>
                  </a:lnTo>
                  <a:lnTo>
                    <a:pt x="582" y="291"/>
                  </a:lnTo>
                  <a:lnTo>
                    <a:pt x="582" y="110"/>
                  </a:lnTo>
                  <a:lnTo>
                    <a:pt x="512" y="30"/>
                  </a:lnTo>
                  <a:lnTo>
                    <a:pt x="386" y="0"/>
                  </a:lnTo>
                  <a:lnTo>
                    <a:pt x="268" y="30"/>
                  </a:lnTo>
                  <a:lnTo>
                    <a:pt x="173" y="133"/>
                  </a:lnTo>
                  <a:lnTo>
                    <a:pt x="173" y="133"/>
                  </a:lnTo>
                  <a:close/>
                </a:path>
              </a:pathLst>
            </a:custGeom>
            <a:solidFill>
              <a:srgbClr val="ffe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988920" y="1311120"/>
              <a:ext cx="587520" cy="475920"/>
            </a:xfrm>
            <a:custGeom>
              <a:avLst/>
              <a:gdLst/>
              <a:ahLst/>
              <a:rect l="l" t="t" r="r" b="b"/>
              <a:pathLst>
                <a:path w="741" h="600">
                  <a:moveTo>
                    <a:pt x="0" y="465"/>
                  </a:moveTo>
                  <a:lnTo>
                    <a:pt x="266" y="199"/>
                  </a:lnTo>
                  <a:lnTo>
                    <a:pt x="492" y="66"/>
                  </a:lnTo>
                  <a:lnTo>
                    <a:pt x="633" y="0"/>
                  </a:lnTo>
                  <a:lnTo>
                    <a:pt x="741" y="7"/>
                  </a:lnTo>
                  <a:lnTo>
                    <a:pt x="608" y="91"/>
                  </a:lnTo>
                  <a:lnTo>
                    <a:pt x="392" y="258"/>
                  </a:lnTo>
                  <a:lnTo>
                    <a:pt x="167" y="458"/>
                  </a:lnTo>
                  <a:lnTo>
                    <a:pt x="50" y="600"/>
                  </a:lnTo>
                  <a:lnTo>
                    <a:pt x="17" y="566"/>
                  </a:lnTo>
                  <a:lnTo>
                    <a:pt x="0" y="465"/>
                  </a:lnTo>
                  <a:lnTo>
                    <a:pt x="0" y="4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227240" y="1284120"/>
              <a:ext cx="574560" cy="435960"/>
            </a:xfrm>
            <a:custGeom>
              <a:avLst/>
              <a:gdLst/>
              <a:ahLst/>
              <a:rect l="l" t="t" r="r" b="b"/>
              <a:pathLst>
                <a:path w="725" h="552">
                  <a:moveTo>
                    <a:pt x="0" y="476"/>
                  </a:moveTo>
                  <a:lnTo>
                    <a:pt x="50" y="534"/>
                  </a:lnTo>
                  <a:lnTo>
                    <a:pt x="99" y="485"/>
                  </a:lnTo>
                  <a:lnTo>
                    <a:pt x="217" y="552"/>
                  </a:lnTo>
                  <a:lnTo>
                    <a:pt x="459" y="276"/>
                  </a:lnTo>
                  <a:lnTo>
                    <a:pt x="516" y="285"/>
                  </a:lnTo>
                  <a:lnTo>
                    <a:pt x="683" y="93"/>
                  </a:lnTo>
                  <a:lnTo>
                    <a:pt x="725" y="0"/>
                  </a:lnTo>
                  <a:lnTo>
                    <a:pt x="666" y="17"/>
                  </a:lnTo>
                  <a:lnTo>
                    <a:pt x="516" y="160"/>
                  </a:lnTo>
                  <a:lnTo>
                    <a:pt x="441" y="118"/>
                  </a:lnTo>
                  <a:lnTo>
                    <a:pt x="382" y="135"/>
                  </a:lnTo>
                  <a:lnTo>
                    <a:pt x="151" y="318"/>
                  </a:lnTo>
                  <a:lnTo>
                    <a:pt x="0" y="476"/>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476360" y="1530000"/>
              <a:ext cx="233280" cy="296640"/>
            </a:xfrm>
            <a:custGeom>
              <a:avLst/>
              <a:gdLst/>
              <a:ahLst/>
              <a:rect l="l" t="t" r="r" b="b"/>
              <a:pathLst>
                <a:path w="293" h="375">
                  <a:moveTo>
                    <a:pt x="0" y="266"/>
                  </a:moveTo>
                  <a:lnTo>
                    <a:pt x="175" y="50"/>
                  </a:lnTo>
                  <a:lnTo>
                    <a:pt x="293" y="0"/>
                  </a:lnTo>
                  <a:lnTo>
                    <a:pt x="217" y="109"/>
                  </a:lnTo>
                  <a:lnTo>
                    <a:pt x="135" y="274"/>
                  </a:lnTo>
                  <a:lnTo>
                    <a:pt x="76" y="375"/>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35120" y="1757160"/>
              <a:ext cx="247680" cy="628200"/>
            </a:xfrm>
            <a:custGeom>
              <a:avLst/>
              <a:gdLst/>
              <a:ahLst/>
              <a:rect l="l" t="t" r="r" b="b"/>
              <a:pathLst>
                <a:path w="311" h="793">
                  <a:moveTo>
                    <a:pt x="273" y="0"/>
                  </a:moveTo>
                  <a:lnTo>
                    <a:pt x="311" y="67"/>
                  </a:lnTo>
                  <a:lnTo>
                    <a:pt x="270" y="150"/>
                  </a:lnTo>
                  <a:lnTo>
                    <a:pt x="211" y="272"/>
                  </a:lnTo>
                  <a:lnTo>
                    <a:pt x="154" y="479"/>
                  </a:lnTo>
                  <a:lnTo>
                    <a:pt x="127" y="683"/>
                  </a:lnTo>
                  <a:lnTo>
                    <a:pt x="137" y="793"/>
                  </a:lnTo>
                  <a:lnTo>
                    <a:pt x="95" y="762"/>
                  </a:lnTo>
                  <a:lnTo>
                    <a:pt x="57" y="772"/>
                  </a:lnTo>
                  <a:lnTo>
                    <a:pt x="24" y="742"/>
                  </a:lnTo>
                  <a:lnTo>
                    <a:pt x="0" y="534"/>
                  </a:lnTo>
                  <a:lnTo>
                    <a:pt x="49" y="245"/>
                  </a:lnTo>
                  <a:lnTo>
                    <a:pt x="144" y="59"/>
                  </a:lnTo>
                  <a:lnTo>
                    <a:pt x="220" y="13"/>
                  </a:lnTo>
                  <a:lnTo>
                    <a:pt x="273" y="0"/>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09480" y="1836360"/>
              <a:ext cx="1133640" cy="1906200"/>
            </a:xfrm>
            <a:custGeom>
              <a:avLst/>
              <a:gdLst/>
              <a:ahLst/>
              <a:rect l="l" t="t" r="r" b="b"/>
              <a:pathLst>
                <a:path w="1427" h="2401">
                  <a:moveTo>
                    <a:pt x="103" y="686"/>
                  </a:moveTo>
                  <a:lnTo>
                    <a:pt x="190" y="724"/>
                  </a:lnTo>
                  <a:lnTo>
                    <a:pt x="165" y="766"/>
                  </a:lnTo>
                  <a:lnTo>
                    <a:pt x="110" y="821"/>
                  </a:lnTo>
                  <a:lnTo>
                    <a:pt x="95" y="916"/>
                  </a:lnTo>
                  <a:lnTo>
                    <a:pt x="127" y="1062"/>
                  </a:lnTo>
                  <a:lnTo>
                    <a:pt x="173" y="1178"/>
                  </a:lnTo>
                  <a:lnTo>
                    <a:pt x="270" y="1228"/>
                  </a:lnTo>
                  <a:lnTo>
                    <a:pt x="270" y="1133"/>
                  </a:lnTo>
                  <a:lnTo>
                    <a:pt x="316" y="1154"/>
                  </a:lnTo>
                  <a:lnTo>
                    <a:pt x="390" y="1279"/>
                  </a:lnTo>
                  <a:lnTo>
                    <a:pt x="477" y="1465"/>
                  </a:lnTo>
                  <a:lnTo>
                    <a:pt x="641" y="1680"/>
                  </a:lnTo>
                  <a:lnTo>
                    <a:pt x="774" y="1787"/>
                  </a:lnTo>
                  <a:lnTo>
                    <a:pt x="886" y="1825"/>
                  </a:lnTo>
                  <a:lnTo>
                    <a:pt x="956" y="1792"/>
                  </a:lnTo>
                  <a:lnTo>
                    <a:pt x="981" y="1699"/>
                  </a:lnTo>
                  <a:lnTo>
                    <a:pt x="1015" y="1524"/>
                  </a:lnTo>
                  <a:lnTo>
                    <a:pt x="1023" y="1270"/>
                  </a:lnTo>
                  <a:lnTo>
                    <a:pt x="1064" y="878"/>
                  </a:lnTo>
                  <a:lnTo>
                    <a:pt x="1131" y="454"/>
                  </a:lnTo>
                  <a:lnTo>
                    <a:pt x="1156" y="228"/>
                  </a:lnTo>
                  <a:lnTo>
                    <a:pt x="1152" y="103"/>
                  </a:lnTo>
                  <a:lnTo>
                    <a:pt x="1118" y="0"/>
                  </a:lnTo>
                  <a:lnTo>
                    <a:pt x="1159" y="25"/>
                  </a:lnTo>
                  <a:lnTo>
                    <a:pt x="1194" y="91"/>
                  </a:lnTo>
                  <a:lnTo>
                    <a:pt x="1207" y="192"/>
                  </a:lnTo>
                  <a:lnTo>
                    <a:pt x="1197" y="319"/>
                  </a:lnTo>
                  <a:lnTo>
                    <a:pt x="1180" y="500"/>
                  </a:lnTo>
                  <a:lnTo>
                    <a:pt x="1253" y="511"/>
                  </a:lnTo>
                  <a:lnTo>
                    <a:pt x="1268" y="570"/>
                  </a:lnTo>
                  <a:lnTo>
                    <a:pt x="1247" y="654"/>
                  </a:lnTo>
                  <a:lnTo>
                    <a:pt x="1186" y="766"/>
                  </a:lnTo>
                  <a:lnTo>
                    <a:pt x="1152" y="878"/>
                  </a:lnTo>
                  <a:lnTo>
                    <a:pt x="1118" y="958"/>
                  </a:lnTo>
                  <a:lnTo>
                    <a:pt x="1106" y="1070"/>
                  </a:lnTo>
                  <a:lnTo>
                    <a:pt x="1097" y="1220"/>
                  </a:lnTo>
                  <a:lnTo>
                    <a:pt x="1089" y="1367"/>
                  </a:lnTo>
                  <a:lnTo>
                    <a:pt x="1093" y="1446"/>
                  </a:lnTo>
                  <a:lnTo>
                    <a:pt x="1148" y="1475"/>
                  </a:lnTo>
                  <a:lnTo>
                    <a:pt x="1180" y="1576"/>
                  </a:lnTo>
                  <a:lnTo>
                    <a:pt x="1243" y="1688"/>
                  </a:lnTo>
                  <a:lnTo>
                    <a:pt x="1327" y="1745"/>
                  </a:lnTo>
                  <a:lnTo>
                    <a:pt x="1427" y="1804"/>
                  </a:lnTo>
                  <a:lnTo>
                    <a:pt x="1389" y="1834"/>
                  </a:lnTo>
                  <a:lnTo>
                    <a:pt x="1327" y="1825"/>
                  </a:lnTo>
                  <a:lnTo>
                    <a:pt x="1302" y="1884"/>
                  </a:lnTo>
                  <a:lnTo>
                    <a:pt x="1361" y="1943"/>
                  </a:lnTo>
                  <a:lnTo>
                    <a:pt x="1093" y="2300"/>
                  </a:lnTo>
                  <a:lnTo>
                    <a:pt x="994" y="2401"/>
                  </a:lnTo>
                  <a:lnTo>
                    <a:pt x="964" y="2338"/>
                  </a:lnTo>
                  <a:lnTo>
                    <a:pt x="1057" y="2216"/>
                  </a:lnTo>
                  <a:lnTo>
                    <a:pt x="1152" y="2070"/>
                  </a:lnTo>
                  <a:lnTo>
                    <a:pt x="1253" y="1933"/>
                  </a:lnTo>
                  <a:lnTo>
                    <a:pt x="1082" y="1688"/>
                  </a:lnTo>
                  <a:lnTo>
                    <a:pt x="1068" y="1733"/>
                  </a:lnTo>
                  <a:lnTo>
                    <a:pt x="1068" y="1825"/>
                  </a:lnTo>
                  <a:lnTo>
                    <a:pt x="1135" y="2003"/>
                  </a:lnTo>
                  <a:lnTo>
                    <a:pt x="1102" y="2070"/>
                  </a:lnTo>
                  <a:lnTo>
                    <a:pt x="1047" y="2034"/>
                  </a:lnTo>
                  <a:lnTo>
                    <a:pt x="943" y="2021"/>
                  </a:lnTo>
                  <a:lnTo>
                    <a:pt x="872" y="1988"/>
                  </a:lnTo>
                  <a:lnTo>
                    <a:pt x="969" y="2233"/>
                  </a:lnTo>
                  <a:lnTo>
                    <a:pt x="990" y="2262"/>
                  </a:lnTo>
                  <a:lnTo>
                    <a:pt x="943" y="2313"/>
                  </a:lnTo>
                  <a:lnTo>
                    <a:pt x="876" y="2167"/>
                  </a:lnTo>
                  <a:lnTo>
                    <a:pt x="823" y="2009"/>
                  </a:lnTo>
                  <a:lnTo>
                    <a:pt x="781" y="1829"/>
                  </a:lnTo>
                  <a:lnTo>
                    <a:pt x="652" y="1758"/>
                  </a:lnTo>
                  <a:lnTo>
                    <a:pt x="547" y="1671"/>
                  </a:lnTo>
                  <a:lnTo>
                    <a:pt x="435" y="1534"/>
                  </a:lnTo>
                  <a:lnTo>
                    <a:pt x="348" y="1388"/>
                  </a:lnTo>
                  <a:lnTo>
                    <a:pt x="295" y="1279"/>
                  </a:lnTo>
                  <a:lnTo>
                    <a:pt x="219" y="1270"/>
                  </a:lnTo>
                  <a:lnTo>
                    <a:pt x="120" y="1216"/>
                  </a:lnTo>
                  <a:lnTo>
                    <a:pt x="65" y="1129"/>
                  </a:lnTo>
                  <a:lnTo>
                    <a:pt x="0" y="916"/>
                  </a:lnTo>
                  <a:lnTo>
                    <a:pt x="8" y="787"/>
                  </a:lnTo>
                  <a:lnTo>
                    <a:pt x="44" y="717"/>
                  </a:lnTo>
                  <a:lnTo>
                    <a:pt x="103" y="686"/>
                  </a:lnTo>
                  <a:lnTo>
                    <a:pt x="103" y="6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01640" y="2511000"/>
              <a:ext cx="138240" cy="166320"/>
            </a:xfrm>
            <a:custGeom>
              <a:avLst/>
              <a:gdLst/>
              <a:ahLst/>
              <a:rect l="l" t="t" r="r" b="b"/>
              <a:pathLst>
                <a:path w="175" h="209">
                  <a:moveTo>
                    <a:pt x="32" y="0"/>
                  </a:moveTo>
                  <a:lnTo>
                    <a:pt x="91" y="17"/>
                  </a:lnTo>
                  <a:lnTo>
                    <a:pt x="154" y="74"/>
                  </a:lnTo>
                  <a:lnTo>
                    <a:pt x="175" y="129"/>
                  </a:lnTo>
                  <a:lnTo>
                    <a:pt x="165" y="178"/>
                  </a:lnTo>
                  <a:lnTo>
                    <a:pt x="137" y="209"/>
                  </a:lnTo>
                  <a:lnTo>
                    <a:pt x="95" y="171"/>
                  </a:lnTo>
                  <a:lnTo>
                    <a:pt x="66" y="104"/>
                  </a:lnTo>
                  <a:lnTo>
                    <a:pt x="32" y="49"/>
                  </a:lnTo>
                  <a:lnTo>
                    <a:pt x="0" y="28"/>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146240" y="2419200"/>
              <a:ext cx="244440" cy="161280"/>
            </a:xfrm>
            <a:custGeom>
              <a:avLst/>
              <a:gdLst/>
              <a:ahLst/>
              <a:rect l="l" t="t" r="r" b="b"/>
              <a:pathLst>
                <a:path w="308" h="203">
                  <a:moveTo>
                    <a:pt x="0" y="119"/>
                  </a:moveTo>
                  <a:lnTo>
                    <a:pt x="114" y="91"/>
                  </a:lnTo>
                  <a:lnTo>
                    <a:pt x="224" y="45"/>
                  </a:lnTo>
                  <a:lnTo>
                    <a:pt x="308" y="0"/>
                  </a:lnTo>
                  <a:lnTo>
                    <a:pt x="308" y="32"/>
                  </a:lnTo>
                  <a:lnTo>
                    <a:pt x="237" y="95"/>
                  </a:lnTo>
                  <a:lnTo>
                    <a:pt x="245" y="133"/>
                  </a:lnTo>
                  <a:lnTo>
                    <a:pt x="171" y="182"/>
                  </a:lnTo>
                  <a:lnTo>
                    <a:pt x="93" y="203"/>
                  </a:lnTo>
                  <a:lnTo>
                    <a:pt x="24" y="186"/>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084320" y="2123640"/>
              <a:ext cx="65160" cy="123480"/>
            </a:xfrm>
            <a:custGeom>
              <a:avLst/>
              <a:gdLst/>
              <a:ahLst/>
              <a:rect l="l" t="t" r="r" b="b"/>
              <a:pathLst>
                <a:path w="81" h="156">
                  <a:moveTo>
                    <a:pt x="11" y="17"/>
                  </a:moveTo>
                  <a:lnTo>
                    <a:pt x="0" y="93"/>
                  </a:lnTo>
                  <a:lnTo>
                    <a:pt x="4" y="143"/>
                  </a:lnTo>
                  <a:lnTo>
                    <a:pt x="53" y="156"/>
                  </a:lnTo>
                  <a:lnTo>
                    <a:pt x="74" y="114"/>
                  </a:lnTo>
                  <a:lnTo>
                    <a:pt x="81" y="34"/>
                  </a:lnTo>
                  <a:lnTo>
                    <a:pt x="53" y="0"/>
                  </a:lnTo>
                  <a:lnTo>
                    <a:pt x="11" y="17"/>
                  </a:lnTo>
                  <a:lnTo>
                    <a:pt x="1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243080" y="2079360"/>
              <a:ext cx="73080" cy="93240"/>
            </a:xfrm>
            <a:custGeom>
              <a:avLst/>
              <a:gdLst/>
              <a:ahLst/>
              <a:rect l="l" t="t" r="r" b="b"/>
              <a:pathLst>
                <a:path w="92" h="120">
                  <a:moveTo>
                    <a:pt x="25" y="8"/>
                  </a:moveTo>
                  <a:lnTo>
                    <a:pt x="0" y="67"/>
                  </a:lnTo>
                  <a:lnTo>
                    <a:pt x="17" y="120"/>
                  </a:lnTo>
                  <a:lnTo>
                    <a:pt x="71" y="120"/>
                  </a:lnTo>
                  <a:lnTo>
                    <a:pt x="92" y="57"/>
                  </a:lnTo>
                  <a:lnTo>
                    <a:pt x="78" y="0"/>
                  </a:lnTo>
                  <a:lnTo>
                    <a:pt x="46" y="0"/>
                  </a:lnTo>
                  <a:lnTo>
                    <a:pt x="25" y="8"/>
                  </a:lnTo>
                  <a:lnTo>
                    <a:pt x="25" y="8"/>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7" name=""/>
            <p:cNvSpPr/>
            <p:nvPr/>
          </p:nvSpPr>
          <p:spPr>
            <a:xfrm>
              <a:off x="1224000" y="2993760"/>
              <a:ext cx="150840" cy="129960"/>
            </a:xfrm>
            <a:custGeom>
              <a:avLst/>
              <a:gdLst/>
              <a:ahLst/>
              <a:rect l="l" t="t" r="r" b="b"/>
              <a:pathLst>
                <a:path w="190" h="163">
                  <a:moveTo>
                    <a:pt x="161" y="0"/>
                  </a:moveTo>
                  <a:lnTo>
                    <a:pt x="87" y="45"/>
                  </a:lnTo>
                  <a:lnTo>
                    <a:pt x="24" y="91"/>
                  </a:lnTo>
                  <a:lnTo>
                    <a:pt x="0" y="133"/>
                  </a:lnTo>
                  <a:lnTo>
                    <a:pt x="45" y="163"/>
                  </a:lnTo>
                  <a:lnTo>
                    <a:pt x="78" y="133"/>
                  </a:lnTo>
                  <a:lnTo>
                    <a:pt x="102" y="87"/>
                  </a:lnTo>
                  <a:lnTo>
                    <a:pt x="161" y="63"/>
                  </a:lnTo>
                  <a:lnTo>
                    <a:pt x="190" y="42"/>
                  </a:lnTo>
                  <a:lnTo>
                    <a:pt x="161" y="0"/>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123920" y="3282480"/>
              <a:ext cx="250920" cy="568080"/>
            </a:xfrm>
            <a:custGeom>
              <a:avLst/>
              <a:gdLst/>
              <a:ahLst/>
              <a:rect l="l" t="t" r="r" b="b"/>
              <a:pathLst>
                <a:path w="316" h="717">
                  <a:moveTo>
                    <a:pt x="8" y="0"/>
                  </a:moveTo>
                  <a:lnTo>
                    <a:pt x="0" y="182"/>
                  </a:lnTo>
                  <a:lnTo>
                    <a:pt x="12" y="346"/>
                  </a:lnTo>
                  <a:lnTo>
                    <a:pt x="42" y="479"/>
                  </a:lnTo>
                  <a:lnTo>
                    <a:pt x="95" y="629"/>
                  </a:lnTo>
                  <a:lnTo>
                    <a:pt x="137" y="709"/>
                  </a:lnTo>
                  <a:lnTo>
                    <a:pt x="185" y="675"/>
                  </a:lnTo>
                  <a:lnTo>
                    <a:pt x="253" y="717"/>
                  </a:lnTo>
                  <a:lnTo>
                    <a:pt x="312" y="717"/>
                  </a:lnTo>
                  <a:lnTo>
                    <a:pt x="242" y="675"/>
                  </a:lnTo>
                  <a:lnTo>
                    <a:pt x="207" y="629"/>
                  </a:lnTo>
                  <a:lnTo>
                    <a:pt x="242" y="601"/>
                  </a:lnTo>
                  <a:lnTo>
                    <a:pt x="280" y="608"/>
                  </a:lnTo>
                  <a:lnTo>
                    <a:pt x="308" y="642"/>
                  </a:lnTo>
                  <a:lnTo>
                    <a:pt x="316" y="604"/>
                  </a:lnTo>
                  <a:lnTo>
                    <a:pt x="304" y="570"/>
                  </a:lnTo>
                  <a:lnTo>
                    <a:pt x="270" y="542"/>
                  </a:lnTo>
                  <a:lnTo>
                    <a:pt x="242" y="542"/>
                  </a:lnTo>
                  <a:lnTo>
                    <a:pt x="175" y="441"/>
                  </a:lnTo>
                  <a:lnTo>
                    <a:pt x="154" y="363"/>
                  </a:lnTo>
                  <a:lnTo>
                    <a:pt x="133" y="245"/>
                  </a:lnTo>
                  <a:lnTo>
                    <a:pt x="126" y="112"/>
                  </a:lnTo>
                  <a:lnTo>
                    <a:pt x="122" y="46"/>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85880" y="3282480"/>
              <a:ext cx="135000" cy="85680"/>
            </a:xfrm>
            <a:custGeom>
              <a:avLst/>
              <a:gdLst/>
              <a:ahLst/>
              <a:rect l="l" t="t" r="r" b="b"/>
              <a:pathLst>
                <a:path w="171" h="108">
                  <a:moveTo>
                    <a:pt x="14" y="59"/>
                  </a:moveTo>
                  <a:lnTo>
                    <a:pt x="101" y="66"/>
                  </a:lnTo>
                  <a:lnTo>
                    <a:pt x="133" y="55"/>
                  </a:lnTo>
                  <a:lnTo>
                    <a:pt x="109" y="25"/>
                  </a:lnTo>
                  <a:lnTo>
                    <a:pt x="118" y="0"/>
                  </a:lnTo>
                  <a:lnTo>
                    <a:pt x="168" y="25"/>
                  </a:lnTo>
                  <a:lnTo>
                    <a:pt x="171" y="63"/>
                  </a:lnTo>
                  <a:lnTo>
                    <a:pt x="133" y="97"/>
                  </a:lnTo>
                  <a:lnTo>
                    <a:pt x="52" y="108"/>
                  </a:lnTo>
                  <a:lnTo>
                    <a:pt x="0" y="97"/>
                  </a:lnTo>
                  <a:lnTo>
                    <a:pt x="14" y="59"/>
                  </a:lnTo>
                  <a:lnTo>
                    <a:pt x="14"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90" name=""/>
          <p:cNvSpPr/>
          <p:nvPr/>
        </p:nvSpPr>
        <p:spPr>
          <a:xfrm rot="1611000">
            <a:off x="1599840" y="3261960"/>
            <a:ext cx="768240" cy="1004760"/>
          </a:xfrm>
          <a:prstGeom prst="cube">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1" name=""/>
          <p:cNvSpPr/>
          <p:nvPr/>
        </p:nvSpPr>
        <p:spPr>
          <a:xfrm>
            <a:off x="533520" y="1523880"/>
            <a:ext cx="79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much tape must be used to connect rectangles of cardboard to make the box below? One piece of tape overlaps each edge to connect two sides together.</a:t>
            </a:r>
            <a:endParaRPr b="0" lang="en-US" sz="3600" spc="-1" strike="noStrike">
              <a:solidFill>
                <a:srgbClr val="000000"/>
              </a:solidFill>
              <a:latin typeface="Times New Roman"/>
            </a:endParaRPr>
          </a:p>
        </p:txBody>
      </p:sp>
      <p:grpSp>
        <p:nvGrpSpPr>
          <p:cNvPr id="692" name=""/>
          <p:cNvGrpSpPr/>
          <p:nvPr/>
        </p:nvGrpSpPr>
        <p:grpSpPr>
          <a:xfrm>
            <a:off x="3276720" y="4362480"/>
            <a:ext cx="4038480" cy="2039760"/>
            <a:chOff x="3276720" y="4362480"/>
            <a:chExt cx="4038480" cy="2039760"/>
          </a:xfrm>
        </p:grpSpPr>
        <p:sp>
          <p:nvSpPr>
            <p:cNvPr id="693" name=""/>
            <p:cNvSpPr/>
            <p:nvPr/>
          </p:nvSpPr>
          <p:spPr>
            <a:xfrm>
              <a:off x="3276720" y="4362480"/>
              <a:ext cx="2438280" cy="19620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429000" y="58816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76cm</a:t>
              </a:r>
              <a:endParaRPr b="0" lang="en-US" sz="2800" spc="-1" strike="noStrike">
                <a:solidFill>
                  <a:srgbClr val="000000"/>
                </a:solidFill>
                <a:latin typeface="Times New Roman"/>
              </a:endParaRPr>
            </a:p>
          </p:txBody>
        </p:sp>
        <p:sp>
          <p:nvSpPr>
            <p:cNvPr id="695" name=""/>
            <p:cNvSpPr/>
            <p:nvPr/>
          </p:nvSpPr>
          <p:spPr>
            <a:xfrm>
              <a:off x="5410080" y="586728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7.71cm</a:t>
              </a:r>
              <a:endParaRPr b="0" lang="en-US" sz="2800" spc="-1" strike="noStrike">
                <a:solidFill>
                  <a:srgbClr val="000000"/>
                </a:solidFill>
                <a:latin typeface="Times New Roman"/>
              </a:endParaRPr>
            </a:p>
          </p:txBody>
        </p:sp>
        <p:sp>
          <p:nvSpPr>
            <p:cNvPr id="696" name=""/>
            <p:cNvSpPr/>
            <p:nvPr/>
          </p:nvSpPr>
          <p:spPr>
            <a:xfrm>
              <a:off x="5638680" y="487692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4.53cm</a:t>
              </a:r>
              <a:endParaRPr b="0" lang="en-US" sz="2800" spc="-1" strike="noStrike">
                <a:solidFill>
                  <a:srgbClr val="000000"/>
                </a:solidFill>
                <a:latin typeface="Times New Roman"/>
              </a:endParaRPr>
            </a:p>
          </p:txBody>
        </p:sp>
      </p:grpSp>
      <p:sp>
        <p:nvSpPr>
          <p:cNvPr id="697" name=""/>
          <p:cNvSpPr/>
          <p:nvPr/>
        </p:nvSpPr>
        <p:spPr>
          <a:xfrm>
            <a:off x="533520" y="1523880"/>
            <a:ext cx="79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much tape must be used to connect rectangles of cardboard to make the </a:t>
            </a:r>
            <a:r>
              <a:rPr b="0" lang="en-US" sz="3600" spc="-1" strike="noStrike">
                <a:solidFill>
                  <a:srgbClr val="00cc99"/>
                </a:solidFill>
                <a:latin typeface="Comic Sans MS"/>
              </a:rPr>
              <a:t>box below</a:t>
            </a:r>
            <a:r>
              <a:rPr b="0" lang="en-US" sz="3600" spc="-1" strike="noStrike">
                <a:solidFill>
                  <a:srgbClr val="000000"/>
                </a:solidFill>
                <a:latin typeface="Comic Sans MS"/>
              </a:rPr>
              <a:t>? One piece of </a:t>
            </a:r>
            <a:r>
              <a:rPr b="0" lang="en-US" sz="3600" spc="-1" strike="noStrike">
                <a:solidFill>
                  <a:srgbClr val="00cc99"/>
                </a:solidFill>
                <a:latin typeface="Comic Sans MS"/>
              </a:rPr>
              <a:t>tape overlaps each edge</a:t>
            </a:r>
            <a:r>
              <a:rPr b="0" lang="en-US" sz="3600" spc="-1" strike="noStrike">
                <a:solidFill>
                  <a:srgbClr val="000000"/>
                </a:solidFill>
                <a:latin typeface="Comic Sans MS"/>
              </a:rPr>
              <a:t> to connect two sides together.</a:t>
            </a:r>
            <a:endParaRPr b="0" lang="en-US" sz="3600" spc="-1" strike="noStrike">
              <a:solidFill>
                <a:srgbClr val="000000"/>
              </a:solidFill>
              <a:latin typeface="Times New Roman"/>
            </a:endParaRPr>
          </a:p>
        </p:txBody>
      </p:sp>
      <p:sp>
        <p:nvSpPr>
          <p:cNvPr id="698" name=""/>
          <p:cNvSpPr/>
          <p:nvPr/>
        </p:nvSpPr>
        <p:spPr>
          <a:xfrm>
            <a:off x="533520" y="1523880"/>
            <a:ext cx="79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How much tape</a:t>
            </a:r>
            <a:r>
              <a:rPr b="0" lang="en-US" sz="3600" spc="-1" strike="noStrike">
                <a:solidFill>
                  <a:srgbClr val="000000"/>
                </a:solidFill>
                <a:latin typeface="Comic Sans MS"/>
              </a:rPr>
              <a:t> must be used to connect rectangles of cardboard to make the </a:t>
            </a:r>
            <a:r>
              <a:rPr b="0" lang="en-US" sz="3600" spc="-1" strike="noStrike">
                <a:solidFill>
                  <a:srgbClr val="00cc99"/>
                </a:solidFill>
                <a:latin typeface="Comic Sans MS"/>
              </a:rPr>
              <a:t>box below</a:t>
            </a:r>
            <a:r>
              <a:rPr b="0" lang="en-US" sz="3600" spc="-1" strike="noStrike">
                <a:solidFill>
                  <a:srgbClr val="000000"/>
                </a:solidFill>
                <a:latin typeface="Comic Sans MS"/>
              </a:rPr>
              <a:t>? One piece of </a:t>
            </a:r>
            <a:r>
              <a:rPr b="0" lang="en-US" sz="3600" spc="-1" strike="noStrike">
                <a:solidFill>
                  <a:srgbClr val="00cc99"/>
                </a:solidFill>
                <a:latin typeface="Comic Sans MS"/>
              </a:rPr>
              <a:t>tape overlaps each edge</a:t>
            </a:r>
            <a:r>
              <a:rPr b="0" lang="en-US" sz="3600" spc="-1" strike="noStrike">
                <a:solidFill>
                  <a:srgbClr val="000000"/>
                </a:solidFill>
                <a:latin typeface="Comic Sans MS"/>
              </a:rPr>
              <a:t> to connect two sides together.</a:t>
            </a:r>
            <a:endParaRPr b="0" lang="en-US" sz="3600" spc="-1" strike="noStrike">
              <a:solidFill>
                <a:srgbClr val="000000"/>
              </a:solidFill>
              <a:latin typeface="Times New Roman"/>
            </a:endParaRPr>
          </a:p>
        </p:txBody>
      </p:sp>
      <p:sp>
        <p:nvSpPr>
          <p:cNvPr id="699"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pull dir="l"/>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697"/>
                                        </p:tgtEl>
                                        <p:attrNameLst>
                                          <p:attrName>style.visibility</p:attrName>
                                        </p:attrNameLst>
                                      </p:cBhvr>
                                      <p:to>
                                        <p:strVal val="visible"/>
                                      </p:to>
                                    </p:set>
                                    <p:animEffect filter="dissolve" transition="in">
                                      <p:cBhvr additive="repl">
                                        <p:cTn id="672" dur="500"/>
                                        <p:tgtEl>
                                          <p:spTgt spid="69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698"/>
                                        </p:tgtEl>
                                        <p:attrNameLst>
                                          <p:attrName>style.visibility</p:attrName>
                                        </p:attrNameLst>
                                      </p:cBhvr>
                                      <p:to>
                                        <p:strVal val="visible"/>
                                      </p:to>
                                    </p:set>
                                    <p:animEffect filter="dissolve" transition="in">
                                      <p:cBhvr additive="repl">
                                        <p:cTn id="677"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97" name=""/>
          <p:cNvGrpSpPr/>
          <p:nvPr/>
        </p:nvGrpSpPr>
        <p:grpSpPr>
          <a:xfrm>
            <a:off x="533520" y="2895480"/>
            <a:ext cx="2361960" cy="2971800"/>
            <a:chOff x="533520" y="2895480"/>
            <a:chExt cx="2361960" cy="2971800"/>
          </a:xfrm>
        </p:grpSpPr>
        <p:sp>
          <p:nvSpPr>
            <p:cNvPr id="198" name=""/>
            <p:cNvSpPr/>
            <p:nvPr/>
          </p:nvSpPr>
          <p:spPr>
            <a:xfrm>
              <a:off x="533520" y="2895480"/>
              <a:ext cx="236196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2160" y="2907720"/>
              <a:ext cx="234432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01320" y="2932560"/>
              <a:ext cx="12384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334160" y="2945160"/>
              <a:ext cx="7056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27960" y="2970000"/>
              <a:ext cx="529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413720" y="2988720"/>
              <a:ext cx="7056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493280" y="3013560"/>
              <a:ext cx="6192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59520" y="3025800"/>
              <a:ext cx="795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30440" y="3032280"/>
              <a:ext cx="7488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19000" y="3069360"/>
              <a:ext cx="572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130400" y="3088080"/>
              <a:ext cx="91116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073160" y="3094200"/>
              <a:ext cx="11916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95120" y="3094200"/>
              <a:ext cx="12816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104120" y="3094200"/>
              <a:ext cx="15480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94240" y="3106800"/>
              <a:ext cx="6192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869480" y="3125520"/>
              <a:ext cx="4392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22400" y="3137760"/>
              <a:ext cx="4392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84320" y="3156480"/>
              <a:ext cx="3096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028600" y="3169080"/>
              <a:ext cx="3960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396080" y="3312000"/>
              <a:ext cx="23868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643760" y="3367800"/>
              <a:ext cx="1987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409400" y="3399120"/>
              <a:ext cx="18576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79960" y="3411360"/>
              <a:ext cx="9288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661400" y="3442320"/>
              <a:ext cx="16344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524240" y="3454920"/>
              <a:ext cx="2196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3" name=""/>
            <p:cNvSpPr/>
            <p:nvPr/>
          </p:nvSpPr>
          <p:spPr>
            <a:xfrm>
              <a:off x="1692360" y="3479760"/>
              <a:ext cx="7056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23320" y="3510720"/>
              <a:ext cx="2196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5" name=""/>
            <p:cNvSpPr/>
            <p:nvPr/>
          </p:nvSpPr>
          <p:spPr>
            <a:xfrm>
              <a:off x="1267560" y="3784320"/>
              <a:ext cx="6192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6" name=""/>
            <p:cNvSpPr/>
            <p:nvPr/>
          </p:nvSpPr>
          <p:spPr>
            <a:xfrm>
              <a:off x="1254240" y="3827880"/>
              <a:ext cx="55296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329560" y="3927600"/>
              <a:ext cx="3668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077480" y="3964680"/>
              <a:ext cx="129168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47440" y="4045680"/>
              <a:ext cx="18108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033200" y="4089240"/>
              <a:ext cx="262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068480" y="4101480"/>
              <a:ext cx="3096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81800" y="4101480"/>
              <a:ext cx="132696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78400" y="4194720"/>
              <a:ext cx="34488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69400" y="4250880"/>
              <a:ext cx="1105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130480" y="4257000"/>
              <a:ext cx="7956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96720" y="4269600"/>
              <a:ext cx="12816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19600" y="4287960"/>
              <a:ext cx="10584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183680" y="4319280"/>
              <a:ext cx="88452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72200" y="4356360"/>
              <a:ext cx="795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9800" y="4375080"/>
              <a:ext cx="3960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971000" y="4381560"/>
              <a:ext cx="3528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 name=""/>
            <p:cNvSpPr/>
            <p:nvPr/>
          </p:nvSpPr>
          <p:spPr>
            <a:xfrm>
              <a:off x="564120" y="4393800"/>
              <a:ext cx="24300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059840" y="4399920"/>
              <a:ext cx="8935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74080" y="4437360"/>
              <a:ext cx="2196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90760" y="4654800"/>
              <a:ext cx="15480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2240" y="4654800"/>
              <a:ext cx="3960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7" name=""/>
            <p:cNvSpPr/>
            <p:nvPr/>
          </p:nvSpPr>
          <p:spPr>
            <a:xfrm>
              <a:off x="1015560" y="4661280"/>
              <a:ext cx="4860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988920" y="4679640"/>
              <a:ext cx="4860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953640" y="4698360"/>
              <a:ext cx="4860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719000" y="4860000"/>
              <a:ext cx="28296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98560" y="4884840"/>
              <a:ext cx="4392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2" name=""/>
            <p:cNvSpPr/>
            <p:nvPr/>
          </p:nvSpPr>
          <p:spPr>
            <a:xfrm>
              <a:off x="1811880" y="4922280"/>
              <a:ext cx="306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53" name=""/>
            <p:cNvSpPr/>
            <p:nvPr/>
          </p:nvSpPr>
          <p:spPr>
            <a:xfrm>
              <a:off x="1842840" y="4965840"/>
              <a:ext cx="1296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4" name=""/>
            <p:cNvSpPr/>
            <p:nvPr/>
          </p:nvSpPr>
          <p:spPr>
            <a:xfrm>
              <a:off x="1099440" y="5140080"/>
              <a:ext cx="33156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731880" y="1447920"/>
            <a:ext cx="7954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hen you finish this unit, you will be able to:</a:t>
            </a:r>
            <a:endParaRPr b="0" lang="en-US" sz="3200" spc="-1" strike="noStrike">
              <a:solidFill>
                <a:srgbClr val="000000"/>
              </a:solidFill>
              <a:latin typeface="Times New Roman"/>
            </a:endParaRPr>
          </a:p>
        </p:txBody>
      </p:sp>
      <p:sp>
        <p:nvSpPr>
          <p:cNvPr id="256" name=""/>
          <p:cNvSpPr/>
          <p:nvPr/>
        </p:nvSpPr>
        <p:spPr>
          <a:xfrm>
            <a:off x="2895480" y="2514600"/>
            <a:ext cx="55627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ve word problems that involve simple geometric relationships and decimal numbers</a:t>
            </a:r>
            <a:endParaRPr b="0" lang="en-US" sz="3200" spc="-1" strike="noStrike">
              <a:solidFill>
                <a:srgbClr val="000000"/>
              </a:solidFill>
              <a:latin typeface="Times New Roman"/>
            </a:endParaRPr>
          </a:p>
        </p:txBody>
      </p:sp>
      <p:sp>
        <p:nvSpPr>
          <p:cNvPr id="257" name=""/>
          <p:cNvSpPr/>
          <p:nvPr/>
        </p:nvSpPr>
        <p:spPr>
          <a:xfrm>
            <a:off x="3809880" y="7002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ew</a:t>
            </a:r>
            <a:endParaRPr b="0" lang="en-US" sz="2800" spc="-1" strike="noStrike">
              <a:solidFill>
                <a:srgbClr val="000000"/>
              </a:solidFill>
              <a:latin typeface="Times New Roman"/>
            </a:endParaRPr>
          </a:p>
        </p:txBody>
      </p:sp>
    </p:spTree>
  </p:cSld>
  <p:transition>
    <p:dissolv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256"/>
                                        </p:tgtEl>
                                        <p:attrNameLst>
                                          <p:attrName>style.visibility</p:attrName>
                                        </p:attrNameLst>
                                      </p:cBhvr>
                                      <p:to>
                                        <p:strVal val="visible"/>
                                      </p:to>
                                    </p:set>
                                    <p:anim calcmode="lin" valueType="num">
                                      <p:cBhvr additive="repl">
                                        <p:cTn id="23" dur="500" fill="hold"/>
                                        <p:tgtEl>
                                          <p:spTgt spid="256"/>
                                        </p:tgtEl>
                                        <p:attrNameLst>
                                          <p:attrName>ppt_w</p:attrName>
                                        </p:attrNameLst>
                                      </p:cBhvr>
                                      <p:tavLst>
                                        <p:tav tm="0">
                                          <p:val>
                                            <p:fltVal val="0"/>
                                          </p:val>
                                        </p:tav>
                                        <p:tav tm="100000">
                                          <p:val>
                                            <p:strVal val="#ppt_w"/>
                                          </p:val>
                                        </p:tav>
                                      </p:tavLst>
                                    </p:anim>
                                    <p:anim calcmode="lin" valueType="num">
                                      <p:cBhvr additive="repl">
                                        <p:cTn id="24" dur="500" fill="hold"/>
                                        <p:tgtEl>
                                          <p:spTgt spid="2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00" name=""/>
          <p:cNvSpPr/>
          <p:nvPr/>
        </p:nvSpPr>
        <p:spPr>
          <a:xfrm>
            <a:off x="45720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701" name=""/>
          <p:cNvSpPr/>
          <p:nvPr/>
        </p:nvSpPr>
        <p:spPr>
          <a:xfrm>
            <a:off x="457200" y="368784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s:                                       How much tape to connect panels?</a:t>
            </a:r>
            <a:endParaRPr b="0" lang="en-US" sz="3200" spc="-1" strike="noStrike">
              <a:solidFill>
                <a:srgbClr val="000000"/>
              </a:solidFill>
              <a:latin typeface="Times New Roman"/>
            </a:endParaRPr>
          </a:p>
        </p:txBody>
      </p:sp>
      <p:grpSp>
        <p:nvGrpSpPr>
          <p:cNvPr id="702" name=""/>
          <p:cNvGrpSpPr/>
          <p:nvPr/>
        </p:nvGrpSpPr>
        <p:grpSpPr>
          <a:xfrm>
            <a:off x="394920" y="1695600"/>
            <a:ext cx="7758360" cy="2039760"/>
            <a:chOff x="394920" y="1695600"/>
            <a:chExt cx="7758360" cy="2039760"/>
          </a:xfrm>
        </p:grpSpPr>
        <p:sp>
          <p:nvSpPr>
            <p:cNvPr id="703" name=""/>
            <p:cNvSpPr/>
            <p:nvPr/>
          </p:nvSpPr>
          <p:spPr>
            <a:xfrm>
              <a:off x="394920" y="2011320"/>
              <a:ext cx="308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Box in diagram</a:t>
              </a:r>
              <a:endParaRPr b="0" lang="en-US" sz="3200" spc="-1" strike="noStrike">
                <a:solidFill>
                  <a:srgbClr val="000000"/>
                </a:solidFill>
                <a:latin typeface="Times New Roman"/>
              </a:endParaRPr>
            </a:p>
          </p:txBody>
        </p:sp>
        <p:sp>
          <p:nvSpPr>
            <p:cNvPr id="704" name=""/>
            <p:cNvSpPr/>
            <p:nvPr/>
          </p:nvSpPr>
          <p:spPr>
            <a:xfrm>
              <a:off x="4114800" y="1695600"/>
              <a:ext cx="2438280" cy="19620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267080" y="321480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2.76cm</a:t>
              </a:r>
              <a:endParaRPr b="0" lang="en-US" sz="2800" spc="-1" strike="noStrike">
                <a:solidFill>
                  <a:srgbClr val="000000"/>
                </a:solidFill>
                <a:latin typeface="Times New Roman"/>
              </a:endParaRPr>
            </a:p>
          </p:txBody>
        </p:sp>
        <p:sp>
          <p:nvSpPr>
            <p:cNvPr id="706" name=""/>
            <p:cNvSpPr/>
            <p:nvPr/>
          </p:nvSpPr>
          <p:spPr>
            <a:xfrm>
              <a:off x="6248520" y="3200400"/>
              <a:ext cx="167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7.71cm</a:t>
              </a:r>
              <a:endParaRPr b="0" lang="en-US" sz="2800" spc="-1" strike="noStrike">
                <a:solidFill>
                  <a:srgbClr val="000000"/>
                </a:solidFill>
                <a:latin typeface="Times New Roman"/>
              </a:endParaRPr>
            </a:p>
          </p:txBody>
        </p:sp>
        <p:sp>
          <p:nvSpPr>
            <p:cNvPr id="707" name=""/>
            <p:cNvSpPr/>
            <p:nvPr/>
          </p:nvSpPr>
          <p:spPr>
            <a:xfrm>
              <a:off x="6477120" y="2209680"/>
              <a:ext cx="167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4.53cm</a:t>
              </a:r>
              <a:endParaRPr b="0" lang="en-US" sz="2800" spc="-1" strike="noStrike">
                <a:solidFill>
                  <a:srgbClr val="000000"/>
                </a:solidFill>
                <a:latin typeface="Times New Roman"/>
              </a:endParaRPr>
            </a:p>
          </p:txBody>
        </p:sp>
      </p:grpSp>
      <p:sp>
        <p:nvSpPr>
          <p:cNvPr id="708" name=""/>
          <p:cNvSpPr/>
          <p:nvPr/>
        </p:nvSpPr>
        <p:spPr>
          <a:xfrm>
            <a:off x="271440" y="4724280"/>
            <a:ext cx="546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How many common edges?</a:t>
            </a:r>
            <a:endParaRPr b="0" lang="en-US" sz="3200" spc="-1" strike="noStrike">
              <a:solidFill>
                <a:srgbClr val="000000"/>
              </a:solidFill>
              <a:latin typeface="Times New Roman"/>
            </a:endParaRPr>
          </a:p>
        </p:txBody>
      </p:sp>
      <p:sp>
        <p:nvSpPr>
          <p:cNvPr id="709" name=""/>
          <p:cNvSpPr/>
          <p:nvPr/>
        </p:nvSpPr>
        <p:spPr>
          <a:xfrm>
            <a:off x="528480" y="528804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hat size?</a:t>
            </a:r>
            <a:endParaRPr b="0" lang="en-US" sz="3200" spc="-1" strike="noStrike">
              <a:solidFill>
                <a:srgbClr val="000000"/>
              </a:solidFill>
              <a:latin typeface="Times New Roman"/>
            </a:endParaRPr>
          </a:p>
        </p:txBody>
      </p:sp>
      <p:sp>
        <p:nvSpPr>
          <p:cNvPr id="710"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702"/>
                                        </p:tgtEl>
                                        <p:attrNameLst>
                                          <p:attrName>style.visibility</p:attrName>
                                        </p:attrNameLst>
                                      </p:cBhvr>
                                      <p:to>
                                        <p:strVal val="visible"/>
                                      </p:to>
                                    </p:set>
                                    <p:animEffect filter="dissolve" transition="in">
                                      <p:cBhvr additive="repl">
                                        <p:cTn id="684" dur="500"/>
                                        <p:tgtEl>
                                          <p:spTgt spid="702"/>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9">
                                  <p:stCondLst>
                                    <p:cond delay="0"/>
                                  </p:stCondLst>
                                  <p:childTnLst>
                                    <p:set>
                                      <p:cBhvr>
                                        <p:cTn id="688" dur="1" fill="hold">
                                          <p:stCondLst>
                                            <p:cond delay="0"/>
                                          </p:stCondLst>
                                        </p:cTn>
                                        <p:tgtEl>
                                          <p:spTgt spid="701"/>
                                        </p:tgtEl>
                                        <p:attrNameLst>
                                          <p:attrName>style.visibility</p:attrName>
                                        </p:attrNameLst>
                                      </p:cBhvr>
                                      <p:to>
                                        <p:strVal val="visible"/>
                                      </p:to>
                                    </p:set>
                                    <p:animEffect filter="dissolve" transition="in">
                                      <p:cBhvr additive="repl">
                                        <p:cTn id="689" dur="500"/>
                                        <p:tgtEl>
                                          <p:spTgt spid="70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708"/>
                                        </p:tgtEl>
                                        <p:attrNameLst>
                                          <p:attrName>style.visibility</p:attrName>
                                        </p:attrNameLst>
                                      </p:cBhvr>
                                      <p:to>
                                        <p:strVal val="visible"/>
                                      </p:to>
                                    </p:set>
                                    <p:animEffect filter="dissolve" transition="in">
                                      <p:cBhvr additive="repl">
                                        <p:cTn id="694" dur="500"/>
                                        <p:tgtEl>
                                          <p:spTgt spid="708"/>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709"/>
                                        </p:tgtEl>
                                        <p:attrNameLst>
                                          <p:attrName>style.visibility</p:attrName>
                                        </p:attrNameLst>
                                      </p:cBhvr>
                                      <p:to>
                                        <p:strVal val="visible"/>
                                      </p:to>
                                    </p:set>
                                    <p:animEffect filter="dissolve" transition="in">
                                      <p:cBhvr additive="repl">
                                        <p:cTn id="699"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11"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712" name=""/>
          <p:cNvSpPr/>
          <p:nvPr/>
        </p:nvSpPr>
        <p:spPr>
          <a:xfrm>
            <a:off x="914400" y="3048120"/>
            <a:ext cx="2057400" cy="2438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14"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715" name=""/>
          <p:cNvSpPr/>
          <p:nvPr/>
        </p:nvSpPr>
        <p:spPr>
          <a:xfrm>
            <a:off x="914400" y="2301840"/>
            <a:ext cx="2743200" cy="3184560"/>
          </a:xfrm>
          <a:prstGeom prst="cube">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600200" y="2301840"/>
            <a:ext cx="0" cy="24987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600200" y="480060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914040" y="4800600"/>
            <a:ext cx="685800" cy="685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029200" y="230184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hidden edges</a:t>
            </a:r>
            <a:endParaRPr b="0" lang="en-US" sz="2800" spc="-1" strike="noStrike">
              <a:solidFill>
                <a:srgbClr val="000000"/>
              </a:solidFill>
              <a:latin typeface="Times New Roman"/>
            </a:endParaRPr>
          </a:p>
        </p:txBody>
      </p:sp>
      <p:sp>
        <p:nvSpPr>
          <p:cNvPr id="720"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21" name=""/>
          <p:cNvSpPr/>
          <p:nvPr/>
        </p:nvSpPr>
        <p:spPr>
          <a:xfrm flipH="1">
            <a:off x="914040" y="4800600"/>
            <a:ext cx="685800" cy="6858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124080" y="14479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723" name=""/>
          <p:cNvSpPr/>
          <p:nvPr/>
        </p:nvSpPr>
        <p:spPr>
          <a:xfrm>
            <a:off x="914400" y="2301840"/>
            <a:ext cx="2743200" cy="3184560"/>
          </a:xfrm>
          <a:prstGeom prst="cube">
            <a:avLst>
              <a:gd name="adj"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00200" y="2301840"/>
            <a:ext cx="0" cy="24987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00200" y="4800600"/>
            <a:ext cx="205740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029200" y="230184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e hidden edges</a:t>
            </a:r>
            <a:endParaRPr b="0" lang="en-US" sz="2800" spc="-1" strike="noStrike">
              <a:solidFill>
                <a:srgbClr val="000000"/>
              </a:solidFill>
              <a:latin typeface="Times New Roman"/>
            </a:endParaRPr>
          </a:p>
        </p:txBody>
      </p:sp>
      <p:sp>
        <p:nvSpPr>
          <p:cNvPr id="727" name=""/>
          <p:cNvSpPr/>
          <p:nvPr/>
        </p:nvSpPr>
        <p:spPr>
          <a:xfrm>
            <a:off x="5029200" y="2971800"/>
            <a:ext cx="32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or edges taped together</a:t>
            </a:r>
            <a:endParaRPr b="0" lang="en-US" sz="2800" spc="-1" strike="noStrike">
              <a:solidFill>
                <a:srgbClr val="000000"/>
              </a:solidFill>
              <a:latin typeface="Times New Roman"/>
            </a:endParaRPr>
          </a:p>
        </p:txBody>
      </p:sp>
      <p:grpSp>
        <p:nvGrpSpPr>
          <p:cNvPr id="728" name=""/>
          <p:cNvGrpSpPr/>
          <p:nvPr/>
        </p:nvGrpSpPr>
        <p:grpSpPr>
          <a:xfrm>
            <a:off x="914040" y="2285640"/>
            <a:ext cx="7391880" cy="3279600"/>
            <a:chOff x="914040" y="2285640"/>
            <a:chExt cx="7391880" cy="3279600"/>
          </a:xfrm>
        </p:grpSpPr>
        <p:sp>
          <p:nvSpPr>
            <p:cNvPr id="729" name=""/>
            <p:cNvSpPr/>
            <p:nvPr/>
          </p:nvSpPr>
          <p:spPr>
            <a:xfrm flipH="1">
              <a:off x="914040" y="4800600"/>
              <a:ext cx="685800" cy="685800"/>
            </a:xfrm>
            <a:prstGeom prst="line">
              <a:avLst/>
            </a:prstGeom>
            <a:ln w="38160">
              <a:solidFill>
                <a:srgbClr val="c705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914400" y="2301480"/>
              <a:ext cx="685800" cy="669960"/>
            </a:xfrm>
            <a:prstGeom prst="line">
              <a:avLst/>
            </a:prstGeom>
            <a:ln w="38160">
              <a:solidFill>
                <a:srgbClr val="c705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2971800" y="2285640"/>
              <a:ext cx="685800" cy="669960"/>
            </a:xfrm>
            <a:prstGeom prst="line">
              <a:avLst/>
            </a:prstGeom>
            <a:ln w="38160">
              <a:solidFill>
                <a:srgbClr val="c705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2971800" y="4816080"/>
              <a:ext cx="685800" cy="669960"/>
            </a:xfrm>
            <a:prstGeom prst="line">
              <a:avLst/>
            </a:prstGeom>
            <a:ln w="38160">
              <a:solidFill>
                <a:srgbClr val="c705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029200" y="4038480"/>
              <a:ext cx="32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pieces – 37.71cm</a:t>
              </a:r>
              <a:endParaRPr b="0" lang="en-US" sz="2800" spc="-1" strike="noStrike">
                <a:solidFill>
                  <a:srgbClr val="000000"/>
                </a:solidFill>
                <a:latin typeface="Times New Roman"/>
              </a:endParaRPr>
            </a:p>
          </p:txBody>
        </p:sp>
        <p:sp>
          <p:nvSpPr>
            <p:cNvPr id="734" name=""/>
            <p:cNvSpPr/>
            <p:nvPr/>
          </p:nvSpPr>
          <p:spPr>
            <a:xfrm flipV="1">
              <a:off x="3200400" y="4800240"/>
              <a:ext cx="685800" cy="68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484800" y="510552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71cm</a:t>
              </a:r>
              <a:endParaRPr b="0" lang="en-US" sz="2400" spc="-1" strike="noStrike">
                <a:solidFill>
                  <a:srgbClr val="000000"/>
                </a:solidFill>
                <a:latin typeface="Times New Roman"/>
              </a:endParaRPr>
            </a:p>
          </p:txBody>
        </p:sp>
      </p:grpSp>
      <p:grpSp>
        <p:nvGrpSpPr>
          <p:cNvPr id="736" name=""/>
          <p:cNvGrpSpPr/>
          <p:nvPr/>
        </p:nvGrpSpPr>
        <p:grpSpPr>
          <a:xfrm>
            <a:off x="914400" y="2286000"/>
            <a:ext cx="7620120" cy="3645720"/>
            <a:chOff x="914400" y="2286000"/>
            <a:chExt cx="7620120" cy="3645720"/>
          </a:xfrm>
        </p:grpSpPr>
        <p:sp>
          <p:nvSpPr>
            <p:cNvPr id="737" name=""/>
            <p:cNvSpPr/>
            <p:nvPr/>
          </p:nvSpPr>
          <p:spPr>
            <a:xfrm>
              <a:off x="5029200" y="47242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pieces – 62.76cm</a:t>
              </a:r>
              <a:endParaRPr b="0" lang="en-US" sz="2800" spc="-1" strike="noStrike">
                <a:solidFill>
                  <a:srgbClr val="000000"/>
                </a:solidFill>
                <a:latin typeface="Times New Roman"/>
              </a:endParaRPr>
            </a:p>
          </p:txBody>
        </p:sp>
        <p:sp>
          <p:nvSpPr>
            <p:cNvPr id="738" name=""/>
            <p:cNvSpPr/>
            <p:nvPr/>
          </p:nvSpPr>
          <p:spPr>
            <a:xfrm>
              <a:off x="1222920" y="547200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2.76cm</a:t>
              </a:r>
              <a:endParaRPr b="0" lang="en-US" sz="2400" spc="-1" strike="noStrike">
                <a:solidFill>
                  <a:srgbClr val="000000"/>
                </a:solidFill>
                <a:latin typeface="Times New Roman"/>
              </a:endParaRPr>
            </a:p>
          </p:txBody>
        </p:sp>
        <p:sp>
          <p:nvSpPr>
            <p:cNvPr id="739" name=""/>
            <p:cNvSpPr/>
            <p:nvPr/>
          </p:nvSpPr>
          <p:spPr>
            <a:xfrm>
              <a:off x="2616120" y="5700600"/>
              <a:ext cx="355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914400" y="5700600"/>
              <a:ext cx="355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914400" y="5472000"/>
              <a:ext cx="2057400" cy="14400"/>
            </a:xfrm>
            <a:prstGeom prst="line">
              <a:avLst/>
            </a:prstGeom>
            <a:ln w="381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2" name=""/>
            <p:cNvSpPr/>
            <p:nvPr/>
          </p:nvSpPr>
          <p:spPr>
            <a:xfrm flipV="1">
              <a:off x="914400" y="2971800"/>
              <a:ext cx="2057400" cy="14400"/>
            </a:xfrm>
            <a:prstGeom prst="line">
              <a:avLst/>
            </a:prstGeom>
            <a:ln w="381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flipV="1">
              <a:off x="1600200" y="2286000"/>
              <a:ext cx="2057400" cy="14400"/>
            </a:xfrm>
            <a:prstGeom prst="line">
              <a:avLst/>
            </a:prstGeom>
            <a:ln w="3816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flipV="1">
              <a:off x="1600200" y="4800600"/>
              <a:ext cx="2057400" cy="14400"/>
            </a:xfrm>
            <a:prstGeom prst="line">
              <a:avLst/>
            </a:prstGeom>
            <a:ln w="38160">
              <a:solidFill>
                <a:srgbClr val="0000ff"/>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745" name=""/>
          <p:cNvGrpSpPr/>
          <p:nvPr/>
        </p:nvGrpSpPr>
        <p:grpSpPr>
          <a:xfrm>
            <a:off x="914400" y="2285640"/>
            <a:ext cx="7620120" cy="3645000"/>
            <a:chOff x="914400" y="2285640"/>
            <a:chExt cx="7620120" cy="3645000"/>
          </a:xfrm>
        </p:grpSpPr>
        <p:sp>
          <p:nvSpPr>
            <p:cNvPr id="746" name=""/>
            <p:cNvSpPr/>
            <p:nvPr/>
          </p:nvSpPr>
          <p:spPr>
            <a:xfrm>
              <a:off x="5029200" y="54100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pieces – 84.53cm</a:t>
              </a:r>
              <a:endParaRPr b="0" lang="en-US" sz="2800" spc="-1" strike="noStrike">
                <a:solidFill>
                  <a:srgbClr val="000000"/>
                </a:solidFill>
                <a:latin typeface="Times New Roman"/>
              </a:endParaRPr>
            </a:p>
          </p:txBody>
        </p:sp>
        <p:sp>
          <p:nvSpPr>
            <p:cNvPr id="747" name=""/>
            <p:cNvSpPr/>
            <p:nvPr/>
          </p:nvSpPr>
          <p:spPr>
            <a:xfrm>
              <a:off x="3636000" y="3429000"/>
              <a:ext cx="138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4.53cm</a:t>
              </a:r>
              <a:endParaRPr b="0" lang="en-US" sz="2400" spc="-1" strike="noStrike">
                <a:solidFill>
                  <a:srgbClr val="000000"/>
                </a:solidFill>
                <a:latin typeface="Times New Roman"/>
              </a:endParaRPr>
            </a:p>
          </p:txBody>
        </p:sp>
        <p:sp>
          <p:nvSpPr>
            <p:cNvPr id="748" name=""/>
            <p:cNvSpPr/>
            <p:nvPr/>
          </p:nvSpPr>
          <p:spPr>
            <a:xfrm>
              <a:off x="3886200" y="38862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V="1">
              <a:off x="3886200" y="236196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V="1">
              <a:off x="2971800" y="2955600"/>
              <a:ext cx="0" cy="2516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3657600" y="2285640"/>
              <a:ext cx="0" cy="2516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600200" y="2285640"/>
              <a:ext cx="0" cy="2516040"/>
            </a:xfrm>
            <a:prstGeom prst="line">
              <a:avLst/>
            </a:prstGeom>
            <a:ln w="381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914400" y="2971440"/>
              <a:ext cx="0" cy="25160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728"/>
                                        </p:tgtEl>
                                        <p:attrNameLst>
                                          <p:attrName>style.visibility</p:attrName>
                                        </p:attrNameLst>
                                      </p:cBhvr>
                                      <p:to>
                                        <p:strVal val="visible"/>
                                      </p:to>
                                    </p:set>
                                    <p:animEffect filter="dissolve" transition="in">
                                      <p:cBhvr additive="repl">
                                        <p:cTn id="706" dur="500"/>
                                        <p:tgtEl>
                                          <p:spTgt spid="7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9">
                                  <p:stCondLst>
                                    <p:cond delay="0"/>
                                  </p:stCondLst>
                                  <p:childTnLst>
                                    <p:set>
                                      <p:cBhvr>
                                        <p:cTn id="710" dur="1" fill="hold">
                                          <p:stCondLst>
                                            <p:cond delay="0"/>
                                          </p:stCondLst>
                                        </p:cTn>
                                        <p:tgtEl>
                                          <p:spTgt spid="736"/>
                                        </p:tgtEl>
                                        <p:attrNameLst>
                                          <p:attrName>style.visibility</p:attrName>
                                        </p:attrNameLst>
                                      </p:cBhvr>
                                      <p:to>
                                        <p:strVal val="visible"/>
                                      </p:to>
                                    </p:set>
                                    <p:animEffect filter="dissolve" transition="in">
                                      <p:cBhvr additive="repl">
                                        <p:cTn id="711" dur="500"/>
                                        <p:tgtEl>
                                          <p:spTgt spid="736"/>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9">
                                  <p:stCondLst>
                                    <p:cond delay="0"/>
                                  </p:stCondLst>
                                  <p:childTnLst>
                                    <p:set>
                                      <p:cBhvr>
                                        <p:cTn id="715" dur="1" fill="hold">
                                          <p:stCondLst>
                                            <p:cond delay="0"/>
                                          </p:stCondLst>
                                        </p:cTn>
                                        <p:tgtEl>
                                          <p:spTgt spid="745"/>
                                        </p:tgtEl>
                                        <p:attrNameLst>
                                          <p:attrName>style.visibility</p:attrName>
                                        </p:attrNameLst>
                                      </p:cBhvr>
                                      <p:to>
                                        <p:strVal val="visible"/>
                                      </p:to>
                                    </p:set>
                                    <p:animEffect filter="dissolve" transition="in">
                                      <p:cBhvr additive="repl">
                                        <p:cTn id="716"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55" name=""/>
          <p:cNvSpPr/>
          <p:nvPr/>
        </p:nvSpPr>
        <p:spPr>
          <a:xfrm>
            <a:off x="3124080" y="121932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alysis</a:t>
            </a:r>
            <a:endParaRPr b="0" lang="en-US" sz="4000" spc="-1" strike="noStrike">
              <a:solidFill>
                <a:srgbClr val="000000"/>
              </a:solidFill>
              <a:latin typeface="Times New Roman"/>
            </a:endParaRPr>
          </a:p>
        </p:txBody>
      </p:sp>
      <p:sp>
        <p:nvSpPr>
          <p:cNvPr id="756" name=""/>
          <p:cNvSpPr/>
          <p:nvPr/>
        </p:nvSpPr>
        <p:spPr>
          <a:xfrm>
            <a:off x="533520" y="167652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Total Tape</a:t>
            </a:r>
            <a:endParaRPr b="0" lang="en-US" sz="3600" spc="-1" strike="noStrike">
              <a:solidFill>
                <a:srgbClr val="000000"/>
              </a:solidFill>
              <a:latin typeface="Times New Roman"/>
            </a:endParaRPr>
          </a:p>
        </p:txBody>
      </p:sp>
      <p:sp>
        <p:nvSpPr>
          <p:cNvPr id="757" name=""/>
          <p:cNvSpPr/>
          <p:nvPr/>
        </p:nvSpPr>
        <p:spPr>
          <a:xfrm>
            <a:off x="762120" y="2406600"/>
            <a:ext cx="198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7.71cm 37.71cm 37.71cm 37.71cm</a:t>
            </a:r>
            <a:endParaRPr b="0" lang="en-US" sz="3600" spc="-1" strike="noStrike">
              <a:solidFill>
                <a:srgbClr val="000000"/>
              </a:solidFill>
              <a:latin typeface="Times New Roman"/>
            </a:endParaRPr>
          </a:p>
        </p:txBody>
      </p:sp>
      <p:grpSp>
        <p:nvGrpSpPr>
          <p:cNvPr id="758" name=""/>
          <p:cNvGrpSpPr/>
          <p:nvPr/>
        </p:nvGrpSpPr>
        <p:grpSpPr>
          <a:xfrm>
            <a:off x="2743200" y="2406600"/>
            <a:ext cx="2895480" cy="2288520"/>
            <a:chOff x="2743200" y="2406600"/>
            <a:chExt cx="2895480" cy="2288520"/>
          </a:xfrm>
        </p:grpSpPr>
        <p:sp>
          <p:nvSpPr>
            <p:cNvPr id="759" name=""/>
            <p:cNvSpPr/>
            <p:nvPr/>
          </p:nvSpPr>
          <p:spPr>
            <a:xfrm>
              <a:off x="3429000" y="2406600"/>
              <a:ext cx="2209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62.76cm 62.76cm 62.76cm 62.76cm</a:t>
              </a:r>
              <a:endParaRPr b="0" lang="en-US" sz="3600" spc="-1" strike="noStrike">
                <a:solidFill>
                  <a:srgbClr val="000000"/>
                </a:solidFill>
                <a:latin typeface="Times New Roman"/>
              </a:endParaRPr>
            </a:p>
          </p:txBody>
        </p:sp>
        <p:sp>
          <p:nvSpPr>
            <p:cNvPr id="760" name=""/>
            <p:cNvSpPr/>
            <p:nvPr/>
          </p:nvSpPr>
          <p:spPr>
            <a:xfrm>
              <a:off x="2743200" y="324504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grpSp>
      <p:grpSp>
        <p:nvGrpSpPr>
          <p:cNvPr id="761" name=""/>
          <p:cNvGrpSpPr/>
          <p:nvPr/>
        </p:nvGrpSpPr>
        <p:grpSpPr>
          <a:xfrm>
            <a:off x="5638680" y="2403360"/>
            <a:ext cx="2895840" cy="2288520"/>
            <a:chOff x="5638680" y="2403360"/>
            <a:chExt cx="2895840" cy="2288520"/>
          </a:xfrm>
        </p:grpSpPr>
        <p:sp>
          <p:nvSpPr>
            <p:cNvPr id="762" name=""/>
            <p:cNvSpPr/>
            <p:nvPr/>
          </p:nvSpPr>
          <p:spPr>
            <a:xfrm>
              <a:off x="6324480" y="2403360"/>
              <a:ext cx="2210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84.53cm 84.53cm 84.53cm 84.53cm</a:t>
              </a:r>
              <a:endParaRPr b="0" lang="en-US" sz="3600" spc="-1" strike="noStrike">
                <a:solidFill>
                  <a:srgbClr val="000000"/>
                </a:solidFill>
                <a:latin typeface="Times New Roman"/>
              </a:endParaRPr>
            </a:p>
          </p:txBody>
        </p:sp>
        <p:sp>
          <p:nvSpPr>
            <p:cNvPr id="763" name=""/>
            <p:cNvSpPr/>
            <p:nvPr/>
          </p:nvSpPr>
          <p:spPr>
            <a:xfrm>
              <a:off x="5638680" y="3241800"/>
              <a:ext cx="53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t>
              </a:r>
              <a:endParaRPr b="0" lang="en-US" sz="3600" spc="-1" strike="noStrike">
                <a:solidFill>
                  <a:srgbClr val="000000"/>
                </a:solidFill>
                <a:latin typeface="Times New Roman"/>
              </a:endParaRPr>
            </a:p>
          </p:txBody>
        </p:sp>
      </p:grpSp>
      <p:sp>
        <p:nvSpPr>
          <p:cNvPr id="764" name=""/>
          <p:cNvSpPr/>
          <p:nvPr/>
        </p:nvSpPr>
        <p:spPr>
          <a:xfrm>
            <a:off x="533520" y="4844880"/>
            <a:ext cx="800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85640" y="4844880"/>
            <a:ext cx="789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0.84cm  +  251.04cm   + 338.12cm</a:t>
            </a:r>
            <a:endParaRPr b="0" lang="en-US" sz="3600" spc="-1" strike="noStrike">
              <a:solidFill>
                <a:srgbClr val="000000"/>
              </a:solidFill>
              <a:latin typeface="Times New Roman"/>
            </a:endParaRPr>
          </a:p>
        </p:txBody>
      </p:sp>
      <p:sp>
        <p:nvSpPr>
          <p:cNvPr id="766" name=""/>
          <p:cNvSpPr/>
          <p:nvPr/>
        </p:nvSpPr>
        <p:spPr>
          <a:xfrm>
            <a:off x="1881720" y="5715000"/>
            <a:ext cx="5472360" cy="642600"/>
          </a:xfrm>
          <a:prstGeom prst="rect">
            <a:avLst/>
          </a:prstGeom>
          <a:gradFill rotWithShape="0">
            <a:gsLst>
              <a:gs pos="0">
                <a:srgbClr val="00cc99"/>
              </a:gs>
              <a:gs pos="100000">
                <a:srgbClr val="ffff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40.00cm </a:t>
            </a:r>
            <a:r>
              <a:rPr b="0" lang="en-US" sz="3600" spc="-1" strike="noStrike">
                <a:solidFill>
                  <a:srgbClr val="0000ff"/>
                </a:solidFill>
                <a:latin typeface="Comic Sans MS"/>
              </a:rPr>
              <a:t>(291in)</a:t>
            </a:r>
            <a:r>
              <a:rPr b="0" lang="en-US" sz="3600" spc="-1" strike="noStrike">
                <a:solidFill>
                  <a:srgbClr val="000000"/>
                </a:solidFill>
                <a:latin typeface="Comic Sans MS"/>
              </a:rPr>
              <a:t> of tape</a:t>
            </a:r>
            <a:endParaRPr b="0" lang="en-US" sz="3600" spc="-1" strike="noStrike">
              <a:solidFill>
                <a:srgbClr val="000000"/>
              </a:solidFill>
              <a:latin typeface="Times New Roman"/>
            </a:endParaRPr>
          </a:p>
        </p:txBody>
      </p:sp>
      <p:sp>
        <p:nvSpPr>
          <p:cNvPr id="767"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757"/>
                                        </p:tgtEl>
                                        <p:attrNameLst>
                                          <p:attrName>style.visibility</p:attrName>
                                        </p:attrNameLst>
                                      </p:cBhvr>
                                      <p:to>
                                        <p:strVal val="visible"/>
                                      </p:to>
                                    </p:set>
                                    <p:animEffect filter="wipe(left)" transition="in">
                                      <p:cBhvr additive="repl">
                                        <p:cTn id="723" dur="500"/>
                                        <p:tgtEl>
                                          <p:spTgt spid="757"/>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758"/>
                                        </p:tgtEl>
                                        <p:attrNameLst>
                                          <p:attrName>style.visibility</p:attrName>
                                        </p:attrNameLst>
                                      </p:cBhvr>
                                      <p:to>
                                        <p:strVal val="visible"/>
                                      </p:to>
                                    </p:set>
                                    <p:animEffect filter="wipe(left)" transition="in">
                                      <p:cBhvr additive="repl">
                                        <p:cTn id="728" dur="500"/>
                                        <p:tgtEl>
                                          <p:spTgt spid="758"/>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761"/>
                                        </p:tgtEl>
                                        <p:attrNameLst>
                                          <p:attrName>style.visibility</p:attrName>
                                        </p:attrNameLst>
                                      </p:cBhvr>
                                      <p:to>
                                        <p:strVal val="visible"/>
                                      </p:to>
                                    </p:set>
                                    <p:animEffect filter="wipe(left)" transition="in">
                                      <p:cBhvr additive="repl">
                                        <p:cTn id="733" dur="500"/>
                                        <p:tgtEl>
                                          <p:spTgt spid="761"/>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7" presetSubtype="8">
                                  <p:stCondLst>
                                    <p:cond delay="0"/>
                                  </p:stCondLst>
                                  <p:childTnLst>
                                    <p:set>
                                      <p:cBhvr>
                                        <p:cTn id="737" dur="1" fill="hold">
                                          <p:stCondLst>
                                            <p:cond delay="0"/>
                                          </p:stCondLst>
                                        </p:cTn>
                                        <p:tgtEl>
                                          <p:spTgt spid="764"/>
                                        </p:tgtEl>
                                        <p:attrNameLst>
                                          <p:attrName>style.visibility</p:attrName>
                                        </p:attrNameLst>
                                      </p:cBhvr>
                                      <p:to>
                                        <p:strVal val="visible"/>
                                      </p:to>
                                    </p:set>
                                    <p:anim calcmode="lin" valueType="num">
                                      <p:cBhvr additive="repl">
                                        <p:cTn id="738" dur="500" fill="hold"/>
                                        <p:tgtEl>
                                          <p:spTgt spid="764"/>
                                        </p:tgtEl>
                                        <p:attrNameLst>
                                          <p:attrName>ppt_x</p:attrName>
                                        </p:attrNameLst>
                                      </p:cBhvr>
                                      <p:tavLst>
                                        <p:tav tm="0">
                                          <p:val>
                                            <p:strVal val="#ppt_x-#ppt_w/2"/>
                                          </p:val>
                                        </p:tav>
                                        <p:tav tm="100000">
                                          <p:val>
                                            <p:strVal val="#ppt_x"/>
                                          </p:val>
                                        </p:tav>
                                      </p:tavLst>
                                    </p:anim>
                                    <p:anim calcmode="lin" valueType="num">
                                      <p:cBhvr additive="repl">
                                        <p:cTn id="739" dur="500" fill="hold"/>
                                        <p:tgtEl>
                                          <p:spTgt spid="764"/>
                                        </p:tgtEl>
                                        <p:attrNameLst>
                                          <p:attrName>ppt_y</p:attrName>
                                        </p:attrNameLst>
                                      </p:cBhvr>
                                      <p:tavLst>
                                        <p:tav tm="0">
                                          <p:val>
                                            <p:strVal val="#ppt_y"/>
                                          </p:val>
                                        </p:tav>
                                        <p:tav tm="100000">
                                          <p:val>
                                            <p:strVal val="#ppt_y"/>
                                          </p:val>
                                        </p:tav>
                                      </p:tavLst>
                                    </p:anim>
                                    <p:anim calcmode="lin" valueType="num">
                                      <p:cBhvr additive="repl">
                                        <p:cTn id="740" dur="500" fill="hold"/>
                                        <p:tgtEl>
                                          <p:spTgt spid="764"/>
                                        </p:tgtEl>
                                        <p:attrNameLst>
                                          <p:attrName>ppt_w</p:attrName>
                                        </p:attrNameLst>
                                      </p:cBhvr>
                                      <p:tavLst>
                                        <p:tav tm="0">
                                          <p:val>
                                            <p:fltVal val="0"/>
                                          </p:val>
                                        </p:tav>
                                        <p:tav tm="100000">
                                          <p:val>
                                            <p:strVal val="#ppt_w"/>
                                          </p:val>
                                        </p:tav>
                                      </p:tavLst>
                                    </p:anim>
                                    <p:anim calcmode="lin" valueType="num">
                                      <p:cBhvr additive="repl">
                                        <p:cTn id="741" dur="500" fill="hold"/>
                                        <p:tgtEl>
                                          <p:spTgt spid="764"/>
                                        </p:tgtEl>
                                        <p:attrNameLst>
                                          <p:attrName>ppt_h</p:attrName>
                                        </p:attrNameLst>
                                      </p:cBhvr>
                                      <p:tavLst>
                                        <p:tav tm="0">
                                          <p:val>
                                            <p:strVal val="#ppt_h"/>
                                          </p:val>
                                        </p:tav>
                                        <p:tav tm="100000">
                                          <p:val>
                                            <p:strVal val="#ppt_h"/>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765"/>
                                        </p:tgtEl>
                                        <p:attrNameLst>
                                          <p:attrName>style.visibility</p:attrName>
                                        </p:attrNameLst>
                                      </p:cBhvr>
                                      <p:to>
                                        <p:strVal val="visible"/>
                                      </p:to>
                                    </p:set>
                                    <p:animEffect filter="dissolve" transition="in">
                                      <p:cBhvr additive="repl">
                                        <p:cTn id="746" dur="500"/>
                                        <p:tgtEl>
                                          <p:spTgt spid="76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7" presetSubtype="1">
                                  <p:stCondLst>
                                    <p:cond delay="0"/>
                                  </p:stCondLst>
                                  <p:childTnLst>
                                    <p:set>
                                      <p:cBhvr>
                                        <p:cTn id="750" dur="1" fill="hold">
                                          <p:stCondLst>
                                            <p:cond delay="0"/>
                                          </p:stCondLst>
                                        </p:cTn>
                                        <p:tgtEl>
                                          <p:spTgt spid="766"/>
                                        </p:tgtEl>
                                        <p:attrNameLst>
                                          <p:attrName>style.visibility</p:attrName>
                                        </p:attrNameLst>
                                      </p:cBhvr>
                                      <p:to>
                                        <p:strVal val="visible"/>
                                      </p:to>
                                    </p:set>
                                    <p:anim calcmode="lin" valueType="num">
                                      <p:cBhvr additive="repl">
                                        <p:cTn id="751" dur="500" fill="hold"/>
                                        <p:tgtEl>
                                          <p:spTgt spid="766"/>
                                        </p:tgtEl>
                                        <p:attrNameLst>
                                          <p:attrName>ppt_x</p:attrName>
                                        </p:attrNameLst>
                                      </p:cBhvr>
                                      <p:tavLst>
                                        <p:tav tm="0">
                                          <p:val>
                                            <p:strVal val="#ppt_x"/>
                                          </p:val>
                                        </p:tav>
                                        <p:tav tm="100000">
                                          <p:val>
                                            <p:strVal val="#ppt_x"/>
                                          </p:val>
                                        </p:tav>
                                      </p:tavLst>
                                    </p:anim>
                                    <p:anim calcmode="lin" valueType="num">
                                      <p:cBhvr additive="repl">
                                        <p:cTn id="752" dur="500" fill="hold"/>
                                        <p:tgtEl>
                                          <p:spTgt spid="766"/>
                                        </p:tgtEl>
                                        <p:attrNameLst>
                                          <p:attrName>ppt_y</p:attrName>
                                        </p:attrNameLst>
                                      </p:cBhvr>
                                      <p:tavLst>
                                        <p:tav tm="0">
                                          <p:val>
                                            <p:strVal val="#ppt_y-#ppt_h/2"/>
                                          </p:val>
                                        </p:tav>
                                        <p:tav tm="100000">
                                          <p:val>
                                            <p:strVal val="#ppt_y"/>
                                          </p:val>
                                        </p:tav>
                                      </p:tavLst>
                                    </p:anim>
                                    <p:anim calcmode="lin" valueType="num">
                                      <p:cBhvr additive="repl">
                                        <p:cTn id="753" dur="500" fill="hold"/>
                                        <p:tgtEl>
                                          <p:spTgt spid="766"/>
                                        </p:tgtEl>
                                        <p:attrNameLst>
                                          <p:attrName>ppt_w</p:attrName>
                                        </p:attrNameLst>
                                      </p:cBhvr>
                                      <p:tavLst>
                                        <p:tav tm="0">
                                          <p:val>
                                            <p:strVal val="#ppt_w"/>
                                          </p:val>
                                        </p:tav>
                                        <p:tav tm="100000">
                                          <p:val>
                                            <p:strVal val="#ppt_w"/>
                                          </p:val>
                                        </p:tav>
                                      </p:tavLst>
                                    </p:anim>
                                    <p:anim calcmode="lin" valueType="num">
                                      <p:cBhvr additive="repl">
                                        <p:cTn id="754" dur="500" fill="hold"/>
                                        <p:tgtEl>
                                          <p:spTgt spid="7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8" name=""/>
          <p:cNvSpPr/>
          <p:nvPr/>
        </p:nvSpPr>
        <p:spPr>
          <a:xfrm>
            <a:off x="533520" y="1541520"/>
            <a:ext cx="784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owns a rectangular piece of fenced property having dimensions of 557.8ft by 243.9ft. She buys a triangular piece of additional land next to her original property. It extends the length of one side from 557.8ft to 711.9ft and the side next to that from 243.9ft to 341.6ft. How much more fencing must Pat buy to enclose her new property?</a:t>
            </a:r>
            <a:endParaRPr b="0" lang="en-US" sz="3200" spc="-1" strike="noStrike">
              <a:solidFill>
                <a:srgbClr val="000000"/>
              </a:solidFill>
              <a:latin typeface="Times New Roman"/>
            </a:endParaRPr>
          </a:p>
        </p:txBody>
      </p:sp>
      <p:sp>
        <p:nvSpPr>
          <p:cNvPr id="769" name=""/>
          <p:cNvSpPr/>
          <p:nvPr/>
        </p:nvSpPr>
        <p:spPr>
          <a:xfrm>
            <a:off x="533520" y="1541520"/>
            <a:ext cx="784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owns a </a:t>
            </a:r>
            <a:r>
              <a:rPr b="0" lang="en-US" sz="3200" spc="-1" strike="noStrike">
                <a:solidFill>
                  <a:srgbClr val="00cc99"/>
                </a:solidFill>
                <a:latin typeface="Comic Sans MS"/>
              </a:rPr>
              <a:t>rectangular</a:t>
            </a:r>
            <a:r>
              <a:rPr b="0" lang="en-US" sz="3200" spc="-1" strike="noStrike">
                <a:solidFill>
                  <a:srgbClr val="000000"/>
                </a:solidFill>
                <a:latin typeface="Comic Sans MS"/>
              </a:rPr>
              <a:t> piece of fenced property having dimensions of </a:t>
            </a:r>
            <a:r>
              <a:rPr b="0" lang="en-US" sz="3200" spc="-1" strike="noStrike">
                <a:solidFill>
                  <a:srgbClr val="00cc99"/>
                </a:solidFill>
                <a:latin typeface="Comic Sans MS"/>
              </a:rPr>
              <a:t>557.8ft by 243.9ft</a:t>
            </a:r>
            <a:r>
              <a:rPr b="0" lang="en-US" sz="3200" spc="-1" strike="noStrike">
                <a:solidFill>
                  <a:srgbClr val="000000"/>
                </a:solidFill>
                <a:latin typeface="Comic Sans MS"/>
              </a:rPr>
              <a:t>. She buys a </a:t>
            </a:r>
            <a:r>
              <a:rPr b="0" lang="en-US" sz="3200" spc="-1" strike="noStrike">
                <a:solidFill>
                  <a:srgbClr val="00cc99"/>
                </a:solidFill>
                <a:latin typeface="Comic Sans MS"/>
              </a:rPr>
              <a:t>triangular piece</a:t>
            </a:r>
            <a:r>
              <a:rPr b="0" lang="en-US" sz="3200" spc="-1" strike="noStrike">
                <a:solidFill>
                  <a:srgbClr val="000000"/>
                </a:solidFill>
                <a:latin typeface="Comic Sans MS"/>
              </a:rPr>
              <a:t> of additional land </a:t>
            </a:r>
            <a:r>
              <a:rPr b="0" lang="en-US" sz="3200" spc="-1" strike="noStrike">
                <a:solidFill>
                  <a:srgbClr val="00cc99"/>
                </a:solidFill>
                <a:latin typeface="Comic Sans MS"/>
              </a:rPr>
              <a:t>next to</a:t>
            </a:r>
            <a:r>
              <a:rPr b="0" lang="en-US" sz="3200" spc="-1" strike="noStrike">
                <a:solidFill>
                  <a:srgbClr val="000000"/>
                </a:solidFill>
                <a:latin typeface="Comic Sans MS"/>
              </a:rPr>
              <a:t> her </a:t>
            </a:r>
            <a:r>
              <a:rPr b="0" lang="en-US" sz="3200" spc="-1" strike="noStrike">
                <a:solidFill>
                  <a:srgbClr val="00cc99"/>
                </a:solidFill>
                <a:latin typeface="Comic Sans MS"/>
              </a:rPr>
              <a:t>original</a:t>
            </a:r>
            <a:r>
              <a:rPr b="0" lang="en-US" sz="3200" spc="-1" strike="noStrike">
                <a:solidFill>
                  <a:srgbClr val="000000"/>
                </a:solidFill>
                <a:latin typeface="Comic Sans MS"/>
              </a:rPr>
              <a:t> property. It </a:t>
            </a:r>
            <a:r>
              <a:rPr b="0" lang="en-US" sz="3200" spc="-1" strike="noStrike">
                <a:solidFill>
                  <a:srgbClr val="00cc99"/>
                </a:solidFill>
                <a:latin typeface="Comic Sans MS"/>
              </a:rPr>
              <a:t>extends</a:t>
            </a:r>
            <a:r>
              <a:rPr b="0" lang="en-US" sz="3200" spc="-1" strike="noStrike">
                <a:solidFill>
                  <a:srgbClr val="000000"/>
                </a:solidFill>
                <a:latin typeface="Comic Sans MS"/>
              </a:rPr>
              <a:t> the </a:t>
            </a:r>
            <a:r>
              <a:rPr b="0" lang="en-US" sz="3200" spc="-1" strike="noStrike">
                <a:solidFill>
                  <a:srgbClr val="00cc99"/>
                </a:solidFill>
                <a:latin typeface="Comic Sans MS"/>
              </a:rPr>
              <a:t>length</a:t>
            </a:r>
            <a:r>
              <a:rPr b="0" lang="en-US" sz="3200" spc="-1" strike="noStrike">
                <a:solidFill>
                  <a:srgbClr val="000000"/>
                </a:solidFill>
                <a:latin typeface="Comic Sans MS"/>
              </a:rPr>
              <a:t> of one side </a:t>
            </a:r>
            <a:r>
              <a:rPr b="0" lang="en-US" sz="3200" spc="-1" strike="noStrike">
                <a:solidFill>
                  <a:srgbClr val="00cc99"/>
                </a:solidFill>
                <a:latin typeface="Comic Sans MS"/>
              </a:rPr>
              <a:t>from 557.8ft to 711.9ft</a:t>
            </a:r>
            <a:r>
              <a:rPr b="0" lang="en-US" sz="3200" spc="-1" strike="noStrike">
                <a:solidFill>
                  <a:srgbClr val="000000"/>
                </a:solidFill>
                <a:latin typeface="Comic Sans MS"/>
              </a:rPr>
              <a:t> and the </a:t>
            </a:r>
            <a:r>
              <a:rPr b="0" lang="en-US" sz="3200" spc="-1" strike="noStrike">
                <a:solidFill>
                  <a:srgbClr val="00cc99"/>
                </a:solidFill>
                <a:latin typeface="Comic Sans MS"/>
              </a:rPr>
              <a:t>side next to that from 243.9ft to 341.6ft</a:t>
            </a:r>
            <a:r>
              <a:rPr b="0" lang="en-US" sz="3200" spc="-1" strike="noStrike">
                <a:solidFill>
                  <a:srgbClr val="000000"/>
                </a:solidFill>
                <a:latin typeface="Comic Sans MS"/>
              </a:rPr>
              <a:t>. How much more fencing must Pat buy to enclose her new property?</a:t>
            </a:r>
            <a:endParaRPr b="0" lang="en-US" sz="3200" spc="-1" strike="noStrike">
              <a:solidFill>
                <a:srgbClr val="000000"/>
              </a:solidFill>
              <a:latin typeface="Times New Roman"/>
            </a:endParaRPr>
          </a:p>
        </p:txBody>
      </p:sp>
      <p:sp>
        <p:nvSpPr>
          <p:cNvPr id="770" name=""/>
          <p:cNvSpPr/>
          <p:nvPr/>
        </p:nvSpPr>
        <p:spPr>
          <a:xfrm>
            <a:off x="533520" y="1541520"/>
            <a:ext cx="78483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owns a </a:t>
            </a:r>
            <a:r>
              <a:rPr b="0" lang="en-US" sz="3200" spc="-1" strike="noStrike">
                <a:solidFill>
                  <a:srgbClr val="00cc99"/>
                </a:solidFill>
                <a:latin typeface="Comic Sans MS"/>
              </a:rPr>
              <a:t>rectangular</a:t>
            </a:r>
            <a:r>
              <a:rPr b="0" lang="en-US" sz="3200" spc="-1" strike="noStrike">
                <a:solidFill>
                  <a:srgbClr val="000000"/>
                </a:solidFill>
                <a:latin typeface="Comic Sans MS"/>
              </a:rPr>
              <a:t> piece of fenced property having dimensions of </a:t>
            </a:r>
            <a:r>
              <a:rPr b="0" lang="en-US" sz="3200" spc="-1" strike="noStrike">
                <a:solidFill>
                  <a:srgbClr val="00cc99"/>
                </a:solidFill>
                <a:latin typeface="Comic Sans MS"/>
              </a:rPr>
              <a:t>557.8ft by 243.9ft</a:t>
            </a:r>
            <a:r>
              <a:rPr b="0" lang="en-US" sz="3200" spc="-1" strike="noStrike">
                <a:solidFill>
                  <a:srgbClr val="000000"/>
                </a:solidFill>
                <a:latin typeface="Comic Sans MS"/>
              </a:rPr>
              <a:t>. She buys a </a:t>
            </a:r>
            <a:r>
              <a:rPr b="0" lang="en-US" sz="3200" spc="-1" strike="noStrike">
                <a:solidFill>
                  <a:srgbClr val="00cc99"/>
                </a:solidFill>
                <a:latin typeface="Comic Sans MS"/>
              </a:rPr>
              <a:t>triangular piece</a:t>
            </a:r>
            <a:r>
              <a:rPr b="0" lang="en-US" sz="3200" spc="-1" strike="noStrike">
                <a:solidFill>
                  <a:srgbClr val="000000"/>
                </a:solidFill>
                <a:latin typeface="Comic Sans MS"/>
              </a:rPr>
              <a:t> of additional land </a:t>
            </a:r>
            <a:r>
              <a:rPr b="0" lang="en-US" sz="3200" spc="-1" strike="noStrike">
                <a:solidFill>
                  <a:srgbClr val="00cc99"/>
                </a:solidFill>
                <a:latin typeface="Comic Sans MS"/>
              </a:rPr>
              <a:t>next to</a:t>
            </a:r>
            <a:r>
              <a:rPr b="0" lang="en-US" sz="3200" spc="-1" strike="noStrike">
                <a:solidFill>
                  <a:srgbClr val="000000"/>
                </a:solidFill>
                <a:latin typeface="Comic Sans MS"/>
              </a:rPr>
              <a:t> her </a:t>
            </a:r>
            <a:r>
              <a:rPr b="0" lang="en-US" sz="3200" spc="-1" strike="noStrike">
                <a:solidFill>
                  <a:srgbClr val="00cc99"/>
                </a:solidFill>
                <a:latin typeface="Comic Sans MS"/>
              </a:rPr>
              <a:t>original</a:t>
            </a:r>
            <a:r>
              <a:rPr b="0" lang="en-US" sz="3200" spc="-1" strike="noStrike">
                <a:solidFill>
                  <a:srgbClr val="000000"/>
                </a:solidFill>
                <a:latin typeface="Comic Sans MS"/>
              </a:rPr>
              <a:t> property. It </a:t>
            </a:r>
            <a:r>
              <a:rPr b="0" lang="en-US" sz="3200" spc="-1" strike="noStrike">
                <a:solidFill>
                  <a:srgbClr val="00cc99"/>
                </a:solidFill>
                <a:latin typeface="Comic Sans MS"/>
              </a:rPr>
              <a:t>extends</a:t>
            </a:r>
            <a:r>
              <a:rPr b="0" lang="en-US" sz="3200" spc="-1" strike="noStrike">
                <a:solidFill>
                  <a:srgbClr val="000000"/>
                </a:solidFill>
                <a:latin typeface="Comic Sans MS"/>
              </a:rPr>
              <a:t> the </a:t>
            </a:r>
            <a:r>
              <a:rPr b="0" lang="en-US" sz="3200" spc="-1" strike="noStrike">
                <a:solidFill>
                  <a:srgbClr val="00cc99"/>
                </a:solidFill>
                <a:latin typeface="Comic Sans MS"/>
              </a:rPr>
              <a:t>length</a:t>
            </a:r>
            <a:r>
              <a:rPr b="0" lang="en-US" sz="3200" spc="-1" strike="noStrike">
                <a:solidFill>
                  <a:srgbClr val="000000"/>
                </a:solidFill>
                <a:latin typeface="Comic Sans MS"/>
              </a:rPr>
              <a:t> of one side </a:t>
            </a:r>
            <a:r>
              <a:rPr b="0" lang="en-US" sz="3200" spc="-1" strike="noStrike">
                <a:solidFill>
                  <a:srgbClr val="00cc99"/>
                </a:solidFill>
                <a:latin typeface="Comic Sans MS"/>
              </a:rPr>
              <a:t>from 557.8ft to 711.9ft</a:t>
            </a:r>
            <a:r>
              <a:rPr b="0" lang="en-US" sz="3200" spc="-1" strike="noStrike">
                <a:solidFill>
                  <a:srgbClr val="000000"/>
                </a:solidFill>
                <a:latin typeface="Comic Sans MS"/>
              </a:rPr>
              <a:t> and the </a:t>
            </a:r>
            <a:r>
              <a:rPr b="0" lang="en-US" sz="3200" spc="-1" strike="noStrike">
                <a:solidFill>
                  <a:srgbClr val="00cc99"/>
                </a:solidFill>
                <a:latin typeface="Comic Sans MS"/>
              </a:rPr>
              <a:t>side next to that from 243.9ft to 341.6ft</a:t>
            </a:r>
            <a:r>
              <a:rPr b="0" lang="en-US" sz="3200" spc="-1" strike="noStrike">
                <a:solidFill>
                  <a:srgbClr val="000000"/>
                </a:solidFill>
                <a:latin typeface="Comic Sans MS"/>
              </a:rPr>
              <a:t>. </a:t>
            </a:r>
            <a:r>
              <a:rPr b="0" lang="en-US" sz="3200" spc="-1" strike="noStrike">
                <a:solidFill>
                  <a:srgbClr val="0000ff"/>
                </a:solidFill>
                <a:latin typeface="Comic Sans MS"/>
              </a:rPr>
              <a:t>How much more fencing</a:t>
            </a:r>
            <a:r>
              <a:rPr b="0" lang="en-US" sz="3200" spc="-1" strike="noStrike">
                <a:solidFill>
                  <a:srgbClr val="000000"/>
                </a:solidFill>
                <a:latin typeface="Comic Sans MS"/>
              </a:rPr>
              <a:t> must Pat buy to </a:t>
            </a:r>
            <a:r>
              <a:rPr b="0" lang="en-US" sz="3200" spc="-1" strike="noStrike">
                <a:solidFill>
                  <a:srgbClr val="0000ff"/>
                </a:solidFill>
                <a:latin typeface="Comic Sans MS"/>
              </a:rPr>
              <a:t>enclose</a:t>
            </a:r>
            <a:r>
              <a:rPr b="0" lang="en-US" sz="3200" spc="-1" strike="noStrike">
                <a:solidFill>
                  <a:srgbClr val="000000"/>
                </a:solidFill>
                <a:latin typeface="Comic Sans MS"/>
              </a:rPr>
              <a:t> her </a:t>
            </a:r>
            <a:r>
              <a:rPr b="0" lang="en-US" sz="3200" spc="-1" strike="noStrike">
                <a:solidFill>
                  <a:srgbClr val="0000ff"/>
                </a:solidFill>
                <a:latin typeface="Comic Sans MS"/>
              </a:rPr>
              <a:t>new property?</a:t>
            </a:r>
            <a:endParaRPr b="0" lang="en-US" sz="3200" spc="-1" strike="noStrike">
              <a:solidFill>
                <a:srgbClr val="000000"/>
              </a:solidFill>
              <a:latin typeface="Times New Roman"/>
            </a:endParaRPr>
          </a:p>
        </p:txBody>
      </p:sp>
      <p:sp>
        <p:nvSpPr>
          <p:cNvPr id="771"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pull dir="l"/>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769"/>
                                        </p:tgtEl>
                                        <p:attrNameLst>
                                          <p:attrName>style.visibility</p:attrName>
                                        </p:attrNameLst>
                                      </p:cBhvr>
                                      <p:to>
                                        <p:strVal val="visible"/>
                                      </p:to>
                                    </p:set>
                                    <p:animEffect filter="dissolve" transition="in">
                                      <p:cBhvr additive="repl">
                                        <p:cTn id="761" dur="500"/>
                                        <p:tgtEl>
                                          <p:spTgt spid="769"/>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70"/>
                                        </p:tgtEl>
                                        <p:attrNameLst>
                                          <p:attrName>style.visibility</p:attrName>
                                        </p:attrNameLst>
                                      </p:cBhvr>
                                      <p:to>
                                        <p:strVal val="visible"/>
                                      </p:to>
                                    </p:set>
                                    <p:animEffect filter="dissolve" transition="in">
                                      <p:cBhvr additive="repl">
                                        <p:cTn id="766"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2" name=""/>
          <p:cNvSpPr/>
          <p:nvPr/>
        </p:nvSpPr>
        <p:spPr>
          <a:xfrm>
            <a:off x="7621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a:t>
            </a:r>
            <a:endParaRPr b="0" lang="en-US" sz="3200" spc="-1" strike="noStrike">
              <a:solidFill>
                <a:srgbClr val="000000"/>
              </a:solidFill>
              <a:latin typeface="Times New Roman"/>
            </a:endParaRPr>
          </a:p>
        </p:txBody>
      </p:sp>
      <p:sp>
        <p:nvSpPr>
          <p:cNvPr id="773" name=""/>
          <p:cNvSpPr/>
          <p:nvPr/>
        </p:nvSpPr>
        <p:spPr>
          <a:xfrm>
            <a:off x="762120" y="5105520"/>
            <a:ext cx="396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     Additional fencing?</a:t>
            </a:r>
            <a:endParaRPr b="0" lang="en-US" sz="3200" spc="-1" strike="noStrike">
              <a:solidFill>
                <a:srgbClr val="000000"/>
              </a:solidFill>
              <a:latin typeface="Times New Roman"/>
            </a:endParaRPr>
          </a:p>
        </p:txBody>
      </p:sp>
      <p:sp>
        <p:nvSpPr>
          <p:cNvPr id="774" name=""/>
          <p:cNvSpPr/>
          <p:nvPr/>
        </p:nvSpPr>
        <p:spPr>
          <a:xfrm>
            <a:off x="936000" y="2011320"/>
            <a:ext cx="68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original rectangle 557.8 ft x 243.9ft</a:t>
            </a:r>
            <a:endParaRPr b="0" lang="en-US" sz="3200" spc="-1" strike="noStrike">
              <a:solidFill>
                <a:srgbClr val="000000"/>
              </a:solidFill>
              <a:latin typeface="Times New Roman"/>
            </a:endParaRPr>
          </a:p>
        </p:txBody>
      </p:sp>
      <p:sp>
        <p:nvSpPr>
          <p:cNvPr id="775" name=""/>
          <p:cNvSpPr/>
          <p:nvPr/>
        </p:nvSpPr>
        <p:spPr>
          <a:xfrm>
            <a:off x="716400" y="2544840"/>
            <a:ext cx="522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additional triangular piece</a:t>
            </a:r>
            <a:endParaRPr b="0" lang="en-US" sz="3200" spc="-1" strike="noStrike">
              <a:solidFill>
                <a:srgbClr val="000000"/>
              </a:solidFill>
              <a:latin typeface="Times New Roman"/>
            </a:endParaRPr>
          </a:p>
        </p:txBody>
      </p:sp>
      <p:sp>
        <p:nvSpPr>
          <p:cNvPr id="776" name=""/>
          <p:cNvSpPr/>
          <p:nvPr/>
        </p:nvSpPr>
        <p:spPr>
          <a:xfrm>
            <a:off x="912600" y="3078000"/>
            <a:ext cx="338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557.8ft </a:t>
            </a:r>
            <a:r>
              <a:rPr b="0" lang="en-US" sz="3200" spc="-1" strike="noStrike">
                <a:solidFill>
                  <a:srgbClr val="00cc99"/>
                </a:solidFill>
                <a:latin typeface="Symbol"/>
                <a:ea typeface="Symbol"/>
              </a:rPr>
              <a:t></a:t>
            </a:r>
            <a:r>
              <a:rPr b="0" lang="en-US" sz="3200" spc="-1" strike="noStrike">
                <a:solidFill>
                  <a:srgbClr val="00cc99"/>
                </a:solidFill>
                <a:latin typeface="Comic Sans MS"/>
              </a:rPr>
              <a:t> 711.9ft</a:t>
            </a:r>
            <a:endParaRPr b="0" lang="en-US" sz="3200" spc="-1" strike="noStrike">
              <a:solidFill>
                <a:srgbClr val="000000"/>
              </a:solidFill>
              <a:latin typeface="Times New Roman"/>
            </a:endParaRPr>
          </a:p>
        </p:txBody>
      </p:sp>
      <p:sp>
        <p:nvSpPr>
          <p:cNvPr id="777" name=""/>
          <p:cNvSpPr/>
          <p:nvPr/>
        </p:nvSpPr>
        <p:spPr>
          <a:xfrm>
            <a:off x="945360" y="3611520"/>
            <a:ext cx="338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243.9ft </a:t>
            </a:r>
            <a:r>
              <a:rPr b="0" lang="en-US" sz="3200" spc="-1" strike="noStrike">
                <a:solidFill>
                  <a:srgbClr val="00cc99"/>
                </a:solidFill>
                <a:latin typeface="Symbol"/>
                <a:ea typeface="Symbol"/>
              </a:rPr>
              <a:t></a:t>
            </a:r>
            <a:r>
              <a:rPr b="0" lang="en-US" sz="3200" spc="-1" strike="noStrike">
                <a:solidFill>
                  <a:srgbClr val="00cc99"/>
                </a:solidFill>
                <a:latin typeface="Comic Sans MS"/>
              </a:rPr>
              <a:t> 341.6ft</a:t>
            </a:r>
            <a:endParaRPr b="0" lang="en-US" sz="3200" spc="-1" strike="noStrike">
              <a:solidFill>
                <a:srgbClr val="000000"/>
              </a:solidFill>
              <a:latin typeface="Times New Roman"/>
            </a:endParaRPr>
          </a:p>
        </p:txBody>
      </p:sp>
      <p:grpSp>
        <p:nvGrpSpPr>
          <p:cNvPr id="778" name=""/>
          <p:cNvGrpSpPr/>
          <p:nvPr/>
        </p:nvGrpSpPr>
        <p:grpSpPr>
          <a:xfrm>
            <a:off x="4069800" y="3429000"/>
            <a:ext cx="4159440" cy="2333880"/>
            <a:chOff x="4069800" y="3429000"/>
            <a:chExt cx="4159440" cy="2333880"/>
          </a:xfrm>
        </p:grpSpPr>
        <p:grpSp>
          <p:nvGrpSpPr>
            <p:cNvPr id="779" name=""/>
            <p:cNvGrpSpPr/>
            <p:nvPr/>
          </p:nvGrpSpPr>
          <p:grpSpPr>
            <a:xfrm>
              <a:off x="4419360" y="3932280"/>
              <a:ext cx="3809880" cy="1218960"/>
              <a:chOff x="4419360" y="3932280"/>
              <a:chExt cx="3809880" cy="1218960"/>
            </a:xfrm>
          </p:grpSpPr>
          <p:sp>
            <p:nvSpPr>
              <p:cNvPr id="780" name=""/>
              <p:cNvSpPr/>
              <p:nvPr/>
            </p:nvSpPr>
            <p:spPr>
              <a:xfrm>
                <a:off x="5457600" y="3932280"/>
                <a:ext cx="277164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4419000" y="3932280"/>
                <a:ext cx="1037880" cy="12189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2" name=""/>
            <p:cNvSpPr/>
            <p:nvPr/>
          </p:nvSpPr>
          <p:spPr>
            <a:xfrm>
              <a:off x="6087960" y="342900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57.8ft</a:t>
              </a:r>
              <a:endParaRPr b="0" lang="en-US" sz="3200" spc="-1" strike="noStrike">
                <a:solidFill>
                  <a:srgbClr val="000000"/>
                </a:solidFill>
                <a:latin typeface="Times New Roman"/>
              </a:endParaRPr>
            </a:p>
          </p:txBody>
        </p:sp>
        <p:sp>
          <p:nvSpPr>
            <p:cNvPr id="783" name=""/>
            <p:cNvSpPr/>
            <p:nvPr/>
          </p:nvSpPr>
          <p:spPr>
            <a:xfrm flipH="1">
              <a:off x="5457240" y="3717720"/>
              <a:ext cx="5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681680" y="3717720"/>
              <a:ext cx="5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330600" y="425268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43.9ft</a:t>
              </a:r>
              <a:endParaRPr b="0" lang="en-US" sz="3200" spc="-1" strike="noStrike">
                <a:solidFill>
                  <a:srgbClr val="000000"/>
                </a:solidFill>
                <a:latin typeface="Times New Roman"/>
              </a:endParaRPr>
            </a:p>
          </p:txBody>
        </p:sp>
        <p:grpSp>
          <p:nvGrpSpPr>
            <p:cNvPr id="786" name=""/>
            <p:cNvGrpSpPr/>
            <p:nvPr/>
          </p:nvGrpSpPr>
          <p:grpSpPr>
            <a:xfrm>
              <a:off x="7924680" y="3932280"/>
              <a:ext cx="0" cy="1172880"/>
              <a:chOff x="7924680" y="3932280"/>
              <a:chExt cx="0" cy="1172880"/>
            </a:xfrm>
          </p:grpSpPr>
          <p:sp>
            <p:nvSpPr>
              <p:cNvPr id="787" name=""/>
              <p:cNvSpPr/>
              <p:nvPr/>
            </p:nvSpPr>
            <p:spPr>
              <a:xfrm flipV="1">
                <a:off x="7924680" y="3932280"/>
                <a:ext cx="0" cy="25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924680" y="419076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
            <p:cNvSpPr/>
            <p:nvPr/>
          </p:nvSpPr>
          <p:spPr>
            <a:xfrm>
              <a:off x="5505120" y="518148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11.9ft</a:t>
              </a:r>
              <a:endParaRPr b="0" lang="en-US" sz="3200" spc="-1" strike="noStrike">
                <a:solidFill>
                  <a:srgbClr val="000000"/>
                </a:solidFill>
                <a:latin typeface="Times New Roman"/>
              </a:endParaRPr>
            </a:p>
          </p:txBody>
        </p:sp>
        <p:sp>
          <p:nvSpPr>
            <p:cNvPr id="790" name=""/>
            <p:cNvSpPr/>
            <p:nvPr/>
          </p:nvSpPr>
          <p:spPr>
            <a:xfrm flipH="1">
              <a:off x="4419360" y="5470560"/>
              <a:ext cx="1037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7162560" y="5470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rot="18678600">
              <a:off x="4031640" y="413244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41.6ft</a:t>
              </a:r>
              <a:endParaRPr b="0" lang="en-US" sz="3200" spc="-1" strike="noStrike">
                <a:solidFill>
                  <a:srgbClr val="000000"/>
                </a:solidFill>
                <a:latin typeface="Times New Roman"/>
              </a:endParaRPr>
            </a:p>
          </p:txBody>
        </p:sp>
      </p:grpSp>
      <p:sp>
        <p:nvSpPr>
          <p:cNvPr id="793"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774"/>
                                        </p:tgtEl>
                                        <p:attrNameLst>
                                          <p:attrName>style.visibility</p:attrName>
                                        </p:attrNameLst>
                                      </p:cBhvr>
                                      <p:to>
                                        <p:strVal val="visible"/>
                                      </p:to>
                                    </p:set>
                                    <p:animEffect filter="wipe(left)" transition="in">
                                      <p:cBhvr additive="repl">
                                        <p:cTn id="773" dur="500"/>
                                        <p:tgtEl>
                                          <p:spTgt spid="77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775"/>
                                        </p:tgtEl>
                                        <p:attrNameLst>
                                          <p:attrName>style.visibility</p:attrName>
                                        </p:attrNameLst>
                                      </p:cBhvr>
                                      <p:to>
                                        <p:strVal val="visible"/>
                                      </p:to>
                                    </p:set>
                                    <p:animEffect filter="wipe(left)" transition="in">
                                      <p:cBhvr additive="repl">
                                        <p:cTn id="778" dur="500"/>
                                        <p:tgtEl>
                                          <p:spTgt spid="775"/>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776"/>
                                        </p:tgtEl>
                                        <p:attrNameLst>
                                          <p:attrName>style.visibility</p:attrName>
                                        </p:attrNameLst>
                                      </p:cBhvr>
                                      <p:to>
                                        <p:strVal val="visible"/>
                                      </p:to>
                                    </p:set>
                                    <p:animEffect filter="wipe(left)" transition="in">
                                      <p:cBhvr additive="repl">
                                        <p:cTn id="783" dur="500"/>
                                        <p:tgtEl>
                                          <p:spTgt spid="776"/>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777"/>
                                        </p:tgtEl>
                                        <p:attrNameLst>
                                          <p:attrName>style.visibility</p:attrName>
                                        </p:attrNameLst>
                                      </p:cBhvr>
                                      <p:to>
                                        <p:strVal val="visible"/>
                                      </p:to>
                                    </p:set>
                                    <p:animEffect filter="wipe(left)" transition="in">
                                      <p:cBhvr additive="repl">
                                        <p:cTn id="788" dur="500"/>
                                        <p:tgtEl>
                                          <p:spTgt spid="77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773"/>
                                        </p:tgtEl>
                                        <p:attrNameLst>
                                          <p:attrName>style.visibility</p:attrName>
                                        </p:attrNameLst>
                                      </p:cBhvr>
                                      <p:to>
                                        <p:strVal val="visible"/>
                                      </p:to>
                                    </p:set>
                                    <p:animEffect filter="wipe(left)" transition="in">
                                      <p:cBhvr additive="repl">
                                        <p:cTn id="793" dur="500"/>
                                        <p:tgtEl>
                                          <p:spTgt spid="773"/>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778"/>
                                        </p:tgtEl>
                                        <p:attrNameLst>
                                          <p:attrName>style.visibility</p:attrName>
                                        </p:attrNameLst>
                                      </p:cBhvr>
                                      <p:to>
                                        <p:strVal val="visible"/>
                                      </p:to>
                                    </p:set>
                                    <p:animEffect filter="dissolve" transition="in">
                                      <p:cBhvr additive="repl">
                                        <p:cTn id="798"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94" name=""/>
          <p:cNvGrpSpPr/>
          <p:nvPr/>
        </p:nvGrpSpPr>
        <p:grpSpPr>
          <a:xfrm>
            <a:off x="2317320" y="1401840"/>
            <a:ext cx="4159800" cy="2333880"/>
            <a:chOff x="2317320" y="1401840"/>
            <a:chExt cx="4159800" cy="2333880"/>
          </a:xfrm>
        </p:grpSpPr>
        <p:grpSp>
          <p:nvGrpSpPr>
            <p:cNvPr id="795" name=""/>
            <p:cNvGrpSpPr/>
            <p:nvPr/>
          </p:nvGrpSpPr>
          <p:grpSpPr>
            <a:xfrm>
              <a:off x="2666880" y="1905120"/>
              <a:ext cx="3810240" cy="1218960"/>
              <a:chOff x="2666880" y="1905120"/>
              <a:chExt cx="3810240" cy="1218960"/>
            </a:xfrm>
          </p:grpSpPr>
          <p:sp>
            <p:nvSpPr>
              <p:cNvPr id="796" name=""/>
              <p:cNvSpPr/>
              <p:nvPr/>
            </p:nvSpPr>
            <p:spPr>
              <a:xfrm>
                <a:off x="3705120" y="1905120"/>
                <a:ext cx="27720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2666880" y="1905120"/>
                <a:ext cx="1038240" cy="12189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a:off x="4335480" y="140184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57.8ft</a:t>
              </a:r>
              <a:endParaRPr b="0" lang="en-US" sz="3200" spc="-1" strike="noStrike">
                <a:solidFill>
                  <a:srgbClr val="000000"/>
                </a:solidFill>
                <a:latin typeface="Times New Roman"/>
              </a:endParaRPr>
            </a:p>
          </p:txBody>
        </p:sp>
        <p:sp>
          <p:nvSpPr>
            <p:cNvPr id="799" name=""/>
            <p:cNvSpPr/>
            <p:nvPr/>
          </p:nvSpPr>
          <p:spPr>
            <a:xfrm flipH="1">
              <a:off x="3705120" y="1690560"/>
              <a:ext cx="5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929200" y="1690560"/>
              <a:ext cx="5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578480" y="222552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43.9ft</a:t>
              </a:r>
              <a:endParaRPr b="0" lang="en-US" sz="3200" spc="-1" strike="noStrike">
                <a:solidFill>
                  <a:srgbClr val="000000"/>
                </a:solidFill>
                <a:latin typeface="Times New Roman"/>
              </a:endParaRPr>
            </a:p>
          </p:txBody>
        </p:sp>
        <p:grpSp>
          <p:nvGrpSpPr>
            <p:cNvPr id="802" name=""/>
            <p:cNvGrpSpPr/>
            <p:nvPr/>
          </p:nvGrpSpPr>
          <p:grpSpPr>
            <a:xfrm>
              <a:off x="6172200" y="1905120"/>
              <a:ext cx="0" cy="1172880"/>
              <a:chOff x="6172200" y="1905120"/>
              <a:chExt cx="0" cy="1172880"/>
            </a:xfrm>
          </p:grpSpPr>
          <p:sp>
            <p:nvSpPr>
              <p:cNvPr id="803" name=""/>
              <p:cNvSpPr/>
              <p:nvPr/>
            </p:nvSpPr>
            <p:spPr>
              <a:xfrm flipV="1">
                <a:off x="6172200" y="1905120"/>
                <a:ext cx="0" cy="258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172200" y="216360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
            <p:cNvSpPr/>
            <p:nvPr/>
          </p:nvSpPr>
          <p:spPr>
            <a:xfrm>
              <a:off x="3753000" y="315432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11.9ft</a:t>
              </a:r>
              <a:endParaRPr b="0" lang="en-US" sz="3200" spc="-1" strike="noStrike">
                <a:solidFill>
                  <a:srgbClr val="000000"/>
                </a:solidFill>
                <a:latin typeface="Times New Roman"/>
              </a:endParaRPr>
            </a:p>
          </p:txBody>
        </p:sp>
        <p:sp>
          <p:nvSpPr>
            <p:cNvPr id="806" name=""/>
            <p:cNvSpPr/>
            <p:nvPr/>
          </p:nvSpPr>
          <p:spPr>
            <a:xfrm flipH="1">
              <a:off x="2666880" y="3443400"/>
              <a:ext cx="103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410080" y="3443400"/>
              <a:ext cx="1067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rot="18678600">
              <a:off x="2279160" y="2104920"/>
              <a:ext cx="150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41.6ft</a:t>
              </a:r>
              <a:endParaRPr b="0" lang="en-US" sz="3200" spc="-1" strike="noStrike">
                <a:solidFill>
                  <a:srgbClr val="000000"/>
                </a:solidFill>
                <a:latin typeface="Times New Roman"/>
              </a:endParaRPr>
            </a:p>
          </p:txBody>
        </p:sp>
      </p:grpSp>
      <p:sp>
        <p:nvSpPr>
          <p:cNvPr id="809" name=""/>
          <p:cNvSpPr/>
          <p:nvPr/>
        </p:nvSpPr>
        <p:spPr>
          <a:xfrm>
            <a:off x="838080" y="380988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1: additional fencing = New perimeter – old perimeter</a:t>
            </a:r>
            <a:endParaRPr b="0" lang="en-US" sz="3600" spc="-1" strike="noStrike">
              <a:solidFill>
                <a:srgbClr val="000000"/>
              </a:solidFill>
              <a:latin typeface="Times New Roman"/>
            </a:endParaRPr>
          </a:p>
        </p:txBody>
      </p:sp>
      <p:sp>
        <p:nvSpPr>
          <p:cNvPr id="810" name=""/>
          <p:cNvSpPr/>
          <p:nvPr/>
        </p:nvSpPr>
        <p:spPr>
          <a:xfrm>
            <a:off x="838080" y="5133960"/>
            <a:ext cx="7467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2: additional fencing = change in length + change in width</a:t>
            </a:r>
            <a:endParaRPr b="0" lang="en-US" sz="3600" spc="-1" strike="noStrike">
              <a:solidFill>
                <a:srgbClr val="000000"/>
              </a:solidFill>
              <a:latin typeface="Times New Roman"/>
            </a:endParaRPr>
          </a:p>
        </p:txBody>
      </p:sp>
      <p:sp>
        <p:nvSpPr>
          <p:cNvPr id="811"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8" presetSubtype="6">
                                  <p:stCondLst>
                                    <p:cond delay="0"/>
                                  </p:stCondLst>
                                  <p:childTnLst>
                                    <p:set>
                                      <p:cBhvr>
                                        <p:cTn id="804" dur="1" fill="hold">
                                          <p:stCondLst>
                                            <p:cond delay="0"/>
                                          </p:stCondLst>
                                        </p:cTn>
                                        <p:tgtEl>
                                          <p:spTgt spid="809"/>
                                        </p:tgtEl>
                                        <p:attrNameLst>
                                          <p:attrName>style.visibility</p:attrName>
                                        </p:attrNameLst>
                                      </p:cBhvr>
                                      <p:to>
                                        <p:strVal val="visible"/>
                                      </p:to>
                                    </p:set>
                                    <p:animEffect filter="strips(downRight)" transition="in">
                                      <p:cBhvr additive="repl">
                                        <p:cTn id="805" dur="500"/>
                                        <p:tgtEl>
                                          <p:spTgt spid="809"/>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8" presetSubtype="6">
                                  <p:stCondLst>
                                    <p:cond delay="0"/>
                                  </p:stCondLst>
                                  <p:childTnLst>
                                    <p:set>
                                      <p:cBhvr>
                                        <p:cTn id="809" dur="1" fill="hold">
                                          <p:stCondLst>
                                            <p:cond delay="0"/>
                                          </p:stCondLst>
                                        </p:cTn>
                                        <p:tgtEl>
                                          <p:spTgt spid="810"/>
                                        </p:tgtEl>
                                        <p:attrNameLst>
                                          <p:attrName>style.visibility</p:attrName>
                                        </p:attrNameLst>
                                      </p:cBhvr>
                                      <p:to>
                                        <p:strVal val="visible"/>
                                      </p:to>
                                    </p:set>
                                    <p:animEffect filter="strips(downRight)" transition="in">
                                      <p:cBhvr additive="repl">
                                        <p:cTn id="810"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12" name=""/>
          <p:cNvGrpSpPr/>
          <p:nvPr/>
        </p:nvGrpSpPr>
        <p:grpSpPr>
          <a:xfrm>
            <a:off x="509760" y="1627200"/>
            <a:ext cx="2920680" cy="2161440"/>
            <a:chOff x="509760" y="1627200"/>
            <a:chExt cx="2920680" cy="2161440"/>
          </a:xfrm>
        </p:grpSpPr>
        <p:grpSp>
          <p:nvGrpSpPr>
            <p:cNvPr id="813" name=""/>
            <p:cNvGrpSpPr/>
            <p:nvPr/>
          </p:nvGrpSpPr>
          <p:grpSpPr>
            <a:xfrm>
              <a:off x="687240" y="2033640"/>
              <a:ext cx="2743200" cy="1218960"/>
              <a:chOff x="687240" y="2033640"/>
              <a:chExt cx="2743200" cy="1218960"/>
            </a:xfrm>
          </p:grpSpPr>
          <p:sp>
            <p:nvSpPr>
              <p:cNvPr id="814" name=""/>
              <p:cNvSpPr/>
              <p:nvPr/>
            </p:nvSpPr>
            <p:spPr>
              <a:xfrm>
                <a:off x="1725480" y="2033640"/>
                <a:ext cx="1704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687240" y="2033640"/>
                <a:ext cx="1038240" cy="12189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1991520" y="162720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7.8ft</a:t>
              </a:r>
              <a:endParaRPr b="0" lang="en-US" sz="2400" spc="-1" strike="noStrike">
                <a:solidFill>
                  <a:srgbClr val="000000"/>
                </a:solidFill>
                <a:latin typeface="Times New Roman"/>
              </a:endParaRPr>
            </a:p>
          </p:txBody>
        </p:sp>
        <p:sp>
          <p:nvSpPr>
            <p:cNvPr id="817" name=""/>
            <p:cNvSpPr/>
            <p:nvPr/>
          </p:nvSpPr>
          <p:spPr>
            <a:xfrm>
              <a:off x="2199600" y="245088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3.9ft</a:t>
              </a:r>
              <a:endParaRPr b="0" lang="en-US" sz="2400" spc="-1" strike="noStrike">
                <a:solidFill>
                  <a:srgbClr val="000000"/>
                </a:solidFill>
                <a:latin typeface="Times New Roman"/>
              </a:endParaRPr>
            </a:p>
          </p:txBody>
        </p:sp>
        <p:sp>
          <p:nvSpPr>
            <p:cNvPr id="818" name=""/>
            <p:cNvSpPr/>
            <p:nvPr/>
          </p:nvSpPr>
          <p:spPr>
            <a:xfrm>
              <a:off x="1472400" y="332892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1.9ft</a:t>
              </a:r>
              <a:endParaRPr b="0" lang="en-US" sz="2400" spc="-1" strike="noStrike">
                <a:solidFill>
                  <a:srgbClr val="000000"/>
                </a:solidFill>
                <a:latin typeface="Times New Roman"/>
              </a:endParaRPr>
            </a:p>
          </p:txBody>
        </p:sp>
        <p:sp>
          <p:nvSpPr>
            <p:cNvPr id="819" name=""/>
            <p:cNvSpPr/>
            <p:nvPr/>
          </p:nvSpPr>
          <p:spPr>
            <a:xfrm rot="18678600">
              <a:off x="482760" y="235404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1.6ft</a:t>
              </a:r>
              <a:endParaRPr b="0" lang="en-US" sz="2400" spc="-1" strike="noStrike">
                <a:solidFill>
                  <a:srgbClr val="000000"/>
                </a:solidFill>
                <a:latin typeface="Times New Roman"/>
              </a:endParaRPr>
            </a:p>
          </p:txBody>
        </p:sp>
        <p:sp>
          <p:nvSpPr>
            <p:cNvPr id="820" name=""/>
            <p:cNvSpPr/>
            <p:nvPr/>
          </p:nvSpPr>
          <p:spPr>
            <a:xfrm flipH="1">
              <a:off x="686880" y="3481200"/>
              <a:ext cx="77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660760" y="3481200"/>
              <a:ext cx="76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17254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1528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V="1">
              <a:off x="3198960" y="203328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198960" y="283536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457776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1</a:t>
            </a:r>
            <a:endParaRPr b="0" lang="en-US" sz="3600" spc="-1" strike="noStrike">
              <a:solidFill>
                <a:srgbClr val="000000"/>
              </a:solidFill>
              <a:latin typeface="Times New Roman"/>
            </a:endParaRPr>
          </a:p>
        </p:txBody>
      </p:sp>
      <p:sp>
        <p:nvSpPr>
          <p:cNvPr id="827" name=""/>
          <p:cNvSpPr/>
          <p:nvPr/>
        </p:nvSpPr>
        <p:spPr>
          <a:xfrm>
            <a:off x="3733920" y="2214720"/>
            <a:ext cx="4495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ncing =    New perimeter –       old perimeter</a:t>
            </a:r>
            <a:endParaRPr b="0" lang="en-US" sz="3200" spc="-1" strike="noStrike">
              <a:solidFill>
                <a:srgbClr val="000000"/>
              </a:solidFill>
              <a:latin typeface="Times New Roman"/>
            </a:endParaRPr>
          </a:p>
        </p:txBody>
      </p:sp>
      <p:sp>
        <p:nvSpPr>
          <p:cNvPr id="828" name=""/>
          <p:cNvSpPr/>
          <p:nvPr/>
        </p:nvSpPr>
        <p:spPr>
          <a:xfrm>
            <a:off x="839880" y="3962520"/>
            <a:ext cx="7692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perimeter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557.8ft + 243.9ft + 711.9ft + 341.6ft</a:t>
            </a:r>
            <a:endParaRPr b="0" lang="en-US" sz="3200" spc="-1" strike="noStrike">
              <a:solidFill>
                <a:srgbClr val="000000"/>
              </a:solidFill>
              <a:latin typeface="Times New Roman"/>
            </a:endParaRPr>
          </a:p>
        </p:txBody>
      </p:sp>
      <p:sp>
        <p:nvSpPr>
          <p:cNvPr id="829" name=""/>
          <p:cNvSpPr/>
          <p:nvPr/>
        </p:nvSpPr>
        <p:spPr>
          <a:xfrm>
            <a:off x="839880" y="5181480"/>
            <a:ext cx="7692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ld perimeter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557.8ft + 243.9ft + 557.8ft + 243.9ft</a:t>
            </a:r>
            <a:endParaRPr b="0" lang="en-US" sz="3200" spc="-1" strike="noStrike">
              <a:solidFill>
                <a:srgbClr val="000000"/>
              </a:solidFill>
              <a:latin typeface="Times New Roman"/>
            </a:endParaRPr>
          </a:p>
        </p:txBody>
      </p:sp>
      <p:sp>
        <p:nvSpPr>
          <p:cNvPr id="830"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zoom dir="out"/>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8" presetSubtype="6">
                                  <p:stCondLst>
                                    <p:cond delay="0"/>
                                  </p:stCondLst>
                                  <p:childTnLst>
                                    <p:set>
                                      <p:cBhvr>
                                        <p:cTn id="816" dur="1" fill="hold">
                                          <p:stCondLst>
                                            <p:cond delay="0"/>
                                          </p:stCondLst>
                                        </p:cTn>
                                        <p:tgtEl>
                                          <p:spTgt spid="828"/>
                                        </p:tgtEl>
                                        <p:attrNameLst>
                                          <p:attrName>style.visibility</p:attrName>
                                        </p:attrNameLst>
                                      </p:cBhvr>
                                      <p:to>
                                        <p:strVal val="visible"/>
                                      </p:to>
                                    </p:set>
                                    <p:animEffect filter="strips(downRight)" transition="in">
                                      <p:cBhvr additive="repl">
                                        <p:cTn id="817" dur="500"/>
                                        <p:tgtEl>
                                          <p:spTgt spid="82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8" presetSubtype="6">
                                  <p:stCondLst>
                                    <p:cond delay="0"/>
                                  </p:stCondLst>
                                  <p:childTnLst>
                                    <p:set>
                                      <p:cBhvr>
                                        <p:cTn id="821" dur="1" fill="hold">
                                          <p:stCondLst>
                                            <p:cond delay="0"/>
                                          </p:stCondLst>
                                        </p:cTn>
                                        <p:tgtEl>
                                          <p:spTgt spid="829"/>
                                        </p:tgtEl>
                                        <p:attrNameLst>
                                          <p:attrName>style.visibility</p:attrName>
                                        </p:attrNameLst>
                                      </p:cBhvr>
                                      <p:to>
                                        <p:strVal val="visible"/>
                                      </p:to>
                                    </p:set>
                                    <p:animEffect filter="strips(downRight)" transition="in">
                                      <p:cBhvr additive="repl">
                                        <p:cTn id="82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1" name=""/>
          <p:cNvSpPr/>
          <p:nvPr/>
        </p:nvSpPr>
        <p:spPr>
          <a:xfrm>
            <a:off x="346968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1</a:t>
            </a:r>
            <a:endParaRPr b="0" lang="en-US" sz="3600" spc="-1" strike="noStrike">
              <a:solidFill>
                <a:srgbClr val="000000"/>
              </a:solidFill>
              <a:latin typeface="Times New Roman"/>
            </a:endParaRPr>
          </a:p>
        </p:txBody>
      </p:sp>
      <p:sp>
        <p:nvSpPr>
          <p:cNvPr id="832" name=""/>
          <p:cNvSpPr/>
          <p:nvPr/>
        </p:nvSpPr>
        <p:spPr>
          <a:xfrm>
            <a:off x="609480" y="243828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New Perimeter</a:t>
            </a:r>
            <a:endParaRPr b="0" lang="en-US" sz="3600" spc="-1" strike="noStrike">
              <a:solidFill>
                <a:srgbClr val="000000"/>
              </a:solidFill>
              <a:latin typeface="Times New Roman"/>
            </a:endParaRPr>
          </a:p>
        </p:txBody>
      </p:sp>
      <p:sp>
        <p:nvSpPr>
          <p:cNvPr id="833" name=""/>
          <p:cNvSpPr/>
          <p:nvPr/>
        </p:nvSpPr>
        <p:spPr>
          <a:xfrm>
            <a:off x="4800600" y="2406600"/>
            <a:ext cx="373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Old Perimeter</a:t>
            </a:r>
            <a:endParaRPr b="0" lang="en-US" sz="3600" spc="-1" strike="noStrike">
              <a:solidFill>
                <a:srgbClr val="000000"/>
              </a:solidFill>
              <a:latin typeface="Times New Roman"/>
            </a:endParaRPr>
          </a:p>
        </p:txBody>
      </p:sp>
      <p:grpSp>
        <p:nvGrpSpPr>
          <p:cNvPr id="834" name=""/>
          <p:cNvGrpSpPr/>
          <p:nvPr/>
        </p:nvGrpSpPr>
        <p:grpSpPr>
          <a:xfrm>
            <a:off x="1295280" y="3063960"/>
            <a:ext cx="2133720" cy="2288520"/>
            <a:chOff x="1295280" y="3063960"/>
            <a:chExt cx="2133720" cy="2288520"/>
          </a:xfrm>
        </p:grpSpPr>
        <p:sp>
          <p:nvSpPr>
            <p:cNvPr id="835" name=""/>
            <p:cNvSpPr/>
            <p:nvPr/>
          </p:nvSpPr>
          <p:spPr>
            <a:xfrm>
              <a:off x="1523880" y="306396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57.8ft 243.9ft 711.9ft 341.6ft</a:t>
              </a:r>
              <a:endParaRPr b="0" lang="en-US" sz="3600" spc="-1" strike="noStrike">
                <a:solidFill>
                  <a:srgbClr val="000000"/>
                </a:solidFill>
                <a:latin typeface="Times New Roman"/>
              </a:endParaRPr>
            </a:p>
          </p:txBody>
        </p:sp>
        <p:sp>
          <p:nvSpPr>
            <p:cNvPr id="836" name=""/>
            <p:cNvSpPr/>
            <p:nvPr/>
          </p:nvSpPr>
          <p:spPr>
            <a:xfrm>
              <a:off x="1295280" y="534348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562720" y="3063960"/>
            <a:ext cx="2133360" cy="2288520"/>
            <a:chOff x="5562720" y="3063960"/>
            <a:chExt cx="2133360" cy="2288520"/>
          </a:xfrm>
        </p:grpSpPr>
        <p:sp>
          <p:nvSpPr>
            <p:cNvPr id="838" name=""/>
            <p:cNvSpPr/>
            <p:nvPr/>
          </p:nvSpPr>
          <p:spPr>
            <a:xfrm>
              <a:off x="5715000" y="3063960"/>
              <a:ext cx="1905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557.8ft 243.9ft 557.8ft 243.9ft</a:t>
              </a:r>
              <a:endParaRPr b="0" lang="en-US" sz="3600" spc="-1" strike="noStrike">
                <a:solidFill>
                  <a:srgbClr val="000000"/>
                </a:solidFill>
                <a:latin typeface="Times New Roman"/>
              </a:endParaRPr>
            </a:p>
          </p:txBody>
        </p:sp>
        <p:sp>
          <p:nvSpPr>
            <p:cNvPr id="839" name=""/>
            <p:cNvSpPr/>
            <p:nvPr/>
          </p:nvSpPr>
          <p:spPr>
            <a:xfrm>
              <a:off x="5562720" y="5343480"/>
              <a:ext cx="213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 name=""/>
          <p:cNvSpPr/>
          <p:nvPr/>
        </p:nvSpPr>
        <p:spPr>
          <a:xfrm>
            <a:off x="1426320" y="5410080"/>
            <a:ext cx="193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855.2ft</a:t>
            </a:r>
            <a:endParaRPr b="0" lang="en-US" sz="3600" spc="-1" strike="noStrike">
              <a:solidFill>
                <a:srgbClr val="000000"/>
              </a:solidFill>
              <a:latin typeface="Times New Roman"/>
            </a:endParaRPr>
          </a:p>
        </p:txBody>
      </p:sp>
      <p:sp>
        <p:nvSpPr>
          <p:cNvPr id="841" name=""/>
          <p:cNvSpPr/>
          <p:nvPr/>
        </p:nvSpPr>
        <p:spPr>
          <a:xfrm>
            <a:off x="5693400" y="5410080"/>
            <a:ext cx="193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603.4ft</a:t>
            </a:r>
            <a:endParaRPr b="0" lang="en-US" sz="3600" spc="-1" strike="noStrike">
              <a:solidFill>
                <a:srgbClr val="000000"/>
              </a:solidFill>
              <a:latin typeface="Times New Roman"/>
            </a:endParaRPr>
          </a:p>
        </p:txBody>
      </p:sp>
      <p:sp>
        <p:nvSpPr>
          <p:cNvPr id="842"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wipe dir="r"/>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834"/>
                                        </p:tgtEl>
                                        <p:attrNameLst>
                                          <p:attrName>style.visibility</p:attrName>
                                        </p:attrNameLst>
                                      </p:cBhvr>
                                      <p:to>
                                        <p:strVal val="visible"/>
                                      </p:to>
                                    </p:set>
                                    <p:animEffect filter="wipe(up)" transition="in">
                                      <p:cBhvr additive="repl">
                                        <p:cTn id="829" dur="500"/>
                                        <p:tgtEl>
                                          <p:spTgt spid="83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1">
                                  <p:stCondLst>
                                    <p:cond delay="0"/>
                                  </p:stCondLst>
                                  <p:childTnLst>
                                    <p:set>
                                      <p:cBhvr>
                                        <p:cTn id="833" dur="1" fill="hold">
                                          <p:stCondLst>
                                            <p:cond delay="0"/>
                                          </p:stCondLst>
                                        </p:cTn>
                                        <p:tgtEl>
                                          <p:spTgt spid="837"/>
                                        </p:tgtEl>
                                        <p:attrNameLst>
                                          <p:attrName>style.visibility</p:attrName>
                                        </p:attrNameLst>
                                      </p:cBhvr>
                                      <p:to>
                                        <p:strVal val="visible"/>
                                      </p:to>
                                    </p:set>
                                    <p:animEffect filter="wipe(up)" transition="in">
                                      <p:cBhvr additive="repl">
                                        <p:cTn id="834" dur="500"/>
                                        <p:tgtEl>
                                          <p:spTgt spid="837"/>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9">
                                  <p:stCondLst>
                                    <p:cond delay="0"/>
                                  </p:stCondLst>
                                  <p:childTnLst>
                                    <p:set>
                                      <p:cBhvr>
                                        <p:cTn id="838" dur="1" fill="hold">
                                          <p:stCondLst>
                                            <p:cond delay="0"/>
                                          </p:stCondLst>
                                        </p:cTn>
                                        <p:tgtEl>
                                          <p:spTgt spid="840"/>
                                        </p:tgtEl>
                                        <p:attrNameLst>
                                          <p:attrName>style.visibility</p:attrName>
                                        </p:attrNameLst>
                                      </p:cBhvr>
                                      <p:to>
                                        <p:strVal val="visible"/>
                                      </p:to>
                                    </p:set>
                                    <p:animEffect filter="dissolve" transition="in">
                                      <p:cBhvr additive="repl">
                                        <p:cTn id="839" dur="500"/>
                                        <p:tgtEl>
                                          <p:spTgt spid="840"/>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841"/>
                                        </p:tgtEl>
                                        <p:attrNameLst>
                                          <p:attrName>style.visibility</p:attrName>
                                        </p:attrNameLst>
                                      </p:cBhvr>
                                      <p:to>
                                        <p:strVal val="visible"/>
                                      </p:to>
                                    </p:set>
                                    <p:animEffect filter="dissolve" transition="in">
                                      <p:cBhvr additive="repl">
                                        <p:cTn id="844"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095880" y="1828800"/>
            <a:ext cx="2524320" cy="3468600"/>
          </a:xfrm>
          <a:prstGeom prst="rect">
            <a:avLst/>
          </a:prstGeom>
          <a:ln w="0">
            <a:noFill/>
          </a:ln>
        </p:spPr>
      </p:pic>
      <p:sp>
        <p:nvSpPr>
          <p:cNvPr id="259" name=""/>
          <p:cNvSpPr txBox="1"/>
          <p:nvPr/>
        </p:nvSpPr>
        <p:spPr>
          <a:xfrm>
            <a:off x="609480" y="2209680"/>
            <a:ext cx="5105520" cy="308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ord Problems</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with Decimals </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rPr>
              <a:t> </a:t>
            </a:r>
            <a:endParaRPr b="1" lang="en-US" sz="6000" spc="1" strike="noStrike">
              <a:ln w="0">
                <a:noFill/>
              </a:ln>
              <a:gradFill rotWithShape="0">
                <a:gsLst>
                  <a:gs pos="0">
                    <a:srgbClr val="3366ff"/>
                  </a:gs>
                  <a:gs pos="50000">
                    <a:srgbClr val="9999ff"/>
                  </a:gs>
                  <a:gs pos="100000">
                    <a:srgbClr val="3366ff"/>
                  </a:gs>
                </a:gsLst>
                <a:lin ang="5400000"/>
              </a:gradFill>
              <a:effectLst>
                <a:outerShdw dist="40186" dir="1096358" blurRad="0" rotWithShape="0">
                  <a:srgbClr val="c0c0c0"/>
                </a:outerShdw>
              </a:effectLst>
              <a:latin typeface="Comic Sans MS"/>
              <a:ea typeface="Comic Sans MS"/>
            </a:endParaRPr>
          </a:p>
        </p:txBody>
      </p:sp>
      <p:sp>
        <p:nvSpPr>
          <p:cNvPr id="260"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3" name=""/>
          <p:cNvSpPr/>
          <p:nvPr/>
        </p:nvSpPr>
        <p:spPr>
          <a:xfrm>
            <a:off x="346968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1</a:t>
            </a:r>
            <a:endParaRPr b="0" lang="en-US" sz="3600" spc="-1" strike="noStrike">
              <a:solidFill>
                <a:srgbClr val="000000"/>
              </a:solidFill>
              <a:latin typeface="Times New Roman"/>
            </a:endParaRPr>
          </a:p>
        </p:txBody>
      </p:sp>
      <p:sp>
        <p:nvSpPr>
          <p:cNvPr id="844" name=""/>
          <p:cNvSpPr/>
          <p:nvPr/>
        </p:nvSpPr>
        <p:spPr>
          <a:xfrm>
            <a:off x="914400" y="233028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fference = 1855.2ft – 1603.4ft</a:t>
            </a:r>
            <a:endParaRPr b="0" lang="en-US" sz="3600" spc="-1" strike="noStrike">
              <a:solidFill>
                <a:srgbClr val="000000"/>
              </a:solidFill>
              <a:latin typeface="Times New Roman"/>
            </a:endParaRPr>
          </a:p>
        </p:txBody>
      </p:sp>
      <p:grpSp>
        <p:nvGrpSpPr>
          <p:cNvPr id="845" name=""/>
          <p:cNvGrpSpPr/>
          <p:nvPr/>
        </p:nvGrpSpPr>
        <p:grpSpPr>
          <a:xfrm>
            <a:off x="3048120" y="3108240"/>
            <a:ext cx="2701800" cy="1236240"/>
            <a:chOff x="3048120" y="3108240"/>
            <a:chExt cx="2701800" cy="1236240"/>
          </a:xfrm>
        </p:grpSpPr>
        <p:sp>
          <p:nvSpPr>
            <p:cNvPr id="846" name=""/>
            <p:cNvSpPr/>
            <p:nvPr/>
          </p:nvSpPr>
          <p:spPr>
            <a:xfrm>
              <a:off x="3604320" y="3108240"/>
              <a:ext cx="193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855.2ft</a:t>
              </a:r>
              <a:endParaRPr b="0" lang="en-US" sz="3600" spc="-1" strike="noStrike">
                <a:solidFill>
                  <a:srgbClr val="000000"/>
                </a:solidFill>
                <a:latin typeface="Times New Roman"/>
              </a:endParaRPr>
            </a:p>
          </p:txBody>
        </p:sp>
        <p:sp>
          <p:nvSpPr>
            <p:cNvPr id="847" name=""/>
            <p:cNvSpPr/>
            <p:nvPr/>
          </p:nvSpPr>
          <p:spPr>
            <a:xfrm>
              <a:off x="3263400" y="370188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1603.4ft</a:t>
              </a:r>
              <a:endParaRPr b="0" lang="en-US" sz="3600" spc="-1" strike="noStrike">
                <a:solidFill>
                  <a:srgbClr val="000000"/>
                </a:solidFill>
                <a:latin typeface="Times New Roman"/>
              </a:endParaRPr>
            </a:p>
          </p:txBody>
        </p:sp>
        <p:sp>
          <p:nvSpPr>
            <p:cNvPr id="848" name=""/>
            <p:cNvSpPr/>
            <p:nvPr/>
          </p:nvSpPr>
          <p:spPr>
            <a:xfrm>
              <a:off x="3048120" y="4343400"/>
              <a:ext cx="270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9" name=""/>
          <p:cNvSpPr/>
          <p:nvPr/>
        </p:nvSpPr>
        <p:spPr>
          <a:xfrm>
            <a:off x="3868920" y="438768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251.8ft</a:t>
            </a:r>
            <a:endParaRPr b="0" lang="en-US" sz="3600" spc="-1" strike="noStrike">
              <a:solidFill>
                <a:srgbClr val="000000"/>
              </a:solidFill>
              <a:latin typeface="Times New Roman"/>
            </a:endParaRPr>
          </a:p>
        </p:txBody>
      </p:sp>
      <p:sp>
        <p:nvSpPr>
          <p:cNvPr id="850" name=""/>
          <p:cNvSpPr/>
          <p:nvPr/>
        </p:nvSpPr>
        <p:spPr>
          <a:xfrm>
            <a:off x="762120" y="5181480"/>
            <a:ext cx="7391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t needs to buy </a:t>
            </a:r>
            <a:r>
              <a:rPr b="0" lang="en-US" sz="3600" spc="-1" strike="noStrike">
                <a:solidFill>
                  <a:srgbClr val="0000ff"/>
                </a:solidFill>
                <a:latin typeface="Comic Sans MS"/>
              </a:rPr>
              <a:t>251.8ft</a:t>
            </a:r>
            <a:r>
              <a:rPr b="0" lang="en-US" sz="3600" spc="-1" strike="noStrike">
                <a:solidFill>
                  <a:srgbClr val="000000"/>
                </a:solidFill>
                <a:latin typeface="Comic Sans MS"/>
              </a:rPr>
              <a:t> of additional fencing.</a:t>
            </a:r>
            <a:endParaRPr b="0" lang="en-US" sz="3600" spc="-1" strike="noStrike">
              <a:solidFill>
                <a:srgbClr val="000000"/>
              </a:solidFill>
              <a:latin typeface="Times New Roman"/>
            </a:endParaRPr>
          </a:p>
        </p:txBody>
      </p:sp>
      <p:sp>
        <p:nvSpPr>
          <p:cNvPr id="851"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wipe dir="r"/>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2" presetSubtype="1">
                                  <p:stCondLst>
                                    <p:cond delay="0"/>
                                  </p:stCondLst>
                                  <p:childTnLst>
                                    <p:set>
                                      <p:cBhvr>
                                        <p:cTn id="850" dur="1" fill="hold">
                                          <p:stCondLst>
                                            <p:cond delay="0"/>
                                          </p:stCondLst>
                                        </p:cTn>
                                        <p:tgtEl>
                                          <p:spTgt spid="845"/>
                                        </p:tgtEl>
                                        <p:attrNameLst>
                                          <p:attrName>style.visibility</p:attrName>
                                        </p:attrNameLst>
                                      </p:cBhvr>
                                      <p:to>
                                        <p:strVal val="visible"/>
                                      </p:to>
                                    </p:set>
                                    <p:animEffect filter="wipe(up)" transition="in">
                                      <p:cBhvr additive="repl">
                                        <p:cTn id="851" dur="500"/>
                                        <p:tgtEl>
                                          <p:spTgt spid="845"/>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3" presetSubtype="16">
                                  <p:stCondLst>
                                    <p:cond delay="0"/>
                                  </p:stCondLst>
                                  <p:childTnLst>
                                    <p:set>
                                      <p:cBhvr>
                                        <p:cTn id="855" dur="1" fill="hold">
                                          <p:stCondLst>
                                            <p:cond delay="0"/>
                                          </p:stCondLst>
                                        </p:cTn>
                                        <p:tgtEl>
                                          <p:spTgt spid="849"/>
                                        </p:tgtEl>
                                        <p:attrNameLst>
                                          <p:attrName>style.visibility</p:attrName>
                                        </p:attrNameLst>
                                      </p:cBhvr>
                                      <p:to>
                                        <p:strVal val="visible"/>
                                      </p:to>
                                    </p:set>
                                    <p:anim calcmode="lin" valueType="num">
                                      <p:cBhvr additive="repl">
                                        <p:cTn id="856" dur="500" fill="hold"/>
                                        <p:tgtEl>
                                          <p:spTgt spid="849"/>
                                        </p:tgtEl>
                                        <p:attrNameLst>
                                          <p:attrName>ppt_w</p:attrName>
                                        </p:attrNameLst>
                                      </p:cBhvr>
                                      <p:tavLst>
                                        <p:tav tm="0">
                                          <p:val>
                                            <p:fltVal val="0"/>
                                          </p:val>
                                        </p:tav>
                                        <p:tav tm="100000">
                                          <p:val>
                                            <p:strVal val="#ppt_w"/>
                                          </p:val>
                                        </p:tav>
                                      </p:tavLst>
                                    </p:anim>
                                    <p:anim calcmode="lin" valueType="num">
                                      <p:cBhvr additive="repl">
                                        <p:cTn id="8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50"/>
                                        </p:tgtEl>
                                        <p:attrNameLst>
                                          <p:attrName>style.visibility</p:attrName>
                                        </p:attrNameLst>
                                      </p:cBhvr>
                                      <p:to>
                                        <p:strVal val="visible"/>
                                      </p:to>
                                    </p:set>
                                    <p:animEffect filter="dissolve" transition="in">
                                      <p:cBhvr additive="repl">
                                        <p:cTn id="862"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52" name=""/>
          <p:cNvGrpSpPr/>
          <p:nvPr/>
        </p:nvGrpSpPr>
        <p:grpSpPr>
          <a:xfrm>
            <a:off x="509760" y="1627200"/>
            <a:ext cx="2920680" cy="2161440"/>
            <a:chOff x="509760" y="1627200"/>
            <a:chExt cx="2920680" cy="2161440"/>
          </a:xfrm>
        </p:grpSpPr>
        <p:grpSp>
          <p:nvGrpSpPr>
            <p:cNvPr id="853" name=""/>
            <p:cNvGrpSpPr/>
            <p:nvPr/>
          </p:nvGrpSpPr>
          <p:grpSpPr>
            <a:xfrm>
              <a:off x="687240" y="2033640"/>
              <a:ext cx="2743200" cy="1218960"/>
              <a:chOff x="687240" y="2033640"/>
              <a:chExt cx="2743200" cy="1218960"/>
            </a:xfrm>
          </p:grpSpPr>
          <p:sp>
            <p:nvSpPr>
              <p:cNvPr id="854" name=""/>
              <p:cNvSpPr/>
              <p:nvPr/>
            </p:nvSpPr>
            <p:spPr>
              <a:xfrm>
                <a:off x="1725480" y="2033640"/>
                <a:ext cx="1704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687240" y="2033640"/>
                <a:ext cx="1038240" cy="12189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6" name=""/>
            <p:cNvSpPr/>
            <p:nvPr/>
          </p:nvSpPr>
          <p:spPr>
            <a:xfrm>
              <a:off x="1991520" y="162720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7.8ft</a:t>
              </a:r>
              <a:endParaRPr b="0" lang="en-US" sz="2400" spc="-1" strike="noStrike">
                <a:solidFill>
                  <a:srgbClr val="000000"/>
                </a:solidFill>
                <a:latin typeface="Times New Roman"/>
              </a:endParaRPr>
            </a:p>
          </p:txBody>
        </p:sp>
        <p:sp>
          <p:nvSpPr>
            <p:cNvPr id="857" name=""/>
            <p:cNvSpPr/>
            <p:nvPr/>
          </p:nvSpPr>
          <p:spPr>
            <a:xfrm>
              <a:off x="2199600" y="245088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3.9ft</a:t>
              </a:r>
              <a:endParaRPr b="0" lang="en-US" sz="2400" spc="-1" strike="noStrike">
                <a:solidFill>
                  <a:srgbClr val="000000"/>
                </a:solidFill>
                <a:latin typeface="Times New Roman"/>
              </a:endParaRPr>
            </a:p>
          </p:txBody>
        </p:sp>
        <p:sp>
          <p:nvSpPr>
            <p:cNvPr id="858" name=""/>
            <p:cNvSpPr/>
            <p:nvPr/>
          </p:nvSpPr>
          <p:spPr>
            <a:xfrm>
              <a:off x="1472400" y="332892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1.9ft</a:t>
              </a:r>
              <a:endParaRPr b="0" lang="en-US" sz="2400" spc="-1" strike="noStrike">
                <a:solidFill>
                  <a:srgbClr val="000000"/>
                </a:solidFill>
                <a:latin typeface="Times New Roman"/>
              </a:endParaRPr>
            </a:p>
          </p:txBody>
        </p:sp>
        <p:sp>
          <p:nvSpPr>
            <p:cNvPr id="859" name=""/>
            <p:cNvSpPr/>
            <p:nvPr/>
          </p:nvSpPr>
          <p:spPr>
            <a:xfrm rot="18678600">
              <a:off x="482760" y="235404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1.6ft</a:t>
              </a:r>
              <a:endParaRPr b="0" lang="en-US" sz="2400" spc="-1" strike="noStrike">
                <a:solidFill>
                  <a:srgbClr val="000000"/>
                </a:solidFill>
                <a:latin typeface="Times New Roman"/>
              </a:endParaRPr>
            </a:p>
          </p:txBody>
        </p:sp>
        <p:sp>
          <p:nvSpPr>
            <p:cNvPr id="860" name=""/>
            <p:cNvSpPr/>
            <p:nvPr/>
          </p:nvSpPr>
          <p:spPr>
            <a:xfrm flipH="1">
              <a:off x="686880" y="3481200"/>
              <a:ext cx="77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60760" y="3481200"/>
              <a:ext cx="76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17254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528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V="1">
              <a:off x="3198960" y="203328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198960" y="283536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461412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2</a:t>
            </a:r>
            <a:endParaRPr b="0" lang="en-US" sz="3600" spc="-1" strike="noStrike">
              <a:solidFill>
                <a:srgbClr val="000000"/>
              </a:solidFill>
              <a:latin typeface="Times New Roman"/>
            </a:endParaRPr>
          </a:p>
        </p:txBody>
      </p:sp>
      <p:sp>
        <p:nvSpPr>
          <p:cNvPr id="867" name=""/>
          <p:cNvSpPr/>
          <p:nvPr/>
        </p:nvSpPr>
        <p:spPr>
          <a:xfrm>
            <a:off x="3733920" y="2214720"/>
            <a:ext cx="4495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ncing =    change in length + change in width</a:t>
            </a:r>
            <a:endParaRPr b="0" lang="en-US" sz="3200" spc="-1" strike="noStrike">
              <a:solidFill>
                <a:srgbClr val="000000"/>
              </a:solidFill>
              <a:latin typeface="Times New Roman"/>
            </a:endParaRPr>
          </a:p>
        </p:txBody>
      </p:sp>
      <p:sp>
        <p:nvSpPr>
          <p:cNvPr id="868" name=""/>
          <p:cNvSpPr/>
          <p:nvPr/>
        </p:nvSpPr>
        <p:spPr>
          <a:xfrm>
            <a:off x="457200" y="4267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Change in Length</a:t>
            </a:r>
            <a:endParaRPr b="0" lang="en-US" sz="3600" spc="-1" strike="noStrike">
              <a:solidFill>
                <a:srgbClr val="000000"/>
              </a:solidFill>
              <a:latin typeface="Times New Roman"/>
            </a:endParaRPr>
          </a:p>
        </p:txBody>
      </p:sp>
      <p:sp>
        <p:nvSpPr>
          <p:cNvPr id="869" name=""/>
          <p:cNvSpPr/>
          <p:nvPr/>
        </p:nvSpPr>
        <p:spPr>
          <a:xfrm>
            <a:off x="4648320" y="4267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Change in Width</a:t>
            </a:r>
            <a:endParaRPr b="0" lang="en-US" sz="3600" spc="-1" strike="noStrike">
              <a:solidFill>
                <a:srgbClr val="000000"/>
              </a:solidFill>
              <a:latin typeface="Times New Roman"/>
            </a:endParaRPr>
          </a:p>
        </p:txBody>
      </p:sp>
      <p:sp>
        <p:nvSpPr>
          <p:cNvPr id="870" name=""/>
          <p:cNvSpPr/>
          <p:nvPr/>
        </p:nvSpPr>
        <p:spPr>
          <a:xfrm>
            <a:off x="457200" y="49528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11.9ft – 557.8ft</a:t>
            </a:r>
            <a:endParaRPr b="0" lang="en-US" sz="3600" spc="-1" strike="noStrike">
              <a:solidFill>
                <a:srgbClr val="000000"/>
              </a:solidFill>
              <a:latin typeface="Times New Roman"/>
            </a:endParaRPr>
          </a:p>
        </p:txBody>
      </p:sp>
      <p:sp>
        <p:nvSpPr>
          <p:cNvPr id="871" name=""/>
          <p:cNvSpPr/>
          <p:nvPr/>
        </p:nvSpPr>
        <p:spPr>
          <a:xfrm>
            <a:off x="4648320" y="49528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41.6ft – 243.9ft</a:t>
            </a:r>
            <a:endParaRPr b="0" lang="en-US" sz="3600" spc="-1" strike="noStrike">
              <a:solidFill>
                <a:srgbClr val="000000"/>
              </a:solidFill>
              <a:latin typeface="Times New Roman"/>
            </a:endParaRPr>
          </a:p>
        </p:txBody>
      </p:sp>
      <p:sp>
        <p:nvSpPr>
          <p:cNvPr id="872"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zoom dir="out"/>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8" presetSubtype="6">
                                  <p:stCondLst>
                                    <p:cond delay="0"/>
                                  </p:stCondLst>
                                  <p:childTnLst>
                                    <p:set>
                                      <p:cBhvr>
                                        <p:cTn id="868" dur="1" fill="hold">
                                          <p:stCondLst>
                                            <p:cond delay="0"/>
                                          </p:stCondLst>
                                        </p:cTn>
                                        <p:tgtEl>
                                          <p:spTgt spid="868"/>
                                        </p:tgtEl>
                                        <p:attrNameLst>
                                          <p:attrName>style.visibility</p:attrName>
                                        </p:attrNameLst>
                                      </p:cBhvr>
                                      <p:to>
                                        <p:strVal val="visible"/>
                                      </p:to>
                                    </p:set>
                                    <p:animEffect filter="strips(downRight)" transition="in">
                                      <p:cBhvr additive="repl">
                                        <p:cTn id="869" dur="500"/>
                                        <p:tgtEl>
                                          <p:spTgt spid="868"/>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8" presetSubtype="6">
                                  <p:stCondLst>
                                    <p:cond delay="0"/>
                                  </p:stCondLst>
                                  <p:childTnLst>
                                    <p:set>
                                      <p:cBhvr>
                                        <p:cTn id="873" dur="1" fill="hold">
                                          <p:stCondLst>
                                            <p:cond delay="0"/>
                                          </p:stCondLst>
                                        </p:cTn>
                                        <p:tgtEl>
                                          <p:spTgt spid="869"/>
                                        </p:tgtEl>
                                        <p:attrNameLst>
                                          <p:attrName>style.visibility</p:attrName>
                                        </p:attrNameLst>
                                      </p:cBhvr>
                                      <p:to>
                                        <p:strVal val="visible"/>
                                      </p:to>
                                    </p:set>
                                    <p:animEffect filter="strips(downRight)" transition="in">
                                      <p:cBhvr additive="repl">
                                        <p:cTn id="874" dur="500"/>
                                        <p:tgtEl>
                                          <p:spTgt spid="869"/>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8" presetSubtype="6">
                                  <p:stCondLst>
                                    <p:cond delay="0"/>
                                  </p:stCondLst>
                                  <p:childTnLst>
                                    <p:set>
                                      <p:cBhvr>
                                        <p:cTn id="878" dur="1" fill="hold">
                                          <p:stCondLst>
                                            <p:cond delay="0"/>
                                          </p:stCondLst>
                                        </p:cTn>
                                        <p:tgtEl>
                                          <p:spTgt spid="870"/>
                                        </p:tgtEl>
                                        <p:attrNameLst>
                                          <p:attrName>style.visibility</p:attrName>
                                        </p:attrNameLst>
                                      </p:cBhvr>
                                      <p:to>
                                        <p:strVal val="visible"/>
                                      </p:to>
                                    </p:set>
                                    <p:animEffect filter="strips(downRight)" transition="in">
                                      <p:cBhvr additive="repl">
                                        <p:cTn id="879" dur="500"/>
                                        <p:tgtEl>
                                          <p:spTgt spid="870"/>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8" presetSubtype="6">
                                  <p:stCondLst>
                                    <p:cond delay="0"/>
                                  </p:stCondLst>
                                  <p:childTnLst>
                                    <p:set>
                                      <p:cBhvr>
                                        <p:cTn id="883" dur="1" fill="hold">
                                          <p:stCondLst>
                                            <p:cond delay="0"/>
                                          </p:stCondLst>
                                        </p:cTn>
                                        <p:tgtEl>
                                          <p:spTgt spid="871"/>
                                        </p:tgtEl>
                                        <p:attrNameLst>
                                          <p:attrName>style.visibility</p:attrName>
                                        </p:attrNameLst>
                                      </p:cBhvr>
                                      <p:to>
                                        <p:strVal val="visible"/>
                                      </p:to>
                                    </p:set>
                                    <p:animEffect filter="strips(downRight)" transition="in">
                                      <p:cBhvr additive="repl">
                                        <p:cTn id="884"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73" name=""/>
          <p:cNvSpPr/>
          <p:nvPr/>
        </p:nvSpPr>
        <p:spPr>
          <a:xfrm>
            <a:off x="350604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2</a:t>
            </a:r>
            <a:endParaRPr b="0" lang="en-US" sz="3600" spc="-1" strike="noStrike">
              <a:solidFill>
                <a:srgbClr val="000000"/>
              </a:solidFill>
              <a:latin typeface="Times New Roman"/>
            </a:endParaRPr>
          </a:p>
        </p:txBody>
      </p:sp>
      <p:sp>
        <p:nvSpPr>
          <p:cNvPr id="874" name=""/>
          <p:cNvSpPr/>
          <p:nvPr/>
        </p:nvSpPr>
        <p:spPr>
          <a:xfrm>
            <a:off x="380880" y="24382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Change in Length</a:t>
            </a:r>
            <a:endParaRPr b="0" lang="en-US" sz="3600" spc="-1" strike="noStrike">
              <a:solidFill>
                <a:srgbClr val="000000"/>
              </a:solidFill>
              <a:latin typeface="Times New Roman"/>
            </a:endParaRPr>
          </a:p>
        </p:txBody>
      </p:sp>
      <p:sp>
        <p:nvSpPr>
          <p:cNvPr id="875" name=""/>
          <p:cNvSpPr/>
          <p:nvPr/>
        </p:nvSpPr>
        <p:spPr>
          <a:xfrm>
            <a:off x="4572000" y="24382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Change in Width</a:t>
            </a:r>
            <a:endParaRPr b="0" lang="en-US" sz="3600" spc="-1" strike="noStrike">
              <a:solidFill>
                <a:srgbClr val="000000"/>
              </a:solidFill>
              <a:latin typeface="Times New Roman"/>
            </a:endParaRPr>
          </a:p>
        </p:txBody>
      </p:sp>
      <p:sp>
        <p:nvSpPr>
          <p:cNvPr id="876" name=""/>
          <p:cNvSpPr/>
          <p:nvPr/>
        </p:nvSpPr>
        <p:spPr>
          <a:xfrm>
            <a:off x="380880" y="3124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11.9ft – 557.8ft</a:t>
            </a:r>
            <a:endParaRPr b="0" lang="en-US" sz="3600" spc="-1" strike="noStrike">
              <a:solidFill>
                <a:srgbClr val="000000"/>
              </a:solidFill>
              <a:latin typeface="Times New Roman"/>
            </a:endParaRPr>
          </a:p>
        </p:txBody>
      </p:sp>
      <p:sp>
        <p:nvSpPr>
          <p:cNvPr id="877" name=""/>
          <p:cNvSpPr/>
          <p:nvPr/>
        </p:nvSpPr>
        <p:spPr>
          <a:xfrm>
            <a:off x="4572000" y="312408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41.6ft – 243.9ft</a:t>
            </a:r>
            <a:endParaRPr b="0" lang="en-US" sz="3600" spc="-1" strike="noStrike">
              <a:solidFill>
                <a:srgbClr val="000000"/>
              </a:solidFill>
              <a:latin typeface="Times New Roman"/>
            </a:endParaRPr>
          </a:p>
        </p:txBody>
      </p:sp>
      <p:grpSp>
        <p:nvGrpSpPr>
          <p:cNvPr id="878" name=""/>
          <p:cNvGrpSpPr/>
          <p:nvPr/>
        </p:nvGrpSpPr>
        <p:grpSpPr>
          <a:xfrm>
            <a:off x="914400" y="3930480"/>
            <a:ext cx="2514600" cy="1252440"/>
            <a:chOff x="914400" y="3930480"/>
            <a:chExt cx="2514600" cy="1252440"/>
          </a:xfrm>
        </p:grpSpPr>
        <p:sp>
          <p:nvSpPr>
            <p:cNvPr id="879" name=""/>
            <p:cNvSpPr/>
            <p:nvPr/>
          </p:nvSpPr>
          <p:spPr>
            <a:xfrm>
              <a:off x="1546560" y="393048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711.9ft</a:t>
              </a:r>
              <a:endParaRPr b="0" lang="en-US" sz="3600" spc="-1" strike="noStrike">
                <a:solidFill>
                  <a:srgbClr val="000000"/>
                </a:solidFill>
                <a:latin typeface="Times New Roman"/>
              </a:endParaRPr>
            </a:p>
          </p:txBody>
        </p:sp>
        <p:sp>
          <p:nvSpPr>
            <p:cNvPr id="880" name=""/>
            <p:cNvSpPr/>
            <p:nvPr/>
          </p:nvSpPr>
          <p:spPr>
            <a:xfrm>
              <a:off x="1089360" y="4540320"/>
              <a:ext cx="201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557.8ft</a:t>
              </a:r>
              <a:endParaRPr b="0" lang="en-US" sz="3600" spc="-1" strike="noStrike">
                <a:solidFill>
                  <a:srgbClr val="000000"/>
                </a:solidFill>
                <a:latin typeface="Times New Roman"/>
              </a:endParaRPr>
            </a:p>
          </p:txBody>
        </p:sp>
        <p:sp>
          <p:nvSpPr>
            <p:cNvPr id="881" name=""/>
            <p:cNvSpPr/>
            <p:nvPr/>
          </p:nvSpPr>
          <p:spPr>
            <a:xfrm>
              <a:off x="914400" y="518148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181480" y="3930480"/>
            <a:ext cx="2514600" cy="1252440"/>
            <a:chOff x="5181480" y="3930480"/>
            <a:chExt cx="2514600" cy="1252440"/>
          </a:xfrm>
        </p:grpSpPr>
        <p:sp>
          <p:nvSpPr>
            <p:cNvPr id="883" name=""/>
            <p:cNvSpPr/>
            <p:nvPr/>
          </p:nvSpPr>
          <p:spPr>
            <a:xfrm>
              <a:off x="5850360" y="393048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41.6ft</a:t>
              </a:r>
              <a:endParaRPr b="0" lang="en-US" sz="3600" spc="-1" strike="noStrike">
                <a:solidFill>
                  <a:srgbClr val="000000"/>
                </a:solidFill>
                <a:latin typeface="Times New Roman"/>
              </a:endParaRPr>
            </a:p>
          </p:txBody>
        </p:sp>
        <p:sp>
          <p:nvSpPr>
            <p:cNvPr id="884" name=""/>
            <p:cNvSpPr/>
            <p:nvPr/>
          </p:nvSpPr>
          <p:spPr>
            <a:xfrm>
              <a:off x="5432760" y="4540320"/>
              <a:ext cx="201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243.9ft</a:t>
              </a:r>
              <a:endParaRPr b="0" lang="en-US" sz="3600" spc="-1" strike="noStrike">
                <a:solidFill>
                  <a:srgbClr val="000000"/>
                </a:solidFill>
                <a:latin typeface="Times New Roman"/>
              </a:endParaRPr>
            </a:p>
          </p:txBody>
        </p:sp>
        <p:sp>
          <p:nvSpPr>
            <p:cNvPr id="885" name=""/>
            <p:cNvSpPr/>
            <p:nvPr/>
          </p:nvSpPr>
          <p:spPr>
            <a:xfrm>
              <a:off x="5181480" y="518148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
          <p:cNvSpPr/>
          <p:nvPr/>
        </p:nvSpPr>
        <p:spPr>
          <a:xfrm>
            <a:off x="1505160" y="525780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4.1ft</a:t>
            </a:r>
            <a:endParaRPr b="0" lang="en-US" sz="3600" spc="-1" strike="noStrike">
              <a:solidFill>
                <a:srgbClr val="000000"/>
              </a:solidFill>
              <a:latin typeface="Times New Roman"/>
            </a:endParaRPr>
          </a:p>
        </p:txBody>
      </p:sp>
      <p:sp>
        <p:nvSpPr>
          <p:cNvPr id="887" name=""/>
          <p:cNvSpPr/>
          <p:nvPr/>
        </p:nvSpPr>
        <p:spPr>
          <a:xfrm>
            <a:off x="6046200" y="525780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7.7ft</a:t>
            </a:r>
            <a:endParaRPr b="0" lang="en-US" sz="3600" spc="-1" strike="noStrike">
              <a:solidFill>
                <a:srgbClr val="000000"/>
              </a:solidFill>
              <a:latin typeface="Times New Roman"/>
            </a:endParaRPr>
          </a:p>
        </p:txBody>
      </p:sp>
      <p:sp>
        <p:nvSpPr>
          <p:cNvPr id="888"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wipe dir="r"/>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2" presetSubtype="1">
                                  <p:stCondLst>
                                    <p:cond delay="0"/>
                                  </p:stCondLst>
                                  <p:childTnLst>
                                    <p:set>
                                      <p:cBhvr>
                                        <p:cTn id="890" dur="1" fill="hold">
                                          <p:stCondLst>
                                            <p:cond delay="0"/>
                                          </p:stCondLst>
                                        </p:cTn>
                                        <p:tgtEl>
                                          <p:spTgt spid="878"/>
                                        </p:tgtEl>
                                        <p:attrNameLst>
                                          <p:attrName>style.visibility</p:attrName>
                                        </p:attrNameLst>
                                      </p:cBhvr>
                                      <p:to>
                                        <p:strVal val="visible"/>
                                      </p:to>
                                    </p:set>
                                    <p:animEffect filter="wipe(up)" transition="in">
                                      <p:cBhvr additive="repl">
                                        <p:cTn id="891" dur="500"/>
                                        <p:tgtEl>
                                          <p:spTgt spid="878"/>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1">
                                  <p:stCondLst>
                                    <p:cond delay="0"/>
                                  </p:stCondLst>
                                  <p:childTnLst>
                                    <p:set>
                                      <p:cBhvr>
                                        <p:cTn id="895" dur="1" fill="hold">
                                          <p:stCondLst>
                                            <p:cond delay="0"/>
                                          </p:stCondLst>
                                        </p:cTn>
                                        <p:tgtEl>
                                          <p:spTgt spid="882"/>
                                        </p:tgtEl>
                                        <p:attrNameLst>
                                          <p:attrName>style.visibility</p:attrName>
                                        </p:attrNameLst>
                                      </p:cBhvr>
                                      <p:to>
                                        <p:strVal val="visible"/>
                                      </p:to>
                                    </p:set>
                                    <p:animEffect filter="wipe(up)" transition="in">
                                      <p:cBhvr additive="repl">
                                        <p:cTn id="896" dur="500"/>
                                        <p:tgtEl>
                                          <p:spTgt spid="882"/>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886"/>
                                        </p:tgtEl>
                                        <p:attrNameLst>
                                          <p:attrName>style.visibility</p:attrName>
                                        </p:attrNameLst>
                                      </p:cBhvr>
                                      <p:to>
                                        <p:strVal val="visible"/>
                                      </p:to>
                                    </p:set>
                                    <p:animEffect filter="dissolve" transition="in">
                                      <p:cBhvr additive="repl">
                                        <p:cTn id="901" dur="500"/>
                                        <p:tgtEl>
                                          <p:spTgt spid="886"/>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887"/>
                                        </p:tgtEl>
                                        <p:attrNameLst>
                                          <p:attrName>style.visibility</p:attrName>
                                        </p:attrNameLst>
                                      </p:cBhvr>
                                      <p:to>
                                        <p:strVal val="visible"/>
                                      </p:to>
                                    </p:set>
                                    <p:animEffect filter="dissolve" transition="in">
                                      <p:cBhvr additive="repl">
                                        <p:cTn id="906"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89" name=""/>
          <p:cNvGrpSpPr/>
          <p:nvPr/>
        </p:nvGrpSpPr>
        <p:grpSpPr>
          <a:xfrm>
            <a:off x="509760" y="1627200"/>
            <a:ext cx="2920680" cy="2161440"/>
            <a:chOff x="509760" y="1627200"/>
            <a:chExt cx="2920680" cy="2161440"/>
          </a:xfrm>
        </p:grpSpPr>
        <p:grpSp>
          <p:nvGrpSpPr>
            <p:cNvPr id="890" name=""/>
            <p:cNvGrpSpPr/>
            <p:nvPr/>
          </p:nvGrpSpPr>
          <p:grpSpPr>
            <a:xfrm>
              <a:off x="687240" y="2033640"/>
              <a:ext cx="2743200" cy="1218960"/>
              <a:chOff x="687240" y="2033640"/>
              <a:chExt cx="2743200" cy="1218960"/>
            </a:xfrm>
          </p:grpSpPr>
          <p:sp>
            <p:nvSpPr>
              <p:cNvPr id="891" name=""/>
              <p:cNvSpPr/>
              <p:nvPr/>
            </p:nvSpPr>
            <p:spPr>
              <a:xfrm>
                <a:off x="1725480" y="2033640"/>
                <a:ext cx="170496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87240" y="2033640"/>
                <a:ext cx="1038240" cy="12189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3" name=""/>
            <p:cNvSpPr/>
            <p:nvPr/>
          </p:nvSpPr>
          <p:spPr>
            <a:xfrm>
              <a:off x="1991520" y="162720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7.8ft</a:t>
              </a:r>
              <a:endParaRPr b="0" lang="en-US" sz="2400" spc="-1" strike="noStrike">
                <a:solidFill>
                  <a:srgbClr val="000000"/>
                </a:solidFill>
                <a:latin typeface="Times New Roman"/>
              </a:endParaRPr>
            </a:p>
          </p:txBody>
        </p:sp>
        <p:sp>
          <p:nvSpPr>
            <p:cNvPr id="894" name=""/>
            <p:cNvSpPr/>
            <p:nvPr/>
          </p:nvSpPr>
          <p:spPr>
            <a:xfrm>
              <a:off x="2199600" y="245088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3.9ft</a:t>
              </a:r>
              <a:endParaRPr b="0" lang="en-US" sz="2400" spc="-1" strike="noStrike">
                <a:solidFill>
                  <a:srgbClr val="000000"/>
                </a:solidFill>
                <a:latin typeface="Times New Roman"/>
              </a:endParaRPr>
            </a:p>
          </p:txBody>
        </p:sp>
        <p:sp>
          <p:nvSpPr>
            <p:cNvPr id="895" name=""/>
            <p:cNvSpPr/>
            <p:nvPr/>
          </p:nvSpPr>
          <p:spPr>
            <a:xfrm>
              <a:off x="1472400" y="332892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1.9ft</a:t>
              </a:r>
              <a:endParaRPr b="0" lang="en-US" sz="2400" spc="-1" strike="noStrike">
                <a:solidFill>
                  <a:srgbClr val="000000"/>
                </a:solidFill>
                <a:latin typeface="Times New Roman"/>
              </a:endParaRPr>
            </a:p>
          </p:txBody>
        </p:sp>
        <p:sp>
          <p:nvSpPr>
            <p:cNvPr id="896" name=""/>
            <p:cNvSpPr/>
            <p:nvPr/>
          </p:nvSpPr>
          <p:spPr>
            <a:xfrm rot="18678600">
              <a:off x="482760" y="2354040"/>
              <a:ext cx="117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1.6ft</a:t>
              </a:r>
              <a:endParaRPr b="0" lang="en-US" sz="2400" spc="-1" strike="noStrike">
                <a:solidFill>
                  <a:srgbClr val="000000"/>
                </a:solidFill>
                <a:latin typeface="Times New Roman"/>
              </a:endParaRPr>
            </a:p>
          </p:txBody>
        </p:sp>
        <p:sp>
          <p:nvSpPr>
            <p:cNvPr id="897" name=""/>
            <p:cNvSpPr/>
            <p:nvPr/>
          </p:nvSpPr>
          <p:spPr>
            <a:xfrm flipH="1">
              <a:off x="686880" y="3481200"/>
              <a:ext cx="77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660760" y="3481200"/>
              <a:ext cx="76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H="1">
              <a:off x="17254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152880" y="1881000"/>
              <a:ext cx="20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3198960" y="203328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198960" y="2835360"/>
              <a:ext cx="0" cy="41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3" name=""/>
          <p:cNvSpPr/>
          <p:nvPr/>
        </p:nvSpPr>
        <p:spPr>
          <a:xfrm>
            <a:off x="4614120" y="1560600"/>
            <a:ext cx="223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ethod 2</a:t>
            </a:r>
            <a:endParaRPr b="0" lang="en-US" sz="3600" spc="-1" strike="noStrike">
              <a:solidFill>
                <a:srgbClr val="000000"/>
              </a:solidFill>
              <a:latin typeface="Times New Roman"/>
            </a:endParaRPr>
          </a:p>
        </p:txBody>
      </p:sp>
      <p:sp>
        <p:nvSpPr>
          <p:cNvPr id="904" name=""/>
          <p:cNvSpPr/>
          <p:nvPr/>
        </p:nvSpPr>
        <p:spPr>
          <a:xfrm>
            <a:off x="3733920" y="2214720"/>
            <a:ext cx="4495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ncing =    change in length + change in width</a:t>
            </a:r>
            <a:endParaRPr b="0" lang="en-US" sz="3200" spc="-1" strike="noStrike">
              <a:solidFill>
                <a:srgbClr val="000000"/>
              </a:solidFill>
              <a:latin typeface="Times New Roman"/>
            </a:endParaRPr>
          </a:p>
        </p:txBody>
      </p:sp>
      <p:sp>
        <p:nvSpPr>
          <p:cNvPr id="905" name=""/>
          <p:cNvSpPr/>
          <p:nvPr/>
        </p:nvSpPr>
        <p:spPr>
          <a:xfrm>
            <a:off x="990720" y="388620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ncing = 154.1ft + 93.7ft</a:t>
            </a:r>
            <a:endParaRPr b="0" lang="en-US" sz="3200" spc="-1" strike="noStrike">
              <a:solidFill>
                <a:srgbClr val="000000"/>
              </a:solidFill>
              <a:latin typeface="Times New Roman"/>
            </a:endParaRPr>
          </a:p>
        </p:txBody>
      </p:sp>
      <p:grpSp>
        <p:nvGrpSpPr>
          <p:cNvPr id="906" name=""/>
          <p:cNvGrpSpPr/>
          <p:nvPr/>
        </p:nvGrpSpPr>
        <p:grpSpPr>
          <a:xfrm>
            <a:off x="2286000" y="4572000"/>
            <a:ext cx="1973160" cy="1220400"/>
            <a:chOff x="2286000" y="4572000"/>
            <a:chExt cx="1973160" cy="1220400"/>
          </a:xfrm>
        </p:grpSpPr>
        <p:sp>
          <p:nvSpPr>
            <p:cNvPr id="907" name=""/>
            <p:cNvSpPr/>
            <p:nvPr/>
          </p:nvSpPr>
          <p:spPr>
            <a:xfrm>
              <a:off x="2563920" y="457200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4.1ft</a:t>
              </a:r>
              <a:endParaRPr b="0" lang="en-US" sz="3600" spc="-1" strike="noStrike">
                <a:solidFill>
                  <a:srgbClr val="000000"/>
                </a:solidFill>
                <a:latin typeface="Times New Roman"/>
              </a:endParaRPr>
            </a:p>
          </p:txBody>
        </p:sp>
        <p:sp>
          <p:nvSpPr>
            <p:cNvPr id="908" name=""/>
            <p:cNvSpPr/>
            <p:nvPr/>
          </p:nvSpPr>
          <p:spPr>
            <a:xfrm>
              <a:off x="2745720" y="5149800"/>
              <a:ext cx="141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97.7ft</a:t>
              </a:r>
              <a:endParaRPr b="0" lang="en-US" sz="3600" spc="-1" strike="noStrike">
                <a:solidFill>
                  <a:srgbClr val="000000"/>
                </a:solidFill>
                <a:latin typeface="Times New Roman"/>
              </a:endParaRPr>
            </a:p>
          </p:txBody>
        </p:sp>
        <p:sp>
          <p:nvSpPr>
            <p:cNvPr id="909" name=""/>
            <p:cNvSpPr/>
            <p:nvPr/>
          </p:nvSpPr>
          <p:spPr>
            <a:xfrm>
              <a:off x="2286000" y="5791320"/>
              <a:ext cx="197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0" name=""/>
          <p:cNvSpPr/>
          <p:nvPr/>
        </p:nvSpPr>
        <p:spPr>
          <a:xfrm>
            <a:off x="2527560" y="5835600"/>
            <a:ext cx="16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251.8ft</a:t>
            </a:r>
            <a:endParaRPr b="0" lang="en-US" sz="3600" spc="-1" strike="noStrike">
              <a:solidFill>
                <a:srgbClr val="000000"/>
              </a:solidFill>
              <a:latin typeface="Times New Roman"/>
            </a:endParaRPr>
          </a:p>
        </p:txBody>
      </p:sp>
      <p:sp>
        <p:nvSpPr>
          <p:cNvPr id="911" name=""/>
          <p:cNvSpPr/>
          <p:nvPr/>
        </p:nvSpPr>
        <p:spPr>
          <a:xfrm>
            <a:off x="5170680" y="5087880"/>
            <a:ext cx="2468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Sans MS"/>
              </a:rPr>
              <a:t>= 251.8ft</a:t>
            </a:r>
            <a:endParaRPr b="0" lang="en-US" sz="4400" spc="-1" strike="noStrike">
              <a:solidFill>
                <a:srgbClr val="000000"/>
              </a:solidFill>
              <a:latin typeface="Times New Roman"/>
            </a:endParaRPr>
          </a:p>
        </p:txBody>
      </p:sp>
      <p:sp>
        <p:nvSpPr>
          <p:cNvPr id="912" name=""/>
          <p:cNvSpPr/>
          <p:nvPr/>
        </p:nvSpPr>
        <p:spPr>
          <a:xfrm>
            <a:off x="2514600" y="7002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metric Word Problems</a:t>
            </a:r>
            <a:endParaRPr b="0" lang="en-US" sz="2800" spc="-1" strike="noStrike">
              <a:solidFill>
                <a:srgbClr val="000000"/>
              </a:solidFill>
              <a:latin typeface="Times New Roman"/>
            </a:endParaRPr>
          </a:p>
        </p:txBody>
      </p:sp>
    </p:spTree>
  </p:cSld>
  <p:transition>
    <p:dissolve/>
  </p:transition>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2" presetSubtype="1">
                                  <p:stCondLst>
                                    <p:cond delay="0"/>
                                  </p:stCondLst>
                                  <p:childTnLst>
                                    <p:set>
                                      <p:cBhvr>
                                        <p:cTn id="912" dur="1" fill="hold">
                                          <p:stCondLst>
                                            <p:cond delay="0"/>
                                          </p:stCondLst>
                                        </p:cTn>
                                        <p:tgtEl>
                                          <p:spTgt spid="906"/>
                                        </p:tgtEl>
                                        <p:attrNameLst>
                                          <p:attrName>style.visibility</p:attrName>
                                        </p:attrNameLst>
                                      </p:cBhvr>
                                      <p:to>
                                        <p:strVal val="visible"/>
                                      </p:to>
                                    </p:set>
                                    <p:animEffect filter="wipe(up)" transition="in">
                                      <p:cBhvr additive="repl">
                                        <p:cTn id="913" dur="500"/>
                                        <p:tgtEl>
                                          <p:spTgt spid="906"/>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1">
                                  <p:stCondLst>
                                    <p:cond delay="0"/>
                                  </p:stCondLst>
                                  <p:childTnLst>
                                    <p:set>
                                      <p:cBhvr>
                                        <p:cTn id="917" dur="1" fill="hold">
                                          <p:stCondLst>
                                            <p:cond delay="0"/>
                                          </p:stCondLst>
                                        </p:cTn>
                                        <p:tgtEl>
                                          <p:spTgt spid="910"/>
                                        </p:tgtEl>
                                        <p:attrNameLst>
                                          <p:attrName>style.visibility</p:attrName>
                                        </p:attrNameLst>
                                      </p:cBhvr>
                                      <p:to>
                                        <p:strVal val="visible"/>
                                      </p:to>
                                    </p:set>
                                    <p:animEffect filter="wipe(up)" transition="in">
                                      <p:cBhvr additive="repl">
                                        <p:cTn id="918" dur="500"/>
                                        <p:tgtEl>
                                          <p:spTgt spid="91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3" presetSubtype="16">
                                  <p:stCondLst>
                                    <p:cond delay="0"/>
                                  </p:stCondLst>
                                  <p:childTnLst>
                                    <p:set>
                                      <p:cBhvr>
                                        <p:cTn id="922" dur="1" fill="hold">
                                          <p:stCondLst>
                                            <p:cond delay="0"/>
                                          </p:stCondLst>
                                        </p:cTn>
                                        <p:tgtEl>
                                          <p:spTgt spid="911"/>
                                        </p:tgtEl>
                                        <p:attrNameLst>
                                          <p:attrName>style.visibility</p:attrName>
                                        </p:attrNameLst>
                                      </p:cBhvr>
                                      <p:to>
                                        <p:strVal val="visible"/>
                                      </p:to>
                                    </p:set>
                                    <p:anim calcmode="lin" valueType="num">
                                      <p:cBhvr additive="repl">
                                        <p:cTn id="923" dur="500" fill="hold"/>
                                        <p:tgtEl>
                                          <p:spTgt spid="911"/>
                                        </p:tgtEl>
                                        <p:attrNameLst>
                                          <p:attrName>ppt_w</p:attrName>
                                        </p:attrNameLst>
                                      </p:cBhvr>
                                      <p:tavLst>
                                        <p:tav tm="0">
                                          <p:val>
                                            <p:fltVal val="0"/>
                                          </p:val>
                                        </p:tav>
                                        <p:tav tm="100000">
                                          <p:val>
                                            <p:strVal val="#ppt_w"/>
                                          </p:val>
                                        </p:tav>
                                      </p:tavLst>
                                    </p:anim>
                                    <p:anim calcmode="lin" valueType="num">
                                      <p:cBhvr additive="repl">
                                        <p:cTn id="924" dur="500" fill="hold"/>
                                        <p:tgtEl>
                                          <p:spTgt spid="9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124080" y="3484440"/>
            <a:ext cx="4695840" cy="2840040"/>
          </a:xfrm>
          <a:prstGeom prst="rect">
            <a:avLst/>
          </a:prstGeom>
          <a:ln w="38160">
            <a:solidFill>
              <a:srgbClr val="000000"/>
            </a:solidFill>
            <a:miter/>
          </a:ln>
          <a:effectLst>
            <a:outerShdw dist="107932" dir="2700000" blurRad="0" rotWithShape="0">
              <a:srgbClr val="808080"/>
            </a:outerShdw>
          </a:effectLst>
        </p:spPr>
      </p:pic>
      <p:grpSp>
        <p:nvGrpSpPr>
          <p:cNvPr id="914" name=""/>
          <p:cNvGrpSpPr/>
          <p:nvPr/>
        </p:nvGrpSpPr>
        <p:grpSpPr>
          <a:xfrm>
            <a:off x="533520" y="2895480"/>
            <a:ext cx="2209680" cy="2971800"/>
            <a:chOff x="533520" y="2895480"/>
            <a:chExt cx="2209680" cy="2971800"/>
          </a:xfrm>
        </p:grpSpPr>
        <p:sp>
          <p:nvSpPr>
            <p:cNvPr id="915"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40"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2"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3"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59"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4"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9"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0"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71"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2" name=""/>
          <p:cNvSpPr/>
          <p:nvPr/>
        </p:nvSpPr>
        <p:spPr>
          <a:xfrm>
            <a:off x="685800" y="1447920"/>
            <a:ext cx="758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e have seen how to:</a:t>
            </a:r>
            <a:endParaRPr b="0" lang="en-US" sz="3200" spc="-1" strike="noStrike">
              <a:solidFill>
                <a:srgbClr val="000000"/>
              </a:solidFill>
              <a:latin typeface="Times New Roman"/>
            </a:endParaRPr>
          </a:p>
        </p:txBody>
      </p:sp>
      <p:sp>
        <p:nvSpPr>
          <p:cNvPr id="973" name=""/>
          <p:cNvSpPr/>
          <p:nvPr/>
        </p:nvSpPr>
        <p:spPr>
          <a:xfrm>
            <a:off x="2743200" y="2057400"/>
            <a:ext cx="5867280" cy="9471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decimal numbers in solving algebra word problems</a:t>
            </a:r>
            <a:endParaRPr b="0" lang="en-US" sz="2800" spc="-1" strike="noStrike">
              <a:solidFill>
                <a:srgbClr val="000000"/>
              </a:solidFill>
              <a:latin typeface="Times New Roman"/>
            </a:endParaRPr>
          </a:p>
        </p:txBody>
      </p:sp>
      <p:sp>
        <p:nvSpPr>
          <p:cNvPr id="974" name=""/>
          <p:cNvSpPr/>
          <p:nvPr/>
        </p:nvSpPr>
        <p:spPr>
          <a:xfrm>
            <a:off x="3809880" y="700200"/>
            <a:ext cx="144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3276720" y="3479760"/>
            <a:ext cx="5105160" cy="2828880"/>
          </a:xfrm>
          <a:prstGeom prst="rect">
            <a:avLst/>
          </a:prstGeom>
          <a:ln w="38160">
            <a:solidFill>
              <a:srgbClr val="000000"/>
            </a:solidFill>
            <a:miter/>
          </a:ln>
          <a:effectLst>
            <a:outerShdw dist="107932" dir="2700000" blurRad="0" rotWithShape="0">
              <a:srgbClr val="808080"/>
            </a:outerShdw>
          </a:effectLst>
        </p:spPr>
      </p:pic>
      <p:sp>
        <p:nvSpPr>
          <p:cNvPr id="976"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977" name=""/>
          <p:cNvGrpSpPr/>
          <p:nvPr/>
        </p:nvGrpSpPr>
        <p:grpSpPr>
          <a:xfrm>
            <a:off x="533520" y="2895480"/>
            <a:ext cx="2209680" cy="2971800"/>
            <a:chOff x="533520" y="2895480"/>
            <a:chExt cx="2209680" cy="2971800"/>
          </a:xfrm>
        </p:grpSpPr>
        <p:sp>
          <p:nvSpPr>
            <p:cNvPr id="978"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03"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5"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06"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2"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27"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2"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3"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34"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
          <p:cNvSpPr/>
          <p:nvPr/>
        </p:nvSpPr>
        <p:spPr>
          <a:xfrm>
            <a:off x="2743200" y="2057400"/>
            <a:ext cx="5867280" cy="13737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 word problems that require finding two related unknowns</a:t>
            </a:r>
            <a:endParaRPr b="0" lang="en-US" sz="2800" spc="-1" strike="noStrike">
              <a:solidFill>
                <a:srgbClr val="000000"/>
              </a:solidFill>
              <a:latin typeface="Times New Roman"/>
            </a:endParaRPr>
          </a:p>
        </p:txBody>
      </p:sp>
      <p:sp>
        <p:nvSpPr>
          <p:cNvPr id="1036" name=""/>
          <p:cNvSpPr/>
          <p:nvPr/>
        </p:nvSpPr>
        <p:spPr>
          <a:xfrm>
            <a:off x="685800" y="14479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e have seen how to:</a:t>
            </a:r>
            <a:endParaRPr b="0" lang="en-US" sz="3200" spc="-1" strike="noStrike">
              <a:solidFill>
                <a:srgbClr val="000000"/>
              </a:solidFill>
              <a:latin typeface="Times New Roman"/>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7" name=""/>
          <p:cNvSpPr/>
          <p:nvPr/>
        </p:nvSpPr>
        <p:spPr>
          <a:xfrm>
            <a:off x="3200400" y="609480"/>
            <a:ext cx="281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view</a:t>
            </a:r>
            <a:endParaRPr b="0" lang="en-US" sz="2800" spc="-1" strike="noStrike">
              <a:solidFill>
                <a:srgbClr val="000000"/>
              </a:solidFill>
              <a:latin typeface="Times New Roman"/>
            </a:endParaRPr>
          </a:p>
        </p:txBody>
      </p:sp>
      <p:grpSp>
        <p:nvGrpSpPr>
          <p:cNvPr id="1038" name=""/>
          <p:cNvGrpSpPr/>
          <p:nvPr/>
        </p:nvGrpSpPr>
        <p:grpSpPr>
          <a:xfrm>
            <a:off x="533520" y="2895480"/>
            <a:ext cx="2209680" cy="2971800"/>
            <a:chOff x="533520" y="2895480"/>
            <a:chExt cx="2209680" cy="2971800"/>
          </a:xfrm>
        </p:grpSpPr>
        <p:sp>
          <p:nvSpPr>
            <p:cNvPr id="1039" name=""/>
            <p:cNvSpPr/>
            <p:nvPr/>
          </p:nvSpPr>
          <p:spPr>
            <a:xfrm>
              <a:off x="533520" y="2895480"/>
              <a:ext cx="2209680" cy="297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41440" y="2907720"/>
              <a:ext cx="2193480" cy="2946960"/>
            </a:xfrm>
            <a:custGeom>
              <a:avLst/>
              <a:gdLst/>
              <a:ahLst/>
              <a:rect l="l" t="t" r="r" b="b"/>
              <a:pathLst>
                <a:path w="61339" h="54893">
                  <a:moveTo>
                    <a:pt x="20369" y="694"/>
                  </a:moveTo>
                  <a:lnTo>
                    <a:pt x="20485" y="579"/>
                  </a:lnTo>
                  <a:lnTo>
                    <a:pt x="20485" y="463"/>
                  </a:lnTo>
                  <a:lnTo>
                    <a:pt x="20601" y="463"/>
                  </a:lnTo>
                  <a:lnTo>
                    <a:pt x="20717" y="347"/>
                  </a:lnTo>
                  <a:lnTo>
                    <a:pt x="20832" y="347"/>
                  </a:lnTo>
                  <a:lnTo>
                    <a:pt x="20948" y="347"/>
                  </a:lnTo>
                  <a:lnTo>
                    <a:pt x="21064" y="231"/>
                  </a:lnTo>
                  <a:lnTo>
                    <a:pt x="21179" y="231"/>
                  </a:lnTo>
                  <a:lnTo>
                    <a:pt x="21179" y="231"/>
                  </a:lnTo>
                  <a:lnTo>
                    <a:pt x="21411" y="231"/>
                  </a:lnTo>
                  <a:lnTo>
                    <a:pt x="21527" y="347"/>
                  </a:lnTo>
                  <a:lnTo>
                    <a:pt x="21758" y="463"/>
                  </a:lnTo>
                  <a:lnTo>
                    <a:pt x="21990" y="579"/>
                  </a:lnTo>
                  <a:lnTo>
                    <a:pt x="22105" y="694"/>
                  </a:lnTo>
                  <a:lnTo>
                    <a:pt x="22221" y="810"/>
                  </a:lnTo>
                  <a:lnTo>
                    <a:pt x="22453" y="1042"/>
                  </a:lnTo>
                  <a:lnTo>
                    <a:pt x="22568" y="1274"/>
                  </a:lnTo>
                  <a:lnTo>
                    <a:pt x="22568" y="1274"/>
                  </a:lnTo>
                  <a:lnTo>
                    <a:pt x="22684" y="1158"/>
                  </a:lnTo>
                  <a:lnTo>
                    <a:pt x="22915" y="1042"/>
                  </a:lnTo>
                  <a:lnTo>
                    <a:pt x="23031" y="1042"/>
                  </a:lnTo>
                  <a:lnTo>
                    <a:pt x="23147" y="1042"/>
                  </a:lnTo>
                  <a:lnTo>
                    <a:pt x="23378" y="1042"/>
                  </a:lnTo>
                  <a:lnTo>
                    <a:pt x="23494" y="1042"/>
                  </a:lnTo>
                  <a:lnTo>
                    <a:pt x="23726" y="1042"/>
                  </a:lnTo>
                  <a:lnTo>
                    <a:pt x="23841" y="1158"/>
                  </a:lnTo>
                  <a:lnTo>
                    <a:pt x="23841" y="1158"/>
                  </a:lnTo>
                  <a:lnTo>
                    <a:pt x="23957" y="1158"/>
                  </a:lnTo>
                  <a:lnTo>
                    <a:pt x="24188" y="1274"/>
                  </a:lnTo>
                  <a:lnTo>
                    <a:pt x="24304" y="1389"/>
                  </a:lnTo>
                  <a:lnTo>
                    <a:pt x="24420" y="1505"/>
                  </a:lnTo>
                  <a:lnTo>
                    <a:pt x="24536" y="1621"/>
                  </a:lnTo>
                  <a:lnTo>
                    <a:pt x="24651" y="1621"/>
                  </a:lnTo>
                  <a:lnTo>
                    <a:pt x="24767" y="1621"/>
                  </a:lnTo>
                  <a:lnTo>
                    <a:pt x="24999" y="1389"/>
                  </a:lnTo>
                  <a:lnTo>
                    <a:pt x="24999" y="1389"/>
                  </a:lnTo>
                  <a:lnTo>
                    <a:pt x="25114" y="1389"/>
                  </a:lnTo>
                  <a:lnTo>
                    <a:pt x="25346" y="1505"/>
                  </a:lnTo>
                  <a:lnTo>
                    <a:pt x="25462" y="1505"/>
                  </a:lnTo>
                  <a:lnTo>
                    <a:pt x="25577" y="1621"/>
                  </a:lnTo>
                  <a:lnTo>
                    <a:pt x="25693" y="1737"/>
                  </a:lnTo>
                  <a:lnTo>
                    <a:pt x="25809" y="1853"/>
                  </a:lnTo>
                  <a:lnTo>
                    <a:pt x="25924" y="1968"/>
                  </a:lnTo>
                  <a:lnTo>
                    <a:pt x="26040" y="1968"/>
                  </a:lnTo>
                  <a:lnTo>
                    <a:pt x="26040" y="1968"/>
                  </a:lnTo>
                  <a:lnTo>
                    <a:pt x="26272" y="1968"/>
                  </a:lnTo>
                  <a:lnTo>
                    <a:pt x="26503" y="1853"/>
                  </a:lnTo>
                  <a:lnTo>
                    <a:pt x="26735" y="1853"/>
                  </a:lnTo>
                  <a:lnTo>
                    <a:pt x="26966" y="1737"/>
                  </a:lnTo>
                  <a:lnTo>
                    <a:pt x="27082" y="1737"/>
                  </a:lnTo>
                  <a:lnTo>
                    <a:pt x="27313" y="1737"/>
                  </a:lnTo>
                  <a:lnTo>
                    <a:pt x="27545" y="1853"/>
                  </a:lnTo>
                  <a:lnTo>
                    <a:pt x="27660" y="1968"/>
                  </a:lnTo>
                  <a:lnTo>
                    <a:pt x="27660" y="1968"/>
                  </a:lnTo>
                  <a:lnTo>
                    <a:pt x="28123" y="2316"/>
                  </a:lnTo>
                  <a:lnTo>
                    <a:pt x="28123" y="2316"/>
                  </a:lnTo>
                  <a:lnTo>
                    <a:pt x="28239" y="2084"/>
                  </a:lnTo>
                  <a:lnTo>
                    <a:pt x="28471" y="1968"/>
                  </a:lnTo>
                  <a:lnTo>
                    <a:pt x="28586" y="1968"/>
                  </a:lnTo>
                  <a:lnTo>
                    <a:pt x="28818" y="1968"/>
                  </a:lnTo>
                  <a:lnTo>
                    <a:pt x="29049" y="1968"/>
                  </a:lnTo>
                  <a:lnTo>
                    <a:pt x="29281" y="1968"/>
                  </a:lnTo>
                  <a:lnTo>
                    <a:pt x="29512" y="1968"/>
                  </a:lnTo>
                  <a:lnTo>
                    <a:pt x="29744" y="1968"/>
                  </a:lnTo>
                  <a:lnTo>
                    <a:pt x="29744" y="1968"/>
                  </a:lnTo>
                  <a:lnTo>
                    <a:pt x="29859" y="2084"/>
                  </a:lnTo>
                  <a:lnTo>
                    <a:pt x="29975" y="2200"/>
                  </a:lnTo>
                  <a:lnTo>
                    <a:pt x="29975" y="2316"/>
                  </a:lnTo>
                  <a:lnTo>
                    <a:pt x="30091" y="2432"/>
                  </a:lnTo>
                  <a:lnTo>
                    <a:pt x="30207" y="2547"/>
                  </a:lnTo>
                  <a:lnTo>
                    <a:pt x="30322" y="2663"/>
                  </a:lnTo>
                  <a:lnTo>
                    <a:pt x="30438" y="2779"/>
                  </a:lnTo>
                  <a:lnTo>
                    <a:pt x="30554" y="2779"/>
                  </a:lnTo>
                  <a:lnTo>
                    <a:pt x="30554" y="2779"/>
                  </a:lnTo>
                  <a:lnTo>
                    <a:pt x="30670" y="2779"/>
                  </a:lnTo>
                  <a:lnTo>
                    <a:pt x="30785" y="2663"/>
                  </a:lnTo>
                  <a:lnTo>
                    <a:pt x="30901" y="2663"/>
                  </a:lnTo>
                  <a:lnTo>
                    <a:pt x="31132" y="2663"/>
                  </a:lnTo>
                  <a:lnTo>
                    <a:pt x="31248" y="2663"/>
                  </a:lnTo>
                  <a:lnTo>
                    <a:pt x="31364" y="2663"/>
                  </a:lnTo>
                  <a:lnTo>
                    <a:pt x="31595" y="2663"/>
                  </a:lnTo>
                  <a:lnTo>
                    <a:pt x="31711" y="2663"/>
                  </a:lnTo>
                  <a:lnTo>
                    <a:pt x="31711" y="2663"/>
                  </a:lnTo>
                  <a:lnTo>
                    <a:pt x="31943" y="2895"/>
                  </a:lnTo>
                  <a:lnTo>
                    <a:pt x="32058" y="3011"/>
                  </a:lnTo>
                  <a:lnTo>
                    <a:pt x="32174" y="3126"/>
                  </a:lnTo>
                  <a:lnTo>
                    <a:pt x="32290" y="3358"/>
                  </a:lnTo>
                  <a:lnTo>
                    <a:pt x="32521" y="3474"/>
                  </a:lnTo>
                  <a:lnTo>
                    <a:pt x="32637" y="3474"/>
                  </a:lnTo>
                  <a:lnTo>
                    <a:pt x="-32668" y="3474"/>
                  </a:lnTo>
                  <a:lnTo>
                    <a:pt x="-32436" y="3242"/>
                  </a:lnTo>
                  <a:lnTo>
                    <a:pt x="-32436" y="3242"/>
                  </a:lnTo>
                  <a:lnTo>
                    <a:pt x="-32205" y="3242"/>
                  </a:lnTo>
                  <a:lnTo>
                    <a:pt x="-31973" y="3242"/>
                  </a:lnTo>
                  <a:lnTo>
                    <a:pt x="-31626" y="3358"/>
                  </a:lnTo>
                  <a:lnTo>
                    <a:pt x="-31395" y="3474"/>
                  </a:lnTo>
                  <a:lnTo>
                    <a:pt x="-31163" y="3706"/>
                  </a:lnTo>
                  <a:lnTo>
                    <a:pt x="-30932" y="3706"/>
                  </a:lnTo>
                  <a:lnTo>
                    <a:pt x="-30584" y="3821"/>
                  </a:lnTo>
                  <a:lnTo>
                    <a:pt x="-30237" y="3706"/>
                  </a:lnTo>
                  <a:lnTo>
                    <a:pt x="-30237" y="3706"/>
                  </a:lnTo>
                  <a:lnTo>
                    <a:pt x="-30006" y="3821"/>
                  </a:lnTo>
                  <a:lnTo>
                    <a:pt x="-29774" y="3937"/>
                  </a:lnTo>
                  <a:lnTo>
                    <a:pt x="-29543" y="3937"/>
                  </a:lnTo>
                  <a:lnTo>
                    <a:pt x="-29311" y="3937"/>
                  </a:lnTo>
                  <a:lnTo>
                    <a:pt x="-29080" y="3821"/>
                  </a:lnTo>
                  <a:lnTo>
                    <a:pt x="-28733" y="3937"/>
                  </a:lnTo>
                  <a:lnTo>
                    <a:pt x="-28501" y="4053"/>
                  </a:lnTo>
                  <a:lnTo>
                    <a:pt x="-28385" y="4169"/>
                  </a:lnTo>
                  <a:lnTo>
                    <a:pt x="-28385" y="4169"/>
                  </a:lnTo>
                  <a:lnTo>
                    <a:pt x="-28038" y="4169"/>
                  </a:lnTo>
                  <a:lnTo>
                    <a:pt x="-27807" y="4169"/>
                  </a:lnTo>
                  <a:lnTo>
                    <a:pt x="-27575" y="4169"/>
                  </a:lnTo>
                  <a:lnTo>
                    <a:pt x="-27344" y="4285"/>
                  </a:lnTo>
                  <a:lnTo>
                    <a:pt x="-27112" y="4400"/>
                  </a:lnTo>
                  <a:lnTo>
                    <a:pt x="-26881" y="4516"/>
                  </a:lnTo>
                  <a:lnTo>
                    <a:pt x="-26650" y="4516"/>
                  </a:lnTo>
                  <a:lnTo>
                    <a:pt x="-26418" y="4285"/>
                  </a:lnTo>
                  <a:lnTo>
                    <a:pt x="-26418" y="4285"/>
                  </a:lnTo>
                  <a:lnTo>
                    <a:pt x="-26187" y="4400"/>
                  </a:lnTo>
                  <a:lnTo>
                    <a:pt x="-25955" y="4516"/>
                  </a:lnTo>
                  <a:lnTo>
                    <a:pt x="-25724" y="4632"/>
                  </a:lnTo>
                  <a:lnTo>
                    <a:pt x="-25608" y="4748"/>
                  </a:lnTo>
                  <a:lnTo>
                    <a:pt x="-25492" y="4979"/>
                  </a:lnTo>
                  <a:lnTo>
                    <a:pt x="-25376" y="5095"/>
                  </a:lnTo>
                  <a:lnTo>
                    <a:pt x="-25261" y="5327"/>
                  </a:lnTo>
                  <a:lnTo>
                    <a:pt x="-25145" y="5558"/>
                  </a:lnTo>
                  <a:lnTo>
                    <a:pt x="-25145" y="5558"/>
                  </a:lnTo>
                  <a:lnTo>
                    <a:pt x="-25145" y="6022"/>
                  </a:lnTo>
                  <a:lnTo>
                    <a:pt x="-25145" y="6369"/>
                  </a:lnTo>
                  <a:lnTo>
                    <a:pt x="-25376" y="6717"/>
                  </a:lnTo>
                  <a:lnTo>
                    <a:pt x="-25492" y="7064"/>
                  </a:lnTo>
                  <a:lnTo>
                    <a:pt x="-25724" y="7296"/>
                  </a:lnTo>
                  <a:lnTo>
                    <a:pt x="-25839" y="7643"/>
                  </a:lnTo>
                  <a:lnTo>
                    <a:pt x="-25955" y="7990"/>
                  </a:lnTo>
                  <a:lnTo>
                    <a:pt x="-26071" y="8454"/>
                  </a:lnTo>
                  <a:lnTo>
                    <a:pt x="-26071" y="8454"/>
                  </a:lnTo>
                  <a:lnTo>
                    <a:pt x="-26534" y="9959"/>
                  </a:lnTo>
                  <a:lnTo>
                    <a:pt x="-26997" y="11465"/>
                  </a:lnTo>
                  <a:lnTo>
                    <a:pt x="-27344" y="13086"/>
                  </a:lnTo>
                  <a:lnTo>
                    <a:pt x="-27691" y="14707"/>
                  </a:lnTo>
                  <a:lnTo>
                    <a:pt x="-28038" y="16329"/>
                  </a:lnTo>
                  <a:lnTo>
                    <a:pt x="-28270" y="17950"/>
                  </a:lnTo>
                  <a:lnTo>
                    <a:pt x="-28501" y="19571"/>
                  </a:lnTo>
                  <a:lnTo>
                    <a:pt x="-28617" y="21193"/>
                  </a:lnTo>
                  <a:lnTo>
                    <a:pt x="-28617" y="21193"/>
                  </a:lnTo>
                  <a:lnTo>
                    <a:pt x="-28501" y="21309"/>
                  </a:lnTo>
                  <a:lnTo>
                    <a:pt x="-28501" y="21309"/>
                  </a:lnTo>
                  <a:lnTo>
                    <a:pt x="-26650" y="20845"/>
                  </a:lnTo>
                  <a:lnTo>
                    <a:pt x="-24914" y="20498"/>
                  </a:lnTo>
                  <a:lnTo>
                    <a:pt x="-23178" y="20150"/>
                  </a:lnTo>
                  <a:lnTo>
                    <a:pt x="-21326" y="19919"/>
                  </a:lnTo>
                  <a:lnTo>
                    <a:pt x="-19590" y="19571"/>
                  </a:lnTo>
                  <a:lnTo>
                    <a:pt x="-17738" y="19224"/>
                  </a:lnTo>
                  <a:lnTo>
                    <a:pt x="-16002" y="18992"/>
                  </a:lnTo>
                  <a:lnTo>
                    <a:pt x="-14266" y="18645"/>
                  </a:lnTo>
                  <a:lnTo>
                    <a:pt x="-14266" y="18645"/>
                  </a:lnTo>
                  <a:lnTo>
                    <a:pt x="-12993" y="18761"/>
                  </a:lnTo>
                  <a:lnTo>
                    <a:pt x="-11720" y="18877"/>
                  </a:lnTo>
                  <a:lnTo>
                    <a:pt x="-10563" y="18992"/>
                  </a:lnTo>
                  <a:lnTo>
                    <a:pt x="-9290" y="18992"/>
                  </a:lnTo>
                  <a:lnTo>
                    <a:pt x="-8017" y="19108"/>
                  </a:lnTo>
                  <a:lnTo>
                    <a:pt x="-6859" y="19224"/>
                  </a:lnTo>
                  <a:lnTo>
                    <a:pt x="-5586" y="19340"/>
                  </a:lnTo>
                  <a:lnTo>
                    <a:pt x="-4313" y="19571"/>
                  </a:lnTo>
                  <a:lnTo>
                    <a:pt x="-4313" y="19571"/>
                  </a:lnTo>
                  <a:lnTo>
                    <a:pt x="-4313" y="19571"/>
                  </a:lnTo>
                  <a:lnTo>
                    <a:pt x="-4313" y="19571"/>
                  </a:lnTo>
                  <a:lnTo>
                    <a:pt x="-4197" y="19687"/>
                  </a:lnTo>
                  <a:lnTo>
                    <a:pt x="-4197" y="19687"/>
                  </a:lnTo>
                  <a:lnTo>
                    <a:pt x="-4197" y="19687"/>
                  </a:lnTo>
                  <a:lnTo>
                    <a:pt x="-4197" y="19803"/>
                  </a:lnTo>
                  <a:lnTo>
                    <a:pt x="-4197" y="19803"/>
                  </a:lnTo>
                  <a:lnTo>
                    <a:pt x="-4313" y="19803"/>
                  </a:lnTo>
                  <a:lnTo>
                    <a:pt x="-4313" y="19803"/>
                  </a:lnTo>
                  <a:lnTo>
                    <a:pt x="-17044" y="25246"/>
                  </a:lnTo>
                  <a:lnTo>
                    <a:pt x="-17044" y="25246"/>
                  </a:lnTo>
                  <a:lnTo>
                    <a:pt x="-17159" y="25246"/>
                  </a:lnTo>
                  <a:lnTo>
                    <a:pt x="-17391" y="25246"/>
                  </a:lnTo>
                  <a:lnTo>
                    <a:pt x="-17622" y="25362"/>
                  </a:lnTo>
                  <a:lnTo>
                    <a:pt x="-17854" y="25362"/>
                  </a:lnTo>
                  <a:lnTo>
                    <a:pt x="-17970" y="25478"/>
                  </a:lnTo>
                  <a:lnTo>
                    <a:pt x="-18201" y="25478"/>
                  </a:lnTo>
                  <a:lnTo>
                    <a:pt x="-18317" y="25478"/>
                  </a:lnTo>
                  <a:lnTo>
                    <a:pt x="-18548" y="25594"/>
                  </a:lnTo>
                  <a:lnTo>
                    <a:pt x="-18548" y="25594"/>
                  </a:lnTo>
                  <a:lnTo>
                    <a:pt x="-18548" y="25941"/>
                  </a:lnTo>
                  <a:lnTo>
                    <a:pt x="-18664" y="26288"/>
                  </a:lnTo>
                  <a:lnTo>
                    <a:pt x="-18895" y="26636"/>
                  </a:lnTo>
                  <a:lnTo>
                    <a:pt x="-19127" y="26983"/>
                  </a:lnTo>
                  <a:lnTo>
                    <a:pt x="-19358" y="27215"/>
                  </a:lnTo>
                  <a:lnTo>
                    <a:pt x="-19706" y="27562"/>
                  </a:lnTo>
                  <a:lnTo>
                    <a:pt x="-19937" y="27794"/>
                  </a:lnTo>
                  <a:lnTo>
                    <a:pt x="-20284" y="28026"/>
                  </a:lnTo>
                  <a:lnTo>
                    <a:pt x="-20284" y="28026"/>
                  </a:lnTo>
                  <a:lnTo>
                    <a:pt x="-20631" y="28141"/>
                  </a:lnTo>
                  <a:lnTo>
                    <a:pt x="-20863" y="28257"/>
                  </a:lnTo>
                  <a:lnTo>
                    <a:pt x="-21094" y="28373"/>
                  </a:lnTo>
                  <a:lnTo>
                    <a:pt x="-21442" y="28373"/>
                  </a:lnTo>
                  <a:lnTo>
                    <a:pt x="-21673" y="28489"/>
                  </a:lnTo>
                  <a:lnTo>
                    <a:pt x="-22020" y="28489"/>
                  </a:lnTo>
                  <a:lnTo>
                    <a:pt x="-22252" y="28373"/>
                  </a:lnTo>
                  <a:lnTo>
                    <a:pt x="-22483" y="28141"/>
                  </a:lnTo>
                  <a:lnTo>
                    <a:pt x="-22483" y="28141"/>
                  </a:lnTo>
                  <a:lnTo>
                    <a:pt x="-22715" y="28257"/>
                  </a:lnTo>
                  <a:lnTo>
                    <a:pt x="-22830" y="28373"/>
                  </a:lnTo>
                  <a:lnTo>
                    <a:pt x="-23062" y="28489"/>
                  </a:lnTo>
                  <a:lnTo>
                    <a:pt x="-23293" y="28605"/>
                  </a:lnTo>
                  <a:lnTo>
                    <a:pt x="-23409" y="28605"/>
                  </a:lnTo>
                  <a:lnTo>
                    <a:pt x="-23640" y="28720"/>
                  </a:lnTo>
                  <a:lnTo>
                    <a:pt x="-23872" y="28720"/>
                  </a:lnTo>
                  <a:lnTo>
                    <a:pt x="-24103" y="28605"/>
                  </a:lnTo>
                  <a:lnTo>
                    <a:pt x="-24103" y="28605"/>
                  </a:lnTo>
                  <a:lnTo>
                    <a:pt x="-24335" y="28952"/>
                  </a:lnTo>
                  <a:lnTo>
                    <a:pt x="-24566" y="29184"/>
                  </a:lnTo>
                  <a:lnTo>
                    <a:pt x="-24798" y="29299"/>
                  </a:lnTo>
                  <a:lnTo>
                    <a:pt x="-25145" y="29415"/>
                  </a:lnTo>
                  <a:lnTo>
                    <a:pt x="-25376" y="29531"/>
                  </a:lnTo>
                  <a:lnTo>
                    <a:pt x="-25724" y="29531"/>
                  </a:lnTo>
                  <a:lnTo>
                    <a:pt x="-26071" y="29647"/>
                  </a:lnTo>
                  <a:lnTo>
                    <a:pt x="-26418" y="29531"/>
                  </a:lnTo>
                  <a:lnTo>
                    <a:pt x="-26418" y="29531"/>
                  </a:lnTo>
                  <a:lnTo>
                    <a:pt x="-26534" y="29531"/>
                  </a:lnTo>
                  <a:lnTo>
                    <a:pt x="-26650" y="29415"/>
                  </a:lnTo>
                  <a:lnTo>
                    <a:pt x="-26765" y="29299"/>
                  </a:lnTo>
                  <a:lnTo>
                    <a:pt x="-26881" y="29184"/>
                  </a:lnTo>
                  <a:lnTo>
                    <a:pt x="-26997" y="29068"/>
                  </a:lnTo>
                  <a:lnTo>
                    <a:pt x="-27112" y="28952"/>
                  </a:lnTo>
                  <a:lnTo>
                    <a:pt x="-27228" y="28952"/>
                  </a:lnTo>
                  <a:lnTo>
                    <a:pt x="-27460" y="29068"/>
                  </a:lnTo>
                  <a:lnTo>
                    <a:pt x="-27460" y="29068"/>
                  </a:lnTo>
                  <a:lnTo>
                    <a:pt x="-27575" y="29184"/>
                  </a:lnTo>
                  <a:lnTo>
                    <a:pt x="-27691" y="29299"/>
                  </a:lnTo>
                  <a:lnTo>
                    <a:pt x="-27923" y="29415"/>
                  </a:lnTo>
                  <a:lnTo>
                    <a:pt x="-28038" y="29531"/>
                  </a:lnTo>
                  <a:lnTo>
                    <a:pt x="-28270" y="29647"/>
                  </a:lnTo>
                  <a:lnTo>
                    <a:pt x="-28385" y="29763"/>
                  </a:lnTo>
                  <a:lnTo>
                    <a:pt x="-28617" y="29879"/>
                  </a:lnTo>
                  <a:lnTo>
                    <a:pt x="-28733" y="29994"/>
                  </a:lnTo>
                  <a:lnTo>
                    <a:pt x="-28733" y="29994"/>
                  </a:lnTo>
                  <a:lnTo>
                    <a:pt x="-28733" y="30689"/>
                  </a:lnTo>
                  <a:lnTo>
                    <a:pt x="-28733" y="31268"/>
                  </a:lnTo>
                  <a:lnTo>
                    <a:pt x="-28617" y="31963"/>
                  </a:lnTo>
                  <a:lnTo>
                    <a:pt x="-28501" y="32542"/>
                  </a:lnTo>
                  <a:lnTo>
                    <a:pt x="-28385" y="-32299"/>
                  </a:lnTo>
                  <a:lnTo>
                    <a:pt x="-28385" y="-31720"/>
                  </a:lnTo>
                  <a:lnTo>
                    <a:pt x="-28270" y="-31025"/>
                  </a:lnTo>
                  <a:lnTo>
                    <a:pt x="-28154" y="-30446"/>
                  </a:lnTo>
                  <a:lnTo>
                    <a:pt x="-28154" y="-30446"/>
                  </a:lnTo>
                  <a:lnTo>
                    <a:pt x="-28501" y="-30214"/>
                  </a:lnTo>
                  <a:lnTo>
                    <a:pt x="-28733" y="-29983"/>
                  </a:lnTo>
                  <a:lnTo>
                    <a:pt x="-29196" y="-29867"/>
                  </a:lnTo>
                  <a:lnTo>
                    <a:pt x="-29543" y="-29867"/>
                  </a:lnTo>
                  <a:lnTo>
                    <a:pt x="-29890" y="-29751"/>
                  </a:lnTo>
                  <a:lnTo>
                    <a:pt x="-30237" y="-29751"/>
                  </a:lnTo>
                  <a:lnTo>
                    <a:pt x="-30700" y="-29635"/>
                  </a:lnTo>
                  <a:lnTo>
                    <a:pt x="-31047" y="-29635"/>
                  </a:lnTo>
                  <a:lnTo>
                    <a:pt x="-31047" y="-29635"/>
                  </a:lnTo>
                  <a:lnTo>
                    <a:pt x="-31047" y="-29288"/>
                  </a:lnTo>
                  <a:lnTo>
                    <a:pt x="-31047" y="-29288"/>
                  </a:lnTo>
                  <a:lnTo>
                    <a:pt x="-30700" y="-28825"/>
                  </a:lnTo>
                  <a:lnTo>
                    <a:pt x="-30353" y="-28246"/>
                  </a:lnTo>
                  <a:lnTo>
                    <a:pt x="-30006" y="-27782"/>
                  </a:lnTo>
                  <a:lnTo>
                    <a:pt x="-29774" y="-27319"/>
                  </a:lnTo>
                  <a:lnTo>
                    <a:pt x="-29427" y="-26856"/>
                  </a:lnTo>
                  <a:lnTo>
                    <a:pt x="-29080" y="-26277"/>
                  </a:lnTo>
                  <a:lnTo>
                    <a:pt x="-28848" y="-25814"/>
                  </a:lnTo>
                  <a:lnTo>
                    <a:pt x="-28617" y="-25235"/>
                  </a:lnTo>
                  <a:lnTo>
                    <a:pt x="-28617" y="-25235"/>
                  </a:lnTo>
                  <a:lnTo>
                    <a:pt x="-28733" y="-24540"/>
                  </a:lnTo>
                  <a:lnTo>
                    <a:pt x="-28848" y="-23729"/>
                  </a:lnTo>
                  <a:lnTo>
                    <a:pt x="-28964" y="-23034"/>
                  </a:lnTo>
                  <a:lnTo>
                    <a:pt x="-29196" y="-22224"/>
                  </a:lnTo>
                  <a:lnTo>
                    <a:pt x="-29311" y="-21529"/>
                  </a:lnTo>
                  <a:lnTo>
                    <a:pt x="-29543" y="-20718"/>
                  </a:lnTo>
                  <a:lnTo>
                    <a:pt x="-29659" y="-20023"/>
                  </a:lnTo>
                  <a:lnTo>
                    <a:pt x="-29890" y="-19213"/>
                  </a:lnTo>
                  <a:lnTo>
                    <a:pt x="-29890" y="-19213"/>
                  </a:lnTo>
                  <a:lnTo>
                    <a:pt x="-29774" y="-18865"/>
                  </a:lnTo>
                  <a:lnTo>
                    <a:pt x="-29543" y="-18518"/>
                  </a:lnTo>
                  <a:lnTo>
                    <a:pt x="-29427" y="-18286"/>
                  </a:lnTo>
                  <a:lnTo>
                    <a:pt x="-29196" y="-18054"/>
                  </a:lnTo>
                  <a:lnTo>
                    <a:pt x="-28964" y="-17707"/>
                  </a:lnTo>
                  <a:lnTo>
                    <a:pt x="-28733" y="-17475"/>
                  </a:lnTo>
                  <a:lnTo>
                    <a:pt x="-28501" y="-17244"/>
                  </a:lnTo>
                  <a:lnTo>
                    <a:pt x="-28501" y="-16896"/>
                  </a:lnTo>
                  <a:lnTo>
                    <a:pt x="-28501" y="-16896"/>
                  </a:lnTo>
                  <a:lnTo>
                    <a:pt x="-28385" y="-16665"/>
                  </a:lnTo>
                  <a:lnTo>
                    <a:pt x="-28154" y="-16317"/>
                  </a:lnTo>
                  <a:lnTo>
                    <a:pt x="-28038" y="-16086"/>
                  </a:lnTo>
                  <a:lnTo>
                    <a:pt x="-27807" y="-15854"/>
                  </a:lnTo>
                  <a:lnTo>
                    <a:pt x="-27691" y="-15622"/>
                  </a:lnTo>
                  <a:lnTo>
                    <a:pt x="-27575" y="-15391"/>
                  </a:lnTo>
                  <a:lnTo>
                    <a:pt x="-27344" y="-15159"/>
                  </a:lnTo>
                  <a:lnTo>
                    <a:pt x="-27344" y="-14928"/>
                  </a:lnTo>
                  <a:lnTo>
                    <a:pt x="-27344" y="-14928"/>
                  </a:lnTo>
                  <a:lnTo>
                    <a:pt x="-27228" y="-14464"/>
                  </a:lnTo>
                  <a:lnTo>
                    <a:pt x="-26997" y="-14117"/>
                  </a:lnTo>
                  <a:lnTo>
                    <a:pt x="-26881" y="-13654"/>
                  </a:lnTo>
                  <a:lnTo>
                    <a:pt x="-26881" y="-13190"/>
                  </a:lnTo>
                  <a:lnTo>
                    <a:pt x="-26765" y="-12727"/>
                  </a:lnTo>
                  <a:lnTo>
                    <a:pt x="-26765" y="-12380"/>
                  </a:lnTo>
                  <a:lnTo>
                    <a:pt x="-26881" y="-11917"/>
                  </a:lnTo>
                  <a:lnTo>
                    <a:pt x="-27228" y="-11569"/>
                  </a:lnTo>
                  <a:lnTo>
                    <a:pt x="-27228" y="-11569"/>
                  </a:lnTo>
                  <a:lnTo>
                    <a:pt x="-27228" y="-11453"/>
                  </a:lnTo>
                  <a:lnTo>
                    <a:pt x="-27344" y="-11453"/>
                  </a:lnTo>
                  <a:lnTo>
                    <a:pt x="-27344" y="-11453"/>
                  </a:lnTo>
                  <a:lnTo>
                    <a:pt x="-27460" y="-11453"/>
                  </a:lnTo>
                  <a:lnTo>
                    <a:pt x="-27460" y="-11453"/>
                  </a:lnTo>
                  <a:lnTo>
                    <a:pt x="-27575" y="-11453"/>
                  </a:lnTo>
                  <a:lnTo>
                    <a:pt x="-27691" y="-11453"/>
                  </a:lnTo>
                  <a:lnTo>
                    <a:pt x="-27691" y="-11453"/>
                  </a:lnTo>
                  <a:lnTo>
                    <a:pt x="-27691" y="-11453"/>
                  </a:lnTo>
                  <a:lnTo>
                    <a:pt x="-28154" y="-11222"/>
                  </a:lnTo>
                  <a:lnTo>
                    <a:pt x="-28733" y="-11106"/>
                  </a:lnTo>
                  <a:lnTo>
                    <a:pt x="-29311" y="-11106"/>
                  </a:lnTo>
                  <a:lnTo>
                    <a:pt x="-29890" y="-11222"/>
                  </a:lnTo>
                  <a:lnTo>
                    <a:pt x="-30353" y="-11337"/>
                  </a:lnTo>
                  <a:lnTo>
                    <a:pt x="-30932" y="-11453"/>
                  </a:lnTo>
                  <a:lnTo>
                    <a:pt x="-31395" y="-11685"/>
                  </a:lnTo>
                  <a:lnTo>
                    <a:pt x="-31857" y="-12032"/>
                  </a:lnTo>
                  <a:lnTo>
                    <a:pt x="-31857" y="-12032"/>
                  </a:lnTo>
                  <a:lnTo>
                    <a:pt x="-32320" y="-12496"/>
                  </a:lnTo>
                  <a:lnTo>
                    <a:pt x="-32552" y="-13075"/>
                  </a:lnTo>
                  <a:lnTo>
                    <a:pt x="32753" y="-13769"/>
                  </a:lnTo>
                  <a:lnTo>
                    <a:pt x="32637" y="-14464"/>
                  </a:lnTo>
                  <a:lnTo>
                    <a:pt x="32405" y="-15159"/>
                  </a:lnTo>
                  <a:lnTo>
                    <a:pt x="32058" y="-15622"/>
                  </a:lnTo>
                  <a:lnTo>
                    <a:pt x="31595" y="-16086"/>
                  </a:lnTo>
                  <a:lnTo>
                    <a:pt x="30785" y="-16201"/>
                  </a:lnTo>
                  <a:lnTo>
                    <a:pt x="30785" y="-16201"/>
                  </a:lnTo>
                  <a:lnTo>
                    <a:pt x="30670" y="-16317"/>
                  </a:lnTo>
                  <a:lnTo>
                    <a:pt x="30554" y="-16549"/>
                  </a:lnTo>
                  <a:lnTo>
                    <a:pt x="30438" y="-16781"/>
                  </a:lnTo>
                  <a:lnTo>
                    <a:pt x="30322" y="-16896"/>
                  </a:lnTo>
                  <a:lnTo>
                    <a:pt x="30322" y="-17128"/>
                  </a:lnTo>
                  <a:lnTo>
                    <a:pt x="30322" y="-17360"/>
                  </a:lnTo>
                  <a:lnTo>
                    <a:pt x="30322" y="-17591"/>
                  </a:lnTo>
                  <a:lnTo>
                    <a:pt x="30322" y="-17823"/>
                  </a:lnTo>
                  <a:lnTo>
                    <a:pt x="30322" y="-17823"/>
                  </a:lnTo>
                  <a:lnTo>
                    <a:pt x="30554" y="-18170"/>
                  </a:lnTo>
                  <a:lnTo>
                    <a:pt x="30785" y="-18518"/>
                  </a:lnTo>
                  <a:lnTo>
                    <a:pt x="31132" y="-18749"/>
                  </a:lnTo>
                  <a:lnTo>
                    <a:pt x="31480" y="-18981"/>
                  </a:lnTo>
                  <a:lnTo>
                    <a:pt x="31827" y="-19213"/>
                  </a:lnTo>
                  <a:lnTo>
                    <a:pt x="32174" y="-19444"/>
                  </a:lnTo>
                  <a:lnTo>
                    <a:pt x="32405" y="-19676"/>
                  </a:lnTo>
                  <a:lnTo>
                    <a:pt x="32637" y="-20139"/>
                  </a:lnTo>
                  <a:lnTo>
                    <a:pt x="32637" y="-20139"/>
                  </a:lnTo>
                  <a:lnTo>
                    <a:pt x="-32668" y="-20950"/>
                  </a:lnTo>
                  <a:lnTo>
                    <a:pt x="-32436" y="-21876"/>
                  </a:lnTo>
                  <a:lnTo>
                    <a:pt x="-32205" y="-22803"/>
                  </a:lnTo>
                  <a:lnTo>
                    <a:pt x="-32089" y="-23729"/>
                  </a:lnTo>
                  <a:lnTo>
                    <a:pt x="-32089" y="-24656"/>
                  </a:lnTo>
                  <a:lnTo>
                    <a:pt x="-32205" y="-25466"/>
                  </a:lnTo>
                  <a:lnTo>
                    <a:pt x="-32552" y="-26277"/>
                  </a:lnTo>
                  <a:lnTo>
                    <a:pt x="32290" y="-27088"/>
                  </a:lnTo>
                  <a:lnTo>
                    <a:pt x="32290" y="-27088"/>
                  </a:lnTo>
                  <a:lnTo>
                    <a:pt x="30901" y="-28593"/>
                  </a:lnTo>
                  <a:lnTo>
                    <a:pt x="30901" y="-28593"/>
                  </a:lnTo>
                  <a:lnTo>
                    <a:pt x="29744" y="-28130"/>
                  </a:lnTo>
                  <a:lnTo>
                    <a:pt x="28586" y="-27667"/>
                  </a:lnTo>
                  <a:lnTo>
                    <a:pt x="27545" y="-27203"/>
                  </a:lnTo>
                  <a:lnTo>
                    <a:pt x="26387" y="-26740"/>
                  </a:lnTo>
                  <a:lnTo>
                    <a:pt x="25230" y="-26161"/>
                  </a:lnTo>
                  <a:lnTo>
                    <a:pt x="24073" y="-25698"/>
                  </a:lnTo>
                  <a:lnTo>
                    <a:pt x="23031" y="-25119"/>
                  </a:lnTo>
                  <a:lnTo>
                    <a:pt x="21874" y="-24656"/>
                  </a:lnTo>
                  <a:lnTo>
                    <a:pt x="21874" y="-24656"/>
                  </a:lnTo>
                  <a:lnTo>
                    <a:pt x="21990" y="-24192"/>
                  </a:lnTo>
                  <a:lnTo>
                    <a:pt x="22221" y="-23845"/>
                  </a:lnTo>
                  <a:lnTo>
                    <a:pt x="22337" y="-23382"/>
                  </a:lnTo>
                  <a:lnTo>
                    <a:pt x="22568" y="-23034"/>
                  </a:lnTo>
                  <a:lnTo>
                    <a:pt x="22684" y="-22687"/>
                  </a:lnTo>
                  <a:lnTo>
                    <a:pt x="22915" y="-22224"/>
                  </a:lnTo>
                  <a:lnTo>
                    <a:pt x="23147" y="-21876"/>
                  </a:lnTo>
                  <a:lnTo>
                    <a:pt x="23263" y="-21529"/>
                  </a:lnTo>
                  <a:lnTo>
                    <a:pt x="23263" y="-21529"/>
                  </a:lnTo>
                  <a:lnTo>
                    <a:pt x="23263" y="-21181"/>
                  </a:lnTo>
                  <a:lnTo>
                    <a:pt x="23147" y="-20950"/>
                  </a:lnTo>
                  <a:lnTo>
                    <a:pt x="23031" y="-20718"/>
                  </a:lnTo>
                  <a:lnTo>
                    <a:pt x="22915" y="-20486"/>
                  </a:lnTo>
                  <a:lnTo>
                    <a:pt x="22684" y="-20371"/>
                  </a:lnTo>
                  <a:lnTo>
                    <a:pt x="22453" y="-20139"/>
                  </a:lnTo>
                  <a:lnTo>
                    <a:pt x="22221" y="-19907"/>
                  </a:lnTo>
                  <a:lnTo>
                    <a:pt x="22105" y="-19792"/>
                  </a:lnTo>
                  <a:lnTo>
                    <a:pt x="22105" y="-19792"/>
                  </a:lnTo>
                  <a:lnTo>
                    <a:pt x="20601" y="-17939"/>
                  </a:lnTo>
                  <a:lnTo>
                    <a:pt x="20601" y="-17939"/>
                  </a:lnTo>
                  <a:lnTo>
                    <a:pt x="20485" y="-17475"/>
                  </a:lnTo>
                  <a:lnTo>
                    <a:pt x="20485" y="-17012"/>
                  </a:lnTo>
                  <a:lnTo>
                    <a:pt x="20369" y="-16433"/>
                  </a:lnTo>
                  <a:lnTo>
                    <a:pt x="20254" y="-15970"/>
                  </a:lnTo>
                  <a:lnTo>
                    <a:pt x="20254" y="-15507"/>
                  </a:lnTo>
                  <a:lnTo>
                    <a:pt x="20254" y="-15043"/>
                  </a:lnTo>
                  <a:lnTo>
                    <a:pt x="20254" y="-14580"/>
                  </a:lnTo>
                  <a:lnTo>
                    <a:pt x="20369" y="-14117"/>
                  </a:lnTo>
                  <a:lnTo>
                    <a:pt x="20369" y="-14117"/>
                  </a:lnTo>
                  <a:lnTo>
                    <a:pt x="20485" y="-14117"/>
                  </a:lnTo>
                  <a:lnTo>
                    <a:pt x="20601" y="-14117"/>
                  </a:lnTo>
                  <a:lnTo>
                    <a:pt x="20832" y="-14001"/>
                  </a:lnTo>
                  <a:lnTo>
                    <a:pt x="20832" y="-13885"/>
                  </a:lnTo>
                  <a:lnTo>
                    <a:pt x="20948" y="-13769"/>
                  </a:lnTo>
                  <a:lnTo>
                    <a:pt x="21064" y="-13654"/>
                  </a:lnTo>
                  <a:lnTo>
                    <a:pt x="21179" y="-13538"/>
                  </a:lnTo>
                  <a:lnTo>
                    <a:pt x="21411" y="-13538"/>
                  </a:lnTo>
                  <a:lnTo>
                    <a:pt x="21411" y="-13538"/>
                  </a:lnTo>
                  <a:lnTo>
                    <a:pt x="23031" y="-13422"/>
                  </a:lnTo>
                  <a:lnTo>
                    <a:pt x="23031" y="-13422"/>
                  </a:lnTo>
                  <a:lnTo>
                    <a:pt x="23031" y="-13306"/>
                  </a:lnTo>
                  <a:lnTo>
                    <a:pt x="23147" y="-13190"/>
                  </a:lnTo>
                  <a:lnTo>
                    <a:pt x="23263" y="-13075"/>
                  </a:lnTo>
                  <a:lnTo>
                    <a:pt x="23378" y="-12959"/>
                  </a:lnTo>
                  <a:lnTo>
                    <a:pt x="23494" y="-12843"/>
                  </a:lnTo>
                  <a:lnTo>
                    <a:pt x="23610" y="-12611"/>
                  </a:lnTo>
                  <a:lnTo>
                    <a:pt x="23610" y="-12496"/>
                  </a:lnTo>
                  <a:lnTo>
                    <a:pt x="23726" y="-12264"/>
                  </a:lnTo>
                  <a:lnTo>
                    <a:pt x="23726" y="-12264"/>
                  </a:lnTo>
                  <a:lnTo>
                    <a:pt x="23726" y="-12032"/>
                  </a:lnTo>
                  <a:lnTo>
                    <a:pt x="23610" y="-11801"/>
                  </a:lnTo>
                  <a:lnTo>
                    <a:pt x="23494" y="-11569"/>
                  </a:lnTo>
                  <a:lnTo>
                    <a:pt x="23378" y="-11453"/>
                  </a:lnTo>
                  <a:lnTo>
                    <a:pt x="23147" y="-11222"/>
                  </a:lnTo>
                  <a:lnTo>
                    <a:pt x="22915" y="-11106"/>
                  </a:lnTo>
                  <a:lnTo>
                    <a:pt x="22684" y="-10990"/>
                  </a:lnTo>
                  <a:lnTo>
                    <a:pt x="22453" y="-10874"/>
                  </a:lnTo>
                  <a:lnTo>
                    <a:pt x="22453" y="-10874"/>
                  </a:lnTo>
                  <a:lnTo>
                    <a:pt x="21758" y="-10643"/>
                  </a:lnTo>
                  <a:lnTo>
                    <a:pt x="21179" y="-10643"/>
                  </a:lnTo>
                  <a:lnTo>
                    <a:pt x="20485" y="-10643"/>
                  </a:lnTo>
                  <a:lnTo>
                    <a:pt x="19791" y="-10758"/>
                  </a:lnTo>
                  <a:lnTo>
                    <a:pt x="19096" y="-10990"/>
                  </a:lnTo>
                  <a:lnTo>
                    <a:pt x="18518" y="-11222"/>
                  </a:lnTo>
                  <a:lnTo>
                    <a:pt x="17939" y="-11569"/>
                  </a:lnTo>
                  <a:lnTo>
                    <a:pt x="17360" y="-11917"/>
                  </a:lnTo>
                  <a:lnTo>
                    <a:pt x="17360" y="-11917"/>
                  </a:lnTo>
                  <a:lnTo>
                    <a:pt x="17013" y="-12496"/>
                  </a:lnTo>
                  <a:lnTo>
                    <a:pt x="16782" y="-13190"/>
                  </a:lnTo>
                  <a:lnTo>
                    <a:pt x="16550" y="-13769"/>
                  </a:lnTo>
                  <a:lnTo>
                    <a:pt x="16319" y="-14464"/>
                  </a:lnTo>
                  <a:lnTo>
                    <a:pt x="15972" y="-15043"/>
                  </a:lnTo>
                  <a:lnTo>
                    <a:pt x="15509" y="-15622"/>
                  </a:lnTo>
                  <a:lnTo>
                    <a:pt x="15046" y="-16086"/>
                  </a:lnTo>
                  <a:lnTo>
                    <a:pt x="14351" y="-16317"/>
                  </a:lnTo>
                  <a:lnTo>
                    <a:pt x="14351" y="-16317"/>
                  </a:lnTo>
                  <a:lnTo>
                    <a:pt x="14236" y="-16433"/>
                  </a:lnTo>
                  <a:lnTo>
                    <a:pt x="14120" y="-16549"/>
                  </a:lnTo>
                  <a:lnTo>
                    <a:pt x="14120" y="-16781"/>
                  </a:lnTo>
                  <a:lnTo>
                    <a:pt x="14004" y="-16896"/>
                  </a:lnTo>
                  <a:lnTo>
                    <a:pt x="14004" y="-17128"/>
                  </a:lnTo>
                  <a:lnTo>
                    <a:pt x="14004" y="-17244"/>
                  </a:lnTo>
                  <a:lnTo>
                    <a:pt x="14120" y="-17360"/>
                  </a:lnTo>
                  <a:lnTo>
                    <a:pt x="14120" y="-17591"/>
                  </a:lnTo>
                  <a:lnTo>
                    <a:pt x="14120" y="-17591"/>
                  </a:lnTo>
                  <a:lnTo>
                    <a:pt x="14467" y="-17939"/>
                  </a:lnTo>
                  <a:lnTo>
                    <a:pt x="14930" y="-18286"/>
                  </a:lnTo>
                  <a:lnTo>
                    <a:pt x="15393" y="-18402"/>
                  </a:lnTo>
                  <a:lnTo>
                    <a:pt x="15972" y="-18633"/>
                  </a:lnTo>
                  <a:lnTo>
                    <a:pt x="16434" y="-18749"/>
                  </a:lnTo>
                  <a:lnTo>
                    <a:pt x="17013" y="-18865"/>
                  </a:lnTo>
                  <a:lnTo>
                    <a:pt x="17476" y="-19097"/>
                  </a:lnTo>
                  <a:lnTo>
                    <a:pt x="17939" y="-19444"/>
                  </a:lnTo>
                  <a:lnTo>
                    <a:pt x="17939" y="-19444"/>
                  </a:lnTo>
                  <a:lnTo>
                    <a:pt x="18286" y="-19792"/>
                  </a:lnTo>
                  <a:lnTo>
                    <a:pt x="18633" y="-20023"/>
                  </a:lnTo>
                  <a:lnTo>
                    <a:pt x="18981" y="-20255"/>
                  </a:lnTo>
                  <a:lnTo>
                    <a:pt x="19328" y="-20602"/>
                  </a:lnTo>
                  <a:lnTo>
                    <a:pt x="19559" y="-20950"/>
                  </a:lnTo>
                  <a:lnTo>
                    <a:pt x="19791" y="-21297"/>
                  </a:lnTo>
                  <a:lnTo>
                    <a:pt x="20022" y="-21645"/>
                  </a:lnTo>
                  <a:lnTo>
                    <a:pt x="20369" y="-21992"/>
                  </a:lnTo>
                  <a:lnTo>
                    <a:pt x="20369" y="-21992"/>
                  </a:lnTo>
                  <a:lnTo>
                    <a:pt x="20138" y="-22108"/>
                  </a:lnTo>
                  <a:lnTo>
                    <a:pt x="20022" y="-22339"/>
                  </a:lnTo>
                  <a:lnTo>
                    <a:pt x="19906" y="-22571"/>
                  </a:lnTo>
                  <a:lnTo>
                    <a:pt x="19906" y="-22803"/>
                  </a:lnTo>
                  <a:lnTo>
                    <a:pt x="19791" y="-23034"/>
                  </a:lnTo>
                  <a:lnTo>
                    <a:pt x="19675" y="-23266"/>
                  </a:lnTo>
                  <a:lnTo>
                    <a:pt x="19559" y="-23382"/>
                  </a:lnTo>
                  <a:lnTo>
                    <a:pt x="19443" y="-23613"/>
                  </a:lnTo>
                  <a:lnTo>
                    <a:pt x="19443" y="-23613"/>
                  </a:lnTo>
                  <a:lnTo>
                    <a:pt x="18633" y="-23266"/>
                  </a:lnTo>
                  <a:lnTo>
                    <a:pt x="17823" y="-22918"/>
                  </a:lnTo>
                  <a:lnTo>
                    <a:pt x="17129" y="-22571"/>
                  </a:lnTo>
                  <a:lnTo>
                    <a:pt x="16319" y="-22224"/>
                  </a:lnTo>
                  <a:lnTo>
                    <a:pt x="15624" y="-21876"/>
                  </a:lnTo>
                  <a:lnTo>
                    <a:pt x="14814" y="-21529"/>
                  </a:lnTo>
                  <a:lnTo>
                    <a:pt x="14120" y="-21297"/>
                  </a:lnTo>
                  <a:lnTo>
                    <a:pt x="13194" y="-21181"/>
                  </a:lnTo>
                  <a:lnTo>
                    <a:pt x="13194" y="-21181"/>
                  </a:lnTo>
                  <a:lnTo>
                    <a:pt x="13194" y="-21297"/>
                  </a:lnTo>
                  <a:lnTo>
                    <a:pt x="13194" y="-21413"/>
                  </a:lnTo>
                  <a:lnTo>
                    <a:pt x="13078" y="-21645"/>
                  </a:lnTo>
                  <a:lnTo>
                    <a:pt x="13078" y="-21760"/>
                  </a:lnTo>
                  <a:lnTo>
                    <a:pt x="13078" y="-21876"/>
                  </a:lnTo>
                  <a:lnTo>
                    <a:pt x="13078" y="-22108"/>
                  </a:lnTo>
                  <a:lnTo>
                    <a:pt x="13078" y="-22224"/>
                  </a:lnTo>
                  <a:lnTo>
                    <a:pt x="12962" y="-22339"/>
                  </a:lnTo>
                  <a:lnTo>
                    <a:pt x="12962" y="-22339"/>
                  </a:lnTo>
                  <a:lnTo>
                    <a:pt x="12847" y="-22224"/>
                  </a:lnTo>
                  <a:lnTo>
                    <a:pt x="12731" y="-22224"/>
                  </a:lnTo>
                  <a:lnTo>
                    <a:pt x="12615" y="-22108"/>
                  </a:lnTo>
                  <a:lnTo>
                    <a:pt x="12500" y="-22108"/>
                  </a:lnTo>
                  <a:lnTo>
                    <a:pt x="12384" y="-22108"/>
                  </a:lnTo>
                  <a:lnTo>
                    <a:pt x="12268" y="-21992"/>
                  </a:lnTo>
                  <a:lnTo>
                    <a:pt x="12152" y="-22108"/>
                  </a:lnTo>
                  <a:lnTo>
                    <a:pt x="12037" y="-22108"/>
                  </a:lnTo>
                  <a:lnTo>
                    <a:pt x="12037" y="-22108"/>
                  </a:lnTo>
                  <a:lnTo>
                    <a:pt x="12037" y="-22339"/>
                  </a:lnTo>
                  <a:lnTo>
                    <a:pt x="12037" y="-22339"/>
                  </a:lnTo>
                  <a:lnTo>
                    <a:pt x="12037" y="-22455"/>
                  </a:lnTo>
                  <a:lnTo>
                    <a:pt x="11921" y="-22455"/>
                  </a:lnTo>
                  <a:lnTo>
                    <a:pt x="11805" y="-22455"/>
                  </a:lnTo>
                  <a:lnTo>
                    <a:pt x="11689" y="-22455"/>
                  </a:lnTo>
                  <a:lnTo>
                    <a:pt x="11574" y="-22339"/>
                  </a:lnTo>
                  <a:lnTo>
                    <a:pt x="11574" y="-22339"/>
                  </a:lnTo>
                  <a:lnTo>
                    <a:pt x="11458" y="-22339"/>
                  </a:lnTo>
                  <a:lnTo>
                    <a:pt x="11342" y="-22339"/>
                  </a:lnTo>
                  <a:lnTo>
                    <a:pt x="11342" y="-22339"/>
                  </a:lnTo>
                  <a:lnTo>
                    <a:pt x="11342" y="-22455"/>
                  </a:lnTo>
                  <a:lnTo>
                    <a:pt x="11342" y="-22571"/>
                  </a:lnTo>
                  <a:lnTo>
                    <a:pt x="11342" y="-22687"/>
                  </a:lnTo>
                  <a:lnTo>
                    <a:pt x="11342" y="-22803"/>
                  </a:lnTo>
                  <a:lnTo>
                    <a:pt x="11342" y="-22918"/>
                  </a:lnTo>
                  <a:lnTo>
                    <a:pt x="11342" y="-23034"/>
                  </a:lnTo>
                  <a:lnTo>
                    <a:pt x="11342" y="-23150"/>
                  </a:lnTo>
                  <a:lnTo>
                    <a:pt x="11342" y="-23150"/>
                  </a:lnTo>
                  <a:lnTo>
                    <a:pt x="11342" y="-23150"/>
                  </a:lnTo>
                  <a:lnTo>
                    <a:pt x="11226" y="-23150"/>
                  </a:lnTo>
                  <a:lnTo>
                    <a:pt x="11111" y="-23034"/>
                  </a:lnTo>
                  <a:lnTo>
                    <a:pt x="10995" y="-23034"/>
                  </a:lnTo>
                  <a:lnTo>
                    <a:pt x="10879" y="-22918"/>
                  </a:lnTo>
                  <a:lnTo>
                    <a:pt x="10648" y="-22918"/>
                  </a:lnTo>
                  <a:lnTo>
                    <a:pt x="10532" y="-22918"/>
                  </a:lnTo>
                  <a:lnTo>
                    <a:pt x="10416" y="-22918"/>
                  </a:lnTo>
                  <a:lnTo>
                    <a:pt x="10301" y="-22918"/>
                  </a:lnTo>
                  <a:lnTo>
                    <a:pt x="10301" y="-22918"/>
                  </a:lnTo>
                  <a:lnTo>
                    <a:pt x="10416" y="-24192"/>
                  </a:lnTo>
                  <a:lnTo>
                    <a:pt x="10648" y="-25350"/>
                  </a:lnTo>
                  <a:lnTo>
                    <a:pt x="10764" y="-26509"/>
                  </a:lnTo>
                  <a:lnTo>
                    <a:pt x="10879" y="-27782"/>
                  </a:lnTo>
                  <a:lnTo>
                    <a:pt x="10995" y="-28941"/>
                  </a:lnTo>
                  <a:lnTo>
                    <a:pt x="11226" y="-30099"/>
                  </a:lnTo>
                  <a:lnTo>
                    <a:pt x="11342" y="-31257"/>
                  </a:lnTo>
                  <a:lnTo>
                    <a:pt x="11574" y="-32415"/>
                  </a:lnTo>
                  <a:lnTo>
                    <a:pt x="11574" y="-32415"/>
                  </a:lnTo>
                  <a:lnTo>
                    <a:pt x="11458" y="-32531"/>
                  </a:lnTo>
                  <a:lnTo>
                    <a:pt x="11342" y="-32646"/>
                  </a:lnTo>
                  <a:lnTo>
                    <a:pt x="11111" y="-32762"/>
                  </a:lnTo>
                  <a:lnTo>
                    <a:pt x="10995" y="32658"/>
                  </a:lnTo>
                  <a:lnTo>
                    <a:pt x="10879" y="32542"/>
                  </a:lnTo>
                  <a:lnTo>
                    <a:pt x="10648" y="32426"/>
                  </a:lnTo>
                  <a:lnTo>
                    <a:pt x="10532" y="32311"/>
                  </a:lnTo>
                  <a:lnTo>
                    <a:pt x="10532" y="32195"/>
                  </a:lnTo>
                  <a:lnTo>
                    <a:pt x="10532" y="32195"/>
                  </a:lnTo>
                  <a:lnTo>
                    <a:pt x="10532" y="32542"/>
                  </a:lnTo>
                  <a:lnTo>
                    <a:pt x="10532" y="-32762"/>
                  </a:lnTo>
                  <a:lnTo>
                    <a:pt x="10648" y="-32415"/>
                  </a:lnTo>
                  <a:lnTo>
                    <a:pt x="10764" y="-32067"/>
                  </a:lnTo>
                  <a:lnTo>
                    <a:pt x="10879" y="-31720"/>
                  </a:lnTo>
                  <a:lnTo>
                    <a:pt x="10879" y="-31488"/>
                  </a:lnTo>
                  <a:lnTo>
                    <a:pt x="10879" y="-31141"/>
                  </a:lnTo>
                  <a:lnTo>
                    <a:pt x="10879" y="-30793"/>
                  </a:lnTo>
                  <a:lnTo>
                    <a:pt x="10879" y="-30793"/>
                  </a:lnTo>
                  <a:lnTo>
                    <a:pt x="10764" y="-30678"/>
                  </a:lnTo>
                  <a:lnTo>
                    <a:pt x="10648" y="-30562"/>
                  </a:lnTo>
                  <a:lnTo>
                    <a:pt x="10532" y="-30562"/>
                  </a:lnTo>
                  <a:lnTo>
                    <a:pt x="10301" y="-30446"/>
                  </a:lnTo>
                  <a:lnTo>
                    <a:pt x="10185" y="-30446"/>
                  </a:lnTo>
                  <a:lnTo>
                    <a:pt x="9953" y="-30562"/>
                  </a:lnTo>
                  <a:lnTo>
                    <a:pt x="9838" y="-30562"/>
                  </a:lnTo>
                  <a:lnTo>
                    <a:pt x="9722" y="-30678"/>
                  </a:lnTo>
                  <a:lnTo>
                    <a:pt x="9722" y="-30678"/>
                  </a:lnTo>
                  <a:lnTo>
                    <a:pt x="9491" y="-30678"/>
                  </a:lnTo>
                  <a:lnTo>
                    <a:pt x="9259" y="-30909"/>
                  </a:lnTo>
                  <a:lnTo>
                    <a:pt x="9143" y="-31025"/>
                  </a:lnTo>
                  <a:lnTo>
                    <a:pt x="9028" y="-31257"/>
                  </a:lnTo>
                  <a:lnTo>
                    <a:pt x="8912" y="-31488"/>
                  </a:lnTo>
                  <a:lnTo>
                    <a:pt x="8796" y="-31604"/>
                  </a:lnTo>
                  <a:lnTo>
                    <a:pt x="8680" y="-31836"/>
                  </a:lnTo>
                  <a:lnTo>
                    <a:pt x="8565" y="-32067"/>
                  </a:lnTo>
                  <a:lnTo>
                    <a:pt x="8565" y="-32067"/>
                  </a:lnTo>
                  <a:lnTo>
                    <a:pt x="7870" y="-31836"/>
                  </a:lnTo>
                  <a:lnTo>
                    <a:pt x="7292" y="-31604"/>
                  </a:lnTo>
                  <a:lnTo>
                    <a:pt x="6597" y="-31373"/>
                  </a:lnTo>
                  <a:lnTo>
                    <a:pt x="6019" y="-31025"/>
                  </a:lnTo>
                  <a:lnTo>
                    <a:pt x="5440" y="-30793"/>
                  </a:lnTo>
                  <a:lnTo>
                    <a:pt x="4861" y="-30562"/>
                  </a:lnTo>
                  <a:lnTo>
                    <a:pt x="4167" y="-30330"/>
                  </a:lnTo>
                  <a:lnTo>
                    <a:pt x="3588" y="-30099"/>
                  </a:lnTo>
                  <a:lnTo>
                    <a:pt x="3588" y="-30099"/>
                  </a:lnTo>
                  <a:lnTo>
                    <a:pt x="3241" y="-30099"/>
                  </a:lnTo>
                  <a:lnTo>
                    <a:pt x="2894" y="-30099"/>
                  </a:lnTo>
                  <a:lnTo>
                    <a:pt x="2547" y="-30099"/>
                  </a:lnTo>
                  <a:lnTo>
                    <a:pt x="2199" y="-30330"/>
                  </a:lnTo>
                  <a:lnTo>
                    <a:pt x="1852" y="-30446"/>
                  </a:lnTo>
                  <a:lnTo>
                    <a:pt x="1505" y="-30678"/>
                  </a:lnTo>
                  <a:lnTo>
                    <a:pt x="1274" y="-30909"/>
                  </a:lnTo>
                  <a:lnTo>
                    <a:pt x="926" y="-31141"/>
                  </a:lnTo>
                  <a:lnTo>
                    <a:pt x="926" y="-31141"/>
                  </a:lnTo>
                  <a:lnTo>
                    <a:pt x="579" y="-31720"/>
                  </a:lnTo>
                  <a:lnTo>
                    <a:pt x="232" y="-32415"/>
                  </a:lnTo>
                  <a:lnTo>
                    <a:pt x="116" y="32426"/>
                  </a:lnTo>
                  <a:lnTo>
                    <a:pt x="0" y="31731"/>
                  </a:lnTo>
                  <a:lnTo>
                    <a:pt x="0" y="31037"/>
                  </a:lnTo>
                  <a:lnTo>
                    <a:pt x="116" y="30342"/>
                  </a:lnTo>
                  <a:lnTo>
                    <a:pt x="348" y="29647"/>
                  </a:lnTo>
                  <a:lnTo>
                    <a:pt x="579" y="29068"/>
                  </a:lnTo>
                  <a:lnTo>
                    <a:pt x="579" y="29068"/>
                  </a:lnTo>
                  <a:lnTo>
                    <a:pt x="1158" y="28257"/>
                  </a:lnTo>
                  <a:lnTo>
                    <a:pt x="1968" y="27910"/>
                  </a:lnTo>
                  <a:lnTo>
                    <a:pt x="2894" y="27678"/>
                  </a:lnTo>
                  <a:lnTo>
                    <a:pt x="3820" y="27562"/>
                  </a:lnTo>
                  <a:lnTo>
                    <a:pt x="4745" y="27562"/>
                  </a:lnTo>
                  <a:lnTo>
                    <a:pt x="5671" y="27331"/>
                  </a:lnTo>
                  <a:lnTo>
                    <a:pt x="6597" y="27099"/>
                  </a:lnTo>
                  <a:lnTo>
                    <a:pt x="7407" y="26520"/>
                  </a:lnTo>
                  <a:lnTo>
                    <a:pt x="7407" y="26520"/>
                  </a:lnTo>
                  <a:lnTo>
                    <a:pt x="7407" y="26520"/>
                  </a:lnTo>
                  <a:lnTo>
                    <a:pt x="7523" y="26520"/>
                  </a:lnTo>
                  <a:lnTo>
                    <a:pt x="7523" y="26520"/>
                  </a:lnTo>
                  <a:lnTo>
                    <a:pt x="7639" y="26520"/>
                  </a:lnTo>
                  <a:lnTo>
                    <a:pt x="7639" y="26520"/>
                  </a:lnTo>
                  <a:lnTo>
                    <a:pt x="7755" y="26520"/>
                  </a:lnTo>
                  <a:lnTo>
                    <a:pt x="7755" y="26520"/>
                  </a:lnTo>
                  <a:lnTo>
                    <a:pt x="7870" y="26520"/>
                  </a:lnTo>
                  <a:lnTo>
                    <a:pt x="7870" y="26520"/>
                  </a:lnTo>
                  <a:lnTo>
                    <a:pt x="7292" y="25709"/>
                  </a:lnTo>
                  <a:lnTo>
                    <a:pt x="6713" y="25014"/>
                  </a:lnTo>
                  <a:lnTo>
                    <a:pt x="6250" y="24204"/>
                  </a:lnTo>
                  <a:lnTo>
                    <a:pt x="5787" y="23393"/>
                  </a:lnTo>
                  <a:lnTo>
                    <a:pt x="5440" y="22582"/>
                  </a:lnTo>
                  <a:lnTo>
                    <a:pt x="5208" y="21772"/>
                  </a:lnTo>
                  <a:lnTo>
                    <a:pt x="5208" y="20845"/>
                  </a:lnTo>
                  <a:lnTo>
                    <a:pt x="5324" y="19919"/>
                  </a:lnTo>
                  <a:lnTo>
                    <a:pt x="5324" y="19919"/>
                  </a:lnTo>
                  <a:lnTo>
                    <a:pt x="5440" y="19571"/>
                  </a:lnTo>
                  <a:lnTo>
                    <a:pt x="5671" y="19224"/>
                  </a:lnTo>
                  <a:lnTo>
                    <a:pt x="6019" y="19108"/>
                  </a:lnTo>
                  <a:lnTo>
                    <a:pt x="6366" y="18992"/>
                  </a:lnTo>
                  <a:lnTo>
                    <a:pt x="6713" y="18877"/>
                  </a:lnTo>
                  <a:lnTo>
                    <a:pt x="7060" y="18761"/>
                  </a:lnTo>
                  <a:lnTo>
                    <a:pt x="7523" y="18761"/>
                  </a:lnTo>
                  <a:lnTo>
                    <a:pt x="7870" y="18645"/>
                  </a:lnTo>
                  <a:lnTo>
                    <a:pt x="7870" y="18645"/>
                  </a:lnTo>
                  <a:lnTo>
                    <a:pt x="8565" y="18529"/>
                  </a:lnTo>
                  <a:lnTo>
                    <a:pt x="9259" y="18529"/>
                  </a:lnTo>
                  <a:lnTo>
                    <a:pt x="9953" y="18529"/>
                  </a:lnTo>
                  <a:lnTo>
                    <a:pt x="10648" y="18645"/>
                  </a:lnTo>
                  <a:lnTo>
                    <a:pt x="11342" y="18645"/>
                  </a:lnTo>
                  <a:lnTo>
                    <a:pt x="11921" y="18877"/>
                  </a:lnTo>
                  <a:lnTo>
                    <a:pt x="12615" y="18992"/>
                  </a:lnTo>
                  <a:lnTo>
                    <a:pt x="13310" y="19108"/>
                  </a:lnTo>
                  <a:lnTo>
                    <a:pt x="13310" y="19108"/>
                  </a:lnTo>
                  <a:lnTo>
                    <a:pt x="13425" y="18992"/>
                  </a:lnTo>
                  <a:lnTo>
                    <a:pt x="13425" y="18992"/>
                  </a:lnTo>
                  <a:lnTo>
                    <a:pt x="13773" y="17139"/>
                  </a:lnTo>
                  <a:lnTo>
                    <a:pt x="14004" y="15286"/>
                  </a:lnTo>
                  <a:lnTo>
                    <a:pt x="14351" y="13434"/>
                  </a:lnTo>
                  <a:lnTo>
                    <a:pt x="14814" y="11581"/>
                  </a:lnTo>
                  <a:lnTo>
                    <a:pt x="15161" y="9728"/>
                  </a:lnTo>
                  <a:lnTo>
                    <a:pt x="15509" y="7875"/>
                  </a:lnTo>
                  <a:lnTo>
                    <a:pt x="15856" y="6138"/>
                  </a:lnTo>
                  <a:lnTo>
                    <a:pt x="16203" y="4285"/>
                  </a:lnTo>
                  <a:lnTo>
                    <a:pt x="16203" y="4285"/>
                  </a:lnTo>
                  <a:lnTo>
                    <a:pt x="16319" y="4053"/>
                  </a:lnTo>
                  <a:lnTo>
                    <a:pt x="16319" y="3821"/>
                  </a:lnTo>
                  <a:lnTo>
                    <a:pt x="16203" y="3590"/>
                  </a:lnTo>
                  <a:lnTo>
                    <a:pt x="16203" y="3358"/>
                  </a:lnTo>
                  <a:lnTo>
                    <a:pt x="16319" y="3126"/>
                  </a:lnTo>
                  <a:lnTo>
                    <a:pt x="16434" y="3011"/>
                  </a:lnTo>
                  <a:lnTo>
                    <a:pt x="16550" y="2895"/>
                  </a:lnTo>
                  <a:lnTo>
                    <a:pt x="16897" y="2895"/>
                  </a:lnTo>
                  <a:lnTo>
                    <a:pt x="16897" y="2895"/>
                  </a:lnTo>
                  <a:lnTo>
                    <a:pt x="16782" y="2663"/>
                  </a:lnTo>
                  <a:lnTo>
                    <a:pt x="16782" y="2316"/>
                  </a:lnTo>
                  <a:lnTo>
                    <a:pt x="16782" y="1968"/>
                  </a:lnTo>
                  <a:lnTo>
                    <a:pt x="16782" y="1621"/>
                  </a:lnTo>
                  <a:lnTo>
                    <a:pt x="16897" y="1389"/>
                  </a:lnTo>
                  <a:lnTo>
                    <a:pt x="17013" y="1042"/>
                  </a:lnTo>
                  <a:lnTo>
                    <a:pt x="17129" y="810"/>
                  </a:lnTo>
                  <a:lnTo>
                    <a:pt x="17360" y="579"/>
                  </a:lnTo>
                  <a:lnTo>
                    <a:pt x="17360" y="579"/>
                  </a:lnTo>
                  <a:lnTo>
                    <a:pt x="17707" y="347"/>
                  </a:lnTo>
                  <a:lnTo>
                    <a:pt x="18055" y="115"/>
                  </a:lnTo>
                  <a:lnTo>
                    <a:pt x="18518" y="0"/>
                  </a:lnTo>
                  <a:lnTo>
                    <a:pt x="18981" y="0"/>
                  </a:lnTo>
                  <a:lnTo>
                    <a:pt x="19328" y="0"/>
                  </a:lnTo>
                  <a:lnTo>
                    <a:pt x="19791" y="115"/>
                  </a:lnTo>
                  <a:lnTo>
                    <a:pt x="20138" y="347"/>
                  </a:lnTo>
                  <a:lnTo>
                    <a:pt x="20369" y="694"/>
                  </a:lnTo>
                  <a:lnTo>
                    <a:pt x="20369" y="694"/>
                  </a:lnTo>
                  <a:lnTo>
                    <a:pt x="20369" y="694"/>
                  </a:lnTo>
                  <a:lnTo>
                    <a:pt x="20369" y="694"/>
                  </a:lnTo>
                  <a:lnTo>
                    <a:pt x="20369"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58120" y="2932560"/>
              <a:ext cx="115560" cy="192600"/>
            </a:xfrm>
            <a:custGeom>
              <a:avLst/>
              <a:gdLst/>
              <a:ahLst/>
              <a:rect l="l" t="t" r="r" b="b"/>
              <a:pathLst>
                <a:path w="3240" h="3590">
                  <a:moveTo>
                    <a:pt x="3124" y="926"/>
                  </a:moveTo>
                  <a:lnTo>
                    <a:pt x="3124" y="1274"/>
                  </a:lnTo>
                  <a:lnTo>
                    <a:pt x="3240" y="1621"/>
                  </a:lnTo>
                  <a:lnTo>
                    <a:pt x="3240" y="1969"/>
                  </a:lnTo>
                  <a:lnTo>
                    <a:pt x="3240" y="2316"/>
                  </a:lnTo>
                  <a:lnTo>
                    <a:pt x="3240" y="2663"/>
                  </a:lnTo>
                  <a:lnTo>
                    <a:pt x="3124" y="2895"/>
                  </a:lnTo>
                  <a:lnTo>
                    <a:pt x="3009" y="3243"/>
                  </a:lnTo>
                  <a:lnTo>
                    <a:pt x="2893" y="3590"/>
                  </a:lnTo>
                  <a:lnTo>
                    <a:pt x="2893" y="3590"/>
                  </a:lnTo>
                  <a:lnTo>
                    <a:pt x="2546" y="3590"/>
                  </a:lnTo>
                  <a:lnTo>
                    <a:pt x="2546" y="3243"/>
                  </a:lnTo>
                  <a:lnTo>
                    <a:pt x="2661" y="3243"/>
                  </a:lnTo>
                  <a:lnTo>
                    <a:pt x="2661" y="3243"/>
                  </a:lnTo>
                  <a:lnTo>
                    <a:pt x="2661" y="3011"/>
                  </a:lnTo>
                  <a:lnTo>
                    <a:pt x="2777" y="2663"/>
                  </a:lnTo>
                  <a:lnTo>
                    <a:pt x="2893" y="2432"/>
                  </a:lnTo>
                  <a:lnTo>
                    <a:pt x="2893" y="2084"/>
                  </a:lnTo>
                  <a:lnTo>
                    <a:pt x="3009" y="1737"/>
                  </a:lnTo>
                  <a:lnTo>
                    <a:pt x="2893" y="1505"/>
                  </a:lnTo>
                  <a:lnTo>
                    <a:pt x="2893" y="1158"/>
                  </a:lnTo>
                  <a:lnTo>
                    <a:pt x="2777" y="926"/>
                  </a:lnTo>
                  <a:lnTo>
                    <a:pt x="2777" y="926"/>
                  </a:lnTo>
                  <a:lnTo>
                    <a:pt x="2661" y="811"/>
                  </a:lnTo>
                  <a:lnTo>
                    <a:pt x="2546" y="695"/>
                  </a:lnTo>
                  <a:lnTo>
                    <a:pt x="2430" y="579"/>
                  </a:lnTo>
                  <a:lnTo>
                    <a:pt x="2198" y="463"/>
                  </a:lnTo>
                  <a:lnTo>
                    <a:pt x="2083" y="347"/>
                  </a:lnTo>
                  <a:lnTo>
                    <a:pt x="1967" y="231"/>
                  </a:lnTo>
                  <a:lnTo>
                    <a:pt x="1851" y="231"/>
                  </a:lnTo>
                  <a:lnTo>
                    <a:pt x="1736" y="231"/>
                  </a:lnTo>
                  <a:lnTo>
                    <a:pt x="1736" y="231"/>
                  </a:lnTo>
                  <a:lnTo>
                    <a:pt x="1504" y="231"/>
                  </a:lnTo>
                  <a:lnTo>
                    <a:pt x="1273" y="347"/>
                  </a:lnTo>
                  <a:lnTo>
                    <a:pt x="1041" y="347"/>
                  </a:lnTo>
                  <a:lnTo>
                    <a:pt x="925" y="463"/>
                  </a:lnTo>
                  <a:lnTo>
                    <a:pt x="694" y="695"/>
                  </a:lnTo>
                  <a:lnTo>
                    <a:pt x="578" y="811"/>
                  </a:lnTo>
                  <a:lnTo>
                    <a:pt x="462" y="926"/>
                  </a:lnTo>
                  <a:lnTo>
                    <a:pt x="347" y="1158"/>
                  </a:lnTo>
                  <a:lnTo>
                    <a:pt x="347" y="1158"/>
                  </a:lnTo>
                  <a:lnTo>
                    <a:pt x="347" y="2432"/>
                  </a:lnTo>
                  <a:lnTo>
                    <a:pt x="347" y="2432"/>
                  </a:lnTo>
                  <a:lnTo>
                    <a:pt x="115" y="2316"/>
                  </a:lnTo>
                  <a:lnTo>
                    <a:pt x="115" y="2200"/>
                  </a:lnTo>
                  <a:lnTo>
                    <a:pt x="0" y="1969"/>
                  </a:lnTo>
                  <a:lnTo>
                    <a:pt x="0" y="1737"/>
                  </a:lnTo>
                  <a:lnTo>
                    <a:pt x="0" y="1505"/>
                  </a:lnTo>
                  <a:lnTo>
                    <a:pt x="0" y="1390"/>
                  </a:lnTo>
                  <a:lnTo>
                    <a:pt x="0" y="1158"/>
                  </a:lnTo>
                  <a:lnTo>
                    <a:pt x="115" y="926"/>
                  </a:lnTo>
                  <a:lnTo>
                    <a:pt x="115" y="926"/>
                  </a:lnTo>
                  <a:lnTo>
                    <a:pt x="347" y="579"/>
                  </a:lnTo>
                  <a:lnTo>
                    <a:pt x="694" y="231"/>
                  </a:lnTo>
                  <a:lnTo>
                    <a:pt x="1041" y="116"/>
                  </a:lnTo>
                  <a:lnTo>
                    <a:pt x="1504" y="0"/>
                  </a:lnTo>
                  <a:lnTo>
                    <a:pt x="2083" y="0"/>
                  </a:lnTo>
                  <a:lnTo>
                    <a:pt x="2430" y="231"/>
                  </a:lnTo>
                  <a:lnTo>
                    <a:pt x="2777" y="463"/>
                  </a:lnTo>
                  <a:lnTo>
                    <a:pt x="3124" y="926"/>
                  </a:lnTo>
                  <a:lnTo>
                    <a:pt x="3124" y="926"/>
                  </a:lnTo>
                  <a:lnTo>
                    <a:pt x="3124" y="926"/>
                  </a:lnTo>
                  <a:lnTo>
                    <a:pt x="3124" y="926"/>
                  </a:lnTo>
                  <a:lnTo>
                    <a:pt x="3124"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282320" y="2945160"/>
              <a:ext cx="65880" cy="211320"/>
            </a:xfrm>
            <a:custGeom>
              <a:avLst/>
              <a:gdLst/>
              <a:ahLst/>
              <a:rect l="l" t="t" r="r" b="b"/>
              <a:pathLst>
                <a:path w="1851" h="3938">
                  <a:moveTo>
                    <a:pt x="1851" y="1853"/>
                  </a:moveTo>
                  <a:lnTo>
                    <a:pt x="1851" y="1969"/>
                  </a:lnTo>
                  <a:lnTo>
                    <a:pt x="1851" y="2201"/>
                  </a:lnTo>
                  <a:lnTo>
                    <a:pt x="1851" y="2317"/>
                  </a:lnTo>
                  <a:lnTo>
                    <a:pt x="1736" y="2432"/>
                  </a:lnTo>
                  <a:lnTo>
                    <a:pt x="1736" y="2548"/>
                  </a:lnTo>
                  <a:lnTo>
                    <a:pt x="1736" y="2664"/>
                  </a:lnTo>
                  <a:lnTo>
                    <a:pt x="1736" y="2896"/>
                  </a:lnTo>
                  <a:lnTo>
                    <a:pt x="1736" y="3012"/>
                  </a:lnTo>
                  <a:lnTo>
                    <a:pt x="1736" y="3012"/>
                  </a:lnTo>
                  <a:lnTo>
                    <a:pt x="1620" y="3127"/>
                  </a:lnTo>
                  <a:lnTo>
                    <a:pt x="1620" y="3243"/>
                  </a:lnTo>
                  <a:lnTo>
                    <a:pt x="1504" y="3359"/>
                  </a:lnTo>
                  <a:lnTo>
                    <a:pt x="1388" y="3475"/>
                  </a:lnTo>
                  <a:lnTo>
                    <a:pt x="1273" y="3591"/>
                  </a:lnTo>
                  <a:lnTo>
                    <a:pt x="1157" y="3706"/>
                  </a:lnTo>
                  <a:lnTo>
                    <a:pt x="1041" y="3822"/>
                  </a:lnTo>
                  <a:lnTo>
                    <a:pt x="925" y="3938"/>
                  </a:lnTo>
                  <a:lnTo>
                    <a:pt x="925" y="3938"/>
                  </a:lnTo>
                  <a:lnTo>
                    <a:pt x="810" y="3938"/>
                  </a:lnTo>
                  <a:lnTo>
                    <a:pt x="810" y="3938"/>
                  </a:lnTo>
                  <a:lnTo>
                    <a:pt x="694" y="3938"/>
                  </a:lnTo>
                  <a:lnTo>
                    <a:pt x="694" y="3822"/>
                  </a:lnTo>
                  <a:lnTo>
                    <a:pt x="694" y="3822"/>
                  </a:lnTo>
                  <a:lnTo>
                    <a:pt x="694" y="3706"/>
                  </a:lnTo>
                  <a:lnTo>
                    <a:pt x="694" y="3706"/>
                  </a:lnTo>
                  <a:lnTo>
                    <a:pt x="694" y="3591"/>
                  </a:lnTo>
                  <a:lnTo>
                    <a:pt x="694" y="3591"/>
                  </a:lnTo>
                  <a:lnTo>
                    <a:pt x="925" y="3243"/>
                  </a:lnTo>
                  <a:lnTo>
                    <a:pt x="1157" y="3012"/>
                  </a:lnTo>
                  <a:lnTo>
                    <a:pt x="1273" y="2664"/>
                  </a:lnTo>
                  <a:lnTo>
                    <a:pt x="1273" y="2317"/>
                  </a:lnTo>
                  <a:lnTo>
                    <a:pt x="1273" y="1969"/>
                  </a:lnTo>
                  <a:lnTo>
                    <a:pt x="1157" y="1622"/>
                  </a:lnTo>
                  <a:lnTo>
                    <a:pt x="1041" y="1274"/>
                  </a:lnTo>
                  <a:lnTo>
                    <a:pt x="1041" y="811"/>
                  </a:lnTo>
                  <a:lnTo>
                    <a:pt x="1041" y="811"/>
                  </a:lnTo>
                  <a:lnTo>
                    <a:pt x="925" y="811"/>
                  </a:lnTo>
                  <a:lnTo>
                    <a:pt x="810" y="695"/>
                  </a:lnTo>
                  <a:lnTo>
                    <a:pt x="694" y="580"/>
                  </a:lnTo>
                  <a:lnTo>
                    <a:pt x="578" y="464"/>
                  </a:lnTo>
                  <a:lnTo>
                    <a:pt x="462" y="464"/>
                  </a:lnTo>
                  <a:lnTo>
                    <a:pt x="347" y="464"/>
                  </a:lnTo>
                  <a:lnTo>
                    <a:pt x="231" y="464"/>
                  </a:lnTo>
                  <a:lnTo>
                    <a:pt x="115" y="464"/>
                  </a:lnTo>
                  <a:lnTo>
                    <a:pt x="115" y="464"/>
                  </a:lnTo>
                  <a:lnTo>
                    <a:pt x="0" y="116"/>
                  </a:lnTo>
                  <a:lnTo>
                    <a:pt x="0" y="116"/>
                  </a:lnTo>
                  <a:lnTo>
                    <a:pt x="115" y="116"/>
                  </a:lnTo>
                  <a:lnTo>
                    <a:pt x="231" y="0"/>
                  </a:lnTo>
                  <a:lnTo>
                    <a:pt x="347" y="0"/>
                  </a:lnTo>
                  <a:lnTo>
                    <a:pt x="462" y="0"/>
                  </a:lnTo>
                  <a:lnTo>
                    <a:pt x="694" y="116"/>
                  </a:lnTo>
                  <a:lnTo>
                    <a:pt x="810" y="116"/>
                  </a:lnTo>
                  <a:lnTo>
                    <a:pt x="925" y="232"/>
                  </a:lnTo>
                  <a:lnTo>
                    <a:pt x="1041" y="232"/>
                  </a:lnTo>
                  <a:lnTo>
                    <a:pt x="1041" y="232"/>
                  </a:lnTo>
                  <a:lnTo>
                    <a:pt x="1273" y="464"/>
                  </a:lnTo>
                  <a:lnTo>
                    <a:pt x="1388" y="580"/>
                  </a:lnTo>
                  <a:lnTo>
                    <a:pt x="1504" y="811"/>
                  </a:lnTo>
                  <a:lnTo>
                    <a:pt x="1620" y="1043"/>
                  </a:lnTo>
                  <a:lnTo>
                    <a:pt x="1620" y="1159"/>
                  </a:lnTo>
                  <a:lnTo>
                    <a:pt x="1736" y="1390"/>
                  </a:lnTo>
                  <a:lnTo>
                    <a:pt x="1736" y="1622"/>
                  </a:lnTo>
                  <a:lnTo>
                    <a:pt x="1851" y="1853"/>
                  </a:lnTo>
                  <a:lnTo>
                    <a:pt x="1851" y="1853"/>
                  </a:lnTo>
                  <a:lnTo>
                    <a:pt x="1851" y="1853"/>
                  </a:lnTo>
                  <a:lnTo>
                    <a:pt x="1851" y="1853"/>
                  </a:lnTo>
                  <a:lnTo>
                    <a:pt x="1851" y="18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182960" y="2970000"/>
              <a:ext cx="49320" cy="99360"/>
            </a:xfrm>
            <a:custGeom>
              <a:avLst/>
              <a:gdLst/>
              <a:ahLst/>
              <a:rect l="l" t="t" r="r" b="b"/>
              <a:pathLst>
                <a:path w="1389" h="1853">
                  <a:moveTo>
                    <a:pt x="1389" y="347"/>
                  </a:moveTo>
                  <a:lnTo>
                    <a:pt x="1157" y="579"/>
                  </a:lnTo>
                  <a:lnTo>
                    <a:pt x="1042" y="810"/>
                  </a:lnTo>
                  <a:lnTo>
                    <a:pt x="926" y="1042"/>
                  </a:lnTo>
                  <a:lnTo>
                    <a:pt x="810" y="1389"/>
                  </a:lnTo>
                  <a:lnTo>
                    <a:pt x="810" y="1621"/>
                  </a:lnTo>
                  <a:lnTo>
                    <a:pt x="694" y="1853"/>
                  </a:lnTo>
                  <a:lnTo>
                    <a:pt x="463" y="1853"/>
                  </a:lnTo>
                  <a:lnTo>
                    <a:pt x="116" y="1737"/>
                  </a:lnTo>
                  <a:lnTo>
                    <a:pt x="116" y="1737"/>
                  </a:lnTo>
                  <a:lnTo>
                    <a:pt x="0" y="1505"/>
                  </a:lnTo>
                  <a:lnTo>
                    <a:pt x="0" y="1274"/>
                  </a:lnTo>
                  <a:lnTo>
                    <a:pt x="0" y="1042"/>
                  </a:lnTo>
                  <a:lnTo>
                    <a:pt x="116" y="810"/>
                  </a:lnTo>
                  <a:lnTo>
                    <a:pt x="116" y="579"/>
                  </a:lnTo>
                  <a:lnTo>
                    <a:pt x="231" y="347"/>
                  </a:lnTo>
                  <a:lnTo>
                    <a:pt x="463" y="231"/>
                  </a:lnTo>
                  <a:lnTo>
                    <a:pt x="694" y="116"/>
                  </a:lnTo>
                  <a:lnTo>
                    <a:pt x="694" y="116"/>
                  </a:lnTo>
                  <a:lnTo>
                    <a:pt x="810" y="0"/>
                  </a:lnTo>
                  <a:lnTo>
                    <a:pt x="926" y="0"/>
                  </a:lnTo>
                  <a:lnTo>
                    <a:pt x="1042" y="0"/>
                  </a:lnTo>
                  <a:lnTo>
                    <a:pt x="1157" y="116"/>
                  </a:lnTo>
                  <a:lnTo>
                    <a:pt x="1157" y="116"/>
                  </a:lnTo>
                  <a:lnTo>
                    <a:pt x="1273" y="116"/>
                  </a:lnTo>
                  <a:lnTo>
                    <a:pt x="1389" y="231"/>
                  </a:lnTo>
                  <a:lnTo>
                    <a:pt x="1389" y="347"/>
                  </a:lnTo>
                  <a:lnTo>
                    <a:pt x="1389" y="347"/>
                  </a:lnTo>
                  <a:lnTo>
                    <a:pt x="1389" y="347"/>
                  </a:lnTo>
                  <a:lnTo>
                    <a:pt x="1389" y="347"/>
                  </a:lnTo>
                  <a:lnTo>
                    <a:pt x="1389"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356840" y="2988720"/>
              <a:ext cx="65880" cy="192600"/>
            </a:xfrm>
            <a:custGeom>
              <a:avLst/>
              <a:gdLst/>
              <a:ahLst/>
              <a:rect l="l" t="t" r="r" b="b"/>
              <a:pathLst>
                <a:path w="1851" h="3590">
                  <a:moveTo>
                    <a:pt x="1620" y="695"/>
                  </a:moveTo>
                  <a:lnTo>
                    <a:pt x="1736" y="927"/>
                  </a:lnTo>
                  <a:lnTo>
                    <a:pt x="1736" y="1158"/>
                  </a:lnTo>
                  <a:lnTo>
                    <a:pt x="1851" y="1390"/>
                  </a:lnTo>
                  <a:lnTo>
                    <a:pt x="1851" y="1621"/>
                  </a:lnTo>
                  <a:lnTo>
                    <a:pt x="1851" y="1853"/>
                  </a:lnTo>
                  <a:lnTo>
                    <a:pt x="1851" y="2085"/>
                  </a:lnTo>
                  <a:lnTo>
                    <a:pt x="1851" y="2316"/>
                  </a:lnTo>
                  <a:lnTo>
                    <a:pt x="1736" y="2432"/>
                  </a:lnTo>
                  <a:lnTo>
                    <a:pt x="1736" y="2432"/>
                  </a:lnTo>
                  <a:lnTo>
                    <a:pt x="1736" y="2664"/>
                  </a:lnTo>
                  <a:lnTo>
                    <a:pt x="1620" y="2780"/>
                  </a:lnTo>
                  <a:lnTo>
                    <a:pt x="1504" y="2895"/>
                  </a:lnTo>
                  <a:lnTo>
                    <a:pt x="1388" y="3127"/>
                  </a:lnTo>
                  <a:lnTo>
                    <a:pt x="1273" y="3243"/>
                  </a:lnTo>
                  <a:lnTo>
                    <a:pt x="1157" y="3359"/>
                  </a:lnTo>
                  <a:lnTo>
                    <a:pt x="1041" y="3474"/>
                  </a:lnTo>
                  <a:lnTo>
                    <a:pt x="926" y="3590"/>
                  </a:lnTo>
                  <a:lnTo>
                    <a:pt x="926" y="3590"/>
                  </a:lnTo>
                  <a:lnTo>
                    <a:pt x="810" y="3590"/>
                  </a:lnTo>
                  <a:lnTo>
                    <a:pt x="694" y="3590"/>
                  </a:lnTo>
                  <a:lnTo>
                    <a:pt x="694" y="3474"/>
                  </a:lnTo>
                  <a:lnTo>
                    <a:pt x="578" y="3474"/>
                  </a:lnTo>
                  <a:lnTo>
                    <a:pt x="578" y="3359"/>
                  </a:lnTo>
                  <a:lnTo>
                    <a:pt x="578" y="3359"/>
                  </a:lnTo>
                  <a:lnTo>
                    <a:pt x="578" y="3243"/>
                  </a:lnTo>
                  <a:lnTo>
                    <a:pt x="578" y="3127"/>
                  </a:lnTo>
                  <a:lnTo>
                    <a:pt x="578" y="3127"/>
                  </a:lnTo>
                  <a:lnTo>
                    <a:pt x="694" y="3127"/>
                  </a:lnTo>
                  <a:lnTo>
                    <a:pt x="810" y="3011"/>
                  </a:lnTo>
                  <a:lnTo>
                    <a:pt x="926" y="2895"/>
                  </a:lnTo>
                  <a:lnTo>
                    <a:pt x="1041" y="2780"/>
                  </a:lnTo>
                  <a:lnTo>
                    <a:pt x="1041" y="2664"/>
                  </a:lnTo>
                  <a:lnTo>
                    <a:pt x="1157" y="2432"/>
                  </a:lnTo>
                  <a:lnTo>
                    <a:pt x="1157" y="2316"/>
                  </a:lnTo>
                  <a:lnTo>
                    <a:pt x="1157" y="2201"/>
                  </a:lnTo>
                  <a:lnTo>
                    <a:pt x="1157" y="2201"/>
                  </a:lnTo>
                  <a:lnTo>
                    <a:pt x="1157" y="1969"/>
                  </a:lnTo>
                  <a:lnTo>
                    <a:pt x="1157" y="1621"/>
                  </a:lnTo>
                  <a:lnTo>
                    <a:pt x="1157" y="1390"/>
                  </a:lnTo>
                  <a:lnTo>
                    <a:pt x="1041" y="1042"/>
                  </a:lnTo>
                  <a:lnTo>
                    <a:pt x="926" y="811"/>
                  </a:lnTo>
                  <a:lnTo>
                    <a:pt x="810" y="579"/>
                  </a:lnTo>
                  <a:lnTo>
                    <a:pt x="578" y="348"/>
                  </a:lnTo>
                  <a:lnTo>
                    <a:pt x="347" y="232"/>
                  </a:lnTo>
                  <a:lnTo>
                    <a:pt x="347" y="232"/>
                  </a:lnTo>
                  <a:lnTo>
                    <a:pt x="347" y="232"/>
                  </a:lnTo>
                  <a:lnTo>
                    <a:pt x="231" y="232"/>
                  </a:lnTo>
                  <a:lnTo>
                    <a:pt x="231" y="232"/>
                  </a:lnTo>
                  <a:lnTo>
                    <a:pt x="115" y="232"/>
                  </a:lnTo>
                  <a:lnTo>
                    <a:pt x="115" y="232"/>
                  </a:lnTo>
                  <a:lnTo>
                    <a:pt x="115" y="232"/>
                  </a:lnTo>
                  <a:lnTo>
                    <a:pt x="0" y="232"/>
                  </a:lnTo>
                  <a:lnTo>
                    <a:pt x="0" y="116"/>
                  </a:lnTo>
                  <a:lnTo>
                    <a:pt x="0" y="116"/>
                  </a:lnTo>
                  <a:lnTo>
                    <a:pt x="231" y="0"/>
                  </a:lnTo>
                  <a:lnTo>
                    <a:pt x="347" y="0"/>
                  </a:lnTo>
                  <a:lnTo>
                    <a:pt x="578" y="0"/>
                  </a:lnTo>
                  <a:lnTo>
                    <a:pt x="810" y="0"/>
                  </a:lnTo>
                  <a:lnTo>
                    <a:pt x="1041" y="116"/>
                  </a:lnTo>
                  <a:lnTo>
                    <a:pt x="1273" y="232"/>
                  </a:lnTo>
                  <a:lnTo>
                    <a:pt x="1504" y="463"/>
                  </a:lnTo>
                  <a:lnTo>
                    <a:pt x="1620" y="695"/>
                  </a:lnTo>
                  <a:lnTo>
                    <a:pt x="1620" y="695"/>
                  </a:lnTo>
                  <a:lnTo>
                    <a:pt x="1620" y="695"/>
                  </a:lnTo>
                  <a:lnTo>
                    <a:pt x="1620" y="695"/>
                  </a:lnTo>
                  <a:lnTo>
                    <a:pt x="1620"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431360" y="3013560"/>
              <a:ext cx="57600" cy="186480"/>
            </a:xfrm>
            <a:custGeom>
              <a:avLst/>
              <a:gdLst/>
              <a:ahLst/>
              <a:rect l="l" t="t" r="r" b="b"/>
              <a:pathLst>
                <a:path w="1620" h="3475">
                  <a:moveTo>
                    <a:pt x="1620" y="1390"/>
                  </a:moveTo>
                  <a:lnTo>
                    <a:pt x="1620" y="1622"/>
                  </a:lnTo>
                  <a:lnTo>
                    <a:pt x="1620" y="1853"/>
                  </a:lnTo>
                  <a:lnTo>
                    <a:pt x="1620" y="2085"/>
                  </a:lnTo>
                  <a:lnTo>
                    <a:pt x="1620" y="2317"/>
                  </a:lnTo>
                  <a:lnTo>
                    <a:pt x="1620" y="2432"/>
                  </a:lnTo>
                  <a:lnTo>
                    <a:pt x="1620" y="2664"/>
                  </a:lnTo>
                  <a:lnTo>
                    <a:pt x="1504" y="2896"/>
                  </a:lnTo>
                  <a:lnTo>
                    <a:pt x="1389" y="3011"/>
                  </a:lnTo>
                  <a:lnTo>
                    <a:pt x="1389" y="3011"/>
                  </a:lnTo>
                  <a:lnTo>
                    <a:pt x="1273" y="3127"/>
                  </a:lnTo>
                  <a:lnTo>
                    <a:pt x="1157" y="3127"/>
                  </a:lnTo>
                  <a:lnTo>
                    <a:pt x="1041" y="3243"/>
                  </a:lnTo>
                  <a:lnTo>
                    <a:pt x="1041" y="3359"/>
                  </a:lnTo>
                  <a:lnTo>
                    <a:pt x="926" y="3475"/>
                  </a:lnTo>
                  <a:lnTo>
                    <a:pt x="926" y="3475"/>
                  </a:lnTo>
                  <a:lnTo>
                    <a:pt x="810" y="3475"/>
                  </a:lnTo>
                  <a:lnTo>
                    <a:pt x="694" y="3359"/>
                  </a:lnTo>
                  <a:lnTo>
                    <a:pt x="694" y="3359"/>
                  </a:lnTo>
                  <a:lnTo>
                    <a:pt x="694" y="3243"/>
                  </a:lnTo>
                  <a:lnTo>
                    <a:pt x="810" y="3127"/>
                  </a:lnTo>
                  <a:lnTo>
                    <a:pt x="810" y="3011"/>
                  </a:lnTo>
                  <a:lnTo>
                    <a:pt x="926" y="2896"/>
                  </a:lnTo>
                  <a:lnTo>
                    <a:pt x="1041" y="2780"/>
                  </a:lnTo>
                  <a:lnTo>
                    <a:pt x="1157" y="2664"/>
                  </a:lnTo>
                  <a:lnTo>
                    <a:pt x="1273" y="2548"/>
                  </a:lnTo>
                  <a:lnTo>
                    <a:pt x="1273" y="2432"/>
                  </a:lnTo>
                  <a:lnTo>
                    <a:pt x="1273" y="2432"/>
                  </a:lnTo>
                  <a:lnTo>
                    <a:pt x="1389" y="2085"/>
                  </a:lnTo>
                  <a:lnTo>
                    <a:pt x="1389" y="1853"/>
                  </a:lnTo>
                  <a:lnTo>
                    <a:pt x="1273" y="1506"/>
                  </a:lnTo>
                  <a:lnTo>
                    <a:pt x="1157" y="1274"/>
                  </a:lnTo>
                  <a:lnTo>
                    <a:pt x="1041" y="1043"/>
                  </a:lnTo>
                  <a:lnTo>
                    <a:pt x="810" y="811"/>
                  </a:lnTo>
                  <a:lnTo>
                    <a:pt x="579" y="579"/>
                  </a:lnTo>
                  <a:lnTo>
                    <a:pt x="347" y="348"/>
                  </a:lnTo>
                  <a:lnTo>
                    <a:pt x="347" y="348"/>
                  </a:lnTo>
                  <a:lnTo>
                    <a:pt x="347" y="464"/>
                  </a:lnTo>
                  <a:lnTo>
                    <a:pt x="231" y="464"/>
                  </a:lnTo>
                  <a:lnTo>
                    <a:pt x="116" y="348"/>
                  </a:lnTo>
                  <a:lnTo>
                    <a:pt x="116" y="348"/>
                  </a:lnTo>
                  <a:lnTo>
                    <a:pt x="0" y="348"/>
                  </a:lnTo>
                  <a:lnTo>
                    <a:pt x="0" y="232"/>
                  </a:lnTo>
                  <a:lnTo>
                    <a:pt x="0" y="232"/>
                  </a:lnTo>
                  <a:lnTo>
                    <a:pt x="0" y="116"/>
                  </a:lnTo>
                  <a:lnTo>
                    <a:pt x="0" y="116"/>
                  </a:lnTo>
                  <a:lnTo>
                    <a:pt x="0" y="0"/>
                  </a:lnTo>
                  <a:lnTo>
                    <a:pt x="0" y="0"/>
                  </a:lnTo>
                  <a:lnTo>
                    <a:pt x="0" y="0"/>
                  </a:lnTo>
                  <a:lnTo>
                    <a:pt x="0" y="0"/>
                  </a:lnTo>
                  <a:lnTo>
                    <a:pt x="116" y="0"/>
                  </a:lnTo>
                  <a:lnTo>
                    <a:pt x="116" y="0"/>
                  </a:lnTo>
                  <a:lnTo>
                    <a:pt x="116" y="0"/>
                  </a:lnTo>
                  <a:lnTo>
                    <a:pt x="116" y="0"/>
                  </a:lnTo>
                  <a:lnTo>
                    <a:pt x="116" y="0"/>
                  </a:lnTo>
                  <a:lnTo>
                    <a:pt x="463" y="0"/>
                  </a:lnTo>
                  <a:lnTo>
                    <a:pt x="694" y="116"/>
                  </a:lnTo>
                  <a:lnTo>
                    <a:pt x="926" y="348"/>
                  </a:lnTo>
                  <a:lnTo>
                    <a:pt x="1041" y="464"/>
                  </a:lnTo>
                  <a:lnTo>
                    <a:pt x="1273" y="695"/>
                  </a:lnTo>
                  <a:lnTo>
                    <a:pt x="1389" y="927"/>
                  </a:lnTo>
                  <a:lnTo>
                    <a:pt x="1504" y="1158"/>
                  </a:lnTo>
                  <a:lnTo>
                    <a:pt x="1620" y="1390"/>
                  </a:lnTo>
                  <a:lnTo>
                    <a:pt x="1620" y="1390"/>
                  </a:lnTo>
                  <a:lnTo>
                    <a:pt x="1620" y="1390"/>
                  </a:lnTo>
                  <a:lnTo>
                    <a:pt x="1620" y="1390"/>
                  </a:lnTo>
                  <a:lnTo>
                    <a:pt x="1620"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493640" y="3025800"/>
              <a:ext cx="74160" cy="192600"/>
            </a:xfrm>
            <a:custGeom>
              <a:avLst/>
              <a:gdLst/>
              <a:ahLst/>
              <a:rect l="l" t="t" r="r" b="b"/>
              <a:pathLst>
                <a:path w="2083" h="3590">
                  <a:moveTo>
                    <a:pt x="2083" y="1390"/>
                  </a:moveTo>
                  <a:lnTo>
                    <a:pt x="2083" y="1737"/>
                  </a:lnTo>
                  <a:lnTo>
                    <a:pt x="2083" y="1969"/>
                  </a:lnTo>
                  <a:lnTo>
                    <a:pt x="2083" y="2200"/>
                  </a:lnTo>
                  <a:lnTo>
                    <a:pt x="2083" y="2548"/>
                  </a:lnTo>
                  <a:lnTo>
                    <a:pt x="1967" y="2779"/>
                  </a:lnTo>
                  <a:lnTo>
                    <a:pt x="1967" y="3011"/>
                  </a:lnTo>
                  <a:lnTo>
                    <a:pt x="1852" y="3243"/>
                  </a:lnTo>
                  <a:lnTo>
                    <a:pt x="1620" y="3474"/>
                  </a:lnTo>
                  <a:lnTo>
                    <a:pt x="1620" y="3474"/>
                  </a:lnTo>
                  <a:lnTo>
                    <a:pt x="1620" y="3474"/>
                  </a:lnTo>
                  <a:lnTo>
                    <a:pt x="1504" y="3474"/>
                  </a:lnTo>
                  <a:lnTo>
                    <a:pt x="1389" y="3474"/>
                  </a:lnTo>
                  <a:lnTo>
                    <a:pt x="1273" y="3590"/>
                  </a:lnTo>
                  <a:lnTo>
                    <a:pt x="1273" y="3590"/>
                  </a:lnTo>
                  <a:lnTo>
                    <a:pt x="1157" y="3590"/>
                  </a:lnTo>
                  <a:lnTo>
                    <a:pt x="1041" y="3590"/>
                  </a:lnTo>
                  <a:lnTo>
                    <a:pt x="1041" y="3474"/>
                  </a:lnTo>
                  <a:lnTo>
                    <a:pt x="1041" y="3474"/>
                  </a:lnTo>
                  <a:lnTo>
                    <a:pt x="1157" y="3358"/>
                  </a:lnTo>
                  <a:lnTo>
                    <a:pt x="1273" y="3243"/>
                  </a:lnTo>
                  <a:lnTo>
                    <a:pt x="1389" y="3011"/>
                  </a:lnTo>
                  <a:lnTo>
                    <a:pt x="1504" y="2895"/>
                  </a:lnTo>
                  <a:lnTo>
                    <a:pt x="1504" y="2664"/>
                  </a:lnTo>
                  <a:lnTo>
                    <a:pt x="1620" y="2432"/>
                  </a:lnTo>
                  <a:lnTo>
                    <a:pt x="1620" y="2200"/>
                  </a:lnTo>
                  <a:lnTo>
                    <a:pt x="1620" y="1969"/>
                  </a:lnTo>
                  <a:lnTo>
                    <a:pt x="1620" y="1969"/>
                  </a:lnTo>
                  <a:lnTo>
                    <a:pt x="1620" y="1853"/>
                  </a:lnTo>
                  <a:lnTo>
                    <a:pt x="1620" y="1621"/>
                  </a:lnTo>
                  <a:lnTo>
                    <a:pt x="1504" y="1390"/>
                  </a:lnTo>
                  <a:lnTo>
                    <a:pt x="1389" y="1274"/>
                  </a:lnTo>
                  <a:lnTo>
                    <a:pt x="1273" y="1042"/>
                  </a:lnTo>
                  <a:lnTo>
                    <a:pt x="1157" y="811"/>
                  </a:lnTo>
                  <a:lnTo>
                    <a:pt x="1041" y="695"/>
                  </a:lnTo>
                  <a:lnTo>
                    <a:pt x="810" y="463"/>
                  </a:lnTo>
                  <a:lnTo>
                    <a:pt x="810" y="463"/>
                  </a:lnTo>
                  <a:lnTo>
                    <a:pt x="694" y="463"/>
                  </a:lnTo>
                  <a:lnTo>
                    <a:pt x="579" y="347"/>
                  </a:lnTo>
                  <a:lnTo>
                    <a:pt x="463" y="347"/>
                  </a:lnTo>
                  <a:lnTo>
                    <a:pt x="347" y="463"/>
                  </a:lnTo>
                  <a:lnTo>
                    <a:pt x="231" y="463"/>
                  </a:lnTo>
                  <a:lnTo>
                    <a:pt x="116" y="347"/>
                  </a:lnTo>
                  <a:lnTo>
                    <a:pt x="0" y="347"/>
                  </a:lnTo>
                  <a:lnTo>
                    <a:pt x="0" y="116"/>
                  </a:lnTo>
                  <a:lnTo>
                    <a:pt x="0" y="116"/>
                  </a:lnTo>
                  <a:lnTo>
                    <a:pt x="347" y="0"/>
                  </a:lnTo>
                  <a:lnTo>
                    <a:pt x="579" y="0"/>
                  </a:lnTo>
                  <a:lnTo>
                    <a:pt x="926" y="116"/>
                  </a:lnTo>
                  <a:lnTo>
                    <a:pt x="1157" y="347"/>
                  </a:lnTo>
                  <a:lnTo>
                    <a:pt x="1389" y="579"/>
                  </a:lnTo>
                  <a:lnTo>
                    <a:pt x="1620" y="811"/>
                  </a:lnTo>
                  <a:lnTo>
                    <a:pt x="1852" y="1158"/>
                  </a:lnTo>
                  <a:lnTo>
                    <a:pt x="2083" y="1390"/>
                  </a:lnTo>
                  <a:lnTo>
                    <a:pt x="2083" y="1390"/>
                  </a:lnTo>
                  <a:lnTo>
                    <a:pt x="2083" y="1390"/>
                  </a:lnTo>
                  <a:lnTo>
                    <a:pt x="2083" y="1390"/>
                  </a:lnTo>
                  <a:lnTo>
                    <a:pt x="2083" y="13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559880" y="3032280"/>
              <a:ext cx="70200" cy="173880"/>
            </a:xfrm>
            <a:custGeom>
              <a:avLst/>
              <a:gdLst/>
              <a:ahLst/>
              <a:rect l="l" t="t" r="r" b="b"/>
              <a:pathLst>
                <a:path w="1967" h="3242">
                  <a:moveTo>
                    <a:pt x="1388" y="463"/>
                  </a:moveTo>
                  <a:lnTo>
                    <a:pt x="1620" y="695"/>
                  </a:lnTo>
                  <a:lnTo>
                    <a:pt x="1736" y="810"/>
                  </a:lnTo>
                  <a:lnTo>
                    <a:pt x="1851" y="1042"/>
                  </a:lnTo>
                  <a:lnTo>
                    <a:pt x="1967" y="1274"/>
                  </a:lnTo>
                  <a:lnTo>
                    <a:pt x="1967" y="1621"/>
                  </a:lnTo>
                  <a:lnTo>
                    <a:pt x="1967" y="1853"/>
                  </a:lnTo>
                  <a:lnTo>
                    <a:pt x="1967" y="2084"/>
                  </a:lnTo>
                  <a:lnTo>
                    <a:pt x="1967" y="2316"/>
                  </a:lnTo>
                  <a:lnTo>
                    <a:pt x="1967" y="2316"/>
                  </a:lnTo>
                  <a:lnTo>
                    <a:pt x="1851" y="2548"/>
                  </a:lnTo>
                  <a:lnTo>
                    <a:pt x="1851" y="2663"/>
                  </a:lnTo>
                  <a:lnTo>
                    <a:pt x="1736" y="2779"/>
                  </a:lnTo>
                  <a:lnTo>
                    <a:pt x="1620" y="2895"/>
                  </a:lnTo>
                  <a:lnTo>
                    <a:pt x="1620" y="3011"/>
                  </a:lnTo>
                  <a:lnTo>
                    <a:pt x="1504" y="3127"/>
                  </a:lnTo>
                  <a:lnTo>
                    <a:pt x="1388" y="3242"/>
                  </a:lnTo>
                  <a:lnTo>
                    <a:pt x="1273" y="3242"/>
                  </a:lnTo>
                  <a:lnTo>
                    <a:pt x="1273" y="3242"/>
                  </a:lnTo>
                  <a:lnTo>
                    <a:pt x="1273" y="3011"/>
                  </a:lnTo>
                  <a:lnTo>
                    <a:pt x="1388" y="2663"/>
                  </a:lnTo>
                  <a:lnTo>
                    <a:pt x="1504" y="2316"/>
                  </a:lnTo>
                  <a:lnTo>
                    <a:pt x="1620" y="1969"/>
                  </a:lnTo>
                  <a:lnTo>
                    <a:pt x="1620" y="1621"/>
                  </a:lnTo>
                  <a:lnTo>
                    <a:pt x="1620" y="1274"/>
                  </a:lnTo>
                  <a:lnTo>
                    <a:pt x="1504" y="926"/>
                  </a:lnTo>
                  <a:lnTo>
                    <a:pt x="1273" y="695"/>
                  </a:lnTo>
                  <a:lnTo>
                    <a:pt x="1273" y="695"/>
                  </a:lnTo>
                  <a:lnTo>
                    <a:pt x="1157" y="579"/>
                  </a:lnTo>
                  <a:lnTo>
                    <a:pt x="925" y="579"/>
                  </a:lnTo>
                  <a:lnTo>
                    <a:pt x="810" y="463"/>
                  </a:lnTo>
                  <a:lnTo>
                    <a:pt x="578" y="463"/>
                  </a:lnTo>
                  <a:lnTo>
                    <a:pt x="463" y="463"/>
                  </a:lnTo>
                  <a:lnTo>
                    <a:pt x="231" y="463"/>
                  </a:lnTo>
                  <a:lnTo>
                    <a:pt x="115" y="347"/>
                  </a:lnTo>
                  <a:lnTo>
                    <a:pt x="0" y="231"/>
                  </a:lnTo>
                  <a:lnTo>
                    <a:pt x="0" y="231"/>
                  </a:lnTo>
                  <a:lnTo>
                    <a:pt x="231" y="116"/>
                  </a:lnTo>
                  <a:lnTo>
                    <a:pt x="347" y="0"/>
                  </a:lnTo>
                  <a:lnTo>
                    <a:pt x="578" y="0"/>
                  </a:lnTo>
                  <a:lnTo>
                    <a:pt x="810" y="0"/>
                  </a:lnTo>
                  <a:lnTo>
                    <a:pt x="925" y="116"/>
                  </a:lnTo>
                  <a:lnTo>
                    <a:pt x="1157" y="231"/>
                  </a:lnTo>
                  <a:lnTo>
                    <a:pt x="1273" y="347"/>
                  </a:lnTo>
                  <a:lnTo>
                    <a:pt x="1388" y="463"/>
                  </a:lnTo>
                  <a:lnTo>
                    <a:pt x="1388" y="463"/>
                  </a:lnTo>
                  <a:lnTo>
                    <a:pt x="1388" y="463"/>
                  </a:lnTo>
                  <a:lnTo>
                    <a:pt x="1388" y="463"/>
                  </a:lnTo>
                  <a:lnTo>
                    <a:pt x="138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42320" y="3069360"/>
              <a:ext cx="53640" cy="167760"/>
            </a:xfrm>
            <a:custGeom>
              <a:avLst/>
              <a:gdLst/>
              <a:ahLst/>
              <a:rect l="l" t="t" r="r" b="b"/>
              <a:pathLst>
                <a:path w="1505" h="3127">
                  <a:moveTo>
                    <a:pt x="1505" y="1158"/>
                  </a:moveTo>
                  <a:lnTo>
                    <a:pt x="1505" y="1389"/>
                  </a:lnTo>
                  <a:lnTo>
                    <a:pt x="1505" y="1737"/>
                  </a:lnTo>
                  <a:lnTo>
                    <a:pt x="1505" y="1968"/>
                  </a:lnTo>
                  <a:lnTo>
                    <a:pt x="1389" y="2316"/>
                  </a:lnTo>
                  <a:lnTo>
                    <a:pt x="1273" y="2547"/>
                  </a:lnTo>
                  <a:lnTo>
                    <a:pt x="1158" y="2779"/>
                  </a:lnTo>
                  <a:lnTo>
                    <a:pt x="926" y="2895"/>
                  </a:lnTo>
                  <a:lnTo>
                    <a:pt x="695" y="3127"/>
                  </a:lnTo>
                  <a:lnTo>
                    <a:pt x="695" y="3127"/>
                  </a:lnTo>
                  <a:lnTo>
                    <a:pt x="695" y="3127"/>
                  </a:lnTo>
                  <a:lnTo>
                    <a:pt x="695" y="3127"/>
                  </a:lnTo>
                  <a:lnTo>
                    <a:pt x="695" y="2895"/>
                  </a:lnTo>
                  <a:lnTo>
                    <a:pt x="695" y="2779"/>
                  </a:lnTo>
                  <a:lnTo>
                    <a:pt x="810" y="2663"/>
                  </a:lnTo>
                  <a:lnTo>
                    <a:pt x="810" y="2432"/>
                  </a:lnTo>
                  <a:lnTo>
                    <a:pt x="926" y="2316"/>
                  </a:lnTo>
                  <a:lnTo>
                    <a:pt x="926" y="2200"/>
                  </a:lnTo>
                  <a:lnTo>
                    <a:pt x="1042" y="1968"/>
                  </a:lnTo>
                  <a:lnTo>
                    <a:pt x="1042" y="1737"/>
                  </a:lnTo>
                  <a:lnTo>
                    <a:pt x="1042" y="1737"/>
                  </a:lnTo>
                  <a:lnTo>
                    <a:pt x="1042" y="1621"/>
                  </a:lnTo>
                  <a:lnTo>
                    <a:pt x="1042" y="1389"/>
                  </a:lnTo>
                  <a:lnTo>
                    <a:pt x="926" y="1158"/>
                  </a:lnTo>
                  <a:lnTo>
                    <a:pt x="926" y="926"/>
                  </a:lnTo>
                  <a:lnTo>
                    <a:pt x="926" y="810"/>
                  </a:lnTo>
                  <a:lnTo>
                    <a:pt x="810" y="695"/>
                  </a:lnTo>
                  <a:lnTo>
                    <a:pt x="579" y="463"/>
                  </a:lnTo>
                  <a:lnTo>
                    <a:pt x="463" y="347"/>
                  </a:lnTo>
                  <a:lnTo>
                    <a:pt x="463" y="347"/>
                  </a:lnTo>
                  <a:lnTo>
                    <a:pt x="347" y="347"/>
                  </a:lnTo>
                  <a:lnTo>
                    <a:pt x="232" y="347"/>
                  </a:lnTo>
                  <a:lnTo>
                    <a:pt x="232" y="347"/>
                  </a:lnTo>
                  <a:lnTo>
                    <a:pt x="116" y="347"/>
                  </a:lnTo>
                  <a:lnTo>
                    <a:pt x="116" y="347"/>
                  </a:lnTo>
                  <a:lnTo>
                    <a:pt x="0" y="347"/>
                  </a:lnTo>
                  <a:lnTo>
                    <a:pt x="0" y="347"/>
                  </a:lnTo>
                  <a:lnTo>
                    <a:pt x="0" y="231"/>
                  </a:lnTo>
                  <a:lnTo>
                    <a:pt x="0" y="231"/>
                  </a:lnTo>
                  <a:lnTo>
                    <a:pt x="0" y="115"/>
                  </a:lnTo>
                  <a:lnTo>
                    <a:pt x="0" y="115"/>
                  </a:lnTo>
                  <a:lnTo>
                    <a:pt x="0" y="115"/>
                  </a:lnTo>
                  <a:lnTo>
                    <a:pt x="0" y="115"/>
                  </a:lnTo>
                  <a:lnTo>
                    <a:pt x="116" y="115"/>
                  </a:lnTo>
                  <a:lnTo>
                    <a:pt x="116" y="115"/>
                  </a:lnTo>
                  <a:lnTo>
                    <a:pt x="116" y="115"/>
                  </a:lnTo>
                  <a:lnTo>
                    <a:pt x="232" y="0"/>
                  </a:lnTo>
                  <a:lnTo>
                    <a:pt x="232" y="0"/>
                  </a:lnTo>
                  <a:lnTo>
                    <a:pt x="463" y="0"/>
                  </a:lnTo>
                  <a:lnTo>
                    <a:pt x="695" y="115"/>
                  </a:lnTo>
                  <a:lnTo>
                    <a:pt x="926" y="231"/>
                  </a:lnTo>
                  <a:lnTo>
                    <a:pt x="1042" y="347"/>
                  </a:lnTo>
                  <a:lnTo>
                    <a:pt x="1158" y="579"/>
                  </a:lnTo>
                  <a:lnTo>
                    <a:pt x="1273" y="695"/>
                  </a:lnTo>
                  <a:lnTo>
                    <a:pt x="1389" y="926"/>
                  </a:lnTo>
                  <a:lnTo>
                    <a:pt x="1505" y="1158"/>
                  </a:lnTo>
                  <a:lnTo>
                    <a:pt x="1505" y="1158"/>
                  </a:lnTo>
                  <a:lnTo>
                    <a:pt x="1505" y="1158"/>
                  </a:lnTo>
                  <a:lnTo>
                    <a:pt x="1505" y="1158"/>
                  </a:lnTo>
                  <a:lnTo>
                    <a:pt x="1505"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091880" y="3088080"/>
              <a:ext cx="852480" cy="1181160"/>
            </a:xfrm>
            <a:custGeom>
              <a:avLst/>
              <a:gdLst/>
              <a:ahLst/>
              <a:rect l="l" t="t" r="r" b="b"/>
              <a:pathLst>
                <a:path w="23841" h="22004">
                  <a:moveTo>
                    <a:pt x="4050" y="116"/>
                  </a:moveTo>
                  <a:lnTo>
                    <a:pt x="4050" y="232"/>
                  </a:lnTo>
                  <a:lnTo>
                    <a:pt x="3935" y="348"/>
                  </a:lnTo>
                  <a:lnTo>
                    <a:pt x="3935" y="463"/>
                  </a:lnTo>
                  <a:lnTo>
                    <a:pt x="3935" y="579"/>
                  </a:lnTo>
                  <a:lnTo>
                    <a:pt x="3935" y="695"/>
                  </a:lnTo>
                  <a:lnTo>
                    <a:pt x="3935" y="811"/>
                  </a:lnTo>
                  <a:lnTo>
                    <a:pt x="4050" y="927"/>
                  </a:lnTo>
                  <a:lnTo>
                    <a:pt x="4050" y="1042"/>
                  </a:lnTo>
                  <a:lnTo>
                    <a:pt x="4050" y="1042"/>
                  </a:lnTo>
                  <a:lnTo>
                    <a:pt x="4166" y="1158"/>
                  </a:lnTo>
                  <a:lnTo>
                    <a:pt x="4166" y="1274"/>
                  </a:lnTo>
                  <a:lnTo>
                    <a:pt x="4282" y="1274"/>
                  </a:lnTo>
                  <a:lnTo>
                    <a:pt x="4398" y="1274"/>
                  </a:lnTo>
                  <a:lnTo>
                    <a:pt x="4398" y="1274"/>
                  </a:lnTo>
                  <a:lnTo>
                    <a:pt x="4513" y="1274"/>
                  </a:lnTo>
                  <a:lnTo>
                    <a:pt x="4629" y="1274"/>
                  </a:lnTo>
                  <a:lnTo>
                    <a:pt x="4745" y="1274"/>
                  </a:lnTo>
                  <a:lnTo>
                    <a:pt x="4745" y="1274"/>
                  </a:lnTo>
                  <a:lnTo>
                    <a:pt x="4861" y="1158"/>
                  </a:lnTo>
                  <a:lnTo>
                    <a:pt x="4976" y="1042"/>
                  </a:lnTo>
                  <a:lnTo>
                    <a:pt x="5092" y="927"/>
                  </a:lnTo>
                  <a:lnTo>
                    <a:pt x="5208" y="695"/>
                  </a:lnTo>
                  <a:lnTo>
                    <a:pt x="5324" y="579"/>
                  </a:lnTo>
                  <a:lnTo>
                    <a:pt x="5439" y="463"/>
                  </a:lnTo>
                  <a:lnTo>
                    <a:pt x="5439" y="348"/>
                  </a:lnTo>
                  <a:lnTo>
                    <a:pt x="5439" y="116"/>
                  </a:lnTo>
                  <a:lnTo>
                    <a:pt x="5439" y="116"/>
                  </a:lnTo>
                  <a:lnTo>
                    <a:pt x="5786" y="232"/>
                  </a:lnTo>
                  <a:lnTo>
                    <a:pt x="5786" y="232"/>
                  </a:lnTo>
                  <a:lnTo>
                    <a:pt x="5671" y="348"/>
                  </a:lnTo>
                  <a:lnTo>
                    <a:pt x="5439" y="463"/>
                  </a:lnTo>
                  <a:lnTo>
                    <a:pt x="5439" y="579"/>
                  </a:lnTo>
                  <a:lnTo>
                    <a:pt x="5324" y="811"/>
                  </a:lnTo>
                  <a:lnTo>
                    <a:pt x="5324" y="927"/>
                  </a:lnTo>
                  <a:lnTo>
                    <a:pt x="5324" y="1158"/>
                  </a:lnTo>
                  <a:lnTo>
                    <a:pt x="5439" y="1390"/>
                  </a:lnTo>
                  <a:lnTo>
                    <a:pt x="5439" y="1506"/>
                  </a:lnTo>
                  <a:lnTo>
                    <a:pt x="5439" y="1506"/>
                  </a:lnTo>
                  <a:lnTo>
                    <a:pt x="5555" y="1737"/>
                  </a:lnTo>
                  <a:lnTo>
                    <a:pt x="5671" y="1737"/>
                  </a:lnTo>
                  <a:lnTo>
                    <a:pt x="5786" y="1853"/>
                  </a:lnTo>
                  <a:lnTo>
                    <a:pt x="5902" y="1853"/>
                  </a:lnTo>
                  <a:lnTo>
                    <a:pt x="6018" y="1853"/>
                  </a:lnTo>
                  <a:lnTo>
                    <a:pt x="6249" y="1853"/>
                  </a:lnTo>
                  <a:lnTo>
                    <a:pt x="6365" y="1853"/>
                  </a:lnTo>
                  <a:lnTo>
                    <a:pt x="6481" y="1737"/>
                  </a:lnTo>
                  <a:lnTo>
                    <a:pt x="6481" y="1737"/>
                  </a:lnTo>
                  <a:lnTo>
                    <a:pt x="6712" y="1737"/>
                  </a:lnTo>
                  <a:lnTo>
                    <a:pt x="6828" y="1621"/>
                  </a:lnTo>
                  <a:lnTo>
                    <a:pt x="6944" y="1390"/>
                  </a:lnTo>
                  <a:lnTo>
                    <a:pt x="7060" y="1274"/>
                  </a:lnTo>
                  <a:lnTo>
                    <a:pt x="7175" y="1042"/>
                  </a:lnTo>
                  <a:lnTo>
                    <a:pt x="7291" y="927"/>
                  </a:lnTo>
                  <a:lnTo>
                    <a:pt x="7291" y="695"/>
                  </a:lnTo>
                  <a:lnTo>
                    <a:pt x="7522" y="579"/>
                  </a:lnTo>
                  <a:lnTo>
                    <a:pt x="7522" y="579"/>
                  </a:lnTo>
                  <a:lnTo>
                    <a:pt x="7522" y="579"/>
                  </a:lnTo>
                  <a:lnTo>
                    <a:pt x="7522" y="579"/>
                  </a:lnTo>
                  <a:lnTo>
                    <a:pt x="7522" y="579"/>
                  </a:lnTo>
                  <a:lnTo>
                    <a:pt x="7638" y="695"/>
                  </a:lnTo>
                  <a:lnTo>
                    <a:pt x="7638" y="695"/>
                  </a:lnTo>
                  <a:lnTo>
                    <a:pt x="7638" y="695"/>
                  </a:lnTo>
                  <a:lnTo>
                    <a:pt x="7754" y="695"/>
                  </a:lnTo>
                  <a:lnTo>
                    <a:pt x="7754" y="695"/>
                  </a:lnTo>
                  <a:lnTo>
                    <a:pt x="7754" y="695"/>
                  </a:lnTo>
                  <a:lnTo>
                    <a:pt x="7638" y="695"/>
                  </a:lnTo>
                  <a:lnTo>
                    <a:pt x="7522" y="811"/>
                  </a:lnTo>
                  <a:lnTo>
                    <a:pt x="7407" y="1042"/>
                  </a:lnTo>
                  <a:lnTo>
                    <a:pt x="7407" y="1158"/>
                  </a:lnTo>
                  <a:lnTo>
                    <a:pt x="7291" y="1274"/>
                  </a:lnTo>
                  <a:lnTo>
                    <a:pt x="7291" y="1390"/>
                  </a:lnTo>
                  <a:lnTo>
                    <a:pt x="7291" y="1506"/>
                  </a:lnTo>
                  <a:lnTo>
                    <a:pt x="7291" y="1621"/>
                  </a:lnTo>
                  <a:lnTo>
                    <a:pt x="7291" y="1621"/>
                  </a:lnTo>
                  <a:lnTo>
                    <a:pt x="7407" y="1737"/>
                  </a:lnTo>
                  <a:lnTo>
                    <a:pt x="7407" y="1969"/>
                  </a:lnTo>
                  <a:lnTo>
                    <a:pt x="7407" y="2085"/>
                  </a:lnTo>
                  <a:lnTo>
                    <a:pt x="7522" y="2200"/>
                  </a:lnTo>
                  <a:lnTo>
                    <a:pt x="7522" y="2316"/>
                  </a:lnTo>
                  <a:lnTo>
                    <a:pt x="7638" y="2316"/>
                  </a:lnTo>
                  <a:lnTo>
                    <a:pt x="7754" y="2432"/>
                  </a:lnTo>
                  <a:lnTo>
                    <a:pt x="7870" y="2432"/>
                  </a:lnTo>
                  <a:lnTo>
                    <a:pt x="7870" y="2432"/>
                  </a:lnTo>
                  <a:lnTo>
                    <a:pt x="8101" y="2432"/>
                  </a:lnTo>
                  <a:lnTo>
                    <a:pt x="8217" y="2432"/>
                  </a:lnTo>
                  <a:lnTo>
                    <a:pt x="8333" y="2316"/>
                  </a:lnTo>
                  <a:lnTo>
                    <a:pt x="8448" y="2200"/>
                  </a:lnTo>
                  <a:lnTo>
                    <a:pt x="8564" y="2200"/>
                  </a:lnTo>
                  <a:lnTo>
                    <a:pt x="8564" y="2085"/>
                  </a:lnTo>
                  <a:lnTo>
                    <a:pt x="8680" y="1969"/>
                  </a:lnTo>
                  <a:lnTo>
                    <a:pt x="8911" y="1969"/>
                  </a:lnTo>
                  <a:lnTo>
                    <a:pt x="8911" y="1969"/>
                  </a:lnTo>
                  <a:lnTo>
                    <a:pt x="8911" y="1853"/>
                  </a:lnTo>
                  <a:lnTo>
                    <a:pt x="8911" y="1737"/>
                  </a:lnTo>
                  <a:lnTo>
                    <a:pt x="9027" y="1737"/>
                  </a:lnTo>
                  <a:lnTo>
                    <a:pt x="9143" y="1621"/>
                  </a:lnTo>
                  <a:lnTo>
                    <a:pt x="9258" y="1506"/>
                  </a:lnTo>
                  <a:lnTo>
                    <a:pt x="9374" y="1390"/>
                  </a:lnTo>
                  <a:lnTo>
                    <a:pt x="9374" y="1274"/>
                  </a:lnTo>
                  <a:lnTo>
                    <a:pt x="9490" y="1158"/>
                  </a:lnTo>
                  <a:lnTo>
                    <a:pt x="9490" y="1158"/>
                  </a:lnTo>
                  <a:lnTo>
                    <a:pt x="9837" y="1274"/>
                  </a:lnTo>
                  <a:lnTo>
                    <a:pt x="9837" y="1274"/>
                  </a:lnTo>
                  <a:lnTo>
                    <a:pt x="9837" y="1390"/>
                  </a:lnTo>
                  <a:lnTo>
                    <a:pt x="9721" y="1621"/>
                  </a:lnTo>
                  <a:lnTo>
                    <a:pt x="9721" y="1853"/>
                  </a:lnTo>
                  <a:lnTo>
                    <a:pt x="9606" y="2085"/>
                  </a:lnTo>
                  <a:lnTo>
                    <a:pt x="9606" y="2200"/>
                  </a:lnTo>
                  <a:lnTo>
                    <a:pt x="9721" y="2432"/>
                  </a:lnTo>
                  <a:lnTo>
                    <a:pt x="9721" y="2664"/>
                  </a:lnTo>
                  <a:lnTo>
                    <a:pt x="9953" y="2780"/>
                  </a:lnTo>
                  <a:lnTo>
                    <a:pt x="9953" y="2780"/>
                  </a:lnTo>
                  <a:lnTo>
                    <a:pt x="10069" y="2780"/>
                  </a:lnTo>
                  <a:lnTo>
                    <a:pt x="10184" y="2780"/>
                  </a:lnTo>
                  <a:lnTo>
                    <a:pt x="10300" y="2780"/>
                  </a:lnTo>
                  <a:lnTo>
                    <a:pt x="10531" y="2780"/>
                  </a:lnTo>
                  <a:lnTo>
                    <a:pt x="10647" y="2780"/>
                  </a:lnTo>
                  <a:lnTo>
                    <a:pt x="10763" y="2664"/>
                  </a:lnTo>
                  <a:lnTo>
                    <a:pt x="10763" y="2548"/>
                  </a:lnTo>
                  <a:lnTo>
                    <a:pt x="10879" y="2432"/>
                  </a:lnTo>
                  <a:lnTo>
                    <a:pt x="10879" y="2432"/>
                  </a:lnTo>
                  <a:lnTo>
                    <a:pt x="10763" y="2432"/>
                  </a:lnTo>
                  <a:lnTo>
                    <a:pt x="10763" y="2432"/>
                  </a:lnTo>
                  <a:lnTo>
                    <a:pt x="10994" y="2316"/>
                  </a:lnTo>
                  <a:lnTo>
                    <a:pt x="11110" y="2200"/>
                  </a:lnTo>
                  <a:lnTo>
                    <a:pt x="11226" y="1969"/>
                  </a:lnTo>
                  <a:lnTo>
                    <a:pt x="11342" y="1737"/>
                  </a:lnTo>
                  <a:lnTo>
                    <a:pt x="11457" y="1506"/>
                  </a:lnTo>
                  <a:lnTo>
                    <a:pt x="11689" y="1506"/>
                  </a:lnTo>
                  <a:lnTo>
                    <a:pt x="11805" y="1506"/>
                  </a:lnTo>
                  <a:lnTo>
                    <a:pt x="12036" y="1621"/>
                  </a:lnTo>
                  <a:lnTo>
                    <a:pt x="12036" y="1621"/>
                  </a:lnTo>
                  <a:lnTo>
                    <a:pt x="12036" y="1737"/>
                  </a:lnTo>
                  <a:lnTo>
                    <a:pt x="11920" y="1969"/>
                  </a:lnTo>
                  <a:lnTo>
                    <a:pt x="11920" y="2085"/>
                  </a:lnTo>
                  <a:lnTo>
                    <a:pt x="11805" y="2200"/>
                  </a:lnTo>
                  <a:lnTo>
                    <a:pt x="11805" y="2432"/>
                  </a:lnTo>
                  <a:lnTo>
                    <a:pt x="11805" y="2548"/>
                  </a:lnTo>
                  <a:lnTo>
                    <a:pt x="11920" y="2780"/>
                  </a:lnTo>
                  <a:lnTo>
                    <a:pt x="12036" y="2895"/>
                  </a:lnTo>
                  <a:lnTo>
                    <a:pt x="12036" y="2895"/>
                  </a:lnTo>
                  <a:lnTo>
                    <a:pt x="12152" y="3011"/>
                  </a:lnTo>
                  <a:lnTo>
                    <a:pt x="12267" y="3127"/>
                  </a:lnTo>
                  <a:lnTo>
                    <a:pt x="12383" y="3127"/>
                  </a:lnTo>
                  <a:lnTo>
                    <a:pt x="12499" y="3127"/>
                  </a:lnTo>
                  <a:lnTo>
                    <a:pt x="12615" y="3127"/>
                  </a:lnTo>
                  <a:lnTo>
                    <a:pt x="12730" y="3127"/>
                  </a:lnTo>
                  <a:lnTo>
                    <a:pt x="12846" y="3011"/>
                  </a:lnTo>
                  <a:lnTo>
                    <a:pt x="12962" y="3011"/>
                  </a:lnTo>
                  <a:lnTo>
                    <a:pt x="12962" y="3011"/>
                  </a:lnTo>
                  <a:lnTo>
                    <a:pt x="12846" y="2780"/>
                  </a:lnTo>
                  <a:lnTo>
                    <a:pt x="12962" y="2664"/>
                  </a:lnTo>
                  <a:lnTo>
                    <a:pt x="13078" y="2548"/>
                  </a:lnTo>
                  <a:lnTo>
                    <a:pt x="13193" y="2432"/>
                  </a:lnTo>
                  <a:lnTo>
                    <a:pt x="13309" y="2316"/>
                  </a:lnTo>
                  <a:lnTo>
                    <a:pt x="13425" y="2200"/>
                  </a:lnTo>
                  <a:lnTo>
                    <a:pt x="13541" y="2085"/>
                  </a:lnTo>
                  <a:lnTo>
                    <a:pt x="13656" y="1969"/>
                  </a:lnTo>
                  <a:lnTo>
                    <a:pt x="13656" y="1969"/>
                  </a:lnTo>
                  <a:lnTo>
                    <a:pt x="13772" y="1969"/>
                  </a:lnTo>
                  <a:lnTo>
                    <a:pt x="13772" y="1969"/>
                  </a:lnTo>
                  <a:lnTo>
                    <a:pt x="13772" y="2085"/>
                  </a:lnTo>
                  <a:lnTo>
                    <a:pt x="13772" y="2316"/>
                  </a:lnTo>
                  <a:lnTo>
                    <a:pt x="13772" y="2432"/>
                  </a:lnTo>
                  <a:lnTo>
                    <a:pt x="13656" y="2664"/>
                  </a:lnTo>
                  <a:lnTo>
                    <a:pt x="13772" y="2780"/>
                  </a:lnTo>
                  <a:lnTo>
                    <a:pt x="13772" y="2895"/>
                  </a:lnTo>
                  <a:lnTo>
                    <a:pt x="13888" y="3127"/>
                  </a:lnTo>
                  <a:lnTo>
                    <a:pt x="14003" y="3127"/>
                  </a:lnTo>
                  <a:lnTo>
                    <a:pt x="14003" y="3127"/>
                  </a:lnTo>
                  <a:lnTo>
                    <a:pt x="14119" y="3127"/>
                  </a:lnTo>
                  <a:lnTo>
                    <a:pt x="14235" y="3127"/>
                  </a:lnTo>
                  <a:lnTo>
                    <a:pt x="14351" y="3127"/>
                  </a:lnTo>
                  <a:lnTo>
                    <a:pt x="14466" y="3127"/>
                  </a:lnTo>
                  <a:lnTo>
                    <a:pt x="14582" y="3011"/>
                  </a:lnTo>
                  <a:lnTo>
                    <a:pt x="14582" y="3011"/>
                  </a:lnTo>
                  <a:lnTo>
                    <a:pt x="14698" y="2895"/>
                  </a:lnTo>
                  <a:lnTo>
                    <a:pt x="14814" y="2780"/>
                  </a:lnTo>
                  <a:lnTo>
                    <a:pt x="14814" y="2780"/>
                  </a:lnTo>
                  <a:lnTo>
                    <a:pt x="14814" y="2664"/>
                  </a:lnTo>
                  <a:lnTo>
                    <a:pt x="14814" y="2664"/>
                  </a:lnTo>
                  <a:lnTo>
                    <a:pt x="14814" y="2548"/>
                  </a:lnTo>
                  <a:lnTo>
                    <a:pt x="14929" y="2432"/>
                  </a:lnTo>
                  <a:lnTo>
                    <a:pt x="14929" y="2316"/>
                  </a:lnTo>
                  <a:lnTo>
                    <a:pt x="15045" y="2316"/>
                  </a:lnTo>
                  <a:lnTo>
                    <a:pt x="15045" y="2200"/>
                  </a:lnTo>
                  <a:lnTo>
                    <a:pt x="15161" y="2085"/>
                  </a:lnTo>
                  <a:lnTo>
                    <a:pt x="15161" y="2085"/>
                  </a:lnTo>
                  <a:lnTo>
                    <a:pt x="15624" y="2085"/>
                  </a:lnTo>
                  <a:lnTo>
                    <a:pt x="15624" y="2085"/>
                  </a:lnTo>
                  <a:lnTo>
                    <a:pt x="15624" y="2200"/>
                  </a:lnTo>
                  <a:lnTo>
                    <a:pt x="15508" y="2432"/>
                  </a:lnTo>
                  <a:lnTo>
                    <a:pt x="15508" y="2548"/>
                  </a:lnTo>
                  <a:lnTo>
                    <a:pt x="15508" y="2664"/>
                  </a:lnTo>
                  <a:lnTo>
                    <a:pt x="15508" y="2780"/>
                  </a:lnTo>
                  <a:lnTo>
                    <a:pt x="15508" y="2895"/>
                  </a:lnTo>
                  <a:lnTo>
                    <a:pt x="15624" y="3011"/>
                  </a:lnTo>
                  <a:lnTo>
                    <a:pt x="15739" y="3127"/>
                  </a:lnTo>
                  <a:lnTo>
                    <a:pt x="15739" y="3127"/>
                  </a:lnTo>
                  <a:lnTo>
                    <a:pt x="15739" y="3243"/>
                  </a:lnTo>
                  <a:lnTo>
                    <a:pt x="15855" y="3243"/>
                  </a:lnTo>
                  <a:lnTo>
                    <a:pt x="15855" y="3243"/>
                  </a:lnTo>
                  <a:lnTo>
                    <a:pt x="15971" y="3359"/>
                  </a:lnTo>
                  <a:lnTo>
                    <a:pt x="16087" y="3359"/>
                  </a:lnTo>
                  <a:lnTo>
                    <a:pt x="16202" y="3359"/>
                  </a:lnTo>
                  <a:lnTo>
                    <a:pt x="16202" y="3359"/>
                  </a:lnTo>
                  <a:lnTo>
                    <a:pt x="16318" y="3359"/>
                  </a:lnTo>
                  <a:lnTo>
                    <a:pt x="16318" y="3359"/>
                  </a:lnTo>
                  <a:lnTo>
                    <a:pt x="16550" y="3243"/>
                  </a:lnTo>
                  <a:lnTo>
                    <a:pt x="16665" y="3011"/>
                  </a:lnTo>
                  <a:lnTo>
                    <a:pt x="16781" y="2895"/>
                  </a:lnTo>
                  <a:lnTo>
                    <a:pt x="17012" y="2664"/>
                  </a:lnTo>
                  <a:lnTo>
                    <a:pt x="17128" y="2432"/>
                  </a:lnTo>
                  <a:lnTo>
                    <a:pt x="17244" y="2316"/>
                  </a:lnTo>
                  <a:lnTo>
                    <a:pt x="17475" y="2316"/>
                  </a:lnTo>
                  <a:lnTo>
                    <a:pt x="17823" y="2432"/>
                  </a:lnTo>
                  <a:lnTo>
                    <a:pt x="17823" y="2432"/>
                  </a:lnTo>
                  <a:lnTo>
                    <a:pt x="17823" y="2548"/>
                  </a:lnTo>
                  <a:lnTo>
                    <a:pt x="17707" y="2664"/>
                  </a:lnTo>
                  <a:lnTo>
                    <a:pt x="17707" y="2780"/>
                  </a:lnTo>
                  <a:lnTo>
                    <a:pt x="17591" y="2895"/>
                  </a:lnTo>
                  <a:lnTo>
                    <a:pt x="17591" y="3011"/>
                  </a:lnTo>
                  <a:lnTo>
                    <a:pt x="17475" y="3127"/>
                  </a:lnTo>
                  <a:lnTo>
                    <a:pt x="17475" y="3243"/>
                  </a:lnTo>
                  <a:lnTo>
                    <a:pt x="17591" y="3474"/>
                  </a:lnTo>
                  <a:lnTo>
                    <a:pt x="17591" y="3474"/>
                  </a:lnTo>
                  <a:lnTo>
                    <a:pt x="17591" y="3474"/>
                  </a:lnTo>
                  <a:lnTo>
                    <a:pt x="17707" y="3590"/>
                  </a:lnTo>
                  <a:lnTo>
                    <a:pt x="17707" y="3590"/>
                  </a:lnTo>
                  <a:lnTo>
                    <a:pt x="17823" y="3706"/>
                  </a:lnTo>
                  <a:lnTo>
                    <a:pt x="17938" y="3706"/>
                  </a:lnTo>
                  <a:lnTo>
                    <a:pt x="18054" y="3706"/>
                  </a:lnTo>
                  <a:lnTo>
                    <a:pt x="18170" y="3706"/>
                  </a:lnTo>
                  <a:lnTo>
                    <a:pt x="18286" y="3706"/>
                  </a:lnTo>
                  <a:lnTo>
                    <a:pt x="18286" y="3706"/>
                  </a:lnTo>
                  <a:lnTo>
                    <a:pt x="18401" y="3590"/>
                  </a:lnTo>
                  <a:lnTo>
                    <a:pt x="18517" y="3474"/>
                  </a:lnTo>
                  <a:lnTo>
                    <a:pt x="18748" y="3359"/>
                  </a:lnTo>
                  <a:lnTo>
                    <a:pt x="18864" y="3243"/>
                  </a:lnTo>
                  <a:lnTo>
                    <a:pt x="18980" y="3127"/>
                  </a:lnTo>
                  <a:lnTo>
                    <a:pt x="19096" y="3011"/>
                  </a:lnTo>
                  <a:lnTo>
                    <a:pt x="19211" y="2780"/>
                  </a:lnTo>
                  <a:lnTo>
                    <a:pt x="19327" y="2664"/>
                  </a:lnTo>
                  <a:lnTo>
                    <a:pt x="19327" y="2664"/>
                  </a:lnTo>
                  <a:lnTo>
                    <a:pt x="19559" y="2664"/>
                  </a:lnTo>
                  <a:lnTo>
                    <a:pt x="19559" y="2664"/>
                  </a:lnTo>
                  <a:lnTo>
                    <a:pt x="19559" y="2780"/>
                  </a:lnTo>
                  <a:lnTo>
                    <a:pt x="19559" y="3011"/>
                  </a:lnTo>
                  <a:lnTo>
                    <a:pt x="19559" y="3127"/>
                  </a:lnTo>
                  <a:lnTo>
                    <a:pt x="19443" y="3359"/>
                  </a:lnTo>
                  <a:lnTo>
                    <a:pt x="19443" y="3474"/>
                  </a:lnTo>
                  <a:lnTo>
                    <a:pt x="19559" y="3590"/>
                  </a:lnTo>
                  <a:lnTo>
                    <a:pt x="19674" y="3706"/>
                  </a:lnTo>
                  <a:lnTo>
                    <a:pt x="19790" y="3822"/>
                  </a:lnTo>
                  <a:lnTo>
                    <a:pt x="19790" y="3822"/>
                  </a:lnTo>
                  <a:lnTo>
                    <a:pt x="19906" y="3822"/>
                  </a:lnTo>
                  <a:lnTo>
                    <a:pt x="20022" y="3822"/>
                  </a:lnTo>
                  <a:lnTo>
                    <a:pt x="20137" y="3822"/>
                  </a:lnTo>
                  <a:lnTo>
                    <a:pt x="20253" y="3822"/>
                  </a:lnTo>
                  <a:lnTo>
                    <a:pt x="20369" y="3706"/>
                  </a:lnTo>
                  <a:lnTo>
                    <a:pt x="20484" y="3706"/>
                  </a:lnTo>
                  <a:lnTo>
                    <a:pt x="20600" y="3590"/>
                  </a:lnTo>
                  <a:lnTo>
                    <a:pt x="20716" y="3590"/>
                  </a:lnTo>
                  <a:lnTo>
                    <a:pt x="20716" y="3590"/>
                  </a:lnTo>
                  <a:lnTo>
                    <a:pt x="20600" y="3474"/>
                  </a:lnTo>
                  <a:lnTo>
                    <a:pt x="20600" y="3359"/>
                  </a:lnTo>
                  <a:lnTo>
                    <a:pt x="20716" y="3243"/>
                  </a:lnTo>
                  <a:lnTo>
                    <a:pt x="20716" y="3127"/>
                  </a:lnTo>
                  <a:lnTo>
                    <a:pt x="20832" y="3127"/>
                  </a:lnTo>
                  <a:lnTo>
                    <a:pt x="20832" y="3011"/>
                  </a:lnTo>
                  <a:lnTo>
                    <a:pt x="20947" y="2895"/>
                  </a:lnTo>
                  <a:lnTo>
                    <a:pt x="20947" y="2780"/>
                  </a:lnTo>
                  <a:lnTo>
                    <a:pt x="20947" y="2780"/>
                  </a:lnTo>
                  <a:lnTo>
                    <a:pt x="20947" y="2895"/>
                  </a:lnTo>
                  <a:lnTo>
                    <a:pt x="20947" y="3011"/>
                  </a:lnTo>
                  <a:lnTo>
                    <a:pt x="20947" y="3127"/>
                  </a:lnTo>
                  <a:lnTo>
                    <a:pt x="20947" y="3359"/>
                  </a:lnTo>
                  <a:lnTo>
                    <a:pt x="20832" y="3474"/>
                  </a:lnTo>
                  <a:lnTo>
                    <a:pt x="20832" y="3590"/>
                  </a:lnTo>
                  <a:lnTo>
                    <a:pt x="20832" y="3706"/>
                  </a:lnTo>
                  <a:lnTo>
                    <a:pt x="20832" y="3822"/>
                  </a:lnTo>
                  <a:lnTo>
                    <a:pt x="20832" y="3822"/>
                  </a:lnTo>
                  <a:lnTo>
                    <a:pt x="20947" y="3938"/>
                  </a:lnTo>
                  <a:lnTo>
                    <a:pt x="20947" y="3938"/>
                  </a:lnTo>
                  <a:lnTo>
                    <a:pt x="21063" y="4053"/>
                  </a:lnTo>
                  <a:lnTo>
                    <a:pt x="21179" y="4053"/>
                  </a:lnTo>
                  <a:lnTo>
                    <a:pt x="21295" y="4053"/>
                  </a:lnTo>
                  <a:lnTo>
                    <a:pt x="21295" y="4053"/>
                  </a:lnTo>
                  <a:lnTo>
                    <a:pt x="21410" y="4053"/>
                  </a:lnTo>
                  <a:lnTo>
                    <a:pt x="21526" y="4053"/>
                  </a:lnTo>
                  <a:lnTo>
                    <a:pt x="21526" y="4053"/>
                  </a:lnTo>
                  <a:lnTo>
                    <a:pt x="21642" y="3938"/>
                  </a:lnTo>
                  <a:lnTo>
                    <a:pt x="21642" y="3822"/>
                  </a:lnTo>
                  <a:lnTo>
                    <a:pt x="21758" y="3706"/>
                  </a:lnTo>
                  <a:lnTo>
                    <a:pt x="21873" y="3590"/>
                  </a:lnTo>
                  <a:lnTo>
                    <a:pt x="21989" y="3474"/>
                  </a:lnTo>
                  <a:lnTo>
                    <a:pt x="22105" y="3359"/>
                  </a:lnTo>
                  <a:lnTo>
                    <a:pt x="22105" y="3243"/>
                  </a:lnTo>
                  <a:lnTo>
                    <a:pt x="22220" y="3011"/>
                  </a:lnTo>
                  <a:lnTo>
                    <a:pt x="22220" y="3011"/>
                  </a:lnTo>
                  <a:lnTo>
                    <a:pt x="22105" y="3127"/>
                  </a:lnTo>
                  <a:lnTo>
                    <a:pt x="22105" y="3243"/>
                  </a:lnTo>
                  <a:lnTo>
                    <a:pt x="22105" y="3359"/>
                  </a:lnTo>
                  <a:lnTo>
                    <a:pt x="22105" y="3474"/>
                  </a:lnTo>
                  <a:lnTo>
                    <a:pt x="22105" y="3590"/>
                  </a:lnTo>
                  <a:lnTo>
                    <a:pt x="22105" y="3706"/>
                  </a:lnTo>
                  <a:lnTo>
                    <a:pt x="22105" y="3822"/>
                  </a:lnTo>
                  <a:lnTo>
                    <a:pt x="22220" y="3938"/>
                  </a:lnTo>
                  <a:lnTo>
                    <a:pt x="22220" y="3938"/>
                  </a:lnTo>
                  <a:lnTo>
                    <a:pt x="22336" y="4053"/>
                  </a:lnTo>
                  <a:lnTo>
                    <a:pt x="22452" y="4169"/>
                  </a:lnTo>
                  <a:lnTo>
                    <a:pt x="22568" y="4169"/>
                  </a:lnTo>
                  <a:lnTo>
                    <a:pt x="22683" y="4053"/>
                  </a:lnTo>
                  <a:lnTo>
                    <a:pt x="22799" y="3938"/>
                  </a:lnTo>
                  <a:lnTo>
                    <a:pt x="22915" y="3822"/>
                  </a:lnTo>
                  <a:lnTo>
                    <a:pt x="23031" y="3822"/>
                  </a:lnTo>
                  <a:lnTo>
                    <a:pt x="23146" y="3822"/>
                  </a:lnTo>
                  <a:lnTo>
                    <a:pt x="23146" y="3822"/>
                  </a:lnTo>
                  <a:lnTo>
                    <a:pt x="23146" y="3938"/>
                  </a:lnTo>
                  <a:lnTo>
                    <a:pt x="23146" y="3938"/>
                  </a:lnTo>
                  <a:lnTo>
                    <a:pt x="23146" y="4053"/>
                  </a:lnTo>
                  <a:lnTo>
                    <a:pt x="23146" y="4169"/>
                  </a:lnTo>
                  <a:lnTo>
                    <a:pt x="23146" y="4285"/>
                  </a:lnTo>
                  <a:lnTo>
                    <a:pt x="23262" y="4285"/>
                  </a:lnTo>
                  <a:lnTo>
                    <a:pt x="23378" y="4401"/>
                  </a:lnTo>
                  <a:lnTo>
                    <a:pt x="23378" y="4401"/>
                  </a:lnTo>
                  <a:lnTo>
                    <a:pt x="23378" y="4401"/>
                  </a:lnTo>
                  <a:lnTo>
                    <a:pt x="23841" y="4285"/>
                  </a:lnTo>
                  <a:lnTo>
                    <a:pt x="23841" y="4285"/>
                  </a:lnTo>
                  <a:lnTo>
                    <a:pt x="23378" y="5906"/>
                  </a:lnTo>
                  <a:lnTo>
                    <a:pt x="22799" y="7528"/>
                  </a:lnTo>
                  <a:lnTo>
                    <a:pt x="22452" y="9265"/>
                  </a:lnTo>
                  <a:lnTo>
                    <a:pt x="21989" y="11002"/>
                  </a:lnTo>
                  <a:lnTo>
                    <a:pt x="21642" y="12739"/>
                  </a:lnTo>
                  <a:lnTo>
                    <a:pt x="21410" y="14476"/>
                  </a:lnTo>
                  <a:lnTo>
                    <a:pt x="21179" y="16213"/>
                  </a:lnTo>
                  <a:lnTo>
                    <a:pt x="21063" y="17951"/>
                  </a:lnTo>
                  <a:lnTo>
                    <a:pt x="21063" y="17951"/>
                  </a:lnTo>
                  <a:lnTo>
                    <a:pt x="18517" y="18414"/>
                  </a:lnTo>
                  <a:lnTo>
                    <a:pt x="15971" y="18877"/>
                  </a:lnTo>
                  <a:lnTo>
                    <a:pt x="13541" y="19456"/>
                  </a:lnTo>
                  <a:lnTo>
                    <a:pt x="11110" y="20035"/>
                  </a:lnTo>
                  <a:lnTo>
                    <a:pt x="8564" y="20614"/>
                  </a:lnTo>
                  <a:lnTo>
                    <a:pt x="6134" y="21077"/>
                  </a:lnTo>
                  <a:lnTo>
                    <a:pt x="3588" y="21656"/>
                  </a:lnTo>
                  <a:lnTo>
                    <a:pt x="926" y="22004"/>
                  </a:lnTo>
                  <a:lnTo>
                    <a:pt x="926" y="22004"/>
                  </a:lnTo>
                  <a:lnTo>
                    <a:pt x="1041" y="21888"/>
                  </a:lnTo>
                  <a:lnTo>
                    <a:pt x="1041" y="21656"/>
                  </a:lnTo>
                  <a:lnTo>
                    <a:pt x="1041" y="21541"/>
                  </a:lnTo>
                  <a:lnTo>
                    <a:pt x="1041" y="21309"/>
                  </a:lnTo>
                  <a:lnTo>
                    <a:pt x="1041" y="21193"/>
                  </a:lnTo>
                  <a:lnTo>
                    <a:pt x="926" y="20962"/>
                  </a:lnTo>
                  <a:lnTo>
                    <a:pt x="926" y="20730"/>
                  </a:lnTo>
                  <a:lnTo>
                    <a:pt x="926" y="20614"/>
                  </a:lnTo>
                  <a:lnTo>
                    <a:pt x="926" y="20614"/>
                  </a:lnTo>
                  <a:lnTo>
                    <a:pt x="810" y="20498"/>
                  </a:lnTo>
                  <a:lnTo>
                    <a:pt x="694" y="20383"/>
                  </a:lnTo>
                  <a:lnTo>
                    <a:pt x="579" y="20267"/>
                  </a:lnTo>
                  <a:lnTo>
                    <a:pt x="463" y="20267"/>
                  </a:lnTo>
                  <a:lnTo>
                    <a:pt x="347" y="20151"/>
                  </a:lnTo>
                  <a:lnTo>
                    <a:pt x="231" y="20151"/>
                  </a:lnTo>
                  <a:lnTo>
                    <a:pt x="116" y="20035"/>
                  </a:lnTo>
                  <a:lnTo>
                    <a:pt x="0" y="20035"/>
                  </a:lnTo>
                  <a:lnTo>
                    <a:pt x="0" y="20035"/>
                  </a:lnTo>
                  <a:lnTo>
                    <a:pt x="347" y="17603"/>
                  </a:lnTo>
                  <a:lnTo>
                    <a:pt x="694" y="15055"/>
                  </a:lnTo>
                  <a:lnTo>
                    <a:pt x="1273" y="12623"/>
                  </a:lnTo>
                  <a:lnTo>
                    <a:pt x="1852" y="10076"/>
                  </a:lnTo>
                  <a:lnTo>
                    <a:pt x="2430" y="7644"/>
                  </a:lnTo>
                  <a:lnTo>
                    <a:pt x="2893" y="5096"/>
                  </a:lnTo>
                  <a:lnTo>
                    <a:pt x="3472" y="2548"/>
                  </a:lnTo>
                  <a:lnTo>
                    <a:pt x="3935" y="0"/>
                  </a:lnTo>
                  <a:lnTo>
                    <a:pt x="3935" y="0"/>
                  </a:lnTo>
                  <a:lnTo>
                    <a:pt x="4050" y="116"/>
                  </a:lnTo>
                  <a:lnTo>
                    <a:pt x="4050" y="116"/>
                  </a:lnTo>
                  <a:lnTo>
                    <a:pt x="4050" y="116"/>
                  </a:lnTo>
                  <a:lnTo>
                    <a:pt x="4050" y="116"/>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038240" y="3094200"/>
              <a:ext cx="111600" cy="845280"/>
            </a:xfrm>
            <a:custGeom>
              <a:avLst/>
              <a:gdLst/>
              <a:ahLst/>
              <a:rect l="l" t="t" r="r" b="b"/>
              <a:pathLst>
                <a:path w="3125" h="15750">
                  <a:moveTo>
                    <a:pt x="3125" y="0"/>
                  </a:moveTo>
                  <a:lnTo>
                    <a:pt x="3125" y="347"/>
                  </a:lnTo>
                  <a:lnTo>
                    <a:pt x="3125" y="811"/>
                  </a:lnTo>
                  <a:lnTo>
                    <a:pt x="3009" y="1274"/>
                  </a:lnTo>
                  <a:lnTo>
                    <a:pt x="2894" y="1737"/>
                  </a:lnTo>
                  <a:lnTo>
                    <a:pt x="2894" y="2084"/>
                  </a:lnTo>
                  <a:lnTo>
                    <a:pt x="2778" y="2548"/>
                  </a:lnTo>
                  <a:lnTo>
                    <a:pt x="2662" y="2895"/>
                  </a:lnTo>
                  <a:lnTo>
                    <a:pt x="2546" y="3358"/>
                  </a:lnTo>
                  <a:lnTo>
                    <a:pt x="2546" y="3358"/>
                  </a:lnTo>
                  <a:lnTo>
                    <a:pt x="2199" y="4748"/>
                  </a:lnTo>
                  <a:lnTo>
                    <a:pt x="1968" y="6138"/>
                  </a:lnTo>
                  <a:lnTo>
                    <a:pt x="1736" y="7528"/>
                  </a:lnTo>
                  <a:lnTo>
                    <a:pt x="1389" y="8917"/>
                  </a:lnTo>
                  <a:lnTo>
                    <a:pt x="1158" y="10307"/>
                  </a:lnTo>
                  <a:lnTo>
                    <a:pt x="926" y="11812"/>
                  </a:lnTo>
                  <a:lnTo>
                    <a:pt x="695" y="13086"/>
                  </a:lnTo>
                  <a:lnTo>
                    <a:pt x="463" y="14476"/>
                  </a:lnTo>
                  <a:lnTo>
                    <a:pt x="463" y="14476"/>
                  </a:lnTo>
                  <a:lnTo>
                    <a:pt x="348" y="14592"/>
                  </a:lnTo>
                  <a:lnTo>
                    <a:pt x="348" y="14824"/>
                  </a:lnTo>
                  <a:lnTo>
                    <a:pt x="348" y="14939"/>
                  </a:lnTo>
                  <a:lnTo>
                    <a:pt x="348" y="15055"/>
                  </a:lnTo>
                  <a:lnTo>
                    <a:pt x="232" y="15287"/>
                  </a:lnTo>
                  <a:lnTo>
                    <a:pt x="232" y="15403"/>
                  </a:lnTo>
                  <a:lnTo>
                    <a:pt x="232" y="15518"/>
                  </a:lnTo>
                  <a:lnTo>
                    <a:pt x="232" y="15750"/>
                  </a:lnTo>
                  <a:lnTo>
                    <a:pt x="232" y="15750"/>
                  </a:lnTo>
                  <a:lnTo>
                    <a:pt x="0" y="15750"/>
                  </a:lnTo>
                  <a:lnTo>
                    <a:pt x="0" y="15750"/>
                  </a:lnTo>
                  <a:lnTo>
                    <a:pt x="116" y="14824"/>
                  </a:lnTo>
                  <a:lnTo>
                    <a:pt x="348" y="14013"/>
                  </a:lnTo>
                  <a:lnTo>
                    <a:pt x="463" y="13086"/>
                  </a:lnTo>
                  <a:lnTo>
                    <a:pt x="579" y="12276"/>
                  </a:lnTo>
                  <a:lnTo>
                    <a:pt x="695" y="11349"/>
                  </a:lnTo>
                  <a:lnTo>
                    <a:pt x="810" y="10423"/>
                  </a:lnTo>
                  <a:lnTo>
                    <a:pt x="926" y="9612"/>
                  </a:lnTo>
                  <a:lnTo>
                    <a:pt x="1042" y="8686"/>
                  </a:lnTo>
                  <a:lnTo>
                    <a:pt x="1042" y="8686"/>
                  </a:lnTo>
                  <a:lnTo>
                    <a:pt x="1273" y="7643"/>
                  </a:lnTo>
                  <a:lnTo>
                    <a:pt x="1505" y="6601"/>
                  </a:lnTo>
                  <a:lnTo>
                    <a:pt x="1736" y="5559"/>
                  </a:lnTo>
                  <a:lnTo>
                    <a:pt x="1968" y="4516"/>
                  </a:lnTo>
                  <a:lnTo>
                    <a:pt x="2199" y="3358"/>
                  </a:lnTo>
                  <a:lnTo>
                    <a:pt x="2431" y="2316"/>
                  </a:lnTo>
                  <a:lnTo>
                    <a:pt x="2662" y="1274"/>
                  </a:lnTo>
                  <a:lnTo>
                    <a:pt x="2778" y="116"/>
                  </a:lnTo>
                  <a:lnTo>
                    <a:pt x="2778" y="116"/>
                  </a:lnTo>
                  <a:lnTo>
                    <a:pt x="2778" y="116"/>
                  </a:lnTo>
                  <a:lnTo>
                    <a:pt x="2894" y="0"/>
                  </a:lnTo>
                  <a:lnTo>
                    <a:pt x="2894" y="0"/>
                  </a:lnTo>
                  <a:lnTo>
                    <a:pt x="2894" y="0"/>
                  </a:lnTo>
                  <a:lnTo>
                    <a:pt x="3009" y="0"/>
                  </a:lnTo>
                  <a:lnTo>
                    <a:pt x="3009" y="0"/>
                  </a:lnTo>
                  <a:lnTo>
                    <a:pt x="3009" y="0"/>
                  </a:lnTo>
                  <a:lnTo>
                    <a:pt x="3125" y="0"/>
                  </a:lnTo>
                  <a:lnTo>
                    <a:pt x="3125" y="0"/>
                  </a:lnTo>
                  <a:lnTo>
                    <a:pt x="3125" y="0"/>
                  </a:lnTo>
                  <a:lnTo>
                    <a:pt x="3125" y="0"/>
                  </a:lnTo>
                  <a:lnTo>
                    <a:pt x="31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059120" y="3094200"/>
              <a:ext cx="119880" cy="864000"/>
            </a:xfrm>
            <a:custGeom>
              <a:avLst/>
              <a:gdLst/>
              <a:ahLst/>
              <a:rect l="l" t="t" r="r" b="b"/>
              <a:pathLst>
                <a:path w="3356" h="16097">
                  <a:moveTo>
                    <a:pt x="3356" y="0"/>
                  </a:moveTo>
                  <a:lnTo>
                    <a:pt x="3125" y="1390"/>
                  </a:lnTo>
                  <a:lnTo>
                    <a:pt x="2893" y="2779"/>
                  </a:lnTo>
                  <a:lnTo>
                    <a:pt x="2662" y="4053"/>
                  </a:lnTo>
                  <a:lnTo>
                    <a:pt x="2315" y="5443"/>
                  </a:lnTo>
                  <a:lnTo>
                    <a:pt x="2083" y="6833"/>
                  </a:lnTo>
                  <a:lnTo>
                    <a:pt x="1736" y="8107"/>
                  </a:lnTo>
                  <a:lnTo>
                    <a:pt x="1505" y="9496"/>
                  </a:lnTo>
                  <a:lnTo>
                    <a:pt x="1273" y="10770"/>
                  </a:lnTo>
                  <a:lnTo>
                    <a:pt x="1273" y="10770"/>
                  </a:lnTo>
                  <a:lnTo>
                    <a:pt x="1157" y="11002"/>
                  </a:lnTo>
                  <a:lnTo>
                    <a:pt x="1157" y="11233"/>
                  </a:lnTo>
                  <a:lnTo>
                    <a:pt x="1042" y="11465"/>
                  </a:lnTo>
                  <a:lnTo>
                    <a:pt x="1042" y="11697"/>
                  </a:lnTo>
                  <a:lnTo>
                    <a:pt x="926" y="11928"/>
                  </a:lnTo>
                  <a:lnTo>
                    <a:pt x="926" y="12276"/>
                  </a:lnTo>
                  <a:lnTo>
                    <a:pt x="926" y="12507"/>
                  </a:lnTo>
                  <a:lnTo>
                    <a:pt x="810" y="12739"/>
                  </a:lnTo>
                  <a:lnTo>
                    <a:pt x="810" y="12739"/>
                  </a:lnTo>
                  <a:lnTo>
                    <a:pt x="926" y="13086"/>
                  </a:lnTo>
                  <a:lnTo>
                    <a:pt x="810" y="13550"/>
                  </a:lnTo>
                  <a:lnTo>
                    <a:pt x="810" y="13897"/>
                  </a:lnTo>
                  <a:lnTo>
                    <a:pt x="694" y="14360"/>
                  </a:lnTo>
                  <a:lnTo>
                    <a:pt x="579" y="14824"/>
                  </a:lnTo>
                  <a:lnTo>
                    <a:pt x="463" y="15171"/>
                  </a:lnTo>
                  <a:lnTo>
                    <a:pt x="463" y="15634"/>
                  </a:lnTo>
                  <a:lnTo>
                    <a:pt x="463" y="16097"/>
                  </a:lnTo>
                  <a:lnTo>
                    <a:pt x="463" y="16097"/>
                  </a:lnTo>
                  <a:lnTo>
                    <a:pt x="0" y="15982"/>
                  </a:lnTo>
                  <a:lnTo>
                    <a:pt x="0" y="15982"/>
                  </a:lnTo>
                  <a:lnTo>
                    <a:pt x="347" y="13897"/>
                  </a:lnTo>
                  <a:lnTo>
                    <a:pt x="694" y="11928"/>
                  </a:lnTo>
                  <a:lnTo>
                    <a:pt x="1042" y="9960"/>
                  </a:lnTo>
                  <a:lnTo>
                    <a:pt x="1389" y="7875"/>
                  </a:lnTo>
                  <a:lnTo>
                    <a:pt x="1852" y="5906"/>
                  </a:lnTo>
                  <a:lnTo>
                    <a:pt x="2199" y="3937"/>
                  </a:lnTo>
                  <a:lnTo>
                    <a:pt x="2546" y="1969"/>
                  </a:lnTo>
                  <a:lnTo>
                    <a:pt x="2893" y="0"/>
                  </a:lnTo>
                  <a:lnTo>
                    <a:pt x="2893" y="0"/>
                  </a:lnTo>
                  <a:lnTo>
                    <a:pt x="3009" y="0"/>
                  </a:lnTo>
                  <a:lnTo>
                    <a:pt x="3009" y="0"/>
                  </a:lnTo>
                  <a:lnTo>
                    <a:pt x="3125" y="0"/>
                  </a:lnTo>
                  <a:lnTo>
                    <a:pt x="3125" y="0"/>
                  </a:lnTo>
                  <a:lnTo>
                    <a:pt x="3240" y="0"/>
                  </a:lnTo>
                  <a:lnTo>
                    <a:pt x="3240" y="0"/>
                  </a:lnTo>
                  <a:lnTo>
                    <a:pt x="3356" y="0"/>
                  </a:lnTo>
                  <a:lnTo>
                    <a:pt x="3356" y="0"/>
                  </a:lnTo>
                  <a:lnTo>
                    <a:pt x="3356" y="0"/>
                  </a:lnTo>
                  <a:lnTo>
                    <a:pt x="3356" y="0"/>
                  </a:lnTo>
                  <a:lnTo>
                    <a:pt x="3356" y="0"/>
                  </a:lnTo>
                  <a:lnTo>
                    <a:pt x="3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067040" y="3094200"/>
              <a:ext cx="144720" cy="1087920"/>
            </a:xfrm>
            <a:custGeom>
              <a:avLst/>
              <a:gdLst/>
              <a:ahLst/>
              <a:rect l="l" t="t" r="r" b="b"/>
              <a:pathLst>
                <a:path w="4051" h="20267">
                  <a:moveTo>
                    <a:pt x="3704" y="116"/>
                  </a:moveTo>
                  <a:lnTo>
                    <a:pt x="3935" y="0"/>
                  </a:lnTo>
                  <a:lnTo>
                    <a:pt x="4051" y="232"/>
                  </a:lnTo>
                  <a:lnTo>
                    <a:pt x="4051" y="232"/>
                  </a:lnTo>
                  <a:lnTo>
                    <a:pt x="3588" y="2779"/>
                  </a:lnTo>
                  <a:lnTo>
                    <a:pt x="3009" y="5211"/>
                  </a:lnTo>
                  <a:lnTo>
                    <a:pt x="2547" y="7643"/>
                  </a:lnTo>
                  <a:lnTo>
                    <a:pt x="1968" y="10075"/>
                  </a:lnTo>
                  <a:lnTo>
                    <a:pt x="1389" y="12623"/>
                  </a:lnTo>
                  <a:lnTo>
                    <a:pt x="926" y="15055"/>
                  </a:lnTo>
                  <a:lnTo>
                    <a:pt x="579" y="17603"/>
                  </a:lnTo>
                  <a:lnTo>
                    <a:pt x="348" y="20035"/>
                  </a:lnTo>
                  <a:lnTo>
                    <a:pt x="348" y="20035"/>
                  </a:lnTo>
                  <a:lnTo>
                    <a:pt x="348" y="20151"/>
                  </a:lnTo>
                  <a:lnTo>
                    <a:pt x="232" y="20151"/>
                  </a:lnTo>
                  <a:lnTo>
                    <a:pt x="232" y="20151"/>
                  </a:lnTo>
                  <a:lnTo>
                    <a:pt x="116" y="20151"/>
                  </a:lnTo>
                  <a:lnTo>
                    <a:pt x="116" y="20151"/>
                  </a:lnTo>
                  <a:lnTo>
                    <a:pt x="116" y="20267"/>
                  </a:lnTo>
                  <a:lnTo>
                    <a:pt x="0" y="20267"/>
                  </a:lnTo>
                  <a:lnTo>
                    <a:pt x="0" y="20267"/>
                  </a:lnTo>
                  <a:lnTo>
                    <a:pt x="0" y="20267"/>
                  </a:lnTo>
                  <a:lnTo>
                    <a:pt x="348" y="18761"/>
                  </a:lnTo>
                  <a:lnTo>
                    <a:pt x="579" y="17140"/>
                  </a:lnTo>
                  <a:lnTo>
                    <a:pt x="695" y="15634"/>
                  </a:lnTo>
                  <a:lnTo>
                    <a:pt x="926" y="14129"/>
                  </a:lnTo>
                  <a:lnTo>
                    <a:pt x="1042" y="12507"/>
                  </a:lnTo>
                  <a:lnTo>
                    <a:pt x="1158" y="11002"/>
                  </a:lnTo>
                  <a:lnTo>
                    <a:pt x="1505" y="9496"/>
                  </a:lnTo>
                  <a:lnTo>
                    <a:pt x="1852" y="7991"/>
                  </a:lnTo>
                  <a:lnTo>
                    <a:pt x="1852" y="7991"/>
                  </a:lnTo>
                  <a:lnTo>
                    <a:pt x="1968" y="6948"/>
                  </a:lnTo>
                  <a:lnTo>
                    <a:pt x="2199" y="5906"/>
                  </a:lnTo>
                  <a:lnTo>
                    <a:pt x="2431" y="4980"/>
                  </a:lnTo>
                  <a:lnTo>
                    <a:pt x="2778" y="4053"/>
                  </a:lnTo>
                  <a:lnTo>
                    <a:pt x="3009" y="3011"/>
                  </a:lnTo>
                  <a:lnTo>
                    <a:pt x="3241" y="2084"/>
                  </a:lnTo>
                  <a:lnTo>
                    <a:pt x="3472" y="1042"/>
                  </a:lnTo>
                  <a:lnTo>
                    <a:pt x="3588" y="0"/>
                  </a:lnTo>
                  <a:lnTo>
                    <a:pt x="3588" y="0"/>
                  </a:lnTo>
                  <a:lnTo>
                    <a:pt x="3704" y="0"/>
                  </a:lnTo>
                  <a:lnTo>
                    <a:pt x="3704" y="116"/>
                  </a:lnTo>
                  <a:lnTo>
                    <a:pt x="3704" y="116"/>
                  </a:lnTo>
                  <a:lnTo>
                    <a:pt x="3704" y="116"/>
                  </a:lnTo>
                  <a:lnTo>
                    <a:pt x="3704"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1712880" y="3106800"/>
              <a:ext cx="57600" cy="142920"/>
            </a:xfrm>
            <a:custGeom>
              <a:avLst/>
              <a:gdLst/>
              <a:ahLst/>
              <a:rect l="l" t="t" r="r" b="b"/>
              <a:pathLst>
                <a:path w="1620" h="2663">
                  <a:moveTo>
                    <a:pt x="1620" y="810"/>
                  </a:moveTo>
                  <a:lnTo>
                    <a:pt x="1620" y="1042"/>
                  </a:lnTo>
                  <a:lnTo>
                    <a:pt x="1620" y="1158"/>
                  </a:lnTo>
                  <a:lnTo>
                    <a:pt x="1620" y="1389"/>
                  </a:lnTo>
                  <a:lnTo>
                    <a:pt x="1620" y="1621"/>
                  </a:lnTo>
                  <a:lnTo>
                    <a:pt x="1620" y="1852"/>
                  </a:lnTo>
                  <a:lnTo>
                    <a:pt x="1504" y="1968"/>
                  </a:lnTo>
                  <a:lnTo>
                    <a:pt x="1388" y="2200"/>
                  </a:lnTo>
                  <a:lnTo>
                    <a:pt x="1388" y="2316"/>
                  </a:lnTo>
                  <a:lnTo>
                    <a:pt x="1388" y="2316"/>
                  </a:lnTo>
                  <a:lnTo>
                    <a:pt x="1273" y="2432"/>
                  </a:lnTo>
                  <a:lnTo>
                    <a:pt x="1157" y="2432"/>
                  </a:lnTo>
                  <a:lnTo>
                    <a:pt x="1157" y="2547"/>
                  </a:lnTo>
                  <a:lnTo>
                    <a:pt x="1041" y="2547"/>
                  </a:lnTo>
                  <a:lnTo>
                    <a:pt x="1041" y="2663"/>
                  </a:lnTo>
                  <a:lnTo>
                    <a:pt x="926" y="2663"/>
                  </a:lnTo>
                  <a:lnTo>
                    <a:pt x="810" y="2663"/>
                  </a:lnTo>
                  <a:lnTo>
                    <a:pt x="810" y="2663"/>
                  </a:lnTo>
                  <a:lnTo>
                    <a:pt x="810" y="2663"/>
                  </a:lnTo>
                  <a:lnTo>
                    <a:pt x="926" y="2432"/>
                  </a:lnTo>
                  <a:lnTo>
                    <a:pt x="926" y="2200"/>
                  </a:lnTo>
                  <a:lnTo>
                    <a:pt x="1041" y="1968"/>
                  </a:lnTo>
                  <a:lnTo>
                    <a:pt x="1157" y="1737"/>
                  </a:lnTo>
                  <a:lnTo>
                    <a:pt x="1157" y="1505"/>
                  </a:lnTo>
                  <a:lnTo>
                    <a:pt x="1157" y="1158"/>
                  </a:lnTo>
                  <a:lnTo>
                    <a:pt x="1041" y="926"/>
                  </a:lnTo>
                  <a:lnTo>
                    <a:pt x="1041" y="694"/>
                  </a:lnTo>
                  <a:lnTo>
                    <a:pt x="1041" y="694"/>
                  </a:lnTo>
                  <a:lnTo>
                    <a:pt x="926" y="579"/>
                  </a:lnTo>
                  <a:lnTo>
                    <a:pt x="810" y="463"/>
                  </a:lnTo>
                  <a:lnTo>
                    <a:pt x="694" y="347"/>
                  </a:lnTo>
                  <a:lnTo>
                    <a:pt x="578" y="347"/>
                  </a:lnTo>
                  <a:lnTo>
                    <a:pt x="463" y="231"/>
                  </a:lnTo>
                  <a:lnTo>
                    <a:pt x="231" y="231"/>
                  </a:lnTo>
                  <a:lnTo>
                    <a:pt x="115" y="231"/>
                  </a:lnTo>
                  <a:lnTo>
                    <a:pt x="0" y="347"/>
                  </a:lnTo>
                  <a:lnTo>
                    <a:pt x="0" y="347"/>
                  </a:lnTo>
                  <a:lnTo>
                    <a:pt x="0" y="115"/>
                  </a:lnTo>
                  <a:lnTo>
                    <a:pt x="0" y="115"/>
                  </a:lnTo>
                  <a:lnTo>
                    <a:pt x="115" y="0"/>
                  </a:lnTo>
                  <a:lnTo>
                    <a:pt x="347" y="0"/>
                  </a:lnTo>
                  <a:lnTo>
                    <a:pt x="578" y="0"/>
                  </a:lnTo>
                  <a:lnTo>
                    <a:pt x="810" y="0"/>
                  </a:lnTo>
                  <a:lnTo>
                    <a:pt x="1041" y="115"/>
                  </a:lnTo>
                  <a:lnTo>
                    <a:pt x="1273" y="347"/>
                  </a:lnTo>
                  <a:lnTo>
                    <a:pt x="1504" y="579"/>
                  </a:lnTo>
                  <a:lnTo>
                    <a:pt x="1620" y="810"/>
                  </a:lnTo>
                  <a:lnTo>
                    <a:pt x="1620" y="810"/>
                  </a:lnTo>
                  <a:lnTo>
                    <a:pt x="1620" y="810"/>
                  </a:lnTo>
                  <a:lnTo>
                    <a:pt x="1620" y="810"/>
                  </a:lnTo>
                  <a:lnTo>
                    <a:pt x="1620" y="8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783080" y="3125520"/>
              <a:ext cx="41040" cy="136800"/>
            </a:xfrm>
            <a:custGeom>
              <a:avLst/>
              <a:gdLst/>
              <a:ahLst/>
              <a:rect l="l" t="t" r="r" b="b"/>
              <a:pathLst>
                <a:path w="1157" h="2548">
                  <a:moveTo>
                    <a:pt x="1042" y="811"/>
                  </a:moveTo>
                  <a:lnTo>
                    <a:pt x="1042" y="926"/>
                  </a:lnTo>
                  <a:lnTo>
                    <a:pt x="1157" y="1158"/>
                  </a:lnTo>
                  <a:lnTo>
                    <a:pt x="1157" y="1274"/>
                  </a:lnTo>
                  <a:lnTo>
                    <a:pt x="1157" y="1505"/>
                  </a:lnTo>
                  <a:lnTo>
                    <a:pt x="1157" y="1621"/>
                  </a:lnTo>
                  <a:lnTo>
                    <a:pt x="1157" y="1853"/>
                  </a:lnTo>
                  <a:lnTo>
                    <a:pt x="1157" y="1969"/>
                  </a:lnTo>
                  <a:lnTo>
                    <a:pt x="1042" y="2200"/>
                  </a:lnTo>
                  <a:lnTo>
                    <a:pt x="1042" y="2200"/>
                  </a:lnTo>
                  <a:lnTo>
                    <a:pt x="695" y="2548"/>
                  </a:lnTo>
                  <a:lnTo>
                    <a:pt x="695" y="2548"/>
                  </a:lnTo>
                  <a:lnTo>
                    <a:pt x="695" y="2200"/>
                  </a:lnTo>
                  <a:lnTo>
                    <a:pt x="695" y="1969"/>
                  </a:lnTo>
                  <a:lnTo>
                    <a:pt x="810" y="1621"/>
                  </a:lnTo>
                  <a:lnTo>
                    <a:pt x="810" y="1274"/>
                  </a:lnTo>
                  <a:lnTo>
                    <a:pt x="810" y="1042"/>
                  </a:lnTo>
                  <a:lnTo>
                    <a:pt x="695" y="811"/>
                  </a:lnTo>
                  <a:lnTo>
                    <a:pt x="463" y="579"/>
                  </a:lnTo>
                  <a:lnTo>
                    <a:pt x="116" y="347"/>
                  </a:lnTo>
                  <a:lnTo>
                    <a:pt x="116" y="347"/>
                  </a:lnTo>
                  <a:lnTo>
                    <a:pt x="0" y="0"/>
                  </a:lnTo>
                  <a:lnTo>
                    <a:pt x="0" y="0"/>
                  </a:lnTo>
                  <a:lnTo>
                    <a:pt x="116" y="116"/>
                  </a:lnTo>
                  <a:lnTo>
                    <a:pt x="347" y="116"/>
                  </a:lnTo>
                  <a:lnTo>
                    <a:pt x="463" y="116"/>
                  </a:lnTo>
                  <a:lnTo>
                    <a:pt x="579" y="232"/>
                  </a:lnTo>
                  <a:lnTo>
                    <a:pt x="810" y="347"/>
                  </a:lnTo>
                  <a:lnTo>
                    <a:pt x="926" y="463"/>
                  </a:lnTo>
                  <a:lnTo>
                    <a:pt x="926" y="579"/>
                  </a:lnTo>
                  <a:lnTo>
                    <a:pt x="1042" y="811"/>
                  </a:lnTo>
                  <a:lnTo>
                    <a:pt x="1042" y="811"/>
                  </a:lnTo>
                  <a:lnTo>
                    <a:pt x="1042" y="811"/>
                  </a:lnTo>
                  <a:lnTo>
                    <a:pt x="1042" y="811"/>
                  </a:lnTo>
                  <a:lnTo>
                    <a:pt x="1042" y="8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832760" y="3137760"/>
              <a:ext cx="41040" cy="130320"/>
            </a:xfrm>
            <a:custGeom>
              <a:avLst/>
              <a:gdLst/>
              <a:ahLst/>
              <a:rect l="l" t="t" r="r" b="b"/>
              <a:pathLst>
                <a:path w="1157" h="2432">
                  <a:moveTo>
                    <a:pt x="1157" y="926"/>
                  </a:moveTo>
                  <a:lnTo>
                    <a:pt x="1157" y="1158"/>
                  </a:lnTo>
                  <a:lnTo>
                    <a:pt x="1157" y="1389"/>
                  </a:lnTo>
                  <a:lnTo>
                    <a:pt x="1157" y="1505"/>
                  </a:lnTo>
                  <a:lnTo>
                    <a:pt x="1157" y="1737"/>
                  </a:lnTo>
                  <a:lnTo>
                    <a:pt x="1042" y="1968"/>
                  </a:lnTo>
                  <a:lnTo>
                    <a:pt x="926" y="2200"/>
                  </a:lnTo>
                  <a:lnTo>
                    <a:pt x="810" y="2316"/>
                  </a:lnTo>
                  <a:lnTo>
                    <a:pt x="579" y="2432"/>
                  </a:lnTo>
                  <a:lnTo>
                    <a:pt x="579" y="2432"/>
                  </a:lnTo>
                  <a:lnTo>
                    <a:pt x="694" y="2316"/>
                  </a:lnTo>
                  <a:lnTo>
                    <a:pt x="694" y="2200"/>
                  </a:lnTo>
                  <a:lnTo>
                    <a:pt x="694" y="1968"/>
                  </a:lnTo>
                  <a:lnTo>
                    <a:pt x="810" y="1853"/>
                  </a:lnTo>
                  <a:lnTo>
                    <a:pt x="810" y="1621"/>
                  </a:lnTo>
                  <a:lnTo>
                    <a:pt x="926" y="1389"/>
                  </a:lnTo>
                  <a:lnTo>
                    <a:pt x="926" y="1273"/>
                  </a:lnTo>
                  <a:lnTo>
                    <a:pt x="810" y="1042"/>
                  </a:lnTo>
                  <a:lnTo>
                    <a:pt x="810" y="1042"/>
                  </a:lnTo>
                  <a:lnTo>
                    <a:pt x="810" y="926"/>
                  </a:lnTo>
                  <a:lnTo>
                    <a:pt x="694" y="810"/>
                  </a:lnTo>
                  <a:lnTo>
                    <a:pt x="463" y="694"/>
                  </a:lnTo>
                  <a:lnTo>
                    <a:pt x="347" y="579"/>
                  </a:lnTo>
                  <a:lnTo>
                    <a:pt x="231" y="463"/>
                  </a:lnTo>
                  <a:lnTo>
                    <a:pt x="116" y="347"/>
                  </a:lnTo>
                  <a:lnTo>
                    <a:pt x="0" y="231"/>
                  </a:lnTo>
                  <a:lnTo>
                    <a:pt x="0" y="0"/>
                  </a:lnTo>
                  <a:lnTo>
                    <a:pt x="0" y="0"/>
                  </a:lnTo>
                  <a:lnTo>
                    <a:pt x="116" y="0"/>
                  </a:lnTo>
                  <a:lnTo>
                    <a:pt x="347" y="0"/>
                  </a:lnTo>
                  <a:lnTo>
                    <a:pt x="579" y="115"/>
                  </a:lnTo>
                  <a:lnTo>
                    <a:pt x="694" y="231"/>
                  </a:lnTo>
                  <a:lnTo>
                    <a:pt x="810" y="347"/>
                  </a:lnTo>
                  <a:lnTo>
                    <a:pt x="926" y="579"/>
                  </a:lnTo>
                  <a:lnTo>
                    <a:pt x="1042" y="810"/>
                  </a:lnTo>
                  <a:lnTo>
                    <a:pt x="1157" y="926"/>
                  </a:lnTo>
                  <a:lnTo>
                    <a:pt x="1157" y="926"/>
                  </a:lnTo>
                  <a:lnTo>
                    <a:pt x="1157" y="926"/>
                  </a:lnTo>
                  <a:lnTo>
                    <a:pt x="1157" y="926"/>
                  </a:lnTo>
                  <a:lnTo>
                    <a:pt x="1157"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890720" y="3156480"/>
              <a:ext cx="28800" cy="111600"/>
            </a:xfrm>
            <a:custGeom>
              <a:avLst/>
              <a:gdLst/>
              <a:ahLst/>
              <a:rect l="l" t="t" r="r" b="b"/>
              <a:pathLst>
                <a:path w="810" h="2085">
                  <a:moveTo>
                    <a:pt x="810" y="579"/>
                  </a:moveTo>
                  <a:lnTo>
                    <a:pt x="810" y="811"/>
                  </a:lnTo>
                  <a:lnTo>
                    <a:pt x="810" y="1042"/>
                  </a:lnTo>
                  <a:lnTo>
                    <a:pt x="810" y="1158"/>
                  </a:lnTo>
                  <a:lnTo>
                    <a:pt x="810" y="1390"/>
                  </a:lnTo>
                  <a:lnTo>
                    <a:pt x="695" y="1621"/>
                  </a:lnTo>
                  <a:lnTo>
                    <a:pt x="695" y="1737"/>
                  </a:lnTo>
                  <a:lnTo>
                    <a:pt x="579" y="1969"/>
                  </a:lnTo>
                  <a:lnTo>
                    <a:pt x="347" y="2085"/>
                  </a:lnTo>
                  <a:lnTo>
                    <a:pt x="347" y="2085"/>
                  </a:lnTo>
                  <a:lnTo>
                    <a:pt x="463" y="1969"/>
                  </a:lnTo>
                  <a:lnTo>
                    <a:pt x="463" y="1737"/>
                  </a:lnTo>
                  <a:lnTo>
                    <a:pt x="579" y="1506"/>
                  </a:lnTo>
                  <a:lnTo>
                    <a:pt x="579" y="1274"/>
                  </a:lnTo>
                  <a:lnTo>
                    <a:pt x="579" y="1042"/>
                  </a:lnTo>
                  <a:lnTo>
                    <a:pt x="579" y="811"/>
                  </a:lnTo>
                  <a:lnTo>
                    <a:pt x="579" y="579"/>
                  </a:lnTo>
                  <a:lnTo>
                    <a:pt x="347" y="347"/>
                  </a:lnTo>
                  <a:lnTo>
                    <a:pt x="347" y="347"/>
                  </a:lnTo>
                  <a:lnTo>
                    <a:pt x="0" y="0"/>
                  </a:lnTo>
                  <a:lnTo>
                    <a:pt x="0" y="0"/>
                  </a:lnTo>
                  <a:lnTo>
                    <a:pt x="232" y="0"/>
                  </a:lnTo>
                  <a:lnTo>
                    <a:pt x="347" y="0"/>
                  </a:lnTo>
                  <a:lnTo>
                    <a:pt x="463" y="116"/>
                  </a:lnTo>
                  <a:lnTo>
                    <a:pt x="463" y="116"/>
                  </a:lnTo>
                  <a:lnTo>
                    <a:pt x="579" y="232"/>
                  </a:lnTo>
                  <a:lnTo>
                    <a:pt x="695" y="347"/>
                  </a:lnTo>
                  <a:lnTo>
                    <a:pt x="695" y="463"/>
                  </a:lnTo>
                  <a:lnTo>
                    <a:pt x="810" y="579"/>
                  </a:lnTo>
                  <a:lnTo>
                    <a:pt x="810" y="579"/>
                  </a:lnTo>
                  <a:lnTo>
                    <a:pt x="810" y="579"/>
                  </a:lnTo>
                  <a:lnTo>
                    <a:pt x="810" y="579"/>
                  </a:lnTo>
                  <a:lnTo>
                    <a:pt x="810"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932120" y="3169080"/>
              <a:ext cx="37080" cy="118080"/>
            </a:xfrm>
            <a:custGeom>
              <a:avLst/>
              <a:gdLst/>
              <a:ahLst/>
              <a:rect l="l" t="t" r="r" b="b"/>
              <a:pathLst>
                <a:path w="1042" h="2200">
                  <a:moveTo>
                    <a:pt x="1042" y="694"/>
                  </a:moveTo>
                  <a:lnTo>
                    <a:pt x="1042" y="926"/>
                  </a:lnTo>
                  <a:lnTo>
                    <a:pt x="1042" y="1042"/>
                  </a:lnTo>
                  <a:lnTo>
                    <a:pt x="1042" y="1274"/>
                  </a:lnTo>
                  <a:lnTo>
                    <a:pt x="926" y="1505"/>
                  </a:lnTo>
                  <a:lnTo>
                    <a:pt x="926" y="1737"/>
                  </a:lnTo>
                  <a:lnTo>
                    <a:pt x="811" y="1853"/>
                  </a:lnTo>
                  <a:lnTo>
                    <a:pt x="579" y="2084"/>
                  </a:lnTo>
                  <a:lnTo>
                    <a:pt x="463" y="2200"/>
                  </a:lnTo>
                  <a:lnTo>
                    <a:pt x="463" y="2200"/>
                  </a:lnTo>
                  <a:lnTo>
                    <a:pt x="116" y="2200"/>
                  </a:lnTo>
                  <a:lnTo>
                    <a:pt x="116" y="2200"/>
                  </a:lnTo>
                  <a:lnTo>
                    <a:pt x="232" y="1968"/>
                  </a:lnTo>
                  <a:lnTo>
                    <a:pt x="348" y="1737"/>
                  </a:lnTo>
                  <a:lnTo>
                    <a:pt x="463" y="1621"/>
                  </a:lnTo>
                  <a:lnTo>
                    <a:pt x="463" y="1389"/>
                  </a:lnTo>
                  <a:lnTo>
                    <a:pt x="579" y="1274"/>
                  </a:lnTo>
                  <a:lnTo>
                    <a:pt x="579" y="1042"/>
                  </a:lnTo>
                  <a:lnTo>
                    <a:pt x="579" y="810"/>
                  </a:lnTo>
                  <a:lnTo>
                    <a:pt x="463" y="579"/>
                  </a:lnTo>
                  <a:lnTo>
                    <a:pt x="463" y="579"/>
                  </a:lnTo>
                  <a:lnTo>
                    <a:pt x="0" y="0"/>
                  </a:lnTo>
                  <a:lnTo>
                    <a:pt x="0" y="0"/>
                  </a:lnTo>
                  <a:lnTo>
                    <a:pt x="116" y="0"/>
                  </a:lnTo>
                  <a:lnTo>
                    <a:pt x="348" y="0"/>
                  </a:lnTo>
                  <a:lnTo>
                    <a:pt x="463" y="0"/>
                  </a:lnTo>
                  <a:lnTo>
                    <a:pt x="579" y="115"/>
                  </a:lnTo>
                  <a:lnTo>
                    <a:pt x="811" y="231"/>
                  </a:lnTo>
                  <a:lnTo>
                    <a:pt x="926" y="347"/>
                  </a:lnTo>
                  <a:lnTo>
                    <a:pt x="1042" y="579"/>
                  </a:lnTo>
                  <a:lnTo>
                    <a:pt x="1042" y="694"/>
                  </a:lnTo>
                  <a:lnTo>
                    <a:pt x="1042" y="694"/>
                  </a:lnTo>
                  <a:lnTo>
                    <a:pt x="1042" y="694"/>
                  </a:lnTo>
                  <a:lnTo>
                    <a:pt x="1042" y="694"/>
                  </a:lnTo>
                  <a:lnTo>
                    <a:pt x="1042" y="6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340280" y="3312000"/>
              <a:ext cx="223200" cy="397800"/>
            </a:xfrm>
            <a:custGeom>
              <a:avLst/>
              <a:gdLst/>
              <a:ahLst/>
              <a:rect l="l" t="t" r="r" b="b"/>
              <a:pathLst>
                <a:path w="6249" h="7412">
                  <a:moveTo>
                    <a:pt x="5439" y="1969"/>
                  </a:moveTo>
                  <a:lnTo>
                    <a:pt x="5439" y="2085"/>
                  </a:lnTo>
                  <a:lnTo>
                    <a:pt x="5555" y="2085"/>
                  </a:lnTo>
                  <a:lnTo>
                    <a:pt x="5555" y="2085"/>
                  </a:lnTo>
                  <a:lnTo>
                    <a:pt x="5671" y="2085"/>
                  </a:lnTo>
                  <a:lnTo>
                    <a:pt x="5671" y="2085"/>
                  </a:lnTo>
                  <a:lnTo>
                    <a:pt x="5786" y="2085"/>
                  </a:lnTo>
                  <a:lnTo>
                    <a:pt x="5902" y="2085"/>
                  </a:lnTo>
                  <a:lnTo>
                    <a:pt x="5902" y="2085"/>
                  </a:lnTo>
                  <a:lnTo>
                    <a:pt x="5902" y="2085"/>
                  </a:lnTo>
                  <a:lnTo>
                    <a:pt x="6018" y="1969"/>
                  </a:lnTo>
                  <a:lnTo>
                    <a:pt x="6018" y="1969"/>
                  </a:lnTo>
                  <a:lnTo>
                    <a:pt x="6018" y="1969"/>
                  </a:lnTo>
                  <a:lnTo>
                    <a:pt x="6018" y="1969"/>
                  </a:lnTo>
                  <a:lnTo>
                    <a:pt x="6018" y="1853"/>
                  </a:lnTo>
                  <a:lnTo>
                    <a:pt x="6018" y="1853"/>
                  </a:lnTo>
                  <a:lnTo>
                    <a:pt x="6134" y="1737"/>
                  </a:lnTo>
                  <a:lnTo>
                    <a:pt x="6134" y="1737"/>
                  </a:lnTo>
                  <a:lnTo>
                    <a:pt x="6134" y="1737"/>
                  </a:lnTo>
                  <a:lnTo>
                    <a:pt x="6249" y="1737"/>
                  </a:lnTo>
                  <a:lnTo>
                    <a:pt x="6249" y="1737"/>
                  </a:lnTo>
                  <a:lnTo>
                    <a:pt x="6249" y="1853"/>
                  </a:lnTo>
                  <a:lnTo>
                    <a:pt x="6249" y="1969"/>
                  </a:lnTo>
                  <a:lnTo>
                    <a:pt x="6249" y="2085"/>
                  </a:lnTo>
                  <a:lnTo>
                    <a:pt x="6134" y="2201"/>
                  </a:lnTo>
                  <a:lnTo>
                    <a:pt x="6018" y="2316"/>
                  </a:lnTo>
                  <a:lnTo>
                    <a:pt x="5902" y="2432"/>
                  </a:lnTo>
                  <a:lnTo>
                    <a:pt x="5786" y="2548"/>
                  </a:lnTo>
                  <a:lnTo>
                    <a:pt x="5671" y="2548"/>
                  </a:lnTo>
                  <a:lnTo>
                    <a:pt x="5671" y="2548"/>
                  </a:lnTo>
                  <a:lnTo>
                    <a:pt x="5671" y="2548"/>
                  </a:lnTo>
                  <a:lnTo>
                    <a:pt x="5671" y="2548"/>
                  </a:lnTo>
                  <a:lnTo>
                    <a:pt x="5671" y="2548"/>
                  </a:lnTo>
                  <a:lnTo>
                    <a:pt x="5555" y="2548"/>
                  </a:lnTo>
                  <a:lnTo>
                    <a:pt x="5555" y="2548"/>
                  </a:lnTo>
                  <a:lnTo>
                    <a:pt x="5555" y="2548"/>
                  </a:lnTo>
                  <a:lnTo>
                    <a:pt x="5555" y="2548"/>
                  </a:lnTo>
                  <a:lnTo>
                    <a:pt x="5555" y="2548"/>
                  </a:lnTo>
                  <a:lnTo>
                    <a:pt x="5555" y="2548"/>
                  </a:lnTo>
                  <a:lnTo>
                    <a:pt x="5555" y="3127"/>
                  </a:lnTo>
                  <a:lnTo>
                    <a:pt x="5555" y="3822"/>
                  </a:lnTo>
                  <a:lnTo>
                    <a:pt x="5555" y="4401"/>
                  </a:lnTo>
                  <a:lnTo>
                    <a:pt x="5323" y="4980"/>
                  </a:lnTo>
                  <a:lnTo>
                    <a:pt x="5208" y="5675"/>
                  </a:lnTo>
                  <a:lnTo>
                    <a:pt x="4861" y="6138"/>
                  </a:lnTo>
                  <a:lnTo>
                    <a:pt x="4398" y="6601"/>
                  </a:lnTo>
                  <a:lnTo>
                    <a:pt x="3935" y="7065"/>
                  </a:lnTo>
                  <a:lnTo>
                    <a:pt x="3935" y="7065"/>
                  </a:lnTo>
                  <a:lnTo>
                    <a:pt x="3703" y="7180"/>
                  </a:lnTo>
                  <a:lnTo>
                    <a:pt x="3356" y="7296"/>
                  </a:lnTo>
                  <a:lnTo>
                    <a:pt x="3125" y="7412"/>
                  </a:lnTo>
                  <a:lnTo>
                    <a:pt x="2893" y="7412"/>
                  </a:lnTo>
                  <a:lnTo>
                    <a:pt x="2546" y="7412"/>
                  </a:lnTo>
                  <a:lnTo>
                    <a:pt x="2199" y="7412"/>
                  </a:lnTo>
                  <a:lnTo>
                    <a:pt x="1967" y="7296"/>
                  </a:lnTo>
                  <a:lnTo>
                    <a:pt x="1620" y="7296"/>
                  </a:lnTo>
                  <a:lnTo>
                    <a:pt x="1620" y="7296"/>
                  </a:lnTo>
                  <a:lnTo>
                    <a:pt x="1389" y="7180"/>
                  </a:lnTo>
                  <a:lnTo>
                    <a:pt x="1157" y="7065"/>
                  </a:lnTo>
                  <a:lnTo>
                    <a:pt x="926" y="6949"/>
                  </a:lnTo>
                  <a:lnTo>
                    <a:pt x="694" y="6717"/>
                  </a:lnTo>
                  <a:lnTo>
                    <a:pt x="578" y="6601"/>
                  </a:lnTo>
                  <a:lnTo>
                    <a:pt x="347" y="6370"/>
                  </a:lnTo>
                  <a:lnTo>
                    <a:pt x="231" y="6138"/>
                  </a:lnTo>
                  <a:lnTo>
                    <a:pt x="116" y="5907"/>
                  </a:lnTo>
                  <a:lnTo>
                    <a:pt x="116" y="5907"/>
                  </a:lnTo>
                  <a:lnTo>
                    <a:pt x="0" y="5559"/>
                  </a:lnTo>
                  <a:lnTo>
                    <a:pt x="0" y="5096"/>
                  </a:lnTo>
                  <a:lnTo>
                    <a:pt x="0" y="4748"/>
                  </a:lnTo>
                  <a:lnTo>
                    <a:pt x="0" y="4285"/>
                  </a:lnTo>
                  <a:lnTo>
                    <a:pt x="0" y="3938"/>
                  </a:lnTo>
                  <a:lnTo>
                    <a:pt x="116" y="3590"/>
                  </a:lnTo>
                  <a:lnTo>
                    <a:pt x="347" y="3243"/>
                  </a:lnTo>
                  <a:lnTo>
                    <a:pt x="578" y="2895"/>
                  </a:lnTo>
                  <a:lnTo>
                    <a:pt x="578" y="2895"/>
                  </a:lnTo>
                  <a:lnTo>
                    <a:pt x="926" y="2432"/>
                  </a:lnTo>
                  <a:lnTo>
                    <a:pt x="1273" y="2085"/>
                  </a:lnTo>
                  <a:lnTo>
                    <a:pt x="1736" y="1853"/>
                  </a:lnTo>
                  <a:lnTo>
                    <a:pt x="2083" y="1622"/>
                  </a:lnTo>
                  <a:lnTo>
                    <a:pt x="2546" y="1390"/>
                  </a:lnTo>
                  <a:lnTo>
                    <a:pt x="3009" y="1274"/>
                  </a:lnTo>
                  <a:lnTo>
                    <a:pt x="3587" y="1158"/>
                  </a:lnTo>
                  <a:lnTo>
                    <a:pt x="4050" y="1158"/>
                  </a:lnTo>
                  <a:lnTo>
                    <a:pt x="4050" y="1158"/>
                  </a:lnTo>
                  <a:lnTo>
                    <a:pt x="3587" y="927"/>
                  </a:lnTo>
                  <a:lnTo>
                    <a:pt x="3240" y="811"/>
                  </a:lnTo>
                  <a:lnTo>
                    <a:pt x="2777" y="579"/>
                  </a:lnTo>
                  <a:lnTo>
                    <a:pt x="2314" y="463"/>
                  </a:lnTo>
                  <a:lnTo>
                    <a:pt x="1851" y="463"/>
                  </a:lnTo>
                  <a:lnTo>
                    <a:pt x="1389" y="463"/>
                  </a:lnTo>
                  <a:lnTo>
                    <a:pt x="926" y="579"/>
                  </a:lnTo>
                  <a:lnTo>
                    <a:pt x="578" y="695"/>
                  </a:lnTo>
                  <a:lnTo>
                    <a:pt x="578" y="695"/>
                  </a:lnTo>
                  <a:lnTo>
                    <a:pt x="578" y="463"/>
                  </a:lnTo>
                  <a:lnTo>
                    <a:pt x="694" y="348"/>
                  </a:lnTo>
                  <a:lnTo>
                    <a:pt x="926" y="232"/>
                  </a:lnTo>
                  <a:lnTo>
                    <a:pt x="1041" y="116"/>
                  </a:lnTo>
                  <a:lnTo>
                    <a:pt x="1273" y="116"/>
                  </a:lnTo>
                  <a:lnTo>
                    <a:pt x="1504" y="0"/>
                  </a:lnTo>
                  <a:lnTo>
                    <a:pt x="1620" y="0"/>
                  </a:lnTo>
                  <a:lnTo>
                    <a:pt x="1851" y="0"/>
                  </a:lnTo>
                  <a:lnTo>
                    <a:pt x="1851" y="0"/>
                  </a:lnTo>
                  <a:lnTo>
                    <a:pt x="2314" y="116"/>
                  </a:lnTo>
                  <a:lnTo>
                    <a:pt x="2777" y="232"/>
                  </a:lnTo>
                  <a:lnTo>
                    <a:pt x="3356" y="463"/>
                  </a:lnTo>
                  <a:lnTo>
                    <a:pt x="3819" y="579"/>
                  </a:lnTo>
                  <a:lnTo>
                    <a:pt x="4282" y="811"/>
                  </a:lnTo>
                  <a:lnTo>
                    <a:pt x="4745" y="1043"/>
                  </a:lnTo>
                  <a:lnTo>
                    <a:pt x="5092" y="1506"/>
                  </a:lnTo>
                  <a:lnTo>
                    <a:pt x="5439" y="1969"/>
                  </a:lnTo>
                  <a:lnTo>
                    <a:pt x="5439" y="1969"/>
                  </a:lnTo>
                  <a:lnTo>
                    <a:pt x="5439" y="1969"/>
                  </a:lnTo>
                  <a:lnTo>
                    <a:pt x="5439" y="1969"/>
                  </a:lnTo>
                  <a:lnTo>
                    <a:pt x="5439" y="19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572120" y="3367800"/>
              <a:ext cx="186120" cy="410040"/>
            </a:xfrm>
            <a:custGeom>
              <a:avLst/>
              <a:gdLst/>
              <a:ahLst/>
              <a:rect l="l" t="t" r="r" b="b"/>
              <a:pathLst>
                <a:path w="5208" h="7643">
                  <a:moveTo>
                    <a:pt x="4976" y="347"/>
                  </a:moveTo>
                  <a:lnTo>
                    <a:pt x="4976" y="347"/>
                  </a:lnTo>
                  <a:lnTo>
                    <a:pt x="4861" y="347"/>
                  </a:lnTo>
                  <a:lnTo>
                    <a:pt x="4745" y="347"/>
                  </a:lnTo>
                  <a:lnTo>
                    <a:pt x="4629" y="347"/>
                  </a:lnTo>
                  <a:lnTo>
                    <a:pt x="4513" y="347"/>
                  </a:lnTo>
                  <a:lnTo>
                    <a:pt x="4398" y="347"/>
                  </a:lnTo>
                  <a:lnTo>
                    <a:pt x="4282" y="231"/>
                  </a:lnTo>
                  <a:lnTo>
                    <a:pt x="4166" y="347"/>
                  </a:lnTo>
                  <a:lnTo>
                    <a:pt x="4166" y="347"/>
                  </a:lnTo>
                  <a:lnTo>
                    <a:pt x="4050" y="347"/>
                  </a:lnTo>
                  <a:lnTo>
                    <a:pt x="3819" y="463"/>
                  </a:lnTo>
                  <a:lnTo>
                    <a:pt x="3703" y="463"/>
                  </a:lnTo>
                  <a:lnTo>
                    <a:pt x="3472" y="579"/>
                  </a:lnTo>
                  <a:lnTo>
                    <a:pt x="3356" y="579"/>
                  </a:lnTo>
                  <a:lnTo>
                    <a:pt x="3240" y="694"/>
                  </a:lnTo>
                  <a:lnTo>
                    <a:pt x="3009" y="810"/>
                  </a:lnTo>
                  <a:lnTo>
                    <a:pt x="2893" y="926"/>
                  </a:lnTo>
                  <a:lnTo>
                    <a:pt x="2893" y="926"/>
                  </a:lnTo>
                  <a:lnTo>
                    <a:pt x="3240" y="926"/>
                  </a:lnTo>
                  <a:lnTo>
                    <a:pt x="3472" y="1042"/>
                  </a:lnTo>
                  <a:lnTo>
                    <a:pt x="3819" y="1158"/>
                  </a:lnTo>
                  <a:lnTo>
                    <a:pt x="4050" y="1273"/>
                  </a:lnTo>
                  <a:lnTo>
                    <a:pt x="4282" y="1389"/>
                  </a:lnTo>
                  <a:lnTo>
                    <a:pt x="4513" y="1621"/>
                  </a:lnTo>
                  <a:lnTo>
                    <a:pt x="4745" y="1852"/>
                  </a:lnTo>
                  <a:lnTo>
                    <a:pt x="4976" y="2084"/>
                  </a:lnTo>
                  <a:lnTo>
                    <a:pt x="4976" y="2084"/>
                  </a:lnTo>
                  <a:lnTo>
                    <a:pt x="5092" y="2663"/>
                  </a:lnTo>
                  <a:lnTo>
                    <a:pt x="5208" y="3242"/>
                  </a:lnTo>
                  <a:lnTo>
                    <a:pt x="5208" y="3821"/>
                  </a:lnTo>
                  <a:lnTo>
                    <a:pt x="5092" y="4400"/>
                  </a:lnTo>
                  <a:lnTo>
                    <a:pt x="4976" y="4979"/>
                  </a:lnTo>
                  <a:lnTo>
                    <a:pt x="4745" y="5558"/>
                  </a:lnTo>
                  <a:lnTo>
                    <a:pt x="4513" y="6137"/>
                  </a:lnTo>
                  <a:lnTo>
                    <a:pt x="4166" y="6601"/>
                  </a:lnTo>
                  <a:lnTo>
                    <a:pt x="4166" y="6601"/>
                  </a:lnTo>
                  <a:lnTo>
                    <a:pt x="3819" y="6948"/>
                  </a:lnTo>
                  <a:lnTo>
                    <a:pt x="3472" y="7180"/>
                  </a:lnTo>
                  <a:lnTo>
                    <a:pt x="3125" y="7411"/>
                  </a:lnTo>
                  <a:lnTo>
                    <a:pt x="2662" y="7527"/>
                  </a:lnTo>
                  <a:lnTo>
                    <a:pt x="2199" y="7643"/>
                  </a:lnTo>
                  <a:lnTo>
                    <a:pt x="1736" y="7643"/>
                  </a:lnTo>
                  <a:lnTo>
                    <a:pt x="1273" y="7643"/>
                  </a:lnTo>
                  <a:lnTo>
                    <a:pt x="810" y="7527"/>
                  </a:lnTo>
                  <a:lnTo>
                    <a:pt x="810" y="7527"/>
                  </a:lnTo>
                  <a:lnTo>
                    <a:pt x="463" y="7064"/>
                  </a:lnTo>
                  <a:lnTo>
                    <a:pt x="231" y="6485"/>
                  </a:lnTo>
                  <a:lnTo>
                    <a:pt x="0" y="5906"/>
                  </a:lnTo>
                  <a:lnTo>
                    <a:pt x="0" y="5211"/>
                  </a:lnTo>
                  <a:lnTo>
                    <a:pt x="116" y="4632"/>
                  </a:lnTo>
                  <a:lnTo>
                    <a:pt x="231" y="3937"/>
                  </a:lnTo>
                  <a:lnTo>
                    <a:pt x="347" y="3358"/>
                  </a:lnTo>
                  <a:lnTo>
                    <a:pt x="578" y="2779"/>
                  </a:lnTo>
                  <a:lnTo>
                    <a:pt x="578" y="2779"/>
                  </a:lnTo>
                  <a:lnTo>
                    <a:pt x="578" y="2547"/>
                  </a:lnTo>
                  <a:lnTo>
                    <a:pt x="694" y="2432"/>
                  </a:lnTo>
                  <a:lnTo>
                    <a:pt x="810" y="2316"/>
                  </a:lnTo>
                  <a:lnTo>
                    <a:pt x="810" y="2200"/>
                  </a:lnTo>
                  <a:lnTo>
                    <a:pt x="926" y="1968"/>
                  </a:lnTo>
                  <a:lnTo>
                    <a:pt x="1041" y="1852"/>
                  </a:lnTo>
                  <a:lnTo>
                    <a:pt x="1041" y="1737"/>
                  </a:lnTo>
                  <a:lnTo>
                    <a:pt x="1157" y="1621"/>
                  </a:lnTo>
                  <a:lnTo>
                    <a:pt x="1157" y="1621"/>
                  </a:lnTo>
                  <a:lnTo>
                    <a:pt x="1041" y="1505"/>
                  </a:lnTo>
                  <a:lnTo>
                    <a:pt x="926" y="1505"/>
                  </a:lnTo>
                  <a:lnTo>
                    <a:pt x="926" y="1389"/>
                  </a:lnTo>
                  <a:lnTo>
                    <a:pt x="810" y="1389"/>
                  </a:lnTo>
                  <a:lnTo>
                    <a:pt x="694" y="1389"/>
                  </a:lnTo>
                  <a:lnTo>
                    <a:pt x="694" y="1389"/>
                  </a:lnTo>
                  <a:lnTo>
                    <a:pt x="578" y="1273"/>
                  </a:lnTo>
                  <a:lnTo>
                    <a:pt x="578" y="1273"/>
                  </a:lnTo>
                  <a:lnTo>
                    <a:pt x="578" y="1273"/>
                  </a:lnTo>
                  <a:lnTo>
                    <a:pt x="694" y="1158"/>
                  </a:lnTo>
                  <a:lnTo>
                    <a:pt x="810" y="1158"/>
                  </a:lnTo>
                  <a:lnTo>
                    <a:pt x="926" y="1158"/>
                  </a:lnTo>
                  <a:lnTo>
                    <a:pt x="1041" y="1158"/>
                  </a:lnTo>
                  <a:lnTo>
                    <a:pt x="1157" y="1158"/>
                  </a:lnTo>
                  <a:lnTo>
                    <a:pt x="1389" y="1158"/>
                  </a:lnTo>
                  <a:lnTo>
                    <a:pt x="1504" y="1158"/>
                  </a:lnTo>
                  <a:lnTo>
                    <a:pt x="1620" y="1158"/>
                  </a:lnTo>
                  <a:lnTo>
                    <a:pt x="1620" y="1158"/>
                  </a:lnTo>
                  <a:lnTo>
                    <a:pt x="1967" y="926"/>
                  </a:lnTo>
                  <a:lnTo>
                    <a:pt x="2430" y="694"/>
                  </a:lnTo>
                  <a:lnTo>
                    <a:pt x="2777" y="347"/>
                  </a:lnTo>
                  <a:lnTo>
                    <a:pt x="3240" y="115"/>
                  </a:lnTo>
                  <a:lnTo>
                    <a:pt x="3703" y="0"/>
                  </a:lnTo>
                  <a:lnTo>
                    <a:pt x="4166" y="0"/>
                  </a:lnTo>
                  <a:lnTo>
                    <a:pt x="4629" y="0"/>
                  </a:lnTo>
                  <a:lnTo>
                    <a:pt x="4976" y="347"/>
                  </a:lnTo>
                  <a:lnTo>
                    <a:pt x="4976" y="347"/>
                  </a:lnTo>
                  <a:lnTo>
                    <a:pt x="4976" y="347"/>
                  </a:lnTo>
                  <a:lnTo>
                    <a:pt x="4976" y="347"/>
                  </a:lnTo>
                  <a:lnTo>
                    <a:pt x="4976"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52880" y="3399120"/>
              <a:ext cx="173520" cy="285840"/>
            </a:xfrm>
            <a:custGeom>
              <a:avLst/>
              <a:gdLst/>
              <a:ahLst/>
              <a:rect l="l" t="t" r="r" b="b"/>
              <a:pathLst>
                <a:path w="4861" h="5327">
                  <a:moveTo>
                    <a:pt x="4398" y="463"/>
                  </a:moveTo>
                  <a:lnTo>
                    <a:pt x="4629" y="926"/>
                  </a:lnTo>
                  <a:lnTo>
                    <a:pt x="4745" y="1389"/>
                  </a:lnTo>
                  <a:lnTo>
                    <a:pt x="4745" y="1968"/>
                  </a:lnTo>
                  <a:lnTo>
                    <a:pt x="4861" y="2432"/>
                  </a:lnTo>
                  <a:lnTo>
                    <a:pt x="4745" y="2895"/>
                  </a:lnTo>
                  <a:lnTo>
                    <a:pt x="4629" y="3474"/>
                  </a:lnTo>
                  <a:lnTo>
                    <a:pt x="4398" y="3937"/>
                  </a:lnTo>
                  <a:lnTo>
                    <a:pt x="4051" y="4285"/>
                  </a:lnTo>
                  <a:lnTo>
                    <a:pt x="4051" y="4285"/>
                  </a:lnTo>
                  <a:lnTo>
                    <a:pt x="3935" y="4516"/>
                  </a:lnTo>
                  <a:lnTo>
                    <a:pt x="3819" y="4632"/>
                  </a:lnTo>
                  <a:lnTo>
                    <a:pt x="3588" y="4864"/>
                  </a:lnTo>
                  <a:lnTo>
                    <a:pt x="3356" y="4979"/>
                  </a:lnTo>
                  <a:lnTo>
                    <a:pt x="3125" y="5095"/>
                  </a:lnTo>
                  <a:lnTo>
                    <a:pt x="3009" y="5211"/>
                  </a:lnTo>
                  <a:lnTo>
                    <a:pt x="2778" y="5327"/>
                  </a:lnTo>
                  <a:lnTo>
                    <a:pt x="2430" y="5327"/>
                  </a:lnTo>
                  <a:lnTo>
                    <a:pt x="2430" y="5327"/>
                  </a:lnTo>
                  <a:lnTo>
                    <a:pt x="2083" y="5327"/>
                  </a:lnTo>
                  <a:lnTo>
                    <a:pt x="1736" y="5211"/>
                  </a:lnTo>
                  <a:lnTo>
                    <a:pt x="1389" y="5211"/>
                  </a:lnTo>
                  <a:lnTo>
                    <a:pt x="1157" y="5095"/>
                  </a:lnTo>
                  <a:lnTo>
                    <a:pt x="810" y="4864"/>
                  </a:lnTo>
                  <a:lnTo>
                    <a:pt x="579" y="4748"/>
                  </a:lnTo>
                  <a:lnTo>
                    <a:pt x="347" y="4400"/>
                  </a:lnTo>
                  <a:lnTo>
                    <a:pt x="231" y="4053"/>
                  </a:lnTo>
                  <a:lnTo>
                    <a:pt x="231" y="4053"/>
                  </a:lnTo>
                  <a:lnTo>
                    <a:pt x="116" y="3590"/>
                  </a:lnTo>
                  <a:lnTo>
                    <a:pt x="0" y="3242"/>
                  </a:lnTo>
                  <a:lnTo>
                    <a:pt x="116" y="2779"/>
                  </a:lnTo>
                  <a:lnTo>
                    <a:pt x="231" y="2316"/>
                  </a:lnTo>
                  <a:lnTo>
                    <a:pt x="347" y="1853"/>
                  </a:lnTo>
                  <a:lnTo>
                    <a:pt x="579" y="1505"/>
                  </a:lnTo>
                  <a:lnTo>
                    <a:pt x="810" y="1158"/>
                  </a:lnTo>
                  <a:lnTo>
                    <a:pt x="1157" y="926"/>
                  </a:lnTo>
                  <a:lnTo>
                    <a:pt x="1157" y="926"/>
                  </a:lnTo>
                  <a:lnTo>
                    <a:pt x="1504" y="579"/>
                  </a:lnTo>
                  <a:lnTo>
                    <a:pt x="1852" y="463"/>
                  </a:lnTo>
                  <a:lnTo>
                    <a:pt x="2199" y="347"/>
                  </a:lnTo>
                  <a:lnTo>
                    <a:pt x="2546" y="231"/>
                  </a:lnTo>
                  <a:lnTo>
                    <a:pt x="2893" y="115"/>
                  </a:lnTo>
                  <a:lnTo>
                    <a:pt x="3240" y="115"/>
                  </a:lnTo>
                  <a:lnTo>
                    <a:pt x="3703" y="115"/>
                  </a:lnTo>
                  <a:lnTo>
                    <a:pt x="4051" y="0"/>
                  </a:lnTo>
                  <a:lnTo>
                    <a:pt x="4051" y="0"/>
                  </a:lnTo>
                  <a:lnTo>
                    <a:pt x="4398" y="463"/>
                  </a:lnTo>
                  <a:lnTo>
                    <a:pt x="4398" y="463"/>
                  </a:lnTo>
                  <a:lnTo>
                    <a:pt x="4398" y="463"/>
                  </a:lnTo>
                  <a:lnTo>
                    <a:pt x="4398" y="4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419120" y="3411360"/>
              <a:ext cx="86760" cy="124200"/>
            </a:xfrm>
            <a:custGeom>
              <a:avLst/>
              <a:gdLst/>
              <a:ahLst/>
              <a:rect l="l" t="t" r="r" b="b"/>
              <a:pathLst>
                <a:path w="2430" h="2316">
                  <a:moveTo>
                    <a:pt x="2314" y="579"/>
                  </a:moveTo>
                  <a:lnTo>
                    <a:pt x="2430" y="811"/>
                  </a:lnTo>
                  <a:lnTo>
                    <a:pt x="2430" y="1042"/>
                  </a:lnTo>
                  <a:lnTo>
                    <a:pt x="2430" y="1274"/>
                  </a:lnTo>
                  <a:lnTo>
                    <a:pt x="2314" y="1506"/>
                  </a:lnTo>
                  <a:lnTo>
                    <a:pt x="2199" y="1737"/>
                  </a:lnTo>
                  <a:lnTo>
                    <a:pt x="2083" y="1969"/>
                  </a:lnTo>
                  <a:lnTo>
                    <a:pt x="1851" y="2085"/>
                  </a:lnTo>
                  <a:lnTo>
                    <a:pt x="1620" y="2201"/>
                  </a:lnTo>
                  <a:lnTo>
                    <a:pt x="1620" y="2201"/>
                  </a:lnTo>
                  <a:lnTo>
                    <a:pt x="1504" y="2201"/>
                  </a:lnTo>
                  <a:lnTo>
                    <a:pt x="1388" y="2316"/>
                  </a:lnTo>
                  <a:lnTo>
                    <a:pt x="1157" y="2316"/>
                  </a:lnTo>
                  <a:lnTo>
                    <a:pt x="1041" y="2201"/>
                  </a:lnTo>
                  <a:lnTo>
                    <a:pt x="926" y="2201"/>
                  </a:lnTo>
                  <a:lnTo>
                    <a:pt x="810" y="2201"/>
                  </a:lnTo>
                  <a:lnTo>
                    <a:pt x="578" y="2085"/>
                  </a:lnTo>
                  <a:lnTo>
                    <a:pt x="463" y="2085"/>
                  </a:lnTo>
                  <a:lnTo>
                    <a:pt x="463" y="2085"/>
                  </a:lnTo>
                  <a:lnTo>
                    <a:pt x="347" y="1969"/>
                  </a:lnTo>
                  <a:lnTo>
                    <a:pt x="231" y="1737"/>
                  </a:lnTo>
                  <a:lnTo>
                    <a:pt x="115" y="1622"/>
                  </a:lnTo>
                  <a:lnTo>
                    <a:pt x="115" y="1390"/>
                  </a:lnTo>
                  <a:lnTo>
                    <a:pt x="0" y="1274"/>
                  </a:lnTo>
                  <a:lnTo>
                    <a:pt x="0" y="1042"/>
                  </a:lnTo>
                  <a:lnTo>
                    <a:pt x="115" y="927"/>
                  </a:lnTo>
                  <a:lnTo>
                    <a:pt x="115" y="695"/>
                  </a:lnTo>
                  <a:lnTo>
                    <a:pt x="115" y="695"/>
                  </a:lnTo>
                  <a:lnTo>
                    <a:pt x="231" y="463"/>
                  </a:lnTo>
                  <a:lnTo>
                    <a:pt x="578" y="232"/>
                  </a:lnTo>
                  <a:lnTo>
                    <a:pt x="810" y="116"/>
                  </a:lnTo>
                  <a:lnTo>
                    <a:pt x="1273" y="0"/>
                  </a:lnTo>
                  <a:lnTo>
                    <a:pt x="1620" y="0"/>
                  </a:lnTo>
                  <a:lnTo>
                    <a:pt x="1851" y="116"/>
                  </a:lnTo>
                  <a:lnTo>
                    <a:pt x="2199" y="232"/>
                  </a:lnTo>
                  <a:lnTo>
                    <a:pt x="2314" y="579"/>
                  </a:lnTo>
                  <a:lnTo>
                    <a:pt x="2314" y="579"/>
                  </a:lnTo>
                  <a:lnTo>
                    <a:pt x="2314" y="579"/>
                  </a:lnTo>
                  <a:lnTo>
                    <a:pt x="2314" y="579"/>
                  </a:lnTo>
                  <a:lnTo>
                    <a:pt x="23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588680" y="3442320"/>
              <a:ext cx="153000" cy="310680"/>
            </a:xfrm>
            <a:custGeom>
              <a:avLst/>
              <a:gdLst/>
              <a:ahLst/>
              <a:rect l="l" t="t" r="r" b="b"/>
              <a:pathLst>
                <a:path w="4282" h="5791">
                  <a:moveTo>
                    <a:pt x="4166" y="927"/>
                  </a:moveTo>
                  <a:lnTo>
                    <a:pt x="4282" y="1506"/>
                  </a:lnTo>
                  <a:lnTo>
                    <a:pt x="4282" y="1969"/>
                  </a:lnTo>
                  <a:lnTo>
                    <a:pt x="4282" y="2432"/>
                  </a:lnTo>
                  <a:lnTo>
                    <a:pt x="4166" y="2895"/>
                  </a:lnTo>
                  <a:lnTo>
                    <a:pt x="4050" y="3359"/>
                  </a:lnTo>
                  <a:lnTo>
                    <a:pt x="3935" y="3822"/>
                  </a:lnTo>
                  <a:lnTo>
                    <a:pt x="3703" y="4285"/>
                  </a:lnTo>
                  <a:lnTo>
                    <a:pt x="3587" y="4633"/>
                  </a:lnTo>
                  <a:lnTo>
                    <a:pt x="3587" y="4633"/>
                  </a:lnTo>
                  <a:lnTo>
                    <a:pt x="3240" y="4980"/>
                  </a:lnTo>
                  <a:lnTo>
                    <a:pt x="3009" y="5327"/>
                  </a:lnTo>
                  <a:lnTo>
                    <a:pt x="2662" y="5443"/>
                  </a:lnTo>
                  <a:lnTo>
                    <a:pt x="2199" y="5675"/>
                  </a:lnTo>
                  <a:lnTo>
                    <a:pt x="1851" y="5791"/>
                  </a:lnTo>
                  <a:lnTo>
                    <a:pt x="1504" y="5791"/>
                  </a:lnTo>
                  <a:lnTo>
                    <a:pt x="1041" y="5791"/>
                  </a:lnTo>
                  <a:lnTo>
                    <a:pt x="578" y="5791"/>
                  </a:lnTo>
                  <a:lnTo>
                    <a:pt x="578" y="5791"/>
                  </a:lnTo>
                  <a:lnTo>
                    <a:pt x="231" y="5096"/>
                  </a:lnTo>
                  <a:lnTo>
                    <a:pt x="0" y="4401"/>
                  </a:lnTo>
                  <a:lnTo>
                    <a:pt x="0" y="3706"/>
                  </a:lnTo>
                  <a:lnTo>
                    <a:pt x="0" y="3011"/>
                  </a:lnTo>
                  <a:lnTo>
                    <a:pt x="231" y="2316"/>
                  </a:lnTo>
                  <a:lnTo>
                    <a:pt x="463" y="1622"/>
                  </a:lnTo>
                  <a:lnTo>
                    <a:pt x="810" y="927"/>
                  </a:lnTo>
                  <a:lnTo>
                    <a:pt x="1157" y="348"/>
                  </a:lnTo>
                  <a:lnTo>
                    <a:pt x="1157" y="348"/>
                  </a:lnTo>
                  <a:lnTo>
                    <a:pt x="1389" y="232"/>
                  </a:lnTo>
                  <a:lnTo>
                    <a:pt x="1620" y="116"/>
                  </a:lnTo>
                  <a:lnTo>
                    <a:pt x="1851" y="0"/>
                  </a:lnTo>
                  <a:lnTo>
                    <a:pt x="2083" y="0"/>
                  </a:lnTo>
                  <a:lnTo>
                    <a:pt x="2314" y="0"/>
                  </a:lnTo>
                  <a:lnTo>
                    <a:pt x="2662" y="0"/>
                  </a:lnTo>
                  <a:lnTo>
                    <a:pt x="2893" y="116"/>
                  </a:lnTo>
                  <a:lnTo>
                    <a:pt x="3124" y="116"/>
                  </a:lnTo>
                  <a:lnTo>
                    <a:pt x="3124" y="116"/>
                  </a:lnTo>
                  <a:lnTo>
                    <a:pt x="3240" y="232"/>
                  </a:lnTo>
                  <a:lnTo>
                    <a:pt x="3472" y="232"/>
                  </a:lnTo>
                  <a:lnTo>
                    <a:pt x="3587" y="348"/>
                  </a:lnTo>
                  <a:lnTo>
                    <a:pt x="3703" y="463"/>
                  </a:lnTo>
                  <a:lnTo>
                    <a:pt x="3819" y="579"/>
                  </a:lnTo>
                  <a:lnTo>
                    <a:pt x="3935" y="695"/>
                  </a:lnTo>
                  <a:lnTo>
                    <a:pt x="4050" y="811"/>
                  </a:lnTo>
                  <a:lnTo>
                    <a:pt x="4166" y="927"/>
                  </a:lnTo>
                  <a:lnTo>
                    <a:pt x="4166" y="927"/>
                  </a:lnTo>
                  <a:lnTo>
                    <a:pt x="4166" y="927"/>
                  </a:lnTo>
                  <a:lnTo>
                    <a:pt x="4166" y="927"/>
                  </a:lnTo>
                  <a:lnTo>
                    <a:pt x="4166"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60520" y="3454920"/>
              <a:ext cx="20520" cy="30960"/>
            </a:xfrm>
            <a:custGeom>
              <a:avLst/>
              <a:gdLst/>
              <a:ahLst/>
              <a:rect l="l" t="t" r="r" b="b"/>
              <a:pathLst>
                <a:path w="579" h="579">
                  <a:moveTo>
                    <a:pt x="463" y="579"/>
                  </a:moveTo>
                  <a:lnTo>
                    <a:pt x="463" y="579"/>
                  </a:lnTo>
                  <a:lnTo>
                    <a:pt x="347" y="579"/>
                  </a:lnTo>
                  <a:lnTo>
                    <a:pt x="231" y="579"/>
                  </a:lnTo>
                  <a:lnTo>
                    <a:pt x="231" y="579"/>
                  </a:lnTo>
                  <a:lnTo>
                    <a:pt x="116" y="579"/>
                  </a:lnTo>
                  <a:lnTo>
                    <a:pt x="116" y="579"/>
                  </a:lnTo>
                  <a:lnTo>
                    <a:pt x="0" y="463"/>
                  </a:lnTo>
                  <a:lnTo>
                    <a:pt x="0" y="347"/>
                  </a:lnTo>
                  <a:lnTo>
                    <a:pt x="0" y="347"/>
                  </a:lnTo>
                  <a:lnTo>
                    <a:pt x="0" y="347"/>
                  </a:lnTo>
                  <a:lnTo>
                    <a:pt x="116" y="347"/>
                  </a:lnTo>
                  <a:lnTo>
                    <a:pt x="116" y="231"/>
                  </a:lnTo>
                  <a:lnTo>
                    <a:pt x="116" y="231"/>
                  </a:lnTo>
                  <a:lnTo>
                    <a:pt x="116" y="231"/>
                  </a:lnTo>
                  <a:lnTo>
                    <a:pt x="116" y="116"/>
                  </a:lnTo>
                  <a:lnTo>
                    <a:pt x="116" y="116"/>
                  </a:lnTo>
                  <a:lnTo>
                    <a:pt x="116" y="116"/>
                  </a:lnTo>
                  <a:lnTo>
                    <a:pt x="116" y="116"/>
                  </a:lnTo>
                  <a:lnTo>
                    <a:pt x="579" y="0"/>
                  </a:lnTo>
                  <a:lnTo>
                    <a:pt x="579" y="0"/>
                  </a:lnTo>
                  <a:lnTo>
                    <a:pt x="579" y="0"/>
                  </a:lnTo>
                  <a:lnTo>
                    <a:pt x="579" y="116"/>
                  </a:lnTo>
                  <a:lnTo>
                    <a:pt x="579" y="116"/>
                  </a:lnTo>
                  <a:lnTo>
                    <a:pt x="579" y="231"/>
                  </a:lnTo>
                  <a:lnTo>
                    <a:pt x="579" y="347"/>
                  </a:lnTo>
                  <a:lnTo>
                    <a:pt x="579" y="463"/>
                  </a:lnTo>
                  <a:lnTo>
                    <a:pt x="579" y="463"/>
                  </a:lnTo>
                  <a:lnTo>
                    <a:pt x="463" y="579"/>
                  </a:lnTo>
                  <a:lnTo>
                    <a:pt x="463" y="579"/>
                  </a:lnTo>
                  <a:lnTo>
                    <a:pt x="463" y="579"/>
                  </a:lnTo>
                  <a:lnTo>
                    <a:pt x="463" y="579"/>
                  </a:lnTo>
                  <a:lnTo>
                    <a:pt x="463" y="57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64" name=""/>
            <p:cNvSpPr/>
            <p:nvPr/>
          </p:nvSpPr>
          <p:spPr>
            <a:xfrm>
              <a:off x="1617840" y="3479760"/>
              <a:ext cx="65880" cy="99360"/>
            </a:xfrm>
            <a:custGeom>
              <a:avLst/>
              <a:gdLst/>
              <a:ahLst/>
              <a:rect l="l" t="t" r="r" b="b"/>
              <a:pathLst>
                <a:path w="1852" h="1853">
                  <a:moveTo>
                    <a:pt x="1852" y="579"/>
                  </a:moveTo>
                  <a:lnTo>
                    <a:pt x="1852" y="811"/>
                  </a:lnTo>
                  <a:lnTo>
                    <a:pt x="1852" y="927"/>
                  </a:lnTo>
                  <a:lnTo>
                    <a:pt x="1736" y="1158"/>
                  </a:lnTo>
                  <a:lnTo>
                    <a:pt x="1736" y="1390"/>
                  </a:lnTo>
                  <a:lnTo>
                    <a:pt x="1620" y="1506"/>
                  </a:lnTo>
                  <a:lnTo>
                    <a:pt x="1389" y="1621"/>
                  </a:lnTo>
                  <a:lnTo>
                    <a:pt x="1273" y="1737"/>
                  </a:lnTo>
                  <a:lnTo>
                    <a:pt x="1041" y="1853"/>
                  </a:lnTo>
                  <a:lnTo>
                    <a:pt x="1041" y="1853"/>
                  </a:lnTo>
                  <a:lnTo>
                    <a:pt x="926" y="1853"/>
                  </a:lnTo>
                  <a:lnTo>
                    <a:pt x="694" y="1853"/>
                  </a:lnTo>
                  <a:lnTo>
                    <a:pt x="579" y="1737"/>
                  </a:lnTo>
                  <a:lnTo>
                    <a:pt x="463" y="1737"/>
                  </a:lnTo>
                  <a:lnTo>
                    <a:pt x="347" y="1621"/>
                  </a:lnTo>
                  <a:lnTo>
                    <a:pt x="231" y="1506"/>
                  </a:lnTo>
                  <a:lnTo>
                    <a:pt x="116" y="1390"/>
                  </a:lnTo>
                  <a:lnTo>
                    <a:pt x="0" y="1274"/>
                  </a:lnTo>
                  <a:lnTo>
                    <a:pt x="0" y="1274"/>
                  </a:lnTo>
                  <a:lnTo>
                    <a:pt x="0" y="1158"/>
                  </a:lnTo>
                  <a:lnTo>
                    <a:pt x="0" y="927"/>
                  </a:lnTo>
                  <a:lnTo>
                    <a:pt x="0" y="811"/>
                  </a:lnTo>
                  <a:lnTo>
                    <a:pt x="0" y="695"/>
                  </a:lnTo>
                  <a:lnTo>
                    <a:pt x="0" y="463"/>
                  </a:lnTo>
                  <a:lnTo>
                    <a:pt x="116" y="348"/>
                  </a:lnTo>
                  <a:lnTo>
                    <a:pt x="116" y="232"/>
                  </a:lnTo>
                  <a:lnTo>
                    <a:pt x="231" y="116"/>
                  </a:lnTo>
                  <a:lnTo>
                    <a:pt x="231" y="116"/>
                  </a:lnTo>
                  <a:lnTo>
                    <a:pt x="463" y="0"/>
                  </a:lnTo>
                  <a:lnTo>
                    <a:pt x="694" y="0"/>
                  </a:lnTo>
                  <a:lnTo>
                    <a:pt x="926" y="0"/>
                  </a:lnTo>
                  <a:lnTo>
                    <a:pt x="1157" y="0"/>
                  </a:lnTo>
                  <a:lnTo>
                    <a:pt x="1389" y="0"/>
                  </a:lnTo>
                  <a:lnTo>
                    <a:pt x="1620" y="116"/>
                  </a:lnTo>
                  <a:lnTo>
                    <a:pt x="1736" y="348"/>
                  </a:lnTo>
                  <a:lnTo>
                    <a:pt x="1852" y="579"/>
                  </a:lnTo>
                  <a:lnTo>
                    <a:pt x="1852" y="579"/>
                  </a:lnTo>
                  <a:lnTo>
                    <a:pt x="1852" y="579"/>
                  </a:lnTo>
                  <a:lnTo>
                    <a:pt x="1852" y="579"/>
                  </a:lnTo>
                  <a:lnTo>
                    <a:pt x="1852"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1646640" y="3510720"/>
              <a:ext cx="20520" cy="37080"/>
            </a:xfrm>
            <a:custGeom>
              <a:avLst/>
              <a:gdLst/>
              <a:ahLst/>
              <a:rect l="l" t="t" r="r" b="b"/>
              <a:pathLst>
                <a:path w="579" h="695">
                  <a:moveTo>
                    <a:pt x="463" y="116"/>
                  </a:moveTo>
                  <a:lnTo>
                    <a:pt x="463" y="116"/>
                  </a:lnTo>
                  <a:lnTo>
                    <a:pt x="579" y="232"/>
                  </a:lnTo>
                  <a:lnTo>
                    <a:pt x="463" y="348"/>
                  </a:lnTo>
                  <a:lnTo>
                    <a:pt x="463" y="463"/>
                  </a:lnTo>
                  <a:lnTo>
                    <a:pt x="463" y="463"/>
                  </a:lnTo>
                  <a:lnTo>
                    <a:pt x="347" y="579"/>
                  </a:lnTo>
                  <a:lnTo>
                    <a:pt x="231" y="579"/>
                  </a:lnTo>
                  <a:lnTo>
                    <a:pt x="231" y="695"/>
                  </a:lnTo>
                  <a:lnTo>
                    <a:pt x="231" y="695"/>
                  </a:lnTo>
                  <a:lnTo>
                    <a:pt x="116" y="695"/>
                  </a:lnTo>
                  <a:lnTo>
                    <a:pt x="116" y="695"/>
                  </a:lnTo>
                  <a:lnTo>
                    <a:pt x="0" y="579"/>
                  </a:lnTo>
                  <a:lnTo>
                    <a:pt x="0" y="579"/>
                  </a:lnTo>
                  <a:lnTo>
                    <a:pt x="0" y="579"/>
                  </a:lnTo>
                  <a:lnTo>
                    <a:pt x="0" y="463"/>
                  </a:lnTo>
                  <a:lnTo>
                    <a:pt x="0" y="463"/>
                  </a:lnTo>
                  <a:lnTo>
                    <a:pt x="0" y="348"/>
                  </a:lnTo>
                  <a:lnTo>
                    <a:pt x="0" y="348"/>
                  </a:lnTo>
                  <a:lnTo>
                    <a:pt x="0" y="232"/>
                  </a:lnTo>
                  <a:lnTo>
                    <a:pt x="0" y="232"/>
                  </a:lnTo>
                  <a:lnTo>
                    <a:pt x="0" y="116"/>
                  </a:lnTo>
                  <a:lnTo>
                    <a:pt x="116" y="116"/>
                  </a:lnTo>
                  <a:lnTo>
                    <a:pt x="116" y="116"/>
                  </a:lnTo>
                  <a:lnTo>
                    <a:pt x="231" y="116"/>
                  </a:lnTo>
                  <a:lnTo>
                    <a:pt x="231" y="0"/>
                  </a:lnTo>
                  <a:lnTo>
                    <a:pt x="231" y="0"/>
                  </a:lnTo>
                  <a:lnTo>
                    <a:pt x="231" y="0"/>
                  </a:lnTo>
                  <a:lnTo>
                    <a:pt x="231" y="0"/>
                  </a:lnTo>
                  <a:lnTo>
                    <a:pt x="347" y="0"/>
                  </a:lnTo>
                  <a:lnTo>
                    <a:pt x="347" y="0"/>
                  </a:lnTo>
                  <a:lnTo>
                    <a:pt x="347" y="0"/>
                  </a:lnTo>
                  <a:lnTo>
                    <a:pt x="347" y="116"/>
                  </a:lnTo>
                  <a:lnTo>
                    <a:pt x="463" y="116"/>
                  </a:lnTo>
                  <a:lnTo>
                    <a:pt x="463" y="116"/>
                  </a:lnTo>
                  <a:lnTo>
                    <a:pt x="463" y="116"/>
                  </a:lnTo>
                  <a:lnTo>
                    <a:pt x="463" y="116"/>
                  </a:lnTo>
                  <a:lnTo>
                    <a:pt x="463" y="116"/>
                  </a:lnTo>
                  <a:lnTo>
                    <a:pt x="463" y="116"/>
                  </a:lnTo>
                  <a:lnTo>
                    <a:pt x="463" y="116"/>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66" name=""/>
            <p:cNvSpPr/>
            <p:nvPr/>
          </p:nvSpPr>
          <p:spPr>
            <a:xfrm>
              <a:off x="1220400" y="3784320"/>
              <a:ext cx="57600" cy="37080"/>
            </a:xfrm>
            <a:custGeom>
              <a:avLst/>
              <a:gdLst/>
              <a:ahLst/>
              <a:rect l="l" t="t" r="r" b="b"/>
              <a:pathLst>
                <a:path w="1620" h="695">
                  <a:moveTo>
                    <a:pt x="1620" y="116"/>
                  </a:moveTo>
                  <a:lnTo>
                    <a:pt x="1388" y="116"/>
                  </a:lnTo>
                  <a:lnTo>
                    <a:pt x="1157" y="116"/>
                  </a:lnTo>
                  <a:lnTo>
                    <a:pt x="1041" y="231"/>
                  </a:lnTo>
                  <a:lnTo>
                    <a:pt x="810" y="347"/>
                  </a:lnTo>
                  <a:lnTo>
                    <a:pt x="578" y="347"/>
                  </a:lnTo>
                  <a:lnTo>
                    <a:pt x="462" y="463"/>
                  </a:lnTo>
                  <a:lnTo>
                    <a:pt x="347" y="579"/>
                  </a:lnTo>
                  <a:lnTo>
                    <a:pt x="115" y="695"/>
                  </a:lnTo>
                  <a:lnTo>
                    <a:pt x="115" y="695"/>
                  </a:lnTo>
                  <a:lnTo>
                    <a:pt x="115" y="695"/>
                  </a:lnTo>
                  <a:lnTo>
                    <a:pt x="0" y="695"/>
                  </a:lnTo>
                  <a:lnTo>
                    <a:pt x="0" y="579"/>
                  </a:lnTo>
                  <a:lnTo>
                    <a:pt x="0" y="579"/>
                  </a:lnTo>
                  <a:lnTo>
                    <a:pt x="0" y="463"/>
                  </a:lnTo>
                  <a:lnTo>
                    <a:pt x="0" y="463"/>
                  </a:lnTo>
                  <a:lnTo>
                    <a:pt x="0" y="347"/>
                  </a:lnTo>
                  <a:lnTo>
                    <a:pt x="115" y="347"/>
                  </a:lnTo>
                  <a:lnTo>
                    <a:pt x="115" y="347"/>
                  </a:lnTo>
                  <a:lnTo>
                    <a:pt x="231" y="231"/>
                  </a:lnTo>
                  <a:lnTo>
                    <a:pt x="462" y="116"/>
                  </a:lnTo>
                  <a:lnTo>
                    <a:pt x="578" y="0"/>
                  </a:lnTo>
                  <a:lnTo>
                    <a:pt x="810" y="0"/>
                  </a:lnTo>
                  <a:lnTo>
                    <a:pt x="1041" y="0"/>
                  </a:lnTo>
                  <a:lnTo>
                    <a:pt x="1157" y="0"/>
                  </a:lnTo>
                  <a:lnTo>
                    <a:pt x="1388" y="0"/>
                  </a:lnTo>
                  <a:lnTo>
                    <a:pt x="1620" y="116"/>
                  </a:lnTo>
                  <a:lnTo>
                    <a:pt x="1620" y="116"/>
                  </a:lnTo>
                  <a:lnTo>
                    <a:pt x="1620" y="116"/>
                  </a:lnTo>
                  <a:lnTo>
                    <a:pt x="1620" y="116"/>
                  </a:lnTo>
                  <a:lnTo>
                    <a:pt x="1620" y="11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67" name=""/>
            <p:cNvSpPr/>
            <p:nvPr/>
          </p:nvSpPr>
          <p:spPr>
            <a:xfrm>
              <a:off x="1207800" y="3827880"/>
              <a:ext cx="517320" cy="173880"/>
            </a:xfrm>
            <a:custGeom>
              <a:avLst/>
              <a:gdLst/>
              <a:ahLst/>
              <a:rect l="l" t="t" r="r" b="b"/>
              <a:pathLst>
                <a:path w="14467" h="3243">
                  <a:moveTo>
                    <a:pt x="3820" y="232"/>
                  </a:moveTo>
                  <a:lnTo>
                    <a:pt x="3704" y="232"/>
                  </a:lnTo>
                  <a:lnTo>
                    <a:pt x="3472" y="232"/>
                  </a:lnTo>
                  <a:lnTo>
                    <a:pt x="3357" y="232"/>
                  </a:lnTo>
                  <a:lnTo>
                    <a:pt x="3125" y="232"/>
                  </a:lnTo>
                  <a:lnTo>
                    <a:pt x="3009" y="348"/>
                  </a:lnTo>
                  <a:lnTo>
                    <a:pt x="2778" y="348"/>
                  </a:lnTo>
                  <a:lnTo>
                    <a:pt x="2662" y="348"/>
                  </a:lnTo>
                  <a:lnTo>
                    <a:pt x="2431" y="464"/>
                  </a:lnTo>
                  <a:lnTo>
                    <a:pt x="2431" y="464"/>
                  </a:lnTo>
                  <a:lnTo>
                    <a:pt x="2431" y="695"/>
                  </a:lnTo>
                  <a:lnTo>
                    <a:pt x="2431" y="695"/>
                  </a:lnTo>
                  <a:lnTo>
                    <a:pt x="2894" y="1159"/>
                  </a:lnTo>
                  <a:lnTo>
                    <a:pt x="3472" y="1622"/>
                  </a:lnTo>
                  <a:lnTo>
                    <a:pt x="4051" y="1853"/>
                  </a:lnTo>
                  <a:lnTo>
                    <a:pt x="4745" y="2085"/>
                  </a:lnTo>
                  <a:lnTo>
                    <a:pt x="5440" y="2201"/>
                  </a:lnTo>
                  <a:lnTo>
                    <a:pt x="6018" y="2432"/>
                  </a:lnTo>
                  <a:lnTo>
                    <a:pt x="6713" y="2548"/>
                  </a:lnTo>
                  <a:lnTo>
                    <a:pt x="7291" y="2780"/>
                  </a:lnTo>
                  <a:lnTo>
                    <a:pt x="7291" y="2780"/>
                  </a:lnTo>
                  <a:lnTo>
                    <a:pt x="7639" y="2780"/>
                  </a:lnTo>
                  <a:lnTo>
                    <a:pt x="7986" y="2780"/>
                  </a:lnTo>
                  <a:lnTo>
                    <a:pt x="8333" y="2780"/>
                  </a:lnTo>
                  <a:lnTo>
                    <a:pt x="8680" y="2664"/>
                  </a:lnTo>
                  <a:lnTo>
                    <a:pt x="9027" y="2664"/>
                  </a:lnTo>
                  <a:lnTo>
                    <a:pt x="9375" y="2548"/>
                  </a:lnTo>
                  <a:lnTo>
                    <a:pt x="9722" y="2432"/>
                  </a:lnTo>
                  <a:lnTo>
                    <a:pt x="10069" y="2317"/>
                  </a:lnTo>
                  <a:lnTo>
                    <a:pt x="10069" y="2317"/>
                  </a:lnTo>
                  <a:lnTo>
                    <a:pt x="10185" y="2317"/>
                  </a:lnTo>
                  <a:lnTo>
                    <a:pt x="10185" y="2317"/>
                  </a:lnTo>
                  <a:lnTo>
                    <a:pt x="10301" y="2317"/>
                  </a:lnTo>
                  <a:lnTo>
                    <a:pt x="10416" y="2317"/>
                  </a:lnTo>
                  <a:lnTo>
                    <a:pt x="10532" y="2317"/>
                  </a:lnTo>
                  <a:lnTo>
                    <a:pt x="10648" y="2201"/>
                  </a:lnTo>
                  <a:lnTo>
                    <a:pt x="10763" y="2201"/>
                  </a:lnTo>
                  <a:lnTo>
                    <a:pt x="10763" y="2085"/>
                  </a:lnTo>
                  <a:lnTo>
                    <a:pt x="10763" y="2085"/>
                  </a:lnTo>
                  <a:lnTo>
                    <a:pt x="10879" y="2201"/>
                  </a:lnTo>
                  <a:lnTo>
                    <a:pt x="10879" y="2201"/>
                  </a:lnTo>
                  <a:lnTo>
                    <a:pt x="11226" y="1969"/>
                  </a:lnTo>
                  <a:lnTo>
                    <a:pt x="11574" y="1853"/>
                  </a:lnTo>
                  <a:lnTo>
                    <a:pt x="11921" y="1738"/>
                  </a:lnTo>
                  <a:lnTo>
                    <a:pt x="12268" y="1622"/>
                  </a:lnTo>
                  <a:lnTo>
                    <a:pt x="12615" y="1506"/>
                  </a:lnTo>
                  <a:lnTo>
                    <a:pt x="12962" y="1506"/>
                  </a:lnTo>
                  <a:lnTo>
                    <a:pt x="13310" y="1506"/>
                  </a:lnTo>
                  <a:lnTo>
                    <a:pt x="13772" y="1506"/>
                  </a:lnTo>
                  <a:lnTo>
                    <a:pt x="13772" y="1506"/>
                  </a:lnTo>
                  <a:lnTo>
                    <a:pt x="13772" y="1506"/>
                  </a:lnTo>
                  <a:lnTo>
                    <a:pt x="13888" y="1390"/>
                  </a:lnTo>
                  <a:lnTo>
                    <a:pt x="14004" y="1390"/>
                  </a:lnTo>
                  <a:lnTo>
                    <a:pt x="14120" y="1274"/>
                  </a:lnTo>
                  <a:lnTo>
                    <a:pt x="14120" y="1159"/>
                  </a:lnTo>
                  <a:lnTo>
                    <a:pt x="14235" y="1159"/>
                  </a:lnTo>
                  <a:lnTo>
                    <a:pt x="14351" y="1159"/>
                  </a:lnTo>
                  <a:lnTo>
                    <a:pt x="14467" y="1159"/>
                  </a:lnTo>
                  <a:lnTo>
                    <a:pt x="14467" y="1159"/>
                  </a:lnTo>
                  <a:lnTo>
                    <a:pt x="14467" y="1274"/>
                  </a:lnTo>
                  <a:lnTo>
                    <a:pt x="14351" y="1390"/>
                  </a:lnTo>
                  <a:lnTo>
                    <a:pt x="14351" y="1506"/>
                  </a:lnTo>
                  <a:lnTo>
                    <a:pt x="14235" y="1622"/>
                  </a:lnTo>
                  <a:lnTo>
                    <a:pt x="14120" y="1738"/>
                  </a:lnTo>
                  <a:lnTo>
                    <a:pt x="14004" y="1853"/>
                  </a:lnTo>
                  <a:lnTo>
                    <a:pt x="13888" y="1853"/>
                  </a:lnTo>
                  <a:lnTo>
                    <a:pt x="13772" y="1969"/>
                  </a:lnTo>
                  <a:lnTo>
                    <a:pt x="13772" y="1969"/>
                  </a:lnTo>
                  <a:lnTo>
                    <a:pt x="12962" y="1969"/>
                  </a:lnTo>
                  <a:lnTo>
                    <a:pt x="12152" y="2085"/>
                  </a:lnTo>
                  <a:lnTo>
                    <a:pt x="11458" y="2317"/>
                  </a:lnTo>
                  <a:lnTo>
                    <a:pt x="10648" y="2548"/>
                  </a:lnTo>
                  <a:lnTo>
                    <a:pt x="9953" y="2780"/>
                  </a:lnTo>
                  <a:lnTo>
                    <a:pt x="9143" y="3011"/>
                  </a:lnTo>
                  <a:lnTo>
                    <a:pt x="8333" y="3127"/>
                  </a:lnTo>
                  <a:lnTo>
                    <a:pt x="7523" y="3243"/>
                  </a:lnTo>
                  <a:lnTo>
                    <a:pt x="7523" y="3243"/>
                  </a:lnTo>
                  <a:lnTo>
                    <a:pt x="6713" y="3011"/>
                  </a:lnTo>
                  <a:lnTo>
                    <a:pt x="6018" y="2896"/>
                  </a:lnTo>
                  <a:lnTo>
                    <a:pt x="5208" y="2664"/>
                  </a:lnTo>
                  <a:lnTo>
                    <a:pt x="4514" y="2432"/>
                  </a:lnTo>
                  <a:lnTo>
                    <a:pt x="3704" y="2201"/>
                  </a:lnTo>
                  <a:lnTo>
                    <a:pt x="3125" y="1738"/>
                  </a:lnTo>
                  <a:lnTo>
                    <a:pt x="2431" y="1274"/>
                  </a:lnTo>
                  <a:lnTo>
                    <a:pt x="1968" y="695"/>
                  </a:lnTo>
                  <a:lnTo>
                    <a:pt x="1968" y="695"/>
                  </a:lnTo>
                  <a:lnTo>
                    <a:pt x="1736" y="811"/>
                  </a:lnTo>
                  <a:lnTo>
                    <a:pt x="1505" y="927"/>
                  </a:lnTo>
                  <a:lnTo>
                    <a:pt x="1273" y="1043"/>
                  </a:lnTo>
                  <a:lnTo>
                    <a:pt x="1042" y="1159"/>
                  </a:lnTo>
                  <a:lnTo>
                    <a:pt x="810" y="1274"/>
                  </a:lnTo>
                  <a:lnTo>
                    <a:pt x="579" y="1506"/>
                  </a:lnTo>
                  <a:lnTo>
                    <a:pt x="463" y="1622"/>
                  </a:lnTo>
                  <a:lnTo>
                    <a:pt x="348" y="1853"/>
                  </a:lnTo>
                  <a:lnTo>
                    <a:pt x="348" y="1853"/>
                  </a:lnTo>
                  <a:lnTo>
                    <a:pt x="232" y="1853"/>
                  </a:lnTo>
                  <a:lnTo>
                    <a:pt x="232" y="1853"/>
                  </a:lnTo>
                  <a:lnTo>
                    <a:pt x="116" y="1853"/>
                  </a:lnTo>
                  <a:lnTo>
                    <a:pt x="116" y="1853"/>
                  </a:lnTo>
                  <a:lnTo>
                    <a:pt x="116" y="1853"/>
                  </a:lnTo>
                  <a:lnTo>
                    <a:pt x="116" y="1738"/>
                  </a:lnTo>
                  <a:lnTo>
                    <a:pt x="0" y="1738"/>
                  </a:lnTo>
                  <a:lnTo>
                    <a:pt x="0" y="1738"/>
                  </a:lnTo>
                  <a:lnTo>
                    <a:pt x="0" y="1738"/>
                  </a:lnTo>
                  <a:lnTo>
                    <a:pt x="116" y="1390"/>
                  </a:lnTo>
                  <a:lnTo>
                    <a:pt x="348" y="1159"/>
                  </a:lnTo>
                  <a:lnTo>
                    <a:pt x="463" y="927"/>
                  </a:lnTo>
                  <a:lnTo>
                    <a:pt x="810" y="811"/>
                  </a:lnTo>
                  <a:lnTo>
                    <a:pt x="1042" y="695"/>
                  </a:lnTo>
                  <a:lnTo>
                    <a:pt x="1273" y="579"/>
                  </a:lnTo>
                  <a:lnTo>
                    <a:pt x="1621" y="348"/>
                  </a:lnTo>
                  <a:lnTo>
                    <a:pt x="1852" y="232"/>
                  </a:lnTo>
                  <a:lnTo>
                    <a:pt x="1852" y="232"/>
                  </a:lnTo>
                  <a:lnTo>
                    <a:pt x="2084" y="116"/>
                  </a:lnTo>
                  <a:lnTo>
                    <a:pt x="2315" y="116"/>
                  </a:lnTo>
                  <a:lnTo>
                    <a:pt x="2546" y="0"/>
                  </a:lnTo>
                  <a:lnTo>
                    <a:pt x="2778" y="0"/>
                  </a:lnTo>
                  <a:lnTo>
                    <a:pt x="3125" y="0"/>
                  </a:lnTo>
                  <a:lnTo>
                    <a:pt x="3357" y="116"/>
                  </a:lnTo>
                  <a:lnTo>
                    <a:pt x="3588" y="116"/>
                  </a:lnTo>
                  <a:lnTo>
                    <a:pt x="3820" y="232"/>
                  </a:lnTo>
                  <a:lnTo>
                    <a:pt x="3820" y="232"/>
                  </a:lnTo>
                  <a:lnTo>
                    <a:pt x="3820" y="232"/>
                  </a:lnTo>
                  <a:lnTo>
                    <a:pt x="3820" y="232"/>
                  </a:lnTo>
                  <a:lnTo>
                    <a:pt x="382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2213640" y="3927600"/>
              <a:ext cx="343440" cy="298440"/>
            </a:xfrm>
            <a:custGeom>
              <a:avLst/>
              <a:gdLst/>
              <a:ahLst/>
              <a:rect l="l" t="t" r="r" b="b"/>
              <a:pathLst>
                <a:path w="9606" h="5559">
                  <a:moveTo>
                    <a:pt x="9606" y="695"/>
                  </a:moveTo>
                  <a:lnTo>
                    <a:pt x="9606" y="811"/>
                  </a:lnTo>
                  <a:lnTo>
                    <a:pt x="9606" y="811"/>
                  </a:lnTo>
                  <a:lnTo>
                    <a:pt x="9490" y="811"/>
                  </a:lnTo>
                  <a:lnTo>
                    <a:pt x="9375" y="811"/>
                  </a:lnTo>
                  <a:lnTo>
                    <a:pt x="9259" y="811"/>
                  </a:lnTo>
                  <a:lnTo>
                    <a:pt x="9143" y="811"/>
                  </a:lnTo>
                  <a:lnTo>
                    <a:pt x="9027" y="811"/>
                  </a:lnTo>
                  <a:lnTo>
                    <a:pt x="8912" y="927"/>
                  </a:lnTo>
                  <a:lnTo>
                    <a:pt x="8796" y="927"/>
                  </a:lnTo>
                  <a:lnTo>
                    <a:pt x="8680" y="1043"/>
                  </a:lnTo>
                  <a:lnTo>
                    <a:pt x="8680" y="1043"/>
                  </a:lnTo>
                  <a:lnTo>
                    <a:pt x="8912" y="1158"/>
                  </a:lnTo>
                  <a:lnTo>
                    <a:pt x="8912" y="1158"/>
                  </a:lnTo>
                  <a:lnTo>
                    <a:pt x="8680" y="1158"/>
                  </a:lnTo>
                  <a:lnTo>
                    <a:pt x="8564" y="1274"/>
                  </a:lnTo>
                  <a:lnTo>
                    <a:pt x="8333" y="1274"/>
                  </a:lnTo>
                  <a:lnTo>
                    <a:pt x="8102" y="1274"/>
                  </a:lnTo>
                  <a:lnTo>
                    <a:pt x="7986" y="1390"/>
                  </a:lnTo>
                  <a:lnTo>
                    <a:pt x="7754" y="1390"/>
                  </a:lnTo>
                  <a:lnTo>
                    <a:pt x="7639" y="1506"/>
                  </a:lnTo>
                  <a:lnTo>
                    <a:pt x="7407" y="1622"/>
                  </a:lnTo>
                  <a:lnTo>
                    <a:pt x="7407" y="1622"/>
                  </a:lnTo>
                  <a:lnTo>
                    <a:pt x="7639" y="1622"/>
                  </a:lnTo>
                  <a:lnTo>
                    <a:pt x="7754" y="1622"/>
                  </a:lnTo>
                  <a:lnTo>
                    <a:pt x="7870" y="1738"/>
                  </a:lnTo>
                  <a:lnTo>
                    <a:pt x="7986" y="1738"/>
                  </a:lnTo>
                  <a:lnTo>
                    <a:pt x="8102" y="1738"/>
                  </a:lnTo>
                  <a:lnTo>
                    <a:pt x="8217" y="1853"/>
                  </a:lnTo>
                  <a:lnTo>
                    <a:pt x="8333" y="1853"/>
                  </a:lnTo>
                  <a:lnTo>
                    <a:pt x="8564" y="1853"/>
                  </a:lnTo>
                  <a:lnTo>
                    <a:pt x="8564" y="1853"/>
                  </a:lnTo>
                  <a:lnTo>
                    <a:pt x="8564" y="1969"/>
                  </a:lnTo>
                  <a:lnTo>
                    <a:pt x="8564" y="1969"/>
                  </a:lnTo>
                  <a:lnTo>
                    <a:pt x="8564" y="1969"/>
                  </a:lnTo>
                  <a:lnTo>
                    <a:pt x="8680" y="2085"/>
                  </a:lnTo>
                  <a:lnTo>
                    <a:pt x="8680" y="2085"/>
                  </a:lnTo>
                  <a:lnTo>
                    <a:pt x="8796" y="1969"/>
                  </a:lnTo>
                  <a:lnTo>
                    <a:pt x="8796" y="1969"/>
                  </a:lnTo>
                  <a:lnTo>
                    <a:pt x="8912" y="1969"/>
                  </a:lnTo>
                  <a:lnTo>
                    <a:pt x="8912" y="1969"/>
                  </a:lnTo>
                  <a:lnTo>
                    <a:pt x="9027" y="1969"/>
                  </a:lnTo>
                  <a:lnTo>
                    <a:pt x="9027" y="1969"/>
                  </a:lnTo>
                  <a:lnTo>
                    <a:pt x="8796" y="2085"/>
                  </a:lnTo>
                  <a:lnTo>
                    <a:pt x="8680" y="2085"/>
                  </a:lnTo>
                  <a:lnTo>
                    <a:pt x="8449" y="2201"/>
                  </a:lnTo>
                  <a:lnTo>
                    <a:pt x="8333" y="2317"/>
                  </a:lnTo>
                  <a:lnTo>
                    <a:pt x="8102" y="2317"/>
                  </a:lnTo>
                  <a:lnTo>
                    <a:pt x="7986" y="2432"/>
                  </a:lnTo>
                  <a:lnTo>
                    <a:pt x="7754" y="2664"/>
                  </a:lnTo>
                  <a:lnTo>
                    <a:pt x="7639" y="2780"/>
                  </a:lnTo>
                  <a:lnTo>
                    <a:pt x="7639" y="2780"/>
                  </a:lnTo>
                  <a:lnTo>
                    <a:pt x="7870" y="2780"/>
                  </a:lnTo>
                  <a:lnTo>
                    <a:pt x="8102" y="2780"/>
                  </a:lnTo>
                  <a:lnTo>
                    <a:pt x="8333" y="2780"/>
                  </a:lnTo>
                  <a:lnTo>
                    <a:pt x="8564" y="2664"/>
                  </a:lnTo>
                  <a:lnTo>
                    <a:pt x="8796" y="2548"/>
                  </a:lnTo>
                  <a:lnTo>
                    <a:pt x="9027" y="2548"/>
                  </a:lnTo>
                  <a:lnTo>
                    <a:pt x="9259" y="2432"/>
                  </a:lnTo>
                  <a:lnTo>
                    <a:pt x="9490" y="2432"/>
                  </a:lnTo>
                  <a:lnTo>
                    <a:pt x="9490" y="2432"/>
                  </a:lnTo>
                  <a:lnTo>
                    <a:pt x="8564" y="2896"/>
                  </a:lnTo>
                  <a:lnTo>
                    <a:pt x="7754" y="3243"/>
                  </a:lnTo>
                  <a:lnTo>
                    <a:pt x="6828" y="3590"/>
                  </a:lnTo>
                  <a:lnTo>
                    <a:pt x="6018" y="3938"/>
                  </a:lnTo>
                  <a:lnTo>
                    <a:pt x="5092" y="4401"/>
                  </a:lnTo>
                  <a:lnTo>
                    <a:pt x="4282" y="4749"/>
                  </a:lnTo>
                  <a:lnTo>
                    <a:pt x="3357" y="5096"/>
                  </a:lnTo>
                  <a:lnTo>
                    <a:pt x="2546" y="5559"/>
                  </a:lnTo>
                  <a:lnTo>
                    <a:pt x="2546" y="5559"/>
                  </a:lnTo>
                  <a:lnTo>
                    <a:pt x="2431" y="5443"/>
                  </a:lnTo>
                  <a:lnTo>
                    <a:pt x="2199" y="5328"/>
                  </a:lnTo>
                  <a:lnTo>
                    <a:pt x="1968" y="5212"/>
                  </a:lnTo>
                  <a:lnTo>
                    <a:pt x="1736" y="5212"/>
                  </a:lnTo>
                  <a:lnTo>
                    <a:pt x="1505" y="5096"/>
                  </a:lnTo>
                  <a:lnTo>
                    <a:pt x="1389" y="4980"/>
                  </a:lnTo>
                  <a:lnTo>
                    <a:pt x="1273" y="4864"/>
                  </a:lnTo>
                  <a:lnTo>
                    <a:pt x="1273" y="4517"/>
                  </a:lnTo>
                  <a:lnTo>
                    <a:pt x="1273" y="4517"/>
                  </a:lnTo>
                  <a:lnTo>
                    <a:pt x="1389" y="4401"/>
                  </a:lnTo>
                  <a:lnTo>
                    <a:pt x="1505" y="4170"/>
                  </a:lnTo>
                  <a:lnTo>
                    <a:pt x="1621" y="4054"/>
                  </a:lnTo>
                  <a:lnTo>
                    <a:pt x="1852" y="3822"/>
                  </a:lnTo>
                  <a:lnTo>
                    <a:pt x="1968" y="3706"/>
                  </a:lnTo>
                  <a:lnTo>
                    <a:pt x="2083" y="3590"/>
                  </a:lnTo>
                  <a:lnTo>
                    <a:pt x="2199" y="3359"/>
                  </a:lnTo>
                  <a:lnTo>
                    <a:pt x="2315" y="3243"/>
                  </a:lnTo>
                  <a:lnTo>
                    <a:pt x="2315" y="3243"/>
                  </a:lnTo>
                  <a:lnTo>
                    <a:pt x="2083" y="3011"/>
                  </a:lnTo>
                  <a:lnTo>
                    <a:pt x="1621" y="2896"/>
                  </a:lnTo>
                  <a:lnTo>
                    <a:pt x="1273" y="2896"/>
                  </a:lnTo>
                  <a:lnTo>
                    <a:pt x="810" y="2896"/>
                  </a:lnTo>
                  <a:lnTo>
                    <a:pt x="347" y="2780"/>
                  </a:lnTo>
                  <a:lnTo>
                    <a:pt x="116" y="2664"/>
                  </a:lnTo>
                  <a:lnTo>
                    <a:pt x="0" y="2317"/>
                  </a:lnTo>
                  <a:lnTo>
                    <a:pt x="0" y="1853"/>
                  </a:lnTo>
                  <a:lnTo>
                    <a:pt x="0" y="1853"/>
                  </a:lnTo>
                  <a:lnTo>
                    <a:pt x="810" y="1274"/>
                  </a:lnTo>
                  <a:lnTo>
                    <a:pt x="1736" y="811"/>
                  </a:lnTo>
                  <a:lnTo>
                    <a:pt x="2662" y="464"/>
                  </a:lnTo>
                  <a:lnTo>
                    <a:pt x="3588" y="232"/>
                  </a:lnTo>
                  <a:lnTo>
                    <a:pt x="4630" y="0"/>
                  </a:lnTo>
                  <a:lnTo>
                    <a:pt x="5555" y="0"/>
                  </a:lnTo>
                  <a:lnTo>
                    <a:pt x="6597" y="116"/>
                  </a:lnTo>
                  <a:lnTo>
                    <a:pt x="7639" y="348"/>
                  </a:lnTo>
                  <a:lnTo>
                    <a:pt x="7639" y="348"/>
                  </a:lnTo>
                  <a:lnTo>
                    <a:pt x="7870" y="464"/>
                  </a:lnTo>
                  <a:lnTo>
                    <a:pt x="8102" y="464"/>
                  </a:lnTo>
                  <a:lnTo>
                    <a:pt x="8333" y="464"/>
                  </a:lnTo>
                  <a:lnTo>
                    <a:pt x="8564" y="464"/>
                  </a:lnTo>
                  <a:lnTo>
                    <a:pt x="8796" y="579"/>
                  </a:lnTo>
                  <a:lnTo>
                    <a:pt x="9143" y="579"/>
                  </a:lnTo>
                  <a:lnTo>
                    <a:pt x="9375" y="579"/>
                  </a:lnTo>
                  <a:lnTo>
                    <a:pt x="9606" y="695"/>
                  </a:lnTo>
                  <a:lnTo>
                    <a:pt x="9606" y="695"/>
                  </a:lnTo>
                  <a:lnTo>
                    <a:pt x="9606" y="695"/>
                  </a:lnTo>
                  <a:lnTo>
                    <a:pt x="9606" y="695"/>
                  </a:lnTo>
                  <a:lnTo>
                    <a:pt x="9606"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042560" y="3964680"/>
              <a:ext cx="1208160" cy="466200"/>
            </a:xfrm>
            <a:custGeom>
              <a:avLst/>
              <a:gdLst/>
              <a:ahLst/>
              <a:rect l="l" t="t" r="r" b="b"/>
              <a:pathLst>
                <a:path w="33794" h="8686">
                  <a:moveTo>
                    <a:pt x="-31742" y="0"/>
                  </a:moveTo>
                  <a:lnTo>
                    <a:pt x="-31974" y="116"/>
                  </a:lnTo>
                  <a:lnTo>
                    <a:pt x="-32205" y="348"/>
                  </a:lnTo>
                  <a:lnTo>
                    <a:pt x="-32437" y="463"/>
                  </a:lnTo>
                  <a:lnTo>
                    <a:pt x="-32668" y="579"/>
                  </a:lnTo>
                  <a:lnTo>
                    <a:pt x="32637" y="811"/>
                  </a:lnTo>
                  <a:lnTo>
                    <a:pt x="32521" y="927"/>
                  </a:lnTo>
                  <a:lnTo>
                    <a:pt x="32289" y="1158"/>
                  </a:lnTo>
                  <a:lnTo>
                    <a:pt x="32174" y="1390"/>
                  </a:lnTo>
                  <a:lnTo>
                    <a:pt x="32174" y="1390"/>
                  </a:lnTo>
                  <a:lnTo>
                    <a:pt x="32289" y="1506"/>
                  </a:lnTo>
                  <a:lnTo>
                    <a:pt x="32289" y="1737"/>
                  </a:lnTo>
                  <a:lnTo>
                    <a:pt x="32405" y="1853"/>
                  </a:lnTo>
                  <a:lnTo>
                    <a:pt x="32405" y="1969"/>
                  </a:lnTo>
                  <a:lnTo>
                    <a:pt x="32521" y="2085"/>
                  </a:lnTo>
                  <a:lnTo>
                    <a:pt x="32637" y="2201"/>
                  </a:lnTo>
                  <a:lnTo>
                    <a:pt x="32752" y="2316"/>
                  </a:lnTo>
                  <a:lnTo>
                    <a:pt x="-32668" y="2432"/>
                  </a:lnTo>
                  <a:lnTo>
                    <a:pt x="-32668" y="2432"/>
                  </a:lnTo>
                  <a:lnTo>
                    <a:pt x="29628" y="3011"/>
                  </a:lnTo>
                  <a:lnTo>
                    <a:pt x="26271" y="3590"/>
                  </a:lnTo>
                  <a:lnTo>
                    <a:pt x="23031" y="4169"/>
                  </a:lnTo>
                  <a:lnTo>
                    <a:pt x="19790" y="4864"/>
                  </a:lnTo>
                  <a:lnTo>
                    <a:pt x="16550" y="5443"/>
                  </a:lnTo>
                  <a:lnTo>
                    <a:pt x="13309" y="6138"/>
                  </a:lnTo>
                  <a:lnTo>
                    <a:pt x="10069" y="6833"/>
                  </a:lnTo>
                  <a:lnTo>
                    <a:pt x="6713" y="7644"/>
                  </a:lnTo>
                  <a:lnTo>
                    <a:pt x="6713" y="7644"/>
                  </a:lnTo>
                  <a:lnTo>
                    <a:pt x="0" y="8686"/>
                  </a:lnTo>
                  <a:lnTo>
                    <a:pt x="0" y="8686"/>
                  </a:lnTo>
                  <a:lnTo>
                    <a:pt x="0" y="8454"/>
                  </a:lnTo>
                  <a:lnTo>
                    <a:pt x="0" y="8223"/>
                  </a:lnTo>
                  <a:lnTo>
                    <a:pt x="0" y="7991"/>
                  </a:lnTo>
                  <a:lnTo>
                    <a:pt x="0" y="7760"/>
                  </a:lnTo>
                  <a:lnTo>
                    <a:pt x="116" y="7528"/>
                  </a:lnTo>
                  <a:lnTo>
                    <a:pt x="116" y="7296"/>
                  </a:lnTo>
                  <a:lnTo>
                    <a:pt x="232" y="7065"/>
                  </a:lnTo>
                  <a:lnTo>
                    <a:pt x="232" y="6833"/>
                  </a:lnTo>
                  <a:lnTo>
                    <a:pt x="232" y="6833"/>
                  </a:lnTo>
                  <a:lnTo>
                    <a:pt x="694" y="6486"/>
                  </a:lnTo>
                  <a:lnTo>
                    <a:pt x="694" y="6486"/>
                  </a:lnTo>
                  <a:lnTo>
                    <a:pt x="2662" y="6138"/>
                  </a:lnTo>
                  <a:lnTo>
                    <a:pt x="4745" y="5791"/>
                  </a:lnTo>
                  <a:lnTo>
                    <a:pt x="6713" y="5327"/>
                  </a:lnTo>
                  <a:lnTo>
                    <a:pt x="8796" y="4980"/>
                  </a:lnTo>
                  <a:lnTo>
                    <a:pt x="10879" y="4633"/>
                  </a:lnTo>
                  <a:lnTo>
                    <a:pt x="12962" y="4169"/>
                  </a:lnTo>
                  <a:lnTo>
                    <a:pt x="14930" y="3706"/>
                  </a:lnTo>
                  <a:lnTo>
                    <a:pt x="17013" y="3243"/>
                  </a:lnTo>
                  <a:lnTo>
                    <a:pt x="17013" y="3243"/>
                  </a:lnTo>
                  <a:lnTo>
                    <a:pt x="30553" y="579"/>
                  </a:lnTo>
                  <a:lnTo>
                    <a:pt x="30553" y="579"/>
                  </a:lnTo>
                  <a:lnTo>
                    <a:pt x="31016" y="463"/>
                  </a:lnTo>
                  <a:lnTo>
                    <a:pt x="31363" y="463"/>
                  </a:lnTo>
                  <a:lnTo>
                    <a:pt x="31826" y="348"/>
                  </a:lnTo>
                  <a:lnTo>
                    <a:pt x="32174" y="232"/>
                  </a:lnTo>
                  <a:lnTo>
                    <a:pt x="32521" y="232"/>
                  </a:lnTo>
                  <a:lnTo>
                    <a:pt x="-32552" y="116"/>
                  </a:lnTo>
                  <a:lnTo>
                    <a:pt x="-32205" y="116"/>
                  </a:lnTo>
                  <a:lnTo>
                    <a:pt x="-31742" y="0"/>
                  </a:lnTo>
                  <a:lnTo>
                    <a:pt x="-31742" y="0"/>
                  </a:lnTo>
                  <a:lnTo>
                    <a:pt x="-31742" y="0"/>
                  </a:lnTo>
                  <a:lnTo>
                    <a:pt x="-31742" y="0"/>
                  </a:lnTo>
                  <a:lnTo>
                    <a:pt x="-31742"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27280" y="4045680"/>
              <a:ext cx="169560" cy="204840"/>
            </a:xfrm>
            <a:custGeom>
              <a:avLst/>
              <a:gdLst/>
              <a:ahLst/>
              <a:rect l="l" t="t" r="r" b="b"/>
              <a:pathLst>
                <a:path w="4745" h="3821">
                  <a:moveTo>
                    <a:pt x="4745" y="695"/>
                  </a:moveTo>
                  <a:lnTo>
                    <a:pt x="4514" y="2895"/>
                  </a:lnTo>
                  <a:lnTo>
                    <a:pt x="4514" y="2895"/>
                  </a:lnTo>
                  <a:lnTo>
                    <a:pt x="4282" y="3011"/>
                  </a:lnTo>
                  <a:lnTo>
                    <a:pt x="4051" y="3242"/>
                  </a:lnTo>
                  <a:lnTo>
                    <a:pt x="3819" y="3474"/>
                  </a:lnTo>
                  <a:lnTo>
                    <a:pt x="3588" y="3590"/>
                  </a:lnTo>
                  <a:lnTo>
                    <a:pt x="3356" y="3706"/>
                  </a:lnTo>
                  <a:lnTo>
                    <a:pt x="3125" y="3821"/>
                  </a:lnTo>
                  <a:lnTo>
                    <a:pt x="2893" y="3706"/>
                  </a:lnTo>
                  <a:lnTo>
                    <a:pt x="2662" y="3358"/>
                  </a:lnTo>
                  <a:lnTo>
                    <a:pt x="2662" y="3358"/>
                  </a:lnTo>
                  <a:lnTo>
                    <a:pt x="2430" y="3358"/>
                  </a:lnTo>
                  <a:lnTo>
                    <a:pt x="2315" y="3358"/>
                  </a:lnTo>
                  <a:lnTo>
                    <a:pt x="2199" y="3474"/>
                  </a:lnTo>
                  <a:lnTo>
                    <a:pt x="1967" y="3474"/>
                  </a:lnTo>
                  <a:lnTo>
                    <a:pt x="1852" y="3590"/>
                  </a:lnTo>
                  <a:lnTo>
                    <a:pt x="1736" y="3706"/>
                  </a:lnTo>
                  <a:lnTo>
                    <a:pt x="1505" y="3706"/>
                  </a:lnTo>
                  <a:lnTo>
                    <a:pt x="1389" y="3821"/>
                  </a:lnTo>
                  <a:lnTo>
                    <a:pt x="1389" y="3821"/>
                  </a:lnTo>
                  <a:lnTo>
                    <a:pt x="1042" y="3474"/>
                  </a:lnTo>
                  <a:lnTo>
                    <a:pt x="810" y="3127"/>
                  </a:lnTo>
                  <a:lnTo>
                    <a:pt x="579" y="2663"/>
                  </a:lnTo>
                  <a:lnTo>
                    <a:pt x="463" y="2200"/>
                  </a:lnTo>
                  <a:lnTo>
                    <a:pt x="231" y="1853"/>
                  </a:lnTo>
                  <a:lnTo>
                    <a:pt x="116" y="1389"/>
                  </a:lnTo>
                  <a:lnTo>
                    <a:pt x="0" y="926"/>
                  </a:lnTo>
                  <a:lnTo>
                    <a:pt x="0" y="347"/>
                  </a:lnTo>
                  <a:lnTo>
                    <a:pt x="0" y="347"/>
                  </a:lnTo>
                  <a:lnTo>
                    <a:pt x="463" y="231"/>
                  </a:lnTo>
                  <a:lnTo>
                    <a:pt x="1157" y="0"/>
                  </a:lnTo>
                  <a:lnTo>
                    <a:pt x="1736" y="0"/>
                  </a:lnTo>
                  <a:lnTo>
                    <a:pt x="2430" y="0"/>
                  </a:lnTo>
                  <a:lnTo>
                    <a:pt x="3009" y="116"/>
                  </a:lnTo>
                  <a:lnTo>
                    <a:pt x="3703" y="231"/>
                  </a:lnTo>
                  <a:lnTo>
                    <a:pt x="4282" y="463"/>
                  </a:lnTo>
                  <a:lnTo>
                    <a:pt x="4745" y="695"/>
                  </a:lnTo>
                  <a:lnTo>
                    <a:pt x="4745" y="695"/>
                  </a:lnTo>
                  <a:lnTo>
                    <a:pt x="4745" y="695"/>
                  </a:lnTo>
                  <a:lnTo>
                    <a:pt x="4745" y="695"/>
                  </a:lnTo>
                  <a:lnTo>
                    <a:pt x="4745"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1001160" y="4089240"/>
              <a:ext cx="24480" cy="105480"/>
            </a:xfrm>
            <a:custGeom>
              <a:avLst/>
              <a:gdLst/>
              <a:ahLst/>
              <a:rect l="l" t="t" r="r" b="b"/>
              <a:pathLst>
                <a:path w="694" h="1969">
                  <a:moveTo>
                    <a:pt x="578" y="1969"/>
                  </a:moveTo>
                  <a:lnTo>
                    <a:pt x="463" y="1969"/>
                  </a:lnTo>
                  <a:lnTo>
                    <a:pt x="347" y="1969"/>
                  </a:lnTo>
                  <a:lnTo>
                    <a:pt x="231" y="1969"/>
                  </a:lnTo>
                  <a:lnTo>
                    <a:pt x="231" y="1969"/>
                  </a:lnTo>
                  <a:lnTo>
                    <a:pt x="115" y="1969"/>
                  </a:lnTo>
                  <a:lnTo>
                    <a:pt x="0" y="1969"/>
                  </a:lnTo>
                  <a:lnTo>
                    <a:pt x="0" y="1853"/>
                  </a:lnTo>
                  <a:lnTo>
                    <a:pt x="0" y="1738"/>
                  </a:lnTo>
                  <a:lnTo>
                    <a:pt x="0" y="1738"/>
                  </a:lnTo>
                  <a:lnTo>
                    <a:pt x="347" y="0"/>
                  </a:lnTo>
                  <a:lnTo>
                    <a:pt x="694" y="116"/>
                  </a:lnTo>
                  <a:lnTo>
                    <a:pt x="578" y="1969"/>
                  </a:lnTo>
                  <a:lnTo>
                    <a:pt x="578" y="1969"/>
                  </a:lnTo>
                  <a:lnTo>
                    <a:pt x="578" y="1969"/>
                  </a:lnTo>
                  <a:lnTo>
                    <a:pt x="578" y="19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1034280" y="4101480"/>
              <a:ext cx="28800" cy="105480"/>
            </a:xfrm>
            <a:custGeom>
              <a:avLst/>
              <a:gdLst/>
              <a:ahLst/>
              <a:rect l="l" t="t" r="r" b="b"/>
              <a:pathLst>
                <a:path w="810" h="1969">
                  <a:moveTo>
                    <a:pt x="694" y="232"/>
                  </a:moveTo>
                  <a:lnTo>
                    <a:pt x="810" y="463"/>
                  </a:lnTo>
                  <a:lnTo>
                    <a:pt x="694" y="579"/>
                  </a:lnTo>
                  <a:lnTo>
                    <a:pt x="694" y="695"/>
                  </a:lnTo>
                  <a:lnTo>
                    <a:pt x="694" y="927"/>
                  </a:lnTo>
                  <a:lnTo>
                    <a:pt x="694" y="1042"/>
                  </a:lnTo>
                  <a:lnTo>
                    <a:pt x="694" y="1274"/>
                  </a:lnTo>
                  <a:lnTo>
                    <a:pt x="694" y="1390"/>
                  </a:lnTo>
                  <a:lnTo>
                    <a:pt x="694" y="1621"/>
                  </a:lnTo>
                  <a:lnTo>
                    <a:pt x="694" y="1621"/>
                  </a:lnTo>
                  <a:lnTo>
                    <a:pt x="694" y="1621"/>
                  </a:lnTo>
                  <a:lnTo>
                    <a:pt x="694" y="1621"/>
                  </a:lnTo>
                  <a:lnTo>
                    <a:pt x="694" y="1737"/>
                  </a:lnTo>
                  <a:lnTo>
                    <a:pt x="578" y="1737"/>
                  </a:lnTo>
                  <a:lnTo>
                    <a:pt x="463" y="1853"/>
                  </a:lnTo>
                  <a:lnTo>
                    <a:pt x="463" y="1853"/>
                  </a:lnTo>
                  <a:lnTo>
                    <a:pt x="347" y="1969"/>
                  </a:lnTo>
                  <a:lnTo>
                    <a:pt x="231" y="1969"/>
                  </a:lnTo>
                  <a:lnTo>
                    <a:pt x="231" y="1969"/>
                  </a:lnTo>
                  <a:lnTo>
                    <a:pt x="231" y="1969"/>
                  </a:lnTo>
                  <a:lnTo>
                    <a:pt x="231" y="1969"/>
                  </a:lnTo>
                  <a:lnTo>
                    <a:pt x="115" y="1853"/>
                  </a:lnTo>
                  <a:lnTo>
                    <a:pt x="115" y="1853"/>
                  </a:lnTo>
                  <a:lnTo>
                    <a:pt x="0" y="1853"/>
                  </a:lnTo>
                  <a:lnTo>
                    <a:pt x="0" y="1853"/>
                  </a:lnTo>
                  <a:lnTo>
                    <a:pt x="0" y="1737"/>
                  </a:lnTo>
                  <a:lnTo>
                    <a:pt x="0" y="1737"/>
                  </a:lnTo>
                  <a:lnTo>
                    <a:pt x="0" y="1737"/>
                  </a:lnTo>
                  <a:lnTo>
                    <a:pt x="0" y="1506"/>
                  </a:lnTo>
                  <a:lnTo>
                    <a:pt x="0" y="1274"/>
                  </a:lnTo>
                  <a:lnTo>
                    <a:pt x="0" y="1042"/>
                  </a:lnTo>
                  <a:lnTo>
                    <a:pt x="115" y="927"/>
                  </a:lnTo>
                  <a:lnTo>
                    <a:pt x="115" y="695"/>
                  </a:lnTo>
                  <a:lnTo>
                    <a:pt x="231" y="463"/>
                  </a:lnTo>
                  <a:lnTo>
                    <a:pt x="231" y="232"/>
                  </a:lnTo>
                  <a:lnTo>
                    <a:pt x="115" y="0"/>
                  </a:lnTo>
                  <a:lnTo>
                    <a:pt x="115" y="0"/>
                  </a:lnTo>
                  <a:lnTo>
                    <a:pt x="231" y="0"/>
                  </a:lnTo>
                  <a:lnTo>
                    <a:pt x="347" y="116"/>
                  </a:lnTo>
                  <a:lnTo>
                    <a:pt x="347" y="116"/>
                  </a:lnTo>
                  <a:lnTo>
                    <a:pt x="463" y="232"/>
                  </a:lnTo>
                  <a:lnTo>
                    <a:pt x="463" y="232"/>
                  </a:lnTo>
                  <a:lnTo>
                    <a:pt x="578" y="347"/>
                  </a:lnTo>
                  <a:lnTo>
                    <a:pt x="578" y="347"/>
                  </a:lnTo>
                  <a:lnTo>
                    <a:pt x="694" y="232"/>
                  </a:lnTo>
                  <a:lnTo>
                    <a:pt x="694" y="232"/>
                  </a:lnTo>
                  <a:lnTo>
                    <a:pt x="694" y="232"/>
                  </a:lnTo>
                  <a:lnTo>
                    <a:pt x="694" y="232"/>
                  </a:lnTo>
                  <a:lnTo>
                    <a:pt x="694" y="2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46520" y="4101480"/>
              <a:ext cx="1241280" cy="441360"/>
            </a:xfrm>
            <a:custGeom>
              <a:avLst/>
              <a:gdLst/>
              <a:ahLst/>
              <a:rect l="l" t="t" r="r" b="b"/>
              <a:pathLst>
                <a:path w="34719" h="8223">
                  <a:moveTo>
                    <a:pt x="-31048" y="0"/>
                  </a:moveTo>
                  <a:lnTo>
                    <a:pt x="-31279" y="232"/>
                  </a:lnTo>
                  <a:lnTo>
                    <a:pt x="-31395" y="347"/>
                  </a:lnTo>
                  <a:lnTo>
                    <a:pt x="-31627" y="579"/>
                  </a:lnTo>
                  <a:lnTo>
                    <a:pt x="-31742" y="811"/>
                  </a:lnTo>
                  <a:lnTo>
                    <a:pt x="-31858" y="1042"/>
                  </a:lnTo>
                  <a:lnTo>
                    <a:pt x="-31858" y="1390"/>
                  </a:lnTo>
                  <a:lnTo>
                    <a:pt x="-31858" y="1621"/>
                  </a:lnTo>
                  <a:lnTo>
                    <a:pt x="-31742" y="1853"/>
                  </a:lnTo>
                  <a:lnTo>
                    <a:pt x="-31742" y="1853"/>
                  </a:lnTo>
                  <a:lnTo>
                    <a:pt x="-31742" y="2085"/>
                  </a:lnTo>
                  <a:lnTo>
                    <a:pt x="-31627" y="2200"/>
                  </a:lnTo>
                  <a:lnTo>
                    <a:pt x="-31511" y="2200"/>
                  </a:lnTo>
                  <a:lnTo>
                    <a:pt x="-31395" y="2316"/>
                  </a:lnTo>
                  <a:lnTo>
                    <a:pt x="-31279" y="2432"/>
                  </a:lnTo>
                  <a:lnTo>
                    <a:pt x="-31164" y="2432"/>
                  </a:lnTo>
                  <a:lnTo>
                    <a:pt x="-30932" y="2548"/>
                  </a:lnTo>
                  <a:lnTo>
                    <a:pt x="-30817" y="2548"/>
                  </a:lnTo>
                  <a:lnTo>
                    <a:pt x="-30817" y="2548"/>
                  </a:lnTo>
                  <a:lnTo>
                    <a:pt x="-31048" y="2664"/>
                  </a:lnTo>
                  <a:lnTo>
                    <a:pt x="-31395" y="2664"/>
                  </a:lnTo>
                  <a:lnTo>
                    <a:pt x="-31627" y="2779"/>
                  </a:lnTo>
                  <a:lnTo>
                    <a:pt x="-31858" y="2779"/>
                  </a:lnTo>
                  <a:lnTo>
                    <a:pt x="-32090" y="2779"/>
                  </a:lnTo>
                  <a:lnTo>
                    <a:pt x="-32437" y="2895"/>
                  </a:lnTo>
                  <a:lnTo>
                    <a:pt x="-32668" y="2895"/>
                  </a:lnTo>
                  <a:lnTo>
                    <a:pt x="32636" y="3011"/>
                  </a:lnTo>
                  <a:lnTo>
                    <a:pt x="32636" y="3011"/>
                  </a:lnTo>
                  <a:lnTo>
                    <a:pt x="32405" y="2895"/>
                  </a:lnTo>
                  <a:lnTo>
                    <a:pt x="32173" y="2779"/>
                  </a:lnTo>
                  <a:lnTo>
                    <a:pt x="31942" y="2779"/>
                  </a:lnTo>
                  <a:lnTo>
                    <a:pt x="31710" y="2779"/>
                  </a:lnTo>
                  <a:lnTo>
                    <a:pt x="31479" y="2779"/>
                  </a:lnTo>
                  <a:lnTo>
                    <a:pt x="31247" y="2779"/>
                  </a:lnTo>
                  <a:lnTo>
                    <a:pt x="31016" y="2895"/>
                  </a:lnTo>
                  <a:lnTo>
                    <a:pt x="30785" y="2895"/>
                  </a:lnTo>
                  <a:lnTo>
                    <a:pt x="30785" y="2895"/>
                  </a:lnTo>
                  <a:lnTo>
                    <a:pt x="29974" y="3474"/>
                  </a:lnTo>
                  <a:lnTo>
                    <a:pt x="29974" y="3474"/>
                  </a:lnTo>
                  <a:lnTo>
                    <a:pt x="29974" y="3359"/>
                  </a:lnTo>
                  <a:lnTo>
                    <a:pt x="29974" y="3359"/>
                  </a:lnTo>
                  <a:lnTo>
                    <a:pt x="29859" y="3243"/>
                  </a:lnTo>
                  <a:lnTo>
                    <a:pt x="29859" y="3127"/>
                  </a:lnTo>
                  <a:lnTo>
                    <a:pt x="29859" y="3127"/>
                  </a:lnTo>
                  <a:lnTo>
                    <a:pt x="29859" y="3011"/>
                  </a:lnTo>
                  <a:lnTo>
                    <a:pt x="29859" y="3011"/>
                  </a:lnTo>
                  <a:lnTo>
                    <a:pt x="29974" y="2895"/>
                  </a:lnTo>
                  <a:lnTo>
                    <a:pt x="29974" y="2895"/>
                  </a:lnTo>
                  <a:lnTo>
                    <a:pt x="-32321" y="2316"/>
                  </a:lnTo>
                  <a:lnTo>
                    <a:pt x="-32321" y="2316"/>
                  </a:lnTo>
                  <a:lnTo>
                    <a:pt x="-32205" y="2316"/>
                  </a:lnTo>
                  <a:lnTo>
                    <a:pt x="-32205" y="2200"/>
                  </a:lnTo>
                  <a:lnTo>
                    <a:pt x="-32205" y="2200"/>
                  </a:lnTo>
                  <a:lnTo>
                    <a:pt x="-32205" y="2200"/>
                  </a:lnTo>
                  <a:lnTo>
                    <a:pt x="-32205" y="2200"/>
                  </a:lnTo>
                  <a:lnTo>
                    <a:pt x="-32205" y="2085"/>
                  </a:lnTo>
                  <a:lnTo>
                    <a:pt x="-32090" y="2085"/>
                  </a:lnTo>
                  <a:lnTo>
                    <a:pt x="-32090" y="2085"/>
                  </a:lnTo>
                  <a:lnTo>
                    <a:pt x="-32090" y="2085"/>
                  </a:lnTo>
                  <a:lnTo>
                    <a:pt x="-32553" y="2085"/>
                  </a:lnTo>
                  <a:lnTo>
                    <a:pt x="32521" y="2200"/>
                  </a:lnTo>
                  <a:lnTo>
                    <a:pt x="31942" y="2200"/>
                  </a:lnTo>
                  <a:lnTo>
                    <a:pt x="31479" y="2316"/>
                  </a:lnTo>
                  <a:lnTo>
                    <a:pt x="31016" y="2432"/>
                  </a:lnTo>
                  <a:lnTo>
                    <a:pt x="30437" y="2548"/>
                  </a:lnTo>
                  <a:lnTo>
                    <a:pt x="29974" y="2664"/>
                  </a:lnTo>
                  <a:lnTo>
                    <a:pt x="29512" y="2779"/>
                  </a:lnTo>
                  <a:lnTo>
                    <a:pt x="29512" y="2779"/>
                  </a:lnTo>
                  <a:lnTo>
                    <a:pt x="29396" y="2664"/>
                  </a:lnTo>
                  <a:lnTo>
                    <a:pt x="29164" y="2664"/>
                  </a:lnTo>
                  <a:lnTo>
                    <a:pt x="28933" y="2548"/>
                  </a:lnTo>
                  <a:lnTo>
                    <a:pt x="28701" y="2548"/>
                  </a:lnTo>
                  <a:lnTo>
                    <a:pt x="28470" y="2432"/>
                  </a:lnTo>
                  <a:lnTo>
                    <a:pt x="28238" y="2548"/>
                  </a:lnTo>
                  <a:lnTo>
                    <a:pt x="28123" y="2548"/>
                  </a:lnTo>
                  <a:lnTo>
                    <a:pt x="27891" y="2664"/>
                  </a:lnTo>
                  <a:lnTo>
                    <a:pt x="27891" y="2664"/>
                  </a:lnTo>
                  <a:lnTo>
                    <a:pt x="27660" y="2895"/>
                  </a:lnTo>
                  <a:lnTo>
                    <a:pt x="27544" y="3011"/>
                  </a:lnTo>
                  <a:lnTo>
                    <a:pt x="27428" y="3011"/>
                  </a:lnTo>
                  <a:lnTo>
                    <a:pt x="27197" y="3011"/>
                  </a:lnTo>
                  <a:lnTo>
                    <a:pt x="27081" y="2895"/>
                  </a:lnTo>
                  <a:lnTo>
                    <a:pt x="26850" y="2895"/>
                  </a:lnTo>
                  <a:lnTo>
                    <a:pt x="26618" y="2895"/>
                  </a:lnTo>
                  <a:lnTo>
                    <a:pt x="26502" y="3127"/>
                  </a:lnTo>
                  <a:lnTo>
                    <a:pt x="26502" y="3127"/>
                  </a:lnTo>
                  <a:lnTo>
                    <a:pt x="26387" y="3474"/>
                  </a:lnTo>
                  <a:lnTo>
                    <a:pt x="26155" y="3706"/>
                  </a:lnTo>
                  <a:lnTo>
                    <a:pt x="25924" y="3822"/>
                  </a:lnTo>
                  <a:lnTo>
                    <a:pt x="25577" y="3822"/>
                  </a:lnTo>
                  <a:lnTo>
                    <a:pt x="25229" y="3822"/>
                  </a:lnTo>
                  <a:lnTo>
                    <a:pt x="24882" y="3822"/>
                  </a:lnTo>
                  <a:lnTo>
                    <a:pt x="24651" y="3822"/>
                  </a:lnTo>
                  <a:lnTo>
                    <a:pt x="24304" y="3938"/>
                  </a:lnTo>
                  <a:lnTo>
                    <a:pt x="24304" y="3938"/>
                  </a:lnTo>
                  <a:lnTo>
                    <a:pt x="21526" y="4517"/>
                  </a:lnTo>
                  <a:lnTo>
                    <a:pt x="18633" y="5096"/>
                  </a:lnTo>
                  <a:lnTo>
                    <a:pt x="15855" y="5559"/>
                  </a:lnTo>
                  <a:lnTo>
                    <a:pt x="13078" y="6138"/>
                  </a:lnTo>
                  <a:lnTo>
                    <a:pt x="10184" y="6717"/>
                  </a:lnTo>
                  <a:lnTo>
                    <a:pt x="7407" y="7296"/>
                  </a:lnTo>
                  <a:lnTo>
                    <a:pt x="4513" y="7759"/>
                  </a:lnTo>
                  <a:lnTo>
                    <a:pt x="1620" y="8223"/>
                  </a:lnTo>
                  <a:lnTo>
                    <a:pt x="1620" y="8223"/>
                  </a:lnTo>
                  <a:lnTo>
                    <a:pt x="1389" y="8107"/>
                  </a:lnTo>
                  <a:lnTo>
                    <a:pt x="1157" y="7875"/>
                  </a:lnTo>
                  <a:lnTo>
                    <a:pt x="926" y="7759"/>
                  </a:lnTo>
                  <a:lnTo>
                    <a:pt x="694" y="7528"/>
                  </a:lnTo>
                  <a:lnTo>
                    <a:pt x="463" y="7296"/>
                  </a:lnTo>
                  <a:lnTo>
                    <a:pt x="231" y="7064"/>
                  </a:lnTo>
                  <a:lnTo>
                    <a:pt x="116" y="6717"/>
                  </a:lnTo>
                  <a:lnTo>
                    <a:pt x="0" y="6485"/>
                  </a:lnTo>
                  <a:lnTo>
                    <a:pt x="0" y="6485"/>
                  </a:lnTo>
                  <a:lnTo>
                    <a:pt x="4398" y="5675"/>
                  </a:lnTo>
                  <a:lnTo>
                    <a:pt x="8680" y="4864"/>
                  </a:lnTo>
                  <a:lnTo>
                    <a:pt x="12846" y="3938"/>
                  </a:lnTo>
                  <a:lnTo>
                    <a:pt x="17128" y="3127"/>
                  </a:lnTo>
                  <a:lnTo>
                    <a:pt x="21295" y="2316"/>
                  </a:lnTo>
                  <a:lnTo>
                    <a:pt x="25577" y="1506"/>
                  </a:lnTo>
                  <a:lnTo>
                    <a:pt x="29859" y="695"/>
                  </a:lnTo>
                  <a:lnTo>
                    <a:pt x="-31279" y="116"/>
                  </a:lnTo>
                  <a:lnTo>
                    <a:pt x="-31279" y="116"/>
                  </a:lnTo>
                  <a:lnTo>
                    <a:pt x="-31279" y="0"/>
                  </a:lnTo>
                  <a:lnTo>
                    <a:pt x="-31279" y="0"/>
                  </a:lnTo>
                  <a:lnTo>
                    <a:pt x="-31164" y="0"/>
                  </a:lnTo>
                  <a:lnTo>
                    <a:pt x="-31164" y="0"/>
                  </a:lnTo>
                  <a:lnTo>
                    <a:pt x="-31164" y="0"/>
                  </a:lnTo>
                  <a:lnTo>
                    <a:pt x="-31164" y="0"/>
                  </a:lnTo>
                  <a:lnTo>
                    <a:pt x="-31048" y="0"/>
                  </a:lnTo>
                  <a:lnTo>
                    <a:pt x="-31048" y="0"/>
                  </a:lnTo>
                  <a:lnTo>
                    <a:pt x="-31048" y="0"/>
                  </a:lnTo>
                  <a:lnTo>
                    <a:pt x="-31048" y="0"/>
                  </a:lnTo>
                  <a:lnTo>
                    <a:pt x="-31048" y="0"/>
                  </a:lnTo>
                  <a:lnTo>
                    <a:pt x="-31048"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856080" y="4194720"/>
              <a:ext cx="322560" cy="565560"/>
            </a:xfrm>
            <a:custGeom>
              <a:avLst/>
              <a:gdLst/>
              <a:ahLst/>
              <a:rect l="l" t="t" r="r" b="b"/>
              <a:pathLst>
                <a:path w="9027" h="10539">
                  <a:moveTo>
                    <a:pt x="7176" y="579"/>
                  </a:moveTo>
                  <a:lnTo>
                    <a:pt x="7176" y="695"/>
                  </a:lnTo>
                  <a:lnTo>
                    <a:pt x="7176" y="811"/>
                  </a:lnTo>
                  <a:lnTo>
                    <a:pt x="7176" y="927"/>
                  </a:lnTo>
                  <a:lnTo>
                    <a:pt x="7060" y="1042"/>
                  </a:lnTo>
                  <a:lnTo>
                    <a:pt x="7060" y="1158"/>
                  </a:lnTo>
                  <a:lnTo>
                    <a:pt x="6944" y="1274"/>
                  </a:lnTo>
                  <a:lnTo>
                    <a:pt x="6828" y="1274"/>
                  </a:lnTo>
                  <a:lnTo>
                    <a:pt x="6713" y="1274"/>
                  </a:lnTo>
                  <a:lnTo>
                    <a:pt x="6713" y="1274"/>
                  </a:lnTo>
                  <a:lnTo>
                    <a:pt x="6597" y="1274"/>
                  </a:lnTo>
                  <a:lnTo>
                    <a:pt x="6365" y="1274"/>
                  </a:lnTo>
                  <a:lnTo>
                    <a:pt x="6134" y="1274"/>
                  </a:lnTo>
                  <a:lnTo>
                    <a:pt x="6018" y="1274"/>
                  </a:lnTo>
                  <a:lnTo>
                    <a:pt x="5787" y="1390"/>
                  </a:lnTo>
                  <a:lnTo>
                    <a:pt x="5671" y="1506"/>
                  </a:lnTo>
                  <a:lnTo>
                    <a:pt x="5555" y="1622"/>
                  </a:lnTo>
                  <a:lnTo>
                    <a:pt x="5440" y="1737"/>
                  </a:lnTo>
                  <a:lnTo>
                    <a:pt x="5440" y="1737"/>
                  </a:lnTo>
                  <a:lnTo>
                    <a:pt x="5324" y="1969"/>
                  </a:lnTo>
                  <a:lnTo>
                    <a:pt x="5092" y="2201"/>
                  </a:lnTo>
                  <a:lnTo>
                    <a:pt x="4977" y="2432"/>
                  </a:lnTo>
                  <a:lnTo>
                    <a:pt x="4861" y="2664"/>
                  </a:lnTo>
                  <a:lnTo>
                    <a:pt x="4745" y="2895"/>
                  </a:lnTo>
                  <a:lnTo>
                    <a:pt x="4745" y="3127"/>
                  </a:lnTo>
                  <a:lnTo>
                    <a:pt x="4629" y="3359"/>
                  </a:lnTo>
                  <a:lnTo>
                    <a:pt x="4745" y="3590"/>
                  </a:lnTo>
                  <a:lnTo>
                    <a:pt x="4745" y="3590"/>
                  </a:lnTo>
                  <a:lnTo>
                    <a:pt x="4629" y="3822"/>
                  </a:lnTo>
                  <a:lnTo>
                    <a:pt x="4629" y="4054"/>
                  </a:lnTo>
                  <a:lnTo>
                    <a:pt x="4629" y="4401"/>
                  </a:lnTo>
                  <a:lnTo>
                    <a:pt x="4745" y="4633"/>
                  </a:lnTo>
                  <a:lnTo>
                    <a:pt x="4861" y="4864"/>
                  </a:lnTo>
                  <a:lnTo>
                    <a:pt x="4861" y="5212"/>
                  </a:lnTo>
                  <a:lnTo>
                    <a:pt x="4977" y="5443"/>
                  </a:lnTo>
                  <a:lnTo>
                    <a:pt x="5092" y="5675"/>
                  </a:lnTo>
                  <a:lnTo>
                    <a:pt x="5092" y="5675"/>
                  </a:lnTo>
                  <a:lnTo>
                    <a:pt x="5555" y="6138"/>
                  </a:lnTo>
                  <a:lnTo>
                    <a:pt x="5902" y="6486"/>
                  </a:lnTo>
                  <a:lnTo>
                    <a:pt x="6481" y="6717"/>
                  </a:lnTo>
                  <a:lnTo>
                    <a:pt x="6944" y="6949"/>
                  </a:lnTo>
                  <a:lnTo>
                    <a:pt x="7523" y="7180"/>
                  </a:lnTo>
                  <a:lnTo>
                    <a:pt x="7986" y="7296"/>
                  </a:lnTo>
                  <a:lnTo>
                    <a:pt x="8564" y="7528"/>
                  </a:lnTo>
                  <a:lnTo>
                    <a:pt x="9027" y="7875"/>
                  </a:lnTo>
                  <a:lnTo>
                    <a:pt x="9027" y="7875"/>
                  </a:lnTo>
                  <a:lnTo>
                    <a:pt x="9027" y="7991"/>
                  </a:lnTo>
                  <a:lnTo>
                    <a:pt x="9027" y="8107"/>
                  </a:lnTo>
                  <a:lnTo>
                    <a:pt x="9027" y="8223"/>
                  </a:lnTo>
                  <a:lnTo>
                    <a:pt x="8911" y="8339"/>
                  </a:lnTo>
                  <a:lnTo>
                    <a:pt x="8911" y="8454"/>
                  </a:lnTo>
                  <a:lnTo>
                    <a:pt x="8911" y="8570"/>
                  </a:lnTo>
                  <a:lnTo>
                    <a:pt x="8796" y="8686"/>
                  </a:lnTo>
                  <a:lnTo>
                    <a:pt x="8796" y="8802"/>
                  </a:lnTo>
                  <a:lnTo>
                    <a:pt x="8796" y="8802"/>
                  </a:lnTo>
                  <a:lnTo>
                    <a:pt x="8449" y="8918"/>
                  </a:lnTo>
                  <a:lnTo>
                    <a:pt x="8217" y="9033"/>
                  </a:lnTo>
                  <a:lnTo>
                    <a:pt x="7870" y="8918"/>
                  </a:lnTo>
                  <a:lnTo>
                    <a:pt x="7638" y="8918"/>
                  </a:lnTo>
                  <a:lnTo>
                    <a:pt x="7291" y="8686"/>
                  </a:lnTo>
                  <a:lnTo>
                    <a:pt x="7060" y="8570"/>
                  </a:lnTo>
                  <a:lnTo>
                    <a:pt x="6828" y="8454"/>
                  </a:lnTo>
                  <a:lnTo>
                    <a:pt x="6597" y="8223"/>
                  </a:lnTo>
                  <a:lnTo>
                    <a:pt x="6597" y="8223"/>
                  </a:lnTo>
                  <a:lnTo>
                    <a:pt x="6134" y="8223"/>
                  </a:lnTo>
                  <a:lnTo>
                    <a:pt x="5787" y="8107"/>
                  </a:lnTo>
                  <a:lnTo>
                    <a:pt x="5440" y="7991"/>
                  </a:lnTo>
                  <a:lnTo>
                    <a:pt x="5092" y="7759"/>
                  </a:lnTo>
                  <a:lnTo>
                    <a:pt x="4745" y="7528"/>
                  </a:lnTo>
                  <a:lnTo>
                    <a:pt x="4398" y="7296"/>
                  </a:lnTo>
                  <a:lnTo>
                    <a:pt x="4051" y="7065"/>
                  </a:lnTo>
                  <a:lnTo>
                    <a:pt x="3704" y="6949"/>
                  </a:lnTo>
                  <a:lnTo>
                    <a:pt x="3704" y="6949"/>
                  </a:lnTo>
                  <a:lnTo>
                    <a:pt x="3588" y="6833"/>
                  </a:lnTo>
                  <a:lnTo>
                    <a:pt x="3472" y="6949"/>
                  </a:lnTo>
                  <a:lnTo>
                    <a:pt x="4861" y="8223"/>
                  </a:lnTo>
                  <a:lnTo>
                    <a:pt x="4861" y="8223"/>
                  </a:lnTo>
                  <a:lnTo>
                    <a:pt x="4514" y="8223"/>
                  </a:lnTo>
                  <a:lnTo>
                    <a:pt x="4166" y="8107"/>
                  </a:lnTo>
                  <a:lnTo>
                    <a:pt x="3819" y="7875"/>
                  </a:lnTo>
                  <a:lnTo>
                    <a:pt x="3588" y="7644"/>
                  </a:lnTo>
                  <a:lnTo>
                    <a:pt x="3241" y="7412"/>
                  </a:lnTo>
                  <a:lnTo>
                    <a:pt x="3009" y="7180"/>
                  </a:lnTo>
                  <a:lnTo>
                    <a:pt x="2662" y="7065"/>
                  </a:lnTo>
                  <a:lnTo>
                    <a:pt x="2430" y="6949"/>
                  </a:lnTo>
                  <a:lnTo>
                    <a:pt x="2430" y="6949"/>
                  </a:lnTo>
                  <a:lnTo>
                    <a:pt x="2546" y="7180"/>
                  </a:lnTo>
                  <a:lnTo>
                    <a:pt x="2662" y="7412"/>
                  </a:lnTo>
                  <a:lnTo>
                    <a:pt x="2893" y="7644"/>
                  </a:lnTo>
                  <a:lnTo>
                    <a:pt x="3125" y="7875"/>
                  </a:lnTo>
                  <a:lnTo>
                    <a:pt x="3241" y="7991"/>
                  </a:lnTo>
                  <a:lnTo>
                    <a:pt x="3472" y="8223"/>
                  </a:lnTo>
                  <a:lnTo>
                    <a:pt x="3704" y="8454"/>
                  </a:lnTo>
                  <a:lnTo>
                    <a:pt x="3935" y="8570"/>
                  </a:lnTo>
                  <a:lnTo>
                    <a:pt x="3935" y="8570"/>
                  </a:lnTo>
                  <a:lnTo>
                    <a:pt x="3935" y="8686"/>
                  </a:lnTo>
                  <a:lnTo>
                    <a:pt x="3819" y="8686"/>
                  </a:lnTo>
                  <a:lnTo>
                    <a:pt x="3588" y="8802"/>
                  </a:lnTo>
                  <a:lnTo>
                    <a:pt x="3472" y="8802"/>
                  </a:lnTo>
                  <a:lnTo>
                    <a:pt x="3356" y="8802"/>
                  </a:lnTo>
                  <a:lnTo>
                    <a:pt x="3241" y="8802"/>
                  </a:lnTo>
                  <a:lnTo>
                    <a:pt x="3009" y="8802"/>
                  </a:lnTo>
                  <a:lnTo>
                    <a:pt x="3009" y="8686"/>
                  </a:lnTo>
                  <a:lnTo>
                    <a:pt x="3009" y="8686"/>
                  </a:lnTo>
                  <a:lnTo>
                    <a:pt x="2662" y="8570"/>
                  </a:lnTo>
                  <a:lnTo>
                    <a:pt x="2546" y="8339"/>
                  </a:lnTo>
                  <a:lnTo>
                    <a:pt x="2315" y="8107"/>
                  </a:lnTo>
                  <a:lnTo>
                    <a:pt x="2083" y="7875"/>
                  </a:lnTo>
                  <a:lnTo>
                    <a:pt x="1852" y="7644"/>
                  </a:lnTo>
                  <a:lnTo>
                    <a:pt x="1620" y="7412"/>
                  </a:lnTo>
                  <a:lnTo>
                    <a:pt x="1505" y="7296"/>
                  </a:lnTo>
                  <a:lnTo>
                    <a:pt x="1273" y="7065"/>
                  </a:lnTo>
                  <a:lnTo>
                    <a:pt x="1273" y="7065"/>
                  </a:lnTo>
                  <a:lnTo>
                    <a:pt x="1157" y="7412"/>
                  </a:lnTo>
                  <a:lnTo>
                    <a:pt x="1157" y="7759"/>
                  </a:lnTo>
                  <a:lnTo>
                    <a:pt x="1157" y="8107"/>
                  </a:lnTo>
                  <a:lnTo>
                    <a:pt x="1157" y="8454"/>
                  </a:lnTo>
                  <a:lnTo>
                    <a:pt x="1273" y="8802"/>
                  </a:lnTo>
                  <a:lnTo>
                    <a:pt x="1389" y="9149"/>
                  </a:lnTo>
                  <a:lnTo>
                    <a:pt x="1505" y="9612"/>
                  </a:lnTo>
                  <a:lnTo>
                    <a:pt x="1620" y="9960"/>
                  </a:lnTo>
                  <a:lnTo>
                    <a:pt x="1620" y="9960"/>
                  </a:lnTo>
                  <a:lnTo>
                    <a:pt x="1620" y="10539"/>
                  </a:lnTo>
                  <a:lnTo>
                    <a:pt x="1620" y="10539"/>
                  </a:lnTo>
                  <a:lnTo>
                    <a:pt x="1389" y="10539"/>
                  </a:lnTo>
                  <a:lnTo>
                    <a:pt x="1273" y="10539"/>
                  </a:lnTo>
                  <a:lnTo>
                    <a:pt x="1042" y="10423"/>
                  </a:lnTo>
                  <a:lnTo>
                    <a:pt x="926" y="10423"/>
                  </a:lnTo>
                  <a:lnTo>
                    <a:pt x="810" y="10191"/>
                  </a:lnTo>
                  <a:lnTo>
                    <a:pt x="695" y="10076"/>
                  </a:lnTo>
                  <a:lnTo>
                    <a:pt x="579" y="9960"/>
                  </a:lnTo>
                  <a:lnTo>
                    <a:pt x="463" y="9844"/>
                  </a:lnTo>
                  <a:lnTo>
                    <a:pt x="463" y="9844"/>
                  </a:lnTo>
                  <a:lnTo>
                    <a:pt x="116" y="9149"/>
                  </a:lnTo>
                  <a:lnTo>
                    <a:pt x="0" y="8570"/>
                  </a:lnTo>
                  <a:lnTo>
                    <a:pt x="116" y="7991"/>
                  </a:lnTo>
                  <a:lnTo>
                    <a:pt x="347" y="7412"/>
                  </a:lnTo>
                  <a:lnTo>
                    <a:pt x="579" y="6833"/>
                  </a:lnTo>
                  <a:lnTo>
                    <a:pt x="810" y="6138"/>
                  </a:lnTo>
                  <a:lnTo>
                    <a:pt x="926" y="5559"/>
                  </a:lnTo>
                  <a:lnTo>
                    <a:pt x="926" y="4864"/>
                  </a:lnTo>
                  <a:lnTo>
                    <a:pt x="926" y="4864"/>
                  </a:lnTo>
                  <a:lnTo>
                    <a:pt x="1157" y="4864"/>
                  </a:lnTo>
                  <a:lnTo>
                    <a:pt x="1389" y="4864"/>
                  </a:lnTo>
                  <a:lnTo>
                    <a:pt x="1620" y="4864"/>
                  </a:lnTo>
                  <a:lnTo>
                    <a:pt x="1852" y="4748"/>
                  </a:lnTo>
                  <a:lnTo>
                    <a:pt x="2083" y="4633"/>
                  </a:lnTo>
                  <a:lnTo>
                    <a:pt x="2315" y="4517"/>
                  </a:lnTo>
                  <a:lnTo>
                    <a:pt x="2546" y="4401"/>
                  </a:lnTo>
                  <a:lnTo>
                    <a:pt x="2662" y="4169"/>
                  </a:lnTo>
                  <a:lnTo>
                    <a:pt x="2662" y="4169"/>
                  </a:lnTo>
                  <a:lnTo>
                    <a:pt x="2778" y="3822"/>
                  </a:lnTo>
                  <a:lnTo>
                    <a:pt x="3009" y="3475"/>
                  </a:lnTo>
                  <a:lnTo>
                    <a:pt x="3125" y="3127"/>
                  </a:lnTo>
                  <a:lnTo>
                    <a:pt x="3241" y="2780"/>
                  </a:lnTo>
                  <a:lnTo>
                    <a:pt x="3241" y="2432"/>
                  </a:lnTo>
                  <a:lnTo>
                    <a:pt x="3241" y="2085"/>
                  </a:lnTo>
                  <a:lnTo>
                    <a:pt x="3125" y="1737"/>
                  </a:lnTo>
                  <a:lnTo>
                    <a:pt x="3009" y="1390"/>
                  </a:lnTo>
                  <a:lnTo>
                    <a:pt x="3009" y="1390"/>
                  </a:lnTo>
                  <a:lnTo>
                    <a:pt x="3125" y="1274"/>
                  </a:lnTo>
                  <a:lnTo>
                    <a:pt x="3241" y="1042"/>
                  </a:lnTo>
                  <a:lnTo>
                    <a:pt x="3472" y="811"/>
                  </a:lnTo>
                  <a:lnTo>
                    <a:pt x="3704" y="695"/>
                  </a:lnTo>
                  <a:lnTo>
                    <a:pt x="3819" y="579"/>
                  </a:lnTo>
                  <a:lnTo>
                    <a:pt x="4051" y="463"/>
                  </a:lnTo>
                  <a:lnTo>
                    <a:pt x="4282" y="463"/>
                  </a:lnTo>
                  <a:lnTo>
                    <a:pt x="4629" y="463"/>
                  </a:lnTo>
                  <a:lnTo>
                    <a:pt x="4629" y="463"/>
                  </a:lnTo>
                  <a:lnTo>
                    <a:pt x="4745" y="579"/>
                  </a:lnTo>
                  <a:lnTo>
                    <a:pt x="4977" y="579"/>
                  </a:lnTo>
                  <a:lnTo>
                    <a:pt x="5092" y="695"/>
                  </a:lnTo>
                  <a:lnTo>
                    <a:pt x="5324" y="811"/>
                  </a:lnTo>
                  <a:lnTo>
                    <a:pt x="5440" y="927"/>
                  </a:lnTo>
                  <a:lnTo>
                    <a:pt x="5555" y="927"/>
                  </a:lnTo>
                  <a:lnTo>
                    <a:pt x="5787" y="927"/>
                  </a:lnTo>
                  <a:lnTo>
                    <a:pt x="6018" y="811"/>
                  </a:lnTo>
                  <a:lnTo>
                    <a:pt x="6018" y="811"/>
                  </a:lnTo>
                  <a:lnTo>
                    <a:pt x="5671" y="463"/>
                  </a:lnTo>
                  <a:lnTo>
                    <a:pt x="5671" y="463"/>
                  </a:lnTo>
                  <a:lnTo>
                    <a:pt x="5902" y="348"/>
                  </a:lnTo>
                  <a:lnTo>
                    <a:pt x="6134" y="232"/>
                  </a:lnTo>
                  <a:lnTo>
                    <a:pt x="6365" y="116"/>
                  </a:lnTo>
                  <a:lnTo>
                    <a:pt x="6597" y="0"/>
                  </a:lnTo>
                  <a:lnTo>
                    <a:pt x="6828" y="0"/>
                  </a:lnTo>
                  <a:lnTo>
                    <a:pt x="6944" y="116"/>
                  </a:lnTo>
                  <a:lnTo>
                    <a:pt x="7060" y="232"/>
                  </a:lnTo>
                  <a:lnTo>
                    <a:pt x="7176" y="579"/>
                  </a:lnTo>
                  <a:lnTo>
                    <a:pt x="7176" y="579"/>
                  </a:lnTo>
                  <a:lnTo>
                    <a:pt x="7176" y="579"/>
                  </a:lnTo>
                  <a:lnTo>
                    <a:pt x="7176" y="579"/>
                  </a:lnTo>
                  <a:lnTo>
                    <a:pt x="7176"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847800" y="4250880"/>
              <a:ext cx="103320" cy="173880"/>
            </a:xfrm>
            <a:custGeom>
              <a:avLst/>
              <a:gdLst/>
              <a:ahLst/>
              <a:rect l="l" t="t" r="r" b="b"/>
              <a:pathLst>
                <a:path w="2893" h="3243">
                  <a:moveTo>
                    <a:pt x="2893" y="927"/>
                  </a:moveTo>
                  <a:lnTo>
                    <a:pt x="2893" y="1159"/>
                  </a:lnTo>
                  <a:lnTo>
                    <a:pt x="2893" y="1390"/>
                  </a:lnTo>
                  <a:lnTo>
                    <a:pt x="2893" y="1622"/>
                  </a:lnTo>
                  <a:lnTo>
                    <a:pt x="2893" y="1853"/>
                  </a:lnTo>
                  <a:lnTo>
                    <a:pt x="2777" y="2085"/>
                  </a:lnTo>
                  <a:lnTo>
                    <a:pt x="2661" y="2317"/>
                  </a:lnTo>
                  <a:lnTo>
                    <a:pt x="2546" y="2548"/>
                  </a:lnTo>
                  <a:lnTo>
                    <a:pt x="2430" y="2780"/>
                  </a:lnTo>
                  <a:lnTo>
                    <a:pt x="2430" y="2780"/>
                  </a:lnTo>
                  <a:lnTo>
                    <a:pt x="2314" y="2896"/>
                  </a:lnTo>
                  <a:lnTo>
                    <a:pt x="2199" y="3012"/>
                  </a:lnTo>
                  <a:lnTo>
                    <a:pt x="1967" y="3127"/>
                  </a:lnTo>
                  <a:lnTo>
                    <a:pt x="1851" y="3243"/>
                  </a:lnTo>
                  <a:lnTo>
                    <a:pt x="1620" y="3243"/>
                  </a:lnTo>
                  <a:lnTo>
                    <a:pt x="1388" y="3243"/>
                  </a:lnTo>
                  <a:lnTo>
                    <a:pt x="1157" y="3243"/>
                  </a:lnTo>
                  <a:lnTo>
                    <a:pt x="1041" y="3243"/>
                  </a:lnTo>
                  <a:lnTo>
                    <a:pt x="1041" y="3243"/>
                  </a:lnTo>
                  <a:lnTo>
                    <a:pt x="810" y="3127"/>
                  </a:lnTo>
                  <a:lnTo>
                    <a:pt x="694" y="3127"/>
                  </a:lnTo>
                  <a:lnTo>
                    <a:pt x="463" y="3012"/>
                  </a:lnTo>
                  <a:lnTo>
                    <a:pt x="347" y="2896"/>
                  </a:lnTo>
                  <a:lnTo>
                    <a:pt x="231" y="2664"/>
                  </a:lnTo>
                  <a:lnTo>
                    <a:pt x="231" y="2548"/>
                  </a:lnTo>
                  <a:lnTo>
                    <a:pt x="115" y="2433"/>
                  </a:lnTo>
                  <a:lnTo>
                    <a:pt x="0" y="2201"/>
                  </a:lnTo>
                  <a:lnTo>
                    <a:pt x="0" y="2201"/>
                  </a:lnTo>
                  <a:lnTo>
                    <a:pt x="231" y="2317"/>
                  </a:lnTo>
                  <a:lnTo>
                    <a:pt x="347" y="2317"/>
                  </a:lnTo>
                  <a:lnTo>
                    <a:pt x="578" y="2317"/>
                  </a:lnTo>
                  <a:lnTo>
                    <a:pt x="810" y="2317"/>
                  </a:lnTo>
                  <a:lnTo>
                    <a:pt x="926" y="2317"/>
                  </a:lnTo>
                  <a:lnTo>
                    <a:pt x="1157" y="2201"/>
                  </a:lnTo>
                  <a:lnTo>
                    <a:pt x="1388" y="2201"/>
                  </a:lnTo>
                  <a:lnTo>
                    <a:pt x="1620" y="1969"/>
                  </a:lnTo>
                  <a:lnTo>
                    <a:pt x="1620" y="1969"/>
                  </a:lnTo>
                  <a:lnTo>
                    <a:pt x="1620" y="1853"/>
                  </a:lnTo>
                  <a:lnTo>
                    <a:pt x="1736" y="1738"/>
                  </a:lnTo>
                  <a:lnTo>
                    <a:pt x="1851" y="1506"/>
                  </a:lnTo>
                  <a:lnTo>
                    <a:pt x="1851" y="1390"/>
                  </a:lnTo>
                  <a:lnTo>
                    <a:pt x="1967" y="1159"/>
                  </a:lnTo>
                  <a:lnTo>
                    <a:pt x="1967" y="1043"/>
                  </a:lnTo>
                  <a:lnTo>
                    <a:pt x="1851" y="811"/>
                  </a:lnTo>
                  <a:lnTo>
                    <a:pt x="1736" y="695"/>
                  </a:lnTo>
                  <a:lnTo>
                    <a:pt x="1736" y="695"/>
                  </a:lnTo>
                  <a:lnTo>
                    <a:pt x="1504" y="232"/>
                  </a:lnTo>
                  <a:lnTo>
                    <a:pt x="1504" y="232"/>
                  </a:lnTo>
                  <a:lnTo>
                    <a:pt x="1620" y="116"/>
                  </a:lnTo>
                  <a:lnTo>
                    <a:pt x="1851" y="0"/>
                  </a:lnTo>
                  <a:lnTo>
                    <a:pt x="2083" y="116"/>
                  </a:lnTo>
                  <a:lnTo>
                    <a:pt x="2314" y="232"/>
                  </a:lnTo>
                  <a:lnTo>
                    <a:pt x="2546" y="348"/>
                  </a:lnTo>
                  <a:lnTo>
                    <a:pt x="2661" y="580"/>
                  </a:lnTo>
                  <a:lnTo>
                    <a:pt x="2777" y="811"/>
                  </a:lnTo>
                  <a:lnTo>
                    <a:pt x="2893" y="927"/>
                  </a:lnTo>
                  <a:lnTo>
                    <a:pt x="2893" y="927"/>
                  </a:lnTo>
                  <a:lnTo>
                    <a:pt x="2893" y="927"/>
                  </a:lnTo>
                  <a:lnTo>
                    <a:pt x="2893" y="927"/>
                  </a:lnTo>
                  <a:lnTo>
                    <a:pt x="2893" y="9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027520" y="4257000"/>
              <a:ext cx="74520" cy="173880"/>
            </a:xfrm>
            <a:custGeom>
              <a:avLst/>
              <a:gdLst/>
              <a:ahLst/>
              <a:rect l="l" t="t" r="r" b="b"/>
              <a:pathLst>
                <a:path w="2084" h="3243">
                  <a:moveTo>
                    <a:pt x="2084" y="464"/>
                  </a:moveTo>
                  <a:lnTo>
                    <a:pt x="2084" y="811"/>
                  </a:lnTo>
                  <a:lnTo>
                    <a:pt x="2084" y="1043"/>
                  </a:lnTo>
                  <a:lnTo>
                    <a:pt x="1968" y="1274"/>
                  </a:lnTo>
                  <a:lnTo>
                    <a:pt x="1852" y="1622"/>
                  </a:lnTo>
                  <a:lnTo>
                    <a:pt x="1736" y="1853"/>
                  </a:lnTo>
                  <a:lnTo>
                    <a:pt x="1621" y="2085"/>
                  </a:lnTo>
                  <a:lnTo>
                    <a:pt x="1505" y="2317"/>
                  </a:lnTo>
                  <a:lnTo>
                    <a:pt x="1389" y="2548"/>
                  </a:lnTo>
                  <a:lnTo>
                    <a:pt x="1389" y="2548"/>
                  </a:lnTo>
                  <a:lnTo>
                    <a:pt x="1158" y="2664"/>
                  </a:lnTo>
                  <a:lnTo>
                    <a:pt x="1042" y="2780"/>
                  </a:lnTo>
                  <a:lnTo>
                    <a:pt x="926" y="2896"/>
                  </a:lnTo>
                  <a:lnTo>
                    <a:pt x="695" y="3011"/>
                  </a:lnTo>
                  <a:lnTo>
                    <a:pt x="579" y="3127"/>
                  </a:lnTo>
                  <a:lnTo>
                    <a:pt x="463" y="3243"/>
                  </a:lnTo>
                  <a:lnTo>
                    <a:pt x="232" y="3243"/>
                  </a:lnTo>
                  <a:lnTo>
                    <a:pt x="0" y="3243"/>
                  </a:lnTo>
                  <a:lnTo>
                    <a:pt x="0" y="3243"/>
                  </a:lnTo>
                  <a:lnTo>
                    <a:pt x="116" y="2896"/>
                  </a:lnTo>
                  <a:lnTo>
                    <a:pt x="116" y="2548"/>
                  </a:lnTo>
                  <a:lnTo>
                    <a:pt x="232" y="2317"/>
                  </a:lnTo>
                  <a:lnTo>
                    <a:pt x="348" y="1969"/>
                  </a:lnTo>
                  <a:lnTo>
                    <a:pt x="348" y="1622"/>
                  </a:lnTo>
                  <a:lnTo>
                    <a:pt x="348" y="1274"/>
                  </a:lnTo>
                  <a:lnTo>
                    <a:pt x="348" y="927"/>
                  </a:lnTo>
                  <a:lnTo>
                    <a:pt x="232" y="579"/>
                  </a:lnTo>
                  <a:lnTo>
                    <a:pt x="232" y="579"/>
                  </a:lnTo>
                  <a:lnTo>
                    <a:pt x="348" y="232"/>
                  </a:lnTo>
                  <a:lnTo>
                    <a:pt x="463" y="116"/>
                  </a:lnTo>
                  <a:lnTo>
                    <a:pt x="695" y="0"/>
                  </a:lnTo>
                  <a:lnTo>
                    <a:pt x="1042" y="0"/>
                  </a:lnTo>
                  <a:lnTo>
                    <a:pt x="1273" y="116"/>
                  </a:lnTo>
                  <a:lnTo>
                    <a:pt x="1621" y="232"/>
                  </a:lnTo>
                  <a:lnTo>
                    <a:pt x="1852" y="348"/>
                  </a:lnTo>
                  <a:lnTo>
                    <a:pt x="2084" y="464"/>
                  </a:lnTo>
                  <a:lnTo>
                    <a:pt x="2084" y="464"/>
                  </a:lnTo>
                  <a:lnTo>
                    <a:pt x="2084" y="464"/>
                  </a:lnTo>
                  <a:lnTo>
                    <a:pt x="2084" y="464"/>
                  </a:lnTo>
                  <a:lnTo>
                    <a:pt x="2084"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089440" y="4269600"/>
              <a:ext cx="119880" cy="142920"/>
            </a:xfrm>
            <a:custGeom>
              <a:avLst/>
              <a:gdLst/>
              <a:ahLst/>
              <a:rect l="l" t="t" r="r" b="b"/>
              <a:pathLst>
                <a:path w="3357" h="2664">
                  <a:moveTo>
                    <a:pt x="3357" y="347"/>
                  </a:moveTo>
                  <a:lnTo>
                    <a:pt x="3125" y="811"/>
                  </a:lnTo>
                  <a:lnTo>
                    <a:pt x="2894" y="1158"/>
                  </a:lnTo>
                  <a:lnTo>
                    <a:pt x="2546" y="1505"/>
                  </a:lnTo>
                  <a:lnTo>
                    <a:pt x="2199" y="1853"/>
                  </a:lnTo>
                  <a:lnTo>
                    <a:pt x="1852" y="2200"/>
                  </a:lnTo>
                  <a:lnTo>
                    <a:pt x="1505" y="2432"/>
                  </a:lnTo>
                  <a:lnTo>
                    <a:pt x="1042" y="2548"/>
                  </a:lnTo>
                  <a:lnTo>
                    <a:pt x="695" y="2664"/>
                  </a:lnTo>
                  <a:lnTo>
                    <a:pt x="695" y="2664"/>
                  </a:lnTo>
                  <a:lnTo>
                    <a:pt x="0" y="2548"/>
                  </a:lnTo>
                  <a:lnTo>
                    <a:pt x="0" y="2548"/>
                  </a:lnTo>
                  <a:lnTo>
                    <a:pt x="348" y="2200"/>
                  </a:lnTo>
                  <a:lnTo>
                    <a:pt x="463" y="1853"/>
                  </a:lnTo>
                  <a:lnTo>
                    <a:pt x="695" y="1505"/>
                  </a:lnTo>
                  <a:lnTo>
                    <a:pt x="810" y="1158"/>
                  </a:lnTo>
                  <a:lnTo>
                    <a:pt x="926" y="811"/>
                  </a:lnTo>
                  <a:lnTo>
                    <a:pt x="1158" y="579"/>
                  </a:lnTo>
                  <a:lnTo>
                    <a:pt x="1505" y="232"/>
                  </a:lnTo>
                  <a:lnTo>
                    <a:pt x="1852" y="116"/>
                  </a:lnTo>
                  <a:lnTo>
                    <a:pt x="1852" y="116"/>
                  </a:lnTo>
                  <a:lnTo>
                    <a:pt x="2083" y="0"/>
                  </a:lnTo>
                  <a:lnTo>
                    <a:pt x="2315" y="0"/>
                  </a:lnTo>
                  <a:lnTo>
                    <a:pt x="2431" y="0"/>
                  </a:lnTo>
                  <a:lnTo>
                    <a:pt x="2662" y="0"/>
                  </a:lnTo>
                  <a:lnTo>
                    <a:pt x="2778" y="116"/>
                  </a:lnTo>
                  <a:lnTo>
                    <a:pt x="3009" y="116"/>
                  </a:lnTo>
                  <a:lnTo>
                    <a:pt x="3125" y="232"/>
                  </a:lnTo>
                  <a:lnTo>
                    <a:pt x="3357" y="347"/>
                  </a:lnTo>
                  <a:lnTo>
                    <a:pt x="3357" y="347"/>
                  </a:lnTo>
                  <a:lnTo>
                    <a:pt x="3357" y="347"/>
                  </a:lnTo>
                  <a:lnTo>
                    <a:pt x="3357" y="347"/>
                  </a:lnTo>
                  <a:lnTo>
                    <a:pt x="3357" y="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1923840" y="4287960"/>
              <a:ext cx="99000" cy="186480"/>
            </a:xfrm>
            <a:custGeom>
              <a:avLst/>
              <a:gdLst/>
              <a:ahLst/>
              <a:rect l="l" t="t" r="r" b="b"/>
              <a:pathLst>
                <a:path w="2778" h="3475">
                  <a:moveTo>
                    <a:pt x="2778" y="1158"/>
                  </a:moveTo>
                  <a:lnTo>
                    <a:pt x="2662" y="1506"/>
                  </a:lnTo>
                  <a:lnTo>
                    <a:pt x="2662" y="1738"/>
                  </a:lnTo>
                  <a:lnTo>
                    <a:pt x="2546" y="2085"/>
                  </a:lnTo>
                  <a:lnTo>
                    <a:pt x="2430" y="2317"/>
                  </a:lnTo>
                  <a:lnTo>
                    <a:pt x="2430" y="2664"/>
                  </a:lnTo>
                  <a:lnTo>
                    <a:pt x="2199" y="2896"/>
                  </a:lnTo>
                  <a:lnTo>
                    <a:pt x="2083" y="3127"/>
                  </a:lnTo>
                  <a:lnTo>
                    <a:pt x="1736" y="3243"/>
                  </a:lnTo>
                  <a:lnTo>
                    <a:pt x="1736" y="3243"/>
                  </a:lnTo>
                  <a:lnTo>
                    <a:pt x="1620" y="3359"/>
                  </a:lnTo>
                  <a:lnTo>
                    <a:pt x="1505" y="3359"/>
                  </a:lnTo>
                  <a:lnTo>
                    <a:pt x="1273" y="3359"/>
                  </a:lnTo>
                  <a:lnTo>
                    <a:pt x="1157" y="3475"/>
                  </a:lnTo>
                  <a:lnTo>
                    <a:pt x="1042" y="3475"/>
                  </a:lnTo>
                  <a:lnTo>
                    <a:pt x="810" y="3475"/>
                  </a:lnTo>
                  <a:lnTo>
                    <a:pt x="694" y="3359"/>
                  </a:lnTo>
                  <a:lnTo>
                    <a:pt x="579" y="3359"/>
                  </a:lnTo>
                  <a:lnTo>
                    <a:pt x="579" y="3359"/>
                  </a:lnTo>
                  <a:lnTo>
                    <a:pt x="347" y="3127"/>
                  </a:lnTo>
                  <a:lnTo>
                    <a:pt x="231" y="2896"/>
                  </a:lnTo>
                  <a:lnTo>
                    <a:pt x="231" y="2664"/>
                  </a:lnTo>
                  <a:lnTo>
                    <a:pt x="116" y="2432"/>
                  </a:lnTo>
                  <a:lnTo>
                    <a:pt x="116" y="2201"/>
                  </a:lnTo>
                  <a:lnTo>
                    <a:pt x="116" y="1969"/>
                  </a:lnTo>
                  <a:lnTo>
                    <a:pt x="0" y="1738"/>
                  </a:lnTo>
                  <a:lnTo>
                    <a:pt x="0" y="1506"/>
                  </a:lnTo>
                  <a:lnTo>
                    <a:pt x="0" y="1506"/>
                  </a:lnTo>
                  <a:lnTo>
                    <a:pt x="926" y="1274"/>
                  </a:lnTo>
                  <a:lnTo>
                    <a:pt x="926" y="1274"/>
                  </a:lnTo>
                  <a:lnTo>
                    <a:pt x="926" y="1390"/>
                  </a:lnTo>
                  <a:lnTo>
                    <a:pt x="926" y="1506"/>
                  </a:lnTo>
                  <a:lnTo>
                    <a:pt x="926" y="1622"/>
                  </a:lnTo>
                  <a:lnTo>
                    <a:pt x="926" y="1738"/>
                  </a:lnTo>
                  <a:lnTo>
                    <a:pt x="926" y="1853"/>
                  </a:lnTo>
                  <a:lnTo>
                    <a:pt x="926" y="1853"/>
                  </a:lnTo>
                  <a:lnTo>
                    <a:pt x="926" y="1969"/>
                  </a:lnTo>
                  <a:lnTo>
                    <a:pt x="1042" y="2085"/>
                  </a:lnTo>
                  <a:lnTo>
                    <a:pt x="1042" y="2085"/>
                  </a:lnTo>
                  <a:lnTo>
                    <a:pt x="1157" y="1738"/>
                  </a:lnTo>
                  <a:lnTo>
                    <a:pt x="1273" y="1390"/>
                  </a:lnTo>
                  <a:lnTo>
                    <a:pt x="1389" y="1158"/>
                  </a:lnTo>
                  <a:lnTo>
                    <a:pt x="1620" y="927"/>
                  </a:lnTo>
                  <a:lnTo>
                    <a:pt x="1852" y="579"/>
                  </a:lnTo>
                  <a:lnTo>
                    <a:pt x="2083" y="348"/>
                  </a:lnTo>
                  <a:lnTo>
                    <a:pt x="2315" y="232"/>
                  </a:lnTo>
                  <a:lnTo>
                    <a:pt x="2546" y="0"/>
                  </a:lnTo>
                  <a:lnTo>
                    <a:pt x="2546" y="0"/>
                  </a:lnTo>
                  <a:lnTo>
                    <a:pt x="2662" y="116"/>
                  </a:lnTo>
                  <a:lnTo>
                    <a:pt x="2778" y="232"/>
                  </a:lnTo>
                  <a:lnTo>
                    <a:pt x="2778" y="348"/>
                  </a:lnTo>
                  <a:lnTo>
                    <a:pt x="2778" y="579"/>
                  </a:lnTo>
                  <a:lnTo>
                    <a:pt x="2778" y="695"/>
                  </a:lnTo>
                  <a:lnTo>
                    <a:pt x="2778" y="927"/>
                  </a:lnTo>
                  <a:lnTo>
                    <a:pt x="2778" y="1043"/>
                  </a:lnTo>
                  <a:lnTo>
                    <a:pt x="2778" y="1158"/>
                  </a:lnTo>
                  <a:lnTo>
                    <a:pt x="2778" y="1158"/>
                  </a:lnTo>
                  <a:lnTo>
                    <a:pt x="2778" y="1158"/>
                  </a:lnTo>
                  <a:lnTo>
                    <a:pt x="2778" y="1158"/>
                  </a:lnTo>
                  <a:lnTo>
                    <a:pt x="2778" y="1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141560" y="4319280"/>
              <a:ext cx="827640" cy="254880"/>
            </a:xfrm>
            <a:custGeom>
              <a:avLst/>
              <a:gdLst/>
              <a:ahLst/>
              <a:rect l="l" t="t" r="r" b="b"/>
              <a:pathLst>
                <a:path w="23146" h="4749">
                  <a:moveTo>
                    <a:pt x="23146" y="0"/>
                  </a:moveTo>
                  <a:lnTo>
                    <a:pt x="22336" y="232"/>
                  </a:lnTo>
                  <a:lnTo>
                    <a:pt x="21526" y="464"/>
                  </a:lnTo>
                  <a:lnTo>
                    <a:pt x="20600" y="695"/>
                  </a:lnTo>
                  <a:lnTo>
                    <a:pt x="19790" y="1043"/>
                  </a:lnTo>
                  <a:lnTo>
                    <a:pt x="18980" y="1274"/>
                  </a:lnTo>
                  <a:lnTo>
                    <a:pt x="18054" y="1390"/>
                  </a:lnTo>
                  <a:lnTo>
                    <a:pt x="17128" y="1622"/>
                  </a:lnTo>
                  <a:lnTo>
                    <a:pt x="16318" y="1738"/>
                  </a:lnTo>
                  <a:lnTo>
                    <a:pt x="16318" y="1738"/>
                  </a:lnTo>
                  <a:lnTo>
                    <a:pt x="4397" y="4054"/>
                  </a:lnTo>
                  <a:lnTo>
                    <a:pt x="810" y="4749"/>
                  </a:lnTo>
                  <a:lnTo>
                    <a:pt x="0" y="4401"/>
                  </a:lnTo>
                  <a:lnTo>
                    <a:pt x="0" y="4401"/>
                  </a:lnTo>
                  <a:lnTo>
                    <a:pt x="2314" y="3938"/>
                  </a:lnTo>
                  <a:lnTo>
                    <a:pt x="4629" y="3591"/>
                  </a:lnTo>
                  <a:lnTo>
                    <a:pt x="6944" y="3127"/>
                  </a:lnTo>
                  <a:lnTo>
                    <a:pt x="9258" y="2664"/>
                  </a:lnTo>
                  <a:lnTo>
                    <a:pt x="11573" y="2201"/>
                  </a:lnTo>
                  <a:lnTo>
                    <a:pt x="13888" y="1738"/>
                  </a:lnTo>
                  <a:lnTo>
                    <a:pt x="16202" y="1274"/>
                  </a:lnTo>
                  <a:lnTo>
                    <a:pt x="18633" y="927"/>
                  </a:lnTo>
                  <a:lnTo>
                    <a:pt x="18633" y="927"/>
                  </a:lnTo>
                  <a:lnTo>
                    <a:pt x="19211" y="811"/>
                  </a:lnTo>
                  <a:lnTo>
                    <a:pt x="19674" y="695"/>
                  </a:lnTo>
                  <a:lnTo>
                    <a:pt x="20253" y="695"/>
                  </a:lnTo>
                  <a:lnTo>
                    <a:pt x="20831" y="579"/>
                  </a:lnTo>
                  <a:lnTo>
                    <a:pt x="21410" y="464"/>
                  </a:lnTo>
                  <a:lnTo>
                    <a:pt x="21989" y="348"/>
                  </a:lnTo>
                  <a:lnTo>
                    <a:pt x="22567" y="116"/>
                  </a:lnTo>
                  <a:lnTo>
                    <a:pt x="23146" y="0"/>
                  </a:lnTo>
                  <a:lnTo>
                    <a:pt x="23146" y="0"/>
                  </a:lnTo>
                  <a:lnTo>
                    <a:pt x="23146" y="0"/>
                  </a:lnTo>
                  <a:lnTo>
                    <a:pt x="23146" y="0"/>
                  </a:lnTo>
                  <a:lnTo>
                    <a:pt x="23146" y="0"/>
                  </a:lnTo>
                  <a:close/>
                </a:path>
              </a:pathLst>
            </a:custGeom>
            <a:solidFill>
              <a:srgbClr val="ff9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756720" y="4356360"/>
              <a:ext cx="74160" cy="335520"/>
            </a:xfrm>
            <a:custGeom>
              <a:avLst/>
              <a:gdLst/>
              <a:ahLst/>
              <a:rect l="l" t="t" r="r" b="b"/>
              <a:pathLst>
                <a:path w="2083" h="6254">
                  <a:moveTo>
                    <a:pt x="1620" y="0"/>
                  </a:moveTo>
                  <a:lnTo>
                    <a:pt x="1273" y="695"/>
                  </a:lnTo>
                  <a:lnTo>
                    <a:pt x="1041" y="1506"/>
                  </a:lnTo>
                  <a:lnTo>
                    <a:pt x="925" y="2316"/>
                  </a:lnTo>
                  <a:lnTo>
                    <a:pt x="925" y="3127"/>
                  </a:lnTo>
                  <a:lnTo>
                    <a:pt x="1041" y="3822"/>
                  </a:lnTo>
                  <a:lnTo>
                    <a:pt x="1273" y="4633"/>
                  </a:lnTo>
                  <a:lnTo>
                    <a:pt x="1620" y="5328"/>
                  </a:lnTo>
                  <a:lnTo>
                    <a:pt x="2083" y="5907"/>
                  </a:lnTo>
                  <a:lnTo>
                    <a:pt x="2083" y="5907"/>
                  </a:lnTo>
                  <a:lnTo>
                    <a:pt x="2083" y="6254"/>
                  </a:lnTo>
                  <a:lnTo>
                    <a:pt x="2083" y="6254"/>
                  </a:lnTo>
                  <a:lnTo>
                    <a:pt x="1851" y="6254"/>
                  </a:lnTo>
                  <a:lnTo>
                    <a:pt x="1736" y="6254"/>
                  </a:lnTo>
                  <a:lnTo>
                    <a:pt x="1504" y="6254"/>
                  </a:lnTo>
                  <a:lnTo>
                    <a:pt x="1388" y="6138"/>
                  </a:lnTo>
                  <a:lnTo>
                    <a:pt x="1273" y="6022"/>
                  </a:lnTo>
                  <a:lnTo>
                    <a:pt x="1041" y="5907"/>
                  </a:lnTo>
                  <a:lnTo>
                    <a:pt x="925" y="5907"/>
                  </a:lnTo>
                  <a:lnTo>
                    <a:pt x="810" y="5791"/>
                  </a:lnTo>
                  <a:lnTo>
                    <a:pt x="810" y="5791"/>
                  </a:lnTo>
                  <a:lnTo>
                    <a:pt x="462" y="5212"/>
                  </a:lnTo>
                  <a:lnTo>
                    <a:pt x="231" y="4748"/>
                  </a:lnTo>
                  <a:lnTo>
                    <a:pt x="0" y="4169"/>
                  </a:lnTo>
                  <a:lnTo>
                    <a:pt x="0" y="3475"/>
                  </a:lnTo>
                  <a:lnTo>
                    <a:pt x="0" y="2896"/>
                  </a:lnTo>
                  <a:lnTo>
                    <a:pt x="0" y="2201"/>
                  </a:lnTo>
                  <a:lnTo>
                    <a:pt x="115" y="1622"/>
                  </a:lnTo>
                  <a:lnTo>
                    <a:pt x="231" y="1043"/>
                  </a:lnTo>
                  <a:lnTo>
                    <a:pt x="231" y="1043"/>
                  </a:lnTo>
                  <a:lnTo>
                    <a:pt x="347" y="927"/>
                  </a:lnTo>
                  <a:lnTo>
                    <a:pt x="462" y="695"/>
                  </a:lnTo>
                  <a:lnTo>
                    <a:pt x="694" y="579"/>
                  </a:lnTo>
                  <a:lnTo>
                    <a:pt x="810" y="348"/>
                  </a:lnTo>
                  <a:lnTo>
                    <a:pt x="925" y="232"/>
                  </a:lnTo>
                  <a:lnTo>
                    <a:pt x="1157" y="116"/>
                  </a:lnTo>
                  <a:lnTo>
                    <a:pt x="1388" y="0"/>
                  </a:lnTo>
                  <a:lnTo>
                    <a:pt x="1620" y="0"/>
                  </a:lnTo>
                  <a:lnTo>
                    <a:pt x="1620" y="0"/>
                  </a:lnTo>
                  <a:lnTo>
                    <a:pt x="1620" y="0"/>
                  </a:lnTo>
                  <a:lnTo>
                    <a:pt x="1620" y="0"/>
                  </a:lnTo>
                  <a:lnTo>
                    <a:pt x="16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810720" y="4375080"/>
              <a:ext cx="37080" cy="279720"/>
            </a:xfrm>
            <a:custGeom>
              <a:avLst/>
              <a:gdLst/>
              <a:ahLst/>
              <a:rect l="l" t="t" r="r" b="b"/>
              <a:pathLst>
                <a:path w="1042" h="5211">
                  <a:moveTo>
                    <a:pt x="694" y="1968"/>
                  </a:moveTo>
                  <a:lnTo>
                    <a:pt x="1042" y="3706"/>
                  </a:lnTo>
                  <a:lnTo>
                    <a:pt x="810" y="5211"/>
                  </a:lnTo>
                  <a:lnTo>
                    <a:pt x="810" y="5211"/>
                  </a:lnTo>
                  <a:lnTo>
                    <a:pt x="463" y="4632"/>
                  </a:lnTo>
                  <a:lnTo>
                    <a:pt x="232" y="3937"/>
                  </a:lnTo>
                  <a:lnTo>
                    <a:pt x="0" y="3358"/>
                  </a:lnTo>
                  <a:lnTo>
                    <a:pt x="0" y="2663"/>
                  </a:lnTo>
                  <a:lnTo>
                    <a:pt x="0" y="1968"/>
                  </a:lnTo>
                  <a:lnTo>
                    <a:pt x="0" y="1274"/>
                  </a:lnTo>
                  <a:lnTo>
                    <a:pt x="232" y="579"/>
                  </a:lnTo>
                  <a:lnTo>
                    <a:pt x="463" y="0"/>
                  </a:lnTo>
                  <a:lnTo>
                    <a:pt x="463" y="0"/>
                  </a:lnTo>
                  <a:lnTo>
                    <a:pt x="694" y="231"/>
                  </a:lnTo>
                  <a:lnTo>
                    <a:pt x="810" y="463"/>
                  </a:lnTo>
                  <a:lnTo>
                    <a:pt x="810" y="695"/>
                  </a:lnTo>
                  <a:lnTo>
                    <a:pt x="810" y="926"/>
                  </a:lnTo>
                  <a:lnTo>
                    <a:pt x="694" y="1158"/>
                  </a:lnTo>
                  <a:lnTo>
                    <a:pt x="694" y="1505"/>
                  </a:lnTo>
                  <a:lnTo>
                    <a:pt x="579" y="1737"/>
                  </a:lnTo>
                  <a:lnTo>
                    <a:pt x="694" y="1968"/>
                  </a:lnTo>
                  <a:lnTo>
                    <a:pt x="694" y="1968"/>
                  </a:lnTo>
                  <a:lnTo>
                    <a:pt x="694" y="1968"/>
                  </a:lnTo>
                  <a:lnTo>
                    <a:pt x="694" y="1968"/>
                  </a:lnTo>
                  <a:lnTo>
                    <a:pt x="694" y="19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1878480" y="4381560"/>
              <a:ext cx="32760" cy="55800"/>
            </a:xfrm>
            <a:custGeom>
              <a:avLst/>
              <a:gdLst/>
              <a:ahLst/>
              <a:rect l="l" t="t" r="r" b="b"/>
              <a:pathLst>
                <a:path w="926" h="1042">
                  <a:moveTo>
                    <a:pt x="926" y="926"/>
                  </a:moveTo>
                  <a:lnTo>
                    <a:pt x="926" y="1042"/>
                  </a:lnTo>
                  <a:lnTo>
                    <a:pt x="926" y="1042"/>
                  </a:lnTo>
                  <a:lnTo>
                    <a:pt x="810" y="1042"/>
                  </a:lnTo>
                  <a:lnTo>
                    <a:pt x="694" y="1042"/>
                  </a:lnTo>
                  <a:lnTo>
                    <a:pt x="579" y="1042"/>
                  </a:lnTo>
                  <a:lnTo>
                    <a:pt x="463" y="926"/>
                  </a:lnTo>
                  <a:lnTo>
                    <a:pt x="347" y="926"/>
                  </a:lnTo>
                  <a:lnTo>
                    <a:pt x="231" y="810"/>
                  </a:lnTo>
                  <a:lnTo>
                    <a:pt x="116" y="694"/>
                  </a:lnTo>
                  <a:lnTo>
                    <a:pt x="0" y="579"/>
                  </a:lnTo>
                  <a:lnTo>
                    <a:pt x="0" y="579"/>
                  </a:lnTo>
                  <a:lnTo>
                    <a:pt x="0" y="463"/>
                  </a:lnTo>
                  <a:lnTo>
                    <a:pt x="0" y="347"/>
                  </a:lnTo>
                  <a:lnTo>
                    <a:pt x="0" y="231"/>
                  </a:lnTo>
                  <a:lnTo>
                    <a:pt x="116" y="115"/>
                  </a:lnTo>
                  <a:lnTo>
                    <a:pt x="116" y="115"/>
                  </a:lnTo>
                  <a:lnTo>
                    <a:pt x="231" y="0"/>
                  </a:lnTo>
                  <a:lnTo>
                    <a:pt x="347" y="0"/>
                  </a:lnTo>
                  <a:lnTo>
                    <a:pt x="463" y="0"/>
                  </a:lnTo>
                  <a:lnTo>
                    <a:pt x="463" y="0"/>
                  </a:lnTo>
                  <a:lnTo>
                    <a:pt x="579" y="0"/>
                  </a:lnTo>
                  <a:lnTo>
                    <a:pt x="694" y="115"/>
                  </a:lnTo>
                  <a:lnTo>
                    <a:pt x="810" y="115"/>
                  </a:lnTo>
                  <a:lnTo>
                    <a:pt x="810" y="347"/>
                  </a:lnTo>
                  <a:lnTo>
                    <a:pt x="810" y="463"/>
                  </a:lnTo>
                  <a:lnTo>
                    <a:pt x="926" y="579"/>
                  </a:lnTo>
                  <a:lnTo>
                    <a:pt x="926" y="810"/>
                  </a:lnTo>
                  <a:lnTo>
                    <a:pt x="926" y="926"/>
                  </a:lnTo>
                  <a:lnTo>
                    <a:pt x="926" y="926"/>
                  </a:lnTo>
                  <a:lnTo>
                    <a:pt x="926" y="926"/>
                  </a:lnTo>
                  <a:lnTo>
                    <a:pt x="926" y="926"/>
                  </a:lnTo>
                  <a:lnTo>
                    <a:pt x="926" y="9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83" name=""/>
            <p:cNvSpPr/>
            <p:nvPr/>
          </p:nvSpPr>
          <p:spPr>
            <a:xfrm>
              <a:off x="562320" y="4393800"/>
              <a:ext cx="227520" cy="391680"/>
            </a:xfrm>
            <a:custGeom>
              <a:avLst/>
              <a:gdLst/>
              <a:ahLst/>
              <a:rect l="l" t="t" r="r" b="b"/>
              <a:pathLst>
                <a:path w="6365" h="7296">
                  <a:moveTo>
                    <a:pt x="6365" y="5791"/>
                  </a:moveTo>
                  <a:lnTo>
                    <a:pt x="5671" y="6022"/>
                  </a:lnTo>
                  <a:lnTo>
                    <a:pt x="4977" y="6370"/>
                  </a:lnTo>
                  <a:lnTo>
                    <a:pt x="4282" y="6717"/>
                  </a:lnTo>
                  <a:lnTo>
                    <a:pt x="3588" y="7065"/>
                  </a:lnTo>
                  <a:lnTo>
                    <a:pt x="2778" y="7296"/>
                  </a:lnTo>
                  <a:lnTo>
                    <a:pt x="2083" y="7296"/>
                  </a:lnTo>
                  <a:lnTo>
                    <a:pt x="1389" y="6949"/>
                  </a:lnTo>
                  <a:lnTo>
                    <a:pt x="810" y="6370"/>
                  </a:lnTo>
                  <a:lnTo>
                    <a:pt x="810" y="6370"/>
                  </a:lnTo>
                  <a:lnTo>
                    <a:pt x="463" y="5906"/>
                  </a:lnTo>
                  <a:lnTo>
                    <a:pt x="116" y="5327"/>
                  </a:lnTo>
                  <a:lnTo>
                    <a:pt x="0" y="4748"/>
                  </a:lnTo>
                  <a:lnTo>
                    <a:pt x="0" y="4169"/>
                  </a:lnTo>
                  <a:lnTo>
                    <a:pt x="0" y="3590"/>
                  </a:lnTo>
                  <a:lnTo>
                    <a:pt x="0" y="3011"/>
                  </a:lnTo>
                  <a:lnTo>
                    <a:pt x="116" y="2432"/>
                  </a:lnTo>
                  <a:lnTo>
                    <a:pt x="232" y="1853"/>
                  </a:lnTo>
                  <a:lnTo>
                    <a:pt x="232" y="1853"/>
                  </a:lnTo>
                  <a:lnTo>
                    <a:pt x="695" y="1274"/>
                  </a:lnTo>
                  <a:lnTo>
                    <a:pt x="1157" y="811"/>
                  </a:lnTo>
                  <a:lnTo>
                    <a:pt x="1736" y="579"/>
                  </a:lnTo>
                  <a:lnTo>
                    <a:pt x="2431" y="463"/>
                  </a:lnTo>
                  <a:lnTo>
                    <a:pt x="3125" y="348"/>
                  </a:lnTo>
                  <a:lnTo>
                    <a:pt x="3935" y="232"/>
                  </a:lnTo>
                  <a:lnTo>
                    <a:pt x="4629" y="232"/>
                  </a:lnTo>
                  <a:lnTo>
                    <a:pt x="5208" y="0"/>
                  </a:lnTo>
                  <a:lnTo>
                    <a:pt x="5208" y="0"/>
                  </a:lnTo>
                  <a:lnTo>
                    <a:pt x="5092" y="811"/>
                  </a:lnTo>
                  <a:lnTo>
                    <a:pt x="4977" y="1506"/>
                  </a:lnTo>
                  <a:lnTo>
                    <a:pt x="4977" y="2316"/>
                  </a:lnTo>
                  <a:lnTo>
                    <a:pt x="4977" y="3127"/>
                  </a:lnTo>
                  <a:lnTo>
                    <a:pt x="5092" y="3938"/>
                  </a:lnTo>
                  <a:lnTo>
                    <a:pt x="5324" y="4633"/>
                  </a:lnTo>
                  <a:lnTo>
                    <a:pt x="5787" y="5327"/>
                  </a:lnTo>
                  <a:lnTo>
                    <a:pt x="6365" y="5791"/>
                  </a:lnTo>
                  <a:lnTo>
                    <a:pt x="6365" y="5791"/>
                  </a:lnTo>
                  <a:lnTo>
                    <a:pt x="6365" y="5791"/>
                  </a:lnTo>
                  <a:lnTo>
                    <a:pt x="6365" y="5791"/>
                  </a:lnTo>
                  <a:lnTo>
                    <a:pt x="6365" y="5791"/>
                  </a:lnTo>
                  <a:close/>
                </a:path>
              </a:pathLst>
            </a:custGeom>
            <a:solidFill>
              <a:srgbClr val="ff3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026000" y="4399920"/>
              <a:ext cx="835920" cy="857880"/>
            </a:xfrm>
            <a:custGeom>
              <a:avLst/>
              <a:gdLst/>
              <a:ahLst/>
              <a:rect l="l" t="t" r="r" b="b"/>
              <a:pathLst>
                <a:path w="23378" h="15982">
                  <a:moveTo>
                    <a:pt x="23378" y="6949"/>
                  </a:moveTo>
                  <a:lnTo>
                    <a:pt x="23031" y="7180"/>
                  </a:lnTo>
                  <a:lnTo>
                    <a:pt x="22568" y="7412"/>
                  </a:lnTo>
                  <a:lnTo>
                    <a:pt x="22221" y="7528"/>
                  </a:lnTo>
                  <a:lnTo>
                    <a:pt x="21758" y="7528"/>
                  </a:lnTo>
                  <a:lnTo>
                    <a:pt x="21295" y="7643"/>
                  </a:lnTo>
                  <a:lnTo>
                    <a:pt x="20832" y="7643"/>
                  </a:lnTo>
                  <a:lnTo>
                    <a:pt x="20369" y="7759"/>
                  </a:lnTo>
                  <a:lnTo>
                    <a:pt x="19906" y="7875"/>
                  </a:lnTo>
                  <a:lnTo>
                    <a:pt x="19906" y="7875"/>
                  </a:lnTo>
                  <a:lnTo>
                    <a:pt x="16203" y="9033"/>
                  </a:lnTo>
                  <a:lnTo>
                    <a:pt x="2778" y="15055"/>
                  </a:lnTo>
                  <a:lnTo>
                    <a:pt x="2778" y="15055"/>
                  </a:lnTo>
                  <a:lnTo>
                    <a:pt x="2546" y="15171"/>
                  </a:lnTo>
                  <a:lnTo>
                    <a:pt x="2199" y="15403"/>
                  </a:lnTo>
                  <a:lnTo>
                    <a:pt x="1852" y="15518"/>
                  </a:lnTo>
                  <a:lnTo>
                    <a:pt x="1505" y="15750"/>
                  </a:lnTo>
                  <a:lnTo>
                    <a:pt x="1157" y="15866"/>
                  </a:lnTo>
                  <a:lnTo>
                    <a:pt x="810" y="15982"/>
                  </a:lnTo>
                  <a:lnTo>
                    <a:pt x="463" y="15982"/>
                  </a:lnTo>
                  <a:lnTo>
                    <a:pt x="0" y="15982"/>
                  </a:lnTo>
                  <a:lnTo>
                    <a:pt x="0" y="15982"/>
                  </a:lnTo>
                  <a:lnTo>
                    <a:pt x="0" y="14592"/>
                  </a:lnTo>
                  <a:lnTo>
                    <a:pt x="116" y="13202"/>
                  </a:lnTo>
                  <a:lnTo>
                    <a:pt x="116" y="11813"/>
                  </a:lnTo>
                  <a:lnTo>
                    <a:pt x="232" y="10423"/>
                  </a:lnTo>
                  <a:lnTo>
                    <a:pt x="347" y="8917"/>
                  </a:lnTo>
                  <a:lnTo>
                    <a:pt x="347" y="7528"/>
                  </a:lnTo>
                  <a:lnTo>
                    <a:pt x="463" y="6138"/>
                  </a:lnTo>
                  <a:lnTo>
                    <a:pt x="579" y="4748"/>
                  </a:lnTo>
                  <a:lnTo>
                    <a:pt x="579" y="4748"/>
                  </a:lnTo>
                  <a:lnTo>
                    <a:pt x="1157" y="4748"/>
                  </a:lnTo>
                  <a:lnTo>
                    <a:pt x="1620" y="4980"/>
                  </a:lnTo>
                  <a:lnTo>
                    <a:pt x="2083" y="5211"/>
                  </a:lnTo>
                  <a:lnTo>
                    <a:pt x="2546" y="5559"/>
                  </a:lnTo>
                  <a:lnTo>
                    <a:pt x="3009" y="5790"/>
                  </a:lnTo>
                  <a:lnTo>
                    <a:pt x="3472" y="5790"/>
                  </a:lnTo>
                  <a:lnTo>
                    <a:pt x="3935" y="5675"/>
                  </a:lnTo>
                  <a:lnTo>
                    <a:pt x="4514" y="5327"/>
                  </a:lnTo>
                  <a:lnTo>
                    <a:pt x="4514" y="5327"/>
                  </a:lnTo>
                  <a:lnTo>
                    <a:pt x="4514" y="5211"/>
                  </a:lnTo>
                  <a:lnTo>
                    <a:pt x="4629" y="5096"/>
                  </a:lnTo>
                  <a:lnTo>
                    <a:pt x="4629" y="4980"/>
                  </a:lnTo>
                  <a:lnTo>
                    <a:pt x="4745" y="4980"/>
                  </a:lnTo>
                  <a:lnTo>
                    <a:pt x="4745" y="4864"/>
                  </a:lnTo>
                  <a:lnTo>
                    <a:pt x="4745" y="4748"/>
                  </a:lnTo>
                  <a:lnTo>
                    <a:pt x="4861" y="4632"/>
                  </a:lnTo>
                  <a:lnTo>
                    <a:pt x="4861" y="4517"/>
                  </a:lnTo>
                  <a:lnTo>
                    <a:pt x="4861" y="4517"/>
                  </a:lnTo>
                  <a:lnTo>
                    <a:pt x="4861" y="4401"/>
                  </a:lnTo>
                  <a:lnTo>
                    <a:pt x="4745" y="4285"/>
                  </a:lnTo>
                  <a:lnTo>
                    <a:pt x="4745" y="4169"/>
                  </a:lnTo>
                  <a:lnTo>
                    <a:pt x="4745" y="4053"/>
                  </a:lnTo>
                  <a:lnTo>
                    <a:pt x="4745" y="3937"/>
                  </a:lnTo>
                  <a:lnTo>
                    <a:pt x="4629" y="3822"/>
                  </a:lnTo>
                  <a:lnTo>
                    <a:pt x="4629" y="3706"/>
                  </a:lnTo>
                  <a:lnTo>
                    <a:pt x="4514" y="3706"/>
                  </a:lnTo>
                  <a:lnTo>
                    <a:pt x="4514" y="3706"/>
                  </a:lnTo>
                  <a:lnTo>
                    <a:pt x="6828" y="3127"/>
                  </a:lnTo>
                  <a:lnTo>
                    <a:pt x="9143" y="2664"/>
                  </a:lnTo>
                  <a:lnTo>
                    <a:pt x="11458" y="2316"/>
                  </a:lnTo>
                  <a:lnTo>
                    <a:pt x="13772" y="1853"/>
                  </a:lnTo>
                  <a:lnTo>
                    <a:pt x="15971" y="1390"/>
                  </a:lnTo>
                  <a:lnTo>
                    <a:pt x="18286" y="1042"/>
                  </a:lnTo>
                  <a:lnTo>
                    <a:pt x="20600" y="579"/>
                  </a:lnTo>
                  <a:lnTo>
                    <a:pt x="22799" y="0"/>
                  </a:lnTo>
                  <a:lnTo>
                    <a:pt x="22799" y="0"/>
                  </a:lnTo>
                  <a:lnTo>
                    <a:pt x="22799" y="926"/>
                  </a:lnTo>
                  <a:lnTo>
                    <a:pt x="22799" y="1737"/>
                  </a:lnTo>
                  <a:lnTo>
                    <a:pt x="22799" y="2664"/>
                  </a:lnTo>
                  <a:lnTo>
                    <a:pt x="22799" y="3590"/>
                  </a:lnTo>
                  <a:lnTo>
                    <a:pt x="22915" y="4401"/>
                  </a:lnTo>
                  <a:lnTo>
                    <a:pt x="23031" y="5327"/>
                  </a:lnTo>
                  <a:lnTo>
                    <a:pt x="23147" y="6138"/>
                  </a:lnTo>
                  <a:lnTo>
                    <a:pt x="23378" y="6949"/>
                  </a:lnTo>
                  <a:lnTo>
                    <a:pt x="23378" y="6949"/>
                  </a:lnTo>
                  <a:lnTo>
                    <a:pt x="23378" y="6949"/>
                  </a:lnTo>
                  <a:lnTo>
                    <a:pt x="23378" y="6949"/>
                  </a:lnTo>
                  <a:lnTo>
                    <a:pt x="23378" y="6949"/>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852120" y="4437360"/>
              <a:ext cx="20520" cy="111600"/>
            </a:xfrm>
            <a:custGeom>
              <a:avLst/>
              <a:gdLst/>
              <a:ahLst/>
              <a:rect l="l" t="t" r="r" b="b"/>
              <a:pathLst>
                <a:path w="579" h="2084">
                  <a:moveTo>
                    <a:pt x="579" y="695"/>
                  </a:moveTo>
                  <a:lnTo>
                    <a:pt x="116" y="2084"/>
                  </a:lnTo>
                  <a:lnTo>
                    <a:pt x="116" y="2084"/>
                  </a:lnTo>
                  <a:lnTo>
                    <a:pt x="0" y="1853"/>
                  </a:lnTo>
                  <a:lnTo>
                    <a:pt x="0" y="1621"/>
                  </a:lnTo>
                  <a:lnTo>
                    <a:pt x="0" y="1274"/>
                  </a:lnTo>
                  <a:lnTo>
                    <a:pt x="0" y="1042"/>
                  </a:lnTo>
                  <a:lnTo>
                    <a:pt x="0" y="810"/>
                  </a:lnTo>
                  <a:lnTo>
                    <a:pt x="0" y="579"/>
                  </a:lnTo>
                  <a:lnTo>
                    <a:pt x="0" y="231"/>
                  </a:lnTo>
                  <a:lnTo>
                    <a:pt x="116" y="0"/>
                  </a:lnTo>
                  <a:lnTo>
                    <a:pt x="116" y="0"/>
                  </a:lnTo>
                  <a:lnTo>
                    <a:pt x="232" y="0"/>
                  </a:lnTo>
                  <a:lnTo>
                    <a:pt x="348" y="116"/>
                  </a:lnTo>
                  <a:lnTo>
                    <a:pt x="348" y="116"/>
                  </a:lnTo>
                  <a:lnTo>
                    <a:pt x="463" y="231"/>
                  </a:lnTo>
                  <a:lnTo>
                    <a:pt x="463" y="347"/>
                  </a:lnTo>
                  <a:lnTo>
                    <a:pt x="463" y="463"/>
                  </a:lnTo>
                  <a:lnTo>
                    <a:pt x="463" y="579"/>
                  </a:lnTo>
                  <a:lnTo>
                    <a:pt x="579" y="695"/>
                  </a:lnTo>
                  <a:lnTo>
                    <a:pt x="579" y="695"/>
                  </a:lnTo>
                  <a:lnTo>
                    <a:pt x="579" y="695"/>
                  </a:lnTo>
                  <a:lnTo>
                    <a:pt x="579" y="695"/>
                  </a:lnTo>
                  <a:lnTo>
                    <a:pt x="579" y="6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87160" y="4654800"/>
              <a:ext cx="144720" cy="105480"/>
            </a:xfrm>
            <a:custGeom>
              <a:avLst/>
              <a:gdLst/>
              <a:ahLst/>
              <a:rect l="l" t="t" r="r" b="b"/>
              <a:pathLst>
                <a:path w="4050" h="1969">
                  <a:moveTo>
                    <a:pt x="1157" y="1274"/>
                  </a:moveTo>
                  <a:lnTo>
                    <a:pt x="1157" y="1158"/>
                  </a:lnTo>
                  <a:lnTo>
                    <a:pt x="1157" y="1042"/>
                  </a:lnTo>
                  <a:lnTo>
                    <a:pt x="1041" y="1042"/>
                  </a:lnTo>
                  <a:lnTo>
                    <a:pt x="1041" y="927"/>
                  </a:lnTo>
                  <a:lnTo>
                    <a:pt x="1041" y="811"/>
                  </a:lnTo>
                  <a:lnTo>
                    <a:pt x="925" y="695"/>
                  </a:lnTo>
                  <a:lnTo>
                    <a:pt x="925" y="579"/>
                  </a:lnTo>
                  <a:lnTo>
                    <a:pt x="925" y="463"/>
                  </a:lnTo>
                  <a:lnTo>
                    <a:pt x="925" y="463"/>
                  </a:lnTo>
                  <a:lnTo>
                    <a:pt x="1157" y="463"/>
                  </a:lnTo>
                  <a:lnTo>
                    <a:pt x="1273" y="579"/>
                  </a:lnTo>
                  <a:lnTo>
                    <a:pt x="1388" y="695"/>
                  </a:lnTo>
                  <a:lnTo>
                    <a:pt x="1504" y="927"/>
                  </a:lnTo>
                  <a:lnTo>
                    <a:pt x="1620" y="1042"/>
                  </a:lnTo>
                  <a:lnTo>
                    <a:pt x="1620" y="1158"/>
                  </a:lnTo>
                  <a:lnTo>
                    <a:pt x="1851" y="1274"/>
                  </a:lnTo>
                  <a:lnTo>
                    <a:pt x="1967" y="1390"/>
                  </a:lnTo>
                  <a:lnTo>
                    <a:pt x="1967" y="1390"/>
                  </a:lnTo>
                  <a:lnTo>
                    <a:pt x="1851" y="1274"/>
                  </a:lnTo>
                  <a:lnTo>
                    <a:pt x="1851" y="1158"/>
                  </a:lnTo>
                  <a:lnTo>
                    <a:pt x="1851" y="1042"/>
                  </a:lnTo>
                  <a:lnTo>
                    <a:pt x="1736" y="927"/>
                  </a:lnTo>
                  <a:lnTo>
                    <a:pt x="1736" y="811"/>
                  </a:lnTo>
                  <a:lnTo>
                    <a:pt x="1736" y="695"/>
                  </a:lnTo>
                  <a:lnTo>
                    <a:pt x="1620" y="579"/>
                  </a:lnTo>
                  <a:lnTo>
                    <a:pt x="1620" y="463"/>
                  </a:lnTo>
                  <a:lnTo>
                    <a:pt x="1620" y="463"/>
                  </a:lnTo>
                  <a:lnTo>
                    <a:pt x="1851" y="463"/>
                  </a:lnTo>
                  <a:lnTo>
                    <a:pt x="1967" y="579"/>
                  </a:lnTo>
                  <a:lnTo>
                    <a:pt x="2083" y="811"/>
                  </a:lnTo>
                  <a:lnTo>
                    <a:pt x="2083" y="927"/>
                  </a:lnTo>
                  <a:lnTo>
                    <a:pt x="2198" y="1158"/>
                  </a:lnTo>
                  <a:lnTo>
                    <a:pt x="2314" y="1274"/>
                  </a:lnTo>
                  <a:lnTo>
                    <a:pt x="2546" y="1274"/>
                  </a:lnTo>
                  <a:lnTo>
                    <a:pt x="2777" y="1274"/>
                  </a:lnTo>
                  <a:lnTo>
                    <a:pt x="2777" y="1274"/>
                  </a:lnTo>
                  <a:lnTo>
                    <a:pt x="2661" y="1158"/>
                  </a:lnTo>
                  <a:lnTo>
                    <a:pt x="2661" y="1042"/>
                  </a:lnTo>
                  <a:lnTo>
                    <a:pt x="2661" y="1042"/>
                  </a:lnTo>
                  <a:lnTo>
                    <a:pt x="2546" y="927"/>
                  </a:lnTo>
                  <a:lnTo>
                    <a:pt x="2546" y="811"/>
                  </a:lnTo>
                  <a:lnTo>
                    <a:pt x="2430" y="695"/>
                  </a:lnTo>
                  <a:lnTo>
                    <a:pt x="2430" y="695"/>
                  </a:lnTo>
                  <a:lnTo>
                    <a:pt x="2430" y="579"/>
                  </a:lnTo>
                  <a:lnTo>
                    <a:pt x="2430" y="579"/>
                  </a:lnTo>
                  <a:lnTo>
                    <a:pt x="2546" y="579"/>
                  </a:lnTo>
                  <a:lnTo>
                    <a:pt x="2777" y="695"/>
                  </a:lnTo>
                  <a:lnTo>
                    <a:pt x="2777" y="811"/>
                  </a:lnTo>
                  <a:lnTo>
                    <a:pt x="2893" y="927"/>
                  </a:lnTo>
                  <a:lnTo>
                    <a:pt x="3009" y="1042"/>
                  </a:lnTo>
                  <a:lnTo>
                    <a:pt x="3124" y="1158"/>
                  </a:lnTo>
                  <a:lnTo>
                    <a:pt x="3356" y="1158"/>
                  </a:lnTo>
                  <a:lnTo>
                    <a:pt x="3471" y="1042"/>
                  </a:lnTo>
                  <a:lnTo>
                    <a:pt x="3471" y="1042"/>
                  </a:lnTo>
                  <a:lnTo>
                    <a:pt x="3471" y="1042"/>
                  </a:lnTo>
                  <a:lnTo>
                    <a:pt x="3356" y="927"/>
                  </a:lnTo>
                  <a:lnTo>
                    <a:pt x="3240" y="811"/>
                  </a:lnTo>
                  <a:lnTo>
                    <a:pt x="3124" y="695"/>
                  </a:lnTo>
                  <a:lnTo>
                    <a:pt x="3009" y="579"/>
                  </a:lnTo>
                  <a:lnTo>
                    <a:pt x="3009" y="463"/>
                  </a:lnTo>
                  <a:lnTo>
                    <a:pt x="3009" y="348"/>
                  </a:lnTo>
                  <a:lnTo>
                    <a:pt x="3009" y="232"/>
                  </a:lnTo>
                  <a:lnTo>
                    <a:pt x="3009" y="232"/>
                  </a:lnTo>
                  <a:lnTo>
                    <a:pt x="3124" y="348"/>
                  </a:lnTo>
                  <a:lnTo>
                    <a:pt x="3240" y="348"/>
                  </a:lnTo>
                  <a:lnTo>
                    <a:pt x="3356" y="463"/>
                  </a:lnTo>
                  <a:lnTo>
                    <a:pt x="3471" y="579"/>
                  </a:lnTo>
                  <a:lnTo>
                    <a:pt x="3587" y="695"/>
                  </a:lnTo>
                  <a:lnTo>
                    <a:pt x="3819" y="811"/>
                  </a:lnTo>
                  <a:lnTo>
                    <a:pt x="3934" y="811"/>
                  </a:lnTo>
                  <a:lnTo>
                    <a:pt x="4050" y="927"/>
                  </a:lnTo>
                  <a:lnTo>
                    <a:pt x="4050" y="927"/>
                  </a:lnTo>
                  <a:lnTo>
                    <a:pt x="3934" y="1042"/>
                  </a:lnTo>
                  <a:lnTo>
                    <a:pt x="3819" y="1042"/>
                  </a:lnTo>
                  <a:lnTo>
                    <a:pt x="3703" y="1158"/>
                  </a:lnTo>
                  <a:lnTo>
                    <a:pt x="3587" y="1158"/>
                  </a:lnTo>
                  <a:lnTo>
                    <a:pt x="3471" y="1158"/>
                  </a:lnTo>
                  <a:lnTo>
                    <a:pt x="3356" y="1158"/>
                  </a:lnTo>
                  <a:lnTo>
                    <a:pt x="3356" y="1274"/>
                  </a:lnTo>
                  <a:lnTo>
                    <a:pt x="3471" y="1390"/>
                  </a:lnTo>
                  <a:lnTo>
                    <a:pt x="3471" y="1390"/>
                  </a:lnTo>
                  <a:lnTo>
                    <a:pt x="3009" y="1506"/>
                  </a:lnTo>
                  <a:lnTo>
                    <a:pt x="3009" y="1506"/>
                  </a:lnTo>
                  <a:lnTo>
                    <a:pt x="2893" y="1621"/>
                  </a:lnTo>
                  <a:lnTo>
                    <a:pt x="2777" y="1737"/>
                  </a:lnTo>
                  <a:lnTo>
                    <a:pt x="2661" y="1737"/>
                  </a:lnTo>
                  <a:lnTo>
                    <a:pt x="2546" y="1853"/>
                  </a:lnTo>
                  <a:lnTo>
                    <a:pt x="2314" y="1853"/>
                  </a:lnTo>
                  <a:lnTo>
                    <a:pt x="2198" y="1853"/>
                  </a:lnTo>
                  <a:lnTo>
                    <a:pt x="1967" y="1969"/>
                  </a:lnTo>
                  <a:lnTo>
                    <a:pt x="1851" y="1969"/>
                  </a:lnTo>
                  <a:lnTo>
                    <a:pt x="1851" y="1969"/>
                  </a:lnTo>
                  <a:lnTo>
                    <a:pt x="1736" y="1969"/>
                  </a:lnTo>
                  <a:lnTo>
                    <a:pt x="1504" y="1969"/>
                  </a:lnTo>
                  <a:lnTo>
                    <a:pt x="1273" y="1853"/>
                  </a:lnTo>
                  <a:lnTo>
                    <a:pt x="1157" y="1737"/>
                  </a:lnTo>
                  <a:lnTo>
                    <a:pt x="925" y="1621"/>
                  </a:lnTo>
                  <a:lnTo>
                    <a:pt x="810" y="1506"/>
                  </a:lnTo>
                  <a:lnTo>
                    <a:pt x="694" y="1390"/>
                  </a:lnTo>
                  <a:lnTo>
                    <a:pt x="462" y="1274"/>
                  </a:lnTo>
                  <a:lnTo>
                    <a:pt x="462" y="1274"/>
                  </a:lnTo>
                  <a:lnTo>
                    <a:pt x="347" y="1158"/>
                  </a:lnTo>
                  <a:lnTo>
                    <a:pt x="231" y="927"/>
                  </a:lnTo>
                  <a:lnTo>
                    <a:pt x="231" y="811"/>
                  </a:lnTo>
                  <a:lnTo>
                    <a:pt x="115" y="579"/>
                  </a:lnTo>
                  <a:lnTo>
                    <a:pt x="0" y="463"/>
                  </a:lnTo>
                  <a:lnTo>
                    <a:pt x="0" y="232"/>
                  </a:lnTo>
                  <a:lnTo>
                    <a:pt x="0" y="116"/>
                  </a:lnTo>
                  <a:lnTo>
                    <a:pt x="0" y="0"/>
                  </a:lnTo>
                  <a:lnTo>
                    <a:pt x="0" y="0"/>
                  </a:lnTo>
                  <a:lnTo>
                    <a:pt x="115" y="116"/>
                  </a:lnTo>
                  <a:lnTo>
                    <a:pt x="231" y="348"/>
                  </a:lnTo>
                  <a:lnTo>
                    <a:pt x="347" y="463"/>
                  </a:lnTo>
                  <a:lnTo>
                    <a:pt x="462" y="695"/>
                  </a:lnTo>
                  <a:lnTo>
                    <a:pt x="578" y="811"/>
                  </a:lnTo>
                  <a:lnTo>
                    <a:pt x="810" y="1042"/>
                  </a:lnTo>
                  <a:lnTo>
                    <a:pt x="925" y="1158"/>
                  </a:lnTo>
                  <a:lnTo>
                    <a:pt x="1157" y="1274"/>
                  </a:lnTo>
                  <a:lnTo>
                    <a:pt x="1157" y="1274"/>
                  </a:lnTo>
                  <a:lnTo>
                    <a:pt x="1157" y="1274"/>
                  </a:lnTo>
                  <a:lnTo>
                    <a:pt x="1157" y="1274"/>
                  </a:lnTo>
                  <a:lnTo>
                    <a:pt x="1157"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19640" y="4654800"/>
              <a:ext cx="37080" cy="43200"/>
            </a:xfrm>
            <a:custGeom>
              <a:avLst/>
              <a:gdLst/>
              <a:ahLst/>
              <a:rect l="l" t="t" r="r" b="b"/>
              <a:pathLst>
                <a:path w="1042" h="811">
                  <a:moveTo>
                    <a:pt x="1042" y="811"/>
                  </a:moveTo>
                  <a:lnTo>
                    <a:pt x="926" y="811"/>
                  </a:lnTo>
                  <a:lnTo>
                    <a:pt x="810" y="811"/>
                  </a:lnTo>
                  <a:lnTo>
                    <a:pt x="694" y="811"/>
                  </a:lnTo>
                  <a:lnTo>
                    <a:pt x="579" y="811"/>
                  </a:lnTo>
                  <a:lnTo>
                    <a:pt x="463" y="695"/>
                  </a:lnTo>
                  <a:lnTo>
                    <a:pt x="347" y="695"/>
                  </a:lnTo>
                  <a:lnTo>
                    <a:pt x="231" y="579"/>
                  </a:lnTo>
                  <a:lnTo>
                    <a:pt x="116" y="579"/>
                  </a:lnTo>
                  <a:lnTo>
                    <a:pt x="116" y="579"/>
                  </a:lnTo>
                  <a:lnTo>
                    <a:pt x="0" y="0"/>
                  </a:lnTo>
                  <a:lnTo>
                    <a:pt x="0" y="0"/>
                  </a:lnTo>
                  <a:lnTo>
                    <a:pt x="116" y="116"/>
                  </a:lnTo>
                  <a:lnTo>
                    <a:pt x="231" y="232"/>
                  </a:lnTo>
                  <a:lnTo>
                    <a:pt x="463" y="348"/>
                  </a:lnTo>
                  <a:lnTo>
                    <a:pt x="694" y="348"/>
                  </a:lnTo>
                  <a:lnTo>
                    <a:pt x="810" y="348"/>
                  </a:lnTo>
                  <a:lnTo>
                    <a:pt x="926" y="463"/>
                  </a:lnTo>
                  <a:lnTo>
                    <a:pt x="1042" y="579"/>
                  </a:lnTo>
                  <a:lnTo>
                    <a:pt x="1042" y="811"/>
                  </a:lnTo>
                  <a:lnTo>
                    <a:pt x="1042" y="811"/>
                  </a:lnTo>
                  <a:lnTo>
                    <a:pt x="1042" y="811"/>
                  </a:lnTo>
                  <a:lnTo>
                    <a:pt x="1042" y="811"/>
                  </a:lnTo>
                  <a:lnTo>
                    <a:pt x="1042" y="8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8" name=""/>
            <p:cNvSpPr/>
            <p:nvPr/>
          </p:nvSpPr>
          <p:spPr>
            <a:xfrm>
              <a:off x="984600" y="4661280"/>
              <a:ext cx="45360" cy="553320"/>
            </a:xfrm>
            <a:custGeom>
              <a:avLst/>
              <a:gdLst/>
              <a:ahLst/>
              <a:rect l="l" t="t" r="r" b="b"/>
              <a:pathLst>
                <a:path w="1273" h="10307">
                  <a:moveTo>
                    <a:pt x="1273" y="116"/>
                  </a:moveTo>
                  <a:lnTo>
                    <a:pt x="1273" y="1274"/>
                  </a:lnTo>
                  <a:lnTo>
                    <a:pt x="1157" y="2548"/>
                  </a:lnTo>
                  <a:lnTo>
                    <a:pt x="1157" y="3706"/>
                  </a:lnTo>
                  <a:lnTo>
                    <a:pt x="1041" y="4980"/>
                  </a:lnTo>
                  <a:lnTo>
                    <a:pt x="926" y="6254"/>
                  </a:lnTo>
                  <a:lnTo>
                    <a:pt x="810" y="7528"/>
                  </a:lnTo>
                  <a:lnTo>
                    <a:pt x="694" y="8917"/>
                  </a:lnTo>
                  <a:lnTo>
                    <a:pt x="694" y="10191"/>
                  </a:lnTo>
                  <a:lnTo>
                    <a:pt x="694" y="10191"/>
                  </a:lnTo>
                  <a:lnTo>
                    <a:pt x="578" y="10191"/>
                  </a:lnTo>
                  <a:lnTo>
                    <a:pt x="463" y="10191"/>
                  </a:lnTo>
                  <a:lnTo>
                    <a:pt x="347" y="10191"/>
                  </a:lnTo>
                  <a:lnTo>
                    <a:pt x="347" y="10307"/>
                  </a:lnTo>
                  <a:lnTo>
                    <a:pt x="231" y="10307"/>
                  </a:lnTo>
                  <a:lnTo>
                    <a:pt x="116" y="10307"/>
                  </a:lnTo>
                  <a:lnTo>
                    <a:pt x="116" y="10307"/>
                  </a:lnTo>
                  <a:lnTo>
                    <a:pt x="0" y="10307"/>
                  </a:lnTo>
                  <a:lnTo>
                    <a:pt x="0" y="10307"/>
                  </a:lnTo>
                  <a:lnTo>
                    <a:pt x="0" y="9033"/>
                  </a:lnTo>
                  <a:lnTo>
                    <a:pt x="116" y="7759"/>
                  </a:lnTo>
                  <a:lnTo>
                    <a:pt x="231" y="6485"/>
                  </a:lnTo>
                  <a:lnTo>
                    <a:pt x="347" y="5211"/>
                  </a:lnTo>
                  <a:lnTo>
                    <a:pt x="463" y="4053"/>
                  </a:lnTo>
                  <a:lnTo>
                    <a:pt x="578" y="2779"/>
                  </a:lnTo>
                  <a:lnTo>
                    <a:pt x="694" y="1505"/>
                  </a:lnTo>
                  <a:lnTo>
                    <a:pt x="926" y="232"/>
                  </a:lnTo>
                  <a:lnTo>
                    <a:pt x="926" y="232"/>
                  </a:lnTo>
                  <a:lnTo>
                    <a:pt x="926" y="232"/>
                  </a:lnTo>
                  <a:lnTo>
                    <a:pt x="926" y="232"/>
                  </a:lnTo>
                  <a:lnTo>
                    <a:pt x="810" y="232"/>
                  </a:lnTo>
                  <a:lnTo>
                    <a:pt x="810" y="232"/>
                  </a:lnTo>
                  <a:lnTo>
                    <a:pt x="810" y="232"/>
                  </a:lnTo>
                  <a:lnTo>
                    <a:pt x="694" y="232"/>
                  </a:lnTo>
                  <a:lnTo>
                    <a:pt x="694" y="232"/>
                  </a:lnTo>
                  <a:lnTo>
                    <a:pt x="694" y="116"/>
                  </a:lnTo>
                  <a:lnTo>
                    <a:pt x="694" y="116"/>
                  </a:lnTo>
                  <a:lnTo>
                    <a:pt x="694" y="116"/>
                  </a:lnTo>
                  <a:lnTo>
                    <a:pt x="810" y="116"/>
                  </a:lnTo>
                  <a:lnTo>
                    <a:pt x="810" y="0"/>
                  </a:lnTo>
                  <a:lnTo>
                    <a:pt x="926" y="0"/>
                  </a:lnTo>
                  <a:lnTo>
                    <a:pt x="1041" y="116"/>
                  </a:lnTo>
                  <a:lnTo>
                    <a:pt x="1157" y="116"/>
                  </a:lnTo>
                  <a:lnTo>
                    <a:pt x="1273" y="116"/>
                  </a:lnTo>
                  <a:lnTo>
                    <a:pt x="1273" y="116"/>
                  </a:lnTo>
                  <a:lnTo>
                    <a:pt x="1273" y="116"/>
                  </a:lnTo>
                  <a:lnTo>
                    <a:pt x="1273" y="116"/>
                  </a:lnTo>
                  <a:lnTo>
                    <a:pt x="1273" y="116"/>
                  </a:lnTo>
                  <a:lnTo>
                    <a:pt x="1273"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959760" y="4679640"/>
              <a:ext cx="45360" cy="528480"/>
            </a:xfrm>
            <a:custGeom>
              <a:avLst/>
              <a:gdLst/>
              <a:ahLst/>
              <a:rect l="l" t="t" r="r" b="b"/>
              <a:pathLst>
                <a:path w="1273" h="9844">
                  <a:moveTo>
                    <a:pt x="1273" y="0"/>
                  </a:moveTo>
                  <a:lnTo>
                    <a:pt x="1042" y="1158"/>
                  </a:lnTo>
                  <a:lnTo>
                    <a:pt x="926" y="2432"/>
                  </a:lnTo>
                  <a:lnTo>
                    <a:pt x="811" y="3590"/>
                  </a:lnTo>
                  <a:lnTo>
                    <a:pt x="695" y="4864"/>
                  </a:lnTo>
                  <a:lnTo>
                    <a:pt x="579" y="6138"/>
                  </a:lnTo>
                  <a:lnTo>
                    <a:pt x="463" y="7412"/>
                  </a:lnTo>
                  <a:lnTo>
                    <a:pt x="463" y="8570"/>
                  </a:lnTo>
                  <a:lnTo>
                    <a:pt x="348" y="9844"/>
                  </a:lnTo>
                  <a:lnTo>
                    <a:pt x="348" y="9844"/>
                  </a:lnTo>
                  <a:lnTo>
                    <a:pt x="463" y="9844"/>
                  </a:lnTo>
                  <a:lnTo>
                    <a:pt x="463" y="9844"/>
                  </a:lnTo>
                  <a:lnTo>
                    <a:pt x="348" y="9844"/>
                  </a:lnTo>
                  <a:lnTo>
                    <a:pt x="348" y="9728"/>
                  </a:lnTo>
                  <a:lnTo>
                    <a:pt x="232" y="9728"/>
                  </a:lnTo>
                  <a:lnTo>
                    <a:pt x="116" y="9728"/>
                  </a:lnTo>
                  <a:lnTo>
                    <a:pt x="0" y="9844"/>
                  </a:lnTo>
                  <a:lnTo>
                    <a:pt x="0" y="9844"/>
                  </a:lnTo>
                  <a:lnTo>
                    <a:pt x="0" y="9844"/>
                  </a:lnTo>
                  <a:lnTo>
                    <a:pt x="0" y="8570"/>
                  </a:lnTo>
                  <a:lnTo>
                    <a:pt x="116" y="7412"/>
                  </a:lnTo>
                  <a:lnTo>
                    <a:pt x="116" y="6254"/>
                  </a:lnTo>
                  <a:lnTo>
                    <a:pt x="232" y="4980"/>
                  </a:lnTo>
                  <a:lnTo>
                    <a:pt x="348" y="3822"/>
                  </a:lnTo>
                  <a:lnTo>
                    <a:pt x="463" y="2548"/>
                  </a:lnTo>
                  <a:lnTo>
                    <a:pt x="579" y="1390"/>
                  </a:lnTo>
                  <a:lnTo>
                    <a:pt x="811" y="232"/>
                  </a:lnTo>
                  <a:lnTo>
                    <a:pt x="811" y="232"/>
                  </a:lnTo>
                  <a:lnTo>
                    <a:pt x="926" y="232"/>
                  </a:lnTo>
                  <a:lnTo>
                    <a:pt x="926" y="116"/>
                  </a:lnTo>
                  <a:lnTo>
                    <a:pt x="1042" y="116"/>
                  </a:lnTo>
                  <a:lnTo>
                    <a:pt x="1042" y="116"/>
                  </a:lnTo>
                  <a:lnTo>
                    <a:pt x="1042" y="0"/>
                  </a:lnTo>
                  <a:lnTo>
                    <a:pt x="1158" y="0"/>
                  </a:lnTo>
                  <a:lnTo>
                    <a:pt x="1158" y="0"/>
                  </a:lnTo>
                  <a:lnTo>
                    <a:pt x="1273" y="0"/>
                  </a:lnTo>
                  <a:lnTo>
                    <a:pt x="1273" y="0"/>
                  </a:lnTo>
                  <a:lnTo>
                    <a:pt x="1273" y="0"/>
                  </a:lnTo>
                  <a:lnTo>
                    <a:pt x="1273" y="0"/>
                  </a:lnTo>
                  <a:lnTo>
                    <a:pt x="127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926640" y="4698360"/>
              <a:ext cx="45360" cy="472320"/>
            </a:xfrm>
            <a:custGeom>
              <a:avLst/>
              <a:gdLst/>
              <a:ahLst/>
              <a:rect l="l" t="t" r="r" b="b"/>
              <a:pathLst>
                <a:path w="1273" h="8801">
                  <a:moveTo>
                    <a:pt x="578" y="8801"/>
                  </a:moveTo>
                  <a:lnTo>
                    <a:pt x="462" y="8801"/>
                  </a:lnTo>
                  <a:lnTo>
                    <a:pt x="462" y="8801"/>
                  </a:lnTo>
                  <a:lnTo>
                    <a:pt x="347" y="8801"/>
                  </a:lnTo>
                  <a:lnTo>
                    <a:pt x="231" y="8801"/>
                  </a:lnTo>
                  <a:lnTo>
                    <a:pt x="231" y="8801"/>
                  </a:lnTo>
                  <a:lnTo>
                    <a:pt x="115" y="8801"/>
                  </a:lnTo>
                  <a:lnTo>
                    <a:pt x="0" y="8801"/>
                  </a:lnTo>
                  <a:lnTo>
                    <a:pt x="0" y="8801"/>
                  </a:lnTo>
                  <a:lnTo>
                    <a:pt x="0" y="8801"/>
                  </a:lnTo>
                  <a:lnTo>
                    <a:pt x="115" y="7643"/>
                  </a:lnTo>
                  <a:lnTo>
                    <a:pt x="231" y="6485"/>
                  </a:lnTo>
                  <a:lnTo>
                    <a:pt x="347" y="5443"/>
                  </a:lnTo>
                  <a:lnTo>
                    <a:pt x="462" y="4285"/>
                  </a:lnTo>
                  <a:lnTo>
                    <a:pt x="694" y="3127"/>
                  </a:lnTo>
                  <a:lnTo>
                    <a:pt x="925" y="2084"/>
                  </a:lnTo>
                  <a:lnTo>
                    <a:pt x="1041" y="1042"/>
                  </a:lnTo>
                  <a:lnTo>
                    <a:pt x="1273" y="0"/>
                  </a:lnTo>
                  <a:lnTo>
                    <a:pt x="1273" y="0"/>
                  </a:lnTo>
                  <a:lnTo>
                    <a:pt x="1157" y="1042"/>
                  </a:lnTo>
                  <a:lnTo>
                    <a:pt x="1041" y="2200"/>
                  </a:lnTo>
                  <a:lnTo>
                    <a:pt x="925" y="3242"/>
                  </a:lnTo>
                  <a:lnTo>
                    <a:pt x="810" y="4401"/>
                  </a:lnTo>
                  <a:lnTo>
                    <a:pt x="810" y="5443"/>
                  </a:lnTo>
                  <a:lnTo>
                    <a:pt x="694" y="6485"/>
                  </a:lnTo>
                  <a:lnTo>
                    <a:pt x="694" y="7643"/>
                  </a:lnTo>
                  <a:lnTo>
                    <a:pt x="578" y="8801"/>
                  </a:lnTo>
                  <a:lnTo>
                    <a:pt x="578" y="8801"/>
                  </a:lnTo>
                  <a:lnTo>
                    <a:pt x="578" y="8801"/>
                  </a:lnTo>
                  <a:lnTo>
                    <a:pt x="578" y="8801"/>
                  </a:lnTo>
                  <a:lnTo>
                    <a:pt x="578" y="88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642320" y="4860000"/>
              <a:ext cx="264600" cy="945000"/>
            </a:xfrm>
            <a:custGeom>
              <a:avLst/>
              <a:gdLst/>
              <a:ahLst/>
              <a:rect l="l" t="t" r="r" b="b"/>
              <a:pathLst>
                <a:path w="7407" h="17603">
                  <a:moveTo>
                    <a:pt x="3356" y="0"/>
                  </a:moveTo>
                  <a:lnTo>
                    <a:pt x="3588" y="463"/>
                  </a:lnTo>
                  <a:lnTo>
                    <a:pt x="3935" y="1042"/>
                  </a:lnTo>
                  <a:lnTo>
                    <a:pt x="4282" y="1505"/>
                  </a:lnTo>
                  <a:lnTo>
                    <a:pt x="4630" y="1969"/>
                  </a:lnTo>
                  <a:lnTo>
                    <a:pt x="4861" y="2432"/>
                  </a:lnTo>
                  <a:lnTo>
                    <a:pt x="5208" y="2895"/>
                  </a:lnTo>
                  <a:lnTo>
                    <a:pt x="5440" y="3358"/>
                  </a:lnTo>
                  <a:lnTo>
                    <a:pt x="5555" y="3937"/>
                  </a:lnTo>
                  <a:lnTo>
                    <a:pt x="5555" y="3937"/>
                  </a:lnTo>
                  <a:lnTo>
                    <a:pt x="5555" y="4632"/>
                  </a:lnTo>
                  <a:lnTo>
                    <a:pt x="5324" y="5443"/>
                  </a:lnTo>
                  <a:lnTo>
                    <a:pt x="5208" y="6254"/>
                  </a:lnTo>
                  <a:lnTo>
                    <a:pt x="4977" y="7064"/>
                  </a:lnTo>
                  <a:lnTo>
                    <a:pt x="4861" y="7875"/>
                  </a:lnTo>
                  <a:lnTo>
                    <a:pt x="4745" y="8686"/>
                  </a:lnTo>
                  <a:lnTo>
                    <a:pt x="4630" y="9496"/>
                  </a:lnTo>
                  <a:lnTo>
                    <a:pt x="4514" y="10307"/>
                  </a:lnTo>
                  <a:lnTo>
                    <a:pt x="4514" y="10307"/>
                  </a:lnTo>
                  <a:lnTo>
                    <a:pt x="4630" y="10654"/>
                  </a:lnTo>
                  <a:lnTo>
                    <a:pt x="4861" y="10886"/>
                  </a:lnTo>
                  <a:lnTo>
                    <a:pt x="5092" y="11118"/>
                  </a:lnTo>
                  <a:lnTo>
                    <a:pt x="5208" y="11349"/>
                  </a:lnTo>
                  <a:lnTo>
                    <a:pt x="5440" y="11697"/>
                  </a:lnTo>
                  <a:lnTo>
                    <a:pt x="5555" y="11928"/>
                  </a:lnTo>
                  <a:lnTo>
                    <a:pt x="5787" y="12160"/>
                  </a:lnTo>
                  <a:lnTo>
                    <a:pt x="5903" y="12507"/>
                  </a:lnTo>
                  <a:lnTo>
                    <a:pt x="5903" y="12507"/>
                  </a:lnTo>
                  <a:lnTo>
                    <a:pt x="5440" y="12507"/>
                  </a:lnTo>
                  <a:lnTo>
                    <a:pt x="5208" y="12623"/>
                  </a:lnTo>
                  <a:lnTo>
                    <a:pt x="4861" y="12739"/>
                  </a:lnTo>
                  <a:lnTo>
                    <a:pt x="4514" y="12739"/>
                  </a:lnTo>
                  <a:lnTo>
                    <a:pt x="4167" y="12855"/>
                  </a:lnTo>
                  <a:lnTo>
                    <a:pt x="3935" y="13086"/>
                  </a:lnTo>
                  <a:lnTo>
                    <a:pt x="3588" y="13202"/>
                  </a:lnTo>
                  <a:lnTo>
                    <a:pt x="3356" y="13434"/>
                  </a:lnTo>
                  <a:lnTo>
                    <a:pt x="3356" y="13434"/>
                  </a:lnTo>
                  <a:lnTo>
                    <a:pt x="3704" y="13318"/>
                  </a:lnTo>
                  <a:lnTo>
                    <a:pt x="4051" y="13318"/>
                  </a:lnTo>
                  <a:lnTo>
                    <a:pt x="4398" y="13202"/>
                  </a:lnTo>
                  <a:lnTo>
                    <a:pt x="4745" y="13086"/>
                  </a:lnTo>
                  <a:lnTo>
                    <a:pt x="5092" y="13086"/>
                  </a:lnTo>
                  <a:lnTo>
                    <a:pt x="5440" y="12971"/>
                  </a:lnTo>
                  <a:lnTo>
                    <a:pt x="5787" y="12971"/>
                  </a:lnTo>
                  <a:lnTo>
                    <a:pt x="6134" y="12971"/>
                  </a:lnTo>
                  <a:lnTo>
                    <a:pt x="6134" y="12971"/>
                  </a:lnTo>
                  <a:lnTo>
                    <a:pt x="6134" y="13086"/>
                  </a:lnTo>
                  <a:lnTo>
                    <a:pt x="6134" y="13086"/>
                  </a:lnTo>
                  <a:lnTo>
                    <a:pt x="6134" y="13086"/>
                  </a:lnTo>
                  <a:lnTo>
                    <a:pt x="6250" y="13086"/>
                  </a:lnTo>
                  <a:lnTo>
                    <a:pt x="6250" y="13202"/>
                  </a:lnTo>
                  <a:lnTo>
                    <a:pt x="6250" y="13202"/>
                  </a:lnTo>
                  <a:lnTo>
                    <a:pt x="6250" y="13202"/>
                  </a:lnTo>
                  <a:lnTo>
                    <a:pt x="6250" y="13318"/>
                  </a:lnTo>
                  <a:lnTo>
                    <a:pt x="6250" y="13318"/>
                  </a:lnTo>
                  <a:lnTo>
                    <a:pt x="5903" y="13318"/>
                  </a:lnTo>
                  <a:lnTo>
                    <a:pt x="5555" y="13318"/>
                  </a:lnTo>
                  <a:lnTo>
                    <a:pt x="5324" y="13434"/>
                  </a:lnTo>
                  <a:lnTo>
                    <a:pt x="5092" y="13550"/>
                  </a:lnTo>
                  <a:lnTo>
                    <a:pt x="4745" y="13781"/>
                  </a:lnTo>
                  <a:lnTo>
                    <a:pt x="4514" y="13897"/>
                  </a:lnTo>
                  <a:lnTo>
                    <a:pt x="4282" y="14129"/>
                  </a:lnTo>
                  <a:lnTo>
                    <a:pt x="4051" y="14244"/>
                  </a:lnTo>
                  <a:lnTo>
                    <a:pt x="4051" y="14244"/>
                  </a:lnTo>
                  <a:lnTo>
                    <a:pt x="4167" y="14244"/>
                  </a:lnTo>
                  <a:lnTo>
                    <a:pt x="4282" y="14244"/>
                  </a:lnTo>
                  <a:lnTo>
                    <a:pt x="4514" y="14244"/>
                  </a:lnTo>
                  <a:lnTo>
                    <a:pt x="4630" y="14129"/>
                  </a:lnTo>
                  <a:lnTo>
                    <a:pt x="4745" y="14013"/>
                  </a:lnTo>
                  <a:lnTo>
                    <a:pt x="4861" y="14013"/>
                  </a:lnTo>
                  <a:lnTo>
                    <a:pt x="5092" y="14013"/>
                  </a:lnTo>
                  <a:lnTo>
                    <a:pt x="5208" y="13897"/>
                  </a:lnTo>
                  <a:lnTo>
                    <a:pt x="5208" y="13897"/>
                  </a:lnTo>
                  <a:lnTo>
                    <a:pt x="5440" y="13897"/>
                  </a:lnTo>
                  <a:lnTo>
                    <a:pt x="5555" y="13897"/>
                  </a:lnTo>
                  <a:lnTo>
                    <a:pt x="5787" y="13897"/>
                  </a:lnTo>
                  <a:lnTo>
                    <a:pt x="6018" y="13781"/>
                  </a:lnTo>
                  <a:lnTo>
                    <a:pt x="6134" y="13781"/>
                  </a:lnTo>
                  <a:lnTo>
                    <a:pt x="6366" y="13781"/>
                  </a:lnTo>
                  <a:lnTo>
                    <a:pt x="6481" y="13781"/>
                  </a:lnTo>
                  <a:lnTo>
                    <a:pt x="6713" y="13781"/>
                  </a:lnTo>
                  <a:lnTo>
                    <a:pt x="6713" y="13781"/>
                  </a:lnTo>
                  <a:lnTo>
                    <a:pt x="6828" y="14244"/>
                  </a:lnTo>
                  <a:lnTo>
                    <a:pt x="7060" y="14592"/>
                  </a:lnTo>
                  <a:lnTo>
                    <a:pt x="7176" y="15055"/>
                  </a:lnTo>
                  <a:lnTo>
                    <a:pt x="7291" y="15518"/>
                  </a:lnTo>
                  <a:lnTo>
                    <a:pt x="7407" y="15982"/>
                  </a:lnTo>
                  <a:lnTo>
                    <a:pt x="7407" y="16329"/>
                  </a:lnTo>
                  <a:lnTo>
                    <a:pt x="7407" y="16792"/>
                  </a:lnTo>
                  <a:lnTo>
                    <a:pt x="7176" y="17255"/>
                  </a:lnTo>
                  <a:lnTo>
                    <a:pt x="7176" y="17255"/>
                  </a:lnTo>
                  <a:lnTo>
                    <a:pt x="6713" y="17371"/>
                  </a:lnTo>
                  <a:lnTo>
                    <a:pt x="6250" y="17487"/>
                  </a:lnTo>
                  <a:lnTo>
                    <a:pt x="5671" y="17603"/>
                  </a:lnTo>
                  <a:lnTo>
                    <a:pt x="5208" y="17487"/>
                  </a:lnTo>
                  <a:lnTo>
                    <a:pt x="4745" y="17371"/>
                  </a:lnTo>
                  <a:lnTo>
                    <a:pt x="4167" y="17255"/>
                  </a:lnTo>
                  <a:lnTo>
                    <a:pt x="3704" y="17024"/>
                  </a:lnTo>
                  <a:lnTo>
                    <a:pt x="3356" y="16792"/>
                  </a:lnTo>
                  <a:lnTo>
                    <a:pt x="3356" y="16792"/>
                  </a:lnTo>
                  <a:lnTo>
                    <a:pt x="2894" y="16329"/>
                  </a:lnTo>
                  <a:lnTo>
                    <a:pt x="2662" y="15634"/>
                  </a:lnTo>
                  <a:lnTo>
                    <a:pt x="2431" y="15055"/>
                  </a:lnTo>
                  <a:lnTo>
                    <a:pt x="2199" y="14360"/>
                  </a:lnTo>
                  <a:lnTo>
                    <a:pt x="1968" y="13665"/>
                  </a:lnTo>
                  <a:lnTo>
                    <a:pt x="1620" y="13202"/>
                  </a:lnTo>
                  <a:lnTo>
                    <a:pt x="1158" y="12855"/>
                  </a:lnTo>
                  <a:lnTo>
                    <a:pt x="463" y="12623"/>
                  </a:lnTo>
                  <a:lnTo>
                    <a:pt x="463" y="12623"/>
                  </a:lnTo>
                  <a:lnTo>
                    <a:pt x="232" y="12507"/>
                  </a:lnTo>
                  <a:lnTo>
                    <a:pt x="232" y="12391"/>
                  </a:lnTo>
                  <a:lnTo>
                    <a:pt x="116" y="12276"/>
                  </a:lnTo>
                  <a:lnTo>
                    <a:pt x="0" y="12044"/>
                  </a:lnTo>
                  <a:lnTo>
                    <a:pt x="0" y="11928"/>
                  </a:lnTo>
                  <a:lnTo>
                    <a:pt x="0" y="11812"/>
                  </a:lnTo>
                  <a:lnTo>
                    <a:pt x="0" y="11581"/>
                  </a:lnTo>
                  <a:lnTo>
                    <a:pt x="116" y="11465"/>
                  </a:lnTo>
                  <a:lnTo>
                    <a:pt x="116" y="11465"/>
                  </a:lnTo>
                  <a:lnTo>
                    <a:pt x="347" y="11118"/>
                  </a:lnTo>
                  <a:lnTo>
                    <a:pt x="579" y="10770"/>
                  </a:lnTo>
                  <a:lnTo>
                    <a:pt x="926" y="10539"/>
                  </a:lnTo>
                  <a:lnTo>
                    <a:pt x="1273" y="10307"/>
                  </a:lnTo>
                  <a:lnTo>
                    <a:pt x="1620" y="10075"/>
                  </a:lnTo>
                  <a:lnTo>
                    <a:pt x="1968" y="9844"/>
                  </a:lnTo>
                  <a:lnTo>
                    <a:pt x="2199" y="9612"/>
                  </a:lnTo>
                  <a:lnTo>
                    <a:pt x="2431" y="9265"/>
                  </a:lnTo>
                  <a:lnTo>
                    <a:pt x="2431" y="9265"/>
                  </a:lnTo>
                  <a:lnTo>
                    <a:pt x="2546" y="8570"/>
                  </a:lnTo>
                  <a:lnTo>
                    <a:pt x="2662" y="7991"/>
                  </a:lnTo>
                  <a:lnTo>
                    <a:pt x="2778" y="7412"/>
                  </a:lnTo>
                  <a:lnTo>
                    <a:pt x="2894" y="6833"/>
                  </a:lnTo>
                  <a:lnTo>
                    <a:pt x="3009" y="6254"/>
                  </a:lnTo>
                  <a:lnTo>
                    <a:pt x="3125" y="5675"/>
                  </a:lnTo>
                  <a:lnTo>
                    <a:pt x="3241" y="5095"/>
                  </a:lnTo>
                  <a:lnTo>
                    <a:pt x="3241" y="4516"/>
                  </a:lnTo>
                  <a:lnTo>
                    <a:pt x="3241" y="4516"/>
                  </a:lnTo>
                  <a:lnTo>
                    <a:pt x="3125" y="4053"/>
                  </a:lnTo>
                  <a:lnTo>
                    <a:pt x="3009" y="3706"/>
                  </a:lnTo>
                  <a:lnTo>
                    <a:pt x="2778" y="3243"/>
                  </a:lnTo>
                  <a:lnTo>
                    <a:pt x="2546" y="2895"/>
                  </a:lnTo>
                  <a:lnTo>
                    <a:pt x="2315" y="2548"/>
                  </a:lnTo>
                  <a:lnTo>
                    <a:pt x="2083" y="2200"/>
                  </a:lnTo>
                  <a:lnTo>
                    <a:pt x="1736" y="1853"/>
                  </a:lnTo>
                  <a:lnTo>
                    <a:pt x="1505" y="1505"/>
                  </a:lnTo>
                  <a:lnTo>
                    <a:pt x="1505" y="1505"/>
                  </a:lnTo>
                  <a:lnTo>
                    <a:pt x="1389" y="1390"/>
                  </a:lnTo>
                  <a:lnTo>
                    <a:pt x="1273" y="1274"/>
                  </a:lnTo>
                  <a:lnTo>
                    <a:pt x="1273" y="1158"/>
                  </a:lnTo>
                  <a:lnTo>
                    <a:pt x="1273" y="1042"/>
                  </a:lnTo>
                  <a:lnTo>
                    <a:pt x="1389" y="926"/>
                  </a:lnTo>
                  <a:lnTo>
                    <a:pt x="1389" y="811"/>
                  </a:lnTo>
                  <a:lnTo>
                    <a:pt x="1505" y="811"/>
                  </a:lnTo>
                  <a:lnTo>
                    <a:pt x="1620" y="695"/>
                  </a:lnTo>
                  <a:lnTo>
                    <a:pt x="1620" y="695"/>
                  </a:lnTo>
                  <a:lnTo>
                    <a:pt x="1852" y="463"/>
                  </a:lnTo>
                  <a:lnTo>
                    <a:pt x="1852" y="463"/>
                  </a:lnTo>
                  <a:lnTo>
                    <a:pt x="1852" y="579"/>
                  </a:lnTo>
                  <a:lnTo>
                    <a:pt x="1736" y="695"/>
                  </a:lnTo>
                  <a:lnTo>
                    <a:pt x="1620" y="811"/>
                  </a:lnTo>
                  <a:lnTo>
                    <a:pt x="1505" y="926"/>
                  </a:lnTo>
                  <a:lnTo>
                    <a:pt x="1505" y="1042"/>
                  </a:lnTo>
                  <a:lnTo>
                    <a:pt x="1505" y="1158"/>
                  </a:lnTo>
                  <a:lnTo>
                    <a:pt x="1505" y="1274"/>
                  </a:lnTo>
                  <a:lnTo>
                    <a:pt x="1852" y="1274"/>
                  </a:lnTo>
                  <a:lnTo>
                    <a:pt x="1852" y="1274"/>
                  </a:lnTo>
                  <a:lnTo>
                    <a:pt x="1968" y="1158"/>
                  </a:lnTo>
                  <a:lnTo>
                    <a:pt x="2083" y="926"/>
                  </a:lnTo>
                  <a:lnTo>
                    <a:pt x="2315" y="695"/>
                  </a:lnTo>
                  <a:lnTo>
                    <a:pt x="2431" y="579"/>
                  </a:lnTo>
                  <a:lnTo>
                    <a:pt x="2662" y="463"/>
                  </a:lnTo>
                  <a:lnTo>
                    <a:pt x="2894" y="347"/>
                  </a:lnTo>
                  <a:lnTo>
                    <a:pt x="3125" y="116"/>
                  </a:lnTo>
                  <a:lnTo>
                    <a:pt x="3356" y="0"/>
                  </a:lnTo>
                  <a:lnTo>
                    <a:pt x="3356" y="0"/>
                  </a:lnTo>
                  <a:lnTo>
                    <a:pt x="3356" y="0"/>
                  </a:lnTo>
                  <a:lnTo>
                    <a:pt x="3356" y="0"/>
                  </a:lnTo>
                  <a:lnTo>
                    <a:pt x="3356"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1716840" y="4884840"/>
              <a:ext cx="41400" cy="80640"/>
            </a:xfrm>
            <a:custGeom>
              <a:avLst/>
              <a:gdLst/>
              <a:ahLst/>
              <a:rect l="l" t="t" r="r" b="b"/>
              <a:pathLst>
                <a:path w="1158" h="1506">
                  <a:moveTo>
                    <a:pt x="1158" y="0"/>
                  </a:moveTo>
                  <a:lnTo>
                    <a:pt x="1158" y="116"/>
                  </a:lnTo>
                  <a:lnTo>
                    <a:pt x="1042" y="232"/>
                  </a:lnTo>
                  <a:lnTo>
                    <a:pt x="1042" y="348"/>
                  </a:lnTo>
                  <a:lnTo>
                    <a:pt x="926" y="463"/>
                  </a:lnTo>
                  <a:lnTo>
                    <a:pt x="811" y="463"/>
                  </a:lnTo>
                  <a:lnTo>
                    <a:pt x="695" y="579"/>
                  </a:lnTo>
                  <a:lnTo>
                    <a:pt x="579" y="695"/>
                  </a:lnTo>
                  <a:lnTo>
                    <a:pt x="579" y="695"/>
                  </a:lnTo>
                  <a:lnTo>
                    <a:pt x="579" y="695"/>
                  </a:lnTo>
                  <a:lnTo>
                    <a:pt x="463" y="811"/>
                  </a:lnTo>
                  <a:lnTo>
                    <a:pt x="463" y="927"/>
                  </a:lnTo>
                  <a:lnTo>
                    <a:pt x="348" y="1042"/>
                  </a:lnTo>
                  <a:lnTo>
                    <a:pt x="348" y="1158"/>
                  </a:lnTo>
                  <a:lnTo>
                    <a:pt x="232" y="1274"/>
                  </a:lnTo>
                  <a:lnTo>
                    <a:pt x="232" y="1274"/>
                  </a:lnTo>
                  <a:lnTo>
                    <a:pt x="116" y="1390"/>
                  </a:lnTo>
                  <a:lnTo>
                    <a:pt x="116" y="1506"/>
                  </a:lnTo>
                  <a:lnTo>
                    <a:pt x="116" y="1506"/>
                  </a:lnTo>
                  <a:lnTo>
                    <a:pt x="0" y="1274"/>
                  </a:lnTo>
                  <a:lnTo>
                    <a:pt x="0" y="1158"/>
                  </a:lnTo>
                  <a:lnTo>
                    <a:pt x="0" y="1042"/>
                  </a:lnTo>
                  <a:lnTo>
                    <a:pt x="0" y="811"/>
                  </a:lnTo>
                  <a:lnTo>
                    <a:pt x="116" y="695"/>
                  </a:lnTo>
                  <a:lnTo>
                    <a:pt x="232" y="579"/>
                  </a:lnTo>
                  <a:lnTo>
                    <a:pt x="348" y="463"/>
                  </a:lnTo>
                  <a:lnTo>
                    <a:pt x="348" y="348"/>
                  </a:lnTo>
                  <a:lnTo>
                    <a:pt x="348" y="348"/>
                  </a:lnTo>
                  <a:lnTo>
                    <a:pt x="463" y="232"/>
                  </a:lnTo>
                  <a:lnTo>
                    <a:pt x="579" y="232"/>
                  </a:lnTo>
                  <a:lnTo>
                    <a:pt x="695" y="116"/>
                  </a:lnTo>
                  <a:lnTo>
                    <a:pt x="811" y="116"/>
                  </a:lnTo>
                  <a:lnTo>
                    <a:pt x="811" y="0"/>
                  </a:lnTo>
                  <a:lnTo>
                    <a:pt x="926" y="0"/>
                  </a:lnTo>
                  <a:lnTo>
                    <a:pt x="1042" y="0"/>
                  </a:lnTo>
                  <a:lnTo>
                    <a:pt x="1158" y="0"/>
                  </a:lnTo>
                  <a:lnTo>
                    <a:pt x="1158" y="0"/>
                  </a:lnTo>
                  <a:lnTo>
                    <a:pt x="1158" y="0"/>
                  </a:lnTo>
                  <a:lnTo>
                    <a:pt x="1158" y="0"/>
                  </a:lnTo>
                  <a:lnTo>
                    <a:pt x="115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3" name=""/>
            <p:cNvSpPr/>
            <p:nvPr/>
          </p:nvSpPr>
          <p:spPr>
            <a:xfrm>
              <a:off x="1729440" y="4922280"/>
              <a:ext cx="28800" cy="49680"/>
            </a:xfrm>
            <a:custGeom>
              <a:avLst/>
              <a:gdLst/>
              <a:ahLst/>
              <a:rect l="l" t="t" r="r" b="b"/>
              <a:pathLst>
                <a:path w="810" h="926">
                  <a:moveTo>
                    <a:pt x="810" y="0"/>
                  </a:moveTo>
                  <a:lnTo>
                    <a:pt x="694" y="116"/>
                  </a:lnTo>
                  <a:lnTo>
                    <a:pt x="694" y="232"/>
                  </a:lnTo>
                  <a:lnTo>
                    <a:pt x="694" y="347"/>
                  </a:lnTo>
                  <a:lnTo>
                    <a:pt x="578" y="463"/>
                  </a:lnTo>
                  <a:lnTo>
                    <a:pt x="463" y="579"/>
                  </a:lnTo>
                  <a:lnTo>
                    <a:pt x="463" y="695"/>
                  </a:lnTo>
                  <a:lnTo>
                    <a:pt x="347" y="811"/>
                  </a:lnTo>
                  <a:lnTo>
                    <a:pt x="347" y="926"/>
                  </a:lnTo>
                  <a:lnTo>
                    <a:pt x="347" y="926"/>
                  </a:lnTo>
                  <a:lnTo>
                    <a:pt x="0" y="926"/>
                  </a:lnTo>
                  <a:lnTo>
                    <a:pt x="0" y="926"/>
                  </a:lnTo>
                  <a:lnTo>
                    <a:pt x="0" y="811"/>
                  </a:lnTo>
                  <a:lnTo>
                    <a:pt x="115" y="579"/>
                  </a:lnTo>
                  <a:lnTo>
                    <a:pt x="115" y="463"/>
                  </a:lnTo>
                  <a:lnTo>
                    <a:pt x="231" y="347"/>
                  </a:lnTo>
                  <a:lnTo>
                    <a:pt x="347" y="232"/>
                  </a:lnTo>
                  <a:lnTo>
                    <a:pt x="463" y="116"/>
                  </a:lnTo>
                  <a:lnTo>
                    <a:pt x="578" y="0"/>
                  </a:lnTo>
                  <a:lnTo>
                    <a:pt x="810" y="0"/>
                  </a:lnTo>
                  <a:lnTo>
                    <a:pt x="810" y="0"/>
                  </a:lnTo>
                  <a:lnTo>
                    <a:pt x="810" y="0"/>
                  </a:lnTo>
                  <a:lnTo>
                    <a:pt x="810" y="0"/>
                  </a:lnTo>
                  <a:lnTo>
                    <a:pt x="8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94" name=""/>
            <p:cNvSpPr/>
            <p:nvPr/>
          </p:nvSpPr>
          <p:spPr>
            <a:xfrm>
              <a:off x="1758240" y="4965840"/>
              <a:ext cx="12240" cy="18360"/>
            </a:xfrm>
            <a:custGeom>
              <a:avLst/>
              <a:gdLst/>
              <a:ahLst/>
              <a:rect l="l" t="t" r="r" b="b"/>
              <a:pathLst>
                <a:path w="347" h="347">
                  <a:moveTo>
                    <a:pt x="231" y="347"/>
                  </a:moveTo>
                  <a:lnTo>
                    <a:pt x="0" y="231"/>
                  </a:lnTo>
                  <a:lnTo>
                    <a:pt x="0" y="231"/>
                  </a:lnTo>
                  <a:lnTo>
                    <a:pt x="0" y="231"/>
                  </a:lnTo>
                  <a:lnTo>
                    <a:pt x="0" y="115"/>
                  </a:lnTo>
                  <a:lnTo>
                    <a:pt x="0" y="115"/>
                  </a:lnTo>
                  <a:lnTo>
                    <a:pt x="0" y="0"/>
                  </a:lnTo>
                  <a:lnTo>
                    <a:pt x="115" y="0"/>
                  </a:lnTo>
                  <a:lnTo>
                    <a:pt x="115" y="0"/>
                  </a:lnTo>
                  <a:lnTo>
                    <a:pt x="231" y="0"/>
                  </a:lnTo>
                  <a:lnTo>
                    <a:pt x="347" y="0"/>
                  </a:lnTo>
                  <a:lnTo>
                    <a:pt x="347" y="0"/>
                  </a:lnTo>
                  <a:lnTo>
                    <a:pt x="231" y="347"/>
                  </a:lnTo>
                  <a:lnTo>
                    <a:pt x="231" y="347"/>
                  </a:lnTo>
                  <a:lnTo>
                    <a:pt x="231" y="347"/>
                  </a:lnTo>
                  <a:lnTo>
                    <a:pt x="231" y="34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95" name=""/>
            <p:cNvSpPr/>
            <p:nvPr/>
          </p:nvSpPr>
          <p:spPr>
            <a:xfrm>
              <a:off x="1063080" y="5140080"/>
              <a:ext cx="310320" cy="690120"/>
            </a:xfrm>
            <a:custGeom>
              <a:avLst/>
              <a:gdLst/>
              <a:ahLst/>
              <a:rect l="l" t="t" r="r" b="b"/>
              <a:pathLst>
                <a:path w="8680" h="12855">
                  <a:moveTo>
                    <a:pt x="7059" y="0"/>
                  </a:moveTo>
                  <a:lnTo>
                    <a:pt x="6944" y="116"/>
                  </a:lnTo>
                  <a:lnTo>
                    <a:pt x="6712" y="232"/>
                  </a:lnTo>
                  <a:lnTo>
                    <a:pt x="6596" y="348"/>
                  </a:lnTo>
                  <a:lnTo>
                    <a:pt x="6481" y="464"/>
                  </a:lnTo>
                  <a:lnTo>
                    <a:pt x="6365" y="579"/>
                  </a:lnTo>
                  <a:lnTo>
                    <a:pt x="6134" y="695"/>
                  </a:lnTo>
                  <a:lnTo>
                    <a:pt x="6018" y="811"/>
                  </a:lnTo>
                  <a:lnTo>
                    <a:pt x="5902" y="927"/>
                  </a:lnTo>
                  <a:lnTo>
                    <a:pt x="5902" y="927"/>
                  </a:lnTo>
                  <a:lnTo>
                    <a:pt x="5902" y="927"/>
                  </a:lnTo>
                  <a:lnTo>
                    <a:pt x="5902" y="1043"/>
                  </a:lnTo>
                  <a:lnTo>
                    <a:pt x="6018" y="1043"/>
                  </a:lnTo>
                  <a:lnTo>
                    <a:pt x="6018" y="1158"/>
                  </a:lnTo>
                  <a:lnTo>
                    <a:pt x="6134" y="1158"/>
                  </a:lnTo>
                  <a:lnTo>
                    <a:pt x="6249" y="1274"/>
                  </a:lnTo>
                  <a:lnTo>
                    <a:pt x="6249" y="1158"/>
                  </a:lnTo>
                  <a:lnTo>
                    <a:pt x="6365" y="1158"/>
                  </a:lnTo>
                  <a:lnTo>
                    <a:pt x="6365" y="1158"/>
                  </a:lnTo>
                  <a:lnTo>
                    <a:pt x="7291" y="348"/>
                  </a:lnTo>
                  <a:lnTo>
                    <a:pt x="7291" y="348"/>
                  </a:lnTo>
                  <a:lnTo>
                    <a:pt x="7291" y="464"/>
                  </a:lnTo>
                  <a:lnTo>
                    <a:pt x="7291" y="579"/>
                  </a:lnTo>
                  <a:lnTo>
                    <a:pt x="7291" y="695"/>
                  </a:lnTo>
                  <a:lnTo>
                    <a:pt x="7175" y="695"/>
                  </a:lnTo>
                  <a:lnTo>
                    <a:pt x="7059" y="811"/>
                  </a:lnTo>
                  <a:lnTo>
                    <a:pt x="6944" y="927"/>
                  </a:lnTo>
                  <a:lnTo>
                    <a:pt x="6828" y="1043"/>
                  </a:lnTo>
                  <a:lnTo>
                    <a:pt x="6828" y="1158"/>
                  </a:lnTo>
                  <a:lnTo>
                    <a:pt x="6828" y="1158"/>
                  </a:lnTo>
                  <a:lnTo>
                    <a:pt x="6712" y="1158"/>
                  </a:lnTo>
                  <a:lnTo>
                    <a:pt x="6712" y="1158"/>
                  </a:lnTo>
                  <a:lnTo>
                    <a:pt x="6712" y="1274"/>
                  </a:lnTo>
                  <a:lnTo>
                    <a:pt x="6712" y="1274"/>
                  </a:lnTo>
                  <a:lnTo>
                    <a:pt x="6712" y="1274"/>
                  </a:lnTo>
                  <a:lnTo>
                    <a:pt x="6712" y="1390"/>
                  </a:lnTo>
                  <a:lnTo>
                    <a:pt x="6712" y="1390"/>
                  </a:lnTo>
                  <a:lnTo>
                    <a:pt x="6712" y="1390"/>
                  </a:lnTo>
                  <a:lnTo>
                    <a:pt x="6712" y="1390"/>
                  </a:lnTo>
                  <a:lnTo>
                    <a:pt x="6828" y="1506"/>
                  </a:lnTo>
                  <a:lnTo>
                    <a:pt x="6944" y="1506"/>
                  </a:lnTo>
                  <a:lnTo>
                    <a:pt x="7059" y="1506"/>
                  </a:lnTo>
                  <a:lnTo>
                    <a:pt x="7175" y="1390"/>
                  </a:lnTo>
                  <a:lnTo>
                    <a:pt x="7175" y="1274"/>
                  </a:lnTo>
                  <a:lnTo>
                    <a:pt x="7291" y="1158"/>
                  </a:lnTo>
                  <a:lnTo>
                    <a:pt x="7407" y="1158"/>
                  </a:lnTo>
                  <a:lnTo>
                    <a:pt x="7522" y="1043"/>
                  </a:lnTo>
                  <a:lnTo>
                    <a:pt x="7522" y="1043"/>
                  </a:lnTo>
                  <a:lnTo>
                    <a:pt x="7638" y="1274"/>
                  </a:lnTo>
                  <a:lnTo>
                    <a:pt x="7754" y="1506"/>
                  </a:lnTo>
                  <a:lnTo>
                    <a:pt x="7870" y="1737"/>
                  </a:lnTo>
                  <a:lnTo>
                    <a:pt x="8101" y="2085"/>
                  </a:lnTo>
                  <a:lnTo>
                    <a:pt x="8101" y="2316"/>
                  </a:lnTo>
                  <a:lnTo>
                    <a:pt x="8217" y="2548"/>
                  </a:lnTo>
                  <a:lnTo>
                    <a:pt x="8101" y="2780"/>
                  </a:lnTo>
                  <a:lnTo>
                    <a:pt x="7985" y="3011"/>
                  </a:lnTo>
                  <a:lnTo>
                    <a:pt x="7985" y="3011"/>
                  </a:lnTo>
                  <a:lnTo>
                    <a:pt x="7522" y="3359"/>
                  </a:lnTo>
                  <a:lnTo>
                    <a:pt x="7291" y="3706"/>
                  </a:lnTo>
                  <a:lnTo>
                    <a:pt x="6944" y="4054"/>
                  </a:lnTo>
                  <a:lnTo>
                    <a:pt x="6712" y="4517"/>
                  </a:lnTo>
                  <a:lnTo>
                    <a:pt x="6481" y="4864"/>
                  </a:lnTo>
                  <a:lnTo>
                    <a:pt x="6249" y="5212"/>
                  </a:lnTo>
                  <a:lnTo>
                    <a:pt x="5902" y="5559"/>
                  </a:lnTo>
                  <a:lnTo>
                    <a:pt x="5555" y="5791"/>
                  </a:lnTo>
                  <a:lnTo>
                    <a:pt x="5555" y="5791"/>
                  </a:lnTo>
                  <a:lnTo>
                    <a:pt x="5439" y="6486"/>
                  </a:lnTo>
                  <a:lnTo>
                    <a:pt x="5323" y="7180"/>
                  </a:lnTo>
                  <a:lnTo>
                    <a:pt x="5208" y="7760"/>
                  </a:lnTo>
                  <a:lnTo>
                    <a:pt x="5208" y="8454"/>
                  </a:lnTo>
                  <a:lnTo>
                    <a:pt x="5208" y="9149"/>
                  </a:lnTo>
                  <a:lnTo>
                    <a:pt x="5323" y="9844"/>
                  </a:lnTo>
                  <a:lnTo>
                    <a:pt x="5555" y="10423"/>
                  </a:lnTo>
                  <a:lnTo>
                    <a:pt x="5902" y="11002"/>
                  </a:lnTo>
                  <a:lnTo>
                    <a:pt x="5902" y="11002"/>
                  </a:lnTo>
                  <a:lnTo>
                    <a:pt x="5902" y="11002"/>
                  </a:lnTo>
                  <a:lnTo>
                    <a:pt x="6018" y="10886"/>
                  </a:lnTo>
                  <a:lnTo>
                    <a:pt x="6018" y="10771"/>
                  </a:lnTo>
                  <a:lnTo>
                    <a:pt x="6018" y="10771"/>
                  </a:lnTo>
                  <a:lnTo>
                    <a:pt x="6018" y="10655"/>
                  </a:lnTo>
                  <a:lnTo>
                    <a:pt x="6018" y="10539"/>
                  </a:lnTo>
                  <a:lnTo>
                    <a:pt x="5902" y="10423"/>
                  </a:lnTo>
                  <a:lnTo>
                    <a:pt x="5902" y="10423"/>
                  </a:lnTo>
                  <a:lnTo>
                    <a:pt x="5902" y="10423"/>
                  </a:lnTo>
                  <a:lnTo>
                    <a:pt x="6018" y="10423"/>
                  </a:lnTo>
                  <a:lnTo>
                    <a:pt x="6134" y="10423"/>
                  </a:lnTo>
                  <a:lnTo>
                    <a:pt x="6134" y="10539"/>
                  </a:lnTo>
                  <a:lnTo>
                    <a:pt x="6249" y="10539"/>
                  </a:lnTo>
                  <a:lnTo>
                    <a:pt x="6249" y="10655"/>
                  </a:lnTo>
                  <a:lnTo>
                    <a:pt x="6365" y="10655"/>
                  </a:lnTo>
                  <a:lnTo>
                    <a:pt x="6365" y="10771"/>
                  </a:lnTo>
                  <a:lnTo>
                    <a:pt x="6481" y="10886"/>
                  </a:lnTo>
                  <a:lnTo>
                    <a:pt x="6481" y="10886"/>
                  </a:lnTo>
                  <a:lnTo>
                    <a:pt x="6365" y="11465"/>
                  </a:lnTo>
                  <a:lnTo>
                    <a:pt x="6365" y="11465"/>
                  </a:lnTo>
                  <a:lnTo>
                    <a:pt x="6481" y="11465"/>
                  </a:lnTo>
                  <a:lnTo>
                    <a:pt x="6596" y="11465"/>
                  </a:lnTo>
                  <a:lnTo>
                    <a:pt x="6712" y="11465"/>
                  </a:lnTo>
                  <a:lnTo>
                    <a:pt x="6712" y="11350"/>
                  </a:lnTo>
                  <a:lnTo>
                    <a:pt x="6712" y="11234"/>
                  </a:lnTo>
                  <a:lnTo>
                    <a:pt x="6828" y="11118"/>
                  </a:lnTo>
                  <a:lnTo>
                    <a:pt x="6828" y="11002"/>
                  </a:lnTo>
                  <a:lnTo>
                    <a:pt x="6944" y="10886"/>
                  </a:lnTo>
                  <a:lnTo>
                    <a:pt x="6944" y="10886"/>
                  </a:lnTo>
                  <a:lnTo>
                    <a:pt x="7175" y="10886"/>
                  </a:lnTo>
                  <a:lnTo>
                    <a:pt x="7407" y="10886"/>
                  </a:lnTo>
                  <a:lnTo>
                    <a:pt x="7638" y="10886"/>
                  </a:lnTo>
                  <a:lnTo>
                    <a:pt x="7870" y="10886"/>
                  </a:lnTo>
                  <a:lnTo>
                    <a:pt x="8101" y="11002"/>
                  </a:lnTo>
                  <a:lnTo>
                    <a:pt x="8332" y="11002"/>
                  </a:lnTo>
                  <a:lnTo>
                    <a:pt x="8564" y="11234"/>
                  </a:lnTo>
                  <a:lnTo>
                    <a:pt x="8564" y="11581"/>
                  </a:lnTo>
                  <a:lnTo>
                    <a:pt x="8564" y="11581"/>
                  </a:lnTo>
                  <a:lnTo>
                    <a:pt x="8680" y="11929"/>
                  </a:lnTo>
                  <a:lnTo>
                    <a:pt x="8564" y="12160"/>
                  </a:lnTo>
                  <a:lnTo>
                    <a:pt x="8448" y="12392"/>
                  </a:lnTo>
                  <a:lnTo>
                    <a:pt x="8217" y="12508"/>
                  </a:lnTo>
                  <a:lnTo>
                    <a:pt x="7985" y="12624"/>
                  </a:lnTo>
                  <a:lnTo>
                    <a:pt x="7638" y="12624"/>
                  </a:lnTo>
                  <a:lnTo>
                    <a:pt x="7291" y="12739"/>
                  </a:lnTo>
                  <a:lnTo>
                    <a:pt x="7059" y="12855"/>
                  </a:lnTo>
                  <a:lnTo>
                    <a:pt x="7059" y="12855"/>
                  </a:lnTo>
                  <a:lnTo>
                    <a:pt x="6596" y="12855"/>
                  </a:lnTo>
                  <a:lnTo>
                    <a:pt x="6018" y="12739"/>
                  </a:lnTo>
                  <a:lnTo>
                    <a:pt x="5555" y="12739"/>
                  </a:lnTo>
                  <a:lnTo>
                    <a:pt x="5092" y="12624"/>
                  </a:lnTo>
                  <a:lnTo>
                    <a:pt x="4513" y="12508"/>
                  </a:lnTo>
                  <a:lnTo>
                    <a:pt x="4166" y="12276"/>
                  </a:lnTo>
                  <a:lnTo>
                    <a:pt x="3703" y="12044"/>
                  </a:lnTo>
                  <a:lnTo>
                    <a:pt x="3240" y="11813"/>
                  </a:lnTo>
                  <a:lnTo>
                    <a:pt x="3240" y="11813"/>
                  </a:lnTo>
                  <a:lnTo>
                    <a:pt x="2893" y="11234"/>
                  </a:lnTo>
                  <a:lnTo>
                    <a:pt x="2662" y="10539"/>
                  </a:lnTo>
                  <a:lnTo>
                    <a:pt x="2430" y="9960"/>
                  </a:lnTo>
                  <a:lnTo>
                    <a:pt x="2199" y="9265"/>
                  </a:lnTo>
                  <a:lnTo>
                    <a:pt x="1851" y="8686"/>
                  </a:lnTo>
                  <a:lnTo>
                    <a:pt x="1504" y="8107"/>
                  </a:lnTo>
                  <a:lnTo>
                    <a:pt x="926" y="7644"/>
                  </a:lnTo>
                  <a:lnTo>
                    <a:pt x="231" y="7412"/>
                  </a:lnTo>
                  <a:lnTo>
                    <a:pt x="231" y="7412"/>
                  </a:lnTo>
                  <a:lnTo>
                    <a:pt x="115" y="7296"/>
                  </a:lnTo>
                  <a:lnTo>
                    <a:pt x="115" y="7296"/>
                  </a:lnTo>
                  <a:lnTo>
                    <a:pt x="0" y="7180"/>
                  </a:lnTo>
                  <a:lnTo>
                    <a:pt x="0" y="7065"/>
                  </a:lnTo>
                  <a:lnTo>
                    <a:pt x="0" y="6949"/>
                  </a:lnTo>
                  <a:lnTo>
                    <a:pt x="0" y="6833"/>
                  </a:lnTo>
                  <a:lnTo>
                    <a:pt x="0" y="6717"/>
                  </a:lnTo>
                  <a:lnTo>
                    <a:pt x="0" y="6601"/>
                  </a:lnTo>
                  <a:lnTo>
                    <a:pt x="0" y="6601"/>
                  </a:lnTo>
                  <a:lnTo>
                    <a:pt x="231" y="6370"/>
                  </a:lnTo>
                  <a:lnTo>
                    <a:pt x="463" y="6138"/>
                  </a:lnTo>
                  <a:lnTo>
                    <a:pt x="810" y="6022"/>
                  </a:lnTo>
                  <a:lnTo>
                    <a:pt x="1157" y="5907"/>
                  </a:lnTo>
                  <a:lnTo>
                    <a:pt x="1504" y="5907"/>
                  </a:lnTo>
                  <a:lnTo>
                    <a:pt x="1851" y="5791"/>
                  </a:lnTo>
                  <a:lnTo>
                    <a:pt x="2199" y="5675"/>
                  </a:lnTo>
                  <a:lnTo>
                    <a:pt x="2430" y="5559"/>
                  </a:lnTo>
                  <a:lnTo>
                    <a:pt x="2430" y="5559"/>
                  </a:lnTo>
                  <a:lnTo>
                    <a:pt x="3009" y="5328"/>
                  </a:lnTo>
                  <a:lnTo>
                    <a:pt x="3472" y="4980"/>
                  </a:lnTo>
                  <a:lnTo>
                    <a:pt x="3935" y="4633"/>
                  </a:lnTo>
                  <a:lnTo>
                    <a:pt x="4398" y="4285"/>
                  </a:lnTo>
                  <a:lnTo>
                    <a:pt x="4860" y="3822"/>
                  </a:lnTo>
                  <a:lnTo>
                    <a:pt x="5323" y="3475"/>
                  </a:lnTo>
                  <a:lnTo>
                    <a:pt x="5671" y="3011"/>
                  </a:lnTo>
                  <a:lnTo>
                    <a:pt x="6018" y="2432"/>
                  </a:lnTo>
                  <a:lnTo>
                    <a:pt x="6018" y="2432"/>
                  </a:lnTo>
                  <a:lnTo>
                    <a:pt x="6018" y="2548"/>
                  </a:lnTo>
                  <a:lnTo>
                    <a:pt x="6134" y="2548"/>
                  </a:lnTo>
                  <a:lnTo>
                    <a:pt x="6134" y="2548"/>
                  </a:lnTo>
                  <a:lnTo>
                    <a:pt x="6134" y="2548"/>
                  </a:lnTo>
                  <a:lnTo>
                    <a:pt x="6249" y="2548"/>
                  </a:lnTo>
                  <a:lnTo>
                    <a:pt x="6249" y="2548"/>
                  </a:lnTo>
                  <a:lnTo>
                    <a:pt x="6249" y="2432"/>
                  </a:lnTo>
                  <a:lnTo>
                    <a:pt x="6249" y="2432"/>
                  </a:lnTo>
                  <a:lnTo>
                    <a:pt x="6249" y="2432"/>
                  </a:lnTo>
                  <a:lnTo>
                    <a:pt x="6249" y="2201"/>
                  </a:lnTo>
                  <a:lnTo>
                    <a:pt x="6134" y="1969"/>
                  </a:lnTo>
                  <a:lnTo>
                    <a:pt x="6018" y="1737"/>
                  </a:lnTo>
                  <a:lnTo>
                    <a:pt x="5902" y="1506"/>
                  </a:lnTo>
                  <a:lnTo>
                    <a:pt x="5786" y="1274"/>
                  </a:lnTo>
                  <a:lnTo>
                    <a:pt x="5671" y="1043"/>
                  </a:lnTo>
                  <a:lnTo>
                    <a:pt x="5555" y="811"/>
                  </a:lnTo>
                  <a:lnTo>
                    <a:pt x="5439" y="579"/>
                  </a:lnTo>
                  <a:lnTo>
                    <a:pt x="5439" y="579"/>
                  </a:lnTo>
                  <a:lnTo>
                    <a:pt x="5555" y="579"/>
                  </a:lnTo>
                  <a:lnTo>
                    <a:pt x="5555" y="579"/>
                  </a:lnTo>
                  <a:lnTo>
                    <a:pt x="5555" y="579"/>
                  </a:lnTo>
                  <a:lnTo>
                    <a:pt x="5555" y="579"/>
                  </a:lnTo>
                  <a:lnTo>
                    <a:pt x="5671" y="695"/>
                  </a:lnTo>
                  <a:lnTo>
                    <a:pt x="5671" y="695"/>
                  </a:lnTo>
                  <a:lnTo>
                    <a:pt x="5671" y="695"/>
                  </a:lnTo>
                  <a:lnTo>
                    <a:pt x="5671" y="811"/>
                  </a:lnTo>
                  <a:lnTo>
                    <a:pt x="5671" y="811"/>
                  </a:lnTo>
                  <a:lnTo>
                    <a:pt x="5786" y="811"/>
                  </a:lnTo>
                  <a:lnTo>
                    <a:pt x="5786" y="811"/>
                  </a:lnTo>
                  <a:lnTo>
                    <a:pt x="5902" y="695"/>
                  </a:lnTo>
                  <a:lnTo>
                    <a:pt x="6018" y="579"/>
                  </a:lnTo>
                  <a:lnTo>
                    <a:pt x="6249" y="464"/>
                  </a:lnTo>
                  <a:lnTo>
                    <a:pt x="6365" y="348"/>
                  </a:lnTo>
                  <a:lnTo>
                    <a:pt x="6481" y="232"/>
                  </a:lnTo>
                  <a:lnTo>
                    <a:pt x="6712" y="116"/>
                  </a:lnTo>
                  <a:lnTo>
                    <a:pt x="6828" y="0"/>
                  </a:lnTo>
                  <a:lnTo>
                    <a:pt x="7059" y="0"/>
                  </a:lnTo>
                  <a:lnTo>
                    <a:pt x="7059" y="0"/>
                  </a:lnTo>
                  <a:lnTo>
                    <a:pt x="7059" y="0"/>
                  </a:lnTo>
                  <a:lnTo>
                    <a:pt x="7059" y="0"/>
                  </a:lnTo>
                  <a:lnTo>
                    <a:pt x="7059" y="0"/>
                  </a:lnTo>
                  <a:close/>
                </a:path>
              </a:pathLst>
            </a:custGeom>
            <a:solidFill>
              <a:srgbClr val="ff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2743200" y="2057400"/>
            <a:ext cx="5867280" cy="137376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ve word problems that involve simple geometric formulas and decimal numbers</a:t>
            </a:r>
            <a:endParaRPr b="0" lang="en-US" sz="2800" spc="-1" strike="noStrike">
              <a:solidFill>
                <a:srgbClr val="000000"/>
              </a:solidFill>
              <a:latin typeface="Times New Roman"/>
            </a:endParaRPr>
          </a:p>
        </p:txBody>
      </p:sp>
      <p:sp>
        <p:nvSpPr>
          <p:cNvPr id="1097" name=""/>
          <p:cNvSpPr/>
          <p:nvPr/>
        </p:nvSpPr>
        <p:spPr>
          <a:xfrm>
            <a:off x="685800" y="14479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We have seen how to:</a:t>
            </a:r>
            <a:endParaRPr b="0" lang="en-US" sz="3200" spc="-1" strike="noStrike">
              <a:solidFill>
                <a:srgbClr val="000000"/>
              </a:solidFill>
              <a:latin typeface="Times New Roman"/>
            </a:endParaRPr>
          </a:p>
        </p:txBody>
      </p:sp>
      <p:grpSp>
        <p:nvGrpSpPr>
          <p:cNvPr id="1098" name=""/>
          <p:cNvGrpSpPr/>
          <p:nvPr/>
        </p:nvGrpSpPr>
        <p:grpSpPr>
          <a:xfrm>
            <a:off x="3809880" y="3654360"/>
            <a:ext cx="4343400" cy="2596680"/>
            <a:chOff x="3809880" y="3654360"/>
            <a:chExt cx="4343400" cy="2596680"/>
          </a:xfrm>
        </p:grpSpPr>
        <p:grpSp>
          <p:nvGrpSpPr>
            <p:cNvPr id="1099" name=""/>
            <p:cNvGrpSpPr/>
            <p:nvPr/>
          </p:nvGrpSpPr>
          <p:grpSpPr>
            <a:xfrm>
              <a:off x="4025160" y="3722760"/>
              <a:ext cx="4128120" cy="2528280"/>
              <a:chOff x="4025160" y="3722760"/>
              <a:chExt cx="4128120" cy="2528280"/>
            </a:xfrm>
          </p:grpSpPr>
          <p:grpSp>
            <p:nvGrpSpPr>
              <p:cNvPr id="1100" name=""/>
              <p:cNvGrpSpPr/>
              <p:nvPr/>
            </p:nvGrpSpPr>
            <p:grpSpPr>
              <a:xfrm>
                <a:off x="4025160" y="3722760"/>
                <a:ext cx="1443240" cy="1190880"/>
                <a:chOff x="4025160" y="3722760"/>
                <a:chExt cx="1443240" cy="1190880"/>
              </a:xfrm>
            </p:grpSpPr>
            <p:grpSp>
              <p:nvGrpSpPr>
                <p:cNvPr id="1101" name=""/>
                <p:cNvGrpSpPr/>
                <p:nvPr/>
              </p:nvGrpSpPr>
              <p:grpSpPr>
                <a:xfrm>
                  <a:off x="4025160" y="3805560"/>
                  <a:ext cx="1443240" cy="662760"/>
                  <a:chOff x="4025160" y="3805560"/>
                  <a:chExt cx="1443240" cy="662760"/>
                </a:xfrm>
              </p:grpSpPr>
              <p:sp>
                <p:nvSpPr>
                  <p:cNvPr id="1102" name=""/>
                  <p:cNvSpPr/>
                  <p:nvPr/>
                </p:nvSpPr>
                <p:spPr>
                  <a:xfrm>
                    <a:off x="4571640" y="3805560"/>
                    <a:ext cx="896760" cy="66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4024800" y="3805560"/>
                    <a:ext cx="546120" cy="66276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4" name=""/>
                <p:cNvSpPr/>
                <p:nvPr/>
              </p:nvSpPr>
              <p:spPr>
                <a:xfrm>
                  <a:off x="4712040" y="3741480"/>
                  <a:ext cx="60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557.8ft</a:t>
                  </a:r>
                  <a:endParaRPr b="0" lang="en-US" sz="1000" spc="-1" strike="noStrike">
                    <a:solidFill>
                      <a:srgbClr val="000000"/>
                    </a:solidFill>
                    <a:latin typeface="Times New Roman"/>
                  </a:endParaRPr>
                </a:p>
              </p:txBody>
            </p:sp>
            <p:sp>
              <p:nvSpPr>
                <p:cNvPr id="1105" name=""/>
                <p:cNvSpPr/>
                <p:nvPr/>
              </p:nvSpPr>
              <p:spPr>
                <a:xfrm>
                  <a:off x="4821480" y="4190760"/>
                  <a:ext cx="60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43.9ft</a:t>
                  </a:r>
                  <a:endParaRPr b="0" lang="en-US" sz="1000" spc="-1" strike="noStrike">
                    <a:solidFill>
                      <a:srgbClr val="000000"/>
                    </a:solidFill>
                    <a:latin typeface="Times New Roman"/>
                  </a:endParaRPr>
                </a:p>
              </p:txBody>
            </p:sp>
            <p:sp>
              <p:nvSpPr>
                <p:cNvPr id="1106" name=""/>
                <p:cNvSpPr/>
                <p:nvPr/>
              </p:nvSpPr>
              <p:spPr>
                <a:xfrm>
                  <a:off x="4465080" y="4667400"/>
                  <a:ext cx="60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711.9ft</a:t>
                  </a:r>
                  <a:endParaRPr b="0" lang="en-US" sz="1000" spc="-1" strike="noStrike">
                    <a:solidFill>
                      <a:srgbClr val="000000"/>
                    </a:solidFill>
                    <a:latin typeface="Times New Roman"/>
                  </a:endParaRPr>
                </a:p>
              </p:txBody>
            </p:sp>
            <p:sp>
              <p:nvSpPr>
                <p:cNvPr id="1107" name=""/>
                <p:cNvSpPr/>
                <p:nvPr/>
              </p:nvSpPr>
              <p:spPr>
                <a:xfrm rot="18678600">
                  <a:off x="4101480" y="4038840"/>
                  <a:ext cx="60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341.6ft</a:t>
                  </a:r>
                  <a:endParaRPr b="0" lang="en-US" sz="1000" spc="-1" strike="noStrike">
                    <a:solidFill>
                      <a:srgbClr val="000000"/>
                    </a:solidFill>
                    <a:latin typeface="Times New Roman"/>
                  </a:endParaRPr>
                </a:p>
              </p:txBody>
            </p:sp>
            <p:sp>
              <p:nvSpPr>
                <p:cNvPr id="1108" name=""/>
                <p:cNvSpPr/>
                <p:nvPr/>
              </p:nvSpPr>
              <p:spPr>
                <a:xfrm flipH="1">
                  <a:off x="4025160" y="4592880"/>
                  <a:ext cx="4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063400" y="4592880"/>
                  <a:ext cx="40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H="1">
                  <a:off x="4571640" y="3722760"/>
                  <a:ext cx="10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322240" y="3722760"/>
                  <a:ext cx="10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V="1">
                  <a:off x="5346720" y="38055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346720" y="424188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6087600" y="3775320"/>
                <a:ext cx="11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thod 1</a:t>
                </a:r>
                <a:endParaRPr b="0" lang="en-US" sz="1600" spc="-1" strike="noStrike">
                  <a:solidFill>
                    <a:srgbClr val="000000"/>
                  </a:solidFill>
                  <a:latin typeface="Times New Roman"/>
                </a:endParaRPr>
              </a:p>
            </p:txBody>
          </p:sp>
          <p:sp>
            <p:nvSpPr>
              <p:cNvPr id="1115" name=""/>
              <p:cNvSpPr/>
              <p:nvPr/>
            </p:nvSpPr>
            <p:spPr>
              <a:xfrm>
                <a:off x="5627160" y="3904560"/>
                <a:ext cx="2366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itional fencing =    New perimeter –       old perimeter</a:t>
                </a:r>
                <a:endParaRPr b="0" lang="en-US" sz="1400" spc="-1" strike="noStrike">
                  <a:solidFill>
                    <a:srgbClr val="000000"/>
                  </a:solidFill>
                  <a:latin typeface="Times New Roman"/>
                </a:endParaRPr>
              </a:p>
            </p:txBody>
          </p:sp>
          <p:sp>
            <p:nvSpPr>
              <p:cNvPr id="1116" name=""/>
              <p:cNvSpPr/>
              <p:nvPr/>
            </p:nvSpPr>
            <p:spPr>
              <a:xfrm>
                <a:off x="4105800" y="4854600"/>
                <a:ext cx="4047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New perimeter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557.8ft + 243.9ft + 711.9ft + 341.6ft</a:t>
                </a:r>
                <a:endParaRPr b="0" lang="en-US" sz="1400" spc="-1" strike="noStrike">
                  <a:solidFill>
                    <a:srgbClr val="000000"/>
                  </a:solidFill>
                  <a:latin typeface="Times New Roman"/>
                </a:endParaRPr>
              </a:p>
            </p:txBody>
          </p:sp>
          <p:sp>
            <p:nvSpPr>
              <p:cNvPr id="1117" name=""/>
              <p:cNvSpPr/>
              <p:nvPr/>
            </p:nvSpPr>
            <p:spPr>
              <a:xfrm>
                <a:off x="4105800" y="5517720"/>
                <a:ext cx="4047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Old perimeter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a:t>
                </a:r>
                <a:r>
                  <a:rPr b="1" lang="en-US" sz="1400" spc="-1" strike="noStrike">
                    <a:solidFill>
                      <a:srgbClr val="000000"/>
                    </a:solidFill>
                    <a:latin typeface="Comic Sans MS"/>
                  </a:rPr>
                  <a:t>        557.8ft + 243.9ft + 557.8ft + 243.9ft</a:t>
                </a:r>
                <a:endParaRPr b="0" lang="en-US" sz="1400" spc="-1" strike="noStrike">
                  <a:solidFill>
                    <a:srgbClr val="000000"/>
                  </a:solidFill>
                  <a:latin typeface="Times New Roman"/>
                </a:endParaRPr>
              </a:p>
            </p:txBody>
          </p:sp>
        </p:grpSp>
        <p:sp>
          <p:nvSpPr>
            <p:cNvPr id="1118" name=""/>
            <p:cNvSpPr/>
            <p:nvPr/>
          </p:nvSpPr>
          <p:spPr>
            <a:xfrm>
              <a:off x="3809880" y="3654360"/>
              <a:ext cx="4343400" cy="2594160"/>
            </a:xfrm>
            <a:prstGeom prst="rect">
              <a:avLst/>
            </a:prstGeom>
            <a:noFill/>
            <a:ln w="284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 name=""/>
          <p:cNvSpPr/>
          <p:nvPr/>
        </p:nvSpPr>
        <p:spPr>
          <a:xfrm>
            <a:off x="2743200" y="7002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
        <p:nvSpPr>
          <p:cNvPr id="262" name=""/>
          <p:cNvSpPr/>
          <p:nvPr/>
        </p:nvSpPr>
        <p:spPr>
          <a:xfrm>
            <a:off x="609480" y="1371600"/>
            <a:ext cx="8001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t deposits a check for $234.95 into his checking account. He now has a total of $1,479.87 in the account. How much was in his account before the deposit?</a:t>
            </a:r>
            <a:endParaRPr b="0" lang="en-US" sz="4000" spc="-1" strike="noStrike">
              <a:solidFill>
                <a:srgbClr val="000000"/>
              </a:solidFill>
              <a:latin typeface="Times New Roman"/>
            </a:endParaRPr>
          </a:p>
        </p:txBody>
      </p:sp>
      <p:pic>
        <p:nvPicPr>
          <p:cNvPr id="263" name="" descr=""/>
          <p:cNvPicPr/>
          <p:nvPr/>
        </p:nvPicPr>
        <p:blipFill>
          <a:blip r:embed="rId1"/>
          <a:stretch/>
        </p:blipFill>
        <p:spPr>
          <a:xfrm>
            <a:off x="4114800" y="4475160"/>
            <a:ext cx="3279600" cy="1925640"/>
          </a:xfrm>
          <a:prstGeom prst="rect">
            <a:avLst/>
          </a:prstGeom>
          <a:ln w="0">
            <a:noFill/>
          </a:ln>
        </p:spPr>
      </p:pic>
      <p:sp>
        <p:nvSpPr>
          <p:cNvPr id="264" name=""/>
          <p:cNvSpPr/>
          <p:nvPr/>
        </p:nvSpPr>
        <p:spPr>
          <a:xfrm>
            <a:off x="609480" y="1373040"/>
            <a:ext cx="8001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t </a:t>
            </a:r>
            <a:r>
              <a:rPr b="0" lang="en-US" sz="4000" spc="-1" strike="noStrike">
                <a:solidFill>
                  <a:srgbClr val="00cc99"/>
                </a:solidFill>
                <a:latin typeface="Comic Sans MS"/>
              </a:rPr>
              <a:t>deposits</a:t>
            </a:r>
            <a:r>
              <a:rPr b="0" lang="en-US" sz="4000" spc="-1" strike="noStrike">
                <a:solidFill>
                  <a:srgbClr val="000000"/>
                </a:solidFill>
                <a:latin typeface="Comic Sans MS"/>
              </a:rPr>
              <a:t> a check for </a:t>
            </a:r>
            <a:r>
              <a:rPr b="0" lang="en-US" sz="4000" spc="-1" strike="noStrike">
                <a:solidFill>
                  <a:srgbClr val="00cc99"/>
                </a:solidFill>
                <a:latin typeface="Comic Sans MS"/>
              </a:rPr>
              <a:t>$234.95</a:t>
            </a:r>
            <a:r>
              <a:rPr b="0" lang="en-US" sz="4000" spc="-1" strike="noStrike">
                <a:solidFill>
                  <a:srgbClr val="000000"/>
                </a:solidFill>
                <a:latin typeface="Comic Sans MS"/>
              </a:rPr>
              <a:t> into his checking account. He now has a </a:t>
            </a:r>
            <a:r>
              <a:rPr b="0" lang="en-US" sz="4000" spc="-1" strike="noStrike">
                <a:solidFill>
                  <a:srgbClr val="00cc99"/>
                </a:solidFill>
                <a:latin typeface="Comic Sans MS"/>
              </a:rPr>
              <a:t>total of $1,479.87</a:t>
            </a:r>
            <a:r>
              <a:rPr b="0" lang="en-US" sz="4000" spc="-1" strike="noStrike">
                <a:solidFill>
                  <a:srgbClr val="000000"/>
                </a:solidFill>
                <a:latin typeface="Comic Sans MS"/>
              </a:rPr>
              <a:t> in the account. How much was in his account before the deposit?</a:t>
            </a:r>
            <a:endParaRPr b="0" lang="en-US" sz="4000" spc="-1" strike="noStrike">
              <a:solidFill>
                <a:srgbClr val="000000"/>
              </a:solidFill>
              <a:latin typeface="Times New Roman"/>
            </a:endParaRPr>
          </a:p>
        </p:txBody>
      </p:sp>
      <p:sp>
        <p:nvSpPr>
          <p:cNvPr id="265" name=""/>
          <p:cNvSpPr/>
          <p:nvPr/>
        </p:nvSpPr>
        <p:spPr>
          <a:xfrm>
            <a:off x="609480" y="1371600"/>
            <a:ext cx="8001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t </a:t>
            </a:r>
            <a:r>
              <a:rPr b="0" lang="en-US" sz="4000" spc="-1" strike="noStrike">
                <a:solidFill>
                  <a:srgbClr val="00cc99"/>
                </a:solidFill>
                <a:latin typeface="Comic Sans MS"/>
              </a:rPr>
              <a:t>deposits</a:t>
            </a:r>
            <a:r>
              <a:rPr b="0" lang="en-US" sz="4000" spc="-1" strike="noStrike">
                <a:solidFill>
                  <a:srgbClr val="000000"/>
                </a:solidFill>
                <a:latin typeface="Comic Sans MS"/>
              </a:rPr>
              <a:t> a check for </a:t>
            </a:r>
            <a:r>
              <a:rPr b="0" lang="en-US" sz="4000" spc="-1" strike="noStrike">
                <a:solidFill>
                  <a:srgbClr val="00cc99"/>
                </a:solidFill>
                <a:latin typeface="Comic Sans MS"/>
              </a:rPr>
              <a:t>$234.95</a:t>
            </a:r>
            <a:r>
              <a:rPr b="0" lang="en-US" sz="4000" spc="-1" strike="noStrike">
                <a:solidFill>
                  <a:srgbClr val="000000"/>
                </a:solidFill>
                <a:latin typeface="Comic Sans MS"/>
              </a:rPr>
              <a:t> into his checking account. He now has a </a:t>
            </a:r>
            <a:r>
              <a:rPr b="0" lang="en-US" sz="4000" spc="-1" strike="noStrike">
                <a:solidFill>
                  <a:srgbClr val="00cc99"/>
                </a:solidFill>
                <a:latin typeface="Comic Sans MS"/>
              </a:rPr>
              <a:t>total of $1,479.87</a:t>
            </a:r>
            <a:r>
              <a:rPr b="0" lang="en-US" sz="4000" spc="-1" strike="noStrike">
                <a:solidFill>
                  <a:srgbClr val="000000"/>
                </a:solidFill>
                <a:latin typeface="Comic Sans MS"/>
              </a:rPr>
              <a:t> in the account. </a:t>
            </a:r>
            <a:r>
              <a:rPr b="0" lang="en-US" sz="4000" spc="-1" strike="noStrike">
                <a:solidFill>
                  <a:srgbClr val="0000ff"/>
                </a:solidFill>
                <a:latin typeface="Comic Sans MS"/>
              </a:rPr>
              <a:t>How much</a:t>
            </a:r>
            <a:r>
              <a:rPr b="0" lang="en-US" sz="4000" spc="-1" strike="noStrike">
                <a:solidFill>
                  <a:srgbClr val="000000"/>
                </a:solidFill>
                <a:latin typeface="Comic Sans MS"/>
              </a:rPr>
              <a:t> was in his account </a:t>
            </a:r>
            <a:r>
              <a:rPr b="0" lang="en-US" sz="4000" spc="-1" strike="noStrike">
                <a:solidFill>
                  <a:srgbClr val="0000ff"/>
                </a:solidFill>
                <a:latin typeface="Comic Sans MS"/>
              </a:rPr>
              <a:t>before</a:t>
            </a:r>
            <a:r>
              <a:rPr b="0" lang="en-US" sz="4000" spc="-1" strike="noStrike">
                <a:solidFill>
                  <a:srgbClr val="000000"/>
                </a:solidFill>
                <a:latin typeface="Comic Sans MS"/>
              </a:rPr>
              <a:t> the deposit</a:t>
            </a:r>
            <a:r>
              <a:rPr b="0" lang="en-US" sz="4000" spc="-1" strike="noStrike">
                <a:solidFill>
                  <a:srgbClr val="0000ff"/>
                </a:solidFill>
                <a:latin typeface="Comic Sans MS"/>
              </a:rPr>
              <a:t>?</a:t>
            </a:r>
            <a:endParaRPr b="0" lang="en-US" sz="4000" spc="-1" strike="noStrike">
              <a:solidFill>
                <a:srgbClr val="000000"/>
              </a:solidFill>
              <a:latin typeface="Times New Roman"/>
            </a:endParaRPr>
          </a:p>
        </p:txBody>
      </p:sp>
    </p:spTree>
  </p:cSld>
  <p:transition>
    <p:pull dir="l"/>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264"/>
                                        </p:tgtEl>
                                        <p:attrNameLst>
                                          <p:attrName>style.visibility</p:attrName>
                                        </p:attrNameLst>
                                      </p:cBhvr>
                                      <p:to>
                                        <p:strVal val="visible"/>
                                      </p:to>
                                    </p:set>
                                    <p:animEffect filter="dissolve" transition="in">
                                      <p:cBhvr additive="repl">
                                        <p:cTn id="31" dur="500"/>
                                        <p:tgtEl>
                                          <p:spTgt spid="26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65"/>
                                        </p:tgtEl>
                                        <p:attrNameLst>
                                          <p:attrName>style.visibility</p:attrName>
                                        </p:attrNameLst>
                                      </p:cBhvr>
                                      <p:to>
                                        <p:strVal val="visible"/>
                                      </p:to>
                                    </p:set>
                                    <p:animEffect filter="dissolve" transition="in">
                                      <p:cBhvr additive="repl">
                                        <p:cTn id="3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6" name=""/>
          <p:cNvSpPr/>
          <p:nvPr/>
        </p:nvSpPr>
        <p:spPr>
          <a:xfrm>
            <a:off x="762120" y="1676520"/>
            <a:ext cx="3504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Comic Sans MS"/>
              </a:rPr>
              <a:t>Given:        deposit $234.95 total $1,479.87</a:t>
            </a:r>
            <a:endParaRPr b="0" lang="en-US" sz="3200" spc="-1" strike="noStrike">
              <a:solidFill>
                <a:srgbClr val="000000"/>
              </a:solidFill>
              <a:latin typeface="Times New Roman"/>
            </a:endParaRPr>
          </a:p>
        </p:txBody>
      </p:sp>
      <p:sp>
        <p:nvSpPr>
          <p:cNvPr id="267" name=""/>
          <p:cNvSpPr/>
          <p:nvPr/>
        </p:nvSpPr>
        <p:spPr>
          <a:xfrm>
            <a:off x="762120" y="3505320"/>
            <a:ext cx="3733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Question:   balance before deposit?</a:t>
            </a:r>
            <a:endParaRPr b="0" lang="en-US" sz="3200" spc="-1" strike="noStrike">
              <a:solidFill>
                <a:srgbClr val="000000"/>
              </a:solidFill>
              <a:latin typeface="Times New Roman"/>
            </a:endParaRPr>
          </a:p>
        </p:txBody>
      </p:sp>
      <p:grpSp>
        <p:nvGrpSpPr>
          <p:cNvPr id="268" name=""/>
          <p:cNvGrpSpPr/>
          <p:nvPr/>
        </p:nvGrpSpPr>
        <p:grpSpPr>
          <a:xfrm>
            <a:off x="4648320" y="2742840"/>
            <a:ext cx="2750040" cy="3200760"/>
            <a:chOff x="4648320" y="2742840"/>
            <a:chExt cx="2750040" cy="3200760"/>
          </a:xfrm>
        </p:grpSpPr>
        <p:sp>
          <p:nvSpPr>
            <p:cNvPr id="269" name=""/>
            <p:cNvSpPr/>
            <p:nvPr/>
          </p:nvSpPr>
          <p:spPr>
            <a:xfrm>
              <a:off x="4648320" y="2743200"/>
              <a:ext cx="21337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648320" y="35049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70440" y="2835000"/>
              <a:ext cx="168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95</a:t>
              </a:r>
              <a:endParaRPr b="0" lang="en-US" sz="3200" spc="-1" strike="noStrike">
                <a:solidFill>
                  <a:srgbClr val="000000"/>
                </a:solidFill>
                <a:latin typeface="Times New Roman"/>
              </a:endParaRPr>
            </a:p>
          </p:txBody>
        </p:sp>
        <p:sp>
          <p:nvSpPr>
            <p:cNvPr id="272" name=""/>
            <p:cNvSpPr/>
            <p:nvPr/>
          </p:nvSpPr>
          <p:spPr>
            <a:xfrm>
              <a:off x="5491440" y="4181400"/>
              <a:ext cx="44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endParaRPr b="0" lang="en-US" sz="4800" spc="-1" strike="noStrike">
                <a:solidFill>
                  <a:srgbClr val="000000"/>
                </a:solidFill>
                <a:latin typeface="Times New Roman"/>
              </a:endParaRPr>
            </a:p>
          </p:txBody>
        </p:sp>
        <p:sp>
          <p:nvSpPr>
            <p:cNvPr id="273" name=""/>
            <p:cNvSpPr/>
            <p:nvPr/>
          </p:nvSpPr>
          <p:spPr>
            <a:xfrm rot="16215600">
              <a:off x="6086520" y="405396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479.87</a:t>
              </a:r>
              <a:endParaRPr b="0" lang="en-US" sz="3200" spc="-1" strike="noStrike">
                <a:solidFill>
                  <a:srgbClr val="000000"/>
                </a:solidFill>
                <a:latin typeface="Times New Roman"/>
              </a:endParaRPr>
            </a:p>
          </p:txBody>
        </p:sp>
        <p:sp>
          <p:nvSpPr>
            <p:cNvPr id="274" name=""/>
            <p:cNvSpPr/>
            <p:nvPr/>
          </p:nvSpPr>
          <p:spPr>
            <a:xfrm>
              <a:off x="7086960" y="5395680"/>
              <a:ext cx="0" cy="5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7086960" y="2742840"/>
              <a:ext cx="0" cy="5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67"/>
                                        </p:tgtEl>
                                        <p:attrNameLst>
                                          <p:attrName>style.visibility</p:attrName>
                                        </p:attrNameLst>
                                      </p:cBhvr>
                                      <p:to>
                                        <p:strVal val="visible"/>
                                      </p:to>
                                    </p:set>
                                    <p:animEffect filter="dissolve" transition="in">
                                      <p:cBhvr additive="repl">
                                        <p:cTn id="43" dur="500"/>
                                        <p:tgtEl>
                                          <p:spTgt spid="2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268"/>
                                        </p:tgtEl>
                                        <p:attrNameLst>
                                          <p:attrName>style.visibility</p:attrName>
                                        </p:attrNameLst>
                                      </p:cBhvr>
                                      <p:to>
                                        <p:strVal val="visible"/>
                                      </p:to>
                                    </p:set>
                                    <p:animEffect filter="dissolve" transition="in">
                                      <p:cBhvr additive="repl">
                                        <p:cTn id="48"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77" name=""/>
          <p:cNvGrpSpPr/>
          <p:nvPr/>
        </p:nvGrpSpPr>
        <p:grpSpPr>
          <a:xfrm>
            <a:off x="631800" y="1828440"/>
            <a:ext cx="2750040" cy="3200760"/>
            <a:chOff x="631800" y="1828440"/>
            <a:chExt cx="2750040" cy="3200760"/>
          </a:xfrm>
        </p:grpSpPr>
        <p:sp>
          <p:nvSpPr>
            <p:cNvPr id="278" name=""/>
            <p:cNvSpPr/>
            <p:nvPr/>
          </p:nvSpPr>
          <p:spPr>
            <a:xfrm>
              <a:off x="631800" y="1828800"/>
              <a:ext cx="21337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1800" y="2590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53920" y="1920600"/>
              <a:ext cx="168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34.95</a:t>
              </a:r>
              <a:endParaRPr b="0" lang="en-US" sz="3200" spc="-1" strike="noStrike">
                <a:solidFill>
                  <a:srgbClr val="000000"/>
                </a:solidFill>
                <a:latin typeface="Times New Roman"/>
              </a:endParaRPr>
            </a:p>
          </p:txBody>
        </p:sp>
        <p:sp>
          <p:nvSpPr>
            <p:cNvPr id="281" name=""/>
            <p:cNvSpPr/>
            <p:nvPr/>
          </p:nvSpPr>
          <p:spPr>
            <a:xfrm>
              <a:off x="1474920" y="3267000"/>
              <a:ext cx="44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t>
              </a:r>
              <a:endParaRPr b="0" lang="en-US" sz="4800" spc="-1" strike="noStrike">
                <a:solidFill>
                  <a:srgbClr val="000000"/>
                </a:solidFill>
                <a:latin typeface="Times New Roman"/>
              </a:endParaRPr>
            </a:p>
          </p:txBody>
        </p:sp>
        <p:sp>
          <p:nvSpPr>
            <p:cNvPr id="282" name=""/>
            <p:cNvSpPr/>
            <p:nvPr/>
          </p:nvSpPr>
          <p:spPr>
            <a:xfrm rot="16215600">
              <a:off x="2070000" y="313956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479.87</a:t>
              </a:r>
              <a:endParaRPr b="0" lang="en-US" sz="3200" spc="-1" strike="noStrike">
                <a:solidFill>
                  <a:srgbClr val="000000"/>
                </a:solidFill>
                <a:latin typeface="Times New Roman"/>
              </a:endParaRPr>
            </a:p>
          </p:txBody>
        </p:sp>
        <p:sp>
          <p:nvSpPr>
            <p:cNvPr id="283" name=""/>
            <p:cNvSpPr/>
            <p:nvPr/>
          </p:nvSpPr>
          <p:spPr>
            <a:xfrm>
              <a:off x="3070440" y="4481280"/>
              <a:ext cx="0" cy="54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3070440" y="1828440"/>
              <a:ext cx="0" cy="5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3581280" y="1676520"/>
            <a:ext cx="51055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b + 234.95 = 1,479.87</a:t>
            </a:r>
            <a:endParaRPr b="0" lang="en-US" sz="3800" spc="-1" strike="noStrike">
              <a:solidFill>
                <a:srgbClr val="000000"/>
              </a:solidFill>
              <a:latin typeface="Times New Roman"/>
            </a:endParaRPr>
          </a:p>
        </p:txBody>
      </p:sp>
      <p:grpSp>
        <p:nvGrpSpPr>
          <p:cNvPr id="286" name=""/>
          <p:cNvGrpSpPr/>
          <p:nvPr/>
        </p:nvGrpSpPr>
        <p:grpSpPr>
          <a:xfrm>
            <a:off x="3429000" y="2270160"/>
            <a:ext cx="5181480" cy="673200"/>
            <a:chOff x="3429000" y="2270160"/>
            <a:chExt cx="5181480" cy="673200"/>
          </a:xfrm>
        </p:grpSpPr>
        <p:sp>
          <p:nvSpPr>
            <p:cNvPr id="287" name=""/>
            <p:cNvSpPr/>
            <p:nvPr/>
          </p:nvSpPr>
          <p:spPr>
            <a:xfrm>
              <a:off x="4291560" y="2270160"/>
              <a:ext cx="41338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 234.95   - 234.95</a:t>
              </a:r>
              <a:endParaRPr b="0" lang="en-US" sz="3800" spc="-1" strike="noStrike">
                <a:solidFill>
                  <a:srgbClr val="000000"/>
                </a:solidFill>
                <a:latin typeface="Times New Roman"/>
              </a:endParaRPr>
            </a:p>
          </p:txBody>
        </p:sp>
        <p:sp>
          <p:nvSpPr>
            <p:cNvPr id="288" name=""/>
            <p:cNvSpPr/>
            <p:nvPr/>
          </p:nvSpPr>
          <p:spPr>
            <a:xfrm>
              <a:off x="3429000" y="2941560"/>
              <a:ext cx="518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5553720" y="3071880"/>
            <a:ext cx="8787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b =</a:t>
            </a:r>
            <a:endParaRPr b="0" lang="en-US" sz="3800" spc="-1" strike="noStrike">
              <a:solidFill>
                <a:srgbClr val="000000"/>
              </a:solidFill>
              <a:latin typeface="Times New Roman"/>
            </a:endParaRPr>
          </a:p>
        </p:txBody>
      </p:sp>
      <p:sp>
        <p:nvSpPr>
          <p:cNvPr id="290" name=""/>
          <p:cNvSpPr/>
          <p:nvPr/>
        </p:nvSpPr>
        <p:spPr>
          <a:xfrm>
            <a:off x="8152200" y="3071880"/>
            <a:ext cx="456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2</a:t>
            </a:r>
            <a:endParaRPr b="0" lang="en-US" sz="3800" spc="-1" strike="noStrike">
              <a:solidFill>
                <a:srgbClr val="000000"/>
              </a:solidFill>
              <a:latin typeface="Times New Roman"/>
            </a:endParaRPr>
          </a:p>
        </p:txBody>
      </p:sp>
      <p:sp>
        <p:nvSpPr>
          <p:cNvPr id="291" name=""/>
          <p:cNvSpPr/>
          <p:nvPr/>
        </p:nvSpPr>
        <p:spPr>
          <a:xfrm>
            <a:off x="7837920" y="3070080"/>
            <a:ext cx="456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9</a:t>
            </a:r>
            <a:endParaRPr b="0" lang="en-US" sz="3800" spc="-1" strike="noStrike">
              <a:solidFill>
                <a:srgbClr val="000000"/>
              </a:solidFill>
              <a:latin typeface="Times New Roman"/>
            </a:endParaRPr>
          </a:p>
        </p:txBody>
      </p:sp>
      <p:sp>
        <p:nvSpPr>
          <p:cNvPr id="292" name=""/>
          <p:cNvSpPr/>
          <p:nvPr/>
        </p:nvSpPr>
        <p:spPr>
          <a:xfrm>
            <a:off x="7693560" y="3070080"/>
            <a:ext cx="31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a:t>
            </a:r>
            <a:endParaRPr b="0" lang="en-US" sz="3800" spc="-1" strike="noStrike">
              <a:solidFill>
                <a:srgbClr val="000000"/>
              </a:solidFill>
              <a:latin typeface="Times New Roman"/>
            </a:endParaRPr>
          </a:p>
        </p:txBody>
      </p:sp>
      <p:sp>
        <p:nvSpPr>
          <p:cNvPr id="293" name=""/>
          <p:cNvSpPr/>
          <p:nvPr/>
        </p:nvSpPr>
        <p:spPr>
          <a:xfrm>
            <a:off x="7402680" y="3070080"/>
            <a:ext cx="456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4</a:t>
            </a:r>
            <a:endParaRPr b="0" lang="en-US" sz="3800" spc="-1" strike="noStrike">
              <a:solidFill>
                <a:srgbClr val="000000"/>
              </a:solidFill>
              <a:latin typeface="Times New Roman"/>
            </a:endParaRPr>
          </a:p>
        </p:txBody>
      </p:sp>
      <p:sp>
        <p:nvSpPr>
          <p:cNvPr id="294" name=""/>
          <p:cNvSpPr/>
          <p:nvPr/>
        </p:nvSpPr>
        <p:spPr>
          <a:xfrm>
            <a:off x="7098120" y="3070080"/>
            <a:ext cx="456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4</a:t>
            </a:r>
            <a:endParaRPr b="0" lang="en-US" sz="3800" spc="-1" strike="noStrike">
              <a:solidFill>
                <a:srgbClr val="000000"/>
              </a:solidFill>
              <a:latin typeface="Times New Roman"/>
            </a:endParaRPr>
          </a:p>
        </p:txBody>
      </p:sp>
      <p:sp>
        <p:nvSpPr>
          <p:cNvPr id="295" name=""/>
          <p:cNvSpPr/>
          <p:nvPr/>
        </p:nvSpPr>
        <p:spPr>
          <a:xfrm>
            <a:off x="6793200" y="3070080"/>
            <a:ext cx="4564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2</a:t>
            </a:r>
            <a:endParaRPr b="0" lang="en-US" sz="3800" spc="-1" strike="noStrike">
              <a:solidFill>
                <a:srgbClr val="000000"/>
              </a:solidFill>
              <a:latin typeface="Times New Roman"/>
            </a:endParaRPr>
          </a:p>
        </p:txBody>
      </p:sp>
      <p:sp>
        <p:nvSpPr>
          <p:cNvPr id="296" name=""/>
          <p:cNvSpPr/>
          <p:nvPr/>
        </p:nvSpPr>
        <p:spPr>
          <a:xfrm>
            <a:off x="6352920" y="3070080"/>
            <a:ext cx="58608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Comic Sans MS"/>
              </a:rPr>
              <a:t>1,</a:t>
            </a:r>
            <a:endParaRPr b="0" lang="en-US" sz="3800" spc="-1" strike="noStrike">
              <a:solidFill>
                <a:srgbClr val="000000"/>
              </a:solidFill>
              <a:latin typeface="Times New Roman"/>
            </a:endParaRPr>
          </a:p>
        </p:txBody>
      </p:sp>
      <p:sp>
        <p:nvSpPr>
          <p:cNvPr id="297" name=""/>
          <p:cNvSpPr/>
          <p:nvPr/>
        </p:nvSpPr>
        <p:spPr>
          <a:xfrm>
            <a:off x="3581280" y="4175280"/>
            <a:ext cx="5029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t had </a:t>
            </a:r>
            <a:r>
              <a:rPr b="0" lang="en-US" sz="4000" spc="-1" strike="noStrike">
                <a:solidFill>
                  <a:srgbClr val="0000ff"/>
                </a:solidFill>
                <a:latin typeface="Comic Sans MS"/>
              </a:rPr>
              <a:t>$1,244.92</a:t>
            </a:r>
            <a:r>
              <a:rPr b="0" lang="en-US" sz="4000" spc="-1" strike="noStrike">
                <a:solidFill>
                  <a:srgbClr val="000000"/>
                </a:solidFill>
                <a:latin typeface="Comic Sans MS"/>
              </a:rPr>
              <a:t> before making the deposit.</a:t>
            </a:r>
            <a:endParaRPr b="0" lang="en-US" sz="4000" spc="-1" strike="noStrike">
              <a:solidFill>
                <a:srgbClr val="000000"/>
              </a:solidFill>
              <a:latin typeface="Times New Roman"/>
            </a:endParaRPr>
          </a:p>
        </p:txBody>
      </p:sp>
      <p:sp>
        <p:nvSpPr>
          <p:cNvPr id="298"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286"/>
                                        </p:tgtEl>
                                        <p:attrNameLst>
                                          <p:attrName>style.visibility</p:attrName>
                                        </p:attrNameLst>
                                      </p:cBhvr>
                                      <p:to>
                                        <p:strVal val="visible"/>
                                      </p:to>
                                    </p:set>
                                    <p:animEffect filter="wipe(left)" transition="in">
                                      <p:cBhvr additive="repl">
                                        <p:cTn id="55" dur="500"/>
                                        <p:tgtEl>
                                          <p:spTgt spid="2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289"/>
                                        </p:tgtEl>
                                        <p:attrNameLst>
                                          <p:attrName>style.visibility</p:attrName>
                                        </p:attrNameLst>
                                      </p:cBhvr>
                                      <p:to>
                                        <p:strVal val="visible"/>
                                      </p:to>
                                    </p:set>
                                    <p:anim calcmode="lin" valueType="num">
                                      <p:cBhvr additive="repl">
                                        <p:cTn id="60" dur="500" fill="hold"/>
                                        <p:tgtEl>
                                          <p:spTgt spid="289"/>
                                        </p:tgtEl>
                                        <p:attrNameLst>
                                          <p:attrName>ppt_w</p:attrName>
                                        </p:attrNameLst>
                                      </p:cBhvr>
                                      <p:tavLst>
                                        <p:tav tm="0">
                                          <p:val>
                                            <p:fltVal val="0"/>
                                          </p:val>
                                        </p:tav>
                                        <p:tav tm="100000">
                                          <p:val>
                                            <p:strVal val="#ppt_w"/>
                                          </p:val>
                                        </p:tav>
                                      </p:tavLst>
                                    </p:anim>
                                    <p:anim calcmode="lin" valueType="num">
                                      <p:cBhvr additive="repl">
                                        <p:cTn id="61" dur="500" fill="hold"/>
                                        <p:tgtEl>
                                          <p:spTgt spid="289"/>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90"/>
                                        </p:tgtEl>
                                        <p:attrNameLst>
                                          <p:attrName>style.visibility</p:attrName>
                                        </p:attrNameLst>
                                      </p:cBhvr>
                                      <p:to>
                                        <p:strVal val="visible"/>
                                      </p:to>
                                    </p:set>
                                    <p:anim calcmode="lin" valueType="num">
                                      <p:cBhvr additive="repl">
                                        <p:cTn id="66" dur="500" fill="hold"/>
                                        <p:tgtEl>
                                          <p:spTgt spid="290"/>
                                        </p:tgtEl>
                                        <p:attrNameLst>
                                          <p:attrName>ppt_w</p:attrName>
                                        </p:attrNameLst>
                                      </p:cBhvr>
                                      <p:tavLst>
                                        <p:tav tm="0">
                                          <p:val>
                                            <p:fltVal val="0"/>
                                          </p:val>
                                        </p:tav>
                                        <p:tav tm="100000">
                                          <p:val>
                                            <p:strVal val="#ppt_w"/>
                                          </p:val>
                                        </p:tav>
                                      </p:tavLst>
                                    </p:anim>
                                    <p:anim calcmode="lin" valueType="num">
                                      <p:cBhvr additive="repl">
                                        <p:cTn id="67" dur="500" fill="hold"/>
                                        <p:tgtEl>
                                          <p:spTgt spid="290"/>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291"/>
                                        </p:tgtEl>
                                        <p:attrNameLst>
                                          <p:attrName>style.visibility</p:attrName>
                                        </p:attrNameLst>
                                      </p:cBhvr>
                                      <p:to>
                                        <p:strVal val="visible"/>
                                      </p:to>
                                    </p:set>
                                    <p:anim calcmode="lin" valueType="num">
                                      <p:cBhvr additive="repl">
                                        <p:cTn id="72" dur="500" fill="hold"/>
                                        <p:tgtEl>
                                          <p:spTgt spid="291"/>
                                        </p:tgtEl>
                                        <p:attrNameLst>
                                          <p:attrName>ppt_w</p:attrName>
                                        </p:attrNameLst>
                                      </p:cBhvr>
                                      <p:tavLst>
                                        <p:tav tm="0">
                                          <p:val>
                                            <p:fltVal val="0"/>
                                          </p:val>
                                        </p:tav>
                                        <p:tav tm="100000">
                                          <p:val>
                                            <p:strVal val="#ppt_w"/>
                                          </p:val>
                                        </p:tav>
                                      </p:tavLst>
                                    </p:anim>
                                    <p:anim calcmode="lin" valueType="num">
                                      <p:cBhvr additive="repl">
                                        <p:cTn id="73"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292"/>
                                        </p:tgtEl>
                                        <p:attrNameLst>
                                          <p:attrName>style.visibility</p:attrName>
                                        </p:attrNameLst>
                                      </p:cBhvr>
                                      <p:to>
                                        <p:strVal val="visible"/>
                                      </p:to>
                                    </p:set>
                                    <p:anim calcmode="lin" valueType="num">
                                      <p:cBhvr additive="repl">
                                        <p:cTn id="78" dur="500" fill="hold"/>
                                        <p:tgtEl>
                                          <p:spTgt spid="292"/>
                                        </p:tgtEl>
                                        <p:attrNameLst>
                                          <p:attrName>ppt_w</p:attrName>
                                        </p:attrNameLst>
                                      </p:cBhvr>
                                      <p:tavLst>
                                        <p:tav tm="0">
                                          <p:val>
                                            <p:fltVal val="0"/>
                                          </p:val>
                                        </p:tav>
                                        <p:tav tm="100000">
                                          <p:val>
                                            <p:strVal val="#ppt_w"/>
                                          </p:val>
                                        </p:tav>
                                      </p:tavLst>
                                    </p:anim>
                                    <p:anim calcmode="lin" valueType="num">
                                      <p:cBhvr additive="repl">
                                        <p:cTn id="79"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293"/>
                                        </p:tgtEl>
                                        <p:attrNameLst>
                                          <p:attrName>style.visibility</p:attrName>
                                        </p:attrNameLst>
                                      </p:cBhvr>
                                      <p:to>
                                        <p:strVal val="visible"/>
                                      </p:to>
                                    </p:set>
                                    <p:anim calcmode="lin" valueType="num">
                                      <p:cBhvr additive="repl">
                                        <p:cTn id="84" dur="500" fill="hold"/>
                                        <p:tgtEl>
                                          <p:spTgt spid="293"/>
                                        </p:tgtEl>
                                        <p:attrNameLst>
                                          <p:attrName>ppt_w</p:attrName>
                                        </p:attrNameLst>
                                      </p:cBhvr>
                                      <p:tavLst>
                                        <p:tav tm="0">
                                          <p:val>
                                            <p:fltVal val="0"/>
                                          </p:val>
                                        </p:tav>
                                        <p:tav tm="100000">
                                          <p:val>
                                            <p:strVal val="#ppt_w"/>
                                          </p:val>
                                        </p:tav>
                                      </p:tavLst>
                                    </p:anim>
                                    <p:anim calcmode="lin" valueType="num">
                                      <p:cBhvr additive="repl">
                                        <p:cTn id="85"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294"/>
                                        </p:tgtEl>
                                        <p:attrNameLst>
                                          <p:attrName>style.visibility</p:attrName>
                                        </p:attrNameLst>
                                      </p:cBhvr>
                                      <p:to>
                                        <p:strVal val="visible"/>
                                      </p:to>
                                    </p:set>
                                    <p:anim calcmode="lin" valueType="num">
                                      <p:cBhvr additive="repl">
                                        <p:cTn id="90" dur="500" fill="hold"/>
                                        <p:tgtEl>
                                          <p:spTgt spid="294"/>
                                        </p:tgtEl>
                                        <p:attrNameLst>
                                          <p:attrName>ppt_w</p:attrName>
                                        </p:attrNameLst>
                                      </p:cBhvr>
                                      <p:tavLst>
                                        <p:tav tm="0">
                                          <p:val>
                                            <p:fltVal val="0"/>
                                          </p:val>
                                        </p:tav>
                                        <p:tav tm="100000">
                                          <p:val>
                                            <p:strVal val="#ppt_w"/>
                                          </p:val>
                                        </p:tav>
                                      </p:tavLst>
                                    </p:anim>
                                    <p:anim calcmode="lin" valueType="num">
                                      <p:cBhvr additive="repl">
                                        <p:cTn id="91" dur="5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295"/>
                                        </p:tgtEl>
                                        <p:attrNameLst>
                                          <p:attrName>style.visibility</p:attrName>
                                        </p:attrNameLst>
                                      </p:cBhvr>
                                      <p:to>
                                        <p:strVal val="visible"/>
                                      </p:to>
                                    </p:set>
                                    <p:anim calcmode="lin" valueType="num">
                                      <p:cBhvr additive="repl">
                                        <p:cTn id="96" dur="500" fill="hold"/>
                                        <p:tgtEl>
                                          <p:spTgt spid="295"/>
                                        </p:tgtEl>
                                        <p:attrNameLst>
                                          <p:attrName>ppt_w</p:attrName>
                                        </p:attrNameLst>
                                      </p:cBhvr>
                                      <p:tavLst>
                                        <p:tav tm="0">
                                          <p:val>
                                            <p:fltVal val="0"/>
                                          </p:val>
                                        </p:tav>
                                        <p:tav tm="100000">
                                          <p:val>
                                            <p:strVal val="#ppt_w"/>
                                          </p:val>
                                        </p:tav>
                                      </p:tavLst>
                                    </p:anim>
                                    <p:anim calcmode="lin" valueType="num">
                                      <p:cBhvr additive="repl">
                                        <p:cTn id="97" dur="500" fill="hold"/>
                                        <p:tgtEl>
                                          <p:spTgt spid="295"/>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296"/>
                                        </p:tgtEl>
                                        <p:attrNameLst>
                                          <p:attrName>style.visibility</p:attrName>
                                        </p:attrNameLst>
                                      </p:cBhvr>
                                      <p:to>
                                        <p:strVal val="visible"/>
                                      </p:to>
                                    </p:set>
                                    <p:anim calcmode="lin" valueType="num">
                                      <p:cBhvr additive="repl">
                                        <p:cTn id="102" dur="500" fill="hold"/>
                                        <p:tgtEl>
                                          <p:spTgt spid="296"/>
                                        </p:tgtEl>
                                        <p:attrNameLst>
                                          <p:attrName>ppt_w</p:attrName>
                                        </p:attrNameLst>
                                      </p:cBhvr>
                                      <p:tavLst>
                                        <p:tav tm="0">
                                          <p:val>
                                            <p:fltVal val="0"/>
                                          </p:val>
                                        </p:tav>
                                        <p:tav tm="100000">
                                          <p:val>
                                            <p:strVal val="#ppt_w"/>
                                          </p:val>
                                        </p:tav>
                                      </p:tavLst>
                                    </p:anim>
                                    <p:anim calcmode="lin" valueType="num">
                                      <p:cBhvr additive="repl">
                                        <p:cTn id="103" dur="500" fill="hold"/>
                                        <p:tgtEl>
                                          <p:spTgt spid="296"/>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97"/>
                                        </p:tgtEl>
                                        <p:attrNameLst>
                                          <p:attrName>style.visibility</p:attrName>
                                        </p:attrNameLst>
                                      </p:cBhvr>
                                      <p:to>
                                        <p:strVal val="visible"/>
                                      </p:to>
                                    </p:set>
                                    <p:animEffect filter="wipe(left)" transition="in">
                                      <p:cBhvr additive="repl">
                                        <p:cTn id="10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9" name=""/>
          <p:cNvSpPr/>
          <p:nvPr/>
        </p:nvSpPr>
        <p:spPr>
          <a:xfrm>
            <a:off x="3429000" y="1461960"/>
            <a:ext cx="2286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eck:</a:t>
            </a:r>
            <a:endParaRPr b="0" lang="en-US" sz="4000" spc="-1" strike="noStrike">
              <a:solidFill>
                <a:srgbClr val="000000"/>
              </a:solidFill>
              <a:latin typeface="Times New Roman"/>
            </a:endParaRPr>
          </a:p>
        </p:txBody>
      </p:sp>
      <p:sp>
        <p:nvSpPr>
          <p:cNvPr id="300" name=""/>
          <p:cNvSpPr/>
          <p:nvPr/>
        </p:nvSpPr>
        <p:spPr>
          <a:xfrm>
            <a:off x="533520" y="22860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posit + amount before deposit (b) = $1,479.87</a:t>
            </a:r>
            <a:endParaRPr b="0" lang="en-US" sz="3600" spc="-1" strike="noStrike">
              <a:solidFill>
                <a:srgbClr val="000000"/>
              </a:solidFill>
              <a:latin typeface="Times New Roman"/>
            </a:endParaRPr>
          </a:p>
        </p:txBody>
      </p:sp>
      <p:sp>
        <p:nvSpPr>
          <p:cNvPr id="301" name=""/>
          <p:cNvSpPr/>
          <p:nvPr/>
        </p:nvSpPr>
        <p:spPr>
          <a:xfrm>
            <a:off x="3513960" y="3733920"/>
            <a:ext cx="20901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 234.95</a:t>
            </a:r>
            <a:endParaRPr b="0" lang="en-US" sz="3800" spc="-1" strike="noStrike">
              <a:solidFill>
                <a:srgbClr val="000000"/>
              </a:solidFill>
              <a:latin typeface="Times New Roman"/>
            </a:endParaRPr>
          </a:p>
        </p:txBody>
      </p:sp>
      <p:sp>
        <p:nvSpPr>
          <p:cNvPr id="302" name=""/>
          <p:cNvSpPr/>
          <p:nvPr/>
        </p:nvSpPr>
        <p:spPr>
          <a:xfrm>
            <a:off x="3182040" y="5181480"/>
            <a:ext cx="24955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 1,479.87</a:t>
            </a:r>
            <a:endParaRPr b="0" lang="en-US" sz="3800" spc="-1" strike="noStrike">
              <a:solidFill>
                <a:srgbClr val="000000"/>
              </a:solidFill>
              <a:latin typeface="Times New Roman"/>
            </a:endParaRPr>
          </a:p>
        </p:txBody>
      </p:sp>
      <p:sp>
        <p:nvSpPr>
          <p:cNvPr id="303" name=""/>
          <p:cNvSpPr/>
          <p:nvPr/>
        </p:nvSpPr>
        <p:spPr>
          <a:xfrm>
            <a:off x="3124080" y="4405320"/>
            <a:ext cx="2565360" cy="623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048120" y="3809880"/>
            <a:ext cx="5562360" cy="1295640"/>
            <a:chOff x="3048120" y="3809880"/>
            <a:chExt cx="5562360" cy="1295640"/>
          </a:xfrm>
        </p:grpSpPr>
        <p:grpSp>
          <p:nvGrpSpPr>
            <p:cNvPr id="305" name=""/>
            <p:cNvGrpSpPr/>
            <p:nvPr/>
          </p:nvGrpSpPr>
          <p:grpSpPr>
            <a:xfrm>
              <a:off x="3048120" y="4357800"/>
              <a:ext cx="2840040" cy="747720"/>
              <a:chOff x="3048120" y="4357800"/>
              <a:chExt cx="2840040" cy="747720"/>
            </a:xfrm>
          </p:grpSpPr>
          <p:sp>
            <p:nvSpPr>
              <p:cNvPr id="306" name=""/>
              <p:cNvSpPr/>
              <p:nvPr/>
            </p:nvSpPr>
            <p:spPr>
              <a:xfrm>
                <a:off x="3161520" y="4357800"/>
                <a:ext cx="24955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 1,244.92</a:t>
                </a:r>
                <a:endParaRPr b="0" lang="en-US" sz="3800" spc="-1" strike="noStrike">
                  <a:solidFill>
                    <a:srgbClr val="000000"/>
                  </a:solidFill>
                  <a:latin typeface="Times New Roman"/>
                </a:endParaRPr>
              </a:p>
            </p:txBody>
          </p:sp>
          <p:sp>
            <p:nvSpPr>
              <p:cNvPr id="307" name=""/>
              <p:cNvSpPr/>
              <p:nvPr/>
            </p:nvSpPr>
            <p:spPr>
              <a:xfrm>
                <a:off x="3048120" y="5105520"/>
                <a:ext cx="2840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5689080" y="3809880"/>
              <a:ext cx="2921400" cy="1068840"/>
              <a:chOff x="5689080" y="3809880"/>
              <a:chExt cx="2921400" cy="1068840"/>
            </a:xfrm>
          </p:grpSpPr>
          <p:sp>
            <p:nvSpPr>
              <p:cNvPr id="309" name=""/>
              <p:cNvSpPr/>
              <p:nvPr/>
            </p:nvSpPr>
            <p:spPr>
              <a:xfrm>
                <a:off x="6345360" y="3809880"/>
                <a:ext cx="2265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lution to problem</a:t>
                </a:r>
                <a:endParaRPr b="0" lang="en-US" sz="3200" spc="-1" strike="noStrike">
                  <a:solidFill>
                    <a:srgbClr val="000000"/>
                  </a:solidFill>
                  <a:latin typeface="Times New Roman"/>
                </a:endParaRPr>
              </a:p>
            </p:txBody>
          </p:sp>
          <p:sp>
            <p:nvSpPr>
              <p:cNvPr id="310" name=""/>
              <p:cNvSpPr/>
              <p:nvPr/>
            </p:nvSpPr>
            <p:spPr>
              <a:xfrm>
                <a:off x="6345360" y="4114800"/>
                <a:ext cx="2265120" cy="533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1" name=""/>
              <p:cNvCxnSpPr>
                <a:stCxn id="310" idx="2"/>
                <a:endCxn id="303" idx="6"/>
              </p:cNvCxnSpPr>
              <p:nvPr/>
            </p:nvCxnSpPr>
            <p:spPr>
              <a:xfrm flipV="1" rot="10800000">
                <a:off x="5688720" y="4380480"/>
                <a:ext cx="656640" cy="337320"/>
              </a:xfrm>
              <a:prstGeom prst="curvedConnector5">
                <a:avLst>
                  <a:gd name="adj1" fmla="val 49862"/>
                  <a:gd name="adj2" fmla="val 50000"/>
                  <a:gd name="adj3" fmla="val 49862"/>
                </a:avLst>
              </a:prstGeom>
              <a:ln w="38160">
                <a:solidFill>
                  <a:srgbClr val="000000"/>
                </a:solidFill>
                <a:miter/>
                <a:tailEnd len="med" type="triangle" w="med"/>
              </a:ln>
            </p:spPr>
          </p:cxnSp>
        </p:grpSp>
      </p:grpSp>
      <p:sp>
        <p:nvSpPr>
          <p:cNvPr id="312" name=""/>
          <p:cNvSpPr/>
          <p:nvPr/>
        </p:nvSpPr>
        <p:spPr>
          <a:xfrm>
            <a:off x="6227640" y="5180040"/>
            <a:ext cx="1163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ff"/>
                </a:solidFill>
                <a:latin typeface="Comic Sans MS"/>
              </a:rPr>
              <a:t>OK!</a:t>
            </a:r>
            <a:endParaRPr b="0" lang="en-US" sz="4600" spc="-1" strike="noStrike">
              <a:solidFill>
                <a:srgbClr val="000000"/>
              </a:solidFill>
              <a:latin typeface="Times New Roman"/>
            </a:endParaRPr>
          </a:p>
        </p:txBody>
      </p:sp>
      <p:sp>
        <p:nvSpPr>
          <p:cNvPr id="313" name=""/>
          <p:cNvSpPr/>
          <p:nvPr/>
        </p:nvSpPr>
        <p:spPr>
          <a:xfrm>
            <a:off x="2590920" y="700200"/>
            <a:ext cx="441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cimal Word Problems</a:t>
            </a:r>
            <a:endParaRPr b="0" lang="en-US" sz="2800" spc="-1" strike="noStrike">
              <a:solidFill>
                <a:srgbClr val="000000"/>
              </a:solidFill>
              <a:latin typeface="Times New Roman"/>
            </a:endParaRPr>
          </a:p>
        </p:txBody>
      </p:sp>
    </p:spTree>
  </p:cSld>
  <p:transition>
    <p:cover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00"/>
                                        </p:tgtEl>
                                        <p:attrNameLst>
                                          <p:attrName>style.visibility</p:attrName>
                                        </p:attrNameLst>
                                      </p:cBhvr>
                                      <p:to>
                                        <p:strVal val="visible"/>
                                      </p:to>
                                    </p:set>
                                    <p:animEffect filter="wipe(up)" transition="in">
                                      <p:cBhvr additive="repl">
                                        <p:cTn id="115" dur="500"/>
                                        <p:tgtEl>
                                          <p:spTgt spid="30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301"/>
                                        </p:tgtEl>
                                        <p:attrNameLst>
                                          <p:attrName>style.visibility</p:attrName>
                                        </p:attrNameLst>
                                      </p:cBhvr>
                                      <p:to>
                                        <p:strVal val="visible"/>
                                      </p:to>
                                    </p:set>
                                    <p:animEffect filter="wipe(up)" transition="in">
                                      <p:cBhvr additive="repl">
                                        <p:cTn id="120" dur="500"/>
                                        <p:tgtEl>
                                          <p:spTgt spid="30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04"/>
                                        </p:tgtEl>
                                        <p:attrNameLst>
                                          <p:attrName>style.visibility</p:attrName>
                                        </p:attrNameLst>
                                      </p:cBhvr>
                                      <p:to>
                                        <p:strVal val="visible"/>
                                      </p:to>
                                    </p:set>
                                    <p:animEffect filter="dissolve" transition="in">
                                      <p:cBhvr additive="repl">
                                        <p:cTn id="125" dur="500"/>
                                        <p:tgtEl>
                                          <p:spTgt spid="30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02"/>
                                        </p:tgtEl>
                                        <p:attrNameLst>
                                          <p:attrName>style.visibility</p:attrName>
                                        </p:attrNameLst>
                                      </p:cBhvr>
                                      <p:to>
                                        <p:strVal val="visible"/>
                                      </p:to>
                                    </p:set>
                                    <p:animEffect filter="wipe(up)"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312"/>
                                        </p:tgtEl>
                                        <p:attrNameLst>
                                          <p:attrName>style.visibility</p:attrName>
                                        </p:attrNameLst>
                                      </p:cBhvr>
                                      <p:to>
                                        <p:strVal val="visible"/>
                                      </p:to>
                                    </p:set>
                                    <p:animEffect filter="slide(fromBottom)" transition="in">
                                      <p:cBhvr additive="repl">
                                        <p:cTn id="135"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23:15:18Z</dcterms:created>
  <dc:creator>Community Campus</dc:creator>
  <dc:description/>
  <dc:language>en-US</dc:language>
  <cp:lastModifiedBy>iddcws</cp:lastModifiedBy>
  <dcterms:modified xsi:type="dcterms:W3CDTF">2003-01-28T18:55:51Z</dcterms:modified>
  <cp:revision>205</cp:revision>
  <dc:subject/>
  <dc:title>PowerPoint Presentation</dc:title>
</cp:coreProperties>
</file>