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600" y="4572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5    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6th-8th"/>
          <p:cNvPicPr/>
          <p:nvPr/>
        </p:nvPicPr>
        <p:blipFill>
          <a:blip r:embed="rId1"/>
          <a:stretch/>
        </p:blipFill>
        <p:spPr>
          <a:xfrm>
            <a:off x="2666880" y="1447920"/>
            <a:ext cx="3610080" cy="481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114300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1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Basic Mat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eview I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933800" y="1979640"/>
            <a:ext cx="4241880" cy="360"/>
            <a:chOff x="4933800" y="1979640"/>
            <a:chExt cx="4241880" cy="360"/>
          </a:xfrm>
        </p:grpSpPr>
        <p:sp>
          <p:nvSpPr>
            <p:cNvPr id="44" name=""/>
            <p:cNvSpPr/>
            <p:nvPr/>
          </p:nvSpPr>
          <p:spPr>
            <a:xfrm>
              <a:off x="4933800" y="1979640"/>
              <a:ext cx="424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33800" y="1979640"/>
              <a:ext cx="4241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200400" y="685800"/>
            <a:ext cx="32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91680" y="130032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9280" y="209088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divide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92240" y="2873520"/>
            <a:ext cx="764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operation symbol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ivision to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79640" y="4197240"/>
            <a:ext cx="69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divisor to its recipro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0560" y="5129280"/>
            <a:ext cx="691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out any numerator fact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with any like denominator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62120" y="1447920"/>
            <a:ext cx="7696080" cy="1295280"/>
          </a:xfrm>
          <a:prstGeom prst="wedgeRoundRectCallout">
            <a:avLst>
              <a:gd name="adj1" fmla="val -35787"/>
              <a:gd name="adj2" fmla="val 111027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3 x 23 x 23 x 23 = 23</a:t>
            </a:r>
            <a:r>
              <a:rPr b="0" lang="en-US" sz="4800" spc="-1" strike="noStrike" baseline="30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657600" y="3657600"/>
            <a:ext cx="4419720" cy="127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Exponents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85800" y="3505320"/>
            <a:ext cx="2666880" cy="2666880"/>
            <a:chOff x="685800" y="3505320"/>
            <a:chExt cx="2666880" cy="2666880"/>
          </a:xfrm>
        </p:grpSpPr>
        <p:sp>
          <p:nvSpPr>
            <p:cNvPr id="297" name=""/>
            <p:cNvSpPr/>
            <p:nvPr/>
          </p:nvSpPr>
          <p:spPr>
            <a:xfrm>
              <a:off x="685800" y="3505320"/>
              <a:ext cx="266688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5520" y="3516480"/>
              <a:ext cx="26470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0000" y="3538440"/>
              <a:ext cx="13968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89760" y="3549600"/>
              <a:ext cx="7956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69880" y="3572280"/>
              <a:ext cx="5976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9760" y="3588840"/>
              <a:ext cx="7956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69400" y="3611160"/>
              <a:ext cx="6984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44280" y="3622320"/>
              <a:ext cx="8964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4200" y="3628080"/>
              <a:ext cx="8460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24280" y="3661560"/>
              <a:ext cx="6480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60080" y="3678120"/>
              <a:ext cx="102888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94920" y="3683520"/>
              <a:ext cx="13464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20120" y="3683520"/>
              <a:ext cx="14472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29840" y="3683520"/>
              <a:ext cx="17460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09240" y="3695040"/>
              <a:ext cx="6984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94200" y="3711600"/>
              <a:ext cx="4968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3960" y="3722760"/>
              <a:ext cx="4968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23800" y="3739680"/>
              <a:ext cx="3492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3840" y="3750840"/>
              <a:ext cx="4464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59600" y="3879000"/>
              <a:ext cx="26964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39320" y="3929400"/>
              <a:ext cx="22464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74720" y="3957120"/>
              <a:ext cx="20952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4640" y="3968280"/>
              <a:ext cx="10476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59480" y="3996000"/>
              <a:ext cx="18468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04320" y="4007160"/>
              <a:ext cx="2484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94400" y="4029480"/>
              <a:ext cx="7992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29320" y="4057560"/>
              <a:ext cx="2484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14880" y="4303080"/>
              <a:ext cx="6984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99760" y="4341960"/>
              <a:ext cx="62424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13320" y="4431240"/>
              <a:ext cx="41436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99960" y="4464720"/>
              <a:ext cx="145836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40400" y="4537440"/>
              <a:ext cx="20448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49920" y="4576320"/>
              <a:ext cx="2988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89880" y="4587480"/>
              <a:ext cx="3492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5000" y="4587480"/>
              <a:ext cx="149832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5320" y="4671360"/>
              <a:ext cx="38952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65240" y="4721400"/>
              <a:ext cx="12456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8680" y="4727160"/>
              <a:ext cx="8964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63560" y="4738320"/>
              <a:ext cx="14472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63760" y="4754880"/>
              <a:ext cx="11988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19840" y="4782960"/>
              <a:ext cx="99864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55440" y="4816440"/>
              <a:ext cx="8964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20240" y="4833360"/>
              <a:ext cx="4464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09040" y="4838760"/>
              <a:ext cx="3996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0720" y="4849920"/>
              <a:ext cx="2746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80160" y="4855320"/>
              <a:ext cx="10087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70280" y="4888800"/>
              <a:ext cx="2484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0600" y="5084280"/>
              <a:ext cx="17460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0440" y="5084280"/>
              <a:ext cx="4464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0120" y="5089680"/>
              <a:ext cx="5472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99880" y="5106600"/>
              <a:ext cx="5472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60280" y="5123160"/>
              <a:ext cx="5472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4280" y="5268240"/>
              <a:ext cx="31932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114280" y="5290560"/>
              <a:ext cx="4968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29040" y="5324040"/>
              <a:ext cx="3492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63960" y="5363280"/>
              <a:ext cx="1476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24800" y="5519520"/>
              <a:ext cx="37440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114800" y="4267080"/>
            <a:ext cx="4114800" cy="2057400"/>
            <a:chOff x="4114800" y="4267080"/>
            <a:chExt cx="4114800" cy="2057400"/>
          </a:xfrm>
        </p:grpSpPr>
        <p:sp>
          <p:nvSpPr>
            <p:cNvPr id="355" name=""/>
            <p:cNvSpPr/>
            <p:nvPr/>
          </p:nvSpPr>
          <p:spPr>
            <a:xfrm>
              <a:off x="4114800" y="4267080"/>
              <a:ext cx="4114800" cy="205740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379600">
              <a:off x="5105160" y="510552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Power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437120" y="1219320"/>
            <a:ext cx="640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 times itself 5 ti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48290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onents are shorthand for repeated multiplic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123720" y="2305080"/>
            <a:ext cx="3562200" cy="743040"/>
            <a:chOff x="3123720" y="2305080"/>
            <a:chExt cx="3562200" cy="743040"/>
          </a:xfrm>
        </p:grpSpPr>
        <p:sp>
          <p:nvSpPr>
            <p:cNvPr id="360" name=""/>
            <p:cNvSpPr/>
            <p:nvPr/>
          </p:nvSpPr>
          <p:spPr>
            <a:xfrm flipH="1">
              <a:off x="3123720" y="2585880"/>
              <a:ext cx="114300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39000" y="2305080"/>
              <a:ext cx="244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omic Sans MS"/>
                </a:rPr>
                <a:t>Expon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895120" y="3757680"/>
            <a:ext cx="4356360" cy="703440"/>
            <a:chOff x="2895120" y="3757680"/>
            <a:chExt cx="4356360" cy="703440"/>
          </a:xfrm>
        </p:grpSpPr>
        <p:sp>
          <p:nvSpPr>
            <p:cNvPr id="363" name=""/>
            <p:cNvSpPr/>
            <p:nvPr/>
          </p:nvSpPr>
          <p:spPr>
            <a:xfrm>
              <a:off x="5926320" y="3757680"/>
              <a:ext cx="132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Ba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895120" y="4114800"/>
              <a:ext cx="2971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564200" y="3186000"/>
            <a:ext cx="1659240" cy="1440000"/>
            <a:chOff x="1564200" y="3186000"/>
            <a:chExt cx="1659240" cy="1440000"/>
          </a:xfrm>
        </p:grpSpPr>
        <p:sp>
          <p:nvSpPr>
            <p:cNvPr id="366" name=""/>
            <p:cNvSpPr/>
            <p:nvPr/>
          </p:nvSpPr>
          <p:spPr>
            <a:xfrm>
              <a:off x="1564200" y="31860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Comic Sans MS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5760" y="3313080"/>
              <a:ext cx="517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541680" y="6858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843560" y="1295280"/>
            <a:ext cx="58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3 x 3 x 3 = 3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(27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32960" y="5257800"/>
            <a:ext cx="54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ree cubed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895120" y="2286000"/>
            <a:ext cx="3124800" cy="2514600"/>
            <a:chOff x="2895120" y="2286000"/>
            <a:chExt cx="3124800" cy="2514600"/>
          </a:xfrm>
        </p:grpSpPr>
        <p:sp>
          <p:nvSpPr>
            <p:cNvPr id="372" name=""/>
            <p:cNvSpPr/>
            <p:nvPr/>
          </p:nvSpPr>
          <p:spPr>
            <a:xfrm>
              <a:off x="2895480" y="2286000"/>
              <a:ext cx="3124440" cy="25146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52680" y="24382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24080" y="26668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7600" y="2286000"/>
              <a:ext cx="53352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647960" y="2286000"/>
              <a:ext cx="5331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28954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48320" y="28954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895120" y="350532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2895120" y="42670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410080" y="2819160"/>
              <a:ext cx="609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410080" y="3580920"/>
              <a:ext cx="609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38680" y="26668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67280" y="24382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648320" y="2666880"/>
            <a:ext cx="990360" cy="838440"/>
          </a:xfrm>
          <a:prstGeom prst="cube">
            <a:avLst>
              <a:gd name="adj" fmla="val 2348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75000" y="6588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338560" y="3048120"/>
            <a:ext cx="616680" cy="1752480"/>
            <a:chOff x="2338560" y="3048120"/>
            <a:chExt cx="616680" cy="1752480"/>
          </a:xfrm>
        </p:grpSpPr>
        <p:sp>
          <p:nvSpPr>
            <p:cNvPr id="388" name=""/>
            <p:cNvSpPr/>
            <p:nvPr/>
          </p:nvSpPr>
          <p:spPr>
            <a:xfrm>
              <a:off x="2338560" y="341316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9092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59092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562360" y="4114440"/>
            <a:ext cx="785520" cy="1085040"/>
            <a:chOff x="5562360" y="4114440"/>
            <a:chExt cx="785520" cy="1085040"/>
          </a:xfrm>
        </p:grpSpPr>
        <p:sp>
          <p:nvSpPr>
            <p:cNvPr id="392" name=""/>
            <p:cNvSpPr/>
            <p:nvPr/>
          </p:nvSpPr>
          <p:spPr>
            <a:xfrm>
              <a:off x="5731200" y="41911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562360" y="4724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172200" y="41144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895480" y="4419720"/>
            <a:ext cx="2362320" cy="1008360"/>
            <a:chOff x="2895480" y="4419720"/>
            <a:chExt cx="2362320" cy="1008360"/>
          </a:xfrm>
        </p:grpSpPr>
        <p:sp>
          <p:nvSpPr>
            <p:cNvPr id="396" name=""/>
            <p:cNvSpPr/>
            <p:nvPr/>
          </p:nvSpPr>
          <p:spPr>
            <a:xfrm>
              <a:off x="3902400" y="44197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95680" y="49528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895480" y="4952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580840" y="4419720"/>
            <a:ext cx="36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(-2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= -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90400" y="2438280"/>
            <a:ext cx="38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(-2)</a:t>
            </a:r>
            <a:r>
              <a:rPr b="1" lang="en-US" sz="7200" spc="-1" strike="noStrike" baseline="30000">
                <a:solidFill>
                  <a:srgbClr val="000000"/>
                </a:solidFill>
                <a:latin typeface="Comic Sans MS"/>
              </a:rPr>
              <a:t>4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= 1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827640" y="3033000"/>
            <a:ext cx="3585240" cy="1981800"/>
            <a:chOff x="827640" y="3033000"/>
            <a:chExt cx="3585240" cy="1981800"/>
          </a:xfrm>
        </p:grpSpPr>
        <p:sp>
          <p:nvSpPr>
            <p:cNvPr id="402" name=""/>
            <p:cNvSpPr/>
            <p:nvPr/>
          </p:nvSpPr>
          <p:spPr>
            <a:xfrm>
              <a:off x="827640" y="3657600"/>
              <a:ext cx="358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ase Nega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3" name=""/>
            <p:cNvCxnSpPr>
              <a:stCxn id="402" idx="2"/>
              <a:endCxn id="399" idx="1"/>
            </p:cNvCxnSpPr>
            <p:nvPr/>
          </p:nvCxnSpPr>
          <p:spPr>
            <a:xfrm rot="5400000">
              <a:off x="2010600" y="4404960"/>
              <a:ext cx="656280" cy="564120"/>
            </a:xfrm>
            <a:prstGeom prst="curvedConnector5">
              <a:avLst>
                <a:gd name="adj1" fmla="val 4555"/>
                <a:gd name="adj2" fmla="val 70242"/>
                <a:gd name="adj3" fmla="val 455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4" name=""/>
            <p:cNvCxnSpPr>
              <a:stCxn id="402" idx="0"/>
              <a:endCxn id="400" idx="1"/>
            </p:cNvCxnSpPr>
            <p:nvPr/>
          </p:nvCxnSpPr>
          <p:spPr>
            <a:xfrm flipV="1" rot="16200000">
              <a:off x="1988280" y="3025080"/>
              <a:ext cx="624600" cy="640440"/>
            </a:xfrm>
            <a:prstGeom prst="curvedConnector5">
              <a:avLst>
                <a:gd name="adj1" fmla="val 2249"/>
                <a:gd name="adj2" fmla="val 67829"/>
                <a:gd name="adj3" fmla="val 224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05" name=""/>
          <p:cNvGrpSpPr/>
          <p:nvPr/>
        </p:nvGrpSpPr>
        <p:grpSpPr>
          <a:xfrm>
            <a:off x="914400" y="1447920"/>
            <a:ext cx="3881160" cy="914760"/>
            <a:chOff x="914400" y="1447920"/>
            <a:chExt cx="3881160" cy="914760"/>
          </a:xfrm>
        </p:grpSpPr>
        <p:sp>
          <p:nvSpPr>
            <p:cNvPr id="406" name=""/>
            <p:cNvSpPr/>
            <p:nvPr/>
          </p:nvSpPr>
          <p:spPr>
            <a:xfrm>
              <a:off x="914400" y="1447920"/>
              <a:ext cx="365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Exponent Ev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7" name=""/>
            <p:cNvCxnSpPr>
              <a:stCxn id="406" idx="3"/>
            </p:cNvCxnSpPr>
            <p:nvPr/>
          </p:nvCxnSpPr>
          <p:spPr>
            <a:xfrm flipH="1">
              <a:off x="4190400" y="1798560"/>
              <a:ext cx="376920" cy="564480"/>
            </a:xfrm>
            <a:prstGeom prst="curvedConnector5">
              <a:avLst>
                <a:gd name="adj1" fmla="val -60707"/>
                <a:gd name="adj2" fmla="val 40523"/>
                <a:gd name="adj3" fmla="val -60707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408" name=""/>
          <p:cNvGrpSpPr/>
          <p:nvPr/>
        </p:nvGrpSpPr>
        <p:grpSpPr>
          <a:xfrm>
            <a:off x="737640" y="5141160"/>
            <a:ext cx="3607200" cy="1099800"/>
            <a:chOff x="737640" y="5141160"/>
            <a:chExt cx="3607200" cy="1099800"/>
          </a:xfrm>
        </p:grpSpPr>
        <p:sp>
          <p:nvSpPr>
            <p:cNvPr id="409" name=""/>
            <p:cNvSpPr/>
            <p:nvPr/>
          </p:nvSpPr>
          <p:spPr>
            <a:xfrm>
              <a:off x="737640" y="5659560"/>
              <a:ext cx="292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Comic Sans MS"/>
                </a:rPr>
                <a:t>Exponent O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/>
            <p:nvPr/>
          </p:nvCxnSpPr>
          <p:spPr>
            <a:xfrm flipH="1" flipV="1">
              <a:off x="4060440" y="5141160"/>
              <a:ext cx="54720" cy="808920"/>
            </a:xfrm>
            <a:prstGeom prst="curvedConnector5">
              <a:avLst>
                <a:gd name="adj1" fmla="val -423178"/>
                <a:gd name="adj2" fmla="val 35841"/>
                <a:gd name="adj3" fmla="val -423178"/>
              </a:avLst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</p:grpSp>
      <p:grpSp>
        <p:nvGrpSpPr>
          <p:cNvPr id="411" name=""/>
          <p:cNvGrpSpPr/>
          <p:nvPr/>
        </p:nvGrpSpPr>
        <p:grpSpPr>
          <a:xfrm>
            <a:off x="5562720" y="1371600"/>
            <a:ext cx="3047760" cy="1525680"/>
            <a:chOff x="5562720" y="1371600"/>
            <a:chExt cx="3047760" cy="1525680"/>
          </a:xfrm>
        </p:grpSpPr>
        <p:sp>
          <p:nvSpPr>
            <p:cNvPr id="412" name=""/>
            <p:cNvSpPr/>
            <p:nvPr/>
          </p:nvSpPr>
          <p:spPr>
            <a:xfrm>
              <a:off x="5562720" y="1371600"/>
              <a:ext cx="304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Result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3" name=""/>
            <p:cNvCxnSpPr>
              <a:stCxn id="412" idx="2"/>
              <a:endCxn id="400" idx="3"/>
            </p:cNvCxnSpPr>
            <p:nvPr/>
          </p:nvCxnSpPr>
          <p:spPr>
            <a:xfrm rot="5400000">
              <a:off x="6462000" y="2273040"/>
              <a:ext cx="824760" cy="42444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grpSp>
        <p:nvGrpSpPr>
          <p:cNvPr id="414" name=""/>
          <p:cNvGrpSpPr/>
          <p:nvPr/>
        </p:nvGrpSpPr>
        <p:grpSpPr>
          <a:xfrm>
            <a:off x="5791320" y="5105160"/>
            <a:ext cx="3047760" cy="1449000"/>
            <a:chOff x="5791320" y="5105160"/>
            <a:chExt cx="3047760" cy="1449000"/>
          </a:xfrm>
        </p:grpSpPr>
        <p:sp>
          <p:nvSpPr>
            <p:cNvPr id="415" name=""/>
            <p:cNvSpPr/>
            <p:nvPr/>
          </p:nvSpPr>
          <p:spPr>
            <a:xfrm>
              <a:off x="5791320" y="5729040"/>
              <a:ext cx="304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00"/>
                  </a:solidFill>
                  <a:latin typeface="Comic Sans MS"/>
                </a:rPr>
                <a:t>Result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 (</a:t>
              </a: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-</a:t>
              </a:r>
              <a:r>
                <a:rPr b="0" lang="en-US" sz="4000" spc="-1" strike="noStrike">
                  <a:solidFill>
                    <a:srgbClr val="0066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6" name=""/>
            <p:cNvCxnSpPr>
              <a:stCxn id="415" idx="0"/>
              <a:endCxn id="399" idx="3"/>
            </p:cNvCxnSpPr>
            <p:nvPr/>
          </p:nvCxnSpPr>
          <p:spPr>
            <a:xfrm flipV="1" rot="16200000">
              <a:off x="6714720" y="5128560"/>
              <a:ext cx="624240" cy="577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17" name=""/>
          <p:cNvSpPr/>
          <p:nvPr/>
        </p:nvSpPr>
        <p:spPr>
          <a:xfrm>
            <a:off x="3600360" y="7621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66880" y="1447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inding a “ru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2803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of decimal places in number x exponent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4114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of decimal places in res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1447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use the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48120" y="22096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04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30481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4 • 4 • 4 •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0" y="3048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6 •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30481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05120" y="38829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04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10080" y="38815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14960" y="3881520"/>
            <a:ext cx="205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 00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69480" y="38815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648320" y="4419720"/>
            <a:ext cx="2660400" cy="612000"/>
            <a:chOff x="4648320" y="4419720"/>
            <a:chExt cx="2660400" cy="612000"/>
          </a:xfrm>
        </p:grpSpPr>
        <p:sp>
          <p:nvSpPr>
            <p:cNvPr id="433" name=""/>
            <p:cNvSpPr/>
            <p:nvPr/>
          </p:nvSpPr>
          <p:spPr>
            <a:xfrm>
              <a:off x="5867280" y="45720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65840" y="457200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45080" y="45720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5636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6272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5780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45720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4832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800600" y="4419720"/>
              <a:ext cx="2508120" cy="142920"/>
              <a:chOff x="4800600" y="4419720"/>
              <a:chExt cx="2508120" cy="142920"/>
            </a:xfrm>
          </p:grpSpPr>
          <p:sp>
            <p:nvSpPr>
              <p:cNvPr id="442" name=""/>
              <p:cNvSpPr/>
              <p:nvPr/>
            </p:nvSpPr>
            <p:spPr>
              <a:xfrm>
                <a:off x="4800600" y="4419720"/>
                <a:ext cx="41256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3720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41760" y="4419720"/>
                <a:ext cx="38124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4668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1600" y="4419720"/>
                <a:ext cx="30456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18000" y="4419720"/>
                <a:ext cx="38124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2292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2784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5083200" y="2184480"/>
            <a:ext cx="3451320" cy="32702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685800" y="1447920"/>
            <a:ext cx="7848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cientific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Notation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971640" y="3584520"/>
            <a:ext cx="1390680" cy="1216080"/>
          </a:xfrm>
          <a:custGeom>
            <a:avLst/>
            <a:gdLst/>
            <a:ahLst/>
            <a:rect l="l" t="t" r="r" b="b"/>
            <a:pathLst>
              <a:path w="2978" h="2966">
                <a:moveTo>
                  <a:pt x="2277" y="190"/>
                </a:moveTo>
                <a:lnTo>
                  <a:pt x="1749" y="8"/>
                </a:lnTo>
                <a:lnTo>
                  <a:pt x="1294" y="0"/>
                </a:lnTo>
                <a:lnTo>
                  <a:pt x="791" y="115"/>
                </a:lnTo>
                <a:lnTo>
                  <a:pt x="338" y="463"/>
                </a:lnTo>
                <a:lnTo>
                  <a:pt x="98" y="752"/>
                </a:lnTo>
                <a:lnTo>
                  <a:pt x="0" y="1240"/>
                </a:lnTo>
                <a:lnTo>
                  <a:pt x="139" y="1050"/>
                </a:lnTo>
                <a:lnTo>
                  <a:pt x="90" y="1281"/>
                </a:lnTo>
                <a:lnTo>
                  <a:pt x="123" y="1602"/>
                </a:lnTo>
                <a:lnTo>
                  <a:pt x="238" y="1362"/>
                </a:lnTo>
                <a:lnTo>
                  <a:pt x="168" y="1934"/>
                </a:lnTo>
                <a:lnTo>
                  <a:pt x="420" y="2288"/>
                </a:lnTo>
                <a:lnTo>
                  <a:pt x="890" y="2611"/>
                </a:lnTo>
                <a:lnTo>
                  <a:pt x="495" y="2503"/>
                </a:lnTo>
                <a:lnTo>
                  <a:pt x="90" y="2164"/>
                </a:lnTo>
                <a:lnTo>
                  <a:pt x="371" y="2619"/>
                </a:lnTo>
                <a:lnTo>
                  <a:pt x="1014" y="2834"/>
                </a:lnTo>
                <a:lnTo>
                  <a:pt x="1633" y="2826"/>
                </a:lnTo>
                <a:lnTo>
                  <a:pt x="1294" y="2966"/>
                </a:lnTo>
                <a:lnTo>
                  <a:pt x="1987" y="2950"/>
                </a:lnTo>
                <a:lnTo>
                  <a:pt x="2361" y="2734"/>
                </a:lnTo>
                <a:lnTo>
                  <a:pt x="2632" y="2330"/>
                </a:lnTo>
                <a:lnTo>
                  <a:pt x="2335" y="2479"/>
                </a:lnTo>
                <a:lnTo>
                  <a:pt x="2542" y="2231"/>
                </a:lnTo>
                <a:lnTo>
                  <a:pt x="2690" y="1908"/>
                </a:lnTo>
                <a:lnTo>
                  <a:pt x="2701" y="1938"/>
                </a:lnTo>
                <a:lnTo>
                  <a:pt x="2726" y="2006"/>
                </a:lnTo>
                <a:lnTo>
                  <a:pt x="2755" y="2123"/>
                </a:lnTo>
                <a:lnTo>
                  <a:pt x="2773" y="2100"/>
                </a:lnTo>
                <a:lnTo>
                  <a:pt x="2794" y="2067"/>
                </a:lnTo>
                <a:lnTo>
                  <a:pt x="2819" y="2025"/>
                </a:lnTo>
                <a:lnTo>
                  <a:pt x="2843" y="1983"/>
                </a:lnTo>
                <a:lnTo>
                  <a:pt x="2865" y="1945"/>
                </a:lnTo>
                <a:lnTo>
                  <a:pt x="2887" y="1908"/>
                </a:lnTo>
                <a:lnTo>
                  <a:pt x="2978" y="1586"/>
                </a:lnTo>
                <a:lnTo>
                  <a:pt x="2921" y="1141"/>
                </a:lnTo>
                <a:lnTo>
                  <a:pt x="2854" y="843"/>
                </a:lnTo>
                <a:lnTo>
                  <a:pt x="2566" y="413"/>
                </a:lnTo>
                <a:lnTo>
                  <a:pt x="2277" y="190"/>
                </a:lnTo>
                <a:lnTo>
                  <a:pt x="2277" y="19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79360" y="3821040"/>
            <a:ext cx="984240" cy="852480"/>
          </a:xfrm>
          <a:custGeom>
            <a:avLst/>
            <a:gdLst/>
            <a:ahLst/>
            <a:rect l="l" t="t" r="r" b="b"/>
            <a:pathLst>
              <a:path w="2109" h="2079">
                <a:moveTo>
                  <a:pt x="130" y="653"/>
                </a:moveTo>
                <a:lnTo>
                  <a:pt x="0" y="954"/>
                </a:lnTo>
                <a:lnTo>
                  <a:pt x="14" y="1155"/>
                </a:lnTo>
                <a:lnTo>
                  <a:pt x="73" y="1353"/>
                </a:lnTo>
                <a:lnTo>
                  <a:pt x="126" y="1525"/>
                </a:lnTo>
                <a:lnTo>
                  <a:pt x="262" y="1731"/>
                </a:lnTo>
                <a:lnTo>
                  <a:pt x="928" y="1984"/>
                </a:lnTo>
                <a:lnTo>
                  <a:pt x="1108" y="2079"/>
                </a:lnTo>
                <a:lnTo>
                  <a:pt x="1297" y="2067"/>
                </a:lnTo>
                <a:lnTo>
                  <a:pt x="1439" y="2033"/>
                </a:lnTo>
                <a:lnTo>
                  <a:pt x="1585" y="1972"/>
                </a:lnTo>
                <a:lnTo>
                  <a:pt x="1748" y="1873"/>
                </a:lnTo>
                <a:lnTo>
                  <a:pt x="1882" y="1688"/>
                </a:lnTo>
                <a:lnTo>
                  <a:pt x="2066" y="1327"/>
                </a:lnTo>
                <a:lnTo>
                  <a:pt x="2091" y="1108"/>
                </a:lnTo>
                <a:lnTo>
                  <a:pt x="2109" y="958"/>
                </a:lnTo>
                <a:lnTo>
                  <a:pt x="2087" y="828"/>
                </a:lnTo>
                <a:lnTo>
                  <a:pt x="1864" y="394"/>
                </a:lnTo>
                <a:lnTo>
                  <a:pt x="1589" y="124"/>
                </a:lnTo>
                <a:lnTo>
                  <a:pt x="1465" y="68"/>
                </a:lnTo>
                <a:lnTo>
                  <a:pt x="1173" y="0"/>
                </a:lnTo>
                <a:lnTo>
                  <a:pt x="950" y="81"/>
                </a:lnTo>
                <a:lnTo>
                  <a:pt x="246" y="550"/>
                </a:lnTo>
                <a:lnTo>
                  <a:pt x="130" y="653"/>
                </a:lnTo>
                <a:lnTo>
                  <a:pt x="130" y="653"/>
                </a:lnTo>
                <a:close/>
              </a:path>
            </a:pathLst>
          </a:custGeom>
          <a:solidFill>
            <a:srgbClr val="b2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19240" y="4282920"/>
            <a:ext cx="52560" cy="57240"/>
          </a:xfrm>
          <a:custGeom>
            <a:avLst/>
            <a:gdLst/>
            <a:ahLst/>
            <a:rect l="l" t="t" r="r" b="b"/>
            <a:pathLst>
              <a:path w="116" h="138">
                <a:moveTo>
                  <a:pt x="116" y="0"/>
                </a:moveTo>
                <a:lnTo>
                  <a:pt x="68" y="21"/>
                </a:lnTo>
                <a:lnTo>
                  <a:pt x="0" y="120"/>
                </a:lnTo>
                <a:lnTo>
                  <a:pt x="77" y="138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81160" y="4070520"/>
            <a:ext cx="442800" cy="285480"/>
          </a:xfrm>
          <a:custGeom>
            <a:avLst/>
            <a:gdLst/>
            <a:ahLst/>
            <a:rect l="l" t="t" r="r" b="b"/>
            <a:pathLst>
              <a:path w="950" h="697">
                <a:moveTo>
                  <a:pt x="10" y="546"/>
                </a:moveTo>
                <a:lnTo>
                  <a:pt x="49" y="645"/>
                </a:lnTo>
                <a:lnTo>
                  <a:pt x="61" y="469"/>
                </a:lnTo>
                <a:lnTo>
                  <a:pt x="100" y="517"/>
                </a:lnTo>
                <a:lnTo>
                  <a:pt x="160" y="464"/>
                </a:lnTo>
                <a:lnTo>
                  <a:pt x="191" y="371"/>
                </a:lnTo>
                <a:lnTo>
                  <a:pt x="207" y="456"/>
                </a:lnTo>
                <a:lnTo>
                  <a:pt x="237" y="464"/>
                </a:lnTo>
                <a:lnTo>
                  <a:pt x="237" y="580"/>
                </a:lnTo>
                <a:lnTo>
                  <a:pt x="268" y="679"/>
                </a:lnTo>
                <a:lnTo>
                  <a:pt x="310" y="697"/>
                </a:lnTo>
                <a:lnTo>
                  <a:pt x="366" y="633"/>
                </a:lnTo>
                <a:lnTo>
                  <a:pt x="426" y="628"/>
                </a:lnTo>
                <a:lnTo>
                  <a:pt x="491" y="679"/>
                </a:lnTo>
                <a:lnTo>
                  <a:pt x="461" y="529"/>
                </a:lnTo>
                <a:lnTo>
                  <a:pt x="400" y="491"/>
                </a:lnTo>
                <a:lnTo>
                  <a:pt x="623" y="361"/>
                </a:lnTo>
                <a:lnTo>
                  <a:pt x="705" y="302"/>
                </a:lnTo>
                <a:lnTo>
                  <a:pt x="735" y="361"/>
                </a:lnTo>
                <a:lnTo>
                  <a:pt x="796" y="327"/>
                </a:lnTo>
                <a:lnTo>
                  <a:pt x="869" y="379"/>
                </a:lnTo>
                <a:lnTo>
                  <a:pt x="885" y="306"/>
                </a:lnTo>
                <a:lnTo>
                  <a:pt x="950" y="146"/>
                </a:lnTo>
                <a:lnTo>
                  <a:pt x="932" y="0"/>
                </a:lnTo>
                <a:lnTo>
                  <a:pt x="77" y="219"/>
                </a:lnTo>
                <a:lnTo>
                  <a:pt x="0" y="318"/>
                </a:lnTo>
                <a:lnTo>
                  <a:pt x="6" y="422"/>
                </a:lnTo>
                <a:lnTo>
                  <a:pt x="10" y="546"/>
                </a:lnTo>
                <a:lnTo>
                  <a:pt x="10" y="546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24080" y="4427640"/>
            <a:ext cx="179280" cy="142920"/>
          </a:xfrm>
          <a:custGeom>
            <a:avLst/>
            <a:gdLst/>
            <a:ahLst/>
            <a:rect l="l" t="t" r="r" b="b"/>
            <a:pathLst>
              <a:path w="382" h="349">
                <a:moveTo>
                  <a:pt x="47" y="0"/>
                </a:moveTo>
                <a:lnTo>
                  <a:pt x="0" y="44"/>
                </a:lnTo>
                <a:lnTo>
                  <a:pt x="47" y="113"/>
                </a:lnTo>
                <a:lnTo>
                  <a:pt x="124" y="138"/>
                </a:lnTo>
                <a:lnTo>
                  <a:pt x="60" y="181"/>
                </a:lnTo>
                <a:lnTo>
                  <a:pt x="102" y="259"/>
                </a:lnTo>
                <a:lnTo>
                  <a:pt x="240" y="272"/>
                </a:lnTo>
                <a:lnTo>
                  <a:pt x="382" y="349"/>
                </a:lnTo>
                <a:lnTo>
                  <a:pt x="378" y="215"/>
                </a:lnTo>
                <a:lnTo>
                  <a:pt x="228" y="87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1960" y="4267080"/>
            <a:ext cx="284040" cy="385920"/>
          </a:xfrm>
          <a:custGeom>
            <a:avLst/>
            <a:gdLst/>
            <a:ahLst/>
            <a:rect l="l" t="t" r="r" b="b"/>
            <a:pathLst>
              <a:path w="607" h="941">
                <a:moveTo>
                  <a:pt x="413" y="181"/>
                </a:moveTo>
                <a:lnTo>
                  <a:pt x="319" y="287"/>
                </a:lnTo>
                <a:lnTo>
                  <a:pt x="232" y="347"/>
                </a:lnTo>
                <a:lnTo>
                  <a:pt x="254" y="455"/>
                </a:lnTo>
                <a:lnTo>
                  <a:pt x="185" y="516"/>
                </a:lnTo>
                <a:lnTo>
                  <a:pt x="61" y="575"/>
                </a:lnTo>
                <a:lnTo>
                  <a:pt x="65" y="615"/>
                </a:lnTo>
                <a:lnTo>
                  <a:pt x="0" y="696"/>
                </a:lnTo>
                <a:lnTo>
                  <a:pt x="43" y="757"/>
                </a:lnTo>
                <a:lnTo>
                  <a:pt x="138" y="761"/>
                </a:lnTo>
                <a:lnTo>
                  <a:pt x="193" y="765"/>
                </a:lnTo>
                <a:lnTo>
                  <a:pt x="211" y="816"/>
                </a:lnTo>
                <a:lnTo>
                  <a:pt x="319" y="808"/>
                </a:lnTo>
                <a:lnTo>
                  <a:pt x="482" y="747"/>
                </a:lnTo>
                <a:lnTo>
                  <a:pt x="374" y="834"/>
                </a:lnTo>
                <a:lnTo>
                  <a:pt x="323" y="941"/>
                </a:lnTo>
                <a:lnTo>
                  <a:pt x="593" y="735"/>
                </a:lnTo>
                <a:lnTo>
                  <a:pt x="607" y="623"/>
                </a:lnTo>
                <a:lnTo>
                  <a:pt x="435" y="429"/>
                </a:lnTo>
                <a:lnTo>
                  <a:pt x="524" y="193"/>
                </a:lnTo>
                <a:lnTo>
                  <a:pt x="528" y="0"/>
                </a:lnTo>
                <a:lnTo>
                  <a:pt x="451" y="25"/>
                </a:lnTo>
                <a:lnTo>
                  <a:pt x="400" y="82"/>
                </a:lnTo>
                <a:lnTo>
                  <a:pt x="413" y="181"/>
                </a:lnTo>
                <a:lnTo>
                  <a:pt x="413" y="181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65160" y="3860640"/>
            <a:ext cx="244800" cy="300240"/>
          </a:xfrm>
          <a:custGeom>
            <a:avLst/>
            <a:gdLst/>
            <a:ahLst/>
            <a:rect l="l" t="t" r="r" b="b"/>
            <a:pathLst>
              <a:path w="524" h="730">
                <a:moveTo>
                  <a:pt x="13" y="0"/>
                </a:moveTo>
                <a:lnTo>
                  <a:pt x="0" y="73"/>
                </a:lnTo>
                <a:lnTo>
                  <a:pt x="47" y="116"/>
                </a:lnTo>
                <a:lnTo>
                  <a:pt x="138" y="168"/>
                </a:lnTo>
                <a:lnTo>
                  <a:pt x="193" y="262"/>
                </a:lnTo>
                <a:lnTo>
                  <a:pt x="124" y="306"/>
                </a:lnTo>
                <a:lnTo>
                  <a:pt x="108" y="344"/>
                </a:lnTo>
                <a:lnTo>
                  <a:pt x="185" y="387"/>
                </a:lnTo>
                <a:lnTo>
                  <a:pt x="142" y="434"/>
                </a:lnTo>
                <a:lnTo>
                  <a:pt x="198" y="511"/>
                </a:lnTo>
                <a:lnTo>
                  <a:pt x="283" y="580"/>
                </a:lnTo>
                <a:lnTo>
                  <a:pt x="362" y="588"/>
                </a:lnTo>
                <a:lnTo>
                  <a:pt x="408" y="675"/>
                </a:lnTo>
                <a:lnTo>
                  <a:pt x="524" y="730"/>
                </a:lnTo>
                <a:lnTo>
                  <a:pt x="408" y="490"/>
                </a:lnTo>
                <a:lnTo>
                  <a:pt x="266" y="194"/>
                </a:lnTo>
                <a:lnTo>
                  <a:pt x="65" y="12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68560" y="3798720"/>
            <a:ext cx="595080" cy="524160"/>
          </a:xfrm>
          <a:custGeom>
            <a:avLst/>
            <a:gdLst/>
            <a:ahLst/>
            <a:rect l="l" t="t" r="r" b="b"/>
            <a:pathLst>
              <a:path w="1275" h="1276">
                <a:moveTo>
                  <a:pt x="35" y="696"/>
                </a:moveTo>
                <a:lnTo>
                  <a:pt x="0" y="971"/>
                </a:lnTo>
                <a:lnTo>
                  <a:pt x="5" y="1052"/>
                </a:lnTo>
                <a:lnTo>
                  <a:pt x="35" y="1105"/>
                </a:lnTo>
                <a:lnTo>
                  <a:pt x="94" y="953"/>
                </a:lnTo>
                <a:lnTo>
                  <a:pt x="151" y="910"/>
                </a:lnTo>
                <a:lnTo>
                  <a:pt x="159" y="963"/>
                </a:lnTo>
                <a:lnTo>
                  <a:pt x="287" y="924"/>
                </a:lnTo>
                <a:lnTo>
                  <a:pt x="301" y="975"/>
                </a:lnTo>
                <a:lnTo>
                  <a:pt x="421" y="967"/>
                </a:lnTo>
                <a:lnTo>
                  <a:pt x="403" y="1022"/>
                </a:lnTo>
                <a:lnTo>
                  <a:pt x="399" y="1164"/>
                </a:lnTo>
                <a:lnTo>
                  <a:pt x="421" y="1190"/>
                </a:lnTo>
                <a:lnTo>
                  <a:pt x="490" y="1190"/>
                </a:lnTo>
                <a:lnTo>
                  <a:pt x="528" y="1276"/>
                </a:lnTo>
                <a:lnTo>
                  <a:pt x="670" y="1101"/>
                </a:lnTo>
                <a:lnTo>
                  <a:pt x="622" y="1018"/>
                </a:lnTo>
                <a:lnTo>
                  <a:pt x="695" y="945"/>
                </a:lnTo>
                <a:lnTo>
                  <a:pt x="747" y="902"/>
                </a:lnTo>
                <a:lnTo>
                  <a:pt x="816" y="910"/>
                </a:lnTo>
                <a:lnTo>
                  <a:pt x="884" y="890"/>
                </a:lnTo>
                <a:lnTo>
                  <a:pt x="914" y="967"/>
                </a:lnTo>
                <a:lnTo>
                  <a:pt x="979" y="886"/>
                </a:lnTo>
                <a:lnTo>
                  <a:pt x="1009" y="799"/>
                </a:lnTo>
                <a:lnTo>
                  <a:pt x="1082" y="649"/>
                </a:lnTo>
                <a:lnTo>
                  <a:pt x="1180" y="584"/>
                </a:lnTo>
                <a:lnTo>
                  <a:pt x="1202" y="481"/>
                </a:lnTo>
                <a:lnTo>
                  <a:pt x="1095" y="545"/>
                </a:lnTo>
                <a:lnTo>
                  <a:pt x="1064" y="511"/>
                </a:lnTo>
                <a:lnTo>
                  <a:pt x="902" y="580"/>
                </a:lnTo>
                <a:lnTo>
                  <a:pt x="957" y="464"/>
                </a:lnTo>
                <a:lnTo>
                  <a:pt x="1086" y="412"/>
                </a:lnTo>
                <a:lnTo>
                  <a:pt x="1099" y="361"/>
                </a:lnTo>
                <a:lnTo>
                  <a:pt x="1259" y="292"/>
                </a:lnTo>
                <a:lnTo>
                  <a:pt x="1210" y="253"/>
                </a:lnTo>
                <a:lnTo>
                  <a:pt x="1241" y="215"/>
                </a:lnTo>
                <a:lnTo>
                  <a:pt x="1194" y="162"/>
                </a:lnTo>
                <a:lnTo>
                  <a:pt x="1275" y="111"/>
                </a:lnTo>
                <a:lnTo>
                  <a:pt x="1228" y="46"/>
                </a:lnTo>
                <a:lnTo>
                  <a:pt x="1146" y="0"/>
                </a:lnTo>
                <a:lnTo>
                  <a:pt x="374" y="288"/>
                </a:lnTo>
                <a:lnTo>
                  <a:pt x="35" y="696"/>
                </a:lnTo>
                <a:lnTo>
                  <a:pt x="35" y="696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68560" y="3870360"/>
            <a:ext cx="441000" cy="344520"/>
          </a:xfrm>
          <a:custGeom>
            <a:avLst/>
            <a:gdLst/>
            <a:ahLst/>
            <a:rect l="l" t="t" r="r" b="b"/>
            <a:pathLst>
              <a:path w="949" h="842">
                <a:moveTo>
                  <a:pt x="0" y="842"/>
                </a:moveTo>
                <a:lnTo>
                  <a:pt x="43" y="730"/>
                </a:lnTo>
                <a:lnTo>
                  <a:pt x="106" y="708"/>
                </a:lnTo>
                <a:lnTo>
                  <a:pt x="159" y="625"/>
                </a:lnTo>
                <a:lnTo>
                  <a:pt x="175" y="554"/>
                </a:lnTo>
                <a:lnTo>
                  <a:pt x="266" y="674"/>
                </a:lnTo>
                <a:lnTo>
                  <a:pt x="553" y="541"/>
                </a:lnTo>
                <a:lnTo>
                  <a:pt x="370" y="358"/>
                </a:lnTo>
                <a:lnTo>
                  <a:pt x="717" y="227"/>
                </a:lnTo>
                <a:lnTo>
                  <a:pt x="855" y="244"/>
                </a:lnTo>
                <a:lnTo>
                  <a:pt x="949" y="103"/>
                </a:lnTo>
                <a:lnTo>
                  <a:pt x="794" y="0"/>
                </a:lnTo>
                <a:lnTo>
                  <a:pt x="549" y="107"/>
                </a:lnTo>
                <a:lnTo>
                  <a:pt x="129" y="326"/>
                </a:lnTo>
                <a:lnTo>
                  <a:pt x="5" y="649"/>
                </a:lnTo>
                <a:lnTo>
                  <a:pt x="0" y="842"/>
                </a:lnTo>
                <a:lnTo>
                  <a:pt x="0" y="842"/>
                </a:lnTo>
                <a:close/>
              </a:path>
            </a:pathLst>
          </a:custGeom>
          <a:solidFill>
            <a:srgbClr val="4d9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47760" y="4410000"/>
            <a:ext cx="484200" cy="279360"/>
          </a:xfrm>
          <a:custGeom>
            <a:avLst/>
            <a:gdLst/>
            <a:ahLst/>
            <a:rect l="l" t="t" r="r" b="b"/>
            <a:pathLst>
              <a:path w="1039" h="684">
                <a:moveTo>
                  <a:pt x="9" y="120"/>
                </a:moveTo>
                <a:lnTo>
                  <a:pt x="73" y="151"/>
                </a:lnTo>
                <a:lnTo>
                  <a:pt x="177" y="284"/>
                </a:lnTo>
                <a:lnTo>
                  <a:pt x="306" y="323"/>
                </a:lnTo>
                <a:lnTo>
                  <a:pt x="404" y="319"/>
                </a:lnTo>
                <a:lnTo>
                  <a:pt x="546" y="396"/>
                </a:lnTo>
                <a:lnTo>
                  <a:pt x="512" y="276"/>
                </a:lnTo>
                <a:lnTo>
                  <a:pt x="366" y="203"/>
                </a:lnTo>
                <a:lnTo>
                  <a:pt x="378" y="177"/>
                </a:lnTo>
                <a:lnTo>
                  <a:pt x="211" y="47"/>
                </a:lnTo>
                <a:lnTo>
                  <a:pt x="241" y="18"/>
                </a:lnTo>
                <a:lnTo>
                  <a:pt x="392" y="53"/>
                </a:lnTo>
                <a:lnTo>
                  <a:pt x="434" y="0"/>
                </a:lnTo>
                <a:lnTo>
                  <a:pt x="546" y="9"/>
                </a:lnTo>
                <a:lnTo>
                  <a:pt x="563" y="53"/>
                </a:lnTo>
                <a:lnTo>
                  <a:pt x="649" y="91"/>
                </a:lnTo>
                <a:lnTo>
                  <a:pt x="632" y="138"/>
                </a:lnTo>
                <a:lnTo>
                  <a:pt x="863" y="242"/>
                </a:lnTo>
                <a:lnTo>
                  <a:pt x="838" y="396"/>
                </a:lnTo>
                <a:lnTo>
                  <a:pt x="907" y="426"/>
                </a:lnTo>
                <a:lnTo>
                  <a:pt x="889" y="452"/>
                </a:lnTo>
                <a:lnTo>
                  <a:pt x="1005" y="517"/>
                </a:lnTo>
                <a:lnTo>
                  <a:pt x="1039" y="560"/>
                </a:lnTo>
                <a:lnTo>
                  <a:pt x="936" y="590"/>
                </a:lnTo>
                <a:lnTo>
                  <a:pt x="1001" y="650"/>
                </a:lnTo>
                <a:lnTo>
                  <a:pt x="954" y="684"/>
                </a:lnTo>
                <a:lnTo>
                  <a:pt x="869" y="680"/>
                </a:lnTo>
                <a:lnTo>
                  <a:pt x="747" y="641"/>
                </a:lnTo>
                <a:lnTo>
                  <a:pt x="636" y="650"/>
                </a:lnTo>
                <a:lnTo>
                  <a:pt x="412" y="538"/>
                </a:lnTo>
                <a:lnTo>
                  <a:pt x="272" y="439"/>
                </a:lnTo>
                <a:lnTo>
                  <a:pt x="142" y="375"/>
                </a:lnTo>
                <a:lnTo>
                  <a:pt x="0" y="181"/>
                </a:lnTo>
                <a:lnTo>
                  <a:pt x="9" y="120"/>
                </a:lnTo>
                <a:lnTo>
                  <a:pt x="9" y="120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11160" y="4260960"/>
            <a:ext cx="349560" cy="363600"/>
          </a:xfrm>
          <a:custGeom>
            <a:avLst/>
            <a:gdLst/>
            <a:ahLst/>
            <a:rect l="l" t="t" r="r" b="b"/>
            <a:pathLst>
              <a:path w="747" h="887">
                <a:moveTo>
                  <a:pt x="0" y="641"/>
                </a:moveTo>
                <a:lnTo>
                  <a:pt x="42" y="581"/>
                </a:lnTo>
                <a:lnTo>
                  <a:pt x="46" y="546"/>
                </a:lnTo>
                <a:lnTo>
                  <a:pt x="166" y="469"/>
                </a:lnTo>
                <a:lnTo>
                  <a:pt x="180" y="366"/>
                </a:lnTo>
                <a:lnTo>
                  <a:pt x="209" y="297"/>
                </a:lnTo>
                <a:lnTo>
                  <a:pt x="300" y="189"/>
                </a:lnTo>
                <a:lnTo>
                  <a:pt x="343" y="49"/>
                </a:lnTo>
                <a:lnTo>
                  <a:pt x="381" y="0"/>
                </a:lnTo>
                <a:lnTo>
                  <a:pt x="438" y="35"/>
                </a:lnTo>
                <a:lnTo>
                  <a:pt x="438" y="155"/>
                </a:lnTo>
                <a:lnTo>
                  <a:pt x="510" y="142"/>
                </a:lnTo>
                <a:lnTo>
                  <a:pt x="583" y="61"/>
                </a:lnTo>
                <a:lnTo>
                  <a:pt x="656" y="164"/>
                </a:lnTo>
                <a:lnTo>
                  <a:pt x="690" y="138"/>
                </a:lnTo>
                <a:lnTo>
                  <a:pt x="737" y="35"/>
                </a:lnTo>
                <a:lnTo>
                  <a:pt x="747" y="246"/>
                </a:lnTo>
                <a:lnTo>
                  <a:pt x="712" y="335"/>
                </a:lnTo>
                <a:lnTo>
                  <a:pt x="652" y="461"/>
                </a:lnTo>
                <a:lnTo>
                  <a:pt x="579" y="633"/>
                </a:lnTo>
                <a:lnTo>
                  <a:pt x="519" y="676"/>
                </a:lnTo>
                <a:lnTo>
                  <a:pt x="450" y="809"/>
                </a:lnTo>
                <a:lnTo>
                  <a:pt x="347" y="864"/>
                </a:lnTo>
                <a:lnTo>
                  <a:pt x="274" y="887"/>
                </a:lnTo>
                <a:lnTo>
                  <a:pt x="308" y="822"/>
                </a:lnTo>
                <a:lnTo>
                  <a:pt x="416" y="745"/>
                </a:lnTo>
                <a:lnTo>
                  <a:pt x="428" y="658"/>
                </a:lnTo>
                <a:lnTo>
                  <a:pt x="300" y="727"/>
                </a:lnTo>
                <a:lnTo>
                  <a:pt x="201" y="714"/>
                </a:lnTo>
                <a:lnTo>
                  <a:pt x="209" y="676"/>
                </a:lnTo>
                <a:lnTo>
                  <a:pt x="42" y="676"/>
                </a:lnTo>
                <a:lnTo>
                  <a:pt x="0" y="641"/>
                </a:lnTo>
                <a:lnTo>
                  <a:pt x="0" y="641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95400" y="3865680"/>
            <a:ext cx="268200" cy="317520"/>
          </a:xfrm>
          <a:custGeom>
            <a:avLst/>
            <a:gdLst/>
            <a:ahLst/>
            <a:rect l="l" t="t" r="r" b="b"/>
            <a:pathLst>
              <a:path w="575" h="775">
                <a:moveTo>
                  <a:pt x="0" y="0"/>
                </a:moveTo>
                <a:lnTo>
                  <a:pt x="43" y="87"/>
                </a:lnTo>
                <a:lnTo>
                  <a:pt x="128" y="146"/>
                </a:lnTo>
                <a:lnTo>
                  <a:pt x="141" y="215"/>
                </a:lnTo>
                <a:lnTo>
                  <a:pt x="197" y="254"/>
                </a:lnTo>
                <a:lnTo>
                  <a:pt x="133" y="314"/>
                </a:lnTo>
                <a:lnTo>
                  <a:pt x="189" y="430"/>
                </a:lnTo>
                <a:lnTo>
                  <a:pt x="179" y="474"/>
                </a:lnTo>
                <a:lnTo>
                  <a:pt x="206" y="499"/>
                </a:lnTo>
                <a:lnTo>
                  <a:pt x="297" y="529"/>
                </a:lnTo>
                <a:lnTo>
                  <a:pt x="356" y="586"/>
                </a:lnTo>
                <a:lnTo>
                  <a:pt x="416" y="702"/>
                </a:lnTo>
                <a:lnTo>
                  <a:pt x="563" y="775"/>
                </a:lnTo>
                <a:lnTo>
                  <a:pt x="575" y="693"/>
                </a:lnTo>
                <a:lnTo>
                  <a:pt x="545" y="611"/>
                </a:lnTo>
                <a:lnTo>
                  <a:pt x="485" y="513"/>
                </a:lnTo>
                <a:lnTo>
                  <a:pt x="485" y="452"/>
                </a:lnTo>
                <a:lnTo>
                  <a:pt x="399" y="241"/>
                </a:lnTo>
                <a:lnTo>
                  <a:pt x="301" y="182"/>
                </a:lnTo>
                <a:lnTo>
                  <a:pt x="128" y="44"/>
                </a:lnTo>
                <a:lnTo>
                  <a:pt x="55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09840" y="3755880"/>
            <a:ext cx="145800" cy="73080"/>
          </a:xfrm>
          <a:custGeom>
            <a:avLst/>
            <a:gdLst/>
            <a:ahLst/>
            <a:rect l="l" t="t" r="r" b="b"/>
            <a:pathLst>
              <a:path w="309" h="179">
                <a:moveTo>
                  <a:pt x="0" y="132"/>
                </a:moveTo>
                <a:lnTo>
                  <a:pt x="125" y="0"/>
                </a:lnTo>
                <a:lnTo>
                  <a:pt x="309" y="18"/>
                </a:lnTo>
                <a:lnTo>
                  <a:pt x="183" y="179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e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9920" y="3541680"/>
            <a:ext cx="582840" cy="550800"/>
          </a:xfrm>
          <a:custGeom>
            <a:avLst/>
            <a:gdLst/>
            <a:ahLst/>
            <a:rect l="l" t="t" r="r" b="b"/>
            <a:pathLst>
              <a:path w="1251" h="1340">
                <a:moveTo>
                  <a:pt x="0" y="188"/>
                </a:moveTo>
                <a:lnTo>
                  <a:pt x="571" y="0"/>
                </a:lnTo>
                <a:lnTo>
                  <a:pt x="717" y="476"/>
                </a:lnTo>
                <a:lnTo>
                  <a:pt x="816" y="171"/>
                </a:lnTo>
                <a:lnTo>
                  <a:pt x="1040" y="205"/>
                </a:lnTo>
                <a:lnTo>
                  <a:pt x="1071" y="519"/>
                </a:lnTo>
                <a:lnTo>
                  <a:pt x="946" y="651"/>
                </a:lnTo>
                <a:lnTo>
                  <a:pt x="1109" y="704"/>
                </a:lnTo>
                <a:lnTo>
                  <a:pt x="1251" y="558"/>
                </a:lnTo>
                <a:lnTo>
                  <a:pt x="1251" y="777"/>
                </a:lnTo>
                <a:lnTo>
                  <a:pt x="1158" y="920"/>
                </a:lnTo>
                <a:lnTo>
                  <a:pt x="1031" y="850"/>
                </a:lnTo>
                <a:lnTo>
                  <a:pt x="950" y="933"/>
                </a:lnTo>
                <a:lnTo>
                  <a:pt x="877" y="902"/>
                </a:lnTo>
                <a:lnTo>
                  <a:pt x="958" y="1087"/>
                </a:lnTo>
                <a:lnTo>
                  <a:pt x="764" y="1340"/>
                </a:lnTo>
                <a:lnTo>
                  <a:pt x="464" y="1121"/>
                </a:lnTo>
                <a:lnTo>
                  <a:pt x="0" y="188"/>
                </a:lnTo>
                <a:lnTo>
                  <a:pt x="0" y="18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00160" y="4017960"/>
            <a:ext cx="176040" cy="1522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12"/>
                </a:moveTo>
                <a:lnTo>
                  <a:pt x="90" y="0"/>
                </a:lnTo>
                <a:lnTo>
                  <a:pt x="378" y="112"/>
                </a:lnTo>
                <a:lnTo>
                  <a:pt x="305" y="264"/>
                </a:lnTo>
                <a:lnTo>
                  <a:pt x="215" y="236"/>
                </a:lnTo>
                <a:lnTo>
                  <a:pt x="189" y="369"/>
                </a:lnTo>
                <a:lnTo>
                  <a:pt x="116" y="347"/>
                </a:lnTo>
                <a:lnTo>
                  <a:pt x="116" y="219"/>
                </a:lnTo>
                <a:lnTo>
                  <a:pt x="21" y="193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d1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76440" y="3622680"/>
            <a:ext cx="142920" cy="230040"/>
          </a:xfrm>
          <a:custGeom>
            <a:avLst/>
            <a:gdLst/>
            <a:ahLst/>
            <a:rect l="l" t="t" r="r" b="b"/>
            <a:pathLst>
              <a:path w="304" h="561">
                <a:moveTo>
                  <a:pt x="89" y="0"/>
                </a:moveTo>
                <a:lnTo>
                  <a:pt x="170" y="47"/>
                </a:lnTo>
                <a:lnTo>
                  <a:pt x="186" y="145"/>
                </a:lnTo>
                <a:lnTo>
                  <a:pt x="250" y="179"/>
                </a:lnTo>
                <a:lnTo>
                  <a:pt x="235" y="316"/>
                </a:lnTo>
                <a:lnTo>
                  <a:pt x="304" y="342"/>
                </a:lnTo>
                <a:lnTo>
                  <a:pt x="257" y="539"/>
                </a:lnTo>
                <a:lnTo>
                  <a:pt x="157" y="561"/>
                </a:lnTo>
                <a:lnTo>
                  <a:pt x="168" y="342"/>
                </a:lnTo>
                <a:lnTo>
                  <a:pt x="27" y="320"/>
                </a:lnTo>
                <a:lnTo>
                  <a:pt x="0" y="13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ffd9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62040" y="3622680"/>
            <a:ext cx="57240" cy="133200"/>
          </a:xfrm>
          <a:custGeom>
            <a:avLst/>
            <a:gdLst/>
            <a:ahLst/>
            <a:rect l="l" t="t" r="r" b="b"/>
            <a:pathLst>
              <a:path w="118" h="324">
                <a:moveTo>
                  <a:pt x="7" y="112"/>
                </a:moveTo>
                <a:lnTo>
                  <a:pt x="35" y="33"/>
                </a:lnTo>
                <a:lnTo>
                  <a:pt x="118" y="0"/>
                </a:lnTo>
                <a:lnTo>
                  <a:pt x="85" y="58"/>
                </a:lnTo>
                <a:lnTo>
                  <a:pt x="89" y="116"/>
                </a:lnTo>
                <a:lnTo>
                  <a:pt x="53" y="123"/>
                </a:lnTo>
                <a:lnTo>
                  <a:pt x="78" y="241"/>
                </a:lnTo>
                <a:lnTo>
                  <a:pt x="46" y="244"/>
                </a:lnTo>
                <a:lnTo>
                  <a:pt x="75" y="324"/>
                </a:lnTo>
                <a:lnTo>
                  <a:pt x="13" y="324"/>
                </a:lnTo>
                <a:lnTo>
                  <a:pt x="0" y="170"/>
                </a:lnTo>
                <a:lnTo>
                  <a:pt x="7" y="112"/>
                </a:lnTo>
                <a:lnTo>
                  <a:pt x="7" y="112"/>
                </a:lnTo>
                <a:close/>
              </a:path>
            </a:pathLst>
          </a:custGeom>
          <a:solidFill>
            <a:srgbClr val="e89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5640" y="3622680"/>
            <a:ext cx="374400" cy="453960"/>
          </a:xfrm>
          <a:custGeom>
            <a:avLst/>
            <a:gdLst/>
            <a:ahLst/>
            <a:rect l="l" t="t" r="r" b="b"/>
            <a:pathLst>
              <a:path w="802" h="1110">
                <a:moveTo>
                  <a:pt x="111" y="0"/>
                </a:moveTo>
                <a:lnTo>
                  <a:pt x="233" y="170"/>
                </a:lnTo>
                <a:lnTo>
                  <a:pt x="674" y="962"/>
                </a:lnTo>
                <a:lnTo>
                  <a:pt x="802" y="1110"/>
                </a:lnTo>
                <a:lnTo>
                  <a:pt x="649" y="1060"/>
                </a:lnTo>
                <a:lnTo>
                  <a:pt x="631" y="1023"/>
                </a:lnTo>
                <a:lnTo>
                  <a:pt x="555" y="1088"/>
                </a:lnTo>
                <a:lnTo>
                  <a:pt x="208" y="926"/>
                </a:lnTo>
                <a:lnTo>
                  <a:pt x="67" y="895"/>
                </a:lnTo>
                <a:lnTo>
                  <a:pt x="100" y="665"/>
                </a:lnTo>
                <a:lnTo>
                  <a:pt x="282" y="629"/>
                </a:lnTo>
                <a:lnTo>
                  <a:pt x="0" y="313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509840" y="3805200"/>
            <a:ext cx="99720" cy="119160"/>
          </a:xfrm>
          <a:custGeom>
            <a:avLst/>
            <a:gdLst/>
            <a:ahLst/>
            <a:rect l="l" t="t" r="r" b="b"/>
            <a:pathLst>
              <a:path w="212" h="291">
                <a:moveTo>
                  <a:pt x="18" y="0"/>
                </a:moveTo>
                <a:lnTo>
                  <a:pt x="183" y="58"/>
                </a:lnTo>
                <a:lnTo>
                  <a:pt x="212" y="280"/>
                </a:lnTo>
                <a:lnTo>
                  <a:pt x="172" y="291"/>
                </a:lnTo>
                <a:lnTo>
                  <a:pt x="101" y="259"/>
                </a:lnTo>
                <a:lnTo>
                  <a:pt x="0" y="11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401840" y="3611520"/>
            <a:ext cx="90360" cy="303120"/>
          </a:xfrm>
          <a:custGeom>
            <a:avLst/>
            <a:gdLst/>
            <a:ahLst/>
            <a:rect l="l" t="t" r="r" b="b"/>
            <a:pathLst>
              <a:path w="193" h="740">
                <a:moveTo>
                  <a:pt x="103" y="0"/>
                </a:moveTo>
                <a:lnTo>
                  <a:pt x="0" y="125"/>
                </a:lnTo>
                <a:lnTo>
                  <a:pt x="4" y="305"/>
                </a:lnTo>
                <a:lnTo>
                  <a:pt x="77" y="537"/>
                </a:lnTo>
                <a:lnTo>
                  <a:pt x="193" y="740"/>
                </a:lnTo>
                <a:lnTo>
                  <a:pt x="112" y="146"/>
                </a:lnTo>
                <a:lnTo>
                  <a:pt x="103" y="0"/>
                </a:lnTo>
                <a:lnTo>
                  <a:pt x="103" y="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04840" y="3879720"/>
            <a:ext cx="141480" cy="84240"/>
          </a:xfrm>
          <a:custGeom>
            <a:avLst/>
            <a:gdLst/>
            <a:ahLst/>
            <a:rect l="l" t="t" r="r" b="b"/>
            <a:pathLst>
              <a:path w="300" h="206">
                <a:moveTo>
                  <a:pt x="0" y="48"/>
                </a:moveTo>
                <a:lnTo>
                  <a:pt x="300" y="206"/>
                </a:lnTo>
                <a:lnTo>
                  <a:pt x="111" y="0"/>
                </a:lnTo>
                <a:lnTo>
                  <a:pt x="4" y="26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3622680"/>
            <a:ext cx="96840" cy="111240"/>
          </a:xfrm>
          <a:custGeom>
            <a:avLst/>
            <a:gdLst/>
            <a:ahLst/>
            <a:rect l="l" t="t" r="r" b="b"/>
            <a:pathLst>
              <a:path w="208" h="271">
                <a:moveTo>
                  <a:pt x="0" y="62"/>
                </a:moveTo>
                <a:lnTo>
                  <a:pt x="121" y="271"/>
                </a:lnTo>
                <a:lnTo>
                  <a:pt x="208" y="208"/>
                </a:lnTo>
                <a:lnTo>
                  <a:pt x="114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47760" y="3598920"/>
            <a:ext cx="81000" cy="100080"/>
          </a:xfrm>
          <a:custGeom>
            <a:avLst/>
            <a:gdLst/>
            <a:ahLst/>
            <a:rect l="l" t="t" r="r" b="b"/>
            <a:pathLst>
              <a:path w="174" h="245">
                <a:moveTo>
                  <a:pt x="0" y="54"/>
                </a:moveTo>
                <a:lnTo>
                  <a:pt x="89" y="245"/>
                </a:lnTo>
                <a:lnTo>
                  <a:pt x="174" y="194"/>
                </a:lnTo>
                <a:lnTo>
                  <a:pt x="109" y="0"/>
                </a:lnTo>
                <a:lnTo>
                  <a:pt x="0" y="54"/>
                </a:lnTo>
                <a:lnTo>
                  <a:pt x="0" y="54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38400" y="3759120"/>
            <a:ext cx="71280" cy="88920"/>
          </a:xfrm>
          <a:custGeom>
            <a:avLst/>
            <a:gdLst/>
            <a:ahLst/>
            <a:rect l="l" t="t" r="r" b="b"/>
            <a:pathLst>
              <a:path w="153" h="220">
                <a:moveTo>
                  <a:pt x="0" y="93"/>
                </a:moveTo>
                <a:lnTo>
                  <a:pt x="96" y="220"/>
                </a:lnTo>
                <a:lnTo>
                  <a:pt x="153" y="192"/>
                </a:lnTo>
                <a:lnTo>
                  <a:pt x="65" y="0"/>
                </a:lnTo>
                <a:lnTo>
                  <a:pt x="0" y="93"/>
                </a:lnTo>
                <a:lnTo>
                  <a:pt x="0" y="93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2920" y="3735360"/>
            <a:ext cx="61920" cy="79560"/>
          </a:xfrm>
          <a:custGeom>
            <a:avLst/>
            <a:gdLst/>
            <a:ahLst/>
            <a:rect l="l" t="t" r="r" b="b"/>
            <a:pathLst>
              <a:path w="134" h="193">
                <a:moveTo>
                  <a:pt x="0" y="51"/>
                </a:moveTo>
                <a:lnTo>
                  <a:pt x="81" y="193"/>
                </a:lnTo>
                <a:lnTo>
                  <a:pt x="134" y="171"/>
                </a:lnTo>
                <a:lnTo>
                  <a:pt x="77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11120" y="3890880"/>
            <a:ext cx="49320" cy="55800"/>
          </a:xfrm>
          <a:custGeom>
            <a:avLst/>
            <a:gdLst/>
            <a:ahLst/>
            <a:rect l="l" t="t" r="r" b="b"/>
            <a:pathLst>
              <a:path w="106" h="135">
                <a:moveTo>
                  <a:pt x="0" y="43"/>
                </a:moveTo>
                <a:lnTo>
                  <a:pt x="50" y="0"/>
                </a:lnTo>
                <a:lnTo>
                  <a:pt x="106" y="110"/>
                </a:lnTo>
                <a:lnTo>
                  <a:pt x="73" y="135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76280" y="3986280"/>
            <a:ext cx="39600" cy="41040"/>
          </a:xfrm>
          <a:custGeom>
            <a:avLst/>
            <a:gdLst/>
            <a:ahLst/>
            <a:rect l="l" t="t" r="r" b="b"/>
            <a:pathLst>
              <a:path w="85" h="102">
                <a:moveTo>
                  <a:pt x="0" y="25"/>
                </a:moveTo>
                <a:lnTo>
                  <a:pt x="36" y="0"/>
                </a:lnTo>
                <a:lnTo>
                  <a:pt x="85" y="81"/>
                </a:lnTo>
                <a:lnTo>
                  <a:pt x="48" y="102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27040" y="3951360"/>
            <a:ext cx="39960" cy="47520"/>
          </a:xfrm>
          <a:custGeom>
            <a:avLst/>
            <a:gdLst/>
            <a:ahLst/>
            <a:rect l="l" t="t" r="r" b="b"/>
            <a:pathLst>
              <a:path w="84" h="113">
                <a:moveTo>
                  <a:pt x="0" y="30"/>
                </a:moveTo>
                <a:lnTo>
                  <a:pt x="38" y="0"/>
                </a:lnTo>
                <a:lnTo>
                  <a:pt x="84" y="84"/>
                </a:lnTo>
                <a:lnTo>
                  <a:pt x="56" y="113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3040" y="3855960"/>
            <a:ext cx="55800" cy="55800"/>
          </a:xfrm>
          <a:custGeom>
            <a:avLst/>
            <a:gdLst/>
            <a:ahLst/>
            <a:rect l="l" t="t" r="r" b="b"/>
            <a:pathLst>
              <a:path w="120" h="136">
                <a:moveTo>
                  <a:pt x="0" y="48"/>
                </a:moveTo>
                <a:lnTo>
                  <a:pt x="65" y="0"/>
                </a:lnTo>
                <a:lnTo>
                  <a:pt x="120" y="121"/>
                </a:lnTo>
                <a:lnTo>
                  <a:pt x="76" y="136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87520" y="3643200"/>
            <a:ext cx="54000" cy="44640"/>
          </a:xfrm>
          <a:custGeom>
            <a:avLst/>
            <a:gdLst/>
            <a:ahLst/>
            <a:rect l="l" t="t" r="r" b="b"/>
            <a:pathLst>
              <a:path w="118" h="108">
                <a:moveTo>
                  <a:pt x="0" y="3"/>
                </a:moveTo>
                <a:lnTo>
                  <a:pt x="118" y="0"/>
                </a:lnTo>
                <a:lnTo>
                  <a:pt x="109" y="108"/>
                </a:lnTo>
                <a:lnTo>
                  <a:pt x="0" y="97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94000" y="3720960"/>
            <a:ext cx="50760" cy="38160"/>
          </a:xfrm>
          <a:custGeom>
            <a:avLst/>
            <a:gdLst/>
            <a:ahLst/>
            <a:rect l="l" t="t" r="r" b="b"/>
            <a:pathLst>
              <a:path w="107" h="96">
                <a:moveTo>
                  <a:pt x="0" y="0"/>
                </a:moveTo>
                <a:lnTo>
                  <a:pt x="100" y="4"/>
                </a:lnTo>
                <a:lnTo>
                  <a:pt x="107" y="89"/>
                </a:lnTo>
                <a:lnTo>
                  <a:pt x="11" y="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95480" y="3711600"/>
            <a:ext cx="54000" cy="52200"/>
          </a:xfrm>
          <a:custGeom>
            <a:avLst/>
            <a:gdLst/>
            <a:ahLst/>
            <a:rect l="l" t="t" r="r" b="b"/>
            <a:pathLst>
              <a:path w="117" h="129">
                <a:moveTo>
                  <a:pt x="0" y="47"/>
                </a:moveTo>
                <a:lnTo>
                  <a:pt x="92" y="129"/>
                </a:lnTo>
                <a:lnTo>
                  <a:pt x="117" y="124"/>
                </a:lnTo>
                <a:lnTo>
                  <a:pt x="15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84320" y="3760920"/>
            <a:ext cx="36360" cy="33120"/>
          </a:xfrm>
          <a:custGeom>
            <a:avLst/>
            <a:gdLst/>
            <a:ahLst/>
            <a:rect l="l" t="t" r="r" b="b"/>
            <a:pathLst>
              <a:path w="76" h="80">
                <a:moveTo>
                  <a:pt x="3" y="0"/>
                </a:moveTo>
                <a:lnTo>
                  <a:pt x="76" y="69"/>
                </a:lnTo>
                <a:lnTo>
                  <a:pt x="37" y="80"/>
                </a:lnTo>
                <a:lnTo>
                  <a:pt x="0" y="47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9480" y="3832200"/>
            <a:ext cx="41040" cy="3168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30"/>
                </a:moveTo>
                <a:lnTo>
                  <a:pt x="47" y="78"/>
                </a:lnTo>
                <a:lnTo>
                  <a:pt x="85" y="78"/>
                </a:lnTo>
                <a:lnTo>
                  <a:pt x="5" y="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77920" y="3813120"/>
            <a:ext cx="39600" cy="50760"/>
          </a:xfrm>
          <a:custGeom>
            <a:avLst/>
            <a:gdLst/>
            <a:ahLst/>
            <a:rect l="l" t="t" r="r" b="b"/>
            <a:pathLst>
              <a:path w="85" h="124">
                <a:moveTo>
                  <a:pt x="0" y="51"/>
                </a:moveTo>
                <a:lnTo>
                  <a:pt x="46" y="112"/>
                </a:lnTo>
                <a:lnTo>
                  <a:pt x="85" y="124"/>
                </a:lnTo>
                <a:lnTo>
                  <a:pt x="4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31920" y="3913200"/>
            <a:ext cx="41400" cy="39600"/>
          </a:xfrm>
          <a:custGeom>
            <a:avLst/>
            <a:gdLst/>
            <a:ahLst/>
            <a:rect l="l" t="t" r="r" b="b"/>
            <a:pathLst>
              <a:path w="90" h="96">
                <a:moveTo>
                  <a:pt x="0" y="26"/>
                </a:moveTo>
                <a:lnTo>
                  <a:pt x="32" y="80"/>
                </a:lnTo>
                <a:lnTo>
                  <a:pt x="90" y="96"/>
                </a:lnTo>
                <a:lnTo>
                  <a:pt x="2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74600" y="3919680"/>
            <a:ext cx="47880" cy="75960"/>
          </a:xfrm>
          <a:custGeom>
            <a:avLst/>
            <a:gdLst/>
            <a:ahLst/>
            <a:rect l="l" t="t" r="r" b="b"/>
            <a:pathLst>
              <a:path w="103" h="187">
                <a:moveTo>
                  <a:pt x="44" y="0"/>
                </a:moveTo>
                <a:lnTo>
                  <a:pt x="0" y="176"/>
                </a:lnTo>
                <a:lnTo>
                  <a:pt x="77" y="187"/>
                </a:lnTo>
                <a:lnTo>
                  <a:pt x="103" y="37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149480" y="3951360"/>
            <a:ext cx="46080" cy="69840"/>
          </a:xfrm>
          <a:custGeom>
            <a:avLst/>
            <a:gdLst/>
            <a:ahLst/>
            <a:rect l="l" t="t" r="r" b="b"/>
            <a:pathLst>
              <a:path w="101" h="172">
                <a:moveTo>
                  <a:pt x="26" y="0"/>
                </a:moveTo>
                <a:lnTo>
                  <a:pt x="0" y="140"/>
                </a:lnTo>
                <a:lnTo>
                  <a:pt x="76" y="172"/>
                </a:lnTo>
                <a:lnTo>
                  <a:pt x="101" y="45"/>
                </a:lnTo>
                <a:lnTo>
                  <a:pt x="26" y="0"/>
                </a:lnTo>
                <a:lnTo>
                  <a:pt x="26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11400" y="3986280"/>
            <a:ext cx="41040" cy="58680"/>
          </a:xfrm>
          <a:custGeom>
            <a:avLst/>
            <a:gdLst/>
            <a:ahLst/>
            <a:rect l="l" t="t" r="r" b="b"/>
            <a:pathLst>
              <a:path w="88" h="142">
                <a:moveTo>
                  <a:pt x="37" y="0"/>
                </a:moveTo>
                <a:lnTo>
                  <a:pt x="0" y="130"/>
                </a:lnTo>
                <a:lnTo>
                  <a:pt x="43" y="142"/>
                </a:lnTo>
                <a:lnTo>
                  <a:pt x="88" y="43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0600" y="3997440"/>
            <a:ext cx="46080" cy="36360"/>
          </a:xfrm>
          <a:custGeom>
            <a:avLst/>
            <a:gdLst/>
            <a:ahLst/>
            <a:rect l="l" t="t" r="r" b="b"/>
            <a:pathLst>
              <a:path w="99" h="89">
                <a:moveTo>
                  <a:pt x="0" y="0"/>
                </a:moveTo>
                <a:lnTo>
                  <a:pt x="49" y="66"/>
                </a:lnTo>
                <a:lnTo>
                  <a:pt x="99" y="89"/>
                </a:lnTo>
                <a:lnTo>
                  <a:pt x="30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54160" y="4103640"/>
            <a:ext cx="46080" cy="52560"/>
          </a:xfrm>
          <a:custGeom>
            <a:avLst/>
            <a:gdLst/>
            <a:ahLst/>
            <a:rect l="l" t="t" r="r" b="b"/>
            <a:pathLst>
              <a:path w="98" h="130">
                <a:moveTo>
                  <a:pt x="6" y="0"/>
                </a:moveTo>
                <a:lnTo>
                  <a:pt x="0" y="45"/>
                </a:lnTo>
                <a:lnTo>
                  <a:pt x="83" y="130"/>
                </a:lnTo>
                <a:lnTo>
                  <a:pt x="98" y="2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96920" y="4016520"/>
            <a:ext cx="166680" cy="80640"/>
          </a:xfrm>
          <a:custGeom>
            <a:avLst/>
            <a:gdLst/>
            <a:ahLst/>
            <a:rect l="l" t="t" r="r" b="b"/>
            <a:pathLst>
              <a:path w="356" h="197">
                <a:moveTo>
                  <a:pt x="0" y="38"/>
                </a:moveTo>
                <a:lnTo>
                  <a:pt x="206" y="124"/>
                </a:lnTo>
                <a:lnTo>
                  <a:pt x="325" y="197"/>
                </a:lnTo>
                <a:lnTo>
                  <a:pt x="356" y="162"/>
                </a:lnTo>
                <a:lnTo>
                  <a:pt x="309" y="107"/>
                </a:lnTo>
                <a:lnTo>
                  <a:pt x="64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07960" y="4149720"/>
            <a:ext cx="122400" cy="147600"/>
          </a:xfrm>
          <a:custGeom>
            <a:avLst/>
            <a:gdLst/>
            <a:ahLst/>
            <a:rect l="l" t="t" r="r" b="b"/>
            <a:pathLst>
              <a:path w="262" h="357">
                <a:moveTo>
                  <a:pt x="51" y="357"/>
                </a:moveTo>
                <a:lnTo>
                  <a:pt x="59" y="301"/>
                </a:lnTo>
                <a:lnTo>
                  <a:pt x="25" y="262"/>
                </a:lnTo>
                <a:lnTo>
                  <a:pt x="55" y="224"/>
                </a:lnTo>
                <a:lnTo>
                  <a:pt x="0" y="193"/>
                </a:lnTo>
                <a:lnTo>
                  <a:pt x="77" y="116"/>
                </a:lnTo>
                <a:lnTo>
                  <a:pt x="158" y="43"/>
                </a:lnTo>
                <a:lnTo>
                  <a:pt x="244" y="0"/>
                </a:lnTo>
                <a:lnTo>
                  <a:pt x="262" y="31"/>
                </a:lnTo>
                <a:lnTo>
                  <a:pt x="150" y="112"/>
                </a:lnTo>
                <a:lnTo>
                  <a:pt x="106" y="189"/>
                </a:lnTo>
                <a:lnTo>
                  <a:pt x="154" y="246"/>
                </a:lnTo>
                <a:lnTo>
                  <a:pt x="51" y="357"/>
                </a:lnTo>
                <a:lnTo>
                  <a:pt x="51" y="357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85800" y="4006800"/>
            <a:ext cx="142920" cy="189000"/>
          </a:xfrm>
          <a:custGeom>
            <a:avLst/>
            <a:gdLst/>
            <a:ahLst/>
            <a:rect l="l" t="t" r="r" b="b"/>
            <a:pathLst>
              <a:path w="309" h="460">
                <a:moveTo>
                  <a:pt x="21" y="460"/>
                </a:moveTo>
                <a:lnTo>
                  <a:pt x="39" y="365"/>
                </a:lnTo>
                <a:lnTo>
                  <a:pt x="0" y="288"/>
                </a:lnTo>
                <a:lnTo>
                  <a:pt x="47" y="219"/>
                </a:lnTo>
                <a:lnTo>
                  <a:pt x="86" y="133"/>
                </a:lnTo>
                <a:lnTo>
                  <a:pt x="189" y="77"/>
                </a:lnTo>
                <a:lnTo>
                  <a:pt x="283" y="0"/>
                </a:lnTo>
                <a:lnTo>
                  <a:pt x="309" y="8"/>
                </a:lnTo>
                <a:lnTo>
                  <a:pt x="287" y="77"/>
                </a:lnTo>
                <a:lnTo>
                  <a:pt x="189" y="142"/>
                </a:lnTo>
                <a:lnTo>
                  <a:pt x="86" y="300"/>
                </a:lnTo>
                <a:lnTo>
                  <a:pt x="108" y="361"/>
                </a:lnTo>
                <a:lnTo>
                  <a:pt x="21" y="460"/>
                </a:lnTo>
                <a:lnTo>
                  <a:pt x="21" y="46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49440" y="3821040"/>
            <a:ext cx="214200" cy="223920"/>
          </a:xfrm>
          <a:custGeom>
            <a:avLst/>
            <a:gdLst/>
            <a:ahLst/>
            <a:rect l="l" t="t" r="r" b="b"/>
            <a:pathLst>
              <a:path w="459" h="546">
                <a:moveTo>
                  <a:pt x="35" y="546"/>
                </a:moveTo>
                <a:lnTo>
                  <a:pt x="0" y="528"/>
                </a:lnTo>
                <a:lnTo>
                  <a:pt x="51" y="438"/>
                </a:lnTo>
                <a:lnTo>
                  <a:pt x="94" y="369"/>
                </a:lnTo>
                <a:lnTo>
                  <a:pt x="167" y="331"/>
                </a:lnTo>
                <a:lnTo>
                  <a:pt x="141" y="309"/>
                </a:lnTo>
                <a:lnTo>
                  <a:pt x="193" y="274"/>
                </a:lnTo>
                <a:lnTo>
                  <a:pt x="309" y="232"/>
                </a:lnTo>
                <a:lnTo>
                  <a:pt x="262" y="209"/>
                </a:lnTo>
                <a:lnTo>
                  <a:pt x="313" y="149"/>
                </a:lnTo>
                <a:lnTo>
                  <a:pt x="270" y="128"/>
                </a:lnTo>
                <a:lnTo>
                  <a:pt x="356" y="63"/>
                </a:lnTo>
                <a:lnTo>
                  <a:pt x="403" y="33"/>
                </a:lnTo>
                <a:lnTo>
                  <a:pt x="382" y="0"/>
                </a:lnTo>
                <a:lnTo>
                  <a:pt x="459" y="59"/>
                </a:lnTo>
                <a:lnTo>
                  <a:pt x="378" y="110"/>
                </a:lnTo>
                <a:lnTo>
                  <a:pt x="403" y="141"/>
                </a:lnTo>
                <a:lnTo>
                  <a:pt x="368" y="205"/>
                </a:lnTo>
                <a:lnTo>
                  <a:pt x="443" y="240"/>
                </a:lnTo>
                <a:lnTo>
                  <a:pt x="421" y="262"/>
                </a:lnTo>
                <a:lnTo>
                  <a:pt x="283" y="309"/>
                </a:lnTo>
                <a:lnTo>
                  <a:pt x="270" y="360"/>
                </a:lnTo>
                <a:lnTo>
                  <a:pt x="141" y="412"/>
                </a:lnTo>
                <a:lnTo>
                  <a:pt x="35" y="546"/>
                </a:lnTo>
                <a:lnTo>
                  <a:pt x="35" y="54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20960" y="3871800"/>
            <a:ext cx="244440" cy="311400"/>
          </a:xfrm>
          <a:custGeom>
            <a:avLst/>
            <a:gdLst/>
            <a:ahLst/>
            <a:rect l="l" t="t" r="r" b="b"/>
            <a:pathLst>
              <a:path w="524" h="761">
                <a:moveTo>
                  <a:pt x="0" y="0"/>
                </a:moveTo>
                <a:lnTo>
                  <a:pt x="112" y="116"/>
                </a:lnTo>
                <a:lnTo>
                  <a:pt x="146" y="168"/>
                </a:lnTo>
                <a:lnTo>
                  <a:pt x="236" y="245"/>
                </a:lnTo>
                <a:lnTo>
                  <a:pt x="313" y="280"/>
                </a:lnTo>
                <a:lnTo>
                  <a:pt x="339" y="365"/>
                </a:lnTo>
                <a:lnTo>
                  <a:pt x="293" y="365"/>
                </a:lnTo>
                <a:lnTo>
                  <a:pt x="297" y="430"/>
                </a:lnTo>
                <a:lnTo>
                  <a:pt x="352" y="481"/>
                </a:lnTo>
                <a:lnTo>
                  <a:pt x="339" y="515"/>
                </a:lnTo>
                <a:lnTo>
                  <a:pt x="439" y="580"/>
                </a:lnTo>
                <a:lnTo>
                  <a:pt x="451" y="641"/>
                </a:lnTo>
                <a:lnTo>
                  <a:pt x="498" y="704"/>
                </a:lnTo>
                <a:lnTo>
                  <a:pt x="425" y="700"/>
                </a:lnTo>
                <a:lnTo>
                  <a:pt x="508" y="761"/>
                </a:lnTo>
                <a:lnTo>
                  <a:pt x="524" y="649"/>
                </a:lnTo>
                <a:lnTo>
                  <a:pt x="430" y="499"/>
                </a:lnTo>
                <a:lnTo>
                  <a:pt x="344" y="227"/>
                </a:lnTo>
                <a:lnTo>
                  <a:pt x="211" y="142"/>
                </a:lnTo>
                <a:lnTo>
                  <a:pt x="73" y="3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52640" y="4264200"/>
            <a:ext cx="206280" cy="350640"/>
          </a:xfrm>
          <a:custGeom>
            <a:avLst/>
            <a:gdLst/>
            <a:ahLst/>
            <a:rect l="l" t="t" r="r" b="b"/>
            <a:pathLst>
              <a:path w="443" h="855">
                <a:moveTo>
                  <a:pt x="103" y="0"/>
                </a:moveTo>
                <a:lnTo>
                  <a:pt x="86" y="26"/>
                </a:lnTo>
                <a:lnTo>
                  <a:pt x="73" y="91"/>
                </a:lnTo>
                <a:lnTo>
                  <a:pt x="108" y="206"/>
                </a:lnTo>
                <a:lnTo>
                  <a:pt x="59" y="275"/>
                </a:lnTo>
                <a:lnTo>
                  <a:pt x="138" y="259"/>
                </a:lnTo>
                <a:lnTo>
                  <a:pt x="98" y="365"/>
                </a:lnTo>
                <a:lnTo>
                  <a:pt x="30" y="521"/>
                </a:lnTo>
                <a:lnTo>
                  <a:pt x="150" y="478"/>
                </a:lnTo>
                <a:lnTo>
                  <a:pt x="128" y="551"/>
                </a:lnTo>
                <a:lnTo>
                  <a:pt x="189" y="576"/>
                </a:lnTo>
                <a:lnTo>
                  <a:pt x="94" y="610"/>
                </a:lnTo>
                <a:lnTo>
                  <a:pt x="51" y="654"/>
                </a:lnTo>
                <a:lnTo>
                  <a:pt x="0" y="718"/>
                </a:lnTo>
                <a:lnTo>
                  <a:pt x="128" y="649"/>
                </a:lnTo>
                <a:lnTo>
                  <a:pt x="146" y="727"/>
                </a:lnTo>
                <a:lnTo>
                  <a:pt x="94" y="791"/>
                </a:lnTo>
                <a:lnTo>
                  <a:pt x="47" y="855"/>
                </a:lnTo>
                <a:lnTo>
                  <a:pt x="150" y="800"/>
                </a:lnTo>
                <a:lnTo>
                  <a:pt x="219" y="667"/>
                </a:lnTo>
                <a:lnTo>
                  <a:pt x="292" y="598"/>
                </a:lnTo>
                <a:lnTo>
                  <a:pt x="335" y="507"/>
                </a:lnTo>
                <a:lnTo>
                  <a:pt x="343" y="421"/>
                </a:lnTo>
                <a:lnTo>
                  <a:pt x="437" y="288"/>
                </a:lnTo>
                <a:lnTo>
                  <a:pt x="443" y="198"/>
                </a:lnTo>
                <a:lnTo>
                  <a:pt x="443" y="0"/>
                </a:lnTo>
                <a:lnTo>
                  <a:pt x="356" y="155"/>
                </a:lnTo>
                <a:lnTo>
                  <a:pt x="317" y="133"/>
                </a:lnTo>
                <a:lnTo>
                  <a:pt x="283" y="52"/>
                </a:lnTo>
                <a:lnTo>
                  <a:pt x="232" y="78"/>
                </a:lnTo>
                <a:lnTo>
                  <a:pt x="210" y="133"/>
                </a:lnTo>
                <a:lnTo>
                  <a:pt x="138" y="146"/>
                </a:lnTo>
                <a:lnTo>
                  <a:pt x="138" y="26"/>
                </a:lnTo>
                <a:lnTo>
                  <a:pt x="103" y="0"/>
                </a:lnTo>
                <a:lnTo>
                  <a:pt x="103" y="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46440" y="4483080"/>
            <a:ext cx="99720" cy="5076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0" y="103"/>
                </a:moveTo>
                <a:lnTo>
                  <a:pt x="115" y="77"/>
                </a:lnTo>
                <a:lnTo>
                  <a:pt x="209" y="0"/>
                </a:lnTo>
                <a:lnTo>
                  <a:pt x="213" y="57"/>
                </a:lnTo>
                <a:lnTo>
                  <a:pt x="175" y="99"/>
                </a:lnTo>
                <a:lnTo>
                  <a:pt x="89" y="121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92200" y="4413240"/>
            <a:ext cx="239760" cy="276120"/>
          </a:xfrm>
          <a:custGeom>
            <a:avLst/>
            <a:gdLst/>
            <a:ahLst/>
            <a:rect l="l" t="t" r="r" b="b"/>
            <a:pathLst>
              <a:path w="515" h="675">
                <a:moveTo>
                  <a:pt x="10" y="48"/>
                </a:moveTo>
                <a:lnTo>
                  <a:pt x="30" y="95"/>
                </a:lnTo>
                <a:lnTo>
                  <a:pt x="4" y="117"/>
                </a:lnTo>
                <a:lnTo>
                  <a:pt x="69" y="160"/>
                </a:lnTo>
                <a:lnTo>
                  <a:pt x="0" y="180"/>
                </a:lnTo>
                <a:lnTo>
                  <a:pt x="125" y="259"/>
                </a:lnTo>
                <a:lnTo>
                  <a:pt x="207" y="306"/>
                </a:lnTo>
                <a:lnTo>
                  <a:pt x="215" y="353"/>
                </a:lnTo>
                <a:lnTo>
                  <a:pt x="176" y="387"/>
                </a:lnTo>
                <a:lnTo>
                  <a:pt x="241" y="430"/>
                </a:lnTo>
                <a:lnTo>
                  <a:pt x="233" y="482"/>
                </a:lnTo>
                <a:lnTo>
                  <a:pt x="349" y="508"/>
                </a:lnTo>
                <a:lnTo>
                  <a:pt x="426" y="529"/>
                </a:lnTo>
                <a:lnTo>
                  <a:pt x="339" y="585"/>
                </a:lnTo>
                <a:lnTo>
                  <a:pt x="310" y="606"/>
                </a:lnTo>
                <a:lnTo>
                  <a:pt x="369" y="636"/>
                </a:lnTo>
                <a:lnTo>
                  <a:pt x="430" y="675"/>
                </a:lnTo>
                <a:lnTo>
                  <a:pt x="477" y="641"/>
                </a:lnTo>
                <a:lnTo>
                  <a:pt x="412" y="581"/>
                </a:lnTo>
                <a:lnTo>
                  <a:pt x="515" y="529"/>
                </a:lnTo>
                <a:lnTo>
                  <a:pt x="365" y="443"/>
                </a:lnTo>
                <a:lnTo>
                  <a:pt x="383" y="417"/>
                </a:lnTo>
                <a:lnTo>
                  <a:pt x="292" y="387"/>
                </a:lnTo>
                <a:lnTo>
                  <a:pt x="339" y="233"/>
                </a:lnTo>
                <a:lnTo>
                  <a:pt x="108" y="129"/>
                </a:lnTo>
                <a:lnTo>
                  <a:pt x="125" y="82"/>
                </a:lnTo>
                <a:lnTo>
                  <a:pt x="39" y="44"/>
                </a:lnTo>
                <a:lnTo>
                  <a:pt x="22" y="0"/>
                </a:lnTo>
                <a:lnTo>
                  <a:pt x="10" y="48"/>
                </a:lnTo>
                <a:lnTo>
                  <a:pt x="10" y="48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93960" y="4079880"/>
            <a:ext cx="92160" cy="101520"/>
          </a:xfrm>
          <a:custGeom>
            <a:avLst/>
            <a:gdLst/>
            <a:ahLst/>
            <a:rect l="l" t="t" r="r" b="b"/>
            <a:pathLst>
              <a:path w="200" h="251">
                <a:moveTo>
                  <a:pt x="2" y="0"/>
                </a:moveTo>
                <a:lnTo>
                  <a:pt x="103" y="26"/>
                </a:lnTo>
                <a:lnTo>
                  <a:pt x="200" y="95"/>
                </a:lnTo>
                <a:lnTo>
                  <a:pt x="179" y="251"/>
                </a:lnTo>
                <a:lnTo>
                  <a:pt x="125" y="185"/>
                </a:lnTo>
                <a:lnTo>
                  <a:pt x="78" y="215"/>
                </a:lnTo>
                <a:lnTo>
                  <a:pt x="0" y="83"/>
                </a:lnTo>
                <a:lnTo>
                  <a:pt x="33" y="64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22400" y="4092480"/>
            <a:ext cx="63720" cy="61920"/>
          </a:xfrm>
          <a:custGeom>
            <a:avLst/>
            <a:gdLst/>
            <a:ahLst/>
            <a:rect l="l" t="t" r="r" b="b"/>
            <a:pathLst>
              <a:path w="137" h="153">
                <a:moveTo>
                  <a:pt x="58" y="16"/>
                </a:moveTo>
                <a:lnTo>
                  <a:pt x="26" y="0"/>
                </a:lnTo>
                <a:lnTo>
                  <a:pt x="0" y="9"/>
                </a:lnTo>
                <a:lnTo>
                  <a:pt x="39" y="50"/>
                </a:lnTo>
                <a:lnTo>
                  <a:pt x="28" y="67"/>
                </a:lnTo>
                <a:lnTo>
                  <a:pt x="54" y="89"/>
                </a:lnTo>
                <a:lnTo>
                  <a:pt x="81" y="86"/>
                </a:lnTo>
                <a:lnTo>
                  <a:pt x="94" y="120"/>
                </a:lnTo>
                <a:lnTo>
                  <a:pt x="114" y="153"/>
                </a:lnTo>
                <a:lnTo>
                  <a:pt x="135" y="98"/>
                </a:lnTo>
                <a:lnTo>
                  <a:pt x="137" y="65"/>
                </a:lnTo>
                <a:lnTo>
                  <a:pt x="119" y="51"/>
                </a:lnTo>
                <a:lnTo>
                  <a:pt x="58" y="16"/>
                </a:lnTo>
                <a:lnTo>
                  <a:pt x="58" y="1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52560" y="4070520"/>
            <a:ext cx="117360" cy="123480"/>
          </a:xfrm>
          <a:custGeom>
            <a:avLst/>
            <a:gdLst/>
            <a:ahLst/>
            <a:rect l="l" t="t" r="r" b="b"/>
            <a:pathLst>
              <a:path w="252" h="303">
                <a:moveTo>
                  <a:pt x="101" y="15"/>
                </a:moveTo>
                <a:lnTo>
                  <a:pt x="57" y="0"/>
                </a:lnTo>
                <a:lnTo>
                  <a:pt x="32" y="13"/>
                </a:lnTo>
                <a:lnTo>
                  <a:pt x="33" y="44"/>
                </a:lnTo>
                <a:lnTo>
                  <a:pt x="48" y="63"/>
                </a:lnTo>
                <a:lnTo>
                  <a:pt x="11" y="80"/>
                </a:lnTo>
                <a:lnTo>
                  <a:pt x="0" y="125"/>
                </a:lnTo>
                <a:lnTo>
                  <a:pt x="10" y="157"/>
                </a:lnTo>
                <a:lnTo>
                  <a:pt x="50" y="194"/>
                </a:lnTo>
                <a:lnTo>
                  <a:pt x="48" y="223"/>
                </a:lnTo>
                <a:lnTo>
                  <a:pt x="102" y="248"/>
                </a:lnTo>
                <a:lnTo>
                  <a:pt x="153" y="268"/>
                </a:lnTo>
                <a:lnTo>
                  <a:pt x="182" y="260"/>
                </a:lnTo>
                <a:lnTo>
                  <a:pt x="219" y="303"/>
                </a:lnTo>
                <a:lnTo>
                  <a:pt x="252" y="278"/>
                </a:lnTo>
                <a:lnTo>
                  <a:pt x="229" y="220"/>
                </a:lnTo>
                <a:lnTo>
                  <a:pt x="146" y="216"/>
                </a:lnTo>
                <a:lnTo>
                  <a:pt x="93" y="117"/>
                </a:lnTo>
                <a:lnTo>
                  <a:pt x="119" y="87"/>
                </a:lnTo>
                <a:lnTo>
                  <a:pt x="82" y="30"/>
                </a:lnTo>
                <a:lnTo>
                  <a:pt x="101" y="15"/>
                </a:lnTo>
                <a:lnTo>
                  <a:pt x="101" y="15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68440" y="3751200"/>
            <a:ext cx="81000" cy="171360"/>
          </a:xfrm>
          <a:custGeom>
            <a:avLst/>
            <a:gdLst/>
            <a:ahLst/>
            <a:rect l="l" t="t" r="r" b="b"/>
            <a:pathLst>
              <a:path w="172" h="416">
                <a:moveTo>
                  <a:pt x="172" y="51"/>
                </a:moveTo>
                <a:lnTo>
                  <a:pt x="81" y="0"/>
                </a:lnTo>
                <a:lnTo>
                  <a:pt x="0" y="8"/>
                </a:lnTo>
                <a:lnTo>
                  <a:pt x="73" y="416"/>
                </a:lnTo>
                <a:lnTo>
                  <a:pt x="167" y="361"/>
                </a:lnTo>
                <a:lnTo>
                  <a:pt x="95" y="124"/>
                </a:lnTo>
                <a:lnTo>
                  <a:pt x="172" y="51"/>
                </a:lnTo>
                <a:lnTo>
                  <a:pt x="172" y="51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58840" y="3805200"/>
            <a:ext cx="609480" cy="552600"/>
          </a:xfrm>
          <a:custGeom>
            <a:avLst/>
            <a:gdLst/>
            <a:ahLst/>
            <a:rect l="l" t="t" r="r" b="b"/>
            <a:pathLst>
              <a:path w="1305" h="1348">
                <a:moveTo>
                  <a:pt x="29" y="870"/>
                </a:moveTo>
                <a:lnTo>
                  <a:pt x="0" y="962"/>
                </a:lnTo>
                <a:lnTo>
                  <a:pt x="0" y="1038"/>
                </a:lnTo>
                <a:lnTo>
                  <a:pt x="35" y="1110"/>
                </a:lnTo>
                <a:lnTo>
                  <a:pt x="63" y="1213"/>
                </a:lnTo>
                <a:lnTo>
                  <a:pt x="83" y="1099"/>
                </a:lnTo>
                <a:lnTo>
                  <a:pt x="108" y="986"/>
                </a:lnTo>
                <a:lnTo>
                  <a:pt x="154" y="926"/>
                </a:lnTo>
                <a:lnTo>
                  <a:pt x="170" y="973"/>
                </a:lnTo>
                <a:lnTo>
                  <a:pt x="204" y="982"/>
                </a:lnTo>
                <a:lnTo>
                  <a:pt x="292" y="936"/>
                </a:lnTo>
                <a:lnTo>
                  <a:pt x="284" y="993"/>
                </a:lnTo>
                <a:lnTo>
                  <a:pt x="363" y="987"/>
                </a:lnTo>
                <a:lnTo>
                  <a:pt x="414" y="980"/>
                </a:lnTo>
                <a:lnTo>
                  <a:pt x="394" y="1055"/>
                </a:lnTo>
                <a:lnTo>
                  <a:pt x="398" y="1107"/>
                </a:lnTo>
                <a:lnTo>
                  <a:pt x="409" y="1177"/>
                </a:lnTo>
                <a:lnTo>
                  <a:pt x="442" y="1213"/>
                </a:lnTo>
                <a:lnTo>
                  <a:pt x="513" y="1212"/>
                </a:lnTo>
                <a:lnTo>
                  <a:pt x="522" y="1256"/>
                </a:lnTo>
                <a:lnTo>
                  <a:pt x="538" y="1348"/>
                </a:lnTo>
                <a:lnTo>
                  <a:pt x="580" y="1290"/>
                </a:lnTo>
                <a:lnTo>
                  <a:pt x="688" y="1139"/>
                </a:lnTo>
                <a:lnTo>
                  <a:pt x="709" y="1072"/>
                </a:lnTo>
                <a:lnTo>
                  <a:pt x="674" y="1042"/>
                </a:lnTo>
                <a:lnTo>
                  <a:pt x="700" y="964"/>
                </a:lnTo>
                <a:lnTo>
                  <a:pt x="769" y="914"/>
                </a:lnTo>
                <a:lnTo>
                  <a:pt x="819" y="929"/>
                </a:lnTo>
                <a:lnTo>
                  <a:pt x="895" y="907"/>
                </a:lnTo>
                <a:lnTo>
                  <a:pt x="907" y="968"/>
                </a:lnTo>
                <a:lnTo>
                  <a:pt x="915" y="1023"/>
                </a:lnTo>
                <a:lnTo>
                  <a:pt x="962" y="994"/>
                </a:lnTo>
                <a:lnTo>
                  <a:pt x="1014" y="915"/>
                </a:lnTo>
                <a:lnTo>
                  <a:pt x="1054" y="841"/>
                </a:lnTo>
                <a:lnTo>
                  <a:pt x="1031" y="805"/>
                </a:lnTo>
                <a:lnTo>
                  <a:pt x="1110" y="680"/>
                </a:lnTo>
                <a:lnTo>
                  <a:pt x="1158" y="615"/>
                </a:lnTo>
                <a:lnTo>
                  <a:pt x="1225" y="583"/>
                </a:lnTo>
                <a:lnTo>
                  <a:pt x="1249" y="520"/>
                </a:lnTo>
                <a:lnTo>
                  <a:pt x="1265" y="465"/>
                </a:lnTo>
                <a:lnTo>
                  <a:pt x="1220" y="461"/>
                </a:lnTo>
                <a:lnTo>
                  <a:pt x="1140" y="506"/>
                </a:lnTo>
                <a:lnTo>
                  <a:pt x="1111" y="479"/>
                </a:lnTo>
                <a:lnTo>
                  <a:pt x="961" y="536"/>
                </a:lnTo>
                <a:lnTo>
                  <a:pt x="983" y="483"/>
                </a:lnTo>
                <a:lnTo>
                  <a:pt x="1049" y="423"/>
                </a:lnTo>
                <a:lnTo>
                  <a:pt x="1129" y="414"/>
                </a:lnTo>
                <a:lnTo>
                  <a:pt x="1121" y="372"/>
                </a:lnTo>
                <a:lnTo>
                  <a:pt x="1173" y="337"/>
                </a:lnTo>
                <a:lnTo>
                  <a:pt x="1282" y="310"/>
                </a:lnTo>
                <a:lnTo>
                  <a:pt x="1296" y="272"/>
                </a:lnTo>
                <a:lnTo>
                  <a:pt x="1252" y="246"/>
                </a:lnTo>
                <a:lnTo>
                  <a:pt x="1293" y="185"/>
                </a:lnTo>
                <a:lnTo>
                  <a:pt x="1231" y="148"/>
                </a:lnTo>
                <a:lnTo>
                  <a:pt x="1305" y="119"/>
                </a:lnTo>
                <a:lnTo>
                  <a:pt x="1305" y="96"/>
                </a:lnTo>
                <a:lnTo>
                  <a:pt x="1253" y="32"/>
                </a:lnTo>
                <a:lnTo>
                  <a:pt x="1199" y="5"/>
                </a:lnTo>
                <a:lnTo>
                  <a:pt x="1166" y="0"/>
                </a:lnTo>
                <a:lnTo>
                  <a:pt x="1161" y="25"/>
                </a:lnTo>
                <a:lnTo>
                  <a:pt x="1201" y="25"/>
                </a:lnTo>
                <a:lnTo>
                  <a:pt x="1239" y="51"/>
                </a:lnTo>
                <a:lnTo>
                  <a:pt x="1275" y="93"/>
                </a:lnTo>
                <a:lnTo>
                  <a:pt x="1205" y="123"/>
                </a:lnTo>
                <a:lnTo>
                  <a:pt x="1130" y="159"/>
                </a:lnTo>
                <a:lnTo>
                  <a:pt x="1187" y="175"/>
                </a:lnTo>
                <a:lnTo>
                  <a:pt x="1236" y="202"/>
                </a:lnTo>
                <a:lnTo>
                  <a:pt x="1154" y="262"/>
                </a:lnTo>
                <a:lnTo>
                  <a:pt x="1254" y="276"/>
                </a:lnTo>
                <a:lnTo>
                  <a:pt x="1192" y="308"/>
                </a:lnTo>
                <a:lnTo>
                  <a:pt x="1028" y="375"/>
                </a:lnTo>
                <a:lnTo>
                  <a:pt x="1074" y="378"/>
                </a:lnTo>
                <a:lnTo>
                  <a:pt x="959" y="434"/>
                </a:lnTo>
                <a:lnTo>
                  <a:pt x="932" y="477"/>
                </a:lnTo>
                <a:lnTo>
                  <a:pt x="863" y="581"/>
                </a:lnTo>
                <a:lnTo>
                  <a:pt x="882" y="594"/>
                </a:lnTo>
                <a:lnTo>
                  <a:pt x="944" y="574"/>
                </a:lnTo>
                <a:lnTo>
                  <a:pt x="1075" y="520"/>
                </a:lnTo>
                <a:lnTo>
                  <a:pt x="1045" y="578"/>
                </a:lnTo>
                <a:lnTo>
                  <a:pt x="1130" y="546"/>
                </a:lnTo>
                <a:lnTo>
                  <a:pt x="1201" y="503"/>
                </a:lnTo>
                <a:lnTo>
                  <a:pt x="1177" y="554"/>
                </a:lnTo>
                <a:lnTo>
                  <a:pt x="1074" y="627"/>
                </a:lnTo>
                <a:lnTo>
                  <a:pt x="1030" y="681"/>
                </a:lnTo>
                <a:lnTo>
                  <a:pt x="1032" y="721"/>
                </a:lnTo>
                <a:lnTo>
                  <a:pt x="954" y="802"/>
                </a:lnTo>
                <a:lnTo>
                  <a:pt x="997" y="829"/>
                </a:lnTo>
                <a:lnTo>
                  <a:pt x="975" y="874"/>
                </a:lnTo>
                <a:lnTo>
                  <a:pt x="929" y="924"/>
                </a:lnTo>
                <a:lnTo>
                  <a:pt x="907" y="848"/>
                </a:lnTo>
                <a:lnTo>
                  <a:pt x="841" y="884"/>
                </a:lnTo>
                <a:lnTo>
                  <a:pt x="802" y="855"/>
                </a:lnTo>
                <a:lnTo>
                  <a:pt x="742" y="881"/>
                </a:lnTo>
                <a:lnTo>
                  <a:pt x="655" y="961"/>
                </a:lnTo>
                <a:lnTo>
                  <a:pt x="587" y="1038"/>
                </a:lnTo>
                <a:lnTo>
                  <a:pt x="631" y="1056"/>
                </a:lnTo>
                <a:lnTo>
                  <a:pt x="609" y="1090"/>
                </a:lnTo>
                <a:lnTo>
                  <a:pt x="667" y="1089"/>
                </a:lnTo>
                <a:lnTo>
                  <a:pt x="601" y="1166"/>
                </a:lnTo>
                <a:lnTo>
                  <a:pt x="542" y="1230"/>
                </a:lnTo>
                <a:lnTo>
                  <a:pt x="546" y="1162"/>
                </a:lnTo>
                <a:lnTo>
                  <a:pt x="466" y="1173"/>
                </a:lnTo>
                <a:lnTo>
                  <a:pt x="441" y="1103"/>
                </a:lnTo>
                <a:lnTo>
                  <a:pt x="434" y="998"/>
                </a:lnTo>
                <a:lnTo>
                  <a:pt x="527" y="889"/>
                </a:lnTo>
                <a:lnTo>
                  <a:pt x="441" y="929"/>
                </a:lnTo>
                <a:lnTo>
                  <a:pt x="338" y="948"/>
                </a:lnTo>
                <a:lnTo>
                  <a:pt x="353" y="858"/>
                </a:lnTo>
                <a:lnTo>
                  <a:pt x="200" y="929"/>
                </a:lnTo>
                <a:lnTo>
                  <a:pt x="199" y="873"/>
                </a:lnTo>
                <a:lnTo>
                  <a:pt x="145" y="881"/>
                </a:lnTo>
                <a:lnTo>
                  <a:pt x="94" y="920"/>
                </a:lnTo>
                <a:lnTo>
                  <a:pt x="40" y="1049"/>
                </a:lnTo>
                <a:lnTo>
                  <a:pt x="36" y="931"/>
                </a:lnTo>
                <a:lnTo>
                  <a:pt x="57" y="873"/>
                </a:lnTo>
                <a:lnTo>
                  <a:pt x="29" y="870"/>
                </a:lnTo>
                <a:lnTo>
                  <a:pt x="29" y="8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36600" y="4443480"/>
            <a:ext cx="717480" cy="249120"/>
          </a:xfrm>
          <a:custGeom>
            <a:avLst/>
            <a:gdLst/>
            <a:ahLst/>
            <a:rect l="l" t="t" r="r" b="b"/>
            <a:pathLst>
              <a:path w="1538" h="607">
                <a:moveTo>
                  <a:pt x="25" y="0"/>
                </a:moveTo>
                <a:lnTo>
                  <a:pt x="125" y="60"/>
                </a:lnTo>
                <a:lnTo>
                  <a:pt x="182" y="166"/>
                </a:lnTo>
                <a:lnTo>
                  <a:pt x="311" y="220"/>
                </a:lnTo>
                <a:lnTo>
                  <a:pt x="364" y="208"/>
                </a:lnTo>
                <a:lnTo>
                  <a:pt x="437" y="221"/>
                </a:lnTo>
                <a:lnTo>
                  <a:pt x="542" y="294"/>
                </a:lnTo>
                <a:lnTo>
                  <a:pt x="634" y="355"/>
                </a:lnTo>
                <a:lnTo>
                  <a:pt x="555" y="347"/>
                </a:lnTo>
                <a:lnTo>
                  <a:pt x="451" y="266"/>
                </a:lnTo>
                <a:lnTo>
                  <a:pt x="382" y="249"/>
                </a:lnTo>
                <a:lnTo>
                  <a:pt x="390" y="303"/>
                </a:lnTo>
                <a:lnTo>
                  <a:pt x="320" y="252"/>
                </a:lnTo>
                <a:lnTo>
                  <a:pt x="202" y="216"/>
                </a:lnTo>
                <a:lnTo>
                  <a:pt x="134" y="146"/>
                </a:lnTo>
                <a:lnTo>
                  <a:pt x="62" y="59"/>
                </a:lnTo>
                <a:lnTo>
                  <a:pt x="27" y="52"/>
                </a:lnTo>
                <a:lnTo>
                  <a:pt x="65" y="139"/>
                </a:lnTo>
                <a:lnTo>
                  <a:pt x="102" y="177"/>
                </a:lnTo>
                <a:lnTo>
                  <a:pt x="153" y="245"/>
                </a:lnTo>
                <a:lnTo>
                  <a:pt x="240" y="322"/>
                </a:lnTo>
                <a:lnTo>
                  <a:pt x="309" y="343"/>
                </a:lnTo>
                <a:lnTo>
                  <a:pt x="350" y="391"/>
                </a:lnTo>
                <a:lnTo>
                  <a:pt x="442" y="443"/>
                </a:lnTo>
                <a:lnTo>
                  <a:pt x="497" y="465"/>
                </a:lnTo>
                <a:lnTo>
                  <a:pt x="639" y="541"/>
                </a:lnTo>
                <a:lnTo>
                  <a:pt x="762" y="541"/>
                </a:lnTo>
                <a:lnTo>
                  <a:pt x="859" y="576"/>
                </a:lnTo>
                <a:lnTo>
                  <a:pt x="972" y="578"/>
                </a:lnTo>
                <a:lnTo>
                  <a:pt x="1027" y="551"/>
                </a:lnTo>
                <a:lnTo>
                  <a:pt x="1235" y="533"/>
                </a:lnTo>
                <a:lnTo>
                  <a:pt x="1374" y="480"/>
                </a:lnTo>
                <a:lnTo>
                  <a:pt x="1476" y="423"/>
                </a:lnTo>
                <a:lnTo>
                  <a:pt x="1537" y="380"/>
                </a:lnTo>
                <a:lnTo>
                  <a:pt x="1538" y="418"/>
                </a:lnTo>
                <a:lnTo>
                  <a:pt x="1499" y="453"/>
                </a:lnTo>
                <a:lnTo>
                  <a:pt x="1397" y="516"/>
                </a:lnTo>
                <a:lnTo>
                  <a:pt x="1253" y="560"/>
                </a:lnTo>
                <a:lnTo>
                  <a:pt x="1025" y="578"/>
                </a:lnTo>
                <a:lnTo>
                  <a:pt x="987" y="607"/>
                </a:lnTo>
                <a:lnTo>
                  <a:pt x="882" y="606"/>
                </a:lnTo>
                <a:lnTo>
                  <a:pt x="785" y="577"/>
                </a:lnTo>
                <a:lnTo>
                  <a:pt x="634" y="578"/>
                </a:lnTo>
                <a:lnTo>
                  <a:pt x="570" y="530"/>
                </a:lnTo>
                <a:lnTo>
                  <a:pt x="482" y="490"/>
                </a:lnTo>
                <a:lnTo>
                  <a:pt x="417" y="474"/>
                </a:lnTo>
                <a:lnTo>
                  <a:pt x="328" y="398"/>
                </a:lnTo>
                <a:lnTo>
                  <a:pt x="282" y="376"/>
                </a:lnTo>
                <a:lnTo>
                  <a:pt x="223" y="345"/>
                </a:lnTo>
                <a:lnTo>
                  <a:pt x="160" y="296"/>
                </a:lnTo>
                <a:lnTo>
                  <a:pt x="91" y="226"/>
                </a:lnTo>
                <a:lnTo>
                  <a:pt x="11" y="107"/>
                </a:lnTo>
                <a:lnTo>
                  <a:pt x="0" y="27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36680" y="4403880"/>
            <a:ext cx="411120" cy="271440"/>
          </a:xfrm>
          <a:custGeom>
            <a:avLst/>
            <a:gdLst/>
            <a:ahLst/>
            <a:rect l="l" t="t" r="r" b="b"/>
            <a:pathLst>
              <a:path w="883" h="663">
                <a:moveTo>
                  <a:pt x="359" y="433"/>
                </a:moveTo>
                <a:lnTo>
                  <a:pt x="337" y="378"/>
                </a:lnTo>
                <a:lnTo>
                  <a:pt x="327" y="334"/>
                </a:lnTo>
                <a:lnTo>
                  <a:pt x="271" y="281"/>
                </a:lnTo>
                <a:lnTo>
                  <a:pt x="141" y="227"/>
                </a:lnTo>
                <a:lnTo>
                  <a:pt x="162" y="179"/>
                </a:lnTo>
                <a:lnTo>
                  <a:pt x="83" y="127"/>
                </a:lnTo>
                <a:lnTo>
                  <a:pt x="0" y="68"/>
                </a:lnTo>
                <a:lnTo>
                  <a:pt x="18" y="25"/>
                </a:lnTo>
                <a:lnTo>
                  <a:pt x="64" y="18"/>
                </a:lnTo>
                <a:lnTo>
                  <a:pt x="164" y="44"/>
                </a:lnTo>
                <a:lnTo>
                  <a:pt x="198" y="8"/>
                </a:lnTo>
                <a:lnTo>
                  <a:pt x="262" y="0"/>
                </a:lnTo>
                <a:lnTo>
                  <a:pt x="368" y="10"/>
                </a:lnTo>
                <a:lnTo>
                  <a:pt x="402" y="58"/>
                </a:lnTo>
                <a:lnTo>
                  <a:pt x="509" y="103"/>
                </a:lnTo>
                <a:lnTo>
                  <a:pt x="487" y="148"/>
                </a:lnTo>
                <a:lnTo>
                  <a:pt x="585" y="201"/>
                </a:lnTo>
                <a:lnTo>
                  <a:pt x="720" y="248"/>
                </a:lnTo>
                <a:lnTo>
                  <a:pt x="702" y="313"/>
                </a:lnTo>
                <a:lnTo>
                  <a:pt x="684" y="356"/>
                </a:lnTo>
                <a:lnTo>
                  <a:pt x="669" y="416"/>
                </a:lnTo>
                <a:lnTo>
                  <a:pt x="772" y="441"/>
                </a:lnTo>
                <a:lnTo>
                  <a:pt x="727" y="473"/>
                </a:lnTo>
                <a:lnTo>
                  <a:pt x="838" y="525"/>
                </a:lnTo>
                <a:lnTo>
                  <a:pt x="883" y="577"/>
                </a:lnTo>
                <a:lnTo>
                  <a:pt x="763" y="609"/>
                </a:lnTo>
                <a:lnTo>
                  <a:pt x="790" y="638"/>
                </a:lnTo>
                <a:lnTo>
                  <a:pt x="859" y="663"/>
                </a:lnTo>
                <a:lnTo>
                  <a:pt x="749" y="655"/>
                </a:lnTo>
                <a:lnTo>
                  <a:pt x="677" y="601"/>
                </a:lnTo>
                <a:lnTo>
                  <a:pt x="823" y="564"/>
                </a:lnTo>
                <a:lnTo>
                  <a:pt x="772" y="517"/>
                </a:lnTo>
                <a:lnTo>
                  <a:pt x="655" y="480"/>
                </a:lnTo>
                <a:lnTo>
                  <a:pt x="688" y="453"/>
                </a:lnTo>
                <a:lnTo>
                  <a:pt x="610" y="413"/>
                </a:lnTo>
                <a:lnTo>
                  <a:pt x="626" y="376"/>
                </a:lnTo>
                <a:lnTo>
                  <a:pt x="615" y="296"/>
                </a:lnTo>
                <a:lnTo>
                  <a:pt x="629" y="254"/>
                </a:lnTo>
                <a:lnTo>
                  <a:pt x="544" y="232"/>
                </a:lnTo>
                <a:lnTo>
                  <a:pt x="408" y="141"/>
                </a:lnTo>
                <a:lnTo>
                  <a:pt x="426" y="106"/>
                </a:lnTo>
                <a:lnTo>
                  <a:pt x="335" y="72"/>
                </a:lnTo>
                <a:lnTo>
                  <a:pt x="344" y="37"/>
                </a:lnTo>
                <a:lnTo>
                  <a:pt x="261" y="40"/>
                </a:lnTo>
                <a:lnTo>
                  <a:pt x="269" y="95"/>
                </a:lnTo>
                <a:lnTo>
                  <a:pt x="72" y="59"/>
                </a:lnTo>
                <a:lnTo>
                  <a:pt x="39" y="65"/>
                </a:lnTo>
                <a:lnTo>
                  <a:pt x="142" y="120"/>
                </a:lnTo>
                <a:lnTo>
                  <a:pt x="217" y="183"/>
                </a:lnTo>
                <a:lnTo>
                  <a:pt x="196" y="210"/>
                </a:lnTo>
                <a:lnTo>
                  <a:pt x="341" y="280"/>
                </a:lnTo>
                <a:lnTo>
                  <a:pt x="371" y="343"/>
                </a:lnTo>
                <a:lnTo>
                  <a:pt x="360" y="379"/>
                </a:lnTo>
                <a:lnTo>
                  <a:pt x="421" y="452"/>
                </a:lnTo>
                <a:lnTo>
                  <a:pt x="359" y="433"/>
                </a:lnTo>
                <a:lnTo>
                  <a:pt x="359" y="4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85840" y="4229280"/>
            <a:ext cx="79560" cy="237960"/>
          </a:xfrm>
          <a:custGeom>
            <a:avLst/>
            <a:gdLst/>
            <a:ahLst/>
            <a:rect l="l" t="t" r="r" b="b"/>
            <a:pathLst>
              <a:path w="171" h="582">
                <a:moveTo>
                  <a:pt x="0" y="55"/>
                </a:moveTo>
                <a:lnTo>
                  <a:pt x="12" y="229"/>
                </a:lnTo>
                <a:lnTo>
                  <a:pt x="43" y="368"/>
                </a:lnTo>
                <a:lnTo>
                  <a:pt x="109" y="550"/>
                </a:lnTo>
                <a:lnTo>
                  <a:pt x="171" y="582"/>
                </a:lnTo>
                <a:lnTo>
                  <a:pt x="98" y="448"/>
                </a:lnTo>
                <a:lnTo>
                  <a:pt x="45" y="265"/>
                </a:lnTo>
                <a:lnTo>
                  <a:pt x="17" y="0"/>
                </a:lnTo>
                <a:lnTo>
                  <a:pt x="0" y="55"/>
                </a:lnTo>
                <a:lnTo>
                  <a:pt x="0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46360" y="3822840"/>
            <a:ext cx="422280" cy="369720"/>
          </a:xfrm>
          <a:custGeom>
            <a:avLst/>
            <a:gdLst/>
            <a:ahLst/>
            <a:rect l="l" t="t" r="r" b="b"/>
            <a:pathLst>
              <a:path w="906" h="901">
                <a:moveTo>
                  <a:pt x="0" y="0"/>
                </a:moveTo>
                <a:lnTo>
                  <a:pt x="148" y="40"/>
                </a:lnTo>
                <a:lnTo>
                  <a:pt x="272" y="58"/>
                </a:lnTo>
                <a:lnTo>
                  <a:pt x="417" y="106"/>
                </a:lnTo>
                <a:lnTo>
                  <a:pt x="479" y="141"/>
                </a:lnTo>
                <a:lnTo>
                  <a:pt x="604" y="245"/>
                </a:lnTo>
                <a:lnTo>
                  <a:pt x="655" y="298"/>
                </a:lnTo>
                <a:lnTo>
                  <a:pt x="727" y="332"/>
                </a:lnTo>
                <a:lnTo>
                  <a:pt x="775" y="430"/>
                </a:lnTo>
                <a:lnTo>
                  <a:pt x="815" y="539"/>
                </a:lnTo>
                <a:lnTo>
                  <a:pt x="827" y="629"/>
                </a:lnTo>
                <a:lnTo>
                  <a:pt x="906" y="783"/>
                </a:lnTo>
                <a:lnTo>
                  <a:pt x="894" y="901"/>
                </a:lnTo>
                <a:lnTo>
                  <a:pt x="808" y="857"/>
                </a:lnTo>
                <a:lnTo>
                  <a:pt x="710" y="788"/>
                </a:lnTo>
                <a:lnTo>
                  <a:pt x="672" y="706"/>
                </a:lnTo>
                <a:lnTo>
                  <a:pt x="617" y="624"/>
                </a:lnTo>
                <a:lnTo>
                  <a:pt x="705" y="691"/>
                </a:lnTo>
                <a:lnTo>
                  <a:pt x="776" y="810"/>
                </a:lnTo>
                <a:lnTo>
                  <a:pt x="874" y="857"/>
                </a:lnTo>
                <a:lnTo>
                  <a:pt x="881" y="802"/>
                </a:lnTo>
                <a:lnTo>
                  <a:pt x="860" y="730"/>
                </a:lnTo>
                <a:lnTo>
                  <a:pt x="779" y="619"/>
                </a:lnTo>
                <a:lnTo>
                  <a:pt x="786" y="564"/>
                </a:lnTo>
                <a:lnTo>
                  <a:pt x="741" y="452"/>
                </a:lnTo>
                <a:lnTo>
                  <a:pt x="685" y="358"/>
                </a:lnTo>
                <a:lnTo>
                  <a:pt x="601" y="324"/>
                </a:lnTo>
                <a:lnTo>
                  <a:pt x="486" y="199"/>
                </a:lnTo>
                <a:lnTo>
                  <a:pt x="359" y="134"/>
                </a:lnTo>
                <a:lnTo>
                  <a:pt x="382" y="189"/>
                </a:lnTo>
                <a:lnTo>
                  <a:pt x="472" y="261"/>
                </a:lnTo>
                <a:lnTo>
                  <a:pt x="462" y="291"/>
                </a:lnTo>
                <a:lnTo>
                  <a:pt x="487" y="349"/>
                </a:lnTo>
                <a:lnTo>
                  <a:pt x="457" y="327"/>
                </a:lnTo>
                <a:lnTo>
                  <a:pt x="417" y="252"/>
                </a:lnTo>
                <a:lnTo>
                  <a:pt x="311" y="185"/>
                </a:lnTo>
                <a:lnTo>
                  <a:pt x="275" y="108"/>
                </a:lnTo>
                <a:lnTo>
                  <a:pt x="167" y="75"/>
                </a:lnTo>
                <a:lnTo>
                  <a:pt x="68" y="33"/>
                </a:lnTo>
                <a:lnTo>
                  <a:pt x="20" y="2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38240" y="3965400"/>
            <a:ext cx="117720" cy="135000"/>
          </a:xfrm>
          <a:custGeom>
            <a:avLst/>
            <a:gdLst/>
            <a:ahLst/>
            <a:rect l="l" t="t" r="r" b="b"/>
            <a:pathLst>
              <a:path w="249" h="330">
                <a:moveTo>
                  <a:pt x="74" y="0"/>
                </a:moveTo>
                <a:lnTo>
                  <a:pt x="137" y="30"/>
                </a:lnTo>
                <a:lnTo>
                  <a:pt x="84" y="56"/>
                </a:lnTo>
                <a:lnTo>
                  <a:pt x="62" y="96"/>
                </a:lnTo>
                <a:lnTo>
                  <a:pt x="89" y="154"/>
                </a:lnTo>
                <a:lnTo>
                  <a:pt x="132" y="193"/>
                </a:lnTo>
                <a:lnTo>
                  <a:pt x="102" y="227"/>
                </a:lnTo>
                <a:lnTo>
                  <a:pt x="129" y="251"/>
                </a:lnTo>
                <a:lnTo>
                  <a:pt x="204" y="275"/>
                </a:lnTo>
                <a:lnTo>
                  <a:pt x="249" y="330"/>
                </a:lnTo>
                <a:lnTo>
                  <a:pt x="170" y="289"/>
                </a:lnTo>
                <a:lnTo>
                  <a:pt x="92" y="274"/>
                </a:lnTo>
                <a:lnTo>
                  <a:pt x="42" y="195"/>
                </a:lnTo>
                <a:lnTo>
                  <a:pt x="79" y="184"/>
                </a:lnTo>
                <a:lnTo>
                  <a:pt x="0" y="82"/>
                </a:lnTo>
                <a:lnTo>
                  <a:pt x="33" y="48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98560" y="4178160"/>
            <a:ext cx="371520" cy="441360"/>
          </a:xfrm>
          <a:custGeom>
            <a:avLst/>
            <a:gdLst/>
            <a:ahLst/>
            <a:rect l="l" t="t" r="r" b="b"/>
            <a:pathLst>
              <a:path w="797" h="1076">
                <a:moveTo>
                  <a:pt x="664" y="333"/>
                </a:moveTo>
                <a:lnTo>
                  <a:pt x="640" y="260"/>
                </a:lnTo>
                <a:lnTo>
                  <a:pt x="567" y="252"/>
                </a:lnTo>
                <a:lnTo>
                  <a:pt x="516" y="347"/>
                </a:lnTo>
                <a:lnTo>
                  <a:pt x="466" y="341"/>
                </a:lnTo>
                <a:lnTo>
                  <a:pt x="481" y="261"/>
                </a:lnTo>
                <a:lnTo>
                  <a:pt x="455" y="198"/>
                </a:lnTo>
                <a:lnTo>
                  <a:pt x="403" y="168"/>
                </a:lnTo>
                <a:lnTo>
                  <a:pt x="365" y="213"/>
                </a:lnTo>
                <a:lnTo>
                  <a:pt x="347" y="272"/>
                </a:lnTo>
                <a:lnTo>
                  <a:pt x="343" y="357"/>
                </a:lnTo>
                <a:lnTo>
                  <a:pt x="288" y="423"/>
                </a:lnTo>
                <a:lnTo>
                  <a:pt x="205" y="518"/>
                </a:lnTo>
                <a:lnTo>
                  <a:pt x="186" y="607"/>
                </a:lnTo>
                <a:lnTo>
                  <a:pt x="171" y="643"/>
                </a:lnTo>
                <a:lnTo>
                  <a:pt x="119" y="704"/>
                </a:lnTo>
                <a:lnTo>
                  <a:pt x="46" y="748"/>
                </a:lnTo>
                <a:lnTo>
                  <a:pt x="63" y="780"/>
                </a:lnTo>
                <a:lnTo>
                  <a:pt x="32" y="818"/>
                </a:lnTo>
                <a:lnTo>
                  <a:pt x="0" y="857"/>
                </a:lnTo>
                <a:lnTo>
                  <a:pt x="39" y="888"/>
                </a:lnTo>
                <a:lnTo>
                  <a:pt x="95" y="891"/>
                </a:lnTo>
                <a:lnTo>
                  <a:pt x="197" y="875"/>
                </a:lnTo>
                <a:lnTo>
                  <a:pt x="168" y="930"/>
                </a:lnTo>
                <a:lnTo>
                  <a:pt x="261" y="935"/>
                </a:lnTo>
                <a:lnTo>
                  <a:pt x="328" y="942"/>
                </a:lnTo>
                <a:lnTo>
                  <a:pt x="423" y="890"/>
                </a:lnTo>
                <a:lnTo>
                  <a:pt x="430" y="926"/>
                </a:lnTo>
                <a:lnTo>
                  <a:pt x="398" y="966"/>
                </a:lnTo>
                <a:lnTo>
                  <a:pt x="328" y="1015"/>
                </a:lnTo>
                <a:lnTo>
                  <a:pt x="328" y="1076"/>
                </a:lnTo>
                <a:lnTo>
                  <a:pt x="360" y="1019"/>
                </a:lnTo>
                <a:lnTo>
                  <a:pt x="444" y="960"/>
                </a:lnTo>
                <a:lnTo>
                  <a:pt x="474" y="917"/>
                </a:lnTo>
                <a:lnTo>
                  <a:pt x="480" y="828"/>
                </a:lnTo>
                <a:lnTo>
                  <a:pt x="397" y="879"/>
                </a:lnTo>
                <a:lnTo>
                  <a:pt x="332" y="911"/>
                </a:lnTo>
                <a:lnTo>
                  <a:pt x="243" y="912"/>
                </a:lnTo>
                <a:lnTo>
                  <a:pt x="292" y="822"/>
                </a:lnTo>
                <a:lnTo>
                  <a:pt x="200" y="848"/>
                </a:lnTo>
                <a:lnTo>
                  <a:pt x="88" y="851"/>
                </a:lnTo>
                <a:lnTo>
                  <a:pt x="58" y="829"/>
                </a:lnTo>
                <a:lnTo>
                  <a:pt x="148" y="774"/>
                </a:lnTo>
                <a:lnTo>
                  <a:pt x="103" y="753"/>
                </a:lnTo>
                <a:lnTo>
                  <a:pt x="190" y="709"/>
                </a:lnTo>
                <a:lnTo>
                  <a:pt x="240" y="654"/>
                </a:lnTo>
                <a:lnTo>
                  <a:pt x="276" y="592"/>
                </a:lnTo>
                <a:lnTo>
                  <a:pt x="222" y="567"/>
                </a:lnTo>
                <a:lnTo>
                  <a:pt x="245" y="510"/>
                </a:lnTo>
                <a:lnTo>
                  <a:pt x="298" y="457"/>
                </a:lnTo>
                <a:lnTo>
                  <a:pt x="407" y="409"/>
                </a:lnTo>
                <a:lnTo>
                  <a:pt x="379" y="363"/>
                </a:lnTo>
                <a:lnTo>
                  <a:pt x="372" y="281"/>
                </a:lnTo>
                <a:lnTo>
                  <a:pt x="401" y="226"/>
                </a:lnTo>
                <a:lnTo>
                  <a:pt x="441" y="230"/>
                </a:lnTo>
                <a:lnTo>
                  <a:pt x="442" y="286"/>
                </a:lnTo>
                <a:lnTo>
                  <a:pt x="444" y="384"/>
                </a:lnTo>
                <a:lnTo>
                  <a:pt x="500" y="374"/>
                </a:lnTo>
                <a:lnTo>
                  <a:pt x="539" y="372"/>
                </a:lnTo>
                <a:lnTo>
                  <a:pt x="587" y="321"/>
                </a:lnTo>
                <a:lnTo>
                  <a:pt x="638" y="308"/>
                </a:lnTo>
                <a:lnTo>
                  <a:pt x="629" y="391"/>
                </a:lnTo>
                <a:lnTo>
                  <a:pt x="709" y="374"/>
                </a:lnTo>
                <a:lnTo>
                  <a:pt x="746" y="299"/>
                </a:lnTo>
                <a:lnTo>
                  <a:pt x="775" y="253"/>
                </a:lnTo>
                <a:lnTo>
                  <a:pt x="797" y="168"/>
                </a:lnTo>
                <a:lnTo>
                  <a:pt x="794" y="80"/>
                </a:lnTo>
                <a:lnTo>
                  <a:pt x="773" y="0"/>
                </a:lnTo>
                <a:lnTo>
                  <a:pt x="748" y="2"/>
                </a:lnTo>
                <a:lnTo>
                  <a:pt x="757" y="74"/>
                </a:lnTo>
                <a:lnTo>
                  <a:pt x="764" y="158"/>
                </a:lnTo>
                <a:lnTo>
                  <a:pt x="748" y="230"/>
                </a:lnTo>
                <a:lnTo>
                  <a:pt x="717" y="303"/>
                </a:lnTo>
                <a:lnTo>
                  <a:pt x="664" y="333"/>
                </a:lnTo>
                <a:lnTo>
                  <a:pt x="664" y="3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52640" y="4265640"/>
            <a:ext cx="216000" cy="353880"/>
          </a:xfrm>
          <a:custGeom>
            <a:avLst/>
            <a:gdLst/>
            <a:ahLst/>
            <a:rect l="l" t="t" r="r" b="b"/>
            <a:pathLst>
              <a:path w="465" h="866">
                <a:moveTo>
                  <a:pt x="451" y="0"/>
                </a:moveTo>
                <a:lnTo>
                  <a:pt x="455" y="74"/>
                </a:lnTo>
                <a:lnTo>
                  <a:pt x="465" y="160"/>
                </a:lnTo>
                <a:lnTo>
                  <a:pt x="460" y="266"/>
                </a:lnTo>
                <a:lnTo>
                  <a:pt x="422" y="338"/>
                </a:lnTo>
                <a:lnTo>
                  <a:pt x="386" y="388"/>
                </a:lnTo>
                <a:lnTo>
                  <a:pt x="372" y="458"/>
                </a:lnTo>
                <a:lnTo>
                  <a:pt x="346" y="521"/>
                </a:lnTo>
                <a:lnTo>
                  <a:pt x="317" y="610"/>
                </a:lnTo>
                <a:lnTo>
                  <a:pt x="283" y="651"/>
                </a:lnTo>
                <a:lnTo>
                  <a:pt x="223" y="688"/>
                </a:lnTo>
                <a:lnTo>
                  <a:pt x="181" y="761"/>
                </a:lnTo>
                <a:lnTo>
                  <a:pt x="167" y="801"/>
                </a:lnTo>
                <a:lnTo>
                  <a:pt x="61" y="863"/>
                </a:lnTo>
                <a:lnTo>
                  <a:pt x="0" y="866"/>
                </a:lnTo>
                <a:lnTo>
                  <a:pt x="76" y="822"/>
                </a:lnTo>
                <a:lnTo>
                  <a:pt x="137" y="779"/>
                </a:lnTo>
                <a:lnTo>
                  <a:pt x="181" y="710"/>
                </a:lnTo>
                <a:lnTo>
                  <a:pt x="201" y="654"/>
                </a:lnTo>
                <a:lnTo>
                  <a:pt x="272" y="594"/>
                </a:lnTo>
                <a:lnTo>
                  <a:pt x="298" y="541"/>
                </a:lnTo>
                <a:lnTo>
                  <a:pt x="281" y="513"/>
                </a:lnTo>
                <a:lnTo>
                  <a:pt x="321" y="432"/>
                </a:lnTo>
                <a:lnTo>
                  <a:pt x="358" y="352"/>
                </a:lnTo>
                <a:lnTo>
                  <a:pt x="416" y="284"/>
                </a:lnTo>
                <a:lnTo>
                  <a:pt x="438" y="184"/>
                </a:lnTo>
                <a:lnTo>
                  <a:pt x="423" y="57"/>
                </a:lnTo>
                <a:lnTo>
                  <a:pt x="451" y="0"/>
                </a:lnTo>
                <a:lnTo>
                  <a:pt x="4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36520" y="3613320"/>
            <a:ext cx="112680" cy="9972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0" y="64"/>
                </a:moveTo>
                <a:lnTo>
                  <a:pt x="146" y="0"/>
                </a:lnTo>
                <a:lnTo>
                  <a:pt x="240" y="228"/>
                </a:lnTo>
                <a:lnTo>
                  <a:pt x="214" y="246"/>
                </a:lnTo>
                <a:lnTo>
                  <a:pt x="122" y="46"/>
                </a:lnTo>
                <a:lnTo>
                  <a:pt x="32" y="123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35160" y="3583080"/>
            <a:ext cx="100080" cy="101520"/>
          </a:xfrm>
          <a:custGeom>
            <a:avLst/>
            <a:gdLst/>
            <a:ahLst/>
            <a:rect l="l" t="t" r="r" b="b"/>
            <a:pathLst>
              <a:path w="216" h="248">
                <a:moveTo>
                  <a:pt x="0" y="61"/>
                </a:moveTo>
                <a:lnTo>
                  <a:pt x="147" y="0"/>
                </a:lnTo>
                <a:lnTo>
                  <a:pt x="216" y="230"/>
                </a:lnTo>
                <a:lnTo>
                  <a:pt x="189" y="248"/>
                </a:lnTo>
                <a:lnTo>
                  <a:pt x="121" y="61"/>
                </a:lnTo>
                <a:lnTo>
                  <a:pt x="33" y="128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27240" y="3753000"/>
            <a:ext cx="90360" cy="871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60"/>
                </a:moveTo>
                <a:lnTo>
                  <a:pt x="98" y="0"/>
                </a:lnTo>
                <a:lnTo>
                  <a:pt x="194" y="195"/>
                </a:lnTo>
                <a:lnTo>
                  <a:pt x="171" y="215"/>
                </a:lnTo>
                <a:lnTo>
                  <a:pt x="94" y="53"/>
                </a:lnTo>
                <a:lnTo>
                  <a:pt x="27" y="119"/>
                </a:lnTo>
                <a:lnTo>
                  <a:pt x="0" y="6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06440" y="3722760"/>
            <a:ext cx="77760" cy="8568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41"/>
                </a:moveTo>
                <a:lnTo>
                  <a:pt x="109" y="0"/>
                </a:lnTo>
                <a:lnTo>
                  <a:pt x="168" y="196"/>
                </a:lnTo>
                <a:lnTo>
                  <a:pt x="146" y="212"/>
                </a:lnTo>
                <a:lnTo>
                  <a:pt x="90" y="59"/>
                </a:lnTo>
                <a:lnTo>
                  <a:pt x="18" y="102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7080" y="3868560"/>
            <a:ext cx="71280" cy="7020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0" y="46"/>
                </a:moveTo>
                <a:lnTo>
                  <a:pt x="84" y="0"/>
                </a:lnTo>
                <a:lnTo>
                  <a:pt x="151" y="155"/>
                </a:lnTo>
                <a:lnTo>
                  <a:pt x="131" y="174"/>
                </a:lnTo>
                <a:lnTo>
                  <a:pt x="78" y="64"/>
                </a:lnTo>
                <a:lnTo>
                  <a:pt x="23" y="112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62240" y="3844800"/>
            <a:ext cx="71280" cy="63720"/>
          </a:xfrm>
          <a:custGeom>
            <a:avLst/>
            <a:gdLst/>
            <a:ahLst/>
            <a:rect l="l" t="t" r="r" b="b"/>
            <a:pathLst>
              <a:path w="151" h="157">
                <a:moveTo>
                  <a:pt x="0" y="38"/>
                </a:moveTo>
                <a:lnTo>
                  <a:pt x="85" y="0"/>
                </a:lnTo>
                <a:lnTo>
                  <a:pt x="151" y="135"/>
                </a:lnTo>
                <a:lnTo>
                  <a:pt x="124" y="157"/>
                </a:lnTo>
                <a:lnTo>
                  <a:pt x="73" y="48"/>
                </a:lnTo>
                <a:lnTo>
                  <a:pt x="24" y="97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59000" y="3967200"/>
            <a:ext cx="65160" cy="55440"/>
          </a:xfrm>
          <a:custGeom>
            <a:avLst/>
            <a:gdLst/>
            <a:ahLst/>
            <a:rect l="l" t="t" r="r" b="b"/>
            <a:pathLst>
              <a:path w="139" h="135">
                <a:moveTo>
                  <a:pt x="0" y="36"/>
                </a:moveTo>
                <a:lnTo>
                  <a:pt x="69" y="0"/>
                </a:lnTo>
                <a:lnTo>
                  <a:pt x="139" y="118"/>
                </a:lnTo>
                <a:lnTo>
                  <a:pt x="117" y="135"/>
                </a:lnTo>
                <a:lnTo>
                  <a:pt x="73" y="56"/>
                </a:lnTo>
                <a:lnTo>
                  <a:pt x="30" y="91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17680" y="3940200"/>
            <a:ext cx="54000" cy="52200"/>
          </a:xfrm>
          <a:custGeom>
            <a:avLst/>
            <a:gdLst/>
            <a:ahLst/>
            <a:rect l="l" t="t" r="r" b="b"/>
            <a:pathLst>
              <a:path w="116" h="125">
                <a:moveTo>
                  <a:pt x="0" y="37"/>
                </a:moveTo>
                <a:lnTo>
                  <a:pt x="71" y="0"/>
                </a:lnTo>
                <a:lnTo>
                  <a:pt x="116" y="107"/>
                </a:lnTo>
                <a:lnTo>
                  <a:pt x="98" y="125"/>
                </a:lnTo>
                <a:lnTo>
                  <a:pt x="56" y="42"/>
                </a:lnTo>
                <a:lnTo>
                  <a:pt x="23" y="84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085760" y="3689280"/>
            <a:ext cx="69840" cy="81000"/>
          </a:xfrm>
          <a:custGeom>
            <a:avLst/>
            <a:gdLst/>
            <a:ahLst/>
            <a:rect l="l" t="t" r="r" b="b"/>
            <a:pathLst>
              <a:path w="149" h="196">
                <a:moveTo>
                  <a:pt x="14" y="0"/>
                </a:moveTo>
                <a:lnTo>
                  <a:pt x="0" y="92"/>
                </a:lnTo>
                <a:lnTo>
                  <a:pt x="31" y="116"/>
                </a:lnTo>
                <a:lnTo>
                  <a:pt x="51" y="96"/>
                </a:lnTo>
                <a:lnTo>
                  <a:pt x="149" y="196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73160" y="3746520"/>
            <a:ext cx="49320" cy="44280"/>
          </a:xfrm>
          <a:custGeom>
            <a:avLst/>
            <a:gdLst/>
            <a:ahLst/>
            <a:rect l="l" t="t" r="r" b="b"/>
            <a:pathLst>
              <a:path w="108" h="110">
                <a:moveTo>
                  <a:pt x="0" y="38"/>
                </a:moveTo>
                <a:lnTo>
                  <a:pt x="8" y="0"/>
                </a:lnTo>
                <a:lnTo>
                  <a:pt x="108" y="110"/>
                </a:lnTo>
                <a:lnTo>
                  <a:pt x="37" y="59"/>
                </a:lnTo>
                <a:lnTo>
                  <a:pt x="29" y="92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38320" y="3813120"/>
            <a:ext cx="52200" cy="55440"/>
          </a:xfrm>
          <a:custGeom>
            <a:avLst/>
            <a:gdLst/>
            <a:ahLst/>
            <a:rect l="l" t="t" r="r" b="b"/>
            <a:pathLst>
              <a:path w="111" h="132">
                <a:moveTo>
                  <a:pt x="0" y="48"/>
                </a:moveTo>
                <a:lnTo>
                  <a:pt x="20" y="0"/>
                </a:lnTo>
                <a:lnTo>
                  <a:pt x="111" y="132"/>
                </a:lnTo>
                <a:lnTo>
                  <a:pt x="40" y="68"/>
                </a:lnTo>
                <a:lnTo>
                  <a:pt x="39" y="98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158840" y="3797280"/>
            <a:ext cx="60480" cy="65160"/>
          </a:xfrm>
          <a:custGeom>
            <a:avLst/>
            <a:gdLst/>
            <a:ahLst/>
            <a:rect l="l" t="t" r="r" b="b"/>
            <a:pathLst>
              <a:path w="132" h="158">
                <a:moveTo>
                  <a:pt x="0" y="30"/>
                </a:moveTo>
                <a:lnTo>
                  <a:pt x="37" y="0"/>
                </a:lnTo>
                <a:lnTo>
                  <a:pt x="132" y="158"/>
                </a:lnTo>
                <a:lnTo>
                  <a:pt x="58" y="74"/>
                </a:lnTo>
                <a:lnTo>
                  <a:pt x="38" y="89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9320" y="3905280"/>
            <a:ext cx="54000" cy="44280"/>
          </a:xfrm>
          <a:custGeom>
            <a:avLst/>
            <a:gdLst/>
            <a:ahLst/>
            <a:rect l="l" t="t" r="r" b="b"/>
            <a:pathLst>
              <a:path w="114" h="107">
                <a:moveTo>
                  <a:pt x="0" y="18"/>
                </a:moveTo>
                <a:lnTo>
                  <a:pt x="52" y="0"/>
                </a:lnTo>
                <a:lnTo>
                  <a:pt x="114" y="107"/>
                </a:lnTo>
                <a:lnTo>
                  <a:pt x="50" y="44"/>
                </a:lnTo>
                <a:lnTo>
                  <a:pt x="37" y="74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81240" y="3987720"/>
            <a:ext cx="54000" cy="46080"/>
          </a:xfrm>
          <a:custGeom>
            <a:avLst/>
            <a:gdLst/>
            <a:ahLst/>
            <a:rect l="l" t="t" r="r" b="b"/>
            <a:pathLst>
              <a:path w="113" h="110">
                <a:moveTo>
                  <a:pt x="0" y="0"/>
                </a:moveTo>
                <a:lnTo>
                  <a:pt x="49" y="12"/>
                </a:lnTo>
                <a:lnTo>
                  <a:pt x="113" y="110"/>
                </a:lnTo>
                <a:lnTo>
                  <a:pt x="51" y="47"/>
                </a:lnTo>
                <a:lnTo>
                  <a:pt x="33" y="4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54080" y="3875040"/>
            <a:ext cx="263520" cy="203400"/>
          </a:xfrm>
          <a:custGeom>
            <a:avLst/>
            <a:gdLst/>
            <a:ahLst/>
            <a:rect l="l" t="t" r="r" b="b"/>
            <a:pathLst>
              <a:path w="568" h="496">
                <a:moveTo>
                  <a:pt x="219" y="0"/>
                </a:moveTo>
                <a:lnTo>
                  <a:pt x="22" y="38"/>
                </a:lnTo>
                <a:lnTo>
                  <a:pt x="26" y="115"/>
                </a:lnTo>
                <a:lnTo>
                  <a:pt x="0" y="299"/>
                </a:lnTo>
                <a:lnTo>
                  <a:pt x="207" y="354"/>
                </a:lnTo>
                <a:lnTo>
                  <a:pt x="437" y="460"/>
                </a:lnTo>
                <a:lnTo>
                  <a:pt x="506" y="496"/>
                </a:lnTo>
                <a:lnTo>
                  <a:pt x="568" y="420"/>
                </a:lnTo>
                <a:lnTo>
                  <a:pt x="564" y="403"/>
                </a:lnTo>
                <a:lnTo>
                  <a:pt x="502" y="461"/>
                </a:lnTo>
                <a:lnTo>
                  <a:pt x="402" y="419"/>
                </a:lnTo>
                <a:lnTo>
                  <a:pt x="445" y="317"/>
                </a:lnTo>
                <a:lnTo>
                  <a:pt x="375" y="267"/>
                </a:lnTo>
                <a:lnTo>
                  <a:pt x="415" y="318"/>
                </a:lnTo>
                <a:lnTo>
                  <a:pt x="365" y="392"/>
                </a:lnTo>
                <a:lnTo>
                  <a:pt x="298" y="359"/>
                </a:lnTo>
                <a:lnTo>
                  <a:pt x="327" y="228"/>
                </a:lnTo>
                <a:lnTo>
                  <a:pt x="219" y="165"/>
                </a:lnTo>
                <a:lnTo>
                  <a:pt x="291" y="237"/>
                </a:lnTo>
                <a:lnTo>
                  <a:pt x="256" y="337"/>
                </a:lnTo>
                <a:lnTo>
                  <a:pt x="154" y="296"/>
                </a:lnTo>
                <a:lnTo>
                  <a:pt x="168" y="132"/>
                </a:lnTo>
                <a:lnTo>
                  <a:pt x="84" y="99"/>
                </a:lnTo>
                <a:lnTo>
                  <a:pt x="132" y="147"/>
                </a:lnTo>
                <a:lnTo>
                  <a:pt x="99" y="286"/>
                </a:lnTo>
                <a:lnTo>
                  <a:pt x="29" y="264"/>
                </a:lnTo>
                <a:lnTo>
                  <a:pt x="52" y="58"/>
                </a:lnTo>
                <a:lnTo>
                  <a:pt x="205" y="113"/>
                </a:lnTo>
                <a:lnTo>
                  <a:pt x="445" y="255"/>
                </a:lnTo>
                <a:lnTo>
                  <a:pt x="343" y="139"/>
                </a:lnTo>
                <a:lnTo>
                  <a:pt x="298" y="140"/>
                </a:lnTo>
                <a:lnTo>
                  <a:pt x="252" y="98"/>
                </a:lnTo>
                <a:lnTo>
                  <a:pt x="295" y="91"/>
                </a:lnTo>
                <a:lnTo>
                  <a:pt x="272" y="69"/>
                </a:lnTo>
                <a:lnTo>
                  <a:pt x="215" y="77"/>
                </a:lnTo>
                <a:lnTo>
                  <a:pt x="142" y="49"/>
                </a:lnTo>
                <a:lnTo>
                  <a:pt x="237" y="29"/>
                </a:lnTo>
                <a:lnTo>
                  <a:pt x="219" y="0"/>
                </a:lnTo>
                <a:lnTo>
                  <a:pt x="2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90440" y="4005360"/>
            <a:ext cx="184320" cy="172800"/>
          </a:xfrm>
          <a:custGeom>
            <a:avLst/>
            <a:gdLst/>
            <a:ahLst/>
            <a:rect l="l" t="t" r="r" b="b"/>
            <a:pathLst>
              <a:path w="395" h="420">
                <a:moveTo>
                  <a:pt x="86" y="0"/>
                </a:moveTo>
                <a:lnTo>
                  <a:pt x="0" y="42"/>
                </a:lnTo>
                <a:lnTo>
                  <a:pt x="37" y="246"/>
                </a:lnTo>
                <a:lnTo>
                  <a:pt x="125" y="257"/>
                </a:lnTo>
                <a:lnTo>
                  <a:pt x="111" y="391"/>
                </a:lnTo>
                <a:lnTo>
                  <a:pt x="216" y="420"/>
                </a:lnTo>
                <a:lnTo>
                  <a:pt x="253" y="272"/>
                </a:lnTo>
                <a:lnTo>
                  <a:pt x="230" y="260"/>
                </a:lnTo>
                <a:lnTo>
                  <a:pt x="202" y="394"/>
                </a:lnTo>
                <a:lnTo>
                  <a:pt x="143" y="372"/>
                </a:lnTo>
                <a:lnTo>
                  <a:pt x="158" y="244"/>
                </a:lnTo>
                <a:lnTo>
                  <a:pt x="64" y="213"/>
                </a:lnTo>
                <a:lnTo>
                  <a:pt x="38" y="56"/>
                </a:lnTo>
                <a:lnTo>
                  <a:pt x="186" y="89"/>
                </a:lnTo>
                <a:lnTo>
                  <a:pt x="344" y="168"/>
                </a:lnTo>
                <a:lnTo>
                  <a:pt x="369" y="204"/>
                </a:lnTo>
                <a:lnTo>
                  <a:pt x="395" y="154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62080" y="4110120"/>
            <a:ext cx="27000" cy="47520"/>
          </a:xfrm>
          <a:custGeom>
            <a:avLst/>
            <a:gdLst/>
            <a:ahLst/>
            <a:rect l="l" t="t" r="r" b="b"/>
            <a:pathLst>
              <a:path w="58" h="119">
                <a:moveTo>
                  <a:pt x="22" y="0"/>
                </a:moveTo>
                <a:lnTo>
                  <a:pt x="58" y="7"/>
                </a:lnTo>
                <a:lnTo>
                  <a:pt x="50" y="47"/>
                </a:lnTo>
                <a:lnTo>
                  <a:pt x="23" y="47"/>
                </a:lnTo>
                <a:lnTo>
                  <a:pt x="32" y="119"/>
                </a:lnTo>
                <a:lnTo>
                  <a:pt x="0" y="104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31840" y="4043520"/>
            <a:ext cx="19080" cy="48960"/>
          </a:xfrm>
          <a:custGeom>
            <a:avLst/>
            <a:gdLst/>
            <a:ahLst/>
            <a:rect l="l" t="t" r="r" b="b"/>
            <a:pathLst>
              <a:path w="41" h="120">
                <a:moveTo>
                  <a:pt x="12" y="110"/>
                </a:moveTo>
                <a:lnTo>
                  <a:pt x="0" y="0"/>
                </a:lnTo>
                <a:lnTo>
                  <a:pt x="25" y="8"/>
                </a:lnTo>
                <a:lnTo>
                  <a:pt x="41" y="120"/>
                </a:lnTo>
                <a:lnTo>
                  <a:pt x="12" y="110"/>
                </a:lnTo>
                <a:lnTo>
                  <a:pt x="12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60640" y="4052880"/>
            <a:ext cx="18720" cy="44280"/>
          </a:xfrm>
          <a:custGeom>
            <a:avLst/>
            <a:gdLst/>
            <a:ahLst/>
            <a:rect l="l" t="t" r="r" b="b"/>
            <a:pathLst>
              <a:path w="40" h="108">
                <a:moveTo>
                  <a:pt x="0" y="0"/>
                </a:moveTo>
                <a:lnTo>
                  <a:pt x="21" y="105"/>
                </a:lnTo>
                <a:lnTo>
                  <a:pt x="40" y="108"/>
                </a:lnTo>
                <a:lnTo>
                  <a:pt x="37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197000" y="4064040"/>
            <a:ext cx="20520" cy="44280"/>
          </a:xfrm>
          <a:custGeom>
            <a:avLst/>
            <a:gdLst/>
            <a:ahLst/>
            <a:rect l="l" t="t" r="r" b="b"/>
            <a:pathLst>
              <a:path w="44" h="107">
                <a:moveTo>
                  <a:pt x="0" y="0"/>
                </a:moveTo>
                <a:lnTo>
                  <a:pt x="8" y="98"/>
                </a:lnTo>
                <a:lnTo>
                  <a:pt x="37" y="107"/>
                </a:lnTo>
                <a:lnTo>
                  <a:pt x="44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89240" y="3587760"/>
            <a:ext cx="185400" cy="351000"/>
          </a:xfrm>
          <a:custGeom>
            <a:avLst/>
            <a:gdLst/>
            <a:ahLst/>
            <a:rect l="l" t="t" r="r" b="b"/>
            <a:pathLst>
              <a:path w="399" h="855">
                <a:moveTo>
                  <a:pt x="43" y="418"/>
                </a:moveTo>
                <a:lnTo>
                  <a:pt x="0" y="159"/>
                </a:lnTo>
                <a:lnTo>
                  <a:pt x="125" y="0"/>
                </a:lnTo>
                <a:lnTo>
                  <a:pt x="382" y="83"/>
                </a:lnTo>
                <a:lnTo>
                  <a:pt x="381" y="255"/>
                </a:lnTo>
                <a:lnTo>
                  <a:pt x="399" y="407"/>
                </a:lnTo>
                <a:lnTo>
                  <a:pt x="374" y="423"/>
                </a:lnTo>
                <a:lnTo>
                  <a:pt x="359" y="274"/>
                </a:lnTo>
                <a:lnTo>
                  <a:pt x="356" y="109"/>
                </a:lnTo>
                <a:lnTo>
                  <a:pt x="142" y="72"/>
                </a:lnTo>
                <a:lnTo>
                  <a:pt x="159" y="237"/>
                </a:lnTo>
                <a:lnTo>
                  <a:pt x="213" y="602"/>
                </a:lnTo>
                <a:lnTo>
                  <a:pt x="253" y="805"/>
                </a:lnTo>
                <a:lnTo>
                  <a:pt x="319" y="731"/>
                </a:lnTo>
                <a:lnTo>
                  <a:pt x="338" y="760"/>
                </a:lnTo>
                <a:lnTo>
                  <a:pt x="273" y="855"/>
                </a:lnTo>
                <a:lnTo>
                  <a:pt x="217" y="823"/>
                </a:lnTo>
                <a:lnTo>
                  <a:pt x="147" y="662"/>
                </a:lnTo>
                <a:lnTo>
                  <a:pt x="191" y="667"/>
                </a:lnTo>
                <a:lnTo>
                  <a:pt x="170" y="554"/>
                </a:lnTo>
                <a:lnTo>
                  <a:pt x="89" y="557"/>
                </a:lnTo>
                <a:lnTo>
                  <a:pt x="78" y="478"/>
                </a:lnTo>
                <a:lnTo>
                  <a:pt x="158" y="452"/>
                </a:lnTo>
                <a:lnTo>
                  <a:pt x="133" y="312"/>
                </a:lnTo>
                <a:lnTo>
                  <a:pt x="111" y="130"/>
                </a:lnTo>
                <a:lnTo>
                  <a:pt x="40" y="192"/>
                </a:lnTo>
                <a:lnTo>
                  <a:pt x="58" y="429"/>
                </a:lnTo>
                <a:lnTo>
                  <a:pt x="43" y="418"/>
                </a:lnTo>
                <a:lnTo>
                  <a:pt x="43" y="4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07960" y="3687840"/>
            <a:ext cx="44640" cy="57240"/>
          </a:xfrm>
          <a:custGeom>
            <a:avLst/>
            <a:gdLst/>
            <a:ahLst/>
            <a:rect l="l" t="t" r="r" b="b"/>
            <a:pathLst>
              <a:path w="96" h="140">
                <a:moveTo>
                  <a:pt x="0" y="71"/>
                </a:moveTo>
                <a:lnTo>
                  <a:pt x="96" y="0"/>
                </a:lnTo>
                <a:lnTo>
                  <a:pt x="96" y="89"/>
                </a:lnTo>
                <a:lnTo>
                  <a:pt x="6" y="140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95440" y="3819600"/>
            <a:ext cx="39600" cy="42840"/>
          </a:xfrm>
          <a:custGeom>
            <a:avLst/>
            <a:gdLst/>
            <a:ahLst/>
            <a:rect l="l" t="t" r="r" b="b"/>
            <a:pathLst>
              <a:path w="84" h="104">
                <a:moveTo>
                  <a:pt x="0" y="7"/>
                </a:moveTo>
                <a:lnTo>
                  <a:pt x="45" y="0"/>
                </a:lnTo>
                <a:lnTo>
                  <a:pt x="84" y="72"/>
                </a:lnTo>
                <a:lnTo>
                  <a:pt x="21" y="104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97000" y="4084560"/>
            <a:ext cx="68400" cy="44640"/>
          </a:xfrm>
          <a:custGeom>
            <a:avLst/>
            <a:gdLst/>
            <a:ahLst/>
            <a:rect l="l" t="t" r="r" b="b"/>
            <a:pathLst>
              <a:path w="144" h="110">
                <a:moveTo>
                  <a:pt x="0" y="67"/>
                </a:moveTo>
                <a:lnTo>
                  <a:pt x="78" y="84"/>
                </a:lnTo>
                <a:lnTo>
                  <a:pt x="144" y="0"/>
                </a:lnTo>
                <a:lnTo>
                  <a:pt x="93" y="110"/>
                </a:lnTo>
                <a:lnTo>
                  <a:pt x="14" y="8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11240" y="3522600"/>
            <a:ext cx="514440" cy="568440"/>
          </a:xfrm>
          <a:custGeom>
            <a:avLst/>
            <a:gdLst/>
            <a:ahLst/>
            <a:rect l="l" t="t" r="r" b="b"/>
            <a:pathLst>
              <a:path w="1100" h="1385">
                <a:moveTo>
                  <a:pt x="234" y="364"/>
                </a:moveTo>
                <a:lnTo>
                  <a:pt x="459" y="721"/>
                </a:lnTo>
                <a:lnTo>
                  <a:pt x="725" y="1208"/>
                </a:lnTo>
                <a:lnTo>
                  <a:pt x="883" y="1385"/>
                </a:lnTo>
                <a:lnTo>
                  <a:pt x="666" y="1315"/>
                </a:lnTo>
                <a:lnTo>
                  <a:pt x="394" y="977"/>
                </a:lnTo>
                <a:lnTo>
                  <a:pt x="205" y="771"/>
                </a:lnTo>
                <a:lnTo>
                  <a:pt x="0" y="587"/>
                </a:lnTo>
                <a:lnTo>
                  <a:pt x="105" y="209"/>
                </a:lnTo>
                <a:lnTo>
                  <a:pt x="708" y="0"/>
                </a:lnTo>
                <a:lnTo>
                  <a:pt x="756" y="210"/>
                </a:lnTo>
                <a:lnTo>
                  <a:pt x="823" y="454"/>
                </a:lnTo>
                <a:lnTo>
                  <a:pt x="916" y="707"/>
                </a:lnTo>
                <a:lnTo>
                  <a:pt x="1100" y="1132"/>
                </a:lnTo>
                <a:lnTo>
                  <a:pt x="996" y="1253"/>
                </a:lnTo>
                <a:lnTo>
                  <a:pt x="926" y="1341"/>
                </a:lnTo>
                <a:lnTo>
                  <a:pt x="947" y="1267"/>
                </a:lnTo>
                <a:lnTo>
                  <a:pt x="1067" y="1139"/>
                </a:lnTo>
                <a:lnTo>
                  <a:pt x="912" y="773"/>
                </a:lnTo>
                <a:lnTo>
                  <a:pt x="776" y="407"/>
                </a:lnTo>
                <a:lnTo>
                  <a:pt x="671" y="68"/>
                </a:lnTo>
                <a:lnTo>
                  <a:pt x="156" y="259"/>
                </a:lnTo>
                <a:lnTo>
                  <a:pt x="52" y="556"/>
                </a:lnTo>
                <a:lnTo>
                  <a:pt x="165" y="681"/>
                </a:lnTo>
                <a:lnTo>
                  <a:pt x="364" y="896"/>
                </a:lnTo>
                <a:lnTo>
                  <a:pt x="528" y="1104"/>
                </a:lnTo>
                <a:lnTo>
                  <a:pt x="682" y="1286"/>
                </a:lnTo>
                <a:lnTo>
                  <a:pt x="792" y="1338"/>
                </a:lnTo>
                <a:lnTo>
                  <a:pt x="710" y="1234"/>
                </a:lnTo>
                <a:lnTo>
                  <a:pt x="452" y="779"/>
                </a:lnTo>
                <a:lnTo>
                  <a:pt x="234" y="364"/>
                </a:lnTo>
                <a:lnTo>
                  <a:pt x="234" y="3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60600" y="3662280"/>
            <a:ext cx="168120" cy="195480"/>
          </a:xfrm>
          <a:custGeom>
            <a:avLst/>
            <a:gdLst/>
            <a:ahLst/>
            <a:rect l="l" t="t" r="r" b="b"/>
            <a:pathLst>
              <a:path w="358" h="476">
                <a:moveTo>
                  <a:pt x="6" y="47"/>
                </a:moveTo>
                <a:lnTo>
                  <a:pt x="64" y="0"/>
                </a:lnTo>
                <a:lnTo>
                  <a:pt x="313" y="73"/>
                </a:lnTo>
                <a:lnTo>
                  <a:pt x="296" y="214"/>
                </a:lnTo>
                <a:lnTo>
                  <a:pt x="358" y="240"/>
                </a:lnTo>
                <a:lnTo>
                  <a:pt x="307" y="445"/>
                </a:lnTo>
                <a:lnTo>
                  <a:pt x="194" y="476"/>
                </a:lnTo>
                <a:lnTo>
                  <a:pt x="199" y="452"/>
                </a:lnTo>
                <a:lnTo>
                  <a:pt x="280" y="437"/>
                </a:lnTo>
                <a:lnTo>
                  <a:pt x="330" y="250"/>
                </a:lnTo>
                <a:lnTo>
                  <a:pt x="77" y="168"/>
                </a:lnTo>
                <a:lnTo>
                  <a:pt x="91" y="229"/>
                </a:lnTo>
                <a:lnTo>
                  <a:pt x="61" y="228"/>
                </a:lnTo>
                <a:lnTo>
                  <a:pt x="48" y="161"/>
                </a:lnTo>
                <a:lnTo>
                  <a:pt x="0" y="230"/>
                </a:lnTo>
                <a:lnTo>
                  <a:pt x="15" y="185"/>
                </a:lnTo>
                <a:lnTo>
                  <a:pt x="10" y="153"/>
                </a:lnTo>
                <a:lnTo>
                  <a:pt x="48" y="126"/>
                </a:lnTo>
                <a:lnTo>
                  <a:pt x="267" y="197"/>
                </a:lnTo>
                <a:lnTo>
                  <a:pt x="273" y="80"/>
                </a:lnTo>
                <a:lnTo>
                  <a:pt x="70" y="37"/>
                </a:lnTo>
                <a:lnTo>
                  <a:pt x="14" y="86"/>
                </a:lnTo>
                <a:lnTo>
                  <a:pt x="6" y="47"/>
                </a:lnTo>
                <a:lnTo>
                  <a:pt x="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01920" y="3749760"/>
            <a:ext cx="164880" cy="176040"/>
          </a:xfrm>
          <a:custGeom>
            <a:avLst/>
            <a:gdLst/>
            <a:ahLst/>
            <a:rect l="l" t="t" r="r" b="b"/>
            <a:pathLst>
              <a:path w="353" h="427">
                <a:moveTo>
                  <a:pt x="0" y="129"/>
                </a:moveTo>
                <a:lnTo>
                  <a:pt x="100" y="36"/>
                </a:lnTo>
                <a:lnTo>
                  <a:pt x="120" y="0"/>
                </a:lnTo>
                <a:lnTo>
                  <a:pt x="353" y="14"/>
                </a:lnTo>
                <a:lnTo>
                  <a:pt x="345" y="125"/>
                </a:lnTo>
                <a:lnTo>
                  <a:pt x="335" y="303"/>
                </a:lnTo>
                <a:lnTo>
                  <a:pt x="265" y="369"/>
                </a:lnTo>
                <a:lnTo>
                  <a:pt x="319" y="281"/>
                </a:lnTo>
                <a:lnTo>
                  <a:pt x="312" y="88"/>
                </a:lnTo>
                <a:lnTo>
                  <a:pt x="215" y="186"/>
                </a:lnTo>
                <a:lnTo>
                  <a:pt x="230" y="405"/>
                </a:lnTo>
                <a:lnTo>
                  <a:pt x="181" y="206"/>
                </a:lnTo>
                <a:lnTo>
                  <a:pt x="61" y="143"/>
                </a:lnTo>
                <a:lnTo>
                  <a:pt x="184" y="169"/>
                </a:lnTo>
                <a:lnTo>
                  <a:pt x="313" y="37"/>
                </a:lnTo>
                <a:lnTo>
                  <a:pt x="137" y="33"/>
                </a:lnTo>
                <a:lnTo>
                  <a:pt x="33" y="136"/>
                </a:lnTo>
                <a:lnTo>
                  <a:pt x="133" y="395"/>
                </a:lnTo>
                <a:lnTo>
                  <a:pt x="218" y="419"/>
                </a:lnTo>
                <a:lnTo>
                  <a:pt x="111" y="427"/>
                </a:lnTo>
                <a:lnTo>
                  <a:pt x="0" y="129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62040" y="3618000"/>
            <a:ext cx="112680" cy="66600"/>
          </a:xfrm>
          <a:custGeom>
            <a:avLst/>
            <a:gdLst/>
            <a:ahLst/>
            <a:rect l="l" t="t" r="r" b="b"/>
            <a:pathLst>
              <a:path w="241" h="164">
                <a:moveTo>
                  <a:pt x="17" y="49"/>
                </a:moveTo>
                <a:lnTo>
                  <a:pt x="51" y="15"/>
                </a:lnTo>
                <a:lnTo>
                  <a:pt x="120" y="0"/>
                </a:lnTo>
                <a:lnTo>
                  <a:pt x="211" y="57"/>
                </a:lnTo>
                <a:lnTo>
                  <a:pt x="230" y="113"/>
                </a:lnTo>
                <a:lnTo>
                  <a:pt x="241" y="162"/>
                </a:lnTo>
                <a:lnTo>
                  <a:pt x="199" y="164"/>
                </a:lnTo>
                <a:lnTo>
                  <a:pt x="193" y="84"/>
                </a:lnTo>
                <a:lnTo>
                  <a:pt x="166" y="53"/>
                </a:lnTo>
                <a:lnTo>
                  <a:pt x="133" y="38"/>
                </a:lnTo>
                <a:lnTo>
                  <a:pt x="102" y="71"/>
                </a:lnTo>
                <a:lnTo>
                  <a:pt x="102" y="124"/>
                </a:lnTo>
                <a:lnTo>
                  <a:pt x="71" y="123"/>
                </a:lnTo>
                <a:lnTo>
                  <a:pt x="69" y="76"/>
                </a:lnTo>
                <a:lnTo>
                  <a:pt x="101" y="33"/>
                </a:lnTo>
                <a:lnTo>
                  <a:pt x="69" y="40"/>
                </a:lnTo>
                <a:lnTo>
                  <a:pt x="47" y="77"/>
                </a:lnTo>
                <a:lnTo>
                  <a:pt x="36" y="131"/>
                </a:lnTo>
                <a:lnTo>
                  <a:pt x="2" y="156"/>
                </a:lnTo>
                <a:lnTo>
                  <a:pt x="0" y="97"/>
                </a:lnTo>
                <a:lnTo>
                  <a:pt x="17" y="49"/>
                </a:lnTo>
                <a:lnTo>
                  <a:pt x="17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95520" y="3564000"/>
            <a:ext cx="44280" cy="65160"/>
          </a:xfrm>
          <a:custGeom>
            <a:avLst/>
            <a:gdLst/>
            <a:ahLst/>
            <a:rect l="l" t="t" r="r" b="b"/>
            <a:pathLst>
              <a:path w="94" h="154">
                <a:moveTo>
                  <a:pt x="3" y="139"/>
                </a:moveTo>
                <a:lnTo>
                  <a:pt x="0" y="98"/>
                </a:lnTo>
                <a:lnTo>
                  <a:pt x="44" y="84"/>
                </a:lnTo>
                <a:lnTo>
                  <a:pt x="51" y="9"/>
                </a:lnTo>
                <a:lnTo>
                  <a:pt x="65" y="0"/>
                </a:lnTo>
                <a:lnTo>
                  <a:pt x="65" y="91"/>
                </a:lnTo>
                <a:lnTo>
                  <a:pt x="94" y="118"/>
                </a:lnTo>
                <a:lnTo>
                  <a:pt x="94" y="154"/>
                </a:lnTo>
                <a:lnTo>
                  <a:pt x="3" y="139"/>
                </a:lnTo>
                <a:lnTo>
                  <a:pt x="3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3646440"/>
            <a:ext cx="11160" cy="15840"/>
          </a:xfrm>
          <a:custGeom>
            <a:avLst/>
            <a:gdLst/>
            <a:ahLst/>
            <a:rect l="l" t="t" r="r" b="b"/>
            <a:pathLst>
              <a:path w="25" h="40">
                <a:moveTo>
                  <a:pt x="1" y="33"/>
                </a:moveTo>
                <a:lnTo>
                  <a:pt x="0" y="4"/>
                </a:lnTo>
                <a:lnTo>
                  <a:pt x="25" y="0"/>
                </a:lnTo>
                <a:lnTo>
                  <a:pt x="18" y="40"/>
                </a:lnTo>
                <a:lnTo>
                  <a:pt x="1" y="33"/>
                </a:lnTo>
                <a:lnTo>
                  <a:pt x="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36560" y="3648240"/>
            <a:ext cx="9720" cy="18720"/>
          </a:xfrm>
          <a:custGeom>
            <a:avLst/>
            <a:gdLst/>
            <a:ahLst/>
            <a:rect l="l" t="t" r="r" b="b"/>
            <a:pathLst>
              <a:path w="21" h="49">
                <a:moveTo>
                  <a:pt x="3" y="42"/>
                </a:moveTo>
                <a:lnTo>
                  <a:pt x="0" y="0"/>
                </a:lnTo>
                <a:lnTo>
                  <a:pt x="19" y="17"/>
                </a:lnTo>
                <a:lnTo>
                  <a:pt x="21" y="49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08120" y="3692520"/>
            <a:ext cx="20520" cy="22320"/>
          </a:xfrm>
          <a:custGeom>
            <a:avLst/>
            <a:gdLst/>
            <a:ahLst/>
            <a:rect l="l" t="t" r="r" b="b"/>
            <a:pathLst>
              <a:path w="42" h="54">
                <a:moveTo>
                  <a:pt x="0" y="0"/>
                </a:moveTo>
                <a:lnTo>
                  <a:pt x="0" y="40"/>
                </a:lnTo>
                <a:lnTo>
                  <a:pt x="38" y="54"/>
                </a:lnTo>
                <a:lnTo>
                  <a:pt x="42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52760" y="3699000"/>
            <a:ext cx="17280" cy="28440"/>
          </a:xfrm>
          <a:custGeom>
            <a:avLst/>
            <a:gdLst/>
            <a:ahLst/>
            <a:rect l="l" t="t" r="r" b="b"/>
            <a:pathLst>
              <a:path w="37" h="67">
                <a:moveTo>
                  <a:pt x="0" y="0"/>
                </a:moveTo>
                <a:lnTo>
                  <a:pt x="0" y="53"/>
                </a:lnTo>
                <a:lnTo>
                  <a:pt x="37" y="67"/>
                </a:lnTo>
                <a:lnTo>
                  <a:pt x="35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3280" y="3765600"/>
            <a:ext cx="23760" cy="33120"/>
          </a:xfrm>
          <a:custGeom>
            <a:avLst/>
            <a:gdLst/>
            <a:ahLst/>
            <a:rect l="l" t="t" r="r" b="b"/>
            <a:pathLst>
              <a:path w="51" h="81">
                <a:moveTo>
                  <a:pt x="7" y="0"/>
                </a:moveTo>
                <a:lnTo>
                  <a:pt x="0" y="69"/>
                </a:lnTo>
                <a:lnTo>
                  <a:pt x="38" y="81"/>
                </a:lnTo>
                <a:lnTo>
                  <a:pt x="51" y="25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46200" y="3840120"/>
            <a:ext cx="34920" cy="23760"/>
          </a:xfrm>
          <a:custGeom>
            <a:avLst/>
            <a:gdLst/>
            <a:ahLst/>
            <a:rect l="l" t="t" r="r" b="b"/>
            <a:pathLst>
              <a:path w="76" h="59">
                <a:moveTo>
                  <a:pt x="0" y="0"/>
                </a:moveTo>
                <a:lnTo>
                  <a:pt x="70" y="29"/>
                </a:lnTo>
                <a:lnTo>
                  <a:pt x="76" y="59"/>
                </a:lnTo>
                <a:lnTo>
                  <a:pt x="22" y="5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3884760"/>
            <a:ext cx="30240" cy="219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0"/>
                </a:moveTo>
                <a:lnTo>
                  <a:pt x="50" y="14"/>
                </a:lnTo>
                <a:lnTo>
                  <a:pt x="63" y="57"/>
                </a:lnTo>
                <a:lnTo>
                  <a:pt x="7" y="3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14600" y="3803760"/>
            <a:ext cx="25200" cy="46080"/>
          </a:xfrm>
          <a:custGeom>
            <a:avLst/>
            <a:gdLst/>
            <a:ahLst/>
            <a:rect l="l" t="t" r="r" b="b"/>
            <a:pathLst>
              <a:path w="53" h="111">
                <a:moveTo>
                  <a:pt x="53" y="0"/>
                </a:moveTo>
                <a:lnTo>
                  <a:pt x="0" y="63"/>
                </a:lnTo>
                <a:lnTo>
                  <a:pt x="2" y="111"/>
                </a:lnTo>
                <a:lnTo>
                  <a:pt x="49" y="47"/>
                </a:lnTo>
                <a:lnTo>
                  <a:pt x="53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17840" y="3844800"/>
            <a:ext cx="18720" cy="49320"/>
          </a:xfrm>
          <a:custGeom>
            <a:avLst/>
            <a:gdLst/>
            <a:ahLst/>
            <a:rect l="l" t="t" r="r" b="b"/>
            <a:pathLst>
              <a:path w="44" h="118">
                <a:moveTo>
                  <a:pt x="44" y="0"/>
                </a:moveTo>
                <a:lnTo>
                  <a:pt x="0" y="59"/>
                </a:lnTo>
                <a:lnTo>
                  <a:pt x="3" y="118"/>
                </a:lnTo>
                <a:lnTo>
                  <a:pt x="43" y="40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84360" y="3676680"/>
            <a:ext cx="20520" cy="50760"/>
          </a:xfrm>
          <a:custGeom>
            <a:avLst/>
            <a:gdLst/>
            <a:ahLst/>
            <a:rect l="l" t="t" r="r" b="b"/>
            <a:pathLst>
              <a:path w="46" h="123">
                <a:moveTo>
                  <a:pt x="24" y="0"/>
                </a:moveTo>
                <a:lnTo>
                  <a:pt x="46" y="123"/>
                </a:lnTo>
                <a:lnTo>
                  <a:pt x="18" y="107"/>
                </a:lnTo>
                <a:lnTo>
                  <a:pt x="0" y="7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70040" y="3811680"/>
            <a:ext cx="19080" cy="21960"/>
          </a:xfrm>
          <a:custGeom>
            <a:avLst/>
            <a:gdLst/>
            <a:ahLst/>
            <a:rect l="l" t="t" r="r" b="b"/>
            <a:pathLst>
              <a:path w="41" h="52">
                <a:moveTo>
                  <a:pt x="8" y="0"/>
                </a:moveTo>
                <a:lnTo>
                  <a:pt x="41" y="0"/>
                </a:lnTo>
                <a:lnTo>
                  <a:pt x="30" y="45"/>
                </a:lnTo>
                <a:lnTo>
                  <a:pt x="0" y="52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76360" y="3639960"/>
            <a:ext cx="66600" cy="51120"/>
          </a:xfrm>
          <a:custGeom>
            <a:avLst/>
            <a:gdLst/>
            <a:ahLst/>
            <a:rect l="l" t="t" r="r" b="b"/>
            <a:pathLst>
              <a:path w="145" h="127">
                <a:moveTo>
                  <a:pt x="0" y="0"/>
                </a:moveTo>
                <a:lnTo>
                  <a:pt x="14" y="127"/>
                </a:lnTo>
                <a:lnTo>
                  <a:pt x="145" y="127"/>
                </a:lnTo>
                <a:lnTo>
                  <a:pt x="145" y="44"/>
                </a:lnTo>
                <a:lnTo>
                  <a:pt x="124" y="108"/>
                </a:lnTo>
                <a:lnTo>
                  <a:pt x="57" y="90"/>
                </a:lnTo>
                <a:lnTo>
                  <a:pt x="39" y="47"/>
                </a:lnTo>
                <a:lnTo>
                  <a:pt x="117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84280" y="3718080"/>
            <a:ext cx="60480" cy="52200"/>
          </a:xfrm>
          <a:custGeom>
            <a:avLst/>
            <a:gdLst/>
            <a:ahLst/>
            <a:rect l="l" t="t" r="r" b="b"/>
            <a:pathLst>
              <a:path w="130" h="125">
                <a:moveTo>
                  <a:pt x="120" y="6"/>
                </a:moveTo>
                <a:lnTo>
                  <a:pt x="0" y="0"/>
                </a:lnTo>
                <a:lnTo>
                  <a:pt x="25" y="125"/>
                </a:lnTo>
                <a:lnTo>
                  <a:pt x="130" y="96"/>
                </a:lnTo>
                <a:lnTo>
                  <a:pt x="127" y="56"/>
                </a:lnTo>
                <a:lnTo>
                  <a:pt x="110" y="86"/>
                </a:lnTo>
                <a:lnTo>
                  <a:pt x="55" y="82"/>
                </a:lnTo>
                <a:lnTo>
                  <a:pt x="33" y="37"/>
                </a:lnTo>
                <a:lnTo>
                  <a:pt x="120" y="6"/>
                </a:lnTo>
                <a:lnTo>
                  <a:pt x="12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86040" y="4070520"/>
            <a:ext cx="100080" cy="117360"/>
          </a:xfrm>
          <a:custGeom>
            <a:avLst/>
            <a:gdLst/>
            <a:ahLst/>
            <a:rect l="l" t="t" r="r" b="b"/>
            <a:pathLst>
              <a:path w="215" h="284">
                <a:moveTo>
                  <a:pt x="130" y="46"/>
                </a:moveTo>
                <a:lnTo>
                  <a:pt x="90" y="29"/>
                </a:lnTo>
                <a:lnTo>
                  <a:pt x="30" y="0"/>
                </a:lnTo>
                <a:lnTo>
                  <a:pt x="0" y="29"/>
                </a:lnTo>
                <a:lnTo>
                  <a:pt x="35" y="81"/>
                </a:lnTo>
                <a:lnTo>
                  <a:pt x="0" y="98"/>
                </a:lnTo>
                <a:lnTo>
                  <a:pt x="18" y="159"/>
                </a:lnTo>
                <a:lnTo>
                  <a:pt x="81" y="258"/>
                </a:lnTo>
                <a:lnTo>
                  <a:pt x="120" y="236"/>
                </a:lnTo>
                <a:lnTo>
                  <a:pt x="172" y="284"/>
                </a:lnTo>
                <a:lnTo>
                  <a:pt x="199" y="283"/>
                </a:lnTo>
                <a:lnTo>
                  <a:pt x="215" y="150"/>
                </a:lnTo>
                <a:lnTo>
                  <a:pt x="179" y="229"/>
                </a:lnTo>
                <a:lnTo>
                  <a:pt x="141" y="194"/>
                </a:lnTo>
                <a:lnTo>
                  <a:pt x="95" y="193"/>
                </a:lnTo>
                <a:lnTo>
                  <a:pt x="41" y="109"/>
                </a:lnTo>
                <a:lnTo>
                  <a:pt x="80" y="99"/>
                </a:lnTo>
                <a:lnTo>
                  <a:pt x="35" y="33"/>
                </a:lnTo>
                <a:lnTo>
                  <a:pt x="106" y="52"/>
                </a:lnTo>
                <a:lnTo>
                  <a:pt x="157" y="95"/>
                </a:lnTo>
                <a:lnTo>
                  <a:pt x="210" y="108"/>
                </a:lnTo>
                <a:lnTo>
                  <a:pt x="130" y="46"/>
                </a:lnTo>
                <a:lnTo>
                  <a:pt x="13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170080" y="3912840"/>
            <a:ext cx="3468600" cy="609480"/>
          </a:xfrm>
          <a:prstGeom prst="line">
            <a:avLst/>
          </a:prstGeom>
          <a:ln cap="rnd" w="28440">
            <a:solidFill>
              <a:srgbClr val="c0c0c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352680" y="3276720"/>
            <a:ext cx="1143000" cy="16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38360" y="29098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.234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23880" y="18432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6320" y="3580920"/>
            <a:ext cx="4876200" cy="2820600"/>
            <a:chOff x="76320" y="3580920"/>
            <a:chExt cx="4876200" cy="2820600"/>
          </a:xfrm>
        </p:grpSpPr>
        <p:sp>
          <p:nvSpPr>
            <p:cNvPr id="563" name=""/>
            <p:cNvSpPr/>
            <p:nvPr/>
          </p:nvSpPr>
          <p:spPr>
            <a:xfrm>
              <a:off x="76320" y="5210280"/>
              <a:ext cx="470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decimal number between 0 &amp;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6200000">
              <a:off x="3847680" y="2857320"/>
              <a:ext cx="381240" cy="182844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7320" y="5210280"/>
              <a:ext cx="4092480" cy="1190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6" name=""/>
            <p:cNvCxnSpPr>
              <a:stCxn id="564" idx="1"/>
              <a:endCxn id="565" idx="0"/>
            </p:cNvCxnSpPr>
            <p:nvPr/>
          </p:nvCxnSpPr>
          <p:spPr>
            <a:xfrm rot="5400000">
              <a:off x="2594160" y="3768840"/>
              <a:ext cx="1231200" cy="1653120"/>
            </a:xfrm>
            <a:prstGeom prst="curvedConnector5">
              <a:avLst>
                <a:gd name="adj1" fmla="val 49283"/>
                <a:gd name="adj2" fmla="val 49989"/>
                <a:gd name="adj3" fmla="val 4928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7" name=""/>
          <p:cNvGrpSpPr/>
          <p:nvPr/>
        </p:nvGrpSpPr>
        <p:grpSpPr>
          <a:xfrm>
            <a:off x="4114800" y="3019320"/>
            <a:ext cx="1600200" cy="2190960"/>
            <a:chOff x="4114800" y="3019320"/>
            <a:chExt cx="1600200" cy="2190960"/>
          </a:xfrm>
        </p:grpSpPr>
        <p:sp>
          <p:nvSpPr>
            <p:cNvPr id="568" name=""/>
            <p:cNvSpPr/>
            <p:nvPr/>
          </p:nvSpPr>
          <p:spPr>
            <a:xfrm>
              <a:off x="4114800" y="44640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i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91120" y="4572000"/>
              <a:ext cx="1295280" cy="638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95680" y="3019320"/>
              <a:ext cx="685800" cy="638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" name=""/>
            <p:cNvCxnSpPr>
              <a:stCxn id="569" idx="0"/>
              <a:endCxn id="570" idx="4"/>
            </p:cNvCxnSpPr>
            <p:nvPr/>
          </p:nvCxnSpPr>
          <p:spPr>
            <a:xfrm flipV="1">
              <a:off x="4838400" y="3657240"/>
              <a:ext cx="1080" cy="915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5181480" y="3019320"/>
            <a:ext cx="3429000" cy="3549600"/>
            <a:chOff x="5181480" y="3019320"/>
            <a:chExt cx="3429000" cy="3549600"/>
          </a:xfrm>
        </p:grpSpPr>
        <p:sp>
          <p:nvSpPr>
            <p:cNvPr id="573" name=""/>
            <p:cNvSpPr/>
            <p:nvPr/>
          </p:nvSpPr>
          <p:spPr>
            <a:xfrm>
              <a:off x="5867280" y="4829040"/>
              <a:ext cx="2743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 raised to some pow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67280" y="4829040"/>
              <a:ext cx="2743200" cy="119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81480" y="3019320"/>
              <a:ext cx="990720" cy="638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6" name=""/>
            <p:cNvCxnSpPr>
              <a:stCxn id="574" idx="0"/>
              <a:endCxn id="575" idx="4"/>
            </p:cNvCxnSpPr>
            <p:nvPr/>
          </p:nvCxnSpPr>
          <p:spPr>
            <a:xfrm flipV="1" rot="16200000">
              <a:off x="5871600" y="3461760"/>
              <a:ext cx="1172160" cy="1562760"/>
            </a:xfrm>
            <a:prstGeom prst="curvedConnector5">
              <a:avLst>
                <a:gd name="adj1" fmla="val 49984"/>
                <a:gd name="adj2" fmla="val 50000"/>
                <a:gd name="adj3" fmla="val 4998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880" y="1447920"/>
            <a:ext cx="8382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stance from Earth to Alpha Centaur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62320" y="2209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1,200,000,000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57480" y="2971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 to Scientif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438280" y="373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1200000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943600" y="3733920"/>
            <a:ext cx="542520" cy="1145520"/>
            <a:chOff x="5943600" y="3733920"/>
            <a:chExt cx="542520" cy="1145520"/>
          </a:xfrm>
        </p:grpSpPr>
        <p:sp>
          <p:nvSpPr>
            <p:cNvPr id="583" name=""/>
            <p:cNvSpPr/>
            <p:nvPr/>
          </p:nvSpPr>
          <p:spPr>
            <a:xfrm>
              <a:off x="6169680" y="373392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04080" y="441972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622840" y="4267080"/>
            <a:ext cx="397080" cy="612360"/>
            <a:chOff x="5622840" y="4267080"/>
            <a:chExt cx="397080" cy="612360"/>
          </a:xfrm>
        </p:grpSpPr>
        <p:sp>
          <p:nvSpPr>
            <p:cNvPr id="587" name=""/>
            <p:cNvSpPr/>
            <p:nvPr/>
          </p:nvSpPr>
          <p:spPr>
            <a:xfrm>
              <a:off x="5638680" y="4267080"/>
              <a:ext cx="38124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2284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318280" y="4267080"/>
            <a:ext cx="396720" cy="612360"/>
            <a:chOff x="5318280" y="4267080"/>
            <a:chExt cx="396720" cy="612360"/>
          </a:xfrm>
        </p:grpSpPr>
        <p:sp>
          <p:nvSpPr>
            <p:cNvPr id="590" name=""/>
            <p:cNvSpPr/>
            <p:nvPr/>
          </p:nvSpPr>
          <p:spPr>
            <a:xfrm>
              <a:off x="533412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31828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013360" y="4267080"/>
            <a:ext cx="396720" cy="612360"/>
            <a:chOff x="5013360" y="4267080"/>
            <a:chExt cx="396720" cy="612360"/>
          </a:xfrm>
        </p:grpSpPr>
        <p:sp>
          <p:nvSpPr>
            <p:cNvPr id="593" name=""/>
            <p:cNvSpPr/>
            <p:nvPr/>
          </p:nvSpPr>
          <p:spPr>
            <a:xfrm>
              <a:off x="502920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1336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708440" y="4267080"/>
            <a:ext cx="397080" cy="612360"/>
            <a:chOff x="4708440" y="4267080"/>
            <a:chExt cx="397080" cy="612360"/>
          </a:xfrm>
        </p:grpSpPr>
        <p:sp>
          <p:nvSpPr>
            <p:cNvPr id="596" name=""/>
            <p:cNvSpPr/>
            <p:nvPr/>
          </p:nvSpPr>
          <p:spPr>
            <a:xfrm>
              <a:off x="4724280" y="4267080"/>
              <a:ext cx="38124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0844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4343400" y="4267080"/>
            <a:ext cx="396720" cy="612360"/>
            <a:chOff x="4343400" y="4267080"/>
            <a:chExt cx="396720" cy="612360"/>
          </a:xfrm>
        </p:grpSpPr>
        <p:sp>
          <p:nvSpPr>
            <p:cNvPr id="599" name=""/>
            <p:cNvSpPr/>
            <p:nvPr/>
          </p:nvSpPr>
          <p:spPr>
            <a:xfrm>
              <a:off x="4419720" y="4267080"/>
              <a:ext cx="32040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4340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4038480" y="4267080"/>
            <a:ext cx="465120" cy="612360"/>
            <a:chOff x="4038480" y="4267080"/>
            <a:chExt cx="465120" cy="612360"/>
          </a:xfrm>
        </p:grpSpPr>
        <p:sp>
          <p:nvSpPr>
            <p:cNvPr id="602" name=""/>
            <p:cNvSpPr/>
            <p:nvPr/>
          </p:nvSpPr>
          <p:spPr>
            <a:xfrm>
              <a:off x="412272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3848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3749760" y="4267080"/>
            <a:ext cx="449280" cy="612360"/>
            <a:chOff x="3749760" y="4267080"/>
            <a:chExt cx="449280" cy="612360"/>
          </a:xfrm>
        </p:grpSpPr>
        <p:sp>
          <p:nvSpPr>
            <p:cNvPr id="605" name=""/>
            <p:cNvSpPr/>
            <p:nvPr/>
          </p:nvSpPr>
          <p:spPr>
            <a:xfrm>
              <a:off x="3817800" y="4267080"/>
              <a:ext cx="38124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4976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444840" y="4267080"/>
            <a:ext cx="449280" cy="612360"/>
            <a:chOff x="3444840" y="4267080"/>
            <a:chExt cx="449280" cy="612360"/>
          </a:xfrm>
        </p:grpSpPr>
        <p:sp>
          <p:nvSpPr>
            <p:cNvPr id="608" name=""/>
            <p:cNvSpPr/>
            <p:nvPr/>
          </p:nvSpPr>
          <p:spPr>
            <a:xfrm>
              <a:off x="351324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4484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032280" y="4267080"/>
            <a:ext cx="581040" cy="612360"/>
            <a:chOff x="3032280" y="4267080"/>
            <a:chExt cx="581040" cy="612360"/>
          </a:xfrm>
        </p:grpSpPr>
        <p:sp>
          <p:nvSpPr>
            <p:cNvPr id="611" name=""/>
            <p:cNvSpPr/>
            <p:nvPr/>
          </p:nvSpPr>
          <p:spPr>
            <a:xfrm>
              <a:off x="3200400" y="4267080"/>
              <a:ext cx="41292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32280" y="44197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962800" y="37339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06560" y="524988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4.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83760" y="5249880"/>
            <a:ext cx="14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90280" y="5249880"/>
            <a:ext cx="9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k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In this unit we will review arithmetic operations inclu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676600"/>
            <a:ext cx="5410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vision of integers,decimal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and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onents and ro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tio and pro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2286000" y="1981080"/>
            <a:ext cx="4572000" cy="1389240"/>
            <a:chOff x="2286000" y="1981080"/>
            <a:chExt cx="4572000" cy="1389240"/>
          </a:xfrm>
        </p:grpSpPr>
        <p:sp>
          <p:nvSpPr>
            <p:cNvPr id="618" name=""/>
            <p:cNvSpPr/>
            <p:nvPr/>
          </p:nvSpPr>
          <p:spPr>
            <a:xfrm>
              <a:off x="2286000" y="2263680"/>
              <a:ext cx="45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Rule        =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4038480" y="1981080"/>
              <a:ext cx="1066680" cy="1389240"/>
              <a:chOff x="4038480" y="1981080"/>
              <a:chExt cx="1066680" cy="1389240"/>
            </a:xfrm>
          </p:grpSpPr>
          <p:sp>
            <p:nvSpPr>
              <p:cNvPr id="620" name=""/>
              <p:cNvSpPr/>
              <p:nvPr/>
            </p:nvSpPr>
            <p:spPr>
              <a:xfrm>
                <a:off x="4267080" y="198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038480" y="2666880"/>
                <a:ext cx="1066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38480" y="2682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1905120" y="3809880"/>
            <a:ext cx="5333760" cy="1830960"/>
            <a:chOff x="1905120" y="3809880"/>
            <a:chExt cx="5333760" cy="1830960"/>
          </a:xfrm>
        </p:grpSpPr>
        <p:sp>
          <p:nvSpPr>
            <p:cNvPr id="624" name=""/>
            <p:cNvSpPr/>
            <p:nvPr/>
          </p:nvSpPr>
          <p:spPr>
            <a:xfrm>
              <a:off x="1905120" y="4084560"/>
              <a:ext cx="5333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Example: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4705200" y="3809880"/>
              <a:ext cx="780480" cy="1373400"/>
              <a:chOff x="4705200" y="3809880"/>
              <a:chExt cx="780480" cy="1373400"/>
            </a:xfrm>
          </p:grpSpPr>
          <p:sp>
            <p:nvSpPr>
              <p:cNvPr id="626" name=""/>
              <p:cNvSpPr/>
              <p:nvPr/>
            </p:nvSpPr>
            <p:spPr>
              <a:xfrm>
                <a:off x="4860000" y="38098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44440" y="4479840"/>
                <a:ext cx="558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05200" y="4495680"/>
                <a:ext cx="78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9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2209680" y="125748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627360" y="1905120"/>
            <a:ext cx="439920" cy="977760"/>
            <a:chOff x="3627360" y="1905120"/>
            <a:chExt cx="439920" cy="977760"/>
          </a:xfrm>
        </p:grpSpPr>
        <p:sp>
          <p:nvSpPr>
            <p:cNvPr id="633" name=""/>
            <p:cNvSpPr/>
            <p:nvPr/>
          </p:nvSpPr>
          <p:spPr>
            <a:xfrm>
              <a:off x="365076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52560" y="23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27360" y="2376360"/>
              <a:ext cx="43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6657120" y="2071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50320" y="2819520"/>
            <a:ext cx="586080" cy="991800"/>
            <a:chOff x="3550320" y="2819520"/>
            <a:chExt cx="586080" cy="991800"/>
          </a:xfrm>
        </p:grpSpPr>
        <p:sp>
          <p:nvSpPr>
            <p:cNvPr id="639" name=""/>
            <p:cNvSpPr/>
            <p:nvPr/>
          </p:nvSpPr>
          <p:spPr>
            <a:xfrm>
              <a:off x="3650400" y="2819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50320" y="32907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84160" y="3290760"/>
              <a:ext cx="5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6615360" y="29941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3452760" y="3733920"/>
            <a:ext cx="788760" cy="991800"/>
            <a:chOff x="3452760" y="3733920"/>
            <a:chExt cx="788760" cy="991800"/>
          </a:xfrm>
        </p:grpSpPr>
        <p:sp>
          <p:nvSpPr>
            <p:cNvPr id="645" name=""/>
            <p:cNvSpPr/>
            <p:nvPr/>
          </p:nvSpPr>
          <p:spPr>
            <a:xfrm>
              <a:off x="3655440" y="3733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52760" y="420516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71480" y="4205160"/>
              <a:ext cx="76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6616080" y="39085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47242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352320" y="4648320"/>
            <a:ext cx="994320" cy="991800"/>
            <a:chOff x="3352320" y="4648320"/>
            <a:chExt cx="994320" cy="991800"/>
          </a:xfrm>
        </p:grpSpPr>
        <p:sp>
          <p:nvSpPr>
            <p:cNvPr id="651" name=""/>
            <p:cNvSpPr/>
            <p:nvPr/>
          </p:nvSpPr>
          <p:spPr>
            <a:xfrm>
              <a:off x="3655800" y="4648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52320" y="511956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78240" y="5119560"/>
              <a:ext cx="96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202920" y="5562720"/>
            <a:ext cx="1300320" cy="977760"/>
            <a:chOff x="3202920" y="5562720"/>
            <a:chExt cx="1300320" cy="977760"/>
          </a:xfrm>
        </p:grpSpPr>
        <p:sp>
          <p:nvSpPr>
            <p:cNvPr id="656" name=""/>
            <p:cNvSpPr/>
            <p:nvPr/>
          </p:nvSpPr>
          <p:spPr>
            <a:xfrm>
              <a:off x="3655440" y="5562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2920" y="601992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219480" y="6019560"/>
              <a:ext cx="128376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616080" y="48229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16080" y="572940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91520" y="2071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030680" y="29941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01080" y="390852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70040" y="482292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9000" y="572940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133720" y="1371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088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257800" y="13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981080" y="1447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ameter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23880" y="28004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000 000 000 006 41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590920" y="48769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.41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-12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057400" y="2800440"/>
            <a:ext cx="4428720" cy="1544400"/>
            <a:chOff x="2057400" y="2800440"/>
            <a:chExt cx="4428720" cy="1544400"/>
          </a:xfrm>
        </p:grpSpPr>
        <p:sp>
          <p:nvSpPr>
            <p:cNvPr id="675" name=""/>
            <p:cNvSpPr/>
            <p:nvPr/>
          </p:nvSpPr>
          <p:spPr>
            <a:xfrm>
              <a:off x="2057400" y="3333960"/>
              <a:ext cx="4267080" cy="304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11120" y="3702240"/>
              <a:ext cx="217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 pla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169680" y="280044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479040" y="68112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53341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quare ro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676520" y="2604960"/>
                <a:ext cx="495288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2" name=""/>
          <p:cNvGrpSpPr/>
          <p:nvPr/>
        </p:nvGrpSpPr>
        <p:grpSpPr>
          <a:xfrm>
            <a:off x="2823480" y="2540160"/>
            <a:ext cx="4002840" cy="2871720"/>
            <a:chOff x="2823480" y="2540160"/>
            <a:chExt cx="4002840" cy="2871720"/>
          </a:xfrm>
        </p:grpSpPr>
        <p:sp>
          <p:nvSpPr>
            <p:cNvPr id="683" name=""/>
            <p:cNvSpPr/>
            <p:nvPr/>
          </p:nvSpPr>
          <p:spPr>
            <a:xfrm>
              <a:off x="2823480" y="2540160"/>
              <a:ext cx="111816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339933"/>
                  </a:solidFill>
                  <a:latin typeface="Comic Sans MS"/>
                </a:rPr>
                <a:t>9</a:t>
              </a:r>
              <a:endParaRPr b="0" lang="en-US" sz="1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3382200" y="4368240"/>
              <a:ext cx="3444120" cy="1043640"/>
              <a:chOff x="3382200" y="4368240"/>
              <a:chExt cx="3444120" cy="1043640"/>
            </a:xfrm>
          </p:grpSpPr>
          <p:sp>
            <p:nvSpPr>
              <p:cNvPr id="685" name=""/>
              <p:cNvSpPr/>
              <p:nvPr/>
            </p:nvSpPr>
            <p:spPr>
              <a:xfrm>
                <a:off x="4446360" y="4708440"/>
                <a:ext cx="2379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0066"/>
                    </a:solidFill>
                    <a:latin typeface="Comic Sans MS"/>
                  </a:rPr>
                  <a:t>Radican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86" name=""/>
              <p:cNvCxnSpPr>
                <a:stCxn id="685" idx="1"/>
                <a:endCxn id="683" idx="2"/>
              </p:cNvCxnSpPr>
              <p:nvPr/>
            </p:nvCxnSpPr>
            <p:spPr>
              <a:xfrm rot="10800000">
                <a:off x="3381840" y="4368240"/>
                <a:ext cx="1108800" cy="641880"/>
              </a:xfrm>
              <a:prstGeom prst="curvedConnector2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87" name=""/>
          <p:cNvGrpSpPr/>
          <p:nvPr/>
        </p:nvGrpSpPr>
        <p:grpSpPr>
          <a:xfrm>
            <a:off x="5105520" y="1798560"/>
            <a:ext cx="4038120" cy="2775600"/>
            <a:chOff x="5105520" y="1798560"/>
            <a:chExt cx="4038120" cy="2775600"/>
          </a:xfrm>
        </p:grpSpPr>
        <p:sp>
          <p:nvSpPr>
            <p:cNvPr id="688" name=""/>
            <p:cNvSpPr/>
            <p:nvPr/>
          </p:nvSpPr>
          <p:spPr>
            <a:xfrm>
              <a:off x="5568480" y="2697120"/>
              <a:ext cx="103104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1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5105520" y="1798560"/>
              <a:ext cx="4038120" cy="1096920"/>
              <a:chOff x="5105520" y="1798560"/>
              <a:chExt cx="4038120" cy="1096920"/>
            </a:xfrm>
          </p:grpSpPr>
          <p:sp>
            <p:nvSpPr>
              <p:cNvPr id="690" name=""/>
              <p:cNvSpPr/>
              <p:nvPr/>
            </p:nvSpPr>
            <p:spPr>
              <a:xfrm>
                <a:off x="5105520" y="1798560"/>
                <a:ext cx="40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cc"/>
                    </a:solidFill>
                    <a:latin typeface="Comic Sans MS"/>
                  </a:rPr>
                  <a:t>Square roo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91" name=""/>
              <p:cNvCxnSpPr>
                <a:stCxn id="690" idx="2"/>
                <a:endCxn id="688" idx="0"/>
              </p:cNvCxnSpPr>
              <p:nvPr/>
            </p:nvCxnSpPr>
            <p:spPr>
              <a:xfrm rot="5400000">
                <a:off x="6277680" y="2048760"/>
                <a:ext cx="469080" cy="1225440"/>
              </a:xfrm>
              <a:prstGeom prst="curvedConnector5">
                <a:avLst>
                  <a:gd name="adj1" fmla="val 49769"/>
                  <a:gd name="adj2" fmla="val 49985"/>
                  <a:gd name="adj3" fmla="val 49769"/>
                </a:avLst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92" name=""/>
          <p:cNvGrpSpPr/>
          <p:nvPr/>
        </p:nvGrpSpPr>
        <p:grpSpPr>
          <a:xfrm>
            <a:off x="1103400" y="1573200"/>
            <a:ext cx="3280320" cy="2016360"/>
            <a:chOff x="1103400" y="1573200"/>
            <a:chExt cx="3280320" cy="2016360"/>
          </a:xfrm>
        </p:grpSpPr>
        <p:sp>
          <p:nvSpPr>
            <p:cNvPr id="693" name=""/>
            <p:cNvSpPr/>
            <p:nvPr/>
          </p:nvSpPr>
          <p:spPr>
            <a:xfrm>
              <a:off x="1330200" y="1573200"/>
              <a:ext cx="305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Radical Sig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4" name=""/>
            <p:cNvCxnSpPr/>
            <p:nvPr/>
          </p:nvCxnSpPr>
          <p:spPr>
            <a:xfrm flipH="1" flipV="1" rot="10800000">
              <a:off x="1331640" y="1874520"/>
              <a:ext cx="991440" cy="1715040"/>
            </a:xfrm>
            <a:prstGeom prst="curvedConnector5">
              <a:avLst>
                <a:gd name="adj1" fmla="val -23065"/>
                <a:gd name="adj2" fmla="val 49989"/>
                <a:gd name="adj3" fmla="val -2306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657600" y="7621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612080" y="1646280"/>
            <a:ext cx="1560960" cy="1312920"/>
            <a:chOff x="1612080" y="1646280"/>
            <a:chExt cx="1560960" cy="1312920"/>
          </a:xfrm>
        </p:grpSpPr>
        <p:grpSp>
          <p:nvGrpSpPr>
            <p:cNvPr id="697" name=""/>
            <p:cNvGrpSpPr/>
            <p:nvPr/>
          </p:nvGrpSpPr>
          <p:grpSpPr>
            <a:xfrm>
              <a:off x="1612080" y="1646280"/>
              <a:ext cx="1560960" cy="1312920"/>
              <a:chOff x="1612080" y="1646280"/>
              <a:chExt cx="1560960" cy="1312920"/>
            </a:xfrm>
          </p:grpSpPr>
          <p:sp>
            <p:nvSpPr>
              <p:cNvPr id="698" name=""/>
              <p:cNvSpPr/>
              <p:nvPr/>
            </p:nvSpPr>
            <p:spPr>
              <a:xfrm>
                <a:off x="1612080" y="1646280"/>
                <a:ext cx="721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222280" y="1712880"/>
                <a:ext cx="95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2330280" y="17013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31720" y="2285640"/>
              <a:ext cx="70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30280" y="22683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685320" y="1528920"/>
            <a:ext cx="1700640" cy="1545120"/>
            <a:chOff x="3685320" y="1528920"/>
            <a:chExt cx="1700640" cy="1545120"/>
          </a:xfrm>
        </p:grpSpPr>
        <p:sp>
          <p:nvSpPr>
            <p:cNvPr id="704" name=""/>
            <p:cNvSpPr/>
            <p:nvPr/>
          </p:nvSpPr>
          <p:spPr>
            <a:xfrm>
              <a:off x="3685320" y="1949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258800" y="1528920"/>
              <a:ext cx="1127160" cy="1545120"/>
              <a:chOff x="4258800" y="1528920"/>
              <a:chExt cx="1127160" cy="15451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4264200" y="1528920"/>
                <a:ext cx="1121760" cy="764280"/>
                <a:chOff x="4264200" y="1528920"/>
                <a:chExt cx="1121760" cy="7642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647600" y="158904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8" name=""/>
                <p:cNvGrpSpPr/>
                <p:nvPr/>
              </p:nvGrpSpPr>
              <p:grpSpPr>
                <a:xfrm>
                  <a:off x="4264200" y="1528920"/>
                  <a:ext cx="1121760" cy="764280"/>
                  <a:chOff x="4264200" y="1528920"/>
                  <a:chExt cx="1121760" cy="76428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4264200" y="152892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4642920" y="1576440"/>
                    <a:ext cx="743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1" name=""/>
              <p:cNvGrpSpPr/>
              <p:nvPr/>
            </p:nvGrpSpPr>
            <p:grpSpPr>
              <a:xfrm>
                <a:off x="4262760" y="2309760"/>
                <a:ext cx="1121040" cy="764280"/>
                <a:chOff x="4262760" y="2309760"/>
                <a:chExt cx="1121040" cy="76428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4609800" y="23698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3" name=""/>
                <p:cNvGrpSpPr/>
                <p:nvPr/>
              </p:nvGrpSpPr>
              <p:grpSpPr>
                <a:xfrm>
                  <a:off x="4262760" y="2309760"/>
                  <a:ext cx="1121040" cy="764280"/>
                  <a:chOff x="4262760" y="2309760"/>
                  <a:chExt cx="1121040" cy="76428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>
                    <a:off x="4262760" y="230976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641120" y="2357280"/>
                    <a:ext cx="74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6" name=""/>
              <p:cNvSpPr/>
              <p:nvPr/>
            </p:nvSpPr>
            <p:spPr>
              <a:xfrm>
                <a:off x="4258800" y="2230560"/>
                <a:ext cx="112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6007680" y="1644480"/>
            <a:ext cx="1074600" cy="1223640"/>
            <a:chOff x="6007680" y="1644480"/>
            <a:chExt cx="1074600" cy="1223640"/>
          </a:xfrm>
        </p:grpSpPr>
        <p:sp>
          <p:nvSpPr>
            <p:cNvPr id="718" name=""/>
            <p:cNvSpPr/>
            <p:nvPr/>
          </p:nvSpPr>
          <p:spPr>
            <a:xfrm>
              <a:off x="6007680" y="19364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639480" y="1644480"/>
              <a:ext cx="442800" cy="1223640"/>
              <a:chOff x="6639480" y="1644480"/>
              <a:chExt cx="442800" cy="1223640"/>
            </a:xfrm>
          </p:grpSpPr>
          <p:sp>
            <p:nvSpPr>
              <p:cNvPr id="720" name=""/>
              <p:cNvSpPr/>
              <p:nvPr/>
            </p:nvSpPr>
            <p:spPr>
              <a:xfrm>
                <a:off x="6639480" y="1644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39480" y="22255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653160" y="2239920"/>
                <a:ext cx="41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1715760" y="3879720"/>
            <a:ext cx="5186160" cy="1240920"/>
            <a:chOff x="1715760" y="3879720"/>
            <a:chExt cx="5186160" cy="1240920"/>
          </a:xfrm>
        </p:grpSpPr>
        <p:sp>
          <p:nvSpPr>
            <p:cNvPr id="724" name=""/>
            <p:cNvSpPr/>
            <p:nvPr/>
          </p:nvSpPr>
          <p:spPr>
            <a:xfrm>
              <a:off x="1715760" y="414792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ecau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061160" y="3887640"/>
              <a:ext cx="442800" cy="1223640"/>
              <a:chOff x="4061160" y="3887640"/>
              <a:chExt cx="442800" cy="1223640"/>
            </a:xfrm>
          </p:grpSpPr>
          <p:sp>
            <p:nvSpPr>
              <p:cNvPr id="726" name=""/>
              <p:cNvSpPr/>
              <p:nvPr/>
            </p:nvSpPr>
            <p:spPr>
              <a:xfrm>
                <a:off x="4074480" y="4483080"/>
                <a:ext cx="41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61160" y="3887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061160" y="44686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5104080" y="3887640"/>
              <a:ext cx="442800" cy="1223640"/>
              <a:chOff x="5104080" y="3887640"/>
              <a:chExt cx="442800" cy="1223640"/>
            </a:xfrm>
          </p:grpSpPr>
          <p:sp>
            <p:nvSpPr>
              <p:cNvPr id="730" name=""/>
              <p:cNvSpPr/>
              <p:nvPr/>
            </p:nvSpPr>
            <p:spPr>
              <a:xfrm>
                <a:off x="5117400" y="4483080"/>
                <a:ext cx="41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104080" y="3887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104080" y="44686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4605120" y="414792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43720" y="4147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6195240" y="3879720"/>
              <a:ext cx="706680" cy="1240920"/>
              <a:chOff x="6195240" y="3879720"/>
              <a:chExt cx="706680" cy="1240920"/>
            </a:xfrm>
          </p:grpSpPr>
          <p:sp>
            <p:nvSpPr>
              <p:cNvPr id="736" name=""/>
              <p:cNvSpPr/>
              <p:nvPr/>
            </p:nvSpPr>
            <p:spPr>
              <a:xfrm>
                <a:off x="6197040" y="38797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195240" y="44780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8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97040" y="4495680"/>
                <a:ext cx="701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5105520" cy="346896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 txBox="1"/>
          <p:nvPr/>
        </p:nvSpPr>
        <p:spPr>
          <a:xfrm>
            <a:off x="1295280" y="1981080"/>
            <a:ext cx="685800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Order of Operation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741" name=""/>
          <p:cNvSpPr/>
          <p:nvPr/>
        </p:nvSpPr>
        <p:spPr>
          <a:xfrm>
            <a:off x="5502600" y="396252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0826600">
            <a:off x="6607440" y="3809520"/>
            <a:ext cx="5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25360" y="434340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17760" y="435780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Comic Sans MS"/>
              </a:rPr>
              <a:t>÷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80280" y="7351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sp>
          <p:nvSpPr>
            <p:cNvPr id="748" name=""/>
            <p:cNvSpPr/>
            <p:nvPr/>
          </p:nvSpPr>
          <p:spPr>
            <a:xfrm>
              <a:off x="993240" y="1752480"/>
              <a:ext cx="700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(2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8)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4 + 2 </a:t>
              </a:r>
              <a:r>
                <a:rPr b="0" lang="en-US" sz="6600" spc="-1" strike="noStrike" baseline="24000">
                  <a:solidFill>
                    <a:srgbClr val="000000"/>
                  </a:solidFill>
                  <a:latin typeface="Comic Sans MS"/>
                  <a:ea typeface="Tahoma"/>
                </a:rPr>
                <a:t>.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2 +         = 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9" name=""/>
                <p:cNvSpPr txBox="1"/>
                <p:nvPr/>
              </p:nvSpPr>
              <p:spPr>
                <a:xfrm>
                  <a:off x="6019920" y="1790640"/>
                  <a:ext cx="12952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0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sp>
          <p:nvSpPr>
            <p:cNvPr id="751" name=""/>
            <p:cNvSpPr/>
            <p:nvPr/>
          </p:nvSpPr>
          <p:spPr>
            <a:xfrm>
              <a:off x="993240" y="1752480"/>
              <a:ext cx="7006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(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8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)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4 + 2 </a:t>
              </a:r>
              <a:r>
                <a:rPr b="0" lang="en-US" sz="6600" spc="-1" strike="noStrike" baseline="24000">
                  <a:solidFill>
                    <a:srgbClr val="000000"/>
                  </a:solidFill>
                  <a:latin typeface="Comic Sans MS"/>
                  <a:ea typeface="Tahoma"/>
                </a:rPr>
                <a:t>.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2 +         = 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6019920" y="1790640"/>
                  <a:ext cx="12952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"/>
          <p:cNvGrpSpPr/>
          <p:nvPr/>
        </p:nvGrpSpPr>
        <p:grpSpPr>
          <a:xfrm>
            <a:off x="993240" y="1752480"/>
            <a:ext cx="7006680" cy="1099440"/>
            <a:chOff x="993240" y="1752480"/>
            <a:chExt cx="7006680" cy="1099440"/>
          </a:xfrm>
        </p:grpSpPr>
        <p:grpSp>
          <p:nvGrpSpPr>
            <p:cNvPr id="754" name=""/>
            <p:cNvGrpSpPr/>
            <p:nvPr/>
          </p:nvGrpSpPr>
          <p:grpSpPr>
            <a:xfrm>
              <a:off x="993240" y="1752480"/>
              <a:ext cx="7006680" cy="1099440"/>
              <a:chOff x="993240" y="1752480"/>
              <a:chExt cx="7006680" cy="1099440"/>
            </a:xfrm>
          </p:grpSpPr>
          <p:sp>
            <p:nvSpPr>
              <p:cNvPr id="755" name=""/>
              <p:cNvSpPr/>
              <p:nvPr/>
            </p:nvSpPr>
            <p:spPr>
              <a:xfrm>
                <a:off x="993240" y="1752480"/>
                <a:ext cx="7006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+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÷ 4 + 2 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.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+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601992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7" name=""/>
            <p:cNvSpPr/>
            <p:nvPr/>
          </p:nvSpPr>
          <p:spPr>
            <a:xfrm>
              <a:off x="626796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991800" y="1752480"/>
            <a:ext cx="7006680" cy="1099440"/>
            <a:chOff x="991800" y="1752480"/>
            <a:chExt cx="7006680" cy="1099440"/>
          </a:xfrm>
        </p:grpSpPr>
        <p:grpSp>
          <p:nvGrpSpPr>
            <p:cNvPr id="759" name=""/>
            <p:cNvGrpSpPr/>
            <p:nvPr/>
          </p:nvGrpSpPr>
          <p:grpSpPr>
            <a:xfrm>
              <a:off x="991800" y="1752480"/>
              <a:ext cx="7006680" cy="1099440"/>
              <a:chOff x="991800" y="1752480"/>
              <a:chExt cx="7006680" cy="1099440"/>
            </a:xfrm>
          </p:grpSpPr>
          <p:sp>
            <p:nvSpPr>
              <p:cNvPr id="760" name=""/>
              <p:cNvSpPr/>
              <p:nvPr/>
            </p:nvSpPr>
            <p:spPr>
              <a:xfrm>
                <a:off x="991800" y="1752480"/>
                <a:ext cx="7006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+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cc66ff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+ 2 </a:t>
                </a:r>
                <a:r>
                  <a:rPr b="0" lang="en-US" sz="6600" spc="-1" strike="noStrike" baseline="24000">
                    <a:solidFill>
                      <a:srgbClr val="cc66ff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+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1" name=""/>
                  <p:cNvSpPr txBox="1"/>
                  <p:nvPr/>
                </p:nvSpPr>
                <p:spPr>
                  <a:xfrm>
                    <a:off x="601848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2" name=""/>
            <p:cNvSpPr/>
            <p:nvPr/>
          </p:nvSpPr>
          <p:spPr>
            <a:xfrm>
              <a:off x="62665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993240" y="1752480"/>
            <a:ext cx="7006320" cy="1099440"/>
            <a:chOff x="993240" y="1752480"/>
            <a:chExt cx="7006320" cy="1099440"/>
          </a:xfrm>
        </p:grpSpPr>
        <p:grpSp>
          <p:nvGrpSpPr>
            <p:cNvPr id="764" name=""/>
            <p:cNvGrpSpPr/>
            <p:nvPr/>
          </p:nvGrpSpPr>
          <p:grpSpPr>
            <a:xfrm>
              <a:off x="993240" y="1752480"/>
              <a:ext cx="7006320" cy="1099440"/>
              <a:chOff x="993240" y="1752480"/>
              <a:chExt cx="7006320" cy="1099440"/>
            </a:xfrm>
          </p:grpSpPr>
          <p:sp>
            <p:nvSpPr>
              <p:cNvPr id="765" name=""/>
              <p:cNvSpPr/>
              <p:nvPr/>
            </p:nvSpPr>
            <p:spPr>
              <a:xfrm>
                <a:off x="993240" y="1752480"/>
                <a:ext cx="7006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339933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cc66ff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2 </a:t>
                </a:r>
                <a:r>
                  <a:rPr b="0" lang="en-US" sz="6600" spc="-1" strike="noStrike" baseline="24000">
                    <a:solidFill>
                      <a:srgbClr val="cc66ff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6" name=""/>
                  <p:cNvSpPr txBox="1"/>
                  <p:nvPr/>
                </p:nvSpPr>
                <p:spPr>
                  <a:xfrm>
                    <a:off x="601992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7" name=""/>
            <p:cNvSpPr/>
            <p:nvPr/>
          </p:nvSpPr>
          <p:spPr>
            <a:xfrm>
              <a:off x="626796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9933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436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0812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120" y="300024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360" y="2971800"/>
            <a:ext cx="767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08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Comic Sans MS"/>
              </a:rPr>
              <a:t>Addition/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916920" y="1752480"/>
            <a:ext cx="7006320" cy="1099440"/>
            <a:chOff x="916920" y="1752480"/>
            <a:chExt cx="7006320" cy="1099440"/>
          </a:xfrm>
        </p:grpSpPr>
        <p:grpSp>
          <p:nvGrpSpPr>
            <p:cNvPr id="773" name=""/>
            <p:cNvGrpSpPr/>
            <p:nvPr/>
          </p:nvGrpSpPr>
          <p:grpSpPr>
            <a:xfrm>
              <a:off x="916920" y="1752480"/>
              <a:ext cx="7006320" cy="1099440"/>
              <a:chOff x="916920" y="1752480"/>
              <a:chExt cx="7006320" cy="1099440"/>
            </a:xfrm>
          </p:grpSpPr>
          <p:sp>
            <p:nvSpPr>
              <p:cNvPr id="774" name=""/>
              <p:cNvSpPr/>
              <p:nvPr/>
            </p:nvSpPr>
            <p:spPr>
              <a:xfrm>
                <a:off x="916920" y="1752480"/>
                <a:ext cx="7006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(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 baseline="30000">
                    <a:solidFill>
                      <a:srgbClr val="008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8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4400" spc="-1" strike="noStrike">
                    <a:solidFill>
                      <a:srgbClr val="cc0000"/>
                    </a:solidFill>
                    <a:latin typeface="Comic Sans MS"/>
                    <a:ea typeface="Tahoma"/>
                  </a:rPr>
                  <a:t>÷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4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2 </a:t>
                </a:r>
                <a:r>
                  <a:rPr b="0" lang="en-US" sz="6600" spc="-1" strike="noStrike" baseline="24000">
                    <a:solidFill>
                      <a:srgbClr val="cc0000"/>
                    </a:solidFill>
                    <a:latin typeface="Comic Sans MS"/>
                    <a:ea typeface="Tahoma"/>
                  </a:rPr>
                  <a:t>.</a:t>
                </a:r>
                <a:r>
                  <a:rPr b="0" lang="en-US" sz="6600" spc="-1" strike="noStrike" baseline="24000">
                    <a:solidFill>
                      <a:srgbClr val="000000"/>
                    </a:solidFill>
                    <a:latin typeface="Comic Sans MS"/>
                    <a:ea typeface="Tahoma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2 </a:t>
                </a:r>
                <a:r>
                  <a:rPr b="0" lang="en-US" sz="4400" spc="-1" strike="noStrike">
                    <a:solidFill>
                      <a:srgbClr val="006666"/>
                    </a:solidFill>
                    <a:latin typeface="Comic Sans MS"/>
                    <a:ea typeface="Tahoma"/>
                  </a:rPr>
                  <a:t>+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  <a:ea typeface="Tahoma"/>
                  </a:rPr>
                  <a:t>         = 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5" name=""/>
                  <p:cNvSpPr txBox="1"/>
                  <p:nvPr/>
                </p:nvSpPr>
                <p:spPr>
                  <a:xfrm>
                    <a:off x="5943600" y="1790640"/>
                    <a:ext cx="1295280" cy="64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76" name=""/>
            <p:cNvSpPr/>
            <p:nvPr/>
          </p:nvSpPr>
          <p:spPr>
            <a:xfrm>
              <a:off x="619164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473040" y="332424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 rot="16200000">
            <a:off x="1485360" y="1637640"/>
            <a:ext cx="381240" cy="1981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80640" y="335268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32560" y="7351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704880" y="15588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8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0400" y="32479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40320" y="7351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353120" y="1596960"/>
            <a:ext cx="297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6666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8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)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37600" y="16606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1144080" y="16002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66ff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66ff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789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790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99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32560" y="7351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410080" y="1600200"/>
            <a:ext cx="1335600" cy="825120"/>
            <a:chOff x="5410080" y="1600200"/>
            <a:chExt cx="1335600" cy="825120"/>
          </a:xfrm>
        </p:grpSpPr>
        <p:pic>
          <p:nvPicPr>
            <p:cNvPr id="795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5518080" y="1600200"/>
              <a:ext cx="122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9933"/>
                  </a:solidFill>
                  <a:latin typeface="Comic Sans MS"/>
                </a:rPr>
                <a:t>12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410080" y="1676520"/>
            <a:ext cx="1218960" cy="685080"/>
            <a:chOff x="5410080" y="1676520"/>
            <a:chExt cx="1218960" cy="685080"/>
          </a:xfrm>
        </p:grpSpPr>
        <p:sp>
          <p:nvSpPr>
            <p:cNvPr id="798" name=""/>
            <p:cNvSpPr/>
            <p:nvPr/>
          </p:nvSpPr>
          <p:spPr>
            <a:xfrm>
              <a:off x="5714640" y="16765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511600" y="1676520"/>
              <a:ext cx="203040" cy="68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5410080" y="2190600"/>
              <a:ext cx="101520" cy="17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15120" y="7621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720" y="1265400"/>
            <a:ext cx="8454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 asks the questio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9810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How can I split things into groups containing equal amoun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35053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1911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34290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4197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15000" y="34290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4956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41148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505320"/>
            <a:ext cx="53316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380988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52578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41911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518148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4956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5562720"/>
            <a:ext cx="53352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518148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572000"/>
            <a:ext cx="533160" cy="5335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4876920"/>
            <a:ext cx="533160" cy="53316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140840" y="16146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66ff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66ff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04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66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32560" y="7351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5410080" y="1600200"/>
            <a:ext cx="1295280" cy="825120"/>
            <a:chOff x="5410080" y="1600200"/>
            <a:chExt cx="1295280" cy="825120"/>
          </a:xfrm>
        </p:grpSpPr>
        <p:pic>
          <p:nvPicPr>
            <p:cNvPr id="809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506560" y="16002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8000"/>
                  </a:solidFill>
                  <a:latin typeface="Comic Sans MS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140840" y="16146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0000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813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14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932560" y="7351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5410080" y="1600200"/>
            <a:ext cx="1295280" cy="825120"/>
            <a:chOff x="5410080" y="1600200"/>
            <a:chExt cx="1295280" cy="825120"/>
          </a:xfrm>
        </p:grpSpPr>
        <p:pic>
          <p:nvPicPr>
            <p:cNvPr id="819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5506560" y="16002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8000"/>
                  </a:solidFill>
                  <a:latin typeface="Comic Sans MS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14400" y="1600200"/>
            <a:ext cx="1981080" cy="907920"/>
            <a:chOff x="914400" y="1600200"/>
            <a:chExt cx="1981080" cy="907920"/>
          </a:xfrm>
        </p:grpSpPr>
        <p:pic>
          <p:nvPicPr>
            <p:cNvPr id="822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19810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61316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3429000" y="1600200"/>
            <a:ext cx="1295280" cy="907920"/>
            <a:chOff x="3429000" y="1600200"/>
            <a:chExt cx="1295280" cy="907920"/>
          </a:xfrm>
        </p:grpSpPr>
        <p:pic>
          <p:nvPicPr>
            <p:cNvPr id="825" name="" descr=""/>
            <p:cNvPicPr/>
            <p:nvPr/>
          </p:nvPicPr>
          <p:blipFill>
            <a:blip r:embed="rId3"/>
            <a:stretch/>
          </p:blipFill>
          <p:spPr>
            <a:xfrm>
              <a:off x="3429000" y="1600200"/>
              <a:ext cx="1295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388980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1140840" y="161460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  <a:ea typeface="Tahoma"/>
              </a:rPr>
              <a:t>÷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4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2 </a:t>
            </a:r>
            <a:r>
              <a:rPr b="0" lang="en-US" sz="7200" spc="-1" strike="noStrike" baseline="24000">
                <a:solidFill>
                  <a:srgbClr val="cc0000"/>
                </a:solidFill>
                <a:latin typeface="Comic Sans MS"/>
                <a:ea typeface="Tahoma"/>
              </a:rPr>
              <a:t>.</a:t>
            </a:r>
            <a:r>
              <a:rPr b="0" lang="en-US" sz="7200" spc="-1" strike="noStrike" baseline="24000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2 </a:t>
            </a:r>
            <a:r>
              <a:rPr b="0" lang="en-US" sz="4800" spc="-1" strike="noStrike">
                <a:solidFill>
                  <a:srgbClr val="006666"/>
                </a:solidFill>
                <a:latin typeface="Comic Sans MS"/>
                <a:ea typeface="Tahoma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ahoma"/>
              </a:rPr>
              <a:t>        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5410080" y="1752480"/>
            <a:ext cx="1388880" cy="764280"/>
            <a:chOff x="5410080" y="1752480"/>
            <a:chExt cx="1388880" cy="764280"/>
          </a:xfrm>
        </p:grpSpPr>
        <mc:AlternateContent>
          <mc:Choice xmlns:a14="http://schemas.microsoft.com/office/drawing/2010/main" Requires="a14">
            <p:sp>
              <p:nvSpPr>
                <p:cNvPr id="829" name=""/>
                <p:cNvSpPr txBox="1"/>
                <p:nvPr/>
              </p:nvSpPr>
              <p:spPr>
                <a:xfrm>
                  <a:off x="5410080" y="1752480"/>
                  <a:ext cx="12956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"/>
            <p:cNvSpPr/>
            <p:nvPr/>
          </p:nvSpPr>
          <p:spPr>
            <a:xfrm>
              <a:off x="5658120" y="175248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8000"/>
                  </a:solidFill>
                  <a:latin typeface="Comic Sans MS"/>
                </a:rPr>
                <a:t>12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320400" y="3276720"/>
            <a:ext cx="705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wers/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ultiplication/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ddition/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28000" y="3276720"/>
            <a:ext cx="43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mini-proble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932560" y="7351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1600200"/>
            <a:ext cx="1295280" cy="825120"/>
            <a:chOff x="5410080" y="1600200"/>
            <a:chExt cx="1295280" cy="825120"/>
          </a:xfrm>
        </p:grpSpPr>
        <p:pic>
          <p:nvPicPr>
            <p:cNvPr id="835" name="" descr=""/>
            <p:cNvPicPr/>
            <p:nvPr/>
          </p:nvPicPr>
          <p:blipFill>
            <a:blip r:embed="rId1"/>
            <a:stretch/>
          </p:blipFill>
          <p:spPr>
            <a:xfrm>
              <a:off x="5410080" y="1766520"/>
              <a:ext cx="1295280" cy="59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5506560" y="160020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8000"/>
                  </a:solidFill>
                  <a:latin typeface="Comic Sans MS"/>
                </a:rPr>
                <a:t>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14400" y="1600200"/>
            <a:ext cx="1981080" cy="907920"/>
            <a:chOff x="914400" y="1600200"/>
            <a:chExt cx="1981080" cy="907920"/>
          </a:xfrm>
        </p:grpSpPr>
        <p:pic>
          <p:nvPicPr>
            <p:cNvPr id="838" name="" descr=""/>
            <p:cNvPicPr/>
            <p:nvPr/>
          </p:nvPicPr>
          <p:blipFill>
            <a:blip r:embed="rId2"/>
            <a:stretch/>
          </p:blipFill>
          <p:spPr>
            <a:xfrm>
              <a:off x="914400" y="1600200"/>
              <a:ext cx="19810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161316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429000" y="1600200"/>
            <a:ext cx="1295280" cy="907920"/>
            <a:chOff x="3429000" y="1600200"/>
            <a:chExt cx="1295280" cy="907920"/>
          </a:xfrm>
        </p:grpSpPr>
        <p:pic>
          <p:nvPicPr>
            <p:cNvPr id="841" name="" descr=""/>
            <p:cNvPicPr/>
            <p:nvPr/>
          </p:nvPicPr>
          <p:blipFill>
            <a:blip r:embed="rId3"/>
            <a:stretch/>
          </p:blipFill>
          <p:spPr>
            <a:xfrm>
              <a:off x="3429000" y="1600200"/>
              <a:ext cx="1295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3889800" y="1676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7238880" y="1530360"/>
            <a:ext cx="1091160" cy="907920"/>
            <a:chOff x="7238880" y="1530360"/>
            <a:chExt cx="1091160" cy="907920"/>
          </a:xfrm>
        </p:grpSpPr>
        <p:pic>
          <p:nvPicPr>
            <p:cNvPr id="844" name="" descr=""/>
            <p:cNvPicPr/>
            <p:nvPr/>
          </p:nvPicPr>
          <p:blipFill>
            <a:blip r:embed="rId4"/>
            <a:stretch/>
          </p:blipFill>
          <p:spPr>
            <a:xfrm>
              <a:off x="7238880" y="1530360"/>
              <a:ext cx="7221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7451280" y="16066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66"/>
                  </a:solidFill>
                  <a:latin typeface="Comic Sans MS"/>
                </a:rPr>
                <a:t>1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914400" y="144792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Geometric Formul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2057400" y="2590920"/>
            <a:ext cx="52513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5791320" y="3809880"/>
            <a:ext cx="2514600" cy="7642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95920" y="762120"/>
            <a:ext cx="32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9480" y="1219320"/>
            <a:ext cx="8077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9933"/>
                </a:solidFill>
                <a:uFillTx/>
                <a:latin typeface="Comic Sans MS"/>
              </a:rPr>
              <a:t>Pe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distance around a geometrical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352680"/>
            <a:ext cx="4496040" cy="2819520"/>
          </a:xfrm>
          <a:prstGeom prst="pentagon">
            <a:avLst/>
          </a:prstGeom>
          <a:solidFill>
            <a:srgbClr val="25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4267080" y="5562720"/>
            <a:ext cx="2591280" cy="685800"/>
            <a:chOff x="4267080" y="5562720"/>
            <a:chExt cx="2591280" cy="685800"/>
          </a:xfrm>
        </p:grpSpPr>
        <p:sp>
          <p:nvSpPr>
            <p:cNvPr id="853" name=""/>
            <p:cNvSpPr/>
            <p:nvPr/>
          </p:nvSpPr>
          <p:spPr>
            <a:xfrm>
              <a:off x="4267080" y="6019920"/>
              <a:ext cx="228600" cy="2286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652000" y="5562720"/>
              <a:ext cx="120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33"/>
                  </a:solidFill>
                  <a:latin typeface="Comic Sans MS"/>
                </a:rPr>
                <a:t>St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55" name=""/>
            <p:cNvCxnSpPr>
              <a:stCxn id="854" idx="1"/>
              <a:endCxn id="853" idx="6"/>
            </p:cNvCxnSpPr>
            <p:nvPr/>
          </p:nvCxnSpPr>
          <p:spPr>
            <a:xfrm flipV="1" rot="10800000">
              <a:off x="4494960" y="5882040"/>
              <a:ext cx="1067400" cy="251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856" name=""/>
          <p:cNvSpPr/>
          <p:nvPr/>
        </p:nvSpPr>
        <p:spPr>
          <a:xfrm flipH="1">
            <a:off x="1676520" y="6172200"/>
            <a:ext cx="2743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838080" y="4343400"/>
            <a:ext cx="914400" cy="1828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38080" y="3352680"/>
            <a:ext cx="2286000" cy="1067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048120" y="3352680"/>
            <a:ext cx="2286000" cy="1067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4495320" y="4419720"/>
            <a:ext cx="838440" cy="1676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89480" y="56386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3900000">
            <a:off x="1045800" y="50097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6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20100000">
            <a:off x="1582560" y="37371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7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500000">
            <a:off x="3426480" y="365796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6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rot="17700000">
            <a:off x="4171320" y="47998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5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18040" y="3809880"/>
            <a:ext cx="2299320" cy="7642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7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91320" y="3809880"/>
            <a:ext cx="2438280" cy="1434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3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3809880"/>
            <a:ext cx="2438280" cy="1434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0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91320" y="3809880"/>
            <a:ext cx="2438280" cy="1434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6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15000" y="3809880"/>
            <a:ext cx="2514600" cy="7642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1 in.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758880" y="4038480"/>
            <a:ext cx="64450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ea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a = length x width = l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 =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 ft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• 4 ft =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  <a:ea typeface="Tahoma"/>
              </a:rPr>
              <a:t>12 ft</a:t>
            </a:r>
            <a:r>
              <a:rPr b="1" lang="en-US" sz="4400" spc="-1" strike="noStrike" baseline="30000">
                <a:solidFill>
                  <a:srgbClr val="3333cc"/>
                </a:solidFill>
                <a:latin typeface="Comic Sans MS"/>
                <a:ea typeface="Tahoma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21880" y="712800"/>
            <a:ext cx="38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" y="1371600"/>
            <a:ext cx="4191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Rectangle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ur sided figure having right angles at each cor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4418280" y="1674720"/>
            <a:ext cx="4039920" cy="3112920"/>
            <a:chOff x="4418280" y="1674720"/>
            <a:chExt cx="4039920" cy="3112920"/>
          </a:xfrm>
        </p:grpSpPr>
        <p:sp>
          <p:nvSpPr>
            <p:cNvPr id="876" name=""/>
            <p:cNvSpPr/>
            <p:nvPr/>
          </p:nvSpPr>
          <p:spPr>
            <a:xfrm>
              <a:off x="5181480" y="167472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13440" y="1674720"/>
              <a:ext cx="76212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43600" y="167472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181480" y="25383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13440" y="2538360"/>
              <a:ext cx="76212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43600" y="25383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81480" y="34005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13440" y="3400560"/>
              <a:ext cx="76212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43600" y="34005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872320" y="2173320"/>
              <a:ext cx="1807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357960" y="41148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4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5400000">
              <a:off x="4647600" y="1949040"/>
              <a:ext cx="36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64960" y="3962520"/>
              <a:ext cx="70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w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5400000">
              <a:off x="4310280" y="29592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3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5181480" y="44197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96080" y="4419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76920" y="40384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876920" y="167616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94640" y="167472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694640" y="25383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694640" y="3400560"/>
              <a:ext cx="763560" cy="790560"/>
            </a:xfrm>
            <a:prstGeom prst="rect">
              <a:avLst/>
            </a:prstGeom>
            <a:solidFill>
              <a:srgbClr val="808080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7200" y="1447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4880" indent="-1604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 surface area of the b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3809520" y="3627360"/>
            <a:ext cx="1395000" cy="1847160"/>
            <a:chOff x="3809520" y="3627360"/>
            <a:chExt cx="1395000" cy="1847160"/>
          </a:xfrm>
        </p:grpSpPr>
        <p:sp>
          <p:nvSpPr>
            <p:cNvPr id="899" name=""/>
            <p:cNvSpPr/>
            <p:nvPr/>
          </p:nvSpPr>
          <p:spPr>
            <a:xfrm>
              <a:off x="3809880" y="3627360"/>
              <a:ext cx="1371600" cy="17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809880" y="3643200"/>
              <a:ext cx="336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09880" y="3643200"/>
              <a:ext cx="33660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89760" y="5014800"/>
              <a:ext cx="464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66600" y="4252680"/>
              <a:ext cx="637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3809520" y="524340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67120" y="524340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4952880" y="36273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52880" y="4709880"/>
              <a:ext cx="0" cy="7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81120" y="3612960"/>
            <a:ext cx="790200" cy="1796760"/>
            <a:chOff x="5181120" y="3612960"/>
            <a:chExt cx="790200" cy="1796760"/>
          </a:xfrm>
        </p:grpSpPr>
        <p:sp>
          <p:nvSpPr>
            <p:cNvPr id="909" name=""/>
            <p:cNvSpPr/>
            <p:nvPr/>
          </p:nvSpPr>
          <p:spPr>
            <a:xfrm>
              <a:off x="5181480" y="3627360"/>
              <a:ext cx="762120" cy="178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81480" y="3643200"/>
              <a:ext cx="336600" cy="459720"/>
            </a:xfrm>
            <a:prstGeom prst="rect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81480" y="3643200"/>
              <a:ext cx="336600" cy="414000"/>
            </a:xfrm>
            <a:prstGeom prst="ellipse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352120" y="4862520"/>
              <a:ext cx="464040" cy="459720"/>
            </a:xfrm>
            <a:prstGeom prst="rect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333400" y="4252680"/>
              <a:ext cx="637920" cy="459720"/>
            </a:xfrm>
            <a:prstGeom prst="rect">
              <a:avLst/>
            </a:prstGeom>
            <a:noFill/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5791320" y="3612960"/>
              <a:ext cx="0" cy="64260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91320" y="4695840"/>
              <a:ext cx="0" cy="69948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5181120" y="5243400"/>
              <a:ext cx="762120" cy="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7314840" y="3627360"/>
            <a:ext cx="772560" cy="1795680"/>
            <a:chOff x="7314840" y="3627360"/>
            <a:chExt cx="772560" cy="1795680"/>
          </a:xfrm>
        </p:grpSpPr>
        <p:sp>
          <p:nvSpPr>
            <p:cNvPr id="918" name=""/>
            <p:cNvSpPr/>
            <p:nvPr/>
          </p:nvSpPr>
          <p:spPr>
            <a:xfrm>
              <a:off x="7315200" y="3639960"/>
              <a:ext cx="762120" cy="17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38600" y="3657600"/>
              <a:ext cx="354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26360" y="3657600"/>
              <a:ext cx="320760" cy="41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85480" y="4876920"/>
              <a:ext cx="4640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49480" y="4267080"/>
              <a:ext cx="637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924680" y="3627360"/>
              <a:ext cx="0" cy="64296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24680" y="4710240"/>
              <a:ext cx="0" cy="69984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314840" y="5257800"/>
              <a:ext cx="762120" cy="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943600" y="2728440"/>
            <a:ext cx="1371600" cy="1008000"/>
            <a:chOff x="5943600" y="2728440"/>
            <a:chExt cx="1371600" cy="1008000"/>
          </a:xfrm>
        </p:grpSpPr>
        <p:sp>
          <p:nvSpPr>
            <p:cNvPr id="927" name=""/>
            <p:cNvSpPr/>
            <p:nvPr/>
          </p:nvSpPr>
          <p:spPr>
            <a:xfrm>
              <a:off x="5943600" y="2728800"/>
              <a:ext cx="1371600" cy="91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96232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43600" y="2743200"/>
              <a:ext cx="39672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4120" y="327672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95000" y="297180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5943600" y="350532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900840" y="350532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086600" y="327672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086600" y="2728440"/>
              <a:ext cx="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943600" y="3627360"/>
            <a:ext cx="1377000" cy="1861560"/>
            <a:chOff x="5943600" y="3627360"/>
            <a:chExt cx="1377000" cy="1861560"/>
          </a:xfrm>
        </p:grpSpPr>
        <p:sp>
          <p:nvSpPr>
            <p:cNvPr id="937" name=""/>
            <p:cNvSpPr/>
            <p:nvPr/>
          </p:nvSpPr>
          <p:spPr>
            <a:xfrm>
              <a:off x="5943600" y="3641760"/>
              <a:ext cx="1371600" cy="17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004080" y="3657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943600" y="3657600"/>
              <a:ext cx="396720" cy="41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414120" y="502920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2680" y="4267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943600" y="52578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900840" y="525780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86600" y="3627360"/>
              <a:ext cx="0" cy="64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86600" y="4710240"/>
              <a:ext cx="0" cy="6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8580200">
              <a:off x="5945760" y="4030200"/>
              <a:ext cx="10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r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1447920" y="685800"/>
            <a:ext cx="63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828800" y="2057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um of areas of all su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914400" y="3581280"/>
            <a:ext cx="1752480" cy="221004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1295280" y="4114800"/>
            <a:ext cx="768600" cy="728640"/>
            <a:chOff x="1295280" y="4114800"/>
            <a:chExt cx="768600" cy="728640"/>
          </a:xfrm>
        </p:grpSpPr>
        <p:sp>
          <p:nvSpPr>
            <p:cNvPr id="951" name=""/>
            <p:cNvSpPr/>
            <p:nvPr/>
          </p:nvSpPr>
          <p:spPr>
            <a:xfrm>
              <a:off x="1492200" y="4114800"/>
              <a:ext cx="33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95280" y="4114800"/>
              <a:ext cx="768600" cy="7286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447920" y="3370320"/>
            <a:ext cx="838080" cy="728640"/>
            <a:chOff x="1447920" y="3370320"/>
            <a:chExt cx="838080" cy="728640"/>
          </a:xfrm>
        </p:grpSpPr>
        <p:sp>
          <p:nvSpPr>
            <p:cNvPr id="954" name=""/>
            <p:cNvSpPr/>
            <p:nvPr/>
          </p:nvSpPr>
          <p:spPr>
            <a:xfrm>
              <a:off x="1610640" y="337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47920" y="3370320"/>
              <a:ext cx="838080" cy="72864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286000" y="3962520"/>
            <a:ext cx="468360" cy="880920"/>
            <a:chOff x="2286000" y="3962520"/>
            <a:chExt cx="468360" cy="880920"/>
          </a:xfrm>
        </p:grpSpPr>
        <p:sp>
          <p:nvSpPr>
            <p:cNvPr id="957" name=""/>
            <p:cNvSpPr/>
            <p:nvPr/>
          </p:nvSpPr>
          <p:spPr>
            <a:xfrm>
              <a:off x="2286000" y="3962520"/>
              <a:ext cx="4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286000" y="3962520"/>
              <a:ext cx="468360" cy="8809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914400" y="3581280"/>
            <a:ext cx="2601720" cy="2897640"/>
            <a:chOff x="914400" y="3581280"/>
            <a:chExt cx="2601720" cy="2897640"/>
          </a:xfrm>
        </p:grpSpPr>
        <p:sp>
          <p:nvSpPr>
            <p:cNvPr id="960" name=""/>
            <p:cNvSpPr/>
            <p:nvPr/>
          </p:nvSpPr>
          <p:spPr>
            <a:xfrm>
              <a:off x="2530440" y="548640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11120" y="589752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722680" y="428472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2754360" y="3581280"/>
              <a:ext cx="0" cy="179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2362320" y="5378400"/>
              <a:ext cx="38088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914400" y="59436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943600" y="5424480"/>
            <a:ext cx="1371600" cy="992880"/>
            <a:chOff x="5943600" y="5424480"/>
            <a:chExt cx="1371600" cy="992880"/>
          </a:xfrm>
        </p:grpSpPr>
        <p:sp>
          <p:nvSpPr>
            <p:cNvPr id="967" name=""/>
            <p:cNvSpPr/>
            <p:nvPr/>
          </p:nvSpPr>
          <p:spPr>
            <a:xfrm>
              <a:off x="5943600" y="5427360"/>
              <a:ext cx="137160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43600" y="54244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943600" y="5424480"/>
              <a:ext cx="336600" cy="414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414120" y="595764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95000" y="565272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5943600" y="618624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900840" y="618624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86600" y="5973480"/>
              <a:ext cx="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7086600" y="5425560"/>
              <a:ext cx="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809880" y="2743200"/>
            <a:ext cx="4272480" cy="3673800"/>
            <a:chOff x="3809880" y="2743200"/>
            <a:chExt cx="4272480" cy="3673800"/>
          </a:xfrm>
        </p:grpSpPr>
        <p:grpSp>
          <p:nvGrpSpPr>
            <p:cNvPr id="977" name=""/>
            <p:cNvGrpSpPr/>
            <p:nvPr/>
          </p:nvGrpSpPr>
          <p:grpSpPr>
            <a:xfrm>
              <a:off x="3809880" y="3641040"/>
              <a:ext cx="1394280" cy="1847160"/>
              <a:chOff x="3809880" y="3641040"/>
              <a:chExt cx="1394280" cy="1847160"/>
            </a:xfrm>
          </p:grpSpPr>
          <p:sp>
            <p:nvSpPr>
              <p:cNvPr id="978" name=""/>
              <p:cNvSpPr/>
              <p:nvPr/>
            </p:nvSpPr>
            <p:spPr>
              <a:xfrm>
                <a:off x="3809880" y="3641400"/>
                <a:ext cx="1371240" cy="178236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09880" y="3656880"/>
                <a:ext cx="3362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809880" y="3656880"/>
                <a:ext cx="33624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289400" y="502848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66240" y="426636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809880" y="525708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766760" y="5257080"/>
                <a:ext cx="41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4952520" y="364104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952520" y="4723560"/>
                <a:ext cx="0" cy="6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5181480" y="3627000"/>
              <a:ext cx="784800" cy="1796400"/>
              <a:chOff x="5181480" y="3627000"/>
              <a:chExt cx="784800" cy="1796400"/>
            </a:xfrm>
          </p:grpSpPr>
          <p:sp>
            <p:nvSpPr>
              <p:cNvPr id="988" name=""/>
              <p:cNvSpPr/>
              <p:nvPr/>
            </p:nvSpPr>
            <p:spPr>
              <a:xfrm>
                <a:off x="5181480" y="3641400"/>
                <a:ext cx="761760" cy="178200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181480" y="3657240"/>
                <a:ext cx="3362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181480" y="3657240"/>
                <a:ext cx="33624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346720" y="487620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328360" y="426672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5790960" y="362700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790960" y="470952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5181480" y="52570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7314480" y="3641040"/>
              <a:ext cx="767880" cy="1795320"/>
              <a:chOff x="7314480" y="3641040"/>
              <a:chExt cx="767880" cy="1795320"/>
            </a:xfrm>
          </p:grpSpPr>
          <p:sp>
            <p:nvSpPr>
              <p:cNvPr id="997" name=""/>
              <p:cNvSpPr/>
              <p:nvPr/>
            </p:nvSpPr>
            <p:spPr>
              <a:xfrm>
                <a:off x="7314840" y="3653640"/>
                <a:ext cx="762120" cy="1782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333560" y="3671280"/>
                <a:ext cx="3546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326000" y="3671280"/>
                <a:ext cx="32076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480440" y="489060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444440" y="428076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7924320" y="364104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924320" y="472392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7314480" y="52714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5943240" y="2743200"/>
              <a:ext cx="1371600" cy="1007280"/>
              <a:chOff x="5943240" y="2743200"/>
              <a:chExt cx="1371600" cy="1007280"/>
            </a:xfrm>
          </p:grpSpPr>
          <p:sp>
            <p:nvSpPr>
              <p:cNvPr id="1006" name=""/>
              <p:cNvSpPr/>
              <p:nvPr/>
            </p:nvSpPr>
            <p:spPr>
              <a:xfrm>
                <a:off x="5943240" y="2743200"/>
                <a:ext cx="1371600" cy="91080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961960" y="2757240"/>
                <a:ext cx="3546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943240" y="2757240"/>
                <a:ext cx="39672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413760" y="329076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794640" y="298584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5943240" y="351936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900480" y="3519360"/>
                <a:ext cx="41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86240" y="3290760"/>
                <a:ext cx="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7086240" y="2743200"/>
                <a:ext cx="0" cy="2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943240" y="5424120"/>
              <a:ext cx="1371600" cy="992880"/>
              <a:chOff x="5943240" y="5424120"/>
              <a:chExt cx="1371600" cy="9928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943240" y="5427000"/>
                <a:ext cx="1371600" cy="91080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943240" y="5424120"/>
                <a:ext cx="33660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943240" y="5424120"/>
                <a:ext cx="33660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413760" y="595728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794640" y="565236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5943240" y="618588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900480" y="6185880"/>
                <a:ext cx="41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086240" y="5973120"/>
                <a:ext cx="0" cy="3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7086240" y="5425200"/>
                <a:ext cx="0" cy="24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5943240" y="3641040"/>
              <a:ext cx="1377000" cy="1861560"/>
              <a:chOff x="5943240" y="3641040"/>
              <a:chExt cx="1377000" cy="1861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5943240" y="3655440"/>
                <a:ext cx="1371600" cy="178236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003720" y="3671280"/>
                <a:ext cx="3362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943240" y="3671280"/>
                <a:ext cx="396720" cy="414000"/>
              </a:xfrm>
              <a:prstGeom prst="ellipse">
                <a:avLst/>
              </a:prstGeom>
              <a:solidFill>
                <a:srgbClr val="ffcc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413760" y="5042880"/>
                <a:ext cx="46404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7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682320" y="4280760"/>
                <a:ext cx="63792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2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5943240" y="527148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900480" y="5271480"/>
                <a:ext cx="41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7086240" y="3641040"/>
                <a:ext cx="0" cy="64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86240" y="4723920"/>
                <a:ext cx="0" cy="69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8580200">
                <a:off x="5945400" y="4043880"/>
                <a:ext cx="1064880" cy="459720"/>
              </a:xfrm>
              <a:prstGeom prst="rect">
                <a:avLst/>
              </a:prstGeom>
              <a:solidFill>
                <a:srgbClr val="ffcc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fro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3733920" y="1676520"/>
            <a:ext cx="4724280" cy="2438280"/>
          </a:xfrm>
          <a:prstGeom prst="parallelogram">
            <a:avLst>
              <a:gd name="adj" fmla="val 484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842760" y="4114800"/>
            <a:ext cx="620424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rea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a = base x height = b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 =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 ft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  <a:ea typeface="Tahoma"/>
              </a:rPr>
              <a:t>• 4 ft =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ahoma"/>
              </a:rPr>
              <a:t>12 ft</a:t>
            </a:r>
            <a:r>
              <a:rPr b="1" lang="en-US" sz="4000" spc="-1" strike="noStrike" baseline="30000">
                <a:solidFill>
                  <a:srgbClr val="3333cc"/>
                </a:solidFill>
                <a:latin typeface="Comic Sans MS"/>
                <a:ea typeface="Tahoma"/>
              </a:rPr>
              <a:t>2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872320" y="2173320"/>
            <a:ext cx="180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670200" y="2952720"/>
            <a:ext cx="179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7200" y="1371600"/>
            <a:ext cx="41911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Comic Sans MS"/>
              </a:rPr>
              <a:t>Parallelogram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our sided figure having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wo sets of parall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3733560" y="3886200"/>
            <a:ext cx="3504960" cy="825120"/>
            <a:chOff x="3733560" y="3886200"/>
            <a:chExt cx="3504960" cy="825120"/>
          </a:xfrm>
        </p:grpSpPr>
        <p:sp>
          <p:nvSpPr>
            <p:cNvPr id="1043" name=""/>
            <p:cNvSpPr/>
            <p:nvPr/>
          </p:nvSpPr>
          <p:spPr>
            <a:xfrm>
              <a:off x="5012280" y="403848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4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308120" y="3886200"/>
              <a:ext cx="56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3733560" y="4343400"/>
              <a:ext cx="66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87560" y="4343400"/>
              <a:ext cx="750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4505400" y="1676160"/>
            <a:ext cx="825120" cy="2514600"/>
            <a:chOff x="4505400" y="1676160"/>
            <a:chExt cx="825120" cy="2514600"/>
          </a:xfrm>
        </p:grpSpPr>
        <p:sp>
          <p:nvSpPr>
            <p:cNvPr id="1048" name=""/>
            <p:cNvSpPr/>
            <p:nvPr/>
          </p:nvSpPr>
          <p:spPr>
            <a:xfrm rot="5400000">
              <a:off x="4627080" y="2023560"/>
              <a:ext cx="581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00"/>
                  </a:solidFill>
                  <a:latin typeface="Comic Sans MS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5400000">
              <a:off x="4400640" y="2930400"/>
              <a:ext cx="1158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3 ft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969080" y="3969000"/>
              <a:ext cx="0" cy="22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969080" y="1676160"/>
              <a:ext cx="0" cy="51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22480" y="1295280"/>
            <a:ext cx="513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Boxes (volume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5800" y="2158920"/>
            <a:ext cx="3200400" cy="4216320"/>
          </a:xfrm>
          <a:prstGeom prst="cube">
            <a:avLst>
              <a:gd name="adj" fmla="val 24995"/>
            </a:avLst>
          </a:prstGeom>
          <a:solidFill>
            <a:srgbClr val="25d7db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425240" y="2867040"/>
            <a:ext cx="101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18660000">
            <a:off x="2984760" y="2549880"/>
            <a:ext cx="101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2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576040" y="1552680"/>
            <a:ext cx="26701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Volume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ight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gth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d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308640" y="521172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48320" y="42670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V = h w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5400000">
            <a:off x="2327760" y="4303080"/>
            <a:ext cx="1011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4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21000" y="5486400"/>
            <a:ext cx="8079480" cy="703440"/>
          </a:xfrm>
          <a:prstGeom prst="rect">
            <a:avLst/>
          </a:prstGeom>
          <a:solidFill>
            <a:srgbClr val="00ffff"/>
          </a:solidFill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 = hwl = 2 m • 4 m • 3 m = 24 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828800" y="3886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a triangle = ½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3168360" y="2057400"/>
            <a:ext cx="2851560" cy="1892160"/>
            <a:chOff x="3168360" y="2057400"/>
            <a:chExt cx="2851560" cy="1892160"/>
          </a:xfrm>
        </p:grpSpPr>
        <p:sp>
          <p:nvSpPr>
            <p:cNvPr id="1065" name=""/>
            <p:cNvSpPr/>
            <p:nvPr/>
          </p:nvSpPr>
          <p:spPr>
            <a:xfrm>
              <a:off x="4125960" y="342900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00400" y="2057400"/>
              <a:ext cx="2819520" cy="1371600"/>
            </a:xfrm>
            <a:prstGeom prst="rtTriangl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68360" y="248436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14300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½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base times the h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67400" y="6858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89960" y="321300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17960" y="3213000"/>
            <a:ext cx="1720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64320" y="324468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82400" y="324468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99cc"/>
                </a:solidFill>
                <a:latin typeface="Comic Sans MS"/>
              </a:rPr>
              <a:t>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00280" y="3213000"/>
            <a:ext cx="950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59080" y="4066560"/>
            <a:ext cx="3039840" cy="2108160"/>
            <a:chOff x="559080" y="4066560"/>
            <a:chExt cx="3039840" cy="2108160"/>
          </a:xfrm>
        </p:grpSpPr>
        <p:sp>
          <p:nvSpPr>
            <p:cNvPr id="135" name=""/>
            <p:cNvSpPr/>
            <p:nvPr/>
          </p:nvSpPr>
          <p:spPr>
            <a:xfrm>
              <a:off x="559080" y="5257800"/>
              <a:ext cx="303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Dividen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0"/>
              <a:endCxn id="130" idx="1"/>
            </p:cNvCxnSpPr>
            <p:nvPr/>
          </p:nvCxnSpPr>
          <p:spPr>
            <a:xfrm flipV="1" rot="16200000">
              <a:off x="1129680" y="4307760"/>
              <a:ext cx="1191240" cy="708840"/>
            </a:xfrm>
            <a:prstGeom prst="curvedConnector5">
              <a:avLst>
                <a:gd name="adj1" fmla="val 14117"/>
                <a:gd name="adj2" fmla="val 66107"/>
                <a:gd name="adj3" fmla="val 1411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5630040" y="4066560"/>
            <a:ext cx="3035160" cy="2184480"/>
            <a:chOff x="5630040" y="4066560"/>
            <a:chExt cx="3035160" cy="2184480"/>
          </a:xfrm>
        </p:grpSpPr>
        <p:sp>
          <p:nvSpPr>
            <p:cNvPr id="138" name=""/>
            <p:cNvSpPr/>
            <p:nvPr/>
          </p:nvSpPr>
          <p:spPr>
            <a:xfrm>
              <a:off x="5630040" y="5334120"/>
              <a:ext cx="303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00"/>
                  </a:solidFill>
                  <a:latin typeface="Comic Sans MS"/>
                </a:rPr>
                <a:t>Quotien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8" idx="0"/>
              <a:endCxn id="133" idx="3"/>
            </p:cNvCxnSpPr>
            <p:nvPr/>
          </p:nvCxnSpPr>
          <p:spPr>
            <a:xfrm flipH="1" flipV="1" rot="5400000">
              <a:off x="6530040" y="4685040"/>
              <a:ext cx="1267560" cy="30600"/>
            </a:xfrm>
            <a:prstGeom prst="curvedConnector5">
              <a:avLst>
                <a:gd name="adj1" fmla="val 16278"/>
                <a:gd name="adj2" fmla="val 433333"/>
                <a:gd name="adj3" fmla="val 1627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4556880" y="1676520"/>
            <a:ext cx="3650760" cy="1568520"/>
            <a:chOff x="4556880" y="1676520"/>
            <a:chExt cx="3650760" cy="1568520"/>
          </a:xfrm>
        </p:grpSpPr>
        <p:sp>
          <p:nvSpPr>
            <p:cNvPr id="141" name=""/>
            <p:cNvSpPr/>
            <p:nvPr/>
          </p:nvSpPr>
          <p:spPr>
            <a:xfrm>
              <a:off x="5795640" y="1676520"/>
              <a:ext cx="241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99cc"/>
                  </a:solidFill>
                  <a:latin typeface="Comic Sans MS"/>
                </a:rPr>
                <a:t>Diviso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2"/>
              <a:endCxn id="132" idx="0"/>
            </p:cNvCxnSpPr>
            <p:nvPr/>
          </p:nvCxnSpPr>
          <p:spPr>
            <a:xfrm rot="5400000">
              <a:off x="5452200" y="1695240"/>
              <a:ext cx="654480" cy="2445480"/>
            </a:xfrm>
            <a:prstGeom prst="curvedConnector5">
              <a:avLst>
                <a:gd name="adj1" fmla="val 49972"/>
                <a:gd name="adj2" fmla="val 50000"/>
                <a:gd name="adj3" fmla="val 4997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3" name=""/>
          <p:cNvGrpSpPr/>
          <p:nvPr/>
        </p:nvGrpSpPr>
        <p:grpSpPr>
          <a:xfrm>
            <a:off x="722520" y="1600200"/>
            <a:ext cx="3960360" cy="2134080"/>
            <a:chOff x="722520" y="1600200"/>
            <a:chExt cx="3960360" cy="2134080"/>
          </a:xfrm>
        </p:grpSpPr>
        <p:sp>
          <p:nvSpPr>
            <p:cNvPr id="144" name=""/>
            <p:cNvSpPr/>
            <p:nvPr/>
          </p:nvSpPr>
          <p:spPr>
            <a:xfrm>
              <a:off x="722520" y="1600200"/>
              <a:ext cx="39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Division Symbo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44" idx="2"/>
            </p:cNvCxnSpPr>
            <p:nvPr/>
          </p:nvCxnSpPr>
          <p:spPr>
            <a:xfrm flipH="1" rot="16200000">
              <a:off x="2426400" y="2578680"/>
              <a:ext cx="1432800" cy="878400"/>
            </a:xfrm>
            <a:prstGeom prst="curvedConnector5">
              <a:avLst>
                <a:gd name="adj1" fmla="val 49987"/>
                <a:gd name="adj2" fmla="val 49979"/>
                <a:gd name="adj3" fmla="val 4998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048120" y="12193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ir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57200" y="2492280"/>
            <a:ext cx="7848720" cy="2812320"/>
            <a:chOff x="457200" y="2492280"/>
            <a:chExt cx="7848720" cy="2812320"/>
          </a:xfrm>
        </p:grpSpPr>
        <p:sp>
          <p:nvSpPr>
            <p:cNvPr id="1072" name=""/>
            <p:cNvSpPr/>
            <p:nvPr/>
          </p:nvSpPr>
          <p:spPr>
            <a:xfrm>
              <a:off x="650880" y="2492280"/>
              <a:ext cx="1967040" cy="12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57200" y="3657600"/>
              <a:ext cx="784872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808080"/>
                  </a:solidFill>
                  <a:latin typeface="Comic Sans MS"/>
                </a:rPr>
                <a:t>diameter</a:t>
              </a:r>
              <a:r>
                <a:rPr b="0" lang="en-US" sz="3400" spc="-1" strike="noStrike">
                  <a:solidFill>
                    <a:srgbClr val="000000"/>
                  </a:solidFill>
                  <a:latin typeface="Comic Sans MS"/>
                </a:rPr>
                <a:t> = distance across the circle passing through the center (2 spokes in a straight line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09480" y="1523880"/>
            <a:ext cx="1981440" cy="198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562040" y="2463840"/>
            <a:ext cx="7632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1638360" y="1879200"/>
            <a:ext cx="6819840" cy="1672920"/>
            <a:chOff x="1638360" y="1879200"/>
            <a:chExt cx="6819840" cy="1672920"/>
          </a:xfrm>
        </p:grpSpPr>
        <p:sp>
          <p:nvSpPr>
            <p:cNvPr id="1077" name=""/>
            <p:cNvSpPr/>
            <p:nvPr/>
          </p:nvSpPr>
          <p:spPr>
            <a:xfrm>
              <a:off x="2819520" y="1905120"/>
              <a:ext cx="56386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cc6600"/>
                  </a:solidFill>
                  <a:latin typeface="Comic Sans MS"/>
                </a:rPr>
                <a:t>radius</a:t>
              </a:r>
              <a:r>
                <a:rPr b="0" lang="en-US" sz="3400" spc="-1" strike="noStrike">
                  <a:solidFill>
                    <a:srgbClr val="000000"/>
                  </a:solidFill>
                  <a:latin typeface="Comic Sans MS"/>
                </a:rPr>
                <a:t> = distance from the center to the edge (spoke of a bicycle wheel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1638360" y="1879200"/>
              <a:ext cx="716040" cy="584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609480" y="1523880"/>
            <a:ext cx="7086600" cy="4939560"/>
            <a:chOff x="609480" y="1523880"/>
            <a:chExt cx="7086600" cy="4939560"/>
          </a:xfrm>
        </p:grpSpPr>
        <p:sp>
          <p:nvSpPr>
            <p:cNvPr id="1080" name=""/>
            <p:cNvSpPr/>
            <p:nvPr/>
          </p:nvSpPr>
          <p:spPr>
            <a:xfrm>
              <a:off x="609480" y="5334120"/>
              <a:ext cx="70866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3333cc"/>
                  </a:solidFill>
                  <a:latin typeface="Comic Sans MS"/>
                </a:rPr>
                <a:t>circumference</a:t>
              </a:r>
              <a:r>
                <a:rPr b="0" lang="en-US" sz="3400" spc="-1" strike="noStrike">
                  <a:solidFill>
                    <a:srgbClr val="000000"/>
                  </a:solidFill>
                  <a:latin typeface="Comic Sans MS"/>
                </a:rPr>
                <a:t> = distance around the circl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9480" y="1523880"/>
              <a:ext cx="1981440" cy="19814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"/>
          <p:cNvGrpSpPr/>
          <p:nvPr/>
        </p:nvGrpSpPr>
        <p:grpSpPr>
          <a:xfrm>
            <a:off x="762120" y="1905120"/>
            <a:ext cx="3276360" cy="3276360"/>
            <a:chOff x="762120" y="1905120"/>
            <a:chExt cx="3276360" cy="3276360"/>
          </a:xfrm>
        </p:grpSpPr>
        <p:sp>
          <p:nvSpPr>
            <p:cNvPr id="1084" name=""/>
            <p:cNvSpPr/>
            <p:nvPr/>
          </p:nvSpPr>
          <p:spPr>
            <a:xfrm>
              <a:off x="762120" y="1905120"/>
              <a:ext cx="3276360" cy="327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86000" y="3505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62120" y="358128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09480" y="1752480"/>
            <a:ext cx="3581640" cy="4605120"/>
            <a:chOff x="609480" y="1752480"/>
            <a:chExt cx="3581640" cy="4605120"/>
          </a:xfrm>
        </p:grpSpPr>
        <p:sp>
          <p:nvSpPr>
            <p:cNvPr id="1088" name=""/>
            <p:cNvSpPr/>
            <p:nvPr/>
          </p:nvSpPr>
          <p:spPr>
            <a:xfrm>
              <a:off x="609480" y="1752480"/>
              <a:ext cx="3581640" cy="358164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23960" y="57150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ircumfere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40048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3733920" y="112716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i -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48240" y="525780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762120" y="2971800"/>
            <a:ext cx="3276360" cy="685800"/>
            <a:chOff x="762120" y="2971800"/>
            <a:chExt cx="3276360" cy="685800"/>
          </a:xfrm>
        </p:grpSpPr>
        <p:sp>
          <p:nvSpPr>
            <p:cNvPr id="1094" name=""/>
            <p:cNvSpPr/>
            <p:nvPr/>
          </p:nvSpPr>
          <p:spPr>
            <a:xfrm>
              <a:off x="2285640" y="3504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62120" y="358128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71240" y="29718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iame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838080" y="3657240"/>
            <a:ext cx="1523880" cy="689760"/>
            <a:chOff x="838080" y="3657240"/>
            <a:chExt cx="1523880" cy="689760"/>
          </a:xfrm>
        </p:grpSpPr>
        <p:sp>
          <p:nvSpPr>
            <p:cNvPr id="1098" name=""/>
            <p:cNvSpPr/>
            <p:nvPr/>
          </p:nvSpPr>
          <p:spPr>
            <a:xfrm flipV="1">
              <a:off x="1828440" y="3657240"/>
              <a:ext cx="45720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38080" y="37656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en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4191120" y="2324160"/>
            <a:ext cx="4419360" cy="1220400"/>
            <a:chOff x="4191120" y="2324160"/>
            <a:chExt cx="4419360" cy="1220400"/>
          </a:xfrm>
        </p:grpSpPr>
        <p:sp>
          <p:nvSpPr>
            <p:cNvPr id="1101" name=""/>
            <p:cNvSpPr/>
            <p:nvPr/>
          </p:nvSpPr>
          <p:spPr>
            <a:xfrm>
              <a:off x="4191120" y="234648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5257800" y="2324160"/>
              <a:ext cx="3352680" cy="1220400"/>
              <a:chOff x="5257800" y="2324160"/>
              <a:chExt cx="3352680" cy="1220400"/>
            </a:xfrm>
          </p:grpSpPr>
          <p:sp>
            <p:nvSpPr>
              <p:cNvPr id="1103" name=""/>
              <p:cNvSpPr/>
              <p:nvPr/>
            </p:nvSpPr>
            <p:spPr>
              <a:xfrm>
                <a:off x="5257800" y="2324160"/>
                <a:ext cx="335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ircumferenc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29480" y="2901960"/>
                <a:ext cx="220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iamete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95960" y="2933640"/>
                <a:ext cx="32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6" name=""/>
          <p:cNvGrpSpPr/>
          <p:nvPr/>
        </p:nvGrpSpPr>
        <p:grpSpPr>
          <a:xfrm>
            <a:off x="5676840" y="3886200"/>
            <a:ext cx="1447920" cy="1373760"/>
            <a:chOff x="5676840" y="3886200"/>
            <a:chExt cx="1447920" cy="1373760"/>
          </a:xfrm>
        </p:grpSpPr>
        <p:sp>
          <p:nvSpPr>
            <p:cNvPr id="1107" name=""/>
            <p:cNvSpPr/>
            <p:nvPr/>
          </p:nvSpPr>
          <p:spPr>
            <a:xfrm>
              <a:off x="5676840" y="40226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6210360" y="3886200"/>
              <a:ext cx="914400" cy="1373760"/>
              <a:chOff x="6210360" y="3886200"/>
              <a:chExt cx="914400" cy="1373760"/>
            </a:xfrm>
          </p:grpSpPr>
          <p:sp>
            <p:nvSpPr>
              <p:cNvPr id="1109" name=""/>
              <p:cNvSpPr/>
              <p:nvPr/>
            </p:nvSpPr>
            <p:spPr>
              <a:xfrm>
                <a:off x="6210360" y="38862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00800" y="4495680"/>
                <a:ext cx="533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286320" y="457200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2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1219320" y="12952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ircumferenc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diam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= 2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radi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733920" y="274320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2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905120" y="472284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“pi”) is a number that i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approxima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2/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762120" y="2209680"/>
            <a:ext cx="2007720" cy="1981080"/>
            <a:chOff x="762120" y="2209680"/>
            <a:chExt cx="2007720" cy="1981080"/>
          </a:xfrm>
        </p:grpSpPr>
        <p:sp>
          <p:nvSpPr>
            <p:cNvPr id="1117" name=""/>
            <p:cNvSpPr/>
            <p:nvPr/>
          </p:nvSpPr>
          <p:spPr>
            <a:xfrm>
              <a:off x="762120" y="2209680"/>
              <a:ext cx="1981080" cy="198108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03160" y="3254040"/>
              <a:ext cx="1966680" cy="12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1790640" y="2640960"/>
              <a:ext cx="715680" cy="584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3505320" y="21337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2895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3.14)(8.4ft)(8.4f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648320" y="3657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(3.14)(70.56)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48320" y="4419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221.55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648320" y="5181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21.6ft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380880" y="2666880"/>
            <a:ext cx="4114800" cy="3581640"/>
            <a:chOff x="380880" y="2666880"/>
            <a:chExt cx="4114800" cy="3581640"/>
          </a:xfrm>
        </p:grpSpPr>
        <p:sp>
          <p:nvSpPr>
            <p:cNvPr id="1127" name=""/>
            <p:cNvSpPr/>
            <p:nvPr/>
          </p:nvSpPr>
          <p:spPr>
            <a:xfrm>
              <a:off x="1066680" y="2819520"/>
              <a:ext cx="3276720" cy="3276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14400" y="2666880"/>
              <a:ext cx="3581280" cy="3581640"/>
            </a:xfrm>
            <a:prstGeom prst="ellipse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6200000">
              <a:off x="2590920" y="3200040"/>
              <a:ext cx="228600" cy="2971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38280" y="4800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74320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38280" y="28954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80880" y="4167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66680" y="44956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05040" y="40384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r = 8.4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809880" y="13716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1219320" y="2590920"/>
            <a:ext cx="2286000" cy="342900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657600" y="25146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6324480" y="2971800"/>
            <a:ext cx="1600200" cy="1099800"/>
            <a:chOff x="6324480" y="2971800"/>
            <a:chExt cx="1600200" cy="1099800"/>
          </a:xfrm>
        </p:grpSpPr>
        <p:sp>
          <p:nvSpPr>
            <p:cNvPr id="1142" name=""/>
            <p:cNvSpPr/>
            <p:nvPr/>
          </p:nvSpPr>
          <p:spPr>
            <a:xfrm>
              <a:off x="6896160" y="2971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24480" y="34290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e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533412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5105520" y="4799880"/>
            <a:ext cx="2057400" cy="1420560"/>
            <a:chOff x="5105520" y="4799880"/>
            <a:chExt cx="2057400" cy="1420560"/>
          </a:xfrm>
        </p:grpSpPr>
        <p:sp>
          <p:nvSpPr>
            <p:cNvPr id="1146" name=""/>
            <p:cNvSpPr/>
            <p:nvPr/>
          </p:nvSpPr>
          <p:spPr>
            <a:xfrm>
              <a:off x="5105520" y="502920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V = 2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h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 rot="5400000">
              <a:off x="6248160" y="4570920"/>
              <a:ext cx="304920" cy="7617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1219320" y="2514600"/>
            <a:ext cx="7391160" cy="3505320"/>
            <a:chOff x="1219320" y="2514600"/>
            <a:chExt cx="7391160" cy="3505320"/>
          </a:xfrm>
        </p:grpSpPr>
        <p:sp>
          <p:nvSpPr>
            <p:cNvPr id="1149" name=""/>
            <p:cNvSpPr/>
            <p:nvPr/>
          </p:nvSpPr>
          <p:spPr>
            <a:xfrm>
              <a:off x="5334120" y="251460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area of ba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1219320" y="5257800"/>
              <a:ext cx="2286000" cy="762120"/>
              <a:chOff x="1219320" y="5257800"/>
              <a:chExt cx="2286000" cy="762120"/>
            </a:xfrm>
          </p:grpSpPr>
          <p:sp>
            <p:nvSpPr>
              <p:cNvPr id="1151" name=""/>
              <p:cNvSpPr/>
              <p:nvPr/>
            </p:nvSpPr>
            <p:spPr>
              <a:xfrm>
                <a:off x="1219320" y="5257800"/>
                <a:ext cx="2286000" cy="7621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095560" y="53182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3" name=""/>
          <p:cNvSpPr/>
          <p:nvPr/>
        </p:nvSpPr>
        <p:spPr>
          <a:xfrm>
            <a:off x="1523880" y="14479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Volume of a Cyli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219320" y="5257800"/>
            <a:ext cx="2286000" cy="70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2286000" y="5105520"/>
            <a:ext cx="2133720" cy="642600"/>
            <a:chOff x="2286000" y="5105520"/>
            <a:chExt cx="2133720" cy="642600"/>
          </a:xfrm>
        </p:grpSpPr>
        <p:sp>
          <p:nvSpPr>
            <p:cNvPr id="1156" name=""/>
            <p:cNvSpPr/>
            <p:nvPr/>
          </p:nvSpPr>
          <p:spPr>
            <a:xfrm>
              <a:off x="2286000" y="56707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9880" y="51055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8" name=""/>
            <p:cNvCxnSpPr/>
            <p:nvPr/>
          </p:nvCxnSpPr>
          <p:spPr>
            <a:xfrm flipV="1" rot="10800000">
              <a:off x="2628360" y="5368680"/>
              <a:ext cx="1372320" cy="3024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159" name=""/>
          <p:cNvSpPr/>
          <p:nvPr/>
        </p:nvSpPr>
        <p:spPr>
          <a:xfrm>
            <a:off x="754560" y="39625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14400" y="30924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14400" y="4603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882520" y="762120"/>
            <a:ext cx="35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3740040" y="1523880"/>
            <a:ext cx="164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Rat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09480" y="25146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ans of comparing or relating different quantities using the fraction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600200" y="3733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quotient of two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990720" y="45720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lation between two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2209680" y="5091120"/>
            <a:ext cx="609840" cy="1190160"/>
            <a:chOff x="2209680" y="5091120"/>
            <a:chExt cx="609840" cy="1190160"/>
          </a:xfrm>
        </p:grpSpPr>
        <p:sp>
          <p:nvSpPr>
            <p:cNvPr id="1168" name=""/>
            <p:cNvSpPr/>
            <p:nvPr/>
          </p:nvSpPr>
          <p:spPr>
            <a:xfrm>
              <a:off x="2209680" y="50911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ff"/>
                  </a:solidFill>
                  <a:uFillTx/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209680" y="5638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3429000" y="685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6248520" y="5059440"/>
            <a:ext cx="609480" cy="1190520"/>
            <a:chOff x="6248520" y="5059440"/>
            <a:chExt cx="609480" cy="1190520"/>
          </a:xfrm>
        </p:grpSpPr>
        <p:sp>
          <p:nvSpPr>
            <p:cNvPr id="1172" name=""/>
            <p:cNvSpPr/>
            <p:nvPr/>
          </p:nvSpPr>
          <p:spPr>
            <a:xfrm>
              <a:off x="6248520" y="50594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ff"/>
                  </a:solidFill>
                  <a:uFillTx/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248520" y="560736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Comic Sans MS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685800" y="2819520"/>
            <a:ext cx="266688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09480" y="1600200"/>
            <a:ext cx="64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elevision scre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14400" y="312408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990720" y="3352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860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12193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2193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85320" y="3733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704960" y="3124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4419720" y="2781360"/>
            <a:ext cx="874800" cy="1409040"/>
            <a:chOff x="4419720" y="2781360"/>
            <a:chExt cx="874800" cy="1409040"/>
          </a:xfrm>
        </p:grpSpPr>
        <p:sp>
          <p:nvSpPr>
            <p:cNvPr id="1184" name=""/>
            <p:cNvSpPr/>
            <p:nvPr/>
          </p:nvSpPr>
          <p:spPr>
            <a:xfrm>
              <a:off x="4442400" y="278136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19720" y="3467160"/>
              <a:ext cx="86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73720" y="34261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5471280" y="4267080"/>
            <a:ext cx="1583640" cy="1450080"/>
            <a:chOff x="5471280" y="4267080"/>
            <a:chExt cx="1583640" cy="1450080"/>
          </a:xfrm>
        </p:grpSpPr>
        <p:sp>
          <p:nvSpPr>
            <p:cNvPr id="1188" name=""/>
            <p:cNvSpPr/>
            <p:nvPr/>
          </p:nvSpPr>
          <p:spPr>
            <a:xfrm>
              <a:off x="5471280" y="4653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6033960" y="4267080"/>
              <a:ext cx="1020960" cy="1450080"/>
              <a:chOff x="6033960" y="4267080"/>
              <a:chExt cx="1020960" cy="1450080"/>
            </a:xfrm>
          </p:grpSpPr>
          <p:sp>
            <p:nvSpPr>
              <p:cNvPr id="1190" name=""/>
              <p:cNvSpPr/>
              <p:nvPr/>
            </p:nvSpPr>
            <p:spPr>
              <a:xfrm>
                <a:off x="6263640" y="42670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312960" y="49528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033960" y="5029200"/>
                <a:ext cx="10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3" name=""/>
          <p:cNvGrpSpPr/>
          <p:nvPr/>
        </p:nvGrpSpPr>
        <p:grpSpPr>
          <a:xfrm>
            <a:off x="5396400" y="2743200"/>
            <a:ext cx="1672560" cy="1450080"/>
            <a:chOff x="5396400" y="2743200"/>
            <a:chExt cx="1672560" cy="1450080"/>
          </a:xfrm>
        </p:grpSpPr>
        <p:sp>
          <p:nvSpPr>
            <p:cNvPr id="1194" name=""/>
            <p:cNvSpPr/>
            <p:nvPr/>
          </p:nvSpPr>
          <p:spPr>
            <a:xfrm>
              <a:off x="5396400" y="3129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5863680" y="2743200"/>
              <a:ext cx="1205280" cy="1450080"/>
              <a:chOff x="5863680" y="2743200"/>
              <a:chExt cx="1205280" cy="1450080"/>
            </a:xfrm>
          </p:grpSpPr>
          <p:sp>
            <p:nvSpPr>
              <p:cNvPr id="1196" name=""/>
              <p:cNvSpPr/>
              <p:nvPr/>
            </p:nvSpPr>
            <p:spPr>
              <a:xfrm>
                <a:off x="5863680" y="2743200"/>
                <a:ext cx="1155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4(5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913000" y="3429000"/>
                <a:ext cx="1155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3(5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959080" y="3505320"/>
                <a:ext cx="102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9" name=""/>
          <p:cNvSpPr/>
          <p:nvPr/>
        </p:nvSpPr>
        <p:spPr>
          <a:xfrm>
            <a:off x="609480" y="56228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V Standard ratio in U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429000" y="685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24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609480" y="1371600"/>
            <a:ext cx="39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“rate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527720" y="13716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cost per ounc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814320" y="2438280"/>
            <a:ext cx="4969080" cy="1930680"/>
            <a:chOff x="814320" y="2438280"/>
            <a:chExt cx="4969080" cy="1930680"/>
          </a:xfrm>
        </p:grpSpPr>
        <p:sp>
          <p:nvSpPr>
            <p:cNvPr id="1204" name=""/>
            <p:cNvSpPr/>
            <p:nvPr/>
          </p:nvSpPr>
          <p:spPr>
            <a:xfrm>
              <a:off x="814320" y="2438280"/>
              <a:ext cx="496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Honey Nut Cheeri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861840" y="3085920"/>
              <a:ext cx="1506600" cy="1283040"/>
              <a:chOff x="861840" y="3085920"/>
              <a:chExt cx="1506600" cy="1283040"/>
            </a:xfrm>
          </p:grpSpPr>
          <p:sp>
            <p:nvSpPr>
              <p:cNvPr id="1206" name=""/>
              <p:cNvSpPr/>
              <p:nvPr/>
            </p:nvSpPr>
            <p:spPr>
              <a:xfrm>
                <a:off x="904320" y="3085920"/>
                <a:ext cx="14137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$5.19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61840" y="3695760"/>
                <a:ext cx="15066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40 oz.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00000" y="3749760"/>
                <a:ext cx="13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9" name=""/>
          <p:cNvGrpSpPr/>
          <p:nvPr/>
        </p:nvGrpSpPr>
        <p:grpSpPr>
          <a:xfrm>
            <a:off x="2730240" y="3303720"/>
            <a:ext cx="3204720" cy="734040"/>
            <a:chOff x="2730240" y="3303720"/>
            <a:chExt cx="3204720" cy="734040"/>
          </a:xfrm>
        </p:grpSpPr>
        <p:sp>
          <p:nvSpPr>
            <p:cNvPr id="1210" name=""/>
            <p:cNvSpPr/>
            <p:nvPr/>
          </p:nvSpPr>
          <p:spPr>
            <a:xfrm>
              <a:off x="2730240" y="3353040"/>
              <a:ext cx="456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475800" y="3303720"/>
              <a:ext cx="2459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3333cc"/>
                  </a:solidFill>
                  <a:latin typeface="Comic Sans MS"/>
                </a:rPr>
                <a:t>$0.13/oz</a:t>
              </a:r>
              <a:r>
                <a:rPr b="0" lang="en-US" sz="4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3273120" y="4419720"/>
            <a:ext cx="5083560" cy="1906560"/>
            <a:chOff x="3273120" y="4419720"/>
            <a:chExt cx="5083560" cy="1906560"/>
          </a:xfrm>
        </p:grpSpPr>
        <p:sp>
          <p:nvSpPr>
            <p:cNvPr id="1213" name=""/>
            <p:cNvSpPr/>
            <p:nvPr/>
          </p:nvSpPr>
          <p:spPr>
            <a:xfrm>
              <a:off x="3273120" y="4419720"/>
              <a:ext cx="508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Safeway Honey Nut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3281040" y="5043600"/>
              <a:ext cx="1506600" cy="1282680"/>
              <a:chOff x="3281040" y="5043600"/>
              <a:chExt cx="1506600" cy="1282680"/>
            </a:xfrm>
          </p:grpSpPr>
          <p:sp>
            <p:nvSpPr>
              <p:cNvPr id="1215" name=""/>
              <p:cNvSpPr/>
              <p:nvPr/>
            </p:nvSpPr>
            <p:spPr>
              <a:xfrm>
                <a:off x="3329280" y="5043600"/>
                <a:ext cx="14137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$3.49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281040" y="5653080"/>
                <a:ext cx="15066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000"/>
                    </a:solidFill>
                    <a:latin typeface="Comic Sans MS"/>
                  </a:rPr>
                  <a:t>32 oz.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357360" y="5707080"/>
                <a:ext cx="135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8" name=""/>
          <p:cNvGrpSpPr/>
          <p:nvPr/>
        </p:nvGrpSpPr>
        <p:grpSpPr>
          <a:xfrm>
            <a:off x="5063760" y="5348160"/>
            <a:ext cx="2946600" cy="673200"/>
            <a:chOff x="5063760" y="5348160"/>
            <a:chExt cx="2946600" cy="673200"/>
          </a:xfrm>
        </p:grpSpPr>
        <p:sp>
          <p:nvSpPr>
            <p:cNvPr id="1219" name=""/>
            <p:cNvSpPr/>
            <p:nvPr/>
          </p:nvSpPr>
          <p:spPr>
            <a:xfrm>
              <a:off x="5063760" y="5348160"/>
              <a:ext cx="456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767560" y="5348160"/>
              <a:ext cx="2242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3333cc"/>
                  </a:solidFill>
                  <a:latin typeface="Comic Sans MS"/>
                </a:rPr>
                <a:t>$0.11/oz.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1" name="" descr=""/>
          <p:cNvPicPr/>
          <p:nvPr/>
        </p:nvPicPr>
        <p:blipFill>
          <a:blip r:embed="rId1"/>
          <a:stretch/>
        </p:blipFill>
        <p:spPr>
          <a:xfrm>
            <a:off x="704880" y="4343400"/>
            <a:ext cx="1809720" cy="1773360"/>
          </a:xfrm>
          <a:prstGeom prst="rect">
            <a:avLst/>
          </a:prstGeom>
          <a:ln w="0">
            <a:noFill/>
          </a:ln>
        </p:spPr>
      </p:pic>
      <p:sp>
        <p:nvSpPr>
          <p:cNvPr id="1222" name=""/>
          <p:cNvSpPr/>
          <p:nvPr/>
        </p:nvSpPr>
        <p:spPr>
          <a:xfrm>
            <a:off x="3429000" y="685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6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675000" y="1276200"/>
            <a:ext cx="57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izona Powerball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72480" y="2452680"/>
            <a:ext cx="48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ick 5 Numb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6600" y="3505320"/>
            <a:ext cx="790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 – 49. each. + Powerball 1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7960" y="4730760"/>
            <a:ext cx="32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4343400" y="4343400"/>
            <a:ext cx="3395520" cy="1663200"/>
            <a:chOff x="4343400" y="4343400"/>
            <a:chExt cx="3395520" cy="1663200"/>
          </a:xfrm>
        </p:grpSpPr>
        <p:sp>
          <p:nvSpPr>
            <p:cNvPr id="1228" name=""/>
            <p:cNvSpPr/>
            <p:nvPr/>
          </p:nvSpPr>
          <p:spPr>
            <a:xfrm>
              <a:off x="5776560" y="4343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91640" y="5181480"/>
              <a:ext cx="329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80,089,12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43400" y="516744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tios and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quivalent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720" y="1219320"/>
            <a:ext cx="32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Propor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447920" y="192096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ation that asserts 2 ratio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407120" y="4746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669960" y="3733920"/>
            <a:ext cx="3749400" cy="2666880"/>
            <a:chOff x="669960" y="3733920"/>
            <a:chExt cx="3749400" cy="2666880"/>
          </a:xfrm>
        </p:grpSpPr>
        <p:grpSp>
          <p:nvGrpSpPr>
            <p:cNvPr id="1237" name=""/>
            <p:cNvGrpSpPr/>
            <p:nvPr/>
          </p:nvGrpSpPr>
          <p:grpSpPr>
            <a:xfrm>
              <a:off x="669960" y="4419720"/>
              <a:ext cx="3749400" cy="1296360"/>
              <a:chOff x="669960" y="4419720"/>
              <a:chExt cx="3749400" cy="1296360"/>
            </a:xfrm>
          </p:grpSpPr>
          <p:sp>
            <p:nvSpPr>
              <p:cNvPr id="1238" name=""/>
              <p:cNvSpPr/>
              <p:nvPr/>
            </p:nvSpPr>
            <p:spPr>
              <a:xfrm>
                <a:off x="849240" y="4419720"/>
                <a:ext cx="339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John’s hat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69960" y="5073480"/>
                <a:ext cx="374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John’s shoe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72920" y="5073480"/>
                <a:ext cx="357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41" name="" descr=""/>
            <p:cNvPicPr/>
            <p:nvPr/>
          </p:nvPicPr>
          <p:blipFill>
            <a:blip r:embed="rId1"/>
            <a:stretch/>
          </p:blipFill>
          <p:spPr>
            <a:xfrm>
              <a:off x="1752480" y="3733920"/>
              <a:ext cx="18097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2"/>
            <a:stretch/>
          </p:blipFill>
          <p:spPr>
            <a:xfrm>
              <a:off x="2149560" y="5791320"/>
              <a:ext cx="112716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3" name=""/>
          <p:cNvGrpSpPr/>
          <p:nvPr/>
        </p:nvGrpSpPr>
        <p:grpSpPr>
          <a:xfrm>
            <a:off x="4876920" y="3733920"/>
            <a:ext cx="3657600" cy="2811240"/>
            <a:chOff x="4876920" y="3733920"/>
            <a:chExt cx="3657600" cy="2811240"/>
          </a:xfrm>
        </p:grpSpPr>
        <p:grpSp>
          <p:nvGrpSpPr>
            <p:cNvPr id="1244" name=""/>
            <p:cNvGrpSpPr/>
            <p:nvPr/>
          </p:nvGrpSpPr>
          <p:grpSpPr>
            <a:xfrm>
              <a:off x="4876920" y="4419720"/>
              <a:ext cx="3657600" cy="1296360"/>
              <a:chOff x="4876920" y="4419720"/>
              <a:chExt cx="3657600" cy="129636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86440" y="4419720"/>
                <a:ext cx="32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am’s hat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76920" y="5073480"/>
                <a:ext cx="3657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am’s shoe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934160" y="5073480"/>
                <a:ext cx="354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48" name="" descr=""/>
            <p:cNvPicPr/>
            <p:nvPr/>
          </p:nvPicPr>
          <p:blipFill>
            <a:blip r:embed="rId3"/>
            <a:stretch/>
          </p:blipFill>
          <p:spPr>
            <a:xfrm>
              <a:off x="4933800" y="3733920"/>
              <a:ext cx="33912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" descr=""/>
            <p:cNvPicPr/>
            <p:nvPr/>
          </p:nvPicPr>
          <p:blipFill>
            <a:blip r:embed="rId4"/>
            <a:stretch/>
          </p:blipFill>
          <p:spPr>
            <a:xfrm>
              <a:off x="5410080" y="5791320"/>
              <a:ext cx="238140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29160" y="72396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0120" y="1371600"/>
            <a:ext cx="29415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917 ÷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2514600"/>
            <a:ext cx="1295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-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12408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96520" y="3124080"/>
            <a:ext cx="760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93760" y="3733920"/>
            <a:ext cx="9237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44197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06600" y="4406760"/>
            <a:ext cx="1050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70440" y="4940280"/>
            <a:ext cx="1213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-10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556272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05640" y="5638680"/>
            <a:ext cx="470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4040" y="1295280"/>
            <a:ext cx="9388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R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10840" y="259092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Comic Sans MS"/>
              </a:rPr>
              <a:t>1200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94240" y="3778200"/>
            <a:ext cx="12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20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80880" y="495288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2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029200" y="1844640"/>
                <a:ext cx="2133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917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675684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75960" y="1311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3144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1828800" y="18288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Cross Multipl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597120" y="5241960"/>
            <a:ext cx="19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 =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581280" y="274320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 = 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3804840" y="3581280"/>
            <a:ext cx="1534320" cy="1389240"/>
            <a:chOff x="3804840" y="3581280"/>
            <a:chExt cx="1534320" cy="1389240"/>
          </a:xfrm>
        </p:grpSpPr>
        <p:grpSp>
          <p:nvGrpSpPr>
            <p:cNvPr id="1254" name=""/>
            <p:cNvGrpSpPr/>
            <p:nvPr/>
          </p:nvGrpSpPr>
          <p:grpSpPr>
            <a:xfrm>
              <a:off x="3804840" y="3581280"/>
              <a:ext cx="493200" cy="1389240"/>
              <a:chOff x="3804840" y="3581280"/>
              <a:chExt cx="493200" cy="1389240"/>
            </a:xfrm>
          </p:grpSpPr>
          <p:sp>
            <p:nvSpPr>
              <p:cNvPr id="1255" name=""/>
              <p:cNvSpPr/>
              <p:nvPr/>
            </p:nvSpPr>
            <p:spPr>
              <a:xfrm>
                <a:off x="3818160" y="3581280"/>
                <a:ext cx="465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804840" y="4267080"/>
                <a:ext cx="49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43000" y="4267080"/>
                <a:ext cx="41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4362480" y="3954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4845960" y="3581280"/>
              <a:ext cx="493200" cy="1389240"/>
              <a:chOff x="4845960" y="3581280"/>
              <a:chExt cx="493200" cy="1389240"/>
            </a:xfrm>
          </p:grpSpPr>
          <p:sp>
            <p:nvSpPr>
              <p:cNvPr id="1260" name=""/>
              <p:cNvSpPr/>
              <p:nvPr/>
            </p:nvSpPr>
            <p:spPr>
              <a:xfrm>
                <a:off x="4879800" y="3581280"/>
                <a:ext cx="424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845960" y="4267080"/>
                <a:ext cx="49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84480" y="4267080"/>
                <a:ext cx="41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263" name=""/>
          <p:cNvCxnSpPr>
            <a:stCxn id="1255" idx="3"/>
            <a:endCxn id="1261" idx="1"/>
          </p:cNvCxnSpPr>
          <p:nvPr/>
        </p:nvCxnSpPr>
        <p:spPr>
          <a:xfrm>
            <a:off x="4273200" y="3931920"/>
            <a:ext cx="5785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4" name=""/>
          <p:cNvCxnSpPr>
            <a:stCxn id="1256" idx="3"/>
            <a:endCxn id="1260" idx="1"/>
          </p:cNvCxnSpPr>
          <p:nvPr/>
        </p:nvCxnSpPr>
        <p:spPr>
          <a:xfrm flipV="1">
            <a:off x="4293720" y="3931560"/>
            <a:ext cx="5770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5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945080" y="1736640"/>
            <a:ext cx="525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Convert 4 ft to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651400" y="2668680"/>
            <a:ext cx="1337400" cy="1370160"/>
            <a:chOff x="2651400" y="2668680"/>
            <a:chExt cx="1337400" cy="1370160"/>
          </a:xfrm>
        </p:grpSpPr>
        <p:sp>
          <p:nvSpPr>
            <p:cNvPr id="1268" name=""/>
            <p:cNvSpPr/>
            <p:nvPr/>
          </p:nvSpPr>
          <p:spPr>
            <a:xfrm>
              <a:off x="2651400" y="26686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 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38960" y="3335400"/>
              <a:ext cx="960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2771640" y="3341160"/>
              <a:ext cx="1096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1891440" y="432756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ft • x in = (12 in)(4 f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493440" y="547056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48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72160" y="3057120"/>
            <a:ext cx="1361520" cy="59616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3871800" y="3055320"/>
            <a:ext cx="1361160" cy="59652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4336200" y="2666880"/>
            <a:ext cx="2040480" cy="1370160"/>
            <a:chOff x="4336200" y="2666880"/>
            <a:chExt cx="2040480" cy="1370160"/>
          </a:xfrm>
        </p:grpSpPr>
        <p:sp>
          <p:nvSpPr>
            <p:cNvPr id="1276" name=""/>
            <p:cNvSpPr/>
            <p:nvPr/>
          </p:nvSpPr>
          <p:spPr>
            <a:xfrm>
              <a:off x="4336200" y="3002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5279760" y="2666880"/>
              <a:ext cx="1096920" cy="1370160"/>
              <a:chOff x="5279760" y="2666880"/>
              <a:chExt cx="1096920" cy="1370160"/>
            </a:xfrm>
          </p:grpSpPr>
          <p:sp>
            <p:nvSpPr>
              <p:cNvPr id="1278" name=""/>
              <p:cNvSpPr/>
              <p:nvPr/>
            </p:nvSpPr>
            <p:spPr>
              <a:xfrm>
                <a:off x="5314680" y="2666880"/>
                <a:ext cx="102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 i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348160" y="3333600"/>
                <a:ext cx="960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5279760" y="3343320"/>
                <a:ext cx="10969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1" name=""/>
          <p:cNvGrpSpPr/>
          <p:nvPr/>
        </p:nvGrpSpPr>
        <p:grpSpPr>
          <a:xfrm>
            <a:off x="350280" y="1250640"/>
            <a:ext cx="2281320" cy="1360440"/>
            <a:chOff x="350280" y="1250640"/>
            <a:chExt cx="2281320" cy="1360440"/>
          </a:xfrm>
        </p:grpSpPr>
        <p:sp>
          <p:nvSpPr>
            <p:cNvPr id="1282" name=""/>
            <p:cNvSpPr/>
            <p:nvPr/>
          </p:nvSpPr>
          <p:spPr>
            <a:xfrm rot="20897400">
              <a:off x="394560" y="1499760"/>
              <a:ext cx="2119320" cy="4190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20897400">
              <a:off x="424080" y="14572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po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9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4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8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 far we have look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124080" y="2514600"/>
            <a:ext cx="541044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vision of integers,decimal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and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onents and ro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ometrical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tio and pro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15238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4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54864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¾ 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0960" y="2911320"/>
            <a:ext cx="14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228840" y="2911320"/>
            <a:ext cx="2181240" cy="703440"/>
            <a:chOff x="3228840" y="2911320"/>
            <a:chExt cx="2181240" cy="703440"/>
          </a:xfrm>
        </p:grpSpPr>
        <p:sp>
          <p:nvSpPr>
            <p:cNvPr id="170" name=""/>
            <p:cNvSpPr/>
            <p:nvPr/>
          </p:nvSpPr>
          <p:spPr>
            <a:xfrm>
              <a:off x="3228840" y="2911320"/>
              <a:ext cx="107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)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16200" y="2979720"/>
              <a:ext cx="179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114800" y="236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64800" y="2362320"/>
            <a:ext cx="6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708360" y="3421080"/>
            <a:ext cx="939960" cy="703440"/>
            <a:chOff x="3708360" y="3421080"/>
            <a:chExt cx="939960" cy="703440"/>
          </a:xfrm>
        </p:grpSpPr>
        <p:sp>
          <p:nvSpPr>
            <p:cNvPr id="175" name=""/>
            <p:cNvSpPr/>
            <p:nvPr/>
          </p:nvSpPr>
          <p:spPr>
            <a:xfrm>
              <a:off x="3708360" y="3421080"/>
              <a:ext cx="93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8360" y="4038840"/>
              <a:ext cx="93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114800" y="3946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31240" y="23623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962520" y="4419720"/>
            <a:ext cx="1143000" cy="703440"/>
            <a:chOff x="3962520" y="4419720"/>
            <a:chExt cx="1143000" cy="703440"/>
          </a:xfrm>
        </p:grpSpPr>
        <p:sp>
          <p:nvSpPr>
            <p:cNvPr id="180" name=""/>
            <p:cNvSpPr/>
            <p:nvPr/>
          </p:nvSpPr>
          <p:spPr>
            <a:xfrm>
              <a:off x="4114800" y="441972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62520" y="5037120"/>
              <a:ext cx="93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2520" y="5121360"/>
              <a:ext cx="93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52480" y="700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50120" y="1447920"/>
            <a:ext cx="343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6.42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0.0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39760" y="2516040"/>
            <a:ext cx="4202280" cy="703440"/>
            <a:chOff x="2039760" y="2516040"/>
            <a:chExt cx="4202280" cy="703440"/>
          </a:xfrm>
        </p:grpSpPr>
        <p:sp>
          <p:nvSpPr>
            <p:cNvPr id="186" name=""/>
            <p:cNvSpPr/>
            <p:nvPr/>
          </p:nvSpPr>
          <p:spPr>
            <a:xfrm>
              <a:off x="2039760" y="2516040"/>
              <a:ext cx="38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0 3 7 )76.4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21200" y="2595600"/>
              <a:ext cx="22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72520" y="2516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0920" y="198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34560" y="2514600"/>
            <a:ext cx="3575520" cy="1758960"/>
            <a:chOff x="1834560" y="2514600"/>
            <a:chExt cx="3575520" cy="1758960"/>
          </a:xfrm>
        </p:grpSpPr>
        <p:grpSp>
          <p:nvGrpSpPr>
            <p:cNvPr id="191" name=""/>
            <p:cNvGrpSpPr/>
            <p:nvPr/>
          </p:nvGrpSpPr>
          <p:grpSpPr>
            <a:xfrm>
              <a:off x="1834560" y="2514600"/>
              <a:ext cx="1289520" cy="1330200"/>
              <a:chOff x="1834560" y="2514600"/>
              <a:chExt cx="1289520" cy="1330200"/>
            </a:xfrm>
          </p:grpSpPr>
          <p:sp>
            <p:nvSpPr>
              <p:cNvPr id="192" name=""/>
              <p:cNvSpPr/>
              <p:nvPr/>
            </p:nvSpPr>
            <p:spPr>
              <a:xfrm>
                <a:off x="279936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34560" y="3324240"/>
                <a:ext cx="86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05120" y="335268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306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94" idx="6"/>
                <a:endCxn id="195" idx="4"/>
              </p:cNvCxnSpPr>
              <p:nvPr/>
            </p:nvCxnSpPr>
            <p:spPr>
              <a:xfrm flipV="1">
                <a:off x="2630520" y="3063600"/>
                <a:ext cx="348480" cy="504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97" name=""/>
            <p:cNvGrpSpPr/>
            <p:nvPr/>
          </p:nvGrpSpPr>
          <p:grpSpPr>
            <a:xfrm>
              <a:off x="4483800" y="2743200"/>
              <a:ext cx="926280" cy="1530360"/>
              <a:chOff x="4483800" y="2743200"/>
              <a:chExt cx="926280" cy="153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4483800" y="3753000"/>
                <a:ext cx="86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32400" y="380988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166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1" name=""/>
              <p:cNvCxnSpPr>
                <a:stCxn id="199" idx="0"/>
                <a:endCxn id="200" idx="4"/>
              </p:cNvCxnSpPr>
              <p:nvPr/>
            </p:nvCxnSpPr>
            <p:spPr>
              <a:xfrm flipH="1" flipV="1" rot="5400000">
                <a:off x="4706640" y="3252240"/>
                <a:ext cx="746640" cy="369000"/>
              </a:xfrm>
              <a:prstGeom prst="curvedConnector5">
                <a:avLst>
                  <a:gd name="adj1" fmla="val 49975"/>
                  <a:gd name="adj2" fmla="val 50000"/>
                  <a:gd name="adj3" fmla="val 49975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2" name=""/>
          <p:cNvGrpSpPr/>
          <p:nvPr/>
        </p:nvGrpSpPr>
        <p:grpSpPr>
          <a:xfrm>
            <a:off x="2433960" y="2514600"/>
            <a:ext cx="3829680" cy="1758960"/>
            <a:chOff x="2433960" y="2514600"/>
            <a:chExt cx="3829680" cy="1758960"/>
          </a:xfrm>
        </p:grpSpPr>
        <p:grpSp>
          <p:nvGrpSpPr>
            <p:cNvPr id="203" name=""/>
            <p:cNvGrpSpPr/>
            <p:nvPr/>
          </p:nvGrpSpPr>
          <p:grpSpPr>
            <a:xfrm>
              <a:off x="2433960" y="2514600"/>
              <a:ext cx="1212480" cy="1758960"/>
              <a:chOff x="2433960" y="2514600"/>
              <a:chExt cx="1212480" cy="1758960"/>
            </a:xfrm>
          </p:grpSpPr>
          <p:sp>
            <p:nvSpPr>
              <p:cNvPr id="204" name=""/>
              <p:cNvSpPr/>
              <p:nvPr/>
            </p:nvSpPr>
            <p:spPr>
              <a:xfrm>
                <a:off x="325044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433960" y="3753000"/>
                <a:ext cx="1069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27280" y="376236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52680" y="2743200"/>
                <a:ext cx="29376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8" name=""/>
              <p:cNvCxnSpPr>
                <a:stCxn id="206" idx="0"/>
                <a:endCxn id="207" idx="3"/>
              </p:cNvCxnSpPr>
              <p:nvPr/>
            </p:nvCxnSpPr>
            <p:spPr>
              <a:xfrm flipH="1" flipV="1" rot="5400000">
                <a:off x="2819880" y="3186360"/>
                <a:ext cx="747000" cy="405360"/>
              </a:xfrm>
              <a:prstGeom prst="curvedConnector5">
                <a:avLst>
                  <a:gd name="adj1" fmla="val 46769"/>
                  <a:gd name="adj2" fmla="val 49955"/>
                  <a:gd name="adj3" fmla="val 46769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09" name=""/>
            <p:cNvGrpSpPr/>
            <p:nvPr/>
          </p:nvGrpSpPr>
          <p:grpSpPr>
            <a:xfrm>
              <a:off x="5194440" y="2743200"/>
              <a:ext cx="1069200" cy="1100160"/>
              <a:chOff x="5194440" y="2743200"/>
              <a:chExt cx="1069200" cy="1100160"/>
            </a:xfrm>
          </p:grpSpPr>
          <p:sp>
            <p:nvSpPr>
              <p:cNvPr id="210" name=""/>
              <p:cNvSpPr/>
              <p:nvPr/>
            </p:nvSpPr>
            <p:spPr>
              <a:xfrm>
                <a:off x="5194440" y="3322800"/>
                <a:ext cx="1069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94160" y="3381480"/>
                <a:ext cx="725760" cy="428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97560" y="2743200"/>
                <a:ext cx="29376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3" name=""/>
              <p:cNvCxnSpPr>
                <a:stCxn id="211" idx="0"/>
                <a:endCxn id="212" idx="4"/>
              </p:cNvCxnSpPr>
              <p:nvPr/>
            </p:nvCxnSpPr>
            <p:spPr>
              <a:xfrm flipV="1" rot="16200000">
                <a:off x="5492160" y="3216240"/>
                <a:ext cx="317880" cy="1332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4" name=""/>
          <p:cNvGrpSpPr/>
          <p:nvPr/>
        </p:nvGrpSpPr>
        <p:grpSpPr>
          <a:xfrm>
            <a:off x="3220920" y="2514600"/>
            <a:ext cx="3997440" cy="1758960"/>
            <a:chOff x="3220920" y="2514600"/>
            <a:chExt cx="3997440" cy="1758960"/>
          </a:xfrm>
        </p:grpSpPr>
        <p:grpSp>
          <p:nvGrpSpPr>
            <p:cNvPr id="215" name=""/>
            <p:cNvGrpSpPr/>
            <p:nvPr/>
          </p:nvGrpSpPr>
          <p:grpSpPr>
            <a:xfrm>
              <a:off x="3220920" y="2514600"/>
              <a:ext cx="1271880" cy="1373040"/>
              <a:chOff x="3220920" y="2514600"/>
              <a:chExt cx="1271880" cy="1373040"/>
            </a:xfrm>
          </p:grpSpPr>
          <p:sp>
            <p:nvSpPr>
              <p:cNvPr id="216" name=""/>
              <p:cNvSpPr/>
              <p:nvPr/>
            </p:nvSpPr>
            <p:spPr>
              <a:xfrm>
                <a:off x="363132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20920" y="3367080"/>
                <a:ext cx="12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429000" y="345744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450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0" name=""/>
              <p:cNvCxnSpPr>
                <a:stCxn id="218" idx="0"/>
                <a:endCxn id="219" idx="3"/>
              </p:cNvCxnSpPr>
              <p:nvPr/>
            </p:nvCxnSpPr>
            <p:spPr>
              <a:xfrm flipV="1" rot="16200000">
                <a:off x="3569040" y="3233880"/>
                <a:ext cx="442080" cy="5400"/>
              </a:xfrm>
              <a:prstGeom prst="curvedConnector5">
                <a:avLst>
                  <a:gd name="adj1" fmla="val 44580"/>
                  <a:gd name="adj2" fmla="val 50000"/>
                  <a:gd name="adj3" fmla="val 4458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221" name=""/>
            <p:cNvGrpSpPr/>
            <p:nvPr/>
          </p:nvGrpSpPr>
          <p:grpSpPr>
            <a:xfrm>
              <a:off x="5791320" y="2803680"/>
              <a:ext cx="1427040" cy="1469880"/>
              <a:chOff x="5791320" y="2803680"/>
              <a:chExt cx="1427040" cy="1469880"/>
            </a:xfrm>
          </p:grpSpPr>
          <p:sp>
            <p:nvSpPr>
              <p:cNvPr id="222" name=""/>
              <p:cNvSpPr/>
              <p:nvPr/>
            </p:nvSpPr>
            <p:spPr>
              <a:xfrm>
                <a:off x="5946480" y="3753000"/>
                <a:ext cx="12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24480" y="3762360"/>
                <a:ext cx="72576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91320" y="2803680"/>
                <a:ext cx="293400" cy="320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5" name=""/>
              <p:cNvCxnSpPr>
                <a:stCxn id="223" idx="0"/>
                <a:endCxn id="224" idx="6"/>
              </p:cNvCxnSpPr>
              <p:nvPr/>
            </p:nvCxnSpPr>
            <p:spPr>
              <a:xfrm flipV="1" rot="16200000">
                <a:off x="5987160" y="3061080"/>
                <a:ext cx="799200" cy="6037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26" name=""/>
          <p:cNvGrpSpPr/>
          <p:nvPr/>
        </p:nvGrpSpPr>
        <p:grpSpPr>
          <a:xfrm>
            <a:off x="2743200" y="5097600"/>
            <a:ext cx="3641760" cy="703440"/>
            <a:chOff x="2743200" y="5097600"/>
            <a:chExt cx="3641760" cy="703440"/>
          </a:xfrm>
        </p:grpSpPr>
        <p:sp>
          <p:nvSpPr>
            <p:cNvPr id="227" name=""/>
            <p:cNvSpPr/>
            <p:nvPr/>
          </p:nvSpPr>
          <p:spPr>
            <a:xfrm>
              <a:off x="2743200" y="5097600"/>
              <a:ext cx="264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7)764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05320" y="516888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172480" y="509760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3520" y="455616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065.4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95280" y="19810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y number divided by 0 is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NOT DEFINED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12193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ivision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5812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 0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3505320"/>
            <a:ext cx="1295280" cy="15238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38242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51055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23 </a:t>
            </a:r>
            <a:r>
              <a:rPr b="0" lang="en-US" sz="6000" spc="-1" strike="noStrike">
                <a:solidFill>
                  <a:srgbClr val="006600"/>
                </a:solidFill>
                <a:latin typeface="Symbol"/>
                <a:ea typeface="Symbol"/>
              </a:rPr>
              <a:t></a:t>
            </a: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 0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4876920"/>
            <a:ext cx="1295640" cy="1523880"/>
          </a:xfrm>
          <a:prstGeom prst="irregularSeal1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5195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685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visio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00400" y="685800"/>
            <a:ext cx="32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58680" y="1339920"/>
            <a:ext cx="1870560" cy="1136880"/>
            <a:chOff x="3658680" y="1339920"/>
            <a:chExt cx="1870560" cy="1136880"/>
          </a:xfrm>
        </p:grpSpPr>
        <p:sp>
          <p:nvSpPr>
            <p:cNvPr id="242" name=""/>
            <p:cNvSpPr/>
            <p:nvPr/>
          </p:nvSpPr>
          <p:spPr>
            <a:xfrm>
              <a:off x="4619160" y="13413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19160" y="1895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41840" y="1909800"/>
              <a:ext cx="36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8680" y="1339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8680" y="1893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81720" y="1908000"/>
              <a:ext cx="36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69880" y="158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86440" y="158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658320" y="2763720"/>
            <a:ext cx="1870920" cy="1136880"/>
            <a:chOff x="3658320" y="2763720"/>
            <a:chExt cx="1870920" cy="1136880"/>
          </a:xfrm>
        </p:grpSpPr>
        <p:grpSp>
          <p:nvGrpSpPr>
            <p:cNvPr id="251" name=""/>
            <p:cNvGrpSpPr/>
            <p:nvPr/>
          </p:nvGrpSpPr>
          <p:grpSpPr>
            <a:xfrm>
              <a:off x="4618800" y="2765160"/>
              <a:ext cx="414000" cy="1135440"/>
              <a:chOff x="4618800" y="2765160"/>
              <a:chExt cx="414000" cy="1135440"/>
            </a:xfrm>
          </p:grpSpPr>
          <p:sp>
            <p:nvSpPr>
              <p:cNvPr id="252" name=""/>
              <p:cNvSpPr/>
              <p:nvPr/>
            </p:nvSpPr>
            <p:spPr>
              <a:xfrm>
                <a:off x="4618800" y="2765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18800" y="3319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41840" y="3333600"/>
                <a:ext cx="366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658320" y="2763720"/>
              <a:ext cx="414000" cy="1135440"/>
              <a:chOff x="3658320" y="2763720"/>
              <a:chExt cx="414000" cy="1135440"/>
            </a:xfrm>
          </p:grpSpPr>
          <p:sp>
            <p:nvSpPr>
              <p:cNvPr id="256" name=""/>
              <p:cNvSpPr/>
              <p:nvPr/>
            </p:nvSpPr>
            <p:spPr>
              <a:xfrm>
                <a:off x="3658320" y="2763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58320" y="3317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81360" y="3332160"/>
                <a:ext cx="3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4136760" y="30114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86440" y="3011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98520" y="4437000"/>
            <a:ext cx="739440" cy="1135440"/>
            <a:chOff x="5798520" y="4437000"/>
            <a:chExt cx="739440" cy="1135440"/>
          </a:xfrm>
        </p:grpSpPr>
        <p:grpSp>
          <p:nvGrpSpPr>
            <p:cNvPr id="262" name=""/>
            <p:cNvGrpSpPr/>
            <p:nvPr/>
          </p:nvGrpSpPr>
          <p:grpSpPr>
            <a:xfrm>
              <a:off x="6123240" y="4437000"/>
              <a:ext cx="414720" cy="1135440"/>
              <a:chOff x="6123240" y="4437000"/>
              <a:chExt cx="414720" cy="1135440"/>
            </a:xfrm>
          </p:grpSpPr>
          <p:sp>
            <p:nvSpPr>
              <p:cNvPr id="263" name=""/>
              <p:cNvSpPr/>
              <p:nvPr/>
            </p:nvSpPr>
            <p:spPr>
              <a:xfrm>
                <a:off x="6123240" y="4437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23960" y="4991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46640" y="5005440"/>
                <a:ext cx="366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5798520" y="4683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626920" y="4187880"/>
            <a:ext cx="3245400" cy="1521720"/>
            <a:chOff x="2626920" y="4187880"/>
            <a:chExt cx="3245400" cy="1521720"/>
          </a:xfrm>
        </p:grpSpPr>
        <p:grpSp>
          <p:nvGrpSpPr>
            <p:cNvPr id="268" name=""/>
            <p:cNvGrpSpPr/>
            <p:nvPr/>
          </p:nvGrpSpPr>
          <p:grpSpPr>
            <a:xfrm>
              <a:off x="2929680" y="4449600"/>
              <a:ext cx="414000" cy="1135440"/>
              <a:chOff x="2929680" y="4449600"/>
              <a:chExt cx="414000" cy="1135440"/>
            </a:xfrm>
          </p:grpSpPr>
          <p:sp>
            <p:nvSpPr>
              <p:cNvPr id="269" name=""/>
              <p:cNvSpPr/>
              <p:nvPr/>
            </p:nvSpPr>
            <p:spPr>
              <a:xfrm>
                <a:off x="2929680" y="4449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29680" y="5003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52360" y="5018040"/>
                <a:ext cx="3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904560" y="4449600"/>
              <a:ext cx="414000" cy="1135440"/>
              <a:chOff x="3904560" y="4449600"/>
              <a:chExt cx="414000" cy="1135440"/>
            </a:xfrm>
          </p:grpSpPr>
          <p:sp>
            <p:nvSpPr>
              <p:cNvPr id="273" name=""/>
              <p:cNvSpPr/>
              <p:nvPr/>
            </p:nvSpPr>
            <p:spPr>
              <a:xfrm>
                <a:off x="3904560" y="4449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04560" y="5003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27240" y="5018040"/>
                <a:ext cx="3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942800" y="4451400"/>
              <a:ext cx="414000" cy="1135080"/>
              <a:chOff x="4942800" y="4451400"/>
              <a:chExt cx="414000" cy="1135080"/>
            </a:xfrm>
          </p:grpSpPr>
          <p:sp>
            <p:nvSpPr>
              <p:cNvPr id="277" name=""/>
              <p:cNvSpPr/>
              <p:nvPr/>
            </p:nvSpPr>
            <p:spPr>
              <a:xfrm>
                <a:off x="4942800" y="4451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42800" y="5005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65840" y="5019480"/>
                <a:ext cx="3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436560" y="46958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00640" y="469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29520" y="4707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626920" y="4187880"/>
              <a:ext cx="1868400" cy="1521720"/>
              <a:chOff x="2626920" y="4187880"/>
              <a:chExt cx="1868400" cy="152172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2921400" y="5163840"/>
                <a:ext cx="398880" cy="26604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902760" y="4615920"/>
                <a:ext cx="398520" cy="26604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26920" y="524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0720" y="4187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15:59:23Z</dcterms:created>
  <dc:creator>Community Campus</dc:creator>
  <dc:description/>
  <dc:language>en-US</dc:language>
  <cp:lastModifiedBy>iddcws</cp:lastModifiedBy>
  <dcterms:modified xsi:type="dcterms:W3CDTF">2003-01-28T19:38:07Z</dcterms:modified>
  <cp:revision>64</cp:revision>
  <dc:subject/>
  <dc:title>PowerPoint Presentation</dc:title>
</cp:coreProperties>
</file>