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3.wmf" ContentType="image/x-wmf"/>
  <Override PartName="/ppt/media/image9.png" ContentType="image/png"/>
  <Override PartName="/ppt/media/image8.png" ContentType="image/png"/>
  <Override PartName="/ppt/media/image16.wmf" ContentType="image/x-wmf"/>
  <Override PartName="/ppt/media/image11.png" ContentType="image/png"/>
  <Override PartName="/ppt/media/image7.jpeg" ContentType="image/jpeg"/>
  <Override PartName="/ppt/media/image20.png" ContentType="image/png"/>
  <Override PartName="/ppt/media/image6.png" ContentType="image/png"/>
  <Override PartName="/ppt/media/image14.wmf" ContentType="image/x-wmf"/>
  <Override PartName="/ppt/media/image5.wmf" ContentType="image/x-wmf"/>
  <Override PartName="/ppt/media/image10.png" ContentType="image/png"/>
  <Override PartName="/ppt/media/image25.png" ContentType="image/png"/>
  <Override PartName="/ppt/media/image23.png" ContentType="image/png"/>
  <Override PartName="/ppt/media/image22.png" ContentType="image/png"/>
  <Override PartName="/ppt/media/image4.wmf" ContentType="image/x-wmf"/>
  <Override PartName="/ppt/media/image21.png" ContentType="image/png"/>
  <Override PartName="/ppt/media/image19.wmf" ContentType="image/x-wmf"/>
  <Override PartName="/ppt/media/image18.wmf" ContentType="image/x-wmf"/>
  <Override PartName="/ppt/media/image3.jpeg" ContentType="image/jpeg"/>
  <Override PartName="/ppt/media/image17.jpeg" ContentType="image/jpeg"/>
  <Override PartName="/ppt/media/image15.wmf" ContentType="image/x-wmf"/>
  <Override PartName="/ppt/media/image1.png" ContentType="image/png"/>
  <Override PartName="/ppt/media/image24.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80880" y="-380880"/>
            <a:ext cx="9905760" cy="7696080"/>
          </a:xfrm>
          <a:prstGeom prst="rect">
            <a:avLst/>
          </a:prstGeom>
          <a:ln w="0">
            <a:noFill/>
          </a:ln>
        </p:spPr>
      </p:pic>
      <p:sp>
        <p:nvSpPr>
          <p:cNvPr id="1" name=""/>
          <p:cNvSpPr/>
          <p:nvPr/>
        </p:nvSpPr>
        <p:spPr>
          <a:xfrm>
            <a:off x="532800" y="457200"/>
            <a:ext cx="261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T086  Prealgebra</a:t>
            </a:r>
            <a:endParaRPr b="0" lang="en-US" sz="2000" spc="-1" strike="noStrike">
              <a:solidFill>
                <a:srgbClr val="000000"/>
              </a:solidFill>
              <a:latin typeface="Times New Roman"/>
            </a:endParaRPr>
          </a:p>
        </p:txBody>
      </p:sp>
      <p:sp>
        <p:nvSpPr>
          <p:cNvPr id="2" name=""/>
          <p:cNvSpPr/>
          <p:nvPr/>
        </p:nvSpPr>
        <p:spPr>
          <a:xfrm>
            <a:off x="6426720" y="457200"/>
            <a:ext cx="21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lass 14  Unit A </a:t>
            </a:r>
            <a:endParaRPr b="0" lang="en-US" sz="2000" spc="-1" strike="noStrike">
              <a:solidFill>
                <a:srgbClr val="000000"/>
              </a:solidFill>
              <a:latin typeface="Times New Roman"/>
            </a:endParaRPr>
          </a:p>
        </p:txBody>
      </p:sp>
      <p:sp>
        <p:nvSpPr>
          <p:cNvPr id="3" name="">
            <a:hlinkClick r:id="" action="ppaction://hlinkshowjump?jump=endshow"/>
          </p:cNvPr>
          <p:cNvSpPr/>
          <p:nvPr/>
        </p:nvSpPr>
        <p:spPr>
          <a:xfrm>
            <a:off x="0" y="0"/>
            <a:ext cx="1981080" cy="304920"/>
          </a:xfrm>
          <a:custGeom>
            <a:avLst/>
            <a:gdLst>
              <a:gd name="textAreaLeft" fmla="*/ 19440 w 1981080"/>
              <a:gd name="textAreaRight" fmla="*/ 1961640 w 1981080"/>
              <a:gd name="textAreaTop" fmla="*/ 19440 h 304920"/>
              <a:gd name="textAreaBottom" fmla="*/ 285480 h 304920"/>
            </a:gdLst>
            <a:ahLst/>
            <a:rect l="textAreaLeft" t="textAreaTop" r="textAreaRight" b="textAreaBottom"/>
            <a:pathLst>
              <a:path w="140196" h="21600">
                <a:moveTo>
                  <a:pt x="0" y="0"/>
                </a:moveTo>
                <a:lnTo>
                  <a:pt x="140196" y="0"/>
                </a:lnTo>
                <a:lnTo>
                  <a:pt x="140196" y="21600"/>
                </a:lnTo>
                <a:lnTo>
                  <a:pt x="0" y="21600"/>
                </a:lnTo>
                <a:close/>
              </a:path>
              <a:path fill="lightenLess" w="140196" h="21600">
                <a:moveTo>
                  <a:pt x="0" y="0"/>
                </a:moveTo>
                <a:lnTo>
                  <a:pt x="140196" y="0"/>
                </a:lnTo>
                <a:lnTo>
                  <a:pt x="138796" y="1400"/>
                </a:lnTo>
                <a:lnTo>
                  <a:pt x="1400" y="1400"/>
                </a:lnTo>
                <a:close/>
              </a:path>
              <a:path fill="darken" w="140196" h="21600">
                <a:moveTo>
                  <a:pt x="140196" y="0"/>
                </a:moveTo>
                <a:lnTo>
                  <a:pt x="140196" y="21600"/>
                </a:lnTo>
                <a:lnTo>
                  <a:pt x="138796" y="20200"/>
                </a:lnTo>
                <a:lnTo>
                  <a:pt x="138796" y="1400"/>
                </a:lnTo>
                <a:close/>
              </a:path>
              <a:path fill="darkenLess" w="140196" h="21600">
                <a:moveTo>
                  <a:pt x="140196" y="21600"/>
                </a:moveTo>
                <a:lnTo>
                  <a:pt x="0" y="21600"/>
                </a:lnTo>
                <a:lnTo>
                  <a:pt x="1400" y="20200"/>
                </a:lnTo>
                <a:lnTo>
                  <a:pt x="138796" y="20200"/>
                </a:lnTo>
                <a:close/>
              </a:path>
              <a:path fill="lighten" w="140196" h="21600">
                <a:moveTo>
                  <a:pt x="0" y="21600"/>
                </a:moveTo>
                <a:lnTo>
                  <a:pt x="0" y="0"/>
                </a:lnTo>
                <a:lnTo>
                  <a:pt x="1400" y="1400"/>
                </a:lnTo>
                <a:lnTo>
                  <a:pt x="1400" y="20200"/>
                </a:lnTo>
                <a:close/>
              </a:path>
            </a:pathLst>
          </a:custGeom>
          <a:solidFill>
            <a:srgbClr val="ff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it to T O C</a:t>
            </a:r>
            <a:endParaRPr b="0" lang="en-US" sz="1800" spc="-1" strike="noStrike">
              <a:solidFill>
                <a:srgbClr val="000000"/>
              </a:solidFill>
              <a:latin typeface="Times New Roman"/>
            </a:endParaRPr>
          </a:p>
        </p:txBody>
      </p:sp>
      <p:sp>
        <p:nvSpPr>
          <p:cNvPr id="4" name=""/>
          <p:cNvSpPr/>
          <p:nvPr/>
        </p:nvSpPr>
        <p:spPr>
          <a:xfrm>
            <a:off x="2057400" y="6629400"/>
            <a:ext cx="5105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 Pima Community College 200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alltheweb.com/go/1/IB/img/http/www.crec.org/atdn/teacher_resources/ccscarol.shtml"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lltheweb.com/go/1/IB/img/http/www.models.kvl.dk/courses/MBtoolbox/index.asp"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00400" y="3728880"/>
            <a:ext cx="2940120" cy="2824200"/>
          </a:xfrm>
          <a:prstGeom prst="rect">
            <a:avLst/>
          </a:prstGeom>
          <a:ln w="0">
            <a:noFill/>
          </a:ln>
        </p:spPr>
      </p:pic>
      <p:sp>
        <p:nvSpPr>
          <p:cNvPr id="42" name=""/>
          <p:cNvSpPr txBox="1"/>
          <p:nvPr/>
        </p:nvSpPr>
        <p:spPr>
          <a:xfrm>
            <a:off x="1905120" y="914400"/>
            <a:ext cx="5333760" cy="3772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3366ff"/>
                </a:solidFill>
                <a:latin typeface="Comic Sans MS"/>
              </a:rPr>
              <a:t>Statistics</a:t>
            </a:r>
            <a:endParaRPr b="1" lang="en-US" sz="2400" spc="1" strike="noStrike">
              <a:ln w="9360">
                <a:solidFill>
                  <a:srgbClr val="000000"/>
                </a:solidFill>
                <a:miter/>
              </a:ln>
              <a:solidFill>
                <a:srgbClr val="3366ff"/>
              </a:solidFill>
              <a:latin typeface="Comic Sans MS"/>
              <a:ea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74" name=""/>
          <p:cNvSpPr/>
          <p:nvPr/>
        </p:nvSpPr>
        <p:spPr>
          <a:xfrm>
            <a:off x="1067040" y="1981080"/>
            <a:ext cx="39693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verage 90</a:t>
            </a:r>
            <a:br>
              <a:rPr sz="3200"/>
            </a:br>
            <a:r>
              <a:rPr b="0" lang="en-US" sz="3200" spc="-1" strike="noStrike">
                <a:solidFill>
                  <a:srgbClr val="3333cc"/>
                </a:solidFill>
                <a:latin typeface="Comic Sans MS"/>
              </a:rPr>
              <a:t>4 of 5: 84, 92, 94, 86</a:t>
            </a:r>
            <a:endParaRPr b="0" lang="en-US" sz="3200" spc="-1" strike="noStrike">
              <a:solidFill>
                <a:srgbClr val="000000"/>
              </a:solidFill>
              <a:latin typeface="Times New Roman"/>
            </a:endParaRPr>
          </a:p>
        </p:txBody>
      </p:sp>
      <p:sp>
        <p:nvSpPr>
          <p:cNvPr id="275" name=""/>
          <p:cNvSpPr/>
          <p:nvPr/>
        </p:nvSpPr>
        <p:spPr>
          <a:xfrm>
            <a:off x="740160" y="149688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iven:</a:t>
            </a:r>
            <a:endParaRPr b="0" lang="en-US" sz="3200" spc="-1" strike="noStrike">
              <a:solidFill>
                <a:srgbClr val="000000"/>
              </a:solidFill>
              <a:latin typeface="Times New Roman"/>
            </a:endParaRPr>
          </a:p>
        </p:txBody>
      </p:sp>
      <p:grpSp>
        <p:nvGrpSpPr>
          <p:cNvPr id="276" name=""/>
          <p:cNvGrpSpPr/>
          <p:nvPr/>
        </p:nvGrpSpPr>
        <p:grpSpPr>
          <a:xfrm>
            <a:off x="783720" y="5029200"/>
            <a:ext cx="3582000" cy="1267200"/>
            <a:chOff x="783720" y="5029200"/>
            <a:chExt cx="3582000" cy="1267200"/>
          </a:xfrm>
        </p:grpSpPr>
        <p:sp>
          <p:nvSpPr>
            <p:cNvPr id="277" name=""/>
            <p:cNvSpPr/>
            <p:nvPr/>
          </p:nvSpPr>
          <p:spPr>
            <a:xfrm>
              <a:off x="1153800" y="5715000"/>
              <a:ext cx="32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5</a:t>
              </a:r>
              <a:r>
                <a:rPr b="0" lang="en-US" sz="3200" spc="-1" strike="noStrike" baseline="30000">
                  <a:solidFill>
                    <a:srgbClr val="00cc99"/>
                  </a:solidFill>
                  <a:latin typeface="Comic Sans MS"/>
                </a:rPr>
                <a:t>th</a:t>
              </a:r>
              <a:r>
                <a:rPr b="0" lang="en-US" sz="3200" spc="-1" strike="noStrike">
                  <a:solidFill>
                    <a:srgbClr val="00cc99"/>
                  </a:solidFill>
                  <a:latin typeface="Comic Sans MS"/>
                </a:rPr>
                <a:t> exam grade?</a:t>
              </a:r>
              <a:endParaRPr b="0" lang="en-US" sz="3200" spc="-1" strike="noStrike">
                <a:solidFill>
                  <a:srgbClr val="000000"/>
                </a:solidFill>
                <a:latin typeface="Times New Roman"/>
              </a:endParaRPr>
            </a:p>
          </p:txBody>
        </p:sp>
        <p:sp>
          <p:nvSpPr>
            <p:cNvPr id="278" name=""/>
            <p:cNvSpPr/>
            <p:nvPr/>
          </p:nvSpPr>
          <p:spPr>
            <a:xfrm>
              <a:off x="783720" y="5029200"/>
              <a:ext cx="144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Asked:</a:t>
              </a:r>
              <a:endParaRPr b="0" lang="en-US" sz="3200" spc="-1" strike="noStrike">
                <a:solidFill>
                  <a:srgbClr val="000000"/>
                </a:solidFill>
                <a:latin typeface="Times New Roman"/>
              </a:endParaRPr>
            </a:p>
          </p:txBody>
        </p:sp>
      </p:grpSp>
      <p:grpSp>
        <p:nvGrpSpPr>
          <p:cNvPr id="279" name=""/>
          <p:cNvGrpSpPr/>
          <p:nvPr/>
        </p:nvGrpSpPr>
        <p:grpSpPr>
          <a:xfrm>
            <a:off x="1333440" y="3352680"/>
            <a:ext cx="7048440" cy="1296720"/>
            <a:chOff x="1333440" y="3352680"/>
            <a:chExt cx="7048440" cy="1296720"/>
          </a:xfrm>
        </p:grpSpPr>
        <p:sp>
          <p:nvSpPr>
            <p:cNvPr id="280" name=""/>
            <p:cNvSpPr/>
            <p:nvPr/>
          </p:nvSpPr>
          <p:spPr>
            <a:xfrm>
              <a:off x="2324160" y="335268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4 + 92 + 94 + 86</a:t>
              </a:r>
              <a:endParaRPr b="0" lang="en-US" sz="3600" spc="-1" strike="noStrike">
                <a:solidFill>
                  <a:srgbClr val="000000"/>
                </a:solidFill>
                <a:latin typeface="Times New Roman"/>
              </a:endParaRPr>
            </a:p>
          </p:txBody>
        </p:sp>
        <p:sp>
          <p:nvSpPr>
            <p:cNvPr id="281" name=""/>
            <p:cNvSpPr/>
            <p:nvPr/>
          </p:nvSpPr>
          <p:spPr>
            <a:xfrm>
              <a:off x="6241680" y="3352680"/>
              <a:ext cx="80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ff"/>
                  </a:solidFill>
                  <a:latin typeface="Comic Sans MS"/>
                </a:rPr>
                <a:t>x</a:t>
              </a:r>
              <a:endParaRPr b="0" lang="en-US" sz="3600" spc="-1" strike="noStrike">
                <a:solidFill>
                  <a:srgbClr val="000000"/>
                </a:solidFill>
                <a:latin typeface="Times New Roman"/>
              </a:endParaRPr>
            </a:p>
          </p:txBody>
        </p:sp>
        <p:grpSp>
          <p:nvGrpSpPr>
            <p:cNvPr id="282" name=""/>
            <p:cNvGrpSpPr/>
            <p:nvPr/>
          </p:nvGrpSpPr>
          <p:grpSpPr>
            <a:xfrm>
              <a:off x="1333440" y="3649680"/>
              <a:ext cx="5715000" cy="999720"/>
              <a:chOff x="1333440" y="3649680"/>
              <a:chExt cx="5715000" cy="999720"/>
            </a:xfrm>
          </p:grpSpPr>
          <p:sp>
            <p:nvSpPr>
              <p:cNvPr id="283" name=""/>
              <p:cNvSpPr/>
              <p:nvPr/>
            </p:nvSpPr>
            <p:spPr>
              <a:xfrm>
                <a:off x="4464720" y="40068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5</a:t>
                </a:r>
                <a:endParaRPr b="0" lang="en-US" sz="3600" spc="-1" strike="noStrike">
                  <a:solidFill>
                    <a:srgbClr val="000000"/>
                  </a:solidFill>
                  <a:latin typeface="Times New Roman"/>
                </a:endParaRPr>
              </a:p>
            </p:txBody>
          </p:sp>
          <p:sp>
            <p:nvSpPr>
              <p:cNvPr id="284" name=""/>
              <p:cNvSpPr/>
              <p:nvPr/>
            </p:nvSpPr>
            <p:spPr>
              <a:xfrm>
                <a:off x="2323800" y="3994200"/>
                <a:ext cx="472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1333440" y="3649680"/>
                <a:ext cx="952200" cy="703440"/>
                <a:chOff x="1333440" y="3649680"/>
                <a:chExt cx="952200" cy="703440"/>
              </a:xfrm>
            </p:grpSpPr>
            <p:sp>
              <p:nvSpPr>
                <p:cNvPr id="286" name=""/>
                <p:cNvSpPr/>
                <p:nvPr/>
              </p:nvSpPr>
              <p:spPr>
                <a:xfrm>
                  <a:off x="1333440" y="3649680"/>
                  <a:ext cx="952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x =</a:t>
                  </a:r>
                  <a:endParaRPr b="0" lang="en-US" sz="4000" spc="-1" strike="noStrike">
                    <a:solidFill>
                      <a:srgbClr val="000000"/>
                    </a:solidFill>
                    <a:latin typeface="Times New Roman"/>
                  </a:endParaRPr>
                </a:p>
              </p:txBody>
            </p:sp>
            <p:sp>
              <p:nvSpPr>
                <p:cNvPr id="287" name=""/>
                <p:cNvSpPr/>
                <p:nvPr/>
              </p:nvSpPr>
              <p:spPr>
                <a:xfrm>
                  <a:off x="1447200" y="381816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7124760" y="3649680"/>
              <a:ext cx="1257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90</a:t>
              </a:r>
              <a:endParaRPr b="0" lang="en-US" sz="4000" spc="-1" strike="noStrike">
                <a:solidFill>
                  <a:srgbClr val="000000"/>
                </a:solidFill>
                <a:latin typeface="Times New Roman"/>
              </a:endParaRPr>
            </a:p>
          </p:txBody>
        </p:sp>
      </p:grpSp>
      <p:sp>
        <p:nvSpPr>
          <p:cNvPr id="289"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74"/>
                                        </p:tgtEl>
                                        <p:attrNameLst>
                                          <p:attrName>style.visibility</p:attrName>
                                        </p:attrNameLst>
                                      </p:cBhvr>
                                      <p:to>
                                        <p:strVal val="visible"/>
                                      </p:to>
                                    </p:set>
                                    <p:animEffect filter="dissolve" transition="in">
                                      <p:cBhvr additive="repl">
                                        <p:cTn id="132" dur="500"/>
                                        <p:tgtEl>
                                          <p:spTgt spid="27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76"/>
                                        </p:tgtEl>
                                        <p:attrNameLst>
                                          <p:attrName>style.visibility</p:attrName>
                                        </p:attrNameLst>
                                      </p:cBhvr>
                                      <p:to>
                                        <p:strVal val="visible"/>
                                      </p:to>
                                    </p:set>
                                    <p:animEffect filter="dissolve" transition="in">
                                      <p:cBhvr additive="repl">
                                        <p:cTn id="137" dur="500"/>
                                        <p:tgtEl>
                                          <p:spTgt spid="27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79"/>
                                        </p:tgtEl>
                                        <p:attrNameLst>
                                          <p:attrName>style.visibility</p:attrName>
                                        </p:attrNameLst>
                                      </p:cBhvr>
                                      <p:to>
                                        <p:strVal val="visible"/>
                                      </p:to>
                                    </p:set>
                                    <p:animEffect filter="wipe(left)" transition="in">
                                      <p:cBhvr additive="repl">
                                        <p:cTn id="142"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0"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
        <p:nvSpPr>
          <p:cNvPr id="291" name=""/>
          <p:cNvSpPr/>
          <p:nvPr/>
        </p:nvSpPr>
        <p:spPr>
          <a:xfrm>
            <a:off x="2019240" y="1600200"/>
            <a:ext cx="403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4 + 92 + 94 + 86</a:t>
            </a:r>
            <a:endParaRPr b="0" lang="en-US" sz="3600" spc="-1" strike="noStrike">
              <a:solidFill>
                <a:srgbClr val="000000"/>
              </a:solidFill>
              <a:latin typeface="Times New Roman"/>
            </a:endParaRPr>
          </a:p>
        </p:txBody>
      </p:sp>
      <p:sp>
        <p:nvSpPr>
          <p:cNvPr id="292" name=""/>
          <p:cNvSpPr/>
          <p:nvPr/>
        </p:nvSpPr>
        <p:spPr>
          <a:xfrm>
            <a:off x="5937120" y="1600200"/>
            <a:ext cx="80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ff"/>
                </a:solidFill>
                <a:latin typeface="Comic Sans MS"/>
              </a:rPr>
              <a:t>x</a:t>
            </a:r>
            <a:endParaRPr b="0" lang="en-US" sz="3600" spc="-1" strike="noStrike">
              <a:solidFill>
                <a:srgbClr val="000000"/>
              </a:solidFill>
              <a:latin typeface="Times New Roman"/>
            </a:endParaRPr>
          </a:p>
        </p:txBody>
      </p:sp>
      <p:grpSp>
        <p:nvGrpSpPr>
          <p:cNvPr id="293" name=""/>
          <p:cNvGrpSpPr/>
          <p:nvPr/>
        </p:nvGrpSpPr>
        <p:grpSpPr>
          <a:xfrm>
            <a:off x="1028880" y="1897200"/>
            <a:ext cx="5715000" cy="999720"/>
            <a:chOff x="1028880" y="1897200"/>
            <a:chExt cx="5715000" cy="999720"/>
          </a:xfrm>
        </p:grpSpPr>
        <p:sp>
          <p:nvSpPr>
            <p:cNvPr id="294" name=""/>
            <p:cNvSpPr/>
            <p:nvPr/>
          </p:nvSpPr>
          <p:spPr>
            <a:xfrm>
              <a:off x="4160160" y="22543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5</a:t>
              </a:r>
              <a:endParaRPr b="0" lang="en-US" sz="3600" spc="-1" strike="noStrike">
                <a:solidFill>
                  <a:srgbClr val="000000"/>
                </a:solidFill>
                <a:latin typeface="Times New Roman"/>
              </a:endParaRPr>
            </a:p>
          </p:txBody>
        </p:sp>
        <p:sp>
          <p:nvSpPr>
            <p:cNvPr id="295" name=""/>
            <p:cNvSpPr/>
            <p:nvPr/>
          </p:nvSpPr>
          <p:spPr>
            <a:xfrm>
              <a:off x="2019240" y="2241720"/>
              <a:ext cx="472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1028880" y="1897200"/>
              <a:ext cx="952200" cy="703440"/>
              <a:chOff x="1028880" y="1897200"/>
              <a:chExt cx="952200" cy="703440"/>
            </a:xfrm>
          </p:grpSpPr>
          <p:sp>
            <p:nvSpPr>
              <p:cNvPr id="297" name=""/>
              <p:cNvSpPr/>
              <p:nvPr/>
            </p:nvSpPr>
            <p:spPr>
              <a:xfrm>
                <a:off x="1028880" y="1897200"/>
                <a:ext cx="952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x =</a:t>
                </a:r>
                <a:endParaRPr b="0" lang="en-US" sz="4000" spc="-1" strike="noStrike">
                  <a:solidFill>
                    <a:srgbClr val="000000"/>
                  </a:solidFill>
                  <a:latin typeface="Times New Roman"/>
                </a:endParaRPr>
              </a:p>
            </p:txBody>
          </p:sp>
          <p:sp>
            <p:nvSpPr>
              <p:cNvPr id="298" name=""/>
              <p:cNvSpPr/>
              <p:nvPr/>
            </p:nvSpPr>
            <p:spPr>
              <a:xfrm>
                <a:off x="1142640" y="20656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9" name=""/>
          <p:cNvSpPr/>
          <p:nvPr/>
        </p:nvSpPr>
        <p:spPr>
          <a:xfrm>
            <a:off x="6819840" y="1897200"/>
            <a:ext cx="1257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90</a:t>
            </a:r>
            <a:endParaRPr b="0" lang="en-US" sz="4000" spc="-1" strike="noStrike">
              <a:solidFill>
                <a:srgbClr val="000000"/>
              </a:solidFill>
              <a:latin typeface="Times New Roman"/>
            </a:endParaRPr>
          </a:p>
        </p:txBody>
      </p:sp>
      <p:grpSp>
        <p:nvGrpSpPr>
          <p:cNvPr id="300" name=""/>
          <p:cNvGrpSpPr/>
          <p:nvPr/>
        </p:nvGrpSpPr>
        <p:grpSpPr>
          <a:xfrm>
            <a:off x="2895480" y="2940120"/>
            <a:ext cx="3429000" cy="1252080"/>
            <a:chOff x="2895480" y="2940120"/>
            <a:chExt cx="3429000" cy="1252080"/>
          </a:xfrm>
        </p:grpSpPr>
        <p:sp>
          <p:nvSpPr>
            <p:cNvPr id="301" name=""/>
            <p:cNvSpPr/>
            <p:nvPr/>
          </p:nvSpPr>
          <p:spPr>
            <a:xfrm>
              <a:off x="2914560" y="2940120"/>
              <a:ext cx="1924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56 + </a:t>
              </a:r>
              <a:r>
                <a:rPr b="0" lang="en-US" sz="3600" spc="-1" strike="noStrike">
                  <a:solidFill>
                    <a:srgbClr val="0000ff"/>
                  </a:solidFill>
                  <a:latin typeface="Comic Sans MS"/>
                </a:rPr>
                <a:t>x</a:t>
              </a:r>
              <a:endParaRPr b="0" lang="en-US" sz="3600" spc="-1" strike="noStrike">
                <a:solidFill>
                  <a:srgbClr val="000000"/>
                </a:solidFill>
                <a:latin typeface="Times New Roman"/>
              </a:endParaRPr>
            </a:p>
          </p:txBody>
        </p:sp>
        <p:sp>
          <p:nvSpPr>
            <p:cNvPr id="302" name=""/>
            <p:cNvSpPr/>
            <p:nvPr/>
          </p:nvSpPr>
          <p:spPr>
            <a:xfrm>
              <a:off x="3588480" y="35496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5</a:t>
              </a:r>
              <a:endParaRPr b="0" lang="en-US" sz="3600" spc="-1" strike="noStrike">
                <a:solidFill>
                  <a:srgbClr val="000000"/>
                </a:solidFill>
                <a:latin typeface="Times New Roman"/>
              </a:endParaRPr>
            </a:p>
          </p:txBody>
        </p:sp>
        <p:sp>
          <p:nvSpPr>
            <p:cNvPr id="303" name=""/>
            <p:cNvSpPr/>
            <p:nvPr/>
          </p:nvSpPr>
          <p:spPr>
            <a:xfrm>
              <a:off x="2895480" y="358128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838760" y="3192480"/>
              <a:ext cx="34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Times New Roman"/>
              </a:endParaRPr>
            </a:p>
          </p:txBody>
        </p:sp>
        <p:sp>
          <p:nvSpPr>
            <p:cNvPr id="305" name=""/>
            <p:cNvSpPr/>
            <p:nvPr/>
          </p:nvSpPr>
          <p:spPr>
            <a:xfrm>
              <a:off x="5486400" y="294012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0</a:t>
              </a:r>
              <a:endParaRPr b="0" lang="en-US" sz="3600" spc="-1" strike="noStrike">
                <a:solidFill>
                  <a:srgbClr val="000000"/>
                </a:solidFill>
                <a:latin typeface="Times New Roman"/>
              </a:endParaRPr>
            </a:p>
          </p:txBody>
        </p:sp>
        <p:sp>
          <p:nvSpPr>
            <p:cNvPr id="306" name=""/>
            <p:cNvSpPr/>
            <p:nvPr/>
          </p:nvSpPr>
          <p:spPr>
            <a:xfrm>
              <a:off x="5410080" y="35812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645880" y="35496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a:t>
              </a:r>
              <a:endParaRPr b="0" lang="en-US" sz="3600" spc="-1" strike="noStrike">
                <a:solidFill>
                  <a:srgbClr val="000000"/>
                </a:solidFill>
                <a:latin typeface="Times New Roman"/>
              </a:endParaRPr>
            </a:p>
          </p:txBody>
        </p:sp>
      </p:grpSp>
      <p:grpSp>
        <p:nvGrpSpPr>
          <p:cNvPr id="308" name=""/>
          <p:cNvGrpSpPr/>
          <p:nvPr/>
        </p:nvGrpSpPr>
        <p:grpSpPr>
          <a:xfrm>
            <a:off x="4706640" y="3334320"/>
            <a:ext cx="759600" cy="450000"/>
            <a:chOff x="4706640" y="3334320"/>
            <a:chExt cx="759600" cy="450000"/>
          </a:xfrm>
        </p:grpSpPr>
        <p:sp>
          <p:nvSpPr>
            <p:cNvPr id="309" name=""/>
            <p:cNvSpPr/>
            <p:nvPr/>
          </p:nvSpPr>
          <p:spPr>
            <a:xfrm flipH="1">
              <a:off x="4706640" y="3334320"/>
              <a:ext cx="759600" cy="450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flipV="1">
              <a:off x="4706640" y="3334320"/>
              <a:ext cx="759600" cy="450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1" name=""/>
          <p:cNvSpPr/>
          <p:nvPr/>
        </p:nvSpPr>
        <p:spPr>
          <a:xfrm>
            <a:off x="2784600" y="4251240"/>
            <a:ext cx="3539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56 + </a:t>
            </a:r>
            <a:r>
              <a:rPr b="0" lang="en-US" sz="4000" spc="-1" strike="noStrike">
                <a:solidFill>
                  <a:srgbClr val="0000ff"/>
                </a:solidFill>
                <a:latin typeface="Comic Sans MS"/>
              </a:rPr>
              <a:t>x</a:t>
            </a:r>
            <a:r>
              <a:rPr b="0" lang="en-US" sz="4000" spc="-1" strike="noStrike">
                <a:solidFill>
                  <a:srgbClr val="000000"/>
                </a:solidFill>
                <a:latin typeface="Comic Sans MS"/>
              </a:rPr>
              <a:t> = 450</a:t>
            </a:r>
            <a:endParaRPr b="0" lang="en-US" sz="4000" spc="-1" strike="noStrike">
              <a:solidFill>
                <a:srgbClr val="000000"/>
              </a:solidFill>
              <a:latin typeface="Times New Roman"/>
            </a:endParaRPr>
          </a:p>
        </p:txBody>
      </p:sp>
      <p:grpSp>
        <p:nvGrpSpPr>
          <p:cNvPr id="312" name=""/>
          <p:cNvGrpSpPr/>
          <p:nvPr/>
        </p:nvGrpSpPr>
        <p:grpSpPr>
          <a:xfrm>
            <a:off x="2438280" y="4861080"/>
            <a:ext cx="3886200" cy="703440"/>
            <a:chOff x="2438280" y="4861080"/>
            <a:chExt cx="3886200" cy="703440"/>
          </a:xfrm>
        </p:grpSpPr>
        <p:sp>
          <p:nvSpPr>
            <p:cNvPr id="313" name=""/>
            <p:cNvSpPr/>
            <p:nvPr/>
          </p:nvSpPr>
          <p:spPr>
            <a:xfrm>
              <a:off x="2438280" y="4861080"/>
              <a:ext cx="148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356</a:t>
              </a:r>
              <a:endParaRPr b="0" lang="en-US" sz="4000" spc="-1" strike="noStrike">
                <a:solidFill>
                  <a:srgbClr val="000000"/>
                </a:solidFill>
                <a:latin typeface="Times New Roman"/>
              </a:endParaRPr>
            </a:p>
          </p:txBody>
        </p:sp>
        <p:sp>
          <p:nvSpPr>
            <p:cNvPr id="314" name=""/>
            <p:cNvSpPr/>
            <p:nvPr/>
          </p:nvSpPr>
          <p:spPr>
            <a:xfrm>
              <a:off x="4838760" y="4861080"/>
              <a:ext cx="148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356</a:t>
              </a:r>
              <a:endParaRPr b="0" lang="en-US" sz="4000" spc="-1" strike="noStrike">
                <a:solidFill>
                  <a:srgbClr val="000000"/>
                </a:solidFill>
                <a:latin typeface="Times New Roman"/>
              </a:endParaRPr>
            </a:p>
          </p:txBody>
        </p:sp>
        <p:sp>
          <p:nvSpPr>
            <p:cNvPr id="315" name=""/>
            <p:cNvSpPr/>
            <p:nvPr/>
          </p:nvSpPr>
          <p:spPr>
            <a:xfrm>
              <a:off x="2438280" y="5562720"/>
              <a:ext cx="3810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4270320" y="5546880"/>
            <a:ext cx="1825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mic Sans MS"/>
              </a:rPr>
              <a:t>x</a:t>
            </a:r>
            <a:r>
              <a:rPr b="0" lang="en-US" sz="4000" spc="-1" strike="noStrike">
                <a:solidFill>
                  <a:srgbClr val="000000"/>
                </a:solidFill>
                <a:latin typeface="Comic Sans MS"/>
              </a:rPr>
              <a:t> = 94</a:t>
            </a:r>
            <a:endParaRPr b="0" lang="en-US" sz="4000" spc="-1" strike="noStrike">
              <a:solidFill>
                <a:srgbClr val="000000"/>
              </a:solidFill>
              <a:latin typeface="Times New Roman"/>
            </a:endParaRPr>
          </a:p>
        </p:txBody>
      </p:sp>
      <p:sp>
        <p:nvSpPr>
          <p:cNvPr id="317" name=""/>
          <p:cNvSpPr/>
          <p:nvPr/>
        </p:nvSpPr>
        <p:spPr>
          <a:xfrm>
            <a:off x="616320" y="5638680"/>
            <a:ext cx="374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Her last grade was</a:t>
            </a:r>
            <a:endParaRPr b="0" lang="en-US" sz="3200" spc="-1" strike="noStrike">
              <a:solidFill>
                <a:srgbClr val="000000"/>
              </a:solidFill>
              <a:latin typeface="Times New Roman"/>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292"/>
                                        </p:tgtEl>
                                        <p:attrNameLst>
                                          <p:attrName>style.visibility</p:attrName>
                                        </p:attrNameLst>
                                      </p:cBhvr>
                                      <p:to>
                                        <p:strVal val="visible"/>
                                      </p:to>
                                    </p:set>
                                    <p:animEffect filter="dissolve" transition="in">
                                      <p:cBhvr additive="repl">
                                        <p:cTn id="149" dur="500"/>
                                        <p:tgtEl>
                                          <p:spTgt spid="29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293"/>
                                        </p:tgtEl>
                                        <p:attrNameLst>
                                          <p:attrName>style.visibility</p:attrName>
                                        </p:attrNameLst>
                                      </p:cBhvr>
                                      <p:to>
                                        <p:strVal val="visible"/>
                                      </p:to>
                                    </p:set>
                                    <p:animEffect filter="wipe(left)" transition="in">
                                      <p:cBhvr additive="repl">
                                        <p:cTn id="154" dur="500"/>
                                        <p:tgtEl>
                                          <p:spTgt spid="29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299"/>
                                        </p:tgtEl>
                                        <p:attrNameLst>
                                          <p:attrName>style.visibility</p:attrName>
                                        </p:attrNameLst>
                                      </p:cBhvr>
                                      <p:to>
                                        <p:strVal val="visible"/>
                                      </p:to>
                                    </p:set>
                                    <p:animEffect filter="dissolve" transition="in">
                                      <p:cBhvr additive="repl">
                                        <p:cTn id="159" dur="500"/>
                                        <p:tgtEl>
                                          <p:spTgt spid="29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300"/>
                                        </p:tgtEl>
                                        <p:attrNameLst>
                                          <p:attrName>style.visibility</p:attrName>
                                        </p:attrNameLst>
                                      </p:cBhvr>
                                      <p:to>
                                        <p:strVal val="visible"/>
                                      </p:to>
                                    </p:set>
                                    <p:animEffect filter="wipe(left)" transition="in">
                                      <p:cBhvr additive="repl">
                                        <p:cTn id="164" dur="500"/>
                                        <p:tgtEl>
                                          <p:spTgt spid="300"/>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08"/>
                                        </p:tgtEl>
                                        <p:attrNameLst>
                                          <p:attrName>style.visibility</p:attrName>
                                        </p:attrNameLst>
                                      </p:cBhvr>
                                      <p:to>
                                        <p:strVal val="visible"/>
                                      </p:to>
                                    </p:set>
                                    <p:animEffect filter="dissolve" transition="in">
                                      <p:cBhvr additive="repl">
                                        <p:cTn id="169" dur="500"/>
                                        <p:tgtEl>
                                          <p:spTgt spid="30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311"/>
                                        </p:tgtEl>
                                        <p:attrNameLst>
                                          <p:attrName>style.visibility</p:attrName>
                                        </p:attrNameLst>
                                      </p:cBhvr>
                                      <p:to>
                                        <p:strVal val="visible"/>
                                      </p:to>
                                    </p:set>
                                    <p:animEffect filter="wipe(left)" transition="in">
                                      <p:cBhvr additive="repl">
                                        <p:cTn id="174" dur="500"/>
                                        <p:tgtEl>
                                          <p:spTgt spid="31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12"/>
                                        </p:tgtEl>
                                        <p:attrNameLst>
                                          <p:attrName>style.visibility</p:attrName>
                                        </p:attrNameLst>
                                      </p:cBhvr>
                                      <p:to>
                                        <p:strVal val="visible"/>
                                      </p:to>
                                    </p:set>
                                    <p:animEffect filter="wipe(left)" transition="in">
                                      <p:cBhvr additive="repl">
                                        <p:cTn id="179" dur="500"/>
                                        <p:tgtEl>
                                          <p:spTgt spid="312"/>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317"/>
                                        </p:tgtEl>
                                        <p:attrNameLst>
                                          <p:attrName>style.visibility</p:attrName>
                                        </p:attrNameLst>
                                      </p:cBhvr>
                                      <p:to>
                                        <p:strVal val="visible"/>
                                      </p:to>
                                    </p:set>
                                    <p:anim calcmode="lin" valueType="num">
                                      <p:cBhvr additive="base">
                                        <p:cTn id="184" dur="500" fill="hold"/>
                                        <p:tgtEl>
                                          <p:spTgt spid="317"/>
                                        </p:tgtEl>
                                        <p:attrNameLst>
                                          <p:attrName>ppt_x</p:attrName>
                                        </p:attrNameLst>
                                      </p:cBhvr>
                                      <p:tavLst>
                                        <p:tav tm="0">
                                          <p:val>
                                            <p:strVal val="0-#ppt_w/2"/>
                                          </p:val>
                                        </p:tav>
                                        <p:tav tm="100000">
                                          <p:val>
                                            <p:strVal val="#ppt_x"/>
                                          </p:val>
                                        </p:tav>
                                      </p:tavLst>
                                    </p:anim>
                                    <p:anim calcmode="lin" valueType="num">
                                      <p:cBhvr additive="base">
                                        <p:cTn id="185"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3" presetSubtype="16">
                                  <p:stCondLst>
                                    <p:cond delay="0"/>
                                  </p:stCondLst>
                                  <p:childTnLst>
                                    <p:set>
                                      <p:cBhvr>
                                        <p:cTn id="189" dur="1" fill="hold">
                                          <p:stCondLst>
                                            <p:cond delay="0"/>
                                          </p:stCondLst>
                                        </p:cTn>
                                        <p:tgtEl>
                                          <p:spTgt spid="316"/>
                                        </p:tgtEl>
                                        <p:attrNameLst>
                                          <p:attrName>style.visibility</p:attrName>
                                        </p:attrNameLst>
                                      </p:cBhvr>
                                      <p:to>
                                        <p:strVal val="visible"/>
                                      </p:to>
                                    </p:set>
                                    <p:anim calcmode="lin" valueType="num">
                                      <p:cBhvr additive="repl">
                                        <p:cTn id="190" dur="500" fill="hold"/>
                                        <p:tgtEl>
                                          <p:spTgt spid="316"/>
                                        </p:tgtEl>
                                        <p:attrNameLst>
                                          <p:attrName>ppt_w</p:attrName>
                                        </p:attrNameLst>
                                      </p:cBhvr>
                                      <p:tavLst>
                                        <p:tav tm="0">
                                          <p:val>
                                            <p:fltVal val="0"/>
                                          </p:val>
                                        </p:tav>
                                        <p:tav tm="100000">
                                          <p:val>
                                            <p:strVal val="#ppt_w"/>
                                          </p:val>
                                        </p:tav>
                                      </p:tavLst>
                                    </p:anim>
                                    <p:anim calcmode="lin" valueType="num">
                                      <p:cBhvr additive="repl">
                                        <p:cTn id="191" dur="500" fill="hold"/>
                                        <p:tgtEl>
                                          <p:spTgt spid="3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318" name="" descr="Original image">
            <a:hlinkClick r:id="rId1"/>
          </p:cNvPr>
          <p:cNvPicPr/>
          <p:nvPr/>
        </p:nvPicPr>
        <p:blipFill>
          <a:blip r:embed="rId2"/>
          <a:stretch/>
        </p:blipFill>
        <p:spPr>
          <a:xfrm>
            <a:off x="617400" y="1967040"/>
            <a:ext cx="2484720" cy="4128840"/>
          </a:xfrm>
          <a:prstGeom prst="rect">
            <a:avLst/>
          </a:prstGeom>
          <a:ln w="0">
            <a:noFill/>
          </a:ln>
        </p:spPr>
      </p:pic>
      <p:sp>
        <p:nvSpPr>
          <p:cNvPr id="319"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grpSp>
        <p:nvGrpSpPr>
          <p:cNvPr id="320" name=""/>
          <p:cNvGrpSpPr/>
          <p:nvPr/>
        </p:nvGrpSpPr>
        <p:grpSpPr>
          <a:xfrm>
            <a:off x="579240" y="1236240"/>
            <a:ext cx="2289240" cy="1361880"/>
            <a:chOff x="579240" y="1236240"/>
            <a:chExt cx="2289240" cy="1361880"/>
          </a:xfrm>
        </p:grpSpPr>
        <p:sp>
          <p:nvSpPr>
            <p:cNvPr id="321" name=""/>
            <p:cNvSpPr/>
            <p:nvPr/>
          </p:nvSpPr>
          <p:spPr>
            <a:xfrm rot="20897400">
              <a:off x="617040" y="1509480"/>
              <a:ext cx="2057400" cy="38412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rot="20897400">
              <a:off x="653040" y="1443240"/>
              <a:ext cx="214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a:t>
              </a:r>
              <a:endParaRPr b="0" lang="en-US" sz="2800" spc="-1" strike="noStrike">
                <a:solidFill>
                  <a:srgbClr val="000000"/>
                </a:solidFill>
                <a:latin typeface="Times New Roman"/>
              </a:endParaRPr>
            </a:p>
          </p:txBody>
        </p:sp>
      </p:grpSp>
      <p:sp>
        <p:nvSpPr>
          <p:cNvPr id="323" name=""/>
          <p:cNvSpPr/>
          <p:nvPr/>
        </p:nvSpPr>
        <p:spPr>
          <a:xfrm>
            <a:off x="3200400" y="1617840"/>
            <a:ext cx="556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verage of 10 students’ test scores was 69.  Three students scored 80, 60, and 40, respectively.  Three students scored 90 and two students scored 50.  The other two students received the same score.  What were their scores?</a:t>
            </a:r>
            <a:endParaRPr b="0" lang="en-US" sz="3200" spc="-1" strike="noStrike">
              <a:solidFill>
                <a:srgbClr val="000000"/>
              </a:solidFill>
              <a:latin typeface="Times New Roman"/>
            </a:endParaRPr>
          </a:p>
        </p:txBody>
      </p:sp>
      <p:sp>
        <p:nvSpPr>
          <p:cNvPr id="324" name=""/>
          <p:cNvSpPr/>
          <p:nvPr/>
        </p:nvSpPr>
        <p:spPr>
          <a:xfrm>
            <a:off x="0" y="1270080"/>
            <a:ext cx="9144000" cy="360"/>
          </a:xfrm>
          <a:prstGeom prst="rect">
            <a:avLst/>
          </a:prstGeom>
          <a:solidFill>
            <a:srgbClr val="316ca2"/>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3200400" y="1600200"/>
            <a:ext cx="556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verage of </a:t>
            </a:r>
            <a:r>
              <a:rPr b="0" lang="en-US" sz="3200" spc="-1" strike="noStrike">
                <a:solidFill>
                  <a:srgbClr val="3333cc"/>
                </a:solidFill>
                <a:latin typeface="Comic Sans MS"/>
              </a:rPr>
              <a:t>10 students’ test scores was 69</a:t>
            </a:r>
            <a:r>
              <a:rPr b="0" lang="en-US" sz="3200" spc="-1" strike="noStrike">
                <a:solidFill>
                  <a:srgbClr val="000000"/>
                </a:solidFill>
                <a:latin typeface="Comic Sans MS"/>
              </a:rPr>
              <a:t>.  Three students scored </a:t>
            </a:r>
            <a:r>
              <a:rPr b="0" lang="en-US" sz="3200" spc="-1" strike="noStrike">
                <a:solidFill>
                  <a:srgbClr val="3333cc"/>
                </a:solidFill>
                <a:latin typeface="Comic Sans MS"/>
              </a:rPr>
              <a:t>80, 60, and 40</a:t>
            </a:r>
            <a:r>
              <a:rPr b="0" lang="en-US" sz="3200" spc="-1" strike="noStrike">
                <a:solidFill>
                  <a:srgbClr val="000000"/>
                </a:solidFill>
                <a:latin typeface="Comic Sans MS"/>
              </a:rPr>
              <a:t>, respectively.  </a:t>
            </a:r>
            <a:r>
              <a:rPr b="0" lang="en-US" sz="3200" spc="-1" strike="noStrike">
                <a:solidFill>
                  <a:srgbClr val="3333cc"/>
                </a:solidFill>
                <a:latin typeface="Comic Sans MS"/>
              </a:rPr>
              <a:t>Three students scored 90</a:t>
            </a:r>
            <a:r>
              <a:rPr b="0" lang="en-US" sz="3200" spc="-1" strike="noStrike">
                <a:solidFill>
                  <a:srgbClr val="000000"/>
                </a:solidFill>
                <a:latin typeface="Comic Sans MS"/>
              </a:rPr>
              <a:t> and </a:t>
            </a:r>
            <a:r>
              <a:rPr b="0" lang="en-US" sz="3200" spc="-1" strike="noStrike">
                <a:solidFill>
                  <a:srgbClr val="3333cc"/>
                </a:solidFill>
                <a:latin typeface="Comic Sans MS"/>
              </a:rPr>
              <a:t>two students scored 50</a:t>
            </a:r>
            <a:r>
              <a:rPr b="0" lang="en-US" sz="3200" spc="-1" strike="noStrike">
                <a:solidFill>
                  <a:srgbClr val="000000"/>
                </a:solidFill>
                <a:latin typeface="Comic Sans MS"/>
              </a:rPr>
              <a:t>.  The other </a:t>
            </a:r>
            <a:r>
              <a:rPr b="0" lang="en-US" sz="3200" spc="-1" strike="noStrike">
                <a:solidFill>
                  <a:srgbClr val="3333cc"/>
                </a:solidFill>
                <a:latin typeface="Comic Sans MS"/>
              </a:rPr>
              <a:t>two students received the same</a:t>
            </a:r>
            <a:r>
              <a:rPr b="0" lang="en-US" sz="3200" spc="-1" strike="noStrike">
                <a:solidFill>
                  <a:srgbClr val="000000"/>
                </a:solidFill>
                <a:latin typeface="Comic Sans MS"/>
              </a:rPr>
              <a:t> score.  </a:t>
            </a:r>
            <a:r>
              <a:rPr b="0" lang="en-US" sz="3200" spc="-1" strike="noStrike">
                <a:solidFill>
                  <a:srgbClr val="00cc99"/>
                </a:solidFill>
                <a:latin typeface="Comic Sans MS"/>
              </a:rPr>
              <a:t>What were their scores?</a:t>
            </a:r>
            <a:endParaRPr b="0" lang="en-US" sz="3200" spc="-1" strike="noStrike">
              <a:solidFill>
                <a:srgbClr val="000000"/>
              </a:solidFill>
              <a:latin typeface="Times New Roman"/>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325"/>
                                        </p:tgtEl>
                                        <p:attrNameLst>
                                          <p:attrName>style.visibility</p:attrName>
                                        </p:attrNameLst>
                                      </p:cBhvr>
                                      <p:to>
                                        <p:strVal val="visible"/>
                                      </p:to>
                                    </p:set>
                                    <p:animEffect filter="dissolve" transition="in">
                                      <p:cBhvr additive="repl">
                                        <p:cTn id="198"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26"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
        <p:nvSpPr>
          <p:cNvPr id="327" name=""/>
          <p:cNvSpPr/>
          <p:nvPr/>
        </p:nvSpPr>
        <p:spPr>
          <a:xfrm>
            <a:off x="838080" y="1828800"/>
            <a:ext cx="5562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0 students’ average 69.  </a:t>
            </a:r>
            <a:br>
              <a:rPr sz="2800"/>
            </a:br>
            <a:r>
              <a:rPr b="0" lang="en-US" sz="2800" spc="-1" strike="noStrike">
                <a:solidFill>
                  <a:srgbClr val="3333cc"/>
                </a:solidFill>
                <a:latin typeface="Comic Sans MS"/>
              </a:rPr>
              <a:t>3 - 80, 60, and 40, 3 - 90 </a:t>
            </a:r>
            <a:br>
              <a:rPr sz="2800"/>
            </a:br>
            <a:r>
              <a:rPr b="0" lang="en-US" sz="2800" spc="-1" strike="noStrike">
                <a:solidFill>
                  <a:srgbClr val="3333cc"/>
                </a:solidFill>
                <a:latin typeface="Comic Sans MS"/>
              </a:rPr>
              <a:t>2  - 50.  </a:t>
            </a:r>
            <a:br>
              <a:rPr sz="2800"/>
            </a:br>
            <a:r>
              <a:rPr b="0" lang="en-US" sz="2800" spc="-1" strike="noStrike">
                <a:solidFill>
                  <a:srgbClr val="3333cc"/>
                </a:solidFill>
                <a:latin typeface="Comic Sans MS"/>
              </a:rPr>
              <a:t>2  - same</a:t>
            </a:r>
            <a:endParaRPr b="0" lang="en-US" sz="2800" spc="-1" strike="noStrike">
              <a:solidFill>
                <a:srgbClr val="000000"/>
              </a:solidFill>
              <a:latin typeface="Times New Roman"/>
            </a:endParaRPr>
          </a:p>
        </p:txBody>
      </p:sp>
      <p:sp>
        <p:nvSpPr>
          <p:cNvPr id="328" name=""/>
          <p:cNvSpPr/>
          <p:nvPr/>
        </p:nvSpPr>
        <p:spPr>
          <a:xfrm>
            <a:off x="859320" y="5226120"/>
            <a:ext cx="4359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Comic Sans MS"/>
              </a:rPr>
              <a:t>Asked:</a:t>
            </a:r>
            <a:br>
              <a:rPr sz="2800"/>
            </a:br>
            <a:r>
              <a:rPr b="0" lang="en-US" sz="2800" spc="-1" strike="noStrike">
                <a:solidFill>
                  <a:srgbClr val="00cc99"/>
                </a:solidFill>
                <a:latin typeface="Comic Sans MS"/>
              </a:rPr>
              <a:t>  What were their scores?</a:t>
            </a:r>
            <a:endParaRPr b="0" lang="en-US" sz="2800" spc="-1" strike="noStrike">
              <a:solidFill>
                <a:srgbClr val="000000"/>
              </a:solidFill>
              <a:latin typeface="Times New Roman"/>
            </a:endParaRPr>
          </a:p>
        </p:txBody>
      </p:sp>
      <p:sp>
        <p:nvSpPr>
          <p:cNvPr id="329" name=""/>
          <p:cNvSpPr/>
          <p:nvPr/>
        </p:nvSpPr>
        <p:spPr>
          <a:xfrm>
            <a:off x="660960" y="129528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iven:</a:t>
            </a:r>
            <a:endParaRPr b="0" lang="en-US" sz="3200" spc="-1" strike="noStrike">
              <a:solidFill>
                <a:srgbClr val="000000"/>
              </a:solidFill>
              <a:latin typeface="Times New Roman"/>
            </a:endParaRPr>
          </a:p>
        </p:txBody>
      </p:sp>
      <mc:AlternateContent>
        <mc:Choice xmlns:a14="http://schemas.microsoft.com/office/drawing/2010/main" Requires="a14">
          <p:sp>
            <p:nvSpPr>
              <p:cNvPr id="330" name=""/>
              <p:cNvSpPr txBox="1"/>
              <p:nvPr/>
            </p:nvSpPr>
            <p:spPr>
              <a:xfrm>
                <a:off x="609480" y="3962520"/>
                <a:ext cx="7696440" cy="73656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80</m:t>
                        </m:r>
                        <m:r>
                          <m:t xml:space="preserve">+</m:t>
                        </m:r>
                        <m:r>
                          <m:rPr>
                            <m:lit/>
                            <m:nor/>
                          </m:rPr>
                          <m:t xml:space="preserve">60</m:t>
                        </m:r>
                        <m:r>
                          <m:t xml:space="preserve">+</m:t>
                        </m:r>
                        <m:r>
                          <m:rPr>
                            <m:lit/>
                            <m:nor/>
                          </m:rPr>
                          <m:t xml:space="preserve">40</m:t>
                        </m:r>
                        <m:r>
                          <m:t xml:space="preserve">+</m:t>
                        </m:r>
                        <m:r>
                          <m:rPr>
                            <m:lit/>
                            <m:nor/>
                          </m:rPr>
                          <m:t xml:space="preserve">90</m:t>
                        </m:r>
                        <m:r>
                          <m:t xml:space="preserve">+</m:t>
                        </m:r>
                        <m:r>
                          <m:rPr>
                            <m:lit/>
                            <m:nor/>
                          </m:rPr>
                          <m:t xml:space="preserve">90</m:t>
                        </m:r>
                        <m:r>
                          <m:t xml:space="preserve">+</m:t>
                        </m:r>
                        <m:r>
                          <m:rPr>
                            <m:lit/>
                            <m:nor/>
                          </m:rPr>
                          <m:t xml:space="preserve">90</m:t>
                        </m:r>
                        <m:r>
                          <m:t xml:space="preserve">+</m:t>
                        </m:r>
                        <m:r>
                          <m:rPr>
                            <m:lit/>
                            <m:nor/>
                          </m:rPr>
                          <m:t xml:space="preserve">50</m:t>
                        </m:r>
                        <m:r>
                          <m:t xml:space="preserve">+</m:t>
                        </m:r>
                        <m:r>
                          <m:rPr>
                            <m:lit/>
                            <m:nor/>
                          </m:rPr>
                          <m:t xml:space="preserve">50</m:t>
                        </m:r>
                        <m:r>
                          <m:t xml:space="preserve">+</m:t>
                        </m:r>
                        <m:r>
                          <m:t xml:space="preserve">s</m:t>
                        </m:r>
                        <m:r>
                          <m:t xml:space="preserve">+</m:t>
                        </m:r>
                        <m:r>
                          <m:t xml:space="preserve">s</m:t>
                        </m:r>
                      </m:num>
                      <m:den>
                        <m:r>
                          <m:rPr>
                            <m:lit/>
                            <m:nor/>
                          </m:rPr>
                          <m:t xml:space="preserve">10</m:t>
                        </m:r>
                      </m:den>
                    </m:f>
                    <m:r>
                      <m:t xml:space="preserve">=</m:t>
                    </m:r>
                    <m:r>
                      <m:rPr>
                        <m:lit/>
                        <m:nor/>
                      </m:rPr>
                      <m:t xml:space="preserve">69</m:t>
                    </m:r>
                  </m:oMath>
                </a14:m>
              </a:p>
            </p:txBody>
          </p:sp>
        </mc:Choice>
        <mc:Fallback/>
      </mc:AlternateContent>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327"/>
                                        </p:tgtEl>
                                        <p:attrNameLst>
                                          <p:attrName>style.visibility</p:attrName>
                                        </p:attrNameLst>
                                      </p:cBhvr>
                                      <p:to>
                                        <p:strVal val="visible"/>
                                      </p:to>
                                    </p:set>
                                    <p:animEffect filter="dissolve" transition="in">
                                      <p:cBhvr additive="repl">
                                        <p:cTn id="205" dur="500"/>
                                        <p:tgtEl>
                                          <p:spTgt spid="32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28"/>
                                        </p:tgtEl>
                                        <p:attrNameLst>
                                          <p:attrName>style.visibility</p:attrName>
                                        </p:attrNameLst>
                                      </p:cBhvr>
                                      <p:to>
                                        <p:strVal val="visible"/>
                                      </p:to>
                                    </p:set>
                                    <p:animEffect filter="dissolve" transition="in">
                                      <p:cBhvr additive="repl">
                                        <p:cTn id="210" dur="500"/>
                                        <p:tgtEl>
                                          <p:spTgt spid="32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30"/>
                                        </p:tgtEl>
                                        <p:attrNameLst>
                                          <p:attrName>style.visibility</p:attrName>
                                        </p:attrNameLst>
                                      </p:cBhvr>
                                      <p:to>
                                        <p:strVal val="visible"/>
                                      </p:to>
                                    </p:set>
                                    <p:animEffect filter="wipe(left)" transition="in">
                                      <p:cBhvr additive="repl">
                                        <p:cTn id="215"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31"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685800" y="1905120"/>
                <a:ext cx="7696080" cy="73656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80</m:t>
                        </m:r>
                        <m:r>
                          <m:t xml:space="preserve">+</m:t>
                        </m:r>
                        <m:r>
                          <m:rPr>
                            <m:lit/>
                            <m:nor/>
                          </m:rPr>
                          <m:t xml:space="preserve">60</m:t>
                        </m:r>
                        <m:r>
                          <m:t xml:space="preserve">+</m:t>
                        </m:r>
                        <m:r>
                          <m:rPr>
                            <m:lit/>
                            <m:nor/>
                          </m:rPr>
                          <m:t xml:space="preserve">40</m:t>
                        </m:r>
                        <m:r>
                          <m:t xml:space="preserve">+</m:t>
                        </m:r>
                        <m:r>
                          <m:rPr>
                            <m:lit/>
                            <m:nor/>
                          </m:rPr>
                          <m:t xml:space="preserve">90</m:t>
                        </m:r>
                        <m:r>
                          <m:t xml:space="preserve">+</m:t>
                        </m:r>
                        <m:r>
                          <m:rPr>
                            <m:lit/>
                            <m:nor/>
                          </m:rPr>
                          <m:t xml:space="preserve">90</m:t>
                        </m:r>
                        <m:r>
                          <m:t xml:space="preserve">+</m:t>
                        </m:r>
                        <m:r>
                          <m:rPr>
                            <m:lit/>
                            <m:nor/>
                          </m:rPr>
                          <m:t xml:space="preserve">90</m:t>
                        </m:r>
                        <m:r>
                          <m:t xml:space="preserve">+</m:t>
                        </m:r>
                        <m:r>
                          <m:rPr>
                            <m:lit/>
                            <m:nor/>
                          </m:rPr>
                          <m:t xml:space="preserve">50</m:t>
                        </m:r>
                        <m:r>
                          <m:t xml:space="preserve">+</m:t>
                        </m:r>
                        <m:r>
                          <m:rPr>
                            <m:lit/>
                            <m:nor/>
                          </m:rPr>
                          <m:t xml:space="preserve">50</m:t>
                        </m:r>
                        <m:r>
                          <m:t xml:space="preserve">+</m:t>
                        </m:r>
                        <m:r>
                          <m:t xml:space="preserve">s</m:t>
                        </m:r>
                        <m:r>
                          <m:t xml:space="preserve">+</m:t>
                        </m:r>
                        <m:r>
                          <m:t xml:space="preserve">s</m:t>
                        </m:r>
                      </m:num>
                      <m:den>
                        <m:r>
                          <m:rPr>
                            <m:lit/>
                            <m:nor/>
                          </m:rPr>
                          <m:t xml:space="preserve">10</m:t>
                        </m:r>
                      </m:den>
                    </m:f>
                    <m:r>
                      <m:t xml:space="preserve">=</m:t>
                    </m:r>
                    <m:r>
                      <m:rPr>
                        <m:lit/>
                        <m:nor/>
                      </m:rPr>
                      <m:t xml:space="preserve">69</m:t>
                    </m:r>
                  </m:oMath>
                </a14:m>
              </a:p>
            </p:txBody>
          </p:sp>
        </mc:Choice>
        <mc:Fallback/>
      </mc:AlternateContent>
      <mc:AlternateContent>
        <mc:Choice xmlns:a14="http://schemas.microsoft.com/office/drawing/2010/main" Requires="a14">
          <p:sp>
            <p:nvSpPr>
              <p:cNvPr id="333" name=""/>
              <p:cNvSpPr txBox="1"/>
              <p:nvPr/>
            </p:nvSpPr>
            <p:spPr>
              <a:xfrm>
                <a:off x="3079800" y="3124080"/>
                <a:ext cx="2940120" cy="1130400"/>
              </a:xfrm>
              <a:prstGeom prst="rect">
                <a:avLst/>
              </a:prstGeom>
            </p:spPr>
            <p:txBody>
              <a:bodyPr/>
              <a:p>
                <a14:m>
                  <m:oMath xmlns:m="http://schemas.openxmlformats.org/officeDocument/2006/math">
                    <m:f>
                      <m:num>
                        <m:r>
                          <m:rPr>
                            <m:lit/>
                            <m:nor/>
                          </m:rPr>
                          <m:t xml:space="preserve">550</m:t>
                        </m:r>
                        <m:r>
                          <m:t xml:space="preserve">+</m:t>
                        </m:r>
                        <m:r>
                          <m:t xml:space="preserve">2</m:t>
                        </m:r>
                        <m:r>
                          <m:t xml:space="preserve">s</m:t>
                        </m:r>
                      </m:num>
                      <m:den>
                        <m:r>
                          <m:rPr>
                            <m:lit/>
                            <m:nor/>
                          </m:rPr>
                          <m:t xml:space="preserve">10</m:t>
                        </m:r>
                      </m:den>
                    </m:f>
                    <m:r>
                      <m:t xml:space="preserve">=</m:t>
                    </m:r>
                    <m:r>
                      <m:rPr>
                        <m:lit/>
                        <m:nor/>
                      </m:rPr>
                      <m:t xml:space="preserve">69</m:t>
                    </m:r>
                  </m:oMath>
                </a14:m>
              </a:p>
            </p:txBody>
          </p:sp>
        </mc:Choice>
        <mc:Fallback/>
      </mc:AlternateContent>
      <mc:AlternateContent>
        <mc:Choice xmlns:a14="http://schemas.microsoft.com/office/drawing/2010/main" Requires="a14">
          <p:sp>
            <p:nvSpPr>
              <p:cNvPr id="334" name=""/>
              <p:cNvSpPr txBox="1"/>
              <p:nvPr/>
            </p:nvSpPr>
            <p:spPr>
              <a:xfrm>
                <a:off x="2362320" y="4865760"/>
                <a:ext cx="4495680" cy="1119240"/>
              </a:xfrm>
              <a:prstGeom prst="rect">
                <a:avLst/>
              </a:prstGeom>
            </p:spPr>
            <p:txBody>
              <a:bodyPr/>
              <a:p>
                <a14:m>
                  <m:oMath xmlns:m="http://schemas.openxmlformats.org/officeDocument/2006/math">
                    <m:d>
                      <m:dPr>
                        <m:begChr m:val="("/>
                        <m:endChr m:val=")"/>
                      </m:dPr>
                      <m:e>
                        <m:r>
                          <m:rPr>
                            <m:lit/>
                            <m:nor/>
                          </m:rPr>
                          <m:t xml:space="preserve">10</m:t>
                        </m:r>
                      </m:e>
                    </m:d>
                    <m:f>
                      <m:num>
                        <m:r>
                          <m:rPr>
                            <m:lit/>
                            <m:nor/>
                          </m:rPr>
                          <m:t xml:space="preserve">550</m:t>
                        </m:r>
                        <m:r>
                          <m:t xml:space="preserve">+</m:t>
                        </m:r>
                        <m:r>
                          <m:t xml:space="preserve">2</m:t>
                        </m:r>
                        <m:r>
                          <m:t xml:space="preserve">s</m:t>
                        </m:r>
                      </m:num>
                      <m:den>
                        <m:r>
                          <m:rPr>
                            <m:lit/>
                            <m:nor/>
                          </m:rPr>
                          <m:t xml:space="preserve">10</m:t>
                        </m:r>
                      </m:den>
                    </m:f>
                    <m:r>
                      <m:t xml:space="preserve">=</m:t>
                    </m:r>
                    <m:r>
                      <m:rPr>
                        <m:lit/>
                        <m:nor/>
                      </m:rPr>
                      <m:t xml:space="preserve">69</m:t>
                    </m:r>
                    <m:d>
                      <m:dPr>
                        <m:begChr m:val="("/>
                        <m:endChr m:val=")"/>
                      </m:dPr>
                      <m:e>
                        <m:r>
                          <m:rPr>
                            <m:lit/>
                            <m:nor/>
                          </m:rPr>
                          <m:t xml:space="preserve">10</m:t>
                        </m:r>
                      </m:e>
                    </m:d>
                  </m:oMath>
                </a14:m>
              </a:p>
            </p:txBody>
          </p:sp>
        </mc:Choice>
        <mc:Fallback/>
      </mc:AlternateContent>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332"/>
                                        </p:tgtEl>
                                        <p:attrNameLst>
                                          <p:attrName>style.visibility</p:attrName>
                                        </p:attrNameLst>
                                      </p:cBhvr>
                                      <p:to>
                                        <p:strVal val="visible"/>
                                      </p:to>
                                    </p:set>
                                    <p:animEffect filter="wipe(left)" transition="in">
                                      <p:cBhvr additive="repl">
                                        <p:cTn id="222"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35"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mc:AlternateContent>
        <mc:Choice xmlns:a14="http://schemas.microsoft.com/office/drawing/2010/main" Requires="a14">
          <p:sp>
            <p:nvSpPr>
              <p:cNvPr id="336" name=""/>
              <p:cNvSpPr txBox="1"/>
              <p:nvPr/>
            </p:nvSpPr>
            <p:spPr>
              <a:xfrm>
                <a:off x="2133720" y="1523880"/>
                <a:ext cx="4495680" cy="1119240"/>
              </a:xfrm>
              <a:prstGeom prst="rect">
                <a:avLst/>
              </a:prstGeom>
            </p:spPr>
            <p:txBody>
              <a:bodyPr/>
              <a:p>
                <a14:m>
                  <m:oMath xmlns:m="http://schemas.openxmlformats.org/officeDocument/2006/math">
                    <m:d>
                      <m:dPr>
                        <m:begChr m:val="("/>
                        <m:endChr m:val=")"/>
                      </m:dPr>
                      <m:e>
                        <m:r>
                          <m:rPr>
                            <m:lit/>
                            <m:nor/>
                          </m:rPr>
                          <m:t xml:space="preserve">10</m:t>
                        </m:r>
                      </m:e>
                    </m:d>
                    <m:f>
                      <m:num>
                        <m:r>
                          <m:rPr>
                            <m:lit/>
                            <m:nor/>
                          </m:rPr>
                          <m:t xml:space="preserve">550</m:t>
                        </m:r>
                        <m:r>
                          <m:t xml:space="preserve">+</m:t>
                        </m:r>
                        <m:r>
                          <m:t xml:space="preserve">2</m:t>
                        </m:r>
                        <m:r>
                          <m:t xml:space="preserve">s</m:t>
                        </m:r>
                      </m:num>
                      <m:den>
                        <m:r>
                          <m:rPr>
                            <m:lit/>
                            <m:nor/>
                          </m:rPr>
                          <m:t xml:space="preserve">10</m:t>
                        </m:r>
                      </m:den>
                    </m:f>
                    <m:r>
                      <m:t xml:space="preserve">=</m:t>
                    </m:r>
                    <m:r>
                      <m:rPr>
                        <m:lit/>
                        <m:nor/>
                      </m:rPr>
                      <m:t xml:space="preserve">69</m:t>
                    </m:r>
                    <m:d>
                      <m:dPr>
                        <m:begChr m:val="("/>
                        <m:endChr m:val=")"/>
                      </m:dPr>
                      <m:e>
                        <m:r>
                          <m:rPr>
                            <m:lit/>
                            <m:nor/>
                          </m:rPr>
                          <m:t xml:space="preserve">10</m:t>
                        </m:r>
                      </m:e>
                    </m:d>
                  </m:oMath>
                </a14:m>
              </a:p>
            </p:txBody>
          </p:sp>
        </mc:Choice>
        <mc:Fallback/>
      </mc:AlternateContent>
      <mc:AlternateContent>
        <mc:Choice xmlns:a14="http://schemas.microsoft.com/office/drawing/2010/main" Requires="a14">
          <p:sp>
            <p:nvSpPr>
              <p:cNvPr id="337" name=""/>
              <p:cNvSpPr txBox="1"/>
              <p:nvPr/>
            </p:nvSpPr>
            <p:spPr>
              <a:xfrm>
                <a:off x="2616120" y="2971800"/>
                <a:ext cx="3632400" cy="531720"/>
              </a:xfrm>
              <a:prstGeom prst="rect">
                <a:avLst/>
              </a:prstGeom>
            </p:spPr>
            <p:txBody>
              <a:bodyPr/>
              <a:p>
                <a14:m>
                  <m:oMath xmlns:m="http://schemas.openxmlformats.org/officeDocument/2006/math">
                    <m:r>
                      <m:rPr>
                        <m:lit/>
                        <m:nor/>
                      </m:rPr>
                      <m:t xml:space="preserve">550</m:t>
                    </m:r>
                    <m:r>
                      <m:t xml:space="preserve">+</m:t>
                    </m:r>
                    <m:r>
                      <m:t xml:space="preserve">2</m:t>
                    </m:r>
                    <m:r>
                      <m:t xml:space="preserve">s</m:t>
                    </m:r>
                    <m:r>
                      <m:t xml:space="preserve">=</m:t>
                    </m:r>
                    <m:r>
                      <m:rPr>
                        <m:lit/>
                        <m:nor/>
                      </m:rPr>
                      <m:t xml:space="preserve">690</m:t>
                    </m:r>
                  </m:oMath>
                </a14:m>
              </a:p>
            </p:txBody>
          </p:sp>
        </mc:Choice>
        <mc:Fallback/>
      </mc:AlternateContent>
      <p:grpSp>
        <p:nvGrpSpPr>
          <p:cNvPr id="338" name=""/>
          <p:cNvGrpSpPr/>
          <p:nvPr/>
        </p:nvGrpSpPr>
        <p:grpSpPr>
          <a:xfrm>
            <a:off x="2362320" y="3503520"/>
            <a:ext cx="3886200" cy="465120"/>
            <a:chOff x="2362320" y="3503520"/>
            <a:chExt cx="3886200" cy="465120"/>
          </a:xfrm>
        </p:grpSpPr>
        <mc:AlternateContent>
          <mc:Choice xmlns:a14="http://schemas.microsoft.com/office/drawing/2010/main" Requires="a14">
            <p:sp>
              <p:nvSpPr>
                <p:cNvPr id="339" name=""/>
                <p:cNvSpPr txBox="1"/>
                <p:nvPr/>
              </p:nvSpPr>
              <p:spPr>
                <a:xfrm>
                  <a:off x="2362320" y="3503520"/>
                  <a:ext cx="1295280" cy="465120"/>
                </a:xfrm>
                <a:prstGeom prst="rect">
                  <a:avLst/>
                </a:prstGeom>
              </p:spPr>
              <p:txBody>
                <a:bodyPr/>
                <a:p>
                  <a14:m>
                    <m:oMath xmlns:m="http://schemas.openxmlformats.org/officeDocument/2006/math">
                      <m:r>
                        <m:t xml:space="preserve">−</m:t>
                      </m:r>
                      <m:r>
                        <m:rPr>
                          <m:lit/>
                          <m:nor/>
                        </m:rPr>
                        <m:t xml:space="preserve">550</m:t>
                      </m:r>
                    </m:oMath>
                  </a14:m>
                </a:p>
              </p:txBody>
            </p:sp>
          </mc:Choice>
          <mc:Fallback/>
        </mc:AlternateContent>
        <mc:AlternateContent>
          <mc:Choice xmlns:a14="http://schemas.microsoft.com/office/drawing/2010/main" Requires="a14">
            <p:sp>
              <p:nvSpPr>
                <p:cNvPr id="340" name=""/>
                <p:cNvSpPr txBox="1"/>
                <p:nvPr/>
              </p:nvSpPr>
              <p:spPr>
                <a:xfrm>
                  <a:off x="4952880" y="3503520"/>
                  <a:ext cx="1295640" cy="465120"/>
                </a:xfrm>
                <a:prstGeom prst="rect">
                  <a:avLst/>
                </a:prstGeom>
              </p:spPr>
              <p:txBody>
                <a:bodyPr/>
                <a:p>
                  <a14:m>
                    <m:oMath xmlns:m="http://schemas.openxmlformats.org/officeDocument/2006/math">
                      <m:r>
                        <m:t xml:space="preserve">−</m:t>
                      </m:r>
                      <m:r>
                        <m:rPr>
                          <m:lit/>
                          <m:nor/>
                        </m:rPr>
                        <m:t xml:space="preserve">550</m:t>
                      </m:r>
                    </m:oMath>
                  </a14:m>
                </a:p>
              </p:txBody>
            </p:sp>
          </mc:Choice>
          <mc:Fallback/>
        </mc:AlternateContent>
        <p:sp>
          <p:nvSpPr>
            <p:cNvPr id="341" name=""/>
            <p:cNvSpPr/>
            <p:nvPr/>
          </p:nvSpPr>
          <p:spPr>
            <a:xfrm>
              <a:off x="2362320" y="3968640"/>
              <a:ext cx="3886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42" name=""/>
              <p:cNvSpPr txBox="1"/>
              <p:nvPr/>
            </p:nvSpPr>
            <p:spPr>
              <a:xfrm>
                <a:off x="4000680" y="4160880"/>
                <a:ext cx="2171520" cy="561960"/>
              </a:xfrm>
              <a:prstGeom prst="rect">
                <a:avLst/>
              </a:prstGeom>
            </p:spPr>
            <p:txBody>
              <a:bodyPr/>
              <a:p>
                <a14:m>
                  <m:oMath xmlns:m="http://schemas.openxmlformats.org/officeDocument/2006/math">
                    <m:r>
                      <m:t xml:space="preserve">2</m:t>
                    </m:r>
                    <m:r>
                      <m:t xml:space="preserve">s</m:t>
                    </m:r>
                    <m:r>
                      <m:t xml:space="preserve">=</m:t>
                    </m:r>
                    <m:r>
                      <m:rPr>
                        <m:lit/>
                        <m:nor/>
                      </m:rPr>
                      <m:t xml:space="preserve">140</m:t>
                    </m:r>
                  </m:oMath>
                </a14:m>
              </a:p>
            </p:txBody>
          </p:sp>
        </mc:Choice>
        <mc:Fallback/>
      </mc:AlternateContent>
      <mc:AlternateContent>
        <mc:Choice xmlns:a14="http://schemas.microsoft.com/office/drawing/2010/main" Requires="a14">
          <p:sp>
            <p:nvSpPr>
              <p:cNvPr id="343" name=""/>
              <p:cNvSpPr txBox="1"/>
              <p:nvPr/>
            </p:nvSpPr>
            <p:spPr>
              <a:xfrm>
                <a:off x="4343400" y="4951440"/>
                <a:ext cx="1714680" cy="563400"/>
              </a:xfrm>
              <a:prstGeom prst="rect">
                <a:avLst/>
              </a:prstGeom>
            </p:spPr>
            <p:txBody>
              <a:bodyPr/>
              <a:p>
                <a14:m>
                  <m:oMath xmlns:m="http://schemas.openxmlformats.org/officeDocument/2006/math">
                    <m:r>
                      <m:t xml:space="preserve">s</m:t>
                    </m:r>
                    <m:r>
                      <m:t xml:space="preserve">=</m:t>
                    </m:r>
                    <m:r>
                      <m:rPr>
                        <m:lit/>
                        <m:nor/>
                      </m:rPr>
                      <m:t xml:space="preserve">70</m:t>
                    </m:r>
                  </m:oMath>
                </a14:m>
              </a:p>
            </p:txBody>
          </p:sp>
        </mc:Choice>
        <mc:Fallback/>
      </mc:AlternateContent>
      <p:sp>
        <p:nvSpPr>
          <p:cNvPr id="344" name=""/>
          <p:cNvSpPr/>
          <p:nvPr/>
        </p:nvSpPr>
        <p:spPr>
          <a:xfrm>
            <a:off x="1159560" y="5715000"/>
            <a:ext cx="673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other two grades were 70.</a:t>
            </a:r>
            <a:endParaRPr b="0" lang="en-US" sz="36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337"/>
                                        </p:tgtEl>
                                        <p:attrNameLst>
                                          <p:attrName>style.visibility</p:attrName>
                                        </p:attrNameLst>
                                      </p:cBhvr>
                                      <p:to>
                                        <p:strVal val="visible"/>
                                      </p:to>
                                    </p:set>
                                    <p:animEffect filter="dissolve" transition="in">
                                      <p:cBhvr additive="repl">
                                        <p:cTn id="229" dur="500"/>
                                        <p:tgtEl>
                                          <p:spTgt spid="33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338"/>
                                        </p:tgtEl>
                                        <p:attrNameLst>
                                          <p:attrName>style.visibility</p:attrName>
                                        </p:attrNameLst>
                                      </p:cBhvr>
                                      <p:to>
                                        <p:strVal val="visible"/>
                                      </p:to>
                                    </p:set>
                                    <p:animEffect filter="dissolve" transition="in">
                                      <p:cBhvr additive="repl">
                                        <p:cTn id="234" dur="500"/>
                                        <p:tgtEl>
                                          <p:spTgt spid="33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342"/>
                                        </p:tgtEl>
                                        <p:attrNameLst>
                                          <p:attrName>style.visibility</p:attrName>
                                        </p:attrNameLst>
                                      </p:cBhvr>
                                      <p:to>
                                        <p:strVal val="visible"/>
                                      </p:to>
                                    </p:set>
                                    <p:animEffect filter="dissolve" transition="in">
                                      <p:cBhvr additive="repl">
                                        <p:cTn id="239" dur="500"/>
                                        <p:tgtEl>
                                          <p:spTgt spid="3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343"/>
                                        </p:tgtEl>
                                        <p:attrNameLst>
                                          <p:attrName>style.visibility</p:attrName>
                                        </p:attrNameLst>
                                      </p:cBhvr>
                                      <p:to>
                                        <p:strVal val="visible"/>
                                      </p:to>
                                    </p:set>
                                    <p:animEffect filter="dissolve" transition="in">
                                      <p:cBhvr additive="repl">
                                        <p:cTn id="244" dur="500"/>
                                        <p:tgtEl>
                                          <p:spTgt spid="34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344"/>
                                        </p:tgtEl>
                                        <p:attrNameLst>
                                          <p:attrName>style.visibility</p:attrName>
                                        </p:attrNameLst>
                                      </p:cBhvr>
                                      <p:to>
                                        <p:strVal val="visible"/>
                                      </p:to>
                                    </p:set>
                                    <p:anim calcmode="lin" valueType="num">
                                      <p:cBhvr additive="base">
                                        <p:cTn id="249" dur="500" fill="hold"/>
                                        <p:tgtEl>
                                          <p:spTgt spid="344"/>
                                        </p:tgtEl>
                                        <p:attrNameLst>
                                          <p:attrName>ppt_x</p:attrName>
                                        </p:attrNameLst>
                                      </p:cBhvr>
                                      <p:tavLst>
                                        <p:tav tm="0">
                                          <p:val>
                                            <p:strVal val="#ppt_x"/>
                                          </p:val>
                                        </p:tav>
                                        <p:tav tm="100000">
                                          <p:val>
                                            <p:strVal val="#ppt_x"/>
                                          </p:val>
                                        </p:tav>
                                      </p:tavLst>
                                    </p:anim>
                                    <p:anim calcmode="lin" valueType="num">
                                      <p:cBhvr additive="base">
                                        <p:cTn id="250"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45"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
        <p:nvSpPr>
          <p:cNvPr id="346" name=""/>
          <p:cNvSpPr/>
          <p:nvPr/>
        </p:nvSpPr>
        <p:spPr>
          <a:xfrm>
            <a:off x="793800" y="1676520"/>
            <a:ext cx="1049400" cy="43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  </a:t>
            </a:r>
            <a:r>
              <a:rPr b="0" lang="en-US" sz="4000" spc="-1" strike="noStrike">
                <a:solidFill>
                  <a:srgbClr val="3333cc"/>
                </a:solidFill>
                <a:latin typeface="Comic Sans MS"/>
              </a:rPr>
              <a:t>35</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  </a:t>
            </a:r>
            <a:r>
              <a:rPr b="0" lang="en-US" sz="4000" spc="-1" strike="noStrike">
                <a:solidFill>
                  <a:srgbClr val="3333cc"/>
                </a:solidFill>
                <a:latin typeface="Comic Sans MS"/>
              </a:rPr>
              <a:t>65</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  </a:t>
            </a:r>
            <a:r>
              <a:rPr b="0" lang="en-US" sz="4000" spc="-1" strike="noStrike">
                <a:solidFill>
                  <a:srgbClr val="3333cc"/>
                </a:solidFill>
                <a:latin typeface="Comic Sans MS"/>
              </a:rPr>
              <a:t>75</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  </a:t>
            </a:r>
            <a:r>
              <a:rPr b="0" lang="en-US" sz="4000" spc="-1" strike="noStrike">
                <a:solidFill>
                  <a:srgbClr val="3333cc"/>
                </a:solidFill>
                <a:latin typeface="Comic Sans MS"/>
              </a:rPr>
              <a:t>25</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  </a:t>
            </a:r>
            <a:r>
              <a:rPr b="0" lang="en-US" sz="4000" spc="-1" strike="noStrike">
                <a:solidFill>
                  <a:srgbClr val="3333cc"/>
                </a:solidFill>
                <a:latin typeface="Comic Sans MS"/>
              </a:rPr>
              <a:t>1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9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300</a:t>
            </a:r>
            <a:endParaRPr b="0" lang="en-US" sz="4000" spc="-1" strike="noStrike">
              <a:solidFill>
                <a:srgbClr val="000000"/>
              </a:solidFill>
              <a:latin typeface="Times New Roman"/>
            </a:endParaRPr>
          </a:p>
        </p:txBody>
      </p:sp>
      <mc:AlternateContent>
        <mc:Choice xmlns:a14="http://schemas.microsoft.com/office/drawing/2010/main" Requires="a14">
          <p:sp>
            <p:nvSpPr>
              <p:cNvPr id="347" name=""/>
              <p:cNvSpPr txBox="1"/>
              <p:nvPr/>
            </p:nvSpPr>
            <p:spPr>
              <a:xfrm>
                <a:off x="2514600" y="2971800"/>
                <a:ext cx="3809880" cy="152568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300</m:t>
                        </m:r>
                      </m:num>
                      <m:den>
                        <m:r>
                          <m:t xml:space="preserve">6</m:t>
                        </m:r>
                      </m:den>
                    </m:f>
                    <m:r>
                      <m:t xml:space="preserve">=</m:t>
                    </m:r>
                    <m:r>
                      <m:rPr>
                        <m:lit/>
                        <m:nor/>
                      </m:rPr>
                      <m:t xml:space="preserve">50</m:t>
                    </m:r>
                  </m:oMath>
                </a14:m>
              </a:p>
            </p:txBody>
          </p:sp>
        </mc:Choice>
        <mc:Fallback/>
      </mc:AlternateContent>
      <p:sp>
        <p:nvSpPr>
          <p:cNvPr id="348" name=""/>
          <p:cNvSpPr/>
          <p:nvPr/>
        </p:nvSpPr>
        <p:spPr>
          <a:xfrm>
            <a:off x="7315200" y="1676520"/>
            <a:ext cx="1049400" cy="43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  </a:t>
            </a:r>
            <a:r>
              <a:rPr b="0" lang="en-US" sz="4000" spc="-1" strike="noStrike">
                <a:solidFill>
                  <a:srgbClr val="008000"/>
                </a:solidFill>
                <a:latin typeface="Comic Sans MS"/>
              </a:rPr>
              <a:t>53</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  </a:t>
            </a:r>
            <a:r>
              <a:rPr b="0" lang="en-US" sz="4000" spc="-1" strike="noStrike">
                <a:solidFill>
                  <a:srgbClr val="008000"/>
                </a:solidFill>
                <a:latin typeface="Comic Sans MS"/>
              </a:rPr>
              <a:t>47</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  </a:t>
            </a:r>
            <a:r>
              <a:rPr b="0" lang="en-US" sz="4000" spc="-1" strike="noStrike">
                <a:solidFill>
                  <a:srgbClr val="008000"/>
                </a:solidFill>
                <a:latin typeface="Comic Sans MS"/>
              </a:rPr>
              <a:t>5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  </a:t>
            </a:r>
            <a:r>
              <a:rPr b="0" lang="en-US" sz="4000" spc="-1" strike="noStrike">
                <a:solidFill>
                  <a:srgbClr val="008000"/>
                </a:solidFill>
                <a:latin typeface="Comic Sans MS"/>
              </a:rPr>
              <a:t>48</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  </a:t>
            </a:r>
            <a:r>
              <a:rPr b="0" lang="en-US" sz="4000" spc="-1" strike="noStrike">
                <a:solidFill>
                  <a:srgbClr val="008000"/>
                </a:solidFill>
                <a:latin typeface="Comic Sans MS"/>
              </a:rPr>
              <a:t>5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8000"/>
                </a:solidFill>
                <a:uFillTx/>
                <a:latin typeface="Comic Sans MS"/>
              </a:rPr>
              <a:t>  </a:t>
            </a:r>
            <a:r>
              <a:rPr b="0" lang="en-US" sz="4000" spc="-1" strike="noStrike" u="sng">
                <a:solidFill>
                  <a:srgbClr val="008000"/>
                </a:solidFill>
                <a:uFillTx/>
                <a:latin typeface="Comic Sans MS"/>
              </a:rPr>
              <a:t>52</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300</a:t>
            </a:r>
            <a:endParaRPr b="0" lang="en-US" sz="4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536400" y="3200400"/>
            <a:ext cx="2740320" cy="2971800"/>
          </a:xfrm>
          <a:prstGeom prst="rect">
            <a:avLst/>
          </a:prstGeom>
          <a:ln w="0">
            <a:noFill/>
          </a:ln>
        </p:spPr>
      </p:pic>
      <p:sp>
        <p:nvSpPr>
          <p:cNvPr id="350" name=""/>
          <p:cNvSpPr/>
          <p:nvPr/>
        </p:nvSpPr>
        <p:spPr>
          <a:xfrm>
            <a:off x="522360" y="1447920"/>
            <a:ext cx="8316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Arial"/>
              </a:rPr>
              <a:t>The </a:t>
            </a:r>
            <a:r>
              <a:rPr b="0" lang="en-US" sz="3600" spc="-1" strike="noStrike" u="sng">
                <a:solidFill>
                  <a:srgbClr val="000000"/>
                </a:solidFill>
                <a:uFillTx/>
                <a:latin typeface="Comic Sans MS"/>
                <a:ea typeface="Arial"/>
              </a:rPr>
              <a:t>standard deviation</a:t>
            </a:r>
            <a:r>
              <a:rPr b="0" lang="en-US" sz="3600" spc="-1" strike="noStrike">
                <a:solidFill>
                  <a:srgbClr val="000000"/>
                </a:solidFill>
                <a:latin typeface="Comic Sans MS"/>
                <a:ea typeface="Arial"/>
              </a:rPr>
              <a:t> measures the spread of the data about the mean value.</a:t>
            </a:r>
            <a:endParaRPr b="0" lang="en-US" sz="3600" spc="-1" strike="noStrike">
              <a:solidFill>
                <a:srgbClr val="000000"/>
              </a:solidFill>
              <a:latin typeface="Times New Roman"/>
            </a:endParaRPr>
          </a:p>
        </p:txBody>
      </p:sp>
      <p:pic>
        <p:nvPicPr>
          <p:cNvPr id="351" name="" descr=""/>
          <p:cNvPicPr/>
          <p:nvPr/>
        </p:nvPicPr>
        <p:blipFill>
          <a:blip r:embed="rId2"/>
          <a:stretch/>
        </p:blipFill>
        <p:spPr>
          <a:xfrm>
            <a:off x="3352680" y="2971800"/>
            <a:ext cx="5181840" cy="3276720"/>
          </a:xfrm>
          <a:prstGeom prst="rect">
            <a:avLst/>
          </a:prstGeom>
          <a:ln w="0">
            <a:noFill/>
          </a:ln>
        </p:spPr>
      </p:pic>
      <p:sp>
        <p:nvSpPr>
          <p:cNvPr id="352"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1981080" y="1663560"/>
            <a:ext cx="5135760" cy="4432320"/>
          </a:xfrm>
          <a:prstGeom prst="rect">
            <a:avLst/>
          </a:prstGeom>
          <a:ln w="0">
            <a:noFill/>
          </a:ln>
        </p:spPr>
      </p:pic>
      <p:sp>
        <p:nvSpPr>
          <p:cNvPr id="354" name=""/>
          <p:cNvSpPr/>
          <p:nvPr/>
        </p:nvSpPr>
        <p:spPr>
          <a:xfrm>
            <a:off x="7224480" y="1889280"/>
            <a:ext cx="1049400" cy="43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  </a:t>
            </a:r>
            <a:r>
              <a:rPr b="0" lang="en-US" sz="4000" spc="-1" strike="noStrike">
                <a:solidFill>
                  <a:srgbClr val="3333cc"/>
                </a:solidFill>
                <a:latin typeface="Comic Sans MS"/>
              </a:rPr>
              <a:t>35</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  </a:t>
            </a:r>
            <a:r>
              <a:rPr b="0" lang="en-US" sz="4000" spc="-1" strike="noStrike">
                <a:solidFill>
                  <a:srgbClr val="3333cc"/>
                </a:solidFill>
                <a:latin typeface="Comic Sans MS"/>
              </a:rPr>
              <a:t>65</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  </a:t>
            </a:r>
            <a:r>
              <a:rPr b="0" lang="en-US" sz="4000" spc="-1" strike="noStrike">
                <a:solidFill>
                  <a:srgbClr val="3333cc"/>
                </a:solidFill>
                <a:latin typeface="Comic Sans MS"/>
              </a:rPr>
              <a:t>75</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  </a:t>
            </a:r>
            <a:r>
              <a:rPr b="0" lang="en-US" sz="4000" spc="-1" strike="noStrike">
                <a:solidFill>
                  <a:srgbClr val="3333cc"/>
                </a:solidFill>
                <a:latin typeface="Comic Sans MS"/>
              </a:rPr>
              <a:t>25</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  </a:t>
            </a:r>
            <a:r>
              <a:rPr b="0" lang="en-US" sz="4000" spc="-1" strike="noStrike">
                <a:solidFill>
                  <a:srgbClr val="3333cc"/>
                </a:solidFill>
                <a:latin typeface="Comic Sans MS"/>
              </a:rPr>
              <a:t>1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9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300</a:t>
            </a:r>
            <a:endParaRPr b="0" lang="en-US" sz="4000" spc="-1" strike="noStrike">
              <a:solidFill>
                <a:srgbClr val="000000"/>
              </a:solidFill>
              <a:latin typeface="Times New Roman"/>
            </a:endParaRPr>
          </a:p>
        </p:txBody>
      </p:sp>
      <p:sp>
        <p:nvSpPr>
          <p:cNvPr id="355" name=""/>
          <p:cNvSpPr/>
          <p:nvPr/>
        </p:nvSpPr>
        <p:spPr>
          <a:xfrm>
            <a:off x="641160" y="1660680"/>
            <a:ext cx="1049400" cy="43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  </a:t>
            </a:r>
            <a:r>
              <a:rPr b="0" lang="en-US" sz="4000" spc="-1" strike="noStrike">
                <a:solidFill>
                  <a:srgbClr val="008000"/>
                </a:solidFill>
                <a:latin typeface="Comic Sans MS"/>
              </a:rPr>
              <a:t>53</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  </a:t>
            </a:r>
            <a:r>
              <a:rPr b="0" lang="en-US" sz="4000" spc="-1" strike="noStrike">
                <a:solidFill>
                  <a:srgbClr val="008000"/>
                </a:solidFill>
                <a:latin typeface="Comic Sans MS"/>
              </a:rPr>
              <a:t>47</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  </a:t>
            </a:r>
            <a:r>
              <a:rPr b="0" lang="en-US" sz="4000" spc="-1" strike="noStrike">
                <a:solidFill>
                  <a:srgbClr val="008000"/>
                </a:solidFill>
                <a:latin typeface="Comic Sans MS"/>
              </a:rPr>
              <a:t>5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  </a:t>
            </a:r>
            <a:r>
              <a:rPr b="0" lang="en-US" sz="4000" spc="-1" strike="noStrike">
                <a:solidFill>
                  <a:srgbClr val="008000"/>
                </a:solidFill>
                <a:latin typeface="Comic Sans MS"/>
              </a:rPr>
              <a:t>48</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  </a:t>
            </a:r>
            <a:r>
              <a:rPr b="0" lang="en-US" sz="4000" spc="-1" strike="noStrike">
                <a:solidFill>
                  <a:srgbClr val="008000"/>
                </a:solidFill>
                <a:latin typeface="Comic Sans MS"/>
              </a:rPr>
              <a:t>50</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8000"/>
                </a:solidFill>
                <a:uFillTx/>
                <a:latin typeface="Comic Sans MS"/>
              </a:rPr>
              <a:t>  </a:t>
            </a:r>
            <a:r>
              <a:rPr b="0" lang="en-US" sz="4000" spc="-1" strike="noStrike" u="sng">
                <a:solidFill>
                  <a:srgbClr val="008000"/>
                </a:solidFill>
                <a:uFillTx/>
                <a:latin typeface="Comic Sans MS"/>
              </a:rPr>
              <a:t>52</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Comic Sans MS"/>
              </a:rPr>
              <a:t>300</a:t>
            </a:r>
            <a:endParaRPr b="0" lang="en-US" sz="4000" spc="-1" strike="noStrike">
              <a:solidFill>
                <a:srgbClr val="000000"/>
              </a:solidFill>
              <a:latin typeface="Times New Roman"/>
            </a:endParaRPr>
          </a:p>
        </p:txBody>
      </p:sp>
      <p:sp>
        <p:nvSpPr>
          <p:cNvPr id="356"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961920" y="1447920"/>
            <a:ext cx="7267680" cy="4897440"/>
          </a:xfrm>
          <a:prstGeom prst="rect">
            <a:avLst/>
          </a:prstGeom>
          <a:ln w="0">
            <a:noFill/>
          </a:ln>
        </p:spPr>
      </p:pic>
      <p:sp>
        <p:nvSpPr>
          <p:cNvPr id="358"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43" name=""/>
          <p:cNvGrpSpPr/>
          <p:nvPr/>
        </p:nvGrpSpPr>
        <p:grpSpPr>
          <a:xfrm>
            <a:off x="533520" y="2895480"/>
            <a:ext cx="2361960" cy="2971800"/>
            <a:chOff x="533520" y="2895480"/>
            <a:chExt cx="2361960" cy="2971800"/>
          </a:xfrm>
        </p:grpSpPr>
        <p:sp>
          <p:nvSpPr>
            <p:cNvPr id="44" name=""/>
            <p:cNvSpPr/>
            <p:nvPr/>
          </p:nvSpPr>
          <p:spPr>
            <a:xfrm>
              <a:off x="533520" y="2895480"/>
              <a:ext cx="236196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42160" y="2907720"/>
              <a:ext cx="234432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201320" y="2932560"/>
              <a:ext cx="12384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334160" y="2945160"/>
              <a:ext cx="7056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227960" y="2970000"/>
              <a:ext cx="529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413720" y="2988720"/>
              <a:ext cx="7056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493280" y="3013560"/>
              <a:ext cx="6192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559520" y="3025800"/>
              <a:ext cx="795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630440" y="3032280"/>
              <a:ext cx="7488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719000" y="3069360"/>
              <a:ext cx="572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130400" y="3088080"/>
              <a:ext cx="91116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073160" y="3094200"/>
              <a:ext cx="11916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95120" y="3094200"/>
              <a:ext cx="12816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104120" y="3094200"/>
              <a:ext cx="15480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794240" y="3106800"/>
              <a:ext cx="6192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869480" y="3125520"/>
              <a:ext cx="4392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922400" y="3137760"/>
              <a:ext cx="4392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984320" y="3156480"/>
              <a:ext cx="3096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028600" y="3169080"/>
              <a:ext cx="3960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396080" y="3312000"/>
              <a:ext cx="23868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643760" y="3367800"/>
              <a:ext cx="1987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09400" y="3399120"/>
              <a:ext cx="18576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479960" y="3411360"/>
              <a:ext cx="9288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61400" y="3442320"/>
              <a:ext cx="16344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524240" y="3454920"/>
              <a:ext cx="2196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 name=""/>
            <p:cNvSpPr/>
            <p:nvPr/>
          </p:nvSpPr>
          <p:spPr>
            <a:xfrm>
              <a:off x="1692360" y="3479760"/>
              <a:ext cx="7056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23320" y="3510720"/>
              <a:ext cx="2196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1" name=""/>
            <p:cNvSpPr/>
            <p:nvPr/>
          </p:nvSpPr>
          <p:spPr>
            <a:xfrm>
              <a:off x="1267560" y="3784320"/>
              <a:ext cx="6192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2" name=""/>
            <p:cNvSpPr/>
            <p:nvPr/>
          </p:nvSpPr>
          <p:spPr>
            <a:xfrm>
              <a:off x="1254240" y="3827880"/>
              <a:ext cx="55296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329560" y="3927600"/>
              <a:ext cx="3668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77480" y="3964680"/>
              <a:ext cx="129168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7440" y="4045680"/>
              <a:ext cx="18108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033200" y="4089240"/>
              <a:ext cx="262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68480" y="4101480"/>
              <a:ext cx="3096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081800" y="4101480"/>
              <a:ext cx="132696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78400" y="4194720"/>
              <a:ext cx="34488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69400" y="4250880"/>
              <a:ext cx="1105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130480" y="4257000"/>
              <a:ext cx="7956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196720" y="4269600"/>
              <a:ext cx="12816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19600" y="4287960"/>
              <a:ext cx="10584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183680" y="4319280"/>
              <a:ext cx="88452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72200" y="4356360"/>
              <a:ext cx="795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29800" y="4375080"/>
              <a:ext cx="3960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971000" y="4381560"/>
              <a:ext cx="3528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8" name=""/>
            <p:cNvSpPr/>
            <p:nvPr/>
          </p:nvSpPr>
          <p:spPr>
            <a:xfrm>
              <a:off x="564120" y="4393800"/>
              <a:ext cx="24300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059840" y="4399920"/>
              <a:ext cx="8935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74080" y="4437360"/>
              <a:ext cx="2196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90760" y="4654800"/>
              <a:ext cx="15480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32240" y="4654800"/>
              <a:ext cx="3960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 name=""/>
            <p:cNvSpPr/>
            <p:nvPr/>
          </p:nvSpPr>
          <p:spPr>
            <a:xfrm>
              <a:off x="1015560" y="4661280"/>
              <a:ext cx="4860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988920" y="4679640"/>
              <a:ext cx="4860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953640" y="4698360"/>
              <a:ext cx="4860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19000" y="4860000"/>
              <a:ext cx="28296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98560" y="4884840"/>
              <a:ext cx="4392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8" name=""/>
            <p:cNvSpPr/>
            <p:nvPr/>
          </p:nvSpPr>
          <p:spPr>
            <a:xfrm>
              <a:off x="1811880" y="4922280"/>
              <a:ext cx="306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9" name=""/>
            <p:cNvSpPr/>
            <p:nvPr/>
          </p:nvSpPr>
          <p:spPr>
            <a:xfrm>
              <a:off x="1842840" y="4965840"/>
              <a:ext cx="1296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0" name=""/>
            <p:cNvSpPr/>
            <p:nvPr/>
          </p:nvSpPr>
          <p:spPr>
            <a:xfrm>
              <a:off x="1099440" y="5140080"/>
              <a:ext cx="33156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457200" y="1447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Comic Sans MS"/>
              </a:rPr>
              <a:t>When you finish this unit, you will be able to:</a:t>
            </a:r>
            <a:endParaRPr b="0" lang="en-US" sz="3600" spc="-1" strike="noStrike">
              <a:solidFill>
                <a:srgbClr val="000000"/>
              </a:solidFill>
              <a:latin typeface="Times New Roman"/>
            </a:endParaRPr>
          </a:p>
        </p:txBody>
      </p:sp>
      <p:sp>
        <p:nvSpPr>
          <p:cNvPr id="102" name=""/>
          <p:cNvSpPr/>
          <p:nvPr/>
        </p:nvSpPr>
        <p:spPr>
          <a:xfrm>
            <a:off x="2895480" y="2575080"/>
            <a:ext cx="5562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n a set of data, calculate the following statistics:</a:t>
            </a:r>
            <a:endParaRPr b="0" lang="en-US" sz="3200" spc="-1" strike="noStrike">
              <a:solidFill>
                <a:srgbClr val="000000"/>
              </a:solidFill>
              <a:latin typeface="Times New Roman"/>
            </a:endParaRPr>
          </a:p>
        </p:txBody>
      </p:sp>
      <p:sp>
        <p:nvSpPr>
          <p:cNvPr id="103" name=""/>
          <p:cNvSpPr/>
          <p:nvPr/>
        </p:nvSpPr>
        <p:spPr>
          <a:xfrm>
            <a:off x="3809880" y="7002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view</a:t>
            </a:r>
            <a:endParaRPr b="0" lang="en-US" sz="2800" spc="-1" strike="noStrike">
              <a:solidFill>
                <a:srgbClr val="000000"/>
              </a:solidFill>
              <a:latin typeface="Times New Roman"/>
            </a:endParaRPr>
          </a:p>
        </p:txBody>
      </p:sp>
      <p:sp>
        <p:nvSpPr>
          <p:cNvPr id="104" name=""/>
          <p:cNvSpPr/>
          <p:nvPr/>
        </p:nvSpPr>
        <p:spPr>
          <a:xfrm>
            <a:off x="2895480" y="4251240"/>
            <a:ext cx="5562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rithmetic mea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weighted mean</a:t>
            </a:r>
            <a:endParaRPr b="0" lang="en-US" sz="32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repl">
                                        <p:cTn id="7"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04">
                                            <p:txEl>
                                              <p:pRg st="0" end="0"/>
                                            </p:txEl>
                                          </p:spTgt>
                                        </p:tgtEl>
                                        <p:attrNameLst>
                                          <p:attrName>style.visibility</p:attrName>
                                        </p:attrNameLst>
                                      </p:cBhvr>
                                      <p:to>
                                        <p:strVal val="visible"/>
                                      </p:to>
                                    </p:set>
                                    <p:anim calcmode="lin" valueType="num">
                                      <p:cBhvr additive="repl">
                                        <p:cTn id="13"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04">
                                            <p:txEl>
                                              <p:pRg st="1" end="1"/>
                                            </p:txEl>
                                          </p:spTgt>
                                        </p:tgtEl>
                                        <p:attrNameLst>
                                          <p:attrName>style.visibility</p:attrName>
                                        </p:attrNameLst>
                                      </p:cBhvr>
                                      <p:to>
                                        <p:strVal val="visible"/>
                                      </p:to>
                                    </p:set>
                                    <p:anim calcmode="lin" valueType="num">
                                      <p:cBhvr additive="repl">
                                        <p:cTn id="19"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10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59"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graphicFrame>
        <p:nvGraphicFramePr>
          <p:cNvPr id="360" name=""/>
          <p:cNvGraphicFramePr/>
          <p:nvPr/>
        </p:nvGraphicFramePr>
        <p:xfrm>
          <a:off x="1905120" y="1800360"/>
          <a:ext cx="6019560" cy="2390760"/>
        </p:xfrm>
        <a:graphic>
          <a:graphicData uri="http://schemas.openxmlformats.org/drawingml/2006/table">
            <a:tbl>
              <a:tblPr/>
              <a:tblGrid>
                <a:gridCol w="1523880"/>
                <a:gridCol w="1371600"/>
                <a:gridCol w="1219320"/>
                <a:gridCol w="1904760"/>
              </a:tblGrid>
              <a:tr h="49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rs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 Hr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d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de Poin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 08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 12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ic 05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1" name=""/>
          <p:cNvSpPr/>
          <p:nvPr/>
        </p:nvSpPr>
        <p:spPr>
          <a:xfrm>
            <a:off x="1905120" y="3673440"/>
            <a:ext cx="1523880" cy="517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800600" y="3657600"/>
            <a:ext cx="1219320" cy="517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3" name=""/>
          <p:cNvGrpSpPr/>
          <p:nvPr/>
        </p:nvGrpSpPr>
        <p:grpSpPr>
          <a:xfrm>
            <a:off x="3733920" y="2301840"/>
            <a:ext cx="685800" cy="1815480"/>
            <a:chOff x="3733920" y="2301840"/>
            <a:chExt cx="685800" cy="1815480"/>
          </a:xfrm>
        </p:grpSpPr>
        <p:sp>
          <p:nvSpPr>
            <p:cNvPr id="364" name=""/>
            <p:cNvSpPr/>
            <p:nvPr/>
          </p:nvSpPr>
          <p:spPr>
            <a:xfrm>
              <a:off x="3733920" y="230184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365" name=""/>
            <p:cNvSpPr/>
            <p:nvPr/>
          </p:nvSpPr>
          <p:spPr>
            <a:xfrm>
              <a:off x="3733920" y="27432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366" name=""/>
            <p:cNvSpPr/>
            <p:nvPr/>
          </p:nvSpPr>
          <p:spPr>
            <a:xfrm>
              <a:off x="3733920" y="3200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367" name=""/>
            <p:cNvSpPr/>
            <p:nvPr/>
          </p:nvSpPr>
          <p:spPr>
            <a:xfrm>
              <a:off x="3733920" y="36576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9.0</a:t>
              </a:r>
              <a:endParaRPr b="0" lang="en-US" sz="2400" spc="-1" strike="noStrike">
                <a:solidFill>
                  <a:srgbClr val="000000"/>
                </a:solidFill>
                <a:latin typeface="Times New Roman"/>
              </a:endParaRPr>
            </a:p>
          </p:txBody>
        </p:sp>
      </p:grpSp>
      <p:grpSp>
        <p:nvGrpSpPr>
          <p:cNvPr id="368" name=""/>
          <p:cNvGrpSpPr/>
          <p:nvPr/>
        </p:nvGrpSpPr>
        <p:grpSpPr>
          <a:xfrm>
            <a:off x="4800600" y="2286000"/>
            <a:ext cx="2590560" cy="1374120"/>
            <a:chOff x="4800600" y="2286000"/>
            <a:chExt cx="2590560" cy="1374120"/>
          </a:xfrm>
        </p:grpSpPr>
        <p:sp>
          <p:nvSpPr>
            <p:cNvPr id="369" name=""/>
            <p:cNvSpPr/>
            <p:nvPr/>
          </p:nvSpPr>
          <p:spPr>
            <a:xfrm>
              <a:off x="4800600" y="22860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3.7</a:t>
              </a:r>
              <a:endParaRPr b="0" lang="en-US" sz="2400" spc="-1" strike="noStrike">
                <a:solidFill>
                  <a:srgbClr val="000000"/>
                </a:solidFill>
                <a:latin typeface="Times New Roman"/>
              </a:endParaRPr>
            </a:p>
          </p:txBody>
        </p:sp>
        <p:sp>
          <p:nvSpPr>
            <p:cNvPr id="370" name=""/>
            <p:cNvSpPr/>
            <p:nvPr/>
          </p:nvSpPr>
          <p:spPr>
            <a:xfrm>
              <a:off x="4800600" y="27432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3.7</a:t>
              </a:r>
              <a:endParaRPr b="0" lang="en-US" sz="2400" spc="-1" strike="noStrike">
                <a:solidFill>
                  <a:srgbClr val="000000"/>
                </a:solidFill>
                <a:latin typeface="Times New Roman"/>
              </a:endParaRPr>
            </a:p>
          </p:txBody>
        </p:sp>
        <p:sp>
          <p:nvSpPr>
            <p:cNvPr id="371" name=""/>
            <p:cNvSpPr/>
            <p:nvPr/>
          </p:nvSpPr>
          <p:spPr>
            <a:xfrm>
              <a:off x="4800600" y="32004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 3.0</a:t>
              </a:r>
              <a:endParaRPr b="0" lang="en-US" sz="2400" spc="-1" strike="noStrike">
                <a:solidFill>
                  <a:srgbClr val="000000"/>
                </a:solidFill>
                <a:latin typeface="Times New Roman"/>
              </a:endParaRPr>
            </a:p>
          </p:txBody>
        </p:sp>
        <p:sp>
          <p:nvSpPr>
            <p:cNvPr id="372" name=""/>
            <p:cNvSpPr/>
            <p:nvPr/>
          </p:nvSpPr>
          <p:spPr>
            <a:xfrm>
              <a:off x="6476760" y="22860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1.1</a:t>
              </a:r>
              <a:endParaRPr b="0" lang="en-US" sz="2400" spc="-1" strike="noStrike">
                <a:solidFill>
                  <a:srgbClr val="000000"/>
                </a:solidFill>
                <a:latin typeface="Times New Roman"/>
              </a:endParaRPr>
            </a:p>
          </p:txBody>
        </p:sp>
        <p:sp>
          <p:nvSpPr>
            <p:cNvPr id="373" name=""/>
            <p:cNvSpPr/>
            <p:nvPr/>
          </p:nvSpPr>
          <p:spPr>
            <a:xfrm>
              <a:off x="6476760" y="27432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4.8</a:t>
              </a:r>
              <a:endParaRPr b="0" lang="en-US" sz="2400" spc="-1" strike="noStrike">
                <a:solidFill>
                  <a:srgbClr val="000000"/>
                </a:solidFill>
                <a:latin typeface="Times New Roman"/>
              </a:endParaRPr>
            </a:p>
          </p:txBody>
        </p:sp>
        <p:sp>
          <p:nvSpPr>
            <p:cNvPr id="374" name=""/>
            <p:cNvSpPr/>
            <p:nvPr/>
          </p:nvSpPr>
          <p:spPr>
            <a:xfrm>
              <a:off x="6476760" y="32004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6.0</a:t>
              </a:r>
              <a:endParaRPr b="0" lang="en-US" sz="2400" spc="-1" strike="noStrike">
                <a:solidFill>
                  <a:srgbClr val="000000"/>
                </a:solidFill>
                <a:latin typeface="Times New Roman"/>
              </a:endParaRPr>
            </a:p>
          </p:txBody>
        </p:sp>
      </p:grpSp>
      <p:sp>
        <p:nvSpPr>
          <p:cNvPr id="375" name=""/>
          <p:cNvSpPr/>
          <p:nvPr/>
        </p:nvSpPr>
        <p:spPr>
          <a:xfrm>
            <a:off x="6400800" y="3733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1.9</a:t>
            </a:r>
            <a:endParaRPr b="0" lang="en-US" sz="2400" spc="-1" strike="noStrike">
              <a:solidFill>
                <a:srgbClr val="000000"/>
              </a:solidFill>
              <a:latin typeface="Times New Roman"/>
            </a:endParaRPr>
          </a:p>
        </p:txBody>
      </p:sp>
      <p:grpSp>
        <p:nvGrpSpPr>
          <p:cNvPr id="376" name=""/>
          <p:cNvGrpSpPr/>
          <p:nvPr/>
        </p:nvGrpSpPr>
        <p:grpSpPr>
          <a:xfrm>
            <a:off x="3124080" y="4495680"/>
            <a:ext cx="4267080" cy="916920"/>
            <a:chOff x="3124080" y="4495680"/>
            <a:chExt cx="4267080" cy="916920"/>
          </a:xfrm>
        </p:grpSpPr>
        <p:sp>
          <p:nvSpPr>
            <p:cNvPr id="377" name=""/>
            <p:cNvSpPr/>
            <p:nvPr/>
          </p:nvSpPr>
          <p:spPr>
            <a:xfrm>
              <a:off x="3124080" y="449568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grade points</a:t>
              </a:r>
              <a:endParaRPr b="0" lang="en-US" sz="2400" spc="-1" strike="noStrike">
                <a:solidFill>
                  <a:srgbClr val="000000"/>
                </a:solidFill>
                <a:latin typeface="Times New Roman"/>
              </a:endParaRPr>
            </a:p>
          </p:txBody>
        </p:sp>
        <p:sp>
          <p:nvSpPr>
            <p:cNvPr id="378" name=""/>
            <p:cNvSpPr/>
            <p:nvPr/>
          </p:nvSpPr>
          <p:spPr>
            <a:xfrm>
              <a:off x="3504960" y="49528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cr. hrs</a:t>
              </a:r>
              <a:endParaRPr b="0" lang="en-US" sz="2400" spc="-1" strike="noStrike">
                <a:solidFill>
                  <a:srgbClr val="000000"/>
                </a:solidFill>
                <a:latin typeface="Times New Roman"/>
              </a:endParaRPr>
            </a:p>
          </p:txBody>
        </p:sp>
        <p:sp>
          <p:nvSpPr>
            <p:cNvPr id="379" name=""/>
            <p:cNvSpPr/>
            <p:nvPr/>
          </p:nvSpPr>
          <p:spPr>
            <a:xfrm>
              <a:off x="3124080" y="495288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943240" y="4738680"/>
              <a:ext cx="45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381" name=""/>
            <p:cNvSpPr/>
            <p:nvPr/>
          </p:nvSpPr>
          <p:spPr>
            <a:xfrm>
              <a:off x="6514920" y="4495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31.9</a:t>
              </a:r>
              <a:endParaRPr b="0" lang="en-US" sz="2400" spc="-1" strike="noStrike">
                <a:solidFill>
                  <a:srgbClr val="000000"/>
                </a:solidFill>
                <a:latin typeface="Times New Roman"/>
              </a:endParaRPr>
            </a:p>
          </p:txBody>
        </p:sp>
        <p:sp>
          <p:nvSpPr>
            <p:cNvPr id="382" name=""/>
            <p:cNvSpPr/>
            <p:nvPr/>
          </p:nvSpPr>
          <p:spPr>
            <a:xfrm>
              <a:off x="6476760" y="4952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743520" y="495288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9</a:t>
              </a:r>
              <a:endParaRPr b="0" lang="en-US" sz="2400" spc="-1" strike="noStrike">
                <a:solidFill>
                  <a:srgbClr val="000000"/>
                </a:solidFill>
                <a:latin typeface="Times New Roman"/>
              </a:endParaRPr>
            </a:p>
          </p:txBody>
        </p:sp>
      </p:grpSp>
      <p:grpSp>
        <p:nvGrpSpPr>
          <p:cNvPr id="384" name=""/>
          <p:cNvGrpSpPr/>
          <p:nvPr/>
        </p:nvGrpSpPr>
        <p:grpSpPr>
          <a:xfrm>
            <a:off x="198360" y="1098000"/>
            <a:ext cx="2289240" cy="1361880"/>
            <a:chOff x="198360" y="1098000"/>
            <a:chExt cx="2289240" cy="1361880"/>
          </a:xfrm>
        </p:grpSpPr>
        <p:sp>
          <p:nvSpPr>
            <p:cNvPr id="385" name=""/>
            <p:cNvSpPr/>
            <p:nvPr/>
          </p:nvSpPr>
          <p:spPr>
            <a:xfrm rot="20897400">
              <a:off x="236160" y="1371240"/>
              <a:ext cx="2057400" cy="38412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20897400">
              <a:off x="272160" y="1305000"/>
              <a:ext cx="214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a:t>
              </a:r>
              <a:endParaRPr b="0" lang="en-US" sz="2800" spc="-1" strike="noStrike">
                <a:solidFill>
                  <a:srgbClr val="000000"/>
                </a:solidFill>
                <a:latin typeface="Times New Roman"/>
              </a:endParaRPr>
            </a:p>
          </p:txBody>
        </p:sp>
      </p:grpSp>
      <p:pic>
        <p:nvPicPr>
          <p:cNvPr id="387" name="" descr=""/>
          <p:cNvPicPr/>
          <p:nvPr/>
        </p:nvPicPr>
        <p:blipFill>
          <a:blip r:embed="rId3"/>
          <a:stretch/>
        </p:blipFill>
        <p:spPr>
          <a:xfrm>
            <a:off x="1047600" y="4564080"/>
            <a:ext cx="1714680" cy="1531800"/>
          </a:xfrm>
          <a:prstGeom prst="rect">
            <a:avLst/>
          </a:prstGeom>
          <a:ln w="0">
            <a:noFill/>
          </a:ln>
        </p:spPr>
      </p:pic>
      <p:sp>
        <p:nvSpPr>
          <p:cNvPr id="388" name=""/>
          <p:cNvSpPr/>
          <p:nvPr/>
        </p:nvSpPr>
        <p:spPr>
          <a:xfrm>
            <a:off x="3632760" y="5638680"/>
            <a:ext cx="253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PA = 3.54</a:t>
            </a:r>
            <a:endParaRPr b="0" lang="en-US" sz="3600" spc="-1" strike="noStrike">
              <a:solidFill>
                <a:srgbClr val="000000"/>
              </a:solidFill>
              <a:latin typeface="Times New Roman"/>
            </a:endParaRPr>
          </a:p>
        </p:txBody>
      </p:sp>
    </p:spTree>
  </p:cSld>
  <p:transition>
    <p:pull dir="l"/>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363"/>
                                        </p:tgtEl>
                                        <p:attrNameLst>
                                          <p:attrName>style.visibility</p:attrName>
                                        </p:attrNameLst>
                                      </p:cBhvr>
                                      <p:to>
                                        <p:strVal val="visible"/>
                                      </p:to>
                                    </p:set>
                                    <p:animEffect filter="dissolve" transition="in">
                                      <p:cBhvr additive="repl">
                                        <p:cTn id="257" dur="500"/>
                                        <p:tgtEl>
                                          <p:spTgt spid="363"/>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368"/>
                                        </p:tgtEl>
                                        <p:attrNameLst>
                                          <p:attrName>style.visibility</p:attrName>
                                        </p:attrNameLst>
                                      </p:cBhvr>
                                      <p:to>
                                        <p:strVal val="visible"/>
                                      </p:to>
                                    </p:set>
                                    <p:animEffect filter="dissolve" transition="in">
                                      <p:cBhvr additive="repl">
                                        <p:cTn id="262" dur="500"/>
                                        <p:tgtEl>
                                          <p:spTgt spid="368"/>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375"/>
                                        </p:tgtEl>
                                        <p:attrNameLst>
                                          <p:attrName>style.visibility</p:attrName>
                                        </p:attrNameLst>
                                      </p:cBhvr>
                                      <p:to>
                                        <p:strVal val="visible"/>
                                      </p:to>
                                    </p:set>
                                    <p:animEffect filter="dissolve" transition="in">
                                      <p:cBhvr additive="repl">
                                        <p:cTn id="267" dur="500"/>
                                        <p:tgtEl>
                                          <p:spTgt spid="37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8" presetSubtype="6">
                                  <p:stCondLst>
                                    <p:cond delay="0"/>
                                  </p:stCondLst>
                                  <p:childTnLst>
                                    <p:set>
                                      <p:cBhvr>
                                        <p:cTn id="271" dur="1" fill="hold">
                                          <p:stCondLst>
                                            <p:cond delay="0"/>
                                          </p:stCondLst>
                                        </p:cTn>
                                        <p:tgtEl>
                                          <p:spTgt spid="376"/>
                                        </p:tgtEl>
                                        <p:attrNameLst>
                                          <p:attrName>style.visibility</p:attrName>
                                        </p:attrNameLst>
                                      </p:cBhvr>
                                      <p:to>
                                        <p:strVal val="visible"/>
                                      </p:to>
                                    </p:set>
                                    <p:animEffect filter="strips(downRight)" transition="in">
                                      <p:cBhvr additive="repl">
                                        <p:cTn id="2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89"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graphicFrame>
        <p:nvGraphicFramePr>
          <p:cNvPr id="390" name=""/>
          <p:cNvGraphicFramePr/>
          <p:nvPr/>
        </p:nvGraphicFramePr>
        <p:xfrm>
          <a:off x="1523880" y="1447920"/>
          <a:ext cx="6019560" cy="2390760"/>
        </p:xfrm>
        <a:graphic>
          <a:graphicData uri="http://schemas.openxmlformats.org/drawingml/2006/table">
            <a:tbl>
              <a:tblPr/>
              <a:tblGrid>
                <a:gridCol w="1523880"/>
                <a:gridCol w="1371600"/>
                <a:gridCol w="1219320"/>
                <a:gridCol w="1904760"/>
              </a:tblGrid>
              <a:tr h="4910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rs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 Hr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d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de Poin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 08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 12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ic 056</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1" name=""/>
          <p:cNvSpPr/>
          <p:nvPr/>
        </p:nvSpPr>
        <p:spPr>
          <a:xfrm>
            <a:off x="1523880" y="3321000"/>
            <a:ext cx="1524240" cy="517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419720" y="3305160"/>
            <a:ext cx="1218960" cy="517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3352680" y="1949400"/>
            <a:ext cx="685800" cy="1815480"/>
            <a:chOff x="3352680" y="1949400"/>
            <a:chExt cx="685800" cy="1815480"/>
          </a:xfrm>
        </p:grpSpPr>
        <p:sp>
          <p:nvSpPr>
            <p:cNvPr id="394" name=""/>
            <p:cNvSpPr/>
            <p:nvPr/>
          </p:nvSpPr>
          <p:spPr>
            <a:xfrm>
              <a:off x="3352680" y="1949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395" name=""/>
            <p:cNvSpPr/>
            <p:nvPr/>
          </p:nvSpPr>
          <p:spPr>
            <a:xfrm>
              <a:off x="3352680" y="23907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396" name=""/>
            <p:cNvSpPr/>
            <p:nvPr/>
          </p:nvSpPr>
          <p:spPr>
            <a:xfrm>
              <a:off x="3352680" y="28479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397" name=""/>
            <p:cNvSpPr/>
            <p:nvPr/>
          </p:nvSpPr>
          <p:spPr>
            <a:xfrm>
              <a:off x="3352680" y="33051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9.0</a:t>
              </a:r>
              <a:endParaRPr b="0" lang="en-US" sz="2400" spc="-1" strike="noStrike">
                <a:solidFill>
                  <a:srgbClr val="000000"/>
                </a:solidFill>
                <a:latin typeface="Times New Roman"/>
              </a:endParaRPr>
            </a:p>
          </p:txBody>
        </p:sp>
      </p:grpSp>
      <p:grpSp>
        <p:nvGrpSpPr>
          <p:cNvPr id="398" name=""/>
          <p:cNvGrpSpPr/>
          <p:nvPr/>
        </p:nvGrpSpPr>
        <p:grpSpPr>
          <a:xfrm>
            <a:off x="4419720" y="1933560"/>
            <a:ext cx="2590560" cy="1374120"/>
            <a:chOff x="4419720" y="1933560"/>
            <a:chExt cx="2590560" cy="1374120"/>
          </a:xfrm>
        </p:grpSpPr>
        <p:sp>
          <p:nvSpPr>
            <p:cNvPr id="399" name=""/>
            <p:cNvSpPr/>
            <p:nvPr/>
          </p:nvSpPr>
          <p:spPr>
            <a:xfrm>
              <a:off x="4419720" y="193356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3.7</a:t>
              </a:r>
              <a:endParaRPr b="0" lang="en-US" sz="2400" spc="-1" strike="noStrike">
                <a:solidFill>
                  <a:srgbClr val="000000"/>
                </a:solidFill>
                <a:latin typeface="Times New Roman"/>
              </a:endParaRPr>
            </a:p>
          </p:txBody>
        </p:sp>
        <p:sp>
          <p:nvSpPr>
            <p:cNvPr id="400" name=""/>
            <p:cNvSpPr/>
            <p:nvPr/>
          </p:nvSpPr>
          <p:spPr>
            <a:xfrm>
              <a:off x="4419720" y="239076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3.7</a:t>
              </a:r>
              <a:endParaRPr b="0" lang="en-US" sz="2400" spc="-1" strike="noStrike">
                <a:solidFill>
                  <a:srgbClr val="000000"/>
                </a:solidFill>
                <a:latin typeface="Times New Roman"/>
              </a:endParaRPr>
            </a:p>
          </p:txBody>
        </p:sp>
        <p:sp>
          <p:nvSpPr>
            <p:cNvPr id="401" name=""/>
            <p:cNvSpPr/>
            <p:nvPr/>
          </p:nvSpPr>
          <p:spPr>
            <a:xfrm>
              <a:off x="4419720" y="284796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 3.0</a:t>
              </a:r>
              <a:endParaRPr b="0" lang="en-US" sz="2400" spc="-1" strike="noStrike">
                <a:solidFill>
                  <a:srgbClr val="000000"/>
                </a:solidFill>
                <a:latin typeface="Times New Roman"/>
              </a:endParaRPr>
            </a:p>
          </p:txBody>
        </p:sp>
        <p:sp>
          <p:nvSpPr>
            <p:cNvPr id="402" name=""/>
            <p:cNvSpPr/>
            <p:nvPr/>
          </p:nvSpPr>
          <p:spPr>
            <a:xfrm>
              <a:off x="6095880" y="193356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1.1</a:t>
              </a:r>
              <a:endParaRPr b="0" lang="en-US" sz="2400" spc="-1" strike="noStrike">
                <a:solidFill>
                  <a:srgbClr val="000000"/>
                </a:solidFill>
                <a:latin typeface="Times New Roman"/>
              </a:endParaRPr>
            </a:p>
          </p:txBody>
        </p:sp>
        <p:sp>
          <p:nvSpPr>
            <p:cNvPr id="403" name=""/>
            <p:cNvSpPr/>
            <p:nvPr/>
          </p:nvSpPr>
          <p:spPr>
            <a:xfrm>
              <a:off x="6095880" y="239076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4.8</a:t>
              </a:r>
              <a:endParaRPr b="0" lang="en-US" sz="2400" spc="-1" strike="noStrike">
                <a:solidFill>
                  <a:srgbClr val="000000"/>
                </a:solidFill>
                <a:latin typeface="Times New Roman"/>
              </a:endParaRPr>
            </a:p>
          </p:txBody>
        </p:sp>
        <p:sp>
          <p:nvSpPr>
            <p:cNvPr id="404" name=""/>
            <p:cNvSpPr/>
            <p:nvPr/>
          </p:nvSpPr>
          <p:spPr>
            <a:xfrm>
              <a:off x="6095880" y="284796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6.0</a:t>
              </a:r>
              <a:endParaRPr b="0" lang="en-US" sz="2400" spc="-1" strike="noStrike">
                <a:solidFill>
                  <a:srgbClr val="000000"/>
                </a:solidFill>
                <a:latin typeface="Times New Roman"/>
              </a:endParaRPr>
            </a:p>
          </p:txBody>
        </p:sp>
      </p:grpSp>
      <p:sp>
        <p:nvSpPr>
          <p:cNvPr id="405" name=""/>
          <p:cNvSpPr/>
          <p:nvPr/>
        </p:nvSpPr>
        <p:spPr>
          <a:xfrm>
            <a:off x="6095880" y="330516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1.9</a:t>
            </a:r>
            <a:endParaRPr b="0" lang="en-US" sz="2400" spc="-1" strike="noStrike">
              <a:solidFill>
                <a:srgbClr val="000000"/>
              </a:solidFill>
              <a:latin typeface="Times New Roman"/>
            </a:endParaRPr>
          </a:p>
        </p:txBody>
      </p:sp>
      <mc:AlternateContent>
        <mc:Choice xmlns:a14="http://schemas.microsoft.com/office/drawing/2010/main" Requires="a14">
          <p:sp>
            <p:nvSpPr>
              <p:cNvPr id="406" name=""/>
              <p:cNvSpPr txBox="1"/>
              <p:nvPr/>
            </p:nvSpPr>
            <p:spPr>
              <a:xfrm>
                <a:off x="635040" y="4572000"/>
                <a:ext cx="7746840" cy="984240"/>
              </a:xfrm>
              <a:prstGeom prst="rect">
                <a:avLst/>
              </a:prstGeom>
            </p:spPr>
            <p:txBody>
              <a:bodyPr/>
              <a:p>
                <a14:m>
                  <m:oMath xmlns:m="http://schemas.openxmlformats.org/officeDocument/2006/math">
                    <m:acc>
                      <m:accPr>
                        <m:chr m:val="¯"/>
                      </m:accPr>
                      <m:e>
                        <m:r>
                          <m:t xml:space="preserve">x</m:t>
                        </m:r>
                      </m:e>
                    </m:acc>
                    <m:r>
                      <m:t xml:space="preserve">=</m:t>
                    </m:r>
                    <m:f>
                      <m:num>
                        <m:d>
                          <m:dPr>
                            <m:begChr m:val="("/>
                            <m:endChr m:val=")"/>
                          </m:dPr>
                          <m:e>
                            <m:r>
                              <m:t xml:space="preserve">3</m:t>
                            </m:r>
                            <m:r>
                              <m:rPr>
                                <m:lit/>
                                <m:nor/>
                              </m:rPr>
                              <m:t xml:space="preserve">.</m:t>
                            </m:r>
                            <m:r>
                              <m:t xml:space="preserve">7</m:t>
                            </m:r>
                            <m:r>
                              <m:t xml:space="preserve">+</m:t>
                            </m:r>
                            <m:r>
                              <m:t xml:space="preserve">3</m:t>
                            </m:r>
                            <m:r>
                              <m:rPr>
                                <m:lit/>
                                <m:nor/>
                              </m:rPr>
                              <m:t xml:space="preserve">.</m:t>
                            </m:r>
                            <m:r>
                              <m:t xml:space="preserve">7</m:t>
                            </m:r>
                            <m:r>
                              <m:t xml:space="preserve">+</m:t>
                            </m:r>
                            <m:r>
                              <m:t xml:space="preserve">3</m:t>
                            </m:r>
                            <m:r>
                              <m:rPr>
                                <m:lit/>
                                <m:nor/>
                              </m:rPr>
                              <m:t xml:space="preserve">.</m:t>
                            </m:r>
                            <m:r>
                              <m:t xml:space="preserve">7</m:t>
                            </m:r>
                          </m:e>
                        </m:d>
                        <m:r>
                          <m:t xml:space="preserve">+</m:t>
                        </m:r>
                        <m:d>
                          <m:dPr>
                            <m:begChr m:val="("/>
                            <m:endChr m:val=")"/>
                          </m:dPr>
                          <m:e>
                            <m:r>
                              <m:t xml:space="preserve">3</m:t>
                            </m:r>
                            <m:r>
                              <m:rPr>
                                <m:lit/>
                                <m:nor/>
                              </m:rPr>
                              <m:t xml:space="preserve">.</m:t>
                            </m:r>
                            <m:r>
                              <m:t xml:space="preserve">7</m:t>
                            </m:r>
                            <m:r>
                              <m:t xml:space="preserve">+</m:t>
                            </m:r>
                            <m:r>
                              <m:t xml:space="preserve">3</m:t>
                            </m:r>
                            <m:r>
                              <m:rPr>
                                <m:lit/>
                                <m:nor/>
                              </m:rPr>
                              <m:t xml:space="preserve">.</m:t>
                            </m:r>
                            <m:r>
                              <m:t xml:space="preserve">7</m:t>
                            </m:r>
                            <m:r>
                              <m:t xml:space="preserve">+</m:t>
                            </m:r>
                            <m:r>
                              <m:t xml:space="preserve">3</m:t>
                            </m:r>
                            <m:r>
                              <m:rPr>
                                <m:lit/>
                                <m:nor/>
                              </m:rPr>
                              <m:t xml:space="preserve">.</m:t>
                            </m:r>
                            <m:r>
                              <m:t xml:space="preserve">7</m:t>
                            </m:r>
                            <m:r>
                              <m:t xml:space="preserve">+</m:t>
                            </m:r>
                            <m:r>
                              <m:t xml:space="preserve">3</m:t>
                            </m:r>
                            <m:r>
                              <m:rPr>
                                <m:lit/>
                                <m:nor/>
                              </m:rPr>
                              <m:t xml:space="preserve">.</m:t>
                            </m:r>
                            <m:r>
                              <m:t xml:space="preserve">7</m:t>
                            </m:r>
                          </m:e>
                        </m:d>
                        <m:r>
                          <m:t xml:space="preserve">+</m:t>
                        </m:r>
                        <m:d>
                          <m:dPr>
                            <m:begChr m:val="("/>
                            <m:endChr m:val=")"/>
                          </m:dPr>
                          <m:e>
                            <m:r>
                              <m:t xml:space="preserve">3</m:t>
                            </m:r>
                            <m:r>
                              <m:rPr>
                                <m:lit/>
                                <m:nor/>
                              </m:rPr>
                              <m:t xml:space="preserve">.</m:t>
                            </m:r>
                            <m:r>
                              <m:t xml:space="preserve">0</m:t>
                            </m:r>
                            <m:r>
                              <m:t xml:space="preserve">+</m:t>
                            </m:r>
                            <m:r>
                              <m:t xml:space="preserve">3</m:t>
                            </m:r>
                            <m:r>
                              <m:rPr>
                                <m:lit/>
                                <m:nor/>
                              </m:rPr>
                              <m:t xml:space="preserve">.</m:t>
                            </m:r>
                            <m:r>
                              <m:t xml:space="preserve">0</m:t>
                            </m:r>
                          </m:e>
                        </m:d>
                      </m:num>
                      <m:den>
                        <m:r>
                          <m:t xml:space="preserve">9</m:t>
                        </m:r>
                      </m:den>
                    </m:f>
                  </m:oMath>
                </a14:m>
              </a:p>
            </p:txBody>
          </p:sp>
        </mc:Choice>
        <mc:Fallback/>
      </mc:AlternateContent>
      <p:grpSp>
        <p:nvGrpSpPr>
          <p:cNvPr id="407" name=""/>
          <p:cNvGrpSpPr/>
          <p:nvPr/>
        </p:nvGrpSpPr>
        <p:grpSpPr>
          <a:xfrm>
            <a:off x="1143000" y="1933560"/>
            <a:ext cx="5105520" cy="3247920"/>
            <a:chOff x="1143000" y="1933560"/>
            <a:chExt cx="5105520" cy="3247920"/>
          </a:xfrm>
        </p:grpSpPr>
        <p:sp>
          <p:nvSpPr>
            <p:cNvPr id="408" name=""/>
            <p:cNvSpPr/>
            <p:nvPr/>
          </p:nvSpPr>
          <p:spPr>
            <a:xfrm>
              <a:off x="2971800" y="1933560"/>
              <a:ext cx="3276720" cy="415800"/>
            </a:xfrm>
            <a:prstGeom prst="ellipse">
              <a:avLst/>
            </a:prstGeom>
            <a:noFill/>
            <a:ln w="5724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143000" y="4267080"/>
              <a:ext cx="2266920" cy="914400"/>
            </a:xfrm>
            <a:prstGeom prst="ellipse">
              <a:avLst/>
            </a:prstGeom>
            <a:noFill/>
            <a:ln w="5724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0" name=""/>
          <p:cNvGrpSpPr/>
          <p:nvPr/>
        </p:nvGrpSpPr>
        <p:grpSpPr>
          <a:xfrm>
            <a:off x="2971800" y="2362320"/>
            <a:ext cx="3657600" cy="2819160"/>
            <a:chOff x="2971800" y="2362320"/>
            <a:chExt cx="3657600" cy="2819160"/>
          </a:xfrm>
        </p:grpSpPr>
        <p:sp>
          <p:nvSpPr>
            <p:cNvPr id="411" name=""/>
            <p:cNvSpPr/>
            <p:nvPr/>
          </p:nvSpPr>
          <p:spPr>
            <a:xfrm>
              <a:off x="2971800" y="2362320"/>
              <a:ext cx="3276720" cy="473040"/>
            </a:xfrm>
            <a:prstGeom prst="ellipse">
              <a:avLst/>
            </a:prstGeom>
            <a:noFill/>
            <a:ln w="572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676680" y="4267080"/>
              <a:ext cx="2952720" cy="914400"/>
            </a:xfrm>
            <a:prstGeom prst="ellipse">
              <a:avLst/>
            </a:prstGeom>
            <a:noFill/>
            <a:ln w="57240">
              <a:solidFill>
                <a:srgbClr val="008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2971800" y="2819520"/>
            <a:ext cx="5391000" cy="2438280"/>
            <a:chOff x="2971800" y="2819520"/>
            <a:chExt cx="5391000" cy="2438280"/>
          </a:xfrm>
        </p:grpSpPr>
        <p:sp>
          <p:nvSpPr>
            <p:cNvPr id="414" name=""/>
            <p:cNvSpPr/>
            <p:nvPr/>
          </p:nvSpPr>
          <p:spPr>
            <a:xfrm>
              <a:off x="2971800" y="2819520"/>
              <a:ext cx="3276720" cy="473040"/>
            </a:xfrm>
            <a:prstGeom prst="ellipse">
              <a:avLst/>
            </a:prstGeom>
            <a:noFill/>
            <a:ln w="57240">
              <a:solidFill>
                <a:srgbClr val="ff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6915240" y="4343400"/>
              <a:ext cx="1447560" cy="914400"/>
            </a:xfrm>
            <a:prstGeom prst="ellipse">
              <a:avLst/>
            </a:prstGeom>
            <a:noFill/>
            <a:ln w="57240">
              <a:solidFill>
                <a:srgbClr val="ff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406"/>
                                        </p:tgtEl>
                                        <p:attrNameLst>
                                          <p:attrName>style.visibility</p:attrName>
                                        </p:attrNameLst>
                                      </p:cBhvr>
                                      <p:to>
                                        <p:strVal val="visible"/>
                                      </p:to>
                                    </p:set>
                                    <p:animEffect filter="dissolve" transition="in">
                                      <p:cBhvr additive="repl">
                                        <p:cTn id="279" dur="500"/>
                                        <p:tgtEl>
                                          <p:spTgt spid="40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407"/>
                                        </p:tgtEl>
                                        <p:attrNameLst>
                                          <p:attrName>style.visibility</p:attrName>
                                        </p:attrNameLst>
                                      </p:cBhvr>
                                      <p:to>
                                        <p:strVal val="visible"/>
                                      </p:to>
                                    </p:set>
                                    <p:animEffect filter="dissolve" transition="in">
                                      <p:cBhvr additive="repl">
                                        <p:cTn id="284" dur="500"/>
                                        <p:tgtEl>
                                          <p:spTgt spid="40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410"/>
                                        </p:tgtEl>
                                        <p:attrNameLst>
                                          <p:attrName>style.visibility</p:attrName>
                                        </p:attrNameLst>
                                      </p:cBhvr>
                                      <p:to>
                                        <p:strVal val="visible"/>
                                      </p:to>
                                    </p:set>
                                    <p:animEffect filter="dissolve" transition="in">
                                      <p:cBhvr additive="repl">
                                        <p:cTn id="289" dur="500"/>
                                        <p:tgtEl>
                                          <p:spTgt spid="41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413"/>
                                        </p:tgtEl>
                                        <p:attrNameLst>
                                          <p:attrName>style.visibility</p:attrName>
                                        </p:attrNameLst>
                                      </p:cBhvr>
                                      <p:to>
                                        <p:strVal val="visible"/>
                                      </p:to>
                                    </p:set>
                                    <p:animEffect filter="dissolve" transition="in">
                                      <p:cBhvr additive="repl">
                                        <p:cTn id="294"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416" name=""/>
          <p:cNvGraphicFramePr/>
          <p:nvPr/>
        </p:nvGraphicFramePr>
        <p:xfrm>
          <a:off x="1295280" y="1397160"/>
          <a:ext cx="6629400" cy="3095640"/>
        </p:xfrm>
        <a:graphic>
          <a:graphicData uri="http://schemas.openxmlformats.org/drawingml/2006/table">
            <a:tbl>
              <a:tblPr/>
              <a:tblGrid>
                <a:gridCol w="1981440"/>
                <a:gridCol w="1371600"/>
                <a:gridCol w="1303200"/>
                <a:gridCol w="1973160"/>
              </a:tblGrid>
              <a:tr h="492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rs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 Hr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d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de Point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y 10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nish 10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erature 17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16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
        <p:nvSpPr>
          <p:cNvPr id="418" name=""/>
          <p:cNvSpPr/>
          <p:nvPr/>
        </p:nvSpPr>
        <p:spPr>
          <a:xfrm>
            <a:off x="1295280" y="3922560"/>
            <a:ext cx="1981440" cy="4971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48320" y="3922560"/>
            <a:ext cx="1295280" cy="4971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477120" y="3962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1.0</a:t>
            </a:r>
            <a:endParaRPr b="0" lang="en-US" sz="2400" spc="-1" strike="noStrike">
              <a:solidFill>
                <a:srgbClr val="000000"/>
              </a:solidFill>
              <a:latin typeface="Times New Roman"/>
            </a:endParaRPr>
          </a:p>
        </p:txBody>
      </p:sp>
      <p:grpSp>
        <p:nvGrpSpPr>
          <p:cNvPr id="421" name=""/>
          <p:cNvGrpSpPr/>
          <p:nvPr/>
        </p:nvGrpSpPr>
        <p:grpSpPr>
          <a:xfrm>
            <a:off x="2438280" y="4738680"/>
            <a:ext cx="4267440" cy="916920"/>
            <a:chOff x="2438280" y="4738680"/>
            <a:chExt cx="4267440" cy="916920"/>
          </a:xfrm>
        </p:grpSpPr>
        <p:sp>
          <p:nvSpPr>
            <p:cNvPr id="422" name=""/>
            <p:cNvSpPr/>
            <p:nvPr/>
          </p:nvSpPr>
          <p:spPr>
            <a:xfrm>
              <a:off x="2438280" y="473868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grade points</a:t>
              </a:r>
              <a:endParaRPr b="0" lang="en-US" sz="2400" spc="-1" strike="noStrike">
                <a:solidFill>
                  <a:srgbClr val="000000"/>
                </a:solidFill>
                <a:latin typeface="Times New Roman"/>
              </a:endParaRPr>
            </a:p>
          </p:txBody>
        </p:sp>
        <p:sp>
          <p:nvSpPr>
            <p:cNvPr id="423" name=""/>
            <p:cNvSpPr/>
            <p:nvPr/>
          </p:nvSpPr>
          <p:spPr>
            <a:xfrm>
              <a:off x="2819520" y="51958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cr. hrs</a:t>
              </a:r>
              <a:endParaRPr b="0" lang="en-US" sz="2400" spc="-1" strike="noStrike">
                <a:solidFill>
                  <a:srgbClr val="000000"/>
                </a:solidFill>
                <a:latin typeface="Times New Roman"/>
              </a:endParaRPr>
            </a:p>
          </p:txBody>
        </p:sp>
        <p:sp>
          <p:nvSpPr>
            <p:cNvPr id="424" name=""/>
            <p:cNvSpPr/>
            <p:nvPr/>
          </p:nvSpPr>
          <p:spPr>
            <a:xfrm>
              <a:off x="2438280" y="519588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257800" y="4981680"/>
              <a:ext cx="457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426" name=""/>
            <p:cNvSpPr/>
            <p:nvPr/>
          </p:nvSpPr>
          <p:spPr>
            <a:xfrm>
              <a:off x="5829480" y="4738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41</a:t>
              </a:r>
              <a:endParaRPr b="0" lang="en-US" sz="2400" spc="-1" strike="noStrike">
                <a:solidFill>
                  <a:srgbClr val="000000"/>
                </a:solidFill>
                <a:latin typeface="Times New Roman"/>
              </a:endParaRPr>
            </a:p>
          </p:txBody>
        </p:sp>
        <p:sp>
          <p:nvSpPr>
            <p:cNvPr id="427" name=""/>
            <p:cNvSpPr/>
            <p:nvPr/>
          </p:nvSpPr>
          <p:spPr>
            <a:xfrm>
              <a:off x="5791320" y="5195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924520" y="5195880"/>
              <a:ext cx="64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12</a:t>
              </a:r>
              <a:endParaRPr b="0" lang="en-US" sz="2400" spc="-1" strike="noStrike">
                <a:solidFill>
                  <a:srgbClr val="000000"/>
                </a:solidFill>
                <a:latin typeface="Times New Roman"/>
              </a:endParaRPr>
            </a:p>
          </p:txBody>
        </p:sp>
      </p:grpSp>
      <p:grpSp>
        <p:nvGrpSpPr>
          <p:cNvPr id="429" name=""/>
          <p:cNvGrpSpPr/>
          <p:nvPr/>
        </p:nvGrpSpPr>
        <p:grpSpPr>
          <a:xfrm>
            <a:off x="3505320" y="1949400"/>
            <a:ext cx="914400" cy="2472840"/>
            <a:chOff x="3505320" y="1949400"/>
            <a:chExt cx="914400" cy="2472840"/>
          </a:xfrm>
        </p:grpSpPr>
        <p:sp>
          <p:nvSpPr>
            <p:cNvPr id="430" name=""/>
            <p:cNvSpPr/>
            <p:nvPr/>
          </p:nvSpPr>
          <p:spPr>
            <a:xfrm>
              <a:off x="3619440" y="1949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431" name=""/>
            <p:cNvSpPr/>
            <p:nvPr/>
          </p:nvSpPr>
          <p:spPr>
            <a:xfrm>
              <a:off x="3619440" y="23907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432" name=""/>
            <p:cNvSpPr/>
            <p:nvPr/>
          </p:nvSpPr>
          <p:spPr>
            <a:xfrm>
              <a:off x="3619440" y="289548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a:t>
              </a:r>
              <a:endParaRPr b="0" lang="en-US" sz="2400" spc="-1" strike="noStrike">
                <a:solidFill>
                  <a:srgbClr val="000000"/>
                </a:solidFill>
                <a:latin typeface="Times New Roman"/>
              </a:endParaRPr>
            </a:p>
          </p:txBody>
        </p:sp>
        <p:sp>
          <p:nvSpPr>
            <p:cNvPr id="433" name=""/>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12.0</a:t>
              </a:r>
              <a:endParaRPr b="0" lang="en-US" sz="2400" spc="-1" strike="noStrike">
                <a:solidFill>
                  <a:srgbClr val="000000"/>
                </a:solidFill>
                <a:latin typeface="Times New Roman"/>
              </a:endParaRPr>
            </a:p>
          </p:txBody>
        </p:sp>
        <p:sp>
          <p:nvSpPr>
            <p:cNvPr id="434" name=""/>
            <p:cNvSpPr/>
            <p:nvPr/>
          </p:nvSpPr>
          <p:spPr>
            <a:xfrm>
              <a:off x="3619440" y="3429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grpSp>
      <p:grpSp>
        <p:nvGrpSpPr>
          <p:cNvPr id="435" name=""/>
          <p:cNvGrpSpPr/>
          <p:nvPr/>
        </p:nvGrpSpPr>
        <p:grpSpPr>
          <a:xfrm>
            <a:off x="4648320" y="1933560"/>
            <a:ext cx="2743200" cy="1955160"/>
            <a:chOff x="4648320" y="1933560"/>
            <a:chExt cx="2743200" cy="1955160"/>
          </a:xfrm>
        </p:grpSpPr>
        <p:sp>
          <p:nvSpPr>
            <p:cNvPr id="436" name=""/>
            <p:cNvSpPr/>
            <p:nvPr/>
          </p:nvSpPr>
          <p:spPr>
            <a:xfrm>
              <a:off x="4724280" y="193356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4.0</a:t>
              </a:r>
              <a:endParaRPr b="0" lang="en-US" sz="2400" spc="-1" strike="noStrike">
                <a:solidFill>
                  <a:srgbClr val="000000"/>
                </a:solidFill>
                <a:latin typeface="Times New Roman"/>
              </a:endParaRPr>
            </a:p>
          </p:txBody>
        </p:sp>
        <p:sp>
          <p:nvSpPr>
            <p:cNvPr id="437" name=""/>
            <p:cNvSpPr/>
            <p:nvPr/>
          </p:nvSpPr>
          <p:spPr>
            <a:xfrm>
              <a:off x="4724280" y="239076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4.0</a:t>
              </a:r>
              <a:endParaRPr b="0" lang="en-US" sz="2400" spc="-1" strike="noStrike">
                <a:solidFill>
                  <a:srgbClr val="000000"/>
                </a:solidFill>
                <a:latin typeface="Times New Roman"/>
              </a:endParaRPr>
            </a:p>
          </p:txBody>
        </p:sp>
        <p:sp>
          <p:nvSpPr>
            <p:cNvPr id="438" name=""/>
            <p:cNvSpPr/>
            <p:nvPr/>
          </p:nvSpPr>
          <p:spPr>
            <a:xfrm>
              <a:off x="464832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2.5</a:t>
              </a:r>
              <a:endParaRPr b="0" lang="en-US" sz="2400" spc="-1" strike="noStrike">
                <a:solidFill>
                  <a:srgbClr val="000000"/>
                </a:solidFill>
                <a:latin typeface="Times New Roman"/>
              </a:endParaRPr>
            </a:p>
          </p:txBody>
        </p:sp>
        <p:sp>
          <p:nvSpPr>
            <p:cNvPr id="439" name=""/>
            <p:cNvSpPr/>
            <p:nvPr/>
          </p:nvSpPr>
          <p:spPr>
            <a:xfrm>
              <a:off x="6477120" y="193356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2.0</a:t>
              </a:r>
              <a:endParaRPr b="0" lang="en-US" sz="2400" spc="-1" strike="noStrike">
                <a:solidFill>
                  <a:srgbClr val="000000"/>
                </a:solidFill>
                <a:latin typeface="Times New Roman"/>
              </a:endParaRPr>
            </a:p>
          </p:txBody>
        </p:sp>
        <p:sp>
          <p:nvSpPr>
            <p:cNvPr id="440" name=""/>
            <p:cNvSpPr/>
            <p:nvPr/>
          </p:nvSpPr>
          <p:spPr>
            <a:xfrm>
              <a:off x="6477120" y="239076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6.0</a:t>
              </a:r>
              <a:endParaRPr b="0" lang="en-US" sz="2400" spc="-1" strike="noStrike">
                <a:solidFill>
                  <a:srgbClr val="000000"/>
                </a:solidFill>
                <a:latin typeface="Times New Roman"/>
              </a:endParaRPr>
            </a:p>
          </p:txBody>
        </p:sp>
        <p:sp>
          <p:nvSpPr>
            <p:cNvPr id="441" name=""/>
            <p:cNvSpPr/>
            <p:nvPr/>
          </p:nvSpPr>
          <p:spPr>
            <a:xfrm>
              <a:off x="6477120" y="2895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7.0</a:t>
              </a:r>
              <a:endParaRPr b="0" lang="en-US" sz="2400" spc="-1" strike="noStrike">
                <a:solidFill>
                  <a:srgbClr val="000000"/>
                </a:solidFill>
                <a:latin typeface="Times New Roman"/>
              </a:endParaRPr>
            </a:p>
          </p:txBody>
        </p:sp>
        <p:sp>
          <p:nvSpPr>
            <p:cNvPr id="442" name=""/>
            <p:cNvSpPr/>
            <p:nvPr/>
          </p:nvSpPr>
          <p:spPr>
            <a:xfrm>
              <a:off x="4648320" y="34290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 3.0</a:t>
              </a:r>
              <a:endParaRPr b="0" lang="en-US" sz="2400" spc="-1" strike="noStrike">
                <a:solidFill>
                  <a:srgbClr val="000000"/>
                </a:solidFill>
                <a:latin typeface="Times New Roman"/>
              </a:endParaRPr>
            </a:p>
          </p:txBody>
        </p:sp>
        <p:sp>
          <p:nvSpPr>
            <p:cNvPr id="443" name=""/>
            <p:cNvSpPr/>
            <p:nvPr/>
          </p:nvSpPr>
          <p:spPr>
            <a:xfrm>
              <a:off x="6477120" y="34290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6.0</a:t>
              </a:r>
              <a:endParaRPr b="0" lang="en-US" sz="2400" spc="-1" strike="noStrike">
                <a:solidFill>
                  <a:srgbClr val="000000"/>
                </a:solidFill>
                <a:latin typeface="Times New Roman"/>
              </a:endParaRPr>
            </a:p>
          </p:txBody>
        </p:sp>
      </p:grpSp>
      <p:pic>
        <p:nvPicPr>
          <p:cNvPr id="444" name="" descr=""/>
          <p:cNvPicPr/>
          <p:nvPr/>
        </p:nvPicPr>
        <p:blipFill>
          <a:blip r:embed="rId3"/>
          <a:stretch/>
        </p:blipFill>
        <p:spPr>
          <a:xfrm>
            <a:off x="533520" y="4876920"/>
            <a:ext cx="1714320" cy="1531800"/>
          </a:xfrm>
          <a:prstGeom prst="rect">
            <a:avLst/>
          </a:prstGeom>
          <a:ln w="0">
            <a:noFill/>
          </a:ln>
        </p:spPr>
      </p:pic>
      <p:sp>
        <p:nvSpPr>
          <p:cNvPr id="445" name=""/>
          <p:cNvSpPr/>
          <p:nvPr/>
        </p:nvSpPr>
        <p:spPr>
          <a:xfrm>
            <a:off x="3602160" y="5791320"/>
            <a:ext cx="2739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PA = 3.41</a:t>
            </a:r>
            <a:endParaRPr b="0" lang="en-US" sz="4000" spc="-1" strike="noStrike">
              <a:solidFill>
                <a:srgbClr val="000000"/>
              </a:solidFill>
              <a:latin typeface="Times New Roman"/>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429"/>
                                        </p:tgtEl>
                                        <p:attrNameLst>
                                          <p:attrName>style.visibility</p:attrName>
                                        </p:attrNameLst>
                                      </p:cBhvr>
                                      <p:to>
                                        <p:strVal val="visible"/>
                                      </p:to>
                                    </p:set>
                                    <p:animEffect filter="dissolve" transition="in">
                                      <p:cBhvr additive="repl">
                                        <p:cTn id="301" dur="500"/>
                                        <p:tgtEl>
                                          <p:spTgt spid="42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435"/>
                                        </p:tgtEl>
                                        <p:attrNameLst>
                                          <p:attrName>style.visibility</p:attrName>
                                        </p:attrNameLst>
                                      </p:cBhvr>
                                      <p:to>
                                        <p:strVal val="visible"/>
                                      </p:to>
                                    </p:set>
                                    <p:animEffect filter="dissolve" transition="in">
                                      <p:cBhvr additive="repl">
                                        <p:cTn id="306" dur="500"/>
                                        <p:tgtEl>
                                          <p:spTgt spid="43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420"/>
                                        </p:tgtEl>
                                        <p:attrNameLst>
                                          <p:attrName>style.visibility</p:attrName>
                                        </p:attrNameLst>
                                      </p:cBhvr>
                                      <p:to>
                                        <p:strVal val="visible"/>
                                      </p:to>
                                    </p:set>
                                    <p:animEffect filter="dissolve" transition="in">
                                      <p:cBhvr additive="repl">
                                        <p:cTn id="311" dur="500"/>
                                        <p:tgtEl>
                                          <p:spTgt spid="42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8" presetSubtype="6">
                                  <p:stCondLst>
                                    <p:cond delay="0"/>
                                  </p:stCondLst>
                                  <p:childTnLst>
                                    <p:set>
                                      <p:cBhvr>
                                        <p:cTn id="315" dur="1" fill="hold">
                                          <p:stCondLst>
                                            <p:cond delay="0"/>
                                          </p:stCondLst>
                                        </p:cTn>
                                        <p:tgtEl>
                                          <p:spTgt spid="421"/>
                                        </p:tgtEl>
                                        <p:attrNameLst>
                                          <p:attrName>style.visibility</p:attrName>
                                        </p:attrNameLst>
                                      </p:cBhvr>
                                      <p:to>
                                        <p:strVal val="visible"/>
                                      </p:to>
                                    </p:set>
                                    <p:animEffect filter="strips(downRight)" transition="in">
                                      <p:cBhvr additive="repl">
                                        <p:cTn id="316" dur="500"/>
                                        <p:tgtEl>
                                          <p:spTgt spid="42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445"/>
                                        </p:tgtEl>
                                        <p:attrNameLst>
                                          <p:attrName>style.visibility</p:attrName>
                                        </p:attrNameLst>
                                      </p:cBhvr>
                                      <p:to>
                                        <p:strVal val="visible"/>
                                      </p:to>
                                    </p:set>
                                    <p:animEffect filter="dissolve" transition="in">
                                      <p:cBhvr additive="repl">
                                        <p:cTn id="321"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6"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
        <p:nvSpPr>
          <p:cNvPr id="447" name=""/>
          <p:cNvSpPr/>
          <p:nvPr/>
        </p:nvSpPr>
        <p:spPr>
          <a:xfrm>
            <a:off x="685800" y="1447920"/>
            <a:ext cx="8001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a:rPr>
              <a:t>Rule for weighted average</a:t>
            </a:r>
            <a:endParaRPr b="0" lang="en-US" sz="48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000160" y="2832120"/>
                <a:ext cx="4629240" cy="1434960"/>
              </a:xfrm>
              <a:prstGeom prst="rect">
                <a:avLst/>
              </a:prstGeom>
            </p:spPr>
            <p:txBody>
              <a:bodyPr/>
              <a:p>
                <a14:m>
                  <m:oMath xmlns:m="http://schemas.openxmlformats.org/officeDocument/2006/math">
                    <m:f>
                      <m:num>
                        <m:nary>
                          <m:naryPr>
                            <m:chr m:val="∑"/>
                            <m:subHide m:val="1"/>
                            <m:supHide m:val="1"/>
                          </m:naryPr>
                          <m:sub/>
                          <m:sup/>
                          <m:e>
                            <m:d>
                              <m:dPr>
                                <m:begChr m:val="("/>
                                <m:endChr m:val=")"/>
                              </m:dPr>
                              <m:e>
                                <m:r>
                                  <m:rPr>
                                    <m:lit/>
                                    <m:nor/>
                                  </m:rPr>
                                  <m:t xml:space="preserve">weight</m:t>
                                </m:r>
                              </m:e>
                            </m:d>
                            <m:d>
                              <m:dPr>
                                <m:begChr m:val="("/>
                                <m:endChr m:val=")"/>
                              </m:dPr>
                              <m:e>
                                <m:r>
                                  <m:rPr>
                                    <m:lit/>
                                    <m:nor/>
                                  </m:rPr>
                                  <m:t xml:space="preserve">quantity</m:t>
                                </m:r>
                              </m:e>
                            </m:d>
                          </m:e>
                        </m:nary>
                      </m:num>
                      <m:den>
                        <m:nary>
                          <m:naryPr>
                            <m:chr m:val="∑"/>
                            <m:subHide m:val="1"/>
                            <m:supHide m:val="1"/>
                          </m:naryPr>
                          <m:sub/>
                          <m:sup/>
                          <m:e>
                            <m:d>
                              <m:dPr>
                                <m:begChr m:val="("/>
                                <m:endChr m:val=")"/>
                              </m:dPr>
                              <m:e>
                                <m:r>
                                  <m:rPr>
                                    <m:lit/>
                                    <m:nor/>
                                  </m:rPr>
                                  <m:t xml:space="preserve">weights</m:t>
                                </m:r>
                              </m:e>
                            </m:d>
                          </m:e>
                        </m:nary>
                      </m:den>
                    </m:f>
                  </m:oMath>
                </a14:m>
              </a:p>
            </p:txBody>
          </p:sp>
        </mc:Choice>
        <mc:Fallback/>
      </mc:AlternateContent>
      <mc:AlternateContent>
        <mc:Choice xmlns:a14="http://schemas.microsoft.com/office/drawing/2010/main" Requires="a14">
          <p:sp>
            <p:nvSpPr>
              <p:cNvPr id="449" name=""/>
              <p:cNvSpPr txBox="1"/>
              <p:nvPr/>
            </p:nvSpPr>
            <p:spPr>
              <a:xfrm>
                <a:off x="2400480" y="4830840"/>
                <a:ext cx="1562040" cy="1265040"/>
              </a:xfrm>
              <a:prstGeom prst="rect">
                <a:avLst/>
              </a:prstGeom>
            </p:spPr>
            <p:txBody>
              <a:bodyPr/>
              <a:p>
                <a14:m>
                  <m:oMath xmlns:m="http://schemas.openxmlformats.org/officeDocument/2006/math">
                    <m:nary>
                      <m:naryPr>
                        <m:chr m:val="∑"/>
                        <m:subHide m:val="1"/>
                        <m:supHide m:val="1"/>
                      </m:naryPr>
                      <m:sub/>
                      <m:sup/>
                      <m:e/>
                    </m:nary>
                  </m:oMath>
                </a14:m>
              </a:p>
            </p:txBody>
          </p:sp>
        </mc:Choice>
        <mc:Fallback/>
      </mc:AlternateContent>
      <p:sp>
        <p:nvSpPr>
          <p:cNvPr id="450" name=""/>
          <p:cNvSpPr/>
          <p:nvPr/>
        </p:nvSpPr>
        <p:spPr>
          <a:xfrm>
            <a:off x="3387600" y="4941720"/>
            <a:ext cx="346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 “sum of”</a:t>
            </a:r>
            <a:endParaRPr b="0" lang="en-US" sz="5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451" name=""/>
          <p:cNvGrpSpPr/>
          <p:nvPr/>
        </p:nvGrpSpPr>
        <p:grpSpPr>
          <a:xfrm>
            <a:off x="2895480" y="2143080"/>
            <a:ext cx="3687840" cy="4334040"/>
            <a:chOff x="2895480" y="2143080"/>
            <a:chExt cx="3687840" cy="4334040"/>
          </a:xfrm>
        </p:grpSpPr>
        <p:sp>
          <p:nvSpPr>
            <p:cNvPr id="452" name=""/>
            <p:cNvSpPr/>
            <p:nvPr/>
          </p:nvSpPr>
          <p:spPr>
            <a:xfrm>
              <a:off x="2895480" y="2143080"/>
              <a:ext cx="3687840" cy="4334040"/>
            </a:xfrm>
            <a:custGeom>
              <a:avLst/>
              <a:gdLst/>
              <a:ahLst/>
              <a:rect l="l" t="t" r="r" b="b"/>
              <a:pathLst>
                <a:path w="2323" h="2730">
                  <a:moveTo>
                    <a:pt x="1182" y="2730"/>
                  </a:moveTo>
                  <a:lnTo>
                    <a:pt x="1189" y="2647"/>
                  </a:lnTo>
                  <a:lnTo>
                    <a:pt x="1196" y="2577"/>
                  </a:lnTo>
                  <a:lnTo>
                    <a:pt x="1202" y="2516"/>
                  </a:lnTo>
                  <a:lnTo>
                    <a:pt x="1207" y="2463"/>
                  </a:lnTo>
                  <a:lnTo>
                    <a:pt x="1213" y="2412"/>
                  </a:lnTo>
                  <a:lnTo>
                    <a:pt x="1218" y="2360"/>
                  </a:lnTo>
                  <a:lnTo>
                    <a:pt x="1225" y="2305"/>
                  </a:lnTo>
                  <a:lnTo>
                    <a:pt x="1233" y="2245"/>
                  </a:lnTo>
                  <a:lnTo>
                    <a:pt x="1" y="2243"/>
                  </a:lnTo>
                  <a:lnTo>
                    <a:pt x="0" y="4"/>
                  </a:lnTo>
                  <a:lnTo>
                    <a:pt x="2323" y="0"/>
                  </a:lnTo>
                  <a:lnTo>
                    <a:pt x="2323" y="2243"/>
                  </a:lnTo>
                  <a:lnTo>
                    <a:pt x="1981" y="2245"/>
                  </a:lnTo>
                  <a:lnTo>
                    <a:pt x="1992" y="2383"/>
                  </a:lnTo>
                  <a:lnTo>
                    <a:pt x="2000" y="2487"/>
                  </a:lnTo>
                  <a:lnTo>
                    <a:pt x="2006" y="2592"/>
                  </a:lnTo>
                  <a:lnTo>
                    <a:pt x="2011" y="2730"/>
                  </a:lnTo>
                  <a:lnTo>
                    <a:pt x="1182" y="273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022800" y="5556240"/>
              <a:ext cx="457200" cy="95400"/>
            </a:xfrm>
            <a:custGeom>
              <a:avLst/>
              <a:gdLst/>
              <a:ahLst/>
              <a:rect l="l" t="t" r="r" b="b"/>
              <a:pathLst>
                <a:path w="288" h="60">
                  <a:moveTo>
                    <a:pt x="10" y="60"/>
                  </a:moveTo>
                  <a:lnTo>
                    <a:pt x="0" y="1"/>
                  </a:lnTo>
                  <a:lnTo>
                    <a:pt x="288" y="0"/>
                  </a:lnTo>
                  <a:lnTo>
                    <a:pt x="288" y="59"/>
                  </a:lnTo>
                  <a:lnTo>
                    <a:pt x="10" y="60"/>
                  </a:lnTo>
                  <a:close/>
                </a:path>
              </a:pathLst>
            </a:custGeom>
            <a:solidFill>
              <a:srgbClr val="a5722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005280" y="5557680"/>
              <a:ext cx="1879560" cy="76320"/>
            </a:xfrm>
            <a:custGeom>
              <a:avLst/>
              <a:gdLst/>
              <a:ahLst/>
              <a:rect l="l" t="t" r="r" b="b"/>
              <a:pathLst>
                <a:path w="1184" h="48">
                  <a:moveTo>
                    <a:pt x="0" y="48"/>
                  </a:moveTo>
                  <a:lnTo>
                    <a:pt x="0" y="0"/>
                  </a:lnTo>
                  <a:lnTo>
                    <a:pt x="1184" y="0"/>
                  </a:lnTo>
                  <a:lnTo>
                    <a:pt x="1177" y="48"/>
                  </a:lnTo>
                  <a:lnTo>
                    <a:pt x="0" y="48"/>
                  </a:lnTo>
                  <a:close/>
                </a:path>
              </a:pathLst>
            </a:custGeom>
            <a:solidFill>
              <a:srgbClr val="a57223">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5" name=""/>
            <p:cNvSpPr/>
            <p:nvPr/>
          </p:nvSpPr>
          <p:spPr>
            <a:xfrm>
              <a:off x="6000840" y="5481720"/>
              <a:ext cx="484200" cy="23760"/>
            </a:xfrm>
            <a:custGeom>
              <a:avLst/>
              <a:gdLst/>
              <a:ahLst/>
              <a:rect l="l" t="t" r="r" b="b"/>
              <a:pathLst>
                <a:path w="305" h="15">
                  <a:moveTo>
                    <a:pt x="3" y="15"/>
                  </a:moveTo>
                  <a:lnTo>
                    <a:pt x="1" y="12"/>
                  </a:lnTo>
                  <a:lnTo>
                    <a:pt x="1" y="8"/>
                  </a:lnTo>
                  <a:lnTo>
                    <a:pt x="1" y="4"/>
                  </a:lnTo>
                  <a:lnTo>
                    <a:pt x="0" y="1"/>
                  </a:lnTo>
                  <a:lnTo>
                    <a:pt x="305" y="0"/>
                  </a:lnTo>
                  <a:lnTo>
                    <a:pt x="305" y="15"/>
                  </a:lnTo>
                  <a:lnTo>
                    <a:pt x="3" y="15"/>
                  </a:lnTo>
                  <a:close/>
                </a:path>
              </a:pathLst>
            </a:custGeom>
            <a:solidFill>
              <a:srgbClr val="dbc4af">
                <a:alpha val="50000"/>
              </a:srgbClr>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6" name=""/>
            <p:cNvSpPr/>
            <p:nvPr/>
          </p:nvSpPr>
          <p:spPr>
            <a:xfrm>
              <a:off x="3641760" y="5495760"/>
              <a:ext cx="392040" cy="22320"/>
            </a:xfrm>
            <a:custGeom>
              <a:avLst/>
              <a:gdLst/>
              <a:ahLst/>
              <a:rect l="l" t="t" r="r" b="b"/>
              <a:pathLst>
                <a:path w="247" h="14">
                  <a:moveTo>
                    <a:pt x="0" y="9"/>
                  </a:moveTo>
                  <a:lnTo>
                    <a:pt x="5" y="0"/>
                  </a:lnTo>
                  <a:lnTo>
                    <a:pt x="247" y="3"/>
                  </a:lnTo>
                  <a:lnTo>
                    <a:pt x="246" y="6"/>
                  </a:lnTo>
                  <a:lnTo>
                    <a:pt x="246" y="9"/>
                  </a:lnTo>
                  <a:lnTo>
                    <a:pt x="246" y="11"/>
                  </a:lnTo>
                  <a:lnTo>
                    <a:pt x="246" y="14"/>
                  </a:lnTo>
                  <a:lnTo>
                    <a:pt x="0" y="9"/>
                  </a:lnTo>
                  <a:close/>
                </a:path>
              </a:pathLst>
            </a:custGeom>
            <a:solidFill>
              <a:srgbClr val="727272">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7" name=""/>
            <p:cNvSpPr/>
            <p:nvPr/>
          </p:nvSpPr>
          <p:spPr>
            <a:xfrm>
              <a:off x="4073400" y="5437080"/>
              <a:ext cx="147600" cy="68400"/>
            </a:xfrm>
            <a:custGeom>
              <a:avLst/>
              <a:gdLst/>
              <a:ahLst/>
              <a:rect l="l" t="t" r="r" b="b"/>
              <a:pathLst>
                <a:path w="93" h="43">
                  <a:moveTo>
                    <a:pt x="0" y="36"/>
                  </a:moveTo>
                  <a:lnTo>
                    <a:pt x="84" y="0"/>
                  </a:lnTo>
                  <a:lnTo>
                    <a:pt x="93" y="12"/>
                  </a:lnTo>
                  <a:lnTo>
                    <a:pt x="10" y="43"/>
                  </a:lnTo>
                  <a:lnTo>
                    <a:pt x="0" y="36"/>
                  </a:lnTo>
                  <a:close/>
                </a:path>
              </a:pathLst>
            </a:custGeom>
            <a:solidFill>
              <a:srgbClr val="727272">
                <a:alpha val="50000"/>
              </a:srgbClr>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8" name=""/>
            <p:cNvSpPr/>
            <p:nvPr/>
          </p:nvSpPr>
          <p:spPr>
            <a:xfrm>
              <a:off x="4281480" y="5446800"/>
              <a:ext cx="609480" cy="31680"/>
            </a:xfrm>
            <a:custGeom>
              <a:avLst/>
              <a:gdLst/>
              <a:ahLst/>
              <a:rect l="l" t="t" r="r" b="b"/>
              <a:pathLst>
                <a:path w="384" h="20">
                  <a:moveTo>
                    <a:pt x="378" y="20"/>
                  </a:moveTo>
                  <a:lnTo>
                    <a:pt x="2" y="20"/>
                  </a:lnTo>
                  <a:lnTo>
                    <a:pt x="2" y="19"/>
                  </a:lnTo>
                  <a:lnTo>
                    <a:pt x="3" y="16"/>
                  </a:lnTo>
                  <a:lnTo>
                    <a:pt x="4" y="13"/>
                  </a:lnTo>
                  <a:lnTo>
                    <a:pt x="4" y="11"/>
                  </a:lnTo>
                  <a:lnTo>
                    <a:pt x="0" y="0"/>
                  </a:lnTo>
                  <a:lnTo>
                    <a:pt x="384" y="1"/>
                  </a:lnTo>
                  <a:lnTo>
                    <a:pt x="378" y="20"/>
                  </a:lnTo>
                  <a:close/>
                </a:path>
              </a:pathLst>
            </a:custGeom>
            <a:solidFill>
              <a:srgbClr val="dbc4af">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3722760" y="5452920"/>
              <a:ext cx="264960" cy="22320"/>
            </a:xfrm>
            <a:custGeom>
              <a:avLst/>
              <a:gdLst/>
              <a:ahLst/>
              <a:rect l="l" t="t" r="r" b="b"/>
              <a:pathLst>
                <a:path w="167" h="14">
                  <a:moveTo>
                    <a:pt x="0" y="14"/>
                  </a:moveTo>
                  <a:lnTo>
                    <a:pt x="0" y="0"/>
                  </a:lnTo>
                  <a:lnTo>
                    <a:pt x="21" y="2"/>
                  </a:lnTo>
                  <a:lnTo>
                    <a:pt x="42" y="5"/>
                  </a:lnTo>
                  <a:lnTo>
                    <a:pt x="63" y="5"/>
                  </a:lnTo>
                  <a:lnTo>
                    <a:pt x="82" y="5"/>
                  </a:lnTo>
                  <a:lnTo>
                    <a:pt x="103" y="5"/>
                  </a:lnTo>
                  <a:lnTo>
                    <a:pt x="122" y="5"/>
                  </a:lnTo>
                  <a:lnTo>
                    <a:pt x="143" y="4"/>
                  </a:lnTo>
                  <a:lnTo>
                    <a:pt x="165" y="2"/>
                  </a:lnTo>
                  <a:lnTo>
                    <a:pt x="166" y="7"/>
                  </a:lnTo>
                  <a:lnTo>
                    <a:pt x="167" y="9"/>
                  </a:lnTo>
                  <a:lnTo>
                    <a:pt x="167" y="11"/>
                  </a:lnTo>
                  <a:lnTo>
                    <a:pt x="166" y="14"/>
                  </a:lnTo>
                  <a:lnTo>
                    <a:pt x="0" y="14"/>
                  </a:lnTo>
                  <a:close/>
                </a:path>
              </a:pathLst>
            </a:custGeom>
            <a:solidFill>
              <a:srgbClr val="b50a07">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0" name=""/>
            <p:cNvSpPr/>
            <p:nvPr/>
          </p:nvSpPr>
          <p:spPr>
            <a:xfrm>
              <a:off x="4084560" y="5383080"/>
              <a:ext cx="81000" cy="76320"/>
            </a:xfrm>
            <a:custGeom>
              <a:avLst/>
              <a:gdLst/>
              <a:ahLst/>
              <a:rect l="l" t="t" r="r" b="b"/>
              <a:pathLst>
                <a:path w="51" h="48">
                  <a:moveTo>
                    <a:pt x="0" y="48"/>
                  </a:moveTo>
                  <a:lnTo>
                    <a:pt x="1" y="20"/>
                  </a:lnTo>
                  <a:lnTo>
                    <a:pt x="46" y="0"/>
                  </a:lnTo>
                  <a:lnTo>
                    <a:pt x="51" y="22"/>
                  </a:lnTo>
                  <a:lnTo>
                    <a:pt x="0" y="48"/>
                  </a:lnTo>
                  <a:close/>
                </a:path>
              </a:pathLst>
            </a:custGeom>
            <a:solidFill>
              <a:srgbClr val="b50a07">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1" name=""/>
            <p:cNvSpPr/>
            <p:nvPr/>
          </p:nvSpPr>
          <p:spPr>
            <a:xfrm>
              <a:off x="3006720" y="5424480"/>
              <a:ext cx="628560" cy="39600"/>
            </a:xfrm>
            <a:custGeom>
              <a:avLst/>
              <a:gdLst/>
              <a:ahLst/>
              <a:rect l="l" t="t" r="r" b="b"/>
              <a:pathLst>
                <a:path w="396" h="25">
                  <a:moveTo>
                    <a:pt x="0" y="25"/>
                  </a:moveTo>
                  <a:lnTo>
                    <a:pt x="0" y="1"/>
                  </a:lnTo>
                  <a:lnTo>
                    <a:pt x="396" y="0"/>
                  </a:lnTo>
                  <a:lnTo>
                    <a:pt x="393" y="5"/>
                  </a:lnTo>
                  <a:lnTo>
                    <a:pt x="389" y="12"/>
                  </a:lnTo>
                  <a:lnTo>
                    <a:pt x="385" y="20"/>
                  </a:lnTo>
                  <a:lnTo>
                    <a:pt x="382" y="25"/>
                  </a:lnTo>
                  <a:lnTo>
                    <a:pt x="0" y="25"/>
                  </a:lnTo>
                  <a:close/>
                </a:path>
              </a:pathLst>
            </a:custGeom>
            <a:solidFill>
              <a:srgbClr val="dbc4af">
                <a:alpha val="50000"/>
              </a:srgbClr>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2" name=""/>
            <p:cNvSpPr/>
            <p:nvPr/>
          </p:nvSpPr>
          <p:spPr>
            <a:xfrm>
              <a:off x="2995560" y="2268360"/>
              <a:ext cx="3490920" cy="3168720"/>
            </a:xfrm>
            <a:custGeom>
              <a:avLst/>
              <a:gdLst/>
              <a:ahLst/>
              <a:rect l="l" t="t" r="r" b="b"/>
              <a:pathLst>
                <a:path w="2199" h="1996">
                  <a:moveTo>
                    <a:pt x="1894" y="1996"/>
                  </a:moveTo>
                  <a:lnTo>
                    <a:pt x="1892" y="1966"/>
                  </a:lnTo>
                  <a:lnTo>
                    <a:pt x="1886" y="1938"/>
                  </a:lnTo>
                  <a:lnTo>
                    <a:pt x="1881" y="1912"/>
                  </a:lnTo>
                  <a:lnTo>
                    <a:pt x="1874" y="1887"/>
                  </a:lnTo>
                  <a:lnTo>
                    <a:pt x="1865" y="1861"/>
                  </a:lnTo>
                  <a:lnTo>
                    <a:pt x="1856" y="1836"/>
                  </a:lnTo>
                  <a:lnTo>
                    <a:pt x="1845" y="1810"/>
                  </a:lnTo>
                  <a:lnTo>
                    <a:pt x="1832" y="1782"/>
                  </a:lnTo>
                  <a:lnTo>
                    <a:pt x="1825" y="1758"/>
                  </a:lnTo>
                  <a:lnTo>
                    <a:pt x="1823" y="1740"/>
                  </a:lnTo>
                  <a:lnTo>
                    <a:pt x="1823" y="1723"/>
                  </a:lnTo>
                  <a:lnTo>
                    <a:pt x="1824" y="1697"/>
                  </a:lnTo>
                  <a:lnTo>
                    <a:pt x="1832" y="1684"/>
                  </a:lnTo>
                  <a:lnTo>
                    <a:pt x="1839" y="1672"/>
                  </a:lnTo>
                  <a:lnTo>
                    <a:pt x="1845" y="1660"/>
                  </a:lnTo>
                  <a:lnTo>
                    <a:pt x="1853" y="1649"/>
                  </a:lnTo>
                  <a:lnTo>
                    <a:pt x="1867" y="1651"/>
                  </a:lnTo>
                  <a:lnTo>
                    <a:pt x="1882" y="1654"/>
                  </a:lnTo>
                  <a:lnTo>
                    <a:pt x="1899" y="1656"/>
                  </a:lnTo>
                  <a:lnTo>
                    <a:pt x="1917" y="1657"/>
                  </a:lnTo>
                  <a:lnTo>
                    <a:pt x="1934" y="1657"/>
                  </a:lnTo>
                  <a:lnTo>
                    <a:pt x="1952" y="1656"/>
                  </a:lnTo>
                  <a:lnTo>
                    <a:pt x="1972" y="1654"/>
                  </a:lnTo>
                  <a:lnTo>
                    <a:pt x="1991" y="1651"/>
                  </a:lnTo>
                  <a:lnTo>
                    <a:pt x="2009" y="1647"/>
                  </a:lnTo>
                  <a:lnTo>
                    <a:pt x="2025" y="1640"/>
                  </a:lnTo>
                  <a:lnTo>
                    <a:pt x="2042" y="1633"/>
                  </a:lnTo>
                  <a:lnTo>
                    <a:pt x="2057" y="1625"/>
                  </a:lnTo>
                  <a:lnTo>
                    <a:pt x="2070" y="1614"/>
                  </a:lnTo>
                  <a:lnTo>
                    <a:pt x="2081" y="1600"/>
                  </a:lnTo>
                  <a:lnTo>
                    <a:pt x="2090" y="1585"/>
                  </a:lnTo>
                  <a:lnTo>
                    <a:pt x="2096" y="1569"/>
                  </a:lnTo>
                  <a:lnTo>
                    <a:pt x="2100" y="1526"/>
                  </a:lnTo>
                  <a:lnTo>
                    <a:pt x="2100" y="1491"/>
                  </a:lnTo>
                  <a:lnTo>
                    <a:pt x="2099" y="1456"/>
                  </a:lnTo>
                  <a:lnTo>
                    <a:pt x="2093" y="1416"/>
                  </a:lnTo>
                  <a:lnTo>
                    <a:pt x="2094" y="1377"/>
                  </a:lnTo>
                  <a:lnTo>
                    <a:pt x="2096" y="1340"/>
                  </a:lnTo>
                  <a:lnTo>
                    <a:pt x="2094" y="1301"/>
                  </a:lnTo>
                  <a:lnTo>
                    <a:pt x="2089" y="1260"/>
                  </a:lnTo>
                  <a:lnTo>
                    <a:pt x="2083" y="1238"/>
                  </a:lnTo>
                  <a:lnTo>
                    <a:pt x="2075" y="1216"/>
                  </a:lnTo>
                  <a:lnTo>
                    <a:pt x="2067" y="1196"/>
                  </a:lnTo>
                  <a:lnTo>
                    <a:pt x="2059" y="1176"/>
                  </a:lnTo>
                  <a:lnTo>
                    <a:pt x="2048" y="1156"/>
                  </a:lnTo>
                  <a:lnTo>
                    <a:pt x="2038" y="1136"/>
                  </a:lnTo>
                  <a:lnTo>
                    <a:pt x="2025" y="1114"/>
                  </a:lnTo>
                  <a:lnTo>
                    <a:pt x="2013" y="1090"/>
                  </a:lnTo>
                  <a:lnTo>
                    <a:pt x="2005" y="1064"/>
                  </a:lnTo>
                  <a:lnTo>
                    <a:pt x="1999" y="1041"/>
                  </a:lnTo>
                  <a:lnTo>
                    <a:pt x="1994" y="1017"/>
                  </a:lnTo>
                  <a:lnTo>
                    <a:pt x="1990" y="995"/>
                  </a:lnTo>
                  <a:lnTo>
                    <a:pt x="1985" y="973"/>
                  </a:lnTo>
                  <a:lnTo>
                    <a:pt x="1981" y="951"/>
                  </a:lnTo>
                  <a:lnTo>
                    <a:pt x="1976" y="929"/>
                  </a:lnTo>
                  <a:lnTo>
                    <a:pt x="1969" y="905"/>
                  </a:lnTo>
                  <a:lnTo>
                    <a:pt x="1950" y="886"/>
                  </a:lnTo>
                  <a:lnTo>
                    <a:pt x="1929" y="871"/>
                  </a:lnTo>
                  <a:lnTo>
                    <a:pt x="1908" y="859"/>
                  </a:lnTo>
                  <a:lnTo>
                    <a:pt x="1888" y="849"/>
                  </a:lnTo>
                  <a:lnTo>
                    <a:pt x="1864" y="841"/>
                  </a:lnTo>
                  <a:lnTo>
                    <a:pt x="1841" y="830"/>
                  </a:lnTo>
                  <a:lnTo>
                    <a:pt x="1816" y="817"/>
                  </a:lnTo>
                  <a:lnTo>
                    <a:pt x="1788" y="801"/>
                  </a:lnTo>
                  <a:lnTo>
                    <a:pt x="1792" y="802"/>
                  </a:lnTo>
                  <a:lnTo>
                    <a:pt x="1798" y="801"/>
                  </a:lnTo>
                  <a:lnTo>
                    <a:pt x="1806" y="798"/>
                  </a:lnTo>
                  <a:lnTo>
                    <a:pt x="1816" y="792"/>
                  </a:lnTo>
                  <a:lnTo>
                    <a:pt x="1827" y="787"/>
                  </a:lnTo>
                  <a:lnTo>
                    <a:pt x="1838" y="780"/>
                  </a:lnTo>
                  <a:lnTo>
                    <a:pt x="1849" y="772"/>
                  </a:lnTo>
                  <a:lnTo>
                    <a:pt x="1859" y="762"/>
                  </a:lnTo>
                  <a:lnTo>
                    <a:pt x="1877" y="739"/>
                  </a:lnTo>
                  <a:lnTo>
                    <a:pt x="1890" y="719"/>
                  </a:lnTo>
                  <a:lnTo>
                    <a:pt x="1900" y="701"/>
                  </a:lnTo>
                  <a:lnTo>
                    <a:pt x="1908" y="685"/>
                  </a:lnTo>
                  <a:lnTo>
                    <a:pt x="1914" y="666"/>
                  </a:lnTo>
                  <a:lnTo>
                    <a:pt x="1918" y="645"/>
                  </a:lnTo>
                  <a:lnTo>
                    <a:pt x="1922" y="621"/>
                  </a:lnTo>
                  <a:lnTo>
                    <a:pt x="1926" y="591"/>
                  </a:lnTo>
                  <a:lnTo>
                    <a:pt x="1925" y="566"/>
                  </a:lnTo>
                  <a:lnTo>
                    <a:pt x="1923" y="541"/>
                  </a:lnTo>
                  <a:lnTo>
                    <a:pt x="1921" y="517"/>
                  </a:lnTo>
                  <a:lnTo>
                    <a:pt x="1917" y="493"/>
                  </a:lnTo>
                  <a:lnTo>
                    <a:pt x="1910" y="471"/>
                  </a:lnTo>
                  <a:lnTo>
                    <a:pt x="1901" y="449"/>
                  </a:lnTo>
                  <a:lnTo>
                    <a:pt x="1890" y="430"/>
                  </a:lnTo>
                  <a:lnTo>
                    <a:pt x="1877" y="412"/>
                  </a:lnTo>
                  <a:lnTo>
                    <a:pt x="1867" y="408"/>
                  </a:lnTo>
                  <a:lnTo>
                    <a:pt x="1857" y="402"/>
                  </a:lnTo>
                  <a:lnTo>
                    <a:pt x="1846" y="398"/>
                  </a:lnTo>
                  <a:lnTo>
                    <a:pt x="1835" y="394"/>
                  </a:lnTo>
                  <a:lnTo>
                    <a:pt x="1823" y="391"/>
                  </a:lnTo>
                  <a:lnTo>
                    <a:pt x="1812" y="390"/>
                  </a:lnTo>
                  <a:lnTo>
                    <a:pt x="1801" y="388"/>
                  </a:lnTo>
                  <a:lnTo>
                    <a:pt x="1791" y="390"/>
                  </a:lnTo>
                  <a:lnTo>
                    <a:pt x="1791" y="370"/>
                  </a:lnTo>
                  <a:lnTo>
                    <a:pt x="1788" y="357"/>
                  </a:lnTo>
                  <a:lnTo>
                    <a:pt x="1784" y="342"/>
                  </a:lnTo>
                  <a:lnTo>
                    <a:pt x="1776" y="324"/>
                  </a:lnTo>
                  <a:lnTo>
                    <a:pt x="1770" y="319"/>
                  </a:lnTo>
                  <a:lnTo>
                    <a:pt x="1766" y="315"/>
                  </a:lnTo>
                  <a:lnTo>
                    <a:pt x="1761" y="311"/>
                  </a:lnTo>
                  <a:lnTo>
                    <a:pt x="1756" y="307"/>
                  </a:lnTo>
                  <a:lnTo>
                    <a:pt x="1751" y="304"/>
                  </a:lnTo>
                  <a:lnTo>
                    <a:pt x="1747" y="302"/>
                  </a:lnTo>
                  <a:lnTo>
                    <a:pt x="1741" y="299"/>
                  </a:lnTo>
                  <a:lnTo>
                    <a:pt x="1734" y="296"/>
                  </a:lnTo>
                  <a:lnTo>
                    <a:pt x="1729" y="277"/>
                  </a:lnTo>
                  <a:lnTo>
                    <a:pt x="1721" y="262"/>
                  </a:lnTo>
                  <a:lnTo>
                    <a:pt x="1711" y="249"/>
                  </a:lnTo>
                  <a:lnTo>
                    <a:pt x="1699" y="235"/>
                  </a:lnTo>
                  <a:lnTo>
                    <a:pt x="1689" y="227"/>
                  </a:lnTo>
                  <a:lnTo>
                    <a:pt x="1681" y="222"/>
                  </a:lnTo>
                  <a:lnTo>
                    <a:pt x="1672" y="215"/>
                  </a:lnTo>
                  <a:lnTo>
                    <a:pt x="1664" y="209"/>
                  </a:lnTo>
                  <a:lnTo>
                    <a:pt x="1656" y="205"/>
                  </a:lnTo>
                  <a:lnTo>
                    <a:pt x="1646" y="201"/>
                  </a:lnTo>
                  <a:lnTo>
                    <a:pt x="1636" y="197"/>
                  </a:lnTo>
                  <a:lnTo>
                    <a:pt x="1625" y="193"/>
                  </a:lnTo>
                  <a:lnTo>
                    <a:pt x="1612" y="191"/>
                  </a:lnTo>
                  <a:lnTo>
                    <a:pt x="1598" y="190"/>
                  </a:lnTo>
                  <a:lnTo>
                    <a:pt x="1585" y="190"/>
                  </a:lnTo>
                  <a:lnTo>
                    <a:pt x="1573" y="190"/>
                  </a:lnTo>
                  <a:lnTo>
                    <a:pt x="1562" y="193"/>
                  </a:lnTo>
                  <a:lnTo>
                    <a:pt x="1551" y="194"/>
                  </a:lnTo>
                  <a:lnTo>
                    <a:pt x="1540" y="197"/>
                  </a:lnTo>
                  <a:lnTo>
                    <a:pt x="1529" y="201"/>
                  </a:lnTo>
                  <a:lnTo>
                    <a:pt x="1521" y="198"/>
                  </a:lnTo>
                  <a:lnTo>
                    <a:pt x="1512" y="197"/>
                  </a:lnTo>
                  <a:lnTo>
                    <a:pt x="1505" y="195"/>
                  </a:lnTo>
                  <a:lnTo>
                    <a:pt x="1499" y="194"/>
                  </a:lnTo>
                  <a:lnTo>
                    <a:pt x="1490" y="194"/>
                  </a:lnTo>
                  <a:lnTo>
                    <a:pt x="1482" y="194"/>
                  </a:lnTo>
                  <a:lnTo>
                    <a:pt x="1474" y="194"/>
                  </a:lnTo>
                  <a:lnTo>
                    <a:pt x="1463" y="195"/>
                  </a:lnTo>
                  <a:lnTo>
                    <a:pt x="1450" y="200"/>
                  </a:lnTo>
                  <a:lnTo>
                    <a:pt x="1439" y="202"/>
                  </a:lnTo>
                  <a:lnTo>
                    <a:pt x="1430" y="208"/>
                  </a:lnTo>
                  <a:lnTo>
                    <a:pt x="1420" y="213"/>
                  </a:lnTo>
                  <a:lnTo>
                    <a:pt x="1412" y="222"/>
                  </a:lnTo>
                  <a:lnTo>
                    <a:pt x="1403" y="231"/>
                  </a:lnTo>
                  <a:lnTo>
                    <a:pt x="1394" y="244"/>
                  </a:lnTo>
                  <a:lnTo>
                    <a:pt x="1383" y="259"/>
                  </a:lnTo>
                  <a:lnTo>
                    <a:pt x="1377" y="262"/>
                  </a:lnTo>
                  <a:lnTo>
                    <a:pt x="1373" y="263"/>
                  </a:lnTo>
                  <a:lnTo>
                    <a:pt x="1367" y="266"/>
                  </a:lnTo>
                  <a:lnTo>
                    <a:pt x="1362" y="268"/>
                  </a:lnTo>
                  <a:lnTo>
                    <a:pt x="1356" y="271"/>
                  </a:lnTo>
                  <a:lnTo>
                    <a:pt x="1350" y="274"/>
                  </a:lnTo>
                  <a:lnTo>
                    <a:pt x="1343" y="278"/>
                  </a:lnTo>
                  <a:lnTo>
                    <a:pt x="1336" y="282"/>
                  </a:lnTo>
                  <a:lnTo>
                    <a:pt x="1325" y="292"/>
                  </a:lnTo>
                  <a:lnTo>
                    <a:pt x="1318" y="306"/>
                  </a:lnTo>
                  <a:lnTo>
                    <a:pt x="1314" y="321"/>
                  </a:lnTo>
                  <a:lnTo>
                    <a:pt x="1315" y="336"/>
                  </a:lnTo>
                  <a:lnTo>
                    <a:pt x="1319" y="342"/>
                  </a:lnTo>
                  <a:lnTo>
                    <a:pt x="1325" y="347"/>
                  </a:lnTo>
                  <a:lnTo>
                    <a:pt x="1329" y="355"/>
                  </a:lnTo>
                  <a:lnTo>
                    <a:pt x="1332" y="362"/>
                  </a:lnTo>
                  <a:lnTo>
                    <a:pt x="1325" y="377"/>
                  </a:lnTo>
                  <a:lnTo>
                    <a:pt x="1321" y="388"/>
                  </a:lnTo>
                  <a:lnTo>
                    <a:pt x="1321" y="399"/>
                  </a:lnTo>
                  <a:lnTo>
                    <a:pt x="1322" y="415"/>
                  </a:lnTo>
                  <a:lnTo>
                    <a:pt x="1323" y="431"/>
                  </a:lnTo>
                  <a:lnTo>
                    <a:pt x="1326" y="441"/>
                  </a:lnTo>
                  <a:lnTo>
                    <a:pt x="1326" y="449"/>
                  </a:lnTo>
                  <a:lnTo>
                    <a:pt x="1321" y="459"/>
                  </a:lnTo>
                  <a:lnTo>
                    <a:pt x="1321" y="474"/>
                  </a:lnTo>
                  <a:lnTo>
                    <a:pt x="1321" y="484"/>
                  </a:lnTo>
                  <a:lnTo>
                    <a:pt x="1319" y="495"/>
                  </a:lnTo>
                  <a:lnTo>
                    <a:pt x="1318" y="510"/>
                  </a:lnTo>
                  <a:lnTo>
                    <a:pt x="1319" y="518"/>
                  </a:lnTo>
                  <a:lnTo>
                    <a:pt x="1321" y="526"/>
                  </a:lnTo>
                  <a:lnTo>
                    <a:pt x="1322" y="536"/>
                  </a:lnTo>
                  <a:lnTo>
                    <a:pt x="1323" y="544"/>
                  </a:lnTo>
                  <a:lnTo>
                    <a:pt x="1322" y="552"/>
                  </a:lnTo>
                  <a:lnTo>
                    <a:pt x="1319" y="561"/>
                  </a:lnTo>
                  <a:lnTo>
                    <a:pt x="1318" y="570"/>
                  </a:lnTo>
                  <a:lnTo>
                    <a:pt x="1315" y="579"/>
                  </a:lnTo>
                  <a:lnTo>
                    <a:pt x="1312" y="583"/>
                  </a:lnTo>
                  <a:lnTo>
                    <a:pt x="1307" y="590"/>
                  </a:lnTo>
                  <a:lnTo>
                    <a:pt x="1299" y="598"/>
                  </a:lnTo>
                  <a:lnTo>
                    <a:pt x="1285" y="609"/>
                  </a:lnTo>
                  <a:lnTo>
                    <a:pt x="1282" y="635"/>
                  </a:lnTo>
                  <a:lnTo>
                    <a:pt x="1281" y="656"/>
                  </a:lnTo>
                  <a:lnTo>
                    <a:pt x="1278" y="675"/>
                  </a:lnTo>
                  <a:lnTo>
                    <a:pt x="1270" y="696"/>
                  </a:lnTo>
                  <a:lnTo>
                    <a:pt x="1274" y="717"/>
                  </a:lnTo>
                  <a:lnTo>
                    <a:pt x="1285" y="736"/>
                  </a:lnTo>
                  <a:lnTo>
                    <a:pt x="1300" y="752"/>
                  </a:lnTo>
                  <a:lnTo>
                    <a:pt x="1316" y="769"/>
                  </a:lnTo>
                  <a:lnTo>
                    <a:pt x="1334" y="781"/>
                  </a:lnTo>
                  <a:lnTo>
                    <a:pt x="1348" y="791"/>
                  </a:lnTo>
                  <a:lnTo>
                    <a:pt x="1359" y="798"/>
                  </a:lnTo>
                  <a:lnTo>
                    <a:pt x="1362" y="801"/>
                  </a:lnTo>
                  <a:lnTo>
                    <a:pt x="1344" y="809"/>
                  </a:lnTo>
                  <a:lnTo>
                    <a:pt x="1327" y="817"/>
                  </a:lnTo>
                  <a:lnTo>
                    <a:pt x="1310" y="825"/>
                  </a:lnTo>
                  <a:lnTo>
                    <a:pt x="1294" y="834"/>
                  </a:lnTo>
                  <a:lnTo>
                    <a:pt x="1279" y="842"/>
                  </a:lnTo>
                  <a:lnTo>
                    <a:pt x="1265" y="850"/>
                  </a:lnTo>
                  <a:lnTo>
                    <a:pt x="1253" y="860"/>
                  </a:lnTo>
                  <a:lnTo>
                    <a:pt x="1243" y="868"/>
                  </a:lnTo>
                  <a:lnTo>
                    <a:pt x="1230" y="900"/>
                  </a:lnTo>
                  <a:lnTo>
                    <a:pt x="1221" y="925"/>
                  </a:lnTo>
                  <a:lnTo>
                    <a:pt x="1216" y="951"/>
                  </a:lnTo>
                  <a:lnTo>
                    <a:pt x="1212" y="985"/>
                  </a:lnTo>
                  <a:lnTo>
                    <a:pt x="1205" y="999"/>
                  </a:lnTo>
                  <a:lnTo>
                    <a:pt x="1198" y="1010"/>
                  </a:lnTo>
                  <a:lnTo>
                    <a:pt x="1188" y="1025"/>
                  </a:lnTo>
                  <a:lnTo>
                    <a:pt x="1173" y="1047"/>
                  </a:lnTo>
                  <a:lnTo>
                    <a:pt x="1167" y="1063"/>
                  </a:lnTo>
                  <a:lnTo>
                    <a:pt x="1159" y="1081"/>
                  </a:lnTo>
                  <a:lnTo>
                    <a:pt x="1150" y="1098"/>
                  </a:lnTo>
                  <a:lnTo>
                    <a:pt x="1141" y="1110"/>
                  </a:lnTo>
                  <a:lnTo>
                    <a:pt x="1126" y="1096"/>
                  </a:lnTo>
                  <a:lnTo>
                    <a:pt x="1114" y="1085"/>
                  </a:lnTo>
                  <a:lnTo>
                    <a:pt x="1101" y="1074"/>
                  </a:lnTo>
                  <a:lnTo>
                    <a:pt x="1089" y="1064"/>
                  </a:lnTo>
                  <a:lnTo>
                    <a:pt x="1075" y="1054"/>
                  </a:lnTo>
                  <a:lnTo>
                    <a:pt x="1061" y="1046"/>
                  </a:lnTo>
                  <a:lnTo>
                    <a:pt x="1045" y="1038"/>
                  </a:lnTo>
                  <a:lnTo>
                    <a:pt x="1027" y="1030"/>
                  </a:lnTo>
                  <a:lnTo>
                    <a:pt x="1013" y="1024"/>
                  </a:lnTo>
                  <a:lnTo>
                    <a:pt x="1002" y="1020"/>
                  </a:lnTo>
                  <a:lnTo>
                    <a:pt x="994" y="1017"/>
                  </a:lnTo>
                  <a:lnTo>
                    <a:pt x="987" y="1013"/>
                  </a:lnTo>
                  <a:lnTo>
                    <a:pt x="981" y="1010"/>
                  </a:lnTo>
                  <a:lnTo>
                    <a:pt x="977" y="1007"/>
                  </a:lnTo>
                  <a:lnTo>
                    <a:pt x="972" y="1005"/>
                  </a:lnTo>
                  <a:lnTo>
                    <a:pt x="966" y="1002"/>
                  </a:lnTo>
                  <a:lnTo>
                    <a:pt x="955" y="995"/>
                  </a:lnTo>
                  <a:lnTo>
                    <a:pt x="945" y="990"/>
                  </a:lnTo>
                  <a:lnTo>
                    <a:pt x="934" y="984"/>
                  </a:lnTo>
                  <a:lnTo>
                    <a:pt x="925" y="980"/>
                  </a:lnTo>
                  <a:lnTo>
                    <a:pt x="915" y="974"/>
                  </a:lnTo>
                  <a:lnTo>
                    <a:pt x="905" y="970"/>
                  </a:lnTo>
                  <a:lnTo>
                    <a:pt x="894" y="965"/>
                  </a:lnTo>
                  <a:lnTo>
                    <a:pt x="882" y="958"/>
                  </a:lnTo>
                  <a:lnTo>
                    <a:pt x="875" y="955"/>
                  </a:lnTo>
                  <a:lnTo>
                    <a:pt x="868" y="954"/>
                  </a:lnTo>
                  <a:lnTo>
                    <a:pt x="860" y="951"/>
                  </a:lnTo>
                  <a:lnTo>
                    <a:pt x="852" y="950"/>
                  </a:lnTo>
                  <a:lnTo>
                    <a:pt x="843" y="948"/>
                  </a:lnTo>
                  <a:lnTo>
                    <a:pt x="835" y="947"/>
                  </a:lnTo>
                  <a:lnTo>
                    <a:pt x="827" y="947"/>
                  </a:lnTo>
                  <a:lnTo>
                    <a:pt x="817" y="947"/>
                  </a:lnTo>
                  <a:lnTo>
                    <a:pt x="810" y="947"/>
                  </a:lnTo>
                  <a:lnTo>
                    <a:pt x="803" y="947"/>
                  </a:lnTo>
                  <a:lnTo>
                    <a:pt x="795" y="947"/>
                  </a:lnTo>
                  <a:lnTo>
                    <a:pt x="788" y="947"/>
                  </a:lnTo>
                  <a:lnTo>
                    <a:pt x="774" y="951"/>
                  </a:lnTo>
                  <a:lnTo>
                    <a:pt x="763" y="955"/>
                  </a:lnTo>
                  <a:lnTo>
                    <a:pt x="755" y="956"/>
                  </a:lnTo>
                  <a:lnTo>
                    <a:pt x="747" y="958"/>
                  </a:lnTo>
                  <a:lnTo>
                    <a:pt x="740" y="959"/>
                  </a:lnTo>
                  <a:lnTo>
                    <a:pt x="733" y="959"/>
                  </a:lnTo>
                  <a:lnTo>
                    <a:pt x="726" y="961"/>
                  </a:lnTo>
                  <a:lnTo>
                    <a:pt x="716" y="961"/>
                  </a:lnTo>
                  <a:lnTo>
                    <a:pt x="711" y="958"/>
                  </a:lnTo>
                  <a:lnTo>
                    <a:pt x="704" y="955"/>
                  </a:lnTo>
                  <a:lnTo>
                    <a:pt x="697" y="952"/>
                  </a:lnTo>
                  <a:lnTo>
                    <a:pt x="690" y="951"/>
                  </a:lnTo>
                  <a:lnTo>
                    <a:pt x="682" y="950"/>
                  </a:lnTo>
                  <a:lnTo>
                    <a:pt x="675" y="951"/>
                  </a:lnTo>
                  <a:lnTo>
                    <a:pt x="668" y="952"/>
                  </a:lnTo>
                  <a:lnTo>
                    <a:pt x="663" y="956"/>
                  </a:lnTo>
                  <a:lnTo>
                    <a:pt x="654" y="958"/>
                  </a:lnTo>
                  <a:lnTo>
                    <a:pt x="646" y="962"/>
                  </a:lnTo>
                  <a:lnTo>
                    <a:pt x="638" y="966"/>
                  </a:lnTo>
                  <a:lnTo>
                    <a:pt x="629" y="968"/>
                  </a:lnTo>
                  <a:lnTo>
                    <a:pt x="537" y="947"/>
                  </a:lnTo>
                  <a:lnTo>
                    <a:pt x="526" y="990"/>
                  </a:lnTo>
                  <a:lnTo>
                    <a:pt x="585" y="1012"/>
                  </a:lnTo>
                  <a:lnTo>
                    <a:pt x="581" y="1032"/>
                  </a:lnTo>
                  <a:lnTo>
                    <a:pt x="583" y="1049"/>
                  </a:lnTo>
                  <a:lnTo>
                    <a:pt x="591" y="1065"/>
                  </a:lnTo>
                  <a:lnTo>
                    <a:pt x="612" y="1085"/>
                  </a:lnTo>
                  <a:lnTo>
                    <a:pt x="616" y="1087"/>
                  </a:lnTo>
                  <a:lnTo>
                    <a:pt x="620" y="1090"/>
                  </a:lnTo>
                  <a:lnTo>
                    <a:pt x="627" y="1093"/>
                  </a:lnTo>
                  <a:lnTo>
                    <a:pt x="643" y="1094"/>
                  </a:lnTo>
                  <a:lnTo>
                    <a:pt x="647" y="1100"/>
                  </a:lnTo>
                  <a:lnTo>
                    <a:pt x="656" y="1107"/>
                  </a:lnTo>
                  <a:lnTo>
                    <a:pt x="667" y="1112"/>
                  </a:lnTo>
                  <a:lnTo>
                    <a:pt x="678" y="1118"/>
                  </a:lnTo>
                  <a:lnTo>
                    <a:pt x="690" y="1123"/>
                  </a:lnTo>
                  <a:lnTo>
                    <a:pt x="701" y="1126"/>
                  </a:lnTo>
                  <a:lnTo>
                    <a:pt x="711" y="1129"/>
                  </a:lnTo>
                  <a:lnTo>
                    <a:pt x="716" y="1127"/>
                  </a:lnTo>
                  <a:lnTo>
                    <a:pt x="726" y="1127"/>
                  </a:lnTo>
                  <a:lnTo>
                    <a:pt x="734" y="1127"/>
                  </a:lnTo>
                  <a:lnTo>
                    <a:pt x="744" y="1127"/>
                  </a:lnTo>
                  <a:lnTo>
                    <a:pt x="752" y="1127"/>
                  </a:lnTo>
                  <a:lnTo>
                    <a:pt x="761" y="1126"/>
                  </a:lnTo>
                  <a:lnTo>
                    <a:pt x="770" y="1126"/>
                  </a:lnTo>
                  <a:lnTo>
                    <a:pt x="778" y="1125"/>
                  </a:lnTo>
                  <a:lnTo>
                    <a:pt x="788" y="1123"/>
                  </a:lnTo>
                  <a:lnTo>
                    <a:pt x="803" y="1115"/>
                  </a:lnTo>
                  <a:lnTo>
                    <a:pt x="812" y="1110"/>
                  </a:lnTo>
                  <a:lnTo>
                    <a:pt x="817" y="1105"/>
                  </a:lnTo>
                  <a:lnTo>
                    <a:pt x="821" y="1103"/>
                  </a:lnTo>
                  <a:lnTo>
                    <a:pt x="827" y="1103"/>
                  </a:lnTo>
                  <a:lnTo>
                    <a:pt x="834" y="1103"/>
                  </a:lnTo>
                  <a:lnTo>
                    <a:pt x="847" y="1103"/>
                  </a:lnTo>
                  <a:lnTo>
                    <a:pt x="867" y="1104"/>
                  </a:lnTo>
                  <a:lnTo>
                    <a:pt x="872" y="1112"/>
                  </a:lnTo>
                  <a:lnTo>
                    <a:pt x="878" y="1119"/>
                  </a:lnTo>
                  <a:lnTo>
                    <a:pt x="885" y="1126"/>
                  </a:lnTo>
                  <a:lnTo>
                    <a:pt x="892" y="1132"/>
                  </a:lnTo>
                  <a:lnTo>
                    <a:pt x="898" y="1137"/>
                  </a:lnTo>
                  <a:lnTo>
                    <a:pt x="905" y="1143"/>
                  </a:lnTo>
                  <a:lnTo>
                    <a:pt x="914" y="1147"/>
                  </a:lnTo>
                  <a:lnTo>
                    <a:pt x="923" y="1150"/>
                  </a:lnTo>
                  <a:lnTo>
                    <a:pt x="927" y="1162"/>
                  </a:lnTo>
                  <a:lnTo>
                    <a:pt x="932" y="1172"/>
                  </a:lnTo>
                  <a:lnTo>
                    <a:pt x="934" y="1180"/>
                  </a:lnTo>
                  <a:lnTo>
                    <a:pt x="938" y="1187"/>
                  </a:lnTo>
                  <a:lnTo>
                    <a:pt x="944" y="1194"/>
                  </a:lnTo>
                  <a:lnTo>
                    <a:pt x="950" y="1201"/>
                  </a:lnTo>
                  <a:lnTo>
                    <a:pt x="958" y="1207"/>
                  </a:lnTo>
                  <a:lnTo>
                    <a:pt x="966" y="1217"/>
                  </a:lnTo>
                  <a:lnTo>
                    <a:pt x="977" y="1238"/>
                  </a:lnTo>
                  <a:lnTo>
                    <a:pt x="985" y="1258"/>
                  </a:lnTo>
                  <a:lnTo>
                    <a:pt x="992" y="1279"/>
                  </a:lnTo>
                  <a:lnTo>
                    <a:pt x="1001" y="1298"/>
                  </a:lnTo>
                  <a:lnTo>
                    <a:pt x="1009" y="1318"/>
                  </a:lnTo>
                  <a:lnTo>
                    <a:pt x="1020" y="1336"/>
                  </a:lnTo>
                  <a:lnTo>
                    <a:pt x="1035" y="1354"/>
                  </a:lnTo>
                  <a:lnTo>
                    <a:pt x="1054" y="1371"/>
                  </a:lnTo>
                  <a:lnTo>
                    <a:pt x="1071" y="1380"/>
                  </a:lnTo>
                  <a:lnTo>
                    <a:pt x="1089" y="1388"/>
                  </a:lnTo>
                  <a:lnTo>
                    <a:pt x="1107" y="1394"/>
                  </a:lnTo>
                  <a:lnTo>
                    <a:pt x="1123" y="1400"/>
                  </a:lnTo>
                  <a:lnTo>
                    <a:pt x="1141" y="1406"/>
                  </a:lnTo>
                  <a:lnTo>
                    <a:pt x="1159" y="1411"/>
                  </a:lnTo>
                  <a:lnTo>
                    <a:pt x="1179" y="1417"/>
                  </a:lnTo>
                  <a:lnTo>
                    <a:pt x="1196" y="1421"/>
                  </a:lnTo>
                  <a:lnTo>
                    <a:pt x="1196" y="1443"/>
                  </a:lnTo>
                  <a:lnTo>
                    <a:pt x="1196" y="1467"/>
                  </a:lnTo>
                  <a:lnTo>
                    <a:pt x="1198" y="1489"/>
                  </a:lnTo>
                  <a:lnTo>
                    <a:pt x="1205" y="1508"/>
                  </a:lnTo>
                  <a:lnTo>
                    <a:pt x="1183" y="1505"/>
                  </a:lnTo>
                  <a:lnTo>
                    <a:pt x="1165" y="1504"/>
                  </a:lnTo>
                  <a:lnTo>
                    <a:pt x="1150" y="1501"/>
                  </a:lnTo>
                  <a:lnTo>
                    <a:pt x="1136" y="1498"/>
                  </a:lnTo>
                  <a:lnTo>
                    <a:pt x="1122" y="1497"/>
                  </a:lnTo>
                  <a:lnTo>
                    <a:pt x="1108" y="1496"/>
                  </a:lnTo>
                  <a:lnTo>
                    <a:pt x="1093" y="1494"/>
                  </a:lnTo>
                  <a:lnTo>
                    <a:pt x="1074" y="1494"/>
                  </a:lnTo>
                  <a:lnTo>
                    <a:pt x="1060" y="1496"/>
                  </a:lnTo>
                  <a:lnTo>
                    <a:pt x="1042" y="1498"/>
                  </a:lnTo>
                  <a:lnTo>
                    <a:pt x="1024" y="1501"/>
                  </a:lnTo>
                  <a:lnTo>
                    <a:pt x="1003" y="1505"/>
                  </a:lnTo>
                  <a:lnTo>
                    <a:pt x="981" y="1511"/>
                  </a:lnTo>
                  <a:lnTo>
                    <a:pt x="958" y="1516"/>
                  </a:lnTo>
                  <a:lnTo>
                    <a:pt x="933" y="1525"/>
                  </a:lnTo>
                  <a:lnTo>
                    <a:pt x="907" y="1534"/>
                  </a:lnTo>
                  <a:lnTo>
                    <a:pt x="879" y="1545"/>
                  </a:lnTo>
                  <a:lnTo>
                    <a:pt x="853" y="1559"/>
                  </a:lnTo>
                  <a:lnTo>
                    <a:pt x="824" y="1573"/>
                  </a:lnTo>
                  <a:lnTo>
                    <a:pt x="796" y="1589"/>
                  </a:lnTo>
                  <a:lnTo>
                    <a:pt x="769" y="1609"/>
                  </a:lnTo>
                  <a:lnTo>
                    <a:pt x="741" y="1629"/>
                  </a:lnTo>
                  <a:lnTo>
                    <a:pt x="714" y="1653"/>
                  </a:lnTo>
                  <a:lnTo>
                    <a:pt x="687" y="1679"/>
                  </a:lnTo>
                  <a:lnTo>
                    <a:pt x="704" y="1683"/>
                  </a:lnTo>
                  <a:lnTo>
                    <a:pt x="726" y="1689"/>
                  </a:lnTo>
                  <a:lnTo>
                    <a:pt x="751" y="1694"/>
                  </a:lnTo>
                  <a:lnTo>
                    <a:pt x="778" y="1700"/>
                  </a:lnTo>
                  <a:lnTo>
                    <a:pt x="807" y="1705"/>
                  </a:lnTo>
                  <a:lnTo>
                    <a:pt x="839" y="1711"/>
                  </a:lnTo>
                  <a:lnTo>
                    <a:pt x="872" y="1716"/>
                  </a:lnTo>
                  <a:lnTo>
                    <a:pt x="905" y="1722"/>
                  </a:lnTo>
                  <a:lnTo>
                    <a:pt x="938" y="1727"/>
                  </a:lnTo>
                  <a:lnTo>
                    <a:pt x="970" y="1731"/>
                  </a:lnTo>
                  <a:lnTo>
                    <a:pt x="1002" y="1734"/>
                  </a:lnTo>
                  <a:lnTo>
                    <a:pt x="1031" y="1737"/>
                  </a:lnTo>
                  <a:lnTo>
                    <a:pt x="1058" y="1740"/>
                  </a:lnTo>
                  <a:lnTo>
                    <a:pt x="1082" y="1741"/>
                  </a:lnTo>
                  <a:lnTo>
                    <a:pt x="1103" y="1741"/>
                  </a:lnTo>
                  <a:lnTo>
                    <a:pt x="1119" y="1740"/>
                  </a:lnTo>
                  <a:lnTo>
                    <a:pt x="1133" y="1727"/>
                  </a:lnTo>
                  <a:lnTo>
                    <a:pt x="1145" y="1716"/>
                  </a:lnTo>
                  <a:lnTo>
                    <a:pt x="1158" y="1708"/>
                  </a:lnTo>
                  <a:lnTo>
                    <a:pt x="1172" y="1701"/>
                  </a:lnTo>
                  <a:lnTo>
                    <a:pt x="1184" y="1697"/>
                  </a:lnTo>
                  <a:lnTo>
                    <a:pt x="1198" y="1694"/>
                  </a:lnTo>
                  <a:lnTo>
                    <a:pt x="1212" y="1691"/>
                  </a:lnTo>
                  <a:lnTo>
                    <a:pt x="1225" y="1689"/>
                  </a:lnTo>
                  <a:lnTo>
                    <a:pt x="1217" y="1742"/>
                  </a:lnTo>
                  <a:lnTo>
                    <a:pt x="1210" y="1835"/>
                  </a:lnTo>
                  <a:lnTo>
                    <a:pt x="1203" y="1922"/>
                  </a:lnTo>
                  <a:lnTo>
                    <a:pt x="1199" y="1962"/>
                  </a:lnTo>
                  <a:lnTo>
                    <a:pt x="774" y="1962"/>
                  </a:lnTo>
                  <a:lnTo>
                    <a:pt x="770" y="1929"/>
                  </a:lnTo>
                  <a:lnTo>
                    <a:pt x="493" y="1920"/>
                  </a:lnTo>
                  <a:lnTo>
                    <a:pt x="457" y="1945"/>
                  </a:lnTo>
                  <a:lnTo>
                    <a:pt x="0" y="1948"/>
                  </a:lnTo>
                  <a:lnTo>
                    <a:pt x="2" y="0"/>
                  </a:lnTo>
                  <a:lnTo>
                    <a:pt x="2199" y="6"/>
                  </a:lnTo>
                  <a:lnTo>
                    <a:pt x="2199" y="1995"/>
                  </a:lnTo>
                  <a:lnTo>
                    <a:pt x="1894" y="1996"/>
                  </a:lnTo>
                  <a:close/>
                </a:path>
              </a:pathLst>
            </a:custGeom>
            <a:solidFill>
              <a:srgbClr val="3399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738600" y="5365800"/>
              <a:ext cx="372960" cy="49320"/>
            </a:xfrm>
            <a:custGeom>
              <a:avLst/>
              <a:gdLst/>
              <a:ahLst/>
              <a:rect l="l" t="t" r="r" b="b"/>
              <a:pathLst>
                <a:path w="235" h="31">
                  <a:moveTo>
                    <a:pt x="0" y="31"/>
                  </a:moveTo>
                  <a:lnTo>
                    <a:pt x="7" y="26"/>
                  </a:lnTo>
                  <a:lnTo>
                    <a:pt x="13" y="22"/>
                  </a:lnTo>
                  <a:lnTo>
                    <a:pt x="18" y="18"/>
                  </a:lnTo>
                  <a:lnTo>
                    <a:pt x="22" y="15"/>
                  </a:lnTo>
                  <a:lnTo>
                    <a:pt x="26" y="11"/>
                  </a:lnTo>
                  <a:lnTo>
                    <a:pt x="32" y="8"/>
                  </a:lnTo>
                  <a:lnTo>
                    <a:pt x="37" y="4"/>
                  </a:lnTo>
                  <a:lnTo>
                    <a:pt x="46" y="0"/>
                  </a:lnTo>
                  <a:lnTo>
                    <a:pt x="235" y="0"/>
                  </a:lnTo>
                  <a:lnTo>
                    <a:pt x="233" y="4"/>
                  </a:lnTo>
                  <a:lnTo>
                    <a:pt x="228" y="8"/>
                  </a:lnTo>
                  <a:lnTo>
                    <a:pt x="221" y="12"/>
                  </a:lnTo>
                  <a:lnTo>
                    <a:pt x="211" y="16"/>
                  </a:lnTo>
                  <a:lnTo>
                    <a:pt x="201" y="20"/>
                  </a:lnTo>
                  <a:lnTo>
                    <a:pt x="193" y="23"/>
                  </a:lnTo>
                  <a:lnTo>
                    <a:pt x="186" y="27"/>
                  </a:lnTo>
                  <a:lnTo>
                    <a:pt x="181" y="30"/>
                  </a:lnTo>
                  <a:lnTo>
                    <a:pt x="0" y="31"/>
                  </a:lnTo>
                  <a:close/>
                </a:path>
              </a:pathLst>
            </a:custGeom>
            <a:solidFill>
              <a:srgbClr val="990000">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4" name=""/>
            <p:cNvSpPr/>
            <p:nvPr/>
          </p:nvSpPr>
          <p:spPr>
            <a:xfrm>
              <a:off x="4194000" y="4678200"/>
              <a:ext cx="963720" cy="312840"/>
            </a:xfrm>
            <a:custGeom>
              <a:avLst/>
              <a:gdLst/>
              <a:ahLst/>
              <a:rect l="l" t="t" r="r" b="b"/>
              <a:pathLst>
                <a:path w="607" h="197">
                  <a:moveTo>
                    <a:pt x="349" y="197"/>
                  </a:moveTo>
                  <a:lnTo>
                    <a:pt x="337" y="195"/>
                  </a:lnTo>
                  <a:lnTo>
                    <a:pt x="321" y="194"/>
                  </a:lnTo>
                  <a:lnTo>
                    <a:pt x="302" y="193"/>
                  </a:lnTo>
                  <a:lnTo>
                    <a:pt x="280" y="190"/>
                  </a:lnTo>
                  <a:lnTo>
                    <a:pt x="255" y="187"/>
                  </a:lnTo>
                  <a:lnTo>
                    <a:pt x="229" y="184"/>
                  </a:lnTo>
                  <a:lnTo>
                    <a:pt x="203" y="180"/>
                  </a:lnTo>
                  <a:lnTo>
                    <a:pt x="175" y="176"/>
                  </a:lnTo>
                  <a:lnTo>
                    <a:pt x="146" y="172"/>
                  </a:lnTo>
                  <a:lnTo>
                    <a:pt x="120" y="168"/>
                  </a:lnTo>
                  <a:lnTo>
                    <a:pt x="94" y="164"/>
                  </a:lnTo>
                  <a:lnTo>
                    <a:pt x="69" y="160"/>
                  </a:lnTo>
                  <a:lnTo>
                    <a:pt x="47" y="154"/>
                  </a:lnTo>
                  <a:lnTo>
                    <a:pt x="28" y="150"/>
                  </a:lnTo>
                  <a:lnTo>
                    <a:pt x="12" y="146"/>
                  </a:lnTo>
                  <a:lnTo>
                    <a:pt x="0" y="142"/>
                  </a:lnTo>
                  <a:lnTo>
                    <a:pt x="4" y="133"/>
                  </a:lnTo>
                  <a:lnTo>
                    <a:pt x="14" y="124"/>
                  </a:lnTo>
                  <a:lnTo>
                    <a:pt x="28" y="114"/>
                  </a:lnTo>
                  <a:lnTo>
                    <a:pt x="46" y="103"/>
                  </a:lnTo>
                  <a:lnTo>
                    <a:pt x="66" y="91"/>
                  </a:lnTo>
                  <a:lnTo>
                    <a:pt x="90" y="80"/>
                  </a:lnTo>
                  <a:lnTo>
                    <a:pt x="116" y="69"/>
                  </a:lnTo>
                  <a:lnTo>
                    <a:pt x="142" y="56"/>
                  </a:lnTo>
                  <a:lnTo>
                    <a:pt x="170" y="45"/>
                  </a:lnTo>
                  <a:lnTo>
                    <a:pt x="197" y="35"/>
                  </a:lnTo>
                  <a:lnTo>
                    <a:pt x="223" y="26"/>
                  </a:lnTo>
                  <a:lnTo>
                    <a:pt x="250" y="18"/>
                  </a:lnTo>
                  <a:lnTo>
                    <a:pt x="275" y="11"/>
                  </a:lnTo>
                  <a:lnTo>
                    <a:pt x="295" y="5"/>
                  </a:lnTo>
                  <a:lnTo>
                    <a:pt x="315" y="1"/>
                  </a:lnTo>
                  <a:lnTo>
                    <a:pt x="330" y="0"/>
                  </a:lnTo>
                  <a:lnTo>
                    <a:pt x="346" y="2"/>
                  </a:lnTo>
                  <a:lnTo>
                    <a:pt x="363" y="5"/>
                  </a:lnTo>
                  <a:lnTo>
                    <a:pt x="381" y="8"/>
                  </a:lnTo>
                  <a:lnTo>
                    <a:pt x="399" y="9"/>
                  </a:lnTo>
                  <a:lnTo>
                    <a:pt x="417" y="12"/>
                  </a:lnTo>
                  <a:lnTo>
                    <a:pt x="436" y="15"/>
                  </a:lnTo>
                  <a:lnTo>
                    <a:pt x="454" y="18"/>
                  </a:lnTo>
                  <a:lnTo>
                    <a:pt x="472" y="19"/>
                  </a:lnTo>
                  <a:lnTo>
                    <a:pt x="490" y="22"/>
                  </a:lnTo>
                  <a:lnTo>
                    <a:pt x="508" y="24"/>
                  </a:lnTo>
                  <a:lnTo>
                    <a:pt x="526" y="29"/>
                  </a:lnTo>
                  <a:lnTo>
                    <a:pt x="544" y="31"/>
                  </a:lnTo>
                  <a:lnTo>
                    <a:pt x="560" y="35"/>
                  </a:lnTo>
                  <a:lnTo>
                    <a:pt x="577" y="38"/>
                  </a:lnTo>
                  <a:lnTo>
                    <a:pt x="592" y="44"/>
                  </a:lnTo>
                  <a:lnTo>
                    <a:pt x="607" y="48"/>
                  </a:lnTo>
                  <a:lnTo>
                    <a:pt x="601" y="49"/>
                  </a:lnTo>
                  <a:lnTo>
                    <a:pt x="597" y="51"/>
                  </a:lnTo>
                  <a:lnTo>
                    <a:pt x="593" y="53"/>
                  </a:lnTo>
                  <a:lnTo>
                    <a:pt x="589" y="55"/>
                  </a:lnTo>
                  <a:lnTo>
                    <a:pt x="579" y="55"/>
                  </a:lnTo>
                  <a:lnTo>
                    <a:pt x="570" y="55"/>
                  </a:lnTo>
                  <a:lnTo>
                    <a:pt x="561" y="55"/>
                  </a:lnTo>
                  <a:lnTo>
                    <a:pt x="555" y="56"/>
                  </a:lnTo>
                  <a:lnTo>
                    <a:pt x="548" y="58"/>
                  </a:lnTo>
                  <a:lnTo>
                    <a:pt x="542" y="62"/>
                  </a:lnTo>
                  <a:lnTo>
                    <a:pt x="537" y="67"/>
                  </a:lnTo>
                  <a:lnTo>
                    <a:pt x="532" y="75"/>
                  </a:lnTo>
                  <a:lnTo>
                    <a:pt x="531" y="81"/>
                  </a:lnTo>
                  <a:lnTo>
                    <a:pt x="535" y="91"/>
                  </a:lnTo>
                  <a:lnTo>
                    <a:pt x="544" y="100"/>
                  </a:lnTo>
                  <a:lnTo>
                    <a:pt x="556" y="104"/>
                  </a:lnTo>
                  <a:lnTo>
                    <a:pt x="538" y="104"/>
                  </a:lnTo>
                  <a:lnTo>
                    <a:pt x="520" y="107"/>
                  </a:lnTo>
                  <a:lnTo>
                    <a:pt x="502" y="111"/>
                  </a:lnTo>
                  <a:lnTo>
                    <a:pt x="483" y="117"/>
                  </a:lnTo>
                  <a:lnTo>
                    <a:pt x="464" y="122"/>
                  </a:lnTo>
                  <a:lnTo>
                    <a:pt x="446" y="131"/>
                  </a:lnTo>
                  <a:lnTo>
                    <a:pt x="428" y="138"/>
                  </a:lnTo>
                  <a:lnTo>
                    <a:pt x="411" y="146"/>
                  </a:lnTo>
                  <a:lnTo>
                    <a:pt x="396" y="154"/>
                  </a:lnTo>
                  <a:lnTo>
                    <a:pt x="382" y="162"/>
                  </a:lnTo>
                  <a:lnTo>
                    <a:pt x="370" y="171"/>
                  </a:lnTo>
                  <a:lnTo>
                    <a:pt x="360" y="178"/>
                  </a:lnTo>
                  <a:lnTo>
                    <a:pt x="353" y="184"/>
                  </a:lnTo>
                  <a:lnTo>
                    <a:pt x="348" y="190"/>
                  </a:lnTo>
                  <a:lnTo>
                    <a:pt x="346" y="194"/>
                  </a:lnTo>
                  <a:lnTo>
                    <a:pt x="349" y="19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346720" y="4886280"/>
              <a:ext cx="492120" cy="123840"/>
            </a:xfrm>
            <a:custGeom>
              <a:avLst/>
              <a:gdLst/>
              <a:ahLst/>
              <a:rect l="l" t="t" r="r" b="b"/>
              <a:pathLst>
                <a:path w="310" h="78">
                  <a:moveTo>
                    <a:pt x="0" y="34"/>
                  </a:moveTo>
                  <a:lnTo>
                    <a:pt x="9" y="27"/>
                  </a:lnTo>
                  <a:lnTo>
                    <a:pt x="20" y="18"/>
                  </a:lnTo>
                  <a:lnTo>
                    <a:pt x="31" y="8"/>
                  </a:lnTo>
                  <a:lnTo>
                    <a:pt x="40" y="0"/>
                  </a:lnTo>
                  <a:lnTo>
                    <a:pt x="48" y="5"/>
                  </a:lnTo>
                  <a:lnTo>
                    <a:pt x="56" y="9"/>
                  </a:lnTo>
                  <a:lnTo>
                    <a:pt x="66" y="15"/>
                  </a:lnTo>
                  <a:lnTo>
                    <a:pt x="74" y="18"/>
                  </a:lnTo>
                  <a:lnTo>
                    <a:pt x="84" y="22"/>
                  </a:lnTo>
                  <a:lnTo>
                    <a:pt x="93" y="26"/>
                  </a:lnTo>
                  <a:lnTo>
                    <a:pt x="103" y="29"/>
                  </a:lnTo>
                  <a:lnTo>
                    <a:pt x="111" y="33"/>
                  </a:lnTo>
                  <a:lnTo>
                    <a:pt x="138" y="35"/>
                  </a:lnTo>
                  <a:lnTo>
                    <a:pt x="162" y="38"/>
                  </a:lnTo>
                  <a:lnTo>
                    <a:pt x="187" y="40"/>
                  </a:lnTo>
                  <a:lnTo>
                    <a:pt x="212" y="42"/>
                  </a:lnTo>
                  <a:lnTo>
                    <a:pt x="235" y="45"/>
                  </a:lnTo>
                  <a:lnTo>
                    <a:pt x="260" y="48"/>
                  </a:lnTo>
                  <a:lnTo>
                    <a:pt x="285" y="52"/>
                  </a:lnTo>
                  <a:lnTo>
                    <a:pt x="310" y="55"/>
                  </a:lnTo>
                  <a:lnTo>
                    <a:pt x="309" y="59"/>
                  </a:lnTo>
                  <a:lnTo>
                    <a:pt x="307" y="64"/>
                  </a:lnTo>
                  <a:lnTo>
                    <a:pt x="307" y="70"/>
                  </a:lnTo>
                  <a:lnTo>
                    <a:pt x="306" y="78"/>
                  </a:lnTo>
                  <a:lnTo>
                    <a:pt x="298" y="78"/>
                  </a:lnTo>
                  <a:lnTo>
                    <a:pt x="282" y="77"/>
                  </a:lnTo>
                  <a:lnTo>
                    <a:pt x="264" y="75"/>
                  </a:lnTo>
                  <a:lnTo>
                    <a:pt x="244" y="73"/>
                  </a:lnTo>
                  <a:lnTo>
                    <a:pt x="219" y="70"/>
                  </a:lnTo>
                  <a:lnTo>
                    <a:pt x="193" y="67"/>
                  </a:lnTo>
                  <a:lnTo>
                    <a:pt x="165" y="64"/>
                  </a:lnTo>
                  <a:lnTo>
                    <a:pt x="139" y="60"/>
                  </a:lnTo>
                  <a:lnTo>
                    <a:pt x="111" y="58"/>
                  </a:lnTo>
                  <a:lnTo>
                    <a:pt x="85" y="53"/>
                  </a:lnTo>
                  <a:lnTo>
                    <a:pt x="62" y="49"/>
                  </a:lnTo>
                  <a:lnTo>
                    <a:pt x="41" y="47"/>
                  </a:lnTo>
                  <a:lnTo>
                    <a:pt x="23" y="42"/>
                  </a:lnTo>
                  <a:lnTo>
                    <a:pt x="9" y="40"/>
                  </a:lnTo>
                  <a:lnTo>
                    <a:pt x="2" y="37"/>
                  </a:lnTo>
                  <a:lnTo>
                    <a:pt x="0" y="34"/>
                  </a:lnTo>
                  <a:close/>
                </a:path>
              </a:pathLst>
            </a:custGeom>
            <a:solidFill>
              <a:srgbClr val="ff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025960" y="4673520"/>
              <a:ext cx="439920" cy="297000"/>
            </a:xfrm>
            <a:custGeom>
              <a:avLst/>
              <a:gdLst/>
              <a:ahLst/>
              <a:rect l="l" t="t" r="r" b="b"/>
              <a:pathLst>
                <a:path w="277" h="187">
                  <a:moveTo>
                    <a:pt x="40" y="187"/>
                  </a:moveTo>
                  <a:lnTo>
                    <a:pt x="29" y="185"/>
                  </a:lnTo>
                  <a:lnTo>
                    <a:pt x="24" y="183"/>
                  </a:lnTo>
                  <a:lnTo>
                    <a:pt x="21" y="183"/>
                  </a:lnTo>
                  <a:lnTo>
                    <a:pt x="20" y="182"/>
                  </a:lnTo>
                  <a:lnTo>
                    <a:pt x="29" y="181"/>
                  </a:lnTo>
                  <a:lnTo>
                    <a:pt x="39" y="179"/>
                  </a:lnTo>
                  <a:lnTo>
                    <a:pt x="48" y="179"/>
                  </a:lnTo>
                  <a:lnTo>
                    <a:pt x="60" y="179"/>
                  </a:lnTo>
                  <a:lnTo>
                    <a:pt x="69" y="178"/>
                  </a:lnTo>
                  <a:lnTo>
                    <a:pt x="79" y="178"/>
                  </a:lnTo>
                  <a:lnTo>
                    <a:pt x="88" y="178"/>
                  </a:lnTo>
                  <a:lnTo>
                    <a:pt x="98" y="176"/>
                  </a:lnTo>
                  <a:lnTo>
                    <a:pt x="102" y="171"/>
                  </a:lnTo>
                  <a:lnTo>
                    <a:pt x="105" y="167"/>
                  </a:lnTo>
                  <a:lnTo>
                    <a:pt x="104" y="163"/>
                  </a:lnTo>
                  <a:lnTo>
                    <a:pt x="100" y="157"/>
                  </a:lnTo>
                  <a:lnTo>
                    <a:pt x="86" y="158"/>
                  </a:lnTo>
                  <a:lnTo>
                    <a:pt x="73" y="160"/>
                  </a:lnTo>
                  <a:lnTo>
                    <a:pt x="61" y="161"/>
                  </a:lnTo>
                  <a:lnTo>
                    <a:pt x="48" y="161"/>
                  </a:lnTo>
                  <a:lnTo>
                    <a:pt x="36" y="161"/>
                  </a:lnTo>
                  <a:lnTo>
                    <a:pt x="25" y="160"/>
                  </a:lnTo>
                  <a:lnTo>
                    <a:pt x="13" y="158"/>
                  </a:lnTo>
                  <a:lnTo>
                    <a:pt x="0" y="156"/>
                  </a:lnTo>
                  <a:lnTo>
                    <a:pt x="0" y="154"/>
                  </a:lnTo>
                  <a:lnTo>
                    <a:pt x="0" y="153"/>
                  </a:lnTo>
                  <a:lnTo>
                    <a:pt x="0" y="152"/>
                  </a:lnTo>
                  <a:lnTo>
                    <a:pt x="0" y="150"/>
                  </a:lnTo>
                  <a:lnTo>
                    <a:pt x="11" y="147"/>
                  </a:lnTo>
                  <a:lnTo>
                    <a:pt x="22" y="145"/>
                  </a:lnTo>
                  <a:lnTo>
                    <a:pt x="35" y="143"/>
                  </a:lnTo>
                  <a:lnTo>
                    <a:pt x="47" y="142"/>
                  </a:lnTo>
                  <a:lnTo>
                    <a:pt x="61" y="141"/>
                  </a:lnTo>
                  <a:lnTo>
                    <a:pt x="75" y="138"/>
                  </a:lnTo>
                  <a:lnTo>
                    <a:pt x="90" y="132"/>
                  </a:lnTo>
                  <a:lnTo>
                    <a:pt x="106" y="127"/>
                  </a:lnTo>
                  <a:lnTo>
                    <a:pt x="117" y="117"/>
                  </a:lnTo>
                  <a:lnTo>
                    <a:pt x="126" y="110"/>
                  </a:lnTo>
                  <a:lnTo>
                    <a:pt x="135" y="102"/>
                  </a:lnTo>
                  <a:lnTo>
                    <a:pt x="145" y="94"/>
                  </a:lnTo>
                  <a:lnTo>
                    <a:pt x="145" y="91"/>
                  </a:lnTo>
                  <a:lnTo>
                    <a:pt x="145" y="88"/>
                  </a:lnTo>
                  <a:lnTo>
                    <a:pt x="145" y="85"/>
                  </a:lnTo>
                  <a:lnTo>
                    <a:pt x="146" y="83"/>
                  </a:lnTo>
                  <a:lnTo>
                    <a:pt x="141" y="81"/>
                  </a:lnTo>
                  <a:lnTo>
                    <a:pt x="134" y="81"/>
                  </a:lnTo>
                  <a:lnTo>
                    <a:pt x="127" y="83"/>
                  </a:lnTo>
                  <a:lnTo>
                    <a:pt x="120" y="85"/>
                  </a:lnTo>
                  <a:lnTo>
                    <a:pt x="113" y="90"/>
                  </a:lnTo>
                  <a:lnTo>
                    <a:pt x="106" y="92"/>
                  </a:lnTo>
                  <a:lnTo>
                    <a:pt x="100" y="95"/>
                  </a:lnTo>
                  <a:lnTo>
                    <a:pt x="93" y="98"/>
                  </a:lnTo>
                  <a:lnTo>
                    <a:pt x="82" y="98"/>
                  </a:lnTo>
                  <a:lnTo>
                    <a:pt x="71" y="96"/>
                  </a:lnTo>
                  <a:lnTo>
                    <a:pt x="60" y="95"/>
                  </a:lnTo>
                  <a:lnTo>
                    <a:pt x="50" y="94"/>
                  </a:lnTo>
                  <a:lnTo>
                    <a:pt x="42" y="92"/>
                  </a:lnTo>
                  <a:lnTo>
                    <a:pt x="39" y="90"/>
                  </a:lnTo>
                  <a:lnTo>
                    <a:pt x="42" y="87"/>
                  </a:lnTo>
                  <a:lnTo>
                    <a:pt x="51" y="83"/>
                  </a:lnTo>
                  <a:lnTo>
                    <a:pt x="58" y="81"/>
                  </a:lnTo>
                  <a:lnTo>
                    <a:pt x="66" y="80"/>
                  </a:lnTo>
                  <a:lnTo>
                    <a:pt x="75" y="78"/>
                  </a:lnTo>
                  <a:lnTo>
                    <a:pt x="88" y="76"/>
                  </a:lnTo>
                  <a:lnTo>
                    <a:pt x="101" y="69"/>
                  </a:lnTo>
                  <a:lnTo>
                    <a:pt x="112" y="63"/>
                  </a:lnTo>
                  <a:lnTo>
                    <a:pt x="123" y="56"/>
                  </a:lnTo>
                  <a:lnTo>
                    <a:pt x="134" y="50"/>
                  </a:lnTo>
                  <a:lnTo>
                    <a:pt x="145" y="43"/>
                  </a:lnTo>
                  <a:lnTo>
                    <a:pt x="156" y="36"/>
                  </a:lnTo>
                  <a:lnTo>
                    <a:pt x="167" y="29"/>
                  </a:lnTo>
                  <a:lnTo>
                    <a:pt x="178" y="22"/>
                  </a:lnTo>
                  <a:lnTo>
                    <a:pt x="191" y="18"/>
                  </a:lnTo>
                  <a:lnTo>
                    <a:pt x="203" y="14"/>
                  </a:lnTo>
                  <a:lnTo>
                    <a:pt x="214" y="10"/>
                  </a:lnTo>
                  <a:lnTo>
                    <a:pt x="226" y="7"/>
                  </a:lnTo>
                  <a:lnTo>
                    <a:pt x="237" y="4"/>
                  </a:lnTo>
                  <a:lnTo>
                    <a:pt x="250" y="3"/>
                  </a:lnTo>
                  <a:lnTo>
                    <a:pt x="262" y="1"/>
                  </a:lnTo>
                  <a:lnTo>
                    <a:pt x="275" y="0"/>
                  </a:lnTo>
                  <a:lnTo>
                    <a:pt x="277" y="26"/>
                  </a:lnTo>
                  <a:lnTo>
                    <a:pt x="277" y="43"/>
                  </a:lnTo>
                  <a:lnTo>
                    <a:pt x="269" y="56"/>
                  </a:lnTo>
                  <a:lnTo>
                    <a:pt x="250" y="73"/>
                  </a:lnTo>
                  <a:lnTo>
                    <a:pt x="236" y="85"/>
                  </a:lnTo>
                  <a:lnTo>
                    <a:pt x="224" y="98"/>
                  </a:lnTo>
                  <a:lnTo>
                    <a:pt x="211" y="112"/>
                  </a:lnTo>
                  <a:lnTo>
                    <a:pt x="199" y="124"/>
                  </a:lnTo>
                  <a:lnTo>
                    <a:pt x="186" y="138"/>
                  </a:lnTo>
                  <a:lnTo>
                    <a:pt x="173" y="150"/>
                  </a:lnTo>
                  <a:lnTo>
                    <a:pt x="159" y="163"/>
                  </a:lnTo>
                  <a:lnTo>
                    <a:pt x="145" y="174"/>
                  </a:lnTo>
                  <a:lnTo>
                    <a:pt x="133" y="179"/>
                  </a:lnTo>
                  <a:lnTo>
                    <a:pt x="124" y="182"/>
                  </a:lnTo>
                  <a:lnTo>
                    <a:pt x="117" y="185"/>
                  </a:lnTo>
                  <a:lnTo>
                    <a:pt x="108" y="187"/>
                  </a:lnTo>
                  <a:lnTo>
                    <a:pt x="100" y="187"/>
                  </a:lnTo>
                  <a:lnTo>
                    <a:pt x="91" y="187"/>
                  </a:lnTo>
                  <a:lnTo>
                    <a:pt x="83" y="187"/>
                  </a:lnTo>
                  <a:lnTo>
                    <a:pt x="75" y="187"/>
                  </a:lnTo>
                  <a:lnTo>
                    <a:pt x="66" y="187"/>
                  </a:lnTo>
                  <a:lnTo>
                    <a:pt x="58" y="187"/>
                  </a:lnTo>
                  <a:lnTo>
                    <a:pt x="48" y="187"/>
                  </a:lnTo>
                  <a:lnTo>
                    <a:pt x="40" y="187"/>
                  </a:lnTo>
                  <a:close/>
                </a:path>
              </a:pathLst>
            </a:custGeom>
            <a:solidFill>
              <a:srgbClr val="ffd6b5">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464080" y="4819680"/>
              <a:ext cx="414360" cy="103320"/>
            </a:xfrm>
            <a:custGeom>
              <a:avLst/>
              <a:gdLst/>
              <a:ahLst/>
              <a:rect l="l" t="t" r="r" b="b"/>
              <a:pathLst>
                <a:path w="261" h="65">
                  <a:moveTo>
                    <a:pt x="0" y="11"/>
                  </a:moveTo>
                  <a:lnTo>
                    <a:pt x="3" y="9"/>
                  </a:lnTo>
                  <a:lnTo>
                    <a:pt x="7" y="6"/>
                  </a:lnTo>
                  <a:lnTo>
                    <a:pt x="10" y="3"/>
                  </a:lnTo>
                  <a:lnTo>
                    <a:pt x="13" y="0"/>
                  </a:lnTo>
                  <a:lnTo>
                    <a:pt x="18" y="0"/>
                  </a:lnTo>
                  <a:lnTo>
                    <a:pt x="26" y="2"/>
                  </a:lnTo>
                  <a:lnTo>
                    <a:pt x="35" y="4"/>
                  </a:lnTo>
                  <a:lnTo>
                    <a:pt x="44" y="6"/>
                  </a:lnTo>
                  <a:lnTo>
                    <a:pt x="57" y="9"/>
                  </a:lnTo>
                  <a:lnTo>
                    <a:pt x="70" y="11"/>
                  </a:lnTo>
                  <a:lnTo>
                    <a:pt x="88" y="14"/>
                  </a:lnTo>
                  <a:lnTo>
                    <a:pt x="108" y="15"/>
                  </a:lnTo>
                  <a:lnTo>
                    <a:pt x="130" y="21"/>
                  </a:lnTo>
                  <a:lnTo>
                    <a:pt x="148" y="25"/>
                  </a:lnTo>
                  <a:lnTo>
                    <a:pt x="166" y="29"/>
                  </a:lnTo>
                  <a:lnTo>
                    <a:pt x="184" y="33"/>
                  </a:lnTo>
                  <a:lnTo>
                    <a:pt x="200" y="37"/>
                  </a:lnTo>
                  <a:lnTo>
                    <a:pt x="218" y="40"/>
                  </a:lnTo>
                  <a:lnTo>
                    <a:pt x="239" y="43"/>
                  </a:lnTo>
                  <a:lnTo>
                    <a:pt x="261" y="44"/>
                  </a:lnTo>
                  <a:lnTo>
                    <a:pt x="259" y="49"/>
                  </a:lnTo>
                  <a:lnTo>
                    <a:pt x="258" y="53"/>
                  </a:lnTo>
                  <a:lnTo>
                    <a:pt x="255" y="57"/>
                  </a:lnTo>
                  <a:lnTo>
                    <a:pt x="254" y="62"/>
                  </a:lnTo>
                  <a:lnTo>
                    <a:pt x="248" y="65"/>
                  </a:lnTo>
                  <a:lnTo>
                    <a:pt x="239" y="65"/>
                  </a:lnTo>
                  <a:lnTo>
                    <a:pt x="225" y="65"/>
                  </a:lnTo>
                  <a:lnTo>
                    <a:pt x="208" y="64"/>
                  </a:lnTo>
                  <a:lnTo>
                    <a:pt x="188" y="62"/>
                  </a:lnTo>
                  <a:lnTo>
                    <a:pt x="167" y="58"/>
                  </a:lnTo>
                  <a:lnTo>
                    <a:pt x="144" y="54"/>
                  </a:lnTo>
                  <a:lnTo>
                    <a:pt x="121" y="50"/>
                  </a:lnTo>
                  <a:lnTo>
                    <a:pt x="98" y="46"/>
                  </a:lnTo>
                  <a:lnTo>
                    <a:pt x="76" y="40"/>
                  </a:lnTo>
                  <a:lnTo>
                    <a:pt x="55" y="35"/>
                  </a:lnTo>
                  <a:lnTo>
                    <a:pt x="37" y="29"/>
                  </a:lnTo>
                  <a:lnTo>
                    <a:pt x="21" y="25"/>
                  </a:lnTo>
                  <a:lnTo>
                    <a:pt x="10" y="20"/>
                  </a:lnTo>
                  <a:lnTo>
                    <a:pt x="3" y="15"/>
                  </a:lnTo>
                  <a:lnTo>
                    <a:pt x="0" y="11"/>
                  </a:lnTo>
                  <a:close/>
                </a:path>
              </a:pathLst>
            </a:custGeom>
            <a:solidFill>
              <a:srgbClr val="ff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923000" y="3551400"/>
              <a:ext cx="1349280" cy="1284120"/>
            </a:xfrm>
            <a:custGeom>
              <a:avLst/>
              <a:gdLst/>
              <a:ahLst/>
              <a:rect l="l" t="t" r="r" b="b"/>
              <a:pathLst>
                <a:path w="850" h="809">
                  <a:moveTo>
                    <a:pt x="556" y="802"/>
                  </a:moveTo>
                  <a:lnTo>
                    <a:pt x="544" y="798"/>
                  </a:lnTo>
                  <a:lnTo>
                    <a:pt x="529" y="792"/>
                  </a:lnTo>
                  <a:lnTo>
                    <a:pt x="514" y="787"/>
                  </a:lnTo>
                  <a:lnTo>
                    <a:pt x="496" y="783"/>
                  </a:lnTo>
                  <a:lnTo>
                    <a:pt x="479" y="777"/>
                  </a:lnTo>
                  <a:lnTo>
                    <a:pt x="462" y="773"/>
                  </a:lnTo>
                  <a:lnTo>
                    <a:pt x="447" y="769"/>
                  </a:lnTo>
                  <a:lnTo>
                    <a:pt x="435" y="766"/>
                  </a:lnTo>
                  <a:lnTo>
                    <a:pt x="439" y="745"/>
                  </a:lnTo>
                  <a:lnTo>
                    <a:pt x="443" y="726"/>
                  </a:lnTo>
                  <a:lnTo>
                    <a:pt x="445" y="707"/>
                  </a:lnTo>
                  <a:lnTo>
                    <a:pt x="443" y="686"/>
                  </a:lnTo>
                  <a:lnTo>
                    <a:pt x="460" y="682"/>
                  </a:lnTo>
                  <a:lnTo>
                    <a:pt x="476" y="679"/>
                  </a:lnTo>
                  <a:lnTo>
                    <a:pt x="491" y="675"/>
                  </a:lnTo>
                  <a:lnTo>
                    <a:pt x="507" y="672"/>
                  </a:lnTo>
                  <a:lnTo>
                    <a:pt x="522" y="670"/>
                  </a:lnTo>
                  <a:lnTo>
                    <a:pt x="537" y="667"/>
                  </a:lnTo>
                  <a:lnTo>
                    <a:pt x="551" y="664"/>
                  </a:lnTo>
                  <a:lnTo>
                    <a:pt x="566" y="661"/>
                  </a:lnTo>
                  <a:lnTo>
                    <a:pt x="580" y="659"/>
                  </a:lnTo>
                  <a:lnTo>
                    <a:pt x="594" y="654"/>
                  </a:lnTo>
                  <a:lnTo>
                    <a:pt x="607" y="652"/>
                  </a:lnTo>
                  <a:lnTo>
                    <a:pt x="621" y="648"/>
                  </a:lnTo>
                  <a:lnTo>
                    <a:pt x="635" y="643"/>
                  </a:lnTo>
                  <a:lnTo>
                    <a:pt x="650" y="638"/>
                  </a:lnTo>
                  <a:lnTo>
                    <a:pt x="664" y="632"/>
                  </a:lnTo>
                  <a:lnTo>
                    <a:pt x="679" y="627"/>
                  </a:lnTo>
                  <a:lnTo>
                    <a:pt x="749" y="632"/>
                  </a:lnTo>
                  <a:lnTo>
                    <a:pt x="752" y="627"/>
                  </a:lnTo>
                  <a:lnTo>
                    <a:pt x="756" y="617"/>
                  </a:lnTo>
                  <a:lnTo>
                    <a:pt x="760" y="609"/>
                  </a:lnTo>
                  <a:lnTo>
                    <a:pt x="763" y="603"/>
                  </a:lnTo>
                  <a:lnTo>
                    <a:pt x="755" y="599"/>
                  </a:lnTo>
                  <a:lnTo>
                    <a:pt x="745" y="597"/>
                  </a:lnTo>
                  <a:lnTo>
                    <a:pt x="734" y="594"/>
                  </a:lnTo>
                  <a:lnTo>
                    <a:pt x="723" y="592"/>
                  </a:lnTo>
                  <a:lnTo>
                    <a:pt x="712" y="591"/>
                  </a:lnTo>
                  <a:lnTo>
                    <a:pt x="703" y="590"/>
                  </a:lnTo>
                  <a:lnTo>
                    <a:pt x="691" y="590"/>
                  </a:lnTo>
                  <a:lnTo>
                    <a:pt x="682" y="590"/>
                  </a:lnTo>
                  <a:lnTo>
                    <a:pt x="672" y="591"/>
                  </a:lnTo>
                  <a:lnTo>
                    <a:pt x="667" y="592"/>
                  </a:lnTo>
                  <a:lnTo>
                    <a:pt x="661" y="594"/>
                  </a:lnTo>
                  <a:lnTo>
                    <a:pt x="657" y="595"/>
                  </a:lnTo>
                  <a:lnTo>
                    <a:pt x="653" y="597"/>
                  </a:lnTo>
                  <a:lnTo>
                    <a:pt x="647" y="598"/>
                  </a:lnTo>
                  <a:lnTo>
                    <a:pt x="639" y="601"/>
                  </a:lnTo>
                  <a:lnTo>
                    <a:pt x="628" y="605"/>
                  </a:lnTo>
                  <a:lnTo>
                    <a:pt x="623" y="590"/>
                  </a:lnTo>
                  <a:lnTo>
                    <a:pt x="616" y="575"/>
                  </a:lnTo>
                  <a:lnTo>
                    <a:pt x="609" y="562"/>
                  </a:lnTo>
                  <a:lnTo>
                    <a:pt x="600" y="550"/>
                  </a:lnTo>
                  <a:lnTo>
                    <a:pt x="591" y="539"/>
                  </a:lnTo>
                  <a:lnTo>
                    <a:pt x="580" y="528"/>
                  </a:lnTo>
                  <a:lnTo>
                    <a:pt x="567" y="518"/>
                  </a:lnTo>
                  <a:lnTo>
                    <a:pt x="555" y="510"/>
                  </a:lnTo>
                  <a:lnTo>
                    <a:pt x="548" y="497"/>
                  </a:lnTo>
                  <a:lnTo>
                    <a:pt x="541" y="488"/>
                  </a:lnTo>
                  <a:lnTo>
                    <a:pt x="536" y="478"/>
                  </a:lnTo>
                  <a:lnTo>
                    <a:pt x="531" y="470"/>
                  </a:lnTo>
                  <a:lnTo>
                    <a:pt x="526" y="461"/>
                  </a:lnTo>
                  <a:lnTo>
                    <a:pt x="522" y="452"/>
                  </a:lnTo>
                  <a:lnTo>
                    <a:pt x="518" y="441"/>
                  </a:lnTo>
                  <a:lnTo>
                    <a:pt x="512" y="428"/>
                  </a:lnTo>
                  <a:lnTo>
                    <a:pt x="507" y="399"/>
                  </a:lnTo>
                  <a:lnTo>
                    <a:pt x="508" y="375"/>
                  </a:lnTo>
                  <a:lnTo>
                    <a:pt x="514" y="351"/>
                  </a:lnTo>
                  <a:lnTo>
                    <a:pt x="523" y="324"/>
                  </a:lnTo>
                  <a:lnTo>
                    <a:pt x="531" y="304"/>
                  </a:lnTo>
                  <a:lnTo>
                    <a:pt x="538" y="284"/>
                  </a:lnTo>
                  <a:lnTo>
                    <a:pt x="548" y="263"/>
                  </a:lnTo>
                  <a:lnTo>
                    <a:pt x="559" y="242"/>
                  </a:lnTo>
                  <a:lnTo>
                    <a:pt x="573" y="222"/>
                  </a:lnTo>
                  <a:lnTo>
                    <a:pt x="591" y="202"/>
                  </a:lnTo>
                  <a:lnTo>
                    <a:pt x="613" y="184"/>
                  </a:lnTo>
                  <a:lnTo>
                    <a:pt x="639" y="166"/>
                  </a:lnTo>
                  <a:lnTo>
                    <a:pt x="635" y="142"/>
                  </a:lnTo>
                  <a:lnTo>
                    <a:pt x="606" y="147"/>
                  </a:lnTo>
                  <a:lnTo>
                    <a:pt x="581" y="162"/>
                  </a:lnTo>
                  <a:lnTo>
                    <a:pt x="558" y="183"/>
                  </a:lnTo>
                  <a:lnTo>
                    <a:pt x="537" y="211"/>
                  </a:lnTo>
                  <a:lnTo>
                    <a:pt x="519" y="241"/>
                  </a:lnTo>
                  <a:lnTo>
                    <a:pt x="505" y="271"/>
                  </a:lnTo>
                  <a:lnTo>
                    <a:pt x="496" y="300"/>
                  </a:lnTo>
                  <a:lnTo>
                    <a:pt x="489" y="325"/>
                  </a:lnTo>
                  <a:lnTo>
                    <a:pt x="476" y="354"/>
                  </a:lnTo>
                  <a:lnTo>
                    <a:pt x="469" y="377"/>
                  </a:lnTo>
                  <a:lnTo>
                    <a:pt x="469" y="401"/>
                  </a:lnTo>
                  <a:lnTo>
                    <a:pt x="474" y="434"/>
                  </a:lnTo>
                  <a:lnTo>
                    <a:pt x="480" y="446"/>
                  </a:lnTo>
                  <a:lnTo>
                    <a:pt x="487" y="459"/>
                  </a:lnTo>
                  <a:lnTo>
                    <a:pt x="494" y="471"/>
                  </a:lnTo>
                  <a:lnTo>
                    <a:pt x="501" y="484"/>
                  </a:lnTo>
                  <a:lnTo>
                    <a:pt x="508" y="496"/>
                  </a:lnTo>
                  <a:lnTo>
                    <a:pt x="515" y="508"/>
                  </a:lnTo>
                  <a:lnTo>
                    <a:pt x="522" y="521"/>
                  </a:lnTo>
                  <a:lnTo>
                    <a:pt x="527" y="535"/>
                  </a:lnTo>
                  <a:lnTo>
                    <a:pt x="537" y="544"/>
                  </a:lnTo>
                  <a:lnTo>
                    <a:pt x="548" y="552"/>
                  </a:lnTo>
                  <a:lnTo>
                    <a:pt x="558" y="561"/>
                  </a:lnTo>
                  <a:lnTo>
                    <a:pt x="569" y="570"/>
                  </a:lnTo>
                  <a:lnTo>
                    <a:pt x="577" y="580"/>
                  </a:lnTo>
                  <a:lnTo>
                    <a:pt x="584" y="591"/>
                  </a:lnTo>
                  <a:lnTo>
                    <a:pt x="591" y="605"/>
                  </a:lnTo>
                  <a:lnTo>
                    <a:pt x="594" y="619"/>
                  </a:lnTo>
                  <a:lnTo>
                    <a:pt x="570" y="624"/>
                  </a:lnTo>
                  <a:lnTo>
                    <a:pt x="547" y="630"/>
                  </a:lnTo>
                  <a:lnTo>
                    <a:pt x="523" y="634"/>
                  </a:lnTo>
                  <a:lnTo>
                    <a:pt x="501" y="638"/>
                  </a:lnTo>
                  <a:lnTo>
                    <a:pt x="478" y="642"/>
                  </a:lnTo>
                  <a:lnTo>
                    <a:pt x="454" y="646"/>
                  </a:lnTo>
                  <a:lnTo>
                    <a:pt x="431" y="652"/>
                  </a:lnTo>
                  <a:lnTo>
                    <a:pt x="407" y="657"/>
                  </a:lnTo>
                  <a:lnTo>
                    <a:pt x="400" y="659"/>
                  </a:lnTo>
                  <a:lnTo>
                    <a:pt x="391" y="660"/>
                  </a:lnTo>
                  <a:lnTo>
                    <a:pt x="380" y="663"/>
                  </a:lnTo>
                  <a:lnTo>
                    <a:pt x="367" y="666"/>
                  </a:lnTo>
                  <a:lnTo>
                    <a:pt x="356" y="668"/>
                  </a:lnTo>
                  <a:lnTo>
                    <a:pt x="345" y="671"/>
                  </a:lnTo>
                  <a:lnTo>
                    <a:pt x="338" y="674"/>
                  </a:lnTo>
                  <a:lnTo>
                    <a:pt x="334" y="675"/>
                  </a:lnTo>
                  <a:lnTo>
                    <a:pt x="307" y="679"/>
                  </a:lnTo>
                  <a:lnTo>
                    <a:pt x="286" y="683"/>
                  </a:lnTo>
                  <a:lnTo>
                    <a:pt x="271" y="686"/>
                  </a:lnTo>
                  <a:lnTo>
                    <a:pt x="260" y="688"/>
                  </a:lnTo>
                  <a:lnTo>
                    <a:pt x="251" y="690"/>
                  </a:lnTo>
                  <a:lnTo>
                    <a:pt x="243" y="693"/>
                  </a:lnTo>
                  <a:lnTo>
                    <a:pt x="235" y="694"/>
                  </a:lnTo>
                  <a:lnTo>
                    <a:pt x="225" y="697"/>
                  </a:lnTo>
                  <a:lnTo>
                    <a:pt x="220" y="701"/>
                  </a:lnTo>
                  <a:lnTo>
                    <a:pt x="214" y="707"/>
                  </a:lnTo>
                  <a:lnTo>
                    <a:pt x="207" y="711"/>
                  </a:lnTo>
                  <a:lnTo>
                    <a:pt x="200" y="715"/>
                  </a:lnTo>
                  <a:lnTo>
                    <a:pt x="193" y="719"/>
                  </a:lnTo>
                  <a:lnTo>
                    <a:pt x="187" y="723"/>
                  </a:lnTo>
                  <a:lnTo>
                    <a:pt x="180" y="728"/>
                  </a:lnTo>
                  <a:lnTo>
                    <a:pt x="173" y="732"/>
                  </a:lnTo>
                  <a:lnTo>
                    <a:pt x="151" y="725"/>
                  </a:lnTo>
                  <a:lnTo>
                    <a:pt x="131" y="721"/>
                  </a:lnTo>
                  <a:lnTo>
                    <a:pt x="113" y="718"/>
                  </a:lnTo>
                  <a:lnTo>
                    <a:pt x="97" y="717"/>
                  </a:lnTo>
                  <a:lnTo>
                    <a:pt x="79" y="715"/>
                  </a:lnTo>
                  <a:lnTo>
                    <a:pt x="61" y="712"/>
                  </a:lnTo>
                  <a:lnTo>
                    <a:pt x="40" y="707"/>
                  </a:lnTo>
                  <a:lnTo>
                    <a:pt x="18" y="699"/>
                  </a:lnTo>
                  <a:lnTo>
                    <a:pt x="20" y="670"/>
                  </a:lnTo>
                  <a:lnTo>
                    <a:pt x="24" y="642"/>
                  </a:lnTo>
                  <a:lnTo>
                    <a:pt x="28" y="615"/>
                  </a:lnTo>
                  <a:lnTo>
                    <a:pt x="31" y="584"/>
                  </a:lnTo>
                  <a:lnTo>
                    <a:pt x="31" y="552"/>
                  </a:lnTo>
                  <a:lnTo>
                    <a:pt x="27" y="517"/>
                  </a:lnTo>
                  <a:lnTo>
                    <a:pt x="17" y="475"/>
                  </a:lnTo>
                  <a:lnTo>
                    <a:pt x="0" y="430"/>
                  </a:lnTo>
                  <a:lnTo>
                    <a:pt x="2" y="399"/>
                  </a:lnTo>
                  <a:lnTo>
                    <a:pt x="6" y="361"/>
                  </a:lnTo>
                  <a:lnTo>
                    <a:pt x="13" y="317"/>
                  </a:lnTo>
                  <a:lnTo>
                    <a:pt x="20" y="268"/>
                  </a:lnTo>
                  <a:lnTo>
                    <a:pt x="28" y="222"/>
                  </a:lnTo>
                  <a:lnTo>
                    <a:pt x="35" y="175"/>
                  </a:lnTo>
                  <a:lnTo>
                    <a:pt x="42" y="132"/>
                  </a:lnTo>
                  <a:lnTo>
                    <a:pt x="47" y="96"/>
                  </a:lnTo>
                  <a:lnTo>
                    <a:pt x="62" y="78"/>
                  </a:lnTo>
                  <a:lnTo>
                    <a:pt x="83" y="62"/>
                  </a:lnTo>
                  <a:lnTo>
                    <a:pt x="109" y="48"/>
                  </a:lnTo>
                  <a:lnTo>
                    <a:pt x="140" y="35"/>
                  </a:lnTo>
                  <a:lnTo>
                    <a:pt x="170" y="26"/>
                  </a:lnTo>
                  <a:lnTo>
                    <a:pt x="199" y="17"/>
                  </a:lnTo>
                  <a:lnTo>
                    <a:pt x="225" y="12"/>
                  </a:lnTo>
                  <a:lnTo>
                    <a:pt x="246" y="8"/>
                  </a:lnTo>
                  <a:lnTo>
                    <a:pt x="246" y="17"/>
                  </a:lnTo>
                  <a:lnTo>
                    <a:pt x="246" y="24"/>
                  </a:lnTo>
                  <a:lnTo>
                    <a:pt x="246" y="31"/>
                  </a:lnTo>
                  <a:lnTo>
                    <a:pt x="246" y="41"/>
                  </a:lnTo>
                  <a:lnTo>
                    <a:pt x="202" y="97"/>
                  </a:lnTo>
                  <a:lnTo>
                    <a:pt x="207" y="97"/>
                  </a:lnTo>
                  <a:lnTo>
                    <a:pt x="216" y="97"/>
                  </a:lnTo>
                  <a:lnTo>
                    <a:pt x="224" y="97"/>
                  </a:lnTo>
                  <a:lnTo>
                    <a:pt x="229" y="99"/>
                  </a:lnTo>
                  <a:lnTo>
                    <a:pt x="235" y="93"/>
                  </a:lnTo>
                  <a:lnTo>
                    <a:pt x="239" y="88"/>
                  </a:lnTo>
                  <a:lnTo>
                    <a:pt x="243" y="81"/>
                  </a:lnTo>
                  <a:lnTo>
                    <a:pt x="247" y="75"/>
                  </a:lnTo>
                  <a:lnTo>
                    <a:pt x="251" y="69"/>
                  </a:lnTo>
                  <a:lnTo>
                    <a:pt x="256" y="63"/>
                  </a:lnTo>
                  <a:lnTo>
                    <a:pt x="262" y="59"/>
                  </a:lnTo>
                  <a:lnTo>
                    <a:pt x="271" y="56"/>
                  </a:lnTo>
                  <a:lnTo>
                    <a:pt x="275" y="56"/>
                  </a:lnTo>
                  <a:lnTo>
                    <a:pt x="279" y="56"/>
                  </a:lnTo>
                  <a:lnTo>
                    <a:pt x="282" y="56"/>
                  </a:lnTo>
                  <a:lnTo>
                    <a:pt x="286" y="57"/>
                  </a:lnTo>
                  <a:lnTo>
                    <a:pt x="269" y="102"/>
                  </a:lnTo>
                  <a:lnTo>
                    <a:pt x="275" y="99"/>
                  </a:lnTo>
                  <a:lnTo>
                    <a:pt x="283" y="97"/>
                  </a:lnTo>
                  <a:lnTo>
                    <a:pt x="291" y="95"/>
                  </a:lnTo>
                  <a:lnTo>
                    <a:pt x="297" y="93"/>
                  </a:lnTo>
                  <a:lnTo>
                    <a:pt x="305" y="73"/>
                  </a:lnTo>
                  <a:lnTo>
                    <a:pt x="308" y="59"/>
                  </a:lnTo>
                  <a:lnTo>
                    <a:pt x="308" y="52"/>
                  </a:lnTo>
                  <a:lnTo>
                    <a:pt x="308" y="48"/>
                  </a:lnTo>
                  <a:lnTo>
                    <a:pt x="315" y="48"/>
                  </a:lnTo>
                  <a:lnTo>
                    <a:pt x="323" y="48"/>
                  </a:lnTo>
                  <a:lnTo>
                    <a:pt x="333" y="48"/>
                  </a:lnTo>
                  <a:lnTo>
                    <a:pt x="342" y="48"/>
                  </a:lnTo>
                  <a:lnTo>
                    <a:pt x="352" y="49"/>
                  </a:lnTo>
                  <a:lnTo>
                    <a:pt x="360" y="51"/>
                  </a:lnTo>
                  <a:lnTo>
                    <a:pt x="365" y="55"/>
                  </a:lnTo>
                  <a:lnTo>
                    <a:pt x="365" y="59"/>
                  </a:lnTo>
                  <a:lnTo>
                    <a:pt x="359" y="64"/>
                  </a:lnTo>
                  <a:lnTo>
                    <a:pt x="352" y="71"/>
                  </a:lnTo>
                  <a:lnTo>
                    <a:pt x="345" y="80"/>
                  </a:lnTo>
                  <a:lnTo>
                    <a:pt x="338" y="86"/>
                  </a:lnTo>
                  <a:lnTo>
                    <a:pt x="331" y="93"/>
                  </a:lnTo>
                  <a:lnTo>
                    <a:pt x="325" y="100"/>
                  </a:lnTo>
                  <a:lnTo>
                    <a:pt x="320" y="107"/>
                  </a:lnTo>
                  <a:lnTo>
                    <a:pt x="316" y="111"/>
                  </a:lnTo>
                  <a:lnTo>
                    <a:pt x="351" y="107"/>
                  </a:lnTo>
                  <a:lnTo>
                    <a:pt x="400" y="51"/>
                  </a:lnTo>
                  <a:lnTo>
                    <a:pt x="413" y="44"/>
                  </a:lnTo>
                  <a:lnTo>
                    <a:pt x="424" y="35"/>
                  </a:lnTo>
                  <a:lnTo>
                    <a:pt x="434" y="29"/>
                  </a:lnTo>
                  <a:lnTo>
                    <a:pt x="443" y="20"/>
                  </a:lnTo>
                  <a:lnTo>
                    <a:pt x="453" y="13"/>
                  </a:lnTo>
                  <a:lnTo>
                    <a:pt x="462" y="8"/>
                  </a:lnTo>
                  <a:lnTo>
                    <a:pt x="475" y="2"/>
                  </a:lnTo>
                  <a:lnTo>
                    <a:pt x="487" y="0"/>
                  </a:lnTo>
                  <a:lnTo>
                    <a:pt x="498" y="5"/>
                  </a:lnTo>
                  <a:lnTo>
                    <a:pt x="511" y="12"/>
                  </a:lnTo>
                  <a:lnTo>
                    <a:pt x="523" y="19"/>
                  </a:lnTo>
                  <a:lnTo>
                    <a:pt x="538" y="24"/>
                  </a:lnTo>
                  <a:lnTo>
                    <a:pt x="552" y="31"/>
                  </a:lnTo>
                  <a:lnTo>
                    <a:pt x="567" y="38"/>
                  </a:lnTo>
                  <a:lnTo>
                    <a:pt x="584" y="45"/>
                  </a:lnTo>
                  <a:lnTo>
                    <a:pt x="600" y="52"/>
                  </a:lnTo>
                  <a:lnTo>
                    <a:pt x="616" y="59"/>
                  </a:lnTo>
                  <a:lnTo>
                    <a:pt x="632" y="66"/>
                  </a:lnTo>
                  <a:lnTo>
                    <a:pt x="649" y="74"/>
                  </a:lnTo>
                  <a:lnTo>
                    <a:pt x="664" y="82"/>
                  </a:lnTo>
                  <a:lnTo>
                    <a:pt x="679" y="92"/>
                  </a:lnTo>
                  <a:lnTo>
                    <a:pt x="694" y="100"/>
                  </a:lnTo>
                  <a:lnTo>
                    <a:pt x="708" y="111"/>
                  </a:lnTo>
                  <a:lnTo>
                    <a:pt x="720" y="121"/>
                  </a:lnTo>
                  <a:lnTo>
                    <a:pt x="727" y="144"/>
                  </a:lnTo>
                  <a:lnTo>
                    <a:pt x="736" y="187"/>
                  </a:lnTo>
                  <a:lnTo>
                    <a:pt x="745" y="234"/>
                  </a:lnTo>
                  <a:lnTo>
                    <a:pt x="756" y="274"/>
                  </a:lnTo>
                  <a:lnTo>
                    <a:pt x="762" y="286"/>
                  </a:lnTo>
                  <a:lnTo>
                    <a:pt x="771" y="307"/>
                  </a:lnTo>
                  <a:lnTo>
                    <a:pt x="784" y="332"/>
                  </a:lnTo>
                  <a:lnTo>
                    <a:pt x="798" y="361"/>
                  </a:lnTo>
                  <a:lnTo>
                    <a:pt x="813" y="388"/>
                  </a:lnTo>
                  <a:lnTo>
                    <a:pt x="825" y="413"/>
                  </a:lnTo>
                  <a:lnTo>
                    <a:pt x="834" y="434"/>
                  </a:lnTo>
                  <a:lnTo>
                    <a:pt x="839" y="448"/>
                  </a:lnTo>
                  <a:lnTo>
                    <a:pt x="840" y="496"/>
                  </a:lnTo>
                  <a:lnTo>
                    <a:pt x="843" y="544"/>
                  </a:lnTo>
                  <a:lnTo>
                    <a:pt x="846" y="592"/>
                  </a:lnTo>
                  <a:lnTo>
                    <a:pt x="850" y="641"/>
                  </a:lnTo>
                  <a:lnTo>
                    <a:pt x="850" y="683"/>
                  </a:lnTo>
                  <a:lnTo>
                    <a:pt x="849" y="718"/>
                  </a:lnTo>
                  <a:lnTo>
                    <a:pt x="845" y="743"/>
                  </a:lnTo>
                  <a:lnTo>
                    <a:pt x="836" y="762"/>
                  </a:lnTo>
                  <a:lnTo>
                    <a:pt x="827" y="774"/>
                  </a:lnTo>
                  <a:lnTo>
                    <a:pt x="813" y="785"/>
                  </a:lnTo>
                  <a:lnTo>
                    <a:pt x="795" y="794"/>
                  </a:lnTo>
                  <a:lnTo>
                    <a:pt x="773" y="801"/>
                  </a:lnTo>
                  <a:lnTo>
                    <a:pt x="743" y="805"/>
                  </a:lnTo>
                  <a:lnTo>
                    <a:pt x="715" y="808"/>
                  </a:lnTo>
                  <a:lnTo>
                    <a:pt x="689" y="809"/>
                  </a:lnTo>
                  <a:lnTo>
                    <a:pt x="664" y="808"/>
                  </a:lnTo>
                  <a:lnTo>
                    <a:pt x="639" y="808"/>
                  </a:lnTo>
                  <a:lnTo>
                    <a:pt x="613" y="806"/>
                  </a:lnTo>
                  <a:lnTo>
                    <a:pt x="585" y="803"/>
                  </a:lnTo>
                  <a:lnTo>
                    <a:pt x="556" y="802"/>
                  </a:lnTo>
                  <a:close/>
                </a:path>
              </a:pathLst>
            </a:custGeom>
            <a:solidFill>
              <a:srgbClr val="ff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08720" y="4657680"/>
              <a:ext cx="63360" cy="109440"/>
            </a:xfrm>
            <a:custGeom>
              <a:avLst/>
              <a:gdLst/>
              <a:ahLst/>
              <a:rect l="l" t="t" r="r" b="b"/>
              <a:pathLst>
                <a:path w="40" h="69">
                  <a:moveTo>
                    <a:pt x="0" y="69"/>
                  </a:moveTo>
                  <a:lnTo>
                    <a:pt x="2" y="57"/>
                  </a:lnTo>
                  <a:lnTo>
                    <a:pt x="4" y="39"/>
                  </a:lnTo>
                  <a:lnTo>
                    <a:pt x="4" y="20"/>
                  </a:lnTo>
                  <a:lnTo>
                    <a:pt x="4" y="6"/>
                  </a:lnTo>
                  <a:lnTo>
                    <a:pt x="13" y="4"/>
                  </a:lnTo>
                  <a:lnTo>
                    <a:pt x="20" y="3"/>
                  </a:lnTo>
                  <a:lnTo>
                    <a:pt x="29" y="0"/>
                  </a:lnTo>
                  <a:lnTo>
                    <a:pt x="40" y="0"/>
                  </a:lnTo>
                  <a:lnTo>
                    <a:pt x="38" y="20"/>
                  </a:lnTo>
                  <a:lnTo>
                    <a:pt x="40" y="37"/>
                  </a:lnTo>
                  <a:lnTo>
                    <a:pt x="38" y="55"/>
                  </a:lnTo>
                  <a:lnTo>
                    <a:pt x="30" y="69"/>
                  </a:lnTo>
                  <a:lnTo>
                    <a:pt x="23" y="69"/>
                  </a:lnTo>
                  <a:lnTo>
                    <a:pt x="18" y="69"/>
                  </a:lnTo>
                  <a:lnTo>
                    <a:pt x="11" y="69"/>
                  </a:lnTo>
                  <a:lnTo>
                    <a:pt x="0" y="69"/>
                  </a:lnTo>
                  <a:close/>
                </a:path>
              </a:pathLst>
            </a:custGeom>
            <a:solidFill>
              <a:srgbClr val="ff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510080" y="3949560"/>
              <a:ext cx="398520" cy="506520"/>
            </a:xfrm>
            <a:custGeom>
              <a:avLst/>
              <a:gdLst/>
              <a:ahLst/>
              <a:rect l="l" t="t" r="r" b="b"/>
              <a:pathLst>
                <a:path w="251" h="319">
                  <a:moveTo>
                    <a:pt x="118" y="275"/>
                  </a:moveTo>
                  <a:lnTo>
                    <a:pt x="103" y="257"/>
                  </a:lnTo>
                  <a:lnTo>
                    <a:pt x="91" y="241"/>
                  </a:lnTo>
                  <a:lnTo>
                    <a:pt x="82" y="224"/>
                  </a:lnTo>
                  <a:lnTo>
                    <a:pt x="74" y="208"/>
                  </a:lnTo>
                  <a:lnTo>
                    <a:pt x="66" y="191"/>
                  </a:lnTo>
                  <a:lnTo>
                    <a:pt x="58" y="173"/>
                  </a:lnTo>
                  <a:lnTo>
                    <a:pt x="45" y="157"/>
                  </a:lnTo>
                  <a:lnTo>
                    <a:pt x="30" y="139"/>
                  </a:lnTo>
                  <a:lnTo>
                    <a:pt x="22" y="126"/>
                  </a:lnTo>
                  <a:lnTo>
                    <a:pt x="12" y="114"/>
                  </a:lnTo>
                  <a:lnTo>
                    <a:pt x="4" y="100"/>
                  </a:lnTo>
                  <a:lnTo>
                    <a:pt x="0" y="85"/>
                  </a:lnTo>
                  <a:lnTo>
                    <a:pt x="5" y="73"/>
                  </a:lnTo>
                  <a:lnTo>
                    <a:pt x="9" y="62"/>
                  </a:lnTo>
                  <a:lnTo>
                    <a:pt x="15" y="51"/>
                  </a:lnTo>
                  <a:lnTo>
                    <a:pt x="19" y="41"/>
                  </a:lnTo>
                  <a:lnTo>
                    <a:pt x="24" y="31"/>
                  </a:lnTo>
                  <a:lnTo>
                    <a:pt x="31" y="22"/>
                  </a:lnTo>
                  <a:lnTo>
                    <a:pt x="38" y="11"/>
                  </a:lnTo>
                  <a:lnTo>
                    <a:pt x="47" y="0"/>
                  </a:lnTo>
                  <a:lnTo>
                    <a:pt x="67" y="8"/>
                  </a:lnTo>
                  <a:lnTo>
                    <a:pt x="91" y="22"/>
                  </a:lnTo>
                  <a:lnTo>
                    <a:pt x="114" y="39"/>
                  </a:lnTo>
                  <a:lnTo>
                    <a:pt x="139" y="59"/>
                  </a:lnTo>
                  <a:lnTo>
                    <a:pt x="160" y="78"/>
                  </a:lnTo>
                  <a:lnTo>
                    <a:pt x="178" y="95"/>
                  </a:lnTo>
                  <a:lnTo>
                    <a:pt x="191" y="107"/>
                  </a:lnTo>
                  <a:lnTo>
                    <a:pt x="198" y="111"/>
                  </a:lnTo>
                  <a:lnTo>
                    <a:pt x="201" y="103"/>
                  </a:lnTo>
                  <a:lnTo>
                    <a:pt x="205" y="93"/>
                  </a:lnTo>
                  <a:lnTo>
                    <a:pt x="211" y="84"/>
                  </a:lnTo>
                  <a:lnTo>
                    <a:pt x="218" y="73"/>
                  </a:lnTo>
                  <a:lnTo>
                    <a:pt x="223" y="63"/>
                  </a:lnTo>
                  <a:lnTo>
                    <a:pt x="230" y="55"/>
                  </a:lnTo>
                  <a:lnTo>
                    <a:pt x="236" y="48"/>
                  </a:lnTo>
                  <a:lnTo>
                    <a:pt x="240" y="45"/>
                  </a:lnTo>
                  <a:lnTo>
                    <a:pt x="230" y="104"/>
                  </a:lnTo>
                  <a:lnTo>
                    <a:pt x="226" y="146"/>
                  </a:lnTo>
                  <a:lnTo>
                    <a:pt x="227" y="180"/>
                  </a:lnTo>
                  <a:lnTo>
                    <a:pt x="236" y="220"/>
                  </a:lnTo>
                  <a:lnTo>
                    <a:pt x="245" y="273"/>
                  </a:lnTo>
                  <a:lnTo>
                    <a:pt x="249" y="299"/>
                  </a:lnTo>
                  <a:lnTo>
                    <a:pt x="251" y="310"/>
                  </a:lnTo>
                  <a:lnTo>
                    <a:pt x="247" y="319"/>
                  </a:lnTo>
                  <a:lnTo>
                    <a:pt x="236" y="315"/>
                  </a:lnTo>
                  <a:lnTo>
                    <a:pt x="220" y="311"/>
                  </a:lnTo>
                  <a:lnTo>
                    <a:pt x="202" y="306"/>
                  </a:lnTo>
                  <a:lnTo>
                    <a:pt x="182" y="299"/>
                  </a:lnTo>
                  <a:lnTo>
                    <a:pt x="161" y="292"/>
                  </a:lnTo>
                  <a:lnTo>
                    <a:pt x="143" y="285"/>
                  </a:lnTo>
                  <a:lnTo>
                    <a:pt x="128" y="279"/>
                  </a:lnTo>
                  <a:lnTo>
                    <a:pt x="118" y="275"/>
                  </a:lnTo>
                  <a:close/>
                </a:path>
              </a:pathLst>
            </a:custGeom>
            <a:solidFill>
              <a:srgbClr val="ff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441680" y="3903840"/>
              <a:ext cx="93960" cy="128520"/>
            </a:xfrm>
            <a:custGeom>
              <a:avLst/>
              <a:gdLst/>
              <a:ahLst/>
              <a:rect l="l" t="t" r="r" b="b"/>
              <a:pathLst>
                <a:path w="59" h="81">
                  <a:moveTo>
                    <a:pt x="0" y="70"/>
                  </a:moveTo>
                  <a:lnTo>
                    <a:pt x="5" y="55"/>
                  </a:lnTo>
                  <a:lnTo>
                    <a:pt x="14" y="41"/>
                  </a:lnTo>
                  <a:lnTo>
                    <a:pt x="22" y="24"/>
                  </a:lnTo>
                  <a:lnTo>
                    <a:pt x="32" y="0"/>
                  </a:lnTo>
                  <a:lnTo>
                    <a:pt x="39" y="2"/>
                  </a:lnTo>
                  <a:lnTo>
                    <a:pt x="45" y="5"/>
                  </a:lnTo>
                  <a:lnTo>
                    <a:pt x="52" y="8"/>
                  </a:lnTo>
                  <a:lnTo>
                    <a:pt x="59" y="11"/>
                  </a:lnTo>
                  <a:lnTo>
                    <a:pt x="55" y="19"/>
                  </a:lnTo>
                  <a:lnTo>
                    <a:pt x="50" y="30"/>
                  </a:lnTo>
                  <a:lnTo>
                    <a:pt x="44" y="41"/>
                  </a:lnTo>
                  <a:lnTo>
                    <a:pt x="39" y="52"/>
                  </a:lnTo>
                  <a:lnTo>
                    <a:pt x="32" y="62"/>
                  </a:lnTo>
                  <a:lnTo>
                    <a:pt x="26" y="70"/>
                  </a:lnTo>
                  <a:lnTo>
                    <a:pt x="22" y="77"/>
                  </a:lnTo>
                  <a:lnTo>
                    <a:pt x="18" y="81"/>
                  </a:lnTo>
                  <a:lnTo>
                    <a:pt x="14" y="80"/>
                  </a:lnTo>
                  <a:lnTo>
                    <a:pt x="10" y="75"/>
                  </a:lnTo>
                  <a:lnTo>
                    <a:pt x="4" y="73"/>
                  </a:lnTo>
                  <a:lnTo>
                    <a:pt x="0" y="70"/>
                  </a:lnTo>
                  <a:close/>
                </a:path>
              </a:pathLst>
            </a:custGeom>
            <a:solidFill>
              <a:srgbClr val="ff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118040" y="3822840"/>
              <a:ext cx="323640" cy="180720"/>
            </a:xfrm>
            <a:custGeom>
              <a:avLst/>
              <a:gdLst/>
              <a:ahLst/>
              <a:rect l="l" t="t" r="r" b="b"/>
              <a:pathLst>
                <a:path w="204" h="114">
                  <a:moveTo>
                    <a:pt x="4" y="107"/>
                  </a:moveTo>
                  <a:lnTo>
                    <a:pt x="2" y="95"/>
                  </a:lnTo>
                  <a:lnTo>
                    <a:pt x="1" y="84"/>
                  </a:lnTo>
                  <a:lnTo>
                    <a:pt x="0" y="74"/>
                  </a:lnTo>
                  <a:lnTo>
                    <a:pt x="0" y="62"/>
                  </a:lnTo>
                  <a:lnTo>
                    <a:pt x="4" y="51"/>
                  </a:lnTo>
                  <a:lnTo>
                    <a:pt x="11" y="40"/>
                  </a:lnTo>
                  <a:lnTo>
                    <a:pt x="19" y="31"/>
                  </a:lnTo>
                  <a:lnTo>
                    <a:pt x="30" y="28"/>
                  </a:lnTo>
                  <a:lnTo>
                    <a:pt x="26" y="38"/>
                  </a:lnTo>
                  <a:lnTo>
                    <a:pt x="22" y="46"/>
                  </a:lnTo>
                  <a:lnTo>
                    <a:pt x="18" y="56"/>
                  </a:lnTo>
                  <a:lnTo>
                    <a:pt x="14" y="66"/>
                  </a:lnTo>
                  <a:lnTo>
                    <a:pt x="14" y="73"/>
                  </a:lnTo>
                  <a:lnTo>
                    <a:pt x="14" y="77"/>
                  </a:lnTo>
                  <a:lnTo>
                    <a:pt x="16" y="81"/>
                  </a:lnTo>
                  <a:lnTo>
                    <a:pt x="20" y="86"/>
                  </a:lnTo>
                  <a:lnTo>
                    <a:pt x="26" y="88"/>
                  </a:lnTo>
                  <a:lnTo>
                    <a:pt x="33" y="86"/>
                  </a:lnTo>
                  <a:lnTo>
                    <a:pt x="40" y="84"/>
                  </a:lnTo>
                  <a:lnTo>
                    <a:pt x="47" y="80"/>
                  </a:lnTo>
                  <a:lnTo>
                    <a:pt x="55" y="75"/>
                  </a:lnTo>
                  <a:lnTo>
                    <a:pt x="63" y="71"/>
                  </a:lnTo>
                  <a:lnTo>
                    <a:pt x="73" y="68"/>
                  </a:lnTo>
                  <a:lnTo>
                    <a:pt x="83" y="66"/>
                  </a:lnTo>
                  <a:lnTo>
                    <a:pt x="83" y="59"/>
                  </a:lnTo>
                  <a:lnTo>
                    <a:pt x="81" y="56"/>
                  </a:lnTo>
                  <a:lnTo>
                    <a:pt x="77" y="52"/>
                  </a:lnTo>
                  <a:lnTo>
                    <a:pt x="71" y="48"/>
                  </a:lnTo>
                  <a:lnTo>
                    <a:pt x="52" y="46"/>
                  </a:lnTo>
                  <a:lnTo>
                    <a:pt x="49" y="42"/>
                  </a:lnTo>
                  <a:lnTo>
                    <a:pt x="52" y="33"/>
                  </a:lnTo>
                  <a:lnTo>
                    <a:pt x="54" y="11"/>
                  </a:lnTo>
                  <a:lnTo>
                    <a:pt x="66" y="6"/>
                  </a:lnTo>
                  <a:lnTo>
                    <a:pt x="76" y="5"/>
                  </a:lnTo>
                  <a:lnTo>
                    <a:pt x="83" y="2"/>
                  </a:lnTo>
                  <a:lnTo>
                    <a:pt x="88" y="2"/>
                  </a:lnTo>
                  <a:lnTo>
                    <a:pt x="92" y="1"/>
                  </a:lnTo>
                  <a:lnTo>
                    <a:pt x="94" y="1"/>
                  </a:lnTo>
                  <a:lnTo>
                    <a:pt x="96" y="1"/>
                  </a:lnTo>
                  <a:lnTo>
                    <a:pt x="98" y="0"/>
                  </a:lnTo>
                  <a:lnTo>
                    <a:pt x="114" y="0"/>
                  </a:lnTo>
                  <a:lnTo>
                    <a:pt x="129" y="1"/>
                  </a:lnTo>
                  <a:lnTo>
                    <a:pt x="145" y="4"/>
                  </a:lnTo>
                  <a:lnTo>
                    <a:pt x="158" y="9"/>
                  </a:lnTo>
                  <a:lnTo>
                    <a:pt x="171" y="16"/>
                  </a:lnTo>
                  <a:lnTo>
                    <a:pt x="183" y="24"/>
                  </a:lnTo>
                  <a:lnTo>
                    <a:pt x="194" y="34"/>
                  </a:lnTo>
                  <a:lnTo>
                    <a:pt x="204" y="46"/>
                  </a:lnTo>
                  <a:lnTo>
                    <a:pt x="200" y="60"/>
                  </a:lnTo>
                  <a:lnTo>
                    <a:pt x="191" y="73"/>
                  </a:lnTo>
                  <a:lnTo>
                    <a:pt x="183" y="84"/>
                  </a:lnTo>
                  <a:lnTo>
                    <a:pt x="174" y="96"/>
                  </a:lnTo>
                  <a:lnTo>
                    <a:pt x="171" y="96"/>
                  </a:lnTo>
                  <a:lnTo>
                    <a:pt x="165" y="95"/>
                  </a:lnTo>
                  <a:lnTo>
                    <a:pt x="160" y="93"/>
                  </a:lnTo>
                  <a:lnTo>
                    <a:pt x="154" y="92"/>
                  </a:lnTo>
                  <a:lnTo>
                    <a:pt x="146" y="89"/>
                  </a:lnTo>
                  <a:lnTo>
                    <a:pt x="138" y="88"/>
                  </a:lnTo>
                  <a:lnTo>
                    <a:pt x="128" y="86"/>
                  </a:lnTo>
                  <a:lnTo>
                    <a:pt x="117" y="85"/>
                  </a:lnTo>
                  <a:lnTo>
                    <a:pt x="110" y="86"/>
                  </a:lnTo>
                  <a:lnTo>
                    <a:pt x="105" y="89"/>
                  </a:lnTo>
                  <a:lnTo>
                    <a:pt x="99" y="92"/>
                  </a:lnTo>
                  <a:lnTo>
                    <a:pt x="94" y="96"/>
                  </a:lnTo>
                  <a:lnTo>
                    <a:pt x="88" y="100"/>
                  </a:lnTo>
                  <a:lnTo>
                    <a:pt x="84" y="104"/>
                  </a:lnTo>
                  <a:lnTo>
                    <a:pt x="78" y="108"/>
                  </a:lnTo>
                  <a:lnTo>
                    <a:pt x="71" y="111"/>
                  </a:lnTo>
                  <a:lnTo>
                    <a:pt x="62" y="113"/>
                  </a:lnTo>
                  <a:lnTo>
                    <a:pt x="54" y="114"/>
                  </a:lnTo>
                  <a:lnTo>
                    <a:pt x="45" y="114"/>
                  </a:lnTo>
                  <a:lnTo>
                    <a:pt x="38" y="113"/>
                  </a:lnTo>
                  <a:lnTo>
                    <a:pt x="30" y="113"/>
                  </a:lnTo>
                  <a:lnTo>
                    <a:pt x="22" y="111"/>
                  </a:lnTo>
                  <a:lnTo>
                    <a:pt x="14" y="108"/>
                  </a:lnTo>
                  <a:lnTo>
                    <a:pt x="4" y="107"/>
                  </a:lnTo>
                  <a:close/>
                </a:path>
              </a:pathLst>
            </a:custGeom>
            <a:solidFill>
              <a:srgbClr val="ffd6b5">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056120" y="3835440"/>
              <a:ext cx="84240" cy="150840"/>
            </a:xfrm>
            <a:custGeom>
              <a:avLst/>
              <a:gdLst/>
              <a:ahLst/>
              <a:rect l="l" t="t" r="r" b="b"/>
              <a:pathLst>
                <a:path w="53" h="95">
                  <a:moveTo>
                    <a:pt x="0" y="89"/>
                  </a:moveTo>
                  <a:lnTo>
                    <a:pt x="3" y="66"/>
                  </a:lnTo>
                  <a:lnTo>
                    <a:pt x="7" y="45"/>
                  </a:lnTo>
                  <a:lnTo>
                    <a:pt x="14" y="27"/>
                  </a:lnTo>
                  <a:lnTo>
                    <a:pt x="25" y="9"/>
                  </a:lnTo>
                  <a:lnTo>
                    <a:pt x="32" y="8"/>
                  </a:lnTo>
                  <a:lnTo>
                    <a:pt x="39" y="5"/>
                  </a:lnTo>
                  <a:lnTo>
                    <a:pt x="46" y="3"/>
                  </a:lnTo>
                  <a:lnTo>
                    <a:pt x="53" y="0"/>
                  </a:lnTo>
                  <a:lnTo>
                    <a:pt x="50" y="5"/>
                  </a:lnTo>
                  <a:lnTo>
                    <a:pt x="47" y="9"/>
                  </a:lnTo>
                  <a:lnTo>
                    <a:pt x="44" y="12"/>
                  </a:lnTo>
                  <a:lnTo>
                    <a:pt x="39" y="16"/>
                  </a:lnTo>
                  <a:lnTo>
                    <a:pt x="32" y="26"/>
                  </a:lnTo>
                  <a:lnTo>
                    <a:pt x="25" y="36"/>
                  </a:lnTo>
                  <a:lnTo>
                    <a:pt x="21" y="44"/>
                  </a:lnTo>
                  <a:lnTo>
                    <a:pt x="15" y="55"/>
                  </a:lnTo>
                  <a:lnTo>
                    <a:pt x="15" y="74"/>
                  </a:lnTo>
                  <a:lnTo>
                    <a:pt x="15" y="83"/>
                  </a:lnTo>
                  <a:lnTo>
                    <a:pt x="15" y="88"/>
                  </a:lnTo>
                  <a:lnTo>
                    <a:pt x="14" y="94"/>
                  </a:lnTo>
                  <a:lnTo>
                    <a:pt x="10" y="95"/>
                  </a:lnTo>
                  <a:lnTo>
                    <a:pt x="7" y="95"/>
                  </a:lnTo>
                  <a:lnTo>
                    <a:pt x="3" y="92"/>
                  </a:lnTo>
                  <a:lnTo>
                    <a:pt x="0" y="89"/>
                  </a:lnTo>
                  <a:close/>
                </a:path>
              </a:pathLst>
            </a:custGeom>
            <a:solidFill>
              <a:srgbClr val="ffd6b5">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010040" y="3832200"/>
              <a:ext cx="57240" cy="125280"/>
            </a:xfrm>
            <a:custGeom>
              <a:avLst/>
              <a:gdLst/>
              <a:ahLst/>
              <a:rect l="l" t="t" r="r" b="b"/>
              <a:pathLst>
                <a:path w="36" h="79">
                  <a:moveTo>
                    <a:pt x="0" y="72"/>
                  </a:moveTo>
                  <a:lnTo>
                    <a:pt x="2" y="51"/>
                  </a:lnTo>
                  <a:lnTo>
                    <a:pt x="6" y="31"/>
                  </a:lnTo>
                  <a:lnTo>
                    <a:pt x="13" y="13"/>
                  </a:lnTo>
                  <a:lnTo>
                    <a:pt x="25" y="0"/>
                  </a:lnTo>
                  <a:lnTo>
                    <a:pt x="28" y="2"/>
                  </a:lnTo>
                  <a:lnTo>
                    <a:pt x="29" y="6"/>
                  </a:lnTo>
                  <a:lnTo>
                    <a:pt x="32" y="7"/>
                  </a:lnTo>
                  <a:lnTo>
                    <a:pt x="36" y="3"/>
                  </a:lnTo>
                  <a:lnTo>
                    <a:pt x="22" y="22"/>
                  </a:lnTo>
                  <a:lnTo>
                    <a:pt x="15" y="38"/>
                  </a:lnTo>
                  <a:lnTo>
                    <a:pt x="14" y="54"/>
                  </a:lnTo>
                  <a:lnTo>
                    <a:pt x="11" y="78"/>
                  </a:lnTo>
                  <a:lnTo>
                    <a:pt x="8" y="79"/>
                  </a:lnTo>
                  <a:lnTo>
                    <a:pt x="6" y="78"/>
                  </a:lnTo>
                  <a:lnTo>
                    <a:pt x="3" y="75"/>
                  </a:lnTo>
                  <a:lnTo>
                    <a:pt x="0" y="72"/>
                  </a:lnTo>
                  <a:close/>
                </a:path>
              </a:pathLst>
            </a:custGeom>
            <a:solidFill>
              <a:srgbClr val="ffd6b5">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956040" y="3886200"/>
              <a:ext cx="25560" cy="55440"/>
            </a:xfrm>
            <a:custGeom>
              <a:avLst/>
              <a:gdLst/>
              <a:ahLst/>
              <a:rect l="l" t="t" r="r" b="b"/>
              <a:pathLst>
                <a:path w="16" h="35">
                  <a:moveTo>
                    <a:pt x="4" y="0"/>
                  </a:moveTo>
                  <a:lnTo>
                    <a:pt x="8" y="0"/>
                  </a:lnTo>
                  <a:lnTo>
                    <a:pt x="11" y="0"/>
                  </a:lnTo>
                  <a:lnTo>
                    <a:pt x="13" y="1"/>
                  </a:lnTo>
                  <a:lnTo>
                    <a:pt x="16" y="2"/>
                  </a:lnTo>
                  <a:lnTo>
                    <a:pt x="15" y="11"/>
                  </a:lnTo>
                  <a:lnTo>
                    <a:pt x="12" y="19"/>
                  </a:lnTo>
                  <a:lnTo>
                    <a:pt x="11" y="27"/>
                  </a:lnTo>
                  <a:lnTo>
                    <a:pt x="8" y="35"/>
                  </a:lnTo>
                  <a:lnTo>
                    <a:pt x="2" y="31"/>
                  </a:lnTo>
                  <a:lnTo>
                    <a:pt x="0" y="20"/>
                  </a:lnTo>
                  <a:lnTo>
                    <a:pt x="1" y="9"/>
                  </a:lnTo>
                  <a:lnTo>
                    <a:pt x="4" y="0"/>
                  </a:lnTo>
                  <a:close/>
                </a:path>
              </a:pathLst>
            </a:custGeom>
            <a:solidFill>
              <a:srgbClr val="ffd6b5">
                <a:alpha val="50000"/>
              </a:srgbClr>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6" name=""/>
            <p:cNvSpPr/>
            <p:nvPr/>
          </p:nvSpPr>
          <p:spPr>
            <a:xfrm>
              <a:off x="3867120" y="3805200"/>
              <a:ext cx="131760" cy="58680"/>
            </a:xfrm>
            <a:custGeom>
              <a:avLst/>
              <a:gdLst/>
              <a:ahLst/>
              <a:rect l="l" t="t" r="r" b="b"/>
              <a:pathLst>
                <a:path w="83" h="37">
                  <a:moveTo>
                    <a:pt x="0" y="11"/>
                  </a:moveTo>
                  <a:lnTo>
                    <a:pt x="2" y="0"/>
                  </a:lnTo>
                  <a:lnTo>
                    <a:pt x="83" y="24"/>
                  </a:lnTo>
                  <a:lnTo>
                    <a:pt x="78" y="37"/>
                  </a:lnTo>
                  <a:lnTo>
                    <a:pt x="0" y="11"/>
                  </a:lnTo>
                  <a:close/>
                </a:path>
              </a:pathLst>
            </a:custGeom>
            <a:solidFill>
              <a:srgbClr val="ffffff">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7" name=""/>
            <p:cNvSpPr/>
            <p:nvPr/>
          </p:nvSpPr>
          <p:spPr>
            <a:xfrm>
              <a:off x="5346720" y="3473280"/>
              <a:ext cx="309600" cy="120960"/>
            </a:xfrm>
            <a:custGeom>
              <a:avLst/>
              <a:gdLst/>
              <a:ahLst/>
              <a:rect l="l" t="t" r="r" b="b"/>
              <a:pathLst>
                <a:path w="195" h="76">
                  <a:moveTo>
                    <a:pt x="4" y="73"/>
                  </a:moveTo>
                  <a:lnTo>
                    <a:pt x="2" y="62"/>
                  </a:lnTo>
                  <a:lnTo>
                    <a:pt x="1" y="53"/>
                  </a:lnTo>
                  <a:lnTo>
                    <a:pt x="0" y="43"/>
                  </a:lnTo>
                  <a:lnTo>
                    <a:pt x="0" y="32"/>
                  </a:lnTo>
                  <a:lnTo>
                    <a:pt x="24" y="33"/>
                  </a:lnTo>
                  <a:lnTo>
                    <a:pt x="47" y="33"/>
                  </a:lnTo>
                  <a:lnTo>
                    <a:pt x="67" y="32"/>
                  </a:lnTo>
                  <a:lnTo>
                    <a:pt x="88" y="29"/>
                  </a:lnTo>
                  <a:lnTo>
                    <a:pt x="109" y="25"/>
                  </a:lnTo>
                  <a:lnTo>
                    <a:pt x="131" y="18"/>
                  </a:lnTo>
                  <a:lnTo>
                    <a:pt x="155" y="10"/>
                  </a:lnTo>
                  <a:lnTo>
                    <a:pt x="184" y="0"/>
                  </a:lnTo>
                  <a:lnTo>
                    <a:pt x="186" y="6"/>
                  </a:lnTo>
                  <a:lnTo>
                    <a:pt x="190" y="10"/>
                  </a:lnTo>
                  <a:lnTo>
                    <a:pt x="194" y="15"/>
                  </a:lnTo>
                  <a:lnTo>
                    <a:pt x="195" y="21"/>
                  </a:lnTo>
                  <a:lnTo>
                    <a:pt x="187" y="27"/>
                  </a:lnTo>
                  <a:lnTo>
                    <a:pt x="179" y="32"/>
                  </a:lnTo>
                  <a:lnTo>
                    <a:pt x="169" y="38"/>
                  </a:lnTo>
                  <a:lnTo>
                    <a:pt x="160" y="43"/>
                  </a:lnTo>
                  <a:lnTo>
                    <a:pt x="150" y="49"/>
                  </a:lnTo>
                  <a:lnTo>
                    <a:pt x="140" y="54"/>
                  </a:lnTo>
                  <a:lnTo>
                    <a:pt x="131" y="61"/>
                  </a:lnTo>
                  <a:lnTo>
                    <a:pt x="122" y="66"/>
                  </a:lnTo>
                  <a:lnTo>
                    <a:pt x="114" y="68"/>
                  </a:lnTo>
                  <a:lnTo>
                    <a:pt x="99" y="69"/>
                  </a:lnTo>
                  <a:lnTo>
                    <a:pt x="82" y="72"/>
                  </a:lnTo>
                  <a:lnTo>
                    <a:pt x="63" y="73"/>
                  </a:lnTo>
                  <a:lnTo>
                    <a:pt x="44" y="76"/>
                  </a:lnTo>
                  <a:lnTo>
                    <a:pt x="26" y="76"/>
                  </a:lnTo>
                  <a:lnTo>
                    <a:pt x="12" y="76"/>
                  </a:lnTo>
                  <a:lnTo>
                    <a:pt x="4" y="73"/>
                  </a:lnTo>
                  <a:close/>
                </a:path>
              </a:pathLst>
            </a:custGeom>
            <a:solidFill>
              <a:srgbClr val="ff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500280" y="3286080"/>
              <a:ext cx="122400" cy="249120"/>
            </a:xfrm>
            <a:custGeom>
              <a:avLst/>
              <a:gdLst/>
              <a:ahLst/>
              <a:rect l="l" t="t" r="r" b="b"/>
              <a:pathLst>
                <a:path w="77" h="157">
                  <a:moveTo>
                    <a:pt x="9" y="157"/>
                  </a:moveTo>
                  <a:lnTo>
                    <a:pt x="8" y="153"/>
                  </a:lnTo>
                  <a:lnTo>
                    <a:pt x="7" y="150"/>
                  </a:lnTo>
                  <a:lnTo>
                    <a:pt x="5" y="146"/>
                  </a:lnTo>
                  <a:lnTo>
                    <a:pt x="7" y="136"/>
                  </a:lnTo>
                  <a:lnTo>
                    <a:pt x="14" y="124"/>
                  </a:lnTo>
                  <a:lnTo>
                    <a:pt x="19" y="116"/>
                  </a:lnTo>
                  <a:lnTo>
                    <a:pt x="26" y="106"/>
                  </a:lnTo>
                  <a:lnTo>
                    <a:pt x="34" y="92"/>
                  </a:lnTo>
                  <a:lnTo>
                    <a:pt x="23" y="88"/>
                  </a:lnTo>
                  <a:lnTo>
                    <a:pt x="16" y="85"/>
                  </a:lnTo>
                  <a:lnTo>
                    <a:pt x="8" y="82"/>
                  </a:lnTo>
                  <a:lnTo>
                    <a:pt x="0" y="74"/>
                  </a:lnTo>
                  <a:lnTo>
                    <a:pt x="1" y="59"/>
                  </a:lnTo>
                  <a:lnTo>
                    <a:pt x="4" y="45"/>
                  </a:lnTo>
                  <a:lnTo>
                    <a:pt x="9" y="34"/>
                  </a:lnTo>
                  <a:lnTo>
                    <a:pt x="18" y="25"/>
                  </a:lnTo>
                  <a:lnTo>
                    <a:pt x="26" y="16"/>
                  </a:lnTo>
                  <a:lnTo>
                    <a:pt x="37" y="9"/>
                  </a:lnTo>
                  <a:lnTo>
                    <a:pt x="49" y="4"/>
                  </a:lnTo>
                  <a:lnTo>
                    <a:pt x="63" y="0"/>
                  </a:lnTo>
                  <a:lnTo>
                    <a:pt x="76" y="20"/>
                  </a:lnTo>
                  <a:lnTo>
                    <a:pt x="77" y="44"/>
                  </a:lnTo>
                  <a:lnTo>
                    <a:pt x="71" y="70"/>
                  </a:lnTo>
                  <a:lnTo>
                    <a:pt x="65" y="92"/>
                  </a:lnTo>
                  <a:lnTo>
                    <a:pt x="58" y="102"/>
                  </a:lnTo>
                  <a:lnTo>
                    <a:pt x="51" y="110"/>
                  </a:lnTo>
                  <a:lnTo>
                    <a:pt x="44" y="120"/>
                  </a:lnTo>
                  <a:lnTo>
                    <a:pt x="37" y="129"/>
                  </a:lnTo>
                  <a:lnTo>
                    <a:pt x="30" y="136"/>
                  </a:lnTo>
                  <a:lnTo>
                    <a:pt x="23" y="143"/>
                  </a:lnTo>
                  <a:lnTo>
                    <a:pt x="16" y="150"/>
                  </a:lnTo>
                  <a:lnTo>
                    <a:pt x="9" y="15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387600" y="3322800"/>
              <a:ext cx="57240" cy="174600"/>
            </a:xfrm>
            <a:custGeom>
              <a:avLst/>
              <a:gdLst/>
              <a:ahLst/>
              <a:rect l="l" t="t" r="r" b="b"/>
              <a:pathLst>
                <a:path w="36" h="110">
                  <a:moveTo>
                    <a:pt x="0" y="104"/>
                  </a:moveTo>
                  <a:lnTo>
                    <a:pt x="0" y="97"/>
                  </a:lnTo>
                  <a:lnTo>
                    <a:pt x="0" y="91"/>
                  </a:lnTo>
                  <a:lnTo>
                    <a:pt x="0" y="84"/>
                  </a:lnTo>
                  <a:lnTo>
                    <a:pt x="0" y="79"/>
                  </a:lnTo>
                  <a:lnTo>
                    <a:pt x="5" y="59"/>
                  </a:lnTo>
                  <a:lnTo>
                    <a:pt x="9" y="42"/>
                  </a:lnTo>
                  <a:lnTo>
                    <a:pt x="14" y="25"/>
                  </a:lnTo>
                  <a:lnTo>
                    <a:pt x="22" y="7"/>
                  </a:lnTo>
                  <a:lnTo>
                    <a:pt x="28" y="3"/>
                  </a:lnTo>
                  <a:lnTo>
                    <a:pt x="32" y="0"/>
                  </a:lnTo>
                  <a:lnTo>
                    <a:pt x="35" y="3"/>
                  </a:lnTo>
                  <a:lnTo>
                    <a:pt x="36" y="10"/>
                  </a:lnTo>
                  <a:lnTo>
                    <a:pt x="28" y="35"/>
                  </a:lnTo>
                  <a:lnTo>
                    <a:pt x="22" y="59"/>
                  </a:lnTo>
                  <a:lnTo>
                    <a:pt x="18" y="84"/>
                  </a:lnTo>
                  <a:lnTo>
                    <a:pt x="13" y="110"/>
                  </a:lnTo>
                  <a:lnTo>
                    <a:pt x="10" y="110"/>
                  </a:lnTo>
                  <a:lnTo>
                    <a:pt x="7" y="109"/>
                  </a:lnTo>
                  <a:lnTo>
                    <a:pt x="3" y="106"/>
                  </a:lnTo>
                  <a:lnTo>
                    <a:pt x="0" y="10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199120" y="3044880"/>
              <a:ext cx="542880" cy="449280"/>
            </a:xfrm>
            <a:custGeom>
              <a:avLst/>
              <a:gdLst/>
              <a:ahLst/>
              <a:rect l="l" t="t" r="r" b="b"/>
              <a:pathLst>
                <a:path w="342" h="283">
                  <a:moveTo>
                    <a:pt x="119" y="283"/>
                  </a:moveTo>
                  <a:lnTo>
                    <a:pt x="119" y="280"/>
                  </a:lnTo>
                  <a:lnTo>
                    <a:pt x="120" y="277"/>
                  </a:lnTo>
                  <a:lnTo>
                    <a:pt x="120" y="274"/>
                  </a:lnTo>
                  <a:lnTo>
                    <a:pt x="120" y="272"/>
                  </a:lnTo>
                  <a:lnTo>
                    <a:pt x="135" y="269"/>
                  </a:lnTo>
                  <a:lnTo>
                    <a:pt x="152" y="265"/>
                  </a:lnTo>
                  <a:lnTo>
                    <a:pt x="168" y="261"/>
                  </a:lnTo>
                  <a:lnTo>
                    <a:pt x="185" y="255"/>
                  </a:lnTo>
                  <a:lnTo>
                    <a:pt x="200" y="250"/>
                  </a:lnTo>
                  <a:lnTo>
                    <a:pt x="215" y="241"/>
                  </a:lnTo>
                  <a:lnTo>
                    <a:pt x="228" y="232"/>
                  </a:lnTo>
                  <a:lnTo>
                    <a:pt x="240" y="221"/>
                  </a:lnTo>
                  <a:lnTo>
                    <a:pt x="231" y="199"/>
                  </a:lnTo>
                  <a:lnTo>
                    <a:pt x="210" y="211"/>
                  </a:lnTo>
                  <a:lnTo>
                    <a:pt x="193" y="221"/>
                  </a:lnTo>
                  <a:lnTo>
                    <a:pt x="177" y="229"/>
                  </a:lnTo>
                  <a:lnTo>
                    <a:pt x="163" y="236"/>
                  </a:lnTo>
                  <a:lnTo>
                    <a:pt x="148" y="241"/>
                  </a:lnTo>
                  <a:lnTo>
                    <a:pt x="131" y="244"/>
                  </a:lnTo>
                  <a:lnTo>
                    <a:pt x="112" y="247"/>
                  </a:lnTo>
                  <a:lnTo>
                    <a:pt x="90" y="247"/>
                  </a:lnTo>
                  <a:lnTo>
                    <a:pt x="83" y="243"/>
                  </a:lnTo>
                  <a:lnTo>
                    <a:pt x="77" y="239"/>
                  </a:lnTo>
                  <a:lnTo>
                    <a:pt x="71" y="232"/>
                  </a:lnTo>
                  <a:lnTo>
                    <a:pt x="65" y="226"/>
                  </a:lnTo>
                  <a:lnTo>
                    <a:pt x="60" y="219"/>
                  </a:lnTo>
                  <a:lnTo>
                    <a:pt x="54" y="212"/>
                  </a:lnTo>
                  <a:lnTo>
                    <a:pt x="48" y="207"/>
                  </a:lnTo>
                  <a:lnTo>
                    <a:pt x="44" y="201"/>
                  </a:lnTo>
                  <a:lnTo>
                    <a:pt x="36" y="185"/>
                  </a:lnTo>
                  <a:lnTo>
                    <a:pt x="28" y="170"/>
                  </a:lnTo>
                  <a:lnTo>
                    <a:pt x="22" y="157"/>
                  </a:lnTo>
                  <a:lnTo>
                    <a:pt x="17" y="145"/>
                  </a:lnTo>
                  <a:lnTo>
                    <a:pt x="13" y="132"/>
                  </a:lnTo>
                  <a:lnTo>
                    <a:pt x="8" y="119"/>
                  </a:lnTo>
                  <a:lnTo>
                    <a:pt x="4" y="103"/>
                  </a:lnTo>
                  <a:lnTo>
                    <a:pt x="0" y="86"/>
                  </a:lnTo>
                  <a:lnTo>
                    <a:pt x="10" y="86"/>
                  </a:lnTo>
                  <a:lnTo>
                    <a:pt x="17" y="84"/>
                  </a:lnTo>
                  <a:lnTo>
                    <a:pt x="24" y="80"/>
                  </a:lnTo>
                  <a:lnTo>
                    <a:pt x="29" y="76"/>
                  </a:lnTo>
                  <a:lnTo>
                    <a:pt x="35" y="70"/>
                  </a:lnTo>
                  <a:lnTo>
                    <a:pt x="40" y="65"/>
                  </a:lnTo>
                  <a:lnTo>
                    <a:pt x="46" y="59"/>
                  </a:lnTo>
                  <a:lnTo>
                    <a:pt x="53" y="55"/>
                  </a:lnTo>
                  <a:lnTo>
                    <a:pt x="48" y="69"/>
                  </a:lnTo>
                  <a:lnTo>
                    <a:pt x="44" y="83"/>
                  </a:lnTo>
                  <a:lnTo>
                    <a:pt x="42" y="97"/>
                  </a:lnTo>
                  <a:lnTo>
                    <a:pt x="42" y="110"/>
                  </a:lnTo>
                  <a:lnTo>
                    <a:pt x="50" y="113"/>
                  </a:lnTo>
                  <a:lnTo>
                    <a:pt x="58" y="115"/>
                  </a:lnTo>
                  <a:lnTo>
                    <a:pt x="69" y="115"/>
                  </a:lnTo>
                  <a:lnTo>
                    <a:pt x="79" y="113"/>
                  </a:lnTo>
                  <a:lnTo>
                    <a:pt x="90" y="113"/>
                  </a:lnTo>
                  <a:lnTo>
                    <a:pt x="100" y="113"/>
                  </a:lnTo>
                  <a:lnTo>
                    <a:pt x="109" y="113"/>
                  </a:lnTo>
                  <a:lnTo>
                    <a:pt x="117" y="113"/>
                  </a:lnTo>
                  <a:lnTo>
                    <a:pt x="116" y="109"/>
                  </a:lnTo>
                  <a:lnTo>
                    <a:pt x="116" y="103"/>
                  </a:lnTo>
                  <a:lnTo>
                    <a:pt x="116" y="97"/>
                  </a:lnTo>
                  <a:lnTo>
                    <a:pt x="115" y="91"/>
                  </a:lnTo>
                  <a:lnTo>
                    <a:pt x="104" y="91"/>
                  </a:lnTo>
                  <a:lnTo>
                    <a:pt x="94" y="90"/>
                  </a:lnTo>
                  <a:lnTo>
                    <a:pt x="86" y="91"/>
                  </a:lnTo>
                  <a:lnTo>
                    <a:pt x="79" y="91"/>
                  </a:lnTo>
                  <a:lnTo>
                    <a:pt x="73" y="91"/>
                  </a:lnTo>
                  <a:lnTo>
                    <a:pt x="68" y="92"/>
                  </a:lnTo>
                  <a:lnTo>
                    <a:pt x="65" y="91"/>
                  </a:lnTo>
                  <a:lnTo>
                    <a:pt x="62" y="91"/>
                  </a:lnTo>
                  <a:lnTo>
                    <a:pt x="64" y="80"/>
                  </a:lnTo>
                  <a:lnTo>
                    <a:pt x="66" y="65"/>
                  </a:lnTo>
                  <a:lnTo>
                    <a:pt x="71" y="51"/>
                  </a:lnTo>
                  <a:lnTo>
                    <a:pt x="77" y="41"/>
                  </a:lnTo>
                  <a:lnTo>
                    <a:pt x="79" y="35"/>
                  </a:lnTo>
                  <a:lnTo>
                    <a:pt x="77" y="28"/>
                  </a:lnTo>
                  <a:lnTo>
                    <a:pt x="76" y="18"/>
                  </a:lnTo>
                  <a:lnTo>
                    <a:pt x="77" y="1"/>
                  </a:lnTo>
                  <a:lnTo>
                    <a:pt x="86" y="0"/>
                  </a:lnTo>
                  <a:lnTo>
                    <a:pt x="93" y="1"/>
                  </a:lnTo>
                  <a:lnTo>
                    <a:pt x="100" y="3"/>
                  </a:lnTo>
                  <a:lnTo>
                    <a:pt x="109" y="4"/>
                  </a:lnTo>
                  <a:lnTo>
                    <a:pt x="112" y="24"/>
                  </a:lnTo>
                  <a:lnTo>
                    <a:pt x="116" y="39"/>
                  </a:lnTo>
                  <a:lnTo>
                    <a:pt x="119" y="50"/>
                  </a:lnTo>
                  <a:lnTo>
                    <a:pt x="126" y="59"/>
                  </a:lnTo>
                  <a:lnTo>
                    <a:pt x="133" y="66"/>
                  </a:lnTo>
                  <a:lnTo>
                    <a:pt x="142" y="73"/>
                  </a:lnTo>
                  <a:lnTo>
                    <a:pt x="156" y="80"/>
                  </a:lnTo>
                  <a:lnTo>
                    <a:pt x="174" y="87"/>
                  </a:lnTo>
                  <a:lnTo>
                    <a:pt x="188" y="86"/>
                  </a:lnTo>
                  <a:lnTo>
                    <a:pt x="200" y="80"/>
                  </a:lnTo>
                  <a:lnTo>
                    <a:pt x="211" y="73"/>
                  </a:lnTo>
                  <a:lnTo>
                    <a:pt x="222" y="65"/>
                  </a:lnTo>
                  <a:lnTo>
                    <a:pt x="231" y="54"/>
                  </a:lnTo>
                  <a:lnTo>
                    <a:pt x="239" y="43"/>
                  </a:lnTo>
                  <a:lnTo>
                    <a:pt x="246" y="30"/>
                  </a:lnTo>
                  <a:lnTo>
                    <a:pt x="253" y="18"/>
                  </a:lnTo>
                  <a:lnTo>
                    <a:pt x="260" y="17"/>
                  </a:lnTo>
                  <a:lnTo>
                    <a:pt x="268" y="15"/>
                  </a:lnTo>
                  <a:lnTo>
                    <a:pt x="277" y="17"/>
                  </a:lnTo>
                  <a:lnTo>
                    <a:pt x="286" y="17"/>
                  </a:lnTo>
                  <a:lnTo>
                    <a:pt x="294" y="18"/>
                  </a:lnTo>
                  <a:lnTo>
                    <a:pt x="302" y="18"/>
                  </a:lnTo>
                  <a:lnTo>
                    <a:pt x="309" y="18"/>
                  </a:lnTo>
                  <a:lnTo>
                    <a:pt x="313" y="15"/>
                  </a:lnTo>
                  <a:lnTo>
                    <a:pt x="317" y="11"/>
                  </a:lnTo>
                  <a:lnTo>
                    <a:pt x="323" y="8"/>
                  </a:lnTo>
                  <a:lnTo>
                    <a:pt x="330" y="8"/>
                  </a:lnTo>
                  <a:lnTo>
                    <a:pt x="340" y="10"/>
                  </a:lnTo>
                  <a:lnTo>
                    <a:pt x="342" y="44"/>
                  </a:lnTo>
                  <a:lnTo>
                    <a:pt x="341" y="68"/>
                  </a:lnTo>
                  <a:lnTo>
                    <a:pt x="335" y="83"/>
                  </a:lnTo>
                  <a:lnTo>
                    <a:pt x="327" y="92"/>
                  </a:lnTo>
                  <a:lnTo>
                    <a:pt x="317" y="98"/>
                  </a:lnTo>
                  <a:lnTo>
                    <a:pt x="306" y="102"/>
                  </a:lnTo>
                  <a:lnTo>
                    <a:pt x="295" y="108"/>
                  </a:lnTo>
                  <a:lnTo>
                    <a:pt x="284" y="116"/>
                  </a:lnTo>
                  <a:lnTo>
                    <a:pt x="286" y="121"/>
                  </a:lnTo>
                  <a:lnTo>
                    <a:pt x="287" y="135"/>
                  </a:lnTo>
                  <a:lnTo>
                    <a:pt x="287" y="170"/>
                  </a:lnTo>
                  <a:lnTo>
                    <a:pt x="282" y="236"/>
                  </a:lnTo>
                  <a:lnTo>
                    <a:pt x="275" y="240"/>
                  </a:lnTo>
                  <a:lnTo>
                    <a:pt x="262" y="245"/>
                  </a:lnTo>
                  <a:lnTo>
                    <a:pt x="247" y="251"/>
                  </a:lnTo>
                  <a:lnTo>
                    <a:pt x="231" y="257"/>
                  </a:lnTo>
                  <a:lnTo>
                    <a:pt x="213" y="261"/>
                  </a:lnTo>
                  <a:lnTo>
                    <a:pt x="196" y="266"/>
                  </a:lnTo>
                  <a:lnTo>
                    <a:pt x="182" y="270"/>
                  </a:lnTo>
                  <a:lnTo>
                    <a:pt x="173" y="273"/>
                  </a:lnTo>
                  <a:lnTo>
                    <a:pt x="166" y="274"/>
                  </a:lnTo>
                  <a:lnTo>
                    <a:pt x="159" y="276"/>
                  </a:lnTo>
                  <a:lnTo>
                    <a:pt x="152" y="276"/>
                  </a:lnTo>
                  <a:lnTo>
                    <a:pt x="146" y="277"/>
                  </a:lnTo>
                  <a:lnTo>
                    <a:pt x="140" y="279"/>
                  </a:lnTo>
                  <a:lnTo>
                    <a:pt x="133" y="280"/>
                  </a:lnTo>
                  <a:lnTo>
                    <a:pt x="126" y="281"/>
                  </a:lnTo>
                  <a:lnTo>
                    <a:pt x="119" y="283"/>
                  </a:lnTo>
                  <a:close/>
                </a:path>
              </a:pathLst>
            </a:custGeom>
            <a:solidFill>
              <a:srgbClr val="ffd6b5">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078520" y="3166920"/>
              <a:ext cx="242640" cy="317520"/>
            </a:xfrm>
            <a:custGeom>
              <a:avLst/>
              <a:gdLst/>
              <a:ahLst/>
              <a:rect l="l" t="t" r="r" b="b"/>
              <a:pathLst>
                <a:path w="153" h="200">
                  <a:moveTo>
                    <a:pt x="49" y="191"/>
                  </a:moveTo>
                  <a:lnTo>
                    <a:pt x="39" y="188"/>
                  </a:lnTo>
                  <a:lnTo>
                    <a:pt x="32" y="184"/>
                  </a:lnTo>
                  <a:lnTo>
                    <a:pt x="27" y="178"/>
                  </a:lnTo>
                  <a:lnTo>
                    <a:pt x="22" y="173"/>
                  </a:lnTo>
                  <a:lnTo>
                    <a:pt x="18" y="167"/>
                  </a:lnTo>
                  <a:lnTo>
                    <a:pt x="13" y="160"/>
                  </a:lnTo>
                  <a:lnTo>
                    <a:pt x="7" y="153"/>
                  </a:lnTo>
                  <a:lnTo>
                    <a:pt x="0" y="146"/>
                  </a:lnTo>
                  <a:lnTo>
                    <a:pt x="2" y="133"/>
                  </a:lnTo>
                  <a:lnTo>
                    <a:pt x="4" y="119"/>
                  </a:lnTo>
                  <a:lnTo>
                    <a:pt x="7" y="109"/>
                  </a:lnTo>
                  <a:lnTo>
                    <a:pt x="7" y="104"/>
                  </a:lnTo>
                  <a:lnTo>
                    <a:pt x="2" y="89"/>
                  </a:lnTo>
                  <a:lnTo>
                    <a:pt x="2" y="75"/>
                  </a:lnTo>
                  <a:lnTo>
                    <a:pt x="9" y="62"/>
                  </a:lnTo>
                  <a:lnTo>
                    <a:pt x="27" y="51"/>
                  </a:lnTo>
                  <a:lnTo>
                    <a:pt x="28" y="40"/>
                  </a:lnTo>
                  <a:lnTo>
                    <a:pt x="31" y="26"/>
                  </a:lnTo>
                  <a:lnTo>
                    <a:pt x="36" y="13"/>
                  </a:lnTo>
                  <a:lnTo>
                    <a:pt x="46" y="0"/>
                  </a:lnTo>
                  <a:lnTo>
                    <a:pt x="50" y="25"/>
                  </a:lnTo>
                  <a:lnTo>
                    <a:pt x="55" y="51"/>
                  </a:lnTo>
                  <a:lnTo>
                    <a:pt x="65" y="79"/>
                  </a:lnTo>
                  <a:lnTo>
                    <a:pt x="78" y="106"/>
                  </a:lnTo>
                  <a:lnTo>
                    <a:pt x="93" y="133"/>
                  </a:lnTo>
                  <a:lnTo>
                    <a:pt x="111" y="155"/>
                  </a:lnTo>
                  <a:lnTo>
                    <a:pt x="130" y="175"/>
                  </a:lnTo>
                  <a:lnTo>
                    <a:pt x="153" y="189"/>
                  </a:lnTo>
                  <a:lnTo>
                    <a:pt x="140" y="195"/>
                  </a:lnTo>
                  <a:lnTo>
                    <a:pt x="126" y="197"/>
                  </a:lnTo>
                  <a:lnTo>
                    <a:pt x="111" y="200"/>
                  </a:lnTo>
                  <a:lnTo>
                    <a:pt x="95" y="200"/>
                  </a:lnTo>
                  <a:lnTo>
                    <a:pt x="82" y="199"/>
                  </a:lnTo>
                  <a:lnTo>
                    <a:pt x="68" y="196"/>
                  </a:lnTo>
                  <a:lnTo>
                    <a:pt x="57" y="193"/>
                  </a:lnTo>
                  <a:lnTo>
                    <a:pt x="49" y="191"/>
                  </a:lnTo>
                  <a:close/>
                </a:path>
              </a:pathLst>
            </a:custGeom>
            <a:solidFill>
              <a:srgbClr val="9b4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060800" y="3419640"/>
              <a:ext cx="46080" cy="52200"/>
            </a:xfrm>
            <a:custGeom>
              <a:avLst/>
              <a:gdLst/>
              <a:ahLst/>
              <a:rect l="l" t="t" r="r" b="b"/>
              <a:pathLst>
                <a:path w="29" h="33">
                  <a:moveTo>
                    <a:pt x="3" y="26"/>
                  </a:moveTo>
                  <a:lnTo>
                    <a:pt x="1" y="16"/>
                  </a:lnTo>
                  <a:lnTo>
                    <a:pt x="0" y="11"/>
                  </a:lnTo>
                  <a:lnTo>
                    <a:pt x="0" y="7"/>
                  </a:lnTo>
                  <a:lnTo>
                    <a:pt x="1" y="4"/>
                  </a:lnTo>
                  <a:lnTo>
                    <a:pt x="14" y="0"/>
                  </a:lnTo>
                  <a:lnTo>
                    <a:pt x="21" y="1"/>
                  </a:lnTo>
                  <a:lnTo>
                    <a:pt x="25" y="9"/>
                  </a:lnTo>
                  <a:lnTo>
                    <a:pt x="29" y="21"/>
                  </a:lnTo>
                  <a:lnTo>
                    <a:pt x="23" y="29"/>
                  </a:lnTo>
                  <a:lnTo>
                    <a:pt x="18" y="33"/>
                  </a:lnTo>
                  <a:lnTo>
                    <a:pt x="12" y="33"/>
                  </a:lnTo>
                  <a:lnTo>
                    <a:pt x="3" y="26"/>
                  </a:lnTo>
                  <a:close/>
                </a:path>
              </a:pathLst>
            </a:custGeom>
            <a:solidFill>
              <a:srgbClr val="ffffff">
                <a:alpha val="50000"/>
              </a:srgbClr>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3" name=""/>
            <p:cNvSpPr/>
            <p:nvPr/>
          </p:nvSpPr>
          <p:spPr>
            <a:xfrm>
              <a:off x="3697200" y="3303720"/>
              <a:ext cx="160560" cy="141120"/>
            </a:xfrm>
            <a:custGeom>
              <a:avLst/>
              <a:gdLst/>
              <a:ahLst/>
              <a:rect l="l" t="t" r="r" b="b"/>
              <a:pathLst>
                <a:path w="101" h="89">
                  <a:moveTo>
                    <a:pt x="84" y="89"/>
                  </a:moveTo>
                  <a:lnTo>
                    <a:pt x="73" y="85"/>
                  </a:lnTo>
                  <a:lnTo>
                    <a:pt x="63" y="81"/>
                  </a:lnTo>
                  <a:lnTo>
                    <a:pt x="54" y="77"/>
                  </a:lnTo>
                  <a:lnTo>
                    <a:pt x="45" y="70"/>
                  </a:lnTo>
                  <a:lnTo>
                    <a:pt x="39" y="73"/>
                  </a:lnTo>
                  <a:lnTo>
                    <a:pt x="33" y="78"/>
                  </a:lnTo>
                  <a:lnTo>
                    <a:pt x="27" y="84"/>
                  </a:lnTo>
                  <a:lnTo>
                    <a:pt x="21" y="88"/>
                  </a:lnTo>
                  <a:lnTo>
                    <a:pt x="21" y="87"/>
                  </a:lnTo>
                  <a:lnTo>
                    <a:pt x="21" y="85"/>
                  </a:lnTo>
                  <a:lnTo>
                    <a:pt x="21" y="84"/>
                  </a:lnTo>
                  <a:lnTo>
                    <a:pt x="21" y="82"/>
                  </a:lnTo>
                  <a:lnTo>
                    <a:pt x="25" y="76"/>
                  </a:lnTo>
                  <a:lnTo>
                    <a:pt x="27" y="70"/>
                  </a:lnTo>
                  <a:lnTo>
                    <a:pt x="30" y="65"/>
                  </a:lnTo>
                  <a:lnTo>
                    <a:pt x="32" y="56"/>
                  </a:lnTo>
                  <a:lnTo>
                    <a:pt x="25" y="51"/>
                  </a:lnTo>
                  <a:lnTo>
                    <a:pt x="18" y="45"/>
                  </a:lnTo>
                  <a:lnTo>
                    <a:pt x="10" y="38"/>
                  </a:lnTo>
                  <a:lnTo>
                    <a:pt x="3" y="33"/>
                  </a:lnTo>
                  <a:lnTo>
                    <a:pt x="1" y="27"/>
                  </a:lnTo>
                  <a:lnTo>
                    <a:pt x="0" y="25"/>
                  </a:lnTo>
                  <a:lnTo>
                    <a:pt x="1" y="23"/>
                  </a:lnTo>
                  <a:lnTo>
                    <a:pt x="5" y="19"/>
                  </a:lnTo>
                  <a:lnTo>
                    <a:pt x="14" y="18"/>
                  </a:lnTo>
                  <a:lnTo>
                    <a:pt x="21" y="19"/>
                  </a:lnTo>
                  <a:lnTo>
                    <a:pt x="26" y="20"/>
                  </a:lnTo>
                  <a:lnTo>
                    <a:pt x="32" y="23"/>
                  </a:lnTo>
                  <a:lnTo>
                    <a:pt x="37" y="26"/>
                  </a:lnTo>
                  <a:lnTo>
                    <a:pt x="43" y="29"/>
                  </a:lnTo>
                  <a:lnTo>
                    <a:pt x="48" y="30"/>
                  </a:lnTo>
                  <a:lnTo>
                    <a:pt x="55" y="31"/>
                  </a:lnTo>
                  <a:lnTo>
                    <a:pt x="58" y="27"/>
                  </a:lnTo>
                  <a:lnTo>
                    <a:pt x="63" y="22"/>
                  </a:lnTo>
                  <a:lnTo>
                    <a:pt x="70" y="15"/>
                  </a:lnTo>
                  <a:lnTo>
                    <a:pt x="79" y="8"/>
                  </a:lnTo>
                  <a:lnTo>
                    <a:pt x="85" y="3"/>
                  </a:lnTo>
                  <a:lnTo>
                    <a:pt x="92" y="0"/>
                  </a:lnTo>
                  <a:lnTo>
                    <a:pt x="96" y="3"/>
                  </a:lnTo>
                  <a:lnTo>
                    <a:pt x="98" y="9"/>
                  </a:lnTo>
                  <a:lnTo>
                    <a:pt x="92" y="18"/>
                  </a:lnTo>
                  <a:lnTo>
                    <a:pt x="87" y="26"/>
                  </a:lnTo>
                  <a:lnTo>
                    <a:pt x="80" y="34"/>
                  </a:lnTo>
                  <a:lnTo>
                    <a:pt x="74" y="44"/>
                  </a:lnTo>
                  <a:lnTo>
                    <a:pt x="77" y="56"/>
                  </a:lnTo>
                  <a:lnTo>
                    <a:pt x="84" y="63"/>
                  </a:lnTo>
                  <a:lnTo>
                    <a:pt x="94" y="67"/>
                  </a:lnTo>
                  <a:lnTo>
                    <a:pt x="101" y="76"/>
                  </a:lnTo>
                  <a:lnTo>
                    <a:pt x="96" y="84"/>
                  </a:lnTo>
                  <a:lnTo>
                    <a:pt x="95" y="87"/>
                  </a:lnTo>
                  <a:lnTo>
                    <a:pt x="91" y="88"/>
                  </a:lnTo>
                  <a:lnTo>
                    <a:pt x="84" y="8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133960" y="2617920"/>
              <a:ext cx="862200" cy="882360"/>
            </a:xfrm>
            <a:custGeom>
              <a:avLst/>
              <a:gdLst/>
              <a:ahLst/>
              <a:rect l="l" t="t" r="r" b="b"/>
              <a:pathLst>
                <a:path w="543" h="556">
                  <a:moveTo>
                    <a:pt x="352" y="497"/>
                  </a:moveTo>
                  <a:lnTo>
                    <a:pt x="353" y="473"/>
                  </a:lnTo>
                  <a:lnTo>
                    <a:pt x="353" y="451"/>
                  </a:lnTo>
                  <a:lnTo>
                    <a:pt x="354" y="429"/>
                  </a:lnTo>
                  <a:lnTo>
                    <a:pt x="357" y="406"/>
                  </a:lnTo>
                  <a:lnTo>
                    <a:pt x="365" y="403"/>
                  </a:lnTo>
                  <a:lnTo>
                    <a:pt x="372" y="401"/>
                  </a:lnTo>
                  <a:lnTo>
                    <a:pt x="378" y="399"/>
                  </a:lnTo>
                  <a:lnTo>
                    <a:pt x="383" y="396"/>
                  </a:lnTo>
                  <a:lnTo>
                    <a:pt x="387" y="393"/>
                  </a:lnTo>
                  <a:lnTo>
                    <a:pt x="393" y="390"/>
                  </a:lnTo>
                  <a:lnTo>
                    <a:pt x="398" y="386"/>
                  </a:lnTo>
                  <a:lnTo>
                    <a:pt x="405" y="381"/>
                  </a:lnTo>
                  <a:lnTo>
                    <a:pt x="414" y="352"/>
                  </a:lnTo>
                  <a:lnTo>
                    <a:pt x="416" y="315"/>
                  </a:lnTo>
                  <a:lnTo>
                    <a:pt x="414" y="277"/>
                  </a:lnTo>
                  <a:lnTo>
                    <a:pt x="401" y="250"/>
                  </a:lnTo>
                  <a:lnTo>
                    <a:pt x="393" y="244"/>
                  </a:lnTo>
                  <a:lnTo>
                    <a:pt x="386" y="241"/>
                  </a:lnTo>
                  <a:lnTo>
                    <a:pt x="379" y="241"/>
                  </a:lnTo>
                  <a:lnTo>
                    <a:pt x="372" y="241"/>
                  </a:lnTo>
                  <a:lnTo>
                    <a:pt x="367" y="243"/>
                  </a:lnTo>
                  <a:lnTo>
                    <a:pt x="361" y="244"/>
                  </a:lnTo>
                  <a:lnTo>
                    <a:pt x="358" y="246"/>
                  </a:lnTo>
                  <a:lnTo>
                    <a:pt x="356" y="246"/>
                  </a:lnTo>
                  <a:lnTo>
                    <a:pt x="350" y="230"/>
                  </a:lnTo>
                  <a:lnTo>
                    <a:pt x="342" y="219"/>
                  </a:lnTo>
                  <a:lnTo>
                    <a:pt x="335" y="211"/>
                  </a:lnTo>
                  <a:lnTo>
                    <a:pt x="328" y="203"/>
                  </a:lnTo>
                  <a:lnTo>
                    <a:pt x="323" y="193"/>
                  </a:lnTo>
                  <a:lnTo>
                    <a:pt x="320" y="182"/>
                  </a:lnTo>
                  <a:lnTo>
                    <a:pt x="320" y="167"/>
                  </a:lnTo>
                  <a:lnTo>
                    <a:pt x="325" y="146"/>
                  </a:lnTo>
                  <a:lnTo>
                    <a:pt x="323" y="137"/>
                  </a:lnTo>
                  <a:lnTo>
                    <a:pt x="316" y="127"/>
                  </a:lnTo>
                  <a:lnTo>
                    <a:pt x="306" y="120"/>
                  </a:lnTo>
                  <a:lnTo>
                    <a:pt x="295" y="113"/>
                  </a:lnTo>
                  <a:lnTo>
                    <a:pt x="284" y="106"/>
                  </a:lnTo>
                  <a:lnTo>
                    <a:pt x="272" y="101"/>
                  </a:lnTo>
                  <a:lnTo>
                    <a:pt x="261" y="95"/>
                  </a:lnTo>
                  <a:lnTo>
                    <a:pt x="251" y="90"/>
                  </a:lnTo>
                  <a:lnTo>
                    <a:pt x="223" y="84"/>
                  </a:lnTo>
                  <a:lnTo>
                    <a:pt x="196" y="82"/>
                  </a:lnTo>
                  <a:lnTo>
                    <a:pt x="167" y="82"/>
                  </a:lnTo>
                  <a:lnTo>
                    <a:pt x="139" y="86"/>
                  </a:lnTo>
                  <a:lnTo>
                    <a:pt x="112" y="93"/>
                  </a:lnTo>
                  <a:lnTo>
                    <a:pt x="85" y="102"/>
                  </a:lnTo>
                  <a:lnTo>
                    <a:pt x="62" y="115"/>
                  </a:lnTo>
                  <a:lnTo>
                    <a:pt x="40" y="131"/>
                  </a:lnTo>
                  <a:lnTo>
                    <a:pt x="32" y="152"/>
                  </a:lnTo>
                  <a:lnTo>
                    <a:pt x="22" y="177"/>
                  </a:lnTo>
                  <a:lnTo>
                    <a:pt x="12" y="204"/>
                  </a:lnTo>
                  <a:lnTo>
                    <a:pt x="5" y="226"/>
                  </a:lnTo>
                  <a:lnTo>
                    <a:pt x="4" y="217"/>
                  </a:lnTo>
                  <a:lnTo>
                    <a:pt x="3" y="200"/>
                  </a:lnTo>
                  <a:lnTo>
                    <a:pt x="3" y="184"/>
                  </a:lnTo>
                  <a:lnTo>
                    <a:pt x="0" y="174"/>
                  </a:lnTo>
                  <a:lnTo>
                    <a:pt x="8" y="159"/>
                  </a:lnTo>
                  <a:lnTo>
                    <a:pt x="15" y="145"/>
                  </a:lnTo>
                  <a:lnTo>
                    <a:pt x="16" y="134"/>
                  </a:lnTo>
                  <a:lnTo>
                    <a:pt x="14" y="120"/>
                  </a:lnTo>
                  <a:lnTo>
                    <a:pt x="5" y="115"/>
                  </a:lnTo>
                  <a:lnTo>
                    <a:pt x="1" y="109"/>
                  </a:lnTo>
                  <a:lnTo>
                    <a:pt x="0" y="102"/>
                  </a:lnTo>
                  <a:lnTo>
                    <a:pt x="0" y="91"/>
                  </a:lnTo>
                  <a:lnTo>
                    <a:pt x="7" y="86"/>
                  </a:lnTo>
                  <a:lnTo>
                    <a:pt x="14" y="82"/>
                  </a:lnTo>
                  <a:lnTo>
                    <a:pt x="22" y="77"/>
                  </a:lnTo>
                  <a:lnTo>
                    <a:pt x="29" y="73"/>
                  </a:lnTo>
                  <a:lnTo>
                    <a:pt x="36" y="68"/>
                  </a:lnTo>
                  <a:lnTo>
                    <a:pt x="43" y="64"/>
                  </a:lnTo>
                  <a:lnTo>
                    <a:pt x="49" y="58"/>
                  </a:lnTo>
                  <a:lnTo>
                    <a:pt x="56" y="53"/>
                  </a:lnTo>
                  <a:lnTo>
                    <a:pt x="65" y="39"/>
                  </a:lnTo>
                  <a:lnTo>
                    <a:pt x="73" y="28"/>
                  </a:lnTo>
                  <a:lnTo>
                    <a:pt x="81" y="18"/>
                  </a:lnTo>
                  <a:lnTo>
                    <a:pt x="89" y="13"/>
                  </a:lnTo>
                  <a:lnTo>
                    <a:pt x="99" y="7"/>
                  </a:lnTo>
                  <a:lnTo>
                    <a:pt x="112" y="4"/>
                  </a:lnTo>
                  <a:lnTo>
                    <a:pt x="125" y="3"/>
                  </a:lnTo>
                  <a:lnTo>
                    <a:pt x="143" y="3"/>
                  </a:lnTo>
                  <a:lnTo>
                    <a:pt x="149" y="4"/>
                  </a:lnTo>
                  <a:lnTo>
                    <a:pt x="153" y="6"/>
                  </a:lnTo>
                  <a:lnTo>
                    <a:pt x="158" y="7"/>
                  </a:lnTo>
                  <a:lnTo>
                    <a:pt x="163" y="8"/>
                  </a:lnTo>
                  <a:lnTo>
                    <a:pt x="168" y="10"/>
                  </a:lnTo>
                  <a:lnTo>
                    <a:pt x="174" y="11"/>
                  </a:lnTo>
                  <a:lnTo>
                    <a:pt x="179" y="13"/>
                  </a:lnTo>
                  <a:lnTo>
                    <a:pt x="185" y="13"/>
                  </a:lnTo>
                  <a:lnTo>
                    <a:pt x="205" y="6"/>
                  </a:lnTo>
                  <a:lnTo>
                    <a:pt x="221" y="2"/>
                  </a:lnTo>
                  <a:lnTo>
                    <a:pt x="234" y="0"/>
                  </a:lnTo>
                  <a:lnTo>
                    <a:pt x="247" y="0"/>
                  </a:lnTo>
                  <a:lnTo>
                    <a:pt x="259" y="4"/>
                  </a:lnTo>
                  <a:lnTo>
                    <a:pt x="272" y="8"/>
                  </a:lnTo>
                  <a:lnTo>
                    <a:pt x="287" y="15"/>
                  </a:lnTo>
                  <a:lnTo>
                    <a:pt x="305" y="22"/>
                  </a:lnTo>
                  <a:lnTo>
                    <a:pt x="318" y="32"/>
                  </a:lnTo>
                  <a:lnTo>
                    <a:pt x="328" y="40"/>
                  </a:lnTo>
                  <a:lnTo>
                    <a:pt x="336" y="48"/>
                  </a:lnTo>
                  <a:lnTo>
                    <a:pt x="342" y="55"/>
                  </a:lnTo>
                  <a:lnTo>
                    <a:pt x="347" y="64"/>
                  </a:lnTo>
                  <a:lnTo>
                    <a:pt x="352" y="73"/>
                  </a:lnTo>
                  <a:lnTo>
                    <a:pt x="357" y="86"/>
                  </a:lnTo>
                  <a:lnTo>
                    <a:pt x="363" y="99"/>
                  </a:lnTo>
                  <a:lnTo>
                    <a:pt x="378" y="105"/>
                  </a:lnTo>
                  <a:lnTo>
                    <a:pt x="389" y="112"/>
                  </a:lnTo>
                  <a:lnTo>
                    <a:pt x="397" y="120"/>
                  </a:lnTo>
                  <a:lnTo>
                    <a:pt x="403" y="128"/>
                  </a:lnTo>
                  <a:lnTo>
                    <a:pt x="405" y="139"/>
                  </a:lnTo>
                  <a:lnTo>
                    <a:pt x="407" y="150"/>
                  </a:lnTo>
                  <a:lnTo>
                    <a:pt x="407" y="164"/>
                  </a:lnTo>
                  <a:lnTo>
                    <a:pt x="407" y="179"/>
                  </a:lnTo>
                  <a:lnTo>
                    <a:pt x="411" y="186"/>
                  </a:lnTo>
                  <a:lnTo>
                    <a:pt x="416" y="192"/>
                  </a:lnTo>
                  <a:lnTo>
                    <a:pt x="422" y="196"/>
                  </a:lnTo>
                  <a:lnTo>
                    <a:pt x="427" y="200"/>
                  </a:lnTo>
                  <a:lnTo>
                    <a:pt x="433" y="203"/>
                  </a:lnTo>
                  <a:lnTo>
                    <a:pt x="440" y="204"/>
                  </a:lnTo>
                  <a:lnTo>
                    <a:pt x="447" y="206"/>
                  </a:lnTo>
                  <a:lnTo>
                    <a:pt x="455" y="206"/>
                  </a:lnTo>
                  <a:lnTo>
                    <a:pt x="476" y="206"/>
                  </a:lnTo>
                  <a:lnTo>
                    <a:pt x="492" y="213"/>
                  </a:lnTo>
                  <a:lnTo>
                    <a:pt x="505" y="225"/>
                  </a:lnTo>
                  <a:lnTo>
                    <a:pt x="516" y="239"/>
                  </a:lnTo>
                  <a:lnTo>
                    <a:pt x="524" y="255"/>
                  </a:lnTo>
                  <a:lnTo>
                    <a:pt x="530" y="272"/>
                  </a:lnTo>
                  <a:lnTo>
                    <a:pt x="534" y="286"/>
                  </a:lnTo>
                  <a:lnTo>
                    <a:pt x="538" y="298"/>
                  </a:lnTo>
                  <a:lnTo>
                    <a:pt x="542" y="331"/>
                  </a:lnTo>
                  <a:lnTo>
                    <a:pt x="543" y="366"/>
                  </a:lnTo>
                  <a:lnTo>
                    <a:pt x="539" y="404"/>
                  </a:lnTo>
                  <a:lnTo>
                    <a:pt x="527" y="446"/>
                  </a:lnTo>
                  <a:lnTo>
                    <a:pt x="520" y="462"/>
                  </a:lnTo>
                  <a:lnTo>
                    <a:pt x="514" y="476"/>
                  </a:lnTo>
                  <a:lnTo>
                    <a:pt x="507" y="487"/>
                  </a:lnTo>
                  <a:lnTo>
                    <a:pt x="501" y="497"/>
                  </a:lnTo>
                  <a:lnTo>
                    <a:pt x="492" y="505"/>
                  </a:lnTo>
                  <a:lnTo>
                    <a:pt x="484" y="513"/>
                  </a:lnTo>
                  <a:lnTo>
                    <a:pt x="474" y="523"/>
                  </a:lnTo>
                  <a:lnTo>
                    <a:pt x="462" y="532"/>
                  </a:lnTo>
                  <a:lnTo>
                    <a:pt x="444" y="543"/>
                  </a:lnTo>
                  <a:lnTo>
                    <a:pt x="430" y="552"/>
                  </a:lnTo>
                  <a:lnTo>
                    <a:pt x="418" y="556"/>
                  </a:lnTo>
                  <a:lnTo>
                    <a:pt x="407" y="556"/>
                  </a:lnTo>
                  <a:lnTo>
                    <a:pt x="396" y="550"/>
                  </a:lnTo>
                  <a:lnTo>
                    <a:pt x="383" y="539"/>
                  </a:lnTo>
                  <a:lnTo>
                    <a:pt x="369" y="521"/>
                  </a:lnTo>
                  <a:lnTo>
                    <a:pt x="352" y="497"/>
                  </a:lnTo>
                  <a:close/>
                </a:path>
              </a:pathLst>
            </a:custGeom>
            <a:solidFill>
              <a:srgbClr val="9b4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537000" y="3328920"/>
              <a:ext cx="44280" cy="52560"/>
            </a:xfrm>
            <a:custGeom>
              <a:avLst/>
              <a:gdLst/>
              <a:ahLst/>
              <a:rect l="l" t="t" r="r" b="b"/>
              <a:pathLst>
                <a:path w="28" h="33">
                  <a:moveTo>
                    <a:pt x="3" y="33"/>
                  </a:moveTo>
                  <a:lnTo>
                    <a:pt x="2" y="33"/>
                  </a:lnTo>
                  <a:lnTo>
                    <a:pt x="2" y="32"/>
                  </a:lnTo>
                  <a:lnTo>
                    <a:pt x="2" y="31"/>
                  </a:lnTo>
                  <a:lnTo>
                    <a:pt x="0" y="29"/>
                  </a:lnTo>
                  <a:lnTo>
                    <a:pt x="0" y="28"/>
                  </a:lnTo>
                  <a:lnTo>
                    <a:pt x="0" y="27"/>
                  </a:lnTo>
                  <a:lnTo>
                    <a:pt x="0" y="24"/>
                  </a:lnTo>
                  <a:lnTo>
                    <a:pt x="0" y="22"/>
                  </a:lnTo>
                  <a:lnTo>
                    <a:pt x="3" y="17"/>
                  </a:lnTo>
                  <a:lnTo>
                    <a:pt x="6" y="13"/>
                  </a:lnTo>
                  <a:lnTo>
                    <a:pt x="10" y="7"/>
                  </a:lnTo>
                  <a:lnTo>
                    <a:pt x="18" y="0"/>
                  </a:lnTo>
                  <a:lnTo>
                    <a:pt x="19" y="0"/>
                  </a:lnTo>
                  <a:lnTo>
                    <a:pt x="21" y="0"/>
                  </a:lnTo>
                  <a:lnTo>
                    <a:pt x="22" y="2"/>
                  </a:lnTo>
                  <a:lnTo>
                    <a:pt x="24" y="2"/>
                  </a:lnTo>
                  <a:lnTo>
                    <a:pt x="24" y="3"/>
                  </a:lnTo>
                  <a:lnTo>
                    <a:pt x="25" y="4"/>
                  </a:lnTo>
                  <a:lnTo>
                    <a:pt x="25" y="6"/>
                  </a:lnTo>
                  <a:lnTo>
                    <a:pt x="26" y="7"/>
                  </a:lnTo>
                  <a:lnTo>
                    <a:pt x="28" y="13"/>
                  </a:lnTo>
                  <a:lnTo>
                    <a:pt x="28" y="17"/>
                  </a:lnTo>
                  <a:lnTo>
                    <a:pt x="26" y="20"/>
                  </a:lnTo>
                  <a:lnTo>
                    <a:pt x="24" y="25"/>
                  </a:lnTo>
                  <a:lnTo>
                    <a:pt x="21" y="27"/>
                  </a:lnTo>
                  <a:lnTo>
                    <a:pt x="18" y="29"/>
                  </a:lnTo>
                  <a:lnTo>
                    <a:pt x="15" y="31"/>
                  </a:lnTo>
                  <a:lnTo>
                    <a:pt x="13" y="33"/>
                  </a:lnTo>
                  <a:lnTo>
                    <a:pt x="10" y="33"/>
                  </a:lnTo>
                  <a:lnTo>
                    <a:pt x="8" y="33"/>
                  </a:lnTo>
                  <a:lnTo>
                    <a:pt x="6" y="33"/>
                  </a:lnTo>
                  <a:lnTo>
                    <a:pt x="3" y="33"/>
                  </a:lnTo>
                  <a:close/>
                </a:path>
              </a:pathLst>
            </a:custGeom>
            <a:solidFill>
              <a:srgbClr val="339966">
                <a:alpha val="50000"/>
              </a:srgbClr>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6" name=""/>
            <p:cNvSpPr/>
            <p:nvPr/>
          </p:nvSpPr>
          <p:spPr>
            <a:xfrm>
              <a:off x="4019400" y="3208320"/>
              <a:ext cx="144720" cy="155520"/>
            </a:xfrm>
            <a:custGeom>
              <a:avLst/>
              <a:gdLst/>
              <a:ahLst/>
              <a:rect l="l" t="t" r="r" b="b"/>
              <a:pathLst>
                <a:path w="91" h="98">
                  <a:moveTo>
                    <a:pt x="36" y="86"/>
                  </a:moveTo>
                  <a:lnTo>
                    <a:pt x="45" y="69"/>
                  </a:lnTo>
                  <a:lnTo>
                    <a:pt x="55" y="56"/>
                  </a:lnTo>
                  <a:lnTo>
                    <a:pt x="62" y="40"/>
                  </a:lnTo>
                  <a:lnTo>
                    <a:pt x="67" y="21"/>
                  </a:lnTo>
                  <a:lnTo>
                    <a:pt x="63" y="21"/>
                  </a:lnTo>
                  <a:lnTo>
                    <a:pt x="60" y="23"/>
                  </a:lnTo>
                  <a:lnTo>
                    <a:pt x="56" y="23"/>
                  </a:lnTo>
                  <a:lnTo>
                    <a:pt x="52" y="24"/>
                  </a:lnTo>
                  <a:lnTo>
                    <a:pt x="44" y="29"/>
                  </a:lnTo>
                  <a:lnTo>
                    <a:pt x="36" y="36"/>
                  </a:lnTo>
                  <a:lnTo>
                    <a:pt x="27" y="42"/>
                  </a:lnTo>
                  <a:lnTo>
                    <a:pt x="19" y="49"/>
                  </a:lnTo>
                  <a:lnTo>
                    <a:pt x="12" y="58"/>
                  </a:lnTo>
                  <a:lnTo>
                    <a:pt x="7" y="58"/>
                  </a:lnTo>
                  <a:lnTo>
                    <a:pt x="4" y="54"/>
                  </a:lnTo>
                  <a:lnTo>
                    <a:pt x="0" y="45"/>
                  </a:lnTo>
                  <a:lnTo>
                    <a:pt x="16" y="27"/>
                  </a:lnTo>
                  <a:lnTo>
                    <a:pt x="34" y="13"/>
                  </a:lnTo>
                  <a:lnTo>
                    <a:pt x="51" y="5"/>
                  </a:lnTo>
                  <a:lnTo>
                    <a:pt x="66" y="0"/>
                  </a:lnTo>
                  <a:lnTo>
                    <a:pt x="78" y="5"/>
                  </a:lnTo>
                  <a:lnTo>
                    <a:pt x="87" y="14"/>
                  </a:lnTo>
                  <a:lnTo>
                    <a:pt x="91" y="32"/>
                  </a:lnTo>
                  <a:lnTo>
                    <a:pt x="89" y="57"/>
                  </a:lnTo>
                  <a:lnTo>
                    <a:pt x="82" y="68"/>
                  </a:lnTo>
                  <a:lnTo>
                    <a:pt x="77" y="78"/>
                  </a:lnTo>
                  <a:lnTo>
                    <a:pt x="70" y="86"/>
                  </a:lnTo>
                  <a:lnTo>
                    <a:pt x="62" y="94"/>
                  </a:lnTo>
                  <a:lnTo>
                    <a:pt x="49" y="96"/>
                  </a:lnTo>
                  <a:lnTo>
                    <a:pt x="40" y="98"/>
                  </a:lnTo>
                  <a:lnTo>
                    <a:pt x="36" y="96"/>
                  </a:lnTo>
                  <a:lnTo>
                    <a:pt x="36" y="8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302080" y="3322800"/>
              <a:ext cx="86040" cy="33120"/>
            </a:xfrm>
            <a:custGeom>
              <a:avLst/>
              <a:gdLst/>
              <a:ahLst/>
              <a:rect l="l" t="t" r="r" b="b"/>
              <a:pathLst>
                <a:path w="54" h="21">
                  <a:moveTo>
                    <a:pt x="0" y="18"/>
                  </a:moveTo>
                  <a:lnTo>
                    <a:pt x="0" y="13"/>
                  </a:lnTo>
                  <a:lnTo>
                    <a:pt x="0" y="7"/>
                  </a:lnTo>
                  <a:lnTo>
                    <a:pt x="1" y="3"/>
                  </a:lnTo>
                  <a:lnTo>
                    <a:pt x="3" y="0"/>
                  </a:lnTo>
                  <a:lnTo>
                    <a:pt x="8" y="0"/>
                  </a:lnTo>
                  <a:lnTo>
                    <a:pt x="14" y="0"/>
                  </a:lnTo>
                  <a:lnTo>
                    <a:pt x="21" y="0"/>
                  </a:lnTo>
                  <a:lnTo>
                    <a:pt x="26" y="0"/>
                  </a:lnTo>
                  <a:lnTo>
                    <a:pt x="33" y="0"/>
                  </a:lnTo>
                  <a:lnTo>
                    <a:pt x="39" y="0"/>
                  </a:lnTo>
                  <a:lnTo>
                    <a:pt x="46" y="0"/>
                  </a:lnTo>
                  <a:lnTo>
                    <a:pt x="51" y="0"/>
                  </a:lnTo>
                  <a:lnTo>
                    <a:pt x="50" y="7"/>
                  </a:lnTo>
                  <a:lnTo>
                    <a:pt x="48" y="11"/>
                  </a:lnTo>
                  <a:lnTo>
                    <a:pt x="50" y="15"/>
                  </a:lnTo>
                  <a:lnTo>
                    <a:pt x="54" y="18"/>
                  </a:lnTo>
                  <a:lnTo>
                    <a:pt x="47" y="18"/>
                  </a:lnTo>
                  <a:lnTo>
                    <a:pt x="40" y="19"/>
                  </a:lnTo>
                  <a:lnTo>
                    <a:pt x="33" y="19"/>
                  </a:lnTo>
                  <a:lnTo>
                    <a:pt x="26" y="19"/>
                  </a:lnTo>
                  <a:lnTo>
                    <a:pt x="19" y="21"/>
                  </a:lnTo>
                  <a:lnTo>
                    <a:pt x="14" y="21"/>
                  </a:lnTo>
                  <a:lnTo>
                    <a:pt x="7" y="19"/>
                  </a:lnTo>
                  <a:lnTo>
                    <a:pt x="0" y="18"/>
                  </a:lnTo>
                  <a:close/>
                </a:path>
              </a:pathLst>
            </a:custGeom>
            <a:solidFill>
              <a:srgbClr val="000000">
                <a:alpha val="50000"/>
              </a:srgbClr>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8" name=""/>
            <p:cNvSpPr/>
            <p:nvPr/>
          </p:nvSpPr>
          <p:spPr>
            <a:xfrm>
              <a:off x="5273640" y="3262320"/>
              <a:ext cx="179280" cy="42840"/>
            </a:xfrm>
            <a:custGeom>
              <a:avLst/>
              <a:gdLst/>
              <a:ahLst/>
              <a:rect l="l" t="t" r="r" b="b"/>
              <a:pathLst>
                <a:path w="113" h="27">
                  <a:moveTo>
                    <a:pt x="58" y="22"/>
                  </a:moveTo>
                  <a:lnTo>
                    <a:pt x="51" y="20"/>
                  </a:lnTo>
                  <a:lnTo>
                    <a:pt x="43" y="19"/>
                  </a:lnTo>
                  <a:lnTo>
                    <a:pt x="35" y="19"/>
                  </a:lnTo>
                  <a:lnTo>
                    <a:pt x="29" y="17"/>
                  </a:lnTo>
                  <a:lnTo>
                    <a:pt x="25" y="19"/>
                  </a:lnTo>
                  <a:lnTo>
                    <a:pt x="24" y="20"/>
                  </a:lnTo>
                  <a:lnTo>
                    <a:pt x="18" y="24"/>
                  </a:lnTo>
                  <a:lnTo>
                    <a:pt x="1" y="27"/>
                  </a:lnTo>
                  <a:lnTo>
                    <a:pt x="0" y="22"/>
                  </a:lnTo>
                  <a:lnTo>
                    <a:pt x="0" y="17"/>
                  </a:lnTo>
                  <a:lnTo>
                    <a:pt x="1" y="15"/>
                  </a:lnTo>
                  <a:lnTo>
                    <a:pt x="1" y="12"/>
                  </a:lnTo>
                  <a:lnTo>
                    <a:pt x="7" y="6"/>
                  </a:lnTo>
                  <a:lnTo>
                    <a:pt x="11" y="4"/>
                  </a:lnTo>
                  <a:lnTo>
                    <a:pt x="17" y="2"/>
                  </a:lnTo>
                  <a:lnTo>
                    <a:pt x="21" y="1"/>
                  </a:lnTo>
                  <a:lnTo>
                    <a:pt x="26" y="0"/>
                  </a:lnTo>
                  <a:lnTo>
                    <a:pt x="32" y="0"/>
                  </a:lnTo>
                  <a:lnTo>
                    <a:pt x="37" y="0"/>
                  </a:lnTo>
                  <a:lnTo>
                    <a:pt x="44" y="0"/>
                  </a:lnTo>
                  <a:lnTo>
                    <a:pt x="58" y="2"/>
                  </a:lnTo>
                  <a:lnTo>
                    <a:pt x="65" y="5"/>
                  </a:lnTo>
                  <a:lnTo>
                    <a:pt x="69" y="6"/>
                  </a:lnTo>
                  <a:lnTo>
                    <a:pt x="73" y="9"/>
                  </a:lnTo>
                  <a:lnTo>
                    <a:pt x="87" y="11"/>
                  </a:lnTo>
                  <a:lnTo>
                    <a:pt x="95" y="11"/>
                  </a:lnTo>
                  <a:lnTo>
                    <a:pt x="101" y="11"/>
                  </a:lnTo>
                  <a:lnTo>
                    <a:pt x="108" y="9"/>
                  </a:lnTo>
                  <a:lnTo>
                    <a:pt x="110" y="13"/>
                  </a:lnTo>
                  <a:lnTo>
                    <a:pt x="113" y="16"/>
                  </a:lnTo>
                  <a:lnTo>
                    <a:pt x="113" y="19"/>
                  </a:lnTo>
                  <a:lnTo>
                    <a:pt x="113" y="24"/>
                  </a:lnTo>
                  <a:lnTo>
                    <a:pt x="106" y="24"/>
                  </a:lnTo>
                  <a:lnTo>
                    <a:pt x="98" y="24"/>
                  </a:lnTo>
                  <a:lnTo>
                    <a:pt x="91" y="24"/>
                  </a:lnTo>
                  <a:lnTo>
                    <a:pt x="84" y="24"/>
                  </a:lnTo>
                  <a:lnTo>
                    <a:pt x="77" y="24"/>
                  </a:lnTo>
                  <a:lnTo>
                    <a:pt x="72" y="23"/>
                  </a:lnTo>
                  <a:lnTo>
                    <a:pt x="65" y="23"/>
                  </a:lnTo>
                  <a:lnTo>
                    <a:pt x="58" y="22"/>
                  </a:lnTo>
                  <a:close/>
                </a:path>
              </a:pathLst>
            </a:custGeom>
            <a:solidFill>
              <a:srgbClr val="000000">
                <a:alpha val="50000"/>
              </a:srgbClr>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9" name=""/>
            <p:cNvSpPr/>
            <p:nvPr/>
          </p:nvSpPr>
          <p:spPr>
            <a:xfrm>
              <a:off x="5184720" y="3029040"/>
              <a:ext cx="93600" cy="115920"/>
            </a:xfrm>
            <a:custGeom>
              <a:avLst/>
              <a:gdLst/>
              <a:ahLst/>
              <a:rect l="l" t="t" r="r" b="b"/>
              <a:pathLst>
                <a:path w="59" h="73">
                  <a:moveTo>
                    <a:pt x="2" y="68"/>
                  </a:moveTo>
                  <a:lnTo>
                    <a:pt x="4" y="62"/>
                  </a:lnTo>
                  <a:lnTo>
                    <a:pt x="6" y="56"/>
                  </a:lnTo>
                  <a:lnTo>
                    <a:pt x="8" y="50"/>
                  </a:lnTo>
                  <a:lnTo>
                    <a:pt x="9" y="43"/>
                  </a:lnTo>
                  <a:lnTo>
                    <a:pt x="13" y="43"/>
                  </a:lnTo>
                  <a:lnTo>
                    <a:pt x="20" y="40"/>
                  </a:lnTo>
                  <a:lnTo>
                    <a:pt x="27" y="38"/>
                  </a:lnTo>
                  <a:lnTo>
                    <a:pt x="33" y="35"/>
                  </a:lnTo>
                  <a:lnTo>
                    <a:pt x="38" y="31"/>
                  </a:lnTo>
                  <a:lnTo>
                    <a:pt x="42" y="27"/>
                  </a:lnTo>
                  <a:lnTo>
                    <a:pt x="44" y="21"/>
                  </a:lnTo>
                  <a:lnTo>
                    <a:pt x="42" y="17"/>
                  </a:lnTo>
                  <a:lnTo>
                    <a:pt x="40" y="13"/>
                  </a:lnTo>
                  <a:lnTo>
                    <a:pt x="35" y="11"/>
                  </a:lnTo>
                  <a:lnTo>
                    <a:pt x="28" y="10"/>
                  </a:lnTo>
                  <a:lnTo>
                    <a:pt x="22" y="9"/>
                  </a:lnTo>
                  <a:lnTo>
                    <a:pt x="15" y="9"/>
                  </a:lnTo>
                  <a:lnTo>
                    <a:pt x="8" y="7"/>
                  </a:lnTo>
                  <a:lnTo>
                    <a:pt x="2" y="5"/>
                  </a:lnTo>
                  <a:lnTo>
                    <a:pt x="0" y="2"/>
                  </a:lnTo>
                  <a:lnTo>
                    <a:pt x="6" y="2"/>
                  </a:lnTo>
                  <a:lnTo>
                    <a:pt x="13" y="2"/>
                  </a:lnTo>
                  <a:lnTo>
                    <a:pt x="22" y="0"/>
                  </a:lnTo>
                  <a:lnTo>
                    <a:pt x="30" y="0"/>
                  </a:lnTo>
                  <a:lnTo>
                    <a:pt x="37" y="0"/>
                  </a:lnTo>
                  <a:lnTo>
                    <a:pt x="45" y="2"/>
                  </a:lnTo>
                  <a:lnTo>
                    <a:pt x="52" y="2"/>
                  </a:lnTo>
                  <a:lnTo>
                    <a:pt x="59" y="5"/>
                  </a:lnTo>
                  <a:lnTo>
                    <a:pt x="53" y="18"/>
                  </a:lnTo>
                  <a:lnTo>
                    <a:pt x="53" y="29"/>
                  </a:lnTo>
                  <a:lnTo>
                    <a:pt x="49" y="40"/>
                  </a:lnTo>
                  <a:lnTo>
                    <a:pt x="38" y="56"/>
                  </a:lnTo>
                  <a:lnTo>
                    <a:pt x="30" y="62"/>
                  </a:lnTo>
                  <a:lnTo>
                    <a:pt x="20" y="69"/>
                  </a:lnTo>
                  <a:lnTo>
                    <a:pt x="11" y="73"/>
                  </a:lnTo>
                  <a:lnTo>
                    <a:pt x="2" y="68"/>
                  </a:lnTo>
                  <a:close/>
                </a:path>
              </a:pathLst>
            </a:custGeom>
            <a:solidFill>
              <a:srgbClr val="ffd6b5">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407200" y="3025800"/>
              <a:ext cx="158400" cy="109440"/>
            </a:xfrm>
            <a:custGeom>
              <a:avLst/>
              <a:gdLst/>
              <a:ahLst/>
              <a:rect l="l" t="t" r="r" b="b"/>
              <a:pathLst>
                <a:path w="100" h="69">
                  <a:moveTo>
                    <a:pt x="4" y="44"/>
                  </a:moveTo>
                  <a:lnTo>
                    <a:pt x="2" y="30"/>
                  </a:lnTo>
                  <a:lnTo>
                    <a:pt x="0" y="19"/>
                  </a:lnTo>
                  <a:lnTo>
                    <a:pt x="0" y="9"/>
                  </a:lnTo>
                  <a:lnTo>
                    <a:pt x="4" y="0"/>
                  </a:lnTo>
                  <a:lnTo>
                    <a:pt x="17" y="0"/>
                  </a:lnTo>
                  <a:lnTo>
                    <a:pt x="29" y="1"/>
                  </a:lnTo>
                  <a:lnTo>
                    <a:pt x="40" y="1"/>
                  </a:lnTo>
                  <a:lnTo>
                    <a:pt x="53" y="2"/>
                  </a:lnTo>
                  <a:lnTo>
                    <a:pt x="64" y="2"/>
                  </a:lnTo>
                  <a:lnTo>
                    <a:pt x="75" y="5"/>
                  </a:lnTo>
                  <a:lnTo>
                    <a:pt x="87" y="7"/>
                  </a:lnTo>
                  <a:lnTo>
                    <a:pt x="100" y="9"/>
                  </a:lnTo>
                  <a:lnTo>
                    <a:pt x="98" y="20"/>
                  </a:lnTo>
                  <a:lnTo>
                    <a:pt x="95" y="30"/>
                  </a:lnTo>
                  <a:lnTo>
                    <a:pt x="93" y="40"/>
                  </a:lnTo>
                  <a:lnTo>
                    <a:pt x="87" y="51"/>
                  </a:lnTo>
                  <a:lnTo>
                    <a:pt x="79" y="59"/>
                  </a:lnTo>
                  <a:lnTo>
                    <a:pt x="68" y="64"/>
                  </a:lnTo>
                  <a:lnTo>
                    <a:pt x="57" y="67"/>
                  </a:lnTo>
                  <a:lnTo>
                    <a:pt x="44" y="69"/>
                  </a:lnTo>
                  <a:lnTo>
                    <a:pt x="32" y="66"/>
                  </a:lnTo>
                  <a:lnTo>
                    <a:pt x="21" y="62"/>
                  </a:lnTo>
                  <a:lnTo>
                    <a:pt x="11" y="55"/>
                  </a:lnTo>
                  <a:lnTo>
                    <a:pt x="4" y="44"/>
                  </a:lnTo>
                  <a:close/>
                </a:path>
              </a:pathLst>
            </a:custGeom>
            <a:solidFill>
              <a:srgbClr val="ffd6b5">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130720" y="3033720"/>
              <a:ext cx="25560" cy="87480"/>
            </a:xfrm>
            <a:custGeom>
              <a:avLst/>
              <a:gdLst/>
              <a:ahLst/>
              <a:rect l="l" t="t" r="r" b="b"/>
              <a:pathLst>
                <a:path w="16" h="55">
                  <a:moveTo>
                    <a:pt x="2" y="25"/>
                  </a:moveTo>
                  <a:lnTo>
                    <a:pt x="2" y="17"/>
                  </a:lnTo>
                  <a:lnTo>
                    <a:pt x="0" y="8"/>
                  </a:lnTo>
                  <a:lnTo>
                    <a:pt x="2" y="3"/>
                  </a:lnTo>
                  <a:lnTo>
                    <a:pt x="9" y="0"/>
                  </a:lnTo>
                  <a:lnTo>
                    <a:pt x="10" y="10"/>
                  </a:lnTo>
                  <a:lnTo>
                    <a:pt x="11" y="18"/>
                  </a:lnTo>
                  <a:lnTo>
                    <a:pt x="14" y="26"/>
                  </a:lnTo>
                  <a:lnTo>
                    <a:pt x="16" y="36"/>
                  </a:lnTo>
                  <a:lnTo>
                    <a:pt x="16" y="44"/>
                  </a:lnTo>
                  <a:lnTo>
                    <a:pt x="16" y="50"/>
                  </a:lnTo>
                  <a:lnTo>
                    <a:pt x="16" y="53"/>
                  </a:lnTo>
                  <a:lnTo>
                    <a:pt x="14" y="55"/>
                  </a:lnTo>
                  <a:lnTo>
                    <a:pt x="9" y="54"/>
                  </a:lnTo>
                  <a:lnTo>
                    <a:pt x="5" y="44"/>
                  </a:lnTo>
                  <a:lnTo>
                    <a:pt x="2" y="32"/>
                  </a:lnTo>
                  <a:lnTo>
                    <a:pt x="2" y="25"/>
                  </a:lnTo>
                  <a:close/>
                </a:path>
              </a:pathLst>
            </a:custGeom>
            <a:solidFill>
              <a:srgbClr val="9b4900">
                <a:alpha val="50000"/>
              </a:srgbClr>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2" name=""/>
            <p:cNvSpPr/>
            <p:nvPr/>
          </p:nvSpPr>
          <p:spPr>
            <a:xfrm>
              <a:off x="5418000" y="3038400"/>
              <a:ext cx="119160" cy="58680"/>
            </a:xfrm>
            <a:custGeom>
              <a:avLst/>
              <a:gdLst/>
              <a:ahLst/>
              <a:rect l="l" t="t" r="r" b="b"/>
              <a:pathLst>
                <a:path w="75" h="37">
                  <a:moveTo>
                    <a:pt x="11" y="34"/>
                  </a:moveTo>
                  <a:lnTo>
                    <a:pt x="3" y="36"/>
                  </a:lnTo>
                  <a:lnTo>
                    <a:pt x="0" y="29"/>
                  </a:lnTo>
                  <a:lnTo>
                    <a:pt x="0" y="19"/>
                  </a:lnTo>
                  <a:lnTo>
                    <a:pt x="4" y="12"/>
                  </a:lnTo>
                  <a:lnTo>
                    <a:pt x="10" y="7"/>
                  </a:lnTo>
                  <a:lnTo>
                    <a:pt x="15" y="3"/>
                  </a:lnTo>
                  <a:lnTo>
                    <a:pt x="21" y="1"/>
                  </a:lnTo>
                  <a:lnTo>
                    <a:pt x="26" y="0"/>
                  </a:lnTo>
                  <a:lnTo>
                    <a:pt x="32" y="0"/>
                  </a:lnTo>
                  <a:lnTo>
                    <a:pt x="37" y="0"/>
                  </a:lnTo>
                  <a:lnTo>
                    <a:pt x="44" y="1"/>
                  </a:lnTo>
                  <a:lnTo>
                    <a:pt x="51" y="1"/>
                  </a:lnTo>
                  <a:lnTo>
                    <a:pt x="59" y="5"/>
                  </a:lnTo>
                  <a:lnTo>
                    <a:pt x="69" y="11"/>
                  </a:lnTo>
                  <a:lnTo>
                    <a:pt x="75" y="19"/>
                  </a:lnTo>
                  <a:lnTo>
                    <a:pt x="75" y="28"/>
                  </a:lnTo>
                  <a:lnTo>
                    <a:pt x="66" y="30"/>
                  </a:lnTo>
                  <a:lnTo>
                    <a:pt x="58" y="33"/>
                  </a:lnTo>
                  <a:lnTo>
                    <a:pt x="51" y="36"/>
                  </a:lnTo>
                  <a:lnTo>
                    <a:pt x="43" y="37"/>
                  </a:lnTo>
                  <a:lnTo>
                    <a:pt x="36" y="37"/>
                  </a:lnTo>
                  <a:lnTo>
                    <a:pt x="28" y="37"/>
                  </a:lnTo>
                  <a:lnTo>
                    <a:pt x="19" y="36"/>
                  </a:lnTo>
                  <a:lnTo>
                    <a:pt x="11" y="34"/>
                  </a:lnTo>
                  <a:close/>
                </a:path>
              </a:pathLst>
            </a:custGeom>
            <a:solidFill>
              <a:srgbClr val="00000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3" name=""/>
            <p:cNvSpPr/>
            <p:nvPr/>
          </p:nvSpPr>
          <p:spPr>
            <a:xfrm>
              <a:off x="4103640" y="2843280"/>
              <a:ext cx="189000" cy="212760"/>
            </a:xfrm>
            <a:custGeom>
              <a:avLst/>
              <a:gdLst/>
              <a:ahLst/>
              <a:rect l="l" t="t" r="r" b="b"/>
              <a:pathLst>
                <a:path w="119" h="134">
                  <a:moveTo>
                    <a:pt x="0" y="128"/>
                  </a:moveTo>
                  <a:lnTo>
                    <a:pt x="2" y="127"/>
                  </a:lnTo>
                  <a:lnTo>
                    <a:pt x="3" y="126"/>
                  </a:lnTo>
                  <a:lnTo>
                    <a:pt x="3" y="123"/>
                  </a:lnTo>
                  <a:lnTo>
                    <a:pt x="5" y="122"/>
                  </a:lnTo>
                  <a:lnTo>
                    <a:pt x="3" y="120"/>
                  </a:lnTo>
                  <a:lnTo>
                    <a:pt x="3" y="119"/>
                  </a:lnTo>
                  <a:lnTo>
                    <a:pt x="2" y="117"/>
                  </a:lnTo>
                  <a:lnTo>
                    <a:pt x="0" y="116"/>
                  </a:lnTo>
                  <a:lnTo>
                    <a:pt x="10" y="108"/>
                  </a:lnTo>
                  <a:lnTo>
                    <a:pt x="17" y="101"/>
                  </a:lnTo>
                  <a:lnTo>
                    <a:pt x="24" y="95"/>
                  </a:lnTo>
                  <a:lnTo>
                    <a:pt x="28" y="91"/>
                  </a:lnTo>
                  <a:lnTo>
                    <a:pt x="32" y="88"/>
                  </a:lnTo>
                  <a:lnTo>
                    <a:pt x="36" y="84"/>
                  </a:lnTo>
                  <a:lnTo>
                    <a:pt x="40" y="82"/>
                  </a:lnTo>
                  <a:lnTo>
                    <a:pt x="46" y="77"/>
                  </a:lnTo>
                  <a:lnTo>
                    <a:pt x="51" y="71"/>
                  </a:lnTo>
                  <a:lnTo>
                    <a:pt x="56" y="65"/>
                  </a:lnTo>
                  <a:lnTo>
                    <a:pt x="60" y="58"/>
                  </a:lnTo>
                  <a:lnTo>
                    <a:pt x="65" y="53"/>
                  </a:lnTo>
                  <a:lnTo>
                    <a:pt x="67" y="42"/>
                  </a:lnTo>
                  <a:lnTo>
                    <a:pt x="63" y="36"/>
                  </a:lnTo>
                  <a:lnTo>
                    <a:pt x="56" y="36"/>
                  </a:lnTo>
                  <a:lnTo>
                    <a:pt x="47" y="37"/>
                  </a:lnTo>
                  <a:lnTo>
                    <a:pt x="38" y="39"/>
                  </a:lnTo>
                  <a:lnTo>
                    <a:pt x="31" y="36"/>
                  </a:lnTo>
                  <a:lnTo>
                    <a:pt x="27" y="31"/>
                  </a:lnTo>
                  <a:lnTo>
                    <a:pt x="28" y="17"/>
                  </a:lnTo>
                  <a:lnTo>
                    <a:pt x="39" y="11"/>
                  </a:lnTo>
                  <a:lnTo>
                    <a:pt x="50" y="7"/>
                  </a:lnTo>
                  <a:lnTo>
                    <a:pt x="60" y="3"/>
                  </a:lnTo>
                  <a:lnTo>
                    <a:pt x="69" y="0"/>
                  </a:lnTo>
                  <a:lnTo>
                    <a:pt x="78" y="0"/>
                  </a:lnTo>
                  <a:lnTo>
                    <a:pt x="87" y="3"/>
                  </a:lnTo>
                  <a:lnTo>
                    <a:pt x="97" y="7"/>
                  </a:lnTo>
                  <a:lnTo>
                    <a:pt x="108" y="15"/>
                  </a:lnTo>
                  <a:lnTo>
                    <a:pt x="108" y="31"/>
                  </a:lnTo>
                  <a:lnTo>
                    <a:pt x="103" y="47"/>
                  </a:lnTo>
                  <a:lnTo>
                    <a:pt x="97" y="62"/>
                  </a:lnTo>
                  <a:lnTo>
                    <a:pt x="96" y="75"/>
                  </a:lnTo>
                  <a:lnTo>
                    <a:pt x="105" y="73"/>
                  </a:lnTo>
                  <a:lnTo>
                    <a:pt x="115" y="72"/>
                  </a:lnTo>
                  <a:lnTo>
                    <a:pt x="119" y="75"/>
                  </a:lnTo>
                  <a:lnTo>
                    <a:pt x="114" y="83"/>
                  </a:lnTo>
                  <a:lnTo>
                    <a:pt x="103" y="91"/>
                  </a:lnTo>
                  <a:lnTo>
                    <a:pt x="89" y="101"/>
                  </a:lnTo>
                  <a:lnTo>
                    <a:pt x="74" y="111"/>
                  </a:lnTo>
                  <a:lnTo>
                    <a:pt x="57" y="120"/>
                  </a:lnTo>
                  <a:lnTo>
                    <a:pt x="40" y="128"/>
                  </a:lnTo>
                  <a:lnTo>
                    <a:pt x="25" y="134"/>
                  </a:lnTo>
                  <a:lnTo>
                    <a:pt x="11" y="134"/>
                  </a:lnTo>
                  <a:lnTo>
                    <a:pt x="0" y="12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4452840" y="2919240"/>
              <a:ext cx="319320" cy="123840"/>
            </a:xfrm>
            <a:custGeom>
              <a:avLst/>
              <a:gdLst/>
              <a:ahLst/>
              <a:rect l="l" t="t" r="r" b="b"/>
              <a:pathLst>
                <a:path w="201" h="78">
                  <a:moveTo>
                    <a:pt x="0" y="72"/>
                  </a:moveTo>
                  <a:lnTo>
                    <a:pt x="4" y="68"/>
                  </a:lnTo>
                  <a:lnTo>
                    <a:pt x="7" y="65"/>
                  </a:lnTo>
                  <a:lnTo>
                    <a:pt x="9" y="63"/>
                  </a:lnTo>
                  <a:lnTo>
                    <a:pt x="15" y="58"/>
                  </a:lnTo>
                  <a:lnTo>
                    <a:pt x="36" y="49"/>
                  </a:lnTo>
                  <a:lnTo>
                    <a:pt x="56" y="40"/>
                  </a:lnTo>
                  <a:lnTo>
                    <a:pt x="76" y="32"/>
                  </a:lnTo>
                  <a:lnTo>
                    <a:pt x="96" y="24"/>
                  </a:lnTo>
                  <a:lnTo>
                    <a:pt x="117" y="17"/>
                  </a:lnTo>
                  <a:lnTo>
                    <a:pt x="138" y="10"/>
                  </a:lnTo>
                  <a:lnTo>
                    <a:pt x="158" y="5"/>
                  </a:lnTo>
                  <a:lnTo>
                    <a:pt x="181" y="0"/>
                  </a:lnTo>
                  <a:lnTo>
                    <a:pt x="186" y="0"/>
                  </a:lnTo>
                  <a:lnTo>
                    <a:pt x="192" y="0"/>
                  </a:lnTo>
                  <a:lnTo>
                    <a:pt x="196" y="2"/>
                  </a:lnTo>
                  <a:lnTo>
                    <a:pt x="201" y="2"/>
                  </a:lnTo>
                  <a:lnTo>
                    <a:pt x="186" y="12"/>
                  </a:lnTo>
                  <a:lnTo>
                    <a:pt x="160" y="24"/>
                  </a:lnTo>
                  <a:lnTo>
                    <a:pt x="128" y="39"/>
                  </a:lnTo>
                  <a:lnTo>
                    <a:pt x="92" y="53"/>
                  </a:lnTo>
                  <a:lnTo>
                    <a:pt x="58" y="67"/>
                  </a:lnTo>
                  <a:lnTo>
                    <a:pt x="29" y="75"/>
                  </a:lnTo>
                  <a:lnTo>
                    <a:pt x="8" y="78"/>
                  </a:lnTo>
                  <a:lnTo>
                    <a:pt x="0" y="7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187960" y="2793960"/>
              <a:ext cx="466560" cy="227160"/>
            </a:xfrm>
            <a:custGeom>
              <a:avLst/>
              <a:gdLst/>
              <a:ahLst/>
              <a:rect l="l" t="t" r="r" b="b"/>
              <a:pathLst>
                <a:path w="294" h="143">
                  <a:moveTo>
                    <a:pt x="267" y="139"/>
                  </a:moveTo>
                  <a:lnTo>
                    <a:pt x="251" y="130"/>
                  </a:lnTo>
                  <a:lnTo>
                    <a:pt x="233" y="125"/>
                  </a:lnTo>
                  <a:lnTo>
                    <a:pt x="215" y="122"/>
                  </a:lnTo>
                  <a:lnTo>
                    <a:pt x="196" y="121"/>
                  </a:lnTo>
                  <a:lnTo>
                    <a:pt x="175" y="121"/>
                  </a:lnTo>
                  <a:lnTo>
                    <a:pt x="156" y="124"/>
                  </a:lnTo>
                  <a:lnTo>
                    <a:pt x="138" y="128"/>
                  </a:lnTo>
                  <a:lnTo>
                    <a:pt x="122" y="133"/>
                  </a:lnTo>
                  <a:lnTo>
                    <a:pt x="101" y="133"/>
                  </a:lnTo>
                  <a:lnTo>
                    <a:pt x="90" y="133"/>
                  </a:lnTo>
                  <a:lnTo>
                    <a:pt x="84" y="133"/>
                  </a:lnTo>
                  <a:lnTo>
                    <a:pt x="82" y="133"/>
                  </a:lnTo>
                  <a:lnTo>
                    <a:pt x="71" y="130"/>
                  </a:lnTo>
                  <a:lnTo>
                    <a:pt x="61" y="128"/>
                  </a:lnTo>
                  <a:lnTo>
                    <a:pt x="51" y="126"/>
                  </a:lnTo>
                  <a:lnTo>
                    <a:pt x="43" y="125"/>
                  </a:lnTo>
                  <a:lnTo>
                    <a:pt x="33" y="125"/>
                  </a:lnTo>
                  <a:lnTo>
                    <a:pt x="24" y="125"/>
                  </a:lnTo>
                  <a:lnTo>
                    <a:pt x="13" y="125"/>
                  </a:lnTo>
                  <a:lnTo>
                    <a:pt x="0" y="126"/>
                  </a:lnTo>
                  <a:lnTo>
                    <a:pt x="6" y="111"/>
                  </a:lnTo>
                  <a:lnTo>
                    <a:pt x="10" y="96"/>
                  </a:lnTo>
                  <a:lnTo>
                    <a:pt x="14" y="81"/>
                  </a:lnTo>
                  <a:lnTo>
                    <a:pt x="20" y="67"/>
                  </a:lnTo>
                  <a:lnTo>
                    <a:pt x="28" y="55"/>
                  </a:lnTo>
                  <a:lnTo>
                    <a:pt x="38" y="42"/>
                  </a:lnTo>
                  <a:lnTo>
                    <a:pt x="53" y="30"/>
                  </a:lnTo>
                  <a:lnTo>
                    <a:pt x="72" y="19"/>
                  </a:lnTo>
                  <a:lnTo>
                    <a:pt x="102" y="9"/>
                  </a:lnTo>
                  <a:lnTo>
                    <a:pt x="131" y="2"/>
                  </a:lnTo>
                  <a:lnTo>
                    <a:pt x="159" y="0"/>
                  </a:lnTo>
                  <a:lnTo>
                    <a:pt x="185" y="2"/>
                  </a:lnTo>
                  <a:lnTo>
                    <a:pt x="210" y="6"/>
                  </a:lnTo>
                  <a:lnTo>
                    <a:pt x="231" y="16"/>
                  </a:lnTo>
                  <a:lnTo>
                    <a:pt x="250" y="28"/>
                  </a:lnTo>
                  <a:lnTo>
                    <a:pt x="264" y="44"/>
                  </a:lnTo>
                  <a:lnTo>
                    <a:pt x="258" y="64"/>
                  </a:lnTo>
                  <a:lnTo>
                    <a:pt x="258" y="78"/>
                  </a:lnTo>
                  <a:lnTo>
                    <a:pt x="262" y="93"/>
                  </a:lnTo>
                  <a:lnTo>
                    <a:pt x="272" y="114"/>
                  </a:lnTo>
                  <a:lnTo>
                    <a:pt x="280" y="122"/>
                  </a:lnTo>
                  <a:lnTo>
                    <a:pt x="286" y="129"/>
                  </a:lnTo>
                  <a:lnTo>
                    <a:pt x="289" y="133"/>
                  </a:lnTo>
                  <a:lnTo>
                    <a:pt x="294" y="140"/>
                  </a:lnTo>
                  <a:lnTo>
                    <a:pt x="289" y="143"/>
                  </a:lnTo>
                  <a:lnTo>
                    <a:pt x="282" y="142"/>
                  </a:lnTo>
                  <a:lnTo>
                    <a:pt x="273" y="140"/>
                  </a:lnTo>
                  <a:lnTo>
                    <a:pt x="267" y="139"/>
                  </a:lnTo>
                  <a:close/>
                </a:path>
              </a:pathLst>
            </a:custGeom>
            <a:solidFill>
              <a:srgbClr val="ffd6b5">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322880" y="2820960"/>
              <a:ext cx="126720" cy="141480"/>
            </a:xfrm>
            <a:custGeom>
              <a:avLst/>
              <a:gdLst/>
              <a:ahLst/>
              <a:rect l="l" t="t" r="r" b="b"/>
              <a:pathLst>
                <a:path w="80" h="89">
                  <a:moveTo>
                    <a:pt x="18" y="89"/>
                  </a:moveTo>
                  <a:lnTo>
                    <a:pt x="14" y="86"/>
                  </a:lnTo>
                  <a:lnTo>
                    <a:pt x="10" y="82"/>
                  </a:lnTo>
                  <a:lnTo>
                    <a:pt x="6" y="79"/>
                  </a:lnTo>
                  <a:lnTo>
                    <a:pt x="0" y="75"/>
                  </a:lnTo>
                  <a:lnTo>
                    <a:pt x="2" y="50"/>
                  </a:lnTo>
                  <a:lnTo>
                    <a:pt x="7" y="32"/>
                  </a:lnTo>
                  <a:lnTo>
                    <a:pt x="20" y="18"/>
                  </a:lnTo>
                  <a:lnTo>
                    <a:pt x="39" y="3"/>
                  </a:lnTo>
                  <a:lnTo>
                    <a:pt x="58" y="0"/>
                  </a:lnTo>
                  <a:lnTo>
                    <a:pt x="71" y="5"/>
                  </a:lnTo>
                  <a:lnTo>
                    <a:pt x="78" y="14"/>
                  </a:lnTo>
                  <a:lnTo>
                    <a:pt x="80" y="27"/>
                  </a:lnTo>
                  <a:lnTo>
                    <a:pt x="78" y="42"/>
                  </a:lnTo>
                  <a:lnTo>
                    <a:pt x="74" y="56"/>
                  </a:lnTo>
                  <a:lnTo>
                    <a:pt x="67" y="69"/>
                  </a:lnTo>
                  <a:lnTo>
                    <a:pt x="60" y="79"/>
                  </a:lnTo>
                  <a:lnTo>
                    <a:pt x="54" y="80"/>
                  </a:lnTo>
                  <a:lnTo>
                    <a:pt x="49" y="82"/>
                  </a:lnTo>
                  <a:lnTo>
                    <a:pt x="45" y="85"/>
                  </a:lnTo>
                  <a:lnTo>
                    <a:pt x="39" y="86"/>
                  </a:lnTo>
                  <a:lnTo>
                    <a:pt x="34" y="87"/>
                  </a:lnTo>
                  <a:lnTo>
                    <a:pt x="29" y="87"/>
                  </a:lnTo>
                  <a:lnTo>
                    <a:pt x="24" y="89"/>
                  </a:lnTo>
                  <a:lnTo>
                    <a:pt x="18" y="8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341520" y="2612880"/>
              <a:ext cx="668520" cy="333360"/>
            </a:xfrm>
            <a:custGeom>
              <a:avLst/>
              <a:gdLst/>
              <a:ahLst/>
              <a:rect l="l" t="t" r="r" b="b"/>
              <a:pathLst>
                <a:path w="421" h="210">
                  <a:moveTo>
                    <a:pt x="10" y="209"/>
                  </a:moveTo>
                  <a:lnTo>
                    <a:pt x="5" y="163"/>
                  </a:lnTo>
                  <a:lnTo>
                    <a:pt x="0" y="107"/>
                  </a:lnTo>
                  <a:lnTo>
                    <a:pt x="5" y="54"/>
                  </a:lnTo>
                  <a:lnTo>
                    <a:pt x="21" y="18"/>
                  </a:lnTo>
                  <a:lnTo>
                    <a:pt x="32" y="24"/>
                  </a:lnTo>
                  <a:lnTo>
                    <a:pt x="47" y="27"/>
                  </a:lnTo>
                  <a:lnTo>
                    <a:pt x="67" y="27"/>
                  </a:lnTo>
                  <a:lnTo>
                    <a:pt x="89" y="27"/>
                  </a:lnTo>
                  <a:lnTo>
                    <a:pt x="114" y="24"/>
                  </a:lnTo>
                  <a:lnTo>
                    <a:pt x="141" y="20"/>
                  </a:lnTo>
                  <a:lnTo>
                    <a:pt x="170" y="16"/>
                  </a:lnTo>
                  <a:lnTo>
                    <a:pt x="200" y="11"/>
                  </a:lnTo>
                  <a:lnTo>
                    <a:pt x="231" y="7"/>
                  </a:lnTo>
                  <a:lnTo>
                    <a:pt x="261" y="5"/>
                  </a:lnTo>
                  <a:lnTo>
                    <a:pt x="290" y="2"/>
                  </a:lnTo>
                  <a:lnTo>
                    <a:pt x="319" y="0"/>
                  </a:lnTo>
                  <a:lnTo>
                    <a:pt x="347" y="2"/>
                  </a:lnTo>
                  <a:lnTo>
                    <a:pt x="371" y="3"/>
                  </a:lnTo>
                  <a:lnTo>
                    <a:pt x="392" y="9"/>
                  </a:lnTo>
                  <a:lnTo>
                    <a:pt x="411" y="17"/>
                  </a:lnTo>
                  <a:lnTo>
                    <a:pt x="417" y="46"/>
                  </a:lnTo>
                  <a:lnTo>
                    <a:pt x="421" y="86"/>
                  </a:lnTo>
                  <a:lnTo>
                    <a:pt x="421" y="127"/>
                  </a:lnTo>
                  <a:lnTo>
                    <a:pt x="418" y="156"/>
                  </a:lnTo>
                  <a:lnTo>
                    <a:pt x="409" y="160"/>
                  </a:lnTo>
                  <a:lnTo>
                    <a:pt x="394" y="165"/>
                  </a:lnTo>
                  <a:lnTo>
                    <a:pt x="371" y="170"/>
                  </a:lnTo>
                  <a:lnTo>
                    <a:pt x="344" y="174"/>
                  </a:lnTo>
                  <a:lnTo>
                    <a:pt x="312" y="178"/>
                  </a:lnTo>
                  <a:lnTo>
                    <a:pt x="278" y="184"/>
                  </a:lnTo>
                  <a:lnTo>
                    <a:pt x="242" y="188"/>
                  </a:lnTo>
                  <a:lnTo>
                    <a:pt x="206" y="192"/>
                  </a:lnTo>
                  <a:lnTo>
                    <a:pt x="169" y="196"/>
                  </a:lnTo>
                  <a:lnTo>
                    <a:pt x="134" y="200"/>
                  </a:lnTo>
                  <a:lnTo>
                    <a:pt x="101" y="203"/>
                  </a:lnTo>
                  <a:lnTo>
                    <a:pt x="72" y="206"/>
                  </a:lnTo>
                  <a:lnTo>
                    <a:pt x="47" y="209"/>
                  </a:lnTo>
                  <a:lnTo>
                    <a:pt x="28" y="209"/>
                  </a:lnTo>
                  <a:lnTo>
                    <a:pt x="16" y="210"/>
                  </a:lnTo>
                  <a:lnTo>
                    <a:pt x="10" y="20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365720" y="2854440"/>
              <a:ext cx="42840" cy="68040"/>
            </a:xfrm>
            <a:custGeom>
              <a:avLst/>
              <a:gdLst/>
              <a:ahLst/>
              <a:rect l="l" t="t" r="r" b="b"/>
              <a:pathLst>
                <a:path w="27" h="43">
                  <a:moveTo>
                    <a:pt x="0" y="43"/>
                  </a:moveTo>
                  <a:lnTo>
                    <a:pt x="1" y="29"/>
                  </a:lnTo>
                  <a:lnTo>
                    <a:pt x="4" y="14"/>
                  </a:lnTo>
                  <a:lnTo>
                    <a:pt x="12" y="3"/>
                  </a:lnTo>
                  <a:lnTo>
                    <a:pt x="27" y="0"/>
                  </a:lnTo>
                  <a:lnTo>
                    <a:pt x="26" y="13"/>
                  </a:lnTo>
                  <a:lnTo>
                    <a:pt x="23" y="22"/>
                  </a:lnTo>
                  <a:lnTo>
                    <a:pt x="16" y="32"/>
                  </a:lnTo>
                  <a:lnTo>
                    <a:pt x="8" y="41"/>
                  </a:lnTo>
                  <a:lnTo>
                    <a:pt x="7" y="41"/>
                  </a:lnTo>
                  <a:lnTo>
                    <a:pt x="4" y="41"/>
                  </a:lnTo>
                  <a:lnTo>
                    <a:pt x="2" y="43"/>
                  </a:lnTo>
                  <a:lnTo>
                    <a:pt x="0" y="43"/>
                  </a:lnTo>
                  <a:close/>
                </a:path>
              </a:pathLst>
            </a:custGeom>
            <a:solidFill>
              <a:srgbClr val="339966">
                <a:alpha val="50000"/>
              </a:srgbClr>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9" name=""/>
            <p:cNvSpPr/>
            <p:nvPr/>
          </p:nvSpPr>
          <p:spPr>
            <a:xfrm>
              <a:off x="4465800" y="2782800"/>
              <a:ext cx="126720" cy="133560"/>
            </a:xfrm>
            <a:custGeom>
              <a:avLst/>
              <a:gdLst/>
              <a:ahLst/>
              <a:rect l="l" t="t" r="r" b="b"/>
              <a:pathLst>
                <a:path w="80" h="84">
                  <a:moveTo>
                    <a:pt x="0" y="71"/>
                  </a:moveTo>
                  <a:lnTo>
                    <a:pt x="0" y="56"/>
                  </a:lnTo>
                  <a:lnTo>
                    <a:pt x="3" y="42"/>
                  </a:lnTo>
                  <a:lnTo>
                    <a:pt x="6" y="33"/>
                  </a:lnTo>
                  <a:lnTo>
                    <a:pt x="11" y="24"/>
                  </a:lnTo>
                  <a:lnTo>
                    <a:pt x="19" y="18"/>
                  </a:lnTo>
                  <a:lnTo>
                    <a:pt x="29" y="12"/>
                  </a:lnTo>
                  <a:lnTo>
                    <a:pt x="40" y="7"/>
                  </a:lnTo>
                  <a:lnTo>
                    <a:pt x="55" y="0"/>
                  </a:lnTo>
                  <a:lnTo>
                    <a:pt x="65" y="0"/>
                  </a:lnTo>
                  <a:lnTo>
                    <a:pt x="70" y="1"/>
                  </a:lnTo>
                  <a:lnTo>
                    <a:pt x="75" y="4"/>
                  </a:lnTo>
                  <a:lnTo>
                    <a:pt x="80" y="9"/>
                  </a:lnTo>
                  <a:lnTo>
                    <a:pt x="80" y="20"/>
                  </a:lnTo>
                  <a:lnTo>
                    <a:pt x="80" y="30"/>
                  </a:lnTo>
                  <a:lnTo>
                    <a:pt x="77" y="40"/>
                  </a:lnTo>
                  <a:lnTo>
                    <a:pt x="75" y="51"/>
                  </a:lnTo>
                  <a:lnTo>
                    <a:pt x="66" y="62"/>
                  </a:lnTo>
                  <a:lnTo>
                    <a:pt x="61" y="67"/>
                  </a:lnTo>
                  <a:lnTo>
                    <a:pt x="57" y="70"/>
                  </a:lnTo>
                  <a:lnTo>
                    <a:pt x="51" y="74"/>
                  </a:lnTo>
                  <a:lnTo>
                    <a:pt x="44" y="78"/>
                  </a:lnTo>
                  <a:lnTo>
                    <a:pt x="36" y="81"/>
                  </a:lnTo>
                  <a:lnTo>
                    <a:pt x="30" y="82"/>
                  </a:lnTo>
                  <a:lnTo>
                    <a:pt x="24" y="84"/>
                  </a:lnTo>
                  <a:lnTo>
                    <a:pt x="18" y="84"/>
                  </a:lnTo>
                  <a:lnTo>
                    <a:pt x="11" y="82"/>
                  </a:lnTo>
                  <a:lnTo>
                    <a:pt x="6" y="78"/>
                  </a:lnTo>
                  <a:lnTo>
                    <a:pt x="0" y="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390840" y="2649600"/>
              <a:ext cx="582840" cy="252360"/>
            </a:xfrm>
            <a:custGeom>
              <a:avLst/>
              <a:gdLst/>
              <a:ahLst/>
              <a:rect l="l" t="t" r="r" b="b"/>
              <a:pathLst>
                <a:path w="367" h="159">
                  <a:moveTo>
                    <a:pt x="1" y="159"/>
                  </a:moveTo>
                  <a:lnTo>
                    <a:pt x="1" y="126"/>
                  </a:lnTo>
                  <a:lnTo>
                    <a:pt x="1" y="92"/>
                  </a:lnTo>
                  <a:lnTo>
                    <a:pt x="1" y="59"/>
                  </a:lnTo>
                  <a:lnTo>
                    <a:pt x="0" y="24"/>
                  </a:lnTo>
                  <a:lnTo>
                    <a:pt x="16" y="23"/>
                  </a:lnTo>
                  <a:lnTo>
                    <a:pt x="33" y="20"/>
                  </a:lnTo>
                  <a:lnTo>
                    <a:pt x="49" y="19"/>
                  </a:lnTo>
                  <a:lnTo>
                    <a:pt x="66" y="17"/>
                  </a:lnTo>
                  <a:lnTo>
                    <a:pt x="84" y="16"/>
                  </a:lnTo>
                  <a:lnTo>
                    <a:pt x="102" y="15"/>
                  </a:lnTo>
                  <a:lnTo>
                    <a:pt x="120" y="13"/>
                  </a:lnTo>
                  <a:lnTo>
                    <a:pt x="138" y="12"/>
                  </a:lnTo>
                  <a:lnTo>
                    <a:pt x="156" y="12"/>
                  </a:lnTo>
                  <a:lnTo>
                    <a:pt x="174" y="11"/>
                  </a:lnTo>
                  <a:lnTo>
                    <a:pt x="190" y="11"/>
                  </a:lnTo>
                  <a:lnTo>
                    <a:pt x="208" y="9"/>
                  </a:lnTo>
                  <a:lnTo>
                    <a:pt x="226" y="9"/>
                  </a:lnTo>
                  <a:lnTo>
                    <a:pt x="243" y="8"/>
                  </a:lnTo>
                  <a:lnTo>
                    <a:pt x="259" y="8"/>
                  </a:lnTo>
                  <a:lnTo>
                    <a:pt x="276" y="8"/>
                  </a:lnTo>
                  <a:lnTo>
                    <a:pt x="287" y="5"/>
                  </a:lnTo>
                  <a:lnTo>
                    <a:pt x="298" y="2"/>
                  </a:lnTo>
                  <a:lnTo>
                    <a:pt x="307" y="1"/>
                  </a:lnTo>
                  <a:lnTo>
                    <a:pt x="318" y="0"/>
                  </a:lnTo>
                  <a:lnTo>
                    <a:pt x="329" y="0"/>
                  </a:lnTo>
                  <a:lnTo>
                    <a:pt x="339" y="1"/>
                  </a:lnTo>
                  <a:lnTo>
                    <a:pt x="350" y="2"/>
                  </a:lnTo>
                  <a:lnTo>
                    <a:pt x="361" y="6"/>
                  </a:lnTo>
                  <a:lnTo>
                    <a:pt x="363" y="15"/>
                  </a:lnTo>
                  <a:lnTo>
                    <a:pt x="364" y="30"/>
                  </a:lnTo>
                  <a:lnTo>
                    <a:pt x="365" y="63"/>
                  </a:lnTo>
                  <a:lnTo>
                    <a:pt x="367" y="124"/>
                  </a:lnTo>
                  <a:lnTo>
                    <a:pt x="361" y="125"/>
                  </a:lnTo>
                  <a:lnTo>
                    <a:pt x="350" y="128"/>
                  </a:lnTo>
                  <a:lnTo>
                    <a:pt x="334" y="130"/>
                  </a:lnTo>
                  <a:lnTo>
                    <a:pt x="312" y="133"/>
                  </a:lnTo>
                  <a:lnTo>
                    <a:pt x="285" y="136"/>
                  </a:lnTo>
                  <a:lnTo>
                    <a:pt x="258" y="140"/>
                  </a:lnTo>
                  <a:lnTo>
                    <a:pt x="227" y="143"/>
                  </a:lnTo>
                  <a:lnTo>
                    <a:pt x="196" y="147"/>
                  </a:lnTo>
                  <a:lnTo>
                    <a:pt x="164" y="150"/>
                  </a:lnTo>
                  <a:lnTo>
                    <a:pt x="132" y="153"/>
                  </a:lnTo>
                  <a:lnTo>
                    <a:pt x="102" y="155"/>
                  </a:lnTo>
                  <a:lnTo>
                    <a:pt x="74" y="157"/>
                  </a:lnTo>
                  <a:lnTo>
                    <a:pt x="49" y="159"/>
                  </a:lnTo>
                  <a:lnTo>
                    <a:pt x="29" y="159"/>
                  </a:lnTo>
                  <a:lnTo>
                    <a:pt x="12" y="159"/>
                  </a:lnTo>
                  <a:lnTo>
                    <a:pt x="1" y="159"/>
                  </a:lnTo>
                  <a:close/>
                </a:path>
              </a:pathLst>
            </a:custGeom>
            <a:solidFill>
              <a:srgbClr val="3399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611600" y="2733840"/>
              <a:ext cx="141480" cy="177480"/>
            </a:xfrm>
            <a:custGeom>
              <a:avLst/>
              <a:gdLst/>
              <a:ahLst/>
              <a:rect l="l" t="t" r="r" b="b"/>
              <a:pathLst>
                <a:path w="89" h="112">
                  <a:moveTo>
                    <a:pt x="42" y="87"/>
                  </a:moveTo>
                  <a:lnTo>
                    <a:pt x="35" y="89"/>
                  </a:lnTo>
                  <a:lnTo>
                    <a:pt x="29" y="89"/>
                  </a:lnTo>
                  <a:lnTo>
                    <a:pt x="24" y="90"/>
                  </a:lnTo>
                  <a:lnTo>
                    <a:pt x="20" y="89"/>
                  </a:lnTo>
                  <a:lnTo>
                    <a:pt x="16" y="87"/>
                  </a:lnTo>
                  <a:lnTo>
                    <a:pt x="12" y="86"/>
                  </a:lnTo>
                  <a:lnTo>
                    <a:pt x="6" y="83"/>
                  </a:lnTo>
                  <a:lnTo>
                    <a:pt x="0" y="79"/>
                  </a:lnTo>
                  <a:lnTo>
                    <a:pt x="2" y="62"/>
                  </a:lnTo>
                  <a:lnTo>
                    <a:pt x="9" y="49"/>
                  </a:lnTo>
                  <a:lnTo>
                    <a:pt x="20" y="35"/>
                  </a:lnTo>
                  <a:lnTo>
                    <a:pt x="29" y="20"/>
                  </a:lnTo>
                  <a:lnTo>
                    <a:pt x="35" y="14"/>
                  </a:lnTo>
                  <a:lnTo>
                    <a:pt x="42" y="10"/>
                  </a:lnTo>
                  <a:lnTo>
                    <a:pt x="47" y="6"/>
                  </a:lnTo>
                  <a:lnTo>
                    <a:pt x="54" y="3"/>
                  </a:lnTo>
                  <a:lnTo>
                    <a:pt x="61" y="0"/>
                  </a:lnTo>
                  <a:lnTo>
                    <a:pt x="68" y="0"/>
                  </a:lnTo>
                  <a:lnTo>
                    <a:pt x="75" y="0"/>
                  </a:lnTo>
                  <a:lnTo>
                    <a:pt x="83" y="3"/>
                  </a:lnTo>
                  <a:lnTo>
                    <a:pt x="87" y="20"/>
                  </a:lnTo>
                  <a:lnTo>
                    <a:pt x="89" y="32"/>
                  </a:lnTo>
                  <a:lnTo>
                    <a:pt x="87" y="46"/>
                  </a:lnTo>
                  <a:lnTo>
                    <a:pt x="85" y="62"/>
                  </a:lnTo>
                  <a:lnTo>
                    <a:pt x="79" y="73"/>
                  </a:lnTo>
                  <a:lnTo>
                    <a:pt x="71" y="84"/>
                  </a:lnTo>
                  <a:lnTo>
                    <a:pt x="63" y="97"/>
                  </a:lnTo>
                  <a:lnTo>
                    <a:pt x="56" y="106"/>
                  </a:lnTo>
                  <a:lnTo>
                    <a:pt x="49" y="112"/>
                  </a:lnTo>
                  <a:lnTo>
                    <a:pt x="43" y="112"/>
                  </a:lnTo>
                  <a:lnTo>
                    <a:pt x="40" y="104"/>
                  </a:lnTo>
                  <a:lnTo>
                    <a:pt x="42" y="8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498920" y="2806560"/>
              <a:ext cx="63720" cy="77760"/>
            </a:xfrm>
            <a:custGeom>
              <a:avLst/>
              <a:gdLst/>
              <a:ahLst/>
              <a:rect l="l" t="t" r="r" b="b"/>
              <a:pathLst>
                <a:path w="40" h="49">
                  <a:moveTo>
                    <a:pt x="0" y="44"/>
                  </a:moveTo>
                  <a:lnTo>
                    <a:pt x="0" y="30"/>
                  </a:lnTo>
                  <a:lnTo>
                    <a:pt x="1" y="19"/>
                  </a:lnTo>
                  <a:lnTo>
                    <a:pt x="7" y="9"/>
                  </a:lnTo>
                  <a:lnTo>
                    <a:pt x="15" y="0"/>
                  </a:lnTo>
                  <a:lnTo>
                    <a:pt x="29" y="0"/>
                  </a:lnTo>
                  <a:lnTo>
                    <a:pt x="36" y="1"/>
                  </a:lnTo>
                  <a:lnTo>
                    <a:pt x="40" y="8"/>
                  </a:lnTo>
                  <a:lnTo>
                    <a:pt x="40" y="20"/>
                  </a:lnTo>
                  <a:lnTo>
                    <a:pt x="37" y="27"/>
                  </a:lnTo>
                  <a:lnTo>
                    <a:pt x="34" y="33"/>
                  </a:lnTo>
                  <a:lnTo>
                    <a:pt x="31" y="40"/>
                  </a:lnTo>
                  <a:lnTo>
                    <a:pt x="29" y="47"/>
                  </a:lnTo>
                  <a:lnTo>
                    <a:pt x="20" y="49"/>
                  </a:lnTo>
                  <a:lnTo>
                    <a:pt x="12" y="49"/>
                  </a:lnTo>
                  <a:lnTo>
                    <a:pt x="5" y="48"/>
                  </a:lnTo>
                  <a:lnTo>
                    <a:pt x="0" y="44"/>
                  </a:lnTo>
                  <a:close/>
                </a:path>
              </a:pathLst>
            </a:custGeom>
            <a:solidFill>
              <a:srgbClr val="339966">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3" name=""/>
            <p:cNvSpPr/>
            <p:nvPr/>
          </p:nvSpPr>
          <p:spPr>
            <a:xfrm>
              <a:off x="4645080" y="2765520"/>
              <a:ext cx="69840" cy="73080"/>
            </a:xfrm>
            <a:custGeom>
              <a:avLst/>
              <a:gdLst/>
              <a:ahLst/>
              <a:rect l="l" t="t" r="r" b="b"/>
              <a:pathLst>
                <a:path w="44" h="46">
                  <a:moveTo>
                    <a:pt x="0" y="44"/>
                  </a:moveTo>
                  <a:lnTo>
                    <a:pt x="2" y="38"/>
                  </a:lnTo>
                  <a:lnTo>
                    <a:pt x="3" y="35"/>
                  </a:lnTo>
                  <a:lnTo>
                    <a:pt x="4" y="30"/>
                  </a:lnTo>
                  <a:lnTo>
                    <a:pt x="8" y="23"/>
                  </a:lnTo>
                  <a:lnTo>
                    <a:pt x="15" y="13"/>
                  </a:lnTo>
                  <a:lnTo>
                    <a:pt x="24" y="4"/>
                  </a:lnTo>
                  <a:lnTo>
                    <a:pt x="33" y="0"/>
                  </a:lnTo>
                  <a:lnTo>
                    <a:pt x="44" y="5"/>
                  </a:lnTo>
                  <a:lnTo>
                    <a:pt x="44" y="15"/>
                  </a:lnTo>
                  <a:lnTo>
                    <a:pt x="42" y="23"/>
                  </a:lnTo>
                  <a:lnTo>
                    <a:pt x="39" y="31"/>
                  </a:lnTo>
                  <a:lnTo>
                    <a:pt x="33" y="38"/>
                  </a:lnTo>
                  <a:lnTo>
                    <a:pt x="28" y="44"/>
                  </a:lnTo>
                  <a:lnTo>
                    <a:pt x="19" y="46"/>
                  </a:lnTo>
                  <a:lnTo>
                    <a:pt x="11" y="46"/>
                  </a:lnTo>
                  <a:lnTo>
                    <a:pt x="0" y="44"/>
                  </a:lnTo>
                  <a:close/>
                </a:path>
              </a:pathLst>
            </a:custGeom>
            <a:solidFill>
              <a:srgbClr val="339966">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4" name=""/>
            <p:cNvSpPr/>
            <p:nvPr/>
          </p:nvSpPr>
          <p:spPr>
            <a:xfrm>
              <a:off x="3524400" y="2751120"/>
              <a:ext cx="39600" cy="90360"/>
            </a:xfrm>
            <a:custGeom>
              <a:avLst/>
              <a:gdLst/>
              <a:ahLst/>
              <a:rect l="l" t="t" r="r" b="b"/>
              <a:pathLst>
                <a:path w="25" h="57">
                  <a:moveTo>
                    <a:pt x="0" y="51"/>
                  </a:moveTo>
                  <a:lnTo>
                    <a:pt x="1" y="39"/>
                  </a:lnTo>
                  <a:lnTo>
                    <a:pt x="4" y="28"/>
                  </a:lnTo>
                  <a:lnTo>
                    <a:pt x="7" y="18"/>
                  </a:lnTo>
                  <a:lnTo>
                    <a:pt x="10" y="6"/>
                  </a:lnTo>
                  <a:lnTo>
                    <a:pt x="12" y="3"/>
                  </a:lnTo>
                  <a:lnTo>
                    <a:pt x="15" y="2"/>
                  </a:lnTo>
                  <a:lnTo>
                    <a:pt x="18" y="0"/>
                  </a:lnTo>
                  <a:lnTo>
                    <a:pt x="22" y="2"/>
                  </a:lnTo>
                  <a:lnTo>
                    <a:pt x="23" y="4"/>
                  </a:lnTo>
                  <a:lnTo>
                    <a:pt x="23" y="7"/>
                  </a:lnTo>
                  <a:lnTo>
                    <a:pt x="23" y="10"/>
                  </a:lnTo>
                  <a:lnTo>
                    <a:pt x="25" y="14"/>
                  </a:lnTo>
                  <a:lnTo>
                    <a:pt x="23" y="25"/>
                  </a:lnTo>
                  <a:lnTo>
                    <a:pt x="22" y="38"/>
                  </a:lnTo>
                  <a:lnTo>
                    <a:pt x="19" y="49"/>
                  </a:lnTo>
                  <a:lnTo>
                    <a:pt x="12" y="57"/>
                  </a:lnTo>
                  <a:lnTo>
                    <a:pt x="10" y="55"/>
                  </a:lnTo>
                  <a:lnTo>
                    <a:pt x="7" y="54"/>
                  </a:lnTo>
                  <a:lnTo>
                    <a:pt x="3" y="53"/>
                  </a:lnTo>
                  <a:lnTo>
                    <a:pt x="0" y="51"/>
                  </a:lnTo>
                  <a:close/>
                </a:path>
              </a:pathLst>
            </a:custGeom>
            <a:solidFill>
              <a:srgbClr val="ffffff">
                <a:alpha val="50000"/>
              </a:srgbClr>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3743280" y="2698920"/>
              <a:ext cx="142920" cy="129960"/>
            </a:xfrm>
            <a:custGeom>
              <a:avLst/>
              <a:gdLst/>
              <a:ahLst/>
              <a:rect l="l" t="t" r="r" b="b"/>
              <a:pathLst>
                <a:path w="90" h="82">
                  <a:moveTo>
                    <a:pt x="16" y="51"/>
                  </a:moveTo>
                  <a:lnTo>
                    <a:pt x="12" y="43"/>
                  </a:lnTo>
                  <a:lnTo>
                    <a:pt x="8" y="33"/>
                  </a:lnTo>
                  <a:lnTo>
                    <a:pt x="5" y="25"/>
                  </a:lnTo>
                  <a:lnTo>
                    <a:pt x="4" y="17"/>
                  </a:lnTo>
                  <a:lnTo>
                    <a:pt x="18" y="14"/>
                  </a:lnTo>
                  <a:lnTo>
                    <a:pt x="25" y="18"/>
                  </a:lnTo>
                  <a:lnTo>
                    <a:pt x="29" y="25"/>
                  </a:lnTo>
                  <a:lnTo>
                    <a:pt x="37" y="29"/>
                  </a:lnTo>
                  <a:lnTo>
                    <a:pt x="41" y="26"/>
                  </a:lnTo>
                  <a:lnTo>
                    <a:pt x="44" y="22"/>
                  </a:lnTo>
                  <a:lnTo>
                    <a:pt x="47" y="18"/>
                  </a:lnTo>
                  <a:lnTo>
                    <a:pt x="51" y="15"/>
                  </a:lnTo>
                  <a:lnTo>
                    <a:pt x="62" y="7"/>
                  </a:lnTo>
                  <a:lnTo>
                    <a:pt x="74" y="0"/>
                  </a:lnTo>
                  <a:lnTo>
                    <a:pt x="85" y="2"/>
                  </a:lnTo>
                  <a:lnTo>
                    <a:pt x="90" y="17"/>
                  </a:lnTo>
                  <a:lnTo>
                    <a:pt x="81" y="25"/>
                  </a:lnTo>
                  <a:lnTo>
                    <a:pt x="72" y="36"/>
                  </a:lnTo>
                  <a:lnTo>
                    <a:pt x="63" y="48"/>
                  </a:lnTo>
                  <a:lnTo>
                    <a:pt x="59" y="58"/>
                  </a:lnTo>
                  <a:lnTo>
                    <a:pt x="67" y="62"/>
                  </a:lnTo>
                  <a:lnTo>
                    <a:pt x="74" y="66"/>
                  </a:lnTo>
                  <a:lnTo>
                    <a:pt x="78" y="72"/>
                  </a:lnTo>
                  <a:lnTo>
                    <a:pt x="80" y="80"/>
                  </a:lnTo>
                  <a:lnTo>
                    <a:pt x="72" y="80"/>
                  </a:lnTo>
                  <a:lnTo>
                    <a:pt x="66" y="79"/>
                  </a:lnTo>
                  <a:lnTo>
                    <a:pt x="61" y="77"/>
                  </a:lnTo>
                  <a:lnTo>
                    <a:pt x="56" y="76"/>
                  </a:lnTo>
                  <a:lnTo>
                    <a:pt x="51" y="75"/>
                  </a:lnTo>
                  <a:lnTo>
                    <a:pt x="47" y="73"/>
                  </a:lnTo>
                  <a:lnTo>
                    <a:pt x="40" y="72"/>
                  </a:lnTo>
                  <a:lnTo>
                    <a:pt x="33" y="71"/>
                  </a:lnTo>
                  <a:lnTo>
                    <a:pt x="27" y="73"/>
                  </a:lnTo>
                  <a:lnTo>
                    <a:pt x="21" y="76"/>
                  </a:lnTo>
                  <a:lnTo>
                    <a:pt x="12" y="79"/>
                  </a:lnTo>
                  <a:lnTo>
                    <a:pt x="7" y="82"/>
                  </a:lnTo>
                  <a:lnTo>
                    <a:pt x="0" y="79"/>
                  </a:lnTo>
                  <a:lnTo>
                    <a:pt x="4" y="71"/>
                  </a:lnTo>
                  <a:lnTo>
                    <a:pt x="12" y="60"/>
                  </a:lnTo>
                  <a:lnTo>
                    <a:pt x="16" y="5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6" name=""/>
          <p:cNvSpPr txBox="1"/>
          <p:nvPr/>
        </p:nvSpPr>
        <p:spPr>
          <a:xfrm>
            <a:off x="1371600" y="1676520"/>
            <a:ext cx="647712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66ff"/>
                </a:solidFill>
                <a:effectLst>
                  <a:outerShdw dist="40186" dir="1096358" blurRad="0" rotWithShape="0">
                    <a:srgbClr val="c0c0c0"/>
                  </a:outerShdw>
                </a:effectLst>
                <a:latin typeface="Comic Sans MS"/>
              </a:rPr>
              <a:t>Median</a:t>
            </a:r>
            <a:endParaRPr b="0" lang="en-US" sz="2400" spc="1" strike="noStrike">
              <a:ln w="9360">
                <a:solidFill>
                  <a:srgbClr val="000000"/>
                </a:solidFill>
                <a:miter/>
              </a:ln>
              <a:solidFill>
                <a:srgbClr val="0066ff"/>
              </a:solidFill>
              <a:effectLst>
                <a:outerShdw dist="40186" dir="1096358"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66ff"/>
                </a:solidFill>
                <a:effectLst>
                  <a:outerShdw dist="40186" dir="1096358" blurRad="0" rotWithShape="0">
                    <a:srgbClr val="c0c0c0"/>
                  </a:outerShdw>
                </a:effectLst>
                <a:latin typeface="Comic Sans MS"/>
              </a:rPr>
              <a:t>and</a:t>
            </a:r>
            <a:endParaRPr b="0" lang="en-US" sz="2400" spc="1" strike="noStrike">
              <a:ln w="9360">
                <a:solidFill>
                  <a:srgbClr val="000000"/>
                </a:solidFill>
                <a:miter/>
              </a:ln>
              <a:solidFill>
                <a:srgbClr val="0066ff"/>
              </a:solidFill>
              <a:effectLst>
                <a:outerShdw dist="40186" dir="1096358"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66ff"/>
                </a:solidFill>
                <a:effectLst>
                  <a:outerShdw dist="40186" dir="1096358" blurRad="0" rotWithShape="0">
                    <a:srgbClr val="c0c0c0"/>
                  </a:outerShdw>
                </a:effectLst>
                <a:latin typeface="Comic Sans MS"/>
              </a:rPr>
              <a:t>Mode</a:t>
            </a:r>
            <a:endParaRPr b="0" lang="en-US" sz="2400" spc="1" strike="noStrike">
              <a:ln w="9360">
                <a:solidFill>
                  <a:srgbClr val="000000"/>
                </a:solidFill>
                <a:miter/>
              </a:ln>
              <a:solidFill>
                <a:srgbClr val="0066ff"/>
              </a:solidFill>
              <a:effectLst>
                <a:outerShdw dist="40186" dir="1096358" blurRad="0" rotWithShape="0">
                  <a:srgbClr val="c0c0c0"/>
                </a:outerShdw>
              </a:effectLst>
              <a:latin typeface="Comic Sans MS"/>
              <a:ea typeface="Comic Sans MS"/>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7" name=""/>
          <p:cNvSpPr/>
          <p:nvPr/>
        </p:nvSpPr>
        <p:spPr>
          <a:xfrm>
            <a:off x="662040" y="1447920"/>
            <a:ext cx="207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edian</a:t>
            </a:r>
            <a:endParaRPr b="0" lang="en-US" sz="4000" spc="-1" strike="noStrike">
              <a:solidFill>
                <a:srgbClr val="000000"/>
              </a:solidFill>
              <a:latin typeface="Times New Roman"/>
            </a:endParaRPr>
          </a:p>
        </p:txBody>
      </p:sp>
      <p:sp>
        <p:nvSpPr>
          <p:cNvPr id="508" name=""/>
          <p:cNvSpPr/>
          <p:nvPr/>
        </p:nvSpPr>
        <p:spPr>
          <a:xfrm>
            <a:off x="1432080" y="2286000"/>
            <a:ext cx="6264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edian is the middle value of a set arranged in numerical order.  (The average of the middle two if there are an even number of values)</a:t>
            </a:r>
            <a:endParaRPr b="0" lang="en-US" sz="4000" spc="-1" strike="noStrike">
              <a:solidFill>
                <a:srgbClr val="000000"/>
              </a:solidFill>
              <a:latin typeface="Times New Roman"/>
            </a:endParaRPr>
          </a:p>
        </p:txBody>
      </p:sp>
      <p:sp>
        <p:nvSpPr>
          <p:cNvPr id="509"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510" name=""/>
          <p:cNvGrpSpPr/>
          <p:nvPr/>
        </p:nvGrpSpPr>
        <p:grpSpPr>
          <a:xfrm>
            <a:off x="3200400" y="1676520"/>
            <a:ext cx="5562720" cy="4647240"/>
            <a:chOff x="3200400" y="1676520"/>
            <a:chExt cx="5562720" cy="4647240"/>
          </a:xfrm>
        </p:grpSpPr>
        <p:sp>
          <p:nvSpPr>
            <p:cNvPr id="511" name=""/>
            <p:cNvSpPr/>
            <p:nvPr/>
          </p:nvSpPr>
          <p:spPr>
            <a:xfrm>
              <a:off x="3200400" y="1676520"/>
              <a:ext cx="5562720" cy="4647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200400" y="1676520"/>
              <a:ext cx="5562720" cy="464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Comic Sans MS"/>
                  <a:ea typeface="Arial"/>
                </a:rPr>
                <a:t>Whenever you find yourself writing the words, "the average worker" this, or "the average household" that, you don't want to use the mean to describe those situations. You want a statistic that tells you something about the worker or the household in the middle. That's the </a:t>
              </a:r>
              <a:r>
                <a:rPr b="1" lang="en-US" sz="2800" spc="-1" strike="noStrike">
                  <a:solidFill>
                    <a:srgbClr val="333333"/>
                  </a:solidFill>
                  <a:latin typeface="Comic Sans MS"/>
                  <a:ea typeface="Arial"/>
                </a:rPr>
                <a:t>median</a:t>
              </a:r>
              <a:endParaRPr b="0" lang="en-US" sz="2800" spc="-1" strike="noStrike">
                <a:solidFill>
                  <a:srgbClr val="000000"/>
                </a:solidFill>
                <a:latin typeface="Times New Roman"/>
              </a:endParaRPr>
            </a:p>
          </p:txBody>
        </p:sp>
      </p:grpSp>
      <p:pic>
        <p:nvPicPr>
          <p:cNvPr id="513" name="" descr=""/>
          <p:cNvPicPr/>
          <p:nvPr/>
        </p:nvPicPr>
        <p:blipFill>
          <a:blip r:embed="rId1"/>
          <a:stretch/>
        </p:blipFill>
        <p:spPr>
          <a:xfrm>
            <a:off x="351000" y="1371600"/>
            <a:ext cx="2697120" cy="4724280"/>
          </a:xfrm>
          <a:prstGeom prst="rect">
            <a:avLst/>
          </a:prstGeom>
          <a:ln w="0">
            <a:noFill/>
          </a:ln>
        </p:spPr>
      </p:pic>
      <p:sp>
        <p:nvSpPr>
          <p:cNvPr id="514"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5"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
        <p:nvSpPr>
          <p:cNvPr id="516" name=""/>
          <p:cNvSpPr/>
          <p:nvPr/>
        </p:nvSpPr>
        <p:spPr>
          <a:xfrm>
            <a:off x="249120" y="1328760"/>
            <a:ext cx="8647200" cy="420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73120" y="1463760"/>
            <a:ext cx="498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Comic Sans MS"/>
                <a:ea typeface="Arial"/>
              </a:rPr>
              <a:t>For the World Wide Widget Co.,here are the worker's salari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8" name=""/>
          <p:cNvSpPr/>
          <p:nvPr/>
        </p:nvSpPr>
        <p:spPr>
          <a:xfrm>
            <a:off x="5562720" y="1693800"/>
            <a:ext cx="25146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Comic Sans MS"/>
                <a:ea typeface="Arial"/>
              </a:rPr>
              <a:t>$100,000</a:t>
            </a:r>
            <a:br>
              <a:rPr sz="3200"/>
            </a:br>
            <a:r>
              <a:rPr b="0" lang="en-US" sz="3200" spc="-1" strike="noStrike">
                <a:solidFill>
                  <a:srgbClr val="333333"/>
                </a:solidFill>
                <a:latin typeface="Comic Sans MS"/>
                <a:ea typeface="Arial"/>
              </a:rPr>
              <a:t>$55,000</a:t>
            </a:r>
            <a:br>
              <a:rPr sz="3200"/>
            </a:br>
            <a:r>
              <a:rPr b="0" lang="en-US" sz="3200" spc="-1" strike="noStrike">
                <a:solidFill>
                  <a:srgbClr val="333333"/>
                </a:solidFill>
                <a:latin typeface="Comic Sans MS"/>
                <a:ea typeface="Arial"/>
              </a:rPr>
              <a:t>$50,000</a:t>
            </a:r>
            <a:br>
              <a:rPr sz="3200"/>
            </a:br>
            <a:r>
              <a:rPr b="0" lang="en-US" sz="3200" spc="-1" strike="noStrike">
                <a:solidFill>
                  <a:srgbClr val="333333"/>
                </a:solidFill>
                <a:latin typeface="Comic Sans MS"/>
                <a:ea typeface="Arial"/>
              </a:rPr>
              <a:t>$16,500</a:t>
            </a:r>
            <a:br>
              <a:rPr sz="3200"/>
            </a:br>
            <a:r>
              <a:rPr b="0" lang="en-US" sz="3200" spc="-1" strike="noStrike">
                <a:solidFill>
                  <a:srgbClr val="333333"/>
                </a:solidFill>
                <a:latin typeface="Comic Sans MS"/>
                <a:ea typeface="Arial"/>
              </a:rPr>
              <a:t>$16,000</a:t>
            </a:r>
            <a:br>
              <a:rPr sz="3200"/>
            </a:br>
            <a:r>
              <a:rPr b="0" lang="en-US" sz="3200" spc="-1" strike="noStrike">
                <a:solidFill>
                  <a:srgbClr val="333333"/>
                </a:solidFill>
                <a:latin typeface="Comic Sans MS"/>
                <a:ea typeface="Arial"/>
              </a:rPr>
              <a:t>$15,500</a:t>
            </a:r>
            <a:br>
              <a:rPr sz="3200"/>
            </a:br>
            <a:r>
              <a:rPr b="0" lang="en-US" sz="3200" spc="-1" strike="noStrike">
                <a:solidFill>
                  <a:srgbClr val="333333"/>
                </a:solidFill>
                <a:latin typeface="Comic Sans MS"/>
                <a:ea typeface="Arial"/>
              </a:rPr>
              <a:t>$15,000</a:t>
            </a:r>
            <a:br>
              <a:rPr sz="3200"/>
            </a:br>
            <a:r>
              <a:rPr b="0" lang="en-US" sz="3200" spc="-1" strike="noStrike">
                <a:solidFill>
                  <a:srgbClr val="333333"/>
                </a:solidFill>
                <a:latin typeface="Comic Sans MS"/>
                <a:ea typeface="Arial"/>
              </a:rPr>
              <a:t>$9,000</a:t>
            </a:r>
            <a:br>
              <a:rPr sz="3200"/>
            </a:br>
            <a:r>
              <a:rPr b="0" lang="en-US" sz="3200" spc="-1" strike="noStrike">
                <a:solidFill>
                  <a:srgbClr val="333333"/>
                </a:solidFill>
                <a:latin typeface="Comic Sans MS"/>
                <a:ea typeface="Arial"/>
              </a:rPr>
              <a:t>$8,500</a:t>
            </a:r>
            <a:endParaRPr b="0" lang="en-US" sz="3200" spc="-1" strike="noStrike">
              <a:solidFill>
                <a:srgbClr val="000000"/>
              </a:solidFill>
              <a:latin typeface="Times New Roman"/>
            </a:endParaRPr>
          </a:p>
        </p:txBody>
      </p:sp>
      <mc:AlternateContent>
        <mc:Choice xmlns:a14="http://schemas.microsoft.com/office/drawing/2010/main" Requires="a14">
          <p:sp>
            <p:nvSpPr>
              <p:cNvPr id="519" name=""/>
              <p:cNvSpPr txBox="1"/>
              <p:nvPr/>
            </p:nvSpPr>
            <p:spPr>
              <a:xfrm>
                <a:off x="1098720" y="5486400"/>
                <a:ext cx="3244680" cy="701640"/>
              </a:xfrm>
              <a:prstGeom prst="rect">
                <a:avLst/>
              </a:prstGeom>
            </p:spPr>
            <p:txBody>
              <a:bodyPr/>
              <a:p>
                <a14:m>
                  <m:oMath xmlns:m="http://schemas.openxmlformats.org/officeDocument/2006/math">
                    <m:acc>
                      <m:accPr>
                        <m:chr m:val="¯"/>
                      </m:accPr>
                      <m:e>
                        <m:r>
                          <m:t xml:space="preserve">x</m:t>
                        </m:r>
                      </m:e>
                    </m:acc>
                    <m:r>
                      <m:t xml:space="preserve">=</m:t>
                    </m:r>
                    <m:r>
                      <m:t xml:space="preserve">$</m:t>
                    </m:r>
                    <m:r>
                      <m:rPr>
                        <m:lit/>
                        <m:nor/>
                      </m:rPr>
                      <m:t xml:space="preserve">40</m:t>
                    </m:r>
                    <m:r>
                      <m:t xml:space="preserve">,</m:t>
                    </m:r>
                    <m:r>
                      <m:rPr>
                        <m:lit/>
                        <m:nor/>
                      </m:rPr>
                      <m:t xml:space="preserve">222</m:t>
                    </m:r>
                  </m:oMath>
                </a14:m>
              </a:p>
            </p:txBody>
          </p:sp>
        </mc:Choice>
        <mc:Fallback/>
      </mc:AlternateContent>
      <p:grpSp>
        <p:nvGrpSpPr>
          <p:cNvPr id="520" name=""/>
          <p:cNvGrpSpPr/>
          <p:nvPr/>
        </p:nvGrpSpPr>
        <p:grpSpPr>
          <a:xfrm>
            <a:off x="1295280" y="3638520"/>
            <a:ext cx="6364440" cy="1238400"/>
            <a:chOff x="1295280" y="3638520"/>
            <a:chExt cx="6364440" cy="1238400"/>
          </a:xfrm>
        </p:grpSpPr>
        <p:sp>
          <p:nvSpPr>
            <p:cNvPr id="521" name=""/>
            <p:cNvSpPr/>
            <p:nvPr/>
          </p:nvSpPr>
          <p:spPr>
            <a:xfrm>
              <a:off x="1295280" y="4111560"/>
              <a:ext cx="3124440" cy="765360"/>
            </a:xfrm>
            <a:prstGeom prst="wedgeRoundRectCallout">
              <a:avLst>
                <a:gd name="adj1" fmla="val 98324"/>
                <a:gd name="adj2" fmla="val -70953"/>
                <a:gd name="adj3" fmla="val 16667"/>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dian</a:t>
              </a:r>
              <a:endParaRPr b="0" lang="en-US" sz="4400" spc="-1" strike="noStrike">
                <a:solidFill>
                  <a:srgbClr val="000000"/>
                </a:solidFill>
                <a:latin typeface="Times New Roman"/>
              </a:endParaRPr>
            </a:p>
          </p:txBody>
        </p:sp>
        <p:sp>
          <p:nvSpPr>
            <p:cNvPr id="522" name=""/>
            <p:cNvSpPr/>
            <p:nvPr/>
          </p:nvSpPr>
          <p:spPr>
            <a:xfrm>
              <a:off x="5970240" y="3638520"/>
              <a:ext cx="1689480" cy="581400"/>
            </a:xfrm>
            <a:prstGeom prst="rect">
              <a:avLst/>
            </a:prstGeom>
            <a:noFill/>
            <a:ln w="9360">
              <a:solidFill>
                <a:srgbClr val="00cc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ea typeface="Arial"/>
                </a:rPr>
                <a:t>$16,000</a:t>
              </a:r>
              <a:endParaRPr b="0" lang="en-US" sz="3200" spc="-1" strike="noStrike">
                <a:solidFill>
                  <a:srgbClr val="000000"/>
                </a:solidFill>
                <a:latin typeface="Times New Roman"/>
              </a:endParaRPr>
            </a:p>
          </p:txBody>
        </p:sp>
      </p:grpSp>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519"/>
                                        </p:tgtEl>
                                        <p:attrNameLst>
                                          <p:attrName>style.visibility</p:attrName>
                                        </p:attrNameLst>
                                      </p:cBhvr>
                                      <p:to>
                                        <p:strVal val="visible"/>
                                      </p:to>
                                    </p:set>
                                    <p:animEffect filter="dissolve" transition="in">
                                      <p:cBhvr additive="repl">
                                        <p:cTn id="328" dur="500"/>
                                        <p:tgtEl>
                                          <p:spTgt spid="51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520"/>
                                        </p:tgtEl>
                                        <p:attrNameLst>
                                          <p:attrName>style.visibility</p:attrName>
                                        </p:attrNameLst>
                                      </p:cBhvr>
                                      <p:to>
                                        <p:strVal val="visible"/>
                                      </p:to>
                                    </p:set>
                                    <p:animEffect filter="dissolve" transition="in">
                                      <p:cBhvr additive="repl">
                                        <p:cTn id="333"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3"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
        <p:nvSpPr>
          <p:cNvPr id="524" name=""/>
          <p:cNvSpPr/>
          <p:nvPr/>
        </p:nvSpPr>
        <p:spPr>
          <a:xfrm>
            <a:off x="3809880" y="1371600"/>
            <a:ext cx="1600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a:rPr>
              <a:t>Rule</a:t>
            </a:r>
            <a:endParaRPr b="0" lang="en-US" sz="4800" spc="-1" strike="noStrike">
              <a:solidFill>
                <a:srgbClr val="000000"/>
              </a:solidFill>
              <a:latin typeface="Times New Roman"/>
            </a:endParaRPr>
          </a:p>
        </p:txBody>
      </p:sp>
      <p:sp>
        <p:nvSpPr>
          <p:cNvPr id="525" name=""/>
          <p:cNvSpPr/>
          <p:nvPr/>
        </p:nvSpPr>
        <p:spPr>
          <a:xfrm>
            <a:off x="685800" y="220968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find the median in a set of numbers:</a:t>
            </a:r>
            <a:endParaRPr b="0" lang="en-US" sz="3200" spc="-1" strike="noStrike">
              <a:solidFill>
                <a:srgbClr val="000000"/>
              </a:solidFill>
              <a:latin typeface="Times New Roman"/>
            </a:endParaRPr>
          </a:p>
        </p:txBody>
      </p:sp>
      <p:sp>
        <p:nvSpPr>
          <p:cNvPr id="526" name=""/>
          <p:cNvSpPr/>
          <p:nvPr/>
        </p:nvSpPr>
        <p:spPr>
          <a:xfrm>
            <a:off x="914400" y="2879640"/>
            <a:ext cx="7315200" cy="352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87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rrange the numbers from smallest to largest</a:t>
            </a:r>
            <a:endParaRPr b="0" lang="en-US" sz="3000" spc="-1" strike="noStrike">
              <a:solidFill>
                <a:srgbClr val="000000"/>
              </a:solidFill>
              <a:latin typeface="Times New Roman"/>
            </a:endParaRPr>
          </a:p>
          <a:p>
            <a:pPr marL="457200" indent="-457200">
              <a:lnSpc>
                <a:spcPct val="100000"/>
              </a:lnSpc>
              <a:spcBef>
                <a:spcPts val="187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Locate the </a:t>
            </a:r>
            <a:r>
              <a:rPr b="0" lang="en-US" sz="3000" spc="-1" strike="noStrike" u="sng">
                <a:solidFill>
                  <a:srgbClr val="008000"/>
                </a:solidFill>
                <a:uFillTx/>
                <a:latin typeface="Comic Sans MS"/>
              </a:rPr>
              <a:t>middle number</a:t>
            </a:r>
            <a:r>
              <a:rPr b="0" lang="en-US" sz="3000" spc="-1" strike="noStrike">
                <a:solidFill>
                  <a:srgbClr val="000000"/>
                </a:solidFill>
                <a:latin typeface="Comic Sans MS"/>
              </a:rPr>
              <a:t> in the arranged list.  If there is an even quantity of numbers, the median will be the mean – or average – of the two middle scores.</a:t>
            </a:r>
            <a:endParaRPr b="0" lang="en-US" sz="3000" spc="-1" strike="noStrike">
              <a:solidFill>
                <a:srgbClr val="000000"/>
              </a:solidFill>
              <a:latin typeface="Times New Roman"/>
            </a:endParaRPr>
          </a:p>
        </p:txBody>
      </p:sp>
    </p:spTree>
  </p:cSld>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3" presetSubtype="16">
                                  <p:stCondLst>
                                    <p:cond delay="0"/>
                                  </p:stCondLst>
                                  <p:childTnLst>
                                    <p:set>
                                      <p:cBhvr>
                                        <p:cTn id="339" dur="1" fill="hold">
                                          <p:stCondLst>
                                            <p:cond delay="0"/>
                                          </p:stCondLst>
                                        </p:cTn>
                                        <p:tgtEl>
                                          <p:spTgt spid="526">
                                            <p:txEl>
                                              <p:pRg st="0" end="0"/>
                                            </p:txEl>
                                          </p:spTgt>
                                        </p:tgtEl>
                                        <p:attrNameLst>
                                          <p:attrName>style.visibility</p:attrName>
                                        </p:attrNameLst>
                                      </p:cBhvr>
                                      <p:to>
                                        <p:strVal val="visible"/>
                                      </p:to>
                                    </p:set>
                                    <p:anim calcmode="lin" valueType="num">
                                      <p:cBhvr additive="repl">
                                        <p:cTn id="340" dur="500" fill="hold"/>
                                        <p:tgtEl>
                                          <p:spTgt spid="526">
                                            <p:txEl>
                                              <p:pRg st="0" end="0"/>
                                            </p:txEl>
                                          </p:spTgt>
                                        </p:tgtEl>
                                        <p:attrNameLst>
                                          <p:attrName>ppt_w</p:attrName>
                                        </p:attrNameLst>
                                      </p:cBhvr>
                                      <p:tavLst>
                                        <p:tav tm="0">
                                          <p:val>
                                            <p:fltVal val="0"/>
                                          </p:val>
                                        </p:tav>
                                        <p:tav tm="100000">
                                          <p:val>
                                            <p:strVal val="#ppt_w"/>
                                          </p:val>
                                        </p:tav>
                                      </p:tavLst>
                                    </p:anim>
                                    <p:anim calcmode="lin" valueType="num">
                                      <p:cBhvr additive="repl">
                                        <p:cTn id="341" dur="500" fill="hold"/>
                                        <p:tgtEl>
                                          <p:spTgt spid="5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3" presetSubtype="16">
                                  <p:stCondLst>
                                    <p:cond delay="0"/>
                                  </p:stCondLst>
                                  <p:childTnLst>
                                    <p:set>
                                      <p:cBhvr>
                                        <p:cTn id="345" dur="1" fill="hold">
                                          <p:stCondLst>
                                            <p:cond delay="0"/>
                                          </p:stCondLst>
                                        </p:cTn>
                                        <p:tgtEl>
                                          <p:spTgt spid="526">
                                            <p:txEl>
                                              <p:pRg st="1" end="1"/>
                                            </p:txEl>
                                          </p:spTgt>
                                        </p:tgtEl>
                                        <p:attrNameLst>
                                          <p:attrName>style.visibility</p:attrName>
                                        </p:attrNameLst>
                                      </p:cBhvr>
                                      <p:to>
                                        <p:strVal val="visible"/>
                                      </p:to>
                                    </p:set>
                                    <p:anim calcmode="lin" valueType="num">
                                      <p:cBhvr additive="repl">
                                        <p:cTn id="346" dur="500" fill="hold"/>
                                        <p:tgtEl>
                                          <p:spTgt spid="526">
                                            <p:txEl>
                                              <p:pRg st="1" end="1"/>
                                            </p:txEl>
                                          </p:spTgt>
                                        </p:tgtEl>
                                        <p:attrNameLst>
                                          <p:attrName>ppt_w</p:attrName>
                                        </p:attrNameLst>
                                      </p:cBhvr>
                                      <p:tavLst>
                                        <p:tav tm="0">
                                          <p:val>
                                            <p:fltVal val="0"/>
                                          </p:val>
                                        </p:tav>
                                        <p:tav tm="100000">
                                          <p:val>
                                            <p:strVal val="#ppt_w"/>
                                          </p:val>
                                        </p:tav>
                                      </p:tavLst>
                                    </p:anim>
                                    <p:anim calcmode="lin" valueType="num">
                                      <p:cBhvr additive="repl">
                                        <p:cTn id="347" dur="500" fill="hold"/>
                                        <p:tgtEl>
                                          <p:spTgt spid="52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7"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
        <p:nvSpPr>
          <p:cNvPr id="528" name=""/>
          <p:cNvSpPr/>
          <p:nvPr/>
        </p:nvSpPr>
        <p:spPr>
          <a:xfrm>
            <a:off x="762120" y="20034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0,000</a:t>
            </a:r>
            <a:endParaRPr b="0" lang="en-US" sz="3600" spc="-1" strike="noStrike">
              <a:solidFill>
                <a:srgbClr val="000000"/>
              </a:solidFill>
              <a:latin typeface="Times New Roman"/>
            </a:endParaRPr>
          </a:p>
        </p:txBody>
      </p:sp>
      <p:grpSp>
        <p:nvGrpSpPr>
          <p:cNvPr id="529" name=""/>
          <p:cNvGrpSpPr/>
          <p:nvPr/>
        </p:nvGrpSpPr>
        <p:grpSpPr>
          <a:xfrm>
            <a:off x="1447920" y="4983120"/>
            <a:ext cx="6246720" cy="1114920"/>
            <a:chOff x="1447920" y="4983120"/>
            <a:chExt cx="6246720" cy="1114920"/>
          </a:xfrm>
        </p:grpSpPr>
        <p:grpSp>
          <p:nvGrpSpPr>
            <p:cNvPr id="530" name=""/>
            <p:cNvGrpSpPr/>
            <p:nvPr/>
          </p:nvGrpSpPr>
          <p:grpSpPr>
            <a:xfrm>
              <a:off x="2324160" y="4983120"/>
              <a:ext cx="2475000" cy="1114920"/>
              <a:chOff x="2324160" y="4983120"/>
              <a:chExt cx="2475000" cy="1114920"/>
            </a:xfrm>
          </p:grpSpPr>
          <p:sp>
            <p:nvSpPr>
              <p:cNvPr id="531" name=""/>
              <p:cNvSpPr/>
              <p:nvPr/>
            </p:nvSpPr>
            <p:spPr>
              <a:xfrm>
                <a:off x="2324160" y="4983120"/>
                <a:ext cx="247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1,302,000</a:t>
                </a:r>
                <a:endParaRPr b="0" lang="en-US" sz="3200" spc="-1" strike="noStrike">
                  <a:solidFill>
                    <a:srgbClr val="000000"/>
                  </a:solidFill>
                  <a:latin typeface="Times New Roman"/>
                </a:endParaRPr>
              </a:p>
            </p:txBody>
          </p:sp>
          <p:sp>
            <p:nvSpPr>
              <p:cNvPr id="532" name=""/>
              <p:cNvSpPr/>
              <p:nvPr/>
            </p:nvSpPr>
            <p:spPr>
              <a:xfrm>
                <a:off x="2324160" y="5516640"/>
                <a:ext cx="247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294000" y="5516640"/>
                <a:ext cx="53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5</a:t>
                </a:r>
                <a:endParaRPr b="0" lang="en-US" sz="3200" spc="-1" strike="noStrike">
                  <a:solidFill>
                    <a:srgbClr val="000000"/>
                  </a:solidFill>
                  <a:latin typeface="Times New Roman"/>
                </a:endParaRPr>
              </a:p>
            </p:txBody>
          </p:sp>
        </p:grpSp>
        <p:sp>
          <p:nvSpPr>
            <p:cNvPr id="534" name=""/>
            <p:cNvSpPr/>
            <p:nvPr/>
          </p:nvSpPr>
          <p:spPr>
            <a:xfrm>
              <a:off x="4838760" y="5219640"/>
              <a:ext cx="285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260,400</a:t>
              </a:r>
              <a:endParaRPr b="0" lang="en-US" sz="3600" spc="-1" strike="noStrike">
                <a:solidFill>
                  <a:srgbClr val="000000"/>
                </a:solidFill>
                <a:latin typeface="Times New Roman"/>
              </a:endParaRPr>
            </a:p>
          </p:txBody>
        </p:sp>
        <p:grpSp>
          <p:nvGrpSpPr>
            <p:cNvPr id="535" name=""/>
            <p:cNvGrpSpPr/>
            <p:nvPr/>
          </p:nvGrpSpPr>
          <p:grpSpPr>
            <a:xfrm>
              <a:off x="1447920" y="5218200"/>
              <a:ext cx="952560" cy="642600"/>
              <a:chOff x="1447920" y="5218200"/>
              <a:chExt cx="952560" cy="642600"/>
            </a:xfrm>
          </p:grpSpPr>
          <p:sp>
            <p:nvSpPr>
              <p:cNvPr id="536" name=""/>
              <p:cNvSpPr/>
              <p:nvPr/>
            </p:nvSpPr>
            <p:spPr>
              <a:xfrm>
                <a:off x="1447920" y="5218200"/>
                <a:ext cx="952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x =</a:t>
                </a:r>
                <a:endParaRPr b="0" lang="en-US" sz="3600" spc="-1" strike="noStrike">
                  <a:solidFill>
                    <a:srgbClr val="000000"/>
                  </a:solidFill>
                  <a:latin typeface="Times New Roman"/>
                </a:endParaRPr>
              </a:p>
            </p:txBody>
          </p:sp>
          <p:sp>
            <p:nvSpPr>
              <p:cNvPr id="537" name=""/>
              <p:cNvSpPr/>
              <p:nvPr/>
            </p:nvSpPr>
            <p:spPr>
              <a:xfrm>
                <a:off x="1638360" y="54100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
          <p:cNvSpPr/>
          <p:nvPr/>
        </p:nvSpPr>
        <p:spPr>
          <a:xfrm>
            <a:off x="762120" y="28638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2,000</a:t>
            </a:r>
            <a:endParaRPr b="0" lang="en-US" sz="3600" spc="-1" strike="noStrike">
              <a:solidFill>
                <a:srgbClr val="000000"/>
              </a:solidFill>
              <a:latin typeface="Times New Roman"/>
            </a:endParaRPr>
          </a:p>
        </p:txBody>
      </p:sp>
      <p:sp>
        <p:nvSpPr>
          <p:cNvPr id="539" name=""/>
          <p:cNvSpPr/>
          <p:nvPr/>
        </p:nvSpPr>
        <p:spPr>
          <a:xfrm>
            <a:off x="3276720" y="20034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8,000</a:t>
            </a:r>
            <a:endParaRPr b="0" lang="en-US" sz="3600" spc="-1" strike="noStrike">
              <a:solidFill>
                <a:srgbClr val="000000"/>
              </a:solidFill>
              <a:latin typeface="Times New Roman"/>
            </a:endParaRPr>
          </a:p>
        </p:txBody>
      </p:sp>
      <p:sp>
        <p:nvSpPr>
          <p:cNvPr id="540" name=""/>
          <p:cNvSpPr/>
          <p:nvPr/>
        </p:nvSpPr>
        <p:spPr>
          <a:xfrm>
            <a:off x="3276720" y="28638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2,000</a:t>
            </a:r>
            <a:endParaRPr b="0" lang="en-US" sz="3600" spc="-1" strike="noStrike">
              <a:solidFill>
                <a:srgbClr val="000000"/>
              </a:solidFill>
              <a:latin typeface="Times New Roman"/>
            </a:endParaRPr>
          </a:p>
        </p:txBody>
      </p:sp>
      <p:sp>
        <p:nvSpPr>
          <p:cNvPr id="541" name=""/>
          <p:cNvSpPr/>
          <p:nvPr/>
        </p:nvSpPr>
        <p:spPr>
          <a:xfrm>
            <a:off x="1887120" y="3778200"/>
            <a:ext cx="252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000,000</a:t>
            </a:r>
            <a:endParaRPr b="0" lang="en-US" sz="3600" spc="-1" strike="noStrike">
              <a:solidFill>
                <a:srgbClr val="000000"/>
              </a:solidFill>
              <a:latin typeface="Times New Roman"/>
            </a:endParaRPr>
          </a:p>
        </p:txBody>
      </p:sp>
      <p:pic>
        <p:nvPicPr>
          <p:cNvPr id="542" name="" descr=""/>
          <p:cNvPicPr/>
          <p:nvPr/>
        </p:nvPicPr>
        <p:blipFill>
          <a:blip r:embed="rId1"/>
          <a:stretch/>
        </p:blipFill>
        <p:spPr>
          <a:xfrm>
            <a:off x="5562720" y="2482920"/>
            <a:ext cx="2971800" cy="1935000"/>
          </a:xfrm>
          <a:prstGeom prst="rect">
            <a:avLst/>
          </a:prstGeom>
          <a:ln w="0">
            <a:noFill/>
          </a:ln>
        </p:spPr>
      </p:pic>
    </p:spTree>
  </p:cSld>
  <p:transition>
    <p:pull dir="l"/>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529"/>
                                        </p:tgtEl>
                                        <p:attrNameLst>
                                          <p:attrName>style.visibility</p:attrName>
                                        </p:attrNameLst>
                                      </p:cBhvr>
                                      <p:to>
                                        <p:strVal val="visible"/>
                                      </p:to>
                                    </p:set>
                                    <p:animEffect filter="wipe(left)" transition="in">
                                      <p:cBhvr additive="repl">
                                        <p:cTn id="354"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05" name=""/>
          <p:cNvGrpSpPr/>
          <p:nvPr/>
        </p:nvGrpSpPr>
        <p:grpSpPr>
          <a:xfrm>
            <a:off x="533520" y="2895480"/>
            <a:ext cx="2361960" cy="2971800"/>
            <a:chOff x="533520" y="2895480"/>
            <a:chExt cx="2361960" cy="2971800"/>
          </a:xfrm>
        </p:grpSpPr>
        <p:sp>
          <p:nvSpPr>
            <p:cNvPr id="106" name=""/>
            <p:cNvSpPr/>
            <p:nvPr/>
          </p:nvSpPr>
          <p:spPr>
            <a:xfrm>
              <a:off x="533520" y="2895480"/>
              <a:ext cx="236196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2160" y="2907720"/>
              <a:ext cx="234432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201320" y="2932560"/>
              <a:ext cx="12384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4160" y="2945160"/>
              <a:ext cx="7056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227960" y="2970000"/>
              <a:ext cx="529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413720" y="2988720"/>
              <a:ext cx="7056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493280" y="3013560"/>
              <a:ext cx="6192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59520" y="3025800"/>
              <a:ext cx="795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630440" y="3032280"/>
              <a:ext cx="7488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719000" y="3069360"/>
              <a:ext cx="572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30400" y="3088080"/>
              <a:ext cx="91116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073160" y="3094200"/>
              <a:ext cx="11916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095120" y="3094200"/>
              <a:ext cx="12816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04120" y="3094200"/>
              <a:ext cx="15480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94240" y="3106800"/>
              <a:ext cx="6192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869480" y="3125520"/>
              <a:ext cx="4392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922400" y="3137760"/>
              <a:ext cx="4392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984320" y="3156480"/>
              <a:ext cx="3096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28600" y="3169080"/>
              <a:ext cx="3960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96080" y="3312000"/>
              <a:ext cx="23868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43760" y="3367800"/>
              <a:ext cx="1987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409400" y="3399120"/>
              <a:ext cx="18576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79960" y="3411360"/>
              <a:ext cx="9288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61400" y="3442320"/>
              <a:ext cx="16344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524240" y="3454920"/>
              <a:ext cx="2196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1" name=""/>
            <p:cNvSpPr/>
            <p:nvPr/>
          </p:nvSpPr>
          <p:spPr>
            <a:xfrm>
              <a:off x="1692360" y="3479760"/>
              <a:ext cx="7056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23320" y="3510720"/>
              <a:ext cx="2196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3" name=""/>
            <p:cNvSpPr/>
            <p:nvPr/>
          </p:nvSpPr>
          <p:spPr>
            <a:xfrm>
              <a:off x="1267560" y="3784320"/>
              <a:ext cx="6192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4" name=""/>
            <p:cNvSpPr/>
            <p:nvPr/>
          </p:nvSpPr>
          <p:spPr>
            <a:xfrm>
              <a:off x="1254240" y="3827880"/>
              <a:ext cx="55296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329560" y="3927600"/>
              <a:ext cx="3668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77480" y="3964680"/>
              <a:ext cx="129168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47440" y="4045680"/>
              <a:ext cx="18108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33200" y="4089240"/>
              <a:ext cx="262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068480" y="4101480"/>
              <a:ext cx="3096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81800" y="4101480"/>
              <a:ext cx="132696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78400" y="4194720"/>
              <a:ext cx="34488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69400" y="4250880"/>
              <a:ext cx="1105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30480" y="4257000"/>
              <a:ext cx="7956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196720" y="4269600"/>
              <a:ext cx="12816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19600" y="4287960"/>
              <a:ext cx="10584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83680" y="4319280"/>
              <a:ext cx="88452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72200" y="4356360"/>
              <a:ext cx="795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29800" y="4375080"/>
              <a:ext cx="3960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971000" y="4381560"/>
              <a:ext cx="3528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0" name=""/>
            <p:cNvSpPr/>
            <p:nvPr/>
          </p:nvSpPr>
          <p:spPr>
            <a:xfrm>
              <a:off x="564120" y="4393800"/>
              <a:ext cx="24300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059840" y="4399920"/>
              <a:ext cx="8935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74080" y="4437360"/>
              <a:ext cx="2196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90760" y="4654800"/>
              <a:ext cx="15480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32240" y="4654800"/>
              <a:ext cx="3960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55" name=""/>
            <p:cNvSpPr/>
            <p:nvPr/>
          </p:nvSpPr>
          <p:spPr>
            <a:xfrm>
              <a:off x="1015560" y="4661280"/>
              <a:ext cx="4860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988920" y="4679640"/>
              <a:ext cx="4860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53640" y="4698360"/>
              <a:ext cx="4860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19000" y="4860000"/>
              <a:ext cx="28296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798560" y="4884840"/>
              <a:ext cx="4392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0" name=""/>
            <p:cNvSpPr/>
            <p:nvPr/>
          </p:nvSpPr>
          <p:spPr>
            <a:xfrm>
              <a:off x="1811880" y="4922280"/>
              <a:ext cx="306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1" name=""/>
            <p:cNvSpPr/>
            <p:nvPr/>
          </p:nvSpPr>
          <p:spPr>
            <a:xfrm>
              <a:off x="1842840" y="4965840"/>
              <a:ext cx="1296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2" name=""/>
            <p:cNvSpPr/>
            <p:nvPr/>
          </p:nvSpPr>
          <p:spPr>
            <a:xfrm>
              <a:off x="1099440" y="5140080"/>
              <a:ext cx="33156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2895480" y="2590920"/>
            <a:ext cx="5562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n a set of data, calculate the following statistics:</a:t>
            </a:r>
            <a:endParaRPr b="0" lang="en-US" sz="3200" spc="-1" strike="noStrike">
              <a:solidFill>
                <a:srgbClr val="000000"/>
              </a:solidFill>
              <a:latin typeface="Times New Roman"/>
            </a:endParaRPr>
          </a:p>
        </p:txBody>
      </p:sp>
      <p:sp>
        <p:nvSpPr>
          <p:cNvPr id="164" name=""/>
          <p:cNvSpPr/>
          <p:nvPr/>
        </p:nvSpPr>
        <p:spPr>
          <a:xfrm>
            <a:off x="3809880" y="7002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view</a:t>
            </a:r>
            <a:endParaRPr b="0" lang="en-US" sz="2800" spc="-1" strike="noStrike">
              <a:solidFill>
                <a:srgbClr val="000000"/>
              </a:solidFill>
              <a:latin typeface="Times New Roman"/>
            </a:endParaRPr>
          </a:p>
        </p:txBody>
      </p:sp>
      <p:sp>
        <p:nvSpPr>
          <p:cNvPr id="165" name=""/>
          <p:cNvSpPr/>
          <p:nvPr/>
        </p:nvSpPr>
        <p:spPr>
          <a:xfrm>
            <a:off x="2895480" y="4327560"/>
            <a:ext cx="5562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edia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ode</a:t>
            </a:r>
            <a:endParaRPr b="0" lang="en-US" sz="3200" spc="-1" strike="noStrike">
              <a:solidFill>
                <a:srgbClr val="000000"/>
              </a:solidFill>
              <a:latin typeface="Times New Roman"/>
            </a:endParaRPr>
          </a:p>
        </p:txBody>
      </p:sp>
      <p:sp>
        <p:nvSpPr>
          <p:cNvPr id="166" name=""/>
          <p:cNvSpPr/>
          <p:nvPr/>
        </p:nvSpPr>
        <p:spPr>
          <a:xfrm>
            <a:off x="457200" y="14479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ff"/>
                </a:solidFill>
                <a:latin typeface="Comic Sans MS"/>
              </a:rPr>
              <a:t>When you finish this unit, you will be able to:</a:t>
            </a:r>
            <a:endParaRPr b="0" lang="en-US" sz="3600" spc="-1" strike="noStrike">
              <a:solidFill>
                <a:srgbClr val="000000"/>
              </a:solidFill>
              <a:latin typeface="Times New Roman"/>
            </a:endParaRPr>
          </a:p>
        </p:txBody>
      </p:sp>
    </p:spTree>
  </p:cSld>
  <p:transition>
    <p:dissolv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63"/>
                                        </p:tgtEl>
                                        <p:attrNameLst>
                                          <p:attrName>style.visibility</p:attrName>
                                        </p:attrNameLst>
                                      </p:cBhvr>
                                      <p:to>
                                        <p:strVal val="visible"/>
                                      </p:to>
                                    </p:set>
                                    <p:anim calcmode="lin" valueType="num">
                                      <p:cBhvr additive="repl">
                                        <p:cTn id="27" dur="500" fill="hold"/>
                                        <p:tgtEl>
                                          <p:spTgt spid="163"/>
                                        </p:tgtEl>
                                        <p:attrNameLst>
                                          <p:attrName>ppt_w</p:attrName>
                                        </p:attrNameLst>
                                      </p:cBhvr>
                                      <p:tavLst>
                                        <p:tav tm="0">
                                          <p:val>
                                            <p:fltVal val="0"/>
                                          </p:val>
                                        </p:tav>
                                        <p:tav tm="100000">
                                          <p:val>
                                            <p:strVal val="#ppt_w"/>
                                          </p:val>
                                        </p:tav>
                                      </p:tavLst>
                                    </p:anim>
                                    <p:anim calcmode="lin" valueType="num">
                                      <p:cBhvr additive="repl">
                                        <p:cTn id="2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165">
                                            <p:txEl>
                                              <p:pRg st="0" end="0"/>
                                            </p:txEl>
                                          </p:spTgt>
                                        </p:tgtEl>
                                        <p:attrNameLst>
                                          <p:attrName>style.visibility</p:attrName>
                                        </p:attrNameLst>
                                      </p:cBhvr>
                                      <p:to>
                                        <p:strVal val="visible"/>
                                      </p:to>
                                    </p:set>
                                    <p:anim calcmode="lin" valueType="num">
                                      <p:cBhvr additive="repl">
                                        <p:cTn id="33"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1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65">
                                            <p:txEl>
                                              <p:pRg st="1" end="1"/>
                                            </p:txEl>
                                          </p:spTgt>
                                        </p:tgtEl>
                                        <p:attrNameLst>
                                          <p:attrName>style.visibility</p:attrName>
                                        </p:attrNameLst>
                                      </p:cBhvr>
                                      <p:to>
                                        <p:strVal val="visible"/>
                                      </p:to>
                                    </p:set>
                                    <p:anim calcmode="lin" valueType="num">
                                      <p:cBhvr additive="repl">
                                        <p:cTn id="39" dur="500" fill="hold"/>
                                        <p:tgtEl>
                                          <p:spTgt spid="165">
                                            <p:txEl>
                                              <p:pRg st="1" end="1"/>
                                            </p:txEl>
                                          </p:spTgt>
                                        </p:tgtEl>
                                        <p:attrNameLst>
                                          <p:attrName>ppt_w</p:attrName>
                                        </p:attrNameLst>
                                      </p:cBhvr>
                                      <p:tavLst>
                                        <p:tav tm="0">
                                          <p:val>
                                            <p:fltVal val="0"/>
                                          </p:val>
                                        </p:tav>
                                        <p:tav tm="100000">
                                          <p:val>
                                            <p:strVal val="#ppt_w"/>
                                          </p:val>
                                        </p:tav>
                                      </p:tavLst>
                                    </p:anim>
                                    <p:anim calcmode="lin" valueType="num">
                                      <p:cBhvr additive="repl">
                                        <p:cTn id="40" dur="500" fill="hold"/>
                                        <p:tgtEl>
                                          <p:spTgt spid="16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3"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
        <p:nvSpPr>
          <p:cNvPr id="544" name=""/>
          <p:cNvSpPr/>
          <p:nvPr/>
        </p:nvSpPr>
        <p:spPr>
          <a:xfrm>
            <a:off x="2743200" y="434340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000,000</a:t>
            </a:r>
            <a:endParaRPr b="0" lang="en-US" sz="3600" spc="-1" strike="noStrike">
              <a:solidFill>
                <a:srgbClr val="000000"/>
              </a:solidFill>
              <a:latin typeface="Times New Roman"/>
            </a:endParaRPr>
          </a:p>
        </p:txBody>
      </p:sp>
      <p:sp>
        <p:nvSpPr>
          <p:cNvPr id="545" name=""/>
          <p:cNvSpPr/>
          <p:nvPr/>
        </p:nvSpPr>
        <p:spPr>
          <a:xfrm>
            <a:off x="3276720" y="144792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0,000</a:t>
            </a:r>
            <a:endParaRPr b="0" lang="en-US" sz="3600" spc="-1" strike="noStrike">
              <a:solidFill>
                <a:srgbClr val="000000"/>
              </a:solidFill>
              <a:latin typeface="Times New Roman"/>
            </a:endParaRPr>
          </a:p>
        </p:txBody>
      </p:sp>
      <p:sp>
        <p:nvSpPr>
          <p:cNvPr id="546" name=""/>
          <p:cNvSpPr/>
          <p:nvPr/>
        </p:nvSpPr>
        <p:spPr>
          <a:xfrm>
            <a:off x="3276720" y="210168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2,000</a:t>
            </a:r>
            <a:endParaRPr b="0" lang="en-US" sz="3600" spc="-1" strike="noStrike">
              <a:solidFill>
                <a:srgbClr val="000000"/>
              </a:solidFill>
              <a:latin typeface="Times New Roman"/>
            </a:endParaRPr>
          </a:p>
        </p:txBody>
      </p:sp>
      <p:sp>
        <p:nvSpPr>
          <p:cNvPr id="547" name=""/>
          <p:cNvSpPr/>
          <p:nvPr/>
        </p:nvSpPr>
        <p:spPr>
          <a:xfrm>
            <a:off x="3200400" y="278748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8,000</a:t>
            </a:r>
            <a:endParaRPr b="0" lang="en-US" sz="3600" spc="-1" strike="noStrike">
              <a:solidFill>
                <a:srgbClr val="000000"/>
              </a:solidFill>
              <a:latin typeface="Times New Roman"/>
            </a:endParaRPr>
          </a:p>
        </p:txBody>
      </p:sp>
      <p:sp>
        <p:nvSpPr>
          <p:cNvPr id="548" name=""/>
          <p:cNvSpPr/>
          <p:nvPr/>
        </p:nvSpPr>
        <p:spPr>
          <a:xfrm>
            <a:off x="3200400" y="35496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2,000</a:t>
            </a:r>
            <a:endParaRPr b="0" lang="en-US" sz="3600" spc="-1" strike="noStrike">
              <a:solidFill>
                <a:srgbClr val="000000"/>
              </a:solidFill>
              <a:latin typeface="Times New Roman"/>
            </a:endParaRPr>
          </a:p>
        </p:txBody>
      </p:sp>
      <p:pic>
        <p:nvPicPr>
          <p:cNvPr id="549" name="" descr=""/>
          <p:cNvPicPr/>
          <p:nvPr/>
        </p:nvPicPr>
        <p:blipFill>
          <a:blip r:embed="rId1"/>
          <a:stretch/>
        </p:blipFill>
        <p:spPr>
          <a:xfrm>
            <a:off x="5867280" y="1544760"/>
            <a:ext cx="2590920" cy="1687320"/>
          </a:xfrm>
          <a:prstGeom prst="rect">
            <a:avLst/>
          </a:prstGeom>
          <a:ln w="0">
            <a:noFill/>
          </a:ln>
        </p:spPr>
      </p:pic>
      <p:grpSp>
        <p:nvGrpSpPr>
          <p:cNvPr id="550" name=""/>
          <p:cNvGrpSpPr/>
          <p:nvPr/>
        </p:nvGrpSpPr>
        <p:grpSpPr>
          <a:xfrm>
            <a:off x="533520" y="1523880"/>
            <a:ext cx="4952880" cy="2080800"/>
            <a:chOff x="533520" y="1523880"/>
            <a:chExt cx="4952880" cy="2080800"/>
          </a:xfrm>
        </p:grpSpPr>
        <p:sp>
          <p:nvSpPr>
            <p:cNvPr id="551" name=""/>
            <p:cNvSpPr/>
            <p:nvPr/>
          </p:nvSpPr>
          <p:spPr>
            <a:xfrm>
              <a:off x="3276720" y="2615760"/>
              <a:ext cx="2209680" cy="9889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33520" y="1523880"/>
              <a:ext cx="2133720" cy="752040"/>
            </a:xfrm>
            <a:prstGeom prst="wedgeRectCallout">
              <a:avLst>
                <a:gd name="adj1" fmla="val 77453"/>
                <a:gd name="adj2" fmla="val 16431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dian</a:t>
              </a:r>
              <a:endParaRPr b="0" lang="en-US" sz="4400" spc="-1" strike="noStrike">
                <a:solidFill>
                  <a:srgbClr val="000000"/>
                </a:solidFill>
                <a:latin typeface="Times New Roman"/>
              </a:endParaRPr>
            </a:p>
          </p:txBody>
        </p:sp>
      </p:grpSp>
      <p:grpSp>
        <p:nvGrpSpPr>
          <p:cNvPr id="553" name=""/>
          <p:cNvGrpSpPr/>
          <p:nvPr/>
        </p:nvGrpSpPr>
        <p:grpSpPr>
          <a:xfrm>
            <a:off x="2666880" y="5376960"/>
            <a:ext cx="3236760" cy="644400"/>
            <a:chOff x="2666880" y="5376960"/>
            <a:chExt cx="3236760" cy="644400"/>
          </a:xfrm>
        </p:grpSpPr>
        <p:sp>
          <p:nvSpPr>
            <p:cNvPr id="554" name=""/>
            <p:cNvSpPr/>
            <p:nvPr/>
          </p:nvSpPr>
          <p:spPr>
            <a:xfrm>
              <a:off x="3047760" y="5378760"/>
              <a:ext cx="285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 $260,400</a:t>
              </a:r>
              <a:endParaRPr b="0" lang="en-US" sz="3600" spc="-1" strike="noStrike">
                <a:solidFill>
                  <a:srgbClr val="000000"/>
                </a:solidFill>
                <a:latin typeface="Times New Roman"/>
              </a:endParaRPr>
            </a:p>
          </p:txBody>
        </p:sp>
        <p:grpSp>
          <p:nvGrpSpPr>
            <p:cNvPr id="555" name=""/>
            <p:cNvGrpSpPr/>
            <p:nvPr/>
          </p:nvGrpSpPr>
          <p:grpSpPr>
            <a:xfrm>
              <a:off x="2666880" y="5376960"/>
              <a:ext cx="952560" cy="642600"/>
              <a:chOff x="2666880" y="5376960"/>
              <a:chExt cx="952560" cy="642600"/>
            </a:xfrm>
          </p:grpSpPr>
          <p:sp>
            <p:nvSpPr>
              <p:cNvPr id="556" name=""/>
              <p:cNvSpPr/>
              <p:nvPr/>
            </p:nvSpPr>
            <p:spPr>
              <a:xfrm>
                <a:off x="2666880" y="5376960"/>
                <a:ext cx="952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mic Sans MS"/>
                  </a:rPr>
                  <a:t>x =</a:t>
                </a:r>
                <a:endParaRPr b="0" lang="en-US" sz="3600" spc="-1" strike="noStrike">
                  <a:solidFill>
                    <a:srgbClr val="000000"/>
                  </a:solidFill>
                  <a:latin typeface="Times New Roman"/>
                </a:endParaRPr>
              </a:p>
            </p:txBody>
          </p:sp>
          <p:sp>
            <p:nvSpPr>
              <p:cNvPr id="557" name=""/>
              <p:cNvSpPr/>
              <p:nvPr/>
            </p:nvSpPr>
            <p:spPr>
              <a:xfrm>
                <a:off x="2857320" y="556884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550"/>
                                        </p:tgtEl>
                                        <p:attrNameLst>
                                          <p:attrName>style.visibility</p:attrName>
                                        </p:attrNameLst>
                                      </p:cBhvr>
                                      <p:to>
                                        <p:strVal val="visible"/>
                                      </p:to>
                                    </p:set>
                                    <p:animEffect filter="dissolve" transition="in">
                                      <p:cBhvr additive="repl">
                                        <p:cTn id="361"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58"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grpSp>
        <p:nvGrpSpPr>
          <p:cNvPr id="559" name=""/>
          <p:cNvGrpSpPr/>
          <p:nvPr/>
        </p:nvGrpSpPr>
        <p:grpSpPr>
          <a:xfrm>
            <a:off x="838080" y="4083120"/>
            <a:ext cx="7162920" cy="642600"/>
            <a:chOff x="838080" y="4083120"/>
            <a:chExt cx="7162920" cy="642600"/>
          </a:xfrm>
        </p:grpSpPr>
        <p:sp>
          <p:nvSpPr>
            <p:cNvPr id="560" name=""/>
            <p:cNvSpPr/>
            <p:nvPr/>
          </p:nvSpPr>
          <p:spPr>
            <a:xfrm>
              <a:off x="2133720" y="408312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0</a:t>
              </a:r>
              <a:endParaRPr b="0" lang="en-US" sz="3600" spc="-1" strike="noStrike">
                <a:solidFill>
                  <a:srgbClr val="000000"/>
                </a:solidFill>
                <a:latin typeface="Times New Roman"/>
              </a:endParaRPr>
            </a:p>
          </p:txBody>
        </p:sp>
        <p:sp>
          <p:nvSpPr>
            <p:cNvPr id="561" name=""/>
            <p:cNvSpPr/>
            <p:nvPr/>
          </p:nvSpPr>
          <p:spPr>
            <a:xfrm>
              <a:off x="3314880" y="4083120"/>
              <a:ext cx="102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2</a:t>
              </a:r>
              <a:endParaRPr b="0" lang="en-US" sz="3600" spc="-1" strike="noStrike">
                <a:solidFill>
                  <a:srgbClr val="000000"/>
                </a:solidFill>
                <a:latin typeface="Times New Roman"/>
              </a:endParaRPr>
            </a:p>
          </p:txBody>
        </p:sp>
        <p:sp>
          <p:nvSpPr>
            <p:cNvPr id="562" name=""/>
            <p:cNvSpPr/>
            <p:nvPr/>
          </p:nvSpPr>
          <p:spPr>
            <a:xfrm>
              <a:off x="4495680" y="408312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6</a:t>
              </a:r>
              <a:endParaRPr b="0" lang="en-US" sz="3600" spc="-1" strike="noStrike">
                <a:solidFill>
                  <a:srgbClr val="000000"/>
                </a:solidFill>
                <a:latin typeface="Times New Roman"/>
              </a:endParaRPr>
            </a:p>
          </p:txBody>
        </p:sp>
        <p:sp>
          <p:nvSpPr>
            <p:cNvPr id="563" name=""/>
            <p:cNvSpPr/>
            <p:nvPr/>
          </p:nvSpPr>
          <p:spPr>
            <a:xfrm>
              <a:off x="5715000" y="408312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0</a:t>
              </a:r>
              <a:endParaRPr b="0" lang="en-US" sz="3600" spc="-1" strike="noStrike">
                <a:solidFill>
                  <a:srgbClr val="000000"/>
                </a:solidFill>
                <a:latin typeface="Times New Roman"/>
              </a:endParaRPr>
            </a:p>
          </p:txBody>
        </p:sp>
        <p:sp>
          <p:nvSpPr>
            <p:cNvPr id="564" name=""/>
            <p:cNvSpPr/>
            <p:nvPr/>
          </p:nvSpPr>
          <p:spPr>
            <a:xfrm>
              <a:off x="6934320" y="4083120"/>
              <a:ext cx="106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4</a:t>
              </a:r>
              <a:endParaRPr b="0" lang="en-US" sz="3600" spc="-1" strike="noStrike">
                <a:solidFill>
                  <a:srgbClr val="000000"/>
                </a:solidFill>
                <a:latin typeface="Times New Roman"/>
              </a:endParaRPr>
            </a:p>
          </p:txBody>
        </p:sp>
        <p:sp>
          <p:nvSpPr>
            <p:cNvPr id="565" name=""/>
            <p:cNvSpPr/>
            <p:nvPr/>
          </p:nvSpPr>
          <p:spPr>
            <a:xfrm>
              <a:off x="838080" y="408312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0</a:t>
              </a:r>
              <a:endParaRPr b="0" lang="en-US" sz="3600" spc="-1" strike="noStrike">
                <a:solidFill>
                  <a:srgbClr val="000000"/>
                </a:solidFill>
                <a:latin typeface="Times New Roman"/>
              </a:endParaRPr>
            </a:p>
          </p:txBody>
        </p:sp>
      </p:grpSp>
      <p:sp>
        <p:nvSpPr>
          <p:cNvPr id="566" name=""/>
          <p:cNvSpPr/>
          <p:nvPr/>
        </p:nvSpPr>
        <p:spPr>
          <a:xfrm>
            <a:off x="3276720" y="3581280"/>
            <a:ext cx="2236680" cy="1630440"/>
          </a:xfrm>
          <a:prstGeom prst="ellipse">
            <a:avLst/>
          </a:prstGeom>
          <a:noFill/>
          <a:ln w="381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514600" y="297180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il change prices:</a:t>
            </a:r>
            <a:endParaRPr b="0" lang="en-US" sz="3600" spc="-1" strike="noStrike">
              <a:solidFill>
                <a:srgbClr val="000000"/>
              </a:solidFill>
              <a:latin typeface="Times New Roman"/>
            </a:endParaRPr>
          </a:p>
        </p:txBody>
      </p:sp>
      <p:grpSp>
        <p:nvGrpSpPr>
          <p:cNvPr id="568" name=""/>
          <p:cNvGrpSpPr/>
          <p:nvPr/>
        </p:nvGrpSpPr>
        <p:grpSpPr>
          <a:xfrm>
            <a:off x="4204080" y="3613320"/>
            <a:ext cx="378720" cy="1339560"/>
            <a:chOff x="4204080" y="3613320"/>
            <a:chExt cx="378720" cy="1339560"/>
          </a:xfrm>
        </p:grpSpPr>
        <p:sp>
          <p:nvSpPr>
            <p:cNvPr id="569" name=""/>
            <p:cNvSpPr/>
            <p:nvPr/>
          </p:nvSpPr>
          <p:spPr>
            <a:xfrm>
              <a:off x="4204080" y="361332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66"/>
                  </a:solidFill>
                  <a:latin typeface="Comic Sans MS"/>
                </a:rPr>
                <a:t>?</a:t>
              </a:r>
              <a:endParaRPr b="0" lang="en-US" sz="3600" spc="-1" strike="noStrike">
                <a:solidFill>
                  <a:srgbClr val="000000"/>
                </a:solidFill>
                <a:latin typeface="Times New Roman"/>
              </a:endParaRPr>
            </a:p>
          </p:txBody>
        </p:sp>
        <p:sp>
          <p:nvSpPr>
            <p:cNvPr id="570" name=""/>
            <p:cNvSpPr/>
            <p:nvPr/>
          </p:nvSpPr>
          <p:spPr>
            <a:xfrm flipV="1">
              <a:off x="4392720" y="4495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1676520" y="5288040"/>
            <a:ext cx="5715000" cy="1114560"/>
            <a:chOff x="1676520" y="5288040"/>
            <a:chExt cx="5715000" cy="1114560"/>
          </a:xfrm>
        </p:grpSpPr>
        <p:grpSp>
          <p:nvGrpSpPr>
            <p:cNvPr id="572" name=""/>
            <p:cNvGrpSpPr/>
            <p:nvPr/>
          </p:nvGrpSpPr>
          <p:grpSpPr>
            <a:xfrm>
              <a:off x="1676520" y="5288040"/>
              <a:ext cx="2265480" cy="1114560"/>
              <a:chOff x="1676520" y="5288040"/>
              <a:chExt cx="2265480" cy="1114560"/>
            </a:xfrm>
          </p:grpSpPr>
          <p:sp>
            <p:nvSpPr>
              <p:cNvPr id="573" name=""/>
              <p:cNvSpPr/>
              <p:nvPr/>
            </p:nvSpPr>
            <p:spPr>
              <a:xfrm>
                <a:off x="1752840" y="5288040"/>
                <a:ext cx="2112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12 + $16</a:t>
                </a:r>
                <a:endParaRPr b="0" lang="en-US" sz="3200" spc="-1" strike="noStrike">
                  <a:solidFill>
                    <a:srgbClr val="000000"/>
                  </a:solidFill>
                  <a:latin typeface="Times New Roman"/>
                </a:endParaRPr>
              </a:p>
            </p:txBody>
          </p:sp>
          <p:sp>
            <p:nvSpPr>
              <p:cNvPr id="574" name=""/>
              <p:cNvSpPr/>
              <p:nvPr/>
            </p:nvSpPr>
            <p:spPr>
              <a:xfrm>
                <a:off x="1676520" y="5821200"/>
                <a:ext cx="226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543400" y="5821200"/>
                <a:ext cx="533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2</a:t>
                </a:r>
                <a:endParaRPr b="0" lang="en-US" sz="3200" spc="-1" strike="noStrike">
                  <a:solidFill>
                    <a:srgbClr val="000000"/>
                  </a:solidFill>
                  <a:latin typeface="Times New Roman"/>
                </a:endParaRPr>
              </a:p>
            </p:txBody>
          </p:sp>
        </p:grpSp>
        <p:sp>
          <p:nvSpPr>
            <p:cNvPr id="576" name=""/>
            <p:cNvSpPr/>
            <p:nvPr/>
          </p:nvSpPr>
          <p:spPr>
            <a:xfrm>
              <a:off x="5981760" y="5524560"/>
              <a:ext cx="140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a:t>
              </a:r>
              <a:r>
                <a:rPr b="0" lang="en-US" sz="3600" spc="-1" strike="noStrike">
                  <a:solidFill>
                    <a:srgbClr val="000000"/>
                  </a:solidFill>
                  <a:latin typeface="Comic Sans MS"/>
                </a:rPr>
                <a:t> </a:t>
              </a:r>
              <a:r>
                <a:rPr b="0" lang="en-US" sz="3600" spc="-1" strike="noStrike">
                  <a:solidFill>
                    <a:srgbClr val="0000ff"/>
                  </a:solidFill>
                  <a:latin typeface="Comic Sans MS"/>
                </a:rPr>
                <a:t>$14</a:t>
              </a:r>
              <a:endParaRPr b="0" lang="en-US" sz="3600" spc="-1" strike="noStrike">
                <a:solidFill>
                  <a:srgbClr val="000000"/>
                </a:solidFill>
                <a:latin typeface="Times New Roman"/>
              </a:endParaRPr>
            </a:p>
          </p:txBody>
        </p:sp>
        <p:sp>
          <p:nvSpPr>
            <p:cNvPr id="577" name=""/>
            <p:cNvSpPr/>
            <p:nvPr/>
          </p:nvSpPr>
          <p:spPr>
            <a:xfrm>
              <a:off x="4077000" y="5522760"/>
              <a:ext cx="38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grpSp>
          <p:nvGrpSpPr>
            <p:cNvPr id="578" name=""/>
            <p:cNvGrpSpPr/>
            <p:nvPr/>
          </p:nvGrpSpPr>
          <p:grpSpPr>
            <a:xfrm>
              <a:off x="4604040" y="5288040"/>
              <a:ext cx="1225440" cy="1114560"/>
              <a:chOff x="4604040" y="5288040"/>
              <a:chExt cx="1225440" cy="1114560"/>
            </a:xfrm>
          </p:grpSpPr>
          <p:sp>
            <p:nvSpPr>
              <p:cNvPr id="579" name=""/>
              <p:cNvSpPr/>
              <p:nvPr/>
            </p:nvSpPr>
            <p:spPr>
              <a:xfrm>
                <a:off x="4642200" y="5288040"/>
                <a:ext cx="114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28</a:t>
                </a:r>
                <a:endParaRPr b="0" lang="en-US" sz="3200" spc="-1" strike="noStrike">
                  <a:solidFill>
                    <a:srgbClr val="000000"/>
                  </a:solidFill>
                  <a:latin typeface="Times New Roman"/>
                </a:endParaRPr>
              </a:p>
            </p:txBody>
          </p:sp>
          <p:sp>
            <p:nvSpPr>
              <p:cNvPr id="580" name=""/>
              <p:cNvSpPr/>
              <p:nvPr/>
            </p:nvSpPr>
            <p:spPr>
              <a:xfrm>
                <a:off x="4604040" y="5821200"/>
                <a:ext cx="1225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950000" y="5821200"/>
                <a:ext cx="53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omic Sans MS"/>
                  </a:rPr>
                  <a:t>2</a:t>
                </a:r>
                <a:endParaRPr b="0" lang="en-US" sz="3200" spc="-1" strike="noStrike">
                  <a:solidFill>
                    <a:srgbClr val="000000"/>
                  </a:solidFill>
                  <a:latin typeface="Times New Roman"/>
                </a:endParaRPr>
              </a:p>
            </p:txBody>
          </p:sp>
        </p:grpSp>
      </p:grpSp>
      <p:grpSp>
        <p:nvGrpSpPr>
          <p:cNvPr id="582" name=""/>
          <p:cNvGrpSpPr/>
          <p:nvPr/>
        </p:nvGrpSpPr>
        <p:grpSpPr>
          <a:xfrm>
            <a:off x="3659040" y="1557360"/>
            <a:ext cx="1824120" cy="1246320"/>
            <a:chOff x="3659040" y="1557360"/>
            <a:chExt cx="1824120" cy="1246320"/>
          </a:xfrm>
        </p:grpSpPr>
        <p:sp>
          <p:nvSpPr>
            <p:cNvPr id="583" name=""/>
            <p:cNvSpPr/>
            <p:nvPr/>
          </p:nvSpPr>
          <p:spPr>
            <a:xfrm>
              <a:off x="3697200" y="1914480"/>
              <a:ext cx="370080" cy="327240"/>
            </a:xfrm>
            <a:custGeom>
              <a:avLst/>
              <a:gdLst/>
              <a:ahLst/>
              <a:rect l="l" t="t" r="r" b="b"/>
              <a:pathLst>
                <a:path w="465" h="411">
                  <a:moveTo>
                    <a:pt x="96" y="149"/>
                  </a:moveTo>
                  <a:lnTo>
                    <a:pt x="113" y="134"/>
                  </a:lnTo>
                  <a:lnTo>
                    <a:pt x="129" y="120"/>
                  </a:lnTo>
                  <a:lnTo>
                    <a:pt x="145" y="106"/>
                  </a:lnTo>
                  <a:lnTo>
                    <a:pt x="162" y="93"/>
                  </a:lnTo>
                  <a:lnTo>
                    <a:pt x="179" y="81"/>
                  </a:lnTo>
                  <a:lnTo>
                    <a:pt x="197" y="69"/>
                  </a:lnTo>
                  <a:lnTo>
                    <a:pt x="214" y="58"/>
                  </a:lnTo>
                  <a:lnTo>
                    <a:pt x="232" y="47"/>
                  </a:lnTo>
                  <a:lnTo>
                    <a:pt x="251" y="38"/>
                  </a:lnTo>
                  <a:lnTo>
                    <a:pt x="270" y="30"/>
                  </a:lnTo>
                  <a:lnTo>
                    <a:pt x="290" y="22"/>
                  </a:lnTo>
                  <a:lnTo>
                    <a:pt x="309" y="15"/>
                  </a:lnTo>
                  <a:lnTo>
                    <a:pt x="330" y="9"/>
                  </a:lnTo>
                  <a:lnTo>
                    <a:pt x="351" y="5"/>
                  </a:lnTo>
                  <a:lnTo>
                    <a:pt x="372" y="2"/>
                  </a:lnTo>
                  <a:lnTo>
                    <a:pt x="394" y="0"/>
                  </a:lnTo>
                  <a:lnTo>
                    <a:pt x="402" y="1"/>
                  </a:lnTo>
                  <a:lnTo>
                    <a:pt x="410" y="2"/>
                  </a:lnTo>
                  <a:lnTo>
                    <a:pt x="418" y="2"/>
                  </a:lnTo>
                  <a:lnTo>
                    <a:pt x="426" y="3"/>
                  </a:lnTo>
                  <a:lnTo>
                    <a:pt x="433" y="5"/>
                  </a:lnTo>
                  <a:lnTo>
                    <a:pt x="441" y="6"/>
                  </a:lnTo>
                  <a:lnTo>
                    <a:pt x="449" y="7"/>
                  </a:lnTo>
                  <a:lnTo>
                    <a:pt x="456" y="8"/>
                  </a:lnTo>
                  <a:lnTo>
                    <a:pt x="459" y="8"/>
                  </a:lnTo>
                  <a:lnTo>
                    <a:pt x="459" y="12"/>
                  </a:lnTo>
                  <a:lnTo>
                    <a:pt x="459" y="15"/>
                  </a:lnTo>
                  <a:lnTo>
                    <a:pt x="459" y="17"/>
                  </a:lnTo>
                  <a:lnTo>
                    <a:pt x="463" y="18"/>
                  </a:lnTo>
                  <a:lnTo>
                    <a:pt x="465" y="18"/>
                  </a:lnTo>
                  <a:lnTo>
                    <a:pt x="465" y="23"/>
                  </a:lnTo>
                  <a:lnTo>
                    <a:pt x="462" y="26"/>
                  </a:lnTo>
                  <a:lnTo>
                    <a:pt x="457" y="28"/>
                  </a:lnTo>
                  <a:lnTo>
                    <a:pt x="453" y="31"/>
                  </a:lnTo>
                  <a:lnTo>
                    <a:pt x="440" y="48"/>
                  </a:lnTo>
                  <a:lnTo>
                    <a:pt x="428" y="68"/>
                  </a:lnTo>
                  <a:lnTo>
                    <a:pt x="419" y="88"/>
                  </a:lnTo>
                  <a:lnTo>
                    <a:pt x="412" y="107"/>
                  </a:lnTo>
                  <a:lnTo>
                    <a:pt x="405" y="129"/>
                  </a:lnTo>
                  <a:lnTo>
                    <a:pt x="399" y="150"/>
                  </a:lnTo>
                  <a:lnTo>
                    <a:pt x="394" y="171"/>
                  </a:lnTo>
                  <a:lnTo>
                    <a:pt x="387" y="191"/>
                  </a:lnTo>
                  <a:lnTo>
                    <a:pt x="388" y="209"/>
                  </a:lnTo>
                  <a:lnTo>
                    <a:pt x="395" y="225"/>
                  </a:lnTo>
                  <a:lnTo>
                    <a:pt x="403" y="241"/>
                  </a:lnTo>
                  <a:lnTo>
                    <a:pt x="412" y="257"/>
                  </a:lnTo>
                  <a:lnTo>
                    <a:pt x="418" y="262"/>
                  </a:lnTo>
                  <a:lnTo>
                    <a:pt x="423" y="267"/>
                  </a:lnTo>
                  <a:lnTo>
                    <a:pt x="428" y="273"/>
                  </a:lnTo>
                  <a:lnTo>
                    <a:pt x="429" y="281"/>
                  </a:lnTo>
                  <a:lnTo>
                    <a:pt x="422" y="287"/>
                  </a:lnTo>
                  <a:lnTo>
                    <a:pt x="414" y="294"/>
                  </a:lnTo>
                  <a:lnTo>
                    <a:pt x="406" y="302"/>
                  </a:lnTo>
                  <a:lnTo>
                    <a:pt x="398" y="310"/>
                  </a:lnTo>
                  <a:lnTo>
                    <a:pt x="390" y="319"/>
                  </a:lnTo>
                  <a:lnTo>
                    <a:pt x="383" y="327"/>
                  </a:lnTo>
                  <a:lnTo>
                    <a:pt x="376" y="335"/>
                  </a:lnTo>
                  <a:lnTo>
                    <a:pt x="372" y="342"/>
                  </a:lnTo>
                  <a:lnTo>
                    <a:pt x="364" y="345"/>
                  </a:lnTo>
                  <a:lnTo>
                    <a:pt x="357" y="348"/>
                  </a:lnTo>
                  <a:lnTo>
                    <a:pt x="350" y="353"/>
                  </a:lnTo>
                  <a:lnTo>
                    <a:pt x="343" y="357"/>
                  </a:lnTo>
                  <a:lnTo>
                    <a:pt x="336" y="362"/>
                  </a:lnTo>
                  <a:lnTo>
                    <a:pt x="328" y="366"/>
                  </a:lnTo>
                  <a:lnTo>
                    <a:pt x="321" y="371"/>
                  </a:lnTo>
                  <a:lnTo>
                    <a:pt x="314" y="374"/>
                  </a:lnTo>
                  <a:lnTo>
                    <a:pt x="306" y="380"/>
                  </a:lnTo>
                  <a:lnTo>
                    <a:pt x="298" y="385"/>
                  </a:lnTo>
                  <a:lnTo>
                    <a:pt x="289" y="388"/>
                  </a:lnTo>
                  <a:lnTo>
                    <a:pt x="280" y="391"/>
                  </a:lnTo>
                  <a:lnTo>
                    <a:pt x="270" y="394"/>
                  </a:lnTo>
                  <a:lnTo>
                    <a:pt x="261" y="396"/>
                  </a:lnTo>
                  <a:lnTo>
                    <a:pt x="252" y="400"/>
                  </a:lnTo>
                  <a:lnTo>
                    <a:pt x="243" y="403"/>
                  </a:lnTo>
                  <a:lnTo>
                    <a:pt x="236" y="403"/>
                  </a:lnTo>
                  <a:lnTo>
                    <a:pt x="230" y="404"/>
                  </a:lnTo>
                  <a:lnTo>
                    <a:pt x="223" y="406"/>
                  </a:lnTo>
                  <a:lnTo>
                    <a:pt x="216" y="408"/>
                  </a:lnTo>
                  <a:lnTo>
                    <a:pt x="209" y="409"/>
                  </a:lnTo>
                  <a:lnTo>
                    <a:pt x="202" y="409"/>
                  </a:lnTo>
                  <a:lnTo>
                    <a:pt x="194" y="410"/>
                  </a:lnTo>
                  <a:lnTo>
                    <a:pt x="187" y="409"/>
                  </a:lnTo>
                  <a:lnTo>
                    <a:pt x="179" y="411"/>
                  </a:lnTo>
                  <a:lnTo>
                    <a:pt x="171" y="411"/>
                  </a:lnTo>
                  <a:lnTo>
                    <a:pt x="163" y="411"/>
                  </a:lnTo>
                  <a:lnTo>
                    <a:pt x="154" y="411"/>
                  </a:lnTo>
                  <a:lnTo>
                    <a:pt x="146" y="410"/>
                  </a:lnTo>
                  <a:lnTo>
                    <a:pt x="137" y="409"/>
                  </a:lnTo>
                  <a:lnTo>
                    <a:pt x="129" y="408"/>
                  </a:lnTo>
                  <a:lnTo>
                    <a:pt x="119" y="408"/>
                  </a:lnTo>
                  <a:lnTo>
                    <a:pt x="100" y="399"/>
                  </a:lnTo>
                  <a:lnTo>
                    <a:pt x="81" y="387"/>
                  </a:lnTo>
                  <a:lnTo>
                    <a:pt x="64" y="376"/>
                  </a:lnTo>
                  <a:lnTo>
                    <a:pt x="47" y="362"/>
                  </a:lnTo>
                  <a:lnTo>
                    <a:pt x="33" y="346"/>
                  </a:lnTo>
                  <a:lnTo>
                    <a:pt x="20" y="328"/>
                  </a:lnTo>
                  <a:lnTo>
                    <a:pt x="11" y="309"/>
                  </a:lnTo>
                  <a:lnTo>
                    <a:pt x="5" y="288"/>
                  </a:lnTo>
                  <a:lnTo>
                    <a:pt x="0" y="285"/>
                  </a:lnTo>
                  <a:lnTo>
                    <a:pt x="0" y="278"/>
                  </a:lnTo>
                  <a:lnTo>
                    <a:pt x="1" y="271"/>
                  </a:lnTo>
                  <a:lnTo>
                    <a:pt x="2" y="264"/>
                  </a:lnTo>
                  <a:lnTo>
                    <a:pt x="10" y="248"/>
                  </a:lnTo>
                  <a:lnTo>
                    <a:pt x="19" y="232"/>
                  </a:lnTo>
                  <a:lnTo>
                    <a:pt x="31" y="217"/>
                  </a:lnTo>
                  <a:lnTo>
                    <a:pt x="43" y="203"/>
                  </a:lnTo>
                  <a:lnTo>
                    <a:pt x="57" y="189"/>
                  </a:lnTo>
                  <a:lnTo>
                    <a:pt x="70" y="175"/>
                  </a:lnTo>
                  <a:lnTo>
                    <a:pt x="84" y="161"/>
                  </a:lnTo>
                  <a:lnTo>
                    <a:pt x="96"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706920" y="1920960"/>
              <a:ext cx="347400" cy="295200"/>
            </a:xfrm>
            <a:custGeom>
              <a:avLst/>
              <a:gdLst/>
              <a:ahLst/>
              <a:rect l="l" t="t" r="r" b="b"/>
              <a:pathLst>
                <a:path w="439" h="372">
                  <a:moveTo>
                    <a:pt x="83" y="150"/>
                  </a:moveTo>
                  <a:lnTo>
                    <a:pt x="105" y="131"/>
                  </a:lnTo>
                  <a:lnTo>
                    <a:pt x="127" y="114"/>
                  </a:lnTo>
                  <a:lnTo>
                    <a:pt x="148" y="96"/>
                  </a:lnTo>
                  <a:lnTo>
                    <a:pt x="171" y="80"/>
                  </a:lnTo>
                  <a:lnTo>
                    <a:pt x="194" y="63"/>
                  </a:lnTo>
                  <a:lnTo>
                    <a:pt x="217" y="48"/>
                  </a:lnTo>
                  <a:lnTo>
                    <a:pt x="241" y="37"/>
                  </a:lnTo>
                  <a:lnTo>
                    <a:pt x="266" y="27"/>
                  </a:lnTo>
                  <a:lnTo>
                    <a:pt x="285" y="18"/>
                  </a:lnTo>
                  <a:lnTo>
                    <a:pt x="303" y="13"/>
                  </a:lnTo>
                  <a:lnTo>
                    <a:pt x="322" y="7"/>
                  </a:lnTo>
                  <a:lnTo>
                    <a:pt x="342" y="4"/>
                  </a:lnTo>
                  <a:lnTo>
                    <a:pt x="362" y="1"/>
                  </a:lnTo>
                  <a:lnTo>
                    <a:pt x="383" y="0"/>
                  </a:lnTo>
                  <a:lnTo>
                    <a:pt x="403" y="1"/>
                  </a:lnTo>
                  <a:lnTo>
                    <a:pt x="424" y="5"/>
                  </a:lnTo>
                  <a:lnTo>
                    <a:pt x="439" y="14"/>
                  </a:lnTo>
                  <a:lnTo>
                    <a:pt x="425" y="31"/>
                  </a:lnTo>
                  <a:lnTo>
                    <a:pt x="414" y="48"/>
                  </a:lnTo>
                  <a:lnTo>
                    <a:pt x="403" y="68"/>
                  </a:lnTo>
                  <a:lnTo>
                    <a:pt x="395" y="89"/>
                  </a:lnTo>
                  <a:lnTo>
                    <a:pt x="388" y="110"/>
                  </a:lnTo>
                  <a:lnTo>
                    <a:pt x="383" y="130"/>
                  </a:lnTo>
                  <a:lnTo>
                    <a:pt x="377" y="151"/>
                  </a:lnTo>
                  <a:lnTo>
                    <a:pt x="372" y="172"/>
                  </a:lnTo>
                  <a:lnTo>
                    <a:pt x="368" y="192"/>
                  </a:lnTo>
                  <a:lnTo>
                    <a:pt x="368" y="213"/>
                  </a:lnTo>
                  <a:lnTo>
                    <a:pt x="369" y="234"/>
                  </a:lnTo>
                  <a:lnTo>
                    <a:pt x="372" y="255"/>
                  </a:lnTo>
                  <a:lnTo>
                    <a:pt x="384" y="273"/>
                  </a:lnTo>
                  <a:lnTo>
                    <a:pt x="369" y="286"/>
                  </a:lnTo>
                  <a:lnTo>
                    <a:pt x="354" y="298"/>
                  </a:lnTo>
                  <a:lnTo>
                    <a:pt x="339" y="309"/>
                  </a:lnTo>
                  <a:lnTo>
                    <a:pt x="323" y="319"/>
                  </a:lnTo>
                  <a:lnTo>
                    <a:pt x="307" y="330"/>
                  </a:lnTo>
                  <a:lnTo>
                    <a:pt x="290" y="339"/>
                  </a:lnTo>
                  <a:lnTo>
                    <a:pt x="274" y="347"/>
                  </a:lnTo>
                  <a:lnTo>
                    <a:pt x="257" y="355"/>
                  </a:lnTo>
                  <a:lnTo>
                    <a:pt x="240" y="358"/>
                  </a:lnTo>
                  <a:lnTo>
                    <a:pt x="222" y="362"/>
                  </a:lnTo>
                  <a:lnTo>
                    <a:pt x="204" y="366"/>
                  </a:lnTo>
                  <a:lnTo>
                    <a:pt x="187" y="369"/>
                  </a:lnTo>
                  <a:lnTo>
                    <a:pt x="168" y="371"/>
                  </a:lnTo>
                  <a:lnTo>
                    <a:pt x="150" y="372"/>
                  </a:lnTo>
                  <a:lnTo>
                    <a:pt x="133" y="372"/>
                  </a:lnTo>
                  <a:lnTo>
                    <a:pt x="115" y="369"/>
                  </a:lnTo>
                  <a:lnTo>
                    <a:pt x="107" y="370"/>
                  </a:lnTo>
                  <a:lnTo>
                    <a:pt x="100" y="370"/>
                  </a:lnTo>
                  <a:lnTo>
                    <a:pt x="93" y="370"/>
                  </a:lnTo>
                  <a:lnTo>
                    <a:pt x="88" y="368"/>
                  </a:lnTo>
                  <a:lnTo>
                    <a:pt x="80" y="369"/>
                  </a:lnTo>
                  <a:lnTo>
                    <a:pt x="74" y="368"/>
                  </a:lnTo>
                  <a:lnTo>
                    <a:pt x="67" y="365"/>
                  </a:lnTo>
                  <a:lnTo>
                    <a:pt x="62" y="361"/>
                  </a:lnTo>
                  <a:lnTo>
                    <a:pt x="57" y="356"/>
                  </a:lnTo>
                  <a:lnTo>
                    <a:pt x="52" y="352"/>
                  </a:lnTo>
                  <a:lnTo>
                    <a:pt x="47" y="346"/>
                  </a:lnTo>
                  <a:lnTo>
                    <a:pt x="42" y="342"/>
                  </a:lnTo>
                  <a:lnTo>
                    <a:pt x="35" y="335"/>
                  </a:lnTo>
                  <a:lnTo>
                    <a:pt x="28" y="327"/>
                  </a:lnTo>
                  <a:lnTo>
                    <a:pt x="21" y="318"/>
                  </a:lnTo>
                  <a:lnTo>
                    <a:pt x="15" y="309"/>
                  </a:lnTo>
                  <a:lnTo>
                    <a:pt x="16" y="309"/>
                  </a:lnTo>
                  <a:lnTo>
                    <a:pt x="9" y="302"/>
                  </a:lnTo>
                  <a:lnTo>
                    <a:pt x="8" y="290"/>
                  </a:lnTo>
                  <a:lnTo>
                    <a:pt x="6" y="278"/>
                  </a:lnTo>
                  <a:lnTo>
                    <a:pt x="0" y="269"/>
                  </a:lnTo>
                  <a:lnTo>
                    <a:pt x="4" y="250"/>
                  </a:lnTo>
                  <a:lnTo>
                    <a:pt x="11" y="234"/>
                  </a:lnTo>
                  <a:lnTo>
                    <a:pt x="21" y="218"/>
                  </a:lnTo>
                  <a:lnTo>
                    <a:pt x="32" y="204"/>
                  </a:lnTo>
                  <a:lnTo>
                    <a:pt x="45" y="190"/>
                  </a:lnTo>
                  <a:lnTo>
                    <a:pt x="58" y="178"/>
                  </a:lnTo>
                  <a:lnTo>
                    <a:pt x="72" y="164"/>
                  </a:lnTo>
                  <a:lnTo>
                    <a:pt x="83" y="150"/>
                  </a:lnTo>
                  <a:close/>
                </a:path>
              </a:pathLst>
            </a:custGeom>
            <a:solidFill>
              <a:srgbClr val="5e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659040" y="2154240"/>
              <a:ext cx="387360" cy="649440"/>
            </a:xfrm>
            <a:custGeom>
              <a:avLst/>
              <a:gdLst/>
              <a:ahLst/>
              <a:rect l="l" t="t" r="r" b="b"/>
              <a:pathLst>
                <a:path w="488" h="818">
                  <a:moveTo>
                    <a:pt x="51" y="0"/>
                  </a:moveTo>
                  <a:lnTo>
                    <a:pt x="58" y="2"/>
                  </a:lnTo>
                  <a:lnTo>
                    <a:pt x="65" y="16"/>
                  </a:lnTo>
                  <a:lnTo>
                    <a:pt x="74" y="28"/>
                  </a:lnTo>
                  <a:lnTo>
                    <a:pt x="84" y="38"/>
                  </a:lnTo>
                  <a:lnTo>
                    <a:pt x="97" y="47"/>
                  </a:lnTo>
                  <a:lnTo>
                    <a:pt x="110" y="55"/>
                  </a:lnTo>
                  <a:lnTo>
                    <a:pt x="123" y="62"/>
                  </a:lnTo>
                  <a:lnTo>
                    <a:pt x="136" y="69"/>
                  </a:lnTo>
                  <a:lnTo>
                    <a:pt x="149" y="75"/>
                  </a:lnTo>
                  <a:lnTo>
                    <a:pt x="167" y="81"/>
                  </a:lnTo>
                  <a:lnTo>
                    <a:pt x="187" y="85"/>
                  </a:lnTo>
                  <a:lnTo>
                    <a:pt x="206" y="90"/>
                  </a:lnTo>
                  <a:lnTo>
                    <a:pt x="227" y="92"/>
                  </a:lnTo>
                  <a:lnTo>
                    <a:pt x="247" y="93"/>
                  </a:lnTo>
                  <a:lnTo>
                    <a:pt x="267" y="93"/>
                  </a:lnTo>
                  <a:lnTo>
                    <a:pt x="287" y="90"/>
                  </a:lnTo>
                  <a:lnTo>
                    <a:pt x="307" y="84"/>
                  </a:lnTo>
                  <a:lnTo>
                    <a:pt x="316" y="84"/>
                  </a:lnTo>
                  <a:lnTo>
                    <a:pt x="325" y="83"/>
                  </a:lnTo>
                  <a:lnTo>
                    <a:pt x="333" y="81"/>
                  </a:lnTo>
                  <a:lnTo>
                    <a:pt x="341" y="77"/>
                  </a:lnTo>
                  <a:lnTo>
                    <a:pt x="349" y="74"/>
                  </a:lnTo>
                  <a:lnTo>
                    <a:pt x="357" y="70"/>
                  </a:lnTo>
                  <a:lnTo>
                    <a:pt x="365" y="67"/>
                  </a:lnTo>
                  <a:lnTo>
                    <a:pt x="373" y="63"/>
                  </a:lnTo>
                  <a:lnTo>
                    <a:pt x="379" y="60"/>
                  </a:lnTo>
                  <a:lnTo>
                    <a:pt x="383" y="53"/>
                  </a:lnTo>
                  <a:lnTo>
                    <a:pt x="387" y="47"/>
                  </a:lnTo>
                  <a:lnTo>
                    <a:pt x="395" y="48"/>
                  </a:lnTo>
                  <a:lnTo>
                    <a:pt x="396" y="68"/>
                  </a:lnTo>
                  <a:lnTo>
                    <a:pt x="401" y="87"/>
                  </a:lnTo>
                  <a:lnTo>
                    <a:pt x="407" y="108"/>
                  </a:lnTo>
                  <a:lnTo>
                    <a:pt x="410" y="128"/>
                  </a:lnTo>
                  <a:lnTo>
                    <a:pt x="417" y="158"/>
                  </a:lnTo>
                  <a:lnTo>
                    <a:pt x="425" y="188"/>
                  </a:lnTo>
                  <a:lnTo>
                    <a:pt x="432" y="219"/>
                  </a:lnTo>
                  <a:lnTo>
                    <a:pt x="435" y="249"/>
                  </a:lnTo>
                  <a:lnTo>
                    <a:pt x="444" y="281"/>
                  </a:lnTo>
                  <a:lnTo>
                    <a:pt x="452" y="314"/>
                  </a:lnTo>
                  <a:lnTo>
                    <a:pt x="460" y="348"/>
                  </a:lnTo>
                  <a:lnTo>
                    <a:pt x="467" y="381"/>
                  </a:lnTo>
                  <a:lnTo>
                    <a:pt x="461" y="417"/>
                  </a:lnTo>
                  <a:lnTo>
                    <a:pt x="453" y="454"/>
                  </a:lnTo>
                  <a:lnTo>
                    <a:pt x="444" y="490"/>
                  </a:lnTo>
                  <a:lnTo>
                    <a:pt x="435" y="523"/>
                  </a:lnTo>
                  <a:lnTo>
                    <a:pt x="442" y="528"/>
                  </a:lnTo>
                  <a:lnTo>
                    <a:pt x="449" y="535"/>
                  </a:lnTo>
                  <a:lnTo>
                    <a:pt x="455" y="540"/>
                  </a:lnTo>
                  <a:lnTo>
                    <a:pt x="462" y="547"/>
                  </a:lnTo>
                  <a:lnTo>
                    <a:pt x="468" y="554"/>
                  </a:lnTo>
                  <a:lnTo>
                    <a:pt x="473" y="560"/>
                  </a:lnTo>
                  <a:lnTo>
                    <a:pt x="480" y="567"/>
                  </a:lnTo>
                  <a:lnTo>
                    <a:pt x="488" y="573"/>
                  </a:lnTo>
                  <a:lnTo>
                    <a:pt x="487" y="574"/>
                  </a:lnTo>
                  <a:lnTo>
                    <a:pt x="487" y="575"/>
                  </a:lnTo>
                  <a:lnTo>
                    <a:pt x="487" y="577"/>
                  </a:lnTo>
                  <a:lnTo>
                    <a:pt x="487" y="579"/>
                  </a:lnTo>
                  <a:lnTo>
                    <a:pt x="477" y="581"/>
                  </a:lnTo>
                  <a:lnTo>
                    <a:pt x="465" y="581"/>
                  </a:lnTo>
                  <a:lnTo>
                    <a:pt x="455" y="582"/>
                  </a:lnTo>
                  <a:lnTo>
                    <a:pt x="444" y="583"/>
                  </a:lnTo>
                  <a:lnTo>
                    <a:pt x="432" y="583"/>
                  </a:lnTo>
                  <a:lnTo>
                    <a:pt x="421" y="583"/>
                  </a:lnTo>
                  <a:lnTo>
                    <a:pt x="409" y="582"/>
                  </a:lnTo>
                  <a:lnTo>
                    <a:pt x="396" y="581"/>
                  </a:lnTo>
                  <a:lnTo>
                    <a:pt x="396" y="575"/>
                  </a:lnTo>
                  <a:lnTo>
                    <a:pt x="399" y="570"/>
                  </a:lnTo>
                  <a:lnTo>
                    <a:pt x="402" y="566"/>
                  </a:lnTo>
                  <a:lnTo>
                    <a:pt x="404" y="560"/>
                  </a:lnTo>
                  <a:lnTo>
                    <a:pt x="415" y="537"/>
                  </a:lnTo>
                  <a:lnTo>
                    <a:pt x="407" y="523"/>
                  </a:lnTo>
                  <a:lnTo>
                    <a:pt x="401" y="507"/>
                  </a:lnTo>
                  <a:lnTo>
                    <a:pt x="395" y="492"/>
                  </a:lnTo>
                  <a:lnTo>
                    <a:pt x="389" y="476"/>
                  </a:lnTo>
                  <a:lnTo>
                    <a:pt x="384" y="460"/>
                  </a:lnTo>
                  <a:lnTo>
                    <a:pt x="378" y="444"/>
                  </a:lnTo>
                  <a:lnTo>
                    <a:pt x="371" y="429"/>
                  </a:lnTo>
                  <a:lnTo>
                    <a:pt x="362" y="415"/>
                  </a:lnTo>
                  <a:lnTo>
                    <a:pt x="351" y="399"/>
                  </a:lnTo>
                  <a:lnTo>
                    <a:pt x="341" y="382"/>
                  </a:lnTo>
                  <a:lnTo>
                    <a:pt x="331" y="366"/>
                  </a:lnTo>
                  <a:lnTo>
                    <a:pt x="320" y="350"/>
                  </a:lnTo>
                  <a:lnTo>
                    <a:pt x="308" y="335"/>
                  </a:lnTo>
                  <a:lnTo>
                    <a:pt x="295" y="323"/>
                  </a:lnTo>
                  <a:lnTo>
                    <a:pt x="280" y="310"/>
                  </a:lnTo>
                  <a:lnTo>
                    <a:pt x="264" y="298"/>
                  </a:lnTo>
                  <a:lnTo>
                    <a:pt x="258" y="318"/>
                  </a:lnTo>
                  <a:lnTo>
                    <a:pt x="251" y="339"/>
                  </a:lnTo>
                  <a:lnTo>
                    <a:pt x="248" y="361"/>
                  </a:lnTo>
                  <a:lnTo>
                    <a:pt x="245" y="382"/>
                  </a:lnTo>
                  <a:lnTo>
                    <a:pt x="240" y="407"/>
                  </a:lnTo>
                  <a:lnTo>
                    <a:pt x="239" y="440"/>
                  </a:lnTo>
                  <a:lnTo>
                    <a:pt x="235" y="473"/>
                  </a:lnTo>
                  <a:lnTo>
                    <a:pt x="232" y="508"/>
                  </a:lnTo>
                  <a:lnTo>
                    <a:pt x="227" y="541"/>
                  </a:lnTo>
                  <a:lnTo>
                    <a:pt x="227" y="553"/>
                  </a:lnTo>
                  <a:lnTo>
                    <a:pt x="225" y="566"/>
                  </a:lnTo>
                  <a:lnTo>
                    <a:pt x="221" y="577"/>
                  </a:lnTo>
                  <a:lnTo>
                    <a:pt x="221" y="589"/>
                  </a:lnTo>
                  <a:lnTo>
                    <a:pt x="218" y="603"/>
                  </a:lnTo>
                  <a:lnTo>
                    <a:pt x="213" y="616"/>
                  </a:lnTo>
                  <a:lnTo>
                    <a:pt x="206" y="630"/>
                  </a:lnTo>
                  <a:lnTo>
                    <a:pt x="199" y="644"/>
                  </a:lnTo>
                  <a:lnTo>
                    <a:pt x="191" y="657"/>
                  </a:lnTo>
                  <a:lnTo>
                    <a:pt x="182" y="669"/>
                  </a:lnTo>
                  <a:lnTo>
                    <a:pt x="173" y="682"/>
                  </a:lnTo>
                  <a:lnTo>
                    <a:pt x="163" y="692"/>
                  </a:lnTo>
                  <a:lnTo>
                    <a:pt x="164" y="695"/>
                  </a:lnTo>
                  <a:lnTo>
                    <a:pt x="158" y="703"/>
                  </a:lnTo>
                  <a:lnTo>
                    <a:pt x="153" y="712"/>
                  </a:lnTo>
                  <a:lnTo>
                    <a:pt x="149" y="721"/>
                  </a:lnTo>
                  <a:lnTo>
                    <a:pt x="145" y="732"/>
                  </a:lnTo>
                  <a:lnTo>
                    <a:pt x="141" y="741"/>
                  </a:lnTo>
                  <a:lnTo>
                    <a:pt x="137" y="750"/>
                  </a:lnTo>
                  <a:lnTo>
                    <a:pt x="133" y="759"/>
                  </a:lnTo>
                  <a:lnTo>
                    <a:pt x="127" y="768"/>
                  </a:lnTo>
                  <a:lnTo>
                    <a:pt x="123" y="771"/>
                  </a:lnTo>
                  <a:lnTo>
                    <a:pt x="120" y="771"/>
                  </a:lnTo>
                  <a:lnTo>
                    <a:pt x="116" y="771"/>
                  </a:lnTo>
                  <a:lnTo>
                    <a:pt x="114" y="774"/>
                  </a:lnTo>
                  <a:lnTo>
                    <a:pt x="115" y="783"/>
                  </a:lnTo>
                  <a:lnTo>
                    <a:pt x="115" y="794"/>
                  </a:lnTo>
                  <a:lnTo>
                    <a:pt x="116" y="803"/>
                  </a:lnTo>
                  <a:lnTo>
                    <a:pt x="120" y="811"/>
                  </a:lnTo>
                  <a:lnTo>
                    <a:pt x="118" y="813"/>
                  </a:lnTo>
                  <a:lnTo>
                    <a:pt x="115" y="815"/>
                  </a:lnTo>
                  <a:lnTo>
                    <a:pt x="112" y="817"/>
                  </a:lnTo>
                  <a:lnTo>
                    <a:pt x="108" y="818"/>
                  </a:lnTo>
                  <a:lnTo>
                    <a:pt x="102" y="813"/>
                  </a:lnTo>
                  <a:lnTo>
                    <a:pt x="96" y="808"/>
                  </a:lnTo>
                  <a:lnTo>
                    <a:pt x="89" y="802"/>
                  </a:lnTo>
                  <a:lnTo>
                    <a:pt x="84" y="796"/>
                  </a:lnTo>
                  <a:lnTo>
                    <a:pt x="78" y="789"/>
                  </a:lnTo>
                  <a:lnTo>
                    <a:pt x="74" y="782"/>
                  </a:lnTo>
                  <a:lnTo>
                    <a:pt x="72" y="774"/>
                  </a:lnTo>
                  <a:lnTo>
                    <a:pt x="69" y="767"/>
                  </a:lnTo>
                  <a:lnTo>
                    <a:pt x="65" y="766"/>
                  </a:lnTo>
                  <a:lnTo>
                    <a:pt x="61" y="765"/>
                  </a:lnTo>
                  <a:lnTo>
                    <a:pt x="58" y="763"/>
                  </a:lnTo>
                  <a:lnTo>
                    <a:pt x="55" y="760"/>
                  </a:lnTo>
                  <a:lnTo>
                    <a:pt x="58" y="757"/>
                  </a:lnTo>
                  <a:lnTo>
                    <a:pt x="57" y="753"/>
                  </a:lnTo>
                  <a:lnTo>
                    <a:pt x="55" y="750"/>
                  </a:lnTo>
                  <a:lnTo>
                    <a:pt x="54" y="747"/>
                  </a:lnTo>
                  <a:lnTo>
                    <a:pt x="58" y="700"/>
                  </a:lnTo>
                  <a:lnTo>
                    <a:pt x="65" y="653"/>
                  </a:lnTo>
                  <a:lnTo>
                    <a:pt x="68" y="607"/>
                  </a:lnTo>
                  <a:lnTo>
                    <a:pt x="60" y="562"/>
                  </a:lnTo>
                  <a:lnTo>
                    <a:pt x="53" y="535"/>
                  </a:lnTo>
                  <a:lnTo>
                    <a:pt x="46" y="507"/>
                  </a:lnTo>
                  <a:lnTo>
                    <a:pt x="39" y="479"/>
                  </a:lnTo>
                  <a:lnTo>
                    <a:pt x="32" y="452"/>
                  </a:lnTo>
                  <a:lnTo>
                    <a:pt x="25" y="424"/>
                  </a:lnTo>
                  <a:lnTo>
                    <a:pt x="19" y="396"/>
                  </a:lnTo>
                  <a:lnTo>
                    <a:pt x="14" y="369"/>
                  </a:lnTo>
                  <a:lnTo>
                    <a:pt x="11" y="341"/>
                  </a:lnTo>
                  <a:lnTo>
                    <a:pt x="5" y="327"/>
                  </a:lnTo>
                  <a:lnTo>
                    <a:pt x="4" y="312"/>
                  </a:lnTo>
                  <a:lnTo>
                    <a:pt x="4" y="297"/>
                  </a:lnTo>
                  <a:lnTo>
                    <a:pt x="0" y="282"/>
                  </a:lnTo>
                  <a:lnTo>
                    <a:pt x="2" y="245"/>
                  </a:lnTo>
                  <a:lnTo>
                    <a:pt x="6" y="208"/>
                  </a:lnTo>
                  <a:lnTo>
                    <a:pt x="12" y="172"/>
                  </a:lnTo>
                  <a:lnTo>
                    <a:pt x="17" y="136"/>
                  </a:lnTo>
                  <a:lnTo>
                    <a:pt x="24" y="100"/>
                  </a:lnTo>
                  <a:lnTo>
                    <a:pt x="32" y="66"/>
                  </a:lnTo>
                  <a:lnTo>
                    <a:pt x="42" y="32"/>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679920" y="2182680"/>
              <a:ext cx="338040" cy="571680"/>
            </a:xfrm>
            <a:custGeom>
              <a:avLst/>
              <a:gdLst/>
              <a:ahLst/>
              <a:rect l="l" t="t" r="r" b="b"/>
              <a:pathLst>
                <a:path w="426" h="721">
                  <a:moveTo>
                    <a:pt x="3" y="186"/>
                  </a:moveTo>
                  <a:lnTo>
                    <a:pt x="3" y="178"/>
                  </a:lnTo>
                  <a:lnTo>
                    <a:pt x="4" y="168"/>
                  </a:lnTo>
                  <a:lnTo>
                    <a:pt x="7" y="157"/>
                  </a:lnTo>
                  <a:lnTo>
                    <a:pt x="9" y="147"/>
                  </a:lnTo>
                  <a:lnTo>
                    <a:pt x="14" y="110"/>
                  </a:lnTo>
                  <a:lnTo>
                    <a:pt x="21" y="73"/>
                  </a:lnTo>
                  <a:lnTo>
                    <a:pt x="30" y="36"/>
                  </a:lnTo>
                  <a:lnTo>
                    <a:pt x="38" y="0"/>
                  </a:lnTo>
                  <a:lnTo>
                    <a:pt x="48" y="9"/>
                  </a:lnTo>
                  <a:lnTo>
                    <a:pt x="60" y="18"/>
                  </a:lnTo>
                  <a:lnTo>
                    <a:pt x="71" y="26"/>
                  </a:lnTo>
                  <a:lnTo>
                    <a:pt x="84" y="34"/>
                  </a:lnTo>
                  <a:lnTo>
                    <a:pt x="97" y="41"/>
                  </a:lnTo>
                  <a:lnTo>
                    <a:pt x="109" y="47"/>
                  </a:lnTo>
                  <a:lnTo>
                    <a:pt x="123" y="51"/>
                  </a:lnTo>
                  <a:lnTo>
                    <a:pt x="137" y="56"/>
                  </a:lnTo>
                  <a:lnTo>
                    <a:pt x="152" y="61"/>
                  </a:lnTo>
                  <a:lnTo>
                    <a:pt x="166" y="64"/>
                  </a:lnTo>
                  <a:lnTo>
                    <a:pt x="181" y="66"/>
                  </a:lnTo>
                  <a:lnTo>
                    <a:pt x="194" y="69"/>
                  </a:lnTo>
                  <a:lnTo>
                    <a:pt x="208" y="70"/>
                  </a:lnTo>
                  <a:lnTo>
                    <a:pt x="222" y="70"/>
                  </a:lnTo>
                  <a:lnTo>
                    <a:pt x="236" y="70"/>
                  </a:lnTo>
                  <a:lnTo>
                    <a:pt x="250" y="69"/>
                  </a:lnTo>
                  <a:lnTo>
                    <a:pt x="264" y="65"/>
                  </a:lnTo>
                  <a:lnTo>
                    <a:pt x="277" y="62"/>
                  </a:lnTo>
                  <a:lnTo>
                    <a:pt x="291" y="60"/>
                  </a:lnTo>
                  <a:lnTo>
                    <a:pt x="305" y="56"/>
                  </a:lnTo>
                  <a:lnTo>
                    <a:pt x="318" y="51"/>
                  </a:lnTo>
                  <a:lnTo>
                    <a:pt x="331" y="47"/>
                  </a:lnTo>
                  <a:lnTo>
                    <a:pt x="344" y="40"/>
                  </a:lnTo>
                  <a:lnTo>
                    <a:pt x="356" y="33"/>
                  </a:lnTo>
                  <a:lnTo>
                    <a:pt x="366" y="66"/>
                  </a:lnTo>
                  <a:lnTo>
                    <a:pt x="375" y="100"/>
                  </a:lnTo>
                  <a:lnTo>
                    <a:pt x="382" y="136"/>
                  </a:lnTo>
                  <a:lnTo>
                    <a:pt x="389" y="171"/>
                  </a:lnTo>
                  <a:lnTo>
                    <a:pt x="396" y="207"/>
                  </a:lnTo>
                  <a:lnTo>
                    <a:pt x="403" y="244"/>
                  </a:lnTo>
                  <a:lnTo>
                    <a:pt x="410" y="280"/>
                  </a:lnTo>
                  <a:lnTo>
                    <a:pt x="419" y="315"/>
                  </a:lnTo>
                  <a:lnTo>
                    <a:pt x="419" y="326"/>
                  </a:lnTo>
                  <a:lnTo>
                    <a:pt x="422" y="336"/>
                  </a:lnTo>
                  <a:lnTo>
                    <a:pt x="426" y="346"/>
                  </a:lnTo>
                  <a:lnTo>
                    <a:pt x="425" y="356"/>
                  </a:lnTo>
                  <a:lnTo>
                    <a:pt x="419" y="384"/>
                  </a:lnTo>
                  <a:lnTo>
                    <a:pt x="413" y="412"/>
                  </a:lnTo>
                  <a:lnTo>
                    <a:pt x="406" y="440"/>
                  </a:lnTo>
                  <a:lnTo>
                    <a:pt x="398" y="467"/>
                  </a:lnTo>
                  <a:lnTo>
                    <a:pt x="396" y="466"/>
                  </a:lnTo>
                  <a:lnTo>
                    <a:pt x="397" y="465"/>
                  </a:lnTo>
                  <a:lnTo>
                    <a:pt x="397" y="463"/>
                  </a:lnTo>
                  <a:lnTo>
                    <a:pt x="396" y="461"/>
                  </a:lnTo>
                  <a:lnTo>
                    <a:pt x="388" y="436"/>
                  </a:lnTo>
                  <a:lnTo>
                    <a:pt x="379" y="413"/>
                  </a:lnTo>
                  <a:lnTo>
                    <a:pt x="367" y="390"/>
                  </a:lnTo>
                  <a:lnTo>
                    <a:pt x="356" y="368"/>
                  </a:lnTo>
                  <a:lnTo>
                    <a:pt x="343" y="348"/>
                  </a:lnTo>
                  <a:lnTo>
                    <a:pt x="329" y="327"/>
                  </a:lnTo>
                  <a:lnTo>
                    <a:pt x="315" y="306"/>
                  </a:lnTo>
                  <a:lnTo>
                    <a:pt x="302" y="285"/>
                  </a:lnTo>
                  <a:lnTo>
                    <a:pt x="297" y="282"/>
                  </a:lnTo>
                  <a:lnTo>
                    <a:pt x="292" y="277"/>
                  </a:lnTo>
                  <a:lnTo>
                    <a:pt x="287" y="273"/>
                  </a:lnTo>
                  <a:lnTo>
                    <a:pt x="282" y="268"/>
                  </a:lnTo>
                  <a:lnTo>
                    <a:pt x="277" y="263"/>
                  </a:lnTo>
                  <a:lnTo>
                    <a:pt x="272" y="259"/>
                  </a:lnTo>
                  <a:lnTo>
                    <a:pt x="266" y="255"/>
                  </a:lnTo>
                  <a:lnTo>
                    <a:pt x="260" y="253"/>
                  </a:lnTo>
                  <a:lnTo>
                    <a:pt x="253" y="246"/>
                  </a:lnTo>
                  <a:lnTo>
                    <a:pt x="246" y="239"/>
                  </a:lnTo>
                  <a:lnTo>
                    <a:pt x="243" y="232"/>
                  </a:lnTo>
                  <a:lnTo>
                    <a:pt x="247" y="223"/>
                  </a:lnTo>
                  <a:lnTo>
                    <a:pt x="250" y="221"/>
                  </a:lnTo>
                  <a:lnTo>
                    <a:pt x="251" y="217"/>
                  </a:lnTo>
                  <a:lnTo>
                    <a:pt x="251" y="214"/>
                  </a:lnTo>
                  <a:lnTo>
                    <a:pt x="252" y="210"/>
                  </a:lnTo>
                  <a:lnTo>
                    <a:pt x="251" y="208"/>
                  </a:lnTo>
                  <a:lnTo>
                    <a:pt x="249" y="207"/>
                  </a:lnTo>
                  <a:lnTo>
                    <a:pt x="246" y="207"/>
                  </a:lnTo>
                  <a:lnTo>
                    <a:pt x="244" y="207"/>
                  </a:lnTo>
                  <a:lnTo>
                    <a:pt x="237" y="214"/>
                  </a:lnTo>
                  <a:lnTo>
                    <a:pt x="234" y="224"/>
                  </a:lnTo>
                  <a:lnTo>
                    <a:pt x="230" y="234"/>
                  </a:lnTo>
                  <a:lnTo>
                    <a:pt x="223" y="240"/>
                  </a:lnTo>
                  <a:lnTo>
                    <a:pt x="221" y="245"/>
                  </a:lnTo>
                  <a:lnTo>
                    <a:pt x="221" y="248"/>
                  </a:lnTo>
                  <a:lnTo>
                    <a:pt x="222" y="252"/>
                  </a:lnTo>
                  <a:lnTo>
                    <a:pt x="223" y="255"/>
                  </a:lnTo>
                  <a:lnTo>
                    <a:pt x="213" y="293"/>
                  </a:lnTo>
                  <a:lnTo>
                    <a:pt x="206" y="333"/>
                  </a:lnTo>
                  <a:lnTo>
                    <a:pt x="201" y="372"/>
                  </a:lnTo>
                  <a:lnTo>
                    <a:pt x="199" y="410"/>
                  </a:lnTo>
                  <a:lnTo>
                    <a:pt x="196" y="449"/>
                  </a:lnTo>
                  <a:lnTo>
                    <a:pt x="193" y="488"/>
                  </a:lnTo>
                  <a:lnTo>
                    <a:pt x="188" y="527"/>
                  </a:lnTo>
                  <a:lnTo>
                    <a:pt x="179" y="565"/>
                  </a:lnTo>
                  <a:lnTo>
                    <a:pt x="173" y="583"/>
                  </a:lnTo>
                  <a:lnTo>
                    <a:pt x="164" y="598"/>
                  </a:lnTo>
                  <a:lnTo>
                    <a:pt x="154" y="614"/>
                  </a:lnTo>
                  <a:lnTo>
                    <a:pt x="144" y="628"/>
                  </a:lnTo>
                  <a:lnTo>
                    <a:pt x="133" y="643"/>
                  </a:lnTo>
                  <a:lnTo>
                    <a:pt x="123" y="659"/>
                  </a:lnTo>
                  <a:lnTo>
                    <a:pt x="115" y="674"/>
                  </a:lnTo>
                  <a:lnTo>
                    <a:pt x="108" y="691"/>
                  </a:lnTo>
                  <a:lnTo>
                    <a:pt x="101" y="700"/>
                  </a:lnTo>
                  <a:lnTo>
                    <a:pt x="97" y="713"/>
                  </a:lnTo>
                  <a:lnTo>
                    <a:pt x="90" y="721"/>
                  </a:lnTo>
                  <a:lnTo>
                    <a:pt x="78" y="721"/>
                  </a:lnTo>
                  <a:lnTo>
                    <a:pt x="74" y="720"/>
                  </a:lnTo>
                  <a:lnTo>
                    <a:pt x="67" y="719"/>
                  </a:lnTo>
                  <a:lnTo>
                    <a:pt x="61" y="717"/>
                  </a:lnTo>
                  <a:lnTo>
                    <a:pt x="54" y="716"/>
                  </a:lnTo>
                  <a:lnTo>
                    <a:pt x="56" y="708"/>
                  </a:lnTo>
                  <a:lnTo>
                    <a:pt x="56" y="700"/>
                  </a:lnTo>
                  <a:lnTo>
                    <a:pt x="55" y="692"/>
                  </a:lnTo>
                  <a:lnTo>
                    <a:pt x="54" y="684"/>
                  </a:lnTo>
                  <a:lnTo>
                    <a:pt x="60" y="637"/>
                  </a:lnTo>
                  <a:lnTo>
                    <a:pt x="67" y="593"/>
                  </a:lnTo>
                  <a:lnTo>
                    <a:pt x="69" y="550"/>
                  </a:lnTo>
                  <a:lnTo>
                    <a:pt x="59" y="508"/>
                  </a:lnTo>
                  <a:lnTo>
                    <a:pt x="55" y="489"/>
                  </a:lnTo>
                  <a:lnTo>
                    <a:pt x="50" y="471"/>
                  </a:lnTo>
                  <a:lnTo>
                    <a:pt x="46" y="452"/>
                  </a:lnTo>
                  <a:lnTo>
                    <a:pt x="41" y="434"/>
                  </a:lnTo>
                  <a:lnTo>
                    <a:pt x="32" y="413"/>
                  </a:lnTo>
                  <a:lnTo>
                    <a:pt x="29" y="390"/>
                  </a:lnTo>
                  <a:lnTo>
                    <a:pt x="26" y="367"/>
                  </a:lnTo>
                  <a:lnTo>
                    <a:pt x="15" y="348"/>
                  </a:lnTo>
                  <a:lnTo>
                    <a:pt x="14" y="322"/>
                  </a:lnTo>
                  <a:lnTo>
                    <a:pt x="7" y="298"/>
                  </a:lnTo>
                  <a:lnTo>
                    <a:pt x="0" y="274"/>
                  </a:lnTo>
                  <a:lnTo>
                    <a:pt x="0" y="248"/>
                  </a:lnTo>
                  <a:lnTo>
                    <a:pt x="1" y="189"/>
                  </a:lnTo>
                  <a:lnTo>
                    <a:pt x="3" y="186"/>
                  </a:lnTo>
                  <a:close/>
                </a:path>
              </a:pathLst>
            </a:custGeom>
            <a:solidFill>
              <a:srgbClr val="076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26000" y="2762280"/>
              <a:ext cx="14040" cy="25200"/>
            </a:xfrm>
            <a:custGeom>
              <a:avLst/>
              <a:gdLst/>
              <a:ahLst/>
              <a:rect l="l" t="t" r="r" b="b"/>
              <a:pathLst>
                <a:path w="19" h="32">
                  <a:moveTo>
                    <a:pt x="0" y="0"/>
                  </a:moveTo>
                  <a:lnTo>
                    <a:pt x="5" y="1"/>
                  </a:lnTo>
                  <a:lnTo>
                    <a:pt x="12" y="2"/>
                  </a:lnTo>
                  <a:lnTo>
                    <a:pt x="17" y="5"/>
                  </a:lnTo>
                  <a:lnTo>
                    <a:pt x="15" y="12"/>
                  </a:lnTo>
                  <a:lnTo>
                    <a:pt x="18" y="15"/>
                  </a:lnTo>
                  <a:lnTo>
                    <a:pt x="19" y="20"/>
                  </a:lnTo>
                  <a:lnTo>
                    <a:pt x="19" y="27"/>
                  </a:lnTo>
                  <a:lnTo>
                    <a:pt x="19" y="32"/>
                  </a:lnTo>
                  <a:lnTo>
                    <a:pt x="11" y="27"/>
                  </a:lnTo>
                  <a:lnTo>
                    <a:pt x="4" y="19"/>
                  </a:lnTo>
                  <a:lnTo>
                    <a:pt x="0" y="11"/>
                  </a:lnTo>
                  <a:lnTo>
                    <a:pt x="0" y="0"/>
                  </a:lnTo>
                  <a:close/>
                </a:path>
              </a:pathLst>
            </a:custGeom>
            <a:solidFill>
              <a:srgbClr val="7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
            <p:cNvSpPr/>
            <p:nvPr/>
          </p:nvSpPr>
          <p:spPr>
            <a:xfrm>
              <a:off x="3984480" y="2583000"/>
              <a:ext cx="47880" cy="27000"/>
            </a:xfrm>
            <a:custGeom>
              <a:avLst/>
              <a:gdLst/>
              <a:ahLst/>
              <a:rect l="l" t="t" r="r" b="b"/>
              <a:pathLst>
                <a:path w="61" h="34">
                  <a:moveTo>
                    <a:pt x="20" y="6"/>
                  </a:moveTo>
                  <a:lnTo>
                    <a:pt x="21" y="0"/>
                  </a:lnTo>
                  <a:lnTo>
                    <a:pt x="34" y="1"/>
                  </a:lnTo>
                  <a:lnTo>
                    <a:pt x="61" y="31"/>
                  </a:lnTo>
                  <a:lnTo>
                    <a:pt x="57" y="31"/>
                  </a:lnTo>
                  <a:lnTo>
                    <a:pt x="53" y="33"/>
                  </a:lnTo>
                  <a:lnTo>
                    <a:pt x="49" y="33"/>
                  </a:lnTo>
                  <a:lnTo>
                    <a:pt x="44" y="33"/>
                  </a:lnTo>
                  <a:lnTo>
                    <a:pt x="38" y="33"/>
                  </a:lnTo>
                  <a:lnTo>
                    <a:pt x="34" y="33"/>
                  </a:lnTo>
                  <a:lnTo>
                    <a:pt x="30" y="33"/>
                  </a:lnTo>
                  <a:lnTo>
                    <a:pt x="25" y="33"/>
                  </a:lnTo>
                  <a:lnTo>
                    <a:pt x="20" y="34"/>
                  </a:lnTo>
                  <a:lnTo>
                    <a:pt x="13" y="34"/>
                  </a:lnTo>
                  <a:lnTo>
                    <a:pt x="6" y="34"/>
                  </a:lnTo>
                  <a:lnTo>
                    <a:pt x="0" y="33"/>
                  </a:lnTo>
                  <a:lnTo>
                    <a:pt x="4" y="25"/>
                  </a:lnTo>
                  <a:lnTo>
                    <a:pt x="7" y="16"/>
                  </a:lnTo>
                  <a:lnTo>
                    <a:pt x="12" y="10"/>
                  </a:lnTo>
                  <a:lnTo>
                    <a:pt x="20" y="6"/>
                  </a:lnTo>
                  <a:close/>
                </a:path>
              </a:pathLst>
            </a:custGeom>
            <a:solidFill>
              <a:srgbClr val="7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9" name=""/>
            <p:cNvSpPr/>
            <p:nvPr/>
          </p:nvSpPr>
          <p:spPr>
            <a:xfrm>
              <a:off x="3776760" y="1557360"/>
              <a:ext cx="1706400" cy="1235160"/>
            </a:xfrm>
            <a:custGeom>
              <a:avLst/>
              <a:gdLst/>
              <a:ahLst/>
              <a:rect l="l" t="t" r="r" b="b"/>
              <a:pathLst>
                <a:path w="2150" h="1556">
                  <a:moveTo>
                    <a:pt x="8" y="1294"/>
                  </a:moveTo>
                  <a:lnTo>
                    <a:pt x="15" y="1297"/>
                  </a:lnTo>
                  <a:lnTo>
                    <a:pt x="20" y="1297"/>
                  </a:lnTo>
                  <a:lnTo>
                    <a:pt x="25" y="1293"/>
                  </a:lnTo>
                  <a:lnTo>
                    <a:pt x="29" y="1288"/>
                  </a:lnTo>
                  <a:lnTo>
                    <a:pt x="33" y="1282"/>
                  </a:lnTo>
                  <a:lnTo>
                    <a:pt x="38" y="1276"/>
                  </a:lnTo>
                  <a:lnTo>
                    <a:pt x="42" y="1271"/>
                  </a:lnTo>
                  <a:lnTo>
                    <a:pt x="48" y="1268"/>
                  </a:lnTo>
                  <a:lnTo>
                    <a:pt x="60" y="1259"/>
                  </a:lnTo>
                  <a:lnTo>
                    <a:pt x="61" y="1230"/>
                  </a:lnTo>
                  <a:lnTo>
                    <a:pt x="64" y="1201"/>
                  </a:lnTo>
                  <a:lnTo>
                    <a:pt x="69" y="1172"/>
                  </a:lnTo>
                  <a:lnTo>
                    <a:pt x="76" y="1145"/>
                  </a:lnTo>
                  <a:lnTo>
                    <a:pt x="84" y="1118"/>
                  </a:lnTo>
                  <a:lnTo>
                    <a:pt x="92" y="1091"/>
                  </a:lnTo>
                  <a:lnTo>
                    <a:pt x="101" y="1064"/>
                  </a:lnTo>
                  <a:lnTo>
                    <a:pt x="110" y="1037"/>
                  </a:lnTo>
                  <a:lnTo>
                    <a:pt x="126" y="1002"/>
                  </a:lnTo>
                  <a:lnTo>
                    <a:pt x="146" y="967"/>
                  </a:lnTo>
                  <a:lnTo>
                    <a:pt x="167" y="934"/>
                  </a:lnTo>
                  <a:lnTo>
                    <a:pt x="189" y="900"/>
                  </a:lnTo>
                  <a:lnTo>
                    <a:pt x="214" y="868"/>
                  </a:lnTo>
                  <a:lnTo>
                    <a:pt x="239" y="837"/>
                  </a:lnTo>
                  <a:lnTo>
                    <a:pt x="267" y="807"/>
                  </a:lnTo>
                  <a:lnTo>
                    <a:pt x="296" y="778"/>
                  </a:lnTo>
                  <a:lnTo>
                    <a:pt x="326" y="749"/>
                  </a:lnTo>
                  <a:lnTo>
                    <a:pt x="356" y="723"/>
                  </a:lnTo>
                  <a:lnTo>
                    <a:pt x="388" y="698"/>
                  </a:lnTo>
                  <a:lnTo>
                    <a:pt x="420" y="673"/>
                  </a:lnTo>
                  <a:lnTo>
                    <a:pt x="453" y="650"/>
                  </a:lnTo>
                  <a:lnTo>
                    <a:pt x="487" y="630"/>
                  </a:lnTo>
                  <a:lnTo>
                    <a:pt x="520" y="610"/>
                  </a:lnTo>
                  <a:lnTo>
                    <a:pt x="555" y="592"/>
                  </a:lnTo>
                  <a:lnTo>
                    <a:pt x="608" y="571"/>
                  </a:lnTo>
                  <a:lnTo>
                    <a:pt x="589" y="541"/>
                  </a:lnTo>
                  <a:lnTo>
                    <a:pt x="571" y="511"/>
                  </a:lnTo>
                  <a:lnTo>
                    <a:pt x="553" y="481"/>
                  </a:lnTo>
                  <a:lnTo>
                    <a:pt x="533" y="451"/>
                  </a:lnTo>
                  <a:lnTo>
                    <a:pt x="513" y="421"/>
                  </a:lnTo>
                  <a:lnTo>
                    <a:pt x="494" y="391"/>
                  </a:lnTo>
                  <a:lnTo>
                    <a:pt x="474" y="361"/>
                  </a:lnTo>
                  <a:lnTo>
                    <a:pt x="453" y="332"/>
                  </a:lnTo>
                  <a:lnTo>
                    <a:pt x="433" y="302"/>
                  </a:lnTo>
                  <a:lnTo>
                    <a:pt x="412" y="274"/>
                  </a:lnTo>
                  <a:lnTo>
                    <a:pt x="390" y="245"/>
                  </a:lnTo>
                  <a:lnTo>
                    <a:pt x="368" y="217"/>
                  </a:lnTo>
                  <a:lnTo>
                    <a:pt x="346" y="188"/>
                  </a:lnTo>
                  <a:lnTo>
                    <a:pt x="323" y="162"/>
                  </a:lnTo>
                  <a:lnTo>
                    <a:pt x="300" y="134"/>
                  </a:lnTo>
                  <a:lnTo>
                    <a:pt x="277" y="108"/>
                  </a:lnTo>
                  <a:lnTo>
                    <a:pt x="274" y="104"/>
                  </a:lnTo>
                  <a:lnTo>
                    <a:pt x="270" y="103"/>
                  </a:lnTo>
                  <a:lnTo>
                    <a:pt x="267" y="102"/>
                  </a:lnTo>
                  <a:lnTo>
                    <a:pt x="266" y="97"/>
                  </a:lnTo>
                  <a:lnTo>
                    <a:pt x="272" y="95"/>
                  </a:lnTo>
                  <a:lnTo>
                    <a:pt x="280" y="95"/>
                  </a:lnTo>
                  <a:lnTo>
                    <a:pt x="288" y="95"/>
                  </a:lnTo>
                  <a:lnTo>
                    <a:pt x="293" y="95"/>
                  </a:lnTo>
                  <a:lnTo>
                    <a:pt x="314" y="93"/>
                  </a:lnTo>
                  <a:lnTo>
                    <a:pt x="336" y="90"/>
                  </a:lnTo>
                  <a:lnTo>
                    <a:pt x="357" y="87"/>
                  </a:lnTo>
                  <a:lnTo>
                    <a:pt x="377" y="81"/>
                  </a:lnTo>
                  <a:lnTo>
                    <a:pt x="398" y="75"/>
                  </a:lnTo>
                  <a:lnTo>
                    <a:pt x="418" y="67"/>
                  </a:lnTo>
                  <a:lnTo>
                    <a:pt x="436" y="57"/>
                  </a:lnTo>
                  <a:lnTo>
                    <a:pt x="455" y="45"/>
                  </a:lnTo>
                  <a:lnTo>
                    <a:pt x="466" y="37"/>
                  </a:lnTo>
                  <a:lnTo>
                    <a:pt x="477" y="29"/>
                  </a:lnTo>
                  <a:lnTo>
                    <a:pt x="489" y="24"/>
                  </a:lnTo>
                  <a:lnTo>
                    <a:pt x="501" y="19"/>
                  </a:lnTo>
                  <a:lnTo>
                    <a:pt x="513" y="14"/>
                  </a:lnTo>
                  <a:lnTo>
                    <a:pt x="526" y="11"/>
                  </a:lnTo>
                  <a:lnTo>
                    <a:pt x="540" y="9"/>
                  </a:lnTo>
                  <a:lnTo>
                    <a:pt x="553" y="6"/>
                  </a:lnTo>
                  <a:lnTo>
                    <a:pt x="566" y="5"/>
                  </a:lnTo>
                  <a:lnTo>
                    <a:pt x="580" y="4"/>
                  </a:lnTo>
                  <a:lnTo>
                    <a:pt x="594" y="3"/>
                  </a:lnTo>
                  <a:lnTo>
                    <a:pt x="608" y="2"/>
                  </a:lnTo>
                  <a:lnTo>
                    <a:pt x="623" y="2"/>
                  </a:lnTo>
                  <a:lnTo>
                    <a:pt x="637" y="2"/>
                  </a:lnTo>
                  <a:lnTo>
                    <a:pt x="650" y="0"/>
                  </a:lnTo>
                  <a:lnTo>
                    <a:pt x="665" y="0"/>
                  </a:lnTo>
                  <a:lnTo>
                    <a:pt x="678" y="2"/>
                  </a:lnTo>
                  <a:lnTo>
                    <a:pt x="691" y="2"/>
                  </a:lnTo>
                  <a:lnTo>
                    <a:pt x="703" y="3"/>
                  </a:lnTo>
                  <a:lnTo>
                    <a:pt x="716" y="3"/>
                  </a:lnTo>
                  <a:lnTo>
                    <a:pt x="730" y="3"/>
                  </a:lnTo>
                  <a:lnTo>
                    <a:pt x="743" y="3"/>
                  </a:lnTo>
                  <a:lnTo>
                    <a:pt x="756" y="3"/>
                  </a:lnTo>
                  <a:lnTo>
                    <a:pt x="770" y="2"/>
                  </a:lnTo>
                  <a:lnTo>
                    <a:pt x="783" y="2"/>
                  </a:lnTo>
                  <a:lnTo>
                    <a:pt x="797" y="2"/>
                  </a:lnTo>
                  <a:lnTo>
                    <a:pt x="811" y="2"/>
                  </a:lnTo>
                  <a:lnTo>
                    <a:pt x="824" y="2"/>
                  </a:lnTo>
                  <a:lnTo>
                    <a:pt x="838" y="2"/>
                  </a:lnTo>
                  <a:lnTo>
                    <a:pt x="852" y="2"/>
                  </a:lnTo>
                  <a:lnTo>
                    <a:pt x="865" y="2"/>
                  </a:lnTo>
                  <a:lnTo>
                    <a:pt x="878" y="3"/>
                  </a:lnTo>
                  <a:lnTo>
                    <a:pt x="898" y="9"/>
                  </a:lnTo>
                  <a:lnTo>
                    <a:pt x="918" y="13"/>
                  </a:lnTo>
                  <a:lnTo>
                    <a:pt x="938" y="18"/>
                  </a:lnTo>
                  <a:lnTo>
                    <a:pt x="959" y="21"/>
                  </a:lnTo>
                  <a:lnTo>
                    <a:pt x="980" y="25"/>
                  </a:lnTo>
                  <a:lnTo>
                    <a:pt x="1002" y="27"/>
                  </a:lnTo>
                  <a:lnTo>
                    <a:pt x="1022" y="29"/>
                  </a:lnTo>
                  <a:lnTo>
                    <a:pt x="1044" y="32"/>
                  </a:lnTo>
                  <a:lnTo>
                    <a:pt x="1065" y="33"/>
                  </a:lnTo>
                  <a:lnTo>
                    <a:pt x="1087" y="34"/>
                  </a:lnTo>
                  <a:lnTo>
                    <a:pt x="1108" y="35"/>
                  </a:lnTo>
                  <a:lnTo>
                    <a:pt x="1130" y="36"/>
                  </a:lnTo>
                  <a:lnTo>
                    <a:pt x="1150" y="36"/>
                  </a:lnTo>
                  <a:lnTo>
                    <a:pt x="1171" y="37"/>
                  </a:lnTo>
                  <a:lnTo>
                    <a:pt x="1192" y="37"/>
                  </a:lnTo>
                  <a:lnTo>
                    <a:pt x="1211" y="38"/>
                  </a:lnTo>
                  <a:lnTo>
                    <a:pt x="1224" y="49"/>
                  </a:lnTo>
                  <a:lnTo>
                    <a:pt x="1235" y="60"/>
                  </a:lnTo>
                  <a:lnTo>
                    <a:pt x="1246" y="72"/>
                  </a:lnTo>
                  <a:lnTo>
                    <a:pt x="1256" y="85"/>
                  </a:lnTo>
                  <a:lnTo>
                    <a:pt x="1265" y="98"/>
                  </a:lnTo>
                  <a:lnTo>
                    <a:pt x="1275" y="111"/>
                  </a:lnTo>
                  <a:lnTo>
                    <a:pt x="1284" y="125"/>
                  </a:lnTo>
                  <a:lnTo>
                    <a:pt x="1293" y="138"/>
                  </a:lnTo>
                  <a:lnTo>
                    <a:pt x="1305" y="139"/>
                  </a:lnTo>
                  <a:lnTo>
                    <a:pt x="1316" y="139"/>
                  </a:lnTo>
                  <a:lnTo>
                    <a:pt x="1328" y="140"/>
                  </a:lnTo>
                  <a:lnTo>
                    <a:pt x="1339" y="140"/>
                  </a:lnTo>
                  <a:lnTo>
                    <a:pt x="1351" y="141"/>
                  </a:lnTo>
                  <a:lnTo>
                    <a:pt x="1362" y="142"/>
                  </a:lnTo>
                  <a:lnTo>
                    <a:pt x="1374" y="143"/>
                  </a:lnTo>
                  <a:lnTo>
                    <a:pt x="1385" y="143"/>
                  </a:lnTo>
                  <a:lnTo>
                    <a:pt x="1398" y="144"/>
                  </a:lnTo>
                  <a:lnTo>
                    <a:pt x="1409" y="146"/>
                  </a:lnTo>
                  <a:lnTo>
                    <a:pt x="1421" y="147"/>
                  </a:lnTo>
                  <a:lnTo>
                    <a:pt x="1434" y="147"/>
                  </a:lnTo>
                  <a:lnTo>
                    <a:pt x="1445" y="148"/>
                  </a:lnTo>
                  <a:lnTo>
                    <a:pt x="1458" y="149"/>
                  </a:lnTo>
                  <a:lnTo>
                    <a:pt x="1470" y="150"/>
                  </a:lnTo>
                  <a:lnTo>
                    <a:pt x="1483" y="151"/>
                  </a:lnTo>
                  <a:lnTo>
                    <a:pt x="1497" y="151"/>
                  </a:lnTo>
                  <a:lnTo>
                    <a:pt x="1511" y="153"/>
                  </a:lnTo>
                  <a:lnTo>
                    <a:pt x="1525" y="153"/>
                  </a:lnTo>
                  <a:lnTo>
                    <a:pt x="1538" y="154"/>
                  </a:lnTo>
                  <a:lnTo>
                    <a:pt x="1551" y="155"/>
                  </a:lnTo>
                  <a:lnTo>
                    <a:pt x="1565" y="156"/>
                  </a:lnTo>
                  <a:lnTo>
                    <a:pt x="1579" y="157"/>
                  </a:lnTo>
                  <a:lnTo>
                    <a:pt x="1593" y="158"/>
                  </a:lnTo>
                  <a:lnTo>
                    <a:pt x="1605" y="159"/>
                  </a:lnTo>
                  <a:lnTo>
                    <a:pt x="1619" y="161"/>
                  </a:lnTo>
                  <a:lnTo>
                    <a:pt x="1633" y="162"/>
                  </a:lnTo>
                  <a:lnTo>
                    <a:pt x="1645" y="163"/>
                  </a:lnTo>
                  <a:lnTo>
                    <a:pt x="1659" y="163"/>
                  </a:lnTo>
                  <a:lnTo>
                    <a:pt x="1673" y="163"/>
                  </a:lnTo>
                  <a:lnTo>
                    <a:pt x="1686" y="163"/>
                  </a:lnTo>
                  <a:lnTo>
                    <a:pt x="1700" y="162"/>
                  </a:lnTo>
                  <a:lnTo>
                    <a:pt x="1738" y="191"/>
                  </a:lnTo>
                  <a:lnTo>
                    <a:pt x="1748" y="192"/>
                  </a:lnTo>
                  <a:lnTo>
                    <a:pt x="1760" y="192"/>
                  </a:lnTo>
                  <a:lnTo>
                    <a:pt x="1771" y="191"/>
                  </a:lnTo>
                  <a:lnTo>
                    <a:pt x="1781" y="189"/>
                  </a:lnTo>
                  <a:lnTo>
                    <a:pt x="1793" y="188"/>
                  </a:lnTo>
                  <a:lnTo>
                    <a:pt x="1803" y="187"/>
                  </a:lnTo>
                  <a:lnTo>
                    <a:pt x="1814" y="187"/>
                  </a:lnTo>
                  <a:lnTo>
                    <a:pt x="1823" y="187"/>
                  </a:lnTo>
                  <a:lnTo>
                    <a:pt x="1834" y="188"/>
                  </a:lnTo>
                  <a:lnTo>
                    <a:pt x="1847" y="191"/>
                  </a:lnTo>
                  <a:lnTo>
                    <a:pt x="1859" y="192"/>
                  </a:lnTo>
                  <a:lnTo>
                    <a:pt x="1870" y="193"/>
                  </a:lnTo>
                  <a:lnTo>
                    <a:pt x="1882" y="193"/>
                  </a:lnTo>
                  <a:lnTo>
                    <a:pt x="1893" y="194"/>
                  </a:lnTo>
                  <a:lnTo>
                    <a:pt x="1905" y="195"/>
                  </a:lnTo>
                  <a:lnTo>
                    <a:pt x="1916" y="195"/>
                  </a:lnTo>
                  <a:lnTo>
                    <a:pt x="1929" y="196"/>
                  </a:lnTo>
                  <a:lnTo>
                    <a:pt x="1940" y="196"/>
                  </a:lnTo>
                  <a:lnTo>
                    <a:pt x="1952" y="197"/>
                  </a:lnTo>
                  <a:lnTo>
                    <a:pt x="1963" y="199"/>
                  </a:lnTo>
                  <a:lnTo>
                    <a:pt x="1976" y="199"/>
                  </a:lnTo>
                  <a:lnTo>
                    <a:pt x="1989" y="200"/>
                  </a:lnTo>
                  <a:lnTo>
                    <a:pt x="2000" y="201"/>
                  </a:lnTo>
                  <a:lnTo>
                    <a:pt x="2013" y="202"/>
                  </a:lnTo>
                  <a:lnTo>
                    <a:pt x="2017" y="203"/>
                  </a:lnTo>
                  <a:lnTo>
                    <a:pt x="2023" y="204"/>
                  </a:lnTo>
                  <a:lnTo>
                    <a:pt x="2028" y="204"/>
                  </a:lnTo>
                  <a:lnTo>
                    <a:pt x="2034" y="206"/>
                  </a:lnTo>
                  <a:lnTo>
                    <a:pt x="2039" y="207"/>
                  </a:lnTo>
                  <a:lnTo>
                    <a:pt x="2045" y="207"/>
                  </a:lnTo>
                  <a:lnTo>
                    <a:pt x="2051" y="207"/>
                  </a:lnTo>
                  <a:lnTo>
                    <a:pt x="2057" y="207"/>
                  </a:lnTo>
                  <a:lnTo>
                    <a:pt x="2064" y="211"/>
                  </a:lnTo>
                  <a:lnTo>
                    <a:pt x="2070" y="212"/>
                  </a:lnTo>
                  <a:lnTo>
                    <a:pt x="2077" y="211"/>
                  </a:lnTo>
                  <a:lnTo>
                    <a:pt x="2085" y="209"/>
                  </a:lnTo>
                  <a:lnTo>
                    <a:pt x="2095" y="223"/>
                  </a:lnTo>
                  <a:lnTo>
                    <a:pt x="2102" y="237"/>
                  </a:lnTo>
                  <a:lnTo>
                    <a:pt x="2107" y="252"/>
                  </a:lnTo>
                  <a:lnTo>
                    <a:pt x="2111" y="268"/>
                  </a:lnTo>
                  <a:lnTo>
                    <a:pt x="2113" y="283"/>
                  </a:lnTo>
                  <a:lnTo>
                    <a:pt x="2117" y="299"/>
                  </a:lnTo>
                  <a:lnTo>
                    <a:pt x="2119" y="315"/>
                  </a:lnTo>
                  <a:lnTo>
                    <a:pt x="2123" y="330"/>
                  </a:lnTo>
                  <a:lnTo>
                    <a:pt x="2125" y="345"/>
                  </a:lnTo>
                  <a:lnTo>
                    <a:pt x="2125" y="362"/>
                  </a:lnTo>
                  <a:lnTo>
                    <a:pt x="2127" y="376"/>
                  </a:lnTo>
                  <a:lnTo>
                    <a:pt x="2140" y="382"/>
                  </a:lnTo>
                  <a:lnTo>
                    <a:pt x="2149" y="403"/>
                  </a:lnTo>
                  <a:lnTo>
                    <a:pt x="2150" y="426"/>
                  </a:lnTo>
                  <a:lnTo>
                    <a:pt x="2145" y="449"/>
                  </a:lnTo>
                  <a:lnTo>
                    <a:pt x="2136" y="469"/>
                  </a:lnTo>
                  <a:lnTo>
                    <a:pt x="2141" y="476"/>
                  </a:lnTo>
                  <a:lnTo>
                    <a:pt x="2138" y="483"/>
                  </a:lnTo>
                  <a:lnTo>
                    <a:pt x="2134" y="491"/>
                  </a:lnTo>
                  <a:lnTo>
                    <a:pt x="2130" y="498"/>
                  </a:lnTo>
                  <a:lnTo>
                    <a:pt x="2125" y="506"/>
                  </a:lnTo>
                  <a:lnTo>
                    <a:pt x="2120" y="514"/>
                  </a:lnTo>
                  <a:lnTo>
                    <a:pt x="2114" y="521"/>
                  </a:lnTo>
                  <a:lnTo>
                    <a:pt x="2105" y="524"/>
                  </a:lnTo>
                  <a:lnTo>
                    <a:pt x="2098" y="537"/>
                  </a:lnTo>
                  <a:lnTo>
                    <a:pt x="2100" y="574"/>
                  </a:lnTo>
                  <a:lnTo>
                    <a:pt x="2100" y="611"/>
                  </a:lnTo>
                  <a:lnTo>
                    <a:pt x="2097" y="648"/>
                  </a:lnTo>
                  <a:lnTo>
                    <a:pt x="2090" y="685"/>
                  </a:lnTo>
                  <a:lnTo>
                    <a:pt x="2081" y="721"/>
                  </a:lnTo>
                  <a:lnTo>
                    <a:pt x="2069" y="755"/>
                  </a:lnTo>
                  <a:lnTo>
                    <a:pt x="2054" y="789"/>
                  </a:lnTo>
                  <a:lnTo>
                    <a:pt x="2037" y="821"/>
                  </a:lnTo>
                  <a:lnTo>
                    <a:pt x="2022" y="832"/>
                  </a:lnTo>
                  <a:lnTo>
                    <a:pt x="2005" y="839"/>
                  </a:lnTo>
                  <a:lnTo>
                    <a:pt x="1986" y="844"/>
                  </a:lnTo>
                  <a:lnTo>
                    <a:pt x="1967" y="846"/>
                  </a:lnTo>
                  <a:lnTo>
                    <a:pt x="1947" y="847"/>
                  </a:lnTo>
                  <a:lnTo>
                    <a:pt x="1928" y="847"/>
                  </a:lnTo>
                  <a:lnTo>
                    <a:pt x="1909" y="847"/>
                  </a:lnTo>
                  <a:lnTo>
                    <a:pt x="1892" y="847"/>
                  </a:lnTo>
                  <a:lnTo>
                    <a:pt x="1874" y="872"/>
                  </a:lnTo>
                  <a:lnTo>
                    <a:pt x="1854" y="896"/>
                  </a:lnTo>
                  <a:lnTo>
                    <a:pt x="1834" y="920"/>
                  </a:lnTo>
                  <a:lnTo>
                    <a:pt x="1814" y="943"/>
                  </a:lnTo>
                  <a:lnTo>
                    <a:pt x="1794" y="966"/>
                  </a:lnTo>
                  <a:lnTo>
                    <a:pt x="1774" y="990"/>
                  </a:lnTo>
                  <a:lnTo>
                    <a:pt x="1756" y="1014"/>
                  </a:lnTo>
                  <a:lnTo>
                    <a:pt x="1738" y="1039"/>
                  </a:lnTo>
                  <a:lnTo>
                    <a:pt x="1732" y="1039"/>
                  </a:lnTo>
                  <a:lnTo>
                    <a:pt x="1726" y="1039"/>
                  </a:lnTo>
                  <a:lnTo>
                    <a:pt x="1720" y="1041"/>
                  </a:lnTo>
                  <a:lnTo>
                    <a:pt x="1716" y="1046"/>
                  </a:lnTo>
                  <a:lnTo>
                    <a:pt x="1713" y="1086"/>
                  </a:lnTo>
                  <a:lnTo>
                    <a:pt x="1710" y="1126"/>
                  </a:lnTo>
                  <a:lnTo>
                    <a:pt x="1705" y="1167"/>
                  </a:lnTo>
                  <a:lnTo>
                    <a:pt x="1700" y="1207"/>
                  </a:lnTo>
                  <a:lnTo>
                    <a:pt x="1692" y="1247"/>
                  </a:lnTo>
                  <a:lnTo>
                    <a:pt x="1682" y="1285"/>
                  </a:lnTo>
                  <a:lnTo>
                    <a:pt x="1670" y="1323"/>
                  </a:lnTo>
                  <a:lnTo>
                    <a:pt x="1655" y="1360"/>
                  </a:lnTo>
                  <a:lnTo>
                    <a:pt x="1644" y="1368"/>
                  </a:lnTo>
                  <a:lnTo>
                    <a:pt x="1639" y="1377"/>
                  </a:lnTo>
                  <a:lnTo>
                    <a:pt x="1633" y="1388"/>
                  </a:lnTo>
                  <a:lnTo>
                    <a:pt x="1622" y="1396"/>
                  </a:lnTo>
                  <a:lnTo>
                    <a:pt x="1603" y="1400"/>
                  </a:lnTo>
                  <a:lnTo>
                    <a:pt x="1581" y="1404"/>
                  </a:lnTo>
                  <a:lnTo>
                    <a:pt x="1560" y="1407"/>
                  </a:lnTo>
                  <a:lnTo>
                    <a:pt x="1538" y="1409"/>
                  </a:lnTo>
                  <a:lnTo>
                    <a:pt x="1515" y="1409"/>
                  </a:lnTo>
                  <a:lnTo>
                    <a:pt x="1495" y="1409"/>
                  </a:lnTo>
                  <a:lnTo>
                    <a:pt x="1473" y="1406"/>
                  </a:lnTo>
                  <a:lnTo>
                    <a:pt x="1453" y="1403"/>
                  </a:lnTo>
                  <a:lnTo>
                    <a:pt x="1446" y="1402"/>
                  </a:lnTo>
                  <a:lnTo>
                    <a:pt x="1442" y="1398"/>
                  </a:lnTo>
                  <a:lnTo>
                    <a:pt x="1438" y="1394"/>
                  </a:lnTo>
                  <a:lnTo>
                    <a:pt x="1435" y="1388"/>
                  </a:lnTo>
                  <a:lnTo>
                    <a:pt x="1431" y="1383"/>
                  </a:lnTo>
                  <a:lnTo>
                    <a:pt x="1428" y="1380"/>
                  </a:lnTo>
                  <a:lnTo>
                    <a:pt x="1423" y="1380"/>
                  </a:lnTo>
                  <a:lnTo>
                    <a:pt x="1416" y="1383"/>
                  </a:lnTo>
                  <a:lnTo>
                    <a:pt x="1404" y="1391"/>
                  </a:lnTo>
                  <a:lnTo>
                    <a:pt x="1391" y="1398"/>
                  </a:lnTo>
                  <a:lnTo>
                    <a:pt x="1378" y="1406"/>
                  </a:lnTo>
                  <a:lnTo>
                    <a:pt x="1366" y="1414"/>
                  </a:lnTo>
                  <a:lnTo>
                    <a:pt x="1353" y="1422"/>
                  </a:lnTo>
                  <a:lnTo>
                    <a:pt x="1340" y="1430"/>
                  </a:lnTo>
                  <a:lnTo>
                    <a:pt x="1328" y="1437"/>
                  </a:lnTo>
                  <a:lnTo>
                    <a:pt x="1316" y="1445"/>
                  </a:lnTo>
                  <a:lnTo>
                    <a:pt x="1303" y="1453"/>
                  </a:lnTo>
                  <a:lnTo>
                    <a:pt x="1291" y="1460"/>
                  </a:lnTo>
                  <a:lnTo>
                    <a:pt x="1278" y="1467"/>
                  </a:lnTo>
                  <a:lnTo>
                    <a:pt x="1264" y="1475"/>
                  </a:lnTo>
                  <a:lnTo>
                    <a:pt x="1252" y="1482"/>
                  </a:lnTo>
                  <a:lnTo>
                    <a:pt x="1239" y="1488"/>
                  </a:lnTo>
                  <a:lnTo>
                    <a:pt x="1225" y="1495"/>
                  </a:lnTo>
                  <a:lnTo>
                    <a:pt x="1211" y="1501"/>
                  </a:lnTo>
                  <a:lnTo>
                    <a:pt x="1211" y="1503"/>
                  </a:lnTo>
                  <a:lnTo>
                    <a:pt x="1210" y="1506"/>
                  </a:lnTo>
                  <a:lnTo>
                    <a:pt x="1210" y="1510"/>
                  </a:lnTo>
                  <a:lnTo>
                    <a:pt x="1209" y="1513"/>
                  </a:lnTo>
                  <a:lnTo>
                    <a:pt x="1195" y="1518"/>
                  </a:lnTo>
                  <a:lnTo>
                    <a:pt x="1181" y="1523"/>
                  </a:lnTo>
                  <a:lnTo>
                    <a:pt x="1166" y="1525"/>
                  </a:lnTo>
                  <a:lnTo>
                    <a:pt x="1153" y="1528"/>
                  </a:lnTo>
                  <a:lnTo>
                    <a:pt x="1138" y="1531"/>
                  </a:lnTo>
                  <a:lnTo>
                    <a:pt x="1123" y="1532"/>
                  </a:lnTo>
                  <a:lnTo>
                    <a:pt x="1108" y="1533"/>
                  </a:lnTo>
                  <a:lnTo>
                    <a:pt x="1092" y="1534"/>
                  </a:lnTo>
                  <a:lnTo>
                    <a:pt x="1077" y="1535"/>
                  </a:lnTo>
                  <a:lnTo>
                    <a:pt x="1062" y="1535"/>
                  </a:lnTo>
                  <a:lnTo>
                    <a:pt x="1045" y="1536"/>
                  </a:lnTo>
                  <a:lnTo>
                    <a:pt x="1030" y="1538"/>
                  </a:lnTo>
                  <a:lnTo>
                    <a:pt x="1016" y="1538"/>
                  </a:lnTo>
                  <a:lnTo>
                    <a:pt x="1001" y="1539"/>
                  </a:lnTo>
                  <a:lnTo>
                    <a:pt x="986" y="1540"/>
                  </a:lnTo>
                  <a:lnTo>
                    <a:pt x="971" y="1542"/>
                  </a:lnTo>
                  <a:lnTo>
                    <a:pt x="948" y="1543"/>
                  </a:lnTo>
                  <a:lnTo>
                    <a:pt x="926" y="1546"/>
                  </a:lnTo>
                  <a:lnTo>
                    <a:pt x="903" y="1547"/>
                  </a:lnTo>
                  <a:lnTo>
                    <a:pt x="881" y="1548"/>
                  </a:lnTo>
                  <a:lnTo>
                    <a:pt x="858" y="1549"/>
                  </a:lnTo>
                  <a:lnTo>
                    <a:pt x="835" y="1550"/>
                  </a:lnTo>
                  <a:lnTo>
                    <a:pt x="812" y="1551"/>
                  </a:lnTo>
                  <a:lnTo>
                    <a:pt x="789" y="1551"/>
                  </a:lnTo>
                  <a:lnTo>
                    <a:pt x="766" y="1553"/>
                  </a:lnTo>
                  <a:lnTo>
                    <a:pt x="743" y="1553"/>
                  </a:lnTo>
                  <a:lnTo>
                    <a:pt x="721" y="1553"/>
                  </a:lnTo>
                  <a:lnTo>
                    <a:pt x="698" y="1553"/>
                  </a:lnTo>
                  <a:lnTo>
                    <a:pt x="675" y="1551"/>
                  </a:lnTo>
                  <a:lnTo>
                    <a:pt x="652" y="1551"/>
                  </a:lnTo>
                  <a:lnTo>
                    <a:pt x="629" y="1550"/>
                  </a:lnTo>
                  <a:lnTo>
                    <a:pt x="606" y="1549"/>
                  </a:lnTo>
                  <a:lnTo>
                    <a:pt x="599" y="1554"/>
                  </a:lnTo>
                  <a:lnTo>
                    <a:pt x="591" y="1555"/>
                  </a:lnTo>
                  <a:lnTo>
                    <a:pt x="584" y="1556"/>
                  </a:lnTo>
                  <a:lnTo>
                    <a:pt x="576" y="1555"/>
                  </a:lnTo>
                  <a:lnTo>
                    <a:pt x="568" y="1553"/>
                  </a:lnTo>
                  <a:lnTo>
                    <a:pt x="559" y="1551"/>
                  </a:lnTo>
                  <a:lnTo>
                    <a:pt x="551" y="1551"/>
                  </a:lnTo>
                  <a:lnTo>
                    <a:pt x="543" y="1551"/>
                  </a:lnTo>
                  <a:lnTo>
                    <a:pt x="518" y="1548"/>
                  </a:lnTo>
                  <a:lnTo>
                    <a:pt x="493" y="1544"/>
                  </a:lnTo>
                  <a:lnTo>
                    <a:pt x="467" y="1541"/>
                  </a:lnTo>
                  <a:lnTo>
                    <a:pt x="442" y="1539"/>
                  </a:lnTo>
                  <a:lnTo>
                    <a:pt x="417" y="1535"/>
                  </a:lnTo>
                  <a:lnTo>
                    <a:pt x="390" y="1532"/>
                  </a:lnTo>
                  <a:lnTo>
                    <a:pt x="365" y="1530"/>
                  </a:lnTo>
                  <a:lnTo>
                    <a:pt x="339" y="1526"/>
                  </a:lnTo>
                  <a:lnTo>
                    <a:pt x="314" y="1523"/>
                  </a:lnTo>
                  <a:lnTo>
                    <a:pt x="289" y="1519"/>
                  </a:lnTo>
                  <a:lnTo>
                    <a:pt x="263" y="1516"/>
                  </a:lnTo>
                  <a:lnTo>
                    <a:pt x="238" y="1512"/>
                  </a:lnTo>
                  <a:lnTo>
                    <a:pt x="214" y="1508"/>
                  </a:lnTo>
                  <a:lnTo>
                    <a:pt x="189" y="1503"/>
                  </a:lnTo>
                  <a:lnTo>
                    <a:pt x="164" y="1497"/>
                  </a:lnTo>
                  <a:lnTo>
                    <a:pt x="140" y="1491"/>
                  </a:lnTo>
                  <a:lnTo>
                    <a:pt x="128" y="1486"/>
                  </a:lnTo>
                  <a:lnTo>
                    <a:pt x="114" y="1480"/>
                  </a:lnTo>
                  <a:lnTo>
                    <a:pt x="101" y="1474"/>
                  </a:lnTo>
                  <a:lnTo>
                    <a:pt x="88" y="1468"/>
                  </a:lnTo>
                  <a:lnTo>
                    <a:pt x="76" y="1462"/>
                  </a:lnTo>
                  <a:lnTo>
                    <a:pt x="65" y="1453"/>
                  </a:lnTo>
                  <a:lnTo>
                    <a:pt x="55" y="1443"/>
                  </a:lnTo>
                  <a:lnTo>
                    <a:pt x="47" y="1430"/>
                  </a:lnTo>
                  <a:lnTo>
                    <a:pt x="46" y="1426"/>
                  </a:lnTo>
                  <a:lnTo>
                    <a:pt x="45" y="1420"/>
                  </a:lnTo>
                  <a:lnTo>
                    <a:pt x="43" y="1415"/>
                  </a:lnTo>
                  <a:lnTo>
                    <a:pt x="45" y="1411"/>
                  </a:lnTo>
                  <a:lnTo>
                    <a:pt x="39" y="1407"/>
                  </a:lnTo>
                  <a:lnTo>
                    <a:pt x="33" y="1405"/>
                  </a:lnTo>
                  <a:lnTo>
                    <a:pt x="26" y="1404"/>
                  </a:lnTo>
                  <a:lnTo>
                    <a:pt x="20" y="1403"/>
                  </a:lnTo>
                  <a:lnTo>
                    <a:pt x="14" y="1402"/>
                  </a:lnTo>
                  <a:lnTo>
                    <a:pt x="9" y="1399"/>
                  </a:lnTo>
                  <a:lnTo>
                    <a:pt x="3" y="1396"/>
                  </a:lnTo>
                  <a:lnTo>
                    <a:pt x="0" y="1389"/>
                  </a:lnTo>
                  <a:lnTo>
                    <a:pt x="8" y="1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98720" y="1677960"/>
              <a:ext cx="1675080" cy="1023840"/>
            </a:xfrm>
            <a:custGeom>
              <a:avLst/>
              <a:gdLst/>
              <a:ahLst/>
              <a:rect l="l" t="t" r="r" b="b"/>
              <a:pathLst>
                <a:path w="2110" h="1290">
                  <a:moveTo>
                    <a:pt x="23" y="1124"/>
                  </a:moveTo>
                  <a:lnTo>
                    <a:pt x="28" y="1118"/>
                  </a:lnTo>
                  <a:lnTo>
                    <a:pt x="34" y="1116"/>
                  </a:lnTo>
                  <a:lnTo>
                    <a:pt x="41" y="1115"/>
                  </a:lnTo>
                  <a:lnTo>
                    <a:pt x="48" y="1114"/>
                  </a:lnTo>
                  <a:lnTo>
                    <a:pt x="53" y="1113"/>
                  </a:lnTo>
                  <a:lnTo>
                    <a:pt x="58" y="1110"/>
                  </a:lnTo>
                  <a:lnTo>
                    <a:pt x="59" y="1105"/>
                  </a:lnTo>
                  <a:lnTo>
                    <a:pt x="58" y="1095"/>
                  </a:lnTo>
                  <a:lnTo>
                    <a:pt x="75" y="1105"/>
                  </a:lnTo>
                  <a:lnTo>
                    <a:pt x="92" y="1110"/>
                  </a:lnTo>
                  <a:lnTo>
                    <a:pt x="111" y="1115"/>
                  </a:lnTo>
                  <a:lnTo>
                    <a:pt x="129" y="1118"/>
                  </a:lnTo>
                  <a:lnTo>
                    <a:pt x="148" y="1121"/>
                  </a:lnTo>
                  <a:lnTo>
                    <a:pt x="167" y="1123"/>
                  </a:lnTo>
                  <a:lnTo>
                    <a:pt x="186" y="1125"/>
                  </a:lnTo>
                  <a:lnTo>
                    <a:pt x="205" y="1128"/>
                  </a:lnTo>
                  <a:lnTo>
                    <a:pt x="218" y="1128"/>
                  </a:lnTo>
                  <a:lnTo>
                    <a:pt x="231" y="1128"/>
                  </a:lnTo>
                  <a:lnTo>
                    <a:pt x="243" y="1126"/>
                  </a:lnTo>
                  <a:lnTo>
                    <a:pt x="256" y="1125"/>
                  </a:lnTo>
                  <a:lnTo>
                    <a:pt x="269" y="1125"/>
                  </a:lnTo>
                  <a:lnTo>
                    <a:pt x="283" y="1124"/>
                  </a:lnTo>
                  <a:lnTo>
                    <a:pt x="295" y="1123"/>
                  </a:lnTo>
                  <a:lnTo>
                    <a:pt x="308" y="1122"/>
                  </a:lnTo>
                  <a:lnTo>
                    <a:pt x="322" y="1122"/>
                  </a:lnTo>
                  <a:lnTo>
                    <a:pt x="334" y="1122"/>
                  </a:lnTo>
                  <a:lnTo>
                    <a:pt x="347" y="1122"/>
                  </a:lnTo>
                  <a:lnTo>
                    <a:pt x="360" y="1122"/>
                  </a:lnTo>
                  <a:lnTo>
                    <a:pt x="372" y="1123"/>
                  </a:lnTo>
                  <a:lnTo>
                    <a:pt x="384" y="1124"/>
                  </a:lnTo>
                  <a:lnTo>
                    <a:pt x="395" y="1125"/>
                  </a:lnTo>
                  <a:lnTo>
                    <a:pt x="407" y="1128"/>
                  </a:lnTo>
                  <a:lnTo>
                    <a:pt x="414" y="1117"/>
                  </a:lnTo>
                  <a:lnTo>
                    <a:pt x="406" y="1101"/>
                  </a:lnTo>
                  <a:lnTo>
                    <a:pt x="398" y="1085"/>
                  </a:lnTo>
                  <a:lnTo>
                    <a:pt x="388" y="1069"/>
                  </a:lnTo>
                  <a:lnTo>
                    <a:pt x="379" y="1053"/>
                  </a:lnTo>
                  <a:lnTo>
                    <a:pt x="369" y="1038"/>
                  </a:lnTo>
                  <a:lnTo>
                    <a:pt x="359" y="1023"/>
                  </a:lnTo>
                  <a:lnTo>
                    <a:pt x="347" y="1009"/>
                  </a:lnTo>
                  <a:lnTo>
                    <a:pt x="334" y="995"/>
                  </a:lnTo>
                  <a:lnTo>
                    <a:pt x="318" y="993"/>
                  </a:lnTo>
                  <a:lnTo>
                    <a:pt x="302" y="991"/>
                  </a:lnTo>
                  <a:lnTo>
                    <a:pt x="286" y="989"/>
                  </a:lnTo>
                  <a:lnTo>
                    <a:pt x="270" y="987"/>
                  </a:lnTo>
                  <a:lnTo>
                    <a:pt x="254" y="986"/>
                  </a:lnTo>
                  <a:lnTo>
                    <a:pt x="239" y="984"/>
                  </a:lnTo>
                  <a:lnTo>
                    <a:pt x="224" y="982"/>
                  </a:lnTo>
                  <a:lnTo>
                    <a:pt x="208" y="981"/>
                  </a:lnTo>
                  <a:lnTo>
                    <a:pt x="193" y="980"/>
                  </a:lnTo>
                  <a:lnTo>
                    <a:pt x="178" y="979"/>
                  </a:lnTo>
                  <a:lnTo>
                    <a:pt x="162" y="978"/>
                  </a:lnTo>
                  <a:lnTo>
                    <a:pt x="147" y="977"/>
                  </a:lnTo>
                  <a:lnTo>
                    <a:pt x="131" y="976"/>
                  </a:lnTo>
                  <a:lnTo>
                    <a:pt x="116" y="974"/>
                  </a:lnTo>
                  <a:lnTo>
                    <a:pt x="99" y="973"/>
                  </a:lnTo>
                  <a:lnTo>
                    <a:pt x="83" y="972"/>
                  </a:lnTo>
                  <a:lnTo>
                    <a:pt x="90" y="949"/>
                  </a:lnTo>
                  <a:lnTo>
                    <a:pt x="97" y="927"/>
                  </a:lnTo>
                  <a:lnTo>
                    <a:pt x="105" y="905"/>
                  </a:lnTo>
                  <a:lnTo>
                    <a:pt x="114" y="883"/>
                  </a:lnTo>
                  <a:lnTo>
                    <a:pt x="125" y="863"/>
                  </a:lnTo>
                  <a:lnTo>
                    <a:pt x="135" y="842"/>
                  </a:lnTo>
                  <a:lnTo>
                    <a:pt x="147" y="821"/>
                  </a:lnTo>
                  <a:lnTo>
                    <a:pt x="159" y="800"/>
                  </a:lnTo>
                  <a:lnTo>
                    <a:pt x="172" y="781"/>
                  </a:lnTo>
                  <a:lnTo>
                    <a:pt x="186" y="761"/>
                  </a:lnTo>
                  <a:lnTo>
                    <a:pt x="201" y="742"/>
                  </a:lnTo>
                  <a:lnTo>
                    <a:pt x="215" y="723"/>
                  </a:lnTo>
                  <a:lnTo>
                    <a:pt x="231" y="704"/>
                  </a:lnTo>
                  <a:lnTo>
                    <a:pt x="247" y="685"/>
                  </a:lnTo>
                  <a:lnTo>
                    <a:pt x="263" y="668"/>
                  </a:lnTo>
                  <a:lnTo>
                    <a:pt x="280" y="649"/>
                  </a:lnTo>
                  <a:lnTo>
                    <a:pt x="297" y="633"/>
                  </a:lnTo>
                  <a:lnTo>
                    <a:pt x="316" y="617"/>
                  </a:lnTo>
                  <a:lnTo>
                    <a:pt x="333" y="601"/>
                  </a:lnTo>
                  <a:lnTo>
                    <a:pt x="352" y="586"/>
                  </a:lnTo>
                  <a:lnTo>
                    <a:pt x="371" y="571"/>
                  </a:lnTo>
                  <a:lnTo>
                    <a:pt x="390" y="557"/>
                  </a:lnTo>
                  <a:lnTo>
                    <a:pt x="409" y="543"/>
                  </a:lnTo>
                  <a:lnTo>
                    <a:pt x="429" y="530"/>
                  </a:lnTo>
                  <a:lnTo>
                    <a:pt x="450" y="517"/>
                  </a:lnTo>
                  <a:lnTo>
                    <a:pt x="469" y="504"/>
                  </a:lnTo>
                  <a:lnTo>
                    <a:pt x="490" y="492"/>
                  </a:lnTo>
                  <a:lnTo>
                    <a:pt x="511" y="480"/>
                  </a:lnTo>
                  <a:lnTo>
                    <a:pt x="531" y="470"/>
                  </a:lnTo>
                  <a:lnTo>
                    <a:pt x="552" y="459"/>
                  </a:lnTo>
                  <a:lnTo>
                    <a:pt x="573" y="449"/>
                  </a:lnTo>
                  <a:lnTo>
                    <a:pt x="595" y="440"/>
                  </a:lnTo>
                  <a:lnTo>
                    <a:pt x="600" y="447"/>
                  </a:lnTo>
                  <a:lnTo>
                    <a:pt x="606" y="455"/>
                  </a:lnTo>
                  <a:lnTo>
                    <a:pt x="611" y="463"/>
                  </a:lnTo>
                  <a:lnTo>
                    <a:pt x="617" y="471"/>
                  </a:lnTo>
                  <a:lnTo>
                    <a:pt x="603" y="475"/>
                  </a:lnTo>
                  <a:lnTo>
                    <a:pt x="590" y="481"/>
                  </a:lnTo>
                  <a:lnTo>
                    <a:pt x="576" y="486"/>
                  </a:lnTo>
                  <a:lnTo>
                    <a:pt x="564" y="492"/>
                  </a:lnTo>
                  <a:lnTo>
                    <a:pt x="551" y="497"/>
                  </a:lnTo>
                  <a:lnTo>
                    <a:pt x="537" y="504"/>
                  </a:lnTo>
                  <a:lnTo>
                    <a:pt x="524" y="511"/>
                  </a:lnTo>
                  <a:lnTo>
                    <a:pt x="512" y="517"/>
                  </a:lnTo>
                  <a:lnTo>
                    <a:pt x="500" y="525"/>
                  </a:lnTo>
                  <a:lnTo>
                    <a:pt x="488" y="532"/>
                  </a:lnTo>
                  <a:lnTo>
                    <a:pt x="475" y="540"/>
                  </a:lnTo>
                  <a:lnTo>
                    <a:pt x="463" y="548"/>
                  </a:lnTo>
                  <a:lnTo>
                    <a:pt x="452" y="557"/>
                  </a:lnTo>
                  <a:lnTo>
                    <a:pt x="440" y="565"/>
                  </a:lnTo>
                  <a:lnTo>
                    <a:pt x="429" y="576"/>
                  </a:lnTo>
                  <a:lnTo>
                    <a:pt x="417" y="585"/>
                  </a:lnTo>
                  <a:lnTo>
                    <a:pt x="403" y="598"/>
                  </a:lnTo>
                  <a:lnTo>
                    <a:pt x="388" y="611"/>
                  </a:lnTo>
                  <a:lnTo>
                    <a:pt x="375" y="625"/>
                  </a:lnTo>
                  <a:lnTo>
                    <a:pt x="360" y="639"/>
                  </a:lnTo>
                  <a:lnTo>
                    <a:pt x="346" y="654"/>
                  </a:lnTo>
                  <a:lnTo>
                    <a:pt x="331" y="669"/>
                  </a:lnTo>
                  <a:lnTo>
                    <a:pt x="317" y="684"/>
                  </a:lnTo>
                  <a:lnTo>
                    <a:pt x="303" y="699"/>
                  </a:lnTo>
                  <a:lnTo>
                    <a:pt x="289" y="715"/>
                  </a:lnTo>
                  <a:lnTo>
                    <a:pt x="277" y="730"/>
                  </a:lnTo>
                  <a:lnTo>
                    <a:pt x="264" y="746"/>
                  </a:lnTo>
                  <a:lnTo>
                    <a:pt x="253" y="762"/>
                  </a:lnTo>
                  <a:lnTo>
                    <a:pt x="241" y="780"/>
                  </a:lnTo>
                  <a:lnTo>
                    <a:pt x="231" y="796"/>
                  </a:lnTo>
                  <a:lnTo>
                    <a:pt x="221" y="812"/>
                  </a:lnTo>
                  <a:lnTo>
                    <a:pt x="212" y="829"/>
                  </a:lnTo>
                  <a:lnTo>
                    <a:pt x="208" y="831"/>
                  </a:lnTo>
                  <a:lnTo>
                    <a:pt x="203" y="833"/>
                  </a:lnTo>
                  <a:lnTo>
                    <a:pt x="198" y="835"/>
                  </a:lnTo>
                  <a:lnTo>
                    <a:pt x="197" y="840"/>
                  </a:lnTo>
                  <a:lnTo>
                    <a:pt x="198" y="844"/>
                  </a:lnTo>
                  <a:lnTo>
                    <a:pt x="202" y="846"/>
                  </a:lnTo>
                  <a:lnTo>
                    <a:pt x="208" y="848"/>
                  </a:lnTo>
                  <a:lnTo>
                    <a:pt x="212" y="848"/>
                  </a:lnTo>
                  <a:lnTo>
                    <a:pt x="230" y="849"/>
                  </a:lnTo>
                  <a:lnTo>
                    <a:pt x="248" y="851"/>
                  </a:lnTo>
                  <a:lnTo>
                    <a:pt x="265" y="853"/>
                  </a:lnTo>
                  <a:lnTo>
                    <a:pt x="283" y="857"/>
                  </a:lnTo>
                  <a:lnTo>
                    <a:pt x="299" y="860"/>
                  </a:lnTo>
                  <a:lnTo>
                    <a:pt x="316" y="866"/>
                  </a:lnTo>
                  <a:lnTo>
                    <a:pt x="332" y="871"/>
                  </a:lnTo>
                  <a:lnTo>
                    <a:pt x="348" y="876"/>
                  </a:lnTo>
                  <a:lnTo>
                    <a:pt x="363" y="883"/>
                  </a:lnTo>
                  <a:lnTo>
                    <a:pt x="379" y="890"/>
                  </a:lnTo>
                  <a:lnTo>
                    <a:pt x="394" y="898"/>
                  </a:lnTo>
                  <a:lnTo>
                    <a:pt x="409" y="908"/>
                  </a:lnTo>
                  <a:lnTo>
                    <a:pt x="424" y="916"/>
                  </a:lnTo>
                  <a:lnTo>
                    <a:pt x="439" y="926"/>
                  </a:lnTo>
                  <a:lnTo>
                    <a:pt x="453" y="936"/>
                  </a:lnTo>
                  <a:lnTo>
                    <a:pt x="467" y="947"/>
                  </a:lnTo>
                  <a:lnTo>
                    <a:pt x="471" y="942"/>
                  </a:lnTo>
                  <a:lnTo>
                    <a:pt x="478" y="940"/>
                  </a:lnTo>
                  <a:lnTo>
                    <a:pt x="486" y="940"/>
                  </a:lnTo>
                  <a:lnTo>
                    <a:pt x="493" y="941"/>
                  </a:lnTo>
                  <a:lnTo>
                    <a:pt x="511" y="941"/>
                  </a:lnTo>
                  <a:lnTo>
                    <a:pt x="528" y="941"/>
                  </a:lnTo>
                  <a:lnTo>
                    <a:pt x="545" y="941"/>
                  </a:lnTo>
                  <a:lnTo>
                    <a:pt x="562" y="941"/>
                  </a:lnTo>
                  <a:lnTo>
                    <a:pt x="580" y="942"/>
                  </a:lnTo>
                  <a:lnTo>
                    <a:pt x="597" y="942"/>
                  </a:lnTo>
                  <a:lnTo>
                    <a:pt x="614" y="943"/>
                  </a:lnTo>
                  <a:lnTo>
                    <a:pt x="631" y="943"/>
                  </a:lnTo>
                  <a:lnTo>
                    <a:pt x="649" y="944"/>
                  </a:lnTo>
                  <a:lnTo>
                    <a:pt x="666" y="944"/>
                  </a:lnTo>
                  <a:lnTo>
                    <a:pt x="683" y="946"/>
                  </a:lnTo>
                  <a:lnTo>
                    <a:pt x="701" y="946"/>
                  </a:lnTo>
                  <a:lnTo>
                    <a:pt x="718" y="946"/>
                  </a:lnTo>
                  <a:lnTo>
                    <a:pt x="736" y="946"/>
                  </a:lnTo>
                  <a:lnTo>
                    <a:pt x="754" y="946"/>
                  </a:lnTo>
                  <a:lnTo>
                    <a:pt x="772" y="946"/>
                  </a:lnTo>
                  <a:lnTo>
                    <a:pt x="780" y="949"/>
                  </a:lnTo>
                  <a:lnTo>
                    <a:pt x="789" y="948"/>
                  </a:lnTo>
                  <a:lnTo>
                    <a:pt x="797" y="944"/>
                  </a:lnTo>
                  <a:lnTo>
                    <a:pt x="805" y="944"/>
                  </a:lnTo>
                  <a:lnTo>
                    <a:pt x="813" y="944"/>
                  </a:lnTo>
                  <a:lnTo>
                    <a:pt x="823" y="944"/>
                  </a:lnTo>
                  <a:lnTo>
                    <a:pt x="831" y="944"/>
                  </a:lnTo>
                  <a:lnTo>
                    <a:pt x="839" y="943"/>
                  </a:lnTo>
                  <a:lnTo>
                    <a:pt x="848" y="944"/>
                  </a:lnTo>
                  <a:lnTo>
                    <a:pt x="856" y="944"/>
                  </a:lnTo>
                  <a:lnTo>
                    <a:pt x="863" y="946"/>
                  </a:lnTo>
                  <a:lnTo>
                    <a:pt x="871" y="947"/>
                  </a:lnTo>
                  <a:lnTo>
                    <a:pt x="886" y="940"/>
                  </a:lnTo>
                  <a:lnTo>
                    <a:pt x="901" y="933"/>
                  </a:lnTo>
                  <a:lnTo>
                    <a:pt x="917" y="927"/>
                  </a:lnTo>
                  <a:lnTo>
                    <a:pt x="932" y="923"/>
                  </a:lnTo>
                  <a:lnTo>
                    <a:pt x="948" y="918"/>
                  </a:lnTo>
                  <a:lnTo>
                    <a:pt x="964" y="913"/>
                  </a:lnTo>
                  <a:lnTo>
                    <a:pt x="980" y="910"/>
                  </a:lnTo>
                  <a:lnTo>
                    <a:pt x="998" y="906"/>
                  </a:lnTo>
                  <a:lnTo>
                    <a:pt x="1014" y="903"/>
                  </a:lnTo>
                  <a:lnTo>
                    <a:pt x="1031" y="901"/>
                  </a:lnTo>
                  <a:lnTo>
                    <a:pt x="1047" y="898"/>
                  </a:lnTo>
                  <a:lnTo>
                    <a:pt x="1065" y="897"/>
                  </a:lnTo>
                  <a:lnTo>
                    <a:pt x="1082" y="896"/>
                  </a:lnTo>
                  <a:lnTo>
                    <a:pt x="1099" y="894"/>
                  </a:lnTo>
                  <a:lnTo>
                    <a:pt x="1118" y="894"/>
                  </a:lnTo>
                  <a:lnTo>
                    <a:pt x="1135" y="893"/>
                  </a:lnTo>
                  <a:lnTo>
                    <a:pt x="1146" y="893"/>
                  </a:lnTo>
                  <a:lnTo>
                    <a:pt x="1157" y="893"/>
                  </a:lnTo>
                  <a:lnTo>
                    <a:pt x="1168" y="894"/>
                  </a:lnTo>
                  <a:lnTo>
                    <a:pt x="1179" y="895"/>
                  </a:lnTo>
                  <a:lnTo>
                    <a:pt x="1189" y="896"/>
                  </a:lnTo>
                  <a:lnTo>
                    <a:pt x="1199" y="897"/>
                  </a:lnTo>
                  <a:lnTo>
                    <a:pt x="1210" y="898"/>
                  </a:lnTo>
                  <a:lnTo>
                    <a:pt x="1220" y="899"/>
                  </a:lnTo>
                  <a:lnTo>
                    <a:pt x="1222" y="897"/>
                  </a:lnTo>
                  <a:lnTo>
                    <a:pt x="1223" y="895"/>
                  </a:lnTo>
                  <a:lnTo>
                    <a:pt x="1225" y="893"/>
                  </a:lnTo>
                  <a:lnTo>
                    <a:pt x="1222" y="890"/>
                  </a:lnTo>
                  <a:lnTo>
                    <a:pt x="1218" y="886"/>
                  </a:lnTo>
                  <a:lnTo>
                    <a:pt x="1203" y="883"/>
                  </a:lnTo>
                  <a:lnTo>
                    <a:pt x="1189" y="882"/>
                  </a:lnTo>
                  <a:lnTo>
                    <a:pt x="1174" y="881"/>
                  </a:lnTo>
                  <a:lnTo>
                    <a:pt x="1158" y="881"/>
                  </a:lnTo>
                  <a:lnTo>
                    <a:pt x="1143" y="881"/>
                  </a:lnTo>
                  <a:lnTo>
                    <a:pt x="1128" y="881"/>
                  </a:lnTo>
                  <a:lnTo>
                    <a:pt x="1113" y="881"/>
                  </a:lnTo>
                  <a:lnTo>
                    <a:pt x="1098" y="881"/>
                  </a:lnTo>
                  <a:lnTo>
                    <a:pt x="1108" y="867"/>
                  </a:lnTo>
                  <a:lnTo>
                    <a:pt x="1120" y="853"/>
                  </a:lnTo>
                  <a:lnTo>
                    <a:pt x="1130" y="840"/>
                  </a:lnTo>
                  <a:lnTo>
                    <a:pt x="1141" y="826"/>
                  </a:lnTo>
                  <a:lnTo>
                    <a:pt x="1151" y="811"/>
                  </a:lnTo>
                  <a:lnTo>
                    <a:pt x="1161" y="797"/>
                  </a:lnTo>
                  <a:lnTo>
                    <a:pt x="1173" y="783"/>
                  </a:lnTo>
                  <a:lnTo>
                    <a:pt x="1183" y="768"/>
                  </a:lnTo>
                  <a:lnTo>
                    <a:pt x="1195" y="754"/>
                  </a:lnTo>
                  <a:lnTo>
                    <a:pt x="1206" y="740"/>
                  </a:lnTo>
                  <a:lnTo>
                    <a:pt x="1218" y="728"/>
                  </a:lnTo>
                  <a:lnTo>
                    <a:pt x="1229" y="714"/>
                  </a:lnTo>
                  <a:lnTo>
                    <a:pt x="1242" y="702"/>
                  </a:lnTo>
                  <a:lnTo>
                    <a:pt x="1255" y="690"/>
                  </a:lnTo>
                  <a:lnTo>
                    <a:pt x="1268" y="678"/>
                  </a:lnTo>
                  <a:lnTo>
                    <a:pt x="1282" y="668"/>
                  </a:lnTo>
                  <a:lnTo>
                    <a:pt x="1295" y="652"/>
                  </a:lnTo>
                  <a:lnTo>
                    <a:pt x="1309" y="640"/>
                  </a:lnTo>
                  <a:lnTo>
                    <a:pt x="1321" y="629"/>
                  </a:lnTo>
                  <a:lnTo>
                    <a:pt x="1335" y="616"/>
                  </a:lnTo>
                  <a:lnTo>
                    <a:pt x="1349" y="603"/>
                  </a:lnTo>
                  <a:lnTo>
                    <a:pt x="1362" y="592"/>
                  </a:lnTo>
                  <a:lnTo>
                    <a:pt x="1375" y="579"/>
                  </a:lnTo>
                  <a:lnTo>
                    <a:pt x="1388" y="566"/>
                  </a:lnTo>
                  <a:lnTo>
                    <a:pt x="1402" y="554"/>
                  </a:lnTo>
                  <a:lnTo>
                    <a:pt x="1415" y="541"/>
                  </a:lnTo>
                  <a:lnTo>
                    <a:pt x="1428" y="530"/>
                  </a:lnTo>
                  <a:lnTo>
                    <a:pt x="1442" y="517"/>
                  </a:lnTo>
                  <a:lnTo>
                    <a:pt x="1456" y="505"/>
                  </a:lnTo>
                  <a:lnTo>
                    <a:pt x="1470" y="494"/>
                  </a:lnTo>
                  <a:lnTo>
                    <a:pt x="1484" y="484"/>
                  </a:lnTo>
                  <a:lnTo>
                    <a:pt x="1498" y="473"/>
                  </a:lnTo>
                  <a:lnTo>
                    <a:pt x="1511" y="463"/>
                  </a:lnTo>
                  <a:lnTo>
                    <a:pt x="1506" y="452"/>
                  </a:lnTo>
                  <a:lnTo>
                    <a:pt x="1501" y="443"/>
                  </a:lnTo>
                  <a:lnTo>
                    <a:pt x="1499" y="435"/>
                  </a:lnTo>
                  <a:lnTo>
                    <a:pt x="1498" y="425"/>
                  </a:lnTo>
                  <a:lnTo>
                    <a:pt x="1509" y="424"/>
                  </a:lnTo>
                  <a:lnTo>
                    <a:pt x="1521" y="422"/>
                  </a:lnTo>
                  <a:lnTo>
                    <a:pt x="1532" y="424"/>
                  </a:lnTo>
                  <a:lnTo>
                    <a:pt x="1544" y="424"/>
                  </a:lnTo>
                  <a:lnTo>
                    <a:pt x="1555" y="424"/>
                  </a:lnTo>
                  <a:lnTo>
                    <a:pt x="1568" y="425"/>
                  </a:lnTo>
                  <a:lnTo>
                    <a:pt x="1580" y="425"/>
                  </a:lnTo>
                  <a:lnTo>
                    <a:pt x="1593" y="425"/>
                  </a:lnTo>
                  <a:lnTo>
                    <a:pt x="1587" y="437"/>
                  </a:lnTo>
                  <a:lnTo>
                    <a:pt x="1583" y="452"/>
                  </a:lnTo>
                  <a:lnTo>
                    <a:pt x="1580" y="467"/>
                  </a:lnTo>
                  <a:lnTo>
                    <a:pt x="1585" y="481"/>
                  </a:lnTo>
                  <a:lnTo>
                    <a:pt x="1592" y="486"/>
                  </a:lnTo>
                  <a:lnTo>
                    <a:pt x="1600" y="488"/>
                  </a:lnTo>
                  <a:lnTo>
                    <a:pt x="1608" y="489"/>
                  </a:lnTo>
                  <a:lnTo>
                    <a:pt x="1617" y="487"/>
                  </a:lnTo>
                  <a:lnTo>
                    <a:pt x="1625" y="485"/>
                  </a:lnTo>
                  <a:lnTo>
                    <a:pt x="1633" y="481"/>
                  </a:lnTo>
                  <a:lnTo>
                    <a:pt x="1642" y="478"/>
                  </a:lnTo>
                  <a:lnTo>
                    <a:pt x="1650" y="474"/>
                  </a:lnTo>
                  <a:lnTo>
                    <a:pt x="1652" y="472"/>
                  </a:lnTo>
                  <a:lnTo>
                    <a:pt x="1654" y="469"/>
                  </a:lnTo>
                  <a:lnTo>
                    <a:pt x="1654" y="466"/>
                  </a:lnTo>
                  <a:lnTo>
                    <a:pt x="1653" y="463"/>
                  </a:lnTo>
                  <a:lnTo>
                    <a:pt x="1645" y="462"/>
                  </a:lnTo>
                  <a:lnTo>
                    <a:pt x="1638" y="466"/>
                  </a:lnTo>
                  <a:lnTo>
                    <a:pt x="1630" y="472"/>
                  </a:lnTo>
                  <a:lnTo>
                    <a:pt x="1622" y="474"/>
                  </a:lnTo>
                  <a:lnTo>
                    <a:pt x="1615" y="475"/>
                  </a:lnTo>
                  <a:lnTo>
                    <a:pt x="1608" y="477"/>
                  </a:lnTo>
                  <a:lnTo>
                    <a:pt x="1601" y="478"/>
                  </a:lnTo>
                  <a:lnTo>
                    <a:pt x="1595" y="474"/>
                  </a:lnTo>
                  <a:lnTo>
                    <a:pt x="1593" y="462"/>
                  </a:lnTo>
                  <a:lnTo>
                    <a:pt x="1595" y="450"/>
                  </a:lnTo>
                  <a:lnTo>
                    <a:pt x="1600" y="437"/>
                  </a:lnTo>
                  <a:lnTo>
                    <a:pt x="1606" y="427"/>
                  </a:lnTo>
                  <a:lnTo>
                    <a:pt x="1613" y="425"/>
                  </a:lnTo>
                  <a:lnTo>
                    <a:pt x="1616" y="421"/>
                  </a:lnTo>
                  <a:lnTo>
                    <a:pt x="1618" y="417"/>
                  </a:lnTo>
                  <a:lnTo>
                    <a:pt x="1621" y="411"/>
                  </a:lnTo>
                  <a:lnTo>
                    <a:pt x="1630" y="403"/>
                  </a:lnTo>
                  <a:lnTo>
                    <a:pt x="1640" y="397"/>
                  </a:lnTo>
                  <a:lnTo>
                    <a:pt x="1651" y="391"/>
                  </a:lnTo>
                  <a:lnTo>
                    <a:pt x="1661" y="387"/>
                  </a:lnTo>
                  <a:lnTo>
                    <a:pt x="1673" y="383"/>
                  </a:lnTo>
                  <a:lnTo>
                    <a:pt x="1684" y="381"/>
                  </a:lnTo>
                  <a:lnTo>
                    <a:pt x="1696" y="380"/>
                  </a:lnTo>
                  <a:lnTo>
                    <a:pt x="1708" y="378"/>
                  </a:lnTo>
                  <a:lnTo>
                    <a:pt x="1720" y="378"/>
                  </a:lnTo>
                  <a:lnTo>
                    <a:pt x="1733" y="378"/>
                  </a:lnTo>
                  <a:lnTo>
                    <a:pt x="1744" y="376"/>
                  </a:lnTo>
                  <a:lnTo>
                    <a:pt x="1757" y="376"/>
                  </a:lnTo>
                  <a:lnTo>
                    <a:pt x="1768" y="378"/>
                  </a:lnTo>
                  <a:lnTo>
                    <a:pt x="1781" y="378"/>
                  </a:lnTo>
                  <a:lnTo>
                    <a:pt x="1794" y="376"/>
                  </a:lnTo>
                  <a:lnTo>
                    <a:pt x="1805" y="376"/>
                  </a:lnTo>
                  <a:lnTo>
                    <a:pt x="1810" y="388"/>
                  </a:lnTo>
                  <a:lnTo>
                    <a:pt x="1810" y="399"/>
                  </a:lnTo>
                  <a:lnTo>
                    <a:pt x="1807" y="412"/>
                  </a:lnTo>
                  <a:lnTo>
                    <a:pt x="1803" y="424"/>
                  </a:lnTo>
                  <a:lnTo>
                    <a:pt x="1795" y="432"/>
                  </a:lnTo>
                  <a:lnTo>
                    <a:pt x="1785" y="437"/>
                  </a:lnTo>
                  <a:lnTo>
                    <a:pt x="1775" y="441"/>
                  </a:lnTo>
                  <a:lnTo>
                    <a:pt x="1765" y="443"/>
                  </a:lnTo>
                  <a:lnTo>
                    <a:pt x="1753" y="444"/>
                  </a:lnTo>
                  <a:lnTo>
                    <a:pt x="1741" y="444"/>
                  </a:lnTo>
                  <a:lnTo>
                    <a:pt x="1729" y="445"/>
                  </a:lnTo>
                  <a:lnTo>
                    <a:pt x="1718" y="447"/>
                  </a:lnTo>
                  <a:lnTo>
                    <a:pt x="1709" y="445"/>
                  </a:lnTo>
                  <a:lnTo>
                    <a:pt x="1700" y="444"/>
                  </a:lnTo>
                  <a:lnTo>
                    <a:pt x="1692" y="442"/>
                  </a:lnTo>
                  <a:lnTo>
                    <a:pt x="1685" y="439"/>
                  </a:lnTo>
                  <a:lnTo>
                    <a:pt x="1678" y="434"/>
                  </a:lnTo>
                  <a:lnTo>
                    <a:pt x="1671" y="428"/>
                  </a:lnTo>
                  <a:lnTo>
                    <a:pt x="1667" y="422"/>
                  </a:lnTo>
                  <a:lnTo>
                    <a:pt x="1663" y="414"/>
                  </a:lnTo>
                  <a:lnTo>
                    <a:pt x="1661" y="413"/>
                  </a:lnTo>
                  <a:lnTo>
                    <a:pt x="1659" y="414"/>
                  </a:lnTo>
                  <a:lnTo>
                    <a:pt x="1657" y="416"/>
                  </a:lnTo>
                  <a:lnTo>
                    <a:pt x="1655" y="418"/>
                  </a:lnTo>
                  <a:lnTo>
                    <a:pt x="1658" y="431"/>
                  </a:lnTo>
                  <a:lnTo>
                    <a:pt x="1665" y="442"/>
                  </a:lnTo>
                  <a:lnTo>
                    <a:pt x="1674" y="450"/>
                  </a:lnTo>
                  <a:lnTo>
                    <a:pt x="1685" y="456"/>
                  </a:lnTo>
                  <a:lnTo>
                    <a:pt x="1700" y="458"/>
                  </a:lnTo>
                  <a:lnTo>
                    <a:pt x="1716" y="459"/>
                  </a:lnTo>
                  <a:lnTo>
                    <a:pt x="1733" y="459"/>
                  </a:lnTo>
                  <a:lnTo>
                    <a:pt x="1749" y="459"/>
                  </a:lnTo>
                  <a:lnTo>
                    <a:pt x="1764" y="457"/>
                  </a:lnTo>
                  <a:lnTo>
                    <a:pt x="1780" y="452"/>
                  </a:lnTo>
                  <a:lnTo>
                    <a:pt x="1795" y="448"/>
                  </a:lnTo>
                  <a:lnTo>
                    <a:pt x="1809" y="440"/>
                  </a:lnTo>
                  <a:lnTo>
                    <a:pt x="1818" y="425"/>
                  </a:lnTo>
                  <a:lnTo>
                    <a:pt x="1823" y="406"/>
                  </a:lnTo>
                  <a:lnTo>
                    <a:pt x="1823" y="388"/>
                  </a:lnTo>
                  <a:lnTo>
                    <a:pt x="1819" y="371"/>
                  </a:lnTo>
                  <a:lnTo>
                    <a:pt x="1813" y="365"/>
                  </a:lnTo>
                  <a:lnTo>
                    <a:pt x="1805" y="363"/>
                  </a:lnTo>
                  <a:lnTo>
                    <a:pt x="1797" y="361"/>
                  </a:lnTo>
                  <a:lnTo>
                    <a:pt x="1788" y="360"/>
                  </a:lnTo>
                  <a:lnTo>
                    <a:pt x="1777" y="361"/>
                  </a:lnTo>
                  <a:lnTo>
                    <a:pt x="1768" y="363"/>
                  </a:lnTo>
                  <a:lnTo>
                    <a:pt x="1760" y="364"/>
                  </a:lnTo>
                  <a:lnTo>
                    <a:pt x="1752" y="364"/>
                  </a:lnTo>
                  <a:lnTo>
                    <a:pt x="1743" y="365"/>
                  </a:lnTo>
                  <a:lnTo>
                    <a:pt x="1733" y="365"/>
                  </a:lnTo>
                  <a:lnTo>
                    <a:pt x="1721" y="365"/>
                  </a:lnTo>
                  <a:lnTo>
                    <a:pt x="1709" y="365"/>
                  </a:lnTo>
                  <a:lnTo>
                    <a:pt x="1697" y="366"/>
                  </a:lnTo>
                  <a:lnTo>
                    <a:pt x="1685" y="367"/>
                  </a:lnTo>
                  <a:lnTo>
                    <a:pt x="1674" y="369"/>
                  </a:lnTo>
                  <a:lnTo>
                    <a:pt x="1663" y="373"/>
                  </a:lnTo>
                  <a:lnTo>
                    <a:pt x="1762" y="271"/>
                  </a:lnTo>
                  <a:lnTo>
                    <a:pt x="1762" y="267"/>
                  </a:lnTo>
                  <a:lnTo>
                    <a:pt x="1760" y="262"/>
                  </a:lnTo>
                  <a:lnTo>
                    <a:pt x="1757" y="260"/>
                  </a:lnTo>
                  <a:lnTo>
                    <a:pt x="1754" y="257"/>
                  </a:lnTo>
                  <a:lnTo>
                    <a:pt x="1744" y="235"/>
                  </a:lnTo>
                  <a:lnTo>
                    <a:pt x="1734" y="212"/>
                  </a:lnTo>
                  <a:lnTo>
                    <a:pt x="1723" y="190"/>
                  </a:lnTo>
                  <a:lnTo>
                    <a:pt x="1713" y="167"/>
                  </a:lnTo>
                  <a:lnTo>
                    <a:pt x="1703" y="145"/>
                  </a:lnTo>
                  <a:lnTo>
                    <a:pt x="1691" y="123"/>
                  </a:lnTo>
                  <a:lnTo>
                    <a:pt x="1680" y="101"/>
                  </a:lnTo>
                  <a:lnTo>
                    <a:pt x="1667" y="79"/>
                  </a:lnTo>
                  <a:lnTo>
                    <a:pt x="1670" y="78"/>
                  </a:lnTo>
                  <a:lnTo>
                    <a:pt x="1673" y="76"/>
                  </a:lnTo>
                  <a:lnTo>
                    <a:pt x="1673" y="72"/>
                  </a:lnTo>
                  <a:lnTo>
                    <a:pt x="1671" y="69"/>
                  </a:lnTo>
                  <a:lnTo>
                    <a:pt x="1666" y="66"/>
                  </a:lnTo>
                  <a:lnTo>
                    <a:pt x="1659" y="66"/>
                  </a:lnTo>
                  <a:lnTo>
                    <a:pt x="1652" y="69"/>
                  </a:lnTo>
                  <a:lnTo>
                    <a:pt x="1645" y="72"/>
                  </a:lnTo>
                  <a:lnTo>
                    <a:pt x="1635" y="79"/>
                  </a:lnTo>
                  <a:lnTo>
                    <a:pt x="1623" y="85"/>
                  </a:lnTo>
                  <a:lnTo>
                    <a:pt x="1612" y="89"/>
                  </a:lnTo>
                  <a:lnTo>
                    <a:pt x="1600" y="95"/>
                  </a:lnTo>
                  <a:lnTo>
                    <a:pt x="1590" y="101"/>
                  </a:lnTo>
                  <a:lnTo>
                    <a:pt x="1579" y="107"/>
                  </a:lnTo>
                  <a:lnTo>
                    <a:pt x="1570" y="116"/>
                  </a:lnTo>
                  <a:lnTo>
                    <a:pt x="1562" y="126"/>
                  </a:lnTo>
                  <a:lnTo>
                    <a:pt x="1563" y="130"/>
                  </a:lnTo>
                  <a:lnTo>
                    <a:pt x="1566" y="132"/>
                  </a:lnTo>
                  <a:lnTo>
                    <a:pt x="1568" y="134"/>
                  </a:lnTo>
                  <a:lnTo>
                    <a:pt x="1571" y="136"/>
                  </a:lnTo>
                  <a:lnTo>
                    <a:pt x="1572" y="133"/>
                  </a:lnTo>
                  <a:lnTo>
                    <a:pt x="1593" y="176"/>
                  </a:lnTo>
                  <a:lnTo>
                    <a:pt x="1599" y="201"/>
                  </a:lnTo>
                  <a:lnTo>
                    <a:pt x="1607" y="225"/>
                  </a:lnTo>
                  <a:lnTo>
                    <a:pt x="1615" y="250"/>
                  </a:lnTo>
                  <a:lnTo>
                    <a:pt x="1623" y="275"/>
                  </a:lnTo>
                  <a:lnTo>
                    <a:pt x="1631" y="299"/>
                  </a:lnTo>
                  <a:lnTo>
                    <a:pt x="1638" y="324"/>
                  </a:lnTo>
                  <a:lnTo>
                    <a:pt x="1645" y="350"/>
                  </a:lnTo>
                  <a:lnTo>
                    <a:pt x="1650" y="376"/>
                  </a:lnTo>
                  <a:lnTo>
                    <a:pt x="1622" y="391"/>
                  </a:lnTo>
                  <a:lnTo>
                    <a:pt x="1616" y="365"/>
                  </a:lnTo>
                  <a:lnTo>
                    <a:pt x="1610" y="338"/>
                  </a:lnTo>
                  <a:lnTo>
                    <a:pt x="1604" y="313"/>
                  </a:lnTo>
                  <a:lnTo>
                    <a:pt x="1598" y="289"/>
                  </a:lnTo>
                  <a:lnTo>
                    <a:pt x="1587" y="270"/>
                  </a:lnTo>
                  <a:lnTo>
                    <a:pt x="1583" y="250"/>
                  </a:lnTo>
                  <a:lnTo>
                    <a:pt x="1577" y="228"/>
                  </a:lnTo>
                  <a:lnTo>
                    <a:pt x="1571" y="207"/>
                  </a:lnTo>
                  <a:lnTo>
                    <a:pt x="1564" y="185"/>
                  </a:lnTo>
                  <a:lnTo>
                    <a:pt x="1557" y="164"/>
                  </a:lnTo>
                  <a:lnTo>
                    <a:pt x="1551" y="145"/>
                  </a:lnTo>
                  <a:lnTo>
                    <a:pt x="1542" y="124"/>
                  </a:lnTo>
                  <a:lnTo>
                    <a:pt x="1533" y="104"/>
                  </a:lnTo>
                  <a:lnTo>
                    <a:pt x="1528" y="103"/>
                  </a:lnTo>
                  <a:lnTo>
                    <a:pt x="1521" y="101"/>
                  </a:lnTo>
                  <a:lnTo>
                    <a:pt x="1514" y="100"/>
                  </a:lnTo>
                  <a:lnTo>
                    <a:pt x="1507" y="99"/>
                  </a:lnTo>
                  <a:lnTo>
                    <a:pt x="1500" y="97"/>
                  </a:lnTo>
                  <a:lnTo>
                    <a:pt x="1493" y="96"/>
                  </a:lnTo>
                  <a:lnTo>
                    <a:pt x="1486" y="95"/>
                  </a:lnTo>
                  <a:lnTo>
                    <a:pt x="1479" y="95"/>
                  </a:lnTo>
                  <a:lnTo>
                    <a:pt x="1462" y="94"/>
                  </a:lnTo>
                  <a:lnTo>
                    <a:pt x="1443" y="93"/>
                  </a:lnTo>
                  <a:lnTo>
                    <a:pt x="1426" y="92"/>
                  </a:lnTo>
                  <a:lnTo>
                    <a:pt x="1408" y="91"/>
                  </a:lnTo>
                  <a:lnTo>
                    <a:pt x="1390" y="89"/>
                  </a:lnTo>
                  <a:lnTo>
                    <a:pt x="1373" y="88"/>
                  </a:lnTo>
                  <a:lnTo>
                    <a:pt x="1356" y="87"/>
                  </a:lnTo>
                  <a:lnTo>
                    <a:pt x="1339" y="87"/>
                  </a:lnTo>
                  <a:lnTo>
                    <a:pt x="1336" y="88"/>
                  </a:lnTo>
                  <a:lnTo>
                    <a:pt x="1335" y="89"/>
                  </a:lnTo>
                  <a:lnTo>
                    <a:pt x="1333" y="91"/>
                  </a:lnTo>
                  <a:lnTo>
                    <a:pt x="1331" y="91"/>
                  </a:lnTo>
                  <a:lnTo>
                    <a:pt x="1327" y="80"/>
                  </a:lnTo>
                  <a:lnTo>
                    <a:pt x="1323" y="70"/>
                  </a:lnTo>
                  <a:lnTo>
                    <a:pt x="1316" y="61"/>
                  </a:lnTo>
                  <a:lnTo>
                    <a:pt x="1309" y="50"/>
                  </a:lnTo>
                  <a:lnTo>
                    <a:pt x="1302" y="41"/>
                  </a:lnTo>
                  <a:lnTo>
                    <a:pt x="1296" y="31"/>
                  </a:lnTo>
                  <a:lnTo>
                    <a:pt x="1290" y="20"/>
                  </a:lnTo>
                  <a:lnTo>
                    <a:pt x="1286" y="10"/>
                  </a:lnTo>
                  <a:lnTo>
                    <a:pt x="1276" y="0"/>
                  </a:lnTo>
                  <a:lnTo>
                    <a:pt x="1291" y="0"/>
                  </a:lnTo>
                  <a:lnTo>
                    <a:pt x="1306" y="0"/>
                  </a:lnTo>
                  <a:lnTo>
                    <a:pt x="1321" y="0"/>
                  </a:lnTo>
                  <a:lnTo>
                    <a:pt x="1336" y="1"/>
                  </a:lnTo>
                  <a:lnTo>
                    <a:pt x="1352" y="1"/>
                  </a:lnTo>
                  <a:lnTo>
                    <a:pt x="1367" y="2"/>
                  </a:lnTo>
                  <a:lnTo>
                    <a:pt x="1382" y="2"/>
                  </a:lnTo>
                  <a:lnTo>
                    <a:pt x="1397" y="3"/>
                  </a:lnTo>
                  <a:lnTo>
                    <a:pt x="1411" y="4"/>
                  </a:lnTo>
                  <a:lnTo>
                    <a:pt x="1426" y="5"/>
                  </a:lnTo>
                  <a:lnTo>
                    <a:pt x="1441" y="5"/>
                  </a:lnTo>
                  <a:lnTo>
                    <a:pt x="1456" y="6"/>
                  </a:lnTo>
                  <a:lnTo>
                    <a:pt x="1470" y="8"/>
                  </a:lnTo>
                  <a:lnTo>
                    <a:pt x="1485" y="9"/>
                  </a:lnTo>
                  <a:lnTo>
                    <a:pt x="1500" y="9"/>
                  </a:lnTo>
                  <a:lnTo>
                    <a:pt x="1514" y="10"/>
                  </a:lnTo>
                  <a:lnTo>
                    <a:pt x="1534" y="13"/>
                  </a:lnTo>
                  <a:lnTo>
                    <a:pt x="1556" y="16"/>
                  </a:lnTo>
                  <a:lnTo>
                    <a:pt x="1578" y="17"/>
                  </a:lnTo>
                  <a:lnTo>
                    <a:pt x="1600" y="18"/>
                  </a:lnTo>
                  <a:lnTo>
                    <a:pt x="1622" y="20"/>
                  </a:lnTo>
                  <a:lnTo>
                    <a:pt x="1643" y="23"/>
                  </a:lnTo>
                  <a:lnTo>
                    <a:pt x="1662" y="26"/>
                  </a:lnTo>
                  <a:lnTo>
                    <a:pt x="1682" y="32"/>
                  </a:lnTo>
                  <a:lnTo>
                    <a:pt x="1689" y="35"/>
                  </a:lnTo>
                  <a:lnTo>
                    <a:pt x="1693" y="39"/>
                  </a:lnTo>
                  <a:lnTo>
                    <a:pt x="1698" y="44"/>
                  </a:lnTo>
                  <a:lnTo>
                    <a:pt x="1703" y="49"/>
                  </a:lnTo>
                  <a:lnTo>
                    <a:pt x="1706" y="55"/>
                  </a:lnTo>
                  <a:lnTo>
                    <a:pt x="1712" y="59"/>
                  </a:lnTo>
                  <a:lnTo>
                    <a:pt x="1718" y="63"/>
                  </a:lnTo>
                  <a:lnTo>
                    <a:pt x="1724" y="65"/>
                  </a:lnTo>
                  <a:lnTo>
                    <a:pt x="1742" y="79"/>
                  </a:lnTo>
                  <a:lnTo>
                    <a:pt x="1758" y="94"/>
                  </a:lnTo>
                  <a:lnTo>
                    <a:pt x="1774" y="111"/>
                  </a:lnTo>
                  <a:lnTo>
                    <a:pt x="1790" y="129"/>
                  </a:lnTo>
                  <a:lnTo>
                    <a:pt x="1805" y="147"/>
                  </a:lnTo>
                  <a:lnTo>
                    <a:pt x="1820" y="165"/>
                  </a:lnTo>
                  <a:lnTo>
                    <a:pt x="1834" y="184"/>
                  </a:lnTo>
                  <a:lnTo>
                    <a:pt x="1847" y="202"/>
                  </a:lnTo>
                  <a:lnTo>
                    <a:pt x="1853" y="205"/>
                  </a:lnTo>
                  <a:lnTo>
                    <a:pt x="1860" y="206"/>
                  </a:lnTo>
                  <a:lnTo>
                    <a:pt x="1867" y="207"/>
                  </a:lnTo>
                  <a:lnTo>
                    <a:pt x="1875" y="208"/>
                  </a:lnTo>
                  <a:lnTo>
                    <a:pt x="1887" y="198"/>
                  </a:lnTo>
                  <a:lnTo>
                    <a:pt x="1898" y="186"/>
                  </a:lnTo>
                  <a:lnTo>
                    <a:pt x="1911" y="175"/>
                  </a:lnTo>
                  <a:lnTo>
                    <a:pt x="1921" y="162"/>
                  </a:lnTo>
                  <a:lnTo>
                    <a:pt x="1929" y="149"/>
                  </a:lnTo>
                  <a:lnTo>
                    <a:pt x="1935" y="136"/>
                  </a:lnTo>
                  <a:lnTo>
                    <a:pt x="1936" y="121"/>
                  </a:lnTo>
                  <a:lnTo>
                    <a:pt x="1932" y="104"/>
                  </a:lnTo>
                  <a:lnTo>
                    <a:pt x="1923" y="99"/>
                  </a:lnTo>
                  <a:lnTo>
                    <a:pt x="1912" y="93"/>
                  </a:lnTo>
                  <a:lnTo>
                    <a:pt x="1902" y="88"/>
                  </a:lnTo>
                  <a:lnTo>
                    <a:pt x="1891" y="84"/>
                  </a:lnTo>
                  <a:lnTo>
                    <a:pt x="1881" y="80"/>
                  </a:lnTo>
                  <a:lnTo>
                    <a:pt x="1871" y="77"/>
                  </a:lnTo>
                  <a:lnTo>
                    <a:pt x="1860" y="73"/>
                  </a:lnTo>
                  <a:lnTo>
                    <a:pt x="1850" y="70"/>
                  </a:lnTo>
                  <a:lnTo>
                    <a:pt x="1837" y="66"/>
                  </a:lnTo>
                  <a:lnTo>
                    <a:pt x="1825" y="63"/>
                  </a:lnTo>
                  <a:lnTo>
                    <a:pt x="1811" y="59"/>
                  </a:lnTo>
                  <a:lnTo>
                    <a:pt x="1797" y="57"/>
                  </a:lnTo>
                  <a:lnTo>
                    <a:pt x="1783" y="55"/>
                  </a:lnTo>
                  <a:lnTo>
                    <a:pt x="1769" y="54"/>
                  </a:lnTo>
                  <a:lnTo>
                    <a:pt x="1756" y="51"/>
                  </a:lnTo>
                  <a:lnTo>
                    <a:pt x="1742" y="49"/>
                  </a:lnTo>
                  <a:lnTo>
                    <a:pt x="1765" y="44"/>
                  </a:lnTo>
                  <a:lnTo>
                    <a:pt x="1787" y="43"/>
                  </a:lnTo>
                  <a:lnTo>
                    <a:pt x="1809" y="44"/>
                  </a:lnTo>
                  <a:lnTo>
                    <a:pt x="1829" y="47"/>
                  </a:lnTo>
                  <a:lnTo>
                    <a:pt x="1851" y="50"/>
                  </a:lnTo>
                  <a:lnTo>
                    <a:pt x="1873" y="53"/>
                  </a:lnTo>
                  <a:lnTo>
                    <a:pt x="1895" y="55"/>
                  </a:lnTo>
                  <a:lnTo>
                    <a:pt x="1917" y="54"/>
                  </a:lnTo>
                  <a:lnTo>
                    <a:pt x="1935" y="55"/>
                  </a:lnTo>
                  <a:lnTo>
                    <a:pt x="1954" y="56"/>
                  </a:lnTo>
                  <a:lnTo>
                    <a:pt x="1972" y="57"/>
                  </a:lnTo>
                  <a:lnTo>
                    <a:pt x="1989" y="59"/>
                  </a:lnTo>
                  <a:lnTo>
                    <a:pt x="2007" y="63"/>
                  </a:lnTo>
                  <a:lnTo>
                    <a:pt x="2023" y="66"/>
                  </a:lnTo>
                  <a:lnTo>
                    <a:pt x="2039" y="71"/>
                  </a:lnTo>
                  <a:lnTo>
                    <a:pt x="2055" y="78"/>
                  </a:lnTo>
                  <a:lnTo>
                    <a:pt x="2060" y="83"/>
                  </a:lnTo>
                  <a:lnTo>
                    <a:pt x="2063" y="89"/>
                  </a:lnTo>
                  <a:lnTo>
                    <a:pt x="2065" y="97"/>
                  </a:lnTo>
                  <a:lnTo>
                    <a:pt x="2068" y="106"/>
                  </a:lnTo>
                  <a:lnTo>
                    <a:pt x="2076" y="139"/>
                  </a:lnTo>
                  <a:lnTo>
                    <a:pt x="2083" y="174"/>
                  </a:lnTo>
                  <a:lnTo>
                    <a:pt x="2085" y="209"/>
                  </a:lnTo>
                  <a:lnTo>
                    <a:pt x="2083" y="243"/>
                  </a:lnTo>
                  <a:lnTo>
                    <a:pt x="2085" y="245"/>
                  </a:lnTo>
                  <a:lnTo>
                    <a:pt x="2088" y="246"/>
                  </a:lnTo>
                  <a:lnTo>
                    <a:pt x="2091" y="246"/>
                  </a:lnTo>
                  <a:lnTo>
                    <a:pt x="2093" y="246"/>
                  </a:lnTo>
                  <a:lnTo>
                    <a:pt x="2095" y="243"/>
                  </a:lnTo>
                  <a:lnTo>
                    <a:pt x="2099" y="242"/>
                  </a:lnTo>
                  <a:lnTo>
                    <a:pt x="2102" y="240"/>
                  </a:lnTo>
                  <a:lnTo>
                    <a:pt x="2106" y="240"/>
                  </a:lnTo>
                  <a:lnTo>
                    <a:pt x="2110" y="259"/>
                  </a:lnTo>
                  <a:lnTo>
                    <a:pt x="2110" y="277"/>
                  </a:lnTo>
                  <a:lnTo>
                    <a:pt x="2106" y="295"/>
                  </a:lnTo>
                  <a:lnTo>
                    <a:pt x="2100" y="311"/>
                  </a:lnTo>
                  <a:lnTo>
                    <a:pt x="2092" y="311"/>
                  </a:lnTo>
                  <a:lnTo>
                    <a:pt x="2071" y="344"/>
                  </a:lnTo>
                  <a:lnTo>
                    <a:pt x="2067" y="326"/>
                  </a:lnTo>
                  <a:lnTo>
                    <a:pt x="2064" y="305"/>
                  </a:lnTo>
                  <a:lnTo>
                    <a:pt x="2057" y="286"/>
                  </a:lnTo>
                  <a:lnTo>
                    <a:pt x="2042" y="271"/>
                  </a:lnTo>
                  <a:lnTo>
                    <a:pt x="2038" y="270"/>
                  </a:lnTo>
                  <a:lnTo>
                    <a:pt x="2033" y="269"/>
                  </a:lnTo>
                  <a:lnTo>
                    <a:pt x="2027" y="269"/>
                  </a:lnTo>
                  <a:lnTo>
                    <a:pt x="2023" y="269"/>
                  </a:lnTo>
                  <a:lnTo>
                    <a:pt x="2017" y="269"/>
                  </a:lnTo>
                  <a:lnTo>
                    <a:pt x="2012" y="269"/>
                  </a:lnTo>
                  <a:lnTo>
                    <a:pt x="2007" y="270"/>
                  </a:lnTo>
                  <a:lnTo>
                    <a:pt x="2002" y="271"/>
                  </a:lnTo>
                  <a:lnTo>
                    <a:pt x="1985" y="284"/>
                  </a:lnTo>
                  <a:lnTo>
                    <a:pt x="1972" y="299"/>
                  </a:lnTo>
                  <a:lnTo>
                    <a:pt x="1962" y="316"/>
                  </a:lnTo>
                  <a:lnTo>
                    <a:pt x="1955" y="335"/>
                  </a:lnTo>
                  <a:lnTo>
                    <a:pt x="1950" y="354"/>
                  </a:lnTo>
                  <a:lnTo>
                    <a:pt x="1946" y="375"/>
                  </a:lnTo>
                  <a:lnTo>
                    <a:pt x="1942" y="395"/>
                  </a:lnTo>
                  <a:lnTo>
                    <a:pt x="1938" y="414"/>
                  </a:lnTo>
                  <a:lnTo>
                    <a:pt x="1935" y="440"/>
                  </a:lnTo>
                  <a:lnTo>
                    <a:pt x="1934" y="466"/>
                  </a:lnTo>
                  <a:lnTo>
                    <a:pt x="1931" y="492"/>
                  </a:lnTo>
                  <a:lnTo>
                    <a:pt x="1927" y="517"/>
                  </a:lnTo>
                  <a:lnTo>
                    <a:pt x="1924" y="543"/>
                  </a:lnTo>
                  <a:lnTo>
                    <a:pt x="1918" y="569"/>
                  </a:lnTo>
                  <a:lnTo>
                    <a:pt x="1911" y="593"/>
                  </a:lnTo>
                  <a:lnTo>
                    <a:pt x="1903" y="617"/>
                  </a:lnTo>
                  <a:lnTo>
                    <a:pt x="1878" y="639"/>
                  </a:lnTo>
                  <a:lnTo>
                    <a:pt x="1856" y="663"/>
                  </a:lnTo>
                  <a:lnTo>
                    <a:pt x="1834" y="687"/>
                  </a:lnTo>
                  <a:lnTo>
                    <a:pt x="1813" y="713"/>
                  </a:lnTo>
                  <a:lnTo>
                    <a:pt x="1794" y="738"/>
                  </a:lnTo>
                  <a:lnTo>
                    <a:pt x="1773" y="765"/>
                  </a:lnTo>
                  <a:lnTo>
                    <a:pt x="1753" y="790"/>
                  </a:lnTo>
                  <a:lnTo>
                    <a:pt x="1731" y="815"/>
                  </a:lnTo>
                  <a:lnTo>
                    <a:pt x="1691" y="867"/>
                  </a:lnTo>
                  <a:lnTo>
                    <a:pt x="1692" y="843"/>
                  </a:lnTo>
                  <a:lnTo>
                    <a:pt x="1693" y="820"/>
                  </a:lnTo>
                  <a:lnTo>
                    <a:pt x="1693" y="797"/>
                  </a:lnTo>
                  <a:lnTo>
                    <a:pt x="1689" y="775"/>
                  </a:lnTo>
                  <a:lnTo>
                    <a:pt x="1693" y="754"/>
                  </a:lnTo>
                  <a:lnTo>
                    <a:pt x="1695" y="732"/>
                  </a:lnTo>
                  <a:lnTo>
                    <a:pt x="1692" y="712"/>
                  </a:lnTo>
                  <a:lnTo>
                    <a:pt x="1688" y="693"/>
                  </a:lnTo>
                  <a:lnTo>
                    <a:pt x="1684" y="689"/>
                  </a:lnTo>
                  <a:lnTo>
                    <a:pt x="1681" y="684"/>
                  </a:lnTo>
                  <a:lnTo>
                    <a:pt x="1676" y="681"/>
                  </a:lnTo>
                  <a:lnTo>
                    <a:pt x="1671" y="676"/>
                  </a:lnTo>
                  <a:lnTo>
                    <a:pt x="1667" y="674"/>
                  </a:lnTo>
                  <a:lnTo>
                    <a:pt x="1662" y="672"/>
                  </a:lnTo>
                  <a:lnTo>
                    <a:pt x="1658" y="672"/>
                  </a:lnTo>
                  <a:lnTo>
                    <a:pt x="1652" y="674"/>
                  </a:lnTo>
                  <a:lnTo>
                    <a:pt x="1638" y="678"/>
                  </a:lnTo>
                  <a:lnTo>
                    <a:pt x="1627" y="685"/>
                  </a:lnTo>
                  <a:lnTo>
                    <a:pt x="1614" y="694"/>
                  </a:lnTo>
                  <a:lnTo>
                    <a:pt x="1604" y="705"/>
                  </a:lnTo>
                  <a:lnTo>
                    <a:pt x="1594" y="715"/>
                  </a:lnTo>
                  <a:lnTo>
                    <a:pt x="1585" y="728"/>
                  </a:lnTo>
                  <a:lnTo>
                    <a:pt x="1577" y="739"/>
                  </a:lnTo>
                  <a:lnTo>
                    <a:pt x="1570" y="751"/>
                  </a:lnTo>
                  <a:lnTo>
                    <a:pt x="1556" y="780"/>
                  </a:lnTo>
                  <a:lnTo>
                    <a:pt x="1544" y="808"/>
                  </a:lnTo>
                  <a:lnTo>
                    <a:pt x="1530" y="838"/>
                  </a:lnTo>
                  <a:lnTo>
                    <a:pt x="1517" y="867"/>
                  </a:lnTo>
                  <a:lnTo>
                    <a:pt x="1506" y="896"/>
                  </a:lnTo>
                  <a:lnTo>
                    <a:pt x="1495" y="926"/>
                  </a:lnTo>
                  <a:lnTo>
                    <a:pt x="1487" y="957"/>
                  </a:lnTo>
                  <a:lnTo>
                    <a:pt x="1480" y="988"/>
                  </a:lnTo>
                  <a:lnTo>
                    <a:pt x="1480" y="994"/>
                  </a:lnTo>
                  <a:lnTo>
                    <a:pt x="1481" y="1000"/>
                  </a:lnTo>
                  <a:lnTo>
                    <a:pt x="1485" y="1004"/>
                  </a:lnTo>
                  <a:lnTo>
                    <a:pt x="1488" y="1007"/>
                  </a:lnTo>
                  <a:lnTo>
                    <a:pt x="1488" y="1023"/>
                  </a:lnTo>
                  <a:lnTo>
                    <a:pt x="1487" y="1038"/>
                  </a:lnTo>
                  <a:lnTo>
                    <a:pt x="1486" y="1054"/>
                  </a:lnTo>
                  <a:lnTo>
                    <a:pt x="1484" y="1069"/>
                  </a:lnTo>
                  <a:lnTo>
                    <a:pt x="1479" y="1084"/>
                  </a:lnTo>
                  <a:lnTo>
                    <a:pt x="1472" y="1098"/>
                  </a:lnTo>
                  <a:lnTo>
                    <a:pt x="1462" y="1110"/>
                  </a:lnTo>
                  <a:lnTo>
                    <a:pt x="1449" y="1121"/>
                  </a:lnTo>
                  <a:lnTo>
                    <a:pt x="1438" y="1126"/>
                  </a:lnTo>
                  <a:lnTo>
                    <a:pt x="1427" y="1135"/>
                  </a:lnTo>
                  <a:lnTo>
                    <a:pt x="1417" y="1143"/>
                  </a:lnTo>
                  <a:lnTo>
                    <a:pt x="1407" y="1151"/>
                  </a:lnTo>
                  <a:lnTo>
                    <a:pt x="1396" y="1159"/>
                  </a:lnTo>
                  <a:lnTo>
                    <a:pt x="1386" y="1166"/>
                  </a:lnTo>
                  <a:lnTo>
                    <a:pt x="1374" y="1173"/>
                  </a:lnTo>
                  <a:lnTo>
                    <a:pt x="1363" y="1177"/>
                  </a:lnTo>
                  <a:lnTo>
                    <a:pt x="1348" y="1185"/>
                  </a:lnTo>
                  <a:lnTo>
                    <a:pt x="1334" y="1193"/>
                  </a:lnTo>
                  <a:lnTo>
                    <a:pt x="1319" y="1201"/>
                  </a:lnTo>
                  <a:lnTo>
                    <a:pt x="1305" y="1209"/>
                  </a:lnTo>
                  <a:lnTo>
                    <a:pt x="1290" y="1219"/>
                  </a:lnTo>
                  <a:lnTo>
                    <a:pt x="1275" y="1227"/>
                  </a:lnTo>
                  <a:lnTo>
                    <a:pt x="1261" y="1235"/>
                  </a:lnTo>
                  <a:lnTo>
                    <a:pt x="1246" y="1242"/>
                  </a:lnTo>
                  <a:lnTo>
                    <a:pt x="1232" y="1249"/>
                  </a:lnTo>
                  <a:lnTo>
                    <a:pt x="1217" y="1254"/>
                  </a:lnTo>
                  <a:lnTo>
                    <a:pt x="1200" y="1259"/>
                  </a:lnTo>
                  <a:lnTo>
                    <a:pt x="1185" y="1262"/>
                  </a:lnTo>
                  <a:lnTo>
                    <a:pt x="1169" y="1265"/>
                  </a:lnTo>
                  <a:lnTo>
                    <a:pt x="1153" y="1266"/>
                  </a:lnTo>
                  <a:lnTo>
                    <a:pt x="1136" y="1265"/>
                  </a:lnTo>
                  <a:lnTo>
                    <a:pt x="1119" y="1262"/>
                  </a:lnTo>
                  <a:lnTo>
                    <a:pt x="1111" y="1265"/>
                  </a:lnTo>
                  <a:lnTo>
                    <a:pt x="1104" y="1266"/>
                  </a:lnTo>
                  <a:lnTo>
                    <a:pt x="1096" y="1265"/>
                  </a:lnTo>
                  <a:lnTo>
                    <a:pt x="1088" y="1265"/>
                  </a:lnTo>
                  <a:lnTo>
                    <a:pt x="1080" y="1264"/>
                  </a:lnTo>
                  <a:lnTo>
                    <a:pt x="1073" y="1264"/>
                  </a:lnTo>
                  <a:lnTo>
                    <a:pt x="1065" y="1265"/>
                  </a:lnTo>
                  <a:lnTo>
                    <a:pt x="1058" y="1268"/>
                  </a:lnTo>
                  <a:lnTo>
                    <a:pt x="1028" y="1272"/>
                  </a:lnTo>
                  <a:lnTo>
                    <a:pt x="999" y="1274"/>
                  </a:lnTo>
                  <a:lnTo>
                    <a:pt x="969" y="1276"/>
                  </a:lnTo>
                  <a:lnTo>
                    <a:pt x="938" y="1279"/>
                  </a:lnTo>
                  <a:lnTo>
                    <a:pt x="908" y="1280"/>
                  </a:lnTo>
                  <a:lnTo>
                    <a:pt x="878" y="1281"/>
                  </a:lnTo>
                  <a:lnTo>
                    <a:pt x="847" y="1282"/>
                  </a:lnTo>
                  <a:lnTo>
                    <a:pt x="816" y="1283"/>
                  </a:lnTo>
                  <a:lnTo>
                    <a:pt x="785" y="1284"/>
                  </a:lnTo>
                  <a:lnTo>
                    <a:pt x="754" y="1285"/>
                  </a:lnTo>
                  <a:lnTo>
                    <a:pt x="722" y="1285"/>
                  </a:lnTo>
                  <a:lnTo>
                    <a:pt x="691" y="1287"/>
                  </a:lnTo>
                  <a:lnTo>
                    <a:pt x="659" y="1287"/>
                  </a:lnTo>
                  <a:lnTo>
                    <a:pt x="628" y="1288"/>
                  </a:lnTo>
                  <a:lnTo>
                    <a:pt x="597" y="1289"/>
                  </a:lnTo>
                  <a:lnTo>
                    <a:pt x="565" y="1290"/>
                  </a:lnTo>
                  <a:lnTo>
                    <a:pt x="536" y="1287"/>
                  </a:lnTo>
                  <a:lnTo>
                    <a:pt x="506" y="1283"/>
                  </a:lnTo>
                  <a:lnTo>
                    <a:pt x="476" y="1281"/>
                  </a:lnTo>
                  <a:lnTo>
                    <a:pt x="447" y="1277"/>
                  </a:lnTo>
                  <a:lnTo>
                    <a:pt x="417" y="1275"/>
                  </a:lnTo>
                  <a:lnTo>
                    <a:pt x="387" y="1273"/>
                  </a:lnTo>
                  <a:lnTo>
                    <a:pt x="357" y="1271"/>
                  </a:lnTo>
                  <a:lnTo>
                    <a:pt x="327" y="1268"/>
                  </a:lnTo>
                  <a:lnTo>
                    <a:pt x="296" y="1266"/>
                  </a:lnTo>
                  <a:lnTo>
                    <a:pt x="266" y="1264"/>
                  </a:lnTo>
                  <a:lnTo>
                    <a:pt x="236" y="1260"/>
                  </a:lnTo>
                  <a:lnTo>
                    <a:pt x="208" y="1258"/>
                  </a:lnTo>
                  <a:lnTo>
                    <a:pt x="178" y="1254"/>
                  </a:lnTo>
                  <a:lnTo>
                    <a:pt x="148" y="1251"/>
                  </a:lnTo>
                  <a:lnTo>
                    <a:pt x="118" y="1247"/>
                  </a:lnTo>
                  <a:lnTo>
                    <a:pt x="89" y="1244"/>
                  </a:lnTo>
                  <a:lnTo>
                    <a:pt x="78" y="1242"/>
                  </a:lnTo>
                  <a:lnTo>
                    <a:pt x="66" y="1241"/>
                  </a:lnTo>
                  <a:lnTo>
                    <a:pt x="54" y="1238"/>
                  </a:lnTo>
                  <a:lnTo>
                    <a:pt x="43" y="1236"/>
                  </a:lnTo>
                  <a:lnTo>
                    <a:pt x="33" y="1234"/>
                  </a:lnTo>
                  <a:lnTo>
                    <a:pt x="21" y="1231"/>
                  </a:lnTo>
                  <a:lnTo>
                    <a:pt x="11" y="1228"/>
                  </a:lnTo>
                  <a:lnTo>
                    <a:pt x="0" y="1223"/>
                  </a:lnTo>
                  <a:lnTo>
                    <a:pt x="4" y="1211"/>
                  </a:lnTo>
                  <a:lnTo>
                    <a:pt x="4" y="1197"/>
                  </a:lnTo>
                  <a:lnTo>
                    <a:pt x="4" y="1183"/>
                  </a:lnTo>
                  <a:lnTo>
                    <a:pt x="3" y="1170"/>
                  </a:lnTo>
                  <a:lnTo>
                    <a:pt x="4" y="1156"/>
                  </a:lnTo>
                  <a:lnTo>
                    <a:pt x="6" y="1145"/>
                  </a:lnTo>
                  <a:lnTo>
                    <a:pt x="12" y="1133"/>
                  </a:lnTo>
                  <a:lnTo>
                    <a:pt x="23" y="112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840120" y="2567160"/>
              <a:ext cx="1122480" cy="198360"/>
            </a:xfrm>
            <a:custGeom>
              <a:avLst/>
              <a:gdLst/>
              <a:ahLst/>
              <a:rect l="l" t="t" r="r" b="b"/>
              <a:pathLst>
                <a:path w="1416" h="250">
                  <a:moveTo>
                    <a:pt x="0" y="145"/>
                  </a:moveTo>
                  <a:lnTo>
                    <a:pt x="32" y="151"/>
                  </a:lnTo>
                  <a:lnTo>
                    <a:pt x="65" y="155"/>
                  </a:lnTo>
                  <a:lnTo>
                    <a:pt x="97" y="160"/>
                  </a:lnTo>
                  <a:lnTo>
                    <a:pt x="129" y="163"/>
                  </a:lnTo>
                  <a:lnTo>
                    <a:pt x="161" y="167"/>
                  </a:lnTo>
                  <a:lnTo>
                    <a:pt x="194" y="170"/>
                  </a:lnTo>
                  <a:lnTo>
                    <a:pt x="227" y="174"/>
                  </a:lnTo>
                  <a:lnTo>
                    <a:pt x="260" y="176"/>
                  </a:lnTo>
                  <a:lnTo>
                    <a:pt x="293" y="178"/>
                  </a:lnTo>
                  <a:lnTo>
                    <a:pt x="326" y="181"/>
                  </a:lnTo>
                  <a:lnTo>
                    <a:pt x="358" y="183"/>
                  </a:lnTo>
                  <a:lnTo>
                    <a:pt x="392" y="186"/>
                  </a:lnTo>
                  <a:lnTo>
                    <a:pt x="425" y="189"/>
                  </a:lnTo>
                  <a:lnTo>
                    <a:pt x="457" y="192"/>
                  </a:lnTo>
                  <a:lnTo>
                    <a:pt x="491" y="196"/>
                  </a:lnTo>
                  <a:lnTo>
                    <a:pt x="523" y="199"/>
                  </a:lnTo>
                  <a:lnTo>
                    <a:pt x="538" y="199"/>
                  </a:lnTo>
                  <a:lnTo>
                    <a:pt x="553" y="200"/>
                  </a:lnTo>
                  <a:lnTo>
                    <a:pt x="569" y="201"/>
                  </a:lnTo>
                  <a:lnTo>
                    <a:pt x="585" y="201"/>
                  </a:lnTo>
                  <a:lnTo>
                    <a:pt x="601" y="203"/>
                  </a:lnTo>
                  <a:lnTo>
                    <a:pt x="617" y="203"/>
                  </a:lnTo>
                  <a:lnTo>
                    <a:pt x="634" y="201"/>
                  </a:lnTo>
                  <a:lnTo>
                    <a:pt x="650" y="199"/>
                  </a:lnTo>
                  <a:lnTo>
                    <a:pt x="653" y="196"/>
                  </a:lnTo>
                  <a:lnTo>
                    <a:pt x="677" y="196"/>
                  </a:lnTo>
                  <a:lnTo>
                    <a:pt x="700" y="196"/>
                  </a:lnTo>
                  <a:lnTo>
                    <a:pt x="725" y="194"/>
                  </a:lnTo>
                  <a:lnTo>
                    <a:pt x="749" y="194"/>
                  </a:lnTo>
                  <a:lnTo>
                    <a:pt x="773" y="193"/>
                  </a:lnTo>
                  <a:lnTo>
                    <a:pt x="797" y="192"/>
                  </a:lnTo>
                  <a:lnTo>
                    <a:pt x="821" y="191"/>
                  </a:lnTo>
                  <a:lnTo>
                    <a:pt x="846" y="190"/>
                  </a:lnTo>
                  <a:lnTo>
                    <a:pt x="871" y="189"/>
                  </a:lnTo>
                  <a:lnTo>
                    <a:pt x="895" y="186"/>
                  </a:lnTo>
                  <a:lnTo>
                    <a:pt x="919" y="185"/>
                  </a:lnTo>
                  <a:lnTo>
                    <a:pt x="943" y="183"/>
                  </a:lnTo>
                  <a:lnTo>
                    <a:pt x="968" y="181"/>
                  </a:lnTo>
                  <a:lnTo>
                    <a:pt x="993" y="178"/>
                  </a:lnTo>
                  <a:lnTo>
                    <a:pt x="1017" y="176"/>
                  </a:lnTo>
                  <a:lnTo>
                    <a:pt x="1041" y="174"/>
                  </a:lnTo>
                  <a:lnTo>
                    <a:pt x="1142" y="173"/>
                  </a:lnTo>
                  <a:lnTo>
                    <a:pt x="1144" y="168"/>
                  </a:lnTo>
                  <a:lnTo>
                    <a:pt x="1146" y="164"/>
                  </a:lnTo>
                  <a:lnTo>
                    <a:pt x="1146" y="160"/>
                  </a:lnTo>
                  <a:lnTo>
                    <a:pt x="1146" y="155"/>
                  </a:lnTo>
                  <a:lnTo>
                    <a:pt x="1163" y="147"/>
                  </a:lnTo>
                  <a:lnTo>
                    <a:pt x="1182" y="139"/>
                  </a:lnTo>
                  <a:lnTo>
                    <a:pt x="1199" y="131"/>
                  </a:lnTo>
                  <a:lnTo>
                    <a:pt x="1218" y="122"/>
                  </a:lnTo>
                  <a:lnTo>
                    <a:pt x="1235" y="114"/>
                  </a:lnTo>
                  <a:lnTo>
                    <a:pt x="1253" y="105"/>
                  </a:lnTo>
                  <a:lnTo>
                    <a:pt x="1271" y="95"/>
                  </a:lnTo>
                  <a:lnTo>
                    <a:pt x="1288" y="86"/>
                  </a:lnTo>
                  <a:lnTo>
                    <a:pt x="1305" y="76"/>
                  </a:lnTo>
                  <a:lnTo>
                    <a:pt x="1322" y="67"/>
                  </a:lnTo>
                  <a:lnTo>
                    <a:pt x="1338" y="56"/>
                  </a:lnTo>
                  <a:lnTo>
                    <a:pt x="1355" y="46"/>
                  </a:lnTo>
                  <a:lnTo>
                    <a:pt x="1371" y="34"/>
                  </a:lnTo>
                  <a:lnTo>
                    <a:pt x="1386" y="23"/>
                  </a:lnTo>
                  <a:lnTo>
                    <a:pt x="1401" y="11"/>
                  </a:lnTo>
                  <a:lnTo>
                    <a:pt x="1416" y="0"/>
                  </a:lnTo>
                  <a:lnTo>
                    <a:pt x="1402" y="38"/>
                  </a:lnTo>
                  <a:lnTo>
                    <a:pt x="1397" y="38"/>
                  </a:lnTo>
                  <a:lnTo>
                    <a:pt x="1395" y="42"/>
                  </a:lnTo>
                  <a:lnTo>
                    <a:pt x="1394" y="47"/>
                  </a:lnTo>
                  <a:lnTo>
                    <a:pt x="1391" y="50"/>
                  </a:lnTo>
                  <a:lnTo>
                    <a:pt x="1379" y="62"/>
                  </a:lnTo>
                  <a:lnTo>
                    <a:pt x="1366" y="73"/>
                  </a:lnTo>
                  <a:lnTo>
                    <a:pt x="1352" y="85"/>
                  </a:lnTo>
                  <a:lnTo>
                    <a:pt x="1338" y="94"/>
                  </a:lnTo>
                  <a:lnTo>
                    <a:pt x="1325" y="105"/>
                  </a:lnTo>
                  <a:lnTo>
                    <a:pt x="1311" y="114"/>
                  </a:lnTo>
                  <a:lnTo>
                    <a:pt x="1296" y="123"/>
                  </a:lnTo>
                  <a:lnTo>
                    <a:pt x="1282" y="131"/>
                  </a:lnTo>
                  <a:lnTo>
                    <a:pt x="1267" y="140"/>
                  </a:lnTo>
                  <a:lnTo>
                    <a:pt x="1252" y="148"/>
                  </a:lnTo>
                  <a:lnTo>
                    <a:pt x="1238" y="156"/>
                  </a:lnTo>
                  <a:lnTo>
                    <a:pt x="1223" y="166"/>
                  </a:lnTo>
                  <a:lnTo>
                    <a:pt x="1208" y="174"/>
                  </a:lnTo>
                  <a:lnTo>
                    <a:pt x="1193" y="182"/>
                  </a:lnTo>
                  <a:lnTo>
                    <a:pt x="1180" y="190"/>
                  </a:lnTo>
                  <a:lnTo>
                    <a:pt x="1165" y="199"/>
                  </a:lnTo>
                  <a:lnTo>
                    <a:pt x="1144" y="207"/>
                  </a:lnTo>
                  <a:lnTo>
                    <a:pt x="1123" y="214"/>
                  </a:lnTo>
                  <a:lnTo>
                    <a:pt x="1102" y="220"/>
                  </a:lnTo>
                  <a:lnTo>
                    <a:pt x="1082" y="224"/>
                  </a:lnTo>
                  <a:lnTo>
                    <a:pt x="1060" y="228"/>
                  </a:lnTo>
                  <a:lnTo>
                    <a:pt x="1038" y="230"/>
                  </a:lnTo>
                  <a:lnTo>
                    <a:pt x="1016" y="232"/>
                  </a:lnTo>
                  <a:lnTo>
                    <a:pt x="994" y="234"/>
                  </a:lnTo>
                  <a:lnTo>
                    <a:pt x="971" y="235"/>
                  </a:lnTo>
                  <a:lnTo>
                    <a:pt x="949" y="236"/>
                  </a:lnTo>
                  <a:lnTo>
                    <a:pt x="926" y="237"/>
                  </a:lnTo>
                  <a:lnTo>
                    <a:pt x="903" y="238"/>
                  </a:lnTo>
                  <a:lnTo>
                    <a:pt x="881" y="239"/>
                  </a:lnTo>
                  <a:lnTo>
                    <a:pt x="858" y="241"/>
                  </a:lnTo>
                  <a:lnTo>
                    <a:pt x="836" y="243"/>
                  </a:lnTo>
                  <a:lnTo>
                    <a:pt x="813" y="245"/>
                  </a:lnTo>
                  <a:lnTo>
                    <a:pt x="788" y="246"/>
                  </a:lnTo>
                  <a:lnTo>
                    <a:pt x="763" y="246"/>
                  </a:lnTo>
                  <a:lnTo>
                    <a:pt x="737" y="247"/>
                  </a:lnTo>
                  <a:lnTo>
                    <a:pt x="711" y="249"/>
                  </a:lnTo>
                  <a:lnTo>
                    <a:pt x="684" y="249"/>
                  </a:lnTo>
                  <a:lnTo>
                    <a:pt x="658" y="250"/>
                  </a:lnTo>
                  <a:lnTo>
                    <a:pt x="631" y="250"/>
                  </a:lnTo>
                  <a:lnTo>
                    <a:pt x="605" y="250"/>
                  </a:lnTo>
                  <a:lnTo>
                    <a:pt x="578" y="250"/>
                  </a:lnTo>
                  <a:lnTo>
                    <a:pt x="552" y="250"/>
                  </a:lnTo>
                  <a:lnTo>
                    <a:pt x="524" y="249"/>
                  </a:lnTo>
                  <a:lnTo>
                    <a:pt x="498" y="249"/>
                  </a:lnTo>
                  <a:lnTo>
                    <a:pt x="472" y="247"/>
                  </a:lnTo>
                  <a:lnTo>
                    <a:pt x="446" y="245"/>
                  </a:lnTo>
                  <a:lnTo>
                    <a:pt x="421" y="244"/>
                  </a:lnTo>
                  <a:lnTo>
                    <a:pt x="395" y="242"/>
                  </a:lnTo>
                  <a:lnTo>
                    <a:pt x="374" y="238"/>
                  </a:lnTo>
                  <a:lnTo>
                    <a:pt x="354" y="235"/>
                  </a:lnTo>
                  <a:lnTo>
                    <a:pt x="332" y="231"/>
                  </a:lnTo>
                  <a:lnTo>
                    <a:pt x="311" y="228"/>
                  </a:lnTo>
                  <a:lnTo>
                    <a:pt x="290" y="226"/>
                  </a:lnTo>
                  <a:lnTo>
                    <a:pt x="269" y="222"/>
                  </a:lnTo>
                  <a:lnTo>
                    <a:pt x="248" y="220"/>
                  </a:lnTo>
                  <a:lnTo>
                    <a:pt x="226" y="217"/>
                  </a:lnTo>
                  <a:lnTo>
                    <a:pt x="205" y="215"/>
                  </a:lnTo>
                  <a:lnTo>
                    <a:pt x="184" y="212"/>
                  </a:lnTo>
                  <a:lnTo>
                    <a:pt x="163" y="208"/>
                  </a:lnTo>
                  <a:lnTo>
                    <a:pt x="142" y="206"/>
                  </a:lnTo>
                  <a:lnTo>
                    <a:pt x="121" y="203"/>
                  </a:lnTo>
                  <a:lnTo>
                    <a:pt x="100" y="198"/>
                  </a:lnTo>
                  <a:lnTo>
                    <a:pt x="81" y="193"/>
                  </a:lnTo>
                  <a:lnTo>
                    <a:pt x="60" y="189"/>
                  </a:lnTo>
                  <a:lnTo>
                    <a:pt x="52" y="184"/>
                  </a:lnTo>
                  <a:lnTo>
                    <a:pt x="44" y="181"/>
                  </a:lnTo>
                  <a:lnTo>
                    <a:pt x="36" y="176"/>
                  </a:lnTo>
                  <a:lnTo>
                    <a:pt x="28" y="173"/>
                  </a:lnTo>
                  <a:lnTo>
                    <a:pt x="20" y="168"/>
                  </a:lnTo>
                  <a:lnTo>
                    <a:pt x="13" y="163"/>
                  </a:lnTo>
                  <a:lnTo>
                    <a:pt x="6" y="158"/>
                  </a:lnTo>
                  <a:lnTo>
                    <a:pt x="0" y="152"/>
                  </a:lnTo>
                  <a:lnTo>
                    <a:pt x="0" y="14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843360" y="2530440"/>
              <a:ext cx="1058760" cy="96840"/>
            </a:xfrm>
            <a:custGeom>
              <a:avLst/>
              <a:gdLst/>
              <a:ahLst/>
              <a:rect l="l" t="t" r="r" b="b"/>
              <a:pathLst>
                <a:path w="1334" h="121">
                  <a:moveTo>
                    <a:pt x="34" y="64"/>
                  </a:moveTo>
                  <a:lnTo>
                    <a:pt x="61" y="65"/>
                  </a:lnTo>
                  <a:lnTo>
                    <a:pt x="87" y="68"/>
                  </a:lnTo>
                  <a:lnTo>
                    <a:pt x="114" y="69"/>
                  </a:lnTo>
                  <a:lnTo>
                    <a:pt x="140" y="71"/>
                  </a:lnTo>
                  <a:lnTo>
                    <a:pt x="167" y="75"/>
                  </a:lnTo>
                  <a:lnTo>
                    <a:pt x="192" y="77"/>
                  </a:lnTo>
                  <a:lnTo>
                    <a:pt x="219" y="79"/>
                  </a:lnTo>
                  <a:lnTo>
                    <a:pt x="244" y="81"/>
                  </a:lnTo>
                  <a:lnTo>
                    <a:pt x="271" y="85"/>
                  </a:lnTo>
                  <a:lnTo>
                    <a:pt x="297" y="87"/>
                  </a:lnTo>
                  <a:lnTo>
                    <a:pt x="324" y="90"/>
                  </a:lnTo>
                  <a:lnTo>
                    <a:pt x="350" y="91"/>
                  </a:lnTo>
                  <a:lnTo>
                    <a:pt x="377" y="92"/>
                  </a:lnTo>
                  <a:lnTo>
                    <a:pt x="404" y="93"/>
                  </a:lnTo>
                  <a:lnTo>
                    <a:pt x="432" y="93"/>
                  </a:lnTo>
                  <a:lnTo>
                    <a:pt x="459" y="93"/>
                  </a:lnTo>
                  <a:lnTo>
                    <a:pt x="496" y="94"/>
                  </a:lnTo>
                  <a:lnTo>
                    <a:pt x="534" y="95"/>
                  </a:lnTo>
                  <a:lnTo>
                    <a:pt x="572" y="96"/>
                  </a:lnTo>
                  <a:lnTo>
                    <a:pt x="610" y="99"/>
                  </a:lnTo>
                  <a:lnTo>
                    <a:pt x="650" y="100"/>
                  </a:lnTo>
                  <a:lnTo>
                    <a:pt x="688" y="102"/>
                  </a:lnTo>
                  <a:lnTo>
                    <a:pt x="727" y="103"/>
                  </a:lnTo>
                  <a:lnTo>
                    <a:pt x="765" y="104"/>
                  </a:lnTo>
                  <a:lnTo>
                    <a:pt x="804" y="106"/>
                  </a:lnTo>
                  <a:lnTo>
                    <a:pt x="842" y="107"/>
                  </a:lnTo>
                  <a:lnTo>
                    <a:pt x="881" y="108"/>
                  </a:lnTo>
                  <a:lnTo>
                    <a:pt x="919" y="108"/>
                  </a:lnTo>
                  <a:lnTo>
                    <a:pt x="957" y="108"/>
                  </a:lnTo>
                  <a:lnTo>
                    <a:pt x="995" y="107"/>
                  </a:lnTo>
                  <a:lnTo>
                    <a:pt x="1032" y="106"/>
                  </a:lnTo>
                  <a:lnTo>
                    <a:pt x="1069" y="103"/>
                  </a:lnTo>
                  <a:lnTo>
                    <a:pt x="1089" y="101"/>
                  </a:lnTo>
                  <a:lnTo>
                    <a:pt x="1111" y="98"/>
                  </a:lnTo>
                  <a:lnTo>
                    <a:pt x="1133" y="94"/>
                  </a:lnTo>
                  <a:lnTo>
                    <a:pt x="1154" y="88"/>
                  </a:lnTo>
                  <a:lnTo>
                    <a:pt x="1176" y="83"/>
                  </a:lnTo>
                  <a:lnTo>
                    <a:pt x="1197" y="76"/>
                  </a:lnTo>
                  <a:lnTo>
                    <a:pt x="1217" y="66"/>
                  </a:lnTo>
                  <a:lnTo>
                    <a:pt x="1237" y="56"/>
                  </a:lnTo>
                  <a:lnTo>
                    <a:pt x="1248" y="50"/>
                  </a:lnTo>
                  <a:lnTo>
                    <a:pt x="1260" y="43"/>
                  </a:lnTo>
                  <a:lnTo>
                    <a:pt x="1271" y="36"/>
                  </a:lnTo>
                  <a:lnTo>
                    <a:pt x="1282" y="30"/>
                  </a:lnTo>
                  <a:lnTo>
                    <a:pt x="1293" y="22"/>
                  </a:lnTo>
                  <a:lnTo>
                    <a:pt x="1304" y="15"/>
                  </a:lnTo>
                  <a:lnTo>
                    <a:pt x="1315" y="7"/>
                  </a:lnTo>
                  <a:lnTo>
                    <a:pt x="1326" y="0"/>
                  </a:lnTo>
                  <a:lnTo>
                    <a:pt x="1329" y="1"/>
                  </a:lnTo>
                  <a:lnTo>
                    <a:pt x="1332" y="3"/>
                  </a:lnTo>
                  <a:lnTo>
                    <a:pt x="1334" y="7"/>
                  </a:lnTo>
                  <a:lnTo>
                    <a:pt x="1331" y="10"/>
                  </a:lnTo>
                  <a:lnTo>
                    <a:pt x="1307" y="30"/>
                  </a:lnTo>
                  <a:lnTo>
                    <a:pt x="1281" y="47"/>
                  </a:lnTo>
                  <a:lnTo>
                    <a:pt x="1254" y="62"/>
                  </a:lnTo>
                  <a:lnTo>
                    <a:pt x="1227" y="75"/>
                  </a:lnTo>
                  <a:lnTo>
                    <a:pt x="1198" y="86"/>
                  </a:lnTo>
                  <a:lnTo>
                    <a:pt x="1168" y="95"/>
                  </a:lnTo>
                  <a:lnTo>
                    <a:pt x="1138" y="103"/>
                  </a:lnTo>
                  <a:lnTo>
                    <a:pt x="1107" y="109"/>
                  </a:lnTo>
                  <a:lnTo>
                    <a:pt x="1076" y="114"/>
                  </a:lnTo>
                  <a:lnTo>
                    <a:pt x="1045" y="117"/>
                  </a:lnTo>
                  <a:lnTo>
                    <a:pt x="1012" y="119"/>
                  </a:lnTo>
                  <a:lnTo>
                    <a:pt x="980" y="121"/>
                  </a:lnTo>
                  <a:lnTo>
                    <a:pt x="949" y="121"/>
                  </a:lnTo>
                  <a:lnTo>
                    <a:pt x="917" y="121"/>
                  </a:lnTo>
                  <a:lnTo>
                    <a:pt x="884" y="118"/>
                  </a:lnTo>
                  <a:lnTo>
                    <a:pt x="853" y="117"/>
                  </a:lnTo>
                  <a:lnTo>
                    <a:pt x="810" y="115"/>
                  </a:lnTo>
                  <a:lnTo>
                    <a:pt x="765" y="114"/>
                  </a:lnTo>
                  <a:lnTo>
                    <a:pt x="721" y="113"/>
                  </a:lnTo>
                  <a:lnTo>
                    <a:pt x="676" y="110"/>
                  </a:lnTo>
                  <a:lnTo>
                    <a:pt x="631" y="109"/>
                  </a:lnTo>
                  <a:lnTo>
                    <a:pt x="586" y="108"/>
                  </a:lnTo>
                  <a:lnTo>
                    <a:pt x="540" y="107"/>
                  </a:lnTo>
                  <a:lnTo>
                    <a:pt x="495" y="104"/>
                  </a:lnTo>
                  <a:lnTo>
                    <a:pt x="450" y="103"/>
                  </a:lnTo>
                  <a:lnTo>
                    <a:pt x="405" y="101"/>
                  </a:lnTo>
                  <a:lnTo>
                    <a:pt x="360" y="99"/>
                  </a:lnTo>
                  <a:lnTo>
                    <a:pt x="316" y="95"/>
                  </a:lnTo>
                  <a:lnTo>
                    <a:pt x="271" y="93"/>
                  </a:lnTo>
                  <a:lnTo>
                    <a:pt x="227" y="90"/>
                  </a:lnTo>
                  <a:lnTo>
                    <a:pt x="183" y="85"/>
                  </a:lnTo>
                  <a:lnTo>
                    <a:pt x="139" y="80"/>
                  </a:lnTo>
                  <a:lnTo>
                    <a:pt x="124" y="79"/>
                  </a:lnTo>
                  <a:lnTo>
                    <a:pt x="109" y="78"/>
                  </a:lnTo>
                  <a:lnTo>
                    <a:pt x="94" y="78"/>
                  </a:lnTo>
                  <a:lnTo>
                    <a:pt x="79" y="78"/>
                  </a:lnTo>
                  <a:lnTo>
                    <a:pt x="64" y="77"/>
                  </a:lnTo>
                  <a:lnTo>
                    <a:pt x="49" y="76"/>
                  </a:lnTo>
                  <a:lnTo>
                    <a:pt x="34" y="75"/>
                  </a:lnTo>
                  <a:lnTo>
                    <a:pt x="20" y="71"/>
                  </a:lnTo>
                  <a:lnTo>
                    <a:pt x="14" y="68"/>
                  </a:lnTo>
                  <a:lnTo>
                    <a:pt x="8" y="65"/>
                  </a:lnTo>
                  <a:lnTo>
                    <a:pt x="2" y="62"/>
                  </a:lnTo>
                  <a:lnTo>
                    <a:pt x="0" y="56"/>
                  </a:lnTo>
                  <a:lnTo>
                    <a:pt x="5" y="54"/>
                  </a:lnTo>
                  <a:lnTo>
                    <a:pt x="8" y="54"/>
                  </a:lnTo>
                  <a:lnTo>
                    <a:pt x="13" y="55"/>
                  </a:lnTo>
                  <a:lnTo>
                    <a:pt x="16" y="57"/>
                  </a:lnTo>
                  <a:lnTo>
                    <a:pt x="21" y="60"/>
                  </a:lnTo>
                  <a:lnTo>
                    <a:pt x="25" y="62"/>
                  </a:lnTo>
                  <a:lnTo>
                    <a:pt x="30" y="64"/>
                  </a:lnTo>
                  <a:lnTo>
                    <a:pt x="34"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844800" y="2459160"/>
              <a:ext cx="32040" cy="90360"/>
            </a:xfrm>
            <a:custGeom>
              <a:avLst/>
              <a:gdLst/>
              <a:ahLst/>
              <a:rect l="l" t="t" r="r" b="b"/>
              <a:pathLst>
                <a:path w="40" h="114">
                  <a:moveTo>
                    <a:pt x="20" y="0"/>
                  </a:moveTo>
                  <a:lnTo>
                    <a:pt x="35" y="1"/>
                  </a:lnTo>
                  <a:lnTo>
                    <a:pt x="36" y="30"/>
                  </a:lnTo>
                  <a:lnTo>
                    <a:pt x="36" y="57"/>
                  </a:lnTo>
                  <a:lnTo>
                    <a:pt x="38" y="86"/>
                  </a:lnTo>
                  <a:lnTo>
                    <a:pt x="40" y="114"/>
                  </a:lnTo>
                  <a:lnTo>
                    <a:pt x="35" y="112"/>
                  </a:lnTo>
                  <a:lnTo>
                    <a:pt x="30" y="109"/>
                  </a:lnTo>
                  <a:lnTo>
                    <a:pt x="24" y="108"/>
                  </a:lnTo>
                  <a:lnTo>
                    <a:pt x="20" y="106"/>
                  </a:lnTo>
                  <a:lnTo>
                    <a:pt x="14" y="105"/>
                  </a:lnTo>
                  <a:lnTo>
                    <a:pt x="9" y="101"/>
                  </a:lnTo>
                  <a:lnTo>
                    <a:pt x="5" y="99"/>
                  </a:lnTo>
                  <a:lnTo>
                    <a:pt x="0" y="94"/>
                  </a:lnTo>
                  <a:lnTo>
                    <a:pt x="4" y="70"/>
                  </a:lnTo>
                  <a:lnTo>
                    <a:pt x="8" y="47"/>
                  </a:lnTo>
                  <a:lnTo>
                    <a:pt x="14" y="23"/>
                  </a:lnTo>
                  <a:lnTo>
                    <a:pt x="20" y="0"/>
                  </a:lnTo>
                  <a:close/>
                </a:path>
              </a:pathLst>
            </a:custGeom>
            <a:solidFill>
              <a:srgbClr val="ff9e3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 name=""/>
            <p:cNvSpPr/>
            <p:nvPr/>
          </p:nvSpPr>
          <p:spPr>
            <a:xfrm>
              <a:off x="3884760" y="2462040"/>
              <a:ext cx="226800" cy="100080"/>
            </a:xfrm>
            <a:custGeom>
              <a:avLst/>
              <a:gdLst/>
              <a:ahLst/>
              <a:rect l="l" t="t" r="r" b="b"/>
              <a:pathLst>
                <a:path w="285" h="127">
                  <a:moveTo>
                    <a:pt x="0" y="0"/>
                  </a:moveTo>
                  <a:lnTo>
                    <a:pt x="13" y="0"/>
                  </a:lnTo>
                  <a:lnTo>
                    <a:pt x="28" y="1"/>
                  </a:lnTo>
                  <a:lnTo>
                    <a:pt x="42" y="1"/>
                  </a:lnTo>
                  <a:lnTo>
                    <a:pt x="57" y="2"/>
                  </a:lnTo>
                  <a:lnTo>
                    <a:pt x="71" y="4"/>
                  </a:lnTo>
                  <a:lnTo>
                    <a:pt x="86" y="4"/>
                  </a:lnTo>
                  <a:lnTo>
                    <a:pt x="100" y="5"/>
                  </a:lnTo>
                  <a:lnTo>
                    <a:pt x="115" y="6"/>
                  </a:lnTo>
                  <a:lnTo>
                    <a:pt x="129" y="8"/>
                  </a:lnTo>
                  <a:lnTo>
                    <a:pt x="142" y="9"/>
                  </a:lnTo>
                  <a:lnTo>
                    <a:pt x="156" y="12"/>
                  </a:lnTo>
                  <a:lnTo>
                    <a:pt x="170" y="14"/>
                  </a:lnTo>
                  <a:lnTo>
                    <a:pt x="184" y="16"/>
                  </a:lnTo>
                  <a:lnTo>
                    <a:pt x="197" y="18"/>
                  </a:lnTo>
                  <a:lnTo>
                    <a:pt x="209" y="22"/>
                  </a:lnTo>
                  <a:lnTo>
                    <a:pt x="222" y="25"/>
                  </a:lnTo>
                  <a:lnTo>
                    <a:pt x="231" y="36"/>
                  </a:lnTo>
                  <a:lnTo>
                    <a:pt x="240" y="46"/>
                  </a:lnTo>
                  <a:lnTo>
                    <a:pt x="250" y="58"/>
                  </a:lnTo>
                  <a:lnTo>
                    <a:pt x="258" y="70"/>
                  </a:lnTo>
                  <a:lnTo>
                    <a:pt x="265" y="82"/>
                  </a:lnTo>
                  <a:lnTo>
                    <a:pt x="271" y="95"/>
                  </a:lnTo>
                  <a:lnTo>
                    <a:pt x="278" y="106"/>
                  </a:lnTo>
                  <a:lnTo>
                    <a:pt x="285" y="119"/>
                  </a:lnTo>
                  <a:lnTo>
                    <a:pt x="285" y="123"/>
                  </a:lnTo>
                  <a:lnTo>
                    <a:pt x="267" y="122"/>
                  </a:lnTo>
                  <a:lnTo>
                    <a:pt x="250" y="121"/>
                  </a:lnTo>
                  <a:lnTo>
                    <a:pt x="232" y="121"/>
                  </a:lnTo>
                  <a:lnTo>
                    <a:pt x="214" y="121"/>
                  </a:lnTo>
                  <a:lnTo>
                    <a:pt x="197" y="122"/>
                  </a:lnTo>
                  <a:lnTo>
                    <a:pt x="178" y="123"/>
                  </a:lnTo>
                  <a:lnTo>
                    <a:pt x="161" y="124"/>
                  </a:lnTo>
                  <a:lnTo>
                    <a:pt x="144" y="126"/>
                  </a:lnTo>
                  <a:lnTo>
                    <a:pt x="126" y="126"/>
                  </a:lnTo>
                  <a:lnTo>
                    <a:pt x="109" y="127"/>
                  </a:lnTo>
                  <a:lnTo>
                    <a:pt x="92" y="127"/>
                  </a:lnTo>
                  <a:lnTo>
                    <a:pt x="74" y="126"/>
                  </a:lnTo>
                  <a:lnTo>
                    <a:pt x="57" y="124"/>
                  </a:lnTo>
                  <a:lnTo>
                    <a:pt x="40" y="122"/>
                  </a:lnTo>
                  <a:lnTo>
                    <a:pt x="23" y="119"/>
                  </a:lnTo>
                  <a:lnTo>
                    <a:pt x="5" y="114"/>
                  </a:lnTo>
                  <a:lnTo>
                    <a:pt x="2" y="88"/>
                  </a:lnTo>
                  <a:lnTo>
                    <a:pt x="0" y="59"/>
                  </a:lnTo>
                  <a:lnTo>
                    <a:pt x="0" y="29"/>
                  </a:lnTo>
                  <a:lnTo>
                    <a:pt x="0" y="0"/>
                  </a:lnTo>
                  <a:close/>
                </a:path>
              </a:pathLst>
            </a:custGeom>
            <a:solidFill>
              <a:srgbClr val="fff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971880" y="2314440"/>
              <a:ext cx="714600" cy="49320"/>
            </a:xfrm>
            <a:custGeom>
              <a:avLst/>
              <a:gdLst/>
              <a:ahLst/>
              <a:rect l="l" t="t" r="r" b="b"/>
              <a:pathLst>
                <a:path w="901" h="63">
                  <a:moveTo>
                    <a:pt x="21" y="0"/>
                  </a:moveTo>
                  <a:lnTo>
                    <a:pt x="36" y="10"/>
                  </a:lnTo>
                  <a:lnTo>
                    <a:pt x="52" y="16"/>
                  </a:lnTo>
                  <a:lnTo>
                    <a:pt x="67" y="18"/>
                  </a:lnTo>
                  <a:lnTo>
                    <a:pt x="84" y="19"/>
                  </a:lnTo>
                  <a:lnTo>
                    <a:pt x="100" y="19"/>
                  </a:lnTo>
                  <a:lnTo>
                    <a:pt x="118" y="19"/>
                  </a:lnTo>
                  <a:lnTo>
                    <a:pt x="135" y="19"/>
                  </a:lnTo>
                  <a:lnTo>
                    <a:pt x="153" y="20"/>
                  </a:lnTo>
                  <a:lnTo>
                    <a:pt x="157" y="21"/>
                  </a:lnTo>
                  <a:lnTo>
                    <a:pt x="160" y="24"/>
                  </a:lnTo>
                  <a:lnTo>
                    <a:pt x="165" y="24"/>
                  </a:lnTo>
                  <a:lnTo>
                    <a:pt x="171" y="20"/>
                  </a:lnTo>
                  <a:lnTo>
                    <a:pt x="205" y="24"/>
                  </a:lnTo>
                  <a:lnTo>
                    <a:pt x="240" y="26"/>
                  </a:lnTo>
                  <a:lnTo>
                    <a:pt x="274" y="27"/>
                  </a:lnTo>
                  <a:lnTo>
                    <a:pt x="309" y="28"/>
                  </a:lnTo>
                  <a:lnTo>
                    <a:pt x="345" y="29"/>
                  </a:lnTo>
                  <a:lnTo>
                    <a:pt x="379" y="31"/>
                  </a:lnTo>
                  <a:lnTo>
                    <a:pt x="415" y="31"/>
                  </a:lnTo>
                  <a:lnTo>
                    <a:pt x="449" y="31"/>
                  </a:lnTo>
                  <a:lnTo>
                    <a:pt x="484" y="31"/>
                  </a:lnTo>
                  <a:lnTo>
                    <a:pt x="520" y="31"/>
                  </a:lnTo>
                  <a:lnTo>
                    <a:pt x="554" y="31"/>
                  </a:lnTo>
                  <a:lnTo>
                    <a:pt x="589" y="29"/>
                  </a:lnTo>
                  <a:lnTo>
                    <a:pt x="622" y="29"/>
                  </a:lnTo>
                  <a:lnTo>
                    <a:pt x="657" y="29"/>
                  </a:lnTo>
                  <a:lnTo>
                    <a:pt x="689" y="29"/>
                  </a:lnTo>
                  <a:lnTo>
                    <a:pt x="722" y="29"/>
                  </a:lnTo>
                  <a:lnTo>
                    <a:pt x="744" y="31"/>
                  </a:lnTo>
                  <a:lnTo>
                    <a:pt x="766" y="32"/>
                  </a:lnTo>
                  <a:lnTo>
                    <a:pt x="788" y="31"/>
                  </a:lnTo>
                  <a:lnTo>
                    <a:pt x="811" y="29"/>
                  </a:lnTo>
                  <a:lnTo>
                    <a:pt x="833" y="28"/>
                  </a:lnTo>
                  <a:lnTo>
                    <a:pt x="856" y="27"/>
                  </a:lnTo>
                  <a:lnTo>
                    <a:pt x="878" y="27"/>
                  </a:lnTo>
                  <a:lnTo>
                    <a:pt x="901" y="27"/>
                  </a:lnTo>
                  <a:lnTo>
                    <a:pt x="874" y="62"/>
                  </a:lnTo>
                  <a:lnTo>
                    <a:pt x="869" y="59"/>
                  </a:lnTo>
                  <a:lnTo>
                    <a:pt x="864" y="58"/>
                  </a:lnTo>
                  <a:lnTo>
                    <a:pt x="858" y="58"/>
                  </a:lnTo>
                  <a:lnTo>
                    <a:pt x="854" y="62"/>
                  </a:lnTo>
                  <a:lnTo>
                    <a:pt x="813" y="62"/>
                  </a:lnTo>
                  <a:lnTo>
                    <a:pt x="774" y="62"/>
                  </a:lnTo>
                  <a:lnTo>
                    <a:pt x="734" y="62"/>
                  </a:lnTo>
                  <a:lnTo>
                    <a:pt x="694" y="62"/>
                  </a:lnTo>
                  <a:lnTo>
                    <a:pt x="653" y="62"/>
                  </a:lnTo>
                  <a:lnTo>
                    <a:pt x="613" y="62"/>
                  </a:lnTo>
                  <a:lnTo>
                    <a:pt x="573" y="63"/>
                  </a:lnTo>
                  <a:lnTo>
                    <a:pt x="532" y="63"/>
                  </a:lnTo>
                  <a:lnTo>
                    <a:pt x="492" y="63"/>
                  </a:lnTo>
                  <a:lnTo>
                    <a:pt x="452" y="63"/>
                  </a:lnTo>
                  <a:lnTo>
                    <a:pt x="412" y="63"/>
                  </a:lnTo>
                  <a:lnTo>
                    <a:pt x="372" y="63"/>
                  </a:lnTo>
                  <a:lnTo>
                    <a:pt x="333" y="63"/>
                  </a:lnTo>
                  <a:lnTo>
                    <a:pt x="294" y="62"/>
                  </a:lnTo>
                  <a:lnTo>
                    <a:pt x="255" y="61"/>
                  </a:lnTo>
                  <a:lnTo>
                    <a:pt x="217" y="59"/>
                  </a:lnTo>
                  <a:lnTo>
                    <a:pt x="204" y="58"/>
                  </a:lnTo>
                  <a:lnTo>
                    <a:pt x="191" y="56"/>
                  </a:lnTo>
                  <a:lnTo>
                    <a:pt x="180" y="55"/>
                  </a:lnTo>
                  <a:lnTo>
                    <a:pt x="168" y="54"/>
                  </a:lnTo>
                  <a:lnTo>
                    <a:pt x="157" y="53"/>
                  </a:lnTo>
                  <a:lnTo>
                    <a:pt x="145" y="53"/>
                  </a:lnTo>
                  <a:lnTo>
                    <a:pt x="134" y="51"/>
                  </a:lnTo>
                  <a:lnTo>
                    <a:pt x="122" y="51"/>
                  </a:lnTo>
                  <a:lnTo>
                    <a:pt x="118" y="57"/>
                  </a:lnTo>
                  <a:lnTo>
                    <a:pt x="104" y="53"/>
                  </a:lnTo>
                  <a:lnTo>
                    <a:pt x="89" y="49"/>
                  </a:lnTo>
                  <a:lnTo>
                    <a:pt x="75" y="46"/>
                  </a:lnTo>
                  <a:lnTo>
                    <a:pt x="60" y="42"/>
                  </a:lnTo>
                  <a:lnTo>
                    <a:pt x="45" y="40"/>
                  </a:lnTo>
                  <a:lnTo>
                    <a:pt x="30" y="38"/>
                  </a:lnTo>
                  <a:lnTo>
                    <a:pt x="15" y="35"/>
                  </a:lnTo>
                  <a:lnTo>
                    <a:pt x="0" y="33"/>
                  </a:lnTo>
                  <a:lnTo>
                    <a:pt x="21" y="0"/>
                  </a:lnTo>
                  <a:close/>
                </a:path>
              </a:pathLst>
            </a:custGeom>
            <a:solidFill>
              <a:srgbClr val="7f7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6" name=""/>
            <p:cNvSpPr/>
            <p:nvPr/>
          </p:nvSpPr>
          <p:spPr>
            <a:xfrm>
              <a:off x="3992400" y="2052720"/>
              <a:ext cx="855720" cy="257040"/>
            </a:xfrm>
            <a:custGeom>
              <a:avLst/>
              <a:gdLst/>
              <a:ahLst/>
              <a:rect l="l" t="t" r="r" b="b"/>
              <a:pathLst>
                <a:path w="1078" h="325">
                  <a:moveTo>
                    <a:pt x="252" y="67"/>
                  </a:moveTo>
                  <a:lnTo>
                    <a:pt x="267" y="59"/>
                  </a:lnTo>
                  <a:lnTo>
                    <a:pt x="283" y="51"/>
                  </a:lnTo>
                  <a:lnTo>
                    <a:pt x="298" y="43"/>
                  </a:lnTo>
                  <a:lnTo>
                    <a:pt x="313" y="35"/>
                  </a:lnTo>
                  <a:lnTo>
                    <a:pt x="328" y="28"/>
                  </a:lnTo>
                  <a:lnTo>
                    <a:pt x="344" y="21"/>
                  </a:lnTo>
                  <a:lnTo>
                    <a:pt x="360" y="15"/>
                  </a:lnTo>
                  <a:lnTo>
                    <a:pt x="377" y="12"/>
                  </a:lnTo>
                  <a:lnTo>
                    <a:pt x="384" y="16"/>
                  </a:lnTo>
                  <a:lnTo>
                    <a:pt x="390" y="18"/>
                  </a:lnTo>
                  <a:lnTo>
                    <a:pt x="397" y="22"/>
                  </a:lnTo>
                  <a:lnTo>
                    <a:pt x="405" y="25"/>
                  </a:lnTo>
                  <a:lnTo>
                    <a:pt x="426" y="21"/>
                  </a:lnTo>
                  <a:lnTo>
                    <a:pt x="447" y="17"/>
                  </a:lnTo>
                  <a:lnTo>
                    <a:pt x="468" y="14"/>
                  </a:lnTo>
                  <a:lnTo>
                    <a:pt x="489" y="13"/>
                  </a:lnTo>
                  <a:lnTo>
                    <a:pt x="511" y="10"/>
                  </a:lnTo>
                  <a:lnTo>
                    <a:pt x="533" y="9"/>
                  </a:lnTo>
                  <a:lnTo>
                    <a:pt x="555" y="8"/>
                  </a:lnTo>
                  <a:lnTo>
                    <a:pt x="576" y="8"/>
                  </a:lnTo>
                  <a:lnTo>
                    <a:pt x="597" y="8"/>
                  </a:lnTo>
                  <a:lnTo>
                    <a:pt x="619" y="7"/>
                  </a:lnTo>
                  <a:lnTo>
                    <a:pt x="641" y="7"/>
                  </a:lnTo>
                  <a:lnTo>
                    <a:pt x="663" y="6"/>
                  </a:lnTo>
                  <a:lnTo>
                    <a:pt x="685" y="6"/>
                  </a:lnTo>
                  <a:lnTo>
                    <a:pt x="707" y="3"/>
                  </a:lnTo>
                  <a:lnTo>
                    <a:pt x="728" y="2"/>
                  </a:lnTo>
                  <a:lnTo>
                    <a:pt x="749" y="0"/>
                  </a:lnTo>
                  <a:lnTo>
                    <a:pt x="769" y="0"/>
                  </a:lnTo>
                  <a:lnTo>
                    <a:pt x="789" y="0"/>
                  </a:lnTo>
                  <a:lnTo>
                    <a:pt x="808" y="0"/>
                  </a:lnTo>
                  <a:lnTo>
                    <a:pt x="828" y="0"/>
                  </a:lnTo>
                  <a:lnTo>
                    <a:pt x="848" y="0"/>
                  </a:lnTo>
                  <a:lnTo>
                    <a:pt x="868" y="1"/>
                  </a:lnTo>
                  <a:lnTo>
                    <a:pt x="888" y="1"/>
                  </a:lnTo>
                  <a:lnTo>
                    <a:pt x="908" y="1"/>
                  </a:lnTo>
                  <a:lnTo>
                    <a:pt x="928" y="1"/>
                  </a:lnTo>
                  <a:lnTo>
                    <a:pt x="948" y="2"/>
                  </a:lnTo>
                  <a:lnTo>
                    <a:pt x="968" y="2"/>
                  </a:lnTo>
                  <a:lnTo>
                    <a:pt x="988" y="3"/>
                  </a:lnTo>
                  <a:lnTo>
                    <a:pt x="1006" y="3"/>
                  </a:lnTo>
                  <a:lnTo>
                    <a:pt x="1026" y="5"/>
                  </a:lnTo>
                  <a:lnTo>
                    <a:pt x="1044" y="5"/>
                  </a:lnTo>
                  <a:lnTo>
                    <a:pt x="1063" y="6"/>
                  </a:lnTo>
                  <a:lnTo>
                    <a:pt x="1064" y="9"/>
                  </a:lnTo>
                  <a:lnTo>
                    <a:pt x="1067" y="12"/>
                  </a:lnTo>
                  <a:lnTo>
                    <a:pt x="1071" y="12"/>
                  </a:lnTo>
                  <a:lnTo>
                    <a:pt x="1075" y="9"/>
                  </a:lnTo>
                  <a:lnTo>
                    <a:pt x="1078" y="17"/>
                  </a:lnTo>
                  <a:lnTo>
                    <a:pt x="1075" y="25"/>
                  </a:lnTo>
                  <a:lnTo>
                    <a:pt x="1070" y="32"/>
                  </a:lnTo>
                  <a:lnTo>
                    <a:pt x="1063" y="37"/>
                  </a:lnTo>
                  <a:lnTo>
                    <a:pt x="1051" y="37"/>
                  </a:lnTo>
                  <a:lnTo>
                    <a:pt x="1052" y="28"/>
                  </a:lnTo>
                  <a:lnTo>
                    <a:pt x="1048" y="20"/>
                  </a:lnTo>
                  <a:lnTo>
                    <a:pt x="1041" y="14"/>
                  </a:lnTo>
                  <a:lnTo>
                    <a:pt x="1034" y="9"/>
                  </a:lnTo>
                  <a:lnTo>
                    <a:pt x="1018" y="7"/>
                  </a:lnTo>
                  <a:lnTo>
                    <a:pt x="1003" y="8"/>
                  </a:lnTo>
                  <a:lnTo>
                    <a:pt x="989" y="13"/>
                  </a:lnTo>
                  <a:lnTo>
                    <a:pt x="975" y="18"/>
                  </a:lnTo>
                  <a:lnTo>
                    <a:pt x="961" y="25"/>
                  </a:lnTo>
                  <a:lnTo>
                    <a:pt x="948" y="33"/>
                  </a:lnTo>
                  <a:lnTo>
                    <a:pt x="935" y="40"/>
                  </a:lnTo>
                  <a:lnTo>
                    <a:pt x="921" y="47"/>
                  </a:lnTo>
                  <a:lnTo>
                    <a:pt x="915" y="52"/>
                  </a:lnTo>
                  <a:lnTo>
                    <a:pt x="910" y="56"/>
                  </a:lnTo>
                  <a:lnTo>
                    <a:pt x="904" y="60"/>
                  </a:lnTo>
                  <a:lnTo>
                    <a:pt x="898" y="65"/>
                  </a:lnTo>
                  <a:lnTo>
                    <a:pt x="891" y="69"/>
                  </a:lnTo>
                  <a:lnTo>
                    <a:pt x="885" y="74"/>
                  </a:lnTo>
                  <a:lnTo>
                    <a:pt x="880" y="79"/>
                  </a:lnTo>
                  <a:lnTo>
                    <a:pt x="875" y="85"/>
                  </a:lnTo>
                  <a:lnTo>
                    <a:pt x="869" y="75"/>
                  </a:lnTo>
                  <a:lnTo>
                    <a:pt x="862" y="63"/>
                  </a:lnTo>
                  <a:lnTo>
                    <a:pt x="854" y="54"/>
                  </a:lnTo>
                  <a:lnTo>
                    <a:pt x="844" y="47"/>
                  </a:lnTo>
                  <a:lnTo>
                    <a:pt x="830" y="50"/>
                  </a:lnTo>
                  <a:lnTo>
                    <a:pt x="817" y="53"/>
                  </a:lnTo>
                  <a:lnTo>
                    <a:pt x="805" y="58"/>
                  </a:lnTo>
                  <a:lnTo>
                    <a:pt x="793" y="63"/>
                  </a:lnTo>
                  <a:lnTo>
                    <a:pt x="782" y="70"/>
                  </a:lnTo>
                  <a:lnTo>
                    <a:pt x="770" y="76"/>
                  </a:lnTo>
                  <a:lnTo>
                    <a:pt x="757" y="83"/>
                  </a:lnTo>
                  <a:lnTo>
                    <a:pt x="746" y="89"/>
                  </a:lnTo>
                  <a:lnTo>
                    <a:pt x="740" y="75"/>
                  </a:lnTo>
                  <a:lnTo>
                    <a:pt x="731" y="66"/>
                  </a:lnTo>
                  <a:lnTo>
                    <a:pt x="721" y="59"/>
                  </a:lnTo>
                  <a:lnTo>
                    <a:pt x="708" y="55"/>
                  </a:lnTo>
                  <a:lnTo>
                    <a:pt x="695" y="53"/>
                  </a:lnTo>
                  <a:lnTo>
                    <a:pt x="681" y="52"/>
                  </a:lnTo>
                  <a:lnTo>
                    <a:pt x="669" y="50"/>
                  </a:lnTo>
                  <a:lnTo>
                    <a:pt x="656" y="47"/>
                  </a:lnTo>
                  <a:lnTo>
                    <a:pt x="642" y="48"/>
                  </a:lnTo>
                  <a:lnTo>
                    <a:pt x="628" y="48"/>
                  </a:lnTo>
                  <a:lnTo>
                    <a:pt x="616" y="50"/>
                  </a:lnTo>
                  <a:lnTo>
                    <a:pt x="602" y="51"/>
                  </a:lnTo>
                  <a:lnTo>
                    <a:pt x="588" y="52"/>
                  </a:lnTo>
                  <a:lnTo>
                    <a:pt x="576" y="54"/>
                  </a:lnTo>
                  <a:lnTo>
                    <a:pt x="563" y="56"/>
                  </a:lnTo>
                  <a:lnTo>
                    <a:pt x="550" y="59"/>
                  </a:lnTo>
                  <a:lnTo>
                    <a:pt x="547" y="51"/>
                  </a:lnTo>
                  <a:lnTo>
                    <a:pt x="541" y="43"/>
                  </a:lnTo>
                  <a:lnTo>
                    <a:pt x="535" y="36"/>
                  </a:lnTo>
                  <a:lnTo>
                    <a:pt x="528" y="29"/>
                  </a:lnTo>
                  <a:lnTo>
                    <a:pt x="514" y="28"/>
                  </a:lnTo>
                  <a:lnTo>
                    <a:pt x="501" y="29"/>
                  </a:lnTo>
                  <a:lnTo>
                    <a:pt x="488" y="30"/>
                  </a:lnTo>
                  <a:lnTo>
                    <a:pt x="475" y="33"/>
                  </a:lnTo>
                  <a:lnTo>
                    <a:pt x="463" y="39"/>
                  </a:lnTo>
                  <a:lnTo>
                    <a:pt x="451" y="45"/>
                  </a:lnTo>
                  <a:lnTo>
                    <a:pt x="440" y="53"/>
                  </a:lnTo>
                  <a:lnTo>
                    <a:pt x="429" y="62"/>
                  </a:lnTo>
                  <a:lnTo>
                    <a:pt x="290" y="192"/>
                  </a:lnTo>
                  <a:lnTo>
                    <a:pt x="282" y="205"/>
                  </a:lnTo>
                  <a:lnTo>
                    <a:pt x="280" y="218"/>
                  </a:lnTo>
                  <a:lnTo>
                    <a:pt x="281" y="229"/>
                  </a:lnTo>
                  <a:lnTo>
                    <a:pt x="285" y="241"/>
                  </a:lnTo>
                  <a:lnTo>
                    <a:pt x="291" y="252"/>
                  </a:lnTo>
                  <a:lnTo>
                    <a:pt x="298" y="264"/>
                  </a:lnTo>
                  <a:lnTo>
                    <a:pt x="305" y="275"/>
                  </a:lnTo>
                  <a:lnTo>
                    <a:pt x="311" y="286"/>
                  </a:lnTo>
                  <a:lnTo>
                    <a:pt x="254" y="290"/>
                  </a:lnTo>
                  <a:lnTo>
                    <a:pt x="254" y="275"/>
                  </a:lnTo>
                  <a:lnTo>
                    <a:pt x="255" y="262"/>
                  </a:lnTo>
                  <a:lnTo>
                    <a:pt x="254" y="249"/>
                  </a:lnTo>
                  <a:lnTo>
                    <a:pt x="246" y="240"/>
                  </a:lnTo>
                  <a:lnTo>
                    <a:pt x="248" y="236"/>
                  </a:lnTo>
                  <a:lnTo>
                    <a:pt x="251" y="232"/>
                  </a:lnTo>
                  <a:lnTo>
                    <a:pt x="252" y="228"/>
                  </a:lnTo>
                  <a:lnTo>
                    <a:pt x="252" y="224"/>
                  </a:lnTo>
                  <a:lnTo>
                    <a:pt x="247" y="221"/>
                  </a:lnTo>
                  <a:lnTo>
                    <a:pt x="231" y="221"/>
                  </a:lnTo>
                  <a:lnTo>
                    <a:pt x="215" y="220"/>
                  </a:lnTo>
                  <a:lnTo>
                    <a:pt x="199" y="219"/>
                  </a:lnTo>
                  <a:lnTo>
                    <a:pt x="184" y="219"/>
                  </a:lnTo>
                  <a:lnTo>
                    <a:pt x="168" y="218"/>
                  </a:lnTo>
                  <a:lnTo>
                    <a:pt x="152" y="218"/>
                  </a:lnTo>
                  <a:lnTo>
                    <a:pt x="137" y="219"/>
                  </a:lnTo>
                  <a:lnTo>
                    <a:pt x="121" y="220"/>
                  </a:lnTo>
                  <a:lnTo>
                    <a:pt x="107" y="225"/>
                  </a:lnTo>
                  <a:lnTo>
                    <a:pt x="95" y="239"/>
                  </a:lnTo>
                  <a:lnTo>
                    <a:pt x="84" y="251"/>
                  </a:lnTo>
                  <a:lnTo>
                    <a:pt x="72" y="265"/>
                  </a:lnTo>
                  <a:lnTo>
                    <a:pt x="60" y="278"/>
                  </a:lnTo>
                  <a:lnTo>
                    <a:pt x="48" y="290"/>
                  </a:lnTo>
                  <a:lnTo>
                    <a:pt x="37" y="302"/>
                  </a:lnTo>
                  <a:lnTo>
                    <a:pt x="24" y="313"/>
                  </a:lnTo>
                  <a:lnTo>
                    <a:pt x="12" y="325"/>
                  </a:lnTo>
                  <a:lnTo>
                    <a:pt x="10" y="324"/>
                  </a:lnTo>
                  <a:lnTo>
                    <a:pt x="7" y="321"/>
                  </a:lnTo>
                  <a:lnTo>
                    <a:pt x="3" y="320"/>
                  </a:lnTo>
                  <a:lnTo>
                    <a:pt x="0" y="323"/>
                  </a:lnTo>
                  <a:lnTo>
                    <a:pt x="12" y="304"/>
                  </a:lnTo>
                  <a:lnTo>
                    <a:pt x="25" y="286"/>
                  </a:lnTo>
                  <a:lnTo>
                    <a:pt x="39" y="268"/>
                  </a:lnTo>
                  <a:lnTo>
                    <a:pt x="53" y="251"/>
                  </a:lnTo>
                  <a:lnTo>
                    <a:pt x="68" y="234"/>
                  </a:lnTo>
                  <a:lnTo>
                    <a:pt x="83" y="217"/>
                  </a:lnTo>
                  <a:lnTo>
                    <a:pt x="99" y="199"/>
                  </a:lnTo>
                  <a:lnTo>
                    <a:pt x="114" y="183"/>
                  </a:lnTo>
                  <a:lnTo>
                    <a:pt x="130" y="167"/>
                  </a:lnTo>
                  <a:lnTo>
                    <a:pt x="147" y="152"/>
                  </a:lnTo>
                  <a:lnTo>
                    <a:pt x="163" y="137"/>
                  </a:lnTo>
                  <a:lnTo>
                    <a:pt x="180" y="122"/>
                  </a:lnTo>
                  <a:lnTo>
                    <a:pt x="198" y="107"/>
                  </a:lnTo>
                  <a:lnTo>
                    <a:pt x="216" y="93"/>
                  </a:lnTo>
                  <a:lnTo>
                    <a:pt x="233" y="79"/>
                  </a:lnTo>
                  <a:lnTo>
                    <a:pt x="252" y="67"/>
                  </a:lnTo>
                  <a:close/>
                </a:path>
              </a:pathLst>
            </a:custGeom>
            <a:solidFill>
              <a:srgbClr val="3f3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016520" y="2236680"/>
              <a:ext cx="161640" cy="84240"/>
            </a:xfrm>
            <a:custGeom>
              <a:avLst/>
              <a:gdLst/>
              <a:ahLst/>
              <a:rect l="l" t="t" r="r" b="b"/>
              <a:pathLst>
                <a:path w="204" h="107">
                  <a:moveTo>
                    <a:pt x="82" y="9"/>
                  </a:moveTo>
                  <a:lnTo>
                    <a:pt x="95" y="2"/>
                  </a:lnTo>
                  <a:lnTo>
                    <a:pt x="109" y="1"/>
                  </a:lnTo>
                  <a:lnTo>
                    <a:pt x="123" y="1"/>
                  </a:lnTo>
                  <a:lnTo>
                    <a:pt x="136" y="1"/>
                  </a:lnTo>
                  <a:lnTo>
                    <a:pt x="150" y="0"/>
                  </a:lnTo>
                  <a:lnTo>
                    <a:pt x="163" y="1"/>
                  </a:lnTo>
                  <a:lnTo>
                    <a:pt x="177" y="1"/>
                  </a:lnTo>
                  <a:lnTo>
                    <a:pt x="190" y="1"/>
                  </a:lnTo>
                  <a:lnTo>
                    <a:pt x="204" y="2"/>
                  </a:lnTo>
                  <a:lnTo>
                    <a:pt x="109" y="104"/>
                  </a:lnTo>
                  <a:lnTo>
                    <a:pt x="96" y="106"/>
                  </a:lnTo>
                  <a:lnTo>
                    <a:pt x="83" y="106"/>
                  </a:lnTo>
                  <a:lnTo>
                    <a:pt x="70" y="107"/>
                  </a:lnTo>
                  <a:lnTo>
                    <a:pt x="55" y="107"/>
                  </a:lnTo>
                  <a:lnTo>
                    <a:pt x="41" y="106"/>
                  </a:lnTo>
                  <a:lnTo>
                    <a:pt x="27" y="104"/>
                  </a:lnTo>
                  <a:lnTo>
                    <a:pt x="13" y="102"/>
                  </a:lnTo>
                  <a:lnTo>
                    <a:pt x="0" y="98"/>
                  </a:lnTo>
                  <a:lnTo>
                    <a:pt x="10" y="86"/>
                  </a:lnTo>
                  <a:lnTo>
                    <a:pt x="19" y="74"/>
                  </a:lnTo>
                  <a:lnTo>
                    <a:pt x="29" y="63"/>
                  </a:lnTo>
                  <a:lnTo>
                    <a:pt x="40" y="53"/>
                  </a:lnTo>
                  <a:lnTo>
                    <a:pt x="51" y="42"/>
                  </a:lnTo>
                  <a:lnTo>
                    <a:pt x="62" y="31"/>
                  </a:lnTo>
                  <a:lnTo>
                    <a:pt x="72" y="20"/>
                  </a:lnTo>
                  <a:lnTo>
                    <a:pt x="82" y="9"/>
                  </a:lnTo>
                  <a:close/>
                </a:path>
              </a:pathLst>
            </a:custGeom>
            <a:solidFill>
              <a:srgbClr val="7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 name=""/>
            <p:cNvSpPr/>
            <p:nvPr/>
          </p:nvSpPr>
          <p:spPr>
            <a:xfrm>
              <a:off x="4022640" y="1563840"/>
              <a:ext cx="962280" cy="498240"/>
            </a:xfrm>
            <a:custGeom>
              <a:avLst/>
              <a:gdLst/>
              <a:ahLst/>
              <a:rect l="l" t="t" r="r" b="b"/>
              <a:pathLst>
                <a:path w="1211" h="627">
                  <a:moveTo>
                    <a:pt x="0" y="92"/>
                  </a:moveTo>
                  <a:lnTo>
                    <a:pt x="20" y="91"/>
                  </a:lnTo>
                  <a:lnTo>
                    <a:pt x="41" y="87"/>
                  </a:lnTo>
                  <a:lnTo>
                    <a:pt x="62" y="83"/>
                  </a:lnTo>
                  <a:lnTo>
                    <a:pt x="82" y="77"/>
                  </a:lnTo>
                  <a:lnTo>
                    <a:pt x="103" y="70"/>
                  </a:lnTo>
                  <a:lnTo>
                    <a:pt x="124" y="61"/>
                  </a:lnTo>
                  <a:lnTo>
                    <a:pt x="143" y="50"/>
                  </a:lnTo>
                  <a:lnTo>
                    <a:pt x="162" y="39"/>
                  </a:lnTo>
                  <a:lnTo>
                    <a:pt x="170" y="35"/>
                  </a:lnTo>
                  <a:lnTo>
                    <a:pt x="178" y="32"/>
                  </a:lnTo>
                  <a:lnTo>
                    <a:pt x="186" y="27"/>
                  </a:lnTo>
                  <a:lnTo>
                    <a:pt x="194" y="23"/>
                  </a:lnTo>
                  <a:lnTo>
                    <a:pt x="202" y="18"/>
                  </a:lnTo>
                  <a:lnTo>
                    <a:pt x="211" y="15"/>
                  </a:lnTo>
                  <a:lnTo>
                    <a:pt x="221" y="14"/>
                  </a:lnTo>
                  <a:lnTo>
                    <a:pt x="231" y="15"/>
                  </a:lnTo>
                  <a:lnTo>
                    <a:pt x="239" y="10"/>
                  </a:lnTo>
                  <a:lnTo>
                    <a:pt x="247" y="7"/>
                  </a:lnTo>
                  <a:lnTo>
                    <a:pt x="256" y="5"/>
                  </a:lnTo>
                  <a:lnTo>
                    <a:pt x="266" y="4"/>
                  </a:lnTo>
                  <a:lnTo>
                    <a:pt x="276" y="3"/>
                  </a:lnTo>
                  <a:lnTo>
                    <a:pt x="285" y="3"/>
                  </a:lnTo>
                  <a:lnTo>
                    <a:pt x="294" y="2"/>
                  </a:lnTo>
                  <a:lnTo>
                    <a:pt x="304" y="0"/>
                  </a:lnTo>
                  <a:lnTo>
                    <a:pt x="320" y="1"/>
                  </a:lnTo>
                  <a:lnTo>
                    <a:pt x="337" y="2"/>
                  </a:lnTo>
                  <a:lnTo>
                    <a:pt x="353" y="2"/>
                  </a:lnTo>
                  <a:lnTo>
                    <a:pt x="369" y="2"/>
                  </a:lnTo>
                  <a:lnTo>
                    <a:pt x="385" y="2"/>
                  </a:lnTo>
                  <a:lnTo>
                    <a:pt x="401" y="2"/>
                  </a:lnTo>
                  <a:lnTo>
                    <a:pt x="418" y="1"/>
                  </a:lnTo>
                  <a:lnTo>
                    <a:pt x="434" y="1"/>
                  </a:lnTo>
                  <a:lnTo>
                    <a:pt x="449" y="1"/>
                  </a:lnTo>
                  <a:lnTo>
                    <a:pt x="465" y="1"/>
                  </a:lnTo>
                  <a:lnTo>
                    <a:pt x="481" y="0"/>
                  </a:lnTo>
                  <a:lnTo>
                    <a:pt x="497" y="0"/>
                  </a:lnTo>
                  <a:lnTo>
                    <a:pt x="513" y="1"/>
                  </a:lnTo>
                  <a:lnTo>
                    <a:pt x="528" y="1"/>
                  </a:lnTo>
                  <a:lnTo>
                    <a:pt x="544" y="2"/>
                  </a:lnTo>
                  <a:lnTo>
                    <a:pt x="560" y="3"/>
                  </a:lnTo>
                  <a:lnTo>
                    <a:pt x="580" y="9"/>
                  </a:lnTo>
                  <a:lnTo>
                    <a:pt x="600" y="15"/>
                  </a:lnTo>
                  <a:lnTo>
                    <a:pt x="620" y="18"/>
                  </a:lnTo>
                  <a:lnTo>
                    <a:pt x="641" y="22"/>
                  </a:lnTo>
                  <a:lnTo>
                    <a:pt x="662" y="25"/>
                  </a:lnTo>
                  <a:lnTo>
                    <a:pt x="684" y="27"/>
                  </a:lnTo>
                  <a:lnTo>
                    <a:pt x="704" y="30"/>
                  </a:lnTo>
                  <a:lnTo>
                    <a:pt x="726" y="31"/>
                  </a:lnTo>
                  <a:lnTo>
                    <a:pt x="747" y="32"/>
                  </a:lnTo>
                  <a:lnTo>
                    <a:pt x="768" y="33"/>
                  </a:lnTo>
                  <a:lnTo>
                    <a:pt x="790" y="33"/>
                  </a:lnTo>
                  <a:lnTo>
                    <a:pt x="810" y="34"/>
                  </a:lnTo>
                  <a:lnTo>
                    <a:pt x="830" y="35"/>
                  </a:lnTo>
                  <a:lnTo>
                    <a:pt x="851" y="35"/>
                  </a:lnTo>
                  <a:lnTo>
                    <a:pt x="870" y="37"/>
                  </a:lnTo>
                  <a:lnTo>
                    <a:pt x="889" y="38"/>
                  </a:lnTo>
                  <a:lnTo>
                    <a:pt x="896" y="43"/>
                  </a:lnTo>
                  <a:lnTo>
                    <a:pt x="897" y="41"/>
                  </a:lnTo>
                  <a:lnTo>
                    <a:pt x="909" y="50"/>
                  </a:lnTo>
                  <a:lnTo>
                    <a:pt x="920" y="61"/>
                  </a:lnTo>
                  <a:lnTo>
                    <a:pt x="929" y="71"/>
                  </a:lnTo>
                  <a:lnTo>
                    <a:pt x="938" y="84"/>
                  </a:lnTo>
                  <a:lnTo>
                    <a:pt x="946" y="95"/>
                  </a:lnTo>
                  <a:lnTo>
                    <a:pt x="954" y="108"/>
                  </a:lnTo>
                  <a:lnTo>
                    <a:pt x="962" y="120"/>
                  </a:lnTo>
                  <a:lnTo>
                    <a:pt x="972" y="131"/>
                  </a:lnTo>
                  <a:lnTo>
                    <a:pt x="966" y="139"/>
                  </a:lnTo>
                  <a:lnTo>
                    <a:pt x="983" y="146"/>
                  </a:lnTo>
                  <a:lnTo>
                    <a:pt x="1038" y="236"/>
                  </a:lnTo>
                  <a:lnTo>
                    <a:pt x="1035" y="238"/>
                  </a:lnTo>
                  <a:lnTo>
                    <a:pt x="1035" y="243"/>
                  </a:lnTo>
                  <a:lnTo>
                    <a:pt x="1036" y="246"/>
                  </a:lnTo>
                  <a:lnTo>
                    <a:pt x="1038" y="250"/>
                  </a:lnTo>
                  <a:lnTo>
                    <a:pt x="1050" y="253"/>
                  </a:lnTo>
                  <a:lnTo>
                    <a:pt x="1067" y="282"/>
                  </a:lnTo>
                  <a:lnTo>
                    <a:pt x="1086" y="312"/>
                  </a:lnTo>
                  <a:lnTo>
                    <a:pt x="1103" y="342"/>
                  </a:lnTo>
                  <a:lnTo>
                    <a:pt x="1120" y="371"/>
                  </a:lnTo>
                  <a:lnTo>
                    <a:pt x="1136" y="402"/>
                  </a:lnTo>
                  <a:lnTo>
                    <a:pt x="1151" y="433"/>
                  </a:lnTo>
                  <a:lnTo>
                    <a:pt x="1165" y="464"/>
                  </a:lnTo>
                  <a:lnTo>
                    <a:pt x="1177" y="496"/>
                  </a:lnTo>
                  <a:lnTo>
                    <a:pt x="1181" y="510"/>
                  </a:lnTo>
                  <a:lnTo>
                    <a:pt x="1186" y="523"/>
                  </a:lnTo>
                  <a:lnTo>
                    <a:pt x="1190" y="537"/>
                  </a:lnTo>
                  <a:lnTo>
                    <a:pt x="1194" y="549"/>
                  </a:lnTo>
                  <a:lnTo>
                    <a:pt x="1198" y="562"/>
                  </a:lnTo>
                  <a:lnTo>
                    <a:pt x="1203" y="576"/>
                  </a:lnTo>
                  <a:lnTo>
                    <a:pt x="1208" y="590"/>
                  </a:lnTo>
                  <a:lnTo>
                    <a:pt x="1211" y="603"/>
                  </a:lnTo>
                  <a:lnTo>
                    <a:pt x="1205" y="607"/>
                  </a:lnTo>
                  <a:lnTo>
                    <a:pt x="1201" y="612"/>
                  </a:lnTo>
                  <a:lnTo>
                    <a:pt x="1195" y="614"/>
                  </a:lnTo>
                  <a:lnTo>
                    <a:pt x="1189" y="612"/>
                  </a:lnTo>
                  <a:lnTo>
                    <a:pt x="1163" y="610"/>
                  </a:lnTo>
                  <a:lnTo>
                    <a:pt x="1137" y="610"/>
                  </a:lnTo>
                  <a:lnTo>
                    <a:pt x="1111" y="609"/>
                  </a:lnTo>
                  <a:lnTo>
                    <a:pt x="1084" y="608"/>
                  </a:lnTo>
                  <a:lnTo>
                    <a:pt x="1059" y="608"/>
                  </a:lnTo>
                  <a:lnTo>
                    <a:pt x="1033" y="607"/>
                  </a:lnTo>
                  <a:lnTo>
                    <a:pt x="1007" y="607"/>
                  </a:lnTo>
                  <a:lnTo>
                    <a:pt x="982" y="606"/>
                  </a:lnTo>
                  <a:lnTo>
                    <a:pt x="955" y="606"/>
                  </a:lnTo>
                  <a:lnTo>
                    <a:pt x="930" y="605"/>
                  </a:lnTo>
                  <a:lnTo>
                    <a:pt x="905" y="605"/>
                  </a:lnTo>
                  <a:lnTo>
                    <a:pt x="878" y="603"/>
                  </a:lnTo>
                  <a:lnTo>
                    <a:pt x="853" y="603"/>
                  </a:lnTo>
                  <a:lnTo>
                    <a:pt x="828" y="603"/>
                  </a:lnTo>
                  <a:lnTo>
                    <a:pt x="802" y="603"/>
                  </a:lnTo>
                  <a:lnTo>
                    <a:pt x="776" y="603"/>
                  </a:lnTo>
                  <a:lnTo>
                    <a:pt x="750" y="603"/>
                  </a:lnTo>
                  <a:lnTo>
                    <a:pt x="725" y="603"/>
                  </a:lnTo>
                  <a:lnTo>
                    <a:pt x="700" y="605"/>
                  </a:lnTo>
                  <a:lnTo>
                    <a:pt x="674" y="605"/>
                  </a:lnTo>
                  <a:lnTo>
                    <a:pt x="648" y="606"/>
                  </a:lnTo>
                  <a:lnTo>
                    <a:pt x="623" y="607"/>
                  </a:lnTo>
                  <a:lnTo>
                    <a:pt x="597" y="608"/>
                  </a:lnTo>
                  <a:lnTo>
                    <a:pt x="572" y="609"/>
                  </a:lnTo>
                  <a:lnTo>
                    <a:pt x="547" y="610"/>
                  </a:lnTo>
                  <a:lnTo>
                    <a:pt x="520" y="612"/>
                  </a:lnTo>
                  <a:lnTo>
                    <a:pt x="495" y="614"/>
                  </a:lnTo>
                  <a:lnTo>
                    <a:pt x="469" y="616"/>
                  </a:lnTo>
                  <a:lnTo>
                    <a:pt x="443" y="618"/>
                  </a:lnTo>
                  <a:lnTo>
                    <a:pt x="418" y="621"/>
                  </a:lnTo>
                  <a:lnTo>
                    <a:pt x="391" y="623"/>
                  </a:lnTo>
                  <a:lnTo>
                    <a:pt x="366" y="627"/>
                  </a:lnTo>
                  <a:lnTo>
                    <a:pt x="365" y="603"/>
                  </a:lnTo>
                  <a:lnTo>
                    <a:pt x="345" y="574"/>
                  </a:lnTo>
                  <a:lnTo>
                    <a:pt x="325" y="544"/>
                  </a:lnTo>
                  <a:lnTo>
                    <a:pt x="307" y="514"/>
                  </a:lnTo>
                  <a:lnTo>
                    <a:pt x="289" y="482"/>
                  </a:lnTo>
                  <a:lnTo>
                    <a:pt x="269" y="453"/>
                  </a:lnTo>
                  <a:lnTo>
                    <a:pt x="251" y="423"/>
                  </a:lnTo>
                  <a:lnTo>
                    <a:pt x="231" y="391"/>
                  </a:lnTo>
                  <a:lnTo>
                    <a:pt x="211" y="361"/>
                  </a:lnTo>
                  <a:lnTo>
                    <a:pt x="192" y="332"/>
                  </a:lnTo>
                  <a:lnTo>
                    <a:pt x="171" y="303"/>
                  </a:lnTo>
                  <a:lnTo>
                    <a:pt x="150" y="273"/>
                  </a:lnTo>
                  <a:lnTo>
                    <a:pt x="129" y="244"/>
                  </a:lnTo>
                  <a:lnTo>
                    <a:pt x="107" y="216"/>
                  </a:lnTo>
                  <a:lnTo>
                    <a:pt x="84" y="187"/>
                  </a:lnTo>
                  <a:lnTo>
                    <a:pt x="59" y="160"/>
                  </a:lnTo>
                  <a:lnTo>
                    <a:pt x="34" y="133"/>
                  </a:lnTo>
                  <a:lnTo>
                    <a:pt x="31" y="128"/>
                  </a:lnTo>
                  <a:lnTo>
                    <a:pt x="26" y="122"/>
                  </a:lnTo>
                  <a:lnTo>
                    <a:pt x="21" y="117"/>
                  </a:lnTo>
                  <a:lnTo>
                    <a:pt x="16" y="114"/>
                  </a:lnTo>
                  <a:lnTo>
                    <a:pt x="11" y="109"/>
                  </a:lnTo>
                  <a:lnTo>
                    <a:pt x="6" y="105"/>
                  </a:lnTo>
                  <a:lnTo>
                    <a:pt x="3" y="99"/>
                  </a:lnTo>
                  <a:lnTo>
                    <a:pt x="0" y="9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052880" y="2293920"/>
              <a:ext cx="33480" cy="20520"/>
            </a:xfrm>
            <a:custGeom>
              <a:avLst/>
              <a:gdLst/>
              <a:ahLst/>
              <a:rect l="l" t="t" r="r" b="b"/>
              <a:pathLst>
                <a:path w="41" h="26">
                  <a:moveTo>
                    <a:pt x="25" y="0"/>
                  </a:moveTo>
                  <a:lnTo>
                    <a:pt x="30" y="1"/>
                  </a:lnTo>
                  <a:lnTo>
                    <a:pt x="34" y="2"/>
                  </a:lnTo>
                  <a:lnTo>
                    <a:pt x="39" y="4"/>
                  </a:lnTo>
                  <a:lnTo>
                    <a:pt x="41" y="8"/>
                  </a:lnTo>
                  <a:lnTo>
                    <a:pt x="40" y="14"/>
                  </a:lnTo>
                  <a:lnTo>
                    <a:pt x="38" y="19"/>
                  </a:lnTo>
                  <a:lnTo>
                    <a:pt x="34" y="21"/>
                  </a:lnTo>
                  <a:lnTo>
                    <a:pt x="30" y="22"/>
                  </a:lnTo>
                  <a:lnTo>
                    <a:pt x="24" y="23"/>
                  </a:lnTo>
                  <a:lnTo>
                    <a:pt x="17" y="24"/>
                  </a:lnTo>
                  <a:lnTo>
                    <a:pt x="11" y="24"/>
                  </a:lnTo>
                  <a:lnTo>
                    <a:pt x="7" y="26"/>
                  </a:lnTo>
                  <a:lnTo>
                    <a:pt x="0" y="19"/>
                  </a:lnTo>
                  <a:lnTo>
                    <a:pt x="4" y="12"/>
                  </a:lnTo>
                  <a:lnTo>
                    <a:pt x="10" y="6"/>
                  </a:lnTo>
                  <a:lnTo>
                    <a:pt x="17" y="2"/>
                  </a:lnTo>
                  <a:lnTo>
                    <a:pt x="2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0" name=""/>
            <p:cNvSpPr/>
            <p:nvPr/>
          </p:nvSpPr>
          <p:spPr>
            <a:xfrm>
              <a:off x="4081320" y="2367000"/>
              <a:ext cx="578160" cy="52200"/>
            </a:xfrm>
            <a:custGeom>
              <a:avLst/>
              <a:gdLst/>
              <a:ahLst/>
              <a:rect l="l" t="t" r="r" b="b"/>
              <a:pathLst>
                <a:path w="728" h="67">
                  <a:moveTo>
                    <a:pt x="290" y="9"/>
                  </a:moveTo>
                  <a:lnTo>
                    <a:pt x="317" y="9"/>
                  </a:lnTo>
                  <a:lnTo>
                    <a:pt x="345" y="9"/>
                  </a:lnTo>
                  <a:lnTo>
                    <a:pt x="372" y="9"/>
                  </a:lnTo>
                  <a:lnTo>
                    <a:pt x="399" y="9"/>
                  </a:lnTo>
                  <a:lnTo>
                    <a:pt x="426" y="9"/>
                  </a:lnTo>
                  <a:lnTo>
                    <a:pt x="454" y="9"/>
                  </a:lnTo>
                  <a:lnTo>
                    <a:pt x="480" y="9"/>
                  </a:lnTo>
                  <a:lnTo>
                    <a:pt x="508" y="9"/>
                  </a:lnTo>
                  <a:lnTo>
                    <a:pt x="536" y="9"/>
                  </a:lnTo>
                  <a:lnTo>
                    <a:pt x="563" y="9"/>
                  </a:lnTo>
                  <a:lnTo>
                    <a:pt x="591" y="9"/>
                  </a:lnTo>
                  <a:lnTo>
                    <a:pt x="619" y="9"/>
                  </a:lnTo>
                  <a:lnTo>
                    <a:pt x="645" y="9"/>
                  </a:lnTo>
                  <a:lnTo>
                    <a:pt x="673" y="9"/>
                  </a:lnTo>
                  <a:lnTo>
                    <a:pt x="700" y="11"/>
                  </a:lnTo>
                  <a:lnTo>
                    <a:pt x="728" y="11"/>
                  </a:lnTo>
                  <a:lnTo>
                    <a:pt x="722" y="17"/>
                  </a:lnTo>
                  <a:lnTo>
                    <a:pt x="710" y="19"/>
                  </a:lnTo>
                  <a:lnTo>
                    <a:pt x="696" y="20"/>
                  </a:lnTo>
                  <a:lnTo>
                    <a:pt x="683" y="22"/>
                  </a:lnTo>
                  <a:lnTo>
                    <a:pt x="669" y="24"/>
                  </a:lnTo>
                  <a:lnTo>
                    <a:pt x="657" y="26"/>
                  </a:lnTo>
                  <a:lnTo>
                    <a:pt x="643" y="28"/>
                  </a:lnTo>
                  <a:lnTo>
                    <a:pt x="630" y="30"/>
                  </a:lnTo>
                  <a:lnTo>
                    <a:pt x="616" y="34"/>
                  </a:lnTo>
                  <a:lnTo>
                    <a:pt x="603" y="36"/>
                  </a:lnTo>
                  <a:lnTo>
                    <a:pt x="590" y="39"/>
                  </a:lnTo>
                  <a:lnTo>
                    <a:pt x="577" y="43"/>
                  </a:lnTo>
                  <a:lnTo>
                    <a:pt x="563" y="46"/>
                  </a:lnTo>
                  <a:lnTo>
                    <a:pt x="551" y="51"/>
                  </a:lnTo>
                  <a:lnTo>
                    <a:pt x="538" y="56"/>
                  </a:lnTo>
                  <a:lnTo>
                    <a:pt x="527" y="60"/>
                  </a:lnTo>
                  <a:lnTo>
                    <a:pt x="514" y="65"/>
                  </a:lnTo>
                  <a:lnTo>
                    <a:pt x="431" y="65"/>
                  </a:lnTo>
                  <a:lnTo>
                    <a:pt x="432" y="61"/>
                  </a:lnTo>
                  <a:lnTo>
                    <a:pt x="432" y="58"/>
                  </a:lnTo>
                  <a:lnTo>
                    <a:pt x="430" y="54"/>
                  </a:lnTo>
                  <a:lnTo>
                    <a:pt x="428" y="51"/>
                  </a:lnTo>
                  <a:lnTo>
                    <a:pt x="424" y="51"/>
                  </a:lnTo>
                  <a:lnTo>
                    <a:pt x="423" y="52"/>
                  </a:lnTo>
                  <a:lnTo>
                    <a:pt x="421" y="54"/>
                  </a:lnTo>
                  <a:lnTo>
                    <a:pt x="418" y="57"/>
                  </a:lnTo>
                  <a:lnTo>
                    <a:pt x="418" y="67"/>
                  </a:lnTo>
                  <a:lnTo>
                    <a:pt x="395" y="67"/>
                  </a:lnTo>
                  <a:lnTo>
                    <a:pt x="394" y="60"/>
                  </a:lnTo>
                  <a:lnTo>
                    <a:pt x="394" y="52"/>
                  </a:lnTo>
                  <a:lnTo>
                    <a:pt x="393" y="46"/>
                  </a:lnTo>
                  <a:lnTo>
                    <a:pt x="386" y="43"/>
                  </a:lnTo>
                  <a:lnTo>
                    <a:pt x="380" y="46"/>
                  </a:lnTo>
                  <a:lnTo>
                    <a:pt x="379" y="52"/>
                  </a:lnTo>
                  <a:lnTo>
                    <a:pt x="380" y="59"/>
                  </a:lnTo>
                  <a:lnTo>
                    <a:pt x="380" y="65"/>
                  </a:lnTo>
                  <a:lnTo>
                    <a:pt x="346" y="65"/>
                  </a:lnTo>
                  <a:lnTo>
                    <a:pt x="346" y="58"/>
                  </a:lnTo>
                  <a:lnTo>
                    <a:pt x="346" y="51"/>
                  </a:lnTo>
                  <a:lnTo>
                    <a:pt x="345" y="44"/>
                  </a:lnTo>
                  <a:lnTo>
                    <a:pt x="339" y="38"/>
                  </a:lnTo>
                  <a:lnTo>
                    <a:pt x="331" y="43"/>
                  </a:lnTo>
                  <a:lnTo>
                    <a:pt x="331" y="51"/>
                  </a:lnTo>
                  <a:lnTo>
                    <a:pt x="333" y="59"/>
                  </a:lnTo>
                  <a:lnTo>
                    <a:pt x="332" y="67"/>
                  </a:lnTo>
                  <a:lnTo>
                    <a:pt x="326" y="66"/>
                  </a:lnTo>
                  <a:lnTo>
                    <a:pt x="320" y="66"/>
                  </a:lnTo>
                  <a:lnTo>
                    <a:pt x="315" y="67"/>
                  </a:lnTo>
                  <a:lnTo>
                    <a:pt x="309" y="67"/>
                  </a:lnTo>
                  <a:lnTo>
                    <a:pt x="303" y="67"/>
                  </a:lnTo>
                  <a:lnTo>
                    <a:pt x="299" y="66"/>
                  </a:lnTo>
                  <a:lnTo>
                    <a:pt x="296" y="62"/>
                  </a:lnTo>
                  <a:lnTo>
                    <a:pt x="295" y="57"/>
                  </a:lnTo>
                  <a:lnTo>
                    <a:pt x="293" y="32"/>
                  </a:lnTo>
                  <a:lnTo>
                    <a:pt x="289" y="31"/>
                  </a:lnTo>
                  <a:lnTo>
                    <a:pt x="286" y="31"/>
                  </a:lnTo>
                  <a:lnTo>
                    <a:pt x="282" y="34"/>
                  </a:lnTo>
                  <a:lnTo>
                    <a:pt x="279" y="36"/>
                  </a:lnTo>
                  <a:lnTo>
                    <a:pt x="280" y="44"/>
                  </a:lnTo>
                  <a:lnTo>
                    <a:pt x="281" y="52"/>
                  </a:lnTo>
                  <a:lnTo>
                    <a:pt x="282" y="60"/>
                  </a:lnTo>
                  <a:lnTo>
                    <a:pt x="287" y="67"/>
                  </a:lnTo>
                  <a:lnTo>
                    <a:pt x="281" y="65"/>
                  </a:lnTo>
                  <a:lnTo>
                    <a:pt x="274" y="65"/>
                  </a:lnTo>
                  <a:lnTo>
                    <a:pt x="265" y="66"/>
                  </a:lnTo>
                  <a:lnTo>
                    <a:pt x="257" y="66"/>
                  </a:lnTo>
                  <a:lnTo>
                    <a:pt x="248" y="66"/>
                  </a:lnTo>
                  <a:lnTo>
                    <a:pt x="242" y="62"/>
                  </a:lnTo>
                  <a:lnTo>
                    <a:pt x="237" y="57"/>
                  </a:lnTo>
                  <a:lnTo>
                    <a:pt x="237" y="46"/>
                  </a:lnTo>
                  <a:lnTo>
                    <a:pt x="237" y="42"/>
                  </a:lnTo>
                  <a:lnTo>
                    <a:pt x="236" y="37"/>
                  </a:lnTo>
                  <a:lnTo>
                    <a:pt x="234" y="34"/>
                  </a:lnTo>
                  <a:lnTo>
                    <a:pt x="232" y="29"/>
                  </a:lnTo>
                  <a:lnTo>
                    <a:pt x="224" y="36"/>
                  </a:lnTo>
                  <a:lnTo>
                    <a:pt x="224" y="44"/>
                  </a:lnTo>
                  <a:lnTo>
                    <a:pt x="228" y="53"/>
                  </a:lnTo>
                  <a:lnTo>
                    <a:pt x="228" y="61"/>
                  </a:lnTo>
                  <a:lnTo>
                    <a:pt x="190" y="64"/>
                  </a:lnTo>
                  <a:lnTo>
                    <a:pt x="194" y="56"/>
                  </a:lnTo>
                  <a:lnTo>
                    <a:pt x="191" y="47"/>
                  </a:lnTo>
                  <a:lnTo>
                    <a:pt x="187" y="38"/>
                  </a:lnTo>
                  <a:lnTo>
                    <a:pt x="183" y="29"/>
                  </a:lnTo>
                  <a:lnTo>
                    <a:pt x="181" y="29"/>
                  </a:lnTo>
                  <a:lnTo>
                    <a:pt x="178" y="30"/>
                  </a:lnTo>
                  <a:lnTo>
                    <a:pt x="175" y="32"/>
                  </a:lnTo>
                  <a:lnTo>
                    <a:pt x="174" y="36"/>
                  </a:lnTo>
                  <a:lnTo>
                    <a:pt x="175" y="43"/>
                  </a:lnTo>
                  <a:lnTo>
                    <a:pt x="178" y="50"/>
                  </a:lnTo>
                  <a:lnTo>
                    <a:pt x="181" y="56"/>
                  </a:lnTo>
                  <a:lnTo>
                    <a:pt x="181" y="64"/>
                  </a:lnTo>
                  <a:lnTo>
                    <a:pt x="176" y="62"/>
                  </a:lnTo>
                  <a:lnTo>
                    <a:pt x="172" y="62"/>
                  </a:lnTo>
                  <a:lnTo>
                    <a:pt x="168" y="61"/>
                  </a:lnTo>
                  <a:lnTo>
                    <a:pt x="164" y="61"/>
                  </a:lnTo>
                  <a:lnTo>
                    <a:pt x="159" y="61"/>
                  </a:lnTo>
                  <a:lnTo>
                    <a:pt x="155" y="61"/>
                  </a:lnTo>
                  <a:lnTo>
                    <a:pt x="150" y="61"/>
                  </a:lnTo>
                  <a:lnTo>
                    <a:pt x="145" y="61"/>
                  </a:lnTo>
                  <a:lnTo>
                    <a:pt x="147" y="53"/>
                  </a:lnTo>
                  <a:lnTo>
                    <a:pt x="147" y="43"/>
                  </a:lnTo>
                  <a:lnTo>
                    <a:pt x="144" y="34"/>
                  </a:lnTo>
                  <a:lnTo>
                    <a:pt x="140" y="26"/>
                  </a:lnTo>
                  <a:lnTo>
                    <a:pt x="132" y="30"/>
                  </a:lnTo>
                  <a:lnTo>
                    <a:pt x="130" y="38"/>
                  </a:lnTo>
                  <a:lnTo>
                    <a:pt x="132" y="49"/>
                  </a:lnTo>
                  <a:lnTo>
                    <a:pt x="132" y="58"/>
                  </a:lnTo>
                  <a:lnTo>
                    <a:pt x="122" y="60"/>
                  </a:lnTo>
                  <a:lnTo>
                    <a:pt x="113" y="60"/>
                  </a:lnTo>
                  <a:lnTo>
                    <a:pt x="104" y="58"/>
                  </a:lnTo>
                  <a:lnTo>
                    <a:pt x="95" y="54"/>
                  </a:lnTo>
                  <a:lnTo>
                    <a:pt x="87" y="50"/>
                  </a:lnTo>
                  <a:lnTo>
                    <a:pt x="77" y="44"/>
                  </a:lnTo>
                  <a:lnTo>
                    <a:pt x="69" y="39"/>
                  </a:lnTo>
                  <a:lnTo>
                    <a:pt x="61" y="35"/>
                  </a:lnTo>
                  <a:lnTo>
                    <a:pt x="54" y="29"/>
                  </a:lnTo>
                  <a:lnTo>
                    <a:pt x="47" y="23"/>
                  </a:lnTo>
                  <a:lnTo>
                    <a:pt x="39" y="20"/>
                  </a:lnTo>
                  <a:lnTo>
                    <a:pt x="32" y="15"/>
                  </a:lnTo>
                  <a:lnTo>
                    <a:pt x="24" y="12"/>
                  </a:lnTo>
                  <a:lnTo>
                    <a:pt x="16" y="8"/>
                  </a:lnTo>
                  <a:lnTo>
                    <a:pt x="8" y="5"/>
                  </a:lnTo>
                  <a:lnTo>
                    <a:pt x="0" y="0"/>
                  </a:lnTo>
                  <a:lnTo>
                    <a:pt x="18" y="3"/>
                  </a:lnTo>
                  <a:lnTo>
                    <a:pt x="35" y="4"/>
                  </a:lnTo>
                  <a:lnTo>
                    <a:pt x="52" y="5"/>
                  </a:lnTo>
                  <a:lnTo>
                    <a:pt x="70" y="7"/>
                  </a:lnTo>
                  <a:lnTo>
                    <a:pt x="89" y="8"/>
                  </a:lnTo>
                  <a:lnTo>
                    <a:pt x="107" y="9"/>
                  </a:lnTo>
                  <a:lnTo>
                    <a:pt x="126" y="9"/>
                  </a:lnTo>
                  <a:lnTo>
                    <a:pt x="145" y="11"/>
                  </a:lnTo>
                  <a:lnTo>
                    <a:pt x="164" y="11"/>
                  </a:lnTo>
                  <a:lnTo>
                    <a:pt x="182" y="12"/>
                  </a:lnTo>
                  <a:lnTo>
                    <a:pt x="201" y="12"/>
                  </a:lnTo>
                  <a:lnTo>
                    <a:pt x="220" y="12"/>
                  </a:lnTo>
                  <a:lnTo>
                    <a:pt x="237" y="12"/>
                  </a:lnTo>
                  <a:lnTo>
                    <a:pt x="256" y="11"/>
                  </a:lnTo>
                  <a:lnTo>
                    <a:pt x="273" y="11"/>
                  </a:lnTo>
                  <a:lnTo>
                    <a:pt x="290" y="9"/>
                  </a:lnTo>
                  <a:close/>
                </a:path>
              </a:pathLst>
            </a:custGeom>
            <a:solidFill>
              <a:srgbClr val="3f3f9e"/>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1" name=""/>
            <p:cNvSpPr/>
            <p:nvPr/>
          </p:nvSpPr>
          <p:spPr>
            <a:xfrm>
              <a:off x="4103640" y="2249640"/>
              <a:ext cx="25560" cy="17280"/>
            </a:xfrm>
            <a:custGeom>
              <a:avLst/>
              <a:gdLst/>
              <a:ahLst/>
              <a:rect l="l" t="t" r="r" b="b"/>
              <a:pathLst>
                <a:path w="32" h="23">
                  <a:moveTo>
                    <a:pt x="18" y="1"/>
                  </a:moveTo>
                  <a:lnTo>
                    <a:pt x="23" y="0"/>
                  </a:lnTo>
                  <a:lnTo>
                    <a:pt x="28" y="1"/>
                  </a:lnTo>
                  <a:lnTo>
                    <a:pt x="30" y="4"/>
                  </a:lnTo>
                  <a:lnTo>
                    <a:pt x="32" y="8"/>
                  </a:lnTo>
                  <a:lnTo>
                    <a:pt x="32" y="14"/>
                  </a:lnTo>
                  <a:lnTo>
                    <a:pt x="28" y="17"/>
                  </a:lnTo>
                  <a:lnTo>
                    <a:pt x="23" y="19"/>
                  </a:lnTo>
                  <a:lnTo>
                    <a:pt x="18" y="23"/>
                  </a:lnTo>
                  <a:lnTo>
                    <a:pt x="14" y="22"/>
                  </a:lnTo>
                  <a:lnTo>
                    <a:pt x="8" y="23"/>
                  </a:lnTo>
                  <a:lnTo>
                    <a:pt x="3" y="22"/>
                  </a:lnTo>
                  <a:lnTo>
                    <a:pt x="0" y="19"/>
                  </a:lnTo>
                  <a:lnTo>
                    <a:pt x="1" y="12"/>
                  </a:lnTo>
                  <a:lnTo>
                    <a:pt x="6" y="7"/>
                  </a:lnTo>
                  <a:lnTo>
                    <a:pt x="12" y="3"/>
                  </a:lnTo>
                  <a:lnTo>
                    <a:pt x="18" y="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2" name=""/>
            <p:cNvSpPr/>
            <p:nvPr/>
          </p:nvSpPr>
          <p:spPr>
            <a:xfrm>
              <a:off x="4116240" y="2257560"/>
              <a:ext cx="60480" cy="63360"/>
            </a:xfrm>
            <a:custGeom>
              <a:avLst/>
              <a:gdLst/>
              <a:ahLst/>
              <a:rect l="l" t="t" r="r" b="b"/>
              <a:pathLst>
                <a:path w="76" h="80">
                  <a:moveTo>
                    <a:pt x="71" y="0"/>
                  </a:moveTo>
                  <a:lnTo>
                    <a:pt x="73" y="9"/>
                  </a:lnTo>
                  <a:lnTo>
                    <a:pt x="73" y="19"/>
                  </a:lnTo>
                  <a:lnTo>
                    <a:pt x="73" y="27"/>
                  </a:lnTo>
                  <a:lnTo>
                    <a:pt x="76" y="36"/>
                  </a:lnTo>
                  <a:lnTo>
                    <a:pt x="69" y="40"/>
                  </a:lnTo>
                  <a:lnTo>
                    <a:pt x="60" y="45"/>
                  </a:lnTo>
                  <a:lnTo>
                    <a:pt x="52" y="50"/>
                  </a:lnTo>
                  <a:lnTo>
                    <a:pt x="44" y="54"/>
                  </a:lnTo>
                  <a:lnTo>
                    <a:pt x="36" y="60"/>
                  </a:lnTo>
                  <a:lnTo>
                    <a:pt x="29" y="66"/>
                  </a:lnTo>
                  <a:lnTo>
                    <a:pt x="24" y="73"/>
                  </a:lnTo>
                  <a:lnTo>
                    <a:pt x="21" y="80"/>
                  </a:lnTo>
                  <a:lnTo>
                    <a:pt x="0" y="80"/>
                  </a:lnTo>
                  <a:lnTo>
                    <a:pt x="71" y="0"/>
                  </a:lnTo>
                  <a:close/>
                </a:path>
              </a:pathLst>
            </a:custGeom>
            <a:solidFill>
              <a:srgbClr val="7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3" name=""/>
            <p:cNvSpPr/>
            <p:nvPr/>
          </p:nvSpPr>
          <p:spPr>
            <a:xfrm>
              <a:off x="4159080" y="2084400"/>
              <a:ext cx="152640" cy="128520"/>
            </a:xfrm>
            <a:custGeom>
              <a:avLst/>
              <a:gdLst/>
              <a:ahLst/>
              <a:rect l="l" t="t" r="r" b="b"/>
              <a:pathLst>
                <a:path w="191" h="164">
                  <a:moveTo>
                    <a:pt x="170" y="1"/>
                  </a:moveTo>
                  <a:lnTo>
                    <a:pt x="175" y="2"/>
                  </a:lnTo>
                  <a:lnTo>
                    <a:pt x="181" y="1"/>
                  </a:lnTo>
                  <a:lnTo>
                    <a:pt x="187" y="0"/>
                  </a:lnTo>
                  <a:lnTo>
                    <a:pt x="191" y="5"/>
                  </a:lnTo>
                  <a:lnTo>
                    <a:pt x="189" y="17"/>
                  </a:lnTo>
                  <a:lnTo>
                    <a:pt x="167" y="32"/>
                  </a:lnTo>
                  <a:lnTo>
                    <a:pt x="145" y="47"/>
                  </a:lnTo>
                  <a:lnTo>
                    <a:pt x="124" y="65"/>
                  </a:lnTo>
                  <a:lnTo>
                    <a:pt x="103" y="83"/>
                  </a:lnTo>
                  <a:lnTo>
                    <a:pt x="82" y="103"/>
                  </a:lnTo>
                  <a:lnTo>
                    <a:pt x="61" y="122"/>
                  </a:lnTo>
                  <a:lnTo>
                    <a:pt x="42" y="143"/>
                  </a:lnTo>
                  <a:lnTo>
                    <a:pt x="23" y="164"/>
                  </a:lnTo>
                  <a:lnTo>
                    <a:pt x="18" y="163"/>
                  </a:lnTo>
                  <a:lnTo>
                    <a:pt x="11" y="161"/>
                  </a:lnTo>
                  <a:lnTo>
                    <a:pt x="4" y="158"/>
                  </a:lnTo>
                  <a:lnTo>
                    <a:pt x="0" y="151"/>
                  </a:lnTo>
                  <a:lnTo>
                    <a:pt x="19" y="129"/>
                  </a:lnTo>
                  <a:lnTo>
                    <a:pt x="38" y="107"/>
                  </a:lnTo>
                  <a:lnTo>
                    <a:pt x="59" y="87"/>
                  </a:lnTo>
                  <a:lnTo>
                    <a:pt x="80" y="67"/>
                  </a:lnTo>
                  <a:lnTo>
                    <a:pt x="100" y="50"/>
                  </a:lnTo>
                  <a:lnTo>
                    <a:pt x="122" y="32"/>
                  </a:lnTo>
                  <a:lnTo>
                    <a:pt x="145" y="16"/>
                  </a:lnTo>
                  <a:lnTo>
                    <a:pt x="17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160880" y="2287440"/>
              <a:ext cx="363600" cy="42840"/>
            </a:xfrm>
            <a:custGeom>
              <a:avLst/>
              <a:gdLst/>
              <a:ahLst/>
              <a:rect l="l" t="t" r="r" b="b"/>
              <a:pathLst>
                <a:path w="457" h="53">
                  <a:moveTo>
                    <a:pt x="40" y="13"/>
                  </a:moveTo>
                  <a:lnTo>
                    <a:pt x="39" y="12"/>
                  </a:lnTo>
                  <a:lnTo>
                    <a:pt x="39" y="12"/>
                  </a:lnTo>
                  <a:lnTo>
                    <a:pt x="38" y="10"/>
                  </a:lnTo>
                  <a:lnTo>
                    <a:pt x="38" y="10"/>
                  </a:lnTo>
                  <a:lnTo>
                    <a:pt x="54" y="8"/>
                  </a:lnTo>
                  <a:lnTo>
                    <a:pt x="70" y="6"/>
                  </a:lnTo>
                  <a:lnTo>
                    <a:pt x="86" y="4"/>
                  </a:lnTo>
                  <a:lnTo>
                    <a:pt x="101" y="2"/>
                  </a:lnTo>
                  <a:lnTo>
                    <a:pt x="117" y="1"/>
                  </a:lnTo>
                  <a:lnTo>
                    <a:pt x="133" y="0"/>
                  </a:lnTo>
                  <a:lnTo>
                    <a:pt x="149" y="0"/>
                  </a:lnTo>
                  <a:lnTo>
                    <a:pt x="167" y="0"/>
                  </a:lnTo>
                  <a:lnTo>
                    <a:pt x="171" y="7"/>
                  </a:lnTo>
                  <a:lnTo>
                    <a:pt x="176" y="12"/>
                  </a:lnTo>
                  <a:lnTo>
                    <a:pt x="183" y="16"/>
                  </a:lnTo>
                  <a:lnTo>
                    <a:pt x="190" y="19"/>
                  </a:lnTo>
                  <a:lnTo>
                    <a:pt x="197" y="21"/>
                  </a:lnTo>
                  <a:lnTo>
                    <a:pt x="205" y="22"/>
                  </a:lnTo>
                  <a:lnTo>
                    <a:pt x="213" y="22"/>
                  </a:lnTo>
                  <a:lnTo>
                    <a:pt x="221" y="23"/>
                  </a:lnTo>
                  <a:lnTo>
                    <a:pt x="226" y="23"/>
                  </a:lnTo>
                  <a:lnTo>
                    <a:pt x="232" y="22"/>
                  </a:lnTo>
                  <a:lnTo>
                    <a:pt x="238" y="20"/>
                  </a:lnTo>
                  <a:lnTo>
                    <a:pt x="244" y="16"/>
                  </a:lnTo>
                  <a:lnTo>
                    <a:pt x="248" y="13"/>
                  </a:lnTo>
                  <a:lnTo>
                    <a:pt x="254" y="8"/>
                  </a:lnTo>
                  <a:lnTo>
                    <a:pt x="258" y="5"/>
                  </a:lnTo>
                  <a:lnTo>
                    <a:pt x="262" y="0"/>
                  </a:lnTo>
                  <a:lnTo>
                    <a:pt x="274" y="0"/>
                  </a:lnTo>
                  <a:lnTo>
                    <a:pt x="286" y="0"/>
                  </a:lnTo>
                  <a:lnTo>
                    <a:pt x="298" y="0"/>
                  </a:lnTo>
                  <a:lnTo>
                    <a:pt x="309" y="0"/>
                  </a:lnTo>
                  <a:lnTo>
                    <a:pt x="321" y="0"/>
                  </a:lnTo>
                  <a:lnTo>
                    <a:pt x="334" y="0"/>
                  </a:lnTo>
                  <a:lnTo>
                    <a:pt x="345" y="0"/>
                  </a:lnTo>
                  <a:lnTo>
                    <a:pt x="357" y="0"/>
                  </a:lnTo>
                  <a:lnTo>
                    <a:pt x="368" y="0"/>
                  </a:lnTo>
                  <a:lnTo>
                    <a:pt x="380" y="0"/>
                  </a:lnTo>
                  <a:lnTo>
                    <a:pt x="392" y="1"/>
                  </a:lnTo>
                  <a:lnTo>
                    <a:pt x="404" y="1"/>
                  </a:lnTo>
                  <a:lnTo>
                    <a:pt x="415" y="2"/>
                  </a:lnTo>
                  <a:lnTo>
                    <a:pt x="427" y="4"/>
                  </a:lnTo>
                  <a:lnTo>
                    <a:pt x="440" y="5"/>
                  </a:lnTo>
                  <a:lnTo>
                    <a:pt x="451" y="7"/>
                  </a:lnTo>
                  <a:lnTo>
                    <a:pt x="451" y="8"/>
                  </a:lnTo>
                  <a:lnTo>
                    <a:pt x="452" y="8"/>
                  </a:lnTo>
                  <a:lnTo>
                    <a:pt x="453" y="9"/>
                  </a:lnTo>
                  <a:lnTo>
                    <a:pt x="453" y="10"/>
                  </a:lnTo>
                  <a:lnTo>
                    <a:pt x="449" y="16"/>
                  </a:lnTo>
                  <a:lnTo>
                    <a:pt x="452" y="20"/>
                  </a:lnTo>
                  <a:lnTo>
                    <a:pt x="456" y="22"/>
                  </a:lnTo>
                  <a:lnTo>
                    <a:pt x="457" y="25"/>
                  </a:lnTo>
                  <a:lnTo>
                    <a:pt x="455" y="30"/>
                  </a:lnTo>
                  <a:lnTo>
                    <a:pt x="450" y="34"/>
                  </a:lnTo>
                  <a:lnTo>
                    <a:pt x="446" y="37"/>
                  </a:lnTo>
                  <a:lnTo>
                    <a:pt x="443" y="43"/>
                  </a:lnTo>
                  <a:lnTo>
                    <a:pt x="441" y="49"/>
                  </a:lnTo>
                  <a:lnTo>
                    <a:pt x="412" y="50"/>
                  </a:lnTo>
                  <a:lnTo>
                    <a:pt x="383" y="50"/>
                  </a:lnTo>
                  <a:lnTo>
                    <a:pt x="355" y="51"/>
                  </a:lnTo>
                  <a:lnTo>
                    <a:pt x="328" y="52"/>
                  </a:lnTo>
                  <a:lnTo>
                    <a:pt x="300" y="52"/>
                  </a:lnTo>
                  <a:lnTo>
                    <a:pt x="274" y="53"/>
                  </a:lnTo>
                  <a:lnTo>
                    <a:pt x="246" y="53"/>
                  </a:lnTo>
                  <a:lnTo>
                    <a:pt x="220" y="53"/>
                  </a:lnTo>
                  <a:lnTo>
                    <a:pt x="192" y="53"/>
                  </a:lnTo>
                  <a:lnTo>
                    <a:pt x="165" y="53"/>
                  </a:lnTo>
                  <a:lnTo>
                    <a:pt x="139" y="52"/>
                  </a:lnTo>
                  <a:lnTo>
                    <a:pt x="111" y="52"/>
                  </a:lnTo>
                  <a:lnTo>
                    <a:pt x="84" y="51"/>
                  </a:lnTo>
                  <a:lnTo>
                    <a:pt x="56" y="49"/>
                  </a:lnTo>
                  <a:lnTo>
                    <a:pt x="28" y="47"/>
                  </a:lnTo>
                  <a:lnTo>
                    <a:pt x="0" y="45"/>
                  </a:lnTo>
                  <a:lnTo>
                    <a:pt x="40" y="13"/>
                  </a:lnTo>
                  <a:close/>
                </a:path>
              </a:pathLst>
            </a:custGeom>
            <a:solidFill>
              <a:srgbClr val="7fbfb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4229280" y="2084400"/>
              <a:ext cx="191880" cy="147600"/>
            </a:xfrm>
            <a:custGeom>
              <a:avLst/>
              <a:gdLst/>
              <a:ahLst/>
              <a:rect l="l" t="t" r="r" b="b"/>
              <a:pathLst>
                <a:path w="242" h="188">
                  <a:moveTo>
                    <a:pt x="7" y="157"/>
                  </a:moveTo>
                  <a:lnTo>
                    <a:pt x="28" y="138"/>
                  </a:lnTo>
                  <a:lnTo>
                    <a:pt x="48" y="119"/>
                  </a:lnTo>
                  <a:lnTo>
                    <a:pt x="69" y="98"/>
                  </a:lnTo>
                  <a:lnTo>
                    <a:pt x="90" y="79"/>
                  </a:lnTo>
                  <a:lnTo>
                    <a:pt x="111" y="59"/>
                  </a:lnTo>
                  <a:lnTo>
                    <a:pt x="132" y="39"/>
                  </a:lnTo>
                  <a:lnTo>
                    <a:pt x="154" y="23"/>
                  </a:lnTo>
                  <a:lnTo>
                    <a:pt x="176" y="8"/>
                  </a:lnTo>
                  <a:lnTo>
                    <a:pt x="182" y="6"/>
                  </a:lnTo>
                  <a:lnTo>
                    <a:pt x="189" y="5"/>
                  </a:lnTo>
                  <a:lnTo>
                    <a:pt x="195" y="2"/>
                  </a:lnTo>
                  <a:lnTo>
                    <a:pt x="202" y="1"/>
                  </a:lnTo>
                  <a:lnTo>
                    <a:pt x="208" y="0"/>
                  </a:lnTo>
                  <a:lnTo>
                    <a:pt x="214" y="0"/>
                  </a:lnTo>
                  <a:lnTo>
                    <a:pt x="221" y="1"/>
                  </a:lnTo>
                  <a:lnTo>
                    <a:pt x="227" y="4"/>
                  </a:lnTo>
                  <a:lnTo>
                    <a:pt x="242" y="21"/>
                  </a:lnTo>
                  <a:lnTo>
                    <a:pt x="227" y="27"/>
                  </a:lnTo>
                  <a:lnTo>
                    <a:pt x="212" y="31"/>
                  </a:lnTo>
                  <a:lnTo>
                    <a:pt x="197" y="37"/>
                  </a:lnTo>
                  <a:lnTo>
                    <a:pt x="182" y="42"/>
                  </a:lnTo>
                  <a:lnTo>
                    <a:pt x="168" y="49"/>
                  </a:lnTo>
                  <a:lnTo>
                    <a:pt x="153" y="54"/>
                  </a:lnTo>
                  <a:lnTo>
                    <a:pt x="139" y="62"/>
                  </a:lnTo>
                  <a:lnTo>
                    <a:pt x="125" y="70"/>
                  </a:lnTo>
                  <a:lnTo>
                    <a:pt x="125" y="76"/>
                  </a:lnTo>
                  <a:lnTo>
                    <a:pt x="122" y="79"/>
                  </a:lnTo>
                  <a:lnTo>
                    <a:pt x="119" y="81"/>
                  </a:lnTo>
                  <a:lnTo>
                    <a:pt x="119" y="87"/>
                  </a:lnTo>
                  <a:lnTo>
                    <a:pt x="119" y="103"/>
                  </a:lnTo>
                  <a:lnTo>
                    <a:pt x="119" y="117"/>
                  </a:lnTo>
                  <a:lnTo>
                    <a:pt x="121" y="130"/>
                  </a:lnTo>
                  <a:lnTo>
                    <a:pt x="125" y="143"/>
                  </a:lnTo>
                  <a:lnTo>
                    <a:pt x="120" y="145"/>
                  </a:lnTo>
                  <a:lnTo>
                    <a:pt x="115" y="149"/>
                  </a:lnTo>
                  <a:lnTo>
                    <a:pt x="111" y="153"/>
                  </a:lnTo>
                  <a:lnTo>
                    <a:pt x="107" y="158"/>
                  </a:lnTo>
                  <a:lnTo>
                    <a:pt x="102" y="163"/>
                  </a:lnTo>
                  <a:lnTo>
                    <a:pt x="99" y="167"/>
                  </a:lnTo>
                  <a:lnTo>
                    <a:pt x="93" y="172"/>
                  </a:lnTo>
                  <a:lnTo>
                    <a:pt x="87" y="174"/>
                  </a:lnTo>
                  <a:lnTo>
                    <a:pt x="78" y="175"/>
                  </a:lnTo>
                  <a:lnTo>
                    <a:pt x="69" y="178"/>
                  </a:lnTo>
                  <a:lnTo>
                    <a:pt x="60" y="182"/>
                  </a:lnTo>
                  <a:lnTo>
                    <a:pt x="52" y="186"/>
                  </a:lnTo>
                  <a:lnTo>
                    <a:pt x="43" y="188"/>
                  </a:lnTo>
                  <a:lnTo>
                    <a:pt x="33" y="187"/>
                  </a:lnTo>
                  <a:lnTo>
                    <a:pt x="25" y="183"/>
                  </a:lnTo>
                  <a:lnTo>
                    <a:pt x="18" y="174"/>
                  </a:lnTo>
                  <a:lnTo>
                    <a:pt x="14" y="175"/>
                  </a:lnTo>
                  <a:lnTo>
                    <a:pt x="9" y="175"/>
                  </a:lnTo>
                  <a:lnTo>
                    <a:pt x="5" y="175"/>
                  </a:lnTo>
                  <a:lnTo>
                    <a:pt x="0" y="173"/>
                  </a:lnTo>
                  <a:lnTo>
                    <a:pt x="7" y="157"/>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240080" y="2101680"/>
              <a:ext cx="438120" cy="189000"/>
            </a:xfrm>
            <a:custGeom>
              <a:avLst/>
              <a:gdLst/>
              <a:ahLst/>
              <a:rect l="l" t="t" r="r" b="b"/>
              <a:pathLst>
                <a:path w="551" h="239">
                  <a:moveTo>
                    <a:pt x="1" y="166"/>
                  </a:moveTo>
                  <a:lnTo>
                    <a:pt x="15" y="173"/>
                  </a:lnTo>
                  <a:lnTo>
                    <a:pt x="29" y="177"/>
                  </a:lnTo>
                  <a:lnTo>
                    <a:pt x="42" y="175"/>
                  </a:lnTo>
                  <a:lnTo>
                    <a:pt x="55" y="172"/>
                  </a:lnTo>
                  <a:lnTo>
                    <a:pt x="69" y="165"/>
                  </a:lnTo>
                  <a:lnTo>
                    <a:pt x="82" y="158"/>
                  </a:lnTo>
                  <a:lnTo>
                    <a:pt x="94" y="150"/>
                  </a:lnTo>
                  <a:lnTo>
                    <a:pt x="106" y="143"/>
                  </a:lnTo>
                  <a:lnTo>
                    <a:pt x="120" y="130"/>
                  </a:lnTo>
                  <a:lnTo>
                    <a:pt x="130" y="138"/>
                  </a:lnTo>
                  <a:lnTo>
                    <a:pt x="140" y="144"/>
                  </a:lnTo>
                  <a:lnTo>
                    <a:pt x="153" y="149"/>
                  </a:lnTo>
                  <a:lnTo>
                    <a:pt x="166" y="151"/>
                  </a:lnTo>
                  <a:lnTo>
                    <a:pt x="178" y="153"/>
                  </a:lnTo>
                  <a:lnTo>
                    <a:pt x="191" y="156"/>
                  </a:lnTo>
                  <a:lnTo>
                    <a:pt x="205" y="157"/>
                  </a:lnTo>
                  <a:lnTo>
                    <a:pt x="216" y="160"/>
                  </a:lnTo>
                  <a:lnTo>
                    <a:pt x="237" y="163"/>
                  </a:lnTo>
                  <a:lnTo>
                    <a:pt x="257" y="162"/>
                  </a:lnTo>
                  <a:lnTo>
                    <a:pt x="276" y="159"/>
                  </a:lnTo>
                  <a:lnTo>
                    <a:pt x="296" y="156"/>
                  </a:lnTo>
                  <a:lnTo>
                    <a:pt x="314" y="151"/>
                  </a:lnTo>
                  <a:lnTo>
                    <a:pt x="333" y="145"/>
                  </a:lnTo>
                  <a:lnTo>
                    <a:pt x="352" y="140"/>
                  </a:lnTo>
                  <a:lnTo>
                    <a:pt x="371" y="134"/>
                  </a:lnTo>
                  <a:lnTo>
                    <a:pt x="376" y="129"/>
                  </a:lnTo>
                  <a:lnTo>
                    <a:pt x="381" y="125"/>
                  </a:lnTo>
                  <a:lnTo>
                    <a:pt x="387" y="120"/>
                  </a:lnTo>
                  <a:lnTo>
                    <a:pt x="393" y="117"/>
                  </a:lnTo>
                  <a:lnTo>
                    <a:pt x="398" y="113"/>
                  </a:lnTo>
                  <a:lnTo>
                    <a:pt x="405" y="110"/>
                  </a:lnTo>
                  <a:lnTo>
                    <a:pt x="411" y="107"/>
                  </a:lnTo>
                  <a:lnTo>
                    <a:pt x="417" y="104"/>
                  </a:lnTo>
                  <a:lnTo>
                    <a:pt x="419" y="92"/>
                  </a:lnTo>
                  <a:lnTo>
                    <a:pt x="426" y="84"/>
                  </a:lnTo>
                  <a:lnTo>
                    <a:pt x="434" y="76"/>
                  </a:lnTo>
                  <a:lnTo>
                    <a:pt x="437" y="65"/>
                  </a:lnTo>
                  <a:lnTo>
                    <a:pt x="435" y="51"/>
                  </a:lnTo>
                  <a:lnTo>
                    <a:pt x="441" y="39"/>
                  </a:lnTo>
                  <a:lnTo>
                    <a:pt x="450" y="31"/>
                  </a:lnTo>
                  <a:lnTo>
                    <a:pt x="460" y="24"/>
                  </a:lnTo>
                  <a:lnTo>
                    <a:pt x="470" y="21"/>
                  </a:lnTo>
                  <a:lnTo>
                    <a:pt x="479" y="17"/>
                  </a:lnTo>
                  <a:lnTo>
                    <a:pt x="487" y="13"/>
                  </a:lnTo>
                  <a:lnTo>
                    <a:pt x="496" y="9"/>
                  </a:lnTo>
                  <a:lnTo>
                    <a:pt x="505" y="6"/>
                  </a:lnTo>
                  <a:lnTo>
                    <a:pt x="513" y="3"/>
                  </a:lnTo>
                  <a:lnTo>
                    <a:pt x="523" y="0"/>
                  </a:lnTo>
                  <a:lnTo>
                    <a:pt x="532" y="0"/>
                  </a:lnTo>
                  <a:lnTo>
                    <a:pt x="539" y="6"/>
                  </a:lnTo>
                  <a:lnTo>
                    <a:pt x="545" y="14"/>
                  </a:lnTo>
                  <a:lnTo>
                    <a:pt x="548" y="22"/>
                  </a:lnTo>
                  <a:lnTo>
                    <a:pt x="551" y="31"/>
                  </a:lnTo>
                  <a:lnTo>
                    <a:pt x="548" y="51"/>
                  </a:lnTo>
                  <a:lnTo>
                    <a:pt x="531" y="70"/>
                  </a:lnTo>
                  <a:lnTo>
                    <a:pt x="511" y="90"/>
                  </a:lnTo>
                  <a:lnTo>
                    <a:pt x="492" y="110"/>
                  </a:lnTo>
                  <a:lnTo>
                    <a:pt x="472" y="128"/>
                  </a:lnTo>
                  <a:lnTo>
                    <a:pt x="452" y="147"/>
                  </a:lnTo>
                  <a:lnTo>
                    <a:pt x="433" y="165"/>
                  </a:lnTo>
                  <a:lnTo>
                    <a:pt x="414" y="183"/>
                  </a:lnTo>
                  <a:lnTo>
                    <a:pt x="396" y="202"/>
                  </a:lnTo>
                  <a:lnTo>
                    <a:pt x="394" y="194"/>
                  </a:lnTo>
                  <a:lnTo>
                    <a:pt x="389" y="186"/>
                  </a:lnTo>
                  <a:lnTo>
                    <a:pt x="383" y="178"/>
                  </a:lnTo>
                  <a:lnTo>
                    <a:pt x="376" y="171"/>
                  </a:lnTo>
                  <a:lnTo>
                    <a:pt x="368" y="164"/>
                  </a:lnTo>
                  <a:lnTo>
                    <a:pt x="360" y="159"/>
                  </a:lnTo>
                  <a:lnTo>
                    <a:pt x="352" y="155"/>
                  </a:lnTo>
                  <a:lnTo>
                    <a:pt x="343" y="152"/>
                  </a:lnTo>
                  <a:lnTo>
                    <a:pt x="331" y="158"/>
                  </a:lnTo>
                  <a:lnTo>
                    <a:pt x="319" y="163"/>
                  </a:lnTo>
                  <a:lnTo>
                    <a:pt x="307" y="166"/>
                  </a:lnTo>
                  <a:lnTo>
                    <a:pt x="295" y="171"/>
                  </a:lnTo>
                  <a:lnTo>
                    <a:pt x="282" y="175"/>
                  </a:lnTo>
                  <a:lnTo>
                    <a:pt x="270" y="180"/>
                  </a:lnTo>
                  <a:lnTo>
                    <a:pt x="260" y="187"/>
                  </a:lnTo>
                  <a:lnTo>
                    <a:pt x="251" y="196"/>
                  </a:lnTo>
                  <a:lnTo>
                    <a:pt x="251" y="197"/>
                  </a:lnTo>
                  <a:lnTo>
                    <a:pt x="252" y="200"/>
                  </a:lnTo>
                  <a:lnTo>
                    <a:pt x="253" y="201"/>
                  </a:lnTo>
                  <a:lnTo>
                    <a:pt x="254" y="202"/>
                  </a:lnTo>
                  <a:lnTo>
                    <a:pt x="265" y="197"/>
                  </a:lnTo>
                  <a:lnTo>
                    <a:pt x="275" y="193"/>
                  </a:lnTo>
                  <a:lnTo>
                    <a:pt x="285" y="189"/>
                  </a:lnTo>
                  <a:lnTo>
                    <a:pt x="296" y="185"/>
                  </a:lnTo>
                  <a:lnTo>
                    <a:pt x="306" y="181"/>
                  </a:lnTo>
                  <a:lnTo>
                    <a:pt x="316" y="177"/>
                  </a:lnTo>
                  <a:lnTo>
                    <a:pt x="327" y="173"/>
                  </a:lnTo>
                  <a:lnTo>
                    <a:pt x="337" y="168"/>
                  </a:lnTo>
                  <a:lnTo>
                    <a:pt x="346" y="168"/>
                  </a:lnTo>
                  <a:lnTo>
                    <a:pt x="353" y="171"/>
                  </a:lnTo>
                  <a:lnTo>
                    <a:pt x="360" y="175"/>
                  </a:lnTo>
                  <a:lnTo>
                    <a:pt x="367" y="181"/>
                  </a:lnTo>
                  <a:lnTo>
                    <a:pt x="373" y="187"/>
                  </a:lnTo>
                  <a:lnTo>
                    <a:pt x="378" y="194"/>
                  </a:lnTo>
                  <a:lnTo>
                    <a:pt x="382" y="202"/>
                  </a:lnTo>
                  <a:lnTo>
                    <a:pt x="386" y="209"/>
                  </a:lnTo>
                  <a:lnTo>
                    <a:pt x="383" y="212"/>
                  </a:lnTo>
                  <a:lnTo>
                    <a:pt x="380" y="216"/>
                  </a:lnTo>
                  <a:lnTo>
                    <a:pt x="375" y="218"/>
                  </a:lnTo>
                  <a:lnTo>
                    <a:pt x="369" y="221"/>
                  </a:lnTo>
                  <a:lnTo>
                    <a:pt x="366" y="225"/>
                  </a:lnTo>
                  <a:lnTo>
                    <a:pt x="363" y="228"/>
                  </a:lnTo>
                  <a:lnTo>
                    <a:pt x="364" y="233"/>
                  </a:lnTo>
                  <a:lnTo>
                    <a:pt x="367" y="239"/>
                  </a:lnTo>
                  <a:lnTo>
                    <a:pt x="364" y="233"/>
                  </a:lnTo>
                  <a:lnTo>
                    <a:pt x="359" y="230"/>
                  </a:lnTo>
                  <a:lnTo>
                    <a:pt x="353" y="226"/>
                  </a:lnTo>
                  <a:lnTo>
                    <a:pt x="348" y="225"/>
                  </a:lnTo>
                  <a:lnTo>
                    <a:pt x="342" y="224"/>
                  </a:lnTo>
                  <a:lnTo>
                    <a:pt x="336" y="223"/>
                  </a:lnTo>
                  <a:lnTo>
                    <a:pt x="330" y="223"/>
                  </a:lnTo>
                  <a:lnTo>
                    <a:pt x="325" y="223"/>
                  </a:lnTo>
                  <a:lnTo>
                    <a:pt x="150" y="223"/>
                  </a:lnTo>
                  <a:lnTo>
                    <a:pt x="145" y="218"/>
                  </a:lnTo>
                  <a:lnTo>
                    <a:pt x="140" y="216"/>
                  </a:lnTo>
                  <a:lnTo>
                    <a:pt x="136" y="213"/>
                  </a:lnTo>
                  <a:lnTo>
                    <a:pt x="131" y="211"/>
                  </a:lnTo>
                  <a:lnTo>
                    <a:pt x="126" y="210"/>
                  </a:lnTo>
                  <a:lnTo>
                    <a:pt x="121" y="210"/>
                  </a:lnTo>
                  <a:lnTo>
                    <a:pt x="115" y="209"/>
                  </a:lnTo>
                  <a:lnTo>
                    <a:pt x="109" y="209"/>
                  </a:lnTo>
                  <a:lnTo>
                    <a:pt x="103" y="209"/>
                  </a:lnTo>
                  <a:lnTo>
                    <a:pt x="99" y="210"/>
                  </a:lnTo>
                  <a:lnTo>
                    <a:pt x="93" y="211"/>
                  </a:lnTo>
                  <a:lnTo>
                    <a:pt x="88" y="212"/>
                  </a:lnTo>
                  <a:lnTo>
                    <a:pt x="84" y="215"/>
                  </a:lnTo>
                  <a:lnTo>
                    <a:pt x="79" y="218"/>
                  </a:lnTo>
                  <a:lnTo>
                    <a:pt x="75" y="220"/>
                  </a:lnTo>
                  <a:lnTo>
                    <a:pt x="70" y="224"/>
                  </a:lnTo>
                  <a:lnTo>
                    <a:pt x="16" y="223"/>
                  </a:lnTo>
                  <a:lnTo>
                    <a:pt x="14" y="208"/>
                  </a:lnTo>
                  <a:lnTo>
                    <a:pt x="7" y="196"/>
                  </a:lnTo>
                  <a:lnTo>
                    <a:pt x="0" y="182"/>
                  </a:lnTo>
                  <a:lnTo>
                    <a:pt x="1" y="166"/>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307040" y="2276640"/>
              <a:ext cx="42840" cy="20520"/>
            </a:xfrm>
            <a:custGeom>
              <a:avLst/>
              <a:gdLst/>
              <a:ahLst/>
              <a:rect l="l" t="t" r="r" b="b"/>
              <a:pathLst>
                <a:path w="55" h="26">
                  <a:moveTo>
                    <a:pt x="11" y="19"/>
                  </a:moveTo>
                  <a:lnTo>
                    <a:pt x="16" y="16"/>
                  </a:lnTo>
                  <a:lnTo>
                    <a:pt x="17" y="13"/>
                  </a:lnTo>
                  <a:lnTo>
                    <a:pt x="17" y="10"/>
                  </a:lnTo>
                  <a:lnTo>
                    <a:pt x="15" y="5"/>
                  </a:lnTo>
                  <a:lnTo>
                    <a:pt x="12" y="4"/>
                  </a:lnTo>
                  <a:lnTo>
                    <a:pt x="18" y="1"/>
                  </a:lnTo>
                  <a:lnTo>
                    <a:pt x="23" y="0"/>
                  </a:lnTo>
                  <a:lnTo>
                    <a:pt x="28" y="0"/>
                  </a:lnTo>
                  <a:lnTo>
                    <a:pt x="33" y="1"/>
                  </a:lnTo>
                  <a:lnTo>
                    <a:pt x="39" y="3"/>
                  </a:lnTo>
                  <a:lnTo>
                    <a:pt x="43" y="4"/>
                  </a:lnTo>
                  <a:lnTo>
                    <a:pt x="49" y="5"/>
                  </a:lnTo>
                  <a:lnTo>
                    <a:pt x="54" y="5"/>
                  </a:lnTo>
                  <a:lnTo>
                    <a:pt x="54" y="10"/>
                  </a:lnTo>
                  <a:lnTo>
                    <a:pt x="55" y="15"/>
                  </a:lnTo>
                  <a:lnTo>
                    <a:pt x="55" y="21"/>
                  </a:lnTo>
                  <a:lnTo>
                    <a:pt x="50" y="24"/>
                  </a:lnTo>
                  <a:lnTo>
                    <a:pt x="43" y="26"/>
                  </a:lnTo>
                  <a:lnTo>
                    <a:pt x="37" y="26"/>
                  </a:lnTo>
                  <a:lnTo>
                    <a:pt x="31" y="26"/>
                  </a:lnTo>
                  <a:lnTo>
                    <a:pt x="24" y="24"/>
                  </a:lnTo>
                  <a:lnTo>
                    <a:pt x="17" y="22"/>
                  </a:lnTo>
                  <a:lnTo>
                    <a:pt x="11" y="21"/>
                  </a:lnTo>
                  <a:lnTo>
                    <a:pt x="5" y="18"/>
                  </a:lnTo>
                  <a:lnTo>
                    <a:pt x="0" y="15"/>
                  </a:lnTo>
                  <a:lnTo>
                    <a:pt x="2" y="15"/>
                  </a:lnTo>
                  <a:lnTo>
                    <a:pt x="5" y="15"/>
                  </a:lnTo>
                  <a:lnTo>
                    <a:pt x="8" y="18"/>
                  </a:lnTo>
                  <a:lnTo>
                    <a:pt x="11" y="19"/>
                  </a:lnTo>
                  <a:close/>
                </a:path>
              </a:pathLst>
            </a:custGeom>
            <a:solidFill>
              <a:srgbClr val="7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8" name=""/>
            <p:cNvSpPr/>
            <p:nvPr/>
          </p:nvSpPr>
          <p:spPr>
            <a:xfrm>
              <a:off x="4335480" y="2101680"/>
              <a:ext cx="241200" cy="108000"/>
            </a:xfrm>
            <a:custGeom>
              <a:avLst/>
              <a:gdLst/>
              <a:ahLst/>
              <a:rect l="l" t="t" r="r" b="b"/>
              <a:pathLst>
                <a:path w="302" h="137">
                  <a:moveTo>
                    <a:pt x="48" y="33"/>
                  </a:moveTo>
                  <a:lnTo>
                    <a:pt x="62" y="29"/>
                  </a:lnTo>
                  <a:lnTo>
                    <a:pt x="77" y="24"/>
                  </a:lnTo>
                  <a:lnTo>
                    <a:pt x="91" y="20"/>
                  </a:lnTo>
                  <a:lnTo>
                    <a:pt x="106" y="15"/>
                  </a:lnTo>
                  <a:lnTo>
                    <a:pt x="120" y="12"/>
                  </a:lnTo>
                  <a:lnTo>
                    <a:pt x="135" y="8"/>
                  </a:lnTo>
                  <a:lnTo>
                    <a:pt x="150" y="5"/>
                  </a:lnTo>
                  <a:lnTo>
                    <a:pt x="165" y="2"/>
                  </a:lnTo>
                  <a:lnTo>
                    <a:pt x="182" y="1"/>
                  </a:lnTo>
                  <a:lnTo>
                    <a:pt x="196" y="0"/>
                  </a:lnTo>
                  <a:lnTo>
                    <a:pt x="211" y="0"/>
                  </a:lnTo>
                  <a:lnTo>
                    <a:pt x="226" y="0"/>
                  </a:lnTo>
                  <a:lnTo>
                    <a:pt x="243" y="1"/>
                  </a:lnTo>
                  <a:lnTo>
                    <a:pt x="256" y="4"/>
                  </a:lnTo>
                  <a:lnTo>
                    <a:pt x="271" y="7"/>
                  </a:lnTo>
                  <a:lnTo>
                    <a:pt x="286" y="12"/>
                  </a:lnTo>
                  <a:lnTo>
                    <a:pt x="299" y="25"/>
                  </a:lnTo>
                  <a:lnTo>
                    <a:pt x="302" y="42"/>
                  </a:lnTo>
                  <a:lnTo>
                    <a:pt x="302" y="58"/>
                  </a:lnTo>
                  <a:lnTo>
                    <a:pt x="300" y="74"/>
                  </a:lnTo>
                  <a:lnTo>
                    <a:pt x="296" y="78"/>
                  </a:lnTo>
                  <a:lnTo>
                    <a:pt x="290" y="84"/>
                  </a:lnTo>
                  <a:lnTo>
                    <a:pt x="285" y="88"/>
                  </a:lnTo>
                  <a:lnTo>
                    <a:pt x="279" y="86"/>
                  </a:lnTo>
                  <a:lnTo>
                    <a:pt x="271" y="89"/>
                  </a:lnTo>
                  <a:lnTo>
                    <a:pt x="264" y="91"/>
                  </a:lnTo>
                  <a:lnTo>
                    <a:pt x="258" y="95"/>
                  </a:lnTo>
                  <a:lnTo>
                    <a:pt x="251" y="99"/>
                  </a:lnTo>
                  <a:lnTo>
                    <a:pt x="245" y="104"/>
                  </a:lnTo>
                  <a:lnTo>
                    <a:pt x="238" y="108"/>
                  </a:lnTo>
                  <a:lnTo>
                    <a:pt x="231" y="112"/>
                  </a:lnTo>
                  <a:lnTo>
                    <a:pt x="224" y="115"/>
                  </a:lnTo>
                  <a:lnTo>
                    <a:pt x="213" y="120"/>
                  </a:lnTo>
                  <a:lnTo>
                    <a:pt x="200" y="125"/>
                  </a:lnTo>
                  <a:lnTo>
                    <a:pt x="187" y="128"/>
                  </a:lnTo>
                  <a:lnTo>
                    <a:pt x="175" y="130"/>
                  </a:lnTo>
                  <a:lnTo>
                    <a:pt x="163" y="133"/>
                  </a:lnTo>
                  <a:lnTo>
                    <a:pt x="149" y="135"/>
                  </a:lnTo>
                  <a:lnTo>
                    <a:pt x="137" y="136"/>
                  </a:lnTo>
                  <a:lnTo>
                    <a:pt x="124" y="137"/>
                  </a:lnTo>
                  <a:lnTo>
                    <a:pt x="111" y="137"/>
                  </a:lnTo>
                  <a:lnTo>
                    <a:pt x="99" y="137"/>
                  </a:lnTo>
                  <a:lnTo>
                    <a:pt x="86" y="136"/>
                  </a:lnTo>
                  <a:lnTo>
                    <a:pt x="73" y="135"/>
                  </a:lnTo>
                  <a:lnTo>
                    <a:pt x="61" y="134"/>
                  </a:lnTo>
                  <a:lnTo>
                    <a:pt x="48" y="130"/>
                  </a:lnTo>
                  <a:lnTo>
                    <a:pt x="35" y="128"/>
                  </a:lnTo>
                  <a:lnTo>
                    <a:pt x="23" y="125"/>
                  </a:lnTo>
                  <a:lnTo>
                    <a:pt x="19" y="115"/>
                  </a:lnTo>
                  <a:lnTo>
                    <a:pt x="18" y="105"/>
                  </a:lnTo>
                  <a:lnTo>
                    <a:pt x="16" y="95"/>
                  </a:lnTo>
                  <a:lnTo>
                    <a:pt x="13" y="84"/>
                  </a:lnTo>
                  <a:lnTo>
                    <a:pt x="28" y="88"/>
                  </a:lnTo>
                  <a:lnTo>
                    <a:pt x="42" y="90"/>
                  </a:lnTo>
                  <a:lnTo>
                    <a:pt x="57" y="92"/>
                  </a:lnTo>
                  <a:lnTo>
                    <a:pt x="73" y="95"/>
                  </a:lnTo>
                  <a:lnTo>
                    <a:pt x="88" y="96"/>
                  </a:lnTo>
                  <a:lnTo>
                    <a:pt x="104" y="97"/>
                  </a:lnTo>
                  <a:lnTo>
                    <a:pt x="119" y="98"/>
                  </a:lnTo>
                  <a:lnTo>
                    <a:pt x="135" y="98"/>
                  </a:lnTo>
                  <a:lnTo>
                    <a:pt x="152" y="98"/>
                  </a:lnTo>
                  <a:lnTo>
                    <a:pt x="167" y="97"/>
                  </a:lnTo>
                  <a:lnTo>
                    <a:pt x="183" y="96"/>
                  </a:lnTo>
                  <a:lnTo>
                    <a:pt x="198" y="92"/>
                  </a:lnTo>
                  <a:lnTo>
                    <a:pt x="213" y="90"/>
                  </a:lnTo>
                  <a:lnTo>
                    <a:pt x="228" y="85"/>
                  </a:lnTo>
                  <a:lnTo>
                    <a:pt x="241" y="81"/>
                  </a:lnTo>
                  <a:lnTo>
                    <a:pt x="255" y="75"/>
                  </a:lnTo>
                  <a:lnTo>
                    <a:pt x="259" y="69"/>
                  </a:lnTo>
                  <a:lnTo>
                    <a:pt x="264" y="66"/>
                  </a:lnTo>
                  <a:lnTo>
                    <a:pt x="270" y="62"/>
                  </a:lnTo>
                  <a:lnTo>
                    <a:pt x="275" y="59"/>
                  </a:lnTo>
                  <a:lnTo>
                    <a:pt x="279" y="55"/>
                  </a:lnTo>
                  <a:lnTo>
                    <a:pt x="283" y="52"/>
                  </a:lnTo>
                  <a:lnTo>
                    <a:pt x="284" y="47"/>
                  </a:lnTo>
                  <a:lnTo>
                    <a:pt x="283" y="40"/>
                  </a:lnTo>
                  <a:lnTo>
                    <a:pt x="278" y="42"/>
                  </a:lnTo>
                  <a:lnTo>
                    <a:pt x="273" y="44"/>
                  </a:lnTo>
                  <a:lnTo>
                    <a:pt x="268" y="47"/>
                  </a:lnTo>
                  <a:lnTo>
                    <a:pt x="262" y="51"/>
                  </a:lnTo>
                  <a:lnTo>
                    <a:pt x="258" y="55"/>
                  </a:lnTo>
                  <a:lnTo>
                    <a:pt x="252" y="59"/>
                  </a:lnTo>
                  <a:lnTo>
                    <a:pt x="247" y="62"/>
                  </a:lnTo>
                  <a:lnTo>
                    <a:pt x="243" y="66"/>
                  </a:lnTo>
                  <a:lnTo>
                    <a:pt x="231" y="70"/>
                  </a:lnTo>
                  <a:lnTo>
                    <a:pt x="218" y="74"/>
                  </a:lnTo>
                  <a:lnTo>
                    <a:pt x="207" y="77"/>
                  </a:lnTo>
                  <a:lnTo>
                    <a:pt x="195" y="80"/>
                  </a:lnTo>
                  <a:lnTo>
                    <a:pt x="183" y="82"/>
                  </a:lnTo>
                  <a:lnTo>
                    <a:pt x="170" y="83"/>
                  </a:lnTo>
                  <a:lnTo>
                    <a:pt x="157" y="84"/>
                  </a:lnTo>
                  <a:lnTo>
                    <a:pt x="146" y="84"/>
                  </a:lnTo>
                  <a:lnTo>
                    <a:pt x="133" y="84"/>
                  </a:lnTo>
                  <a:lnTo>
                    <a:pt x="120" y="84"/>
                  </a:lnTo>
                  <a:lnTo>
                    <a:pt x="108" y="84"/>
                  </a:lnTo>
                  <a:lnTo>
                    <a:pt x="95" y="83"/>
                  </a:lnTo>
                  <a:lnTo>
                    <a:pt x="82" y="82"/>
                  </a:lnTo>
                  <a:lnTo>
                    <a:pt x="70" y="81"/>
                  </a:lnTo>
                  <a:lnTo>
                    <a:pt x="58" y="80"/>
                  </a:lnTo>
                  <a:lnTo>
                    <a:pt x="46" y="78"/>
                  </a:lnTo>
                  <a:lnTo>
                    <a:pt x="40" y="78"/>
                  </a:lnTo>
                  <a:lnTo>
                    <a:pt x="33" y="77"/>
                  </a:lnTo>
                  <a:lnTo>
                    <a:pt x="27" y="76"/>
                  </a:lnTo>
                  <a:lnTo>
                    <a:pt x="23" y="74"/>
                  </a:lnTo>
                  <a:lnTo>
                    <a:pt x="17" y="71"/>
                  </a:lnTo>
                  <a:lnTo>
                    <a:pt x="11" y="69"/>
                  </a:lnTo>
                  <a:lnTo>
                    <a:pt x="5" y="67"/>
                  </a:lnTo>
                  <a:lnTo>
                    <a:pt x="0" y="65"/>
                  </a:lnTo>
                  <a:lnTo>
                    <a:pt x="4" y="59"/>
                  </a:lnTo>
                  <a:lnTo>
                    <a:pt x="9" y="53"/>
                  </a:lnTo>
                  <a:lnTo>
                    <a:pt x="16" y="50"/>
                  </a:lnTo>
                  <a:lnTo>
                    <a:pt x="21" y="46"/>
                  </a:lnTo>
                  <a:lnTo>
                    <a:pt x="28" y="43"/>
                  </a:lnTo>
                  <a:lnTo>
                    <a:pt x="35" y="40"/>
                  </a:lnTo>
                  <a:lnTo>
                    <a:pt x="42" y="37"/>
                  </a:lnTo>
                  <a:lnTo>
                    <a:pt x="48" y="33"/>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413240" y="1652760"/>
              <a:ext cx="174600" cy="306360"/>
            </a:xfrm>
            <a:custGeom>
              <a:avLst/>
              <a:gdLst/>
              <a:ahLst/>
              <a:rect l="l" t="t" r="r" b="b"/>
              <a:pathLst>
                <a:path w="221" h="386">
                  <a:moveTo>
                    <a:pt x="4" y="0"/>
                  </a:moveTo>
                  <a:lnTo>
                    <a:pt x="8" y="0"/>
                  </a:lnTo>
                  <a:lnTo>
                    <a:pt x="24" y="22"/>
                  </a:lnTo>
                  <a:lnTo>
                    <a:pt x="41" y="45"/>
                  </a:lnTo>
                  <a:lnTo>
                    <a:pt x="56" y="68"/>
                  </a:lnTo>
                  <a:lnTo>
                    <a:pt x="71" y="91"/>
                  </a:lnTo>
                  <a:lnTo>
                    <a:pt x="84" y="114"/>
                  </a:lnTo>
                  <a:lnTo>
                    <a:pt x="99" y="137"/>
                  </a:lnTo>
                  <a:lnTo>
                    <a:pt x="113" y="162"/>
                  </a:lnTo>
                  <a:lnTo>
                    <a:pt x="127" y="186"/>
                  </a:lnTo>
                  <a:lnTo>
                    <a:pt x="140" y="210"/>
                  </a:lnTo>
                  <a:lnTo>
                    <a:pt x="152" y="234"/>
                  </a:lnTo>
                  <a:lnTo>
                    <a:pt x="165" y="258"/>
                  </a:lnTo>
                  <a:lnTo>
                    <a:pt x="177" y="283"/>
                  </a:lnTo>
                  <a:lnTo>
                    <a:pt x="189" y="308"/>
                  </a:lnTo>
                  <a:lnTo>
                    <a:pt x="200" y="332"/>
                  </a:lnTo>
                  <a:lnTo>
                    <a:pt x="211" y="357"/>
                  </a:lnTo>
                  <a:lnTo>
                    <a:pt x="221" y="383"/>
                  </a:lnTo>
                  <a:lnTo>
                    <a:pt x="218" y="386"/>
                  </a:lnTo>
                  <a:lnTo>
                    <a:pt x="212" y="377"/>
                  </a:lnTo>
                  <a:lnTo>
                    <a:pt x="206" y="368"/>
                  </a:lnTo>
                  <a:lnTo>
                    <a:pt x="202" y="357"/>
                  </a:lnTo>
                  <a:lnTo>
                    <a:pt x="197" y="348"/>
                  </a:lnTo>
                  <a:lnTo>
                    <a:pt x="193" y="338"/>
                  </a:lnTo>
                  <a:lnTo>
                    <a:pt x="188" y="328"/>
                  </a:lnTo>
                  <a:lnTo>
                    <a:pt x="183" y="318"/>
                  </a:lnTo>
                  <a:lnTo>
                    <a:pt x="179" y="308"/>
                  </a:lnTo>
                  <a:lnTo>
                    <a:pt x="160" y="269"/>
                  </a:lnTo>
                  <a:lnTo>
                    <a:pt x="141" y="231"/>
                  </a:lnTo>
                  <a:lnTo>
                    <a:pt x="121" y="192"/>
                  </a:lnTo>
                  <a:lnTo>
                    <a:pt x="99" y="154"/>
                  </a:lnTo>
                  <a:lnTo>
                    <a:pt x="76" y="116"/>
                  </a:lnTo>
                  <a:lnTo>
                    <a:pt x="52" y="79"/>
                  </a:lnTo>
                  <a:lnTo>
                    <a:pt x="27" y="43"/>
                  </a:lnTo>
                  <a:lnTo>
                    <a:pt x="0" y="7"/>
                  </a:lnTo>
                  <a:lnTo>
                    <a:pt x="0" y="5"/>
                  </a:lnTo>
                  <a:lnTo>
                    <a:pt x="0" y="1"/>
                  </a:lnTo>
                  <a:lnTo>
                    <a:pt x="0"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438800" y="2127240"/>
              <a:ext cx="33120" cy="17640"/>
            </a:xfrm>
            <a:custGeom>
              <a:avLst/>
              <a:gdLst/>
              <a:ahLst/>
              <a:rect l="l" t="t" r="r" b="b"/>
              <a:pathLst>
                <a:path w="41" h="23">
                  <a:moveTo>
                    <a:pt x="38" y="0"/>
                  </a:moveTo>
                  <a:lnTo>
                    <a:pt x="41" y="0"/>
                  </a:lnTo>
                  <a:lnTo>
                    <a:pt x="40" y="5"/>
                  </a:lnTo>
                  <a:lnTo>
                    <a:pt x="38" y="10"/>
                  </a:lnTo>
                  <a:lnTo>
                    <a:pt x="36" y="15"/>
                  </a:lnTo>
                  <a:lnTo>
                    <a:pt x="36" y="21"/>
                  </a:lnTo>
                  <a:lnTo>
                    <a:pt x="31" y="21"/>
                  </a:lnTo>
                  <a:lnTo>
                    <a:pt x="26" y="22"/>
                  </a:lnTo>
                  <a:lnTo>
                    <a:pt x="21" y="23"/>
                  </a:lnTo>
                  <a:lnTo>
                    <a:pt x="17" y="23"/>
                  </a:lnTo>
                  <a:lnTo>
                    <a:pt x="13" y="22"/>
                  </a:lnTo>
                  <a:lnTo>
                    <a:pt x="9" y="22"/>
                  </a:lnTo>
                  <a:lnTo>
                    <a:pt x="4" y="20"/>
                  </a:lnTo>
                  <a:lnTo>
                    <a:pt x="0" y="16"/>
                  </a:lnTo>
                  <a:lnTo>
                    <a:pt x="2" y="12"/>
                  </a:lnTo>
                  <a:lnTo>
                    <a:pt x="6" y="10"/>
                  </a:lnTo>
                  <a:lnTo>
                    <a:pt x="10" y="7"/>
                  </a:lnTo>
                  <a:lnTo>
                    <a:pt x="16" y="5"/>
                  </a:lnTo>
                  <a:lnTo>
                    <a:pt x="21" y="4"/>
                  </a:lnTo>
                  <a:lnTo>
                    <a:pt x="26" y="3"/>
                  </a:lnTo>
                  <a:lnTo>
                    <a:pt x="32" y="1"/>
                  </a:lnTo>
                  <a:lnTo>
                    <a:pt x="38"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1" name=""/>
            <p:cNvSpPr/>
            <p:nvPr/>
          </p:nvSpPr>
          <p:spPr>
            <a:xfrm>
              <a:off x="4481640" y="2462040"/>
              <a:ext cx="396720" cy="127080"/>
            </a:xfrm>
            <a:custGeom>
              <a:avLst/>
              <a:gdLst/>
              <a:ahLst/>
              <a:rect l="l" t="t" r="r" b="b"/>
              <a:pathLst>
                <a:path w="500" h="161">
                  <a:moveTo>
                    <a:pt x="18" y="141"/>
                  </a:moveTo>
                  <a:lnTo>
                    <a:pt x="77" y="77"/>
                  </a:lnTo>
                  <a:lnTo>
                    <a:pt x="77" y="74"/>
                  </a:lnTo>
                  <a:lnTo>
                    <a:pt x="77" y="70"/>
                  </a:lnTo>
                  <a:lnTo>
                    <a:pt x="78" y="68"/>
                  </a:lnTo>
                  <a:lnTo>
                    <a:pt x="81" y="67"/>
                  </a:lnTo>
                  <a:lnTo>
                    <a:pt x="98" y="67"/>
                  </a:lnTo>
                  <a:lnTo>
                    <a:pt x="115" y="66"/>
                  </a:lnTo>
                  <a:lnTo>
                    <a:pt x="131" y="66"/>
                  </a:lnTo>
                  <a:lnTo>
                    <a:pt x="147" y="65"/>
                  </a:lnTo>
                  <a:lnTo>
                    <a:pt x="164" y="63"/>
                  </a:lnTo>
                  <a:lnTo>
                    <a:pt x="180" y="63"/>
                  </a:lnTo>
                  <a:lnTo>
                    <a:pt x="198" y="62"/>
                  </a:lnTo>
                  <a:lnTo>
                    <a:pt x="214" y="61"/>
                  </a:lnTo>
                  <a:lnTo>
                    <a:pt x="230" y="61"/>
                  </a:lnTo>
                  <a:lnTo>
                    <a:pt x="247" y="60"/>
                  </a:lnTo>
                  <a:lnTo>
                    <a:pt x="263" y="59"/>
                  </a:lnTo>
                  <a:lnTo>
                    <a:pt x="280" y="59"/>
                  </a:lnTo>
                  <a:lnTo>
                    <a:pt x="296" y="58"/>
                  </a:lnTo>
                  <a:lnTo>
                    <a:pt x="312" y="58"/>
                  </a:lnTo>
                  <a:lnTo>
                    <a:pt x="327" y="58"/>
                  </a:lnTo>
                  <a:lnTo>
                    <a:pt x="343" y="58"/>
                  </a:lnTo>
                  <a:lnTo>
                    <a:pt x="361" y="54"/>
                  </a:lnTo>
                  <a:lnTo>
                    <a:pt x="380" y="50"/>
                  </a:lnTo>
                  <a:lnTo>
                    <a:pt x="397" y="43"/>
                  </a:lnTo>
                  <a:lnTo>
                    <a:pt x="415" y="36"/>
                  </a:lnTo>
                  <a:lnTo>
                    <a:pt x="432" y="28"/>
                  </a:lnTo>
                  <a:lnTo>
                    <a:pt x="448" y="18"/>
                  </a:lnTo>
                  <a:lnTo>
                    <a:pt x="464" y="9"/>
                  </a:lnTo>
                  <a:lnTo>
                    <a:pt x="480" y="0"/>
                  </a:lnTo>
                  <a:lnTo>
                    <a:pt x="489" y="12"/>
                  </a:lnTo>
                  <a:lnTo>
                    <a:pt x="495" y="27"/>
                  </a:lnTo>
                  <a:lnTo>
                    <a:pt x="496" y="42"/>
                  </a:lnTo>
                  <a:lnTo>
                    <a:pt x="495" y="58"/>
                  </a:lnTo>
                  <a:lnTo>
                    <a:pt x="497" y="61"/>
                  </a:lnTo>
                  <a:lnTo>
                    <a:pt x="498" y="63"/>
                  </a:lnTo>
                  <a:lnTo>
                    <a:pt x="500" y="67"/>
                  </a:lnTo>
                  <a:lnTo>
                    <a:pt x="498" y="71"/>
                  </a:lnTo>
                  <a:lnTo>
                    <a:pt x="491" y="80"/>
                  </a:lnTo>
                  <a:lnTo>
                    <a:pt x="485" y="88"/>
                  </a:lnTo>
                  <a:lnTo>
                    <a:pt x="475" y="97"/>
                  </a:lnTo>
                  <a:lnTo>
                    <a:pt x="466" y="105"/>
                  </a:lnTo>
                  <a:lnTo>
                    <a:pt x="456" y="112"/>
                  </a:lnTo>
                  <a:lnTo>
                    <a:pt x="445" y="118"/>
                  </a:lnTo>
                  <a:lnTo>
                    <a:pt x="434" y="121"/>
                  </a:lnTo>
                  <a:lnTo>
                    <a:pt x="422" y="122"/>
                  </a:lnTo>
                  <a:lnTo>
                    <a:pt x="415" y="127"/>
                  </a:lnTo>
                  <a:lnTo>
                    <a:pt x="407" y="130"/>
                  </a:lnTo>
                  <a:lnTo>
                    <a:pt x="400" y="133"/>
                  </a:lnTo>
                  <a:lnTo>
                    <a:pt x="392" y="135"/>
                  </a:lnTo>
                  <a:lnTo>
                    <a:pt x="384" y="136"/>
                  </a:lnTo>
                  <a:lnTo>
                    <a:pt x="376" y="138"/>
                  </a:lnTo>
                  <a:lnTo>
                    <a:pt x="369" y="142"/>
                  </a:lnTo>
                  <a:lnTo>
                    <a:pt x="361" y="145"/>
                  </a:lnTo>
                  <a:lnTo>
                    <a:pt x="345" y="145"/>
                  </a:lnTo>
                  <a:lnTo>
                    <a:pt x="329" y="145"/>
                  </a:lnTo>
                  <a:lnTo>
                    <a:pt x="313" y="146"/>
                  </a:lnTo>
                  <a:lnTo>
                    <a:pt x="297" y="148"/>
                  </a:lnTo>
                  <a:lnTo>
                    <a:pt x="281" y="149"/>
                  </a:lnTo>
                  <a:lnTo>
                    <a:pt x="265" y="151"/>
                  </a:lnTo>
                  <a:lnTo>
                    <a:pt x="248" y="152"/>
                  </a:lnTo>
                  <a:lnTo>
                    <a:pt x="232" y="153"/>
                  </a:lnTo>
                  <a:lnTo>
                    <a:pt x="216" y="156"/>
                  </a:lnTo>
                  <a:lnTo>
                    <a:pt x="201" y="157"/>
                  </a:lnTo>
                  <a:lnTo>
                    <a:pt x="185" y="158"/>
                  </a:lnTo>
                  <a:lnTo>
                    <a:pt x="169" y="158"/>
                  </a:lnTo>
                  <a:lnTo>
                    <a:pt x="153" y="159"/>
                  </a:lnTo>
                  <a:lnTo>
                    <a:pt x="138" y="159"/>
                  </a:lnTo>
                  <a:lnTo>
                    <a:pt x="122" y="158"/>
                  </a:lnTo>
                  <a:lnTo>
                    <a:pt x="106" y="157"/>
                  </a:lnTo>
                  <a:lnTo>
                    <a:pt x="95" y="158"/>
                  </a:lnTo>
                  <a:lnTo>
                    <a:pt x="85" y="158"/>
                  </a:lnTo>
                  <a:lnTo>
                    <a:pt x="75" y="159"/>
                  </a:lnTo>
                  <a:lnTo>
                    <a:pt x="63" y="160"/>
                  </a:lnTo>
                  <a:lnTo>
                    <a:pt x="53" y="160"/>
                  </a:lnTo>
                  <a:lnTo>
                    <a:pt x="41" y="161"/>
                  </a:lnTo>
                  <a:lnTo>
                    <a:pt x="30" y="160"/>
                  </a:lnTo>
                  <a:lnTo>
                    <a:pt x="19" y="159"/>
                  </a:lnTo>
                  <a:lnTo>
                    <a:pt x="15" y="161"/>
                  </a:lnTo>
                  <a:lnTo>
                    <a:pt x="9" y="161"/>
                  </a:lnTo>
                  <a:lnTo>
                    <a:pt x="4" y="160"/>
                  </a:lnTo>
                  <a:lnTo>
                    <a:pt x="0" y="157"/>
                  </a:lnTo>
                  <a:lnTo>
                    <a:pt x="2" y="150"/>
                  </a:lnTo>
                  <a:lnTo>
                    <a:pt x="8" y="148"/>
                  </a:lnTo>
                  <a:lnTo>
                    <a:pt x="13" y="145"/>
                  </a:lnTo>
                  <a:lnTo>
                    <a:pt x="18"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502160" y="2509920"/>
              <a:ext cx="280800" cy="69840"/>
            </a:xfrm>
            <a:custGeom>
              <a:avLst/>
              <a:gdLst/>
              <a:ahLst/>
              <a:rect l="l" t="t" r="r" b="b"/>
              <a:pathLst>
                <a:path w="355" h="89">
                  <a:moveTo>
                    <a:pt x="70" y="16"/>
                  </a:moveTo>
                  <a:lnTo>
                    <a:pt x="88" y="16"/>
                  </a:lnTo>
                  <a:lnTo>
                    <a:pt x="105" y="15"/>
                  </a:lnTo>
                  <a:lnTo>
                    <a:pt x="121" y="15"/>
                  </a:lnTo>
                  <a:lnTo>
                    <a:pt x="138" y="14"/>
                  </a:lnTo>
                  <a:lnTo>
                    <a:pt x="156" y="14"/>
                  </a:lnTo>
                  <a:lnTo>
                    <a:pt x="173" y="13"/>
                  </a:lnTo>
                  <a:lnTo>
                    <a:pt x="190" y="12"/>
                  </a:lnTo>
                  <a:lnTo>
                    <a:pt x="209" y="10"/>
                  </a:lnTo>
                  <a:lnTo>
                    <a:pt x="225" y="10"/>
                  </a:lnTo>
                  <a:lnTo>
                    <a:pt x="242" y="9"/>
                  </a:lnTo>
                  <a:lnTo>
                    <a:pt x="259" y="8"/>
                  </a:lnTo>
                  <a:lnTo>
                    <a:pt x="277" y="8"/>
                  </a:lnTo>
                  <a:lnTo>
                    <a:pt x="293" y="7"/>
                  </a:lnTo>
                  <a:lnTo>
                    <a:pt x="310" y="7"/>
                  </a:lnTo>
                  <a:lnTo>
                    <a:pt x="326" y="6"/>
                  </a:lnTo>
                  <a:lnTo>
                    <a:pt x="342" y="6"/>
                  </a:lnTo>
                  <a:lnTo>
                    <a:pt x="355" y="0"/>
                  </a:lnTo>
                  <a:lnTo>
                    <a:pt x="350" y="9"/>
                  </a:lnTo>
                  <a:lnTo>
                    <a:pt x="347" y="20"/>
                  </a:lnTo>
                  <a:lnTo>
                    <a:pt x="343" y="30"/>
                  </a:lnTo>
                  <a:lnTo>
                    <a:pt x="340" y="40"/>
                  </a:lnTo>
                  <a:lnTo>
                    <a:pt x="336" y="50"/>
                  </a:lnTo>
                  <a:lnTo>
                    <a:pt x="331" y="59"/>
                  </a:lnTo>
                  <a:lnTo>
                    <a:pt x="324" y="68"/>
                  </a:lnTo>
                  <a:lnTo>
                    <a:pt x="316" y="75"/>
                  </a:lnTo>
                  <a:lnTo>
                    <a:pt x="296" y="76"/>
                  </a:lnTo>
                  <a:lnTo>
                    <a:pt x="277" y="77"/>
                  </a:lnTo>
                  <a:lnTo>
                    <a:pt x="257" y="78"/>
                  </a:lnTo>
                  <a:lnTo>
                    <a:pt x="236" y="80"/>
                  </a:lnTo>
                  <a:lnTo>
                    <a:pt x="217" y="82"/>
                  </a:lnTo>
                  <a:lnTo>
                    <a:pt x="197" y="84"/>
                  </a:lnTo>
                  <a:lnTo>
                    <a:pt x="178" y="87"/>
                  </a:lnTo>
                  <a:lnTo>
                    <a:pt x="159" y="89"/>
                  </a:lnTo>
                  <a:lnTo>
                    <a:pt x="0" y="88"/>
                  </a:lnTo>
                  <a:lnTo>
                    <a:pt x="9" y="78"/>
                  </a:lnTo>
                  <a:lnTo>
                    <a:pt x="17" y="69"/>
                  </a:lnTo>
                  <a:lnTo>
                    <a:pt x="26" y="60"/>
                  </a:lnTo>
                  <a:lnTo>
                    <a:pt x="34" y="50"/>
                  </a:lnTo>
                  <a:lnTo>
                    <a:pt x="43" y="40"/>
                  </a:lnTo>
                  <a:lnTo>
                    <a:pt x="51" y="31"/>
                  </a:lnTo>
                  <a:lnTo>
                    <a:pt x="60" y="23"/>
                  </a:lnTo>
                  <a:lnTo>
                    <a:pt x="70" y="16"/>
                  </a:lnTo>
                  <a:close/>
                </a:path>
              </a:pathLst>
            </a:custGeom>
            <a:solidFill>
              <a:srgbClr val="ffff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3" name=""/>
            <p:cNvSpPr/>
            <p:nvPr/>
          </p:nvSpPr>
          <p:spPr>
            <a:xfrm>
              <a:off x="4505400" y="2057400"/>
              <a:ext cx="169920" cy="27000"/>
            </a:xfrm>
            <a:custGeom>
              <a:avLst/>
              <a:gdLst/>
              <a:ahLst/>
              <a:rect l="l" t="t" r="r" b="b"/>
              <a:pathLst>
                <a:path w="215" h="33">
                  <a:moveTo>
                    <a:pt x="12" y="11"/>
                  </a:moveTo>
                  <a:lnTo>
                    <a:pt x="19" y="9"/>
                  </a:lnTo>
                  <a:lnTo>
                    <a:pt x="26" y="8"/>
                  </a:lnTo>
                  <a:lnTo>
                    <a:pt x="33" y="8"/>
                  </a:lnTo>
                  <a:lnTo>
                    <a:pt x="40" y="9"/>
                  </a:lnTo>
                  <a:lnTo>
                    <a:pt x="47" y="10"/>
                  </a:lnTo>
                  <a:lnTo>
                    <a:pt x="54" y="10"/>
                  </a:lnTo>
                  <a:lnTo>
                    <a:pt x="61" y="11"/>
                  </a:lnTo>
                  <a:lnTo>
                    <a:pt x="69" y="11"/>
                  </a:lnTo>
                  <a:lnTo>
                    <a:pt x="84" y="11"/>
                  </a:lnTo>
                  <a:lnTo>
                    <a:pt x="99" y="11"/>
                  </a:lnTo>
                  <a:lnTo>
                    <a:pt x="115" y="11"/>
                  </a:lnTo>
                  <a:lnTo>
                    <a:pt x="130" y="9"/>
                  </a:lnTo>
                  <a:lnTo>
                    <a:pt x="146" y="8"/>
                  </a:lnTo>
                  <a:lnTo>
                    <a:pt x="161" y="6"/>
                  </a:lnTo>
                  <a:lnTo>
                    <a:pt x="176" y="3"/>
                  </a:lnTo>
                  <a:lnTo>
                    <a:pt x="191" y="0"/>
                  </a:lnTo>
                  <a:lnTo>
                    <a:pt x="200" y="3"/>
                  </a:lnTo>
                  <a:lnTo>
                    <a:pt x="207" y="9"/>
                  </a:lnTo>
                  <a:lnTo>
                    <a:pt x="212" y="17"/>
                  </a:lnTo>
                  <a:lnTo>
                    <a:pt x="215" y="25"/>
                  </a:lnTo>
                  <a:lnTo>
                    <a:pt x="208" y="26"/>
                  </a:lnTo>
                  <a:lnTo>
                    <a:pt x="202" y="23"/>
                  </a:lnTo>
                  <a:lnTo>
                    <a:pt x="198" y="17"/>
                  </a:lnTo>
                  <a:lnTo>
                    <a:pt x="193" y="12"/>
                  </a:lnTo>
                  <a:lnTo>
                    <a:pt x="172" y="15"/>
                  </a:lnTo>
                  <a:lnTo>
                    <a:pt x="150" y="17"/>
                  </a:lnTo>
                  <a:lnTo>
                    <a:pt x="130" y="18"/>
                  </a:lnTo>
                  <a:lnTo>
                    <a:pt x="109" y="19"/>
                  </a:lnTo>
                  <a:lnTo>
                    <a:pt x="88" y="19"/>
                  </a:lnTo>
                  <a:lnTo>
                    <a:pt x="68" y="19"/>
                  </a:lnTo>
                  <a:lnTo>
                    <a:pt x="46" y="19"/>
                  </a:lnTo>
                  <a:lnTo>
                    <a:pt x="25" y="19"/>
                  </a:lnTo>
                  <a:lnTo>
                    <a:pt x="16" y="19"/>
                  </a:lnTo>
                  <a:lnTo>
                    <a:pt x="12" y="26"/>
                  </a:lnTo>
                  <a:lnTo>
                    <a:pt x="8" y="33"/>
                  </a:lnTo>
                  <a:lnTo>
                    <a:pt x="0" y="31"/>
                  </a:lnTo>
                  <a:lnTo>
                    <a:pt x="1" y="25"/>
                  </a:lnTo>
                  <a:lnTo>
                    <a:pt x="4" y="19"/>
                  </a:lnTo>
                  <a:lnTo>
                    <a:pt x="8" y="15"/>
                  </a:lnTo>
                  <a:lnTo>
                    <a:pt x="1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4" name=""/>
            <p:cNvSpPr/>
            <p:nvPr/>
          </p:nvSpPr>
          <p:spPr>
            <a:xfrm>
              <a:off x="4525920" y="2057400"/>
              <a:ext cx="433440" cy="272880"/>
            </a:xfrm>
            <a:custGeom>
              <a:avLst/>
              <a:gdLst/>
              <a:ahLst/>
              <a:rect l="l" t="t" r="r" b="b"/>
              <a:pathLst>
                <a:path w="546" h="343">
                  <a:moveTo>
                    <a:pt x="30" y="300"/>
                  </a:moveTo>
                  <a:lnTo>
                    <a:pt x="37" y="294"/>
                  </a:lnTo>
                  <a:lnTo>
                    <a:pt x="40" y="287"/>
                  </a:lnTo>
                  <a:lnTo>
                    <a:pt x="42" y="277"/>
                  </a:lnTo>
                  <a:lnTo>
                    <a:pt x="43" y="269"/>
                  </a:lnTo>
                  <a:lnTo>
                    <a:pt x="59" y="253"/>
                  </a:lnTo>
                  <a:lnTo>
                    <a:pt x="76" y="237"/>
                  </a:lnTo>
                  <a:lnTo>
                    <a:pt x="92" y="220"/>
                  </a:lnTo>
                  <a:lnTo>
                    <a:pt x="108" y="204"/>
                  </a:lnTo>
                  <a:lnTo>
                    <a:pt x="126" y="186"/>
                  </a:lnTo>
                  <a:lnTo>
                    <a:pt x="142" y="170"/>
                  </a:lnTo>
                  <a:lnTo>
                    <a:pt x="159" y="155"/>
                  </a:lnTo>
                  <a:lnTo>
                    <a:pt x="176" y="141"/>
                  </a:lnTo>
                  <a:lnTo>
                    <a:pt x="173" y="147"/>
                  </a:lnTo>
                  <a:lnTo>
                    <a:pt x="169" y="154"/>
                  </a:lnTo>
                  <a:lnTo>
                    <a:pt x="166" y="161"/>
                  </a:lnTo>
                  <a:lnTo>
                    <a:pt x="165" y="168"/>
                  </a:lnTo>
                  <a:lnTo>
                    <a:pt x="172" y="171"/>
                  </a:lnTo>
                  <a:lnTo>
                    <a:pt x="177" y="169"/>
                  </a:lnTo>
                  <a:lnTo>
                    <a:pt x="182" y="163"/>
                  </a:lnTo>
                  <a:lnTo>
                    <a:pt x="186" y="156"/>
                  </a:lnTo>
                  <a:lnTo>
                    <a:pt x="190" y="147"/>
                  </a:lnTo>
                  <a:lnTo>
                    <a:pt x="194" y="137"/>
                  </a:lnTo>
                  <a:lnTo>
                    <a:pt x="196" y="126"/>
                  </a:lnTo>
                  <a:lnTo>
                    <a:pt x="201" y="115"/>
                  </a:lnTo>
                  <a:lnTo>
                    <a:pt x="205" y="106"/>
                  </a:lnTo>
                  <a:lnTo>
                    <a:pt x="212" y="99"/>
                  </a:lnTo>
                  <a:lnTo>
                    <a:pt x="221" y="94"/>
                  </a:lnTo>
                  <a:lnTo>
                    <a:pt x="234" y="94"/>
                  </a:lnTo>
                  <a:lnTo>
                    <a:pt x="249" y="83"/>
                  </a:lnTo>
                  <a:lnTo>
                    <a:pt x="265" y="72"/>
                  </a:lnTo>
                  <a:lnTo>
                    <a:pt x="281" y="64"/>
                  </a:lnTo>
                  <a:lnTo>
                    <a:pt x="297" y="56"/>
                  </a:lnTo>
                  <a:lnTo>
                    <a:pt x="315" y="50"/>
                  </a:lnTo>
                  <a:lnTo>
                    <a:pt x="332" y="45"/>
                  </a:lnTo>
                  <a:lnTo>
                    <a:pt x="349" y="41"/>
                  </a:lnTo>
                  <a:lnTo>
                    <a:pt x="368" y="39"/>
                  </a:lnTo>
                  <a:lnTo>
                    <a:pt x="376" y="41"/>
                  </a:lnTo>
                  <a:lnTo>
                    <a:pt x="384" y="44"/>
                  </a:lnTo>
                  <a:lnTo>
                    <a:pt x="392" y="44"/>
                  </a:lnTo>
                  <a:lnTo>
                    <a:pt x="400" y="41"/>
                  </a:lnTo>
                  <a:lnTo>
                    <a:pt x="410" y="33"/>
                  </a:lnTo>
                  <a:lnTo>
                    <a:pt x="416" y="22"/>
                  </a:lnTo>
                  <a:lnTo>
                    <a:pt x="418" y="10"/>
                  </a:lnTo>
                  <a:lnTo>
                    <a:pt x="419" y="0"/>
                  </a:lnTo>
                  <a:lnTo>
                    <a:pt x="435" y="1"/>
                  </a:lnTo>
                  <a:lnTo>
                    <a:pt x="452" y="1"/>
                  </a:lnTo>
                  <a:lnTo>
                    <a:pt x="468" y="2"/>
                  </a:lnTo>
                  <a:lnTo>
                    <a:pt x="484" y="2"/>
                  </a:lnTo>
                  <a:lnTo>
                    <a:pt x="500" y="3"/>
                  </a:lnTo>
                  <a:lnTo>
                    <a:pt x="516" y="4"/>
                  </a:lnTo>
                  <a:lnTo>
                    <a:pt x="531" y="4"/>
                  </a:lnTo>
                  <a:lnTo>
                    <a:pt x="546" y="6"/>
                  </a:lnTo>
                  <a:lnTo>
                    <a:pt x="427" y="112"/>
                  </a:lnTo>
                  <a:lnTo>
                    <a:pt x="429" y="108"/>
                  </a:lnTo>
                  <a:lnTo>
                    <a:pt x="430" y="105"/>
                  </a:lnTo>
                  <a:lnTo>
                    <a:pt x="430" y="101"/>
                  </a:lnTo>
                  <a:lnTo>
                    <a:pt x="430" y="98"/>
                  </a:lnTo>
                  <a:lnTo>
                    <a:pt x="419" y="91"/>
                  </a:lnTo>
                  <a:lnTo>
                    <a:pt x="409" y="86"/>
                  </a:lnTo>
                  <a:lnTo>
                    <a:pt x="399" y="83"/>
                  </a:lnTo>
                  <a:lnTo>
                    <a:pt x="387" y="80"/>
                  </a:lnTo>
                  <a:lnTo>
                    <a:pt x="376" y="79"/>
                  </a:lnTo>
                  <a:lnTo>
                    <a:pt x="363" y="79"/>
                  </a:lnTo>
                  <a:lnTo>
                    <a:pt x="353" y="79"/>
                  </a:lnTo>
                  <a:lnTo>
                    <a:pt x="341" y="80"/>
                  </a:lnTo>
                  <a:lnTo>
                    <a:pt x="335" y="84"/>
                  </a:lnTo>
                  <a:lnTo>
                    <a:pt x="331" y="87"/>
                  </a:lnTo>
                  <a:lnTo>
                    <a:pt x="325" y="91"/>
                  </a:lnTo>
                  <a:lnTo>
                    <a:pt x="319" y="94"/>
                  </a:lnTo>
                  <a:lnTo>
                    <a:pt x="313" y="98"/>
                  </a:lnTo>
                  <a:lnTo>
                    <a:pt x="309" y="101"/>
                  </a:lnTo>
                  <a:lnTo>
                    <a:pt x="304" y="106"/>
                  </a:lnTo>
                  <a:lnTo>
                    <a:pt x="301" y="112"/>
                  </a:lnTo>
                  <a:lnTo>
                    <a:pt x="301" y="126"/>
                  </a:lnTo>
                  <a:lnTo>
                    <a:pt x="303" y="143"/>
                  </a:lnTo>
                  <a:lnTo>
                    <a:pt x="305" y="156"/>
                  </a:lnTo>
                  <a:lnTo>
                    <a:pt x="308" y="168"/>
                  </a:lnTo>
                  <a:lnTo>
                    <a:pt x="301" y="169"/>
                  </a:lnTo>
                  <a:lnTo>
                    <a:pt x="291" y="170"/>
                  </a:lnTo>
                  <a:lnTo>
                    <a:pt x="283" y="170"/>
                  </a:lnTo>
                  <a:lnTo>
                    <a:pt x="274" y="170"/>
                  </a:lnTo>
                  <a:lnTo>
                    <a:pt x="266" y="173"/>
                  </a:lnTo>
                  <a:lnTo>
                    <a:pt x="259" y="176"/>
                  </a:lnTo>
                  <a:lnTo>
                    <a:pt x="253" y="181"/>
                  </a:lnTo>
                  <a:lnTo>
                    <a:pt x="250" y="190"/>
                  </a:lnTo>
                  <a:lnTo>
                    <a:pt x="245" y="183"/>
                  </a:lnTo>
                  <a:lnTo>
                    <a:pt x="240" y="180"/>
                  </a:lnTo>
                  <a:lnTo>
                    <a:pt x="233" y="180"/>
                  </a:lnTo>
                  <a:lnTo>
                    <a:pt x="225" y="180"/>
                  </a:lnTo>
                  <a:lnTo>
                    <a:pt x="217" y="181"/>
                  </a:lnTo>
                  <a:lnTo>
                    <a:pt x="209" y="181"/>
                  </a:lnTo>
                  <a:lnTo>
                    <a:pt x="201" y="180"/>
                  </a:lnTo>
                  <a:lnTo>
                    <a:pt x="194" y="176"/>
                  </a:lnTo>
                  <a:lnTo>
                    <a:pt x="188" y="180"/>
                  </a:lnTo>
                  <a:lnTo>
                    <a:pt x="182" y="184"/>
                  </a:lnTo>
                  <a:lnTo>
                    <a:pt x="176" y="189"/>
                  </a:lnTo>
                  <a:lnTo>
                    <a:pt x="173" y="196"/>
                  </a:lnTo>
                  <a:lnTo>
                    <a:pt x="175" y="201"/>
                  </a:lnTo>
                  <a:lnTo>
                    <a:pt x="180" y="207"/>
                  </a:lnTo>
                  <a:lnTo>
                    <a:pt x="186" y="211"/>
                  </a:lnTo>
                  <a:lnTo>
                    <a:pt x="192" y="212"/>
                  </a:lnTo>
                  <a:lnTo>
                    <a:pt x="198" y="211"/>
                  </a:lnTo>
                  <a:lnTo>
                    <a:pt x="202" y="206"/>
                  </a:lnTo>
                  <a:lnTo>
                    <a:pt x="203" y="200"/>
                  </a:lnTo>
                  <a:lnTo>
                    <a:pt x="205" y="196"/>
                  </a:lnTo>
                  <a:lnTo>
                    <a:pt x="211" y="196"/>
                  </a:lnTo>
                  <a:lnTo>
                    <a:pt x="217" y="194"/>
                  </a:lnTo>
                  <a:lnTo>
                    <a:pt x="221" y="193"/>
                  </a:lnTo>
                  <a:lnTo>
                    <a:pt x="226" y="192"/>
                  </a:lnTo>
                  <a:lnTo>
                    <a:pt x="230" y="192"/>
                  </a:lnTo>
                  <a:lnTo>
                    <a:pt x="235" y="192"/>
                  </a:lnTo>
                  <a:lnTo>
                    <a:pt x="240" y="194"/>
                  </a:lnTo>
                  <a:lnTo>
                    <a:pt x="244" y="198"/>
                  </a:lnTo>
                  <a:lnTo>
                    <a:pt x="237" y="203"/>
                  </a:lnTo>
                  <a:lnTo>
                    <a:pt x="230" y="211"/>
                  </a:lnTo>
                  <a:lnTo>
                    <a:pt x="225" y="218"/>
                  </a:lnTo>
                  <a:lnTo>
                    <a:pt x="218" y="226"/>
                  </a:lnTo>
                  <a:lnTo>
                    <a:pt x="211" y="233"/>
                  </a:lnTo>
                  <a:lnTo>
                    <a:pt x="203" y="238"/>
                  </a:lnTo>
                  <a:lnTo>
                    <a:pt x="194" y="239"/>
                  </a:lnTo>
                  <a:lnTo>
                    <a:pt x="183" y="238"/>
                  </a:lnTo>
                  <a:lnTo>
                    <a:pt x="176" y="239"/>
                  </a:lnTo>
                  <a:lnTo>
                    <a:pt x="168" y="242"/>
                  </a:lnTo>
                  <a:lnTo>
                    <a:pt x="160" y="243"/>
                  </a:lnTo>
                  <a:lnTo>
                    <a:pt x="153" y="244"/>
                  </a:lnTo>
                  <a:lnTo>
                    <a:pt x="145" y="245"/>
                  </a:lnTo>
                  <a:lnTo>
                    <a:pt x="137" y="246"/>
                  </a:lnTo>
                  <a:lnTo>
                    <a:pt x="130" y="247"/>
                  </a:lnTo>
                  <a:lnTo>
                    <a:pt x="123" y="249"/>
                  </a:lnTo>
                  <a:lnTo>
                    <a:pt x="118" y="250"/>
                  </a:lnTo>
                  <a:lnTo>
                    <a:pt x="113" y="252"/>
                  </a:lnTo>
                  <a:lnTo>
                    <a:pt x="108" y="257"/>
                  </a:lnTo>
                  <a:lnTo>
                    <a:pt x="104" y="262"/>
                  </a:lnTo>
                  <a:lnTo>
                    <a:pt x="104" y="268"/>
                  </a:lnTo>
                  <a:lnTo>
                    <a:pt x="105" y="274"/>
                  </a:lnTo>
                  <a:lnTo>
                    <a:pt x="108" y="279"/>
                  </a:lnTo>
                  <a:lnTo>
                    <a:pt x="113" y="281"/>
                  </a:lnTo>
                  <a:lnTo>
                    <a:pt x="118" y="277"/>
                  </a:lnTo>
                  <a:lnTo>
                    <a:pt x="121" y="274"/>
                  </a:lnTo>
                  <a:lnTo>
                    <a:pt x="126" y="271"/>
                  </a:lnTo>
                  <a:lnTo>
                    <a:pt x="129" y="267"/>
                  </a:lnTo>
                  <a:lnTo>
                    <a:pt x="134" y="264"/>
                  </a:lnTo>
                  <a:lnTo>
                    <a:pt x="138" y="260"/>
                  </a:lnTo>
                  <a:lnTo>
                    <a:pt x="143" y="258"/>
                  </a:lnTo>
                  <a:lnTo>
                    <a:pt x="149" y="257"/>
                  </a:lnTo>
                  <a:lnTo>
                    <a:pt x="154" y="257"/>
                  </a:lnTo>
                  <a:lnTo>
                    <a:pt x="159" y="256"/>
                  </a:lnTo>
                  <a:lnTo>
                    <a:pt x="165" y="254"/>
                  </a:lnTo>
                  <a:lnTo>
                    <a:pt x="169" y="253"/>
                  </a:lnTo>
                  <a:lnTo>
                    <a:pt x="175" y="252"/>
                  </a:lnTo>
                  <a:lnTo>
                    <a:pt x="181" y="251"/>
                  </a:lnTo>
                  <a:lnTo>
                    <a:pt x="187" y="251"/>
                  </a:lnTo>
                  <a:lnTo>
                    <a:pt x="192" y="252"/>
                  </a:lnTo>
                  <a:lnTo>
                    <a:pt x="176" y="289"/>
                  </a:lnTo>
                  <a:lnTo>
                    <a:pt x="166" y="287"/>
                  </a:lnTo>
                  <a:lnTo>
                    <a:pt x="156" y="286"/>
                  </a:lnTo>
                  <a:lnTo>
                    <a:pt x="146" y="286"/>
                  </a:lnTo>
                  <a:lnTo>
                    <a:pt x="137" y="288"/>
                  </a:lnTo>
                  <a:lnTo>
                    <a:pt x="128" y="290"/>
                  </a:lnTo>
                  <a:lnTo>
                    <a:pt x="119" y="292"/>
                  </a:lnTo>
                  <a:lnTo>
                    <a:pt x="110" y="295"/>
                  </a:lnTo>
                  <a:lnTo>
                    <a:pt x="99" y="297"/>
                  </a:lnTo>
                  <a:lnTo>
                    <a:pt x="99" y="294"/>
                  </a:lnTo>
                  <a:lnTo>
                    <a:pt x="98" y="291"/>
                  </a:lnTo>
                  <a:lnTo>
                    <a:pt x="97" y="290"/>
                  </a:lnTo>
                  <a:lnTo>
                    <a:pt x="95" y="288"/>
                  </a:lnTo>
                  <a:lnTo>
                    <a:pt x="89" y="289"/>
                  </a:lnTo>
                  <a:lnTo>
                    <a:pt x="85" y="292"/>
                  </a:lnTo>
                  <a:lnTo>
                    <a:pt x="81" y="296"/>
                  </a:lnTo>
                  <a:lnTo>
                    <a:pt x="78" y="300"/>
                  </a:lnTo>
                  <a:lnTo>
                    <a:pt x="78" y="305"/>
                  </a:lnTo>
                  <a:lnTo>
                    <a:pt x="82" y="307"/>
                  </a:lnTo>
                  <a:lnTo>
                    <a:pt x="85" y="310"/>
                  </a:lnTo>
                  <a:lnTo>
                    <a:pt x="89" y="311"/>
                  </a:lnTo>
                  <a:lnTo>
                    <a:pt x="100" y="309"/>
                  </a:lnTo>
                  <a:lnTo>
                    <a:pt x="112" y="306"/>
                  </a:lnTo>
                  <a:lnTo>
                    <a:pt x="123" y="303"/>
                  </a:lnTo>
                  <a:lnTo>
                    <a:pt x="135" y="299"/>
                  </a:lnTo>
                  <a:lnTo>
                    <a:pt x="146" y="297"/>
                  </a:lnTo>
                  <a:lnTo>
                    <a:pt x="157" y="297"/>
                  </a:lnTo>
                  <a:lnTo>
                    <a:pt x="169" y="298"/>
                  </a:lnTo>
                  <a:lnTo>
                    <a:pt x="181" y="303"/>
                  </a:lnTo>
                  <a:lnTo>
                    <a:pt x="186" y="310"/>
                  </a:lnTo>
                  <a:lnTo>
                    <a:pt x="190" y="313"/>
                  </a:lnTo>
                  <a:lnTo>
                    <a:pt x="196" y="315"/>
                  </a:lnTo>
                  <a:lnTo>
                    <a:pt x="202" y="315"/>
                  </a:lnTo>
                  <a:lnTo>
                    <a:pt x="209" y="315"/>
                  </a:lnTo>
                  <a:lnTo>
                    <a:pt x="215" y="315"/>
                  </a:lnTo>
                  <a:lnTo>
                    <a:pt x="222" y="315"/>
                  </a:lnTo>
                  <a:lnTo>
                    <a:pt x="230" y="317"/>
                  </a:lnTo>
                  <a:lnTo>
                    <a:pt x="226" y="322"/>
                  </a:lnTo>
                  <a:lnTo>
                    <a:pt x="221" y="327"/>
                  </a:lnTo>
                  <a:lnTo>
                    <a:pt x="218" y="333"/>
                  </a:lnTo>
                  <a:lnTo>
                    <a:pt x="213" y="339"/>
                  </a:lnTo>
                  <a:lnTo>
                    <a:pt x="202" y="335"/>
                  </a:lnTo>
                  <a:lnTo>
                    <a:pt x="188" y="336"/>
                  </a:lnTo>
                  <a:lnTo>
                    <a:pt x="175" y="336"/>
                  </a:lnTo>
                  <a:lnTo>
                    <a:pt x="163" y="337"/>
                  </a:lnTo>
                  <a:lnTo>
                    <a:pt x="150" y="339"/>
                  </a:lnTo>
                  <a:lnTo>
                    <a:pt x="137" y="340"/>
                  </a:lnTo>
                  <a:lnTo>
                    <a:pt x="124" y="340"/>
                  </a:lnTo>
                  <a:lnTo>
                    <a:pt x="112" y="341"/>
                  </a:lnTo>
                  <a:lnTo>
                    <a:pt x="99" y="342"/>
                  </a:lnTo>
                  <a:lnTo>
                    <a:pt x="88" y="342"/>
                  </a:lnTo>
                  <a:lnTo>
                    <a:pt x="75" y="343"/>
                  </a:lnTo>
                  <a:lnTo>
                    <a:pt x="62" y="343"/>
                  </a:lnTo>
                  <a:lnTo>
                    <a:pt x="51" y="343"/>
                  </a:lnTo>
                  <a:lnTo>
                    <a:pt x="38" y="342"/>
                  </a:lnTo>
                  <a:lnTo>
                    <a:pt x="25" y="342"/>
                  </a:lnTo>
                  <a:lnTo>
                    <a:pt x="13" y="341"/>
                  </a:lnTo>
                  <a:lnTo>
                    <a:pt x="0" y="340"/>
                  </a:lnTo>
                  <a:lnTo>
                    <a:pt x="10" y="330"/>
                  </a:lnTo>
                  <a:lnTo>
                    <a:pt x="12" y="315"/>
                  </a:lnTo>
                  <a:lnTo>
                    <a:pt x="15" y="303"/>
                  </a:lnTo>
                  <a:lnTo>
                    <a:pt x="30" y="300"/>
                  </a:lnTo>
                  <a:close/>
                </a:path>
              </a:pathLst>
            </a:custGeom>
            <a:solidFill>
              <a:srgbClr val="3f3f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687920" y="2201760"/>
              <a:ext cx="112680" cy="95400"/>
            </a:xfrm>
            <a:custGeom>
              <a:avLst/>
              <a:gdLst/>
              <a:ahLst/>
              <a:rect l="l" t="t" r="r" b="b"/>
              <a:pathLst>
                <a:path w="143" h="120">
                  <a:moveTo>
                    <a:pt x="49" y="45"/>
                  </a:moveTo>
                  <a:lnTo>
                    <a:pt x="48" y="44"/>
                  </a:lnTo>
                  <a:lnTo>
                    <a:pt x="47" y="41"/>
                  </a:lnTo>
                  <a:lnTo>
                    <a:pt x="45" y="41"/>
                  </a:lnTo>
                  <a:lnTo>
                    <a:pt x="44" y="41"/>
                  </a:lnTo>
                  <a:lnTo>
                    <a:pt x="45" y="30"/>
                  </a:lnTo>
                  <a:lnTo>
                    <a:pt x="53" y="20"/>
                  </a:lnTo>
                  <a:lnTo>
                    <a:pt x="62" y="10"/>
                  </a:lnTo>
                  <a:lnTo>
                    <a:pt x="73" y="1"/>
                  </a:lnTo>
                  <a:lnTo>
                    <a:pt x="82" y="1"/>
                  </a:lnTo>
                  <a:lnTo>
                    <a:pt x="90" y="1"/>
                  </a:lnTo>
                  <a:lnTo>
                    <a:pt x="99" y="1"/>
                  </a:lnTo>
                  <a:lnTo>
                    <a:pt x="108" y="0"/>
                  </a:lnTo>
                  <a:lnTo>
                    <a:pt x="116" y="0"/>
                  </a:lnTo>
                  <a:lnTo>
                    <a:pt x="125" y="0"/>
                  </a:lnTo>
                  <a:lnTo>
                    <a:pt x="134" y="0"/>
                  </a:lnTo>
                  <a:lnTo>
                    <a:pt x="143" y="2"/>
                  </a:lnTo>
                  <a:lnTo>
                    <a:pt x="129" y="17"/>
                  </a:lnTo>
                  <a:lnTo>
                    <a:pt x="115" y="31"/>
                  </a:lnTo>
                  <a:lnTo>
                    <a:pt x="101" y="46"/>
                  </a:lnTo>
                  <a:lnTo>
                    <a:pt x="87" y="60"/>
                  </a:lnTo>
                  <a:lnTo>
                    <a:pt x="74" y="74"/>
                  </a:lnTo>
                  <a:lnTo>
                    <a:pt x="61" y="89"/>
                  </a:lnTo>
                  <a:lnTo>
                    <a:pt x="48" y="104"/>
                  </a:lnTo>
                  <a:lnTo>
                    <a:pt x="37" y="120"/>
                  </a:lnTo>
                  <a:lnTo>
                    <a:pt x="0" y="120"/>
                  </a:lnTo>
                  <a:lnTo>
                    <a:pt x="1" y="108"/>
                  </a:lnTo>
                  <a:lnTo>
                    <a:pt x="5" y="98"/>
                  </a:lnTo>
                  <a:lnTo>
                    <a:pt x="11" y="89"/>
                  </a:lnTo>
                  <a:lnTo>
                    <a:pt x="20" y="81"/>
                  </a:lnTo>
                  <a:lnTo>
                    <a:pt x="28" y="71"/>
                  </a:lnTo>
                  <a:lnTo>
                    <a:pt x="36" y="63"/>
                  </a:lnTo>
                  <a:lnTo>
                    <a:pt x="44" y="54"/>
                  </a:lnTo>
                  <a:lnTo>
                    <a:pt x="49" y="45"/>
                  </a:lnTo>
                  <a:close/>
                </a:path>
              </a:pathLst>
            </a:custGeom>
            <a:solidFill>
              <a:srgbClr val="b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695840" y="2068560"/>
              <a:ext cx="120600" cy="58680"/>
            </a:xfrm>
            <a:custGeom>
              <a:avLst/>
              <a:gdLst/>
              <a:ahLst/>
              <a:rect l="l" t="t" r="r" b="b"/>
              <a:pathLst>
                <a:path w="151" h="73">
                  <a:moveTo>
                    <a:pt x="124" y="0"/>
                  </a:moveTo>
                  <a:lnTo>
                    <a:pt x="130" y="0"/>
                  </a:lnTo>
                  <a:lnTo>
                    <a:pt x="137" y="0"/>
                  </a:lnTo>
                  <a:lnTo>
                    <a:pt x="144" y="2"/>
                  </a:lnTo>
                  <a:lnTo>
                    <a:pt x="151" y="5"/>
                  </a:lnTo>
                  <a:lnTo>
                    <a:pt x="149" y="12"/>
                  </a:lnTo>
                  <a:lnTo>
                    <a:pt x="143" y="15"/>
                  </a:lnTo>
                  <a:lnTo>
                    <a:pt x="137" y="16"/>
                  </a:lnTo>
                  <a:lnTo>
                    <a:pt x="132" y="18"/>
                  </a:lnTo>
                  <a:lnTo>
                    <a:pt x="112" y="19"/>
                  </a:lnTo>
                  <a:lnTo>
                    <a:pt x="95" y="23"/>
                  </a:lnTo>
                  <a:lnTo>
                    <a:pt x="77" y="30"/>
                  </a:lnTo>
                  <a:lnTo>
                    <a:pt x="63" y="38"/>
                  </a:lnTo>
                  <a:lnTo>
                    <a:pt x="46" y="47"/>
                  </a:lnTo>
                  <a:lnTo>
                    <a:pt x="31" y="56"/>
                  </a:lnTo>
                  <a:lnTo>
                    <a:pt x="16" y="65"/>
                  </a:lnTo>
                  <a:lnTo>
                    <a:pt x="0" y="73"/>
                  </a:lnTo>
                  <a:lnTo>
                    <a:pt x="13" y="61"/>
                  </a:lnTo>
                  <a:lnTo>
                    <a:pt x="27" y="48"/>
                  </a:lnTo>
                  <a:lnTo>
                    <a:pt x="42" y="38"/>
                  </a:lnTo>
                  <a:lnTo>
                    <a:pt x="58" y="29"/>
                  </a:lnTo>
                  <a:lnTo>
                    <a:pt x="74" y="20"/>
                  </a:lnTo>
                  <a:lnTo>
                    <a:pt x="90" y="12"/>
                  </a:lnTo>
                  <a:lnTo>
                    <a:pt x="106" y="5"/>
                  </a:lnTo>
                  <a:lnTo>
                    <a:pt x="124" y="0"/>
                  </a:lnTo>
                  <a:close/>
                </a:path>
              </a:pathLst>
            </a:custGeom>
            <a:solidFill>
              <a:srgbClr val="3f3f9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7" name=""/>
            <p:cNvSpPr/>
            <p:nvPr/>
          </p:nvSpPr>
          <p:spPr>
            <a:xfrm>
              <a:off x="4773600" y="2475000"/>
              <a:ext cx="92160" cy="90360"/>
            </a:xfrm>
            <a:custGeom>
              <a:avLst/>
              <a:gdLst/>
              <a:ahLst/>
              <a:rect l="l" t="t" r="r" b="b"/>
              <a:pathLst>
                <a:path w="115" h="113">
                  <a:moveTo>
                    <a:pt x="31" y="44"/>
                  </a:moveTo>
                  <a:lnTo>
                    <a:pt x="29" y="40"/>
                  </a:lnTo>
                  <a:lnTo>
                    <a:pt x="39" y="36"/>
                  </a:lnTo>
                  <a:lnTo>
                    <a:pt x="51" y="31"/>
                  </a:lnTo>
                  <a:lnTo>
                    <a:pt x="60" y="26"/>
                  </a:lnTo>
                  <a:lnTo>
                    <a:pt x="70" y="20"/>
                  </a:lnTo>
                  <a:lnTo>
                    <a:pt x="80" y="14"/>
                  </a:lnTo>
                  <a:lnTo>
                    <a:pt x="90" y="8"/>
                  </a:lnTo>
                  <a:lnTo>
                    <a:pt x="100" y="4"/>
                  </a:lnTo>
                  <a:lnTo>
                    <a:pt x="111" y="0"/>
                  </a:lnTo>
                  <a:lnTo>
                    <a:pt x="115" y="15"/>
                  </a:lnTo>
                  <a:lnTo>
                    <a:pt x="115" y="31"/>
                  </a:lnTo>
                  <a:lnTo>
                    <a:pt x="112" y="48"/>
                  </a:lnTo>
                  <a:lnTo>
                    <a:pt x="110" y="63"/>
                  </a:lnTo>
                  <a:lnTo>
                    <a:pt x="98" y="73"/>
                  </a:lnTo>
                  <a:lnTo>
                    <a:pt x="85" y="82"/>
                  </a:lnTo>
                  <a:lnTo>
                    <a:pt x="72" y="89"/>
                  </a:lnTo>
                  <a:lnTo>
                    <a:pt x="58" y="95"/>
                  </a:lnTo>
                  <a:lnTo>
                    <a:pt x="44" y="101"/>
                  </a:lnTo>
                  <a:lnTo>
                    <a:pt x="29" y="104"/>
                  </a:lnTo>
                  <a:lnTo>
                    <a:pt x="14" y="109"/>
                  </a:lnTo>
                  <a:lnTo>
                    <a:pt x="0" y="113"/>
                  </a:lnTo>
                  <a:lnTo>
                    <a:pt x="8" y="96"/>
                  </a:lnTo>
                  <a:lnTo>
                    <a:pt x="16" y="79"/>
                  </a:lnTo>
                  <a:lnTo>
                    <a:pt x="23" y="61"/>
                  </a:lnTo>
                  <a:lnTo>
                    <a:pt x="31" y="44"/>
                  </a:lnTo>
                  <a:close/>
                </a:path>
              </a:pathLst>
            </a:custGeom>
            <a:solidFill>
              <a:srgbClr val="ff9e3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
            <p:cNvSpPr/>
            <p:nvPr/>
          </p:nvSpPr>
          <p:spPr>
            <a:xfrm>
              <a:off x="4776840" y="2128680"/>
              <a:ext cx="81000" cy="41400"/>
            </a:xfrm>
            <a:custGeom>
              <a:avLst/>
              <a:gdLst/>
              <a:ahLst/>
              <a:rect l="l" t="t" r="r" b="b"/>
              <a:pathLst>
                <a:path w="100" h="50">
                  <a:moveTo>
                    <a:pt x="46" y="1"/>
                  </a:moveTo>
                  <a:lnTo>
                    <a:pt x="54" y="0"/>
                  </a:lnTo>
                  <a:lnTo>
                    <a:pt x="61" y="0"/>
                  </a:lnTo>
                  <a:lnTo>
                    <a:pt x="68" y="1"/>
                  </a:lnTo>
                  <a:lnTo>
                    <a:pt x="75" y="3"/>
                  </a:lnTo>
                  <a:lnTo>
                    <a:pt x="82" y="7"/>
                  </a:lnTo>
                  <a:lnTo>
                    <a:pt x="89" y="9"/>
                  </a:lnTo>
                  <a:lnTo>
                    <a:pt x="94" y="12"/>
                  </a:lnTo>
                  <a:lnTo>
                    <a:pt x="100" y="15"/>
                  </a:lnTo>
                  <a:lnTo>
                    <a:pt x="97" y="22"/>
                  </a:lnTo>
                  <a:lnTo>
                    <a:pt x="92" y="27"/>
                  </a:lnTo>
                  <a:lnTo>
                    <a:pt x="87" y="33"/>
                  </a:lnTo>
                  <a:lnTo>
                    <a:pt x="82" y="38"/>
                  </a:lnTo>
                  <a:lnTo>
                    <a:pt x="76" y="41"/>
                  </a:lnTo>
                  <a:lnTo>
                    <a:pt x="69" y="45"/>
                  </a:lnTo>
                  <a:lnTo>
                    <a:pt x="62" y="48"/>
                  </a:lnTo>
                  <a:lnTo>
                    <a:pt x="55" y="50"/>
                  </a:lnTo>
                  <a:lnTo>
                    <a:pt x="48" y="50"/>
                  </a:lnTo>
                  <a:lnTo>
                    <a:pt x="41" y="50"/>
                  </a:lnTo>
                  <a:lnTo>
                    <a:pt x="34" y="50"/>
                  </a:lnTo>
                  <a:lnTo>
                    <a:pt x="27" y="49"/>
                  </a:lnTo>
                  <a:lnTo>
                    <a:pt x="21" y="48"/>
                  </a:lnTo>
                  <a:lnTo>
                    <a:pt x="15" y="46"/>
                  </a:lnTo>
                  <a:lnTo>
                    <a:pt x="9" y="44"/>
                  </a:lnTo>
                  <a:lnTo>
                    <a:pt x="4" y="39"/>
                  </a:lnTo>
                  <a:lnTo>
                    <a:pt x="1" y="33"/>
                  </a:lnTo>
                  <a:lnTo>
                    <a:pt x="0" y="27"/>
                  </a:lnTo>
                  <a:lnTo>
                    <a:pt x="1" y="21"/>
                  </a:lnTo>
                  <a:lnTo>
                    <a:pt x="6" y="16"/>
                  </a:lnTo>
                  <a:lnTo>
                    <a:pt x="10" y="12"/>
                  </a:lnTo>
                  <a:lnTo>
                    <a:pt x="15" y="9"/>
                  </a:lnTo>
                  <a:lnTo>
                    <a:pt x="19" y="7"/>
                  </a:lnTo>
                  <a:lnTo>
                    <a:pt x="24" y="4"/>
                  </a:lnTo>
                  <a:lnTo>
                    <a:pt x="30" y="3"/>
                  </a:lnTo>
                  <a:lnTo>
                    <a:pt x="34" y="2"/>
                  </a:lnTo>
                  <a:lnTo>
                    <a:pt x="40" y="1"/>
                  </a:lnTo>
                  <a:lnTo>
                    <a:pt x="46" y="1"/>
                  </a:lnTo>
                  <a:close/>
                </a:path>
              </a:pathLst>
            </a:custGeom>
            <a:solidFill>
              <a:srgbClr val="bf7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19" name=""/>
            <p:cNvSpPr/>
            <p:nvPr/>
          </p:nvSpPr>
          <p:spPr>
            <a:xfrm>
              <a:off x="4784760" y="2176560"/>
              <a:ext cx="44280" cy="19080"/>
            </a:xfrm>
            <a:custGeom>
              <a:avLst/>
              <a:gdLst/>
              <a:ahLst/>
              <a:rect l="l" t="t" r="r" b="b"/>
              <a:pathLst>
                <a:path w="55" h="24">
                  <a:moveTo>
                    <a:pt x="6" y="5"/>
                  </a:moveTo>
                  <a:lnTo>
                    <a:pt x="5" y="4"/>
                  </a:lnTo>
                  <a:lnTo>
                    <a:pt x="5" y="3"/>
                  </a:lnTo>
                  <a:lnTo>
                    <a:pt x="5" y="1"/>
                  </a:lnTo>
                  <a:lnTo>
                    <a:pt x="5" y="0"/>
                  </a:lnTo>
                  <a:lnTo>
                    <a:pt x="10" y="2"/>
                  </a:lnTo>
                  <a:lnTo>
                    <a:pt x="17" y="4"/>
                  </a:lnTo>
                  <a:lnTo>
                    <a:pt x="24" y="5"/>
                  </a:lnTo>
                  <a:lnTo>
                    <a:pt x="31" y="5"/>
                  </a:lnTo>
                  <a:lnTo>
                    <a:pt x="38" y="5"/>
                  </a:lnTo>
                  <a:lnTo>
                    <a:pt x="45" y="4"/>
                  </a:lnTo>
                  <a:lnTo>
                    <a:pt x="51" y="4"/>
                  </a:lnTo>
                  <a:lnTo>
                    <a:pt x="55" y="3"/>
                  </a:lnTo>
                  <a:lnTo>
                    <a:pt x="51" y="5"/>
                  </a:lnTo>
                  <a:lnTo>
                    <a:pt x="47" y="10"/>
                  </a:lnTo>
                  <a:lnTo>
                    <a:pt x="44" y="13"/>
                  </a:lnTo>
                  <a:lnTo>
                    <a:pt x="40" y="18"/>
                  </a:lnTo>
                  <a:lnTo>
                    <a:pt x="36" y="21"/>
                  </a:lnTo>
                  <a:lnTo>
                    <a:pt x="31" y="24"/>
                  </a:lnTo>
                  <a:lnTo>
                    <a:pt x="27" y="24"/>
                  </a:lnTo>
                  <a:lnTo>
                    <a:pt x="21" y="21"/>
                  </a:lnTo>
                  <a:lnTo>
                    <a:pt x="0" y="20"/>
                  </a:lnTo>
                  <a:lnTo>
                    <a:pt x="3" y="18"/>
                  </a:lnTo>
                  <a:lnTo>
                    <a:pt x="6" y="13"/>
                  </a:lnTo>
                  <a:lnTo>
                    <a:pt x="6" y="9"/>
                  </a:lnTo>
                  <a:lnTo>
                    <a:pt x="6" y="5"/>
                  </a:lnTo>
                  <a:close/>
                </a:path>
              </a:pathLst>
            </a:custGeom>
            <a:solidFill>
              <a:srgbClr val="bf7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0" name=""/>
            <p:cNvSpPr/>
            <p:nvPr/>
          </p:nvSpPr>
          <p:spPr>
            <a:xfrm>
              <a:off x="4824360" y="2095560"/>
              <a:ext cx="196920" cy="223920"/>
            </a:xfrm>
            <a:custGeom>
              <a:avLst/>
              <a:gdLst/>
              <a:ahLst/>
              <a:rect l="l" t="t" r="r" b="b"/>
              <a:pathLst>
                <a:path w="248" h="282">
                  <a:moveTo>
                    <a:pt x="217" y="24"/>
                  </a:moveTo>
                  <a:lnTo>
                    <a:pt x="224" y="19"/>
                  </a:lnTo>
                  <a:lnTo>
                    <a:pt x="231" y="13"/>
                  </a:lnTo>
                  <a:lnTo>
                    <a:pt x="238" y="7"/>
                  </a:lnTo>
                  <a:lnTo>
                    <a:pt x="244" y="0"/>
                  </a:lnTo>
                  <a:lnTo>
                    <a:pt x="246" y="6"/>
                  </a:lnTo>
                  <a:lnTo>
                    <a:pt x="248" y="9"/>
                  </a:lnTo>
                  <a:lnTo>
                    <a:pt x="248" y="14"/>
                  </a:lnTo>
                  <a:lnTo>
                    <a:pt x="246" y="19"/>
                  </a:lnTo>
                  <a:lnTo>
                    <a:pt x="239" y="17"/>
                  </a:lnTo>
                  <a:lnTo>
                    <a:pt x="224" y="32"/>
                  </a:lnTo>
                  <a:lnTo>
                    <a:pt x="208" y="47"/>
                  </a:lnTo>
                  <a:lnTo>
                    <a:pt x="192" y="64"/>
                  </a:lnTo>
                  <a:lnTo>
                    <a:pt x="177" y="78"/>
                  </a:lnTo>
                  <a:lnTo>
                    <a:pt x="161" y="95"/>
                  </a:lnTo>
                  <a:lnTo>
                    <a:pt x="145" y="111"/>
                  </a:lnTo>
                  <a:lnTo>
                    <a:pt x="130" y="127"/>
                  </a:lnTo>
                  <a:lnTo>
                    <a:pt x="115" y="143"/>
                  </a:lnTo>
                  <a:lnTo>
                    <a:pt x="100" y="159"/>
                  </a:lnTo>
                  <a:lnTo>
                    <a:pt x="85" y="176"/>
                  </a:lnTo>
                  <a:lnTo>
                    <a:pt x="70" y="194"/>
                  </a:lnTo>
                  <a:lnTo>
                    <a:pt x="57" y="211"/>
                  </a:lnTo>
                  <a:lnTo>
                    <a:pt x="43" y="228"/>
                  </a:lnTo>
                  <a:lnTo>
                    <a:pt x="31" y="247"/>
                  </a:lnTo>
                  <a:lnTo>
                    <a:pt x="19" y="264"/>
                  </a:lnTo>
                  <a:lnTo>
                    <a:pt x="8" y="282"/>
                  </a:lnTo>
                  <a:lnTo>
                    <a:pt x="0" y="279"/>
                  </a:lnTo>
                  <a:lnTo>
                    <a:pt x="10" y="261"/>
                  </a:lnTo>
                  <a:lnTo>
                    <a:pt x="21" y="243"/>
                  </a:lnTo>
                  <a:lnTo>
                    <a:pt x="33" y="227"/>
                  </a:lnTo>
                  <a:lnTo>
                    <a:pt x="47" y="210"/>
                  </a:lnTo>
                  <a:lnTo>
                    <a:pt x="59" y="194"/>
                  </a:lnTo>
                  <a:lnTo>
                    <a:pt x="73" y="178"/>
                  </a:lnTo>
                  <a:lnTo>
                    <a:pt x="87" y="163"/>
                  </a:lnTo>
                  <a:lnTo>
                    <a:pt x="102" y="146"/>
                  </a:lnTo>
                  <a:lnTo>
                    <a:pt x="116" y="132"/>
                  </a:lnTo>
                  <a:lnTo>
                    <a:pt x="131" y="117"/>
                  </a:lnTo>
                  <a:lnTo>
                    <a:pt x="146" y="102"/>
                  </a:lnTo>
                  <a:lnTo>
                    <a:pt x="161" y="87"/>
                  </a:lnTo>
                  <a:lnTo>
                    <a:pt x="175" y="70"/>
                  </a:lnTo>
                  <a:lnTo>
                    <a:pt x="190" y="55"/>
                  </a:lnTo>
                  <a:lnTo>
                    <a:pt x="203" y="40"/>
                  </a:lnTo>
                  <a:lnTo>
                    <a:pt x="217"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867200" y="1766880"/>
              <a:ext cx="193680" cy="237960"/>
            </a:xfrm>
            <a:custGeom>
              <a:avLst/>
              <a:gdLst/>
              <a:ahLst/>
              <a:rect l="l" t="t" r="r" b="b"/>
              <a:pathLst>
                <a:path w="243" h="301">
                  <a:moveTo>
                    <a:pt x="166" y="21"/>
                  </a:moveTo>
                  <a:lnTo>
                    <a:pt x="178" y="54"/>
                  </a:lnTo>
                  <a:lnTo>
                    <a:pt x="190" y="89"/>
                  </a:lnTo>
                  <a:lnTo>
                    <a:pt x="200" y="124"/>
                  </a:lnTo>
                  <a:lnTo>
                    <a:pt x="209" y="158"/>
                  </a:lnTo>
                  <a:lnTo>
                    <a:pt x="219" y="193"/>
                  </a:lnTo>
                  <a:lnTo>
                    <a:pt x="227" y="228"/>
                  </a:lnTo>
                  <a:lnTo>
                    <a:pt x="235" y="264"/>
                  </a:lnTo>
                  <a:lnTo>
                    <a:pt x="243" y="300"/>
                  </a:lnTo>
                  <a:lnTo>
                    <a:pt x="147" y="301"/>
                  </a:lnTo>
                  <a:lnTo>
                    <a:pt x="136" y="276"/>
                  </a:lnTo>
                  <a:lnTo>
                    <a:pt x="127" y="250"/>
                  </a:lnTo>
                  <a:lnTo>
                    <a:pt x="116" y="224"/>
                  </a:lnTo>
                  <a:lnTo>
                    <a:pt x="107" y="199"/>
                  </a:lnTo>
                  <a:lnTo>
                    <a:pt x="97" y="173"/>
                  </a:lnTo>
                  <a:lnTo>
                    <a:pt x="86" y="148"/>
                  </a:lnTo>
                  <a:lnTo>
                    <a:pt x="75" y="124"/>
                  </a:lnTo>
                  <a:lnTo>
                    <a:pt x="61" y="99"/>
                  </a:lnTo>
                  <a:lnTo>
                    <a:pt x="54" y="88"/>
                  </a:lnTo>
                  <a:lnTo>
                    <a:pt x="46" y="76"/>
                  </a:lnTo>
                  <a:lnTo>
                    <a:pt x="38" y="65"/>
                  </a:lnTo>
                  <a:lnTo>
                    <a:pt x="31" y="53"/>
                  </a:lnTo>
                  <a:lnTo>
                    <a:pt x="24" y="43"/>
                  </a:lnTo>
                  <a:lnTo>
                    <a:pt x="17" y="31"/>
                  </a:lnTo>
                  <a:lnTo>
                    <a:pt x="11" y="20"/>
                  </a:lnTo>
                  <a:lnTo>
                    <a:pt x="7" y="8"/>
                  </a:lnTo>
                  <a:lnTo>
                    <a:pt x="0" y="0"/>
                  </a:lnTo>
                  <a:lnTo>
                    <a:pt x="156" y="25"/>
                  </a:lnTo>
                  <a:lnTo>
                    <a:pt x="166" y="21"/>
                  </a:lnTo>
                  <a:close/>
                </a:path>
              </a:pathLst>
            </a:custGeom>
            <a:solidFill>
              <a:srgbClr val="e8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917960" y="2265480"/>
              <a:ext cx="214560" cy="401400"/>
            </a:xfrm>
            <a:custGeom>
              <a:avLst/>
              <a:gdLst/>
              <a:ahLst/>
              <a:rect l="l" t="t" r="r" b="b"/>
              <a:pathLst>
                <a:path w="271" h="505">
                  <a:moveTo>
                    <a:pt x="51" y="436"/>
                  </a:moveTo>
                  <a:lnTo>
                    <a:pt x="55" y="421"/>
                  </a:lnTo>
                  <a:lnTo>
                    <a:pt x="62" y="405"/>
                  </a:lnTo>
                  <a:lnTo>
                    <a:pt x="68" y="390"/>
                  </a:lnTo>
                  <a:lnTo>
                    <a:pt x="74" y="374"/>
                  </a:lnTo>
                  <a:lnTo>
                    <a:pt x="78" y="358"/>
                  </a:lnTo>
                  <a:lnTo>
                    <a:pt x="83" y="342"/>
                  </a:lnTo>
                  <a:lnTo>
                    <a:pt x="86" y="325"/>
                  </a:lnTo>
                  <a:lnTo>
                    <a:pt x="88" y="308"/>
                  </a:lnTo>
                  <a:lnTo>
                    <a:pt x="90" y="291"/>
                  </a:lnTo>
                  <a:lnTo>
                    <a:pt x="89" y="274"/>
                  </a:lnTo>
                  <a:lnTo>
                    <a:pt x="86" y="255"/>
                  </a:lnTo>
                  <a:lnTo>
                    <a:pt x="84" y="236"/>
                  </a:lnTo>
                  <a:lnTo>
                    <a:pt x="92" y="207"/>
                  </a:lnTo>
                  <a:lnTo>
                    <a:pt x="101" y="178"/>
                  </a:lnTo>
                  <a:lnTo>
                    <a:pt x="112" y="149"/>
                  </a:lnTo>
                  <a:lnTo>
                    <a:pt x="123" y="121"/>
                  </a:lnTo>
                  <a:lnTo>
                    <a:pt x="135" y="94"/>
                  </a:lnTo>
                  <a:lnTo>
                    <a:pt x="147" y="67"/>
                  </a:lnTo>
                  <a:lnTo>
                    <a:pt x="161" y="40"/>
                  </a:lnTo>
                  <a:lnTo>
                    <a:pt x="175" y="13"/>
                  </a:lnTo>
                  <a:lnTo>
                    <a:pt x="182" y="10"/>
                  </a:lnTo>
                  <a:lnTo>
                    <a:pt x="190" y="6"/>
                  </a:lnTo>
                  <a:lnTo>
                    <a:pt x="197" y="4"/>
                  </a:lnTo>
                  <a:lnTo>
                    <a:pt x="205" y="2"/>
                  </a:lnTo>
                  <a:lnTo>
                    <a:pt x="213" y="0"/>
                  </a:lnTo>
                  <a:lnTo>
                    <a:pt x="221" y="0"/>
                  </a:lnTo>
                  <a:lnTo>
                    <a:pt x="229" y="2"/>
                  </a:lnTo>
                  <a:lnTo>
                    <a:pt x="237" y="3"/>
                  </a:lnTo>
                  <a:lnTo>
                    <a:pt x="253" y="20"/>
                  </a:lnTo>
                  <a:lnTo>
                    <a:pt x="264" y="40"/>
                  </a:lnTo>
                  <a:lnTo>
                    <a:pt x="270" y="62"/>
                  </a:lnTo>
                  <a:lnTo>
                    <a:pt x="271" y="85"/>
                  </a:lnTo>
                  <a:lnTo>
                    <a:pt x="270" y="109"/>
                  </a:lnTo>
                  <a:lnTo>
                    <a:pt x="267" y="132"/>
                  </a:lnTo>
                  <a:lnTo>
                    <a:pt x="266" y="156"/>
                  </a:lnTo>
                  <a:lnTo>
                    <a:pt x="265" y="178"/>
                  </a:lnTo>
                  <a:lnTo>
                    <a:pt x="263" y="215"/>
                  </a:lnTo>
                  <a:lnTo>
                    <a:pt x="259" y="252"/>
                  </a:lnTo>
                  <a:lnTo>
                    <a:pt x="255" y="289"/>
                  </a:lnTo>
                  <a:lnTo>
                    <a:pt x="250" y="325"/>
                  </a:lnTo>
                  <a:lnTo>
                    <a:pt x="242" y="361"/>
                  </a:lnTo>
                  <a:lnTo>
                    <a:pt x="233" y="396"/>
                  </a:lnTo>
                  <a:lnTo>
                    <a:pt x="221" y="430"/>
                  </a:lnTo>
                  <a:lnTo>
                    <a:pt x="207" y="463"/>
                  </a:lnTo>
                  <a:lnTo>
                    <a:pt x="184" y="487"/>
                  </a:lnTo>
                  <a:lnTo>
                    <a:pt x="166" y="495"/>
                  </a:lnTo>
                  <a:lnTo>
                    <a:pt x="146" y="499"/>
                  </a:lnTo>
                  <a:lnTo>
                    <a:pt x="127" y="503"/>
                  </a:lnTo>
                  <a:lnTo>
                    <a:pt x="106" y="504"/>
                  </a:lnTo>
                  <a:lnTo>
                    <a:pt x="85" y="505"/>
                  </a:lnTo>
                  <a:lnTo>
                    <a:pt x="65" y="504"/>
                  </a:lnTo>
                  <a:lnTo>
                    <a:pt x="44" y="504"/>
                  </a:lnTo>
                  <a:lnTo>
                    <a:pt x="24" y="503"/>
                  </a:lnTo>
                  <a:lnTo>
                    <a:pt x="16" y="497"/>
                  </a:lnTo>
                  <a:lnTo>
                    <a:pt x="10" y="491"/>
                  </a:lnTo>
                  <a:lnTo>
                    <a:pt x="6" y="484"/>
                  </a:lnTo>
                  <a:lnTo>
                    <a:pt x="0" y="478"/>
                  </a:lnTo>
                  <a:lnTo>
                    <a:pt x="8" y="473"/>
                  </a:lnTo>
                  <a:lnTo>
                    <a:pt x="14" y="468"/>
                  </a:lnTo>
                  <a:lnTo>
                    <a:pt x="21" y="463"/>
                  </a:lnTo>
                  <a:lnTo>
                    <a:pt x="25" y="456"/>
                  </a:lnTo>
                  <a:lnTo>
                    <a:pt x="31" y="450"/>
                  </a:lnTo>
                  <a:lnTo>
                    <a:pt x="37" y="444"/>
                  </a:lnTo>
                  <a:lnTo>
                    <a:pt x="44" y="439"/>
                  </a:lnTo>
                  <a:lnTo>
                    <a:pt x="51" y="436"/>
                  </a:lnTo>
                  <a:close/>
                </a:path>
              </a:pathLst>
            </a:custGeom>
            <a:solidFill>
              <a:srgbClr val="00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041800" y="2293920"/>
              <a:ext cx="77760" cy="330120"/>
            </a:xfrm>
            <a:custGeom>
              <a:avLst/>
              <a:gdLst/>
              <a:ahLst/>
              <a:rect l="l" t="t" r="r" b="b"/>
              <a:pathLst>
                <a:path w="97" h="416">
                  <a:moveTo>
                    <a:pt x="56" y="21"/>
                  </a:moveTo>
                  <a:lnTo>
                    <a:pt x="60" y="16"/>
                  </a:lnTo>
                  <a:lnTo>
                    <a:pt x="64" y="12"/>
                  </a:lnTo>
                  <a:lnTo>
                    <a:pt x="68" y="8"/>
                  </a:lnTo>
                  <a:lnTo>
                    <a:pt x="72" y="5"/>
                  </a:lnTo>
                  <a:lnTo>
                    <a:pt x="78" y="2"/>
                  </a:lnTo>
                  <a:lnTo>
                    <a:pt x="83" y="0"/>
                  </a:lnTo>
                  <a:lnTo>
                    <a:pt x="90" y="1"/>
                  </a:lnTo>
                  <a:lnTo>
                    <a:pt x="95" y="2"/>
                  </a:lnTo>
                  <a:lnTo>
                    <a:pt x="95" y="11"/>
                  </a:lnTo>
                  <a:lnTo>
                    <a:pt x="87" y="11"/>
                  </a:lnTo>
                  <a:lnTo>
                    <a:pt x="80" y="13"/>
                  </a:lnTo>
                  <a:lnTo>
                    <a:pt x="74" y="16"/>
                  </a:lnTo>
                  <a:lnTo>
                    <a:pt x="69" y="22"/>
                  </a:lnTo>
                  <a:lnTo>
                    <a:pt x="75" y="28"/>
                  </a:lnTo>
                  <a:lnTo>
                    <a:pt x="82" y="34"/>
                  </a:lnTo>
                  <a:lnTo>
                    <a:pt x="86" y="41"/>
                  </a:lnTo>
                  <a:lnTo>
                    <a:pt x="90" y="50"/>
                  </a:lnTo>
                  <a:lnTo>
                    <a:pt x="94" y="79"/>
                  </a:lnTo>
                  <a:lnTo>
                    <a:pt x="97" y="108"/>
                  </a:lnTo>
                  <a:lnTo>
                    <a:pt x="95" y="138"/>
                  </a:lnTo>
                  <a:lnTo>
                    <a:pt x="93" y="168"/>
                  </a:lnTo>
                  <a:lnTo>
                    <a:pt x="89" y="198"/>
                  </a:lnTo>
                  <a:lnTo>
                    <a:pt x="84" y="227"/>
                  </a:lnTo>
                  <a:lnTo>
                    <a:pt x="77" y="256"/>
                  </a:lnTo>
                  <a:lnTo>
                    <a:pt x="71" y="285"/>
                  </a:lnTo>
                  <a:lnTo>
                    <a:pt x="67" y="302"/>
                  </a:lnTo>
                  <a:lnTo>
                    <a:pt x="63" y="319"/>
                  </a:lnTo>
                  <a:lnTo>
                    <a:pt x="59" y="335"/>
                  </a:lnTo>
                  <a:lnTo>
                    <a:pt x="54" y="353"/>
                  </a:lnTo>
                  <a:lnTo>
                    <a:pt x="48" y="369"/>
                  </a:lnTo>
                  <a:lnTo>
                    <a:pt x="42" y="385"/>
                  </a:lnTo>
                  <a:lnTo>
                    <a:pt x="36" y="401"/>
                  </a:lnTo>
                  <a:lnTo>
                    <a:pt x="27" y="416"/>
                  </a:lnTo>
                  <a:lnTo>
                    <a:pt x="16" y="413"/>
                  </a:lnTo>
                  <a:lnTo>
                    <a:pt x="9" y="406"/>
                  </a:lnTo>
                  <a:lnTo>
                    <a:pt x="4" y="397"/>
                  </a:lnTo>
                  <a:lnTo>
                    <a:pt x="3" y="386"/>
                  </a:lnTo>
                  <a:lnTo>
                    <a:pt x="3" y="374"/>
                  </a:lnTo>
                  <a:lnTo>
                    <a:pt x="3" y="362"/>
                  </a:lnTo>
                  <a:lnTo>
                    <a:pt x="2" y="349"/>
                  </a:lnTo>
                  <a:lnTo>
                    <a:pt x="0" y="339"/>
                  </a:lnTo>
                  <a:lnTo>
                    <a:pt x="2" y="297"/>
                  </a:lnTo>
                  <a:lnTo>
                    <a:pt x="7" y="256"/>
                  </a:lnTo>
                  <a:lnTo>
                    <a:pt x="10" y="216"/>
                  </a:lnTo>
                  <a:lnTo>
                    <a:pt x="16" y="175"/>
                  </a:lnTo>
                  <a:lnTo>
                    <a:pt x="24" y="136"/>
                  </a:lnTo>
                  <a:lnTo>
                    <a:pt x="32" y="97"/>
                  </a:lnTo>
                  <a:lnTo>
                    <a:pt x="44" y="59"/>
                  </a:lnTo>
                  <a:lnTo>
                    <a:pt x="5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54760" y="2324160"/>
              <a:ext cx="52200" cy="287280"/>
            </a:xfrm>
            <a:custGeom>
              <a:avLst/>
              <a:gdLst/>
              <a:ahLst/>
              <a:rect l="l" t="t" r="r" b="b"/>
              <a:pathLst>
                <a:path w="67" h="363">
                  <a:moveTo>
                    <a:pt x="46" y="0"/>
                  </a:moveTo>
                  <a:lnTo>
                    <a:pt x="55" y="2"/>
                  </a:lnTo>
                  <a:lnTo>
                    <a:pt x="60" y="9"/>
                  </a:lnTo>
                  <a:lnTo>
                    <a:pt x="62" y="18"/>
                  </a:lnTo>
                  <a:lnTo>
                    <a:pt x="64" y="27"/>
                  </a:lnTo>
                  <a:lnTo>
                    <a:pt x="67" y="69"/>
                  </a:lnTo>
                  <a:lnTo>
                    <a:pt x="65" y="111"/>
                  </a:lnTo>
                  <a:lnTo>
                    <a:pt x="62" y="151"/>
                  </a:lnTo>
                  <a:lnTo>
                    <a:pt x="56" y="191"/>
                  </a:lnTo>
                  <a:lnTo>
                    <a:pt x="48" y="231"/>
                  </a:lnTo>
                  <a:lnTo>
                    <a:pt x="39" y="270"/>
                  </a:lnTo>
                  <a:lnTo>
                    <a:pt x="27" y="308"/>
                  </a:lnTo>
                  <a:lnTo>
                    <a:pt x="16" y="346"/>
                  </a:lnTo>
                  <a:lnTo>
                    <a:pt x="11" y="349"/>
                  </a:lnTo>
                  <a:lnTo>
                    <a:pt x="9" y="354"/>
                  </a:lnTo>
                  <a:lnTo>
                    <a:pt x="8" y="358"/>
                  </a:lnTo>
                  <a:lnTo>
                    <a:pt x="8" y="363"/>
                  </a:lnTo>
                  <a:lnTo>
                    <a:pt x="3" y="352"/>
                  </a:lnTo>
                  <a:lnTo>
                    <a:pt x="1" y="339"/>
                  </a:lnTo>
                  <a:lnTo>
                    <a:pt x="1" y="325"/>
                  </a:lnTo>
                  <a:lnTo>
                    <a:pt x="0" y="311"/>
                  </a:lnTo>
                  <a:lnTo>
                    <a:pt x="1" y="271"/>
                  </a:lnTo>
                  <a:lnTo>
                    <a:pt x="3" y="232"/>
                  </a:lnTo>
                  <a:lnTo>
                    <a:pt x="7" y="191"/>
                  </a:lnTo>
                  <a:lnTo>
                    <a:pt x="12" y="152"/>
                  </a:lnTo>
                  <a:lnTo>
                    <a:pt x="18" y="114"/>
                  </a:lnTo>
                  <a:lnTo>
                    <a:pt x="26" y="75"/>
                  </a:lnTo>
                  <a:lnTo>
                    <a:pt x="35" y="37"/>
                  </a:lnTo>
                  <a:lnTo>
                    <a:pt x="46" y="0"/>
                  </a:lnTo>
                  <a:close/>
                </a:path>
              </a:pathLst>
            </a:custGeom>
            <a:solidFill>
              <a:srgbClr val="e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054760" y="1751040"/>
              <a:ext cx="118800" cy="210960"/>
            </a:xfrm>
            <a:custGeom>
              <a:avLst/>
              <a:gdLst/>
              <a:ahLst/>
              <a:rect l="l" t="t" r="r" b="b"/>
              <a:pathLst>
                <a:path w="150" h="266">
                  <a:moveTo>
                    <a:pt x="51" y="0"/>
                  </a:moveTo>
                  <a:lnTo>
                    <a:pt x="60" y="9"/>
                  </a:lnTo>
                  <a:lnTo>
                    <a:pt x="69" y="20"/>
                  </a:lnTo>
                  <a:lnTo>
                    <a:pt x="76" y="33"/>
                  </a:lnTo>
                  <a:lnTo>
                    <a:pt x="83" y="46"/>
                  </a:lnTo>
                  <a:lnTo>
                    <a:pt x="92" y="63"/>
                  </a:lnTo>
                  <a:lnTo>
                    <a:pt x="100" y="80"/>
                  </a:lnTo>
                  <a:lnTo>
                    <a:pt x="108" y="99"/>
                  </a:lnTo>
                  <a:lnTo>
                    <a:pt x="116" y="117"/>
                  </a:lnTo>
                  <a:lnTo>
                    <a:pt x="124" y="135"/>
                  </a:lnTo>
                  <a:lnTo>
                    <a:pt x="132" y="153"/>
                  </a:lnTo>
                  <a:lnTo>
                    <a:pt x="140" y="171"/>
                  </a:lnTo>
                  <a:lnTo>
                    <a:pt x="150" y="189"/>
                  </a:lnTo>
                  <a:lnTo>
                    <a:pt x="143" y="199"/>
                  </a:lnTo>
                  <a:lnTo>
                    <a:pt x="134" y="208"/>
                  </a:lnTo>
                  <a:lnTo>
                    <a:pt x="124" y="219"/>
                  </a:lnTo>
                  <a:lnTo>
                    <a:pt x="115" y="229"/>
                  </a:lnTo>
                  <a:lnTo>
                    <a:pt x="105" y="238"/>
                  </a:lnTo>
                  <a:lnTo>
                    <a:pt x="94" y="247"/>
                  </a:lnTo>
                  <a:lnTo>
                    <a:pt x="84" y="257"/>
                  </a:lnTo>
                  <a:lnTo>
                    <a:pt x="74" y="266"/>
                  </a:lnTo>
                  <a:lnTo>
                    <a:pt x="67" y="237"/>
                  </a:lnTo>
                  <a:lnTo>
                    <a:pt x="59" y="207"/>
                  </a:lnTo>
                  <a:lnTo>
                    <a:pt x="51" y="177"/>
                  </a:lnTo>
                  <a:lnTo>
                    <a:pt x="41" y="147"/>
                  </a:lnTo>
                  <a:lnTo>
                    <a:pt x="32" y="117"/>
                  </a:lnTo>
                  <a:lnTo>
                    <a:pt x="22" y="88"/>
                  </a:lnTo>
                  <a:lnTo>
                    <a:pt x="11" y="60"/>
                  </a:lnTo>
                  <a:lnTo>
                    <a:pt x="0" y="31"/>
                  </a:lnTo>
                  <a:lnTo>
                    <a:pt x="6" y="25"/>
                  </a:lnTo>
                  <a:lnTo>
                    <a:pt x="11" y="22"/>
                  </a:lnTo>
                  <a:lnTo>
                    <a:pt x="17" y="17"/>
                  </a:lnTo>
                  <a:lnTo>
                    <a:pt x="24" y="14"/>
                  </a:lnTo>
                  <a:lnTo>
                    <a:pt x="31" y="10"/>
                  </a:lnTo>
                  <a:lnTo>
                    <a:pt x="37" y="7"/>
                  </a:lnTo>
                  <a:lnTo>
                    <a:pt x="44" y="3"/>
                  </a:lnTo>
                  <a:lnTo>
                    <a:pt x="51" y="0"/>
                  </a:lnTo>
                  <a:close/>
                </a:path>
              </a:pathLst>
            </a:custGeom>
            <a:solidFill>
              <a:srgbClr val="e8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067360" y="2225520"/>
              <a:ext cx="52200" cy="36720"/>
            </a:xfrm>
            <a:custGeom>
              <a:avLst/>
              <a:gdLst/>
              <a:ahLst/>
              <a:rect l="l" t="t" r="r" b="b"/>
              <a:pathLst>
                <a:path w="66" h="46">
                  <a:moveTo>
                    <a:pt x="45" y="0"/>
                  </a:moveTo>
                  <a:lnTo>
                    <a:pt x="52" y="1"/>
                  </a:lnTo>
                  <a:lnTo>
                    <a:pt x="56" y="4"/>
                  </a:lnTo>
                  <a:lnTo>
                    <a:pt x="59" y="9"/>
                  </a:lnTo>
                  <a:lnTo>
                    <a:pt x="61" y="16"/>
                  </a:lnTo>
                  <a:lnTo>
                    <a:pt x="62" y="24"/>
                  </a:lnTo>
                  <a:lnTo>
                    <a:pt x="64" y="31"/>
                  </a:lnTo>
                  <a:lnTo>
                    <a:pt x="66" y="39"/>
                  </a:lnTo>
                  <a:lnTo>
                    <a:pt x="63" y="46"/>
                  </a:lnTo>
                  <a:lnTo>
                    <a:pt x="56" y="41"/>
                  </a:lnTo>
                  <a:lnTo>
                    <a:pt x="48" y="38"/>
                  </a:lnTo>
                  <a:lnTo>
                    <a:pt x="40" y="37"/>
                  </a:lnTo>
                  <a:lnTo>
                    <a:pt x="32" y="37"/>
                  </a:lnTo>
                  <a:lnTo>
                    <a:pt x="24" y="37"/>
                  </a:lnTo>
                  <a:lnTo>
                    <a:pt x="16" y="38"/>
                  </a:lnTo>
                  <a:lnTo>
                    <a:pt x="8" y="39"/>
                  </a:lnTo>
                  <a:lnTo>
                    <a:pt x="0" y="41"/>
                  </a:lnTo>
                  <a:lnTo>
                    <a:pt x="3" y="35"/>
                  </a:lnTo>
                  <a:lnTo>
                    <a:pt x="8" y="30"/>
                  </a:lnTo>
                  <a:lnTo>
                    <a:pt x="13" y="24"/>
                  </a:lnTo>
                  <a:lnTo>
                    <a:pt x="18" y="18"/>
                  </a:lnTo>
                  <a:lnTo>
                    <a:pt x="25" y="14"/>
                  </a:lnTo>
                  <a:lnTo>
                    <a:pt x="31" y="9"/>
                  </a:lnTo>
                  <a:lnTo>
                    <a:pt x="38" y="4"/>
                  </a:lnTo>
                  <a:lnTo>
                    <a:pt x="45" y="0"/>
                  </a:lnTo>
                  <a:close/>
                </a:path>
              </a:pathLst>
            </a:custGeom>
            <a:solidFill>
              <a:srgbClr val="56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7" name=""/>
            <p:cNvSpPr/>
            <p:nvPr/>
          </p:nvSpPr>
          <p:spPr>
            <a:xfrm>
              <a:off x="5068800" y="2378160"/>
              <a:ext cx="30240" cy="164880"/>
            </a:xfrm>
            <a:custGeom>
              <a:avLst/>
              <a:gdLst/>
              <a:ahLst/>
              <a:rect l="l" t="t" r="r" b="b"/>
              <a:pathLst>
                <a:path w="37" h="208">
                  <a:moveTo>
                    <a:pt x="26" y="2"/>
                  </a:moveTo>
                  <a:lnTo>
                    <a:pt x="27" y="0"/>
                  </a:lnTo>
                  <a:lnTo>
                    <a:pt x="29" y="0"/>
                  </a:lnTo>
                  <a:lnTo>
                    <a:pt x="31" y="0"/>
                  </a:lnTo>
                  <a:lnTo>
                    <a:pt x="34" y="0"/>
                  </a:lnTo>
                  <a:lnTo>
                    <a:pt x="37" y="27"/>
                  </a:lnTo>
                  <a:lnTo>
                    <a:pt x="37" y="54"/>
                  </a:lnTo>
                  <a:lnTo>
                    <a:pt x="36" y="81"/>
                  </a:lnTo>
                  <a:lnTo>
                    <a:pt x="31" y="106"/>
                  </a:lnTo>
                  <a:lnTo>
                    <a:pt x="27" y="132"/>
                  </a:lnTo>
                  <a:lnTo>
                    <a:pt x="20" y="157"/>
                  </a:lnTo>
                  <a:lnTo>
                    <a:pt x="14" y="181"/>
                  </a:lnTo>
                  <a:lnTo>
                    <a:pt x="7" y="205"/>
                  </a:lnTo>
                  <a:lnTo>
                    <a:pt x="6" y="208"/>
                  </a:lnTo>
                  <a:lnTo>
                    <a:pt x="4" y="208"/>
                  </a:lnTo>
                  <a:lnTo>
                    <a:pt x="3" y="208"/>
                  </a:lnTo>
                  <a:lnTo>
                    <a:pt x="0" y="208"/>
                  </a:lnTo>
                  <a:lnTo>
                    <a:pt x="6" y="182"/>
                  </a:lnTo>
                  <a:lnTo>
                    <a:pt x="12" y="157"/>
                  </a:lnTo>
                  <a:lnTo>
                    <a:pt x="16" y="132"/>
                  </a:lnTo>
                  <a:lnTo>
                    <a:pt x="22" y="106"/>
                  </a:lnTo>
                  <a:lnTo>
                    <a:pt x="26" y="80"/>
                  </a:lnTo>
                  <a:lnTo>
                    <a:pt x="28" y="54"/>
                  </a:lnTo>
                  <a:lnTo>
                    <a:pt x="28" y="28"/>
                  </a:lnTo>
                  <a:lnTo>
                    <a:pt x="2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157720" y="2157480"/>
              <a:ext cx="119160" cy="128520"/>
            </a:xfrm>
            <a:custGeom>
              <a:avLst/>
              <a:gdLst/>
              <a:ahLst/>
              <a:rect l="l" t="t" r="r" b="b"/>
              <a:pathLst>
                <a:path w="150" h="162">
                  <a:moveTo>
                    <a:pt x="70" y="73"/>
                  </a:moveTo>
                  <a:lnTo>
                    <a:pt x="134" y="4"/>
                  </a:lnTo>
                  <a:lnTo>
                    <a:pt x="138" y="3"/>
                  </a:lnTo>
                  <a:lnTo>
                    <a:pt x="143" y="2"/>
                  </a:lnTo>
                  <a:lnTo>
                    <a:pt x="146" y="0"/>
                  </a:lnTo>
                  <a:lnTo>
                    <a:pt x="150" y="4"/>
                  </a:lnTo>
                  <a:lnTo>
                    <a:pt x="145" y="10"/>
                  </a:lnTo>
                  <a:lnTo>
                    <a:pt x="139" y="14"/>
                  </a:lnTo>
                  <a:lnTo>
                    <a:pt x="132" y="18"/>
                  </a:lnTo>
                  <a:lnTo>
                    <a:pt x="127" y="22"/>
                  </a:lnTo>
                  <a:lnTo>
                    <a:pt x="109" y="39"/>
                  </a:lnTo>
                  <a:lnTo>
                    <a:pt x="93" y="55"/>
                  </a:lnTo>
                  <a:lnTo>
                    <a:pt x="79" y="72"/>
                  </a:lnTo>
                  <a:lnTo>
                    <a:pt x="66" y="90"/>
                  </a:lnTo>
                  <a:lnTo>
                    <a:pt x="53" y="109"/>
                  </a:lnTo>
                  <a:lnTo>
                    <a:pt x="39" y="127"/>
                  </a:lnTo>
                  <a:lnTo>
                    <a:pt x="26" y="145"/>
                  </a:lnTo>
                  <a:lnTo>
                    <a:pt x="11" y="162"/>
                  </a:lnTo>
                  <a:lnTo>
                    <a:pt x="0" y="162"/>
                  </a:lnTo>
                  <a:lnTo>
                    <a:pt x="8" y="151"/>
                  </a:lnTo>
                  <a:lnTo>
                    <a:pt x="16" y="140"/>
                  </a:lnTo>
                  <a:lnTo>
                    <a:pt x="25" y="128"/>
                  </a:lnTo>
                  <a:lnTo>
                    <a:pt x="34" y="117"/>
                  </a:lnTo>
                  <a:lnTo>
                    <a:pt x="44" y="107"/>
                  </a:lnTo>
                  <a:lnTo>
                    <a:pt x="53" y="95"/>
                  </a:lnTo>
                  <a:lnTo>
                    <a:pt x="62" y="83"/>
                  </a:lnTo>
                  <a:lnTo>
                    <a:pt x="7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178600" y="1725480"/>
              <a:ext cx="144360" cy="106560"/>
            </a:xfrm>
            <a:custGeom>
              <a:avLst/>
              <a:gdLst/>
              <a:ahLst/>
              <a:rect l="l" t="t" r="r" b="b"/>
              <a:pathLst>
                <a:path w="182" h="132">
                  <a:moveTo>
                    <a:pt x="174" y="46"/>
                  </a:moveTo>
                  <a:lnTo>
                    <a:pt x="180" y="53"/>
                  </a:lnTo>
                  <a:lnTo>
                    <a:pt x="182" y="61"/>
                  </a:lnTo>
                  <a:lnTo>
                    <a:pt x="181" y="70"/>
                  </a:lnTo>
                  <a:lnTo>
                    <a:pt x="179" y="78"/>
                  </a:lnTo>
                  <a:lnTo>
                    <a:pt x="173" y="86"/>
                  </a:lnTo>
                  <a:lnTo>
                    <a:pt x="169" y="94"/>
                  </a:lnTo>
                  <a:lnTo>
                    <a:pt x="163" y="102"/>
                  </a:lnTo>
                  <a:lnTo>
                    <a:pt x="156" y="109"/>
                  </a:lnTo>
                  <a:lnTo>
                    <a:pt x="150" y="116"/>
                  </a:lnTo>
                  <a:lnTo>
                    <a:pt x="142" y="123"/>
                  </a:lnTo>
                  <a:lnTo>
                    <a:pt x="135" y="128"/>
                  </a:lnTo>
                  <a:lnTo>
                    <a:pt x="126" y="132"/>
                  </a:lnTo>
                  <a:lnTo>
                    <a:pt x="119" y="130"/>
                  </a:lnTo>
                  <a:lnTo>
                    <a:pt x="113" y="125"/>
                  </a:lnTo>
                  <a:lnTo>
                    <a:pt x="109" y="121"/>
                  </a:lnTo>
                  <a:lnTo>
                    <a:pt x="105" y="115"/>
                  </a:lnTo>
                  <a:lnTo>
                    <a:pt x="102" y="108"/>
                  </a:lnTo>
                  <a:lnTo>
                    <a:pt x="98" y="102"/>
                  </a:lnTo>
                  <a:lnTo>
                    <a:pt x="94" y="96"/>
                  </a:lnTo>
                  <a:lnTo>
                    <a:pt x="88" y="91"/>
                  </a:lnTo>
                  <a:lnTo>
                    <a:pt x="79" y="78"/>
                  </a:lnTo>
                  <a:lnTo>
                    <a:pt x="68" y="66"/>
                  </a:lnTo>
                  <a:lnTo>
                    <a:pt x="57" y="55"/>
                  </a:lnTo>
                  <a:lnTo>
                    <a:pt x="46" y="43"/>
                  </a:lnTo>
                  <a:lnTo>
                    <a:pt x="35" y="33"/>
                  </a:lnTo>
                  <a:lnTo>
                    <a:pt x="23" y="22"/>
                  </a:lnTo>
                  <a:lnTo>
                    <a:pt x="12" y="11"/>
                  </a:lnTo>
                  <a:lnTo>
                    <a:pt x="0" y="0"/>
                  </a:lnTo>
                  <a:lnTo>
                    <a:pt x="23" y="3"/>
                  </a:lnTo>
                  <a:lnTo>
                    <a:pt x="46" y="7"/>
                  </a:lnTo>
                  <a:lnTo>
                    <a:pt x="68" y="11"/>
                  </a:lnTo>
                  <a:lnTo>
                    <a:pt x="90" y="16"/>
                  </a:lnTo>
                  <a:lnTo>
                    <a:pt x="112" y="23"/>
                  </a:lnTo>
                  <a:lnTo>
                    <a:pt x="133" y="30"/>
                  </a:lnTo>
                  <a:lnTo>
                    <a:pt x="154" y="36"/>
                  </a:lnTo>
                  <a:lnTo>
                    <a:pt x="174" y="46"/>
                  </a:lnTo>
                  <a:close/>
                </a:path>
              </a:pathLst>
            </a:custGeom>
            <a:solidFill>
              <a:srgbClr val="e8f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227560" y="1768320"/>
              <a:ext cx="166680" cy="162000"/>
            </a:xfrm>
            <a:custGeom>
              <a:avLst/>
              <a:gdLst/>
              <a:ahLst/>
              <a:rect l="l" t="t" r="r" b="b"/>
              <a:pathLst>
                <a:path w="209" h="205">
                  <a:moveTo>
                    <a:pt x="202" y="0"/>
                  </a:moveTo>
                  <a:lnTo>
                    <a:pt x="208" y="0"/>
                  </a:lnTo>
                  <a:lnTo>
                    <a:pt x="209" y="5"/>
                  </a:lnTo>
                  <a:lnTo>
                    <a:pt x="207" y="10"/>
                  </a:lnTo>
                  <a:lnTo>
                    <a:pt x="203" y="15"/>
                  </a:lnTo>
                  <a:lnTo>
                    <a:pt x="197" y="18"/>
                  </a:lnTo>
                  <a:lnTo>
                    <a:pt x="190" y="23"/>
                  </a:lnTo>
                  <a:lnTo>
                    <a:pt x="183" y="26"/>
                  </a:lnTo>
                  <a:lnTo>
                    <a:pt x="177" y="30"/>
                  </a:lnTo>
                  <a:lnTo>
                    <a:pt x="171" y="34"/>
                  </a:lnTo>
                  <a:lnTo>
                    <a:pt x="150" y="56"/>
                  </a:lnTo>
                  <a:lnTo>
                    <a:pt x="130" y="78"/>
                  </a:lnTo>
                  <a:lnTo>
                    <a:pt x="109" y="99"/>
                  </a:lnTo>
                  <a:lnTo>
                    <a:pt x="89" y="119"/>
                  </a:lnTo>
                  <a:lnTo>
                    <a:pt x="69" y="140"/>
                  </a:lnTo>
                  <a:lnTo>
                    <a:pt x="49" y="161"/>
                  </a:lnTo>
                  <a:lnTo>
                    <a:pt x="30" y="183"/>
                  </a:lnTo>
                  <a:lnTo>
                    <a:pt x="9" y="205"/>
                  </a:lnTo>
                  <a:lnTo>
                    <a:pt x="0" y="199"/>
                  </a:lnTo>
                  <a:lnTo>
                    <a:pt x="11" y="187"/>
                  </a:lnTo>
                  <a:lnTo>
                    <a:pt x="24" y="175"/>
                  </a:lnTo>
                  <a:lnTo>
                    <a:pt x="36" y="163"/>
                  </a:lnTo>
                  <a:lnTo>
                    <a:pt x="48" y="151"/>
                  </a:lnTo>
                  <a:lnTo>
                    <a:pt x="61" y="138"/>
                  </a:lnTo>
                  <a:lnTo>
                    <a:pt x="73" y="125"/>
                  </a:lnTo>
                  <a:lnTo>
                    <a:pt x="86" y="113"/>
                  </a:lnTo>
                  <a:lnTo>
                    <a:pt x="99" y="100"/>
                  </a:lnTo>
                  <a:lnTo>
                    <a:pt x="111" y="87"/>
                  </a:lnTo>
                  <a:lnTo>
                    <a:pt x="124" y="75"/>
                  </a:lnTo>
                  <a:lnTo>
                    <a:pt x="138" y="62"/>
                  </a:lnTo>
                  <a:lnTo>
                    <a:pt x="150" y="49"/>
                  </a:lnTo>
                  <a:lnTo>
                    <a:pt x="163" y="37"/>
                  </a:lnTo>
                  <a:lnTo>
                    <a:pt x="176" y="24"/>
                  </a:lnTo>
                  <a:lnTo>
                    <a:pt x="190" y="11"/>
                  </a:lnTo>
                  <a:lnTo>
                    <a:pt x="2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286240" y="1928880"/>
              <a:ext cx="146160" cy="293760"/>
            </a:xfrm>
            <a:custGeom>
              <a:avLst/>
              <a:gdLst/>
              <a:ahLst/>
              <a:rect l="l" t="t" r="r" b="b"/>
              <a:pathLst>
                <a:path w="185" h="370">
                  <a:moveTo>
                    <a:pt x="46" y="318"/>
                  </a:moveTo>
                  <a:lnTo>
                    <a:pt x="44" y="315"/>
                  </a:lnTo>
                  <a:lnTo>
                    <a:pt x="44" y="310"/>
                  </a:lnTo>
                  <a:lnTo>
                    <a:pt x="44" y="307"/>
                  </a:lnTo>
                  <a:lnTo>
                    <a:pt x="42" y="304"/>
                  </a:lnTo>
                  <a:lnTo>
                    <a:pt x="53" y="270"/>
                  </a:lnTo>
                  <a:lnTo>
                    <a:pt x="61" y="234"/>
                  </a:lnTo>
                  <a:lnTo>
                    <a:pt x="66" y="197"/>
                  </a:lnTo>
                  <a:lnTo>
                    <a:pt x="71" y="159"/>
                  </a:lnTo>
                  <a:lnTo>
                    <a:pt x="74" y="122"/>
                  </a:lnTo>
                  <a:lnTo>
                    <a:pt x="79" y="86"/>
                  </a:lnTo>
                  <a:lnTo>
                    <a:pt x="84" y="49"/>
                  </a:lnTo>
                  <a:lnTo>
                    <a:pt x="95" y="14"/>
                  </a:lnTo>
                  <a:lnTo>
                    <a:pt x="101" y="14"/>
                  </a:lnTo>
                  <a:lnTo>
                    <a:pt x="105" y="12"/>
                  </a:lnTo>
                  <a:lnTo>
                    <a:pt x="111" y="9"/>
                  </a:lnTo>
                  <a:lnTo>
                    <a:pt x="115" y="7"/>
                  </a:lnTo>
                  <a:lnTo>
                    <a:pt x="124" y="7"/>
                  </a:lnTo>
                  <a:lnTo>
                    <a:pt x="132" y="5"/>
                  </a:lnTo>
                  <a:lnTo>
                    <a:pt x="141" y="3"/>
                  </a:lnTo>
                  <a:lnTo>
                    <a:pt x="150" y="0"/>
                  </a:lnTo>
                  <a:lnTo>
                    <a:pt x="158" y="0"/>
                  </a:lnTo>
                  <a:lnTo>
                    <a:pt x="165" y="1"/>
                  </a:lnTo>
                  <a:lnTo>
                    <a:pt x="172" y="6"/>
                  </a:lnTo>
                  <a:lnTo>
                    <a:pt x="177" y="14"/>
                  </a:lnTo>
                  <a:lnTo>
                    <a:pt x="180" y="33"/>
                  </a:lnTo>
                  <a:lnTo>
                    <a:pt x="181" y="49"/>
                  </a:lnTo>
                  <a:lnTo>
                    <a:pt x="182" y="66"/>
                  </a:lnTo>
                  <a:lnTo>
                    <a:pt x="183" y="84"/>
                  </a:lnTo>
                  <a:lnTo>
                    <a:pt x="185" y="119"/>
                  </a:lnTo>
                  <a:lnTo>
                    <a:pt x="183" y="154"/>
                  </a:lnTo>
                  <a:lnTo>
                    <a:pt x="180" y="188"/>
                  </a:lnTo>
                  <a:lnTo>
                    <a:pt x="174" y="222"/>
                  </a:lnTo>
                  <a:lnTo>
                    <a:pt x="166" y="254"/>
                  </a:lnTo>
                  <a:lnTo>
                    <a:pt x="156" y="286"/>
                  </a:lnTo>
                  <a:lnTo>
                    <a:pt x="142" y="317"/>
                  </a:lnTo>
                  <a:lnTo>
                    <a:pt x="126" y="346"/>
                  </a:lnTo>
                  <a:lnTo>
                    <a:pt x="113" y="356"/>
                  </a:lnTo>
                  <a:lnTo>
                    <a:pt x="98" y="363"/>
                  </a:lnTo>
                  <a:lnTo>
                    <a:pt x="82" y="367"/>
                  </a:lnTo>
                  <a:lnTo>
                    <a:pt x="66" y="368"/>
                  </a:lnTo>
                  <a:lnTo>
                    <a:pt x="49" y="369"/>
                  </a:lnTo>
                  <a:lnTo>
                    <a:pt x="33" y="369"/>
                  </a:lnTo>
                  <a:lnTo>
                    <a:pt x="16" y="369"/>
                  </a:lnTo>
                  <a:lnTo>
                    <a:pt x="0" y="370"/>
                  </a:lnTo>
                  <a:lnTo>
                    <a:pt x="5" y="363"/>
                  </a:lnTo>
                  <a:lnTo>
                    <a:pt x="10" y="356"/>
                  </a:lnTo>
                  <a:lnTo>
                    <a:pt x="15" y="349"/>
                  </a:lnTo>
                  <a:lnTo>
                    <a:pt x="22" y="344"/>
                  </a:lnTo>
                  <a:lnTo>
                    <a:pt x="28" y="338"/>
                  </a:lnTo>
                  <a:lnTo>
                    <a:pt x="35" y="332"/>
                  </a:lnTo>
                  <a:lnTo>
                    <a:pt x="41" y="325"/>
                  </a:lnTo>
                  <a:lnTo>
                    <a:pt x="46" y="318"/>
                  </a:lnTo>
                  <a:close/>
                </a:path>
              </a:pathLst>
            </a:custGeom>
            <a:solidFill>
              <a:srgbClr val="00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369040" y="1952640"/>
              <a:ext cx="50760" cy="223920"/>
            </a:xfrm>
            <a:custGeom>
              <a:avLst/>
              <a:gdLst/>
              <a:ahLst/>
              <a:rect l="l" t="t" r="r" b="b"/>
              <a:pathLst>
                <a:path w="64" h="283">
                  <a:moveTo>
                    <a:pt x="38" y="12"/>
                  </a:moveTo>
                  <a:lnTo>
                    <a:pt x="43" y="8"/>
                  </a:lnTo>
                  <a:lnTo>
                    <a:pt x="46" y="4"/>
                  </a:lnTo>
                  <a:lnTo>
                    <a:pt x="51" y="0"/>
                  </a:lnTo>
                  <a:lnTo>
                    <a:pt x="58" y="0"/>
                  </a:lnTo>
                  <a:lnTo>
                    <a:pt x="61" y="4"/>
                  </a:lnTo>
                  <a:lnTo>
                    <a:pt x="63" y="6"/>
                  </a:lnTo>
                  <a:lnTo>
                    <a:pt x="64" y="8"/>
                  </a:lnTo>
                  <a:lnTo>
                    <a:pt x="63" y="13"/>
                  </a:lnTo>
                  <a:lnTo>
                    <a:pt x="61" y="15"/>
                  </a:lnTo>
                  <a:lnTo>
                    <a:pt x="59" y="16"/>
                  </a:lnTo>
                  <a:lnTo>
                    <a:pt x="56" y="18"/>
                  </a:lnTo>
                  <a:lnTo>
                    <a:pt x="53" y="16"/>
                  </a:lnTo>
                  <a:lnTo>
                    <a:pt x="52" y="15"/>
                  </a:lnTo>
                  <a:lnTo>
                    <a:pt x="45" y="21"/>
                  </a:lnTo>
                  <a:lnTo>
                    <a:pt x="51" y="21"/>
                  </a:lnTo>
                  <a:lnTo>
                    <a:pt x="55" y="23"/>
                  </a:lnTo>
                  <a:lnTo>
                    <a:pt x="59" y="28"/>
                  </a:lnTo>
                  <a:lnTo>
                    <a:pt x="59" y="33"/>
                  </a:lnTo>
                  <a:lnTo>
                    <a:pt x="61" y="90"/>
                  </a:lnTo>
                  <a:lnTo>
                    <a:pt x="58" y="149"/>
                  </a:lnTo>
                  <a:lnTo>
                    <a:pt x="48" y="205"/>
                  </a:lnTo>
                  <a:lnTo>
                    <a:pt x="32" y="259"/>
                  </a:lnTo>
                  <a:lnTo>
                    <a:pt x="30" y="269"/>
                  </a:lnTo>
                  <a:lnTo>
                    <a:pt x="25" y="278"/>
                  </a:lnTo>
                  <a:lnTo>
                    <a:pt x="18" y="283"/>
                  </a:lnTo>
                  <a:lnTo>
                    <a:pt x="10" y="283"/>
                  </a:lnTo>
                  <a:lnTo>
                    <a:pt x="1" y="249"/>
                  </a:lnTo>
                  <a:lnTo>
                    <a:pt x="0" y="215"/>
                  </a:lnTo>
                  <a:lnTo>
                    <a:pt x="2" y="179"/>
                  </a:lnTo>
                  <a:lnTo>
                    <a:pt x="3" y="141"/>
                  </a:lnTo>
                  <a:lnTo>
                    <a:pt x="6" y="124"/>
                  </a:lnTo>
                  <a:lnTo>
                    <a:pt x="8" y="107"/>
                  </a:lnTo>
                  <a:lnTo>
                    <a:pt x="10" y="90"/>
                  </a:lnTo>
                  <a:lnTo>
                    <a:pt x="14" y="74"/>
                  </a:lnTo>
                  <a:lnTo>
                    <a:pt x="17" y="58"/>
                  </a:lnTo>
                  <a:lnTo>
                    <a:pt x="23" y="42"/>
                  </a:lnTo>
                  <a:lnTo>
                    <a:pt x="30" y="27"/>
                  </a:lnTo>
                  <a:lnTo>
                    <a:pt x="3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369040" y="1900080"/>
              <a:ext cx="55440" cy="25560"/>
            </a:xfrm>
            <a:custGeom>
              <a:avLst/>
              <a:gdLst/>
              <a:ahLst/>
              <a:rect l="l" t="t" r="r" b="b"/>
              <a:pathLst>
                <a:path w="70" h="31">
                  <a:moveTo>
                    <a:pt x="47" y="0"/>
                  </a:moveTo>
                  <a:lnTo>
                    <a:pt x="55" y="3"/>
                  </a:lnTo>
                  <a:lnTo>
                    <a:pt x="61" y="9"/>
                  </a:lnTo>
                  <a:lnTo>
                    <a:pt x="67" y="16"/>
                  </a:lnTo>
                  <a:lnTo>
                    <a:pt x="70" y="23"/>
                  </a:lnTo>
                  <a:lnTo>
                    <a:pt x="61" y="20"/>
                  </a:lnTo>
                  <a:lnTo>
                    <a:pt x="52" y="19"/>
                  </a:lnTo>
                  <a:lnTo>
                    <a:pt x="44" y="20"/>
                  </a:lnTo>
                  <a:lnTo>
                    <a:pt x="35" y="22"/>
                  </a:lnTo>
                  <a:lnTo>
                    <a:pt x="26" y="24"/>
                  </a:lnTo>
                  <a:lnTo>
                    <a:pt x="17" y="26"/>
                  </a:lnTo>
                  <a:lnTo>
                    <a:pt x="9" y="29"/>
                  </a:lnTo>
                  <a:lnTo>
                    <a:pt x="0" y="31"/>
                  </a:lnTo>
                  <a:lnTo>
                    <a:pt x="5" y="25"/>
                  </a:lnTo>
                  <a:lnTo>
                    <a:pt x="10" y="20"/>
                  </a:lnTo>
                  <a:lnTo>
                    <a:pt x="15" y="15"/>
                  </a:lnTo>
                  <a:lnTo>
                    <a:pt x="21" y="10"/>
                  </a:lnTo>
                  <a:lnTo>
                    <a:pt x="26" y="5"/>
                  </a:lnTo>
                  <a:lnTo>
                    <a:pt x="33" y="3"/>
                  </a:lnTo>
                  <a:lnTo>
                    <a:pt x="40" y="1"/>
                  </a:lnTo>
                  <a:lnTo>
                    <a:pt x="47" y="0"/>
                  </a:lnTo>
                  <a:close/>
                </a:path>
              </a:pathLst>
            </a:custGeom>
            <a:solidFill>
              <a:srgbClr val="56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4" name=""/>
            <p:cNvSpPr/>
            <p:nvPr/>
          </p:nvSpPr>
          <p:spPr>
            <a:xfrm>
              <a:off x="5380200" y="1969920"/>
              <a:ext cx="27000" cy="190800"/>
            </a:xfrm>
            <a:custGeom>
              <a:avLst/>
              <a:gdLst/>
              <a:ahLst/>
              <a:rect l="l" t="t" r="r" b="b"/>
              <a:pathLst>
                <a:path w="34" h="241">
                  <a:moveTo>
                    <a:pt x="31" y="0"/>
                  </a:moveTo>
                  <a:lnTo>
                    <a:pt x="30" y="6"/>
                  </a:lnTo>
                  <a:lnTo>
                    <a:pt x="31" y="13"/>
                  </a:lnTo>
                  <a:lnTo>
                    <a:pt x="33" y="20"/>
                  </a:lnTo>
                  <a:lnTo>
                    <a:pt x="34" y="27"/>
                  </a:lnTo>
                  <a:lnTo>
                    <a:pt x="33" y="80"/>
                  </a:lnTo>
                  <a:lnTo>
                    <a:pt x="31" y="135"/>
                  </a:lnTo>
                  <a:lnTo>
                    <a:pt x="22" y="190"/>
                  </a:lnTo>
                  <a:lnTo>
                    <a:pt x="3" y="241"/>
                  </a:lnTo>
                  <a:lnTo>
                    <a:pt x="0" y="184"/>
                  </a:lnTo>
                  <a:lnTo>
                    <a:pt x="2" y="126"/>
                  </a:lnTo>
                  <a:lnTo>
                    <a:pt x="9" y="66"/>
                  </a:lnTo>
                  <a:lnTo>
                    <a:pt x="25" y="11"/>
                  </a:lnTo>
                  <a:lnTo>
                    <a:pt x="31" y="0"/>
                  </a:lnTo>
                  <a:close/>
                </a:path>
              </a:pathLst>
            </a:custGeom>
            <a:solidFill>
              <a:srgbClr val="e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386320" y="2021040"/>
              <a:ext cx="15840" cy="87120"/>
            </a:xfrm>
            <a:custGeom>
              <a:avLst/>
              <a:gdLst/>
              <a:ahLst/>
              <a:rect l="l" t="t" r="r" b="b"/>
              <a:pathLst>
                <a:path w="21" h="109">
                  <a:moveTo>
                    <a:pt x="13" y="4"/>
                  </a:moveTo>
                  <a:lnTo>
                    <a:pt x="15" y="2"/>
                  </a:lnTo>
                  <a:lnTo>
                    <a:pt x="16" y="1"/>
                  </a:lnTo>
                  <a:lnTo>
                    <a:pt x="18" y="0"/>
                  </a:lnTo>
                  <a:lnTo>
                    <a:pt x="19" y="0"/>
                  </a:lnTo>
                  <a:lnTo>
                    <a:pt x="21" y="26"/>
                  </a:lnTo>
                  <a:lnTo>
                    <a:pt x="17" y="54"/>
                  </a:lnTo>
                  <a:lnTo>
                    <a:pt x="13" y="80"/>
                  </a:lnTo>
                  <a:lnTo>
                    <a:pt x="9" y="107"/>
                  </a:lnTo>
                  <a:lnTo>
                    <a:pt x="3" y="109"/>
                  </a:lnTo>
                  <a:lnTo>
                    <a:pt x="0" y="101"/>
                  </a:lnTo>
                  <a:lnTo>
                    <a:pt x="2" y="93"/>
                  </a:lnTo>
                  <a:lnTo>
                    <a:pt x="4" y="84"/>
                  </a:lnTo>
                  <a:lnTo>
                    <a:pt x="4" y="75"/>
                  </a:lnTo>
                  <a:lnTo>
                    <a:pt x="6" y="57"/>
                  </a:lnTo>
                  <a:lnTo>
                    <a:pt x="9" y="40"/>
                  </a:lnTo>
                  <a:lnTo>
                    <a:pt x="14" y="23"/>
                  </a:lnTo>
                  <a:lnTo>
                    <a:pt x="13"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6" name=""/>
            <p:cNvSpPr/>
            <p:nvPr/>
          </p:nvSpPr>
          <p:spPr>
            <a:xfrm>
              <a:off x="3992400" y="1825560"/>
              <a:ext cx="308160" cy="465120"/>
            </a:xfrm>
            <a:custGeom>
              <a:avLst/>
              <a:gdLst/>
              <a:ahLst/>
              <a:rect l="l" t="t" r="r" b="b"/>
              <a:pathLst>
                <a:path w="387" h="586">
                  <a:moveTo>
                    <a:pt x="88" y="128"/>
                  </a:moveTo>
                  <a:lnTo>
                    <a:pt x="95" y="130"/>
                  </a:lnTo>
                  <a:lnTo>
                    <a:pt x="101" y="136"/>
                  </a:lnTo>
                  <a:lnTo>
                    <a:pt x="107" y="138"/>
                  </a:lnTo>
                  <a:lnTo>
                    <a:pt x="114" y="133"/>
                  </a:lnTo>
                  <a:lnTo>
                    <a:pt x="118" y="128"/>
                  </a:lnTo>
                  <a:lnTo>
                    <a:pt x="118" y="121"/>
                  </a:lnTo>
                  <a:lnTo>
                    <a:pt x="117" y="115"/>
                  </a:lnTo>
                  <a:lnTo>
                    <a:pt x="115" y="110"/>
                  </a:lnTo>
                  <a:lnTo>
                    <a:pt x="117" y="99"/>
                  </a:lnTo>
                  <a:lnTo>
                    <a:pt x="123" y="90"/>
                  </a:lnTo>
                  <a:lnTo>
                    <a:pt x="130" y="83"/>
                  </a:lnTo>
                  <a:lnTo>
                    <a:pt x="138" y="76"/>
                  </a:lnTo>
                  <a:lnTo>
                    <a:pt x="146" y="76"/>
                  </a:lnTo>
                  <a:lnTo>
                    <a:pt x="153" y="79"/>
                  </a:lnTo>
                  <a:lnTo>
                    <a:pt x="159" y="79"/>
                  </a:lnTo>
                  <a:lnTo>
                    <a:pt x="164" y="74"/>
                  </a:lnTo>
                  <a:lnTo>
                    <a:pt x="170" y="65"/>
                  </a:lnTo>
                  <a:lnTo>
                    <a:pt x="178" y="56"/>
                  </a:lnTo>
                  <a:lnTo>
                    <a:pt x="186" y="47"/>
                  </a:lnTo>
                  <a:lnTo>
                    <a:pt x="194" y="41"/>
                  </a:lnTo>
                  <a:lnTo>
                    <a:pt x="204" y="34"/>
                  </a:lnTo>
                  <a:lnTo>
                    <a:pt x="212" y="27"/>
                  </a:lnTo>
                  <a:lnTo>
                    <a:pt x="221" y="20"/>
                  </a:lnTo>
                  <a:lnTo>
                    <a:pt x="229" y="12"/>
                  </a:lnTo>
                  <a:lnTo>
                    <a:pt x="236" y="9"/>
                  </a:lnTo>
                  <a:lnTo>
                    <a:pt x="243" y="5"/>
                  </a:lnTo>
                  <a:lnTo>
                    <a:pt x="248" y="1"/>
                  </a:lnTo>
                  <a:lnTo>
                    <a:pt x="255" y="0"/>
                  </a:lnTo>
                  <a:lnTo>
                    <a:pt x="262" y="1"/>
                  </a:lnTo>
                  <a:lnTo>
                    <a:pt x="269" y="5"/>
                  </a:lnTo>
                  <a:lnTo>
                    <a:pt x="276" y="11"/>
                  </a:lnTo>
                  <a:lnTo>
                    <a:pt x="280" y="18"/>
                  </a:lnTo>
                  <a:lnTo>
                    <a:pt x="282" y="13"/>
                  </a:lnTo>
                  <a:lnTo>
                    <a:pt x="285" y="7"/>
                  </a:lnTo>
                  <a:lnTo>
                    <a:pt x="289" y="4"/>
                  </a:lnTo>
                  <a:lnTo>
                    <a:pt x="295" y="3"/>
                  </a:lnTo>
                  <a:lnTo>
                    <a:pt x="301" y="9"/>
                  </a:lnTo>
                  <a:lnTo>
                    <a:pt x="308" y="15"/>
                  </a:lnTo>
                  <a:lnTo>
                    <a:pt x="315" y="23"/>
                  </a:lnTo>
                  <a:lnTo>
                    <a:pt x="319" y="32"/>
                  </a:lnTo>
                  <a:lnTo>
                    <a:pt x="320" y="32"/>
                  </a:lnTo>
                  <a:lnTo>
                    <a:pt x="322" y="31"/>
                  </a:lnTo>
                  <a:lnTo>
                    <a:pt x="323" y="31"/>
                  </a:lnTo>
                  <a:lnTo>
                    <a:pt x="324" y="30"/>
                  </a:lnTo>
                  <a:lnTo>
                    <a:pt x="323" y="28"/>
                  </a:lnTo>
                  <a:lnTo>
                    <a:pt x="324" y="28"/>
                  </a:lnTo>
                  <a:lnTo>
                    <a:pt x="326" y="27"/>
                  </a:lnTo>
                  <a:lnTo>
                    <a:pt x="328" y="27"/>
                  </a:lnTo>
                  <a:lnTo>
                    <a:pt x="336" y="31"/>
                  </a:lnTo>
                  <a:lnTo>
                    <a:pt x="338" y="38"/>
                  </a:lnTo>
                  <a:lnTo>
                    <a:pt x="338" y="45"/>
                  </a:lnTo>
                  <a:lnTo>
                    <a:pt x="342" y="53"/>
                  </a:lnTo>
                  <a:lnTo>
                    <a:pt x="338" y="69"/>
                  </a:lnTo>
                  <a:lnTo>
                    <a:pt x="331" y="85"/>
                  </a:lnTo>
                  <a:lnTo>
                    <a:pt x="321" y="99"/>
                  </a:lnTo>
                  <a:lnTo>
                    <a:pt x="309" y="111"/>
                  </a:lnTo>
                  <a:lnTo>
                    <a:pt x="313" y="122"/>
                  </a:lnTo>
                  <a:lnTo>
                    <a:pt x="316" y="135"/>
                  </a:lnTo>
                  <a:lnTo>
                    <a:pt x="320" y="148"/>
                  </a:lnTo>
                  <a:lnTo>
                    <a:pt x="320" y="160"/>
                  </a:lnTo>
                  <a:lnTo>
                    <a:pt x="315" y="166"/>
                  </a:lnTo>
                  <a:lnTo>
                    <a:pt x="309" y="171"/>
                  </a:lnTo>
                  <a:lnTo>
                    <a:pt x="305" y="175"/>
                  </a:lnTo>
                  <a:lnTo>
                    <a:pt x="299" y="180"/>
                  </a:lnTo>
                  <a:lnTo>
                    <a:pt x="293" y="183"/>
                  </a:lnTo>
                  <a:lnTo>
                    <a:pt x="286" y="186"/>
                  </a:lnTo>
                  <a:lnTo>
                    <a:pt x="280" y="188"/>
                  </a:lnTo>
                  <a:lnTo>
                    <a:pt x="273" y="188"/>
                  </a:lnTo>
                  <a:lnTo>
                    <a:pt x="266" y="186"/>
                  </a:lnTo>
                  <a:lnTo>
                    <a:pt x="261" y="182"/>
                  </a:lnTo>
                  <a:lnTo>
                    <a:pt x="258" y="175"/>
                  </a:lnTo>
                  <a:lnTo>
                    <a:pt x="253" y="170"/>
                  </a:lnTo>
                  <a:lnTo>
                    <a:pt x="254" y="167"/>
                  </a:lnTo>
                  <a:lnTo>
                    <a:pt x="254" y="165"/>
                  </a:lnTo>
                  <a:lnTo>
                    <a:pt x="254" y="164"/>
                  </a:lnTo>
                  <a:lnTo>
                    <a:pt x="255" y="162"/>
                  </a:lnTo>
                  <a:lnTo>
                    <a:pt x="250" y="162"/>
                  </a:lnTo>
                  <a:lnTo>
                    <a:pt x="245" y="166"/>
                  </a:lnTo>
                  <a:lnTo>
                    <a:pt x="242" y="170"/>
                  </a:lnTo>
                  <a:lnTo>
                    <a:pt x="237" y="173"/>
                  </a:lnTo>
                  <a:lnTo>
                    <a:pt x="232" y="177"/>
                  </a:lnTo>
                  <a:lnTo>
                    <a:pt x="228" y="180"/>
                  </a:lnTo>
                  <a:lnTo>
                    <a:pt x="223" y="183"/>
                  </a:lnTo>
                  <a:lnTo>
                    <a:pt x="218" y="187"/>
                  </a:lnTo>
                  <a:lnTo>
                    <a:pt x="214" y="190"/>
                  </a:lnTo>
                  <a:lnTo>
                    <a:pt x="207" y="188"/>
                  </a:lnTo>
                  <a:lnTo>
                    <a:pt x="202" y="190"/>
                  </a:lnTo>
                  <a:lnTo>
                    <a:pt x="197" y="196"/>
                  </a:lnTo>
                  <a:lnTo>
                    <a:pt x="191" y="198"/>
                  </a:lnTo>
                  <a:lnTo>
                    <a:pt x="187" y="205"/>
                  </a:lnTo>
                  <a:lnTo>
                    <a:pt x="179" y="209"/>
                  </a:lnTo>
                  <a:lnTo>
                    <a:pt x="171" y="211"/>
                  </a:lnTo>
                  <a:lnTo>
                    <a:pt x="164" y="217"/>
                  </a:lnTo>
                  <a:lnTo>
                    <a:pt x="161" y="218"/>
                  </a:lnTo>
                  <a:lnTo>
                    <a:pt x="157" y="219"/>
                  </a:lnTo>
                  <a:lnTo>
                    <a:pt x="154" y="220"/>
                  </a:lnTo>
                  <a:lnTo>
                    <a:pt x="153" y="223"/>
                  </a:lnTo>
                  <a:lnTo>
                    <a:pt x="161" y="232"/>
                  </a:lnTo>
                  <a:lnTo>
                    <a:pt x="169" y="240"/>
                  </a:lnTo>
                  <a:lnTo>
                    <a:pt x="177" y="249"/>
                  </a:lnTo>
                  <a:lnTo>
                    <a:pt x="185" y="257"/>
                  </a:lnTo>
                  <a:lnTo>
                    <a:pt x="193" y="266"/>
                  </a:lnTo>
                  <a:lnTo>
                    <a:pt x="200" y="276"/>
                  </a:lnTo>
                  <a:lnTo>
                    <a:pt x="207" y="284"/>
                  </a:lnTo>
                  <a:lnTo>
                    <a:pt x="214" y="293"/>
                  </a:lnTo>
                  <a:lnTo>
                    <a:pt x="221" y="300"/>
                  </a:lnTo>
                  <a:lnTo>
                    <a:pt x="227" y="309"/>
                  </a:lnTo>
                  <a:lnTo>
                    <a:pt x="231" y="317"/>
                  </a:lnTo>
                  <a:lnTo>
                    <a:pt x="232" y="325"/>
                  </a:lnTo>
                  <a:lnTo>
                    <a:pt x="244" y="329"/>
                  </a:lnTo>
                  <a:lnTo>
                    <a:pt x="255" y="333"/>
                  </a:lnTo>
                  <a:lnTo>
                    <a:pt x="266" y="339"/>
                  </a:lnTo>
                  <a:lnTo>
                    <a:pt x="277" y="345"/>
                  </a:lnTo>
                  <a:lnTo>
                    <a:pt x="286" y="353"/>
                  </a:lnTo>
                  <a:lnTo>
                    <a:pt x="296" y="361"/>
                  </a:lnTo>
                  <a:lnTo>
                    <a:pt x="304" y="370"/>
                  </a:lnTo>
                  <a:lnTo>
                    <a:pt x="309" y="382"/>
                  </a:lnTo>
                  <a:lnTo>
                    <a:pt x="309" y="385"/>
                  </a:lnTo>
                  <a:lnTo>
                    <a:pt x="311" y="389"/>
                  </a:lnTo>
                  <a:lnTo>
                    <a:pt x="312" y="392"/>
                  </a:lnTo>
                  <a:lnTo>
                    <a:pt x="314" y="395"/>
                  </a:lnTo>
                  <a:lnTo>
                    <a:pt x="316" y="408"/>
                  </a:lnTo>
                  <a:lnTo>
                    <a:pt x="315" y="421"/>
                  </a:lnTo>
                  <a:lnTo>
                    <a:pt x="315" y="432"/>
                  </a:lnTo>
                  <a:lnTo>
                    <a:pt x="320" y="444"/>
                  </a:lnTo>
                  <a:lnTo>
                    <a:pt x="330" y="454"/>
                  </a:lnTo>
                  <a:lnTo>
                    <a:pt x="341" y="466"/>
                  </a:lnTo>
                  <a:lnTo>
                    <a:pt x="350" y="477"/>
                  </a:lnTo>
                  <a:lnTo>
                    <a:pt x="359" y="489"/>
                  </a:lnTo>
                  <a:lnTo>
                    <a:pt x="367" y="501"/>
                  </a:lnTo>
                  <a:lnTo>
                    <a:pt x="374" y="514"/>
                  </a:lnTo>
                  <a:lnTo>
                    <a:pt x="380" y="528"/>
                  </a:lnTo>
                  <a:lnTo>
                    <a:pt x="383" y="542"/>
                  </a:lnTo>
                  <a:lnTo>
                    <a:pt x="387" y="572"/>
                  </a:lnTo>
                  <a:lnTo>
                    <a:pt x="377" y="574"/>
                  </a:lnTo>
                  <a:lnTo>
                    <a:pt x="368" y="576"/>
                  </a:lnTo>
                  <a:lnTo>
                    <a:pt x="358" y="578"/>
                  </a:lnTo>
                  <a:lnTo>
                    <a:pt x="349" y="578"/>
                  </a:lnTo>
                  <a:lnTo>
                    <a:pt x="338" y="579"/>
                  </a:lnTo>
                  <a:lnTo>
                    <a:pt x="328" y="579"/>
                  </a:lnTo>
                  <a:lnTo>
                    <a:pt x="319" y="579"/>
                  </a:lnTo>
                  <a:lnTo>
                    <a:pt x="308" y="580"/>
                  </a:lnTo>
                  <a:lnTo>
                    <a:pt x="306" y="582"/>
                  </a:lnTo>
                  <a:lnTo>
                    <a:pt x="305" y="584"/>
                  </a:lnTo>
                  <a:lnTo>
                    <a:pt x="304" y="586"/>
                  </a:lnTo>
                  <a:lnTo>
                    <a:pt x="301" y="584"/>
                  </a:lnTo>
                  <a:lnTo>
                    <a:pt x="295" y="584"/>
                  </a:lnTo>
                  <a:lnTo>
                    <a:pt x="286" y="583"/>
                  </a:lnTo>
                  <a:lnTo>
                    <a:pt x="280" y="581"/>
                  </a:lnTo>
                  <a:lnTo>
                    <a:pt x="277" y="573"/>
                  </a:lnTo>
                  <a:lnTo>
                    <a:pt x="270" y="567"/>
                  </a:lnTo>
                  <a:lnTo>
                    <a:pt x="263" y="563"/>
                  </a:lnTo>
                  <a:lnTo>
                    <a:pt x="257" y="558"/>
                  </a:lnTo>
                  <a:lnTo>
                    <a:pt x="251" y="552"/>
                  </a:lnTo>
                  <a:lnTo>
                    <a:pt x="244" y="549"/>
                  </a:lnTo>
                  <a:lnTo>
                    <a:pt x="238" y="544"/>
                  </a:lnTo>
                  <a:lnTo>
                    <a:pt x="232" y="538"/>
                  </a:lnTo>
                  <a:lnTo>
                    <a:pt x="228" y="533"/>
                  </a:lnTo>
                  <a:lnTo>
                    <a:pt x="225" y="534"/>
                  </a:lnTo>
                  <a:lnTo>
                    <a:pt x="222" y="535"/>
                  </a:lnTo>
                  <a:lnTo>
                    <a:pt x="217" y="537"/>
                  </a:lnTo>
                  <a:lnTo>
                    <a:pt x="215" y="541"/>
                  </a:lnTo>
                  <a:lnTo>
                    <a:pt x="204" y="537"/>
                  </a:lnTo>
                  <a:lnTo>
                    <a:pt x="193" y="533"/>
                  </a:lnTo>
                  <a:lnTo>
                    <a:pt x="182" y="527"/>
                  </a:lnTo>
                  <a:lnTo>
                    <a:pt x="172" y="521"/>
                  </a:lnTo>
                  <a:lnTo>
                    <a:pt x="163" y="513"/>
                  </a:lnTo>
                  <a:lnTo>
                    <a:pt x="155" y="504"/>
                  </a:lnTo>
                  <a:lnTo>
                    <a:pt x="149" y="493"/>
                  </a:lnTo>
                  <a:lnTo>
                    <a:pt x="145" y="482"/>
                  </a:lnTo>
                  <a:lnTo>
                    <a:pt x="138" y="478"/>
                  </a:lnTo>
                  <a:lnTo>
                    <a:pt x="136" y="474"/>
                  </a:lnTo>
                  <a:lnTo>
                    <a:pt x="137" y="469"/>
                  </a:lnTo>
                  <a:lnTo>
                    <a:pt x="139" y="465"/>
                  </a:lnTo>
                  <a:lnTo>
                    <a:pt x="141" y="460"/>
                  </a:lnTo>
                  <a:lnTo>
                    <a:pt x="144" y="455"/>
                  </a:lnTo>
                  <a:lnTo>
                    <a:pt x="142" y="450"/>
                  </a:lnTo>
                  <a:lnTo>
                    <a:pt x="138" y="445"/>
                  </a:lnTo>
                  <a:lnTo>
                    <a:pt x="124" y="433"/>
                  </a:lnTo>
                  <a:lnTo>
                    <a:pt x="110" y="422"/>
                  </a:lnTo>
                  <a:lnTo>
                    <a:pt x="95" y="413"/>
                  </a:lnTo>
                  <a:lnTo>
                    <a:pt x="79" y="404"/>
                  </a:lnTo>
                  <a:lnTo>
                    <a:pt x="64" y="394"/>
                  </a:lnTo>
                  <a:lnTo>
                    <a:pt x="48" y="386"/>
                  </a:lnTo>
                  <a:lnTo>
                    <a:pt x="32" y="378"/>
                  </a:lnTo>
                  <a:lnTo>
                    <a:pt x="17" y="369"/>
                  </a:lnTo>
                  <a:lnTo>
                    <a:pt x="15" y="370"/>
                  </a:lnTo>
                  <a:lnTo>
                    <a:pt x="12" y="372"/>
                  </a:lnTo>
                  <a:lnTo>
                    <a:pt x="10" y="374"/>
                  </a:lnTo>
                  <a:lnTo>
                    <a:pt x="8" y="372"/>
                  </a:lnTo>
                  <a:lnTo>
                    <a:pt x="4" y="359"/>
                  </a:lnTo>
                  <a:lnTo>
                    <a:pt x="2" y="345"/>
                  </a:lnTo>
                  <a:lnTo>
                    <a:pt x="1" y="332"/>
                  </a:lnTo>
                  <a:lnTo>
                    <a:pt x="0" y="319"/>
                  </a:lnTo>
                  <a:lnTo>
                    <a:pt x="4" y="292"/>
                  </a:lnTo>
                  <a:lnTo>
                    <a:pt x="11" y="265"/>
                  </a:lnTo>
                  <a:lnTo>
                    <a:pt x="19" y="241"/>
                  </a:lnTo>
                  <a:lnTo>
                    <a:pt x="28" y="217"/>
                  </a:lnTo>
                  <a:lnTo>
                    <a:pt x="41" y="193"/>
                  </a:lnTo>
                  <a:lnTo>
                    <a:pt x="55" y="171"/>
                  </a:lnTo>
                  <a:lnTo>
                    <a:pt x="70" y="149"/>
                  </a:lnTo>
                  <a:lnTo>
                    <a:pt x="8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992400" y="1932120"/>
              <a:ext cx="179640" cy="226800"/>
            </a:xfrm>
            <a:custGeom>
              <a:avLst/>
              <a:gdLst/>
              <a:ahLst/>
              <a:rect l="l" t="t" r="r" b="b"/>
              <a:pathLst>
                <a:path w="225" h="287">
                  <a:moveTo>
                    <a:pt x="14" y="100"/>
                  </a:moveTo>
                  <a:lnTo>
                    <a:pt x="19" y="94"/>
                  </a:lnTo>
                  <a:lnTo>
                    <a:pt x="21" y="86"/>
                  </a:lnTo>
                  <a:lnTo>
                    <a:pt x="23" y="79"/>
                  </a:lnTo>
                  <a:lnTo>
                    <a:pt x="26" y="72"/>
                  </a:lnTo>
                  <a:lnTo>
                    <a:pt x="31" y="62"/>
                  </a:lnTo>
                  <a:lnTo>
                    <a:pt x="35" y="52"/>
                  </a:lnTo>
                  <a:lnTo>
                    <a:pt x="41" y="43"/>
                  </a:lnTo>
                  <a:lnTo>
                    <a:pt x="48" y="33"/>
                  </a:lnTo>
                  <a:lnTo>
                    <a:pt x="55" y="25"/>
                  </a:lnTo>
                  <a:lnTo>
                    <a:pt x="62" y="16"/>
                  </a:lnTo>
                  <a:lnTo>
                    <a:pt x="69" y="8"/>
                  </a:lnTo>
                  <a:lnTo>
                    <a:pt x="77" y="0"/>
                  </a:lnTo>
                  <a:lnTo>
                    <a:pt x="85" y="6"/>
                  </a:lnTo>
                  <a:lnTo>
                    <a:pt x="94" y="14"/>
                  </a:lnTo>
                  <a:lnTo>
                    <a:pt x="103" y="22"/>
                  </a:lnTo>
                  <a:lnTo>
                    <a:pt x="111" y="32"/>
                  </a:lnTo>
                  <a:lnTo>
                    <a:pt x="119" y="43"/>
                  </a:lnTo>
                  <a:lnTo>
                    <a:pt x="127" y="53"/>
                  </a:lnTo>
                  <a:lnTo>
                    <a:pt x="133" y="63"/>
                  </a:lnTo>
                  <a:lnTo>
                    <a:pt x="138" y="72"/>
                  </a:lnTo>
                  <a:lnTo>
                    <a:pt x="100" y="43"/>
                  </a:lnTo>
                  <a:lnTo>
                    <a:pt x="97" y="44"/>
                  </a:lnTo>
                  <a:lnTo>
                    <a:pt x="95" y="44"/>
                  </a:lnTo>
                  <a:lnTo>
                    <a:pt x="93" y="46"/>
                  </a:lnTo>
                  <a:lnTo>
                    <a:pt x="92" y="48"/>
                  </a:lnTo>
                  <a:lnTo>
                    <a:pt x="108" y="63"/>
                  </a:lnTo>
                  <a:lnTo>
                    <a:pt x="124" y="77"/>
                  </a:lnTo>
                  <a:lnTo>
                    <a:pt x="140" y="92"/>
                  </a:lnTo>
                  <a:lnTo>
                    <a:pt x="156" y="107"/>
                  </a:lnTo>
                  <a:lnTo>
                    <a:pt x="171" y="122"/>
                  </a:lnTo>
                  <a:lnTo>
                    <a:pt x="186" y="138"/>
                  </a:lnTo>
                  <a:lnTo>
                    <a:pt x="200" y="155"/>
                  </a:lnTo>
                  <a:lnTo>
                    <a:pt x="214" y="174"/>
                  </a:lnTo>
                  <a:lnTo>
                    <a:pt x="215" y="178"/>
                  </a:lnTo>
                  <a:lnTo>
                    <a:pt x="217" y="184"/>
                  </a:lnTo>
                  <a:lnTo>
                    <a:pt x="221" y="188"/>
                  </a:lnTo>
                  <a:lnTo>
                    <a:pt x="225" y="191"/>
                  </a:lnTo>
                  <a:lnTo>
                    <a:pt x="214" y="202"/>
                  </a:lnTo>
                  <a:lnTo>
                    <a:pt x="202" y="213"/>
                  </a:lnTo>
                  <a:lnTo>
                    <a:pt x="193" y="225"/>
                  </a:lnTo>
                  <a:lnTo>
                    <a:pt x="183" y="236"/>
                  </a:lnTo>
                  <a:lnTo>
                    <a:pt x="173" y="249"/>
                  </a:lnTo>
                  <a:lnTo>
                    <a:pt x="165" y="261"/>
                  </a:lnTo>
                  <a:lnTo>
                    <a:pt x="157" y="274"/>
                  </a:lnTo>
                  <a:lnTo>
                    <a:pt x="149" y="287"/>
                  </a:lnTo>
                  <a:lnTo>
                    <a:pt x="134" y="278"/>
                  </a:lnTo>
                  <a:lnTo>
                    <a:pt x="119" y="268"/>
                  </a:lnTo>
                  <a:lnTo>
                    <a:pt x="104" y="259"/>
                  </a:lnTo>
                  <a:lnTo>
                    <a:pt x="89" y="250"/>
                  </a:lnTo>
                  <a:lnTo>
                    <a:pt x="74" y="242"/>
                  </a:lnTo>
                  <a:lnTo>
                    <a:pt x="59" y="233"/>
                  </a:lnTo>
                  <a:lnTo>
                    <a:pt x="44" y="225"/>
                  </a:lnTo>
                  <a:lnTo>
                    <a:pt x="29" y="217"/>
                  </a:lnTo>
                  <a:lnTo>
                    <a:pt x="23" y="215"/>
                  </a:lnTo>
                  <a:lnTo>
                    <a:pt x="14" y="213"/>
                  </a:lnTo>
                  <a:lnTo>
                    <a:pt x="6" y="211"/>
                  </a:lnTo>
                  <a:lnTo>
                    <a:pt x="1" y="207"/>
                  </a:lnTo>
                  <a:lnTo>
                    <a:pt x="0" y="185"/>
                  </a:lnTo>
                  <a:lnTo>
                    <a:pt x="0" y="162"/>
                  </a:lnTo>
                  <a:lnTo>
                    <a:pt x="3" y="140"/>
                  </a:lnTo>
                  <a:lnTo>
                    <a:pt x="11" y="119"/>
                  </a:lnTo>
                  <a:lnTo>
                    <a:pt x="14" y="100"/>
                  </a:lnTo>
                  <a:close/>
                </a:path>
              </a:pathLst>
            </a:custGeom>
            <a:solidFill>
              <a:srgbClr val="6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081320" y="1835280"/>
              <a:ext cx="174600" cy="155520"/>
            </a:xfrm>
            <a:custGeom>
              <a:avLst/>
              <a:gdLst/>
              <a:ahLst/>
              <a:rect l="l" t="t" r="r" b="b"/>
              <a:pathLst>
                <a:path w="221" h="197">
                  <a:moveTo>
                    <a:pt x="16" y="99"/>
                  </a:moveTo>
                  <a:lnTo>
                    <a:pt x="14" y="94"/>
                  </a:lnTo>
                  <a:lnTo>
                    <a:pt x="15" y="91"/>
                  </a:lnTo>
                  <a:lnTo>
                    <a:pt x="16" y="87"/>
                  </a:lnTo>
                  <a:lnTo>
                    <a:pt x="18" y="83"/>
                  </a:lnTo>
                  <a:lnTo>
                    <a:pt x="23" y="80"/>
                  </a:lnTo>
                  <a:lnTo>
                    <a:pt x="29" y="77"/>
                  </a:lnTo>
                  <a:lnTo>
                    <a:pt x="34" y="76"/>
                  </a:lnTo>
                  <a:lnTo>
                    <a:pt x="39" y="79"/>
                  </a:lnTo>
                  <a:lnTo>
                    <a:pt x="41" y="82"/>
                  </a:lnTo>
                  <a:lnTo>
                    <a:pt x="43" y="83"/>
                  </a:lnTo>
                  <a:lnTo>
                    <a:pt x="46" y="83"/>
                  </a:lnTo>
                  <a:lnTo>
                    <a:pt x="49" y="83"/>
                  </a:lnTo>
                  <a:lnTo>
                    <a:pt x="57" y="72"/>
                  </a:lnTo>
                  <a:lnTo>
                    <a:pt x="65" y="62"/>
                  </a:lnTo>
                  <a:lnTo>
                    <a:pt x="73" y="54"/>
                  </a:lnTo>
                  <a:lnTo>
                    <a:pt x="82" y="46"/>
                  </a:lnTo>
                  <a:lnTo>
                    <a:pt x="90" y="38"/>
                  </a:lnTo>
                  <a:lnTo>
                    <a:pt x="100" y="30"/>
                  </a:lnTo>
                  <a:lnTo>
                    <a:pt x="111" y="22"/>
                  </a:lnTo>
                  <a:lnTo>
                    <a:pt x="121" y="14"/>
                  </a:lnTo>
                  <a:lnTo>
                    <a:pt x="126" y="14"/>
                  </a:lnTo>
                  <a:lnTo>
                    <a:pt x="132" y="14"/>
                  </a:lnTo>
                  <a:lnTo>
                    <a:pt x="137" y="11"/>
                  </a:lnTo>
                  <a:lnTo>
                    <a:pt x="140" y="7"/>
                  </a:lnTo>
                  <a:lnTo>
                    <a:pt x="140" y="3"/>
                  </a:lnTo>
                  <a:lnTo>
                    <a:pt x="141" y="1"/>
                  </a:lnTo>
                  <a:lnTo>
                    <a:pt x="142" y="0"/>
                  </a:lnTo>
                  <a:lnTo>
                    <a:pt x="144" y="0"/>
                  </a:lnTo>
                  <a:lnTo>
                    <a:pt x="153" y="1"/>
                  </a:lnTo>
                  <a:lnTo>
                    <a:pt x="158" y="9"/>
                  </a:lnTo>
                  <a:lnTo>
                    <a:pt x="164" y="18"/>
                  </a:lnTo>
                  <a:lnTo>
                    <a:pt x="174" y="20"/>
                  </a:lnTo>
                  <a:lnTo>
                    <a:pt x="179" y="16"/>
                  </a:lnTo>
                  <a:lnTo>
                    <a:pt x="180" y="9"/>
                  </a:lnTo>
                  <a:lnTo>
                    <a:pt x="182" y="4"/>
                  </a:lnTo>
                  <a:lnTo>
                    <a:pt x="188" y="7"/>
                  </a:lnTo>
                  <a:lnTo>
                    <a:pt x="195" y="15"/>
                  </a:lnTo>
                  <a:lnTo>
                    <a:pt x="197" y="22"/>
                  </a:lnTo>
                  <a:lnTo>
                    <a:pt x="199" y="30"/>
                  </a:lnTo>
                  <a:lnTo>
                    <a:pt x="204" y="37"/>
                  </a:lnTo>
                  <a:lnTo>
                    <a:pt x="216" y="31"/>
                  </a:lnTo>
                  <a:lnTo>
                    <a:pt x="221" y="47"/>
                  </a:lnTo>
                  <a:lnTo>
                    <a:pt x="216" y="60"/>
                  </a:lnTo>
                  <a:lnTo>
                    <a:pt x="210" y="71"/>
                  </a:lnTo>
                  <a:lnTo>
                    <a:pt x="202" y="80"/>
                  </a:lnTo>
                  <a:lnTo>
                    <a:pt x="193" y="90"/>
                  </a:lnTo>
                  <a:lnTo>
                    <a:pt x="186" y="83"/>
                  </a:lnTo>
                  <a:lnTo>
                    <a:pt x="179" y="75"/>
                  </a:lnTo>
                  <a:lnTo>
                    <a:pt x="172" y="67"/>
                  </a:lnTo>
                  <a:lnTo>
                    <a:pt x="165" y="60"/>
                  </a:lnTo>
                  <a:lnTo>
                    <a:pt x="157" y="53"/>
                  </a:lnTo>
                  <a:lnTo>
                    <a:pt x="148" y="47"/>
                  </a:lnTo>
                  <a:lnTo>
                    <a:pt x="140" y="42"/>
                  </a:lnTo>
                  <a:lnTo>
                    <a:pt x="129" y="40"/>
                  </a:lnTo>
                  <a:lnTo>
                    <a:pt x="122" y="41"/>
                  </a:lnTo>
                  <a:lnTo>
                    <a:pt x="114" y="42"/>
                  </a:lnTo>
                  <a:lnTo>
                    <a:pt x="107" y="46"/>
                  </a:lnTo>
                  <a:lnTo>
                    <a:pt x="100" y="50"/>
                  </a:lnTo>
                  <a:lnTo>
                    <a:pt x="94" y="55"/>
                  </a:lnTo>
                  <a:lnTo>
                    <a:pt x="88" y="61"/>
                  </a:lnTo>
                  <a:lnTo>
                    <a:pt x="83" y="67"/>
                  </a:lnTo>
                  <a:lnTo>
                    <a:pt x="80" y="73"/>
                  </a:lnTo>
                  <a:lnTo>
                    <a:pt x="77" y="82"/>
                  </a:lnTo>
                  <a:lnTo>
                    <a:pt x="79" y="88"/>
                  </a:lnTo>
                  <a:lnTo>
                    <a:pt x="82" y="94"/>
                  </a:lnTo>
                  <a:lnTo>
                    <a:pt x="87" y="102"/>
                  </a:lnTo>
                  <a:lnTo>
                    <a:pt x="92" y="108"/>
                  </a:lnTo>
                  <a:lnTo>
                    <a:pt x="99" y="113"/>
                  </a:lnTo>
                  <a:lnTo>
                    <a:pt x="106" y="115"/>
                  </a:lnTo>
                  <a:lnTo>
                    <a:pt x="114" y="116"/>
                  </a:lnTo>
                  <a:lnTo>
                    <a:pt x="121" y="118"/>
                  </a:lnTo>
                  <a:lnTo>
                    <a:pt x="129" y="120"/>
                  </a:lnTo>
                  <a:lnTo>
                    <a:pt x="137" y="122"/>
                  </a:lnTo>
                  <a:lnTo>
                    <a:pt x="144" y="124"/>
                  </a:lnTo>
                  <a:lnTo>
                    <a:pt x="147" y="135"/>
                  </a:lnTo>
                  <a:lnTo>
                    <a:pt x="138" y="138"/>
                  </a:lnTo>
                  <a:lnTo>
                    <a:pt x="130" y="144"/>
                  </a:lnTo>
                  <a:lnTo>
                    <a:pt x="123" y="151"/>
                  </a:lnTo>
                  <a:lnTo>
                    <a:pt x="117" y="158"/>
                  </a:lnTo>
                  <a:lnTo>
                    <a:pt x="110" y="162"/>
                  </a:lnTo>
                  <a:lnTo>
                    <a:pt x="103" y="165"/>
                  </a:lnTo>
                  <a:lnTo>
                    <a:pt x="95" y="163"/>
                  </a:lnTo>
                  <a:lnTo>
                    <a:pt x="87" y="155"/>
                  </a:lnTo>
                  <a:lnTo>
                    <a:pt x="83" y="158"/>
                  </a:lnTo>
                  <a:lnTo>
                    <a:pt x="83" y="161"/>
                  </a:lnTo>
                  <a:lnTo>
                    <a:pt x="85" y="166"/>
                  </a:lnTo>
                  <a:lnTo>
                    <a:pt x="89" y="168"/>
                  </a:lnTo>
                  <a:lnTo>
                    <a:pt x="84" y="170"/>
                  </a:lnTo>
                  <a:lnTo>
                    <a:pt x="80" y="175"/>
                  </a:lnTo>
                  <a:lnTo>
                    <a:pt x="76" y="178"/>
                  </a:lnTo>
                  <a:lnTo>
                    <a:pt x="70" y="177"/>
                  </a:lnTo>
                  <a:lnTo>
                    <a:pt x="67" y="171"/>
                  </a:lnTo>
                  <a:lnTo>
                    <a:pt x="64" y="165"/>
                  </a:lnTo>
                  <a:lnTo>
                    <a:pt x="60" y="159"/>
                  </a:lnTo>
                  <a:lnTo>
                    <a:pt x="56" y="155"/>
                  </a:lnTo>
                  <a:lnTo>
                    <a:pt x="56" y="152"/>
                  </a:lnTo>
                  <a:lnTo>
                    <a:pt x="58" y="152"/>
                  </a:lnTo>
                  <a:lnTo>
                    <a:pt x="60" y="152"/>
                  </a:lnTo>
                  <a:lnTo>
                    <a:pt x="61" y="150"/>
                  </a:lnTo>
                  <a:lnTo>
                    <a:pt x="64" y="148"/>
                  </a:lnTo>
                  <a:lnTo>
                    <a:pt x="64" y="146"/>
                  </a:lnTo>
                  <a:lnTo>
                    <a:pt x="64" y="144"/>
                  </a:lnTo>
                  <a:lnTo>
                    <a:pt x="61" y="141"/>
                  </a:lnTo>
                  <a:lnTo>
                    <a:pt x="60" y="139"/>
                  </a:lnTo>
                  <a:lnTo>
                    <a:pt x="52" y="143"/>
                  </a:lnTo>
                  <a:lnTo>
                    <a:pt x="43" y="144"/>
                  </a:lnTo>
                  <a:lnTo>
                    <a:pt x="34" y="147"/>
                  </a:lnTo>
                  <a:lnTo>
                    <a:pt x="30" y="155"/>
                  </a:lnTo>
                  <a:lnTo>
                    <a:pt x="34" y="158"/>
                  </a:lnTo>
                  <a:lnTo>
                    <a:pt x="37" y="158"/>
                  </a:lnTo>
                  <a:lnTo>
                    <a:pt x="41" y="156"/>
                  </a:lnTo>
                  <a:lnTo>
                    <a:pt x="43" y="156"/>
                  </a:lnTo>
                  <a:lnTo>
                    <a:pt x="49" y="163"/>
                  </a:lnTo>
                  <a:lnTo>
                    <a:pt x="53" y="170"/>
                  </a:lnTo>
                  <a:lnTo>
                    <a:pt x="57" y="177"/>
                  </a:lnTo>
                  <a:lnTo>
                    <a:pt x="62" y="184"/>
                  </a:lnTo>
                  <a:lnTo>
                    <a:pt x="60" y="189"/>
                  </a:lnTo>
                  <a:lnTo>
                    <a:pt x="54" y="191"/>
                  </a:lnTo>
                  <a:lnTo>
                    <a:pt x="47" y="193"/>
                  </a:lnTo>
                  <a:lnTo>
                    <a:pt x="42" y="197"/>
                  </a:lnTo>
                  <a:lnTo>
                    <a:pt x="38" y="189"/>
                  </a:lnTo>
                  <a:lnTo>
                    <a:pt x="34" y="181"/>
                  </a:lnTo>
                  <a:lnTo>
                    <a:pt x="29" y="174"/>
                  </a:lnTo>
                  <a:lnTo>
                    <a:pt x="24" y="166"/>
                  </a:lnTo>
                  <a:lnTo>
                    <a:pt x="19" y="158"/>
                  </a:lnTo>
                  <a:lnTo>
                    <a:pt x="13" y="151"/>
                  </a:lnTo>
                  <a:lnTo>
                    <a:pt x="7" y="144"/>
                  </a:lnTo>
                  <a:lnTo>
                    <a:pt x="0" y="137"/>
                  </a:lnTo>
                  <a:lnTo>
                    <a:pt x="4" y="131"/>
                  </a:lnTo>
                  <a:lnTo>
                    <a:pt x="8" y="126"/>
                  </a:lnTo>
                  <a:lnTo>
                    <a:pt x="14" y="123"/>
                  </a:lnTo>
                  <a:lnTo>
                    <a:pt x="19" y="118"/>
                  </a:lnTo>
                  <a:lnTo>
                    <a:pt x="23" y="115"/>
                  </a:lnTo>
                  <a:lnTo>
                    <a:pt x="24" y="110"/>
                  </a:lnTo>
                  <a:lnTo>
                    <a:pt x="22" y="105"/>
                  </a:lnTo>
                  <a:lnTo>
                    <a:pt x="16" y="99"/>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113360" y="2093760"/>
              <a:ext cx="123840" cy="142920"/>
            </a:xfrm>
            <a:custGeom>
              <a:avLst/>
              <a:gdLst/>
              <a:ahLst/>
              <a:rect l="l" t="t" r="r" b="b"/>
              <a:pathLst>
                <a:path w="154" h="181">
                  <a:moveTo>
                    <a:pt x="68" y="2"/>
                  </a:moveTo>
                  <a:lnTo>
                    <a:pt x="71" y="0"/>
                  </a:lnTo>
                  <a:lnTo>
                    <a:pt x="75" y="0"/>
                  </a:lnTo>
                  <a:lnTo>
                    <a:pt x="79" y="1"/>
                  </a:lnTo>
                  <a:lnTo>
                    <a:pt x="83" y="2"/>
                  </a:lnTo>
                  <a:lnTo>
                    <a:pt x="88" y="7"/>
                  </a:lnTo>
                  <a:lnTo>
                    <a:pt x="95" y="7"/>
                  </a:lnTo>
                  <a:lnTo>
                    <a:pt x="102" y="6"/>
                  </a:lnTo>
                  <a:lnTo>
                    <a:pt x="109" y="9"/>
                  </a:lnTo>
                  <a:lnTo>
                    <a:pt x="118" y="15"/>
                  </a:lnTo>
                  <a:lnTo>
                    <a:pt x="126" y="21"/>
                  </a:lnTo>
                  <a:lnTo>
                    <a:pt x="134" y="27"/>
                  </a:lnTo>
                  <a:lnTo>
                    <a:pt x="140" y="36"/>
                  </a:lnTo>
                  <a:lnTo>
                    <a:pt x="146" y="45"/>
                  </a:lnTo>
                  <a:lnTo>
                    <a:pt x="151" y="54"/>
                  </a:lnTo>
                  <a:lnTo>
                    <a:pt x="153" y="64"/>
                  </a:lnTo>
                  <a:lnTo>
                    <a:pt x="154" y="76"/>
                  </a:lnTo>
                  <a:lnTo>
                    <a:pt x="151" y="90"/>
                  </a:lnTo>
                  <a:lnTo>
                    <a:pt x="145" y="102"/>
                  </a:lnTo>
                  <a:lnTo>
                    <a:pt x="134" y="114"/>
                  </a:lnTo>
                  <a:lnTo>
                    <a:pt x="124" y="125"/>
                  </a:lnTo>
                  <a:lnTo>
                    <a:pt x="111" y="136"/>
                  </a:lnTo>
                  <a:lnTo>
                    <a:pt x="100" y="146"/>
                  </a:lnTo>
                  <a:lnTo>
                    <a:pt x="90" y="157"/>
                  </a:lnTo>
                  <a:lnTo>
                    <a:pt x="80" y="168"/>
                  </a:lnTo>
                  <a:lnTo>
                    <a:pt x="76" y="170"/>
                  </a:lnTo>
                  <a:lnTo>
                    <a:pt x="72" y="173"/>
                  </a:lnTo>
                  <a:lnTo>
                    <a:pt x="69" y="177"/>
                  </a:lnTo>
                  <a:lnTo>
                    <a:pt x="66" y="181"/>
                  </a:lnTo>
                  <a:lnTo>
                    <a:pt x="62" y="181"/>
                  </a:lnTo>
                  <a:lnTo>
                    <a:pt x="7" y="129"/>
                  </a:lnTo>
                  <a:lnTo>
                    <a:pt x="5" y="124"/>
                  </a:lnTo>
                  <a:lnTo>
                    <a:pt x="4" y="122"/>
                  </a:lnTo>
                  <a:lnTo>
                    <a:pt x="2" y="120"/>
                  </a:lnTo>
                  <a:lnTo>
                    <a:pt x="0" y="119"/>
                  </a:lnTo>
                  <a:lnTo>
                    <a:pt x="3" y="101"/>
                  </a:lnTo>
                  <a:lnTo>
                    <a:pt x="8" y="85"/>
                  </a:lnTo>
                  <a:lnTo>
                    <a:pt x="16" y="69"/>
                  </a:lnTo>
                  <a:lnTo>
                    <a:pt x="25" y="55"/>
                  </a:lnTo>
                  <a:lnTo>
                    <a:pt x="34" y="41"/>
                  </a:lnTo>
                  <a:lnTo>
                    <a:pt x="46" y="27"/>
                  </a:lnTo>
                  <a:lnTo>
                    <a:pt x="56" y="15"/>
                  </a:lnTo>
                  <a:lnTo>
                    <a:pt x="68" y="2"/>
                  </a:lnTo>
                  <a:close/>
                </a:path>
              </a:pathLst>
            </a:custGeom>
            <a:solidFill>
              <a:srgbClr val="6b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152960" y="1878120"/>
              <a:ext cx="41040" cy="28440"/>
            </a:xfrm>
            <a:custGeom>
              <a:avLst/>
              <a:gdLst/>
              <a:ahLst/>
              <a:rect l="l" t="t" r="r" b="b"/>
              <a:pathLst>
                <a:path w="52" h="36">
                  <a:moveTo>
                    <a:pt x="24" y="0"/>
                  </a:moveTo>
                  <a:lnTo>
                    <a:pt x="31" y="0"/>
                  </a:lnTo>
                  <a:lnTo>
                    <a:pt x="38" y="0"/>
                  </a:lnTo>
                  <a:lnTo>
                    <a:pt x="45" y="1"/>
                  </a:lnTo>
                  <a:lnTo>
                    <a:pt x="52" y="5"/>
                  </a:lnTo>
                  <a:lnTo>
                    <a:pt x="45" y="8"/>
                  </a:lnTo>
                  <a:lnTo>
                    <a:pt x="39" y="10"/>
                  </a:lnTo>
                  <a:lnTo>
                    <a:pt x="32" y="14"/>
                  </a:lnTo>
                  <a:lnTo>
                    <a:pt x="27" y="17"/>
                  </a:lnTo>
                  <a:lnTo>
                    <a:pt x="21" y="21"/>
                  </a:lnTo>
                  <a:lnTo>
                    <a:pt x="15" y="25"/>
                  </a:lnTo>
                  <a:lnTo>
                    <a:pt x="11" y="30"/>
                  </a:lnTo>
                  <a:lnTo>
                    <a:pt x="6" y="36"/>
                  </a:lnTo>
                  <a:lnTo>
                    <a:pt x="0" y="32"/>
                  </a:lnTo>
                  <a:lnTo>
                    <a:pt x="0" y="25"/>
                  </a:lnTo>
                  <a:lnTo>
                    <a:pt x="4" y="18"/>
                  </a:lnTo>
                  <a:lnTo>
                    <a:pt x="6" y="14"/>
                  </a:lnTo>
                  <a:lnTo>
                    <a:pt x="24" y="0"/>
                  </a:lnTo>
                  <a:close/>
                </a:path>
              </a:pathLst>
            </a:custGeom>
            <a:solidFill>
              <a:srgbClr val="bfffdd"/>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1" name=""/>
            <p:cNvSpPr/>
            <p:nvPr/>
          </p:nvSpPr>
          <p:spPr>
            <a:xfrm>
              <a:off x="4173480" y="1889280"/>
              <a:ext cx="65160" cy="75960"/>
            </a:xfrm>
            <a:custGeom>
              <a:avLst/>
              <a:gdLst/>
              <a:ahLst/>
              <a:rect l="l" t="t" r="r" b="b"/>
              <a:pathLst>
                <a:path w="81" h="96">
                  <a:moveTo>
                    <a:pt x="34" y="11"/>
                  </a:moveTo>
                  <a:lnTo>
                    <a:pt x="35" y="8"/>
                  </a:lnTo>
                  <a:lnTo>
                    <a:pt x="38" y="6"/>
                  </a:lnTo>
                  <a:lnTo>
                    <a:pt x="39" y="2"/>
                  </a:lnTo>
                  <a:lnTo>
                    <a:pt x="38" y="0"/>
                  </a:lnTo>
                  <a:lnTo>
                    <a:pt x="46" y="6"/>
                  </a:lnTo>
                  <a:lnTo>
                    <a:pt x="54" y="11"/>
                  </a:lnTo>
                  <a:lnTo>
                    <a:pt x="61" y="19"/>
                  </a:lnTo>
                  <a:lnTo>
                    <a:pt x="67" y="28"/>
                  </a:lnTo>
                  <a:lnTo>
                    <a:pt x="71" y="37"/>
                  </a:lnTo>
                  <a:lnTo>
                    <a:pt x="76" y="46"/>
                  </a:lnTo>
                  <a:lnTo>
                    <a:pt x="79" y="56"/>
                  </a:lnTo>
                  <a:lnTo>
                    <a:pt x="81" y="66"/>
                  </a:lnTo>
                  <a:lnTo>
                    <a:pt x="80" y="76"/>
                  </a:lnTo>
                  <a:lnTo>
                    <a:pt x="73" y="84"/>
                  </a:lnTo>
                  <a:lnTo>
                    <a:pt x="64" y="90"/>
                  </a:lnTo>
                  <a:lnTo>
                    <a:pt x="54" y="96"/>
                  </a:lnTo>
                  <a:lnTo>
                    <a:pt x="49" y="96"/>
                  </a:lnTo>
                  <a:lnTo>
                    <a:pt x="45" y="94"/>
                  </a:lnTo>
                  <a:lnTo>
                    <a:pt x="40" y="92"/>
                  </a:lnTo>
                  <a:lnTo>
                    <a:pt x="38" y="87"/>
                  </a:lnTo>
                  <a:lnTo>
                    <a:pt x="39" y="77"/>
                  </a:lnTo>
                  <a:lnTo>
                    <a:pt x="40" y="66"/>
                  </a:lnTo>
                  <a:lnTo>
                    <a:pt x="39" y="55"/>
                  </a:lnTo>
                  <a:lnTo>
                    <a:pt x="32" y="45"/>
                  </a:lnTo>
                  <a:lnTo>
                    <a:pt x="25" y="44"/>
                  </a:lnTo>
                  <a:lnTo>
                    <a:pt x="19" y="41"/>
                  </a:lnTo>
                  <a:lnTo>
                    <a:pt x="12" y="38"/>
                  </a:lnTo>
                  <a:lnTo>
                    <a:pt x="5" y="39"/>
                  </a:lnTo>
                  <a:lnTo>
                    <a:pt x="5" y="36"/>
                  </a:lnTo>
                  <a:lnTo>
                    <a:pt x="0" y="36"/>
                  </a:lnTo>
                  <a:lnTo>
                    <a:pt x="3" y="31"/>
                  </a:lnTo>
                  <a:lnTo>
                    <a:pt x="7" y="28"/>
                  </a:lnTo>
                  <a:lnTo>
                    <a:pt x="11" y="23"/>
                  </a:lnTo>
                  <a:lnTo>
                    <a:pt x="16" y="19"/>
                  </a:lnTo>
                  <a:lnTo>
                    <a:pt x="20" y="17"/>
                  </a:lnTo>
                  <a:lnTo>
                    <a:pt x="25" y="15"/>
                  </a:lnTo>
                  <a:lnTo>
                    <a:pt x="30" y="13"/>
                  </a:lnTo>
                  <a:lnTo>
                    <a:pt x="34" y="11"/>
                  </a:lnTo>
                  <a:close/>
                </a:path>
              </a:pathLst>
            </a:custGeom>
            <a:solidFill>
              <a:srgbClr val="bfff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2" name=""/>
            <p:cNvSpPr/>
            <p:nvPr/>
          </p:nvSpPr>
          <p:spPr>
            <a:xfrm>
              <a:off x="4186080" y="2181240"/>
              <a:ext cx="101880" cy="95400"/>
            </a:xfrm>
            <a:custGeom>
              <a:avLst/>
              <a:gdLst/>
              <a:ahLst/>
              <a:rect l="l" t="t" r="r" b="b"/>
              <a:pathLst>
                <a:path w="129" h="121">
                  <a:moveTo>
                    <a:pt x="0" y="63"/>
                  </a:moveTo>
                  <a:lnTo>
                    <a:pt x="8" y="53"/>
                  </a:lnTo>
                  <a:lnTo>
                    <a:pt x="16" y="44"/>
                  </a:lnTo>
                  <a:lnTo>
                    <a:pt x="25" y="36"/>
                  </a:lnTo>
                  <a:lnTo>
                    <a:pt x="33" y="29"/>
                  </a:lnTo>
                  <a:lnTo>
                    <a:pt x="41" y="22"/>
                  </a:lnTo>
                  <a:lnTo>
                    <a:pt x="50" y="15"/>
                  </a:lnTo>
                  <a:lnTo>
                    <a:pt x="58" y="8"/>
                  </a:lnTo>
                  <a:lnTo>
                    <a:pt x="66" y="0"/>
                  </a:lnTo>
                  <a:lnTo>
                    <a:pt x="78" y="11"/>
                  </a:lnTo>
                  <a:lnTo>
                    <a:pt x="88" y="22"/>
                  </a:lnTo>
                  <a:lnTo>
                    <a:pt x="99" y="36"/>
                  </a:lnTo>
                  <a:lnTo>
                    <a:pt x="108" y="50"/>
                  </a:lnTo>
                  <a:lnTo>
                    <a:pt x="116" y="65"/>
                  </a:lnTo>
                  <a:lnTo>
                    <a:pt x="123" y="81"/>
                  </a:lnTo>
                  <a:lnTo>
                    <a:pt x="126" y="96"/>
                  </a:lnTo>
                  <a:lnTo>
                    <a:pt x="129" y="112"/>
                  </a:lnTo>
                  <a:lnTo>
                    <a:pt x="122" y="114"/>
                  </a:lnTo>
                  <a:lnTo>
                    <a:pt x="115" y="116"/>
                  </a:lnTo>
                  <a:lnTo>
                    <a:pt x="107" y="117"/>
                  </a:lnTo>
                  <a:lnTo>
                    <a:pt x="99" y="118"/>
                  </a:lnTo>
                  <a:lnTo>
                    <a:pt x="91" y="119"/>
                  </a:lnTo>
                  <a:lnTo>
                    <a:pt x="84" y="119"/>
                  </a:lnTo>
                  <a:lnTo>
                    <a:pt x="76" y="120"/>
                  </a:lnTo>
                  <a:lnTo>
                    <a:pt x="68" y="121"/>
                  </a:lnTo>
                  <a:lnTo>
                    <a:pt x="60" y="114"/>
                  </a:lnTo>
                  <a:lnTo>
                    <a:pt x="52" y="107"/>
                  </a:lnTo>
                  <a:lnTo>
                    <a:pt x="42" y="102"/>
                  </a:lnTo>
                  <a:lnTo>
                    <a:pt x="34" y="95"/>
                  </a:lnTo>
                  <a:lnTo>
                    <a:pt x="25" y="88"/>
                  </a:lnTo>
                  <a:lnTo>
                    <a:pt x="16" y="81"/>
                  </a:lnTo>
                  <a:lnTo>
                    <a:pt x="8" y="74"/>
                  </a:lnTo>
                  <a:lnTo>
                    <a:pt x="0" y="66"/>
                  </a:lnTo>
                  <a:lnTo>
                    <a:pt x="0" y="63"/>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371520" y="1352160"/>
            <a:ext cx="2288880" cy="1361880"/>
            <a:chOff x="371520" y="1352160"/>
            <a:chExt cx="2288880" cy="1361880"/>
          </a:xfrm>
        </p:grpSpPr>
        <p:sp>
          <p:nvSpPr>
            <p:cNvPr id="644" name=""/>
            <p:cNvSpPr/>
            <p:nvPr/>
          </p:nvSpPr>
          <p:spPr>
            <a:xfrm rot="20897400">
              <a:off x="408960" y="1625760"/>
              <a:ext cx="2057040" cy="38412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rot="20897400">
              <a:off x="445320" y="1559520"/>
              <a:ext cx="214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a:t>
              </a:r>
              <a:endParaRPr b="0" lang="en-US" sz="2800" spc="-1" strike="noStrike">
                <a:solidFill>
                  <a:srgbClr val="000000"/>
                </a:solidFill>
                <a:latin typeface="Times New Roman"/>
              </a:endParaRPr>
            </a:p>
          </p:txBody>
        </p:sp>
      </p:grpSp>
    </p:spTree>
  </p:cSld>
  <p:transition>
    <p:pull dir="l"/>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559"/>
                                        </p:tgtEl>
                                        <p:attrNameLst>
                                          <p:attrName>style.visibility</p:attrName>
                                        </p:attrNameLst>
                                      </p:cBhvr>
                                      <p:to>
                                        <p:strVal val="visible"/>
                                      </p:to>
                                    </p:set>
                                    <p:animEffect filter="wipe(left)" transition="in">
                                      <p:cBhvr additive="repl">
                                        <p:cTn id="368" dur="500"/>
                                        <p:tgtEl>
                                          <p:spTgt spid="559"/>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568"/>
                                        </p:tgtEl>
                                        <p:attrNameLst>
                                          <p:attrName>style.visibility</p:attrName>
                                        </p:attrNameLst>
                                      </p:cBhvr>
                                      <p:to>
                                        <p:strVal val="visible"/>
                                      </p:to>
                                    </p:set>
                                    <p:animEffect filter="dissolve" transition="in">
                                      <p:cBhvr additive="repl">
                                        <p:cTn id="373" dur="500"/>
                                        <p:tgtEl>
                                          <p:spTgt spid="56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566"/>
                                        </p:tgtEl>
                                        <p:attrNameLst>
                                          <p:attrName>style.visibility</p:attrName>
                                        </p:attrNameLst>
                                      </p:cBhvr>
                                      <p:to>
                                        <p:strVal val="visible"/>
                                      </p:to>
                                    </p:set>
                                    <p:animEffect filter="dissolve" transition="in">
                                      <p:cBhvr additive="repl">
                                        <p:cTn id="378" dur="500"/>
                                        <p:tgtEl>
                                          <p:spTgt spid="56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571"/>
                                        </p:tgtEl>
                                        <p:attrNameLst>
                                          <p:attrName>style.visibility</p:attrName>
                                        </p:attrNameLst>
                                      </p:cBhvr>
                                      <p:to>
                                        <p:strVal val="visible"/>
                                      </p:to>
                                    </p:set>
                                    <p:animEffect filter="wipe(left)" transition="in">
                                      <p:cBhvr additive="repl">
                                        <p:cTn id="383"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46"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
        <p:nvSpPr>
          <p:cNvPr id="647" name=""/>
          <p:cNvSpPr/>
          <p:nvPr/>
        </p:nvSpPr>
        <p:spPr>
          <a:xfrm>
            <a:off x="4152960" y="2438280"/>
            <a:ext cx="1942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8,500</a:t>
            </a:r>
            <a:endParaRPr b="0" lang="en-US" sz="3200" spc="-1" strike="noStrike">
              <a:solidFill>
                <a:srgbClr val="000000"/>
              </a:solidFill>
              <a:latin typeface="Times New Roman"/>
            </a:endParaRPr>
          </a:p>
        </p:txBody>
      </p:sp>
      <p:sp>
        <p:nvSpPr>
          <p:cNvPr id="648" name=""/>
          <p:cNvSpPr/>
          <p:nvPr/>
        </p:nvSpPr>
        <p:spPr>
          <a:xfrm>
            <a:off x="6343560" y="2438280"/>
            <a:ext cx="1866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7,750</a:t>
            </a:r>
            <a:endParaRPr b="0" lang="en-US" sz="3200" spc="-1" strike="noStrike">
              <a:solidFill>
                <a:srgbClr val="000000"/>
              </a:solidFill>
              <a:latin typeface="Times New Roman"/>
            </a:endParaRPr>
          </a:p>
        </p:txBody>
      </p:sp>
      <p:sp>
        <p:nvSpPr>
          <p:cNvPr id="649" name=""/>
          <p:cNvSpPr/>
          <p:nvPr/>
        </p:nvSpPr>
        <p:spPr>
          <a:xfrm>
            <a:off x="1981080" y="3124080"/>
            <a:ext cx="1933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2,250</a:t>
            </a:r>
            <a:endParaRPr b="0" lang="en-US" sz="3200" spc="-1" strike="noStrike">
              <a:solidFill>
                <a:srgbClr val="000000"/>
              </a:solidFill>
              <a:latin typeface="Times New Roman"/>
            </a:endParaRPr>
          </a:p>
        </p:txBody>
      </p:sp>
      <p:sp>
        <p:nvSpPr>
          <p:cNvPr id="650" name=""/>
          <p:cNvSpPr/>
          <p:nvPr/>
        </p:nvSpPr>
        <p:spPr>
          <a:xfrm>
            <a:off x="4173480" y="3125880"/>
            <a:ext cx="190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0,500</a:t>
            </a:r>
            <a:endParaRPr b="0" lang="en-US" sz="3200" spc="-1" strike="noStrike">
              <a:solidFill>
                <a:srgbClr val="000000"/>
              </a:solidFill>
              <a:latin typeface="Times New Roman"/>
            </a:endParaRPr>
          </a:p>
        </p:txBody>
      </p:sp>
      <p:sp>
        <p:nvSpPr>
          <p:cNvPr id="651" name=""/>
          <p:cNvSpPr/>
          <p:nvPr/>
        </p:nvSpPr>
        <p:spPr>
          <a:xfrm>
            <a:off x="6324480" y="3124080"/>
            <a:ext cx="190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8,200</a:t>
            </a:r>
            <a:endParaRPr b="0" lang="en-US" sz="3200" spc="-1" strike="noStrike">
              <a:solidFill>
                <a:srgbClr val="000000"/>
              </a:solidFill>
              <a:latin typeface="Times New Roman"/>
            </a:endParaRPr>
          </a:p>
        </p:txBody>
      </p:sp>
      <p:sp>
        <p:nvSpPr>
          <p:cNvPr id="652" name=""/>
          <p:cNvSpPr/>
          <p:nvPr/>
        </p:nvSpPr>
        <p:spPr>
          <a:xfrm>
            <a:off x="1981080" y="2438280"/>
            <a:ext cx="1933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5,000</a:t>
            </a:r>
            <a:endParaRPr b="0" lang="en-US" sz="3200" spc="-1" strike="noStrike">
              <a:solidFill>
                <a:srgbClr val="000000"/>
              </a:solidFill>
              <a:latin typeface="Times New Roman"/>
            </a:endParaRPr>
          </a:p>
        </p:txBody>
      </p:sp>
      <p:sp>
        <p:nvSpPr>
          <p:cNvPr id="653" name=""/>
          <p:cNvSpPr/>
          <p:nvPr/>
        </p:nvSpPr>
        <p:spPr>
          <a:xfrm>
            <a:off x="2133720" y="1797120"/>
            <a:ext cx="5943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Comic Sans MS"/>
              </a:rPr>
              <a:t>4</a:t>
            </a:r>
            <a:r>
              <a:rPr b="0" lang="en-US" sz="3600" spc="-1" strike="noStrike" baseline="30000">
                <a:solidFill>
                  <a:srgbClr val="9900ff"/>
                </a:solidFill>
                <a:latin typeface="Comic Sans MS"/>
              </a:rPr>
              <a:t>th</a:t>
            </a:r>
            <a:r>
              <a:rPr b="0" lang="en-US" sz="3600" spc="-1" strike="noStrike">
                <a:solidFill>
                  <a:srgbClr val="9900ff"/>
                </a:solidFill>
                <a:latin typeface="Comic Sans MS"/>
              </a:rPr>
              <a:t> grade teacher salaries:</a:t>
            </a:r>
            <a:endParaRPr b="0" lang="en-US" sz="3600" spc="-1" strike="noStrike">
              <a:solidFill>
                <a:srgbClr val="000000"/>
              </a:solidFill>
              <a:latin typeface="Times New Roman"/>
            </a:endParaRPr>
          </a:p>
        </p:txBody>
      </p:sp>
      <p:grpSp>
        <p:nvGrpSpPr>
          <p:cNvPr id="654" name=""/>
          <p:cNvGrpSpPr/>
          <p:nvPr/>
        </p:nvGrpSpPr>
        <p:grpSpPr>
          <a:xfrm>
            <a:off x="533520" y="5288040"/>
            <a:ext cx="8115120" cy="1053720"/>
            <a:chOff x="533520" y="5288040"/>
            <a:chExt cx="8115120" cy="1053720"/>
          </a:xfrm>
        </p:grpSpPr>
        <p:grpSp>
          <p:nvGrpSpPr>
            <p:cNvPr id="655" name=""/>
            <p:cNvGrpSpPr/>
            <p:nvPr/>
          </p:nvGrpSpPr>
          <p:grpSpPr>
            <a:xfrm>
              <a:off x="533520" y="5288040"/>
              <a:ext cx="3543120" cy="1053720"/>
              <a:chOff x="533520" y="5288040"/>
              <a:chExt cx="3543120" cy="1053720"/>
            </a:xfrm>
          </p:grpSpPr>
          <p:sp>
            <p:nvSpPr>
              <p:cNvPr id="656" name=""/>
              <p:cNvSpPr/>
              <p:nvPr/>
            </p:nvSpPr>
            <p:spPr>
              <a:xfrm>
                <a:off x="533520" y="5288040"/>
                <a:ext cx="3543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28,500 + $30,500</a:t>
                </a:r>
                <a:endParaRPr b="0" lang="en-US" sz="2800" spc="-1" strike="noStrike">
                  <a:solidFill>
                    <a:srgbClr val="000000"/>
                  </a:solidFill>
                  <a:latin typeface="Times New Roman"/>
                </a:endParaRPr>
              </a:p>
            </p:txBody>
          </p:sp>
          <p:sp>
            <p:nvSpPr>
              <p:cNvPr id="657" name=""/>
              <p:cNvSpPr/>
              <p:nvPr/>
            </p:nvSpPr>
            <p:spPr>
              <a:xfrm>
                <a:off x="628560" y="5821200"/>
                <a:ext cx="335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037960" y="5821200"/>
                <a:ext cx="53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2</a:t>
                </a:r>
                <a:endParaRPr b="0" lang="en-US" sz="2800" spc="-1" strike="noStrike">
                  <a:solidFill>
                    <a:srgbClr val="000000"/>
                  </a:solidFill>
                  <a:latin typeface="Times New Roman"/>
                </a:endParaRPr>
              </a:p>
            </p:txBody>
          </p:sp>
        </p:grpSp>
        <p:sp>
          <p:nvSpPr>
            <p:cNvPr id="659" name=""/>
            <p:cNvSpPr/>
            <p:nvPr/>
          </p:nvSpPr>
          <p:spPr>
            <a:xfrm>
              <a:off x="6477120" y="5524560"/>
              <a:ext cx="2171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29,500</a:t>
              </a:r>
              <a:endParaRPr b="0" lang="en-US" sz="3200" spc="-1" strike="noStrike">
                <a:solidFill>
                  <a:srgbClr val="000000"/>
                </a:solidFill>
                <a:latin typeface="Times New Roman"/>
              </a:endParaRPr>
            </a:p>
          </p:txBody>
        </p:sp>
        <p:sp>
          <p:nvSpPr>
            <p:cNvPr id="660" name=""/>
            <p:cNvSpPr/>
            <p:nvPr/>
          </p:nvSpPr>
          <p:spPr>
            <a:xfrm>
              <a:off x="4114800" y="5494320"/>
              <a:ext cx="38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grpSp>
          <p:nvGrpSpPr>
            <p:cNvPr id="661" name=""/>
            <p:cNvGrpSpPr/>
            <p:nvPr/>
          </p:nvGrpSpPr>
          <p:grpSpPr>
            <a:xfrm>
              <a:off x="4648320" y="5288040"/>
              <a:ext cx="1720800" cy="1053720"/>
              <a:chOff x="4648320" y="5288040"/>
              <a:chExt cx="1720800" cy="1053720"/>
            </a:xfrm>
          </p:grpSpPr>
          <p:sp>
            <p:nvSpPr>
              <p:cNvPr id="662" name=""/>
              <p:cNvSpPr/>
              <p:nvPr/>
            </p:nvSpPr>
            <p:spPr>
              <a:xfrm>
                <a:off x="4667040" y="5288040"/>
                <a:ext cx="168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59,000</a:t>
                </a:r>
                <a:endParaRPr b="0" lang="en-US" sz="2800" spc="-1" strike="noStrike">
                  <a:solidFill>
                    <a:srgbClr val="000000"/>
                  </a:solidFill>
                  <a:latin typeface="Times New Roman"/>
                </a:endParaRPr>
              </a:p>
            </p:txBody>
          </p:sp>
          <p:sp>
            <p:nvSpPr>
              <p:cNvPr id="663" name=""/>
              <p:cNvSpPr/>
              <p:nvPr/>
            </p:nvSpPr>
            <p:spPr>
              <a:xfrm>
                <a:off x="4648320" y="5821200"/>
                <a:ext cx="172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241960" y="5821200"/>
                <a:ext cx="533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2</a:t>
                </a:r>
                <a:endParaRPr b="0" lang="en-US" sz="2800" spc="-1" strike="noStrike">
                  <a:solidFill>
                    <a:srgbClr val="000000"/>
                  </a:solidFill>
                  <a:latin typeface="Times New Roman"/>
                </a:endParaRPr>
              </a:p>
            </p:txBody>
          </p:sp>
        </p:grpSp>
      </p:grpSp>
      <p:grpSp>
        <p:nvGrpSpPr>
          <p:cNvPr id="665" name=""/>
          <p:cNvGrpSpPr/>
          <p:nvPr/>
        </p:nvGrpSpPr>
        <p:grpSpPr>
          <a:xfrm>
            <a:off x="1066680" y="3857760"/>
            <a:ext cx="8076960" cy="1401840"/>
            <a:chOff x="1066680" y="3857760"/>
            <a:chExt cx="8076960" cy="1401840"/>
          </a:xfrm>
        </p:grpSpPr>
        <p:sp>
          <p:nvSpPr>
            <p:cNvPr id="666" name=""/>
            <p:cNvSpPr/>
            <p:nvPr/>
          </p:nvSpPr>
          <p:spPr>
            <a:xfrm>
              <a:off x="1066680" y="3857760"/>
              <a:ext cx="8076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1981080" y="3990960"/>
              <a:ext cx="6248160" cy="1268640"/>
              <a:chOff x="1981080" y="3990960"/>
              <a:chExt cx="6248160" cy="1268640"/>
            </a:xfrm>
          </p:grpSpPr>
          <p:sp>
            <p:nvSpPr>
              <p:cNvPr id="668" name=""/>
              <p:cNvSpPr/>
              <p:nvPr/>
            </p:nvSpPr>
            <p:spPr>
              <a:xfrm>
                <a:off x="4152600" y="3990960"/>
                <a:ext cx="194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8,200</a:t>
                </a:r>
                <a:endParaRPr b="0" lang="en-US" sz="3200" spc="-1" strike="noStrike">
                  <a:solidFill>
                    <a:srgbClr val="000000"/>
                  </a:solidFill>
                  <a:latin typeface="Times New Roman"/>
                </a:endParaRPr>
              </a:p>
            </p:txBody>
          </p:sp>
          <p:sp>
            <p:nvSpPr>
              <p:cNvPr id="669" name=""/>
              <p:cNvSpPr/>
              <p:nvPr/>
            </p:nvSpPr>
            <p:spPr>
              <a:xfrm>
                <a:off x="6343560" y="3990960"/>
                <a:ext cx="186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8,500</a:t>
                </a:r>
                <a:endParaRPr b="0" lang="en-US" sz="3200" spc="-1" strike="noStrike">
                  <a:solidFill>
                    <a:srgbClr val="000000"/>
                  </a:solidFill>
                  <a:latin typeface="Times New Roman"/>
                </a:endParaRPr>
              </a:p>
            </p:txBody>
          </p:sp>
          <p:sp>
            <p:nvSpPr>
              <p:cNvPr id="670" name=""/>
              <p:cNvSpPr/>
              <p:nvPr/>
            </p:nvSpPr>
            <p:spPr>
              <a:xfrm>
                <a:off x="1981080" y="4676760"/>
                <a:ext cx="1933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0,500</a:t>
                </a:r>
                <a:endParaRPr b="0" lang="en-US" sz="3200" spc="-1" strike="noStrike">
                  <a:solidFill>
                    <a:srgbClr val="000000"/>
                  </a:solidFill>
                  <a:latin typeface="Times New Roman"/>
                </a:endParaRPr>
              </a:p>
            </p:txBody>
          </p:sp>
          <p:sp>
            <p:nvSpPr>
              <p:cNvPr id="671" name=""/>
              <p:cNvSpPr/>
              <p:nvPr/>
            </p:nvSpPr>
            <p:spPr>
              <a:xfrm>
                <a:off x="4173120" y="4678200"/>
                <a:ext cx="190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2,250</a:t>
                </a:r>
                <a:endParaRPr b="0" lang="en-US" sz="3200" spc="-1" strike="noStrike">
                  <a:solidFill>
                    <a:srgbClr val="000000"/>
                  </a:solidFill>
                  <a:latin typeface="Times New Roman"/>
                </a:endParaRPr>
              </a:p>
            </p:txBody>
          </p:sp>
          <p:sp>
            <p:nvSpPr>
              <p:cNvPr id="672" name=""/>
              <p:cNvSpPr/>
              <p:nvPr/>
            </p:nvSpPr>
            <p:spPr>
              <a:xfrm>
                <a:off x="6324480" y="4676760"/>
                <a:ext cx="1904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5,000</a:t>
                </a:r>
                <a:endParaRPr b="0" lang="en-US" sz="3200" spc="-1" strike="noStrike">
                  <a:solidFill>
                    <a:srgbClr val="000000"/>
                  </a:solidFill>
                  <a:latin typeface="Times New Roman"/>
                </a:endParaRPr>
              </a:p>
            </p:txBody>
          </p:sp>
          <p:sp>
            <p:nvSpPr>
              <p:cNvPr id="673" name=""/>
              <p:cNvSpPr/>
              <p:nvPr/>
            </p:nvSpPr>
            <p:spPr>
              <a:xfrm>
                <a:off x="1981080" y="3990960"/>
                <a:ext cx="1933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7,750</a:t>
                </a:r>
                <a:endParaRPr b="0" lang="en-US" sz="3200" spc="-1" strike="noStrike">
                  <a:solidFill>
                    <a:srgbClr val="000000"/>
                  </a:solidFill>
                  <a:latin typeface="Times New Roman"/>
                </a:endParaRPr>
              </a:p>
            </p:txBody>
          </p:sp>
        </p:grpSp>
      </p:grpSp>
      <p:grpSp>
        <p:nvGrpSpPr>
          <p:cNvPr id="674" name=""/>
          <p:cNvGrpSpPr/>
          <p:nvPr/>
        </p:nvGrpSpPr>
        <p:grpSpPr>
          <a:xfrm>
            <a:off x="2038320" y="3857760"/>
            <a:ext cx="6264000" cy="1476360"/>
            <a:chOff x="2038320" y="3857760"/>
            <a:chExt cx="6264000" cy="1476360"/>
          </a:xfrm>
        </p:grpSpPr>
        <p:sp>
          <p:nvSpPr>
            <p:cNvPr id="675" name=""/>
            <p:cNvSpPr/>
            <p:nvPr/>
          </p:nvSpPr>
          <p:spPr>
            <a:xfrm>
              <a:off x="6381720" y="3857760"/>
              <a:ext cx="1920600" cy="790560"/>
            </a:xfrm>
            <a:prstGeom prst="ellipse">
              <a:avLst/>
            </a:prstGeom>
            <a:noFill/>
            <a:ln w="381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038320" y="4543560"/>
              <a:ext cx="1920600" cy="790560"/>
            </a:xfrm>
            <a:prstGeom prst="ellipse">
              <a:avLst/>
            </a:prstGeom>
            <a:noFill/>
            <a:ln w="381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198360" y="1007640"/>
            <a:ext cx="2289240" cy="1361880"/>
            <a:chOff x="198360" y="1007640"/>
            <a:chExt cx="2289240" cy="1361880"/>
          </a:xfrm>
        </p:grpSpPr>
        <p:sp>
          <p:nvSpPr>
            <p:cNvPr id="678" name=""/>
            <p:cNvSpPr/>
            <p:nvPr/>
          </p:nvSpPr>
          <p:spPr>
            <a:xfrm rot="20897400">
              <a:off x="236160" y="1280880"/>
              <a:ext cx="2057400" cy="38412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rot="20897400">
              <a:off x="272160" y="1214640"/>
              <a:ext cx="214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a:t>
              </a:r>
              <a:endParaRPr b="0" lang="en-US" sz="2800" spc="-1" strike="noStrike">
                <a:solidFill>
                  <a:srgbClr val="000000"/>
                </a:solidFill>
                <a:latin typeface="Times New Roman"/>
              </a:endParaRPr>
            </a:p>
          </p:txBody>
        </p:sp>
      </p:grpSp>
      <p:pic>
        <p:nvPicPr>
          <p:cNvPr id="680" name="" descr=""/>
          <p:cNvPicPr/>
          <p:nvPr/>
        </p:nvPicPr>
        <p:blipFill>
          <a:blip r:embed="rId1"/>
          <a:stretch/>
        </p:blipFill>
        <p:spPr>
          <a:xfrm>
            <a:off x="336600" y="2538360"/>
            <a:ext cx="1701720" cy="1165320"/>
          </a:xfrm>
          <a:prstGeom prst="rect">
            <a:avLst/>
          </a:prstGeom>
          <a:ln w="0">
            <a:noFill/>
          </a:ln>
        </p:spPr>
      </p:pic>
    </p:spTree>
  </p:cSld>
  <p:transition>
    <p:pull dir="l"/>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665"/>
                                        </p:tgtEl>
                                        <p:attrNameLst>
                                          <p:attrName>style.visibility</p:attrName>
                                        </p:attrNameLst>
                                      </p:cBhvr>
                                      <p:to>
                                        <p:strVal val="visible"/>
                                      </p:to>
                                    </p:set>
                                    <p:animEffect filter="wipe(left)" transition="in">
                                      <p:cBhvr additive="repl">
                                        <p:cTn id="390" dur="500"/>
                                        <p:tgtEl>
                                          <p:spTgt spid="66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674"/>
                                        </p:tgtEl>
                                        <p:attrNameLst>
                                          <p:attrName>style.visibility</p:attrName>
                                        </p:attrNameLst>
                                      </p:cBhvr>
                                      <p:to>
                                        <p:strVal val="visible"/>
                                      </p:to>
                                    </p:set>
                                    <p:animEffect filter="dissolve" transition="in">
                                      <p:cBhvr additive="repl">
                                        <p:cTn id="395" dur="500"/>
                                        <p:tgtEl>
                                          <p:spTgt spid="674"/>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54"/>
                                        </p:tgtEl>
                                        <p:attrNameLst>
                                          <p:attrName>style.visibility</p:attrName>
                                        </p:attrNameLst>
                                      </p:cBhvr>
                                      <p:to>
                                        <p:strVal val="visible"/>
                                      </p:to>
                                    </p:set>
                                    <p:animEffect filter="wipe(left)" transition="in">
                                      <p:cBhvr additive="repl">
                                        <p:cTn id="400"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1" name=""/>
          <p:cNvSpPr/>
          <p:nvPr/>
        </p:nvSpPr>
        <p:spPr>
          <a:xfrm>
            <a:off x="574560" y="1447920"/>
            <a:ext cx="1546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a:t>
            </a:r>
            <a:endParaRPr b="0" lang="en-US" sz="4000" spc="-1" strike="noStrike">
              <a:solidFill>
                <a:srgbClr val="000000"/>
              </a:solidFill>
              <a:latin typeface="Times New Roman"/>
            </a:endParaRPr>
          </a:p>
        </p:txBody>
      </p:sp>
      <p:sp>
        <p:nvSpPr>
          <p:cNvPr id="682"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
        <p:nvSpPr>
          <p:cNvPr id="683" name=""/>
          <p:cNvSpPr/>
          <p:nvPr/>
        </p:nvSpPr>
        <p:spPr>
          <a:xfrm>
            <a:off x="609480" y="2133720"/>
            <a:ext cx="784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ode in a list of numbers is the number that occurs most often, if there is one. </a:t>
            </a:r>
            <a:endParaRPr b="0" lang="en-US" sz="4000" spc="-1" strike="noStrike">
              <a:solidFill>
                <a:srgbClr val="000000"/>
              </a:solidFill>
              <a:latin typeface="Times New Roman"/>
            </a:endParaRPr>
          </a:p>
        </p:txBody>
      </p:sp>
      <p:sp>
        <p:nvSpPr>
          <p:cNvPr id="684" name=""/>
          <p:cNvSpPr/>
          <p:nvPr/>
        </p:nvSpPr>
        <p:spPr>
          <a:xfrm>
            <a:off x="609480" y="4508640"/>
            <a:ext cx="7696440" cy="1739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udents have the following ages: </a:t>
            </a:r>
            <a:br>
              <a:rPr sz="3600"/>
            </a:br>
            <a:r>
              <a:rPr b="0" lang="en-US" sz="3600" spc="-1" strike="noStrike">
                <a:solidFill>
                  <a:srgbClr val="000000"/>
                </a:solidFill>
                <a:latin typeface="Comic Sans MS"/>
              </a:rPr>
              <a:t>5, 9, 1, 3, 4, 6, 6, 6, 7, 3. </a:t>
            </a:r>
            <a:br>
              <a:rPr sz="3600"/>
            </a:br>
            <a:r>
              <a:rPr b="0" lang="en-US" sz="3600" spc="-1" strike="noStrike">
                <a:solidFill>
                  <a:srgbClr val="000000"/>
                </a:solidFill>
                <a:latin typeface="Comic Sans MS"/>
              </a:rPr>
              <a:t>The mode of their ages is 6. </a:t>
            </a:r>
            <a:endParaRPr b="0" lang="en-US" sz="3600" spc="-1" strike="noStrike">
              <a:solidFill>
                <a:srgbClr val="000000"/>
              </a:solidFill>
              <a:latin typeface="Times New Roman"/>
            </a:endParaRPr>
          </a:p>
        </p:txBody>
      </p:sp>
      <p:sp>
        <p:nvSpPr>
          <p:cNvPr id="685" name=""/>
          <p:cNvSpPr/>
          <p:nvPr/>
        </p:nvSpPr>
        <p:spPr>
          <a:xfrm>
            <a:off x="609480" y="4495680"/>
            <a:ext cx="7696440" cy="1739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tudents have the following ages: </a:t>
            </a:r>
            <a:br>
              <a:rPr sz="3600"/>
            </a:br>
            <a:r>
              <a:rPr b="0" lang="en-US" sz="3600" spc="-1" strike="noStrike">
                <a:solidFill>
                  <a:srgbClr val="000000"/>
                </a:solidFill>
                <a:latin typeface="Comic Sans MS"/>
              </a:rPr>
              <a:t>5, 9, 1, 3, 4, </a:t>
            </a:r>
            <a:r>
              <a:rPr b="0" lang="en-US" sz="3600" spc="-1" strike="noStrike">
                <a:solidFill>
                  <a:srgbClr val="3333cc"/>
                </a:solidFill>
                <a:latin typeface="Comic Sans MS"/>
              </a:rPr>
              <a:t>6, 6, 6</a:t>
            </a:r>
            <a:r>
              <a:rPr b="0" lang="en-US" sz="3600" spc="-1" strike="noStrike">
                <a:solidFill>
                  <a:srgbClr val="000000"/>
                </a:solidFill>
                <a:latin typeface="Comic Sans MS"/>
              </a:rPr>
              <a:t>, 7, 3. </a:t>
            </a:r>
            <a:br>
              <a:rPr sz="3600"/>
            </a:br>
            <a:r>
              <a:rPr b="0" lang="en-US" sz="3600" spc="-1" strike="noStrike">
                <a:solidFill>
                  <a:srgbClr val="000000"/>
                </a:solidFill>
                <a:latin typeface="Comic Sans MS"/>
              </a:rPr>
              <a:t>The mode of their ages is</a:t>
            </a:r>
            <a:r>
              <a:rPr b="0" lang="en-US" sz="3600" spc="-1" strike="noStrike">
                <a:solidFill>
                  <a:srgbClr val="3333cc"/>
                </a:solidFill>
                <a:latin typeface="Comic Sans MS"/>
              </a:rPr>
              <a:t> 6</a:t>
            </a:r>
            <a:r>
              <a:rPr b="0" lang="en-US" sz="3600" spc="-1" strike="noStrike">
                <a:solidFill>
                  <a:srgbClr val="000000"/>
                </a:solidFill>
                <a:latin typeface="Comic Sans MS"/>
              </a:rPr>
              <a:t>. </a:t>
            </a:r>
            <a:endParaRPr b="0" lang="en-US" sz="36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685"/>
                                        </p:tgtEl>
                                        <p:attrNameLst>
                                          <p:attrName>style.visibility</p:attrName>
                                        </p:attrNameLst>
                                      </p:cBhvr>
                                      <p:to>
                                        <p:strVal val="visible"/>
                                      </p:to>
                                    </p:set>
                                    <p:animEffect filter="dissolve" transition="in">
                                      <p:cBhvr additive="repl">
                                        <p:cTn id="407"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6"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
        <p:nvSpPr>
          <p:cNvPr id="687" name=""/>
          <p:cNvSpPr/>
          <p:nvPr/>
        </p:nvSpPr>
        <p:spPr>
          <a:xfrm>
            <a:off x="3809880" y="1371600"/>
            <a:ext cx="1600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Comic Sans MS"/>
              </a:rPr>
              <a:t>Rule</a:t>
            </a:r>
            <a:endParaRPr b="0" lang="en-US" sz="4800" spc="-1" strike="noStrike">
              <a:solidFill>
                <a:srgbClr val="000000"/>
              </a:solidFill>
              <a:latin typeface="Times New Roman"/>
            </a:endParaRPr>
          </a:p>
        </p:txBody>
      </p:sp>
      <p:sp>
        <p:nvSpPr>
          <p:cNvPr id="688" name=""/>
          <p:cNvSpPr/>
          <p:nvPr/>
        </p:nvSpPr>
        <p:spPr>
          <a:xfrm>
            <a:off x="762120" y="220968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find the mode in a set of numbers:</a:t>
            </a:r>
            <a:endParaRPr b="0" lang="en-US" sz="3200" spc="-1" strike="noStrike">
              <a:solidFill>
                <a:srgbClr val="000000"/>
              </a:solidFill>
              <a:latin typeface="Times New Roman"/>
            </a:endParaRPr>
          </a:p>
        </p:txBody>
      </p:sp>
      <p:sp>
        <p:nvSpPr>
          <p:cNvPr id="689" name=""/>
          <p:cNvSpPr/>
          <p:nvPr/>
        </p:nvSpPr>
        <p:spPr>
          <a:xfrm>
            <a:off x="914400" y="2879640"/>
            <a:ext cx="7315200" cy="3072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87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ount the number of repetitions of each number. The number with the most repetitions is the mode.</a:t>
            </a:r>
            <a:endParaRPr b="0" lang="en-US" sz="3000" spc="-1" strike="noStrike">
              <a:solidFill>
                <a:srgbClr val="000000"/>
              </a:solidFill>
              <a:latin typeface="Times New Roman"/>
            </a:endParaRPr>
          </a:p>
          <a:p>
            <a:pPr marL="457200" indent="-457200">
              <a:lnSpc>
                <a:spcPct val="100000"/>
              </a:lnSpc>
              <a:spcBef>
                <a:spcPts val="187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f no score is repeated, there is no mode. If there is a tie, write each number as a mode.</a:t>
            </a:r>
            <a:endParaRPr b="0" lang="en-US" sz="3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3" presetSubtype="16">
                                  <p:stCondLst>
                                    <p:cond delay="0"/>
                                  </p:stCondLst>
                                  <p:childTnLst>
                                    <p:set>
                                      <p:cBhvr>
                                        <p:cTn id="413" dur="1" fill="hold">
                                          <p:stCondLst>
                                            <p:cond delay="0"/>
                                          </p:stCondLst>
                                        </p:cTn>
                                        <p:tgtEl>
                                          <p:spTgt spid="689">
                                            <p:txEl>
                                              <p:pRg st="0" end="0"/>
                                            </p:txEl>
                                          </p:spTgt>
                                        </p:tgtEl>
                                        <p:attrNameLst>
                                          <p:attrName>style.visibility</p:attrName>
                                        </p:attrNameLst>
                                      </p:cBhvr>
                                      <p:to>
                                        <p:strVal val="visible"/>
                                      </p:to>
                                    </p:set>
                                    <p:anim calcmode="lin" valueType="num">
                                      <p:cBhvr additive="repl">
                                        <p:cTn id="414" dur="500" fill="hold"/>
                                        <p:tgtEl>
                                          <p:spTgt spid="689">
                                            <p:txEl>
                                              <p:pRg st="0" end="0"/>
                                            </p:txEl>
                                          </p:spTgt>
                                        </p:tgtEl>
                                        <p:attrNameLst>
                                          <p:attrName>ppt_w</p:attrName>
                                        </p:attrNameLst>
                                      </p:cBhvr>
                                      <p:tavLst>
                                        <p:tav tm="0">
                                          <p:val>
                                            <p:fltVal val="0"/>
                                          </p:val>
                                        </p:tav>
                                        <p:tav tm="100000">
                                          <p:val>
                                            <p:strVal val="#ppt_w"/>
                                          </p:val>
                                        </p:tav>
                                      </p:tavLst>
                                    </p:anim>
                                    <p:anim calcmode="lin" valueType="num">
                                      <p:cBhvr additive="repl">
                                        <p:cTn id="415" dur="500" fill="hold"/>
                                        <p:tgtEl>
                                          <p:spTgt spid="68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3" presetSubtype="16">
                                  <p:stCondLst>
                                    <p:cond delay="0"/>
                                  </p:stCondLst>
                                  <p:childTnLst>
                                    <p:set>
                                      <p:cBhvr>
                                        <p:cTn id="419" dur="1" fill="hold">
                                          <p:stCondLst>
                                            <p:cond delay="0"/>
                                          </p:stCondLst>
                                        </p:cTn>
                                        <p:tgtEl>
                                          <p:spTgt spid="689">
                                            <p:txEl>
                                              <p:pRg st="1" end="1"/>
                                            </p:txEl>
                                          </p:spTgt>
                                        </p:tgtEl>
                                        <p:attrNameLst>
                                          <p:attrName>style.visibility</p:attrName>
                                        </p:attrNameLst>
                                      </p:cBhvr>
                                      <p:to>
                                        <p:strVal val="visible"/>
                                      </p:to>
                                    </p:set>
                                    <p:anim calcmode="lin" valueType="num">
                                      <p:cBhvr additive="repl">
                                        <p:cTn id="420" dur="500" fill="hold"/>
                                        <p:tgtEl>
                                          <p:spTgt spid="689">
                                            <p:txEl>
                                              <p:pRg st="1" end="1"/>
                                            </p:txEl>
                                          </p:spTgt>
                                        </p:tgtEl>
                                        <p:attrNameLst>
                                          <p:attrName>ppt_w</p:attrName>
                                        </p:attrNameLst>
                                      </p:cBhvr>
                                      <p:tavLst>
                                        <p:tav tm="0">
                                          <p:val>
                                            <p:fltVal val="0"/>
                                          </p:val>
                                        </p:tav>
                                        <p:tav tm="100000">
                                          <p:val>
                                            <p:strVal val="#ppt_w"/>
                                          </p:val>
                                        </p:tav>
                                      </p:tavLst>
                                    </p:anim>
                                    <p:anim calcmode="lin" valueType="num">
                                      <p:cBhvr additive="repl">
                                        <p:cTn id="421" dur="500" fill="hold"/>
                                        <p:tgtEl>
                                          <p:spTgt spid="68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690" name=""/>
          <p:cNvGrpSpPr/>
          <p:nvPr/>
        </p:nvGrpSpPr>
        <p:grpSpPr>
          <a:xfrm>
            <a:off x="1371600" y="3854520"/>
            <a:ext cx="6343560" cy="1472760"/>
            <a:chOff x="1371600" y="3854520"/>
            <a:chExt cx="6343560" cy="1472760"/>
          </a:xfrm>
        </p:grpSpPr>
        <p:sp>
          <p:nvSpPr>
            <p:cNvPr id="691" name=""/>
            <p:cNvSpPr/>
            <p:nvPr/>
          </p:nvSpPr>
          <p:spPr>
            <a:xfrm>
              <a:off x="2514600" y="385452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50</a:t>
              </a:r>
              <a:endParaRPr b="0" lang="en-US" sz="3600" spc="-1" strike="noStrike">
                <a:solidFill>
                  <a:srgbClr val="000000"/>
                </a:solidFill>
                <a:latin typeface="Times New Roman"/>
              </a:endParaRPr>
            </a:p>
          </p:txBody>
        </p:sp>
        <p:sp>
          <p:nvSpPr>
            <p:cNvPr id="692" name=""/>
            <p:cNvSpPr/>
            <p:nvPr/>
          </p:nvSpPr>
          <p:spPr>
            <a:xfrm>
              <a:off x="4343400" y="385452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50</a:t>
              </a:r>
              <a:endParaRPr b="0" lang="en-US" sz="3600" spc="-1" strike="noStrike">
                <a:solidFill>
                  <a:srgbClr val="000000"/>
                </a:solidFill>
                <a:latin typeface="Times New Roman"/>
              </a:endParaRPr>
            </a:p>
          </p:txBody>
        </p:sp>
        <p:sp>
          <p:nvSpPr>
            <p:cNvPr id="693" name=""/>
            <p:cNvSpPr/>
            <p:nvPr/>
          </p:nvSpPr>
          <p:spPr>
            <a:xfrm>
              <a:off x="6191280" y="3854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50</a:t>
              </a:r>
              <a:endParaRPr b="0" lang="en-US" sz="3600" spc="-1" strike="noStrike">
                <a:solidFill>
                  <a:srgbClr val="000000"/>
                </a:solidFill>
                <a:latin typeface="Times New Roman"/>
              </a:endParaRPr>
            </a:p>
          </p:txBody>
        </p:sp>
        <p:sp>
          <p:nvSpPr>
            <p:cNvPr id="694" name=""/>
            <p:cNvSpPr/>
            <p:nvPr/>
          </p:nvSpPr>
          <p:spPr>
            <a:xfrm>
              <a:off x="1371600" y="38545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a:t>
              </a:r>
              <a:endParaRPr b="0" lang="en-US" sz="3600" spc="-1" strike="noStrike">
                <a:solidFill>
                  <a:srgbClr val="000000"/>
                </a:solidFill>
                <a:latin typeface="Times New Roman"/>
              </a:endParaRPr>
            </a:p>
          </p:txBody>
        </p:sp>
        <p:sp>
          <p:nvSpPr>
            <p:cNvPr id="695" name=""/>
            <p:cNvSpPr/>
            <p:nvPr/>
          </p:nvSpPr>
          <p:spPr>
            <a:xfrm>
              <a:off x="1828800" y="46782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75</a:t>
              </a:r>
              <a:endParaRPr b="0" lang="en-US" sz="3600" spc="-1" strike="noStrike">
                <a:solidFill>
                  <a:srgbClr val="000000"/>
                </a:solidFill>
                <a:latin typeface="Times New Roman"/>
              </a:endParaRPr>
            </a:p>
          </p:txBody>
        </p:sp>
        <p:sp>
          <p:nvSpPr>
            <p:cNvPr id="696" name=""/>
            <p:cNvSpPr/>
            <p:nvPr/>
          </p:nvSpPr>
          <p:spPr>
            <a:xfrm>
              <a:off x="3733920" y="467820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0.50</a:t>
              </a:r>
              <a:endParaRPr b="0" lang="en-US" sz="3600" spc="-1" strike="noStrike">
                <a:solidFill>
                  <a:srgbClr val="000000"/>
                </a:solidFill>
                <a:latin typeface="Times New Roman"/>
              </a:endParaRPr>
            </a:p>
          </p:txBody>
        </p:sp>
        <p:sp>
          <p:nvSpPr>
            <p:cNvPr id="697" name=""/>
            <p:cNvSpPr/>
            <p:nvPr/>
          </p:nvSpPr>
          <p:spPr>
            <a:xfrm>
              <a:off x="5715000" y="46846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50</a:t>
              </a:r>
              <a:endParaRPr b="0" lang="en-US" sz="3600" spc="-1" strike="noStrike">
                <a:solidFill>
                  <a:srgbClr val="000000"/>
                </a:solidFill>
                <a:latin typeface="Times New Roman"/>
              </a:endParaRPr>
            </a:p>
          </p:txBody>
        </p:sp>
      </p:grpSp>
      <p:grpSp>
        <p:nvGrpSpPr>
          <p:cNvPr id="698" name=""/>
          <p:cNvGrpSpPr/>
          <p:nvPr/>
        </p:nvGrpSpPr>
        <p:grpSpPr>
          <a:xfrm>
            <a:off x="2514600" y="3854520"/>
            <a:ext cx="5200560" cy="1474560"/>
            <a:chOff x="2514600" y="3854520"/>
            <a:chExt cx="5200560" cy="1474560"/>
          </a:xfrm>
        </p:grpSpPr>
        <p:sp>
          <p:nvSpPr>
            <p:cNvPr id="699" name=""/>
            <p:cNvSpPr/>
            <p:nvPr/>
          </p:nvSpPr>
          <p:spPr>
            <a:xfrm>
              <a:off x="2514600" y="385452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8.50</a:t>
              </a:r>
              <a:endParaRPr b="0" lang="en-US" sz="3600" spc="-1" strike="noStrike">
                <a:solidFill>
                  <a:srgbClr val="000000"/>
                </a:solidFill>
                <a:latin typeface="Times New Roman"/>
              </a:endParaRPr>
            </a:p>
          </p:txBody>
        </p:sp>
        <p:sp>
          <p:nvSpPr>
            <p:cNvPr id="700" name=""/>
            <p:cNvSpPr/>
            <p:nvPr/>
          </p:nvSpPr>
          <p:spPr>
            <a:xfrm>
              <a:off x="6191280" y="385452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8.50</a:t>
              </a:r>
              <a:endParaRPr b="0" lang="en-US" sz="3600" spc="-1" strike="noStrike">
                <a:solidFill>
                  <a:srgbClr val="000000"/>
                </a:solidFill>
                <a:latin typeface="Times New Roman"/>
              </a:endParaRPr>
            </a:p>
          </p:txBody>
        </p:sp>
        <p:sp>
          <p:nvSpPr>
            <p:cNvPr id="701" name=""/>
            <p:cNvSpPr/>
            <p:nvPr/>
          </p:nvSpPr>
          <p:spPr>
            <a:xfrm>
              <a:off x="5715000" y="468648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8.50</a:t>
              </a:r>
              <a:endParaRPr b="0" lang="en-US" sz="3600" spc="-1" strike="noStrike">
                <a:solidFill>
                  <a:srgbClr val="000000"/>
                </a:solidFill>
                <a:latin typeface="Times New Roman"/>
              </a:endParaRPr>
            </a:p>
          </p:txBody>
        </p:sp>
      </p:grpSp>
      <p:sp>
        <p:nvSpPr>
          <p:cNvPr id="702"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
        <p:nvSpPr>
          <p:cNvPr id="703" name=""/>
          <p:cNvSpPr/>
          <p:nvPr/>
        </p:nvSpPr>
        <p:spPr>
          <a:xfrm>
            <a:off x="2514600" y="316872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Comic Sans MS"/>
              </a:rPr>
              <a:t>Entreé prices:</a:t>
            </a:r>
            <a:endParaRPr b="0" lang="en-US" sz="3600" spc="-1" strike="noStrike">
              <a:solidFill>
                <a:srgbClr val="000000"/>
              </a:solidFill>
              <a:latin typeface="Times New Roman"/>
            </a:endParaRPr>
          </a:p>
        </p:txBody>
      </p:sp>
      <p:sp>
        <p:nvSpPr>
          <p:cNvPr id="704" name=""/>
          <p:cNvSpPr/>
          <p:nvPr/>
        </p:nvSpPr>
        <p:spPr>
          <a:xfrm>
            <a:off x="2971800" y="560700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de = </a:t>
            </a:r>
            <a:r>
              <a:rPr b="0" lang="en-US" sz="3600" spc="-1" strike="noStrike">
                <a:solidFill>
                  <a:srgbClr val="0000ff"/>
                </a:solidFill>
                <a:latin typeface="Comic Sans MS"/>
              </a:rPr>
              <a:t>$8.50</a:t>
            </a:r>
            <a:endParaRPr b="0" lang="en-US" sz="3600" spc="-1" strike="noStrike">
              <a:solidFill>
                <a:srgbClr val="000000"/>
              </a:solidFill>
              <a:latin typeface="Times New Roman"/>
            </a:endParaRPr>
          </a:p>
        </p:txBody>
      </p:sp>
      <p:pic>
        <p:nvPicPr>
          <p:cNvPr id="705" name="" descr=""/>
          <p:cNvPicPr/>
          <p:nvPr/>
        </p:nvPicPr>
        <p:blipFill>
          <a:blip r:embed="rId1"/>
          <a:stretch/>
        </p:blipFill>
        <p:spPr>
          <a:xfrm>
            <a:off x="2400480" y="1373040"/>
            <a:ext cx="4381200" cy="1795680"/>
          </a:xfrm>
          <a:prstGeom prst="rect">
            <a:avLst/>
          </a:prstGeom>
          <a:ln w="0">
            <a:noFill/>
          </a:ln>
        </p:spPr>
      </p:pic>
      <p:grpSp>
        <p:nvGrpSpPr>
          <p:cNvPr id="706" name=""/>
          <p:cNvGrpSpPr/>
          <p:nvPr/>
        </p:nvGrpSpPr>
        <p:grpSpPr>
          <a:xfrm>
            <a:off x="198360" y="1007640"/>
            <a:ext cx="2289240" cy="1361880"/>
            <a:chOff x="198360" y="1007640"/>
            <a:chExt cx="2289240" cy="1361880"/>
          </a:xfrm>
        </p:grpSpPr>
        <p:sp>
          <p:nvSpPr>
            <p:cNvPr id="707" name=""/>
            <p:cNvSpPr/>
            <p:nvPr/>
          </p:nvSpPr>
          <p:spPr>
            <a:xfrm rot="20897400">
              <a:off x="236160" y="1280880"/>
              <a:ext cx="2057400" cy="38412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rot="20897400">
              <a:off x="272160" y="1214640"/>
              <a:ext cx="214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a:t>
              </a:r>
              <a:endParaRPr b="0" lang="en-US" sz="2800" spc="-1" strike="noStrike">
                <a:solidFill>
                  <a:srgbClr val="000000"/>
                </a:solidFill>
                <a:latin typeface="Times New Roman"/>
              </a:endParaRPr>
            </a:p>
          </p:txBody>
        </p:sp>
      </p:grpSp>
    </p:spTree>
  </p:cSld>
  <p:transition>
    <p:pull dir="l"/>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690"/>
                                        </p:tgtEl>
                                        <p:attrNameLst>
                                          <p:attrName>style.visibility</p:attrName>
                                        </p:attrNameLst>
                                      </p:cBhvr>
                                      <p:to>
                                        <p:strVal val="visible"/>
                                      </p:to>
                                    </p:set>
                                    <p:animEffect filter="wipe(up)" transition="in">
                                      <p:cBhvr additive="repl">
                                        <p:cTn id="428" dur="500"/>
                                        <p:tgtEl>
                                          <p:spTgt spid="690"/>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698"/>
                                        </p:tgtEl>
                                        <p:attrNameLst>
                                          <p:attrName>style.visibility</p:attrName>
                                        </p:attrNameLst>
                                      </p:cBhvr>
                                      <p:to>
                                        <p:strVal val="visible"/>
                                      </p:to>
                                    </p:set>
                                    <p:animEffect filter="dissolve" transition="in">
                                      <p:cBhvr additive="repl">
                                        <p:cTn id="433" dur="500"/>
                                        <p:tgtEl>
                                          <p:spTgt spid="698"/>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3" presetSubtype="16">
                                  <p:stCondLst>
                                    <p:cond delay="0"/>
                                  </p:stCondLst>
                                  <p:childTnLst>
                                    <p:set>
                                      <p:cBhvr>
                                        <p:cTn id="437" dur="1" fill="hold">
                                          <p:stCondLst>
                                            <p:cond delay="0"/>
                                          </p:stCondLst>
                                        </p:cTn>
                                        <p:tgtEl>
                                          <p:spTgt spid="704"/>
                                        </p:tgtEl>
                                        <p:attrNameLst>
                                          <p:attrName>style.visibility</p:attrName>
                                        </p:attrNameLst>
                                      </p:cBhvr>
                                      <p:to>
                                        <p:strVal val="visible"/>
                                      </p:to>
                                    </p:set>
                                    <p:anim calcmode="lin" valueType="num">
                                      <p:cBhvr additive="repl">
                                        <p:cTn id="438" dur="500" fill="hold"/>
                                        <p:tgtEl>
                                          <p:spTgt spid="704"/>
                                        </p:tgtEl>
                                        <p:attrNameLst>
                                          <p:attrName>ppt_w</p:attrName>
                                        </p:attrNameLst>
                                      </p:cBhvr>
                                      <p:tavLst>
                                        <p:tav tm="0">
                                          <p:val>
                                            <p:fltVal val="0"/>
                                          </p:val>
                                        </p:tav>
                                        <p:tav tm="100000">
                                          <p:val>
                                            <p:strVal val="#ppt_w"/>
                                          </p:val>
                                        </p:tav>
                                      </p:tavLst>
                                    </p:anim>
                                    <p:anim calcmode="lin" valueType="num">
                                      <p:cBhvr additive="repl">
                                        <p:cTn id="43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709" name=""/>
          <p:cNvGrpSpPr/>
          <p:nvPr/>
        </p:nvGrpSpPr>
        <p:grpSpPr>
          <a:xfrm>
            <a:off x="1380960" y="2590920"/>
            <a:ext cx="6382080" cy="1476000"/>
            <a:chOff x="1380960" y="2590920"/>
            <a:chExt cx="6382080" cy="1476000"/>
          </a:xfrm>
        </p:grpSpPr>
        <p:sp>
          <p:nvSpPr>
            <p:cNvPr id="710" name=""/>
            <p:cNvSpPr/>
            <p:nvPr/>
          </p:nvSpPr>
          <p:spPr>
            <a:xfrm>
              <a:off x="3057480" y="259092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20</a:t>
              </a:r>
              <a:endParaRPr b="0" lang="en-US" sz="3600" spc="-1" strike="noStrike">
                <a:solidFill>
                  <a:srgbClr val="000000"/>
                </a:solidFill>
                <a:latin typeface="Times New Roman"/>
              </a:endParaRPr>
            </a:p>
          </p:txBody>
        </p:sp>
        <p:sp>
          <p:nvSpPr>
            <p:cNvPr id="711" name=""/>
            <p:cNvSpPr/>
            <p:nvPr/>
          </p:nvSpPr>
          <p:spPr>
            <a:xfrm>
              <a:off x="4743360" y="259092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60</a:t>
              </a:r>
              <a:endParaRPr b="0" lang="en-US" sz="3600" spc="-1" strike="noStrike">
                <a:solidFill>
                  <a:srgbClr val="000000"/>
                </a:solidFill>
                <a:latin typeface="Times New Roman"/>
              </a:endParaRPr>
            </a:p>
          </p:txBody>
        </p:sp>
        <p:sp>
          <p:nvSpPr>
            <p:cNvPr id="712" name=""/>
            <p:cNvSpPr/>
            <p:nvPr/>
          </p:nvSpPr>
          <p:spPr>
            <a:xfrm>
              <a:off x="6334200" y="2590920"/>
              <a:ext cx="142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20</a:t>
              </a:r>
              <a:endParaRPr b="0" lang="en-US" sz="3600" spc="-1" strike="noStrike">
                <a:solidFill>
                  <a:srgbClr val="000000"/>
                </a:solidFill>
                <a:latin typeface="Times New Roman"/>
              </a:endParaRPr>
            </a:p>
          </p:txBody>
        </p:sp>
        <p:sp>
          <p:nvSpPr>
            <p:cNvPr id="713" name=""/>
            <p:cNvSpPr/>
            <p:nvPr/>
          </p:nvSpPr>
          <p:spPr>
            <a:xfrm>
              <a:off x="1380960" y="259092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50</a:t>
              </a:r>
              <a:endParaRPr b="0" lang="en-US" sz="3600" spc="-1" strike="noStrike">
                <a:solidFill>
                  <a:srgbClr val="000000"/>
                </a:solidFill>
                <a:latin typeface="Times New Roman"/>
              </a:endParaRPr>
            </a:p>
          </p:txBody>
        </p:sp>
        <p:sp>
          <p:nvSpPr>
            <p:cNvPr id="714" name=""/>
            <p:cNvSpPr/>
            <p:nvPr/>
          </p:nvSpPr>
          <p:spPr>
            <a:xfrm>
              <a:off x="1523880" y="342108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90</a:t>
              </a:r>
              <a:endParaRPr b="0" lang="en-US" sz="3600" spc="-1" strike="noStrike">
                <a:solidFill>
                  <a:srgbClr val="000000"/>
                </a:solidFill>
                <a:latin typeface="Times New Roman"/>
              </a:endParaRPr>
            </a:p>
          </p:txBody>
        </p:sp>
        <p:sp>
          <p:nvSpPr>
            <p:cNvPr id="715" name=""/>
            <p:cNvSpPr/>
            <p:nvPr/>
          </p:nvSpPr>
          <p:spPr>
            <a:xfrm>
              <a:off x="3124080" y="342432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50</a:t>
              </a:r>
              <a:endParaRPr b="0" lang="en-US" sz="3600" spc="-1" strike="noStrike">
                <a:solidFill>
                  <a:srgbClr val="000000"/>
                </a:solidFill>
                <a:latin typeface="Times New Roman"/>
              </a:endParaRPr>
            </a:p>
          </p:txBody>
        </p:sp>
        <p:sp>
          <p:nvSpPr>
            <p:cNvPr id="716" name=""/>
            <p:cNvSpPr/>
            <p:nvPr/>
          </p:nvSpPr>
          <p:spPr>
            <a:xfrm>
              <a:off x="4876920" y="34210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15</a:t>
              </a:r>
              <a:endParaRPr b="0" lang="en-US" sz="3600" spc="-1" strike="noStrike">
                <a:solidFill>
                  <a:srgbClr val="000000"/>
                </a:solidFill>
                <a:latin typeface="Times New Roman"/>
              </a:endParaRPr>
            </a:p>
          </p:txBody>
        </p:sp>
        <p:sp>
          <p:nvSpPr>
            <p:cNvPr id="717" name=""/>
            <p:cNvSpPr/>
            <p:nvPr/>
          </p:nvSpPr>
          <p:spPr>
            <a:xfrm>
              <a:off x="6400800" y="342288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10</a:t>
              </a:r>
              <a:endParaRPr b="0" lang="en-US" sz="3600" spc="-1" strike="noStrike">
                <a:solidFill>
                  <a:srgbClr val="000000"/>
                </a:solidFill>
                <a:latin typeface="Times New Roman"/>
              </a:endParaRPr>
            </a:p>
          </p:txBody>
        </p:sp>
      </p:grpSp>
      <p:grpSp>
        <p:nvGrpSpPr>
          <p:cNvPr id="718" name=""/>
          <p:cNvGrpSpPr/>
          <p:nvPr/>
        </p:nvGrpSpPr>
        <p:grpSpPr>
          <a:xfrm>
            <a:off x="1390680" y="2562120"/>
            <a:ext cx="6381360" cy="1477440"/>
            <a:chOff x="1390680" y="2562120"/>
            <a:chExt cx="6381360" cy="1477440"/>
          </a:xfrm>
        </p:grpSpPr>
        <p:sp>
          <p:nvSpPr>
            <p:cNvPr id="719" name=""/>
            <p:cNvSpPr/>
            <p:nvPr/>
          </p:nvSpPr>
          <p:spPr>
            <a:xfrm>
              <a:off x="1390680" y="25621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250</a:t>
              </a:r>
              <a:endParaRPr b="0" lang="en-US" sz="3600" spc="-1" strike="noStrike">
                <a:solidFill>
                  <a:srgbClr val="000000"/>
                </a:solidFill>
                <a:latin typeface="Times New Roman"/>
              </a:endParaRPr>
            </a:p>
          </p:txBody>
        </p:sp>
        <p:sp>
          <p:nvSpPr>
            <p:cNvPr id="720" name=""/>
            <p:cNvSpPr/>
            <p:nvPr/>
          </p:nvSpPr>
          <p:spPr>
            <a:xfrm>
              <a:off x="3066840" y="25621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220</a:t>
              </a:r>
              <a:endParaRPr b="0" lang="en-US" sz="3600" spc="-1" strike="noStrike">
                <a:solidFill>
                  <a:srgbClr val="000000"/>
                </a:solidFill>
                <a:latin typeface="Times New Roman"/>
              </a:endParaRPr>
            </a:p>
          </p:txBody>
        </p:sp>
        <p:sp>
          <p:nvSpPr>
            <p:cNvPr id="721" name=""/>
            <p:cNvSpPr/>
            <p:nvPr/>
          </p:nvSpPr>
          <p:spPr>
            <a:xfrm>
              <a:off x="6343560" y="2562120"/>
              <a:ext cx="142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220</a:t>
              </a:r>
              <a:endParaRPr b="0" lang="en-US" sz="3600" spc="-1" strike="noStrike">
                <a:solidFill>
                  <a:srgbClr val="000000"/>
                </a:solidFill>
                <a:latin typeface="Times New Roman"/>
              </a:endParaRPr>
            </a:p>
          </p:txBody>
        </p:sp>
        <p:sp>
          <p:nvSpPr>
            <p:cNvPr id="722" name=""/>
            <p:cNvSpPr/>
            <p:nvPr/>
          </p:nvSpPr>
          <p:spPr>
            <a:xfrm>
              <a:off x="3133440" y="339696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omic Sans MS"/>
                </a:rPr>
                <a:t>$250</a:t>
              </a:r>
              <a:endParaRPr b="0" lang="en-US" sz="3600" spc="-1" strike="noStrike">
                <a:solidFill>
                  <a:srgbClr val="000000"/>
                </a:solidFill>
                <a:latin typeface="Times New Roman"/>
              </a:endParaRPr>
            </a:p>
          </p:txBody>
        </p:sp>
      </p:grpSp>
      <p:sp>
        <p:nvSpPr>
          <p:cNvPr id="723"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
        <p:nvSpPr>
          <p:cNvPr id="724" name=""/>
          <p:cNvSpPr/>
          <p:nvPr/>
        </p:nvSpPr>
        <p:spPr>
          <a:xfrm>
            <a:off x="609480" y="1752480"/>
            <a:ext cx="792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Comic Sans MS"/>
              </a:rPr>
              <a:t>Round-trip fares: Tucson to Atlanta</a:t>
            </a:r>
            <a:endParaRPr b="0" lang="en-US" sz="3600" spc="-1" strike="noStrike">
              <a:solidFill>
                <a:srgbClr val="000000"/>
              </a:solidFill>
              <a:latin typeface="Times New Roman"/>
            </a:endParaRPr>
          </a:p>
        </p:txBody>
      </p:sp>
      <p:sp>
        <p:nvSpPr>
          <p:cNvPr id="725" name=""/>
          <p:cNvSpPr/>
          <p:nvPr/>
        </p:nvSpPr>
        <p:spPr>
          <a:xfrm>
            <a:off x="1924200" y="4343400"/>
            <a:ext cx="531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ode = </a:t>
            </a:r>
            <a:r>
              <a:rPr b="0" lang="en-US" sz="3600" spc="-1" strike="noStrike">
                <a:solidFill>
                  <a:srgbClr val="0000ff"/>
                </a:solidFill>
                <a:latin typeface="Comic Sans MS"/>
              </a:rPr>
              <a:t>$220</a:t>
            </a:r>
            <a:r>
              <a:rPr b="0" lang="en-US" sz="3600" spc="-1" strike="noStrike">
                <a:solidFill>
                  <a:srgbClr val="000000"/>
                </a:solidFill>
                <a:latin typeface="Comic Sans MS"/>
              </a:rPr>
              <a:t> and </a:t>
            </a:r>
            <a:r>
              <a:rPr b="0" lang="en-US" sz="3600" spc="-1" strike="noStrike">
                <a:solidFill>
                  <a:srgbClr val="008000"/>
                </a:solidFill>
                <a:latin typeface="Comic Sans MS"/>
              </a:rPr>
              <a:t>$250</a:t>
            </a:r>
            <a:endParaRPr b="0" lang="en-US" sz="3600" spc="-1" strike="noStrike">
              <a:solidFill>
                <a:srgbClr val="000000"/>
              </a:solidFill>
              <a:latin typeface="Times New Roman"/>
            </a:endParaRPr>
          </a:p>
        </p:txBody>
      </p:sp>
      <p:grpSp>
        <p:nvGrpSpPr>
          <p:cNvPr id="726" name=""/>
          <p:cNvGrpSpPr/>
          <p:nvPr/>
        </p:nvGrpSpPr>
        <p:grpSpPr>
          <a:xfrm>
            <a:off x="198360" y="1007640"/>
            <a:ext cx="2289240" cy="1361880"/>
            <a:chOff x="198360" y="1007640"/>
            <a:chExt cx="2289240" cy="1361880"/>
          </a:xfrm>
        </p:grpSpPr>
        <p:sp>
          <p:nvSpPr>
            <p:cNvPr id="727" name=""/>
            <p:cNvSpPr/>
            <p:nvPr/>
          </p:nvSpPr>
          <p:spPr>
            <a:xfrm rot="20897400">
              <a:off x="236160" y="1280880"/>
              <a:ext cx="2057400" cy="38412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rot="20897400">
              <a:off x="272160" y="1214640"/>
              <a:ext cx="214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a:t>
              </a:r>
              <a:endParaRPr b="0" lang="en-US" sz="2800" spc="-1" strike="noStrike">
                <a:solidFill>
                  <a:srgbClr val="000000"/>
                </a:solidFill>
                <a:latin typeface="Times New Roman"/>
              </a:endParaRPr>
            </a:p>
          </p:txBody>
        </p:sp>
      </p:grpSp>
      <p:pic>
        <p:nvPicPr>
          <p:cNvPr id="729" name="" descr=""/>
          <p:cNvPicPr/>
          <p:nvPr/>
        </p:nvPicPr>
        <p:blipFill>
          <a:blip r:embed="rId1"/>
          <a:stretch/>
        </p:blipFill>
        <p:spPr>
          <a:xfrm>
            <a:off x="2895480" y="5075280"/>
            <a:ext cx="3409920" cy="1325520"/>
          </a:xfrm>
          <a:prstGeom prst="rect">
            <a:avLst/>
          </a:prstGeom>
          <a:ln w="0">
            <a:noFill/>
          </a:ln>
        </p:spPr>
      </p:pic>
    </p:spTree>
  </p:cSld>
  <p:transition>
    <p:pull dir="l"/>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709"/>
                                        </p:tgtEl>
                                        <p:attrNameLst>
                                          <p:attrName>style.visibility</p:attrName>
                                        </p:attrNameLst>
                                      </p:cBhvr>
                                      <p:to>
                                        <p:strVal val="visible"/>
                                      </p:to>
                                    </p:set>
                                    <p:animEffect filter="wipe(up)" transition="in">
                                      <p:cBhvr additive="repl">
                                        <p:cTn id="446" dur="500"/>
                                        <p:tgtEl>
                                          <p:spTgt spid="709"/>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718"/>
                                        </p:tgtEl>
                                        <p:attrNameLst>
                                          <p:attrName>style.visibility</p:attrName>
                                        </p:attrNameLst>
                                      </p:cBhvr>
                                      <p:to>
                                        <p:strVal val="visible"/>
                                      </p:to>
                                    </p:set>
                                    <p:animEffect filter="dissolve" transition="in">
                                      <p:cBhvr additive="repl">
                                        <p:cTn id="451" dur="500"/>
                                        <p:tgtEl>
                                          <p:spTgt spid="718"/>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3" presetSubtype="16">
                                  <p:stCondLst>
                                    <p:cond delay="0"/>
                                  </p:stCondLst>
                                  <p:childTnLst>
                                    <p:set>
                                      <p:cBhvr>
                                        <p:cTn id="455" dur="1" fill="hold">
                                          <p:stCondLst>
                                            <p:cond delay="0"/>
                                          </p:stCondLst>
                                        </p:cTn>
                                        <p:tgtEl>
                                          <p:spTgt spid="725"/>
                                        </p:tgtEl>
                                        <p:attrNameLst>
                                          <p:attrName>style.visibility</p:attrName>
                                        </p:attrNameLst>
                                      </p:cBhvr>
                                      <p:to>
                                        <p:strVal val="visible"/>
                                      </p:to>
                                    </p:set>
                                    <p:anim calcmode="lin" valueType="num">
                                      <p:cBhvr additive="repl">
                                        <p:cTn id="456" dur="500" fill="hold"/>
                                        <p:tgtEl>
                                          <p:spTgt spid="725"/>
                                        </p:tgtEl>
                                        <p:attrNameLst>
                                          <p:attrName>ppt_w</p:attrName>
                                        </p:attrNameLst>
                                      </p:cBhvr>
                                      <p:tavLst>
                                        <p:tav tm="0">
                                          <p:val>
                                            <p:fltVal val="0"/>
                                          </p:val>
                                        </p:tav>
                                        <p:tav tm="100000">
                                          <p:val>
                                            <p:strVal val="#ppt_w"/>
                                          </p:val>
                                        </p:tav>
                                      </p:tavLst>
                                    </p:anim>
                                    <p:anim calcmode="lin" valueType="num">
                                      <p:cBhvr additive="repl">
                                        <p:cTn id="457" dur="500" fill="hold"/>
                                        <p:tgtEl>
                                          <p:spTgt spid="7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30"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n and Mode</a:t>
            </a:r>
            <a:endParaRPr b="0" lang="en-US" sz="2800" spc="-1" strike="noStrike">
              <a:solidFill>
                <a:srgbClr val="000000"/>
              </a:solidFill>
              <a:latin typeface="Times New Roman"/>
            </a:endParaRPr>
          </a:p>
        </p:txBody>
      </p:sp>
      <p:sp>
        <p:nvSpPr>
          <p:cNvPr id="731" name=""/>
          <p:cNvSpPr/>
          <p:nvPr/>
        </p:nvSpPr>
        <p:spPr>
          <a:xfrm>
            <a:off x="2819520" y="301608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Comic Sans MS"/>
              </a:rPr>
              <a:t>Score results:</a:t>
            </a:r>
            <a:endParaRPr b="0" lang="en-US" sz="3600" spc="-1" strike="noStrike">
              <a:solidFill>
                <a:srgbClr val="000000"/>
              </a:solidFill>
              <a:latin typeface="Times New Roman"/>
            </a:endParaRPr>
          </a:p>
        </p:txBody>
      </p:sp>
      <p:sp>
        <p:nvSpPr>
          <p:cNvPr id="732" name=""/>
          <p:cNvSpPr/>
          <p:nvPr/>
        </p:nvSpPr>
        <p:spPr>
          <a:xfrm>
            <a:off x="2228760" y="5607000"/>
            <a:ext cx="470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No mode for this set</a:t>
            </a:r>
            <a:endParaRPr b="0" lang="en-US" sz="3600" spc="-1" strike="noStrike">
              <a:solidFill>
                <a:srgbClr val="000000"/>
              </a:solidFill>
              <a:latin typeface="Times New Roman"/>
            </a:endParaRPr>
          </a:p>
        </p:txBody>
      </p:sp>
      <p:grpSp>
        <p:nvGrpSpPr>
          <p:cNvPr id="733" name=""/>
          <p:cNvGrpSpPr/>
          <p:nvPr/>
        </p:nvGrpSpPr>
        <p:grpSpPr>
          <a:xfrm>
            <a:off x="1428840" y="3854520"/>
            <a:ext cx="6724440" cy="1480680"/>
            <a:chOff x="1428840" y="3854520"/>
            <a:chExt cx="6724440" cy="1480680"/>
          </a:xfrm>
        </p:grpSpPr>
        <p:sp>
          <p:nvSpPr>
            <p:cNvPr id="734" name=""/>
            <p:cNvSpPr/>
            <p:nvPr/>
          </p:nvSpPr>
          <p:spPr>
            <a:xfrm>
              <a:off x="2819520" y="3854520"/>
              <a:ext cx="99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5</a:t>
              </a:r>
              <a:endParaRPr b="0" lang="en-US" sz="3600" spc="-1" strike="noStrike">
                <a:solidFill>
                  <a:srgbClr val="000000"/>
                </a:solidFill>
                <a:latin typeface="Times New Roman"/>
              </a:endParaRPr>
            </a:p>
          </p:txBody>
        </p:sp>
        <p:sp>
          <p:nvSpPr>
            <p:cNvPr id="735" name=""/>
            <p:cNvSpPr/>
            <p:nvPr/>
          </p:nvSpPr>
          <p:spPr>
            <a:xfrm>
              <a:off x="4495680" y="38545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7</a:t>
              </a:r>
              <a:endParaRPr b="0" lang="en-US" sz="3600" spc="-1" strike="noStrike">
                <a:solidFill>
                  <a:srgbClr val="000000"/>
                </a:solidFill>
                <a:latin typeface="Times New Roman"/>
              </a:endParaRPr>
            </a:p>
          </p:txBody>
        </p:sp>
        <p:sp>
          <p:nvSpPr>
            <p:cNvPr id="736" name=""/>
            <p:cNvSpPr/>
            <p:nvPr/>
          </p:nvSpPr>
          <p:spPr>
            <a:xfrm>
              <a:off x="6019920" y="3854520"/>
              <a:ext cx="8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2</a:t>
              </a:r>
              <a:endParaRPr b="0" lang="en-US" sz="3600" spc="-1" strike="noStrike">
                <a:solidFill>
                  <a:srgbClr val="000000"/>
                </a:solidFill>
                <a:latin typeface="Times New Roman"/>
              </a:endParaRPr>
            </a:p>
          </p:txBody>
        </p:sp>
        <p:sp>
          <p:nvSpPr>
            <p:cNvPr id="737" name=""/>
            <p:cNvSpPr/>
            <p:nvPr/>
          </p:nvSpPr>
          <p:spPr>
            <a:xfrm>
              <a:off x="1433520" y="3854520"/>
              <a:ext cx="84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2</a:t>
              </a:r>
              <a:endParaRPr b="0" lang="en-US" sz="3600" spc="-1" strike="noStrike">
                <a:solidFill>
                  <a:srgbClr val="000000"/>
                </a:solidFill>
                <a:latin typeface="Times New Roman"/>
              </a:endParaRPr>
            </a:p>
          </p:txBody>
        </p:sp>
        <p:sp>
          <p:nvSpPr>
            <p:cNvPr id="738" name=""/>
            <p:cNvSpPr/>
            <p:nvPr/>
          </p:nvSpPr>
          <p:spPr>
            <a:xfrm>
              <a:off x="1428840" y="4684680"/>
              <a:ext cx="85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0</a:t>
              </a:r>
              <a:endParaRPr b="0" lang="en-US" sz="3600" spc="-1" strike="noStrike">
                <a:solidFill>
                  <a:srgbClr val="000000"/>
                </a:solidFill>
                <a:latin typeface="Times New Roman"/>
              </a:endParaRPr>
            </a:p>
          </p:txBody>
        </p:sp>
        <p:sp>
          <p:nvSpPr>
            <p:cNvPr id="739" name=""/>
            <p:cNvSpPr/>
            <p:nvPr/>
          </p:nvSpPr>
          <p:spPr>
            <a:xfrm>
              <a:off x="2819520" y="4687920"/>
              <a:ext cx="99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8</a:t>
              </a:r>
              <a:endParaRPr b="0" lang="en-US" sz="3600" spc="-1" strike="noStrike">
                <a:solidFill>
                  <a:srgbClr val="000000"/>
                </a:solidFill>
                <a:latin typeface="Times New Roman"/>
              </a:endParaRPr>
            </a:p>
          </p:txBody>
        </p:sp>
        <p:sp>
          <p:nvSpPr>
            <p:cNvPr id="740" name=""/>
            <p:cNvSpPr/>
            <p:nvPr/>
          </p:nvSpPr>
          <p:spPr>
            <a:xfrm>
              <a:off x="4495680" y="46846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6</a:t>
              </a:r>
              <a:endParaRPr b="0" lang="en-US" sz="3600" spc="-1" strike="noStrike">
                <a:solidFill>
                  <a:srgbClr val="000000"/>
                </a:solidFill>
                <a:latin typeface="Times New Roman"/>
              </a:endParaRPr>
            </a:p>
          </p:txBody>
        </p:sp>
        <p:sp>
          <p:nvSpPr>
            <p:cNvPr id="741" name=""/>
            <p:cNvSpPr/>
            <p:nvPr/>
          </p:nvSpPr>
          <p:spPr>
            <a:xfrm>
              <a:off x="6024600" y="4686480"/>
              <a:ext cx="81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4</a:t>
              </a:r>
              <a:endParaRPr b="0" lang="en-US" sz="3600" spc="-1" strike="noStrike">
                <a:solidFill>
                  <a:srgbClr val="000000"/>
                </a:solidFill>
                <a:latin typeface="Times New Roman"/>
              </a:endParaRPr>
            </a:p>
          </p:txBody>
        </p:sp>
        <p:sp>
          <p:nvSpPr>
            <p:cNvPr id="742" name=""/>
            <p:cNvSpPr/>
            <p:nvPr/>
          </p:nvSpPr>
          <p:spPr>
            <a:xfrm>
              <a:off x="7319880" y="3854520"/>
              <a:ext cx="8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1</a:t>
              </a:r>
              <a:endParaRPr b="0" lang="en-US" sz="3600" spc="-1" strike="noStrike">
                <a:solidFill>
                  <a:srgbClr val="000000"/>
                </a:solidFill>
                <a:latin typeface="Times New Roman"/>
              </a:endParaRPr>
            </a:p>
          </p:txBody>
        </p:sp>
        <p:sp>
          <p:nvSpPr>
            <p:cNvPr id="743" name=""/>
            <p:cNvSpPr/>
            <p:nvPr/>
          </p:nvSpPr>
          <p:spPr>
            <a:xfrm>
              <a:off x="7315200" y="469260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6</a:t>
              </a:r>
              <a:endParaRPr b="0" lang="en-US" sz="3600" spc="-1" strike="noStrike">
                <a:solidFill>
                  <a:srgbClr val="000000"/>
                </a:solidFill>
                <a:latin typeface="Times New Roman"/>
              </a:endParaRPr>
            </a:p>
          </p:txBody>
        </p:sp>
      </p:grpSp>
      <p:pic>
        <p:nvPicPr>
          <p:cNvPr id="744" name="" descr=""/>
          <p:cNvPicPr/>
          <p:nvPr/>
        </p:nvPicPr>
        <p:blipFill>
          <a:blip r:embed="rId1"/>
          <a:stretch/>
        </p:blipFill>
        <p:spPr>
          <a:xfrm>
            <a:off x="3754440" y="1371600"/>
            <a:ext cx="1579680" cy="1644480"/>
          </a:xfrm>
          <a:prstGeom prst="rect">
            <a:avLst/>
          </a:prstGeom>
          <a:ln w="9360">
            <a:solidFill>
              <a:srgbClr val="000000"/>
            </a:solidFill>
            <a:miter/>
          </a:ln>
        </p:spPr>
      </p:pic>
      <p:grpSp>
        <p:nvGrpSpPr>
          <p:cNvPr id="745" name=""/>
          <p:cNvGrpSpPr/>
          <p:nvPr/>
        </p:nvGrpSpPr>
        <p:grpSpPr>
          <a:xfrm>
            <a:off x="419040" y="1174320"/>
            <a:ext cx="2289240" cy="1361880"/>
            <a:chOff x="419040" y="1174320"/>
            <a:chExt cx="2289240" cy="1361880"/>
          </a:xfrm>
        </p:grpSpPr>
        <p:sp>
          <p:nvSpPr>
            <p:cNvPr id="746" name=""/>
            <p:cNvSpPr/>
            <p:nvPr/>
          </p:nvSpPr>
          <p:spPr>
            <a:xfrm rot="20897400">
              <a:off x="456840" y="1447560"/>
              <a:ext cx="2057400" cy="38412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rot="20897400">
              <a:off x="492840" y="1381320"/>
              <a:ext cx="214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a:t>
              </a:r>
              <a:endParaRPr b="0" lang="en-US" sz="2800" spc="-1" strike="noStrike">
                <a:solidFill>
                  <a:srgbClr val="000000"/>
                </a:solidFill>
                <a:latin typeface="Times New Roman"/>
              </a:endParaRPr>
            </a:p>
          </p:txBody>
        </p:sp>
      </p:grpSp>
    </p:spTree>
  </p:cSld>
  <p:transition>
    <p:pull dir="l"/>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733"/>
                                        </p:tgtEl>
                                        <p:attrNameLst>
                                          <p:attrName>style.visibility</p:attrName>
                                        </p:attrNameLst>
                                      </p:cBhvr>
                                      <p:to>
                                        <p:strVal val="visible"/>
                                      </p:to>
                                    </p:set>
                                    <p:animEffect filter="wipe(up)" transition="in">
                                      <p:cBhvr additive="repl">
                                        <p:cTn id="464" dur="500"/>
                                        <p:tgtEl>
                                          <p:spTgt spid="73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3" presetSubtype="16">
                                  <p:stCondLst>
                                    <p:cond delay="0"/>
                                  </p:stCondLst>
                                  <p:childTnLst>
                                    <p:set>
                                      <p:cBhvr>
                                        <p:cTn id="468" dur="1" fill="hold">
                                          <p:stCondLst>
                                            <p:cond delay="0"/>
                                          </p:stCondLst>
                                        </p:cTn>
                                        <p:tgtEl>
                                          <p:spTgt spid="732"/>
                                        </p:tgtEl>
                                        <p:attrNameLst>
                                          <p:attrName>style.visibility</p:attrName>
                                        </p:attrNameLst>
                                      </p:cBhvr>
                                      <p:to>
                                        <p:strVal val="visible"/>
                                      </p:to>
                                    </p:set>
                                    <p:anim calcmode="lin" valueType="num">
                                      <p:cBhvr additive="repl">
                                        <p:cTn id="469" dur="500" fill="hold"/>
                                        <p:tgtEl>
                                          <p:spTgt spid="732"/>
                                        </p:tgtEl>
                                        <p:attrNameLst>
                                          <p:attrName>ppt_w</p:attrName>
                                        </p:attrNameLst>
                                      </p:cBhvr>
                                      <p:tavLst>
                                        <p:tav tm="0">
                                          <p:val>
                                            <p:fltVal val="0"/>
                                          </p:val>
                                        </p:tav>
                                        <p:tav tm="100000">
                                          <p:val>
                                            <p:strVal val="#ppt_w"/>
                                          </p:val>
                                        </p:tav>
                                      </p:tavLst>
                                    </p:anim>
                                    <p:anim calcmode="lin" valueType="num">
                                      <p:cBhvr additive="repl">
                                        <p:cTn id="470" dur="500" fill="hold"/>
                                        <p:tgtEl>
                                          <p:spTgt spid="7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3200400" y="609480"/>
            <a:ext cx="281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grpSp>
        <p:nvGrpSpPr>
          <p:cNvPr id="749" name=""/>
          <p:cNvGrpSpPr/>
          <p:nvPr/>
        </p:nvGrpSpPr>
        <p:grpSpPr>
          <a:xfrm>
            <a:off x="533520" y="2895480"/>
            <a:ext cx="2209680" cy="2971800"/>
            <a:chOff x="533520" y="2895480"/>
            <a:chExt cx="2209680" cy="2971800"/>
          </a:xfrm>
        </p:grpSpPr>
        <p:sp>
          <p:nvSpPr>
            <p:cNvPr id="750" name=""/>
            <p:cNvSpPr/>
            <p:nvPr/>
          </p:nvSpPr>
          <p:spPr>
            <a:xfrm>
              <a:off x="533520" y="2895480"/>
              <a:ext cx="220968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41440" y="2907720"/>
              <a:ext cx="219348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158120" y="293256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282320" y="294516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182960" y="297000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356840" y="298872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431360" y="301356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93640" y="302580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559880" y="303228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642320" y="306936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091880" y="308808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038240" y="309420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059120" y="309420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067040" y="309420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712880" y="310680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783080" y="312552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832760" y="313776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890720" y="315648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932120" y="316908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40280" y="331200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572120" y="336780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352880" y="339912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419120" y="341136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588680" y="344232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460520" y="345492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75" name=""/>
            <p:cNvSpPr/>
            <p:nvPr/>
          </p:nvSpPr>
          <p:spPr>
            <a:xfrm>
              <a:off x="1617840" y="3479760"/>
              <a:ext cx="6588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646640" y="351072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7" name=""/>
            <p:cNvSpPr/>
            <p:nvPr/>
          </p:nvSpPr>
          <p:spPr>
            <a:xfrm>
              <a:off x="1220400" y="378432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8" name=""/>
            <p:cNvSpPr/>
            <p:nvPr/>
          </p:nvSpPr>
          <p:spPr>
            <a:xfrm>
              <a:off x="1207800" y="382788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213640" y="392760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042560" y="3964680"/>
              <a:ext cx="120816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827280" y="404568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001160" y="408924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034280" y="410148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046520" y="4101480"/>
              <a:ext cx="124128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856080" y="419472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847800" y="425088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027520" y="425700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089440" y="426960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923840" y="428796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141560" y="431928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56720" y="435636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10720" y="437508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878480" y="4381560"/>
              <a:ext cx="3276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4" name=""/>
            <p:cNvSpPr/>
            <p:nvPr/>
          </p:nvSpPr>
          <p:spPr>
            <a:xfrm>
              <a:off x="562320" y="439380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026000" y="439992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852120" y="443736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587160" y="465480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719640" y="465480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99" name=""/>
            <p:cNvSpPr/>
            <p:nvPr/>
          </p:nvSpPr>
          <p:spPr>
            <a:xfrm>
              <a:off x="984600" y="466128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959760" y="467964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926640" y="469836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642320" y="486000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716840" y="488484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04" name=""/>
            <p:cNvSpPr/>
            <p:nvPr/>
          </p:nvSpPr>
          <p:spPr>
            <a:xfrm>
              <a:off x="1729440" y="492228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05" name=""/>
            <p:cNvSpPr/>
            <p:nvPr/>
          </p:nvSpPr>
          <p:spPr>
            <a:xfrm>
              <a:off x="1758240" y="496584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06" name=""/>
            <p:cNvSpPr/>
            <p:nvPr/>
          </p:nvSpPr>
          <p:spPr>
            <a:xfrm>
              <a:off x="1063080" y="514008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p:nvPr/>
        </p:nvSpPr>
        <p:spPr>
          <a:xfrm>
            <a:off x="685800" y="1447920"/>
            <a:ext cx="758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In this unit we have seen how to:</a:t>
            </a:r>
            <a:endParaRPr b="0" lang="en-US" sz="2800" spc="-1" strike="noStrike">
              <a:solidFill>
                <a:srgbClr val="000000"/>
              </a:solidFill>
              <a:latin typeface="Times New Roman"/>
            </a:endParaRPr>
          </a:p>
        </p:txBody>
      </p:sp>
      <p:sp>
        <p:nvSpPr>
          <p:cNvPr id="808" name=""/>
          <p:cNvSpPr/>
          <p:nvPr/>
        </p:nvSpPr>
        <p:spPr>
          <a:xfrm>
            <a:off x="2743200" y="205740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Comic Sans MS"/>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alculate the arithmetic mean </a:t>
            </a:r>
            <a:r>
              <a:rPr b="0" lang="en-US" sz="2800" spc="-1" strike="noStrike">
                <a:solidFill>
                  <a:srgbClr val="000000"/>
                </a:solidFill>
                <a:latin typeface="Comic Sans MS"/>
              </a:rPr>
              <a:t>	</a:t>
            </a:r>
            <a:r>
              <a:rPr b="0" lang="en-US" sz="2800" spc="-1" strike="noStrike">
                <a:solidFill>
                  <a:srgbClr val="000000"/>
                </a:solidFill>
                <a:latin typeface="Comic Sans MS"/>
              </a:rPr>
              <a:t>from a set of data</a:t>
            </a:r>
            <a:endParaRPr b="0" lang="en-US" sz="2800" spc="-1" strike="noStrike">
              <a:solidFill>
                <a:srgbClr val="000000"/>
              </a:solidFill>
              <a:latin typeface="Times New Roman"/>
            </a:endParaRPr>
          </a:p>
        </p:txBody>
      </p:sp>
      <p:pic>
        <p:nvPicPr>
          <p:cNvPr id="809" name="" descr=""/>
          <p:cNvPicPr/>
          <p:nvPr/>
        </p:nvPicPr>
        <p:blipFill>
          <a:blip r:embed="rId1"/>
          <a:stretch/>
        </p:blipFill>
        <p:spPr>
          <a:xfrm>
            <a:off x="3714840" y="3048120"/>
            <a:ext cx="4514760" cy="3352680"/>
          </a:xfrm>
          <a:prstGeom prst="rect">
            <a:avLst/>
          </a:prstGeom>
          <a:ln w="0">
            <a:noFill/>
          </a:ln>
        </p:spPr>
      </p:pic>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10" name=""/>
          <p:cNvSpPr/>
          <p:nvPr/>
        </p:nvSpPr>
        <p:spPr>
          <a:xfrm>
            <a:off x="3200400" y="609480"/>
            <a:ext cx="281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grpSp>
        <p:nvGrpSpPr>
          <p:cNvPr id="811" name=""/>
          <p:cNvGrpSpPr/>
          <p:nvPr/>
        </p:nvGrpSpPr>
        <p:grpSpPr>
          <a:xfrm>
            <a:off x="533520" y="2895480"/>
            <a:ext cx="2209680" cy="2971800"/>
            <a:chOff x="533520" y="2895480"/>
            <a:chExt cx="2209680" cy="2971800"/>
          </a:xfrm>
        </p:grpSpPr>
        <p:sp>
          <p:nvSpPr>
            <p:cNvPr id="812" name=""/>
            <p:cNvSpPr/>
            <p:nvPr/>
          </p:nvSpPr>
          <p:spPr>
            <a:xfrm>
              <a:off x="533520" y="2895480"/>
              <a:ext cx="220968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41440" y="2907720"/>
              <a:ext cx="219348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158120" y="293256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282320" y="294516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182960" y="297000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356840" y="298872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431360" y="301356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493640" y="302580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559880" y="303228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642320" y="306936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091880" y="308808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038240" y="309420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059120" y="309420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067040" y="309420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712880" y="310680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783080" y="312552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832760" y="313776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890720" y="315648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932120" y="316908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340280" y="331200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572120" y="336780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352880" y="339912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419120" y="341136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588680" y="344232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460520" y="345492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37" name=""/>
            <p:cNvSpPr/>
            <p:nvPr/>
          </p:nvSpPr>
          <p:spPr>
            <a:xfrm>
              <a:off x="1617840" y="3479760"/>
              <a:ext cx="6588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646640" y="351072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39" name=""/>
            <p:cNvSpPr/>
            <p:nvPr/>
          </p:nvSpPr>
          <p:spPr>
            <a:xfrm>
              <a:off x="1220400" y="378432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40" name=""/>
            <p:cNvSpPr/>
            <p:nvPr/>
          </p:nvSpPr>
          <p:spPr>
            <a:xfrm>
              <a:off x="1207800" y="382788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213640" y="392760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042560" y="3964680"/>
              <a:ext cx="120816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27280" y="404568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001160" y="408924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034280" y="410148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1046520" y="4101480"/>
              <a:ext cx="124128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856080" y="419472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847800" y="425088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027520" y="425700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089440" y="426960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923840" y="428796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1141560" y="431928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56720" y="435636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10720" y="437508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1878480" y="4381560"/>
              <a:ext cx="3276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56" name=""/>
            <p:cNvSpPr/>
            <p:nvPr/>
          </p:nvSpPr>
          <p:spPr>
            <a:xfrm>
              <a:off x="562320" y="439380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026000" y="439992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852120" y="443736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87160" y="465480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719640" y="465480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1" name=""/>
            <p:cNvSpPr/>
            <p:nvPr/>
          </p:nvSpPr>
          <p:spPr>
            <a:xfrm>
              <a:off x="984600" y="466128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959760" y="467964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926640" y="469836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642320" y="486000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716840" y="488484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6" name=""/>
            <p:cNvSpPr/>
            <p:nvPr/>
          </p:nvSpPr>
          <p:spPr>
            <a:xfrm>
              <a:off x="1729440" y="492228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7" name=""/>
            <p:cNvSpPr/>
            <p:nvPr/>
          </p:nvSpPr>
          <p:spPr>
            <a:xfrm>
              <a:off x="1758240" y="496584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68" name=""/>
            <p:cNvSpPr/>
            <p:nvPr/>
          </p:nvSpPr>
          <p:spPr>
            <a:xfrm>
              <a:off x="1063080" y="514008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
          <p:cNvSpPr/>
          <p:nvPr/>
        </p:nvSpPr>
        <p:spPr>
          <a:xfrm>
            <a:off x="685800" y="1447920"/>
            <a:ext cx="758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In this unit we have seen how to:</a:t>
            </a:r>
            <a:endParaRPr b="0" lang="en-US" sz="2800" spc="-1" strike="noStrike">
              <a:solidFill>
                <a:srgbClr val="000000"/>
              </a:solidFill>
              <a:latin typeface="Times New Roman"/>
            </a:endParaRPr>
          </a:p>
        </p:txBody>
      </p:sp>
      <p:sp>
        <p:nvSpPr>
          <p:cNvPr id="870" name=""/>
          <p:cNvSpPr/>
          <p:nvPr/>
        </p:nvSpPr>
        <p:spPr>
          <a:xfrm>
            <a:off x="2743200" y="205740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Comic Sans MS"/>
              <a:buChar char="•"/>
              <a:tabLst>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800" spc="-1" strike="noStrike">
                <a:solidFill>
                  <a:srgbClr val="000000"/>
                </a:solidFill>
                <a:latin typeface="Comic Sans MS"/>
              </a:rPr>
              <a:t> </a:t>
            </a:r>
            <a:r>
              <a:rPr b="0" lang="en-US" sz="2800" spc="-1" strike="noStrike">
                <a:solidFill>
                  <a:srgbClr val="000000"/>
                </a:solidFill>
                <a:latin typeface="Comic Sans MS"/>
              </a:rPr>
              <a:t>calculate the weighted mean </a:t>
            </a:r>
            <a:r>
              <a:rPr b="0" lang="en-US" sz="2800" spc="-1" strike="noStrike">
                <a:solidFill>
                  <a:srgbClr val="000000"/>
                </a:solidFill>
                <a:latin typeface="Comic Sans MS"/>
              </a:rPr>
              <a:t>	</a:t>
            </a:r>
            <a:r>
              <a:rPr b="0" lang="en-US" sz="2800" spc="-1" strike="noStrike">
                <a:solidFill>
                  <a:srgbClr val="000000"/>
                </a:solidFill>
                <a:latin typeface="Comic Sans MS"/>
              </a:rPr>
              <a:t>from a set of data</a:t>
            </a:r>
            <a:endParaRPr b="0" lang="en-US" sz="2800" spc="-1" strike="noStrike">
              <a:solidFill>
                <a:srgbClr val="000000"/>
              </a:solidFill>
              <a:latin typeface="Times New Roman"/>
            </a:endParaRPr>
          </a:p>
        </p:txBody>
      </p:sp>
      <p:pic>
        <p:nvPicPr>
          <p:cNvPr id="871" name="" descr=""/>
          <p:cNvPicPr/>
          <p:nvPr/>
        </p:nvPicPr>
        <p:blipFill>
          <a:blip r:embed="rId1"/>
          <a:stretch/>
        </p:blipFill>
        <p:spPr>
          <a:xfrm>
            <a:off x="3724200" y="3070080"/>
            <a:ext cx="4505400" cy="3343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67" name=""/>
          <p:cNvSpPr/>
          <p:nvPr/>
        </p:nvSpPr>
        <p:spPr>
          <a:xfrm>
            <a:off x="2666880" y="990720"/>
            <a:ext cx="5943600" cy="557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Statistics</a:t>
            </a:r>
            <a:endParaRPr b="0" lang="en-US" sz="4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tudy of scientific methods of collecting, processing, reducing, presenting, analyzing, and interpreting data, and of making inferences and drawing conclusions from numerical data. </a:t>
            </a:r>
            <a:endParaRPr b="0" lang="en-US" sz="3200" spc="-1" strike="noStrike">
              <a:solidFill>
                <a:srgbClr val="000000"/>
              </a:solidFill>
              <a:latin typeface="Times New Roman"/>
            </a:endParaRPr>
          </a:p>
        </p:txBody>
      </p:sp>
      <p:sp>
        <p:nvSpPr>
          <p:cNvPr id="168" name=""/>
          <p:cNvSpPr/>
          <p:nvPr/>
        </p:nvSpPr>
        <p:spPr>
          <a:xfrm>
            <a:off x="0" y="1692360"/>
            <a:ext cx="9144000" cy="360"/>
          </a:xfrm>
          <a:prstGeom prst="rect">
            <a:avLst/>
          </a:prstGeom>
          <a:solidFill>
            <a:srgbClr val="316ca2"/>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 descr="Original image">
            <a:hlinkClick r:id="rId1"/>
          </p:cNvPr>
          <p:cNvPicPr/>
          <p:nvPr/>
        </p:nvPicPr>
        <p:blipFill>
          <a:blip r:embed="rId2"/>
          <a:stretch/>
        </p:blipFill>
        <p:spPr>
          <a:xfrm>
            <a:off x="609480" y="1844640"/>
            <a:ext cx="2667240" cy="40226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72" name=""/>
          <p:cNvSpPr/>
          <p:nvPr/>
        </p:nvSpPr>
        <p:spPr>
          <a:xfrm>
            <a:off x="3200400" y="609480"/>
            <a:ext cx="281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grpSp>
        <p:nvGrpSpPr>
          <p:cNvPr id="873" name=""/>
          <p:cNvGrpSpPr/>
          <p:nvPr/>
        </p:nvGrpSpPr>
        <p:grpSpPr>
          <a:xfrm>
            <a:off x="533520" y="2895480"/>
            <a:ext cx="2209680" cy="2971800"/>
            <a:chOff x="533520" y="2895480"/>
            <a:chExt cx="2209680" cy="2971800"/>
          </a:xfrm>
        </p:grpSpPr>
        <p:sp>
          <p:nvSpPr>
            <p:cNvPr id="874" name=""/>
            <p:cNvSpPr/>
            <p:nvPr/>
          </p:nvSpPr>
          <p:spPr>
            <a:xfrm>
              <a:off x="533520" y="2895480"/>
              <a:ext cx="220968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41440" y="2907720"/>
              <a:ext cx="219348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158120" y="293256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282320" y="294516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182960" y="297000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1356840" y="298872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1431360" y="301356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493640" y="302580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559880" y="303228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642320" y="306936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091880" y="308808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038240" y="309420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059120" y="309420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067040" y="309420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1712880" y="310680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1783080" y="312552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832760" y="313776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1890720" y="315648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32120" y="316908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1340280" y="331200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572120" y="336780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352880" y="339912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419120" y="341136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1588680" y="344232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1460520" y="345492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99" name=""/>
            <p:cNvSpPr/>
            <p:nvPr/>
          </p:nvSpPr>
          <p:spPr>
            <a:xfrm>
              <a:off x="1617840" y="3479760"/>
              <a:ext cx="6588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646640" y="351072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1" name=""/>
            <p:cNvSpPr/>
            <p:nvPr/>
          </p:nvSpPr>
          <p:spPr>
            <a:xfrm>
              <a:off x="1220400" y="378432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2" name=""/>
            <p:cNvSpPr/>
            <p:nvPr/>
          </p:nvSpPr>
          <p:spPr>
            <a:xfrm>
              <a:off x="1207800" y="382788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2213640" y="392760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042560" y="3964680"/>
              <a:ext cx="120816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827280" y="404568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001160" y="408924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1034280" y="410148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046520" y="4101480"/>
              <a:ext cx="124128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856080" y="419472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847800" y="425088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027520" y="425700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2089440" y="426960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923840" y="428796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141560" y="431928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56720" y="435636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10720" y="437508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878480" y="4381560"/>
              <a:ext cx="3276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18" name=""/>
            <p:cNvSpPr/>
            <p:nvPr/>
          </p:nvSpPr>
          <p:spPr>
            <a:xfrm>
              <a:off x="562320" y="439380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026000" y="439992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852120" y="443736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87160" y="465480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19640" y="465480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23" name=""/>
            <p:cNvSpPr/>
            <p:nvPr/>
          </p:nvSpPr>
          <p:spPr>
            <a:xfrm>
              <a:off x="984600" y="466128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959760" y="467964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926640" y="469836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642320" y="486000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716840" y="488484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8" name=""/>
            <p:cNvSpPr/>
            <p:nvPr/>
          </p:nvSpPr>
          <p:spPr>
            <a:xfrm>
              <a:off x="1729440" y="492228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29" name=""/>
            <p:cNvSpPr/>
            <p:nvPr/>
          </p:nvSpPr>
          <p:spPr>
            <a:xfrm>
              <a:off x="1758240" y="496584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30" name=""/>
            <p:cNvSpPr/>
            <p:nvPr/>
          </p:nvSpPr>
          <p:spPr>
            <a:xfrm>
              <a:off x="1063080" y="514008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1" name=""/>
          <p:cNvSpPr/>
          <p:nvPr/>
        </p:nvSpPr>
        <p:spPr>
          <a:xfrm>
            <a:off x="685800" y="1447920"/>
            <a:ext cx="758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In this unit we have seen how to:</a:t>
            </a:r>
            <a:endParaRPr b="0" lang="en-US" sz="2800" spc="-1" strike="noStrike">
              <a:solidFill>
                <a:srgbClr val="000000"/>
              </a:solidFill>
              <a:latin typeface="Times New Roman"/>
            </a:endParaRPr>
          </a:p>
        </p:txBody>
      </p:sp>
      <p:sp>
        <p:nvSpPr>
          <p:cNvPr id="932" name=""/>
          <p:cNvSpPr/>
          <p:nvPr/>
        </p:nvSpPr>
        <p:spPr>
          <a:xfrm>
            <a:off x="2743200" y="205740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Comic Sans MS"/>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800" spc="-1" strike="noStrike">
                <a:solidFill>
                  <a:srgbClr val="000000"/>
                </a:solidFill>
                <a:latin typeface="Comic Sans MS"/>
              </a:rPr>
              <a:t> </a:t>
            </a:r>
            <a:r>
              <a:rPr b="0" lang="en-US" sz="2800" spc="-1" strike="noStrike">
                <a:solidFill>
                  <a:srgbClr val="000000"/>
                </a:solidFill>
                <a:latin typeface="Comic Sans MS"/>
              </a:rPr>
              <a:t>calculate the median from a set </a:t>
            </a:r>
            <a:r>
              <a:rPr b="0" lang="en-US" sz="2800" spc="-1" strike="noStrike">
                <a:solidFill>
                  <a:srgbClr val="000000"/>
                </a:solidFill>
                <a:latin typeface="Comic Sans MS"/>
              </a:rPr>
              <a:t>	</a:t>
            </a:r>
            <a:r>
              <a:rPr b="0" lang="en-US" sz="2800" spc="-1" strike="noStrike">
                <a:solidFill>
                  <a:srgbClr val="000000"/>
                </a:solidFill>
                <a:latin typeface="Comic Sans MS"/>
              </a:rPr>
              <a:t>of data</a:t>
            </a:r>
            <a:endParaRPr b="0" lang="en-US" sz="2800" spc="-1" strike="noStrike">
              <a:solidFill>
                <a:srgbClr val="000000"/>
              </a:solidFill>
              <a:latin typeface="Times New Roman"/>
            </a:endParaRPr>
          </a:p>
        </p:txBody>
      </p:sp>
      <p:pic>
        <p:nvPicPr>
          <p:cNvPr id="933" name="" descr=""/>
          <p:cNvPicPr/>
          <p:nvPr/>
        </p:nvPicPr>
        <p:blipFill>
          <a:blip r:embed="rId1"/>
          <a:stretch/>
        </p:blipFill>
        <p:spPr>
          <a:xfrm>
            <a:off x="3733920" y="3048120"/>
            <a:ext cx="4476600" cy="33526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4" name=""/>
          <p:cNvSpPr/>
          <p:nvPr/>
        </p:nvSpPr>
        <p:spPr>
          <a:xfrm>
            <a:off x="3200400" y="609480"/>
            <a:ext cx="281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grpSp>
        <p:nvGrpSpPr>
          <p:cNvPr id="935" name=""/>
          <p:cNvGrpSpPr/>
          <p:nvPr/>
        </p:nvGrpSpPr>
        <p:grpSpPr>
          <a:xfrm>
            <a:off x="533520" y="2895480"/>
            <a:ext cx="2209680" cy="2971800"/>
            <a:chOff x="533520" y="2895480"/>
            <a:chExt cx="2209680" cy="2971800"/>
          </a:xfrm>
        </p:grpSpPr>
        <p:sp>
          <p:nvSpPr>
            <p:cNvPr id="936" name=""/>
            <p:cNvSpPr/>
            <p:nvPr/>
          </p:nvSpPr>
          <p:spPr>
            <a:xfrm>
              <a:off x="533520" y="2895480"/>
              <a:ext cx="220968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41440" y="2907720"/>
              <a:ext cx="219348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1158120" y="293256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282320" y="294516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182960" y="297000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356840" y="298872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1431360" y="301356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493640" y="302580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559880" y="303228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642320" y="306936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091880" y="308808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038240" y="309420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059120" y="309420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067040" y="309420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712880" y="310680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783080" y="312552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832760" y="313776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1890720" y="315648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932120" y="316908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1340280" y="331200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1572120" y="336780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352880" y="339912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419120" y="341136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588680" y="344232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1460520" y="345492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61" name=""/>
            <p:cNvSpPr/>
            <p:nvPr/>
          </p:nvSpPr>
          <p:spPr>
            <a:xfrm>
              <a:off x="1617840" y="3479760"/>
              <a:ext cx="6588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646640" y="351072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63" name=""/>
            <p:cNvSpPr/>
            <p:nvPr/>
          </p:nvSpPr>
          <p:spPr>
            <a:xfrm>
              <a:off x="1220400" y="378432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64" name=""/>
            <p:cNvSpPr/>
            <p:nvPr/>
          </p:nvSpPr>
          <p:spPr>
            <a:xfrm>
              <a:off x="1207800" y="382788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2213640" y="392760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042560" y="3964680"/>
              <a:ext cx="120816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827280" y="404568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001160" y="408924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034280" y="410148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1046520" y="4101480"/>
              <a:ext cx="124128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856080" y="419472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847800" y="425088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2027520" y="425700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2089440" y="426960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1923840" y="428796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141560" y="431928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56720" y="435636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810720" y="437508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1878480" y="4381560"/>
              <a:ext cx="3276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80" name=""/>
            <p:cNvSpPr/>
            <p:nvPr/>
          </p:nvSpPr>
          <p:spPr>
            <a:xfrm>
              <a:off x="562320" y="439380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026000" y="439992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852120" y="443736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87160" y="465480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19640" y="465480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85" name=""/>
            <p:cNvSpPr/>
            <p:nvPr/>
          </p:nvSpPr>
          <p:spPr>
            <a:xfrm>
              <a:off x="984600" y="466128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959760" y="467964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926640" y="469836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642320" y="486000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1716840" y="488484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90" name=""/>
            <p:cNvSpPr/>
            <p:nvPr/>
          </p:nvSpPr>
          <p:spPr>
            <a:xfrm>
              <a:off x="1729440" y="492228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91" name=""/>
            <p:cNvSpPr/>
            <p:nvPr/>
          </p:nvSpPr>
          <p:spPr>
            <a:xfrm>
              <a:off x="1758240" y="496584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92" name=""/>
            <p:cNvSpPr/>
            <p:nvPr/>
          </p:nvSpPr>
          <p:spPr>
            <a:xfrm>
              <a:off x="1063080" y="514008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3" name=""/>
          <p:cNvSpPr/>
          <p:nvPr/>
        </p:nvSpPr>
        <p:spPr>
          <a:xfrm>
            <a:off x="685800" y="1447920"/>
            <a:ext cx="758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In this unit we have seen how to:</a:t>
            </a:r>
            <a:endParaRPr b="0" lang="en-US" sz="2800" spc="-1" strike="noStrike">
              <a:solidFill>
                <a:srgbClr val="000000"/>
              </a:solidFill>
              <a:latin typeface="Times New Roman"/>
            </a:endParaRPr>
          </a:p>
        </p:txBody>
      </p:sp>
      <p:sp>
        <p:nvSpPr>
          <p:cNvPr id="994" name=""/>
          <p:cNvSpPr/>
          <p:nvPr/>
        </p:nvSpPr>
        <p:spPr>
          <a:xfrm>
            <a:off x="2743200" y="2057400"/>
            <a:ext cx="586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Comic Sans MS"/>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2800" spc="-1" strike="noStrike">
                <a:solidFill>
                  <a:srgbClr val="000000"/>
                </a:solidFill>
                <a:latin typeface="Comic Sans MS"/>
              </a:rPr>
              <a:t> </a:t>
            </a:r>
            <a:r>
              <a:rPr b="0" lang="en-US" sz="2800" spc="-1" strike="noStrike">
                <a:solidFill>
                  <a:srgbClr val="000000"/>
                </a:solidFill>
                <a:latin typeface="Comic Sans MS"/>
              </a:rPr>
              <a:t>calculate the mode from a set </a:t>
            </a:r>
            <a:r>
              <a:rPr b="0" lang="en-US" sz="2800" spc="-1" strike="noStrike">
                <a:solidFill>
                  <a:srgbClr val="000000"/>
                </a:solidFill>
                <a:latin typeface="Comic Sans MS"/>
              </a:rPr>
              <a:t>	</a:t>
            </a:r>
            <a:r>
              <a:rPr b="0" lang="en-US" sz="2800" spc="-1" strike="noStrike">
                <a:solidFill>
                  <a:srgbClr val="000000"/>
                </a:solidFill>
                <a:latin typeface="Comic Sans MS"/>
              </a:rPr>
              <a:t>of data</a:t>
            </a:r>
            <a:endParaRPr b="0" lang="en-US" sz="2800" spc="-1" strike="noStrike">
              <a:solidFill>
                <a:srgbClr val="000000"/>
              </a:solidFill>
              <a:latin typeface="Times New Roman"/>
            </a:endParaRPr>
          </a:p>
        </p:txBody>
      </p:sp>
      <p:pic>
        <p:nvPicPr>
          <p:cNvPr id="995" name="" descr=""/>
          <p:cNvPicPr/>
          <p:nvPr/>
        </p:nvPicPr>
        <p:blipFill>
          <a:blip r:embed="rId1"/>
          <a:stretch/>
        </p:blipFill>
        <p:spPr>
          <a:xfrm>
            <a:off x="3757680" y="3038400"/>
            <a:ext cx="4514760" cy="3362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996" name=""/>
          <p:cNvGrpSpPr/>
          <p:nvPr/>
        </p:nvGrpSpPr>
        <p:grpSpPr>
          <a:xfrm>
            <a:off x="2133720" y="1676520"/>
            <a:ext cx="4343400" cy="3428640"/>
            <a:chOff x="2133720" y="1676520"/>
            <a:chExt cx="4343400" cy="3428640"/>
          </a:xfrm>
        </p:grpSpPr>
        <p:grpSp>
          <p:nvGrpSpPr>
            <p:cNvPr id="997" name=""/>
            <p:cNvGrpSpPr/>
            <p:nvPr/>
          </p:nvGrpSpPr>
          <p:grpSpPr>
            <a:xfrm>
              <a:off x="2133720" y="4267080"/>
              <a:ext cx="838440" cy="838080"/>
              <a:chOff x="2133720" y="4267080"/>
              <a:chExt cx="838440" cy="838080"/>
            </a:xfrm>
          </p:grpSpPr>
          <p:cxnSp>
            <p:nvCxnSpPr>
              <p:cNvPr id="998" name=""/>
              <p:cNvCxnSpPr/>
              <p:nvPr/>
            </p:nvCxnSpPr>
            <p:spPr>
              <a:xfrm flipH="1" rot="16200000">
                <a:off x="2133720" y="4266720"/>
                <a:ext cx="838440" cy="838800"/>
              </a:xfrm>
              <a:prstGeom prst="curvedConnector2">
                <a:avLst/>
              </a:prstGeom>
              <a:ln w="38160">
                <a:solidFill>
                  <a:srgbClr val="000000"/>
                </a:solidFill>
                <a:miter/>
              </a:ln>
            </p:spPr>
          </p:cxnSp>
          <p:sp>
            <p:nvSpPr>
              <p:cNvPr id="999" name=""/>
              <p:cNvSpPr/>
              <p:nvPr/>
            </p:nvSpPr>
            <p:spPr>
              <a:xfrm>
                <a:off x="2788560" y="5100120"/>
                <a:ext cx="18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0" name=""/>
            <p:cNvSpPr/>
            <p:nvPr/>
          </p:nvSpPr>
          <p:spPr>
            <a:xfrm>
              <a:off x="4419720" y="167652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ext…</a:t>
              </a:r>
              <a:endParaRPr b="0" lang="en-US" sz="4000" spc="-1" strike="noStrike">
                <a:solidFill>
                  <a:srgbClr val="000000"/>
                </a:solidFill>
                <a:latin typeface="Times New Roman"/>
              </a:endParaRPr>
            </a:p>
          </p:txBody>
        </p:sp>
      </p:grpSp>
      <p:pic>
        <p:nvPicPr>
          <p:cNvPr id="1001" name="" descr=""/>
          <p:cNvPicPr/>
          <p:nvPr/>
        </p:nvPicPr>
        <p:blipFill>
          <a:blip r:embed="rId1"/>
          <a:stretch/>
        </p:blipFill>
        <p:spPr>
          <a:xfrm>
            <a:off x="533520" y="1517760"/>
            <a:ext cx="3690720" cy="2749320"/>
          </a:xfrm>
          <a:prstGeom prst="rect">
            <a:avLst/>
          </a:prstGeom>
          <a:ln w="0">
            <a:noFill/>
          </a:ln>
        </p:spPr>
      </p:pic>
      <p:pic>
        <p:nvPicPr>
          <p:cNvPr id="1002" name="" descr=""/>
          <p:cNvPicPr/>
          <p:nvPr/>
        </p:nvPicPr>
        <p:blipFill>
          <a:blip r:embed="rId2"/>
          <a:stretch/>
        </p:blipFill>
        <p:spPr>
          <a:xfrm>
            <a:off x="2971800" y="2330280"/>
            <a:ext cx="5562720" cy="4146840"/>
          </a:xfrm>
          <a:prstGeom prst="rect">
            <a:avLst/>
          </a:prstGeom>
          <a:ln w="0">
            <a:noFill/>
          </a:ln>
        </p:spPr>
      </p:pic>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996"/>
                                        </p:tgtEl>
                                        <p:attrNameLst>
                                          <p:attrName>style.visibility</p:attrName>
                                        </p:attrNameLst>
                                      </p:cBhvr>
                                      <p:to>
                                        <p:strVal val="visible"/>
                                      </p:to>
                                    </p:set>
                                    <p:animEffect filter="wipe(up)" transition="in">
                                      <p:cBhvr additive="repl">
                                        <p:cTn id="477" dur="500"/>
                                        <p:tgtEl>
                                          <p:spTgt spid="996"/>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002"/>
                                        </p:tgtEl>
                                        <p:attrNameLst>
                                          <p:attrName>style.visibility</p:attrName>
                                        </p:attrNameLst>
                                      </p:cBhvr>
                                      <p:to>
                                        <p:strVal val="visible"/>
                                      </p:to>
                                    </p:set>
                                    <p:animEffect filter="dissolve" transition="in">
                                      <p:cBhvr additive="repl">
                                        <p:cTn id="482"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70" name=""/>
          <p:cNvSpPr/>
          <p:nvPr/>
        </p:nvSpPr>
        <p:spPr>
          <a:xfrm>
            <a:off x="2249640" y="1477800"/>
            <a:ext cx="4644720" cy="4942080"/>
          </a:xfrm>
          <a:custGeom>
            <a:avLst/>
            <a:gdLst/>
            <a:ahLst/>
            <a:rect l="l" t="t" r="r" b="b"/>
            <a:pathLst>
              <a:path w="5853" h="6225">
                <a:moveTo>
                  <a:pt x="5491" y="248"/>
                </a:moveTo>
                <a:lnTo>
                  <a:pt x="5508" y="244"/>
                </a:lnTo>
                <a:lnTo>
                  <a:pt x="5526" y="248"/>
                </a:lnTo>
                <a:lnTo>
                  <a:pt x="5543" y="254"/>
                </a:lnTo>
                <a:lnTo>
                  <a:pt x="5561" y="262"/>
                </a:lnTo>
                <a:lnTo>
                  <a:pt x="5584" y="265"/>
                </a:lnTo>
                <a:lnTo>
                  <a:pt x="5607" y="271"/>
                </a:lnTo>
                <a:lnTo>
                  <a:pt x="5630" y="277"/>
                </a:lnTo>
                <a:lnTo>
                  <a:pt x="5654" y="283"/>
                </a:lnTo>
                <a:lnTo>
                  <a:pt x="5675" y="289"/>
                </a:lnTo>
                <a:lnTo>
                  <a:pt x="5696" y="295"/>
                </a:lnTo>
                <a:lnTo>
                  <a:pt x="5720" y="300"/>
                </a:lnTo>
                <a:lnTo>
                  <a:pt x="5743" y="308"/>
                </a:lnTo>
                <a:lnTo>
                  <a:pt x="5755" y="318"/>
                </a:lnTo>
                <a:lnTo>
                  <a:pt x="5757" y="432"/>
                </a:lnTo>
                <a:lnTo>
                  <a:pt x="5764" y="547"/>
                </a:lnTo>
                <a:lnTo>
                  <a:pt x="5770" y="659"/>
                </a:lnTo>
                <a:lnTo>
                  <a:pt x="5782" y="774"/>
                </a:lnTo>
                <a:lnTo>
                  <a:pt x="5793" y="884"/>
                </a:lnTo>
                <a:lnTo>
                  <a:pt x="5807" y="997"/>
                </a:lnTo>
                <a:lnTo>
                  <a:pt x="5822" y="1107"/>
                </a:lnTo>
                <a:lnTo>
                  <a:pt x="5840" y="1218"/>
                </a:lnTo>
                <a:lnTo>
                  <a:pt x="5844" y="1225"/>
                </a:lnTo>
                <a:lnTo>
                  <a:pt x="5846" y="1243"/>
                </a:lnTo>
                <a:lnTo>
                  <a:pt x="5848" y="1264"/>
                </a:lnTo>
                <a:lnTo>
                  <a:pt x="5850" y="1288"/>
                </a:lnTo>
                <a:lnTo>
                  <a:pt x="5853" y="1311"/>
                </a:lnTo>
                <a:lnTo>
                  <a:pt x="5852" y="1332"/>
                </a:lnTo>
                <a:lnTo>
                  <a:pt x="5852" y="1355"/>
                </a:lnTo>
                <a:lnTo>
                  <a:pt x="5848" y="1379"/>
                </a:lnTo>
                <a:lnTo>
                  <a:pt x="5844" y="1402"/>
                </a:lnTo>
                <a:lnTo>
                  <a:pt x="5832" y="1491"/>
                </a:lnTo>
                <a:lnTo>
                  <a:pt x="5822" y="1582"/>
                </a:lnTo>
                <a:lnTo>
                  <a:pt x="5815" y="1675"/>
                </a:lnTo>
                <a:lnTo>
                  <a:pt x="5809" y="1770"/>
                </a:lnTo>
                <a:lnTo>
                  <a:pt x="5803" y="1864"/>
                </a:lnTo>
                <a:lnTo>
                  <a:pt x="5799" y="1959"/>
                </a:lnTo>
                <a:lnTo>
                  <a:pt x="5797" y="2050"/>
                </a:lnTo>
                <a:lnTo>
                  <a:pt x="5799" y="2143"/>
                </a:lnTo>
                <a:lnTo>
                  <a:pt x="5788" y="2284"/>
                </a:lnTo>
                <a:lnTo>
                  <a:pt x="5778" y="2428"/>
                </a:lnTo>
                <a:lnTo>
                  <a:pt x="5764" y="2571"/>
                </a:lnTo>
                <a:lnTo>
                  <a:pt x="5753" y="2715"/>
                </a:lnTo>
                <a:lnTo>
                  <a:pt x="5739" y="2856"/>
                </a:lnTo>
                <a:lnTo>
                  <a:pt x="5727" y="2998"/>
                </a:lnTo>
                <a:lnTo>
                  <a:pt x="5716" y="3140"/>
                </a:lnTo>
                <a:lnTo>
                  <a:pt x="5710" y="3281"/>
                </a:lnTo>
                <a:lnTo>
                  <a:pt x="5708" y="3279"/>
                </a:lnTo>
                <a:lnTo>
                  <a:pt x="5698" y="3349"/>
                </a:lnTo>
                <a:lnTo>
                  <a:pt x="5689" y="3421"/>
                </a:lnTo>
                <a:lnTo>
                  <a:pt x="5679" y="3493"/>
                </a:lnTo>
                <a:lnTo>
                  <a:pt x="5669" y="3566"/>
                </a:lnTo>
                <a:lnTo>
                  <a:pt x="5658" y="3638"/>
                </a:lnTo>
                <a:lnTo>
                  <a:pt x="5646" y="3714"/>
                </a:lnTo>
                <a:lnTo>
                  <a:pt x="5636" y="3787"/>
                </a:lnTo>
                <a:lnTo>
                  <a:pt x="5630" y="3867"/>
                </a:lnTo>
                <a:lnTo>
                  <a:pt x="5625" y="3913"/>
                </a:lnTo>
                <a:lnTo>
                  <a:pt x="5619" y="3962"/>
                </a:lnTo>
                <a:lnTo>
                  <a:pt x="5609" y="4010"/>
                </a:lnTo>
                <a:lnTo>
                  <a:pt x="5601" y="4059"/>
                </a:lnTo>
                <a:lnTo>
                  <a:pt x="5592" y="4105"/>
                </a:lnTo>
                <a:lnTo>
                  <a:pt x="5582" y="4154"/>
                </a:lnTo>
                <a:lnTo>
                  <a:pt x="5572" y="4202"/>
                </a:lnTo>
                <a:lnTo>
                  <a:pt x="5566" y="4253"/>
                </a:lnTo>
                <a:lnTo>
                  <a:pt x="5565" y="4264"/>
                </a:lnTo>
                <a:lnTo>
                  <a:pt x="5563" y="4276"/>
                </a:lnTo>
                <a:lnTo>
                  <a:pt x="5561" y="4288"/>
                </a:lnTo>
                <a:lnTo>
                  <a:pt x="5559" y="4301"/>
                </a:lnTo>
                <a:lnTo>
                  <a:pt x="5555" y="4311"/>
                </a:lnTo>
                <a:lnTo>
                  <a:pt x="5553" y="4323"/>
                </a:lnTo>
                <a:lnTo>
                  <a:pt x="5551" y="4334"/>
                </a:lnTo>
                <a:lnTo>
                  <a:pt x="5553" y="4350"/>
                </a:lnTo>
                <a:lnTo>
                  <a:pt x="5545" y="4360"/>
                </a:lnTo>
                <a:lnTo>
                  <a:pt x="5532" y="4456"/>
                </a:lnTo>
                <a:lnTo>
                  <a:pt x="5520" y="4553"/>
                </a:lnTo>
                <a:lnTo>
                  <a:pt x="5508" y="4652"/>
                </a:lnTo>
                <a:lnTo>
                  <a:pt x="5497" y="4751"/>
                </a:lnTo>
                <a:lnTo>
                  <a:pt x="5483" y="4850"/>
                </a:lnTo>
                <a:lnTo>
                  <a:pt x="5471" y="4949"/>
                </a:lnTo>
                <a:lnTo>
                  <a:pt x="5464" y="5050"/>
                </a:lnTo>
                <a:lnTo>
                  <a:pt x="5460" y="5151"/>
                </a:lnTo>
                <a:lnTo>
                  <a:pt x="5452" y="5160"/>
                </a:lnTo>
                <a:lnTo>
                  <a:pt x="5452" y="5172"/>
                </a:lnTo>
                <a:lnTo>
                  <a:pt x="5452" y="5184"/>
                </a:lnTo>
                <a:lnTo>
                  <a:pt x="5456" y="5195"/>
                </a:lnTo>
                <a:lnTo>
                  <a:pt x="5458" y="5205"/>
                </a:lnTo>
                <a:lnTo>
                  <a:pt x="5460" y="5217"/>
                </a:lnTo>
                <a:lnTo>
                  <a:pt x="5458" y="5228"/>
                </a:lnTo>
                <a:lnTo>
                  <a:pt x="5458" y="5240"/>
                </a:lnTo>
                <a:lnTo>
                  <a:pt x="5458" y="5250"/>
                </a:lnTo>
                <a:lnTo>
                  <a:pt x="5458" y="5261"/>
                </a:lnTo>
                <a:lnTo>
                  <a:pt x="5454" y="5271"/>
                </a:lnTo>
                <a:lnTo>
                  <a:pt x="5452" y="5283"/>
                </a:lnTo>
                <a:lnTo>
                  <a:pt x="5450" y="5302"/>
                </a:lnTo>
                <a:lnTo>
                  <a:pt x="5458" y="5321"/>
                </a:lnTo>
                <a:lnTo>
                  <a:pt x="5446" y="5337"/>
                </a:lnTo>
                <a:lnTo>
                  <a:pt x="5446" y="5370"/>
                </a:lnTo>
                <a:lnTo>
                  <a:pt x="5448" y="5405"/>
                </a:lnTo>
                <a:lnTo>
                  <a:pt x="5444" y="5438"/>
                </a:lnTo>
                <a:lnTo>
                  <a:pt x="5442" y="5471"/>
                </a:lnTo>
                <a:lnTo>
                  <a:pt x="5438" y="5504"/>
                </a:lnTo>
                <a:lnTo>
                  <a:pt x="5435" y="5537"/>
                </a:lnTo>
                <a:lnTo>
                  <a:pt x="5431" y="5572"/>
                </a:lnTo>
                <a:lnTo>
                  <a:pt x="5431" y="5608"/>
                </a:lnTo>
                <a:lnTo>
                  <a:pt x="5423" y="5659"/>
                </a:lnTo>
                <a:lnTo>
                  <a:pt x="5421" y="5707"/>
                </a:lnTo>
                <a:lnTo>
                  <a:pt x="5419" y="5756"/>
                </a:lnTo>
                <a:lnTo>
                  <a:pt x="5419" y="5804"/>
                </a:lnTo>
                <a:lnTo>
                  <a:pt x="5419" y="5851"/>
                </a:lnTo>
                <a:lnTo>
                  <a:pt x="5419" y="5901"/>
                </a:lnTo>
                <a:lnTo>
                  <a:pt x="5421" y="5950"/>
                </a:lnTo>
                <a:lnTo>
                  <a:pt x="5423" y="6004"/>
                </a:lnTo>
                <a:lnTo>
                  <a:pt x="5405" y="6008"/>
                </a:lnTo>
                <a:lnTo>
                  <a:pt x="5388" y="6012"/>
                </a:lnTo>
                <a:lnTo>
                  <a:pt x="5371" y="6012"/>
                </a:lnTo>
                <a:lnTo>
                  <a:pt x="5353" y="6014"/>
                </a:lnTo>
                <a:lnTo>
                  <a:pt x="5336" y="6014"/>
                </a:lnTo>
                <a:lnTo>
                  <a:pt x="5318" y="6018"/>
                </a:lnTo>
                <a:lnTo>
                  <a:pt x="5301" y="6022"/>
                </a:lnTo>
                <a:lnTo>
                  <a:pt x="5285" y="6029"/>
                </a:lnTo>
                <a:lnTo>
                  <a:pt x="5239" y="6023"/>
                </a:lnTo>
                <a:lnTo>
                  <a:pt x="5196" y="6020"/>
                </a:lnTo>
                <a:lnTo>
                  <a:pt x="5153" y="6016"/>
                </a:lnTo>
                <a:lnTo>
                  <a:pt x="5113" y="6012"/>
                </a:lnTo>
                <a:lnTo>
                  <a:pt x="5068" y="6008"/>
                </a:lnTo>
                <a:lnTo>
                  <a:pt x="5025" y="6006"/>
                </a:lnTo>
                <a:lnTo>
                  <a:pt x="4979" y="6006"/>
                </a:lnTo>
                <a:lnTo>
                  <a:pt x="4934" y="6006"/>
                </a:lnTo>
                <a:lnTo>
                  <a:pt x="4923" y="6029"/>
                </a:lnTo>
                <a:lnTo>
                  <a:pt x="4915" y="6055"/>
                </a:lnTo>
                <a:lnTo>
                  <a:pt x="4907" y="6080"/>
                </a:lnTo>
                <a:lnTo>
                  <a:pt x="4903" y="6107"/>
                </a:lnTo>
                <a:lnTo>
                  <a:pt x="4897" y="6134"/>
                </a:lnTo>
                <a:lnTo>
                  <a:pt x="4895" y="6161"/>
                </a:lnTo>
                <a:lnTo>
                  <a:pt x="4890" y="6188"/>
                </a:lnTo>
                <a:lnTo>
                  <a:pt x="4888" y="6217"/>
                </a:lnTo>
                <a:lnTo>
                  <a:pt x="4878" y="6225"/>
                </a:lnTo>
                <a:lnTo>
                  <a:pt x="4808" y="6219"/>
                </a:lnTo>
                <a:lnTo>
                  <a:pt x="4740" y="6219"/>
                </a:lnTo>
                <a:lnTo>
                  <a:pt x="4670" y="6217"/>
                </a:lnTo>
                <a:lnTo>
                  <a:pt x="4605" y="6217"/>
                </a:lnTo>
                <a:lnTo>
                  <a:pt x="4535" y="6215"/>
                </a:lnTo>
                <a:lnTo>
                  <a:pt x="4467" y="6214"/>
                </a:lnTo>
                <a:lnTo>
                  <a:pt x="4397" y="6206"/>
                </a:lnTo>
                <a:lnTo>
                  <a:pt x="4329" y="6200"/>
                </a:lnTo>
                <a:lnTo>
                  <a:pt x="4211" y="6192"/>
                </a:lnTo>
                <a:lnTo>
                  <a:pt x="4093" y="6184"/>
                </a:lnTo>
                <a:lnTo>
                  <a:pt x="3974" y="6175"/>
                </a:lnTo>
                <a:lnTo>
                  <a:pt x="3856" y="6167"/>
                </a:lnTo>
                <a:lnTo>
                  <a:pt x="3736" y="6155"/>
                </a:lnTo>
                <a:lnTo>
                  <a:pt x="3619" y="6146"/>
                </a:lnTo>
                <a:lnTo>
                  <a:pt x="3501" y="6136"/>
                </a:lnTo>
                <a:lnTo>
                  <a:pt x="3385" y="6128"/>
                </a:lnTo>
                <a:lnTo>
                  <a:pt x="3315" y="6119"/>
                </a:lnTo>
                <a:lnTo>
                  <a:pt x="3245" y="6113"/>
                </a:lnTo>
                <a:lnTo>
                  <a:pt x="3177" y="6105"/>
                </a:lnTo>
                <a:lnTo>
                  <a:pt x="3111" y="6099"/>
                </a:lnTo>
                <a:lnTo>
                  <a:pt x="3043" y="6089"/>
                </a:lnTo>
                <a:lnTo>
                  <a:pt x="2977" y="6082"/>
                </a:lnTo>
                <a:lnTo>
                  <a:pt x="2910" y="6072"/>
                </a:lnTo>
                <a:lnTo>
                  <a:pt x="2846" y="6060"/>
                </a:lnTo>
                <a:lnTo>
                  <a:pt x="2803" y="6058"/>
                </a:lnTo>
                <a:lnTo>
                  <a:pt x="2762" y="6055"/>
                </a:lnTo>
                <a:lnTo>
                  <a:pt x="2721" y="6047"/>
                </a:lnTo>
                <a:lnTo>
                  <a:pt x="2683" y="6041"/>
                </a:lnTo>
                <a:lnTo>
                  <a:pt x="2642" y="6031"/>
                </a:lnTo>
                <a:lnTo>
                  <a:pt x="2601" y="6025"/>
                </a:lnTo>
                <a:lnTo>
                  <a:pt x="2560" y="6023"/>
                </a:lnTo>
                <a:lnTo>
                  <a:pt x="2522" y="6027"/>
                </a:lnTo>
                <a:lnTo>
                  <a:pt x="2378" y="6027"/>
                </a:lnTo>
                <a:lnTo>
                  <a:pt x="2237" y="6031"/>
                </a:lnTo>
                <a:lnTo>
                  <a:pt x="2095" y="6037"/>
                </a:lnTo>
                <a:lnTo>
                  <a:pt x="1955" y="6043"/>
                </a:lnTo>
                <a:lnTo>
                  <a:pt x="1814" y="6043"/>
                </a:lnTo>
                <a:lnTo>
                  <a:pt x="1674" y="6045"/>
                </a:lnTo>
                <a:lnTo>
                  <a:pt x="1534" y="6039"/>
                </a:lnTo>
                <a:lnTo>
                  <a:pt x="1395" y="6029"/>
                </a:lnTo>
                <a:lnTo>
                  <a:pt x="1341" y="6022"/>
                </a:lnTo>
                <a:lnTo>
                  <a:pt x="1286" y="6020"/>
                </a:lnTo>
                <a:lnTo>
                  <a:pt x="1230" y="6018"/>
                </a:lnTo>
                <a:lnTo>
                  <a:pt x="1174" y="6016"/>
                </a:lnTo>
                <a:lnTo>
                  <a:pt x="1116" y="6012"/>
                </a:lnTo>
                <a:lnTo>
                  <a:pt x="1059" y="6008"/>
                </a:lnTo>
                <a:lnTo>
                  <a:pt x="1005" y="6000"/>
                </a:lnTo>
                <a:lnTo>
                  <a:pt x="955" y="5992"/>
                </a:lnTo>
                <a:lnTo>
                  <a:pt x="840" y="5987"/>
                </a:lnTo>
                <a:lnTo>
                  <a:pt x="726" y="5983"/>
                </a:lnTo>
                <a:lnTo>
                  <a:pt x="611" y="5975"/>
                </a:lnTo>
                <a:lnTo>
                  <a:pt x="499" y="5967"/>
                </a:lnTo>
                <a:lnTo>
                  <a:pt x="384" y="5954"/>
                </a:lnTo>
                <a:lnTo>
                  <a:pt x="274" y="5938"/>
                </a:lnTo>
                <a:lnTo>
                  <a:pt x="165" y="5915"/>
                </a:lnTo>
                <a:lnTo>
                  <a:pt x="63" y="5890"/>
                </a:lnTo>
                <a:lnTo>
                  <a:pt x="63" y="5878"/>
                </a:lnTo>
                <a:lnTo>
                  <a:pt x="63" y="5868"/>
                </a:lnTo>
                <a:lnTo>
                  <a:pt x="59" y="5859"/>
                </a:lnTo>
                <a:lnTo>
                  <a:pt x="57" y="5851"/>
                </a:lnTo>
                <a:lnTo>
                  <a:pt x="47" y="5833"/>
                </a:lnTo>
                <a:lnTo>
                  <a:pt x="45" y="5818"/>
                </a:lnTo>
                <a:lnTo>
                  <a:pt x="51" y="5795"/>
                </a:lnTo>
                <a:lnTo>
                  <a:pt x="57" y="5771"/>
                </a:lnTo>
                <a:lnTo>
                  <a:pt x="57" y="5748"/>
                </a:lnTo>
                <a:lnTo>
                  <a:pt x="57" y="5725"/>
                </a:lnTo>
                <a:lnTo>
                  <a:pt x="53" y="5700"/>
                </a:lnTo>
                <a:lnTo>
                  <a:pt x="53" y="5676"/>
                </a:lnTo>
                <a:lnTo>
                  <a:pt x="55" y="5653"/>
                </a:lnTo>
                <a:lnTo>
                  <a:pt x="63" y="5632"/>
                </a:lnTo>
                <a:lnTo>
                  <a:pt x="64" y="5577"/>
                </a:lnTo>
                <a:lnTo>
                  <a:pt x="66" y="5523"/>
                </a:lnTo>
                <a:lnTo>
                  <a:pt x="63" y="5469"/>
                </a:lnTo>
                <a:lnTo>
                  <a:pt x="61" y="5415"/>
                </a:lnTo>
                <a:lnTo>
                  <a:pt x="57" y="5360"/>
                </a:lnTo>
                <a:lnTo>
                  <a:pt x="59" y="5308"/>
                </a:lnTo>
                <a:lnTo>
                  <a:pt x="66" y="5255"/>
                </a:lnTo>
                <a:lnTo>
                  <a:pt x="80" y="5207"/>
                </a:lnTo>
                <a:lnTo>
                  <a:pt x="105" y="4881"/>
                </a:lnTo>
                <a:lnTo>
                  <a:pt x="86" y="4753"/>
                </a:lnTo>
                <a:lnTo>
                  <a:pt x="68" y="4625"/>
                </a:lnTo>
                <a:lnTo>
                  <a:pt x="51" y="4495"/>
                </a:lnTo>
                <a:lnTo>
                  <a:pt x="37" y="4365"/>
                </a:lnTo>
                <a:lnTo>
                  <a:pt x="26" y="4233"/>
                </a:lnTo>
                <a:lnTo>
                  <a:pt x="18" y="4104"/>
                </a:lnTo>
                <a:lnTo>
                  <a:pt x="14" y="3972"/>
                </a:lnTo>
                <a:lnTo>
                  <a:pt x="18" y="3844"/>
                </a:lnTo>
                <a:lnTo>
                  <a:pt x="6" y="3737"/>
                </a:lnTo>
                <a:lnTo>
                  <a:pt x="2" y="3632"/>
                </a:lnTo>
                <a:lnTo>
                  <a:pt x="0" y="3526"/>
                </a:lnTo>
                <a:lnTo>
                  <a:pt x="6" y="3421"/>
                </a:lnTo>
                <a:lnTo>
                  <a:pt x="10" y="3316"/>
                </a:lnTo>
                <a:lnTo>
                  <a:pt x="20" y="3211"/>
                </a:lnTo>
                <a:lnTo>
                  <a:pt x="31" y="3107"/>
                </a:lnTo>
                <a:lnTo>
                  <a:pt x="43" y="3008"/>
                </a:lnTo>
                <a:lnTo>
                  <a:pt x="33" y="2864"/>
                </a:lnTo>
                <a:lnTo>
                  <a:pt x="31" y="2723"/>
                </a:lnTo>
                <a:lnTo>
                  <a:pt x="30" y="2581"/>
                </a:lnTo>
                <a:lnTo>
                  <a:pt x="35" y="2441"/>
                </a:lnTo>
                <a:lnTo>
                  <a:pt x="41" y="2302"/>
                </a:lnTo>
                <a:lnTo>
                  <a:pt x="51" y="2162"/>
                </a:lnTo>
                <a:lnTo>
                  <a:pt x="61" y="2023"/>
                </a:lnTo>
                <a:lnTo>
                  <a:pt x="74" y="1883"/>
                </a:lnTo>
                <a:lnTo>
                  <a:pt x="125" y="1191"/>
                </a:lnTo>
                <a:lnTo>
                  <a:pt x="138" y="1107"/>
                </a:lnTo>
                <a:lnTo>
                  <a:pt x="148" y="1026"/>
                </a:lnTo>
                <a:lnTo>
                  <a:pt x="150" y="942"/>
                </a:lnTo>
                <a:lnTo>
                  <a:pt x="152" y="861"/>
                </a:lnTo>
                <a:lnTo>
                  <a:pt x="148" y="776"/>
                </a:lnTo>
                <a:lnTo>
                  <a:pt x="148" y="692"/>
                </a:lnTo>
                <a:lnTo>
                  <a:pt x="150" y="607"/>
                </a:lnTo>
                <a:lnTo>
                  <a:pt x="158" y="521"/>
                </a:lnTo>
                <a:lnTo>
                  <a:pt x="161" y="512"/>
                </a:lnTo>
                <a:lnTo>
                  <a:pt x="165" y="502"/>
                </a:lnTo>
                <a:lnTo>
                  <a:pt x="165" y="492"/>
                </a:lnTo>
                <a:lnTo>
                  <a:pt x="167" y="483"/>
                </a:lnTo>
                <a:lnTo>
                  <a:pt x="165" y="471"/>
                </a:lnTo>
                <a:lnTo>
                  <a:pt x="165" y="461"/>
                </a:lnTo>
                <a:lnTo>
                  <a:pt x="165" y="450"/>
                </a:lnTo>
                <a:lnTo>
                  <a:pt x="169" y="444"/>
                </a:lnTo>
                <a:lnTo>
                  <a:pt x="208" y="442"/>
                </a:lnTo>
                <a:lnTo>
                  <a:pt x="249" y="436"/>
                </a:lnTo>
                <a:lnTo>
                  <a:pt x="287" y="428"/>
                </a:lnTo>
                <a:lnTo>
                  <a:pt x="328" y="419"/>
                </a:lnTo>
                <a:lnTo>
                  <a:pt x="367" y="407"/>
                </a:lnTo>
                <a:lnTo>
                  <a:pt x="406" y="399"/>
                </a:lnTo>
                <a:lnTo>
                  <a:pt x="447" y="392"/>
                </a:lnTo>
                <a:lnTo>
                  <a:pt x="489" y="390"/>
                </a:lnTo>
                <a:lnTo>
                  <a:pt x="658" y="353"/>
                </a:lnTo>
                <a:lnTo>
                  <a:pt x="831" y="324"/>
                </a:lnTo>
                <a:lnTo>
                  <a:pt x="1005" y="298"/>
                </a:lnTo>
                <a:lnTo>
                  <a:pt x="1182" y="279"/>
                </a:lnTo>
                <a:lnTo>
                  <a:pt x="1358" y="258"/>
                </a:lnTo>
                <a:lnTo>
                  <a:pt x="1534" y="238"/>
                </a:lnTo>
                <a:lnTo>
                  <a:pt x="1707" y="219"/>
                </a:lnTo>
                <a:lnTo>
                  <a:pt x="1882" y="198"/>
                </a:lnTo>
                <a:lnTo>
                  <a:pt x="2004" y="182"/>
                </a:lnTo>
                <a:lnTo>
                  <a:pt x="2128" y="169"/>
                </a:lnTo>
                <a:lnTo>
                  <a:pt x="2250" y="153"/>
                </a:lnTo>
                <a:lnTo>
                  <a:pt x="2372" y="139"/>
                </a:lnTo>
                <a:lnTo>
                  <a:pt x="2493" y="120"/>
                </a:lnTo>
                <a:lnTo>
                  <a:pt x="2615" y="103"/>
                </a:lnTo>
                <a:lnTo>
                  <a:pt x="2737" y="83"/>
                </a:lnTo>
                <a:lnTo>
                  <a:pt x="2859" y="62"/>
                </a:lnTo>
                <a:lnTo>
                  <a:pt x="3053" y="42"/>
                </a:lnTo>
                <a:lnTo>
                  <a:pt x="3251" y="27"/>
                </a:lnTo>
                <a:lnTo>
                  <a:pt x="3449" y="11"/>
                </a:lnTo>
                <a:lnTo>
                  <a:pt x="3650" y="4"/>
                </a:lnTo>
                <a:lnTo>
                  <a:pt x="3850" y="0"/>
                </a:lnTo>
                <a:lnTo>
                  <a:pt x="4050" y="6"/>
                </a:lnTo>
                <a:lnTo>
                  <a:pt x="4250" y="19"/>
                </a:lnTo>
                <a:lnTo>
                  <a:pt x="4449" y="44"/>
                </a:lnTo>
                <a:lnTo>
                  <a:pt x="4579" y="64"/>
                </a:lnTo>
                <a:lnTo>
                  <a:pt x="4711" y="85"/>
                </a:lnTo>
                <a:lnTo>
                  <a:pt x="4843" y="106"/>
                </a:lnTo>
                <a:lnTo>
                  <a:pt x="4975" y="130"/>
                </a:lnTo>
                <a:lnTo>
                  <a:pt x="5105" y="153"/>
                </a:lnTo>
                <a:lnTo>
                  <a:pt x="5235" y="180"/>
                </a:lnTo>
                <a:lnTo>
                  <a:pt x="5363" y="211"/>
                </a:lnTo>
                <a:lnTo>
                  <a:pt x="5491" y="248"/>
                </a:lnTo>
                <a:close/>
              </a:path>
            </a:pathLst>
          </a:custGeom>
          <a:solidFill>
            <a:srgbClr val="000000">
              <a:alpha val="50000"/>
            </a:srgbClr>
          </a:solidFill>
          <a:ln w="18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349360" y="1668600"/>
            <a:ext cx="4203720" cy="4578120"/>
          </a:xfrm>
          <a:custGeom>
            <a:avLst/>
            <a:gdLst/>
            <a:ahLst/>
            <a:rect l="l" t="t" r="r" b="b"/>
            <a:pathLst>
              <a:path w="5296" h="5770">
                <a:moveTo>
                  <a:pt x="3995" y="16"/>
                </a:moveTo>
                <a:lnTo>
                  <a:pt x="4014" y="10"/>
                </a:lnTo>
                <a:lnTo>
                  <a:pt x="4014" y="12"/>
                </a:lnTo>
                <a:lnTo>
                  <a:pt x="4119" y="12"/>
                </a:lnTo>
                <a:lnTo>
                  <a:pt x="4225" y="16"/>
                </a:lnTo>
                <a:lnTo>
                  <a:pt x="4332" y="20"/>
                </a:lnTo>
                <a:lnTo>
                  <a:pt x="4441" y="29"/>
                </a:lnTo>
                <a:lnTo>
                  <a:pt x="4545" y="39"/>
                </a:lnTo>
                <a:lnTo>
                  <a:pt x="4652" y="53"/>
                </a:lnTo>
                <a:lnTo>
                  <a:pt x="4757" y="68"/>
                </a:lnTo>
                <a:lnTo>
                  <a:pt x="4860" y="88"/>
                </a:lnTo>
                <a:lnTo>
                  <a:pt x="4885" y="93"/>
                </a:lnTo>
                <a:lnTo>
                  <a:pt x="4916" y="101"/>
                </a:lnTo>
                <a:lnTo>
                  <a:pt x="4947" y="107"/>
                </a:lnTo>
                <a:lnTo>
                  <a:pt x="4980" y="115"/>
                </a:lnTo>
                <a:lnTo>
                  <a:pt x="5009" y="124"/>
                </a:lnTo>
                <a:lnTo>
                  <a:pt x="5036" y="142"/>
                </a:lnTo>
                <a:lnTo>
                  <a:pt x="5055" y="163"/>
                </a:lnTo>
                <a:lnTo>
                  <a:pt x="5069" y="196"/>
                </a:lnTo>
                <a:lnTo>
                  <a:pt x="5096" y="311"/>
                </a:lnTo>
                <a:lnTo>
                  <a:pt x="5119" y="427"/>
                </a:lnTo>
                <a:lnTo>
                  <a:pt x="5139" y="543"/>
                </a:lnTo>
                <a:lnTo>
                  <a:pt x="5160" y="662"/>
                </a:lnTo>
                <a:lnTo>
                  <a:pt x="5178" y="778"/>
                </a:lnTo>
                <a:lnTo>
                  <a:pt x="5197" y="896"/>
                </a:lnTo>
                <a:lnTo>
                  <a:pt x="5218" y="1015"/>
                </a:lnTo>
                <a:lnTo>
                  <a:pt x="5246" y="1133"/>
                </a:lnTo>
                <a:lnTo>
                  <a:pt x="5251" y="1168"/>
                </a:lnTo>
                <a:lnTo>
                  <a:pt x="5255" y="1205"/>
                </a:lnTo>
                <a:lnTo>
                  <a:pt x="5257" y="1242"/>
                </a:lnTo>
                <a:lnTo>
                  <a:pt x="5259" y="1280"/>
                </a:lnTo>
                <a:lnTo>
                  <a:pt x="5259" y="1317"/>
                </a:lnTo>
                <a:lnTo>
                  <a:pt x="5261" y="1354"/>
                </a:lnTo>
                <a:lnTo>
                  <a:pt x="5265" y="1387"/>
                </a:lnTo>
                <a:lnTo>
                  <a:pt x="5273" y="1422"/>
                </a:lnTo>
                <a:lnTo>
                  <a:pt x="5288" y="1627"/>
                </a:lnTo>
                <a:lnTo>
                  <a:pt x="5296" y="1837"/>
                </a:lnTo>
                <a:lnTo>
                  <a:pt x="5294" y="2046"/>
                </a:lnTo>
                <a:lnTo>
                  <a:pt x="5290" y="2256"/>
                </a:lnTo>
                <a:lnTo>
                  <a:pt x="5278" y="2463"/>
                </a:lnTo>
                <a:lnTo>
                  <a:pt x="5269" y="2671"/>
                </a:lnTo>
                <a:lnTo>
                  <a:pt x="5257" y="2876"/>
                </a:lnTo>
                <a:lnTo>
                  <a:pt x="5251" y="3082"/>
                </a:lnTo>
                <a:lnTo>
                  <a:pt x="5189" y="3819"/>
                </a:lnTo>
                <a:lnTo>
                  <a:pt x="5160" y="3968"/>
                </a:lnTo>
                <a:lnTo>
                  <a:pt x="5133" y="4120"/>
                </a:lnTo>
                <a:lnTo>
                  <a:pt x="5106" y="4269"/>
                </a:lnTo>
                <a:lnTo>
                  <a:pt x="5081" y="4420"/>
                </a:lnTo>
                <a:lnTo>
                  <a:pt x="5054" y="4571"/>
                </a:lnTo>
                <a:lnTo>
                  <a:pt x="5030" y="4723"/>
                </a:lnTo>
                <a:lnTo>
                  <a:pt x="5009" y="4876"/>
                </a:lnTo>
                <a:lnTo>
                  <a:pt x="4991" y="5033"/>
                </a:lnTo>
                <a:lnTo>
                  <a:pt x="4980" y="5120"/>
                </a:lnTo>
                <a:lnTo>
                  <a:pt x="4964" y="5209"/>
                </a:lnTo>
                <a:lnTo>
                  <a:pt x="4943" y="5295"/>
                </a:lnTo>
                <a:lnTo>
                  <a:pt x="4918" y="5380"/>
                </a:lnTo>
                <a:lnTo>
                  <a:pt x="4887" y="5462"/>
                </a:lnTo>
                <a:lnTo>
                  <a:pt x="4858" y="5545"/>
                </a:lnTo>
                <a:lnTo>
                  <a:pt x="4827" y="5626"/>
                </a:lnTo>
                <a:lnTo>
                  <a:pt x="4799" y="5712"/>
                </a:lnTo>
                <a:lnTo>
                  <a:pt x="4780" y="5741"/>
                </a:lnTo>
                <a:lnTo>
                  <a:pt x="4602" y="5737"/>
                </a:lnTo>
                <a:lnTo>
                  <a:pt x="4429" y="5735"/>
                </a:lnTo>
                <a:lnTo>
                  <a:pt x="4255" y="5731"/>
                </a:lnTo>
                <a:lnTo>
                  <a:pt x="4084" y="5731"/>
                </a:lnTo>
                <a:lnTo>
                  <a:pt x="3913" y="5729"/>
                </a:lnTo>
                <a:lnTo>
                  <a:pt x="3743" y="5731"/>
                </a:lnTo>
                <a:lnTo>
                  <a:pt x="3572" y="5733"/>
                </a:lnTo>
                <a:lnTo>
                  <a:pt x="3401" y="5739"/>
                </a:lnTo>
                <a:lnTo>
                  <a:pt x="3360" y="5743"/>
                </a:lnTo>
                <a:lnTo>
                  <a:pt x="3320" y="5747"/>
                </a:lnTo>
                <a:lnTo>
                  <a:pt x="3277" y="5751"/>
                </a:lnTo>
                <a:lnTo>
                  <a:pt x="3234" y="5756"/>
                </a:lnTo>
                <a:lnTo>
                  <a:pt x="3190" y="5758"/>
                </a:lnTo>
                <a:lnTo>
                  <a:pt x="3147" y="5762"/>
                </a:lnTo>
                <a:lnTo>
                  <a:pt x="3104" y="5764"/>
                </a:lnTo>
                <a:lnTo>
                  <a:pt x="3062" y="5768"/>
                </a:lnTo>
                <a:lnTo>
                  <a:pt x="2823" y="5768"/>
                </a:lnTo>
                <a:lnTo>
                  <a:pt x="2825" y="5753"/>
                </a:lnTo>
                <a:lnTo>
                  <a:pt x="2934" y="5619"/>
                </a:lnTo>
                <a:lnTo>
                  <a:pt x="3042" y="5485"/>
                </a:lnTo>
                <a:lnTo>
                  <a:pt x="3149" y="5351"/>
                </a:lnTo>
                <a:lnTo>
                  <a:pt x="3256" y="5219"/>
                </a:lnTo>
                <a:lnTo>
                  <a:pt x="3355" y="5081"/>
                </a:lnTo>
                <a:lnTo>
                  <a:pt x="3454" y="4944"/>
                </a:lnTo>
                <a:lnTo>
                  <a:pt x="3547" y="4804"/>
                </a:lnTo>
                <a:lnTo>
                  <a:pt x="3634" y="4663"/>
                </a:lnTo>
                <a:lnTo>
                  <a:pt x="3634" y="4649"/>
                </a:lnTo>
                <a:lnTo>
                  <a:pt x="3580" y="4601"/>
                </a:lnTo>
                <a:lnTo>
                  <a:pt x="3525" y="4558"/>
                </a:lnTo>
                <a:lnTo>
                  <a:pt x="3469" y="4517"/>
                </a:lnTo>
                <a:lnTo>
                  <a:pt x="3413" y="4480"/>
                </a:lnTo>
                <a:lnTo>
                  <a:pt x="3353" y="4443"/>
                </a:lnTo>
                <a:lnTo>
                  <a:pt x="3293" y="4410"/>
                </a:lnTo>
                <a:lnTo>
                  <a:pt x="3231" y="4381"/>
                </a:lnTo>
                <a:lnTo>
                  <a:pt x="3168" y="4358"/>
                </a:lnTo>
                <a:lnTo>
                  <a:pt x="3300" y="4333"/>
                </a:lnTo>
                <a:lnTo>
                  <a:pt x="3434" y="4304"/>
                </a:lnTo>
                <a:lnTo>
                  <a:pt x="3566" y="4271"/>
                </a:lnTo>
                <a:lnTo>
                  <a:pt x="3700" y="4238"/>
                </a:lnTo>
                <a:lnTo>
                  <a:pt x="3830" y="4199"/>
                </a:lnTo>
                <a:lnTo>
                  <a:pt x="3962" y="4162"/>
                </a:lnTo>
                <a:lnTo>
                  <a:pt x="4092" y="4123"/>
                </a:lnTo>
                <a:lnTo>
                  <a:pt x="4223" y="4087"/>
                </a:lnTo>
                <a:lnTo>
                  <a:pt x="4284" y="4073"/>
                </a:lnTo>
                <a:lnTo>
                  <a:pt x="4346" y="4061"/>
                </a:lnTo>
                <a:lnTo>
                  <a:pt x="4408" y="4052"/>
                </a:lnTo>
                <a:lnTo>
                  <a:pt x="4470" y="4042"/>
                </a:lnTo>
                <a:lnTo>
                  <a:pt x="4530" y="4030"/>
                </a:lnTo>
                <a:lnTo>
                  <a:pt x="4592" y="4019"/>
                </a:lnTo>
                <a:lnTo>
                  <a:pt x="4652" y="4005"/>
                </a:lnTo>
                <a:lnTo>
                  <a:pt x="4714" y="3992"/>
                </a:lnTo>
                <a:lnTo>
                  <a:pt x="4724" y="3980"/>
                </a:lnTo>
                <a:lnTo>
                  <a:pt x="4712" y="3947"/>
                </a:lnTo>
                <a:lnTo>
                  <a:pt x="4704" y="3914"/>
                </a:lnTo>
                <a:lnTo>
                  <a:pt x="4695" y="3881"/>
                </a:lnTo>
                <a:lnTo>
                  <a:pt x="4689" y="3848"/>
                </a:lnTo>
                <a:lnTo>
                  <a:pt x="4679" y="3813"/>
                </a:lnTo>
                <a:lnTo>
                  <a:pt x="4673" y="3780"/>
                </a:lnTo>
                <a:lnTo>
                  <a:pt x="4666" y="3747"/>
                </a:lnTo>
                <a:lnTo>
                  <a:pt x="4660" y="3714"/>
                </a:lnTo>
                <a:lnTo>
                  <a:pt x="4666" y="3703"/>
                </a:lnTo>
                <a:lnTo>
                  <a:pt x="4675" y="3697"/>
                </a:lnTo>
                <a:lnTo>
                  <a:pt x="4687" y="3691"/>
                </a:lnTo>
                <a:lnTo>
                  <a:pt x="4699" y="3687"/>
                </a:lnTo>
                <a:lnTo>
                  <a:pt x="4710" y="3681"/>
                </a:lnTo>
                <a:lnTo>
                  <a:pt x="4724" y="3679"/>
                </a:lnTo>
                <a:lnTo>
                  <a:pt x="4735" y="3674"/>
                </a:lnTo>
                <a:lnTo>
                  <a:pt x="4749" y="3672"/>
                </a:lnTo>
                <a:lnTo>
                  <a:pt x="4786" y="3662"/>
                </a:lnTo>
                <a:lnTo>
                  <a:pt x="4823" y="3654"/>
                </a:lnTo>
                <a:lnTo>
                  <a:pt x="4860" y="3644"/>
                </a:lnTo>
                <a:lnTo>
                  <a:pt x="4898" y="3635"/>
                </a:lnTo>
                <a:lnTo>
                  <a:pt x="4933" y="3621"/>
                </a:lnTo>
                <a:lnTo>
                  <a:pt x="4970" y="3610"/>
                </a:lnTo>
                <a:lnTo>
                  <a:pt x="5007" y="3596"/>
                </a:lnTo>
                <a:lnTo>
                  <a:pt x="5044" y="3582"/>
                </a:lnTo>
                <a:lnTo>
                  <a:pt x="5042" y="3571"/>
                </a:lnTo>
                <a:lnTo>
                  <a:pt x="5034" y="3565"/>
                </a:lnTo>
                <a:lnTo>
                  <a:pt x="5022" y="3561"/>
                </a:lnTo>
                <a:lnTo>
                  <a:pt x="5013" y="3559"/>
                </a:lnTo>
                <a:lnTo>
                  <a:pt x="4867" y="3514"/>
                </a:lnTo>
                <a:lnTo>
                  <a:pt x="4743" y="3441"/>
                </a:lnTo>
                <a:lnTo>
                  <a:pt x="4637" y="3346"/>
                </a:lnTo>
                <a:lnTo>
                  <a:pt x="4543" y="3237"/>
                </a:lnTo>
                <a:lnTo>
                  <a:pt x="4452" y="3117"/>
                </a:lnTo>
                <a:lnTo>
                  <a:pt x="4367" y="2995"/>
                </a:lnTo>
                <a:lnTo>
                  <a:pt x="4278" y="2874"/>
                </a:lnTo>
                <a:lnTo>
                  <a:pt x="4185" y="2766"/>
                </a:lnTo>
                <a:lnTo>
                  <a:pt x="4121" y="2682"/>
                </a:lnTo>
                <a:lnTo>
                  <a:pt x="4063" y="2597"/>
                </a:lnTo>
                <a:lnTo>
                  <a:pt x="4008" y="2508"/>
                </a:lnTo>
                <a:lnTo>
                  <a:pt x="3960" y="2421"/>
                </a:lnTo>
                <a:lnTo>
                  <a:pt x="3911" y="2328"/>
                </a:lnTo>
                <a:lnTo>
                  <a:pt x="3871" y="2236"/>
                </a:lnTo>
                <a:lnTo>
                  <a:pt x="3832" y="2141"/>
                </a:lnTo>
                <a:lnTo>
                  <a:pt x="3797" y="2048"/>
                </a:lnTo>
                <a:lnTo>
                  <a:pt x="3774" y="1988"/>
                </a:lnTo>
                <a:lnTo>
                  <a:pt x="3756" y="1928"/>
                </a:lnTo>
                <a:lnTo>
                  <a:pt x="3741" y="1866"/>
                </a:lnTo>
                <a:lnTo>
                  <a:pt x="3727" y="1806"/>
                </a:lnTo>
                <a:lnTo>
                  <a:pt x="3710" y="1742"/>
                </a:lnTo>
                <a:lnTo>
                  <a:pt x="3692" y="1684"/>
                </a:lnTo>
                <a:lnTo>
                  <a:pt x="3665" y="1626"/>
                </a:lnTo>
                <a:lnTo>
                  <a:pt x="3634" y="1573"/>
                </a:lnTo>
                <a:lnTo>
                  <a:pt x="3595" y="1527"/>
                </a:lnTo>
                <a:lnTo>
                  <a:pt x="3560" y="1480"/>
                </a:lnTo>
                <a:lnTo>
                  <a:pt x="3525" y="1432"/>
                </a:lnTo>
                <a:lnTo>
                  <a:pt x="3496" y="1385"/>
                </a:lnTo>
                <a:lnTo>
                  <a:pt x="3465" y="1335"/>
                </a:lnTo>
                <a:lnTo>
                  <a:pt x="3438" y="1286"/>
                </a:lnTo>
                <a:lnTo>
                  <a:pt x="3409" y="1238"/>
                </a:lnTo>
                <a:lnTo>
                  <a:pt x="3386" y="1189"/>
                </a:lnTo>
                <a:lnTo>
                  <a:pt x="3432" y="1156"/>
                </a:lnTo>
                <a:lnTo>
                  <a:pt x="3479" y="1123"/>
                </a:lnTo>
                <a:lnTo>
                  <a:pt x="3525" y="1088"/>
                </a:lnTo>
                <a:lnTo>
                  <a:pt x="3572" y="1053"/>
                </a:lnTo>
                <a:lnTo>
                  <a:pt x="3618" y="1017"/>
                </a:lnTo>
                <a:lnTo>
                  <a:pt x="3665" y="982"/>
                </a:lnTo>
                <a:lnTo>
                  <a:pt x="3711" y="949"/>
                </a:lnTo>
                <a:lnTo>
                  <a:pt x="3764" y="920"/>
                </a:lnTo>
                <a:lnTo>
                  <a:pt x="3781" y="922"/>
                </a:lnTo>
                <a:lnTo>
                  <a:pt x="3795" y="914"/>
                </a:lnTo>
                <a:lnTo>
                  <a:pt x="3805" y="900"/>
                </a:lnTo>
                <a:lnTo>
                  <a:pt x="3816" y="891"/>
                </a:lnTo>
                <a:lnTo>
                  <a:pt x="3839" y="869"/>
                </a:lnTo>
                <a:lnTo>
                  <a:pt x="3863" y="852"/>
                </a:lnTo>
                <a:lnTo>
                  <a:pt x="3888" y="834"/>
                </a:lnTo>
                <a:lnTo>
                  <a:pt x="3915" y="821"/>
                </a:lnTo>
                <a:lnTo>
                  <a:pt x="3940" y="805"/>
                </a:lnTo>
                <a:lnTo>
                  <a:pt x="3966" y="792"/>
                </a:lnTo>
                <a:lnTo>
                  <a:pt x="3991" y="774"/>
                </a:lnTo>
                <a:lnTo>
                  <a:pt x="4018" y="759"/>
                </a:lnTo>
                <a:lnTo>
                  <a:pt x="4041" y="735"/>
                </a:lnTo>
                <a:lnTo>
                  <a:pt x="4066" y="712"/>
                </a:lnTo>
                <a:lnTo>
                  <a:pt x="4092" y="689"/>
                </a:lnTo>
                <a:lnTo>
                  <a:pt x="4117" y="667"/>
                </a:lnTo>
                <a:lnTo>
                  <a:pt x="4142" y="644"/>
                </a:lnTo>
                <a:lnTo>
                  <a:pt x="4171" y="627"/>
                </a:lnTo>
                <a:lnTo>
                  <a:pt x="4200" y="609"/>
                </a:lnTo>
                <a:lnTo>
                  <a:pt x="4233" y="600"/>
                </a:lnTo>
                <a:lnTo>
                  <a:pt x="4243" y="594"/>
                </a:lnTo>
                <a:lnTo>
                  <a:pt x="4253" y="590"/>
                </a:lnTo>
                <a:lnTo>
                  <a:pt x="4260" y="582"/>
                </a:lnTo>
                <a:lnTo>
                  <a:pt x="4268" y="574"/>
                </a:lnTo>
                <a:lnTo>
                  <a:pt x="4274" y="567"/>
                </a:lnTo>
                <a:lnTo>
                  <a:pt x="4284" y="561"/>
                </a:lnTo>
                <a:lnTo>
                  <a:pt x="4293" y="555"/>
                </a:lnTo>
                <a:lnTo>
                  <a:pt x="4309" y="557"/>
                </a:lnTo>
                <a:lnTo>
                  <a:pt x="4317" y="536"/>
                </a:lnTo>
                <a:lnTo>
                  <a:pt x="4340" y="503"/>
                </a:lnTo>
                <a:lnTo>
                  <a:pt x="4369" y="474"/>
                </a:lnTo>
                <a:lnTo>
                  <a:pt x="4396" y="444"/>
                </a:lnTo>
                <a:lnTo>
                  <a:pt x="4425" y="415"/>
                </a:lnTo>
                <a:lnTo>
                  <a:pt x="4446" y="382"/>
                </a:lnTo>
                <a:lnTo>
                  <a:pt x="4462" y="349"/>
                </a:lnTo>
                <a:lnTo>
                  <a:pt x="4468" y="313"/>
                </a:lnTo>
                <a:lnTo>
                  <a:pt x="4466" y="274"/>
                </a:lnTo>
                <a:lnTo>
                  <a:pt x="4452" y="254"/>
                </a:lnTo>
                <a:lnTo>
                  <a:pt x="4441" y="237"/>
                </a:lnTo>
                <a:lnTo>
                  <a:pt x="4425" y="218"/>
                </a:lnTo>
                <a:lnTo>
                  <a:pt x="4410" y="202"/>
                </a:lnTo>
                <a:lnTo>
                  <a:pt x="4390" y="187"/>
                </a:lnTo>
                <a:lnTo>
                  <a:pt x="4371" y="179"/>
                </a:lnTo>
                <a:lnTo>
                  <a:pt x="4348" y="173"/>
                </a:lnTo>
                <a:lnTo>
                  <a:pt x="4324" y="175"/>
                </a:lnTo>
                <a:lnTo>
                  <a:pt x="4301" y="177"/>
                </a:lnTo>
                <a:lnTo>
                  <a:pt x="4282" y="185"/>
                </a:lnTo>
                <a:lnTo>
                  <a:pt x="4262" y="192"/>
                </a:lnTo>
                <a:lnTo>
                  <a:pt x="4245" y="204"/>
                </a:lnTo>
                <a:lnTo>
                  <a:pt x="4225" y="212"/>
                </a:lnTo>
                <a:lnTo>
                  <a:pt x="4206" y="221"/>
                </a:lnTo>
                <a:lnTo>
                  <a:pt x="4187" y="227"/>
                </a:lnTo>
                <a:lnTo>
                  <a:pt x="4167" y="231"/>
                </a:lnTo>
                <a:lnTo>
                  <a:pt x="4152" y="212"/>
                </a:lnTo>
                <a:lnTo>
                  <a:pt x="4138" y="194"/>
                </a:lnTo>
                <a:lnTo>
                  <a:pt x="4123" y="175"/>
                </a:lnTo>
                <a:lnTo>
                  <a:pt x="4107" y="159"/>
                </a:lnTo>
                <a:lnTo>
                  <a:pt x="4088" y="142"/>
                </a:lnTo>
                <a:lnTo>
                  <a:pt x="4068" y="130"/>
                </a:lnTo>
                <a:lnTo>
                  <a:pt x="4049" y="119"/>
                </a:lnTo>
                <a:lnTo>
                  <a:pt x="4030" y="115"/>
                </a:lnTo>
                <a:lnTo>
                  <a:pt x="4012" y="124"/>
                </a:lnTo>
                <a:lnTo>
                  <a:pt x="4000" y="140"/>
                </a:lnTo>
                <a:lnTo>
                  <a:pt x="3993" y="155"/>
                </a:lnTo>
                <a:lnTo>
                  <a:pt x="3993" y="179"/>
                </a:lnTo>
                <a:lnTo>
                  <a:pt x="3991" y="200"/>
                </a:lnTo>
                <a:lnTo>
                  <a:pt x="3993" y="221"/>
                </a:lnTo>
                <a:lnTo>
                  <a:pt x="3995" y="243"/>
                </a:lnTo>
                <a:lnTo>
                  <a:pt x="3997" y="266"/>
                </a:lnTo>
                <a:lnTo>
                  <a:pt x="4002" y="283"/>
                </a:lnTo>
                <a:lnTo>
                  <a:pt x="4008" y="303"/>
                </a:lnTo>
                <a:lnTo>
                  <a:pt x="4010" y="320"/>
                </a:lnTo>
                <a:lnTo>
                  <a:pt x="4014" y="340"/>
                </a:lnTo>
                <a:lnTo>
                  <a:pt x="3975" y="359"/>
                </a:lnTo>
                <a:lnTo>
                  <a:pt x="3940" y="382"/>
                </a:lnTo>
                <a:lnTo>
                  <a:pt x="3905" y="408"/>
                </a:lnTo>
                <a:lnTo>
                  <a:pt x="3871" y="433"/>
                </a:lnTo>
                <a:lnTo>
                  <a:pt x="3836" y="456"/>
                </a:lnTo>
                <a:lnTo>
                  <a:pt x="3801" y="481"/>
                </a:lnTo>
                <a:lnTo>
                  <a:pt x="3766" y="507"/>
                </a:lnTo>
                <a:lnTo>
                  <a:pt x="3731" y="532"/>
                </a:lnTo>
                <a:lnTo>
                  <a:pt x="3715" y="524"/>
                </a:lnTo>
                <a:lnTo>
                  <a:pt x="3702" y="516"/>
                </a:lnTo>
                <a:lnTo>
                  <a:pt x="3686" y="510"/>
                </a:lnTo>
                <a:lnTo>
                  <a:pt x="3673" y="507"/>
                </a:lnTo>
                <a:lnTo>
                  <a:pt x="3657" y="501"/>
                </a:lnTo>
                <a:lnTo>
                  <a:pt x="3642" y="497"/>
                </a:lnTo>
                <a:lnTo>
                  <a:pt x="3626" y="497"/>
                </a:lnTo>
                <a:lnTo>
                  <a:pt x="3611" y="499"/>
                </a:lnTo>
                <a:lnTo>
                  <a:pt x="3634" y="574"/>
                </a:lnTo>
                <a:lnTo>
                  <a:pt x="3620" y="572"/>
                </a:lnTo>
                <a:lnTo>
                  <a:pt x="3605" y="572"/>
                </a:lnTo>
                <a:lnTo>
                  <a:pt x="3595" y="572"/>
                </a:lnTo>
                <a:lnTo>
                  <a:pt x="3589" y="576"/>
                </a:lnTo>
                <a:lnTo>
                  <a:pt x="3583" y="582"/>
                </a:lnTo>
                <a:lnTo>
                  <a:pt x="3583" y="594"/>
                </a:lnTo>
                <a:lnTo>
                  <a:pt x="3576" y="625"/>
                </a:lnTo>
                <a:lnTo>
                  <a:pt x="3529" y="654"/>
                </a:lnTo>
                <a:lnTo>
                  <a:pt x="3483" y="685"/>
                </a:lnTo>
                <a:lnTo>
                  <a:pt x="3436" y="716"/>
                </a:lnTo>
                <a:lnTo>
                  <a:pt x="3390" y="749"/>
                </a:lnTo>
                <a:lnTo>
                  <a:pt x="3343" y="780"/>
                </a:lnTo>
                <a:lnTo>
                  <a:pt x="3296" y="811"/>
                </a:lnTo>
                <a:lnTo>
                  <a:pt x="3250" y="842"/>
                </a:lnTo>
                <a:lnTo>
                  <a:pt x="3205" y="875"/>
                </a:lnTo>
                <a:lnTo>
                  <a:pt x="3178" y="832"/>
                </a:lnTo>
                <a:lnTo>
                  <a:pt x="3155" y="788"/>
                </a:lnTo>
                <a:lnTo>
                  <a:pt x="3132" y="741"/>
                </a:lnTo>
                <a:lnTo>
                  <a:pt x="3112" y="697"/>
                </a:lnTo>
                <a:lnTo>
                  <a:pt x="3091" y="650"/>
                </a:lnTo>
                <a:lnTo>
                  <a:pt x="3070" y="603"/>
                </a:lnTo>
                <a:lnTo>
                  <a:pt x="3046" y="557"/>
                </a:lnTo>
                <a:lnTo>
                  <a:pt x="3023" y="514"/>
                </a:lnTo>
                <a:lnTo>
                  <a:pt x="3011" y="454"/>
                </a:lnTo>
                <a:lnTo>
                  <a:pt x="2924" y="439"/>
                </a:lnTo>
                <a:lnTo>
                  <a:pt x="2839" y="437"/>
                </a:lnTo>
                <a:lnTo>
                  <a:pt x="2751" y="441"/>
                </a:lnTo>
                <a:lnTo>
                  <a:pt x="2664" y="454"/>
                </a:lnTo>
                <a:lnTo>
                  <a:pt x="2575" y="470"/>
                </a:lnTo>
                <a:lnTo>
                  <a:pt x="2488" y="487"/>
                </a:lnTo>
                <a:lnTo>
                  <a:pt x="2400" y="503"/>
                </a:lnTo>
                <a:lnTo>
                  <a:pt x="2317" y="518"/>
                </a:lnTo>
                <a:lnTo>
                  <a:pt x="2168" y="534"/>
                </a:lnTo>
                <a:lnTo>
                  <a:pt x="2020" y="549"/>
                </a:lnTo>
                <a:lnTo>
                  <a:pt x="1869" y="567"/>
                </a:lnTo>
                <a:lnTo>
                  <a:pt x="1724" y="586"/>
                </a:lnTo>
                <a:lnTo>
                  <a:pt x="1574" y="607"/>
                </a:lnTo>
                <a:lnTo>
                  <a:pt x="1431" y="635"/>
                </a:lnTo>
                <a:lnTo>
                  <a:pt x="1291" y="666"/>
                </a:lnTo>
                <a:lnTo>
                  <a:pt x="1157" y="708"/>
                </a:lnTo>
                <a:lnTo>
                  <a:pt x="1130" y="712"/>
                </a:lnTo>
                <a:lnTo>
                  <a:pt x="1105" y="718"/>
                </a:lnTo>
                <a:lnTo>
                  <a:pt x="1080" y="726"/>
                </a:lnTo>
                <a:lnTo>
                  <a:pt x="1056" y="735"/>
                </a:lnTo>
                <a:lnTo>
                  <a:pt x="1031" y="741"/>
                </a:lnTo>
                <a:lnTo>
                  <a:pt x="1006" y="747"/>
                </a:lnTo>
                <a:lnTo>
                  <a:pt x="979" y="747"/>
                </a:lnTo>
                <a:lnTo>
                  <a:pt x="952" y="745"/>
                </a:lnTo>
                <a:lnTo>
                  <a:pt x="942" y="759"/>
                </a:lnTo>
                <a:lnTo>
                  <a:pt x="936" y="809"/>
                </a:lnTo>
                <a:lnTo>
                  <a:pt x="932" y="859"/>
                </a:lnTo>
                <a:lnTo>
                  <a:pt x="925" y="910"/>
                </a:lnTo>
                <a:lnTo>
                  <a:pt x="917" y="962"/>
                </a:lnTo>
                <a:lnTo>
                  <a:pt x="903" y="1011"/>
                </a:lnTo>
                <a:lnTo>
                  <a:pt x="888" y="1059"/>
                </a:lnTo>
                <a:lnTo>
                  <a:pt x="870" y="1106"/>
                </a:lnTo>
                <a:lnTo>
                  <a:pt x="851" y="1152"/>
                </a:lnTo>
                <a:lnTo>
                  <a:pt x="845" y="1170"/>
                </a:lnTo>
                <a:lnTo>
                  <a:pt x="837" y="1187"/>
                </a:lnTo>
                <a:lnTo>
                  <a:pt x="832" y="1195"/>
                </a:lnTo>
                <a:lnTo>
                  <a:pt x="830" y="1205"/>
                </a:lnTo>
                <a:lnTo>
                  <a:pt x="830" y="1214"/>
                </a:lnTo>
                <a:lnTo>
                  <a:pt x="833" y="1226"/>
                </a:lnTo>
                <a:lnTo>
                  <a:pt x="826" y="1236"/>
                </a:lnTo>
                <a:lnTo>
                  <a:pt x="818" y="1245"/>
                </a:lnTo>
                <a:lnTo>
                  <a:pt x="812" y="1257"/>
                </a:lnTo>
                <a:lnTo>
                  <a:pt x="808" y="1269"/>
                </a:lnTo>
                <a:lnTo>
                  <a:pt x="802" y="1280"/>
                </a:lnTo>
                <a:lnTo>
                  <a:pt x="800" y="1292"/>
                </a:lnTo>
                <a:lnTo>
                  <a:pt x="799" y="1304"/>
                </a:lnTo>
                <a:lnTo>
                  <a:pt x="800" y="1317"/>
                </a:lnTo>
                <a:lnTo>
                  <a:pt x="824" y="1331"/>
                </a:lnTo>
                <a:lnTo>
                  <a:pt x="845" y="1350"/>
                </a:lnTo>
                <a:lnTo>
                  <a:pt x="863" y="1371"/>
                </a:lnTo>
                <a:lnTo>
                  <a:pt x="882" y="1395"/>
                </a:lnTo>
                <a:lnTo>
                  <a:pt x="896" y="1418"/>
                </a:lnTo>
                <a:lnTo>
                  <a:pt x="911" y="1445"/>
                </a:lnTo>
                <a:lnTo>
                  <a:pt x="925" y="1468"/>
                </a:lnTo>
                <a:lnTo>
                  <a:pt x="938" y="1496"/>
                </a:lnTo>
                <a:lnTo>
                  <a:pt x="969" y="1571"/>
                </a:lnTo>
                <a:lnTo>
                  <a:pt x="1000" y="1647"/>
                </a:lnTo>
                <a:lnTo>
                  <a:pt x="1027" y="1722"/>
                </a:lnTo>
                <a:lnTo>
                  <a:pt x="1056" y="1802"/>
                </a:lnTo>
                <a:lnTo>
                  <a:pt x="1082" y="1878"/>
                </a:lnTo>
                <a:lnTo>
                  <a:pt x="1107" y="1957"/>
                </a:lnTo>
                <a:lnTo>
                  <a:pt x="1128" y="2037"/>
                </a:lnTo>
                <a:lnTo>
                  <a:pt x="1152" y="2118"/>
                </a:lnTo>
                <a:lnTo>
                  <a:pt x="1128" y="2132"/>
                </a:lnTo>
                <a:lnTo>
                  <a:pt x="1105" y="2149"/>
                </a:lnTo>
                <a:lnTo>
                  <a:pt x="1082" y="2163"/>
                </a:lnTo>
                <a:lnTo>
                  <a:pt x="1060" y="2180"/>
                </a:lnTo>
                <a:lnTo>
                  <a:pt x="1037" y="2196"/>
                </a:lnTo>
                <a:lnTo>
                  <a:pt x="1016" y="2213"/>
                </a:lnTo>
                <a:lnTo>
                  <a:pt x="992" y="2231"/>
                </a:lnTo>
                <a:lnTo>
                  <a:pt x="971" y="2248"/>
                </a:lnTo>
                <a:lnTo>
                  <a:pt x="973" y="2231"/>
                </a:lnTo>
                <a:lnTo>
                  <a:pt x="981" y="2217"/>
                </a:lnTo>
                <a:lnTo>
                  <a:pt x="989" y="2203"/>
                </a:lnTo>
                <a:lnTo>
                  <a:pt x="1000" y="2192"/>
                </a:lnTo>
                <a:lnTo>
                  <a:pt x="1010" y="2178"/>
                </a:lnTo>
                <a:lnTo>
                  <a:pt x="1018" y="2167"/>
                </a:lnTo>
                <a:lnTo>
                  <a:pt x="1024" y="2153"/>
                </a:lnTo>
                <a:lnTo>
                  <a:pt x="1025" y="2141"/>
                </a:lnTo>
                <a:lnTo>
                  <a:pt x="1014" y="2141"/>
                </a:lnTo>
                <a:lnTo>
                  <a:pt x="991" y="2161"/>
                </a:lnTo>
                <a:lnTo>
                  <a:pt x="973" y="2184"/>
                </a:lnTo>
                <a:lnTo>
                  <a:pt x="956" y="2207"/>
                </a:lnTo>
                <a:lnTo>
                  <a:pt x="940" y="2234"/>
                </a:lnTo>
                <a:lnTo>
                  <a:pt x="923" y="2258"/>
                </a:lnTo>
                <a:lnTo>
                  <a:pt x="907" y="2281"/>
                </a:lnTo>
                <a:lnTo>
                  <a:pt x="886" y="2302"/>
                </a:lnTo>
                <a:lnTo>
                  <a:pt x="863" y="2320"/>
                </a:lnTo>
                <a:lnTo>
                  <a:pt x="861" y="2333"/>
                </a:lnTo>
                <a:lnTo>
                  <a:pt x="870" y="2345"/>
                </a:lnTo>
                <a:lnTo>
                  <a:pt x="847" y="2374"/>
                </a:lnTo>
                <a:lnTo>
                  <a:pt x="824" y="2403"/>
                </a:lnTo>
                <a:lnTo>
                  <a:pt x="795" y="2432"/>
                </a:lnTo>
                <a:lnTo>
                  <a:pt x="768" y="2463"/>
                </a:lnTo>
                <a:lnTo>
                  <a:pt x="736" y="2490"/>
                </a:lnTo>
                <a:lnTo>
                  <a:pt x="707" y="2520"/>
                </a:lnTo>
                <a:lnTo>
                  <a:pt x="678" y="2549"/>
                </a:lnTo>
                <a:lnTo>
                  <a:pt x="649" y="2578"/>
                </a:lnTo>
                <a:lnTo>
                  <a:pt x="634" y="2578"/>
                </a:lnTo>
                <a:lnTo>
                  <a:pt x="622" y="2578"/>
                </a:lnTo>
                <a:lnTo>
                  <a:pt x="610" y="2582"/>
                </a:lnTo>
                <a:lnTo>
                  <a:pt x="607" y="2595"/>
                </a:lnTo>
                <a:lnTo>
                  <a:pt x="616" y="2613"/>
                </a:lnTo>
                <a:lnTo>
                  <a:pt x="566" y="2651"/>
                </a:lnTo>
                <a:lnTo>
                  <a:pt x="517" y="2692"/>
                </a:lnTo>
                <a:lnTo>
                  <a:pt x="469" y="2733"/>
                </a:lnTo>
                <a:lnTo>
                  <a:pt x="420" y="2776"/>
                </a:lnTo>
                <a:lnTo>
                  <a:pt x="370" y="2816"/>
                </a:lnTo>
                <a:lnTo>
                  <a:pt x="323" y="2861"/>
                </a:lnTo>
                <a:lnTo>
                  <a:pt x="277" y="2904"/>
                </a:lnTo>
                <a:lnTo>
                  <a:pt x="236" y="2950"/>
                </a:lnTo>
                <a:lnTo>
                  <a:pt x="238" y="2960"/>
                </a:lnTo>
                <a:lnTo>
                  <a:pt x="246" y="2968"/>
                </a:lnTo>
                <a:lnTo>
                  <a:pt x="296" y="2933"/>
                </a:lnTo>
                <a:lnTo>
                  <a:pt x="349" y="2902"/>
                </a:lnTo>
                <a:lnTo>
                  <a:pt x="403" y="2871"/>
                </a:lnTo>
                <a:lnTo>
                  <a:pt x="459" y="2845"/>
                </a:lnTo>
                <a:lnTo>
                  <a:pt x="515" y="2818"/>
                </a:lnTo>
                <a:lnTo>
                  <a:pt x="574" y="2797"/>
                </a:lnTo>
                <a:lnTo>
                  <a:pt x="632" y="2776"/>
                </a:lnTo>
                <a:lnTo>
                  <a:pt x="692" y="2758"/>
                </a:lnTo>
                <a:lnTo>
                  <a:pt x="700" y="2745"/>
                </a:lnTo>
                <a:lnTo>
                  <a:pt x="709" y="2739"/>
                </a:lnTo>
                <a:lnTo>
                  <a:pt x="721" y="2737"/>
                </a:lnTo>
                <a:lnTo>
                  <a:pt x="735" y="2741"/>
                </a:lnTo>
                <a:lnTo>
                  <a:pt x="744" y="2741"/>
                </a:lnTo>
                <a:lnTo>
                  <a:pt x="756" y="2739"/>
                </a:lnTo>
                <a:lnTo>
                  <a:pt x="766" y="2731"/>
                </a:lnTo>
                <a:lnTo>
                  <a:pt x="775" y="2719"/>
                </a:lnTo>
                <a:lnTo>
                  <a:pt x="828" y="2704"/>
                </a:lnTo>
                <a:lnTo>
                  <a:pt x="880" y="2690"/>
                </a:lnTo>
                <a:lnTo>
                  <a:pt x="932" y="2677"/>
                </a:lnTo>
                <a:lnTo>
                  <a:pt x="985" y="2663"/>
                </a:lnTo>
                <a:lnTo>
                  <a:pt x="1037" y="2648"/>
                </a:lnTo>
                <a:lnTo>
                  <a:pt x="1089" y="2634"/>
                </a:lnTo>
                <a:lnTo>
                  <a:pt x="1144" y="2622"/>
                </a:lnTo>
                <a:lnTo>
                  <a:pt x="1200" y="2613"/>
                </a:lnTo>
                <a:lnTo>
                  <a:pt x="1208" y="2597"/>
                </a:lnTo>
                <a:lnTo>
                  <a:pt x="1221" y="2589"/>
                </a:lnTo>
                <a:lnTo>
                  <a:pt x="1237" y="2586"/>
                </a:lnTo>
                <a:lnTo>
                  <a:pt x="1252" y="2584"/>
                </a:lnTo>
                <a:lnTo>
                  <a:pt x="1264" y="2580"/>
                </a:lnTo>
                <a:lnTo>
                  <a:pt x="1274" y="2574"/>
                </a:lnTo>
                <a:lnTo>
                  <a:pt x="1276" y="2564"/>
                </a:lnTo>
                <a:lnTo>
                  <a:pt x="1272" y="2549"/>
                </a:lnTo>
                <a:lnTo>
                  <a:pt x="1270" y="2539"/>
                </a:lnTo>
                <a:lnTo>
                  <a:pt x="1276" y="2533"/>
                </a:lnTo>
                <a:lnTo>
                  <a:pt x="1283" y="2527"/>
                </a:lnTo>
                <a:lnTo>
                  <a:pt x="1291" y="2522"/>
                </a:lnTo>
                <a:lnTo>
                  <a:pt x="1409" y="2964"/>
                </a:lnTo>
                <a:lnTo>
                  <a:pt x="1605" y="3613"/>
                </a:lnTo>
                <a:lnTo>
                  <a:pt x="1605" y="3625"/>
                </a:lnTo>
                <a:lnTo>
                  <a:pt x="1609" y="3637"/>
                </a:lnTo>
                <a:lnTo>
                  <a:pt x="1611" y="3648"/>
                </a:lnTo>
                <a:lnTo>
                  <a:pt x="1617" y="3660"/>
                </a:lnTo>
                <a:lnTo>
                  <a:pt x="1621" y="3670"/>
                </a:lnTo>
                <a:lnTo>
                  <a:pt x="1625" y="3681"/>
                </a:lnTo>
                <a:lnTo>
                  <a:pt x="1631" y="3693"/>
                </a:lnTo>
                <a:lnTo>
                  <a:pt x="1636" y="3705"/>
                </a:lnTo>
                <a:lnTo>
                  <a:pt x="1578" y="3670"/>
                </a:lnTo>
                <a:lnTo>
                  <a:pt x="1520" y="3635"/>
                </a:lnTo>
                <a:lnTo>
                  <a:pt x="1462" y="3602"/>
                </a:lnTo>
                <a:lnTo>
                  <a:pt x="1404" y="3569"/>
                </a:lnTo>
                <a:lnTo>
                  <a:pt x="1342" y="3536"/>
                </a:lnTo>
                <a:lnTo>
                  <a:pt x="1283" y="3505"/>
                </a:lnTo>
                <a:lnTo>
                  <a:pt x="1221" y="3474"/>
                </a:lnTo>
                <a:lnTo>
                  <a:pt x="1163" y="3447"/>
                </a:lnTo>
                <a:lnTo>
                  <a:pt x="1157" y="3431"/>
                </a:lnTo>
                <a:lnTo>
                  <a:pt x="1146" y="3419"/>
                </a:lnTo>
                <a:lnTo>
                  <a:pt x="1117" y="3414"/>
                </a:lnTo>
                <a:lnTo>
                  <a:pt x="1093" y="3419"/>
                </a:lnTo>
                <a:lnTo>
                  <a:pt x="1072" y="3431"/>
                </a:lnTo>
                <a:lnTo>
                  <a:pt x="1055" y="3449"/>
                </a:lnTo>
                <a:lnTo>
                  <a:pt x="1037" y="3466"/>
                </a:lnTo>
                <a:lnTo>
                  <a:pt x="1020" y="3485"/>
                </a:lnTo>
                <a:lnTo>
                  <a:pt x="1002" y="3501"/>
                </a:lnTo>
                <a:lnTo>
                  <a:pt x="987" y="3518"/>
                </a:lnTo>
                <a:lnTo>
                  <a:pt x="932" y="3571"/>
                </a:lnTo>
                <a:lnTo>
                  <a:pt x="880" y="3625"/>
                </a:lnTo>
                <a:lnTo>
                  <a:pt x="830" y="3677"/>
                </a:lnTo>
                <a:lnTo>
                  <a:pt x="783" y="3734"/>
                </a:lnTo>
                <a:lnTo>
                  <a:pt x="735" y="3786"/>
                </a:lnTo>
                <a:lnTo>
                  <a:pt x="690" y="3844"/>
                </a:lnTo>
                <a:lnTo>
                  <a:pt x="645" y="3902"/>
                </a:lnTo>
                <a:lnTo>
                  <a:pt x="603" y="3964"/>
                </a:lnTo>
                <a:lnTo>
                  <a:pt x="585" y="3970"/>
                </a:lnTo>
                <a:lnTo>
                  <a:pt x="576" y="3984"/>
                </a:lnTo>
                <a:lnTo>
                  <a:pt x="568" y="3997"/>
                </a:lnTo>
                <a:lnTo>
                  <a:pt x="556" y="4011"/>
                </a:lnTo>
                <a:lnTo>
                  <a:pt x="519" y="4058"/>
                </a:lnTo>
                <a:lnTo>
                  <a:pt x="482" y="4104"/>
                </a:lnTo>
                <a:lnTo>
                  <a:pt x="444" y="4151"/>
                </a:lnTo>
                <a:lnTo>
                  <a:pt x="407" y="4197"/>
                </a:lnTo>
                <a:lnTo>
                  <a:pt x="368" y="4244"/>
                </a:lnTo>
                <a:lnTo>
                  <a:pt x="329" y="4290"/>
                </a:lnTo>
                <a:lnTo>
                  <a:pt x="290" y="4337"/>
                </a:lnTo>
                <a:lnTo>
                  <a:pt x="254" y="4383"/>
                </a:lnTo>
                <a:lnTo>
                  <a:pt x="217" y="4422"/>
                </a:lnTo>
                <a:lnTo>
                  <a:pt x="188" y="4467"/>
                </a:lnTo>
                <a:lnTo>
                  <a:pt x="160" y="4511"/>
                </a:lnTo>
                <a:lnTo>
                  <a:pt x="135" y="4558"/>
                </a:lnTo>
                <a:lnTo>
                  <a:pt x="106" y="4602"/>
                </a:lnTo>
                <a:lnTo>
                  <a:pt x="79" y="4647"/>
                </a:lnTo>
                <a:lnTo>
                  <a:pt x="46" y="4688"/>
                </a:lnTo>
                <a:lnTo>
                  <a:pt x="9" y="4729"/>
                </a:lnTo>
                <a:lnTo>
                  <a:pt x="1" y="4680"/>
                </a:lnTo>
                <a:lnTo>
                  <a:pt x="1" y="4632"/>
                </a:lnTo>
                <a:lnTo>
                  <a:pt x="0" y="4583"/>
                </a:lnTo>
                <a:lnTo>
                  <a:pt x="5" y="4537"/>
                </a:lnTo>
                <a:lnTo>
                  <a:pt x="9" y="4488"/>
                </a:lnTo>
                <a:lnTo>
                  <a:pt x="15" y="4440"/>
                </a:lnTo>
                <a:lnTo>
                  <a:pt x="21" y="4391"/>
                </a:lnTo>
                <a:lnTo>
                  <a:pt x="29" y="4345"/>
                </a:lnTo>
                <a:lnTo>
                  <a:pt x="29" y="4310"/>
                </a:lnTo>
                <a:lnTo>
                  <a:pt x="32" y="4277"/>
                </a:lnTo>
                <a:lnTo>
                  <a:pt x="38" y="4244"/>
                </a:lnTo>
                <a:lnTo>
                  <a:pt x="44" y="4211"/>
                </a:lnTo>
                <a:lnTo>
                  <a:pt x="50" y="4176"/>
                </a:lnTo>
                <a:lnTo>
                  <a:pt x="60" y="4145"/>
                </a:lnTo>
                <a:lnTo>
                  <a:pt x="69" y="4112"/>
                </a:lnTo>
                <a:lnTo>
                  <a:pt x="83" y="4083"/>
                </a:lnTo>
                <a:lnTo>
                  <a:pt x="81" y="4023"/>
                </a:lnTo>
                <a:lnTo>
                  <a:pt x="87" y="3964"/>
                </a:lnTo>
                <a:lnTo>
                  <a:pt x="95" y="3908"/>
                </a:lnTo>
                <a:lnTo>
                  <a:pt x="106" y="3854"/>
                </a:lnTo>
                <a:lnTo>
                  <a:pt x="118" y="3798"/>
                </a:lnTo>
                <a:lnTo>
                  <a:pt x="129" y="3743"/>
                </a:lnTo>
                <a:lnTo>
                  <a:pt x="141" y="3689"/>
                </a:lnTo>
                <a:lnTo>
                  <a:pt x="153" y="3635"/>
                </a:lnTo>
                <a:lnTo>
                  <a:pt x="159" y="3544"/>
                </a:lnTo>
                <a:lnTo>
                  <a:pt x="172" y="3456"/>
                </a:lnTo>
                <a:lnTo>
                  <a:pt x="186" y="3369"/>
                </a:lnTo>
                <a:lnTo>
                  <a:pt x="201" y="3284"/>
                </a:lnTo>
                <a:lnTo>
                  <a:pt x="211" y="3194"/>
                </a:lnTo>
                <a:lnTo>
                  <a:pt x="223" y="3107"/>
                </a:lnTo>
                <a:lnTo>
                  <a:pt x="228" y="3018"/>
                </a:lnTo>
                <a:lnTo>
                  <a:pt x="228" y="2929"/>
                </a:lnTo>
                <a:lnTo>
                  <a:pt x="234" y="2826"/>
                </a:lnTo>
                <a:lnTo>
                  <a:pt x="240" y="2723"/>
                </a:lnTo>
                <a:lnTo>
                  <a:pt x="244" y="2620"/>
                </a:lnTo>
                <a:lnTo>
                  <a:pt x="252" y="2520"/>
                </a:lnTo>
                <a:lnTo>
                  <a:pt x="257" y="2415"/>
                </a:lnTo>
                <a:lnTo>
                  <a:pt x="271" y="2316"/>
                </a:lnTo>
                <a:lnTo>
                  <a:pt x="287" y="2217"/>
                </a:lnTo>
                <a:lnTo>
                  <a:pt x="310" y="2122"/>
                </a:lnTo>
                <a:lnTo>
                  <a:pt x="316" y="2052"/>
                </a:lnTo>
                <a:lnTo>
                  <a:pt x="325" y="1984"/>
                </a:lnTo>
                <a:lnTo>
                  <a:pt x="335" y="1916"/>
                </a:lnTo>
                <a:lnTo>
                  <a:pt x="347" y="1850"/>
                </a:lnTo>
                <a:lnTo>
                  <a:pt x="358" y="1781"/>
                </a:lnTo>
                <a:lnTo>
                  <a:pt x="370" y="1715"/>
                </a:lnTo>
                <a:lnTo>
                  <a:pt x="382" y="1647"/>
                </a:lnTo>
                <a:lnTo>
                  <a:pt x="395" y="1581"/>
                </a:lnTo>
                <a:lnTo>
                  <a:pt x="403" y="1525"/>
                </a:lnTo>
                <a:lnTo>
                  <a:pt x="413" y="1470"/>
                </a:lnTo>
                <a:lnTo>
                  <a:pt x="420" y="1416"/>
                </a:lnTo>
                <a:lnTo>
                  <a:pt x="430" y="1364"/>
                </a:lnTo>
                <a:lnTo>
                  <a:pt x="440" y="1309"/>
                </a:lnTo>
                <a:lnTo>
                  <a:pt x="451" y="1257"/>
                </a:lnTo>
                <a:lnTo>
                  <a:pt x="463" y="1205"/>
                </a:lnTo>
                <a:lnTo>
                  <a:pt x="479" y="1152"/>
                </a:lnTo>
                <a:lnTo>
                  <a:pt x="513" y="1034"/>
                </a:lnTo>
                <a:lnTo>
                  <a:pt x="543" y="916"/>
                </a:lnTo>
                <a:lnTo>
                  <a:pt x="564" y="795"/>
                </a:lnTo>
                <a:lnTo>
                  <a:pt x="585" y="675"/>
                </a:lnTo>
                <a:lnTo>
                  <a:pt x="605" y="553"/>
                </a:lnTo>
                <a:lnTo>
                  <a:pt x="630" y="435"/>
                </a:lnTo>
                <a:lnTo>
                  <a:pt x="659" y="318"/>
                </a:lnTo>
                <a:lnTo>
                  <a:pt x="702" y="206"/>
                </a:lnTo>
                <a:lnTo>
                  <a:pt x="828" y="198"/>
                </a:lnTo>
                <a:lnTo>
                  <a:pt x="958" y="198"/>
                </a:lnTo>
                <a:lnTo>
                  <a:pt x="1089" y="198"/>
                </a:lnTo>
                <a:lnTo>
                  <a:pt x="1221" y="198"/>
                </a:lnTo>
                <a:lnTo>
                  <a:pt x="1351" y="196"/>
                </a:lnTo>
                <a:lnTo>
                  <a:pt x="1483" y="188"/>
                </a:lnTo>
                <a:lnTo>
                  <a:pt x="1611" y="175"/>
                </a:lnTo>
                <a:lnTo>
                  <a:pt x="1737" y="155"/>
                </a:lnTo>
                <a:lnTo>
                  <a:pt x="2055" y="134"/>
                </a:lnTo>
                <a:lnTo>
                  <a:pt x="2065" y="124"/>
                </a:lnTo>
                <a:lnTo>
                  <a:pt x="2079" y="126"/>
                </a:lnTo>
                <a:lnTo>
                  <a:pt x="2084" y="128"/>
                </a:lnTo>
                <a:lnTo>
                  <a:pt x="2090" y="128"/>
                </a:lnTo>
                <a:lnTo>
                  <a:pt x="2096" y="126"/>
                </a:lnTo>
                <a:lnTo>
                  <a:pt x="2104" y="119"/>
                </a:lnTo>
                <a:lnTo>
                  <a:pt x="2115" y="121"/>
                </a:lnTo>
                <a:lnTo>
                  <a:pt x="2131" y="123"/>
                </a:lnTo>
                <a:lnTo>
                  <a:pt x="2146" y="123"/>
                </a:lnTo>
                <a:lnTo>
                  <a:pt x="2162" y="123"/>
                </a:lnTo>
                <a:lnTo>
                  <a:pt x="2175" y="119"/>
                </a:lnTo>
                <a:lnTo>
                  <a:pt x="2191" y="117"/>
                </a:lnTo>
                <a:lnTo>
                  <a:pt x="2203" y="111"/>
                </a:lnTo>
                <a:lnTo>
                  <a:pt x="2216" y="107"/>
                </a:lnTo>
                <a:lnTo>
                  <a:pt x="2236" y="109"/>
                </a:lnTo>
                <a:lnTo>
                  <a:pt x="2257" y="109"/>
                </a:lnTo>
                <a:lnTo>
                  <a:pt x="2280" y="105"/>
                </a:lnTo>
                <a:lnTo>
                  <a:pt x="2303" y="103"/>
                </a:lnTo>
                <a:lnTo>
                  <a:pt x="2325" y="97"/>
                </a:lnTo>
                <a:lnTo>
                  <a:pt x="2348" y="93"/>
                </a:lnTo>
                <a:lnTo>
                  <a:pt x="2371" y="93"/>
                </a:lnTo>
                <a:lnTo>
                  <a:pt x="2395" y="97"/>
                </a:lnTo>
                <a:lnTo>
                  <a:pt x="2412" y="90"/>
                </a:lnTo>
                <a:lnTo>
                  <a:pt x="2431" y="88"/>
                </a:lnTo>
                <a:lnTo>
                  <a:pt x="2449" y="86"/>
                </a:lnTo>
                <a:lnTo>
                  <a:pt x="2468" y="86"/>
                </a:lnTo>
                <a:lnTo>
                  <a:pt x="2486" y="84"/>
                </a:lnTo>
                <a:lnTo>
                  <a:pt x="2503" y="84"/>
                </a:lnTo>
                <a:lnTo>
                  <a:pt x="2521" y="80"/>
                </a:lnTo>
                <a:lnTo>
                  <a:pt x="2538" y="76"/>
                </a:lnTo>
                <a:lnTo>
                  <a:pt x="2554" y="76"/>
                </a:lnTo>
                <a:lnTo>
                  <a:pt x="2571" y="76"/>
                </a:lnTo>
                <a:lnTo>
                  <a:pt x="2589" y="74"/>
                </a:lnTo>
                <a:lnTo>
                  <a:pt x="2606" y="74"/>
                </a:lnTo>
                <a:lnTo>
                  <a:pt x="2622" y="70"/>
                </a:lnTo>
                <a:lnTo>
                  <a:pt x="2639" y="66"/>
                </a:lnTo>
                <a:lnTo>
                  <a:pt x="2656" y="62"/>
                </a:lnTo>
                <a:lnTo>
                  <a:pt x="2674" y="60"/>
                </a:lnTo>
                <a:lnTo>
                  <a:pt x="2804" y="45"/>
                </a:lnTo>
                <a:lnTo>
                  <a:pt x="2938" y="37"/>
                </a:lnTo>
                <a:lnTo>
                  <a:pt x="3071" y="31"/>
                </a:lnTo>
                <a:lnTo>
                  <a:pt x="3207" y="27"/>
                </a:lnTo>
                <a:lnTo>
                  <a:pt x="3341" y="22"/>
                </a:lnTo>
                <a:lnTo>
                  <a:pt x="3475" y="18"/>
                </a:lnTo>
                <a:lnTo>
                  <a:pt x="3609" y="10"/>
                </a:lnTo>
                <a:lnTo>
                  <a:pt x="3743" y="2"/>
                </a:lnTo>
                <a:lnTo>
                  <a:pt x="3772" y="0"/>
                </a:lnTo>
                <a:lnTo>
                  <a:pt x="3805" y="0"/>
                </a:lnTo>
                <a:lnTo>
                  <a:pt x="3836" y="0"/>
                </a:lnTo>
                <a:lnTo>
                  <a:pt x="3869" y="0"/>
                </a:lnTo>
                <a:lnTo>
                  <a:pt x="3898" y="0"/>
                </a:lnTo>
                <a:lnTo>
                  <a:pt x="3931" y="2"/>
                </a:lnTo>
                <a:lnTo>
                  <a:pt x="3962" y="6"/>
                </a:lnTo>
                <a:lnTo>
                  <a:pt x="3995" y="16"/>
                </a:lnTo>
                <a:close/>
                <a:moveTo>
                  <a:pt x="607" y="5095"/>
                </a:moveTo>
                <a:lnTo>
                  <a:pt x="630" y="5099"/>
                </a:lnTo>
                <a:lnTo>
                  <a:pt x="653" y="5107"/>
                </a:lnTo>
                <a:lnTo>
                  <a:pt x="672" y="5114"/>
                </a:lnTo>
                <a:lnTo>
                  <a:pt x="694" y="5124"/>
                </a:lnTo>
                <a:lnTo>
                  <a:pt x="713" y="5132"/>
                </a:lnTo>
                <a:lnTo>
                  <a:pt x="735" y="5140"/>
                </a:lnTo>
                <a:lnTo>
                  <a:pt x="756" y="5147"/>
                </a:lnTo>
                <a:lnTo>
                  <a:pt x="783" y="5157"/>
                </a:lnTo>
                <a:lnTo>
                  <a:pt x="804" y="5165"/>
                </a:lnTo>
                <a:lnTo>
                  <a:pt x="828" y="5173"/>
                </a:lnTo>
                <a:lnTo>
                  <a:pt x="851" y="5180"/>
                </a:lnTo>
                <a:lnTo>
                  <a:pt x="874" y="5190"/>
                </a:lnTo>
                <a:lnTo>
                  <a:pt x="896" y="5198"/>
                </a:lnTo>
                <a:lnTo>
                  <a:pt x="919" y="5206"/>
                </a:lnTo>
                <a:lnTo>
                  <a:pt x="942" y="5211"/>
                </a:lnTo>
                <a:lnTo>
                  <a:pt x="965" y="5217"/>
                </a:lnTo>
                <a:lnTo>
                  <a:pt x="1016" y="5235"/>
                </a:lnTo>
                <a:lnTo>
                  <a:pt x="1068" y="5254"/>
                </a:lnTo>
                <a:lnTo>
                  <a:pt x="1120" y="5272"/>
                </a:lnTo>
                <a:lnTo>
                  <a:pt x="1175" y="5291"/>
                </a:lnTo>
                <a:lnTo>
                  <a:pt x="1227" y="5308"/>
                </a:lnTo>
                <a:lnTo>
                  <a:pt x="1281" y="5328"/>
                </a:lnTo>
                <a:lnTo>
                  <a:pt x="1336" y="5347"/>
                </a:lnTo>
                <a:lnTo>
                  <a:pt x="1390" y="5367"/>
                </a:lnTo>
                <a:lnTo>
                  <a:pt x="1400" y="5376"/>
                </a:lnTo>
                <a:lnTo>
                  <a:pt x="1413" y="5386"/>
                </a:lnTo>
                <a:lnTo>
                  <a:pt x="1429" y="5390"/>
                </a:lnTo>
                <a:lnTo>
                  <a:pt x="1446" y="5396"/>
                </a:lnTo>
                <a:lnTo>
                  <a:pt x="1464" y="5398"/>
                </a:lnTo>
                <a:lnTo>
                  <a:pt x="1483" y="5400"/>
                </a:lnTo>
                <a:lnTo>
                  <a:pt x="1501" y="5403"/>
                </a:lnTo>
                <a:lnTo>
                  <a:pt x="1520" y="5409"/>
                </a:lnTo>
                <a:lnTo>
                  <a:pt x="1555" y="5425"/>
                </a:lnTo>
                <a:lnTo>
                  <a:pt x="1592" y="5440"/>
                </a:lnTo>
                <a:lnTo>
                  <a:pt x="1631" y="5454"/>
                </a:lnTo>
                <a:lnTo>
                  <a:pt x="1671" y="5469"/>
                </a:lnTo>
                <a:lnTo>
                  <a:pt x="1710" y="5483"/>
                </a:lnTo>
                <a:lnTo>
                  <a:pt x="1749" y="5498"/>
                </a:lnTo>
                <a:lnTo>
                  <a:pt x="1786" y="5516"/>
                </a:lnTo>
                <a:lnTo>
                  <a:pt x="1824" y="5535"/>
                </a:lnTo>
                <a:lnTo>
                  <a:pt x="1877" y="5551"/>
                </a:lnTo>
                <a:lnTo>
                  <a:pt x="1931" y="5570"/>
                </a:lnTo>
                <a:lnTo>
                  <a:pt x="1985" y="5588"/>
                </a:lnTo>
                <a:lnTo>
                  <a:pt x="2040" y="5609"/>
                </a:lnTo>
                <a:lnTo>
                  <a:pt x="2094" y="5625"/>
                </a:lnTo>
                <a:lnTo>
                  <a:pt x="2148" y="5642"/>
                </a:lnTo>
                <a:lnTo>
                  <a:pt x="2203" y="5656"/>
                </a:lnTo>
                <a:lnTo>
                  <a:pt x="2261" y="5669"/>
                </a:lnTo>
                <a:lnTo>
                  <a:pt x="2302" y="5677"/>
                </a:lnTo>
                <a:lnTo>
                  <a:pt x="2348" y="5689"/>
                </a:lnTo>
                <a:lnTo>
                  <a:pt x="2395" y="5696"/>
                </a:lnTo>
                <a:lnTo>
                  <a:pt x="2443" y="5708"/>
                </a:lnTo>
                <a:lnTo>
                  <a:pt x="2490" y="5720"/>
                </a:lnTo>
                <a:lnTo>
                  <a:pt x="2538" y="5731"/>
                </a:lnTo>
                <a:lnTo>
                  <a:pt x="2585" y="5743"/>
                </a:lnTo>
                <a:lnTo>
                  <a:pt x="2633" y="5760"/>
                </a:lnTo>
                <a:lnTo>
                  <a:pt x="2612" y="5762"/>
                </a:lnTo>
                <a:lnTo>
                  <a:pt x="2591" y="5764"/>
                </a:lnTo>
                <a:lnTo>
                  <a:pt x="2569" y="5766"/>
                </a:lnTo>
                <a:lnTo>
                  <a:pt x="2548" y="5770"/>
                </a:lnTo>
                <a:lnTo>
                  <a:pt x="2525" y="5770"/>
                </a:lnTo>
                <a:lnTo>
                  <a:pt x="2503" y="5770"/>
                </a:lnTo>
                <a:lnTo>
                  <a:pt x="2482" y="5768"/>
                </a:lnTo>
                <a:lnTo>
                  <a:pt x="2461" y="5766"/>
                </a:lnTo>
                <a:lnTo>
                  <a:pt x="2300" y="5733"/>
                </a:lnTo>
                <a:lnTo>
                  <a:pt x="2139" y="5708"/>
                </a:lnTo>
                <a:lnTo>
                  <a:pt x="1978" y="5683"/>
                </a:lnTo>
                <a:lnTo>
                  <a:pt x="1819" y="5663"/>
                </a:lnTo>
                <a:lnTo>
                  <a:pt x="1658" y="5638"/>
                </a:lnTo>
                <a:lnTo>
                  <a:pt x="1499" y="5615"/>
                </a:lnTo>
                <a:lnTo>
                  <a:pt x="1340" y="5586"/>
                </a:lnTo>
                <a:lnTo>
                  <a:pt x="1183" y="5555"/>
                </a:lnTo>
                <a:lnTo>
                  <a:pt x="1056" y="5526"/>
                </a:lnTo>
                <a:lnTo>
                  <a:pt x="930" y="5500"/>
                </a:lnTo>
                <a:lnTo>
                  <a:pt x="804" y="5477"/>
                </a:lnTo>
                <a:lnTo>
                  <a:pt x="678" y="5454"/>
                </a:lnTo>
                <a:lnTo>
                  <a:pt x="550" y="5429"/>
                </a:lnTo>
                <a:lnTo>
                  <a:pt x="424" y="5405"/>
                </a:lnTo>
                <a:lnTo>
                  <a:pt x="298" y="5380"/>
                </a:lnTo>
                <a:lnTo>
                  <a:pt x="174" y="5353"/>
                </a:lnTo>
                <a:lnTo>
                  <a:pt x="153" y="5345"/>
                </a:lnTo>
                <a:lnTo>
                  <a:pt x="137" y="5334"/>
                </a:lnTo>
                <a:lnTo>
                  <a:pt x="126" y="5316"/>
                </a:lnTo>
                <a:lnTo>
                  <a:pt x="120" y="5297"/>
                </a:lnTo>
                <a:lnTo>
                  <a:pt x="108" y="5235"/>
                </a:lnTo>
                <a:lnTo>
                  <a:pt x="96" y="5177"/>
                </a:lnTo>
                <a:lnTo>
                  <a:pt x="83" y="5118"/>
                </a:lnTo>
                <a:lnTo>
                  <a:pt x="69" y="5060"/>
                </a:lnTo>
                <a:lnTo>
                  <a:pt x="52" y="5000"/>
                </a:lnTo>
                <a:lnTo>
                  <a:pt x="38" y="4942"/>
                </a:lnTo>
                <a:lnTo>
                  <a:pt x="27" y="4882"/>
                </a:lnTo>
                <a:lnTo>
                  <a:pt x="21" y="4824"/>
                </a:lnTo>
                <a:lnTo>
                  <a:pt x="91" y="4860"/>
                </a:lnTo>
                <a:lnTo>
                  <a:pt x="164" y="4897"/>
                </a:lnTo>
                <a:lnTo>
                  <a:pt x="238" y="4932"/>
                </a:lnTo>
                <a:lnTo>
                  <a:pt x="314" y="4969"/>
                </a:lnTo>
                <a:lnTo>
                  <a:pt x="387" y="5002"/>
                </a:lnTo>
                <a:lnTo>
                  <a:pt x="461" y="5035"/>
                </a:lnTo>
                <a:lnTo>
                  <a:pt x="533" y="5064"/>
                </a:lnTo>
                <a:lnTo>
                  <a:pt x="607" y="5095"/>
                </a:lnTo>
                <a:close/>
              </a:path>
            </a:pathLst>
          </a:custGeom>
          <a:solidFill>
            <a:srgbClr val="ff6600">
              <a:alpha val="50000"/>
            </a:srgbClr>
          </a:solidFill>
          <a:ln w="18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710320" y="1828800"/>
            <a:ext cx="129960" cy="236520"/>
          </a:xfrm>
          <a:custGeom>
            <a:avLst/>
            <a:gdLst/>
            <a:ahLst/>
            <a:rect l="l" t="t" r="r" b="b"/>
            <a:pathLst>
              <a:path w="165" h="297">
                <a:moveTo>
                  <a:pt x="165" y="27"/>
                </a:moveTo>
                <a:lnTo>
                  <a:pt x="161" y="62"/>
                </a:lnTo>
                <a:lnTo>
                  <a:pt x="157" y="99"/>
                </a:lnTo>
                <a:lnTo>
                  <a:pt x="149" y="134"/>
                </a:lnTo>
                <a:lnTo>
                  <a:pt x="142" y="171"/>
                </a:lnTo>
                <a:lnTo>
                  <a:pt x="128" y="202"/>
                </a:lnTo>
                <a:lnTo>
                  <a:pt x="117" y="235"/>
                </a:lnTo>
                <a:lnTo>
                  <a:pt x="99" y="266"/>
                </a:lnTo>
                <a:lnTo>
                  <a:pt x="84" y="297"/>
                </a:lnTo>
                <a:lnTo>
                  <a:pt x="80" y="279"/>
                </a:lnTo>
                <a:lnTo>
                  <a:pt x="80" y="262"/>
                </a:lnTo>
                <a:lnTo>
                  <a:pt x="76" y="240"/>
                </a:lnTo>
                <a:lnTo>
                  <a:pt x="76" y="221"/>
                </a:lnTo>
                <a:lnTo>
                  <a:pt x="68" y="196"/>
                </a:lnTo>
                <a:lnTo>
                  <a:pt x="60" y="173"/>
                </a:lnTo>
                <a:lnTo>
                  <a:pt x="53" y="149"/>
                </a:lnTo>
                <a:lnTo>
                  <a:pt x="47" y="126"/>
                </a:lnTo>
                <a:lnTo>
                  <a:pt x="37" y="103"/>
                </a:lnTo>
                <a:lnTo>
                  <a:pt x="27" y="81"/>
                </a:lnTo>
                <a:lnTo>
                  <a:pt x="14" y="60"/>
                </a:lnTo>
                <a:lnTo>
                  <a:pt x="0" y="43"/>
                </a:lnTo>
                <a:lnTo>
                  <a:pt x="16" y="31"/>
                </a:lnTo>
                <a:lnTo>
                  <a:pt x="37" y="19"/>
                </a:lnTo>
                <a:lnTo>
                  <a:pt x="58" y="10"/>
                </a:lnTo>
                <a:lnTo>
                  <a:pt x="82" y="4"/>
                </a:lnTo>
                <a:lnTo>
                  <a:pt x="103" y="0"/>
                </a:lnTo>
                <a:lnTo>
                  <a:pt x="126" y="2"/>
                </a:lnTo>
                <a:lnTo>
                  <a:pt x="146" y="10"/>
                </a:lnTo>
                <a:lnTo>
                  <a:pt x="165" y="27"/>
                </a:lnTo>
                <a:close/>
              </a:path>
            </a:pathLst>
          </a:custGeom>
          <a:solidFill>
            <a:srgbClr val="f75991">
              <a:alpha val="50000"/>
            </a:srgbClr>
          </a:solidFill>
          <a:ln w="1800">
            <a:solidFill>
              <a:srgbClr val="f759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156120" y="2030400"/>
            <a:ext cx="3152520" cy="3038400"/>
          </a:xfrm>
          <a:custGeom>
            <a:avLst/>
            <a:gdLst/>
            <a:ahLst/>
            <a:rect l="l" t="t" r="r" b="b"/>
            <a:pathLst>
              <a:path w="3972" h="3828">
                <a:moveTo>
                  <a:pt x="1984" y="16"/>
                </a:moveTo>
                <a:lnTo>
                  <a:pt x="1984" y="16"/>
                </a:lnTo>
                <a:lnTo>
                  <a:pt x="1988" y="43"/>
                </a:lnTo>
                <a:lnTo>
                  <a:pt x="1999" y="70"/>
                </a:lnTo>
                <a:lnTo>
                  <a:pt x="2009" y="95"/>
                </a:lnTo>
                <a:lnTo>
                  <a:pt x="2023" y="118"/>
                </a:lnTo>
                <a:lnTo>
                  <a:pt x="2034" y="142"/>
                </a:lnTo>
                <a:lnTo>
                  <a:pt x="2046" y="167"/>
                </a:lnTo>
                <a:lnTo>
                  <a:pt x="2059" y="190"/>
                </a:lnTo>
                <a:lnTo>
                  <a:pt x="2073" y="213"/>
                </a:lnTo>
                <a:lnTo>
                  <a:pt x="2073" y="223"/>
                </a:lnTo>
                <a:lnTo>
                  <a:pt x="2075" y="229"/>
                </a:lnTo>
                <a:lnTo>
                  <a:pt x="2077" y="235"/>
                </a:lnTo>
                <a:lnTo>
                  <a:pt x="2079" y="243"/>
                </a:lnTo>
                <a:lnTo>
                  <a:pt x="2081" y="248"/>
                </a:lnTo>
                <a:lnTo>
                  <a:pt x="2085" y="254"/>
                </a:lnTo>
                <a:lnTo>
                  <a:pt x="2090" y="258"/>
                </a:lnTo>
                <a:lnTo>
                  <a:pt x="2096" y="264"/>
                </a:lnTo>
                <a:lnTo>
                  <a:pt x="2098" y="293"/>
                </a:lnTo>
                <a:lnTo>
                  <a:pt x="2116" y="322"/>
                </a:lnTo>
                <a:lnTo>
                  <a:pt x="2135" y="351"/>
                </a:lnTo>
                <a:lnTo>
                  <a:pt x="2154" y="380"/>
                </a:lnTo>
                <a:lnTo>
                  <a:pt x="2168" y="409"/>
                </a:lnTo>
                <a:lnTo>
                  <a:pt x="2170" y="436"/>
                </a:lnTo>
                <a:lnTo>
                  <a:pt x="2152" y="460"/>
                </a:lnTo>
                <a:lnTo>
                  <a:pt x="2116" y="477"/>
                </a:lnTo>
                <a:lnTo>
                  <a:pt x="2059" y="512"/>
                </a:lnTo>
                <a:lnTo>
                  <a:pt x="2005" y="539"/>
                </a:lnTo>
                <a:lnTo>
                  <a:pt x="1949" y="568"/>
                </a:lnTo>
                <a:lnTo>
                  <a:pt x="1895" y="594"/>
                </a:lnTo>
                <a:lnTo>
                  <a:pt x="1838" y="621"/>
                </a:lnTo>
                <a:lnTo>
                  <a:pt x="1786" y="650"/>
                </a:lnTo>
                <a:lnTo>
                  <a:pt x="1732" y="683"/>
                </a:lnTo>
                <a:lnTo>
                  <a:pt x="1679" y="712"/>
                </a:lnTo>
                <a:lnTo>
                  <a:pt x="1666" y="698"/>
                </a:lnTo>
                <a:lnTo>
                  <a:pt x="1654" y="692"/>
                </a:lnTo>
                <a:lnTo>
                  <a:pt x="1639" y="691"/>
                </a:lnTo>
                <a:lnTo>
                  <a:pt x="1625" y="691"/>
                </a:lnTo>
                <a:lnTo>
                  <a:pt x="1607" y="696"/>
                </a:lnTo>
                <a:lnTo>
                  <a:pt x="1594" y="702"/>
                </a:lnTo>
                <a:lnTo>
                  <a:pt x="1578" y="708"/>
                </a:lnTo>
                <a:lnTo>
                  <a:pt x="1565" y="714"/>
                </a:lnTo>
                <a:lnTo>
                  <a:pt x="1559" y="718"/>
                </a:lnTo>
                <a:lnTo>
                  <a:pt x="1555" y="722"/>
                </a:lnTo>
                <a:lnTo>
                  <a:pt x="1549" y="723"/>
                </a:lnTo>
                <a:lnTo>
                  <a:pt x="1545" y="725"/>
                </a:lnTo>
                <a:lnTo>
                  <a:pt x="1542" y="727"/>
                </a:lnTo>
                <a:lnTo>
                  <a:pt x="1538" y="729"/>
                </a:lnTo>
                <a:lnTo>
                  <a:pt x="1528" y="729"/>
                </a:lnTo>
                <a:lnTo>
                  <a:pt x="1528" y="716"/>
                </a:lnTo>
                <a:lnTo>
                  <a:pt x="1536" y="696"/>
                </a:lnTo>
                <a:lnTo>
                  <a:pt x="1538" y="677"/>
                </a:lnTo>
                <a:lnTo>
                  <a:pt x="1542" y="658"/>
                </a:lnTo>
                <a:lnTo>
                  <a:pt x="1540" y="640"/>
                </a:lnTo>
                <a:lnTo>
                  <a:pt x="1538" y="621"/>
                </a:lnTo>
                <a:lnTo>
                  <a:pt x="1530" y="607"/>
                </a:lnTo>
                <a:lnTo>
                  <a:pt x="1520" y="592"/>
                </a:lnTo>
                <a:lnTo>
                  <a:pt x="1501" y="592"/>
                </a:lnTo>
                <a:lnTo>
                  <a:pt x="1485" y="595"/>
                </a:lnTo>
                <a:lnTo>
                  <a:pt x="1470" y="605"/>
                </a:lnTo>
                <a:lnTo>
                  <a:pt x="1458" y="613"/>
                </a:lnTo>
                <a:lnTo>
                  <a:pt x="1445" y="627"/>
                </a:lnTo>
                <a:lnTo>
                  <a:pt x="1433" y="638"/>
                </a:lnTo>
                <a:lnTo>
                  <a:pt x="1421" y="650"/>
                </a:lnTo>
                <a:lnTo>
                  <a:pt x="1410" y="658"/>
                </a:lnTo>
                <a:lnTo>
                  <a:pt x="1398" y="675"/>
                </a:lnTo>
                <a:lnTo>
                  <a:pt x="1388" y="692"/>
                </a:lnTo>
                <a:lnTo>
                  <a:pt x="1377" y="710"/>
                </a:lnTo>
                <a:lnTo>
                  <a:pt x="1371" y="725"/>
                </a:lnTo>
                <a:lnTo>
                  <a:pt x="1363" y="745"/>
                </a:lnTo>
                <a:lnTo>
                  <a:pt x="1355" y="762"/>
                </a:lnTo>
                <a:lnTo>
                  <a:pt x="1351" y="782"/>
                </a:lnTo>
                <a:lnTo>
                  <a:pt x="1351" y="799"/>
                </a:lnTo>
                <a:lnTo>
                  <a:pt x="1353" y="807"/>
                </a:lnTo>
                <a:lnTo>
                  <a:pt x="1357" y="809"/>
                </a:lnTo>
                <a:lnTo>
                  <a:pt x="1359" y="811"/>
                </a:lnTo>
                <a:lnTo>
                  <a:pt x="1367" y="809"/>
                </a:lnTo>
                <a:lnTo>
                  <a:pt x="1371" y="809"/>
                </a:lnTo>
                <a:lnTo>
                  <a:pt x="1377" y="807"/>
                </a:lnTo>
                <a:lnTo>
                  <a:pt x="1384" y="807"/>
                </a:lnTo>
                <a:lnTo>
                  <a:pt x="1390" y="805"/>
                </a:lnTo>
                <a:lnTo>
                  <a:pt x="1396" y="801"/>
                </a:lnTo>
                <a:lnTo>
                  <a:pt x="1406" y="789"/>
                </a:lnTo>
                <a:lnTo>
                  <a:pt x="1410" y="778"/>
                </a:lnTo>
                <a:lnTo>
                  <a:pt x="1414" y="764"/>
                </a:lnTo>
                <a:lnTo>
                  <a:pt x="1415" y="751"/>
                </a:lnTo>
                <a:lnTo>
                  <a:pt x="1421" y="735"/>
                </a:lnTo>
                <a:lnTo>
                  <a:pt x="1427" y="723"/>
                </a:lnTo>
                <a:lnTo>
                  <a:pt x="1435" y="708"/>
                </a:lnTo>
                <a:lnTo>
                  <a:pt x="1441" y="702"/>
                </a:lnTo>
                <a:lnTo>
                  <a:pt x="1447" y="694"/>
                </a:lnTo>
                <a:lnTo>
                  <a:pt x="1454" y="692"/>
                </a:lnTo>
                <a:lnTo>
                  <a:pt x="1464" y="689"/>
                </a:lnTo>
                <a:lnTo>
                  <a:pt x="1470" y="687"/>
                </a:lnTo>
                <a:lnTo>
                  <a:pt x="1479" y="685"/>
                </a:lnTo>
                <a:lnTo>
                  <a:pt x="1487" y="679"/>
                </a:lnTo>
                <a:lnTo>
                  <a:pt x="1497" y="673"/>
                </a:lnTo>
                <a:lnTo>
                  <a:pt x="1499" y="691"/>
                </a:lnTo>
                <a:lnTo>
                  <a:pt x="1501" y="708"/>
                </a:lnTo>
                <a:lnTo>
                  <a:pt x="1499" y="725"/>
                </a:lnTo>
                <a:lnTo>
                  <a:pt x="1499" y="741"/>
                </a:lnTo>
                <a:lnTo>
                  <a:pt x="1493" y="758"/>
                </a:lnTo>
                <a:lnTo>
                  <a:pt x="1491" y="770"/>
                </a:lnTo>
                <a:lnTo>
                  <a:pt x="1489" y="786"/>
                </a:lnTo>
                <a:lnTo>
                  <a:pt x="1489" y="799"/>
                </a:lnTo>
                <a:lnTo>
                  <a:pt x="1509" y="799"/>
                </a:lnTo>
                <a:lnTo>
                  <a:pt x="1522" y="793"/>
                </a:lnTo>
                <a:lnTo>
                  <a:pt x="1538" y="784"/>
                </a:lnTo>
                <a:lnTo>
                  <a:pt x="1551" y="774"/>
                </a:lnTo>
                <a:lnTo>
                  <a:pt x="1569" y="764"/>
                </a:lnTo>
                <a:lnTo>
                  <a:pt x="1582" y="758"/>
                </a:lnTo>
                <a:lnTo>
                  <a:pt x="1598" y="753"/>
                </a:lnTo>
                <a:lnTo>
                  <a:pt x="1613" y="753"/>
                </a:lnTo>
                <a:lnTo>
                  <a:pt x="1627" y="760"/>
                </a:lnTo>
                <a:lnTo>
                  <a:pt x="1588" y="780"/>
                </a:lnTo>
                <a:lnTo>
                  <a:pt x="1555" y="797"/>
                </a:lnTo>
                <a:lnTo>
                  <a:pt x="1518" y="817"/>
                </a:lnTo>
                <a:lnTo>
                  <a:pt x="1483" y="832"/>
                </a:lnTo>
                <a:lnTo>
                  <a:pt x="1447" y="855"/>
                </a:lnTo>
                <a:lnTo>
                  <a:pt x="1412" y="875"/>
                </a:lnTo>
                <a:lnTo>
                  <a:pt x="1377" y="896"/>
                </a:lnTo>
                <a:lnTo>
                  <a:pt x="1346" y="915"/>
                </a:lnTo>
                <a:lnTo>
                  <a:pt x="1233" y="979"/>
                </a:lnTo>
                <a:lnTo>
                  <a:pt x="1245" y="954"/>
                </a:lnTo>
                <a:lnTo>
                  <a:pt x="1258" y="927"/>
                </a:lnTo>
                <a:lnTo>
                  <a:pt x="1272" y="902"/>
                </a:lnTo>
                <a:lnTo>
                  <a:pt x="1284" y="875"/>
                </a:lnTo>
                <a:lnTo>
                  <a:pt x="1295" y="848"/>
                </a:lnTo>
                <a:lnTo>
                  <a:pt x="1309" y="820"/>
                </a:lnTo>
                <a:lnTo>
                  <a:pt x="1322" y="793"/>
                </a:lnTo>
                <a:lnTo>
                  <a:pt x="1344" y="766"/>
                </a:lnTo>
                <a:lnTo>
                  <a:pt x="1338" y="762"/>
                </a:lnTo>
                <a:lnTo>
                  <a:pt x="1340" y="758"/>
                </a:lnTo>
                <a:lnTo>
                  <a:pt x="1340" y="753"/>
                </a:lnTo>
                <a:lnTo>
                  <a:pt x="1346" y="749"/>
                </a:lnTo>
                <a:lnTo>
                  <a:pt x="1348" y="747"/>
                </a:lnTo>
                <a:lnTo>
                  <a:pt x="1351" y="745"/>
                </a:lnTo>
                <a:lnTo>
                  <a:pt x="1353" y="741"/>
                </a:lnTo>
                <a:lnTo>
                  <a:pt x="1357" y="733"/>
                </a:lnTo>
                <a:lnTo>
                  <a:pt x="1357" y="725"/>
                </a:lnTo>
                <a:lnTo>
                  <a:pt x="1363" y="714"/>
                </a:lnTo>
                <a:lnTo>
                  <a:pt x="1367" y="706"/>
                </a:lnTo>
                <a:lnTo>
                  <a:pt x="1373" y="696"/>
                </a:lnTo>
                <a:lnTo>
                  <a:pt x="1377" y="691"/>
                </a:lnTo>
                <a:lnTo>
                  <a:pt x="1383" y="679"/>
                </a:lnTo>
                <a:lnTo>
                  <a:pt x="1384" y="671"/>
                </a:lnTo>
                <a:lnTo>
                  <a:pt x="1388" y="658"/>
                </a:lnTo>
                <a:lnTo>
                  <a:pt x="1441" y="535"/>
                </a:lnTo>
                <a:lnTo>
                  <a:pt x="1431" y="531"/>
                </a:lnTo>
                <a:lnTo>
                  <a:pt x="1431" y="516"/>
                </a:lnTo>
                <a:lnTo>
                  <a:pt x="1435" y="504"/>
                </a:lnTo>
                <a:lnTo>
                  <a:pt x="1433" y="499"/>
                </a:lnTo>
                <a:lnTo>
                  <a:pt x="1433" y="493"/>
                </a:lnTo>
                <a:lnTo>
                  <a:pt x="1429" y="487"/>
                </a:lnTo>
                <a:lnTo>
                  <a:pt x="1421" y="483"/>
                </a:lnTo>
                <a:lnTo>
                  <a:pt x="1408" y="497"/>
                </a:lnTo>
                <a:lnTo>
                  <a:pt x="1394" y="506"/>
                </a:lnTo>
                <a:lnTo>
                  <a:pt x="1384" y="520"/>
                </a:lnTo>
                <a:lnTo>
                  <a:pt x="1377" y="531"/>
                </a:lnTo>
                <a:lnTo>
                  <a:pt x="1367" y="545"/>
                </a:lnTo>
                <a:lnTo>
                  <a:pt x="1357" y="559"/>
                </a:lnTo>
                <a:lnTo>
                  <a:pt x="1351" y="572"/>
                </a:lnTo>
                <a:lnTo>
                  <a:pt x="1348" y="584"/>
                </a:lnTo>
                <a:lnTo>
                  <a:pt x="1309" y="648"/>
                </a:lnTo>
                <a:lnTo>
                  <a:pt x="1274" y="706"/>
                </a:lnTo>
                <a:lnTo>
                  <a:pt x="1237" y="768"/>
                </a:lnTo>
                <a:lnTo>
                  <a:pt x="1204" y="826"/>
                </a:lnTo>
                <a:lnTo>
                  <a:pt x="1167" y="886"/>
                </a:lnTo>
                <a:lnTo>
                  <a:pt x="1134" y="945"/>
                </a:lnTo>
                <a:lnTo>
                  <a:pt x="1097" y="1003"/>
                </a:lnTo>
                <a:lnTo>
                  <a:pt x="1063" y="1057"/>
                </a:lnTo>
                <a:lnTo>
                  <a:pt x="1020" y="1109"/>
                </a:lnTo>
                <a:lnTo>
                  <a:pt x="936" y="1154"/>
                </a:lnTo>
                <a:lnTo>
                  <a:pt x="857" y="1199"/>
                </a:lnTo>
                <a:lnTo>
                  <a:pt x="775" y="1245"/>
                </a:lnTo>
                <a:lnTo>
                  <a:pt x="698" y="1294"/>
                </a:lnTo>
                <a:lnTo>
                  <a:pt x="620" y="1344"/>
                </a:lnTo>
                <a:lnTo>
                  <a:pt x="543" y="1394"/>
                </a:lnTo>
                <a:lnTo>
                  <a:pt x="465" y="1443"/>
                </a:lnTo>
                <a:lnTo>
                  <a:pt x="391" y="1490"/>
                </a:lnTo>
                <a:lnTo>
                  <a:pt x="353" y="1383"/>
                </a:lnTo>
                <a:lnTo>
                  <a:pt x="314" y="1276"/>
                </a:lnTo>
                <a:lnTo>
                  <a:pt x="271" y="1170"/>
                </a:lnTo>
                <a:lnTo>
                  <a:pt x="231" y="1061"/>
                </a:lnTo>
                <a:lnTo>
                  <a:pt x="186" y="958"/>
                </a:lnTo>
                <a:lnTo>
                  <a:pt x="143" y="855"/>
                </a:lnTo>
                <a:lnTo>
                  <a:pt x="95" y="751"/>
                </a:lnTo>
                <a:lnTo>
                  <a:pt x="48" y="646"/>
                </a:lnTo>
                <a:lnTo>
                  <a:pt x="44" y="619"/>
                </a:lnTo>
                <a:lnTo>
                  <a:pt x="35" y="594"/>
                </a:lnTo>
                <a:lnTo>
                  <a:pt x="21" y="568"/>
                </a:lnTo>
                <a:lnTo>
                  <a:pt x="11" y="541"/>
                </a:lnTo>
                <a:lnTo>
                  <a:pt x="2" y="518"/>
                </a:lnTo>
                <a:lnTo>
                  <a:pt x="0" y="493"/>
                </a:lnTo>
                <a:lnTo>
                  <a:pt x="8" y="467"/>
                </a:lnTo>
                <a:lnTo>
                  <a:pt x="29" y="444"/>
                </a:lnTo>
                <a:lnTo>
                  <a:pt x="40" y="415"/>
                </a:lnTo>
                <a:lnTo>
                  <a:pt x="56" y="384"/>
                </a:lnTo>
                <a:lnTo>
                  <a:pt x="72" y="353"/>
                </a:lnTo>
                <a:lnTo>
                  <a:pt x="93" y="322"/>
                </a:lnTo>
                <a:lnTo>
                  <a:pt x="114" y="295"/>
                </a:lnTo>
                <a:lnTo>
                  <a:pt x="143" y="274"/>
                </a:lnTo>
                <a:lnTo>
                  <a:pt x="172" y="258"/>
                </a:lnTo>
                <a:lnTo>
                  <a:pt x="211" y="250"/>
                </a:lnTo>
                <a:lnTo>
                  <a:pt x="384" y="204"/>
                </a:lnTo>
                <a:lnTo>
                  <a:pt x="566" y="169"/>
                </a:lnTo>
                <a:lnTo>
                  <a:pt x="746" y="144"/>
                </a:lnTo>
                <a:lnTo>
                  <a:pt x="933" y="122"/>
                </a:lnTo>
                <a:lnTo>
                  <a:pt x="1117" y="105"/>
                </a:lnTo>
                <a:lnTo>
                  <a:pt x="1299" y="83"/>
                </a:lnTo>
                <a:lnTo>
                  <a:pt x="1481" y="56"/>
                </a:lnTo>
                <a:lnTo>
                  <a:pt x="1664" y="14"/>
                </a:lnTo>
                <a:lnTo>
                  <a:pt x="1703" y="10"/>
                </a:lnTo>
                <a:lnTo>
                  <a:pt x="1745" y="6"/>
                </a:lnTo>
                <a:lnTo>
                  <a:pt x="1784" y="4"/>
                </a:lnTo>
                <a:lnTo>
                  <a:pt x="1825" y="0"/>
                </a:lnTo>
                <a:lnTo>
                  <a:pt x="1863" y="2"/>
                </a:lnTo>
                <a:lnTo>
                  <a:pt x="1902" y="2"/>
                </a:lnTo>
                <a:lnTo>
                  <a:pt x="1941" y="8"/>
                </a:lnTo>
                <a:lnTo>
                  <a:pt x="1984" y="16"/>
                </a:lnTo>
                <a:close/>
                <a:moveTo>
                  <a:pt x="2445" y="898"/>
                </a:moveTo>
                <a:lnTo>
                  <a:pt x="2469" y="946"/>
                </a:lnTo>
                <a:lnTo>
                  <a:pt x="2500" y="993"/>
                </a:lnTo>
                <a:lnTo>
                  <a:pt x="2533" y="1038"/>
                </a:lnTo>
                <a:lnTo>
                  <a:pt x="2567" y="1080"/>
                </a:lnTo>
                <a:lnTo>
                  <a:pt x="2597" y="1127"/>
                </a:lnTo>
                <a:lnTo>
                  <a:pt x="2628" y="1171"/>
                </a:lnTo>
                <a:lnTo>
                  <a:pt x="2653" y="1220"/>
                </a:lnTo>
                <a:lnTo>
                  <a:pt x="2672" y="1266"/>
                </a:lnTo>
                <a:lnTo>
                  <a:pt x="2707" y="1410"/>
                </a:lnTo>
                <a:lnTo>
                  <a:pt x="2748" y="1550"/>
                </a:lnTo>
                <a:lnTo>
                  <a:pt x="2796" y="1685"/>
                </a:lnTo>
                <a:lnTo>
                  <a:pt x="2851" y="1817"/>
                </a:lnTo>
                <a:lnTo>
                  <a:pt x="2911" y="1949"/>
                </a:lnTo>
                <a:lnTo>
                  <a:pt x="2981" y="2077"/>
                </a:lnTo>
                <a:lnTo>
                  <a:pt x="3058" y="2199"/>
                </a:lnTo>
                <a:lnTo>
                  <a:pt x="3149" y="2316"/>
                </a:lnTo>
                <a:lnTo>
                  <a:pt x="3209" y="2389"/>
                </a:lnTo>
                <a:lnTo>
                  <a:pt x="3270" y="2465"/>
                </a:lnTo>
                <a:lnTo>
                  <a:pt x="3324" y="2543"/>
                </a:lnTo>
                <a:lnTo>
                  <a:pt x="3378" y="2618"/>
                </a:lnTo>
                <a:lnTo>
                  <a:pt x="3430" y="2696"/>
                </a:lnTo>
                <a:lnTo>
                  <a:pt x="3487" y="2771"/>
                </a:lnTo>
                <a:lnTo>
                  <a:pt x="3547" y="2845"/>
                </a:lnTo>
                <a:lnTo>
                  <a:pt x="3613" y="2913"/>
                </a:lnTo>
                <a:lnTo>
                  <a:pt x="3650" y="2954"/>
                </a:lnTo>
                <a:lnTo>
                  <a:pt x="3694" y="2987"/>
                </a:lnTo>
                <a:lnTo>
                  <a:pt x="3737" y="3020"/>
                </a:lnTo>
                <a:lnTo>
                  <a:pt x="3782" y="3045"/>
                </a:lnTo>
                <a:lnTo>
                  <a:pt x="3828" y="3072"/>
                </a:lnTo>
                <a:lnTo>
                  <a:pt x="3875" y="3093"/>
                </a:lnTo>
                <a:lnTo>
                  <a:pt x="3921" y="3113"/>
                </a:lnTo>
                <a:lnTo>
                  <a:pt x="3972" y="3126"/>
                </a:lnTo>
                <a:lnTo>
                  <a:pt x="3902" y="3150"/>
                </a:lnTo>
                <a:lnTo>
                  <a:pt x="3836" y="3169"/>
                </a:lnTo>
                <a:lnTo>
                  <a:pt x="3766" y="3188"/>
                </a:lnTo>
                <a:lnTo>
                  <a:pt x="3700" y="3208"/>
                </a:lnTo>
                <a:lnTo>
                  <a:pt x="3630" y="3229"/>
                </a:lnTo>
                <a:lnTo>
                  <a:pt x="3564" y="3247"/>
                </a:lnTo>
                <a:lnTo>
                  <a:pt x="3496" y="3266"/>
                </a:lnTo>
                <a:lnTo>
                  <a:pt x="3430" y="3278"/>
                </a:lnTo>
                <a:lnTo>
                  <a:pt x="3398" y="3293"/>
                </a:lnTo>
                <a:lnTo>
                  <a:pt x="3366" y="3307"/>
                </a:lnTo>
                <a:lnTo>
                  <a:pt x="3335" y="3316"/>
                </a:lnTo>
                <a:lnTo>
                  <a:pt x="3304" y="3328"/>
                </a:lnTo>
                <a:lnTo>
                  <a:pt x="3271" y="3340"/>
                </a:lnTo>
                <a:lnTo>
                  <a:pt x="3240" y="3347"/>
                </a:lnTo>
                <a:lnTo>
                  <a:pt x="3207" y="3355"/>
                </a:lnTo>
                <a:lnTo>
                  <a:pt x="3175" y="3363"/>
                </a:lnTo>
                <a:lnTo>
                  <a:pt x="3015" y="3417"/>
                </a:lnTo>
                <a:lnTo>
                  <a:pt x="2858" y="3462"/>
                </a:lnTo>
                <a:lnTo>
                  <a:pt x="2695" y="3505"/>
                </a:lnTo>
                <a:lnTo>
                  <a:pt x="2536" y="3543"/>
                </a:lnTo>
                <a:lnTo>
                  <a:pt x="2372" y="3582"/>
                </a:lnTo>
                <a:lnTo>
                  <a:pt x="2211" y="3621"/>
                </a:lnTo>
                <a:lnTo>
                  <a:pt x="2048" y="3660"/>
                </a:lnTo>
                <a:lnTo>
                  <a:pt x="1889" y="3697"/>
                </a:lnTo>
                <a:lnTo>
                  <a:pt x="1863" y="3716"/>
                </a:lnTo>
                <a:lnTo>
                  <a:pt x="1836" y="3731"/>
                </a:lnTo>
                <a:lnTo>
                  <a:pt x="1809" y="3749"/>
                </a:lnTo>
                <a:lnTo>
                  <a:pt x="1784" y="3764"/>
                </a:lnTo>
                <a:lnTo>
                  <a:pt x="1753" y="3782"/>
                </a:lnTo>
                <a:lnTo>
                  <a:pt x="1728" y="3795"/>
                </a:lnTo>
                <a:lnTo>
                  <a:pt x="1699" y="3813"/>
                </a:lnTo>
                <a:lnTo>
                  <a:pt x="1673" y="3828"/>
                </a:lnTo>
                <a:lnTo>
                  <a:pt x="1580" y="3795"/>
                </a:lnTo>
                <a:lnTo>
                  <a:pt x="1489" y="3757"/>
                </a:lnTo>
                <a:lnTo>
                  <a:pt x="1398" y="3712"/>
                </a:lnTo>
                <a:lnTo>
                  <a:pt x="1313" y="3658"/>
                </a:lnTo>
                <a:lnTo>
                  <a:pt x="1231" y="3600"/>
                </a:lnTo>
                <a:lnTo>
                  <a:pt x="1159" y="3532"/>
                </a:lnTo>
                <a:lnTo>
                  <a:pt x="1099" y="3450"/>
                </a:lnTo>
                <a:lnTo>
                  <a:pt x="1055" y="3359"/>
                </a:lnTo>
                <a:lnTo>
                  <a:pt x="1014" y="3278"/>
                </a:lnTo>
                <a:lnTo>
                  <a:pt x="977" y="3194"/>
                </a:lnTo>
                <a:lnTo>
                  <a:pt x="944" y="3111"/>
                </a:lnTo>
                <a:lnTo>
                  <a:pt x="911" y="3026"/>
                </a:lnTo>
                <a:lnTo>
                  <a:pt x="878" y="2942"/>
                </a:lnTo>
                <a:lnTo>
                  <a:pt x="849" y="2857"/>
                </a:lnTo>
                <a:lnTo>
                  <a:pt x="814" y="2773"/>
                </a:lnTo>
                <a:lnTo>
                  <a:pt x="781" y="2690"/>
                </a:lnTo>
                <a:lnTo>
                  <a:pt x="743" y="2591"/>
                </a:lnTo>
                <a:lnTo>
                  <a:pt x="704" y="2494"/>
                </a:lnTo>
                <a:lnTo>
                  <a:pt x="665" y="2397"/>
                </a:lnTo>
                <a:lnTo>
                  <a:pt x="628" y="2300"/>
                </a:lnTo>
                <a:lnTo>
                  <a:pt x="591" y="2203"/>
                </a:lnTo>
                <a:lnTo>
                  <a:pt x="560" y="2102"/>
                </a:lnTo>
                <a:lnTo>
                  <a:pt x="529" y="2003"/>
                </a:lnTo>
                <a:lnTo>
                  <a:pt x="504" y="1899"/>
                </a:lnTo>
                <a:lnTo>
                  <a:pt x="568" y="1854"/>
                </a:lnTo>
                <a:lnTo>
                  <a:pt x="632" y="1811"/>
                </a:lnTo>
                <a:lnTo>
                  <a:pt x="700" y="1769"/>
                </a:lnTo>
                <a:lnTo>
                  <a:pt x="768" y="1726"/>
                </a:lnTo>
                <a:lnTo>
                  <a:pt x="836" y="1687"/>
                </a:lnTo>
                <a:lnTo>
                  <a:pt x="902" y="1645"/>
                </a:lnTo>
                <a:lnTo>
                  <a:pt x="967" y="1604"/>
                </a:lnTo>
                <a:lnTo>
                  <a:pt x="1033" y="1555"/>
                </a:lnTo>
                <a:lnTo>
                  <a:pt x="1092" y="1517"/>
                </a:lnTo>
                <a:lnTo>
                  <a:pt x="1154" y="1478"/>
                </a:lnTo>
                <a:lnTo>
                  <a:pt x="1214" y="1439"/>
                </a:lnTo>
                <a:lnTo>
                  <a:pt x="1276" y="1398"/>
                </a:lnTo>
                <a:lnTo>
                  <a:pt x="1334" y="1360"/>
                </a:lnTo>
                <a:lnTo>
                  <a:pt x="1396" y="1321"/>
                </a:lnTo>
                <a:lnTo>
                  <a:pt x="1458" y="1282"/>
                </a:lnTo>
                <a:lnTo>
                  <a:pt x="1520" y="1243"/>
                </a:lnTo>
                <a:lnTo>
                  <a:pt x="1532" y="1245"/>
                </a:lnTo>
                <a:lnTo>
                  <a:pt x="1545" y="1239"/>
                </a:lnTo>
                <a:lnTo>
                  <a:pt x="1559" y="1232"/>
                </a:lnTo>
                <a:lnTo>
                  <a:pt x="1571" y="1220"/>
                </a:lnTo>
                <a:lnTo>
                  <a:pt x="1582" y="1208"/>
                </a:lnTo>
                <a:lnTo>
                  <a:pt x="1596" y="1199"/>
                </a:lnTo>
                <a:lnTo>
                  <a:pt x="1607" y="1189"/>
                </a:lnTo>
                <a:lnTo>
                  <a:pt x="1623" y="1181"/>
                </a:lnTo>
                <a:lnTo>
                  <a:pt x="1714" y="1129"/>
                </a:lnTo>
                <a:lnTo>
                  <a:pt x="1805" y="1073"/>
                </a:lnTo>
                <a:lnTo>
                  <a:pt x="1893" y="1016"/>
                </a:lnTo>
                <a:lnTo>
                  <a:pt x="1984" y="958"/>
                </a:lnTo>
                <a:lnTo>
                  <a:pt x="2073" y="902"/>
                </a:lnTo>
                <a:lnTo>
                  <a:pt x="2162" y="844"/>
                </a:lnTo>
                <a:lnTo>
                  <a:pt x="2253" y="787"/>
                </a:lnTo>
                <a:lnTo>
                  <a:pt x="2346" y="729"/>
                </a:lnTo>
                <a:lnTo>
                  <a:pt x="2360" y="751"/>
                </a:lnTo>
                <a:lnTo>
                  <a:pt x="2372" y="772"/>
                </a:lnTo>
                <a:lnTo>
                  <a:pt x="2383" y="793"/>
                </a:lnTo>
                <a:lnTo>
                  <a:pt x="2397" y="813"/>
                </a:lnTo>
                <a:lnTo>
                  <a:pt x="2407" y="838"/>
                </a:lnTo>
                <a:lnTo>
                  <a:pt x="2418" y="857"/>
                </a:lnTo>
                <a:lnTo>
                  <a:pt x="2430" y="879"/>
                </a:lnTo>
                <a:lnTo>
                  <a:pt x="2445" y="898"/>
                </a:lnTo>
                <a:close/>
                <a:moveTo>
                  <a:pt x="1173" y="1951"/>
                </a:moveTo>
                <a:lnTo>
                  <a:pt x="1127" y="1982"/>
                </a:lnTo>
                <a:lnTo>
                  <a:pt x="1123" y="1963"/>
                </a:lnTo>
                <a:lnTo>
                  <a:pt x="1119" y="1939"/>
                </a:lnTo>
                <a:lnTo>
                  <a:pt x="1115" y="1918"/>
                </a:lnTo>
                <a:lnTo>
                  <a:pt x="1111" y="1897"/>
                </a:lnTo>
                <a:lnTo>
                  <a:pt x="1109" y="1877"/>
                </a:lnTo>
                <a:lnTo>
                  <a:pt x="1109" y="1835"/>
                </a:lnTo>
                <a:lnTo>
                  <a:pt x="1115" y="1813"/>
                </a:lnTo>
                <a:lnTo>
                  <a:pt x="1125" y="1831"/>
                </a:lnTo>
                <a:lnTo>
                  <a:pt x="1136" y="1844"/>
                </a:lnTo>
                <a:lnTo>
                  <a:pt x="1146" y="1862"/>
                </a:lnTo>
                <a:lnTo>
                  <a:pt x="1159" y="1877"/>
                </a:lnTo>
                <a:lnTo>
                  <a:pt x="1165" y="1897"/>
                </a:lnTo>
                <a:lnTo>
                  <a:pt x="1173" y="1914"/>
                </a:lnTo>
                <a:lnTo>
                  <a:pt x="1173" y="1951"/>
                </a:lnTo>
                <a:close/>
                <a:moveTo>
                  <a:pt x="1144" y="1042"/>
                </a:moveTo>
                <a:lnTo>
                  <a:pt x="1130" y="1042"/>
                </a:lnTo>
                <a:lnTo>
                  <a:pt x="1134" y="1028"/>
                </a:lnTo>
                <a:lnTo>
                  <a:pt x="1142" y="1010"/>
                </a:lnTo>
                <a:lnTo>
                  <a:pt x="1154" y="995"/>
                </a:lnTo>
                <a:lnTo>
                  <a:pt x="1165" y="978"/>
                </a:lnTo>
                <a:lnTo>
                  <a:pt x="1177" y="962"/>
                </a:lnTo>
                <a:lnTo>
                  <a:pt x="1189" y="945"/>
                </a:lnTo>
                <a:lnTo>
                  <a:pt x="1198" y="931"/>
                </a:lnTo>
                <a:lnTo>
                  <a:pt x="1206" y="912"/>
                </a:lnTo>
                <a:lnTo>
                  <a:pt x="1245" y="855"/>
                </a:lnTo>
                <a:lnTo>
                  <a:pt x="1235" y="881"/>
                </a:lnTo>
                <a:lnTo>
                  <a:pt x="1225" y="906"/>
                </a:lnTo>
                <a:lnTo>
                  <a:pt x="1216" y="933"/>
                </a:lnTo>
                <a:lnTo>
                  <a:pt x="1206" y="956"/>
                </a:lnTo>
                <a:lnTo>
                  <a:pt x="1192" y="981"/>
                </a:lnTo>
                <a:lnTo>
                  <a:pt x="1179" y="1003"/>
                </a:lnTo>
                <a:lnTo>
                  <a:pt x="1161" y="1026"/>
                </a:lnTo>
                <a:lnTo>
                  <a:pt x="1144" y="1042"/>
                </a:lnTo>
                <a:close/>
                <a:moveTo>
                  <a:pt x="607" y="2290"/>
                </a:moveTo>
                <a:lnTo>
                  <a:pt x="448" y="1949"/>
                </a:lnTo>
                <a:lnTo>
                  <a:pt x="448" y="1945"/>
                </a:lnTo>
                <a:lnTo>
                  <a:pt x="450" y="1938"/>
                </a:lnTo>
                <a:lnTo>
                  <a:pt x="454" y="1934"/>
                </a:lnTo>
                <a:lnTo>
                  <a:pt x="459" y="1930"/>
                </a:lnTo>
                <a:lnTo>
                  <a:pt x="465" y="1928"/>
                </a:lnTo>
                <a:lnTo>
                  <a:pt x="471" y="1926"/>
                </a:lnTo>
                <a:lnTo>
                  <a:pt x="475" y="1920"/>
                </a:lnTo>
                <a:lnTo>
                  <a:pt x="481" y="1914"/>
                </a:lnTo>
                <a:lnTo>
                  <a:pt x="494" y="1963"/>
                </a:lnTo>
                <a:lnTo>
                  <a:pt x="510" y="2009"/>
                </a:lnTo>
                <a:lnTo>
                  <a:pt x="525" y="2056"/>
                </a:lnTo>
                <a:lnTo>
                  <a:pt x="543" y="2102"/>
                </a:lnTo>
                <a:lnTo>
                  <a:pt x="556" y="2149"/>
                </a:lnTo>
                <a:lnTo>
                  <a:pt x="574" y="2197"/>
                </a:lnTo>
                <a:lnTo>
                  <a:pt x="589" y="2244"/>
                </a:lnTo>
                <a:lnTo>
                  <a:pt x="607" y="2290"/>
                </a:lnTo>
                <a:close/>
              </a:path>
            </a:pathLst>
          </a:custGeom>
          <a:solidFill>
            <a:srgbClr val="a7ceff">
              <a:alpha val="50000"/>
            </a:srgbClr>
          </a:solidFill>
          <a:ln w="1800">
            <a:solidFill>
              <a:srgbClr val="a7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094200" y="1774800"/>
            <a:ext cx="2652480" cy="1846440"/>
          </a:xfrm>
          <a:custGeom>
            <a:avLst/>
            <a:gdLst/>
            <a:ahLst/>
            <a:rect l="l" t="t" r="r" b="b"/>
            <a:pathLst>
              <a:path w="3342" h="2327">
                <a:moveTo>
                  <a:pt x="2327" y="890"/>
                </a:moveTo>
                <a:lnTo>
                  <a:pt x="1769" y="1237"/>
                </a:lnTo>
                <a:lnTo>
                  <a:pt x="1695" y="1288"/>
                </a:lnTo>
                <a:lnTo>
                  <a:pt x="1621" y="1340"/>
                </a:lnTo>
                <a:lnTo>
                  <a:pt x="1548" y="1391"/>
                </a:lnTo>
                <a:lnTo>
                  <a:pt x="1476" y="1443"/>
                </a:lnTo>
                <a:lnTo>
                  <a:pt x="1402" y="1492"/>
                </a:lnTo>
                <a:lnTo>
                  <a:pt x="1329" y="1542"/>
                </a:lnTo>
                <a:lnTo>
                  <a:pt x="1253" y="1588"/>
                </a:lnTo>
                <a:lnTo>
                  <a:pt x="1179" y="1635"/>
                </a:lnTo>
                <a:lnTo>
                  <a:pt x="1098" y="1685"/>
                </a:lnTo>
                <a:lnTo>
                  <a:pt x="1018" y="1736"/>
                </a:lnTo>
                <a:lnTo>
                  <a:pt x="935" y="1782"/>
                </a:lnTo>
                <a:lnTo>
                  <a:pt x="853" y="1831"/>
                </a:lnTo>
                <a:lnTo>
                  <a:pt x="770" y="1877"/>
                </a:lnTo>
                <a:lnTo>
                  <a:pt x="687" y="1924"/>
                </a:lnTo>
                <a:lnTo>
                  <a:pt x="605" y="1971"/>
                </a:lnTo>
                <a:lnTo>
                  <a:pt x="526" y="2023"/>
                </a:lnTo>
                <a:lnTo>
                  <a:pt x="508" y="1961"/>
                </a:lnTo>
                <a:lnTo>
                  <a:pt x="518" y="1955"/>
                </a:lnTo>
                <a:lnTo>
                  <a:pt x="528" y="1951"/>
                </a:lnTo>
                <a:lnTo>
                  <a:pt x="537" y="1943"/>
                </a:lnTo>
                <a:lnTo>
                  <a:pt x="547" y="1938"/>
                </a:lnTo>
                <a:lnTo>
                  <a:pt x="565" y="1920"/>
                </a:lnTo>
                <a:lnTo>
                  <a:pt x="584" y="1908"/>
                </a:lnTo>
                <a:lnTo>
                  <a:pt x="654" y="1860"/>
                </a:lnTo>
                <a:lnTo>
                  <a:pt x="725" y="1813"/>
                </a:lnTo>
                <a:lnTo>
                  <a:pt x="797" y="1765"/>
                </a:lnTo>
                <a:lnTo>
                  <a:pt x="869" y="1718"/>
                </a:lnTo>
                <a:lnTo>
                  <a:pt x="939" y="1670"/>
                </a:lnTo>
                <a:lnTo>
                  <a:pt x="1013" y="1621"/>
                </a:lnTo>
                <a:lnTo>
                  <a:pt x="1084" y="1575"/>
                </a:lnTo>
                <a:lnTo>
                  <a:pt x="1158" y="1530"/>
                </a:lnTo>
                <a:lnTo>
                  <a:pt x="1251" y="1488"/>
                </a:lnTo>
                <a:lnTo>
                  <a:pt x="1344" y="1439"/>
                </a:lnTo>
                <a:lnTo>
                  <a:pt x="1433" y="1385"/>
                </a:lnTo>
                <a:lnTo>
                  <a:pt x="1525" y="1329"/>
                </a:lnTo>
                <a:lnTo>
                  <a:pt x="1614" y="1268"/>
                </a:lnTo>
                <a:lnTo>
                  <a:pt x="1703" y="1212"/>
                </a:lnTo>
                <a:lnTo>
                  <a:pt x="1794" y="1156"/>
                </a:lnTo>
                <a:lnTo>
                  <a:pt x="1887" y="1108"/>
                </a:lnTo>
                <a:lnTo>
                  <a:pt x="1912" y="1100"/>
                </a:lnTo>
                <a:lnTo>
                  <a:pt x="1938" y="1090"/>
                </a:lnTo>
                <a:lnTo>
                  <a:pt x="1961" y="1075"/>
                </a:lnTo>
                <a:lnTo>
                  <a:pt x="1984" y="1061"/>
                </a:lnTo>
                <a:lnTo>
                  <a:pt x="2005" y="1044"/>
                </a:lnTo>
                <a:lnTo>
                  <a:pt x="2029" y="1028"/>
                </a:lnTo>
                <a:lnTo>
                  <a:pt x="2054" y="1014"/>
                </a:lnTo>
                <a:lnTo>
                  <a:pt x="2081" y="1007"/>
                </a:lnTo>
                <a:lnTo>
                  <a:pt x="2104" y="980"/>
                </a:lnTo>
                <a:lnTo>
                  <a:pt x="2130" y="960"/>
                </a:lnTo>
                <a:lnTo>
                  <a:pt x="2157" y="943"/>
                </a:lnTo>
                <a:lnTo>
                  <a:pt x="2186" y="927"/>
                </a:lnTo>
                <a:lnTo>
                  <a:pt x="2213" y="910"/>
                </a:lnTo>
                <a:lnTo>
                  <a:pt x="2240" y="894"/>
                </a:lnTo>
                <a:lnTo>
                  <a:pt x="2267" y="875"/>
                </a:lnTo>
                <a:lnTo>
                  <a:pt x="2293" y="855"/>
                </a:lnTo>
                <a:lnTo>
                  <a:pt x="2306" y="853"/>
                </a:lnTo>
                <a:lnTo>
                  <a:pt x="2316" y="863"/>
                </a:lnTo>
                <a:lnTo>
                  <a:pt x="2322" y="877"/>
                </a:lnTo>
                <a:lnTo>
                  <a:pt x="2327" y="890"/>
                </a:lnTo>
                <a:close/>
                <a:moveTo>
                  <a:pt x="481" y="1932"/>
                </a:moveTo>
                <a:lnTo>
                  <a:pt x="479" y="1949"/>
                </a:lnTo>
                <a:lnTo>
                  <a:pt x="468" y="1963"/>
                </a:lnTo>
                <a:lnTo>
                  <a:pt x="458" y="1969"/>
                </a:lnTo>
                <a:lnTo>
                  <a:pt x="448" y="1974"/>
                </a:lnTo>
                <a:lnTo>
                  <a:pt x="438" y="1980"/>
                </a:lnTo>
                <a:lnTo>
                  <a:pt x="433" y="1988"/>
                </a:lnTo>
                <a:lnTo>
                  <a:pt x="427" y="1974"/>
                </a:lnTo>
                <a:lnTo>
                  <a:pt x="421" y="1961"/>
                </a:lnTo>
                <a:lnTo>
                  <a:pt x="415" y="1947"/>
                </a:lnTo>
                <a:lnTo>
                  <a:pt x="411" y="1936"/>
                </a:lnTo>
                <a:lnTo>
                  <a:pt x="405" y="1920"/>
                </a:lnTo>
                <a:lnTo>
                  <a:pt x="404" y="1907"/>
                </a:lnTo>
                <a:lnTo>
                  <a:pt x="404" y="1895"/>
                </a:lnTo>
                <a:lnTo>
                  <a:pt x="404" y="1883"/>
                </a:lnTo>
                <a:lnTo>
                  <a:pt x="454" y="1850"/>
                </a:lnTo>
                <a:lnTo>
                  <a:pt x="460" y="1868"/>
                </a:lnTo>
                <a:lnTo>
                  <a:pt x="469" y="1887"/>
                </a:lnTo>
                <a:lnTo>
                  <a:pt x="471" y="1897"/>
                </a:lnTo>
                <a:lnTo>
                  <a:pt x="475" y="1908"/>
                </a:lnTo>
                <a:lnTo>
                  <a:pt x="477" y="1920"/>
                </a:lnTo>
                <a:lnTo>
                  <a:pt x="481" y="1932"/>
                </a:lnTo>
                <a:close/>
                <a:moveTo>
                  <a:pt x="246" y="2091"/>
                </a:moveTo>
                <a:lnTo>
                  <a:pt x="215" y="2102"/>
                </a:lnTo>
                <a:lnTo>
                  <a:pt x="186" y="2120"/>
                </a:lnTo>
                <a:lnTo>
                  <a:pt x="157" y="2137"/>
                </a:lnTo>
                <a:lnTo>
                  <a:pt x="128" y="2157"/>
                </a:lnTo>
                <a:lnTo>
                  <a:pt x="97" y="2170"/>
                </a:lnTo>
                <a:lnTo>
                  <a:pt x="66" y="2180"/>
                </a:lnTo>
                <a:lnTo>
                  <a:pt x="33" y="2180"/>
                </a:lnTo>
                <a:lnTo>
                  <a:pt x="0" y="2174"/>
                </a:lnTo>
                <a:lnTo>
                  <a:pt x="23" y="2147"/>
                </a:lnTo>
                <a:lnTo>
                  <a:pt x="49" y="2124"/>
                </a:lnTo>
                <a:lnTo>
                  <a:pt x="76" y="2100"/>
                </a:lnTo>
                <a:lnTo>
                  <a:pt x="105" y="2081"/>
                </a:lnTo>
                <a:lnTo>
                  <a:pt x="134" y="2062"/>
                </a:lnTo>
                <a:lnTo>
                  <a:pt x="163" y="2044"/>
                </a:lnTo>
                <a:lnTo>
                  <a:pt x="192" y="2025"/>
                </a:lnTo>
                <a:lnTo>
                  <a:pt x="221" y="2007"/>
                </a:lnTo>
                <a:lnTo>
                  <a:pt x="246" y="2091"/>
                </a:lnTo>
                <a:close/>
                <a:moveTo>
                  <a:pt x="435" y="2079"/>
                </a:moveTo>
                <a:lnTo>
                  <a:pt x="415" y="2087"/>
                </a:lnTo>
                <a:lnTo>
                  <a:pt x="398" y="2099"/>
                </a:lnTo>
                <a:lnTo>
                  <a:pt x="380" y="2110"/>
                </a:lnTo>
                <a:lnTo>
                  <a:pt x="363" y="2122"/>
                </a:lnTo>
                <a:lnTo>
                  <a:pt x="343" y="2132"/>
                </a:lnTo>
                <a:lnTo>
                  <a:pt x="326" y="2143"/>
                </a:lnTo>
                <a:lnTo>
                  <a:pt x="307" y="2153"/>
                </a:lnTo>
                <a:lnTo>
                  <a:pt x="289" y="2164"/>
                </a:lnTo>
                <a:lnTo>
                  <a:pt x="285" y="2153"/>
                </a:lnTo>
                <a:lnTo>
                  <a:pt x="283" y="2141"/>
                </a:lnTo>
                <a:lnTo>
                  <a:pt x="283" y="2130"/>
                </a:lnTo>
                <a:lnTo>
                  <a:pt x="285" y="2120"/>
                </a:lnTo>
                <a:lnTo>
                  <a:pt x="299" y="2104"/>
                </a:lnTo>
                <a:lnTo>
                  <a:pt x="314" y="2091"/>
                </a:lnTo>
                <a:lnTo>
                  <a:pt x="332" y="2079"/>
                </a:lnTo>
                <a:lnTo>
                  <a:pt x="349" y="2068"/>
                </a:lnTo>
                <a:lnTo>
                  <a:pt x="367" y="2054"/>
                </a:lnTo>
                <a:lnTo>
                  <a:pt x="384" y="2042"/>
                </a:lnTo>
                <a:lnTo>
                  <a:pt x="402" y="2033"/>
                </a:lnTo>
                <a:lnTo>
                  <a:pt x="419" y="2023"/>
                </a:lnTo>
                <a:lnTo>
                  <a:pt x="435" y="2079"/>
                </a:lnTo>
                <a:close/>
                <a:moveTo>
                  <a:pt x="520" y="2108"/>
                </a:moveTo>
                <a:lnTo>
                  <a:pt x="530" y="2126"/>
                </a:lnTo>
                <a:lnTo>
                  <a:pt x="537" y="2145"/>
                </a:lnTo>
                <a:lnTo>
                  <a:pt x="541" y="2164"/>
                </a:lnTo>
                <a:lnTo>
                  <a:pt x="549" y="2186"/>
                </a:lnTo>
                <a:lnTo>
                  <a:pt x="537" y="2196"/>
                </a:lnTo>
                <a:lnTo>
                  <a:pt x="528" y="2203"/>
                </a:lnTo>
                <a:lnTo>
                  <a:pt x="514" y="2207"/>
                </a:lnTo>
                <a:lnTo>
                  <a:pt x="504" y="2215"/>
                </a:lnTo>
                <a:lnTo>
                  <a:pt x="499" y="2192"/>
                </a:lnTo>
                <a:lnTo>
                  <a:pt x="489" y="2170"/>
                </a:lnTo>
                <a:lnTo>
                  <a:pt x="477" y="2147"/>
                </a:lnTo>
                <a:lnTo>
                  <a:pt x="468" y="2124"/>
                </a:lnTo>
                <a:lnTo>
                  <a:pt x="460" y="2100"/>
                </a:lnTo>
                <a:lnTo>
                  <a:pt x="462" y="2083"/>
                </a:lnTo>
                <a:lnTo>
                  <a:pt x="475" y="2068"/>
                </a:lnTo>
                <a:lnTo>
                  <a:pt x="504" y="2060"/>
                </a:lnTo>
                <a:lnTo>
                  <a:pt x="510" y="2068"/>
                </a:lnTo>
                <a:lnTo>
                  <a:pt x="512" y="2081"/>
                </a:lnTo>
                <a:lnTo>
                  <a:pt x="512" y="2095"/>
                </a:lnTo>
                <a:lnTo>
                  <a:pt x="520" y="2108"/>
                </a:lnTo>
                <a:close/>
                <a:moveTo>
                  <a:pt x="297" y="2236"/>
                </a:moveTo>
                <a:lnTo>
                  <a:pt x="299" y="2246"/>
                </a:lnTo>
                <a:lnTo>
                  <a:pt x="305" y="2260"/>
                </a:lnTo>
                <a:lnTo>
                  <a:pt x="310" y="2271"/>
                </a:lnTo>
                <a:lnTo>
                  <a:pt x="316" y="2287"/>
                </a:lnTo>
                <a:lnTo>
                  <a:pt x="318" y="2298"/>
                </a:lnTo>
                <a:lnTo>
                  <a:pt x="318" y="2310"/>
                </a:lnTo>
                <a:lnTo>
                  <a:pt x="310" y="2320"/>
                </a:lnTo>
                <a:lnTo>
                  <a:pt x="297" y="2327"/>
                </a:lnTo>
                <a:lnTo>
                  <a:pt x="281" y="2322"/>
                </a:lnTo>
                <a:lnTo>
                  <a:pt x="270" y="2320"/>
                </a:lnTo>
                <a:lnTo>
                  <a:pt x="254" y="2316"/>
                </a:lnTo>
                <a:lnTo>
                  <a:pt x="243" y="2316"/>
                </a:lnTo>
                <a:lnTo>
                  <a:pt x="227" y="2312"/>
                </a:lnTo>
                <a:lnTo>
                  <a:pt x="214" y="2308"/>
                </a:lnTo>
                <a:lnTo>
                  <a:pt x="202" y="2304"/>
                </a:lnTo>
                <a:lnTo>
                  <a:pt x="190" y="2300"/>
                </a:lnTo>
                <a:lnTo>
                  <a:pt x="198" y="2287"/>
                </a:lnTo>
                <a:lnTo>
                  <a:pt x="212" y="2275"/>
                </a:lnTo>
                <a:lnTo>
                  <a:pt x="223" y="2265"/>
                </a:lnTo>
                <a:lnTo>
                  <a:pt x="239" y="2260"/>
                </a:lnTo>
                <a:lnTo>
                  <a:pt x="252" y="2254"/>
                </a:lnTo>
                <a:lnTo>
                  <a:pt x="268" y="2248"/>
                </a:lnTo>
                <a:lnTo>
                  <a:pt x="281" y="2242"/>
                </a:lnTo>
                <a:lnTo>
                  <a:pt x="297" y="2236"/>
                </a:lnTo>
                <a:close/>
                <a:moveTo>
                  <a:pt x="489" y="2256"/>
                </a:moveTo>
                <a:lnTo>
                  <a:pt x="475" y="2261"/>
                </a:lnTo>
                <a:lnTo>
                  <a:pt x="464" y="2273"/>
                </a:lnTo>
                <a:lnTo>
                  <a:pt x="450" y="2283"/>
                </a:lnTo>
                <a:lnTo>
                  <a:pt x="438" y="2292"/>
                </a:lnTo>
                <a:lnTo>
                  <a:pt x="425" y="2298"/>
                </a:lnTo>
                <a:lnTo>
                  <a:pt x="413" y="2304"/>
                </a:lnTo>
                <a:lnTo>
                  <a:pt x="402" y="2306"/>
                </a:lnTo>
                <a:lnTo>
                  <a:pt x="390" y="2304"/>
                </a:lnTo>
                <a:lnTo>
                  <a:pt x="400" y="2296"/>
                </a:lnTo>
                <a:lnTo>
                  <a:pt x="411" y="2289"/>
                </a:lnTo>
                <a:lnTo>
                  <a:pt x="423" y="2283"/>
                </a:lnTo>
                <a:lnTo>
                  <a:pt x="437" y="2277"/>
                </a:lnTo>
                <a:lnTo>
                  <a:pt x="448" y="2271"/>
                </a:lnTo>
                <a:lnTo>
                  <a:pt x="460" y="2265"/>
                </a:lnTo>
                <a:lnTo>
                  <a:pt x="471" y="2260"/>
                </a:lnTo>
                <a:lnTo>
                  <a:pt x="483" y="2254"/>
                </a:lnTo>
                <a:lnTo>
                  <a:pt x="489" y="2256"/>
                </a:lnTo>
                <a:close/>
                <a:moveTo>
                  <a:pt x="3196" y="82"/>
                </a:moveTo>
                <a:lnTo>
                  <a:pt x="3189" y="89"/>
                </a:lnTo>
                <a:lnTo>
                  <a:pt x="3183" y="103"/>
                </a:lnTo>
                <a:lnTo>
                  <a:pt x="3179" y="115"/>
                </a:lnTo>
                <a:lnTo>
                  <a:pt x="3177" y="130"/>
                </a:lnTo>
                <a:lnTo>
                  <a:pt x="3171" y="140"/>
                </a:lnTo>
                <a:lnTo>
                  <a:pt x="3165" y="151"/>
                </a:lnTo>
                <a:lnTo>
                  <a:pt x="3157" y="159"/>
                </a:lnTo>
                <a:lnTo>
                  <a:pt x="3146" y="163"/>
                </a:lnTo>
                <a:lnTo>
                  <a:pt x="3132" y="171"/>
                </a:lnTo>
                <a:lnTo>
                  <a:pt x="3119" y="181"/>
                </a:lnTo>
                <a:lnTo>
                  <a:pt x="3103" y="188"/>
                </a:lnTo>
                <a:lnTo>
                  <a:pt x="3090" y="194"/>
                </a:lnTo>
                <a:lnTo>
                  <a:pt x="3084" y="179"/>
                </a:lnTo>
                <a:lnTo>
                  <a:pt x="3080" y="165"/>
                </a:lnTo>
                <a:lnTo>
                  <a:pt x="3074" y="149"/>
                </a:lnTo>
                <a:lnTo>
                  <a:pt x="3070" y="136"/>
                </a:lnTo>
                <a:lnTo>
                  <a:pt x="3066" y="118"/>
                </a:lnTo>
                <a:lnTo>
                  <a:pt x="3066" y="105"/>
                </a:lnTo>
                <a:lnTo>
                  <a:pt x="3068" y="87"/>
                </a:lnTo>
                <a:lnTo>
                  <a:pt x="3076" y="74"/>
                </a:lnTo>
                <a:lnTo>
                  <a:pt x="3074" y="62"/>
                </a:lnTo>
                <a:lnTo>
                  <a:pt x="3074" y="53"/>
                </a:lnTo>
                <a:lnTo>
                  <a:pt x="3074" y="43"/>
                </a:lnTo>
                <a:lnTo>
                  <a:pt x="3078" y="35"/>
                </a:lnTo>
                <a:lnTo>
                  <a:pt x="3084" y="18"/>
                </a:lnTo>
                <a:lnTo>
                  <a:pt x="3092" y="0"/>
                </a:lnTo>
                <a:lnTo>
                  <a:pt x="3105" y="2"/>
                </a:lnTo>
                <a:lnTo>
                  <a:pt x="3121" y="10"/>
                </a:lnTo>
                <a:lnTo>
                  <a:pt x="3134" y="20"/>
                </a:lnTo>
                <a:lnTo>
                  <a:pt x="3150" y="31"/>
                </a:lnTo>
                <a:lnTo>
                  <a:pt x="3161" y="43"/>
                </a:lnTo>
                <a:lnTo>
                  <a:pt x="3173" y="56"/>
                </a:lnTo>
                <a:lnTo>
                  <a:pt x="3185" y="68"/>
                </a:lnTo>
                <a:lnTo>
                  <a:pt x="3196" y="82"/>
                </a:lnTo>
                <a:close/>
                <a:moveTo>
                  <a:pt x="3196" y="149"/>
                </a:moveTo>
                <a:lnTo>
                  <a:pt x="3198" y="144"/>
                </a:lnTo>
                <a:lnTo>
                  <a:pt x="3200" y="130"/>
                </a:lnTo>
                <a:lnTo>
                  <a:pt x="3204" y="117"/>
                </a:lnTo>
                <a:lnTo>
                  <a:pt x="3216" y="115"/>
                </a:lnTo>
                <a:lnTo>
                  <a:pt x="3196" y="149"/>
                </a:lnTo>
                <a:close/>
                <a:moveTo>
                  <a:pt x="3082" y="229"/>
                </a:moveTo>
                <a:lnTo>
                  <a:pt x="3086" y="243"/>
                </a:lnTo>
                <a:lnTo>
                  <a:pt x="3090" y="260"/>
                </a:lnTo>
                <a:lnTo>
                  <a:pt x="3095" y="276"/>
                </a:lnTo>
                <a:lnTo>
                  <a:pt x="3103" y="293"/>
                </a:lnTo>
                <a:lnTo>
                  <a:pt x="3109" y="307"/>
                </a:lnTo>
                <a:lnTo>
                  <a:pt x="3117" y="320"/>
                </a:lnTo>
                <a:lnTo>
                  <a:pt x="3128" y="332"/>
                </a:lnTo>
                <a:lnTo>
                  <a:pt x="3142" y="345"/>
                </a:lnTo>
                <a:lnTo>
                  <a:pt x="3165" y="392"/>
                </a:lnTo>
                <a:lnTo>
                  <a:pt x="3136" y="409"/>
                </a:lnTo>
                <a:lnTo>
                  <a:pt x="3107" y="429"/>
                </a:lnTo>
                <a:lnTo>
                  <a:pt x="3078" y="448"/>
                </a:lnTo>
                <a:lnTo>
                  <a:pt x="3051" y="469"/>
                </a:lnTo>
                <a:lnTo>
                  <a:pt x="3022" y="487"/>
                </a:lnTo>
                <a:lnTo>
                  <a:pt x="2993" y="506"/>
                </a:lnTo>
                <a:lnTo>
                  <a:pt x="2964" y="526"/>
                </a:lnTo>
                <a:lnTo>
                  <a:pt x="2934" y="545"/>
                </a:lnTo>
                <a:lnTo>
                  <a:pt x="2919" y="526"/>
                </a:lnTo>
                <a:lnTo>
                  <a:pt x="2905" y="508"/>
                </a:lnTo>
                <a:lnTo>
                  <a:pt x="2890" y="489"/>
                </a:lnTo>
                <a:lnTo>
                  <a:pt x="2876" y="471"/>
                </a:lnTo>
                <a:lnTo>
                  <a:pt x="2859" y="454"/>
                </a:lnTo>
                <a:lnTo>
                  <a:pt x="2841" y="438"/>
                </a:lnTo>
                <a:lnTo>
                  <a:pt x="2822" y="423"/>
                </a:lnTo>
                <a:lnTo>
                  <a:pt x="2805" y="411"/>
                </a:lnTo>
                <a:lnTo>
                  <a:pt x="2837" y="386"/>
                </a:lnTo>
                <a:lnTo>
                  <a:pt x="2870" y="361"/>
                </a:lnTo>
                <a:lnTo>
                  <a:pt x="2903" y="336"/>
                </a:lnTo>
                <a:lnTo>
                  <a:pt x="2938" y="312"/>
                </a:lnTo>
                <a:lnTo>
                  <a:pt x="2973" y="287"/>
                </a:lnTo>
                <a:lnTo>
                  <a:pt x="3008" y="266"/>
                </a:lnTo>
                <a:lnTo>
                  <a:pt x="3043" y="245"/>
                </a:lnTo>
                <a:lnTo>
                  <a:pt x="3082" y="229"/>
                </a:lnTo>
                <a:close/>
                <a:moveTo>
                  <a:pt x="2770" y="411"/>
                </a:moveTo>
                <a:lnTo>
                  <a:pt x="2717" y="442"/>
                </a:lnTo>
                <a:lnTo>
                  <a:pt x="2711" y="427"/>
                </a:lnTo>
                <a:lnTo>
                  <a:pt x="2706" y="413"/>
                </a:lnTo>
                <a:lnTo>
                  <a:pt x="2700" y="398"/>
                </a:lnTo>
                <a:lnTo>
                  <a:pt x="2700" y="384"/>
                </a:lnTo>
                <a:lnTo>
                  <a:pt x="2717" y="384"/>
                </a:lnTo>
                <a:lnTo>
                  <a:pt x="2737" y="392"/>
                </a:lnTo>
                <a:lnTo>
                  <a:pt x="2752" y="400"/>
                </a:lnTo>
                <a:lnTo>
                  <a:pt x="2770" y="411"/>
                </a:lnTo>
                <a:close/>
                <a:moveTo>
                  <a:pt x="3247" y="431"/>
                </a:moveTo>
                <a:lnTo>
                  <a:pt x="3031" y="584"/>
                </a:lnTo>
                <a:lnTo>
                  <a:pt x="3049" y="561"/>
                </a:lnTo>
                <a:lnTo>
                  <a:pt x="3070" y="539"/>
                </a:lnTo>
                <a:lnTo>
                  <a:pt x="3090" y="518"/>
                </a:lnTo>
                <a:lnTo>
                  <a:pt x="3113" y="499"/>
                </a:lnTo>
                <a:lnTo>
                  <a:pt x="3132" y="477"/>
                </a:lnTo>
                <a:lnTo>
                  <a:pt x="3154" y="458"/>
                </a:lnTo>
                <a:lnTo>
                  <a:pt x="3175" y="437"/>
                </a:lnTo>
                <a:lnTo>
                  <a:pt x="3196" y="417"/>
                </a:lnTo>
                <a:lnTo>
                  <a:pt x="3208" y="421"/>
                </a:lnTo>
                <a:lnTo>
                  <a:pt x="3221" y="423"/>
                </a:lnTo>
                <a:lnTo>
                  <a:pt x="3233" y="425"/>
                </a:lnTo>
                <a:lnTo>
                  <a:pt x="3247" y="431"/>
                </a:lnTo>
                <a:close/>
                <a:moveTo>
                  <a:pt x="2803" y="623"/>
                </a:moveTo>
                <a:lnTo>
                  <a:pt x="2750" y="650"/>
                </a:lnTo>
                <a:lnTo>
                  <a:pt x="2727" y="508"/>
                </a:lnTo>
                <a:lnTo>
                  <a:pt x="2733" y="497"/>
                </a:lnTo>
                <a:lnTo>
                  <a:pt x="2742" y="510"/>
                </a:lnTo>
                <a:lnTo>
                  <a:pt x="2754" y="526"/>
                </a:lnTo>
                <a:lnTo>
                  <a:pt x="2766" y="539"/>
                </a:lnTo>
                <a:lnTo>
                  <a:pt x="2777" y="555"/>
                </a:lnTo>
                <a:lnTo>
                  <a:pt x="2785" y="568"/>
                </a:lnTo>
                <a:lnTo>
                  <a:pt x="2793" y="586"/>
                </a:lnTo>
                <a:lnTo>
                  <a:pt x="2799" y="601"/>
                </a:lnTo>
                <a:lnTo>
                  <a:pt x="2803" y="623"/>
                </a:lnTo>
                <a:close/>
                <a:moveTo>
                  <a:pt x="2630" y="518"/>
                </a:moveTo>
                <a:lnTo>
                  <a:pt x="2618" y="537"/>
                </a:lnTo>
                <a:lnTo>
                  <a:pt x="2613" y="561"/>
                </a:lnTo>
                <a:lnTo>
                  <a:pt x="2605" y="584"/>
                </a:lnTo>
                <a:lnTo>
                  <a:pt x="2599" y="609"/>
                </a:lnTo>
                <a:lnTo>
                  <a:pt x="2589" y="630"/>
                </a:lnTo>
                <a:lnTo>
                  <a:pt x="2578" y="652"/>
                </a:lnTo>
                <a:lnTo>
                  <a:pt x="2560" y="667"/>
                </a:lnTo>
                <a:lnTo>
                  <a:pt x="2539" y="685"/>
                </a:lnTo>
                <a:lnTo>
                  <a:pt x="2320" y="817"/>
                </a:lnTo>
                <a:lnTo>
                  <a:pt x="2302" y="803"/>
                </a:lnTo>
                <a:lnTo>
                  <a:pt x="2294" y="789"/>
                </a:lnTo>
                <a:lnTo>
                  <a:pt x="2285" y="772"/>
                </a:lnTo>
                <a:lnTo>
                  <a:pt x="2275" y="758"/>
                </a:lnTo>
                <a:lnTo>
                  <a:pt x="2318" y="725"/>
                </a:lnTo>
                <a:lnTo>
                  <a:pt x="2362" y="694"/>
                </a:lnTo>
                <a:lnTo>
                  <a:pt x="2405" y="663"/>
                </a:lnTo>
                <a:lnTo>
                  <a:pt x="2450" y="634"/>
                </a:lnTo>
                <a:lnTo>
                  <a:pt x="2492" y="603"/>
                </a:lnTo>
                <a:lnTo>
                  <a:pt x="2537" y="574"/>
                </a:lnTo>
                <a:lnTo>
                  <a:pt x="2583" y="545"/>
                </a:lnTo>
                <a:lnTo>
                  <a:pt x="2630" y="518"/>
                </a:lnTo>
                <a:close/>
                <a:moveTo>
                  <a:pt x="2919" y="578"/>
                </a:moveTo>
                <a:lnTo>
                  <a:pt x="2921" y="594"/>
                </a:lnTo>
                <a:lnTo>
                  <a:pt x="2917" y="611"/>
                </a:lnTo>
                <a:lnTo>
                  <a:pt x="2913" y="627"/>
                </a:lnTo>
                <a:lnTo>
                  <a:pt x="2915" y="644"/>
                </a:lnTo>
                <a:lnTo>
                  <a:pt x="2851" y="693"/>
                </a:lnTo>
                <a:lnTo>
                  <a:pt x="2845" y="634"/>
                </a:lnTo>
                <a:lnTo>
                  <a:pt x="2861" y="617"/>
                </a:lnTo>
                <a:lnTo>
                  <a:pt x="2878" y="599"/>
                </a:lnTo>
                <a:lnTo>
                  <a:pt x="2886" y="592"/>
                </a:lnTo>
                <a:lnTo>
                  <a:pt x="2896" y="586"/>
                </a:lnTo>
                <a:lnTo>
                  <a:pt x="2907" y="580"/>
                </a:lnTo>
                <a:lnTo>
                  <a:pt x="2919" y="578"/>
                </a:lnTo>
                <a:close/>
                <a:moveTo>
                  <a:pt x="2737" y="770"/>
                </a:moveTo>
                <a:lnTo>
                  <a:pt x="2411" y="987"/>
                </a:lnTo>
                <a:lnTo>
                  <a:pt x="2397" y="966"/>
                </a:lnTo>
                <a:lnTo>
                  <a:pt x="2384" y="947"/>
                </a:lnTo>
                <a:lnTo>
                  <a:pt x="2368" y="925"/>
                </a:lnTo>
                <a:lnTo>
                  <a:pt x="2358" y="906"/>
                </a:lnTo>
                <a:lnTo>
                  <a:pt x="2395" y="883"/>
                </a:lnTo>
                <a:lnTo>
                  <a:pt x="2436" y="861"/>
                </a:lnTo>
                <a:lnTo>
                  <a:pt x="2473" y="838"/>
                </a:lnTo>
                <a:lnTo>
                  <a:pt x="2514" y="815"/>
                </a:lnTo>
                <a:lnTo>
                  <a:pt x="2552" y="789"/>
                </a:lnTo>
                <a:lnTo>
                  <a:pt x="2591" y="766"/>
                </a:lnTo>
                <a:lnTo>
                  <a:pt x="2632" y="743"/>
                </a:lnTo>
                <a:lnTo>
                  <a:pt x="2673" y="725"/>
                </a:lnTo>
                <a:lnTo>
                  <a:pt x="2686" y="716"/>
                </a:lnTo>
                <a:lnTo>
                  <a:pt x="2702" y="708"/>
                </a:lnTo>
                <a:lnTo>
                  <a:pt x="2715" y="698"/>
                </a:lnTo>
                <a:lnTo>
                  <a:pt x="2731" y="691"/>
                </a:lnTo>
                <a:lnTo>
                  <a:pt x="2737" y="770"/>
                </a:lnTo>
                <a:close/>
                <a:moveTo>
                  <a:pt x="2805" y="757"/>
                </a:moveTo>
                <a:lnTo>
                  <a:pt x="2801" y="764"/>
                </a:lnTo>
                <a:lnTo>
                  <a:pt x="2795" y="774"/>
                </a:lnTo>
                <a:lnTo>
                  <a:pt x="2787" y="782"/>
                </a:lnTo>
                <a:lnTo>
                  <a:pt x="2779" y="788"/>
                </a:lnTo>
                <a:lnTo>
                  <a:pt x="2772" y="784"/>
                </a:lnTo>
                <a:lnTo>
                  <a:pt x="2768" y="780"/>
                </a:lnTo>
                <a:lnTo>
                  <a:pt x="2772" y="770"/>
                </a:lnTo>
                <a:lnTo>
                  <a:pt x="2781" y="764"/>
                </a:lnTo>
                <a:lnTo>
                  <a:pt x="2793" y="758"/>
                </a:lnTo>
                <a:lnTo>
                  <a:pt x="2805" y="757"/>
                </a:lnTo>
                <a:close/>
                <a:moveTo>
                  <a:pt x="2188" y="1177"/>
                </a:moveTo>
                <a:lnTo>
                  <a:pt x="2211" y="1154"/>
                </a:lnTo>
                <a:lnTo>
                  <a:pt x="2238" y="1135"/>
                </a:lnTo>
                <a:lnTo>
                  <a:pt x="2265" y="1113"/>
                </a:lnTo>
                <a:lnTo>
                  <a:pt x="2294" y="1094"/>
                </a:lnTo>
                <a:lnTo>
                  <a:pt x="2322" y="1073"/>
                </a:lnTo>
                <a:lnTo>
                  <a:pt x="2349" y="1053"/>
                </a:lnTo>
                <a:lnTo>
                  <a:pt x="2378" y="1034"/>
                </a:lnTo>
                <a:lnTo>
                  <a:pt x="2407" y="1016"/>
                </a:lnTo>
                <a:lnTo>
                  <a:pt x="2419" y="1036"/>
                </a:lnTo>
                <a:lnTo>
                  <a:pt x="2188" y="1177"/>
                </a:lnTo>
                <a:close/>
                <a:moveTo>
                  <a:pt x="3297" y="404"/>
                </a:moveTo>
                <a:lnTo>
                  <a:pt x="3285" y="413"/>
                </a:lnTo>
                <a:lnTo>
                  <a:pt x="3276" y="419"/>
                </a:lnTo>
                <a:lnTo>
                  <a:pt x="3264" y="417"/>
                </a:lnTo>
                <a:lnTo>
                  <a:pt x="3256" y="407"/>
                </a:lnTo>
                <a:lnTo>
                  <a:pt x="3243" y="396"/>
                </a:lnTo>
                <a:lnTo>
                  <a:pt x="3241" y="384"/>
                </a:lnTo>
                <a:lnTo>
                  <a:pt x="3247" y="373"/>
                </a:lnTo>
                <a:lnTo>
                  <a:pt x="3256" y="361"/>
                </a:lnTo>
                <a:lnTo>
                  <a:pt x="3264" y="349"/>
                </a:lnTo>
                <a:lnTo>
                  <a:pt x="3266" y="345"/>
                </a:lnTo>
                <a:lnTo>
                  <a:pt x="3258" y="343"/>
                </a:lnTo>
                <a:lnTo>
                  <a:pt x="3239" y="351"/>
                </a:lnTo>
                <a:lnTo>
                  <a:pt x="3227" y="351"/>
                </a:lnTo>
                <a:lnTo>
                  <a:pt x="3221" y="334"/>
                </a:lnTo>
                <a:lnTo>
                  <a:pt x="3218" y="320"/>
                </a:lnTo>
                <a:lnTo>
                  <a:pt x="3212" y="307"/>
                </a:lnTo>
                <a:lnTo>
                  <a:pt x="3206" y="295"/>
                </a:lnTo>
                <a:lnTo>
                  <a:pt x="3198" y="279"/>
                </a:lnTo>
                <a:lnTo>
                  <a:pt x="3194" y="266"/>
                </a:lnTo>
                <a:lnTo>
                  <a:pt x="3190" y="250"/>
                </a:lnTo>
                <a:lnTo>
                  <a:pt x="3190" y="235"/>
                </a:lnTo>
                <a:lnTo>
                  <a:pt x="3200" y="256"/>
                </a:lnTo>
                <a:lnTo>
                  <a:pt x="3218" y="277"/>
                </a:lnTo>
                <a:lnTo>
                  <a:pt x="3233" y="297"/>
                </a:lnTo>
                <a:lnTo>
                  <a:pt x="3251" y="316"/>
                </a:lnTo>
                <a:lnTo>
                  <a:pt x="3266" y="336"/>
                </a:lnTo>
                <a:lnTo>
                  <a:pt x="3280" y="357"/>
                </a:lnTo>
                <a:lnTo>
                  <a:pt x="3291" y="378"/>
                </a:lnTo>
                <a:lnTo>
                  <a:pt x="3297" y="404"/>
                </a:lnTo>
                <a:close/>
                <a:moveTo>
                  <a:pt x="3340" y="376"/>
                </a:moveTo>
                <a:lnTo>
                  <a:pt x="3338" y="378"/>
                </a:lnTo>
                <a:lnTo>
                  <a:pt x="3338" y="386"/>
                </a:lnTo>
                <a:lnTo>
                  <a:pt x="3336" y="392"/>
                </a:lnTo>
                <a:lnTo>
                  <a:pt x="3330" y="398"/>
                </a:lnTo>
                <a:lnTo>
                  <a:pt x="3320" y="394"/>
                </a:lnTo>
                <a:lnTo>
                  <a:pt x="3317" y="384"/>
                </a:lnTo>
                <a:lnTo>
                  <a:pt x="3317" y="367"/>
                </a:lnTo>
                <a:lnTo>
                  <a:pt x="3317" y="351"/>
                </a:lnTo>
                <a:lnTo>
                  <a:pt x="3315" y="336"/>
                </a:lnTo>
                <a:lnTo>
                  <a:pt x="3315" y="322"/>
                </a:lnTo>
                <a:lnTo>
                  <a:pt x="3311" y="305"/>
                </a:lnTo>
                <a:lnTo>
                  <a:pt x="3307" y="291"/>
                </a:lnTo>
                <a:lnTo>
                  <a:pt x="3301" y="277"/>
                </a:lnTo>
                <a:lnTo>
                  <a:pt x="3297" y="266"/>
                </a:lnTo>
                <a:lnTo>
                  <a:pt x="3299" y="252"/>
                </a:lnTo>
                <a:lnTo>
                  <a:pt x="3309" y="262"/>
                </a:lnTo>
                <a:lnTo>
                  <a:pt x="3320" y="276"/>
                </a:lnTo>
                <a:lnTo>
                  <a:pt x="3328" y="287"/>
                </a:lnTo>
                <a:lnTo>
                  <a:pt x="3336" y="305"/>
                </a:lnTo>
                <a:lnTo>
                  <a:pt x="3340" y="320"/>
                </a:lnTo>
                <a:lnTo>
                  <a:pt x="3342" y="338"/>
                </a:lnTo>
                <a:lnTo>
                  <a:pt x="3340" y="357"/>
                </a:lnTo>
                <a:lnTo>
                  <a:pt x="3340" y="376"/>
                </a:lnTo>
                <a:close/>
              </a:path>
            </a:pathLst>
          </a:custGeom>
          <a:solidFill>
            <a:srgbClr val="ffcc00">
              <a:alpha val="50000"/>
            </a:srgbClr>
          </a:solidFill>
          <a:ln w="180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476520" y="2449440"/>
            <a:ext cx="2206800" cy="2030400"/>
          </a:xfrm>
          <a:custGeom>
            <a:avLst/>
            <a:gdLst/>
            <a:ahLst/>
            <a:rect l="l" t="t" r="r" b="b"/>
            <a:pathLst>
              <a:path w="2781" h="2558">
                <a:moveTo>
                  <a:pt x="1393" y="1276"/>
                </a:moveTo>
                <a:lnTo>
                  <a:pt x="1406" y="1289"/>
                </a:lnTo>
                <a:lnTo>
                  <a:pt x="1418" y="1307"/>
                </a:lnTo>
                <a:lnTo>
                  <a:pt x="1424" y="1324"/>
                </a:lnTo>
                <a:lnTo>
                  <a:pt x="1431" y="1347"/>
                </a:lnTo>
                <a:lnTo>
                  <a:pt x="1433" y="1367"/>
                </a:lnTo>
                <a:lnTo>
                  <a:pt x="1435" y="1390"/>
                </a:lnTo>
                <a:lnTo>
                  <a:pt x="1439" y="1411"/>
                </a:lnTo>
                <a:lnTo>
                  <a:pt x="1447" y="1433"/>
                </a:lnTo>
                <a:lnTo>
                  <a:pt x="1443" y="1456"/>
                </a:lnTo>
                <a:lnTo>
                  <a:pt x="1441" y="1481"/>
                </a:lnTo>
                <a:lnTo>
                  <a:pt x="1439" y="1506"/>
                </a:lnTo>
                <a:lnTo>
                  <a:pt x="1435" y="1532"/>
                </a:lnTo>
                <a:lnTo>
                  <a:pt x="1428" y="1553"/>
                </a:lnTo>
                <a:lnTo>
                  <a:pt x="1420" y="1576"/>
                </a:lnTo>
                <a:lnTo>
                  <a:pt x="1406" y="1598"/>
                </a:lnTo>
                <a:lnTo>
                  <a:pt x="1391" y="1617"/>
                </a:lnTo>
                <a:lnTo>
                  <a:pt x="1385" y="1629"/>
                </a:lnTo>
                <a:lnTo>
                  <a:pt x="1381" y="1642"/>
                </a:lnTo>
                <a:lnTo>
                  <a:pt x="1375" y="1656"/>
                </a:lnTo>
                <a:lnTo>
                  <a:pt x="1369" y="1669"/>
                </a:lnTo>
                <a:lnTo>
                  <a:pt x="1360" y="1681"/>
                </a:lnTo>
                <a:lnTo>
                  <a:pt x="1352" y="1693"/>
                </a:lnTo>
                <a:lnTo>
                  <a:pt x="1340" y="1702"/>
                </a:lnTo>
                <a:lnTo>
                  <a:pt x="1331" y="1712"/>
                </a:lnTo>
                <a:lnTo>
                  <a:pt x="1317" y="1712"/>
                </a:lnTo>
                <a:lnTo>
                  <a:pt x="1305" y="1712"/>
                </a:lnTo>
                <a:lnTo>
                  <a:pt x="1294" y="1708"/>
                </a:lnTo>
                <a:lnTo>
                  <a:pt x="1286" y="1704"/>
                </a:lnTo>
                <a:lnTo>
                  <a:pt x="1267" y="1691"/>
                </a:lnTo>
                <a:lnTo>
                  <a:pt x="1251" y="1677"/>
                </a:lnTo>
                <a:lnTo>
                  <a:pt x="1226" y="1632"/>
                </a:lnTo>
                <a:lnTo>
                  <a:pt x="1208" y="1586"/>
                </a:lnTo>
                <a:lnTo>
                  <a:pt x="1199" y="1534"/>
                </a:lnTo>
                <a:lnTo>
                  <a:pt x="1199" y="1483"/>
                </a:lnTo>
                <a:lnTo>
                  <a:pt x="1203" y="1429"/>
                </a:lnTo>
                <a:lnTo>
                  <a:pt x="1212" y="1378"/>
                </a:lnTo>
                <a:lnTo>
                  <a:pt x="1228" y="1330"/>
                </a:lnTo>
                <a:lnTo>
                  <a:pt x="1251" y="1289"/>
                </a:lnTo>
                <a:lnTo>
                  <a:pt x="1265" y="1274"/>
                </a:lnTo>
                <a:lnTo>
                  <a:pt x="1280" y="1262"/>
                </a:lnTo>
                <a:lnTo>
                  <a:pt x="1296" y="1250"/>
                </a:lnTo>
                <a:lnTo>
                  <a:pt x="1313" y="1245"/>
                </a:lnTo>
                <a:lnTo>
                  <a:pt x="1323" y="1243"/>
                </a:lnTo>
                <a:lnTo>
                  <a:pt x="1334" y="1247"/>
                </a:lnTo>
                <a:lnTo>
                  <a:pt x="1342" y="1252"/>
                </a:lnTo>
                <a:lnTo>
                  <a:pt x="1352" y="1262"/>
                </a:lnTo>
                <a:lnTo>
                  <a:pt x="1358" y="1268"/>
                </a:lnTo>
                <a:lnTo>
                  <a:pt x="1367" y="1276"/>
                </a:lnTo>
                <a:lnTo>
                  <a:pt x="1379" y="1278"/>
                </a:lnTo>
                <a:lnTo>
                  <a:pt x="1393" y="1276"/>
                </a:lnTo>
                <a:close/>
                <a:moveTo>
                  <a:pt x="972" y="1280"/>
                </a:moveTo>
                <a:lnTo>
                  <a:pt x="954" y="1289"/>
                </a:lnTo>
                <a:lnTo>
                  <a:pt x="941" y="1307"/>
                </a:lnTo>
                <a:lnTo>
                  <a:pt x="929" y="1324"/>
                </a:lnTo>
                <a:lnTo>
                  <a:pt x="923" y="1344"/>
                </a:lnTo>
                <a:lnTo>
                  <a:pt x="929" y="1330"/>
                </a:lnTo>
                <a:lnTo>
                  <a:pt x="939" y="1324"/>
                </a:lnTo>
                <a:lnTo>
                  <a:pt x="950" y="1320"/>
                </a:lnTo>
                <a:lnTo>
                  <a:pt x="964" y="1320"/>
                </a:lnTo>
                <a:lnTo>
                  <a:pt x="978" y="1320"/>
                </a:lnTo>
                <a:lnTo>
                  <a:pt x="993" y="1322"/>
                </a:lnTo>
                <a:lnTo>
                  <a:pt x="1007" y="1324"/>
                </a:lnTo>
                <a:lnTo>
                  <a:pt x="1022" y="1326"/>
                </a:lnTo>
                <a:lnTo>
                  <a:pt x="1044" y="1347"/>
                </a:lnTo>
                <a:lnTo>
                  <a:pt x="1065" y="1371"/>
                </a:lnTo>
                <a:lnTo>
                  <a:pt x="1084" y="1396"/>
                </a:lnTo>
                <a:lnTo>
                  <a:pt x="1104" y="1423"/>
                </a:lnTo>
                <a:lnTo>
                  <a:pt x="1119" y="1450"/>
                </a:lnTo>
                <a:lnTo>
                  <a:pt x="1133" y="1479"/>
                </a:lnTo>
                <a:lnTo>
                  <a:pt x="1144" y="1508"/>
                </a:lnTo>
                <a:lnTo>
                  <a:pt x="1158" y="1539"/>
                </a:lnTo>
                <a:lnTo>
                  <a:pt x="1160" y="1561"/>
                </a:lnTo>
                <a:lnTo>
                  <a:pt x="1158" y="1584"/>
                </a:lnTo>
                <a:lnTo>
                  <a:pt x="1152" y="1603"/>
                </a:lnTo>
                <a:lnTo>
                  <a:pt x="1148" y="1625"/>
                </a:lnTo>
                <a:lnTo>
                  <a:pt x="1140" y="1642"/>
                </a:lnTo>
                <a:lnTo>
                  <a:pt x="1135" y="1662"/>
                </a:lnTo>
                <a:lnTo>
                  <a:pt x="1129" y="1681"/>
                </a:lnTo>
                <a:lnTo>
                  <a:pt x="1129" y="1704"/>
                </a:lnTo>
                <a:lnTo>
                  <a:pt x="1121" y="1716"/>
                </a:lnTo>
                <a:lnTo>
                  <a:pt x="1111" y="1729"/>
                </a:lnTo>
                <a:lnTo>
                  <a:pt x="1098" y="1739"/>
                </a:lnTo>
                <a:lnTo>
                  <a:pt x="1086" y="1747"/>
                </a:lnTo>
                <a:lnTo>
                  <a:pt x="1065" y="1747"/>
                </a:lnTo>
                <a:lnTo>
                  <a:pt x="1047" y="1747"/>
                </a:lnTo>
                <a:lnTo>
                  <a:pt x="1030" y="1741"/>
                </a:lnTo>
                <a:lnTo>
                  <a:pt x="1014" y="1735"/>
                </a:lnTo>
                <a:lnTo>
                  <a:pt x="997" y="1724"/>
                </a:lnTo>
                <a:lnTo>
                  <a:pt x="983" y="1714"/>
                </a:lnTo>
                <a:lnTo>
                  <a:pt x="968" y="1704"/>
                </a:lnTo>
                <a:lnTo>
                  <a:pt x="956" y="1695"/>
                </a:lnTo>
                <a:lnTo>
                  <a:pt x="935" y="1656"/>
                </a:lnTo>
                <a:lnTo>
                  <a:pt x="919" y="1619"/>
                </a:lnTo>
                <a:lnTo>
                  <a:pt x="906" y="1578"/>
                </a:lnTo>
                <a:lnTo>
                  <a:pt x="896" y="1537"/>
                </a:lnTo>
                <a:lnTo>
                  <a:pt x="888" y="1495"/>
                </a:lnTo>
                <a:lnTo>
                  <a:pt x="886" y="1452"/>
                </a:lnTo>
                <a:lnTo>
                  <a:pt x="886" y="1409"/>
                </a:lnTo>
                <a:lnTo>
                  <a:pt x="894" y="1369"/>
                </a:lnTo>
                <a:lnTo>
                  <a:pt x="900" y="1353"/>
                </a:lnTo>
                <a:lnTo>
                  <a:pt x="906" y="1340"/>
                </a:lnTo>
                <a:lnTo>
                  <a:pt x="912" y="1324"/>
                </a:lnTo>
                <a:lnTo>
                  <a:pt x="921" y="1312"/>
                </a:lnTo>
                <a:lnTo>
                  <a:pt x="929" y="1301"/>
                </a:lnTo>
                <a:lnTo>
                  <a:pt x="941" y="1291"/>
                </a:lnTo>
                <a:lnTo>
                  <a:pt x="954" y="1283"/>
                </a:lnTo>
                <a:lnTo>
                  <a:pt x="972" y="1280"/>
                </a:lnTo>
                <a:close/>
                <a:moveTo>
                  <a:pt x="735" y="1120"/>
                </a:moveTo>
                <a:lnTo>
                  <a:pt x="741" y="1152"/>
                </a:lnTo>
                <a:lnTo>
                  <a:pt x="747" y="1186"/>
                </a:lnTo>
                <a:lnTo>
                  <a:pt x="749" y="1221"/>
                </a:lnTo>
                <a:lnTo>
                  <a:pt x="755" y="1256"/>
                </a:lnTo>
                <a:lnTo>
                  <a:pt x="760" y="1289"/>
                </a:lnTo>
                <a:lnTo>
                  <a:pt x="768" y="1324"/>
                </a:lnTo>
                <a:lnTo>
                  <a:pt x="780" y="1357"/>
                </a:lnTo>
                <a:lnTo>
                  <a:pt x="797" y="1388"/>
                </a:lnTo>
                <a:lnTo>
                  <a:pt x="799" y="1429"/>
                </a:lnTo>
                <a:lnTo>
                  <a:pt x="807" y="1472"/>
                </a:lnTo>
                <a:lnTo>
                  <a:pt x="819" y="1512"/>
                </a:lnTo>
                <a:lnTo>
                  <a:pt x="830" y="1553"/>
                </a:lnTo>
                <a:lnTo>
                  <a:pt x="842" y="1592"/>
                </a:lnTo>
                <a:lnTo>
                  <a:pt x="855" y="1632"/>
                </a:lnTo>
                <a:lnTo>
                  <a:pt x="867" y="1673"/>
                </a:lnTo>
                <a:lnTo>
                  <a:pt x="879" y="1714"/>
                </a:lnTo>
                <a:lnTo>
                  <a:pt x="884" y="1731"/>
                </a:lnTo>
                <a:lnTo>
                  <a:pt x="894" y="1749"/>
                </a:lnTo>
                <a:lnTo>
                  <a:pt x="904" y="1766"/>
                </a:lnTo>
                <a:lnTo>
                  <a:pt x="916" y="1784"/>
                </a:lnTo>
                <a:lnTo>
                  <a:pt x="925" y="1799"/>
                </a:lnTo>
                <a:lnTo>
                  <a:pt x="935" y="1817"/>
                </a:lnTo>
                <a:lnTo>
                  <a:pt x="945" y="1834"/>
                </a:lnTo>
                <a:lnTo>
                  <a:pt x="954" y="1854"/>
                </a:lnTo>
                <a:lnTo>
                  <a:pt x="937" y="1861"/>
                </a:lnTo>
                <a:lnTo>
                  <a:pt x="921" y="1869"/>
                </a:lnTo>
                <a:lnTo>
                  <a:pt x="904" y="1877"/>
                </a:lnTo>
                <a:lnTo>
                  <a:pt x="888" y="1887"/>
                </a:lnTo>
                <a:lnTo>
                  <a:pt x="871" y="1892"/>
                </a:lnTo>
                <a:lnTo>
                  <a:pt x="853" y="1898"/>
                </a:lnTo>
                <a:lnTo>
                  <a:pt x="834" y="1902"/>
                </a:lnTo>
                <a:lnTo>
                  <a:pt x="817" y="1906"/>
                </a:lnTo>
                <a:lnTo>
                  <a:pt x="811" y="1850"/>
                </a:lnTo>
                <a:lnTo>
                  <a:pt x="801" y="1797"/>
                </a:lnTo>
                <a:lnTo>
                  <a:pt x="788" y="1745"/>
                </a:lnTo>
                <a:lnTo>
                  <a:pt x="774" y="1695"/>
                </a:lnTo>
                <a:lnTo>
                  <a:pt x="756" y="1644"/>
                </a:lnTo>
                <a:lnTo>
                  <a:pt x="741" y="1594"/>
                </a:lnTo>
                <a:lnTo>
                  <a:pt x="727" y="1541"/>
                </a:lnTo>
                <a:lnTo>
                  <a:pt x="718" y="1491"/>
                </a:lnTo>
                <a:lnTo>
                  <a:pt x="706" y="1491"/>
                </a:lnTo>
                <a:lnTo>
                  <a:pt x="696" y="1493"/>
                </a:lnTo>
                <a:lnTo>
                  <a:pt x="685" y="1495"/>
                </a:lnTo>
                <a:lnTo>
                  <a:pt x="677" y="1501"/>
                </a:lnTo>
                <a:lnTo>
                  <a:pt x="679" y="1514"/>
                </a:lnTo>
                <a:lnTo>
                  <a:pt x="675" y="1526"/>
                </a:lnTo>
                <a:lnTo>
                  <a:pt x="665" y="1532"/>
                </a:lnTo>
                <a:lnTo>
                  <a:pt x="656" y="1536"/>
                </a:lnTo>
                <a:lnTo>
                  <a:pt x="640" y="1534"/>
                </a:lnTo>
                <a:lnTo>
                  <a:pt x="627" y="1534"/>
                </a:lnTo>
                <a:lnTo>
                  <a:pt x="615" y="1534"/>
                </a:lnTo>
                <a:lnTo>
                  <a:pt x="605" y="1534"/>
                </a:lnTo>
                <a:lnTo>
                  <a:pt x="586" y="1530"/>
                </a:lnTo>
                <a:lnTo>
                  <a:pt x="568" y="1536"/>
                </a:lnTo>
                <a:lnTo>
                  <a:pt x="551" y="1543"/>
                </a:lnTo>
                <a:lnTo>
                  <a:pt x="533" y="1551"/>
                </a:lnTo>
                <a:lnTo>
                  <a:pt x="514" y="1551"/>
                </a:lnTo>
                <a:lnTo>
                  <a:pt x="495" y="1553"/>
                </a:lnTo>
                <a:lnTo>
                  <a:pt x="475" y="1553"/>
                </a:lnTo>
                <a:lnTo>
                  <a:pt x="458" y="1555"/>
                </a:lnTo>
                <a:lnTo>
                  <a:pt x="438" y="1553"/>
                </a:lnTo>
                <a:lnTo>
                  <a:pt x="421" y="1549"/>
                </a:lnTo>
                <a:lnTo>
                  <a:pt x="404" y="1541"/>
                </a:lnTo>
                <a:lnTo>
                  <a:pt x="392" y="1532"/>
                </a:lnTo>
                <a:lnTo>
                  <a:pt x="396" y="1503"/>
                </a:lnTo>
                <a:lnTo>
                  <a:pt x="376" y="1495"/>
                </a:lnTo>
                <a:lnTo>
                  <a:pt x="357" y="1497"/>
                </a:lnTo>
                <a:lnTo>
                  <a:pt x="338" y="1499"/>
                </a:lnTo>
                <a:lnTo>
                  <a:pt x="322" y="1501"/>
                </a:lnTo>
                <a:lnTo>
                  <a:pt x="322" y="1487"/>
                </a:lnTo>
                <a:lnTo>
                  <a:pt x="328" y="1477"/>
                </a:lnTo>
                <a:lnTo>
                  <a:pt x="334" y="1468"/>
                </a:lnTo>
                <a:lnTo>
                  <a:pt x="343" y="1462"/>
                </a:lnTo>
                <a:lnTo>
                  <a:pt x="357" y="1444"/>
                </a:lnTo>
                <a:lnTo>
                  <a:pt x="372" y="1427"/>
                </a:lnTo>
                <a:lnTo>
                  <a:pt x="392" y="1386"/>
                </a:lnTo>
                <a:lnTo>
                  <a:pt x="411" y="1347"/>
                </a:lnTo>
                <a:lnTo>
                  <a:pt x="431" y="1309"/>
                </a:lnTo>
                <a:lnTo>
                  <a:pt x="454" y="1270"/>
                </a:lnTo>
                <a:lnTo>
                  <a:pt x="477" y="1231"/>
                </a:lnTo>
                <a:lnTo>
                  <a:pt x="504" y="1196"/>
                </a:lnTo>
                <a:lnTo>
                  <a:pt x="532" y="1163"/>
                </a:lnTo>
                <a:lnTo>
                  <a:pt x="566" y="1136"/>
                </a:lnTo>
                <a:lnTo>
                  <a:pt x="578" y="1136"/>
                </a:lnTo>
                <a:lnTo>
                  <a:pt x="578" y="1146"/>
                </a:lnTo>
                <a:lnTo>
                  <a:pt x="557" y="1159"/>
                </a:lnTo>
                <a:lnTo>
                  <a:pt x="537" y="1179"/>
                </a:lnTo>
                <a:lnTo>
                  <a:pt x="520" y="1196"/>
                </a:lnTo>
                <a:lnTo>
                  <a:pt x="504" y="1217"/>
                </a:lnTo>
                <a:lnTo>
                  <a:pt x="491" y="1239"/>
                </a:lnTo>
                <a:lnTo>
                  <a:pt x="481" y="1262"/>
                </a:lnTo>
                <a:lnTo>
                  <a:pt x="473" y="1285"/>
                </a:lnTo>
                <a:lnTo>
                  <a:pt x="473" y="1312"/>
                </a:lnTo>
                <a:lnTo>
                  <a:pt x="464" y="1332"/>
                </a:lnTo>
                <a:lnTo>
                  <a:pt x="458" y="1353"/>
                </a:lnTo>
                <a:lnTo>
                  <a:pt x="448" y="1375"/>
                </a:lnTo>
                <a:lnTo>
                  <a:pt x="442" y="1396"/>
                </a:lnTo>
                <a:lnTo>
                  <a:pt x="435" y="1417"/>
                </a:lnTo>
                <a:lnTo>
                  <a:pt x="429" y="1439"/>
                </a:lnTo>
                <a:lnTo>
                  <a:pt x="423" y="1460"/>
                </a:lnTo>
                <a:lnTo>
                  <a:pt x="417" y="1483"/>
                </a:lnTo>
                <a:lnTo>
                  <a:pt x="444" y="1489"/>
                </a:lnTo>
                <a:lnTo>
                  <a:pt x="473" y="1497"/>
                </a:lnTo>
                <a:lnTo>
                  <a:pt x="504" y="1503"/>
                </a:lnTo>
                <a:lnTo>
                  <a:pt x="537" y="1510"/>
                </a:lnTo>
                <a:lnTo>
                  <a:pt x="566" y="1510"/>
                </a:lnTo>
                <a:lnTo>
                  <a:pt x="597" y="1508"/>
                </a:lnTo>
                <a:lnTo>
                  <a:pt x="625" y="1499"/>
                </a:lnTo>
                <a:lnTo>
                  <a:pt x="652" y="1485"/>
                </a:lnTo>
                <a:lnTo>
                  <a:pt x="638" y="1446"/>
                </a:lnTo>
                <a:lnTo>
                  <a:pt x="627" y="1408"/>
                </a:lnTo>
                <a:lnTo>
                  <a:pt x="613" y="1367"/>
                </a:lnTo>
                <a:lnTo>
                  <a:pt x="607" y="1328"/>
                </a:lnTo>
                <a:lnTo>
                  <a:pt x="601" y="1285"/>
                </a:lnTo>
                <a:lnTo>
                  <a:pt x="603" y="1245"/>
                </a:lnTo>
                <a:lnTo>
                  <a:pt x="609" y="1206"/>
                </a:lnTo>
                <a:lnTo>
                  <a:pt x="628" y="1169"/>
                </a:lnTo>
                <a:lnTo>
                  <a:pt x="638" y="1155"/>
                </a:lnTo>
                <a:lnTo>
                  <a:pt x="652" y="1146"/>
                </a:lnTo>
                <a:lnTo>
                  <a:pt x="665" y="1138"/>
                </a:lnTo>
                <a:lnTo>
                  <a:pt x="681" y="1130"/>
                </a:lnTo>
                <a:lnTo>
                  <a:pt x="691" y="1119"/>
                </a:lnTo>
                <a:lnTo>
                  <a:pt x="702" y="1107"/>
                </a:lnTo>
                <a:lnTo>
                  <a:pt x="708" y="1093"/>
                </a:lnTo>
                <a:lnTo>
                  <a:pt x="712" y="1076"/>
                </a:lnTo>
                <a:lnTo>
                  <a:pt x="722" y="1080"/>
                </a:lnTo>
                <a:lnTo>
                  <a:pt x="725" y="1093"/>
                </a:lnTo>
                <a:lnTo>
                  <a:pt x="727" y="1107"/>
                </a:lnTo>
                <a:lnTo>
                  <a:pt x="735" y="1120"/>
                </a:lnTo>
                <a:close/>
                <a:moveTo>
                  <a:pt x="1963" y="1301"/>
                </a:moveTo>
                <a:lnTo>
                  <a:pt x="1980" y="1295"/>
                </a:lnTo>
                <a:lnTo>
                  <a:pt x="2002" y="1295"/>
                </a:lnTo>
                <a:lnTo>
                  <a:pt x="2021" y="1301"/>
                </a:lnTo>
                <a:lnTo>
                  <a:pt x="2038" y="1312"/>
                </a:lnTo>
                <a:lnTo>
                  <a:pt x="2042" y="1322"/>
                </a:lnTo>
                <a:lnTo>
                  <a:pt x="2044" y="1332"/>
                </a:lnTo>
                <a:lnTo>
                  <a:pt x="2042" y="1328"/>
                </a:lnTo>
                <a:lnTo>
                  <a:pt x="2035" y="1332"/>
                </a:lnTo>
                <a:lnTo>
                  <a:pt x="2035" y="1338"/>
                </a:lnTo>
                <a:lnTo>
                  <a:pt x="2038" y="1344"/>
                </a:lnTo>
                <a:lnTo>
                  <a:pt x="2042" y="1349"/>
                </a:lnTo>
                <a:lnTo>
                  <a:pt x="2031" y="1390"/>
                </a:lnTo>
                <a:lnTo>
                  <a:pt x="2019" y="1431"/>
                </a:lnTo>
                <a:lnTo>
                  <a:pt x="2002" y="1470"/>
                </a:lnTo>
                <a:lnTo>
                  <a:pt x="1984" y="1508"/>
                </a:lnTo>
                <a:lnTo>
                  <a:pt x="1963" y="1545"/>
                </a:lnTo>
                <a:lnTo>
                  <a:pt x="1941" y="1582"/>
                </a:lnTo>
                <a:lnTo>
                  <a:pt x="1920" y="1619"/>
                </a:lnTo>
                <a:lnTo>
                  <a:pt x="1901" y="1658"/>
                </a:lnTo>
                <a:lnTo>
                  <a:pt x="1924" y="1660"/>
                </a:lnTo>
                <a:lnTo>
                  <a:pt x="1951" y="1664"/>
                </a:lnTo>
                <a:lnTo>
                  <a:pt x="1976" y="1665"/>
                </a:lnTo>
                <a:lnTo>
                  <a:pt x="2005" y="1669"/>
                </a:lnTo>
                <a:lnTo>
                  <a:pt x="2033" y="1669"/>
                </a:lnTo>
                <a:lnTo>
                  <a:pt x="2060" y="1669"/>
                </a:lnTo>
                <a:lnTo>
                  <a:pt x="2087" y="1669"/>
                </a:lnTo>
                <a:lnTo>
                  <a:pt x="2114" y="1671"/>
                </a:lnTo>
                <a:lnTo>
                  <a:pt x="2120" y="1648"/>
                </a:lnTo>
                <a:lnTo>
                  <a:pt x="2120" y="1627"/>
                </a:lnTo>
                <a:lnTo>
                  <a:pt x="2116" y="1605"/>
                </a:lnTo>
                <a:lnTo>
                  <a:pt x="2112" y="1586"/>
                </a:lnTo>
                <a:lnTo>
                  <a:pt x="2104" y="1567"/>
                </a:lnTo>
                <a:lnTo>
                  <a:pt x="2097" y="1547"/>
                </a:lnTo>
                <a:lnTo>
                  <a:pt x="2087" y="1528"/>
                </a:lnTo>
                <a:lnTo>
                  <a:pt x="2081" y="1510"/>
                </a:lnTo>
                <a:lnTo>
                  <a:pt x="2071" y="1508"/>
                </a:lnTo>
                <a:lnTo>
                  <a:pt x="2069" y="1501"/>
                </a:lnTo>
                <a:lnTo>
                  <a:pt x="2069" y="1479"/>
                </a:lnTo>
                <a:lnTo>
                  <a:pt x="2071" y="1460"/>
                </a:lnTo>
                <a:lnTo>
                  <a:pt x="2075" y="1442"/>
                </a:lnTo>
                <a:lnTo>
                  <a:pt x="2083" y="1427"/>
                </a:lnTo>
                <a:lnTo>
                  <a:pt x="2089" y="1409"/>
                </a:lnTo>
                <a:lnTo>
                  <a:pt x="2100" y="1394"/>
                </a:lnTo>
                <a:lnTo>
                  <a:pt x="2112" y="1380"/>
                </a:lnTo>
                <a:lnTo>
                  <a:pt x="2128" y="1371"/>
                </a:lnTo>
                <a:lnTo>
                  <a:pt x="2153" y="1378"/>
                </a:lnTo>
                <a:lnTo>
                  <a:pt x="2178" y="1394"/>
                </a:lnTo>
                <a:lnTo>
                  <a:pt x="2199" y="1411"/>
                </a:lnTo>
                <a:lnTo>
                  <a:pt x="2219" y="1437"/>
                </a:lnTo>
                <a:lnTo>
                  <a:pt x="2236" y="1460"/>
                </a:lnTo>
                <a:lnTo>
                  <a:pt x="2254" y="1485"/>
                </a:lnTo>
                <a:lnTo>
                  <a:pt x="2271" y="1508"/>
                </a:lnTo>
                <a:lnTo>
                  <a:pt x="2289" y="1532"/>
                </a:lnTo>
                <a:lnTo>
                  <a:pt x="2292" y="1543"/>
                </a:lnTo>
                <a:lnTo>
                  <a:pt x="2296" y="1559"/>
                </a:lnTo>
                <a:lnTo>
                  <a:pt x="2296" y="1574"/>
                </a:lnTo>
                <a:lnTo>
                  <a:pt x="2298" y="1590"/>
                </a:lnTo>
                <a:lnTo>
                  <a:pt x="2294" y="1605"/>
                </a:lnTo>
                <a:lnTo>
                  <a:pt x="2291" y="1621"/>
                </a:lnTo>
                <a:lnTo>
                  <a:pt x="2283" y="1634"/>
                </a:lnTo>
                <a:lnTo>
                  <a:pt x="2275" y="1648"/>
                </a:lnTo>
                <a:lnTo>
                  <a:pt x="2260" y="1656"/>
                </a:lnTo>
                <a:lnTo>
                  <a:pt x="2246" y="1662"/>
                </a:lnTo>
                <a:lnTo>
                  <a:pt x="2228" y="1660"/>
                </a:lnTo>
                <a:lnTo>
                  <a:pt x="2213" y="1658"/>
                </a:lnTo>
                <a:lnTo>
                  <a:pt x="2194" y="1642"/>
                </a:lnTo>
                <a:lnTo>
                  <a:pt x="2174" y="1634"/>
                </a:lnTo>
                <a:lnTo>
                  <a:pt x="2153" y="1625"/>
                </a:lnTo>
                <a:lnTo>
                  <a:pt x="2137" y="1615"/>
                </a:lnTo>
                <a:lnTo>
                  <a:pt x="2132" y="1621"/>
                </a:lnTo>
                <a:lnTo>
                  <a:pt x="2132" y="1667"/>
                </a:lnTo>
                <a:lnTo>
                  <a:pt x="2143" y="1667"/>
                </a:lnTo>
                <a:lnTo>
                  <a:pt x="2157" y="1665"/>
                </a:lnTo>
                <a:lnTo>
                  <a:pt x="2170" y="1665"/>
                </a:lnTo>
                <a:lnTo>
                  <a:pt x="2184" y="1671"/>
                </a:lnTo>
                <a:lnTo>
                  <a:pt x="2184" y="1689"/>
                </a:lnTo>
                <a:lnTo>
                  <a:pt x="2170" y="1689"/>
                </a:lnTo>
                <a:lnTo>
                  <a:pt x="2157" y="1691"/>
                </a:lnTo>
                <a:lnTo>
                  <a:pt x="2145" y="1695"/>
                </a:lnTo>
                <a:lnTo>
                  <a:pt x="2133" y="1704"/>
                </a:lnTo>
                <a:lnTo>
                  <a:pt x="2141" y="1714"/>
                </a:lnTo>
                <a:lnTo>
                  <a:pt x="2145" y="1729"/>
                </a:lnTo>
                <a:lnTo>
                  <a:pt x="2099" y="1726"/>
                </a:lnTo>
                <a:lnTo>
                  <a:pt x="2054" y="1726"/>
                </a:lnTo>
                <a:lnTo>
                  <a:pt x="2009" y="1724"/>
                </a:lnTo>
                <a:lnTo>
                  <a:pt x="1965" y="1724"/>
                </a:lnTo>
                <a:lnTo>
                  <a:pt x="1920" y="1720"/>
                </a:lnTo>
                <a:lnTo>
                  <a:pt x="1877" y="1714"/>
                </a:lnTo>
                <a:lnTo>
                  <a:pt x="1837" y="1706"/>
                </a:lnTo>
                <a:lnTo>
                  <a:pt x="1798" y="1695"/>
                </a:lnTo>
                <a:lnTo>
                  <a:pt x="1780" y="1696"/>
                </a:lnTo>
                <a:lnTo>
                  <a:pt x="1765" y="1695"/>
                </a:lnTo>
                <a:lnTo>
                  <a:pt x="1749" y="1689"/>
                </a:lnTo>
                <a:lnTo>
                  <a:pt x="1736" y="1683"/>
                </a:lnTo>
                <a:lnTo>
                  <a:pt x="1726" y="1671"/>
                </a:lnTo>
                <a:lnTo>
                  <a:pt x="1720" y="1662"/>
                </a:lnTo>
                <a:lnTo>
                  <a:pt x="1716" y="1650"/>
                </a:lnTo>
                <a:lnTo>
                  <a:pt x="1718" y="1640"/>
                </a:lnTo>
                <a:lnTo>
                  <a:pt x="1730" y="1638"/>
                </a:lnTo>
                <a:lnTo>
                  <a:pt x="1744" y="1644"/>
                </a:lnTo>
                <a:lnTo>
                  <a:pt x="1755" y="1650"/>
                </a:lnTo>
                <a:lnTo>
                  <a:pt x="1769" y="1660"/>
                </a:lnTo>
                <a:lnTo>
                  <a:pt x="1780" y="1664"/>
                </a:lnTo>
                <a:lnTo>
                  <a:pt x="1792" y="1669"/>
                </a:lnTo>
                <a:lnTo>
                  <a:pt x="1804" y="1669"/>
                </a:lnTo>
                <a:lnTo>
                  <a:pt x="1817" y="1665"/>
                </a:lnTo>
                <a:lnTo>
                  <a:pt x="1804" y="1658"/>
                </a:lnTo>
                <a:lnTo>
                  <a:pt x="1792" y="1652"/>
                </a:lnTo>
                <a:lnTo>
                  <a:pt x="1780" y="1644"/>
                </a:lnTo>
                <a:lnTo>
                  <a:pt x="1779" y="1632"/>
                </a:lnTo>
                <a:lnTo>
                  <a:pt x="1810" y="1601"/>
                </a:lnTo>
                <a:lnTo>
                  <a:pt x="1841" y="1570"/>
                </a:lnTo>
                <a:lnTo>
                  <a:pt x="1866" y="1537"/>
                </a:lnTo>
                <a:lnTo>
                  <a:pt x="1891" y="1504"/>
                </a:lnTo>
                <a:lnTo>
                  <a:pt x="1910" y="1466"/>
                </a:lnTo>
                <a:lnTo>
                  <a:pt x="1928" y="1429"/>
                </a:lnTo>
                <a:lnTo>
                  <a:pt x="1940" y="1388"/>
                </a:lnTo>
                <a:lnTo>
                  <a:pt x="1951" y="1349"/>
                </a:lnTo>
                <a:lnTo>
                  <a:pt x="1943" y="1344"/>
                </a:lnTo>
                <a:lnTo>
                  <a:pt x="1938" y="1347"/>
                </a:lnTo>
                <a:lnTo>
                  <a:pt x="1932" y="1353"/>
                </a:lnTo>
                <a:lnTo>
                  <a:pt x="1926" y="1359"/>
                </a:lnTo>
                <a:lnTo>
                  <a:pt x="1914" y="1369"/>
                </a:lnTo>
                <a:lnTo>
                  <a:pt x="1907" y="1380"/>
                </a:lnTo>
                <a:lnTo>
                  <a:pt x="1899" y="1394"/>
                </a:lnTo>
                <a:lnTo>
                  <a:pt x="1895" y="1408"/>
                </a:lnTo>
                <a:lnTo>
                  <a:pt x="1889" y="1419"/>
                </a:lnTo>
                <a:lnTo>
                  <a:pt x="1889" y="1433"/>
                </a:lnTo>
                <a:lnTo>
                  <a:pt x="1889" y="1444"/>
                </a:lnTo>
                <a:lnTo>
                  <a:pt x="1893" y="1458"/>
                </a:lnTo>
                <a:lnTo>
                  <a:pt x="1887" y="1442"/>
                </a:lnTo>
                <a:lnTo>
                  <a:pt x="1887" y="1431"/>
                </a:lnTo>
                <a:lnTo>
                  <a:pt x="1885" y="1415"/>
                </a:lnTo>
                <a:lnTo>
                  <a:pt x="1889" y="1404"/>
                </a:lnTo>
                <a:lnTo>
                  <a:pt x="1889" y="1390"/>
                </a:lnTo>
                <a:lnTo>
                  <a:pt x="1895" y="1376"/>
                </a:lnTo>
                <a:lnTo>
                  <a:pt x="1901" y="1365"/>
                </a:lnTo>
                <a:lnTo>
                  <a:pt x="1910" y="1353"/>
                </a:lnTo>
                <a:lnTo>
                  <a:pt x="1949" y="1326"/>
                </a:lnTo>
                <a:lnTo>
                  <a:pt x="1938" y="1320"/>
                </a:lnTo>
                <a:lnTo>
                  <a:pt x="1926" y="1320"/>
                </a:lnTo>
                <a:lnTo>
                  <a:pt x="1914" y="1322"/>
                </a:lnTo>
                <a:lnTo>
                  <a:pt x="1903" y="1326"/>
                </a:lnTo>
                <a:lnTo>
                  <a:pt x="1891" y="1328"/>
                </a:lnTo>
                <a:lnTo>
                  <a:pt x="1879" y="1332"/>
                </a:lnTo>
                <a:lnTo>
                  <a:pt x="1868" y="1330"/>
                </a:lnTo>
                <a:lnTo>
                  <a:pt x="1858" y="1328"/>
                </a:lnTo>
                <a:lnTo>
                  <a:pt x="1862" y="1318"/>
                </a:lnTo>
                <a:lnTo>
                  <a:pt x="1870" y="1314"/>
                </a:lnTo>
                <a:lnTo>
                  <a:pt x="1879" y="1311"/>
                </a:lnTo>
                <a:lnTo>
                  <a:pt x="1891" y="1311"/>
                </a:lnTo>
                <a:lnTo>
                  <a:pt x="1901" y="1309"/>
                </a:lnTo>
                <a:lnTo>
                  <a:pt x="1910" y="1309"/>
                </a:lnTo>
                <a:lnTo>
                  <a:pt x="1920" y="1305"/>
                </a:lnTo>
                <a:lnTo>
                  <a:pt x="1932" y="1301"/>
                </a:lnTo>
                <a:lnTo>
                  <a:pt x="1922" y="1289"/>
                </a:lnTo>
                <a:lnTo>
                  <a:pt x="1908" y="1283"/>
                </a:lnTo>
                <a:lnTo>
                  <a:pt x="1893" y="1281"/>
                </a:lnTo>
                <a:lnTo>
                  <a:pt x="1881" y="1283"/>
                </a:lnTo>
                <a:lnTo>
                  <a:pt x="1860" y="1291"/>
                </a:lnTo>
                <a:lnTo>
                  <a:pt x="1839" y="1303"/>
                </a:lnTo>
                <a:lnTo>
                  <a:pt x="1819" y="1314"/>
                </a:lnTo>
                <a:lnTo>
                  <a:pt x="1802" y="1330"/>
                </a:lnTo>
                <a:lnTo>
                  <a:pt x="1784" y="1345"/>
                </a:lnTo>
                <a:lnTo>
                  <a:pt x="1771" y="1365"/>
                </a:lnTo>
                <a:lnTo>
                  <a:pt x="1759" y="1384"/>
                </a:lnTo>
                <a:lnTo>
                  <a:pt x="1753" y="1408"/>
                </a:lnTo>
                <a:lnTo>
                  <a:pt x="1775" y="1421"/>
                </a:lnTo>
                <a:lnTo>
                  <a:pt x="1761" y="1423"/>
                </a:lnTo>
                <a:lnTo>
                  <a:pt x="1746" y="1425"/>
                </a:lnTo>
                <a:lnTo>
                  <a:pt x="1738" y="1409"/>
                </a:lnTo>
                <a:lnTo>
                  <a:pt x="1740" y="1394"/>
                </a:lnTo>
                <a:lnTo>
                  <a:pt x="1744" y="1378"/>
                </a:lnTo>
                <a:lnTo>
                  <a:pt x="1753" y="1365"/>
                </a:lnTo>
                <a:lnTo>
                  <a:pt x="1771" y="1340"/>
                </a:lnTo>
                <a:lnTo>
                  <a:pt x="1794" y="1316"/>
                </a:lnTo>
                <a:lnTo>
                  <a:pt x="1819" y="1293"/>
                </a:lnTo>
                <a:lnTo>
                  <a:pt x="1848" y="1276"/>
                </a:lnTo>
                <a:lnTo>
                  <a:pt x="1877" y="1264"/>
                </a:lnTo>
                <a:lnTo>
                  <a:pt x="1907" y="1262"/>
                </a:lnTo>
                <a:lnTo>
                  <a:pt x="1934" y="1274"/>
                </a:lnTo>
                <a:lnTo>
                  <a:pt x="1963" y="1301"/>
                </a:lnTo>
                <a:close/>
                <a:moveTo>
                  <a:pt x="1649" y="2207"/>
                </a:moveTo>
                <a:lnTo>
                  <a:pt x="1662" y="2189"/>
                </a:lnTo>
                <a:lnTo>
                  <a:pt x="1676" y="2174"/>
                </a:lnTo>
                <a:lnTo>
                  <a:pt x="1685" y="2156"/>
                </a:lnTo>
                <a:lnTo>
                  <a:pt x="1697" y="2139"/>
                </a:lnTo>
                <a:lnTo>
                  <a:pt x="1709" y="2121"/>
                </a:lnTo>
                <a:lnTo>
                  <a:pt x="1722" y="2106"/>
                </a:lnTo>
                <a:lnTo>
                  <a:pt x="1740" y="2094"/>
                </a:lnTo>
                <a:lnTo>
                  <a:pt x="1763" y="2088"/>
                </a:lnTo>
                <a:lnTo>
                  <a:pt x="1775" y="2110"/>
                </a:lnTo>
                <a:lnTo>
                  <a:pt x="1757" y="2137"/>
                </a:lnTo>
                <a:lnTo>
                  <a:pt x="1740" y="2168"/>
                </a:lnTo>
                <a:lnTo>
                  <a:pt x="1722" y="2199"/>
                </a:lnTo>
                <a:lnTo>
                  <a:pt x="1707" y="2232"/>
                </a:lnTo>
                <a:lnTo>
                  <a:pt x="1685" y="2259"/>
                </a:lnTo>
                <a:lnTo>
                  <a:pt x="1662" y="2282"/>
                </a:lnTo>
                <a:lnTo>
                  <a:pt x="1633" y="2298"/>
                </a:lnTo>
                <a:lnTo>
                  <a:pt x="1598" y="2307"/>
                </a:lnTo>
                <a:lnTo>
                  <a:pt x="1579" y="2305"/>
                </a:lnTo>
                <a:lnTo>
                  <a:pt x="1559" y="2302"/>
                </a:lnTo>
                <a:lnTo>
                  <a:pt x="1542" y="2294"/>
                </a:lnTo>
                <a:lnTo>
                  <a:pt x="1524" y="2288"/>
                </a:lnTo>
                <a:lnTo>
                  <a:pt x="1507" y="2278"/>
                </a:lnTo>
                <a:lnTo>
                  <a:pt x="1490" y="2271"/>
                </a:lnTo>
                <a:lnTo>
                  <a:pt x="1474" y="2261"/>
                </a:lnTo>
                <a:lnTo>
                  <a:pt x="1460" y="2251"/>
                </a:lnTo>
                <a:lnTo>
                  <a:pt x="1439" y="2236"/>
                </a:lnTo>
                <a:lnTo>
                  <a:pt x="1422" y="2220"/>
                </a:lnTo>
                <a:lnTo>
                  <a:pt x="1402" y="2205"/>
                </a:lnTo>
                <a:lnTo>
                  <a:pt x="1385" y="2195"/>
                </a:lnTo>
                <a:lnTo>
                  <a:pt x="1362" y="2214"/>
                </a:lnTo>
                <a:lnTo>
                  <a:pt x="1350" y="2241"/>
                </a:lnTo>
                <a:lnTo>
                  <a:pt x="1344" y="2271"/>
                </a:lnTo>
                <a:lnTo>
                  <a:pt x="1344" y="2302"/>
                </a:lnTo>
                <a:lnTo>
                  <a:pt x="1344" y="2333"/>
                </a:lnTo>
                <a:lnTo>
                  <a:pt x="1348" y="2364"/>
                </a:lnTo>
                <a:lnTo>
                  <a:pt x="1346" y="2393"/>
                </a:lnTo>
                <a:lnTo>
                  <a:pt x="1344" y="2422"/>
                </a:lnTo>
                <a:lnTo>
                  <a:pt x="1327" y="2418"/>
                </a:lnTo>
                <a:lnTo>
                  <a:pt x="1311" y="2414"/>
                </a:lnTo>
                <a:lnTo>
                  <a:pt x="1300" y="2402"/>
                </a:lnTo>
                <a:lnTo>
                  <a:pt x="1294" y="2391"/>
                </a:lnTo>
                <a:lnTo>
                  <a:pt x="1292" y="2368"/>
                </a:lnTo>
                <a:lnTo>
                  <a:pt x="1294" y="2346"/>
                </a:lnTo>
                <a:lnTo>
                  <a:pt x="1298" y="2325"/>
                </a:lnTo>
                <a:lnTo>
                  <a:pt x="1303" y="2305"/>
                </a:lnTo>
                <a:lnTo>
                  <a:pt x="1309" y="2284"/>
                </a:lnTo>
                <a:lnTo>
                  <a:pt x="1319" y="2267"/>
                </a:lnTo>
                <a:lnTo>
                  <a:pt x="1325" y="2245"/>
                </a:lnTo>
                <a:lnTo>
                  <a:pt x="1334" y="2228"/>
                </a:lnTo>
                <a:lnTo>
                  <a:pt x="1329" y="2210"/>
                </a:lnTo>
                <a:lnTo>
                  <a:pt x="1329" y="2197"/>
                </a:lnTo>
                <a:lnTo>
                  <a:pt x="1332" y="2183"/>
                </a:lnTo>
                <a:lnTo>
                  <a:pt x="1338" y="2172"/>
                </a:lnTo>
                <a:lnTo>
                  <a:pt x="1344" y="2158"/>
                </a:lnTo>
                <a:lnTo>
                  <a:pt x="1350" y="2144"/>
                </a:lnTo>
                <a:lnTo>
                  <a:pt x="1352" y="2129"/>
                </a:lnTo>
                <a:lnTo>
                  <a:pt x="1356" y="2115"/>
                </a:lnTo>
                <a:lnTo>
                  <a:pt x="1365" y="2100"/>
                </a:lnTo>
                <a:lnTo>
                  <a:pt x="1379" y="2092"/>
                </a:lnTo>
                <a:lnTo>
                  <a:pt x="1393" y="2088"/>
                </a:lnTo>
                <a:lnTo>
                  <a:pt x="1410" y="2088"/>
                </a:lnTo>
                <a:lnTo>
                  <a:pt x="1445" y="2090"/>
                </a:lnTo>
                <a:lnTo>
                  <a:pt x="1476" y="2106"/>
                </a:lnTo>
                <a:lnTo>
                  <a:pt x="1501" y="2129"/>
                </a:lnTo>
                <a:lnTo>
                  <a:pt x="1526" y="2156"/>
                </a:lnTo>
                <a:lnTo>
                  <a:pt x="1550" y="2181"/>
                </a:lnTo>
                <a:lnTo>
                  <a:pt x="1579" y="2201"/>
                </a:lnTo>
                <a:lnTo>
                  <a:pt x="1610" y="2210"/>
                </a:lnTo>
                <a:lnTo>
                  <a:pt x="1649" y="2207"/>
                </a:lnTo>
                <a:close/>
                <a:moveTo>
                  <a:pt x="2099" y="1951"/>
                </a:moveTo>
                <a:lnTo>
                  <a:pt x="2102" y="1991"/>
                </a:lnTo>
                <a:lnTo>
                  <a:pt x="2099" y="2038"/>
                </a:lnTo>
                <a:lnTo>
                  <a:pt x="2089" y="2084"/>
                </a:lnTo>
                <a:lnTo>
                  <a:pt x="2085" y="2131"/>
                </a:lnTo>
                <a:lnTo>
                  <a:pt x="2085" y="2174"/>
                </a:lnTo>
                <a:lnTo>
                  <a:pt x="2099" y="2210"/>
                </a:lnTo>
                <a:lnTo>
                  <a:pt x="2132" y="2240"/>
                </a:lnTo>
                <a:lnTo>
                  <a:pt x="2188" y="2259"/>
                </a:lnTo>
                <a:lnTo>
                  <a:pt x="2196" y="2267"/>
                </a:lnTo>
                <a:lnTo>
                  <a:pt x="2209" y="2274"/>
                </a:lnTo>
                <a:lnTo>
                  <a:pt x="2221" y="2278"/>
                </a:lnTo>
                <a:lnTo>
                  <a:pt x="2236" y="2284"/>
                </a:lnTo>
                <a:lnTo>
                  <a:pt x="2242" y="2271"/>
                </a:lnTo>
                <a:lnTo>
                  <a:pt x="2242" y="2259"/>
                </a:lnTo>
                <a:lnTo>
                  <a:pt x="2240" y="2247"/>
                </a:lnTo>
                <a:lnTo>
                  <a:pt x="2238" y="2236"/>
                </a:lnTo>
                <a:lnTo>
                  <a:pt x="2232" y="2222"/>
                </a:lnTo>
                <a:lnTo>
                  <a:pt x="2230" y="2208"/>
                </a:lnTo>
                <a:lnTo>
                  <a:pt x="2228" y="2195"/>
                </a:lnTo>
                <a:lnTo>
                  <a:pt x="2230" y="2183"/>
                </a:lnTo>
                <a:lnTo>
                  <a:pt x="2228" y="2162"/>
                </a:lnTo>
                <a:lnTo>
                  <a:pt x="2228" y="2143"/>
                </a:lnTo>
                <a:lnTo>
                  <a:pt x="2228" y="2121"/>
                </a:lnTo>
                <a:lnTo>
                  <a:pt x="2228" y="2102"/>
                </a:lnTo>
                <a:lnTo>
                  <a:pt x="2228" y="2080"/>
                </a:lnTo>
                <a:lnTo>
                  <a:pt x="2228" y="2061"/>
                </a:lnTo>
                <a:lnTo>
                  <a:pt x="2230" y="2040"/>
                </a:lnTo>
                <a:lnTo>
                  <a:pt x="2236" y="2020"/>
                </a:lnTo>
                <a:lnTo>
                  <a:pt x="2192" y="2007"/>
                </a:lnTo>
                <a:lnTo>
                  <a:pt x="2196" y="2001"/>
                </a:lnTo>
                <a:lnTo>
                  <a:pt x="2205" y="2001"/>
                </a:lnTo>
                <a:lnTo>
                  <a:pt x="2215" y="2001"/>
                </a:lnTo>
                <a:lnTo>
                  <a:pt x="2225" y="2001"/>
                </a:lnTo>
                <a:lnTo>
                  <a:pt x="2232" y="1999"/>
                </a:lnTo>
                <a:lnTo>
                  <a:pt x="2240" y="1995"/>
                </a:lnTo>
                <a:lnTo>
                  <a:pt x="2244" y="1987"/>
                </a:lnTo>
                <a:lnTo>
                  <a:pt x="2246" y="1976"/>
                </a:lnTo>
                <a:lnTo>
                  <a:pt x="2256" y="1960"/>
                </a:lnTo>
                <a:lnTo>
                  <a:pt x="2267" y="1949"/>
                </a:lnTo>
                <a:lnTo>
                  <a:pt x="2277" y="1937"/>
                </a:lnTo>
                <a:lnTo>
                  <a:pt x="2294" y="1933"/>
                </a:lnTo>
                <a:lnTo>
                  <a:pt x="2308" y="1931"/>
                </a:lnTo>
                <a:lnTo>
                  <a:pt x="2324" y="1933"/>
                </a:lnTo>
                <a:lnTo>
                  <a:pt x="2339" y="1935"/>
                </a:lnTo>
                <a:lnTo>
                  <a:pt x="2355" y="1941"/>
                </a:lnTo>
                <a:lnTo>
                  <a:pt x="2368" y="1945"/>
                </a:lnTo>
                <a:lnTo>
                  <a:pt x="2384" y="1951"/>
                </a:lnTo>
                <a:lnTo>
                  <a:pt x="2397" y="1954"/>
                </a:lnTo>
                <a:lnTo>
                  <a:pt x="2415" y="1958"/>
                </a:lnTo>
                <a:lnTo>
                  <a:pt x="2438" y="1951"/>
                </a:lnTo>
                <a:lnTo>
                  <a:pt x="2461" y="1949"/>
                </a:lnTo>
                <a:lnTo>
                  <a:pt x="2486" y="1947"/>
                </a:lnTo>
                <a:lnTo>
                  <a:pt x="2512" y="1947"/>
                </a:lnTo>
                <a:lnTo>
                  <a:pt x="2535" y="1943"/>
                </a:lnTo>
                <a:lnTo>
                  <a:pt x="2560" y="1939"/>
                </a:lnTo>
                <a:lnTo>
                  <a:pt x="2583" y="1931"/>
                </a:lnTo>
                <a:lnTo>
                  <a:pt x="2609" y="1923"/>
                </a:lnTo>
                <a:lnTo>
                  <a:pt x="2620" y="1921"/>
                </a:lnTo>
                <a:lnTo>
                  <a:pt x="2634" y="1921"/>
                </a:lnTo>
                <a:lnTo>
                  <a:pt x="2647" y="1921"/>
                </a:lnTo>
                <a:lnTo>
                  <a:pt x="2661" y="1923"/>
                </a:lnTo>
                <a:lnTo>
                  <a:pt x="2673" y="1925"/>
                </a:lnTo>
                <a:lnTo>
                  <a:pt x="2686" y="1929"/>
                </a:lnTo>
                <a:lnTo>
                  <a:pt x="2698" y="1935"/>
                </a:lnTo>
                <a:lnTo>
                  <a:pt x="2709" y="1943"/>
                </a:lnTo>
                <a:lnTo>
                  <a:pt x="2729" y="1972"/>
                </a:lnTo>
                <a:lnTo>
                  <a:pt x="2746" y="2005"/>
                </a:lnTo>
                <a:lnTo>
                  <a:pt x="2762" y="2040"/>
                </a:lnTo>
                <a:lnTo>
                  <a:pt x="2773" y="2079"/>
                </a:lnTo>
                <a:lnTo>
                  <a:pt x="2779" y="2115"/>
                </a:lnTo>
                <a:lnTo>
                  <a:pt x="2781" y="2156"/>
                </a:lnTo>
                <a:lnTo>
                  <a:pt x="2775" y="2195"/>
                </a:lnTo>
                <a:lnTo>
                  <a:pt x="2768" y="2236"/>
                </a:lnTo>
                <a:lnTo>
                  <a:pt x="2754" y="2253"/>
                </a:lnTo>
                <a:lnTo>
                  <a:pt x="2742" y="2272"/>
                </a:lnTo>
                <a:lnTo>
                  <a:pt x="2731" y="2290"/>
                </a:lnTo>
                <a:lnTo>
                  <a:pt x="2719" y="2311"/>
                </a:lnTo>
                <a:lnTo>
                  <a:pt x="2706" y="2329"/>
                </a:lnTo>
                <a:lnTo>
                  <a:pt x="2692" y="2348"/>
                </a:lnTo>
                <a:lnTo>
                  <a:pt x="2676" y="2364"/>
                </a:lnTo>
                <a:lnTo>
                  <a:pt x="2661" y="2379"/>
                </a:lnTo>
                <a:lnTo>
                  <a:pt x="2647" y="2379"/>
                </a:lnTo>
                <a:lnTo>
                  <a:pt x="2636" y="2377"/>
                </a:lnTo>
                <a:lnTo>
                  <a:pt x="2624" y="2371"/>
                </a:lnTo>
                <a:lnTo>
                  <a:pt x="2614" y="2368"/>
                </a:lnTo>
                <a:lnTo>
                  <a:pt x="2595" y="2348"/>
                </a:lnTo>
                <a:lnTo>
                  <a:pt x="2581" y="2329"/>
                </a:lnTo>
                <a:lnTo>
                  <a:pt x="2570" y="2288"/>
                </a:lnTo>
                <a:lnTo>
                  <a:pt x="2564" y="2249"/>
                </a:lnTo>
                <a:lnTo>
                  <a:pt x="2558" y="2207"/>
                </a:lnTo>
                <a:lnTo>
                  <a:pt x="2558" y="2166"/>
                </a:lnTo>
                <a:lnTo>
                  <a:pt x="2556" y="2123"/>
                </a:lnTo>
                <a:lnTo>
                  <a:pt x="2558" y="2080"/>
                </a:lnTo>
                <a:lnTo>
                  <a:pt x="2564" y="2040"/>
                </a:lnTo>
                <a:lnTo>
                  <a:pt x="2572" y="2001"/>
                </a:lnTo>
                <a:lnTo>
                  <a:pt x="2558" y="1995"/>
                </a:lnTo>
                <a:lnTo>
                  <a:pt x="2550" y="1985"/>
                </a:lnTo>
                <a:lnTo>
                  <a:pt x="2541" y="1974"/>
                </a:lnTo>
                <a:lnTo>
                  <a:pt x="2529" y="1970"/>
                </a:lnTo>
                <a:lnTo>
                  <a:pt x="2514" y="1972"/>
                </a:lnTo>
                <a:lnTo>
                  <a:pt x="2500" y="1978"/>
                </a:lnTo>
                <a:lnTo>
                  <a:pt x="2486" y="1982"/>
                </a:lnTo>
                <a:lnTo>
                  <a:pt x="2475" y="1987"/>
                </a:lnTo>
                <a:lnTo>
                  <a:pt x="2461" y="1989"/>
                </a:lnTo>
                <a:lnTo>
                  <a:pt x="2448" y="1989"/>
                </a:lnTo>
                <a:lnTo>
                  <a:pt x="2434" y="1984"/>
                </a:lnTo>
                <a:lnTo>
                  <a:pt x="2422" y="1976"/>
                </a:lnTo>
                <a:lnTo>
                  <a:pt x="2405" y="1980"/>
                </a:lnTo>
                <a:lnTo>
                  <a:pt x="2388" y="1989"/>
                </a:lnTo>
                <a:lnTo>
                  <a:pt x="2409" y="1999"/>
                </a:lnTo>
                <a:lnTo>
                  <a:pt x="2426" y="2016"/>
                </a:lnTo>
                <a:lnTo>
                  <a:pt x="2440" y="2034"/>
                </a:lnTo>
                <a:lnTo>
                  <a:pt x="2453" y="2057"/>
                </a:lnTo>
                <a:lnTo>
                  <a:pt x="2459" y="2080"/>
                </a:lnTo>
                <a:lnTo>
                  <a:pt x="2465" y="2106"/>
                </a:lnTo>
                <a:lnTo>
                  <a:pt x="2469" y="2129"/>
                </a:lnTo>
                <a:lnTo>
                  <a:pt x="2473" y="2156"/>
                </a:lnTo>
                <a:lnTo>
                  <a:pt x="2471" y="2185"/>
                </a:lnTo>
                <a:lnTo>
                  <a:pt x="2467" y="2216"/>
                </a:lnTo>
                <a:lnTo>
                  <a:pt x="2461" y="2247"/>
                </a:lnTo>
                <a:lnTo>
                  <a:pt x="2455" y="2278"/>
                </a:lnTo>
                <a:lnTo>
                  <a:pt x="2444" y="2305"/>
                </a:lnTo>
                <a:lnTo>
                  <a:pt x="2432" y="2333"/>
                </a:lnTo>
                <a:lnTo>
                  <a:pt x="2417" y="2358"/>
                </a:lnTo>
                <a:lnTo>
                  <a:pt x="2401" y="2383"/>
                </a:lnTo>
                <a:lnTo>
                  <a:pt x="2386" y="2381"/>
                </a:lnTo>
                <a:lnTo>
                  <a:pt x="2372" y="2379"/>
                </a:lnTo>
                <a:lnTo>
                  <a:pt x="2360" y="2373"/>
                </a:lnTo>
                <a:lnTo>
                  <a:pt x="2351" y="2369"/>
                </a:lnTo>
                <a:lnTo>
                  <a:pt x="2339" y="2362"/>
                </a:lnTo>
                <a:lnTo>
                  <a:pt x="2327" y="2356"/>
                </a:lnTo>
                <a:lnTo>
                  <a:pt x="2316" y="2350"/>
                </a:lnTo>
                <a:lnTo>
                  <a:pt x="2306" y="2344"/>
                </a:lnTo>
                <a:lnTo>
                  <a:pt x="2308" y="2352"/>
                </a:lnTo>
                <a:lnTo>
                  <a:pt x="2310" y="2364"/>
                </a:lnTo>
                <a:lnTo>
                  <a:pt x="2310" y="2373"/>
                </a:lnTo>
                <a:lnTo>
                  <a:pt x="2312" y="2385"/>
                </a:lnTo>
                <a:lnTo>
                  <a:pt x="2310" y="2397"/>
                </a:lnTo>
                <a:lnTo>
                  <a:pt x="2310" y="2408"/>
                </a:lnTo>
                <a:lnTo>
                  <a:pt x="2308" y="2420"/>
                </a:lnTo>
                <a:lnTo>
                  <a:pt x="2306" y="2433"/>
                </a:lnTo>
                <a:lnTo>
                  <a:pt x="2263" y="2478"/>
                </a:lnTo>
                <a:lnTo>
                  <a:pt x="2215" y="2513"/>
                </a:lnTo>
                <a:lnTo>
                  <a:pt x="2161" y="2536"/>
                </a:lnTo>
                <a:lnTo>
                  <a:pt x="2104" y="2552"/>
                </a:lnTo>
                <a:lnTo>
                  <a:pt x="2042" y="2558"/>
                </a:lnTo>
                <a:lnTo>
                  <a:pt x="1980" y="2558"/>
                </a:lnTo>
                <a:lnTo>
                  <a:pt x="1918" y="2552"/>
                </a:lnTo>
                <a:lnTo>
                  <a:pt x="1858" y="2542"/>
                </a:lnTo>
                <a:lnTo>
                  <a:pt x="1850" y="2525"/>
                </a:lnTo>
                <a:lnTo>
                  <a:pt x="1854" y="2509"/>
                </a:lnTo>
                <a:lnTo>
                  <a:pt x="1866" y="2503"/>
                </a:lnTo>
                <a:lnTo>
                  <a:pt x="1877" y="2501"/>
                </a:lnTo>
                <a:lnTo>
                  <a:pt x="1891" y="2499"/>
                </a:lnTo>
                <a:lnTo>
                  <a:pt x="1905" y="2499"/>
                </a:lnTo>
                <a:lnTo>
                  <a:pt x="1918" y="2497"/>
                </a:lnTo>
                <a:lnTo>
                  <a:pt x="1932" y="2496"/>
                </a:lnTo>
                <a:lnTo>
                  <a:pt x="1943" y="2492"/>
                </a:lnTo>
                <a:lnTo>
                  <a:pt x="1957" y="2488"/>
                </a:lnTo>
                <a:lnTo>
                  <a:pt x="1951" y="2476"/>
                </a:lnTo>
                <a:lnTo>
                  <a:pt x="1951" y="2464"/>
                </a:lnTo>
                <a:lnTo>
                  <a:pt x="1951" y="2453"/>
                </a:lnTo>
                <a:lnTo>
                  <a:pt x="1955" y="2441"/>
                </a:lnTo>
                <a:lnTo>
                  <a:pt x="1961" y="2420"/>
                </a:lnTo>
                <a:lnTo>
                  <a:pt x="1974" y="2402"/>
                </a:lnTo>
                <a:lnTo>
                  <a:pt x="1990" y="2389"/>
                </a:lnTo>
                <a:lnTo>
                  <a:pt x="2009" y="2377"/>
                </a:lnTo>
                <a:lnTo>
                  <a:pt x="2029" y="2369"/>
                </a:lnTo>
                <a:lnTo>
                  <a:pt x="2052" y="2364"/>
                </a:lnTo>
                <a:lnTo>
                  <a:pt x="2073" y="2358"/>
                </a:lnTo>
                <a:lnTo>
                  <a:pt x="2095" y="2352"/>
                </a:lnTo>
                <a:lnTo>
                  <a:pt x="2116" y="2346"/>
                </a:lnTo>
                <a:lnTo>
                  <a:pt x="2139" y="2340"/>
                </a:lnTo>
                <a:lnTo>
                  <a:pt x="2122" y="2311"/>
                </a:lnTo>
                <a:lnTo>
                  <a:pt x="2104" y="2290"/>
                </a:lnTo>
                <a:lnTo>
                  <a:pt x="2081" y="2271"/>
                </a:lnTo>
                <a:lnTo>
                  <a:pt x="2058" y="2257"/>
                </a:lnTo>
                <a:lnTo>
                  <a:pt x="2031" y="2243"/>
                </a:lnTo>
                <a:lnTo>
                  <a:pt x="2004" y="2232"/>
                </a:lnTo>
                <a:lnTo>
                  <a:pt x="1976" y="2222"/>
                </a:lnTo>
                <a:lnTo>
                  <a:pt x="1951" y="2212"/>
                </a:lnTo>
                <a:lnTo>
                  <a:pt x="1945" y="2193"/>
                </a:lnTo>
                <a:lnTo>
                  <a:pt x="1945" y="2176"/>
                </a:lnTo>
                <a:lnTo>
                  <a:pt x="1949" y="2160"/>
                </a:lnTo>
                <a:lnTo>
                  <a:pt x="1959" y="2144"/>
                </a:lnTo>
                <a:lnTo>
                  <a:pt x="1969" y="2129"/>
                </a:lnTo>
                <a:lnTo>
                  <a:pt x="1980" y="2113"/>
                </a:lnTo>
                <a:lnTo>
                  <a:pt x="1990" y="2098"/>
                </a:lnTo>
                <a:lnTo>
                  <a:pt x="2000" y="2084"/>
                </a:lnTo>
                <a:lnTo>
                  <a:pt x="1998" y="2063"/>
                </a:lnTo>
                <a:lnTo>
                  <a:pt x="1998" y="2046"/>
                </a:lnTo>
                <a:lnTo>
                  <a:pt x="1998" y="2028"/>
                </a:lnTo>
                <a:lnTo>
                  <a:pt x="2000" y="2015"/>
                </a:lnTo>
                <a:lnTo>
                  <a:pt x="1998" y="1999"/>
                </a:lnTo>
                <a:lnTo>
                  <a:pt x="1996" y="1985"/>
                </a:lnTo>
                <a:lnTo>
                  <a:pt x="1990" y="1972"/>
                </a:lnTo>
                <a:lnTo>
                  <a:pt x="1978" y="1958"/>
                </a:lnTo>
                <a:lnTo>
                  <a:pt x="1967" y="1943"/>
                </a:lnTo>
                <a:lnTo>
                  <a:pt x="1957" y="1927"/>
                </a:lnTo>
                <a:lnTo>
                  <a:pt x="1941" y="1916"/>
                </a:lnTo>
                <a:lnTo>
                  <a:pt x="1924" y="1920"/>
                </a:lnTo>
                <a:lnTo>
                  <a:pt x="1907" y="1921"/>
                </a:lnTo>
                <a:lnTo>
                  <a:pt x="1891" y="1927"/>
                </a:lnTo>
                <a:lnTo>
                  <a:pt x="1876" y="1933"/>
                </a:lnTo>
                <a:lnTo>
                  <a:pt x="1864" y="1945"/>
                </a:lnTo>
                <a:lnTo>
                  <a:pt x="1850" y="1952"/>
                </a:lnTo>
                <a:lnTo>
                  <a:pt x="1839" y="1966"/>
                </a:lnTo>
                <a:lnTo>
                  <a:pt x="1827" y="1978"/>
                </a:lnTo>
                <a:lnTo>
                  <a:pt x="1821" y="1995"/>
                </a:lnTo>
                <a:lnTo>
                  <a:pt x="1823" y="2013"/>
                </a:lnTo>
                <a:lnTo>
                  <a:pt x="1831" y="2028"/>
                </a:lnTo>
                <a:lnTo>
                  <a:pt x="1831" y="2034"/>
                </a:lnTo>
                <a:lnTo>
                  <a:pt x="1817" y="2024"/>
                </a:lnTo>
                <a:lnTo>
                  <a:pt x="1812" y="2013"/>
                </a:lnTo>
                <a:lnTo>
                  <a:pt x="1812" y="1997"/>
                </a:lnTo>
                <a:lnTo>
                  <a:pt x="1817" y="1982"/>
                </a:lnTo>
                <a:lnTo>
                  <a:pt x="1827" y="1960"/>
                </a:lnTo>
                <a:lnTo>
                  <a:pt x="1844" y="1943"/>
                </a:lnTo>
                <a:lnTo>
                  <a:pt x="1862" y="1923"/>
                </a:lnTo>
                <a:lnTo>
                  <a:pt x="1877" y="1906"/>
                </a:lnTo>
                <a:lnTo>
                  <a:pt x="1860" y="1898"/>
                </a:lnTo>
                <a:lnTo>
                  <a:pt x="1844" y="1900"/>
                </a:lnTo>
                <a:lnTo>
                  <a:pt x="1827" y="1904"/>
                </a:lnTo>
                <a:lnTo>
                  <a:pt x="1812" y="1908"/>
                </a:lnTo>
                <a:lnTo>
                  <a:pt x="1802" y="1916"/>
                </a:lnTo>
                <a:lnTo>
                  <a:pt x="1796" y="1923"/>
                </a:lnTo>
                <a:lnTo>
                  <a:pt x="1792" y="1931"/>
                </a:lnTo>
                <a:lnTo>
                  <a:pt x="1794" y="1943"/>
                </a:lnTo>
                <a:lnTo>
                  <a:pt x="1802" y="1947"/>
                </a:lnTo>
                <a:lnTo>
                  <a:pt x="1810" y="1945"/>
                </a:lnTo>
                <a:lnTo>
                  <a:pt x="1804" y="1952"/>
                </a:lnTo>
                <a:lnTo>
                  <a:pt x="1798" y="1958"/>
                </a:lnTo>
                <a:lnTo>
                  <a:pt x="1786" y="1956"/>
                </a:lnTo>
                <a:lnTo>
                  <a:pt x="1782" y="1951"/>
                </a:lnTo>
                <a:lnTo>
                  <a:pt x="1780" y="1939"/>
                </a:lnTo>
                <a:lnTo>
                  <a:pt x="1780" y="1927"/>
                </a:lnTo>
                <a:lnTo>
                  <a:pt x="1784" y="1918"/>
                </a:lnTo>
                <a:lnTo>
                  <a:pt x="1790" y="1910"/>
                </a:lnTo>
                <a:lnTo>
                  <a:pt x="1804" y="1894"/>
                </a:lnTo>
                <a:lnTo>
                  <a:pt x="1825" y="1888"/>
                </a:lnTo>
                <a:lnTo>
                  <a:pt x="1843" y="1885"/>
                </a:lnTo>
                <a:lnTo>
                  <a:pt x="1860" y="1885"/>
                </a:lnTo>
                <a:lnTo>
                  <a:pt x="1877" y="1885"/>
                </a:lnTo>
                <a:lnTo>
                  <a:pt x="1895" y="1887"/>
                </a:lnTo>
                <a:lnTo>
                  <a:pt x="1910" y="1885"/>
                </a:lnTo>
                <a:lnTo>
                  <a:pt x="1926" y="1883"/>
                </a:lnTo>
                <a:lnTo>
                  <a:pt x="1941" y="1879"/>
                </a:lnTo>
                <a:lnTo>
                  <a:pt x="1959" y="1873"/>
                </a:lnTo>
                <a:lnTo>
                  <a:pt x="1974" y="1879"/>
                </a:lnTo>
                <a:lnTo>
                  <a:pt x="1994" y="1887"/>
                </a:lnTo>
                <a:lnTo>
                  <a:pt x="2013" y="1892"/>
                </a:lnTo>
                <a:lnTo>
                  <a:pt x="2035" y="1900"/>
                </a:lnTo>
                <a:lnTo>
                  <a:pt x="2052" y="1906"/>
                </a:lnTo>
                <a:lnTo>
                  <a:pt x="2071" y="1916"/>
                </a:lnTo>
                <a:lnTo>
                  <a:pt x="2085" y="1929"/>
                </a:lnTo>
                <a:lnTo>
                  <a:pt x="2099" y="1951"/>
                </a:lnTo>
                <a:close/>
                <a:moveTo>
                  <a:pt x="1621" y="1130"/>
                </a:moveTo>
                <a:lnTo>
                  <a:pt x="1637" y="1134"/>
                </a:lnTo>
                <a:lnTo>
                  <a:pt x="1651" y="1142"/>
                </a:lnTo>
                <a:lnTo>
                  <a:pt x="1662" y="1153"/>
                </a:lnTo>
                <a:lnTo>
                  <a:pt x="1676" y="1167"/>
                </a:lnTo>
                <a:lnTo>
                  <a:pt x="1684" y="1179"/>
                </a:lnTo>
                <a:lnTo>
                  <a:pt x="1693" y="1194"/>
                </a:lnTo>
                <a:lnTo>
                  <a:pt x="1703" y="1208"/>
                </a:lnTo>
                <a:lnTo>
                  <a:pt x="1713" y="1223"/>
                </a:lnTo>
                <a:lnTo>
                  <a:pt x="1718" y="1219"/>
                </a:lnTo>
                <a:lnTo>
                  <a:pt x="1724" y="1216"/>
                </a:lnTo>
                <a:lnTo>
                  <a:pt x="1728" y="1212"/>
                </a:lnTo>
                <a:lnTo>
                  <a:pt x="1736" y="1214"/>
                </a:lnTo>
                <a:lnTo>
                  <a:pt x="1728" y="1239"/>
                </a:lnTo>
                <a:lnTo>
                  <a:pt x="1740" y="1243"/>
                </a:lnTo>
                <a:lnTo>
                  <a:pt x="1755" y="1250"/>
                </a:lnTo>
                <a:lnTo>
                  <a:pt x="1765" y="1258"/>
                </a:lnTo>
                <a:lnTo>
                  <a:pt x="1775" y="1272"/>
                </a:lnTo>
                <a:lnTo>
                  <a:pt x="1773" y="1283"/>
                </a:lnTo>
                <a:lnTo>
                  <a:pt x="1773" y="1295"/>
                </a:lnTo>
                <a:lnTo>
                  <a:pt x="1769" y="1307"/>
                </a:lnTo>
                <a:lnTo>
                  <a:pt x="1767" y="1318"/>
                </a:lnTo>
                <a:lnTo>
                  <a:pt x="1757" y="1336"/>
                </a:lnTo>
                <a:lnTo>
                  <a:pt x="1744" y="1351"/>
                </a:lnTo>
                <a:lnTo>
                  <a:pt x="1736" y="1351"/>
                </a:lnTo>
                <a:lnTo>
                  <a:pt x="1728" y="1338"/>
                </a:lnTo>
                <a:lnTo>
                  <a:pt x="1726" y="1324"/>
                </a:lnTo>
                <a:lnTo>
                  <a:pt x="1722" y="1311"/>
                </a:lnTo>
                <a:lnTo>
                  <a:pt x="1722" y="1299"/>
                </a:lnTo>
                <a:lnTo>
                  <a:pt x="1718" y="1285"/>
                </a:lnTo>
                <a:lnTo>
                  <a:pt x="1715" y="1274"/>
                </a:lnTo>
                <a:lnTo>
                  <a:pt x="1707" y="1262"/>
                </a:lnTo>
                <a:lnTo>
                  <a:pt x="1699" y="1256"/>
                </a:lnTo>
                <a:lnTo>
                  <a:pt x="1697" y="1239"/>
                </a:lnTo>
                <a:lnTo>
                  <a:pt x="1693" y="1223"/>
                </a:lnTo>
                <a:lnTo>
                  <a:pt x="1685" y="1208"/>
                </a:lnTo>
                <a:lnTo>
                  <a:pt x="1680" y="1194"/>
                </a:lnTo>
                <a:lnTo>
                  <a:pt x="1668" y="1179"/>
                </a:lnTo>
                <a:lnTo>
                  <a:pt x="1656" y="1167"/>
                </a:lnTo>
                <a:lnTo>
                  <a:pt x="1643" y="1155"/>
                </a:lnTo>
                <a:lnTo>
                  <a:pt x="1631" y="1148"/>
                </a:lnTo>
                <a:lnTo>
                  <a:pt x="1621" y="1152"/>
                </a:lnTo>
                <a:lnTo>
                  <a:pt x="1610" y="1216"/>
                </a:lnTo>
                <a:lnTo>
                  <a:pt x="1604" y="1283"/>
                </a:lnTo>
                <a:lnTo>
                  <a:pt x="1598" y="1351"/>
                </a:lnTo>
                <a:lnTo>
                  <a:pt x="1594" y="1421"/>
                </a:lnTo>
                <a:lnTo>
                  <a:pt x="1588" y="1489"/>
                </a:lnTo>
                <a:lnTo>
                  <a:pt x="1585" y="1559"/>
                </a:lnTo>
                <a:lnTo>
                  <a:pt x="1579" y="1627"/>
                </a:lnTo>
                <a:lnTo>
                  <a:pt x="1573" y="1696"/>
                </a:lnTo>
                <a:lnTo>
                  <a:pt x="1563" y="1695"/>
                </a:lnTo>
                <a:lnTo>
                  <a:pt x="1559" y="1689"/>
                </a:lnTo>
                <a:lnTo>
                  <a:pt x="1557" y="1681"/>
                </a:lnTo>
                <a:lnTo>
                  <a:pt x="1556" y="1673"/>
                </a:lnTo>
                <a:lnTo>
                  <a:pt x="1554" y="1660"/>
                </a:lnTo>
                <a:lnTo>
                  <a:pt x="1554" y="1648"/>
                </a:lnTo>
                <a:lnTo>
                  <a:pt x="1554" y="1634"/>
                </a:lnTo>
                <a:lnTo>
                  <a:pt x="1554" y="1623"/>
                </a:lnTo>
                <a:lnTo>
                  <a:pt x="1552" y="1609"/>
                </a:lnTo>
                <a:lnTo>
                  <a:pt x="1550" y="1596"/>
                </a:lnTo>
                <a:lnTo>
                  <a:pt x="1548" y="1584"/>
                </a:lnTo>
                <a:lnTo>
                  <a:pt x="1546" y="1572"/>
                </a:lnTo>
                <a:lnTo>
                  <a:pt x="1554" y="1580"/>
                </a:lnTo>
                <a:lnTo>
                  <a:pt x="1556" y="1594"/>
                </a:lnTo>
                <a:lnTo>
                  <a:pt x="1557" y="1605"/>
                </a:lnTo>
                <a:lnTo>
                  <a:pt x="1565" y="1617"/>
                </a:lnTo>
                <a:lnTo>
                  <a:pt x="1569" y="1559"/>
                </a:lnTo>
                <a:lnTo>
                  <a:pt x="1575" y="1501"/>
                </a:lnTo>
                <a:lnTo>
                  <a:pt x="1579" y="1442"/>
                </a:lnTo>
                <a:lnTo>
                  <a:pt x="1585" y="1386"/>
                </a:lnTo>
                <a:lnTo>
                  <a:pt x="1587" y="1328"/>
                </a:lnTo>
                <a:lnTo>
                  <a:pt x="1592" y="1270"/>
                </a:lnTo>
                <a:lnTo>
                  <a:pt x="1596" y="1212"/>
                </a:lnTo>
                <a:lnTo>
                  <a:pt x="1606" y="1155"/>
                </a:lnTo>
                <a:lnTo>
                  <a:pt x="1585" y="1155"/>
                </a:lnTo>
                <a:lnTo>
                  <a:pt x="1565" y="1161"/>
                </a:lnTo>
                <a:lnTo>
                  <a:pt x="1548" y="1167"/>
                </a:lnTo>
                <a:lnTo>
                  <a:pt x="1532" y="1179"/>
                </a:lnTo>
                <a:lnTo>
                  <a:pt x="1515" y="1186"/>
                </a:lnTo>
                <a:lnTo>
                  <a:pt x="1497" y="1196"/>
                </a:lnTo>
                <a:lnTo>
                  <a:pt x="1478" y="1202"/>
                </a:lnTo>
                <a:lnTo>
                  <a:pt x="1460" y="1208"/>
                </a:lnTo>
                <a:lnTo>
                  <a:pt x="1459" y="1223"/>
                </a:lnTo>
                <a:lnTo>
                  <a:pt x="1468" y="1239"/>
                </a:lnTo>
                <a:lnTo>
                  <a:pt x="1472" y="1254"/>
                </a:lnTo>
                <a:lnTo>
                  <a:pt x="1464" y="1270"/>
                </a:lnTo>
                <a:lnTo>
                  <a:pt x="1457" y="1254"/>
                </a:lnTo>
                <a:lnTo>
                  <a:pt x="1453" y="1243"/>
                </a:lnTo>
                <a:lnTo>
                  <a:pt x="1447" y="1229"/>
                </a:lnTo>
                <a:lnTo>
                  <a:pt x="1443" y="1217"/>
                </a:lnTo>
                <a:lnTo>
                  <a:pt x="1435" y="1206"/>
                </a:lnTo>
                <a:lnTo>
                  <a:pt x="1428" y="1198"/>
                </a:lnTo>
                <a:lnTo>
                  <a:pt x="1416" y="1190"/>
                </a:lnTo>
                <a:lnTo>
                  <a:pt x="1400" y="1190"/>
                </a:lnTo>
                <a:lnTo>
                  <a:pt x="1395" y="1183"/>
                </a:lnTo>
                <a:lnTo>
                  <a:pt x="1396" y="1177"/>
                </a:lnTo>
                <a:lnTo>
                  <a:pt x="1414" y="1169"/>
                </a:lnTo>
                <a:lnTo>
                  <a:pt x="1431" y="1173"/>
                </a:lnTo>
                <a:lnTo>
                  <a:pt x="1449" y="1173"/>
                </a:lnTo>
                <a:lnTo>
                  <a:pt x="1468" y="1169"/>
                </a:lnTo>
                <a:lnTo>
                  <a:pt x="1486" y="1169"/>
                </a:lnTo>
                <a:lnTo>
                  <a:pt x="1505" y="1169"/>
                </a:lnTo>
                <a:lnTo>
                  <a:pt x="1523" y="1163"/>
                </a:lnTo>
                <a:lnTo>
                  <a:pt x="1540" y="1159"/>
                </a:lnTo>
                <a:lnTo>
                  <a:pt x="1556" y="1152"/>
                </a:lnTo>
                <a:lnTo>
                  <a:pt x="1571" y="1146"/>
                </a:lnTo>
                <a:lnTo>
                  <a:pt x="1588" y="1140"/>
                </a:lnTo>
                <a:lnTo>
                  <a:pt x="1606" y="1136"/>
                </a:lnTo>
                <a:lnTo>
                  <a:pt x="1612" y="1097"/>
                </a:lnTo>
                <a:lnTo>
                  <a:pt x="1616" y="1060"/>
                </a:lnTo>
                <a:lnTo>
                  <a:pt x="1618" y="1022"/>
                </a:lnTo>
                <a:lnTo>
                  <a:pt x="1621" y="985"/>
                </a:lnTo>
                <a:lnTo>
                  <a:pt x="1621" y="946"/>
                </a:lnTo>
                <a:lnTo>
                  <a:pt x="1623" y="909"/>
                </a:lnTo>
                <a:lnTo>
                  <a:pt x="1625" y="870"/>
                </a:lnTo>
                <a:lnTo>
                  <a:pt x="1631" y="835"/>
                </a:lnTo>
                <a:lnTo>
                  <a:pt x="1649" y="824"/>
                </a:lnTo>
                <a:lnTo>
                  <a:pt x="1639" y="859"/>
                </a:lnTo>
                <a:lnTo>
                  <a:pt x="1635" y="896"/>
                </a:lnTo>
                <a:lnTo>
                  <a:pt x="1631" y="934"/>
                </a:lnTo>
                <a:lnTo>
                  <a:pt x="1631" y="975"/>
                </a:lnTo>
                <a:lnTo>
                  <a:pt x="1629" y="1014"/>
                </a:lnTo>
                <a:lnTo>
                  <a:pt x="1627" y="1053"/>
                </a:lnTo>
                <a:lnTo>
                  <a:pt x="1625" y="1091"/>
                </a:lnTo>
                <a:lnTo>
                  <a:pt x="1621" y="1130"/>
                </a:lnTo>
                <a:close/>
                <a:moveTo>
                  <a:pt x="1080" y="1510"/>
                </a:moveTo>
                <a:lnTo>
                  <a:pt x="1086" y="1524"/>
                </a:lnTo>
                <a:lnTo>
                  <a:pt x="1092" y="1537"/>
                </a:lnTo>
                <a:lnTo>
                  <a:pt x="1098" y="1551"/>
                </a:lnTo>
                <a:lnTo>
                  <a:pt x="1106" y="1567"/>
                </a:lnTo>
                <a:lnTo>
                  <a:pt x="1109" y="1578"/>
                </a:lnTo>
                <a:lnTo>
                  <a:pt x="1115" y="1594"/>
                </a:lnTo>
                <a:lnTo>
                  <a:pt x="1117" y="1611"/>
                </a:lnTo>
                <a:lnTo>
                  <a:pt x="1119" y="1629"/>
                </a:lnTo>
                <a:lnTo>
                  <a:pt x="1108" y="1634"/>
                </a:lnTo>
                <a:lnTo>
                  <a:pt x="1096" y="1638"/>
                </a:lnTo>
                <a:lnTo>
                  <a:pt x="1084" y="1636"/>
                </a:lnTo>
                <a:lnTo>
                  <a:pt x="1073" y="1636"/>
                </a:lnTo>
                <a:lnTo>
                  <a:pt x="1059" y="1632"/>
                </a:lnTo>
                <a:lnTo>
                  <a:pt x="1047" y="1629"/>
                </a:lnTo>
                <a:lnTo>
                  <a:pt x="1036" y="1623"/>
                </a:lnTo>
                <a:lnTo>
                  <a:pt x="1024" y="1621"/>
                </a:lnTo>
                <a:lnTo>
                  <a:pt x="1003" y="1605"/>
                </a:lnTo>
                <a:lnTo>
                  <a:pt x="989" y="1588"/>
                </a:lnTo>
                <a:lnTo>
                  <a:pt x="976" y="1568"/>
                </a:lnTo>
                <a:lnTo>
                  <a:pt x="968" y="1551"/>
                </a:lnTo>
                <a:lnTo>
                  <a:pt x="960" y="1528"/>
                </a:lnTo>
                <a:lnTo>
                  <a:pt x="956" y="1506"/>
                </a:lnTo>
                <a:lnTo>
                  <a:pt x="950" y="1485"/>
                </a:lnTo>
                <a:lnTo>
                  <a:pt x="948" y="1464"/>
                </a:lnTo>
                <a:lnTo>
                  <a:pt x="964" y="1454"/>
                </a:lnTo>
                <a:lnTo>
                  <a:pt x="985" y="1452"/>
                </a:lnTo>
                <a:lnTo>
                  <a:pt x="995" y="1452"/>
                </a:lnTo>
                <a:lnTo>
                  <a:pt x="1005" y="1454"/>
                </a:lnTo>
                <a:lnTo>
                  <a:pt x="1014" y="1456"/>
                </a:lnTo>
                <a:lnTo>
                  <a:pt x="1026" y="1458"/>
                </a:lnTo>
                <a:lnTo>
                  <a:pt x="1080" y="1510"/>
                </a:lnTo>
                <a:close/>
                <a:moveTo>
                  <a:pt x="1391" y="1340"/>
                </a:moveTo>
                <a:lnTo>
                  <a:pt x="1396" y="1369"/>
                </a:lnTo>
                <a:lnTo>
                  <a:pt x="1402" y="1402"/>
                </a:lnTo>
                <a:lnTo>
                  <a:pt x="1404" y="1433"/>
                </a:lnTo>
                <a:lnTo>
                  <a:pt x="1406" y="1466"/>
                </a:lnTo>
                <a:lnTo>
                  <a:pt x="1402" y="1497"/>
                </a:lnTo>
                <a:lnTo>
                  <a:pt x="1396" y="1528"/>
                </a:lnTo>
                <a:lnTo>
                  <a:pt x="1387" y="1559"/>
                </a:lnTo>
                <a:lnTo>
                  <a:pt x="1377" y="1590"/>
                </a:lnTo>
                <a:lnTo>
                  <a:pt x="1358" y="1588"/>
                </a:lnTo>
                <a:lnTo>
                  <a:pt x="1340" y="1582"/>
                </a:lnTo>
                <a:lnTo>
                  <a:pt x="1325" y="1570"/>
                </a:lnTo>
                <a:lnTo>
                  <a:pt x="1311" y="1559"/>
                </a:lnTo>
                <a:lnTo>
                  <a:pt x="1298" y="1543"/>
                </a:lnTo>
                <a:lnTo>
                  <a:pt x="1288" y="1528"/>
                </a:lnTo>
                <a:lnTo>
                  <a:pt x="1276" y="1510"/>
                </a:lnTo>
                <a:lnTo>
                  <a:pt x="1270" y="1497"/>
                </a:lnTo>
                <a:lnTo>
                  <a:pt x="1259" y="1475"/>
                </a:lnTo>
                <a:lnTo>
                  <a:pt x="1255" y="1456"/>
                </a:lnTo>
                <a:lnTo>
                  <a:pt x="1255" y="1435"/>
                </a:lnTo>
                <a:lnTo>
                  <a:pt x="1261" y="1415"/>
                </a:lnTo>
                <a:lnTo>
                  <a:pt x="1267" y="1394"/>
                </a:lnTo>
                <a:lnTo>
                  <a:pt x="1274" y="1376"/>
                </a:lnTo>
                <a:lnTo>
                  <a:pt x="1282" y="1357"/>
                </a:lnTo>
                <a:lnTo>
                  <a:pt x="1290" y="1340"/>
                </a:lnTo>
                <a:lnTo>
                  <a:pt x="1300" y="1326"/>
                </a:lnTo>
                <a:lnTo>
                  <a:pt x="1309" y="1314"/>
                </a:lnTo>
                <a:lnTo>
                  <a:pt x="1321" y="1305"/>
                </a:lnTo>
                <a:lnTo>
                  <a:pt x="1336" y="1301"/>
                </a:lnTo>
                <a:lnTo>
                  <a:pt x="1352" y="1303"/>
                </a:lnTo>
                <a:lnTo>
                  <a:pt x="1367" y="1312"/>
                </a:lnTo>
                <a:lnTo>
                  <a:pt x="1379" y="1324"/>
                </a:lnTo>
                <a:lnTo>
                  <a:pt x="1391" y="1340"/>
                </a:lnTo>
                <a:close/>
                <a:moveTo>
                  <a:pt x="1949" y="1522"/>
                </a:moveTo>
                <a:lnTo>
                  <a:pt x="1936" y="1537"/>
                </a:lnTo>
                <a:lnTo>
                  <a:pt x="1924" y="1555"/>
                </a:lnTo>
                <a:lnTo>
                  <a:pt x="1912" y="1572"/>
                </a:lnTo>
                <a:lnTo>
                  <a:pt x="1901" y="1590"/>
                </a:lnTo>
                <a:lnTo>
                  <a:pt x="1887" y="1605"/>
                </a:lnTo>
                <a:lnTo>
                  <a:pt x="1874" y="1621"/>
                </a:lnTo>
                <a:lnTo>
                  <a:pt x="1858" y="1632"/>
                </a:lnTo>
                <a:lnTo>
                  <a:pt x="1843" y="1646"/>
                </a:lnTo>
                <a:lnTo>
                  <a:pt x="1813" y="1634"/>
                </a:lnTo>
                <a:lnTo>
                  <a:pt x="1837" y="1601"/>
                </a:lnTo>
                <a:lnTo>
                  <a:pt x="1862" y="1570"/>
                </a:lnTo>
                <a:lnTo>
                  <a:pt x="1885" y="1537"/>
                </a:lnTo>
                <a:lnTo>
                  <a:pt x="1908" y="1506"/>
                </a:lnTo>
                <a:lnTo>
                  <a:pt x="1926" y="1470"/>
                </a:lnTo>
                <a:lnTo>
                  <a:pt x="1945" y="1435"/>
                </a:lnTo>
                <a:lnTo>
                  <a:pt x="1961" y="1398"/>
                </a:lnTo>
                <a:lnTo>
                  <a:pt x="1974" y="1363"/>
                </a:lnTo>
                <a:lnTo>
                  <a:pt x="1982" y="1380"/>
                </a:lnTo>
                <a:lnTo>
                  <a:pt x="1984" y="1402"/>
                </a:lnTo>
                <a:lnTo>
                  <a:pt x="1982" y="1421"/>
                </a:lnTo>
                <a:lnTo>
                  <a:pt x="1978" y="1442"/>
                </a:lnTo>
                <a:lnTo>
                  <a:pt x="1971" y="1462"/>
                </a:lnTo>
                <a:lnTo>
                  <a:pt x="1963" y="1481"/>
                </a:lnTo>
                <a:lnTo>
                  <a:pt x="1953" y="1501"/>
                </a:lnTo>
                <a:lnTo>
                  <a:pt x="1949" y="1522"/>
                </a:lnTo>
                <a:close/>
                <a:moveTo>
                  <a:pt x="2184" y="1596"/>
                </a:moveTo>
                <a:lnTo>
                  <a:pt x="2174" y="1582"/>
                </a:lnTo>
                <a:lnTo>
                  <a:pt x="2168" y="1568"/>
                </a:lnTo>
                <a:lnTo>
                  <a:pt x="2164" y="1551"/>
                </a:lnTo>
                <a:lnTo>
                  <a:pt x="2166" y="1536"/>
                </a:lnTo>
                <a:lnTo>
                  <a:pt x="2170" y="1549"/>
                </a:lnTo>
                <a:lnTo>
                  <a:pt x="2176" y="1565"/>
                </a:lnTo>
                <a:lnTo>
                  <a:pt x="2180" y="1578"/>
                </a:lnTo>
                <a:lnTo>
                  <a:pt x="2184" y="1596"/>
                </a:lnTo>
                <a:close/>
                <a:moveTo>
                  <a:pt x="2690" y="2170"/>
                </a:moveTo>
                <a:lnTo>
                  <a:pt x="2684" y="2181"/>
                </a:lnTo>
                <a:lnTo>
                  <a:pt x="2680" y="2193"/>
                </a:lnTo>
                <a:lnTo>
                  <a:pt x="2676" y="2205"/>
                </a:lnTo>
                <a:lnTo>
                  <a:pt x="2673" y="2216"/>
                </a:lnTo>
                <a:lnTo>
                  <a:pt x="2667" y="2226"/>
                </a:lnTo>
                <a:lnTo>
                  <a:pt x="2661" y="2238"/>
                </a:lnTo>
                <a:lnTo>
                  <a:pt x="2653" y="2247"/>
                </a:lnTo>
                <a:lnTo>
                  <a:pt x="2645" y="2259"/>
                </a:lnTo>
                <a:lnTo>
                  <a:pt x="2624" y="2234"/>
                </a:lnTo>
                <a:lnTo>
                  <a:pt x="2612" y="2210"/>
                </a:lnTo>
                <a:lnTo>
                  <a:pt x="2605" y="2183"/>
                </a:lnTo>
                <a:lnTo>
                  <a:pt x="2603" y="2156"/>
                </a:lnTo>
                <a:lnTo>
                  <a:pt x="2603" y="2125"/>
                </a:lnTo>
                <a:lnTo>
                  <a:pt x="2605" y="2096"/>
                </a:lnTo>
                <a:lnTo>
                  <a:pt x="2607" y="2067"/>
                </a:lnTo>
                <a:lnTo>
                  <a:pt x="2609" y="2038"/>
                </a:lnTo>
                <a:lnTo>
                  <a:pt x="2614" y="2032"/>
                </a:lnTo>
                <a:lnTo>
                  <a:pt x="2630" y="2044"/>
                </a:lnTo>
                <a:lnTo>
                  <a:pt x="2647" y="2057"/>
                </a:lnTo>
                <a:lnTo>
                  <a:pt x="2661" y="2073"/>
                </a:lnTo>
                <a:lnTo>
                  <a:pt x="2675" y="2090"/>
                </a:lnTo>
                <a:lnTo>
                  <a:pt x="2682" y="2106"/>
                </a:lnTo>
                <a:lnTo>
                  <a:pt x="2688" y="2125"/>
                </a:lnTo>
                <a:lnTo>
                  <a:pt x="2690" y="2146"/>
                </a:lnTo>
                <a:lnTo>
                  <a:pt x="2690" y="2170"/>
                </a:lnTo>
                <a:close/>
                <a:moveTo>
                  <a:pt x="2422" y="2245"/>
                </a:moveTo>
                <a:lnTo>
                  <a:pt x="2419" y="2257"/>
                </a:lnTo>
                <a:lnTo>
                  <a:pt x="2415" y="2269"/>
                </a:lnTo>
                <a:lnTo>
                  <a:pt x="2407" y="2278"/>
                </a:lnTo>
                <a:lnTo>
                  <a:pt x="2397" y="2290"/>
                </a:lnTo>
                <a:lnTo>
                  <a:pt x="2384" y="2290"/>
                </a:lnTo>
                <a:lnTo>
                  <a:pt x="2372" y="2288"/>
                </a:lnTo>
                <a:lnTo>
                  <a:pt x="2362" y="2282"/>
                </a:lnTo>
                <a:lnTo>
                  <a:pt x="2355" y="2278"/>
                </a:lnTo>
                <a:lnTo>
                  <a:pt x="2339" y="2261"/>
                </a:lnTo>
                <a:lnTo>
                  <a:pt x="2327" y="2245"/>
                </a:lnTo>
                <a:lnTo>
                  <a:pt x="2316" y="2216"/>
                </a:lnTo>
                <a:lnTo>
                  <a:pt x="2316" y="2191"/>
                </a:lnTo>
                <a:lnTo>
                  <a:pt x="2320" y="2166"/>
                </a:lnTo>
                <a:lnTo>
                  <a:pt x="2331" y="2143"/>
                </a:lnTo>
                <a:lnTo>
                  <a:pt x="2339" y="2117"/>
                </a:lnTo>
                <a:lnTo>
                  <a:pt x="2347" y="2092"/>
                </a:lnTo>
                <a:lnTo>
                  <a:pt x="2353" y="2065"/>
                </a:lnTo>
                <a:lnTo>
                  <a:pt x="2353" y="2040"/>
                </a:lnTo>
                <a:lnTo>
                  <a:pt x="2364" y="2063"/>
                </a:lnTo>
                <a:lnTo>
                  <a:pt x="2376" y="2086"/>
                </a:lnTo>
                <a:lnTo>
                  <a:pt x="2386" y="2112"/>
                </a:lnTo>
                <a:lnTo>
                  <a:pt x="2395" y="2137"/>
                </a:lnTo>
                <a:lnTo>
                  <a:pt x="2403" y="2162"/>
                </a:lnTo>
                <a:lnTo>
                  <a:pt x="2411" y="2189"/>
                </a:lnTo>
                <a:lnTo>
                  <a:pt x="2417" y="2216"/>
                </a:lnTo>
                <a:lnTo>
                  <a:pt x="2422" y="2245"/>
                </a:lnTo>
                <a:close/>
                <a:moveTo>
                  <a:pt x="2331" y="2034"/>
                </a:moveTo>
                <a:lnTo>
                  <a:pt x="2331" y="2051"/>
                </a:lnTo>
                <a:lnTo>
                  <a:pt x="2331" y="2069"/>
                </a:lnTo>
                <a:lnTo>
                  <a:pt x="2329" y="2086"/>
                </a:lnTo>
                <a:lnTo>
                  <a:pt x="2327" y="2106"/>
                </a:lnTo>
                <a:lnTo>
                  <a:pt x="2322" y="2121"/>
                </a:lnTo>
                <a:lnTo>
                  <a:pt x="2316" y="2139"/>
                </a:lnTo>
                <a:lnTo>
                  <a:pt x="2310" y="2154"/>
                </a:lnTo>
                <a:lnTo>
                  <a:pt x="2306" y="2172"/>
                </a:lnTo>
                <a:lnTo>
                  <a:pt x="2302" y="2154"/>
                </a:lnTo>
                <a:lnTo>
                  <a:pt x="2302" y="2137"/>
                </a:lnTo>
                <a:lnTo>
                  <a:pt x="2304" y="2119"/>
                </a:lnTo>
                <a:lnTo>
                  <a:pt x="2310" y="2104"/>
                </a:lnTo>
                <a:lnTo>
                  <a:pt x="2314" y="2086"/>
                </a:lnTo>
                <a:lnTo>
                  <a:pt x="2318" y="2069"/>
                </a:lnTo>
                <a:lnTo>
                  <a:pt x="2322" y="2051"/>
                </a:lnTo>
                <a:lnTo>
                  <a:pt x="2324" y="2034"/>
                </a:lnTo>
                <a:lnTo>
                  <a:pt x="2331" y="2034"/>
                </a:lnTo>
                <a:close/>
                <a:moveTo>
                  <a:pt x="2382" y="2319"/>
                </a:moveTo>
                <a:lnTo>
                  <a:pt x="2403" y="2315"/>
                </a:lnTo>
                <a:lnTo>
                  <a:pt x="2395" y="2327"/>
                </a:lnTo>
                <a:lnTo>
                  <a:pt x="2389" y="2344"/>
                </a:lnTo>
                <a:lnTo>
                  <a:pt x="2378" y="2356"/>
                </a:lnTo>
                <a:lnTo>
                  <a:pt x="2364" y="2356"/>
                </a:lnTo>
                <a:lnTo>
                  <a:pt x="2349" y="2346"/>
                </a:lnTo>
                <a:lnTo>
                  <a:pt x="2335" y="2338"/>
                </a:lnTo>
                <a:lnTo>
                  <a:pt x="2322" y="2327"/>
                </a:lnTo>
                <a:lnTo>
                  <a:pt x="2310" y="2317"/>
                </a:lnTo>
                <a:lnTo>
                  <a:pt x="2298" y="2304"/>
                </a:lnTo>
                <a:lnTo>
                  <a:pt x="2287" y="2292"/>
                </a:lnTo>
                <a:lnTo>
                  <a:pt x="2277" y="2278"/>
                </a:lnTo>
                <a:lnTo>
                  <a:pt x="2271" y="2265"/>
                </a:lnTo>
                <a:lnTo>
                  <a:pt x="2291" y="2232"/>
                </a:lnTo>
                <a:lnTo>
                  <a:pt x="2298" y="2243"/>
                </a:lnTo>
                <a:lnTo>
                  <a:pt x="2308" y="2255"/>
                </a:lnTo>
                <a:lnTo>
                  <a:pt x="2316" y="2269"/>
                </a:lnTo>
                <a:lnTo>
                  <a:pt x="2327" y="2282"/>
                </a:lnTo>
                <a:lnTo>
                  <a:pt x="2339" y="2292"/>
                </a:lnTo>
                <a:lnTo>
                  <a:pt x="2351" y="2304"/>
                </a:lnTo>
                <a:lnTo>
                  <a:pt x="2364" y="2311"/>
                </a:lnTo>
                <a:lnTo>
                  <a:pt x="2382" y="2319"/>
                </a:lnTo>
                <a:close/>
                <a:moveTo>
                  <a:pt x="2289" y="2364"/>
                </a:moveTo>
                <a:lnTo>
                  <a:pt x="2291" y="2379"/>
                </a:lnTo>
                <a:lnTo>
                  <a:pt x="2294" y="2399"/>
                </a:lnTo>
                <a:lnTo>
                  <a:pt x="2292" y="2416"/>
                </a:lnTo>
                <a:lnTo>
                  <a:pt x="2287" y="2433"/>
                </a:lnTo>
                <a:lnTo>
                  <a:pt x="2271" y="2449"/>
                </a:lnTo>
                <a:lnTo>
                  <a:pt x="2256" y="2464"/>
                </a:lnTo>
                <a:lnTo>
                  <a:pt x="2240" y="2478"/>
                </a:lnTo>
                <a:lnTo>
                  <a:pt x="2225" y="2492"/>
                </a:lnTo>
                <a:lnTo>
                  <a:pt x="2205" y="2501"/>
                </a:lnTo>
                <a:lnTo>
                  <a:pt x="2188" y="2513"/>
                </a:lnTo>
                <a:lnTo>
                  <a:pt x="2168" y="2521"/>
                </a:lnTo>
                <a:lnTo>
                  <a:pt x="2149" y="2528"/>
                </a:lnTo>
                <a:lnTo>
                  <a:pt x="2161" y="2515"/>
                </a:lnTo>
                <a:lnTo>
                  <a:pt x="2174" y="2501"/>
                </a:lnTo>
                <a:lnTo>
                  <a:pt x="2186" y="2488"/>
                </a:lnTo>
                <a:lnTo>
                  <a:pt x="2199" y="2474"/>
                </a:lnTo>
                <a:lnTo>
                  <a:pt x="2209" y="2457"/>
                </a:lnTo>
                <a:lnTo>
                  <a:pt x="2217" y="2439"/>
                </a:lnTo>
                <a:lnTo>
                  <a:pt x="2223" y="2422"/>
                </a:lnTo>
                <a:lnTo>
                  <a:pt x="2227" y="2404"/>
                </a:lnTo>
                <a:lnTo>
                  <a:pt x="2228" y="2391"/>
                </a:lnTo>
                <a:lnTo>
                  <a:pt x="2227" y="2379"/>
                </a:lnTo>
                <a:lnTo>
                  <a:pt x="2221" y="2368"/>
                </a:lnTo>
                <a:lnTo>
                  <a:pt x="2217" y="2356"/>
                </a:lnTo>
                <a:lnTo>
                  <a:pt x="2211" y="2344"/>
                </a:lnTo>
                <a:lnTo>
                  <a:pt x="2211" y="2335"/>
                </a:lnTo>
                <a:lnTo>
                  <a:pt x="2217" y="2325"/>
                </a:lnTo>
                <a:lnTo>
                  <a:pt x="2230" y="2315"/>
                </a:lnTo>
                <a:lnTo>
                  <a:pt x="2246" y="2319"/>
                </a:lnTo>
                <a:lnTo>
                  <a:pt x="2263" y="2331"/>
                </a:lnTo>
                <a:lnTo>
                  <a:pt x="2277" y="2346"/>
                </a:lnTo>
                <a:lnTo>
                  <a:pt x="2289" y="2364"/>
                </a:lnTo>
                <a:close/>
                <a:moveTo>
                  <a:pt x="2033" y="2222"/>
                </a:moveTo>
                <a:lnTo>
                  <a:pt x="2015" y="2218"/>
                </a:lnTo>
                <a:lnTo>
                  <a:pt x="1996" y="2216"/>
                </a:lnTo>
                <a:lnTo>
                  <a:pt x="1978" y="2207"/>
                </a:lnTo>
                <a:lnTo>
                  <a:pt x="1967" y="2191"/>
                </a:lnTo>
                <a:lnTo>
                  <a:pt x="1965" y="2172"/>
                </a:lnTo>
                <a:lnTo>
                  <a:pt x="1974" y="2154"/>
                </a:lnTo>
                <a:lnTo>
                  <a:pt x="1986" y="2139"/>
                </a:lnTo>
                <a:lnTo>
                  <a:pt x="1996" y="2123"/>
                </a:lnTo>
                <a:lnTo>
                  <a:pt x="1996" y="2135"/>
                </a:lnTo>
                <a:lnTo>
                  <a:pt x="2000" y="2148"/>
                </a:lnTo>
                <a:lnTo>
                  <a:pt x="2004" y="2160"/>
                </a:lnTo>
                <a:lnTo>
                  <a:pt x="2009" y="2174"/>
                </a:lnTo>
                <a:lnTo>
                  <a:pt x="2015" y="2185"/>
                </a:lnTo>
                <a:lnTo>
                  <a:pt x="2021" y="2197"/>
                </a:lnTo>
                <a:lnTo>
                  <a:pt x="2027" y="2208"/>
                </a:lnTo>
                <a:lnTo>
                  <a:pt x="2033" y="2222"/>
                </a:lnTo>
                <a:close/>
                <a:moveTo>
                  <a:pt x="2069" y="2466"/>
                </a:moveTo>
                <a:lnTo>
                  <a:pt x="2054" y="2466"/>
                </a:lnTo>
                <a:lnTo>
                  <a:pt x="2040" y="2470"/>
                </a:lnTo>
                <a:lnTo>
                  <a:pt x="2025" y="2474"/>
                </a:lnTo>
                <a:lnTo>
                  <a:pt x="2009" y="2480"/>
                </a:lnTo>
                <a:lnTo>
                  <a:pt x="1994" y="2480"/>
                </a:lnTo>
                <a:lnTo>
                  <a:pt x="1982" y="2478"/>
                </a:lnTo>
                <a:lnTo>
                  <a:pt x="1971" y="2472"/>
                </a:lnTo>
                <a:lnTo>
                  <a:pt x="1967" y="2461"/>
                </a:lnTo>
                <a:lnTo>
                  <a:pt x="1974" y="2432"/>
                </a:lnTo>
                <a:lnTo>
                  <a:pt x="1990" y="2412"/>
                </a:lnTo>
                <a:lnTo>
                  <a:pt x="2011" y="2397"/>
                </a:lnTo>
                <a:lnTo>
                  <a:pt x="2036" y="2387"/>
                </a:lnTo>
                <a:lnTo>
                  <a:pt x="2062" y="2379"/>
                </a:lnTo>
                <a:lnTo>
                  <a:pt x="2091" y="2373"/>
                </a:lnTo>
                <a:lnTo>
                  <a:pt x="2118" y="2366"/>
                </a:lnTo>
                <a:lnTo>
                  <a:pt x="2145" y="2360"/>
                </a:lnTo>
                <a:lnTo>
                  <a:pt x="2151" y="2377"/>
                </a:lnTo>
                <a:lnTo>
                  <a:pt x="2149" y="2395"/>
                </a:lnTo>
                <a:lnTo>
                  <a:pt x="2141" y="2408"/>
                </a:lnTo>
                <a:lnTo>
                  <a:pt x="2130" y="2424"/>
                </a:lnTo>
                <a:lnTo>
                  <a:pt x="2114" y="2433"/>
                </a:lnTo>
                <a:lnTo>
                  <a:pt x="2099" y="2445"/>
                </a:lnTo>
                <a:lnTo>
                  <a:pt x="2081" y="2455"/>
                </a:lnTo>
                <a:lnTo>
                  <a:pt x="2069" y="2466"/>
                </a:lnTo>
                <a:close/>
                <a:moveTo>
                  <a:pt x="1986" y="2544"/>
                </a:moveTo>
                <a:lnTo>
                  <a:pt x="1971" y="2542"/>
                </a:lnTo>
                <a:lnTo>
                  <a:pt x="1957" y="2540"/>
                </a:lnTo>
                <a:lnTo>
                  <a:pt x="1941" y="2538"/>
                </a:lnTo>
                <a:lnTo>
                  <a:pt x="1928" y="2536"/>
                </a:lnTo>
                <a:lnTo>
                  <a:pt x="1912" y="2532"/>
                </a:lnTo>
                <a:lnTo>
                  <a:pt x="1899" y="2530"/>
                </a:lnTo>
                <a:lnTo>
                  <a:pt x="1887" y="2527"/>
                </a:lnTo>
                <a:lnTo>
                  <a:pt x="1877" y="2527"/>
                </a:lnTo>
                <a:lnTo>
                  <a:pt x="1891" y="2525"/>
                </a:lnTo>
                <a:lnTo>
                  <a:pt x="1907" y="2521"/>
                </a:lnTo>
                <a:lnTo>
                  <a:pt x="1924" y="2515"/>
                </a:lnTo>
                <a:lnTo>
                  <a:pt x="1941" y="2511"/>
                </a:lnTo>
                <a:lnTo>
                  <a:pt x="1955" y="2509"/>
                </a:lnTo>
                <a:lnTo>
                  <a:pt x="1969" y="2513"/>
                </a:lnTo>
                <a:lnTo>
                  <a:pt x="1980" y="2523"/>
                </a:lnTo>
                <a:lnTo>
                  <a:pt x="1986" y="2544"/>
                </a:lnTo>
                <a:close/>
                <a:moveTo>
                  <a:pt x="704" y="164"/>
                </a:moveTo>
                <a:lnTo>
                  <a:pt x="706" y="176"/>
                </a:lnTo>
                <a:lnTo>
                  <a:pt x="708" y="193"/>
                </a:lnTo>
                <a:lnTo>
                  <a:pt x="708" y="211"/>
                </a:lnTo>
                <a:lnTo>
                  <a:pt x="708" y="228"/>
                </a:lnTo>
                <a:lnTo>
                  <a:pt x="704" y="244"/>
                </a:lnTo>
                <a:lnTo>
                  <a:pt x="700" y="261"/>
                </a:lnTo>
                <a:lnTo>
                  <a:pt x="696" y="279"/>
                </a:lnTo>
                <a:lnTo>
                  <a:pt x="692" y="296"/>
                </a:lnTo>
                <a:lnTo>
                  <a:pt x="679" y="300"/>
                </a:lnTo>
                <a:lnTo>
                  <a:pt x="665" y="304"/>
                </a:lnTo>
                <a:lnTo>
                  <a:pt x="652" y="308"/>
                </a:lnTo>
                <a:lnTo>
                  <a:pt x="638" y="314"/>
                </a:lnTo>
                <a:lnTo>
                  <a:pt x="623" y="314"/>
                </a:lnTo>
                <a:lnTo>
                  <a:pt x="609" y="316"/>
                </a:lnTo>
                <a:lnTo>
                  <a:pt x="596" y="314"/>
                </a:lnTo>
                <a:lnTo>
                  <a:pt x="582" y="310"/>
                </a:lnTo>
                <a:lnTo>
                  <a:pt x="566" y="302"/>
                </a:lnTo>
                <a:lnTo>
                  <a:pt x="557" y="294"/>
                </a:lnTo>
                <a:lnTo>
                  <a:pt x="545" y="285"/>
                </a:lnTo>
                <a:lnTo>
                  <a:pt x="539" y="275"/>
                </a:lnTo>
                <a:lnTo>
                  <a:pt x="530" y="263"/>
                </a:lnTo>
                <a:lnTo>
                  <a:pt x="522" y="252"/>
                </a:lnTo>
                <a:lnTo>
                  <a:pt x="514" y="240"/>
                </a:lnTo>
                <a:lnTo>
                  <a:pt x="506" y="234"/>
                </a:lnTo>
                <a:lnTo>
                  <a:pt x="500" y="217"/>
                </a:lnTo>
                <a:lnTo>
                  <a:pt x="495" y="199"/>
                </a:lnTo>
                <a:lnTo>
                  <a:pt x="489" y="184"/>
                </a:lnTo>
                <a:lnTo>
                  <a:pt x="485" y="168"/>
                </a:lnTo>
                <a:lnTo>
                  <a:pt x="479" y="153"/>
                </a:lnTo>
                <a:lnTo>
                  <a:pt x="477" y="137"/>
                </a:lnTo>
                <a:lnTo>
                  <a:pt x="475" y="120"/>
                </a:lnTo>
                <a:lnTo>
                  <a:pt x="477" y="102"/>
                </a:lnTo>
                <a:lnTo>
                  <a:pt x="469" y="120"/>
                </a:lnTo>
                <a:lnTo>
                  <a:pt x="468" y="137"/>
                </a:lnTo>
                <a:lnTo>
                  <a:pt x="460" y="120"/>
                </a:lnTo>
                <a:lnTo>
                  <a:pt x="458" y="106"/>
                </a:lnTo>
                <a:lnTo>
                  <a:pt x="460" y="91"/>
                </a:lnTo>
                <a:lnTo>
                  <a:pt x="468" y="79"/>
                </a:lnTo>
                <a:lnTo>
                  <a:pt x="473" y="64"/>
                </a:lnTo>
                <a:lnTo>
                  <a:pt x="483" y="50"/>
                </a:lnTo>
                <a:lnTo>
                  <a:pt x="491" y="36"/>
                </a:lnTo>
                <a:lnTo>
                  <a:pt x="497" y="23"/>
                </a:lnTo>
                <a:lnTo>
                  <a:pt x="506" y="9"/>
                </a:lnTo>
                <a:lnTo>
                  <a:pt x="518" y="3"/>
                </a:lnTo>
                <a:lnTo>
                  <a:pt x="532" y="0"/>
                </a:lnTo>
                <a:lnTo>
                  <a:pt x="547" y="3"/>
                </a:lnTo>
                <a:lnTo>
                  <a:pt x="559" y="7"/>
                </a:lnTo>
                <a:lnTo>
                  <a:pt x="574" y="13"/>
                </a:lnTo>
                <a:lnTo>
                  <a:pt x="588" y="17"/>
                </a:lnTo>
                <a:lnTo>
                  <a:pt x="603" y="23"/>
                </a:lnTo>
                <a:lnTo>
                  <a:pt x="619" y="34"/>
                </a:lnTo>
                <a:lnTo>
                  <a:pt x="636" y="52"/>
                </a:lnTo>
                <a:lnTo>
                  <a:pt x="650" y="67"/>
                </a:lnTo>
                <a:lnTo>
                  <a:pt x="665" y="87"/>
                </a:lnTo>
                <a:lnTo>
                  <a:pt x="675" y="104"/>
                </a:lnTo>
                <a:lnTo>
                  <a:pt x="687" y="124"/>
                </a:lnTo>
                <a:lnTo>
                  <a:pt x="696" y="143"/>
                </a:lnTo>
                <a:lnTo>
                  <a:pt x="704" y="164"/>
                </a:lnTo>
                <a:close/>
                <a:moveTo>
                  <a:pt x="435" y="133"/>
                </a:moveTo>
                <a:lnTo>
                  <a:pt x="438" y="162"/>
                </a:lnTo>
                <a:lnTo>
                  <a:pt x="442" y="192"/>
                </a:lnTo>
                <a:lnTo>
                  <a:pt x="442" y="221"/>
                </a:lnTo>
                <a:lnTo>
                  <a:pt x="444" y="252"/>
                </a:lnTo>
                <a:lnTo>
                  <a:pt x="440" y="281"/>
                </a:lnTo>
                <a:lnTo>
                  <a:pt x="436" y="310"/>
                </a:lnTo>
                <a:lnTo>
                  <a:pt x="431" y="339"/>
                </a:lnTo>
                <a:lnTo>
                  <a:pt x="425" y="368"/>
                </a:lnTo>
                <a:lnTo>
                  <a:pt x="433" y="374"/>
                </a:lnTo>
                <a:lnTo>
                  <a:pt x="444" y="368"/>
                </a:lnTo>
                <a:lnTo>
                  <a:pt x="456" y="362"/>
                </a:lnTo>
                <a:lnTo>
                  <a:pt x="468" y="358"/>
                </a:lnTo>
                <a:lnTo>
                  <a:pt x="481" y="354"/>
                </a:lnTo>
                <a:lnTo>
                  <a:pt x="493" y="349"/>
                </a:lnTo>
                <a:lnTo>
                  <a:pt x="506" y="345"/>
                </a:lnTo>
                <a:lnTo>
                  <a:pt x="518" y="337"/>
                </a:lnTo>
                <a:lnTo>
                  <a:pt x="530" y="331"/>
                </a:lnTo>
                <a:lnTo>
                  <a:pt x="528" y="314"/>
                </a:lnTo>
                <a:lnTo>
                  <a:pt x="545" y="316"/>
                </a:lnTo>
                <a:lnTo>
                  <a:pt x="564" y="321"/>
                </a:lnTo>
                <a:lnTo>
                  <a:pt x="582" y="325"/>
                </a:lnTo>
                <a:lnTo>
                  <a:pt x="601" y="333"/>
                </a:lnTo>
                <a:lnTo>
                  <a:pt x="617" y="339"/>
                </a:lnTo>
                <a:lnTo>
                  <a:pt x="634" y="352"/>
                </a:lnTo>
                <a:lnTo>
                  <a:pt x="648" y="366"/>
                </a:lnTo>
                <a:lnTo>
                  <a:pt x="660" y="385"/>
                </a:lnTo>
                <a:lnTo>
                  <a:pt x="621" y="387"/>
                </a:lnTo>
                <a:lnTo>
                  <a:pt x="584" y="395"/>
                </a:lnTo>
                <a:lnTo>
                  <a:pt x="547" y="407"/>
                </a:lnTo>
                <a:lnTo>
                  <a:pt x="512" y="418"/>
                </a:lnTo>
                <a:lnTo>
                  <a:pt x="477" y="428"/>
                </a:lnTo>
                <a:lnTo>
                  <a:pt x="442" y="440"/>
                </a:lnTo>
                <a:lnTo>
                  <a:pt x="407" y="448"/>
                </a:lnTo>
                <a:lnTo>
                  <a:pt x="372" y="453"/>
                </a:lnTo>
                <a:lnTo>
                  <a:pt x="365" y="430"/>
                </a:lnTo>
                <a:lnTo>
                  <a:pt x="347" y="438"/>
                </a:lnTo>
                <a:lnTo>
                  <a:pt x="334" y="446"/>
                </a:lnTo>
                <a:lnTo>
                  <a:pt x="316" y="449"/>
                </a:lnTo>
                <a:lnTo>
                  <a:pt x="301" y="453"/>
                </a:lnTo>
                <a:lnTo>
                  <a:pt x="276" y="442"/>
                </a:lnTo>
                <a:lnTo>
                  <a:pt x="256" y="426"/>
                </a:lnTo>
                <a:lnTo>
                  <a:pt x="241" y="407"/>
                </a:lnTo>
                <a:lnTo>
                  <a:pt x="231" y="387"/>
                </a:lnTo>
                <a:lnTo>
                  <a:pt x="221" y="364"/>
                </a:lnTo>
                <a:lnTo>
                  <a:pt x="213" y="341"/>
                </a:lnTo>
                <a:lnTo>
                  <a:pt x="208" y="318"/>
                </a:lnTo>
                <a:lnTo>
                  <a:pt x="204" y="296"/>
                </a:lnTo>
                <a:lnTo>
                  <a:pt x="194" y="289"/>
                </a:lnTo>
                <a:lnTo>
                  <a:pt x="184" y="287"/>
                </a:lnTo>
                <a:lnTo>
                  <a:pt x="175" y="289"/>
                </a:lnTo>
                <a:lnTo>
                  <a:pt x="171" y="300"/>
                </a:lnTo>
                <a:lnTo>
                  <a:pt x="177" y="331"/>
                </a:lnTo>
                <a:lnTo>
                  <a:pt x="167" y="320"/>
                </a:lnTo>
                <a:lnTo>
                  <a:pt x="165" y="308"/>
                </a:lnTo>
                <a:lnTo>
                  <a:pt x="163" y="296"/>
                </a:lnTo>
                <a:lnTo>
                  <a:pt x="169" y="287"/>
                </a:lnTo>
                <a:lnTo>
                  <a:pt x="171" y="275"/>
                </a:lnTo>
                <a:lnTo>
                  <a:pt x="177" y="263"/>
                </a:lnTo>
                <a:lnTo>
                  <a:pt x="180" y="252"/>
                </a:lnTo>
                <a:lnTo>
                  <a:pt x="184" y="242"/>
                </a:lnTo>
                <a:lnTo>
                  <a:pt x="192" y="236"/>
                </a:lnTo>
                <a:lnTo>
                  <a:pt x="196" y="230"/>
                </a:lnTo>
                <a:lnTo>
                  <a:pt x="196" y="223"/>
                </a:lnTo>
                <a:lnTo>
                  <a:pt x="196" y="215"/>
                </a:lnTo>
                <a:lnTo>
                  <a:pt x="194" y="205"/>
                </a:lnTo>
                <a:lnTo>
                  <a:pt x="194" y="199"/>
                </a:lnTo>
                <a:lnTo>
                  <a:pt x="198" y="193"/>
                </a:lnTo>
                <a:lnTo>
                  <a:pt x="208" y="192"/>
                </a:lnTo>
                <a:lnTo>
                  <a:pt x="208" y="223"/>
                </a:lnTo>
                <a:lnTo>
                  <a:pt x="254" y="219"/>
                </a:lnTo>
                <a:lnTo>
                  <a:pt x="260" y="195"/>
                </a:lnTo>
                <a:lnTo>
                  <a:pt x="268" y="174"/>
                </a:lnTo>
                <a:lnTo>
                  <a:pt x="276" y="153"/>
                </a:lnTo>
                <a:lnTo>
                  <a:pt x="285" y="131"/>
                </a:lnTo>
                <a:lnTo>
                  <a:pt x="293" y="110"/>
                </a:lnTo>
                <a:lnTo>
                  <a:pt x="301" y="91"/>
                </a:lnTo>
                <a:lnTo>
                  <a:pt x="308" y="69"/>
                </a:lnTo>
                <a:lnTo>
                  <a:pt x="316" y="50"/>
                </a:lnTo>
                <a:lnTo>
                  <a:pt x="332" y="50"/>
                </a:lnTo>
                <a:lnTo>
                  <a:pt x="349" y="56"/>
                </a:lnTo>
                <a:lnTo>
                  <a:pt x="367" y="62"/>
                </a:lnTo>
                <a:lnTo>
                  <a:pt x="384" y="73"/>
                </a:lnTo>
                <a:lnTo>
                  <a:pt x="398" y="85"/>
                </a:lnTo>
                <a:lnTo>
                  <a:pt x="411" y="98"/>
                </a:lnTo>
                <a:lnTo>
                  <a:pt x="423" y="114"/>
                </a:lnTo>
                <a:lnTo>
                  <a:pt x="435" y="133"/>
                </a:lnTo>
                <a:close/>
                <a:moveTo>
                  <a:pt x="76" y="250"/>
                </a:moveTo>
                <a:lnTo>
                  <a:pt x="89" y="240"/>
                </a:lnTo>
                <a:lnTo>
                  <a:pt x="97" y="250"/>
                </a:lnTo>
                <a:lnTo>
                  <a:pt x="97" y="259"/>
                </a:lnTo>
                <a:lnTo>
                  <a:pt x="95" y="271"/>
                </a:lnTo>
                <a:lnTo>
                  <a:pt x="101" y="287"/>
                </a:lnTo>
                <a:lnTo>
                  <a:pt x="116" y="321"/>
                </a:lnTo>
                <a:lnTo>
                  <a:pt x="138" y="358"/>
                </a:lnTo>
                <a:lnTo>
                  <a:pt x="161" y="391"/>
                </a:lnTo>
                <a:lnTo>
                  <a:pt x="188" y="424"/>
                </a:lnTo>
                <a:lnTo>
                  <a:pt x="213" y="455"/>
                </a:lnTo>
                <a:lnTo>
                  <a:pt x="243" y="488"/>
                </a:lnTo>
                <a:lnTo>
                  <a:pt x="270" y="519"/>
                </a:lnTo>
                <a:lnTo>
                  <a:pt x="297" y="554"/>
                </a:lnTo>
                <a:lnTo>
                  <a:pt x="301" y="552"/>
                </a:lnTo>
                <a:lnTo>
                  <a:pt x="308" y="548"/>
                </a:lnTo>
                <a:lnTo>
                  <a:pt x="314" y="543"/>
                </a:lnTo>
                <a:lnTo>
                  <a:pt x="318" y="537"/>
                </a:lnTo>
                <a:lnTo>
                  <a:pt x="320" y="550"/>
                </a:lnTo>
                <a:lnTo>
                  <a:pt x="322" y="566"/>
                </a:lnTo>
                <a:lnTo>
                  <a:pt x="320" y="583"/>
                </a:lnTo>
                <a:lnTo>
                  <a:pt x="318" y="603"/>
                </a:lnTo>
                <a:lnTo>
                  <a:pt x="301" y="601"/>
                </a:lnTo>
                <a:lnTo>
                  <a:pt x="289" y="605"/>
                </a:lnTo>
                <a:lnTo>
                  <a:pt x="277" y="612"/>
                </a:lnTo>
                <a:lnTo>
                  <a:pt x="270" y="626"/>
                </a:lnTo>
                <a:lnTo>
                  <a:pt x="260" y="638"/>
                </a:lnTo>
                <a:lnTo>
                  <a:pt x="252" y="653"/>
                </a:lnTo>
                <a:lnTo>
                  <a:pt x="244" y="665"/>
                </a:lnTo>
                <a:lnTo>
                  <a:pt x="237" y="678"/>
                </a:lnTo>
                <a:lnTo>
                  <a:pt x="225" y="678"/>
                </a:lnTo>
                <a:lnTo>
                  <a:pt x="217" y="653"/>
                </a:lnTo>
                <a:lnTo>
                  <a:pt x="212" y="630"/>
                </a:lnTo>
                <a:lnTo>
                  <a:pt x="204" y="607"/>
                </a:lnTo>
                <a:lnTo>
                  <a:pt x="196" y="585"/>
                </a:lnTo>
                <a:lnTo>
                  <a:pt x="186" y="562"/>
                </a:lnTo>
                <a:lnTo>
                  <a:pt x="177" y="541"/>
                </a:lnTo>
                <a:lnTo>
                  <a:pt x="167" y="519"/>
                </a:lnTo>
                <a:lnTo>
                  <a:pt x="159" y="498"/>
                </a:lnTo>
                <a:lnTo>
                  <a:pt x="148" y="492"/>
                </a:lnTo>
                <a:lnTo>
                  <a:pt x="136" y="488"/>
                </a:lnTo>
                <a:lnTo>
                  <a:pt x="126" y="479"/>
                </a:lnTo>
                <a:lnTo>
                  <a:pt x="118" y="473"/>
                </a:lnTo>
                <a:lnTo>
                  <a:pt x="101" y="459"/>
                </a:lnTo>
                <a:lnTo>
                  <a:pt x="84" y="461"/>
                </a:lnTo>
                <a:lnTo>
                  <a:pt x="82" y="473"/>
                </a:lnTo>
                <a:lnTo>
                  <a:pt x="85" y="486"/>
                </a:lnTo>
                <a:lnTo>
                  <a:pt x="89" y="500"/>
                </a:lnTo>
                <a:lnTo>
                  <a:pt x="95" y="513"/>
                </a:lnTo>
                <a:lnTo>
                  <a:pt x="101" y="525"/>
                </a:lnTo>
                <a:lnTo>
                  <a:pt x="107" y="539"/>
                </a:lnTo>
                <a:lnTo>
                  <a:pt x="111" y="552"/>
                </a:lnTo>
                <a:lnTo>
                  <a:pt x="115" y="568"/>
                </a:lnTo>
                <a:lnTo>
                  <a:pt x="99" y="572"/>
                </a:lnTo>
                <a:lnTo>
                  <a:pt x="85" y="576"/>
                </a:lnTo>
                <a:lnTo>
                  <a:pt x="72" y="577"/>
                </a:lnTo>
                <a:lnTo>
                  <a:pt x="60" y="579"/>
                </a:lnTo>
                <a:lnTo>
                  <a:pt x="47" y="579"/>
                </a:lnTo>
                <a:lnTo>
                  <a:pt x="33" y="583"/>
                </a:lnTo>
                <a:lnTo>
                  <a:pt x="20" y="585"/>
                </a:lnTo>
                <a:lnTo>
                  <a:pt x="8" y="593"/>
                </a:lnTo>
                <a:lnTo>
                  <a:pt x="0" y="585"/>
                </a:lnTo>
                <a:lnTo>
                  <a:pt x="4" y="537"/>
                </a:lnTo>
                <a:lnTo>
                  <a:pt x="6" y="490"/>
                </a:lnTo>
                <a:lnTo>
                  <a:pt x="8" y="442"/>
                </a:lnTo>
                <a:lnTo>
                  <a:pt x="10" y="393"/>
                </a:lnTo>
                <a:lnTo>
                  <a:pt x="10" y="343"/>
                </a:lnTo>
                <a:lnTo>
                  <a:pt x="14" y="296"/>
                </a:lnTo>
                <a:lnTo>
                  <a:pt x="18" y="248"/>
                </a:lnTo>
                <a:lnTo>
                  <a:pt x="27" y="203"/>
                </a:lnTo>
                <a:lnTo>
                  <a:pt x="41" y="209"/>
                </a:lnTo>
                <a:lnTo>
                  <a:pt x="54" y="221"/>
                </a:lnTo>
                <a:lnTo>
                  <a:pt x="64" y="234"/>
                </a:lnTo>
                <a:lnTo>
                  <a:pt x="76" y="250"/>
                </a:lnTo>
                <a:close/>
                <a:moveTo>
                  <a:pt x="374" y="166"/>
                </a:moveTo>
                <a:lnTo>
                  <a:pt x="374" y="188"/>
                </a:lnTo>
                <a:lnTo>
                  <a:pt x="378" y="209"/>
                </a:lnTo>
                <a:lnTo>
                  <a:pt x="380" y="228"/>
                </a:lnTo>
                <a:lnTo>
                  <a:pt x="384" y="248"/>
                </a:lnTo>
                <a:lnTo>
                  <a:pt x="384" y="267"/>
                </a:lnTo>
                <a:lnTo>
                  <a:pt x="384" y="287"/>
                </a:lnTo>
                <a:lnTo>
                  <a:pt x="382" y="308"/>
                </a:lnTo>
                <a:lnTo>
                  <a:pt x="378" y="331"/>
                </a:lnTo>
                <a:lnTo>
                  <a:pt x="372" y="316"/>
                </a:lnTo>
                <a:lnTo>
                  <a:pt x="365" y="304"/>
                </a:lnTo>
                <a:lnTo>
                  <a:pt x="355" y="292"/>
                </a:lnTo>
                <a:lnTo>
                  <a:pt x="345" y="283"/>
                </a:lnTo>
                <a:lnTo>
                  <a:pt x="334" y="271"/>
                </a:lnTo>
                <a:lnTo>
                  <a:pt x="322" y="261"/>
                </a:lnTo>
                <a:lnTo>
                  <a:pt x="310" y="250"/>
                </a:lnTo>
                <a:lnTo>
                  <a:pt x="303" y="242"/>
                </a:lnTo>
                <a:lnTo>
                  <a:pt x="308" y="225"/>
                </a:lnTo>
                <a:lnTo>
                  <a:pt x="314" y="199"/>
                </a:lnTo>
                <a:lnTo>
                  <a:pt x="320" y="172"/>
                </a:lnTo>
                <a:lnTo>
                  <a:pt x="330" y="147"/>
                </a:lnTo>
                <a:lnTo>
                  <a:pt x="336" y="128"/>
                </a:lnTo>
                <a:lnTo>
                  <a:pt x="347" y="122"/>
                </a:lnTo>
                <a:lnTo>
                  <a:pt x="359" y="131"/>
                </a:lnTo>
                <a:lnTo>
                  <a:pt x="374" y="166"/>
                </a:lnTo>
                <a:close/>
                <a:moveTo>
                  <a:pt x="310" y="374"/>
                </a:moveTo>
                <a:lnTo>
                  <a:pt x="291" y="372"/>
                </a:lnTo>
                <a:lnTo>
                  <a:pt x="277" y="366"/>
                </a:lnTo>
                <a:lnTo>
                  <a:pt x="266" y="354"/>
                </a:lnTo>
                <a:lnTo>
                  <a:pt x="258" y="343"/>
                </a:lnTo>
                <a:lnTo>
                  <a:pt x="250" y="327"/>
                </a:lnTo>
                <a:lnTo>
                  <a:pt x="244" y="312"/>
                </a:lnTo>
                <a:lnTo>
                  <a:pt x="237" y="296"/>
                </a:lnTo>
                <a:lnTo>
                  <a:pt x="231" y="287"/>
                </a:lnTo>
                <a:lnTo>
                  <a:pt x="233" y="269"/>
                </a:lnTo>
                <a:lnTo>
                  <a:pt x="243" y="263"/>
                </a:lnTo>
                <a:lnTo>
                  <a:pt x="254" y="271"/>
                </a:lnTo>
                <a:lnTo>
                  <a:pt x="268" y="283"/>
                </a:lnTo>
                <a:lnTo>
                  <a:pt x="277" y="294"/>
                </a:lnTo>
                <a:lnTo>
                  <a:pt x="287" y="310"/>
                </a:lnTo>
                <a:lnTo>
                  <a:pt x="293" y="323"/>
                </a:lnTo>
                <a:lnTo>
                  <a:pt x="301" y="341"/>
                </a:lnTo>
                <a:lnTo>
                  <a:pt x="305" y="356"/>
                </a:lnTo>
                <a:lnTo>
                  <a:pt x="310" y="374"/>
                </a:lnTo>
                <a:close/>
                <a:moveTo>
                  <a:pt x="142" y="463"/>
                </a:moveTo>
                <a:lnTo>
                  <a:pt x="128" y="453"/>
                </a:lnTo>
                <a:lnTo>
                  <a:pt x="116" y="442"/>
                </a:lnTo>
                <a:lnTo>
                  <a:pt x="105" y="428"/>
                </a:lnTo>
                <a:lnTo>
                  <a:pt x="97" y="415"/>
                </a:lnTo>
                <a:lnTo>
                  <a:pt x="87" y="397"/>
                </a:lnTo>
                <a:lnTo>
                  <a:pt x="84" y="382"/>
                </a:lnTo>
                <a:lnTo>
                  <a:pt x="82" y="364"/>
                </a:lnTo>
                <a:lnTo>
                  <a:pt x="85" y="347"/>
                </a:lnTo>
                <a:lnTo>
                  <a:pt x="142" y="463"/>
                </a:lnTo>
                <a:close/>
                <a:moveTo>
                  <a:pt x="623" y="186"/>
                </a:moveTo>
                <a:lnTo>
                  <a:pt x="611" y="223"/>
                </a:lnTo>
                <a:lnTo>
                  <a:pt x="588" y="215"/>
                </a:lnTo>
                <a:lnTo>
                  <a:pt x="570" y="205"/>
                </a:lnTo>
                <a:lnTo>
                  <a:pt x="555" y="190"/>
                </a:lnTo>
                <a:lnTo>
                  <a:pt x="543" y="174"/>
                </a:lnTo>
                <a:lnTo>
                  <a:pt x="532" y="153"/>
                </a:lnTo>
                <a:lnTo>
                  <a:pt x="522" y="133"/>
                </a:lnTo>
                <a:lnTo>
                  <a:pt x="514" y="114"/>
                </a:lnTo>
                <a:lnTo>
                  <a:pt x="506" y="97"/>
                </a:lnTo>
                <a:lnTo>
                  <a:pt x="514" y="79"/>
                </a:lnTo>
                <a:lnTo>
                  <a:pt x="528" y="73"/>
                </a:lnTo>
                <a:lnTo>
                  <a:pt x="541" y="75"/>
                </a:lnTo>
                <a:lnTo>
                  <a:pt x="555" y="87"/>
                </a:lnTo>
                <a:lnTo>
                  <a:pt x="563" y="97"/>
                </a:lnTo>
                <a:lnTo>
                  <a:pt x="574" y="108"/>
                </a:lnTo>
                <a:lnTo>
                  <a:pt x="584" y="120"/>
                </a:lnTo>
                <a:lnTo>
                  <a:pt x="596" y="131"/>
                </a:lnTo>
                <a:lnTo>
                  <a:pt x="603" y="143"/>
                </a:lnTo>
                <a:lnTo>
                  <a:pt x="613" y="157"/>
                </a:lnTo>
                <a:lnTo>
                  <a:pt x="617" y="170"/>
                </a:lnTo>
                <a:lnTo>
                  <a:pt x="623" y="186"/>
                </a:lnTo>
                <a:close/>
              </a:path>
            </a:pathLst>
          </a:custGeom>
          <a:solidFill>
            <a:srgbClr val="0036ff">
              <a:alpha val="50000"/>
            </a:srgbClr>
          </a:solidFill>
          <a:ln w="1800">
            <a:solidFill>
              <a:srgbClr val="003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895480" y="3489480"/>
            <a:ext cx="428760" cy="328320"/>
          </a:xfrm>
          <a:custGeom>
            <a:avLst/>
            <a:gdLst/>
            <a:ahLst/>
            <a:rect l="l" t="t" r="r" b="b"/>
            <a:pathLst>
              <a:path w="539" h="415">
                <a:moveTo>
                  <a:pt x="400" y="75"/>
                </a:moveTo>
                <a:lnTo>
                  <a:pt x="413" y="87"/>
                </a:lnTo>
                <a:lnTo>
                  <a:pt x="434" y="89"/>
                </a:lnTo>
                <a:lnTo>
                  <a:pt x="454" y="85"/>
                </a:lnTo>
                <a:lnTo>
                  <a:pt x="471" y="87"/>
                </a:lnTo>
                <a:lnTo>
                  <a:pt x="462" y="93"/>
                </a:lnTo>
                <a:lnTo>
                  <a:pt x="452" y="99"/>
                </a:lnTo>
                <a:lnTo>
                  <a:pt x="440" y="104"/>
                </a:lnTo>
                <a:lnTo>
                  <a:pt x="432" y="112"/>
                </a:lnTo>
                <a:lnTo>
                  <a:pt x="421" y="118"/>
                </a:lnTo>
                <a:lnTo>
                  <a:pt x="417" y="128"/>
                </a:lnTo>
                <a:lnTo>
                  <a:pt x="415" y="137"/>
                </a:lnTo>
                <a:lnTo>
                  <a:pt x="419" y="151"/>
                </a:lnTo>
                <a:lnTo>
                  <a:pt x="431" y="159"/>
                </a:lnTo>
                <a:lnTo>
                  <a:pt x="444" y="166"/>
                </a:lnTo>
                <a:lnTo>
                  <a:pt x="458" y="170"/>
                </a:lnTo>
                <a:lnTo>
                  <a:pt x="475" y="176"/>
                </a:lnTo>
                <a:lnTo>
                  <a:pt x="489" y="178"/>
                </a:lnTo>
                <a:lnTo>
                  <a:pt x="506" y="182"/>
                </a:lnTo>
                <a:lnTo>
                  <a:pt x="522" y="184"/>
                </a:lnTo>
                <a:lnTo>
                  <a:pt x="539" y="186"/>
                </a:lnTo>
                <a:lnTo>
                  <a:pt x="528" y="192"/>
                </a:lnTo>
                <a:lnTo>
                  <a:pt x="518" y="201"/>
                </a:lnTo>
                <a:lnTo>
                  <a:pt x="506" y="213"/>
                </a:lnTo>
                <a:lnTo>
                  <a:pt x="498" y="225"/>
                </a:lnTo>
                <a:lnTo>
                  <a:pt x="489" y="236"/>
                </a:lnTo>
                <a:lnTo>
                  <a:pt x="483" y="250"/>
                </a:lnTo>
                <a:lnTo>
                  <a:pt x="481" y="263"/>
                </a:lnTo>
                <a:lnTo>
                  <a:pt x="487" y="277"/>
                </a:lnTo>
                <a:lnTo>
                  <a:pt x="493" y="281"/>
                </a:lnTo>
                <a:lnTo>
                  <a:pt x="506" y="287"/>
                </a:lnTo>
                <a:lnTo>
                  <a:pt x="481" y="298"/>
                </a:lnTo>
                <a:lnTo>
                  <a:pt x="458" y="310"/>
                </a:lnTo>
                <a:lnTo>
                  <a:pt x="431" y="316"/>
                </a:lnTo>
                <a:lnTo>
                  <a:pt x="405" y="323"/>
                </a:lnTo>
                <a:lnTo>
                  <a:pt x="376" y="325"/>
                </a:lnTo>
                <a:lnTo>
                  <a:pt x="349" y="331"/>
                </a:lnTo>
                <a:lnTo>
                  <a:pt x="322" y="337"/>
                </a:lnTo>
                <a:lnTo>
                  <a:pt x="299" y="349"/>
                </a:lnTo>
                <a:lnTo>
                  <a:pt x="76" y="407"/>
                </a:lnTo>
                <a:lnTo>
                  <a:pt x="74" y="391"/>
                </a:lnTo>
                <a:lnTo>
                  <a:pt x="72" y="378"/>
                </a:lnTo>
                <a:lnTo>
                  <a:pt x="70" y="362"/>
                </a:lnTo>
                <a:lnTo>
                  <a:pt x="70" y="347"/>
                </a:lnTo>
                <a:lnTo>
                  <a:pt x="66" y="329"/>
                </a:lnTo>
                <a:lnTo>
                  <a:pt x="62" y="314"/>
                </a:lnTo>
                <a:lnTo>
                  <a:pt x="52" y="300"/>
                </a:lnTo>
                <a:lnTo>
                  <a:pt x="43" y="289"/>
                </a:lnTo>
                <a:lnTo>
                  <a:pt x="33" y="281"/>
                </a:lnTo>
                <a:lnTo>
                  <a:pt x="23" y="277"/>
                </a:lnTo>
                <a:lnTo>
                  <a:pt x="12" y="273"/>
                </a:lnTo>
                <a:lnTo>
                  <a:pt x="0" y="273"/>
                </a:lnTo>
                <a:lnTo>
                  <a:pt x="29" y="242"/>
                </a:lnTo>
                <a:lnTo>
                  <a:pt x="60" y="213"/>
                </a:lnTo>
                <a:lnTo>
                  <a:pt x="87" y="184"/>
                </a:lnTo>
                <a:lnTo>
                  <a:pt x="116" y="157"/>
                </a:lnTo>
                <a:lnTo>
                  <a:pt x="142" y="128"/>
                </a:lnTo>
                <a:lnTo>
                  <a:pt x="171" y="99"/>
                </a:lnTo>
                <a:lnTo>
                  <a:pt x="196" y="67"/>
                </a:lnTo>
                <a:lnTo>
                  <a:pt x="225" y="36"/>
                </a:lnTo>
                <a:lnTo>
                  <a:pt x="248" y="42"/>
                </a:lnTo>
                <a:lnTo>
                  <a:pt x="272" y="46"/>
                </a:lnTo>
                <a:lnTo>
                  <a:pt x="295" y="44"/>
                </a:lnTo>
                <a:lnTo>
                  <a:pt x="318" y="40"/>
                </a:lnTo>
                <a:lnTo>
                  <a:pt x="341" y="31"/>
                </a:lnTo>
                <a:lnTo>
                  <a:pt x="365" y="21"/>
                </a:lnTo>
                <a:lnTo>
                  <a:pt x="386" y="9"/>
                </a:lnTo>
                <a:lnTo>
                  <a:pt x="407" y="0"/>
                </a:lnTo>
                <a:lnTo>
                  <a:pt x="400" y="13"/>
                </a:lnTo>
                <a:lnTo>
                  <a:pt x="394" y="35"/>
                </a:lnTo>
                <a:lnTo>
                  <a:pt x="390" y="54"/>
                </a:lnTo>
                <a:lnTo>
                  <a:pt x="400" y="75"/>
                </a:lnTo>
                <a:close/>
                <a:moveTo>
                  <a:pt x="45" y="339"/>
                </a:moveTo>
                <a:lnTo>
                  <a:pt x="48" y="356"/>
                </a:lnTo>
                <a:lnTo>
                  <a:pt x="54" y="376"/>
                </a:lnTo>
                <a:lnTo>
                  <a:pt x="54" y="395"/>
                </a:lnTo>
                <a:lnTo>
                  <a:pt x="50" y="415"/>
                </a:lnTo>
                <a:lnTo>
                  <a:pt x="50" y="399"/>
                </a:lnTo>
                <a:lnTo>
                  <a:pt x="50" y="384"/>
                </a:lnTo>
                <a:lnTo>
                  <a:pt x="47" y="368"/>
                </a:lnTo>
                <a:lnTo>
                  <a:pt x="45" y="353"/>
                </a:lnTo>
                <a:lnTo>
                  <a:pt x="37" y="337"/>
                </a:lnTo>
                <a:lnTo>
                  <a:pt x="29" y="325"/>
                </a:lnTo>
                <a:lnTo>
                  <a:pt x="17" y="312"/>
                </a:lnTo>
                <a:lnTo>
                  <a:pt x="4" y="304"/>
                </a:lnTo>
                <a:lnTo>
                  <a:pt x="17" y="304"/>
                </a:lnTo>
                <a:lnTo>
                  <a:pt x="29" y="312"/>
                </a:lnTo>
                <a:lnTo>
                  <a:pt x="39" y="325"/>
                </a:lnTo>
                <a:lnTo>
                  <a:pt x="45" y="339"/>
                </a:lnTo>
                <a:close/>
              </a:path>
            </a:pathLst>
          </a:custGeom>
          <a:solidFill>
            <a:srgbClr val="fff5b8">
              <a:alpha val="50000"/>
            </a:srgbClr>
          </a:solidFill>
          <a:ln w="1800">
            <a:solidFill>
              <a:srgbClr val="fff5b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02040" y="2374920"/>
            <a:ext cx="3073320" cy="2855880"/>
          </a:xfrm>
          <a:custGeom>
            <a:avLst/>
            <a:gdLst/>
            <a:ahLst/>
            <a:rect l="l" t="t" r="r" b="b"/>
            <a:pathLst>
              <a:path w="3873" h="3597">
                <a:moveTo>
                  <a:pt x="3873" y="3081"/>
                </a:moveTo>
                <a:lnTo>
                  <a:pt x="3873" y="3081"/>
                </a:lnTo>
                <a:lnTo>
                  <a:pt x="3795" y="3103"/>
                </a:lnTo>
                <a:lnTo>
                  <a:pt x="3720" y="3120"/>
                </a:lnTo>
                <a:lnTo>
                  <a:pt x="3640" y="3134"/>
                </a:lnTo>
                <a:lnTo>
                  <a:pt x="3560" y="3145"/>
                </a:lnTo>
                <a:lnTo>
                  <a:pt x="3483" y="3161"/>
                </a:lnTo>
                <a:lnTo>
                  <a:pt x="3405" y="3174"/>
                </a:lnTo>
                <a:lnTo>
                  <a:pt x="3328" y="3194"/>
                </a:lnTo>
                <a:lnTo>
                  <a:pt x="3258" y="3215"/>
                </a:lnTo>
                <a:lnTo>
                  <a:pt x="3165" y="3242"/>
                </a:lnTo>
                <a:lnTo>
                  <a:pt x="3074" y="3271"/>
                </a:lnTo>
                <a:lnTo>
                  <a:pt x="2983" y="3298"/>
                </a:lnTo>
                <a:lnTo>
                  <a:pt x="2891" y="3326"/>
                </a:lnTo>
                <a:lnTo>
                  <a:pt x="2800" y="3351"/>
                </a:lnTo>
                <a:lnTo>
                  <a:pt x="2709" y="3374"/>
                </a:lnTo>
                <a:lnTo>
                  <a:pt x="2614" y="3393"/>
                </a:lnTo>
                <a:lnTo>
                  <a:pt x="2521" y="3407"/>
                </a:lnTo>
                <a:lnTo>
                  <a:pt x="2308" y="3450"/>
                </a:lnTo>
                <a:lnTo>
                  <a:pt x="2290" y="3446"/>
                </a:lnTo>
                <a:lnTo>
                  <a:pt x="2277" y="3440"/>
                </a:lnTo>
                <a:lnTo>
                  <a:pt x="2259" y="3432"/>
                </a:lnTo>
                <a:lnTo>
                  <a:pt x="2248" y="3426"/>
                </a:lnTo>
                <a:lnTo>
                  <a:pt x="2232" y="3421"/>
                </a:lnTo>
                <a:lnTo>
                  <a:pt x="2217" y="3413"/>
                </a:lnTo>
                <a:lnTo>
                  <a:pt x="2203" y="3407"/>
                </a:lnTo>
                <a:lnTo>
                  <a:pt x="2193" y="3395"/>
                </a:lnTo>
                <a:lnTo>
                  <a:pt x="2228" y="3395"/>
                </a:lnTo>
                <a:lnTo>
                  <a:pt x="2261" y="3388"/>
                </a:lnTo>
                <a:lnTo>
                  <a:pt x="2294" y="3374"/>
                </a:lnTo>
                <a:lnTo>
                  <a:pt x="2329" y="3359"/>
                </a:lnTo>
                <a:lnTo>
                  <a:pt x="2362" y="3347"/>
                </a:lnTo>
                <a:lnTo>
                  <a:pt x="2393" y="3333"/>
                </a:lnTo>
                <a:lnTo>
                  <a:pt x="2428" y="3326"/>
                </a:lnTo>
                <a:lnTo>
                  <a:pt x="2467" y="3320"/>
                </a:lnTo>
                <a:lnTo>
                  <a:pt x="2505" y="3314"/>
                </a:lnTo>
                <a:lnTo>
                  <a:pt x="2544" y="3302"/>
                </a:lnTo>
                <a:lnTo>
                  <a:pt x="2583" y="3293"/>
                </a:lnTo>
                <a:lnTo>
                  <a:pt x="2624" y="3281"/>
                </a:lnTo>
                <a:lnTo>
                  <a:pt x="2663" y="3273"/>
                </a:lnTo>
                <a:lnTo>
                  <a:pt x="2703" y="3263"/>
                </a:lnTo>
                <a:lnTo>
                  <a:pt x="2744" y="3256"/>
                </a:lnTo>
                <a:lnTo>
                  <a:pt x="2785" y="3244"/>
                </a:lnTo>
                <a:lnTo>
                  <a:pt x="2843" y="3240"/>
                </a:lnTo>
                <a:lnTo>
                  <a:pt x="2903" y="3227"/>
                </a:lnTo>
                <a:lnTo>
                  <a:pt x="2961" y="3213"/>
                </a:lnTo>
                <a:lnTo>
                  <a:pt x="3021" y="3194"/>
                </a:lnTo>
                <a:lnTo>
                  <a:pt x="3078" y="3176"/>
                </a:lnTo>
                <a:lnTo>
                  <a:pt x="3136" y="3157"/>
                </a:lnTo>
                <a:lnTo>
                  <a:pt x="3194" y="3137"/>
                </a:lnTo>
                <a:lnTo>
                  <a:pt x="3254" y="3118"/>
                </a:lnTo>
                <a:lnTo>
                  <a:pt x="3305" y="3089"/>
                </a:lnTo>
                <a:lnTo>
                  <a:pt x="3359" y="3064"/>
                </a:lnTo>
                <a:lnTo>
                  <a:pt x="3413" y="3044"/>
                </a:lnTo>
                <a:lnTo>
                  <a:pt x="3471" y="3027"/>
                </a:lnTo>
                <a:lnTo>
                  <a:pt x="3528" y="3011"/>
                </a:lnTo>
                <a:lnTo>
                  <a:pt x="3586" y="2996"/>
                </a:lnTo>
                <a:lnTo>
                  <a:pt x="3644" y="2982"/>
                </a:lnTo>
                <a:lnTo>
                  <a:pt x="3702" y="2963"/>
                </a:lnTo>
                <a:lnTo>
                  <a:pt x="3824" y="2887"/>
                </a:lnTo>
                <a:lnTo>
                  <a:pt x="3828" y="2911"/>
                </a:lnTo>
                <a:lnTo>
                  <a:pt x="3836" y="2934"/>
                </a:lnTo>
                <a:lnTo>
                  <a:pt x="3842" y="2957"/>
                </a:lnTo>
                <a:lnTo>
                  <a:pt x="3848" y="2982"/>
                </a:lnTo>
                <a:lnTo>
                  <a:pt x="3853" y="3007"/>
                </a:lnTo>
                <a:lnTo>
                  <a:pt x="3859" y="3031"/>
                </a:lnTo>
                <a:lnTo>
                  <a:pt x="3865" y="3058"/>
                </a:lnTo>
                <a:lnTo>
                  <a:pt x="3873" y="3081"/>
                </a:lnTo>
                <a:close/>
                <a:moveTo>
                  <a:pt x="489" y="1101"/>
                </a:moveTo>
                <a:lnTo>
                  <a:pt x="489" y="1126"/>
                </a:lnTo>
                <a:lnTo>
                  <a:pt x="353" y="1215"/>
                </a:lnTo>
                <a:lnTo>
                  <a:pt x="318" y="1119"/>
                </a:lnTo>
                <a:lnTo>
                  <a:pt x="285" y="1016"/>
                </a:lnTo>
                <a:lnTo>
                  <a:pt x="250" y="913"/>
                </a:lnTo>
                <a:lnTo>
                  <a:pt x="219" y="812"/>
                </a:lnTo>
                <a:lnTo>
                  <a:pt x="178" y="715"/>
                </a:lnTo>
                <a:lnTo>
                  <a:pt x="136" y="616"/>
                </a:lnTo>
                <a:lnTo>
                  <a:pt x="87" y="521"/>
                </a:lnTo>
                <a:lnTo>
                  <a:pt x="29" y="430"/>
                </a:lnTo>
                <a:lnTo>
                  <a:pt x="10" y="422"/>
                </a:lnTo>
                <a:lnTo>
                  <a:pt x="2" y="409"/>
                </a:lnTo>
                <a:lnTo>
                  <a:pt x="0" y="395"/>
                </a:lnTo>
                <a:lnTo>
                  <a:pt x="6" y="378"/>
                </a:lnTo>
                <a:lnTo>
                  <a:pt x="13" y="364"/>
                </a:lnTo>
                <a:lnTo>
                  <a:pt x="23" y="347"/>
                </a:lnTo>
                <a:lnTo>
                  <a:pt x="33" y="329"/>
                </a:lnTo>
                <a:lnTo>
                  <a:pt x="39" y="312"/>
                </a:lnTo>
                <a:lnTo>
                  <a:pt x="54" y="296"/>
                </a:lnTo>
                <a:lnTo>
                  <a:pt x="72" y="279"/>
                </a:lnTo>
                <a:lnTo>
                  <a:pt x="87" y="263"/>
                </a:lnTo>
                <a:lnTo>
                  <a:pt x="105" y="248"/>
                </a:lnTo>
                <a:lnTo>
                  <a:pt x="118" y="232"/>
                </a:lnTo>
                <a:lnTo>
                  <a:pt x="136" y="213"/>
                </a:lnTo>
                <a:lnTo>
                  <a:pt x="153" y="195"/>
                </a:lnTo>
                <a:lnTo>
                  <a:pt x="170" y="174"/>
                </a:lnTo>
                <a:lnTo>
                  <a:pt x="196" y="296"/>
                </a:lnTo>
                <a:lnTo>
                  <a:pt x="229" y="415"/>
                </a:lnTo>
                <a:lnTo>
                  <a:pt x="266" y="531"/>
                </a:lnTo>
                <a:lnTo>
                  <a:pt x="308" y="645"/>
                </a:lnTo>
                <a:lnTo>
                  <a:pt x="353" y="764"/>
                </a:lnTo>
                <a:lnTo>
                  <a:pt x="397" y="874"/>
                </a:lnTo>
                <a:lnTo>
                  <a:pt x="442" y="989"/>
                </a:lnTo>
                <a:lnTo>
                  <a:pt x="489" y="1101"/>
                </a:lnTo>
                <a:close/>
                <a:moveTo>
                  <a:pt x="77" y="197"/>
                </a:moveTo>
                <a:lnTo>
                  <a:pt x="85" y="174"/>
                </a:lnTo>
                <a:lnTo>
                  <a:pt x="93" y="149"/>
                </a:lnTo>
                <a:lnTo>
                  <a:pt x="99" y="126"/>
                </a:lnTo>
                <a:lnTo>
                  <a:pt x="108" y="100"/>
                </a:lnTo>
                <a:lnTo>
                  <a:pt x="112" y="77"/>
                </a:lnTo>
                <a:lnTo>
                  <a:pt x="118" y="50"/>
                </a:lnTo>
                <a:lnTo>
                  <a:pt x="124" y="25"/>
                </a:lnTo>
                <a:lnTo>
                  <a:pt x="130" y="0"/>
                </a:lnTo>
                <a:lnTo>
                  <a:pt x="147" y="75"/>
                </a:lnTo>
                <a:lnTo>
                  <a:pt x="77" y="197"/>
                </a:lnTo>
                <a:close/>
                <a:moveTo>
                  <a:pt x="1309" y="3068"/>
                </a:moveTo>
                <a:lnTo>
                  <a:pt x="1363" y="3135"/>
                </a:lnTo>
                <a:lnTo>
                  <a:pt x="1427" y="3194"/>
                </a:lnTo>
                <a:lnTo>
                  <a:pt x="1493" y="3244"/>
                </a:lnTo>
                <a:lnTo>
                  <a:pt x="1567" y="3287"/>
                </a:lnTo>
                <a:lnTo>
                  <a:pt x="1639" y="3327"/>
                </a:lnTo>
                <a:lnTo>
                  <a:pt x="1716" y="3359"/>
                </a:lnTo>
                <a:lnTo>
                  <a:pt x="1792" y="3391"/>
                </a:lnTo>
                <a:lnTo>
                  <a:pt x="1867" y="3421"/>
                </a:lnTo>
                <a:lnTo>
                  <a:pt x="1889" y="3407"/>
                </a:lnTo>
                <a:lnTo>
                  <a:pt x="1910" y="3391"/>
                </a:lnTo>
                <a:lnTo>
                  <a:pt x="1931" y="3378"/>
                </a:lnTo>
                <a:lnTo>
                  <a:pt x="1955" y="3364"/>
                </a:lnTo>
                <a:lnTo>
                  <a:pt x="1978" y="3351"/>
                </a:lnTo>
                <a:lnTo>
                  <a:pt x="2001" y="3337"/>
                </a:lnTo>
                <a:lnTo>
                  <a:pt x="2023" y="3327"/>
                </a:lnTo>
                <a:lnTo>
                  <a:pt x="2048" y="3314"/>
                </a:lnTo>
                <a:lnTo>
                  <a:pt x="2054" y="3329"/>
                </a:lnTo>
                <a:lnTo>
                  <a:pt x="2061" y="3339"/>
                </a:lnTo>
                <a:lnTo>
                  <a:pt x="2069" y="3351"/>
                </a:lnTo>
                <a:lnTo>
                  <a:pt x="2083" y="3357"/>
                </a:lnTo>
                <a:lnTo>
                  <a:pt x="2096" y="3366"/>
                </a:lnTo>
                <a:lnTo>
                  <a:pt x="2108" y="3372"/>
                </a:lnTo>
                <a:lnTo>
                  <a:pt x="2121" y="3376"/>
                </a:lnTo>
                <a:lnTo>
                  <a:pt x="2135" y="3378"/>
                </a:lnTo>
                <a:lnTo>
                  <a:pt x="2135" y="3388"/>
                </a:lnTo>
                <a:lnTo>
                  <a:pt x="2098" y="3395"/>
                </a:lnTo>
                <a:lnTo>
                  <a:pt x="2065" y="3403"/>
                </a:lnTo>
                <a:lnTo>
                  <a:pt x="2032" y="3411"/>
                </a:lnTo>
                <a:lnTo>
                  <a:pt x="2001" y="3421"/>
                </a:lnTo>
                <a:lnTo>
                  <a:pt x="1968" y="3430"/>
                </a:lnTo>
                <a:lnTo>
                  <a:pt x="1935" y="3440"/>
                </a:lnTo>
                <a:lnTo>
                  <a:pt x="1904" y="3448"/>
                </a:lnTo>
                <a:lnTo>
                  <a:pt x="1871" y="3454"/>
                </a:lnTo>
                <a:lnTo>
                  <a:pt x="1848" y="3448"/>
                </a:lnTo>
                <a:lnTo>
                  <a:pt x="1825" y="3442"/>
                </a:lnTo>
                <a:lnTo>
                  <a:pt x="1800" y="3434"/>
                </a:lnTo>
                <a:lnTo>
                  <a:pt x="1776" y="3428"/>
                </a:lnTo>
                <a:lnTo>
                  <a:pt x="1753" y="3423"/>
                </a:lnTo>
                <a:lnTo>
                  <a:pt x="1732" y="3411"/>
                </a:lnTo>
                <a:lnTo>
                  <a:pt x="1710" y="3403"/>
                </a:lnTo>
                <a:lnTo>
                  <a:pt x="1691" y="3388"/>
                </a:lnTo>
                <a:lnTo>
                  <a:pt x="1672" y="3390"/>
                </a:lnTo>
                <a:lnTo>
                  <a:pt x="1652" y="3386"/>
                </a:lnTo>
                <a:lnTo>
                  <a:pt x="1635" y="3384"/>
                </a:lnTo>
                <a:lnTo>
                  <a:pt x="1617" y="3376"/>
                </a:lnTo>
                <a:lnTo>
                  <a:pt x="1598" y="3372"/>
                </a:lnTo>
                <a:lnTo>
                  <a:pt x="1582" y="3366"/>
                </a:lnTo>
                <a:lnTo>
                  <a:pt x="1563" y="3359"/>
                </a:lnTo>
                <a:lnTo>
                  <a:pt x="1547" y="3353"/>
                </a:lnTo>
                <a:lnTo>
                  <a:pt x="1538" y="3351"/>
                </a:lnTo>
                <a:lnTo>
                  <a:pt x="1528" y="3347"/>
                </a:lnTo>
                <a:lnTo>
                  <a:pt x="1520" y="3345"/>
                </a:lnTo>
                <a:lnTo>
                  <a:pt x="1511" y="3339"/>
                </a:lnTo>
                <a:lnTo>
                  <a:pt x="1501" y="3337"/>
                </a:lnTo>
                <a:lnTo>
                  <a:pt x="1493" y="3333"/>
                </a:lnTo>
                <a:lnTo>
                  <a:pt x="1483" y="3331"/>
                </a:lnTo>
                <a:lnTo>
                  <a:pt x="1476" y="3327"/>
                </a:lnTo>
                <a:lnTo>
                  <a:pt x="1371" y="3289"/>
                </a:lnTo>
                <a:lnTo>
                  <a:pt x="1369" y="3252"/>
                </a:lnTo>
                <a:lnTo>
                  <a:pt x="1361" y="3217"/>
                </a:lnTo>
                <a:lnTo>
                  <a:pt x="1348" y="3184"/>
                </a:lnTo>
                <a:lnTo>
                  <a:pt x="1330" y="3153"/>
                </a:lnTo>
                <a:lnTo>
                  <a:pt x="1311" y="3122"/>
                </a:lnTo>
                <a:lnTo>
                  <a:pt x="1295" y="3091"/>
                </a:lnTo>
                <a:lnTo>
                  <a:pt x="1282" y="3060"/>
                </a:lnTo>
                <a:lnTo>
                  <a:pt x="1278" y="3023"/>
                </a:lnTo>
                <a:lnTo>
                  <a:pt x="1282" y="3027"/>
                </a:lnTo>
                <a:lnTo>
                  <a:pt x="1289" y="3031"/>
                </a:lnTo>
                <a:lnTo>
                  <a:pt x="1291" y="3039"/>
                </a:lnTo>
                <a:lnTo>
                  <a:pt x="1295" y="3042"/>
                </a:lnTo>
                <a:lnTo>
                  <a:pt x="1295" y="3050"/>
                </a:lnTo>
                <a:lnTo>
                  <a:pt x="1297" y="3058"/>
                </a:lnTo>
                <a:lnTo>
                  <a:pt x="1301" y="3064"/>
                </a:lnTo>
                <a:lnTo>
                  <a:pt x="1309" y="3068"/>
                </a:lnTo>
                <a:close/>
                <a:moveTo>
                  <a:pt x="1146" y="3225"/>
                </a:moveTo>
                <a:lnTo>
                  <a:pt x="1152" y="3296"/>
                </a:lnTo>
                <a:lnTo>
                  <a:pt x="1127" y="3287"/>
                </a:lnTo>
                <a:lnTo>
                  <a:pt x="1099" y="3273"/>
                </a:lnTo>
                <a:lnTo>
                  <a:pt x="1068" y="3260"/>
                </a:lnTo>
                <a:lnTo>
                  <a:pt x="1037" y="3248"/>
                </a:lnTo>
                <a:lnTo>
                  <a:pt x="1010" y="3232"/>
                </a:lnTo>
                <a:lnTo>
                  <a:pt x="989" y="3211"/>
                </a:lnTo>
                <a:lnTo>
                  <a:pt x="973" y="3184"/>
                </a:lnTo>
                <a:lnTo>
                  <a:pt x="969" y="3149"/>
                </a:lnTo>
                <a:lnTo>
                  <a:pt x="991" y="3159"/>
                </a:lnTo>
                <a:lnTo>
                  <a:pt x="1014" y="3167"/>
                </a:lnTo>
                <a:lnTo>
                  <a:pt x="1035" y="3178"/>
                </a:lnTo>
                <a:lnTo>
                  <a:pt x="1061" y="3186"/>
                </a:lnTo>
                <a:lnTo>
                  <a:pt x="1080" y="3198"/>
                </a:lnTo>
                <a:lnTo>
                  <a:pt x="1103" y="3207"/>
                </a:lnTo>
                <a:lnTo>
                  <a:pt x="1123" y="3219"/>
                </a:lnTo>
                <a:lnTo>
                  <a:pt x="1146" y="3225"/>
                </a:lnTo>
                <a:close/>
                <a:moveTo>
                  <a:pt x="1187" y="3351"/>
                </a:moveTo>
                <a:lnTo>
                  <a:pt x="1191" y="3382"/>
                </a:lnTo>
                <a:lnTo>
                  <a:pt x="1198" y="3409"/>
                </a:lnTo>
                <a:lnTo>
                  <a:pt x="1202" y="3436"/>
                </a:lnTo>
                <a:lnTo>
                  <a:pt x="1208" y="3465"/>
                </a:lnTo>
                <a:lnTo>
                  <a:pt x="1216" y="3492"/>
                </a:lnTo>
                <a:lnTo>
                  <a:pt x="1224" y="3521"/>
                </a:lnTo>
                <a:lnTo>
                  <a:pt x="1235" y="3547"/>
                </a:lnTo>
                <a:lnTo>
                  <a:pt x="1249" y="3570"/>
                </a:lnTo>
                <a:lnTo>
                  <a:pt x="1253" y="3574"/>
                </a:lnTo>
                <a:lnTo>
                  <a:pt x="1257" y="3574"/>
                </a:lnTo>
                <a:lnTo>
                  <a:pt x="1260" y="3576"/>
                </a:lnTo>
                <a:lnTo>
                  <a:pt x="1266" y="3576"/>
                </a:lnTo>
                <a:lnTo>
                  <a:pt x="1272" y="3574"/>
                </a:lnTo>
                <a:lnTo>
                  <a:pt x="1274" y="3570"/>
                </a:lnTo>
                <a:lnTo>
                  <a:pt x="1278" y="3564"/>
                </a:lnTo>
                <a:lnTo>
                  <a:pt x="1291" y="3566"/>
                </a:lnTo>
                <a:lnTo>
                  <a:pt x="1305" y="3566"/>
                </a:lnTo>
                <a:lnTo>
                  <a:pt x="1322" y="3564"/>
                </a:lnTo>
                <a:lnTo>
                  <a:pt x="1340" y="3560"/>
                </a:lnTo>
                <a:lnTo>
                  <a:pt x="1353" y="3562"/>
                </a:lnTo>
                <a:lnTo>
                  <a:pt x="1369" y="3562"/>
                </a:lnTo>
                <a:lnTo>
                  <a:pt x="1379" y="3570"/>
                </a:lnTo>
                <a:lnTo>
                  <a:pt x="1388" y="3582"/>
                </a:lnTo>
                <a:lnTo>
                  <a:pt x="1359" y="3583"/>
                </a:lnTo>
                <a:lnTo>
                  <a:pt x="1332" y="3585"/>
                </a:lnTo>
                <a:lnTo>
                  <a:pt x="1305" y="3589"/>
                </a:lnTo>
                <a:lnTo>
                  <a:pt x="1280" y="3593"/>
                </a:lnTo>
                <a:lnTo>
                  <a:pt x="1255" y="3597"/>
                </a:lnTo>
                <a:lnTo>
                  <a:pt x="1227" y="3595"/>
                </a:lnTo>
                <a:lnTo>
                  <a:pt x="1202" y="3593"/>
                </a:lnTo>
                <a:lnTo>
                  <a:pt x="1179" y="3583"/>
                </a:lnTo>
                <a:lnTo>
                  <a:pt x="1177" y="3351"/>
                </a:lnTo>
                <a:lnTo>
                  <a:pt x="1187" y="3351"/>
                </a:lnTo>
                <a:close/>
                <a:moveTo>
                  <a:pt x="1264" y="3353"/>
                </a:moveTo>
                <a:lnTo>
                  <a:pt x="1262" y="3364"/>
                </a:lnTo>
                <a:lnTo>
                  <a:pt x="1239" y="3360"/>
                </a:lnTo>
                <a:lnTo>
                  <a:pt x="1224" y="3351"/>
                </a:lnTo>
                <a:lnTo>
                  <a:pt x="1214" y="3337"/>
                </a:lnTo>
                <a:lnTo>
                  <a:pt x="1206" y="3318"/>
                </a:lnTo>
                <a:lnTo>
                  <a:pt x="1200" y="3300"/>
                </a:lnTo>
                <a:lnTo>
                  <a:pt x="1200" y="3240"/>
                </a:lnTo>
                <a:lnTo>
                  <a:pt x="1220" y="3248"/>
                </a:lnTo>
                <a:lnTo>
                  <a:pt x="1233" y="3256"/>
                </a:lnTo>
                <a:lnTo>
                  <a:pt x="1239" y="3271"/>
                </a:lnTo>
                <a:lnTo>
                  <a:pt x="1245" y="3283"/>
                </a:lnTo>
                <a:lnTo>
                  <a:pt x="1247" y="3302"/>
                </a:lnTo>
                <a:lnTo>
                  <a:pt x="1253" y="3320"/>
                </a:lnTo>
                <a:lnTo>
                  <a:pt x="1257" y="3339"/>
                </a:lnTo>
                <a:lnTo>
                  <a:pt x="1264" y="3353"/>
                </a:lnTo>
                <a:close/>
                <a:moveTo>
                  <a:pt x="1456" y="3504"/>
                </a:moveTo>
                <a:lnTo>
                  <a:pt x="1445" y="3510"/>
                </a:lnTo>
                <a:lnTo>
                  <a:pt x="1431" y="3516"/>
                </a:lnTo>
                <a:lnTo>
                  <a:pt x="1419" y="3521"/>
                </a:lnTo>
                <a:lnTo>
                  <a:pt x="1410" y="3525"/>
                </a:lnTo>
                <a:lnTo>
                  <a:pt x="1398" y="3531"/>
                </a:lnTo>
                <a:lnTo>
                  <a:pt x="1390" y="3529"/>
                </a:lnTo>
                <a:lnTo>
                  <a:pt x="1381" y="3523"/>
                </a:lnTo>
                <a:lnTo>
                  <a:pt x="1375" y="3510"/>
                </a:lnTo>
                <a:lnTo>
                  <a:pt x="1355" y="3452"/>
                </a:lnTo>
                <a:lnTo>
                  <a:pt x="1456" y="3504"/>
                </a:lnTo>
                <a:close/>
                <a:moveTo>
                  <a:pt x="1344" y="3308"/>
                </a:moveTo>
                <a:lnTo>
                  <a:pt x="1348" y="3308"/>
                </a:lnTo>
                <a:lnTo>
                  <a:pt x="1350" y="3306"/>
                </a:lnTo>
                <a:lnTo>
                  <a:pt x="1355" y="3306"/>
                </a:lnTo>
                <a:lnTo>
                  <a:pt x="1361" y="3318"/>
                </a:lnTo>
                <a:lnTo>
                  <a:pt x="1371" y="3329"/>
                </a:lnTo>
                <a:lnTo>
                  <a:pt x="1377" y="3339"/>
                </a:lnTo>
                <a:lnTo>
                  <a:pt x="1388" y="3349"/>
                </a:lnTo>
                <a:lnTo>
                  <a:pt x="1392" y="3360"/>
                </a:lnTo>
                <a:lnTo>
                  <a:pt x="1398" y="3372"/>
                </a:lnTo>
                <a:lnTo>
                  <a:pt x="1404" y="3386"/>
                </a:lnTo>
                <a:lnTo>
                  <a:pt x="1408" y="3395"/>
                </a:lnTo>
                <a:lnTo>
                  <a:pt x="1398" y="3403"/>
                </a:lnTo>
                <a:lnTo>
                  <a:pt x="1390" y="3407"/>
                </a:lnTo>
                <a:lnTo>
                  <a:pt x="1379" y="3409"/>
                </a:lnTo>
                <a:lnTo>
                  <a:pt x="1359" y="3409"/>
                </a:lnTo>
                <a:lnTo>
                  <a:pt x="1352" y="3407"/>
                </a:lnTo>
                <a:lnTo>
                  <a:pt x="1340" y="3407"/>
                </a:lnTo>
                <a:lnTo>
                  <a:pt x="1334" y="3403"/>
                </a:lnTo>
                <a:lnTo>
                  <a:pt x="1328" y="3390"/>
                </a:lnTo>
                <a:lnTo>
                  <a:pt x="1321" y="3374"/>
                </a:lnTo>
                <a:lnTo>
                  <a:pt x="1315" y="3359"/>
                </a:lnTo>
                <a:lnTo>
                  <a:pt x="1311" y="3345"/>
                </a:lnTo>
                <a:lnTo>
                  <a:pt x="1303" y="3329"/>
                </a:lnTo>
                <a:lnTo>
                  <a:pt x="1301" y="3314"/>
                </a:lnTo>
                <a:lnTo>
                  <a:pt x="1297" y="3298"/>
                </a:lnTo>
                <a:lnTo>
                  <a:pt x="1295" y="3281"/>
                </a:lnTo>
                <a:lnTo>
                  <a:pt x="1299" y="3287"/>
                </a:lnTo>
                <a:lnTo>
                  <a:pt x="1305" y="3289"/>
                </a:lnTo>
                <a:lnTo>
                  <a:pt x="1313" y="3291"/>
                </a:lnTo>
                <a:lnTo>
                  <a:pt x="1321" y="3293"/>
                </a:lnTo>
                <a:lnTo>
                  <a:pt x="1324" y="3296"/>
                </a:lnTo>
                <a:lnTo>
                  <a:pt x="1332" y="3298"/>
                </a:lnTo>
                <a:lnTo>
                  <a:pt x="1338" y="3302"/>
                </a:lnTo>
                <a:lnTo>
                  <a:pt x="1344" y="3308"/>
                </a:lnTo>
                <a:close/>
                <a:moveTo>
                  <a:pt x="1660" y="3426"/>
                </a:moveTo>
                <a:lnTo>
                  <a:pt x="1646" y="3444"/>
                </a:lnTo>
                <a:lnTo>
                  <a:pt x="1631" y="3459"/>
                </a:lnTo>
                <a:lnTo>
                  <a:pt x="1615" y="3471"/>
                </a:lnTo>
                <a:lnTo>
                  <a:pt x="1600" y="3483"/>
                </a:lnTo>
                <a:lnTo>
                  <a:pt x="1578" y="3494"/>
                </a:lnTo>
                <a:lnTo>
                  <a:pt x="1559" y="3502"/>
                </a:lnTo>
                <a:lnTo>
                  <a:pt x="1540" y="3508"/>
                </a:lnTo>
                <a:lnTo>
                  <a:pt x="1520" y="3508"/>
                </a:lnTo>
                <a:lnTo>
                  <a:pt x="1530" y="3498"/>
                </a:lnTo>
                <a:lnTo>
                  <a:pt x="1545" y="3485"/>
                </a:lnTo>
                <a:lnTo>
                  <a:pt x="1561" y="3473"/>
                </a:lnTo>
                <a:lnTo>
                  <a:pt x="1580" y="3463"/>
                </a:lnTo>
                <a:lnTo>
                  <a:pt x="1598" y="3454"/>
                </a:lnTo>
                <a:lnTo>
                  <a:pt x="1615" y="3444"/>
                </a:lnTo>
                <a:lnTo>
                  <a:pt x="1631" y="3434"/>
                </a:lnTo>
                <a:lnTo>
                  <a:pt x="1652" y="3423"/>
                </a:lnTo>
                <a:lnTo>
                  <a:pt x="1660" y="3426"/>
                </a:lnTo>
                <a:close/>
                <a:moveTo>
                  <a:pt x="1910" y="3494"/>
                </a:moveTo>
                <a:lnTo>
                  <a:pt x="1875" y="3508"/>
                </a:lnTo>
                <a:lnTo>
                  <a:pt x="1844" y="3518"/>
                </a:lnTo>
                <a:lnTo>
                  <a:pt x="1811" y="3527"/>
                </a:lnTo>
                <a:lnTo>
                  <a:pt x="1778" y="3537"/>
                </a:lnTo>
                <a:lnTo>
                  <a:pt x="1745" y="3547"/>
                </a:lnTo>
                <a:lnTo>
                  <a:pt x="1714" y="3558"/>
                </a:lnTo>
                <a:lnTo>
                  <a:pt x="1681" y="3568"/>
                </a:lnTo>
                <a:lnTo>
                  <a:pt x="1652" y="3578"/>
                </a:lnTo>
                <a:lnTo>
                  <a:pt x="1641" y="3578"/>
                </a:lnTo>
                <a:lnTo>
                  <a:pt x="1631" y="3576"/>
                </a:lnTo>
                <a:lnTo>
                  <a:pt x="1623" y="3574"/>
                </a:lnTo>
                <a:lnTo>
                  <a:pt x="1617" y="3566"/>
                </a:lnTo>
                <a:lnTo>
                  <a:pt x="1608" y="3562"/>
                </a:lnTo>
                <a:lnTo>
                  <a:pt x="1600" y="3558"/>
                </a:lnTo>
                <a:lnTo>
                  <a:pt x="1590" y="3554"/>
                </a:lnTo>
                <a:lnTo>
                  <a:pt x="1584" y="3549"/>
                </a:lnTo>
                <a:lnTo>
                  <a:pt x="1871" y="3479"/>
                </a:lnTo>
                <a:lnTo>
                  <a:pt x="1910" y="3494"/>
                </a:lnTo>
                <a:close/>
              </a:path>
            </a:pathLst>
          </a:custGeom>
          <a:solidFill>
            <a:srgbClr val="a7ceff">
              <a:alpha val="50000"/>
            </a:srgbClr>
          </a:solidFill>
          <a:ln w="1800">
            <a:solidFill>
              <a:srgbClr val="a7ce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746440" y="4730760"/>
            <a:ext cx="638280" cy="719280"/>
          </a:xfrm>
          <a:custGeom>
            <a:avLst/>
            <a:gdLst/>
            <a:ahLst/>
            <a:rect l="l" t="t" r="r" b="b"/>
            <a:pathLst>
              <a:path w="805" h="905">
                <a:moveTo>
                  <a:pt x="545" y="85"/>
                </a:moveTo>
                <a:lnTo>
                  <a:pt x="527" y="97"/>
                </a:lnTo>
                <a:lnTo>
                  <a:pt x="518" y="114"/>
                </a:lnTo>
                <a:lnTo>
                  <a:pt x="508" y="132"/>
                </a:lnTo>
                <a:lnTo>
                  <a:pt x="500" y="149"/>
                </a:lnTo>
                <a:lnTo>
                  <a:pt x="508" y="159"/>
                </a:lnTo>
                <a:lnTo>
                  <a:pt x="512" y="168"/>
                </a:lnTo>
                <a:lnTo>
                  <a:pt x="508" y="176"/>
                </a:lnTo>
                <a:lnTo>
                  <a:pt x="502" y="186"/>
                </a:lnTo>
                <a:lnTo>
                  <a:pt x="492" y="192"/>
                </a:lnTo>
                <a:lnTo>
                  <a:pt x="483" y="198"/>
                </a:lnTo>
                <a:lnTo>
                  <a:pt x="473" y="203"/>
                </a:lnTo>
                <a:lnTo>
                  <a:pt x="465" y="211"/>
                </a:lnTo>
                <a:lnTo>
                  <a:pt x="454" y="219"/>
                </a:lnTo>
                <a:lnTo>
                  <a:pt x="448" y="229"/>
                </a:lnTo>
                <a:lnTo>
                  <a:pt x="442" y="240"/>
                </a:lnTo>
                <a:lnTo>
                  <a:pt x="438" y="252"/>
                </a:lnTo>
                <a:lnTo>
                  <a:pt x="432" y="263"/>
                </a:lnTo>
                <a:lnTo>
                  <a:pt x="430" y="275"/>
                </a:lnTo>
                <a:lnTo>
                  <a:pt x="430" y="289"/>
                </a:lnTo>
                <a:lnTo>
                  <a:pt x="430" y="302"/>
                </a:lnTo>
                <a:lnTo>
                  <a:pt x="430" y="318"/>
                </a:lnTo>
                <a:lnTo>
                  <a:pt x="436" y="335"/>
                </a:lnTo>
                <a:lnTo>
                  <a:pt x="442" y="351"/>
                </a:lnTo>
                <a:lnTo>
                  <a:pt x="454" y="366"/>
                </a:lnTo>
                <a:lnTo>
                  <a:pt x="463" y="380"/>
                </a:lnTo>
                <a:lnTo>
                  <a:pt x="477" y="393"/>
                </a:lnTo>
                <a:lnTo>
                  <a:pt x="491" y="403"/>
                </a:lnTo>
                <a:lnTo>
                  <a:pt x="506" y="415"/>
                </a:lnTo>
                <a:lnTo>
                  <a:pt x="506" y="428"/>
                </a:lnTo>
                <a:lnTo>
                  <a:pt x="496" y="444"/>
                </a:lnTo>
                <a:lnTo>
                  <a:pt x="479" y="426"/>
                </a:lnTo>
                <a:lnTo>
                  <a:pt x="465" y="411"/>
                </a:lnTo>
                <a:lnTo>
                  <a:pt x="452" y="395"/>
                </a:lnTo>
                <a:lnTo>
                  <a:pt x="440" y="382"/>
                </a:lnTo>
                <a:lnTo>
                  <a:pt x="427" y="364"/>
                </a:lnTo>
                <a:lnTo>
                  <a:pt x="415" y="351"/>
                </a:lnTo>
                <a:lnTo>
                  <a:pt x="401" y="337"/>
                </a:lnTo>
                <a:lnTo>
                  <a:pt x="386" y="326"/>
                </a:lnTo>
                <a:lnTo>
                  <a:pt x="378" y="331"/>
                </a:lnTo>
                <a:lnTo>
                  <a:pt x="368" y="339"/>
                </a:lnTo>
                <a:lnTo>
                  <a:pt x="359" y="345"/>
                </a:lnTo>
                <a:lnTo>
                  <a:pt x="349" y="351"/>
                </a:lnTo>
                <a:lnTo>
                  <a:pt x="339" y="357"/>
                </a:lnTo>
                <a:lnTo>
                  <a:pt x="333" y="362"/>
                </a:lnTo>
                <a:lnTo>
                  <a:pt x="330" y="370"/>
                </a:lnTo>
                <a:lnTo>
                  <a:pt x="332" y="384"/>
                </a:lnTo>
                <a:lnTo>
                  <a:pt x="364" y="426"/>
                </a:lnTo>
                <a:lnTo>
                  <a:pt x="355" y="434"/>
                </a:lnTo>
                <a:lnTo>
                  <a:pt x="345" y="444"/>
                </a:lnTo>
                <a:lnTo>
                  <a:pt x="333" y="450"/>
                </a:lnTo>
                <a:lnTo>
                  <a:pt x="324" y="454"/>
                </a:lnTo>
                <a:lnTo>
                  <a:pt x="316" y="442"/>
                </a:lnTo>
                <a:lnTo>
                  <a:pt x="308" y="434"/>
                </a:lnTo>
                <a:lnTo>
                  <a:pt x="297" y="430"/>
                </a:lnTo>
                <a:lnTo>
                  <a:pt x="287" y="438"/>
                </a:lnTo>
                <a:lnTo>
                  <a:pt x="273" y="454"/>
                </a:lnTo>
                <a:lnTo>
                  <a:pt x="271" y="471"/>
                </a:lnTo>
                <a:lnTo>
                  <a:pt x="279" y="485"/>
                </a:lnTo>
                <a:lnTo>
                  <a:pt x="293" y="500"/>
                </a:lnTo>
                <a:lnTo>
                  <a:pt x="306" y="514"/>
                </a:lnTo>
                <a:lnTo>
                  <a:pt x="322" y="527"/>
                </a:lnTo>
                <a:lnTo>
                  <a:pt x="335" y="541"/>
                </a:lnTo>
                <a:lnTo>
                  <a:pt x="345" y="558"/>
                </a:lnTo>
                <a:lnTo>
                  <a:pt x="353" y="560"/>
                </a:lnTo>
                <a:lnTo>
                  <a:pt x="363" y="562"/>
                </a:lnTo>
                <a:lnTo>
                  <a:pt x="399" y="463"/>
                </a:lnTo>
                <a:lnTo>
                  <a:pt x="413" y="477"/>
                </a:lnTo>
                <a:lnTo>
                  <a:pt x="427" y="490"/>
                </a:lnTo>
                <a:lnTo>
                  <a:pt x="440" y="502"/>
                </a:lnTo>
                <a:lnTo>
                  <a:pt x="460" y="514"/>
                </a:lnTo>
                <a:lnTo>
                  <a:pt x="461" y="527"/>
                </a:lnTo>
                <a:lnTo>
                  <a:pt x="469" y="533"/>
                </a:lnTo>
                <a:lnTo>
                  <a:pt x="475" y="531"/>
                </a:lnTo>
                <a:lnTo>
                  <a:pt x="485" y="527"/>
                </a:lnTo>
                <a:lnTo>
                  <a:pt x="492" y="518"/>
                </a:lnTo>
                <a:lnTo>
                  <a:pt x="504" y="510"/>
                </a:lnTo>
                <a:lnTo>
                  <a:pt x="516" y="504"/>
                </a:lnTo>
                <a:lnTo>
                  <a:pt x="527" y="506"/>
                </a:lnTo>
                <a:lnTo>
                  <a:pt x="318" y="808"/>
                </a:lnTo>
                <a:lnTo>
                  <a:pt x="289" y="843"/>
                </a:lnTo>
                <a:lnTo>
                  <a:pt x="260" y="859"/>
                </a:lnTo>
                <a:lnTo>
                  <a:pt x="229" y="857"/>
                </a:lnTo>
                <a:lnTo>
                  <a:pt x="198" y="847"/>
                </a:lnTo>
                <a:lnTo>
                  <a:pt x="163" y="828"/>
                </a:lnTo>
                <a:lnTo>
                  <a:pt x="130" y="808"/>
                </a:lnTo>
                <a:lnTo>
                  <a:pt x="97" y="791"/>
                </a:lnTo>
                <a:lnTo>
                  <a:pt x="68" y="783"/>
                </a:lnTo>
                <a:lnTo>
                  <a:pt x="54" y="775"/>
                </a:lnTo>
                <a:lnTo>
                  <a:pt x="52" y="768"/>
                </a:lnTo>
                <a:lnTo>
                  <a:pt x="52" y="756"/>
                </a:lnTo>
                <a:lnTo>
                  <a:pt x="56" y="746"/>
                </a:lnTo>
                <a:lnTo>
                  <a:pt x="95" y="677"/>
                </a:lnTo>
                <a:lnTo>
                  <a:pt x="140" y="611"/>
                </a:lnTo>
                <a:lnTo>
                  <a:pt x="186" y="547"/>
                </a:lnTo>
                <a:lnTo>
                  <a:pt x="233" y="483"/>
                </a:lnTo>
                <a:lnTo>
                  <a:pt x="279" y="417"/>
                </a:lnTo>
                <a:lnTo>
                  <a:pt x="326" y="351"/>
                </a:lnTo>
                <a:lnTo>
                  <a:pt x="370" y="285"/>
                </a:lnTo>
                <a:lnTo>
                  <a:pt x="415" y="219"/>
                </a:lnTo>
                <a:lnTo>
                  <a:pt x="428" y="201"/>
                </a:lnTo>
                <a:lnTo>
                  <a:pt x="442" y="184"/>
                </a:lnTo>
                <a:lnTo>
                  <a:pt x="456" y="166"/>
                </a:lnTo>
                <a:lnTo>
                  <a:pt x="469" y="149"/>
                </a:lnTo>
                <a:lnTo>
                  <a:pt x="481" y="130"/>
                </a:lnTo>
                <a:lnTo>
                  <a:pt x="494" y="112"/>
                </a:lnTo>
                <a:lnTo>
                  <a:pt x="506" y="95"/>
                </a:lnTo>
                <a:lnTo>
                  <a:pt x="520" y="79"/>
                </a:lnTo>
                <a:lnTo>
                  <a:pt x="545" y="85"/>
                </a:lnTo>
                <a:close/>
                <a:moveTo>
                  <a:pt x="805" y="155"/>
                </a:moveTo>
                <a:lnTo>
                  <a:pt x="758" y="219"/>
                </a:lnTo>
                <a:lnTo>
                  <a:pt x="716" y="287"/>
                </a:lnTo>
                <a:lnTo>
                  <a:pt x="671" y="353"/>
                </a:lnTo>
                <a:lnTo>
                  <a:pt x="626" y="421"/>
                </a:lnTo>
                <a:lnTo>
                  <a:pt x="580" y="485"/>
                </a:lnTo>
                <a:lnTo>
                  <a:pt x="533" y="550"/>
                </a:lnTo>
                <a:lnTo>
                  <a:pt x="483" y="614"/>
                </a:lnTo>
                <a:lnTo>
                  <a:pt x="432" y="677"/>
                </a:lnTo>
                <a:lnTo>
                  <a:pt x="473" y="618"/>
                </a:lnTo>
                <a:lnTo>
                  <a:pt x="516" y="562"/>
                </a:lnTo>
                <a:lnTo>
                  <a:pt x="556" y="504"/>
                </a:lnTo>
                <a:lnTo>
                  <a:pt x="597" y="446"/>
                </a:lnTo>
                <a:lnTo>
                  <a:pt x="634" y="384"/>
                </a:lnTo>
                <a:lnTo>
                  <a:pt x="673" y="326"/>
                </a:lnTo>
                <a:lnTo>
                  <a:pt x="708" y="263"/>
                </a:lnTo>
                <a:lnTo>
                  <a:pt x="745" y="205"/>
                </a:lnTo>
                <a:lnTo>
                  <a:pt x="741" y="194"/>
                </a:lnTo>
                <a:lnTo>
                  <a:pt x="737" y="186"/>
                </a:lnTo>
                <a:lnTo>
                  <a:pt x="729" y="178"/>
                </a:lnTo>
                <a:lnTo>
                  <a:pt x="723" y="172"/>
                </a:lnTo>
                <a:lnTo>
                  <a:pt x="708" y="159"/>
                </a:lnTo>
                <a:lnTo>
                  <a:pt x="694" y="151"/>
                </a:lnTo>
                <a:lnTo>
                  <a:pt x="675" y="132"/>
                </a:lnTo>
                <a:lnTo>
                  <a:pt x="657" y="118"/>
                </a:lnTo>
                <a:lnTo>
                  <a:pt x="638" y="106"/>
                </a:lnTo>
                <a:lnTo>
                  <a:pt x="619" y="97"/>
                </a:lnTo>
                <a:lnTo>
                  <a:pt x="595" y="87"/>
                </a:lnTo>
                <a:lnTo>
                  <a:pt x="576" y="79"/>
                </a:lnTo>
                <a:lnTo>
                  <a:pt x="555" y="68"/>
                </a:lnTo>
                <a:lnTo>
                  <a:pt x="537" y="56"/>
                </a:lnTo>
                <a:lnTo>
                  <a:pt x="576" y="0"/>
                </a:lnTo>
                <a:lnTo>
                  <a:pt x="605" y="15"/>
                </a:lnTo>
                <a:lnTo>
                  <a:pt x="636" y="31"/>
                </a:lnTo>
                <a:lnTo>
                  <a:pt x="665" y="48"/>
                </a:lnTo>
                <a:lnTo>
                  <a:pt x="696" y="66"/>
                </a:lnTo>
                <a:lnTo>
                  <a:pt x="723" y="83"/>
                </a:lnTo>
                <a:lnTo>
                  <a:pt x="752" y="104"/>
                </a:lnTo>
                <a:lnTo>
                  <a:pt x="780" y="128"/>
                </a:lnTo>
                <a:lnTo>
                  <a:pt x="805" y="155"/>
                </a:lnTo>
                <a:close/>
                <a:moveTo>
                  <a:pt x="719" y="199"/>
                </a:moveTo>
                <a:lnTo>
                  <a:pt x="704" y="232"/>
                </a:lnTo>
                <a:lnTo>
                  <a:pt x="688" y="265"/>
                </a:lnTo>
                <a:lnTo>
                  <a:pt x="667" y="296"/>
                </a:lnTo>
                <a:lnTo>
                  <a:pt x="648" y="329"/>
                </a:lnTo>
                <a:lnTo>
                  <a:pt x="624" y="360"/>
                </a:lnTo>
                <a:lnTo>
                  <a:pt x="605" y="391"/>
                </a:lnTo>
                <a:lnTo>
                  <a:pt x="584" y="422"/>
                </a:lnTo>
                <a:lnTo>
                  <a:pt x="568" y="457"/>
                </a:lnTo>
                <a:lnTo>
                  <a:pt x="558" y="463"/>
                </a:lnTo>
                <a:lnTo>
                  <a:pt x="551" y="471"/>
                </a:lnTo>
                <a:lnTo>
                  <a:pt x="543" y="479"/>
                </a:lnTo>
                <a:lnTo>
                  <a:pt x="531" y="481"/>
                </a:lnTo>
                <a:lnTo>
                  <a:pt x="522" y="473"/>
                </a:lnTo>
                <a:lnTo>
                  <a:pt x="518" y="467"/>
                </a:lnTo>
                <a:lnTo>
                  <a:pt x="516" y="461"/>
                </a:lnTo>
                <a:lnTo>
                  <a:pt x="522" y="455"/>
                </a:lnTo>
                <a:lnTo>
                  <a:pt x="527" y="440"/>
                </a:lnTo>
                <a:lnTo>
                  <a:pt x="531" y="426"/>
                </a:lnTo>
                <a:lnTo>
                  <a:pt x="547" y="428"/>
                </a:lnTo>
                <a:lnTo>
                  <a:pt x="562" y="421"/>
                </a:lnTo>
                <a:lnTo>
                  <a:pt x="574" y="405"/>
                </a:lnTo>
                <a:lnTo>
                  <a:pt x="580" y="391"/>
                </a:lnTo>
                <a:lnTo>
                  <a:pt x="582" y="378"/>
                </a:lnTo>
                <a:lnTo>
                  <a:pt x="586" y="366"/>
                </a:lnTo>
                <a:lnTo>
                  <a:pt x="586" y="353"/>
                </a:lnTo>
                <a:lnTo>
                  <a:pt x="588" y="339"/>
                </a:lnTo>
                <a:lnTo>
                  <a:pt x="586" y="326"/>
                </a:lnTo>
                <a:lnTo>
                  <a:pt x="586" y="312"/>
                </a:lnTo>
                <a:lnTo>
                  <a:pt x="582" y="300"/>
                </a:lnTo>
                <a:lnTo>
                  <a:pt x="580" y="289"/>
                </a:lnTo>
                <a:lnTo>
                  <a:pt x="597" y="298"/>
                </a:lnTo>
                <a:lnTo>
                  <a:pt x="617" y="308"/>
                </a:lnTo>
                <a:lnTo>
                  <a:pt x="636" y="312"/>
                </a:lnTo>
                <a:lnTo>
                  <a:pt x="657" y="308"/>
                </a:lnTo>
                <a:lnTo>
                  <a:pt x="671" y="294"/>
                </a:lnTo>
                <a:lnTo>
                  <a:pt x="681" y="281"/>
                </a:lnTo>
                <a:lnTo>
                  <a:pt x="684" y="263"/>
                </a:lnTo>
                <a:lnTo>
                  <a:pt x="686" y="248"/>
                </a:lnTo>
                <a:lnTo>
                  <a:pt x="684" y="229"/>
                </a:lnTo>
                <a:lnTo>
                  <a:pt x="683" y="211"/>
                </a:lnTo>
                <a:lnTo>
                  <a:pt x="681" y="192"/>
                </a:lnTo>
                <a:lnTo>
                  <a:pt x="683" y="174"/>
                </a:lnTo>
                <a:lnTo>
                  <a:pt x="690" y="176"/>
                </a:lnTo>
                <a:lnTo>
                  <a:pt x="700" y="184"/>
                </a:lnTo>
                <a:lnTo>
                  <a:pt x="708" y="192"/>
                </a:lnTo>
                <a:lnTo>
                  <a:pt x="719" y="199"/>
                </a:lnTo>
                <a:close/>
                <a:moveTo>
                  <a:pt x="551" y="366"/>
                </a:moveTo>
                <a:lnTo>
                  <a:pt x="541" y="370"/>
                </a:lnTo>
                <a:lnTo>
                  <a:pt x="535" y="368"/>
                </a:lnTo>
                <a:lnTo>
                  <a:pt x="525" y="353"/>
                </a:lnTo>
                <a:lnTo>
                  <a:pt x="518" y="339"/>
                </a:lnTo>
                <a:lnTo>
                  <a:pt x="510" y="324"/>
                </a:lnTo>
                <a:lnTo>
                  <a:pt x="504" y="310"/>
                </a:lnTo>
                <a:lnTo>
                  <a:pt x="498" y="294"/>
                </a:lnTo>
                <a:lnTo>
                  <a:pt x="492" y="281"/>
                </a:lnTo>
                <a:lnTo>
                  <a:pt x="487" y="267"/>
                </a:lnTo>
                <a:lnTo>
                  <a:pt x="481" y="256"/>
                </a:lnTo>
                <a:lnTo>
                  <a:pt x="496" y="262"/>
                </a:lnTo>
                <a:lnTo>
                  <a:pt x="512" y="271"/>
                </a:lnTo>
                <a:lnTo>
                  <a:pt x="522" y="283"/>
                </a:lnTo>
                <a:lnTo>
                  <a:pt x="533" y="298"/>
                </a:lnTo>
                <a:lnTo>
                  <a:pt x="539" y="314"/>
                </a:lnTo>
                <a:lnTo>
                  <a:pt x="545" y="331"/>
                </a:lnTo>
                <a:lnTo>
                  <a:pt x="547" y="349"/>
                </a:lnTo>
                <a:lnTo>
                  <a:pt x="551" y="366"/>
                </a:lnTo>
                <a:close/>
                <a:moveTo>
                  <a:pt x="644" y="176"/>
                </a:moveTo>
                <a:lnTo>
                  <a:pt x="642" y="188"/>
                </a:lnTo>
                <a:lnTo>
                  <a:pt x="642" y="203"/>
                </a:lnTo>
                <a:lnTo>
                  <a:pt x="640" y="215"/>
                </a:lnTo>
                <a:lnTo>
                  <a:pt x="638" y="227"/>
                </a:lnTo>
                <a:lnTo>
                  <a:pt x="624" y="221"/>
                </a:lnTo>
                <a:lnTo>
                  <a:pt x="615" y="215"/>
                </a:lnTo>
                <a:lnTo>
                  <a:pt x="605" y="209"/>
                </a:lnTo>
                <a:lnTo>
                  <a:pt x="597" y="203"/>
                </a:lnTo>
                <a:lnTo>
                  <a:pt x="580" y="194"/>
                </a:lnTo>
                <a:lnTo>
                  <a:pt x="562" y="186"/>
                </a:lnTo>
                <a:lnTo>
                  <a:pt x="555" y="174"/>
                </a:lnTo>
                <a:lnTo>
                  <a:pt x="553" y="163"/>
                </a:lnTo>
                <a:lnTo>
                  <a:pt x="553" y="151"/>
                </a:lnTo>
                <a:lnTo>
                  <a:pt x="553" y="139"/>
                </a:lnTo>
                <a:lnTo>
                  <a:pt x="568" y="132"/>
                </a:lnTo>
                <a:lnTo>
                  <a:pt x="586" y="130"/>
                </a:lnTo>
                <a:lnTo>
                  <a:pt x="601" y="132"/>
                </a:lnTo>
                <a:lnTo>
                  <a:pt x="619" y="135"/>
                </a:lnTo>
                <a:lnTo>
                  <a:pt x="644" y="176"/>
                </a:lnTo>
                <a:close/>
                <a:moveTo>
                  <a:pt x="233" y="892"/>
                </a:moveTo>
                <a:lnTo>
                  <a:pt x="246" y="892"/>
                </a:lnTo>
                <a:lnTo>
                  <a:pt x="260" y="884"/>
                </a:lnTo>
                <a:lnTo>
                  <a:pt x="266" y="880"/>
                </a:lnTo>
                <a:lnTo>
                  <a:pt x="271" y="880"/>
                </a:lnTo>
                <a:lnTo>
                  <a:pt x="275" y="884"/>
                </a:lnTo>
                <a:lnTo>
                  <a:pt x="279" y="896"/>
                </a:lnTo>
                <a:lnTo>
                  <a:pt x="260" y="903"/>
                </a:lnTo>
                <a:lnTo>
                  <a:pt x="242" y="905"/>
                </a:lnTo>
                <a:lnTo>
                  <a:pt x="225" y="901"/>
                </a:lnTo>
                <a:lnTo>
                  <a:pt x="209" y="898"/>
                </a:lnTo>
                <a:lnTo>
                  <a:pt x="192" y="888"/>
                </a:lnTo>
                <a:lnTo>
                  <a:pt x="178" y="880"/>
                </a:lnTo>
                <a:lnTo>
                  <a:pt x="163" y="870"/>
                </a:lnTo>
                <a:lnTo>
                  <a:pt x="149" y="865"/>
                </a:lnTo>
                <a:lnTo>
                  <a:pt x="128" y="857"/>
                </a:lnTo>
                <a:lnTo>
                  <a:pt x="108" y="851"/>
                </a:lnTo>
                <a:lnTo>
                  <a:pt x="89" y="843"/>
                </a:lnTo>
                <a:lnTo>
                  <a:pt x="72" y="837"/>
                </a:lnTo>
                <a:lnTo>
                  <a:pt x="52" y="828"/>
                </a:lnTo>
                <a:lnTo>
                  <a:pt x="35" y="820"/>
                </a:lnTo>
                <a:lnTo>
                  <a:pt x="17" y="808"/>
                </a:lnTo>
                <a:lnTo>
                  <a:pt x="0" y="799"/>
                </a:lnTo>
                <a:lnTo>
                  <a:pt x="10" y="783"/>
                </a:lnTo>
                <a:lnTo>
                  <a:pt x="35" y="797"/>
                </a:lnTo>
                <a:lnTo>
                  <a:pt x="62" y="812"/>
                </a:lnTo>
                <a:lnTo>
                  <a:pt x="91" y="824"/>
                </a:lnTo>
                <a:lnTo>
                  <a:pt x="120" y="836"/>
                </a:lnTo>
                <a:lnTo>
                  <a:pt x="147" y="847"/>
                </a:lnTo>
                <a:lnTo>
                  <a:pt x="176" y="859"/>
                </a:lnTo>
                <a:lnTo>
                  <a:pt x="204" y="872"/>
                </a:lnTo>
                <a:lnTo>
                  <a:pt x="233" y="892"/>
                </a:lnTo>
                <a:close/>
              </a:path>
            </a:pathLst>
          </a:custGeom>
          <a:solidFill>
            <a:srgbClr val="ccff00">
              <a:alpha val="50000"/>
            </a:srgbClr>
          </a:solidFill>
          <a:ln w="1800">
            <a:solidFill>
              <a:srgbClr val="cc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76720" y="4879800"/>
            <a:ext cx="1319040" cy="1032120"/>
          </a:xfrm>
          <a:custGeom>
            <a:avLst/>
            <a:gdLst/>
            <a:ahLst/>
            <a:rect l="l" t="t" r="r" b="b"/>
            <a:pathLst>
              <a:path w="1662" h="1299">
                <a:moveTo>
                  <a:pt x="1278" y="1255"/>
                </a:moveTo>
                <a:lnTo>
                  <a:pt x="1264" y="1268"/>
                </a:lnTo>
                <a:lnTo>
                  <a:pt x="1253" y="1282"/>
                </a:lnTo>
                <a:lnTo>
                  <a:pt x="1239" y="1293"/>
                </a:lnTo>
                <a:lnTo>
                  <a:pt x="1224" y="1299"/>
                </a:lnTo>
                <a:lnTo>
                  <a:pt x="1212" y="1286"/>
                </a:lnTo>
                <a:lnTo>
                  <a:pt x="1200" y="1274"/>
                </a:lnTo>
                <a:lnTo>
                  <a:pt x="1187" y="1264"/>
                </a:lnTo>
                <a:lnTo>
                  <a:pt x="1175" y="1258"/>
                </a:lnTo>
                <a:lnTo>
                  <a:pt x="1160" y="1251"/>
                </a:lnTo>
                <a:lnTo>
                  <a:pt x="1148" y="1243"/>
                </a:lnTo>
                <a:lnTo>
                  <a:pt x="1135" y="1235"/>
                </a:lnTo>
                <a:lnTo>
                  <a:pt x="1127" y="1227"/>
                </a:lnTo>
                <a:lnTo>
                  <a:pt x="1138" y="1214"/>
                </a:lnTo>
                <a:lnTo>
                  <a:pt x="1156" y="1216"/>
                </a:lnTo>
                <a:lnTo>
                  <a:pt x="1173" y="1220"/>
                </a:lnTo>
                <a:lnTo>
                  <a:pt x="1191" y="1222"/>
                </a:lnTo>
                <a:lnTo>
                  <a:pt x="1210" y="1227"/>
                </a:lnTo>
                <a:lnTo>
                  <a:pt x="1228" y="1233"/>
                </a:lnTo>
                <a:lnTo>
                  <a:pt x="1245" y="1239"/>
                </a:lnTo>
                <a:lnTo>
                  <a:pt x="1261" y="1245"/>
                </a:lnTo>
                <a:lnTo>
                  <a:pt x="1278" y="1255"/>
                </a:lnTo>
                <a:close/>
                <a:moveTo>
                  <a:pt x="879" y="1152"/>
                </a:moveTo>
                <a:lnTo>
                  <a:pt x="867" y="1161"/>
                </a:lnTo>
                <a:lnTo>
                  <a:pt x="855" y="1167"/>
                </a:lnTo>
                <a:lnTo>
                  <a:pt x="844" y="1163"/>
                </a:lnTo>
                <a:lnTo>
                  <a:pt x="832" y="1160"/>
                </a:lnTo>
                <a:lnTo>
                  <a:pt x="816" y="1150"/>
                </a:lnTo>
                <a:lnTo>
                  <a:pt x="803" y="1144"/>
                </a:lnTo>
                <a:lnTo>
                  <a:pt x="789" y="1138"/>
                </a:lnTo>
                <a:lnTo>
                  <a:pt x="776" y="1140"/>
                </a:lnTo>
                <a:lnTo>
                  <a:pt x="751" y="1136"/>
                </a:lnTo>
                <a:lnTo>
                  <a:pt x="751" y="1121"/>
                </a:lnTo>
                <a:lnTo>
                  <a:pt x="766" y="1119"/>
                </a:lnTo>
                <a:lnTo>
                  <a:pt x="784" y="1121"/>
                </a:lnTo>
                <a:lnTo>
                  <a:pt x="799" y="1125"/>
                </a:lnTo>
                <a:lnTo>
                  <a:pt x="816" y="1130"/>
                </a:lnTo>
                <a:lnTo>
                  <a:pt x="830" y="1136"/>
                </a:lnTo>
                <a:lnTo>
                  <a:pt x="846" y="1142"/>
                </a:lnTo>
                <a:lnTo>
                  <a:pt x="861" y="1146"/>
                </a:lnTo>
                <a:lnTo>
                  <a:pt x="879" y="1152"/>
                </a:lnTo>
                <a:close/>
                <a:moveTo>
                  <a:pt x="1565" y="1096"/>
                </a:moveTo>
                <a:lnTo>
                  <a:pt x="1482" y="1249"/>
                </a:lnTo>
                <a:lnTo>
                  <a:pt x="1462" y="1249"/>
                </a:lnTo>
                <a:lnTo>
                  <a:pt x="1445" y="1249"/>
                </a:lnTo>
                <a:lnTo>
                  <a:pt x="1425" y="1247"/>
                </a:lnTo>
                <a:lnTo>
                  <a:pt x="1408" y="1245"/>
                </a:lnTo>
                <a:lnTo>
                  <a:pt x="1391" y="1241"/>
                </a:lnTo>
                <a:lnTo>
                  <a:pt x="1373" y="1237"/>
                </a:lnTo>
                <a:lnTo>
                  <a:pt x="1356" y="1231"/>
                </a:lnTo>
                <a:lnTo>
                  <a:pt x="1340" y="1227"/>
                </a:lnTo>
                <a:lnTo>
                  <a:pt x="1358" y="1206"/>
                </a:lnTo>
                <a:lnTo>
                  <a:pt x="1375" y="1183"/>
                </a:lnTo>
                <a:lnTo>
                  <a:pt x="1389" y="1158"/>
                </a:lnTo>
                <a:lnTo>
                  <a:pt x="1402" y="1134"/>
                </a:lnTo>
                <a:lnTo>
                  <a:pt x="1412" y="1107"/>
                </a:lnTo>
                <a:lnTo>
                  <a:pt x="1425" y="1084"/>
                </a:lnTo>
                <a:lnTo>
                  <a:pt x="1437" y="1059"/>
                </a:lnTo>
                <a:lnTo>
                  <a:pt x="1455" y="1037"/>
                </a:lnTo>
                <a:lnTo>
                  <a:pt x="1466" y="1043"/>
                </a:lnTo>
                <a:lnTo>
                  <a:pt x="1482" y="1049"/>
                </a:lnTo>
                <a:lnTo>
                  <a:pt x="1495" y="1055"/>
                </a:lnTo>
                <a:lnTo>
                  <a:pt x="1511" y="1063"/>
                </a:lnTo>
                <a:lnTo>
                  <a:pt x="1524" y="1068"/>
                </a:lnTo>
                <a:lnTo>
                  <a:pt x="1538" y="1076"/>
                </a:lnTo>
                <a:lnTo>
                  <a:pt x="1552" y="1084"/>
                </a:lnTo>
                <a:lnTo>
                  <a:pt x="1565" y="1096"/>
                </a:lnTo>
                <a:close/>
                <a:moveTo>
                  <a:pt x="489" y="1053"/>
                </a:moveTo>
                <a:lnTo>
                  <a:pt x="479" y="1065"/>
                </a:lnTo>
                <a:lnTo>
                  <a:pt x="469" y="1078"/>
                </a:lnTo>
                <a:lnTo>
                  <a:pt x="454" y="1072"/>
                </a:lnTo>
                <a:lnTo>
                  <a:pt x="442" y="1070"/>
                </a:lnTo>
                <a:lnTo>
                  <a:pt x="427" y="1065"/>
                </a:lnTo>
                <a:lnTo>
                  <a:pt x="415" y="1063"/>
                </a:lnTo>
                <a:lnTo>
                  <a:pt x="403" y="1057"/>
                </a:lnTo>
                <a:lnTo>
                  <a:pt x="392" y="1051"/>
                </a:lnTo>
                <a:lnTo>
                  <a:pt x="380" y="1041"/>
                </a:lnTo>
                <a:lnTo>
                  <a:pt x="374" y="1033"/>
                </a:lnTo>
                <a:lnTo>
                  <a:pt x="378" y="1020"/>
                </a:lnTo>
                <a:lnTo>
                  <a:pt x="390" y="1018"/>
                </a:lnTo>
                <a:lnTo>
                  <a:pt x="403" y="1020"/>
                </a:lnTo>
                <a:lnTo>
                  <a:pt x="417" y="1028"/>
                </a:lnTo>
                <a:lnTo>
                  <a:pt x="489" y="1053"/>
                </a:lnTo>
                <a:close/>
                <a:moveTo>
                  <a:pt x="917" y="1101"/>
                </a:moveTo>
                <a:lnTo>
                  <a:pt x="900" y="1097"/>
                </a:lnTo>
                <a:lnTo>
                  <a:pt x="882" y="1096"/>
                </a:lnTo>
                <a:lnTo>
                  <a:pt x="865" y="1092"/>
                </a:lnTo>
                <a:lnTo>
                  <a:pt x="849" y="1088"/>
                </a:lnTo>
                <a:lnTo>
                  <a:pt x="832" y="1082"/>
                </a:lnTo>
                <a:lnTo>
                  <a:pt x="815" y="1078"/>
                </a:lnTo>
                <a:lnTo>
                  <a:pt x="797" y="1074"/>
                </a:lnTo>
                <a:lnTo>
                  <a:pt x="782" y="1072"/>
                </a:lnTo>
                <a:lnTo>
                  <a:pt x="789" y="1053"/>
                </a:lnTo>
                <a:lnTo>
                  <a:pt x="797" y="1035"/>
                </a:lnTo>
                <a:lnTo>
                  <a:pt x="809" y="1020"/>
                </a:lnTo>
                <a:lnTo>
                  <a:pt x="824" y="1012"/>
                </a:lnTo>
                <a:lnTo>
                  <a:pt x="925" y="1066"/>
                </a:lnTo>
                <a:lnTo>
                  <a:pt x="917" y="1101"/>
                </a:lnTo>
                <a:close/>
                <a:moveTo>
                  <a:pt x="128" y="944"/>
                </a:moveTo>
                <a:lnTo>
                  <a:pt x="128" y="950"/>
                </a:lnTo>
                <a:lnTo>
                  <a:pt x="124" y="958"/>
                </a:lnTo>
                <a:lnTo>
                  <a:pt x="118" y="966"/>
                </a:lnTo>
                <a:lnTo>
                  <a:pt x="114" y="973"/>
                </a:lnTo>
                <a:lnTo>
                  <a:pt x="101" y="968"/>
                </a:lnTo>
                <a:lnTo>
                  <a:pt x="89" y="962"/>
                </a:lnTo>
                <a:lnTo>
                  <a:pt x="80" y="956"/>
                </a:lnTo>
                <a:lnTo>
                  <a:pt x="70" y="950"/>
                </a:lnTo>
                <a:lnTo>
                  <a:pt x="58" y="942"/>
                </a:lnTo>
                <a:lnTo>
                  <a:pt x="49" y="935"/>
                </a:lnTo>
                <a:lnTo>
                  <a:pt x="37" y="929"/>
                </a:lnTo>
                <a:lnTo>
                  <a:pt x="27" y="927"/>
                </a:lnTo>
                <a:lnTo>
                  <a:pt x="33" y="909"/>
                </a:lnTo>
                <a:lnTo>
                  <a:pt x="43" y="915"/>
                </a:lnTo>
                <a:lnTo>
                  <a:pt x="54" y="921"/>
                </a:lnTo>
                <a:lnTo>
                  <a:pt x="66" y="925"/>
                </a:lnTo>
                <a:lnTo>
                  <a:pt x="78" y="929"/>
                </a:lnTo>
                <a:lnTo>
                  <a:pt x="89" y="931"/>
                </a:lnTo>
                <a:lnTo>
                  <a:pt x="101" y="937"/>
                </a:lnTo>
                <a:lnTo>
                  <a:pt x="114" y="938"/>
                </a:lnTo>
                <a:lnTo>
                  <a:pt x="128" y="944"/>
                </a:lnTo>
                <a:close/>
                <a:moveTo>
                  <a:pt x="1263" y="956"/>
                </a:moveTo>
                <a:lnTo>
                  <a:pt x="1150" y="1132"/>
                </a:lnTo>
                <a:lnTo>
                  <a:pt x="1127" y="1125"/>
                </a:lnTo>
                <a:lnTo>
                  <a:pt x="1105" y="1119"/>
                </a:lnTo>
                <a:lnTo>
                  <a:pt x="1084" y="1111"/>
                </a:lnTo>
                <a:lnTo>
                  <a:pt x="1063" y="1103"/>
                </a:lnTo>
                <a:lnTo>
                  <a:pt x="1040" y="1092"/>
                </a:lnTo>
                <a:lnTo>
                  <a:pt x="1016" y="1082"/>
                </a:lnTo>
                <a:lnTo>
                  <a:pt x="995" y="1070"/>
                </a:lnTo>
                <a:lnTo>
                  <a:pt x="976" y="1061"/>
                </a:lnTo>
                <a:lnTo>
                  <a:pt x="979" y="1041"/>
                </a:lnTo>
                <a:lnTo>
                  <a:pt x="991" y="1024"/>
                </a:lnTo>
                <a:lnTo>
                  <a:pt x="1003" y="1006"/>
                </a:lnTo>
                <a:lnTo>
                  <a:pt x="1016" y="989"/>
                </a:lnTo>
                <a:lnTo>
                  <a:pt x="1030" y="971"/>
                </a:lnTo>
                <a:lnTo>
                  <a:pt x="1045" y="954"/>
                </a:lnTo>
                <a:lnTo>
                  <a:pt x="1057" y="937"/>
                </a:lnTo>
                <a:lnTo>
                  <a:pt x="1069" y="919"/>
                </a:lnTo>
                <a:lnTo>
                  <a:pt x="1092" y="896"/>
                </a:lnTo>
                <a:lnTo>
                  <a:pt x="1111" y="900"/>
                </a:lnTo>
                <a:lnTo>
                  <a:pt x="1135" y="905"/>
                </a:lnTo>
                <a:lnTo>
                  <a:pt x="1154" y="913"/>
                </a:lnTo>
                <a:lnTo>
                  <a:pt x="1177" y="921"/>
                </a:lnTo>
                <a:lnTo>
                  <a:pt x="1197" y="929"/>
                </a:lnTo>
                <a:lnTo>
                  <a:pt x="1220" y="938"/>
                </a:lnTo>
                <a:lnTo>
                  <a:pt x="1239" y="946"/>
                </a:lnTo>
                <a:lnTo>
                  <a:pt x="1263" y="956"/>
                </a:lnTo>
                <a:close/>
                <a:moveTo>
                  <a:pt x="566" y="923"/>
                </a:moveTo>
                <a:lnTo>
                  <a:pt x="559" y="933"/>
                </a:lnTo>
                <a:lnTo>
                  <a:pt x="553" y="944"/>
                </a:lnTo>
                <a:lnTo>
                  <a:pt x="547" y="956"/>
                </a:lnTo>
                <a:lnTo>
                  <a:pt x="541" y="968"/>
                </a:lnTo>
                <a:lnTo>
                  <a:pt x="535" y="979"/>
                </a:lnTo>
                <a:lnTo>
                  <a:pt x="531" y="991"/>
                </a:lnTo>
                <a:lnTo>
                  <a:pt x="528" y="1002"/>
                </a:lnTo>
                <a:lnTo>
                  <a:pt x="524" y="1016"/>
                </a:lnTo>
                <a:lnTo>
                  <a:pt x="506" y="1004"/>
                </a:lnTo>
                <a:lnTo>
                  <a:pt x="493" y="997"/>
                </a:lnTo>
                <a:lnTo>
                  <a:pt x="475" y="989"/>
                </a:lnTo>
                <a:lnTo>
                  <a:pt x="462" y="983"/>
                </a:lnTo>
                <a:lnTo>
                  <a:pt x="446" y="977"/>
                </a:lnTo>
                <a:lnTo>
                  <a:pt x="431" y="971"/>
                </a:lnTo>
                <a:lnTo>
                  <a:pt x="415" y="966"/>
                </a:lnTo>
                <a:lnTo>
                  <a:pt x="401" y="960"/>
                </a:lnTo>
                <a:lnTo>
                  <a:pt x="409" y="940"/>
                </a:lnTo>
                <a:lnTo>
                  <a:pt x="419" y="921"/>
                </a:lnTo>
                <a:lnTo>
                  <a:pt x="423" y="909"/>
                </a:lnTo>
                <a:lnTo>
                  <a:pt x="431" y="902"/>
                </a:lnTo>
                <a:lnTo>
                  <a:pt x="438" y="894"/>
                </a:lnTo>
                <a:lnTo>
                  <a:pt x="452" y="890"/>
                </a:lnTo>
                <a:lnTo>
                  <a:pt x="464" y="892"/>
                </a:lnTo>
                <a:lnTo>
                  <a:pt x="479" y="896"/>
                </a:lnTo>
                <a:lnTo>
                  <a:pt x="493" y="900"/>
                </a:lnTo>
                <a:lnTo>
                  <a:pt x="508" y="904"/>
                </a:lnTo>
                <a:lnTo>
                  <a:pt x="522" y="907"/>
                </a:lnTo>
                <a:lnTo>
                  <a:pt x="537" y="911"/>
                </a:lnTo>
                <a:lnTo>
                  <a:pt x="551" y="917"/>
                </a:lnTo>
                <a:lnTo>
                  <a:pt x="566" y="923"/>
                </a:lnTo>
                <a:close/>
                <a:moveTo>
                  <a:pt x="1662" y="873"/>
                </a:moveTo>
                <a:lnTo>
                  <a:pt x="1652" y="890"/>
                </a:lnTo>
                <a:lnTo>
                  <a:pt x="1643" y="909"/>
                </a:lnTo>
                <a:lnTo>
                  <a:pt x="1633" y="929"/>
                </a:lnTo>
                <a:lnTo>
                  <a:pt x="1625" y="950"/>
                </a:lnTo>
                <a:lnTo>
                  <a:pt x="1616" y="969"/>
                </a:lnTo>
                <a:lnTo>
                  <a:pt x="1606" y="989"/>
                </a:lnTo>
                <a:lnTo>
                  <a:pt x="1596" y="1008"/>
                </a:lnTo>
                <a:lnTo>
                  <a:pt x="1588" y="1030"/>
                </a:lnTo>
                <a:lnTo>
                  <a:pt x="1491" y="997"/>
                </a:lnTo>
                <a:lnTo>
                  <a:pt x="1495" y="981"/>
                </a:lnTo>
                <a:lnTo>
                  <a:pt x="1505" y="966"/>
                </a:lnTo>
                <a:lnTo>
                  <a:pt x="1517" y="950"/>
                </a:lnTo>
                <a:lnTo>
                  <a:pt x="1526" y="935"/>
                </a:lnTo>
                <a:lnTo>
                  <a:pt x="1534" y="921"/>
                </a:lnTo>
                <a:lnTo>
                  <a:pt x="1542" y="907"/>
                </a:lnTo>
                <a:lnTo>
                  <a:pt x="1546" y="894"/>
                </a:lnTo>
                <a:lnTo>
                  <a:pt x="1552" y="880"/>
                </a:lnTo>
                <a:lnTo>
                  <a:pt x="1555" y="867"/>
                </a:lnTo>
                <a:lnTo>
                  <a:pt x="1563" y="853"/>
                </a:lnTo>
                <a:lnTo>
                  <a:pt x="1571" y="841"/>
                </a:lnTo>
                <a:lnTo>
                  <a:pt x="1586" y="832"/>
                </a:lnTo>
                <a:lnTo>
                  <a:pt x="1596" y="832"/>
                </a:lnTo>
                <a:lnTo>
                  <a:pt x="1606" y="836"/>
                </a:lnTo>
                <a:lnTo>
                  <a:pt x="1616" y="841"/>
                </a:lnTo>
                <a:lnTo>
                  <a:pt x="1625" y="847"/>
                </a:lnTo>
                <a:lnTo>
                  <a:pt x="1643" y="861"/>
                </a:lnTo>
                <a:lnTo>
                  <a:pt x="1662" y="873"/>
                </a:lnTo>
                <a:close/>
                <a:moveTo>
                  <a:pt x="966" y="799"/>
                </a:moveTo>
                <a:lnTo>
                  <a:pt x="1102" y="851"/>
                </a:lnTo>
                <a:lnTo>
                  <a:pt x="1090" y="859"/>
                </a:lnTo>
                <a:lnTo>
                  <a:pt x="1080" y="865"/>
                </a:lnTo>
                <a:lnTo>
                  <a:pt x="1069" y="863"/>
                </a:lnTo>
                <a:lnTo>
                  <a:pt x="1063" y="859"/>
                </a:lnTo>
                <a:lnTo>
                  <a:pt x="1043" y="847"/>
                </a:lnTo>
                <a:lnTo>
                  <a:pt x="1024" y="841"/>
                </a:lnTo>
                <a:lnTo>
                  <a:pt x="1005" y="834"/>
                </a:lnTo>
                <a:lnTo>
                  <a:pt x="985" y="828"/>
                </a:lnTo>
                <a:lnTo>
                  <a:pt x="964" y="818"/>
                </a:lnTo>
                <a:lnTo>
                  <a:pt x="946" y="810"/>
                </a:lnTo>
                <a:lnTo>
                  <a:pt x="927" y="801"/>
                </a:lnTo>
                <a:lnTo>
                  <a:pt x="913" y="791"/>
                </a:lnTo>
                <a:lnTo>
                  <a:pt x="923" y="779"/>
                </a:lnTo>
                <a:lnTo>
                  <a:pt x="939" y="779"/>
                </a:lnTo>
                <a:lnTo>
                  <a:pt x="952" y="787"/>
                </a:lnTo>
                <a:lnTo>
                  <a:pt x="966" y="799"/>
                </a:lnTo>
                <a:close/>
                <a:moveTo>
                  <a:pt x="233" y="791"/>
                </a:moveTo>
                <a:lnTo>
                  <a:pt x="223" y="803"/>
                </a:lnTo>
                <a:lnTo>
                  <a:pt x="215" y="818"/>
                </a:lnTo>
                <a:lnTo>
                  <a:pt x="208" y="832"/>
                </a:lnTo>
                <a:lnTo>
                  <a:pt x="202" y="847"/>
                </a:lnTo>
                <a:lnTo>
                  <a:pt x="194" y="861"/>
                </a:lnTo>
                <a:lnTo>
                  <a:pt x="186" y="874"/>
                </a:lnTo>
                <a:lnTo>
                  <a:pt x="176" y="888"/>
                </a:lnTo>
                <a:lnTo>
                  <a:pt x="167" y="902"/>
                </a:lnTo>
                <a:lnTo>
                  <a:pt x="49" y="863"/>
                </a:lnTo>
                <a:lnTo>
                  <a:pt x="50" y="847"/>
                </a:lnTo>
                <a:lnTo>
                  <a:pt x="56" y="836"/>
                </a:lnTo>
                <a:lnTo>
                  <a:pt x="60" y="820"/>
                </a:lnTo>
                <a:lnTo>
                  <a:pt x="66" y="809"/>
                </a:lnTo>
                <a:lnTo>
                  <a:pt x="72" y="795"/>
                </a:lnTo>
                <a:lnTo>
                  <a:pt x="80" y="783"/>
                </a:lnTo>
                <a:lnTo>
                  <a:pt x="87" y="772"/>
                </a:lnTo>
                <a:lnTo>
                  <a:pt x="101" y="764"/>
                </a:lnTo>
                <a:lnTo>
                  <a:pt x="116" y="764"/>
                </a:lnTo>
                <a:lnTo>
                  <a:pt x="134" y="766"/>
                </a:lnTo>
                <a:lnTo>
                  <a:pt x="149" y="770"/>
                </a:lnTo>
                <a:lnTo>
                  <a:pt x="167" y="776"/>
                </a:lnTo>
                <a:lnTo>
                  <a:pt x="182" y="779"/>
                </a:lnTo>
                <a:lnTo>
                  <a:pt x="198" y="783"/>
                </a:lnTo>
                <a:lnTo>
                  <a:pt x="215" y="787"/>
                </a:lnTo>
                <a:lnTo>
                  <a:pt x="233" y="791"/>
                </a:lnTo>
                <a:close/>
                <a:moveTo>
                  <a:pt x="879" y="809"/>
                </a:moveTo>
                <a:lnTo>
                  <a:pt x="873" y="828"/>
                </a:lnTo>
                <a:lnTo>
                  <a:pt x="865" y="847"/>
                </a:lnTo>
                <a:lnTo>
                  <a:pt x="853" y="867"/>
                </a:lnTo>
                <a:lnTo>
                  <a:pt x="844" y="888"/>
                </a:lnTo>
                <a:lnTo>
                  <a:pt x="830" y="907"/>
                </a:lnTo>
                <a:lnTo>
                  <a:pt x="818" y="927"/>
                </a:lnTo>
                <a:lnTo>
                  <a:pt x="807" y="946"/>
                </a:lnTo>
                <a:lnTo>
                  <a:pt x="799" y="966"/>
                </a:lnTo>
                <a:lnTo>
                  <a:pt x="780" y="960"/>
                </a:lnTo>
                <a:lnTo>
                  <a:pt x="762" y="954"/>
                </a:lnTo>
                <a:lnTo>
                  <a:pt x="745" y="948"/>
                </a:lnTo>
                <a:lnTo>
                  <a:pt x="727" y="942"/>
                </a:lnTo>
                <a:lnTo>
                  <a:pt x="710" y="937"/>
                </a:lnTo>
                <a:lnTo>
                  <a:pt x="692" y="931"/>
                </a:lnTo>
                <a:lnTo>
                  <a:pt x="675" y="925"/>
                </a:lnTo>
                <a:lnTo>
                  <a:pt x="657" y="919"/>
                </a:lnTo>
                <a:lnTo>
                  <a:pt x="644" y="907"/>
                </a:lnTo>
                <a:lnTo>
                  <a:pt x="632" y="898"/>
                </a:lnTo>
                <a:lnTo>
                  <a:pt x="624" y="886"/>
                </a:lnTo>
                <a:lnTo>
                  <a:pt x="630" y="871"/>
                </a:lnTo>
                <a:lnTo>
                  <a:pt x="640" y="855"/>
                </a:lnTo>
                <a:lnTo>
                  <a:pt x="652" y="840"/>
                </a:lnTo>
                <a:lnTo>
                  <a:pt x="659" y="824"/>
                </a:lnTo>
                <a:lnTo>
                  <a:pt x="667" y="809"/>
                </a:lnTo>
                <a:lnTo>
                  <a:pt x="673" y="791"/>
                </a:lnTo>
                <a:lnTo>
                  <a:pt x="683" y="776"/>
                </a:lnTo>
                <a:lnTo>
                  <a:pt x="692" y="760"/>
                </a:lnTo>
                <a:lnTo>
                  <a:pt x="706" y="748"/>
                </a:lnTo>
                <a:lnTo>
                  <a:pt x="725" y="754"/>
                </a:lnTo>
                <a:lnTo>
                  <a:pt x="747" y="764"/>
                </a:lnTo>
                <a:lnTo>
                  <a:pt x="768" y="770"/>
                </a:lnTo>
                <a:lnTo>
                  <a:pt x="789" y="779"/>
                </a:lnTo>
                <a:lnTo>
                  <a:pt x="811" y="785"/>
                </a:lnTo>
                <a:lnTo>
                  <a:pt x="832" y="793"/>
                </a:lnTo>
                <a:lnTo>
                  <a:pt x="855" y="801"/>
                </a:lnTo>
                <a:lnTo>
                  <a:pt x="879" y="809"/>
                </a:lnTo>
                <a:close/>
                <a:moveTo>
                  <a:pt x="1410" y="719"/>
                </a:moveTo>
                <a:lnTo>
                  <a:pt x="1398" y="741"/>
                </a:lnTo>
                <a:lnTo>
                  <a:pt x="1389" y="764"/>
                </a:lnTo>
                <a:lnTo>
                  <a:pt x="1375" y="787"/>
                </a:lnTo>
                <a:lnTo>
                  <a:pt x="1361" y="810"/>
                </a:lnTo>
                <a:lnTo>
                  <a:pt x="1346" y="832"/>
                </a:lnTo>
                <a:lnTo>
                  <a:pt x="1330" y="853"/>
                </a:lnTo>
                <a:lnTo>
                  <a:pt x="1313" y="874"/>
                </a:lnTo>
                <a:lnTo>
                  <a:pt x="1296" y="898"/>
                </a:lnTo>
                <a:lnTo>
                  <a:pt x="1286" y="905"/>
                </a:lnTo>
                <a:lnTo>
                  <a:pt x="1290" y="919"/>
                </a:lnTo>
                <a:lnTo>
                  <a:pt x="1268" y="909"/>
                </a:lnTo>
                <a:lnTo>
                  <a:pt x="1249" y="900"/>
                </a:lnTo>
                <a:lnTo>
                  <a:pt x="1230" y="890"/>
                </a:lnTo>
                <a:lnTo>
                  <a:pt x="1212" y="880"/>
                </a:lnTo>
                <a:lnTo>
                  <a:pt x="1193" y="869"/>
                </a:lnTo>
                <a:lnTo>
                  <a:pt x="1175" y="859"/>
                </a:lnTo>
                <a:lnTo>
                  <a:pt x="1158" y="849"/>
                </a:lnTo>
                <a:lnTo>
                  <a:pt x="1142" y="840"/>
                </a:lnTo>
                <a:lnTo>
                  <a:pt x="1154" y="812"/>
                </a:lnTo>
                <a:lnTo>
                  <a:pt x="1171" y="787"/>
                </a:lnTo>
                <a:lnTo>
                  <a:pt x="1189" y="764"/>
                </a:lnTo>
                <a:lnTo>
                  <a:pt x="1210" y="741"/>
                </a:lnTo>
                <a:lnTo>
                  <a:pt x="1230" y="717"/>
                </a:lnTo>
                <a:lnTo>
                  <a:pt x="1251" y="696"/>
                </a:lnTo>
                <a:lnTo>
                  <a:pt x="1272" y="675"/>
                </a:lnTo>
                <a:lnTo>
                  <a:pt x="1294" y="655"/>
                </a:lnTo>
                <a:lnTo>
                  <a:pt x="1410" y="719"/>
                </a:lnTo>
                <a:close/>
                <a:moveTo>
                  <a:pt x="502" y="681"/>
                </a:moveTo>
                <a:lnTo>
                  <a:pt x="495" y="698"/>
                </a:lnTo>
                <a:lnTo>
                  <a:pt x="487" y="719"/>
                </a:lnTo>
                <a:lnTo>
                  <a:pt x="479" y="739"/>
                </a:lnTo>
                <a:lnTo>
                  <a:pt x="471" y="760"/>
                </a:lnTo>
                <a:lnTo>
                  <a:pt x="460" y="777"/>
                </a:lnTo>
                <a:lnTo>
                  <a:pt x="450" y="799"/>
                </a:lnTo>
                <a:lnTo>
                  <a:pt x="438" y="818"/>
                </a:lnTo>
                <a:lnTo>
                  <a:pt x="429" y="840"/>
                </a:lnTo>
                <a:lnTo>
                  <a:pt x="405" y="832"/>
                </a:lnTo>
                <a:lnTo>
                  <a:pt x="386" y="824"/>
                </a:lnTo>
                <a:lnTo>
                  <a:pt x="367" y="814"/>
                </a:lnTo>
                <a:lnTo>
                  <a:pt x="349" y="805"/>
                </a:lnTo>
                <a:lnTo>
                  <a:pt x="330" y="793"/>
                </a:lnTo>
                <a:lnTo>
                  <a:pt x="310" y="787"/>
                </a:lnTo>
                <a:lnTo>
                  <a:pt x="291" y="781"/>
                </a:lnTo>
                <a:lnTo>
                  <a:pt x="272" y="783"/>
                </a:lnTo>
                <a:lnTo>
                  <a:pt x="279" y="760"/>
                </a:lnTo>
                <a:lnTo>
                  <a:pt x="291" y="741"/>
                </a:lnTo>
                <a:lnTo>
                  <a:pt x="304" y="723"/>
                </a:lnTo>
                <a:lnTo>
                  <a:pt x="318" y="706"/>
                </a:lnTo>
                <a:lnTo>
                  <a:pt x="332" y="686"/>
                </a:lnTo>
                <a:lnTo>
                  <a:pt x="347" y="669"/>
                </a:lnTo>
                <a:lnTo>
                  <a:pt x="363" y="653"/>
                </a:lnTo>
                <a:lnTo>
                  <a:pt x="378" y="640"/>
                </a:lnTo>
                <a:lnTo>
                  <a:pt x="502" y="681"/>
                </a:lnTo>
                <a:close/>
                <a:moveTo>
                  <a:pt x="1540" y="611"/>
                </a:moveTo>
                <a:lnTo>
                  <a:pt x="1542" y="618"/>
                </a:lnTo>
                <a:lnTo>
                  <a:pt x="1550" y="622"/>
                </a:lnTo>
                <a:lnTo>
                  <a:pt x="1559" y="622"/>
                </a:lnTo>
                <a:lnTo>
                  <a:pt x="1569" y="628"/>
                </a:lnTo>
                <a:lnTo>
                  <a:pt x="1577" y="636"/>
                </a:lnTo>
                <a:lnTo>
                  <a:pt x="1586" y="644"/>
                </a:lnTo>
                <a:lnTo>
                  <a:pt x="1598" y="649"/>
                </a:lnTo>
                <a:lnTo>
                  <a:pt x="1612" y="657"/>
                </a:lnTo>
                <a:lnTo>
                  <a:pt x="1621" y="663"/>
                </a:lnTo>
                <a:lnTo>
                  <a:pt x="1631" y="673"/>
                </a:lnTo>
                <a:lnTo>
                  <a:pt x="1637" y="682"/>
                </a:lnTo>
                <a:lnTo>
                  <a:pt x="1639" y="696"/>
                </a:lnTo>
                <a:lnTo>
                  <a:pt x="1579" y="789"/>
                </a:lnTo>
                <a:lnTo>
                  <a:pt x="1563" y="781"/>
                </a:lnTo>
                <a:lnTo>
                  <a:pt x="1550" y="774"/>
                </a:lnTo>
                <a:lnTo>
                  <a:pt x="1536" y="766"/>
                </a:lnTo>
                <a:lnTo>
                  <a:pt x="1524" y="758"/>
                </a:lnTo>
                <a:lnTo>
                  <a:pt x="1511" y="746"/>
                </a:lnTo>
                <a:lnTo>
                  <a:pt x="1499" y="737"/>
                </a:lnTo>
                <a:lnTo>
                  <a:pt x="1488" y="725"/>
                </a:lnTo>
                <a:lnTo>
                  <a:pt x="1476" y="715"/>
                </a:lnTo>
                <a:lnTo>
                  <a:pt x="1460" y="715"/>
                </a:lnTo>
                <a:lnTo>
                  <a:pt x="1462" y="700"/>
                </a:lnTo>
                <a:lnTo>
                  <a:pt x="1474" y="688"/>
                </a:lnTo>
                <a:lnTo>
                  <a:pt x="1488" y="675"/>
                </a:lnTo>
                <a:lnTo>
                  <a:pt x="1501" y="659"/>
                </a:lnTo>
                <a:lnTo>
                  <a:pt x="1509" y="648"/>
                </a:lnTo>
                <a:lnTo>
                  <a:pt x="1517" y="632"/>
                </a:lnTo>
                <a:lnTo>
                  <a:pt x="1524" y="618"/>
                </a:lnTo>
                <a:lnTo>
                  <a:pt x="1540" y="611"/>
                </a:lnTo>
                <a:close/>
                <a:moveTo>
                  <a:pt x="712" y="671"/>
                </a:moveTo>
                <a:lnTo>
                  <a:pt x="710" y="682"/>
                </a:lnTo>
                <a:lnTo>
                  <a:pt x="704" y="694"/>
                </a:lnTo>
                <a:lnTo>
                  <a:pt x="696" y="706"/>
                </a:lnTo>
                <a:lnTo>
                  <a:pt x="690" y="719"/>
                </a:lnTo>
                <a:lnTo>
                  <a:pt x="673" y="713"/>
                </a:lnTo>
                <a:lnTo>
                  <a:pt x="659" y="708"/>
                </a:lnTo>
                <a:lnTo>
                  <a:pt x="644" y="702"/>
                </a:lnTo>
                <a:lnTo>
                  <a:pt x="630" y="698"/>
                </a:lnTo>
                <a:lnTo>
                  <a:pt x="615" y="692"/>
                </a:lnTo>
                <a:lnTo>
                  <a:pt x="601" y="686"/>
                </a:lnTo>
                <a:lnTo>
                  <a:pt x="586" y="682"/>
                </a:lnTo>
                <a:lnTo>
                  <a:pt x="574" y="681"/>
                </a:lnTo>
                <a:lnTo>
                  <a:pt x="545" y="665"/>
                </a:lnTo>
                <a:lnTo>
                  <a:pt x="545" y="653"/>
                </a:lnTo>
                <a:lnTo>
                  <a:pt x="549" y="644"/>
                </a:lnTo>
                <a:lnTo>
                  <a:pt x="555" y="636"/>
                </a:lnTo>
                <a:lnTo>
                  <a:pt x="560" y="630"/>
                </a:lnTo>
                <a:lnTo>
                  <a:pt x="572" y="615"/>
                </a:lnTo>
                <a:lnTo>
                  <a:pt x="584" y="599"/>
                </a:lnTo>
                <a:lnTo>
                  <a:pt x="712" y="671"/>
                </a:lnTo>
                <a:close/>
                <a:moveTo>
                  <a:pt x="165" y="578"/>
                </a:moveTo>
                <a:lnTo>
                  <a:pt x="151" y="595"/>
                </a:lnTo>
                <a:lnTo>
                  <a:pt x="140" y="615"/>
                </a:lnTo>
                <a:lnTo>
                  <a:pt x="130" y="632"/>
                </a:lnTo>
                <a:lnTo>
                  <a:pt x="120" y="653"/>
                </a:lnTo>
                <a:lnTo>
                  <a:pt x="109" y="673"/>
                </a:lnTo>
                <a:lnTo>
                  <a:pt x="99" y="692"/>
                </a:lnTo>
                <a:lnTo>
                  <a:pt x="85" y="710"/>
                </a:lnTo>
                <a:lnTo>
                  <a:pt x="74" y="727"/>
                </a:lnTo>
                <a:lnTo>
                  <a:pt x="56" y="723"/>
                </a:lnTo>
                <a:lnTo>
                  <a:pt x="43" y="717"/>
                </a:lnTo>
                <a:lnTo>
                  <a:pt x="29" y="710"/>
                </a:lnTo>
                <a:lnTo>
                  <a:pt x="17" y="700"/>
                </a:lnTo>
                <a:lnTo>
                  <a:pt x="0" y="704"/>
                </a:lnTo>
                <a:lnTo>
                  <a:pt x="16" y="679"/>
                </a:lnTo>
                <a:lnTo>
                  <a:pt x="31" y="649"/>
                </a:lnTo>
                <a:lnTo>
                  <a:pt x="45" y="617"/>
                </a:lnTo>
                <a:lnTo>
                  <a:pt x="60" y="585"/>
                </a:lnTo>
                <a:lnTo>
                  <a:pt x="76" y="560"/>
                </a:lnTo>
                <a:lnTo>
                  <a:pt x="99" y="547"/>
                </a:lnTo>
                <a:lnTo>
                  <a:pt x="128" y="551"/>
                </a:lnTo>
                <a:lnTo>
                  <a:pt x="165" y="578"/>
                </a:lnTo>
                <a:close/>
                <a:moveTo>
                  <a:pt x="1045" y="553"/>
                </a:moveTo>
                <a:lnTo>
                  <a:pt x="1026" y="574"/>
                </a:lnTo>
                <a:lnTo>
                  <a:pt x="1008" y="597"/>
                </a:lnTo>
                <a:lnTo>
                  <a:pt x="991" y="620"/>
                </a:lnTo>
                <a:lnTo>
                  <a:pt x="976" y="644"/>
                </a:lnTo>
                <a:lnTo>
                  <a:pt x="958" y="667"/>
                </a:lnTo>
                <a:lnTo>
                  <a:pt x="944" y="692"/>
                </a:lnTo>
                <a:lnTo>
                  <a:pt x="931" y="717"/>
                </a:lnTo>
                <a:lnTo>
                  <a:pt x="919" y="743"/>
                </a:lnTo>
                <a:lnTo>
                  <a:pt x="896" y="735"/>
                </a:lnTo>
                <a:lnTo>
                  <a:pt x="875" y="729"/>
                </a:lnTo>
                <a:lnTo>
                  <a:pt x="853" y="719"/>
                </a:lnTo>
                <a:lnTo>
                  <a:pt x="834" y="710"/>
                </a:lnTo>
                <a:lnTo>
                  <a:pt x="811" y="698"/>
                </a:lnTo>
                <a:lnTo>
                  <a:pt x="791" y="686"/>
                </a:lnTo>
                <a:lnTo>
                  <a:pt x="770" y="675"/>
                </a:lnTo>
                <a:lnTo>
                  <a:pt x="751" y="665"/>
                </a:lnTo>
                <a:lnTo>
                  <a:pt x="768" y="634"/>
                </a:lnTo>
                <a:lnTo>
                  <a:pt x="795" y="620"/>
                </a:lnTo>
                <a:lnTo>
                  <a:pt x="822" y="607"/>
                </a:lnTo>
                <a:lnTo>
                  <a:pt x="849" y="595"/>
                </a:lnTo>
                <a:lnTo>
                  <a:pt x="879" y="584"/>
                </a:lnTo>
                <a:lnTo>
                  <a:pt x="906" y="572"/>
                </a:lnTo>
                <a:lnTo>
                  <a:pt x="935" y="560"/>
                </a:lnTo>
                <a:lnTo>
                  <a:pt x="964" y="549"/>
                </a:lnTo>
                <a:lnTo>
                  <a:pt x="993" y="543"/>
                </a:lnTo>
                <a:lnTo>
                  <a:pt x="1005" y="543"/>
                </a:lnTo>
                <a:lnTo>
                  <a:pt x="1018" y="543"/>
                </a:lnTo>
                <a:lnTo>
                  <a:pt x="1032" y="545"/>
                </a:lnTo>
                <a:lnTo>
                  <a:pt x="1045" y="553"/>
                </a:lnTo>
                <a:close/>
                <a:moveTo>
                  <a:pt x="1389" y="516"/>
                </a:moveTo>
                <a:lnTo>
                  <a:pt x="1375" y="527"/>
                </a:lnTo>
                <a:lnTo>
                  <a:pt x="1361" y="541"/>
                </a:lnTo>
                <a:lnTo>
                  <a:pt x="1348" y="554"/>
                </a:lnTo>
                <a:lnTo>
                  <a:pt x="1336" y="568"/>
                </a:lnTo>
                <a:lnTo>
                  <a:pt x="1321" y="580"/>
                </a:lnTo>
                <a:lnTo>
                  <a:pt x="1309" y="593"/>
                </a:lnTo>
                <a:lnTo>
                  <a:pt x="1297" y="607"/>
                </a:lnTo>
                <a:lnTo>
                  <a:pt x="1290" y="626"/>
                </a:lnTo>
                <a:lnTo>
                  <a:pt x="1264" y="615"/>
                </a:lnTo>
                <a:lnTo>
                  <a:pt x="1239" y="603"/>
                </a:lnTo>
                <a:lnTo>
                  <a:pt x="1214" y="591"/>
                </a:lnTo>
                <a:lnTo>
                  <a:pt x="1189" y="580"/>
                </a:lnTo>
                <a:lnTo>
                  <a:pt x="1164" y="568"/>
                </a:lnTo>
                <a:lnTo>
                  <a:pt x="1138" y="558"/>
                </a:lnTo>
                <a:lnTo>
                  <a:pt x="1113" y="549"/>
                </a:lnTo>
                <a:lnTo>
                  <a:pt x="1088" y="543"/>
                </a:lnTo>
                <a:lnTo>
                  <a:pt x="1094" y="520"/>
                </a:lnTo>
                <a:lnTo>
                  <a:pt x="1284" y="452"/>
                </a:lnTo>
                <a:lnTo>
                  <a:pt x="1297" y="456"/>
                </a:lnTo>
                <a:lnTo>
                  <a:pt x="1311" y="463"/>
                </a:lnTo>
                <a:lnTo>
                  <a:pt x="1325" y="471"/>
                </a:lnTo>
                <a:lnTo>
                  <a:pt x="1338" y="481"/>
                </a:lnTo>
                <a:lnTo>
                  <a:pt x="1350" y="490"/>
                </a:lnTo>
                <a:lnTo>
                  <a:pt x="1361" y="500"/>
                </a:lnTo>
                <a:lnTo>
                  <a:pt x="1373" y="508"/>
                </a:lnTo>
                <a:lnTo>
                  <a:pt x="1389" y="516"/>
                </a:lnTo>
                <a:close/>
                <a:moveTo>
                  <a:pt x="423" y="523"/>
                </a:moveTo>
                <a:lnTo>
                  <a:pt x="409" y="533"/>
                </a:lnTo>
                <a:lnTo>
                  <a:pt x="398" y="551"/>
                </a:lnTo>
                <a:lnTo>
                  <a:pt x="386" y="570"/>
                </a:lnTo>
                <a:lnTo>
                  <a:pt x="378" y="591"/>
                </a:lnTo>
                <a:lnTo>
                  <a:pt x="365" y="605"/>
                </a:lnTo>
                <a:lnTo>
                  <a:pt x="349" y="613"/>
                </a:lnTo>
                <a:lnTo>
                  <a:pt x="332" y="609"/>
                </a:lnTo>
                <a:lnTo>
                  <a:pt x="310" y="591"/>
                </a:lnTo>
                <a:lnTo>
                  <a:pt x="213" y="570"/>
                </a:lnTo>
                <a:lnTo>
                  <a:pt x="213" y="553"/>
                </a:lnTo>
                <a:lnTo>
                  <a:pt x="217" y="535"/>
                </a:lnTo>
                <a:lnTo>
                  <a:pt x="223" y="518"/>
                </a:lnTo>
                <a:lnTo>
                  <a:pt x="233" y="504"/>
                </a:lnTo>
                <a:lnTo>
                  <a:pt x="239" y="487"/>
                </a:lnTo>
                <a:lnTo>
                  <a:pt x="250" y="473"/>
                </a:lnTo>
                <a:lnTo>
                  <a:pt x="260" y="457"/>
                </a:lnTo>
                <a:lnTo>
                  <a:pt x="270" y="444"/>
                </a:lnTo>
                <a:lnTo>
                  <a:pt x="423" y="523"/>
                </a:lnTo>
                <a:close/>
                <a:moveTo>
                  <a:pt x="78" y="520"/>
                </a:moveTo>
                <a:lnTo>
                  <a:pt x="66" y="516"/>
                </a:lnTo>
                <a:lnTo>
                  <a:pt x="72" y="500"/>
                </a:lnTo>
                <a:lnTo>
                  <a:pt x="80" y="485"/>
                </a:lnTo>
                <a:lnTo>
                  <a:pt x="87" y="467"/>
                </a:lnTo>
                <a:lnTo>
                  <a:pt x="97" y="454"/>
                </a:lnTo>
                <a:lnTo>
                  <a:pt x="107" y="438"/>
                </a:lnTo>
                <a:lnTo>
                  <a:pt x="118" y="426"/>
                </a:lnTo>
                <a:lnTo>
                  <a:pt x="130" y="415"/>
                </a:lnTo>
                <a:lnTo>
                  <a:pt x="147" y="407"/>
                </a:lnTo>
                <a:lnTo>
                  <a:pt x="78" y="520"/>
                </a:lnTo>
                <a:close/>
                <a:moveTo>
                  <a:pt x="673" y="362"/>
                </a:moveTo>
                <a:lnTo>
                  <a:pt x="661" y="386"/>
                </a:lnTo>
                <a:lnTo>
                  <a:pt x="652" y="411"/>
                </a:lnTo>
                <a:lnTo>
                  <a:pt x="640" y="436"/>
                </a:lnTo>
                <a:lnTo>
                  <a:pt x="628" y="461"/>
                </a:lnTo>
                <a:lnTo>
                  <a:pt x="613" y="485"/>
                </a:lnTo>
                <a:lnTo>
                  <a:pt x="601" y="510"/>
                </a:lnTo>
                <a:lnTo>
                  <a:pt x="586" y="535"/>
                </a:lnTo>
                <a:lnTo>
                  <a:pt x="574" y="560"/>
                </a:lnTo>
                <a:lnTo>
                  <a:pt x="460" y="506"/>
                </a:lnTo>
                <a:lnTo>
                  <a:pt x="469" y="481"/>
                </a:lnTo>
                <a:lnTo>
                  <a:pt x="485" y="457"/>
                </a:lnTo>
                <a:lnTo>
                  <a:pt x="500" y="434"/>
                </a:lnTo>
                <a:lnTo>
                  <a:pt x="518" y="413"/>
                </a:lnTo>
                <a:lnTo>
                  <a:pt x="535" y="390"/>
                </a:lnTo>
                <a:lnTo>
                  <a:pt x="553" y="368"/>
                </a:lnTo>
                <a:lnTo>
                  <a:pt x="568" y="347"/>
                </a:lnTo>
                <a:lnTo>
                  <a:pt x="584" y="326"/>
                </a:lnTo>
                <a:lnTo>
                  <a:pt x="593" y="330"/>
                </a:lnTo>
                <a:lnTo>
                  <a:pt x="603" y="333"/>
                </a:lnTo>
                <a:lnTo>
                  <a:pt x="615" y="337"/>
                </a:lnTo>
                <a:lnTo>
                  <a:pt x="626" y="343"/>
                </a:lnTo>
                <a:lnTo>
                  <a:pt x="638" y="347"/>
                </a:lnTo>
                <a:lnTo>
                  <a:pt x="650" y="353"/>
                </a:lnTo>
                <a:lnTo>
                  <a:pt x="661" y="357"/>
                </a:lnTo>
                <a:lnTo>
                  <a:pt x="673" y="362"/>
                </a:lnTo>
                <a:close/>
                <a:moveTo>
                  <a:pt x="361" y="269"/>
                </a:moveTo>
                <a:lnTo>
                  <a:pt x="262" y="413"/>
                </a:lnTo>
                <a:lnTo>
                  <a:pt x="250" y="411"/>
                </a:lnTo>
                <a:lnTo>
                  <a:pt x="239" y="409"/>
                </a:lnTo>
                <a:lnTo>
                  <a:pt x="229" y="405"/>
                </a:lnTo>
                <a:lnTo>
                  <a:pt x="221" y="403"/>
                </a:lnTo>
                <a:lnTo>
                  <a:pt x="200" y="395"/>
                </a:lnTo>
                <a:lnTo>
                  <a:pt x="180" y="392"/>
                </a:lnTo>
                <a:lnTo>
                  <a:pt x="190" y="368"/>
                </a:lnTo>
                <a:lnTo>
                  <a:pt x="202" y="349"/>
                </a:lnTo>
                <a:lnTo>
                  <a:pt x="213" y="328"/>
                </a:lnTo>
                <a:lnTo>
                  <a:pt x="225" y="308"/>
                </a:lnTo>
                <a:lnTo>
                  <a:pt x="237" y="287"/>
                </a:lnTo>
                <a:lnTo>
                  <a:pt x="250" y="267"/>
                </a:lnTo>
                <a:lnTo>
                  <a:pt x="264" y="250"/>
                </a:lnTo>
                <a:lnTo>
                  <a:pt x="279" y="233"/>
                </a:lnTo>
                <a:lnTo>
                  <a:pt x="297" y="244"/>
                </a:lnTo>
                <a:lnTo>
                  <a:pt x="318" y="254"/>
                </a:lnTo>
                <a:lnTo>
                  <a:pt x="328" y="256"/>
                </a:lnTo>
                <a:lnTo>
                  <a:pt x="339" y="262"/>
                </a:lnTo>
                <a:lnTo>
                  <a:pt x="349" y="264"/>
                </a:lnTo>
                <a:lnTo>
                  <a:pt x="361" y="269"/>
                </a:lnTo>
                <a:close/>
                <a:moveTo>
                  <a:pt x="621" y="238"/>
                </a:moveTo>
                <a:lnTo>
                  <a:pt x="570" y="295"/>
                </a:lnTo>
                <a:lnTo>
                  <a:pt x="413" y="260"/>
                </a:lnTo>
                <a:lnTo>
                  <a:pt x="469" y="161"/>
                </a:lnTo>
                <a:lnTo>
                  <a:pt x="487" y="170"/>
                </a:lnTo>
                <a:lnTo>
                  <a:pt x="504" y="182"/>
                </a:lnTo>
                <a:lnTo>
                  <a:pt x="524" y="190"/>
                </a:lnTo>
                <a:lnTo>
                  <a:pt x="543" y="200"/>
                </a:lnTo>
                <a:lnTo>
                  <a:pt x="562" y="207"/>
                </a:lnTo>
                <a:lnTo>
                  <a:pt x="582" y="217"/>
                </a:lnTo>
                <a:lnTo>
                  <a:pt x="601" y="227"/>
                </a:lnTo>
                <a:lnTo>
                  <a:pt x="621" y="238"/>
                </a:lnTo>
                <a:close/>
                <a:moveTo>
                  <a:pt x="553" y="23"/>
                </a:moveTo>
                <a:lnTo>
                  <a:pt x="469" y="130"/>
                </a:lnTo>
                <a:lnTo>
                  <a:pt x="398" y="95"/>
                </a:lnTo>
                <a:lnTo>
                  <a:pt x="409" y="77"/>
                </a:lnTo>
                <a:lnTo>
                  <a:pt x="423" y="66"/>
                </a:lnTo>
                <a:lnTo>
                  <a:pt x="436" y="54"/>
                </a:lnTo>
                <a:lnTo>
                  <a:pt x="454" y="44"/>
                </a:lnTo>
                <a:lnTo>
                  <a:pt x="467" y="33"/>
                </a:lnTo>
                <a:lnTo>
                  <a:pt x="483" y="23"/>
                </a:lnTo>
                <a:lnTo>
                  <a:pt x="496" y="11"/>
                </a:lnTo>
                <a:lnTo>
                  <a:pt x="512" y="0"/>
                </a:lnTo>
                <a:lnTo>
                  <a:pt x="522" y="2"/>
                </a:lnTo>
                <a:lnTo>
                  <a:pt x="531" y="8"/>
                </a:lnTo>
                <a:lnTo>
                  <a:pt x="541" y="15"/>
                </a:lnTo>
                <a:lnTo>
                  <a:pt x="553" y="23"/>
                </a:lnTo>
                <a:close/>
              </a:path>
            </a:pathLst>
          </a:custGeom>
          <a:solidFill>
            <a:srgbClr val="999999">
              <a:alpha val="50000"/>
            </a:srgbClr>
          </a:solidFill>
          <a:ln w="1800">
            <a:solidFill>
              <a:srgbClr val="99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57360" y="4421160"/>
            <a:ext cx="2754360" cy="1724040"/>
          </a:xfrm>
          <a:custGeom>
            <a:avLst/>
            <a:gdLst/>
            <a:ahLst/>
            <a:rect l="l" t="t" r="r" b="b"/>
            <a:pathLst>
              <a:path w="3472" h="2172">
                <a:moveTo>
                  <a:pt x="3394" y="1113"/>
                </a:moveTo>
                <a:lnTo>
                  <a:pt x="3472" y="1183"/>
                </a:lnTo>
                <a:lnTo>
                  <a:pt x="3468" y="1204"/>
                </a:lnTo>
                <a:lnTo>
                  <a:pt x="3462" y="1224"/>
                </a:lnTo>
                <a:lnTo>
                  <a:pt x="3454" y="1239"/>
                </a:lnTo>
                <a:lnTo>
                  <a:pt x="3448" y="1257"/>
                </a:lnTo>
                <a:lnTo>
                  <a:pt x="3437" y="1276"/>
                </a:lnTo>
                <a:lnTo>
                  <a:pt x="3425" y="1291"/>
                </a:lnTo>
                <a:lnTo>
                  <a:pt x="3414" y="1309"/>
                </a:lnTo>
                <a:lnTo>
                  <a:pt x="3404" y="1324"/>
                </a:lnTo>
                <a:lnTo>
                  <a:pt x="3326" y="1435"/>
                </a:lnTo>
                <a:lnTo>
                  <a:pt x="3251" y="1544"/>
                </a:lnTo>
                <a:lnTo>
                  <a:pt x="3171" y="1652"/>
                </a:lnTo>
                <a:lnTo>
                  <a:pt x="3094" y="1759"/>
                </a:lnTo>
                <a:lnTo>
                  <a:pt x="3010" y="1866"/>
                </a:lnTo>
                <a:lnTo>
                  <a:pt x="2925" y="1970"/>
                </a:lnTo>
                <a:lnTo>
                  <a:pt x="2840" y="2073"/>
                </a:lnTo>
                <a:lnTo>
                  <a:pt x="2752" y="2172"/>
                </a:lnTo>
                <a:lnTo>
                  <a:pt x="2760" y="2141"/>
                </a:lnTo>
                <a:lnTo>
                  <a:pt x="2774" y="2106"/>
                </a:lnTo>
                <a:lnTo>
                  <a:pt x="2789" y="2073"/>
                </a:lnTo>
                <a:lnTo>
                  <a:pt x="2808" y="2040"/>
                </a:lnTo>
                <a:lnTo>
                  <a:pt x="2826" y="2009"/>
                </a:lnTo>
                <a:lnTo>
                  <a:pt x="2845" y="1976"/>
                </a:lnTo>
                <a:lnTo>
                  <a:pt x="2861" y="1943"/>
                </a:lnTo>
                <a:lnTo>
                  <a:pt x="2876" y="1906"/>
                </a:lnTo>
                <a:lnTo>
                  <a:pt x="2902" y="1866"/>
                </a:lnTo>
                <a:lnTo>
                  <a:pt x="2927" y="1823"/>
                </a:lnTo>
                <a:lnTo>
                  <a:pt x="2956" y="1780"/>
                </a:lnTo>
                <a:lnTo>
                  <a:pt x="2985" y="1734"/>
                </a:lnTo>
                <a:lnTo>
                  <a:pt x="3014" y="1693"/>
                </a:lnTo>
                <a:lnTo>
                  <a:pt x="3043" y="1650"/>
                </a:lnTo>
                <a:lnTo>
                  <a:pt x="3076" y="1608"/>
                </a:lnTo>
                <a:lnTo>
                  <a:pt x="3109" y="1563"/>
                </a:lnTo>
                <a:lnTo>
                  <a:pt x="3113" y="1532"/>
                </a:lnTo>
                <a:lnTo>
                  <a:pt x="3138" y="1497"/>
                </a:lnTo>
                <a:lnTo>
                  <a:pt x="3165" y="1460"/>
                </a:lnTo>
                <a:lnTo>
                  <a:pt x="3189" y="1423"/>
                </a:lnTo>
                <a:lnTo>
                  <a:pt x="3214" y="1385"/>
                </a:lnTo>
                <a:lnTo>
                  <a:pt x="3235" y="1348"/>
                </a:lnTo>
                <a:lnTo>
                  <a:pt x="3260" y="1311"/>
                </a:lnTo>
                <a:lnTo>
                  <a:pt x="3286" y="1274"/>
                </a:lnTo>
                <a:lnTo>
                  <a:pt x="3311" y="1235"/>
                </a:lnTo>
                <a:lnTo>
                  <a:pt x="3311" y="1216"/>
                </a:lnTo>
                <a:lnTo>
                  <a:pt x="3241" y="1171"/>
                </a:lnTo>
                <a:lnTo>
                  <a:pt x="3169" y="1129"/>
                </a:lnTo>
                <a:lnTo>
                  <a:pt x="3096" y="1092"/>
                </a:lnTo>
                <a:lnTo>
                  <a:pt x="3022" y="1055"/>
                </a:lnTo>
                <a:lnTo>
                  <a:pt x="2946" y="1022"/>
                </a:lnTo>
                <a:lnTo>
                  <a:pt x="2871" y="989"/>
                </a:lnTo>
                <a:lnTo>
                  <a:pt x="2793" y="960"/>
                </a:lnTo>
                <a:lnTo>
                  <a:pt x="2719" y="925"/>
                </a:lnTo>
                <a:lnTo>
                  <a:pt x="2754" y="927"/>
                </a:lnTo>
                <a:lnTo>
                  <a:pt x="2791" y="925"/>
                </a:lnTo>
                <a:lnTo>
                  <a:pt x="2826" y="919"/>
                </a:lnTo>
                <a:lnTo>
                  <a:pt x="2863" y="911"/>
                </a:lnTo>
                <a:lnTo>
                  <a:pt x="2898" y="908"/>
                </a:lnTo>
                <a:lnTo>
                  <a:pt x="2935" y="902"/>
                </a:lnTo>
                <a:lnTo>
                  <a:pt x="2971" y="900"/>
                </a:lnTo>
                <a:lnTo>
                  <a:pt x="3008" y="900"/>
                </a:lnTo>
                <a:lnTo>
                  <a:pt x="3057" y="919"/>
                </a:lnTo>
                <a:lnTo>
                  <a:pt x="3109" y="940"/>
                </a:lnTo>
                <a:lnTo>
                  <a:pt x="3156" y="966"/>
                </a:lnTo>
                <a:lnTo>
                  <a:pt x="3206" y="995"/>
                </a:lnTo>
                <a:lnTo>
                  <a:pt x="3251" y="1026"/>
                </a:lnTo>
                <a:lnTo>
                  <a:pt x="3299" y="1057"/>
                </a:lnTo>
                <a:lnTo>
                  <a:pt x="3344" y="1086"/>
                </a:lnTo>
                <a:lnTo>
                  <a:pt x="3394" y="1113"/>
                </a:lnTo>
                <a:close/>
                <a:moveTo>
                  <a:pt x="1412" y="202"/>
                </a:moveTo>
                <a:lnTo>
                  <a:pt x="1455" y="223"/>
                </a:lnTo>
                <a:lnTo>
                  <a:pt x="1490" y="252"/>
                </a:lnTo>
                <a:lnTo>
                  <a:pt x="1515" y="289"/>
                </a:lnTo>
                <a:lnTo>
                  <a:pt x="1538" y="328"/>
                </a:lnTo>
                <a:lnTo>
                  <a:pt x="1552" y="372"/>
                </a:lnTo>
                <a:lnTo>
                  <a:pt x="1567" y="415"/>
                </a:lnTo>
                <a:lnTo>
                  <a:pt x="1581" y="460"/>
                </a:lnTo>
                <a:lnTo>
                  <a:pt x="1598" y="498"/>
                </a:lnTo>
                <a:lnTo>
                  <a:pt x="1511" y="473"/>
                </a:lnTo>
                <a:lnTo>
                  <a:pt x="1430" y="446"/>
                </a:lnTo>
                <a:lnTo>
                  <a:pt x="1348" y="413"/>
                </a:lnTo>
                <a:lnTo>
                  <a:pt x="1271" y="376"/>
                </a:lnTo>
                <a:lnTo>
                  <a:pt x="1189" y="341"/>
                </a:lnTo>
                <a:lnTo>
                  <a:pt x="1112" y="302"/>
                </a:lnTo>
                <a:lnTo>
                  <a:pt x="1034" y="262"/>
                </a:lnTo>
                <a:lnTo>
                  <a:pt x="958" y="221"/>
                </a:lnTo>
                <a:lnTo>
                  <a:pt x="939" y="225"/>
                </a:lnTo>
                <a:lnTo>
                  <a:pt x="840" y="320"/>
                </a:lnTo>
                <a:lnTo>
                  <a:pt x="743" y="413"/>
                </a:lnTo>
                <a:lnTo>
                  <a:pt x="644" y="506"/>
                </a:lnTo>
                <a:lnTo>
                  <a:pt x="549" y="597"/>
                </a:lnTo>
                <a:lnTo>
                  <a:pt x="456" y="694"/>
                </a:lnTo>
                <a:lnTo>
                  <a:pt x="373" y="793"/>
                </a:lnTo>
                <a:lnTo>
                  <a:pt x="297" y="896"/>
                </a:lnTo>
                <a:lnTo>
                  <a:pt x="233" y="1006"/>
                </a:lnTo>
                <a:lnTo>
                  <a:pt x="210" y="1037"/>
                </a:lnTo>
                <a:lnTo>
                  <a:pt x="188" y="1067"/>
                </a:lnTo>
                <a:lnTo>
                  <a:pt x="169" y="1098"/>
                </a:lnTo>
                <a:lnTo>
                  <a:pt x="150" y="1125"/>
                </a:lnTo>
                <a:lnTo>
                  <a:pt x="130" y="1158"/>
                </a:lnTo>
                <a:lnTo>
                  <a:pt x="113" y="1189"/>
                </a:lnTo>
                <a:lnTo>
                  <a:pt x="95" y="1218"/>
                </a:lnTo>
                <a:lnTo>
                  <a:pt x="80" y="1249"/>
                </a:lnTo>
                <a:lnTo>
                  <a:pt x="80" y="1264"/>
                </a:lnTo>
                <a:lnTo>
                  <a:pt x="88" y="1274"/>
                </a:lnTo>
                <a:lnTo>
                  <a:pt x="93" y="1282"/>
                </a:lnTo>
                <a:lnTo>
                  <a:pt x="107" y="1288"/>
                </a:lnTo>
                <a:lnTo>
                  <a:pt x="119" y="1293"/>
                </a:lnTo>
                <a:lnTo>
                  <a:pt x="132" y="1297"/>
                </a:lnTo>
                <a:lnTo>
                  <a:pt x="144" y="1305"/>
                </a:lnTo>
                <a:lnTo>
                  <a:pt x="155" y="1309"/>
                </a:lnTo>
                <a:lnTo>
                  <a:pt x="214" y="1334"/>
                </a:lnTo>
                <a:lnTo>
                  <a:pt x="278" y="1359"/>
                </a:lnTo>
                <a:lnTo>
                  <a:pt x="338" y="1385"/>
                </a:lnTo>
                <a:lnTo>
                  <a:pt x="400" y="1406"/>
                </a:lnTo>
                <a:lnTo>
                  <a:pt x="460" y="1429"/>
                </a:lnTo>
                <a:lnTo>
                  <a:pt x="524" y="1447"/>
                </a:lnTo>
                <a:lnTo>
                  <a:pt x="588" y="1462"/>
                </a:lnTo>
                <a:lnTo>
                  <a:pt x="652" y="1468"/>
                </a:lnTo>
                <a:lnTo>
                  <a:pt x="685" y="1482"/>
                </a:lnTo>
                <a:lnTo>
                  <a:pt x="720" y="1493"/>
                </a:lnTo>
                <a:lnTo>
                  <a:pt x="751" y="1505"/>
                </a:lnTo>
                <a:lnTo>
                  <a:pt x="786" y="1516"/>
                </a:lnTo>
                <a:lnTo>
                  <a:pt x="819" y="1530"/>
                </a:lnTo>
                <a:lnTo>
                  <a:pt x="852" y="1540"/>
                </a:lnTo>
                <a:lnTo>
                  <a:pt x="883" y="1549"/>
                </a:lnTo>
                <a:lnTo>
                  <a:pt x="918" y="1555"/>
                </a:lnTo>
                <a:lnTo>
                  <a:pt x="920" y="1559"/>
                </a:lnTo>
                <a:lnTo>
                  <a:pt x="925" y="1561"/>
                </a:lnTo>
                <a:lnTo>
                  <a:pt x="927" y="1563"/>
                </a:lnTo>
                <a:lnTo>
                  <a:pt x="933" y="1565"/>
                </a:lnTo>
                <a:lnTo>
                  <a:pt x="935" y="1569"/>
                </a:lnTo>
                <a:lnTo>
                  <a:pt x="937" y="1571"/>
                </a:lnTo>
                <a:lnTo>
                  <a:pt x="939" y="1573"/>
                </a:lnTo>
                <a:lnTo>
                  <a:pt x="945" y="1575"/>
                </a:lnTo>
                <a:lnTo>
                  <a:pt x="949" y="1569"/>
                </a:lnTo>
                <a:lnTo>
                  <a:pt x="1069" y="1606"/>
                </a:lnTo>
                <a:lnTo>
                  <a:pt x="1189" y="1646"/>
                </a:lnTo>
                <a:lnTo>
                  <a:pt x="1309" y="1691"/>
                </a:lnTo>
                <a:lnTo>
                  <a:pt x="1430" y="1739"/>
                </a:lnTo>
                <a:lnTo>
                  <a:pt x="1546" y="1788"/>
                </a:lnTo>
                <a:lnTo>
                  <a:pt x="1664" y="1836"/>
                </a:lnTo>
                <a:lnTo>
                  <a:pt x="1781" y="1881"/>
                </a:lnTo>
                <a:lnTo>
                  <a:pt x="1905" y="1918"/>
                </a:lnTo>
                <a:lnTo>
                  <a:pt x="2087" y="1990"/>
                </a:lnTo>
                <a:lnTo>
                  <a:pt x="2002" y="1963"/>
                </a:lnTo>
                <a:lnTo>
                  <a:pt x="1916" y="1937"/>
                </a:lnTo>
                <a:lnTo>
                  <a:pt x="1831" y="1914"/>
                </a:lnTo>
                <a:lnTo>
                  <a:pt x="1748" y="1887"/>
                </a:lnTo>
                <a:lnTo>
                  <a:pt x="1660" y="1864"/>
                </a:lnTo>
                <a:lnTo>
                  <a:pt x="1575" y="1840"/>
                </a:lnTo>
                <a:lnTo>
                  <a:pt x="1490" y="1813"/>
                </a:lnTo>
                <a:lnTo>
                  <a:pt x="1406" y="1788"/>
                </a:lnTo>
                <a:lnTo>
                  <a:pt x="1276" y="1739"/>
                </a:lnTo>
                <a:lnTo>
                  <a:pt x="1146" y="1691"/>
                </a:lnTo>
                <a:lnTo>
                  <a:pt x="1013" y="1648"/>
                </a:lnTo>
                <a:lnTo>
                  <a:pt x="881" y="1606"/>
                </a:lnTo>
                <a:lnTo>
                  <a:pt x="747" y="1563"/>
                </a:lnTo>
                <a:lnTo>
                  <a:pt x="617" y="1516"/>
                </a:lnTo>
                <a:lnTo>
                  <a:pt x="489" y="1462"/>
                </a:lnTo>
                <a:lnTo>
                  <a:pt x="365" y="1400"/>
                </a:lnTo>
                <a:lnTo>
                  <a:pt x="318" y="1387"/>
                </a:lnTo>
                <a:lnTo>
                  <a:pt x="272" y="1373"/>
                </a:lnTo>
                <a:lnTo>
                  <a:pt x="225" y="1363"/>
                </a:lnTo>
                <a:lnTo>
                  <a:pt x="181" y="1350"/>
                </a:lnTo>
                <a:lnTo>
                  <a:pt x="132" y="1340"/>
                </a:lnTo>
                <a:lnTo>
                  <a:pt x="88" y="1324"/>
                </a:lnTo>
                <a:lnTo>
                  <a:pt x="41" y="1307"/>
                </a:lnTo>
                <a:lnTo>
                  <a:pt x="0" y="1282"/>
                </a:lnTo>
                <a:lnTo>
                  <a:pt x="66" y="1177"/>
                </a:lnTo>
                <a:lnTo>
                  <a:pt x="142" y="1074"/>
                </a:lnTo>
                <a:lnTo>
                  <a:pt x="219" y="975"/>
                </a:lnTo>
                <a:lnTo>
                  <a:pt x="301" y="873"/>
                </a:lnTo>
                <a:lnTo>
                  <a:pt x="380" y="776"/>
                </a:lnTo>
                <a:lnTo>
                  <a:pt x="460" y="675"/>
                </a:lnTo>
                <a:lnTo>
                  <a:pt x="536" y="576"/>
                </a:lnTo>
                <a:lnTo>
                  <a:pt x="609" y="469"/>
                </a:lnTo>
                <a:lnTo>
                  <a:pt x="654" y="411"/>
                </a:lnTo>
                <a:lnTo>
                  <a:pt x="706" y="351"/>
                </a:lnTo>
                <a:lnTo>
                  <a:pt x="759" y="293"/>
                </a:lnTo>
                <a:lnTo>
                  <a:pt x="811" y="235"/>
                </a:lnTo>
                <a:lnTo>
                  <a:pt x="859" y="178"/>
                </a:lnTo>
                <a:lnTo>
                  <a:pt x="912" y="120"/>
                </a:lnTo>
                <a:lnTo>
                  <a:pt x="958" y="62"/>
                </a:lnTo>
                <a:lnTo>
                  <a:pt x="1005" y="0"/>
                </a:lnTo>
                <a:lnTo>
                  <a:pt x="1055" y="21"/>
                </a:lnTo>
                <a:lnTo>
                  <a:pt x="1108" y="44"/>
                </a:lnTo>
                <a:lnTo>
                  <a:pt x="1160" y="70"/>
                </a:lnTo>
                <a:lnTo>
                  <a:pt x="1212" y="93"/>
                </a:lnTo>
                <a:lnTo>
                  <a:pt x="1261" y="122"/>
                </a:lnTo>
                <a:lnTo>
                  <a:pt x="1311" y="147"/>
                </a:lnTo>
                <a:lnTo>
                  <a:pt x="1360" y="176"/>
                </a:lnTo>
                <a:lnTo>
                  <a:pt x="1412" y="202"/>
                </a:lnTo>
                <a:close/>
              </a:path>
            </a:pathLst>
          </a:custGeom>
          <a:solidFill>
            <a:srgbClr val="b7b7b7">
              <a:alpha val="50000"/>
            </a:srgbClr>
          </a:solidFill>
          <a:ln w="1800">
            <a:solidFill>
              <a:srgbClr val="b7b7b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txBox="1"/>
          <p:nvPr/>
        </p:nvSpPr>
        <p:spPr>
          <a:xfrm>
            <a:off x="1371600" y="1905120"/>
            <a:ext cx="6477120" cy="403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3366ff"/>
                </a:solidFill>
                <a:effectLst>
                  <a:outerShdw dist="40186" dir="1096358" blurRad="0" rotWithShape="0">
                    <a:srgbClr val="c0c0c0"/>
                  </a:outerShdw>
                </a:effectLst>
                <a:latin typeface="Comic Sans MS"/>
              </a:rPr>
              <a:t>Arithmetic and</a:t>
            </a:r>
            <a:endParaRPr b="0" lang="en-US" sz="2400" spc="1" strike="noStrike">
              <a:ln w="12600">
                <a:solidFill>
                  <a:srgbClr val="000000"/>
                </a:solidFill>
                <a:miter/>
              </a:ln>
              <a:solidFill>
                <a:srgbClr val="3366ff"/>
              </a:solidFill>
              <a:effectLst>
                <a:outerShdw dist="40186" dir="1096358"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3366ff"/>
                </a:solidFill>
                <a:effectLst>
                  <a:outerShdw dist="40186" dir="1096358" blurRad="0" rotWithShape="0">
                    <a:srgbClr val="c0c0c0"/>
                  </a:outerShdw>
                </a:effectLst>
                <a:latin typeface="Comic Sans MS"/>
              </a:rPr>
              <a:t>Weighted Mean</a:t>
            </a:r>
            <a:endParaRPr b="0" lang="en-US" sz="2400" spc="1" strike="noStrike">
              <a:ln w="12600">
                <a:solidFill>
                  <a:srgbClr val="000000"/>
                </a:solidFill>
                <a:miter/>
              </a:ln>
              <a:solidFill>
                <a:srgbClr val="3366ff"/>
              </a:solidFill>
              <a:effectLst>
                <a:outerShdw dist="40186" dir="1096358" blurRad="0" rotWithShape="0">
                  <a:srgbClr val="c0c0c0"/>
                </a:outerShdw>
              </a:effectLst>
              <a:latin typeface="Comic Sans MS"/>
              <a:ea typeface="Comic Sans MS"/>
            </a:endParaRPr>
          </a:p>
        </p:txBody>
      </p:sp>
      <p:sp>
        <p:nvSpPr>
          <p:cNvPr id="182"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83"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
        <p:nvSpPr>
          <p:cNvPr id="184" name=""/>
          <p:cNvSpPr/>
          <p:nvPr/>
        </p:nvSpPr>
        <p:spPr>
          <a:xfrm>
            <a:off x="685800" y="1371600"/>
            <a:ext cx="7924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Average  ( Arithmetic Mean)</a:t>
            </a:r>
            <a:endParaRPr b="0" lang="en-US" sz="4400" spc="-1" strike="noStrike">
              <a:solidFill>
                <a:srgbClr val="000000"/>
              </a:solidFill>
              <a:latin typeface="Times New Roman"/>
            </a:endParaRPr>
          </a:p>
        </p:txBody>
      </p:sp>
      <p:grpSp>
        <p:nvGrpSpPr>
          <p:cNvPr id="185" name=""/>
          <p:cNvGrpSpPr/>
          <p:nvPr/>
        </p:nvGrpSpPr>
        <p:grpSpPr>
          <a:xfrm>
            <a:off x="1295280" y="2362320"/>
            <a:ext cx="6515280" cy="1315440"/>
            <a:chOff x="1295280" y="2362320"/>
            <a:chExt cx="6515280" cy="1315440"/>
          </a:xfrm>
        </p:grpSpPr>
        <p:grpSp>
          <p:nvGrpSpPr>
            <p:cNvPr id="186" name=""/>
            <p:cNvGrpSpPr/>
            <p:nvPr/>
          </p:nvGrpSpPr>
          <p:grpSpPr>
            <a:xfrm>
              <a:off x="1295280" y="2654280"/>
              <a:ext cx="1219320" cy="764280"/>
              <a:chOff x="1295280" y="2654280"/>
              <a:chExt cx="1219320" cy="764280"/>
            </a:xfrm>
          </p:grpSpPr>
          <p:sp>
            <p:nvSpPr>
              <p:cNvPr id="187" name=""/>
              <p:cNvSpPr/>
              <p:nvPr/>
            </p:nvSpPr>
            <p:spPr>
              <a:xfrm>
                <a:off x="1295280" y="2654280"/>
                <a:ext cx="121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x =</a:t>
                </a:r>
                <a:endParaRPr b="0" lang="en-US" sz="4400" spc="-1" strike="noStrike">
                  <a:solidFill>
                    <a:srgbClr val="000000"/>
                  </a:solidFill>
                  <a:latin typeface="Times New Roman"/>
                </a:endParaRPr>
              </a:p>
            </p:txBody>
          </p:sp>
          <p:sp>
            <p:nvSpPr>
              <p:cNvPr id="188" name=""/>
              <p:cNvSpPr/>
              <p:nvPr/>
            </p:nvSpPr>
            <p:spPr>
              <a:xfrm>
                <a:off x="1523880" y="282276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 name=""/>
            <p:cNvSpPr/>
            <p:nvPr/>
          </p:nvSpPr>
          <p:spPr>
            <a:xfrm>
              <a:off x="2400480" y="303516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number of numbers</a:t>
              </a:r>
              <a:endParaRPr b="0" lang="en-US" sz="3600" spc="-1" strike="noStrike">
                <a:solidFill>
                  <a:srgbClr val="000000"/>
                </a:solidFill>
                <a:latin typeface="Times New Roman"/>
              </a:endParaRPr>
            </a:p>
          </p:txBody>
        </p:sp>
        <p:grpSp>
          <p:nvGrpSpPr>
            <p:cNvPr id="190" name=""/>
            <p:cNvGrpSpPr/>
            <p:nvPr/>
          </p:nvGrpSpPr>
          <p:grpSpPr>
            <a:xfrm>
              <a:off x="2400480" y="2362320"/>
              <a:ext cx="5410080" cy="1191240"/>
              <a:chOff x="2400480" y="2362320"/>
              <a:chExt cx="5410080" cy="1191240"/>
            </a:xfrm>
          </p:grpSpPr>
          <p:sp>
            <p:nvSpPr>
              <p:cNvPr id="191" name=""/>
              <p:cNvSpPr/>
              <p:nvPr/>
            </p:nvSpPr>
            <p:spPr>
              <a:xfrm>
                <a:off x="2400480" y="236232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um of all given numbers</a:t>
                </a:r>
                <a:endParaRPr b="0" lang="en-US" sz="3600" spc="-1" strike="noStrike">
                  <a:solidFill>
                    <a:srgbClr val="000000"/>
                  </a:solidFill>
                  <a:latin typeface="Times New Roman"/>
                </a:endParaRPr>
              </a:p>
            </p:txBody>
          </p:sp>
          <p:sp>
            <p:nvSpPr>
              <p:cNvPr id="192" name=""/>
              <p:cNvSpPr/>
              <p:nvPr/>
            </p:nvSpPr>
            <p:spPr>
              <a:xfrm>
                <a:off x="2400480" y="3003480"/>
                <a:ext cx="5410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3" name=""/>
          <p:cNvGrpSpPr/>
          <p:nvPr/>
        </p:nvGrpSpPr>
        <p:grpSpPr>
          <a:xfrm>
            <a:off x="1486080" y="4006800"/>
            <a:ext cx="6514920" cy="1404360"/>
            <a:chOff x="1486080" y="4006800"/>
            <a:chExt cx="6514920" cy="1404360"/>
          </a:xfrm>
        </p:grpSpPr>
        <p:grpSp>
          <p:nvGrpSpPr>
            <p:cNvPr id="194" name=""/>
            <p:cNvGrpSpPr/>
            <p:nvPr/>
          </p:nvGrpSpPr>
          <p:grpSpPr>
            <a:xfrm>
              <a:off x="1486080" y="4267080"/>
              <a:ext cx="1218960" cy="764280"/>
              <a:chOff x="1486080" y="4267080"/>
              <a:chExt cx="1218960" cy="764280"/>
            </a:xfrm>
          </p:grpSpPr>
          <p:sp>
            <p:nvSpPr>
              <p:cNvPr id="195" name=""/>
              <p:cNvSpPr/>
              <p:nvPr/>
            </p:nvSpPr>
            <p:spPr>
              <a:xfrm>
                <a:off x="1486080" y="4267080"/>
                <a:ext cx="1218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x =</a:t>
                </a:r>
                <a:endParaRPr b="0" lang="en-US" sz="4400" spc="-1" strike="noStrike">
                  <a:solidFill>
                    <a:srgbClr val="000000"/>
                  </a:solidFill>
                  <a:latin typeface="Times New Roman"/>
                </a:endParaRPr>
              </a:p>
            </p:txBody>
          </p:sp>
          <p:sp>
            <p:nvSpPr>
              <p:cNvPr id="196" name=""/>
              <p:cNvSpPr/>
              <p:nvPr/>
            </p:nvSpPr>
            <p:spPr>
              <a:xfrm>
                <a:off x="1714320" y="44352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a:off x="2590920" y="476856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a:t>
              </a:r>
              <a:endParaRPr b="0" lang="en-US" sz="3600" spc="-1" strike="noStrike">
                <a:solidFill>
                  <a:srgbClr val="000000"/>
                </a:solidFill>
                <a:latin typeface="Times New Roman"/>
              </a:endParaRPr>
            </a:p>
          </p:txBody>
        </p:sp>
        <p:grpSp>
          <p:nvGrpSpPr>
            <p:cNvPr id="198" name=""/>
            <p:cNvGrpSpPr/>
            <p:nvPr/>
          </p:nvGrpSpPr>
          <p:grpSpPr>
            <a:xfrm>
              <a:off x="2590920" y="4006800"/>
              <a:ext cx="5410080" cy="642600"/>
              <a:chOff x="2590920" y="4006800"/>
              <a:chExt cx="5410080" cy="642600"/>
            </a:xfrm>
          </p:grpSpPr>
          <p:sp>
            <p:nvSpPr>
              <p:cNvPr id="199" name=""/>
              <p:cNvSpPr/>
              <p:nvPr/>
            </p:nvSpPr>
            <p:spPr>
              <a:xfrm>
                <a:off x="2590920" y="400680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0 + 95 +100</a:t>
                </a:r>
                <a:endParaRPr b="0" lang="en-US" sz="3600" spc="-1" strike="noStrike">
                  <a:solidFill>
                    <a:srgbClr val="000000"/>
                  </a:solidFill>
                  <a:latin typeface="Times New Roman"/>
                </a:endParaRPr>
              </a:p>
            </p:txBody>
          </p:sp>
          <p:sp>
            <p:nvSpPr>
              <p:cNvPr id="200" name=""/>
              <p:cNvSpPr/>
              <p:nvPr/>
            </p:nvSpPr>
            <p:spPr>
              <a:xfrm>
                <a:off x="2590920" y="4647960"/>
                <a:ext cx="5410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1" name=""/>
          <p:cNvGrpSpPr/>
          <p:nvPr/>
        </p:nvGrpSpPr>
        <p:grpSpPr>
          <a:xfrm>
            <a:off x="2819520" y="5562720"/>
            <a:ext cx="3390840" cy="764280"/>
            <a:chOff x="2819520" y="5562720"/>
            <a:chExt cx="3390840" cy="764280"/>
          </a:xfrm>
        </p:grpSpPr>
        <p:sp>
          <p:nvSpPr>
            <p:cNvPr id="202" name=""/>
            <p:cNvSpPr/>
            <p:nvPr/>
          </p:nvSpPr>
          <p:spPr>
            <a:xfrm>
              <a:off x="2819520" y="5562720"/>
              <a:ext cx="3390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x = 95</a:t>
              </a:r>
              <a:endParaRPr b="0" lang="en-US" sz="4400" spc="-1" strike="noStrike">
                <a:solidFill>
                  <a:srgbClr val="000000"/>
                </a:solidFill>
                <a:latin typeface="Times New Roman"/>
              </a:endParaRPr>
            </a:p>
          </p:txBody>
        </p:sp>
        <p:sp>
          <p:nvSpPr>
            <p:cNvPr id="203" name=""/>
            <p:cNvSpPr/>
            <p:nvPr/>
          </p:nvSpPr>
          <p:spPr>
            <a:xfrm>
              <a:off x="3456000" y="5730840"/>
              <a:ext cx="84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85"/>
                                        </p:tgtEl>
                                        <p:attrNameLst>
                                          <p:attrName>style.visibility</p:attrName>
                                        </p:attrNameLst>
                                      </p:cBhvr>
                                      <p:to>
                                        <p:strVal val="visible"/>
                                      </p:to>
                                    </p:set>
                                    <p:animEffect filter="dissolve" transition="in">
                                      <p:cBhvr additive="repl">
                                        <p:cTn id="47" dur="500"/>
                                        <p:tgtEl>
                                          <p:spTgt spid="18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93"/>
                                        </p:tgtEl>
                                        <p:attrNameLst>
                                          <p:attrName>style.visibility</p:attrName>
                                        </p:attrNameLst>
                                      </p:cBhvr>
                                      <p:to>
                                        <p:strVal val="visible"/>
                                      </p:to>
                                    </p:set>
                                    <p:animEffect filter="dissolve" transition="in">
                                      <p:cBhvr additive="repl">
                                        <p:cTn id="52" dur="500"/>
                                        <p:tgtEl>
                                          <p:spTgt spid="19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01"/>
                                        </p:tgtEl>
                                        <p:attrNameLst>
                                          <p:attrName>style.visibility</p:attrName>
                                        </p:attrNameLst>
                                      </p:cBhvr>
                                      <p:to>
                                        <p:strVal val="visible"/>
                                      </p:to>
                                    </p:set>
                                    <p:animEffect filter="dissolve" transition="in">
                                      <p:cBhvr additive="repl">
                                        <p:cTn id="5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04"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
        <p:nvSpPr>
          <p:cNvPr id="205" name=""/>
          <p:cNvSpPr/>
          <p:nvPr/>
        </p:nvSpPr>
        <p:spPr>
          <a:xfrm>
            <a:off x="1066680" y="129528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Comic Sans MS"/>
              </a:rPr>
              <a:t>Test scores:</a:t>
            </a:r>
            <a:endParaRPr b="0" lang="en-US" sz="3600" spc="-1" strike="noStrike">
              <a:solidFill>
                <a:srgbClr val="000000"/>
              </a:solidFill>
              <a:latin typeface="Times New Roman"/>
            </a:endParaRPr>
          </a:p>
        </p:txBody>
      </p:sp>
      <p:sp>
        <p:nvSpPr>
          <p:cNvPr id="206" name=""/>
          <p:cNvSpPr/>
          <p:nvPr/>
        </p:nvSpPr>
        <p:spPr>
          <a:xfrm>
            <a:off x="2133720" y="20574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4</a:t>
            </a:r>
            <a:endParaRPr b="0" lang="en-US" sz="3600" spc="-1" strike="noStrike">
              <a:solidFill>
                <a:srgbClr val="000000"/>
              </a:solidFill>
              <a:latin typeface="Times New Roman"/>
            </a:endParaRPr>
          </a:p>
        </p:txBody>
      </p:sp>
      <p:sp>
        <p:nvSpPr>
          <p:cNvPr id="207" name=""/>
          <p:cNvSpPr/>
          <p:nvPr/>
        </p:nvSpPr>
        <p:spPr>
          <a:xfrm>
            <a:off x="2133720" y="2590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2</a:t>
            </a:r>
            <a:endParaRPr b="0" lang="en-US" sz="3600" spc="-1" strike="noStrike">
              <a:solidFill>
                <a:srgbClr val="000000"/>
              </a:solidFill>
              <a:latin typeface="Times New Roman"/>
            </a:endParaRPr>
          </a:p>
        </p:txBody>
      </p:sp>
      <p:sp>
        <p:nvSpPr>
          <p:cNvPr id="208" name=""/>
          <p:cNvSpPr/>
          <p:nvPr/>
        </p:nvSpPr>
        <p:spPr>
          <a:xfrm>
            <a:off x="2133720" y="312408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4</a:t>
            </a:r>
            <a:endParaRPr b="0" lang="en-US" sz="3600" spc="-1" strike="noStrike">
              <a:solidFill>
                <a:srgbClr val="000000"/>
              </a:solidFill>
              <a:latin typeface="Times New Roman"/>
            </a:endParaRPr>
          </a:p>
        </p:txBody>
      </p:sp>
      <p:sp>
        <p:nvSpPr>
          <p:cNvPr id="209" name=""/>
          <p:cNvSpPr/>
          <p:nvPr/>
        </p:nvSpPr>
        <p:spPr>
          <a:xfrm>
            <a:off x="2133720" y="3679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6</a:t>
            </a:r>
            <a:endParaRPr b="0" lang="en-US" sz="3600" spc="-1" strike="noStrike">
              <a:solidFill>
                <a:srgbClr val="000000"/>
              </a:solidFill>
              <a:latin typeface="Times New Roman"/>
            </a:endParaRPr>
          </a:p>
        </p:txBody>
      </p:sp>
      <p:grpSp>
        <p:nvGrpSpPr>
          <p:cNvPr id="210" name=""/>
          <p:cNvGrpSpPr/>
          <p:nvPr/>
        </p:nvGrpSpPr>
        <p:grpSpPr>
          <a:xfrm>
            <a:off x="1752480" y="3679920"/>
            <a:ext cx="1371600" cy="1198080"/>
            <a:chOff x="1752480" y="3679920"/>
            <a:chExt cx="1371600" cy="1198080"/>
          </a:xfrm>
        </p:grpSpPr>
        <p:sp>
          <p:nvSpPr>
            <p:cNvPr id="211" name=""/>
            <p:cNvSpPr/>
            <p:nvPr/>
          </p:nvSpPr>
          <p:spPr>
            <a:xfrm>
              <a:off x="1752480" y="3679920"/>
              <a:ext cx="381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a:t>
              </a:r>
              <a:endParaRPr b="0" lang="en-US" sz="3600" spc="-1" strike="noStrike">
                <a:solidFill>
                  <a:srgbClr val="000000"/>
                </a:solidFill>
                <a:latin typeface="Times New Roman"/>
              </a:endParaRPr>
            </a:p>
          </p:txBody>
        </p:sp>
        <p:sp>
          <p:nvSpPr>
            <p:cNvPr id="212" name=""/>
            <p:cNvSpPr/>
            <p:nvPr/>
          </p:nvSpPr>
          <p:spPr>
            <a:xfrm>
              <a:off x="1828800" y="4267440"/>
              <a:ext cx="1295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828800" y="423540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356</a:t>
              </a:r>
              <a:endParaRPr b="0" lang="en-US" sz="3600" spc="-1" strike="noStrike">
                <a:solidFill>
                  <a:srgbClr val="000000"/>
                </a:solidFill>
                <a:latin typeface="Times New Roman"/>
              </a:endParaRPr>
            </a:p>
          </p:txBody>
        </p:sp>
      </p:grpSp>
      <p:grpSp>
        <p:nvGrpSpPr>
          <p:cNvPr id="214" name=""/>
          <p:cNvGrpSpPr/>
          <p:nvPr/>
        </p:nvGrpSpPr>
        <p:grpSpPr>
          <a:xfrm>
            <a:off x="2971800" y="2286000"/>
            <a:ext cx="1905120" cy="1752480"/>
            <a:chOff x="2971800" y="2286000"/>
            <a:chExt cx="1905120" cy="1752480"/>
          </a:xfrm>
        </p:grpSpPr>
        <p:sp>
          <p:nvSpPr>
            <p:cNvPr id="215" name=""/>
            <p:cNvSpPr/>
            <p:nvPr/>
          </p:nvSpPr>
          <p:spPr>
            <a:xfrm>
              <a:off x="2971800" y="2286000"/>
              <a:ext cx="304920" cy="1752480"/>
            </a:xfrm>
            <a:custGeom>
              <a:avLst/>
              <a:gdLst>
                <a:gd name="textAreaLeft" fmla="*/ 0 w 304920"/>
                <a:gd name="textAreaRight" fmla="*/ 110160 w 30492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200400" y="287172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Comic Sans MS"/>
                </a:rPr>
                <a:t>4 tests</a:t>
              </a:r>
              <a:endParaRPr b="0" lang="en-US" sz="3200" spc="-1" strike="noStrike">
                <a:solidFill>
                  <a:srgbClr val="000000"/>
                </a:solidFill>
                <a:latin typeface="Times New Roman"/>
              </a:endParaRPr>
            </a:p>
          </p:txBody>
        </p:sp>
      </p:grpSp>
      <p:grpSp>
        <p:nvGrpSpPr>
          <p:cNvPr id="217" name=""/>
          <p:cNvGrpSpPr/>
          <p:nvPr/>
        </p:nvGrpSpPr>
        <p:grpSpPr>
          <a:xfrm>
            <a:off x="5410080" y="1295280"/>
            <a:ext cx="2514600" cy="1876680"/>
            <a:chOff x="5410080" y="1295280"/>
            <a:chExt cx="2514600" cy="1876680"/>
          </a:xfrm>
        </p:grpSpPr>
        <p:sp>
          <p:nvSpPr>
            <p:cNvPr id="218" name=""/>
            <p:cNvSpPr/>
            <p:nvPr/>
          </p:nvSpPr>
          <p:spPr>
            <a:xfrm>
              <a:off x="5410080" y="129528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Comic Sans MS"/>
                </a:rPr>
                <a:t>Average =</a:t>
              </a:r>
              <a:endParaRPr b="0" lang="en-US" sz="3600" spc="-1" strike="noStrike">
                <a:solidFill>
                  <a:srgbClr val="000000"/>
                </a:solidFill>
                <a:latin typeface="Times New Roman"/>
              </a:endParaRPr>
            </a:p>
          </p:txBody>
        </p:sp>
        <p:grpSp>
          <p:nvGrpSpPr>
            <p:cNvPr id="219" name=""/>
            <p:cNvGrpSpPr/>
            <p:nvPr/>
          </p:nvGrpSpPr>
          <p:grpSpPr>
            <a:xfrm>
              <a:off x="6019920" y="2057040"/>
              <a:ext cx="1218960" cy="1114920"/>
              <a:chOff x="6019920" y="2057040"/>
              <a:chExt cx="1218960" cy="1114920"/>
            </a:xfrm>
          </p:grpSpPr>
          <p:sp>
            <p:nvSpPr>
              <p:cNvPr id="220" name=""/>
              <p:cNvSpPr/>
              <p:nvPr/>
            </p:nvSpPr>
            <p:spPr>
              <a:xfrm>
                <a:off x="6019920" y="2057040"/>
                <a:ext cx="1218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356</a:t>
                </a:r>
                <a:endParaRPr b="0" lang="en-US" sz="3200" spc="-1" strike="noStrike">
                  <a:solidFill>
                    <a:srgbClr val="000000"/>
                  </a:solidFill>
                  <a:latin typeface="Times New Roman"/>
                </a:endParaRPr>
              </a:p>
            </p:txBody>
          </p:sp>
          <p:sp>
            <p:nvSpPr>
              <p:cNvPr id="221" name=""/>
              <p:cNvSpPr/>
              <p:nvPr/>
            </p:nvSpPr>
            <p:spPr>
              <a:xfrm>
                <a:off x="6019920" y="2590560"/>
                <a:ext cx="12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362640" y="2590560"/>
                <a:ext cx="53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Comic Sans MS"/>
                  </a:rPr>
                  <a:t>4</a:t>
                </a:r>
                <a:endParaRPr b="0" lang="en-US" sz="3200" spc="-1" strike="noStrike">
                  <a:solidFill>
                    <a:srgbClr val="000000"/>
                  </a:solidFill>
                  <a:latin typeface="Times New Roman"/>
                </a:endParaRPr>
              </a:p>
            </p:txBody>
          </p:sp>
        </p:grpSp>
        <p:sp>
          <p:nvSpPr>
            <p:cNvPr id="223" name=""/>
            <p:cNvSpPr/>
            <p:nvPr/>
          </p:nvSpPr>
          <p:spPr>
            <a:xfrm>
              <a:off x="7266240" y="22921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grpSp>
      <p:grpSp>
        <p:nvGrpSpPr>
          <p:cNvPr id="224" name=""/>
          <p:cNvGrpSpPr/>
          <p:nvPr/>
        </p:nvGrpSpPr>
        <p:grpSpPr>
          <a:xfrm>
            <a:off x="5638680" y="3092400"/>
            <a:ext cx="1904760" cy="2166840"/>
            <a:chOff x="5638680" y="3092400"/>
            <a:chExt cx="1904760" cy="2166840"/>
          </a:xfrm>
        </p:grpSpPr>
        <p:sp>
          <p:nvSpPr>
            <p:cNvPr id="225" name=""/>
            <p:cNvSpPr/>
            <p:nvPr/>
          </p:nvSpPr>
          <p:spPr>
            <a:xfrm>
              <a:off x="5638680" y="359424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66"/>
                  </a:solidFill>
                  <a:latin typeface="Comic Sans MS"/>
                </a:rPr>
                <a:t>4</a:t>
              </a:r>
              <a:r>
                <a:rPr b="0" lang="en-US" sz="3600" spc="-1" strike="noStrike">
                  <a:solidFill>
                    <a:srgbClr val="000000"/>
                  </a:solidFill>
                  <a:latin typeface="Comic Sans MS"/>
                </a:rPr>
                <a:t> ) </a:t>
              </a:r>
              <a:r>
                <a:rPr b="0" lang="en-US" sz="3600" spc="-1" strike="noStrike">
                  <a:solidFill>
                    <a:srgbClr val="0000ff"/>
                  </a:solidFill>
                  <a:latin typeface="Comic Sans MS"/>
                </a:rPr>
                <a:t>356</a:t>
              </a:r>
              <a:endParaRPr b="0" lang="en-US" sz="3600" spc="-1" strike="noStrike">
                <a:solidFill>
                  <a:srgbClr val="000000"/>
                </a:solidFill>
                <a:latin typeface="Times New Roman"/>
              </a:endParaRPr>
            </a:p>
          </p:txBody>
        </p:sp>
        <p:sp>
          <p:nvSpPr>
            <p:cNvPr id="226" name=""/>
            <p:cNvSpPr/>
            <p:nvPr/>
          </p:nvSpPr>
          <p:spPr>
            <a:xfrm>
              <a:off x="6248160" y="3679920"/>
              <a:ext cx="12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592680" y="30924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9</a:t>
              </a:r>
              <a:endParaRPr b="0" lang="en-US" sz="3600" spc="-1" strike="noStrike">
                <a:solidFill>
                  <a:srgbClr val="000000"/>
                </a:solidFill>
                <a:latin typeface="Times New Roman"/>
              </a:endParaRPr>
            </a:p>
          </p:txBody>
        </p:sp>
        <p:sp>
          <p:nvSpPr>
            <p:cNvPr id="228" name=""/>
            <p:cNvSpPr/>
            <p:nvPr/>
          </p:nvSpPr>
          <p:spPr>
            <a:xfrm>
              <a:off x="6095880" y="403884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32</a:t>
              </a:r>
              <a:endParaRPr b="0" lang="en-US" sz="3600" spc="-1" strike="noStrike">
                <a:solidFill>
                  <a:srgbClr val="000000"/>
                </a:solidFill>
                <a:latin typeface="Times New Roman"/>
              </a:endParaRPr>
            </a:p>
          </p:txBody>
        </p:sp>
        <p:sp>
          <p:nvSpPr>
            <p:cNvPr id="229" name=""/>
            <p:cNvSpPr/>
            <p:nvPr/>
          </p:nvSpPr>
          <p:spPr>
            <a:xfrm>
              <a:off x="6248160" y="464832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705360" y="461664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6</a:t>
              </a:r>
              <a:endParaRPr b="0" lang="en-US" sz="3600" spc="-1" strike="noStrike">
                <a:solidFill>
                  <a:srgbClr val="000000"/>
                </a:solidFill>
                <a:latin typeface="Times New Roman"/>
              </a:endParaRPr>
            </a:p>
          </p:txBody>
        </p:sp>
      </p:grpSp>
      <p:sp>
        <p:nvSpPr>
          <p:cNvPr id="231" name=""/>
          <p:cNvSpPr/>
          <p:nvPr/>
        </p:nvSpPr>
        <p:spPr>
          <a:xfrm>
            <a:off x="1981080" y="4952880"/>
            <a:ext cx="518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The average, or arithmetic mean, is 89</a:t>
            </a: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pic>
        <p:nvPicPr>
          <p:cNvPr id="232" name="" descr=""/>
          <p:cNvPicPr/>
          <p:nvPr/>
        </p:nvPicPr>
        <p:blipFill>
          <a:blip r:embed="rId1"/>
          <a:stretch/>
        </p:blipFill>
        <p:spPr>
          <a:xfrm>
            <a:off x="3997440" y="1295280"/>
            <a:ext cx="1565280" cy="1494000"/>
          </a:xfrm>
          <a:prstGeom prst="rect">
            <a:avLst/>
          </a:prstGeom>
          <a:ln w="0">
            <a:noFill/>
          </a:ln>
        </p:spPr>
      </p:pic>
    </p:spTree>
  </p:cSld>
  <p:transition>
    <p:pull dir="l"/>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10"/>
                                        </p:tgtEl>
                                        <p:attrNameLst>
                                          <p:attrName>style.visibility</p:attrName>
                                        </p:attrNameLst>
                                      </p:cBhvr>
                                      <p:to>
                                        <p:strVal val="visible"/>
                                      </p:to>
                                    </p:set>
                                    <p:animEffect filter="wipe(left)" transition="in">
                                      <p:cBhvr additive="repl">
                                        <p:cTn id="64" dur="500"/>
                                        <p:tgtEl>
                                          <p:spTgt spid="21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214"/>
                                        </p:tgtEl>
                                        <p:attrNameLst>
                                          <p:attrName>style.visibility</p:attrName>
                                        </p:attrNameLst>
                                      </p:cBhvr>
                                      <p:to>
                                        <p:strVal val="visible"/>
                                      </p:to>
                                    </p:set>
                                    <p:animEffect filter="wipe(left)" transition="in">
                                      <p:cBhvr additive="repl">
                                        <p:cTn id="69" dur="500"/>
                                        <p:tgtEl>
                                          <p:spTgt spid="21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217"/>
                                        </p:tgtEl>
                                        <p:attrNameLst>
                                          <p:attrName>style.visibility</p:attrName>
                                        </p:attrNameLst>
                                      </p:cBhvr>
                                      <p:to>
                                        <p:strVal val="visible"/>
                                      </p:to>
                                    </p:set>
                                    <p:animEffect filter="wipe(up)" transition="in">
                                      <p:cBhvr additive="repl">
                                        <p:cTn id="74" dur="500"/>
                                        <p:tgtEl>
                                          <p:spTgt spid="21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224"/>
                                        </p:tgtEl>
                                        <p:attrNameLst>
                                          <p:attrName>style.visibility</p:attrName>
                                        </p:attrNameLst>
                                      </p:cBhvr>
                                      <p:to>
                                        <p:strVal val="visible"/>
                                      </p:to>
                                    </p:set>
                                    <p:animEffect filter="wipe(up)" transition="in">
                                      <p:cBhvr additive="repl">
                                        <p:cTn id="79" dur="500"/>
                                        <p:tgtEl>
                                          <p:spTgt spid="22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231"/>
                                        </p:tgtEl>
                                        <p:attrNameLst>
                                          <p:attrName>style.visibility</p:attrName>
                                        </p:attrNameLst>
                                      </p:cBhvr>
                                      <p:to>
                                        <p:strVal val="visible"/>
                                      </p:to>
                                    </p:set>
                                    <p:anim calcmode="lin" valueType="num">
                                      <p:cBhvr additive="repl">
                                        <p:cTn id="84" dur="500" fill="hold"/>
                                        <p:tgtEl>
                                          <p:spTgt spid="231"/>
                                        </p:tgtEl>
                                        <p:attrNameLst>
                                          <p:attrName>ppt_w</p:attrName>
                                        </p:attrNameLst>
                                      </p:cBhvr>
                                      <p:tavLst>
                                        <p:tav tm="0">
                                          <p:val>
                                            <p:fltVal val="0"/>
                                          </p:val>
                                        </p:tav>
                                        <p:tav tm="100000">
                                          <p:val>
                                            <p:strVal val="#ppt_w"/>
                                          </p:val>
                                        </p:tav>
                                      </p:tavLst>
                                    </p:anim>
                                    <p:anim calcmode="lin" valueType="num">
                                      <p:cBhvr additive="repl">
                                        <p:cTn id="85" dur="500" fill="hold"/>
                                        <p:tgtEl>
                                          <p:spTgt spid="2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33"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sp>
        <p:nvSpPr>
          <p:cNvPr id="234" name=""/>
          <p:cNvSpPr/>
          <p:nvPr/>
        </p:nvSpPr>
        <p:spPr>
          <a:xfrm>
            <a:off x="1066680" y="129528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ff"/>
                </a:solidFill>
                <a:latin typeface="Comic Sans MS"/>
              </a:rPr>
              <a:t>Home prices:</a:t>
            </a:r>
            <a:endParaRPr b="0" lang="en-US" sz="3600" spc="-1" strike="noStrike">
              <a:solidFill>
                <a:srgbClr val="000000"/>
              </a:solidFill>
              <a:latin typeface="Times New Roman"/>
            </a:endParaRPr>
          </a:p>
        </p:txBody>
      </p:sp>
      <p:sp>
        <p:nvSpPr>
          <p:cNvPr id="235" name=""/>
          <p:cNvSpPr/>
          <p:nvPr/>
        </p:nvSpPr>
        <p:spPr>
          <a:xfrm>
            <a:off x="1447920" y="190512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0,000</a:t>
            </a:r>
            <a:endParaRPr b="0" lang="en-US" sz="3600" spc="-1" strike="noStrike">
              <a:solidFill>
                <a:srgbClr val="000000"/>
              </a:solidFill>
              <a:latin typeface="Times New Roman"/>
            </a:endParaRPr>
          </a:p>
        </p:txBody>
      </p:sp>
      <p:sp>
        <p:nvSpPr>
          <p:cNvPr id="236" name=""/>
          <p:cNvSpPr/>
          <p:nvPr/>
        </p:nvSpPr>
        <p:spPr>
          <a:xfrm>
            <a:off x="1371600" y="248292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0,000</a:t>
            </a:r>
            <a:endParaRPr b="0" lang="en-US" sz="3600" spc="-1" strike="noStrike">
              <a:solidFill>
                <a:srgbClr val="000000"/>
              </a:solidFill>
              <a:latin typeface="Times New Roman"/>
            </a:endParaRPr>
          </a:p>
        </p:txBody>
      </p:sp>
      <p:sp>
        <p:nvSpPr>
          <p:cNvPr id="237" name=""/>
          <p:cNvSpPr/>
          <p:nvPr/>
        </p:nvSpPr>
        <p:spPr>
          <a:xfrm>
            <a:off x="1447920" y="30924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0,000</a:t>
            </a:r>
            <a:endParaRPr b="0" lang="en-US" sz="3600" spc="-1" strike="noStrike">
              <a:solidFill>
                <a:srgbClr val="000000"/>
              </a:solidFill>
              <a:latin typeface="Times New Roman"/>
            </a:endParaRPr>
          </a:p>
        </p:txBody>
      </p:sp>
      <p:sp>
        <p:nvSpPr>
          <p:cNvPr id="238" name=""/>
          <p:cNvSpPr/>
          <p:nvPr/>
        </p:nvSpPr>
        <p:spPr>
          <a:xfrm>
            <a:off x="1447920" y="370188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5,000</a:t>
            </a:r>
            <a:endParaRPr b="0" lang="en-US" sz="3600" spc="-1" strike="noStrike">
              <a:solidFill>
                <a:srgbClr val="000000"/>
              </a:solidFill>
              <a:latin typeface="Times New Roman"/>
            </a:endParaRPr>
          </a:p>
        </p:txBody>
      </p:sp>
      <p:sp>
        <p:nvSpPr>
          <p:cNvPr id="239" name=""/>
          <p:cNvSpPr/>
          <p:nvPr/>
        </p:nvSpPr>
        <p:spPr>
          <a:xfrm>
            <a:off x="1295280" y="426708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05,000</a:t>
            </a:r>
            <a:endParaRPr b="0" lang="en-US" sz="3600" spc="-1" strike="noStrike">
              <a:solidFill>
                <a:srgbClr val="000000"/>
              </a:solidFill>
              <a:latin typeface="Times New Roman"/>
            </a:endParaRPr>
          </a:p>
        </p:txBody>
      </p:sp>
      <p:grpSp>
        <p:nvGrpSpPr>
          <p:cNvPr id="240" name=""/>
          <p:cNvGrpSpPr/>
          <p:nvPr/>
        </p:nvGrpSpPr>
        <p:grpSpPr>
          <a:xfrm>
            <a:off x="990720" y="4267080"/>
            <a:ext cx="2590560" cy="1252080"/>
            <a:chOff x="990720" y="4267080"/>
            <a:chExt cx="2590560" cy="1252080"/>
          </a:xfrm>
        </p:grpSpPr>
        <p:sp>
          <p:nvSpPr>
            <p:cNvPr id="241" name=""/>
            <p:cNvSpPr/>
            <p:nvPr/>
          </p:nvSpPr>
          <p:spPr>
            <a:xfrm>
              <a:off x="990720" y="4267080"/>
              <a:ext cx="380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a:t>
              </a:r>
              <a:endParaRPr b="0" lang="en-US" sz="3600" spc="-1" strike="noStrike">
                <a:solidFill>
                  <a:srgbClr val="000000"/>
                </a:solidFill>
                <a:latin typeface="Times New Roman"/>
              </a:endParaRPr>
            </a:p>
          </p:txBody>
        </p:sp>
        <p:sp>
          <p:nvSpPr>
            <p:cNvPr id="242" name=""/>
            <p:cNvSpPr/>
            <p:nvPr/>
          </p:nvSpPr>
          <p:spPr>
            <a:xfrm>
              <a:off x="1066680" y="4898880"/>
              <a:ext cx="25146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066680" y="487656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480,000</a:t>
              </a:r>
              <a:endParaRPr b="0" lang="en-US" sz="3600" spc="-1" strike="noStrike">
                <a:solidFill>
                  <a:srgbClr val="000000"/>
                </a:solidFill>
                <a:latin typeface="Times New Roman"/>
              </a:endParaRPr>
            </a:p>
          </p:txBody>
        </p:sp>
      </p:grpSp>
      <p:grpSp>
        <p:nvGrpSpPr>
          <p:cNvPr id="244" name=""/>
          <p:cNvGrpSpPr/>
          <p:nvPr/>
        </p:nvGrpSpPr>
        <p:grpSpPr>
          <a:xfrm>
            <a:off x="3581280" y="2209680"/>
            <a:ext cx="1524240" cy="2362320"/>
            <a:chOff x="3581280" y="2209680"/>
            <a:chExt cx="1524240" cy="2362320"/>
          </a:xfrm>
        </p:grpSpPr>
        <p:sp>
          <p:nvSpPr>
            <p:cNvPr id="245" name=""/>
            <p:cNvSpPr/>
            <p:nvPr/>
          </p:nvSpPr>
          <p:spPr>
            <a:xfrm>
              <a:off x="3581280" y="2209680"/>
              <a:ext cx="304920" cy="2362320"/>
            </a:xfrm>
            <a:custGeom>
              <a:avLst/>
              <a:gdLst>
                <a:gd name="textAreaLeft" fmla="*/ 0 w 304920"/>
                <a:gd name="textAreaRight" fmla="*/ 110160 w 30492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2857680"/>
              <a:ext cx="1447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Comic Sans MS"/>
                </a:rPr>
                <a:t>5 prices</a:t>
              </a:r>
              <a:endParaRPr b="0" lang="en-US" sz="3200" spc="-1" strike="noStrike">
                <a:solidFill>
                  <a:srgbClr val="000000"/>
                </a:solidFill>
                <a:latin typeface="Times New Roman"/>
              </a:endParaRPr>
            </a:p>
          </p:txBody>
        </p:sp>
      </p:grpSp>
      <p:grpSp>
        <p:nvGrpSpPr>
          <p:cNvPr id="247" name=""/>
          <p:cNvGrpSpPr/>
          <p:nvPr/>
        </p:nvGrpSpPr>
        <p:grpSpPr>
          <a:xfrm>
            <a:off x="4915080" y="1554120"/>
            <a:ext cx="3555720" cy="1114920"/>
            <a:chOff x="4915080" y="1554120"/>
            <a:chExt cx="3555720" cy="1114920"/>
          </a:xfrm>
        </p:grpSpPr>
        <p:sp>
          <p:nvSpPr>
            <p:cNvPr id="248" name=""/>
            <p:cNvSpPr/>
            <p:nvPr/>
          </p:nvSpPr>
          <p:spPr>
            <a:xfrm>
              <a:off x="4915080" y="1789200"/>
              <a:ext cx="95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x =</a:t>
              </a:r>
              <a:endParaRPr b="0" lang="en-US" sz="3600" spc="-1" strike="noStrike">
                <a:solidFill>
                  <a:srgbClr val="000000"/>
                </a:solidFill>
                <a:latin typeface="Times New Roman"/>
              </a:endParaRPr>
            </a:p>
          </p:txBody>
        </p:sp>
        <p:grpSp>
          <p:nvGrpSpPr>
            <p:cNvPr id="249" name=""/>
            <p:cNvGrpSpPr/>
            <p:nvPr/>
          </p:nvGrpSpPr>
          <p:grpSpPr>
            <a:xfrm>
              <a:off x="5791320" y="1554120"/>
              <a:ext cx="2209680" cy="1114920"/>
              <a:chOff x="5791320" y="1554120"/>
              <a:chExt cx="2209680" cy="1114920"/>
            </a:xfrm>
          </p:grpSpPr>
          <p:sp>
            <p:nvSpPr>
              <p:cNvPr id="250" name=""/>
              <p:cNvSpPr/>
              <p:nvPr/>
            </p:nvSpPr>
            <p:spPr>
              <a:xfrm>
                <a:off x="5791320" y="1554120"/>
                <a:ext cx="2209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480,000</a:t>
                </a:r>
                <a:endParaRPr b="0" lang="en-US" sz="3200" spc="-1" strike="noStrike">
                  <a:solidFill>
                    <a:srgbClr val="000000"/>
                  </a:solidFill>
                  <a:latin typeface="Times New Roman"/>
                </a:endParaRPr>
              </a:p>
            </p:txBody>
          </p:sp>
          <p:sp>
            <p:nvSpPr>
              <p:cNvPr id="251" name=""/>
              <p:cNvSpPr/>
              <p:nvPr/>
            </p:nvSpPr>
            <p:spPr>
              <a:xfrm>
                <a:off x="5791320" y="208764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629400" y="2087640"/>
                <a:ext cx="53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66"/>
                    </a:solidFill>
                    <a:latin typeface="Comic Sans MS"/>
                  </a:rPr>
                  <a:t>5</a:t>
                </a:r>
                <a:endParaRPr b="0" lang="en-US" sz="3200" spc="-1" strike="noStrike">
                  <a:solidFill>
                    <a:srgbClr val="000000"/>
                  </a:solidFill>
                  <a:latin typeface="Times New Roman"/>
                </a:endParaRPr>
              </a:p>
            </p:txBody>
          </p:sp>
        </p:grpSp>
        <p:sp>
          <p:nvSpPr>
            <p:cNvPr id="253" name=""/>
            <p:cNvSpPr/>
            <p:nvPr/>
          </p:nvSpPr>
          <p:spPr>
            <a:xfrm>
              <a:off x="8028000" y="1790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254" name=""/>
            <p:cNvSpPr/>
            <p:nvPr/>
          </p:nvSpPr>
          <p:spPr>
            <a:xfrm>
              <a:off x="5105520" y="19810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5257800" y="2711520"/>
            <a:ext cx="2855880" cy="2698560"/>
            <a:chOff x="5257800" y="2711520"/>
            <a:chExt cx="2855880" cy="2698560"/>
          </a:xfrm>
        </p:grpSpPr>
        <p:sp>
          <p:nvSpPr>
            <p:cNvPr id="256" name=""/>
            <p:cNvSpPr/>
            <p:nvPr/>
          </p:nvSpPr>
          <p:spPr>
            <a:xfrm>
              <a:off x="5257800" y="3213000"/>
              <a:ext cx="2819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66"/>
                  </a:solidFill>
                  <a:latin typeface="Comic Sans MS"/>
                </a:rPr>
                <a:t>5</a:t>
              </a:r>
              <a:r>
                <a:rPr b="0" lang="en-US" sz="3600" spc="-1" strike="noStrike">
                  <a:solidFill>
                    <a:srgbClr val="000000"/>
                  </a:solidFill>
                  <a:latin typeface="Comic Sans MS"/>
                </a:rPr>
                <a:t> ) </a:t>
              </a:r>
              <a:r>
                <a:rPr b="0" lang="en-US" sz="3600" spc="-1" strike="noStrike">
                  <a:solidFill>
                    <a:srgbClr val="0000ff"/>
                  </a:solidFill>
                  <a:latin typeface="Comic Sans MS"/>
                </a:rPr>
                <a:t>480,000</a:t>
              </a:r>
              <a:endParaRPr b="0" lang="en-US" sz="3600" spc="-1" strike="noStrike">
                <a:solidFill>
                  <a:srgbClr val="000000"/>
                </a:solidFill>
                <a:latin typeface="Times New Roman"/>
              </a:endParaRPr>
            </a:p>
          </p:txBody>
        </p:sp>
        <p:sp>
          <p:nvSpPr>
            <p:cNvPr id="257" name=""/>
            <p:cNvSpPr/>
            <p:nvPr/>
          </p:nvSpPr>
          <p:spPr>
            <a:xfrm>
              <a:off x="5867640" y="329868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248520" y="2711520"/>
              <a:ext cx="1865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6,000</a:t>
              </a:r>
              <a:endParaRPr b="0" lang="en-US" sz="3600" spc="-1" strike="noStrike">
                <a:solidFill>
                  <a:srgbClr val="000000"/>
                </a:solidFill>
                <a:latin typeface="Times New Roman"/>
              </a:endParaRPr>
            </a:p>
          </p:txBody>
        </p:sp>
        <p:sp>
          <p:nvSpPr>
            <p:cNvPr id="259" name=""/>
            <p:cNvSpPr/>
            <p:nvPr/>
          </p:nvSpPr>
          <p:spPr>
            <a:xfrm>
              <a:off x="5715000" y="365760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45</a:t>
              </a:r>
              <a:endParaRPr b="0" lang="en-US" sz="3600" spc="-1" strike="noStrike">
                <a:solidFill>
                  <a:srgbClr val="000000"/>
                </a:solidFill>
                <a:latin typeface="Times New Roman"/>
              </a:endParaRPr>
            </a:p>
          </p:txBody>
        </p:sp>
        <p:sp>
          <p:nvSpPr>
            <p:cNvPr id="260" name=""/>
            <p:cNvSpPr/>
            <p:nvPr/>
          </p:nvSpPr>
          <p:spPr>
            <a:xfrm>
              <a:off x="5867640" y="426708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324840" y="426708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0</a:t>
              </a:r>
              <a:endParaRPr b="0" lang="en-US" sz="3600" spc="-1" strike="noStrike">
                <a:solidFill>
                  <a:srgbClr val="000000"/>
                </a:solidFill>
                <a:latin typeface="Times New Roman"/>
              </a:endParaRPr>
            </a:p>
          </p:txBody>
        </p:sp>
        <p:sp>
          <p:nvSpPr>
            <p:cNvPr id="262" name=""/>
            <p:cNvSpPr/>
            <p:nvPr/>
          </p:nvSpPr>
          <p:spPr>
            <a:xfrm>
              <a:off x="6019920" y="472428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30</a:t>
              </a:r>
              <a:endParaRPr b="0" lang="en-US" sz="3600" spc="-1" strike="noStrike">
                <a:solidFill>
                  <a:srgbClr val="000000"/>
                </a:solidFill>
                <a:latin typeface="Times New Roman"/>
              </a:endParaRPr>
            </a:p>
          </p:txBody>
        </p:sp>
        <p:sp>
          <p:nvSpPr>
            <p:cNvPr id="263" name=""/>
            <p:cNvSpPr/>
            <p:nvPr/>
          </p:nvSpPr>
          <p:spPr>
            <a:xfrm>
              <a:off x="6096240" y="533412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096240" y="541008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
          <p:cNvSpPr/>
          <p:nvPr/>
        </p:nvSpPr>
        <p:spPr>
          <a:xfrm>
            <a:off x="609480" y="568332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average home price is </a:t>
            </a:r>
            <a:r>
              <a:rPr b="0" lang="en-US" sz="3600" spc="-1" strike="noStrike">
                <a:solidFill>
                  <a:srgbClr val="0000ff"/>
                </a:solidFill>
                <a:latin typeface="Comic Sans MS"/>
              </a:rPr>
              <a:t>$96,000</a:t>
            </a: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pic>
        <p:nvPicPr>
          <p:cNvPr id="266" name="" descr=""/>
          <p:cNvPicPr/>
          <p:nvPr/>
        </p:nvPicPr>
        <p:blipFill>
          <a:blip r:embed="rId1"/>
          <a:stretch/>
        </p:blipFill>
        <p:spPr>
          <a:xfrm>
            <a:off x="3929040" y="4025880"/>
            <a:ext cx="2014560" cy="161280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40"/>
                                        </p:tgtEl>
                                        <p:attrNameLst>
                                          <p:attrName>style.visibility</p:attrName>
                                        </p:attrNameLst>
                                      </p:cBhvr>
                                      <p:to>
                                        <p:strVal val="visible"/>
                                      </p:to>
                                    </p:set>
                                    <p:animEffect filter="wipe(left)" transition="in">
                                      <p:cBhvr additive="repl">
                                        <p:cTn id="92" dur="500"/>
                                        <p:tgtEl>
                                          <p:spTgt spid="24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244"/>
                                        </p:tgtEl>
                                        <p:attrNameLst>
                                          <p:attrName>style.visibility</p:attrName>
                                        </p:attrNameLst>
                                      </p:cBhvr>
                                      <p:to>
                                        <p:strVal val="visible"/>
                                      </p:to>
                                    </p:set>
                                    <p:animEffect filter="wipe(left)" transition="in">
                                      <p:cBhvr additive="repl">
                                        <p:cTn id="97" dur="500"/>
                                        <p:tgtEl>
                                          <p:spTgt spid="24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47"/>
                                        </p:tgtEl>
                                        <p:attrNameLst>
                                          <p:attrName>style.visibility</p:attrName>
                                        </p:attrNameLst>
                                      </p:cBhvr>
                                      <p:to>
                                        <p:strVal val="visible"/>
                                      </p:to>
                                    </p:set>
                                    <p:animEffect filter="wipe(left)" transition="in">
                                      <p:cBhvr additive="repl">
                                        <p:cTn id="102" dur="500"/>
                                        <p:tgtEl>
                                          <p:spTgt spid="24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255"/>
                                        </p:tgtEl>
                                        <p:attrNameLst>
                                          <p:attrName>style.visibility</p:attrName>
                                        </p:attrNameLst>
                                      </p:cBhvr>
                                      <p:to>
                                        <p:strVal val="visible"/>
                                      </p:to>
                                    </p:set>
                                    <p:animEffect filter="wipe(up)" transition="in">
                                      <p:cBhvr additive="repl">
                                        <p:cTn id="107" dur="500"/>
                                        <p:tgtEl>
                                          <p:spTgt spid="25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265"/>
                                        </p:tgtEl>
                                        <p:attrNameLst>
                                          <p:attrName>style.visibility</p:attrName>
                                        </p:attrNameLst>
                                      </p:cBhvr>
                                      <p:to>
                                        <p:strVal val="visible"/>
                                      </p:to>
                                    </p:set>
                                    <p:anim calcmode="lin" valueType="num">
                                      <p:cBhvr additive="repl">
                                        <p:cTn id="112" dur="500" fill="hold"/>
                                        <p:tgtEl>
                                          <p:spTgt spid="265"/>
                                        </p:tgtEl>
                                        <p:attrNameLst>
                                          <p:attrName>ppt_w</p:attrName>
                                        </p:attrNameLst>
                                      </p:cBhvr>
                                      <p:tavLst>
                                        <p:tav tm="0">
                                          <p:val>
                                            <p:fltVal val="0"/>
                                          </p:val>
                                        </p:tav>
                                        <p:tav tm="100000">
                                          <p:val>
                                            <p:strVal val="#ppt_w"/>
                                          </p:val>
                                        </p:tav>
                                      </p:tavLst>
                                    </p:anim>
                                    <p:anim calcmode="lin" valueType="num">
                                      <p:cBhvr additive="repl">
                                        <p:cTn id="113" dur="500" fill="hold"/>
                                        <p:tgtEl>
                                          <p:spTgt spid="2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7" name=""/>
          <p:cNvSpPr/>
          <p:nvPr/>
        </p:nvSpPr>
        <p:spPr>
          <a:xfrm>
            <a:off x="3429000" y="1359000"/>
            <a:ext cx="5329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y got her grade report in the mail.  It said that her MAT086 grade average was 90%.  She knew that of five exams, she got 84, 92, 94, 86 on the first four but she didn’t know the grade on the fifth exam.  What was her 5</a:t>
            </a:r>
            <a:r>
              <a:rPr b="0" lang="en-US" sz="3200" spc="-1" strike="noStrike" baseline="30000">
                <a:solidFill>
                  <a:srgbClr val="000000"/>
                </a:solidFill>
                <a:latin typeface="Comic Sans MS"/>
              </a:rPr>
              <a:t>th</a:t>
            </a:r>
            <a:r>
              <a:rPr b="0" lang="en-US" sz="3200" spc="-1" strike="noStrike">
                <a:solidFill>
                  <a:srgbClr val="000000"/>
                </a:solidFill>
                <a:latin typeface="Comic Sans MS"/>
              </a:rPr>
              <a:t> exam grade?</a:t>
            </a:r>
            <a:endParaRPr b="0" lang="en-US" sz="3200" spc="-1" strike="noStrike">
              <a:solidFill>
                <a:srgbClr val="000000"/>
              </a:solidFill>
              <a:latin typeface="Times New Roman"/>
            </a:endParaRPr>
          </a:p>
        </p:txBody>
      </p:sp>
      <p:pic>
        <p:nvPicPr>
          <p:cNvPr id="268" name="" descr=""/>
          <p:cNvPicPr/>
          <p:nvPr/>
        </p:nvPicPr>
        <p:blipFill>
          <a:blip r:embed="rId1"/>
          <a:stretch/>
        </p:blipFill>
        <p:spPr>
          <a:xfrm>
            <a:off x="550800" y="2133720"/>
            <a:ext cx="2725920" cy="4114800"/>
          </a:xfrm>
          <a:prstGeom prst="rect">
            <a:avLst/>
          </a:prstGeom>
          <a:ln w="0">
            <a:noFill/>
          </a:ln>
        </p:spPr>
      </p:pic>
      <p:sp>
        <p:nvSpPr>
          <p:cNvPr id="269" name=""/>
          <p:cNvSpPr/>
          <p:nvPr/>
        </p:nvSpPr>
        <p:spPr>
          <a:xfrm>
            <a:off x="3429000" y="1359000"/>
            <a:ext cx="5329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ry got her grade report in the mail.  It said that her MAT086 </a:t>
            </a:r>
            <a:r>
              <a:rPr b="0" lang="en-US" sz="3200" spc="-1" strike="noStrike">
                <a:solidFill>
                  <a:srgbClr val="3333cc"/>
                </a:solidFill>
                <a:latin typeface="Comic Sans MS"/>
              </a:rPr>
              <a:t>grade average was 90%.</a:t>
            </a:r>
            <a:r>
              <a:rPr b="0" lang="en-US" sz="3200" spc="-1" strike="noStrike">
                <a:solidFill>
                  <a:srgbClr val="000000"/>
                </a:solidFill>
                <a:latin typeface="Comic Sans MS"/>
              </a:rPr>
              <a:t>  She knew that of five exams, she got </a:t>
            </a:r>
            <a:r>
              <a:rPr b="0" lang="en-US" sz="3200" spc="-1" strike="noStrike">
                <a:solidFill>
                  <a:srgbClr val="3333cc"/>
                </a:solidFill>
                <a:latin typeface="Comic Sans MS"/>
              </a:rPr>
              <a:t>84, 92, 94, 86 on the first four</a:t>
            </a:r>
            <a:r>
              <a:rPr b="0" lang="en-US" sz="3200" spc="-1" strike="noStrike">
                <a:solidFill>
                  <a:srgbClr val="000000"/>
                </a:solidFill>
                <a:latin typeface="Comic Sans MS"/>
              </a:rPr>
              <a:t> but she didn’t know the grade on the fifth exam.  </a:t>
            </a:r>
            <a:r>
              <a:rPr b="0" lang="en-US" sz="3200" spc="-1" strike="noStrike">
                <a:solidFill>
                  <a:srgbClr val="00cc99"/>
                </a:solidFill>
                <a:latin typeface="Comic Sans MS"/>
              </a:rPr>
              <a:t>What was her 5</a:t>
            </a:r>
            <a:r>
              <a:rPr b="0" lang="en-US" sz="3200" spc="-1" strike="noStrike" baseline="30000">
                <a:solidFill>
                  <a:srgbClr val="00cc99"/>
                </a:solidFill>
                <a:latin typeface="Comic Sans MS"/>
              </a:rPr>
              <a:t>th</a:t>
            </a:r>
            <a:r>
              <a:rPr b="0" lang="en-US" sz="3200" spc="-1" strike="noStrike">
                <a:solidFill>
                  <a:srgbClr val="00cc99"/>
                </a:solidFill>
                <a:latin typeface="Comic Sans MS"/>
              </a:rPr>
              <a:t> exam grade?</a:t>
            </a:r>
            <a:endParaRPr b="0" lang="en-US" sz="3200" spc="-1" strike="noStrike">
              <a:solidFill>
                <a:srgbClr val="000000"/>
              </a:solidFill>
              <a:latin typeface="Times New Roman"/>
            </a:endParaRPr>
          </a:p>
        </p:txBody>
      </p:sp>
      <p:sp>
        <p:nvSpPr>
          <p:cNvPr id="270" name=""/>
          <p:cNvSpPr/>
          <p:nvPr/>
        </p:nvSpPr>
        <p:spPr>
          <a:xfrm>
            <a:off x="1752480" y="7002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ithmetic &amp; Weighted Mean</a:t>
            </a:r>
            <a:endParaRPr b="0" lang="en-US" sz="2800" spc="-1" strike="noStrike">
              <a:solidFill>
                <a:srgbClr val="000000"/>
              </a:solidFill>
              <a:latin typeface="Times New Roman"/>
            </a:endParaRPr>
          </a:p>
        </p:txBody>
      </p:sp>
      <p:grpSp>
        <p:nvGrpSpPr>
          <p:cNvPr id="271" name=""/>
          <p:cNvGrpSpPr/>
          <p:nvPr/>
        </p:nvGrpSpPr>
        <p:grpSpPr>
          <a:xfrm>
            <a:off x="579240" y="1236240"/>
            <a:ext cx="2289240" cy="1361880"/>
            <a:chOff x="579240" y="1236240"/>
            <a:chExt cx="2289240" cy="1361880"/>
          </a:xfrm>
        </p:grpSpPr>
        <p:sp>
          <p:nvSpPr>
            <p:cNvPr id="272" name=""/>
            <p:cNvSpPr/>
            <p:nvPr/>
          </p:nvSpPr>
          <p:spPr>
            <a:xfrm rot="20897400">
              <a:off x="617040" y="1509480"/>
              <a:ext cx="2057400" cy="384120"/>
            </a:xfrm>
            <a:prstGeom prst="roundRect">
              <a:avLst>
                <a:gd name="adj" fmla="val 16667"/>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0897400">
              <a:off x="653040" y="1443240"/>
              <a:ext cx="214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example</a:t>
              </a:r>
              <a:endParaRPr b="0" lang="en-US" sz="2800" spc="-1" strike="noStrike">
                <a:solidFill>
                  <a:srgbClr val="000000"/>
                </a:solidFill>
                <a:latin typeface="Times New Roman"/>
              </a:endParaRPr>
            </a:p>
          </p:txBody>
        </p:sp>
      </p:gr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69"/>
                                        </p:tgtEl>
                                        <p:attrNameLst>
                                          <p:attrName>style.visibility</p:attrName>
                                        </p:attrNameLst>
                                      </p:cBhvr>
                                      <p:to>
                                        <p:strVal val="visible"/>
                                      </p:to>
                                    </p:set>
                                    <p:animEffect filter="dissolve" transition="in">
                                      <p:cBhvr additive="repl">
                                        <p:cTn id="120"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seq>
              <p:cTn id="121" restart="whenNotActive" nodeType="interactiveSeq" fill="hold">
                <p:stCondLst>
                  <p:cond evt="onClick">
                    <p:tgtEl>
                      <p:spTgt spid="268"/>
                    </p:tgtEl>
                  </p:cond>
                </p:stCondLst>
                <p:childTnLst>
                  <p:par>
                    <p:cTn id="122" fill="hold">
                      <p:stCondLst>
                        <p:cond evt="onClick">
                          <p:tgtEl>
                            <p:spTgt spid="268"/>
                          </p:tgtEl>
                        </p:cond>
                      </p:stCondLst>
                      <p:childTnLst>
                        <p:par>
                          <p:cTn id="123" fill="hold">
                            <p:stCondLst>
                              <p:cond delay="0"/>
                            </p:stCondLst>
                            <p:childTnLst>
                              <p:par>
                                <p:cTn id="124" nodeType="clickEffect" fill="hold" presetClass="mediacall" presetID="2">
                                  <p:stCondLst>
                                    <p:cond delay="0"/>
                                  </p:stCondLst>
                                  <p:childTnLst>
                                    <p:cmd type="call" cmd="togglePause">
                                      <p:cBhvr>
                                        <p:cTn id="125" dur="1"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23:15:18Z</dcterms:created>
  <dc:creator>Community Campus</dc:creator>
  <dc:description/>
  <dc:language>en-US</dc:language>
  <cp:lastModifiedBy>iddcws</cp:lastModifiedBy>
  <dcterms:modified xsi:type="dcterms:W3CDTF">2003-01-28T19:37:33Z</dcterms:modified>
  <cp:revision>241</cp:revision>
  <dc:subject/>
  <dc:title>PowerPoint Presentation</dc:title>
</cp:coreProperties>
</file>