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45720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38088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439320" y="380880"/>
            <a:ext cx="21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2    Unit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06600"/>
            <a:ext cx="7772400" cy="4741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2" name=""/>
          <p:cNvSpPr/>
          <p:nvPr/>
        </p:nvSpPr>
        <p:spPr>
          <a:xfrm>
            <a:off x="3774600" y="2330280"/>
            <a:ext cx="12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Comic Sans MS"/>
              </a:rPr>
              <a:t>Div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58640" y="4692600"/>
            <a:ext cx="90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Comic Sans MS"/>
              </a:rPr>
              <a:t>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298400" y="342900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200400" y="609480"/>
            <a:ext cx="24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209680" y="3276720"/>
            <a:ext cx="556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ff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99ff"/>
                </a:solidFill>
                <a:latin typeface="Comic Sans MS"/>
              </a:rPr>
              <a:t>(2 + 2 + 2) = 3 x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505320" y="1371600"/>
            <a:ext cx="350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Multipl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277344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math shortcut for repeated ad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838080" y="4343400"/>
            <a:ext cx="7696080" cy="1736280"/>
            <a:chOff x="838080" y="4343400"/>
            <a:chExt cx="7696080" cy="1736280"/>
          </a:xfrm>
        </p:grpSpPr>
        <p:grpSp>
          <p:nvGrpSpPr>
            <p:cNvPr id="363" name=""/>
            <p:cNvGrpSpPr/>
            <p:nvPr/>
          </p:nvGrpSpPr>
          <p:grpSpPr>
            <a:xfrm>
              <a:off x="838080" y="4343400"/>
              <a:ext cx="2361960" cy="1736280"/>
              <a:chOff x="838080" y="4343400"/>
              <a:chExt cx="2361960" cy="1736280"/>
            </a:xfrm>
          </p:grpSpPr>
          <p:pic>
            <p:nvPicPr>
              <p:cNvPr id="36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38080" y="4343400"/>
                <a:ext cx="2024640" cy="928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75400" y="5151240"/>
                <a:ext cx="2024640" cy="928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66" name=""/>
            <p:cNvGrpSpPr/>
            <p:nvPr/>
          </p:nvGrpSpPr>
          <p:grpSpPr>
            <a:xfrm>
              <a:off x="3505320" y="4343400"/>
              <a:ext cx="2361960" cy="1736280"/>
              <a:chOff x="3505320" y="4343400"/>
              <a:chExt cx="2361960" cy="1736280"/>
            </a:xfrm>
          </p:grpSpPr>
          <p:pic>
            <p:nvPicPr>
              <p:cNvPr id="36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505320" y="4343400"/>
                <a:ext cx="2024640" cy="928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842640" y="5151240"/>
                <a:ext cx="2024640" cy="928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69" name=""/>
            <p:cNvGrpSpPr/>
            <p:nvPr/>
          </p:nvGrpSpPr>
          <p:grpSpPr>
            <a:xfrm>
              <a:off x="6248520" y="4419720"/>
              <a:ext cx="2285640" cy="1659960"/>
              <a:chOff x="6248520" y="4419720"/>
              <a:chExt cx="2285640" cy="1659960"/>
            </a:xfrm>
          </p:grpSpPr>
          <p:pic>
            <p:nvPicPr>
              <p:cNvPr id="37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248520" y="4419720"/>
                <a:ext cx="1959480" cy="88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574680" y="5191920"/>
                <a:ext cx="1959480" cy="887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72" name=""/>
          <p:cNvGrpSpPr/>
          <p:nvPr/>
        </p:nvGrpSpPr>
        <p:grpSpPr>
          <a:xfrm>
            <a:off x="979560" y="1371600"/>
            <a:ext cx="2678040" cy="1461960"/>
            <a:chOff x="979560" y="1371600"/>
            <a:chExt cx="2678040" cy="1461960"/>
          </a:xfrm>
        </p:grpSpPr>
        <p:pic>
          <p:nvPicPr>
            <p:cNvPr id="373" name="" descr=""/>
            <p:cNvPicPr/>
            <p:nvPr/>
          </p:nvPicPr>
          <p:blipFill>
            <a:blip r:embed="rId7"/>
            <a:stretch/>
          </p:blipFill>
          <p:spPr>
            <a:xfrm>
              <a:off x="979560" y="1371600"/>
              <a:ext cx="229716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990720" y="1676520"/>
              <a:ext cx="266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Comic Sans MS"/>
                </a:rPr>
                <a:t>Rememb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685800" y="1295280"/>
            <a:ext cx="2581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348720" y="533520"/>
            <a:ext cx="18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733920" y="14479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Div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583960" y="3276720"/>
            <a:ext cx="44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371600" y="3505320"/>
                <a:ext cx="173520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1143000" y="23623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rocess of successive subt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657600" y="3962520"/>
            <a:ext cx="19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Comic Sans MS"/>
              </a:rPr>
              <a:t>8 -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5400000">
            <a:off x="5523840" y="4152600"/>
            <a:ext cx="533520" cy="1676520"/>
          </a:xfrm>
          <a:custGeom>
            <a:avLst/>
            <a:gdLst>
              <a:gd name="textAreaLeft" fmla="*/ 0 w 533520"/>
              <a:gd name="textAreaRight" fmla="*/ 192600 w 5335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19720" y="5334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ke away 4 tw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562720" y="396252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Comic Sans MS"/>
              </a:rPr>
              <a:t>-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010280" y="3886200"/>
            <a:ext cx="16765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Comic Sans MS"/>
              </a:rPr>
              <a:t>= 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05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hing 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348720" y="533520"/>
            <a:ext cx="18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9480" y="133992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Division 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is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 successive subtr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3124080" y="4495680"/>
            <a:ext cx="1523520" cy="1752480"/>
            <a:chOff x="3124080" y="4495680"/>
            <a:chExt cx="1523520" cy="1752480"/>
          </a:xfrm>
        </p:grpSpPr>
        <p:grpSp>
          <p:nvGrpSpPr>
            <p:cNvPr id="390" name=""/>
            <p:cNvGrpSpPr/>
            <p:nvPr/>
          </p:nvGrpSpPr>
          <p:grpSpPr>
            <a:xfrm>
              <a:off x="3951360" y="5437440"/>
              <a:ext cx="696240" cy="810720"/>
              <a:chOff x="3951360" y="5437440"/>
              <a:chExt cx="696240" cy="810720"/>
            </a:xfrm>
          </p:grpSpPr>
          <p:sp>
            <p:nvSpPr>
              <p:cNvPr id="391" name=""/>
              <p:cNvSpPr/>
              <p:nvPr/>
            </p:nvSpPr>
            <p:spPr>
              <a:xfrm>
                <a:off x="3967560" y="5523840"/>
                <a:ext cx="653760" cy="708120"/>
              </a:xfrm>
              <a:custGeom>
                <a:avLst/>
                <a:gdLst/>
                <a:ahLst/>
                <a:rect l="l" t="t" r="r" b="b"/>
                <a:pathLst>
                  <a:path w="4164" h="3761">
                    <a:moveTo>
                      <a:pt x="0" y="1840"/>
                    </a:moveTo>
                    <a:lnTo>
                      <a:pt x="731" y="1861"/>
                    </a:lnTo>
                    <a:lnTo>
                      <a:pt x="1837" y="2435"/>
                    </a:lnTo>
                    <a:lnTo>
                      <a:pt x="1575" y="2790"/>
                    </a:lnTo>
                    <a:lnTo>
                      <a:pt x="1243" y="3260"/>
                    </a:lnTo>
                    <a:lnTo>
                      <a:pt x="1389" y="3573"/>
                    </a:lnTo>
                    <a:lnTo>
                      <a:pt x="1889" y="3761"/>
                    </a:lnTo>
                    <a:lnTo>
                      <a:pt x="2619" y="3720"/>
                    </a:lnTo>
                    <a:lnTo>
                      <a:pt x="3016" y="3376"/>
                    </a:lnTo>
                    <a:lnTo>
                      <a:pt x="3392" y="1724"/>
                    </a:lnTo>
                    <a:lnTo>
                      <a:pt x="4164" y="429"/>
                    </a:lnTo>
                    <a:lnTo>
                      <a:pt x="4048" y="272"/>
                    </a:lnTo>
                    <a:lnTo>
                      <a:pt x="3434" y="62"/>
                    </a:lnTo>
                    <a:lnTo>
                      <a:pt x="2495" y="0"/>
                    </a:lnTo>
                    <a:lnTo>
                      <a:pt x="1377" y="209"/>
                    </a:lnTo>
                    <a:lnTo>
                      <a:pt x="543" y="846"/>
                    </a:lnTo>
                    <a:lnTo>
                      <a:pt x="157" y="1442"/>
                    </a:lnTo>
                    <a:lnTo>
                      <a:pt x="0" y="1840"/>
                    </a:lnTo>
                    <a:lnTo>
                      <a:pt x="0" y="1840"/>
                    </a:lnTo>
                    <a:close/>
                  </a:path>
                </a:pathLst>
              </a:custGeom>
              <a:solidFill>
                <a:srgbClr val="fbd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182120" y="5602680"/>
                <a:ext cx="293040" cy="151200"/>
              </a:xfrm>
              <a:custGeom>
                <a:avLst/>
                <a:gdLst/>
                <a:ahLst/>
                <a:rect l="l" t="t" r="r" b="b"/>
                <a:pathLst>
                  <a:path w="1866" h="804">
                    <a:moveTo>
                      <a:pt x="0" y="407"/>
                    </a:moveTo>
                    <a:lnTo>
                      <a:pt x="302" y="701"/>
                    </a:lnTo>
                    <a:lnTo>
                      <a:pt x="960" y="804"/>
                    </a:lnTo>
                    <a:lnTo>
                      <a:pt x="1617" y="637"/>
                    </a:lnTo>
                    <a:lnTo>
                      <a:pt x="1866" y="523"/>
                    </a:lnTo>
                    <a:lnTo>
                      <a:pt x="1648" y="220"/>
                    </a:lnTo>
                    <a:lnTo>
                      <a:pt x="1074" y="0"/>
                    </a:lnTo>
                    <a:lnTo>
                      <a:pt x="521" y="42"/>
                    </a:lnTo>
                    <a:lnTo>
                      <a:pt x="0" y="407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282200" y="5626440"/>
                <a:ext cx="93240" cy="108360"/>
              </a:xfrm>
              <a:custGeom>
                <a:avLst/>
                <a:gdLst/>
                <a:ahLst/>
                <a:rect l="l" t="t" r="r" b="b"/>
                <a:pathLst>
                  <a:path w="595" h="576">
                    <a:moveTo>
                      <a:pt x="407" y="0"/>
                    </a:moveTo>
                    <a:lnTo>
                      <a:pt x="167" y="0"/>
                    </a:lnTo>
                    <a:lnTo>
                      <a:pt x="0" y="242"/>
                    </a:lnTo>
                    <a:lnTo>
                      <a:pt x="104" y="491"/>
                    </a:lnTo>
                    <a:lnTo>
                      <a:pt x="397" y="576"/>
                    </a:lnTo>
                    <a:lnTo>
                      <a:pt x="595" y="314"/>
                    </a:lnTo>
                    <a:lnTo>
                      <a:pt x="407" y="0"/>
                    </a:lnTo>
                    <a:lnTo>
                      <a:pt x="407" y="0"/>
                    </a:lnTo>
                    <a:close/>
                  </a:path>
                </a:pathLst>
              </a:custGeom>
              <a:solidFill>
                <a:srgbClr val="99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166640" y="6117480"/>
                <a:ext cx="107640" cy="69840"/>
              </a:xfrm>
              <a:custGeom>
                <a:avLst/>
                <a:gdLst/>
                <a:ahLst/>
                <a:rect l="l" t="t" r="r" b="b"/>
                <a:pathLst>
                  <a:path w="686" h="373">
                    <a:moveTo>
                      <a:pt x="91" y="373"/>
                    </a:moveTo>
                    <a:lnTo>
                      <a:pt x="0" y="173"/>
                    </a:lnTo>
                    <a:lnTo>
                      <a:pt x="91" y="0"/>
                    </a:lnTo>
                    <a:lnTo>
                      <a:pt x="538" y="90"/>
                    </a:lnTo>
                    <a:lnTo>
                      <a:pt x="648" y="137"/>
                    </a:lnTo>
                    <a:lnTo>
                      <a:pt x="686" y="183"/>
                    </a:lnTo>
                    <a:lnTo>
                      <a:pt x="648" y="230"/>
                    </a:lnTo>
                    <a:lnTo>
                      <a:pt x="538" y="278"/>
                    </a:lnTo>
                    <a:lnTo>
                      <a:pt x="352" y="325"/>
                    </a:lnTo>
                    <a:lnTo>
                      <a:pt x="91" y="373"/>
                    </a:lnTo>
                    <a:lnTo>
                      <a:pt x="91" y="373"/>
                    </a:lnTo>
                    <a:close/>
                  </a:path>
                </a:pathLst>
              </a:custGeom>
              <a:solidFill>
                <a:srgbClr val="d42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951360" y="5787360"/>
                <a:ext cx="393480" cy="203760"/>
              </a:xfrm>
              <a:custGeom>
                <a:avLst/>
                <a:gdLst/>
                <a:ahLst/>
                <a:rect l="l" t="t" r="r" b="b"/>
                <a:pathLst>
                  <a:path w="2505" h="1083">
                    <a:moveTo>
                      <a:pt x="67" y="604"/>
                    </a:moveTo>
                    <a:lnTo>
                      <a:pt x="399" y="587"/>
                    </a:lnTo>
                    <a:lnTo>
                      <a:pt x="844" y="612"/>
                    </a:lnTo>
                    <a:lnTo>
                      <a:pt x="1087" y="713"/>
                    </a:lnTo>
                    <a:lnTo>
                      <a:pt x="1224" y="787"/>
                    </a:lnTo>
                    <a:lnTo>
                      <a:pt x="1361" y="866"/>
                    </a:lnTo>
                    <a:lnTo>
                      <a:pt x="1498" y="943"/>
                    </a:lnTo>
                    <a:lnTo>
                      <a:pt x="1627" y="1011"/>
                    </a:lnTo>
                    <a:lnTo>
                      <a:pt x="1743" y="1058"/>
                    </a:lnTo>
                    <a:lnTo>
                      <a:pt x="1844" y="1083"/>
                    </a:lnTo>
                    <a:lnTo>
                      <a:pt x="2100" y="1055"/>
                    </a:lnTo>
                    <a:lnTo>
                      <a:pt x="2311" y="918"/>
                    </a:lnTo>
                    <a:lnTo>
                      <a:pt x="2452" y="707"/>
                    </a:lnTo>
                    <a:lnTo>
                      <a:pt x="2505" y="454"/>
                    </a:lnTo>
                    <a:lnTo>
                      <a:pt x="2469" y="245"/>
                    </a:lnTo>
                    <a:lnTo>
                      <a:pt x="2425" y="161"/>
                    </a:lnTo>
                    <a:lnTo>
                      <a:pt x="2366" y="95"/>
                    </a:lnTo>
                    <a:lnTo>
                      <a:pt x="2294" y="42"/>
                    </a:lnTo>
                    <a:lnTo>
                      <a:pt x="2209" y="9"/>
                    </a:lnTo>
                    <a:lnTo>
                      <a:pt x="1999" y="0"/>
                    </a:lnTo>
                    <a:lnTo>
                      <a:pt x="1836" y="66"/>
                    </a:lnTo>
                    <a:lnTo>
                      <a:pt x="1718" y="203"/>
                    </a:lnTo>
                    <a:lnTo>
                      <a:pt x="1648" y="367"/>
                    </a:lnTo>
                    <a:lnTo>
                      <a:pt x="1629" y="513"/>
                    </a:lnTo>
                    <a:lnTo>
                      <a:pt x="1648" y="574"/>
                    </a:lnTo>
                    <a:lnTo>
                      <a:pt x="1688" y="616"/>
                    </a:lnTo>
                    <a:lnTo>
                      <a:pt x="1806" y="642"/>
                    </a:lnTo>
                    <a:lnTo>
                      <a:pt x="1923" y="595"/>
                    </a:lnTo>
                    <a:lnTo>
                      <a:pt x="1984" y="479"/>
                    </a:lnTo>
                    <a:lnTo>
                      <a:pt x="1969" y="370"/>
                    </a:lnTo>
                    <a:lnTo>
                      <a:pt x="1929" y="308"/>
                    </a:lnTo>
                    <a:lnTo>
                      <a:pt x="1876" y="222"/>
                    </a:lnTo>
                    <a:lnTo>
                      <a:pt x="1895" y="171"/>
                    </a:lnTo>
                    <a:lnTo>
                      <a:pt x="1937" y="133"/>
                    </a:lnTo>
                    <a:lnTo>
                      <a:pt x="2041" y="99"/>
                    </a:lnTo>
                    <a:lnTo>
                      <a:pt x="2157" y="129"/>
                    </a:lnTo>
                    <a:lnTo>
                      <a:pt x="2248" y="205"/>
                    </a:lnTo>
                    <a:lnTo>
                      <a:pt x="2332" y="429"/>
                    </a:lnTo>
                    <a:lnTo>
                      <a:pt x="2311" y="572"/>
                    </a:lnTo>
                    <a:lnTo>
                      <a:pt x="2254" y="709"/>
                    </a:lnTo>
                    <a:lnTo>
                      <a:pt x="2212" y="768"/>
                    </a:lnTo>
                    <a:lnTo>
                      <a:pt x="2167" y="819"/>
                    </a:lnTo>
                    <a:lnTo>
                      <a:pt x="2115" y="855"/>
                    </a:lnTo>
                    <a:lnTo>
                      <a:pt x="2058" y="876"/>
                    </a:lnTo>
                    <a:lnTo>
                      <a:pt x="1800" y="853"/>
                    </a:lnTo>
                    <a:lnTo>
                      <a:pt x="1678" y="798"/>
                    </a:lnTo>
                    <a:lnTo>
                      <a:pt x="1562" y="728"/>
                    </a:lnTo>
                    <a:lnTo>
                      <a:pt x="1450" y="650"/>
                    </a:lnTo>
                    <a:lnTo>
                      <a:pt x="1342" y="572"/>
                    </a:lnTo>
                    <a:lnTo>
                      <a:pt x="1239" y="503"/>
                    </a:lnTo>
                    <a:lnTo>
                      <a:pt x="1140" y="454"/>
                    </a:lnTo>
                    <a:lnTo>
                      <a:pt x="939" y="393"/>
                    </a:lnTo>
                    <a:lnTo>
                      <a:pt x="713" y="349"/>
                    </a:lnTo>
                    <a:lnTo>
                      <a:pt x="247" y="338"/>
                    </a:lnTo>
                    <a:lnTo>
                      <a:pt x="131" y="387"/>
                    </a:lnTo>
                    <a:lnTo>
                      <a:pt x="0" y="551"/>
                    </a:lnTo>
                    <a:lnTo>
                      <a:pt x="67" y="604"/>
                    </a:lnTo>
                    <a:lnTo>
                      <a:pt x="67" y="6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951360" y="5514120"/>
                <a:ext cx="681480" cy="734040"/>
              </a:xfrm>
              <a:custGeom>
                <a:avLst/>
                <a:gdLst/>
                <a:ahLst/>
                <a:rect l="l" t="t" r="r" b="b"/>
                <a:pathLst>
                  <a:path w="4339" h="3901">
                    <a:moveTo>
                      <a:pt x="247" y="1892"/>
                    </a:moveTo>
                    <a:lnTo>
                      <a:pt x="321" y="1671"/>
                    </a:lnTo>
                    <a:lnTo>
                      <a:pt x="371" y="1550"/>
                    </a:lnTo>
                    <a:lnTo>
                      <a:pt x="428" y="1424"/>
                    </a:lnTo>
                    <a:lnTo>
                      <a:pt x="496" y="1295"/>
                    </a:lnTo>
                    <a:lnTo>
                      <a:pt x="578" y="1166"/>
                    </a:lnTo>
                    <a:lnTo>
                      <a:pt x="673" y="1035"/>
                    </a:lnTo>
                    <a:lnTo>
                      <a:pt x="785" y="907"/>
                    </a:lnTo>
                    <a:lnTo>
                      <a:pt x="914" y="784"/>
                    </a:lnTo>
                    <a:lnTo>
                      <a:pt x="1062" y="666"/>
                    </a:lnTo>
                    <a:lnTo>
                      <a:pt x="1144" y="609"/>
                    </a:lnTo>
                    <a:lnTo>
                      <a:pt x="1232" y="554"/>
                    </a:lnTo>
                    <a:lnTo>
                      <a:pt x="1325" y="502"/>
                    </a:lnTo>
                    <a:lnTo>
                      <a:pt x="1422" y="453"/>
                    </a:lnTo>
                    <a:lnTo>
                      <a:pt x="1526" y="407"/>
                    </a:lnTo>
                    <a:lnTo>
                      <a:pt x="1636" y="364"/>
                    </a:lnTo>
                    <a:lnTo>
                      <a:pt x="1752" y="324"/>
                    </a:lnTo>
                    <a:lnTo>
                      <a:pt x="1876" y="286"/>
                    </a:lnTo>
                    <a:lnTo>
                      <a:pt x="2144" y="223"/>
                    </a:lnTo>
                    <a:lnTo>
                      <a:pt x="2439" y="177"/>
                    </a:lnTo>
                    <a:lnTo>
                      <a:pt x="2866" y="153"/>
                    </a:lnTo>
                    <a:lnTo>
                      <a:pt x="3336" y="183"/>
                    </a:lnTo>
                    <a:lnTo>
                      <a:pt x="3792" y="284"/>
                    </a:lnTo>
                    <a:lnTo>
                      <a:pt x="3999" y="364"/>
                    </a:lnTo>
                    <a:lnTo>
                      <a:pt x="4183" y="468"/>
                    </a:lnTo>
                    <a:lnTo>
                      <a:pt x="4172" y="519"/>
                    </a:lnTo>
                    <a:lnTo>
                      <a:pt x="4103" y="633"/>
                    </a:lnTo>
                    <a:lnTo>
                      <a:pt x="4054" y="709"/>
                    </a:lnTo>
                    <a:lnTo>
                      <a:pt x="3997" y="795"/>
                    </a:lnTo>
                    <a:lnTo>
                      <a:pt x="3932" y="890"/>
                    </a:lnTo>
                    <a:lnTo>
                      <a:pt x="3864" y="991"/>
                    </a:lnTo>
                    <a:lnTo>
                      <a:pt x="3792" y="1097"/>
                    </a:lnTo>
                    <a:lnTo>
                      <a:pt x="3718" y="1206"/>
                    </a:lnTo>
                    <a:lnTo>
                      <a:pt x="3645" y="1318"/>
                    </a:lnTo>
                    <a:lnTo>
                      <a:pt x="3577" y="1426"/>
                    </a:lnTo>
                    <a:lnTo>
                      <a:pt x="3512" y="1534"/>
                    </a:lnTo>
                    <a:lnTo>
                      <a:pt x="3453" y="1637"/>
                    </a:lnTo>
                    <a:lnTo>
                      <a:pt x="3364" y="1825"/>
                    </a:lnTo>
                    <a:lnTo>
                      <a:pt x="3250" y="2186"/>
                    </a:lnTo>
                    <a:lnTo>
                      <a:pt x="3159" y="2572"/>
                    </a:lnTo>
                    <a:lnTo>
                      <a:pt x="3077" y="2964"/>
                    </a:lnTo>
                    <a:lnTo>
                      <a:pt x="2992" y="3340"/>
                    </a:lnTo>
                    <a:lnTo>
                      <a:pt x="2965" y="3405"/>
                    </a:lnTo>
                    <a:lnTo>
                      <a:pt x="2916" y="3485"/>
                    </a:lnTo>
                    <a:lnTo>
                      <a:pt x="2857" y="3559"/>
                    </a:lnTo>
                    <a:lnTo>
                      <a:pt x="2802" y="3604"/>
                    </a:lnTo>
                    <a:lnTo>
                      <a:pt x="2708" y="3652"/>
                    </a:lnTo>
                    <a:lnTo>
                      <a:pt x="2591" y="3696"/>
                    </a:lnTo>
                    <a:lnTo>
                      <a:pt x="2372" y="3738"/>
                    </a:lnTo>
                    <a:lnTo>
                      <a:pt x="1847" y="3690"/>
                    </a:lnTo>
                    <a:lnTo>
                      <a:pt x="1635" y="3604"/>
                    </a:lnTo>
                    <a:lnTo>
                      <a:pt x="1521" y="3439"/>
                    </a:lnTo>
                    <a:lnTo>
                      <a:pt x="1524" y="3253"/>
                    </a:lnTo>
                    <a:lnTo>
                      <a:pt x="1559" y="3158"/>
                    </a:lnTo>
                    <a:lnTo>
                      <a:pt x="1608" y="3063"/>
                    </a:lnTo>
                    <a:lnTo>
                      <a:pt x="1674" y="2970"/>
                    </a:lnTo>
                    <a:lnTo>
                      <a:pt x="1749" y="2880"/>
                    </a:lnTo>
                    <a:lnTo>
                      <a:pt x="1834" y="2797"/>
                    </a:lnTo>
                    <a:lnTo>
                      <a:pt x="1925" y="2719"/>
                    </a:lnTo>
                    <a:lnTo>
                      <a:pt x="2032" y="2631"/>
                    </a:lnTo>
                    <a:lnTo>
                      <a:pt x="2155" y="2521"/>
                    </a:lnTo>
                    <a:lnTo>
                      <a:pt x="2285" y="2390"/>
                    </a:lnTo>
                    <a:lnTo>
                      <a:pt x="2406" y="2238"/>
                    </a:lnTo>
                    <a:lnTo>
                      <a:pt x="1827" y="2479"/>
                    </a:lnTo>
                    <a:lnTo>
                      <a:pt x="1800" y="2595"/>
                    </a:lnTo>
                    <a:lnTo>
                      <a:pt x="1739" y="2715"/>
                    </a:lnTo>
                    <a:lnTo>
                      <a:pt x="1654" y="2838"/>
                    </a:lnTo>
                    <a:lnTo>
                      <a:pt x="1555" y="2960"/>
                    </a:lnTo>
                    <a:lnTo>
                      <a:pt x="1458" y="3082"/>
                    </a:lnTo>
                    <a:lnTo>
                      <a:pt x="1372" y="3203"/>
                    </a:lnTo>
                    <a:lnTo>
                      <a:pt x="1291" y="3430"/>
                    </a:lnTo>
                    <a:lnTo>
                      <a:pt x="1304" y="3502"/>
                    </a:lnTo>
                    <a:lnTo>
                      <a:pt x="1340" y="3570"/>
                    </a:lnTo>
                    <a:lnTo>
                      <a:pt x="1393" y="3637"/>
                    </a:lnTo>
                    <a:lnTo>
                      <a:pt x="1460" y="3696"/>
                    </a:lnTo>
                    <a:lnTo>
                      <a:pt x="1536" y="3749"/>
                    </a:lnTo>
                    <a:lnTo>
                      <a:pt x="1610" y="3793"/>
                    </a:lnTo>
                    <a:lnTo>
                      <a:pt x="1743" y="3844"/>
                    </a:lnTo>
                    <a:lnTo>
                      <a:pt x="1971" y="3880"/>
                    </a:lnTo>
                    <a:lnTo>
                      <a:pt x="2218" y="3901"/>
                    </a:lnTo>
                    <a:lnTo>
                      <a:pt x="2686" y="3869"/>
                    </a:lnTo>
                    <a:lnTo>
                      <a:pt x="2864" y="3802"/>
                    </a:lnTo>
                    <a:lnTo>
                      <a:pt x="3028" y="3675"/>
                    </a:lnTo>
                    <a:lnTo>
                      <a:pt x="3166" y="3511"/>
                    </a:lnTo>
                    <a:lnTo>
                      <a:pt x="3265" y="3331"/>
                    </a:lnTo>
                    <a:lnTo>
                      <a:pt x="3374" y="2989"/>
                    </a:lnTo>
                    <a:lnTo>
                      <a:pt x="3453" y="2601"/>
                    </a:lnTo>
                    <a:lnTo>
                      <a:pt x="3526" y="2209"/>
                    </a:lnTo>
                    <a:lnTo>
                      <a:pt x="3567" y="2025"/>
                    </a:lnTo>
                    <a:lnTo>
                      <a:pt x="3611" y="1858"/>
                    </a:lnTo>
                    <a:lnTo>
                      <a:pt x="3676" y="1690"/>
                    </a:lnTo>
                    <a:lnTo>
                      <a:pt x="3759" y="1523"/>
                    </a:lnTo>
                    <a:lnTo>
                      <a:pt x="3858" y="1354"/>
                    </a:lnTo>
                    <a:lnTo>
                      <a:pt x="3963" y="1187"/>
                    </a:lnTo>
                    <a:lnTo>
                      <a:pt x="4016" y="1101"/>
                    </a:lnTo>
                    <a:lnTo>
                      <a:pt x="4071" y="1017"/>
                    </a:lnTo>
                    <a:lnTo>
                      <a:pt x="4172" y="848"/>
                    </a:lnTo>
                    <a:lnTo>
                      <a:pt x="4263" y="679"/>
                    </a:lnTo>
                    <a:lnTo>
                      <a:pt x="4339" y="510"/>
                    </a:lnTo>
                    <a:lnTo>
                      <a:pt x="4316" y="381"/>
                    </a:lnTo>
                    <a:lnTo>
                      <a:pt x="4273" y="261"/>
                    </a:lnTo>
                    <a:lnTo>
                      <a:pt x="4153" y="219"/>
                    </a:lnTo>
                    <a:lnTo>
                      <a:pt x="4033" y="183"/>
                    </a:lnTo>
                    <a:lnTo>
                      <a:pt x="3792" y="118"/>
                    </a:lnTo>
                    <a:lnTo>
                      <a:pt x="3547" y="69"/>
                    </a:lnTo>
                    <a:lnTo>
                      <a:pt x="3301" y="35"/>
                    </a:lnTo>
                    <a:lnTo>
                      <a:pt x="2813" y="0"/>
                    </a:lnTo>
                    <a:lnTo>
                      <a:pt x="2332" y="12"/>
                    </a:lnTo>
                    <a:lnTo>
                      <a:pt x="1865" y="86"/>
                    </a:lnTo>
                    <a:lnTo>
                      <a:pt x="1644" y="153"/>
                    </a:lnTo>
                    <a:lnTo>
                      <a:pt x="1431" y="236"/>
                    </a:lnTo>
                    <a:lnTo>
                      <a:pt x="1329" y="284"/>
                    </a:lnTo>
                    <a:lnTo>
                      <a:pt x="1228" y="335"/>
                    </a:lnTo>
                    <a:lnTo>
                      <a:pt x="1131" y="390"/>
                    </a:lnTo>
                    <a:lnTo>
                      <a:pt x="1036" y="447"/>
                    </a:lnTo>
                    <a:lnTo>
                      <a:pt x="945" y="510"/>
                    </a:lnTo>
                    <a:lnTo>
                      <a:pt x="857" y="575"/>
                    </a:lnTo>
                    <a:lnTo>
                      <a:pt x="692" y="711"/>
                    </a:lnTo>
                    <a:lnTo>
                      <a:pt x="540" y="858"/>
                    </a:lnTo>
                    <a:lnTo>
                      <a:pt x="405" y="1012"/>
                    </a:lnTo>
                    <a:lnTo>
                      <a:pt x="344" y="1092"/>
                    </a:lnTo>
                    <a:lnTo>
                      <a:pt x="287" y="1171"/>
                    </a:lnTo>
                    <a:lnTo>
                      <a:pt x="188" y="1337"/>
                    </a:lnTo>
                    <a:lnTo>
                      <a:pt x="49" y="1673"/>
                    </a:lnTo>
                    <a:lnTo>
                      <a:pt x="0" y="2008"/>
                    </a:lnTo>
                    <a:lnTo>
                      <a:pt x="247" y="1892"/>
                    </a:lnTo>
                    <a:lnTo>
                      <a:pt x="247" y="18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164120" y="5587200"/>
                <a:ext cx="344880" cy="181080"/>
              </a:xfrm>
              <a:custGeom>
                <a:avLst/>
                <a:gdLst/>
                <a:ahLst/>
                <a:rect l="l" t="t" r="r" b="b"/>
                <a:pathLst>
                  <a:path w="2199" h="962">
                    <a:moveTo>
                      <a:pt x="1844" y="692"/>
                    </a:moveTo>
                    <a:lnTo>
                      <a:pt x="1749" y="742"/>
                    </a:lnTo>
                    <a:lnTo>
                      <a:pt x="1648" y="791"/>
                    </a:lnTo>
                    <a:lnTo>
                      <a:pt x="1540" y="837"/>
                    </a:lnTo>
                    <a:lnTo>
                      <a:pt x="1426" y="877"/>
                    </a:lnTo>
                    <a:lnTo>
                      <a:pt x="1184" y="937"/>
                    </a:lnTo>
                    <a:lnTo>
                      <a:pt x="935" y="962"/>
                    </a:lnTo>
                    <a:lnTo>
                      <a:pt x="682" y="941"/>
                    </a:lnTo>
                    <a:lnTo>
                      <a:pt x="437" y="859"/>
                    </a:lnTo>
                    <a:lnTo>
                      <a:pt x="319" y="793"/>
                    </a:lnTo>
                    <a:lnTo>
                      <a:pt x="207" y="709"/>
                    </a:lnTo>
                    <a:lnTo>
                      <a:pt x="101" y="603"/>
                    </a:lnTo>
                    <a:lnTo>
                      <a:pt x="0" y="477"/>
                    </a:lnTo>
                    <a:lnTo>
                      <a:pt x="53" y="411"/>
                    </a:lnTo>
                    <a:lnTo>
                      <a:pt x="108" y="350"/>
                    </a:lnTo>
                    <a:lnTo>
                      <a:pt x="224" y="244"/>
                    </a:lnTo>
                    <a:lnTo>
                      <a:pt x="285" y="198"/>
                    </a:lnTo>
                    <a:lnTo>
                      <a:pt x="350" y="158"/>
                    </a:lnTo>
                    <a:lnTo>
                      <a:pt x="481" y="91"/>
                    </a:lnTo>
                    <a:lnTo>
                      <a:pt x="620" y="44"/>
                    </a:lnTo>
                    <a:lnTo>
                      <a:pt x="762" y="14"/>
                    </a:lnTo>
                    <a:lnTo>
                      <a:pt x="1057" y="0"/>
                    </a:lnTo>
                    <a:lnTo>
                      <a:pt x="1357" y="42"/>
                    </a:lnTo>
                    <a:lnTo>
                      <a:pt x="1654" y="135"/>
                    </a:lnTo>
                    <a:lnTo>
                      <a:pt x="1798" y="198"/>
                    </a:lnTo>
                    <a:lnTo>
                      <a:pt x="1937" y="268"/>
                    </a:lnTo>
                    <a:lnTo>
                      <a:pt x="2072" y="348"/>
                    </a:lnTo>
                    <a:lnTo>
                      <a:pt x="2199" y="436"/>
                    </a:lnTo>
                    <a:lnTo>
                      <a:pt x="2093" y="538"/>
                    </a:lnTo>
                    <a:lnTo>
                      <a:pt x="1992" y="633"/>
                    </a:lnTo>
                    <a:lnTo>
                      <a:pt x="1901" y="559"/>
                    </a:lnTo>
                    <a:lnTo>
                      <a:pt x="1804" y="489"/>
                    </a:lnTo>
                    <a:lnTo>
                      <a:pt x="1701" y="422"/>
                    </a:lnTo>
                    <a:lnTo>
                      <a:pt x="1593" y="360"/>
                    </a:lnTo>
                    <a:lnTo>
                      <a:pt x="1483" y="302"/>
                    </a:lnTo>
                    <a:lnTo>
                      <a:pt x="1371" y="255"/>
                    </a:lnTo>
                    <a:lnTo>
                      <a:pt x="1255" y="215"/>
                    </a:lnTo>
                    <a:lnTo>
                      <a:pt x="1139" y="187"/>
                    </a:lnTo>
                    <a:lnTo>
                      <a:pt x="905" y="166"/>
                    </a:lnTo>
                    <a:lnTo>
                      <a:pt x="677" y="200"/>
                    </a:lnTo>
                    <a:lnTo>
                      <a:pt x="462" y="304"/>
                    </a:lnTo>
                    <a:lnTo>
                      <a:pt x="264" y="485"/>
                    </a:lnTo>
                    <a:lnTo>
                      <a:pt x="318" y="563"/>
                    </a:lnTo>
                    <a:lnTo>
                      <a:pt x="384" y="628"/>
                    </a:lnTo>
                    <a:lnTo>
                      <a:pt x="464" y="677"/>
                    </a:lnTo>
                    <a:lnTo>
                      <a:pt x="555" y="717"/>
                    </a:lnTo>
                    <a:lnTo>
                      <a:pt x="760" y="764"/>
                    </a:lnTo>
                    <a:lnTo>
                      <a:pt x="990" y="778"/>
                    </a:lnTo>
                    <a:lnTo>
                      <a:pt x="1456" y="743"/>
                    </a:lnTo>
                    <a:lnTo>
                      <a:pt x="1844" y="692"/>
                    </a:lnTo>
                    <a:lnTo>
                      <a:pt x="1844" y="6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314600" y="5657760"/>
                <a:ext cx="28440" cy="34200"/>
              </a:xfrm>
              <a:custGeom>
                <a:avLst/>
                <a:gdLst/>
                <a:ahLst/>
                <a:rect l="l" t="t" r="r" b="b"/>
                <a:pathLst>
                  <a:path w="181" h="182">
                    <a:moveTo>
                      <a:pt x="91" y="0"/>
                    </a:moveTo>
                    <a:lnTo>
                      <a:pt x="154" y="28"/>
                    </a:lnTo>
                    <a:lnTo>
                      <a:pt x="181" y="91"/>
                    </a:lnTo>
                    <a:lnTo>
                      <a:pt x="154" y="155"/>
                    </a:lnTo>
                    <a:lnTo>
                      <a:pt x="91" y="182"/>
                    </a:lnTo>
                    <a:lnTo>
                      <a:pt x="27" y="155"/>
                    </a:lnTo>
                    <a:lnTo>
                      <a:pt x="0" y="91"/>
                    </a:lnTo>
                    <a:lnTo>
                      <a:pt x="27" y="28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309200" y="5608080"/>
                <a:ext cx="75240" cy="133560"/>
              </a:xfrm>
              <a:custGeom>
                <a:avLst/>
                <a:gdLst/>
                <a:ahLst/>
                <a:rect l="l" t="t" r="r" b="b"/>
                <a:pathLst>
                  <a:path w="479" h="711">
                    <a:moveTo>
                      <a:pt x="125" y="711"/>
                    </a:moveTo>
                    <a:lnTo>
                      <a:pt x="0" y="630"/>
                    </a:lnTo>
                    <a:lnTo>
                      <a:pt x="125" y="555"/>
                    </a:lnTo>
                    <a:lnTo>
                      <a:pt x="268" y="495"/>
                    </a:lnTo>
                    <a:lnTo>
                      <a:pt x="330" y="348"/>
                    </a:lnTo>
                    <a:lnTo>
                      <a:pt x="313" y="268"/>
                    </a:lnTo>
                    <a:lnTo>
                      <a:pt x="268" y="200"/>
                    </a:lnTo>
                    <a:lnTo>
                      <a:pt x="201" y="151"/>
                    </a:lnTo>
                    <a:lnTo>
                      <a:pt x="125" y="133"/>
                    </a:lnTo>
                    <a:lnTo>
                      <a:pt x="0" y="75"/>
                    </a:lnTo>
                    <a:lnTo>
                      <a:pt x="125" y="0"/>
                    </a:lnTo>
                    <a:lnTo>
                      <a:pt x="264" y="29"/>
                    </a:lnTo>
                    <a:lnTo>
                      <a:pt x="376" y="103"/>
                    </a:lnTo>
                    <a:lnTo>
                      <a:pt x="452" y="217"/>
                    </a:lnTo>
                    <a:lnTo>
                      <a:pt x="479" y="356"/>
                    </a:lnTo>
                    <a:lnTo>
                      <a:pt x="452" y="495"/>
                    </a:lnTo>
                    <a:lnTo>
                      <a:pt x="420" y="557"/>
                    </a:lnTo>
                    <a:lnTo>
                      <a:pt x="376" y="609"/>
                    </a:lnTo>
                    <a:lnTo>
                      <a:pt x="323" y="652"/>
                    </a:lnTo>
                    <a:lnTo>
                      <a:pt x="264" y="685"/>
                    </a:lnTo>
                    <a:lnTo>
                      <a:pt x="125" y="711"/>
                    </a:lnTo>
                    <a:lnTo>
                      <a:pt x="125" y="7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272840" y="5608080"/>
                <a:ext cx="75600" cy="133560"/>
              </a:xfrm>
              <a:custGeom>
                <a:avLst/>
                <a:gdLst/>
                <a:ahLst/>
                <a:rect l="l" t="t" r="r" b="b"/>
                <a:pathLst>
                  <a:path w="481" h="711">
                    <a:moveTo>
                      <a:pt x="357" y="711"/>
                    </a:moveTo>
                    <a:lnTo>
                      <a:pt x="481" y="630"/>
                    </a:lnTo>
                    <a:lnTo>
                      <a:pt x="357" y="555"/>
                    </a:lnTo>
                    <a:lnTo>
                      <a:pt x="217" y="495"/>
                    </a:lnTo>
                    <a:lnTo>
                      <a:pt x="158" y="348"/>
                    </a:lnTo>
                    <a:lnTo>
                      <a:pt x="175" y="268"/>
                    </a:lnTo>
                    <a:lnTo>
                      <a:pt x="217" y="200"/>
                    </a:lnTo>
                    <a:lnTo>
                      <a:pt x="279" y="151"/>
                    </a:lnTo>
                    <a:lnTo>
                      <a:pt x="357" y="133"/>
                    </a:lnTo>
                    <a:lnTo>
                      <a:pt x="481" y="75"/>
                    </a:lnTo>
                    <a:lnTo>
                      <a:pt x="357" y="0"/>
                    </a:lnTo>
                    <a:lnTo>
                      <a:pt x="217" y="29"/>
                    </a:lnTo>
                    <a:lnTo>
                      <a:pt x="104" y="103"/>
                    </a:lnTo>
                    <a:lnTo>
                      <a:pt x="28" y="217"/>
                    </a:lnTo>
                    <a:lnTo>
                      <a:pt x="0" y="356"/>
                    </a:lnTo>
                    <a:lnTo>
                      <a:pt x="28" y="495"/>
                    </a:lnTo>
                    <a:lnTo>
                      <a:pt x="61" y="557"/>
                    </a:lnTo>
                    <a:lnTo>
                      <a:pt x="104" y="609"/>
                    </a:lnTo>
                    <a:lnTo>
                      <a:pt x="158" y="652"/>
                    </a:lnTo>
                    <a:lnTo>
                      <a:pt x="217" y="685"/>
                    </a:lnTo>
                    <a:lnTo>
                      <a:pt x="357" y="711"/>
                    </a:lnTo>
                    <a:lnTo>
                      <a:pt x="357" y="7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419720" y="5590800"/>
                <a:ext cx="119160" cy="110520"/>
              </a:xfrm>
              <a:custGeom>
                <a:avLst/>
                <a:gdLst/>
                <a:ahLst/>
                <a:rect l="l" t="t" r="r" b="b"/>
                <a:pathLst>
                  <a:path w="760" h="588">
                    <a:moveTo>
                      <a:pt x="380" y="588"/>
                    </a:moveTo>
                    <a:lnTo>
                      <a:pt x="760" y="264"/>
                    </a:lnTo>
                    <a:lnTo>
                      <a:pt x="447" y="316"/>
                    </a:lnTo>
                    <a:lnTo>
                      <a:pt x="528" y="91"/>
                    </a:lnTo>
                    <a:lnTo>
                      <a:pt x="239" y="215"/>
                    </a:lnTo>
                    <a:lnTo>
                      <a:pt x="274" y="0"/>
                    </a:lnTo>
                    <a:lnTo>
                      <a:pt x="0" y="158"/>
                    </a:lnTo>
                    <a:lnTo>
                      <a:pt x="380" y="588"/>
                    </a:lnTo>
                    <a:lnTo>
                      <a:pt x="380" y="5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50960" y="5439960"/>
                <a:ext cx="42120" cy="91080"/>
              </a:xfrm>
              <a:custGeom>
                <a:avLst/>
                <a:gdLst/>
                <a:ahLst/>
                <a:rect l="l" t="t" r="r" b="b"/>
                <a:pathLst>
                  <a:path w="270" h="485">
                    <a:moveTo>
                      <a:pt x="23" y="464"/>
                    </a:moveTo>
                    <a:lnTo>
                      <a:pt x="0" y="317"/>
                    </a:lnTo>
                    <a:lnTo>
                      <a:pt x="32" y="173"/>
                    </a:lnTo>
                    <a:lnTo>
                      <a:pt x="72" y="108"/>
                    </a:lnTo>
                    <a:lnTo>
                      <a:pt x="125" y="49"/>
                    </a:lnTo>
                    <a:lnTo>
                      <a:pt x="188" y="8"/>
                    </a:lnTo>
                    <a:lnTo>
                      <a:pt x="255" y="0"/>
                    </a:lnTo>
                    <a:lnTo>
                      <a:pt x="270" y="25"/>
                    </a:lnTo>
                    <a:lnTo>
                      <a:pt x="237" y="78"/>
                    </a:lnTo>
                    <a:lnTo>
                      <a:pt x="156" y="198"/>
                    </a:lnTo>
                    <a:lnTo>
                      <a:pt x="148" y="454"/>
                    </a:lnTo>
                    <a:lnTo>
                      <a:pt x="85" y="485"/>
                    </a:lnTo>
                    <a:lnTo>
                      <a:pt x="23" y="464"/>
                    </a:lnTo>
                    <a:lnTo>
                      <a:pt x="23" y="4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408560" y="5439960"/>
                <a:ext cx="49680" cy="8712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13" y="454"/>
                    </a:moveTo>
                    <a:lnTo>
                      <a:pt x="0" y="306"/>
                    </a:lnTo>
                    <a:lnTo>
                      <a:pt x="45" y="165"/>
                    </a:lnTo>
                    <a:lnTo>
                      <a:pt x="97" y="99"/>
                    </a:lnTo>
                    <a:lnTo>
                      <a:pt x="161" y="40"/>
                    </a:lnTo>
                    <a:lnTo>
                      <a:pt x="235" y="0"/>
                    </a:lnTo>
                    <a:lnTo>
                      <a:pt x="309" y="0"/>
                    </a:lnTo>
                    <a:lnTo>
                      <a:pt x="319" y="27"/>
                    </a:lnTo>
                    <a:lnTo>
                      <a:pt x="273" y="78"/>
                    </a:lnTo>
                    <a:lnTo>
                      <a:pt x="169" y="198"/>
                    </a:lnTo>
                    <a:lnTo>
                      <a:pt x="127" y="464"/>
                    </a:lnTo>
                    <a:lnTo>
                      <a:pt x="13" y="454"/>
                    </a:lnTo>
                    <a:lnTo>
                      <a:pt x="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465080" y="5437440"/>
                <a:ext cx="59400" cy="89640"/>
              </a:xfrm>
              <a:custGeom>
                <a:avLst/>
                <a:gdLst/>
                <a:ahLst/>
                <a:rect l="l" t="t" r="r" b="b"/>
                <a:pathLst>
                  <a:path w="378" h="477">
                    <a:moveTo>
                      <a:pt x="0" y="460"/>
                    </a:moveTo>
                    <a:lnTo>
                      <a:pt x="7" y="308"/>
                    </a:lnTo>
                    <a:lnTo>
                      <a:pt x="66" y="161"/>
                    </a:lnTo>
                    <a:lnTo>
                      <a:pt x="127" y="97"/>
                    </a:lnTo>
                    <a:lnTo>
                      <a:pt x="205" y="36"/>
                    </a:lnTo>
                    <a:lnTo>
                      <a:pt x="289" y="0"/>
                    </a:lnTo>
                    <a:lnTo>
                      <a:pt x="365" y="5"/>
                    </a:lnTo>
                    <a:lnTo>
                      <a:pt x="378" y="43"/>
                    </a:lnTo>
                    <a:lnTo>
                      <a:pt x="323" y="95"/>
                    </a:lnTo>
                    <a:lnTo>
                      <a:pt x="190" y="211"/>
                    </a:lnTo>
                    <a:lnTo>
                      <a:pt x="108" y="477"/>
                    </a:lnTo>
                    <a:lnTo>
                      <a:pt x="0" y="460"/>
                    </a:lnTo>
                    <a:lnTo>
                      <a:pt x="0" y="4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520880" y="5451120"/>
                <a:ext cx="68760" cy="93960"/>
              </a:xfrm>
              <a:custGeom>
                <a:avLst/>
                <a:gdLst/>
                <a:ahLst/>
                <a:rect l="l" t="t" r="r" b="b"/>
                <a:pathLst>
                  <a:path w="439" h="500">
                    <a:moveTo>
                      <a:pt x="0" y="467"/>
                    </a:moveTo>
                    <a:lnTo>
                      <a:pt x="16" y="306"/>
                    </a:lnTo>
                    <a:lnTo>
                      <a:pt x="44" y="228"/>
                    </a:lnTo>
                    <a:lnTo>
                      <a:pt x="92" y="161"/>
                    </a:lnTo>
                    <a:lnTo>
                      <a:pt x="166" y="95"/>
                    </a:lnTo>
                    <a:lnTo>
                      <a:pt x="255" y="34"/>
                    </a:lnTo>
                    <a:lnTo>
                      <a:pt x="348" y="0"/>
                    </a:lnTo>
                    <a:lnTo>
                      <a:pt x="430" y="13"/>
                    </a:lnTo>
                    <a:lnTo>
                      <a:pt x="439" y="55"/>
                    </a:lnTo>
                    <a:lnTo>
                      <a:pt x="371" y="104"/>
                    </a:lnTo>
                    <a:lnTo>
                      <a:pt x="278" y="160"/>
                    </a:lnTo>
                    <a:lnTo>
                      <a:pt x="207" y="220"/>
                    </a:lnTo>
                    <a:lnTo>
                      <a:pt x="99" y="492"/>
                    </a:lnTo>
                    <a:lnTo>
                      <a:pt x="42" y="500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568760" y="5473080"/>
                <a:ext cx="78840" cy="95760"/>
              </a:xfrm>
              <a:custGeom>
                <a:avLst/>
                <a:gdLst/>
                <a:ahLst/>
                <a:rect l="l" t="t" r="r" b="b"/>
                <a:pathLst>
                  <a:path w="504" h="509">
                    <a:moveTo>
                      <a:pt x="0" y="467"/>
                    </a:moveTo>
                    <a:lnTo>
                      <a:pt x="35" y="306"/>
                    </a:lnTo>
                    <a:lnTo>
                      <a:pt x="73" y="228"/>
                    </a:lnTo>
                    <a:lnTo>
                      <a:pt x="124" y="161"/>
                    </a:lnTo>
                    <a:lnTo>
                      <a:pt x="207" y="95"/>
                    </a:lnTo>
                    <a:lnTo>
                      <a:pt x="306" y="32"/>
                    </a:lnTo>
                    <a:lnTo>
                      <a:pt x="409" y="0"/>
                    </a:lnTo>
                    <a:lnTo>
                      <a:pt x="496" y="21"/>
                    </a:lnTo>
                    <a:lnTo>
                      <a:pt x="504" y="70"/>
                    </a:lnTo>
                    <a:lnTo>
                      <a:pt x="428" y="118"/>
                    </a:lnTo>
                    <a:lnTo>
                      <a:pt x="322" y="171"/>
                    </a:lnTo>
                    <a:lnTo>
                      <a:pt x="240" y="228"/>
                    </a:lnTo>
                    <a:lnTo>
                      <a:pt x="169" y="374"/>
                    </a:lnTo>
                    <a:lnTo>
                      <a:pt x="137" y="448"/>
                    </a:lnTo>
                    <a:lnTo>
                      <a:pt x="92" y="509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3124080" y="5437440"/>
              <a:ext cx="681120" cy="792720"/>
              <a:chOff x="3124080" y="5437440"/>
              <a:chExt cx="681120" cy="792720"/>
            </a:xfrm>
          </p:grpSpPr>
          <p:sp>
            <p:nvSpPr>
              <p:cNvPr id="408" name=""/>
              <p:cNvSpPr/>
              <p:nvPr/>
            </p:nvSpPr>
            <p:spPr>
              <a:xfrm flipH="1">
                <a:off x="3150000" y="5522040"/>
                <a:ext cx="639000" cy="692640"/>
              </a:xfrm>
              <a:custGeom>
                <a:avLst/>
                <a:gdLst/>
                <a:ahLst/>
                <a:rect l="l" t="t" r="r" b="b"/>
                <a:pathLst>
                  <a:path w="4164" h="3761">
                    <a:moveTo>
                      <a:pt x="0" y="1840"/>
                    </a:moveTo>
                    <a:lnTo>
                      <a:pt x="731" y="1861"/>
                    </a:lnTo>
                    <a:lnTo>
                      <a:pt x="1837" y="2435"/>
                    </a:lnTo>
                    <a:lnTo>
                      <a:pt x="1575" y="2790"/>
                    </a:lnTo>
                    <a:lnTo>
                      <a:pt x="1243" y="3260"/>
                    </a:lnTo>
                    <a:lnTo>
                      <a:pt x="1389" y="3573"/>
                    </a:lnTo>
                    <a:lnTo>
                      <a:pt x="1889" y="3761"/>
                    </a:lnTo>
                    <a:lnTo>
                      <a:pt x="2619" y="3720"/>
                    </a:lnTo>
                    <a:lnTo>
                      <a:pt x="3016" y="3376"/>
                    </a:lnTo>
                    <a:lnTo>
                      <a:pt x="3392" y="1724"/>
                    </a:lnTo>
                    <a:lnTo>
                      <a:pt x="4164" y="429"/>
                    </a:lnTo>
                    <a:lnTo>
                      <a:pt x="4048" y="272"/>
                    </a:lnTo>
                    <a:lnTo>
                      <a:pt x="3434" y="62"/>
                    </a:lnTo>
                    <a:lnTo>
                      <a:pt x="2495" y="0"/>
                    </a:lnTo>
                    <a:lnTo>
                      <a:pt x="1377" y="209"/>
                    </a:lnTo>
                    <a:lnTo>
                      <a:pt x="543" y="846"/>
                    </a:lnTo>
                    <a:lnTo>
                      <a:pt x="157" y="1442"/>
                    </a:lnTo>
                    <a:lnTo>
                      <a:pt x="0" y="1840"/>
                    </a:lnTo>
                    <a:lnTo>
                      <a:pt x="0" y="1840"/>
                    </a:lnTo>
                    <a:close/>
                  </a:path>
                </a:pathLst>
              </a:custGeom>
              <a:solidFill>
                <a:srgbClr val="fbd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3292920" y="5599080"/>
                <a:ext cx="286560" cy="147960"/>
              </a:xfrm>
              <a:custGeom>
                <a:avLst/>
                <a:gdLst/>
                <a:ahLst/>
                <a:rect l="l" t="t" r="r" b="b"/>
                <a:pathLst>
                  <a:path w="1866" h="804">
                    <a:moveTo>
                      <a:pt x="0" y="407"/>
                    </a:moveTo>
                    <a:lnTo>
                      <a:pt x="302" y="701"/>
                    </a:lnTo>
                    <a:lnTo>
                      <a:pt x="960" y="804"/>
                    </a:lnTo>
                    <a:lnTo>
                      <a:pt x="1617" y="637"/>
                    </a:lnTo>
                    <a:lnTo>
                      <a:pt x="1866" y="523"/>
                    </a:lnTo>
                    <a:lnTo>
                      <a:pt x="1648" y="220"/>
                    </a:lnTo>
                    <a:lnTo>
                      <a:pt x="1074" y="0"/>
                    </a:lnTo>
                    <a:lnTo>
                      <a:pt x="521" y="42"/>
                    </a:lnTo>
                    <a:lnTo>
                      <a:pt x="0" y="407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3390480" y="5622120"/>
                <a:ext cx="91080" cy="105840"/>
              </a:xfrm>
              <a:custGeom>
                <a:avLst/>
                <a:gdLst/>
                <a:ahLst/>
                <a:rect l="l" t="t" r="r" b="b"/>
                <a:pathLst>
                  <a:path w="595" h="576">
                    <a:moveTo>
                      <a:pt x="407" y="0"/>
                    </a:moveTo>
                    <a:lnTo>
                      <a:pt x="167" y="0"/>
                    </a:lnTo>
                    <a:lnTo>
                      <a:pt x="0" y="242"/>
                    </a:lnTo>
                    <a:lnTo>
                      <a:pt x="104" y="491"/>
                    </a:lnTo>
                    <a:lnTo>
                      <a:pt x="397" y="576"/>
                    </a:lnTo>
                    <a:lnTo>
                      <a:pt x="595" y="314"/>
                    </a:lnTo>
                    <a:lnTo>
                      <a:pt x="407" y="0"/>
                    </a:lnTo>
                    <a:lnTo>
                      <a:pt x="407" y="0"/>
                    </a:lnTo>
                    <a:close/>
                  </a:path>
                </a:pathLst>
              </a:custGeom>
              <a:solidFill>
                <a:srgbClr val="99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3489480" y="6102720"/>
                <a:ext cx="105120" cy="68400"/>
              </a:xfrm>
              <a:custGeom>
                <a:avLst/>
                <a:gdLst/>
                <a:ahLst/>
                <a:rect l="l" t="t" r="r" b="b"/>
                <a:pathLst>
                  <a:path w="686" h="373">
                    <a:moveTo>
                      <a:pt x="91" y="373"/>
                    </a:moveTo>
                    <a:lnTo>
                      <a:pt x="0" y="173"/>
                    </a:lnTo>
                    <a:lnTo>
                      <a:pt x="91" y="0"/>
                    </a:lnTo>
                    <a:lnTo>
                      <a:pt x="538" y="90"/>
                    </a:lnTo>
                    <a:lnTo>
                      <a:pt x="648" y="137"/>
                    </a:lnTo>
                    <a:lnTo>
                      <a:pt x="686" y="183"/>
                    </a:lnTo>
                    <a:lnTo>
                      <a:pt x="648" y="230"/>
                    </a:lnTo>
                    <a:lnTo>
                      <a:pt x="538" y="278"/>
                    </a:lnTo>
                    <a:lnTo>
                      <a:pt x="352" y="325"/>
                    </a:lnTo>
                    <a:lnTo>
                      <a:pt x="91" y="373"/>
                    </a:lnTo>
                    <a:lnTo>
                      <a:pt x="91" y="373"/>
                    </a:lnTo>
                    <a:close/>
                  </a:path>
                </a:pathLst>
              </a:custGeom>
              <a:solidFill>
                <a:srgbClr val="d42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3420720" y="5779800"/>
                <a:ext cx="384480" cy="199440"/>
              </a:xfrm>
              <a:custGeom>
                <a:avLst/>
                <a:gdLst/>
                <a:ahLst/>
                <a:rect l="l" t="t" r="r" b="b"/>
                <a:pathLst>
                  <a:path w="2505" h="1083">
                    <a:moveTo>
                      <a:pt x="67" y="604"/>
                    </a:moveTo>
                    <a:lnTo>
                      <a:pt x="399" y="587"/>
                    </a:lnTo>
                    <a:lnTo>
                      <a:pt x="844" y="612"/>
                    </a:lnTo>
                    <a:lnTo>
                      <a:pt x="1087" y="713"/>
                    </a:lnTo>
                    <a:lnTo>
                      <a:pt x="1224" y="787"/>
                    </a:lnTo>
                    <a:lnTo>
                      <a:pt x="1361" y="866"/>
                    </a:lnTo>
                    <a:lnTo>
                      <a:pt x="1498" y="943"/>
                    </a:lnTo>
                    <a:lnTo>
                      <a:pt x="1627" y="1011"/>
                    </a:lnTo>
                    <a:lnTo>
                      <a:pt x="1743" y="1058"/>
                    </a:lnTo>
                    <a:lnTo>
                      <a:pt x="1844" y="1083"/>
                    </a:lnTo>
                    <a:lnTo>
                      <a:pt x="2100" y="1055"/>
                    </a:lnTo>
                    <a:lnTo>
                      <a:pt x="2311" y="918"/>
                    </a:lnTo>
                    <a:lnTo>
                      <a:pt x="2452" y="707"/>
                    </a:lnTo>
                    <a:lnTo>
                      <a:pt x="2505" y="454"/>
                    </a:lnTo>
                    <a:lnTo>
                      <a:pt x="2469" y="245"/>
                    </a:lnTo>
                    <a:lnTo>
                      <a:pt x="2425" y="161"/>
                    </a:lnTo>
                    <a:lnTo>
                      <a:pt x="2366" y="95"/>
                    </a:lnTo>
                    <a:lnTo>
                      <a:pt x="2294" y="42"/>
                    </a:lnTo>
                    <a:lnTo>
                      <a:pt x="2209" y="9"/>
                    </a:lnTo>
                    <a:lnTo>
                      <a:pt x="1999" y="0"/>
                    </a:lnTo>
                    <a:lnTo>
                      <a:pt x="1836" y="66"/>
                    </a:lnTo>
                    <a:lnTo>
                      <a:pt x="1718" y="203"/>
                    </a:lnTo>
                    <a:lnTo>
                      <a:pt x="1648" y="367"/>
                    </a:lnTo>
                    <a:lnTo>
                      <a:pt x="1629" y="513"/>
                    </a:lnTo>
                    <a:lnTo>
                      <a:pt x="1648" y="574"/>
                    </a:lnTo>
                    <a:lnTo>
                      <a:pt x="1688" y="616"/>
                    </a:lnTo>
                    <a:lnTo>
                      <a:pt x="1806" y="642"/>
                    </a:lnTo>
                    <a:lnTo>
                      <a:pt x="1923" y="595"/>
                    </a:lnTo>
                    <a:lnTo>
                      <a:pt x="1984" y="479"/>
                    </a:lnTo>
                    <a:lnTo>
                      <a:pt x="1969" y="370"/>
                    </a:lnTo>
                    <a:lnTo>
                      <a:pt x="1929" y="308"/>
                    </a:lnTo>
                    <a:lnTo>
                      <a:pt x="1876" y="222"/>
                    </a:lnTo>
                    <a:lnTo>
                      <a:pt x="1895" y="171"/>
                    </a:lnTo>
                    <a:lnTo>
                      <a:pt x="1937" y="133"/>
                    </a:lnTo>
                    <a:lnTo>
                      <a:pt x="2041" y="99"/>
                    </a:lnTo>
                    <a:lnTo>
                      <a:pt x="2157" y="129"/>
                    </a:lnTo>
                    <a:lnTo>
                      <a:pt x="2248" y="205"/>
                    </a:lnTo>
                    <a:lnTo>
                      <a:pt x="2332" y="429"/>
                    </a:lnTo>
                    <a:lnTo>
                      <a:pt x="2311" y="572"/>
                    </a:lnTo>
                    <a:lnTo>
                      <a:pt x="2254" y="709"/>
                    </a:lnTo>
                    <a:lnTo>
                      <a:pt x="2212" y="768"/>
                    </a:lnTo>
                    <a:lnTo>
                      <a:pt x="2167" y="819"/>
                    </a:lnTo>
                    <a:lnTo>
                      <a:pt x="2115" y="855"/>
                    </a:lnTo>
                    <a:lnTo>
                      <a:pt x="2058" y="876"/>
                    </a:lnTo>
                    <a:lnTo>
                      <a:pt x="1800" y="853"/>
                    </a:lnTo>
                    <a:lnTo>
                      <a:pt x="1678" y="798"/>
                    </a:lnTo>
                    <a:lnTo>
                      <a:pt x="1562" y="728"/>
                    </a:lnTo>
                    <a:lnTo>
                      <a:pt x="1450" y="650"/>
                    </a:lnTo>
                    <a:lnTo>
                      <a:pt x="1342" y="572"/>
                    </a:lnTo>
                    <a:lnTo>
                      <a:pt x="1239" y="503"/>
                    </a:lnTo>
                    <a:lnTo>
                      <a:pt x="1140" y="454"/>
                    </a:lnTo>
                    <a:lnTo>
                      <a:pt x="939" y="393"/>
                    </a:lnTo>
                    <a:lnTo>
                      <a:pt x="713" y="349"/>
                    </a:lnTo>
                    <a:lnTo>
                      <a:pt x="247" y="338"/>
                    </a:lnTo>
                    <a:lnTo>
                      <a:pt x="131" y="387"/>
                    </a:lnTo>
                    <a:lnTo>
                      <a:pt x="0" y="551"/>
                    </a:lnTo>
                    <a:lnTo>
                      <a:pt x="67" y="604"/>
                    </a:lnTo>
                    <a:lnTo>
                      <a:pt x="67" y="6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3138480" y="5512320"/>
                <a:ext cx="666360" cy="717840"/>
              </a:xfrm>
              <a:custGeom>
                <a:avLst/>
                <a:gdLst/>
                <a:ahLst/>
                <a:rect l="l" t="t" r="r" b="b"/>
                <a:pathLst>
                  <a:path w="4339" h="3901">
                    <a:moveTo>
                      <a:pt x="247" y="1892"/>
                    </a:moveTo>
                    <a:lnTo>
                      <a:pt x="321" y="1671"/>
                    </a:lnTo>
                    <a:lnTo>
                      <a:pt x="371" y="1550"/>
                    </a:lnTo>
                    <a:lnTo>
                      <a:pt x="428" y="1424"/>
                    </a:lnTo>
                    <a:lnTo>
                      <a:pt x="496" y="1295"/>
                    </a:lnTo>
                    <a:lnTo>
                      <a:pt x="578" y="1166"/>
                    </a:lnTo>
                    <a:lnTo>
                      <a:pt x="673" y="1035"/>
                    </a:lnTo>
                    <a:lnTo>
                      <a:pt x="785" y="907"/>
                    </a:lnTo>
                    <a:lnTo>
                      <a:pt x="914" y="784"/>
                    </a:lnTo>
                    <a:lnTo>
                      <a:pt x="1062" y="666"/>
                    </a:lnTo>
                    <a:lnTo>
                      <a:pt x="1144" y="609"/>
                    </a:lnTo>
                    <a:lnTo>
                      <a:pt x="1232" y="554"/>
                    </a:lnTo>
                    <a:lnTo>
                      <a:pt x="1325" y="502"/>
                    </a:lnTo>
                    <a:lnTo>
                      <a:pt x="1422" y="453"/>
                    </a:lnTo>
                    <a:lnTo>
                      <a:pt x="1526" y="407"/>
                    </a:lnTo>
                    <a:lnTo>
                      <a:pt x="1636" y="364"/>
                    </a:lnTo>
                    <a:lnTo>
                      <a:pt x="1752" y="324"/>
                    </a:lnTo>
                    <a:lnTo>
                      <a:pt x="1876" y="286"/>
                    </a:lnTo>
                    <a:lnTo>
                      <a:pt x="2144" y="223"/>
                    </a:lnTo>
                    <a:lnTo>
                      <a:pt x="2439" y="177"/>
                    </a:lnTo>
                    <a:lnTo>
                      <a:pt x="2866" y="153"/>
                    </a:lnTo>
                    <a:lnTo>
                      <a:pt x="3336" y="183"/>
                    </a:lnTo>
                    <a:lnTo>
                      <a:pt x="3792" y="284"/>
                    </a:lnTo>
                    <a:lnTo>
                      <a:pt x="3999" y="364"/>
                    </a:lnTo>
                    <a:lnTo>
                      <a:pt x="4183" y="468"/>
                    </a:lnTo>
                    <a:lnTo>
                      <a:pt x="4172" y="519"/>
                    </a:lnTo>
                    <a:lnTo>
                      <a:pt x="4103" y="633"/>
                    </a:lnTo>
                    <a:lnTo>
                      <a:pt x="4054" y="709"/>
                    </a:lnTo>
                    <a:lnTo>
                      <a:pt x="3997" y="795"/>
                    </a:lnTo>
                    <a:lnTo>
                      <a:pt x="3932" y="890"/>
                    </a:lnTo>
                    <a:lnTo>
                      <a:pt x="3864" y="991"/>
                    </a:lnTo>
                    <a:lnTo>
                      <a:pt x="3792" y="1097"/>
                    </a:lnTo>
                    <a:lnTo>
                      <a:pt x="3718" y="1206"/>
                    </a:lnTo>
                    <a:lnTo>
                      <a:pt x="3645" y="1318"/>
                    </a:lnTo>
                    <a:lnTo>
                      <a:pt x="3577" y="1426"/>
                    </a:lnTo>
                    <a:lnTo>
                      <a:pt x="3512" y="1534"/>
                    </a:lnTo>
                    <a:lnTo>
                      <a:pt x="3453" y="1637"/>
                    </a:lnTo>
                    <a:lnTo>
                      <a:pt x="3364" y="1825"/>
                    </a:lnTo>
                    <a:lnTo>
                      <a:pt x="3250" y="2186"/>
                    </a:lnTo>
                    <a:lnTo>
                      <a:pt x="3159" y="2572"/>
                    </a:lnTo>
                    <a:lnTo>
                      <a:pt x="3077" y="2964"/>
                    </a:lnTo>
                    <a:lnTo>
                      <a:pt x="2992" y="3340"/>
                    </a:lnTo>
                    <a:lnTo>
                      <a:pt x="2965" y="3405"/>
                    </a:lnTo>
                    <a:lnTo>
                      <a:pt x="2916" y="3485"/>
                    </a:lnTo>
                    <a:lnTo>
                      <a:pt x="2857" y="3559"/>
                    </a:lnTo>
                    <a:lnTo>
                      <a:pt x="2802" y="3604"/>
                    </a:lnTo>
                    <a:lnTo>
                      <a:pt x="2708" y="3652"/>
                    </a:lnTo>
                    <a:lnTo>
                      <a:pt x="2591" y="3696"/>
                    </a:lnTo>
                    <a:lnTo>
                      <a:pt x="2372" y="3738"/>
                    </a:lnTo>
                    <a:lnTo>
                      <a:pt x="1847" y="3690"/>
                    </a:lnTo>
                    <a:lnTo>
                      <a:pt x="1635" y="3604"/>
                    </a:lnTo>
                    <a:lnTo>
                      <a:pt x="1521" y="3439"/>
                    </a:lnTo>
                    <a:lnTo>
                      <a:pt x="1524" y="3253"/>
                    </a:lnTo>
                    <a:lnTo>
                      <a:pt x="1559" y="3158"/>
                    </a:lnTo>
                    <a:lnTo>
                      <a:pt x="1608" y="3063"/>
                    </a:lnTo>
                    <a:lnTo>
                      <a:pt x="1674" y="2970"/>
                    </a:lnTo>
                    <a:lnTo>
                      <a:pt x="1749" y="2880"/>
                    </a:lnTo>
                    <a:lnTo>
                      <a:pt x="1834" y="2797"/>
                    </a:lnTo>
                    <a:lnTo>
                      <a:pt x="1925" y="2719"/>
                    </a:lnTo>
                    <a:lnTo>
                      <a:pt x="2032" y="2631"/>
                    </a:lnTo>
                    <a:lnTo>
                      <a:pt x="2155" y="2521"/>
                    </a:lnTo>
                    <a:lnTo>
                      <a:pt x="2285" y="2390"/>
                    </a:lnTo>
                    <a:lnTo>
                      <a:pt x="2406" y="2238"/>
                    </a:lnTo>
                    <a:lnTo>
                      <a:pt x="1827" y="2479"/>
                    </a:lnTo>
                    <a:lnTo>
                      <a:pt x="1800" y="2595"/>
                    </a:lnTo>
                    <a:lnTo>
                      <a:pt x="1739" y="2715"/>
                    </a:lnTo>
                    <a:lnTo>
                      <a:pt x="1654" y="2838"/>
                    </a:lnTo>
                    <a:lnTo>
                      <a:pt x="1555" y="2960"/>
                    </a:lnTo>
                    <a:lnTo>
                      <a:pt x="1458" y="3082"/>
                    </a:lnTo>
                    <a:lnTo>
                      <a:pt x="1372" y="3203"/>
                    </a:lnTo>
                    <a:lnTo>
                      <a:pt x="1291" y="3430"/>
                    </a:lnTo>
                    <a:lnTo>
                      <a:pt x="1304" y="3502"/>
                    </a:lnTo>
                    <a:lnTo>
                      <a:pt x="1340" y="3570"/>
                    </a:lnTo>
                    <a:lnTo>
                      <a:pt x="1393" y="3637"/>
                    </a:lnTo>
                    <a:lnTo>
                      <a:pt x="1460" y="3696"/>
                    </a:lnTo>
                    <a:lnTo>
                      <a:pt x="1536" y="3749"/>
                    </a:lnTo>
                    <a:lnTo>
                      <a:pt x="1610" y="3793"/>
                    </a:lnTo>
                    <a:lnTo>
                      <a:pt x="1743" y="3844"/>
                    </a:lnTo>
                    <a:lnTo>
                      <a:pt x="1971" y="3880"/>
                    </a:lnTo>
                    <a:lnTo>
                      <a:pt x="2218" y="3901"/>
                    </a:lnTo>
                    <a:lnTo>
                      <a:pt x="2686" y="3869"/>
                    </a:lnTo>
                    <a:lnTo>
                      <a:pt x="2864" y="3802"/>
                    </a:lnTo>
                    <a:lnTo>
                      <a:pt x="3028" y="3675"/>
                    </a:lnTo>
                    <a:lnTo>
                      <a:pt x="3166" y="3511"/>
                    </a:lnTo>
                    <a:lnTo>
                      <a:pt x="3265" y="3331"/>
                    </a:lnTo>
                    <a:lnTo>
                      <a:pt x="3374" y="2989"/>
                    </a:lnTo>
                    <a:lnTo>
                      <a:pt x="3453" y="2601"/>
                    </a:lnTo>
                    <a:lnTo>
                      <a:pt x="3526" y="2209"/>
                    </a:lnTo>
                    <a:lnTo>
                      <a:pt x="3567" y="2025"/>
                    </a:lnTo>
                    <a:lnTo>
                      <a:pt x="3611" y="1858"/>
                    </a:lnTo>
                    <a:lnTo>
                      <a:pt x="3676" y="1690"/>
                    </a:lnTo>
                    <a:lnTo>
                      <a:pt x="3759" y="1523"/>
                    </a:lnTo>
                    <a:lnTo>
                      <a:pt x="3858" y="1354"/>
                    </a:lnTo>
                    <a:lnTo>
                      <a:pt x="3963" y="1187"/>
                    </a:lnTo>
                    <a:lnTo>
                      <a:pt x="4016" y="1101"/>
                    </a:lnTo>
                    <a:lnTo>
                      <a:pt x="4071" y="1017"/>
                    </a:lnTo>
                    <a:lnTo>
                      <a:pt x="4172" y="848"/>
                    </a:lnTo>
                    <a:lnTo>
                      <a:pt x="4263" y="679"/>
                    </a:lnTo>
                    <a:lnTo>
                      <a:pt x="4339" y="510"/>
                    </a:lnTo>
                    <a:lnTo>
                      <a:pt x="4316" y="381"/>
                    </a:lnTo>
                    <a:lnTo>
                      <a:pt x="4273" y="261"/>
                    </a:lnTo>
                    <a:lnTo>
                      <a:pt x="4153" y="219"/>
                    </a:lnTo>
                    <a:lnTo>
                      <a:pt x="4033" y="183"/>
                    </a:lnTo>
                    <a:lnTo>
                      <a:pt x="3792" y="118"/>
                    </a:lnTo>
                    <a:lnTo>
                      <a:pt x="3547" y="69"/>
                    </a:lnTo>
                    <a:lnTo>
                      <a:pt x="3301" y="35"/>
                    </a:lnTo>
                    <a:lnTo>
                      <a:pt x="2813" y="0"/>
                    </a:lnTo>
                    <a:lnTo>
                      <a:pt x="2332" y="12"/>
                    </a:lnTo>
                    <a:lnTo>
                      <a:pt x="1865" y="86"/>
                    </a:lnTo>
                    <a:lnTo>
                      <a:pt x="1644" y="153"/>
                    </a:lnTo>
                    <a:lnTo>
                      <a:pt x="1431" y="236"/>
                    </a:lnTo>
                    <a:lnTo>
                      <a:pt x="1329" y="284"/>
                    </a:lnTo>
                    <a:lnTo>
                      <a:pt x="1228" y="335"/>
                    </a:lnTo>
                    <a:lnTo>
                      <a:pt x="1131" y="390"/>
                    </a:lnTo>
                    <a:lnTo>
                      <a:pt x="1036" y="447"/>
                    </a:lnTo>
                    <a:lnTo>
                      <a:pt x="945" y="510"/>
                    </a:lnTo>
                    <a:lnTo>
                      <a:pt x="857" y="575"/>
                    </a:lnTo>
                    <a:lnTo>
                      <a:pt x="692" y="711"/>
                    </a:lnTo>
                    <a:lnTo>
                      <a:pt x="540" y="858"/>
                    </a:lnTo>
                    <a:lnTo>
                      <a:pt x="405" y="1012"/>
                    </a:lnTo>
                    <a:lnTo>
                      <a:pt x="344" y="1092"/>
                    </a:lnTo>
                    <a:lnTo>
                      <a:pt x="287" y="1171"/>
                    </a:lnTo>
                    <a:lnTo>
                      <a:pt x="188" y="1337"/>
                    </a:lnTo>
                    <a:lnTo>
                      <a:pt x="49" y="1673"/>
                    </a:lnTo>
                    <a:lnTo>
                      <a:pt x="0" y="2008"/>
                    </a:lnTo>
                    <a:lnTo>
                      <a:pt x="247" y="1892"/>
                    </a:lnTo>
                    <a:lnTo>
                      <a:pt x="247" y="18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>
                <a:off x="3259440" y="5583960"/>
                <a:ext cx="337320" cy="177120"/>
              </a:xfrm>
              <a:custGeom>
                <a:avLst/>
                <a:gdLst/>
                <a:ahLst/>
                <a:rect l="l" t="t" r="r" b="b"/>
                <a:pathLst>
                  <a:path w="2199" h="962">
                    <a:moveTo>
                      <a:pt x="1844" y="692"/>
                    </a:moveTo>
                    <a:lnTo>
                      <a:pt x="1749" y="742"/>
                    </a:lnTo>
                    <a:lnTo>
                      <a:pt x="1648" y="791"/>
                    </a:lnTo>
                    <a:lnTo>
                      <a:pt x="1540" y="837"/>
                    </a:lnTo>
                    <a:lnTo>
                      <a:pt x="1426" y="877"/>
                    </a:lnTo>
                    <a:lnTo>
                      <a:pt x="1184" y="937"/>
                    </a:lnTo>
                    <a:lnTo>
                      <a:pt x="935" y="962"/>
                    </a:lnTo>
                    <a:lnTo>
                      <a:pt x="682" y="941"/>
                    </a:lnTo>
                    <a:lnTo>
                      <a:pt x="437" y="859"/>
                    </a:lnTo>
                    <a:lnTo>
                      <a:pt x="319" y="793"/>
                    </a:lnTo>
                    <a:lnTo>
                      <a:pt x="207" y="709"/>
                    </a:lnTo>
                    <a:lnTo>
                      <a:pt x="101" y="603"/>
                    </a:lnTo>
                    <a:lnTo>
                      <a:pt x="0" y="477"/>
                    </a:lnTo>
                    <a:lnTo>
                      <a:pt x="53" y="411"/>
                    </a:lnTo>
                    <a:lnTo>
                      <a:pt x="108" y="350"/>
                    </a:lnTo>
                    <a:lnTo>
                      <a:pt x="224" y="244"/>
                    </a:lnTo>
                    <a:lnTo>
                      <a:pt x="285" y="198"/>
                    </a:lnTo>
                    <a:lnTo>
                      <a:pt x="350" y="158"/>
                    </a:lnTo>
                    <a:lnTo>
                      <a:pt x="481" y="91"/>
                    </a:lnTo>
                    <a:lnTo>
                      <a:pt x="620" y="44"/>
                    </a:lnTo>
                    <a:lnTo>
                      <a:pt x="762" y="14"/>
                    </a:lnTo>
                    <a:lnTo>
                      <a:pt x="1057" y="0"/>
                    </a:lnTo>
                    <a:lnTo>
                      <a:pt x="1357" y="42"/>
                    </a:lnTo>
                    <a:lnTo>
                      <a:pt x="1654" y="135"/>
                    </a:lnTo>
                    <a:lnTo>
                      <a:pt x="1798" y="198"/>
                    </a:lnTo>
                    <a:lnTo>
                      <a:pt x="1937" y="268"/>
                    </a:lnTo>
                    <a:lnTo>
                      <a:pt x="2072" y="348"/>
                    </a:lnTo>
                    <a:lnTo>
                      <a:pt x="2199" y="436"/>
                    </a:lnTo>
                    <a:lnTo>
                      <a:pt x="2093" y="538"/>
                    </a:lnTo>
                    <a:lnTo>
                      <a:pt x="1992" y="633"/>
                    </a:lnTo>
                    <a:lnTo>
                      <a:pt x="1901" y="559"/>
                    </a:lnTo>
                    <a:lnTo>
                      <a:pt x="1804" y="489"/>
                    </a:lnTo>
                    <a:lnTo>
                      <a:pt x="1701" y="422"/>
                    </a:lnTo>
                    <a:lnTo>
                      <a:pt x="1593" y="360"/>
                    </a:lnTo>
                    <a:lnTo>
                      <a:pt x="1483" y="302"/>
                    </a:lnTo>
                    <a:lnTo>
                      <a:pt x="1371" y="255"/>
                    </a:lnTo>
                    <a:lnTo>
                      <a:pt x="1255" y="215"/>
                    </a:lnTo>
                    <a:lnTo>
                      <a:pt x="1139" y="187"/>
                    </a:lnTo>
                    <a:lnTo>
                      <a:pt x="905" y="166"/>
                    </a:lnTo>
                    <a:lnTo>
                      <a:pt x="677" y="200"/>
                    </a:lnTo>
                    <a:lnTo>
                      <a:pt x="462" y="304"/>
                    </a:lnTo>
                    <a:lnTo>
                      <a:pt x="264" y="485"/>
                    </a:lnTo>
                    <a:lnTo>
                      <a:pt x="318" y="563"/>
                    </a:lnTo>
                    <a:lnTo>
                      <a:pt x="384" y="628"/>
                    </a:lnTo>
                    <a:lnTo>
                      <a:pt x="464" y="677"/>
                    </a:lnTo>
                    <a:lnTo>
                      <a:pt x="555" y="717"/>
                    </a:lnTo>
                    <a:lnTo>
                      <a:pt x="760" y="764"/>
                    </a:lnTo>
                    <a:lnTo>
                      <a:pt x="990" y="778"/>
                    </a:lnTo>
                    <a:lnTo>
                      <a:pt x="1456" y="743"/>
                    </a:lnTo>
                    <a:lnTo>
                      <a:pt x="1844" y="692"/>
                    </a:lnTo>
                    <a:lnTo>
                      <a:pt x="1844" y="6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3422160" y="5653080"/>
                <a:ext cx="27720" cy="33480"/>
              </a:xfrm>
              <a:custGeom>
                <a:avLst/>
                <a:gdLst/>
                <a:ahLst/>
                <a:rect l="l" t="t" r="r" b="b"/>
                <a:pathLst>
                  <a:path w="181" h="182">
                    <a:moveTo>
                      <a:pt x="91" y="0"/>
                    </a:moveTo>
                    <a:lnTo>
                      <a:pt x="154" y="28"/>
                    </a:lnTo>
                    <a:lnTo>
                      <a:pt x="181" y="91"/>
                    </a:lnTo>
                    <a:lnTo>
                      <a:pt x="154" y="155"/>
                    </a:lnTo>
                    <a:lnTo>
                      <a:pt x="91" y="182"/>
                    </a:lnTo>
                    <a:lnTo>
                      <a:pt x="27" y="155"/>
                    </a:lnTo>
                    <a:lnTo>
                      <a:pt x="0" y="91"/>
                    </a:lnTo>
                    <a:lnTo>
                      <a:pt x="27" y="28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3381840" y="5604480"/>
                <a:ext cx="73440" cy="130680"/>
              </a:xfrm>
              <a:custGeom>
                <a:avLst/>
                <a:gdLst/>
                <a:ahLst/>
                <a:rect l="l" t="t" r="r" b="b"/>
                <a:pathLst>
                  <a:path w="479" h="711">
                    <a:moveTo>
                      <a:pt x="125" y="711"/>
                    </a:moveTo>
                    <a:lnTo>
                      <a:pt x="0" y="630"/>
                    </a:lnTo>
                    <a:lnTo>
                      <a:pt x="125" y="555"/>
                    </a:lnTo>
                    <a:lnTo>
                      <a:pt x="268" y="495"/>
                    </a:lnTo>
                    <a:lnTo>
                      <a:pt x="330" y="348"/>
                    </a:lnTo>
                    <a:lnTo>
                      <a:pt x="313" y="268"/>
                    </a:lnTo>
                    <a:lnTo>
                      <a:pt x="268" y="200"/>
                    </a:lnTo>
                    <a:lnTo>
                      <a:pt x="201" y="151"/>
                    </a:lnTo>
                    <a:lnTo>
                      <a:pt x="125" y="133"/>
                    </a:lnTo>
                    <a:lnTo>
                      <a:pt x="0" y="75"/>
                    </a:lnTo>
                    <a:lnTo>
                      <a:pt x="125" y="0"/>
                    </a:lnTo>
                    <a:lnTo>
                      <a:pt x="264" y="29"/>
                    </a:lnTo>
                    <a:lnTo>
                      <a:pt x="376" y="103"/>
                    </a:lnTo>
                    <a:lnTo>
                      <a:pt x="452" y="217"/>
                    </a:lnTo>
                    <a:lnTo>
                      <a:pt x="479" y="356"/>
                    </a:lnTo>
                    <a:lnTo>
                      <a:pt x="452" y="495"/>
                    </a:lnTo>
                    <a:lnTo>
                      <a:pt x="420" y="557"/>
                    </a:lnTo>
                    <a:lnTo>
                      <a:pt x="376" y="609"/>
                    </a:lnTo>
                    <a:lnTo>
                      <a:pt x="323" y="652"/>
                    </a:lnTo>
                    <a:lnTo>
                      <a:pt x="264" y="685"/>
                    </a:lnTo>
                    <a:lnTo>
                      <a:pt x="125" y="711"/>
                    </a:lnTo>
                    <a:lnTo>
                      <a:pt x="125" y="7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3416760" y="5604480"/>
                <a:ext cx="73800" cy="130680"/>
              </a:xfrm>
              <a:custGeom>
                <a:avLst/>
                <a:gdLst/>
                <a:ahLst/>
                <a:rect l="l" t="t" r="r" b="b"/>
                <a:pathLst>
                  <a:path w="481" h="711">
                    <a:moveTo>
                      <a:pt x="357" y="711"/>
                    </a:moveTo>
                    <a:lnTo>
                      <a:pt x="481" y="630"/>
                    </a:lnTo>
                    <a:lnTo>
                      <a:pt x="357" y="555"/>
                    </a:lnTo>
                    <a:lnTo>
                      <a:pt x="217" y="495"/>
                    </a:lnTo>
                    <a:lnTo>
                      <a:pt x="158" y="348"/>
                    </a:lnTo>
                    <a:lnTo>
                      <a:pt x="175" y="268"/>
                    </a:lnTo>
                    <a:lnTo>
                      <a:pt x="217" y="200"/>
                    </a:lnTo>
                    <a:lnTo>
                      <a:pt x="279" y="151"/>
                    </a:lnTo>
                    <a:lnTo>
                      <a:pt x="357" y="133"/>
                    </a:lnTo>
                    <a:lnTo>
                      <a:pt x="481" y="75"/>
                    </a:lnTo>
                    <a:lnTo>
                      <a:pt x="357" y="0"/>
                    </a:lnTo>
                    <a:lnTo>
                      <a:pt x="217" y="29"/>
                    </a:lnTo>
                    <a:lnTo>
                      <a:pt x="104" y="103"/>
                    </a:lnTo>
                    <a:lnTo>
                      <a:pt x="28" y="217"/>
                    </a:lnTo>
                    <a:lnTo>
                      <a:pt x="0" y="356"/>
                    </a:lnTo>
                    <a:lnTo>
                      <a:pt x="28" y="495"/>
                    </a:lnTo>
                    <a:lnTo>
                      <a:pt x="61" y="557"/>
                    </a:lnTo>
                    <a:lnTo>
                      <a:pt x="104" y="609"/>
                    </a:lnTo>
                    <a:lnTo>
                      <a:pt x="158" y="652"/>
                    </a:lnTo>
                    <a:lnTo>
                      <a:pt x="217" y="685"/>
                    </a:lnTo>
                    <a:lnTo>
                      <a:pt x="357" y="711"/>
                    </a:lnTo>
                    <a:lnTo>
                      <a:pt x="357" y="7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3230640" y="5587560"/>
                <a:ext cx="116640" cy="108000"/>
              </a:xfrm>
              <a:custGeom>
                <a:avLst/>
                <a:gdLst/>
                <a:ahLst/>
                <a:rect l="l" t="t" r="r" b="b"/>
                <a:pathLst>
                  <a:path w="760" h="588">
                    <a:moveTo>
                      <a:pt x="380" y="588"/>
                    </a:moveTo>
                    <a:lnTo>
                      <a:pt x="760" y="264"/>
                    </a:lnTo>
                    <a:lnTo>
                      <a:pt x="447" y="316"/>
                    </a:lnTo>
                    <a:lnTo>
                      <a:pt x="528" y="91"/>
                    </a:lnTo>
                    <a:lnTo>
                      <a:pt x="239" y="215"/>
                    </a:lnTo>
                    <a:lnTo>
                      <a:pt x="274" y="0"/>
                    </a:lnTo>
                    <a:lnTo>
                      <a:pt x="0" y="158"/>
                    </a:lnTo>
                    <a:lnTo>
                      <a:pt x="380" y="588"/>
                    </a:lnTo>
                    <a:lnTo>
                      <a:pt x="380" y="5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3372840" y="5439960"/>
                <a:ext cx="41400" cy="88920"/>
              </a:xfrm>
              <a:custGeom>
                <a:avLst/>
                <a:gdLst/>
                <a:ahLst/>
                <a:rect l="l" t="t" r="r" b="b"/>
                <a:pathLst>
                  <a:path w="270" h="485">
                    <a:moveTo>
                      <a:pt x="23" y="464"/>
                    </a:moveTo>
                    <a:lnTo>
                      <a:pt x="0" y="317"/>
                    </a:lnTo>
                    <a:lnTo>
                      <a:pt x="32" y="173"/>
                    </a:lnTo>
                    <a:lnTo>
                      <a:pt x="72" y="108"/>
                    </a:lnTo>
                    <a:lnTo>
                      <a:pt x="125" y="49"/>
                    </a:lnTo>
                    <a:lnTo>
                      <a:pt x="188" y="8"/>
                    </a:lnTo>
                    <a:lnTo>
                      <a:pt x="255" y="0"/>
                    </a:lnTo>
                    <a:lnTo>
                      <a:pt x="270" y="25"/>
                    </a:lnTo>
                    <a:lnTo>
                      <a:pt x="237" y="78"/>
                    </a:lnTo>
                    <a:lnTo>
                      <a:pt x="156" y="198"/>
                    </a:lnTo>
                    <a:lnTo>
                      <a:pt x="148" y="454"/>
                    </a:lnTo>
                    <a:lnTo>
                      <a:pt x="85" y="485"/>
                    </a:lnTo>
                    <a:lnTo>
                      <a:pt x="23" y="464"/>
                    </a:lnTo>
                    <a:lnTo>
                      <a:pt x="23" y="4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3309120" y="5439960"/>
                <a:ext cx="48600" cy="8532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13" y="454"/>
                    </a:moveTo>
                    <a:lnTo>
                      <a:pt x="0" y="306"/>
                    </a:lnTo>
                    <a:lnTo>
                      <a:pt x="45" y="165"/>
                    </a:lnTo>
                    <a:lnTo>
                      <a:pt x="97" y="99"/>
                    </a:lnTo>
                    <a:lnTo>
                      <a:pt x="161" y="40"/>
                    </a:lnTo>
                    <a:lnTo>
                      <a:pt x="235" y="0"/>
                    </a:lnTo>
                    <a:lnTo>
                      <a:pt x="309" y="0"/>
                    </a:lnTo>
                    <a:lnTo>
                      <a:pt x="319" y="27"/>
                    </a:lnTo>
                    <a:lnTo>
                      <a:pt x="273" y="78"/>
                    </a:lnTo>
                    <a:lnTo>
                      <a:pt x="169" y="198"/>
                    </a:lnTo>
                    <a:lnTo>
                      <a:pt x="127" y="464"/>
                    </a:lnTo>
                    <a:lnTo>
                      <a:pt x="13" y="454"/>
                    </a:lnTo>
                    <a:lnTo>
                      <a:pt x="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3244680" y="5437440"/>
                <a:ext cx="58320" cy="87840"/>
              </a:xfrm>
              <a:custGeom>
                <a:avLst/>
                <a:gdLst/>
                <a:ahLst/>
                <a:rect l="l" t="t" r="r" b="b"/>
                <a:pathLst>
                  <a:path w="378" h="477">
                    <a:moveTo>
                      <a:pt x="0" y="460"/>
                    </a:moveTo>
                    <a:lnTo>
                      <a:pt x="7" y="308"/>
                    </a:lnTo>
                    <a:lnTo>
                      <a:pt x="66" y="161"/>
                    </a:lnTo>
                    <a:lnTo>
                      <a:pt x="127" y="97"/>
                    </a:lnTo>
                    <a:lnTo>
                      <a:pt x="205" y="36"/>
                    </a:lnTo>
                    <a:lnTo>
                      <a:pt x="289" y="0"/>
                    </a:lnTo>
                    <a:lnTo>
                      <a:pt x="365" y="5"/>
                    </a:lnTo>
                    <a:lnTo>
                      <a:pt x="378" y="43"/>
                    </a:lnTo>
                    <a:lnTo>
                      <a:pt x="323" y="95"/>
                    </a:lnTo>
                    <a:lnTo>
                      <a:pt x="190" y="211"/>
                    </a:lnTo>
                    <a:lnTo>
                      <a:pt x="108" y="477"/>
                    </a:lnTo>
                    <a:lnTo>
                      <a:pt x="0" y="460"/>
                    </a:lnTo>
                    <a:lnTo>
                      <a:pt x="0" y="4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3180600" y="5450760"/>
                <a:ext cx="67320" cy="91800"/>
              </a:xfrm>
              <a:custGeom>
                <a:avLst/>
                <a:gdLst/>
                <a:ahLst/>
                <a:rect l="l" t="t" r="r" b="b"/>
                <a:pathLst>
                  <a:path w="439" h="500">
                    <a:moveTo>
                      <a:pt x="0" y="467"/>
                    </a:moveTo>
                    <a:lnTo>
                      <a:pt x="16" y="306"/>
                    </a:lnTo>
                    <a:lnTo>
                      <a:pt x="44" y="228"/>
                    </a:lnTo>
                    <a:lnTo>
                      <a:pt x="92" y="161"/>
                    </a:lnTo>
                    <a:lnTo>
                      <a:pt x="166" y="95"/>
                    </a:lnTo>
                    <a:lnTo>
                      <a:pt x="255" y="34"/>
                    </a:lnTo>
                    <a:lnTo>
                      <a:pt x="348" y="0"/>
                    </a:lnTo>
                    <a:lnTo>
                      <a:pt x="430" y="13"/>
                    </a:lnTo>
                    <a:lnTo>
                      <a:pt x="439" y="55"/>
                    </a:lnTo>
                    <a:lnTo>
                      <a:pt x="371" y="104"/>
                    </a:lnTo>
                    <a:lnTo>
                      <a:pt x="278" y="160"/>
                    </a:lnTo>
                    <a:lnTo>
                      <a:pt x="207" y="220"/>
                    </a:lnTo>
                    <a:lnTo>
                      <a:pt x="99" y="492"/>
                    </a:lnTo>
                    <a:lnTo>
                      <a:pt x="42" y="500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3123720" y="5472360"/>
                <a:ext cx="77400" cy="93600"/>
              </a:xfrm>
              <a:custGeom>
                <a:avLst/>
                <a:gdLst/>
                <a:ahLst/>
                <a:rect l="l" t="t" r="r" b="b"/>
                <a:pathLst>
                  <a:path w="504" h="509">
                    <a:moveTo>
                      <a:pt x="0" y="467"/>
                    </a:moveTo>
                    <a:lnTo>
                      <a:pt x="35" y="306"/>
                    </a:lnTo>
                    <a:lnTo>
                      <a:pt x="73" y="228"/>
                    </a:lnTo>
                    <a:lnTo>
                      <a:pt x="124" y="161"/>
                    </a:lnTo>
                    <a:lnTo>
                      <a:pt x="207" y="95"/>
                    </a:lnTo>
                    <a:lnTo>
                      <a:pt x="306" y="32"/>
                    </a:lnTo>
                    <a:lnTo>
                      <a:pt x="409" y="0"/>
                    </a:lnTo>
                    <a:lnTo>
                      <a:pt x="496" y="21"/>
                    </a:lnTo>
                    <a:lnTo>
                      <a:pt x="504" y="70"/>
                    </a:lnTo>
                    <a:lnTo>
                      <a:pt x="428" y="118"/>
                    </a:lnTo>
                    <a:lnTo>
                      <a:pt x="322" y="171"/>
                    </a:lnTo>
                    <a:lnTo>
                      <a:pt x="240" y="228"/>
                    </a:lnTo>
                    <a:lnTo>
                      <a:pt x="169" y="374"/>
                    </a:lnTo>
                    <a:lnTo>
                      <a:pt x="137" y="448"/>
                    </a:lnTo>
                    <a:lnTo>
                      <a:pt x="92" y="509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3951360" y="4495680"/>
              <a:ext cx="696240" cy="810720"/>
              <a:chOff x="3951360" y="4495680"/>
              <a:chExt cx="696240" cy="810720"/>
            </a:xfrm>
          </p:grpSpPr>
          <p:sp>
            <p:nvSpPr>
              <p:cNvPr id="425" name=""/>
              <p:cNvSpPr/>
              <p:nvPr/>
            </p:nvSpPr>
            <p:spPr>
              <a:xfrm>
                <a:off x="3967560" y="4582080"/>
                <a:ext cx="653760" cy="708120"/>
              </a:xfrm>
              <a:custGeom>
                <a:avLst/>
                <a:gdLst/>
                <a:ahLst/>
                <a:rect l="l" t="t" r="r" b="b"/>
                <a:pathLst>
                  <a:path w="4164" h="3761">
                    <a:moveTo>
                      <a:pt x="0" y="1840"/>
                    </a:moveTo>
                    <a:lnTo>
                      <a:pt x="731" y="1861"/>
                    </a:lnTo>
                    <a:lnTo>
                      <a:pt x="1837" y="2435"/>
                    </a:lnTo>
                    <a:lnTo>
                      <a:pt x="1575" y="2790"/>
                    </a:lnTo>
                    <a:lnTo>
                      <a:pt x="1243" y="3260"/>
                    </a:lnTo>
                    <a:lnTo>
                      <a:pt x="1389" y="3573"/>
                    </a:lnTo>
                    <a:lnTo>
                      <a:pt x="1889" y="3761"/>
                    </a:lnTo>
                    <a:lnTo>
                      <a:pt x="2619" y="3720"/>
                    </a:lnTo>
                    <a:lnTo>
                      <a:pt x="3016" y="3376"/>
                    </a:lnTo>
                    <a:lnTo>
                      <a:pt x="3392" y="1724"/>
                    </a:lnTo>
                    <a:lnTo>
                      <a:pt x="4164" y="429"/>
                    </a:lnTo>
                    <a:lnTo>
                      <a:pt x="4048" y="272"/>
                    </a:lnTo>
                    <a:lnTo>
                      <a:pt x="3434" y="62"/>
                    </a:lnTo>
                    <a:lnTo>
                      <a:pt x="2495" y="0"/>
                    </a:lnTo>
                    <a:lnTo>
                      <a:pt x="1377" y="209"/>
                    </a:lnTo>
                    <a:lnTo>
                      <a:pt x="543" y="846"/>
                    </a:lnTo>
                    <a:lnTo>
                      <a:pt x="157" y="1442"/>
                    </a:lnTo>
                    <a:lnTo>
                      <a:pt x="0" y="1840"/>
                    </a:lnTo>
                    <a:lnTo>
                      <a:pt x="0" y="1840"/>
                    </a:lnTo>
                    <a:close/>
                  </a:path>
                </a:pathLst>
              </a:custGeom>
              <a:solidFill>
                <a:srgbClr val="fbd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182120" y="4660920"/>
                <a:ext cx="293040" cy="151200"/>
              </a:xfrm>
              <a:custGeom>
                <a:avLst/>
                <a:gdLst/>
                <a:ahLst/>
                <a:rect l="l" t="t" r="r" b="b"/>
                <a:pathLst>
                  <a:path w="1866" h="804">
                    <a:moveTo>
                      <a:pt x="0" y="407"/>
                    </a:moveTo>
                    <a:lnTo>
                      <a:pt x="302" y="701"/>
                    </a:lnTo>
                    <a:lnTo>
                      <a:pt x="960" y="804"/>
                    </a:lnTo>
                    <a:lnTo>
                      <a:pt x="1617" y="637"/>
                    </a:lnTo>
                    <a:lnTo>
                      <a:pt x="1866" y="523"/>
                    </a:lnTo>
                    <a:lnTo>
                      <a:pt x="1648" y="220"/>
                    </a:lnTo>
                    <a:lnTo>
                      <a:pt x="1074" y="0"/>
                    </a:lnTo>
                    <a:lnTo>
                      <a:pt x="521" y="42"/>
                    </a:lnTo>
                    <a:lnTo>
                      <a:pt x="0" y="407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282200" y="4684680"/>
                <a:ext cx="93240" cy="108360"/>
              </a:xfrm>
              <a:custGeom>
                <a:avLst/>
                <a:gdLst/>
                <a:ahLst/>
                <a:rect l="l" t="t" r="r" b="b"/>
                <a:pathLst>
                  <a:path w="595" h="576">
                    <a:moveTo>
                      <a:pt x="407" y="0"/>
                    </a:moveTo>
                    <a:lnTo>
                      <a:pt x="167" y="0"/>
                    </a:lnTo>
                    <a:lnTo>
                      <a:pt x="0" y="242"/>
                    </a:lnTo>
                    <a:lnTo>
                      <a:pt x="104" y="491"/>
                    </a:lnTo>
                    <a:lnTo>
                      <a:pt x="397" y="576"/>
                    </a:lnTo>
                    <a:lnTo>
                      <a:pt x="595" y="314"/>
                    </a:lnTo>
                    <a:lnTo>
                      <a:pt x="407" y="0"/>
                    </a:lnTo>
                    <a:lnTo>
                      <a:pt x="407" y="0"/>
                    </a:lnTo>
                    <a:close/>
                  </a:path>
                </a:pathLst>
              </a:custGeom>
              <a:solidFill>
                <a:srgbClr val="99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166640" y="5175720"/>
                <a:ext cx="107640" cy="69840"/>
              </a:xfrm>
              <a:custGeom>
                <a:avLst/>
                <a:gdLst/>
                <a:ahLst/>
                <a:rect l="l" t="t" r="r" b="b"/>
                <a:pathLst>
                  <a:path w="686" h="373">
                    <a:moveTo>
                      <a:pt x="91" y="373"/>
                    </a:moveTo>
                    <a:lnTo>
                      <a:pt x="0" y="173"/>
                    </a:lnTo>
                    <a:lnTo>
                      <a:pt x="91" y="0"/>
                    </a:lnTo>
                    <a:lnTo>
                      <a:pt x="538" y="90"/>
                    </a:lnTo>
                    <a:lnTo>
                      <a:pt x="648" y="137"/>
                    </a:lnTo>
                    <a:lnTo>
                      <a:pt x="686" y="183"/>
                    </a:lnTo>
                    <a:lnTo>
                      <a:pt x="648" y="230"/>
                    </a:lnTo>
                    <a:lnTo>
                      <a:pt x="538" y="278"/>
                    </a:lnTo>
                    <a:lnTo>
                      <a:pt x="352" y="325"/>
                    </a:lnTo>
                    <a:lnTo>
                      <a:pt x="91" y="373"/>
                    </a:lnTo>
                    <a:lnTo>
                      <a:pt x="91" y="373"/>
                    </a:lnTo>
                    <a:close/>
                  </a:path>
                </a:pathLst>
              </a:custGeom>
              <a:solidFill>
                <a:srgbClr val="d42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951360" y="4845600"/>
                <a:ext cx="393480" cy="203760"/>
              </a:xfrm>
              <a:custGeom>
                <a:avLst/>
                <a:gdLst/>
                <a:ahLst/>
                <a:rect l="l" t="t" r="r" b="b"/>
                <a:pathLst>
                  <a:path w="2505" h="1083">
                    <a:moveTo>
                      <a:pt x="67" y="604"/>
                    </a:moveTo>
                    <a:lnTo>
                      <a:pt x="399" y="587"/>
                    </a:lnTo>
                    <a:lnTo>
                      <a:pt x="844" y="612"/>
                    </a:lnTo>
                    <a:lnTo>
                      <a:pt x="1087" y="713"/>
                    </a:lnTo>
                    <a:lnTo>
                      <a:pt x="1224" y="787"/>
                    </a:lnTo>
                    <a:lnTo>
                      <a:pt x="1361" y="866"/>
                    </a:lnTo>
                    <a:lnTo>
                      <a:pt x="1498" y="943"/>
                    </a:lnTo>
                    <a:lnTo>
                      <a:pt x="1627" y="1011"/>
                    </a:lnTo>
                    <a:lnTo>
                      <a:pt x="1743" y="1058"/>
                    </a:lnTo>
                    <a:lnTo>
                      <a:pt x="1844" y="1083"/>
                    </a:lnTo>
                    <a:lnTo>
                      <a:pt x="2100" y="1055"/>
                    </a:lnTo>
                    <a:lnTo>
                      <a:pt x="2311" y="918"/>
                    </a:lnTo>
                    <a:lnTo>
                      <a:pt x="2452" y="707"/>
                    </a:lnTo>
                    <a:lnTo>
                      <a:pt x="2505" y="454"/>
                    </a:lnTo>
                    <a:lnTo>
                      <a:pt x="2469" y="245"/>
                    </a:lnTo>
                    <a:lnTo>
                      <a:pt x="2425" y="161"/>
                    </a:lnTo>
                    <a:lnTo>
                      <a:pt x="2366" y="95"/>
                    </a:lnTo>
                    <a:lnTo>
                      <a:pt x="2294" y="42"/>
                    </a:lnTo>
                    <a:lnTo>
                      <a:pt x="2209" y="9"/>
                    </a:lnTo>
                    <a:lnTo>
                      <a:pt x="1999" y="0"/>
                    </a:lnTo>
                    <a:lnTo>
                      <a:pt x="1836" y="66"/>
                    </a:lnTo>
                    <a:lnTo>
                      <a:pt x="1718" y="203"/>
                    </a:lnTo>
                    <a:lnTo>
                      <a:pt x="1648" y="367"/>
                    </a:lnTo>
                    <a:lnTo>
                      <a:pt x="1629" y="513"/>
                    </a:lnTo>
                    <a:lnTo>
                      <a:pt x="1648" y="574"/>
                    </a:lnTo>
                    <a:lnTo>
                      <a:pt x="1688" y="616"/>
                    </a:lnTo>
                    <a:lnTo>
                      <a:pt x="1806" y="642"/>
                    </a:lnTo>
                    <a:lnTo>
                      <a:pt x="1923" y="595"/>
                    </a:lnTo>
                    <a:lnTo>
                      <a:pt x="1984" y="479"/>
                    </a:lnTo>
                    <a:lnTo>
                      <a:pt x="1969" y="370"/>
                    </a:lnTo>
                    <a:lnTo>
                      <a:pt x="1929" y="308"/>
                    </a:lnTo>
                    <a:lnTo>
                      <a:pt x="1876" y="222"/>
                    </a:lnTo>
                    <a:lnTo>
                      <a:pt x="1895" y="171"/>
                    </a:lnTo>
                    <a:lnTo>
                      <a:pt x="1937" y="133"/>
                    </a:lnTo>
                    <a:lnTo>
                      <a:pt x="2041" y="99"/>
                    </a:lnTo>
                    <a:lnTo>
                      <a:pt x="2157" y="129"/>
                    </a:lnTo>
                    <a:lnTo>
                      <a:pt x="2248" y="205"/>
                    </a:lnTo>
                    <a:lnTo>
                      <a:pt x="2332" y="429"/>
                    </a:lnTo>
                    <a:lnTo>
                      <a:pt x="2311" y="572"/>
                    </a:lnTo>
                    <a:lnTo>
                      <a:pt x="2254" y="709"/>
                    </a:lnTo>
                    <a:lnTo>
                      <a:pt x="2212" y="768"/>
                    </a:lnTo>
                    <a:lnTo>
                      <a:pt x="2167" y="819"/>
                    </a:lnTo>
                    <a:lnTo>
                      <a:pt x="2115" y="855"/>
                    </a:lnTo>
                    <a:lnTo>
                      <a:pt x="2058" y="876"/>
                    </a:lnTo>
                    <a:lnTo>
                      <a:pt x="1800" y="853"/>
                    </a:lnTo>
                    <a:lnTo>
                      <a:pt x="1678" y="798"/>
                    </a:lnTo>
                    <a:lnTo>
                      <a:pt x="1562" y="728"/>
                    </a:lnTo>
                    <a:lnTo>
                      <a:pt x="1450" y="650"/>
                    </a:lnTo>
                    <a:lnTo>
                      <a:pt x="1342" y="572"/>
                    </a:lnTo>
                    <a:lnTo>
                      <a:pt x="1239" y="503"/>
                    </a:lnTo>
                    <a:lnTo>
                      <a:pt x="1140" y="454"/>
                    </a:lnTo>
                    <a:lnTo>
                      <a:pt x="939" y="393"/>
                    </a:lnTo>
                    <a:lnTo>
                      <a:pt x="713" y="349"/>
                    </a:lnTo>
                    <a:lnTo>
                      <a:pt x="247" y="338"/>
                    </a:lnTo>
                    <a:lnTo>
                      <a:pt x="131" y="387"/>
                    </a:lnTo>
                    <a:lnTo>
                      <a:pt x="0" y="551"/>
                    </a:lnTo>
                    <a:lnTo>
                      <a:pt x="67" y="604"/>
                    </a:lnTo>
                    <a:lnTo>
                      <a:pt x="67" y="6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51360" y="4572360"/>
                <a:ext cx="681480" cy="734040"/>
              </a:xfrm>
              <a:custGeom>
                <a:avLst/>
                <a:gdLst/>
                <a:ahLst/>
                <a:rect l="l" t="t" r="r" b="b"/>
                <a:pathLst>
                  <a:path w="4339" h="3901">
                    <a:moveTo>
                      <a:pt x="247" y="1892"/>
                    </a:moveTo>
                    <a:lnTo>
                      <a:pt x="321" y="1671"/>
                    </a:lnTo>
                    <a:lnTo>
                      <a:pt x="371" y="1550"/>
                    </a:lnTo>
                    <a:lnTo>
                      <a:pt x="428" y="1424"/>
                    </a:lnTo>
                    <a:lnTo>
                      <a:pt x="496" y="1295"/>
                    </a:lnTo>
                    <a:lnTo>
                      <a:pt x="578" y="1166"/>
                    </a:lnTo>
                    <a:lnTo>
                      <a:pt x="673" y="1035"/>
                    </a:lnTo>
                    <a:lnTo>
                      <a:pt x="785" y="907"/>
                    </a:lnTo>
                    <a:lnTo>
                      <a:pt x="914" y="784"/>
                    </a:lnTo>
                    <a:lnTo>
                      <a:pt x="1062" y="666"/>
                    </a:lnTo>
                    <a:lnTo>
                      <a:pt x="1144" y="609"/>
                    </a:lnTo>
                    <a:lnTo>
                      <a:pt x="1232" y="554"/>
                    </a:lnTo>
                    <a:lnTo>
                      <a:pt x="1325" y="502"/>
                    </a:lnTo>
                    <a:lnTo>
                      <a:pt x="1422" y="453"/>
                    </a:lnTo>
                    <a:lnTo>
                      <a:pt x="1526" y="407"/>
                    </a:lnTo>
                    <a:lnTo>
                      <a:pt x="1636" y="364"/>
                    </a:lnTo>
                    <a:lnTo>
                      <a:pt x="1752" y="324"/>
                    </a:lnTo>
                    <a:lnTo>
                      <a:pt x="1876" y="286"/>
                    </a:lnTo>
                    <a:lnTo>
                      <a:pt x="2144" y="223"/>
                    </a:lnTo>
                    <a:lnTo>
                      <a:pt x="2439" y="177"/>
                    </a:lnTo>
                    <a:lnTo>
                      <a:pt x="2866" y="153"/>
                    </a:lnTo>
                    <a:lnTo>
                      <a:pt x="3336" y="183"/>
                    </a:lnTo>
                    <a:lnTo>
                      <a:pt x="3792" y="284"/>
                    </a:lnTo>
                    <a:lnTo>
                      <a:pt x="3999" y="364"/>
                    </a:lnTo>
                    <a:lnTo>
                      <a:pt x="4183" y="468"/>
                    </a:lnTo>
                    <a:lnTo>
                      <a:pt x="4172" y="519"/>
                    </a:lnTo>
                    <a:lnTo>
                      <a:pt x="4103" y="633"/>
                    </a:lnTo>
                    <a:lnTo>
                      <a:pt x="4054" y="709"/>
                    </a:lnTo>
                    <a:lnTo>
                      <a:pt x="3997" y="795"/>
                    </a:lnTo>
                    <a:lnTo>
                      <a:pt x="3932" y="890"/>
                    </a:lnTo>
                    <a:lnTo>
                      <a:pt x="3864" y="991"/>
                    </a:lnTo>
                    <a:lnTo>
                      <a:pt x="3792" y="1097"/>
                    </a:lnTo>
                    <a:lnTo>
                      <a:pt x="3718" y="1206"/>
                    </a:lnTo>
                    <a:lnTo>
                      <a:pt x="3645" y="1318"/>
                    </a:lnTo>
                    <a:lnTo>
                      <a:pt x="3577" y="1426"/>
                    </a:lnTo>
                    <a:lnTo>
                      <a:pt x="3512" y="1534"/>
                    </a:lnTo>
                    <a:lnTo>
                      <a:pt x="3453" y="1637"/>
                    </a:lnTo>
                    <a:lnTo>
                      <a:pt x="3364" y="1825"/>
                    </a:lnTo>
                    <a:lnTo>
                      <a:pt x="3250" y="2186"/>
                    </a:lnTo>
                    <a:lnTo>
                      <a:pt x="3159" y="2572"/>
                    </a:lnTo>
                    <a:lnTo>
                      <a:pt x="3077" y="2964"/>
                    </a:lnTo>
                    <a:lnTo>
                      <a:pt x="2992" y="3340"/>
                    </a:lnTo>
                    <a:lnTo>
                      <a:pt x="2965" y="3405"/>
                    </a:lnTo>
                    <a:lnTo>
                      <a:pt x="2916" y="3485"/>
                    </a:lnTo>
                    <a:lnTo>
                      <a:pt x="2857" y="3559"/>
                    </a:lnTo>
                    <a:lnTo>
                      <a:pt x="2802" y="3604"/>
                    </a:lnTo>
                    <a:lnTo>
                      <a:pt x="2708" y="3652"/>
                    </a:lnTo>
                    <a:lnTo>
                      <a:pt x="2591" y="3696"/>
                    </a:lnTo>
                    <a:lnTo>
                      <a:pt x="2372" y="3738"/>
                    </a:lnTo>
                    <a:lnTo>
                      <a:pt x="1847" y="3690"/>
                    </a:lnTo>
                    <a:lnTo>
                      <a:pt x="1635" y="3604"/>
                    </a:lnTo>
                    <a:lnTo>
                      <a:pt x="1521" y="3439"/>
                    </a:lnTo>
                    <a:lnTo>
                      <a:pt x="1524" y="3253"/>
                    </a:lnTo>
                    <a:lnTo>
                      <a:pt x="1559" y="3158"/>
                    </a:lnTo>
                    <a:lnTo>
                      <a:pt x="1608" y="3063"/>
                    </a:lnTo>
                    <a:lnTo>
                      <a:pt x="1674" y="2970"/>
                    </a:lnTo>
                    <a:lnTo>
                      <a:pt x="1749" y="2880"/>
                    </a:lnTo>
                    <a:lnTo>
                      <a:pt x="1834" y="2797"/>
                    </a:lnTo>
                    <a:lnTo>
                      <a:pt x="1925" y="2719"/>
                    </a:lnTo>
                    <a:lnTo>
                      <a:pt x="2032" y="2631"/>
                    </a:lnTo>
                    <a:lnTo>
                      <a:pt x="2155" y="2521"/>
                    </a:lnTo>
                    <a:lnTo>
                      <a:pt x="2285" y="2390"/>
                    </a:lnTo>
                    <a:lnTo>
                      <a:pt x="2406" y="2238"/>
                    </a:lnTo>
                    <a:lnTo>
                      <a:pt x="1827" y="2479"/>
                    </a:lnTo>
                    <a:lnTo>
                      <a:pt x="1800" y="2595"/>
                    </a:lnTo>
                    <a:lnTo>
                      <a:pt x="1739" y="2715"/>
                    </a:lnTo>
                    <a:lnTo>
                      <a:pt x="1654" y="2838"/>
                    </a:lnTo>
                    <a:lnTo>
                      <a:pt x="1555" y="2960"/>
                    </a:lnTo>
                    <a:lnTo>
                      <a:pt x="1458" y="3082"/>
                    </a:lnTo>
                    <a:lnTo>
                      <a:pt x="1372" y="3203"/>
                    </a:lnTo>
                    <a:lnTo>
                      <a:pt x="1291" y="3430"/>
                    </a:lnTo>
                    <a:lnTo>
                      <a:pt x="1304" y="3502"/>
                    </a:lnTo>
                    <a:lnTo>
                      <a:pt x="1340" y="3570"/>
                    </a:lnTo>
                    <a:lnTo>
                      <a:pt x="1393" y="3637"/>
                    </a:lnTo>
                    <a:lnTo>
                      <a:pt x="1460" y="3696"/>
                    </a:lnTo>
                    <a:lnTo>
                      <a:pt x="1536" y="3749"/>
                    </a:lnTo>
                    <a:lnTo>
                      <a:pt x="1610" y="3793"/>
                    </a:lnTo>
                    <a:lnTo>
                      <a:pt x="1743" y="3844"/>
                    </a:lnTo>
                    <a:lnTo>
                      <a:pt x="1971" y="3880"/>
                    </a:lnTo>
                    <a:lnTo>
                      <a:pt x="2218" y="3901"/>
                    </a:lnTo>
                    <a:lnTo>
                      <a:pt x="2686" y="3869"/>
                    </a:lnTo>
                    <a:lnTo>
                      <a:pt x="2864" y="3802"/>
                    </a:lnTo>
                    <a:lnTo>
                      <a:pt x="3028" y="3675"/>
                    </a:lnTo>
                    <a:lnTo>
                      <a:pt x="3166" y="3511"/>
                    </a:lnTo>
                    <a:lnTo>
                      <a:pt x="3265" y="3331"/>
                    </a:lnTo>
                    <a:lnTo>
                      <a:pt x="3374" y="2989"/>
                    </a:lnTo>
                    <a:lnTo>
                      <a:pt x="3453" y="2601"/>
                    </a:lnTo>
                    <a:lnTo>
                      <a:pt x="3526" y="2209"/>
                    </a:lnTo>
                    <a:lnTo>
                      <a:pt x="3567" y="2025"/>
                    </a:lnTo>
                    <a:lnTo>
                      <a:pt x="3611" y="1858"/>
                    </a:lnTo>
                    <a:lnTo>
                      <a:pt x="3676" y="1690"/>
                    </a:lnTo>
                    <a:lnTo>
                      <a:pt x="3759" y="1523"/>
                    </a:lnTo>
                    <a:lnTo>
                      <a:pt x="3858" y="1354"/>
                    </a:lnTo>
                    <a:lnTo>
                      <a:pt x="3963" y="1187"/>
                    </a:lnTo>
                    <a:lnTo>
                      <a:pt x="4016" y="1101"/>
                    </a:lnTo>
                    <a:lnTo>
                      <a:pt x="4071" y="1017"/>
                    </a:lnTo>
                    <a:lnTo>
                      <a:pt x="4172" y="848"/>
                    </a:lnTo>
                    <a:lnTo>
                      <a:pt x="4263" y="679"/>
                    </a:lnTo>
                    <a:lnTo>
                      <a:pt x="4339" y="510"/>
                    </a:lnTo>
                    <a:lnTo>
                      <a:pt x="4316" y="381"/>
                    </a:lnTo>
                    <a:lnTo>
                      <a:pt x="4273" y="261"/>
                    </a:lnTo>
                    <a:lnTo>
                      <a:pt x="4153" y="219"/>
                    </a:lnTo>
                    <a:lnTo>
                      <a:pt x="4033" y="183"/>
                    </a:lnTo>
                    <a:lnTo>
                      <a:pt x="3792" y="118"/>
                    </a:lnTo>
                    <a:lnTo>
                      <a:pt x="3547" y="69"/>
                    </a:lnTo>
                    <a:lnTo>
                      <a:pt x="3301" y="35"/>
                    </a:lnTo>
                    <a:lnTo>
                      <a:pt x="2813" y="0"/>
                    </a:lnTo>
                    <a:lnTo>
                      <a:pt x="2332" y="12"/>
                    </a:lnTo>
                    <a:lnTo>
                      <a:pt x="1865" y="86"/>
                    </a:lnTo>
                    <a:lnTo>
                      <a:pt x="1644" y="153"/>
                    </a:lnTo>
                    <a:lnTo>
                      <a:pt x="1431" y="236"/>
                    </a:lnTo>
                    <a:lnTo>
                      <a:pt x="1329" y="284"/>
                    </a:lnTo>
                    <a:lnTo>
                      <a:pt x="1228" y="335"/>
                    </a:lnTo>
                    <a:lnTo>
                      <a:pt x="1131" y="390"/>
                    </a:lnTo>
                    <a:lnTo>
                      <a:pt x="1036" y="447"/>
                    </a:lnTo>
                    <a:lnTo>
                      <a:pt x="945" y="510"/>
                    </a:lnTo>
                    <a:lnTo>
                      <a:pt x="857" y="575"/>
                    </a:lnTo>
                    <a:lnTo>
                      <a:pt x="692" y="711"/>
                    </a:lnTo>
                    <a:lnTo>
                      <a:pt x="540" y="858"/>
                    </a:lnTo>
                    <a:lnTo>
                      <a:pt x="405" y="1012"/>
                    </a:lnTo>
                    <a:lnTo>
                      <a:pt x="344" y="1092"/>
                    </a:lnTo>
                    <a:lnTo>
                      <a:pt x="287" y="1171"/>
                    </a:lnTo>
                    <a:lnTo>
                      <a:pt x="188" y="1337"/>
                    </a:lnTo>
                    <a:lnTo>
                      <a:pt x="49" y="1673"/>
                    </a:lnTo>
                    <a:lnTo>
                      <a:pt x="0" y="2008"/>
                    </a:lnTo>
                    <a:lnTo>
                      <a:pt x="247" y="1892"/>
                    </a:lnTo>
                    <a:lnTo>
                      <a:pt x="247" y="18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164120" y="4645440"/>
                <a:ext cx="344880" cy="181080"/>
              </a:xfrm>
              <a:custGeom>
                <a:avLst/>
                <a:gdLst/>
                <a:ahLst/>
                <a:rect l="l" t="t" r="r" b="b"/>
                <a:pathLst>
                  <a:path w="2199" h="962">
                    <a:moveTo>
                      <a:pt x="1844" y="692"/>
                    </a:moveTo>
                    <a:lnTo>
                      <a:pt x="1749" y="742"/>
                    </a:lnTo>
                    <a:lnTo>
                      <a:pt x="1648" y="791"/>
                    </a:lnTo>
                    <a:lnTo>
                      <a:pt x="1540" y="837"/>
                    </a:lnTo>
                    <a:lnTo>
                      <a:pt x="1426" y="877"/>
                    </a:lnTo>
                    <a:lnTo>
                      <a:pt x="1184" y="937"/>
                    </a:lnTo>
                    <a:lnTo>
                      <a:pt x="935" y="962"/>
                    </a:lnTo>
                    <a:lnTo>
                      <a:pt x="682" y="941"/>
                    </a:lnTo>
                    <a:lnTo>
                      <a:pt x="437" y="859"/>
                    </a:lnTo>
                    <a:lnTo>
                      <a:pt x="319" y="793"/>
                    </a:lnTo>
                    <a:lnTo>
                      <a:pt x="207" y="709"/>
                    </a:lnTo>
                    <a:lnTo>
                      <a:pt x="101" y="603"/>
                    </a:lnTo>
                    <a:lnTo>
                      <a:pt x="0" y="477"/>
                    </a:lnTo>
                    <a:lnTo>
                      <a:pt x="53" y="411"/>
                    </a:lnTo>
                    <a:lnTo>
                      <a:pt x="108" y="350"/>
                    </a:lnTo>
                    <a:lnTo>
                      <a:pt x="224" y="244"/>
                    </a:lnTo>
                    <a:lnTo>
                      <a:pt x="285" y="198"/>
                    </a:lnTo>
                    <a:lnTo>
                      <a:pt x="350" y="158"/>
                    </a:lnTo>
                    <a:lnTo>
                      <a:pt x="481" y="91"/>
                    </a:lnTo>
                    <a:lnTo>
                      <a:pt x="620" y="44"/>
                    </a:lnTo>
                    <a:lnTo>
                      <a:pt x="762" y="14"/>
                    </a:lnTo>
                    <a:lnTo>
                      <a:pt x="1057" y="0"/>
                    </a:lnTo>
                    <a:lnTo>
                      <a:pt x="1357" y="42"/>
                    </a:lnTo>
                    <a:lnTo>
                      <a:pt x="1654" y="135"/>
                    </a:lnTo>
                    <a:lnTo>
                      <a:pt x="1798" y="198"/>
                    </a:lnTo>
                    <a:lnTo>
                      <a:pt x="1937" y="268"/>
                    </a:lnTo>
                    <a:lnTo>
                      <a:pt x="2072" y="348"/>
                    </a:lnTo>
                    <a:lnTo>
                      <a:pt x="2199" y="436"/>
                    </a:lnTo>
                    <a:lnTo>
                      <a:pt x="2093" y="538"/>
                    </a:lnTo>
                    <a:lnTo>
                      <a:pt x="1992" y="633"/>
                    </a:lnTo>
                    <a:lnTo>
                      <a:pt x="1901" y="559"/>
                    </a:lnTo>
                    <a:lnTo>
                      <a:pt x="1804" y="489"/>
                    </a:lnTo>
                    <a:lnTo>
                      <a:pt x="1701" y="422"/>
                    </a:lnTo>
                    <a:lnTo>
                      <a:pt x="1593" y="360"/>
                    </a:lnTo>
                    <a:lnTo>
                      <a:pt x="1483" y="302"/>
                    </a:lnTo>
                    <a:lnTo>
                      <a:pt x="1371" y="255"/>
                    </a:lnTo>
                    <a:lnTo>
                      <a:pt x="1255" y="215"/>
                    </a:lnTo>
                    <a:lnTo>
                      <a:pt x="1139" y="187"/>
                    </a:lnTo>
                    <a:lnTo>
                      <a:pt x="905" y="166"/>
                    </a:lnTo>
                    <a:lnTo>
                      <a:pt x="677" y="200"/>
                    </a:lnTo>
                    <a:lnTo>
                      <a:pt x="462" y="304"/>
                    </a:lnTo>
                    <a:lnTo>
                      <a:pt x="264" y="485"/>
                    </a:lnTo>
                    <a:lnTo>
                      <a:pt x="318" y="563"/>
                    </a:lnTo>
                    <a:lnTo>
                      <a:pt x="384" y="628"/>
                    </a:lnTo>
                    <a:lnTo>
                      <a:pt x="464" y="677"/>
                    </a:lnTo>
                    <a:lnTo>
                      <a:pt x="555" y="717"/>
                    </a:lnTo>
                    <a:lnTo>
                      <a:pt x="760" y="764"/>
                    </a:lnTo>
                    <a:lnTo>
                      <a:pt x="990" y="778"/>
                    </a:lnTo>
                    <a:lnTo>
                      <a:pt x="1456" y="743"/>
                    </a:lnTo>
                    <a:lnTo>
                      <a:pt x="1844" y="692"/>
                    </a:lnTo>
                    <a:lnTo>
                      <a:pt x="1844" y="6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314600" y="4716000"/>
                <a:ext cx="28440" cy="34200"/>
              </a:xfrm>
              <a:custGeom>
                <a:avLst/>
                <a:gdLst/>
                <a:ahLst/>
                <a:rect l="l" t="t" r="r" b="b"/>
                <a:pathLst>
                  <a:path w="181" h="182">
                    <a:moveTo>
                      <a:pt x="91" y="0"/>
                    </a:moveTo>
                    <a:lnTo>
                      <a:pt x="154" y="28"/>
                    </a:lnTo>
                    <a:lnTo>
                      <a:pt x="181" y="91"/>
                    </a:lnTo>
                    <a:lnTo>
                      <a:pt x="154" y="155"/>
                    </a:lnTo>
                    <a:lnTo>
                      <a:pt x="91" y="182"/>
                    </a:lnTo>
                    <a:lnTo>
                      <a:pt x="27" y="155"/>
                    </a:lnTo>
                    <a:lnTo>
                      <a:pt x="0" y="91"/>
                    </a:lnTo>
                    <a:lnTo>
                      <a:pt x="27" y="28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309200" y="4666320"/>
                <a:ext cx="75240" cy="133560"/>
              </a:xfrm>
              <a:custGeom>
                <a:avLst/>
                <a:gdLst/>
                <a:ahLst/>
                <a:rect l="l" t="t" r="r" b="b"/>
                <a:pathLst>
                  <a:path w="479" h="711">
                    <a:moveTo>
                      <a:pt x="125" y="711"/>
                    </a:moveTo>
                    <a:lnTo>
                      <a:pt x="0" y="630"/>
                    </a:lnTo>
                    <a:lnTo>
                      <a:pt x="125" y="555"/>
                    </a:lnTo>
                    <a:lnTo>
                      <a:pt x="268" y="495"/>
                    </a:lnTo>
                    <a:lnTo>
                      <a:pt x="330" y="348"/>
                    </a:lnTo>
                    <a:lnTo>
                      <a:pt x="313" y="268"/>
                    </a:lnTo>
                    <a:lnTo>
                      <a:pt x="268" y="200"/>
                    </a:lnTo>
                    <a:lnTo>
                      <a:pt x="201" y="151"/>
                    </a:lnTo>
                    <a:lnTo>
                      <a:pt x="125" y="133"/>
                    </a:lnTo>
                    <a:lnTo>
                      <a:pt x="0" y="75"/>
                    </a:lnTo>
                    <a:lnTo>
                      <a:pt x="125" y="0"/>
                    </a:lnTo>
                    <a:lnTo>
                      <a:pt x="264" y="29"/>
                    </a:lnTo>
                    <a:lnTo>
                      <a:pt x="376" y="103"/>
                    </a:lnTo>
                    <a:lnTo>
                      <a:pt x="452" y="217"/>
                    </a:lnTo>
                    <a:lnTo>
                      <a:pt x="479" y="356"/>
                    </a:lnTo>
                    <a:lnTo>
                      <a:pt x="452" y="495"/>
                    </a:lnTo>
                    <a:lnTo>
                      <a:pt x="420" y="557"/>
                    </a:lnTo>
                    <a:lnTo>
                      <a:pt x="376" y="609"/>
                    </a:lnTo>
                    <a:lnTo>
                      <a:pt x="323" y="652"/>
                    </a:lnTo>
                    <a:lnTo>
                      <a:pt x="264" y="685"/>
                    </a:lnTo>
                    <a:lnTo>
                      <a:pt x="125" y="711"/>
                    </a:lnTo>
                    <a:lnTo>
                      <a:pt x="125" y="7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272840" y="4666320"/>
                <a:ext cx="75600" cy="133560"/>
              </a:xfrm>
              <a:custGeom>
                <a:avLst/>
                <a:gdLst/>
                <a:ahLst/>
                <a:rect l="l" t="t" r="r" b="b"/>
                <a:pathLst>
                  <a:path w="481" h="711">
                    <a:moveTo>
                      <a:pt x="357" y="711"/>
                    </a:moveTo>
                    <a:lnTo>
                      <a:pt x="481" y="630"/>
                    </a:lnTo>
                    <a:lnTo>
                      <a:pt x="357" y="555"/>
                    </a:lnTo>
                    <a:lnTo>
                      <a:pt x="217" y="495"/>
                    </a:lnTo>
                    <a:lnTo>
                      <a:pt x="158" y="348"/>
                    </a:lnTo>
                    <a:lnTo>
                      <a:pt x="175" y="268"/>
                    </a:lnTo>
                    <a:lnTo>
                      <a:pt x="217" y="200"/>
                    </a:lnTo>
                    <a:lnTo>
                      <a:pt x="279" y="151"/>
                    </a:lnTo>
                    <a:lnTo>
                      <a:pt x="357" y="133"/>
                    </a:lnTo>
                    <a:lnTo>
                      <a:pt x="481" y="75"/>
                    </a:lnTo>
                    <a:lnTo>
                      <a:pt x="357" y="0"/>
                    </a:lnTo>
                    <a:lnTo>
                      <a:pt x="217" y="29"/>
                    </a:lnTo>
                    <a:lnTo>
                      <a:pt x="104" y="103"/>
                    </a:lnTo>
                    <a:lnTo>
                      <a:pt x="28" y="217"/>
                    </a:lnTo>
                    <a:lnTo>
                      <a:pt x="0" y="356"/>
                    </a:lnTo>
                    <a:lnTo>
                      <a:pt x="28" y="495"/>
                    </a:lnTo>
                    <a:lnTo>
                      <a:pt x="61" y="557"/>
                    </a:lnTo>
                    <a:lnTo>
                      <a:pt x="104" y="609"/>
                    </a:lnTo>
                    <a:lnTo>
                      <a:pt x="158" y="652"/>
                    </a:lnTo>
                    <a:lnTo>
                      <a:pt x="217" y="685"/>
                    </a:lnTo>
                    <a:lnTo>
                      <a:pt x="357" y="711"/>
                    </a:lnTo>
                    <a:lnTo>
                      <a:pt x="357" y="7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419720" y="4649040"/>
                <a:ext cx="119160" cy="110520"/>
              </a:xfrm>
              <a:custGeom>
                <a:avLst/>
                <a:gdLst/>
                <a:ahLst/>
                <a:rect l="l" t="t" r="r" b="b"/>
                <a:pathLst>
                  <a:path w="760" h="588">
                    <a:moveTo>
                      <a:pt x="380" y="588"/>
                    </a:moveTo>
                    <a:lnTo>
                      <a:pt x="760" y="264"/>
                    </a:lnTo>
                    <a:lnTo>
                      <a:pt x="447" y="316"/>
                    </a:lnTo>
                    <a:lnTo>
                      <a:pt x="528" y="91"/>
                    </a:lnTo>
                    <a:lnTo>
                      <a:pt x="239" y="215"/>
                    </a:lnTo>
                    <a:lnTo>
                      <a:pt x="274" y="0"/>
                    </a:lnTo>
                    <a:lnTo>
                      <a:pt x="0" y="158"/>
                    </a:lnTo>
                    <a:lnTo>
                      <a:pt x="380" y="588"/>
                    </a:lnTo>
                    <a:lnTo>
                      <a:pt x="380" y="5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350960" y="4498200"/>
                <a:ext cx="42120" cy="91080"/>
              </a:xfrm>
              <a:custGeom>
                <a:avLst/>
                <a:gdLst/>
                <a:ahLst/>
                <a:rect l="l" t="t" r="r" b="b"/>
                <a:pathLst>
                  <a:path w="270" h="485">
                    <a:moveTo>
                      <a:pt x="23" y="464"/>
                    </a:moveTo>
                    <a:lnTo>
                      <a:pt x="0" y="317"/>
                    </a:lnTo>
                    <a:lnTo>
                      <a:pt x="32" y="173"/>
                    </a:lnTo>
                    <a:lnTo>
                      <a:pt x="72" y="108"/>
                    </a:lnTo>
                    <a:lnTo>
                      <a:pt x="125" y="49"/>
                    </a:lnTo>
                    <a:lnTo>
                      <a:pt x="188" y="8"/>
                    </a:lnTo>
                    <a:lnTo>
                      <a:pt x="255" y="0"/>
                    </a:lnTo>
                    <a:lnTo>
                      <a:pt x="270" y="25"/>
                    </a:lnTo>
                    <a:lnTo>
                      <a:pt x="237" y="78"/>
                    </a:lnTo>
                    <a:lnTo>
                      <a:pt x="156" y="198"/>
                    </a:lnTo>
                    <a:lnTo>
                      <a:pt x="148" y="454"/>
                    </a:lnTo>
                    <a:lnTo>
                      <a:pt x="85" y="485"/>
                    </a:lnTo>
                    <a:lnTo>
                      <a:pt x="23" y="464"/>
                    </a:lnTo>
                    <a:lnTo>
                      <a:pt x="23" y="4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408560" y="4498200"/>
                <a:ext cx="49680" cy="8712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13" y="454"/>
                    </a:moveTo>
                    <a:lnTo>
                      <a:pt x="0" y="306"/>
                    </a:lnTo>
                    <a:lnTo>
                      <a:pt x="45" y="165"/>
                    </a:lnTo>
                    <a:lnTo>
                      <a:pt x="97" y="99"/>
                    </a:lnTo>
                    <a:lnTo>
                      <a:pt x="161" y="40"/>
                    </a:lnTo>
                    <a:lnTo>
                      <a:pt x="235" y="0"/>
                    </a:lnTo>
                    <a:lnTo>
                      <a:pt x="309" y="0"/>
                    </a:lnTo>
                    <a:lnTo>
                      <a:pt x="319" y="27"/>
                    </a:lnTo>
                    <a:lnTo>
                      <a:pt x="273" y="78"/>
                    </a:lnTo>
                    <a:lnTo>
                      <a:pt x="169" y="198"/>
                    </a:lnTo>
                    <a:lnTo>
                      <a:pt x="127" y="464"/>
                    </a:lnTo>
                    <a:lnTo>
                      <a:pt x="13" y="454"/>
                    </a:lnTo>
                    <a:lnTo>
                      <a:pt x="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465080" y="4495680"/>
                <a:ext cx="59400" cy="89640"/>
              </a:xfrm>
              <a:custGeom>
                <a:avLst/>
                <a:gdLst/>
                <a:ahLst/>
                <a:rect l="l" t="t" r="r" b="b"/>
                <a:pathLst>
                  <a:path w="378" h="477">
                    <a:moveTo>
                      <a:pt x="0" y="460"/>
                    </a:moveTo>
                    <a:lnTo>
                      <a:pt x="7" y="308"/>
                    </a:lnTo>
                    <a:lnTo>
                      <a:pt x="66" y="161"/>
                    </a:lnTo>
                    <a:lnTo>
                      <a:pt x="127" y="97"/>
                    </a:lnTo>
                    <a:lnTo>
                      <a:pt x="205" y="36"/>
                    </a:lnTo>
                    <a:lnTo>
                      <a:pt x="289" y="0"/>
                    </a:lnTo>
                    <a:lnTo>
                      <a:pt x="365" y="5"/>
                    </a:lnTo>
                    <a:lnTo>
                      <a:pt x="378" y="43"/>
                    </a:lnTo>
                    <a:lnTo>
                      <a:pt x="323" y="95"/>
                    </a:lnTo>
                    <a:lnTo>
                      <a:pt x="190" y="211"/>
                    </a:lnTo>
                    <a:lnTo>
                      <a:pt x="108" y="477"/>
                    </a:lnTo>
                    <a:lnTo>
                      <a:pt x="0" y="460"/>
                    </a:lnTo>
                    <a:lnTo>
                      <a:pt x="0" y="4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520880" y="4509360"/>
                <a:ext cx="68760" cy="93960"/>
              </a:xfrm>
              <a:custGeom>
                <a:avLst/>
                <a:gdLst/>
                <a:ahLst/>
                <a:rect l="l" t="t" r="r" b="b"/>
                <a:pathLst>
                  <a:path w="439" h="500">
                    <a:moveTo>
                      <a:pt x="0" y="467"/>
                    </a:moveTo>
                    <a:lnTo>
                      <a:pt x="16" y="306"/>
                    </a:lnTo>
                    <a:lnTo>
                      <a:pt x="44" y="228"/>
                    </a:lnTo>
                    <a:lnTo>
                      <a:pt x="92" y="161"/>
                    </a:lnTo>
                    <a:lnTo>
                      <a:pt x="166" y="95"/>
                    </a:lnTo>
                    <a:lnTo>
                      <a:pt x="255" y="34"/>
                    </a:lnTo>
                    <a:lnTo>
                      <a:pt x="348" y="0"/>
                    </a:lnTo>
                    <a:lnTo>
                      <a:pt x="430" y="13"/>
                    </a:lnTo>
                    <a:lnTo>
                      <a:pt x="439" y="55"/>
                    </a:lnTo>
                    <a:lnTo>
                      <a:pt x="371" y="104"/>
                    </a:lnTo>
                    <a:lnTo>
                      <a:pt x="278" y="160"/>
                    </a:lnTo>
                    <a:lnTo>
                      <a:pt x="207" y="220"/>
                    </a:lnTo>
                    <a:lnTo>
                      <a:pt x="99" y="492"/>
                    </a:lnTo>
                    <a:lnTo>
                      <a:pt x="42" y="500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568760" y="4531320"/>
                <a:ext cx="78840" cy="95760"/>
              </a:xfrm>
              <a:custGeom>
                <a:avLst/>
                <a:gdLst/>
                <a:ahLst/>
                <a:rect l="l" t="t" r="r" b="b"/>
                <a:pathLst>
                  <a:path w="504" h="509">
                    <a:moveTo>
                      <a:pt x="0" y="467"/>
                    </a:moveTo>
                    <a:lnTo>
                      <a:pt x="35" y="306"/>
                    </a:lnTo>
                    <a:lnTo>
                      <a:pt x="73" y="228"/>
                    </a:lnTo>
                    <a:lnTo>
                      <a:pt x="124" y="161"/>
                    </a:lnTo>
                    <a:lnTo>
                      <a:pt x="207" y="95"/>
                    </a:lnTo>
                    <a:lnTo>
                      <a:pt x="306" y="32"/>
                    </a:lnTo>
                    <a:lnTo>
                      <a:pt x="409" y="0"/>
                    </a:lnTo>
                    <a:lnTo>
                      <a:pt x="496" y="21"/>
                    </a:lnTo>
                    <a:lnTo>
                      <a:pt x="504" y="70"/>
                    </a:lnTo>
                    <a:lnTo>
                      <a:pt x="428" y="118"/>
                    </a:lnTo>
                    <a:lnTo>
                      <a:pt x="322" y="171"/>
                    </a:lnTo>
                    <a:lnTo>
                      <a:pt x="240" y="228"/>
                    </a:lnTo>
                    <a:lnTo>
                      <a:pt x="169" y="374"/>
                    </a:lnTo>
                    <a:lnTo>
                      <a:pt x="137" y="448"/>
                    </a:lnTo>
                    <a:lnTo>
                      <a:pt x="92" y="509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3124080" y="4495680"/>
              <a:ext cx="681120" cy="792720"/>
              <a:chOff x="3124080" y="4495680"/>
              <a:chExt cx="681120" cy="792720"/>
            </a:xfrm>
          </p:grpSpPr>
          <p:sp>
            <p:nvSpPr>
              <p:cNvPr id="442" name=""/>
              <p:cNvSpPr/>
              <p:nvPr/>
            </p:nvSpPr>
            <p:spPr>
              <a:xfrm flipH="1">
                <a:off x="3150000" y="4580280"/>
                <a:ext cx="639000" cy="692640"/>
              </a:xfrm>
              <a:custGeom>
                <a:avLst/>
                <a:gdLst/>
                <a:ahLst/>
                <a:rect l="l" t="t" r="r" b="b"/>
                <a:pathLst>
                  <a:path w="4164" h="3761">
                    <a:moveTo>
                      <a:pt x="0" y="1840"/>
                    </a:moveTo>
                    <a:lnTo>
                      <a:pt x="731" y="1861"/>
                    </a:lnTo>
                    <a:lnTo>
                      <a:pt x="1837" y="2435"/>
                    </a:lnTo>
                    <a:lnTo>
                      <a:pt x="1575" y="2790"/>
                    </a:lnTo>
                    <a:lnTo>
                      <a:pt x="1243" y="3260"/>
                    </a:lnTo>
                    <a:lnTo>
                      <a:pt x="1389" y="3573"/>
                    </a:lnTo>
                    <a:lnTo>
                      <a:pt x="1889" y="3761"/>
                    </a:lnTo>
                    <a:lnTo>
                      <a:pt x="2619" y="3720"/>
                    </a:lnTo>
                    <a:lnTo>
                      <a:pt x="3016" y="3376"/>
                    </a:lnTo>
                    <a:lnTo>
                      <a:pt x="3392" y="1724"/>
                    </a:lnTo>
                    <a:lnTo>
                      <a:pt x="4164" y="429"/>
                    </a:lnTo>
                    <a:lnTo>
                      <a:pt x="4048" y="272"/>
                    </a:lnTo>
                    <a:lnTo>
                      <a:pt x="3434" y="62"/>
                    </a:lnTo>
                    <a:lnTo>
                      <a:pt x="2495" y="0"/>
                    </a:lnTo>
                    <a:lnTo>
                      <a:pt x="1377" y="209"/>
                    </a:lnTo>
                    <a:lnTo>
                      <a:pt x="543" y="846"/>
                    </a:lnTo>
                    <a:lnTo>
                      <a:pt x="157" y="1442"/>
                    </a:lnTo>
                    <a:lnTo>
                      <a:pt x="0" y="1840"/>
                    </a:lnTo>
                    <a:lnTo>
                      <a:pt x="0" y="1840"/>
                    </a:lnTo>
                    <a:close/>
                  </a:path>
                </a:pathLst>
              </a:custGeom>
              <a:solidFill>
                <a:srgbClr val="fbd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3292920" y="4657320"/>
                <a:ext cx="286560" cy="147960"/>
              </a:xfrm>
              <a:custGeom>
                <a:avLst/>
                <a:gdLst/>
                <a:ahLst/>
                <a:rect l="l" t="t" r="r" b="b"/>
                <a:pathLst>
                  <a:path w="1866" h="804">
                    <a:moveTo>
                      <a:pt x="0" y="407"/>
                    </a:moveTo>
                    <a:lnTo>
                      <a:pt x="302" y="701"/>
                    </a:lnTo>
                    <a:lnTo>
                      <a:pt x="960" y="804"/>
                    </a:lnTo>
                    <a:lnTo>
                      <a:pt x="1617" y="637"/>
                    </a:lnTo>
                    <a:lnTo>
                      <a:pt x="1866" y="523"/>
                    </a:lnTo>
                    <a:lnTo>
                      <a:pt x="1648" y="220"/>
                    </a:lnTo>
                    <a:lnTo>
                      <a:pt x="1074" y="0"/>
                    </a:lnTo>
                    <a:lnTo>
                      <a:pt x="521" y="42"/>
                    </a:lnTo>
                    <a:lnTo>
                      <a:pt x="0" y="407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3390480" y="4680360"/>
                <a:ext cx="91080" cy="105840"/>
              </a:xfrm>
              <a:custGeom>
                <a:avLst/>
                <a:gdLst/>
                <a:ahLst/>
                <a:rect l="l" t="t" r="r" b="b"/>
                <a:pathLst>
                  <a:path w="595" h="576">
                    <a:moveTo>
                      <a:pt x="407" y="0"/>
                    </a:moveTo>
                    <a:lnTo>
                      <a:pt x="167" y="0"/>
                    </a:lnTo>
                    <a:lnTo>
                      <a:pt x="0" y="242"/>
                    </a:lnTo>
                    <a:lnTo>
                      <a:pt x="104" y="491"/>
                    </a:lnTo>
                    <a:lnTo>
                      <a:pt x="397" y="576"/>
                    </a:lnTo>
                    <a:lnTo>
                      <a:pt x="595" y="314"/>
                    </a:lnTo>
                    <a:lnTo>
                      <a:pt x="407" y="0"/>
                    </a:lnTo>
                    <a:lnTo>
                      <a:pt x="407" y="0"/>
                    </a:lnTo>
                    <a:close/>
                  </a:path>
                </a:pathLst>
              </a:custGeom>
              <a:solidFill>
                <a:srgbClr val="99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3489480" y="5160960"/>
                <a:ext cx="105120" cy="68400"/>
              </a:xfrm>
              <a:custGeom>
                <a:avLst/>
                <a:gdLst/>
                <a:ahLst/>
                <a:rect l="l" t="t" r="r" b="b"/>
                <a:pathLst>
                  <a:path w="686" h="373">
                    <a:moveTo>
                      <a:pt x="91" y="373"/>
                    </a:moveTo>
                    <a:lnTo>
                      <a:pt x="0" y="173"/>
                    </a:lnTo>
                    <a:lnTo>
                      <a:pt x="91" y="0"/>
                    </a:lnTo>
                    <a:lnTo>
                      <a:pt x="538" y="90"/>
                    </a:lnTo>
                    <a:lnTo>
                      <a:pt x="648" y="137"/>
                    </a:lnTo>
                    <a:lnTo>
                      <a:pt x="686" y="183"/>
                    </a:lnTo>
                    <a:lnTo>
                      <a:pt x="648" y="230"/>
                    </a:lnTo>
                    <a:lnTo>
                      <a:pt x="538" y="278"/>
                    </a:lnTo>
                    <a:lnTo>
                      <a:pt x="352" y="325"/>
                    </a:lnTo>
                    <a:lnTo>
                      <a:pt x="91" y="373"/>
                    </a:lnTo>
                    <a:lnTo>
                      <a:pt x="91" y="373"/>
                    </a:lnTo>
                    <a:close/>
                  </a:path>
                </a:pathLst>
              </a:custGeom>
              <a:solidFill>
                <a:srgbClr val="d42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3420720" y="4838040"/>
                <a:ext cx="384480" cy="199440"/>
              </a:xfrm>
              <a:custGeom>
                <a:avLst/>
                <a:gdLst/>
                <a:ahLst/>
                <a:rect l="l" t="t" r="r" b="b"/>
                <a:pathLst>
                  <a:path w="2505" h="1083">
                    <a:moveTo>
                      <a:pt x="67" y="604"/>
                    </a:moveTo>
                    <a:lnTo>
                      <a:pt x="399" y="587"/>
                    </a:lnTo>
                    <a:lnTo>
                      <a:pt x="844" y="612"/>
                    </a:lnTo>
                    <a:lnTo>
                      <a:pt x="1087" y="713"/>
                    </a:lnTo>
                    <a:lnTo>
                      <a:pt x="1224" y="787"/>
                    </a:lnTo>
                    <a:lnTo>
                      <a:pt x="1361" y="866"/>
                    </a:lnTo>
                    <a:lnTo>
                      <a:pt x="1498" y="943"/>
                    </a:lnTo>
                    <a:lnTo>
                      <a:pt x="1627" y="1011"/>
                    </a:lnTo>
                    <a:lnTo>
                      <a:pt x="1743" y="1058"/>
                    </a:lnTo>
                    <a:lnTo>
                      <a:pt x="1844" y="1083"/>
                    </a:lnTo>
                    <a:lnTo>
                      <a:pt x="2100" y="1055"/>
                    </a:lnTo>
                    <a:lnTo>
                      <a:pt x="2311" y="918"/>
                    </a:lnTo>
                    <a:lnTo>
                      <a:pt x="2452" y="707"/>
                    </a:lnTo>
                    <a:lnTo>
                      <a:pt x="2505" y="454"/>
                    </a:lnTo>
                    <a:lnTo>
                      <a:pt x="2469" y="245"/>
                    </a:lnTo>
                    <a:lnTo>
                      <a:pt x="2425" y="161"/>
                    </a:lnTo>
                    <a:lnTo>
                      <a:pt x="2366" y="95"/>
                    </a:lnTo>
                    <a:lnTo>
                      <a:pt x="2294" y="42"/>
                    </a:lnTo>
                    <a:lnTo>
                      <a:pt x="2209" y="9"/>
                    </a:lnTo>
                    <a:lnTo>
                      <a:pt x="1999" y="0"/>
                    </a:lnTo>
                    <a:lnTo>
                      <a:pt x="1836" y="66"/>
                    </a:lnTo>
                    <a:lnTo>
                      <a:pt x="1718" y="203"/>
                    </a:lnTo>
                    <a:lnTo>
                      <a:pt x="1648" y="367"/>
                    </a:lnTo>
                    <a:lnTo>
                      <a:pt x="1629" y="513"/>
                    </a:lnTo>
                    <a:lnTo>
                      <a:pt x="1648" y="574"/>
                    </a:lnTo>
                    <a:lnTo>
                      <a:pt x="1688" y="616"/>
                    </a:lnTo>
                    <a:lnTo>
                      <a:pt x="1806" y="642"/>
                    </a:lnTo>
                    <a:lnTo>
                      <a:pt x="1923" y="595"/>
                    </a:lnTo>
                    <a:lnTo>
                      <a:pt x="1984" y="479"/>
                    </a:lnTo>
                    <a:lnTo>
                      <a:pt x="1969" y="370"/>
                    </a:lnTo>
                    <a:lnTo>
                      <a:pt x="1929" y="308"/>
                    </a:lnTo>
                    <a:lnTo>
                      <a:pt x="1876" y="222"/>
                    </a:lnTo>
                    <a:lnTo>
                      <a:pt x="1895" y="171"/>
                    </a:lnTo>
                    <a:lnTo>
                      <a:pt x="1937" y="133"/>
                    </a:lnTo>
                    <a:lnTo>
                      <a:pt x="2041" y="99"/>
                    </a:lnTo>
                    <a:lnTo>
                      <a:pt x="2157" y="129"/>
                    </a:lnTo>
                    <a:lnTo>
                      <a:pt x="2248" y="205"/>
                    </a:lnTo>
                    <a:lnTo>
                      <a:pt x="2332" y="429"/>
                    </a:lnTo>
                    <a:lnTo>
                      <a:pt x="2311" y="572"/>
                    </a:lnTo>
                    <a:lnTo>
                      <a:pt x="2254" y="709"/>
                    </a:lnTo>
                    <a:lnTo>
                      <a:pt x="2212" y="768"/>
                    </a:lnTo>
                    <a:lnTo>
                      <a:pt x="2167" y="819"/>
                    </a:lnTo>
                    <a:lnTo>
                      <a:pt x="2115" y="855"/>
                    </a:lnTo>
                    <a:lnTo>
                      <a:pt x="2058" y="876"/>
                    </a:lnTo>
                    <a:lnTo>
                      <a:pt x="1800" y="853"/>
                    </a:lnTo>
                    <a:lnTo>
                      <a:pt x="1678" y="798"/>
                    </a:lnTo>
                    <a:lnTo>
                      <a:pt x="1562" y="728"/>
                    </a:lnTo>
                    <a:lnTo>
                      <a:pt x="1450" y="650"/>
                    </a:lnTo>
                    <a:lnTo>
                      <a:pt x="1342" y="572"/>
                    </a:lnTo>
                    <a:lnTo>
                      <a:pt x="1239" y="503"/>
                    </a:lnTo>
                    <a:lnTo>
                      <a:pt x="1140" y="454"/>
                    </a:lnTo>
                    <a:lnTo>
                      <a:pt x="939" y="393"/>
                    </a:lnTo>
                    <a:lnTo>
                      <a:pt x="713" y="349"/>
                    </a:lnTo>
                    <a:lnTo>
                      <a:pt x="247" y="338"/>
                    </a:lnTo>
                    <a:lnTo>
                      <a:pt x="131" y="387"/>
                    </a:lnTo>
                    <a:lnTo>
                      <a:pt x="0" y="551"/>
                    </a:lnTo>
                    <a:lnTo>
                      <a:pt x="67" y="604"/>
                    </a:lnTo>
                    <a:lnTo>
                      <a:pt x="67" y="6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3138480" y="4570560"/>
                <a:ext cx="666360" cy="717840"/>
              </a:xfrm>
              <a:custGeom>
                <a:avLst/>
                <a:gdLst/>
                <a:ahLst/>
                <a:rect l="l" t="t" r="r" b="b"/>
                <a:pathLst>
                  <a:path w="4339" h="3901">
                    <a:moveTo>
                      <a:pt x="247" y="1892"/>
                    </a:moveTo>
                    <a:lnTo>
                      <a:pt x="321" y="1671"/>
                    </a:lnTo>
                    <a:lnTo>
                      <a:pt x="371" y="1550"/>
                    </a:lnTo>
                    <a:lnTo>
                      <a:pt x="428" y="1424"/>
                    </a:lnTo>
                    <a:lnTo>
                      <a:pt x="496" y="1295"/>
                    </a:lnTo>
                    <a:lnTo>
                      <a:pt x="578" y="1166"/>
                    </a:lnTo>
                    <a:lnTo>
                      <a:pt x="673" y="1035"/>
                    </a:lnTo>
                    <a:lnTo>
                      <a:pt x="785" y="907"/>
                    </a:lnTo>
                    <a:lnTo>
                      <a:pt x="914" y="784"/>
                    </a:lnTo>
                    <a:lnTo>
                      <a:pt x="1062" y="666"/>
                    </a:lnTo>
                    <a:lnTo>
                      <a:pt x="1144" y="609"/>
                    </a:lnTo>
                    <a:lnTo>
                      <a:pt x="1232" y="554"/>
                    </a:lnTo>
                    <a:lnTo>
                      <a:pt x="1325" y="502"/>
                    </a:lnTo>
                    <a:lnTo>
                      <a:pt x="1422" y="453"/>
                    </a:lnTo>
                    <a:lnTo>
                      <a:pt x="1526" y="407"/>
                    </a:lnTo>
                    <a:lnTo>
                      <a:pt x="1636" y="364"/>
                    </a:lnTo>
                    <a:lnTo>
                      <a:pt x="1752" y="324"/>
                    </a:lnTo>
                    <a:lnTo>
                      <a:pt x="1876" y="286"/>
                    </a:lnTo>
                    <a:lnTo>
                      <a:pt x="2144" y="223"/>
                    </a:lnTo>
                    <a:lnTo>
                      <a:pt x="2439" y="177"/>
                    </a:lnTo>
                    <a:lnTo>
                      <a:pt x="2866" y="153"/>
                    </a:lnTo>
                    <a:lnTo>
                      <a:pt x="3336" y="183"/>
                    </a:lnTo>
                    <a:lnTo>
                      <a:pt x="3792" y="284"/>
                    </a:lnTo>
                    <a:lnTo>
                      <a:pt x="3999" y="364"/>
                    </a:lnTo>
                    <a:lnTo>
                      <a:pt x="4183" y="468"/>
                    </a:lnTo>
                    <a:lnTo>
                      <a:pt x="4172" y="519"/>
                    </a:lnTo>
                    <a:lnTo>
                      <a:pt x="4103" y="633"/>
                    </a:lnTo>
                    <a:lnTo>
                      <a:pt x="4054" y="709"/>
                    </a:lnTo>
                    <a:lnTo>
                      <a:pt x="3997" y="795"/>
                    </a:lnTo>
                    <a:lnTo>
                      <a:pt x="3932" y="890"/>
                    </a:lnTo>
                    <a:lnTo>
                      <a:pt x="3864" y="991"/>
                    </a:lnTo>
                    <a:lnTo>
                      <a:pt x="3792" y="1097"/>
                    </a:lnTo>
                    <a:lnTo>
                      <a:pt x="3718" y="1206"/>
                    </a:lnTo>
                    <a:lnTo>
                      <a:pt x="3645" y="1318"/>
                    </a:lnTo>
                    <a:lnTo>
                      <a:pt x="3577" y="1426"/>
                    </a:lnTo>
                    <a:lnTo>
                      <a:pt x="3512" y="1534"/>
                    </a:lnTo>
                    <a:lnTo>
                      <a:pt x="3453" y="1637"/>
                    </a:lnTo>
                    <a:lnTo>
                      <a:pt x="3364" y="1825"/>
                    </a:lnTo>
                    <a:lnTo>
                      <a:pt x="3250" y="2186"/>
                    </a:lnTo>
                    <a:lnTo>
                      <a:pt x="3159" y="2572"/>
                    </a:lnTo>
                    <a:lnTo>
                      <a:pt x="3077" y="2964"/>
                    </a:lnTo>
                    <a:lnTo>
                      <a:pt x="2992" y="3340"/>
                    </a:lnTo>
                    <a:lnTo>
                      <a:pt x="2965" y="3405"/>
                    </a:lnTo>
                    <a:lnTo>
                      <a:pt x="2916" y="3485"/>
                    </a:lnTo>
                    <a:lnTo>
                      <a:pt x="2857" y="3559"/>
                    </a:lnTo>
                    <a:lnTo>
                      <a:pt x="2802" y="3604"/>
                    </a:lnTo>
                    <a:lnTo>
                      <a:pt x="2708" y="3652"/>
                    </a:lnTo>
                    <a:lnTo>
                      <a:pt x="2591" y="3696"/>
                    </a:lnTo>
                    <a:lnTo>
                      <a:pt x="2372" y="3738"/>
                    </a:lnTo>
                    <a:lnTo>
                      <a:pt x="1847" y="3690"/>
                    </a:lnTo>
                    <a:lnTo>
                      <a:pt x="1635" y="3604"/>
                    </a:lnTo>
                    <a:lnTo>
                      <a:pt x="1521" y="3439"/>
                    </a:lnTo>
                    <a:lnTo>
                      <a:pt x="1524" y="3253"/>
                    </a:lnTo>
                    <a:lnTo>
                      <a:pt x="1559" y="3158"/>
                    </a:lnTo>
                    <a:lnTo>
                      <a:pt x="1608" y="3063"/>
                    </a:lnTo>
                    <a:lnTo>
                      <a:pt x="1674" y="2970"/>
                    </a:lnTo>
                    <a:lnTo>
                      <a:pt x="1749" y="2880"/>
                    </a:lnTo>
                    <a:lnTo>
                      <a:pt x="1834" y="2797"/>
                    </a:lnTo>
                    <a:lnTo>
                      <a:pt x="1925" y="2719"/>
                    </a:lnTo>
                    <a:lnTo>
                      <a:pt x="2032" y="2631"/>
                    </a:lnTo>
                    <a:lnTo>
                      <a:pt x="2155" y="2521"/>
                    </a:lnTo>
                    <a:lnTo>
                      <a:pt x="2285" y="2390"/>
                    </a:lnTo>
                    <a:lnTo>
                      <a:pt x="2406" y="2238"/>
                    </a:lnTo>
                    <a:lnTo>
                      <a:pt x="1827" y="2479"/>
                    </a:lnTo>
                    <a:lnTo>
                      <a:pt x="1800" y="2595"/>
                    </a:lnTo>
                    <a:lnTo>
                      <a:pt x="1739" y="2715"/>
                    </a:lnTo>
                    <a:lnTo>
                      <a:pt x="1654" y="2838"/>
                    </a:lnTo>
                    <a:lnTo>
                      <a:pt x="1555" y="2960"/>
                    </a:lnTo>
                    <a:lnTo>
                      <a:pt x="1458" y="3082"/>
                    </a:lnTo>
                    <a:lnTo>
                      <a:pt x="1372" y="3203"/>
                    </a:lnTo>
                    <a:lnTo>
                      <a:pt x="1291" y="3430"/>
                    </a:lnTo>
                    <a:lnTo>
                      <a:pt x="1304" y="3502"/>
                    </a:lnTo>
                    <a:lnTo>
                      <a:pt x="1340" y="3570"/>
                    </a:lnTo>
                    <a:lnTo>
                      <a:pt x="1393" y="3637"/>
                    </a:lnTo>
                    <a:lnTo>
                      <a:pt x="1460" y="3696"/>
                    </a:lnTo>
                    <a:lnTo>
                      <a:pt x="1536" y="3749"/>
                    </a:lnTo>
                    <a:lnTo>
                      <a:pt x="1610" y="3793"/>
                    </a:lnTo>
                    <a:lnTo>
                      <a:pt x="1743" y="3844"/>
                    </a:lnTo>
                    <a:lnTo>
                      <a:pt x="1971" y="3880"/>
                    </a:lnTo>
                    <a:lnTo>
                      <a:pt x="2218" y="3901"/>
                    </a:lnTo>
                    <a:lnTo>
                      <a:pt x="2686" y="3869"/>
                    </a:lnTo>
                    <a:lnTo>
                      <a:pt x="2864" y="3802"/>
                    </a:lnTo>
                    <a:lnTo>
                      <a:pt x="3028" y="3675"/>
                    </a:lnTo>
                    <a:lnTo>
                      <a:pt x="3166" y="3511"/>
                    </a:lnTo>
                    <a:lnTo>
                      <a:pt x="3265" y="3331"/>
                    </a:lnTo>
                    <a:lnTo>
                      <a:pt x="3374" y="2989"/>
                    </a:lnTo>
                    <a:lnTo>
                      <a:pt x="3453" y="2601"/>
                    </a:lnTo>
                    <a:lnTo>
                      <a:pt x="3526" y="2209"/>
                    </a:lnTo>
                    <a:lnTo>
                      <a:pt x="3567" y="2025"/>
                    </a:lnTo>
                    <a:lnTo>
                      <a:pt x="3611" y="1858"/>
                    </a:lnTo>
                    <a:lnTo>
                      <a:pt x="3676" y="1690"/>
                    </a:lnTo>
                    <a:lnTo>
                      <a:pt x="3759" y="1523"/>
                    </a:lnTo>
                    <a:lnTo>
                      <a:pt x="3858" y="1354"/>
                    </a:lnTo>
                    <a:lnTo>
                      <a:pt x="3963" y="1187"/>
                    </a:lnTo>
                    <a:lnTo>
                      <a:pt x="4016" y="1101"/>
                    </a:lnTo>
                    <a:lnTo>
                      <a:pt x="4071" y="1017"/>
                    </a:lnTo>
                    <a:lnTo>
                      <a:pt x="4172" y="848"/>
                    </a:lnTo>
                    <a:lnTo>
                      <a:pt x="4263" y="679"/>
                    </a:lnTo>
                    <a:lnTo>
                      <a:pt x="4339" y="510"/>
                    </a:lnTo>
                    <a:lnTo>
                      <a:pt x="4316" y="381"/>
                    </a:lnTo>
                    <a:lnTo>
                      <a:pt x="4273" y="261"/>
                    </a:lnTo>
                    <a:lnTo>
                      <a:pt x="4153" y="219"/>
                    </a:lnTo>
                    <a:lnTo>
                      <a:pt x="4033" y="183"/>
                    </a:lnTo>
                    <a:lnTo>
                      <a:pt x="3792" y="118"/>
                    </a:lnTo>
                    <a:lnTo>
                      <a:pt x="3547" y="69"/>
                    </a:lnTo>
                    <a:lnTo>
                      <a:pt x="3301" y="35"/>
                    </a:lnTo>
                    <a:lnTo>
                      <a:pt x="2813" y="0"/>
                    </a:lnTo>
                    <a:lnTo>
                      <a:pt x="2332" y="12"/>
                    </a:lnTo>
                    <a:lnTo>
                      <a:pt x="1865" y="86"/>
                    </a:lnTo>
                    <a:lnTo>
                      <a:pt x="1644" y="153"/>
                    </a:lnTo>
                    <a:lnTo>
                      <a:pt x="1431" y="236"/>
                    </a:lnTo>
                    <a:lnTo>
                      <a:pt x="1329" y="284"/>
                    </a:lnTo>
                    <a:lnTo>
                      <a:pt x="1228" y="335"/>
                    </a:lnTo>
                    <a:lnTo>
                      <a:pt x="1131" y="390"/>
                    </a:lnTo>
                    <a:lnTo>
                      <a:pt x="1036" y="447"/>
                    </a:lnTo>
                    <a:lnTo>
                      <a:pt x="945" y="510"/>
                    </a:lnTo>
                    <a:lnTo>
                      <a:pt x="857" y="575"/>
                    </a:lnTo>
                    <a:lnTo>
                      <a:pt x="692" y="711"/>
                    </a:lnTo>
                    <a:lnTo>
                      <a:pt x="540" y="858"/>
                    </a:lnTo>
                    <a:lnTo>
                      <a:pt x="405" y="1012"/>
                    </a:lnTo>
                    <a:lnTo>
                      <a:pt x="344" y="1092"/>
                    </a:lnTo>
                    <a:lnTo>
                      <a:pt x="287" y="1171"/>
                    </a:lnTo>
                    <a:lnTo>
                      <a:pt x="188" y="1337"/>
                    </a:lnTo>
                    <a:lnTo>
                      <a:pt x="49" y="1673"/>
                    </a:lnTo>
                    <a:lnTo>
                      <a:pt x="0" y="2008"/>
                    </a:lnTo>
                    <a:lnTo>
                      <a:pt x="247" y="1892"/>
                    </a:lnTo>
                    <a:lnTo>
                      <a:pt x="247" y="18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3259440" y="4642200"/>
                <a:ext cx="337320" cy="177120"/>
              </a:xfrm>
              <a:custGeom>
                <a:avLst/>
                <a:gdLst/>
                <a:ahLst/>
                <a:rect l="l" t="t" r="r" b="b"/>
                <a:pathLst>
                  <a:path w="2199" h="962">
                    <a:moveTo>
                      <a:pt x="1844" y="692"/>
                    </a:moveTo>
                    <a:lnTo>
                      <a:pt x="1749" y="742"/>
                    </a:lnTo>
                    <a:lnTo>
                      <a:pt x="1648" y="791"/>
                    </a:lnTo>
                    <a:lnTo>
                      <a:pt x="1540" y="837"/>
                    </a:lnTo>
                    <a:lnTo>
                      <a:pt x="1426" y="877"/>
                    </a:lnTo>
                    <a:lnTo>
                      <a:pt x="1184" y="937"/>
                    </a:lnTo>
                    <a:lnTo>
                      <a:pt x="935" y="962"/>
                    </a:lnTo>
                    <a:lnTo>
                      <a:pt x="682" y="941"/>
                    </a:lnTo>
                    <a:lnTo>
                      <a:pt x="437" y="859"/>
                    </a:lnTo>
                    <a:lnTo>
                      <a:pt x="319" y="793"/>
                    </a:lnTo>
                    <a:lnTo>
                      <a:pt x="207" y="709"/>
                    </a:lnTo>
                    <a:lnTo>
                      <a:pt x="101" y="603"/>
                    </a:lnTo>
                    <a:lnTo>
                      <a:pt x="0" y="477"/>
                    </a:lnTo>
                    <a:lnTo>
                      <a:pt x="53" y="411"/>
                    </a:lnTo>
                    <a:lnTo>
                      <a:pt x="108" y="350"/>
                    </a:lnTo>
                    <a:lnTo>
                      <a:pt x="224" y="244"/>
                    </a:lnTo>
                    <a:lnTo>
                      <a:pt x="285" y="198"/>
                    </a:lnTo>
                    <a:lnTo>
                      <a:pt x="350" y="158"/>
                    </a:lnTo>
                    <a:lnTo>
                      <a:pt x="481" y="91"/>
                    </a:lnTo>
                    <a:lnTo>
                      <a:pt x="620" y="44"/>
                    </a:lnTo>
                    <a:lnTo>
                      <a:pt x="762" y="14"/>
                    </a:lnTo>
                    <a:lnTo>
                      <a:pt x="1057" y="0"/>
                    </a:lnTo>
                    <a:lnTo>
                      <a:pt x="1357" y="42"/>
                    </a:lnTo>
                    <a:lnTo>
                      <a:pt x="1654" y="135"/>
                    </a:lnTo>
                    <a:lnTo>
                      <a:pt x="1798" y="198"/>
                    </a:lnTo>
                    <a:lnTo>
                      <a:pt x="1937" y="268"/>
                    </a:lnTo>
                    <a:lnTo>
                      <a:pt x="2072" y="348"/>
                    </a:lnTo>
                    <a:lnTo>
                      <a:pt x="2199" y="436"/>
                    </a:lnTo>
                    <a:lnTo>
                      <a:pt x="2093" y="538"/>
                    </a:lnTo>
                    <a:lnTo>
                      <a:pt x="1992" y="633"/>
                    </a:lnTo>
                    <a:lnTo>
                      <a:pt x="1901" y="559"/>
                    </a:lnTo>
                    <a:lnTo>
                      <a:pt x="1804" y="489"/>
                    </a:lnTo>
                    <a:lnTo>
                      <a:pt x="1701" y="422"/>
                    </a:lnTo>
                    <a:lnTo>
                      <a:pt x="1593" y="360"/>
                    </a:lnTo>
                    <a:lnTo>
                      <a:pt x="1483" y="302"/>
                    </a:lnTo>
                    <a:lnTo>
                      <a:pt x="1371" y="255"/>
                    </a:lnTo>
                    <a:lnTo>
                      <a:pt x="1255" y="215"/>
                    </a:lnTo>
                    <a:lnTo>
                      <a:pt x="1139" y="187"/>
                    </a:lnTo>
                    <a:lnTo>
                      <a:pt x="905" y="166"/>
                    </a:lnTo>
                    <a:lnTo>
                      <a:pt x="677" y="200"/>
                    </a:lnTo>
                    <a:lnTo>
                      <a:pt x="462" y="304"/>
                    </a:lnTo>
                    <a:lnTo>
                      <a:pt x="264" y="485"/>
                    </a:lnTo>
                    <a:lnTo>
                      <a:pt x="318" y="563"/>
                    </a:lnTo>
                    <a:lnTo>
                      <a:pt x="384" y="628"/>
                    </a:lnTo>
                    <a:lnTo>
                      <a:pt x="464" y="677"/>
                    </a:lnTo>
                    <a:lnTo>
                      <a:pt x="555" y="717"/>
                    </a:lnTo>
                    <a:lnTo>
                      <a:pt x="760" y="764"/>
                    </a:lnTo>
                    <a:lnTo>
                      <a:pt x="990" y="778"/>
                    </a:lnTo>
                    <a:lnTo>
                      <a:pt x="1456" y="743"/>
                    </a:lnTo>
                    <a:lnTo>
                      <a:pt x="1844" y="692"/>
                    </a:lnTo>
                    <a:lnTo>
                      <a:pt x="1844" y="6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3422160" y="4711320"/>
                <a:ext cx="27720" cy="33480"/>
              </a:xfrm>
              <a:custGeom>
                <a:avLst/>
                <a:gdLst/>
                <a:ahLst/>
                <a:rect l="l" t="t" r="r" b="b"/>
                <a:pathLst>
                  <a:path w="181" h="182">
                    <a:moveTo>
                      <a:pt x="91" y="0"/>
                    </a:moveTo>
                    <a:lnTo>
                      <a:pt x="154" y="28"/>
                    </a:lnTo>
                    <a:lnTo>
                      <a:pt x="181" y="91"/>
                    </a:lnTo>
                    <a:lnTo>
                      <a:pt x="154" y="155"/>
                    </a:lnTo>
                    <a:lnTo>
                      <a:pt x="91" y="182"/>
                    </a:lnTo>
                    <a:lnTo>
                      <a:pt x="27" y="155"/>
                    </a:lnTo>
                    <a:lnTo>
                      <a:pt x="0" y="91"/>
                    </a:lnTo>
                    <a:lnTo>
                      <a:pt x="27" y="28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3381840" y="4662720"/>
                <a:ext cx="73440" cy="130680"/>
              </a:xfrm>
              <a:custGeom>
                <a:avLst/>
                <a:gdLst/>
                <a:ahLst/>
                <a:rect l="l" t="t" r="r" b="b"/>
                <a:pathLst>
                  <a:path w="479" h="711">
                    <a:moveTo>
                      <a:pt x="125" y="711"/>
                    </a:moveTo>
                    <a:lnTo>
                      <a:pt x="0" y="630"/>
                    </a:lnTo>
                    <a:lnTo>
                      <a:pt x="125" y="555"/>
                    </a:lnTo>
                    <a:lnTo>
                      <a:pt x="268" y="495"/>
                    </a:lnTo>
                    <a:lnTo>
                      <a:pt x="330" y="348"/>
                    </a:lnTo>
                    <a:lnTo>
                      <a:pt x="313" y="268"/>
                    </a:lnTo>
                    <a:lnTo>
                      <a:pt x="268" y="200"/>
                    </a:lnTo>
                    <a:lnTo>
                      <a:pt x="201" y="151"/>
                    </a:lnTo>
                    <a:lnTo>
                      <a:pt x="125" y="133"/>
                    </a:lnTo>
                    <a:lnTo>
                      <a:pt x="0" y="75"/>
                    </a:lnTo>
                    <a:lnTo>
                      <a:pt x="125" y="0"/>
                    </a:lnTo>
                    <a:lnTo>
                      <a:pt x="264" y="29"/>
                    </a:lnTo>
                    <a:lnTo>
                      <a:pt x="376" y="103"/>
                    </a:lnTo>
                    <a:lnTo>
                      <a:pt x="452" y="217"/>
                    </a:lnTo>
                    <a:lnTo>
                      <a:pt x="479" y="356"/>
                    </a:lnTo>
                    <a:lnTo>
                      <a:pt x="452" y="495"/>
                    </a:lnTo>
                    <a:lnTo>
                      <a:pt x="420" y="557"/>
                    </a:lnTo>
                    <a:lnTo>
                      <a:pt x="376" y="609"/>
                    </a:lnTo>
                    <a:lnTo>
                      <a:pt x="323" y="652"/>
                    </a:lnTo>
                    <a:lnTo>
                      <a:pt x="264" y="685"/>
                    </a:lnTo>
                    <a:lnTo>
                      <a:pt x="125" y="711"/>
                    </a:lnTo>
                    <a:lnTo>
                      <a:pt x="125" y="7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3416760" y="4662720"/>
                <a:ext cx="73800" cy="130680"/>
              </a:xfrm>
              <a:custGeom>
                <a:avLst/>
                <a:gdLst/>
                <a:ahLst/>
                <a:rect l="l" t="t" r="r" b="b"/>
                <a:pathLst>
                  <a:path w="481" h="711">
                    <a:moveTo>
                      <a:pt x="357" y="711"/>
                    </a:moveTo>
                    <a:lnTo>
                      <a:pt x="481" y="630"/>
                    </a:lnTo>
                    <a:lnTo>
                      <a:pt x="357" y="555"/>
                    </a:lnTo>
                    <a:lnTo>
                      <a:pt x="217" y="495"/>
                    </a:lnTo>
                    <a:lnTo>
                      <a:pt x="158" y="348"/>
                    </a:lnTo>
                    <a:lnTo>
                      <a:pt x="175" y="268"/>
                    </a:lnTo>
                    <a:lnTo>
                      <a:pt x="217" y="200"/>
                    </a:lnTo>
                    <a:lnTo>
                      <a:pt x="279" y="151"/>
                    </a:lnTo>
                    <a:lnTo>
                      <a:pt x="357" y="133"/>
                    </a:lnTo>
                    <a:lnTo>
                      <a:pt x="481" y="75"/>
                    </a:lnTo>
                    <a:lnTo>
                      <a:pt x="357" y="0"/>
                    </a:lnTo>
                    <a:lnTo>
                      <a:pt x="217" y="29"/>
                    </a:lnTo>
                    <a:lnTo>
                      <a:pt x="104" y="103"/>
                    </a:lnTo>
                    <a:lnTo>
                      <a:pt x="28" y="217"/>
                    </a:lnTo>
                    <a:lnTo>
                      <a:pt x="0" y="356"/>
                    </a:lnTo>
                    <a:lnTo>
                      <a:pt x="28" y="495"/>
                    </a:lnTo>
                    <a:lnTo>
                      <a:pt x="61" y="557"/>
                    </a:lnTo>
                    <a:lnTo>
                      <a:pt x="104" y="609"/>
                    </a:lnTo>
                    <a:lnTo>
                      <a:pt x="158" y="652"/>
                    </a:lnTo>
                    <a:lnTo>
                      <a:pt x="217" y="685"/>
                    </a:lnTo>
                    <a:lnTo>
                      <a:pt x="357" y="711"/>
                    </a:lnTo>
                    <a:lnTo>
                      <a:pt x="357" y="7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3230640" y="4645800"/>
                <a:ext cx="116640" cy="108000"/>
              </a:xfrm>
              <a:custGeom>
                <a:avLst/>
                <a:gdLst/>
                <a:ahLst/>
                <a:rect l="l" t="t" r="r" b="b"/>
                <a:pathLst>
                  <a:path w="760" h="588">
                    <a:moveTo>
                      <a:pt x="380" y="588"/>
                    </a:moveTo>
                    <a:lnTo>
                      <a:pt x="760" y="264"/>
                    </a:lnTo>
                    <a:lnTo>
                      <a:pt x="447" y="316"/>
                    </a:lnTo>
                    <a:lnTo>
                      <a:pt x="528" y="91"/>
                    </a:lnTo>
                    <a:lnTo>
                      <a:pt x="239" y="215"/>
                    </a:lnTo>
                    <a:lnTo>
                      <a:pt x="274" y="0"/>
                    </a:lnTo>
                    <a:lnTo>
                      <a:pt x="0" y="158"/>
                    </a:lnTo>
                    <a:lnTo>
                      <a:pt x="380" y="588"/>
                    </a:lnTo>
                    <a:lnTo>
                      <a:pt x="380" y="5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3372840" y="4498200"/>
                <a:ext cx="41400" cy="88920"/>
              </a:xfrm>
              <a:custGeom>
                <a:avLst/>
                <a:gdLst/>
                <a:ahLst/>
                <a:rect l="l" t="t" r="r" b="b"/>
                <a:pathLst>
                  <a:path w="270" h="485">
                    <a:moveTo>
                      <a:pt x="23" y="464"/>
                    </a:moveTo>
                    <a:lnTo>
                      <a:pt x="0" y="317"/>
                    </a:lnTo>
                    <a:lnTo>
                      <a:pt x="32" y="173"/>
                    </a:lnTo>
                    <a:lnTo>
                      <a:pt x="72" y="108"/>
                    </a:lnTo>
                    <a:lnTo>
                      <a:pt x="125" y="49"/>
                    </a:lnTo>
                    <a:lnTo>
                      <a:pt x="188" y="8"/>
                    </a:lnTo>
                    <a:lnTo>
                      <a:pt x="255" y="0"/>
                    </a:lnTo>
                    <a:lnTo>
                      <a:pt x="270" y="25"/>
                    </a:lnTo>
                    <a:lnTo>
                      <a:pt x="237" y="78"/>
                    </a:lnTo>
                    <a:lnTo>
                      <a:pt x="156" y="198"/>
                    </a:lnTo>
                    <a:lnTo>
                      <a:pt x="148" y="454"/>
                    </a:lnTo>
                    <a:lnTo>
                      <a:pt x="85" y="485"/>
                    </a:lnTo>
                    <a:lnTo>
                      <a:pt x="23" y="464"/>
                    </a:lnTo>
                    <a:lnTo>
                      <a:pt x="23" y="4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3309120" y="4498200"/>
                <a:ext cx="48600" cy="8532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13" y="454"/>
                    </a:moveTo>
                    <a:lnTo>
                      <a:pt x="0" y="306"/>
                    </a:lnTo>
                    <a:lnTo>
                      <a:pt x="45" y="165"/>
                    </a:lnTo>
                    <a:lnTo>
                      <a:pt x="97" y="99"/>
                    </a:lnTo>
                    <a:lnTo>
                      <a:pt x="161" y="40"/>
                    </a:lnTo>
                    <a:lnTo>
                      <a:pt x="235" y="0"/>
                    </a:lnTo>
                    <a:lnTo>
                      <a:pt x="309" y="0"/>
                    </a:lnTo>
                    <a:lnTo>
                      <a:pt x="319" y="27"/>
                    </a:lnTo>
                    <a:lnTo>
                      <a:pt x="273" y="78"/>
                    </a:lnTo>
                    <a:lnTo>
                      <a:pt x="169" y="198"/>
                    </a:lnTo>
                    <a:lnTo>
                      <a:pt x="127" y="464"/>
                    </a:lnTo>
                    <a:lnTo>
                      <a:pt x="13" y="454"/>
                    </a:lnTo>
                    <a:lnTo>
                      <a:pt x="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3244680" y="4495680"/>
                <a:ext cx="58320" cy="87840"/>
              </a:xfrm>
              <a:custGeom>
                <a:avLst/>
                <a:gdLst/>
                <a:ahLst/>
                <a:rect l="l" t="t" r="r" b="b"/>
                <a:pathLst>
                  <a:path w="378" h="477">
                    <a:moveTo>
                      <a:pt x="0" y="460"/>
                    </a:moveTo>
                    <a:lnTo>
                      <a:pt x="7" y="308"/>
                    </a:lnTo>
                    <a:lnTo>
                      <a:pt x="66" y="161"/>
                    </a:lnTo>
                    <a:lnTo>
                      <a:pt x="127" y="97"/>
                    </a:lnTo>
                    <a:lnTo>
                      <a:pt x="205" y="36"/>
                    </a:lnTo>
                    <a:lnTo>
                      <a:pt x="289" y="0"/>
                    </a:lnTo>
                    <a:lnTo>
                      <a:pt x="365" y="5"/>
                    </a:lnTo>
                    <a:lnTo>
                      <a:pt x="378" y="43"/>
                    </a:lnTo>
                    <a:lnTo>
                      <a:pt x="323" y="95"/>
                    </a:lnTo>
                    <a:lnTo>
                      <a:pt x="190" y="211"/>
                    </a:lnTo>
                    <a:lnTo>
                      <a:pt x="108" y="477"/>
                    </a:lnTo>
                    <a:lnTo>
                      <a:pt x="0" y="460"/>
                    </a:lnTo>
                    <a:lnTo>
                      <a:pt x="0" y="4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180600" y="4509000"/>
                <a:ext cx="67320" cy="91800"/>
              </a:xfrm>
              <a:custGeom>
                <a:avLst/>
                <a:gdLst/>
                <a:ahLst/>
                <a:rect l="l" t="t" r="r" b="b"/>
                <a:pathLst>
                  <a:path w="439" h="500">
                    <a:moveTo>
                      <a:pt x="0" y="467"/>
                    </a:moveTo>
                    <a:lnTo>
                      <a:pt x="16" y="306"/>
                    </a:lnTo>
                    <a:lnTo>
                      <a:pt x="44" y="228"/>
                    </a:lnTo>
                    <a:lnTo>
                      <a:pt x="92" y="161"/>
                    </a:lnTo>
                    <a:lnTo>
                      <a:pt x="166" y="95"/>
                    </a:lnTo>
                    <a:lnTo>
                      <a:pt x="255" y="34"/>
                    </a:lnTo>
                    <a:lnTo>
                      <a:pt x="348" y="0"/>
                    </a:lnTo>
                    <a:lnTo>
                      <a:pt x="430" y="13"/>
                    </a:lnTo>
                    <a:lnTo>
                      <a:pt x="439" y="55"/>
                    </a:lnTo>
                    <a:lnTo>
                      <a:pt x="371" y="104"/>
                    </a:lnTo>
                    <a:lnTo>
                      <a:pt x="278" y="160"/>
                    </a:lnTo>
                    <a:lnTo>
                      <a:pt x="207" y="220"/>
                    </a:lnTo>
                    <a:lnTo>
                      <a:pt x="99" y="492"/>
                    </a:lnTo>
                    <a:lnTo>
                      <a:pt x="42" y="500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3123720" y="4530600"/>
                <a:ext cx="77400" cy="93600"/>
              </a:xfrm>
              <a:custGeom>
                <a:avLst/>
                <a:gdLst/>
                <a:ahLst/>
                <a:rect l="l" t="t" r="r" b="b"/>
                <a:pathLst>
                  <a:path w="504" h="509">
                    <a:moveTo>
                      <a:pt x="0" y="467"/>
                    </a:moveTo>
                    <a:lnTo>
                      <a:pt x="35" y="306"/>
                    </a:lnTo>
                    <a:lnTo>
                      <a:pt x="73" y="228"/>
                    </a:lnTo>
                    <a:lnTo>
                      <a:pt x="124" y="161"/>
                    </a:lnTo>
                    <a:lnTo>
                      <a:pt x="207" y="95"/>
                    </a:lnTo>
                    <a:lnTo>
                      <a:pt x="306" y="32"/>
                    </a:lnTo>
                    <a:lnTo>
                      <a:pt x="409" y="0"/>
                    </a:lnTo>
                    <a:lnTo>
                      <a:pt x="496" y="21"/>
                    </a:lnTo>
                    <a:lnTo>
                      <a:pt x="504" y="70"/>
                    </a:lnTo>
                    <a:lnTo>
                      <a:pt x="428" y="118"/>
                    </a:lnTo>
                    <a:lnTo>
                      <a:pt x="322" y="171"/>
                    </a:lnTo>
                    <a:lnTo>
                      <a:pt x="240" y="228"/>
                    </a:lnTo>
                    <a:lnTo>
                      <a:pt x="169" y="374"/>
                    </a:lnTo>
                    <a:lnTo>
                      <a:pt x="137" y="448"/>
                    </a:lnTo>
                    <a:lnTo>
                      <a:pt x="92" y="509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762120" y="2666880"/>
                <a:ext cx="17348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3424680" y="2057400"/>
            <a:ext cx="329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8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– 4  = </a:t>
            </a:r>
            <a:r>
              <a:rPr b="0" lang="en-US" sz="6000" spc="-1" strike="noStrike">
                <a:solidFill>
                  <a:srgbClr val="0066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0" y="2133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step 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3124080" y="4495680"/>
            <a:ext cx="1523880" cy="1752120"/>
            <a:chOff x="3124080" y="4495680"/>
            <a:chExt cx="1523880" cy="1752120"/>
          </a:xfrm>
        </p:grpSpPr>
        <p:grpSp>
          <p:nvGrpSpPr>
            <p:cNvPr id="462" name=""/>
            <p:cNvGrpSpPr/>
            <p:nvPr/>
          </p:nvGrpSpPr>
          <p:grpSpPr>
            <a:xfrm>
              <a:off x="3124080" y="5400000"/>
              <a:ext cx="1523880" cy="847800"/>
              <a:chOff x="3124080" y="5400000"/>
              <a:chExt cx="1523880" cy="847800"/>
            </a:xfrm>
          </p:grpSpPr>
          <p:sp>
            <p:nvSpPr>
              <p:cNvPr id="463" name=""/>
              <p:cNvSpPr/>
              <p:nvPr/>
            </p:nvSpPr>
            <p:spPr>
              <a:xfrm>
                <a:off x="3951000" y="5766840"/>
                <a:ext cx="393840" cy="212040"/>
              </a:xfrm>
              <a:custGeom>
                <a:avLst/>
                <a:gdLst/>
                <a:ahLst/>
                <a:rect l="l" t="t" r="r" b="b"/>
                <a:pathLst>
                  <a:path w="2505" h="1083">
                    <a:moveTo>
                      <a:pt x="67" y="604"/>
                    </a:moveTo>
                    <a:lnTo>
                      <a:pt x="399" y="587"/>
                    </a:lnTo>
                    <a:lnTo>
                      <a:pt x="844" y="612"/>
                    </a:lnTo>
                    <a:lnTo>
                      <a:pt x="1087" y="713"/>
                    </a:lnTo>
                    <a:lnTo>
                      <a:pt x="1224" y="787"/>
                    </a:lnTo>
                    <a:lnTo>
                      <a:pt x="1361" y="866"/>
                    </a:lnTo>
                    <a:lnTo>
                      <a:pt x="1498" y="943"/>
                    </a:lnTo>
                    <a:lnTo>
                      <a:pt x="1627" y="1011"/>
                    </a:lnTo>
                    <a:lnTo>
                      <a:pt x="1743" y="1058"/>
                    </a:lnTo>
                    <a:lnTo>
                      <a:pt x="1844" y="1083"/>
                    </a:lnTo>
                    <a:lnTo>
                      <a:pt x="2100" y="1055"/>
                    </a:lnTo>
                    <a:lnTo>
                      <a:pt x="2311" y="918"/>
                    </a:lnTo>
                    <a:lnTo>
                      <a:pt x="2452" y="707"/>
                    </a:lnTo>
                    <a:lnTo>
                      <a:pt x="2505" y="454"/>
                    </a:lnTo>
                    <a:lnTo>
                      <a:pt x="2469" y="245"/>
                    </a:lnTo>
                    <a:lnTo>
                      <a:pt x="2425" y="161"/>
                    </a:lnTo>
                    <a:lnTo>
                      <a:pt x="2366" y="95"/>
                    </a:lnTo>
                    <a:lnTo>
                      <a:pt x="2294" y="42"/>
                    </a:lnTo>
                    <a:lnTo>
                      <a:pt x="2209" y="9"/>
                    </a:lnTo>
                    <a:lnTo>
                      <a:pt x="1999" y="0"/>
                    </a:lnTo>
                    <a:lnTo>
                      <a:pt x="1836" y="66"/>
                    </a:lnTo>
                    <a:lnTo>
                      <a:pt x="1718" y="203"/>
                    </a:lnTo>
                    <a:lnTo>
                      <a:pt x="1648" y="367"/>
                    </a:lnTo>
                    <a:lnTo>
                      <a:pt x="1629" y="513"/>
                    </a:lnTo>
                    <a:lnTo>
                      <a:pt x="1648" y="574"/>
                    </a:lnTo>
                    <a:lnTo>
                      <a:pt x="1688" y="616"/>
                    </a:lnTo>
                    <a:lnTo>
                      <a:pt x="1806" y="642"/>
                    </a:lnTo>
                    <a:lnTo>
                      <a:pt x="1923" y="595"/>
                    </a:lnTo>
                    <a:lnTo>
                      <a:pt x="1984" y="479"/>
                    </a:lnTo>
                    <a:lnTo>
                      <a:pt x="1969" y="370"/>
                    </a:lnTo>
                    <a:lnTo>
                      <a:pt x="1929" y="308"/>
                    </a:lnTo>
                    <a:lnTo>
                      <a:pt x="1876" y="222"/>
                    </a:lnTo>
                    <a:lnTo>
                      <a:pt x="1895" y="171"/>
                    </a:lnTo>
                    <a:lnTo>
                      <a:pt x="1937" y="133"/>
                    </a:lnTo>
                    <a:lnTo>
                      <a:pt x="2041" y="99"/>
                    </a:lnTo>
                    <a:lnTo>
                      <a:pt x="2157" y="129"/>
                    </a:lnTo>
                    <a:lnTo>
                      <a:pt x="2248" y="205"/>
                    </a:lnTo>
                    <a:lnTo>
                      <a:pt x="2332" y="429"/>
                    </a:lnTo>
                    <a:lnTo>
                      <a:pt x="2311" y="572"/>
                    </a:lnTo>
                    <a:lnTo>
                      <a:pt x="2254" y="709"/>
                    </a:lnTo>
                    <a:lnTo>
                      <a:pt x="2212" y="768"/>
                    </a:lnTo>
                    <a:lnTo>
                      <a:pt x="2167" y="819"/>
                    </a:lnTo>
                    <a:lnTo>
                      <a:pt x="2115" y="855"/>
                    </a:lnTo>
                    <a:lnTo>
                      <a:pt x="2058" y="876"/>
                    </a:lnTo>
                    <a:lnTo>
                      <a:pt x="1800" y="853"/>
                    </a:lnTo>
                    <a:lnTo>
                      <a:pt x="1678" y="798"/>
                    </a:lnTo>
                    <a:lnTo>
                      <a:pt x="1562" y="728"/>
                    </a:lnTo>
                    <a:lnTo>
                      <a:pt x="1450" y="650"/>
                    </a:lnTo>
                    <a:lnTo>
                      <a:pt x="1342" y="572"/>
                    </a:lnTo>
                    <a:lnTo>
                      <a:pt x="1239" y="503"/>
                    </a:lnTo>
                    <a:lnTo>
                      <a:pt x="1140" y="454"/>
                    </a:lnTo>
                    <a:lnTo>
                      <a:pt x="939" y="393"/>
                    </a:lnTo>
                    <a:lnTo>
                      <a:pt x="713" y="349"/>
                    </a:lnTo>
                    <a:lnTo>
                      <a:pt x="247" y="338"/>
                    </a:lnTo>
                    <a:lnTo>
                      <a:pt x="131" y="387"/>
                    </a:lnTo>
                    <a:lnTo>
                      <a:pt x="0" y="551"/>
                    </a:lnTo>
                    <a:lnTo>
                      <a:pt x="67" y="604"/>
                    </a:lnTo>
                    <a:lnTo>
                      <a:pt x="67" y="6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951000" y="5479560"/>
                <a:ext cx="681120" cy="768240"/>
              </a:xfrm>
              <a:custGeom>
                <a:avLst/>
                <a:gdLst/>
                <a:ahLst/>
                <a:rect l="l" t="t" r="r" b="b"/>
                <a:pathLst>
                  <a:path w="4339" h="3901">
                    <a:moveTo>
                      <a:pt x="247" y="1892"/>
                    </a:moveTo>
                    <a:lnTo>
                      <a:pt x="321" y="1671"/>
                    </a:lnTo>
                    <a:lnTo>
                      <a:pt x="371" y="1550"/>
                    </a:lnTo>
                    <a:lnTo>
                      <a:pt x="428" y="1424"/>
                    </a:lnTo>
                    <a:lnTo>
                      <a:pt x="496" y="1295"/>
                    </a:lnTo>
                    <a:lnTo>
                      <a:pt x="578" y="1166"/>
                    </a:lnTo>
                    <a:lnTo>
                      <a:pt x="673" y="1035"/>
                    </a:lnTo>
                    <a:lnTo>
                      <a:pt x="785" y="907"/>
                    </a:lnTo>
                    <a:lnTo>
                      <a:pt x="914" y="784"/>
                    </a:lnTo>
                    <a:lnTo>
                      <a:pt x="1062" y="666"/>
                    </a:lnTo>
                    <a:lnTo>
                      <a:pt x="1144" y="609"/>
                    </a:lnTo>
                    <a:lnTo>
                      <a:pt x="1232" y="554"/>
                    </a:lnTo>
                    <a:lnTo>
                      <a:pt x="1325" y="502"/>
                    </a:lnTo>
                    <a:lnTo>
                      <a:pt x="1422" y="453"/>
                    </a:lnTo>
                    <a:lnTo>
                      <a:pt x="1526" y="407"/>
                    </a:lnTo>
                    <a:lnTo>
                      <a:pt x="1636" y="364"/>
                    </a:lnTo>
                    <a:lnTo>
                      <a:pt x="1752" y="324"/>
                    </a:lnTo>
                    <a:lnTo>
                      <a:pt x="1876" y="286"/>
                    </a:lnTo>
                    <a:lnTo>
                      <a:pt x="2144" y="223"/>
                    </a:lnTo>
                    <a:lnTo>
                      <a:pt x="2439" y="177"/>
                    </a:lnTo>
                    <a:lnTo>
                      <a:pt x="2866" y="153"/>
                    </a:lnTo>
                    <a:lnTo>
                      <a:pt x="3336" y="183"/>
                    </a:lnTo>
                    <a:lnTo>
                      <a:pt x="3792" y="284"/>
                    </a:lnTo>
                    <a:lnTo>
                      <a:pt x="3999" y="364"/>
                    </a:lnTo>
                    <a:lnTo>
                      <a:pt x="4183" y="468"/>
                    </a:lnTo>
                    <a:lnTo>
                      <a:pt x="4172" y="519"/>
                    </a:lnTo>
                    <a:lnTo>
                      <a:pt x="4103" y="633"/>
                    </a:lnTo>
                    <a:lnTo>
                      <a:pt x="4054" y="709"/>
                    </a:lnTo>
                    <a:lnTo>
                      <a:pt x="3997" y="795"/>
                    </a:lnTo>
                    <a:lnTo>
                      <a:pt x="3932" y="890"/>
                    </a:lnTo>
                    <a:lnTo>
                      <a:pt x="3864" y="991"/>
                    </a:lnTo>
                    <a:lnTo>
                      <a:pt x="3792" y="1097"/>
                    </a:lnTo>
                    <a:lnTo>
                      <a:pt x="3718" y="1206"/>
                    </a:lnTo>
                    <a:lnTo>
                      <a:pt x="3645" y="1318"/>
                    </a:lnTo>
                    <a:lnTo>
                      <a:pt x="3577" y="1426"/>
                    </a:lnTo>
                    <a:lnTo>
                      <a:pt x="3512" y="1534"/>
                    </a:lnTo>
                    <a:lnTo>
                      <a:pt x="3453" y="1637"/>
                    </a:lnTo>
                    <a:lnTo>
                      <a:pt x="3364" y="1825"/>
                    </a:lnTo>
                    <a:lnTo>
                      <a:pt x="3250" y="2186"/>
                    </a:lnTo>
                    <a:lnTo>
                      <a:pt x="3159" y="2572"/>
                    </a:lnTo>
                    <a:lnTo>
                      <a:pt x="3077" y="2964"/>
                    </a:lnTo>
                    <a:lnTo>
                      <a:pt x="2992" y="3340"/>
                    </a:lnTo>
                    <a:lnTo>
                      <a:pt x="2965" y="3405"/>
                    </a:lnTo>
                    <a:lnTo>
                      <a:pt x="2916" y="3485"/>
                    </a:lnTo>
                    <a:lnTo>
                      <a:pt x="2857" y="3559"/>
                    </a:lnTo>
                    <a:lnTo>
                      <a:pt x="2802" y="3604"/>
                    </a:lnTo>
                    <a:lnTo>
                      <a:pt x="2708" y="3652"/>
                    </a:lnTo>
                    <a:lnTo>
                      <a:pt x="2591" y="3696"/>
                    </a:lnTo>
                    <a:lnTo>
                      <a:pt x="2372" y="3738"/>
                    </a:lnTo>
                    <a:lnTo>
                      <a:pt x="1847" y="3690"/>
                    </a:lnTo>
                    <a:lnTo>
                      <a:pt x="1635" y="3604"/>
                    </a:lnTo>
                    <a:lnTo>
                      <a:pt x="1521" y="3439"/>
                    </a:lnTo>
                    <a:lnTo>
                      <a:pt x="1524" y="3253"/>
                    </a:lnTo>
                    <a:lnTo>
                      <a:pt x="1559" y="3158"/>
                    </a:lnTo>
                    <a:lnTo>
                      <a:pt x="1608" y="3063"/>
                    </a:lnTo>
                    <a:lnTo>
                      <a:pt x="1674" y="2970"/>
                    </a:lnTo>
                    <a:lnTo>
                      <a:pt x="1749" y="2880"/>
                    </a:lnTo>
                    <a:lnTo>
                      <a:pt x="1834" y="2797"/>
                    </a:lnTo>
                    <a:lnTo>
                      <a:pt x="1925" y="2719"/>
                    </a:lnTo>
                    <a:lnTo>
                      <a:pt x="2032" y="2631"/>
                    </a:lnTo>
                    <a:lnTo>
                      <a:pt x="2155" y="2521"/>
                    </a:lnTo>
                    <a:lnTo>
                      <a:pt x="2285" y="2390"/>
                    </a:lnTo>
                    <a:lnTo>
                      <a:pt x="2406" y="2238"/>
                    </a:lnTo>
                    <a:lnTo>
                      <a:pt x="1827" y="2479"/>
                    </a:lnTo>
                    <a:lnTo>
                      <a:pt x="1800" y="2595"/>
                    </a:lnTo>
                    <a:lnTo>
                      <a:pt x="1739" y="2715"/>
                    </a:lnTo>
                    <a:lnTo>
                      <a:pt x="1654" y="2838"/>
                    </a:lnTo>
                    <a:lnTo>
                      <a:pt x="1555" y="2960"/>
                    </a:lnTo>
                    <a:lnTo>
                      <a:pt x="1458" y="3082"/>
                    </a:lnTo>
                    <a:lnTo>
                      <a:pt x="1372" y="3203"/>
                    </a:lnTo>
                    <a:lnTo>
                      <a:pt x="1291" y="3430"/>
                    </a:lnTo>
                    <a:lnTo>
                      <a:pt x="1304" y="3502"/>
                    </a:lnTo>
                    <a:lnTo>
                      <a:pt x="1340" y="3570"/>
                    </a:lnTo>
                    <a:lnTo>
                      <a:pt x="1393" y="3637"/>
                    </a:lnTo>
                    <a:lnTo>
                      <a:pt x="1460" y="3696"/>
                    </a:lnTo>
                    <a:lnTo>
                      <a:pt x="1536" y="3749"/>
                    </a:lnTo>
                    <a:lnTo>
                      <a:pt x="1610" y="3793"/>
                    </a:lnTo>
                    <a:lnTo>
                      <a:pt x="1743" y="3844"/>
                    </a:lnTo>
                    <a:lnTo>
                      <a:pt x="1971" y="3880"/>
                    </a:lnTo>
                    <a:lnTo>
                      <a:pt x="2218" y="3901"/>
                    </a:lnTo>
                    <a:lnTo>
                      <a:pt x="2686" y="3869"/>
                    </a:lnTo>
                    <a:lnTo>
                      <a:pt x="2864" y="3802"/>
                    </a:lnTo>
                    <a:lnTo>
                      <a:pt x="3028" y="3675"/>
                    </a:lnTo>
                    <a:lnTo>
                      <a:pt x="3166" y="3511"/>
                    </a:lnTo>
                    <a:lnTo>
                      <a:pt x="3265" y="3331"/>
                    </a:lnTo>
                    <a:lnTo>
                      <a:pt x="3374" y="2989"/>
                    </a:lnTo>
                    <a:lnTo>
                      <a:pt x="3453" y="2601"/>
                    </a:lnTo>
                    <a:lnTo>
                      <a:pt x="3526" y="2209"/>
                    </a:lnTo>
                    <a:lnTo>
                      <a:pt x="3567" y="2025"/>
                    </a:lnTo>
                    <a:lnTo>
                      <a:pt x="3611" y="1858"/>
                    </a:lnTo>
                    <a:lnTo>
                      <a:pt x="3676" y="1690"/>
                    </a:lnTo>
                    <a:lnTo>
                      <a:pt x="3759" y="1523"/>
                    </a:lnTo>
                    <a:lnTo>
                      <a:pt x="3858" y="1354"/>
                    </a:lnTo>
                    <a:lnTo>
                      <a:pt x="3963" y="1187"/>
                    </a:lnTo>
                    <a:lnTo>
                      <a:pt x="4016" y="1101"/>
                    </a:lnTo>
                    <a:lnTo>
                      <a:pt x="4071" y="1017"/>
                    </a:lnTo>
                    <a:lnTo>
                      <a:pt x="4172" y="848"/>
                    </a:lnTo>
                    <a:lnTo>
                      <a:pt x="4263" y="679"/>
                    </a:lnTo>
                    <a:lnTo>
                      <a:pt x="4339" y="510"/>
                    </a:lnTo>
                    <a:lnTo>
                      <a:pt x="4316" y="381"/>
                    </a:lnTo>
                    <a:lnTo>
                      <a:pt x="4273" y="261"/>
                    </a:lnTo>
                    <a:lnTo>
                      <a:pt x="4153" y="219"/>
                    </a:lnTo>
                    <a:lnTo>
                      <a:pt x="4033" y="183"/>
                    </a:lnTo>
                    <a:lnTo>
                      <a:pt x="3792" y="118"/>
                    </a:lnTo>
                    <a:lnTo>
                      <a:pt x="3547" y="69"/>
                    </a:lnTo>
                    <a:lnTo>
                      <a:pt x="3301" y="35"/>
                    </a:lnTo>
                    <a:lnTo>
                      <a:pt x="2813" y="0"/>
                    </a:lnTo>
                    <a:lnTo>
                      <a:pt x="2332" y="12"/>
                    </a:lnTo>
                    <a:lnTo>
                      <a:pt x="1865" y="86"/>
                    </a:lnTo>
                    <a:lnTo>
                      <a:pt x="1644" y="153"/>
                    </a:lnTo>
                    <a:lnTo>
                      <a:pt x="1431" y="236"/>
                    </a:lnTo>
                    <a:lnTo>
                      <a:pt x="1329" y="284"/>
                    </a:lnTo>
                    <a:lnTo>
                      <a:pt x="1228" y="335"/>
                    </a:lnTo>
                    <a:lnTo>
                      <a:pt x="1131" y="390"/>
                    </a:lnTo>
                    <a:lnTo>
                      <a:pt x="1036" y="447"/>
                    </a:lnTo>
                    <a:lnTo>
                      <a:pt x="945" y="510"/>
                    </a:lnTo>
                    <a:lnTo>
                      <a:pt x="857" y="575"/>
                    </a:lnTo>
                    <a:lnTo>
                      <a:pt x="692" y="711"/>
                    </a:lnTo>
                    <a:lnTo>
                      <a:pt x="540" y="858"/>
                    </a:lnTo>
                    <a:lnTo>
                      <a:pt x="405" y="1012"/>
                    </a:lnTo>
                    <a:lnTo>
                      <a:pt x="344" y="1092"/>
                    </a:lnTo>
                    <a:lnTo>
                      <a:pt x="287" y="1171"/>
                    </a:lnTo>
                    <a:lnTo>
                      <a:pt x="188" y="1337"/>
                    </a:lnTo>
                    <a:lnTo>
                      <a:pt x="49" y="1673"/>
                    </a:lnTo>
                    <a:lnTo>
                      <a:pt x="0" y="2008"/>
                    </a:lnTo>
                    <a:lnTo>
                      <a:pt x="247" y="1892"/>
                    </a:lnTo>
                    <a:lnTo>
                      <a:pt x="247" y="18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350960" y="5403240"/>
                <a:ext cx="42840" cy="94320"/>
              </a:xfrm>
              <a:custGeom>
                <a:avLst/>
                <a:gdLst/>
                <a:ahLst/>
                <a:rect l="l" t="t" r="r" b="b"/>
                <a:pathLst>
                  <a:path w="270" h="485">
                    <a:moveTo>
                      <a:pt x="23" y="464"/>
                    </a:moveTo>
                    <a:lnTo>
                      <a:pt x="0" y="317"/>
                    </a:lnTo>
                    <a:lnTo>
                      <a:pt x="32" y="173"/>
                    </a:lnTo>
                    <a:lnTo>
                      <a:pt x="72" y="108"/>
                    </a:lnTo>
                    <a:lnTo>
                      <a:pt x="125" y="49"/>
                    </a:lnTo>
                    <a:lnTo>
                      <a:pt x="188" y="8"/>
                    </a:lnTo>
                    <a:lnTo>
                      <a:pt x="255" y="0"/>
                    </a:lnTo>
                    <a:lnTo>
                      <a:pt x="270" y="25"/>
                    </a:lnTo>
                    <a:lnTo>
                      <a:pt x="237" y="78"/>
                    </a:lnTo>
                    <a:lnTo>
                      <a:pt x="156" y="198"/>
                    </a:lnTo>
                    <a:lnTo>
                      <a:pt x="148" y="454"/>
                    </a:lnTo>
                    <a:lnTo>
                      <a:pt x="85" y="485"/>
                    </a:lnTo>
                    <a:lnTo>
                      <a:pt x="23" y="464"/>
                    </a:lnTo>
                    <a:lnTo>
                      <a:pt x="23" y="4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408200" y="5403240"/>
                <a:ext cx="50760" cy="9108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13" y="454"/>
                    </a:moveTo>
                    <a:lnTo>
                      <a:pt x="0" y="306"/>
                    </a:lnTo>
                    <a:lnTo>
                      <a:pt x="45" y="165"/>
                    </a:lnTo>
                    <a:lnTo>
                      <a:pt x="97" y="99"/>
                    </a:lnTo>
                    <a:lnTo>
                      <a:pt x="161" y="40"/>
                    </a:lnTo>
                    <a:lnTo>
                      <a:pt x="235" y="0"/>
                    </a:lnTo>
                    <a:lnTo>
                      <a:pt x="309" y="0"/>
                    </a:lnTo>
                    <a:lnTo>
                      <a:pt x="319" y="27"/>
                    </a:lnTo>
                    <a:lnTo>
                      <a:pt x="273" y="78"/>
                    </a:lnTo>
                    <a:lnTo>
                      <a:pt x="169" y="198"/>
                    </a:lnTo>
                    <a:lnTo>
                      <a:pt x="127" y="464"/>
                    </a:lnTo>
                    <a:lnTo>
                      <a:pt x="13" y="454"/>
                    </a:lnTo>
                    <a:lnTo>
                      <a:pt x="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465440" y="5400000"/>
                <a:ext cx="58680" cy="94320"/>
              </a:xfrm>
              <a:custGeom>
                <a:avLst/>
                <a:gdLst/>
                <a:ahLst/>
                <a:rect l="l" t="t" r="r" b="b"/>
                <a:pathLst>
                  <a:path w="378" h="477">
                    <a:moveTo>
                      <a:pt x="0" y="460"/>
                    </a:moveTo>
                    <a:lnTo>
                      <a:pt x="7" y="308"/>
                    </a:lnTo>
                    <a:lnTo>
                      <a:pt x="66" y="161"/>
                    </a:lnTo>
                    <a:lnTo>
                      <a:pt x="127" y="97"/>
                    </a:lnTo>
                    <a:lnTo>
                      <a:pt x="205" y="36"/>
                    </a:lnTo>
                    <a:lnTo>
                      <a:pt x="289" y="0"/>
                    </a:lnTo>
                    <a:lnTo>
                      <a:pt x="365" y="5"/>
                    </a:lnTo>
                    <a:lnTo>
                      <a:pt x="378" y="43"/>
                    </a:lnTo>
                    <a:lnTo>
                      <a:pt x="323" y="95"/>
                    </a:lnTo>
                    <a:lnTo>
                      <a:pt x="190" y="211"/>
                    </a:lnTo>
                    <a:lnTo>
                      <a:pt x="108" y="477"/>
                    </a:lnTo>
                    <a:lnTo>
                      <a:pt x="0" y="460"/>
                    </a:lnTo>
                    <a:lnTo>
                      <a:pt x="0" y="4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20880" y="5414760"/>
                <a:ext cx="68400" cy="97560"/>
              </a:xfrm>
              <a:custGeom>
                <a:avLst/>
                <a:gdLst/>
                <a:ahLst/>
                <a:rect l="l" t="t" r="r" b="b"/>
                <a:pathLst>
                  <a:path w="439" h="500">
                    <a:moveTo>
                      <a:pt x="0" y="467"/>
                    </a:moveTo>
                    <a:lnTo>
                      <a:pt x="16" y="306"/>
                    </a:lnTo>
                    <a:lnTo>
                      <a:pt x="44" y="228"/>
                    </a:lnTo>
                    <a:lnTo>
                      <a:pt x="92" y="161"/>
                    </a:lnTo>
                    <a:lnTo>
                      <a:pt x="166" y="95"/>
                    </a:lnTo>
                    <a:lnTo>
                      <a:pt x="255" y="34"/>
                    </a:lnTo>
                    <a:lnTo>
                      <a:pt x="348" y="0"/>
                    </a:lnTo>
                    <a:lnTo>
                      <a:pt x="430" y="13"/>
                    </a:lnTo>
                    <a:lnTo>
                      <a:pt x="439" y="55"/>
                    </a:lnTo>
                    <a:lnTo>
                      <a:pt x="371" y="104"/>
                    </a:lnTo>
                    <a:lnTo>
                      <a:pt x="278" y="160"/>
                    </a:lnTo>
                    <a:lnTo>
                      <a:pt x="207" y="220"/>
                    </a:lnTo>
                    <a:lnTo>
                      <a:pt x="99" y="492"/>
                    </a:lnTo>
                    <a:lnTo>
                      <a:pt x="42" y="500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568760" y="5437800"/>
                <a:ext cx="79200" cy="99720"/>
              </a:xfrm>
              <a:custGeom>
                <a:avLst/>
                <a:gdLst/>
                <a:ahLst/>
                <a:rect l="l" t="t" r="r" b="b"/>
                <a:pathLst>
                  <a:path w="504" h="509">
                    <a:moveTo>
                      <a:pt x="0" y="467"/>
                    </a:moveTo>
                    <a:lnTo>
                      <a:pt x="35" y="306"/>
                    </a:lnTo>
                    <a:lnTo>
                      <a:pt x="73" y="228"/>
                    </a:lnTo>
                    <a:lnTo>
                      <a:pt x="124" y="161"/>
                    </a:lnTo>
                    <a:lnTo>
                      <a:pt x="207" y="95"/>
                    </a:lnTo>
                    <a:lnTo>
                      <a:pt x="306" y="32"/>
                    </a:lnTo>
                    <a:lnTo>
                      <a:pt x="409" y="0"/>
                    </a:lnTo>
                    <a:lnTo>
                      <a:pt x="496" y="21"/>
                    </a:lnTo>
                    <a:lnTo>
                      <a:pt x="504" y="70"/>
                    </a:lnTo>
                    <a:lnTo>
                      <a:pt x="428" y="118"/>
                    </a:lnTo>
                    <a:lnTo>
                      <a:pt x="322" y="171"/>
                    </a:lnTo>
                    <a:lnTo>
                      <a:pt x="240" y="228"/>
                    </a:lnTo>
                    <a:lnTo>
                      <a:pt x="169" y="374"/>
                    </a:lnTo>
                    <a:lnTo>
                      <a:pt x="137" y="448"/>
                    </a:lnTo>
                    <a:lnTo>
                      <a:pt x="92" y="509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3390120" y="5594040"/>
                <a:ext cx="90360" cy="109440"/>
              </a:xfrm>
              <a:custGeom>
                <a:avLst/>
                <a:gdLst/>
                <a:ahLst/>
                <a:rect l="l" t="t" r="r" b="b"/>
                <a:pathLst>
                  <a:path w="595" h="576">
                    <a:moveTo>
                      <a:pt x="407" y="0"/>
                    </a:moveTo>
                    <a:lnTo>
                      <a:pt x="167" y="0"/>
                    </a:lnTo>
                    <a:lnTo>
                      <a:pt x="0" y="242"/>
                    </a:lnTo>
                    <a:lnTo>
                      <a:pt x="104" y="491"/>
                    </a:lnTo>
                    <a:lnTo>
                      <a:pt x="397" y="576"/>
                    </a:lnTo>
                    <a:lnTo>
                      <a:pt x="595" y="314"/>
                    </a:lnTo>
                    <a:lnTo>
                      <a:pt x="407" y="0"/>
                    </a:lnTo>
                    <a:lnTo>
                      <a:pt x="407" y="0"/>
                    </a:lnTo>
                    <a:close/>
                  </a:path>
                </a:pathLst>
              </a:custGeom>
              <a:solidFill>
                <a:srgbClr val="99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3420000" y="5758200"/>
                <a:ext cx="384120" cy="209160"/>
              </a:xfrm>
              <a:custGeom>
                <a:avLst/>
                <a:gdLst/>
                <a:ahLst/>
                <a:rect l="l" t="t" r="r" b="b"/>
                <a:pathLst>
                  <a:path w="2505" h="1083">
                    <a:moveTo>
                      <a:pt x="67" y="604"/>
                    </a:moveTo>
                    <a:lnTo>
                      <a:pt x="399" y="587"/>
                    </a:lnTo>
                    <a:lnTo>
                      <a:pt x="844" y="612"/>
                    </a:lnTo>
                    <a:lnTo>
                      <a:pt x="1087" y="713"/>
                    </a:lnTo>
                    <a:lnTo>
                      <a:pt x="1224" y="787"/>
                    </a:lnTo>
                    <a:lnTo>
                      <a:pt x="1361" y="866"/>
                    </a:lnTo>
                    <a:lnTo>
                      <a:pt x="1498" y="943"/>
                    </a:lnTo>
                    <a:lnTo>
                      <a:pt x="1627" y="1011"/>
                    </a:lnTo>
                    <a:lnTo>
                      <a:pt x="1743" y="1058"/>
                    </a:lnTo>
                    <a:lnTo>
                      <a:pt x="1844" y="1083"/>
                    </a:lnTo>
                    <a:lnTo>
                      <a:pt x="2100" y="1055"/>
                    </a:lnTo>
                    <a:lnTo>
                      <a:pt x="2311" y="918"/>
                    </a:lnTo>
                    <a:lnTo>
                      <a:pt x="2452" y="707"/>
                    </a:lnTo>
                    <a:lnTo>
                      <a:pt x="2505" y="454"/>
                    </a:lnTo>
                    <a:lnTo>
                      <a:pt x="2469" y="245"/>
                    </a:lnTo>
                    <a:lnTo>
                      <a:pt x="2425" y="161"/>
                    </a:lnTo>
                    <a:lnTo>
                      <a:pt x="2366" y="95"/>
                    </a:lnTo>
                    <a:lnTo>
                      <a:pt x="2294" y="42"/>
                    </a:lnTo>
                    <a:lnTo>
                      <a:pt x="2209" y="9"/>
                    </a:lnTo>
                    <a:lnTo>
                      <a:pt x="1999" y="0"/>
                    </a:lnTo>
                    <a:lnTo>
                      <a:pt x="1836" y="66"/>
                    </a:lnTo>
                    <a:lnTo>
                      <a:pt x="1718" y="203"/>
                    </a:lnTo>
                    <a:lnTo>
                      <a:pt x="1648" y="367"/>
                    </a:lnTo>
                    <a:lnTo>
                      <a:pt x="1629" y="513"/>
                    </a:lnTo>
                    <a:lnTo>
                      <a:pt x="1648" y="574"/>
                    </a:lnTo>
                    <a:lnTo>
                      <a:pt x="1688" y="616"/>
                    </a:lnTo>
                    <a:lnTo>
                      <a:pt x="1806" y="642"/>
                    </a:lnTo>
                    <a:lnTo>
                      <a:pt x="1923" y="595"/>
                    </a:lnTo>
                    <a:lnTo>
                      <a:pt x="1984" y="479"/>
                    </a:lnTo>
                    <a:lnTo>
                      <a:pt x="1969" y="370"/>
                    </a:lnTo>
                    <a:lnTo>
                      <a:pt x="1929" y="308"/>
                    </a:lnTo>
                    <a:lnTo>
                      <a:pt x="1876" y="222"/>
                    </a:lnTo>
                    <a:lnTo>
                      <a:pt x="1895" y="171"/>
                    </a:lnTo>
                    <a:lnTo>
                      <a:pt x="1937" y="133"/>
                    </a:lnTo>
                    <a:lnTo>
                      <a:pt x="2041" y="99"/>
                    </a:lnTo>
                    <a:lnTo>
                      <a:pt x="2157" y="129"/>
                    </a:lnTo>
                    <a:lnTo>
                      <a:pt x="2248" y="205"/>
                    </a:lnTo>
                    <a:lnTo>
                      <a:pt x="2332" y="429"/>
                    </a:lnTo>
                    <a:lnTo>
                      <a:pt x="2311" y="572"/>
                    </a:lnTo>
                    <a:lnTo>
                      <a:pt x="2254" y="709"/>
                    </a:lnTo>
                    <a:lnTo>
                      <a:pt x="2212" y="768"/>
                    </a:lnTo>
                    <a:lnTo>
                      <a:pt x="2167" y="819"/>
                    </a:lnTo>
                    <a:lnTo>
                      <a:pt x="2115" y="855"/>
                    </a:lnTo>
                    <a:lnTo>
                      <a:pt x="2058" y="876"/>
                    </a:lnTo>
                    <a:lnTo>
                      <a:pt x="1800" y="853"/>
                    </a:lnTo>
                    <a:lnTo>
                      <a:pt x="1678" y="798"/>
                    </a:lnTo>
                    <a:lnTo>
                      <a:pt x="1562" y="728"/>
                    </a:lnTo>
                    <a:lnTo>
                      <a:pt x="1450" y="650"/>
                    </a:lnTo>
                    <a:lnTo>
                      <a:pt x="1342" y="572"/>
                    </a:lnTo>
                    <a:lnTo>
                      <a:pt x="1239" y="503"/>
                    </a:lnTo>
                    <a:lnTo>
                      <a:pt x="1140" y="454"/>
                    </a:lnTo>
                    <a:lnTo>
                      <a:pt x="939" y="393"/>
                    </a:lnTo>
                    <a:lnTo>
                      <a:pt x="713" y="349"/>
                    </a:lnTo>
                    <a:lnTo>
                      <a:pt x="247" y="338"/>
                    </a:lnTo>
                    <a:lnTo>
                      <a:pt x="131" y="387"/>
                    </a:lnTo>
                    <a:lnTo>
                      <a:pt x="0" y="551"/>
                    </a:lnTo>
                    <a:lnTo>
                      <a:pt x="67" y="604"/>
                    </a:lnTo>
                    <a:lnTo>
                      <a:pt x="67" y="6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3138120" y="5477760"/>
                <a:ext cx="666720" cy="752040"/>
              </a:xfrm>
              <a:custGeom>
                <a:avLst/>
                <a:gdLst/>
                <a:ahLst/>
                <a:rect l="l" t="t" r="r" b="b"/>
                <a:pathLst>
                  <a:path w="4339" h="3901">
                    <a:moveTo>
                      <a:pt x="247" y="1892"/>
                    </a:moveTo>
                    <a:lnTo>
                      <a:pt x="321" y="1671"/>
                    </a:lnTo>
                    <a:lnTo>
                      <a:pt x="371" y="1550"/>
                    </a:lnTo>
                    <a:lnTo>
                      <a:pt x="428" y="1424"/>
                    </a:lnTo>
                    <a:lnTo>
                      <a:pt x="496" y="1295"/>
                    </a:lnTo>
                    <a:lnTo>
                      <a:pt x="578" y="1166"/>
                    </a:lnTo>
                    <a:lnTo>
                      <a:pt x="673" y="1035"/>
                    </a:lnTo>
                    <a:lnTo>
                      <a:pt x="785" y="907"/>
                    </a:lnTo>
                    <a:lnTo>
                      <a:pt x="914" y="784"/>
                    </a:lnTo>
                    <a:lnTo>
                      <a:pt x="1062" y="666"/>
                    </a:lnTo>
                    <a:lnTo>
                      <a:pt x="1144" y="609"/>
                    </a:lnTo>
                    <a:lnTo>
                      <a:pt x="1232" y="554"/>
                    </a:lnTo>
                    <a:lnTo>
                      <a:pt x="1325" y="502"/>
                    </a:lnTo>
                    <a:lnTo>
                      <a:pt x="1422" y="453"/>
                    </a:lnTo>
                    <a:lnTo>
                      <a:pt x="1526" y="407"/>
                    </a:lnTo>
                    <a:lnTo>
                      <a:pt x="1636" y="364"/>
                    </a:lnTo>
                    <a:lnTo>
                      <a:pt x="1752" y="324"/>
                    </a:lnTo>
                    <a:lnTo>
                      <a:pt x="1876" y="286"/>
                    </a:lnTo>
                    <a:lnTo>
                      <a:pt x="2144" y="223"/>
                    </a:lnTo>
                    <a:lnTo>
                      <a:pt x="2439" y="177"/>
                    </a:lnTo>
                    <a:lnTo>
                      <a:pt x="2866" y="153"/>
                    </a:lnTo>
                    <a:lnTo>
                      <a:pt x="3336" y="183"/>
                    </a:lnTo>
                    <a:lnTo>
                      <a:pt x="3792" y="284"/>
                    </a:lnTo>
                    <a:lnTo>
                      <a:pt x="3999" y="364"/>
                    </a:lnTo>
                    <a:lnTo>
                      <a:pt x="4183" y="468"/>
                    </a:lnTo>
                    <a:lnTo>
                      <a:pt x="4172" y="519"/>
                    </a:lnTo>
                    <a:lnTo>
                      <a:pt x="4103" y="633"/>
                    </a:lnTo>
                    <a:lnTo>
                      <a:pt x="4054" y="709"/>
                    </a:lnTo>
                    <a:lnTo>
                      <a:pt x="3997" y="795"/>
                    </a:lnTo>
                    <a:lnTo>
                      <a:pt x="3932" y="890"/>
                    </a:lnTo>
                    <a:lnTo>
                      <a:pt x="3864" y="991"/>
                    </a:lnTo>
                    <a:lnTo>
                      <a:pt x="3792" y="1097"/>
                    </a:lnTo>
                    <a:lnTo>
                      <a:pt x="3718" y="1206"/>
                    </a:lnTo>
                    <a:lnTo>
                      <a:pt x="3645" y="1318"/>
                    </a:lnTo>
                    <a:lnTo>
                      <a:pt x="3577" y="1426"/>
                    </a:lnTo>
                    <a:lnTo>
                      <a:pt x="3512" y="1534"/>
                    </a:lnTo>
                    <a:lnTo>
                      <a:pt x="3453" y="1637"/>
                    </a:lnTo>
                    <a:lnTo>
                      <a:pt x="3364" y="1825"/>
                    </a:lnTo>
                    <a:lnTo>
                      <a:pt x="3250" y="2186"/>
                    </a:lnTo>
                    <a:lnTo>
                      <a:pt x="3159" y="2572"/>
                    </a:lnTo>
                    <a:lnTo>
                      <a:pt x="3077" y="2964"/>
                    </a:lnTo>
                    <a:lnTo>
                      <a:pt x="2992" y="3340"/>
                    </a:lnTo>
                    <a:lnTo>
                      <a:pt x="2965" y="3405"/>
                    </a:lnTo>
                    <a:lnTo>
                      <a:pt x="2916" y="3485"/>
                    </a:lnTo>
                    <a:lnTo>
                      <a:pt x="2857" y="3559"/>
                    </a:lnTo>
                    <a:lnTo>
                      <a:pt x="2802" y="3604"/>
                    </a:lnTo>
                    <a:lnTo>
                      <a:pt x="2708" y="3652"/>
                    </a:lnTo>
                    <a:lnTo>
                      <a:pt x="2591" y="3696"/>
                    </a:lnTo>
                    <a:lnTo>
                      <a:pt x="2372" y="3738"/>
                    </a:lnTo>
                    <a:lnTo>
                      <a:pt x="1847" y="3690"/>
                    </a:lnTo>
                    <a:lnTo>
                      <a:pt x="1635" y="3604"/>
                    </a:lnTo>
                    <a:lnTo>
                      <a:pt x="1521" y="3439"/>
                    </a:lnTo>
                    <a:lnTo>
                      <a:pt x="1524" y="3253"/>
                    </a:lnTo>
                    <a:lnTo>
                      <a:pt x="1559" y="3158"/>
                    </a:lnTo>
                    <a:lnTo>
                      <a:pt x="1608" y="3063"/>
                    </a:lnTo>
                    <a:lnTo>
                      <a:pt x="1674" y="2970"/>
                    </a:lnTo>
                    <a:lnTo>
                      <a:pt x="1749" y="2880"/>
                    </a:lnTo>
                    <a:lnTo>
                      <a:pt x="1834" y="2797"/>
                    </a:lnTo>
                    <a:lnTo>
                      <a:pt x="1925" y="2719"/>
                    </a:lnTo>
                    <a:lnTo>
                      <a:pt x="2032" y="2631"/>
                    </a:lnTo>
                    <a:lnTo>
                      <a:pt x="2155" y="2521"/>
                    </a:lnTo>
                    <a:lnTo>
                      <a:pt x="2285" y="2390"/>
                    </a:lnTo>
                    <a:lnTo>
                      <a:pt x="2406" y="2238"/>
                    </a:lnTo>
                    <a:lnTo>
                      <a:pt x="1827" y="2479"/>
                    </a:lnTo>
                    <a:lnTo>
                      <a:pt x="1800" y="2595"/>
                    </a:lnTo>
                    <a:lnTo>
                      <a:pt x="1739" y="2715"/>
                    </a:lnTo>
                    <a:lnTo>
                      <a:pt x="1654" y="2838"/>
                    </a:lnTo>
                    <a:lnTo>
                      <a:pt x="1555" y="2960"/>
                    </a:lnTo>
                    <a:lnTo>
                      <a:pt x="1458" y="3082"/>
                    </a:lnTo>
                    <a:lnTo>
                      <a:pt x="1372" y="3203"/>
                    </a:lnTo>
                    <a:lnTo>
                      <a:pt x="1291" y="3430"/>
                    </a:lnTo>
                    <a:lnTo>
                      <a:pt x="1304" y="3502"/>
                    </a:lnTo>
                    <a:lnTo>
                      <a:pt x="1340" y="3570"/>
                    </a:lnTo>
                    <a:lnTo>
                      <a:pt x="1393" y="3637"/>
                    </a:lnTo>
                    <a:lnTo>
                      <a:pt x="1460" y="3696"/>
                    </a:lnTo>
                    <a:lnTo>
                      <a:pt x="1536" y="3749"/>
                    </a:lnTo>
                    <a:lnTo>
                      <a:pt x="1610" y="3793"/>
                    </a:lnTo>
                    <a:lnTo>
                      <a:pt x="1743" y="3844"/>
                    </a:lnTo>
                    <a:lnTo>
                      <a:pt x="1971" y="3880"/>
                    </a:lnTo>
                    <a:lnTo>
                      <a:pt x="2218" y="3901"/>
                    </a:lnTo>
                    <a:lnTo>
                      <a:pt x="2686" y="3869"/>
                    </a:lnTo>
                    <a:lnTo>
                      <a:pt x="2864" y="3802"/>
                    </a:lnTo>
                    <a:lnTo>
                      <a:pt x="3028" y="3675"/>
                    </a:lnTo>
                    <a:lnTo>
                      <a:pt x="3166" y="3511"/>
                    </a:lnTo>
                    <a:lnTo>
                      <a:pt x="3265" y="3331"/>
                    </a:lnTo>
                    <a:lnTo>
                      <a:pt x="3374" y="2989"/>
                    </a:lnTo>
                    <a:lnTo>
                      <a:pt x="3453" y="2601"/>
                    </a:lnTo>
                    <a:lnTo>
                      <a:pt x="3526" y="2209"/>
                    </a:lnTo>
                    <a:lnTo>
                      <a:pt x="3567" y="2025"/>
                    </a:lnTo>
                    <a:lnTo>
                      <a:pt x="3611" y="1858"/>
                    </a:lnTo>
                    <a:lnTo>
                      <a:pt x="3676" y="1690"/>
                    </a:lnTo>
                    <a:lnTo>
                      <a:pt x="3759" y="1523"/>
                    </a:lnTo>
                    <a:lnTo>
                      <a:pt x="3858" y="1354"/>
                    </a:lnTo>
                    <a:lnTo>
                      <a:pt x="3963" y="1187"/>
                    </a:lnTo>
                    <a:lnTo>
                      <a:pt x="4016" y="1101"/>
                    </a:lnTo>
                    <a:lnTo>
                      <a:pt x="4071" y="1017"/>
                    </a:lnTo>
                    <a:lnTo>
                      <a:pt x="4172" y="848"/>
                    </a:lnTo>
                    <a:lnTo>
                      <a:pt x="4263" y="679"/>
                    </a:lnTo>
                    <a:lnTo>
                      <a:pt x="4339" y="510"/>
                    </a:lnTo>
                    <a:lnTo>
                      <a:pt x="4316" y="381"/>
                    </a:lnTo>
                    <a:lnTo>
                      <a:pt x="4273" y="261"/>
                    </a:lnTo>
                    <a:lnTo>
                      <a:pt x="4153" y="219"/>
                    </a:lnTo>
                    <a:lnTo>
                      <a:pt x="4033" y="183"/>
                    </a:lnTo>
                    <a:lnTo>
                      <a:pt x="3792" y="118"/>
                    </a:lnTo>
                    <a:lnTo>
                      <a:pt x="3547" y="69"/>
                    </a:lnTo>
                    <a:lnTo>
                      <a:pt x="3301" y="35"/>
                    </a:lnTo>
                    <a:lnTo>
                      <a:pt x="2813" y="0"/>
                    </a:lnTo>
                    <a:lnTo>
                      <a:pt x="2332" y="12"/>
                    </a:lnTo>
                    <a:lnTo>
                      <a:pt x="1865" y="86"/>
                    </a:lnTo>
                    <a:lnTo>
                      <a:pt x="1644" y="153"/>
                    </a:lnTo>
                    <a:lnTo>
                      <a:pt x="1431" y="236"/>
                    </a:lnTo>
                    <a:lnTo>
                      <a:pt x="1329" y="284"/>
                    </a:lnTo>
                    <a:lnTo>
                      <a:pt x="1228" y="335"/>
                    </a:lnTo>
                    <a:lnTo>
                      <a:pt x="1131" y="390"/>
                    </a:lnTo>
                    <a:lnTo>
                      <a:pt x="1036" y="447"/>
                    </a:lnTo>
                    <a:lnTo>
                      <a:pt x="945" y="510"/>
                    </a:lnTo>
                    <a:lnTo>
                      <a:pt x="857" y="575"/>
                    </a:lnTo>
                    <a:lnTo>
                      <a:pt x="692" y="711"/>
                    </a:lnTo>
                    <a:lnTo>
                      <a:pt x="540" y="858"/>
                    </a:lnTo>
                    <a:lnTo>
                      <a:pt x="405" y="1012"/>
                    </a:lnTo>
                    <a:lnTo>
                      <a:pt x="344" y="1092"/>
                    </a:lnTo>
                    <a:lnTo>
                      <a:pt x="287" y="1171"/>
                    </a:lnTo>
                    <a:lnTo>
                      <a:pt x="188" y="1337"/>
                    </a:lnTo>
                    <a:lnTo>
                      <a:pt x="49" y="1673"/>
                    </a:lnTo>
                    <a:lnTo>
                      <a:pt x="0" y="2008"/>
                    </a:lnTo>
                    <a:lnTo>
                      <a:pt x="247" y="1892"/>
                    </a:lnTo>
                    <a:lnTo>
                      <a:pt x="247" y="18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3372480" y="5403240"/>
                <a:ext cx="41400" cy="92880"/>
              </a:xfrm>
              <a:custGeom>
                <a:avLst/>
                <a:gdLst/>
                <a:ahLst/>
                <a:rect l="l" t="t" r="r" b="b"/>
                <a:pathLst>
                  <a:path w="270" h="485">
                    <a:moveTo>
                      <a:pt x="23" y="464"/>
                    </a:moveTo>
                    <a:lnTo>
                      <a:pt x="0" y="317"/>
                    </a:lnTo>
                    <a:lnTo>
                      <a:pt x="32" y="173"/>
                    </a:lnTo>
                    <a:lnTo>
                      <a:pt x="72" y="108"/>
                    </a:lnTo>
                    <a:lnTo>
                      <a:pt x="125" y="49"/>
                    </a:lnTo>
                    <a:lnTo>
                      <a:pt x="188" y="8"/>
                    </a:lnTo>
                    <a:lnTo>
                      <a:pt x="255" y="0"/>
                    </a:lnTo>
                    <a:lnTo>
                      <a:pt x="270" y="25"/>
                    </a:lnTo>
                    <a:lnTo>
                      <a:pt x="237" y="78"/>
                    </a:lnTo>
                    <a:lnTo>
                      <a:pt x="156" y="198"/>
                    </a:lnTo>
                    <a:lnTo>
                      <a:pt x="148" y="454"/>
                    </a:lnTo>
                    <a:lnTo>
                      <a:pt x="85" y="485"/>
                    </a:lnTo>
                    <a:lnTo>
                      <a:pt x="23" y="464"/>
                    </a:lnTo>
                    <a:lnTo>
                      <a:pt x="23" y="4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H="1">
                <a:off x="3309840" y="5403240"/>
                <a:ext cx="47520" cy="878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13" y="454"/>
                    </a:moveTo>
                    <a:lnTo>
                      <a:pt x="0" y="306"/>
                    </a:lnTo>
                    <a:lnTo>
                      <a:pt x="45" y="165"/>
                    </a:lnTo>
                    <a:lnTo>
                      <a:pt x="97" y="99"/>
                    </a:lnTo>
                    <a:lnTo>
                      <a:pt x="161" y="40"/>
                    </a:lnTo>
                    <a:lnTo>
                      <a:pt x="235" y="0"/>
                    </a:lnTo>
                    <a:lnTo>
                      <a:pt x="309" y="0"/>
                    </a:lnTo>
                    <a:lnTo>
                      <a:pt x="319" y="27"/>
                    </a:lnTo>
                    <a:lnTo>
                      <a:pt x="273" y="78"/>
                    </a:lnTo>
                    <a:lnTo>
                      <a:pt x="169" y="198"/>
                    </a:lnTo>
                    <a:lnTo>
                      <a:pt x="127" y="464"/>
                    </a:lnTo>
                    <a:lnTo>
                      <a:pt x="13" y="454"/>
                    </a:lnTo>
                    <a:lnTo>
                      <a:pt x="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3243960" y="5400000"/>
                <a:ext cx="58680" cy="91440"/>
              </a:xfrm>
              <a:custGeom>
                <a:avLst/>
                <a:gdLst/>
                <a:ahLst/>
                <a:rect l="l" t="t" r="r" b="b"/>
                <a:pathLst>
                  <a:path w="378" h="477">
                    <a:moveTo>
                      <a:pt x="0" y="460"/>
                    </a:moveTo>
                    <a:lnTo>
                      <a:pt x="7" y="308"/>
                    </a:lnTo>
                    <a:lnTo>
                      <a:pt x="66" y="161"/>
                    </a:lnTo>
                    <a:lnTo>
                      <a:pt x="127" y="97"/>
                    </a:lnTo>
                    <a:lnTo>
                      <a:pt x="205" y="36"/>
                    </a:lnTo>
                    <a:lnTo>
                      <a:pt x="289" y="0"/>
                    </a:lnTo>
                    <a:lnTo>
                      <a:pt x="365" y="5"/>
                    </a:lnTo>
                    <a:lnTo>
                      <a:pt x="378" y="43"/>
                    </a:lnTo>
                    <a:lnTo>
                      <a:pt x="323" y="95"/>
                    </a:lnTo>
                    <a:lnTo>
                      <a:pt x="190" y="211"/>
                    </a:lnTo>
                    <a:lnTo>
                      <a:pt x="108" y="477"/>
                    </a:lnTo>
                    <a:lnTo>
                      <a:pt x="0" y="460"/>
                    </a:lnTo>
                    <a:lnTo>
                      <a:pt x="0" y="4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3180960" y="5414760"/>
                <a:ext cx="66960" cy="95760"/>
              </a:xfrm>
              <a:custGeom>
                <a:avLst/>
                <a:gdLst/>
                <a:ahLst/>
                <a:rect l="l" t="t" r="r" b="b"/>
                <a:pathLst>
                  <a:path w="439" h="500">
                    <a:moveTo>
                      <a:pt x="0" y="467"/>
                    </a:moveTo>
                    <a:lnTo>
                      <a:pt x="16" y="306"/>
                    </a:lnTo>
                    <a:lnTo>
                      <a:pt x="44" y="228"/>
                    </a:lnTo>
                    <a:lnTo>
                      <a:pt x="92" y="161"/>
                    </a:lnTo>
                    <a:lnTo>
                      <a:pt x="166" y="95"/>
                    </a:lnTo>
                    <a:lnTo>
                      <a:pt x="255" y="34"/>
                    </a:lnTo>
                    <a:lnTo>
                      <a:pt x="348" y="0"/>
                    </a:lnTo>
                    <a:lnTo>
                      <a:pt x="430" y="13"/>
                    </a:lnTo>
                    <a:lnTo>
                      <a:pt x="439" y="55"/>
                    </a:lnTo>
                    <a:lnTo>
                      <a:pt x="371" y="104"/>
                    </a:lnTo>
                    <a:lnTo>
                      <a:pt x="278" y="160"/>
                    </a:lnTo>
                    <a:lnTo>
                      <a:pt x="207" y="220"/>
                    </a:lnTo>
                    <a:lnTo>
                      <a:pt x="99" y="492"/>
                    </a:lnTo>
                    <a:lnTo>
                      <a:pt x="42" y="500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3124080" y="5436360"/>
                <a:ext cx="77760" cy="97560"/>
              </a:xfrm>
              <a:custGeom>
                <a:avLst/>
                <a:gdLst/>
                <a:ahLst/>
                <a:rect l="l" t="t" r="r" b="b"/>
                <a:pathLst>
                  <a:path w="504" h="509">
                    <a:moveTo>
                      <a:pt x="0" y="467"/>
                    </a:moveTo>
                    <a:lnTo>
                      <a:pt x="35" y="306"/>
                    </a:lnTo>
                    <a:lnTo>
                      <a:pt x="73" y="228"/>
                    </a:lnTo>
                    <a:lnTo>
                      <a:pt x="124" y="161"/>
                    </a:lnTo>
                    <a:lnTo>
                      <a:pt x="207" y="95"/>
                    </a:lnTo>
                    <a:lnTo>
                      <a:pt x="306" y="32"/>
                    </a:lnTo>
                    <a:lnTo>
                      <a:pt x="409" y="0"/>
                    </a:lnTo>
                    <a:lnTo>
                      <a:pt x="496" y="21"/>
                    </a:lnTo>
                    <a:lnTo>
                      <a:pt x="504" y="70"/>
                    </a:lnTo>
                    <a:lnTo>
                      <a:pt x="428" y="118"/>
                    </a:lnTo>
                    <a:lnTo>
                      <a:pt x="322" y="171"/>
                    </a:lnTo>
                    <a:lnTo>
                      <a:pt x="240" y="228"/>
                    </a:lnTo>
                    <a:lnTo>
                      <a:pt x="169" y="374"/>
                    </a:lnTo>
                    <a:lnTo>
                      <a:pt x="137" y="448"/>
                    </a:lnTo>
                    <a:lnTo>
                      <a:pt x="92" y="509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3124080" y="4495680"/>
              <a:ext cx="1523880" cy="847800"/>
              <a:chOff x="3124080" y="4495680"/>
              <a:chExt cx="1523880" cy="847800"/>
            </a:xfrm>
          </p:grpSpPr>
          <p:sp>
            <p:nvSpPr>
              <p:cNvPr id="479" name=""/>
              <p:cNvSpPr/>
              <p:nvPr/>
            </p:nvSpPr>
            <p:spPr>
              <a:xfrm>
                <a:off x="3951000" y="4862520"/>
                <a:ext cx="393840" cy="212040"/>
              </a:xfrm>
              <a:custGeom>
                <a:avLst/>
                <a:gdLst/>
                <a:ahLst/>
                <a:rect l="l" t="t" r="r" b="b"/>
                <a:pathLst>
                  <a:path w="2505" h="1083">
                    <a:moveTo>
                      <a:pt x="67" y="604"/>
                    </a:moveTo>
                    <a:lnTo>
                      <a:pt x="399" y="587"/>
                    </a:lnTo>
                    <a:lnTo>
                      <a:pt x="844" y="612"/>
                    </a:lnTo>
                    <a:lnTo>
                      <a:pt x="1087" y="713"/>
                    </a:lnTo>
                    <a:lnTo>
                      <a:pt x="1224" y="787"/>
                    </a:lnTo>
                    <a:lnTo>
                      <a:pt x="1361" y="866"/>
                    </a:lnTo>
                    <a:lnTo>
                      <a:pt x="1498" y="943"/>
                    </a:lnTo>
                    <a:lnTo>
                      <a:pt x="1627" y="1011"/>
                    </a:lnTo>
                    <a:lnTo>
                      <a:pt x="1743" y="1058"/>
                    </a:lnTo>
                    <a:lnTo>
                      <a:pt x="1844" y="1083"/>
                    </a:lnTo>
                    <a:lnTo>
                      <a:pt x="2100" y="1055"/>
                    </a:lnTo>
                    <a:lnTo>
                      <a:pt x="2311" y="918"/>
                    </a:lnTo>
                    <a:lnTo>
                      <a:pt x="2452" y="707"/>
                    </a:lnTo>
                    <a:lnTo>
                      <a:pt x="2505" y="454"/>
                    </a:lnTo>
                    <a:lnTo>
                      <a:pt x="2469" y="245"/>
                    </a:lnTo>
                    <a:lnTo>
                      <a:pt x="2425" y="161"/>
                    </a:lnTo>
                    <a:lnTo>
                      <a:pt x="2366" y="95"/>
                    </a:lnTo>
                    <a:lnTo>
                      <a:pt x="2294" y="42"/>
                    </a:lnTo>
                    <a:lnTo>
                      <a:pt x="2209" y="9"/>
                    </a:lnTo>
                    <a:lnTo>
                      <a:pt x="1999" y="0"/>
                    </a:lnTo>
                    <a:lnTo>
                      <a:pt x="1836" y="66"/>
                    </a:lnTo>
                    <a:lnTo>
                      <a:pt x="1718" y="203"/>
                    </a:lnTo>
                    <a:lnTo>
                      <a:pt x="1648" y="367"/>
                    </a:lnTo>
                    <a:lnTo>
                      <a:pt x="1629" y="513"/>
                    </a:lnTo>
                    <a:lnTo>
                      <a:pt x="1648" y="574"/>
                    </a:lnTo>
                    <a:lnTo>
                      <a:pt x="1688" y="616"/>
                    </a:lnTo>
                    <a:lnTo>
                      <a:pt x="1806" y="642"/>
                    </a:lnTo>
                    <a:lnTo>
                      <a:pt x="1923" y="595"/>
                    </a:lnTo>
                    <a:lnTo>
                      <a:pt x="1984" y="479"/>
                    </a:lnTo>
                    <a:lnTo>
                      <a:pt x="1969" y="370"/>
                    </a:lnTo>
                    <a:lnTo>
                      <a:pt x="1929" y="308"/>
                    </a:lnTo>
                    <a:lnTo>
                      <a:pt x="1876" y="222"/>
                    </a:lnTo>
                    <a:lnTo>
                      <a:pt x="1895" y="171"/>
                    </a:lnTo>
                    <a:lnTo>
                      <a:pt x="1937" y="133"/>
                    </a:lnTo>
                    <a:lnTo>
                      <a:pt x="2041" y="99"/>
                    </a:lnTo>
                    <a:lnTo>
                      <a:pt x="2157" y="129"/>
                    </a:lnTo>
                    <a:lnTo>
                      <a:pt x="2248" y="205"/>
                    </a:lnTo>
                    <a:lnTo>
                      <a:pt x="2332" y="429"/>
                    </a:lnTo>
                    <a:lnTo>
                      <a:pt x="2311" y="572"/>
                    </a:lnTo>
                    <a:lnTo>
                      <a:pt x="2254" y="709"/>
                    </a:lnTo>
                    <a:lnTo>
                      <a:pt x="2212" y="768"/>
                    </a:lnTo>
                    <a:lnTo>
                      <a:pt x="2167" y="819"/>
                    </a:lnTo>
                    <a:lnTo>
                      <a:pt x="2115" y="855"/>
                    </a:lnTo>
                    <a:lnTo>
                      <a:pt x="2058" y="876"/>
                    </a:lnTo>
                    <a:lnTo>
                      <a:pt x="1800" y="853"/>
                    </a:lnTo>
                    <a:lnTo>
                      <a:pt x="1678" y="798"/>
                    </a:lnTo>
                    <a:lnTo>
                      <a:pt x="1562" y="728"/>
                    </a:lnTo>
                    <a:lnTo>
                      <a:pt x="1450" y="650"/>
                    </a:lnTo>
                    <a:lnTo>
                      <a:pt x="1342" y="572"/>
                    </a:lnTo>
                    <a:lnTo>
                      <a:pt x="1239" y="503"/>
                    </a:lnTo>
                    <a:lnTo>
                      <a:pt x="1140" y="454"/>
                    </a:lnTo>
                    <a:lnTo>
                      <a:pt x="939" y="393"/>
                    </a:lnTo>
                    <a:lnTo>
                      <a:pt x="713" y="349"/>
                    </a:lnTo>
                    <a:lnTo>
                      <a:pt x="247" y="338"/>
                    </a:lnTo>
                    <a:lnTo>
                      <a:pt x="131" y="387"/>
                    </a:lnTo>
                    <a:lnTo>
                      <a:pt x="0" y="551"/>
                    </a:lnTo>
                    <a:lnTo>
                      <a:pt x="67" y="604"/>
                    </a:lnTo>
                    <a:lnTo>
                      <a:pt x="67" y="6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951000" y="4575240"/>
                <a:ext cx="681120" cy="768240"/>
              </a:xfrm>
              <a:custGeom>
                <a:avLst/>
                <a:gdLst/>
                <a:ahLst/>
                <a:rect l="l" t="t" r="r" b="b"/>
                <a:pathLst>
                  <a:path w="4339" h="3901">
                    <a:moveTo>
                      <a:pt x="247" y="1892"/>
                    </a:moveTo>
                    <a:lnTo>
                      <a:pt x="321" y="1671"/>
                    </a:lnTo>
                    <a:lnTo>
                      <a:pt x="371" y="1550"/>
                    </a:lnTo>
                    <a:lnTo>
                      <a:pt x="428" y="1424"/>
                    </a:lnTo>
                    <a:lnTo>
                      <a:pt x="496" y="1295"/>
                    </a:lnTo>
                    <a:lnTo>
                      <a:pt x="578" y="1166"/>
                    </a:lnTo>
                    <a:lnTo>
                      <a:pt x="673" y="1035"/>
                    </a:lnTo>
                    <a:lnTo>
                      <a:pt x="785" y="907"/>
                    </a:lnTo>
                    <a:lnTo>
                      <a:pt x="914" y="784"/>
                    </a:lnTo>
                    <a:lnTo>
                      <a:pt x="1062" y="666"/>
                    </a:lnTo>
                    <a:lnTo>
                      <a:pt x="1144" y="609"/>
                    </a:lnTo>
                    <a:lnTo>
                      <a:pt x="1232" y="554"/>
                    </a:lnTo>
                    <a:lnTo>
                      <a:pt x="1325" y="502"/>
                    </a:lnTo>
                    <a:lnTo>
                      <a:pt x="1422" y="453"/>
                    </a:lnTo>
                    <a:lnTo>
                      <a:pt x="1526" y="407"/>
                    </a:lnTo>
                    <a:lnTo>
                      <a:pt x="1636" y="364"/>
                    </a:lnTo>
                    <a:lnTo>
                      <a:pt x="1752" y="324"/>
                    </a:lnTo>
                    <a:lnTo>
                      <a:pt x="1876" y="286"/>
                    </a:lnTo>
                    <a:lnTo>
                      <a:pt x="2144" y="223"/>
                    </a:lnTo>
                    <a:lnTo>
                      <a:pt x="2439" y="177"/>
                    </a:lnTo>
                    <a:lnTo>
                      <a:pt x="2866" y="153"/>
                    </a:lnTo>
                    <a:lnTo>
                      <a:pt x="3336" y="183"/>
                    </a:lnTo>
                    <a:lnTo>
                      <a:pt x="3792" y="284"/>
                    </a:lnTo>
                    <a:lnTo>
                      <a:pt x="3999" y="364"/>
                    </a:lnTo>
                    <a:lnTo>
                      <a:pt x="4183" y="468"/>
                    </a:lnTo>
                    <a:lnTo>
                      <a:pt x="4172" y="519"/>
                    </a:lnTo>
                    <a:lnTo>
                      <a:pt x="4103" y="633"/>
                    </a:lnTo>
                    <a:lnTo>
                      <a:pt x="4054" y="709"/>
                    </a:lnTo>
                    <a:lnTo>
                      <a:pt x="3997" y="795"/>
                    </a:lnTo>
                    <a:lnTo>
                      <a:pt x="3932" y="890"/>
                    </a:lnTo>
                    <a:lnTo>
                      <a:pt x="3864" y="991"/>
                    </a:lnTo>
                    <a:lnTo>
                      <a:pt x="3792" y="1097"/>
                    </a:lnTo>
                    <a:lnTo>
                      <a:pt x="3718" y="1206"/>
                    </a:lnTo>
                    <a:lnTo>
                      <a:pt x="3645" y="1318"/>
                    </a:lnTo>
                    <a:lnTo>
                      <a:pt x="3577" y="1426"/>
                    </a:lnTo>
                    <a:lnTo>
                      <a:pt x="3512" y="1534"/>
                    </a:lnTo>
                    <a:lnTo>
                      <a:pt x="3453" y="1637"/>
                    </a:lnTo>
                    <a:lnTo>
                      <a:pt x="3364" y="1825"/>
                    </a:lnTo>
                    <a:lnTo>
                      <a:pt x="3250" y="2186"/>
                    </a:lnTo>
                    <a:lnTo>
                      <a:pt x="3159" y="2572"/>
                    </a:lnTo>
                    <a:lnTo>
                      <a:pt x="3077" y="2964"/>
                    </a:lnTo>
                    <a:lnTo>
                      <a:pt x="2992" y="3340"/>
                    </a:lnTo>
                    <a:lnTo>
                      <a:pt x="2965" y="3405"/>
                    </a:lnTo>
                    <a:lnTo>
                      <a:pt x="2916" y="3485"/>
                    </a:lnTo>
                    <a:lnTo>
                      <a:pt x="2857" y="3559"/>
                    </a:lnTo>
                    <a:lnTo>
                      <a:pt x="2802" y="3604"/>
                    </a:lnTo>
                    <a:lnTo>
                      <a:pt x="2708" y="3652"/>
                    </a:lnTo>
                    <a:lnTo>
                      <a:pt x="2591" y="3696"/>
                    </a:lnTo>
                    <a:lnTo>
                      <a:pt x="2372" y="3738"/>
                    </a:lnTo>
                    <a:lnTo>
                      <a:pt x="1847" y="3690"/>
                    </a:lnTo>
                    <a:lnTo>
                      <a:pt x="1635" y="3604"/>
                    </a:lnTo>
                    <a:lnTo>
                      <a:pt x="1521" y="3439"/>
                    </a:lnTo>
                    <a:lnTo>
                      <a:pt x="1524" y="3253"/>
                    </a:lnTo>
                    <a:lnTo>
                      <a:pt x="1559" y="3158"/>
                    </a:lnTo>
                    <a:lnTo>
                      <a:pt x="1608" y="3063"/>
                    </a:lnTo>
                    <a:lnTo>
                      <a:pt x="1674" y="2970"/>
                    </a:lnTo>
                    <a:lnTo>
                      <a:pt x="1749" y="2880"/>
                    </a:lnTo>
                    <a:lnTo>
                      <a:pt x="1834" y="2797"/>
                    </a:lnTo>
                    <a:lnTo>
                      <a:pt x="1925" y="2719"/>
                    </a:lnTo>
                    <a:lnTo>
                      <a:pt x="2032" y="2631"/>
                    </a:lnTo>
                    <a:lnTo>
                      <a:pt x="2155" y="2521"/>
                    </a:lnTo>
                    <a:lnTo>
                      <a:pt x="2285" y="2390"/>
                    </a:lnTo>
                    <a:lnTo>
                      <a:pt x="2406" y="2238"/>
                    </a:lnTo>
                    <a:lnTo>
                      <a:pt x="1827" y="2479"/>
                    </a:lnTo>
                    <a:lnTo>
                      <a:pt x="1800" y="2595"/>
                    </a:lnTo>
                    <a:lnTo>
                      <a:pt x="1739" y="2715"/>
                    </a:lnTo>
                    <a:lnTo>
                      <a:pt x="1654" y="2838"/>
                    </a:lnTo>
                    <a:lnTo>
                      <a:pt x="1555" y="2960"/>
                    </a:lnTo>
                    <a:lnTo>
                      <a:pt x="1458" y="3082"/>
                    </a:lnTo>
                    <a:lnTo>
                      <a:pt x="1372" y="3203"/>
                    </a:lnTo>
                    <a:lnTo>
                      <a:pt x="1291" y="3430"/>
                    </a:lnTo>
                    <a:lnTo>
                      <a:pt x="1304" y="3502"/>
                    </a:lnTo>
                    <a:lnTo>
                      <a:pt x="1340" y="3570"/>
                    </a:lnTo>
                    <a:lnTo>
                      <a:pt x="1393" y="3637"/>
                    </a:lnTo>
                    <a:lnTo>
                      <a:pt x="1460" y="3696"/>
                    </a:lnTo>
                    <a:lnTo>
                      <a:pt x="1536" y="3749"/>
                    </a:lnTo>
                    <a:lnTo>
                      <a:pt x="1610" y="3793"/>
                    </a:lnTo>
                    <a:lnTo>
                      <a:pt x="1743" y="3844"/>
                    </a:lnTo>
                    <a:lnTo>
                      <a:pt x="1971" y="3880"/>
                    </a:lnTo>
                    <a:lnTo>
                      <a:pt x="2218" y="3901"/>
                    </a:lnTo>
                    <a:lnTo>
                      <a:pt x="2686" y="3869"/>
                    </a:lnTo>
                    <a:lnTo>
                      <a:pt x="2864" y="3802"/>
                    </a:lnTo>
                    <a:lnTo>
                      <a:pt x="3028" y="3675"/>
                    </a:lnTo>
                    <a:lnTo>
                      <a:pt x="3166" y="3511"/>
                    </a:lnTo>
                    <a:lnTo>
                      <a:pt x="3265" y="3331"/>
                    </a:lnTo>
                    <a:lnTo>
                      <a:pt x="3374" y="2989"/>
                    </a:lnTo>
                    <a:lnTo>
                      <a:pt x="3453" y="2601"/>
                    </a:lnTo>
                    <a:lnTo>
                      <a:pt x="3526" y="2209"/>
                    </a:lnTo>
                    <a:lnTo>
                      <a:pt x="3567" y="2025"/>
                    </a:lnTo>
                    <a:lnTo>
                      <a:pt x="3611" y="1858"/>
                    </a:lnTo>
                    <a:lnTo>
                      <a:pt x="3676" y="1690"/>
                    </a:lnTo>
                    <a:lnTo>
                      <a:pt x="3759" y="1523"/>
                    </a:lnTo>
                    <a:lnTo>
                      <a:pt x="3858" y="1354"/>
                    </a:lnTo>
                    <a:lnTo>
                      <a:pt x="3963" y="1187"/>
                    </a:lnTo>
                    <a:lnTo>
                      <a:pt x="4016" y="1101"/>
                    </a:lnTo>
                    <a:lnTo>
                      <a:pt x="4071" y="1017"/>
                    </a:lnTo>
                    <a:lnTo>
                      <a:pt x="4172" y="848"/>
                    </a:lnTo>
                    <a:lnTo>
                      <a:pt x="4263" y="679"/>
                    </a:lnTo>
                    <a:lnTo>
                      <a:pt x="4339" y="510"/>
                    </a:lnTo>
                    <a:lnTo>
                      <a:pt x="4316" y="381"/>
                    </a:lnTo>
                    <a:lnTo>
                      <a:pt x="4273" y="261"/>
                    </a:lnTo>
                    <a:lnTo>
                      <a:pt x="4153" y="219"/>
                    </a:lnTo>
                    <a:lnTo>
                      <a:pt x="4033" y="183"/>
                    </a:lnTo>
                    <a:lnTo>
                      <a:pt x="3792" y="118"/>
                    </a:lnTo>
                    <a:lnTo>
                      <a:pt x="3547" y="69"/>
                    </a:lnTo>
                    <a:lnTo>
                      <a:pt x="3301" y="35"/>
                    </a:lnTo>
                    <a:lnTo>
                      <a:pt x="2813" y="0"/>
                    </a:lnTo>
                    <a:lnTo>
                      <a:pt x="2332" y="12"/>
                    </a:lnTo>
                    <a:lnTo>
                      <a:pt x="1865" y="86"/>
                    </a:lnTo>
                    <a:lnTo>
                      <a:pt x="1644" y="153"/>
                    </a:lnTo>
                    <a:lnTo>
                      <a:pt x="1431" y="236"/>
                    </a:lnTo>
                    <a:lnTo>
                      <a:pt x="1329" y="284"/>
                    </a:lnTo>
                    <a:lnTo>
                      <a:pt x="1228" y="335"/>
                    </a:lnTo>
                    <a:lnTo>
                      <a:pt x="1131" y="390"/>
                    </a:lnTo>
                    <a:lnTo>
                      <a:pt x="1036" y="447"/>
                    </a:lnTo>
                    <a:lnTo>
                      <a:pt x="945" y="510"/>
                    </a:lnTo>
                    <a:lnTo>
                      <a:pt x="857" y="575"/>
                    </a:lnTo>
                    <a:lnTo>
                      <a:pt x="692" y="711"/>
                    </a:lnTo>
                    <a:lnTo>
                      <a:pt x="540" y="858"/>
                    </a:lnTo>
                    <a:lnTo>
                      <a:pt x="405" y="1012"/>
                    </a:lnTo>
                    <a:lnTo>
                      <a:pt x="344" y="1092"/>
                    </a:lnTo>
                    <a:lnTo>
                      <a:pt x="287" y="1171"/>
                    </a:lnTo>
                    <a:lnTo>
                      <a:pt x="188" y="1337"/>
                    </a:lnTo>
                    <a:lnTo>
                      <a:pt x="49" y="1673"/>
                    </a:lnTo>
                    <a:lnTo>
                      <a:pt x="0" y="2008"/>
                    </a:lnTo>
                    <a:lnTo>
                      <a:pt x="247" y="1892"/>
                    </a:lnTo>
                    <a:lnTo>
                      <a:pt x="247" y="18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350960" y="4498920"/>
                <a:ext cx="42840" cy="94320"/>
              </a:xfrm>
              <a:custGeom>
                <a:avLst/>
                <a:gdLst/>
                <a:ahLst/>
                <a:rect l="l" t="t" r="r" b="b"/>
                <a:pathLst>
                  <a:path w="270" h="485">
                    <a:moveTo>
                      <a:pt x="23" y="464"/>
                    </a:moveTo>
                    <a:lnTo>
                      <a:pt x="0" y="317"/>
                    </a:lnTo>
                    <a:lnTo>
                      <a:pt x="32" y="173"/>
                    </a:lnTo>
                    <a:lnTo>
                      <a:pt x="72" y="108"/>
                    </a:lnTo>
                    <a:lnTo>
                      <a:pt x="125" y="49"/>
                    </a:lnTo>
                    <a:lnTo>
                      <a:pt x="188" y="8"/>
                    </a:lnTo>
                    <a:lnTo>
                      <a:pt x="255" y="0"/>
                    </a:lnTo>
                    <a:lnTo>
                      <a:pt x="270" y="25"/>
                    </a:lnTo>
                    <a:lnTo>
                      <a:pt x="237" y="78"/>
                    </a:lnTo>
                    <a:lnTo>
                      <a:pt x="156" y="198"/>
                    </a:lnTo>
                    <a:lnTo>
                      <a:pt x="148" y="454"/>
                    </a:lnTo>
                    <a:lnTo>
                      <a:pt x="85" y="485"/>
                    </a:lnTo>
                    <a:lnTo>
                      <a:pt x="23" y="464"/>
                    </a:lnTo>
                    <a:lnTo>
                      <a:pt x="23" y="4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408200" y="4498920"/>
                <a:ext cx="50760" cy="9108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13" y="454"/>
                    </a:moveTo>
                    <a:lnTo>
                      <a:pt x="0" y="306"/>
                    </a:lnTo>
                    <a:lnTo>
                      <a:pt x="45" y="165"/>
                    </a:lnTo>
                    <a:lnTo>
                      <a:pt x="97" y="99"/>
                    </a:lnTo>
                    <a:lnTo>
                      <a:pt x="161" y="40"/>
                    </a:lnTo>
                    <a:lnTo>
                      <a:pt x="235" y="0"/>
                    </a:lnTo>
                    <a:lnTo>
                      <a:pt x="309" y="0"/>
                    </a:lnTo>
                    <a:lnTo>
                      <a:pt x="319" y="27"/>
                    </a:lnTo>
                    <a:lnTo>
                      <a:pt x="273" y="78"/>
                    </a:lnTo>
                    <a:lnTo>
                      <a:pt x="169" y="198"/>
                    </a:lnTo>
                    <a:lnTo>
                      <a:pt x="127" y="464"/>
                    </a:lnTo>
                    <a:lnTo>
                      <a:pt x="13" y="454"/>
                    </a:lnTo>
                    <a:lnTo>
                      <a:pt x="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465440" y="4495680"/>
                <a:ext cx="58680" cy="94320"/>
              </a:xfrm>
              <a:custGeom>
                <a:avLst/>
                <a:gdLst/>
                <a:ahLst/>
                <a:rect l="l" t="t" r="r" b="b"/>
                <a:pathLst>
                  <a:path w="378" h="477">
                    <a:moveTo>
                      <a:pt x="0" y="460"/>
                    </a:moveTo>
                    <a:lnTo>
                      <a:pt x="7" y="308"/>
                    </a:lnTo>
                    <a:lnTo>
                      <a:pt x="66" y="161"/>
                    </a:lnTo>
                    <a:lnTo>
                      <a:pt x="127" y="97"/>
                    </a:lnTo>
                    <a:lnTo>
                      <a:pt x="205" y="36"/>
                    </a:lnTo>
                    <a:lnTo>
                      <a:pt x="289" y="0"/>
                    </a:lnTo>
                    <a:lnTo>
                      <a:pt x="365" y="5"/>
                    </a:lnTo>
                    <a:lnTo>
                      <a:pt x="378" y="43"/>
                    </a:lnTo>
                    <a:lnTo>
                      <a:pt x="323" y="95"/>
                    </a:lnTo>
                    <a:lnTo>
                      <a:pt x="190" y="211"/>
                    </a:lnTo>
                    <a:lnTo>
                      <a:pt x="108" y="477"/>
                    </a:lnTo>
                    <a:lnTo>
                      <a:pt x="0" y="460"/>
                    </a:lnTo>
                    <a:lnTo>
                      <a:pt x="0" y="4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520880" y="4510440"/>
                <a:ext cx="68400" cy="97560"/>
              </a:xfrm>
              <a:custGeom>
                <a:avLst/>
                <a:gdLst/>
                <a:ahLst/>
                <a:rect l="l" t="t" r="r" b="b"/>
                <a:pathLst>
                  <a:path w="439" h="500">
                    <a:moveTo>
                      <a:pt x="0" y="467"/>
                    </a:moveTo>
                    <a:lnTo>
                      <a:pt x="16" y="306"/>
                    </a:lnTo>
                    <a:lnTo>
                      <a:pt x="44" y="228"/>
                    </a:lnTo>
                    <a:lnTo>
                      <a:pt x="92" y="161"/>
                    </a:lnTo>
                    <a:lnTo>
                      <a:pt x="166" y="95"/>
                    </a:lnTo>
                    <a:lnTo>
                      <a:pt x="255" y="34"/>
                    </a:lnTo>
                    <a:lnTo>
                      <a:pt x="348" y="0"/>
                    </a:lnTo>
                    <a:lnTo>
                      <a:pt x="430" y="13"/>
                    </a:lnTo>
                    <a:lnTo>
                      <a:pt x="439" y="55"/>
                    </a:lnTo>
                    <a:lnTo>
                      <a:pt x="371" y="104"/>
                    </a:lnTo>
                    <a:lnTo>
                      <a:pt x="278" y="160"/>
                    </a:lnTo>
                    <a:lnTo>
                      <a:pt x="207" y="220"/>
                    </a:lnTo>
                    <a:lnTo>
                      <a:pt x="99" y="492"/>
                    </a:lnTo>
                    <a:lnTo>
                      <a:pt x="42" y="500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568760" y="4533480"/>
                <a:ext cx="79200" cy="99720"/>
              </a:xfrm>
              <a:custGeom>
                <a:avLst/>
                <a:gdLst/>
                <a:ahLst/>
                <a:rect l="l" t="t" r="r" b="b"/>
                <a:pathLst>
                  <a:path w="504" h="509">
                    <a:moveTo>
                      <a:pt x="0" y="467"/>
                    </a:moveTo>
                    <a:lnTo>
                      <a:pt x="35" y="306"/>
                    </a:lnTo>
                    <a:lnTo>
                      <a:pt x="73" y="228"/>
                    </a:lnTo>
                    <a:lnTo>
                      <a:pt x="124" y="161"/>
                    </a:lnTo>
                    <a:lnTo>
                      <a:pt x="207" y="95"/>
                    </a:lnTo>
                    <a:lnTo>
                      <a:pt x="306" y="32"/>
                    </a:lnTo>
                    <a:lnTo>
                      <a:pt x="409" y="0"/>
                    </a:lnTo>
                    <a:lnTo>
                      <a:pt x="496" y="21"/>
                    </a:lnTo>
                    <a:lnTo>
                      <a:pt x="504" y="70"/>
                    </a:lnTo>
                    <a:lnTo>
                      <a:pt x="428" y="118"/>
                    </a:lnTo>
                    <a:lnTo>
                      <a:pt x="322" y="171"/>
                    </a:lnTo>
                    <a:lnTo>
                      <a:pt x="240" y="228"/>
                    </a:lnTo>
                    <a:lnTo>
                      <a:pt x="169" y="374"/>
                    </a:lnTo>
                    <a:lnTo>
                      <a:pt x="137" y="448"/>
                    </a:lnTo>
                    <a:lnTo>
                      <a:pt x="92" y="509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>
                <a:off x="3390120" y="4689720"/>
                <a:ext cx="90360" cy="109440"/>
              </a:xfrm>
              <a:custGeom>
                <a:avLst/>
                <a:gdLst/>
                <a:ahLst/>
                <a:rect l="l" t="t" r="r" b="b"/>
                <a:pathLst>
                  <a:path w="595" h="576">
                    <a:moveTo>
                      <a:pt x="407" y="0"/>
                    </a:moveTo>
                    <a:lnTo>
                      <a:pt x="167" y="0"/>
                    </a:lnTo>
                    <a:lnTo>
                      <a:pt x="0" y="242"/>
                    </a:lnTo>
                    <a:lnTo>
                      <a:pt x="104" y="491"/>
                    </a:lnTo>
                    <a:lnTo>
                      <a:pt x="397" y="576"/>
                    </a:lnTo>
                    <a:lnTo>
                      <a:pt x="595" y="314"/>
                    </a:lnTo>
                    <a:lnTo>
                      <a:pt x="407" y="0"/>
                    </a:lnTo>
                    <a:lnTo>
                      <a:pt x="407" y="0"/>
                    </a:lnTo>
                    <a:close/>
                  </a:path>
                </a:pathLst>
              </a:custGeom>
              <a:solidFill>
                <a:srgbClr val="99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3420000" y="4853880"/>
                <a:ext cx="384120" cy="209160"/>
              </a:xfrm>
              <a:custGeom>
                <a:avLst/>
                <a:gdLst/>
                <a:ahLst/>
                <a:rect l="l" t="t" r="r" b="b"/>
                <a:pathLst>
                  <a:path w="2505" h="1083">
                    <a:moveTo>
                      <a:pt x="67" y="604"/>
                    </a:moveTo>
                    <a:lnTo>
                      <a:pt x="399" y="587"/>
                    </a:lnTo>
                    <a:lnTo>
                      <a:pt x="844" y="612"/>
                    </a:lnTo>
                    <a:lnTo>
                      <a:pt x="1087" y="713"/>
                    </a:lnTo>
                    <a:lnTo>
                      <a:pt x="1224" y="787"/>
                    </a:lnTo>
                    <a:lnTo>
                      <a:pt x="1361" y="866"/>
                    </a:lnTo>
                    <a:lnTo>
                      <a:pt x="1498" y="943"/>
                    </a:lnTo>
                    <a:lnTo>
                      <a:pt x="1627" y="1011"/>
                    </a:lnTo>
                    <a:lnTo>
                      <a:pt x="1743" y="1058"/>
                    </a:lnTo>
                    <a:lnTo>
                      <a:pt x="1844" y="1083"/>
                    </a:lnTo>
                    <a:lnTo>
                      <a:pt x="2100" y="1055"/>
                    </a:lnTo>
                    <a:lnTo>
                      <a:pt x="2311" y="918"/>
                    </a:lnTo>
                    <a:lnTo>
                      <a:pt x="2452" y="707"/>
                    </a:lnTo>
                    <a:lnTo>
                      <a:pt x="2505" y="454"/>
                    </a:lnTo>
                    <a:lnTo>
                      <a:pt x="2469" y="245"/>
                    </a:lnTo>
                    <a:lnTo>
                      <a:pt x="2425" y="161"/>
                    </a:lnTo>
                    <a:lnTo>
                      <a:pt x="2366" y="95"/>
                    </a:lnTo>
                    <a:lnTo>
                      <a:pt x="2294" y="42"/>
                    </a:lnTo>
                    <a:lnTo>
                      <a:pt x="2209" y="9"/>
                    </a:lnTo>
                    <a:lnTo>
                      <a:pt x="1999" y="0"/>
                    </a:lnTo>
                    <a:lnTo>
                      <a:pt x="1836" y="66"/>
                    </a:lnTo>
                    <a:lnTo>
                      <a:pt x="1718" y="203"/>
                    </a:lnTo>
                    <a:lnTo>
                      <a:pt x="1648" y="367"/>
                    </a:lnTo>
                    <a:lnTo>
                      <a:pt x="1629" y="513"/>
                    </a:lnTo>
                    <a:lnTo>
                      <a:pt x="1648" y="574"/>
                    </a:lnTo>
                    <a:lnTo>
                      <a:pt x="1688" y="616"/>
                    </a:lnTo>
                    <a:lnTo>
                      <a:pt x="1806" y="642"/>
                    </a:lnTo>
                    <a:lnTo>
                      <a:pt x="1923" y="595"/>
                    </a:lnTo>
                    <a:lnTo>
                      <a:pt x="1984" y="479"/>
                    </a:lnTo>
                    <a:lnTo>
                      <a:pt x="1969" y="370"/>
                    </a:lnTo>
                    <a:lnTo>
                      <a:pt x="1929" y="308"/>
                    </a:lnTo>
                    <a:lnTo>
                      <a:pt x="1876" y="222"/>
                    </a:lnTo>
                    <a:lnTo>
                      <a:pt x="1895" y="171"/>
                    </a:lnTo>
                    <a:lnTo>
                      <a:pt x="1937" y="133"/>
                    </a:lnTo>
                    <a:lnTo>
                      <a:pt x="2041" y="99"/>
                    </a:lnTo>
                    <a:lnTo>
                      <a:pt x="2157" y="129"/>
                    </a:lnTo>
                    <a:lnTo>
                      <a:pt x="2248" y="205"/>
                    </a:lnTo>
                    <a:lnTo>
                      <a:pt x="2332" y="429"/>
                    </a:lnTo>
                    <a:lnTo>
                      <a:pt x="2311" y="572"/>
                    </a:lnTo>
                    <a:lnTo>
                      <a:pt x="2254" y="709"/>
                    </a:lnTo>
                    <a:lnTo>
                      <a:pt x="2212" y="768"/>
                    </a:lnTo>
                    <a:lnTo>
                      <a:pt x="2167" y="819"/>
                    </a:lnTo>
                    <a:lnTo>
                      <a:pt x="2115" y="855"/>
                    </a:lnTo>
                    <a:lnTo>
                      <a:pt x="2058" y="876"/>
                    </a:lnTo>
                    <a:lnTo>
                      <a:pt x="1800" y="853"/>
                    </a:lnTo>
                    <a:lnTo>
                      <a:pt x="1678" y="798"/>
                    </a:lnTo>
                    <a:lnTo>
                      <a:pt x="1562" y="728"/>
                    </a:lnTo>
                    <a:lnTo>
                      <a:pt x="1450" y="650"/>
                    </a:lnTo>
                    <a:lnTo>
                      <a:pt x="1342" y="572"/>
                    </a:lnTo>
                    <a:lnTo>
                      <a:pt x="1239" y="503"/>
                    </a:lnTo>
                    <a:lnTo>
                      <a:pt x="1140" y="454"/>
                    </a:lnTo>
                    <a:lnTo>
                      <a:pt x="939" y="393"/>
                    </a:lnTo>
                    <a:lnTo>
                      <a:pt x="713" y="349"/>
                    </a:lnTo>
                    <a:lnTo>
                      <a:pt x="247" y="338"/>
                    </a:lnTo>
                    <a:lnTo>
                      <a:pt x="131" y="387"/>
                    </a:lnTo>
                    <a:lnTo>
                      <a:pt x="0" y="551"/>
                    </a:lnTo>
                    <a:lnTo>
                      <a:pt x="67" y="604"/>
                    </a:lnTo>
                    <a:lnTo>
                      <a:pt x="67" y="6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3138120" y="4573440"/>
                <a:ext cx="666720" cy="752040"/>
              </a:xfrm>
              <a:custGeom>
                <a:avLst/>
                <a:gdLst/>
                <a:ahLst/>
                <a:rect l="l" t="t" r="r" b="b"/>
                <a:pathLst>
                  <a:path w="4339" h="3901">
                    <a:moveTo>
                      <a:pt x="247" y="1892"/>
                    </a:moveTo>
                    <a:lnTo>
                      <a:pt x="321" y="1671"/>
                    </a:lnTo>
                    <a:lnTo>
                      <a:pt x="371" y="1550"/>
                    </a:lnTo>
                    <a:lnTo>
                      <a:pt x="428" y="1424"/>
                    </a:lnTo>
                    <a:lnTo>
                      <a:pt x="496" y="1295"/>
                    </a:lnTo>
                    <a:lnTo>
                      <a:pt x="578" y="1166"/>
                    </a:lnTo>
                    <a:lnTo>
                      <a:pt x="673" y="1035"/>
                    </a:lnTo>
                    <a:lnTo>
                      <a:pt x="785" y="907"/>
                    </a:lnTo>
                    <a:lnTo>
                      <a:pt x="914" y="784"/>
                    </a:lnTo>
                    <a:lnTo>
                      <a:pt x="1062" y="666"/>
                    </a:lnTo>
                    <a:lnTo>
                      <a:pt x="1144" y="609"/>
                    </a:lnTo>
                    <a:lnTo>
                      <a:pt x="1232" y="554"/>
                    </a:lnTo>
                    <a:lnTo>
                      <a:pt x="1325" y="502"/>
                    </a:lnTo>
                    <a:lnTo>
                      <a:pt x="1422" y="453"/>
                    </a:lnTo>
                    <a:lnTo>
                      <a:pt x="1526" y="407"/>
                    </a:lnTo>
                    <a:lnTo>
                      <a:pt x="1636" y="364"/>
                    </a:lnTo>
                    <a:lnTo>
                      <a:pt x="1752" y="324"/>
                    </a:lnTo>
                    <a:lnTo>
                      <a:pt x="1876" y="286"/>
                    </a:lnTo>
                    <a:lnTo>
                      <a:pt x="2144" y="223"/>
                    </a:lnTo>
                    <a:lnTo>
                      <a:pt x="2439" y="177"/>
                    </a:lnTo>
                    <a:lnTo>
                      <a:pt x="2866" y="153"/>
                    </a:lnTo>
                    <a:lnTo>
                      <a:pt x="3336" y="183"/>
                    </a:lnTo>
                    <a:lnTo>
                      <a:pt x="3792" y="284"/>
                    </a:lnTo>
                    <a:lnTo>
                      <a:pt x="3999" y="364"/>
                    </a:lnTo>
                    <a:lnTo>
                      <a:pt x="4183" y="468"/>
                    </a:lnTo>
                    <a:lnTo>
                      <a:pt x="4172" y="519"/>
                    </a:lnTo>
                    <a:lnTo>
                      <a:pt x="4103" y="633"/>
                    </a:lnTo>
                    <a:lnTo>
                      <a:pt x="4054" y="709"/>
                    </a:lnTo>
                    <a:lnTo>
                      <a:pt x="3997" y="795"/>
                    </a:lnTo>
                    <a:lnTo>
                      <a:pt x="3932" y="890"/>
                    </a:lnTo>
                    <a:lnTo>
                      <a:pt x="3864" y="991"/>
                    </a:lnTo>
                    <a:lnTo>
                      <a:pt x="3792" y="1097"/>
                    </a:lnTo>
                    <a:lnTo>
                      <a:pt x="3718" y="1206"/>
                    </a:lnTo>
                    <a:lnTo>
                      <a:pt x="3645" y="1318"/>
                    </a:lnTo>
                    <a:lnTo>
                      <a:pt x="3577" y="1426"/>
                    </a:lnTo>
                    <a:lnTo>
                      <a:pt x="3512" y="1534"/>
                    </a:lnTo>
                    <a:lnTo>
                      <a:pt x="3453" y="1637"/>
                    </a:lnTo>
                    <a:lnTo>
                      <a:pt x="3364" y="1825"/>
                    </a:lnTo>
                    <a:lnTo>
                      <a:pt x="3250" y="2186"/>
                    </a:lnTo>
                    <a:lnTo>
                      <a:pt x="3159" y="2572"/>
                    </a:lnTo>
                    <a:lnTo>
                      <a:pt x="3077" y="2964"/>
                    </a:lnTo>
                    <a:lnTo>
                      <a:pt x="2992" y="3340"/>
                    </a:lnTo>
                    <a:lnTo>
                      <a:pt x="2965" y="3405"/>
                    </a:lnTo>
                    <a:lnTo>
                      <a:pt x="2916" y="3485"/>
                    </a:lnTo>
                    <a:lnTo>
                      <a:pt x="2857" y="3559"/>
                    </a:lnTo>
                    <a:lnTo>
                      <a:pt x="2802" y="3604"/>
                    </a:lnTo>
                    <a:lnTo>
                      <a:pt x="2708" y="3652"/>
                    </a:lnTo>
                    <a:lnTo>
                      <a:pt x="2591" y="3696"/>
                    </a:lnTo>
                    <a:lnTo>
                      <a:pt x="2372" y="3738"/>
                    </a:lnTo>
                    <a:lnTo>
                      <a:pt x="1847" y="3690"/>
                    </a:lnTo>
                    <a:lnTo>
                      <a:pt x="1635" y="3604"/>
                    </a:lnTo>
                    <a:lnTo>
                      <a:pt x="1521" y="3439"/>
                    </a:lnTo>
                    <a:lnTo>
                      <a:pt x="1524" y="3253"/>
                    </a:lnTo>
                    <a:lnTo>
                      <a:pt x="1559" y="3158"/>
                    </a:lnTo>
                    <a:lnTo>
                      <a:pt x="1608" y="3063"/>
                    </a:lnTo>
                    <a:lnTo>
                      <a:pt x="1674" y="2970"/>
                    </a:lnTo>
                    <a:lnTo>
                      <a:pt x="1749" y="2880"/>
                    </a:lnTo>
                    <a:lnTo>
                      <a:pt x="1834" y="2797"/>
                    </a:lnTo>
                    <a:lnTo>
                      <a:pt x="1925" y="2719"/>
                    </a:lnTo>
                    <a:lnTo>
                      <a:pt x="2032" y="2631"/>
                    </a:lnTo>
                    <a:lnTo>
                      <a:pt x="2155" y="2521"/>
                    </a:lnTo>
                    <a:lnTo>
                      <a:pt x="2285" y="2390"/>
                    </a:lnTo>
                    <a:lnTo>
                      <a:pt x="2406" y="2238"/>
                    </a:lnTo>
                    <a:lnTo>
                      <a:pt x="1827" y="2479"/>
                    </a:lnTo>
                    <a:lnTo>
                      <a:pt x="1800" y="2595"/>
                    </a:lnTo>
                    <a:lnTo>
                      <a:pt x="1739" y="2715"/>
                    </a:lnTo>
                    <a:lnTo>
                      <a:pt x="1654" y="2838"/>
                    </a:lnTo>
                    <a:lnTo>
                      <a:pt x="1555" y="2960"/>
                    </a:lnTo>
                    <a:lnTo>
                      <a:pt x="1458" y="3082"/>
                    </a:lnTo>
                    <a:lnTo>
                      <a:pt x="1372" y="3203"/>
                    </a:lnTo>
                    <a:lnTo>
                      <a:pt x="1291" y="3430"/>
                    </a:lnTo>
                    <a:lnTo>
                      <a:pt x="1304" y="3502"/>
                    </a:lnTo>
                    <a:lnTo>
                      <a:pt x="1340" y="3570"/>
                    </a:lnTo>
                    <a:lnTo>
                      <a:pt x="1393" y="3637"/>
                    </a:lnTo>
                    <a:lnTo>
                      <a:pt x="1460" y="3696"/>
                    </a:lnTo>
                    <a:lnTo>
                      <a:pt x="1536" y="3749"/>
                    </a:lnTo>
                    <a:lnTo>
                      <a:pt x="1610" y="3793"/>
                    </a:lnTo>
                    <a:lnTo>
                      <a:pt x="1743" y="3844"/>
                    </a:lnTo>
                    <a:lnTo>
                      <a:pt x="1971" y="3880"/>
                    </a:lnTo>
                    <a:lnTo>
                      <a:pt x="2218" y="3901"/>
                    </a:lnTo>
                    <a:lnTo>
                      <a:pt x="2686" y="3869"/>
                    </a:lnTo>
                    <a:lnTo>
                      <a:pt x="2864" y="3802"/>
                    </a:lnTo>
                    <a:lnTo>
                      <a:pt x="3028" y="3675"/>
                    </a:lnTo>
                    <a:lnTo>
                      <a:pt x="3166" y="3511"/>
                    </a:lnTo>
                    <a:lnTo>
                      <a:pt x="3265" y="3331"/>
                    </a:lnTo>
                    <a:lnTo>
                      <a:pt x="3374" y="2989"/>
                    </a:lnTo>
                    <a:lnTo>
                      <a:pt x="3453" y="2601"/>
                    </a:lnTo>
                    <a:lnTo>
                      <a:pt x="3526" y="2209"/>
                    </a:lnTo>
                    <a:lnTo>
                      <a:pt x="3567" y="2025"/>
                    </a:lnTo>
                    <a:lnTo>
                      <a:pt x="3611" y="1858"/>
                    </a:lnTo>
                    <a:lnTo>
                      <a:pt x="3676" y="1690"/>
                    </a:lnTo>
                    <a:lnTo>
                      <a:pt x="3759" y="1523"/>
                    </a:lnTo>
                    <a:lnTo>
                      <a:pt x="3858" y="1354"/>
                    </a:lnTo>
                    <a:lnTo>
                      <a:pt x="3963" y="1187"/>
                    </a:lnTo>
                    <a:lnTo>
                      <a:pt x="4016" y="1101"/>
                    </a:lnTo>
                    <a:lnTo>
                      <a:pt x="4071" y="1017"/>
                    </a:lnTo>
                    <a:lnTo>
                      <a:pt x="4172" y="848"/>
                    </a:lnTo>
                    <a:lnTo>
                      <a:pt x="4263" y="679"/>
                    </a:lnTo>
                    <a:lnTo>
                      <a:pt x="4339" y="510"/>
                    </a:lnTo>
                    <a:lnTo>
                      <a:pt x="4316" y="381"/>
                    </a:lnTo>
                    <a:lnTo>
                      <a:pt x="4273" y="261"/>
                    </a:lnTo>
                    <a:lnTo>
                      <a:pt x="4153" y="219"/>
                    </a:lnTo>
                    <a:lnTo>
                      <a:pt x="4033" y="183"/>
                    </a:lnTo>
                    <a:lnTo>
                      <a:pt x="3792" y="118"/>
                    </a:lnTo>
                    <a:lnTo>
                      <a:pt x="3547" y="69"/>
                    </a:lnTo>
                    <a:lnTo>
                      <a:pt x="3301" y="35"/>
                    </a:lnTo>
                    <a:lnTo>
                      <a:pt x="2813" y="0"/>
                    </a:lnTo>
                    <a:lnTo>
                      <a:pt x="2332" y="12"/>
                    </a:lnTo>
                    <a:lnTo>
                      <a:pt x="1865" y="86"/>
                    </a:lnTo>
                    <a:lnTo>
                      <a:pt x="1644" y="153"/>
                    </a:lnTo>
                    <a:lnTo>
                      <a:pt x="1431" y="236"/>
                    </a:lnTo>
                    <a:lnTo>
                      <a:pt x="1329" y="284"/>
                    </a:lnTo>
                    <a:lnTo>
                      <a:pt x="1228" y="335"/>
                    </a:lnTo>
                    <a:lnTo>
                      <a:pt x="1131" y="390"/>
                    </a:lnTo>
                    <a:lnTo>
                      <a:pt x="1036" y="447"/>
                    </a:lnTo>
                    <a:lnTo>
                      <a:pt x="945" y="510"/>
                    </a:lnTo>
                    <a:lnTo>
                      <a:pt x="857" y="575"/>
                    </a:lnTo>
                    <a:lnTo>
                      <a:pt x="692" y="711"/>
                    </a:lnTo>
                    <a:lnTo>
                      <a:pt x="540" y="858"/>
                    </a:lnTo>
                    <a:lnTo>
                      <a:pt x="405" y="1012"/>
                    </a:lnTo>
                    <a:lnTo>
                      <a:pt x="344" y="1092"/>
                    </a:lnTo>
                    <a:lnTo>
                      <a:pt x="287" y="1171"/>
                    </a:lnTo>
                    <a:lnTo>
                      <a:pt x="188" y="1337"/>
                    </a:lnTo>
                    <a:lnTo>
                      <a:pt x="49" y="1673"/>
                    </a:lnTo>
                    <a:lnTo>
                      <a:pt x="0" y="2008"/>
                    </a:lnTo>
                    <a:lnTo>
                      <a:pt x="247" y="1892"/>
                    </a:lnTo>
                    <a:lnTo>
                      <a:pt x="247" y="18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3372480" y="4498920"/>
                <a:ext cx="41400" cy="92880"/>
              </a:xfrm>
              <a:custGeom>
                <a:avLst/>
                <a:gdLst/>
                <a:ahLst/>
                <a:rect l="l" t="t" r="r" b="b"/>
                <a:pathLst>
                  <a:path w="270" h="485">
                    <a:moveTo>
                      <a:pt x="23" y="464"/>
                    </a:moveTo>
                    <a:lnTo>
                      <a:pt x="0" y="317"/>
                    </a:lnTo>
                    <a:lnTo>
                      <a:pt x="32" y="173"/>
                    </a:lnTo>
                    <a:lnTo>
                      <a:pt x="72" y="108"/>
                    </a:lnTo>
                    <a:lnTo>
                      <a:pt x="125" y="49"/>
                    </a:lnTo>
                    <a:lnTo>
                      <a:pt x="188" y="8"/>
                    </a:lnTo>
                    <a:lnTo>
                      <a:pt x="255" y="0"/>
                    </a:lnTo>
                    <a:lnTo>
                      <a:pt x="270" y="25"/>
                    </a:lnTo>
                    <a:lnTo>
                      <a:pt x="237" y="78"/>
                    </a:lnTo>
                    <a:lnTo>
                      <a:pt x="156" y="198"/>
                    </a:lnTo>
                    <a:lnTo>
                      <a:pt x="148" y="454"/>
                    </a:lnTo>
                    <a:lnTo>
                      <a:pt x="85" y="485"/>
                    </a:lnTo>
                    <a:lnTo>
                      <a:pt x="23" y="464"/>
                    </a:lnTo>
                    <a:lnTo>
                      <a:pt x="23" y="4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>
                <a:off x="3309840" y="4498920"/>
                <a:ext cx="47520" cy="878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13" y="454"/>
                    </a:moveTo>
                    <a:lnTo>
                      <a:pt x="0" y="306"/>
                    </a:lnTo>
                    <a:lnTo>
                      <a:pt x="45" y="165"/>
                    </a:lnTo>
                    <a:lnTo>
                      <a:pt x="97" y="99"/>
                    </a:lnTo>
                    <a:lnTo>
                      <a:pt x="161" y="40"/>
                    </a:lnTo>
                    <a:lnTo>
                      <a:pt x="235" y="0"/>
                    </a:lnTo>
                    <a:lnTo>
                      <a:pt x="309" y="0"/>
                    </a:lnTo>
                    <a:lnTo>
                      <a:pt x="319" y="27"/>
                    </a:lnTo>
                    <a:lnTo>
                      <a:pt x="273" y="78"/>
                    </a:lnTo>
                    <a:lnTo>
                      <a:pt x="169" y="198"/>
                    </a:lnTo>
                    <a:lnTo>
                      <a:pt x="127" y="464"/>
                    </a:lnTo>
                    <a:lnTo>
                      <a:pt x="13" y="454"/>
                    </a:lnTo>
                    <a:lnTo>
                      <a:pt x="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3243960" y="4495680"/>
                <a:ext cx="58680" cy="91440"/>
              </a:xfrm>
              <a:custGeom>
                <a:avLst/>
                <a:gdLst/>
                <a:ahLst/>
                <a:rect l="l" t="t" r="r" b="b"/>
                <a:pathLst>
                  <a:path w="378" h="477">
                    <a:moveTo>
                      <a:pt x="0" y="460"/>
                    </a:moveTo>
                    <a:lnTo>
                      <a:pt x="7" y="308"/>
                    </a:lnTo>
                    <a:lnTo>
                      <a:pt x="66" y="161"/>
                    </a:lnTo>
                    <a:lnTo>
                      <a:pt x="127" y="97"/>
                    </a:lnTo>
                    <a:lnTo>
                      <a:pt x="205" y="36"/>
                    </a:lnTo>
                    <a:lnTo>
                      <a:pt x="289" y="0"/>
                    </a:lnTo>
                    <a:lnTo>
                      <a:pt x="365" y="5"/>
                    </a:lnTo>
                    <a:lnTo>
                      <a:pt x="378" y="43"/>
                    </a:lnTo>
                    <a:lnTo>
                      <a:pt x="323" y="95"/>
                    </a:lnTo>
                    <a:lnTo>
                      <a:pt x="190" y="211"/>
                    </a:lnTo>
                    <a:lnTo>
                      <a:pt x="108" y="477"/>
                    </a:lnTo>
                    <a:lnTo>
                      <a:pt x="0" y="460"/>
                    </a:lnTo>
                    <a:lnTo>
                      <a:pt x="0" y="4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3180960" y="4510440"/>
                <a:ext cx="66960" cy="95760"/>
              </a:xfrm>
              <a:custGeom>
                <a:avLst/>
                <a:gdLst/>
                <a:ahLst/>
                <a:rect l="l" t="t" r="r" b="b"/>
                <a:pathLst>
                  <a:path w="439" h="500">
                    <a:moveTo>
                      <a:pt x="0" y="467"/>
                    </a:moveTo>
                    <a:lnTo>
                      <a:pt x="16" y="306"/>
                    </a:lnTo>
                    <a:lnTo>
                      <a:pt x="44" y="228"/>
                    </a:lnTo>
                    <a:lnTo>
                      <a:pt x="92" y="161"/>
                    </a:lnTo>
                    <a:lnTo>
                      <a:pt x="166" y="95"/>
                    </a:lnTo>
                    <a:lnTo>
                      <a:pt x="255" y="34"/>
                    </a:lnTo>
                    <a:lnTo>
                      <a:pt x="348" y="0"/>
                    </a:lnTo>
                    <a:lnTo>
                      <a:pt x="430" y="13"/>
                    </a:lnTo>
                    <a:lnTo>
                      <a:pt x="439" y="55"/>
                    </a:lnTo>
                    <a:lnTo>
                      <a:pt x="371" y="104"/>
                    </a:lnTo>
                    <a:lnTo>
                      <a:pt x="278" y="160"/>
                    </a:lnTo>
                    <a:lnTo>
                      <a:pt x="207" y="220"/>
                    </a:lnTo>
                    <a:lnTo>
                      <a:pt x="99" y="492"/>
                    </a:lnTo>
                    <a:lnTo>
                      <a:pt x="42" y="500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3124080" y="4532040"/>
                <a:ext cx="77760" cy="97560"/>
              </a:xfrm>
              <a:custGeom>
                <a:avLst/>
                <a:gdLst/>
                <a:ahLst/>
                <a:rect l="l" t="t" r="r" b="b"/>
                <a:pathLst>
                  <a:path w="504" h="509">
                    <a:moveTo>
                      <a:pt x="0" y="467"/>
                    </a:moveTo>
                    <a:lnTo>
                      <a:pt x="35" y="306"/>
                    </a:lnTo>
                    <a:lnTo>
                      <a:pt x="73" y="228"/>
                    </a:lnTo>
                    <a:lnTo>
                      <a:pt x="124" y="161"/>
                    </a:lnTo>
                    <a:lnTo>
                      <a:pt x="207" y="95"/>
                    </a:lnTo>
                    <a:lnTo>
                      <a:pt x="306" y="32"/>
                    </a:lnTo>
                    <a:lnTo>
                      <a:pt x="409" y="0"/>
                    </a:lnTo>
                    <a:lnTo>
                      <a:pt x="496" y="21"/>
                    </a:lnTo>
                    <a:lnTo>
                      <a:pt x="504" y="70"/>
                    </a:lnTo>
                    <a:lnTo>
                      <a:pt x="428" y="118"/>
                    </a:lnTo>
                    <a:lnTo>
                      <a:pt x="322" y="171"/>
                    </a:lnTo>
                    <a:lnTo>
                      <a:pt x="240" y="228"/>
                    </a:lnTo>
                    <a:lnTo>
                      <a:pt x="169" y="374"/>
                    </a:lnTo>
                    <a:lnTo>
                      <a:pt x="137" y="448"/>
                    </a:lnTo>
                    <a:lnTo>
                      <a:pt x="92" y="509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4" name=""/>
          <p:cNvGrpSpPr/>
          <p:nvPr/>
        </p:nvGrpSpPr>
        <p:grpSpPr>
          <a:xfrm>
            <a:off x="5105520" y="4495680"/>
            <a:ext cx="1523520" cy="1752480"/>
            <a:chOff x="5105520" y="4495680"/>
            <a:chExt cx="1523520" cy="1752480"/>
          </a:xfrm>
        </p:grpSpPr>
        <p:grpSp>
          <p:nvGrpSpPr>
            <p:cNvPr id="495" name=""/>
            <p:cNvGrpSpPr/>
            <p:nvPr/>
          </p:nvGrpSpPr>
          <p:grpSpPr>
            <a:xfrm>
              <a:off x="5932800" y="5437440"/>
              <a:ext cx="696240" cy="810720"/>
              <a:chOff x="5932800" y="5437440"/>
              <a:chExt cx="696240" cy="810720"/>
            </a:xfrm>
          </p:grpSpPr>
          <p:sp>
            <p:nvSpPr>
              <p:cNvPr id="496" name=""/>
              <p:cNvSpPr/>
              <p:nvPr/>
            </p:nvSpPr>
            <p:spPr>
              <a:xfrm>
                <a:off x="5949000" y="5523840"/>
                <a:ext cx="653760" cy="708120"/>
              </a:xfrm>
              <a:custGeom>
                <a:avLst/>
                <a:gdLst/>
                <a:ahLst/>
                <a:rect l="l" t="t" r="r" b="b"/>
                <a:pathLst>
                  <a:path w="4164" h="3761">
                    <a:moveTo>
                      <a:pt x="0" y="1840"/>
                    </a:moveTo>
                    <a:lnTo>
                      <a:pt x="731" y="1861"/>
                    </a:lnTo>
                    <a:lnTo>
                      <a:pt x="1837" y="2435"/>
                    </a:lnTo>
                    <a:lnTo>
                      <a:pt x="1575" y="2790"/>
                    </a:lnTo>
                    <a:lnTo>
                      <a:pt x="1243" y="3260"/>
                    </a:lnTo>
                    <a:lnTo>
                      <a:pt x="1389" y="3573"/>
                    </a:lnTo>
                    <a:lnTo>
                      <a:pt x="1889" y="3761"/>
                    </a:lnTo>
                    <a:lnTo>
                      <a:pt x="2619" y="3720"/>
                    </a:lnTo>
                    <a:lnTo>
                      <a:pt x="3016" y="3376"/>
                    </a:lnTo>
                    <a:lnTo>
                      <a:pt x="3392" y="1724"/>
                    </a:lnTo>
                    <a:lnTo>
                      <a:pt x="4164" y="429"/>
                    </a:lnTo>
                    <a:lnTo>
                      <a:pt x="4048" y="272"/>
                    </a:lnTo>
                    <a:lnTo>
                      <a:pt x="3434" y="62"/>
                    </a:lnTo>
                    <a:lnTo>
                      <a:pt x="2495" y="0"/>
                    </a:lnTo>
                    <a:lnTo>
                      <a:pt x="1377" y="209"/>
                    </a:lnTo>
                    <a:lnTo>
                      <a:pt x="543" y="846"/>
                    </a:lnTo>
                    <a:lnTo>
                      <a:pt x="157" y="1442"/>
                    </a:lnTo>
                    <a:lnTo>
                      <a:pt x="0" y="1840"/>
                    </a:lnTo>
                    <a:lnTo>
                      <a:pt x="0" y="1840"/>
                    </a:lnTo>
                    <a:close/>
                  </a:path>
                </a:pathLst>
              </a:custGeom>
              <a:solidFill>
                <a:srgbClr val="fbd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163560" y="5602680"/>
                <a:ext cx="293040" cy="151200"/>
              </a:xfrm>
              <a:custGeom>
                <a:avLst/>
                <a:gdLst/>
                <a:ahLst/>
                <a:rect l="l" t="t" r="r" b="b"/>
                <a:pathLst>
                  <a:path w="1866" h="804">
                    <a:moveTo>
                      <a:pt x="0" y="407"/>
                    </a:moveTo>
                    <a:lnTo>
                      <a:pt x="302" y="701"/>
                    </a:lnTo>
                    <a:lnTo>
                      <a:pt x="960" y="804"/>
                    </a:lnTo>
                    <a:lnTo>
                      <a:pt x="1617" y="637"/>
                    </a:lnTo>
                    <a:lnTo>
                      <a:pt x="1866" y="523"/>
                    </a:lnTo>
                    <a:lnTo>
                      <a:pt x="1648" y="220"/>
                    </a:lnTo>
                    <a:lnTo>
                      <a:pt x="1074" y="0"/>
                    </a:lnTo>
                    <a:lnTo>
                      <a:pt x="521" y="42"/>
                    </a:lnTo>
                    <a:lnTo>
                      <a:pt x="0" y="407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263640" y="5626440"/>
                <a:ext cx="93240" cy="108360"/>
              </a:xfrm>
              <a:custGeom>
                <a:avLst/>
                <a:gdLst/>
                <a:ahLst/>
                <a:rect l="l" t="t" r="r" b="b"/>
                <a:pathLst>
                  <a:path w="595" h="576">
                    <a:moveTo>
                      <a:pt x="407" y="0"/>
                    </a:moveTo>
                    <a:lnTo>
                      <a:pt x="167" y="0"/>
                    </a:lnTo>
                    <a:lnTo>
                      <a:pt x="0" y="242"/>
                    </a:lnTo>
                    <a:lnTo>
                      <a:pt x="104" y="491"/>
                    </a:lnTo>
                    <a:lnTo>
                      <a:pt x="397" y="576"/>
                    </a:lnTo>
                    <a:lnTo>
                      <a:pt x="595" y="314"/>
                    </a:lnTo>
                    <a:lnTo>
                      <a:pt x="407" y="0"/>
                    </a:lnTo>
                    <a:lnTo>
                      <a:pt x="407" y="0"/>
                    </a:lnTo>
                    <a:close/>
                  </a:path>
                </a:pathLst>
              </a:custGeom>
              <a:solidFill>
                <a:srgbClr val="99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148080" y="6117480"/>
                <a:ext cx="107640" cy="69840"/>
              </a:xfrm>
              <a:custGeom>
                <a:avLst/>
                <a:gdLst/>
                <a:ahLst/>
                <a:rect l="l" t="t" r="r" b="b"/>
                <a:pathLst>
                  <a:path w="686" h="373">
                    <a:moveTo>
                      <a:pt x="91" y="373"/>
                    </a:moveTo>
                    <a:lnTo>
                      <a:pt x="0" y="173"/>
                    </a:lnTo>
                    <a:lnTo>
                      <a:pt x="91" y="0"/>
                    </a:lnTo>
                    <a:lnTo>
                      <a:pt x="538" y="90"/>
                    </a:lnTo>
                    <a:lnTo>
                      <a:pt x="648" y="137"/>
                    </a:lnTo>
                    <a:lnTo>
                      <a:pt x="686" y="183"/>
                    </a:lnTo>
                    <a:lnTo>
                      <a:pt x="648" y="230"/>
                    </a:lnTo>
                    <a:lnTo>
                      <a:pt x="538" y="278"/>
                    </a:lnTo>
                    <a:lnTo>
                      <a:pt x="352" y="325"/>
                    </a:lnTo>
                    <a:lnTo>
                      <a:pt x="91" y="373"/>
                    </a:lnTo>
                    <a:lnTo>
                      <a:pt x="91" y="373"/>
                    </a:lnTo>
                    <a:close/>
                  </a:path>
                </a:pathLst>
              </a:custGeom>
              <a:solidFill>
                <a:srgbClr val="d42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932800" y="5787360"/>
                <a:ext cx="393480" cy="203760"/>
              </a:xfrm>
              <a:custGeom>
                <a:avLst/>
                <a:gdLst/>
                <a:ahLst/>
                <a:rect l="l" t="t" r="r" b="b"/>
                <a:pathLst>
                  <a:path w="2505" h="1083">
                    <a:moveTo>
                      <a:pt x="67" y="604"/>
                    </a:moveTo>
                    <a:lnTo>
                      <a:pt x="399" y="587"/>
                    </a:lnTo>
                    <a:lnTo>
                      <a:pt x="844" y="612"/>
                    </a:lnTo>
                    <a:lnTo>
                      <a:pt x="1087" y="713"/>
                    </a:lnTo>
                    <a:lnTo>
                      <a:pt x="1224" y="787"/>
                    </a:lnTo>
                    <a:lnTo>
                      <a:pt x="1361" y="866"/>
                    </a:lnTo>
                    <a:lnTo>
                      <a:pt x="1498" y="943"/>
                    </a:lnTo>
                    <a:lnTo>
                      <a:pt x="1627" y="1011"/>
                    </a:lnTo>
                    <a:lnTo>
                      <a:pt x="1743" y="1058"/>
                    </a:lnTo>
                    <a:lnTo>
                      <a:pt x="1844" y="1083"/>
                    </a:lnTo>
                    <a:lnTo>
                      <a:pt x="2100" y="1055"/>
                    </a:lnTo>
                    <a:lnTo>
                      <a:pt x="2311" y="918"/>
                    </a:lnTo>
                    <a:lnTo>
                      <a:pt x="2452" y="707"/>
                    </a:lnTo>
                    <a:lnTo>
                      <a:pt x="2505" y="454"/>
                    </a:lnTo>
                    <a:lnTo>
                      <a:pt x="2469" y="245"/>
                    </a:lnTo>
                    <a:lnTo>
                      <a:pt x="2425" y="161"/>
                    </a:lnTo>
                    <a:lnTo>
                      <a:pt x="2366" y="95"/>
                    </a:lnTo>
                    <a:lnTo>
                      <a:pt x="2294" y="42"/>
                    </a:lnTo>
                    <a:lnTo>
                      <a:pt x="2209" y="9"/>
                    </a:lnTo>
                    <a:lnTo>
                      <a:pt x="1999" y="0"/>
                    </a:lnTo>
                    <a:lnTo>
                      <a:pt x="1836" y="66"/>
                    </a:lnTo>
                    <a:lnTo>
                      <a:pt x="1718" y="203"/>
                    </a:lnTo>
                    <a:lnTo>
                      <a:pt x="1648" y="367"/>
                    </a:lnTo>
                    <a:lnTo>
                      <a:pt x="1629" y="513"/>
                    </a:lnTo>
                    <a:lnTo>
                      <a:pt x="1648" y="574"/>
                    </a:lnTo>
                    <a:lnTo>
                      <a:pt x="1688" y="616"/>
                    </a:lnTo>
                    <a:lnTo>
                      <a:pt x="1806" y="642"/>
                    </a:lnTo>
                    <a:lnTo>
                      <a:pt x="1923" y="595"/>
                    </a:lnTo>
                    <a:lnTo>
                      <a:pt x="1984" y="479"/>
                    </a:lnTo>
                    <a:lnTo>
                      <a:pt x="1969" y="370"/>
                    </a:lnTo>
                    <a:lnTo>
                      <a:pt x="1929" y="308"/>
                    </a:lnTo>
                    <a:lnTo>
                      <a:pt x="1876" y="222"/>
                    </a:lnTo>
                    <a:lnTo>
                      <a:pt x="1895" y="171"/>
                    </a:lnTo>
                    <a:lnTo>
                      <a:pt x="1937" y="133"/>
                    </a:lnTo>
                    <a:lnTo>
                      <a:pt x="2041" y="99"/>
                    </a:lnTo>
                    <a:lnTo>
                      <a:pt x="2157" y="129"/>
                    </a:lnTo>
                    <a:lnTo>
                      <a:pt x="2248" y="205"/>
                    </a:lnTo>
                    <a:lnTo>
                      <a:pt x="2332" y="429"/>
                    </a:lnTo>
                    <a:lnTo>
                      <a:pt x="2311" y="572"/>
                    </a:lnTo>
                    <a:lnTo>
                      <a:pt x="2254" y="709"/>
                    </a:lnTo>
                    <a:lnTo>
                      <a:pt x="2212" y="768"/>
                    </a:lnTo>
                    <a:lnTo>
                      <a:pt x="2167" y="819"/>
                    </a:lnTo>
                    <a:lnTo>
                      <a:pt x="2115" y="855"/>
                    </a:lnTo>
                    <a:lnTo>
                      <a:pt x="2058" y="876"/>
                    </a:lnTo>
                    <a:lnTo>
                      <a:pt x="1800" y="853"/>
                    </a:lnTo>
                    <a:lnTo>
                      <a:pt x="1678" y="798"/>
                    </a:lnTo>
                    <a:lnTo>
                      <a:pt x="1562" y="728"/>
                    </a:lnTo>
                    <a:lnTo>
                      <a:pt x="1450" y="650"/>
                    </a:lnTo>
                    <a:lnTo>
                      <a:pt x="1342" y="572"/>
                    </a:lnTo>
                    <a:lnTo>
                      <a:pt x="1239" y="503"/>
                    </a:lnTo>
                    <a:lnTo>
                      <a:pt x="1140" y="454"/>
                    </a:lnTo>
                    <a:lnTo>
                      <a:pt x="939" y="393"/>
                    </a:lnTo>
                    <a:lnTo>
                      <a:pt x="713" y="349"/>
                    </a:lnTo>
                    <a:lnTo>
                      <a:pt x="247" y="338"/>
                    </a:lnTo>
                    <a:lnTo>
                      <a:pt x="131" y="387"/>
                    </a:lnTo>
                    <a:lnTo>
                      <a:pt x="0" y="551"/>
                    </a:lnTo>
                    <a:lnTo>
                      <a:pt x="67" y="604"/>
                    </a:lnTo>
                    <a:lnTo>
                      <a:pt x="67" y="6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932800" y="5514120"/>
                <a:ext cx="681480" cy="734040"/>
              </a:xfrm>
              <a:custGeom>
                <a:avLst/>
                <a:gdLst/>
                <a:ahLst/>
                <a:rect l="l" t="t" r="r" b="b"/>
                <a:pathLst>
                  <a:path w="4339" h="3901">
                    <a:moveTo>
                      <a:pt x="247" y="1892"/>
                    </a:moveTo>
                    <a:lnTo>
                      <a:pt x="321" y="1671"/>
                    </a:lnTo>
                    <a:lnTo>
                      <a:pt x="371" y="1550"/>
                    </a:lnTo>
                    <a:lnTo>
                      <a:pt x="428" y="1424"/>
                    </a:lnTo>
                    <a:lnTo>
                      <a:pt x="496" y="1295"/>
                    </a:lnTo>
                    <a:lnTo>
                      <a:pt x="578" y="1166"/>
                    </a:lnTo>
                    <a:lnTo>
                      <a:pt x="673" y="1035"/>
                    </a:lnTo>
                    <a:lnTo>
                      <a:pt x="785" y="907"/>
                    </a:lnTo>
                    <a:lnTo>
                      <a:pt x="914" y="784"/>
                    </a:lnTo>
                    <a:lnTo>
                      <a:pt x="1062" y="666"/>
                    </a:lnTo>
                    <a:lnTo>
                      <a:pt x="1144" y="609"/>
                    </a:lnTo>
                    <a:lnTo>
                      <a:pt x="1232" y="554"/>
                    </a:lnTo>
                    <a:lnTo>
                      <a:pt x="1325" y="502"/>
                    </a:lnTo>
                    <a:lnTo>
                      <a:pt x="1422" y="453"/>
                    </a:lnTo>
                    <a:lnTo>
                      <a:pt x="1526" y="407"/>
                    </a:lnTo>
                    <a:lnTo>
                      <a:pt x="1636" y="364"/>
                    </a:lnTo>
                    <a:lnTo>
                      <a:pt x="1752" y="324"/>
                    </a:lnTo>
                    <a:lnTo>
                      <a:pt x="1876" y="286"/>
                    </a:lnTo>
                    <a:lnTo>
                      <a:pt x="2144" y="223"/>
                    </a:lnTo>
                    <a:lnTo>
                      <a:pt x="2439" y="177"/>
                    </a:lnTo>
                    <a:lnTo>
                      <a:pt x="2866" y="153"/>
                    </a:lnTo>
                    <a:lnTo>
                      <a:pt x="3336" y="183"/>
                    </a:lnTo>
                    <a:lnTo>
                      <a:pt x="3792" y="284"/>
                    </a:lnTo>
                    <a:lnTo>
                      <a:pt x="3999" y="364"/>
                    </a:lnTo>
                    <a:lnTo>
                      <a:pt x="4183" y="468"/>
                    </a:lnTo>
                    <a:lnTo>
                      <a:pt x="4172" y="519"/>
                    </a:lnTo>
                    <a:lnTo>
                      <a:pt x="4103" y="633"/>
                    </a:lnTo>
                    <a:lnTo>
                      <a:pt x="4054" y="709"/>
                    </a:lnTo>
                    <a:lnTo>
                      <a:pt x="3997" y="795"/>
                    </a:lnTo>
                    <a:lnTo>
                      <a:pt x="3932" y="890"/>
                    </a:lnTo>
                    <a:lnTo>
                      <a:pt x="3864" y="991"/>
                    </a:lnTo>
                    <a:lnTo>
                      <a:pt x="3792" y="1097"/>
                    </a:lnTo>
                    <a:lnTo>
                      <a:pt x="3718" y="1206"/>
                    </a:lnTo>
                    <a:lnTo>
                      <a:pt x="3645" y="1318"/>
                    </a:lnTo>
                    <a:lnTo>
                      <a:pt x="3577" y="1426"/>
                    </a:lnTo>
                    <a:lnTo>
                      <a:pt x="3512" y="1534"/>
                    </a:lnTo>
                    <a:lnTo>
                      <a:pt x="3453" y="1637"/>
                    </a:lnTo>
                    <a:lnTo>
                      <a:pt x="3364" y="1825"/>
                    </a:lnTo>
                    <a:lnTo>
                      <a:pt x="3250" y="2186"/>
                    </a:lnTo>
                    <a:lnTo>
                      <a:pt x="3159" y="2572"/>
                    </a:lnTo>
                    <a:lnTo>
                      <a:pt x="3077" y="2964"/>
                    </a:lnTo>
                    <a:lnTo>
                      <a:pt x="2992" y="3340"/>
                    </a:lnTo>
                    <a:lnTo>
                      <a:pt x="2965" y="3405"/>
                    </a:lnTo>
                    <a:lnTo>
                      <a:pt x="2916" y="3485"/>
                    </a:lnTo>
                    <a:lnTo>
                      <a:pt x="2857" y="3559"/>
                    </a:lnTo>
                    <a:lnTo>
                      <a:pt x="2802" y="3604"/>
                    </a:lnTo>
                    <a:lnTo>
                      <a:pt x="2708" y="3652"/>
                    </a:lnTo>
                    <a:lnTo>
                      <a:pt x="2591" y="3696"/>
                    </a:lnTo>
                    <a:lnTo>
                      <a:pt x="2372" y="3738"/>
                    </a:lnTo>
                    <a:lnTo>
                      <a:pt x="1847" y="3690"/>
                    </a:lnTo>
                    <a:lnTo>
                      <a:pt x="1635" y="3604"/>
                    </a:lnTo>
                    <a:lnTo>
                      <a:pt x="1521" y="3439"/>
                    </a:lnTo>
                    <a:lnTo>
                      <a:pt x="1524" y="3253"/>
                    </a:lnTo>
                    <a:lnTo>
                      <a:pt x="1559" y="3158"/>
                    </a:lnTo>
                    <a:lnTo>
                      <a:pt x="1608" y="3063"/>
                    </a:lnTo>
                    <a:lnTo>
                      <a:pt x="1674" y="2970"/>
                    </a:lnTo>
                    <a:lnTo>
                      <a:pt x="1749" y="2880"/>
                    </a:lnTo>
                    <a:lnTo>
                      <a:pt x="1834" y="2797"/>
                    </a:lnTo>
                    <a:lnTo>
                      <a:pt x="1925" y="2719"/>
                    </a:lnTo>
                    <a:lnTo>
                      <a:pt x="2032" y="2631"/>
                    </a:lnTo>
                    <a:lnTo>
                      <a:pt x="2155" y="2521"/>
                    </a:lnTo>
                    <a:lnTo>
                      <a:pt x="2285" y="2390"/>
                    </a:lnTo>
                    <a:lnTo>
                      <a:pt x="2406" y="2238"/>
                    </a:lnTo>
                    <a:lnTo>
                      <a:pt x="1827" y="2479"/>
                    </a:lnTo>
                    <a:lnTo>
                      <a:pt x="1800" y="2595"/>
                    </a:lnTo>
                    <a:lnTo>
                      <a:pt x="1739" y="2715"/>
                    </a:lnTo>
                    <a:lnTo>
                      <a:pt x="1654" y="2838"/>
                    </a:lnTo>
                    <a:lnTo>
                      <a:pt x="1555" y="2960"/>
                    </a:lnTo>
                    <a:lnTo>
                      <a:pt x="1458" y="3082"/>
                    </a:lnTo>
                    <a:lnTo>
                      <a:pt x="1372" y="3203"/>
                    </a:lnTo>
                    <a:lnTo>
                      <a:pt x="1291" y="3430"/>
                    </a:lnTo>
                    <a:lnTo>
                      <a:pt x="1304" y="3502"/>
                    </a:lnTo>
                    <a:lnTo>
                      <a:pt x="1340" y="3570"/>
                    </a:lnTo>
                    <a:lnTo>
                      <a:pt x="1393" y="3637"/>
                    </a:lnTo>
                    <a:lnTo>
                      <a:pt x="1460" y="3696"/>
                    </a:lnTo>
                    <a:lnTo>
                      <a:pt x="1536" y="3749"/>
                    </a:lnTo>
                    <a:lnTo>
                      <a:pt x="1610" y="3793"/>
                    </a:lnTo>
                    <a:lnTo>
                      <a:pt x="1743" y="3844"/>
                    </a:lnTo>
                    <a:lnTo>
                      <a:pt x="1971" y="3880"/>
                    </a:lnTo>
                    <a:lnTo>
                      <a:pt x="2218" y="3901"/>
                    </a:lnTo>
                    <a:lnTo>
                      <a:pt x="2686" y="3869"/>
                    </a:lnTo>
                    <a:lnTo>
                      <a:pt x="2864" y="3802"/>
                    </a:lnTo>
                    <a:lnTo>
                      <a:pt x="3028" y="3675"/>
                    </a:lnTo>
                    <a:lnTo>
                      <a:pt x="3166" y="3511"/>
                    </a:lnTo>
                    <a:lnTo>
                      <a:pt x="3265" y="3331"/>
                    </a:lnTo>
                    <a:lnTo>
                      <a:pt x="3374" y="2989"/>
                    </a:lnTo>
                    <a:lnTo>
                      <a:pt x="3453" y="2601"/>
                    </a:lnTo>
                    <a:lnTo>
                      <a:pt x="3526" y="2209"/>
                    </a:lnTo>
                    <a:lnTo>
                      <a:pt x="3567" y="2025"/>
                    </a:lnTo>
                    <a:lnTo>
                      <a:pt x="3611" y="1858"/>
                    </a:lnTo>
                    <a:lnTo>
                      <a:pt x="3676" y="1690"/>
                    </a:lnTo>
                    <a:lnTo>
                      <a:pt x="3759" y="1523"/>
                    </a:lnTo>
                    <a:lnTo>
                      <a:pt x="3858" y="1354"/>
                    </a:lnTo>
                    <a:lnTo>
                      <a:pt x="3963" y="1187"/>
                    </a:lnTo>
                    <a:lnTo>
                      <a:pt x="4016" y="1101"/>
                    </a:lnTo>
                    <a:lnTo>
                      <a:pt x="4071" y="1017"/>
                    </a:lnTo>
                    <a:lnTo>
                      <a:pt x="4172" y="848"/>
                    </a:lnTo>
                    <a:lnTo>
                      <a:pt x="4263" y="679"/>
                    </a:lnTo>
                    <a:lnTo>
                      <a:pt x="4339" y="510"/>
                    </a:lnTo>
                    <a:lnTo>
                      <a:pt x="4316" y="381"/>
                    </a:lnTo>
                    <a:lnTo>
                      <a:pt x="4273" y="261"/>
                    </a:lnTo>
                    <a:lnTo>
                      <a:pt x="4153" y="219"/>
                    </a:lnTo>
                    <a:lnTo>
                      <a:pt x="4033" y="183"/>
                    </a:lnTo>
                    <a:lnTo>
                      <a:pt x="3792" y="118"/>
                    </a:lnTo>
                    <a:lnTo>
                      <a:pt x="3547" y="69"/>
                    </a:lnTo>
                    <a:lnTo>
                      <a:pt x="3301" y="35"/>
                    </a:lnTo>
                    <a:lnTo>
                      <a:pt x="2813" y="0"/>
                    </a:lnTo>
                    <a:lnTo>
                      <a:pt x="2332" y="12"/>
                    </a:lnTo>
                    <a:lnTo>
                      <a:pt x="1865" y="86"/>
                    </a:lnTo>
                    <a:lnTo>
                      <a:pt x="1644" y="153"/>
                    </a:lnTo>
                    <a:lnTo>
                      <a:pt x="1431" y="236"/>
                    </a:lnTo>
                    <a:lnTo>
                      <a:pt x="1329" y="284"/>
                    </a:lnTo>
                    <a:lnTo>
                      <a:pt x="1228" y="335"/>
                    </a:lnTo>
                    <a:lnTo>
                      <a:pt x="1131" y="390"/>
                    </a:lnTo>
                    <a:lnTo>
                      <a:pt x="1036" y="447"/>
                    </a:lnTo>
                    <a:lnTo>
                      <a:pt x="945" y="510"/>
                    </a:lnTo>
                    <a:lnTo>
                      <a:pt x="857" y="575"/>
                    </a:lnTo>
                    <a:lnTo>
                      <a:pt x="692" y="711"/>
                    </a:lnTo>
                    <a:lnTo>
                      <a:pt x="540" y="858"/>
                    </a:lnTo>
                    <a:lnTo>
                      <a:pt x="405" y="1012"/>
                    </a:lnTo>
                    <a:lnTo>
                      <a:pt x="344" y="1092"/>
                    </a:lnTo>
                    <a:lnTo>
                      <a:pt x="287" y="1171"/>
                    </a:lnTo>
                    <a:lnTo>
                      <a:pt x="188" y="1337"/>
                    </a:lnTo>
                    <a:lnTo>
                      <a:pt x="49" y="1673"/>
                    </a:lnTo>
                    <a:lnTo>
                      <a:pt x="0" y="2008"/>
                    </a:lnTo>
                    <a:lnTo>
                      <a:pt x="247" y="1892"/>
                    </a:lnTo>
                    <a:lnTo>
                      <a:pt x="247" y="18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45560" y="5587200"/>
                <a:ext cx="344880" cy="181080"/>
              </a:xfrm>
              <a:custGeom>
                <a:avLst/>
                <a:gdLst/>
                <a:ahLst/>
                <a:rect l="l" t="t" r="r" b="b"/>
                <a:pathLst>
                  <a:path w="2199" h="962">
                    <a:moveTo>
                      <a:pt x="1844" y="692"/>
                    </a:moveTo>
                    <a:lnTo>
                      <a:pt x="1749" y="742"/>
                    </a:lnTo>
                    <a:lnTo>
                      <a:pt x="1648" y="791"/>
                    </a:lnTo>
                    <a:lnTo>
                      <a:pt x="1540" y="837"/>
                    </a:lnTo>
                    <a:lnTo>
                      <a:pt x="1426" y="877"/>
                    </a:lnTo>
                    <a:lnTo>
                      <a:pt x="1184" y="937"/>
                    </a:lnTo>
                    <a:lnTo>
                      <a:pt x="935" y="962"/>
                    </a:lnTo>
                    <a:lnTo>
                      <a:pt x="682" y="941"/>
                    </a:lnTo>
                    <a:lnTo>
                      <a:pt x="437" y="859"/>
                    </a:lnTo>
                    <a:lnTo>
                      <a:pt x="319" y="793"/>
                    </a:lnTo>
                    <a:lnTo>
                      <a:pt x="207" y="709"/>
                    </a:lnTo>
                    <a:lnTo>
                      <a:pt x="101" y="603"/>
                    </a:lnTo>
                    <a:lnTo>
                      <a:pt x="0" y="477"/>
                    </a:lnTo>
                    <a:lnTo>
                      <a:pt x="53" y="411"/>
                    </a:lnTo>
                    <a:lnTo>
                      <a:pt x="108" y="350"/>
                    </a:lnTo>
                    <a:lnTo>
                      <a:pt x="224" y="244"/>
                    </a:lnTo>
                    <a:lnTo>
                      <a:pt x="285" y="198"/>
                    </a:lnTo>
                    <a:lnTo>
                      <a:pt x="350" y="158"/>
                    </a:lnTo>
                    <a:lnTo>
                      <a:pt x="481" y="91"/>
                    </a:lnTo>
                    <a:lnTo>
                      <a:pt x="620" y="44"/>
                    </a:lnTo>
                    <a:lnTo>
                      <a:pt x="762" y="14"/>
                    </a:lnTo>
                    <a:lnTo>
                      <a:pt x="1057" y="0"/>
                    </a:lnTo>
                    <a:lnTo>
                      <a:pt x="1357" y="42"/>
                    </a:lnTo>
                    <a:lnTo>
                      <a:pt x="1654" y="135"/>
                    </a:lnTo>
                    <a:lnTo>
                      <a:pt x="1798" y="198"/>
                    </a:lnTo>
                    <a:lnTo>
                      <a:pt x="1937" y="268"/>
                    </a:lnTo>
                    <a:lnTo>
                      <a:pt x="2072" y="348"/>
                    </a:lnTo>
                    <a:lnTo>
                      <a:pt x="2199" y="436"/>
                    </a:lnTo>
                    <a:lnTo>
                      <a:pt x="2093" y="538"/>
                    </a:lnTo>
                    <a:lnTo>
                      <a:pt x="1992" y="633"/>
                    </a:lnTo>
                    <a:lnTo>
                      <a:pt x="1901" y="559"/>
                    </a:lnTo>
                    <a:lnTo>
                      <a:pt x="1804" y="489"/>
                    </a:lnTo>
                    <a:lnTo>
                      <a:pt x="1701" y="422"/>
                    </a:lnTo>
                    <a:lnTo>
                      <a:pt x="1593" y="360"/>
                    </a:lnTo>
                    <a:lnTo>
                      <a:pt x="1483" y="302"/>
                    </a:lnTo>
                    <a:lnTo>
                      <a:pt x="1371" y="255"/>
                    </a:lnTo>
                    <a:lnTo>
                      <a:pt x="1255" y="215"/>
                    </a:lnTo>
                    <a:lnTo>
                      <a:pt x="1139" y="187"/>
                    </a:lnTo>
                    <a:lnTo>
                      <a:pt x="905" y="166"/>
                    </a:lnTo>
                    <a:lnTo>
                      <a:pt x="677" y="200"/>
                    </a:lnTo>
                    <a:lnTo>
                      <a:pt x="462" y="304"/>
                    </a:lnTo>
                    <a:lnTo>
                      <a:pt x="264" y="485"/>
                    </a:lnTo>
                    <a:lnTo>
                      <a:pt x="318" y="563"/>
                    </a:lnTo>
                    <a:lnTo>
                      <a:pt x="384" y="628"/>
                    </a:lnTo>
                    <a:lnTo>
                      <a:pt x="464" y="677"/>
                    </a:lnTo>
                    <a:lnTo>
                      <a:pt x="555" y="717"/>
                    </a:lnTo>
                    <a:lnTo>
                      <a:pt x="760" y="764"/>
                    </a:lnTo>
                    <a:lnTo>
                      <a:pt x="990" y="778"/>
                    </a:lnTo>
                    <a:lnTo>
                      <a:pt x="1456" y="743"/>
                    </a:lnTo>
                    <a:lnTo>
                      <a:pt x="1844" y="692"/>
                    </a:lnTo>
                    <a:lnTo>
                      <a:pt x="1844" y="6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296040" y="5657760"/>
                <a:ext cx="28440" cy="34200"/>
              </a:xfrm>
              <a:custGeom>
                <a:avLst/>
                <a:gdLst/>
                <a:ahLst/>
                <a:rect l="l" t="t" r="r" b="b"/>
                <a:pathLst>
                  <a:path w="181" h="182">
                    <a:moveTo>
                      <a:pt x="91" y="0"/>
                    </a:moveTo>
                    <a:lnTo>
                      <a:pt x="154" y="28"/>
                    </a:lnTo>
                    <a:lnTo>
                      <a:pt x="181" y="91"/>
                    </a:lnTo>
                    <a:lnTo>
                      <a:pt x="154" y="155"/>
                    </a:lnTo>
                    <a:lnTo>
                      <a:pt x="91" y="182"/>
                    </a:lnTo>
                    <a:lnTo>
                      <a:pt x="27" y="155"/>
                    </a:lnTo>
                    <a:lnTo>
                      <a:pt x="0" y="91"/>
                    </a:lnTo>
                    <a:lnTo>
                      <a:pt x="27" y="28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290640" y="5608080"/>
                <a:ext cx="75240" cy="133560"/>
              </a:xfrm>
              <a:custGeom>
                <a:avLst/>
                <a:gdLst/>
                <a:ahLst/>
                <a:rect l="l" t="t" r="r" b="b"/>
                <a:pathLst>
                  <a:path w="479" h="711">
                    <a:moveTo>
                      <a:pt x="125" y="711"/>
                    </a:moveTo>
                    <a:lnTo>
                      <a:pt x="0" y="630"/>
                    </a:lnTo>
                    <a:lnTo>
                      <a:pt x="125" y="555"/>
                    </a:lnTo>
                    <a:lnTo>
                      <a:pt x="268" y="495"/>
                    </a:lnTo>
                    <a:lnTo>
                      <a:pt x="330" y="348"/>
                    </a:lnTo>
                    <a:lnTo>
                      <a:pt x="313" y="268"/>
                    </a:lnTo>
                    <a:lnTo>
                      <a:pt x="268" y="200"/>
                    </a:lnTo>
                    <a:lnTo>
                      <a:pt x="201" y="151"/>
                    </a:lnTo>
                    <a:lnTo>
                      <a:pt x="125" y="133"/>
                    </a:lnTo>
                    <a:lnTo>
                      <a:pt x="0" y="75"/>
                    </a:lnTo>
                    <a:lnTo>
                      <a:pt x="125" y="0"/>
                    </a:lnTo>
                    <a:lnTo>
                      <a:pt x="264" y="29"/>
                    </a:lnTo>
                    <a:lnTo>
                      <a:pt x="376" y="103"/>
                    </a:lnTo>
                    <a:lnTo>
                      <a:pt x="452" y="217"/>
                    </a:lnTo>
                    <a:lnTo>
                      <a:pt x="479" y="356"/>
                    </a:lnTo>
                    <a:lnTo>
                      <a:pt x="452" y="495"/>
                    </a:lnTo>
                    <a:lnTo>
                      <a:pt x="420" y="557"/>
                    </a:lnTo>
                    <a:lnTo>
                      <a:pt x="376" y="609"/>
                    </a:lnTo>
                    <a:lnTo>
                      <a:pt x="323" y="652"/>
                    </a:lnTo>
                    <a:lnTo>
                      <a:pt x="264" y="685"/>
                    </a:lnTo>
                    <a:lnTo>
                      <a:pt x="125" y="711"/>
                    </a:lnTo>
                    <a:lnTo>
                      <a:pt x="125" y="7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254280" y="5608080"/>
                <a:ext cx="75600" cy="133560"/>
              </a:xfrm>
              <a:custGeom>
                <a:avLst/>
                <a:gdLst/>
                <a:ahLst/>
                <a:rect l="l" t="t" r="r" b="b"/>
                <a:pathLst>
                  <a:path w="481" h="711">
                    <a:moveTo>
                      <a:pt x="357" y="711"/>
                    </a:moveTo>
                    <a:lnTo>
                      <a:pt x="481" y="630"/>
                    </a:lnTo>
                    <a:lnTo>
                      <a:pt x="357" y="555"/>
                    </a:lnTo>
                    <a:lnTo>
                      <a:pt x="217" y="495"/>
                    </a:lnTo>
                    <a:lnTo>
                      <a:pt x="158" y="348"/>
                    </a:lnTo>
                    <a:lnTo>
                      <a:pt x="175" y="268"/>
                    </a:lnTo>
                    <a:lnTo>
                      <a:pt x="217" y="200"/>
                    </a:lnTo>
                    <a:lnTo>
                      <a:pt x="279" y="151"/>
                    </a:lnTo>
                    <a:lnTo>
                      <a:pt x="357" y="133"/>
                    </a:lnTo>
                    <a:lnTo>
                      <a:pt x="481" y="75"/>
                    </a:lnTo>
                    <a:lnTo>
                      <a:pt x="357" y="0"/>
                    </a:lnTo>
                    <a:lnTo>
                      <a:pt x="217" y="29"/>
                    </a:lnTo>
                    <a:lnTo>
                      <a:pt x="104" y="103"/>
                    </a:lnTo>
                    <a:lnTo>
                      <a:pt x="28" y="217"/>
                    </a:lnTo>
                    <a:lnTo>
                      <a:pt x="0" y="356"/>
                    </a:lnTo>
                    <a:lnTo>
                      <a:pt x="28" y="495"/>
                    </a:lnTo>
                    <a:lnTo>
                      <a:pt x="61" y="557"/>
                    </a:lnTo>
                    <a:lnTo>
                      <a:pt x="104" y="609"/>
                    </a:lnTo>
                    <a:lnTo>
                      <a:pt x="158" y="652"/>
                    </a:lnTo>
                    <a:lnTo>
                      <a:pt x="217" y="685"/>
                    </a:lnTo>
                    <a:lnTo>
                      <a:pt x="357" y="711"/>
                    </a:lnTo>
                    <a:lnTo>
                      <a:pt x="357" y="7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401160" y="5590800"/>
                <a:ext cx="119160" cy="110520"/>
              </a:xfrm>
              <a:custGeom>
                <a:avLst/>
                <a:gdLst/>
                <a:ahLst/>
                <a:rect l="l" t="t" r="r" b="b"/>
                <a:pathLst>
                  <a:path w="760" h="588">
                    <a:moveTo>
                      <a:pt x="380" y="588"/>
                    </a:moveTo>
                    <a:lnTo>
                      <a:pt x="760" y="264"/>
                    </a:lnTo>
                    <a:lnTo>
                      <a:pt x="447" y="316"/>
                    </a:lnTo>
                    <a:lnTo>
                      <a:pt x="528" y="91"/>
                    </a:lnTo>
                    <a:lnTo>
                      <a:pt x="239" y="215"/>
                    </a:lnTo>
                    <a:lnTo>
                      <a:pt x="274" y="0"/>
                    </a:lnTo>
                    <a:lnTo>
                      <a:pt x="0" y="158"/>
                    </a:lnTo>
                    <a:lnTo>
                      <a:pt x="380" y="588"/>
                    </a:lnTo>
                    <a:lnTo>
                      <a:pt x="380" y="5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332400" y="5439960"/>
                <a:ext cx="42120" cy="91080"/>
              </a:xfrm>
              <a:custGeom>
                <a:avLst/>
                <a:gdLst/>
                <a:ahLst/>
                <a:rect l="l" t="t" r="r" b="b"/>
                <a:pathLst>
                  <a:path w="270" h="485">
                    <a:moveTo>
                      <a:pt x="23" y="464"/>
                    </a:moveTo>
                    <a:lnTo>
                      <a:pt x="0" y="317"/>
                    </a:lnTo>
                    <a:lnTo>
                      <a:pt x="32" y="173"/>
                    </a:lnTo>
                    <a:lnTo>
                      <a:pt x="72" y="108"/>
                    </a:lnTo>
                    <a:lnTo>
                      <a:pt x="125" y="49"/>
                    </a:lnTo>
                    <a:lnTo>
                      <a:pt x="188" y="8"/>
                    </a:lnTo>
                    <a:lnTo>
                      <a:pt x="255" y="0"/>
                    </a:lnTo>
                    <a:lnTo>
                      <a:pt x="270" y="25"/>
                    </a:lnTo>
                    <a:lnTo>
                      <a:pt x="237" y="78"/>
                    </a:lnTo>
                    <a:lnTo>
                      <a:pt x="156" y="198"/>
                    </a:lnTo>
                    <a:lnTo>
                      <a:pt x="148" y="454"/>
                    </a:lnTo>
                    <a:lnTo>
                      <a:pt x="85" y="485"/>
                    </a:lnTo>
                    <a:lnTo>
                      <a:pt x="23" y="464"/>
                    </a:lnTo>
                    <a:lnTo>
                      <a:pt x="23" y="4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390000" y="5439960"/>
                <a:ext cx="49680" cy="8712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13" y="454"/>
                    </a:moveTo>
                    <a:lnTo>
                      <a:pt x="0" y="306"/>
                    </a:lnTo>
                    <a:lnTo>
                      <a:pt x="45" y="165"/>
                    </a:lnTo>
                    <a:lnTo>
                      <a:pt x="97" y="99"/>
                    </a:lnTo>
                    <a:lnTo>
                      <a:pt x="161" y="40"/>
                    </a:lnTo>
                    <a:lnTo>
                      <a:pt x="235" y="0"/>
                    </a:lnTo>
                    <a:lnTo>
                      <a:pt x="309" y="0"/>
                    </a:lnTo>
                    <a:lnTo>
                      <a:pt x="319" y="27"/>
                    </a:lnTo>
                    <a:lnTo>
                      <a:pt x="273" y="78"/>
                    </a:lnTo>
                    <a:lnTo>
                      <a:pt x="169" y="198"/>
                    </a:lnTo>
                    <a:lnTo>
                      <a:pt x="127" y="464"/>
                    </a:lnTo>
                    <a:lnTo>
                      <a:pt x="13" y="454"/>
                    </a:lnTo>
                    <a:lnTo>
                      <a:pt x="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6520" y="5437440"/>
                <a:ext cx="59400" cy="89640"/>
              </a:xfrm>
              <a:custGeom>
                <a:avLst/>
                <a:gdLst/>
                <a:ahLst/>
                <a:rect l="l" t="t" r="r" b="b"/>
                <a:pathLst>
                  <a:path w="378" h="477">
                    <a:moveTo>
                      <a:pt x="0" y="460"/>
                    </a:moveTo>
                    <a:lnTo>
                      <a:pt x="7" y="308"/>
                    </a:lnTo>
                    <a:lnTo>
                      <a:pt x="66" y="161"/>
                    </a:lnTo>
                    <a:lnTo>
                      <a:pt x="127" y="97"/>
                    </a:lnTo>
                    <a:lnTo>
                      <a:pt x="205" y="36"/>
                    </a:lnTo>
                    <a:lnTo>
                      <a:pt x="289" y="0"/>
                    </a:lnTo>
                    <a:lnTo>
                      <a:pt x="365" y="5"/>
                    </a:lnTo>
                    <a:lnTo>
                      <a:pt x="378" y="43"/>
                    </a:lnTo>
                    <a:lnTo>
                      <a:pt x="323" y="95"/>
                    </a:lnTo>
                    <a:lnTo>
                      <a:pt x="190" y="211"/>
                    </a:lnTo>
                    <a:lnTo>
                      <a:pt x="108" y="477"/>
                    </a:lnTo>
                    <a:lnTo>
                      <a:pt x="0" y="460"/>
                    </a:lnTo>
                    <a:lnTo>
                      <a:pt x="0" y="4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502320" y="5451120"/>
                <a:ext cx="68760" cy="93960"/>
              </a:xfrm>
              <a:custGeom>
                <a:avLst/>
                <a:gdLst/>
                <a:ahLst/>
                <a:rect l="l" t="t" r="r" b="b"/>
                <a:pathLst>
                  <a:path w="439" h="500">
                    <a:moveTo>
                      <a:pt x="0" y="467"/>
                    </a:moveTo>
                    <a:lnTo>
                      <a:pt x="16" y="306"/>
                    </a:lnTo>
                    <a:lnTo>
                      <a:pt x="44" y="228"/>
                    </a:lnTo>
                    <a:lnTo>
                      <a:pt x="92" y="161"/>
                    </a:lnTo>
                    <a:lnTo>
                      <a:pt x="166" y="95"/>
                    </a:lnTo>
                    <a:lnTo>
                      <a:pt x="255" y="34"/>
                    </a:lnTo>
                    <a:lnTo>
                      <a:pt x="348" y="0"/>
                    </a:lnTo>
                    <a:lnTo>
                      <a:pt x="430" y="13"/>
                    </a:lnTo>
                    <a:lnTo>
                      <a:pt x="439" y="55"/>
                    </a:lnTo>
                    <a:lnTo>
                      <a:pt x="371" y="104"/>
                    </a:lnTo>
                    <a:lnTo>
                      <a:pt x="278" y="160"/>
                    </a:lnTo>
                    <a:lnTo>
                      <a:pt x="207" y="220"/>
                    </a:lnTo>
                    <a:lnTo>
                      <a:pt x="99" y="492"/>
                    </a:lnTo>
                    <a:lnTo>
                      <a:pt x="42" y="500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550200" y="5473080"/>
                <a:ext cx="78840" cy="95760"/>
              </a:xfrm>
              <a:custGeom>
                <a:avLst/>
                <a:gdLst/>
                <a:ahLst/>
                <a:rect l="l" t="t" r="r" b="b"/>
                <a:pathLst>
                  <a:path w="504" h="509">
                    <a:moveTo>
                      <a:pt x="0" y="467"/>
                    </a:moveTo>
                    <a:lnTo>
                      <a:pt x="35" y="306"/>
                    </a:lnTo>
                    <a:lnTo>
                      <a:pt x="73" y="228"/>
                    </a:lnTo>
                    <a:lnTo>
                      <a:pt x="124" y="161"/>
                    </a:lnTo>
                    <a:lnTo>
                      <a:pt x="207" y="95"/>
                    </a:lnTo>
                    <a:lnTo>
                      <a:pt x="306" y="32"/>
                    </a:lnTo>
                    <a:lnTo>
                      <a:pt x="409" y="0"/>
                    </a:lnTo>
                    <a:lnTo>
                      <a:pt x="496" y="21"/>
                    </a:lnTo>
                    <a:lnTo>
                      <a:pt x="504" y="70"/>
                    </a:lnTo>
                    <a:lnTo>
                      <a:pt x="428" y="118"/>
                    </a:lnTo>
                    <a:lnTo>
                      <a:pt x="322" y="171"/>
                    </a:lnTo>
                    <a:lnTo>
                      <a:pt x="240" y="228"/>
                    </a:lnTo>
                    <a:lnTo>
                      <a:pt x="169" y="374"/>
                    </a:lnTo>
                    <a:lnTo>
                      <a:pt x="137" y="448"/>
                    </a:lnTo>
                    <a:lnTo>
                      <a:pt x="92" y="509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5105520" y="5437440"/>
              <a:ext cx="681120" cy="792720"/>
              <a:chOff x="5105520" y="5437440"/>
              <a:chExt cx="681120" cy="792720"/>
            </a:xfrm>
          </p:grpSpPr>
          <p:sp>
            <p:nvSpPr>
              <p:cNvPr id="513" name=""/>
              <p:cNvSpPr/>
              <p:nvPr/>
            </p:nvSpPr>
            <p:spPr>
              <a:xfrm flipH="1">
                <a:off x="5131440" y="5522040"/>
                <a:ext cx="639000" cy="692640"/>
              </a:xfrm>
              <a:custGeom>
                <a:avLst/>
                <a:gdLst/>
                <a:ahLst/>
                <a:rect l="l" t="t" r="r" b="b"/>
                <a:pathLst>
                  <a:path w="4164" h="3761">
                    <a:moveTo>
                      <a:pt x="0" y="1840"/>
                    </a:moveTo>
                    <a:lnTo>
                      <a:pt x="731" y="1861"/>
                    </a:lnTo>
                    <a:lnTo>
                      <a:pt x="1837" y="2435"/>
                    </a:lnTo>
                    <a:lnTo>
                      <a:pt x="1575" y="2790"/>
                    </a:lnTo>
                    <a:lnTo>
                      <a:pt x="1243" y="3260"/>
                    </a:lnTo>
                    <a:lnTo>
                      <a:pt x="1389" y="3573"/>
                    </a:lnTo>
                    <a:lnTo>
                      <a:pt x="1889" y="3761"/>
                    </a:lnTo>
                    <a:lnTo>
                      <a:pt x="2619" y="3720"/>
                    </a:lnTo>
                    <a:lnTo>
                      <a:pt x="3016" y="3376"/>
                    </a:lnTo>
                    <a:lnTo>
                      <a:pt x="3392" y="1724"/>
                    </a:lnTo>
                    <a:lnTo>
                      <a:pt x="4164" y="429"/>
                    </a:lnTo>
                    <a:lnTo>
                      <a:pt x="4048" y="272"/>
                    </a:lnTo>
                    <a:lnTo>
                      <a:pt x="3434" y="62"/>
                    </a:lnTo>
                    <a:lnTo>
                      <a:pt x="2495" y="0"/>
                    </a:lnTo>
                    <a:lnTo>
                      <a:pt x="1377" y="209"/>
                    </a:lnTo>
                    <a:lnTo>
                      <a:pt x="543" y="846"/>
                    </a:lnTo>
                    <a:lnTo>
                      <a:pt x="157" y="1442"/>
                    </a:lnTo>
                    <a:lnTo>
                      <a:pt x="0" y="1840"/>
                    </a:lnTo>
                    <a:lnTo>
                      <a:pt x="0" y="1840"/>
                    </a:lnTo>
                    <a:close/>
                  </a:path>
                </a:pathLst>
              </a:custGeom>
              <a:solidFill>
                <a:srgbClr val="fbd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5274360" y="5599080"/>
                <a:ext cx="286560" cy="147960"/>
              </a:xfrm>
              <a:custGeom>
                <a:avLst/>
                <a:gdLst/>
                <a:ahLst/>
                <a:rect l="l" t="t" r="r" b="b"/>
                <a:pathLst>
                  <a:path w="1866" h="804">
                    <a:moveTo>
                      <a:pt x="0" y="407"/>
                    </a:moveTo>
                    <a:lnTo>
                      <a:pt x="302" y="701"/>
                    </a:lnTo>
                    <a:lnTo>
                      <a:pt x="960" y="804"/>
                    </a:lnTo>
                    <a:lnTo>
                      <a:pt x="1617" y="637"/>
                    </a:lnTo>
                    <a:lnTo>
                      <a:pt x="1866" y="523"/>
                    </a:lnTo>
                    <a:lnTo>
                      <a:pt x="1648" y="220"/>
                    </a:lnTo>
                    <a:lnTo>
                      <a:pt x="1074" y="0"/>
                    </a:lnTo>
                    <a:lnTo>
                      <a:pt x="521" y="42"/>
                    </a:lnTo>
                    <a:lnTo>
                      <a:pt x="0" y="407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>
                <a:off x="5371920" y="5622120"/>
                <a:ext cx="91080" cy="105840"/>
              </a:xfrm>
              <a:custGeom>
                <a:avLst/>
                <a:gdLst/>
                <a:ahLst/>
                <a:rect l="l" t="t" r="r" b="b"/>
                <a:pathLst>
                  <a:path w="595" h="576">
                    <a:moveTo>
                      <a:pt x="407" y="0"/>
                    </a:moveTo>
                    <a:lnTo>
                      <a:pt x="167" y="0"/>
                    </a:lnTo>
                    <a:lnTo>
                      <a:pt x="0" y="242"/>
                    </a:lnTo>
                    <a:lnTo>
                      <a:pt x="104" y="491"/>
                    </a:lnTo>
                    <a:lnTo>
                      <a:pt x="397" y="576"/>
                    </a:lnTo>
                    <a:lnTo>
                      <a:pt x="595" y="314"/>
                    </a:lnTo>
                    <a:lnTo>
                      <a:pt x="407" y="0"/>
                    </a:lnTo>
                    <a:lnTo>
                      <a:pt x="407" y="0"/>
                    </a:lnTo>
                    <a:close/>
                  </a:path>
                </a:pathLst>
              </a:custGeom>
              <a:solidFill>
                <a:srgbClr val="99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5470920" y="6102720"/>
                <a:ext cx="105120" cy="68400"/>
              </a:xfrm>
              <a:custGeom>
                <a:avLst/>
                <a:gdLst/>
                <a:ahLst/>
                <a:rect l="l" t="t" r="r" b="b"/>
                <a:pathLst>
                  <a:path w="686" h="373">
                    <a:moveTo>
                      <a:pt x="91" y="373"/>
                    </a:moveTo>
                    <a:lnTo>
                      <a:pt x="0" y="173"/>
                    </a:lnTo>
                    <a:lnTo>
                      <a:pt x="91" y="0"/>
                    </a:lnTo>
                    <a:lnTo>
                      <a:pt x="538" y="90"/>
                    </a:lnTo>
                    <a:lnTo>
                      <a:pt x="648" y="137"/>
                    </a:lnTo>
                    <a:lnTo>
                      <a:pt x="686" y="183"/>
                    </a:lnTo>
                    <a:lnTo>
                      <a:pt x="648" y="230"/>
                    </a:lnTo>
                    <a:lnTo>
                      <a:pt x="538" y="278"/>
                    </a:lnTo>
                    <a:lnTo>
                      <a:pt x="352" y="325"/>
                    </a:lnTo>
                    <a:lnTo>
                      <a:pt x="91" y="373"/>
                    </a:lnTo>
                    <a:lnTo>
                      <a:pt x="91" y="373"/>
                    </a:lnTo>
                    <a:close/>
                  </a:path>
                </a:pathLst>
              </a:custGeom>
              <a:solidFill>
                <a:srgbClr val="d42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>
                <a:off x="5402160" y="5779800"/>
                <a:ext cx="384480" cy="199440"/>
              </a:xfrm>
              <a:custGeom>
                <a:avLst/>
                <a:gdLst/>
                <a:ahLst/>
                <a:rect l="l" t="t" r="r" b="b"/>
                <a:pathLst>
                  <a:path w="2505" h="1083">
                    <a:moveTo>
                      <a:pt x="67" y="604"/>
                    </a:moveTo>
                    <a:lnTo>
                      <a:pt x="399" y="587"/>
                    </a:lnTo>
                    <a:lnTo>
                      <a:pt x="844" y="612"/>
                    </a:lnTo>
                    <a:lnTo>
                      <a:pt x="1087" y="713"/>
                    </a:lnTo>
                    <a:lnTo>
                      <a:pt x="1224" y="787"/>
                    </a:lnTo>
                    <a:lnTo>
                      <a:pt x="1361" y="866"/>
                    </a:lnTo>
                    <a:lnTo>
                      <a:pt x="1498" y="943"/>
                    </a:lnTo>
                    <a:lnTo>
                      <a:pt x="1627" y="1011"/>
                    </a:lnTo>
                    <a:lnTo>
                      <a:pt x="1743" y="1058"/>
                    </a:lnTo>
                    <a:lnTo>
                      <a:pt x="1844" y="1083"/>
                    </a:lnTo>
                    <a:lnTo>
                      <a:pt x="2100" y="1055"/>
                    </a:lnTo>
                    <a:lnTo>
                      <a:pt x="2311" y="918"/>
                    </a:lnTo>
                    <a:lnTo>
                      <a:pt x="2452" y="707"/>
                    </a:lnTo>
                    <a:lnTo>
                      <a:pt x="2505" y="454"/>
                    </a:lnTo>
                    <a:lnTo>
                      <a:pt x="2469" y="245"/>
                    </a:lnTo>
                    <a:lnTo>
                      <a:pt x="2425" y="161"/>
                    </a:lnTo>
                    <a:lnTo>
                      <a:pt x="2366" y="95"/>
                    </a:lnTo>
                    <a:lnTo>
                      <a:pt x="2294" y="42"/>
                    </a:lnTo>
                    <a:lnTo>
                      <a:pt x="2209" y="9"/>
                    </a:lnTo>
                    <a:lnTo>
                      <a:pt x="1999" y="0"/>
                    </a:lnTo>
                    <a:lnTo>
                      <a:pt x="1836" y="66"/>
                    </a:lnTo>
                    <a:lnTo>
                      <a:pt x="1718" y="203"/>
                    </a:lnTo>
                    <a:lnTo>
                      <a:pt x="1648" y="367"/>
                    </a:lnTo>
                    <a:lnTo>
                      <a:pt x="1629" y="513"/>
                    </a:lnTo>
                    <a:lnTo>
                      <a:pt x="1648" y="574"/>
                    </a:lnTo>
                    <a:lnTo>
                      <a:pt x="1688" y="616"/>
                    </a:lnTo>
                    <a:lnTo>
                      <a:pt x="1806" y="642"/>
                    </a:lnTo>
                    <a:lnTo>
                      <a:pt x="1923" y="595"/>
                    </a:lnTo>
                    <a:lnTo>
                      <a:pt x="1984" y="479"/>
                    </a:lnTo>
                    <a:lnTo>
                      <a:pt x="1969" y="370"/>
                    </a:lnTo>
                    <a:lnTo>
                      <a:pt x="1929" y="308"/>
                    </a:lnTo>
                    <a:lnTo>
                      <a:pt x="1876" y="222"/>
                    </a:lnTo>
                    <a:lnTo>
                      <a:pt x="1895" y="171"/>
                    </a:lnTo>
                    <a:lnTo>
                      <a:pt x="1937" y="133"/>
                    </a:lnTo>
                    <a:lnTo>
                      <a:pt x="2041" y="99"/>
                    </a:lnTo>
                    <a:lnTo>
                      <a:pt x="2157" y="129"/>
                    </a:lnTo>
                    <a:lnTo>
                      <a:pt x="2248" y="205"/>
                    </a:lnTo>
                    <a:lnTo>
                      <a:pt x="2332" y="429"/>
                    </a:lnTo>
                    <a:lnTo>
                      <a:pt x="2311" y="572"/>
                    </a:lnTo>
                    <a:lnTo>
                      <a:pt x="2254" y="709"/>
                    </a:lnTo>
                    <a:lnTo>
                      <a:pt x="2212" y="768"/>
                    </a:lnTo>
                    <a:lnTo>
                      <a:pt x="2167" y="819"/>
                    </a:lnTo>
                    <a:lnTo>
                      <a:pt x="2115" y="855"/>
                    </a:lnTo>
                    <a:lnTo>
                      <a:pt x="2058" y="876"/>
                    </a:lnTo>
                    <a:lnTo>
                      <a:pt x="1800" y="853"/>
                    </a:lnTo>
                    <a:lnTo>
                      <a:pt x="1678" y="798"/>
                    </a:lnTo>
                    <a:lnTo>
                      <a:pt x="1562" y="728"/>
                    </a:lnTo>
                    <a:lnTo>
                      <a:pt x="1450" y="650"/>
                    </a:lnTo>
                    <a:lnTo>
                      <a:pt x="1342" y="572"/>
                    </a:lnTo>
                    <a:lnTo>
                      <a:pt x="1239" y="503"/>
                    </a:lnTo>
                    <a:lnTo>
                      <a:pt x="1140" y="454"/>
                    </a:lnTo>
                    <a:lnTo>
                      <a:pt x="939" y="393"/>
                    </a:lnTo>
                    <a:lnTo>
                      <a:pt x="713" y="349"/>
                    </a:lnTo>
                    <a:lnTo>
                      <a:pt x="247" y="338"/>
                    </a:lnTo>
                    <a:lnTo>
                      <a:pt x="131" y="387"/>
                    </a:lnTo>
                    <a:lnTo>
                      <a:pt x="0" y="551"/>
                    </a:lnTo>
                    <a:lnTo>
                      <a:pt x="67" y="604"/>
                    </a:lnTo>
                    <a:lnTo>
                      <a:pt x="67" y="6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5119920" y="5512320"/>
                <a:ext cx="666360" cy="717840"/>
              </a:xfrm>
              <a:custGeom>
                <a:avLst/>
                <a:gdLst/>
                <a:ahLst/>
                <a:rect l="l" t="t" r="r" b="b"/>
                <a:pathLst>
                  <a:path w="4339" h="3901">
                    <a:moveTo>
                      <a:pt x="247" y="1892"/>
                    </a:moveTo>
                    <a:lnTo>
                      <a:pt x="321" y="1671"/>
                    </a:lnTo>
                    <a:lnTo>
                      <a:pt x="371" y="1550"/>
                    </a:lnTo>
                    <a:lnTo>
                      <a:pt x="428" y="1424"/>
                    </a:lnTo>
                    <a:lnTo>
                      <a:pt x="496" y="1295"/>
                    </a:lnTo>
                    <a:lnTo>
                      <a:pt x="578" y="1166"/>
                    </a:lnTo>
                    <a:lnTo>
                      <a:pt x="673" y="1035"/>
                    </a:lnTo>
                    <a:lnTo>
                      <a:pt x="785" y="907"/>
                    </a:lnTo>
                    <a:lnTo>
                      <a:pt x="914" y="784"/>
                    </a:lnTo>
                    <a:lnTo>
                      <a:pt x="1062" y="666"/>
                    </a:lnTo>
                    <a:lnTo>
                      <a:pt x="1144" y="609"/>
                    </a:lnTo>
                    <a:lnTo>
                      <a:pt x="1232" y="554"/>
                    </a:lnTo>
                    <a:lnTo>
                      <a:pt x="1325" y="502"/>
                    </a:lnTo>
                    <a:lnTo>
                      <a:pt x="1422" y="453"/>
                    </a:lnTo>
                    <a:lnTo>
                      <a:pt x="1526" y="407"/>
                    </a:lnTo>
                    <a:lnTo>
                      <a:pt x="1636" y="364"/>
                    </a:lnTo>
                    <a:lnTo>
                      <a:pt x="1752" y="324"/>
                    </a:lnTo>
                    <a:lnTo>
                      <a:pt x="1876" y="286"/>
                    </a:lnTo>
                    <a:lnTo>
                      <a:pt x="2144" y="223"/>
                    </a:lnTo>
                    <a:lnTo>
                      <a:pt x="2439" y="177"/>
                    </a:lnTo>
                    <a:lnTo>
                      <a:pt x="2866" y="153"/>
                    </a:lnTo>
                    <a:lnTo>
                      <a:pt x="3336" y="183"/>
                    </a:lnTo>
                    <a:lnTo>
                      <a:pt x="3792" y="284"/>
                    </a:lnTo>
                    <a:lnTo>
                      <a:pt x="3999" y="364"/>
                    </a:lnTo>
                    <a:lnTo>
                      <a:pt x="4183" y="468"/>
                    </a:lnTo>
                    <a:lnTo>
                      <a:pt x="4172" y="519"/>
                    </a:lnTo>
                    <a:lnTo>
                      <a:pt x="4103" y="633"/>
                    </a:lnTo>
                    <a:lnTo>
                      <a:pt x="4054" y="709"/>
                    </a:lnTo>
                    <a:lnTo>
                      <a:pt x="3997" y="795"/>
                    </a:lnTo>
                    <a:lnTo>
                      <a:pt x="3932" y="890"/>
                    </a:lnTo>
                    <a:lnTo>
                      <a:pt x="3864" y="991"/>
                    </a:lnTo>
                    <a:lnTo>
                      <a:pt x="3792" y="1097"/>
                    </a:lnTo>
                    <a:lnTo>
                      <a:pt x="3718" y="1206"/>
                    </a:lnTo>
                    <a:lnTo>
                      <a:pt x="3645" y="1318"/>
                    </a:lnTo>
                    <a:lnTo>
                      <a:pt x="3577" y="1426"/>
                    </a:lnTo>
                    <a:lnTo>
                      <a:pt x="3512" y="1534"/>
                    </a:lnTo>
                    <a:lnTo>
                      <a:pt x="3453" y="1637"/>
                    </a:lnTo>
                    <a:lnTo>
                      <a:pt x="3364" y="1825"/>
                    </a:lnTo>
                    <a:lnTo>
                      <a:pt x="3250" y="2186"/>
                    </a:lnTo>
                    <a:lnTo>
                      <a:pt x="3159" y="2572"/>
                    </a:lnTo>
                    <a:lnTo>
                      <a:pt x="3077" y="2964"/>
                    </a:lnTo>
                    <a:lnTo>
                      <a:pt x="2992" y="3340"/>
                    </a:lnTo>
                    <a:lnTo>
                      <a:pt x="2965" y="3405"/>
                    </a:lnTo>
                    <a:lnTo>
                      <a:pt x="2916" y="3485"/>
                    </a:lnTo>
                    <a:lnTo>
                      <a:pt x="2857" y="3559"/>
                    </a:lnTo>
                    <a:lnTo>
                      <a:pt x="2802" y="3604"/>
                    </a:lnTo>
                    <a:lnTo>
                      <a:pt x="2708" y="3652"/>
                    </a:lnTo>
                    <a:lnTo>
                      <a:pt x="2591" y="3696"/>
                    </a:lnTo>
                    <a:lnTo>
                      <a:pt x="2372" y="3738"/>
                    </a:lnTo>
                    <a:lnTo>
                      <a:pt x="1847" y="3690"/>
                    </a:lnTo>
                    <a:lnTo>
                      <a:pt x="1635" y="3604"/>
                    </a:lnTo>
                    <a:lnTo>
                      <a:pt x="1521" y="3439"/>
                    </a:lnTo>
                    <a:lnTo>
                      <a:pt x="1524" y="3253"/>
                    </a:lnTo>
                    <a:lnTo>
                      <a:pt x="1559" y="3158"/>
                    </a:lnTo>
                    <a:lnTo>
                      <a:pt x="1608" y="3063"/>
                    </a:lnTo>
                    <a:lnTo>
                      <a:pt x="1674" y="2970"/>
                    </a:lnTo>
                    <a:lnTo>
                      <a:pt x="1749" y="2880"/>
                    </a:lnTo>
                    <a:lnTo>
                      <a:pt x="1834" y="2797"/>
                    </a:lnTo>
                    <a:lnTo>
                      <a:pt x="1925" y="2719"/>
                    </a:lnTo>
                    <a:lnTo>
                      <a:pt x="2032" y="2631"/>
                    </a:lnTo>
                    <a:lnTo>
                      <a:pt x="2155" y="2521"/>
                    </a:lnTo>
                    <a:lnTo>
                      <a:pt x="2285" y="2390"/>
                    </a:lnTo>
                    <a:lnTo>
                      <a:pt x="2406" y="2238"/>
                    </a:lnTo>
                    <a:lnTo>
                      <a:pt x="1827" y="2479"/>
                    </a:lnTo>
                    <a:lnTo>
                      <a:pt x="1800" y="2595"/>
                    </a:lnTo>
                    <a:lnTo>
                      <a:pt x="1739" y="2715"/>
                    </a:lnTo>
                    <a:lnTo>
                      <a:pt x="1654" y="2838"/>
                    </a:lnTo>
                    <a:lnTo>
                      <a:pt x="1555" y="2960"/>
                    </a:lnTo>
                    <a:lnTo>
                      <a:pt x="1458" y="3082"/>
                    </a:lnTo>
                    <a:lnTo>
                      <a:pt x="1372" y="3203"/>
                    </a:lnTo>
                    <a:lnTo>
                      <a:pt x="1291" y="3430"/>
                    </a:lnTo>
                    <a:lnTo>
                      <a:pt x="1304" y="3502"/>
                    </a:lnTo>
                    <a:lnTo>
                      <a:pt x="1340" y="3570"/>
                    </a:lnTo>
                    <a:lnTo>
                      <a:pt x="1393" y="3637"/>
                    </a:lnTo>
                    <a:lnTo>
                      <a:pt x="1460" y="3696"/>
                    </a:lnTo>
                    <a:lnTo>
                      <a:pt x="1536" y="3749"/>
                    </a:lnTo>
                    <a:lnTo>
                      <a:pt x="1610" y="3793"/>
                    </a:lnTo>
                    <a:lnTo>
                      <a:pt x="1743" y="3844"/>
                    </a:lnTo>
                    <a:lnTo>
                      <a:pt x="1971" y="3880"/>
                    </a:lnTo>
                    <a:lnTo>
                      <a:pt x="2218" y="3901"/>
                    </a:lnTo>
                    <a:lnTo>
                      <a:pt x="2686" y="3869"/>
                    </a:lnTo>
                    <a:lnTo>
                      <a:pt x="2864" y="3802"/>
                    </a:lnTo>
                    <a:lnTo>
                      <a:pt x="3028" y="3675"/>
                    </a:lnTo>
                    <a:lnTo>
                      <a:pt x="3166" y="3511"/>
                    </a:lnTo>
                    <a:lnTo>
                      <a:pt x="3265" y="3331"/>
                    </a:lnTo>
                    <a:lnTo>
                      <a:pt x="3374" y="2989"/>
                    </a:lnTo>
                    <a:lnTo>
                      <a:pt x="3453" y="2601"/>
                    </a:lnTo>
                    <a:lnTo>
                      <a:pt x="3526" y="2209"/>
                    </a:lnTo>
                    <a:lnTo>
                      <a:pt x="3567" y="2025"/>
                    </a:lnTo>
                    <a:lnTo>
                      <a:pt x="3611" y="1858"/>
                    </a:lnTo>
                    <a:lnTo>
                      <a:pt x="3676" y="1690"/>
                    </a:lnTo>
                    <a:lnTo>
                      <a:pt x="3759" y="1523"/>
                    </a:lnTo>
                    <a:lnTo>
                      <a:pt x="3858" y="1354"/>
                    </a:lnTo>
                    <a:lnTo>
                      <a:pt x="3963" y="1187"/>
                    </a:lnTo>
                    <a:lnTo>
                      <a:pt x="4016" y="1101"/>
                    </a:lnTo>
                    <a:lnTo>
                      <a:pt x="4071" y="1017"/>
                    </a:lnTo>
                    <a:lnTo>
                      <a:pt x="4172" y="848"/>
                    </a:lnTo>
                    <a:lnTo>
                      <a:pt x="4263" y="679"/>
                    </a:lnTo>
                    <a:lnTo>
                      <a:pt x="4339" y="510"/>
                    </a:lnTo>
                    <a:lnTo>
                      <a:pt x="4316" y="381"/>
                    </a:lnTo>
                    <a:lnTo>
                      <a:pt x="4273" y="261"/>
                    </a:lnTo>
                    <a:lnTo>
                      <a:pt x="4153" y="219"/>
                    </a:lnTo>
                    <a:lnTo>
                      <a:pt x="4033" y="183"/>
                    </a:lnTo>
                    <a:lnTo>
                      <a:pt x="3792" y="118"/>
                    </a:lnTo>
                    <a:lnTo>
                      <a:pt x="3547" y="69"/>
                    </a:lnTo>
                    <a:lnTo>
                      <a:pt x="3301" y="35"/>
                    </a:lnTo>
                    <a:lnTo>
                      <a:pt x="2813" y="0"/>
                    </a:lnTo>
                    <a:lnTo>
                      <a:pt x="2332" y="12"/>
                    </a:lnTo>
                    <a:lnTo>
                      <a:pt x="1865" y="86"/>
                    </a:lnTo>
                    <a:lnTo>
                      <a:pt x="1644" y="153"/>
                    </a:lnTo>
                    <a:lnTo>
                      <a:pt x="1431" y="236"/>
                    </a:lnTo>
                    <a:lnTo>
                      <a:pt x="1329" y="284"/>
                    </a:lnTo>
                    <a:lnTo>
                      <a:pt x="1228" y="335"/>
                    </a:lnTo>
                    <a:lnTo>
                      <a:pt x="1131" y="390"/>
                    </a:lnTo>
                    <a:lnTo>
                      <a:pt x="1036" y="447"/>
                    </a:lnTo>
                    <a:lnTo>
                      <a:pt x="945" y="510"/>
                    </a:lnTo>
                    <a:lnTo>
                      <a:pt x="857" y="575"/>
                    </a:lnTo>
                    <a:lnTo>
                      <a:pt x="692" y="711"/>
                    </a:lnTo>
                    <a:lnTo>
                      <a:pt x="540" y="858"/>
                    </a:lnTo>
                    <a:lnTo>
                      <a:pt x="405" y="1012"/>
                    </a:lnTo>
                    <a:lnTo>
                      <a:pt x="344" y="1092"/>
                    </a:lnTo>
                    <a:lnTo>
                      <a:pt x="287" y="1171"/>
                    </a:lnTo>
                    <a:lnTo>
                      <a:pt x="188" y="1337"/>
                    </a:lnTo>
                    <a:lnTo>
                      <a:pt x="49" y="1673"/>
                    </a:lnTo>
                    <a:lnTo>
                      <a:pt x="0" y="2008"/>
                    </a:lnTo>
                    <a:lnTo>
                      <a:pt x="247" y="1892"/>
                    </a:lnTo>
                    <a:lnTo>
                      <a:pt x="247" y="18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>
                <a:off x="5240880" y="5583960"/>
                <a:ext cx="337320" cy="177120"/>
              </a:xfrm>
              <a:custGeom>
                <a:avLst/>
                <a:gdLst/>
                <a:ahLst/>
                <a:rect l="l" t="t" r="r" b="b"/>
                <a:pathLst>
                  <a:path w="2199" h="962">
                    <a:moveTo>
                      <a:pt x="1844" y="692"/>
                    </a:moveTo>
                    <a:lnTo>
                      <a:pt x="1749" y="742"/>
                    </a:lnTo>
                    <a:lnTo>
                      <a:pt x="1648" y="791"/>
                    </a:lnTo>
                    <a:lnTo>
                      <a:pt x="1540" y="837"/>
                    </a:lnTo>
                    <a:lnTo>
                      <a:pt x="1426" y="877"/>
                    </a:lnTo>
                    <a:lnTo>
                      <a:pt x="1184" y="937"/>
                    </a:lnTo>
                    <a:lnTo>
                      <a:pt x="935" y="962"/>
                    </a:lnTo>
                    <a:lnTo>
                      <a:pt x="682" y="941"/>
                    </a:lnTo>
                    <a:lnTo>
                      <a:pt x="437" y="859"/>
                    </a:lnTo>
                    <a:lnTo>
                      <a:pt x="319" y="793"/>
                    </a:lnTo>
                    <a:lnTo>
                      <a:pt x="207" y="709"/>
                    </a:lnTo>
                    <a:lnTo>
                      <a:pt x="101" y="603"/>
                    </a:lnTo>
                    <a:lnTo>
                      <a:pt x="0" y="477"/>
                    </a:lnTo>
                    <a:lnTo>
                      <a:pt x="53" y="411"/>
                    </a:lnTo>
                    <a:lnTo>
                      <a:pt x="108" y="350"/>
                    </a:lnTo>
                    <a:lnTo>
                      <a:pt x="224" y="244"/>
                    </a:lnTo>
                    <a:lnTo>
                      <a:pt x="285" y="198"/>
                    </a:lnTo>
                    <a:lnTo>
                      <a:pt x="350" y="158"/>
                    </a:lnTo>
                    <a:lnTo>
                      <a:pt x="481" y="91"/>
                    </a:lnTo>
                    <a:lnTo>
                      <a:pt x="620" y="44"/>
                    </a:lnTo>
                    <a:lnTo>
                      <a:pt x="762" y="14"/>
                    </a:lnTo>
                    <a:lnTo>
                      <a:pt x="1057" y="0"/>
                    </a:lnTo>
                    <a:lnTo>
                      <a:pt x="1357" y="42"/>
                    </a:lnTo>
                    <a:lnTo>
                      <a:pt x="1654" y="135"/>
                    </a:lnTo>
                    <a:lnTo>
                      <a:pt x="1798" y="198"/>
                    </a:lnTo>
                    <a:lnTo>
                      <a:pt x="1937" y="268"/>
                    </a:lnTo>
                    <a:lnTo>
                      <a:pt x="2072" y="348"/>
                    </a:lnTo>
                    <a:lnTo>
                      <a:pt x="2199" y="436"/>
                    </a:lnTo>
                    <a:lnTo>
                      <a:pt x="2093" y="538"/>
                    </a:lnTo>
                    <a:lnTo>
                      <a:pt x="1992" y="633"/>
                    </a:lnTo>
                    <a:lnTo>
                      <a:pt x="1901" y="559"/>
                    </a:lnTo>
                    <a:lnTo>
                      <a:pt x="1804" y="489"/>
                    </a:lnTo>
                    <a:lnTo>
                      <a:pt x="1701" y="422"/>
                    </a:lnTo>
                    <a:lnTo>
                      <a:pt x="1593" y="360"/>
                    </a:lnTo>
                    <a:lnTo>
                      <a:pt x="1483" y="302"/>
                    </a:lnTo>
                    <a:lnTo>
                      <a:pt x="1371" y="255"/>
                    </a:lnTo>
                    <a:lnTo>
                      <a:pt x="1255" y="215"/>
                    </a:lnTo>
                    <a:lnTo>
                      <a:pt x="1139" y="187"/>
                    </a:lnTo>
                    <a:lnTo>
                      <a:pt x="905" y="166"/>
                    </a:lnTo>
                    <a:lnTo>
                      <a:pt x="677" y="200"/>
                    </a:lnTo>
                    <a:lnTo>
                      <a:pt x="462" y="304"/>
                    </a:lnTo>
                    <a:lnTo>
                      <a:pt x="264" y="485"/>
                    </a:lnTo>
                    <a:lnTo>
                      <a:pt x="318" y="563"/>
                    </a:lnTo>
                    <a:lnTo>
                      <a:pt x="384" y="628"/>
                    </a:lnTo>
                    <a:lnTo>
                      <a:pt x="464" y="677"/>
                    </a:lnTo>
                    <a:lnTo>
                      <a:pt x="555" y="717"/>
                    </a:lnTo>
                    <a:lnTo>
                      <a:pt x="760" y="764"/>
                    </a:lnTo>
                    <a:lnTo>
                      <a:pt x="990" y="778"/>
                    </a:lnTo>
                    <a:lnTo>
                      <a:pt x="1456" y="743"/>
                    </a:lnTo>
                    <a:lnTo>
                      <a:pt x="1844" y="692"/>
                    </a:lnTo>
                    <a:lnTo>
                      <a:pt x="1844" y="6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5403600" y="5653080"/>
                <a:ext cx="27720" cy="33480"/>
              </a:xfrm>
              <a:custGeom>
                <a:avLst/>
                <a:gdLst/>
                <a:ahLst/>
                <a:rect l="l" t="t" r="r" b="b"/>
                <a:pathLst>
                  <a:path w="181" h="182">
                    <a:moveTo>
                      <a:pt x="91" y="0"/>
                    </a:moveTo>
                    <a:lnTo>
                      <a:pt x="154" y="28"/>
                    </a:lnTo>
                    <a:lnTo>
                      <a:pt x="181" y="91"/>
                    </a:lnTo>
                    <a:lnTo>
                      <a:pt x="154" y="155"/>
                    </a:lnTo>
                    <a:lnTo>
                      <a:pt x="91" y="182"/>
                    </a:lnTo>
                    <a:lnTo>
                      <a:pt x="27" y="155"/>
                    </a:lnTo>
                    <a:lnTo>
                      <a:pt x="0" y="91"/>
                    </a:lnTo>
                    <a:lnTo>
                      <a:pt x="27" y="28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>
                <a:off x="5363280" y="5604480"/>
                <a:ext cx="73440" cy="130680"/>
              </a:xfrm>
              <a:custGeom>
                <a:avLst/>
                <a:gdLst/>
                <a:ahLst/>
                <a:rect l="l" t="t" r="r" b="b"/>
                <a:pathLst>
                  <a:path w="479" h="711">
                    <a:moveTo>
                      <a:pt x="125" y="711"/>
                    </a:moveTo>
                    <a:lnTo>
                      <a:pt x="0" y="630"/>
                    </a:lnTo>
                    <a:lnTo>
                      <a:pt x="125" y="555"/>
                    </a:lnTo>
                    <a:lnTo>
                      <a:pt x="268" y="495"/>
                    </a:lnTo>
                    <a:lnTo>
                      <a:pt x="330" y="348"/>
                    </a:lnTo>
                    <a:lnTo>
                      <a:pt x="313" y="268"/>
                    </a:lnTo>
                    <a:lnTo>
                      <a:pt x="268" y="200"/>
                    </a:lnTo>
                    <a:lnTo>
                      <a:pt x="201" y="151"/>
                    </a:lnTo>
                    <a:lnTo>
                      <a:pt x="125" y="133"/>
                    </a:lnTo>
                    <a:lnTo>
                      <a:pt x="0" y="75"/>
                    </a:lnTo>
                    <a:lnTo>
                      <a:pt x="125" y="0"/>
                    </a:lnTo>
                    <a:lnTo>
                      <a:pt x="264" y="29"/>
                    </a:lnTo>
                    <a:lnTo>
                      <a:pt x="376" y="103"/>
                    </a:lnTo>
                    <a:lnTo>
                      <a:pt x="452" y="217"/>
                    </a:lnTo>
                    <a:lnTo>
                      <a:pt x="479" y="356"/>
                    </a:lnTo>
                    <a:lnTo>
                      <a:pt x="452" y="495"/>
                    </a:lnTo>
                    <a:lnTo>
                      <a:pt x="420" y="557"/>
                    </a:lnTo>
                    <a:lnTo>
                      <a:pt x="376" y="609"/>
                    </a:lnTo>
                    <a:lnTo>
                      <a:pt x="323" y="652"/>
                    </a:lnTo>
                    <a:lnTo>
                      <a:pt x="264" y="685"/>
                    </a:lnTo>
                    <a:lnTo>
                      <a:pt x="125" y="711"/>
                    </a:lnTo>
                    <a:lnTo>
                      <a:pt x="125" y="7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>
                <a:off x="5398200" y="5604480"/>
                <a:ext cx="73800" cy="130680"/>
              </a:xfrm>
              <a:custGeom>
                <a:avLst/>
                <a:gdLst/>
                <a:ahLst/>
                <a:rect l="l" t="t" r="r" b="b"/>
                <a:pathLst>
                  <a:path w="481" h="711">
                    <a:moveTo>
                      <a:pt x="357" y="711"/>
                    </a:moveTo>
                    <a:lnTo>
                      <a:pt x="481" y="630"/>
                    </a:lnTo>
                    <a:lnTo>
                      <a:pt x="357" y="555"/>
                    </a:lnTo>
                    <a:lnTo>
                      <a:pt x="217" y="495"/>
                    </a:lnTo>
                    <a:lnTo>
                      <a:pt x="158" y="348"/>
                    </a:lnTo>
                    <a:lnTo>
                      <a:pt x="175" y="268"/>
                    </a:lnTo>
                    <a:lnTo>
                      <a:pt x="217" y="200"/>
                    </a:lnTo>
                    <a:lnTo>
                      <a:pt x="279" y="151"/>
                    </a:lnTo>
                    <a:lnTo>
                      <a:pt x="357" y="133"/>
                    </a:lnTo>
                    <a:lnTo>
                      <a:pt x="481" y="75"/>
                    </a:lnTo>
                    <a:lnTo>
                      <a:pt x="357" y="0"/>
                    </a:lnTo>
                    <a:lnTo>
                      <a:pt x="217" y="29"/>
                    </a:lnTo>
                    <a:lnTo>
                      <a:pt x="104" y="103"/>
                    </a:lnTo>
                    <a:lnTo>
                      <a:pt x="28" y="217"/>
                    </a:lnTo>
                    <a:lnTo>
                      <a:pt x="0" y="356"/>
                    </a:lnTo>
                    <a:lnTo>
                      <a:pt x="28" y="495"/>
                    </a:lnTo>
                    <a:lnTo>
                      <a:pt x="61" y="557"/>
                    </a:lnTo>
                    <a:lnTo>
                      <a:pt x="104" y="609"/>
                    </a:lnTo>
                    <a:lnTo>
                      <a:pt x="158" y="652"/>
                    </a:lnTo>
                    <a:lnTo>
                      <a:pt x="217" y="685"/>
                    </a:lnTo>
                    <a:lnTo>
                      <a:pt x="357" y="711"/>
                    </a:lnTo>
                    <a:lnTo>
                      <a:pt x="357" y="7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>
                <a:off x="5212080" y="5587560"/>
                <a:ext cx="116640" cy="108000"/>
              </a:xfrm>
              <a:custGeom>
                <a:avLst/>
                <a:gdLst/>
                <a:ahLst/>
                <a:rect l="l" t="t" r="r" b="b"/>
                <a:pathLst>
                  <a:path w="760" h="588">
                    <a:moveTo>
                      <a:pt x="380" y="588"/>
                    </a:moveTo>
                    <a:lnTo>
                      <a:pt x="760" y="264"/>
                    </a:lnTo>
                    <a:lnTo>
                      <a:pt x="447" y="316"/>
                    </a:lnTo>
                    <a:lnTo>
                      <a:pt x="528" y="91"/>
                    </a:lnTo>
                    <a:lnTo>
                      <a:pt x="239" y="215"/>
                    </a:lnTo>
                    <a:lnTo>
                      <a:pt x="274" y="0"/>
                    </a:lnTo>
                    <a:lnTo>
                      <a:pt x="0" y="158"/>
                    </a:lnTo>
                    <a:lnTo>
                      <a:pt x="380" y="588"/>
                    </a:lnTo>
                    <a:lnTo>
                      <a:pt x="380" y="5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>
                <a:off x="5354280" y="5439960"/>
                <a:ext cx="41400" cy="88920"/>
              </a:xfrm>
              <a:custGeom>
                <a:avLst/>
                <a:gdLst/>
                <a:ahLst/>
                <a:rect l="l" t="t" r="r" b="b"/>
                <a:pathLst>
                  <a:path w="270" h="485">
                    <a:moveTo>
                      <a:pt x="23" y="464"/>
                    </a:moveTo>
                    <a:lnTo>
                      <a:pt x="0" y="317"/>
                    </a:lnTo>
                    <a:lnTo>
                      <a:pt x="32" y="173"/>
                    </a:lnTo>
                    <a:lnTo>
                      <a:pt x="72" y="108"/>
                    </a:lnTo>
                    <a:lnTo>
                      <a:pt x="125" y="49"/>
                    </a:lnTo>
                    <a:lnTo>
                      <a:pt x="188" y="8"/>
                    </a:lnTo>
                    <a:lnTo>
                      <a:pt x="255" y="0"/>
                    </a:lnTo>
                    <a:lnTo>
                      <a:pt x="270" y="25"/>
                    </a:lnTo>
                    <a:lnTo>
                      <a:pt x="237" y="78"/>
                    </a:lnTo>
                    <a:lnTo>
                      <a:pt x="156" y="198"/>
                    </a:lnTo>
                    <a:lnTo>
                      <a:pt x="148" y="454"/>
                    </a:lnTo>
                    <a:lnTo>
                      <a:pt x="85" y="485"/>
                    </a:lnTo>
                    <a:lnTo>
                      <a:pt x="23" y="464"/>
                    </a:lnTo>
                    <a:lnTo>
                      <a:pt x="23" y="4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>
                <a:off x="5290560" y="5439960"/>
                <a:ext cx="48600" cy="8532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13" y="454"/>
                    </a:moveTo>
                    <a:lnTo>
                      <a:pt x="0" y="306"/>
                    </a:lnTo>
                    <a:lnTo>
                      <a:pt x="45" y="165"/>
                    </a:lnTo>
                    <a:lnTo>
                      <a:pt x="97" y="99"/>
                    </a:lnTo>
                    <a:lnTo>
                      <a:pt x="161" y="40"/>
                    </a:lnTo>
                    <a:lnTo>
                      <a:pt x="235" y="0"/>
                    </a:lnTo>
                    <a:lnTo>
                      <a:pt x="309" y="0"/>
                    </a:lnTo>
                    <a:lnTo>
                      <a:pt x="319" y="27"/>
                    </a:lnTo>
                    <a:lnTo>
                      <a:pt x="273" y="78"/>
                    </a:lnTo>
                    <a:lnTo>
                      <a:pt x="169" y="198"/>
                    </a:lnTo>
                    <a:lnTo>
                      <a:pt x="127" y="464"/>
                    </a:lnTo>
                    <a:lnTo>
                      <a:pt x="13" y="454"/>
                    </a:lnTo>
                    <a:lnTo>
                      <a:pt x="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5226120" y="5437440"/>
                <a:ext cx="58320" cy="87840"/>
              </a:xfrm>
              <a:custGeom>
                <a:avLst/>
                <a:gdLst/>
                <a:ahLst/>
                <a:rect l="l" t="t" r="r" b="b"/>
                <a:pathLst>
                  <a:path w="378" h="477">
                    <a:moveTo>
                      <a:pt x="0" y="460"/>
                    </a:moveTo>
                    <a:lnTo>
                      <a:pt x="7" y="308"/>
                    </a:lnTo>
                    <a:lnTo>
                      <a:pt x="66" y="161"/>
                    </a:lnTo>
                    <a:lnTo>
                      <a:pt x="127" y="97"/>
                    </a:lnTo>
                    <a:lnTo>
                      <a:pt x="205" y="36"/>
                    </a:lnTo>
                    <a:lnTo>
                      <a:pt x="289" y="0"/>
                    </a:lnTo>
                    <a:lnTo>
                      <a:pt x="365" y="5"/>
                    </a:lnTo>
                    <a:lnTo>
                      <a:pt x="378" y="43"/>
                    </a:lnTo>
                    <a:lnTo>
                      <a:pt x="323" y="95"/>
                    </a:lnTo>
                    <a:lnTo>
                      <a:pt x="190" y="211"/>
                    </a:lnTo>
                    <a:lnTo>
                      <a:pt x="108" y="477"/>
                    </a:lnTo>
                    <a:lnTo>
                      <a:pt x="0" y="460"/>
                    </a:lnTo>
                    <a:lnTo>
                      <a:pt x="0" y="4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>
                <a:off x="5162040" y="5450760"/>
                <a:ext cx="67320" cy="91800"/>
              </a:xfrm>
              <a:custGeom>
                <a:avLst/>
                <a:gdLst/>
                <a:ahLst/>
                <a:rect l="l" t="t" r="r" b="b"/>
                <a:pathLst>
                  <a:path w="439" h="500">
                    <a:moveTo>
                      <a:pt x="0" y="467"/>
                    </a:moveTo>
                    <a:lnTo>
                      <a:pt x="16" y="306"/>
                    </a:lnTo>
                    <a:lnTo>
                      <a:pt x="44" y="228"/>
                    </a:lnTo>
                    <a:lnTo>
                      <a:pt x="92" y="161"/>
                    </a:lnTo>
                    <a:lnTo>
                      <a:pt x="166" y="95"/>
                    </a:lnTo>
                    <a:lnTo>
                      <a:pt x="255" y="34"/>
                    </a:lnTo>
                    <a:lnTo>
                      <a:pt x="348" y="0"/>
                    </a:lnTo>
                    <a:lnTo>
                      <a:pt x="430" y="13"/>
                    </a:lnTo>
                    <a:lnTo>
                      <a:pt x="439" y="55"/>
                    </a:lnTo>
                    <a:lnTo>
                      <a:pt x="371" y="104"/>
                    </a:lnTo>
                    <a:lnTo>
                      <a:pt x="278" y="160"/>
                    </a:lnTo>
                    <a:lnTo>
                      <a:pt x="207" y="220"/>
                    </a:lnTo>
                    <a:lnTo>
                      <a:pt x="99" y="492"/>
                    </a:lnTo>
                    <a:lnTo>
                      <a:pt x="42" y="500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5105160" y="5472360"/>
                <a:ext cx="77400" cy="93600"/>
              </a:xfrm>
              <a:custGeom>
                <a:avLst/>
                <a:gdLst/>
                <a:ahLst/>
                <a:rect l="l" t="t" r="r" b="b"/>
                <a:pathLst>
                  <a:path w="504" h="509">
                    <a:moveTo>
                      <a:pt x="0" y="467"/>
                    </a:moveTo>
                    <a:lnTo>
                      <a:pt x="35" y="306"/>
                    </a:lnTo>
                    <a:lnTo>
                      <a:pt x="73" y="228"/>
                    </a:lnTo>
                    <a:lnTo>
                      <a:pt x="124" y="161"/>
                    </a:lnTo>
                    <a:lnTo>
                      <a:pt x="207" y="95"/>
                    </a:lnTo>
                    <a:lnTo>
                      <a:pt x="306" y="32"/>
                    </a:lnTo>
                    <a:lnTo>
                      <a:pt x="409" y="0"/>
                    </a:lnTo>
                    <a:lnTo>
                      <a:pt x="496" y="21"/>
                    </a:lnTo>
                    <a:lnTo>
                      <a:pt x="504" y="70"/>
                    </a:lnTo>
                    <a:lnTo>
                      <a:pt x="428" y="118"/>
                    </a:lnTo>
                    <a:lnTo>
                      <a:pt x="322" y="171"/>
                    </a:lnTo>
                    <a:lnTo>
                      <a:pt x="240" y="228"/>
                    </a:lnTo>
                    <a:lnTo>
                      <a:pt x="169" y="374"/>
                    </a:lnTo>
                    <a:lnTo>
                      <a:pt x="137" y="448"/>
                    </a:lnTo>
                    <a:lnTo>
                      <a:pt x="92" y="509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5932800" y="4495680"/>
              <a:ext cx="696240" cy="810720"/>
              <a:chOff x="5932800" y="4495680"/>
              <a:chExt cx="696240" cy="810720"/>
            </a:xfrm>
          </p:grpSpPr>
          <p:sp>
            <p:nvSpPr>
              <p:cNvPr id="530" name=""/>
              <p:cNvSpPr/>
              <p:nvPr/>
            </p:nvSpPr>
            <p:spPr>
              <a:xfrm>
                <a:off x="5949000" y="4582080"/>
                <a:ext cx="653760" cy="708120"/>
              </a:xfrm>
              <a:custGeom>
                <a:avLst/>
                <a:gdLst/>
                <a:ahLst/>
                <a:rect l="l" t="t" r="r" b="b"/>
                <a:pathLst>
                  <a:path w="4164" h="3761">
                    <a:moveTo>
                      <a:pt x="0" y="1840"/>
                    </a:moveTo>
                    <a:lnTo>
                      <a:pt x="731" y="1861"/>
                    </a:lnTo>
                    <a:lnTo>
                      <a:pt x="1837" y="2435"/>
                    </a:lnTo>
                    <a:lnTo>
                      <a:pt x="1575" y="2790"/>
                    </a:lnTo>
                    <a:lnTo>
                      <a:pt x="1243" y="3260"/>
                    </a:lnTo>
                    <a:lnTo>
                      <a:pt x="1389" y="3573"/>
                    </a:lnTo>
                    <a:lnTo>
                      <a:pt x="1889" y="3761"/>
                    </a:lnTo>
                    <a:lnTo>
                      <a:pt x="2619" y="3720"/>
                    </a:lnTo>
                    <a:lnTo>
                      <a:pt x="3016" y="3376"/>
                    </a:lnTo>
                    <a:lnTo>
                      <a:pt x="3392" y="1724"/>
                    </a:lnTo>
                    <a:lnTo>
                      <a:pt x="4164" y="429"/>
                    </a:lnTo>
                    <a:lnTo>
                      <a:pt x="4048" y="272"/>
                    </a:lnTo>
                    <a:lnTo>
                      <a:pt x="3434" y="62"/>
                    </a:lnTo>
                    <a:lnTo>
                      <a:pt x="2495" y="0"/>
                    </a:lnTo>
                    <a:lnTo>
                      <a:pt x="1377" y="209"/>
                    </a:lnTo>
                    <a:lnTo>
                      <a:pt x="543" y="846"/>
                    </a:lnTo>
                    <a:lnTo>
                      <a:pt x="157" y="1442"/>
                    </a:lnTo>
                    <a:lnTo>
                      <a:pt x="0" y="1840"/>
                    </a:lnTo>
                    <a:lnTo>
                      <a:pt x="0" y="1840"/>
                    </a:lnTo>
                    <a:close/>
                  </a:path>
                </a:pathLst>
              </a:custGeom>
              <a:solidFill>
                <a:srgbClr val="fbd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163560" y="4660920"/>
                <a:ext cx="293040" cy="151200"/>
              </a:xfrm>
              <a:custGeom>
                <a:avLst/>
                <a:gdLst/>
                <a:ahLst/>
                <a:rect l="l" t="t" r="r" b="b"/>
                <a:pathLst>
                  <a:path w="1866" h="804">
                    <a:moveTo>
                      <a:pt x="0" y="407"/>
                    </a:moveTo>
                    <a:lnTo>
                      <a:pt x="302" y="701"/>
                    </a:lnTo>
                    <a:lnTo>
                      <a:pt x="960" y="804"/>
                    </a:lnTo>
                    <a:lnTo>
                      <a:pt x="1617" y="637"/>
                    </a:lnTo>
                    <a:lnTo>
                      <a:pt x="1866" y="523"/>
                    </a:lnTo>
                    <a:lnTo>
                      <a:pt x="1648" y="220"/>
                    </a:lnTo>
                    <a:lnTo>
                      <a:pt x="1074" y="0"/>
                    </a:lnTo>
                    <a:lnTo>
                      <a:pt x="521" y="42"/>
                    </a:lnTo>
                    <a:lnTo>
                      <a:pt x="0" y="407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263640" y="4684680"/>
                <a:ext cx="93240" cy="108360"/>
              </a:xfrm>
              <a:custGeom>
                <a:avLst/>
                <a:gdLst/>
                <a:ahLst/>
                <a:rect l="l" t="t" r="r" b="b"/>
                <a:pathLst>
                  <a:path w="595" h="576">
                    <a:moveTo>
                      <a:pt x="407" y="0"/>
                    </a:moveTo>
                    <a:lnTo>
                      <a:pt x="167" y="0"/>
                    </a:lnTo>
                    <a:lnTo>
                      <a:pt x="0" y="242"/>
                    </a:lnTo>
                    <a:lnTo>
                      <a:pt x="104" y="491"/>
                    </a:lnTo>
                    <a:lnTo>
                      <a:pt x="397" y="576"/>
                    </a:lnTo>
                    <a:lnTo>
                      <a:pt x="595" y="314"/>
                    </a:lnTo>
                    <a:lnTo>
                      <a:pt x="407" y="0"/>
                    </a:lnTo>
                    <a:lnTo>
                      <a:pt x="407" y="0"/>
                    </a:lnTo>
                    <a:close/>
                  </a:path>
                </a:pathLst>
              </a:custGeom>
              <a:solidFill>
                <a:srgbClr val="99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48080" y="5175720"/>
                <a:ext cx="107640" cy="69840"/>
              </a:xfrm>
              <a:custGeom>
                <a:avLst/>
                <a:gdLst/>
                <a:ahLst/>
                <a:rect l="l" t="t" r="r" b="b"/>
                <a:pathLst>
                  <a:path w="686" h="373">
                    <a:moveTo>
                      <a:pt x="91" y="373"/>
                    </a:moveTo>
                    <a:lnTo>
                      <a:pt x="0" y="173"/>
                    </a:lnTo>
                    <a:lnTo>
                      <a:pt x="91" y="0"/>
                    </a:lnTo>
                    <a:lnTo>
                      <a:pt x="538" y="90"/>
                    </a:lnTo>
                    <a:lnTo>
                      <a:pt x="648" y="137"/>
                    </a:lnTo>
                    <a:lnTo>
                      <a:pt x="686" y="183"/>
                    </a:lnTo>
                    <a:lnTo>
                      <a:pt x="648" y="230"/>
                    </a:lnTo>
                    <a:lnTo>
                      <a:pt x="538" y="278"/>
                    </a:lnTo>
                    <a:lnTo>
                      <a:pt x="352" y="325"/>
                    </a:lnTo>
                    <a:lnTo>
                      <a:pt x="91" y="373"/>
                    </a:lnTo>
                    <a:lnTo>
                      <a:pt x="91" y="373"/>
                    </a:lnTo>
                    <a:close/>
                  </a:path>
                </a:pathLst>
              </a:custGeom>
              <a:solidFill>
                <a:srgbClr val="d42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932800" y="4845600"/>
                <a:ext cx="393480" cy="203760"/>
              </a:xfrm>
              <a:custGeom>
                <a:avLst/>
                <a:gdLst/>
                <a:ahLst/>
                <a:rect l="l" t="t" r="r" b="b"/>
                <a:pathLst>
                  <a:path w="2505" h="1083">
                    <a:moveTo>
                      <a:pt x="67" y="604"/>
                    </a:moveTo>
                    <a:lnTo>
                      <a:pt x="399" y="587"/>
                    </a:lnTo>
                    <a:lnTo>
                      <a:pt x="844" y="612"/>
                    </a:lnTo>
                    <a:lnTo>
                      <a:pt x="1087" y="713"/>
                    </a:lnTo>
                    <a:lnTo>
                      <a:pt x="1224" y="787"/>
                    </a:lnTo>
                    <a:lnTo>
                      <a:pt x="1361" y="866"/>
                    </a:lnTo>
                    <a:lnTo>
                      <a:pt x="1498" y="943"/>
                    </a:lnTo>
                    <a:lnTo>
                      <a:pt x="1627" y="1011"/>
                    </a:lnTo>
                    <a:lnTo>
                      <a:pt x="1743" y="1058"/>
                    </a:lnTo>
                    <a:lnTo>
                      <a:pt x="1844" y="1083"/>
                    </a:lnTo>
                    <a:lnTo>
                      <a:pt x="2100" y="1055"/>
                    </a:lnTo>
                    <a:lnTo>
                      <a:pt x="2311" y="918"/>
                    </a:lnTo>
                    <a:lnTo>
                      <a:pt x="2452" y="707"/>
                    </a:lnTo>
                    <a:lnTo>
                      <a:pt x="2505" y="454"/>
                    </a:lnTo>
                    <a:lnTo>
                      <a:pt x="2469" y="245"/>
                    </a:lnTo>
                    <a:lnTo>
                      <a:pt x="2425" y="161"/>
                    </a:lnTo>
                    <a:lnTo>
                      <a:pt x="2366" y="95"/>
                    </a:lnTo>
                    <a:lnTo>
                      <a:pt x="2294" y="42"/>
                    </a:lnTo>
                    <a:lnTo>
                      <a:pt x="2209" y="9"/>
                    </a:lnTo>
                    <a:lnTo>
                      <a:pt x="1999" y="0"/>
                    </a:lnTo>
                    <a:lnTo>
                      <a:pt x="1836" y="66"/>
                    </a:lnTo>
                    <a:lnTo>
                      <a:pt x="1718" y="203"/>
                    </a:lnTo>
                    <a:lnTo>
                      <a:pt x="1648" y="367"/>
                    </a:lnTo>
                    <a:lnTo>
                      <a:pt x="1629" y="513"/>
                    </a:lnTo>
                    <a:lnTo>
                      <a:pt x="1648" y="574"/>
                    </a:lnTo>
                    <a:lnTo>
                      <a:pt x="1688" y="616"/>
                    </a:lnTo>
                    <a:lnTo>
                      <a:pt x="1806" y="642"/>
                    </a:lnTo>
                    <a:lnTo>
                      <a:pt x="1923" y="595"/>
                    </a:lnTo>
                    <a:lnTo>
                      <a:pt x="1984" y="479"/>
                    </a:lnTo>
                    <a:lnTo>
                      <a:pt x="1969" y="370"/>
                    </a:lnTo>
                    <a:lnTo>
                      <a:pt x="1929" y="308"/>
                    </a:lnTo>
                    <a:lnTo>
                      <a:pt x="1876" y="222"/>
                    </a:lnTo>
                    <a:lnTo>
                      <a:pt x="1895" y="171"/>
                    </a:lnTo>
                    <a:lnTo>
                      <a:pt x="1937" y="133"/>
                    </a:lnTo>
                    <a:lnTo>
                      <a:pt x="2041" y="99"/>
                    </a:lnTo>
                    <a:lnTo>
                      <a:pt x="2157" y="129"/>
                    </a:lnTo>
                    <a:lnTo>
                      <a:pt x="2248" y="205"/>
                    </a:lnTo>
                    <a:lnTo>
                      <a:pt x="2332" y="429"/>
                    </a:lnTo>
                    <a:lnTo>
                      <a:pt x="2311" y="572"/>
                    </a:lnTo>
                    <a:lnTo>
                      <a:pt x="2254" y="709"/>
                    </a:lnTo>
                    <a:lnTo>
                      <a:pt x="2212" y="768"/>
                    </a:lnTo>
                    <a:lnTo>
                      <a:pt x="2167" y="819"/>
                    </a:lnTo>
                    <a:lnTo>
                      <a:pt x="2115" y="855"/>
                    </a:lnTo>
                    <a:lnTo>
                      <a:pt x="2058" y="876"/>
                    </a:lnTo>
                    <a:lnTo>
                      <a:pt x="1800" y="853"/>
                    </a:lnTo>
                    <a:lnTo>
                      <a:pt x="1678" y="798"/>
                    </a:lnTo>
                    <a:lnTo>
                      <a:pt x="1562" y="728"/>
                    </a:lnTo>
                    <a:lnTo>
                      <a:pt x="1450" y="650"/>
                    </a:lnTo>
                    <a:lnTo>
                      <a:pt x="1342" y="572"/>
                    </a:lnTo>
                    <a:lnTo>
                      <a:pt x="1239" y="503"/>
                    </a:lnTo>
                    <a:lnTo>
                      <a:pt x="1140" y="454"/>
                    </a:lnTo>
                    <a:lnTo>
                      <a:pt x="939" y="393"/>
                    </a:lnTo>
                    <a:lnTo>
                      <a:pt x="713" y="349"/>
                    </a:lnTo>
                    <a:lnTo>
                      <a:pt x="247" y="338"/>
                    </a:lnTo>
                    <a:lnTo>
                      <a:pt x="131" y="387"/>
                    </a:lnTo>
                    <a:lnTo>
                      <a:pt x="0" y="551"/>
                    </a:lnTo>
                    <a:lnTo>
                      <a:pt x="67" y="604"/>
                    </a:lnTo>
                    <a:lnTo>
                      <a:pt x="67" y="6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932800" y="4572360"/>
                <a:ext cx="681480" cy="734040"/>
              </a:xfrm>
              <a:custGeom>
                <a:avLst/>
                <a:gdLst/>
                <a:ahLst/>
                <a:rect l="l" t="t" r="r" b="b"/>
                <a:pathLst>
                  <a:path w="4339" h="3901">
                    <a:moveTo>
                      <a:pt x="247" y="1892"/>
                    </a:moveTo>
                    <a:lnTo>
                      <a:pt x="321" y="1671"/>
                    </a:lnTo>
                    <a:lnTo>
                      <a:pt x="371" y="1550"/>
                    </a:lnTo>
                    <a:lnTo>
                      <a:pt x="428" y="1424"/>
                    </a:lnTo>
                    <a:lnTo>
                      <a:pt x="496" y="1295"/>
                    </a:lnTo>
                    <a:lnTo>
                      <a:pt x="578" y="1166"/>
                    </a:lnTo>
                    <a:lnTo>
                      <a:pt x="673" y="1035"/>
                    </a:lnTo>
                    <a:lnTo>
                      <a:pt x="785" y="907"/>
                    </a:lnTo>
                    <a:lnTo>
                      <a:pt x="914" y="784"/>
                    </a:lnTo>
                    <a:lnTo>
                      <a:pt x="1062" y="666"/>
                    </a:lnTo>
                    <a:lnTo>
                      <a:pt x="1144" y="609"/>
                    </a:lnTo>
                    <a:lnTo>
                      <a:pt x="1232" y="554"/>
                    </a:lnTo>
                    <a:lnTo>
                      <a:pt x="1325" y="502"/>
                    </a:lnTo>
                    <a:lnTo>
                      <a:pt x="1422" y="453"/>
                    </a:lnTo>
                    <a:lnTo>
                      <a:pt x="1526" y="407"/>
                    </a:lnTo>
                    <a:lnTo>
                      <a:pt x="1636" y="364"/>
                    </a:lnTo>
                    <a:lnTo>
                      <a:pt x="1752" y="324"/>
                    </a:lnTo>
                    <a:lnTo>
                      <a:pt x="1876" y="286"/>
                    </a:lnTo>
                    <a:lnTo>
                      <a:pt x="2144" y="223"/>
                    </a:lnTo>
                    <a:lnTo>
                      <a:pt x="2439" y="177"/>
                    </a:lnTo>
                    <a:lnTo>
                      <a:pt x="2866" y="153"/>
                    </a:lnTo>
                    <a:lnTo>
                      <a:pt x="3336" y="183"/>
                    </a:lnTo>
                    <a:lnTo>
                      <a:pt x="3792" y="284"/>
                    </a:lnTo>
                    <a:lnTo>
                      <a:pt x="3999" y="364"/>
                    </a:lnTo>
                    <a:lnTo>
                      <a:pt x="4183" y="468"/>
                    </a:lnTo>
                    <a:lnTo>
                      <a:pt x="4172" y="519"/>
                    </a:lnTo>
                    <a:lnTo>
                      <a:pt x="4103" y="633"/>
                    </a:lnTo>
                    <a:lnTo>
                      <a:pt x="4054" y="709"/>
                    </a:lnTo>
                    <a:lnTo>
                      <a:pt x="3997" y="795"/>
                    </a:lnTo>
                    <a:lnTo>
                      <a:pt x="3932" y="890"/>
                    </a:lnTo>
                    <a:lnTo>
                      <a:pt x="3864" y="991"/>
                    </a:lnTo>
                    <a:lnTo>
                      <a:pt x="3792" y="1097"/>
                    </a:lnTo>
                    <a:lnTo>
                      <a:pt x="3718" y="1206"/>
                    </a:lnTo>
                    <a:lnTo>
                      <a:pt x="3645" y="1318"/>
                    </a:lnTo>
                    <a:lnTo>
                      <a:pt x="3577" y="1426"/>
                    </a:lnTo>
                    <a:lnTo>
                      <a:pt x="3512" y="1534"/>
                    </a:lnTo>
                    <a:lnTo>
                      <a:pt x="3453" y="1637"/>
                    </a:lnTo>
                    <a:lnTo>
                      <a:pt x="3364" y="1825"/>
                    </a:lnTo>
                    <a:lnTo>
                      <a:pt x="3250" y="2186"/>
                    </a:lnTo>
                    <a:lnTo>
                      <a:pt x="3159" y="2572"/>
                    </a:lnTo>
                    <a:lnTo>
                      <a:pt x="3077" y="2964"/>
                    </a:lnTo>
                    <a:lnTo>
                      <a:pt x="2992" y="3340"/>
                    </a:lnTo>
                    <a:lnTo>
                      <a:pt x="2965" y="3405"/>
                    </a:lnTo>
                    <a:lnTo>
                      <a:pt x="2916" y="3485"/>
                    </a:lnTo>
                    <a:lnTo>
                      <a:pt x="2857" y="3559"/>
                    </a:lnTo>
                    <a:lnTo>
                      <a:pt x="2802" y="3604"/>
                    </a:lnTo>
                    <a:lnTo>
                      <a:pt x="2708" y="3652"/>
                    </a:lnTo>
                    <a:lnTo>
                      <a:pt x="2591" y="3696"/>
                    </a:lnTo>
                    <a:lnTo>
                      <a:pt x="2372" y="3738"/>
                    </a:lnTo>
                    <a:lnTo>
                      <a:pt x="1847" y="3690"/>
                    </a:lnTo>
                    <a:lnTo>
                      <a:pt x="1635" y="3604"/>
                    </a:lnTo>
                    <a:lnTo>
                      <a:pt x="1521" y="3439"/>
                    </a:lnTo>
                    <a:lnTo>
                      <a:pt x="1524" y="3253"/>
                    </a:lnTo>
                    <a:lnTo>
                      <a:pt x="1559" y="3158"/>
                    </a:lnTo>
                    <a:lnTo>
                      <a:pt x="1608" y="3063"/>
                    </a:lnTo>
                    <a:lnTo>
                      <a:pt x="1674" y="2970"/>
                    </a:lnTo>
                    <a:lnTo>
                      <a:pt x="1749" y="2880"/>
                    </a:lnTo>
                    <a:lnTo>
                      <a:pt x="1834" y="2797"/>
                    </a:lnTo>
                    <a:lnTo>
                      <a:pt x="1925" y="2719"/>
                    </a:lnTo>
                    <a:lnTo>
                      <a:pt x="2032" y="2631"/>
                    </a:lnTo>
                    <a:lnTo>
                      <a:pt x="2155" y="2521"/>
                    </a:lnTo>
                    <a:lnTo>
                      <a:pt x="2285" y="2390"/>
                    </a:lnTo>
                    <a:lnTo>
                      <a:pt x="2406" y="2238"/>
                    </a:lnTo>
                    <a:lnTo>
                      <a:pt x="1827" y="2479"/>
                    </a:lnTo>
                    <a:lnTo>
                      <a:pt x="1800" y="2595"/>
                    </a:lnTo>
                    <a:lnTo>
                      <a:pt x="1739" y="2715"/>
                    </a:lnTo>
                    <a:lnTo>
                      <a:pt x="1654" y="2838"/>
                    </a:lnTo>
                    <a:lnTo>
                      <a:pt x="1555" y="2960"/>
                    </a:lnTo>
                    <a:lnTo>
                      <a:pt x="1458" y="3082"/>
                    </a:lnTo>
                    <a:lnTo>
                      <a:pt x="1372" y="3203"/>
                    </a:lnTo>
                    <a:lnTo>
                      <a:pt x="1291" y="3430"/>
                    </a:lnTo>
                    <a:lnTo>
                      <a:pt x="1304" y="3502"/>
                    </a:lnTo>
                    <a:lnTo>
                      <a:pt x="1340" y="3570"/>
                    </a:lnTo>
                    <a:lnTo>
                      <a:pt x="1393" y="3637"/>
                    </a:lnTo>
                    <a:lnTo>
                      <a:pt x="1460" y="3696"/>
                    </a:lnTo>
                    <a:lnTo>
                      <a:pt x="1536" y="3749"/>
                    </a:lnTo>
                    <a:lnTo>
                      <a:pt x="1610" y="3793"/>
                    </a:lnTo>
                    <a:lnTo>
                      <a:pt x="1743" y="3844"/>
                    </a:lnTo>
                    <a:lnTo>
                      <a:pt x="1971" y="3880"/>
                    </a:lnTo>
                    <a:lnTo>
                      <a:pt x="2218" y="3901"/>
                    </a:lnTo>
                    <a:lnTo>
                      <a:pt x="2686" y="3869"/>
                    </a:lnTo>
                    <a:lnTo>
                      <a:pt x="2864" y="3802"/>
                    </a:lnTo>
                    <a:lnTo>
                      <a:pt x="3028" y="3675"/>
                    </a:lnTo>
                    <a:lnTo>
                      <a:pt x="3166" y="3511"/>
                    </a:lnTo>
                    <a:lnTo>
                      <a:pt x="3265" y="3331"/>
                    </a:lnTo>
                    <a:lnTo>
                      <a:pt x="3374" y="2989"/>
                    </a:lnTo>
                    <a:lnTo>
                      <a:pt x="3453" y="2601"/>
                    </a:lnTo>
                    <a:lnTo>
                      <a:pt x="3526" y="2209"/>
                    </a:lnTo>
                    <a:lnTo>
                      <a:pt x="3567" y="2025"/>
                    </a:lnTo>
                    <a:lnTo>
                      <a:pt x="3611" y="1858"/>
                    </a:lnTo>
                    <a:lnTo>
                      <a:pt x="3676" y="1690"/>
                    </a:lnTo>
                    <a:lnTo>
                      <a:pt x="3759" y="1523"/>
                    </a:lnTo>
                    <a:lnTo>
                      <a:pt x="3858" y="1354"/>
                    </a:lnTo>
                    <a:lnTo>
                      <a:pt x="3963" y="1187"/>
                    </a:lnTo>
                    <a:lnTo>
                      <a:pt x="4016" y="1101"/>
                    </a:lnTo>
                    <a:lnTo>
                      <a:pt x="4071" y="1017"/>
                    </a:lnTo>
                    <a:lnTo>
                      <a:pt x="4172" y="848"/>
                    </a:lnTo>
                    <a:lnTo>
                      <a:pt x="4263" y="679"/>
                    </a:lnTo>
                    <a:lnTo>
                      <a:pt x="4339" y="510"/>
                    </a:lnTo>
                    <a:lnTo>
                      <a:pt x="4316" y="381"/>
                    </a:lnTo>
                    <a:lnTo>
                      <a:pt x="4273" y="261"/>
                    </a:lnTo>
                    <a:lnTo>
                      <a:pt x="4153" y="219"/>
                    </a:lnTo>
                    <a:lnTo>
                      <a:pt x="4033" y="183"/>
                    </a:lnTo>
                    <a:lnTo>
                      <a:pt x="3792" y="118"/>
                    </a:lnTo>
                    <a:lnTo>
                      <a:pt x="3547" y="69"/>
                    </a:lnTo>
                    <a:lnTo>
                      <a:pt x="3301" y="35"/>
                    </a:lnTo>
                    <a:lnTo>
                      <a:pt x="2813" y="0"/>
                    </a:lnTo>
                    <a:lnTo>
                      <a:pt x="2332" y="12"/>
                    </a:lnTo>
                    <a:lnTo>
                      <a:pt x="1865" y="86"/>
                    </a:lnTo>
                    <a:lnTo>
                      <a:pt x="1644" y="153"/>
                    </a:lnTo>
                    <a:lnTo>
                      <a:pt x="1431" y="236"/>
                    </a:lnTo>
                    <a:lnTo>
                      <a:pt x="1329" y="284"/>
                    </a:lnTo>
                    <a:lnTo>
                      <a:pt x="1228" y="335"/>
                    </a:lnTo>
                    <a:lnTo>
                      <a:pt x="1131" y="390"/>
                    </a:lnTo>
                    <a:lnTo>
                      <a:pt x="1036" y="447"/>
                    </a:lnTo>
                    <a:lnTo>
                      <a:pt x="945" y="510"/>
                    </a:lnTo>
                    <a:lnTo>
                      <a:pt x="857" y="575"/>
                    </a:lnTo>
                    <a:lnTo>
                      <a:pt x="692" y="711"/>
                    </a:lnTo>
                    <a:lnTo>
                      <a:pt x="540" y="858"/>
                    </a:lnTo>
                    <a:lnTo>
                      <a:pt x="405" y="1012"/>
                    </a:lnTo>
                    <a:lnTo>
                      <a:pt x="344" y="1092"/>
                    </a:lnTo>
                    <a:lnTo>
                      <a:pt x="287" y="1171"/>
                    </a:lnTo>
                    <a:lnTo>
                      <a:pt x="188" y="1337"/>
                    </a:lnTo>
                    <a:lnTo>
                      <a:pt x="49" y="1673"/>
                    </a:lnTo>
                    <a:lnTo>
                      <a:pt x="0" y="2008"/>
                    </a:lnTo>
                    <a:lnTo>
                      <a:pt x="247" y="1892"/>
                    </a:lnTo>
                    <a:lnTo>
                      <a:pt x="247" y="18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145560" y="4645440"/>
                <a:ext cx="344880" cy="181080"/>
              </a:xfrm>
              <a:custGeom>
                <a:avLst/>
                <a:gdLst/>
                <a:ahLst/>
                <a:rect l="l" t="t" r="r" b="b"/>
                <a:pathLst>
                  <a:path w="2199" h="962">
                    <a:moveTo>
                      <a:pt x="1844" y="692"/>
                    </a:moveTo>
                    <a:lnTo>
                      <a:pt x="1749" y="742"/>
                    </a:lnTo>
                    <a:lnTo>
                      <a:pt x="1648" y="791"/>
                    </a:lnTo>
                    <a:lnTo>
                      <a:pt x="1540" y="837"/>
                    </a:lnTo>
                    <a:lnTo>
                      <a:pt x="1426" y="877"/>
                    </a:lnTo>
                    <a:lnTo>
                      <a:pt x="1184" y="937"/>
                    </a:lnTo>
                    <a:lnTo>
                      <a:pt x="935" y="962"/>
                    </a:lnTo>
                    <a:lnTo>
                      <a:pt x="682" y="941"/>
                    </a:lnTo>
                    <a:lnTo>
                      <a:pt x="437" y="859"/>
                    </a:lnTo>
                    <a:lnTo>
                      <a:pt x="319" y="793"/>
                    </a:lnTo>
                    <a:lnTo>
                      <a:pt x="207" y="709"/>
                    </a:lnTo>
                    <a:lnTo>
                      <a:pt x="101" y="603"/>
                    </a:lnTo>
                    <a:lnTo>
                      <a:pt x="0" y="477"/>
                    </a:lnTo>
                    <a:lnTo>
                      <a:pt x="53" y="411"/>
                    </a:lnTo>
                    <a:lnTo>
                      <a:pt x="108" y="350"/>
                    </a:lnTo>
                    <a:lnTo>
                      <a:pt x="224" y="244"/>
                    </a:lnTo>
                    <a:lnTo>
                      <a:pt x="285" y="198"/>
                    </a:lnTo>
                    <a:lnTo>
                      <a:pt x="350" y="158"/>
                    </a:lnTo>
                    <a:lnTo>
                      <a:pt x="481" y="91"/>
                    </a:lnTo>
                    <a:lnTo>
                      <a:pt x="620" y="44"/>
                    </a:lnTo>
                    <a:lnTo>
                      <a:pt x="762" y="14"/>
                    </a:lnTo>
                    <a:lnTo>
                      <a:pt x="1057" y="0"/>
                    </a:lnTo>
                    <a:lnTo>
                      <a:pt x="1357" y="42"/>
                    </a:lnTo>
                    <a:lnTo>
                      <a:pt x="1654" y="135"/>
                    </a:lnTo>
                    <a:lnTo>
                      <a:pt x="1798" y="198"/>
                    </a:lnTo>
                    <a:lnTo>
                      <a:pt x="1937" y="268"/>
                    </a:lnTo>
                    <a:lnTo>
                      <a:pt x="2072" y="348"/>
                    </a:lnTo>
                    <a:lnTo>
                      <a:pt x="2199" y="436"/>
                    </a:lnTo>
                    <a:lnTo>
                      <a:pt x="2093" y="538"/>
                    </a:lnTo>
                    <a:lnTo>
                      <a:pt x="1992" y="633"/>
                    </a:lnTo>
                    <a:lnTo>
                      <a:pt x="1901" y="559"/>
                    </a:lnTo>
                    <a:lnTo>
                      <a:pt x="1804" y="489"/>
                    </a:lnTo>
                    <a:lnTo>
                      <a:pt x="1701" y="422"/>
                    </a:lnTo>
                    <a:lnTo>
                      <a:pt x="1593" y="360"/>
                    </a:lnTo>
                    <a:lnTo>
                      <a:pt x="1483" y="302"/>
                    </a:lnTo>
                    <a:lnTo>
                      <a:pt x="1371" y="255"/>
                    </a:lnTo>
                    <a:lnTo>
                      <a:pt x="1255" y="215"/>
                    </a:lnTo>
                    <a:lnTo>
                      <a:pt x="1139" y="187"/>
                    </a:lnTo>
                    <a:lnTo>
                      <a:pt x="905" y="166"/>
                    </a:lnTo>
                    <a:lnTo>
                      <a:pt x="677" y="200"/>
                    </a:lnTo>
                    <a:lnTo>
                      <a:pt x="462" y="304"/>
                    </a:lnTo>
                    <a:lnTo>
                      <a:pt x="264" y="485"/>
                    </a:lnTo>
                    <a:lnTo>
                      <a:pt x="318" y="563"/>
                    </a:lnTo>
                    <a:lnTo>
                      <a:pt x="384" y="628"/>
                    </a:lnTo>
                    <a:lnTo>
                      <a:pt x="464" y="677"/>
                    </a:lnTo>
                    <a:lnTo>
                      <a:pt x="555" y="717"/>
                    </a:lnTo>
                    <a:lnTo>
                      <a:pt x="760" y="764"/>
                    </a:lnTo>
                    <a:lnTo>
                      <a:pt x="990" y="778"/>
                    </a:lnTo>
                    <a:lnTo>
                      <a:pt x="1456" y="743"/>
                    </a:lnTo>
                    <a:lnTo>
                      <a:pt x="1844" y="692"/>
                    </a:lnTo>
                    <a:lnTo>
                      <a:pt x="1844" y="6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296040" y="4716000"/>
                <a:ext cx="28440" cy="34200"/>
              </a:xfrm>
              <a:custGeom>
                <a:avLst/>
                <a:gdLst/>
                <a:ahLst/>
                <a:rect l="l" t="t" r="r" b="b"/>
                <a:pathLst>
                  <a:path w="181" h="182">
                    <a:moveTo>
                      <a:pt x="91" y="0"/>
                    </a:moveTo>
                    <a:lnTo>
                      <a:pt x="154" y="28"/>
                    </a:lnTo>
                    <a:lnTo>
                      <a:pt x="181" y="91"/>
                    </a:lnTo>
                    <a:lnTo>
                      <a:pt x="154" y="155"/>
                    </a:lnTo>
                    <a:lnTo>
                      <a:pt x="91" y="182"/>
                    </a:lnTo>
                    <a:lnTo>
                      <a:pt x="27" y="155"/>
                    </a:lnTo>
                    <a:lnTo>
                      <a:pt x="0" y="91"/>
                    </a:lnTo>
                    <a:lnTo>
                      <a:pt x="27" y="28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290640" y="4666320"/>
                <a:ext cx="75240" cy="133560"/>
              </a:xfrm>
              <a:custGeom>
                <a:avLst/>
                <a:gdLst/>
                <a:ahLst/>
                <a:rect l="l" t="t" r="r" b="b"/>
                <a:pathLst>
                  <a:path w="479" h="711">
                    <a:moveTo>
                      <a:pt x="125" y="711"/>
                    </a:moveTo>
                    <a:lnTo>
                      <a:pt x="0" y="630"/>
                    </a:lnTo>
                    <a:lnTo>
                      <a:pt x="125" y="555"/>
                    </a:lnTo>
                    <a:lnTo>
                      <a:pt x="268" y="495"/>
                    </a:lnTo>
                    <a:lnTo>
                      <a:pt x="330" y="348"/>
                    </a:lnTo>
                    <a:lnTo>
                      <a:pt x="313" y="268"/>
                    </a:lnTo>
                    <a:lnTo>
                      <a:pt x="268" y="200"/>
                    </a:lnTo>
                    <a:lnTo>
                      <a:pt x="201" y="151"/>
                    </a:lnTo>
                    <a:lnTo>
                      <a:pt x="125" y="133"/>
                    </a:lnTo>
                    <a:lnTo>
                      <a:pt x="0" y="75"/>
                    </a:lnTo>
                    <a:lnTo>
                      <a:pt x="125" y="0"/>
                    </a:lnTo>
                    <a:lnTo>
                      <a:pt x="264" y="29"/>
                    </a:lnTo>
                    <a:lnTo>
                      <a:pt x="376" y="103"/>
                    </a:lnTo>
                    <a:lnTo>
                      <a:pt x="452" y="217"/>
                    </a:lnTo>
                    <a:lnTo>
                      <a:pt x="479" y="356"/>
                    </a:lnTo>
                    <a:lnTo>
                      <a:pt x="452" y="495"/>
                    </a:lnTo>
                    <a:lnTo>
                      <a:pt x="420" y="557"/>
                    </a:lnTo>
                    <a:lnTo>
                      <a:pt x="376" y="609"/>
                    </a:lnTo>
                    <a:lnTo>
                      <a:pt x="323" y="652"/>
                    </a:lnTo>
                    <a:lnTo>
                      <a:pt x="264" y="685"/>
                    </a:lnTo>
                    <a:lnTo>
                      <a:pt x="125" y="711"/>
                    </a:lnTo>
                    <a:lnTo>
                      <a:pt x="125" y="7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254280" y="4666320"/>
                <a:ext cx="75600" cy="133560"/>
              </a:xfrm>
              <a:custGeom>
                <a:avLst/>
                <a:gdLst/>
                <a:ahLst/>
                <a:rect l="l" t="t" r="r" b="b"/>
                <a:pathLst>
                  <a:path w="481" h="711">
                    <a:moveTo>
                      <a:pt x="357" y="711"/>
                    </a:moveTo>
                    <a:lnTo>
                      <a:pt x="481" y="630"/>
                    </a:lnTo>
                    <a:lnTo>
                      <a:pt x="357" y="555"/>
                    </a:lnTo>
                    <a:lnTo>
                      <a:pt x="217" y="495"/>
                    </a:lnTo>
                    <a:lnTo>
                      <a:pt x="158" y="348"/>
                    </a:lnTo>
                    <a:lnTo>
                      <a:pt x="175" y="268"/>
                    </a:lnTo>
                    <a:lnTo>
                      <a:pt x="217" y="200"/>
                    </a:lnTo>
                    <a:lnTo>
                      <a:pt x="279" y="151"/>
                    </a:lnTo>
                    <a:lnTo>
                      <a:pt x="357" y="133"/>
                    </a:lnTo>
                    <a:lnTo>
                      <a:pt x="481" y="75"/>
                    </a:lnTo>
                    <a:lnTo>
                      <a:pt x="357" y="0"/>
                    </a:lnTo>
                    <a:lnTo>
                      <a:pt x="217" y="29"/>
                    </a:lnTo>
                    <a:lnTo>
                      <a:pt x="104" y="103"/>
                    </a:lnTo>
                    <a:lnTo>
                      <a:pt x="28" y="217"/>
                    </a:lnTo>
                    <a:lnTo>
                      <a:pt x="0" y="356"/>
                    </a:lnTo>
                    <a:lnTo>
                      <a:pt x="28" y="495"/>
                    </a:lnTo>
                    <a:lnTo>
                      <a:pt x="61" y="557"/>
                    </a:lnTo>
                    <a:lnTo>
                      <a:pt x="104" y="609"/>
                    </a:lnTo>
                    <a:lnTo>
                      <a:pt x="158" y="652"/>
                    </a:lnTo>
                    <a:lnTo>
                      <a:pt x="217" y="685"/>
                    </a:lnTo>
                    <a:lnTo>
                      <a:pt x="357" y="711"/>
                    </a:lnTo>
                    <a:lnTo>
                      <a:pt x="357" y="7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401160" y="4649040"/>
                <a:ext cx="119160" cy="110520"/>
              </a:xfrm>
              <a:custGeom>
                <a:avLst/>
                <a:gdLst/>
                <a:ahLst/>
                <a:rect l="l" t="t" r="r" b="b"/>
                <a:pathLst>
                  <a:path w="760" h="588">
                    <a:moveTo>
                      <a:pt x="380" y="588"/>
                    </a:moveTo>
                    <a:lnTo>
                      <a:pt x="760" y="264"/>
                    </a:lnTo>
                    <a:lnTo>
                      <a:pt x="447" y="316"/>
                    </a:lnTo>
                    <a:lnTo>
                      <a:pt x="528" y="91"/>
                    </a:lnTo>
                    <a:lnTo>
                      <a:pt x="239" y="215"/>
                    </a:lnTo>
                    <a:lnTo>
                      <a:pt x="274" y="0"/>
                    </a:lnTo>
                    <a:lnTo>
                      <a:pt x="0" y="158"/>
                    </a:lnTo>
                    <a:lnTo>
                      <a:pt x="380" y="588"/>
                    </a:lnTo>
                    <a:lnTo>
                      <a:pt x="380" y="5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332400" y="4498200"/>
                <a:ext cx="42120" cy="91080"/>
              </a:xfrm>
              <a:custGeom>
                <a:avLst/>
                <a:gdLst/>
                <a:ahLst/>
                <a:rect l="l" t="t" r="r" b="b"/>
                <a:pathLst>
                  <a:path w="270" h="485">
                    <a:moveTo>
                      <a:pt x="23" y="464"/>
                    </a:moveTo>
                    <a:lnTo>
                      <a:pt x="0" y="317"/>
                    </a:lnTo>
                    <a:lnTo>
                      <a:pt x="32" y="173"/>
                    </a:lnTo>
                    <a:lnTo>
                      <a:pt x="72" y="108"/>
                    </a:lnTo>
                    <a:lnTo>
                      <a:pt x="125" y="49"/>
                    </a:lnTo>
                    <a:lnTo>
                      <a:pt x="188" y="8"/>
                    </a:lnTo>
                    <a:lnTo>
                      <a:pt x="255" y="0"/>
                    </a:lnTo>
                    <a:lnTo>
                      <a:pt x="270" y="25"/>
                    </a:lnTo>
                    <a:lnTo>
                      <a:pt x="237" y="78"/>
                    </a:lnTo>
                    <a:lnTo>
                      <a:pt x="156" y="198"/>
                    </a:lnTo>
                    <a:lnTo>
                      <a:pt x="148" y="454"/>
                    </a:lnTo>
                    <a:lnTo>
                      <a:pt x="85" y="485"/>
                    </a:lnTo>
                    <a:lnTo>
                      <a:pt x="23" y="464"/>
                    </a:lnTo>
                    <a:lnTo>
                      <a:pt x="23" y="4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390000" y="4498200"/>
                <a:ext cx="49680" cy="8712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13" y="454"/>
                    </a:moveTo>
                    <a:lnTo>
                      <a:pt x="0" y="306"/>
                    </a:lnTo>
                    <a:lnTo>
                      <a:pt x="45" y="165"/>
                    </a:lnTo>
                    <a:lnTo>
                      <a:pt x="97" y="99"/>
                    </a:lnTo>
                    <a:lnTo>
                      <a:pt x="161" y="40"/>
                    </a:lnTo>
                    <a:lnTo>
                      <a:pt x="235" y="0"/>
                    </a:lnTo>
                    <a:lnTo>
                      <a:pt x="309" y="0"/>
                    </a:lnTo>
                    <a:lnTo>
                      <a:pt x="319" y="27"/>
                    </a:lnTo>
                    <a:lnTo>
                      <a:pt x="273" y="78"/>
                    </a:lnTo>
                    <a:lnTo>
                      <a:pt x="169" y="198"/>
                    </a:lnTo>
                    <a:lnTo>
                      <a:pt x="127" y="464"/>
                    </a:lnTo>
                    <a:lnTo>
                      <a:pt x="13" y="454"/>
                    </a:lnTo>
                    <a:lnTo>
                      <a:pt x="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446520" y="4495680"/>
                <a:ext cx="59400" cy="89640"/>
              </a:xfrm>
              <a:custGeom>
                <a:avLst/>
                <a:gdLst/>
                <a:ahLst/>
                <a:rect l="l" t="t" r="r" b="b"/>
                <a:pathLst>
                  <a:path w="378" h="477">
                    <a:moveTo>
                      <a:pt x="0" y="460"/>
                    </a:moveTo>
                    <a:lnTo>
                      <a:pt x="7" y="308"/>
                    </a:lnTo>
                    <a:lnTo>
                      <a:pt x="66" y="161"/>
                    </a:lnTo>
                    <a:lnTo>
                      <a:pt x="127" y="97"/>
                    </a:lnTo>
                    <a:lnTo>
                      <a:pt x="205" y="36"/>
                    </a:lnTo>
                    <a:lnTo>
                      <a:pt x="289" y="0"/>
                    </a:lnTo>
                    <a:lnTo>
                      <a:pt x="365" y="5"/>
                    </a:lnTo>
                    <a:lnTo>
                      <a:pt x="378" y="43"/>
                    </a:lnTo>
                    <a:lnTo>
                      <a:pt x="323" y="95"/>
                    </a:lnTo>
                    <a:lnTo>
                      <a:pt x="190" y="211"/>
                    </a:lnTo>
                    <a:lnTo>
                      <a:pt x="108" y="477"/>
                    </a:lnTo>
                    <a:lnTo>
                      <a:pt x="0" y="460"/>
                    </a:lnTo>
                    <a:lnTo>
                      <a:pt x="0" y="4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502320" y="4509360"/>
                <a:ext cx="68760" cy="93960"/>
              </a:xfrm>
              <a:custGeom>
                <a:avLst/>
                <a:gdLst/>
                <a:ahLst/>
                <a:rect l="l" t="t" r="r" b="b"/>
                <a:pathLst>
                  <a:path w="439" h="500">
                    <a:moveTo>
                      <a:pt x="0" y="467"/>
                    </a:moveTo>
                    <a:lnTo>
                      <a:pt x="16" y="306"/>
                    </a:lnTo>
                    <a:lnTo>
                      <a:pt x="44" y="228"/>
                    </a:lnTo>
                    <a:lnTo>
                      <a:pt x="92" y="161"/>
                    </a:lnTo>
                    <a:lnTo>
                      <a:pt x="166" y="95"/>
                    </a:lnTo>
                    <a:lnTo>
                      <a:pt x="255" y="34"/>
                    </a:lnTo>
                    <a:lnTo>
                      <a:pt x="348" y="0"/>
                    </a:lnTo>
                    <a:lnTo>
                      <a:pt x="430" y="13"/>
                    </a:lnTo>
                    <a:lnTo>
                      <a:pt x="439" y="55"/>
                    </a:lnTo>
                    <a:lnTo>
                      <a:pt x="371" y="104"/>
                    </a:lnTo>
                    <a:lnTo>
                      <a:pt x="278" y="160"/>
                    </a:lnTo>
                    <a:lnTo>
                      <a:pt x="207" y="220"/>
                    </a:lnTo>
                    <a:lnTo>
                      <a:pt x="99" y="492"/>
                    </a:lnTo>
                    <a:lnTo>
                      <a:pt x="42" y="500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550200" y="4531320"/>
                <a:ext cx="78840" cy="95760"/>
              </a:xfrm>
              <a:custGeom>
                <a:avLst/>
                <a:gdLst/>
                <a:ahLst/>
                <a:rect l="l" t="t" r="r" b="b"/>
                <a:pathLst>
                  <a:path w="504" h="509">
                    <a:moveTo>
                      <a:pt x="0" y="467"/>
                    </a:moveTo>
                    <a:lnTo>
                      <a:pt x="35" y="306"/>
                    </a:lnTo>
                    <a:lnTo>
                      <a:pt x="73" y="228"/>
                    </a:lnTo>
                    <a:lnTo>
                      <a:pt x="124" y="161"/>
                    </a:lnTo>
                    <a:lnTo>
                      <a:pt x="207" y="95"/>
                    </a:lnTo>
                    <a:lnTo>
                      <a:pt x="306" y="32"/>
                    </a:lnTo>
                    <a:lnTo>
                      <a:pt x="409" y="0"/>
                    </a:lnTo>
                    <a:lnTo>
                      <a:pt x="496" y="21"/>
                    </a:lnTo>
                    <a:lnTo>
                      <a:pt x="504" y="70"/>
                    </a:lnTo>
                    <a:lnTo>
                      <a:pt x="428" y="118"/>
                    </a:lnTo>
                    <a:lnTo>
                      <a:pt x="322" y="171"/>
                    </a:lnTo>
                    <a:lnTo>
                      <a:pt x="240" y="228"/>
                    </a:lnTo>
                    <a:lnTo>
                      <a:pt x="169" y="374"/>
                    </a:lnTo>
                    <a:lnTo>
                      <a:pt x="137" y="448"/>
                    </a:lnTo>
                    <a:lnTo>
                      <a:pt x="92" y="509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5105520" y="4495680"/>
              <a:ext cx="681120" cy="792720"/>
              <a:chOff x="5105520" y="4495680"/>
              <a:chExt cx="681120" cy="792720"/>
            </a:xfrm>
          </p:grpSpPr>
          <p:sp>
            <p:nvSpPr>
              <p:cNvPr id="547" name=""/>
              <p:cNvSpPr/>
              <p:nvPr/>
            </p:nvSpPr>
            <p:spPr>
              <a:xfrm flipH="1">
                <a:off x="5131440" y="4580280"/>
                <a:ext cx="639000" cy="692640"/>
              </a:xfrm>
              <a:custGeom>
                <a:avLst/>
                <a:gdLst/>
                <a:ahLst/>
                <a:rect l="l" t="t" r="r" b="b"/>
                <a:pathLst>
                  <a:path w="4164" h="3761">
                    <a:moveTo>
                      <a:pt x="0" y="1840"/>
                    </a:moveTo>
                    <a:lnTo>
                      <a:pt x="731" y="1861"/>
                    </a:lnTo>
                    <a:lnTo>
                      <a:pt x="1837" y="2435"/>
                    </a:lnTo>
                    <a:lnTo>
                      <a:pt x="1575" y="2790"/>
                    </a:lnTo>
                    <a:lnTo>
                      <a:pt x="1243" y="3260"/>
                    </a:lnTo>
                    <a:lnTo>
                      <a:pt x="1389" y="3573"/>
                    </a:lnTo>
                    <a:lnTo>
                      <a:pt x="1889" y="3761"/>
                    </a:lnTo>
                    <a:lnTo>
                      <a:pt x="2619" y="3720"/>
                    </a:lnTo>
                    <a:lnTo>
                      <a:pt x="3016" y="3376"/>
                    </a:lnTo>
                    <a:lnTo>
                      <a:pt x="3392" y="1724"/>
                    </a:lnTo>
                    <a:lnTo>
                      <a:pt x="4164" y="429"/>
                    </a:lnTo>
                    <a:lnTo>
                      <a:pt x="4048" y="272"/>
                    </a:lnTo>
                    <a:lnTo>
                      <a:pt x="3434" y="62"/>
                    </a:lnTo>
                    <a:lnTo>
                      <a:pt x="2495" y="0"/>
                    </a:lnTo>
                    <a:lnTo>
                      <a:pt x="1377" y="209"/>
                    </a:lnTo>
                    <a:lnTo>
                      <a:pt x="543" y="846"/>
                    </a:lnTo>
                    <a:lnTo>
                      <a:pt x="157" y="1442"/>
                    </a:lnTo>
                    <a:lnTo>
                      <a:pt x="0" y="1840"/>
                    </a:lnTo>
                    <a:lnTo>
                      <a:pt x="0" y="1840"/>
                    </a:lnTo>
                    <a:close/>
                  </a:path>
                </a:pathLst>
              </a:custGeom>
              <a:solidFill>
                <a:srgbClr val="fbd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5274360" y="4657320"/>
                <a:ext cx="286560" cy="147960"/>
              </a:xfrm>
              <a:custGeom>
                <a:avLst/>
                <a:gdLst/>
                <a:ahLst/>
                <a:rect l="l" t="t" r="r" b="b"/>
                <a:pathLst>
                  <a:path w="1866" h="804">
                    <a:moveTo>
                      <a:pt x="0" y="407"/>
                    </a:moveTo>
                    <a:lnTo>
                      <a:pt x="302" y="701"/>
                    </a:lnTo>
                    <a:lnTo>
                      <a:pt x="960" y="804"/>
                    </a:lnTo>
                    <a:lnTo>
                      <a:pt x="1617" y="637"/>
                    </a:lnTo>
                    <a:lnTo>
                      <a:pt x="1866" y="523"/>
                    </a:lnTo>
                    <a:lnTo>
                      <a:pt x="1648" y="220"/>
                    </a:lnTo>
                    <a:lnTo>
                      <a:pt x="1074" y="0"/>
                    </a:lnTo>
                    <a:lnTo>
                      <a:pt x="521" y="42"/>
                    </a:lnTo>
                    <a:lnTo>
                      <a:pt x="0" y="407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5371920" y="4680360"/>
                <a:ext cx="91080" cy="105840"/>
              </a:xfrm>
              <a:custGeom>
                <a:avLst/>
                <a:gdLst/>
                <a:ahLst/>
                <a:rect l="l" t="t" r="r" b="b"/>
                <a:pathLst>
                  <a:path w="595" h="576">
                    <a:moveTo>
                      <a:pt x="407" y="0"/>
                    </a:moveTo>
                    <a:lnTo>
                      <a:pt x="167" y="0"/>
                    </a:lnTo>
                    <a:lnTo>
                      <a:pt x="0" y="242"/>
                    </a:lnTo>
                    <a:lnTo>
                      <a:pt x="104" y="491"/>
                    </a:lnTo>
                    <a:lnTo>
                      <a:pt x="397" y="576"/>
                    </a:lnTo>
                    <a:lnTo>
                      <a:pt x="595" y="314"/>
                    </a:lnTo>
                    <a:lnTo>
                      <a:pt x="407" y="0"/>
                    </a:lnTo>
                    <a:lnTo>
                      <a:pt x="407" y="0"/>
                    </a:lnTo>
                    <a:close/>
                  </a:path>
                </a:pathLst>
              </a:custGeom>
              <a:solidFill>
                <a:srgbClr val="99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>
                <a:off x="5470920" y="5160960"/>
                <a:ext cx="105120" cy="68400"/>
              </a:xfrm>
              <a:custGeom>
                <a:avLst/>
                <a:gdLst/>
                <a:ahLst/>
                <a:rect l="l" t="t" r="r" b="b"/>
                <a:pathLst>
                  <a:path w="686" h="373">
                    <a:moveTo>
                      <a:pt x="91" y="373"/>
                    </a:moveTo>
                    <a:lnTo>
                      <a:pt x="0" y="173"/>
                    </a:lnTo>
                    <a:lnTo>
                      <a:pt x="91" y="0"/>
                    </a:lnTo>
                    <a:lnTo>
                      <a:pt x="538" y="90"/>
                    </a:lnTo>
                    <a:lnTo>
                      <a:pt x="648" y="137"/>
                    </a:lnTo>
                    <a:lnTo>
                      <a:pt x="686" y="183"/>
                    </a:lnTo>
                    <a:lnTo>
                      <a:pt x="648" y="230"/>
                    </a:lnTo>
                    <a:lnTo>
                      <a:pt x="538" y="278"/>
                    </a:lnTo>
                    <a:lnTo>
                      <a:pt x="352" y="325"/>
                    </a:lnTo>
                    <a:lnTo>
                      <a:pt x="91" y="373"/>
                    </a:lnTo>
                    <a:lnTo>
                      <a:pt x="91" y="373"/>
                    </a:lnTo>
                    <a:close/>
                  </a:path>
                </a:pathLst>
              </a:custGeom>
              <a:solidFill>
                <a:srgbClr val="d42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5402160" y="4838040"/>
                <a:ext cx="384480" cy="199440"/>
              </a:xfrm>
              <a:custGeom>
                <a:avLst/>
                <a:gdLst/>
                <a:ahLst/>
                <a:rect l="l" t="t" r="r" b="b"/>
                <a:pathLst>
                  <a:path w="2505" h="1083">
                    <a:moveTo>
                      <a:pt x="67" y="604"/>
                    </a:moveTo>
                    <a:lnTo>
                      <a:pt x="399" y="587"/>
                    </a:lnTo>
                    <a:lnTo>
                      <a:pt x="844" y="612"/>
                    </a:lnTo>
                    <a:lnTo>
                      <a:pt x="1087" y="713"/>
                    </a:lnTo>
                    <a:lnTo>
                      <a:pt x="1224" y="787"/>
                    </a:lnTo>
                    <a:lnTo>
                      <a:pt x="1361" y="866"/>
                    </a:lnTo>
                    <a:lnTo>
                      <a:pt x="1498" y="943"/>
                    </a:lnTo>
                    <a:lnTo>
                      <a:pt x="1627" y="1011"/>
                    </a:lnTo>
                    <a:lnTo>
                      <a:pt x="1743" y="1058"/>
                    </a:lnTo>
                    <a:lnTo>
                      <a:pt x="1844" y="1083"/>
                    </a:lnTo>
                    <a:lnTo>
                      <a:pt x="2100" y="1055"/>
                    </a:lnTo>
                    <a:lnTo>
                      <a:pt x="2311" y="918"/>
                    </a:lnTo>
                    <a:lnTo>
                      <a:pt x="2452" y="707"/>
                    </a:lnTo>
                    <a:lnTo>
                      <a:pt x="2505" y="454"/>
                    </a:lnTo>
                    <a:lnTo>
                      <a:pt x="2469" y="245"/>
                    </a:lnTo>
                    <a:lnTo>
                      <a:pt x="2425" y="161"/>
                    </a:lnTo>
                    <a:lnTo>
                      <a:pt x="2366" y="95"/>
                    </a:lnTo>
                    <a:lnTo>
                      <a:pt x="2294" y="42"/>
                    </a:lnTo>
                    <a:lnTo>
                      <a:pt x="2209" y="9"/>
                    </a:lnTo>
                    <a:lnTo>
                      <a:pt x="1999" y="0"/>
                    </a:lnTo>
                    <a:lnTo>
                      <a:pt x="1836" y="66"/>
                    </a:lnTo>
                    <a:lnTo>
                      <a:pt x="1718" y="203"/>
                    </a:lnTo>
                    <a:lnTo>
                      <a:pt x="1648" y="367"/>
                    </a:lnTo>
                    <a:lnTo>
                      <a:pt x="1629" y="513"/>
                    </a:lnTo>
                    <a:lnTo>
                      <a:pt x="1648" y="574"/>
                    </a:lnTo>
                    <a:lnTo>
                      <a:pt x="1688" y="616"/>
                    </a:lnTo>
                    <a:lnTo>
                      <a:pt x="1806" y="642"/>
                    </a:lnTo>
                    <a:lnTo>
                      <a:pt x="1923" y="595"/>
                    </a:lnTo>
                    <a:lnTo>
                      <a:pt x="1984" y="479"/>
                    </a:lnTo>
                    <a:lnTo>
                      <a:pt x="1969" y="370"/>
                    </a:lnTo>
                    <a:lnTo>
                      <a:pt x="1929" y="308"/>
                    </a:lnTo>
                    <a:lnTo>
                      <a:pt x="1876" y="222"/>
                    </a:lnTo>
                    <a:lnTo>
                      <a:pt x="1895" y="171"/>
                    </a:lnTo>
                    <a:lnTo>
                      <a:pt x="1937" y="133"/>
                    </a:lnTo>
                    <a:lnTo>
                      <a:pt x="2041" y="99"/>
                    </a:lnTo>
                    <a:lnTo>
                      <a:pt x="2157" y="129"/>
                    </a:lnTo>
                    <a:lnTo>
                      <a:pt x="2248" y="205"/>
                    </a:lnTo>
                    <a:lnTo>
                      <a:pt x="2332" y="429"/>
                    </a:lnTo>
                    <a:lnTo>
                      <a:pt x="2311" y="572"/>
                    </a:lnTo>
                    <a:lnTo>
                      <a:pt x="2254" y="709"/>
                    </a:lnTo>
                    <a:lnTo>
                      <a:pt x="2212" y="768"/>
                    </a:lnTo>
                    <a:lnTo>
                      <a:pt x="2167" y="819"/>
                    </a:lnTo>
                    <a:lnTo>
                      <a:pt x="2115" y="855"/>
                    </a:lnTo>
                    <a:lnTo>
                      <a:pt x="2058" y="876"/>
                    </a:lnTo>
                    <a:lnTo>
                      <a:pt x="1800" y="853"/>
                    </a:lnTo>
                    <a:lnTo>
                      <a:pt x="1678" y="798"/>
                    </a:lnTo>
                    <a:lnTo>
                      <a:pt x="1562" y="728"/>
                    </a:lnTo>
                    <a:lnTo>
                      <a:pt x="1450" y="650"/>
                    </a:lnTo>
                    <a:lnTo>
                      <a:pt x="1342" y="572"/>
                    </a:lnTo>
                    <a:lnTo>
                      <a:pt x="1239" y="503"/>
                    </a:lnTo>
                    <a:lnTo>
                      <a:pt x="1140" y="454"/>
                    </a:lnTo>
                    <a:lnTo>
                      <a:pt x="939" y="393"/>
                    </a:lnTo>
                    <a:lnTo>
                      <a:pt x="713" y="349"/>
                    </a:lnTo>
                    <a:lnTo>
                      <a:pt x="247" y="338"/>
                    </a:lnTo>
                    <a:lnTo>
                      <a:pt x="131" y="387"/>
                    </a:lnTo>
                    <a:lnTo>
                      <a:pt x="0" y="551"/>
                    </a:lnTo>
                    <a:lnTo>
                      <a:pt x="67" y="604"/>
                    </a:lnTo>
                    <a:lnTo>
                      <a:pt x="67" y="6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5119920" y="4570560"/>
                <a:ext cx="666360" cy="717840"/>
              </a:xfrm>
              <a:custGeom>
                <a:avLst/>
                <a:gdLst/>
                <a:ahLst/>
                <a:rect l="l" t="t" r="r" b="b"/>
                <a:pathLst>
                  <a:path w="4339" h="3901">
                    <a:moveTo>
                      <a:pt x="247" y="1892"/>
                    </a:moveTo>
                    <a:lnTo>
                      <a:pt x="321" y="1671"/>
                    </a:lnTo>
                    <a:lnTo>
                      <a:pt x="371" y="1550"/>
                    </a:lnTo>
                    <a:lnTo>
                      <a:pt x="428" y="1424"/>
                    </a:lnTo>
                    <a:lnTo>
                      <a:pt x="496" y="1295"/>
                    </a:lnTo>
                    <a:lnTo>
                      <a:pt x="578" y="1166"/>
                    </a:lnTo>
                    <a:lnTo>
                      <a:pt x="673" y="1035"/>
                    </a:lnTo>
                    <a:lnTo>
                      <a:pt x="785" y="907"/>
                    </a:lnTo>
                    <a:lnTo>
                      <a:pt x="914" y="784"/>
                    </a:lnTo>
                    <a:lnTo>
                      <a:pt x="1062" y="666"/>
                    </a:lnTo>
                    <a:lnTo>
                      <a:pt x="1144" y="609"/>
                    </a:lnTo>
                    <a:lnTo>
                      <a:pt x="1232" y="554"/>
                    </a:lnTo>
                    <a:lnTo>
                      <a:pt x="1325" y="502"/>
                    </a:lnTo>
                    <a:lnTo>
                      <a:pt x="1422" y="453"/>
                    </a:lnTo>
                    <a:lnTo>
                      <a:pt x="1526" y="407"/>
                    </a:lnTo>
                    <a:lnTo>
                      <a:pt x="1636" y="364"/>
                    </a:lnTo>
                    <a:lnTo>
                      <a:pt x="1752" y="324"/>
                    </a:lnTo>
                    <a:lnTo>
                      <a:pt x="1876" y="286"/>
                    </a:lnTo>
                    <a:lnTo>
                      <a:pt x="2144" y="223"/>
                    </a:lnTo>
                    <a:lnTo>
                      <a:pt x="2439" y="177"/>
                    </a:lnTo>
                    <a:lnTo>
                      <a:pt x="2866" y="153"/>
                    </a:lnTo>
                    <a:lnTo>
                      <a:pt x="3336" y="183"/>
                    </a:lnTo>
                    <a:lnTo>
                      <a:pt x="3792" y="284"/>
                    </a:lnTo>
                    <a:lnTo>
                      <a:pt x="3999" y="364"/>
                    </a:lnTo>
                    <a:lnTo>
                      <a:pt x="4183" y="468"/>
                    </a:lnTo>
                    <a:lnTo>
                      <a:pt x="4172" y="519"/>
                    </a:lnTo>
                    <a:lnTo>
                      <a:pt x="4103" y="633"/>
                    </a:lnTo>
                    <a:lnTo>
                      <a:pt x="4054" y="709"/>
                    </a:lnTo>
                    <a:lnTo>
                      <a:pt x="3997" y="795"/>
                    </a:lnTo>
                    <a:lnTo>
                      <a:pt x="3932" y="890"/>
                    </a:lnTo>
                    <a:lnTo>
                      <a:pt x="3864" y="991"/>
                    </a:lnTo>
                    <a:lnTo>
                      <a:pt x="3792" y="1097"/>
                    </a:lnTo>
                    <a:lnTo>
                      <a:pt x="3718" y="1206"/>
                    </a:lnTo>
                    <a:lnTo>
                      <a:pt x="3645" y="1318"/>
                    </a:lnTo>
                    <a:lnTo>
                      <a:pt x="3577" y="1426"/>
                    </a:lnTo>
                    <a:lnTo>
                      <a:pt x="3512" y="1534"/>
                    </a:lnTo>
                    <a:lnTo>
                      <a:pt x="3453" y="1637"/>
                    </a:lnTo>
                    <a:lnTo>
                      <a:pt x="3364" y="1825"/>
                    </a:lnTo>
                    <a:lnTo>
                      <a:pt x="3250" y="2186"/>
                    </a:lnTo>
                    <a:lnTo>
                      <a:pt x="3159" y="2572"/>
                    </a:lnTo>
                    <a:lnTo>
                      <a:pt x="3077" y="2964"/>
                    </a:lnTo>
                    <a:lnTo>
                      <a:pt x="2992" y="3340"/>
                    </a:lnTo>
                    <a:lnTo>
                      <a:pt x="2965" y="3405"/>
                    </a:lnTo>
                    <a:lnTo>
                      <a:pt x="2916" y="3485"/>
                    </a:lnTo>
                    <a:lnTo>
                      <a:pt x="2857" y="3559"/>
                    </a:lnTo>
                    <a:lnTo>
                      <a:pt x="2802" y="3604"/>
                    </a:lnTo>
                    <a:lnTo>
                      <a:pt x="2708" y="3652"/>
                    </a:lnTo>
                    <a:lnTo>
                      <a:pt x="2591" y="3696"/>
                    </a:lnTo>
                    <a:lnTo>
                      <a:pt x="2372" y="3738"/>
                    </a:lnTo>
                    <a:lnTo>
                      <a:pt x="1847" y="3690"/>
                    </a:lnTo>
                    <a:lnTo>
                      <a:pt x="1635" y="3604"/>
                    </a:lnTo>
                    <a:lnTo>
                      <a:pt x="1521" y="3439"/>
                    </a:lnTo>
                    <a:lnTo>
                      <a:pt x="1524" y="3253"/>
                    </a:lnTo>
                    <a:lnTo>
                      <a:pt x="1559" y="3158"/>
                    </a:lnTo>
                    <a:lnTo>
                      <a:pt x="1608" y="3063"/>
                    </a:lnTo>
                    <a:lnTo>
                      <a:pt x="1674" y="2970"/>
                    </a:lnTo>
                    <a:lnTo>
                      <a:pt x="1749" y="2880"/>
                    </a:lnTo>
                    <a:lnTo>
                      <a:pt x="1834" y="2797"/>
                    </a:lnTo>
                    <a:lnTo>
                      <a:pt x="1925" y="2719"/>
                    </a:lnTo>
                    <a:lnTo>
                      <a:pt x="2032" y="2631"/>
                    </a:lnTo>
                    <a:lnTo>
                      <a:pt x="2155" y="2521"/>
                    </a:lnTo>
                    <a:lnTo>
                      <a:pt x="2285" y="2390"/>
                    </a:lnTo>
                    <a:lnTo>
                      <a:pt x="2406" y="2238"/>
                    </a:lnTo>
                    <a:lnTo>
                      <a:pt x="1827" y="2479"/>
                    </a:lnTo>
                    <a:lnTo>
                      <a:pt x="1800" y="2595"/>
                    </a:lnTo>
                    <a:lnTo>
                      <a:pt x="1739" y="2715"/>
                    </a:lnTo>
                    <a:lnTo>
                      <a:pt x="1654" y="2838"/>
                    </a:lnTo>
                    <a:lnTo>
                      <a:pt x="1555" y="2960"/>
                    </a:lnTo>
                    <a:lnTo>
                      <a:pt x="1458" y="3082"/>
                    </a:lnTo>
                    <a:lnTo>
                      <a:pt x="1372" y="3203"/>
                    </a:lnTo>
                    <a:lnTo>
                      <a:pt x="1291" y="3430"/>
                    </a:lnTo>
                    <a:lnTo>
                      <a:pt x="1304" y="3502"/>
                    </a:lnTo>
                    <a:lnTo>
                      <a:pt x="1340" y="3570"/>
                    </a:lnTo>
                    <a:lnTo>
                      <a:pt x="1393" y="3637"/>
                    </a:lnTo>
                    <a:lnTo>
                      <a:pt x="1460" y="3696"/>
                    </a:lnTo>
                    <a:lnTo>
                      <a:pt x="1536" y="3749"/>
                    </a:lnTo>
                    <a:lnTo>
                      <a:pt x="1610" y="3793"/>
                    </a:lnTo>
                    <a:lnTo>
                      <a:pt x="1743" y="3844"/>
                    </a:lnTo>
                    <a:lnTo>
                      <a:pt x="1971" y="3880"/>
                    </a:lnTo>
                    <a:lnTo>
                      <a:pt x="2218" y="3901"/>
                    </a:lnTo>
                    <a:lnTo>
                      <a:pt x="2686" y="3869"/>
                    </a:lnTo>
                    <a:lnTo>
                      <a:pt x="2864" y="3802"/>
                    </a:lnTo>
                    <a:lnTo>
                      <a:pt x="3028" y="3675"/>
                    </a:lnTo>
                    <a:lnTo>
                      <a:pt x="3166" y="3511"/>
                    </a:lnTo>
                    <a:lnTo>
                      <a:pt x="3265" y="3331"/>
                    </a:lnTo>
                    <a:lnTo>
                      <a:pt x="3374" y="2989"/>
                    </a:lnTo>
                    <a:lnTo>
                      <a:pt x="3453" y="2601"/>
                    </a:lnTo>
                    <a:lnTo>
                      <a:pt x="3526" y="2209"/>
                    </a:lnTo>
                    <a:lnTo>
                      <a:pt x="3567" y="2025"/>
                    </a:lnTo>
                    <a:lnTo>
                      <a:pt x="3611" y="1858"/>
                    </a:lnTo>
                    <a:lnTo>
                      <a:pt x="3676" y="1690"/>
                    </a:lnTo>
                    <a:lnTo>
                      <a:pt x="3759" y="1523"/>
                    </a:lnTo>
                    <a:lnTo>
                      <a:pt x="3858" y="1354"/>
                    </a:lnTo>
                    <a:lnTo>
                      <a:pt x="3963" y="1187"/>
                    </a:lnTo>
                    <a:lnTo>
                      <a:pt x="4016" y="1101"/>
                    </a:lnTo>
                    <a:lnTo>
                      <a:pt x="4071" y="1017"/>
                    </a:lnTo>
                    <a:lnTo>
                      <a:pt x="4172" y="848"/>
                    </a:lnTo>
                    <a:lnTo>
                      <a:pt x="4263" y="679"/>
                    </a:lnTo>
                    <a:lnTo>
                      <a:pt x="4339" y="510"/>
                    </a:lnTo>
                    <a:lnTo>
                      <a:pt x="4316" y="381"/>
                    </a:lnTo>
                    <a:lnTo>
                      <a:pt x="4273" y="261"/>
                    </a:lnTo>
                    <a:lnTo>
                      <a:pt x="4153" y="219"/>
                    </a:lnTo>
                    <a:lnTo>
                      <a:pt x="4033" y="183"/>
                    </a:lnTo>
                    <a:lnTo>
                      <a:pt x="3792" y="118"/>
                    </a:lnTo>
                    <a:lnTo>
                      <a:pt x="3547" y="69"/>
                    </a:lnTo>
                    <a:lnTo>
                      <a:pt x="3301" y="35"/>
                    </a:lnTo>
                    <a:lnTo>
                      <a:pt x="2813" y="0"/>
                    </a:lnTo>
                    <a:lnTo>
                      <a:pt x="2332" y="12"/>
                    </a:lnTo>
                    <a:lnTo>
                      <a:pt x="1865" y="86"/>
                    </a:lnTo>
                    <a:lnTo>
                      <a:pt x="1644" y="153"/>
                    </a:lnTo>
                    <a:lnTo>
                      <a:pt x="1431" y="236"/>
                    </a:lnTo>
                    <a:lnTo>
                      <a:pt x="1329" y="284"/>
                    </a:lnTo>
                    <a:lnTo>
                      <a:pt x="1228" y="335"/>
                    </a:lnTo>
                    <a:lnTo>
                      <a:pt x="1131" y="390"/>
                    </a:lnTo>
                    <a:lnTo>
                      <a:pt x="1036" y="447"/>
                    </a:lnTo>
                    <a:lnTo>
                      <a:pt x="945" y="510"/>
                    </a:lnTo>
                    <a:lnTo>
                      <a:pt x="857" y="575"/>
                    </a:lnTo>
                    <a:lnTo>
                      <a:pt x="692" y="711"/>
                    </a:lnTo>
                    <a:lnTo>
                      <a:pt x="540" y="858"/>
                    </a:lnTo>
                    <a:lnTo>
                      <a:pt x="405" y="1012"/>
                    </a:lnTo>
                    <a:lnTo>
                      <a:pt x="344" y="1092"/>
                    </a:lnTo>
                    <a:lnTo>
                      <a:pt x="287" y="1171"/>
                    </a:lnTo>
                    <a:lnTo>
                      <a:pt x="188" y="1337"/>
                    </a:lnTo>
                    <a:lnTo>
                      <a:pt x="49" y="1673"/>
                    </a:lnTo>
                    <a:lnTo>
                      <a:pt x="0" y="2008"/>
                    </a:lnTo>
                    <a:lnTo>
                      <a:pt x="247" y="1892"/>
                    </a:lnTo>
                    <a:lnTo>
                      <a:pt x="247" y="18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>
                <a:off x="5240880" y="4642200"/>
                <a:ext cx="337320" cy="177120"/>
              </a:xfrm>
              <a:custGeom>
                <a:avLst/>
                <a:gdLst/>
                <a:ahLst/>
                <a:rect l="l" t="t" r="r" b="b"/>
                <a:pathLst>
                  <a:path w="2199" h="962">
                    <a:moveTo>
                      <a:pt x="1844" y="692"/>
                    </a:moveTo>
                    <a:lnTo>
                      <a:pt x="1749" y="742"/>
                    </a:lnTo>
                    <a:lnTo>
                      <a:pt x="1648" y="791"/>
                    </a:lnTo>
                    <a:lnTo>
                      <a:pt x="1540" y="837"/>
                    </a:lnTo>
                    <a:lnTo>
                      <a:pt x="1426" y="877"/>
                    </a:lnTo>
                    <a:lnTo>
                      <a:pt x="1184" y="937"/>
                    </a:lnTo>
                    <a:lnTo>
                      <a:pt x="935" y="962"/>
                    </a:lnTo>
                    <a:lnTo>
                      <a:pt x="682" y="941"/>
                    </a:lnTo>
                    <a:lnTo>
                      <a:pt x="437" y="859"/>
                    </a:lnTo>
                    <a:lnTo>
                      <a:pt x="319" y="793"/>
                    </a:lnTo>
                    <a:lnTo>
                      <a:pt x="207" y="709"/>
                    </a:lnTo>
                    <a:lnTo>
                      <a:pt x="101" y="603"/>
                    </a:lnTo>
                    <a:lnTo>
                      <a:pt x="0" y="477"/>
                    </a:lnTo>
                    <a:lnTo>
                      <a:pt x="53" y="411"/>
                    </a:lnTo>
                    <a:lnTo>
                      <a:pt x="108" y="350"/>
                    </a:lnTo>
                    <a:lnTo>
                      <a:pt x="224" y="244"/>
                    </a:lnTo>
                    <a:lnTo>
                      <a:pt x="285" y="198"/>
                    </a:lnTo>
                    <a:lnTo>
                      <a:pt x="350" y="158"/>
                    </a:lnTo>
                    <a:lnTo>
                      <a:pt x="481" y="91"/>
                    </a:lnTo>
                    <a:lnTo>
                      <a:pt x="620" y="44"/>
                    </a:lnTo>
                    <a:lnTo>
                      <a:pt x="762" y="14"/>
                    </a:lnTo>
                    <a:lnTo>
                      <a:pt x="1057" y="0"/>
                    </a:lnTo>
                    <a:lnTo>
                      <a:pt x="1357" y="42"/>
                    </a:lnTo>
                    <a:lnTo>
                      <a:pt x="1654" y="135"/>
                    </a:lnTo>
                    <a:lnTo>
                      <a:pt x="1798" y="198"/>
                    </a:lnTo>
                    <a:lnTo>
                      <a:pt x="1937" y="268"/>
                    </a:lnTo>
                    <a:lnTo>
                      <a:pt x="2072" y="348"/>
                    </a:lnTo>
                    <a:lnTo>
                      <a:pt x="2199" y="436"/>
                    </a:lnTo>
                    <a:lnTo>
                      <a:pt x="2093" y="538"/>
                    </a:lnTo>
                    <a:lnTo>
                      <a:pt x="1992" y="633"/>
                    </a:lnTo>
                    <a:lnTo>
                      <a:pt x="1901" y="559"/>
                    </a:lnTo>
                    <a:lnTo>
                      <a:pt x="1804" y="489"/>
                    </a:lnTo>
                    <a:lnTo>
                      <a:pt x="1701" y="422"/>
                    </a:lnTo>
                    <a:lnTo>
                      <a:pt x="1593" y="360"/>
                    </a:lnTo>
                    <a:lnTo>
                      <a:pt x="1483" y="302"/>
                    </a:lnTo>
                    <a:lnTo>
                      <a:pt x="1371" y="255"/>
                    </a:lnTo>
                    <a:lnTo>
                      <a:pt x="1255" y="215"/>
                    </a:lnTo>
                    <a:lnTo>
                      <a:pt x="1139" y="187"/>
                    </a:lnTo>
                    <a:lnTo>
                      <a:pt x="905" y="166"/>
                    </a:lnTo>
                    <a:lnTo>
                      <a:pt x="677" y="200"/>
                    </a:lnTo>
                    <a:lnTo>
                      <a:pt x="462" y="304"/>
                    </a:lnTo>
                    <a:lnTo>
                      <a:pt x="264" y="485"/>
                    </a:lnTo>
                    <a:lnTo>
                      <a:pt x="318" y="563"/>
                    </a:lnTo>
                    <a:lnTo>
                      <a:pt x="384" y="628"/>
                    </a:lnTo>
                    <a:lnTo>
                      <a:pt x="464" y="677"/>
                    </a:lnTo>
                    <a:lnTo>
                      <a:pt x="555" y="717"/>
                    </a:lnTo>
                    <a:lnTo>
                      <a:pt x="760" y="764"/>
                    </a:lnTo>
                    <a:lnTo>
                      <a:pt x="990" y="778"/>
                    </a:lnTo>
                    <a:lnTo>
                      <a:pt x="1456" y="743"/>
                    </a:lnTo>
                    <a:lnTo>
                      <a:pt x="1844" y="692"/>
                    </a:lnTo>
                    <a:lnTo>
                      <a:pt x="1844" y="6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>
                <a:off x="5403600" y="4711320"/>
                <a:ext cx="27720" cy="33480"/>
              </a:xfrm>
              <a:custGeom>
                <a:avLst/>
                <a:gdLst/>
                <a:ahLst/>
                <a:rect l="l" t="t" r="r" b="b"/>
                <a:pathLst>
                  <a:path w="181" h="182">
                    <a:moveTo>
                      <a:pt x="91" y="0"/>
                    </a:moveTo>
                    <a:lnTo>
                      <a:pt x="154" y="28"/>
                    </a:lnTo>
                    <a:lnTo>
                      <a:pt x="181" y="91"/>
                    </a:lnTo>
                    <a:lnTo>
                      <a:pt x="154" y="155"/>
                    </a:lnTo>
                    <a:lnTo>
                      <a:pt x="91" y="182"/>
                    </a:lnTo>
                    <a:lnTo>
                      <a:pt x="27" y="155"/>
                    </a:lnTo>
                    <a:lnTo>
                      <a:pt x="0" y="91"/>
                    </a:lnTo>
                    <a:lnTo>
                      <a:pt x="27" y="28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5363280" y="4662720"/>
                <a:ext cx="73440" cy="130680"/>
              </a:xfrm>
              <a:custGeom>
                <a:avLst/>
                <a:gdLst/>
                <a:ahLst/>
                <a:rect l="l" t="t" r="r" b="b"/>
                <a:pathLst>
                  <a:path w="479" h="711">
                    <a:moveTo>
                      <a:pt x="125" y="711"/>
                    </a:moveTo>
                    <a:lnTo>
                      <a:pt x="0" y="630"/>
                    </a:lnTo>
                    <a:lnTo>
                      <a:pt x="125" y="555"/>
                    </a:lnTo>
                    <a:lnTo>
                      <a:pt x="268" y="495"/>
                    </a:lnTo>
                    <a:lnTo>
                      <a:pt x="330" y="348"/>
                    </a:lnTo>
                    <a:lnTo>
                      <a:pt x="313" y="268"/>
                    </a:lnTo>
                    <a:lnTo>
                      <a:pt x="268" y="200"/>
                    </a:lnTo>
                    <a:lnTo>
                      <a:pt x="201" y="151"/>
                    </a:lnTo>
                    <a:lnTo>
                      <a:pt x="125" y="133"/>
                    </a:lnTo>
                    <a:lnTo>
                      <a:pt x="0" y="75"/>
                    </a:lnTo>
                    <a:lnTo>
                      <a:pt x="125" y="0"/>
                    </a:lnTo>
                    <a:lnTo>
                      <a:pt x="264" y="29"/>
                    </a:lnTo>
                    <a:lnTo>
                      <a:pt x="376" y="103"/>
                    </a:lnTo>
                    <a:lnTo>
                      <a:pt x="452" y="217"/>
                    </a:lnTo>
                    <a:lnTo>
                      <a:pt x="479" y="356"/>
                    </a:lnTo>
                    <a:lnTo>
                      <a:pt x="452" y="495"/>
                    </a:lnTo>
                    <a:lnTo>
                      <a:pt x="420" y="557"/>
                    </a:lnTo>
                    <a:lnTo>
                      <a:pt x="376" y="609"/>
                    </a:lnTo>
                    <a:lnTo>
                      <a:pt x="323" y="652"/>
                    </a:lnTo>
                    <a:lnTo>
                      <a:pt x="264" y="685"/>
                    </a:lnTo>
                    <a:lnTo>
                      <a:pt x="125" y="711"/>
                    </a:lnTo>
                    <a:lnTo>
                      <a:pt x="125" y="7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H="1">
                <a:off x="5398200" y="4662720"/>
                <a:ext cx="73800" cy="130680"/>
              </a:xfrm>
              <a:custGeom>
                <a:avLst/>
                <a:gdLst/>
                <a:ahLst/>
                <a:rect l="l" t="t" r="r" b="b"/>
                <a:pathLst>
                  <a:path w="481" h="711">
                    <a:moveTo>
                      <a:pt x="357" y="711"/>
                    </a:moveTo>
                    <a:lnTo>
                      <a:pt x="481" y="630"/>
                    </a:lnTo>
                    <a:lnTo>
                      <a:pt x="357" y="555"/>
                    </a:lnTo>
                    <a:lnTo>
                      <a:pt x="217" y="495"/>
                    </a:lnTo>
                    <a:lnTo>
                      <a:pt x="158" y="348"/>
                    </a:lnTo>
                    <a:lnTo>
                      <a:pt x="175" y="268"/>
                    </a:lnTo>
                    <a:lnTo>
                      <a:pt x="217" y="200"/>
                    </a:lnTo>
                    <a:lnTo>
                      <a:pt x="279" y="151"/>
                    </a:lnTo>
                    <a:lnTo>
                      <a:pt x="357" y="133"/>
                    </a:lnTo>
                    <a:lnTo>
                      <a:pt x="481" y="75"/>
                    </a:lnTo>
                    <a:lnTo>
                      <a:pt x="357" y="0"/>
                    </a:lnTo>
                    <a:lnTo>
                      <a:pt x="217" y="29"/>
                    </a:lnTo>
                    <a:lnTo>
                      <a:pt x="104" y="103"/>
                    </a:lnTo>
                    <a:lnTo>
                      <a:pt x="28" y="217"/>
                    </a:lnTo>
                    <a:lnTo>
                      <a:pt x="0" y="356"/>
                    </a:lnTo>
                    <a:lnTo>
                      <a:pt x="28" y="495"/>
                    </a:lnTo>
                    <a:lnTo>
                      <a:pt x="61" y="557"/>
                    </a:lnTo>
                    <a:lnTo>
                      <a:pt x="104" y="609"/>
                    </a:lnTo>
                    <a:lnTo>
                      <a:pt x="158" y="652"/>
                    </a:lnTo>
                    <a:lnTo>
                      <a:pt x="217" y="685"/>
                    </a:lnTo>
                    <a:lnTo>
                      <a:pt x="357" y="711"/>
                    </a:lnTo>
                    <a:lnTo>
                      <a:pt x="357" y="7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>
                <a:off x="5212080" y="4645800"/>
                <a:ext cx="116640" cy="108000"/>
              </a:xfrm>
              <a:custGeom>
                <a:avLst/>
                <a:gdLst/>
                <a:ahLst/>
                <a:rect l="l" t="t" r="r" b="b"/>
                <a:pathLst>
                  <a:path w="760" h="588">
                    <a:moveTo>
                      <a:pt x="380" y="588"/>
                    </a:moveTo>
                    <a:lnTo>
                      <a:pt x="760" y="264"/>
                    </a:lnTo>
                    <a:lnTo>
                      <a:pt x="447" y="316"/>
                    </a:lnTo>
                    <a:lnTo>
                      <a:pt x="528" y="91"/>
                    </a:lnTo>
                    <a:lnTo>
                      <a:pt x="239" y="215"/>
                    </a:lnTo>
                    <a:lnTo>
                      <a:pt x="274" y="0"/>
                    </a:lnTo>
                    <a:lnTo>
                      <a:pt x="0" y="158"/>
                    </a:lnTo>
                    <a:lnTo>
                      <a:pt x="380" y="588"/>
                    </a:lnTo>
                    <a:lnTo>
                      <a:pt x="380" y="5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5354280" y="4498200"/>
                <a:ext cx="41400" cy="88920"/>
              </a:xfrm>
              <a:custGeom>
                <a:avLst/>
                <a:gdLst/>
                <a:ahLst/>
                <a:rect l="l" t="t" r="r" b="b"/>
                <a:pathLst>
                  <a:path w="270" h="485">
                    <a:moveTo>
                      <a:pt x="23" y="464"/>
                    </a:moveTo>
                    <a:lnTo>
                      <a:pt x="0" y="317"/>
                    </a:lnTo>
                    <a:lnTo>
                      <a:pt x="32" y="173"/>
                    </a:lnTo>
                    <a:lnTo>
                      <a:pt x="72" y="108"/>
                    </a:lnTo>
                    <a:lnTo>
                      <a:pt x="125" y="49"/>
                    </a:lnTo>
                    <a:lnTo>
                      <a:pt x="188" y="8"/>
                    </a:lnTo>
                    <a:lnTo>
                      <a:pt x="255" y="0"/>
                    </a:lnTo>
                    <a:lnTo>
                      <a:pt x="270" y="25"/>
                    </a:lnTo>
                    <a:lnTo>
                      <a:pt x="237" y="78"/>
                    </a:lnTo>
                    <a:lnTo>
                      <a:pt x="156" y="198"/>
                    </a:lnTo>
                    <a:lnTo>
                      <a:pt x="148" y="454"/>
                    </a:lnTo>
                    <a:lnTo>
                      <a:pt x="85" y="485"/>
                    </a:lnTo>
                    <a:lnTo>
                      <a:pt x="23" y="464"/>
                    </a:lnTo>
                    <a:lnTo>
                      <a:pt x="23" y="4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>
                <a:off x="5290560" y="4498200"/>
                <a:ext cx="48600" cy="8532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13" y="454"/>
                    </a:moveTo>
                    <a:lnTo>
                      <a:pt x="0" y="306"/>
                    </a:lnTo>
                    <a:lnTo>
                      <a:pt x="45" y="165"/>
                    </a:lnTo>
                    <a:lnTo>
                      <a:pt x="97" y="99"/>
                    </a:lnTo>
                    <a:lnTo>
                      <a:pt x="161" y="40"/>
                    </a:lnTo>
                    <a:lnTo>
                      <a:pt x="235" y="0"/>
                    </a:lnTo>
                    <a:lnTo>
                      <a:pt x="309" y="0"/>
                    </a:lnTo>
                    <a:lnTo>
                      <a:pt x="319" y="27"/>
                    </a:lnTo>
                    <a:lnTo>
                      <a:pt x="273" y="78"/>
                    </a:lnTo>
                    <a:lnTo>
                      <a:pt x="169" y="198"/>
                    </a:lnTo>
                    <a:lnTo>
                      <a:pt x="127" y="464"/>
                    </a:lnTo>
                    <a:lnTo>
                      <a:pt x="13" y="454"/>
                    </a:lnTo>
                    <a:lnTo>
                      <a:pt x="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>
                <a:off x="5226120" y="4495680"/>
                <a:ext cx="58320" cy="87840"/>
              </a:xfrm>
              <a:custGeom>
                <a:avLst/>
                <a:gdLst/>
                <a:ahLst/>
                <a:rect l="l" t="t" r="r" b="b"/>
                <a:pathLst>
                  <a:path w="378" h="477">
                    <a:moveTo>
                      <a:pt x="0" y="460"/>
                    </a:moveTo>
                    <a:lnTo>
                      <a:pt x="7" y="308"/>
                    </a:lnTo>
                    <a:lnTo>
                      <a:pt x="66" y="161"/>
                    </a:lnTo>
                    <a:lnTo>
                      <a:pt x="127" y="97"/>
                    </a:lnTo>
                    <a:lnTo>
                      <a:pt x="205" y="36"/>
                    </a:lnTo>
                    <a:lnTo>
                      <a:pt x="289" y="0"/>
                    </a:lnTo>
                    <a:lnTo>
                      <a:pt x="365" y="5"/>
                    </a:lnTo>
                    <a:lnTo>
                      <a:pt x="378" y="43"/>
                    </a:lnTo>
                    <a:lnTo>
                      <a:pt x="323" y="95"/>
                    </a:lnTo>
                    <a:lnTo>
                      <a:pt x="190" y="211"/>
                    </a:lnTo>
                    <a:lnTo>
                      <a:pt x="108" y="477"/>
                    </a:lnTo>
                    <a:lnTo>
                      <a:pt x="0" y="460"/>
                    </a:lnTo>
                    <a:lnTo>
                      <a:pt x="0" y="4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5162040" y="4509000"/>
                <a:ext cx="67320" cy="91800"/>
              </a:xfrm>
              <a:custGeom>
                <a:avLst/>
                <a:gdLst/>
                <a:ahLst/>
                <a:rect l="l" t="t" r="r" b="b"/>
                <a:pathLst>
                  <a:path w="439" h="500">
                    <a:moveTo>
                      <a:pt x="0" y="467"/>
                    </a:moveTo>
                    <a:lnTo>
                      <a:pt x="16" y="306"/>
                    </a:lnTo>
                    <a:lnTo>
                      <a:pt x="44" y="228"/>
                    </a:lnTo>
                    <a:lnTo>
                      <a:pt x="92" y="161"/>
                    </a:lnTo>
                    <a:lnTo>
                      <a:pt x="166" y="95"/>
                    </a:lnTo>
                    <a:lnTo>
                      <a:pt x="255" y="34"/>
                    </a:lnTo>
                    <a:lnTo>
                      <a:pt x="348" y="0"/>
                    </a:lnTo>
                    <a:lnTo>
                      <a:pt x="430" y="13"/>
                    </a:lnTo>
                    <a:lnTo>
                      <a:pt x="439" y="55"/>
                    </a:lnTo>
                    <a:lnTo>
                      <a:pt x="371" y="104"/>
                    </a:lnTo>
                    <a:lnTo>
                      <a:pt x="278" y="160"/>
                    </a:lnTo>
                    <a:lnTo>
                      <a:pt x="207" y="220"/>
                    </a:lnTo>
                    <a:lnTo>
                      <a:pt x="99" y="492"/>
                    </a:lnTo>
                    <a:lnTo>
                      <a:pt x="42" y="500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>
                <a:off x="5105160" y="4530600"/>
                <a:ext cx="77400" cy="93600"/>
              </a:xfrm>
              <a:custGeom>
                <a:avLst/>
                <a:gdLst/>
                <a:ahLst/>
                <a:rect l="l" t="t" r="r" b="b"/>
                <a:pathLst>
                  <a:path w="504" h="509">
                    <a:moveTo>
                      <a:pt x="0" y="467"/>
                    </a:moveTo>
                    <a:lnTo>
                      <a:pt x="35" y="306"/>
                    </a:lnTo>
                    <a:lnTo>
                      <a:pt x="73" y="228"/>
                    </a:lnTo>
                    <a:lnTo>
                      <a:pt x="124" y="161"/>
                    </a:lnTo>
                    <a:lnTo>
                      <a:pt x="207" y="95"/>
                    </a:lnTo>
                    <a:lnTo>
                      <a:pt x="306" y="32"/>
                    </a:lnTo>
                    <a:lnTo>
                      <a:pt x="409" y="0"/>
                    </a:lnTo>
                    <a:lnTo>
                      <a:pt x="496" y="21"/>
                    </a:lnTo>
                    <a:lnTo>
                      <a:pt x="504" y="70"/>
                    </a:lnTo>
                    <a:lnTo>
                      <a:pt x="428" y="118"/>
                    </a:lnTo>
                    <a:lnTo>
                      <a:pt x="322" y="171"/>
                    </a:lnTo>
                    <a:lnTo>
                      <a:pt x="240" y="228"/>
                    </a:lnTo>
                    <a:lnTo>
                      <a:pt x="169" y="374"/>
                    </a:lnTo>
                    <a:lnTo>
                      <a:pt x="137" y="448"/>
                    </a:lnTo>
                    <a:lnTo>
                      <a:pt x="92" y="509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3" name=""/>
          <p:cNvSpPr/>
          <p:nvPr/>
        </p:nvSpPr>
        <p:spPr>
          <a:xfrm>
            <a:off x="5029200" y="3886200"/>
            <a:ext cx="2286000" cy="2514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3352680" y="4648320"/>
            <a:ext cx="1523520" cy="1752480"/>
            <a:chOff x="3352680" y="4648320"/>
            <a:chExt cx="1523520" cy="1752480"/>
          </a:xfrm>
        </p:grpSpPr>
        <p:grpSp>
          <p:nvGrpSpPr>
            <p:cNvPr id="565" name=""/>
            <p:cNvGrpSpPr/>
            <p:nvPr/>
          </p:nvGrpSpPr>
          <p:grpSpPr>
            <a:xfrm>
              <a:off x="4179960" y="5590080"/>
              <a:ext cx="696240" cy="810720"/>
              <a:chOff x="4179960" y="5590080"/>
              <a:chExt cx="696240" cy="810720"/>
            </a:xfrm>
          </p:grpSpPr>
          <p:sp>
            <p:nvSpPr>
              <p:cNvPr id="566" name=""/>
              <p:cNvSpPr/>
              <p:nvPr/>
            </p:nvSpPr>
            <p:spPr>
              <a:xfrm>
                <a:off x="4196160" y="5676480"/>
                <a:ext cx="653760" cy="708120"/>
              </a:xfrm>
              <a:custGeom>
                <a:avLst/>
                <a:gdLst/>
                <a:ahLst/>
                <a:rect l="l" t="t" r="r" b="b"/>
                <a:pathLst>
                  <a:path w="4164" h="3761">
                    <a:moveTo>
                      <a:pt x="0" y="1840"/>
                    </a:moveTo>
                    <a:lnTo>
                      <a:pt x="731" y="1861"/>
                    </a:lnTo>
                    <a:lnTo>
                      <a:pt x="1837" y="2435"/>
                    </a:lnTo>
                    <a:lnTo>
                      <a:pt x="1575" y="2790"/>
                    </a:lnTo>
                    <a:lnTo>
                      <a:pt x="1243" y="3260"/>
                    </a:lnTo>
                    <a:lnTo>
                      <a:pt x="1389" y="3573"/>
                    </a:lnTo>
                    <a:lnTo>
                      <a:pt x="1889" y="3761"/>
                    </a:lnTo>
                    <a:lnTo>
                      <a:pt x="2619" y="3720"/>
                    </a:lnTo>
                    <a:lnTo>
                      <a:pt x="3016" y="3376"/>
                    </a:lnTo>
                    <a:lnTo>
                      <a:pt x="3392" y="1724"/>
                    </a:lnTo>
                    <a:lnTo>
                      <a:pt x="4164" y="429"/>
                    </a:lnTo>
                    <a:lnTo>
                      <a:pt x="4048" y="272"/>
                    </a:lnTo>
                    <a:lnTo>
                      <a:pt x="3434" y="62"/>
                    </a:lnTo>
                    <a:lnTo>
                      <a:pt x="2495" y="0"/>
                    </a:lnTo>
                    <a:lnTo>
                      <a:pt x="1377" y="209"/>
                    </a:lnTo>
                    <a:lnTo>
                      <a:pt x="543" y="846"/>
                    </a:lnTo>
                    <a:lnTo>
                      <a:pt x="157" y="1442"/>
                    </a:lnTo>
                    <a:lnTo>
                      <a:pt x="0" y="1840"/>
                    </a:lnTo>
                    <a:lnTo>
                      <a:pt x="0" y="1840"/>
                    </a:lnTo>
                    <a:close/>
                  </a:path>
                </a:pathLst>
              </a:custGeom>
              <a:solidFill>
                <a:srgbClr val="fbd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410720" y="5755320"/>
                <a:ext cx="293040" cy="151200"/>
              </a:xfrm>
              <a:custGeom>
                <a:avLst/>
                <a:gdLst/>
                <a:ahLst/>
                <a:rect l="l" t="t" r="r" b="b"/>
                <a:pathLst>
                  <a:path w="1866" h="804">
                    <a:moveTo>
                      <a:pt x="0" y="407"/>
                    </a:moveTo>
                    <a:lnTo>
                      <a:pt x="302" y="701"/>
                    </a:lnTo>
                    <a:lnTo>
                      <a:pt x="960" y="804"/>
                    </a:lnTo>
                    <a:lnTo>
                      <a:pt x="1617" y="637"/>
                    </a:lnTo>
                    <a:lnTo>
                      <a:pt x="1866" y="523"/>
                    </a:lnTo>
                    <a:lnTo>
                      <a:pt x="1648" y="220"/>
                    </a:lnTo>
                    <a:lnTo>
                      <a:pt x="1074" y="0"/>
                    </a:lnTo>
                    <a:lnTo>
                      <a:pt x="521" y="42"/>
                    </a:lnTo>
                    <a:lnTo>
                      <a:pt x="0" y="407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510800" y="5779080"/>
                <a:ext cx="93240" cy="108360"/>
              </a:xfrm>
              <a:custGeom>
                <a:avLst/>
                <a:gdLst/>
                <a:ahLst/>
                <a:rect l="l" t="t" r="r" b="b"/>
                <a:pathLst>
                  <a:path w="595" h="576">
                    <a:moveTo>
                      <a:pt x="407" y="0"/>
                    </a:moveTo>
                    <a:lnTo>
                      <a:pt x="167" y="0"/>
                    </a:lnTo>
                    <a:lnTo>
                      <a:pt x="0" y="242"/>
                    </a:lnTo>
                    <a:lnTo>
                      <a:pt x="104" y="491"/>
                    </a:lnTo>
                    <a:lnTo>
                      <a:pt x="397" y="576"/>
                    </a:lnTo>
                    <a:lnTo>
                      <a:pt x="595" y="314"/>
                    </a:lnTo>
                    <a:lnTo>
                      <a:pt x="407" y="0"/>
                    </a:lnTo>
                    <a:lnTo>
                      <a:pt x="407" y="0"/>
                    </a:lnTo>
                    <a:close/>
                  </a:path>
                </a:pathLst>
              </a:custGeom>
              <a:solidFill>
                <a:srgbClr val="99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395240" y="6270120"/>
                <a:ext cx="107640" cy="69840"/>
              </a:xfrm>
              <a:custGeom>
                <a:avLst/>
                <a:gdLst/>
                <a:ahLst/>
                <a:rect l="l" t="t" r="r" b="b"/>
                <a:pathLst>
                  <a:path w="686" h="373">
                    <a:moveTo>
                      <a:pt x="91" y="373"/>
                    </a:moveTo>
                    <a:lnTo>
                      <a:pt x="0" y="173"/>
                    </a:lnTo>
                    <a:lnTo>
                      <a:pt x="91" y="0"/>
                    </a:lnTo>
                    <a:lnTo>
                      <a:pt x="538" y="90"/>
                    </a:lnTo>
                    <a:lnTo>
                      <a:pt x="648" y="137"/>
                    </a:lnTo>
                    <a:lnTo>
                      <a:pt x="686" y="183"/>
                    </a:lnTo>
                    <a:lnTo>
                      <a:pt x="648" y="230"/>
                    </a:lnTo>
                    <a:lnTo>
                      <a:pt x="538" y="278"/>
                    </a:lnTo>
                    <a:lnTo>
                      <a:pt x="352" y="325"/>
                    </a:lnTo>
                    <a:lnTo>
                      <a:pt x="91" y="373"/>
                    </a:lnTo>
                    <a:lnTo>
                      <a:pt x="91" y="373"/>
                    </a:lnTo>
                    <a:close/>
                  </a:path>
                </a:pathLst>
              </a:custGeom>
              <a:solidFill>
                <a:srgbClr val="d42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179960" y="5940000"/>
                <a:ext cx="393480" cy="203760"/>
              </a:xfrm>
              <a:custGeom>
                <a:avLst/>
                <a:gdLst/>
                <a:ahLst/>
                <a:rect l="l" t="t" r="r" b="b"/>
                <a:pathLst>
                  <a:path w="2505" h="1083">
                    <a:moveTo>
                      <a:pt x="67" y="604"/>
                    </a:moveTo>
                    <a:lnTo>
                      <a:pt x="399" y="587"/>
                    </a:lnTo>
                    <a:lnTo>
                      <a:pt x="844" y="612"/>
                    </a:lnTo>
                    <a:lnTo>
                      <a:pt x="1087" y="713"/>
                    </a:lnTo>
                    <a:lnTo>
                      <a:pt x="1224" y="787"/>
                    </a:lnTo>
                    <a:lnTo>
                      <a:pt x="1361" y="866"/>
                    </a:lnTo>
                    <a:lnTo>
                      <a:pt x="1498" y="943"/>
                    </a:lnTo>
                    <a:lnTo>
                      <a:pt x="1627" y="1011"/>
                    </a:lnTo>
                    <a:lnTo>
                      <a:pt x="1743" y="1058"/>
                    </a:lnTo>
                    <a:lnTo>
                      <a:pt x="1844" y="1083"/>
                    </a:lnTo>
                    <a:lnTo>
                      <a:pt x="2100" y="1055"/>
                    </a:lnTo>
                    <a:lnTo>
                      <a:pt x="2311" y="918"/>
                    </a:lnTo>
                    <a:lnTo>
                      <a:pt x="2452" y="707"/>
                    </a:lnTo>
                    <a:lnTo>
                      <a:pt x="2505" y="454"/>
                    </a:lnTo>
                    <a:lnTo>
                      <a:pt x="2469" y="245"/>
                    </a:lnTo>
                    <a:lnTo>
                      <a:pt x="2425" y="161"/>
                    </a:lnTo>
                    <a:lnTo>
                      <a:pt x="2366" y="95"/>
                    </a:lnTo>
                    <a:lnTo>
                      <a:pt x="2294" y="42"/>
                    </a:lnTo>
                    <a:lnTo>
                      <a:pt x="2209" y="9"/>
                    </a:lnTo>
                    <a:lnTo>
                      <a:pt x="1999" y="0"/>
                    </a:lnTo>
                    <a:lnTo>
                      <a:pt x="1836" y="66"/>
                    </a:lnTo>
                    <a:lnTo>
                      <a:pt x="1718" y="203"/>
                    </a:lnTo>
                    <a:lnTo>
                      <a:pt x="1648" y="367"/>
                    </a:lnTo>
                    <a:lnTo>
                      <a:pt x="1629" y="513"/>
                    </a:lnTo>
                    <a:lnTo>
                      <a:pt x="1648" y="574"/>
                    </a:lnTo>
                    <a:lnTo>
                      <a:pt x="1688" y="616"/>
                    </a:lnTo>
                    <a:lnTo>
                      <a:pt x="1806" y="642"/>
                    </a:lnTo>
                    <a:lnTo>
                      <a:pt x="1923" y="595"/>
                    </a:lnTo>
                    <a:lnTo>
                      <a:pt x="1984" y="479"/>
                    </a:lnTo>
                    <a:lnTo>
                      <a:pt x="1969" y="370"/>
                    </a:lnTo>
                    <a:lnTo>
                      <a:pt x="1929" y="308"/>
                    </a:lnTo>
                    <a:lnTo>
                      <a:pt x="1876" y="222"/>
                    </a:lnTo>
                    <a:lnTo>
                      <a:pt x="1895" y="171"/>
                    </a:lnTo>
                    <a:lnTo>
                      <a:pt x="1937" y="133"/>
                    </a:lnTo>
                    <a:lnTo>
                      <a:pt x="2041" y="99"/>
                    </a:lnTo>
                    <a:lnTo>
                      <a:pt x="2157" y="129"/>
                    </a:lnTo>
                    <a:lnTo>
                      <a:pt x="2248" y="205"/>
                    </a:lnTo>
                    <a:lnTo>
                      <a:pt x="2332" y="429"/>
                    </a:lnTo>
                    <a:lnTo>
                      <a:pt x="2311" y="572"/>
                    </a:lnTo>
                    <a:lnTo>
                      <a:pt x="2254" y="709"/>
                    </a:lnTo>
                    <a:lnTo>
                      <a:pt x="2212" y="768"/>
                    </a:lnTo>
                    <a:lnTo>
                      <a:pt x="2167" y="819"/>
                    </a:lnTo>
                    <a:lnTo>
                      <a:pt x="2115" y="855"/>
                    </a:lnTo>
                    <a:lnTo>
                      <a:pt x="2058" y="876"/>
                    </a:lnTo>
                    <a:lnTo>
                      <a:pt x="1800" y="853"/>
                    </a:lnTo>
                    <a:lnTo>
                      <a:pt x="1678" y="798"/>
                    </a:lnTo>
                    <a:lnTo>
                      <a:pt x="1562" y="728"/>
                    </a:lnTo>
                    <a:lnTo>
                      <a:pt x="1450" y="650"/>
                    </a:lnTo>
                    <a:lnTo>
                      <a:pt x="1342" y="572"/>
                    </a:lnTo>
                    <a:lnTo>
                      <a:pt x="1239" y="503"/>
                    </a:lnTo>
                    <a:lnTo>
                      <a:pt x="1140" y="454"/>
                    </a:lnTo>
                    <a:lnTo>
                      <a:pt x="939" y="393"/>
                    </a:lnTo>
                    <a:lnTo>
                      <a:pt x="713" y="349"/>
                    </a:lnTo>
                    <a:lnTo>
                      <a:pt x="247" y="338"/>
                    </a:lnTo>
                    <a:lnTo>
                      <a:pt x="131" y="387"/>
                    </a:lnTo>
                    <a:lnTo>
                      <a:pt x="0" y="551"/>
                    </a:lnTo>
                    <a:lnTo>
                      <a:pt x="67" y="604"/>
                    </a:lnTo>
                    <a:lnTo>
                      <a:pt x="67" y="6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179960" y="5666760"/>
                <a:ext cx="681480" cy="734040"/>
              </a:xfrm>
              <a:custGeom>
                <a:avLst/>
                <a:gdLst/>
                <a:ahLst/>
                <a:rect l="l" t="t" r="r" b="b"/>
                <a:pathLst>
                  <a:path w="4339" h="3901">
                    <a:moveTo>
                      <a:pt x="247" y="1892"/>
                    </a:moveTo>
                    <a:lnTo>
                      <a:pt x="321" y="1671"/>
                    </a:lnTo>
                    <a:lnTo>
                      <a:pt x="371" y="1550"/>
                    </a:lnTo>
                    <a:lnTo>
                      <a:pt x="428" y="1424"/>
                    </a:lnTo>
                    <a:lnTo>
                      <a:pt x="496" y="1295"/>
                    </a:lnTo>
                    <a:lnTo>
                      <a:pt x="578" y="1166"/>
                    </a:lnTo>
                    <a:lnTo>
                      <a:pt x="673" y="1035"/>
                    </a:lnTo>
                    <a:lnTo>
                      <a:pt x="785" y="907"/>
                    </a:lnTo>
                    <a:lnTo>
                      <a:pt x="914" y="784"/>
                    </a:lnTo>
                    <a:lnTo>
                      <a:pt x="1062" y="666"/>
                    </a:lnTo>
                    <a:lnTo>
                      <a:pt x="1144" y="609"/>
                    </a:lnTo>
                    <a:lnTo>
                      <a:pt x="1232" y="554"/>
                    </a:lnTo>
                    <a:lnTo>
                      <a:pt x="1325" y="502"/>
                    </a:lnTo>
                    <a:lnTo>
                      <a:pt x="1422" y="453"/>
                    </a:lnTo>
                    <a:lnTo>
                      <a:pt x="1526" y="407"/>
                    </a:lnTo>
                    <a:lnTo>
                      <a:pt x="1636" y="364"/>
                    </a:lnTo>
                    <a:lnTo>
                      <a:pt x="1752" y="324"/>
                    </a:lnTo>
                    <a:lnTo>
                      <a:pt x="1876" y="286"/>
                    </a:lnTo>
                    <a:lnTo>
                      <a:pt x="2144" y="223"/>
                    </a:lnTo>
                    <a:lnTo>
                      <a:pt x="2439" y="177"/>
                    </a:lnTo>
                    <a:lnTo>
                      <a:pt x="2866" y="153"/>
                    </a:lnTo>
                    <a:lnTo>
                      <a:pt x="3336" y="183"/>
                    </a:lnTo>
                    <a:lnTo>
                      <a:pt x="3792" y="284"/>
                    </a:lnTo>
                    <a:lnTo>
                      <a:pt x="3999" y="364"/>
                    </a:lnTo>
                    <a:lnTo>
                      <a:pt x="4183" y="468"/>
                    </a:lnTo>
                    <a:lnTo>
                      <a:pt x="4172" y="519"/>
                    </a:lnTo>
                    <a:lnTo>
                      <a:pt x="4103" y="633"/>
                    </a:lnTo>
                    <a:lnTo>
                      <a:pt x="4054" y="709"/>
                    </a:lnTo>
                    <a:lnTo>
                      <a:pt x="3997" y="795"/>
                    </a:lnTo>
                    <a:lnTo>
                      <a:pt x="3932" y="890"/>
                    </a:lnTo>
                    <a:lnTo>
                      <a:pt x="3864" y="991"/>
                    </a:lnTo>
                    <a:lnTo>
                      <a:pt x="3792" y="1097"/>
                    </a:lnTo>
                    <a:lnTo>
                      <a:pt x="3718" y="1206"/>
                    </a:lnTo>
                    <a:lnTo>
                      <a:pt x="3645" y="1318"/>
                    </a:lnTo>
                    <a:lnTo>
                      <a:pt x="3577" y="1426"/>
                    </a:lnTo>
                    <a:lnTo>
                      <a:pt x="3512" y="1534"/>
                    </a:lnTo>
                    <a:lnTo>
                      <a:pt x="3453" y="1637"/>
                    </a:lnTo>
                    <a:lnTo>
                      <a:pt x="3364" y="1825"/>
                    </a:lnTo>
                    <a:lnTo>
                      <a:pt x="3250" y="2186"/>
                    </a:lnTo>
                    <a:lnTo>
                      <a:pt x="3159" y="2572"/>
                    </a:lnTo>
                    <a:lnTo>
                      <a:pt x="3077" y="2964"/>
                    </a:lnTo>
                    <a:lnTo>
                      <a:pt x="2992" y="3340"/>
                    </a:lnTo>
                    <a:lnTo>
                      <a:pt x="2965" y="3405"/>
                    </a:lnTo>
                    <a:lnTo>
                      <a:pt x="2916" y="3485"/>
                    </a:lnTo>
                    <a:lnTo>
                      <a:pt x="2857" y="3559"/>
                    </a:lnTo>
                    <a:lnTo>
                      <a:pt x="2802" y="3604"/>
                    </a:lnTo>
                    <a:lnTo>
                      <a:pt x="2708" y="3652"/>
                    </a:lnTo>
                    <a:lnTo>
                      <a:pt x="2591" y="3696"/>
                    </a:lnTo>
                    <a:lnTo>
                      <a:pt x="2372" y="3738"/>
                    </a:lnTo>
                    <a:lnTo>
                      <a:pt x="1847" y="3690"/>
                    </a:lnTo>
                    <a:lnTo>
                      <a:pt x="1635" y="3604"/>
                    </a:lnTo>
                    <a:lnTo>
                      <a:pt x="1521" y="3439"/>
                    </a:lnTo>
                    <a:lnTo>
                      <a:pt x="1524" y="3253"/>
                    </a:lnTo>
                    <a:lnTo>
                      <a:pt x="1559" y="3158"/>
                    </a:lnTo>
                    <a:lnTo>
                      <a:pt x="1608" y="3063"/>
                    </a:lnTo>
                    <a:lnTo>
                      <a:pt x="1674" y="2970"/>
                    </a:lnTo>
                    <a:lnTo>
                      <a:pt x="1749" y="2880"/>
                    </a:lnTo>
                    <a:lnTo>
                      <a:pt x="1834" y="2797"/>
                    </a:lnTo>
                    <a:lnTo>
                      <a:pt x="1925" y="2719"/>
                    </a:lnTo>
                    <a:lnTo>
                      <a:pt x="2032" y="2631"/>
                    </a:lnTo>
                    <a:lnTo>
                      <a:pt x="2155" y="2521"/>
                    </a:lnTo>
                    <a:lnTo>
                      <a:pt x="2285" y="2390"/>
                    </a:lnTo>
                    <a:lnTo>
                      <a:pt x="2406" y="2238"/>
                    </a:lnTo>
                    <a:lnTo>
                      <a:pt x="1827" y="2479"/>
                    </a:lnTo>
                    <a:lnTo>
                      <a:pt x="1800" y="2595"/>
                    </a:lnTo>
                    <a:lnTo>
                      <a:pt x="1739" y="2715"/>
                    </a:lnTo>
                    <a:lnTo>
                      <a:pt x="1654" y="2838"/>
                    </a:lnTo>
                    <a:lnTo>
                      <a:pt x="1555" y="2960"/>
                    </a:lnTo>
                    <a:lnTo>
                      <a:pt x="1458" y="3082"/>
                    </a:lnTo>
                    <a:lnTo>
                      <a:pt x="1372" y="3203"/>
                    </a:lnTo>
                    <a:lnTo>
                      <a:pt x="1291" y="3430"/>
                    </a:lnTo>
                    <a:lnTo>
                      <a:pt x="1304" y="3502"/>
                    </a:lnTo>
                    <a:lnTo>
                      <a:pt x="1340" y="3570"/>
                    </a:lnTo>
                    <a:lnTo>
                      <a:pt x="1393" y="3637"/>
                    </a:lnTo>
                    <a:lnTo>
                      <a:pt x="1460" y="3696"/>
                    </a:lnTo>
                    <a:lnTo>
                      <a:pt x="1536" y="3749"/>
                    </a:lnTo>
                    <a:lnTo>
                      <a:pt x="1610" y="3793"/>
                    </a:lnTo>
                    <a:lnTo>
                      <a:pt x="1743" y="3844"/>
                    </a:lnTo>
                    <a:lnTo>
                      <a:pt x="1971" y="3880"/>
                    </a:lnTo>
                    <a:lnTo>
                      <a:pt x="2218" y="3901"/>
                    </a:lnTo>
                    <a:lnTo>
                      <a:pt x="2686" y="3869"/>
                    </a:lnTo>
                    <a:lnTo>
                      <a:pt x="2864" y="3802"/>
                    </a:lnTo>
                    <a:lnTo>
                      <a:pt x="3028" y="3675"/>
                    </a:lnTo>
                    <a:lnTo>
                      <a:pt x="3166" y="3511"/>
                    </a:lnTo>
                    <a:lnTo>
                      <a:pt x="3265" y="3331"/>
                    </a:lnTo>
                    <a:lnTo>
                      <a:pt x="3374" y="2989"/>
                    </a:lnTo>
                    <a:lnTo>
                      <a:pt x="3453" y="2601"/>
                    </a:lnTo>
                    <a:lnTo>
                      <a:pt x="3526" y="2209"/>
                    </a:lnTo>
                    <a:lnTo>
                      <a:pt x="3567" y="2025"/>
                    </a:lnTo>
                    <a:lnTo>
                      <a:pt x="3611" y="1858"/>
                    </a:lnTo>
                    <a:lnTo>
                      <a:pt x="3676" y="1690"/>
                    </a:lnTo>
                    <a:lnTo>
                      <a:pt x="3759" y="1523"/>
                    </a:lnTo>
                    <a:lnTo>
                      <a:pt x="3858" y="1354"/>
                    </a:lnTo>
                    <a:lnTo>
                      <a:pt x="3963" y="1187"/>
                    </a:lnTo>
                    <a:lnTo>
                      <a:pt x="4016" y="1101"/>
                    </a:lnTo>
                    <a:lnTo>
                      <a:pt x="4071" y="1017"/>
                    </a:lnTo>
                    <a:lnTo>
                      <a:pt x="4172" y="848"/>
                    </a:lnTo>
                    <a:lnTo>
                      <a:pt x="4263" y="679"/>
                    </a:lnTo>
                    <a:lnTo>
                      <a:pt x="4339" y="510"/>
                    </a:lnTo>
                    <a:lnTo>
                      <a:pt x="4316" y="381"/>
                    </a:lnTo>
                    <a:lnTo>
                      <a:pt x="4273" y="261"/>
                    </a:lnTo>
                    <a:lnTo>
                      <a:pt x="4153" y="219"/>
                    </a:lnTo>
                    <a:lnTo>
                      <a:pt x="4033" y="183"/>
                    </a:lnTo>
                    <a:lnTo>
                      <a:pt x="3792" y="118"/>
                    </a:lnTo>
                    <a:lnTo>
                      <a:pt x="3547" y="69"/>
                    </a:lnTo>
                    <a:lnTo>
                      <a:pt x="3301" y="35"/>
                    </a:lnTo>
                    <a:lnTo>
                      <a:pt x="2813" y="0"/>
                    </a:lnTo>
                    <a:lnTo>
                      <a:pt x="2332" y="12"/>
                    </a:lnTo>
                    <a:lnTo>
                      <a:pt x="1865" y="86"/>
                    </a:lnTo>
                    <a:lnTo>
                      <a:pt x="1644" y="153"/>
                    </a:lnTo>
                    <a:lnTo>
                      <a:pt x="1431" y="236"/>
                    </a:lnTo>
                    <a:lnTo>
                      <a:pt x="1329" y="284"/>
                    </a:lnTo>
                    <a:lnTo>
                      <a:pt x="1228" y="335"/>
                    </a:lnTo>
                    <a:lnTo>
                      <a:pt x="1131" y="390"/>
                    </a:lnTo>
                    <a:lnTo>
                      <a:pt x="1036" y="447"/>
                    </a:lnTo>
                    <a:lnTo>
                      <a:pt x="945" y="510"/>
                    </a:lnTo>
                    <a:lnTo>
                      <a:pt x="857" y="575"/>
                    </a:lnTo>
                    <a:lnTo>
                      <a:pt x="692" y="711"/>
                    </a:lnTo>
                    <a:lnTo>
                      <a:pt x="540" y="858"/>
                    </a:lnTo>
                    <a:lnTo>
                      <a:pt x="405" y="1012"/>
                    </a:lnTo>
                    <a:lnTo>
                      <a:pt x="344" y="1092"/>
                    </a:lnTo>
                    <a:lnTo>
                      <a:pt x="287" y="1171"/>
                    </a:lnTo>
                    <a:lnTo>
                      <a:pt x="188" y="1337"/>
                    </a:lnTo>
                    <a:lnTo>
                      <a:pt x="49" y="1673"/>
                    </a:lnTo>
                    <a:lnTo>
                      <a:pt x="0" y="2008"/>
                    </a:lnTo>
                    <a:lnTo>
                      <a:pt x="247" y="1892"/>
                    </a:lnTo>
                    <a:lnTo>
                      <a:pt x="247" y="18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392720" y="5739840"/>
                <a:ext cx="344880" cy="181080"/>
              </a:xfrm>
              <a:custGeom>
                <a:avLst/>
                <a:gdLst/>
                <a:ahLst/>
                <a:rect l="l" t="t" r="r" b="b"/>
                <a:pathLst>
                  <a:path w="2199" h="962">
                    <a:moveTo>
                      <a:pt x="1844" y="692"/>
                    </a:moveTo>
                    <a:lnTo>
                      <a:pt x="1749" y="742"/>
                    </a:lnTo>
                    <a:lnTo>
                      <a:pt x="1648" y="791"/>
                    </a:lnTo>
                    <a:lnTo>
                      <a:pt x="1540" y="837"/>
                    </a:lnTo>
                    <a:lnTo>
                      <a:pt x="1426" y="877"/>
                    </a:lnTo>
                    <a:lnTo>
                      <a:pt x="1184" y="937"/>
                    </a:lnTo>
                    <a:lnTo>
                      <a:pt x="935" y="962"/>
                    </a:lnTo>
                    <a:lnTo>
                      <a:pt x="682" y="941"/>
                    </a:lnTo>
                    <a:lnTo>
                      <a:pt x="437" y="859"/>
                    </a:lnTo>
                    <a:lnTo>
                      <a:pt x="319" y="793"/>
                    </a:lnTo>
                    <a:lnTo>
                      <a:pt x="207" y="709"/>
                    </a:lnTo>
                    <a:lnTo>
                      <a:pt x="101" y="603"/>
                    </a:lnTo>
                    <a:lnTo>
                      <a:pt x="0" y="477"/>
                    </a:lnTo>
                    <a:lnTo>
                      <a:pt x="53" y="411"/>
                    </a:lnTo>
                    <a:lnTo>
                      <a:pt x="108" y="350"/>
                    </a:lnTo>
                    <a:lnTo>
                      <a:pt x="224" y="244"/>
                    </a:lnTo>
                    <a:lnTo>
                      <a:pt x="285" y="198"/>
                    </a:lnTo>
                    <a:lnTo>
                      <a:pt x="350" y="158"/>
                    </a:lnTo>
                    <a:lnTo>
                      <a:pt x="481" y="91"/>
                    </a:lnTo>
                    <a:lnTo>
                      <a:pt x="620" y="44"/>
                    </a:lnTo>
                    <a:lnTo>
                      <a:pt x="762" y="14"/>
                    </a:lnTo>
                    <a:lnTo>
                      <a:pt x="1057" y="0"/>
                    </a:lnTo>
                    <a:lnTo>
                      <a:pt x="1357" y="42"/>
                    </a:lnTo>
                    <a:lnTo>
                      <a:pt x="1654" y="135"/>
                    </a:lnTo>
                    <a:lnTo>
                      <a:pt x="1798" y="198"/>
                    </a:lnTo>
                    <a:lnTo>
                      <a:pt x="1937" y="268"/>
                    </a:lnTo>
                    <a:lnTo>
                      <a:pt x="2072" y="348"/>
                    </a:lnTo>
                    <a:lnTo>
                      <a:pt x="2199" y="436"/>
                    </a:lnTo>
                    <a:lnTo>
                      <a:pt x="2093" y="538"/>
                    </a:lnTo>
                    <a:lnTo>
                      <a:pt x="1992" y="633"/>
                    </a:lnTo>
                    <a:lnTo>
                      <a:pt x="1901" y="559"/>
                    </a:lnTo>
                    <a:lnTo>
                      <a:pt x="1804" y="489"/>
                    </a:lnTo>
                    <a:lnTo>
                      <a:pt x="1701" y="422"/>
                    </a:lnTo>
                    <a:lnTo>
                      <a:pt x="1593" y="360"/>
                    </a:lnTo>
                    <a:lnTo>
                      <a:pt x="1483" y="302"/>
                    </a:lnTo>
                    <a:lnTo>
                      <a:pt x="1371" y="255"/>
                    </a:lnTo>
                    <a:lnTo>
                      <a:pt x="1255" y="215"/>
                    </a:lnTo>
                    <a:lnTo>
                      <a:pt x="1139" y="187"/>
                    </a:lnTo>
                    <a:lnTo>
                      <a:pt x="905" y="166"/>
                    </a:lnTo>
                    <a:lnTo>
                      <a:pt x="677" y="200"/>
                    </a:lnTo>
                    <a:lnTo>
                      <a:pt x="462" y="304"/>
                    </a:lnTo>
                    <a:lnTo>
                      <a:pt x="264" y="485"/>
                    </a:lnTo>
                    <a:lnTo>
                      <a:pt x="318" y="563"/>
                    </a:lnTo>
                    <a:lnTo>
                      <a:pt x="384" y="628"/>
                    </a:lnTo>
                    <a:lnTo>
                      <a:pt x="464" y="677"/>
                    </a:lnTo>
                    <a:lnTo>
                      <a:pt x="555" y="717"/>
                    </a:lnTo>
                    <a:lnTo>
                      <a:pt x="760" y="764"/>
                    </a:lnTo>
                    <a:lnTo>
                      <a:pt x="990" y="778"/>
                    </a:lnTo>
                    <a:lnTo>
                      <a:pt x="1456" y="743"/>
                    </a:lnTo>
                    <a:lnTo>
                      <a:pt x="1844" y="692"/>
                    </a:lnTo>
                    <a:lnTo>
                      <a:pt x="1844" y="6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543200" y="5810400"/>
                <a:ext cx="28440" cy="34200"/>
              </a:xfrm>
              <a:custGeom>
                <a:avLst/>
                <a:gdLst/>
                <a:ahLst/>
                <a:rect l="l" t="t" r="r" b="b"/>
                <a:pathLst>
                  <a:path w="181" h="182">
                    <a:moveTo>
                      <a:pt x="91" y="0"/>
                    </a:moveTo>
                    <a:lnTo>
                      <a:pt x="154" y="28"/>
                    </a:lnTo>
                    <a:lnTo>
                      <a:pt x="181" y="91"/>
                    </a:lnTo>
                    <a:lnTo>
                      <a:pt x="154" y="155"/>
                    </a:lnTo>
                    <a:lnTo>
                      <a:pt x="91" y="182"/>
                    </a:lnTo>
                    <a:lnTo>
                      <a:pt x="27" y="155"/>
                    </a:lnTo>
                    <a:lnTo>
                      <a:pt x="0" y="91"/>
                    </a:lnTo>
                    <a:lnTo>
                      <a:pt x="27" y="28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537800" y="5760720"/>
                <a:ext cx="75240" cy="133560"/>
              </a:xfrm>
              <a:custGeom>
                <a:avLst/>
                <a:gdLst/>
                <a:ahLst/>
                <a:rect l="l" t="t" r="r" b="b"/>
                <a:pathLst>
                  <a:path w="479" h="711">
                    <a:moveTo>
                      <a:pt x="125" y="711"/>
                    </a:moveTo>
                    <a:lnTo>
                      <a:pt x="0" y="630"/>
                    </a:lnTo>
                    <a:lnTo>
                      <a:pt x="125" y="555"/>
                    </a:lnTo>
                    <a:lnTo>
                      <a:pt x="268" y="495"/>
                    </a:lnTo>
                    <a:lnTo>
                      <a:pt x="330" y="348"/>
                    </a:lnTo>
                    <a:lnTo>
                      <a:pt x="313" y="268"/>
                    </a:lnTo>
                    <a:lnTo>
                      <a:pt x="268" y="200"/>
                    </a:lnTo>
                    <a:lnTo>
                      <a:pt x="201" y="151"/>
                    </a:lnTo>
                    <a:lnTo>
                      <a:pt x="125" y="133"/>
                    </a:lnTo>
                    <a:lnTo>
                      <a:pt x="0" y="75"/>
                    </a:lnTo>
                    <a:lnTo>
                      <a:pt x="125" y="0"/>
                    </a:lnTo>
                    <a:lnTo>
                      <a:pt x="264" y="29"/>
                    </a:lnTo>
                    <a:lnTo>
                      <a:pt x="376" y="103"/>
                    </a:lnTo>
                    <a:lnTo>
                      <a:pt x="452" y="217"/>
                    </a:lnTo>
                    <a:lnTo>
                      <a:pt x="479" y="356"/>
                    </a:lnTo>
                    <a:lnTo>
                      <a:pt x="452" y="495"/>
                    </a:lnTo>
                    <a:lnTo>
                      <a:pt x="420" y="557"/>
                    </a:lnTo>
                    <a:lnTo>
                      <a:pt x="376" y="609"/>
                    </a:lnTo>
                    <a:lnTo>
                      <a:pt x="323" y="652"/>
                    </a:lnTo>
                    <a:lnTo>
                      <a:pt x="264" y="685"/>
                    </a:lnTo>
                    <a:lnTo>
                      <a:pt x="125" y="711"/>
                    </a:lnTo>
                    <a:lnTo>
                      <a:pt x="125" y="7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501440" y="5760720"/>
                <a:ext cx="75600" cy="133560"/>
              </a:xfrm>
              <a:custGeom>
                <a:avLst/>
                <a:gdLst/>
                <a:ahLst/>
                <a:rect l="l" t="t" r="r" b="b"/>
                <a:pathLst>
                  <a:path w="481" h="711">
                    <a:moveTo>
                      <a:pt x="357" y="711"/>
                    </a:moveTo>
                    <a:lnTo>
                      <a:pt x="481" y="630"/>
                    </a:lnTo>
                    <a:lnTo>
                      <a:pt x="357" y="555"/>
                    </a:lnTo>
                    <a:lnTo>
                      <a:pt x="217" y="495"/>
                    </a:lnTo>
                    <a:lnTo>
                      <a:pt x="158" y="348"/>
                    </a:lnTo>
                    <a:lnTo>
                      <a:pt x="175" y="268"/>
                    </a:lnTo>
                    <a:lnTo>
                      <a:pt x="217" y="200"/>
                    </a:lnTo>
                    <a:lnTo>
                      <a:pt x="279" y="151"/>
                    </a:lnTo>
                    <a:lnTo>
                      <a:pt x="357" y="133"/>
                    </a:lnTo>
                    <a:lnTo>
                      <a:pt x="481" y="75"/>
                    </a:lnTo>
                    <a:lnTo>
                      <a:pt x="357" y="0"/>
                    </a:lnTo>
                    <a:lnTo>
                      <a:pt x="217" y="29"/>
                    </a:lnTo>
                    <a:lnTo>
                      <a:pt x="104" y="103"/>
                    </a:lnTo>
                    <a:lnTo>
                      <a:pt x="28" y="217"/>
                    </a:lnTo>
                    <a:lnTo>
                      <a:pt x="0" y="356"/>
                    </a:lnTo>
                    <a:lnTo>
                      <a:pt x="28" y="495"/>
                    </a:lnTo>
                    <a:lnTo>
                      <a:pt x="61" y="557"/>
                    </a:lnTo>
                    <a:lnTo>
                      <a:pt x="104" y="609"/>
                    </a:lnTo>
                    <a:lnTo>
                      <a:pt x="158" y="652"/>
                    </a:lnTo>
                    <a:lnTo>
                      <a:pt x="217" y="685"/>
                    </a:lnTo>
                    <a:lnTo>
                      <a:pt x="357" y="711"/>
                    </a:lnTo>
                    <a:lnTo>
                      <a:pt x="357" y="7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648320" y="5743440"/>
                <a:ext cx="119160" cy="110520"/>
              </a:xfrm>
              <a:custGeom>
                <a:avLst/>
                <a:gdLst/>
                <a:ahLst/>
                <a:rect l="l" t="t" r="r" b="b"/>
                <a:pathLst>
                  <a:path w="760" h="588">
                    <a:moveTo>
                      <a:pt x="380" y="588"/>
                    </a:moveTo>
                    <a:lnTo>
                      <a:pt x="760" y="264"/>
                    </a:lnTo>
                    <a:lnTo>
                      <a:pt x="447" y="316"/>
                    </a:lnTo>
                    <a:lnTo>
                      <a:pt x="528" y="91"/>
                    </a:lnTo>
                    <a:lnTo>
                      <a:pt x="239" y="215"/>
                    </a:lnTo>
                    <a:lnTo>
                      <a:pt x="274" y="0"/>
                    </a:lnTo>
                    <a:lnTo>
                      <a:pt x="0" y="158"/>
                    </a:lnTo>
                    <a:lnTo>
                      <a:pt x="380" y="588"/>
                    </a:lnTo>
                    <a:lnTo>
                      <a:pt x="380" y="5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579560" y="5592600"/>
                <a:ext cx="42120" cy="91080"/>
              </a:xfrm>
              <a:custGeom>
                <a:avLst/>
                <a:gdLst/>
                <a:ahLst/>
                <a:rect l="l" t="t" r="r" b="b"/>
                <a:pathLst>
                  <a:path w="270" h="485">
                    <a:moveTo>
                      <a:pt x="23" y="464"/>
                    </a:moveTo>
                    <a:lnTo>
                      <a:pt x="0" y="317"/>
                    </a:lnTo>
                    <a:lnTo>
                      <a:pt x="32" y="173"/>
                    </a:lnTo>
                    <a:lnTo>
                      <a:pt x="72" y="108"/>
                    </a:lnTo>
                    <a:lnTo>
                      <a:pt x="125" y="49"/>
                    </a:lnTo>
                    <a:lnTo>
                      <a:pt x="188" y="8"/>
                    </a:lnTo>
                    <a:lnTo>
                      <a:pt x="255" y="0"/>
                    </a:lnTo>
                    <a:lnTo>
                      <a:pt x="270" y="25"/>
                    </a:lnTo>
                    <a:lnTo>
                      <a:pt x="237" y="78"/>
                    </a:lnTo>
                    <a:lnTo>
                      <a:pt x="156" y="198"/>
                    </a:lnTo>
                    <a:lnTo>
                      <a:pt x="148" y="454"/>
                    </a:lnTo>
                    <a:lnTo>
                      <a:pt x="85" y="485"/>
                    </a:lnTo>
                    <a:lnTo>
                      <a:pt x="23" y="464"/>
                    </a:lnTo>
                    <a:lnTo>
                      <a:pt x="23" y="4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637160" y="5592600"/>
                <a:ext cx="49680" cy="8712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13" y="454"/>
                    </a:moveTo>
                    <a:lnTo>
                      <a:pt x="0" y="306"/>
                    </a:lnTo>
                    <a:lnTo>
                      <a:pt x="45" y="165"/>
                    </a:lnTo>
                    <a:lnTo>
                      <a:pt x="97" y="99"/>
                    </a:lnTo>
                    <a:lnTo>
                      <a:pt x="161" y="40"/>
                    </a:lnTo>
                    <a:lnTo>
                      <a:pt x="235" y="0"/>
                    </a:lnTo>
                    <a:lnTo>
                      <a:pt x="309" y="0"/>
                    </a:lnTo>
                    <a:lnTo>
                      <a:pt x="319" y="27"/>
                    </a:lnTo>
                    <a:lnTo>
                      <a:pt x="273" y="78"/>
                    </a:lnTo>
                    <a:lnTo>
                      <a:pt x="169" y="198"/>
                    </a:lnTo>
                    <a:lnTo>
                      <a:pt x="127" y="464"/>
                    </a:lnTo>
                    <a:lnTo>
                      <a:pt x="13" y="454"/>
                    </a:lnTo>
                    <a:lnTo>
                      <a:pt x="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693680" y="5590080"/>
                <a:ext cx="59400" cy="89640"/>
              </a:xfrm>
              <a:custGeom>
                <a:avLst/>
                <a:gdLst/>
                <a:ahLst/>
                <a:rect l="l" t="t" r="r" b="b"/>
                <a:pathLst>
                  <a:path w="378" h="477">
                    <a:moveTo>
                      <a:pt x="0" y="460"/>
                    </a:moveTo>
                    <a:lnTo>
                      <a:pt x="7" y="308"/>
                    </a:lnTo>
                    <a:lnTo>
                      <a:pt x="66" y="161"/>
                    </a:lnTo>
                    <a:lnTo>
                      <a:pt x="127" y="97"/>
                    </a:lnTo>
                    <a:lnTo>
                      <a:pt x="205" y="36"/>
                    </a:lnTo>
                    <a:lnTo>
                      <a:pt x="289" y="0"/>
                    </a:lnTo>
                    <a:lnTo>
                      <a:pt x="365" y="5"/>
                    </a:lnTo>
                    <a:lnTo>
                      <a:pt x="378" y="43"/>
                    </a:lnTo>
                    <a:lnTo>
                      <a:pt x="323" y="95"/>
                    </a:lnTo>
                    <a:lnTo>
                      <a:pt x="190" y="211"/>
                    </a:lnTo>
                    <a:lnTo>
                      <a:pt x="108" y="477"/>
                    </a:lnTo>
                    <a:lnTo>
                      <a:pt x="0" y="460"/>
                    </a:lnTo>
                    <a:lnTo>
                      <a:pt x="0" y="4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749480" y="5603760"/>
                <a:ext cx="68760" cy="93960"/>
              </a:xfrm>
              <a:custGeom>
                <a:avLst/>
                <a:gdLst/>
                <a:ahLst/>
                <a:rect l="l" t="t" r="r" b="b"/>
                <a:pathLst>
                  <a:path w="439" h="500">
                    <a:moveTo>
                      <a:pt x="0" y="467"/>
                    </a:moveTo>
                    <a:lnTo>
                      <a:pt x="16" y="306"/>
                    </a:lnTo>
                    <a:lnTo>
                      <a:pt x="44" y="228"/>
                    </a:lnTo>
                    <a:lnTo>
                      <a:pt x="92" y="161"/>
                    </a:lnTo>
                    <a:lnTo>
                      <a:pt x="166" y="95"/>
                    </a:lnTo>
                    <a:lnTo>
                      <a:pt x="255" y="34"/>
                    </a:lnTo>
                    <a:lnTo>
                      <a:pt x="348" y="0"/>
                    </a:lnTo>
                    <a:lnTo>
                      <a:pt x="430" y="13"/>
                    </a:lnTo>
                    <a:lnTo>
                      <a:pt x="439" y="55"/>
                    </a:lnTo>
                    <a:lnTo>
                      <a:pt x="371" y="104"/>
                    </a:lnTo>
                    <a:lnTo>
                      <a:pt x="278" y="160"/>
                    </a:lnTo>
                    <a:lnTo>
                      <a:pt x="207" y="220"/>
                    </a:lnTo>
                    <a:lnTo>
                      <a:pt x="99" y="492"/>
                    </a:lnTo>
                    <a:lnTo>
                      <a:pt x="42" y="500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797360" y="5625720"/>
                <a:ext cx="78840" cy="95760"/>
              </a:xfrm>
              <a:custGeom>
                <a:avLst/>
                <a:gdLst/>
                <a:ahLst/>
                <a:rect l="l" t="t" r="r" b="b"/>
                <a:pathLst>
                  <a:path w="504" h="509">
                    <a:moveTo>
                      <a:pt x="0" y="467"/>
                    </a:moveTo>
                    <a:lnTo>
                      <a:pt x="35" y="306"/>
                    </a:lnTo>
                    <a:lnTo>
                      <a:pt x="73" y="228"/>
                    </a:lnTo>
                    <a:lnTo>
                      <a:pt x="124" y="161"/>
                    </a:lnTo>
                    <a:lnTo>
                      <a:pt x="207" y="95"/>
                    </a:lnTo>
                    <a:lnTo>
                      <a:pt x="306" y="32"/>
                    </a:lnTo>
                    <a:lnTo>
                      <a:pt x="409" y="0"/>
                    </a:lnTo>
                    <a:lnTo>
                      <a:pt x="496" y="21"/>
                    </a:lnTo>
                    <a:lnTo>
                      <a:pt x="504" y="70"/>
                    </a:lnTo>
                    <a:lnTo>
                      <a:pt x="428" y="118"/>
                    </a:lnTo>
                    <a:lnTo>
                      <a:pt x="322" y="171"/>
                    </a:lnTo>
                    <a:lnTo>
                      <a:pt x="240" y="228"/>
                    </a:lnTo>
                    <a:lnTo>
                      <a:pt x="169" y="374"/>
                    </a:lnTo>
                    <a:lnTo>
                      <a:pt x="137" y="448"/>
                    </a:lnTo>
                    <a:lnTo>
                      <a:pt x="92" y="509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3352680" y="5590080"/>
              <a:ext cx="681120" cy="792720"/>
              <a:chOff x="3352680" y="5590080"/>
              <a:chExt cx="681120" cy="792720"/>
            </a:xfrm>
          </p:grpSpPr>
          <p:sp>
            <p:nvSpPr>
              <p:cNvPr id="583" name=""/>
              <p:cNvSpPr/>
              <p:nvPr/>
            </p:nvSpPr>
            <p:spPr>
              <a:xfrm flipH="1">
                <a:off x="3378600" y="5674680"/>
                <a:ext cx="639000" cy="692640"/>
              </a:xfrm>
              <a:custGeom>
                <a:avLst/>
                <a:gdLst/>
                <a:ahLst/>
                <a:rect l="l" t="t" r="r" b="b"/>
                <a:pathLst>
                  <a:path w="4164" h="3761">
                    <a:moveTo>
                      <a:pt x="0" y="1840"/>
                    </a:moveTo>
                    <a:lnTo>
                      <a:pt x="731" y="1861"/>
                    </a:lnTo>
                    <a:lnTo>
                      <a:pt x="1837" y="2435"/>
                    </a:lnTo>
                    <a:lnTo>
                      <a:pt x="1575" y="2790"/>
                    </a:lnTo>
                    <a:lnTo>
                      <a:pt x="1243" y="3260"/>
                    </a:lnTo>
                    <a:lnTo>
                      <a:pt x="1389" y="3573"/>
                    </a:lnTo>
                    <a:lnTo>
                      <a:pt x="1889" y="3761"/>
                    </a:lnTo>
                    <a:lnTo>
                      <a:pt x="2619" y="3720"/>
                    </a:lnTo>
                    <a:lnTo>
                      <a:pt x="3016" y="3376"/>
                    </a:lnTo>
                    <a:lnTo>
                      <a:pt x="3392" y="1724"/>
                    </a:lnTo>
                    <a:lnTo>
                      <a:pt x="4164" y="429"/>
                    </a:lnTo>
                    <a:lnTo>
                      <a:pt x="4048" y="272"/>
                    </a:lnTo>
                    <a:lnTo>
                      <a:pt x="3434" y="62"/>
                    </a:lnTo>
                    <a:lnTo>
                      <a:pt x="2495" y="0"/>
                    </a:lnTo>
                    <a:lnTo>
                      <a:pt x="1377" y="209"/>
                    </a:lnTo>
                    <a:lnTo>
                      <a:pt x="543" y="846"/>
                    </a:lnTo>
                    <a:lnTo>
                      <a:pt x="157" y="1442"/>
                    </a:lnTo>
                    <a:lnTo>
                      <a:pt x="0" y="1840"/>
                    </a:lnTo>
                    <a:lnTo>
                      <a:pt x="0" y="1840"/>
                    </a:lnTo>
                    <a:close/>
                  </a:path>
                </a:pathLst>
              </a:custGeom>
              <a:solidFill>
                <a:srgbClr val="fbd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3521520" y="5751720"/>
                <a:ext cx="286560" cy="147960"/>
              </a:xfrm>
              <a:custGeom>
                <a:avLst/>
                <a:gdLst/>
                <a:ahLst/>
                <a:rect l="l" t="t" r="r" b="b"/>
                <a:pathLst>
                  <a:path w="1866" h="804">
                    <a:moveTo>
                      <a:pt x="0" y="407"/>
                    </a:moveTo>
                    <a:lnTo>
                      <a:pt x="302" y="701"/>
                    </a:lnTo>
                    <a:lnTo>
                      <a:pt x="960" y="804"/>
                    </a:lnTo>
                    <a:lnTo>
                      <a:pt x="1617" y="637"/>
                    </a:lnTo>
                    <a:lnTo>
                      <a:pt x="1866" y="523"/>
                    </a:lnTo>
                    <a:lnTo>
                      <a:pt x="1648" y="220"/>
                    </a:lnTo>
                    <a:lnTo>
                      <a:pt x="1074" y="0"/>
                    </a:lnTo>
                    <a:lnTo>
                      <a:pt x="521" y="42"/>
                    </a:lnTo>
                    <a:lnTo>
                      <a:pt x="0" y="407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3619080" y="5774760"/>
                <a:ext cx="91080" cy="105840"/>
              </a:xfrm>
              <a:custGeom>
                <a:avLst/>
                <a:gdLst/>
                <a:ahLst/>
                <a:rect l="l" t="t" r="r" b="b"/>
                <a:pathLst>
                  <a:path w="595" h="576">
                    <a:moveTo>
                      <a:pt x="407" y="0"/>
                    </a:moveTo>
                    <a:lnTo>
                      <a:pt x="167" y="0"/>
                    </a:lnTo>
                    <a:lnTo>
                      <a:pt x="0" y="242"/>
                    </a:lnTo>
                    <a:lnTo>
                      <a:pt x="104" y="491"/>
                    </a:lnTo>
                    <a:lnTo>
                      <a:pt x="397" y="576"/>
                    </a:lnTo>
                    <a:lnTo>
                      <a:pt x="595" y="314"/>
                    </a:lnTo>
                    <a:lnTo>
                      <a:pt x="407" y="0"/>
                    </a:lnTo>
                    <a:lnTo>
                      <a:pt x="407" y="0"/>
                    </a:lnTo>
                    <a:close/>
                  </a:path>
                </a:pathLst>
              </a:custGeom>
              <a:solidFill>
                <a:srgbClr val="99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3718080" y="6255360"/>
                <a:ext cx="105120" cy="68400"/>
              </a:xfrm>
              <a:custGeom>
                <a:avLst/>
                <a:gdLst/>
                <a:ahLst/>
                <a:rect l="l" t="t" r="r" b="b"/>
                <a:pathLst>
                  <a:path w="686" h="373">
                    <a:moveTo>
                      <a:pt x="91" y="373"/>
                    </a:moveTo>
                    <a:lnTo>
                      <a:pt x="0" y="173"/>
                    </a:lnTo>
                    <a:lnTo>
                      <a:pt x="91" y="0"/>
                    </a:lnTo>
                    <a:lnTo>
                      <a:pt x="538" y="90"/>
                    </a:lnTo>
                    <a:lnTo>
                      <a:pt x="648" y="137"/>
                    </a:lnTo>
                    <a:lnTo>
                      <a:pt x="686" y="183"/>
                    </a:lnTo>
                    <a:lnTo>
                      <a:pt x="648" y="230"/>
                    </a:lnTo>
                    <a:lnTo>
                      <a:pt x="538" y="278"/>
                    </a:lnTo>
                    <a:lnTo>
                      <a:pt x="352" y="325"/>
                    </a:lnTo>
                    <a:lnTo>
                      <a:pt x="91" y="373"/>
                    </a:lnTo>
                    <a:lnTo>
                      <a:pt x="91" y="373"/>
                    </a:lnTo>
                    <a:close/>
                  </a:path>
                </a:pathLst>
              </a:custGeom>
              <a:solidFill>
                <a:srgbClr val="d42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3649320" y="5932440"/>
                <a:ext cx="384480" cy="199440"/>
              </a:xfrm>
              <a:custGeom>
                <a:avLst/>
                <a:gdLst/>
                <a:ahLst/>
                <a:rect l="l" t="t" r="r" b="b"/>
                <a:pathLst>
                  <a:path w="2505" h="1083">
                    <a:moveTo>
                      <a:pt x="67" y="604"/>
                    </a:moveTo>
                    <a:lnTo>
                      <a:pt x="399" y="587"/>
                    </a:lnTo>
                    <a:lnTo>
                      <a:pt x="844" y="612"/>
                    </a:lnTo>
                    <a:lnTo>
                      <a:pt x="1087" y="713"/>
                    </a:lnTo>
                    <a:lnTo>
                      <a:pt x="1224" y="787"/>
                    </a:lnTo>
                    <a:lnTo>
                      <a:pt x="1361" y="866"/>
                    </a:lnTo>
                    <a:lnTo>
                      <a:pt x="1498" y="943"/>
                    </a:lnTo>
                    <a:lnTo>
                      <a:pt x="1627" y="1011"/>
                    </a:lnTo>
                    <a:lnTo>
                      <a:pt x="1743" y="1058"/>
                    </a:lnTo>
                    <a:lnTo>
                      <a:pt x="1844" y="1083"/>
                    </a:lnTo>
                    <a:lnTo>
                      <a:pt x="2100" y="1055"/>
                    </a:lnTo>
                    <a:lnTo>
                      <a:pt x="2311" y="918"/>
                    </a:lnTo>
                    <a:lnTo>
                      <a:pt x="2452" y="707"/>
                    </a:lnTo>
                    <a:lnTo>
                      <a:pt x="2505" y="454"/>
                    </a:lnTo>
                    <a:lnTo>
                      <a:pt x="2469" y="245"/>
                    </a:lnTo>
                    <a:lnTo>
                      <a:pt x="2425" y="161"/>
                    </a:lnTo>
                    <a:lnTo>
                      <a:pt x="2366" y="95"/>
                    </a:lnTo>
                    <a:lnTo>
                      <a:pt x="2294" y="42"/>
                    </a:lnTo>
                    <a:lnTo>
                      <a:pt x="2209" y="9"/>
                    </a:lnTo>
                    <a:lnTo>
                      <a:pt x="1999" y="0"/>
                    </a:lnTo>
                    <a:lnTo>
                      <a:pt x="1836" y="66"/>
                    </a:lnTo>
                    <a:lnTo>
                      <a:pt x="1718" y="203"/>
                    </a:lnTo>
                    <a:lnTo>
                      <a:pt x="1648" y="367"/>
                    </a:lnTo>
                    <a:lnTo>
                      <a:pt x="1629" y="513"/>
                    </a:lnTo>
                    <a:lnTo>
                      <a:pt x="1648" y="574"/>
                    </a:lnTo>
                    <a:lnTo>
                      <a:pt x="1688" y="616"/>
                    </a:lnTo>
                    <a:lnTo>
                      <a:pt x="1806" y="642"/>
                    </a:lnTo>
                    <a:lnTo>
                      <a:pt x="1923" y="595"/>
                    </a:lnTo>
                    <a:lnTo>
                      <a:pt x="1984" y="479"/>
                    </a:lnTo>
                    <a:lnTo>
                      <a:pt x="1969" y="370"/>
                    </a:lnTo>
                    <a:lnTo>
                      <a:pt x="1929" y="308"/>
                    </a:lnTo>
                    <a:lnTo>
                      <a:pt x="1876" y="222"/>
                    </a:lnTo>
                    <a:lnTo>
                      <a:pt x="1895" y="171"/>
                    </a:lnTo>
                    <a:lnTo>
                      <a:pt x="1937" y="133"/>
                    </a:lnTo>
                    <a:lnTo>
                      <a:pt x="2041" y="99"/>
                    </a:lnTo>
                    <a:lnTo>
                      <a:pt x="2157" y="129"/>
                    </a:lnTo>
                    <a:lnTo>
                      <a:pt x="2248" y="205"/>
                    </a:lnTo>
                    <a:lnTo>
                      <a:pt x="2332" y="429"/>
                    </a:lnTo>
                    <a:lnTo>
                      <a:pt x="2311" y="572"/>
                    </a:lnTo>
                    <a:lnTo>
                      <a:pt x="2254" y="709"/>
                    </a:lnTo>
                    <a:lnTo>
                      <a:pt x="2212" y="768"/>
                    </a:lnTo>
                    <a:lnTo>
                      <a:pt x="2167" y="819"/>
                    </a:lnTo>
                    <a:lnTo>
                      <a:pt x="2115" y="855"/>
                    </a:lnTo>
                    <a:lnTo>
                      <a:pt x="2058" y="876"/>
                    </a:lnTo>
                    <a:lnTo>
                      <a:pt x="1800" y="853"/>
                    </a:lnTo>
                    <a:lnTo>
                      <a:pt x="1678" y="798"/>
                    </a:lnTo>
                    <a:lnTo>
                      <a:pt x="1562" y="728"/>
                    </a:lnTo>
                    <a:lnTo>
                      <a:pt x="1450" y="650"/>
                    </a:lnTo>
                    <a:lnTo>
                      <a:pt x="1342" y="572"/>
                    </a:lnTo>
                    <a:lnTo>
                      <a:pt x="1239" y="503"/>
                    </a:lnTo>
                    <a:lnTo>
                      <a:pt x="1140" y="454"/>
                    </a:lnTo>
                    <a:lnTo>
                      <a:pt x="939" y="393"/>
                    </a:lnTo>
                    <a:lnTo>
                      <a:pt x="713" y="349"/>
                    </a:lnTo>
                    <a:lnTo>
                      <a:pt x="247" y="338"/>
                    </a:lnTo>
                    <a:lnTo>
                      <a:pt x="131" y="387"/>
                    </a:lnTo>
                    <a:lnTo>
                      <a:pt x="0" y="551"/>
                    </a:lnTo>
                    <a:lnTo>
                      <a:pt x="67" y="604"/>
                    </a:lnTo>
                    <a:lnTo>
                      <a:pt x="67" y="6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3367080" y="5664960"/>
                <a:ext cx="666360" cy="717840"/>
              </a:xfrm>
              <a:custGeom>
                <a:avLst/>
                <a:gdLst/>
                <a:ahLst/>
                <a:rect l="l" t="t" r="r" b="b"/>
                <a:pathLst>
                  <a:path w="4339" h="3901">
                    <a:moveTo>
                      <a:pt x="247" y="1892"/>
                    </a:moveTo>
                    <a:lnTo>
                      <a:pt x="321" y="1671"/>
                    </a:lnTo>
                    <a:lnTo>
                      <a:pt x="371" y="1550"/>
                    </a:lnTo>
                    <a:lnTo>
                      <a:pt x="428" y="1424"/>
                    </a:lnTo>
                    <a:lnTo>
                      <a:pt x="496" y="1295"/>
                    </a:lnTo>
                    <a:lnTo>
                      <a:pt x="578" y="1166"/>
                    </a:lnTo>
                    <a:lnTo>
                      <a:pt x="673" y="1035"/>
                    </a:lnTo>
                    <a:lnTo>
                      <a:pt x="785" y="907"/>
                    </a:lnTo>
                    <a:lnTo>
                      <a:pt x="914" y="784"/>
                    </a:lnTo>
                    <a:lnTo>
                      <a:pt x="1062" y="666"/>
                    </a:lnTo>
                    <a:lnTo>
                      <a:pt x="1144" y="609"/>
                    </a:lnTo>
                    <a:lnTo>
                      <a:pt x="1232" y="554"/>
                    </a:lnTo>
                    <a:lnTo>
                      <a:pt x="1325" y="502"/>
                    </a:lnTo>
                    <a:lnTo>
                      <a:pt x="1422" y="453"/>
                    </a:lnTo>
                    <a:lnTo>
                      <a:pt x="1526" y="407"/>
                    </a:lnTo>
                    <a:lnTo>
                      <a:pt x="1636" y="364"/>
                    </a:lnTo>
                    <a:lnTo>
                      <a:pt x="1752" y="324"/>
                    </a:lnTo>
                    <a:lnTo>
                      <a:pt x="1876" y="286"/>
                    </a:lnTo>
                    <a:lnTo>
                      <a:pt x="2144" y="223"/>
                    </a:lnTo>
                    <a:lnTo>
                      <a:pt x="2439" y="177"/>
                    </a:lnTo>
                    <a:lnTo>
                      <a:pt x="2866" y="153"/>
                    </a:lnTo>
                    <a:lnTo>
                      <a:pt x="3336" y="183"/>
                    </a:lnTo>
                    <a:lnTo>
                      <a:pt x="3792" y="284"/>
                    </a:lnTo>
                    <a:lnTo>
                      <a:pt x="3999" y="364"/>
                    </a:lnTo>
                    <a:lnTo>
                      <a:pt x="4183" y="468"/>
                    </a:lnTo>
                    <a:lnTo>
                      <a:pt x="4172" y="519"/>
                    </a:lnTo>
                    <a:lnTo>
                      <a:pt x="4103" y="633"/>
                    </a:lnTo>
                    <a:lnTo>
                      <a:pt x="4054" y="709"/>
                    </a:lnTo>
                    <a:lnTo>
                      <a:pt x="3997" y="795"/>
                    </a:lnTo>
                    <a:lnTo>
                      <a:pt x="3932" y="890"/>
                    </a:lnTo>
                    <a:lnTo>
                      <a:pt x="3864" y="991"/>
                    </a:lnTo>
                    <a:lnTo>
                      <a:pt x="3792" y="1097"/>
                    </a:lnTo>
                    <a:lnTo>
                      <a:pt x="3718" y="1206"/>
                    </a:lnTo>
                    <a:lnTo>
                      <a:pt x="3645" y="1318"/>
                    </a:lnTo>
                    <a:lnTo>
                      <a:pt x="3577" y="1426"/>
                    </a:lnTo>
                    <a:lnTo>
                      <a:pt x="3512" y="1534"/>
                    </a:lnTo>
                    <a:lnTo>
                      <a:pt x="3453" y="1637"/>
                    </a:lnTo>
                    <a:lnTo>
                      <a:pt x="3364" y="1825"/>
                    </a:lnTo>
                    <a:lnTo>
                      <a:pt x="3250" y="2186"/>
                    </a:lnTo>
                    <a:lnTo>
                      <a:pt x="3159" y="2572"/>
                    </a:lnTo>
                    <a:lnTo>
                      <a:pt x="3077" y="2964"/>
                    </a:lnTo>
                    <a:lnTo>
                      <a:pt x="2992" y="3340"/>
                    </a:lnTo>
                    <a:lnTo>
                      <a:pt x="2965" y="3405"/>
                    </a:lnTo>
                    <a:lnTo>
                      <a:pt x="2916" y="3485"/>
                    </a:lnTo>
                    <a:lnTo>
                      <a:pt x="2857" y="3559"/>
                    </a:lnTo>
                    <a:lnTo>
                      <a:pt x="2802" y="3604"/>
                    </a:lnTo>
                    <a:lnTo>
                      <a:pt x="2708" y="3652"/>
                    </a:lnTo>
                    <a:lnTo>
                      <a:pt x="2591" y="3696"/>
                    </a:lnTo>
                    <a:lnTo>
                      <a:pt x="2372" y="3738"/>
                    </a:lnTo>
                    <a:lnTo>
                      <a:pt x="1847" y="3690"/>
                    </a:lnTo>
                    <a:lnTo>
                      <a:pt x="1635" y="3604"/>
                    </a:lnTo>
                    <a:lnTo>
                      <a:pt x="1521" y="3439"/>
                    </a:lnTo>
                    <a:lnTo>
                      <a:pt x="1524" y="3253"/>
                    </a:lnTo>
                    <a:lnTo>
                      <a:pt x="1559" y="3158"/>
                    </a:lnTo>
                    <a:lnTo>
                      <a:pt x="1608" y="3063"/>
                    </a:lnTo>
                    <a:lnTo>
                      <a:pt x="1674" y="2970"/>
                    </a:lnTo>
                    <a:lnTo>
                      <a:pt x="1749" y="2880"/>
                    </a:lnTo>
                    <a:lnTo>
                      <a:pt x="1834" y="2797"/>
                    </a:lnTo>
                    <a:lnTo>
                      <a:pt x="1925" y="2719"/>
                    </a:lnTo>
                    <a:lnTo>
                      <a:pt x="2032" y="2631"/>
                    </a:lnTo>
                    <a:lnTo>
                      <a:pt x="2155" y="2521"/>
                    </a:lnTo>
                    <a:lnTo>
                      <a:pt x="2285" y="2390"/>
                    </a:lnTo>
                    <a:lnTo>
                      <a:pt x="2406" y="2238"/>
                    </a:lnTo>
                    <a:lnTo>
                      <a:pt x="1827" y="2479"/>
                    </a:lnTo>
                    <a:lnTo>
                      <a:pt x="1800" y="2595"/>
                    </a:lnTo>
                    <a:lnTo>
                      <a:pt x="1739" y="2715"/>
                    </a:lnTo>
                    <a:lnTo>
                      <a:pt x="1654" y="2838"/>
                    </a:lnTo>
                    <a:lnTo>
                      <a:pt x="1555" y="2960"/>
                    </a:lnTo>
                    <a:lnTo>
                      <a:pt x="1458" y="3082"/>
                    </a:lnTo>
                    <a:lnTo>
                      <a:pt x="1372" y="3203"/>
                    </a:lnTo>
                    <a:lnTo>
                      <a:pt x="1291" y="3430"/>
                    </a:lnTo>
                    <a:lnTo>
                      <a:pt x="1304" y="3502"/>
                    </a:lnTo>
                    <a:lnTo>
                      <a:pt x="1340" y="3570"/>
                    </a:lnTo>
                    <a:lnTo>
                      <a:pt x="1393" y="3637"/>
                    </a:lnTo>
                    <a:lnTo>
                      <a:pt x="1460" y="3696"/>
                    </a:lnTo>
                    <a:lnTo>
                      <a:pt x="1536" y="3749"/>
                    </a:lnTo>
                    <a:lnTo>
                      <a:pt x="1610" y="3793"/>
                    </a:lnTo>
                    <a:lnTo>
                      <a:pt x="1743" y="3844"/>
                    </a:lnTo>
                    <a:lnTo>
                      <a:pt x="1971" y="3880"/>
                    </a:lnTo>
                    <a:lnTo>
                      <a:pt x="2218" y="3901"/>
                    </a:lnTo>
                    <a:lnTo>
                      <a:pt x="2686" y="3869"/>
                    </a:lnTo>
                    <a:lnTo>
                      <a:pt x="2864" y="3802"/>
                    </a:lnTo>
                    <a:lnTo>
                      <a:pt x="3028" y="3675"/>
                    </a:lnTo>
                    <a:lnTo>
                      <a:pt x="3166" y="3511"/>
                    </a:lnTo>
                    <a:lnTo>
                      <a:pt x="3265" y="3331"/>
                    </a:lnTo>
                    <a:lnTo>
                      <a:pt x="3374" y="2989"/>
                    </a:lnTo>
                    <a:lnTo>
                      <a:pt x="3453" y="2601"/>
                    </a:lnTo>
                    <a:lnTo>
                      <a:pt x="3526" y="2209"/>
                    </a:lnTo>
                    <a:lnTo>
                      <a:pt x="3567" y="2025"/>
                    </a:lnTo>
                    <a:lnTo>
                      <a:pt x="3611" y="1858"/>
                    </a:lnTo>
                    <a:lnTo>
                      <a:pt x="3676" y="1690"/>
                    </a:lnTo>
                    <a:lnTo>
                      <a:pt x="3759" y="1523"/>
                    </a:lnTo>
                    <a:lnTo>
                      <a:pt x="3858" y="1354"/>
                    </a:lnTo>
                    <a:lnTo>
                      <a:pt x="3963" y="1187"/>
                    </a:lnTo>
                    <a:lnTo>
                      <a:pt x="4016" y="1101"/>
                    </a:lnTo>
                    <a:lnTo>
                      <a:pt x="4071" y="1017"/>
                    </a:lnTo>
                    <a:lnTo>
                      <a:pt x="4172" y="848"/>
                    </a:lnTo>
                    <a:lnTo>
                      <a:pt x="4263" y="679"/>
                    </a:lnTo>
                    <a:lnTo>
                      <a:pt x="4339" y="510"/>
                    </a:lnTo>
                    <a:lnTo>
                      <a:pt x="4316" y="381"/>
                    </a:lnTo>
                    <a:lnTo>
                      <a:pt x="4273" y="261"/>
                    </a:lnTo>
                    <a:lnTo>
                      <a:pt x="4153" y="219"/>
                    </a:lnTo>
                    <a:lnTo>
                      <a:pt x="4033" y="183"/>
                    </a:lnTo>
                    <a:lnTo>
                      <a:pt x="3792" y="118"/>
                    </a:lnTo>
                    <a:lnTo>
                      <a:pt x="3547" y="69"/>
                    </a:lnTo>
                    <a:lnTo>
                      <a:pt x="3301" y="35"/>
                    </a:lnTo>
                    <a:lnTo>
                      <a:pt x="2813" y="0"/>
                    </a:lnTo>
                    <a:lnTo>
                      <a:pt x="2332" y="12"/>
                    </a:lnTo>
                    <a:lnTo>
                      <a:pt x="1865" y="86"/>
                    </a:lnTo>
                    <a:lnTo>
                      <a:pt x="1644" y="153"/>
                    </a:lnTo>
                    <a:lnTo>
                      <a:pt x="1431" y="236"/>
                    </a:lnTo>
                    <a:lnTo>
                      <a:pt x="1329" y="284"/>
                    </a:lnTo>
                    <a:lnTo>
                      <a:pt x="1228" y="335"/>
                    </a:lnTo>
                    <a:lnTo>
                      <a:pt x="1131" y="390"/>
                    </a:lnTo>
                    <a:lnTo>
                      <a:pt x="1036" y="447"/>
                    </a:lnTo>
                    <a:lnTo>
                      <a:pt x="945" y="510"/>
                    </a:lnTo>
                    <a:lnTo>
                      <a:pt x="857" y="575"/>
                    </a:lnTo>
                    <a:lnTo>
                      <a:pt x="692" y="711"/>
                    </a:lnTo>
                    <a:lnTo>
                      <a:pt x="540" y="858"/>
                    </a:lnTo>
                    <a:lnTo>
                      <a:pt x="405" y="1012"/>
                    </a:lnTo>
                    <a:lnTo>
                      <a:pt x="344" y="1092"/>
                    </a:lnTo>
                    <a:lnTo>
                      <a:pt x="287" y="1171"/>
                    </a:lnTo>
                    <a:lnTo>
                      <a:pt x="188" y="1337"/>
                    </a:lnTo>
                    <a:lnTo>
                      <a:pt x="49" y="1673"/>
                    </a:lnTo>
                    <a:lnTo>
                      <a:pt x="0" y="2008"/>
                    </a:lnTo>
                    <a:lnTo>
                      <a:pt x="247" y="1892"/>
                    </a:lnTo>
                    <a:lnTo>
                      <a:pt x="247" y="18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3488040" y="5736600"/>
                <a:ext cx="337320" cy="177120"/>
              </a:xfrm>
              <a:custGeom>
                <a:avLst/>
                <a:gdLst/>
                <a:ahLst/>
                <a:rect l="l" t="t" r="r" b="b"/>
                <a:pathLst>
                  <a:path w="2199" h="962">
                    <a:moveTo>
                      <a:pt x="1844" y="692"/>
                    </a:moveTo>
                    <a:lnTo>
                      <a:pt x="1749" y="742"/>
                    </a:lnTo>
                    <a:lnTo>
                      <a:pt x="1648" y="791"/>
                    </a:lnTo>
                    <a:lnTo>
                      <a:pt x="1540" y="837"/>
                    </a:lnTo>
                    <a:lnTo>
                      <a:pt x="1426" y="877"/>
                    </a:lnTo>
                    <a:lnTo>
                      <a:pt x="1184" y="937"/>
                    </a:lnTo>
                    <a:lnTo>
                      <a:pt x="935" y="962"/>
                    </a:lnTo>
                    <a:lnTo>
                      <a:pt x="682" y="941"/>
                    </a:lnTo>
                    <a:lnTo>
                      <a:pt x="437" y="859"/>
                    </a:lnTo>
                    <a:lnTo>
                      <a:pt x="319" y="793"/>
                    </a:lnTo>
                    <a:lnTo>
                      <a:pt x="207" y="709"/>
                    </a:lnTo>
                    <a:lnTo>
                      <a:pt x="101" y="603"/>
                    </a:lnTo>
                    <a:lnTo>
                      <a:pt x="0" y="477"/>
                    </a:lnTo>
                    <a:lnTo>
                      <a:pt x="53" y="411"/>
                    </a:lnTo>
                    <a:lnTo>
                      <a:pt x="108" y="350"/>
                    </a:lnTo>
                    <a:lnTo>
                      <a:pt x="224" y="244"/>
                    </a:lnTo>
                    <a:lnTo>
                      <a:pt x="285" y="198"/>
                    </a:lnTo>
                    <a:lnTo>
                      <a:pt x="350" y="158"/>
                    </a:lnTo>
                    <a:lnTo>
                      <a:pt x="481" y="91"/>
                    </a:lnTo>
                    <a:lnTo>
                      <a:pt x="620" y="44"/>
                    </a:lnTo>
                    <a:lnTo>
                      <a:pt x="762" y="14"/>
                    </a:lnTo>
                    <a:lnTo>
                      <a:pt x="1057" y="0"/>
                    </a:lnTo>
                    <a:lnTo>
                      <a:pt x="1357" y="42"/>
                    </a:lnTo>
                    <a:lnTo>
                      <a:pt x="1654" y="135"/>
                    </a:lnTo>
                    <a:lnTo>
                      <a:pt x="1798" y="198"/>
                    </a:lnTo>
                    <a:lnTo>
                      <a:pt x="1937" y="268"/>
                    </a:lnTo>
                    <a:lnTo>
                      <a:pt x="2072" y="348"/>
                    </a:lnTo>
                    <a:lnTo>
                      <a:pt x="2199" y="436"/>
                    </a:lnTo>
                    <a:lnTo>
                      <a:pt x="2093" y="538"/>
                    </a:lnTo>
                    <a:lnTo>
                      <a:pt x="1992" y="633"/>
                    </a:lnTo>
                    <a:lnTo>
                      <a:pt x="1901" y="559"/>
                    </a:lnTo>
                    <a:lnTo>
                      <a:pt x="1804" y="489"/>
                    </a:lnTo>
                    <a:lnTo>
                      <a:pt x="1701" y="422"/>
                    </a:lnTo>
                    <a:lnTo>
                      <a:pt x="1593" y="360"/>
                    </a:lnTo>
                    <a:lnTo>
                      <a:pt x="1483" y="302"/>
                    </a:lnTo>
                    <a:lnTo>
                      <a:pt x="1371" y="255"/>
                    </a:lnTo>
                    <a:lnTo>
                      <a:pt x="1255" y="215"/>
                    </a:lnTo>
                    <a:lnTo>
                      <a:pt x="1139" y="187"/>
                    </a:lnTo>
                    <a:lnTo>
                      <a:pt x="905" y="166"/>
                    </a:lnTo>
                    <a:lnTo>
                      <a:pt x="677" y="200"/>
                    </a:lnTo>
                    <a:lnTo>
                      <a:pt x="462" y="304"/>
                    </a:lnTo>
                    <a:lnTo>
                      <a:pt x="264" y="485"/>
                    </a:lnTo>
                    <a:lnTo>
                      <a:pt x="318" y="563"/>
                    </a:lnTo>
                    <a:lnTo>
                      <a:pt x="384" y="628"/>
                    </a:lnTo>
                    <a:lnTo>
                      <a:pt x="464" y="677"/>
                    </a:lnTo>
                    <a:lnTo>
                      <a:pt x="555" y="717"/>
                    </a:lnTo>
                    <a:lnTo>
                      <a:pt x="760" y="764"/>
                    </a:lnTo>
                    <a:lnTo>
                      <a:pt x="990" y="778"/>
                    </a:lnTo>
                    <a:lnTo>
                      <a:pt x="1456" y="743"/>
                    </a:lnTo>
                    <a:lnTo>
                      <a:pt x="1844" y="692"/>
                    </a:lnTo>
                    <a:lnTo>
                      <a:pt x="1844" y="6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3650760" y="5805720"/>
                <a:ext cx="27720" cy="33480"/>
              </a:xfrm>
              <a:custGeom>
                <a:avLst/>
                <a:gdLst/>
                <a:ahLst/>
                <a:rect l="l" t="t" r="r" b="b"/>
                <a:pathLst>
                  <a:path w="181" h="182">
                    <a:moveTo>
                      <a:pt x="91" y="0"/>
                    </a:moveTo>
                    <a:lnTo>
                      <a:pt x="154" y="28"/>
                    </a:lnTo>
                    <a:lnTo>
                      <a:pt x="181" y="91"/>
                    </a:lnTo>
                    <a:lnTo>
                      <a:pt x="154" y="155"/>
                    </a:lnTo>
                    <a:lnTo>
                      <a:pt x="91" y="182"/>
                    </a:lnTo>
                    <a:lnTo>
                      <a:pt x="27" y="155"/>
                    </a:lnTo>
                    <a:lnTo>
                      <a:pt x="0" y="91"/>
                    </a:lnTo>
                    <a:lnTo>
                      <a:pt x="27" y="28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3610440" y="5757120"/>
                <a:ext cx="73440" cy="130680"/>
              </a:xfrm>
              <a:custGeom>
                <a:avLst/>
                <a:gdLst/>
                <a:ahLst/>
                <a:rect l="l" t="t" r="r" b="b"/>
                <a:pathLst>
                  <a:path w="479" h="711">
                    <a:moveTo>
                      <a:pt x="125" y="711"/>
                    </a:moveTo>
                    <a:lnTo>
                      <a:pt x="0" y="630"/>
                    </a:lnTo>
                    <a:lnTo>
                      <a:pt x="125" y="555"/>
                    </a:lnTo>
                    <a:lnTo>
                      <a:pt x="268" y="495"/>
                    </a:lnTo>
                    <a:lnTo>
                      <a:pt x="330" y="348"/>
                    </a:lnTo>
                    <a:lnTo>
                      <a:pt x="313" y="268"/>
                    </a:lnTo>
                    <a:lnTo>
                      <a:pt x="268" y="200"/>
                    </a:lnTo>
                    <a:lnTo>
                      <a:pt x="201" y="151"/>
                    </a:lnTo>
                    <a:lnTo>
                      <a:pt x="125" y="133"/>
                    </a:lnTo>
                    <a:lnTo>
                      <a:pt x="0" y="75"/>
                    </a:lnTo>
                    <a:lnTo>
                      <a:pt x="125" y="0"/>
                    </a:lnTo>
                    <a:lnTo>
                      <a:pt x="264" y="29"/>
                    </a:lnTo>
                    <a:lnTo>
                      <a:pt x="376" y="103"/>
                    </a:lnTo>
                    <a:lnTo>
                      <a:pt x="452" y="217"/>
                    </a:lnTo>
                    <a:lnTo>
                      <a:pt x="479" y="356"/>
                    </a:lnTo>
                    <a:lnTo>
                      <a:pt x="452" y="495"/>
                    </a:lnTo>
                    <a:lnTo>
                      <a:pt x="420" y="557"/>
                    </a:lnTo>
                    <a:lnTo>
                      <a:pt x="376" y="609"/>
                    </a:lnTo>
                    <a:lnTo>
                      <a:pt x="323" y="652"/>
                    </a:lnTo>
                    <a:lnTo>
                      <a:pt x="264" y="685"/>
                    </a:lnTo>
                    <a:lnTo>
                      <a:pt x="125" y="711"/>
                    </a:lnTo>
                    <a:lnTo>
                      <a:pt x="125" y="7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3645360" y="5757120"/>
                <a:ext cx="73800" cy="130680"/>
              </a:xfrm>
              <a:custGeom>
                <a:avLst/>
                <a:gdLst/>
                <a:ahLst/>
                <a:rect l="l" t="t" r="r" b="b"/>
                <a:pathLst>
                  <a:path w="481" h="711">
                    <a:moveTo>
                      <a:pt x="357" y="711"/>
                    </a:moveTo>
                    <a:lnTo>
                      <a:pt x="481" y="630"/>
                    </a:lnTo>
                    <a:lnTo>
                      <a:pt x="357" y="555"/>
                    </a:lnTo>
                    <a:lnTo>
                      <a:pt x="217" y="495"/>
                    </a:lnTo>
                    <a:lnTo>
                      <a:pt x="158" y="348"/>
                    </a:lnTo>
                    <a:lnTo>
                      <a:pt x="175" y="268"/>
                    </a:lnTo>
                    <a:lnTo>
                      <a:pt x="217" y="200"/>
                    </a:lnTo>
                    <a:lnTo>
                      <a:pt x="279" y="151"/>
                    </a:lnTo>
                    <a:lnTo>
                      <a:pt x="357" y="133"/>
                    </a:lnTo>
                    <a:lnTo>
                      <a:pt x="481" y="75"/>
                    </a:lnTo>
                    <a:lnTo>
                      <a:pt x="357" y="0"/>
                    </a:lnTo>
                    <a:lnTo>
                      <a:pt x="217" y="29"/>
                    </a:lnTo>
                    <a:lnTo>
                      <a:pt x="104" y="103"/>
                    </a:lnTo>
                    <a:lnTo>
                      <a:pt x="28" y="217"/>
                    </a:lnTo>
                    <a:lnTo>
                      <a:pt x="0" y="356"/>
                    </a:lnTo>
                    <a:lnTo>
                      <a:pt x="28" y="495"/>
                    </a:lnTo>
                    <a:lnTo>
                      <a:pt x="61" y="557"/>
                    </a:lnTo>
                    <a:lnTo>
                      <a:pt x="104" y="609"/>
                    </a:lnTo>
                    <a:lnTo>
                      <a:pt x="158" y="652"/>
                    </a:lnTo>
                    <a:lnTo>
                      <a:pt x="217" y="685"/>
                    </a:lnTo>
                    <a:lnTo>
                      <a:pt x="357" y="711"/>
                    </a:lnTo>
                    <a:lnTo>
                      <a:pt x="357" y="7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3459240" y="5740200"/>
                <a:ext cx="116640" cy="108000"/>
              </a:xfrm>
              <a:custGeom>
                <a:avLst/>
                <a:gdLst/>
                <a:ahLst/>
                <a:rect l="l" t="t" r="r" b="b"/>
                <a:pathLst>
                  <a:path w="760" h="588">
                    <a:moveTo>
                      <a:pt x="380" y="588"/>
                    </a:moveTo>
                    <a:lnTo>
                      <a:pt x="760" y="264"/>
                    </a:lnTo>
                    <a:lnTo>
                      <a:pt x="447" y="316"/>
                    </a:lnTo>
                    <a:lnTo>
                      <a:pt x="528" y="91"/>
                    </a:lnTo>
                    <a:lnTo>
                      <a:pt x="239" y="215"/>
                    </a:lnTo>
                    <a:lnTo>
                      <a:pt x="274" y="0"/>
                    </a:lnTo>
                    <a:lnTo>
                      <a:pt x="0" y="158"/>
                    </a:lnTo>
                    <a:lnTo>
                      <a:pt x="380" y="588"/>
                    </a:lnTo>
                    <a:lnTo>
                      <a:pt x="380" y="5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3601440" y="5592600"/>
                <a:ext cx="41400" cy="88920"/>
              </a:xfrm>
              <a:custGeom>
                <a:avLst/>
                <a:gdLst/>
                <a:ahLst/>
                <a:rect l="l" t="t" r="r" b="b"/>
                <a:pathLst>
                  <a:path w="270" h="485">
                    <a:moveTo>
                      <a:pt x="23" y="464"/>
                    </a:moveTo>
                    <a:lnTo>
                      <a:pt x="0" y="317"/>
                    </a:lnTo>
                    <a:lnTo>
                      <a:pt x="32" y="173"/>
                    </a:lnTo>
                    <a:lnTo>
                      <a:pt x="72" y="108"/>
                    </a:lnTo>
                    <a:lnTo>
                      <a:pt x="125" y="49"/>
                    </a:lnTo>
                    <a:lnTo>
                      <a:pt x="188" y="8"/>
                    </a:lnTo>
                    <a:lnTo>
                      <a:pt x="255" y="0"/>
                    </a:lnTo>
                    <a:lnTo>
                      <a:pt x="270" y="25"/>
                    </a:lnTo>
                    <a:lnTo>
                      <a:pt x="237" y="78"/>
                    </a:lnTo>
                    <a:lnTo>
                      <a:pt x="156" y="198"/>
                    </a:lnTo>
                    <a:lnTo>
                      <a:pt x="148" y="454"/>
                    </a:lnTo>
                    <a:lnTo>
                      <a:pt x="85" y="485"/>
                    </a:lnTo>
                    <a:lnTo>
                      <a:pt x="23" y="464"/>
                    </a:lnTo>
                    <a:lnTo>
                      <a:pt x="23" y="4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3537720" y="5592600"/>
                <a:ext cx="48600" cy="8532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13" y="454"/>
                    </a:moveTo>
                    <a:lnTo>
                      <a:pt x="0" y="306"/>
                    </a:lnTo>
                    <a:lnTo>
                      <a:pt x="45" y="165"/>
                    </a:lnTo>
                    <a:lnTo>
                      <a:pt x="97" y="99"/>
                    </a:lnTo>
                    <a:lnTo>
                      <a:pt x="161" y="40"/>
                    </a:lnTo>
                    <a:lnTo>
                      <a:pt x="235" y="0"/>
                    </a:lnTo>
                    <a:lnTo>
                      <a:pt x="309" y="0"/>
                    </a:lnTo>
                    <a:lnTo>
                      <a:pt x="319" y="27"/>
                    </a:lnTo>
                    <a:lnTo>
                      <a:pt x="273" y="78"/>
                    </a:lnTo>
                    <a:lnTo>
                      <a:pt x="169" y="198"/>
                    </a:lnTo>
                    <a:lnTo>
                      <a:pt x="127" y="464"/>
                    </a:lnTo>
                    <a:lnTo>
                      <a:pt x="13" y="454"/>
                    </a:lnTo>
                    <a:lnTo>
                      <a:pt x="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3473280" y="5590080"/>
                <a:ext cx="58320" cy="87840"/>
              </a:xfrm>
              <a:custGeom>
                <a:avLst/>
                <a:gdLst/>
                <a:ahLst/>
                <a:rect l="l" t="t" r="r" b="b"/>
                <a:pathLst>
                  <a:path w="378" h="477">
                    <a:moveTo>
                      <a:pt x="0" y="460"/>
                    </a:moveTo>
                    <a:lnTo>
                      <a:pt x="7" y="308"/>
                    </a:lnTo>
                    <a:lnTo>
                      <a:pt x="66" y="161"/>
                    </a:lnTo>
                    <a:lnTo>
                      <a:pt x="127" y="97"/>
                    </a:lnTo>
                    <a:lnTo>
                      <a:pt x="205" y="36"/>
                    </a:lnTo>
                    <a:lnTo>
                      <a:pt x="289" y="0"/>
                    </a:lnTo>
                    <a:lnTo>
                      <a:pt x="365" y="5"/>
                    </a:lnTo>
                    <a:lnTo>
                      <a:pt x="378" y="43"/>
                    </a:lnTo>
                    <a:lnTo>
                      <a:pt x="323" y="95"/>
                    </a:lnTo>
                    <a:lnTo>
                      <a:pt x="190" y="211"/>
                    </a:lnTo>
                    <a:lnTo>
                      <a:pt x="108" y="477"/>
                    </a:lnTo>
                    <a:lnTo>
                      <a:pt x="0" y="460"/>
                    </a:lnTo>
                    <a:lnTo>
                      <a:pt x="0" y="4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3409200" y="5603400"/>
                <a:ext cx="67320" cy="91800"/>
              </a:xfrm>
              <a:custGeom>
                <a:avLst/>
                <a:gdLst/>
                <a:ahLst/>
                <a:rect l="l" t="t" r="r" b="b"/>
                <a:pathLst>
                  <a:path w="439" h="500">
                    <a:moveTo>
                      <a:pt x="0" y="467"/>
                    </a:moveTo>
                    <a:lnTo>
                      <a:pt x="16" y="306"/>
                    </a:lnTo>
                    <a:lnTo>
                      <a:pt x="44" y="228"/>
                    </a:lnTo>
                    <a:lnTo>
                      <a:pt x="92" y="161"/>
                    </a:lnTo>
                    <a:lnTo>
                      <a:pt x="166" y="95"/>
                    </a:lnTo>
                    <a:lnTo>
                      <a:pt x="255" y="34"/>
                    </a:lnTo>
                    <a:lnTo>
                      <a:pt x="348" y="0"/>
                    </a:lnTo>
                    <a:lnTo>
                      <a:pt x="430" y="13"/>
                    </a:lnTo>
                    <a:lnTo>
                      <a:pt x="439" y="55"/>
                    </a:lnTo>
                    <a:lnTo>
                      <a:pt x="371" y="104"/>
                    </a:lnTo>
                    <a:lnTo>
                      <a:pt x="278" y="160"/>
                    </a:lnTo>
                    <a:lnTo>
                      <a:pt x="207" y="220"/>
                    </a:lnTo>
                    <a:lnTo>
                      <a:pt x="99" y="492"/>
                    </a:lnTo>
                    <a:lnTo>
                      <a:pt x="42" y="500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3352320" y="5625000"/>
                <a:ext cx="77400" cy="93600"/>
              </a:xfrm>
              <a:custGeom>
                <a:avLst/>
                <a:gdLst/>
                <a:ahLst/>
                <a:rect l="l" t="t" r="r" b="b"/>
                <a:pathLst>
                  <a:path w="504" h="509">
                    <a:moveTo>
                      <a:pt x="0" y="467"/>
                    </a:moveTo>
                    <a:lnTo>
                      <a:pt x="35" y="306"/>
                    </a:lnTo>
                    <a:lnTo>
                      <a:pt x="73" y="228"/>
                    </a:lnTo>
                    <a:lnTo>
                      <a:pt x="124" y="161"/>
                    </a:lnTo>
                    <a:lnTo>
                      <a:pt x="207" y="95"/>
                    </a:lnTo>
                    <a:lnTo>
                      <a:pt x="306" y="32"/>
                    </a:lnTo>
                    <a:lnTo>
                      <a:pt x="409" y="0"/>
                    </a:lnTo>
                    <a:lnTo>
                      <a:pt x="496" y="21"/>
                    </a:lnTo>
                    <a:lnTo>
                      <a:pt x="504" y="70"/>
                    </a:lnTo>
                    <a:lnTo>
                      <a:pt x="428" y="118"/>
                    </a:lnTo>
                    <a:lnTo>
                      <a:pt x="322" y="171"/>
                    </a:lnTo>
                    <a:lnTo>
                      <a:pt x="240" y="228"/>
                    </a:lnTo>
                    <a:lnTo>
                      <a:pt x="169" y="374"/>
                    </a:lnTo>
                    <a:lnTo>
                      <a:pt x="137" y="448"/>
                    </a:lnTo>
                    <a:lnTo>
                      <a:pt x="92" y="509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179960" y="4648320"/>
              <a:ext cx="696240" cy="810360"/>
              <a:chOff x="4179960" y="4648320"/>
              <a:chExt cx="696240" cy="810360"/>
            </a:xfrm>
          </p:grpSpPr>
          <p:sp>
            <p:nvSpPr>
              <p:cNvPr id="600" name=""/>
              <p:cNvSpPr/>
              <p:nvPr/>
            </p:nvSpPr>
            <p:spPr>
              <a:xfrm>
                <a:off x="4196160" y="4734720"/>
                <a:ext cx="653760" cy="707760"/>
              </a:xfrm>
              <a:custGeom>
                <a:avLst/>
                <a:gdLst/>
                <a:ahLst/>
                <a:rect l="l" t="t" r="r" b="b"/>
                <a:pathLst>
                  <a:path w="4164" h="3761">
                    <a:moveTo>
                      <a:pt x="0" y="1840"/>
                    </a:moveTo>
                    <a:lnTo>
                      <a:pt x="731" y="1861"/>
                    </a:lnTo>
                    <a:lnTo>
                      <a:pt x="1837" y="2435"/>
                    </a:lnTo>
                    <a:lnTo>
                      <a:pt x="1575" y="2790"/>
                    </a:lnTo>
                    <a:lnTo>
                      <a:pt x="1243" y="3260"/>
                    </a:lnTo>
                    <a:lnTo>
                      <a:pt x="1389" y="3573"/>
                    </a:lnTo>
                    <a:lnTo>
                      <a:pt x="1889" y="3761"/>
                    </a:lnTo>
                    <a:lnTo>
                      <a:pt x="2619" y="3720"/>
                    </a:lnTo>
                    <a:lnTo>
                      <a:pt x="3016" y="3376"/>
                    </a:lnTo>
                    <a:lnTo>
                      <a:pt x="3392" y="1724"/>
                    </a:lnTo>
                    <a:lnTo>
                      <a:pt x="4164" y="429"/>
                    </a:lnTo>
                    <a:lnTo>
                      <a:pt x="4048" y="272"/>
                    </a:lnTo>
                    <a:lnTo>
                      <a:pt x="3434" y="62"/>
                    </a:lnTo>
                    <a:lnTo>
                      <a:pt x="2495" y="0"/>
                    </a:lnTo>
                    <a:lnTo>
                      <a:pt x="1377" y="209"/>
                    </a:lnTo>
                    <a:lnTo>
                      <a:pt x="543" y="846"/>
                    </a:lnTo>
                    <a:lnTo>
                      <a:pt x="157" y="1442"/>
                    </a:lnTo>
                    <a:lnTo>
                      <a:pt x="0" y="1840"/>
                    </a:lnTo>
                    <a:lnTo>
                      <a:pt x="0" y="1840"/>
                    </a:lnTo>
                    <a:close/>
                  </a:path>
                </a:pathLst>
              </a:custGeom>
              <a:solidFill>
                <a:srgbClr val="fbd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410720" y="4813200"/>
                <a:ext cx="293040" cy="151200"/>
              </a:xfrm>
              <a:custGeom>
                <a:avLst/>
                <a:gdLst/>
                <a:ahLst/>
                <a:rect l="l" t="t" r="r" b="b"/>
                <a:pathLst>
                  <a:path w="1866" h="804">
                    <a:moveTo>
                      <a:pt x="0" y="407"/>
                    </a:moveTo>
                    <a:lnTo>
                      <a:pt x="302" y="701"/>
                    </a:lnTo>
                    <a:lnTo>
                      <a:pt x="960" y="804"/>
                    </a:lnTo>
                    <a:lnTo>
                      <a:pt x="1617" y="637"/>
                    </a:lnTo>
                    <a:lnTo>
                      <a:pt x="1866" y="523"/>
                    </a:lnTo>
                    <a:lnTo>
                      <a:pt x="1648" y="220"/>
                    </a:lnTo>
                    <a:lnTo>
                      <a:pt x="1074" y="0"/>
                    </a:lnTo>
                    <a:lnTo>
                      <a:pt x="521" y="42"/>
                    </a:lnTo>
                    <a:lnTo>
                      <a:pt x="0" y="407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510800" y="4836960"/>
                <a:ext cx="93240" cy="108360"/>
              </a:xfrm>
              <a:custGeom>
                <a:avLst/>
                <a:gdLst/>
                <a:ahLst/>
                <a:rect l="l" t="t" r="r" b="b"/>
                <a:pathLst>
                  <a:path w="595" h="576">
                    <a:moveTo>
                      <a:pt x="407" y="0"/>
                    </a:moveTo>
                    <a:lnTo>
                      <a:pt x="167" y="0"/>
                    </a:lnTo>
                    <a:lnTo>
                      <a:pt x="0" y="242"/>
                    </a:lnTo>
                    <a:lnTo>
                      <a:pt x="104" y="491"/>
                    </a:lnTo>
                    <a:lnTo>
                      <a:pt x="397" y="576"/>
                    </a:lnTo>
                    <a:lnTo>
                      <a:pt x="595" y="314"/>
                    </a:lnTo>
                    <a:lnTo>
                      <a:pt x="407" y="0"/>
                    </a:lnTo>
                    <a:lnTo>
                      <a:pt x="407" y="0"/>
                    </a:lnTo>
                    <a:close/>
                  </a:path>
                </a:pathLst>
              </a:custGeom>
              <a:solidFill>
                <a:srgbClr val="99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395240" y="5328000"/>
                <a:ext cx="107640" cy="69840"/>
              </a:xfrm>
              <a:custGeom>
                <a:avLst/>
                <a:gdLst/>
                <a:ahLst/>
                <a:rect l="l" t="t" r="r" b="b"/>
                <a:pathLst>
                  <a:path w="686" h="373">
                    <a:moveTo>
                      <a:pt x="91" y="373"/>
                    </a:moveTo>
                    <a:lnTo>
                      <a:pt x="0" y="173"/>
                    </a:lnTo>
                    <a:lnTo>
                      <a:pt x="91" y="0"/>
                    </a:lnTo>
                    <a:lnTo>
                      <a:pt x="538" y="90"/>
                    </a:lnTo>
                    <a:lnTo>
                      <a:pt x="648" y="137"/>
                    </a:lnTo>
                    <a:lnTo>
                      <a:pt x="686" y="183"/>
                    </a:lnTo>
                    <a:lnTo>
                      <a:pt x="648" y="230"/>
                    </a:lnTo>
                    <a:lnTo>
                      <a:pt x="538" y="278"/>
                    </a:lnTo>
                    <a:lnTo>
                      <a:pt x="352" y="325"/>
                    </a:lnTo>
                    <a:lnTo>
                      <a:pt x="91" y="373"/>
                    </a:lnTo>
                    <a:lnTo>
                      <a:pt x="91" y="373"/>
                    </a:lnTo>
                    <a:close/>
                  </a:path>
                </a:pathLst>
              </a:custGeom>
              <a:solidFill>
                <a:srgbClr val="d42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179960" y="4998240"/>
                <a:ext cx="393480" cy="203760"/>
              </a:xfrm>
              <a:custGeom>
                <a:avLst/>
                <a:gdLst/>
                <a:ahLst/>
                <a:rect l="l" t="t" r="r" b="b"/>
                <a:pathLst>
                  <a:path w="2505" h="1083">
                    <a:moveTo>
                      <a:pt x="67" y="604"/>
                    </a:moveTo>
                    <a:lnTo>
                      <a:pt x="399" y="587"/>
                    </a:lnTo>
                    <a:lnTo>
                      <a:pt x="844" y="612"/>
                    </a:lnTo>
                    <a:lnTo>
                      <a:pt x="1087" y="713"/>
                    </a:lnTo>
                    <a:lnTo>
                      <a:pt x="1224" y="787"/>
                    </a:lnTo>
                    <a:lnTo>
                      <a:pt x="1361" y="866"/>
                    </a:lnTo>
                    <a:lnTo>
                      <a:pt x="1498" y="943"/>
                    </a:lnTo>
                    <a:lnTo>
                      <a:pt x="1627" y="1011"/>
                    </a:lnTo>
                    <a:lnTo>
                      <a:pt x="1743" y="1058"/>
                    </a:lnTo>
                    <a:lnTo>
                      <a:pt x="1844" y="1083"/>
                    </a:lnTo>
                    <a:lnTo>
                      <a:pt x="2100" y="1055"/>
                    </a:lnTo>
                    <a:lnTo>
                      <a:pt x="2311" y="918"/>
                    </a:lnTo>
                    <a:lnTo>
                      <a:pt x="2452" y="707"/>
                    </a:lnTo>
                    <a:lnTo>
                      <a:pt x="2505" y="454"/>
                    </a:lnTo>
                    <a:lnTo>
                      <a:pt x="2469" y="245"/>
                    </a:lnTo>
                    <a:lnTo>
                      <a:pt x="2425" y="161"/>
                    </a:lnTo>
                    <a:lnTo>
                      <a:pt x="2366" y="95"/>
                    </a:lnTo>
                    <a:lnTo>
                      <a:pt x="2294" y="42"/>
                    </a:lnTo>
                    <a:lnTo>
                      <a:pt x="2209" y="9"/>
                    </a:lnTo>
                    <a:lnTo>
                      <a:pt x="1999" y="0"/>
                    </a:lnTo>
                    <a:lnTo>
                      <a:pt x="1836" y="66"/>
                    </a:lnTo>
                    <a:lnTo>
                      <a:pt x="1718" y="203"/>
                    </a:lnTo>
                    <a:lnTo>
                      <a:pt x="1648" y="367"/>
                    </a:lnTo>
                    <a:lnTo>
                      <a:pt x="1629" y="513"/>
                    </a:lnTo>
                    <a:lnTo>
                      <a:pt x="1648" y="574"/>
                    </a:lnTo>
                    <a:lnTo>
                      <a:pt x="1688" y="616"/>
                    </a:lnTo>
                    <a:lnTo>
                      <a:pt x="1806" y="642"/>
                    </a:lnTo>
                    <a:lnTo>
                      <a:pt x="1923" y="595"/>
                    </a:lnTo>
                    <a:lnTo>
                      <a:pt x="1984" y="479"/>
                    </a:lnTo>
                    <a:lnTo>
                      <a:pt x="1969" y="370"/>
                    </a:lnTo>
                    <a:lnTo>
                      <a:pt x="1929" y="308"/>
                    </a:lnTo>
                    <a:lnTo>
                      <a:pt x="1876" y="222"/>
                    </a:lnTo>
                    <a:lnTo>
                      <a:pt x="1895" y="171"/>
                    </a:lnTo>
                    <a:lnTo>
                      <a:pt x="1937" y="133"/>
                    </a:lnTo>
                    <a:lnTo>
                      <a:pt x="2041" y="99"/>
                    </a:lnTo>
                    <a:lnTo>
                      <a:pt x="2157" y="129"/>
                    </a:lnTo>
                    <a:lnTo>
                      <a:pt x="2248" y="205"/>
                    </a:lnTo>
                    <a:lnTo>
                      <a:pt x="2332" y="429"/>
                    </a:lnTo>
                    <a:lnTo>
                      <a:pt x="2311" y="572"/>
                    </a:lnTo>
                    <a:lnTo>
                      <a:pt x="2254" y="709"/>
                    </a:lnTo>
                    <a:lnTo>
                      <a:pt x="2212" y="768"/>
                    </a:lnTo>
                    <a:lnTo>
                      <a:pt x="2167" y="819"/>
                    </a:lnTo>
                    <a:lnTo>
                      <a:pt x="2115" y="855"/>
                    </a:lnTo>
                    <a:lnTo>
                      <a:pt x="2058" y="876"/>
                    </a:lnTo>
                    <a:lnTo>
                      <a:pt x="1800" y="853"/>
                    </a:lnTo>
                    <a:lnTo>
                      <a:pt x="1678" y="798"/>
                    </a:lnTo>
                    <a:lnTo>
                      <a:pt x="1562" y="728"/>
                    </a:lnTo>
                    <a:lnTo>
                      <a:pt x="1450" y="650"/>
                    </a:lnTo>
                    <a:lnTo>
                      <a:pt x="1342" y="572"/>
                    </a:lnTo>
                    <a:lnTo>
                      <a:pt x="1239" y="503"/>
                    </a:lnTo>
                    <a:lnTo>
                      <a:pt x="1140" y="454"/>
                    </a:lnTo>
                    <a:lnTo>
                      <a:pt x="939" y="393"/>
                    </a:lnTo>
                    <a:lnTo>
                      <a:pt x="713" y="349"/>
                    </a:lnTo>
                    <a:lnTo>
                      <a:pt x="247" y="338"/>
                    </a:lnTo>
                    <a:lnTo>
                      <a:pt x="131" y="387"/>
                    </a:lnTo>
                    <a:lnTo>
                      <a:pt x="0" y="551"/>
                    </a:lnTo>
                    <a:lnTo>
                      <a:pt x="67" y="604"/>
                    </a:lnTo>
                    <a:lnTo>
                      <a:pt x="67" y="6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179960" y="4725000"/>
                <a:ext cx="681480" cy="733680"/>
              </a:xfrm>
              <a:custGeom>
                <a:avLst/>
                <a:gdLst/>
                <a:ahLst/>
                <a:rect l="l" t="t" r="r" b="b"/>
                <a:pathLst>
                  <a:path w="4339" h="3901">
                    <a:moveTo>
                      <a:pt x="247" y="1892"/>
                    </a:moveTo>
                    <a:lnTo>
                      <a:pt x="321" y="1671"/>
                    </a:lnTo>
                    <a:lnTo>
                      <a:pt x="371" y="1550"/>
                    </a:lnTo>
                    <a:lnTo>
                      <a:pt x="428" y="1424"/>
                    </a:lnTo>
                    <a:lnTo>
                      <a:pt x="496" y="1295"/>
                    </a:lnTo>
                    <a:lnTo>
                      <a:pt x="578" y="1166"/>
                    </a:lnTo>
                    <a:lnTo>
                      <a:pt x="673" y="1035"/>
                    </a:lnTo>
                    <a:lnTo>
                      <a:pt x="785" y="907"/>
                    </a:lnTo>
                    <a:lnTo>
                      <a:pt x="914" y="784"/>
                    </a:lnTo>
                    <a:lnTo>
                      <a:pt x="1062" y="666"/>
                    </a:lnTo>
                    <a:lnTo>
                      <a:pt x="1144" y="609"/>
                    </a:lnTo>
                    <a:lnTo>
                      <a:pt x="1232" y="554"/>
                    </a:lnTo>
                    <a:lnTo>
                      <a:pt x="1325" y="502"/>
                    </a:lnTo>
                    <a:lnTo>
                      <a:pt x="1422" y="453"/>
                    </a:lnTo>
                    <a:lnTo>
                      <a:pt x="1526" y="407"/>
                    </a:lnTo>
                    <a:lnTo>
                      <a:pt x="1636" y="364"/>
                    </a:lnTo>
                    <a:lnTo>
                      <a:pt x="1752" y="324"/>
                    </a:lnTo>
                    <a:lnTo>
                      <a:pt x="1876" y="286"/>
                    </a:lnTo>
                    <a:lnTo>
                      <a:pt x="2144" y="223"/>
                    </a:lnTo>
                    <a:lnTo>
                      <a:pt x="2439" y="177"/>
                    </a:lnTo>
                    <a:lnTo>
                      <a:pt x="2866" y="153"/>
                    </a:lnTo>
                    <a:lnTo>
                      <a:pt x="3336" y="183"/>
                    </a:lnTo>
                    <a:lnTo>
                      <a:pt x="3792" y="284"/>
                    </a:lnTo>
                    <a:lnTo>
                      <a:pt x="3999" y="364"/>
                    </a:lnTo>
                    <a:lnTo>
                      <a:pt x="4183" y="468"/>
                    </a:lnTo>
                    <a:lnTo>
                      <a:pt x="4172" y="519"/>
                    </a:lnTo>
                    <a:lnTo>
                      <a:pt x="4103" y="633"/>
                    </a:lnTo>
                    <a:lnTo>
                      <a:pt x="4054" y="709"/>
                    </a:lnTo>
                    <a:lnTo>
                      <a:pt x="3997" y="795"/>
                    </a:lnTo>
                    <a:lnTo>
                      <a:pt x="3932" y="890"/>
                    </a:lnTo>
                    <a:lnTo>
                      <a:pt x="3864" y="991"/>
                    </a:lnTo>
                    <a:lnTo>
                      <a:pt x="3792" y="1097"/>
                    </a:lnTo>
                    <a:lnTo>
                      <a:pt x="3718" y="1206"/>
                    </a:lnTo>
                    <a:lnTo>
                      <a:pt x="3645" y="1318"/>
                    </a:lnTo>
                    <a:lnTo>
                      <a:pt x="3577" y="1426"/>
                    </a:lnTo>
                    <a:lnTo>
                      <a:pt x="3512" y="1534"/>
                    </a:lnTo>
                    <a:lnTo>
                      <a:pt x="3453" y="1637"/>
                    </a:lnTo>
                    <a:lnTo>
                      <a:pt x="3364" y="1825"/>
                    </a:lnTo>
                    <a:lnTo>
                      <a:pt x="3250" y="2186"/>
                    </a:lnTo>
                    <a:lnTo>
                      <a:pt x="3159" y="2572"/>
                    </a:lnTo>
                    <a:lnTo>
                      <a:pt x="3077" y="2964"/>
                    </a:lnTo>
                    <a:lnTo>
                      <a:pt x="2992" y="3340"/>
                    </a:lnTo>
                    <a:lnTo>
                      <a:pt x="2965" y="3405"/>
                    </a:lnTo>
                    <a:lnTo>
                      <a:pt x="2916" y="3485"/>
                    </a:lnTo>
                    <a:lnTo>
                      <a:pt x="2857" y="3559"/>
                    </a:lnTo>
                    <a:lnTo>
                      <a:pt x="2802" y="3604"/>
                    </a:lnTo>
                    <a:lnTo>
                      <a:pt x="2708" y="3652"/>
                    </a:lnTo>
                    <a:lnTo>
                      <a:pt x="2591" y="3696"/>
                    </a:lnTo>
                    <a:lnTo>
                      <a:pt x="2372" y="3738"/>
                    </a:lnTo>
                    <a:lnTo>
                      <a:pt x="1847" y="3690"/>
                    </a:lnTo>
                    <a:lnTo>
                      <a:pt x="1635" y="3604"/>
                    </a:lnTo>
                    <a:lnTo>
                      <a:pt x="1521" y="3439"/>
                    </a:lnTo>
                    <a:lnTo>
                      <a:pt x="1524" y="3253"/>
                    </a:lnTo>
                    <a:lnTo>
                      <a:pt x="1559" y="3158"/>
                    </a:lnTo>
                    <a:lnTo>
                      <a:pt x="1608" y="3063"/>
                    </a:lnTo>
                    <a:lnTo>
                      <a:pt x="1674" y="2970"/>
                    </a:lnTo>
                    <a:lnTo>
                      <a:pt x="1749" y="2880"/>
                    </a:lnTo>
                    <a:lnTo>
                      <a:pt x="1834" y="2797"/>
                    </a:lnTo>
                    <a:lnTo>
                      <a:pt x="1925" y="2719"/>
                    </a:lnTo>
                    <a:lnTo>
                      <a:pt x="2032" y="2631"/>
                    </a:lnTo>
                    <a:lnTo>
                      <a:pt x="2155" y="2521"/>
                    </a:lnTo>
                    <a:lnTo>
                      <a:pt x="2285" y="2390"/>
                    </a:lnTo>
                    <a:lnTo>
                      <a:pt x="2406" y="2238"/>
                    </a:lnTo>
                    <a:lnTo>
                      <a:pt x="1827" y="2479"/>
                    </a:lnTo>
                    <a:lnTo>
                      <a:pt x="1800" y="2595"/>
                    </a:lnTo>
                    <a:lnTo>
                      <a:pt x="1739" y="2715"/>
                    </a:lnTo>
                    <a:lnTo>
                      <a:pt x="1654" y="2838"/>
                    </a:lnTo>
                    <a:lnTo>
                      <a:pt x="1555" y="2960"/>
                    </a:lnTo>
                    <a:lnTo>
                      <a:pt x="1458" y="3082"/>
                    </a:lnTo>
                    <a:lnTo>
                      <a:pt x="1372" y="3203"/>
                    </a:lnTo>
                    <a:lnTo>
                      <a:pt x="1291" y="3430"/>
                    </a:lnTo>
                    <a:lnTo>
                      <a:pt x="1304" y="3502"/>
                    </a:lnTo>
                    <a:lnTo>
                      <a:pt x="1340" y="3570"/>
                    </a:lnTo>
                    <a:lnTo>
                      <a:pt x="1393" y="3637"/>
                    </a:lnTo>
                    <a:lnTo>
                      <a:pt x="1460" y="3696"/>
                    </a:lnTo>
                    <a:lnTo>
                      <a:pt x="1536" y="3749"/>
                    </a:lnTo>
                    <a:lnTo>
                      <a:pt x="1610" y="3793"/>
                    </a:lnTo>
                    <a:lnTo>
                      <a:pt x="1743" y="3844"/>
                    </a:lnTo>
                    <a:lnTo>
                      <a:pt x="1971" y="3880"/>
                    </a:lnTo>
                    <a:lnTo>
                      <a:pt x="2218" y="3901"/>
                    </a:lnTo>
                    <a:lnTo>
                      <a:pt x="2686" y="3869"/>
                    </a:lnTo>
                    <a:lnTo>
                      <a:pt x="2864" y="3802"/>
                    </a:lnTo>
                    <a:lnTo>
                      <a:pt x="3028" y="3675"/>
                    </a:lnTo>
                    <a:lnTo>
                      <a:pt x="3166" y="3511"/>
                    </a:lnTo>
                    <a:lnTo>
                      <a:pt x="3265" y="3331"/>
                    </a:lnTo>
                    <a:lnTo>
                      <a:pt x="3374" y="2989"/>
                    </a:lnTo>
                    <a:lnTo>
                      <a:pt x="3453" y="2601"/>
                    </a:lnTo>
                    <a:lnTo>
                      <a:pt x="3526" y="2209"/>
                    </a:lnTo>
                    <a:lnTo>
                      <a:pt x="3567" y="2025"/>
                    </a:lnTo>
                    <a:lnTo>
                      <a:pt x="3611" y="1858"/>
                    </a:lnTo>
                    <a:lnTo>
                      <a:pt x="3676" y="1690"/>
                    </a:lnTo>
                    <a:lnTo>
                      <a:pt x="3759" y="1523"/>
                    </a:lnTo>
                    <a:lnTo>
                      <a:pt x="3858" y="1354"/>
                    </a:lnTo>
                    <a:lnTo>
                      <a:pt x="3963" y="1187"/>
                    </a:lnTo>
                    <a:lnTo>
                      <a:pt x="4016" y="1101"/>
                    </a:lnTo>
                    <a:lnTo>
                      <a:pt x="4071" y="1017"/>
                    </a:lnTo>
                    <a:lnTo>
                      <a:pt x="4172" y="848"/>
                    </a:lnTo>
                    <a:lnTo>
                      <a:pt x="4263" y="679"/>
                    </a:lnTo>
                    <a:lnTo>
                      <a:pt x="4339" y="510"/>
                    </a:lnTo>
                    <a:lnTo>
                      <a:pt x="4316" y="381"/>
                    </a:lnTo>
                    <a:lnTo>
                      <a:pt x="4273" y="261"/>
                    </a:lnTo>
                    <a:lnTo>
                      <a:pt x="4153" y="219"/>
                    </a:lnTo>
                    <a:lnTo>
                      <a:pt x="4033" y="183"/>
                    </a:lnTo>
                    <a:lnTo>
                      <a:pt x="3792" y="118"/>
                    </a:lnTo>
                    <a:lnTo>
                      <a:pt x="3547" y="69"/>
                    </a:lnTo>
                    <a:lnTo>
                      <a:pt x="3301" y="35"/>
                    </a:lnTo>
                    <a:lnTo>
                      <a:pt x="2813" y="0"/>
                    </a:lnTo>
                    <a:lnTo>
                      <a:pt x="2332" y="12"/>
                    </a:lnTo>
                    <a:lnTo>
                      <a:pt x="1865" y="86"/>
                    </a:lnTo>
                    <a:lnTo>
                      <a:pt x="1644" y="153"/>
                    </a:lnTo>
                    <a:lnTo>
                      <a:pt x="1431" y="236"/>
                    </a:lnTo>
                    <a:lnTo>
                      <a:pt x="1329" y="284"/>
                    </a:lnTo>
                    <a:lnTo>
                      <a:pt x="1228" y="335"/>
                    </a:lnTo>
                    <a:lnTo>
                      <a:pt x="1131" y="390"/>
                    </a:lnTo>
                    <a:lnTo>
                      <a:pt x="1036" y="447"/>
                    </a:lnTo>
                    <a:lnTo>
                      <a:pt x="945" y="510"/>
                    </a:lnTo>
                    <a:lnTo>
                      <a:pt x="857" y="575"/>
                    </a:lnTo>
                    <a:lnTo>
                      <a:pt x="692" y="711"/>
                    </a:lnTo>
                    <a:lnTo>
                      <a:pt x="540" y="858"/>
                    </a:lnTo>
                    <a:lnTo>
                      <a:pt x="405" y="1012"/>
                    </a:lnTo>
                    <a:lnTo>
                      <a:pt x="344" y="1092"/>
                    </a:lnTo>
                    <a:lnTo>
                      <a:pt x="287" y="1171"/>
                    </a:lnTo>
                    <a:lnTo>
                      <a:pt x="188" y="1337"/>
                    </a:lnTo>
                    <a:lnTo>
                      <a:pt x="49" y="1673"/>
                    </a:lnTo>
                    <a:lnTo>
                      <a:pt x="0" y="2008"/>
                    </a:lnTo>
                    <a:lnTo>
                      <a:pt x="247" y="1892"/>
                    </a:lnTo>
                    <a:lnTo>
                      <a:pt x="247" y="18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392720" y="4798080"/>
                <a:ext cx="344880" cy="180720"/>
              </a:xfrm>
              <a:custGeom>
                <a:avLst/>
                <a:gdLst/>
                <a:ahLst/>
                <a:rect l="l" t="t" r="r" b="b"/>
                <a:pathLst>
                  <a:path w="2199" h="962">
                    <a:moveTo>
                      <a:pt x="1844" y="692"/>
                    </a:moveTo>
                    <a:lnTo>
                      <a:pt x="1749" y="742"/>
                    </a:lnTo>
                    <a:lnTo>
                      <a:pt x="1648" y="791"/>
                    </a:lnTo>
                    <a:lnTo>
                      <a:pt x="1540" y="837"/>
                    </a:lnTo>
                    <a:lnTo>
                      <a:pt x="1426" y="877"/>
                    </a:lnTo>
                    <a:lnTo>
                      <a:pt x="1184" y="937"/>
                    </a:lnTo>
                    <a:lnTo>
                      <a:pt x="935" y="962"/>
                    </a:lnTo>
                    <a:lnTo>
                      <a:pt x="682" y="941"/>
                    </a:lnTo>
                    <a:lnTo>
                      <a:pt x="437" y="859"/>
                    </a:lnTo>
                    <a:lnTo>
                      <a:pt x="319" y="793"/>
                    </a:lnTo>
                    <a:lnTo>
                      <a:pt x="207" y="709"/>
                    </a:lnTo>
                    <a:lnTo>
                      <a:pt x="101" y="603"/>
                    </a:lnTo>
                    <a:lnTo>
                      <a:pt x="0" y="477"/>
                    </a:lnTo>
                    <a:lnTo>
                      <a:pt x="53" y="411"/>
                    </a:lnTo>
                    <a:lnTo>
                      <a:pt x="108" y="350"/>
                    </a:lnTo>
                    <a:lnTo>
                      <a:pt x="224" y="244"/>
                    </a:lnTo>
                    <a:lnTo>
                      <a:pt x="285" y="198"/>
                    </a:lnTo>
                    <a:lnTo>
                      <a:pt x="350" y="158"/>
                    </a:lnTo>
                    <a:lnTo>
                      <a:pt x="481" y="91"/>
                    </a:lnTo>
                    <a:lnTo>
                      <a:pt x="620" y="44"/>
                    </a:lnTo>
                    <a:lnTo>
                      <a:pt x="762" y="14"/>
                    </a:lnTo>
                    <a:lnTo>
                      <a:pt x="1057" y="0"/>
                    </a:lnTo>
                    <a:lnTo>
                      <a:pt x="1357" y="42"/>
                    </a:lnTo>
                    <a:lnTo>
                      <a:pt x="1654" y="135"/>
                    </a:lnTo>
                    <a:lnTo>
                      <a:pt x="1798" y="198"/>
                    </a:lnTo>
                    <a:lnTo>
                      <a:pt x="1937" y="268"/>
                    </a:lnTo>
                    <a:lnTo>
                      <a:pt x="2072" y="348"/>
                    </a:lnTo>
                    <a:lnTo>
                      <a:pt x="2199" y="436"/>
                    </a:lnTo>
                    <a:lnTo>
                      <a:pt x="2093" y="538"/>
                    </a:lnTo>
                    <a:lnTo>
                      <a:pt x="1992" y="633"/>
                    </a:lnTo>
                    <a:lnTo>
                      <a:pt x="1901" y="559"/>
                    </a:lnTo>
                    <a:lnTo>
                      <a:pt x="1804" y="489"/>
                    </a:lnTo>
                    <a:lnTo>
                      <a:pt x="1701" y="422"/>
                    </a:lnTo>
                    <a:lnTo>
                      <a:pt x="1593" y="360"/>
                    </a:lnTo>
                    <a:lnTo>
                      <a:pt x="1483" y="302"/>
                    </a:lnTo>
                    <a:lnTo>
                      <a:pt x="1371" y="255"/>
                    </a:lnTo>
                    <a:lnTo>
                      <a:pt x="1255" y="215"/>
                    </a:lnTo>
                    <a:lnTo>
                      <a:pt x="1139" y="187"/>
                    </a:lnTo>
                    <a:lnTo>
                      <a:pt x="905" y="166"/>
                    </a:lnTo>
                    <a:lnTo>
                      <a:pt x="677" y="200"/>
                    </a:lnTo>
                    <a:lnTo>
                      <a:pt x="462" y="304"/>
                    </a:lnTo>
                    <a:lnTo>
                      <a:pt x="264" y="485"/>
                    </a:lnTo>
                    <a:lnTo>
                      <a:pt x="318" y="563"/>
                    </a:lnTo>
                    <a:lnTo>
                      <a:pt x="384" y="628"/>
                    </a:lnTo>
                    <a:lnTo>
                      <a:pt x="464" y="677"/>
                    </a:lnTo>
                    <a:lnTo>
                      <a:pt x="555" y="717"/>
                    </a:lnTo>
                    <a:lnTo>
                      <a:pt x="760" y="764"/>
                    </a:lnTo>
                    <a:lnTo>
                      <a:pt x="990" y="778"/>
                    </a:lnTo>
                    <a:lnTo>
                      <a:pt x="1456" y="743"/>
                    </a:lnTo>
                    <a:lnTo>
                      <a:pt x="1844" y="692"/>
                    </a:lnTo>
                    <a:lnTo>
                      <a:pt x="1844" y="6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543200" y="4868640"/>
                <a:ext cx="28440" cy="34200"/>
              </a:xfrm>
              <a:custGeom>
                <a:avLst/>
                <a:gdLst/>
                <a:ahLst/>
                <a:rect l="l" t="t" r="r" b="b"/>
                <a:pathLst>
                  <a:path w="181" h="182">
                    <a:moveTo>
                      <a:pt x="91" y="0"/>
                    </a:moveTo>
                    <a:lnTo>
                      <a:pt x="154" y="28"/>
                    </a:lnTo>
                    <a:lnTo>
                      <a:pt x="181" y="91"/>
                    </a:lnTo>
                    <a:lnTo>
                      <a:pt x="154" y="155"/>
                    </a:lnTo>
                    <a:lnTo>
                      <a:pt x="91" y="182"/>
                    </a:lnTo>
                    <a:lnTo>
                      <a:pt x="27" y="155"/>
                    </a:lnTo>
                    <a:lnTo>
                      <a:pt x="0" y="91"/>
                    </a:lnTo>
                    <a:lnTo>
                      <a:pt x="27" y="28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537800" y="4818960"/>
                <a:ext cx="75240" cy="133560"/>
              </a:xfrm>
              <a:custGeom>
                <a:avLst/>
                <a:gdLst/>
                <a:ahLst/>
                <a:rect l="l" t="t" r="r" b="b"/>
                <a:pathLst>
                  <a:path w="479" h="711">
                    <a:moveTo>
                      <a:pt x="125" y="711"/>
                    </a:moveTo>
                    <a:lnTo>
                      <a:pt x="0" y="630"/>
                    </a:lnTo>
                    <a:lnTo>
                      <a:pt x="125" y="555"/>
                    </a:lnTo>
                    <a:lnTo>
                      <a:pt x="268" y="495"/>
                    </a:lnTo>
                    <a:lnTo>
                      <a:pt x="330" y="348"/>
                    </a:lnTo>
                    <a:lnTo>
                      <a:pt x="313" y="268"/>
                    </a:lnTo>
                    <a:lnTo>
                      <a:pt x="268" y="200"/>
                    </a:lnTo>
                    <a:lnTo>
                      <a:pt x="201" y="151"/>
                    </a:lnTo>
                    <a:lnTo>
                      <a:pt x="125" y="133"/>
                    </a:lnTo>
                    <a:lnTo>
                      <a:pt x="0" y="75"/>
                    </a:lnTo>
                    <a:lnTo>
                      <a:pt x="125" y="0"/>
                    </a:lnTo>
                    <a:lnTo>
                      <a:pt x="264" y="29"/>
                    </a:lnTo>
                    <a:lnTo>
                      <a:pt x="376" y="103"/>
                    </a:lnTo>
                    <a:lnTo>
                      <a:pt x="452" y="217"/>
                    </a:lnTo>
                    <a:lnTo>
                      <a:pt x="479" y="356"/>
                    </a:lnTo>
                    <a:lnTo>
                      <a:pt x="452" y="495"/>
                    </a:lnTo>
                    <a:lnTo>
                      <a:pt x="420" y="557"/>
                    </a:lnTo>
                    <a:lnTo>
                      <a:pt x="376" y="609"/>
                    </a:lnTo>
                    <a:lnTo>
                      <a:pt x="323" y="652"/>
                    </a:lnTo>
                    <a:lnTo>
                      <a:pt x="264" y="685"/>
                    </a:lnTo>
                    <a:lnTo>
                      <a:pt x="125" y="711"/>
                    </a:lnTo>
                    <a:lnTo>
                      <a:pt x="125" y="7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501440" y="4818960"/>
                <a:ext cx="75600" cy="133560"/>
              </a:xfrm>
              <a:custGeom>
                <a:avLst/>
                <a:gdLst/>
                <a:ahLst/>
                <a:rect l="l" t="t" r="r" b="b"/>
                <a:pathLst>
                  <a:path w="481" h="711">
                    <a:moveTo>
                      <a:pt x="357" y="711"/>
                    </a:moveTo>
                    <a:lnTo>
                      <a:pt x="481" y="630"/>
                    </a:lnTo>
                    <a:lnTo>
                      <a:pt x="357" y="555"/>
                    </a:lnTo>
                    <a:lnTo>
                      <a:pt x="217" y="495"/>
                    </a:lnTo>
                    <a:lnTo>
                      <a:pt x="158" y="348"/>
                    </a:lnTo>
                    <a:lnTo>
                      <a:pt x="175" y="268"/>
                    </a:lnTo>
                    <a:lnTo>
                      <a:pt x="217" y="200"/>
                    </a:lnTo>
                    <a:lnTo>
                      <a:pt x="279" y="151"/>
                    </a:lnTo>
                    <a:lnTo>
                      <a:pt x="357" y="133"/>
                    </a:lnTo>
                    <a:lnTo>
                      <a:pt x="481" y="75"/>
                    </a:lnTo>
                    <a:lnTo>
                      <a:pt x="357" y="0"/>
                    </a:lnTo>
                    <a:lnTo>
                      <a:pt x="217" y="29"/>
                    </a:lnTo>
                    <a:lnTo>
                      <a:pt x="104" y="103"/>
                    </a:lnTo>
                    <a:lnTo>
                      <a:pt x="28" y="217"/>
                    </a:lnTo>
                    <a:lnTo>
                      <a:pt x="0" y="356"/>
                    </a:lnTo>
                    <a:lnTo>
                      <a:pt x="28" y="495"/>
                    </a:lnTo>
                    <a:lnTo>
                      <a:pt x="61" y="557"/>
                    </a:lnTo>
                    <a:lnTo>
                      <a:pt x="104" y="609"/>
                    </a:lnTo>
                    <a:lnTo>
                      <a:pt x="158" y="652"/>
                    </a:lnTo>
                    <a:lnTo>
                      <a:pt x="217" y="685"/>
                    </a:lnTo>
                    <a:lnTo>
                      <a:pt x="357" y="711"/>
                    </a:lnTo>
                    <a:lnTo>
                      <a:pt x="357" y="7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648320" y="4801680"/>
                <a:ext cx="119160" cy="110520"/>
              </a:xfrm>
              <a:custGeom>
                <a:avLst/>
                <a:gdLst/>
                <a:ahLst/>
                <a:rect l="l" t="t" r="r" b="b"/>
                <a:pathLst>
                  <a:path w="760" h="588">
                    <a:moveTo>
                      <a:pt x="380" y="588"/>
                    </a:moveTo>
                    <a:lnTo>
                      <a:pt x="760" y="264"/>
                    </a:lnTo>
                    <a:lnTo>
                      <a:pt x="447" y="316"/>
                    </a:lnTo>
                    <a:lnTo>
                      <a:pt x="528" y="91"/>
                    </a:lnTo>
                    <a:lnTo>
                      <a:pt x="239" y="215"/>
                    </a:lnTo>
                    <a:lnTo>
                      <a:pt x="274" y="0"/>
                    </a:lnTo>
                    <a:lnTo>
                      <a:pt x="0" y="158"/>
                    </a:lnTo>
                    <a:lnTo>
                      <a:pt x="380" y="588"/>
                    </a:lnTo>
                    <a:lnTo>
                      <a:pt x="380" y="5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579560" y="4650840"/>
                <a:ext cx="42120" cy="90720"/>
              </a:xfrm>
              <a:custGeom>
                <a:avLst/>
                <a:gdLst/>
                <a:ahLst/>
                <a:rect l="l" t="t" r="r" b="b"/>
                <a:pathLst>
                  <a:path w="270" h="485">
                    <a:moveTo>
                      <a:pt x="23" y="464"/>
                    </a:moveTo>
                    <a:lnTo>
                      <a:pt x="0" y="317"/>
                    </a:lnTo>
                    <a:lnTo>
                      <a:pt x="32" y="173"/>
                    </a:lnTo>
                    <a:lnTo>
                      <a:pt x="72" y="108"/>
                    </a:lnTo>
                    <a:lnTo>
                      <a:pt x="125" y="49"/>
                    </a:lnTo>
                    <a:lnTo>
                      <a:pt x="188" y="8"/>
                    </a:lnTo>
                    <a:lnTo>
                      <a:pt x="255" y="0"/>
                    </a:lnTo>
                    <a:lnTo>
                      <a:pt x="270" y="25"/>
                    </a:lnTo>
                    <a:lnTo>
                      <a:pt x="237" y="78"/>
                    </a:lnTo>
                    <a:lnTo>
                      <a:pt x="156" y="198"/>
                    </a:lnTo>
                    <a:lnTo>
                      <a:pt x="148" y="454"/>
                    </a:lnTo>
                    <a:lnTo>
                      <a:pt x="85" y="485"/>
                    </a:lnTo>
                    <a:lnTo>
                      <a:pt x="23" y="464"/>
                    </a:lnTo>
                    <a:lnTo>
                      <a:pt x="23" y="4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637160" y="4650840"/>
                <a:ext cx="49680" cy="8712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13" y="454"/>
                    </a:moveTo>
                    <a:lnTo>
                      <a:pt x="0" y="306"/>
                    </a:lnTo>
                    <a:lnTo>
                      <a:pt x="45" y="165"/>
                    </a:lnTo>
                    <a:lnTo>
                      <a:pt x="97" y="99"/>
                    </a:lnTo>
                    <a:lnTo>
                      <a:pt x="161" y="40"/>
                    </a:lnTo>
                    <a:lnTo>
                      <a:pt x="235" y="0"/>
                    </a:lnTo>
                    <a:lnTo>
                      <a:pt x="309" y="0"/>
                    </a:lnTo>
                    <a:lnTo>
                      <a:pt x="319" y="27"/>
                    </a:lnTo>
                    <a:lnTo>
                      <a:pt x="273" y="78"/>
                    </a:lnTo>
                    <a:lnTo>
                      <a:pt x="169" y="198"/>
                    </a:lnTo>
                    <a:lnTo>
                      <a:pt x="127" y="464"/>
                    </a:lnTo>
                    <a:lnTo>
                      <a:pt x="13" y="454"/>
                    </a:lnTo>
                    <a:lnTo>
                      <a:pt x="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693680" y="4648320"/>
                <a:ext cx="59400" cy="89640"/>
              </a:xfrm>
              <a:custGeom>
                <a:avLst/>
                <a:gdLst/>
                <a:ahLst/>
                <a:rect l="l" t="t" r="r" b="b"/>
                <a:pathLst>
                  <a:path w="378" h="477">
                    <a:moveTo>
                      <a:pt x="0" y="460"/>
                    </a:moveTo>
                    <a:lnTo>
                      <a:pt x="7" y="308"/>
                    </a:lnTo>
                    <a:lnTo>
                      <a:pt x="66" y="161"/>
                    </a:lnTo>
                    <a:lnTo>
                      <a:pt x="127" y="97"/>
                    </a:lnTo>
                    <a:lnTo>
                      <a:pt x="205" y="36"/>
                    </a:lnTo>
                    <a:lnTo>
                      <a:pt x="289" y="0"/>
                    </a:lnTo>
                    <a:lnTo>
                      <a:pt x="365" y="5"/>
                    </a:lnTo>
                    <a:lnTo>
                      <a:pt x="378" y="43"/>
                    </a:lnTo>
                    <a:lnTo>
                      <a:pt x="323" y="95"/>
                    </a:lnTo>
                    <a:lnTo>
                      <a:pt x="190" y="211"/>
                    </a:lnTo>
                    <a:lnTo>
                      <a:pt x="108" y="477"/>
                    </a:lnTo>
                    <a:lnTo>
                      <a:pt x="0" y="460"/>
                    </a:lnTo>
                    <a:lnTo>
                      <a:pt x="0" y="4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749480" y="4662000"/>
                <a:ext cx="68760" cy="93960"/>
              </a:xfrm>
              <a:custGeom>
                <a:avLst/>
                <a:gdLst/>
                <a:ahLst/>
                <a:rect l="l" t="t" r="r" b="b"/>
                <a:pathLst>
                  <a:path w="439" h="500">
                    <a:moveTo>
                      <a:pt x="0" y="467"/>
                    </a:moveTo>
                    <a:lnTo>
                      <a:pt x="16" y="306"/>
                    </a:lnTo>
                    <a:lnTo>
                      <a:pt x="44" y="228"/>
                    </a:lnTo>
                    <a:lnTo>
                      <a:pt x="92" y="161"/>
                    </a:lnTo>
                    <a:lnTo>
                      <a:pt x="166" y="95"/>
                    </a:lnTo>
                    <a:lnTo>
                      <a:pt x="255" y="34"/>
                    </a:lnTo>
                    <a:lnTo>
                      <a:pt x="348" y="0"/>
                    </a:lnTo>
                    <a:lnTo>
                      <a:pt x="430" y="13"/>
                    </a:lnTo>
                    <a:lnTo>
                      <a:pt x="439" y="55"/>
                    </a:lnTo>
                    <a:lnTo>
                      <a:pt x="371" y="104"/>
                    </a:lnTo>
                    <a:lnTo>
                      <a:pt x="278" y="160"/>
                    </a:lnTo>
                    <a:lnTo>
                      <a:pt x="207" y="220"/>
                    </a:lnTo>
                    <a:lnTo>
                      <a:pt x="99" y="492"/>
                    </a:lnTo>
                    <a:lnTo>
                      <a:pt x="42" y="500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797360" y="4683960"/>
                <a:ext cx="78840" cy="95760"/>
              </a:xfrm>
              <a:custGeom>
                <a:avLst/>
                <a:gdLst/>
                <a:ahLst/>
                <a:rect l="l" t="t" r="r" b="b"/>
                <a:pathLst>
                  <a:path w="504" h="509">
                    <a:moveTo>
                      <a:pt x="0" y="467"/>
                    </a:moveTo>
                    <a:lnTo>
                      <a:pt x="35" y="306"/>
                    </a:lnTo>
                    <a:lnTo>
                      <a:pt x="73" y="228"/>
                    </a:lnTo>
                    <a:lnTo>
                      <a:pt x="124" y="161"/>
                    </a:lnTo>
                    <a:lnTo>
                      <a:pt x="207" y="95"/>
                    </a:lnTo>
                    <a:lnTo>
                      <a:pt x="306" y="32"/>
                    </a:lnTo>
                    <a:lnTo>
                      <a:pt x="409" y="0"/>
                    </a:lnTo>
                    <a:lnTo>
                      <a:pt x="496" y="21"/>
                    </a:lnTo>
                    <a:lnTo>
                      <a:pt x="504" y="70"/>
                    </a:lnTo>
                    <a:lnTo>
                      <a:pt x="428" y="118"/>
                    </a:lnTo>
                    <a:lnTo>
                      <a:pt x="322" y="171"/>
                    </a:lnTo>
                    <a:lnTo>
                      <a:pt x="240" y="228"/>
                    </a:lnTo>
                    <a:lnTo>
                      <a:pt x="169" y="374"/>
                    </a:lnTo>
                    <a:lnTo>
                      <a:pt x="137" y="448"/>
                    </a:lnTo>
                    <a:lnTo>
                      <a:pt x="92" y="509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3352680" y="4648320"/>
              <a:ext cx="681120" cy="792720"/>
              <a:chOff x="3352680" y="4648320"/>
              <a:chExt cx="681120" cy="792720"/>
            </a:xfrm>
          </p:grpSpPr>
          <p:sp>
            <p:nvSpPr>
              <p:cNvPr id="617" name=""/>
              <p:cNvSpPr/>
              <p:nvPr/>
            </p:nvSpPr>
            <p:spPr>
              <a:xfrm flipH="1">
                <a:off x="3378600" y="4732920"/>
                <a:ext cx="639000" cy="692280"/>
              </a:xfrm>
              <a:custGeom>
                <a:avLst/>
                <a:gdLst/>
                <a:ahLst/>
                <a:rect l="l" t="t" r="r" b="b"/>
                <a:pathLst>
                  <a:path w="4164" h="3761">
                    <a:moveTo>
                      <a:pt x="0" y="1840"/>
                    </a:moveTo>
                    <a:lnTo>
                      <a:pt x="731" y="1861"/>
                    </a:lnTo>
                    <a:lnTo>
                      <a:pt x="1837" y="2435"/>
                    </a:lnTo>
                    <a:lnTo>
                      <a:pt x="1575" y="2790"/>
                    </a:lnTo>
                    <a:lnTo>
                      <a:pt x="1243" y="3260"/>
                    </a:lnTo>
                    <a:lnTo>
                      <a:pt x="1389" y="3573"/>
                    </a:lnTo>
                    <a:lnTo>
                      <a:pt x="1889" y="3761"/>
                    </a:lnTo>
                    <a:lnTo>
                      <a:pt x="2619" y="3720"/>
                    </a:lnTo>
                    <a:lnTo>
                      <a:pt x="3016" y="3376"/>
                    </a:lnTo>
                    <a:lnTo>
                      <a:pt x="3392" y="1724"/>
                    </a:lnTo>
                    <a:lnTo>
                      <a:pt x="4164" y="429"/>
                    </a:lnTo>
                    <a:lnTo>
                      <a:pt x="4048" y="272"/>
                    </a:lnTo>
                    <a:lnTo>
                      <a:pt x="3434" y="62"/>
                    </a:lnTo>
                    <a:lnTo>
                      <a:pt x="2495" y="0"/>
                    </a:lnTo>
                    <a:lnTo>
                      <a:pt x="1377" y="209"/>
                    </a:lnTo>
                    <a:lnTo>
                      <a:pt x="543" y="846"/>
                    </a:lnTo>
                    <a:lnTo>
                      <a:pt x="157" y="1442"/>
                    </a:lnTo>
                    <a:lnTo>
                      <a:pt x="0" y="1840"/>
                    </a:lnTo>
                    <a:lnTo>
                      <a:pt x="0" y="1840"/>
                    </a:lnTo>
                    <a:close/>
                  </a:path>
                </a:pathLst>
              </a:custGeom>
              <a:solidFill>
                <a:srgbClr val="fbd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3521520" y="4809600"/>
                <a:ext cx="286560" cy="147960"/>
              </a:xfrm>
              <a:custGeom>
                <a:avLst/>
                <a:gdLst/>
                <a:ahLst/>
                <a:rect l="l" t="t" r="r" b="b"/>
                <a:pathLst>
                  <a:path w="1866" h="804">
                    <a:moveTo>
                      <a:pt x="0" y="407"/>
                    </a:moveTo>
                    <a:lnTo>
                      <a:pt x="302" y="701"/>
                    </a:lnTo>
                    <a:lnTo>
                      <a:pt x="960" y="804"/>
                    </a:lnTo>
                    <a:lnTo>
                      <a:pt x="1617" y="637"/>
                    </a:lnTo>
                    <a:lnTo>
                      <a:pt x="1866" y="523"/>
                    </a:lnTo>
                    <a:lnTo>
                      <a:pt x="1648" y="220"/>
                    </a:lnTo>
                    <a:lnTo>
                      <a:pt x="1074" y="0"/>
                    </a:lnTo>
                    <a:lnTo>
                      <a:pt x="521" y="42"/>
                    </a:lnTo>
                    <a:lnTo>
                      <a:pt x="0" y="407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3619080" y="4833000"/>
                <a:ext cx="91080" cy="105840"/>
              </a:xfrm>
              <a:custGeom>
                <a:avLst/>
                <a:gdLst/>
                <a:ahLst/>
                <a:rect l="l" t="t" r="r" b="b"/>
                <a:pathLst>
                  <a:path w="595" h="576">
                    <a:moveTo>
                      <a:pt x="407" y="0"/>
                    </a:moveTo>
                    <a:lnTo>
                      <a:pt x="167" y="0"/>
                    </a:lnTo>
                    <a:lnTo>
                      <a:pt x="0" y="242"/>
                    </a:lnTo>
                    <a:lnTo>
                      <a:pt x="104" y="491"/>
                    </a:lnTo>
                    <a:lnTo>
                      <a:pt x="397" y="576"/>
                    </a:lnTo>
                    <a:lnTo>
                      <a:pt x="595" y="314"/>
                    </a:lnTo>
                    <a:lnTo>
                      <a:pt x="407" y="0"/>
                    </a:lnTo>
                    <a:lnTo>
                      <a:pt x="407" y="0"/>
                    </a:lnTo>
                    <a:close/>
                  </a:path>
                </a:pathLst>
              </a:custGeom>
              <a:solidFill>
                <a:srgbClr val="99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3718080" y="5313240"/>
                <a:ext cx="105120" cy="68400"/>
              </a:xfrm>
              <a:custGeom>
                <a:avLst/>
                <a:gdLst/>
                <a:ahLst/>
                <a:rect l="l" t="t" r="r" b="b"/>
                <a:pathLst>
                  <a:path w="686" h="373">
                    <a:moveTo>
                      <a:pt x="91" y="373"/>
                    </a:moveTo>
                    <a:lnTo>
                      <a:pt x="0" y="173"/>
                    </a:lnTo>
                    <a:lnTo>
                      <a:pt x="91" y="0"/>
                    </a:lnTo>
                    <a:lnTo>
                      <a:pt x="538" y="90"/>
                    </a:lnTo>
                    <a:lnTo>
                      <a:pt x="648" y="137"/>
                    </a:lnTo>
                    <a:lnTo>
                      <a:pt x="686" y="183"/>
                    </a:lnTo>
                    <a:lnTo>
                      <a:pt x="648" y="230"/>
                    </a:lnTo>
                    <a:lnTo>
                      <a:pt x="538" y="278"/>
                    </a:lnTo>
                    <a:lnTo>
                      <a:pt x="352" y="325"/>
                    </a:lnTo>
                    <a:lnTo>
                      <a:pt x="91" y="373"/>
                    </a:lnTo>
                    <a:lnTo>
                      <a:pt x="91" y="373"/>
                    </a:lnTo>
                    <a:close/>
                  </a:path>
                </a:pathLst>
              </a:custGeom>
              <a:solidFill>
                <a:srgbClr val="d42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3649320" y="4990680"/>
                <a:ext cx="384480" cy="199440"/>
              </a:xfrm>
              <a:custGeom>
                <a:avLst/>
                <a:gdLst/>
                <a:ahLst/>
                <a:rect l="l" t="t" r="r" b="b"/>
                <a:pathLst>
                  <a:path w="2505" h="1083">
                    <a:moveTo>
                      <a:pt x="67" y="604"/>
                    </a:moveTo>
                    <a:lnTo>
                      <a:pt x="399" y="587"/>
                    </a:lnTo>
                    <a:lnTo>
                      <a:pt x="844" y="612"/>
                    </a:lnTo>
                    <a:lnTo>
                      <a:pt x="1087" y="713"/>
                    </a:lnTo>
                    <a:lnTo>
                      <a:pt x="1224" y="787"/>
                    </a:lnTo>
                    <a:lnTo>
                      <a:pt x="1361" y="866"/>
                    </a:lnTo>
                    <a:lnTo>
                      <a:pt x="1498" y="943"/>
                    </a:lnTo>
                    <a:lnTo>
                      <a:pt x="1627" y="1011"/>
                    </a:lnTo>
                    <a:lnTo>
                      <a:pt x="1743" y="1058"/>
                    </a:lnTo>
                    <a:lnTo>
                      <a:pt x="1844" y="1083"/>
                    </a:lnTo>
                    <a:lnTo>
                      <a:pt x="2100" y="1055"/>
                    </a:lnTo>
                    <a:lnTo>
                      <a:pt x="2311" y="918"/>
                    </a:lnTo>
                    <a:lnTo>
                      <a:pt x="2452" y="707"/>
                    </a:lnTo>
                    <a:lnTo>
                      <a:pt x="2505" y="454"/>
                    </a:lnTo>
                    <a:lnTo>
                      <a:pt x="2469" y="245"/>
                    </a:lnTo>
                    <a:lnTo>
                      <a:pt x="2425" y="161"/>
                    </a:lnTo>
                    <a:lnTo>
                      <a:pt x="2366" y="95"/>
                    </a:lnTo>
                    <a:lnTo>
                      <a:pt x="2294" y="42"/>
                    </a:lnTo>
                    <a:lnTo>
                      <a:pt x="2209" y="9"/>
                    </a:lnTo>
                    <a:lnTo>
                      <a:pt x="1999" y="0"/>
                    </a:lnTo>
                    <a:lnTo>
                      <a:pt x="1836" y="66"/>
                    </a:lnTo>
                    <a:lnTo>
                      <a:pt x="1718" y="203"/>
                    </a:lnTo>
                    <a:lnTo>
                      <a:pt x="1648" y="367"/>
                    </a:lnTo>
                    <a:lnTo>
                      <a:pt x="1629" y="513"/>
                    </a:lnTo>
                    <a:lnTo>
                      <a:pt x="1648" y="574"/>
                    </a:lnTo>
                    <a:lnTo>
                      <a:pt x="1688" y="616"/>
                    </a:lnTo>
                    <a:lnTo>
                      <a:pt x="1806" y="642"/>
                    </a:lnTo>
                    <a:lnTo>
                      <a:pt x="1923" y="595"/>
                    </a:lnTo>
                    <a:lnTo>
                      <a:pt x="1984" y="479"/>
                    </a:lnTo>
                    <a:lnTo>
                      <a:pt x="1969" y="370"/>
                    </a:lnTo>
                    <a:lnTo>
                      <a:pt x="1929" y="308"/>
                    </a:lnTo>
                    <a:lnTo>
                      <a:pt x="1876" y="222"/>
                    </a:lnTo>
                    <a:lnTo>
                      <a:pt x="1895" y="171"/>
                    </a:lnTo>
                    <a:lnTo>
                      <a:pt x="1937" y="133"/>
                    </a:lnTo>
                    <a:lnTo>
                      <a:pt x="2041" y="99"/>
                    </a:lnTo>
                    <a:lnTo>
                      <a:pt x="2157" y="129"/>
                    </a:lnTo>
                    <a:lnTo>
                      <a:pt x="2248" y="205"/>
                    </a:lnTo>
                    <a:lnTo>
                      <a:pt x="2332" y="429"/>
                    </a:lnTo>
                    <a:lnTo>
                      <a:pt x="2311" y="572"/>
                    </a:lnTo>
                    <a:lnTo>
                      <a:pt x="2254" y="709"/>
                    </a:lnTo>
                    <a:lnTo>
                      <a:pt x="2212" y="768"/>
                    </a:lnTo>
                    <a:lnTo>
                      <a:pt x="2167" y="819"/>
                    </a:lnTo>
                    <a:lnTo>
                      <a:pt x="2115" y="855"/>
                    </a:lnTo>
                    <a:lnTo>
                      <a:pt x="2058" y="876"/>
                    </a:lnTo>
                    <a:lnTo>
                      <a:pt x="1800" y="853"/>
                    </a:lnTo>
                    <a:lnTo>
                      <a:pt x="1678" y="798"/>
                    </a:lnTo>
                    <a:lnTo>
                      <a:pt x="1562" y="728"/>
                    </a:lnTo>
                    <a:lnTo>
                      <a:pt x="1450" y="650"/>
                    </a:lnTo>
                    <a:lnTo>
                      <a:pt x="1342" y="572"/>
                    </a:lnTo>
                    <a:lnTo>
                      <a:pt x="1239" y="503"/>
                    </a:lnTo>
                    <a:lnTo>
                      <a:pt x="1140" y="454"/>
                    </a:lnTo>
                    <a:lnTo>
                      <a:pt x="939" y="393"/>
                    </a:lnTo>
                    <a:lnTo>
                      <a:pt x="713" y="349"/>
                    </a:lnTo>
                    <a:lnTo>
                      <a:pt x="247" y="338"/>
                    </a:lnTo>
                    <a:lnTo>
                      <a:pt x="131" y="387"/>
                    </a:lnTo>
                    <a:lnTo>
                      <a:pt x="0" y="551"/>
                    </a:lnTo>
                    <a:lnTo>
                      <a:pt x="67" y="604"/>
                    </a:lnTo>
                    <a:lnTo>
                      <a:pt x="67" y="6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3367080" y="4723200"/>
                <a:ext cx="666360" cy="717840"/>
              </a:xfrm>
              <a:custGeom>
                <a:avLst/>
                <a:gdLst/>
                <a:ahLst/>
                <a:rect l="l" t="t" r="r" b="b"/>
                <a:pathLst>
                  <a:path w="4339" h="3901">
                    <a:moveTo>
                      <a:pt x="247" y="1892"/>
                    </a:moveTo>
                    <a:lnTo>
                      <a:pt x="321" y="1671"/>
                    </a:lnTo>
                    <a:lnTo>
                      <a:pt x="371" y="1550"/>
                    </a:lnTo>
                    <a:lnTo>
                      <a:pt x="428" y="1424"/>
                    </a:lnTo>
                    <a:lnTo>
                      <a:pt x="496" y="1295"/>
                    </a:lnTo>
                    <a:lnTo>
                      <a:pt x="578" y="1166"/>
                    </a:lnTo>
                    <a:lnTo>
                      <a:pt x="673" y="1035"/>
                    </a:lnTo>
                    <a:lnTo>
                      <a:pt x="785" y="907"/>
                    </a:lnTo>
                    <a:lnTo>
                      <a:pt x="914" y="784"/>
                    </a:lnTo>
                    <a:lnTo>
                      <a:pt x="1062" y="666"/>
                    </a:lnTo>
                    <a:lnTo>
                      <a:pt x="1144" y="609"/>
                    </a:lnTo>
                    <a:lnTo>
                      <a:pt x="1232" y="554"/>
                    </a:lnTo>
                    <a:lnTo>
                      <a:pt x="1325" y="502"/>
                    </a:lnTo>
                    <a:lnTo>
                      <a:pt x="1422" y="453"/>
                    </a:lnTo>
                    <a:lnTo>
                      <a:pt x="1526" y="407"/>
                    </a:lnTo>
                    <a:lnTo>
                      <a:pt x="1636" y="364"/>
                    </a:lnTo>
                    <a:lnTo>
                      <a:pt x="1752" y="324"/>
                    </a:lnTo>
                    <a:lnTo>
                      <a:pt x="1876" y="286"/>
                    </a:lnTo>
                    <a:lnTo>
                      <a:pt x="2144" y="223"/>
                    </a:lnTo>
                    <a:lnTo>
                      <a:pt x="2439" y="177"/>
                    </a:lnTo>
                    <a:lnTo>
                      <a:pt x="2866" y="153"/>
                    </a:lnTo>
                    <a:lnTo>
                      <a:pt x="3336" y="183"/>
                    </a:lnTo>
                    <a:lnTo>
                      <a:pt x="3792" y="284"/>
                    </a:lnTo>
                    <a:lnTo>
                      <a:pt x="3999" y="364"/>
                    </a:lnTo>
                    <a:lnTo>
                      <a:pt x="4183" y="468"/>
                    </a:lnTo>
                    <a:lnTo>
                      <a:pt x="4172" y="519"/>
                    </a:lnTo>
                    <a:lnTo>
                      <a:pt x="4103" y="633"/>
                    </a:lnTo>
                    <a:lnTo>
                      <a:pt x="4054" y="709"/>
                    </a:lnTo>
                    <a:lnTo>
                      <a:pt x="3997" y="795"/>
                    </a:lnTo>
                    <a:lnTo>
                      <a:pt x="3932" y="890"/>
                    </a:lnTo>
                    <a:lnTo>
                      <a:pt x="3864" y="991"/>
                    </a:lnTo>
                    <a:lnTo>
                      <a:pt x="3792" y="1097"/>
                    </a:lnTo>
                    <a:lnTo>
                      <a:pt x="3718" y="1206"/>
                    </a:lnTo>
                    <a:lnTo>
                      <a:pt x="3645" y="1318"/>
                    </a:lnTo>
                    <a:lnTo>
                      <a:pt x="3577" y="1426"/>
                    </a:lnTo>
                    <a:lnTo>
                      <a:pt x="3512" y="1534"/>
                    </a:lnTo>
                    <a:lnTo>
                      <a:pt x="3453" y="1637"/>
                    </a:lnTo>
                    <a:lnTo>
                      <a:pt x="3364" y="1825"/>
                    </a:lnTo>
                    <a:lnTo>
                      <a:pt x="3250" y="2186"/>
                    </a:lnTo>
                    <a:lnTo>
                      <a:pt x="3159" y="2572"/>
                    </a:lnTo>
                    <a:lnTo>
                      <a:pt x="3077" y="2964"/>
                    </a:lnTo>
                    <a:lnTo>
                      <a:pt x="2992" y="3340"/>
                    </a:lnTo>
                    <a:lnTo>
                      <a:pt x="2965" y="3405"/>
                    </a:lnTo>
                    <a:lnTo>
                      <a:pt x="2916" y="3485"/>
                    </a:lnTo>
                    <a:lnTo>
                      <a:pt x="2857" y="3559"/>
                    </a:lnTo>
                    <a:lnTo>
                      <a:pt x="2802" y="3604"/>
                    </a:lnTo>
                    <a:lnTo>
                      <a:pt x="2708" y="3652"/>
                    </a:lnTo>
                    <a:lnTo>
                      <a:pt x="2591" y="3696"/>
                    </a:lnTo>
                    <a:lnTo>
                      <a:pt x="2372" y="3738"/>
                    </a:lnTo>
                    <a:lnTo>
                      <a:pt x="1847" y="3690"/>
                    </a:lnTo>
                    <a:lnTo>
                      <a:pt x="1635" y="3604"/>
                    </a:lnTo>
                    <a:lnTo>
                      <a:pt x="1521" y="3439"/>
                    </a:lnTo>
                    <a:lnTo>
                      <a:pt x="1524" y="3253"/>
                    </a:lnTo>
                    <a:lnTo>
                      <a:pt x="1559" y="3158"/>
                    </a:lnTo>
                    <a:lnTo>
                      <a:pt x="1608" y="3063"/>
                    </a:lnTo>
                    <a:lnTo>
                      <a:pt x="1674" y="2970"/>
                    </a:lnTo>
                    <a:lnTo>
                      <a:pt x="1749" y="2880"/>
                    </a:lnTo>
                    <a:lnTo>
                      <a:pt x="1834" y="2797"/>
                    </a:lnTo>
                    <a:lnTo>
                      <a:pt x="1925" y="2719"/>
                    </a:lnTo>
                    <a:lnTo>
                      <a:pt x="2032" y="2631"/>
                    </a:lnTo>
                    <a:lnTo>
                      <a:pt x="2155" y="2521"/>
                    </a:lnTo>
                    <a:lnTo>
                      <a:pt x="2285" y="2390"/>
                    </a:lnTo>
                    <a:lnTo>
                      <a:pt x="2406" y="2238"/>
                    </a:lnTo>
                    <a:lnTo>
                      <a:pt x="1827" y="2479"/>
                    </a:lnTo>
                    <a:lnTo>
                      <a:pt x="1800" y="2595"/>
                    </a:lnTo>
                    <a:lnTo>
                      <a:pt x="1739" y="2715"/>
                    </a:lnTo>
                    <a:lnTo>
                      <a:pt x="1654" y="2838"/>
                    </a:lnTo>
                    <a:lnTo>
                      <a:pt x="1555" y="2960"/>
                    </a:lnTo>
                    <a:lnTo>
                      <a:pt x="1458" y="3082"/>
                    </a:lnTo>
                    <a:lnTo>
                      <a:pt x="1372" y="3203"/>
                    </a:lnTo>
                    <a:lnTo>
                      <a:pt x="1291" y="3430"/>
                    </a:lnTo>
                    <a:lnTo>
                      <a:pt x="1304" y="3502"/>
                    </a:lnTo>
                    <a:lnTo>
                      <a:pt x="1340" y="3570"/>
                    </a:lnTo>
                    <a:lnTo>
                      <a:pt x="1393" y="3637"/>
                    </a:lnTo>
                    <a:lnTo>
                      <a:pt x="1460" y="3696"/>
                    </a:lnTo>
                    <a:lnTo>
                      <a:pt x="1536" y="3749"/>
                    </a:lnTo>
                    <a:lnTo>
                      <a:pt x="1610" y="3793"/>
                    </a:lnTo>
                    <a:lnTo>
                      <a:pt x="1743" y="3844"/>
                    </a:lnTo>
                    <a:lnTo>
                      <a:pt x="1971" y="3880"/>
                    </a:lnTo>
                    <a:lnTo>
                      <a:pt x="2218" y="3901"/>
                    </a:lnTo>
                    <a:lnTo>
                      <a:pt x="2686" y="3869"/>
                    </a:lnTo>
                    <a:lnTo>
                      <a:pt x="2864" y="3802"/>
                    </a:lnTo>
                    <a:lnTo>
                      <a:pt x="3028" y="3675"/>
                    </a:lnTo>
                    <a:lnTo>
                      <a:pt x="3166" y="3511"/>
                    </a:lnTo>
                    <a:lnTo>
                      <a:pt x="3265" y="3331"/>
                    </a:lnTo>
                    <a:lnTo>
                      <a:pt x="3374" y="2989"/>
                    </a:lnTo>
                    <a:lnTo>
                      <a:pt x="3453" y="2601"/>
                    </a:lnTo>
                    <a:lnTo>
                      <a:pt x="3526" y="2209"/>
                    </a:lnTo>
                    <a:lnTo>
                      <a:pt x="3567" y="2025"/>
                    </a:lnTo>
                    <a:lnTo>
                      <a:pt x="3611" y="1858"/>
                    </a:lnTo>
                    <a:lnTo>
                      <a:pt x="3676" y="1690"/>
                    </a:lnTo>
                    <a:lnTo>
                      <a:pt x="3759" y="1523"/>
                    </a:lnTo>
                    <a:lnTo>
                      <a:pt x="3858" y="1354"/>
                    </a:lnTo>
                    <a:lnTo>
                      <a:pt x="3963" y="1187"/>
                    </a:lnTo>
                    <a:lnTo>
                      <a:pt x="4016" y="1101"/>
                    </a:lnTo>
                    <a:lnTo>
                      <a:pt x="4071" y="1017"/>
                    </a:lnTo>
                    <a:lnTo>
                      <a:pt x="4172" y="848"/>
                    </a:lnTo>
                    <a:lnTo>
                      <a:pt x="4263" y="679"/>
                    </a:lnTo>
                    <a:lnTo>
                      <a:pt x="4339" y="510"/>
                    </a:lnTo>
                    <a:lnTo>
                      <a:pt x="4316" y="381"/>
                    </a:lnTo>
                    <a:lnTo>
                      <a:pt x="4273" y="261"/>
                    </a:lnTo>
                    <a:lnTo>
                      <a:pt x="4153" y="219"/>
                    </a:lnTo>
                    <a:lnTo>
                      <a:pt x="4033" y="183"/>
                    </a:lnTo>
                    <a:lnTo>
                      <a:pt x="3792" y="118"/>
                    </a:lnTo>
                    <a:lnTo>
                      <a:pt x="3547" y="69"/>
                    </a:lnTo>
                    <a:lnTo>
                      <a:pt x="3301" y="35"/>
                    </a:lnTo>
                    <a:lnTo>
                      <a:pt x="2813" y="0"/>
                    </a:lnTo>
                    <a:lnTo>
                      <a:pt x="2332" y="12"/>
                    </a:lnTo>
                    <a:lnTo>
                      <a:pt x="1865" y="86"/>
                    </a:lnTo>
                    <a:lnTo>
                      <a:pt x="1644" y="153"/>
                    </a:lnTo>
                    <a:lnTo>
                      <a:pt x="1431" y="236"/>
                    </a:lnTo>
                    <a:lnTo>
                      <a:pt x="1329" y="284"/>
                    </a:lnTo>
                    <a:lnTo>
                      <a:pt x="1228" y="335"/>
                    </a:lnTo>
                    <a:lnTo>
                      <a:pt x="1131" y="390"/>
                    </a:lnTo>
                    <a:lnTo>
                      <a:pt x="1036" y="447"/>
                    </a:lnTo>
                    <a:lnTo>
                      <a:pt x="945" y="510"/>
                    </a:lnTo>
                    <a:lnTo>
                      <a:pt x="857" y="575"/>
                    </a:lnTo>
                    <a:lnTo>
                      <a:pt x="692" y="711"/>
                    </a:lnTo>
                    <a:lnTo>
                      <a:pt x="540" y="858"/>
                    </a:lnTo>
                    <a:lnTo>
                      <a:pt x="405" y="1012"/>
                    </a:lnTo>
                    <a:lnTo>
                      <a:pt x="344" y="1092"/>
                    </a:lnTo>
                    <a:lnTo>
                      <a:pt x="287" y="1171"/>
                    </a:lnTo>
                    <a:lnTo>
                      <a:pt x="188" y="1337"/>
                    </a:lnTo>
                    <a:lnTo>
                      <a:pt x="49" y="1673"/>
                    </a:lnTo>
                    <a:lnTo>
                      <a:pt x="0" y="2008"/>
                    </a:lnTo>
                    <a:lnTo>
                      <a:pt x="247" y="1892"/>
                    </a:lnTo>
                    <a:lnTo>
                      <a:pt x="247" y="18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3488040" y="4794480"/>
                <a:ext cx="337320" cy="176760"/>
              </a:xfrm>
              <a:custGeom>
                <a:avLst/>
                <a:gdLst/>
                <a:ahLst/>
                <a:rect l="l" t="t" r="r" b="b"/>
                <a:pathLst>
                  <a:path w="2199" h="962">
                    <a:moveTo>
                      <a:pt x="1844" y="692"/>
                    </a:moveTo>
                    <a:lnTo>
                      <a:pt x="1749" y="742"/>
                    </a:lnTo>
                    <a:lnTo>
                      <a:pt x="1648" y="791"/>
                    </a:lnTo>
                    <a:lnTo>
                      <a:pt x="1540" y="837"/>
                    </a:lnTo>
                    <a:lnTo>
                      <a:pt x="1426" y="877"/>
                    </a:lnTo>
                    <a:lnTo>
                      <a:pt x="1184" y="937"/>
                    </a:lnTo>
                    <a:lnTo>
                      <a:pt x="935" y="962"/>
                    </a:lnTo>
                    <a:lnTo>
                      <a:pt x="682" y="941"/>
                    </a:lnTo>
                    <a:lnTo>
                      <a:pt x="437" y="859"/>
                    </a:lnTo>
                    <a:lnTo>
                      <a:pt x="319" y="793"/>
                    </a:lnTo>
                    <a:lnTo>
                      <a:pt x="207" y="709"/>
                    </a:lnTo>
                    <a:lnTo>
                      <a:pt x="101" y="603"/>
                    </a:lnTo>
                    <a:lnTo>
                      <a:pt x="0" y="477"/>
                    </a:lnTo>
                    <a:lnTo>
                      <a:pt x="53" y="411"/>
                    </a:lnTo>
                    <a:lnTo>
                      <a:pt x="108" y="350"/>
                    </a:lnTo>
                    <a:lnTo>
                      <a:pt x="224" y="244"/>
                    </a:lnTo>
                    <a:lnTo>
                      <a:pt x="285" y="198"/>
                    </a:lnTo>
                    <a:lnTo>
                      <a:pt x="350" y="158"/>
                    </a:lnTo>
                    <a:lnTo>
                      <a:pt x="481" y="91"/>
                    </a:lnTo>
                    <a:lnTo>
                      <a:pt x="620" y="44"/>
                    </a:lnTo>
                    <a:lnTo>
                      <a:pt x="762" y="14"/>
                    </a:lnTo>
                    <a:lnTo>
                      <a:pt x="1057" y="0"/>
                    </a:lnTo>
                    <a:lnTo>
                      <a:pt x="1357" y="42"/>
                    </a:lnTo>
                    <a:lnTo>
                      <a:pt x="1654" y="135"/>
                    </a:lnTo>
                    <a:lnTo>
                      <a:pt x="1798" y="198"/>
                    </a:lnTo>
                    <a:lnTo>
                      <a:pt x="1937" y="268"/>
                    </a:lnTo>
                    <a:lnTo>
                      <a:pt x="2072" y="348"/>
                    </a:lnTo>
                    <a:lnTo>
                      <a:pt x="2199" y="436"/>
                    </a:lnTo>
                    <a:lnTo>
                      <a:pt x="2093" y="538"/>
                    </a:lnTo>
                    <a:lnTo>
                      <a:pt x="1992" y="633"/>
                    </a:lnTo>
                    <a:lnTo>
                      <a:pt x="1901" y="559"/>
                    </a:lnTo>
                    <a:lnTo>
                      <a:pt x="1804" y="489"/>
                    </a:lnTo>
                    <a:lnTo>
                      <a:pt x="1701" y="422"/>
                    </a:lnTo>
                    <a:lnTo>
                      <a:pt x="1593" y="360"/>
                    </a:lnTo>
                    <a:lnTo>
                      <a:pt x="1483" y="302"/>
                    </a:lnTo>
                    <a:lnTo>
                      <a:pt x="1371" y="255"/>
                    </a:lnTo>
                    <a:lnTo>
                      <a:pt x="1255" y="215"/>
                    </a:lnTo>
                    <a:lnTo>
                      <a:pt x="1139" y="187"/>
                    </a:lnTo>
                    <a:lnTo>
                      <a:pt x="905" y="166"/>
                    </a:lnTo>
                    <a:lnTo>
                      <a:pt x="677" y="200"/>
                    </a:lnTo>
                    <a:lnTo>
                      <a:pt x="462" y="304"/>
                    </a:lnTo>
                    <a:lnTo>
                      <a:pt x="264" y="485"/>
                    </a:lnTo>
                    <a:lnTo>
                      <a:pt x="318" y="563"/>
                    </a:lnTo>
                    <a:lnTo>
                      <a:pt x="384" y="628"/>
                    </a:lnTo>
                    <a:lnTo>
                      <a:pt x="464" y="677"/>
                    </a:lnTo>
                    <a:lnTo>
                      <a:pt x="555" y="717"/>
                    </a:lnTo>
                    <a:lnTo>
                      <a:pt x="760" y="764"/>
                    </a:lnTo>
                    <a:lnTo>
                      <a:pt x="990" y="778"/>
                    </a:lnTo>
                    <a:lnTo>
                      <a:pt x="1456" y="743"/>
                    </a:lnTo>
                    <a:lnTo>
                      <a:pt x="1844" y="692"/>
                    </a:lnTo>
                    <a:lnTo>
                      <a:pt x="1844" y="6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3650760" y="4863960"/>
                <a:ext cx="27720" cy="33120"/>
              </a:xfrm>
              <a:custGeom>
                <a:avLst/>
                <a:gdLst/>
                <a:ahLst/>
                <a:rect l="l" t="t" r="r" b="b"/>
                <a:pathLst>
                  <a:path w="181" h="182">
                    <a:moveTo>
                      <a:pt x="91" y="0"/>
                    </a:moveTo>
                    <a:lnTo>
                      <a:pt x="154" y="28"/>
                    </a:lnTo>
                    <a:lnTo>
                      <a:pt x="181" y="91"/>
                    </a:lnTo>
                    <a:lnTo>
                      <a:pt x="154" y="155"/>
                    </a:lnTo>
                    <a:lnTo>
                      <a:pt x="91" y="182"/>
                    </a:lnTo>
                    <a:lnTo>
                      <a:pt x="27" y="155"/>
                    </a:lnTo>
                    <a:lnTo>
                      <a:pt x="0" y="91"/>
                    </a:lnTo>
                    <a:lnTo>
                      <a:pt x="27" y="28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3610440" y="4815360"/>
                <a:ext cx="73440" cy="130680"/>
              </a:xfrm>
              <a:custGeom>
                <a:avLst/>
                <a:gdLst/>
                <a:ahLst/>
                <a:rect l="l" t="t" r="r" b="b"/>
                <a:pathLst>
                  <a:path w="479" h="711">
                    <a:moveTo>
                      <a:pt x="125" y="711"/>
                    </a:moveTo>
                    <a:lnTo>
                      <a:pt x="0" y="630"/>
                    </a:lnTo>
                    <a:lnTo>
                      <a:pt x="125" y="555"/>
                    </a:lnTo>
                    <a:lnTo>
                      <a:pt x="268" y="495"/>
                    </a:lnTo>
                    <a:lnTo>
                      <a:pt x="330" y="348"/>
                    </a:lnTo>
                    <a:lnTo>
                      <a:pt x="313" y="268"/>
                    </a:lnTo>
                    <a:lnTo>
                      <a:pt x="268" y="200"/>
                    </a:lnTo>
                    <a:lnTo>
                      <a:pt x="201" y="151"/>
                    </a:lnTo>
                    <a:lnTo>
                      <a:pt x="125" y="133"/>
                    </a:lnTo>
                    <a:lnTo>
                      <a:pt x="0" y="75"/>
                    </a:lnTo>
                    <a:lnTo>
                      <a:pt x="125" y="0"/>
                    </a:lnTo>
                    <a:lnTo>
                      <a:pt x="264" y="29"/>
                    </a:lnTo>
                    <a:lnTo>
                      <a:pt x="376" y="103"/>
                    </a:lnTo>
                    <a:lnTo>
                      <a:pt x="452" y="217"/>
                    </a:lnTo>
                    <a:lnTo>
                      <a:pt x="479" y="356"/>
                    </a:lnTo>
                    <a:lnTo>
                      <a:pt x="452" y="495"/>
                    </a:lnTo>
                    <a:lnTo>
                      <a:pt x="420" y="557"/>
                    </a:lnTo>
                    <a:lnTo>
                      <a:pt x="376" y="609"/>
                    </a:lnTo>
                    <a:lnTo>
                      <a:pt x="323" y="652"/>
                    </a:lnTo>
                    <a:lnTo>
                      <a:pt x="264" y="685"/>
                    </a:lnTo>
                    <a:lnTo>
                      <a:pt x="125" y="711"/>
                    </a:lnTo>
                    <a:lnTo>
                      <a:pt x="125" y="7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3645360" y="4815360"/>
                <a:ext cx="73800" cy="130680"/>
              </a:xfrm>
              <a:custGeom>
                <a:avLst/>
                <a:gdLst/>
                <a:ahLst/>
                <a:rect l="l" t="t" r="r" b="b"/>
                <a:pathLst>
                  <a:path w="481" h="711">
                    <a:moveTo>
                      <a:pt x="357" y="711"/>
                    </a:moveTo>
                    <a:lnTo>
                      <a:pt x="481" y="630"/>
                    </a:lnTo>
                    <a:lnTo>
                      <a:pt x="357" y="555"/>
                    </a:lnTo>
                    <a:lnTo>
                      <a:pt x="217" y="495"/>
                    </a:lnTo>
                    <a:lnTo>
                      <a:pt x="158" y="348"/>
                    </a:lnTo>
                    <a:lnTo>
                      <a:pt x="175" y="268"/>
                    </a:lnTo>
                    <a:lnTo>
                      <a:pt x="217" y="200"/>
                    </a:lnTo>
                    <a:lnTo>
                      <a:pt x="279" y="151"/>
                    </a:lnTo>
                    <a:lnTo>
                      <a:pt x="357" y="133"/>
                    </a:lnTo>
                    <a:lnTo>
                      <a:pt x="481" y="75"/>
                    </a:lnTo>
                    <a:lnTo>
                      <a:pt x="357" y="0"/>
                    </a:lnTo>
                    <a:lnTo>
                      <a:pt x="217" y="29"/>
                    </a:lnTo>
                    <a:lnTo>
                      <a:pt x="104" y="103"/>
                    </a:lnTo>
                    <a:lnTo>
                      <a:pt x="28" y="217"/>
                    </a:lnTo>
                    <a:lnTo>
                      <a:pt x="0" y="356"/>
                    </a:lnTo>
                    <a:lnTo>
                      <a:pt x="28" y="495"/>
                    </a:lnTo>
                    <a:lnTo>
                      <a:pt x="61" y="557"/>
                    </a:lnTo>
                    <a:lnTo>
                      <a:pt x="104" y="609"/>
                    </a:lnTo>
                    <a:lnTo>
                      <a:pt x="158" y="652"/>
                    </a:lnTo>
                    <a:lnTo>
                      <a:pt x="217" y="685"/>
                    </a:lnTo>
                    <a:lnTo>
                      <a:pt x="357" y="711"/>
                    </a:lnTo>
                    <a:lnTo>
                      <a:pt x="357" y="7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3459240" y="4798440"/>
                <a:ext cx="116640" cy="108000"/>
              </a:xfrm>
              <a:custGeom>
                <a:avLst/>
                <a:gdLst/>
                <a:ahLst/>
                <a:rect l="l" t="t" r="r" b="b"/>
                <a:pathLst>
                  <a:path w="760" h="588">
                    <a:moveTo>
                      <a:pt x="380" y="588"/>
                    </a:moveTo>
                    <a:lnTo>
                      <a:pt x="760" y="264"/>
                    </a:lnTo>
                    <a:lnTo>
                      <a:pt x="447" y="316"/>
                    </a:lnTo>
                    <a:lnTo>
                      <a:pt x="528" y="91"/>
                    </a:lnTo>
                    <a:lnTo>
                      <a:pt x="239" y="215"/>
                    </a:lnTo>
                    <a:lnTo>
                      <a:pt x="274" y="0"/>
                    </a:lnTo>
                    <a:lnTo>
                      <a:pt x="0" y="158"/>
                    </a:lnTo>
                    <a:lnTo>
                      <a:pt x="380" y="588"/>
                    </a:lnTo>
                    <a:lnTo>
                      <a:pt x="380" y="5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3601440" y="4650840"/>
                <a:ext cx="41400" cy="88920"/>
              </a:xfrm>
              <a:custGeom>
                <a:avLst/>
                <a:gdLst/>
                <a:ahLst/>
                <a:rect l="l" t="t" r="r" b="b"/>
                <a:pathLst>
                  <a:path w="270" h="485">
                    <a:moveTo>
                      <a:pt x="23" y="464"/>
                    </a:moveTo>
                    <a:lnTo>
                      <a:pt x="0" y="317"/>
                    </a:lnTo>
                    <a:lnTo>
                      <a:pt x="32" y="173"/>
                    </a:lnTo>
                    <a:lnTo>
                      <a:pt x="72" y="108"/>
                    </a:lnTo>
                    <a:lnTo>
                      <a:pt x="125" y="49"/>
                    </a:lnTo>
                    <a:lnTo>
                      <a:pt x="188" y="8"/>
                    </a:lnTo>
                    <a:lnTo>
                      <a:pt x="255" y="0"/>
                    </a:lnTo>
                    <a:lnTo>
                      <a:pt x="270" y="25"/>
                    </a:lnTo>
                    <a:lnTo>
                      <a:pt x="237" y="78"/>
                    </a:lnTo>
                    <a:lnTo>
                      <a:pt x="156" y="198"/>
                    </a:lnTo>
                    <a:lnTo>
                      <a:pt x="148" y="454"/>
                    </a:lnTo>
                    <a:lnTo>
                      <a:pt x="85" y="485"/>
                    </a:lnTo>
                    <a:lnTo>
                      <a:pt x="23" y="464"/>
                    </a:lnTo>
                    <a:lnTo>
                      <a:pt x="23" y="4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3537720" y="4650840"/>
                <a:ext cx="48600" cy="8532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13" y="454"/>
                    </a:moveTo>
                    <a:lnTo>
                      <a:pt x="0" y="306"/>
                    </a:lnTo>
                    <a:lnTo>
                      <a:pt x="45" y="165"/>
                    </a:lnTo>
                    <a:lnTo>
                      <a:pt x="97" y="99"/>
                    </a:lnTo>
                    <a:lnTo>
                      <a:pt x="161" y="40"/>
                    </a:lnTo>
                    <a:lnTo>
                      <a:pt x="235" y="0"/>
                    </a:lnTo>
                    <a:lnTo>
                      <a:pt x="309" y="0"/>
                    </a:lnTo>
                    <a:lnTo>
                      <a:pt x="319" y="27"/>
                    </a:lnTo>
                    <a:lnTo>
                      <a:pt x="273" y="78"/>
                    </a:lnTo>
                    <a:lnTo>
                      <a:pt x="169" y="198"/>
                    </a:lnTo>
                    <a:lnTo>
                      <a:pt x="127" y="464"/>
                    </a:lnTo>
                    <a:lnTo>
                      <a:pt x="13" y="454"/>
                    </a:lnTo>
                    <a:lnTo>
                      <a:pt x="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>
                <a:off x="3473280" y="4648320"/>
                <a:ext cx="58320" cy="87840"/>
              </a:xfrm>
              <a:custGeom>
                <a:avLst/>
                <a:gdLst/>
                <a:ahLst/>
                <a:rect l="l" t="t" r="r" b="b"/>
                <a:pathLst>
                  <a:path w="378" h="477">
                    <a:moveTo>
                      <a:pt x="0" y="460"/>
                    </a:moveTo>
                    <a:lnTo>
                      <a:pt x="7" y="308"/>
                    </a:lnTo>
                    <a:lnTo>
                      <a:pt x="66" y="161"/>
                    </a:lnTo>
                    <a:lnTo>
                      <a:pt x="127" y="97"/>
                    </a:lnTo>
                    <a:lnTo>
                      <a:pt x="205" y="36"/>
                    </a:lnTo>
                    <a:lnTo>
                      <a:pt x="289" y="0"/>
                    </a:lnTo>
                    <a:lnTo>
                      <a:pt x="365" y="5"/>
                    </a:lnTo>
                    <a:lnTo>
                      <a:pt x="378" y="43"/>
                    </a:lnTo>
                    <a:lnTo>
                      <a:pt x="323" y="95"/>
                    </a:lnTo>
                    <a:lnTo>
                      <a:pt x="190" y="211"/>
                    </a:lnTo>
                    <a:lnTo>
                      <a:pt x="108" y="477"/>
                    </a:lnTo>
                    <a:lnTo>
                      <a:pt x="0" y="460"/>
                    </a:lnTo>
                    <a:lnTo>
                      <a:pt x="0" y="4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3409200" y="4661640"/>
                <a:ext cx="67320" cy="91800"/>
              </a:xfrm>
              <a:custGeom>
                <a:avLst/>
                <a:gdLst/>
                <a:ahLst/>
                <a:rect l="l" t="t" r="r" b="b"/>
                <a:pathLst>
                  <a:path w="439" h="500">
                    <a:moveTo>
                      <a:pt x="0" y="467"/>
                    </a:moveTo>
                    <a:lnTo>
                      <a:pt x="16" y="306"/>
                    </a:lnTo>
                    <a:lnTo>
                      <a:pt x="44" y="228"/>
                    </a:lnTo>
                    <a:lnTo>
                      <a:pt x="92" y="161"/>
                    </a:lnTo>
                    <a:lnTo>
                      <a:pt x="166" y="95"/>
                    </a:lnTo>
                    <a:lnTo>
                      <a:pt x="255" y="34"/>
                    </a:lnTo>
                    <a:lnTo>
                      <a:pt x="348" y="0"/>
                    </a:lnTo>
                    <a:lnTo>
                      <a:pt x="430" y="13"/>
                    </a:lnTo>
                    <a:lnTo>
                      <a:pt x="439" y="55"/>
                    </a:lnTo>
                    <a:lnTo>
                      <a:pt x="371" y="104"/>
                    </a:lnTo>
                    <a:lnTo>
                      <a:pt x="278" y="160"/>
                    </a:lnTo>
                    <a:lnTo>
                      <a:pt x="207" y="220"/>
                    </a:lnTo>
                    <a:lnTo>
                      <a:pt x="99" y="492"/>
                    </a:lnTo>
                    <a:lnTo>
                      <a:pt x="42" y="500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3352320" y="4683240"/>
                <a:ext cx="77400" cy="93600"/>
              </a:xfrm>
              <a:custGeom>
                <a:avLst/>
                <a:gdLst/>
                <a:ahLst/>
                <a:rect l="l" t="t" r="r" b="b"/>
                <a:pathLst>
                  <a:path w="504" h="509">
                    <a:moveTo>
                      <a:pt x="0" y="467"/>
                    </a:moveTo>
                    <a:lnTo>
                      <a:pt x="35" y="306"/>
                    </a:lnTo>
                    <a:lnTo>
                      <a:pt x="73" y="228"/>
                    </a:lnTo>
                    <a:lnTo>
                      <a:pt x="124" y="161"/>
                    </a:lnTo>
                    <a:lnTo>
                      <a:pt x="207" y="95"/>
                    </a:lnTo>
                    <a:lnTo>
                      <a:pt x="306" y="32"/>
                    </a:lnTo>
                    <a:lnTo>
                      <a:pt x="409" y="0"/>
                    </a:lnTo>
                    <a:lnTo>
                      <a:pt x="496" y="21"/>
                    </a:lnTo>
                    <a:lnTo>
                      <a:pt x="504" y="70"/>
                    </a:lnTo>
                    <a:lnTo>
                      <a:pt x="428" y="118"/>
                    </a:lnTo>
                    <a:lnTo>
                      <a:pt x="322" y="171"/>
                    </a:lnTo>
                    <a:lnTo>
                      <a:pt x="240" y="228"/>
                    </a:lnTo>
                    <a:lnTo>
                      <a:pt x="169" y="374"/>
                    </a:lnTo>
                    <a:lnTo>
                      <a:pt x="137" y="448"/>
                    </a:lnTo>
                    <a:lnTo>
                      <a:pt x="92" y="509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3" name=""/>
          <p:cNvSpPr/>
          <p:nvPr/>
        </p:nvSpPr>
        <p:spPr>
          <a:xfrm>
            <a:off x="3348720" y="533520"/>
            <a:ext cx="18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09480" y="137160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Division 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is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successive subtr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583960" y="3276720"/>
            <a:ext cx="44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762120" y="2666880"/>
                <a:ext cx="17348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7" name=""/>
          <p:cNvSpPr/>
          <p:nvPr/>
        </p:nvSpPr>
        <p:spPr>
          <a:xfrm>
            <a:off x="3424680" y="2057400"/>
            <a:ext cx="329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8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– 4  = </a:t>
            </a:r>
            <a:r>
              <a:rPr b="0" lang="en-US" sz="6000" spc="-1" strike="noStrike">
                <a:solidFill>
                  <a:srgbClr val="0066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413520" y="3276720"/>
            <a:ext cx="329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Comic Sans MS"/>
              </a:rPr>
              <a:t>4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– 4  = </a:t>
            </a: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9" name=""/>
          <p:cNvCxnSpPr/>
          <p:nvPr/>
        </p:nvCxnSpPr>
        <p:spPr>
          <a:xfrm flipH="1">
            <a:off x="3351960" y="2590920"/>
            <a:ext cx="3452040" cy="1219680"/>
          </a:xfrm>
          <a:prstGeom prst="curvedConnector5">
            <a:avLst>
              <a:gd name="adj1" fmla="val -6622"/>
              <a:gd name="adj2" fmla="val 24977"/>
              <a:gd name="adj3" fmla="val -662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0" name=""/>
          <p:cNvSpPr/>
          <p:nvPr/>
        </p:nvSpPr>
        <p:spPr>
          <a:xfrm>
            <a:off x="2971800" y="4038480"/>
            <a:ext cx="2286000" cy="25146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858000" y="2133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step 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781680" y="32767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step 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609480" y="1295280"/>
            <a:ext cx="75409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can’t always divide things even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348720" y="533520"/>
            <a:ext cx="18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898560" y="2941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2899440" y="2133720"/>
            <a:ext cx="3978720" cy="1173600"/>
            <a:chOff x="2899440" y="2133720"/>
            <a:chExt cx="3978720" cy="1173600"/>
          </a:xfrm>
        </p:grpSpPr>
        <p:sp>
          <p:nvSpPr>
            <p:cNvPr id="647" name=""/>
            <p:cNvSpPr/>
            <p:nvPr/>
          </p:nvSpPr>
          <p:spPr>
            <a:xfrm>
              <a:off x="5071320" y="2179800"/>
              <a:ext cx="18068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= 3+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468600" y="2133720"/>
              <a:ext cx="72756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361040" y="2209680"/>
              <a:ext cx="5234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899440" y="2192400"/>
              <a:ext cx="104616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7086600" y="3755880"/>
            <a:ext cx="1295280" cy="8924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609480" y="3429000"/>
            <a:ext cx="1904760" cy="1752480"/>
            <a:chOff x="609480" y="3429000"/>
            <a:chExt cx="1904760" cy="1752480"/>
          </a:xfrm>
        </p:grpSpPr>
        <p:pic>
          <p:nvPicPr>
            <p:cNvPr id="653" name="" descr=""/>
            <p:cNvPicPr/>
            <p:nvPr/>
          </p:nvPicPr>
          <p:blipFill>
            <a:blip r:embed="rId2"/>
            <a:stretch/>
          </p:blipFill>
          <p:spPr>
            <a:xfrm>
              <a:off x="609480" y="3429000"/>
              <a:ext cx="129528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" descr=""/>
            <p:cNvPicPr/>
            <p:nvPr/>
          </p:nvPicPr>
          <p:blipFill>
            <a:blip r:embed="rId3"/>
            <a:stretch/>
          </p:blipFill>
          <p:spPr>
            <a:xfrm>
              <a:off x="838080" y="3809880"/>
              <a:ext cx="1371600" cy="9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5" name="" descr=""/>
            <p:cNvPicPr/>
            <p:nvPr/>
          </p:nvPicPr>
          <p:blipFill>
            <a:blip r:embed="rId4"/>
            <a:stretch/>
          </p:blipFill>
          <p:spPr>
            <a:xfrm>
              <a:off x="1218960" y="4289400"/>
              <a:ext cx="1295280" cy="89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6" name=""/>
          <p:cNvGrpSpPr/>
          <p:nvPr/>
        </p:nvGrpSpPr>
        <p:grpSpPr>
          <a:xfrm>
            <a:off x="2590920" y="3505320"/>
            <a:ext cx="1904760" cy="1752480"/>
            <a:chOff x="2590920" y="3505320"/>
            <a:chExt cx="1904760" cy="1752480"/>
          </a:xfrm>
        </p:grpSpPr>
        <p:pic>
          <p:nvPicPr>
            <p:cNvPr id="657" name="" descr=""/>
            <p:cNvPicPr/>
            <p:nvPr/>
          </p:nvPicPr>
          <p:blipFill>
            <a:blip r:embed="rId5"/>
            <a:stretch/>
          </p:blipFill>
          <p:spPr>
            <a:xfrm>
              <a:off x="2590920" y="3505320"/>
              <a:ext cx="129528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" descr=""/>
            <p:cNvPicPr/>
            <p:nvPr/>
          </p:nvPicPr>
          <p:blipFill>
            <a:blip r:embed="rId6"/>
            <a:stretch/>
          </p:blipFill>
          <p:spPr>
            <a:xfrm>
              <a:off x="2819520" y="3886200"/>
              <a:ext cx="1371600" cy="9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" descr=""/>
            <p:cNvPicPr/>
            <p:nvPr/>
          </p:nvPicPr>
          <p:blipFill>
            <a:blip r:embed="rId7"/>
            <a:stretch/>
          </p:blipFill>
          <p:spPr>
            <a:xfrm>
              <a:off x="3200400" y="4365720"/>
              <a:ext cx="1295280" cy="89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0" name=""/>
          <p:cNvGrpSpPr/>
          <p:nvPr/>
        </p:nvGrpSpPr>
        <p:grpSpPr>
          <a:xfrm>
            <a:off x="4800600" y="3505320"/>
            <a:ext cx="1904760" cy="1752480"/>
            <a:chOff x="4800600" y="3505320"/>
            <a:chExt cx="1904760" cy="1752480"/>
          </a:xfrm>
        </p:grpSpPr>
        <p:pic>
          <p:nvPicPr>
            <p:cNvPr id="661" name="" descr=""/>
            <p:cNvPicPr/>
            <p:nvPr/>
          </p:nvPicPr>
          <p:blipFill>
            <a:blip r:embed="rId8"/>
            <a:stretch/>
          </p:blipFill>
          <p:spPr>
            <a:xfrm>
              <a:off x="4800600" y="3505320"/>
              <a:ext cx="129528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" descr=""/>
            <p:cNvPicPr/>
            <p:nvPr/>
          </p:nvPicPr>
          <p:blipFill>
            <a:blip r:embed="rId9"/>
            <a:stretch/>
          </p:blipFill>
          <p:spPr>
            <a:xfrm>
              <a:off x="5029200" y="3886200"/>
              <a:ext cx="1371600" cy="9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" descr=""/>
            <p:cNvPicPr/>
            <p:nvPr/>
          </p:nvPicPr>
          <p:blipFill>
            <a:blip r:embed="rId10"/>
            <a:stretch/>
          </p:blipFill>
          <p:spPr>
            <a:xfrm>
              <a:off x="5410080" y="4365720"/>
              <a:ext cx="1295280" cy="89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"/>
          <p:cNvGrpSpPr/>
          <p:nvPr/>
        </p:nvGrpSpPr>
        <p:grpSpPr>
          <a:xfrm>
            <a:off x="3693240" y="3429000"/>
            <a:ext cx="4917240" cy="2806200"/>
            <a:chOff x="3693240" y="3429000"/>
            <a:chExt cx="4917240" cy="2806200"/>
          </a:xfrm>
        </p:grpSpPr>
        <p:sp>
          <p:nvSpPr>
            <p:cNvPr id="665" name=""/>
            <p:cNvSpPr/>
            <p:nvPr/>
          </p:nvSpPr>
          <p:spPr>
            <a:xfrm>
              <a:off x="6858000" y="3429000"/>
              <a:ext cx="1752480" cy="1523880"/>
            </a:xfrm>
            <a:prstGeom prst="ellipse">
              <a:avLst/>
            </a:prstGeom>
            <a:noFill/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693240" y="5410080"/>
              <a:ext cx="3320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cc"/>
                  </a:solidFill>
                  <a:latin typeface="Comic Sans MS"/>
                </a:rPr>
                <a:t>Remainder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7" name=""/>
            <p:cNvCxnSpPr>
              <a:endCxn id="665" idx="4"/>
            </p:cNvCxnSpPr>
            <p:nvPr/>
          </p:nvCxnSpPr>
          <p:spPr>
            <a:xfrm flipH="1" flipV="1" rot="5400000">
              <a:off x="6962040" y="5019120"/>
              <a:ext cx="820080" cy="724680"/>
            </a:xfrm>
            <a:prstGeom prst="curvedConnector5">
              <a:avLst>
                <a:gd name="adj1" fmla="val 746"/>
                <a:gd name="adj2" fmla="val 50000"/>
                <a:gd name="adj3" fmla="val 746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609480" y="1295280"/>
            <a:ext cx="75409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can’t always divide things even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348720" y="533520"/>
            <a:ext cx="18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1600200" y="3225960"/>
                <a:ext cx="4572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÷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71" name=""/>
          <p:cNvGrpSpPr/>
          <p:nvPr/>
        </p:nvGrpSpPr>
        <p:grpSpPr>
          <a:xfrm>
            <a:off x="6477120" y="3124080"/>
            <a:ext cx="1295280" cy="1219320"/>
            <a:chOff x="6477120" y="3124080"/>
            <a:chExt cx="1295280" cy="1219320"/>
          </a:xfrm>
        </p:grpSpPr>
        <p:sp>
          <p:nvSpPr>
            <p:cNvPr id="672" name=""/>
            <p:cNvSpPr/>
            <p:nvPr/>
          </p:nvSpPr>
          <p:spPr>
            <a:xfrm>
              <a:off x="6477120" y="3124080"/>
              <a:ext cx="1295280" cy="1219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3" name=""/>
                <p:cNvSpPr txBox="1"/>
                <p:nvPr/>
              </p:nvSpPr>
              <p:spPr>
                <a:xfrm>
                  <a:off x="6553080" y="3216240"/>
                  <a:ext cx="1143000" cy="97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74" name=""/>
          <p:cNvGrpSpPr/>
          <p:nvPr/>
        </p:nvGrpSpPr>
        <p:grpSpPr>
          <a:xfrm>
            <a:off x="1676520" y="4572000"/>
            <a:ext cx="5029200" cy="1523880"/>
            <a:chOff x="1676520" y="4572000"/>
            <a:chExt cx="5029200" cy="1523880"/>
          </a:xfrm>
        </p:grpSpPr>
        <mc:AlternateContent>
          <mc:Choice xmlns:a14="http://schemas.microsoft.com/office/drawing/2010/main" Requires="a14">
            <p:sp>
              <p:nvSpPr>
                <p:cNvPr id="675" name=""/>
                <p:cNvSpPr txBox="1"/>
                <p:nvPr/>
              </p:nvSpPr>
              <p:spPr>
                <a:xfrm>
                  <a:off x="6324480" y="4572000"/>
                  <a:ext cx="381240" cy="15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6" name=""/>
                <p:cNvSpPr txBox="1"/>
                <p:nvPr/>
              </p:nvSpPr>
              <p:spPr>
                <a:xfrm>
                  <a:off x="1676520" y="4800600"/>
                  <a:ext cx="4572000" cy="104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÷</m:t>
                      </m:r>
                      <m:r>
                        <m:t xml:space="preserve">3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77" name=""/>
          <p:cNvGrpSpPr/>
          <p:nvPr/>
        </p:nvGrpSpPr>
        <p:grpSpPr>
          <a:xfrm>
            <a:off x="3121560" y="2133720"/>
            <a:ext cx="4003200" cy="1082520"/>
            <a:chOff x="3121560" y="2133720"/>
            <a:chExt cx="4003200" cy="1082520"/>
          </a:xfrm>
        </p:grpSpPr>
        <p:sp>
          <p:nvSpPr>
            <p:cNvPr id="678" name=""/>
            <p:cNvSpPr/>
            <p:nvPr/>
          </p:nvSpPr>
          <p:spPr>
            <a:xfrm>
              <a:off x="3121560" y="2133720"/>
              <a:ext cx="3320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cc"/>
                  </a:solidFill>
                  <a:latin typeface="Comic Sans MS"/>
                </a:rPr>
                <a:t>Remainder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9" name=""/>
            <p:cNvCxnSpPr>
              <a:stCxn id="678" idx="3"/>
            </p:cNvCxnSpPr>
            <p:nvPr/>
          </p:nvCxnSpPr>
          <p:spPr>
            <a:xfrm>
              <a:off x="6362280" y="2545920"/>
              <a:ext cx="762840" cy="67068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7086600" y="4800600"/>
            <a:ext cx="1295280" cy="892080"/>
          </a:xfrm>
          <a:prstGeom prst="rect">
            <a:avLst/>
          </a:prstGeom>
          <a:ln w="0">
            <a:noFill/>
          </a:ln>
        </p:spPr>
      </p:pic>
      <p:grpSp>
        <p:nvGrpSpPr>
          <p:cNvPr id="681" name=""/>
          <p:cNvGrpSpPr/>
          <p:nvPr/>
        </p:nvGrpSpPr>
        <p:grpSpPr>
          <a:xfrm>
            <a:off x="609480" y="1600200"/>
            <a:ext cx="1904760" cy="1752480"/>
            <a:chOff x="609480" y="1600200"/>
            <a:chExt cx="1904760" cy="1752480"/>
          </a:xfrm>
        </p:grpSpPr>
        <p:pic>
          <p:nvPicPr>
            <p:cNvPr id="682" name="" descr=""/>
            <p:cNvPicPr/>
            <p:nvPr/>
          </p:nvPicPr>
          <p:blipFill>
            <a:blip r:embed="rId2"/>
            <a:stretch/>
          </p:blipFill>
          <p:spPr>
            <a:xfrm>
              <a:off x="609480" y="1600200"/>
              <a:ext cx="129528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" descr=""/>
            <p:cNvPicPr/>
            <p:nvPr/>
          </p:nvPicPr>
          <p:blipFill>
            <a:blip r:embed="rId3"/>
            <a:stretch/>
          </p:blipFill>
          <p:spPr>
            <a:xfrm>
              <a:off x="838080" y="1981080"/>
              <a:ext cx="1371600" cy="9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" descr=""/>
            <p:cNvPicPr/>
            <p:nvPr/>
          </p:nvPicPr>
          <p:blipFill>
            <a:blip r:embed="rId4"/>
            <a:stretch/>
          </p:blipFill>
          <p:spPr>
            <a:xfrm>
              <a:off x="1218960" y="2460600"/>
              <a:ext cx="1295280" cy="89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"/>
          <p:cNvGrpSpPr/>
          <p:nvPr/>
        </p:nvGrpSpPr>
        <p:grpSpPr>
          <a:xfrm>
            <a:off x="2590920" y="1676520"/>
            <a:ext cx="1904760" cy="1752480"/>
            <a:chOff x="2590920" y="1676520"/>
            <a:chExt cx="1904760" cy="1752480"/>
          </a:xfrm>
        </p:grpSpPr>
        <p:pic>
          <p:nvPicPr>
            <p:cNvPr id="686" name="" descr=""/>
            <p:cNvPicPr/>
            <p:nvPr/>
          </p:nvPicPr>
          <p:blipFill>
            <a:blip r:embed="rId5"/>
            <a:stretch/>
          </p:blipFill>
          <p:spPr>
            <a:xfrm>
              <a:off x="2590920" y="1676520"/>
              <a:ext cx="129528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7" name="" descr=""/>
            <p:cNvPicPr/>
            <p:nvPr/>
          </p:nvPicPr>
          <p:blipFill>
            <a:blip r:embed="rId6"/>
            <a:stretch/>
          </p:blipFill>
          <p:spPr>
            <a:xfrm>
              <a:off x="2819520" y="2057400"/>
              <a:ext cx="1371600" cy="9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" descr=""/>
            <p:cNvPicPr/>
            <p:nvPr/>
          </p:nvPicPr>
          <p:blipFill>
            <a:blip r:embed="rId7"/>
            <a:stretch/>
          </p:blipFill>
          <p:spPr>
            <a:xfrm>
              <a:off x="3200400" y="2536920"/>
              <a:ext cx="1295280" cy="89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9" name=""/>
          <p:cNvGrpSpPr/>
          <p:nvPr/>
        </p:nvGrpSpPr>
        <p:grpSpPr>
          <a:xfrm>
            <a:off x="4800600" y="1676520"/>
            <a:ext cx="1752480" cy="1730160"/>
            <a:chOff x="4800600" y="1676520"/>
            <a:chExt cx="1752480" cy="1730160"/>
          </a:xfrm>
        </p:grpSpPr>
        <p:pic>
          <p:nvPicPr>
            <p:cNvPr id="690" name="" descr=""/>
            <p:cNvPicPr/>
            <p:nvPr/>
          </p:nvPicPr>
          <p:blipFill>
            <a:blip r:embed="rId8"/>
            <a:stretch/>
          </p:blipFill>
          <p:spPr>
            <a:xfrm>
              <a:off x="4800600" y="1676520"/>
              <a:ext cx="129528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" name="" descr=""/>
            <p:cNvPicPr/>
            <p:nvPr/>
          </p:nvPicPr>
          <p:blipFill>
            <a:blip r:embed="rId9"/>
            <a:stretch/>
          </p:blipFill>
          <p:spPr>
            <a:xfrm>
              <a:off x="5029200" y="2057400"/>
              <a:ext cx="1371600" cy="9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" descr=""/>
            <p:cNvPicPr/>
            <p:nvPr/>
          </p:nvPicPr>
          <p:blipFill>
            <a:blip r:embed="rId10"/>
            <a:stretch/>
          </p:blipFill>
          <p:spPr>
            <a:xfrm>
              <a:off x="5257800" y="2514600"/>
              <a:ext cx="1295280" cy="89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"/>
          <p:cNvSpPr/>
          <p:nvPr/>
        </p:nvSpPr>
        <p:spPr>
          <a:xfrm>
            <a:off x="3348720" y="533520"/>
            <a:ext cx="18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4952880" y="3733920"/>
            <a:ext cx="2152440" cy="1442160"/>
            <a:chOff x="4952880" y="3733920"/>
            <a:chExt cx="2152440" cy="1442160"/>
          </a:xfrm>
        </p:grpSpPr>
        <p:sp>
          <p:nvSpPr>
            <p:cNvPr id="695" name=""/>
            <p:cNvSpPr/>
            <p:nvPr/>
          </p:nvSpPr>
          <p:spPr>
            <a:xfrm>
              <a:off x="4952880" y="4476600"/>
              <a:ext cx="921600" cy="699480"/>
            </a:xfrm>
            <a:custGeom>
              <a:avLst/>
              <a:gdLst/>
              <a:ahLst/>
              <a:rect l="l" t="t" r="r" b="b"/>
              <a:pathLst>
                <a:path w="1503" h="1485">
                  <a:moveTo>
                    <a:pt x="1333" y="0"/>
                  </a:moveTo>
                  <a:lnTo>
                    <a:pt x="1171" y="122"/>
                  </a:lnTo>
                  <a:lnTo>
                    <a:pt x="1011" y="243"/>
                  </a:lnTo>
                  <a:lnTo>
                    <a:pt x="849" y="365"/>
                  </a:lnTo>
                  <a:lnTo>
                    <a:pt x="689" y="486"/>
                  </a:lnTo>
                  <a:lnTo>
                    <a:pt x="527" y="607"/>
                  </a:lnTo>
                  <a:lnTo>
                    <a:pt x="367" y="729"/>
                  </a:lnTo>
                  <a:lnTo>
                    <a:pt x="205" y="850"/>
                  </a:lnTo>
                  <a:lnTo>
                    <a:pt x="45" y="973"/>
                  </a:lnTo>
                  <a:lnTo>
                    <a:pt x="12" y="1072"/>
                  </a:lnTo>
                  <a:lnTo>
                    <a:pt x="0" y="1169"/>
                  </a:lnTo>
                  <a:lnTo>
                    <a:pt x="4" y="1256"/>
                  </a:lnTo>
                  <a:lnTo>
                    <a:pt x="25" y="1334"/>
                  </a:lnTo>
                  <a:lnTo>
                    <a:pt x="58" y="1397"/>
                  </a:lnTo>
                  <a:lnTo>
                    <a:pt x="107" y="1445"/>
                  </a:lnTo>
                  <a:lnTo>
                    <a:pt x="167" y="1474"/>
                  </a:lnTo>
                  <a:lnTo>
                    <a:pt x="238" y="1483"/>
                  </a:lnTo>
                  <a:lnTo>
                    <a:pt x="278" y="1485"/>
                  </a:lnTo>
                  <a:lnTo>
                    <a:pt x="316" y="1474"/>
                  </a:lnTo>
                  <a:lnTo>
                    <a:pt x="349" y="1453"/>
                  </a:lnTo>
                  <a:lnTo>
                    <a:pt x="378" y="1421"/>
                  </a:lnTo>
                  <a:lnTo>
                    <a:pt x="400" y="1378"/>
                  </a:lnTo>
                  <a:lnTo>
                    <a:pt x="416" y="1329"/>
                  </a:lnTo>
                  <a:lnTo>
                    <a:pt x="425" y="1272"/>
                  </a:lnTo>
                  <a:lnTo>
                    <a:pt x="429" y="1212"/>
                  </a:lnTo>
                  <a:lnTo>
                    <a:pt x="572" y="1122"/>
                  </a:lnTo>
                  <a:lnTo>
                    <a:pt x="718" y="1007"/>
                  </a:lnTo>
                  <a:lnTo>
                    <a:pt x="861" y="873"/>
                  </a:lnTo>
                  <a:lnTo>
                    <a:pt x="1004" y="734"/>
                  </a:lnTo>
                  <a:lnTo>
                    <a:pt x="1140" y="597"/>
                  </a:lnTo>
                  <a:lnTo>
                    <a:pt x="1270" y="476"/>
                  </a:lnTo>
                  <a:lnTo>
                    <a:pt x="1392" y="377"/>
                  </a:lnTo>
                  <a:lnTo>
                    <a:pt x="1503" y="317"/>
                  </a:lnTo>
                  <a:lnTo>
                    <a:pt x="1471" y="263"/>
                  </a:lnTo>
                  <a:lnTo>
                    <a:pt x="1450" y="223"/>
                  </a:lnTo>
                  <a:lnTo>
                    <a:pt x="1432" y="189"/>
                  </a:lnTo>
                  <a:lnTo>
                    <a:pt x="1418" y="158"/>
                  </a:lnTo>
                  <a:lnTo>
                    <a:pt x="1403" y="127"/>
                  </a:lnTo>
                  <a:lnTo>
                    <a:pt x="1385" y="93"/>
                  </a:lnTo>
                  <a:lnTo>
                    <a:pt x="1362" y="51"/>
                  </a:lnTo>
                  <a:lnTo>
                    <a:pt x="1333" y="0"/>
                  </a:lnTo>
                  <a:close/>
                </a:path>
              </a:pathLst>
            </a:custGeom>
            <a:solidFill>
              <a:srgbClr val="f2c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967640" y="4480560"/>
              <a:ext cx="906480" cy="694080"/>
            </a:xfrm>
            <a:custGeom>
              <a:avLst/>
              <a:gdLst/>
              <a:ahLst/>
              <a:rect l="l" t="t" r="r" b="b"/>
              <a:pathLst>
                <a:path w="1477" h="1471">
                  <a:moveTo>
                    <a:pt x="1317" y="0"/>
                  </a:moveTo>
                  <a:lnTo>
                    <a:pt x="1155" y="121"/>
                  </a:lnTo>
                  <a:lnTo>
                    <a:pt x="996" y="243"/>
                  </a:lnTo>
                  <a:lnTo>
                    <a:pt x="838" y="364"/>
                  </a:lnTo>
                  <a:lnTo>
                    <a:pt x="680" y="485"/>
                  </a:lnTo>
                  <a:lnTo>
                    <a:pt x="520" y="607"/>
                  </a:lnTo>
                  <a:lnTo>
                    <a:pt x="362" y="728"/>
                  </a:lnTo>
                  <a:lnTo>
                    <a:pt x="201" y="849"/>
                  </a:lnTo>
                  <a:lnTo>
                    <a:pt x="42" y="971"/>
                  </a:lnTo>
                  <a:lnTo>
                    <a:pt x="13" y="1067"/>
                  </a:lnTo>
                  <a:lnTo>
                    <a:pt x="0" y="1156"/>
                  </a:lnTo>
                  <a:lnTo>
                    <a:pt x="2" y="1236"/>
                  </a:lnTo>
                  <a:lnTo>
                    <a:pt x="18" y="1307"/>
                  </a:lnTo>
                  <a:lnTo>
                    <a:pt x="46" y="1365"/>
                  </a:lnTo>
                  <a:lnTo>
                    <a:pt x="86" y="1412"/>
                  </a:lnTo>
                  <a:lnTo>
                    <a:pt x="138" y="1445"/>
                  </a:lnTo>
                  <a:lnTo>
                    <a:pt x="200" y="1467"/>
                  </a:lnTo>
                  <a:lnTo>
                    <a:pt x="238" y="1471"/>
                  </a:lnTo>
                  <a:lnTo>
                    <a:pt x="275" y="1467"/>
                  </a:lnTo>
                  <a:lnTo>
                    <a:pt x="305" y="1452"/>
                  </a:lnTo>
                  <a:lnTo>
                    <a:pt x="334" y="1428"/>
                  </a:lnTo>
                  <a:lnTo>
                    <a:pt x="356" y="1390"/>
                  </a:lnTo>
                  <a:lnTo>
                    <a:pt x="375" y="1342"/>
                  </a:lnTo>
                  <a:lnTo>
                    <a:pt x="387" y="1280"/>
                  </a:lnTo>
                  <a:lnTo>
                    <a:pt x="396" y="1207"/>
                  </a:lnTo>
                  <a:lnTo>
                    <a:pt x="547" y="1111"/>
                  </a:lnTo>
                  <a:lnTo>
                    <a:pt x="696" y="993"/>
                  </a:lnTo>
                  <a:lnTo>
                    <a:pt x="842" y="858"/>
                  </a:lnTo>
                  <a:lnTo>
                    <a:pt x="983" y="720"/>
                  </a:lnTo>
                  <a:lnTo>
                    <a:pt x="1119" y="585"/>
                  </a:lnTo>
                  <a:lnTo>
                    <a:pt x="1247" y="465"/>
                  </a:lnTo>
                  <a:lnTo>
                    <a:pt x="1367" y="370"/>
                  </a:lnTo>
                  <a:lnTo>
                    <a:pt x="1477" y="310"/>
                  </a:lnTo>
                  <a:lnTo>
                    <a:pt x="1455" y="260"/>
                  </a:lnTo>
                  <a:lnTo>
                    <a:pt x="1438" y="218"/>
                  </a:lnTo>
                  <a:lnTo>
                    <a:pt x="1422" y="182"/>
                  </a:lnTo>
                  <a:lnTo>
                    <a:pt x="1409" y="148"/>
                  </a:lnTo>
                  <a:lnTo>
                    <a:pt x="1392" y="114"/>
                  </a:lnTo>
                  <a:lnTo>
                    <a:pt x="1372" y="79"/>
                  </a:lnTo>
                  <a:lnTo>
                    <a:pt x="1348" y="42"/>
                  </a:lnTo>
                  <a:lnTo>
                    <a:pt x="1317" y="0"/>
                  </a:lnTo>
                  <a:close/>
                </a:path>
              </a:pathLst>
            </a:custGeom>
            <a:solidFill>
              <a:srgbClr val="d99c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984920" y="4484520"/>
              <a:ext cx="889200" cy="686520"/>
            </a:xfrm>
            <a:custGeom>
              <a:avLst/>
              <a:gdLst/>
              <a:ahLst/>
              <a:rect l="l" t="t" r="r" b="b"/>
              <a:pathLst>
                <a:path w="1450" h="1456">
                  <a:moveTo>
                    <a:pt x="1299" y="0"/>
                  </a:moveTo>
                  <a:lnTo>
                    <a:pt x="1139" y="120"/>
                  </a:lnTo>
                  <a:lnTo>
                    <a:pt x="982" y="241"/>
                  </a:lnTo>
                  <a:lnTo>
                    <a:pt x="825" y="361"/>
                  </a:lnTo>
                  <a:lnTo>
                    <a:pt x="670" y="483"/>
                  </a:lnTo>
                  <a:lnTo>
                    <a:pt x="514" y="603"/>
                  </a:lnTo>
                  <a:lnTo>
                    <a:pt x="358" y="724"/>
                  </a:lnTo>
                  <a:lnTo>
                    <a:pt x="201" y="846"/>
                  </a:lnTo>
                  <a:lnTo>
                    <a:pt x="42" y="968"/>
                  </a:lnTo>
                  <a:lnTo>
                    <a:pt x="15" y="1061"/>
                  </a:lnTo>
                  <a:lnTo>
                    <a:pt x="1" y="1143"/>
                  </a:lnTo>
                  <a:lnTo>
                    <a:pt x="0" y="1213"/>
                  </a:lnTo>
                  <a:lnTo>
                    <a:pt x="11" y="1277"/>
                  </a:lnTo>
                  <a:lnTo>
                    <a:pt x="33" y="1329"/>
                  </a:lnTo>
                  <a:lnTo>
                    <a:pt x="66" y="1375"/>
                  </a:lnTo>
                  <a:lnTo>
                    <a:pt x="109" y="1415"/>
                  </a:lnTo>
                  <a:lnTo>
                    <a:pt x="163" y="1450"/>
                  </a:lnTo>
                  <a:lnTo>
                    <a:pt x="197" y="1455"/>
                  </a:lnTo>
                  <a:lnTo>
                    <a:pt x="231" y="1456"/>
                  </a:lnTo>
                  <a:lnTo>
                    <a:pt x="262" y="1449"/>
                  </a:lnTo>
                  <a:lnTo>
                    <a:pt x="290" y="1431"/>
                  </a:lnTo>
                  <a:lnTo>
                    <a:pt x="312" y="1398"/>
                  </a:lnTo>
                  <a:lnTo>
                    <a:pt x="333" y="1350"/>
                  </a:lnTo>
                  <a:lnTo>
                    <a:pt x="349" y="1283"/>
                  </a:lnTo>
                  <a:lnTo>
                    <a:pt x="362" y="1197"/>
                  </a:lnTo>
                  <a:lnTo>
                    <a:pt x="520" y="1096"/>
                  </a:lnTo>
                  <a:lnTo>
                    <a:pt x="673" y="975"/>
                  </a:lnTo>
                  <a:lnTo>
                    <a:pt x="821" y="841"/>
                  </a:lnTo>
                  <a:lnTo>
                    <a:pt x="963" y="703"/>
                  </a:lnTo>
                  <a:lnTo>
                    <a:pt x="1096" y="570"/>
                  </a:lnTo>
                  <a:lnTo>
                    <a:pt x="1222" y="452"/>
                  </a:lnTo>
                  <a:lnTo>
                    <a:pt x="1340" y="359"/>
                  </a:lnTo>
                  <a:lnTo>
                    <a:pt x="1450" y="300"/>
                  </a:lnTo>
                  <a:lnTo>
                    <a:pt x="1438" y="255"/>
                  </a:lnTo>
                  <a:lnTo>
                    <a:pt x="1427" y="215"/>
                  </a:lnTo>
                  <a:lnTo>
                    <a:pt x="1414" y="174"/>
                  </a:lnTo>
                  <a:lnTo>
                    <a:pt x="1401" y="138"/>
                  </a:lnTo>
                  <a:lnTo>
                    <a:pt x="1382" y="101"/>
                  </a:lnTo>
                  <a:lnTo>
                    <a:pt x="1360" y="67"/>
                  </a:lnTo>
                  <a:lnTo>
                    <a:pt x="1332" y="33"/>
                  </a:lnTo>
                  <a:lnTo>
                    <a:pt x="1299" y="0"/>
                  </a:lnTo>
                  <a:close/>
                </a:path>
              </a:pathLst>
            </a:custGeom>
            <a:solidFill>
              <a:srgbClr val="c27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999680" y="4488120"/>
              <a:ext cx="874800" cy="682560"/>
            </a:xfrm>
            <a:custGeom>
              <a:avLst/>
              <a:gdLst/>
              <a:ahLst/>
              <a:rect l="l" t="t" r="r" b="b"/>
              <a:pathLst>
                <a:path w="1425" h="1450">
                  <a:moveTo>
                    <a:pt x="1287" y="0"/>
                  </a:moveTo>
                  <a:lnTo>
                    <a:pt x="1126" y="120"/>
                  </a:lnTo>
                  <a:lnTo>
                    <a:pt x="971" y="242"/>
                  </a:lnTo>
                  <a:lnTo>
                    <a:pt x="816" y="362"/>
                  </a:lnTo>
                  <a:lnTo>
                    <a:pt x="664" y="483"/>
                  </a:lnTo>
                  <a:lnTo>
                    <a:pt x="510" y="603"/>
                  </a:lnTo>
                  <a:lnTo>
                    <a:pt x="357" y="723"/>
                  </a:lnTo>
                  <a:lnTo>
                    <a:pt x="201" y="845"/>
                  </a:lnTo>
                  <a:lnTo>
                    <a:pt x="43" y="967"/>
                  </a:lnTo>
                  <a:lnTo>
                    <a:pt x="19" y="1057"/>
                  </a:lnTo>
                  <a:lnTo>
                    <a:pt x="5" y="1132"/>
                  </a:lnTo>
                  <a:lnTo>
                    <a:pt x="0" y="1195"/>
                  </a:lnTo>
                  <a:lnTo>
                    <a:pt x="7" y="1250"/>
                  </a:lnTo>
                  <a:lnTo>
                    <a:pt x="20" y="1297"/>
                  </a:lnTo>
                  <a:lnTo>
                    <a:pt x="47" y="1343"/>
                  </a:lnTo>
                  <a:lnTo>
                    <a:pt x="81" y="1388"/>
                  </a:lnTo>
                  <a:lnTo>
                    <a:pt x="127" y="1439"/>
                  </a:lnTo>
                  <a:lnTo>
                    <a:pt x="160" y="1445"/>
                  </a:lnTo>
                  <a:lnTo>
                    <a:pt x="191" y="1450"/>
                  </a:lnTo>
                  <a:lnTo>
                    <a:pt x="220" y="1449"/>
                  </a:lnTo>
                  <a:lnTo>
                    <a:pt x="248" y="1439"/>
                  </a:lnTo>
                  <a:lnTo>
                    <a:pt x="271" y="1411"/>
                  </a:lnTo>
                  <a:lnTo>
                    <a:pt x="294" y="1364"/>
                  </a:lnTo>
                  <a:lnTo>
                    <a:pt x="311" y="1293"/>
                  </a:lnTo>
                  <a:lnTo>
                    <a:pt x="327" y="1196"/>
                  </a:lnTo>
                  <a:lnTo>
                    <a:pt x="492" y="1089"/>
                  </a:lnTo>
                  <a:lnTo>
                    <a:pt x="651" y="964"/>
                  </a:lnTo>
                  <a:lnTo>
                    <a:pt x="800" y="827"/>
                  </a:lnTo>
                  <a:lnTo>
                    <a:pt x="942" y="690"/>
                  </a:lnTo>
                  <a:lnTo>
                    <a:pt x="1074" y="559"/>
                  </a:lnTo>
                  <a:lnTo>
                    <a:pt x="1200" y="444"/>
                  </a:lnTo>
                  <a:lnTo>
                    <a:pt x="1316" y="352"/>
                  </a:lnTo>
                  <a:lnTo>
                    <a:pt x="1425" y="294"/>
                  </a:lnTo>
                  <a:lnTo>
                    <a:pt x="1422" y="252"/>
                  </a:lnTo>
                  <a:lnTo>
                    <a:pt x="1417" y="211"/>
                  </a:lnTo>
                  <a:lnTo>
                    <a:pt x="1407" y="170"/>
                  </a:lnTo>
                  <a:lnTo>
                    <a:pt x="1393" y="129"/>
                  </a:lnTo>
                  <a:lnTo>
                    <a:pt x="1373" y="89"/>
                  </a:lnTo>
                  <a:lnTo>
                    <a:pt x="1349" y="55"/>
                  </a:lnTo>
                  <a:lnTo>
                    <a:pt x="1320" y="23"/>
                  </a:lnTo>
                  <a:lnTo>
                    <a:pt x="1287" y="0"/>
                  </a:lnTo>
                  <a:close/>
                </a:path>
              </a:pathLst>
            </a:custGeom>
            <a:solidFill>
              <a:srgbClr val="a854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016960" y="4491720"/>
              <a:ext cx="864720" cy="682920"/>
            </a:xfrm>
            <a:custGeom>
              <a:avLst/>
              <a:gdLst/>
              <a:ahLst/>
              <a:rect l="l" t="t" r="r" b="b"/>
              <a:pathLst>
                <a:path w="1409" h="1447">
                  <a:moveTo>
                    <a:pt x="1271" y="0"/>
                  </a:moveTo>
                  <a:lnTo>
                    <a:pt x="1111" y="120"/>
                  </a:lnTo>
                  <a:lnTo>
                    <a:pt x="958" y="241"/>
                  </a:lnTo>
                  <a:lnTo>
                    <a:pt x="806" y="361"/>
                  </a:lnTo>
                  <a:lnTo>
                    <a:pt x="657" y="481"/>
                  </a:lnTo>
                  <a:lnTo>
                    <a:pt x="507" y="600"/>
                  </a:lnTo>
                  <a:lnTo>
                    <a:pt x="355" y="720"/>
                  </a:lnTo>
                  <a:lnTo>
                    <a:pt x="200" y="841"/>
                  </a:lnTo>
                  <a:lnTo>
                    <a:pt x="42" y="964"/>
                  </a:lnTo>
                  <a:lnTo>
                    <a:pt x="21" y="1050"/>
                  </a:lnTo>
                  <a:lnTo>
                    <a:pt x="7" y="1118"/>
                  </a:lnTo>
                  <a:lnTo>
                    <a:pt x="0" y="1172"/>
                  </a:lnTo>
                  <a:lnTo>
                    <a:pt x="2" y="1219"/>
                  </a:lnTo>
                  <a:lnTo>
                    <a:pt x="11" y="1261"/>
                  </a:lnTo>
                  <a:lnTo>
                    <a:pt x="28" y="1306"/>
                  </a:lnTo>
                  <a:lnTo>
                    <a:pt x="55" y="1357"/>
                  </a:lnTo>
                  <a:lnTo>
                    <a:pt x="90" y="1420"/>
                  </a:lnTo>
                  <a:lnTo>
                    <a:pt x="119" y="1429"/>
                  </a:lnTo>
                  <a:lnTo>
                    <a:pt x="150" y="1440"/>
                  </a:lnTo>
                  <a:lnTo>
                    <a:pt x="179" y="1447"/>
                  </a:lnTo>
                  <a:lnTo>
                    <a:pt x="207" y="1443"/>
                  </a:lnTo>
                  <a:lnTo>
                    <a:pt x="232" y="1420"/>
                  </a:lnTo>
                  <a:lnTo>
                    <a:pt x="256" y="1374"/>
                  </a:lnTo>
                  <a:lnTo>
                    <a:pt x="276" y="1299"/>
                  </a:lnTo>
                  <a:lnTo>
                    <a:pt x="295" y="1189"/>
                  </a:lnTo>
                  <a:lnTo>
                    <a:pt x="467" y="1075"/>
                  </a:lnTo>
                  <a:lnTo>
                    <a:pt x="629" y="946"/>
                  </a:lnTo>
                  <a:lnTo>
                    <a:pt x="780" y="809"/>
                  </a:lnTo>
                  <a:lnTo>
                    <a:pt x="922" y="674"/>
                  </a:lnTo>
                  <a:lnTo>
                    <a:pt x="1053" y="545"/>
                  </a:lnTo>
                  <a:lnTo>
                    <a:pt x="1176" y="431"/>
                  </a:lnTo>
                  <a:lnTo>
                    <a:pt x="1291" y="342"/>
                  </a:lnTo>
                  <a:lnTo>
                    <a:pt x="1400" y="284"/>
                  </a:lnTo>
                  <a:lnTo>
                    <a:pt x="1407" y="247"/>
                  </a:lnTo>
                  <a:lnTo>
                    <a:pt x="1409" y="205"/>
                  </a:lnTo>
                  <a:lnTo>
                    <a:pt x="1401" y="161"/>
                  </a:lnTo>
                  <a:lnTo>
                    <a:pt x="1386" y="117"/>
                  </a:lnTo>
                  <a:lnTo>
                    <a:pt x="1363" y="75"/>
                  </a:lnTo>
                  <a:lnTo>
                    <a:pt x="1338" y="40"/>
                  </a:lnTo>
                  <a:lnTo>
                    <a:pt x="1306" y="13"/>
                  </a:lnTo>
                  <a:lnTo>
                    <a:pt x="1271" y="0"/>
                  </a:lnTo>
                  <a:close/>
                </a:path>
              </a:pathLst>
            </a:custGeom>
            <a:solidFill>
              <a:srgbClr val="943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189040" y="4627800"/>
              <a:ext cx="648360" cy="416880"/>
            </a:xfrm>
            <a:custGeom>
              <a:avLst/>
              <a:gdLst/>
              <a:ahLst/>
              <a:rect l="l" t="t" r="r" b="b"/>
              <a:pathLst>
                <a:path w="1058" h="882">
                  <a:moveTo>
                    <a:pt x="1058" y="21"/>
                  </a:moveTo>
                  <a:lnTo>
                    <a:pt x="1040" y="16"/>
                  </a:lnTo>
                  <a:lnTo>
                    <a:pt x="1020" y="19"/>
                  </a:lnTo>
                  <a:lnTo>
                    <a:pt x="993" y="25"/>
                  </a:lnTo>
                  <a:lnTo>
                    <a:pt x="963" y="32"/>
                  </a:lnTo>
                  <a:lnTo>
                    <a:pt x="928" y="36"/>
                  </a:lnTo>
                  <a:lnTo>
                    <a:pt x="890" y="35"/>
                  </a:lnTo>
                  <a:lnTo>
                    <a:pt x="847" y="22"/>
                  </a:lnTo>
                  <a:lnTo>
                    <a:pt x="801" y="0"/>
                  </a:lnTo>
                  <a:lnTo>
                    <a:pt x="786" y="108"/>
                  </a:lnTo>
                  <a:lnTo>
                    <a:pt x="753" y="213"/>
                  </a:lnTo>
                  <a:lnTo>
                    <a:pt x="699" y="309"/>
                  </a:lnTo>
                  <a:lnTo>
                    <a:pt x="624" y="398"/>
                  </a:lnTo>
                  <a:lnTo>
                    <a:pt x="524" y="472"/>
                  </a:lnTo>
                  <a:lnTo>
                    <a:pt x="400" y="534"/>
                  </a:lnTo>
                  <a:lnTo>
                    <a:pt x="251" y="581"/>
                  </a:lnTo>
                  <a:lnTo>
                    <a:pt x="75" y="610"/>
                  </a:lnTo>
                  <a:lnTo>
                    <a:pt x="61" y="625"/>
                  </a:lnTo>
                  <a:lnTo>
                    <a:pt x="44" y="646"/>
                  </a:lnTo>
                  <a:lnTo>
                    <a:pt x="25" y="670"/>
                  </a:lnTo>
                  <a:lnTo>
                    <a:pt x="10" y="700"/>
                  </a:lnTo>
                  <a:lnTo>
                    <a:pt x="0" y="734"/>
                  </a:lnTo>
                  <a:lnTo>
                    <a:pt x="0" y="777"/>
                  </a:lnTo>
                  <a:lnTo>
                    <a:pt x="13" y="825"/>
                  </a:lnTo>
                  <a:lnTo>
                    <a:pt x="42" y="882"/>
                  </a:lnTo>
                  <a:lnTo>
                    <a:pt x="130" y="825"/>
                  </a:lnTo>
                  <a:lnTo>
                    <a:pt x="224" y="758"/>
                  </a:lnTo>
                  <a:lnTo>
                    <a:pt x="320" y="680"/>
                  </a:lnTo>
                  <a:lnTo>
                    <a:pt x="421" y="595"/>
                  </a:lnTo>
                  <a:lnTo>
                    <a:pt x="523" y="500"/>
                  </a:lnTo>
                  <a:lnTo>
                    <a:pt x="628" y="400"/>
                  </a:lnTo>
                  <a:lnTo>
                    <a:pt x="734" y="295"/>
                  </a:lnTo>
                  <a:lnTo>
                    <a:pt x="843" y="190"/>
                  </a:lnTo>
                  <a:lnTo>
                    <a:pt x="868" y="164"/>
                  </a:lnTo>
                  <a:lnTo>
                    <a:pt x="895" y="141"/>
                  </a:lnTo>
                  <a:lnTo>
                    <a:pt x="921" y="118"/>
                  </a:lnTo>
                  <a:lnTo>
                    <a:pt x="949" y="99"/>
                  </a:lnTo>
                  <a:lnTo>
                    <a:pt x="976" y="80"/>
                  </a:lnTo>
                  <a:lnTo>
                    <a:pt x="1003" y="62"/>
                  </a:lnTo>
                  <a:lnTo>
                    <a:pt x="1030" y="41"/>
                  </a:lnTo>
                  <a:lnTo>
                    <a:pt x="1058" y="21"/>
                  </a:lnTo>
                  <a:close/>
                </a:path>
              </a:pathLst>
            </a:custGeom>
            <a:solidFill>
              <a:srgbClr val="943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186160" y="4637160"/>
              <a:ext cx="651240" cy="407520"/>
            </a:xfrm>
            <a:custGeom>
              <a:avLst/>
              <a:gdLst/>
              <a:ahLst/>
              <a:rect l="l" t="t" r="r" b="b"/>
              <a:pathLst>
                <a:path w="1060" h="866">
                  <a:moveTo>
                    <a:pt x="1060" y="5"/>
                  </a:moveTo>
                  <a:lnTo>
                    <a:pt x="1037" y="4"/>
                  </a:lnTo>
                  <a:lnTo>
                    <a:pt x="1016" y="8"/>
                  </a:lnTo>
                  <a:lnTo>
                    <a:pt x="992" y="13"/>
                  </a:lnTo>
                  <a:lnTo>
                    <a:pt x="966" y="19"/>
                  </a:lnTo>
                  <a:lnTo>
                    <a:pt x="936" y="21"/>
                  </a:lnTo>
                  <a:lnTo>
                    <a:pt x="902" y="21"/>
                  </a:lnTo>
                  <a:lnTo>
                    <a:pt x="864" y="14"/>
                  </a:lnTo>
                  <a:lnTo>
                    <a:pt x="823" y="0"/>
                  </a:lnTo>
                  <a:lnTo>
                    <a:pt x="789" y="111"/>
                  </a:lnTo>
                  <a:lnTo>
                    <a:pt x="744" y="215"/>
                  </a:lnTo>
                  <a:lnTo>
                    <a:pt x="683" y="310"/>
                  </a:lnTo>
                  <a:lnTo>
                    <a:pt x="607" y="396"/>
                  </a:lnTo>
                  <a:lnTo>
                    <a:pt x="511" y="469"/>
                  </a:lnTo>
                  <a:lnTo>
                    <a:pt x="397" y="532"/>
                  </a:lnTo>
                  <a:lnTo>
                    <a:pt x="261" y="582"/>
                  </a:lnTo>
                  <a:lnTo>
                    <a:pt x="103" y="618"/>
                  </a:lnTo>
                  <a:lnTo>
                    <a:pt x="83" y="633"/>
                  </a:lnTo>
                  <a:lnTo>
                    <a:pt x="59" y="652"/>
                  </a:lnTo>
                  <a:lnTo>
                    <a:pt x="35" y="675"/>
                  </a:lnTo>
                  <a:lnTo>
                    <a:pt x="15" y="703"/>
                  </a:lnTo>
                  <a:lnTo>
                    <a:pt x="1" y="734"/>
                  </a:lnTo>
                  <a:lnTo>
                    <a:pt x="0" y="772"/>
                  </a:lnTo>
                  <a:lnTo>
                    <a:pt x="12" y="815"/>
                  </a:lnTo>
                  <a:lnTo>
                    <a:pt x="44" y="866"/>
                  </a:lnTo>
                  <a:lnTo>
                    <a:pt x="132" y="810"/>
                  </a:lnTo>
                  <a:lnTo>
                    <a:pt x="226" y="745"/>
                  </a:lnTo>
                  <a:lnTo>
                    <a:pt x="322" y="666"/>
                  </a:lnTo>
                  <a:lnTo>
                    <a:pt x="423" y="580"/>
                  </a:lnTo>
                  <a:lnTo>
                    <a:pt x="525" y="485"/>
                  </a:lnTo>
                  <a:lnTo>
                    <a:pt x="630" y="384"/>
                  </a:lnTo>
                  <a:lnTo>
                    <a:pt x="736" y="279"/>
                  </a:lnTo>
                  <a:lnTo>
                    <a:pt x="845" y="174"/>
                  </a:lnTo>
                  <a:lnTo>
                    <a:pt x="870" y="148"/>
                  </a:lnTo>
                  <a:lnTo>
                    <a:pt x="897" y="125"/>
                  </a:lnTo>
                  <a:lnTo>
                    <a:pt x="923" y="102"/>
                  </a:lnTo>
                  <a:lnTo>
                    <a:pt x="951" y="83"/>
                  </a:lnTo>
                  <a:lnTo>
                    <a:pt x="978" y="64"/>
                  </a:lnTo>
                  <a:lnTo>
                    <a:pt x="1005" y="46"/>
                  </a:lnTo>
                  <a:lnTo>
                    <a:pt x="1032" y="25"/>
                  </a:lnTo>
                  <a:lnTo>
                    <a:pt x="1060" y="5"/>
                  </a:lnTo>
                  <a:close/>
                </a:path>
              </a:pathLst>
            </a:custGeom>
            <a:solidFill>
              <a:srgbClr val="852b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184000" y="4638960"/>
              <a:ext cx="653400" cy="405720"/>
            </a:xfrm>
            <a:custGeom>
              <a:avLst/>
              <a:gdLst/>
              <a:ahLst/>
              <a:rect l="l" t="t" r="r" b="b"/>
              <a:pathLst>
                <a:path w="1063" h="861">
                  <a:moveTo>
                    <a:pt x="1063" y="0"/>
                  </a:moveTo>
                  <a:lnTo>
                    <a:pt x="1036" y="3"/>
                  </a:lnTo>
                  <a:lnTo>
                    <a:pt x="1014" y="8"/>
                  </a:lnTo>
                  <a:lnTo>
                    <a:pt x="991" y="13"/>
                  </a:lnTo>
                  <a:lnTo>
                    <a:pt x="969" y="18"/>
                  </a:lnTo>
                  <a:lnTo>
                    <a:pt x="944" y="20"/>
                  </a:lnTo>
                  <a:lnTo>
                    <a:pt x="916" y="22"/>
                  </a:lnTo>
                  <a:lnTo>
                    <a:pt x="884" y="19"/>
                  </a:lnTo>
                  <a:lnTo>
                    <a:pt x="846" y="13"/>
                  </a:lnTo>
                  <a:lnTo>
                    <a:pt x="793" y="125"/>
                  </a:lnTo>
                  <a:lnTo>
                    <a:pt x="735" y="229"/>
                  </a:lnTo>
                  <a:lnTo>
                    <a:pt x="667" y="321"/>
                  </a:lnTo>
                  <a:lnTo>
                    <a:pt x="590" y="406"/>
                  </a:lnTo>
                  <a:lnTo>
                    <a:pt x="497" y="478"/>
                  </a:lnTo>
                  <a:lnTo>
                    <a:pt x="392" y="541"/>
                  </a:lnTo>
                  <a:lnTo>
                    <a:pt x="271" y="594"/>
                  </a:lnTo>
                  <a:lnTo>
                    <a:pt x="132" y="640"/>
                  </a:lnTo>
                  <a:lnTo>
                    <a:pt x="103" y="654"/>
                  </a:lnTo>
                  <a:lnTo>
                    <a:pt x="72" y="673"/>
                  </a:lnTo>
                  <a:lnTo>
                    <a:pt x="43" y="694"/>
                  </a:lnTo>
                  <a:lnTo>
                    <a:pt x="19" y="719"/>
                  </a:lnTo>
                  <a:lnTo>
                    <a:pt x="3" y="747"/>
                  </a:lnTo>
                  <a:lnTo>
                    <a:pt x="0" y="780"/>
                  </a:lnTo>
                  <a:lnTo>
                    <a:pt x="13" y="818"/>
                  </a:lnTo>
                  <a:lnTo>
                    <a:pt x="47" y="861"/>
                  </a:lnTo>
                  <a:lnTo>
                    <a:pt x="135" y="808"/>
                  </a:lnTo>
                  <a:lnTo>
                    <a:pt x="229" y="742"/>
                  </a:lnTo>
                  <a:lnTo>
                    <a:pt x="325" y="664"/>
                  </a:lnTo>
                  <a:lnTo>
                    <a:pt x="426" y="578"/>
                  </a:lnTo>
                  <a:lnTo>
                    <a:pt x="528" y="482"/>
                  </a:lnTo>
                  <a:lnTo>
                    <a:pt x="633" y="381"/>
                  </a:lnTo>
                  <a:lnTo>
                    <a:pt x="739" y="276"/>
                  </a:lnTo>
                  <a:lnTo>
                    <a:pt x="848" y="169"/>
                  </a:lnTo>
                  <a:lnTo>
                    <a:pt x="873" y="143"/>
                  </a:lnTo>
                  <a:lnTo>
                    <a:pt x="900" y="120"/>
                  </a:lnTo>
                  <a:lnTo>
                    <a:pt x="926" y="97"/>
                  </a:lnTo>
                  <a:lnTo>
                    <a:pt x="954" y="78"/>
                  </a:lnTo>
                  <a:lnTo>
                    <a:pt x="981" y="59"/>
                  </a:lnTo>
                  <a:lnTo>
                    <a:pt x="1008" y="41"/>
                  </a:lnTo>
                  <a:lnTo>
                    <a:pt x="1035" y="20"/>
                  </a:lnTo>
                  <a:lnTo>
                    <a:pt x="1063" y="0"/>
                  </a:lnTo>
                  <a:close/>
                </a:path>
              </a:pathLst>
            </a:custGeom>
            <a:solidFill>
              <a:srgbClr val="7526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184000" y="4638960"/>
              <a:ext cx="653400" cy="405720"/>
            </a:xfrm>
            <a:custGeom>
              <a:avLst/>
              <a:gdLst/>
              <a:ahLst/>
              <a:rect l="l" t="t" r="r" b="b"/>
              <a:pathLst>
                <a:path w="1065" h="861">
                  <a:moveTo>
                    <a:pt x="1065" y="0"/>
                  </a:moveTo>
                  <a:lnTo>
                    <a:pt x="1034" y="6"/>
                  </a:lnTo>
                  <a:lnTo>
                    <a:pt x="1010" y="11"/>
                  </a:lnTo>
                  <a:lnTo>
                    <a:pt x="989" y="15"/>
                  </a:lnTo>
                  <a:lnTo>
                    <a:pt x="971" y="20"/>
                  </a:lnTo>
                  <a:lnTo>
                    <a:pt x="951" y="22"/>
                  </a:lnTo>
                  <a:lnTo>
                    <a:pt x="929" y="24"/>
                  </a:lnTo>
                  <a:lnTo>
                    <a:pt x="902" y="27"/>
                  </a:lnTo>
                  <a:lnTo>
                    <a:pt x="870" y="29"/>
                  </a:lnTo>
                  <a:lnTo>
                    <a:pt x="797" y="143"/>
                  </a:lnTo>
                  <a:lnTo>
                    <a:pt x="724" y="247"/>
                  </a:lnTo>
                  <a:lnTo>
                    <a:pt x="650" y="338"/>
                  </a:lnTo>
                  <a:lnTo>
                    <a:pt x="571" y="418"/>
                  </a:lnTo>
                  <a:lnTo>
                    <a:pt x="485" y="489"/>
                  </a:lnTo>
                  <a:lnTo>
                    <a:pt x="389" y="554"/>
                  </a:lnTo>
                  <a:lnTo>
                    <a:pt x="282" y="612"/>
                  </a:lnTo>
                  <a:lnTo>
                    <a:pt x="160" y="666"/>
                  </a:lnTo>
                  <a:lnTo>
                    <a:pt x="124" y="680"/>
                  </a:lnTo>
                  <a:lnTo>
                    <a:pt x="86" y="698"/>
                  </a:lnTo>
                  <a:lnTo>
                    <a:pt x="50" y="717"/>
                  </a:lnTo>
                  <a:lnTo>
                    <a:pt x="22" y="740"/>
                  </a:lnTo>
                  <a:lnTo>
                    <a:pt x="3" y="764"/>
                  </a:lnTo>
                  <a:lnTo>
                    <a:pt x="0" y="793"/>
                  </a:lnTo>
                  <a:lnTo>
                    <a:pt x="12" y="824"/>
                  </a:lnTo>
                  <a:lnTo>
                    <a:pt x="49" y="861"/>
                  </a:lnTo>
                  <a:lnTo>
                    <a:pt x="137" y="810"/>
                  </a:lnTo>
                  <a:lnTo>
                    <a:pt x="231" y="746"/>
                  </a:lnTo>
                  <a:lnTo>
                    <a:pt x="327" y="668"/>
                  </a:lnTo>
                  <a:lnTo>
                    <a:pt x="428" y="580"/>
                  </a:lnTo>
                  <a:lnTo>
                    <a:pt x="530" y="483"/>
                  </a:lnTo>
                  <a:lnTo>
                    <a:pt x="635" y="382"/>
                  </a:lnTo>
                  <a:lnTo>
                    <a:pt x="741" y="276"/>
                  </a:lnTo>
                  <a:lnTo>
                    <a:pt x="850" y="169"/>
                  </a:lnTo>
                  <a:lnTo>
                    <a:pt x="875" y="143"/>
                  </a:lnTo>
                  <a:lnTo>
                    <a:pt x="902" y="120"/>
                  </a:lnTo>
                  <a:lnTo>
                    <a:pt x="928" y="97"/>
                  </a:lnTo>
                  <a:lnTo>
                    <a:pt x="956" y="78"/>
                  </a:lnTo>
                  <a:lnTo>
                    <a:pt x="983" y="59"/>
                  </a:lnTo>
                  <a:lnTo>
                    <a:pt x="1010" y="41"/>
                  </a:lnTo>
                  <a:lnTo>
                    <a:pt x="1037" y="20"/>
                  </a:lnTo>
                  <a:lnTo>
                    <a:pt x="1065" y="0"/>
                  </a:lnTo>
                  <a:close/>
                </a:path>
              </a:pathLst>
            </a:custGeom>
            <a:solidFill>
              <a:srgbClr val="6921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181120" y="4638960"/>
              <a:ext cx="656280" cy="405720"/>
            </a:xfrm>
            <a:custGeom>
              <a:avLst/>
              <a:gdLst/>
              <a:ahLst/>
              <a:rect l="l" t="t" r="r" b="b"/>
              <a:pathLst>
                <a:path w="1069" h="861">
                  <a:moveTo>
                    <a:pt x="1069" y="0"/>
                  </a:moveTo>
                  <a:lnTo>
                    <a:pt x="1033" y="10"/>
                  </a:lnTo>
                  <a:lnTo>
                    <a:pt x="1009" y="18"/>
                  </a:lnTo>
                  <a:lnTo>
                    <a:pt x="990" y="20"/>
                  </a:lnTo>
                  <a:lnTo>
                    <a:pt x="976" y="24"/>
                  </a:lnTo>
                  <a:lnTo>
                    <a:pt x="961" y="25"/>
                  </a:lnTo>
                  <a:lnTo>
                    <a:pt x="945" y="29"/>
                  </a:lnTo>
                  <a:lnTo>
                    <a:pt x="923" y="34"/>
                  </a:lnTo>
                  <a:lnTo>
                    <a:pt x="896" y="46"/>
                  </a:lnTo>
                  <a:lnTo>
                    <a:pt x="803" y="162"/>
                  </a:lnTo>
                  <a:lnTo>
                    <a:pt x="718" y="264"/>
                  </a:lnTo>
                  <a:lnTo>
                    <a:pt x="637" y="353"/>
                  </a:lnTo>
                  <a:lnTo>
                    <a:pt x="558" y="432"/>
                  </a:lnTo>
                  <a:lnTo>
                    <a:pt x="474" y="502"/>
                  </a:lnTo>
                  <a:lnTo>
                    <a:pt x="388" y="566"/>
                  </a:lnTo>
                  <a:lnTo>
                    <a:pt x="295" y="628"/>
                  </a:lnTo>
                  <a:lnTo>
                    <a:pt x="193" y="690"/>
                  </a:lnTo>
                  <a:lnTo>
                    <a:pt x="146" y="704"/>
                  </a:lnTo>
                  <a:lnTo>
                    <a:pt x="101" y="721"/>
                  </a:lnTo>
                  <a:lnTo>
                    <a:pt x="59" y="740"/>
                  </a:lnTo>
                  <a:lnTo>
                    <a:pt x="28" y="760"/>
                  </a:lnTo>
                  <a:lnTo>
                    <a:pt x="5" y="781"/>
                  </a:lnTo>
                  <a:lnTo>
                    <a:pt x="0" y="805"/>
                  </a:lnTo>
                  <a:lnTo>
                    <a:pt x="14" y="832"/>
                  </a:lnTo>
                  <a:lnTo>
                    <a:pt x="53" y="861"/>
                  </a:lnTo>
                  <a:lnTo>
                    <a:pt x="141" y="812"/>
                  </a:lnTo>
                  <a:lnTo>
                    <a:pt x="235" y="748"/>
                  </a:lnTo>
                  <a:lnTo>
                    <a:pt x="331" y="670"/>
                  </a:lnTo>
                  <a:lnTo>
                    <a:pt x="432" y="583"/>
                  </a:lnTo>
                  <a:lnTo>
                    <a:pt x="534" y="485"/>
                  </a:lnTo>
                  <a:lnTo>
                    <a:pt x="639" y="383"/>
                  </a:lnTo>
                  <a:lnTo>
                    <a:pt x="745" y="276"/>
                  </a:lnTo>
                  <a:lnTo>
                    <a:pt x="854" y="169"/>
                  </a:lnTo>
                  <a:lnTo>
                    <a:pt x="879" y="143"/>
                  </a:lnTo>
                  <a:lnTo>
                    <a:pt x="906" y="120"/>
                  </a:lnTo>
                  <a:lnTo>
                    <a:pt x="932" y="97"/>
                  </a:lnTo>
                  <a:lnTo>
                    <a:pt x="960" y="78"/>
                  </a:lnTo>
                  <a:lnTo>
                    <a:pt x="987" y="59"/>
                  </a:lnTo>
                  <a:lnTo>
                    <a:pt x="1014" y="41"/>
                  </a:lnTo>
                  <a:lnTo>
                    <a:pt x="1041" y="20"/>
                  </a:lnTo>
                  <a:lnTo>
                    <a:pt x="1069" y="0"/>
                  </a:lnTo>
                  <a:close/>
                </a:path>
              </a:pathLst>
            </a:custGeom>
            <a:solidFill>
              <a:srgbClr val="591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178960" y="4638960"/>
              <a:ext cx="658440" cy="405720"/>
            </a:xfrm>
            <a:custGeom>
              <a:avLst/>
              <a:gdLst/>
              <a:ahLst/>
              <a:rect l="l" t="t" r="r" b="b"/>
              <a:pathLst>
                <a:path w="1072" h="861">
                  <a:moveTo>
                    <a:pt x="1072" y="0"/>
                  </a:moveTo>
                  <a:lnTo>
                    <a:pt x="1033" y="14"/>
                  </a:lnTo>
                  <a:lnTo>
                    <a:pt x="1007" y="22"/>
                  </a:lnTo>
                  <a:lnTo>
                    <a:pt x="990" y="24"/>
                  </a:lnTo>
                  <a:lnTo>
                    <a:pt x="979" y="27"/>
                  </a:lnTo>
                  <a:lnTo>
                    <a:pt x="969" y="28"/>
                  </a:lnTo>
                  <a:lnTo>
                    <a:pt x="959" y="33"/>
                  </a:lnTo>
                  <a:lnTo>
                    <a:pt x="943" y="42"/>
                  </a:lnTo>
                  <a:lnTo>
                    <a:pt x="920" y="62"/>
                  </a:lnTo>
                  <a:lnTo>
                    <a:pt x="807" y="181"/>
                  </a:lnTo>
                  <a:lnTo>
                    <a:pt x="710" y="282"/>
                  </a:lnTo>
                  <a:lnTo>
                    <a:pt x="621" y="369"/>
                  </a:lnTo>
                  <a:lnTo>
                    <a:pt x="540" y="446"/>
                  </a:lnTo>
                  <a:lnTo>
                    <a:pt x="462" y="515"/>
                  </a:lnTo>
                  <a:lnTo>
                    <a:pt x="386" y="580"/>
                  </a:lnTo>
                  <a:lnTo>
                    <a:pt x="306" y="646"/>
                  </a:lnTo>
                  <a:lnTo>
                    <a:pt x="223" y="716"/>
                  </a:lnTo>
                  <a:lnTo>
                    <a:pt x="168" y="729"/>
                  </a:lnTo>
                  <a:lnTo>
                    <a:pt x="117" y="746"/>
                  </a:lnTo>
                  <a:lnTo>
                    <a:pt x="70" y="761"/>
                  </a:lnTo>
                  <a:lnTo>
                    <a:pt x="32" y="780"/>
                  </a:lnTo>
                  <a:lnTo>
                    <a:pt x="7" y="798"/>
                  </a:lnTo>
                  <a:lnTo>
                    <a:pt x="0" y="818"/>
                  </a:lnTo>
                  <a:lnTo>
                    <a:pt x="14" y="838"/>
                  </a:lnTo>
                  <a:lnTo>
                    <a:pt x="56" y="861"/>
                  </a:lnTo>
                  <a:lnTo>
                    <a:pt x="144" y="813"/>
                  </a:lnTo>
                  <a:lnTo>
                    <a:pt x="238" y="750"/>
                  </a:lnTo>
                  <a:lnTo>
                    <a:pt x="334" y="673"/>
                  </a:lnTo>
                  <a:lnTo>
                    <a:pt x="435" y="585"/>
                  </a:lnTo>
                  <a:lnTo>
                    <a:pt x="537" y="487"/>
                  </a:lnTo>
                  <a:lnTo>
                    <a:pt x="642" y="383"/>
                  </a:lnTo>
                  <a:lnTo>
                    <a:pt x="748" y="276"/>
                  </a:lnTo>
                  <a:lnTo>
                    <a:pt x="857" y="169"/>
                  </a:lnTo>
                  <a:lnTo>
                    <a:pt x="882" y="143"/>
                  </a:lnTo>
                  <a:lnTo>
                    <a:pt x="909" y="120"/>
                  </a:lnTo>
                  <a:lnTo>
                    <a:pt x="935" y="97"/>
                  </a:lnTo>
                  <a:lnTo>
                    <a:pt x="963" y="78"/>
                  </a:lnTo>
                  <a:lnTo>
                    <a:pt x="990" y="59"/>
                  </a:lnTo>
                  <a:lnTo>
                    <a:pt x="1017" y="41"/>
                  </a:lnTo>
                  <a:lnTo>
                    <a:pt x="1044" y="20"/>
                  </a:lnTo>
                  <a:lnTo>
                    <a:pt x="1072" y="0"/>
                  </a:lnTo>
                  <a:close/>
                </a:path>
              </a:pathLst>
            </a:custGeom>
            <a:solidFill>
              <a:srgbClr val="4d1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088240" y="4989960"/>
              <a:ext cx="51120" cy="75240"/>
            </a:xfrm>
            <a:custGeom>
              <a:avLst/>
              <a:gdLst/>
              <a:ahLst/>
              <a:rect l="l" t="t" r="r" b="b"/>
              <a:pathLst>
                <a:path w="84" h="159">
                  <a:moveTo>
                    <a:pt x="43" y="0"/>
                  </a:moveTo>
                  <a:lnTo>
                    <a:pt x="33" y="0"/>
                  </a:lnTo>
                  <a:lnTo>
                    <a:pt x="25" y="5"/>
                  </a:lnTo>
                  <a:lnTo>
                    <a:pt x="18" y="12"/>
                  </a:lnTo>
                  <a:lnTo>
                    <a:pt x="12" y="22"/>
                  </a:lnTo>
                  <a:lnTo>
                    <a:pt x="5" y="34"/>
                  </a:lnTo>
                  <a:lnTo>
                    <a:pt x="3" y="48"/>
                  </a:lnTo>
                  <a:lnTo>
                    <a:pt x="0" y="63"/>
                  </a:lnTo>
                  <a:lnTo>
                    <a:pt x="0" y="81"/>
                  </a:lnTo>
                  <a:lnTo>
                    <a:pt x="0" y="94"/>
                  </a:lnTo>
                  <a:lnTo>
                    <a:pt x="3" y="110"/>
                  </a:lnTo>
                  <a:lnTo>
                    <a:pt x="5" y="122"/>
                  </a:lnTo>
                  <a:lnTo>
                    <a:pt x="12" y="135"/>
                  </a:lnTo>
                  <a:lnTo>
                    <a:pt x="18" y="144"/>
                  </a:lnTo>
                  <a:lnTo>
                    <a:pt x="25" y="153"/>
                  </a:lnTo>
                  <a:lnTo>
                    <a:pt x="33" y="156"/>
                  </a:lnTo>
                  <a:lnTo>
                    <a:pt x="43" y="159"/>
                  </a:lnTo>
                  <a:lnTo>
                    <a:pt x="50" y="156"/>
                  </a:lnTo>
                  <a:lnTo>
                    <a:pt x="57" y="153"/>
                  </a:lnTo>
                  <a:lnTo>
                    <a:pt x="63" y="144"/>
                  </a:lnTo>
                  <a:lnTo>
                    <a:pt x="71" y="135"/>
                  </a:lnTo>
                  <a:lnTo>
                    <a:pt x="75" y="122"/>
                  </a:lnTo>
                  <a:lnTo>
                    <a:pt x="80" y="110"/>
                  </a:lnTo>
                  <a:lnTo>
                    <a:pt x="82" y="94"/>
                  </a:lnTo>
                  <a:lnTo>
                    <a:pt x="84" y="81"/>
                  </a:lnTo>
                  <a:lnTo>
                    <a:pt x="82" y="63"/>
                  </a:lnTo>
                  <a:lnTo>
                    <a:pt x="80" y="48"/>
                  </a:lnTo>
                  <a:lnTo>
                    <a:pt x="75" y="34"/>
                  </a:lnTo>
                  <a:lnTo>
                    <a:pt x="71" y="22"/>
                  </a:lnTo>
                  <a:lnTo>
                    <a:pt x="63" y="12"/>
                  </a:lnTo>
                  <a:lnTo>
                    <a:pt x="57" y="5"/>
                  </a:lnTo>
                  <a:lnTo>
                    <a:pt x="50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3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417280" y="4765320"/>
              <a:ext cx="48960" cy="77400"/>
            </a:xfrm>
            <a:custGeom>
              <a:avLst/>
              <a:gdLst/>
              <a:ahLst/>
              <a:rect l="l" t="t" r="r" b="b"/>
              <a:pathLst>
                <a:path w="81" h="163">
                  <a:moveTo>
                    <a:pt x="41" y="0"/>
                  </a:moveTo>
                  <a:lnTo>
                    <a:pt x="32" y="2"/>
                  </a:lnTo>
                  <a:lnTo>
                    <a:pt x="24" y="7"/>
                  </a:lnTo>
                  <a:lnTo>
                    <a:pt x="17" y="13"/>
                  </a:lnTo>
                  <a:lnTo>
                    <a:pt x="12" y="24"/>
                  </a:lnTo>
                  <a:lnTo>
                    <a:pt x="5" y="34"/>
                  </a:lnTo>
                  <a:lnTo>
                    <a:pt x="3" y="50"/>
                  </a:lnTo>
                  <a:lnTo>
                    <a:pt x="0" y="65"/>
                  </a:lnTo>
                  <a:lnTo>
                    <a:pt x="0" y="82"/>
                  </a:lnTo>
                  <a:lnTo>
                    <a:pt x="0" y="98"/>
                  </a:lnTo>
                  <a:lnTo>
                    <a:pt x="3" y="113"/>
                  </a:lnTo>
                  <a:lnTo>
                    <a:pt x="5" y="127"/>
                  </a:lnTo>
                  <a:lnTo>
                    <a:pt x="12" y="139"/>
                  </a:lnTo>
                  <a:lnTo>
                    <a:pt x="17" y="148"/>
                  </a:lnTo>
                  <a:lnTo>
                    <a:pt x="24" y="156"/>
                  </a:lnTo>
                  <a:lnTo>
                    <a:pt x="32" y="161"/>
                  </a:lnTo>
                  <a:lnTo>
                    <a:pt x="41" y="163"/>
                  </a:lnTo>
                  <a:lnTo>
                    <a:pt x="48" y="161"/>
                  </a:lnTo>
                  <a:lnTo>
                    <a:pt x="56" y="156"/>
                  </a:lnTo>
                  <a:lnTo>
                    <a:pt x="62" y="148"/>
                  </a:lnTo>
                  <a:lnTo>
                    <a:pt x="70" y="139"/>
                  </a:lnTo>
                  <a:lnTo>
                    <a:pt x="74" y="127"/>
                  </a:lnTo>
                  <a:lnTo>
                    <a:pt x="78" y="113"/>
                  </a:lnTo>
                  <a:lnTo>
                    <a:pt x="80" y="98"/>
                  </a:lnTo>
                  <a:lnTo>
                    <a:pt x="81" y="82"/>
                  </a:lnTo>
                  <a:lnTo>
                    <a:pt x="80" y="65"/>
                  </a:lnTo>
                  <a:lnTo>
                    <a:pt x="78" y="50"/>
                  </a:lnTo>
                  <a:lnTo>
                    <a:pt x="74" y="34"/>
                  </a:lnTo>
                  <a:lnTo>
                    <a:pt x="70" y="24"/>
                  </a:lnTo>
                  <a:lnTo>
                    <a:pt x="62" y="13"/>
                  </a:lnTo>
                  <a:lnTo>
                    <a:pt x="56" y="7"/>
                  </a:lnTo>
                  <a:lnTo>
                    <a:pt x="48" y="2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3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726880" y="4565160"/>
              <a:ext cx="51480" cy="73440"/>
            </a:xfrm>
            <a:custGeom>
              <a:avLst/>
              <a:gdLst/>
              <a:ahLst/>
              <a:rect l="l" t="t" r="r" b="b"/>
              <a:pathLst>
                <a:path w="84" h="160">
                  <a:moveTo>
                    <a:pt x="43" y="0"/>
                  </a:moveTo>
                  <a:lnTo>
                    <a:pt x="33" y="0"/>
                  </a:lnTo>
                  <a:lnTo>
                    <a:pt x="26" y="5"/>
                  </a:lnTo>
                  <a:lnTo>
                    <a:pt x="18" y="13"/>
                  </a:lnTo>
                  <a:lnTo>
                    <a:pt x="12" y="23"/>
                  </a:lnTo>
                  <a:lnTo>
                    <a:pt x="6" y="33"/>
                  </a:lnTo>
                  <a:lnTo>
                    <a:pt x="3" y="47"/>
                  </a:lnTo>
                  <a:lnTo>
                    <a:pt x="0" y="62"/>
                  </a:lnTo>
                  <a:lnTo>
                    <a:pt x="0" y="79"/>
                  </a:lnTo>
                  <a:lnTo>
                    <a:pt x="0" y="94"/>
                  </a:lnTo>
                  <a:lnTo>
                    <a:pt x="3" y="110"/>
                  </a:lnTo>
                  <a:lnTo>
                    <a:pt x="6" y="123"/>
                  </a:lnTo>
                  <a:lnTo>
                    <a:pt x="12" y="136"/>
                  </a:lnTo>
                  <a:lnTo>
                    <a:pt x="18" y="144"/>
                  </a:lnTo>
                  <a:lnTo>
                    <a:pt x="26" y="153"/>
                  </a:lnTo>
                  <a:lnTo>
                    <a:pt x="33" y="157"/>
                  </a:lnTo>
                  <a:lnTo>
                    <a:pt x="43" y="160"/>
                  </a:lnTo>
                  <a:lnTo>
                    <a:pt x="50" y="157"/>
                  </a:lnTo>
                  <a:lnTo>
                    <a:pt x="57" y="153"/>
                  </a:lnTo>
                  <a:lnTo>
                    <a:pt x="64" y="144"/>
                  </a:lnTo>
                  <a:lnTo>
                    <a:pt x="71" y="136"/>
                  </a:lnTo>
                  <a:lnTo>
                    <a:pt x="75" y="123"/>
                  </a:lnTo>
                  <a:lnTo>
                    <a:pt x="80" y="110"/>
                  </a:lnTo>
                  <a:lnTo>
                    <a:pt x="83" y="94"/>
                  </a:lnTo>
                  <a:lnTo>
                    <a:pt x="84" y="79"/>
                  </a:lnTo>
                  <a:lnTo>
                    <a:pt x="83" y="62"/>
                  </a:lnTo>
                  <a:lnTo>
                    <a:pt x="80" y="47"/>
                  </a:lnTo>
                  <a:lnTo>
                    <a:pt x="75" y="33"/>
                  </a:lnTo>
                  <a:lnTo>
                    <a:pt x="71" y="23"/>
                  </a:lnTo>
                  <a:lnTo>
                    <a:pt x="64" y="13"/>
                  </a:lnTo>
                  <a:lnTo>
                    <a:pt x="57" y="5"/>
                  </a:lnTo>
                  <a:lnTo>
                    <a:pt x="50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3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100480" y="4993560"/>
              <a:ext cx="36720" cy="69840"/>
            </a:xfrm>
            <a:custGeom>
              <a:avLst/>
              <a:gdLst/>
              <a:ahLst/>
              <a:rect l="l" t="t" r="r" b="b"/>
              <a:pathLst>
                <a:path w="57" h="148">
                  <a:moveTo>
                    <a:pt x="29" y="0"/>
                  </a:moveTo>
                  <a:lnTo>
                    <a:pt x="22" y="0"/>
                  </a:lnTo>
                  <a:lnTo>
                    <a:pt x="17" y="5"/>
                  </a:lnTo>
                  <a:lnTo>
                    <a:pt x="12" y="12"/>
                  </a:lnTo>
                  <a:lnTo>
                    <a:pt x="9" y="20"/>
                  </a:lnTo>
                  <a:lnTo>
                    <a:pt x="3" y="31"/>
                  </a:lnTo>
                  <a:lnTo>
                    <a:pt x="1" y="43"/>
                  </a:lnTo>
                  <a:lnTo>
                    <a:pt x="0" y="57"/>
                  </a:lnTo>
                  <a:lnTo>
                    <a:pt x="0" y="74"/>
                  </a:lnTo>
                  <a:lnTo>
                    <a:pt x="0" y="87"/>
                  </a:lnTo>
                  <a:lnTo>
                    <a:pt x="1" y="101"/>
                  </a:lnTo>
                  <a:lnTo>
                    <a:pt x="3" y="113"/>
                  </a:lnTo>
                  <a:lnTo>
                    <a:pt x="9" y="125"/>
                  </a:lnTo>
                  <a:lnTo>
                    <a:pt x="12" y="134"/>
                  </a:lnTo>
                  <a:lnTo>
                    <a:pt x="17" y="142"/>
                  </a:lnTo>
                  <a:lnTo>
                    <a:pt x="22" y="146"/>
                  </a:lnTo>
                  <a:lnTo>
                    <a:pt x="29" y="148"/>
                  </a:lnTo>
                  <a:lnTo>
                    <a:pt x="33" y="146"/>
                  </a:lnTo>
                  <a:lnTo>
                    <a:pt x="38" y="142"/>
                  </a:lnTo>
                  <a:lnTo>
                    <a:pt x="43" y="134"/>
                  </a:lnTo>
                  <a:lnTo>
                    <a:pt x="48" y="125"/>
                  </a:lnTo>
                  <a:lnTo>
                    <a:pt x="50" y="113"/>
                  </a:lnTo>
                  <a:lnTo>
                    <a:pt x="54" y="101"/>
                  </a:lnTo>
                  <a:lnTo>
                    <a:pt x="55" y="87"/>
                  </a:lnTo>
                  <a:lnTo>
                    <a:pt x="57" y="74"/>
                  </a:lnTo>
                  <a:lnTo>
                    <a:pt x="55" y="57"/>
                  </a:lnTo>
                  <a:lnTo>
                    <a:pt x="54" y="43"/>
                  </a:lnTo>
                  <a:lnTo>
                    <a:pt x="50" y="31"/>
                  </a:lnTo>
                  <a:lnTo>
                    <a:pt x="48" y="20"/>
                  </a:lnTo>
                  <a:lnTo>
                    <a:pt x="43" y="12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429520" y="4769280"/>
              <a:ext cx="33840" cy="69480"/>
            </a:xfrm>
            <a:custGeom>
              <a:avLst/>
              <a:gdLst/>
              <a:ahLst/>
              <a:rect l="l" t="t" r="r" b="b"/>
              <a:pathLst>
                <a:path w="54" h="148">
                  <a:moveTo>
                    <a:pt x="26" y="0"/>
                  </a:moveTo>
                  <a:lnTo>
                    <a:pt x="20" y="0"/>
                  </a:lnTo>
                  <a:lnTo>
                    <a:pt x="15" y="5"/>
                  </a:lnTo>
                  <a:lnTo>
                    <a:pt x="10" y="11"/>
                  </a:lnTo>
                  <a:lnTo>
                    <a:pt x="7" y="21"/>
                  </a:lnTo>
                  <a:lnTo>
                    <a:pt x="4" y="32"/>
                  </a:lnTo>
                  <a:lnTo>
                    <a:pt x="1" y="45"/>
                  </a:lnTo>
                  <a:lnTo>
                    <a:pt x="0" y="59"/>
                  </a:lnTo>
                  <a:lnTo>
                    <a:pt x="0" y="74"/>
                  </a:lnTo>
                  <a:lnTo>
                    <a:pt x="0" y="88"/>
                  </a:lnTo>
                  <a:lnTo>
                    <a:pt x="1" y="102"/>
                  </a:lnTo>
                  <a:lnTo>
                    <a:pt x="4" y="114"/>
                  </a:lnTo>
                  <a:lnTo>
                    <a:pt x="7" y="126"/>
                  </a:lnTo>
                  <a:lnTo>
                    <a:pt x="10" y="134"/>
                  </a:lnTo>
                  <a:lnTo>
                    <a:pt x="15" y="141"/>
                  </a:lnTo>
                  <a:lnTo>
                    <a:pt x="20" y="145"/>
                  </a:lnTo>
                  <a:lnTo>
                    <a:pt x="26" y="148"/>
                  </a:lnTo>
                  <a:lnTo>
                    <a:pt x="31" y="145"/>
                  </a:lnTo>
                  <a:lnTo>
                    <a:pt x="37" y="141"/>
                  </a:lnTo>
                  <a:lnTo>
                    <a:pt x="40" y="134"/>
                  </a:lnTo>
                  <a:lnTo>
                    <a:pt x="45" y="126"/>
                  </a:lnTo>
                  <a:lnTo>
                    <a:pt x="48" y="114"/>
                  </a:lnTo>
                  <a:lnTo>
                    <a:pt x="52" y="102"/>
                  </a:lnTo>
                  <a:lnTo>
                    <a:pt x="53" y="88"/>
                  </a:lnTo>
                  <a:lnTo>
                    <a:pt x="54" y="74"/>
                  </a:lnTo>
                  <a:lnTo>
                    <a:pt x="53" y="59"/>
                  </a:lnTo>
                  <a:lnTo>
                    <a:pt x="52" y="45"/>
                  </a:lnTo>
                  <a:lnTo>
                    <a:pt x="48" y="32"/>
                  </a:lnTo>
                  <a:lnTo>
                    <a:pt x="45" y="21"/>
                  </a:lnTo>
                  <a:lnTo>
                    <a:pt x="40" y="11"/>
                  </a:lnTo>
                  <a:lnTo>
                    <a:pt x="37" y="5"/>
                  </a:lnTo>
                  <a:lnTo>
                    <a:pt x="31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41640" y="4567320"/>
              <a:ext cx="33840" cy="69480"/>
            </a:xfrm>
            <a:custGeom>
              <a:avLst/>
              <a:gdLst/>
              <a:ahLst/>
              <a:rect l="l" t="t" r="r" b="b"/>
              <a:pathLst>
                <a:path w="57" h="151">
                  <a:moveTo>
                    <a:pt x="28" y="0"/>
                  </a:moveTo>
                  <a:lnTo>
                    <a:pt x="21" y="0"/>
                  </a:lnTo>
                  <a:lnTo>
                    <a:pt x="16" y="5"/>
                  </a:lnTo>
                  <a:lnTo>
                    <a:pt x="11" y="11"/>
                  </a:lnTo>
                  <a:lnTo>
                    <a:pt x="8" y="22"/>
                  </a:lnTo>
                  <a:lnTo>
                    <a:pt x="4" y="32"/>
                  </a:lnTo>
                  <a:lnTo>
                    <a:pt x="1" y="46"/>
                  </a:lnTo>
                  <a:lnTo>
                    <a:pt x="0" y="60"/>
                  </a:lnTo>
                  <a:lnTo>
                    <a:pt x="0" y="75"/>
                  </a:lnTo>
                  <a:lnTo>
                    <a:pt x="0" y="89"/>
                  </a:lnTo>
                  <a:lnTo>
                    <a:pt x="1" y="104"/>
                  </a:lnTo>
                  <a:lnTo>
                    <a:pt x="4" y="116"/>
                  </a:lnTo>
                  <a:lnTo>
                    <a:pt x="8" y="128"/>
                  </a:lnTo>
                  <a:lnTo>
                    <a:pt x="11" y="137"/>
                  </a:lnTo>
                  <a:lnTo>
                    <a:pt x="16" y="144"/>
                  </a:lnTo>
                  <a:lnTo>
                    <a:pt x="21" y="148"/>
                  </a:lnTo>
                  <a:lnTo>
                    <a:pt x="28" y="151"/>
                  </a:lnTo>
                  <a:lnTo>
                    <a:pt x="33" y="148"/>
                  </a:lnTo>
                  <a:lnTo>
                    <a:pt x="38" y="144"/>
                  </a:lnTo>
                  <a:lnTo>
                    <a:pt x="43" y="137"/>
                  </a:lnTo>
                  <a:lnTo>
                    <a:pt x="48" y="128"/>
                  </a:lnTo>
                  <a:lnTo>
                    <a:pt x="51" y="116"/>
                  </a:lnTo>
                  <a:lnTo>
                    <a:pt x="54" y="104"/>
                  </a:lnTo>
                  <a:lnTo>
                    <a:pt x="56" y="89"/>
                  </a:lnTo>
                  <a:lnTo>
                    <a:pt x="57" y="75"/>
                  </a:lnTo>
                  <a:lnTo>
                    <a:pt x="56" y="60"/>
                  </a:lnTo>
                  <a:lnTo>
                    <a:pt x="54" y="46"/>
                  </a:lnTo>
                  <a:lnTo>
                    <a:pt x="51" y="32"/>
                  </a:lnTo>
                  <a:lnTo>
                    <a:pt x="48" y="22"/>
                  </a:lnTo>
                  <a:lnTo>
                    <a:pt x="43" y="11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783400" y="3735360"/>
              <a:ext cx="1316520" cy="1173240"/>
            </a:xfrm>
            <a:custGeom>
              <a:avLst/>
              <a:gdLst/>
              <a:ahLst/>
              <a:rect l="l" t="t" r="r" b="b"/>
              <a:pathLst>
                <a:path w="2145" h="2488">
                  <a:moveTo>
                    <a:pt x="0" y="1555"/>
                  </a:moveTo>
                  <a:lnTo>
                    <a:pt x="223" y="1360"/>
                  </a:lnTo>
                  <a:lnTo>
                    <a:pt x="453" y="1167"/>
                  </a:lnTo>
                  <a:lnTo>
                    <a:pt x="686" y="973"/>
                  </a:lnTo>
                  <a:lnTo>
                    <a:pt x="922" y="780"/>
                  </a:lnTo>
                  <a:lnTo>
                    <a:pt x="1158" y="585"/>
                  </a:lnTo>
                  <a:lnTo>
                    <a:pt x="1392" y="392"/>
                  </a:lnTo>
                  <a:lnTo>
                    <a:pt x="1621" y="198"/>
                  </a:lnTo>
                  <a:lnTo>
                    <a:pt x="1845" y="5"/>
                  </a:lnTo>
                  <a:lnTo>
                    <a:pt x="1859" y="4"/>
                  </a:lnTo>
                  <a:lnTo>
                    <a:pt x="1868" y="4"/>
                  </a:lnTo>
                  <a:lnTo>
                    <a:pt x="1871" y="2"/>
                  </a:lnTo>
                  <a:lnTo>
                    <a:pt x="1874" y="2"/>
                  </a:lnTo>
                  <a:lnTo>
                    <a:pt x="1875" y="1"/>
                  </a:lnTo>
                  <a:lnTo>
                    <a:pt x="1880" y="0"/>
                  </a:lnTo>
                  <a:lnTo>
                    <a:pt x="1888" y="0"/>
                  </a:lnTo>
                  <a:lnTo>
                    <a:pt x="1904" y="0"/>
                  </a:lnTo>
                  <a:lnTo>
                    <a:pt x="1947" y="145"/>
                  </a:lnTo>
                  <a:lnTo>
                    <a:pt x="1999" y="325"/>
                  </a:lnTo>
                  <a:lnTo>
                    <a:pt x="2051" y="521"/>
                  </a:lnTo>
                  <a:lnTo>
                    <a:pt x="2098" y="723"/>
                  </a:lnTo>
                  <a:lnTo>
                    <a:pt x="2131" y="913"/>
                  </a:lnTo>
                  <a:lnTo>
                    <a:pt x="2145" y="1078"/>
                  </a:lnTo>
                  <a:lnTo>
                    <a:pt x="2132" y="1205"/>
                  </a:lnTo>
                  <a:lnTo>
                    <a:pt x="2090" y="1278"/>
                  </a:lnTo>
                  <a:lnTo>
                    <a:pt x="1905" y="1488"/>
                  </a:lnTo>
                  <a:lnTo>
                    <a:pt x="1706" y="1685"/>
                  </a:lnTo>
                  <a:lnTo>
                    <a:pt x="1501" y="1864"/>
                  </a:lnTo>
                  <a:lnTo>
                    <a:pt x="1304" y="2021"/>
                  </a:lnTo>
                  <a:lnTo>
                    <a:pt x="1125" y="2151"/>
                  </a:lnTo>
                  <a:lnTo>
                    <a:pt x="977" y="2251"/>
                  </a:lnTo>
                  <a:lnTo>
                    <a:pt x="869" y="2318"/>
                  </a:lnTo>
                  <a:lnTo>
                    <a:pt x="816" y="2347"/>
                  </a:lnTo>
                  <a:lnTo>
                    <a:pt x="798" y="2355"/>
                  </a:lnTo>
                  <a:lnTo>
                    <a:pt x="758" y="2373"/>
                  </a:lnTo>
                  <a:lnTo>
                    <a:pt x="702" y="2395"/>
                  </a:lnTo>
                  <a:lnTo>
                    <a:pt x="640" y="2423"/>
                  </a:lnTo>
                  <a:lnTo>
                    <a:pt x="577" y="2449"/>
                  </a:lnTo>
                  <a:lnTo>
                    <a:pt x="521" y="2470"/>
                  </a:lnTo>
                  <a:lnTo>
                    <a:pt x="481" y="2484"/>
                  </a:lnTo>
                  <a:lnTo>
                    <a:pt x="464" y="2488"/>
                  </a:lnTo>
                  <a:lnTo>
                    <a:pt x="424" y="2418"/>
                  </a:lnTo>
                  <a:lnTo>
                    <a:pt x="399" y="2344"/>
                  </a:lnTo>
                  <a:lnTo>
                    <a:pt x="377" y="2260"/>
                  </a:lnTo>
                  <a:lnTo>
                    <a:pt x="353" y="2163"/>
                  </a:lnTo>
                  <a:lnTo>
                    <a:pt x="313" y="2047"/>
                  </a:lnTo>
                  <a:lnTo>
                    <a:pt x="247" y="1910"/>
                  </a:lnTo>
                  <a:lnTo>
                    <a:pt x="146" y="1747"/>
                  </a:lnTo>
                  <a:lnTo>
                    <a:pt x="0" y="1555"/>
                  </a:lnTo>
                  <a:close/>
                </a:path>
              </a:pathLst>
            </a:custGeom>
            <a:solidFill>
              <a:srgbClr val="0f0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03200" y="3733920"/>
              <a:ext cx="1297080" cy="1178640"/>
            </a:xfrm>
            <a:custGeom>
              <a:avLst/>
              <a:gdLst/>
              <a:ahLst/>
              <a:rect l="l" t="t" r="r" b="b"/>
              <a:pathLst>
                <a:path w="2112" h="2498">
                  <a:moveTo>
                    <a:pt x="0" y="1563"/>
                  </a:moveTo>
                  <a:lnTo>
                    <a:pt x="165" y="1416"/>
                  </a:lnTo>
                  <a:lnTo>
                    <a:pt x="346" y="1264"/>
                  </a:lnTo>
                  <a:lnTo>
                    <a:pt x="534" y="1104"/>
                  </a:lnTo>
                  <a:lnTo>
                    <a:pt x="733" y="941"/>
                  </a:lnTo>
                  <a:lnTo>
                    <a:pt x="935" y="771"/>
                  </a:lnTo>
                  <a:lnTo>
                    <a:pt x="1140" y="600"/>
                  </a:lnTo>
                  <a:lnTo>
                    <a:pt x="1344" y="425"/>
                  </a:lnTo>
                  <a:lnTo>
                    <a:pt x="1547" y="251"/>
                  </a:lnTo>
                  <a:lnTo>
                    <a:pt x="1607" y="205"/>
                  </a:lnTo>
                  <a:lnTo>
                    <a:pt x="1662" y="161"/>
                  </a:lnTo>
                  <a:lnTo>
                    <a:pt x="1711" y="120"/>
                  </a:lnTo>
                  <a:lnTo>
                    <a:pt x="1754" y="84"/>
                  </a:lnTo>
                  <a:lnTo>
                    <a:pt x="1791" y="51"/>
                  </a:lnTo>
                  <a:lnTo>
                    <a:pt x="1821" y="26"/>
                  </a:lnTo>
                  <a:lnTo>
                    <a:pt x="1846" y="8"/>
                  </a:lnTo>
                  <a:lnTo>
                    <a:pt x="1867" y="0"/>
                  </a:lnTo>
                  <a:lnTo>
                    <a:pt x="1910" y="133"/>
                  </a:lnTo>
                  <a:lnTo>
                    <a:pt x="1962" y="302"/>
                  </a:lnTo>
                  <a:lnTo>
                    <a:pt x="2013" y="491"/>
                  </a:lnTo>
                  <a:lnTo>
                    <a:pt x="2060" y="688"/>
                  </a:lnTo>
                  <a:lnTo>
                    <a:pt x="2094" y="878"/>
                  </a:lnTo>
                  <a:lnTo>
                    <a:pt x="2112" y="1050"/>
                  </a:lnTo>
                  <a:lnTo>
                    <a:pt x="2105" y="1186"/>
                  </a:lnTo>
                  <a:lnTo>
                    <a:pt x="2070" y="1277"/>
                  </a:lnTo>
                  <a:lnTo>
                    <a:pt x="1945" y="1420"/>
                  </a:lnTo>
                  <a:lnTo>
                    <a:pt x="1810" y="1555"/>
                  </a:lnTo>
                  <a:lnTo>
                    <a:pt x="1671" y="1678"/>
                  </a:lnTo>
                  <a:lnTo>
                    <a:pt x="1538" y="1785"/>
                  </a:lnTo>
                  <a:lnTo>
                    <a:pt x="1416" y="1874"/>
                  </a:lnTo>
                  <a:lnTo>
                    <a:pt x="1315" y="1945"/>
                  </a:lnTo>
                  <a:lnTo>
                    <a:pt x="1240" y="1991"/>
                  </a:lnTo>
                  <a:lnTo>
                    <a:pt x="1204" y="2014"/>
                  </a:lnTo>
                  <a:lnTo>
                    <a:pt x="1168" y="2044"/>
                  </a:lnTo>
                  <a:lnTo>
                    <a:pt x="1100" y="2099"/>
                  </a:lnTo>
                  <a:lnTo>
                    <a:pt x="1003" y="2170"/>
                  </a:lnTo>
                  <a:lnTo>
                    <a:pt x="890" y="2248"/>
                  </a:lnTo>
                  <a:lnTo>
                    <a:pt x="767" y="2326"/>
                  </a:lnTo>
                  <a:lnTo>
                    <a:pt x="647" y="2400"/>
                  </a:lnTo>
                  <a:lnTo>
                    <a:pt x="537" y="2459"/>
                  </a:lnTo>
                  <a:lnTo>
                    <a:pt x="447" y="2498"/>
                  </a:lnTo>
                  <a:lnTo>
                    <a:pt x="409" y="2428"/>
                  </a:lnTo>
                  <a:lnTo>
                    <a:pt x="376" y="2339"/>
                  </a:lnTo>
                  <a:lnTo>
                    <a:pt x="342" y="2234"/>
                  </a:lnTo>
                  <a:lnTo>
                    <a:pt x="305" y="2117"/>
                  </a:lnTo>
                  <a:lnTo>
                    <a:pt x="256" y="1988"/>
                  </a:lnTo>
                  <a:lnTo>
                    <a:pt x="193" y="1851"/>
                  </a:lnTo>
                  <a:lnTo>
                    <a:pt x="109" y="1708"/>
                  </a:lnTo>
                  <a:lnTo>
                    <a:pt x="0" y="1563"/>
                  </a:lnTo>
                  <a:close/>
                </a:path>
              </a:pathLst>
            </a:custGeom>
            <a:solidFill>
              <a:srgbClr val="474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825160" y="3733920"/>
              <a:ext cx="1277640" cy="1182600"/>
            </a:xfrm>
            <a:custGeom>
              <a:avLst/>
              <a:gdLst/>
              <a:ahLst/>
              <a:rect l="l" t="t" r="r" b="b"/>
              <a:pathLst>
                <a:path w="2080" h="2507">
                  <a:moveTo>
                    <a:pt x="0" y="1565"/>
                  </a:moveTo>
                  <a:lnTo>
                    <a:pt x="108" y="1469"/>
                  </a:lnTo>
                  <a:lnTo>
                    <a:pt x="238" y="1358"/>
                  </a:lnTo>
                  <a:lnTo>
                    <a:pt x="384" y="1233"/>
                  </a:lnTo>
                  <a:lnTo>
                    <a:pt x="544" y="1098"/>
                  </a:lnTo>
                  <a:lnTo>
                    <a:pt x="713" y="952"/>
                  </a:lnTo>
                  <a:lnTo>
                    <a:pt x="890" y="802"/>
                  </a:lnTo>
                  <a:lnTo>
                    <a:pt x="1069" y="648"/>
                  </a:lnTo>
                  <a:lnTo>
                    <a:pt x="1249" y="492"/>
                  </a:lnTo>
                  <a:lnTo>
                    <a:pt x="1357" y="401"/>
                  </a:lnTo>
                  <a:lnTo>
                    <a:pt x="1459" y="315"/>
                  </a:lnTo>
                  <a:lnTo>
                    <a:pt x="1553" y="233"/>
                  </a:lnTo>
                  <a:lnTo>
                    <a:pt x="1638" y="162"/>
                  </a:lnTo>
                  <a:lnTo>
                    <a:pt x="1708" y="99"/>
                  </a:lnTo>
                  <a:lnTo>
                    <a:pt x="1768" y="50"/>
                  </a:lnTo>
                  <a:lnTo>
                    <a:pt x="1808" y="16"/>
                  </a:lnTo>
                  <a:lnTo>
                    <a:pt x="1834" y="0"/>
                  </a:lnTo>
                  <a:lnTo>
                    <a:pt x="1875" y="119"/>
                  </a:lnTo>
                  <a:lnTo>
                    <a:pt x="1926" y="277"/>
                  </a:lnTo>
                  <a:lnTo>
                    <a:pt x="1977" y="458"/>
                  </a:lnTo>
                  <a:lnTo>
                    <a:pt x="2023" y="651"/>
                  </a:lnTo>
                  <a:lnTo>
                    <a:pt x="2059" y="841"/>
                  </a:lnTo>
                  <a:lnTo>
                    <a:pt x="2080" y="1018"/>
                  </a:lnTo>
                  <a:lnTo>
                    <a:pt x="2080" y="1166"/>
                  </a:lnTo>
                  <a:lnTo>
                    <a:pt x="2054" y="1275"/>
                  </a:lnTo>
                  <a:lnTo>
                    <a:pt x="1988" y="1350"/>
                  </a:lnTo>
                  <a:lnTo>
                    <a:pt x="1918" y="1424"/>
                  </a:lnTo>
                  <a:lnTo>
                    <a:pt x="1846" y="1488"/>
                  </a:lnTo>
                  <a:lnTo>
                    <a:pt x="1777" y="1548"/>
                  </a:lnTo>
                  <a:lnTo>
                    <a:pt x="1712" y="1596"/>
                  </a:lnTo>
                  <a:lnTo>
                    <a:pt x="1658" y="1635"/>
                  </a:lnTo>
                  <a:lnTo>
                    <a:pt x="1616" y="1661"/>
                  </a:lnTo>
                  <a:lnTo>
                    <a:pt x="1593" y="1678"/>
                  </a:lnTo>
                  <a:lnTo>
                    <a:pt x="1541" y="1731"/>
                  </a:lnTo>
                  <a:lnTo>
                    <a:pt x="1443" y="1822"/>
                  </a:lnTo>
                  <a:lnTo>
                    <a:pt x="1305" y="1938"/>
                  </a:lnTo>
                  <a:lnTo>
                    <a:pt x="1142" y="2070"/>
                  </a:lnTo>
                  <a:lnTo>
                    <a:pt x="959" y="2201"/>
                  </a:lnTo>
                  <a:lnTo>
                    <a:pt x="775" y="2326"/>
                  </a:lnTo>
                  <a:lnTo>
                    <a:pt x="594" y="2431"/>
                  </a:lnTo>
                  <a:lnTo>
                    <a:pt x="431" y="2507"/>
                  </a:lnTo>
                  <a:lnTo>
                    <a:pt x="396" y="2434"/>
                  </a:lnTo>
                  <a:lnTo>
                    <a:pt x="356" y="2331"/>
                  </a:lnTo>
                  <a:lnTo>
                    <a:pt x="310" y="2205"/>
                  </a:lnTo>
                  <a:lnTo>
                    <a:pt x="258" y="2067"/>
                  </a:lnTo>
                  <a:lnTo>
                    <a:pt x="200" y="1923"/>
                  </a:lnTo>
                  <a:lnTo>
                    <a:pt x="138" y="1787"/>
                  </a:lnTo>
                  <a:lnTo>
                    <a:pt x="71" y="1663"/>
                  </a:lnTo>
                  <a:lnTo>
                    <a:pt x="0" y="1565"/>
                  </a:lnTo>
                  <a:close/>
                </a:path>
              </a:pathLst>
            </a:custGeom>
            <a:solidFill>
              <a:srgbClr val="808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44960" y="3733920"/>
              <a:ext cx="1260360" cy="1188000"/>
            </a:xfrm>
            <a:custGeom>
              <a:avLst/>
              <a:gdLst/>
              <a:ahLst/>
              <a:rect l="l" t="t" r="r" b="b"/>
              <a:pathLst>
                <a:path w="2050" h="2517">
                  <a:moveTo>
                    <a:pt x="0" y="1568"/>
                  </a:moveTo>
                  <a:lnTo>
                    <a:pt x="131" y="1450"/>
                  </a:lnTo>
                  <a:lnTo>
                    <a:pt x="355" y="1254"/>
                  </a:lnTo>
                  <a:lnTo>
                    <a:pt x="638" y="1005"/>
                  </a:lnTo>
                  <a:lnTo>
                    <a:pt x="950" y="735"/>
                  </a:lnTo>
                  <a:lnTo>
                    <a:pt x="1253" y="469"/>
                  </a:lnTo>
                  <a:lnTo>
                    <a:pt x="1518" y="241"/>
                  </a:lnTo>
                  <a:lnTo>
                    <a:pt x="1709" y="74"/>
                  </a:lnTo>
                  <a:lnTo>
                    <a:pt x="1796" y="0"/>
                  </a:lnTo>
                  <a:lnTo>
                    <a:pt x="1838" y="107"/>
                  </a:lnTo>
                  <a:lnTo>
                    <a:pt x="1889" y="254"/>
                  </a:lnTo>
                  <a:lnTo>
                    <a:pt x="1939" y="426"/>
                  </a:lnTo>
                  <a:lnTo>
                    <a:pt x="1986" y="615"/>
                  </a:lnTo>
                  <a:lnTo>
                    <a:pt x="2023" y="804"/>
                  </a:lnTo>
                  <a:lnTo>
                    <a:pt x="2047" y="985"/>
                  </a:lnTo>
                  <a:lnTo>
                    <a:pt x="2050" y="1144"/>
                  </a:lnTo>
                  <a:lnTo>
                    <a:pt x="2033" y="1270"/>
                  </a:lnTo>
                  <a:lnTo>
                    <a:pt x="2028" y="1278"/>
                  </a:lnTo>
                  <a:lnTo>
                    <a:pt x="2024" y="1289"/>
                  </a:lnTo>
                  <a:lnTo>
                    <a:pt x="2018" y="1297"/>
                  </a:lnTo>
                  <a:lnTo>
                    <a:pt x="2012" y="1307"/>
                  </a:lnTo>
                  <a:lnTo>
                    <a:pt x="2005" y="1315"/>
                  </a:lnTo>
                  <a:lnTo>
                    <a:pt x="1997" y="1324"/>
                  </a:lnTo>
                  <a:lnTo>
                    <a:pt x="1988" y="1333"/>
                  </a:lnTo>
                  <a:lnTo>
                    <a:pt x="1981" y="1342"/>
                  </a:lnTo>
                  <a:lnTo>
                    <a:pt x="1913" y="1419"/>
                  </a:lnTo>
                  <a:lnTo>
                    <a:pt x="1785" y="1546"/>
                  </a:lnTo>
                  <a:lnTo>
                    <a:pt x="1606" y="1708"/>
                  </a:lnTo>
                  <a:lnTo>
                    <a:pt x="1391" y="1892"/>
                  </a:lnTo>
                  <a:lnTo>
                    <a:pt x="1151" y="2077"/>
                  </a:lnTo>
                  <a:lnTo>
                    <a:pt x="899" y="2254"/>
                  </a:lnTo>
                  <a:lnTo>
                    <a:pt x="649" y="2405"/>
                  </a:lnTo>
                  <a:lnTo>
                    <a:pt x="412" y="2517"/>
                  </a:lnTo>
                  <a:lnTo>
                    <a:pt x="380" y="2441"/>
                  </a:lnTo>
                  <a:lnTo>
                    <a:pt x="334" y="2324"/>
                  </a:lnTo>
                  <a:lnTo>
                    <a:pt x="274" y="2176"/>
                  </a:lnTo>
                  <a:lnTo>
                    <a:pt x="211" y="2017"/>
                  </a:lnTo>
                  <a:lnTo>
                    <a:pt x="145" y="1860"/>
                  </a:lnTo>
                  <a:lnTo>
                    <a:pt x="84" y="1722"/>
                  </a:lnTo>
                  <a:lnTo>
                    <a:pt x="34" y="1620"/>
                  </a:lnTo>
                  <a:lnTo>
                    <a:pt x="0" y="1568"/>
                  </a:lnTo>
                  <a:close/>
                </a:path>
              </a:pathLst>
            </a:custGeom>
            <a:solidFill>
              <a:srgbClr val="b8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906160" y="3756240"/>
              <a:ext cx="1093680" cy="1058040"/>
            </a:xfrm>
            <a:custGeom>
              <a:avLst/>
              <a:gdLst/>
              <a:ahLst/>
              <a:rect l="l" t="t" r="r" b="b"/>
              <a:pathLst>
                <a:path w="1778" h="2244">
                  <a:moveTo>
                    <a:pt x="0" y="1466"/>
                  </a:moveTo>
                  <a:lnTo>
                    <a:pt x="214" y="1273"/>
                  </a:lnTo>
                  <a:lnTo>
                    <a:pt x="424" y="1089"/>
                  </a:lnTo>
                  <a:lnTo>
                    <a:pt x="631" y="908"/>
                  </a:lnTo>
                  <a:lnTo>
                    <a:pt x="834" y="731"/>
                  </a:lnTo>
                  <a:lnTo>
                    <a:pt x="1037" y="553"/>
                  </a:lnTo>
                  <a:lnTo>
                    <a:pt x="1243" y="373"/>
                  </a:lnTo>
                  <a:lnTo>
                    <a:pt x="1453" y="189"/>
                  </a:lnTo>
                  <a:lnTo>
                    <a:pt x="1669" y="0"/>
                  </a:lnTo>
                  <a:lnTo>
                    <a:pt x="1778" y="358"/>
                  </a:lnTo>
                  <a:lnTo>
                    <a:pt x="1755" y="725"/>
                  </a:lnTo>
                  <a:lnTo>
                    <a:pt x="1629" y="1084"/>
                  </a:lnTo>
                  <a:lnTo>
                    <a:pt x="1434" y="1421"/>
                  </a:lnTo>
                  <a:lnTo>
                    <a:pt x="1196" y="1721"/>
                  </a:lnTo>
                  <a:lnTo>
                    <a:pt x="952" y="1967"/>
                  </a:lnTo>
                  <a:lnTo>
                    <a:pt x="729" y="2147"/>
                  </a:lnTo>
                  <a:lnTo>
                    <a:pt x="561" y="2244"/>
                  </a:lnTo>
                  <a:lnTo>
                    <a:pt x="519" y="2197"/>
                  </a:lnTo>
                  <a:lnTo>
                    <a:pt x="456" y="2141"/>
                  </a:lnTo>
                  <a:lnTo>
                    <a:pt x="379" y="2069"/>
                  </a:lnTo>
                  <a:lnTo>
                    <a:pt x="294" y="1984"/>
                  </a:lnTo>
                  <a:lnTo>
                    <a:pt x="207" y="1881"/>
                  </a:lnTo>
                  <a:lnTo>
                    <a:pt x="124" y="1763"/>
                  </a:lnTo>
                  <a:lnTo>
                    <a:pt x="52" y="1625"/>
                  </a:lnTo>
                  <a:lnTo>
                    <a:pt x="0" y="1466"/>
                  </a:lnTo>
                  <a:close/>
                </a:path>
              </a:pathLst>
            </a:custGeom>
            <a:solidFill>
              <a:srgbClr val="de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741640" y="4461840"/>
              <a:ext cx="181440" cy="171360"/>
            </a:xfrm>
            <a:custGeom>
              <a:avLst/>
              <a:gdLst/>
              <a:ahLst/>
              <a:rect l="l" t="t" r="r" b="b"/>
              <a:pathLst>
                <a:path w="296" h="364">
                  <a:moveTo>
                    <a:pt x="81" y="0"/>
                  </a:moveTo>
                  <a:lnTo>
                    <a:pt x="87" y="1"/>
                  </a:lnTo>
                  <a:lnTo>
                    <a:pt x="95" y="4"/>
                  </a:lnTo>
                  <a:lnTo>
                    <a:pt x="102" y="6"/>
                  </a:lnTo>
                  <a:lnTo>
                    <a:pt x="110" y="9"/>
                  </a:lnTo>
                  <a:lnTo>
                    <a:pt x="118" y="10"/>
                  </a:lnTo>
                  <a:lnTo>
                    <a:pt x="125" y="13"/>
                  </a:lnTo>
                  <a:lnTo>
                    <a:pt x="133" y="15"/>
                  </a:lnTo>
                  <a:lnTo>
                    <a:pt x="140" y="19"/>
                  </a:lnTo>
                  <a:lnTo>
                    <a:pt x="164" y="54"/>
                  </a:lnTo>
                  <a:lnTo>
                    <a:pt x="188" y="90"/>
                  </a:lnTo>
                  <a:lnTo>
                    <a:pt x="210" y="125"/>
                  </a:lnTo>
                  <a:lnTo>
                    <a:pt x="230" y="162"/>
                  </a:lnTo>
                  <a:lnTo>
                    <a:pt x="248" y="196"/>
                  </a:lnTo>
                  <a:lnTo>
                    <a:pt x="264" y="231"/>
                  </a:lnTo>
                  <a:lnTo>
                    <a:pt x="280" y="264"/>
                  </a:lnTo>
                  <a:lnTo>
                    <a:pt x="296" y="298"/>
                  </a:lnTo>
                  <a:lnTo>
                    <a:pt x="285" y="308"/>
                  </a:lnTo>
                  <a:lnTo>
                    <a:pt x="273" y="318"/>
                  </a:lnTo>
                  <a:lnTo>
                    <a:pt x="262" y="327"/>
                  </a:lnTo>
                  <a:lnTo>
                    <a:pt x="252" y="337"/>
                  </a:lnTo>
                  <a:lnTo>
                    <a:pt x="240" y="344"/>
                  </a:lnTo>
                  <a:lnTo>
                    <a:pt x="229" y="350"/>
                  </a:lnTo>
                  <a:lnTo>
                    <a:pt x="218" y="355"/>
                  </a:lnTo>
                  <a:lnTo>
                    <a:pt x="207" y="360"/>
                  </a:lnTo>
                  <a:lnTo>
                    <a:pt x="201" y="361"/>
                  </a:lnTo>
                  <a:lnTo>
                    <a:pt x="194" y="364"/>
                  </a:lnTo>
                  <a:lnTo>
                    <a:pt x="187" y="364"/>
                  </a:lnTo>
                  <a:lnTo>
                    <a:pt x="186" y="360"/>
                  </a:lnTo>
                  <a:lnTo>
                    <a:pt x="181" y="348"/>
                  </a:lnTo>
                  <a:lnTo>
                    <a:pt x="175" y="329"/>
                  </a:lnTo>
                  <a:lnTo>
                    <a:pt x="163" y="299"/>
                  </a:lnTo>
                  <a:lnTo>
                    <a:pt x="152" y="267"/>
                  </a:lnTo>
                  <a:lnTo>
                    <a:pt x="135" y="225"/>
                  </a:lnTo>
                  <a:lnTo>
                    <a:pt x="116" y="181"/>
                  </a:lnTo>
                  <a:lnTo>
                    <a:pt x="94" y="133"/>
                  </a:lnTo>
                  <a:lnTo>
                    <a:pt x="67" y="83"/>
                  </a:lnTo>
                  <a:lnTo>
                    <a:pt x="58" y="80"/>
                  </a:lnTo>
                  <a:lnTo>
                    <a:pt x="49" y="78"/>
                  </a:lnTo>
                  <a:lnTo>
                    <a:pt x="40" y="76"/>
                  </a:lnTo>
                  <a:lnTo>
                    <a:pt x="32" y="74"/>
                  </a:lnTo>
                  <a:lnTo>
                    <a:pt x="23" y="72"/>
                  </a:lnTo>
                  <a:lnTo>
                    <a:pt x="14" y="71"/>
                  </a:lnTo>
                  <a:lnTo>
                    <a:pt x="6" y="68"/>
                  </a:lnTo>
                  <a:lnTo>
                    <a:pt x="0" y="67"/>
                  </a:lnTo>
                  <a:lnTo>
                    <a:pt x="4" y="58"/>
                  </a:lnTo>
                  <a:lnTo>
                    <a:pt x="6" y="53"/>
                  </a:lnTo>
                  <a:lnTo>
                    <a:pt x="14" y="45"/>
                  </a:lnTo>
                  <a:lnTo>
                    <a:pt x="24" y="38"/>
                  </a:lnTo>
                  <a:lnTo>
                    <a:pt x="33" y="31"/>
                  </a:lnTo>
                  <a:lnTo>
                    <a:pt x="43" y="25"/>
                  </a:lnTo>
                  <a:lnTo>
                    <a:pt x="52" y="19"/>
                  </a:lnTo>
                  <a:lnTo>
                    <a:pt x="62" y="13"/>
                  </a:lnTo>
                  <a:lnTo>
                    <a:pt x="71" y="6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3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741640" y="4456080"/>
              <a:ext cx="181440" cy="173160"/>
            </a:xfrm>
            <a:custGeom>
              <a:avLst/>
              <a:gdLst/>
              <a:ahLst/>
              <a:rect l="l" t="t" r="r" b="b"/>
              <a:pathLst>
                <a:path w="297" h="367">
                  <a:moveTo>
                    <a:pt x="90" y="0"/>
                  </a:moveTo>
                  <a:lnTo>
                    <a:pt x="97" y="3"/>
                  </a:lnTo>
                  <a:lnTo>
                    <a:pt x="104" y="6"/>
                  </a:lnTo>
                  <a:lnTo>
                    <a:pt x="113" y="8"/>
                  </a:lnTo>
                  <a:lnTo>
                    <a:pt x="122" y="11"/>
                  </a:lnTo>
                  <a:lnTo>
                    <a:pt x="130" y="13"/>
                  </a:lnTo>
                  <a:lnTo>
                    <a:pt x="138" y="16"/>
                  </a:lnTo>
                  <a:lnTo>
                    <a:pt x="146" y="18"/>
                  </a:lnTo>
                  <a:lnTo>
                    <a:pt x="155" y="22"/>
                  </a:lnTo>
                  <a:lnTo>
                    <a:pt x="174" y="55"/>
                  </a:lnTo>
                  <a:lnTo>
                    <a:pt x="194" y="92"/>
                  </a:lnTo>
                  <a:lnTo>
                    <a:pt x="212" y="128"/>
                  </a:lnTo>
                  <a:lnTo>
                    <a:pt x="231" y="166"/>
                  </a:lnTo>
                  <a:lnTo>
                    <a:pt x="247" y="201"/>
                  </a:lnTo>
                  <a:lnTo>
                    <a:pt x="265" y="238"/>
                  </a:lnTo>
                  <a:lnTo>
                    <a:pt x="280" y="274"/>
                  </a:lnTo>
                  <a:lnTo>
                    <a:pt x="297" y="308"/>
                  </a:lnTo>
                  <a:lnTo>
                    <a:pt x="285" y="315"/>
                  </a:lnTo>
                  <a:lnTo>
                    <a:pt x="275" y="325"/>
                  </a:lnTo>
                  <a:lnTo>
                    <a:pt x="264" y="334"/>
                  </a:lnTo>
                  <a:lnTo>
                    <a:pt x="252" y="344"/>
                  </a:lnTo>
                  <a:lnTo>
                    <a:pt x="240" y="351"/>
                  </a:lnTo>
                  <a:lnTo>
                    <a:pt x="227" y="358"/>
                  </a:lnTo>
                  <a:lnTo>
                    <a:pt x="213" y="363"/>
                  </a:lnTo>
                  <a:lnTo>
                    <a:pt x="200" y="367"/>
                  </a:lnTo>
                  <a:lnTo>
                    <a:pt x="184" y="332"/>
                  </a:lnTo>
                  <a:lnTo>
                    <a:pt x="169" y="298"/>
                  </a:lnTo>
                  <a:lnTo>
                    <a:pt x="155" y="261"/>
                  </a:lnTo>
                  <a:lnTo>
                    <a:pt x="142" y="224"/>
                  </a:lnTo>
                  <a:lnTo>
                    <a:pt x="127" y="188"/>
                  </a:lnTo>
                  <a:lnTo>
                    <a:pt x="111" y="152"/>
                  </a:lnTo>
                  <a:lnTo>
                    <a:pt x="90" y="117"/>
                  </a:lnTo>
                  <a:lnTo>
                    <a:pt x="66" y="84"/>
                  </a:lnTo>
                  <a:lnTo>
                    <a:pt x="57" y="80"/>
                  </a:lnTo>
                  <a:lnTo>
                    <a:pt x="50" y="79"/>
                  </a:lnTo>
                  <a:lnTo>
                    <a:pt x="41" y="76"/>
                  </a:lnTo>
                  <a:lnTo>
                    <a:pt x="33" y="75"/>
                  </a:lnTo>
                  <a:lnTo>
                    <a:pt x="25" y="73"/>
                  </a:lnTo>
                  <a:lnTo>
                    <a:pt x="16" y="71"/>
                  </a:lnTo>
                  <a:lnTo>
                    <a:pt x="8" y="70"/>
                  </a:lnTo>
                  <a:lnTo>
                    <a:pt x="0" y="69"/>
                  </a:lnTo>
                  <a:lnTo>
                    <a:pt x="7" y="61"/>
                  </a:lnTo>
                  <a:lnTo>
                    <a:pt x="16" y="54"/>
                  </a:lnTo>
                  <a:lnTo>
                    <a:pt x="26" y="46"/>
                  </a:lnTo>
                  <a:lnTo>
                    <a:pt x="38" y="38"/>
                  </a:lnTo>
                  <a:lnTo>
                    <a:pt x="50" y="28"/>
                  </a:lnTo>
                  <a:lnTo>
                    <a:pt x="64" y="19"/>
                  </a:lnTo>
                  <a:lnTo>
                    <a:pt x="76" y="9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2647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746680" y="4457880"/>
              <a:ext cx="166320" cy="154800"/>
            </a:xfrm>
            <a:custGeom>
              <a:avLst/>
              <a:gdLst/>
              <a:ahLst/>
              <a:rect l="l" t="t" r="r" b="b"/>
              <a:pathLst>
                <a:path w="272" h="327">
                  <a:moveTo>
                    <a:pt x="91" y="0"/>
                  </a:moveTo>
                  <a:lnTo>
                    <a:pt x="97" y="1"/>
                  </a:lnTo>
                  <a:lnTo>
                    <a:pt x="105" y="5"/>
                  </a:lnTo>
                  <a:lnTo>
                    <a:pt x="111" y="6"/>
                  </a:lnTo>
                  <a:lnTo>
                    <a:pt x="119" y="10"/>
                  </a:lnTo>
                  <a:lnTo>
                    <a:pt x="125" y="11"/>
                  </a:lnTo>
                  <a:lnTo>
                    <a:pt x="133" y="14"/>
                  </a:lnTo>
                  <a:lnTo>
                    <a:pt x="140" y="16"/>
                  </a:lnTo>
                  <a:lnTo>
                    <a:pt x="148" y="20"/>
                  </a:lnTo>
                  <a:lnTo>
                    <a:pt x="164" y="49"/>
                  </a:lnTo>
                  <a:lnTo>
                    <a:pt x="182" y="81"/>
                  </a:lnTo>
                  <a:lnTo>
                    <a:pt x="198" y="112"/>
                  </a:lnTo>
                  <a:lnTo>
                    <a:pt x="215" y="146"/>
                  </a:lnTo>
                  <a:lnTo>
                    <a:pt x="230" y="178"/>
                  </a:lnTo>
                  <a:lnTo>
                    <a:pt x="245" y="210"/>
                  </a:lnTo>
                  <a:lnTo>
                    <a:pt x="258" y="240"/>
                  </a:lnTo>
                  <a:lnTo>
                    <a:pt x="272" y="270"/>
                  </a:lnTo>
                  <a:lnTo>
                    <a:pt x="260" y="278"/>
                  </a:lnTo>
                  <a:lnTo>
                    <a:pt x="249" y="287"/>
                  </a:lnTo>
                  <a:lnTo>
                    <a:pt x="238" y="294"/>
                  </a:lnTo>
                  <a:lnTo>
                    <a:pt x="228" y="303"/>
                  </a:lnTo>
                  <a:lnTo>
                    <a:pt x="215" y="309"/>
                  </a:lnTo>
                  <a:lnTo>
                    <a:pt x="204" y="317"/>
                  </a:lnTo>
                  <a:lnTo>
                    <a:pt x="190" y="322"/>
                  </a:lnTo>
                  <a:lnTo>
                    <a:pt x="177" y="327"/>
                  </a:lnTo>
                  <a:lnTo>
                    <a:pt x="163" y="297"/>
                  </a:lnTo>
                  <a:lnTo>
                    <a:pt x="150" y="268"/>
                  </a:lnTo>
                  <a:lnTo>
                    <a:pt x="139" y="236"/>
                  </a:lnTo>
                  <a:lnTo>
                    <a:pt x="128" y="205"/>
                  </a:lnTo>
                  <a:lnTo>
                    <a:pt x="112" y="172"/>
                  </a:lnTo>
                  <a:lnTo>
                    <a:pt x="99" y="141"/>
                  </a:lnTo>
                  <a:lnTo>
                    <a:pt x="80" y="110"/>
                  </a:lnTo>
                  <a:lnTo>
                    <a:pt x="59" y="82"/>
                  </a:lnTo>
                  <a:lnTo>
                    <a:pt x="52" y="78"/>
                  </a:lnTo>
                  <a:lnTo>
                    <a:pt x="44" y="77"/>
                  </a:lnTo>
                  <a:lnTo>
                    <a:pt x="37" y="74"/>
                  </a:lnTo>
                  <a:lnTo>
                    <a:pt x="30" y="73"/>
                  </a:lnTo>
                  <a:lnTo>
                    <a:pt x="23" y="71"/>
                  </a:lnTo>
                  <a:lnTo>
                    <a:pt x="15" y="69"/>
                  </a:lnTo>
                  <a:lnTo>
                    <a:pt x="7" y="68"/>
                  </a:lnTo>
                  <a:lnTo>
                    <a:pt x="0" y="67"/>
                  </a:lnTo>
                  <a:lnTo>
                    <a:pt x="6" y="59"/>
                  </a:lnTo>
                  <a:lnTo>
                    <a:pt x="16" y="53"/>
                  </a:lnTo>
                  <a:lnTo>
                    <a:pt x="26" y="45"/>
                  </a:lnTo>
                  <a:lnTo>
                    <a:pt x="38" y="38"/>
                  </a:lnTo>
                  <a:lnTo>
                    <a:pt x="49" y="28"/>
                  </a:lnTo>
                  <a:lnTo>
                    <a:pt x="63" y="19"/>
                  </a:lnTo>
                  <a:lnTo>
                    <a:pt x="77" y="9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335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751360" y="4457880"/>
              <a:ext cx="149760" cy="137520"/>
            </a:xfrm>
            <a:custGeom>
              <a:avLst/>
              <a:gdLst/>
              <a:ahLst/>
              <a:rect l="l" t="t" r="r" b="b"/>
              <a:pathLst>
                <a:path w="246" h="292">
                  <a:moveTo>
                    <a:pt x="92" y="0"/>
                  </a:moveTo>
                  <a:lnTo>
                    <a:pt x="103" y="5"/>
                  </a:lnTo>
                  <a:lnTo>
                    <a:pt x="116" y="10"/>
                  </a:lnTo>
                  <a:lnTo>
                    <a:pt x="121" y="11"/>
                  </a:lnTo>
                  <a:lnTo>
                    <a:pt x="127" y="15"/>
                  </a:lnTo>
                  <a:lnTo>
                    <a:pt x="133" y="16"/>
                  </a:lnTo>
                  <a:lnTo>
                    <a:pt x="141" y="20"/>
                  </a:lnTo>
                  <a:lnTo>
                    <a:pt x="155" y="44"/>
                  </a:lnTo>
                  <a:lnTo>
                    <a:pt x="170" y="71"/>
                  </a:lnTo>
                  <a:lnTo>
                    <a:pt x="184" y="97"/>
                  </a:lnTo>
                  <a:lnTo>
                    <a:pt x="198" y="126"/>
                  </a:lnTo>
                  <a:lnTo>
                    <a:pt x="210" y="153"/>
                  </a:lnTo>
                  <a:lnTo>
                    <a:pt x="223" y="181"/>
                  </a:lnTo>
                  <a:lnTo>
                    <a:pt x="234" y="206"/>
                  </a:lnTo>
                  <a:lnTo>
                    <a:pt x="246" y="231"/>
                  </a:lnTo>
                  <a:lnTo>
                    <a:pt x="234" y="239"/>
                  </a:lnTo>
                  <a:lnTo>
                    <a:pt x="223" y="248"/>
                  </a:lnTo>
                  <a:lnTo>
                    <a:pt x="212" y="255"/>
                  </a:lnTo>
                  <a:lnTo>
                    <a:pt x="202" y="265"/>
                  </a:lnTo>
                  <a:lnTo>
                    <a:pt x="189" y="273"/>
                  </a:lnTo>
                  <a:lnTo>
                    <a:pt x="178" y="280"/>
                  </a:lnTo>
                  <a:lnTo>
                    <a:pt x="165" y="287"/>
                  </a:lnTo>
                  <a:lnTo>
                    <a:pt x="154" y="292"/>
                  </a:lnTo>
                  <a:lnTo>
                    <a:pt x="141" y="266"/>
                  </a:lnTo>
                  <a:lnTo>
                    <a:pt x="131" y="241"/>
                  </a:lnTo>
                  <a:lnTo>
                    <a:pt x="119" y="213"/>
                  </a:lnTo>
                  <a:lnTo>
                    <a:pt x="109" y="187"/>
                  </a:lnTo>
                  <a:lnTo>
                    <a:pt x="97" y="159"/>
                  </a:lnTo>
                  <a:lnTo>
                    <a:pt x="84" y="132"/>
                  </a:lnTo>
                  <a:lnTo>
                    <a:pt x="69" y="106"/>
                  </a:lnTo>
                  <a:lnTo>
                    <a:pt x="52" y="82"/>
                  </a:lnTo>
                  <a:lnTo>
                    <a:pt x="45" y="78"/>
                  </a:lnTo>
                  <a:lnTo>
                    <a:pt x="38" y="77"/>
                  </a:lnTo>
                  <a:lnTo>
                    <a:pt x="32" y="74"/>
                  </a:lnTo>
                  <a:lnTo>
                    <a:pt x="27" y="74"/>
                  </a:lnTo>
                  <a:lnTo>
                    <a:pt x="21" y="73"/>
                  </a:lnTo>
                  <a:lnTo>
                    <a:pt x="14" y="72"/>
                  </a:lnTo>
                  <a:lnTo>
                    <a:pt x="7" y="71"/>
                  </a:lnTo>
                  <a:lnTo>
                    <a:pt x="0" y="69"/>
                  </a:lnTo>
                  <a:lnTo>
                    <a:pt x="5" y="62"/>
                  </a:lnTo>
                  <a:lnTo>
                    <a:pt x="14" y="54"/>
                  </a:lnTo>
                  <a:lnTo>
                    <a:pt x="24" y="47"/>
                  </a:lnTo>
                  <a:lnTo>
                    <a:pt x="37" y="39"/>
                  </a:lnTo>
                  <a:lnTo>
                    <a:pt x="48" y="29"/>
                  </a:lnTo>
                  <a:lnTo>
                    <a:pt x="62" y="20"/>
                  </a:lnTo>
                  <a:lnTo>
                    <a:pt x="76" y="1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425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756400" y="4457880"/>
              <a:ext cx="132480" cy="118800"/>
            </a:xfrm>
            <a:custGeom>
              <a:avLst/>
              <a:gdLst/>
              <a:ahLst/>
              <a:rect l="l" t="t" r="r" b="b"/>
              <a:pathLst>
                <a:path w="219" h="251">
                  <a:moveTo>
                    <a:pt x="90" y="0"/>
                  </a:moveTo>
                  <a:lnTo>
                    <a:pt x="101" y="4"/>
                  </a:lnTo>
                  <a:lnTo>
                    <a:pt x="111" y="9"/>
                  </a:lnTo>
                  <a:lnTo>
                    <a:pt x="115" y="10"/>
                  </a:lnTo>
                  <a:lnTo>
                    <a:pt x="120" y="13"/>
                  </a:lnTo>
                  <a:lnTo>
                    <a:pt x="125" y="14"/>
                  </a:lnTo>
                  <a:lnTo>
                    <a:pt x="133" y="18"/>
                  </a:lnTo>
                  <a:lnTo>
                    <a:pt x="144" y="37"/>
                  </a:lnTo>
                  <a:lnTo>
                    <a:pt x="156" y="60"/>
                  </a:lnTo>
                  <a:lnTo>
                    <a:pt x="167" y="81"/>
                  </a:lnTo>
                  <a:lnTo>
                    <a:pt x="178" y="105"/>
                  </a:lnTo>
                  <a:lnTo>
                    <a:pt x="189" y="127"/>
                  </a:lnTo>
                  <a:lnTo>
                    <a:pt x="199" y="149"/>
                  </a:lnTo>
                  <a:lnTo>
                    <a:pt x="209" y="171"/>
                  </a:lnTo>
                  <a:lnTo>
                    <a:pt x="219" y="191"/>
                  </a:lnTo>
                  <a:lnTo>
                    <a:pt x="207" y="199"/>
                  </a:lnTo>
                  <a:lnTo>
                    <a:pt x="197" y="208"/>
                  </a:lnTo>
                  <a:lnTo>
                    <a:pt x="186" y="215"/>
                  </a:lnTo>
                  <a:lnTo>
                    <a:pt x="176" y="224"/>
                  </a:lnTo>
                  <a:lnTo>
                    <a:pt x="164" y="232"/>
                  </a:lnTo>
                  <a:lnTo>
                    <a:pt x="153" y="239"/>
                  </a:lnTo>
                  <a:lnTo>
                    <a:pt x="142" y="244"/>
                  </a:lnTo>
                  <a:lnTo>
                    <a:pt x="130" y="251"/>
                  </a:lnTo>
                  <a:lnTo>
                    <a:pt x="120" y="232"/>
                  </a:lnTo>
                  <a:lnTo>
                    <a:pt x="111" y="211"/>
                  </a:lnTo>
                  <a:lnTo>
                    <a:pt x="101" y="189"/>
                  </a:lnTo>
                  <a:lnTo>
                    <a:pt x="92" y="167"/>
                  </a:lnTo>
                  <a:lnTo>
                    <a:pt x="81" y="143"/>
                  </a:lnTo>
                  <a:lnTo>
                    <a:pt x="71" y="120"/>
                  </a:lnTo>
                  <a:lnTo>
                    <a:pt x="58" y="98"/>
                  </a:lnTo>
                  <a:lnTo>
                    <a:pt x="44" y="80"/>
                  </a:lnTo>
                  <a:lnTo>
                    <a:pt x="37" y="76"/>
                  </a:lnTo>
                  <a:lnTo>
                    <a:pt x="30" y="75"/>
                  </a:lnTo>
                  <a:lnTo>
                    <a:pt x="25" y="72"/>
                  </a:lnTo>
                  <a:lnTo>
                    <a:pt x="22" y="72"/>
                  </a:lnTo>
                  <a:lnTo>
                    <a:pt x="11" y="70"/>
                  </a:lnTo>
                  <a:lnTo>
                    <a:pt x="0" y="67"/>
                  </a:lnTo>
                  <a:lnTo>
                    <a:pt x="5" y="60"/>
                  </a:lnTo>
                  <a:lnTo>
                    <a:pt x="14" y="52"/>
                  </a:lnTo>
                  <a:lnTo>
                    <a:pt x="24" y="45"/>
                  </a:lnTo>
                  <a:lnTo>
                    <a:pt x="37" y="37"/>
                  </a:lnTo>
                  <a:lnTo>
                    <a:pt x="48" y="27"/>
                  </a:lnTo>
                  <a:lnTo>
                    <a:pt x="62" y="18"/>
                  </a:lnTo>
                  <a:lnTo>
                    <a:pt x="76" y="9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526e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758920" y="4457880"/>
              <a:ext cx="120240" cy="100080"/>
            </a:xfrm>
            <a:custGeom>
              <a:avLst/>
              <a:gdLst/>
              <a:ahLst/>
              <a:rect l="l" t="t" r="r" b="b"/>
              <a:pathLst>
                <a:path w="194" h="213">
                  <a:moveTo>
                    <a:pt x="91" y="0"/>
                  </a:moveTo>
                  <a:lnTo>
                    <a:pt x="100" y="5"/>
                  </a:lnTo>
                  <a:lnTo>
                    <a:pt x="108" y="9"/>
                  </a:lnTo>
                  <a:lnTo>
                    <a:pt x="110" y="10"/>
                  </a:lnTo>
                  <a:lnTo>
                    <a:pt x="114" y="13"/>
                  </a:lnTo>
                  <a:lnTo>
                    <a:pt x="119" y="14"/>
                  </a:lnTo>
                  <a:lnTo>
                    <a:pt x="127" y="18"/>
                  </a:lnTo>
                  <a:lnTo>
                    <a:pt x="134" y="33"/>
                  </a:lnTo>
                  <a:lnTo>
                    <a:pt x="145" y="51"/>
                  </a:lnTo>
                  <a:lnTo>
                    <a:pt x="152" y="69"/>
                  </a:lnTo>
                  <a:lnTo>
                    <a:pt x="162" y="88"/>
                  </a:lnTo>
                  <a:lnTo>
                    <a:pt x="170" y="104"/>
                  </a:lnTo>
                  <a:lnTo>
                    <a:pt x="179" y="122"/>
                  </a:lnTo>
                  <a:lnTo>
                    <a:pt x="186" y="138"/>
                  </a:lnTo>
                  <a:lnTo>
                    <a:pt x="194" y="153"/>
                  </a:lnTo>
                  <a:lnTo>
                    <a:pt x="183" y="161"/>
                  </a:lnTo>
                  <a:lnTo>
                    <a:pt x="172" y="168"/>
                  </a:lnTo>
                  <a:lnTo>
                    <a:pt x="161" y="176"/>
                  </a:lnTo>
                  <a:lnTo>
                    <a:pt x="152" y="185"/>
                  </a:lnTo>
                  <a:lnTo>
                    <a:pt x="141" y="192"/>
                  </a:lnTo>
                  <a:lnTo>
                    <a:pt x="131" y="200"/>
                  </a:lnTo>
                  <a:lnTo>
                    <a:pt x="119" y="206"/>
                  </a:lnTo>
                  <a:lnTo>
                    <a:pt x="108" y="213"/>
                  </a:lnTo>
                  <a:lnTo>
                    <a:pt x="100" y="199"/>
                  </a:lnTo>
                  <a:lnTo>
                    <a:pt x="93" y="184"/>
                  </a:lnTo>
                  <a:lnTo>
                    <a:pt x="85" y="166"/>
                  </a:lnTo>
                  <a:lnTo>
                    <a:pt x="78" y="148"/>
                  </a:lnTo>
                  <a:lnTo>
                    <a:pt x="67" y="129"/>
                  </a:lnTo>
                  <a:lnTo>
                    <a:pt x="59" y="112"/>
                  </a:lnTo>
                  <a:lnTo>
                    <a:pt x="48" y="94"/>
                  </a:lnTo>
                  <a:lnTo>
                    <a:pt x="38" y="80"/>
                  </a:lnTo>
                  <a:lnTo>
                    <a:pt x="31" y="76"/>
                  </a:lnTo>
                  <a:lnTo>
                    <a:pt x="26" y="75"/>
                  </a:lnTo>
                  <a:lnTo>
                    <a:pt x="22" y="74"/>
                  </a:lnTo>
                  <a:lnTo>
                    <a:pt x="19" y="74"/>
                  </a:lnTo>
                  <a:lnTo>
                    <a:pt x="10" y="71"/>
                  </a:lnTo>
                  <a:lnTo>
                    <a:pt x="0" y="67"/>
                  </a:lnTo>
                  <a:lnTo>
                    <a:pt x="7" y="60"/>
                  </a:lnTo>
                  <a:lnTo>
                    <a:pt x="16" y="53"/>
                  </a:lnTo>
                  <a:lnTo>
                    <a:pt x="26" y="46"/>
                  </a:lnTo>
                  <a:lnTo>
                    <a:pt x="38" y="38"/>
                  </a:lnTo>
                  <a:lnTo>
                    <a:pt x="50" y="28"/>
                  </a:lnTo>
                  <a:lnTo>
                    <a:pt x="64" y="19"/>
                  </a:lnTo>
                  <a:lnTo>
                    <a:pt x="78" y="9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61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763600" y="4460040"/>
              <a:ext cx="105840" cy="80640"/>
            </a:xfrm>
            <a:custGeom>
              <a:avLst/>
              <a:gdLst/>
              <a:ahLst/>
              <a:rect l="l" t="t" r="r" b="b"/>
              <a:pathLst>
                <a:path w="172" h="172">
                  <a:moveTo>
                    <a:pt x="91" y="0"/>
                  </a:moveTo>
                  <a:lnTo>
                    <a:pt x="100" y="4"/>
                  </a:lnTo>
                  <a:lnTo>
                    <a:pt x="107" y="7"/>
                  </a:lnTo>
                  <a:lnTo>
                    <a:pt x="108" y="7"/>
                  </a:lnTo>
                  <a:lnTo>
                    <a:pt x="110" y="10"/>
                  </a:lnTo>
                  <a:lnTo>
                    <a:pt x="114" y="11"/>
                  </a:lnTo>
                  <a:lnTo>
                    <a:pt x="122" y="15"/>
                  </a:lnTo>
                  <a:lnTo>
                    <a:pt x="127" y="25"/>
                  </a:lnTo>
                  <a:lnTo>
                    <a:pt x="133" y="36"/>
                  </a:lnTo>
                  <a:lnTo>
                    <a:pt x="140" y="49"/>
                  </a:lnTo>
                  <a:lnTo>
                    <a:pt x="147" y="63"/>
                  </a:lnTo>
                  <a:lnTo>
                    <a:pt x="153" y="76"/>
                  </a:lnTo>
                  <a:lnTo>
                    <a:pt x="160" y="90"/>
                  </a:lnTo>
                  <a:lnTo>
                    <a:pt x="166" y="101"/>
                  </a:lnTo>
                  <a:lnTo>
                    <a:pt x="172" y="112"/>
                  </a:lnTo>
                  <a:lnTo>
                    <a:pt x="161" y="120"/>
                  </a:lnTo>
                  <a:lnTo>
                    <a:pt x="150" y="127"/>
                  </a:lnTo>
                  <a:lnTo>
                    <a:pt x="140" y="135"/>
                  </a:lnTo>
                  <a:lnTo>
                    <a:pt x="129" y="144"/>
                  </a:lnTo>
                  <a:lnTo>
                    <a:pt x="118" y="150"/>
                  </a:lnTo>
                  <a:lnTo>
                    <a:pt x="108" y="158"/>
                  </a:lnTo>
                  <a:lnTo>
                    <a:pt x="97" y="164"/>
                  </a:lnTo>
                  <a:lnTo>
                    <a:pt x="86" y="172"/>
                  </a:lnTo>
                  <a:lnTo>
                    <a:pt x="80" y="163"/>
                  </a:lnTo>
                  <a:lnTo>
                    <a:pt x="74" y="153"/>
                  </a:lnTo>
                  <a:lnTo>
                    <a:pt x="67" y="139"/>
                  </a:lnTo>
                  <a:lnTo>
                    <a:pt x="62" y="126"/>
                  </a:lnTo>
                  <a:lnTo>
                    <a:pt x="55" y="111"/>
                  </a:lnTo>
                  <a:lnTo>
                    <a:pt x="47" y="98"/>
                  </a:lnTo>
                  <a:lnTo>
                    <a:pt x="40" y="86"/>
                  </a:lnTo>
                  <a:lnTo>
                    <a:pt x="33" y="77"/>
                  </a:lnTo>
                  <a:lnTo>
                    <a:pt x="26" y="73"/>
                  </a:lnTo>
                  <a:lnTo>
                    <a:pt x="22" y="72"/>
                  </a:lnTo>
                  <a:lnTo>
                    <a:pt x="18" y="71"/>
                  </a:lnTo>
                  <a:lnTo>
                    <a:pt x="17" y="71"/>
                  </a:lnTo>
                  <a:lnTo>
                    <a:pt x="13" y="69"/>
                  </a:lnTo>
                  <a:lnTo>
                    <a:pt x="11" y="68"/>
                  </a:lnTo>
                  <a:lnTo>
                    <a:pt x="5" y="67"/>
                  </a:lnTo>
                  <a:lnTo>
                    <a:pt x="0" y="67"/>
                  </a:lnTo>
                  <a:lnTo>
                    <a:pt x="7" y="59"/>
                  </a:lnTo>
                  <a:lnTo>
                    <a:pt x="16" y="52"/>
                  </a:lnTo>
                  <a:lnTo>
                    <a:pt x="26" y="44"/>
                  </a:lnTo>
                  <a:lnTo>
                    <a:pt x="38" y="36"/>
                  </a:lnTo>
                  <a:lnTo>
                    <a:pt x="50" y="26"/>
                  </a:lnTo>
                  <a:lnTo>
                    <a:pt x="64" y="18"/>
                  </a:lnTo>
                  <a:lnTo>
                    <a:pt x="78" y="9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7087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766120" y="4460040"/>
              <a:ext cx="90720" cy="61920"/>
            </a:xfrm>
            <a:custGeom>
              <a:avLst/>
              <a:gdLst/>
              <a:ahLst/>
              <a:rect l="l" t="t" r="r" b="b"/>
              <a:pathLst>
                <a:path w="145" h="134">
                  <a:moveTo>
                    <a:pt x="90" y="0"/>
                  </a:moveTo>
                  <a:lnTo>
                    <a:pt x="95" y="1"/>
                  </a:lnTo>
                  <a:lnTo>
                    <a:pt x="99" y="4"/>
                  </a:lnTo>
                  <a:lnTo>
                    <a:pt x="100" y="5"/>
                  </a:lnTo>
                  <a:lnTo>
                    <a:pt x="101" y="7"/>
                  </a:lnTo>
                  <a:lnTo>
                    <a:pt x="104" y="10"/>
                  </a:lnTo>
                  <a:lnTo>
                    <a:pt x="106" y="11"/>
                  </a:lnTo>
                  <a:lnTo>
                    <a:pt x="114" y="15"/>
                  </a:lnTo>
                  <a:lnTo>
                    <a:pt x="116" y="20"/>
                  </a:lnTo>
                  <a:lnTo>
                    <a:pt x="120" y="28"/>
                  </a:lnTo>
                  <a:lnTo>
                    <a:pt x="124" y="35"/>
                  </a:lnTo>
                  <a:lnTo>
                    <a:pt x="128" y="44"/>
                  </a:lnTo>
                  <a:lnTo>
                    <a:pt x="132" y="52"/>
                  </a:lnTo>
                  <a:lnTo>
                    <a:pt x="137" y="60"/>
                  </a:lnTo>
                  <a:lnTo>
                    <a:pt x="140" y="68"/>
                  </a:lnTo>
                  <a:lnTo>
                    <a:pt x="145" y="74"/>
                  </a:lnTo>
                  <a:lnTo>
                    <a:pt x="134" y="82"/>
                  </a:lnTo>
                  <a:lnTo>
                    <a:pt x="124" y="90"/>
                  </a:lnTo>
                  <a:lnTo>
                    <a:pt x="113" y="97"/>
                  </a:lnTo>
                  <a:lnTo>
                    <a:pt x="104" y="105"/>
                  </a:lnTo>
                  <a:lnTo>
                    <a:pt x="92" y="111"/>
                  </a:lnTo>
                  <a:lnTo>
                    <a:pt x="82" y="119"/>
                  </a:lnTo>
                  <a:lnTo>
                    <a:pt x="72" y="126"/>
                  </a:lnTo>
                  <a:lnTo>
                    <a:pt x="62" y="134"/>
                  </a:lnTo>
                  <a:lnTo>
                    <a:pt x="58" y="131"/>
                  </a:lnTo>
                  <a:lnTo>
                    <a:pt x="54" y="126"/>
                  </a:lnTo>
                  <a:lnTo>
                    <a:pt x="49" y="117"/>
                  </a:lnTo>
                  <a:lnTo>
                    <a:pt x="46" y="109"/>
                  </a:lnTo>
                  <a:lnTo>
                    <a:pt x="39" y="98"/>
                  </a:lnTo>
                  <a:lnTo>
                    <a:pt x="34" y="90"/>
                  </a:lnTo>
                  <a:lnTo>
                    <a:pt x="29" y="81"/>
                  </a:lnTo>
                  <a:lnTo>
                    <a:pt x="25" y="77"/>
                  </a:lnTo>
                  <a:lnTo>
                    <a:pt x="18" y="73"/>
                  </a:lnTo>
                  <a:lnTo>
                    <a:pt x="15" y="72"/>
                  </a:lnTo>
                  <a:lnTo>
                    <a:pt x="13" y="72"/>
                  </a:lnTo>
                  <a:lnTo>
                    <a:pt x="10" y="71"/>
                  </a:lnTo>
                  <a:lnTo>
                    <a:pt x="9" y="69"/>
                  </a:lnTo>
                  <a:lnTo>
                    <a:pt x="5" y="68"/>
                  </a:lnTo>
                  <a:lnTo>
                    <a:pt x="0" y="67"/>
                  </a:lnTo>
                  <a:lnTo>
                    <a:pt x="6" y="60"/>
                  </a:lnTo>
                  <a:lnTo>
                    <a:pt x="15" y="54"/>
                  </a:lnTo>
                  <a:lnTo>
                    <a:pt x="25" y="47"/>
                  </a:lnTo>
                  <a:lnTo>
                    <a:pt x="37" y="39"/>
                  </a:lnTo>
                  <a:lnTo>
                    <a:pt x="48" y="29"/>
                  </a:lnTo>
                  <a:lnTo>
                    <a:pt x="62" y="20"/>
                  </a:lnTo>
                  <a:lnTo>
                    <a:pt x="76" y="1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8094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771160" y="4461840"/>
              <a:ext cx="73440" cy="43200"/>
            </a:xfrm>
            <a:custGeom>
              <a:avLst/>
              <a:gdLst/>
              <a:ahLst/>
              <a:rect l="l" t="t" r="r" b="b"/>
              <a:pathLst>
                <a:path w="121" h="95">
                  <a:moveTo>
                    <a:pt x="91" y="0"/>
                  </a:moveTo>
                  <a:lnTo>
                    <a:pt x="99" y="4"/>
                  </a:lnTo>
                  <a:lnTo>
                    <a:pt x="99" y="7"/>
                  </a:lnTo>
                  <a:lnTo>
                    <a:pt x="98" y="7"/>
                  </a:lnTo>
                  <a:lnTo>
                    <a:pt x="99" y="8"/>
                  </a:lnTo>
                  <a:lnTo>
                    <a:pt x="102" y="9"/>
                  </a:lnTo>
                  <a:lnTo>
                    <a:pt x="108" y="13"/>
                  </a:lnTo>
                  <a:lnTo>
                    <a:pt x="109" y="16"/>
                  </a:lnTo>
                  <a:lnTo>
                    <a:pt x="113" y="23"/>
                  </a:lnTo>
                  <a:lnTo>
                    <a:pt x="117" y="31"/>
                  </a:lnTo>
                  <a:lnTo>
                    <a:pt x="121" y="34"/>
                  </a:lnTo>
                  <a:lnTo>
                    <a:pt x="109" y="41"/>
                  </a:lnTo>
                  <a:lnTo>
                    <a:pt x="99" y="48"/>
                  </a:lnTo>
                  <a:lnTo>
                    <a:pt x="88" y="56"/>
                  </a:lnTo>
                  <a:lnTo>
                    <a:pt x="79" y="64"/>
                  </a:lnTo>
                  <a:lnTo>
                    <a:pt x="69" y="70"/>
                  </a:lnTo>
                  <a:lnTo>
                    <a:pt x="59" y="77"/>
                  </a:lnTo>
                  <a:lnTo>
                    <a:pt x="48" y="85"/>
                  </a:lnTo>
                  <a:lnTo>
                    <a:pt x="40" y="94"/>
                  </a:lnTo>
                  <a:lnTo>
                    <a:pt x="36" y="95"/>
                  </a:lnTo>
                  <a:lnTo>
                    <a:pt x="29" y="88"/>
                  </a:lnTo>
                  <a:lnTo>
                    <a:pt x="23" y="77"/>
                  </a:lnTo>
                  <a:lnTo>
                    <a:pt x="19" y="75"/>
                  </a:lnTo>
                  <a:lnTo>
                    <a:pt x="13" y="71"/>
                  </a:lnTo>
                  <a:lnTo>
                    <a:pt x="10" y="70"/>
                  </a:lnTo>
                  <a:lnTo>
                    <a:pt x="9" y="70"/>
                  </a:lnTo>
                  <a:lnTo>
                    <a:pt x="10" y="70"/>
                  </a:lnTo>
                  <a:lnTo>
                    <a:pt x="9" y="69"/>
                  </a:lnTo>
                  <a:lnTo>
                    <a:pt x="5" y="67"/>
                  </a:lnTo>
                  <a:lnTo>
                    <a:pt x="0" y="67"/>
                  </a:lnTo>
                  <a:lnTo>
                    <a:pt x="7" y="60"/>
                  </a:lnTo>
                  <a:lnTo>
                    <a:pt x="17" y="52"/>
                  </a:lnTo>
                  <a:lnTo>
                    <a:pt x="27" y="45"/>
                  </a:lnTo>
                  <a:lnTo>
                    <a:pt x="38" y="37"/>
                  </a:lnTo>
                  <a:lnTo>
                    <a:pt x="50" y="27"/>
                  </a:lnTo>
                  <a:lnTo>
                    <a:pt x="64" y="18"/>
                  </a:lnTo>
                  <a:lnTo>
                    <a:pt x="77" y="9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91a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788440" y="4473000"/>
              <a:ext cx="56160" cy="32040"/>
            </a:xfrm>
            <a:custGeom>
              <a:avLst/>
              <a:gdLst/>
              <a:ahLst/>
              <a:rect l="l" t="t" r="r" b="b"/>
              <a:pathLst>
                <a:path w="92" h="70">
                  <a:moveTo>
                    <a:pt x="84" y="0"/>
                  </a:moveTo>
                  <a:lnTo>
                    <a:pt x="85" y="2"/>
                  </a:lnTo>
                  <a:lnTo>
                    <a:pt x="88" y="5"/>
                  </a:lnTo>
                  <a:lnTo>
                    <a:pt x="89" y="8"/>
                  </a:lnTo>
                  <a:lnTo>
                    <a:pt x="92" y="10"/>
                  </a:lnTo>
                  <a:lnTo>
                    <a:pt x="80" y="17"/>
                  </a:lnTo>
                  <a:lnTo>
                    <a:pt x="67" y="26"/>
                  </a:lnTo>
                  <a:lnTo>
                    <a:pt x="54" y="36"/>
                  </a:lnTo>
                  <a:lnTo>
                    <a:pt x="40" y="46"/>
                  </a:lnTo>
                  <a:lnTo>
                    <a:pt x="24" y="53"/>
                  </a:lnTo>
                  <a:lnTo>
                    <a:pt x="14" y="62"/>
                  </a:lnTo>
                  <a:lnTo>
                    <a:pt x="5" y="67"/>
                  </a:lnTo>
                  <a:lnTo>
                    <a:pt x="3" y="70"/>
                  </a:lnTo>
                  <a:lnTo>
                    <a:pt x="2" y="65"/>
                  </a:lnTo>
                  <a:lnTo>
                    <a:pt x="0" y="62"/>
                  </a:lnTo>
                  <a:lnTo>
                    <a:pt x="13" y="51"/>
                  </a:lnTo>
                  <a:lnTo>
                    <a:pt x="24" y="43"/>
                  </a:lnTo>
                  <a:lnTo>
                    <a:pt x="33" y="36"/>
                  </a:lnTo>
                  <a:lnTo>
                    <a:pt x="43" y="29"/>
                  </a:lnTo>
                  <a:lnTo>
                    <a:pt x="51" y="23"/>
                  </a:lnTo>
                  <a:lnTo>
                    <a:pt x="61" y="17"/>
                  </a:lnTo>
                  <a:lnTo>
                    <a:pt x="71" y="8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798160" y="4456080"/>
              <a:ext cx="56520" cy="29880"/>
            </a:xfrm>
            <a:custGeom>
              <a:avLst/>
              <a:gdLst/>
              <a:ahLst/>
              <a:rect l="l" t="t" r="r" b="b"/>
              <a:pathLst>
                <a:path w="91" h="67">
                  <a:moveTo>
                    <a:pt x="0" y="4"/>
                  </a:moveTo>
                  <a:lnTo>
                    <a:pt x="7" y="4"/>
                  </a:lnTo>
                  <a:lnTo>
                    <a:pt x="13" y="5"/>
                  </a:lnTo>
                  <a:lnTo>
                    <a:pt x="21" y="6"/>
                  </a:lnTo>
                  <a:lnTo>
                    <a:pt x="28" y="9"/>
                  </a:lnTo>
                  <a:lnTo>
                    <a:pt x="34" y="9"/>
                  </a:lnTo>
                  <a:lnTo>
                    <a:pt x="41" y="11"/>
                  </a:lnTo>
                  <a:lnTo>
                    <a:pt x="48" y="11"/>
                  </a:lnTo>
                  <a:lnTo>
                    <a:pt x="56" y="14"/>
                  </a:lnTo>
                  <a:lnTo>
                    <a:pt x="57" y="18"/>
                  </a:lnTo>
                  <a:lnTo>
                    <a:pt x="62" y="25"/>
                  </a:lnTo>
                  <a:lnTo>
                    <a:pt x="66" y="32"/>
                  </a:lnTo>
                  <a:lnTo>
                    <a:pt x="72" y="40"/>
                  </a:lnTo>
                  <a:lnTo>
                    <a:pt x="78" y="48"/>
                  </a:lnTo>
                  <a:lnTo>
                    <a:pt x="83" y="56"/>
                  </a:lnTo>
                  <a:lnTo>
                    <a:pt x="86" y="61"/>
                  </a:lnTo>
                  <a:lnTo>
                    <a:pt x="91" y="67"/>
                  </a:lnTo>
                  <a:lnTo>
                    <a:pt x="89" y="62"/>
                  </a:lnTo>
                  <a:lnTo>
                    <a:pt x="86" y="56"/>
                  </a:lnTo>
                  <a:lnTo>
                    <a:pt x="84" y="49"/>
                  </a:lnTo>
                  <a:lnTo>
                    <a:pt x="81" y="43"/>
                  </a:lnTo>
                  <a:lnTo>
                    <a:pt x="78" y="35"/>
                  </a:lnTo>
                  <a:lnTo>
                    <a:pt x="74" y="28"/>
                  </a:lnTo>
                  <a:lnTo>
                    <a:pt x="70" y="20"/>
                  </a:lnTo>
                  <a:lnTo>
                    <a:pt x="67" y="16"/>
                  </a:lnTo>
                  <a:lnTo>
                    <a:pt x="59" y="13"/>
                  </a:lnTo>
                  <a:lnTo>
                    <a:pt x="51" y="10"/>
                  </a:lnTo>
                  <a:lnTo>
                    <a:pt x="43" y="6"/>
                  </a:lnTo>
                  <a:lnTo>
                    <a:pt x="36" y="5"/>
                  </a:lnTo>
                  <a:lnTo>
                    <a:pt x="28" y="1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009120" y="3996000"/>
              <a:ext cx="914400" cy="912600"/>
            </a:xfrm>
            <a:custGeom>
              <a:avLst/>
              <a:gdLst/>
              <a:ahLst/>
              <a:rect l="l" t="t" r="r" b="b"/>
              <a:pathLst>
                <a:path w="1487" h="1934">
                  <a:moveTo>
                    <a:pt x="0" y="1447"/>
                  </a:moveTo>
                  <a:lnTo>
                    <a:pt x="109" y="1632"/>
                  </a:lnTo>
                  <a:lnTo>
                    <a:pt x="270" y="1645"/>
                  </a:lnTo>
                  <a:lnTo>
                    <a:pt x="466" y="1520"/>
                  </a:lnTo>
                  <a:lnTo>
                    <a:pt x="686" y="1292"/>
                  </a:lnTo>
                  <a:lnTo>
                    <a:pt x="911" y="989"/>
                  </a:lnTo>
                  <a:lnTo>
                    <a:pt x="1130" y="652"/>
                  </a:lnTo>
                  <a:lnTo>
                    <a:pt x="1326" y="311"/>
                  </a:lnTo>
                  <a:lnTo>
                    <a:pt x="1487" y="0"/>
                  </a:lnTo>
                  <a:lnTo>
                    <a:pt x="1357" y="269"/>
                  </a:lnTo>
                  <a:lnTo>
                    <a:pt x="1214" y="571"/>
                  </a:lnTo>
                  <a:lnTo>
                    <a:pt x="1058" y="886"/>
                  </a:lnTo>
                  <a:lnTo>
                    <a:pt x="891" y="1193"/>
                  </a:lnTo>
                  <a:lnTo>
                    <a:pt x="712" y="1470"/>
                  </a:lnTo>
                  <a:lnTo>
                    <a:pt x="523" y="1700"/>
                  </a:lnTo>
                  <a:lnTo>
                    <a:pt x="323" y="1860"/>
                  </a:lnTo>
                  <a:lnTo>
                    <a:pt x="117" y="1934"/>
                  </a:lnTo>
                  <a:lnTo>
                    <a:pt x="116" y="1884"/>
                  </a:lnTo>
                  <a:lnTo>
                    <a:pt x="108" y="1836"/>
                  </a:lnTo>
                  <a:lnTo>
                    <a:pt x="94" y="1783"/>
                  </a:lnTo>
                  <a:lnTo>
                    <a:pt x="78" y="1729"/>
                  </a:lnTo>
                  <a:lnTo>
                    <a:pt x="57" y="1667"/>
                  </a:lnTo>
                  <a:lnTo>
                    <a:pt x="37" y="1601"/>
                  </a:lnTo>
                  <a:lnTo>
                    <a:pt x="17" y="1528"/>
                  </a:lnTo>
                  <a:lnTo>
                    <a:pt x="0" y="1447"/>
                  </a:lnTo>
                  <a:close/>
                </a:path>
              </a:pathLst>
            </a:custGeom>
            <a:solidFill>
              <a:srgbClr val="f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01840" y="4509000"/>
              <a:ext cx="790920" cy="660240"/>
            </a:xfrm>
            <a:custGeom>
              <a:avLst/>
              <a:gdLst/>
              <a:ahLst/>
              <a:rect l="l" t="t" r="r" b="b"/>
              <a:pathLst>
                <a:path w="1289" h="1400">
                  <a:moveTo>
                    <a:pt x="1289" y="0"/>
                  </a:moveTo>
                  <a:lnTo>
                    <a:pt x="1226" y="43"/>
                  </a:lnTo>
                  <a:lnTo>
                    <a:pt x="1085" y="146"/>
                  </a:lnTo>
                  <a:lnTo>
                    <a:pt x="894" y="290"/>
                  </a:lnTo>
                  <a:lnTo>
                    <a:pt x="677" y="456"/>
                  </a:lnTo>
                  <a:lnTo>
                    <a:pt x="459" y="620"/>
                  </a:lnTo>
                  <a:lnTo>
                    <a:pt x="268" y="767"/>
                  </a:lnTo>
                  <a:lnTo>
                    <a:pt x="129" y="875"/>
                  </a:lnTo>
                  <a:lnTo>
                    <a:pt x="71" y="925"/>
                  </a:lnTo>
                  <a:lnTo>
                    <a:pt x="30" y="1002"/>
                  </a:lnTo>
                  <a:lnTo>
                    <a:pt x="7" y="1078"/>
                  </a:lnTo>
                  <a:lnTo>
                    <a:pt x="0" y="1148"/>
                  </a:lnTo>
                  <a:lnTo>
                    <a:pt x="9" y="1215"/>
                  </a:lnTo>
                  <a:lnTo>
                    <a:pt x="30" y="1273"/>
                  </a:lnTo>
                  <a:lnTo>
                    <a:pt x="64" y="1325"/>
                  </a:lnTo>
                  <a:lnTo>
                    <a:pt x="111" y="1366"/>
                  </a:lnTo>
                  <a:lnTo>
                    <a:pt x="169" y="1400"/>
                  </a:lnTo>
                  <a:lnTo>
                    <a:pt x="110" y="1355"/>
                  </a:lnTo>
                  <a:lnTo>
                    <a:pt x="67" y="1302"/>
                  </a:lnTo>
                  <a:lnTo>
                    <a:pt x="39" y="1242"/>
                  </a:lnTo>
                  <a:lnTo>
                    <a:pt x="26" y="1180"/>
                  </a:lnTo>
                  <a:lnTo>
                    <a:pt x="25" y="1115"/>
                  </a:lnTo>
                  <a:lnTo>
                    <a:pt x="36" y="1052"/>
                  </a:lnTo>
                  <a:lnTo>
                    <a:pt x="60" y="988"/>
                  </a:lnTo>
                  <a:lnTo>
                    <a:pt x="97" y="930"/>
                  </a:lnTo>
                  <a:lnTo>
                    <a:pt x="150" y="882"/>
                  </a:lnTo>
                  <a:lnTo>
                    <a:pt x="284" y="777"/>
                  </a:lnTo>
                  <a:lnTo>
                    <a:pt x="470" y="632"/>
                  </a:lnTo>
                  <a:lnTo>
                    <a:pt x="684" y="467"/>
                  </a:lnTo>
                  <a:lnTo>
                    <a:pt x="898" y="301"/>
                  </a:lnTo>
                  <a:lnTo>
                    <a:pt x="1088" y="155"/>
                  </a:lnTo>
                  <a:lnTo>
                    <a:pt x="1226" y="47"/>
                  </a:lnTo>
                  <a:lnTo>
                    <a:pt x="1289" y="0"/>
                  </a:lnTo>
                  <a:close/>
                </a:path>
              </a:pathLst>
            </a:custGeom>
            <a:solidFill>
              <a:srgbClr val="ff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031880" y="3977280"/>
              <a:ext cx="73440" cy="418680"/>
            </a:xfrm>
            <a:custGeom>
              <a:avLst/>
              <a:gdLst/>
              <a:ahLst/>
              <a:rect l="l" t="t" r="r" b="b"/>
              <a:pathLst>
                <a:path w="120" h="887">
                  <a:moveTo>
                    <a:pt x="24" y="0"/>
                  </a:moveTo>
                  <a:lnTo>
                    <a:pt x="42" y="62"/>
                  </a:lnTo>
                  <a:lnTo>
                    <a:pt x="64" y="144"/>
                  </a:lnTo>
                  <a:lnTo>
                    <a:pt x="84" y="240"/>
                  </a:lnTo>
                  <a:lnTo>
                    <a:pt x="103" y="347"/>
                  </a:lnTo>
                  <a:lnTo>
                    <a:pt x="115" y="457"/>
                  </a:lnTo>
                  <a:lnTo>
                    <a:pt x="120" y="567"/>
                  </a:lnTo>
                  <a:lnTo>
                    <a:pt x="114" y="671"/>
                  </a:lnTo>
                  <a:lnTo>
                    <a:pt x="96" y="763"/>
                  </a:lnTo>
                  <a:lnTo>
                    <a:pt x="85" y="778"/>
                  </a:lnTo>
                  <a:lnTo>
                    <a:pt x="74" y="793"/>
                  </a:lnTo>
                  <a:lnTo>
                    <a:pt x="62" y="809"/>
                  </a:lnTo>
                  <a:lnTo>
                    <a:pt x="51" y="825"/>
                  </a:lnTo>
                  <a:lnTo>
                    <a:pt x="38" y="840"/>
                  </a:lnTo>
                  <a:lnTo>
                    <a:pt x="26" y="855"/>
                  </a:lnTo>
                  <a:lnTo>
                    <a:pt x="13" y="871"/>
                  </a:lnTo>
                  <a:lnTo>
                    <a:pt x="0" y="887"/>
                  </a:lnTo>
                  <a:lnTo>
                    <a:pt x="34" y="811"/>
                  </a:lnTo>
                  <a:lnTo>
                    <a:pt x="57" y="711"/>
                  </a:lnTo>
                  <a:lnTo>
                    <a:pt x="70" y="592"/>
                  </a:lnTo>
                  <a:lnTo>
                    <a:pt x="74" y="465"/>
                  </a:lnTo>
                  <a:lnTo>
                    <a:pt x="67" y="333"/>
                  </a:lnTo>
                  <a:lnTo>
                    <a:pt x="57" y="207"/>
                  </a:lnTo>
                  <a:lnTo>
                    <a:pt x="42" y="9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707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"/>
          <p:cNvGrpSpPr/>
          <p:nvPr/>
        </p:nvGrpSpPr>
        <p:grpSpPr>
          <a:xfrm>
            <a:off x="609480" y="1600200"/>
            <a:ext cx="1904760" cy="1752480"/>
            <a:chOff x="609480" y="1600200"/>
            <a:chExt cx="1904760" cy="1752480"/>
          </a:xfrm>
        </p:grpSpPr>
        <p:pic>
          <p:nvPicPr>
            <p:cNvPr id="732" name="" descr=""/>
            <p:cNvPicPr/>
            <p:nvPr/>
          </p:nvPicPr>
          <p:blipFill>
            <a:blip r:embed="rId1"/>
            <a:stretch/>
          </p:blipFill>
          <p:spPr>
            <a:xfrm>
              <a:off x="609480" y="1600200"/>
              <a:ext cx="129528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3" name="" descr=""/>
            <p:cNvPicPr/>
            <p:nvPr/>
          </p:nvPicPr>
          <p:blipFill>
            <a:blip r:embed="rId2"/>
            <a:stretch/>
          </p:blipFill>
          <p:spPr>
            <a:xfrm>
              <a:off x="838080" y="1981080"/>
              <a:ext cx="1371600" cy="9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" descr=""/>
            <p:cNvPicPr/>
            <p:nvPr/>
          </p:nvPicPr>
          <p:blipFill>
            <a:blip r:embed="rId3"/>
            <a:stretch/>
          </p:blipFill>
          <p:spPr>
            <a:xfrm>
              <a:off x="1218960" y="2460600"/>
              <a:ext cx="1295280" cy="89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5" name=""/>
          <p:cNvGrpSpPr/>
          <p:nvPr/>
        </p:nvGrpSpPr>
        <p:grpSpPr>
          <a:xfrm>
            <a:off x="2590920" y="1676520"/>
            <a:ext cx="1904760" cy="1752480"/>
            <a:chOff x="2590920" y="1676520"/>
            <a:chExt cx="1904760" cy="1752480"/>
          </a:xfrm>
        </p:grpSpPr>
        <p:pic>
          <p:nvPicPr>
            <p:cNvPr id="736" name="" descr=""/>
            <p:cNvPicPr/>
            <p:nvPr/>
          </p:nvPicPr>
          <p:blipFill>
            <a:blip r:embed="rId4"/>
            <a:stretch/>
          </p:blipFill>
          <p:spPr>
            <a:xfrm>
              <a:off x="2590920" y="1676520"/>
              <a:ext cx="129528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7" name="" descr=""/>
            <p:cNvPicPr/>
            <p:nvPr/>
          </p:nvPicPr>
          <p:blipFill>
            <a:blip r:embed="rId5"/>
            <a:stretch/>
          </p:blipFill>
          <p:spPr>
            <a:xfrm>
              <a:off x="2819520" y="2057400"/>
              <a:ext cx="1371600" cy="9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8" name="" descr=""/>
            <p:cNvPicPr/>
            <p:nvPr/>
          </p:nvPicPr>
          <p:blipFill>
            <a:blip r:embed="rId6"/>
            <a:stretch/>
          </p:blipFill>
          <p:spPr>
            <a:xfrm>
              <a:off x="3200400" y="2536920"/>
              <a:ext cx="1295280" cy="89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9" name=""/>
          <p:cNvGrpSpPr/>
          <p:nvPr/>
        </p:nvGrpSpPr>
        <p:grpSpPr>
          <a:xfrm>
            <a:off x="4800600" y="1676520"/>
            <a:ext cx="1752480" cy="1730160"/>
            <a:chOff x="4800600" y="1676520"/>
            <a:chExt cx="1752480" cy="1730160"/>
          </a:xfrm>
        </p:grpSpPr>
        <p:pic>
          <p:nvPicPr>
            <p:cNvPr id="740" name="" descr=""/>
            <p:cNvPicPr/>
            <p:nvPr/>
          </p:nvPicPr>
          <p:blipFill>
            <a:blip r:embed="rId7"/>
            <a:stretch/>
          </p:blipFill>
          <p:spPr>
            <a:xfrm>
              <a:off x="4800600" y="1676520"/>
              <a:ext cx="129528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1" name="" descr=""/>
            <p:cNvPicPr/>
            <p:nvPr/>
          </p:nvPicPr>
          <p:blipFill>
            <a:blip r:embed="rId8"/>
            <a:stretch/>
          </p:blipFill>
          <p:spPr>
            <a:xfrm>
              <a:off x="5029200" y="2057400"/>
              <a:ext cx="1371600" cy="9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2" name="" descr=""/>
            <p:cNvPicPr/>
            <p:nvPr/>
          </p:nvPicPr>
          <p:blipFill>
            <a:blip r:embed="rId9"/>
            <a:stretch/>
          </p:blipFill>
          <p:spPr>
            <a:xfrm>
              <a:off x="5257800" y="2514600"/>
              <a:ext cx="1295280" cy="89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3" name=""/>
          <p:cNvSpPr/>
          <p:nvPr/>
        </p:nvSpPr>
        <p:spPr>
          <a:xfrm>
            <a:off x="3348720" y="533520"/>
            <a:ext cx="18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1752480" y="3124080"/>
            <a:ext cx="7010640" cy="3276720"/>
            <a:chOff x="1752480" y="3124080"/>
            <a:chExt cx="7010640" cy="3276720"/>
          </a:xfrm>
        </p:grpSpPr>
        <p:pic>
          <p:nvPicPr>
            <p:cNvPr id="745" name="" descr=""/>
            <p:cNvPicPr/>
            <p:nvPr/>
          </p:nvPicPr>
          <p:blipFill>
            <a:blip r:embed="rId10"/>
            <a:srcRect l="64003" t="-3977" r="0" b="0"/>
            <a:stretch/>
          </p:blipFill>
          <p:spPr>
            <a:xfrm>
              <a:off x="6095880" y="3276720"/>
              <a:ext cx="4222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" descr=""/>
            <p:cNvPicPr/>
            <p:nvPr/>
          </p:nvPicPr>
          <p:blipFill>
            <a:blip r:embed="rId11"/>
            <a:srcRect l="33339" t="-6047" r="37502" b="0"/>
            <a:stretch/>
          </p:blipFill>
          <p:spPr>
            <a:xfrm>
              <a:off x="3962520" y="3124080"/>
              <a:ext cx="3762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7" name="" descr=""/>
            <p:cNvPicPr/>
            <p:nvPr/>
          </p:nvPicPr>
          <p:blipFill>
            <a:blip r:embed="rId12"/>
            <a:srcRect l="0" t="-1616" r="58735" b="0"/>
            <a:stretch/>
          </p:blipFill>
          <p:spPr>
            <a:xfrm>
              <a:off x="1752480" y="3200400"/>
              <a:ext cx="49536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8" name=""/>
            <p:cNvSpPr/>
            <p:nvPr/>
          </p:nvSpPr>
          <p:spPr>
            <a:xfrm>
              <a:off x="6477120" y="3886200"/>
              <a:ext cx="2286000" cy="25146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5562720" y="4191120"/>
            <a:ext cx="990360" cy="1523880"/>
            <a:chOff x="5562720" y="4191120"/>
            <a:chExt cx="990360" cy="1523880"/>
          </a:xfrm>
        </p:grpSpPr>
        <mc:AlternateContent>
          <mc:Choice xmlns:a14="http://schemas.microsoft.com/office/drawing/2010/main" Requires="a14">
            <p:sp>
              <p:nvSpPr>
                <p:cNvPr id="750" name=""/>
                <p:cNvSpPr txBox="1"/>
                <p:nvPr/>
              </p:nvSpPr>
              <p:spPr>
                <a:xfrm>
                  <a:off x="6172200" y="4191120"/>
                  <a:ext cx="380880" cy="15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51" name=""/>
            <p:cNvSpPr/>
            <p:nvPr/>
          </p:nvSpPr>
          <p:spPr>
            <a:xfrm>
              <a:off x="5562720" y="4419720"/>
              <a:ext cx="761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3581280" y="4191120"/>
            <a:ext cx="990360" cy="1523880"/>
            <a:chOff x="3581280" y="4191120"/>
            <a:chExt cx="990360" cy="1523880"/>
          </a:xfrm>
        </p:grpSpPr>
        <mc:AlternateContent>
          <mc:Choice xmlns:a14="http://schemas.microsoft.com/office/drawing/2010/main" Requires="a14">
            <p:sp>
              <p:nvSpPr>
                <p:cNvPr id="753" name=""/>
                <p:cNvSpPr txBox="1"/>
                <p:nvPr/>
              </p:nvSpPr>
              <p:spPr>
                <a:xfrm>
                  <a:off x="4190760" y="4191120"/>
                  <a:ext cx="380880" cy="15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54" name=""/>
            <p:cNvSpPr/>
            <p:nvPr/>
          </p:nvSpPr>
          <p:spPr>
            <a:xfrm>
              <a:off x="3581280" y="4419720"/>
              <a:ext cx="761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1600200" y="4267080"/>
            <a:ext cx="990360" cy="1523880"/>
            <a:chOff x="1600200" y="4267080"/>
            <a:chExt cx="990360" cy="1523880"/>
          </a:xfrm>
        </p:grpSpPr>
        <mc:AlternateContent>
          <mc:Choice xmlns:a14="http://schemas.microsoft.com/office/drawing/2010/main" Requires="a14">
            <p:sp>
              <p:nvSpPr>
                <p:cNvPr id="756" name=""/>
                <p:cNvSpPr txBox="1"/>
                <p:nvPr/>
              </p:nvSpPr>
              <p:spPr>
                <a:xfrm>
                  <a:off x="2209680" y="4267080"/>
                  <a:ext cx="380880" cy="15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57" name=""/>
            <p:cNvSpPr/>
            <p:nvPr/>
          </p:nvSpPr>
          <p:spPr>
            <a:xfrm>
              <a:off x="1600200" y="4495680"/>
              <a:ext cx="761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3533040" y="533520"/>
            <a:ext cx="18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915840" y="1587600"/>
            <a:ext cx="518004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How about something more complicat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>
            <a:off x="6477120" y="4038480"/>
            <a:ext cx="1904760" cy="207036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/>
          <p:nvPr/>
        </p:nvSpPr>
        <p:spPr>
          <a:xfrm>
            <a:off x="1164240" y="4114800"/>
            <a:ext cx="438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Comic Sans MS"/>
              </a:rPr>
              <a:t>1015 ÷ 7 =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6095880" y="1676520"/>
            <a:ext cx="2362320" cy="1676160"/>
            <a:chOff x="6095880" y="1676520"/>
            <a:chExt cx="2362320" cy="1676160"/>
          </a:xfrm>
        </p:grpSpPr>
        <p:sp>
          <p:nvSpPr>
            <p:cNvPr id="763" name=""/>
            <p:cNvSpPr/>
            <p:nvPr/>
          </p:nvSpPr>
          <p:spPr>
            <a:xfrm flipH="1">
              <a:off x="6095880" y="1676520"/>
              <a:ext cx="2362320" cy="1676160"/>
            </a:xfrm>
            <a:prstGeom prst="wedgeEllipseCallout">
              <a:avLst>
                <a:gd name="adj1" fmla="val -10754"/>
                <a:gd name="adj2" fmla="val 69124"/>
              </a:avLst>
            </a:prstGeom>
            <a:solidFill>
              <a:srgbClr val="66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324480" y="1905120"/>
              <a:ext cx="1905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You used to call it long division . .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3609000" y="533520"/>
            <a:ext cx="18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932760" y="1371600"/>
            <a:ext cx="35496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1015 ÷ 7 =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867280" y="3429000"/>
            <a:ext cx="1524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063480" y="3429000"/>
            <a:ext cx="11826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3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019920" y="4572000"/>
            <a:ext cx="1295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388200" y="4572000"/>
            <a:ext cx="8931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003120" y="2819520"/>
            <a:ext cx="141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Comic Sans MS"/>
              </a:rPr>
              <a:t>700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373920" y="3946680"/>
            <a:ext cx="112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70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745080" y="5013360"/>
            <a:ext cx="83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7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183720" y="16002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Comic Sans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488640" y="16002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793560" y="16002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972040" y="2803680"/>
            <a:ext cx="121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Comic Sans MS"/>
              </a:rPr>
              <a:t>-7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5410080" y="2209680"/>
                <a:ext cx="190512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1015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779" name=""/>
          <p:cNvSpPr/>
          <p:nvPr/>
        </p:nvSpPr>
        <p:spPr>
          <a:xfrm>
            <a:off x="5970240" y="3886200"/>
            <a:ext cx="1213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-28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156720" y="5105520"/>
            <a:ext cx="1056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-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95880" y="5791320"/>
            <a:ext cx="1295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909480" y="57913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Comic Sans MS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268800" y="4514760"/>
            <a:ext cx="276120" cy="376200"/>
          </a:xfrm>
          <a:custGeom>
            <a:avLst/>
            <a:gdLst/>
            <a:ahLst/>
            <a:rect l="l" t="t" r="r" b="b"/>
            <a:pathLst>
              <a:path w="348" h="473">
                <a:moveTo>
                  <a:pt x="35" y="0"/>
                </a:moveTo>
                <a:lnTo>
                  <a:pt x="32" y="2"/>
                </a:lnTo>
                <a:lnTo>
                  <a:pt x="28" y="16"/>
                </a:lnTo>
                <a:lnTo>
                  <a:pt x="19" y="37"/>
                </a:lnTo>
                <a:lnTo>
                  <a:pt x="13" y="65"/>
                </a:lnTo>
                <a:lnTo>
                  <a:pt x="6" y="97"/>
                </a:lnTo>
                <a:lnTo>
                  <a:pt x="2" y="134"/>
                </a:lnTo>
                <a:lnTo>
                  <a:pt x="0" y="173"/>
                </a:lnTo>
                <a:lnTo>
                  <a:pt x="5" y="215"/>
                </a:lnTo>
                <a:lnTo>
                  <a:pt x="12" y="256"/>
                </a:lnTo>
                <a:lnTo>
                  <a:pt x="27" y="298"/>
                </a:lnTo>
                <a:lnTo>
                  <a:pt x="48" y="338"/>
                </a:lnTo>
                <a:lnTo>
                  <a:pt x="82" y="375"/>
                </a:lnTo>
                <a:lnTo>
                  <a:pt x="123" y="406"/>
                </a:lnTo>
                <a:lnTo>
                  <a:pt x="175" y="437"/>
                </a:lnTo>
                <a:lnTo>
                  <a:pt x="241" y="458"/>
                </a:lnTo>
                <a:lnTo>
                  <a:pt x="322" y="473"/>
                </a:lnTo>
                <a:lnTo>
                  <a:pt x="348" y="314"/>
                </a:lnTo>
                <a:lnTo>
                  <a:pt x="287" y="139"/>
                </a:lnTo>
                <a:lnTo>
                  <a:pt x="139" y="20"/>
                </a:lnTo>
                <a:lnTo>
                  <a:pt x="35" y="0"/>
                </a:lnTo>
                <a:lnTo>
                  <a:pt x="35" y="0"/>
                </a:lnTo>
                <a:close/>
              </a:path>
            </a:pathLst>
          </a:custGeom>
          <a:solidFill>
            <a:srgbClr val="d9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87480" y="2160360"/>
            <a:ext cx="3498120" cy="4454640"/>
            <a:chOff x="87480" y="2160360"/>
            <a:chExt cx="3498120" cy="4454640"/>
          </a:xfrm>
        </p:grpSpPr>
        <p:sp>
          <p:nvSpPr>
            <p:cNvPr id="785" name=""/>
            <p:cNvSpPr/>
            <p:nvPr/>
          </p:nvSpPr>
          <p:spPr>
            <a:xfrm rot="2831400">
              <a:off x="2897640" y="5252040"/>
              <a:ext cx="31320" cy="151560"/>
            </a:xfrm>
            <a:custGeom>
              <a:avLst/>
              <a:gdLst/>
              <a:ahLst/>
              <a:rect l="l" t="t" r="r" b="b"/>
              <a:pathLst>
                <a:path w="11" h="63">
                  <a:moveTo>
                    <a:pt x="3" y="0"/>
                  </a:moveTo>
                  <a:lnTo>
                    <a:pt x="3" y="8"/>
                  </a:lnTo>
                  <a:lnTo>
                    <a:pt x="3" y="15"/>
                  </a:lnTo>
                  <a:lnTo>
                    <a:pt x="3" y="23"/>
                  </a:lnTo>
                  <a:lnTo>
                    <a:pt x="3" y="31"/>
                  </a:lnTo>
                  <a:lnTo>
                    <a:pt x="2" y="39"/>
                  </a:lnTo>
                  <a:lnTo>
                    <a:pt x="2" y="47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2" y="58"/>
                  </a:lnTo>
                  <a:lnTo>
                    <a:pt x="5" y="55"/>
                  </a:lnTo>
                  <a:lnTo>
                    <a:pt x="7" y="52"/>
                  </a:lnTo>
                  <a:lnTo>
                    <a:pt x="8" y="50"/>
                  </a:lnTo>
                  <a:lnTo>
                    <a:pt x="10" y="42"/>
                  </a:lnTo>
                  <a:lnTo>
                    <a:pt x="11" y="34"/>
                  </a:lnTo>
                  <a:lnTo>
                    <a:pt x="10" y="29"/>
                  </a:lnTo>
                  <a:lnTo>
                    <a:pt x="10" y="21"/>
                  </a:lnTo>
                  <a:lnTo>
                    <a:pt x="8" y="15"/>
                  </a:lnTo>
                  <a:lnTo>
                    <a:pt x="7" y="10"/>
                  </a:lnTo>
                  <a:lnTo>
                    <a:pt x="5" y="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7f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2831400">
              <a:off x="540360" y="3251160"/>
              <a:ext cx="1832040" cy="2035080"/>
            </a:xfrm>
            <a:custGeom>
              <a:avLst/>
              <a:gdLst/>
              <a:ahLst/>
              <a:rect l="l" t="t" r="r" b="b"/>
              <a:pathLst>
                <a:path w="630" h="842">
                  <a:moveTo>
                    <a:pt x="7" y="5"/>
                  </a:moveTo>
                  <a:lnTo>
                    <a:pt x="20" y="24"/>
                  </a:lnTo>
                  <a:lnTo>
                    <a:pt x="31" y="39"/>
                  </a:lnTo>
                  <a:lnTo>
                    <a:pt x="44" y="58"/>
                  </a:lnTo>
                  <a:lnTo>
                    <a:pt x="55" y="76"/>
                  </a:lnTo>
                  <a:lnTo>
                    <a:pt x="67" y="95"/>
                  </a:lnTo>
                  <a:lnTo>
                    <a:pt x="79" y="116"/>
                  </a:lnTo>
                  <a:lnTo>
                    <a:pt x="90" y="134"/>
                  </a:lnTo>
                  <a:lnTo>
                    <a:pt x="102" y="155"/>
                  </a:lnTo>
                  <a:lnTo>
                    <a:pt x="114" y="174"/>
                  </a:lnTo>
                  <a:lnTo>
                    <a:pt x="125" y="195"/>
                  </a:lnTo>
                  <a:lnTo>
                    <a:pt x="136" y="213"/>
                  </a:lnTo>
                  <a:lnTo>
                    <a:pt x="149" y="231"/>
                  </a:lnTo>
                  <a:lnTo>
                    <a:pt x="160" y="250"/>
                  </a:lnTo>
                  <a:lnTo>
                    <a:pt x="171" y="268"/>
                  </a:lnTo>
                  <a:lnTo>
                    <a:pt x="184" y="287"/>
                  </a:lnTo>
                  <a:lnTo>
                    <a:pt x="197" y="303"/>
                  </a:lnTo>
                  <a:lnTo>
                    <a:pt x="208" y="316"/>
                  </a:lnTo>
                  <a:lnTo>
                    <a:pt x="219" y="331"/>
                  </a:lnTo>
                  <a:lnTo>
                    <a:pt x="230" y="345"/>
                  </a:lnTo>
                  <a:lnTo>
                    <a:pt x="243" y="355"/>
                  </a:lnTo>
                  <a:lnTo>
                    <a:pt x="254" y="368"/>
                  </a:lnTo>
                  <a:lnTo>
                    <a:pt x="265" y="379"/>
                  </a:lnTo>
                  <a:lnTo>
                    <a:pt x="278" y="392"/>
                  </a:lnTo>
                  <a:lnTo>
                    <a:pt x="291" y="405"/>
                  </a:lnTo>
                  <a:lnTo>
                    <a:pt x="302" y="416"/>
                  </a:lnTo>
                  <a:lnTo>
                    <a:pt x="313" y="429"/>
                  </a:lnTo>
                  <a:lnTo>
                    <a:pt x="326" y="439"/>
                  </a:lnTo>
                  <a:lnTo>
                    <a:pt x="337" y="453"/>
                  </a:lnTo>
                  <a:lnTo>
                    <a:pt x="350" y="463"/>
                  </a:lnTo>
                  <a:lnTo>
                    <a:pt x="361" y="476"/>
                  </a:lnTo>
                  <a:lnTo>
                    <a:pt x="372" y="489"/>
                  </a:lnTo>
                  <a:lnTo>
                    <a:pt x="383" y="505"/>
                  </a:lnTo>
                  <a:lnTo>
                    <a:pt x="393" y="516"/>
                  </a:lnTo>
                  <a:lnTo>
                    <a:pt x="402" y="529"/>
                  </a:lnTo>
                  <a:lnTo>
                    <a:pt x="412" y="542"/>
                  </a:lnTo>
                  <a:lnTo>
                    <a:pt x="421" y="555"/>
                  </a:lnTo>
                  <a:lnTo>
                    <a:pt x="431" y="568"/>
                  </a:lnTo>
                  <a:lnTo>
                    <a:pt x="441" y="582"/>
                  </a:lnTo>
                  <a:lnTo>
                    <a:pt x="452" y="595"/>
                  </a:lnTo>
                  <a:lnTo>
                    <a:pt x="461" y="611"/>
                  </a:lnTo>
                  <a:lnTo>
                    <a:pt x="471" y="624"/>
                  </a:lnTo>
                  <a:lnTo>
                    <a:pt x="482" y="637"/>
                  </a:lnTo>
                  <a:lnTo>
                    <a:pt x="492" y="650"/>
                  </a:lnTo>
                  <a:lnTo>
                    <a:pt x="501" y="663"/>
                  </a:lnTo>
                  <a:lnTo>
                    <a:pt x="512" y="674"/>
                  </a:lnTo>
                  <a:lnTo>
                    <a:pt x="522" y="687"/>
                  </a:lnTo>
                  <a:lnTo>
                    <a:pt x="533" y="697"/>
                  </a:lnTo>
                  <a:lnTo>
                    <a:pt x="544" y="708"/>
                  </a:lnTo>
                  <a:lnTo>
                    <a:pt x="549" y="711"/>
                  </a:lnTo>
                  <a:lnTo>
                    <a:pt x="554" y="716"/>
                  </a:lnTo>
                  <a:lnTo>
                    <a:pt x="557" y="721"/>
                  </a:lnTo>
                  <a:lnTo>
                    <a:pt x="562" y="726"/>
                  </a:lnTo>
                  <a:lnTo>
                    <a:pt x="566" y="729"/>
                  </a:lnTo>
                  <a:lnTo>
                    <a:pt x="571" y="734"/>
                  </a:lnTo>
                  <a:lnTo>
                    <a:pt x="576" y="739"/>
                  </a:lnTo>
                  <a:lnTo>
                    <a:pt x="581" y="745"/>
                  </a:lnTo>
                  <a:lnTo>
                    <a:pt x="584" y="750"/>
                  </a:lnTo>
                  <a:lnTo>
                    <a:pt x="589" y="755"/>
                  </a:lnTo>
                  <a:lnTo>
                    <a:pt x="594" y="761"/>
                  </a:lnTo>
                  <a:lnTo>
                    <a:pt x="598" y="766"/>
                  </a:lnTo>
                  <a:lnTo>
                    <a:pt x="603" y="768"/>
                  </a:lnTo>
                  <a:lnTo>
                    <a:pt x="608" y="774"/>
                  </a:lnTo>
                  <a:lnTo>
                    <a:pt x="613" y="779"/>
                  </a:lnTo>
                  <a:lnTo>
                    <a:pt x="619" y="784"/>
                  </a:lnTo>
                  <a:lnTo>
                    <a:pt x="622" y="787"/>
                  </a:lnTo>
                  <a:lnTo>
                    <a:pt x="625" y="792"/>
                  </a:lnTo>
                  <a:lnTo>
                    <a:pt x="627" y="797"/>
                  </a:lnTo>
                  <a:lnTo>
                    <a:pt x="629" y="803"/>
                  </a:lnTo>
                  <a:lnTo>
                    <a:pt x="629" y="808"/>
                  </a:lnTo>
                  <a:lnTo>
                    <a:pt x="630" y="813"/>
                  </a:lnTo>
                  <a:lnTo>
                    <a:pt x="629" y="818"/>
                  </a:lnTo>
                  <a:lnTo>
                    <a:pt x="629" y="824"/>
                  </a:lnTo>
                  <a:lnTo>
                    <a:pt x="627" y="829"/>
                  </a:lnTo>
                  <a:lnTo>
                    <a:pt x="624" y="834"/>
                  </a:lnTo>
                  <a:lnTo>
                    <a:pt x="621" y="837"/>
                  </a:lnTo>
                  <a:lnTo>
                    <a:pt x="619" y="840"/>
                  </a:lnTo>
                  <a:lnTo>
                    <a:pt x="616" y="842"/>
                  </a:lnTo>
                  <a:lnTo>
                    <a:pt x="613" y="842"/>
                  </a:lnTo>
                  <a:lnTo>
                    <a:pt x="608" y="842"/>
                  </a:lnTo>
                  <a:lnTo>
                    <a:pt x="605" y="842"/>
                  </a:lnTo>
                  <a:lnTo>
                    <a:pt x="598" y="837"/>
                  </a:lnTo>
                  <a:lnTo>
                    <a:pt x="594" y="834"/>
                  </a:lnTo>
                  <a:lnTo>
                    <a:pt x="587" y="832"/>
                  </a:lnTo>
                  <a:lnTo>
                    <a:pt x="582" y="829"/>
                  </a:lnTo>
                  <a:lnTo>
                    <a:pt x="578" y="824"/>
                  </a:lnTo>
                  <a:lnTo>
                    <a:pt x="571" y="818"/>
                  </a:lnTo>
                  <a:lnTo>
                    <a:pt x="566" y="816"/>
                  </a:lnTo>
                  <a:lnTo>
                    <a:pt x="562" y="811"/>
                  </a:lnTo>
                  <a:lnTo>
                    <a:pt x="557" y="808"/>
                  </a:lnTo>
                  <a:lnTo>
                    <a:pt x="551" y="803"/>
                  </a:lnTo>
                  <a:lnTo>
                    <a:pt x="546" y="797"/>
                  </a:lnTo>
                  <a:lnTo>
                    <a:pt x="541" y="792"/>
                  </a:lnTo>
                  <a:lnTo>
                    <a:pt x="536" y="790"/>
                  </a:lnTo>
                  <a:lnTo>
                    <a:pt x="531" y="784"/>
                  </a:lnTo>
                  <a:lnTo>
                    <a:pt x="527" y="779"/>
                  </a:lnTo>
                  <a:lnTo>
                    <a:pt x="522" y="776"/>
                  </a:lnTo>
                  <a:lnTo>
                    <a:pt x="501" y="758"/>
                  </a:lnTo>
                  <a:lnTo>
                    <a:pt x="482" y="739"/>
                  </a:lnTo>
                  <a:lnTo>
                    <a:pt x="461" y="718"/>
                  </a:lnTo>
                  <a:lnTo>
                    <a:pt x="442" y="700"/>
                  </a:lnTo>
                  <a:lnTo>
                    <a:pt x="421" y="679"/>
                  </a:lnTo>
                  <a:lnTo>
                    <a:pt x="402" y="658"/>
                  </a:lnTo>
                  <a:lnTo>
                    <a:pt x="383" y="637"/>
                  </a:lnTo>
                  <a:lnTo>
                    <a:pt x="364" y="618"/>
                  </a:lnTo>
                  <a:lnTo>
                    <a:pt x="343" y="595"/>
                  </a:lnTo>
                  <a:lnTo>
                    <a:pt x="324" y="571"/>
                  </a:lnTo>
                  <a:lnTo>
                    <a:pt x="305" y="550"/>
                  </a:lnTo>
                  <a:lnTo>
                    <a:pt x="287" y="526"/>
                  </a:lnTo>
                  <a:lnTo>
                    <a:pt x="268" y="505"/>
                  </a:lnTo>
                  <a:lnTo>
                    <a:pt x="251" y="482"/>
                  </a:lnTo>
                  <a:lnTo>
                    <a:pt x="232" y="458"/>
                  </a:lnTo>
                  <a:lnTo>
                    <a:pt x="216" y="437"/>
                  </a:lnTo>
                  <a:lnTo>
                    <a:pt x="206" y="424"/>
                  </a:lnTo>
                  <a:lnTo>
                    <a:pt x="197" y="408"/>
                  </a:lnTo>
                  <a:lnTo>
                    <a:pt x="184" y="387"/>
                  </a:lnTo>
                  <a:lnTo>
                    <a:pt x="169" y="363"/>
                  </a:lnTo>
                  <a:lnTo>
                    <a:pt x="154" y="337"/>
                  </a:lnTo>
                  <a:lnTo>
                    <a:pt x="138" y="308"/>
                  </a:lnTo>
                  <a:lnTo>
                    <a:pt x="120" y="279"/>
                  </a:lnTo>
                  <a:lnTo>
                    <a:pt x="104" y="250"/>
                  </a:lnTo>
                  <a:lnTo>
                    <a:pt x="87" y="218"/>
                  </a:lnTo>
                  <a:lnTo>
                    <a:pt x="71" y="189"/>
                  </a:lnTo>
                  <a:lnTo>
                    <a:pt x="56" y="160"/>
                  </a:lnTo>
                  <a:lnTo>
                    <a:pt x="42" y="134"/>
                  </a:lnTo>
                  <a:lnTo>
                    <a:pt x="31" y="110"/>
                  </a:lnTo>
                  <a:lnTo>
                    <a:pt x="21" y="89"/>
                  </a:lnTo>
                  <a:lnTo>
                    <a:pt x="15" y="71"/>
                  </a:lnTo>
                  <a:lnTo>
                    <a:pt x="12" y="60"/>
                  </a:lnTo>
                  <a:lnTo>
                    <a:pt x="12" y="55"/>
                  </a:lnTo>
                  <a:lnTo>
                    <a:pt x="10" y="52"/>
                  </a:lnTo>
                  <a:lnTo>
                    <a:pt x="10" y="47"/>
                  </a:lnTo>
                  <a:lnTo>
                    <a:pt x="8" y="39"/>
                  </a:lnTo>
                  <a:lnTo>
                    <a:pt x="7" y="34"/>
                  </a:lnTo>
                  <a:lnTo>
                    <a:pt x="5" y="29"/>
                  </a:lnTo>
                  <a:lnTo>
                    <a:pt x="4" y="24"/>
                  </a:lnTo>
                  <a:lnTo>
                    <a:pt x="2" y="18"/>
                  </a:lnTo>
                  <a:lnTo>
                    <a:pt x="2" y="13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4df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rot="2831400">
              <a:off x="678600" y="3915000"/>
              <a:ext cx="2378880" cy="1894680"/>
            </a:xfrm>
            <a:custGeom>
              <a:avLst/>
              <a:gdLst/>
              <a:ahLst/>
              <a:rect l="l" t="t" r="r" b="b"/>
              <a:pathLst>
                <a:path w="818" h="784">
                  <a:moveTo>
                    <a:pt x="59" y="26"/>
                  </a:moveTo>
                  <a:lnTo>
                    <a:pt x="62" y="31"/>
                  </a:lnTo>
                  <a:lnTo>
                    <a:pt x="64" y="37"/>
                  </a:lnTo>
                  <a:lnTo>
                    <a:pt x="67" y="39"/>
                  </a:lnTo>
                  <a:lnTo>
                    <a:pt x="70" y="45"/>
                  </a:lnTo>
                  <a:lnTo>
                    <a:pt x="72" y="45"/>
                  </a:lnTo>
                  <a:lnTo>
                    <a:pt x="75" y="47"/>
                  </a:lnTo>
                  <a:lnTo>
                    <a:pt x="78" y="50"/>
                  </a:lnTo>
                  <a:lnTo>
                    <a:pt x="81" y="50"/>
                  </a:lnTo>
                  <a:lnTo>
                    <a:pt x="84" y="53"/>
                  </a:lnTo>
                  <a:lnTo>
                    <a:pt x="88" y="53"/>
                  </a:lnTo>
                  <a:lnTo>
                    <a:pt x="91" y="53"/>
                  </a:lnTo>
                  <a:lnTo>
                    <a:pt x="94" y="55"/>
                  </a:lnTo>
                  <a:lnTo>
                    <a:pt x="97" y="55"/>
                  </a:lnTo>
                  <a:lnTo>
                    <a:pt x="100" y="55"/>
                  </a:lnTo>
                  <a:lnTo>
                    <a:pt x="104" y="58"/>
                  </a:lnTo>
                  <a:lnTo>
                    <a:pt x="108" y="60"/>
                  </a:lnTo>
                  <a:lnTo>
                    <a:pt x="116" y="63"/>
                  </a:lnTo>
                  <a:lnTo>
                    <a:pt x="126" y="68"/>
                  </a:lnTo>
                  <a:lnTo>
                    <a:pt x="139" y="79"/>
                  </a:lnTo>
                  <a:lnTo>
                    <a:pt x="151" y="87"/>
                  </a:lnTo>
                  <a:lnTo>
                    <a:pt x="166" y="97"/>
                  </a:lnTo>
                  <a:lnTo>
                    <a:pt x="182" y="110"/>
                  </a:lnTo>
                  <a:lnTo>
                    <a:pt x="198" y="124"/>
                  </a:lnTo>
                  <a:lnTo>
                    <a:pt x="215" y="137"/>
                  </a:lnTo>
                  <a:lnTo>
                    <a:pt x="231" y="150"/>
                  </a:lnTo>
                  <a:lnTo>
                    <a:pt x="249" y="163"/>
                  </a:lnTo>
                  <a:lnTo>
                    <a:pt x="265" y="176"/>
                  </a:lnTo>
                  <a:lnTo>
                    <a:pt x="279" y="189"/>
                  </a:lnTo>
                  <a:lnTo>
                    <a:pt x="293" y="203"/>
                  </a:lnTo>
                  <a:lnTo>
                    <a:pt x="304" y="213"/>
                  </a:lnTo>
                  <a:lnTo>
                    <a:pt x="314" y="224"/>
                  </a:lnTo>
                  <a:lnTo>
                    <a:pt x="324" y="232"/>
                  </a:lnTo>
                  <a:lnTo>
                    <a:pt x="338" y="247"/>
                  </a:lnTo>
                  <a:lnTo>
                    <a:pt x="357" y="263"/>
                  </a:lnTo>
                  <a:lnTo>
                    <a:pt x="376" y="279"/>
                  </a:lnTo>
                  <a:lnTo>
                    <a:pt x="397" y="292"/>
                  </a:lnTo>
                  <a:lnTo>
                    <a:pt x="418" y="308"/>
                  </a:lnTo>
                  <a:lnTo>
                    <a:pt x="440" y="321"/>
                  </a:lnTo>
                  <a:lnTo>
                    <a:pt x="464" y="334"/>
                  </a:lnTo>
                  <a:lnTo>
                    <a:pt x="488" y="350"/>
                  </a:lnTo>
                  <a:lnTo>
                    <a:pt x="510" y="363"/>
                  </a:lnTo>
                  <a:lnTo>
                    <a:pt x="534" y="379"/>
                  </a:lnTo>
                  <a:lnTo>
                    <a:pt x="558" y="392"/>
                  </a:lnTo>
                  <a:lnTo>
                    <a:pt x="582" y="411"/>
                  </a:lnTo>
                  <a:lnTo>
                    <a:pt x="604" y="426"/>
                  </a:lnTo>
                  <a:lnTo>
                    <a:pt x="627" y="445"/>
                  </a:lnTo>
                  <a:lnTo>
                    <a:pt x="649" y="463"/>
                  </a:lnTo>
                  <a:lnTo>
                    <a:pt x="670" y="484"/>
                  </a:lnTo>
                  <a:lnTo>
                    <a:pt x="674" y="490"/>
                  </a:lnTo>
                  <a:lnTo>
                    <a:pt x="682" y="505"/>
                  </a:lnTo>
                  <a:lnTo>
                    <a:pt x="695" y="524"/>
                  </a:lnTo>
                  <a:lnTo>
                    <a:pt x="709" y="550"/>
                  </a:lnTo>
                  <a:lnTo>
                    <a:pt x="725" y="576"/>
                  </a:lnTo>
                  <a:lnTo>
                    <a:pt x="743" y="608"/>
                  </a:lnTo>
                  <a:lnTo>
                    <a:pt x="759" y="640"/>
                  </a:lnTo>
                  <a:lnTo>
                    <a:pt x="776" y="674"/>
                  </a:lnTo>
                  <a:lnTo>
                    <a:pt x="791" y="703"/>
                  </a:lnTo>
                  <a:lnTo>
                    <a:pt x="804" y="732"/>
                  </a:lnTo>
                  <a:lnTo>
                    <a:pt x="813" y="753"/>
                  </a:lnTo>
                  <a:lnTo>
                    <a:pt x="818" y="771"/>
                  </a:lnTo>
                  <a:lnTo>
                    <a:pt x="818" y="782"/>
                  </a:lnTo>
                  <a:lnTo>
                    <a:pt x="813" y="784"/>
                  </a:lnTo>
                  <a:lnTo>
                    <a:pt x="802" y="776"/>
                  </a:lnTo>
                  <a:lnTo>
                    <a:pt x="783" y="758"/>
                  </a:lnTo>
                  <a:lnTo>
                    <a:pt x="762" y="734"/>
                  </a:lnTo>
                  <a:lnTo>
                    <a:pt x="741" y="713"/>
                  </a:lnTo>
                  <a:lnTo>
                    <a:pt x="719" y="692"/>
                  </a:lnTo>
                  <a:lnTo>
                    <a:pt x="698" y="671"/>
                  </a:lnTo>
                  <a:lnTo>
                    <a:pt x="678" y="653"/>
                  </a:lnTo>
                  <a:lnTo>
                    <a:pt x="657" y="632"/>
                  </a:lnTo>
                  <a:lnTo>
                    <a:pt x="635" y="613"/>
                  </a:lnTo>
                  <a:lnTo>
                    <a:pt x="615" y="595"/>
                  </a:lnTo>
                  <a:lnTo>
                    <a:pt x="593" y="576"/>
                  </a:lnTo>
                  <a:lnTo>
                    <a:pt x="571" y="558"/>
                  </a:lnTo>
                  <a:lnTo>
                    <a:pt x="550" y="540"/>
                  </a:lnTo>
                  <a:lnTo>
                    <a:pt x="528" y="524"/>
                  </a:lnTo>
                  <a:lnTo>
                    <a:pt x="505" y="505"/>
                  </a:lnTo>
                  <a:lnTo>
                    <a:pt x="485" y="490"/>
                  </a:lnTo>
                  <a:lnTo>
                    <a:pt x="461" y="474"/>
                  </a:lnTo>
                  <a:lnTo>
                    <a:pt x="438" y="458"/>
                  </a:lnTo>
                  <a:lnTo>
                    <a:pt x="429" y="450"/>
                  </a:lnTo>
                  <a:lnTo>
                    <a:pt x="419" y="442"/>
                  </a:lnTo>
                  <a:lnTo>
                    <a:pt x="408" y="437"/>
                  </a:lnTo>
                  <a:lnTo>
                    <a:pt x="399" y="429"/>
                  </a:lnTo>
                  <a:lnTo>
                    <a:pt x="387" y="424"/>
                  </a:lnTo>
                  <a:lnTo>
                    <a:pt x="378" y="418"/>
                  </a:lnTo>
                  <a:lnTo>
                    <a:pt x="367" y="413"/>
                  </a:lnTo>
                  <a:lnTo>
                    <a:pt x="357" y="408"/>
                  </a:lnTo>
                  <a:lnTo>
                    <a:pt x="348" y="400"/>
                  </a:lnTo>
                  <a:lnTo>
                    <a:pt x="336" y="395"/>
                  </a:lnTo>
                  <a:lnTo>
                    <a:pt x="327" y="387"/>
                  </a:lnTo>
                  <a:lnTo>
                    <a:pt x="317" y="382"/>
                  </a:lnTo>
                  <a:lnTo>
                    <a:pt x="306" y="371"/>
                  </a:lnTo>
                  <a:lnTo>
                    <a:pt x="297" y="363"/>
                  </a:lnTo>
                  <a:lnTo>
                    <a:pt x="287" y="355"/>
                  </a:lnTo>
                  <a:lnTo>
                    <a:pt x="277" y="345"/>
                  </a:lnTo>
                  <a:lnTo>
                    <a:pt x="268" y="334"/>
                  </a:lnTo>
                  <a:lnTo>
                    <a:pt x="257" y="321"/>
                  </a:lnTo>
                  <a:lnTo>
                    <a:pt x="245" y="308"/>
                  </a:lnTo>
                  <a:lnTo>
                    <a:pt x="236" y="295"/>
                  </a:lnTo>
                  <a:lnTo>
                    <a:pt x="223" y="284"/>
                  </a:lnTo>
                  <a:lnTo>
                    <a:pt x="212" y="271"/>
                  </a:lnTo>
                  <a:lnTo>
                    <a:pt x="199" y="255"/>
                  </a:lnTo>
                  <a:lnTo>
                    <a:pt x="188" y="245"/>
                  </a:lnTo>
                  <a:lnTo>
                    <a:pt x="175" y="232"/>
                  </a:lnTo>
                  <a:lnTo>
                    <a:pt x="163" y="221"/>
                  </a:lnTo>
                  <a:lnTo>
                    <a:pt x="151" y="208"/>
                  </a:lnTo>
                  <a:lnTo>
                    <a:pt x="139" y="197"/>
                  </a:lnTo>
                  <a:lnTo>
                    <a:pt x="126" y="187"/>
                  </a:lnTo>
                  <a:lnTo>
                    <a:pt x="115" y="179"/>
                  </a:lnTo>
                  <a:lnTo>
                    <a:pt x="102" y="171"/>
                  </a:lnTo>
                  <a:lnTo>
                    <a:pt x="92" y="166"/>
                  </a:lnTo>
                  <a:lnTo>
                    <a:pt x="84" y="163"/>
                  </a:lnTo>
                  <a:lnTo>
                    <a:pt x="78" y="160"/>
                  </a:lnTo>
                  <a:lnTo>
                    <a:pt x="72" y="158"/>
                  </a:lnTo>
                  <a:lnTo>
                    <a:pt x="67" y="155"/>
                  </a:lnTo>
                  <a:lnTo>
                    <a:pt x="61" y="150"/>
                  </a:lnTo>
                  <a:lnTo>
                    <a:pt x="54" y="147"/>
                  </a:lnTo>
                  <a:lnTo>
                    <a:pt x="48" y="142"/>
                  </a:lnTo>
                  <a:lnTo>
                    <a:pt x="43" y="139"/>
                  </a:lnTo>
                  <a:lnTo>
                    <a:pt x="37" y="134"/>
                  </a:lnTo>
                  <a:lnTo>
                    <a:pt x="30" y="129"/>
                  </a:lnTo>
                  <a:lnTo>
                    <a:pt x="25" y="121"/>
                  </a:lnTo>
                  <a:lnTo>
                    <a:pt x="21" y="116"/>
                  </a:lnTo>
                  <a:lnTo>
                    <a:pt x="16" y="108"/>
                  </a:lnTo>
                  <a:lnTo>
                    <a:pt x="13" y="100"/>
                  </a:lnTo>
                  <a:lnTo>
                    <a:pt x="8" y="92"/>
                  </a:lnTo>
                  <a:lnTo>
                    <a:pt x="5" y="84"/>
                  </a:lnTo>
                  <a:lnTo>
                    <a:pt x="2" y="71"/>
                  </a:lnTo>
                  <a:lnTo>
                    <a:pt x="0" y="60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2" y="31"/>
                  </a:lnTo>
                  <a:lnTo>
                    <a:pt x="5" y="24"/>
                  </a:lnTo>
                  <a:lnTo>
                    <a:pt x="9" y="16"/>
                  </a:lnTo>
                  <a:lnTo>
                    <a:pt x="14" y="10"/>
                  </a:lnTo>
                  <a:lnTo>
                    <a:pt x="19" y="5"/>
                  </a:lnTo>
                  <a:lnTo>
                    <a:pt x="24" y="3"/>
                  </a:lnTo>
                  <a:lnTo>
                    <a:pt x="30" y="0"/>
                  </a:lnTo>
                  <a:lnTo>
                    <a:pt x="37" y="3"/>
                  </a:lnTo>
                  <a:lnTo>
                    <a:pt x="41" y="5"/>
                  </a:lnTo>
                  <a:lnTo>
                    <a:pt x="48" y="8"/>
                  </a:lnTo>
                  <a:lnTo>
                    <a:pt x="54" y="16"/>
                  </a:lnTo>
                  <a:lnTo>
                    <a:pt x="59" y="26"/>
                  </a:lnTo>
                  <a:lnTo>
                    <a:pt x="59" y="26"/>
                  </a:lnTo>
                  <a:close/>
                </a:path>
              </a:pathLst>
            </a:custGeom>
            <a:solidFill>
              <a:srgbClr val="ff4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2831400">
              <a:off x="1618920" y="2363760"/>
              <a:ext cx="328320" cy="425160"/>
            </a:xfrm>
            <a:custGeom>
              <a:avLst/>
              <a:gdLst/>
              <a:ahLst/>
              <a:rect l="l" t="t" r="r" b="b"/>
              <a:pathLst>
                <a:path w="113" h="176">
                  <a:moveTo>
                    <a:pt x="43" y="13"/>
                  </a:moveTo>
                  <a:lnTo>
                    <a:pt x="56" y="8"/>
                  </a:lnTo>
                  <a:lnTo>
                    <a:pt x="70" y="10"/>
                  </a:lnTo>
                  <a:lnTo>
                    <a:pt x="81" y="15"/>
                  </a:lnTo>
                  <a:lnTo>
                    <a:pt x="91" y="26"/>
                  </a:lnTo>
                  <a:lnTo>
                    <a:pt x="99" y="39"/>
                  </a:lnTo>
                  <a:lnTo>
                    <a:pt x="105" y="55"/>
                  </a:lnTo>
                  <a:lnTo>
                    <a:pt x="110" y="73"/>
                  </a:lnTo>
                  <a:lnTo>
                    <a:pt x="113" y="92"/>
                  </a:lnTo>
                  <a:lnTo>
                    <a:pt x="113" y="108"/>
                  </a:lnTo>
                  <a:lnTo>
                    <a:pt x="112" y="126"/>
                  </a:lnTo>
                  <a:lnTo>
                    <a:pt x="108" y="142"/>
                  </a:lnTo>
                  <a:lnTo>
                    <a:pt x="102" y="155"/>
                  </a:lnTo>
                  <a:lnTo>
                    <a:pt x="94" y="165"/>
                  </a:lnTo>
                  <a:lnTo>
                    <a:pt x="84" y="173"/>
                  </a:lnTo>
                  <a:lnTo>
                    <a:pt x="73" y="176"/>
                  </a:lnTo>
                  <a:lnTo>
                    <a:pt x="59" y="173"/>
                  </a:lnTo>
                  <a:lnTo>
                    <a:pt x="43" y="165"/>
                  </a:lnTo>
                  <a:lnTo>
                    <a:pt x="30" y="152"/>
                  </a:lnTo>
                  <a:lnTo>
                    <a:pt x="21" y="139"/>
                  </a:lnTo>
                  <a:lnTo>
                    <a:pt x="13" y="123"/>
                  </a:lnTo>
                  <a:lnTo>
                    <a:pt x="6" y="108"/>
                  </a:lnTo>
                  <a:lnTo>
                    <a:pt x="3" y="89"/>
                  </a:lnTo>
                  <a:lnTo>
                    <a:pt x="0" y="71"/>
                  </a:lnTo>
                  <a:lnTo>
                    <a:pt x="0" y="55"/>
                  </a:lnTo>
                  <a:lnTo>
                    <a:pt x="2" y="39"/>
                  </a:lnTo>
                  <a:lnTo>
                    <a:pt x="5" y="26"/>
                  </a:lnTo>
                  <a:lnTo>
                    <a:pt x="8" y="13"/>
                  </a:lnTo>
                  <a:lnTo>
                    <a:pt x="14" y="5"/>
                  </a:lnTo>
                  <a:lnTo>
                    <a:pt x="19" y="0"/>
                  </a:lnTo>
                  <a:lnTo>
                    <a:pt x="27" y="0"/>
                  </a:lnTo>
                  <a:lnTo>
                    <a:pt x="33" y="2"/>
                  </a:lnTo>
                  <a:lnTo>
                    <a:pt x="43" y="13"/>
                  </a:lnTo>
                  <a:lnTo>
                    <a:pt x="43" y="13"/>
                  </a:lnTo>
                  <a:close/>
                </a:path>
              </a:pathLst>
            </a:custGeom>
            <a:solidFill>
              <a:srgbClr val="40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2831400">
              <a:off x="1710720" y="2175120"/>
              <a:ext cx="168840" cy="292680"/>
            </a:xfrm>
            <a:custGeom>
              <a:avLst/>
              <a:gdLst/>
              <a:ahLst/>
              <a:rect l="l" t="t" r="r" b="b"/>
              <a:pathLst>
                <a:path w="58" h="121">
                  <a:moveTo>
                    <a:pt x="13" y="21"/>
                  </a:moveTo>
                  <a:lnTo>
                    <a:pt x="21" y="8"/>
                  </a:lnTo>
                  <a:lnTo>
                    <a:pt x="31" y="3"/>
                  </a:lnTo>
                  <a:lnTo>
                    <a:pt x="37" y="0"/>
                  </a:lnTo>
                  <a:lnTo>
                    <a:pt x="44" y="6"/>
                  </a:lnTo>
                  <a:lnTo>
                    <a:pt x="48" y="11"/>
                  </a:lnTo>
                  <a:lnTo>
                    <a:pt x="53" y="21"/>
                  </a:lnTo>
                  <a:lnTo>
                    <a:pt x="56" y="32"/>
                  </a:lnTo>
                  <a:lnTo>
                    <a:pt x="58" y="45"/>
                  </a:lnTo>
                  <a:lnTo>
                    <a:pt x="58" y="58"/>
                  </a:lnTo>
                  <a:lnTo>
                    <a:pt x="58" y="71"/>
                  </a:lnTo>
                  <a:lnTo>
                    <a:pt x="56" y="85"/>
                  </a:lnTo>
                  <a:lnTo>
                    <a:pt x="53" y="98"/>
                  </a:lnTo>
                  <a:lnTo>
                    <a:pt x="48" y="108"/>
                  </a:lnTo>
                  <a:lnTo>
                    <a:pt x="42" y="116"/>
                  </a:lnTo>
                  <a:lnTo>
                    <a:pt x="34" y="119"/>
                  </a:lnTo>
                  <a:lnTo>
                    <a:pt x="26" y="121"/>
                  </a:lnTo>
                  <a:lnTo>
                    <a:pt x="20" y="119"/>
                  </a:lnTo>
                  <a:lnTo>
                    <a:pt x="15" y="116"/>
                  </a:lnTo>
                  <a:lnTo>
                    <a:pt x="12" y="111"/>
                  </a:lnTo>
                  <a:lnTo>
                    <a:pt x="8" y="108"/>
                  </a:lnTo>
                  <a:lnTo>
                    <a:pt x="5" y="100"/>
                  </a:lnTo>
                  <a:lnTo>
                    <a:pt x="2" y="95"/>
                  </a:lnTo>
                  <a:lnTo>
                    <a:pt x="2" y="87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4" y="40"/>
                  </a:lnTo>
                  <a:lnTo>
                    <a:pt x="7" y="32"/>
                  </a:lnTo>
                  <a:lnTo>
                    <a:pt x="10" y="27"/>
                  </a:lnTo>
                  <a:lnTo>
                    <a:pt x="13" y="21"/>
                  </a:lnTo>
                  <a:lnTo>
                    <a:pt x="13" y="21"/>
                  </a:lnTo>
                  <a:close/>
                </a:path>
              </a:pathLst>
            </a:custGeom>
            <a:solidFill>
              <a:srgbClr val="40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2831400">
              <a:off x="1046160" y="2859120"/>
              <a:ext cx="1040760" cy="1418400"/>
            </a:xfrm>
            <a:custGeom>
              <a:avLst/>
              <a:gdLst/>
              <a:ahLst/>
              <a:rect l="l" t="t" r="r" b="b"/>
              <a:pathLst>
                <a:path w="358" h="587">
                  <a:moveTo>
                    <a:pt x="76" y="63"/>
                  </a:moveTo>
                  <a:lnTo>
                    <a:pt x="81" y="66"/>
                  </a:lnTo>
                  <a:lnTo>
                    <a:pt x="84" y="71"/>
                  </a:lnTo>
                  <a:lnTo>
                    <a:pt x="87" y="77"/>
                  </a:lnTo>
                  <a:lnTo>
                    <a:pt x="90" y="84"/>
                  </a:lnTo>
                  <a:lnTo>
                    <a:pt x="94" y="90"/>
                  </a:lnTo>
                  <a:lnTo>
                    <a:pt x="97" y="98"/>
                  </a:lnTo>
                  <a:lnTo>
                    <a:pt x="100" y="103"/>
                  </a:lnTo>
                  <a:lnTo>
                    <a:pt x="103" y="111"/>
                  </a:lnTo>
                  <a:lnTo>
                    <a:pt x="106" y="119"/>
                  </a:lnTo>
                  <a:lnTo>
                    <a:pt x="108" y="127"/>
                  </a:lnTo>
                  <a:lnTo>
                    <a:pt x="111" y="132"/>
                  </a:lnTo>
                  <a:lnTo>
                    <a:pt x="114" y="140"/>
                  </a:lnTo>
                  <a:lnTo>
                    <a:pt x="116" y="145"/>
                  </a:lnTo>
                  <a:lnTo>
                    <a:pt x="119" y="153"/>
                  </a:lnTo>
                  <a:lnTo>
                    <a:pt x="122" y="161"/>
                  </a:lnTo>
                  <a:lnTo>
                    <a:pt x="127" y="166"/>
                  </a:lnTo>
                  <a:lnTo>
                    <a:pt x="132" y="171"/>
                  </a:lnTo>
                  <a:lnTo>
                    <a:pt x="141" y="182"/>
                  </a:lnTo>
                  <a:lnTo>
                    <a:pt x="151" y="200"/>
                  </a:lnTo>
                  <a:lnTo>
                    <a:pt x="165" y="219"/>
                  </a:lnTo>
                  <a:lnTo>
                    <a:pt x="180" y="245"/>
                  </a:lnTo>
                  <a:lnTo>
                    <a:pt x="196" y="271"/>
                  </a:lnTo>
                  <a:lnTo>
                    <a:pt x="213" y="300"/>
                  </a:lnTo>
                  <a:lnTo>
                    <a:pt x="232" y="332"/>
                  </a:lnTo>
                  <a:lnTo>
                    <a:pt x="250" y="361"/>
                  </a:lnTo>
                  <a:lnTo>
                    <a:pt x="267" y="392"/>
                  </a:lnTo>
                  <a:lnTo>
                    <a:pt x="283" y="421"/>
                  </a:lnTo>
                  <a:lnTo>
                    <a:pt x="299" y="450"/>
                  </a:lnTo>
                  <a:lnTo>
                    <a:pt x="314" y="474"/>
                  </a:lnTo>
                  <a:lnTo>
                    <a:pt x="326" y="498"/>
                  </a:lnTo>
                  <a:lnTo>
                    <a:pt x="336" y="513"/>
                  </a:lnTo>
                  <a:lnTo>
                    <a:pt x="344" y="529"/>
                  </a:lnTo>
                  <a:lnTo>
                    <a:pt x="349" y="529"/>
                  </a:lnTo>
                  <a:lnTo>
                    <a:pt x="352" y="532"/>
                  </a:lnTo>
                  <a:lnTo>
                    <a:pt x="353" y="535"/>
                  </a:lnTo>
                  <a:lnTo>
                    <a:pt x="357" y="542"/>
                  </a:lnTo>
                  <a:lnTo>
                    <a:pt x="358" y="545"/>
                  </a:lnTo>
                  <a:lnTo>
                    <a:pt x="358" y="553"/>
                  </a:lnTo>
                  <a:lnTo>
                    <a:pt x="358" y="558"/>
                  </a:lnTo>
                  <a:lnTo>
                    <a:pt x="357" y="566"/>
                  </a:lnTo>
                  <a:lnTo>
                    <a:pt x="355" y="571"/>
                  </a:lnTo>
                  <a:lnTo>
                    <a:pt x="352" y="577"/>
                  </a:lnTo>
                  <a:lnTo>
                    <a:pt x="350" y="582"/>
                  </a:lnTo>
                  <a:lnTo>
                    <a:pt x="347" y="585"/>
                  </a:lnTo>
                  <a:lnTo>
                    <a:pt x="344" y="587"/>
                  </a:lnTo>
                  <a:lnTo>
                    <a:pt x="339" y="587"/>
                  </a:lnTo>
                  <a:lnTo>
                    <a:pt x="336" y="587"/>
                  </a:lnTo>
                  <a:lnTo>
                    <a:pt x="331" y="585"/>
                  </a:lnTo>
                  <a:lnTo>
                    <a:pt x="328" y="579"/>
                  </a:lnTo>
                  <a:lnTo>
                    <a:pt x="323" y="577"/>
                  </a:lnTo>
                  <a:lnTo>
                    <a:pt x="320" y="574"/>
                  </a:lnTo>
                  <a:lnTo>
                    <a:pt x="317" y="569"/>
                  </a:lnTo>
                  <a:lnTo>
                    <a:pt x="312" y="566"/>
                  </a:lnTo>
                  <a:lnTo>
                    <a:pt x="309" y="563"/>
                  </a:lnTo>
                  <a:lnTo>
                    <a:pt x="306" y="558"/>
                  </a:lnTo>
                  <a:lnTo>
                    <a:pt x="301" y="556"/>
                  </a:lnTo>
                  <a:lnTo>
                    <a:pt x="298" y="550"/>
                  </a:lnTo>
                  <a:lnTo>
                    <a:pt x="293" y="548"/>
                  </a:lnTo>
                  <a:lnTo>
                    <a:pt x="290" y="542"/>
                  </a:lnTo>
                  <a:lnTo>
                    <a:pt x="285" y="540"/>
                  </a:lnTo>
                  <a:lnTo>
                    <a:pt x="282" y="537"/>
                  </a:lnTo>
                  <a:lnTo>
                    <a:pt x="279" y="535"/>
                  </a:lnTo>
                  <a:lnTo>
                    <a:pt x="275" y="529"/>
                  </a:lnTo>
                  <a:lnTo>
                    <a:pt x="274" y="527"/>
                  </a:lnTo>
                  <a:lnTo>
                    <a:pt x="266" y="516"/>
                  </a:lnTo>
                  <a:lnTo>
                    <a:pt x="259" y="506"/>
                  </a:lnTo>
                  <a:lnTo>
                    <a:pt x="251" y="495"/>
                  </a:lnTo>
                  <a:lnTo>
                    <a:pt x="247" y="485"/>
                  </a:lnTo>
                  <a:lnTo>
                    <a:pt x="240" y="474"/>
                  </a:lnTo>
                  <a:lnTo>
                    <a:pt x="234" y="463"/>
                  </a:lnTo>
                  <a:lnTo>
                    <a:pt x="228" y="453"/>
                  </a:lnTo>
                  <a:lnTo>
                    <a:pt x="221" y="442"/>
                  </a:lnTo>
                  <a:lnTo>
                    <a:pt x="215" y="429"/>
                  </a:lnTo>
                  <a:lnTo>
                    <a:pt x="210" y="419"/>
                  </a:lnTo>
                  <a:lnTo>
                    <a:pt x="204" y="408"/>
                  </a:lnTo>
                  <a:lnTo>
                    <a:pt x="197" y="398"/>
                  </a:lnTo>
                  <a:lnTo>
                    <a:pt x="191" y="384"/>
                  </a:lnTo>
                  <a:lnTo>
                    <a:pt x="184" y="377"/>
                  </a:lnTo>
                  <a:lnTo>
                    <a:pt x="176" y="366"/>
                  </a:lnTo>
                  <a:lnTo>
                    <a:pt x="170" y="358"/>
                  </a:lnTo>
                  <a:lnTo>
                    <a:pt x="157" y="340"/>
                  </a:lnTo>
                  <a:lnTo>
                    <a:pt x="146" y="324"/>
                  </a:lnTo>
                  <a:lnTo>
                    <a:pt x="133" y="306"/>
                  </a:lnTo>
                  <a:lnTo>
                    <a:pt x="122" y="290"/>
                  </a:lnTo>
                  <a:lnTo>
                    <a:pt x="111" y="274"/>
                  </a:lnTo>
                  <a:lnTo>
                    <a:pt x="100" y="256"/>
                  </a:lnTo>
                  <a:lnTo>
                    <a:pt x="89" y="240"/>
                  </a:lnTo>
                  <a:lnTo>
                    <a:pt x="79" y="224"/>
                  </a:lnTo>
                  <a:lnTo>
                    <a:pt x="68" y="205"/>
                  </a:lnTo>
                  <a:lnTo>
                    <a:pt x="59" y="187"/>
                  </a:lnTo>
                  <a:lnTo>
                    <a:pt x="49" y="169"/>
                  </a:lnTo>
                  <a:lnTo>
                    <a:pt x="39" y="150"/>
                  </a:lnTo>
                  <a:lnTo>
                    <a:pt x="30" y="132"/>
                  </a:lnTo>
                  <a:lnTo>
                    <a:pt x="22" y="111"/>
                  </a:lnTo>
                  <a:lnTo>
                    <a:pt x="12" y="90"/>
                  </a:lnTo>
                  <a:lnTo>
                    <a:pt x="6" y="69"/>
                  </a:lnTo>
                  <a:lnTo>
                    <a:pt x="1" y="53"/>
                  </a:lnTo>
                  <a:lnTo>
                    <a:pt x="0" y="42"/>
                  </a:lnTo>
                  <a:lnTo>
                    <a:pt x="0" y="29"/>
                  </a:lnTo>
                  <a:lnTo>
                    <a:pt x="3" y="21"/>
                  </a:lnTo>
                  <a:lnTo>
                    <a:pt x="6" y="13"/>
                  </a:lnTo>
                  <a:lnTo>
                    <a:pt x="12" y="8"/>
                  </a:lnTo>
                  <a:lnTo>
                    <a:pt x="17" y="3"/>
                  </a:lnTo>
                  <a:lnTo>
                    <a:pt x="25" y="3"/>
                  </a:lnTo>
                  <a:lnTo>
                    <a:pt x="33" y="0"/>
                  </a:lnTo>
                  <a:lnTo>
                    <a:pt x="41" y="3"/>
                  </a:lnTo>
                  <a:lnTo>
                    <a:pt x="49" y="8"/>
                  </a:lnTo>
                  <a:lnTo>
                    <a:pt x="55" y="13"/>
                  </a:lnTo>
                  <a:lnTo>
                    <a:pt x="63" y="21"/>
                  </a:lnTo>
                  <a:lnTo>
                    <a:pt x="68" y="32"/>
                  </a:lnTo>
                  <a:lnTo>
                    <a:pt x="73" y="48"/>
                  </a:lnTo>
                  <a:lnTo>
                    <a:pt x="76" y="63"/>
                  </a:lnTo>
                  <a:lnTo>
                    <a:pt x="76" y="63"/>
                  </a:lnTo>
                  <a:close/>
                </a:path>
              </a:pathLst>
            </a:custGeom>
            <a:solidFill>
              <a:srgbClr val="40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rot="2831400">
              <a:off x="912600" y="4424040"/>
              <a:ext cx="982440" cy="1063080"/>
            </a:xfrm>
            <a:custGeom>
              <a:avLst/>
              <a:gdLst/>
              <a:ahLst/>
              <a:rect l="l" t="t" r="r" b="b"/>
              <a:pathLst>
                <a:path w="338" h="440">
                  <a:moveTo>
                    <a:pt x="14" y="74"/>
                  </a:moveTo>
                  <a:lnTo>
                    <a:pt x="9" y="66"/>
                  </a:lnTo>
                  <a:lnTo>
                    <a:pt x="6" y="61"/>
                  </a:lnTo>
                  <a:lnTo>
                    <a:pt x="3" y="53"/>
                  </a:lnTo>
                  <a:lnTo>
                    <a:pt x="1" y="48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1" y="22"/>
                  </a:lnTo>
                  <a:lnTo>
                    <a:pt x="3" y="14"/>
                  </a:lnTo>
                  <a:lnTo>
                    <a:pt x="6" y="8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1" y="3"/>
                  </a:lnTo>
                  <a:lnTo>
                    <a:pt x="35" y="6"/>
                  </a:lnTo>
                  <a:lnTo>
                    <a:pt x="38" y="8"/>
                  </a:lnTo>
                  <a:lnTo>
                    <a:pt x="41" y="8"/>
                  </a:lnTo>
                  <a:lnTo>
                    <a:pt x="44" y="14"/>
                  </a:lnTo>
                  <a:lnTo>
                    <a:pt x="46" y="16"/>
                  </a:lnTo>
                  <a:lnTo>
                    <a:pt x="49" y="16"/>
                  </a:lnTo>
                  <a:lnTo>
                    <a:pt x="52" y="22"/>
                  </a:lnTo>
                  <a:lnTo>
                    <a:pt x="55" y="24"/>
                  </a:lnTo>
                  <a:lnTo>
                    <a:pt x="57" y="27"/>
                  </a:lnTo>
                  <a:lnTo>
                    <a:pt x="60" y="29"/>
                  </a:lnTo>
                  <a:lnTo>
                    <a:pt x="63" y="32"/>
                  </a:lnTo>
                  <a:lnTo>
                    <a:pt x="65" y="37"/>
                  </a:lnTo>
                  <a:lnTo>
                    <a:pt x="70" y="45"/>
                  </a:lnTo>
                  <a:lnTo>
                    <a:pt x="75" y="50"/>
                  </a:lnTo>
                  <a:lnTo>
                    <a:pt x="90" y="74"/>
                  </a:lnTo>
                  <a:lnTo>
                    <a:pt x="105" y="95"/>
                  </a:lnTo>
                  <a:lnTo>
                    <a:pt x="121" y="119"/>
                  </a:lnTo>
                  <a:lnTo>
                    <a:pt x="135" y="140"/>
                  </a:lnTo>
                  <a:lnTo>
                    <a:pt x="151" y="161"/>
                  </a:lnTo>
                  <a:lnTo>
                    <a:pt x="165" y="182"/>
                  </a:lnTo>
                  <a:lnTo>
                    <a:pt x="181" y="201"/>
                  </a:lnTo>
                  <a:lnTo>
                    <a:pt x="197" y="222"/>
                  </a:lnTo>
                  <a:lnTo>
                    <a:pt x="212" y="240"/>
                  </a:lnTo>
                  <a:lnTo>
                    <a:pt x="228" y="261"/>
                  </a:lnTo>
                  <a:lnTo>
                    <a:pt x="244" y="279"/>
                  </a:lnTo>
                  <a:lnTo>
                    <a:pt x="259" y="298"/>
                  </a:lnTo>
                  <a:lnTo>
                    <a:pt x="275" y="316"/>
                  </a:lnTo>
                  <a:lnTo>
                    <a:pt x="293" y="337"/>
                  </a:lnTo>
                  <a:lnTo>
                    <a:pt x="309" y="356"/>
                  </a:lnTo>
                  <a:lnTo>
                    <a:pt x="326" y="374"/>
                  </a:lnTo>
                  <a:lnTo>
                    <a:pt x="331" y="380"/>
                  </a:lnTo>
                  <a:lnTo>
                    <a:pt x="334" y="385"/>
                  </a:lnTo>
                  <a:lnTo>
                    <a:pt x="336" y="390"/>
                  </a:lnTo>
                  <a:lnTo>
                    <a:pt x="338" y="398"/>
                  </a:lnTo>
                  <a:lnTo>
                    <a:pt x="338" y="403"/>
                  </a:lnTo>
                  <a:lnTo>
                    <a:pt x="338" y="411"/>
                  </a:lnTo>
                  <a:lnTo>
                    <a:pt x="336" y="416"/>
                  </a:lnTo>
                  <a:lnTo>
                    <a:pt x="334" y="424"/>
                  </a:lnTo>
                  <a:lnTo>
                    <a:pt x="333" y="427"/>
                  </a:lnTo>
                  <a:lnTo>
                    <a:pt x="330" y="432"/>
                  </a:lnTo>
                  <a:lnTo>
                    <a:pt x="326" y="435"/>
                  </a:lnTo>
                  <a:lnTo>
                    <a:pt x="323" y="440"/>
                  </a:lnTo>
                  <a:lnTo>
                    <a:pt x="318" y="440"/>
                  </a:lnTo>
                  <a:lnTo>
                    <a:pt x="315" y="440"/>
                  </a:lnTo>
                  <a:lnTo>
                    <a:pt x="311" y="437"/>
                  </a:lnTo>
                  <a:lnTo>
                    <a:pt x="306" y="435"/>
                  </a:lnTo>
                  <a:lnTo>
                    <a:pt x="293" y="424"/>
                  </a:lnTo>
                  <a:lnTo>
                    <a:pt x="279" y="411"/>
                  </a:lnTo>
                  <a:lnTo>
                    <a:pt x="263" y="395"/>
                  </a:lnTo>
                  <a:lnTo>
                    <a:pt x="247" y="377"/>
                  </a:lnTo>
                  <a:lnTo>
                    <a:pt x="229" y="358"/>
                  </a:lnTo>
                  <a:lnTo>
                    <a:pt x="213" y="340"/>
                  </a:lnTo>
                  <a:lnTo>
                    <a:pt x="196" y="319"/>
                  </a:lnTo>
                  <a:lnTo>
                    <a:pt x="178" y="301"/>
                  </a:lnTo>
                  <a:lnTo>
                    <a:pt x="161" y="277"/>
                  </a:lnTo>
                  <a:lnTo>
                    <a:pt x="145" y="258"/>
                  </a:lnTo>
                  <a:lnTo>
                    <a:pt x="127" y="237"/>
                  </a:lnTo>
                  <a:lnTo>
                    <a:pt x="113" y="216"/>
                  </a:lnTo>
                  <a:lnTo>
                    <a:pt x="98" y="195"/>
                  </a:lnTo>
                  <a:lnTo>
                    <a:pt x="84" y="177"/>
                  </a:lnTo>
                  <a:lnTo>
                    <a:pt x="71" y="158"/>
                  </a:lnTo>
                  <a:lnTo>
                    <a:pt x="62" y="143"/>
                  </a:lnTo>
                  <a:lnTo>
                    <a:pt x="59" y="137"/>
                  </a:lnTo>
                  <a:lnTo>
                    <a:pt x="55" y="132"/>
                  </a:lnTo>
                  <a:lnTo>
                    <a:pt x="52" y="127"/>
                  </a:lnTo>
                  <a:lnTo>
                    <a:pt x="51" y="124"/>
                  </a:lnTo>
                  <a:lnTo>
                    <a:pt x="47" y="119"/>
                  </a:lnTo>
                  <a:lnTo>
                    <a:pt x="44" y="114"/>
                  </a:lnTo>
                  <a:lnTo>
                    <a:pt x="41" y="108"/>
                  </a:lnTo>
                  <a:lnTo>
                    <a:pt x="39" y="106"/>
                  </a:lnTo>
                  <a:lnTo>
                    <a:pt x="36" y="100"/>
                  </a:lnTo>
                  <a:lnTo>
                    <a:pt x="33" y="95"/>
                  </a:lnTo>
                  <a:lnTo>
                    <a:pt x="30" y="93"/>
                  </a:lnTo>
                  <a:lnTo>
                    <a:pt x="27" y="87"/>
                  </a:lnTo>
                  <a:lnTo>
                    <a:pt x="24" y="85"/>
                  </a:lnTo>
                  <a:lnTo>
                    <a:pt x="20" y="79"/>
                  </a:lnTo>
                  <a:lnTo>
                    <a:pt x="17" y="77"/>
                  </a:lnTo>
                  <a:lnTo>
                    <a:pt x="14" y="74"/>
                  </a:lnTo>
                  <a:lnTo>
                    <a:pt x="14" y="74"/>
                  </a:lnTo>
                  <a:close/>
                </a:path>
              </a:pathLst>
            </a:custGeom>
            <a:solidFill>
              <a:srgbClr val="40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2831400">
              <a:off x="1373040" y="3508200"/>
              <a:ext cx="668520" cy="1191600"/>
            </a:xfrm>
            <a:custGeom>
              <a:avLst/>
              <a:gdLst/>
              <a:ahLst/>
              <a:rect l="l" t="t" r="r" b="b"/>
              <a:pathLst>
                <a:path w="230" h="493">
                  <a:moveTo>
                    <a:pt x="177" y="195"/>
                  </a:moveTo>
                  <a:lnTo>
                    <a:pt x="185" y="206"/>
                  </a:lnTo>
                  <a:lnTo>
                    <a:pt x="190" y="216"/>
                  </a:lnTo>
                  <a:lnTo>
                    <a:pt x="193" y="224"/>
                  </a:lnTo>
                  <a:lnTo>
                    <a:pt x="195" y="235"/>
                  </a:lnTo>
                  <a:lnTo>
                    <a:pt x="195" y="243"/>
                  </a:lnTo>
                  <a:lnTo>
                    <a:pt x="195" y="251"/>
                  </a:lnTo>
                  <a:lnTo>
                    <a:pt x="192" y="258"/>
                  </a:lnTo>
                  <a:lnTo>
                    <a:pt x="188" y="266"/>
                  </a:lnTo>
                  <a:lnTo>
                    <a:pt x="184" y="272"/>
                  </a:lnTo>
                  <a:lnTo>
                    <a:pt x="177" y="277"/>
                  </a:lnTo>
                  <a:lnTo>
                    <a:pt x="171" y="282"/>
                  </a:lnTo>
                  <a:lnTo>
                    <a:pt x="165" y="287"/>
                  </a:lnTo>
                  <a:lnTo>
                    <a:pt x="158" y="287"/>
                  </a:lnTo>
                  <a:lnTo>
                    <a:pt x="150" y="290"/>
                  </a:lnTo>
                  <a:lnTo>
                    <a:pt x="142" y="287"/>
                  </a:lnTo>
                  <a:lnTo>
                    <a:pt x="136" y="287"/>
                  </a:lnTo>
                  <a:lnTo>
                    <a:pt x="133" y="293"/>
                  </a:lnTo>
                  <a:lnTo>
                    <a:pt x="129" y="301"/>
                  </a:lnTo>
                  <a:lnTo>
                    <a:pt x="128" y="306"/>
                  </a:lnTo>
                  <a:lnTo>
                    <a:pt x="125" y="314"/>
                  </a:lnTo>
                  <a:lnTo>
                    <a:pt x="121" y="319"/>
                  </a:lnTo>
                  <a:lnTo>
                    <a:pt x="120" y="327"/>
                  </a:lnTo>
                  <a:lnTo>
                    <a:pt x="117" y="332"/>
                  </a:lnTo>
                  <a:lnTo>
                    <a:pt x="114" y="337"/>
                  </a:lnTo>
                  <a:lnTo>
                    <a:pt x="110" y="343"/>
                  </a:lnTo>
                  <a:lnTo>
                    <a:pt x="107" y="351"/>
                  </a:lnTo>
                  <a:lnTo>
                    <a:pt x="104" y="356"/>
                  </a:lnTo>
                  <a:lnTo>
                    <a:pt x="102" y="361"/>
                  </a:lnTo>
                  <a:lnTo>
                    <a:pt x="99" y="369"/>
                  </a:lnTo>
                  <a:lnTo>
                    <a:pt x="96" y="374"/>
                  </a:lnTo>
                  <a:lnTo>
                    <a:pt x="93" y="382"/>
                  </a:lnTo>
                  <a:lnTo>
                    <a:pt x="90" y="387"/>
                  </a:lnTo>
                  <a:lnTo>
                    <a:pt x="88" y="393"/>
                  </a:lnTo>
                  <a:lnTo>
                    <a:pt x="86" y="398"/>
                  </a:lnTo>
                  <a:lnTo>
                    <a:pt x="85" y="401"/>
                  </a:lnTo>
                  <a:lnTo>
                    <a:pt x="83" y="406"/>
                  </a:lnTo>
                  <a:lnTo>
                    <a:pt x="82" y="411"/>
                  </a:lnTo>
                  <a:lnTo>
                    <a:pt x="80" y="416"/>
                  </a:lnTo>
                  <a:lnTo>
                    <a:pt x="78" y="422"/>
                  </a:lnTo>
                  <a:lnTo>
                    <a:pt x="77" y="427"/>
                  </a:lnTo>
                  <a:lnTo>
                    <a:pt x="77" y="430"/>
                  </a:lnTo>
                  <a:lnTo>
                    <a:pt x="75" y="435"/>
                  </a:lnTo>
                  <a:lnTo>
                    <a:pt x="74" y="440"/>
                  </a:lnTo>
                  <a:lnTo>
                    <a:pt x="72" y="445"/>
                  </a:lnTo>
                  <a:lnTo>
                    <a:pt x="70" y="448"/>
                  </a:lnTo>
                  <a:lnTo>
                    <a:pt x="70" y="453"/>
                  </a:lnTo>
                  <a:lnTo>
                    <a:pt x="69" y="458"/>
                  </a:lnTo>
                  <a:lnTo>
                    <a:pt x="67" y="464"/>
                  </a:lnTo>
                  <a:lnTo>
                    <a:pt x="61" y="472"/>
                  </a:lnTo>
                  <a:lnTo>
                    <a:pt x="56" y="482"/>
                  </a:lnTo>
                  <a:lnTo>
                    <a:pt x="50" y="487"/>
                  </a:lnTo>
                  <a:lnTo>
                    <a:pt x="45" y="490"/>
                  </a:lnTo>
                  <a:lnTo>
                    <a:pt x="37" y="493"/>
                  </a:lnTo>
                  <a:lnTo>
                    <a:pt x="31" y="490"/>
                  </a:lnTo>
                  <a:lnTo>
                    <a:pt x="26" y="490"/>
                  </a:lnTo>
                  <a:lnTo>
                    <a:pt x="19" y="485"/>
                  </a:lnTo>
                  <a:lnTo>
                    <a:pt x="13" y="477"/>
                  </a:lnTo>
                  <a:lnTo>
                    <a:pt x="10" y="472"/>
                  </a:lnTo>
                  <a:lnTo>
                    <a:pt x="5" y="464"/>
                  </a:lnTo>
                  <a:lnTo>
                    <a:pt x="3" y="453"/>
                  </a:lnTo>
                  <a:lnTo>
                    <a:pt x="2" y="443"/>
                  </a:lnTo>
                  <a:lnTo>
                    <a:pt x="0" y="432"/>
                  </a:lnTo>
                  <a:lnTo>
                    <a:pt x="2" y="419"/>
                  </a:lnTo>
                  <a:lnTo>
                    <a:pt x="7" y="408"/>
                  </a:lnTo>
                  <a:lnTo>
                    <a:pt x="10" y="393"/>
                  </a:lnTo>
                  <a:lnTo>
                    <a:pt x="15" y="380"/>
                  </a:lnTo>
                  <a:lnTo>
                    <a:pt x="19" y="364"/>
                  </a:lnTo>
                  <a:lnTo>
                    <a:pt x="26" y="351"/>
                  </a:lnTo>
                  <a:lnTo>
                    <a:pt x="31" y="335"/>
                  </a:lnTo>
                  <a:lnTo>
                    <a:pt x="37" y="319"/>
                  </a:lnTo>
                  <a:lnTo>
                    <a:pt x="42" y="306"/>
                  </a:lnTo>
                  <a:lnTo>
                    <a:pt x="48" y="293"/>
                  </a:lnTo>
                  <a:lnTo>
                    <a:pt x="55" y="277"/>
                  </a:lnTo>
                  <a:lnTo>
                    <a:pt x="62" y="264"/>
                  </a:lnTo>
                  <a:lnTo>
                    <a:pt x="69" y="248"/>
                  </a:lnTo>
                  <a:lnTo>
                    <a:pt x="75" y="235"/>
                  </a:lnTo>
                  <a:lnTo>
                    <a:pt x="82" y="222"/>
                  </a:lnTo>
                  <a:lnTo>
                    <a:pt x="90" y="211"/>
                  </a:lnTo>
                  <a:lnTo>
                    <a:pt x="96" y="201"/>
                  </a:lnTo>
                  <a:lnTo>
                    <a:pt x="102" y="193"/>
                  </a:lnTo>
                  <a:lnTo>
                    <a:pt x="104" y="182"/>
                  </a:lnTo>
                  <a:lnTo>
                    <a:pt x="107" y="174"/>
                  </a:lnTo>
                  <a:lnTo>
                    <a:pt x="110" y="164"/>
                  </a:lnTo>
                  <a:lnTo>
                    <a:pt x="115" y="153"/>
                  </a:lnTo>
                  <a:lnTo>
                    <a:pt x="120" y="140"/>
                  </a:lnTo>
                  <a:lnTo>
                    <a:pt x="126" y="129"/>
                  </a:lnTo>
                  <a:lnTo>
                    <a:pt x="131" y="116"/>
                  </a:lnTo>
                  <a:lnTo>
                    <a:pt x="139" y="106"/>
                  </a:lnTo>
                  <a:lnTo>
                    <a:pt x="145" y="93"/>
                  </a:lnTo>
                  <a:lnTo>
                    <a:pt x="152" y="82"/>
                  </a:lnTo>
                  <a:lnTo>
                    <a:pt x="158" y="69"/>
                  </a:lnTo>
                  <a:lnTo>
                    <a:pt x="165" y="58"/>
                  </a:lnTo>
                  <a:lnTo>
                    <a:pt x="171" y="45"/>
                  </a:lnTo>
                  <a:lnTo>
                    <a:pt x="177" y="35"/>
                  </a:lnTo>
                  <a:lnTo>
                    <a:pt x="182" y="27"/>
                  </a:lnTo>
                  <a:lnTo>
                    <a:pt x="185" y="19"/>
                  </a:lnTo>
                  <a:lnTo>
                    <a:pt x="188" y="11"/>
                  </a:lnTo>
                  <a:lnTo>
                    <a:pt x="193" y="6"/>
                  </a:lnTo>
                  <a:lnTo>
                    <a:pt x="198" y="3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3"/>
                  </a:lnTo>
                  <a:lnTo>
                    <a:pt x="216" y="6"/>
                  </a:lnTo>
                  <a:lnTo>
                    <a:pt x="220" y="11"/>
                  </a:lnTo>
                  <a:lnTo>
                    <a:pt x="222" y="14"/>
                  </a:lnTo>
                  <a:lnTo>
                    <a:pt x="225" y="19"/>
                  </a:lnTo>
                  <a:lnTo>
                    <a:pt x="228" y="24"/>
                  </a:lnTo>
                  <a:lnTo>
                    <a:pt x="230" y="32"/>
                  </a:lnTo>
                  <a:lnTo>
                    <a:pt x="230" y="40"/>
                  </a:lnTo>
                  <a:lnTo>
                    <a:pt x="230" y="48"/>
                  </a:lnTo>
                  <a:lnTo>
                    <a:pt x="228" y="56"/>
                  </a:lnTo>
                  <a:lnTo>
                    <a:pt x="225" y="66"/>
                  </a:lnTo>
                  <a:lnTo>
                    <a:pt x="222" y="74"/>
                  </a:lnTo>
                  <a:lnTo>
                    <a:pt x="219" y="82"/>
                  </a:lnTo>
                  <a:lnTo>
                    <a:pt x="217" y="90"/>
                  </a:lnTo>
                  <a:lnTo>
                    <a:pt x="214" y="98"/>
                  </a:lnTo>
                  <a:lnTo>
                    <a:pt x="211" y="106"/>
                  </a:lnTo>
                  <a:lnTo>
                    <a:pt x="208" y="114"/>
                  </a:lnTo>
                  <a:lnTo>
                    <a:pt x="206" y="122"/>
                  </a:lnTo>
                  <a:lnTo>
                    <a:pt x="203" y="132"/>
                  </a:lnTo>
                  <a:lnTo>
                    <a:pt x="200" y="140"/>
                  </a:lnTo>
                  <a:lnTo>
                    <a:pt x="196" y="148"/>
                  </a:lnTo>
                  <a:lnTo>
                    <a:pt x="195" y="156"/>
                  </a:lnTo>
                  <a:lnTo>
                    <a:pt x="192" y="164"/>
                  </a:lnTo>
                  <a:lnTo>
                    <a:pt x="188" y="172"/>
                  </a:lnTo>
                  <a:lnTo>
                    <a:pt x="185" y="179"/>
                  </a:lnTo>
                  <a:lnTo>
                    <a:pt x="182" y="187"/>
                  </a:lnTo>
                  <a:lnTo>
                    <a:pt x="177" y="195"/>
                  </a:lnTo>
                  <a:lnTo>
                    <a:pt x="177" y="195"/>
                  </a:lnTo>
                  <a:close/>
                </a:path>
              </a:pathLst>
            </a:custGeom>
            <a:solidFill>
              <a:srgbClr val="40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2831400">
              <a:off x="929160" y="3769920"/>
              <a:ext cx="2018160" cy="1635840"/>
            </a:xfrm>
            <a:custGeom>
              <a:avLst/>
              <a:gdLst/>
              <a:ahLst/>
              <a:rect l="l" t="t" r="r" b="b"/>
              <a:pathLst>
                <a:path w="694" h="677">
                  <a:moveTo>
                    <a:pt x="42" y="5"/>
                  </a:moveTo>
                  <a:lnTo>
                    <a:pt x="50" y="13"/>
                  </a:lnTo>
                  <a:lnTo>
                    <a:pt x="59" y="21"/>
                  </a:lnTo>
                  <a:lnTo>
                    <a:pt x="69" y="32"/>
                  </a:lnTo>
                  <a:lnTo>
                    <a:pt x="77" y="40"/>
                  </a:lnTo>
                  <a:lnTo>
                    <a:pt x="87" y="50"/>
                  </a:lnTo>
                  <a:lnTo>
                    <a:pt x="96" y="58"/>
                  </a:lnTo>
                  <a:lnTo>
                    <a:pt x="104" y="69"/>
                  </a:lnTo>
                  <a:lnTo>
                    <a:pt x="114" y="76"/>
                  </a:lnTo>
                  <a:lnTo>
                    <a:pt x="122" y="87"/>
                  </a:lnTo>
                  <a:lnTo>
                    <a:pt x="131" y="98"/>
                  </a:lnTo>
                  <a:lnTo>
                    <a:pt x="139" y="108"/>
                  </a:lnTo>
                  <a:lnTo>
                    <a:pt x="149" y="119"/>
                  </a:lnTo>
                  <a:lnTo>
                    <a:pt x="158" y="127"/>
                  </a:lnTo>
                  <a:lnTo>
                    <a:pt x="168" y="137"/>
                  </a:lnTo>
                  <a:lnTo>
                    <a:pt x="176" y="145"/>
                  </a:lnTo>
                  <a:lnTo>
                    <a:pt x="185" y="155"/>
                  </a:lnTo>
                  <a:lnTo>
                    <a:pt x="206" y="174"/>
                  </a:lnTo>
                  <a:lnTo>
                    <a:pt x="225" y="192"/>
                  </a:lnTo>
                  <a:lnTo>
                    <a:pt x="246" y="211"/>
                  </a:lnTo>
                  <a:lnTo>
                    <a:pt x="265" y="232"/>
                  </a:lnTo>
                  <a:lnTo>
                    <a:pt x="286" y="250"/>
                  </a:lnTo>
                  <a:lnTo>
                    <a:pt x="307" y="269"/>
                  </a:lnTo>
                  <a:lnTo>
                    <a:pt x="326" y="287"/>
                  </a:lnTo>
                  <a:lnTo>
                    <a:pt x="347" y="305"/>
                  </a:lnTo>
                  <a:lnTo>
                    <a:pt x="367" y="321"/>
                  </a:lnTo>
                  <a:lnTo>
                    <a:pt x="388" y="340"/>
                  </a:lnTo>
                  <a:lnTo>
                    <a:pt x="407" y="358"/>
                  </a:lnTo>
                  <a:lnTo>
                    <a:pt x="428" y="379"/>
                  </a:lnTo>
                  <a:lnTo>
                    <a:pt x="449" y="398"/>
                  </a:lnTo>
                  <a:lnTo>
                    <a:pt x="468" y="416"/>
                  </a:lnTo>
                  <a:lnTo>
                    <a:pt x="487" y="437"/>
                  </a:lnTo>
                  <a:lnTo>
                    <a:pt x="508" y="458"/>
                  </a:lnTo>
                  <a:lnTo>
                    <a:pt x="519" y="469"/>
                  </a:lnTo>
                  <a:lnTo>
                    <a:pt x="530" y="479"/>
                  </a:lnTo>
                  <a:lnTo>
                    <a:pt x="541" y="487"/>
                  </a:lnTo>
                  <a:lnTo>
                    <a:pt x="552" y="498"/>
                  </a:lnTo>
                  <a:lnTo>
                    <a:pt x="562" y="508"/>
                  </a:lnTo>
                  <a:lnTo>
                    <a:pt x="573" y="516"/>
                  </a:lnTo>
                  <a:lnTo>
                    <a:pt x="584" y="527"/>
                  </a:lnTo>
                  <a:lnTo>
                    <a:pt x="595" y="535"/>
                  </a:lnTo>
                  <a:lnTo>
                    <a:pt x="606" y="545"/>
                  </a:lnTo>
                  <a:lnTo>
                    <a:pt x="618" y="553"/>
                  </a:lnTo>
                  <a:lnTo>
                    <a:pt x="629" y="563"/>
                  </a:lnTo>
                  <a:lnTo>
                    <a:pt x="640" y="574"/>
                  </a:lnTo>
                  <a:lnTo>
                    <a:pt x="651" y="585"/>
                  </a:lnTo>
                  <a:lnTo>
                    <a:pt x="662" y="595"/>
                  </a:lnTo>
                  <a:lnTo>
                    <a:pt x="673" y="608"/>
                  </a:lnTo>
                  <a:lnTo>
                    <a:pt x="685" y="621"/>
                  </a:lnTo>
                  <a:lnTo>
                    <a:pt x="688" y="627"/>
                  </a:lnTo>
                  <a:lnTo>
                    <a:pt x="691" y="632"/>
                  </a:lnTo>
                  <a:lnTo>
                    <a:pt x="691" y="637"/>
                  </a:lnTo>
                  <a:lnTo>
                    <a:pt x="693" y="642"/>
                  </a:lnTo>
                  <a:lnTo>
                    <a:pt x="694" y="650"/>
                  </a:lnTo>
                  <a:lnTo>
                    <a:pt x="694" y="656"/>
                  </a:lnTo>
                  <a:lnTo>
                    <a:pt x="693" y="661"/>
                  </a:lnTo>
                  <a:lnTo>
                    <a:pt x="691" y="666"/>
                  </a:lnTo>
                  <a:lnTo>
                    <a:pt x="688" y="671"/>
                  </a:lnTo>
                  <a:lnTo>
                    <a:pt x="685" y="674"/>
                  </a:lnTo>
                  <a:lnTo>
                    <a:pt x="681" y="677"/>
                  </a:lnTo>
                  <a:lnTo>
                    <a:pt x="677" y="677"/>
                  </a:lnTo>
                  <a:lnTo>
                    <a:pt x="670" y="677"/>
                  </a:lnTo>
                  <a:lnTo>
                    <a:pt x="664" y="674"/>
                  </a:lnTo>
                  <a:lnTo>
                    <a:pt x="654" y="669"/>
                  </a:lnTo>
                  <a:lnTo>
                    <a:pt x="646" y="661"/>
                  </a:lnTo>
                  <a:lnTo>
                    <a:pt x="637" y="653"/>
                  </a:lnTo>
                  <a:lnTo>
                    <a:pt x="626" y="642"/>
                  </a:lnTo>
                  <a:lnTo>
                    <a:pt x="616" y="635"/>
                  </a:lnTo>
                  <a:lnTo>
                    <a:pt x="606" y="624"/>
                  </a:lnTo>
                  <a:lnTo>
                    <a:pt x="595" y="616"/>
                  </a:lnTo>
                  <a:lnTo>
                    <a:pt x="586" y="606"/>
                  </a:lnTo>
                  <a:lnTo>
                    <a:pt x="576" y="598"/>
                  </a:lnTo>
                  <a:lnTo>
                    <a:pt x="567" y="587"/>
                  </a:lnTo>
                  <a:lnTo>
                    <a:pt x="555" y="577"/>
                  </a:lnTo>
                  <a:lnTo>
                    <a:pt x="546" y="569"/>
                  </a:lnTo>
                  <a:lnTo>
                    <a:pt x="536" y="558"/>
                  </a:lnTo>
                  <a:lnTo>
                    <a:pt x="525" y="550"/>
                  </a:lnTo>
                  <a:lnTo>
                    <a:pt x="516" y="540"/>
                  </a:lnTo>
                  <a:lnTo>
                    <a:pt x="506" y="529"/>
                  </a:lnTo>
                  <a:lnTo>
                    <a:pt x="496" y="519"/>
                  </a:lnTo>
                  <a:lnTo>
                    <a:pt x="487" y="511"/>
                  </a:lnTo>
                  <a:lnTo>
                    <a:pt x="476" y="498"/>
                  </a:lnTo>
                  <a:lnTo>
                    <a:pt x="464" y="490"/>
                  </a:lnTo>
                  <a:lnTo>
                    <a:pt x="453" y="479"/>
                  </a:lnTo>
                  <a:lnTo>
                    <a:pt x="444" y="471"/>
                  </a:lnTo>
                  <a:lnTo>
                    <a:pt x="431" y="461"/>
                  </a:lnTo>
                  <a:lnTo>
                    <a:pt x="420" y="453"/>
                  </a:lnTo>
                  <a:lnTo>
                    <a:pt x="409" y="445"/>
                  </a:lnTo>
                  <a:lnTo>
                    <a:pt x="398" y="437"/>
                  </a:lnTo>
                  <a:lnTo>
                    <a:pt x="386" y="429"/>
                  </a:lnTo>
                  <a:lnTo>
                    <a:pt x="375" y="421"/>
                  </a:lnTo>
                  <a:lnTo>
                    <a:pt x="364" y="413"/>
                  </a:lnTo>
                  <a:lnTo>
                    <a:pt x="353" y="406"/>
                  </a:lnTo>
                  <a:lnTo>
                    <a:pt x="340" y="398"/>
                  </a:lnTo>
                  <a:lnTo>
                    <a:pt x="329" y="387"/>
                  </a:lnTo>
                  <a:lnTo>
                    <a:pt x="318" y="379"/>
                  </a:lnTo>
                  <a:lnTo>
                    <a:pt x="308" y="371"/>
                  </a:lnTo>
                  <a:lnTo>
                    <a:pt x="299" y="363"/>
                  </a:lnTo>
                  <a:lnTo>
                    <a:pt x="289" y="356"/>
                  </a:lnTo>
                  <a:lnTo>
                    <a:pt x="280" y="345"/>
                  </a:lnTo>
                  <a:lnTo>
                    <a:pt x="270" y="337"/>
                  </a:lnTo>
                  <a:lnTo>
                    <a:pt x="260" y="329"/>
                  </a:lnTo>
                  <a:lnTo>
                    <a:pt x="252" y="319"/>
                  </a:lnTo>
                  <a:lnTo>
                    <a:pt x="243" y="311"/>
                  </a:lnTo>
                  <a:lnTo>
                    <a:pt x="233" y="303"/>
                  </a:lnTo>
                  <a:lnTo>
                    <a:pt x="224" y="292"/>
                  </a:lnTo>
                  <a:lnTo>
                    <a:pt x="214" y="282"/>
                  </a:lnTo>
                  <a:lnTo>
                    <a:pt x="205" y="274"/>
                  </a:lnTo>
                  <a:lnTo>
                    <a:pt x="195" y="266"/>
                  </a:lnTo>
                  <a:lnTo>
                    <a:pt x="185" y="255"/>
                  </a:lnTo>
                  <a:lnTo>
                    <a:pt x="177" y="248"/>
                  </a:lnTo>
                  <a:lnTo>
                    <a:pt x="168" y="237"/>
                  </a:lnTo>
                  <a:lnTo>
                    <a:pt x="158" y="229"/>
                  </a:lnTo>
                  <a:lnTo>
                    <a:pt x="150" y="221"/>
                  </a:lnTo>
                  <a:lnTo>
                    <a:pt x="141" y="211"/>
                  </a:lnTo>
                  <a:lnTo>
                    <a:pt x="131" y="203"/>
                  </a:lnTo>
                  <a:lnTo>
                    <a:pt x="123" y="195"/>
                  </a:lnTo>
                  <a:lnTo>
                    <a:pt x="114" y="184"/>
                  </a:lnTo>
                  <a:lnTo>
                    <a:pt x="104" y="174"/>
                  </a:lnTo>
                  <a:lnTo>
                    <a:pt x="96" y="166"/>
                  </a:lnTo>
                  <a:lnTo>
                    <a:pt x="87" y="155"/>
                  </a:lnTo>
                  <a:lnTo>
                    <a:pt x="77" y="148"/>
                  </a:lnTo>
                  <a:lnTo>
                    <a:pt x="69" y="137"/>
                  </a:lnTo>
                  <a:lnTo>
                    <a:pt x="59" y="127"/>
                  </a:lnTo>
                  <a:lnTo>
                    <a:pt x="52" y="119"/>
                  </a:lnTo>
                  <a:lnTo>
                    <a:pt x="42" y="108"/>
                  </a:lnTo>
                  <a:lnTo>
                    <a:pt x="32" y="100"/>
                  </a:lnTo>
                  <a:lnTo>
                    <a:pt x="24" y="92"/>
                  </a:lnTo>
                  <a:lnTo>
                    <a:pt x="15" y="84"/>
                  </a:lnTo>
                  <a:lnTo>
                    <a:pt x="10" y="76"/>
                  </a:lnTo>
                  <a:lnTo>
                    <a:pt x="7" y="69"/>
                  </a:lnTo>
                  <a:lnTo>
                    <a:pt x="4" y="61"/>
                  </a:lnTo>
                  <a:lnTo>
                    <a:pt x="2" y="53"/>
                  </a:lnTo>
                  <a:lnTo>
                    <a:pt x="0" y="45"/>
                  </a:lnTo>
                  <a:lnTo>
                    <a:pt x="2" y="37"/>
                  </a:lnTo>
                  <a:lnTo>
                    <a:pt x="2" y="32"/>
                  </a:lnTo>
                  <a:lnTo>
                    <a:pt x="5" y="24"/>
                  </a:lnTo>
                  <a:lnTo>
                    <a:pt x="7" y="16"/>
                  </a:lnTo>
                  <a:lnTo>
                    <a:pt x="10" y="11"/>
                  </a:lnTo>
                  <a:lnTo>
                    <a:pt x="15" y="5"/>
                  </a:lnTo>
                  <a:lnTo>
                    <a:pt x="20" y="3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4" y="3"/>
                  </a:lnTo>
                  <a:lnTo>
                    <a:pt x="42" y="5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a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2831400">
              <a:off x="1567080" y="2410200"/>
              <a:ext cx="296640" cy="37476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37" y="18"/>
                  </a:moveTo>
                  <a:lnTo>
                    <a:pt x="38" y="26"/>
                  </a:lnTo>
                  <a:lnTo>
                    <a:pt x="40" y="31"/>
                  </a:lnTo>
                  <a:lnTo>
                    <a:pt x="43" y="36"/>
                  </a:lnTo>
                  <a:lnTo>
                    <a:pt x="46" y="42"/>
                  </a:lnTo>
                  <a:lnTo>
                    <a:pt x="50" y="47"/>
                  </a:lnTo>
                  <a:lnTo>
                    <a:pt x="51" y="52"/>
                  </a:lnTo>
                  <a:lnTo>
                    <a:pt x="54" y="55"/>
                  </a:lnTo>
                  <a:lnTo>
                    <a:pt x="59" y="57"/>
                  </a:lnTo>
                  <a:lnTo>
                    <a:pt x="62" y="63"/>
                  </a:lnTo>
                  <a:lnTo>
                    <a:pt x="66" y="65"/>
                  </a:lnTo>
                  <a:lnTo>
                    <a:pt x="70" y="68"/>
                  </a:lnTo>
                  <a:lnTo>
                    <a:pt x="74" y="71"/>
                  </a:lnTo>
                  <a:lnTo>
                    <a:pt x="78" y="73"/>
                  </a:lnTo>
                  <a:lnTo>
                    <a:pt x="82" y="78"/>
                  </a:lnTo>
                  <a:lnTo>
                    <a:pt x="86" y="81"/>
                  </a:lnTo>
                  <a:lnTo>
                    <a:pt x="91" y="86"/>
                  </a:lnTo>
                  <a:lnTo>
                    <a:pt x="96" y="89"/>
                  </a:lnTo>
                  <a:lnTo>
                    <a:pt x="99" y="94"/>
                  </a:lnTo>
                  <a:lnTo>
                    <a:pt x="101" y="100"/>
                  </a:lnTo>
                  <a:lnTo>
                    <a:pt x="102" y="107"/>
                  </a:lnTo>
                  <a:lnTo>
                    <a:pt x="102" y="115"/>
                  </a:lnTo>
                  <a:lnTo>
                    <a:pt x="102" y="121"/>
                  </a:lnTo>
                  <a:lnTo>
                    <a:pt x="101" y="128"/>
                  </a:lnTo>
                  <a:lnTo>
                    <a:pt x="99" y="134"/>
                  </a:lnTo>
                  <a:lnTo>
                    <a:pt x="97" y="139"/>
                  </a:lnTo>
                  <a:lnTo>
                    <a:pt x="94" y="147"/>
                  </a:lnTo>
                  <a:lnTo>
                    <a:pt x="91" y="150"/>
                  </a:lnTo>
                  <a:lnTo>
                    <a:pt x="88" y="152"/>
                  </a:lnTo>
                  <a:lnTo>
                    <a:pt x="83" y="155"/>
                  </a:lnTo>
                  <a:lnTo>
                    <a:pt x="78" y="155"/>
                  </a:lnTo>
                  <a:lnTo>
                    <a:pt x="74" y="155"/>
                  </a:lnTo>
                  <a:lnTo>
                    <a:pt x="69" y="152"/>
                  </a:lnTo>
                  <a:lnTo>
                    <a:pt x="64" y="147"/>
                  </a:lnTo>
                  <a:lnTo>
                    <a:pt x="58" y="142"/>
                  </a:lnTo>
                  <a:lnTo>
                    <a:pt x="53" y="136"/>
                  </a:lnTo>
                  <a:lnTo>
                    <a:pt x="48" y="131"/>
                  </a:lnTo>
                  <a:lnTo>
                    <a:pt x="43" y="123"/>
                  </a:lnTo>
                  <a:lnTo>
                    <a:pt x="38" y="118"/>
                  </a:lnTo>
                  <a:lnTo>
                    <a:pt x="34" y="113"/>
                  </a:lnTo>
                  <a:lnTo>
                    <a:pt x="29" y="107"/>
                  </a:lnTo>
                  <a:lnTo>
                    <a:pt x="26" y="100"/>
                  </a:lnTo>
                  <a:lnTo>
                    <a:pt x="21" y="94"/>
                  </a:lnTo>
                  <a:lnTo>
                    <a:pt x="18" y="86"/>
                  </a:lnTo>
                  <a:lnTo>
                    <a:pt x="15" y="81"/>
                  </a:lnTo>
                  <a:lnTo>
                    <a:pt x="11" y="71"/>
                  </a:lnTo>
                  <a:lnTo>
                    <a:pt x="8" y="63"/>
                  </a:lnTo>
                  <a:lnTo>
                    <a:pt x="5" y="55"/>
                  </a:lnTo>
                  <a:lnTo>
                    <a:pt x="2" y="44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2" y="21"/>
                  </a:lnTo>
                  <a:lnTo>
                    <a:pt x="3" y="15"/>
                  </a:lnTo>
                  <a:lnTo>
                    <a:pt x="5" y="10"/>
                  </a:lnTo>
                  <a:lnTo>
                    <a:pt x="8" y="5"/>
                  </a:lnTo>
                  <a:lnTo>
                    <a:pt x="11" y="5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32" y="7"/>
                  </a:lnTo>
                  <a:lnTo>
                    <a:pt x="34" y="13"/>
                  </a:lnTo>
                  <a:lnTo>
                    <a:pt x="37" y="18"/>
                  </a:lnTo>
                  <a:lnTo>
                    <a:pt x="37" y="18"/>
                  </a:lnTo>
                  <a:close/>
                </a:path>
              </a:pathLst>
            </a:custGeom>
            <a:solidFill>
              <a:srgbClr val="b8f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2831400">
              <a:off x="1726920" y="2221920"/>
              <a:ext cx="113400" cy="183600"/>
            </a:xfrm>
            <a:custGeom>
              <a:avLst/>
              <a:gdLst/>
              <a:ahLst/>
              <a:rect l="l" t="t" r="r" b="b"/>
              <a:pathLst>
                <a:path w="39" h="76">
                  <a:moveTo>
                    <a:pt x="34" y="18"/>
                  </a:moveTo>
                  <a:lnTo>
                    <a:pt x="37" y="29"/>
                  </a:lnTo>
                  <a:lnTo>
                    <a:pt x="39" y="37"/>
                  </a:lnTo>
                  <a:lnTo>
                    <a:pt x="39" y="47"/>
                  </a:lnTo>
                  <a:lnTo>
                    <a:pt x="39" y="55"/>
                  </a:lnTo>
                  <a:lnTo>
                    <a:pt x="37" y="61"/>
                  </a:lnTo>
                  <a:lnTo>
                    <a:pt x="35" y="66"/>
                  </a:lnTo>
                  <a:lnTo>
                    <a:pt x="32" y="68"/>
                  </a:lnTo>
                  <a:lnTo>
                    <a:pt x="29" y="74"/>
                  </a:lnTo>
                  <a:lnTo>
                    <a:pt x="24" y="74"/>
                  </a:lnTo>
                  <a:lnTo>
                    <a:pt x="21" y="76"/>
                  </a:lnTo>
                  <a:lnTo>
                    <a:pt x="18" y="74"/>
                  </a:lnTo>
                  <a:lnTo>
                    <a:pt x="13" y="74"/>
                  </a:lnTo>
                  <a:lnTo>
                    <a:pt x="10" y="71"/>
                  </a:lnTo>
                  <a:lnTo>
                    <a:pt x="7" y="68"/>
                  </a:lnTo>
                  <a:lnTo>
                    <a:pt x="5" y="63"/>
                  </a:lnTo>
                  <a:lnTo>
                    <a:pt x="3" y="58"/>
                  </a:lnTo>
                  <a:lnTo>
                    <a:pt x="2" y="45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2" y="21"/>
                  </a:lnTo>
                  <a:lnTo>
                    <a:pt x="2" y="13"/>
                  </a:lnTo>
                  <a:lnTo>
                    <a:pt x="5" y="11"/>
                  </a:lnTo>
                  <a:lnTo>
                    <a:pt x="7" y="5"/>
                  </a:lnTo>
                  <a:lnTo>
                    <a:pt x="10" y="3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8"/>
                  </a:lnTo>
                  <a:lnTo>
                    <a:pt x="31" y="11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b8f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831400">
              <a:off x="1697400" y="4147920"/>
              <a:ext cx="218160" cy="190440"/>
            </a:xfrm>
            <a:custGeom>
              <a:avLst/>
              <a:gdLst/>
              <a:ahLst/>
              <a:rect l="l" t="t" r="r" b="b"/>
              <a:pathLst>
                <a:path w="75" h="79">
                  <a:moveTo>
                    <a:pt x="52" y="77"/>
                  </a:moveTo>
                  <a:lnTo>
                    <a:pt x="49" y="77"/>
                  </a:lnTo>
                  <a:lnTo>
                    <a:pt x="46" y="77"/>
                  </a:lnTo>
                  <a:lnTo>
                    <a:pt x="41" y="77"/>
                  </a:lnTo>
                  <a:lnTo>
                    <a:pt x="38" y="79"/>
                  </a:lnTo>
                  <a:lnTo>
                    <a:pt x="35" y="79"/>
                  </a:lnTo>
                  <a:lnTo>
                    <a:pt x="32" y="79"/>
                  </a:lnTo>
                  <a:lnTo>
                    <a:pt x="29" y="79"/>
                  </a:lnTo>
                  <a:lnTo>
                    <a:pt x="25" y="79"/>
                  </a:lnTo>
                  <a:lnTo>
                    <a:pt x="19" y="79"/>
                  </a:lnTo>
                  <a:lnTo>
                    <a:pt x="14" y="77"/>
                  </a:lnTo>
                  <a:lnTo>
                    <a:pt x="9" y="71"/>
                  </a:lnTo>
                  <a:lnTo>
                    <a:pt x="6" y="69"/>
                  </a:lnTo>
                  <a:lnTo>
                    <a:pt x="3" y="61"/>
                  </a:lnTo>
                  <a:lnTo>
                    <a:pt x="1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1" y="27"/>
                  </a:lnTo>
                  <a:lnTo>
                    <a:pt x="3" y="19"/>
                  </a:lnTo>
                  <a:lnTo>
                    <a:pt x="6" y="13"/>
                  </a:lnTo>
                  <a:lnTo>
                    <a:pt x="9" y="8"/>
                  </a:lnTo>
                  <a:lnTo>
                    <a:pt x="14" y="6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48" y="6"/>
                  </a:lnTo>
                  <a:lnTo>
                    <a:pt x="56" y="8"/>
                  </a:lnTo>
                  <a:lnTo>
                    <a:pt x="62" y="13"/>
                  </a:lnTo>
                  <a:lnTo>
                    <a:pt x="67" y="16"/>
                  </a:lnTo>
                  <a:lnTo>
                    <a:pt x="72" y="24"/>
                  </a:lnTo>
                  <a:lnTo>
                    <a:pt x="73" y="32"/>
                  </a:lnTo>
                  <a:lnTo>
                    <a:pt x="75" y="40"/>
                  </a:lnTo>
                  <a:lnTo>
                    <a:pt x="73" y="45"/>
                  </a:lnTo>
                  <a:lnTo>
                    <a:pt x="73" y="53"/>
                  </a:lnTo>
                  <a:lnTo>
                    <a:pt x="70" y="58"/>
                  </a:lnTo>
                  <a:lnTo>
                    <a:pt x="68" y="63"/>
                  </a:lnTo>
                  <a:lnTo>
                    <a:pt x="64" y="69"/>
                  </a:lnTo>
                  <a:lnTo>
                    <a:pt x="60" y="71"/>
                  </a:lnTo>
                  <a:lnTo>
                    <a:pt x="56" y="74"/>
                  </a:lnTo>
                  <a:lnTo>
                    <a:pt x="52" y="77"/>
                  </a:lnTo>
                  <a:lnTo>
                    <a:pt x="52" y="77"/>
                  </a:lnTo>
                  <a:close/>
                </a:path>
              </a:pathLst>
            </a:custGeom>
            <a:solidFill>
              <a:srgbClr val="b8f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rot="2831400">
              <a:off x="693360" y="3280680"/>
              <a:ext cx="2512800" cy="2131560"/>
            </a:xfrm>
            <a:custGeom>
              <a:avLst/>
              <a:gdLst/>
              <a:ahLst/>
              <a:rect l="l" t="t" r="r" b="b"/>
              <a:pathLst>
                <a:path w="864" h="882">
                  <a:moveTo>
                    <a:pt x="51" y="48"/>
                  </a:moveTo>
                  <a:lnTo>
                    <a:pt x="64" y="45"/>
                  </a:lnTo>
                  <a:lnTo>
                    <a:pt x="80" y="50"/>
                  </a:lnTo>
                  <a:lnTo>
                    <a:pt x="100" y="58"/>
                  </a:lnTo>
                  <a:lnTo>
                    <a:pt x="123" y="71"/>
                  </a:lnTo>
                  <a:lnTo>
                    <a:pt x="148" y="87"/>
                  </a:lnTo>
                  <a:lnTo>
                    <a:pt x="175" y="106"/>
                  </a:lnTo>
                  <a:lnTo>
                    <a:pt x="204" y="127"/>
                  </a:lnTo>
                  <a:lnTo>
                    <a:pt x="233" y="148"/>
                  </a:lnTo>
                  <a:lnTo>
                    <a:pt x="261" y="172"/>
                  </a:lnTo>
                  <a:lnTo>
                    <a:pt x="290" y="195"/>
                  </a:lnTo>
                  <a:lnTo>
                    <a:pt x="317" y="219"/>
                  </a:lnTo>
                  <a:lnTo>
                    <a:pt x="341" y="243"/>
                  </a:lnTo>
                  <a:lnTo>
                    <a:pt x="364" y="264"/>
                  </a:lnTo>
                  <a:lnTo>
                    <a:pt x="383" y="285"/>
                  </a:lnTo>
                  <a:lnTo>
                    <a:pt x="397" y="301"/>
                  </a:lnTo>
                  <a:lnTo>
                    <a:pt x="408" y="316"/>
                  </a:lnTo>
                  <a:lnTo>
                    <a:pt x="416" y="322"/>
                  </a:lnTo>
                  <a:lnTo>
                    <a:pt x="429" y="332"/>
                  </a:lnTo>
                  <a:lnTo>
                    <a:pt x="446" y="348"/>
                  </a:lnTo>
                  <a:lnTo>
                    <a:pt x="466" y="369"/>
                  </a:lnTo>
                  <a:lnTo>
                    <a:pt x="486" y="390"/>
                  </a:lnTo>
                  <a:lnTo>
                    <a:pt x="510" y="416"/>
                  </a:lnTo>
                  <a:lnTo>
                    <a:pt x="536" y="445"/>
                  </a:lnTo>
                  <a:lnTo>
                    <a:pt x="560" y="474"/>
                  </a:lnTo>
                  <a:lnTo>
                    <a:pt x="585" y="503"/>
                  </a:lnTo>
                  <a:lnTo>
                    <a:pt x="611" y="532"/>
                  </a:lnTo>
                  <a:lnTo>
                    <a:pt x="635" y="561"/>
                  </a:lnTo>
                  <a:lnTo>
                    <a:pt x="657" y="590"/>
                  </a:lnTo>
                  <a:lnTo>
                    <a:pt x="678" y="614"/>
                  </a:lnTo>
                  <a:lnTo>
                    <a:pt x="695" y="635"/>
                  </a:lnTo>
                  <a:lnTo>
                    <a:pt x="710" y="653"/>
                  </a:lnTo>
                  <a:lnTo>
                    <a:pt x="721" y="666"/>
                  </a:lnTo>
                  <a:lnTo>
                    <a:pt x="724" y="669"/>
                  </a:lnTo>
                  <a:lnTo>
                    <a:pt x="727" y="672"/>
                  </a:lnTo>
                  <a:lnTo>
                    <a:pt x="732" y="674"/>
                  </a:lnTo>
                  <a:lnTo>
                    <a:pt x="735" y="680"/>
                  </a:lnTo>
                  <a:lnTo>
                    <a:pt x="740" y="682"/>
                  </a:lnTo>
                  <a:lnTo>
                    <a:pt x="743" y="685"/>
                  </a:lnTo>
                  <a:lnTo>
                    <a:pt x="748" y="687"/>
                  </a:lnTo>
                  <a:lnTo>
                    <a:pt x="751" y="690"/>
                  </a:lnTo>
                  <a:lnTo>
                    <a:pt x="756" y="693"/>
                  </a:lnTo>
                  <a:lnTo>
                    <a:pt x="759" y="695"/>
                  </a:lnTo>
                  <a:lnTo>
                    <a:pt x="762" y="698"/>
                  </a:lnTo>
                  <a:lnTo>
                    <a:pt x="767" y="703"/>
                  </a:lnTo>
                  <a:lnTo>
                    <a:pt x="770" y="706"/>
                  </a:lnTo>
                  <a:lnTo>
                    <a:pt x="773" y="709"/>
                  </a:lnTo>
                  <a:lnTo>
                    <a:pt x="778" y="714"/>
                  </a:lnTo>
                  <a:lnTo>
                    <a:pt x="781" y="719"/>
                  </a:lnTo>
                  <a:lnTo>
                    <a:pt x="786" y="724"/>
                  </a:lnTo>
                  <a:lnTo>
                    <a:pt x="791" y="730"/>
                  </a:lnTo>
                  <a:lnTo>
                    <a:pt x="794" y="737"/>
                  </a:lnTo>
                  <a:lnTo>
                    <a:pt x="799" y="743"/>
                  </a:lnTo>
                  <a:lnTo>
                    <a:pt x="804" y="748"/>
                  </a:lnTo>
                  <a:lnTo>
                    <a:pt x="808" y="756"/>
                  </a:lnTo>
                  <a:lnTo>
                    <a:pt x="812" y="761"/>
                  </a:lnTo>
                  <a:lnTo>
                    <a:pt x="816" y="769"/>
                  </a:lnTo>
                  <a:lnTo>
                    <a:pt x="821" y="774"/>
                  </a:lnTo>
                  <a:lnTo>
                    <a:pt x="826" y="782"/>
                  </a:lnTo>
                  <a:lnTo>
                    <a:pt x="829" y="787"/>
                  </a:lnTo>
                  <a:lnTo>
                    <a:pt x="834" y="795"/>
                  </a:lnTo>
                  <a:lnTo>
                    <a:pt x="839" y="801"/>
                  </a:lnTo>
                  <a:lnTo>
                    <a:pt x="843" y="806"/>
                  </a:lnTo>
                  <a:lnTo>
                    <a:pt x="848" y="811"/>
                  </a:lnTo>
                  <a:lnTo>
                    <a:pt x="853" y="819"/>
                  </a:lnTo>
                  <a:lnTo>
                    <a:pt x="858" y="824"/>
                  </a:lnTo>
                  <a:lnTo>
                    <a:pt x="861" y="830"/>
                  </a:lnTo>
                  <a:lnTo>
                    <a:pt x="863" y="835"/>
                  </a:lnTo>
                  <a:lnTo>
                    <a:pt x="864" y="843"/>
                  </a:lnTo>
                  <a:lnTo>
                    <a:pt x="864" y="848"/>
                  </a:lnTo>
                  <a:lnTo>
                    <a:pt x="864" y="853"/>
                  </a:lnTo>
                  <a:lnTo>
                    <a:pt x="863" y="859"/>
                  </a:lnTo>
                  <a:lnTo>
                    <a:pt x="863" y="866"/>
                  </a:lnTo>
                  <a:lnTo>
                    <a:pt x="859" y="872"/>
                  </a:lnTo>
                  <a:lnTo>
                    <a:pt x="856" y="874"/>
                  </a:lnTo>
                  <a:lnTo>
                    <a:pt x="853" y="877"/>
                  </a:lnTo>
                  <a:lnTo>
                    <a:pt x="850" y="882"/>
                  </a:lnTo>
                  <a:lnTo>
                    <a:pt x="847" y="882"/>
                  </a:lnTo>
                  <a:lnTo>
                    <a:pt x="842" y="882"/>
                  </a:lnTo>
                  <a:lnTo>
                    <a:pt x="837" y="882"/>
                  </a:lnTo>
                  <a:lnTo>
                    <a:pt x="834" y="880"/>
                  </a:lnTo>
                  <a:lnTo>
                    <a:pt x="829" y="874"/>
                  </a:lnTo>
                  <a:lnTo>
                    <a:pt x="821" y="866"/>
                  </a:lnTo>
                  <a:lnTo>
                    <a:pt x="810" y="853"/>
                  </a:lnTo>
                  <a:lnTo>
                    <a:pt x="797" y="840"/>
                  </a:lnTo>
                  <a:lnTo>
                    <a:pt x="781" y="822"/>
                  </a:lnTo>
                  <a:lnTo>
                    <a:pt x="764" y="801"/>
                  </a:lnTo>
                  <a:lnTo>
                    <a:pt x="746" y="780"/>
                  </a:lnTo>
                  <a:lnTo>
                    <a:pt x="729" y="761"/>
                  </a:lnTo>
                  <a:lnTo>
                    <a:pt x="710" y="737"/>
                  </a:lnTo>
                  <a:lnTo>
                    <a:pt x="692" y="716"/>
                  </a:lnTo>
                  <a:lnTo>
                    <a:pt x="674" y="698"/>
                  </a:lnTo>
                  <a:lnTo>
                    <a:pt x="660" y="680"/>
                  </a:lnTo>
                  <a:lnTo>
                    <a:pt x="646" y="664"/>
                  </a:lnTo>
                  <a:lnTo>
                    <a:pt x="636" y="651"/>
                  </a:lnTo>
                  <a:lnTo>
                    <a:pt x="630" y="643"/>
                  </a:lnTo>
                  <a:lnTo>
                    <a:pt x="627" y="640"/>
                  </a:lnTo>
                  <a:lnTo>
                    <a:pt x="620" y="637"/>
                  </a:lnTo>
                  <a:lnTo>
                    <a:pt x="614" y="632"/>
                  </a:lnTo>
                  <a:lnTo>
                    <a:pt x="606" y="627"/>
                  </a:lnTo>
                  <a:lnTo>
                    <a:pt x="596" y="619"/>
                  </a:lnTo>
                  <a:lnTo>
                    <a:pt x="585" y="608"/>
                  </a:lnTo>
                  <a:lnTo>
                    <a:pt x="574" y="595"/>
                  </a:lnTo>
                  <a:lnTo>
                    <a:pt x="563" y="585"/>
                  </a:lnTo>
                  <a:lnTo>
                    <a:pt x="552" y="572"/>
                  </a:lnTo>
                  <a:lnTo>
                    <a:pt x="541" y="558"/>
                  </a:lnTo>
                  <a:lnTo>
                    <a:pt x="528" y="543"/>
                  </a:lnTo>
                  <a:lnTo>
                    <a:pt x="517" y="532"/>
                  </a:lnTo>
                  <a:lnTo>
                    <a:pt x="507" y="519"/>
                  </a:lnTo>
                  <a:lnTo>
                    <a:pt x="497" y="506"/>
                  </a:lnTo>
                  <a:lnTo>
                    <a:pt x="488" y="495"/>
                  </a:lnTo>
                  <a:lnTo>
                    <a:pt x="480" y="487"/>
                  </a:lnTo>
                  <a:lnTo>
                    <a:pt x="474" y="482"/>
                  </a:lnTo>
                  <a:lnTo>
                    <a:pt x="466" y="479"/>
                  </a:lnTo>
                  <a:lnTo>
                    <a:pt x="451" y="469"/>
                  </a:lnTo>
                  <a:lnTo>
                    <a:pt x="431" y="453"/>
                  </a:lnTo>
                  <a:lnTo>
                    <a:pt x="407" y="429"/>
                  </a:lnTo>
                  <a:lnTo>
                    <a:pt x="378" y="403"/>
                  </a:lnTo>
                  <a:lnTo>
                    <a:pt x="348" y="372"/>
                  </a:lnTo>
                  <a:lnTo>
                    <a:pt x="316" y="337"/>
                  </a:lnTo>
                  <a:lnTo>
                    <a:pt x="282" y="306"/>
                  </a:lnTo>
                  <a:lnTo>
                    <a:pt x="247" y="272"/>
                  </a:lnTo>
                  <a:lnTo>
                    <a:pt x="214" y="240"/>
                  </a:lnTo>
                  <a:lnTo>
                    <a:pt x="180" y="211"/>
                  </a:lnTo>
                  <a:lnTo>
                    <a:pt x="150" y="185"/>
                  </a:lnTo>
                  <a:lnTo>
                    <a:pt x="123" y="166"/>
                  </a:lnTo>
                  <a:lnTo>
                    <a:pt x="99" y="153"/>
                  </a:lnTo>
                  <a:lnTo>
                    <a:pt x="80" y="148"/>
                  </a:lnTo>
                  <a:lnTo>
                    <a:pt x="67" y="153"/>
                  </a:lnTo>
                  <a:lnTo>
                    <a:pt x="49" y="143"/>
                  </a:lnTo>
                  <a:lnTo>
                    <a:pt x="37" y="129"/>
                  </a:lnTo>
                  <a:lnTo>
                    <a:pt x="24" y="114"/>
                  </a:lnTo>
                  <a:lnTo>
                    <a:pt x="16" y="98"/>
                  </a:lnTo>
                  <a:lnTo>
                    <a:pt x="8" y="82"/>
                  </a:lnTo>
                  <a:lnTo>
                    <a:pt x="3" y="64"/>
                  </a:lnTo>
                  <a:lnTo>
                    <a:pt x="0" y="48"/>
                  </a:lnTo>
                  <a:lnTo>
                    <a:pt x="0" y="32"/>
                  </a:lnTo>
                  <a:lnTo>
                    <a:pt x="0" y="19"/>
                  </a:lnTo>
                  <a:lnTo>
                    <a:pt x="3" y="8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30" y="11"/>
                  </a:lnTo>
                  <a:lnTo>
                    <a:pt x="40" y="24"/>
                  </a:lnTo>
                  <a:lnTo>
                    <a:pt x="51" y="48"/>
                  </a:lnTo>
                  <a:lnTo>
                    <a:pt x="51" y="48"/>
                  </a:lnTo>
                  <a:close/>
                </a:path>
              </a:pathLst>
            </a:custGeom>
            <a:solidFill>
              <a:srgbClr val="a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rot="2831400">
              <a:off x="1710000" y="2517840"/>
              <a:ext cx="172080" cy="386640"/>
            </a:xfrm>
            <a:custGeom>
              <a:avLst/>
              <a:gdLst/>
              <a:ahLst/>
              <a:rect l="l" t="t" r="r" b="b"/>
              <a:pathLst>
                <a:path w="59" h="160">
                  <a:moveTo>
                    <a:pt x="35" y="16"/>
                  </a:moveTo>
                  <a:lnTo>
                    <a:pt x="38" y="23"/>
                  </a:lnTo>
                  <a:lnTo>
                    <a:pt x="40" y="29"/>
                  </a:lnTo>
                  <a:lnTo>
                    <a:pt x="41" y="34"/>
                  </a:lnTo>
                  <a:lnTo>
                    <a:pt x="44" y="42"/>
                  </a:lnTo>
                  <a:lnTo>
                    <a:pt x="46" y="47"/>
                  </a:lnTo>
                  <a:lnTo>
                    <a:pt x="49" y="55"/>
                  </a:lnTo>
                  <a:lnTo>
                    <a:pt x="51" y="60"/>
                  </a:lnTo>
                  <a:lnTo>
                    <a:pt x="52" y="68"/>
                  </a:lnTo>
                  <a:lnTo>
                    <a:pt x="54" y="73"/>
                  </a:lnTo>
                  <a:lnTo>
                    <a:pt x="56" y="79"/>
                  </a:lnTo>
                  <a:lnTo>
                    <a:pt x="57" y="87"/>
                  </a:lnTo>
                  <a:lnTo>
                    <a:pt x="59" y="92"/>
                  </a:lnTo>
                  <a:lnTo>
                    <a:pt x="59" y="100"/>
                  </a:lnTo>
                  <a:lnTo>
                    <a:pt x="59" y="105"/>
                  </a:lnTo>
                  <a:lnTo>
                    <a:pt x="59" y="113"/>
                  </a:lnTo>
                  <a:lnTo>
                    <a:pt x="59" y="123"/>
                  </a:lnTo>
                  <a:lnTo>
                    <a:pt x="59" y="131"/>
                  </a:lnTo>
                  <a:lnTo>
                    <a:pt x="56" y="139"/>
                  </a:lnTo>
                  <a:lnTo>
                    <a:pt x="52" y="145"/>
                  </a:lnTo>
                  <a:lnTo>
                    <a:pt x="51" y="152"/>
                  </a:lnTo>
                  <a:lnTo>
                    <a:pt x="46" y="155"/>
                  </a:lnTo>
                  <a:lnTo>
                    <a:pt x="41" y="158"/>
                  </a:lnTo>
                  <a:lnTo>
                    <a:pt x="36" y="158"/>
                  </a:lnTo>
                  <a:lnTo>
                    <a:pt x="33" y="160"/>
                  </a:lnTo>
                  <a:lnTo>
                    <a:pt x="28" y="158"/>
                  </a:lnTo>
                  <a:lnTo>
                    <a:pt x="24" y="155"/>
                  </a:lnTo>
                  <a:lnTo>
                    <a:pt x="20" y="152"/>
                  </a:lnTo>
                  <a:lnTo>
                    <a:pt x="16" y="147"/>
                  </a:lnTo>
                  <a:lnTo>
                    <a:pt x="13" y="142"/>
                  </a:lnTo>
                  <a:lnTo>
                    <a:pt x="11" y="134"/>
                  </a:lnTo>
                  <a:lnTo>
                    <a:pt x="9" y="126"/>
                  </a:lnTo>
                  <a:lnTo>
                    <a:pt x="11" y="118"/>
                  </a:lnTo>
                  <a:lnTo>
                    <a:pt x="11" y="110"/>
                  </a:lnTo>
                  <a:lnTo>
                    <a:pt x="11" y="105"/>
                  </a:lnTo>
                  <a:lnTo>
                    <a:pt x="11" y="102"/>
                  </a:lnTo>
                  <a:lnTo>
                    <a:pt x="11" y="97"/>
                  </a:lnTo>
                  <a:lnTo>
                    <a:pt x="9" y="92"/>
                  </a:lnTo>
                  <a:lnTo>
                    <a:pt x="9" y="89"/>
                  </a:lnTo>
                  <a:lnTo>
                    <a:pt x="9" y="84"/>
                  </a:lnTo>
                  <a:lnTo>
                    <a:pt x="9" y="81"/>
                  </a:lnTo>
                  <a:lnTo>
                    <a:pt x="8" y="71"/>
                  </a:lnTo>
                  <a:lnTo>
                    <a:pt x="6" y="66"/>
                  </a:lnTo>
                  <a:lnTo>
                    <a:pt x="5" y="55"/>
                  </a:lnTo>
                  <a:lnTo>
                    <a:pt x="3" y="47"/>
                  </a:lnTo>
                  <a:lnTo>
                    <a:pt x="0" y="42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1" y="18"/>
                  </a:lnTo>
                  <a:lnTo>
                    <a:pt x="3" y="13"/>
                  </a:lnTo>
                  <a:lnTo>
                    <a:pt x="6" y="8"/>
                  </a:lnTo>
                  <a:lnTo>
                    <a:pt x="9" y="5"/>
                  </a:lnTo>
                  <a:lnTo>
                    <a:pt x="13" y="2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2"/>
                  </a:lnTo>
                  <a:lnTo>
                    <a:pt x="28" y="5"/>
                  </a:lnTo>
                  <a:lnTo>
                    <a:pt x="32" y="10"/>
                  </a:lnTo>
                  <a:lnTo>
                    <a:pt x="35" y="16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4df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rot="2831400">
              <a:off x="1434960" y="3197880"/>
              <a:ext cx="904680" cy="514440"/>
            </a:xfrm>
            <a:custGeom>
              <a:avLst/>
              <a:gdLst/>
              <a:ahLst/>
              <a:rect l="l" t="t" r="r" b="b"/>
              <a:pathLst>
                <a:path w="311" h="213">
                  <a:moveTo>
                    <a:pt x="22" y="0"/>
                  </a:moveTo>
                  <a:lnTo>
                    <a:pt x="43" y="5"/>
                  </a:lnTo>
                  <a:lnTo>
                    <a:pt x="63" y="13"/>
                  </a:lnTo>
                  <a:lnTo>
                    <a:pt x="81" y="19"/>
                  </a:lnTo>
                  <a:lnTo>
                    <a:pt x="100" y="26"/>
                  </a:lnTo>
                  <a:lnTo>
                    <a:pt x="116" y="32"/>
                  </a:lnTo>
                  <a:lnTo>
                    <a:pt x="134" y="42"/>
                  </a:lnTo>
                  <a:lnTo>
                    <a:pt x="150" y="50"/>
                  </a:lnTo>
                  <a:lnTo>
                    <a:pt x="165" y="58"/>
                  </a:lnTo>
                  <a:lnTo>
                    <a:pt x="180" y="69"/>
                  </a:lnTo>
                  <a:lnTo>
                    <a:pt x="196" y="79"/>
                  </a:lnTo>
                  <a:lnTo>
                    <a:pt x="212" y="90"/>
                  </a:lnTo>
                  <a:lnTo>
                    <a:pt x="228" y="100"/>
                  </a:lnTo>
                  <a:lnTo>
                    <a:pt x="245" y="113"/>
                  </a:lnTo>
                  <a:lnTo>
                    <a:pt x="263" y="126"/>
                  </a:lnTo>
                  <a:lnTo>
                    <a:pt x="280" y="140"/>
                  </a:lnTo>
                  <a:lnTo>
                    <a:pt x="299" y="155"/>
                  </a:lnTo>
                  <a:lnTo>
                    <a:pt x="303" y="161"/>
                  </a:lnTo>
                  <a:lnTo>
                    <a:pt x="306" y="163"/>
                  </a:lnTo>
                  <a:lnTo>
                    <a:pt x="309" y="169"/>
                  </a:lnTo>
                  <a:lnTo>
                    <a:pt x="311" y="174"/>
                  </a:lnTo>
                  <a:lnTo>
                    <a:pt x="311" y="179"/>
                  </a:lnTo>
                  <a:lnTo>
                    <a:pt x="311" y="184"/>
                  </a:lnTo>
                  <a:lnTo>
                    <a:pt x="311" y="190"/>
                  </a:lnTo>
                  <a:lnTo>
                    <a:pt x="311" y="195"/>
                  </a:lnTo>
                  <a:lnTo>
                    <a:pt x="309" y="200"/>
                  </a:lnTo>
                  <a:lnTo>
                    <a:pt x="306" y="205"/>
                  </a:lnTo>
                  <a:lnTo>
                    <a:pt x="304" y="208"/>
                  </a:lnTo>
                  <a:lnTo>
                    <a:pt x="301" y="211"/>
                  </a:lnTo>
                  <a:lnTo>
                    <a:pt x="298" y="213"/>
                  </a:lnTo>
                  <a:lnTo>
                    <a:pt x="295" y="213"/>
                  </a:lnTo>
                  <a:lnTo>
                    <a:pt x="291" y="213"/>
                  </a:lnTo>
                  <a:lnTo>
                    <a:pt x="287" y="213"/>
                  </a:lnTo>
                  <a:lnTo>
                    <a:pt x="277" y="208"/>
                  </a:lnTo>
                  <a:lnTo>
                    <a:pt x="268" y="203"/>
                  </a:lnTo>
                  <a:lnTo>
                    <a:pt x="258" y="195"/>
                  </a:lnTo>
                  <a:lnTo>
                    <a:pt x="250" y="190"/>
                  </a:lnTo>
                  <a:lnTo>
                    <a:pt x="240" y="182"/>
                  </a:lnTo>
                  <a:lnTo>
                    <a:pt x="232" y="174"/>
                  </a:lnTo>
                  <a:lnTo>
                    <a:pt x="223" y="166"/>
                  </a:lnTo>
                  <a:lnTo>
                    <a:pt x="213" y="161"/>
                  </a:lnTo>
                  <a:lnTo>
                    <a:pt x="204" y="150"/>
                  </a:lnTo>
                  <a:lnTo>
                    <a:pt x="196" y="142"/>
                  </a:lnTo>
                  <a:lnTo>
                    <a:pt x="186" y="134"/>
                  </a:lnTo>
                  <a:lnTo>
                    <a:pt x="178" y="126"/>
                  </a:lnTo>
                  <a:lnTo>
                    <a:pt x="169" y="121"/>
                  </a:lnTo>
                  <a:lnTo>
                    <a:pt x="161" y="113"/>
                  </a:lnTo>
                  <a:lnTo>
                    <a:pt x="151" y="105"/>
                  </a:lnTo>
                  <a:lnTo>
                    <a:pt x="142" y="100"/>
                  </a:lnTo>
                  <a:lnTo>
                    <a:pt x="134" y="95"/>
                  </a:lnTo>
                  <a:lnTo>
                    <a:pt x="126" y="92"/>
                  </a:lnTo>
                  <a:lnTo>
                    <a:pt x="119" y="87"/>
                  </a:lnTo>
                  <a:lnTo>
                    <a:pt x="111" y="84"/>
                  </a:lnTo>
                  <a:lnTo>
                    <a:pt x="102" y="84"/>
                  </a:lnTo>
                  <a:lnTo>
                    <a:pt x="94" y="82"/>
                  </a:lnTo>
                  <a:lnTo>
                    <a:pt x="86" y="79"/>
                  </a:lnTo>
                  <a:lnTo>
                    <a:pt x="78" y="79"/>
                  </a:lnTo>
                  <a:lnTo>
                    <a:pt x="70" y="76"/>
                  </a:lnTo>
                  <a:lnTo>
                    <a:pt x="62" y="74"/>
                  </a:lnTo>
                  <a:lnTo>
                    <a:pt x="52" y="71"/>
                  </a:lnTo>
                  <a:lnTo>
                    <a:pt x="44" y="69"/>
                  </a:lnTo>
                  <a:lnTo>
                    <a:pt x="36" y="66"/>
                  </a:lnTo>
                  <a:lnTo>
                    <a:pt x="28" y="63"/>
                  </a:lnTo>
                  <a:lnTo>
                    <a:pt x="20" y="61"/>
                  </a:lnTo>
                  <a:lnTo>
                    <a:pt x="12" y="55"/>
                  </a:lnTo>
                  <a:lnTo>
                    <a:pt x="9" y="53"/>
                  </a:lnTo>
                  <a:lnTo>
                    <a:pt x="6" y="50"/>
                  </a:lnTo>
                  <a:lnTo>
                    <a:pt x="3" y="45"/>
                  </a:lnTo>
                  <a:lnTo>
                    <a:pt x="1" y="40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1" y="16"/>
                  </a:lnTo>
                  <a:lnTo>
                    <a:pt x="3" y="11"/>
                  </a:lnTo>
                  <a:lnTo>
                    <a:pt x="4" y="5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4df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2831400">
              <a:off x="863280" y="3989160"/>
              <a:ext cx="1989000" cy="2257560"/>
            </a:xfrm>
            <a:custGeom>
              <a:avLst/>
              <a:gdLst/>
              <a:ahLst/>
              <a:rect l="l" t="t" r="r" b="b"/>
              <a:pathLst>
                <a:path w="684" h="934">
                  <a:moveTo>
                    <a:pt x="75" y="339"/>
                  </a:moveTo>
                  <a:lnTo>
                    <a:pt x="97" y="379"/>
                  </a:lnTo>
                  <a:lnTo>
                    <a:pt x="121" y="416"/>
                  </a:lnTo>
                  <a:lnTo>
                    <a:pt x="145" y="455"/>
                  </a:lnTo>
                  <a:lnTo>
                    <a:pt x="171" y="495"/>
                  </a:lnTo>
                  <a:lnTo>
                    <a:pt x="198" y="532"/>
                  </a:lnTo>
                  <a:lnTo>
                    <a:pt x="225" y="571"/>
                  </a:lnTo>
                  <a:lnTo>
                    <a:pt x="252" y="608"/>
                  </a:lnTo>
                  <a:lnTo>
                    <a:pt x="281" y="647"/>
                  </a:lnTo>
                  <a:lnTo>
                    <a:pt x="309" y="684"/>
                  </a:lnTo>
                  <a:lnTo>
                    <a:pt x="338" y="721"/>
                  </a:lnTo>
                  <a:lnTo>
                    <a:pt x="367" y="758"/>
                  </a:lnTo>
                  <a:lnTo>
                    <a:pt x="394" y="795"/>
                  </a:lnTo>
                  <a:lnTo>
                    <a:pt x="423" y="829"/>
                  </a:lnTo>
                  <a:lnTo>
                    <a:pt x="450" y="866"/>
                  </a:lnTo>
                  <a:lnTo>
                    <a:pt x="477" y="900"/>
                  </a:lnTo>
                  <a:lnTo>
                    <a:pt x="504" y="934"/>
                  </a:lnTo>
                  <a:lnTo>
                    <a:pt x="470" y="903"/>
                  </a:lnTo>
                  <a:lnTo>
                    <a:pt x="439" y="871"/>
                  </a:lnTo>
                  <a:lnTo>
                    <a:pt x="405" y="840"/>
                  </a:lnTo>
                  <a:lnTo>
                    <a:pt x="373" y="808"/>
                  </a:lnTo>
                  <a:lnTo>
                    <a:pt x="341" y="774"/>
                  </a:lnTo>
                  <a:lnTo>
                    <a:pt x="309" y="742"/>
                  </a:lnTo>
                  <a:lnTo>
                    <a:pt x="278" y="708"/>
                  </a:lnTo>
                  <a:lnTo>
                    <a:pt x="246" y="676"/>
                  </a:lnTo>
                  <a:lnTo>
                    <a:pt x="214" y="640"/>
                  </a:lnTo>
                  <a:lnTo>
                    <a:pt x="183" y="605"/>
                  </a:lnTo>
                  <a:lnTo>
                    <a:pt x="152" y="571"/>
                  </a:lnTo>
                  <a:lnTo>
                    <a:pt x="121" y="537"/>
                  </a:lnTo>
                  <a:lnTo>
                    <a:pt x="89" y="500"/>
                  </a:lnTo>
                  <a:lnTo>
                    <a:pt x="59" y="463"/>
                  </a:lnTo>
                  <a:lnTo>
                    <a:pt x="30" y="426"/>
                  </a:lnTo>
                  <a:lnTo>
                    <a:pt x="0" y="389"/>
                  </a:lnTo>
                  <a:lnTo>
                    <a:pt x="10" y="366"/>
                  </a:lnTo>
                  <a:lnTo>
                    <a:pt x="29" y="389"/>
                  </a:lnTo>
                  <a:lnTo>
                    <a:pt x="48" y="416"/>
                  </a:lnTo>
                  <a:lnTo>
                    <a:pt x="69" y="439"/>
                  </a:lnTo>
                  <a:lnTo>
                    <a:pt x="89" y="466"/>
                  </a:lnTo>
                  <a:lnTo>
                    <a:pt x="109" y="490"/>
                  </a:lnTo>
                  <a:lnTo>
                    <a:pt x="129" y="513"/>
                  </a:lnTo>
                  <a:lnTo>
                    <a:pt x="150" y="540"/>
                  </a:lnTo>
                  <a:lnTo>
                    <a:pt x="171" y="563"/>
                  </a:lnTo>
                  <a:lnTo>
                    <a:pt x="191" y="587"/>
                  </a:lnTo>
                  <a:lnTo>
                    <a:pt x="212" y="611"/>
                  </a:lnTo>
                  <a:lnTo>
                    <a:pt x="234" y="632"/>
                  </a:lnTo>
                  <a:lnTo>
                    <a:pt x="255" y="655"/>
                  </a:lnTo>
                  <a:lnTo>
                    <a:pt x="276" y="676"/>
                  </a:lnTo>
                  <a:lnTo>
                    <a:pt x="298" y="700"/>
                  </a:lnTo>
                  <a:lnTo>
                    <a:pt x="319" y="721"/>
                  </a:lnTo>
                  <a:lnTo>
                    <a:pt x="341" y="742"/>
                  </a:lnTo>
                  <a:lnTo>
                    <a:pt x="80" y="376"/>
                  </a:lnTo>
                  <a:lnTo>
                    <a:pt x="73" y="374"/>
                  </a:lnTo>
                  <a:lnTo>
                    <a:pt x="69" y="371"/>
                  </a:lnTo>
                  <a:lnTo>
                    <a:pt x="65" y="368"/>
                  </a:lnTo>
                  <a:lnTo>
                    <a:pt x="61" y="368"/>
                  </a:lnTo>
                  <a:lnTo>
                    <a:pt x="57" y="366"/>
                  </a:lnTo>
                  <a:lnTo>
                    <a:pt x="53" y="361"/>
                  </a:lnTo>
                  <a:lnTo>
                    <a:pt x="48" y="358"/>
                  </a:lnTo>
                  <a:lnTo>
                    <a:pt x="45" y="355"/>
                  </a:lnTo>
                  <a:lnTo>
                    <a:pt x="40" y="353"/>
                  </a:lnTo>
                  <a:lnTo>
                    <a:pt x="37" y="347"/>
                  </a:lnTo>
                  <a:lnTo>
                    <a:pt x="34" y="342"/>
                  </a:lnTo>
                  <a:lnTo>
                    <a:pt x="30" y="339"/>
                  </a:lnTo>
                  <a:lnTo>
                    <a:pt x="26" y="334"/>
                  </a:lnTo>
                  <a:lnTo>
                    <a:pt x="22" y="329"/>
                  </a:lnTo>
                  <a:lnTo>
                    <a:pt x="19" y="324"/>
                  </a:lnTo>
                  <a:lnTo>
                    <a:pt x="16" y="321"/>
                  </a:lnTo>
                  <a:lnTo>
                    <a:pt x="19" y="316"/>
                  </a:lnTo>
                  <a:lnTo>
                    <a:pt x="21" y="313"/>
                  </a:lnTo>
                  <a:lnTo>
                    <a:pt x="24" y="308"/>
                  </a:lnTo>
                  <a:lnTo>
                    <a:pt x="27" y="305"/>
                  </a:lnTo>
                  <a:lnTo>
                    <a:pt x="30" y="297"/>
                  </a:lnTo>
                  <a:lnTo>
                    <a:pt x="34" y="292"/>
                  </a:lnTo>
                  <a:lnTo>
                    <a:pt x="37" y="287"/>
                  </a:lnTo>
                  <a:lnTo>
                    <a:pt x="40" y="282"/>
                  </a:lnTo>
                  <a:lnTo>
                    <a:pt x="43" y="274"/>
                  </a:lnTo>
                  <a:lnTo>
                    <a:pt x="46" y="268"/>
                  </a:lnTo>
                  <a:lnTo>
                    <a:pt x="50" y="260"/>
                  </a:lnTo>
                  <a:lnTo>
                    <a:pt x="53" y="255"/>
                  </a:lnTo>
                  <a:lnTo>
                    <a:pt x="56" y="250"/>
                  </a:lnTo>
                  <a:lnTo>
                    <a:pt x="59" y="245"/>
                  </a:lnTo>
                  <a:lnTo>
                    <a:pt x="62" y="237"/>
                  </a:lnTo>
                  <a:lnTo>
                    <a:pt x="65" y="234"/>
                  </a:lnTo>
                  <a:lnTo>
                    <a:pt x="67" y="237"/>
                  </a:lnTo>
                  <a:lnTo>
                    <a:pt x="70" y="239"/>
                  </a:lnTo>
                  <a:lnTo>
                    <a:pt x="75" y="245"/>
                  </a:lnTo>
                  <a:lnTo>
                    <a:pt x="80" y="247"/>
                  </a:lnTo>
                  <a:lnTo>
                    <a:pt x="85" y="250"/>
                  </a:lnTo>
                  <a:lnTo>
                    <a:pt x="89" y="253"/>
                  </a:lnTo>
                  <a:lnTo>
                    <a:pt x="94" y="253"/>
                  </a:lnTo>
                  <a:lnTo>
                    <a:pt x="99" y="255"/>
                  </a:lnTo>
                  <a:lnTo>
                    <a:pt x="104" y="255"/>
                  </a:lnTo>
                  <a:lnTo>
                    <a:pt x="107" y="255"/>
                  </a:lnTo>
                  <a:lnTo>
                    <a:pt x="110" y="253"/>
                  </a:lnTo>
                  <a:lnTo>
                    <a:pt x="113" y="253"/>
                  </a:lnTo>
                  <a:lnTo>
                    <a:pt x="113" y="250"/>
                  </a:lnTo>
                  <a:lnTo>
                    <a:pt x="115" y="245"/>
                  </a:lnTo>
                  <a:lnTo>
                    <a:pt x="113" y="239"/>
                  </a:lnTo>
                  <a:lnTo>
                    <a:pt x="112" y="234"/>
                  </a:lnTo>
                  <a:lnTo>
                    <a:pt x="73" y="229"/>
                  </a:lnTo>
                  <a:lnTo>
                    <a:pt x="77" y="221"/>
                  </a:lnTo>
                  <a:lnTo>
                    <a:pt x="78" y="213"/>
                  </a:lnTo>
                  <a:lnTo>
                    <a:pt x="80" y="208"/>
                  </a:lnTo>
                  <a:lnTo>
                    <a:pt x="83" y="203"/>
                  </a:lnTo>
                  <a:lnTo>
                    <a:pt x="86" y="197"/>
                  </a:lnTo>
                  <a:lnTo>
                    <a:pt x="88" y="189"/>
                  </a:lnTo>
                  <a:lnTo>
                    <a:pt x="91" y="184"/>
                  </a:lnTo>
                  <a:lnTo>
                    <a:pt x="94" y="179"/>
                  </a:lnTo>
                  <a:lnTo>
                    <a:pt x="96" y="174"/>
                  </a:lnTo>
                  <a:lnTo>
                    <a:pt x="99" y="166"/>
                  </a:lnTo>
                  <a:lnTo>
                    <a:pt x="102" y="160"/>
                  </a:lnTo>
                  <a:lnTo>
                    <a:pt x="105" y="155"/>
                  </a:lnTo>
                  <a:lnTo>
                    <a:pt x="107" y="150"/>
                  </a:lnTo>
                  <a:lnTo>
                    <a:pt x="110" y="142"/>
                  </a:lnTo>
                  <a:lnTo>
                    <a:pt x="113" y="137"/>
                  </a:lnTo>
                  <a:lnTo>
                    <a:pt x="116" y="132"/>
                  </a:lnTo>
                  <a:lnTo>
                    <a:pt x="145" y="158"/>
                  </a:lnTo>
                  <a:lnTo>
                    <a:pt x="174" y="187"/>
                  </a:lnTo>
                  <a:lnTo>
                    <a:pt x="204" y="213"/>
                  </a:lnTo>
                  <a:lnTo>
                    <a:pt x="233" y="245"/>
                  </a:lnTo>
                  <a:lnTo>
                    <a:pt x="262" y="271"/>
                  </a:lnTo>
                  <a:lnTo>
                    <a:pt x="290" y="300"/>
                  </a:lnTo>
                  <a:lnTo>
                    <a:pt x="319" y="332"/>
                  </a:lnTo>
                  <a:lnTo>
                    <a:pt x="348" y="361"/>
                  </a:lnTo>
                  <a:lnTo>
                    <a:pt x="376" y="392"/>
                  </a:lnTo>
                  <a:lnTo>
                    <a:pt x="405" y="421"/>
                  </a:lnTo>
                  <a:lnTo>
                    <a:pt x="432" y="453"/>
                  </a:lnTo>
                  <a:lnTo>
                    <a:pt x="461" y="484"/>
                  </a:lnTo>
                  <a:lnTo>
                    <a:pt x="488" y="516"/>
                  </a:lnTo>
                  <a:lnTo>
                    <a:pt x="517" y="547"/>
                  </a:lnTo>
                  <a:lnTo>
                    <a:pt x="545" y="579"/>
                  </a:lnTo>
                  <a:lnTo>
                    <a:pt x="573" y="611"/>
                  </a:lnTo>
                  <a:lnTo>
                    <a:pt x="547" y="574"/>
                  </a:lnTo>
                  <a:lnTo>
                    <a:pt x="523" y="542"/>
                  </a:lnTo>
                  <a:lnTo>
                    <a:pt x="498" y="505"/>
                  </a:lnTo>
                  <a:lnTo>
                    <a:pt x="472" y="474"/>
                  </a:lnTo>
                  <a:lnTo>
                    <a:pt x="447" y="442"/>
                  </a:lnTo>
                  <a:lnTo>
                    <a:pt x="421" y="411"/>
                  </a:lnTo>
                  <a:lnTo>
                    <a:pt x="394" y="379"/>
                  </a:lnTo>
                  <a:lnTo>
                    <a:pt x="368" y="350"/>
                  </a:lnTo>
                  <a:lnTo>
                    <a:pt x="341" y="318"/>
                  </a:lnTo>
                  <a:lnTo>
                    <a:pt x="314" y="289"/>
                  </a:lnTo>
                  <a:lnTo>
                    <a:pt x="289" y="258"/>
                  </a:lnTo>
                  <a:lnTo>
                    <a:pt x="262" y="232"/>
                  </a:lnTo>
                  <a:lnTo>
                    <a:pt x="234" y="200"/>
                  </a:lnTo>
                  <a:lnTo>
                    <a:pt x="206" y="174"/>
                  </a:lnTo>
                  <a:lnTo>
                    <a:pt x="179" y="145"/>
                  </a:lnTo>
                  <a:lnTo>
                    <a:pt x="152" y="116"/>
                  </a:lnTo>
                  <a:lnTo>
                    <a:pt x="148" y="118"/>
                  </a:lnTo>
                  <a:lnTo>
                    <a:pt x="145" y="121"/>
                  </a:lnTo>
                  <a:lnTo>
                    <a:pt x="142" y="124"/>
                  </a:lnTo>
                  <a:lnTo>
                    <a:pt x="139" y="124"/>
                  </a:lnTo>
                  <a:lnTo>
                    <a:pt x="136" y="126"/>
                  </a:lnTo>
                  <a:lnTo>
                    <a:pt x="132" y="126"/>
                  </a:lnTo>
                  <a:lnTo>
                    <a:pt x="129" y="126"/>
                  </a:lnTo>
                  <a:lnTo>
                    <a:pt x="126" y="126"/>
                  </a:lnTo>
                  <a:lnTo>
                    <a:pt x="123" y="124"/>
                  </a:lnTo>
                  <a:lnTo>
                    <a:pt x="120" y="124"/>
                  </a:lnTo>
                  <a:lnTo>
                    <a:pt x="118" y="121"/>
                  </a:lnTo>
                  <a:lnTo>
                    <a:pt x="115" y="121"/>
                  </a:lnTo>
                  <a:lnTo>
                    <a:pt x="112" y="118"/>
                  </a:lnTo>
                  <a:lnTo>
                    <a:pt x="109" y="116"/>
                  </a:lnTo>
                  <a:lnTo>
                    <a:pt x="107" y="110"/>
                  </a:lnTo>
                  <a:lnTo>
                    <a:pt x="105" y="108"/>
                  </a:lnTo>
                  <a:lnTo>
                    <a:pt x="112" y="95"/>
                  </a:lnTo>
                  <a:lnTo>
                    <a:pt x="123" y="105"/>
                  </a:lnTo>
                  <a:lnTo>
                    <a:pt x="126" y="100"/>
                  </a:lnTo>
                  <a:lnTo>
                    <a:pt x="129" y="95"/>
                  </a:lnTo>
                  <a:lnTo>
                    <a:pt x="132" y="89"/>
                  </a:lnTo>
                  <a:lnTo>
                    <a:pt x="136" y="84"/>
                  </a:lnTo>
                  <a:lnTo>
                    <a:pt x="137" y="76"/>
                  </a:lnTo>
                  <a:lnTo>
                    <a:pt x="139" y="68"/>
                  </a:lnTo>
                  <a:lnTo>
                    <a:pt x="140" y="63"/>
                  </a:lnTo>
                  <a:lnTo>
                    <a:pt x="142" y="55"/>
                  </a:lnTo>
                  <a:lnTo>
                    <a:pt x="142" y="47"/>
                  </a:lnTo>
                  <a:lnTo>
                    <a:pt x="144" y="39"/>
                  </a:lnTo>
                  <a:lnTo>
                    <a:pt x="145" y="31"/>
                  </a:lnTo>
                  <a:lnTo>
                    <a:pt x="147" y="26"/>
                  </a:lnTo>
                  <a:lnTo>
                    <a:pt x="148" y="18"/>
                  </a:lnTo>
                  <a:lnTo>
                    <a:pt x="150" y="10"/>
                  </a:lnTo>
                  <a:lnTo>
                    <a:pt x="152" y="5"/>
                  </a:lnTo>
                  <a:lnTo>
                    <a:pt x="155" y="0"/>
                  </a:lnTo>
                  <a:lnTo>
                    <a:pt x="158" y="3"/>
                  </a:lnTo>
                  <a:lnTo>
                    <a:pt x="160" y="8"/>
                  </a:lnTo>
                  <a:lnTo>
                    <a:pt x="161" y="10"/>
                  </a:lnTo>
                  <a:lnTo>
                    <a:pt x="164" y="16"/>
                  </a:lnTo>
                  <a:lnTo>
                    <a:pt x="166" y="21"/>
                  </a:lnTo>
                  <a:lnTo>
                    <a:pt x="166" y="26"/>
                  </a:lnTo>
                  <a:lnTo>
                    <a:pt x="168" y="31"/>
                  </a:lnTo>
                  <a:lnTo>
                    <a:pt x="169" y="39"/>
                  </a:lnTo>
                  <a:lnTo>
                    <a:pt x="169" y="45"/>
                  </a:lnTo>
                  <a:lnTo>
                    <a:pt x="169" y="50"/>
                  </a:lnTo>
                  <a:lnTo>
                    <a:pt x="169" y="55"/>
                  </a:lnTo>
                  <a:lnTo>
                    <a:pt x="169" y="63"/>
                  </a:lnTo>
                  <a:lnTo>
                    <a:pt x="168" y="68"/>
                  </a:lnTo>
                  <a:lnTo>
                    <a:pt x="168" y="74"/>
                  </a:lnTo>
                  <a:lnTo>
                    <a:pt x="166" y="79"/>
                  </a:lnTo>
                  <a:lnTo>
                    <a:pt x="164" y="84"/>
                  </a:lnTo>
                  <a:lnTo>
                    <a:pt x="198" y="121"/>
                  </a:lnTo>
                  <a:lnTo>
                    <a:pt x="233" y="160"/>
                  </a:lnTo>
                  <a:lnTo>
                    <a:pt x="268" y="200"/>
                  </a:lnTo>
                  <a:lnTo>
                    <a:pt x="301" y="239"/>
                  </a:lnTo>
                  <a:lnTo>
                    <a:pt x="335" y="276"/>
                  </a:lnTo>
                  <a:lnTo>
                    <a:pt x="370" y="316"/>
                  </a:lnTo>
                  <a:lnTo>
                    <a:pt x="403" y="355"/>
                  </a:lnTo>
                  <a:lnTo>
                    <a:pt x="437" y="397"/>
                  </a:lnTo>
                  <a:lnTo>
                    <a:pt x="469" y="437"/>
                  </a:lnTo>
                  <a:lnTo>
                    <a:pt x="502" y="482"/>
                  </a:lnTo>
                  <a:lnTo>
                    <a:pt x="534" y="524"/>
                  </a:lnTo>
                  <a:lnTo>
                    <a:pt x="566" y="568"/>
                  </a:lnTo>
                  <a:lnTo>
                    <a:pt x="595" y="616"/>
                  </a:lnTo>
                  <a:lnTo>
                    <a:pt x="627" y="663"/>
                  </a:lnTo>
                  <a:lnTo>
                    <a:pt x="655" y="713"/>
                  </a:lnTo>
                  <a:lnTo>
                    <a:pt x="684" y="766"/>
                  </a:lnTo>
                  <a:lnTo>
                    <a:pt x="654" y="734"/>
                  </a:lnTo>
                  <a:lnTo>
                    <a:pt x="625" y="700"/>
                  </a:lnTo>
                  <a:lnTo>
                    <a:pt x="595" y="666"/>
                  </a:lnTo>
                  <a:lnTo>
                    <a:pt x="563" y="632"/>
                  </a:lnTo>
                  <a:lnTo>
                    <a:pt x="531" y="595"/>
                  </a:lnTo>
                  <a:lnTo>
                    <a:pt x="501" y="561"/>
                  </a:lnTo>
                  <a:lnTo>
                    <a:pt x="467" y="526"/>
                  </a:lnTo>
                  <a:lnTo>
                    <a:pt x="435" y="495"/>
                  </a:lnTo>
                  <a:lnTo>
                    <a:pt x="402" y="463"/>
                  </a:lnTo>
                  <a:lnTo>
                    <a:pt x="368" y="432"/>
                  </a:lnTo>
                  <a:lnTo>
                    <a:pt x="335" y="405"/>
                  </a:lnTo>
                  <a:lnTo>
                    <a:pt x="301" y="379"/>
                  </a:lnTo>
                  <a:lnTo>
                    <a:pt x="266" y="358"/>
                  </a:lnTo>
                  <a:lnTo>
                    <a:pt x="231" y="339"/>
                  </a:lnTo>
                  <a:lnTo>
                    <a:pt x="198" y="324"/>
                  </a:lnTo>
                  <a:lnTo>
                    <a:pt x="163" y="311"/>
                  </a:lnTo>
                  <a:lnTo>
                    <a:pt x="161" y="308"/>
                  </a:lnTo>
                  <a:lnTo>
                    <a:pt x="161" y="303"/>
                  </a:lnTo>
                  <a:lnTo>
                    <a:pt x="163" y="300"/>
                  </a:lnTo>
                  <a:lnTo>
                    <a:pt x="164" y="300"/>
                  </a:lnTo>
                  <a:lnTo>
                    <a:pt x="168" y="297"/>
                  </a:lnTo>
                  <a:lnTo>
                    <a:pt x="171" y="297"/>
                  </a:lnTo>
                  <a:lnTo>
                    <a:pt x="175" y="295"/>
                  </a:lnTo>
                  <a:lnTo>
                    <a:pt x="180" y="295"/>
                  </a:lnTo>
                  <a:lnTo>
                    <a:pt x="187" y="295"/>
                  </a:lnTo>
                  <a:lnTo>
                    <a:pt x="191" y="297"/>
                  </a:lnTo>
                  <a:lnTo>
                    <a:pt x="198" y="300"/>
                  </a:lnTo>
                  <a:lnTo>
                    <a:pt x="203" y="300"/>
                  </a:lnTo>
                  <a:lnTo>
                    <a:pt x="209" y="303"/>
                  </a:lnTo>
                  <a:lnTo>
                    <a:pt x="214" y="308"/>
                  </a:lnTo>
                  <a:lnTo>
                    <a:pt x="220" y="308"/>
                  </a:lnTo>
                  <a:lnTo>
                    <a:pt x="225" y="313"/>
                  </a:lnTo>
                  <a:lnTo>
                    <a:pt x="230" y="313"/>
                  </a:lnTo>
                  <a:lnTo>
                    <a:pt x="236" y="318"/>
                  </a:lnTo>
                  <a:lnTo>
                    <a:pt x="241" y="318"/>
                  </a:lnTo>
                  <a:lnTo>
                    <a:pt x="247" y="321"/>
                  </a:lnTo>
                  <a:lnTo>
                    <a:pt x="252" y="324"/>
                  </a:lnTo>
                  <a:lnTo>
                    <a:pt x="257" y="324"/>
                  </a:lnTo>
                  <a:lnTo>
                    <a:pt x="250" y="318"/>
                  </a:lnTo>
                  <a:lnTo>
                    <a:pt x="244" y="313"/>
                  </a:lnTo>
                  <a:lnTo>
                    <a:pt x="236" y="311"/>
                  </a:lnTo>
                  <a:lnTo>
                    <a:pt x="228" y="305"/>
                  </a:lnTo>
                  <a:lnTo>
                    <a:pt x="220" y="300"/>
                  </a:lnTo>
                  <a:lnTo>
                    <a:pt x="212" y="295"/>
                  </a:lnTo>
                  <a:lnTo>
                    <a:pt x="204" y="289"/>
                  </a:lnTo>
                  <a:lnTo>
                    <a:pt x="196" y="284"/>
                  </a:lnTo>
                  <a:lnTo>
                    <a:pt x="188" y="276"/>
                  </a:lnTo>
                  <a:lnTo>
                    <a:pt x="180" y="268"/>
                  </a:lnTo>
                  <a:lnTo>
                    <a:pt x="174" y="260"/>
                  </a:lnTo>
                  <a:lnTo>
                    <a:pt x="168" y="253"/>
                  </a:lnTo>
                  <a:lnTo>
                    <a:pt x="161" y="245"/>
                  </a:lnTo>
                  <a:lnTo>
                    <a:pt x="156" y="234"/>
                  </a:lnTo>
                  <a:lnTo>
                    <a:pt x="153" y="221"/>
                  </a:lnTo>
                  <a:lnTo>
                    <a:pt x="150" y="210"/>
                  </a:lnTo>
                  <a:lnTo>
                    <a:pt x="131" y="189"/>
                  </a:lnTo>
                  <a:lnTo>
                    <a:pt x="121" y="210"/>
                  </a:lnTo>
                  <a:lnTo>
                    <a:pt x="128" y="224"/>
                  </a:lnTo>
                  <a:lnTo>
                    <a:pt x="131" y="234"/>
                  </a:lnTo>
                  <a:lnTo>
                    <a:pt x="134" y="245"/>
                  </a:lnTo>
                  <a:lnTo>
                    <a:pt x="137" y="255"/>
                  </a:lnTo>
                  <a:lnTo>
                    <a:pt x="137" y="263"/>
                  </a:lnTo>
                  <a:lnTo>
                    <a:pt x="137" y="271"/>
                  </a:lnTo>
                  <a:lnTo>
                    <a:pt x="136" y="276"/>
                  </a:lnTo>
                  <a:lnTo>
                    <a:pt x="134" y="284"/>
                  </a:lnTo>
                  <a:lnTo>
                    <a:pt x="131" y="287"/>
                  </a:lnTo>
                  <a:lnTo>
                    <a:pt x="128" y="292"/>
                  </a:lnTo>
                  <a:lnTo>
                    <a:pt x="123" y="292"/>
                  </a:lnTo>
                  <a:lnTo>
                    <a:pt x="118" y="295"/>
                  </a:lnTo>
                  <a:lnTo>
                    <a:pt x="110" y="295"/>
                  </a:lnTo>
                  <a:lnTo>
                    <a:pt x="104" y="297"/>
                  </a:lnTo>
                  <a:lnTo>
                    <a:pt x="96" y="295"/>
                  </a:lnTo>
                  <a:lnTo>
                    <a:pt x="88" y="295"/>
                  </a:lnTo>
                  <a:lnTo>
                    <a:pt x="75" y="339"/>
                  </a:lnTo>
                  <a:lnTo>
                    <a:pt x="75" y="3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rot="2831400">
              <a:off x="1158480" y="4226040"/>
              <a:ext cx="180000" cy="209880"/>
            </a:xfrm>
            <a:custGeom>
              <a:avLst/>
              <a:gdLst/>
              <a:ahLst/>
              <a:rect l="l" t="t" r="r" b="b"/>
              <a:pathLst>
                <a:path w="62" h="87">
                  <a:moveTo>
                    <a:pt x="0" y="74"/>
                  </a:moveTo>
                  <a:lnTo>
                    <a:pt x="3" y="68"/>
                  </a:lnTo>
                  <a:lnTo>
                    <a:pt x="5" y="66"/>
                  </a:lnTo>
                  <a:lnTo>
                    <a:pt x="6" y="60"/>
                  </a:lnTo>
                  <a:lnTo>
                    <a:pt x="8" y="55"/>
                  </a:lnTo>
                  <a:lnTo>
                    <a:pt x="11" y="50"/>
                  </a:lnTo>
                  <a:lnTo>
                    <a:pt x="13" y="45"/>
                  </a:lnTo>
                  <a:lnTo>
                    <a:pt x="14" y="42"/>
                  </a:lnTo>
                  <a:lnTo>
                    <a:pt x="17" y="37"/>
                  </a:lnTo>
                  <a:lnTo>
                    <a:pt x="19" y="31"/>
                  </a:lnTo>
                  <a:lnTo>
                    <a:pt x="21" y="26"/>
                  </a:lnTo>
                  <a:lnTo>
                    <a:pt x="22" y="21"/>
                  </a:lnTo>
                  <a:lnTo>
                    <a:pt x="25" y="16"/>
                  </a:lnTo>
                  <a:lnTo>
                    <a:pt x="27" y="13"/>
                  </a:lnTo>
                  <a:lnTo>
                    <a:pt x="28" y="8"/>
                  </a:lnTo>
                  <a:lnTo>
                    <a:pt x="30" y="2"/>
                  </a:lnTo>
                  <a:lnTo>
                    <a:pt x="33" y="0"/>
                  </a:lnTo>
                  <a:lnTo>
                    <a:pt x="62" y="37"/>
                  </a:lnTo>
                  <a:lnTo>
                    <a:pt x="59" y="39"/>
                  </a:lnTo>
                  <a:lnTo>
                    <a:pt x="56" y="45"/>
                  </a:lnTo>
                  <a:lnTo>
                    <a:pt x="52" y="50"/>
                  </a:lnTo>
                  <a:lnTo>
                    <a:pt x="49" y="55"/>
                  </a:lnTo>
                  <a:lnTo>
                    <a:pt x="46" y="60"/>
                  </a:lnTo>
                  <a:lnTo>
                    <a:pt x="41" y="66"/>
                  </a:lnTo>
                  <a:lnTo>
                    <a:pt x="38" y="71"/>
                  </a:lnTo>
                  <a:lnTo>
                    <a:pt x="35" y="79"/>
                  </a:lnTo>
                  <a:lnTo>
                    <a:pt x="30" y="81"/>
                  </a:lnTo>
                  <a:lnTo>
                    <a:pt x="25" y="84"/>
                  </a:lnTo>
                  <a:lnTo>
                    <a:pt x="22" y="84"/>
                  </a:lnTo>
                  <a:lnTo>
                    <a:pt x="17" y="87"/>
                  </a:lnTo>
                  <a:lnTo>
                    <a:pt x="13" y="84"/>
                  </a:lnTo>
                  <a:lnTo>
                    <a:pt x="9" y="84"/>
                  </a:lnTo>
                  <a:lnTo>
                    <a:pt x="5" y="7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rot="2831400">
              <a:off x="1194120" y="4030200"/>
              <a:ext cx="107280" cy="335880"/>
            </a:xfrm>
            <a:custGeom>
              <a:avLst/>
              <a:gdLst/>
              <a:ahLst/>
              <a:rect l="l" t="t" r="r" b="b"/>
              <a:pathLst>
                <a:path w="37" h="139">
                  <a:moveTo>
                    <a:pt x="21" y="139"/>
                  </a:moveTo>
                  <a:lnTo>
                    <a:pt x="16" y="131"/>
                  </a:lnTo>
                  <a:lnTo>
                    <a:pt x="11" y="126"/>
                  </a:lnTo>
                  <a:lnTo>
                    <a:pt x="8" y="118"/>
                  </a:lnTo>
                  <a:lnTo>
                    <a:pt x="5" y="110"/>
                  </a:lnTo>
                  <a:lnTo>
                    <a:pt x="3" y="102"/>
                  </a:lnTo>
                  <a:lnTo>
                    <a:pt x="2" y="92"/>
                  </a:lnTo>
                  <a:lnTo>
                    <a:pt x="0" y="84"/>
                  </a:lnTo>
                  <a:lnTo>
                    <a:pt x="0" y="73"/>
                  </a:lnTo>
                  <a:lnTo>
                    <a:pt x="0" y="63"/>
                  </a:lnTo>
                  <a:lnTo>
                    <a:pt x="0" y="55"/>
                  </a:lnTo>
                  <a:lnTo>
                    <a:pt x="2" y="44"/>
                  </a:lnTo>
                  <a:lnTo>
                    <a:pt x="3" y="37"/>
                  </a:lnTo>
                  <a:lnTo>
                    <a:pt x="5" y="26"/>
                  </a:lnTo>
                  <a:lnTo>
                    <a:pt x="8" y="15"/>
                  </a:lnTo>
                  <a:lnTo>
                    <a:pt x="10" y="8"/>
                  </a:lnTo>
                  <a:lnTo>
                    <a:pt x="14" y="0"/>
                  </a:lnTo>
                  <a:lnTo>
                    <a:pt x="37" y="42"/>
                  </a:lnTo>
                  <a:lnTo>
                    <a:pt x="35" y="44"/>
                  </a:lnTo>
                  <a:lnTo>
                    <a:pt x="32" y="47"/>
                  </a:lnTo>
                  <a:lnTo>
                    <a:pt x="30" y="52"/>
                  </a:lnTo>
                  <a:lnTo>
                    <a:pt x="29" y="60"/>
                  </a:lnTo>
                  <a:lnTo>
                    <a:pt x="26" y="65"/>
                  </a:lnTo>
                  <a:lnTo>
                    <a:pt x="24" y="71"/>
                  </a:lnTo>
                  <a:lnTo>
                    <a:pt x="22" y="79"/>
                  </a:lnTo>
                  <a:lnTo>
                    <a:pt x="21" y="87"/>
                  </a:lnTo>
                  <a:lnTo>
                    <a:pt x="21" y="92"/>
                  </a:lnTo>
                  <a:lnTo>
                    <a:pt x="19" y="97"/>
                  </a:lnTo>
                  <a:lnTo>
                    <a:pt x="19" y="105"/>
                  </a:lnTo>
                  <a:lnTo>
                    <a:pt x="21" y="110"/>
                  </a:lnTo>
                  <a:lnTo>
                    <a:pt x="21" y="115"/>
                  </a:lnTo>
                  <a:lnTo>
                    <a:pt x="24" y="118"/>
                  </a:lnTo>
                  <a:lnTo>
                    <a:pt x="26" y="123"/>
                  </a:lnTo>
                  <a:lnTo>
                    <a:pt x="30" y="126"/>
                  </a:lnTo>
                  <a:lnTo>
                    <a:pt x="21" y="139"/>
                  </a:lnTo>
                  <a:lnTo>
                    <a:pt x="21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rot="2831400">
              <a:off x="1039680" y="2877120"/>
              <a:ext cx="936360" cy="1283400"/>
            </a:xfrm>
            <a:custGeom>
              <a:avLst/>
              <a:gdLst/>
              <a:ahLst/>
              <a:rect l="l" t="t" r="r" b="b"/>
              <a:pathLst>
                <a:path w="322" h="531">
                  <a:moveTo>
                    <a:pt x="306" y="531"/>
                  </a:moveTo>
                  <a:lnTo>
                    <a:pt x="287" y="508"/>
                  </a:lnTo>
                  <a:lnTo>
                    <a:pt x="267" y="484"/>
                  </a:lnTo>
                  <a:lnTo>
                    <a:pt x="247" y="455"/>
                  </a:lnTo>
                  <a:lnTo>
                    <a:pt x="228" y="424"/>
                  </a:lnTo>
                  <a:lnTo>
                    <a:pt x="207" y="392"/>
                  </a:lnTo>
                  <a:lnTo>
                    <a:pt x="186" y="360"/>
                  </a:lnTo>
                  <a:lnTo>
                    <a:pt x="165" y="326"/>
                  </a:lnTo>
                  <a:lnTo>
                    <a:pt x="146" y="292"/>
                  </a:lnTo>
                  <a:lnTo>
                    <a:pt x="125" y="255"/>
                  </a:lnTo>
                  <a:lnTo>
                    <a:pt x="105" y="218"/>
                  </a:lnTo>
                  <a:lnTo>
                    <a:pt x="86" y="184"/>
                  </a:lnTo>
                  <a:lnTo>
                    <a:pt x="67" y="150"/>
                  </a:lnTo>
                  <a:lnTo>
                    <a:pt x="49" y="116"/>
                  </a:lnTo>
                  <a:lnTo>
                    <a:pt x="31" y="81"/>
                  </a:lnTo>
                  <a:lnTo>
                    <a:pt x="14" y="52"/>
                  </a:lnTo>
                  <a:lnTo>
                    <a:pt x="0" y="23"/>
                  </a:lnTo>
                  <a:lnTo>
                    <a:pt x="30" y="0"/>
                  </a:lnTo>
                  <a:lnTo>
                    <a:pt x="46" y="34"/>
                  </a:lnTo>
                  <a:lnTo>
                    <a:pt x="63" y="68"/>
                  </a:lnTo>
                  <a:lnTo>
                    <a:pt x="79" y="102"/>
                  </a:lnTo>
                  <a:lnTo>
                    <a:pt x="98" y="137"/>
                  </a:lnTo>
                  <a:lnTo>
                    <a:pt x="116" y="168"/>
                  </a:lnTo>
                  <a:lnTo>
                    <a:pt x="133" y="202"/>
                  </a:lnTo>
                  <a:lnTo>
                    <a:pt x="151" y="237"/>
                  </a:lnTo>
                  <a:lnTo>
                    <a:pt x="170" y="268"/>
                  </a:lnTo>
                  <a:lnTo>
                    <a:pt x="188" y="302"/>
                  </a:lnTo>
                  <a:lnTo>
                    <a:pt x="207" y="334"/>
                  </a:lnTo>
                  <a:lnTo>
                    <a:pt x="226" y="366"/>
                  </a:lnTo>
                  <a:lnTo>
                    <a:pt x="245" y="397"/>
                  </a:lnTo>
                  <a:lnTo>
                    <a:pt x="264" y="426"/>
                  </a:lnTo>
                  <a:lnTo>
                    <a:pt x="283" y="458"/>
                  </a:lnTo>
                  <a:lnTo>
                    <a:pt x="302" y="489"/>
                  </a:lnTo>
                  <a:lnTo>
                    <a:pt x="322" y="521"/>
                  </a:lnTo>
                  <a:lnTo>
                    <a:pt x="306" y="531"/>
                  </a:lnTo>
                  <a:lnTo>
                    <a:pt x="306" y="5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2831400">
              <a:off x="1158480" y="2977920"/>
              <a:ext cx="1134360" cy="1227600"/>
            </a:xfrm>
            <a:custGeom>
              <a:avLst/>
              <a:gdLst/>
              <a:ahLst/>
              <a:rect l="l" t="t" r="r" b="b"/>
              <a:pathLst>
                <a:path w="390" h="508">
                  <a:moveTo>
                    <a:pt x="350" y="326"/>
                  </a:moveTo>
                  <a:lnTo>
                    <a:pt x="347" y="321"/>
                  </a:lnTo>
                  <a:lnTo>
                    <a:pt x="346" y="318"/>
                  </a:lnTo>
                  <a:lnTo>
                    <a:pt x="342" y="315"/>
                  </a:lnTo>
                  <a:lnTo>
                    <a:pt x="341" y="313"/>
                  </a:lnTo>
                  <a:lnTo>
                    <a:pt x="334" y="308"/>
                  </a:lnTo>
                  <a:lnTo>
                    <a:pt x="331" y="302"/>
                  </a:lnTo>
                  <a:lnTo>
                    <a:pt x="328" y="300"/>
                  </a:lnTo>
                  <a:lnTo>
                    <a:pt x="325" y="297"/>
                  </a:lnTo>
                  <a:lnTo>
                    <a:pt x="323" y="294"/>
                  </a:lnTo>
                  <a:lnTo>
                    <a:pt x="320" y="292"/>
                  </a:lnTo>
                  <a:lnTo>
                    <a:pt x="315" y="289"/>
                  </a:lnTo>
                  <a:lnTo>
                    <a:pt x="311" y="284"/>
                  </a:lnTo>
                  <a:lnTo>
                    <a:pt x="303" y="286"/>
                  </a:lnTo>
                  <a:lnTo>
                    <a:pt x="295" y="289"/>
                  </a:lnTo>
                  <a:lnTo>
                    <a:pt x="287" y="289"/>
                  </a:lnTo>
                  <a:lnTo>
                    <a:pt x="279" y="292"/>
                  </a:lnTo>
                  <a:lnTo>
                    <a:pt x="269" y="289"/>
                  </a:lnTo>
                  <a:lnTo>
                    <a:pt x="260" y="286"/>
                  </a:lnTo>
                  <a:lnTo>
                    <a:pt x="250" y="284"/>
                  </a:lnTo>
                  <a:lnTo>
                    <a:pt x="242" y="279"/>
                  </a:lnTo>
                  <a:lnTo>
                    <a:pt x="232" y="276"/>
                  </a:lnTo>
                  <a:lnTo>
                    <a:pt x="223" y="271"/>
                  </a:lnTo>
                  <a:lnTo>
                    <a:pt x="215" y="265"/>
                  </a:lnTo>
                  <a:lnTo>
                    <a:pt x="205" y="260"/>
                  </a:lnTo>
                  <a:lnTo>
                    <a:pt x="197" y="255"/>
                  </a:lnTo>
                  <a:lnTo>
                    <a:pt x="189" y="250"/>
                  </a:lnTo>
                  <a:lnTo>
                    <a:pt x="183" y="244"/>
                  </a:lnTo>
                  <a:lnTo>
                    <a:pt x="177" y="239"/>
                  </a:lnTo>
                  <a:lnTo>
                    <a:pt x="169" y="215"/>
                  </a:lnTo>
                  <a:lnTo>
                    <a:pt x="175" y="215"/>
                  </a:lnTo>
                  <a:lnTo>
                    <a:pt x="181" y="221"/>
                  </a:lnTo>
                  <a:lnTo>
                    <a:pt x="186" y="223"/>
                  </a:lnTo>
                  <a:lnTo>
                    <a:pt x="193" y="226"/>
                  </a:lnTo>
                  <a:lnTo>
                    <a:pt x="199" y="229"/>
                  </a:lnTo>
                  <a:lnTo>
                    <a:pt x="205" y="231"/>
                  </a:lnTo>
                  <a:lnTo>
                    <a:pt x="212" y="234"/>
                  </a:lnTo>
                  <a:lnTo>
                    <a:pt x="218" y="236"/>
                  </a:lnTo>
                  <a:lnTo>
                    <a:pt x="223" y="239"/>
                  </a:lnTo>
                  <a:lnTo>
                    <a:pt x="229" y="239"/>
                  </a:lnTo>
                  <a:lnTo>
                    <a:pt x="236" y="242"/>
                  </a:lnTo>
                  <a:lnTo>
                    <a:pt x="242" y="244"/>
                  </a:lnTo>
                  <a:lnTo>
                    <a:pt x="247" y="247"/>
                  </a:lnTo>
                  <a:lnTo>
                    <a:pt x="253" y="250"/>
                  </a:lnTo>
                  <a:lnTo>
                    <a:pt x="260" y="250"/>
                  </a:lnTo>
                  <a:lnTo>
                    <a:pt x="266" y="252"/>
                  </a:lnTo>
                  <a:lnTo>
                    <a:pt x="261" y="244"/>
                  </a:lnTo>
                  <a:lnTo>
                    <a:pt x="255" y="239"/>
                  </a:lnTo>
                  <a:lnTo>
                    <a:pt x="248" y="236"/>
                  </a:lnTo>
                  <a:lnTo>
                    <a:pt x="242" y="231"/>
                  </a:lnTo>
                  <a:lnTo>
                    <a:pt x="236" y="226"/>
                  </a:lnTo>
                  <a:lnTo>
                    <a:pt x="229" y="223"/>
                  </a:lnTo>
                  <a:lnTo>
                    <a:pt x="223" y="218"/>
                  </a:lnTo>
                  <a:lnTo>
                    <a:pt x="218" y="215"/>
                  </a:lnTo>
                  <a:lnTo>
                    <a:pt x="210" y="213"/>
                  </a:lnTo>
                  <a:lnTo>
                    <a:pt x="204" y="207"/>
                  </a:lnTo>
                  <a:lnTo>
                    <a:pt x="197" y="207"/>
                  </a:lnTo>
                  <a:lnTo>
                    <a:pt x="191" y="205"/>
                  </a:lnTo>
                  <a:lnTo>
                    <a:pt x="183" y="202"/>
                  </a:lnTo>
                  <a:lnTo>
                    <a:pt x="177" y="200"/>
                  </a:lnTo>
                  <a:lnTo>
                    <a:pt x="170" y="197"/>
                  </a:lnTo>
                  <a:lnTo>
                    <a:pt x="164" y="194"/>
                  </a:lnTo>
                  <a:lnTo>
                    <a:pt x="169" y="242"/>
                  </a:lnTo>
                  <a:lnTo>
                    <a:pt x="177" y="255"/>
                  </a:lnTo>
                  <a:lnTo>
                    <a:pt x="183" y="268"/>
                  </a:lnTo>
                  <a:lnTo>
                    <a:pt x="193" y="281"/>
                  </a:lnTo>
                  <a:lnTo>
                    <a:pt x="201" y="297"/>
                  </a:lnTo>
                  <a:lnTo>
                    <a:pt x="208" y="310"/>
                  </a:lnTo>
                  <a:lnTo>
                    <a:pt x="216" y="321"/>
                  </a:lnTo>
                  <a:lnTo>
                    <a:pt x="224" y="336"/>
                  </a:lnTo>
                  <a:lnTo>
                    <a:pt x="234" y="350"/>
                  </a:lnTo>
                  <a:lnTo>
                    <a:pt x="242" y="363"/>
                  </a:lnTo>
                  <a:lnTo>
                    <a:pt x="250" y="376"/>
                  </a:lnTo>
                  <a:lnTo>
                    <a:pt x="258" y="389"/>
                  </a:lnTo>
                  <a:lnTo>
                    <a:pt x="266" y="405"/>
                  </a:lnTo>
                  <a:lnTo>
                    <a:pt x="274" y="418"/>
                  </a:lnTo>
                  <a:lnTo>
                    <a:pt x="282" y="434"/>
                  </a:lnTo>
                  <a:lnTo>
                    <a:pt x="288" y="450"/>
                  </a:lnTo>
                  <a:lnTo>
                    <a:pt x="296" y="465"/>
                  </a:lnTo>
                  <a:lnTo>
                    <a:pt x="291" y="476"/>
                  </a:lnTo>
                  <a:lnTo>
                    <a:pt x="304" y="489"/>
                  </a:lnTo>
                  <a:lnTo>
                    <a:pt x="295" y="508"/>
                  </a:lnTo>
                  <a:lnTo>
                    <a:pt x="274" y="481"/>
                  </a:lnTo>
                  <a:lnTo>
                    <a:pt x="255" y="452"/>
                  </a:lnTo>
                  <a:lnTo>
                    <a:pt x="236" y="423"/>
                  </a:lnTo>
                  <a:lnTo>
                    <a:pt x="216" y="394"/>
                  </a:lnTo>
                  <a:lnTo>
                    <a:pt x="199" y="360"/>
                  </a:lnTo>
                  <a:lnTo>
                    <a:pt x="180" y="331"/>
                  </a:lnTo>
                  <a:lnTo>
                    <a:pt x="162" y="297"/>
                  </a:lnTo>
                  <a:lnTo>
                    <a:pt x="146" y="268"/>
                  </a:lnTo>
                  <a:lnTo>
                    <a:pt x="127" y="234"/>
                  </a:lnTo>
                  <a:lnTo>
                    <a:pt x="110" y="202"/>
                  </a:lnTo>
                  <a:lnTo>
                    <a:pt x="92" y="171"/>
                  </a:lnTo>
                  <a:lnTo>
                    <a:pt x="75" y="139"/>
                  </a:lnTo>
                  <a:lnTo>
                    <a:pt x="57" y="107"/>
                  </a:lnTo>
                  <a:lnTo>
                    <a:pt x="38" y="79"/>
                  </a:lnTo>
                  <a:lnTo>
                    <a:pt x="19" y="47"/>
                  </a:lnTo>
                  <a:lnTo>
                    <a:pt x="0" y="21"/>
                  </a:lnTo>
                  <a:lnTo>
                    <a:pt x="12" y="0"/>
                  </a:lnTo>
                  <a:lnTo>
                    <a:pt x="32" y="23"/>
                  </a:lnTo>
                  <a:lnTo>
                    <a:pt x="52" y="47"/>
                  </a:lnTo>
                  <a:lnTo>
                    <a:pt x="73" y="68"/>
                  </a:lnTo>
                  <a:lnTo>
                    <a:pt x="95" y="86"/>
                  </a:lnTo>
                  <a:lnTo>
                    <a:pt x="119" y="105"/>
                  </a:lnTo>
                  <a:lnTo>
                    <a:pt x="143" y="123"/>
                  </a:lnTo>
                  <a:lnTo>
                    <a:pt x="167" y="139"/>
                  </a:lnTo>
                  <a:lnTo>
                    <a:pt x="193" y="157"/>
                  </a:lnTo>
                  <a:lnTo>
                    <a:pt x="216" y="173"/>
                  </a:lnTo>
                  <a:lnTo>
                    <a:pt x="242" y="189"/>
                  </a:lnTo>
                  <a:lnTo>
                    <a:pt x="267" y="207"/>
                  </a:lnTo>
                  <a:lnTo>
                    <a:pt x="293" y="226"/>
                  </a:lnTo>
                  <a:lnTo>
                    <a:pt x="317" y="244"/>
                  </a:lnTo>
                  <a:lnTo>
                    <a:pt x="341" y="265"/>
                  </a:lnTo>
                  <a:lnTo>
                    <a:pt x="365" y="286"/>
                  </a:lnTo>
                  <a:lnTo>
                    <a:pt x="390" y="313"/>
                  </a:lnTo>
                  <a:lnTo>
                    <a:pt x="382" y="334"/>
                  </a:lnTo>
                  <a:lnTo>
                    <a:pt x="363" y="308"/>
                  </a:lnTo>
                  <a:lnTo>
                    <a:pt x="350" y="326"/>
                  </a:lnTo>
                  <a:lnTo>
                    <a:pt x="350" y="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rot="2831400">
              <a:off x="1613160" y="3843000"/>
              <a:ext cx="232560" cy="439560"/>
            </a:xfrm>
            <a:custGeom>
              <a:avLst/>
              <a:gdLst/>
              <a:ahLst/>
              <a:rect l="l" t="t" r="r" b="b"/>
              <a:pathLst>
                <a:path w="80" h="182">
                  <a:moveTo>
                    <a:pt x="80" y="21"/>
                  </a:moveTo>
                  <a:lnTo>
                    <a:pt x="66" y="74"/>
                  </a:lnTo>
                  <a:lnTo>
                    <a:pt x="77" y="92"/>
                  </a:lnTo>
                  <a:lnTo>
                    <a:pt x="74" y="114"/>
                  </a:lnTo>
                  <a:lnTo>
                    <a:pt x="69" y="108"/>
                  </a:lnTo>
                  <a:lnTo>
                    <a:pt x="66" y="103"/>
                  </a:lnTo>
                  <a:lnTo>
                    <a:pt x="61" y="95"/>
                  </a:lnTo>
                  <a:lnTo>
                    <a:pt x="58" y="90"/>
                  </a:lnTo>
                  <a:lnTo>
                    <a:pt x="55" y="82"/>
                  </a:lnTo>
                  <a:lnTo>
                    <a:pt x="53" y="74"/>
                  </a:lnTo>
                  <a:lnTo>
                    <a:pt x="51" y="66"/>
                  </a:lnTo>
                  <a:lnTo>
                    <a:pt x="51" y="61"/>
                  </a:lnTo>
                  <a:lnTo>
                    <a:pt x="48" y="56"/>
                  </a:lnTo>
                  <a:lnTo>
                    <a:pt x="45" y="53"/>
                  </a:lnTo>
                  <a:lnTo>
                    <a:pt x="42" y="53"/>
                  </a:lnTo>
                  <a:lnTo>
                    <a:pt x="42" y="56"/>
                  </a:lnTo>
                  <a:lnTo>
                    <a:pt x="40" y="58"/>
                  </a:lnTo>
                  <a:lnTo>
                    <a:pt x="42" y="64"/>
                  </a:lnTo>
                  <a:lnTo>
                    <a:pt x="44" y="71"/>
                  </a:lnTo>
                  <a:lnTo>
                    <a:pt x="45" y="77"/>
                  </a:lnTo>
                  <a:lnTo>
                    <a:pt x="47" y="85"/>
                  </a:lnTo>
                  <a:lnTo>
                    <a:pt x="50" y="92"/>
                  </a:lnTo>
                  <a:lnTo>
                    <a:pt x="51" y="98"/>
                  </a:lnTo>
                  <a:lnTo>
                    <a:pt x="55" y="106"/>
                  </a:lnTo>
                  <a:lnTo>
                    <a:pt x="58" y="114"/>
                  </a:lnTo>
                  <a:lnTo>
                    <a:pt x="59" y="119"/>
                  </a:lnTo>
                  <a:lnTo>
                    <a:pt x="63" y="121"/>
                  </a:lnTo>
                  <a:lnTo>
                    <a:pt x="64" y="127"/>
                  </a:lnTo>
                  <a:lnTo>
                    <a:pt x="51" y="137"/>
                  </a:lnTo>
                  <a:lnTo>
                    <a:pt x="37" y="119"/>
                  </a:lnTo>
                  <a:lnTo>
                    <a:pt x="18" y="182"/>
                  </a:lnTo>
                  <a:lnTo>
                    <a:pt x="0" y="137"/>
                  </a:lnTo>
                  <a:lnTo>
                    <a:pt x="15" y="90"/>
                  </a:lnTo>
                  <a:lnTo>
                    <a:pt x="10" y="79"/>
                  </a:lnTo>
                  <a:lnTo>
                    <a:pt x="7" y="71"/>
                  </a:lnTo>
                  <a:lnTo>
                    <a:pt x="5" y="64"/>
                  </a:lnTo>
                  <a:lnTo>
                    <a:pt x="5" y="56"/>
                  </a:lnTo>
                  <a:lnTo>
                    <a:pt x="7" y="50"/>
                  </a:lnTo>
                  <a:lnTo>
                    <a:pt x="8" y="4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18" y="32"/>
                  </a:lnTo>
                  <a:lnTo>
                    <a:pt x="21" y="29"/>
                  </a:lnTo>
                  <a:lnTo>
                    <a:pt x="26" y="27"/>
                  </a:lnTo>
                  <a:lnTo>
                    <a:pt x="31" y="24"/>
                  </a:lnTo>
                  <a:lnTo>
                    <a:pt x="36" y="24"/>
                  </a:lnTo>
                  <a:lnTo>
                    <a:pt x="40" y="21"/>
                  </a:lnTo>
                  <a:lnTo>
                    <a:pt x="45" y="21"/>
                  </a:lnTo>
                  <a:lnTo>
                    <a:pt x="50" y="21"/>
                  </a:lnTo>
                  <a:lnTo>
                    <a:pt x="53" y="0"/>
                  </a:lnTo>
                  <a:lnTo>
                    <a:pt x="80" y="21"/>
                  </a:lnTo>
                  <a:lnTo>
                    <a:pt x="8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2831400">
              <a:off x="1399320" y="3074760"/>
              <a:ext cx="1192320" cy="763920"/>
            </a:xfrm>
            <a:custGeom>
              <a:avLst/>
              <a:gdLst/>
              <a:ahLst/>
              <a:rect l="l" t="t" r="r" b="b"/>
              <a:pathLst>
                <a:path w="410" h="316">
                  <a:moveTo>
                    <a:pt x="360" y="316"/>
                  </a:moveTo>
                  <a:lnTo>
                    <a:pt x="355" y="310"/>
                  </a:lnTo>
                  <a:lnTo>
                    <a:pt x="351" y="305"/>
                  </a:lnTo>
                  <a:lnTo>
                    <a:pt x="347" y="297"/>
                  </a:lnTo>
                  <a:lnTo>
                    <a:pt x="344" y="289"/>
                  </a:lnTo>
                  <a:lnTo>
                    <a:pt x="344" y="287"/>
                  </a:lnTo>
                  <a:lnTo>
                    <a:pt x="343" y="282"/>
                  </a:lnTo>
                  <a:lnTo>
                    <a:pt x="341" y="276"/>
                  </a:lnTo>
                  <a:lnTo>
                    <a:pt x="341" y="274"/>
                  </a:lnTo>
                  <a:lnTo>
                    <a:pt x="339" y="266"/>
                  </a:lnTo>
                  <a:lnTo>
                    <a:pt x="338" y="258"/>
                  </a:lnTo>
                  <a:lnTo>
                    <a:pt x="317" y="237"/>
                  </a:lnTo>
                  <a:lnTo>
                    <a:pt x="298" y="216"/>
                  </a:lnTo>
                  <a:lnTo>
                    <a:pt x="277" y="197"/>
                  </a:lnTo>
                  <a:lnTo>
                    <a:pt x="256" y="179"/>
                  </a:lnTo>
                  <a:lnTo>
                    <a:pt x="236" y="163"/>
                  </a:lnTo>
                  <a:lnTo>
                    <a:pt x="215" y="145"/>
                  </a:lnTo>
                  <a:lnTo>
                    <a:pt x="194" y="129"/>
                  </a:lnTo>
                  <a:lnTo>
                    <a:pt x="174" y="116"/>
                  </a:lnTo>
                  <a:lnTo>
                    <a:pt x="153" y="100"/>
                  </a:lnTo>
                  <a:lnTo>
                    <a:pt x="130" y="87"/>
                  </a:lnTo>
                  <a:lnTo>
                    <a:pt x="110" y="74"/>
                  </a:lnTo>
                  <a:lnTo>
                    <a:pt x="87" y="60"/>
                  </a:lnTo>
                  <a:lnTo>
                    <a:pt x="65" y="47"/>
                  </a:lnTo>
                  <a:lnTo>
                    <a:pt x="44" y="37"/>
                  </a:lnTo>
                  <a:lnTo>
                    <a:pt x="22" y="26"/>
                  </a:lnTo>
                  <a:lnTo>
                    <a:pt x="0" y="13"/>
                  </a:lnTo>
                  <a:lnTo>
                    <a:pt x="6" y="0"/>
                  </a:lnTo>
                  <a:lnTo>
                    <a:pt x="28" y="10"/>
                  </a:lnTo>
                  <a:lnTo>
                    <a:pt x="51" y="21"/>
                  </a:lnTo>
                  <a:lnTo>
                    <a:pt x="71" y="31"/>
                  </a:lnTo>
                  <a:lnTo>
                    <a:pt x="94" y="45"/>
                  </a:lnTo>
                  <a:lnTo>
                    <a:pt x="115" y="55"/>
                  </a:lnTo>
                  <a:lnTo>
                    <a:pt x="137" y="68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01" y="108"/>
                  </a:lnTo>
                  <a:lnTo>
                    <a:pt x="221" y="121"/>
                  </a:lnTo>
                  <a:lnTo>
                    <a:pt x="242" y="137"/>
                  </a:lnTo>
                  <a:lnTo>
                    <a:pt x="263" y="153"/>
                  </a:lnTo>
                  <a:lnTo>
                    <a:pt x="284" y="168"/>
                  </a:lnTo>
                  <a:lnTo>
                    <a:pt x="304" y="187"/>
                  </a:lnTo>
                  <a:lnTo>
                    <a:pt x="325" y="203"/>
                  </a:lnTo>
                  <a:lnTo>
                    <a:pt x="346" y="221"/>
                  </a:lnTo>
                  <a:lnTo>
                    <a:pt x="349" y="213"/>
                  </a:lnTo>
                  <a:lnTo>
                    <a:pt x="352" y="205"/>
                  </a:lnTo>
                  <a:lnTo>
                    <a:pt x="355" y="200"/>
                  </a:lnTo>
                  <a:lnTo>
                    <a:pt x="359" y="195"/>
                  </a:lnTo>
                  <a:lnTo>
                    <a:pt x="362" y="189"/>
                  </a:lnTo>
                  <a:lnTo>
                    <a:pt x="366" y="187"/>
                  </a:lnTo>
                  <a:lnTo>
                    <a:pt x="370" y="184"/>
                  </a:lnTo>
                  <a:lnTo>
                    <a:pt x="374" y="184"/>
                  </a:lnTo>
                  <a:lnTo>
                    <a:pt x="378" y="184"/>
                  </a:lnTo>
                  <a:lnTo>
                    <a:pt x="382" y="184"/>
                  </a:lnTo>
                  <a:lnTo>
                    <a:pt x="386" y="184"/>
                  </a:lnTo>
                  <a:lnTo>
                    <a:pt x="390" y="187"/>
                  </a:lnTo>
                  <a:lnTo>
                    <a:pt x="395" y="189"/>
                  </a:lnTo>
                  <a:lnTo>
                    <a:pt x="400" y="192"/>
                  </a:lnTo>
                  <a:lnTo>
                    <a:pt x="405" y="197"/>
                  </a:lnTo>
                  <a:lnTo>
                    <a:pt x="410" y="205"/>
                  </a:lnTo>
                  <a:lnTo>
                    <a:pt x="398" y="218"/>
                  </a:lnTo>
                  <a:lnTo>
                    <a:pt x="387" y="205"/>
                  </a:lnTo>
                  <a:lnTo>
                    <a:pt x="386" y="208"/>
                  </a:lnTo>
                  <a:lnTo>
                    <a:pt x="382" y="213"/>
                  </a:lnTo>
                  <a:lnTo>
                    <a:pt x="381" y="218"/>
                  </a:lnTo>
                  <a:lnTo>
                    <a:pt x="379" y="224"/>
                  </a:lnTo>
                  <a:lnTo>
                    <a:pt x="376" y="229"/>
                  </a:lnTo>
                  <a:lnTo>
                    <a:pt x="374" y="237"/>
                  </a:lnTo>
                  <a:lnTo>
                    <a:pt x="373" y="242"/>
                  </a:lnTo>
                  <a:lnTo>
                    <a:pt x="371" y="247"/>
                  </a:lnTo>
                  <a:lnTo>
                    <a:pt x="370" y="253"/>
                  </a:lnTo>
                  <a:lnTo>
                    <a:pt x="368" y="260"/>
                  </a:lnTo>
                  <a:lnTo>
                    <a:pt x="366" y="266"/>
                  </a:lnTo>
                  <a:lnTo>
                    <a:pt x="366" y="271"/>
                  </a:lnTo>
                  <a:lnTo>
                    <a:pt x="365" y="279"/>
                  </a:lnTo>
                  <a:lnTo>
                    <a:pt x="365" y="284"/>
                  </a:lnTo>
                  <a:lnTo>
                    <a:pt x="365" y="292"/>
                  </a:lnTo>
                  <a:lnTo>
                    <a:pt x="366" y="297"/>
                  </a:lnTo>
                  <a:lnTo>
                    <a:pt x="360" y="316"/>
                  </a:lnTo>
                  <a:lnTo>
                    <a:pt x="360" y="3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rot="2831400">
              <a:off x="1624320" y="2491920"/>
              <a:ext cx="296640" cy="381960"/>
            </a:xfrm>
            <a:custGeom>
              <a:avLst/>
              <a:gdLst/>
              <a:ahLst/>
              <a:rect l="l" t="t" r="r" b="b"/>
              <a:pathLst>
                <a:path w="102" h="158">
                  <a:moveTo>
                    <a:pt x="40" y="158"/>
                  </a:moveTo>
                  <a:lnTo>
                    <a:pt x="39" y="152"/>
                  </a:lnTo>
                  <a:lnTo>
                    <a:pt x="35" y="150"/>
                  </a:lnTo>
                  <a:lnTo>
                    <a:pt x="34" y="145"/>
                  </a:lnTo>
                  <a:lnTo>
                    <a:pt x="31" y="142"/>
                  </a:lnTo>
                  <a:lnTo>
                    <a:pt x="29" y="137"/>
                  </a:lnTo>
                  <a:lnTo>
                    <a:pt x="26" y="131"/>
                  </a:lnTo>
                  <a:lnTo>
                    <a:pt x="24" y="129"/>
                  </a:lnTo>
                  <a:lnTo>
                    <a:pt x="21" y="123"/>
                  </a:lnTo>
                  <a:lnTo>
                    <a:pt x="18" y="118"/>
                  </a:lnTo>
                  <a:lnTo>
                    <a:pt x="16" y="116"/>
                  </a:lnTo>
                  <a:lnTo>
                    <a:pt x="13" y="110"/>
                  </a:lnTo>
                  <a:lnTo>
                    <a:pt x="11" y="108"/>
                  </a:lnTo>
                  <a:lnTo>
                    <a:pt x="8" y="102"/>
                  </a:lnTo>
                  <a:lnTo>
                    <a:pt x="5" y="100"/>
                  </a:lnTo>
                  <a:lnTo>
                    <a:pt x="3" y="97"/>
                  </a:lnTo>
                  <a:lnTo>
                    <a:pt x="0" y="95"/>
                  </a:lnTo>
                  <a:lnTo>
                    <a:pt x="11" y="79"/>
                  </a:lnTo>
                  <a:lnTo>
                    <a:pt x="19" y="89"/>
                  </a:lnTo>
                  <a:lnTo>
                    <a:pt x="27" y="95"/>
                  </a:lnTo>
                  <a:lnTo>
                    <a:pt x="35" y="100"/>
                  </a:lnTo>
                  <a:lnTo>
                    <a:pt x="43" y="105"/>
                  </a:lnTo>
                  <a:lnTo>
                    <a:pt x="50" y="105"/>
                  </a:lnTo>
                  <a:lnTo>
                    <a:pt x="54" y="105"/>
                  </a:lnTo>
                  <a:lnTo>
                    <a:pt x="61" y="100"/>
                  </a:lnTo>
                  <a:lnTo>
                    <a:pt x="64" y="97"/>
                  </a:lnTo>
                  <a:lnTo>
                    <a:pt x="67" y="89"/>
                  </a:lnTo>
                  <a:lnTo>
                    <a:pt x="69" y="81"/>
                  </a:lnTo>
                  <a:lnTo>
                    <a:pt x="69" y="73"/>
                  </a:lnTo>
                  <a:lnTo>
                    <a:pt x="69" y="63"/>
                  </a:lnTo>
                  <a:lnTo>
                    <a:pt x="67" y="52"/>
                  </a:lnTo>
                  <a:lnTo>
                    <a:pt x="62" y="39"/>
                  </a:lnTo>
                  <a:lnTo>
                    <a:pt x="58" y="26"/>
                  </a:lnTo>
                  <a:lnTo>
                    <a:pt x="51" y="13"/>
                  </a:lnTo>
                  <a:lnTo>
                    <a:pt x="66" y="0"/>
                  </a:lnTo>
                  <a:lnTo>
                    <a:pt x="67" y="2"/>
                  </a:lnTo>
                  <a:lnTo>
                    <a:pt x="70" y="5"/>
                  </a:lnTo>
                  <a:lnTo>
                    <a:pt x="72" y="8"/>
                  </a:lnTo>
                  <a:lnTo>
                    <a:pt x="75" y="13"/>
                  </a:lnTo>
                  <a:lnTo>
                    <a:pt x="78" y="18"/>
                  </a:lnTo>
                  <a:lnTo>
                    <a:pt x="80" y="21"/>
                  </a:lnTo>
                  <a:lnTo>
                    <a:pt x="83" y="26"/>
                  </a:lnTo>
                  <a:lnTo>
                    <a:pt x="85" y="31"/>
                  </a:lnTo>
                  <a:lnTo>
                    <a:pt x="86" y="37"/>
                  </a:lnTo>
                  <a:lnTo>
                    <a:pt x="90" y="42"/>
                  </a:lnTo>
                  <a:lnTo>
                    <a:pt x="91" y="47"/>
                  </a:lnTo>
                  <a:lnTo>
                    <a:pt x="94" y="52"/>
                  </a:lnTo>
                  <a:lnTo>
                    <a:pt x="96" y="58"/>
                  </a:lnTo>
                  <a:lnTo>
                    <a:pt x="99" y="63"/>
                  </a:lnTo>
                  <a:lnTo>
                    <a:pt x="101" y="66"/>
                  </a:lnTo>
                  <a:lnTo>
                    <a:pt x="102" y="71"/>
                  </a:lnTo>
                  <a:lnTo>
                    <a:pt x="101" y="79"/>
                  </a:lnTo>
                  <a:lnTo>
                    <a:pt x="98" y="87"/>
                  </a:lnTo>
                  <a:lnTo>
                    <a:pt x="96" y="95"/>
                  </a:lnTo>
                  <a:lnTo>
                    <a:pt x="93" y="102"/>
                  </a:lnTo>
                  <a:lnTo>
                    <a:pt x="90" y="108"/>
                  </a:lnTo>
                  <a:lnTo>
                    <a:pt x="86" y="116"/>
                  </a:lnTo>
                  <a:lnTo>
                    <a:pt x="83" y="121"/>
                  </a:lnTo>
                  <a:lnTo>
                    <a:pt x="78" y="126"/>
                  </a:lnTo>
                  <a:lnTo>
                    <a:pt x="74" y="131"/>
                  </a:lnTo>
                  <a:lnTo>
                    <a:pt x="70" y="137"/>
                  </a:lnTo>
                  <a:lnTo>
                    <a:pt x="66" y="142"/>
                  </a:lnTo>
                  <a:lnTo>
                    <a:pt x="61" y="145"/>
                  </a:lnTo>
                  <a:lnTo>
                    <a:pt x="56" y="147"/>
                  </a:lnTo>
                  <a:lnTo>
                    <a:pt x="50" y="152"/>
                  </a:lnTo>
                  <a:lnTo>
                    <a:pt x="45" y="155"/>
                  </a:lnTo>
                  <a:lnTo>
                    <a:pt x="40" y="158"/>
                  </a:lnTo>
                  <a:lnTo>
                    <a:pt x="40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rot="2831400">
              <a:off x="1652760" y="2361240"/>
              <a:ext cx="296640" cy="330840"/>
            </a:xfrm>
            <a:custGeom>
              <a:avLst/>
              <a:gdLst/>
              <a:ahLst/>
              <a:rect l="l" t="t" r="r" b="b"/>
              <a:pathLst>
                <a:path w="102" h="137">
                  <a:moveTo>
                    <a:pt x="38" y="137"/>
                  </a:moveTo>
                  <a:lnTo>
                    <a:pt x="24" y="115"/>
                  </a:lnTo>
                  <a:lnTo>
                    <a:pt x="13" y="94"/>
                  </a:lnTo>
                  <a:lnTo>
                    <a:pt x="5" y="76"/>
                  </a:lnTo>
                  <a:lnTo>
                    <a:pt x="1" y="60"/>
                  </a:lnTo>
                  <a:lnTo>
                    <a:pt x="0" y="44"/>
                  </a:lnTo>
                  <a:lnTo>
                    <a:pt x="1" y="31"/>
                  </a:lnTo>
                  <a:lnTo>
                    <a:pt x="5" y="21"/>
                  </a:lnTo>
                  <a:lnTo>
                    <a:pt x="11" y="13"/>
                  </a:lnTo>
                  <a:lnTo>
                    <a:pt x="19" y="5"/>
                  </a:lnTo>
                  <a:lnTo>
                    <a:pt x="28" y="2"/>
                  </a:lnTo>
                  <a:lnTo>
                    <a:pt x="40" y="0"/>
                  </a:lnTo>
                  <a:lnTo>
                    <a:pt x="51" y="2"/>
                  </a:lnTo>
                  <a:lnTo>
                    <a:pt x="64" y="8"/>
                  </a:lnTo>
                  <a:lnTo>
                    <a:pt x="76" y="15"/>
                  </a:lnTo>
                  <a:lnTo>
                    <a:pt x="89" y="29"/>
                  </a:lnTo>
                  <a:lnTo>
                    <a:pt x="102" y="44"/>
                  </a:lnTo>
                  <a:lnTo>
                    <a:pt x="87" y="63"/>
                  </a:lnTo>
                  <a:lnTo>
                    <a:pt x="76" y="50"/>
                  </a:lnTo>
                  <a:lnTo>
                    <a:pt x="67" y="39"/>
                  </a:lnTo>
                  <a:lnTo>
                    <a:pt x="57" y="31"/>
                  </a:lnTo>
                  <a:lnTo>
                    <a:pt x="49" y="29"/>
                  </a:lnTo>
                  <a:lnTo>
                    <a:pt x="41" y="26"/>
                  </a:lnTo>
                  <a:lnTo>
                    <a:pt x="35" y="29"/>
                  </a:lnTo>
                  <a:lnTo>
                    <a:pt x="30" y="34"/>
                  </a:lnTo>
                  <a:lnTo>
                    <a:pt x="27" y="39"/>
                  </a:lnTo>
                  <a:lnTo>
                    <a:pt x="24" y="47"/>
                  </a:lnTo>
                  <a:lnTo>
                    <a:pt x="22" y="55"/>
                  </a:lnTo>
                  <a:lnTo>
                    <a:pt x="22" y="65"/>
                  </a:lnTo>
                  <a:lnTo>
                    <a:pt x="24" y="76"/>
                  </a:lnTo>
                  <a:lnTo>
                    <a:pt x="27" y="89"/>
                  </a:lnTo>
                  <a:lnTo>
                    <a:pt x="33" y="100"/>
                  </a:lnTo>
                  <a:lnTo>
                    <a:pt x="41" y="113"/>
                  </a:lnTo>
                  <a:lnTo>
                    <a:pt x="51" y="126"/>
                  </a:lnTo>
                  <a:lnTo>
                    <a:pt x="38" y="137"/>
                  </a:lnTo>
                  <a:lnTo>
                    <a:pt x="38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rot="2831400">
              <a:off x="1698120" y="2222280"/>
              <a:ext cx="203040" cy="229320"/>
            </a:xfrm>
            <a:custGeom>
              <a:avLst/>
              <a:gdLst/>
              <a:ahLst/>
              <a:rect l="l" t="t" r="r" b="b"/>
              <a:pathLst>
                <a:path w="70" h="95">
                  <a:moveTo>
                    <a:pt x="37" y="95"/>
                  </a:moveTo>
                  <a:lnTo>
                    <a:pt x="22" y="76"/>
                  </a:lnTo>
                  <a:lnTo>
                    <a:pt x="13" y="63"/>
                  </a:lnTo>
                  <a:lnTo>
                    <a:pt x="6" y="47"/>
                  </a:lnTo>
                  <a:lnTo>
                    <a:pt x="1" y="37"/>
                  </a:lnTo>
                  <a:lnTo>
                    <a:pt x="0" y="26"/>
                  </a:lnTo>
                  <a:lnTo>
                    <a:pt x="1" y="16"/>
                  </a:lnTo>
                  <a:lnTo>
                    <a:pt x="5" y="11"/>
                  </a:lnTo>
                  <a:lnTo>
                    <a:pt x="9" y="5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8" y="3"/>
                  </a:lnTo>
                  <a:lnTo>
                    <a:pt x="46" y="5"/>
                  </a:lnTo>
                  <a:lnTo>
                    <a:pt x="54" y="13"/>
                  </a:lnTo>
                  <a:lnTo>
                    <a:pt x="62" y="21"/>
                  </a:lnTo>
                  <a:lnTo>
                    <a:pt x="70" y="32"/>
                  </a:lnTo>
                  <a:lnTo>
                    <a:pt x="57" y="50"/>
                  </a:lnTo>
                  <a:lnTo>
                    <a:pt x="53" y="40"/>
                  </a:lnTo>
                  <a:lnTo>
                    <a:pt x="48" y="34"/>
                  </a:lnTo>
                  <a:lnTo>
                    <a:pt x="43" y="29"/>
                  </a:lnTo>
                  <a:lnTo>
                    <a:pt x="38" y="26"/>
                  </a:lnTo>
                  <a:lnTo>
                    <a:pt x="35" y="26"/>
                  </a:lnTo>
                  <a:lnTo>
                    <a:pt x="30" y="26"/>
                  </a:lnTo>
                  <a:lnTo>
                    <a:pt x="27" y="26"/>
                  </a:lnTo>
                  <a:lnTo>
                    <a:pt x="25" y="32"/>
                  </a:lnTo>
                  <a:lnTo>
                    <a:pt x="22" y="34"/>
                  </a:lnTo>
                  <a:lnTo>
                    <a:pt x="22" y="40"/>
                  </a:lnTo>
                  <a:lnTo>
                    <a:pt x="22" y="45"/>
                  </a:lnTo>
                  <a:lnTo>
                    <a:pt x="24" y="50"/>
                  </a:lnTo>
                  <a:lnTo>
                    <a:pt x="27" y="55"/>
                  </a:lnTo>
                  <a:lnTo>
                    <a:pt x="32" y="63"/>
                  </a:lnTo>
                  <a:lnTo>
                    <a:pt x="38" y="69"/>
                  </a:lnTo>
                  <a:lnTo>
                    <a:pt x="48" y="76"/>
                  </a:lnTo>
                  <a:lnTo>
                    <a:pt x="37" y="95"/>
                  </a:lnTo>
                  <a:lnTo>
                    <a:pt x="37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2831400">
              <a:off x="1360440" y="4938840"/>
              <a:ext cx="657360" cy="464040"/>
            </a:xfrm>
            <a:custGeom>
              <a:avLst/>
              <a:gdLst/>
              <a:ahLst/>
              <a:rect l="l" t="t" r="r" b="b"/>
              <a:pathLst>
                <a:path w="226" h="192">
                  <a:moveTo>
                    <a:pt x="25" y="2"/>
                  </a:moveTo>
                  <a:lnTo>
                    <a:pt x="35" y="8"/>
                  </a:lnTo>
                  <a:lnTo>
                    <a:pt x="46" y="16"/>
                  </a:lnTo>
                  <a:lnTo>
                    <a:pt x="57" y="24"/>
                  </a:lnTo>
                  <a:lnTo>
                    <a:pt x="70" y="31"/>
                  </a:lnTo>
                  <a:lnTo>
                    <a:pt x="82" y="39"/>
                  </a:lnTo>
                  <a:lnTo>
                    <a:pt x="94" y="50"/>
                  </a:lnTo>
                  <a:lnTo>
                    <a:pt x="106" y="60"/>
                  </a:lnTo>
                  <a:lnTo>
                    <a:pt x="121" y="71"/>
                  </a:lnTo>
                  <a:lnTo>
                    <a:pt x="132" y="79"/>
                  </a:lnTo>
                  <a:lnTo>
                    <a:pt x="145" y="87"/>
                  </a:lnTo>
                  <a:lnTo>
                    <a:pt x="157" y="97"/>
                  </a:lnTo>
                  <a:lnTo>
                    <a:pt x="169" y="105"/>
                  </a:lnTo>
                  <a:lnTo>
                    <a:pt x="180" y="110"/>
                  </a:lnTo>
                  <a:lnTo>
                    <a:pt x="191" y="118"/>
                  </a:lnTo>
                  <a:lnTo>
                    <a:pt x="202" y="124"/>
                  </a:lnTo>
                  <a:lnTo>
                    <a:pt x="212" y="126"/>
                  </a:lnTo>
                  <a:lnTo>
                    <a:pt x="216" y="129"/>
                  </a:lnTo>
                  <a:lnTo>
                    <a:pt x="220" y="131"/>
                  </a:lnTo>
                  <a:lnTo>
                    <a:pt x="221" y="137"/>
                  </a:lnTo>
                  <a:lnTo>
                    <a:pt x="224" y="142"/>
                  </a:lnTo>
                  <a:lnTo>
                    <a:pt x="224" y="147"/>
                  </a:lnTo>
                  <a:lnTo>
                    <a:pt x="226" y="153"/>
                  </a:lnTo>
                  <a:lnTo>
                    <a:pt x="226" y="158"/>
                  </a:lnTo>
                  <a:lnTo>
                    <a:pt x="226" y="166"/>
                  </a:lnTo>
                  <a:lnTo>
                    <a:pt x="224" y="171"/>
                  </a:lnTo>
                  <a:lnTo>
                    <a:pt x="223" y="176"/>
                  </a:lnTo>
                  <a:lnTo>
                    <a:pt x="220" y="181"/>
                  </a:lnTo>
                  <a:lnTo>
                    <a:pt x="218" y="187"/>
                  </a:lnTo>
                  <a:lnTo>
                    <a:pt x="215" y="189"/>
                  </a:lnTo>
                  <a:lnTo>
                    <a:pt x="212" y="192"/>
                  </a:lnTo>
                  <a:lnTo>
                    <a:pt x="207" y="192"/>
                  </a:lnTo>
                  <a:lnTo>
                    <a:pt x="202" y="192"/>
                  </a:lnTo>
                  <a:lnTo>
                    <a:pt x="191" y="184"/>
                  </a:lnTo>
                  <a:lnTo>
                    <a:pt x="178" y="179"/>
                  </a:lnTo>
                  <a:lnTo>
                    <a:pt x="167" y="171"/>
                  </a:lnTo>
                  <a:lnTo>
                    <a:pt x="154" y="163"/>
                  </a:lnTo>
                  <a:lnTo>
                    <a:pt x="141" y="155"/>
                  </a:lnTo>
                  <a:lnTo>
                    <a:pt x="130" y="147"/>
                  </a:lnTo>
                  <a:lnTo>
                    <a:pt x="118" y="137"/>
                  </a:lnTo>
                  <a:lnTo>
                    <a:pt x="106" y="129"/>
                  </a:lnTo>
                  <a:lnTo>
                    <a:pt x="94" y="118"/>
                  </a:lnTo>
                  <a:lnTo>
                    <a:pt x="82" y="110"/>
                  </a:lnTo>
                  <a:lnTo>
                    <a:pt x="70" y="100"/>
                  </a:lnTo>
                  <a:lnTo>
                    <a:pt x="59" y="92"/>
                  </a:lnTo>
                  <a:lnTo>
                    <a:pt x="47" y="84"/>
                  </a:lnTo>
                  <a:lnTo>
                    <a:pt x="35" y="74"/>
                  </a:lnTo>
                  <a:lnTo>
                    <a:pt x="24" y="66"/>
                  </a:lnTo>
                  <a:lnTo>
                    <a:pt x="12" y="58"/>
                  </a:lnTo>
                  <a:lnTo>
                    <a:pt x="8" y="53"/>
                  </a:lnTo>
                  <a:lnTo>
                    <a:pt x="4" y="50"/>
                  </a:lnTo>
                  <a:lnTo>
                    <a:pt x="3" y="45"/>
                  </a:lnTo>
                  <a:lnTo>
                    <a:pt x="1" y="39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1" y="18"/>
                  </a:lnTo>
                  <a:lnTo>
                    <a:pt x="3" y="13"/>
                  </a:lnTo>
                  <a:lnTo>
                    <a:pt x="4" y="10"/>
                  </a:lnTo>
                  <a:lnTo>
                    <a:pt x="8" y="5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b8f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2831400">
              <a:off x="1739160" y="5443200"/>
              <a:ext cx="115920" cy="159480"/>
            </a:xfrm>
            <a:custGeom>
              <a:avLst/>
              <a:gdLst/>
              <a:ahLst/>
              <a:rect l="l" t="t" r="r" b="b"/>
              <a:pathLst>
                <a:path w="40" h="66">
                  <a:moveTo>
                    <a:pt x="27" y="5"/>
                  </a:moveTo>
                  <a:lnTo>
                    <a:pt x="32" y="10"/>
                  </a:lnTo>
                  <a:lnTo>
                    <a:pt x="35" y="16"/>
                  </a:lnTo>
                  <a:lnTo>
                    <a:pt x="38" y="24"/>
                  </a:lnTo>
                  <a:lnTo>
                    <a:pt x="40" y="29"/>
                  </a:lnTo>
                  <a:lnTo>
                    <a:pt x="40" y="37"/>
                  </a:lnTo>
                  <a:lnTo>
                    <a:pt x="40" y="42"/>
                  </a:lnTo>
                  <a:lnTo>
                    <a:pt x="38" y="47"/>
                  </a:lnTo>
                  <a:lnTo>
                    <a:pt x="37" y="52"/>
                  </a:lnTo>
                  <a:lnTo>
                    <a:pt x="35" y="58"/>
                  </a:lnTo>
                  <a:lnTo>
                    <a:pt x="32" y="60"/>
                  </a:lnTo>
                  <a:lnTo>
                    <a:pt x="29" y="63"/>
                  </a:lnTo>
                  <a:lnTo>
                    <a:pt x="25" y="66"/>
                  </a:lnTo>
                  <a:lnTo>
                    <a:pt x="22" y="66"/>
                  </a:lnTo>
                  <a:lnTo>
                    <a:pt x="17" y="66"/>
                  </a:lnTo>
                  <a:lnTo>
                    <a:pt x="14" y="63"/>
                  </a:lnTo>
                  <a:lnTo>
                    <a:pt x="11" y="60"/>
                  </a:lnTo>
                  <a:lnTo>
                    <a:pt x="6" y="52"/>
                  </a:lnTo>
                  <a:lnTo>
                    <a:pt x="3" y="45"/>
                  </a:lnTo>
                  <a:lnTo>
                    <a:pt x="1" y="39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" y="10"/>
                  </a:lnTo>
                  <a:lnTo>
                    <a:pt x="3" y="8"/>
                  </a:lnTo>
                  <a:lnTo>
                    <a:pt x="6" y="5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4" y="2"/>
                  </a:lnTo>
                  <a:lnTo>
                    <a:pt x="27" y="5"/>
                  </a:lnTo>
                  <a:lnTo>
                    <a:pt x="27" y="5"/>
                  </a:lnTo>
                  <a:close/>
                </a:path>
              </a:pathLst>
            </a:custGeom>
            <a:solidFill>
              <a:srgbClr val="b8f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2831400">
              <a:off x="1155600" y="4624200"/>
              <a:ext cx="959400" cy="884520"/>
            </a:xfrm>
            <a:custGeom>
              <a:avLst/>
              <a:gdLst/>
              <a:ahLst/>
              <a:rect l="l" t="t" r="r" b="b"/>
              <a:pathLst>
                <a:path w="330" h="366">
                  <a:moveTo>
                    <a:pt x="193" y="184"/>
                  </a:moveTo>
                  <a:lnTo>
                    <a:pt x="197" y="184"/>
                  </a:lnTo>
                  <a:lnTo>
                    <a:pt x="204" y="187"/>
                  </a:lnTo>
                  <a:lnTo>
                    <a:pt x="213" y="189"/>
                  </a:lnTo>
                  <a:lnTo>
                    <a:pt x="226" y="195"/>
                  </a:lnTo>
                  <a:lnTo>
                    <a:pt x="239" y="203"/>
                  </a:lnTo>
                  <a:lnTo>
                    <a:pt x="253" y="210"/>
                  </a:lnTo>
                  <a:lnTo>
                    <a:pt x="268" y="218"/>
                  </a:lnTo>
                  <a:lnTo>
                    <a:pt x="282" y="229"/>
                  </a:lnTo>
                  <a:lnTo>
                    <a:pt x="295" y="239"/>
                  </a:lnTo>
                  <a:lnTo>
                    <a:pt x="307" y="250"/>
                  </a:lnTo>
                  <a:lnTo>
                    <a:pt x="317" y="263"/>
                  </a:lnTo>
                  <a:lnTo>
                    <a:pt x="325" y="276"/>
                  </a:lnTo>
                  <a:lnTo>
                    <a:pt x="328" y="287"/>
                  </a:lnTo>
                  <a:lnTo>
                    <a:pt x="330" y="300"/>
                  </a:lnTo>
                  <a:lnTo>
                    <a:pt x="327" y="313"/>
                  </a:lnTo>
                  <a:lnTo>
                    <a:pt x="319" y="326"/>
                  </a:lnTo>
                  <a:lnTo>
                    <a:pt x="315" y="326"/>
                  </a:lnTo>
                  <a:lnTo>
                    <a:pt x="314" y="331"/>
                  </a:lnTo>
                  <a:lnTo>
                    <a:pt x="311" y="334"/>
                  </a:lnTo>
                  <a:lnTo>
                    <a:pt x="307" y="339"/>
                  </a:lnTo>
                  <a:lnTo>
                    <a:pt x="304" y="342"/>
                  </a:lnTo>
                  <a:lnTo>
                    <a:pt x="303" y="345"/>
                  </a:lnTo>
                  <a:lnTo>
                    <a:pt x="299" y="347"/>
                  </a:lnTo>
                  <a:lnTo>
                    <a:pt x="298" y="350"/>
                  </a:lnTo>
                  <a:lnTo>
                    <a:pt x="295" y="353"/>
                  </a:lnTo>
                  <a:lnTo>
                    <a:pt x="291" y="358"/>
                  </a:lnTo>
                  <a:lnTo>
                    <a:pt x="288" y="358"/>
                  </a:lnTo>
                  <a:lnTo>
                    <a:pt x="287" y="360"/>
                  </a:lnTo>
                  <a:lnTo>
                    <a:pt x="282" y="363"/>
                  </a:lnTo>
                  <a:lnTo>
                    <a:pt x="279" y="363"/>
                  </a:lnTo>
                  <a:lnTo>
                    <a:pt x="276" y="366"/>
                  </a:lnTo>
                  <a:lnTo>
                    <a:pt x="274" y="366"/>
                  </a:lnTo>
                  <a:lnTo>
                    <a:pt x="263" y="363"/>
                  </a:lnTo>
                  <a:lnTo>
                    <a:pt x="252" y="358"/>
                  </a:lnTo>
                  <a:lnTo>
                    <a:pt x="239" y="347"/>
                  </a:lnTo>
                  <a:lnTo>
                    <a:pt x="226" y="337"/>
                  </a:lnTo>
                  <a:lnTo>
                    <a:pt x="212" y="321"/>
                  </a:lnTo>
                  <a:lnTo>
                    <a:pt x="199" y="305"/>
                  </a:lnTo>
                  <a:lnTo>
                    <a:pt x="185" y="287"/>
                  </a:lnTo>
                  <a:lnTo>
                    <a:pt x="170" y="268"/>
                  </a:lnTo>
                  <a:lnTo>
                    <a:pt x="158" y="247"/>
                  </a:lnTo>
                  <a:lnTo>
                    <a:pt x="143" y="229"/>
                  </a:lnTo>
                  <a:lnTo>
                    <a:pt x="130" y="208"/>
                  </a:lnTo>
                  <a:lnTo>
                    <a:pt x="118" y="189"/>
                  </a:lnTo>
                  <a:lnTo>
                    <a:pt x="107" y="171"/>
                  </a:lnTo>
                  <a:lnTo>
                    <a:pt x="97" y="155"/>
                  </a:lnTo>
                  <a:lnTo>
                    <a:pt x="87" y="139"/>
                  </a:lnTo>
                  <a:lnTo>
                    <a:pt x="81" y="129"/>
                  </a:lnTo>
                  <a:lnTo>
                    <a:pt x="78" y="124"/>
                  </a:lnTo>
                  <a:lnTo>
                    <a:pt x="76" y="121"/>
                  </a:lnTo>
                  <a:lnTo>
                    <a:pt x="73" y="116"/>
                  </a:lnTo>
                  <a:lnTo>
                    <a:pt x="70" y="113"/>
                  </a:lnTo>
                  <a:lnTo>
                    <a:pt x="68" y="108"/>
                  </a:lnTo>
                  <a:lnTo>
                    <a:pt x="65" y="105"/>
                  </a:lnTo>
                  <a:lnTo>
                    <a:pt x="62" y="100"/>
                  </a:lnTo>
                  <a:lnTo>
                    <a:pt x="60" y="97"/>
                  </a:lnTo>
                  <a:lnTo>
                    <a:pt x="57" y="92"/>
                  </a:lnTo>
                  <a:lnTo>
                    <a:pt x="54" y="89"/>
                  </a:lnTo>
                  <a:lnTo>
                    <a:pt x="52" y="84"/>
                  </a:lnTo>
                  <a:lnTo>
                    <a:pt x="49" y="81"/>
                  </a:lnTo>
                  <a:lnTo>
                    <a:pt x="46" y="76"/>
                  </a:lnTo>
                  <a:lnTo>
                    <a:pt x="43" y="74"/>
                  </a:lnTo>
                  <a:lnTo>
                    <a:pt x="40" y="71"/>
                  </a:lnTo>
                  <a:lnTo>
                    <a:pt x="36" y="68"/>
                  </a:lnTo>
                  <a:lnTo>
                    <a:pt x="33" y="66"/>
                  </a:lnTo>
                  <a:lnTo>
                    <a:pt x="30" y="60"/>
                  </a:lnTo>
                  <a:lnTo>
                    <a:pt x="27" y="58"/>
                  </a:lnTo>
                  <a:lnTo>
                    <a:pt x="24" y="52"/>
                  </a:lnTo>
                  <a:lnTo>
                    <a:pt x="20" y="47"/>
                  </a:lnTo>
                  <a:lnTo>
                    <a:pt x="16" y="45"/>
                  </a:lnTo>
                  <a:lnTo>
                    <a:pt x="14" y="39"/>
                  </a:lnTo>
                  <a:lnTo>
                    <a:pt x="11" y="34"/>
                  </a:lnTo>
                  <a:lnTo>
                    <a:pt x="9" y="29"/>
                  </a:lnTo>
                  <a:lnTo>
                    <a:pt x="6" y="24"/>
                  </a:lnTo>
                  <a:lnTo>
                    <a:pt x="3" y="16"/>
                  </a:lnTo>
                  <a:lnTo>
                    <a:pt x="1" y="10"/>
                  </a:lnTo>
                  <a:lnTo>
                    <a:pt x="0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11" y="5"/>
                  </a:lnTo>
                  <a:lnTo>
                    <a:pt x="24" y="13"/>
                  </a:lnTo>
                  <a:lnTo>
                    <a:pt x="35" y="24"/>
                  </a:lnTo>
                  <a:lnTo>
                    <a:pt x="46" y="34"/>
                  </a:lnTo>
                  <a:lnTo>
                    <a:pt x="59" y="47"/>
                  </a:lnTo>
                  <a:lnTo>
                    <a:pt x="68" y="58"/>
                  </a:lnTo>
                  <a:lnTo>
                    <a:pt x="79" y="71"/>
                  </a:lnTo>
                  <a:lnTo>
                    <a:pt x="91" y="81"/>
                  </a:lnTo>
                  <a:lnTo>
                    <a:pt x="102" y="92"/>
                  </a:lnTo>
                  <a:lnTo>
                    <a:pt x="113" y="105"/>
                  </a:lnTo>
                  <a:lnTo>
                    <a:pt x="124" y="116"/>
                  </a:lnTo>
                  <a:lnTo>
                    <a:pt x="135" y="129"/>
                  </a:lnTo>
                  <a:lnTo>
                    <a:pt x="146" y="139"/>
                  </a:lnTo>
                  <a:lnTo>
                    <a:pt x="158" y="150"/>
                  </a:lnTo>
                  <a:lnTo>
                    <a:pt x="169" y="163"/>
                  </a:lnTo>
                  <a:lnTo>
                    <a:pt x="181" y="174"/>
                  </a:lnTo>
                  <a:lnTo>
                    <a:pt x="193" y="184"/>
                  </a:lnTo>
                  <a:lnTo>
                    <a:pt x="193" y="184"/>
                  </a:lnTo>
                  <a:close/>
                </a:path>
              </a:pathLst>
            </a:custGeom>
            <a:solidFill>
              <a:srgbClr val="b8f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3" name=""/>
          <p:cNvGrpSpPr/>
          <p:nvPr/>
        </p:nvGrpSpPr>
        <p:grpSpPr>
          <a:xfrm>
            <a:off x="344880" y="757440"/>
            <a:ext cx="1758960" cy="1252080"/>
            <a:chOff x="344880" y="757440"/>
            <a:chExt cx="1758960" cy="1252080"/>
          </a:xfrm>
        </p:grpSpPr>
        <p:sp>
          <p:nvSpPr>
            <p:cNvPr id="814" name=""/>
            <p:cNvSpPr/>
            <p:nvPr/>
          </p:nvSpPr>
          <p:spPr>
            <a:xfrm rot="20897400">
              <a:off x="404280" y="975960"/>
              <a:ext cx="1650960" cy="3812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rot="20897400">
              <a:off x="424080" y="909720"/>
              <a:ext cx="1600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pull dir="l"/>
      </p:transition>
    </mc:Choice>
    <mc:Fallback>
      <p:transition spd="slow">
        <p:pull dir="l"/>
      </p:transition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2590920"/>
            <a:ext cx="609588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ivide whole num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lve word problems involving di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lve equations  involving di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57400" y="609480"/>
            <a:ext cx="14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9960" y="1397160"/>
            <a:ext cx="748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en you finish this uni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248520" y="2514600"/>
            <a:ext cx="2286000" cy="3429000"/>
            <a:chOff x="6248520" y="2514600"/>
            <a:chExt cx="2286000" cy="3429000"/>
          </a:xfrm>
        </p:grpSpPr>
        <p:sp>
          <p:nvSpPr>
            <p:cNvPr id="49" name=""/>
            <p:cNvSpPr/>
            <p:nvPr/>
          </p:nvSpPr>
          <p:spPr>
            <a:xfrm flipH="1">
              <a:off x="6248520" y="2514600"/>
              <a:ext cx="2286000" cy="34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6256800" y="2528640"/>
              <a:ext cx="2269080" cy="34005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7768800" y="2557440"/>
              <a:ext cx="119520" cy="22212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7691400" y="2571840"/>
              <a:ext cx="68400" cy="2437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811280" y="2600640"/>
              <a:ext cx="51120" cy="11448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7614360" y="2621880"/>
              <a:ext cx="68400" cy="22212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7545960" y="2650680"/>
              <a:ext cx="59760" cy="21492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7464240" y="2665080"/>
              <a:ext cx="77040" cy="22212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400160" y="2672280"/>
              <a:ext cx="72720" cy="20052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331760" y="2715480"/>
              <a:ext cx="55440" cy="19368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7074720" y="2736720"/>
              <a:ext cx="882000" cy="13629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7896600" y="2743920"/>
              <a:ext cx="115560" cy="97560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7867080" y="2743920"/>
              <a:ext cx="123840" cy="99684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7832520" y="2743920"/>
              <a:ext cx="149760" cy="12553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7254720" y="2758320"/>
              <a:ext cx="59760" cy="16488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7199280" y="2779920"/>
              <a:ext cx="42480" cy="15768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7147800" y="2794320"/>
              <a:ext cx="42480" cy="15048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7100280" y="2815920"/>
              <a:ext cx="29880" cy="12888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7048800" y="2829960"/>
              <a:ext cx="38520" cy="136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7468560" y="2995200"/>
              <a:ext cx="231120" cy="4590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7266960" y="3059640"/>
              <a:ext cx="192600" cy="47340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7507080" y="3095640"/>
              <a:ext cx="179640" cy="32976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528320" y="3110040"/>
              <a:ext cx="89640" cy="14328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284600" y="3145680"/>
              <a:ext cx="158400" cy="35856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7553880" y="3160080"/>
              <a:ext cx="21240" cy="3564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7344360" y="3188880"/>
              <a:ext cx="68400" cy="11448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7361280" y="3224520"/>
              <a:ext cx="21240" cy="4284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7764120" y="3540240"/>
              <a:ext cx="59760" cy="4284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7301880" y="3590640"/>
              <a:ext cx="534960" cy="200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440760" y="3705480"/>
              <a:ext cx="355320" cy="34416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758280" y="3748320"/>
              <a:ext cx="1249920" cy="53784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8055000" y="3841560"/>
              <a:ext cx="175320" cy="23652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8025120" y="3891960"/>
              <a:ext cx="25560" cy="1216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7986240" y="3906360"/>
              <a:ext cx="29880" cy="1216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6719400" y="3906360"/>
              <a:ext cx="1284120" cy="50940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7866720" y="4014000"/>
              <a:ext cx="333720" cy="65268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8102160" y="4078440"/>
              <a:ext cx="106920" cy="200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6912000" y="4085640"/>
              <a:ext cx="77040" cy="200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6801120" y="4100040"/>
              <a:ext cx="123840" cy="16488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6993000" y="4121280"/>
              <a:ext cx="102600" cy="21492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7049160" y="4157280"/>
              <a:ext cx="856080" cy="29412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8226360" y="4200480"/>
              <a:ext cx="77040" cy="38736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8209080" y="4222080"/>
              <a:ext cx="38520" cy="32256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7108560" y="4229280"/>
              <a:ext cx="34200" cy="6444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8269200" y="4243320"/>
              <a:ext cx="235440" cy="45180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7160400" y="4250520"/>
              <a:ext cx="864720" cy="99000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8183520" y="4293720"/>
              <a:ext cx="21240" cy="12888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8329320" y="4544640"/>
              <a:ext cx="149760" cy="1216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8303040" y="4544640"/>
              <a:ext cx="38520" cy="5004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8021160" y="4551840"/>
              <a:ext cx="46800" cy="63828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8047080" y="4573440"/>
              <a:ext cx="46800" cy="609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8081280" y="4595040"/>
              <a:ext cx="46800" cy="54504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7112880" y="4781520"/>
              <a:ext cx="273960" cy="109044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7267680" y="4810320"/>
              <a:ext cx="42480" cy="932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7266960" y="4853160"/>
              <a:ext cx="29880" cy="5724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7254360" y="4903560"/>
              <a:ext cx="12600" cy="2124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7665480" y="5104440"/>
              <a:ext cx="321120" cy="7963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pull dir="l"/>
      </p:transition>
    </mc:Choice>
    <mc:Fallback>
      <p:transition spd="slow">
        <p:pull dir="l"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3456720" y="533520"/>
            <a:ext cx="18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932760" y="1371600"/>
            <a:ext cx="35496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1015 ÷ 7 =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867280" y="3429000"/>
            <a:ext cx="1524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053400" y="3429000"/>
            <a:ext cx="8931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019920" y="4572000"/>
            <a:ext cx="1295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388200" y="4572000"/>
            <a:ext cx="8931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003120" y="2819520"/>
            <a:ext cx="141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Comic Sans MS"/>
              </a:rPr>
              <a:t>700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373920" y="3946680"/>
            <a:ext cx="112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70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745080" y="5013360"/>
            <a:ext cx="83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7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183720" y="16002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Comic Sans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488640" y="16002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793560" y="16002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952240" y="2803680"/>
            <a:ext cx="63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Comic Sans MS"/>
              </a:rPr>
              <a:t>-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960160" y="3886200"/>
            <a:ext cx="9237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-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156720" y="5105520"/>
            <a:ext cx="1056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-</a:t>
            </a: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095880" y="5791320"/>
            <a:ext cx="1295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268800" y="4514760"/>
            <a:ext cx="276120" cy="376200"/>
          </a:xfrm>
          <a:custGeom>
            <a:avLst/>
            <a:gdLst/>
            <a:ahLst/>
            <a:rect l="l" t="t" r="r" b="b"/>
            <a:pathLst>
              <a:path w="348" h="473">
                <a:moveTo>
                  <a:pt x="35" y="0"/>
                </a:moveTo>
                <a:lnTo>
                  <a:pt x="32" y="2"/>
                </a:lnTo>
                <a:lnTo>
                  <a:pt x="28" y="16"/>
                </a:lnTo>
                <a:lnTo>
                  <a:pt x="19" y="37"/>
                </a:lnTo>
                <a:lnTo>
                  <a:pt x="13" y="65"/>
                </a:lnTo>
                <a:lnTo>
                  <a:pt x="6" y="97"/>
                </a:lnTo>
                <a:lnTo>
                  <a:pt x="2" y="134"/>
                </a:lnTo>
                <a:lnTo>
                  <a:pt x="0" y="173"/>
                </a:lnTo>
                <a:lnTo>
                  <a:pt x="5" y="215"/>
                </a:lnTo>
                <a:lnTo>
                  <a:pt x="12" y="256"/>
                </a:lnTo>
                <a:lnTo>
                  <a:pt x="27" y="298"/>
                </a:lnTo>
                <a:lnTo>
                  <a:pt x="48" y="338"/>
                </a:lnTo>
                <a:lnTo>
                  <a:pt x="82" y="375"/>
                </a:lnTo>
                <a:lnTo>
                  <a:pt x="123" y="406"/>
                </a:lnTo>
                <a:lnTo>
                  <a:pt x="175" y="437"/>
                </a:lnTo>
                <a:lnTo>
                  <a:pt x="241" y="458"/>
                </a:lnTo>
                <a:lnTo>
                  <a:pt x="322" y="473"/>
                </a:lnTo>
                <a:lnTo>
                  <a:pt x="348" y="314"/>
                </a:lnTo>
                <a:lnTo>
                  <a:pt x="287" y="139"/>
                </a:lnTo>
                <a:lnTo>
                  <a:pt x="139" y="20"/>
                </a:lnTo>
                <a:lnTo>
                  <a:pt x="35" y="0"/>
                </a:lnTo>
                <a:lnTo>
                  <a:pt x="35" y="0"/>
                </a:lnTo>
                <a:close/>
              </a:path>
            </a:pathLst>
          </a:custGeom>
          <a:solidFill>
            <a:srgbClr val="d9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87480" y="2160360"/>
            <a:ext cx="3498120" cy="4454640"/>
            <a:chOff x="87480" y="2160360"/>
            <a:chExt cx="3498120" cy="4454640"/>
          </a:xfrm>
        </p:grpSpPr>
        <p:sp>
          <p:nvSpPr>
            <p:cNvPr id="834" name=""/>
            <p:cNvSpPr/>
            <p:nvPr/>
          </p:nvSpPr>
          <p:spPr>
            <a:xfrm rot="2831400">
              <a:off x="2897640" y="5252040"/>
              <a:ext cx="31320" cy="151560"/>
            </a:xfrm>
            <a:custGeom>
              <a:avLst/>
              <a:gdLst/>
              <a:ahLst/>
              <a:rect l="l" t="t" r="r" b="b"/>
              <a:pathLst>
                <a:path w="11" h="63">
                  <a:moveTo>
                    <a:pt x="3" y="0"/>
                  </a:moveTo>
                  <a:lnTo>
                    <a:pt x="3" y="8"/>
                  </a:lnTo>
                  <a:lnTo>
                    <a:pt x="3" y="15"/>
                  </a:lnTo>
                  <a:lnTo>
                    <a:pt x="3" y="23"/>
                  </a:lnTo>
                  <a:lnTo>
                    <a:pt x="3" y="31"/>
                  </a:lnTo>
                  <a:lnTo>
                    <a:pt x="2" y="39"/>
                  </a:lnTo>
                  <a:lnTo>
                    <a:pt x="2" y="47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2" y="58"/>
                  </a:lnTo>
                  <a:lnTo>
                    <a:pt x="5" y="55"/>
                  </a:lnTo>
                  <a:lnTo>
                    <a:pt x="7" y="52"/>
                  </a:lnTo>
                  <a:lnTo>
                    <a:pt x="8" y="50"/>
                  </a:lnTo>
                  <a:lnTo>
                    <a:pt x="10" y="42"/>
                  </a:lnTo>
                  <a:lnTo>
                    <a:pt x="11" y="34"/>
                  </a:lnTo>
                  <a:lnTo>
                    <a:pt x="10" y="29"/>
                  </a:lnTo>
                  <a:lnTo>
                    <a:pt x="10" y="21"/>
                  </a:lnTo>
                  <a:lnTo>
                    <a:pt x="8" y="15"/>
                  </a:lnTo>
                  <a:lnTo>
                    <a:pt x="7" y="10"/>
                  </a:lnTo>
                  <a:lnTo>
                    <a:pt x="5" y="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7f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rot="2831400">
              <a:off x="540360" y="3251160"/>
              <a:ext cx="1832040" cy="2035080"/>
            </a:xfrm>
            <a:custGeom>
              <a:avLst/>
              <a:gdLst/>
              <a:ahLst/>
              <a:rect l="l" t="t" r="r" b="b"/>
              <a:pathLst>
                <a:path w="630" h="842">
                  <a:moveTo>
                    <a:pt x="7" y="5"/>
                  </a:moveTo>
                  <a:lnTo>
                    <a:pt x="20" y="24"/>
                  </a:lnTo>
                  <a:lnTo>
                    <a:pt x="31" y="39"/>
                  </a:lnTo>
                  <a:lnTo>
                    <a:pt x="44" y="58"/>
                  </a:lnTo>
                  <a:lnTo>
                    <a:pt x="55" y="76"/>
                  </a:lnTo>
                  <a:lnTo>
                    <a:pt x="67" y="95"/>
                  </a:lnTo>
                  <a:lnTo>
                    <a:pt x="79" y="116"/>
                  </a:lnTo>
                  <a:lnTo>
                    <a:pt x="90" y="134"/>
                  </a:lnTo>
                  <a:lnTo>
                    <a:pt x="102" y="155"/>
                  </a:lnTo>
                  <a:lnTo>
                    <a:pt x="114" y="174"/>
                  </a:lnTo>
                  <a:lnTo>
                    <a:pt x="125" y="195"/>
                  </a:lnTo>
                  <a:lnTo>
                    <a:pt x="136" y="213"/>
                  </a:lnTo>
                  <a:lnTo>
                    <a:pt x="149" y="231"/>
                  </a:lnTo>
                  <a:lnTo>
                    <a:pt x="160" y="250"/>
                  </a:lnTo>
                  <a:lnTo>
                    <a:pt x="171" y="268"/>
                  </a:lnTo>
                  <a:lnTo>
                    <a:pt x="184" y="287"/>
                  </a:lnTo>
                  <a:lnTo>
                    <a:pt x="197" y="303"/>
                  </a:lnTo>
                  <a:lnTo>
                    <a:pt x="208" y="316"/>
                  </a:lnTo>
                  <a:lnTo>
                    <a:pt x="219" y="331"/>
                  </a:lnTo>
                  <a:lnTo>
                    <a:pt x="230" y="345"/>
                  </a:lnTo>
                  <a:lnTo>
                    <a:pt x="243" y="355"/>
                  </a:lnTo>
                  <a:lnTo>
                    <a:pt x="254" y="368"/>
                  </a:lnTo>
                  <a:lnTo>
                    <a:pt x="265" y="379"/>
                  </a:lnTo>
                  <a:lnTo>
                    <a:pt x="278" y="392"/>
                  </a:lnTo>
                  <a:lnTo>
                    <a:pt x="291" y="405"/>
                  </a:lnTo>
                  <a:lnTo>
                    <a:pt x="302" y="416"/>
                  </a:lnTo>
                  <a:lnTo>
                    <a:pt x="313" y="429"/>
                  </a:lnTo>
                  <a:lnTo>
                    <a:pt x="326" y="439"/>
                  </a:lnTo>
                  <a:lnTo>
                    <a:pt x="337" y="453"/>
                  </a:lnTo>
                  <a:lnTo>
                    <a:pt x="350" y="463"/>
                  </a:lnTo>
                  <a:lnTo>
                    <a:pt x="361" y="476"/>
                  </a:lnTo>
                  <a:lnTo>
                    <a:pt x="372" y="489"/>
                  </a:lnTo>
                  <a:lnTo>
                    <a:pt x="383" y="505"/>
                  </a:lnTo>
                  <a:lnTo>
                    <a:pt x="393" y="516"/>
                  </a:lnTo>
                  <a:lnTo>
                    <a:pt x="402" y="529"/>
                  </a:lnTo>
                  <a:lnTo>
                    <a:pt x="412" y="542"/>
                  </a:lnTo>
                  <a:lnTo>
                    <a:pt x="421" y="555"/>
                  </a:lnTo>
                  <a:lnTo>
                    <a:pt x="431" y="568"/>
                  </a:lnTo>
                  <a:lnTo>
                    <a:pt x="441" y="582"/>
                  </a:lnTo>
                  <a:lnTo>
                    <a:pt x="452" y="595"/>
                  </a:lnTo>
                  <a:lnTo>
                    <a:pt x="461" y="611"/>
                  </a:lnTo>
                  <a:lnTo>
                    <a:pt x="471" y="624"/>
                  </a:lnTo>
                  <a:lnTo>
                    <a:pt x="482" y="637"/>
                  </a:lnTo>
                  <a:lnTo>
                    <a:pt x="492" y="650"/>
                  </a:lnTo>
                  <a:lnTo>
                    <a:pt x="501" y="663"/>
                  </a:lnTo>
                  <a:lnTo>
                    <a:pt x="512" y="674"/>
                  </a:lnTo>
                  <a:lnTo>
                    <a:pt x="522" y="687"/>
                  </a:lnTo>
                  <a:lnTo>
                    <a:pt x="533" y="697"/>
                  </a:lnTo>
                  <a:lnTo>
                    <a:pt x="544" y="708"/>
                  </a:lnTo>
                  <a:lnTo>
                    <a:pt x="549" y="711"/>
                  </a:lnTo>
                  <a:lnTo>
                    <a:pt x="554" y="716"/>
                  </a:lnTo>
                  <a:lnTo>
                    <a:pt x="557" y="721"/>
                  </a:lnTo>
                  <a:lnTo>
                    <a:pt x="562" y="726"/>
                  </a:lnTo>
                  <a:lnTo>
                    <a:pt x="566" y="729"/>
                  </a:lnTo>
                  <a:lnTo>
                    <a:pt x="571" y="734"/>
                  </a:lnTo>
                  <a:lnTo>
                    <a:pt x="576" y="739"/>
                  </a:lnTo>
                  <a:lnTo>
                    <a:pt x="581" y="745"/>
                  </a:lnTo>
                  <a:lnTo>
                    <a:pt x="584" y="750"/>
                  </a:lnTo>
                  <a:lnTo>
                    <a:pt x="589" y="755"/>
                  </a:lnTo>
                  <a:lnTo>
                    <a:pt x="594" y="761"/>
                  </a:lnTo>
                  <a:lnTo>
                    <a:pt x="598" y="766"/>
                  </a:lnTo>
                  <a:lnTo>
                    <a:pt x="603" y="768"/>
                  </a:lnTo>
                  <a:lnTo>
                    <a:pt x="608" y="774"/>
                  </a:lnTo>
                  <a:lnTo>
                    <a:pt x="613" y="779"/>
                  </a:lnTo>
                  <a:lnTo>
                    <a:pt x="619" y="784"/>
                  </a:lnTo>
                  <a:lnTo>
                    <a:pt x="622" y="787"/>
                  </a:lnTo>
                  <a:lnTo>
                    <a:pt x="625" y="792"/>
                  </a:lnTo>
                  <a:lnTo>
                    <a:pt x="627" y="797"/>
                  </a:lnTo>
                  <a:lnTo>
                    <a:pt x="629" y="803"/>
                  </a:lnTo>
                  <a:lnTo>
                    <a:pt x="629" y="808"/>
                  </a:lnTo>
                  <a:lnTo>
                    <a:pt x="630" y="813"/>
                  </a:lnTo>
                  <a:lnTo>
                    <a:pt x="629" y="818"/>
                  </a:lnTo>
                  <a:lnTo>
                    <a:pt x="629" y="824"/>
                  </a:lnTo>
                  <a:lnTo>
                    <a:pt x="627" y="829"/>
                  </a:lnTo>
                  <a:lnTo>
                    <a:pt x="624" y="834"/>
                  </a:lnTo>
                  <a:lnTo>
                    <a:pt x="621" y="837"/>
                  </a:lnTo>
                  <a:lnTo>
                    <a:pt x="619" y="840"/>
                  </a:lnTo>
                  <a:lnTo>
                    <a:pt x="616" y="842"/>
                  </a:lnTo>
                  <a:lnTo>
                    <a:pt x="613" y="842"/>
                  </a:lnTo>
                  <a:lnTo>
                    <a:pt x="608" y="842"/>
                  </a:lnTo>
                  <a:lnTo>
                    <a:pt x="605" y="842"/>
                  </a:lnTo>
                  <a:lnTo>
                    <a:pt x="598" y="837"/>
                  </a:lnTo>
                  <a:lnTo>
                    <a:pt x="594" y="834"/>
                  </a:lnTo>
                  <a:lnTo>
                    <a:pt x="587" y="832"/>
                  </a:lnTo>
                  <a:lnTo>
                    <a:pt x="582" y="829"/>
                  </a:lnTo>
                  <a:lnTo>
                    <a:pt x="578" y="824"/>
                  </a:lnTo>
                  <a:lnTo>
                    <a:pt x="571" y="818"/>
                  </a:lnTo>
                  <a:lnTo>
                    <a:pt x="566" y="816"/>
                  </a:lnTo>
                  <a:lnTo>
                    <a:pt x="562" y="811"/>
                  </a:lnTo>
                  <a:lnTo>
                    <a:pt x="557" y="808"/>
                  </a:lnTo>
                  <a:lnTo>
                    <a:pt x="551" y="803"/>
                  </a:lnTo>
                  <a:lnTo>
                    <a:pt x="546" y="797"/>
                  </a:lnTo>
                  <a:lnTo>
                    <a:pt x="541" y="792"/>
                  </a:lnTo>
                  <a:lnTo>
                    <a:pt x="536" y="790"/>
                  </a:lnTo>
                  <a:lnTo>
                    <a:pt x="531" y="784"/>
                  </a:lnTo>
                  <a:lnTo>
                    <a:pt x="527" y="779"/>
                  </a:lnTo>
                  <a:lnTo>
                    <a:pt x="522" y="776"/>
                  </a:lnTo>
                  <a:lnTo>
                    <a:pt x="501" y="758"/>
                  </a:lnTo>
                  <a:lnTo>
                    <a:pt x="482" y="739"/>
                  </a:lnTo>
                  <a:lnTo>
                    <a:pt x="461" y="718"/>
                  </a:lnTo>
                  <a:lnTo>
                    <a:pt x="442" y="700"/>
                  </a:lnTo>
                  <a:lnTo>
                    <a:pt x="421" y="679"/>
                  </a:lnTo>
                  <a:lnTo>
                    <a:pt x="402" y="658"/>
                  </a:lnTo>
                  <a:lnTo>
                    <a:pt x="383" y="637"/>
                  </a:lnTo>
                  <a:lnTo>
                    <a:pt x="364" y="618"/>
                  </a:lnTo>
                  <a:lnTo>
                    <a:pt x="343" y="595"/>
                  </a:lnTo>
                  <a:lnTo>
                    <a:pt x="324" y="571"/>
                  </a:lnTo>
                  <a:lnTo>
                    <a:pt x="305" y="550"/>
                  </a:lnTo>
                  <a:lnTo>
                    <a:pt x="287" y="526"/>
                  </a:lnTo>
                  <a:lnTo>
                    <a:pt x="268" y="505"/>
                  </a:lnTo>
                  <a:lnTo>
                    <a:pt x="251" y="482"/>
                  </a:lnTo>
                  <a:lnTo>
                    <a:pt x="232" y="458"/>
                  </a:lnTo>
                  <a:lnTo>
                    <a:pt x="216" y="437"/>
                  </a:lnTo>
                  <a:lnTo>
                    <a:pt x="206" y="424"/>
                  </a:lnTo>
                  <a:lnTo>
                    <a:pt x="197" y="408"/>
                  </a:lnTo>
                  <a:lnTo>
                    <a:pt x="184" y="387"/>
                  </a:lnTo>
                  <a:lnTo>
                    <a:pt x="169" y="363"/>
                  </a:lnTo>
                  <a:lnTo>
                    <a:pt x="154" y="337"/>
                  </a:lnTo>
                  <a:lnTo>
                    <a:pt x="138" y="308"/>
                  </a:lnTo>
                  <a:lnTo>
                    <a:pt x="120" y="279"/>
                  </a:lnTo>
                  <a:lnTo>
                    <a:pt x="104" y="250"/>
                  </a:lnTo>
                  <a:lnTo>
                    <a:pt x="87" y="218"/>
                  </a:lnTo>
                  <a:lnTo>
                    <a:pt x="71" y="189"/>
                  </a:lnTo>
                  <a:lnTo>
                    <a:pt x="56" y="160"/>
                  </a:lnTo>
                  <a:lnTo>
                    <a:pt x="42" y="134"/>
                  </a:lnTo>
                  <a:lnTo>
                    <a:pt x="31" y="110"/>
                  </a:lnTo>
                  <a:lnTo>
                    <a:pt x="21" y="89"/>
                  </a:lnTo>
                  <a:lnTo>
                    <a:pt x="15" y="71"/>
                  </a:lnTo>
                  <a:lnTo>
                    <a:pt x="12" y="60"/>
                  </a:lnTo>
                  <a:lnTo>
                    <a:pt x="12" y="55"/>
                  </a:lnTo>
                  <a:lnTo>
                    <a:pt x="10" y="52"/>
                  </a:lnTo>
                  <a:lnTo>
                    <a:pt x="10" y="47"/>
                  </a:lnTo>
                  <a:lnTo>
                    <a:pt x="8" y="39"/>
                  </a:lnTo>
                  <a:lnTo>
                    <a:pt x="7" y="34"/>
                  </a:lnTo>
                  <a:lnTo>
                    <a:pt x="5" y="29"/>
                  </a:lnTo>
                  <a:lnTo>
                    <a:pt x="4" y="24"/>
                  </a:lnTo>
                  <a:lnTo>
                    <a:pt x="2" y="18"/>
                  </a:lnTo>
                  <a:lnTo>
                    <a:pt x="2" y="13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4df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rot="2831400">
              <a:off x="678600" y="3915000"/>
              <a:ext cx="2378880" cy="1894680"/>
            </a:xfrm>
            <a:custGeom>
              <a:avLst/>
              <a:gdLst/>
              <a:ahLst/>
              <a:rect l="l" t="t" r="r" b="b"/>
              <a:pathLst>
                <a:path w="818" h="784">
                  <a:moveTo>
                    <a:pt x="59" y="26"/>
                  </a:moveTo>
                  <a:lnTo>
                    <a:pt x="62" y="31"/>
                  </a:lnTo>
                  <a:lnTo>
                    <a:pt x="64" y="37"/>
                  </a:lnTo>
                  <a:lnTo>
                    <a:pt x="67" y="39"/>
                  </a:lnTo>
                  <a:lnTo>
                    <a:pt x="70" y="45"/>
                  </a:lnTo>
                  <a:lnTo>
                    <a:pt x="72" y="45"/>
                  </a:lnTo>
                  <a:lnTo>
                    <a:pt x="75" y="47"/>
                  </a:lnTo>
                  <a:lnTo>
                    <a:pt x="78" y="50"/>
                  </a:lnTo>
                  <a:lnTo>
                    <a:pt x="81" y="50"/>
                  </a:lnTo>
                  <a:lnTo>
                    <a:pt x="84" y="53"/>
                  </a:lnTo>
                  <a:lnTo>
                    <a:pt x="88" y="53"/>
                  </a:lnTo>
                  <a:lnTo>
                    <a:pt x="91" y="53"/>
                  </a:lnTo>
                  <a:lnTo>
                    <a:pt x="94" y="55"/>
                  </a:lnTo>
                  <a:lnTo>
                    <a:pt x="97" y="55"/>
                  </a:lnTo>
                  <a:lnTo>
                    <a:pt x="100" y="55"/>
                  </a:lnTo>
                  <a:lnTo>
                    <a:pt x="104" y="58"/>
                  </a:lnTo>
                  <a:lnTo>
                    <a:pt x="108" y="60"/>
                  </a:lnTo>
                  <a:lnTo>
                    <a:pt x="116" y="63"/>
                  </a:lnTo>
                  <a:lnTo>
                    <a:pt x="126" y="68"/>
                  </a:lnTo>
                  <a:lnTo>
                    <a:pt x="139" y="79"/>
                  </a:lnTo>
                  <a:lnTo>
                    <a:pt x="151" y="87"/>
                  </a:lnTo>
                  <a:lnTo>
                    <a:pt x="166" y="97"/>
                  </a:lnTo>
                  <a:lnTo>
                    <a:pt x="182" y="110"/>
                  </a:lnTo>
                  <a:lnTo>
                    <a:pt x="198" y="124"/>
                  </a:lnTo>
                  <a:lnTo>
                    <a:pt x="215" y="137"/>
                  </a:lnTo>
                  <a:lnTo>
                    <a:pt x="231" y="150"/>
                  </a:lnTo>
                  <a:lnTo>
                    <a:pt x="249" y="163"/>
                  </a:lnTo>
                  <a:lnTo>
                    <a:pt x="265" y="176"/>
                  </a:lnTo>
                  <a:lnTo>
                    <a:pt x="279" y="189"/>
                  </a:lnTo>
                  <a:lnTo>
                    <a:pt x="293" y="203"/>
                  </a:lnTo>
                  <a:lnTo>
                    <a:pt x="304" y="213"/>
                  </a:lnTo>
                  <a:lnTo>
                    <a:pt x="314" y="224"/>
                  </a:lnTo>
                  <a:lnTo>
                    <a:pt x="324" y="232"/>
                  </a:lnTo>
                  <a:lnTo>
                    <a:pt x="338" y="247"/>
                  </a:lnTo>
                  <a:lnTo>
                    <a:pt x="357" y="263"/>
                  </a:lnTo>
                  <a:lnTo>
                    <a:pt x="376" y="279"/>
                  </a:lnTo>
                  <a:lnTo>
                    <a:pt x="397" y="292"/>
                  </a:lnTo>
                  <a:lnTo>
                    <a:pt x="418" y="308"/>
                  </a:lnTo>
                  <a:lnTo>
                    <a:pt x="440" y="321"/>
                  </a:lnTo>
                  <a:lnTo>
                    <a:pt x="464" y="334"/>
                  </a:lnTo>
                  <a:lnTo>
                    <a:pt x="488" y="350"/>
                  </a:lnTo>
                  <a:lnTo>
                    <a:pt x="510" y="363"/>
                  </a:lnTo>
                  <a:lnTo>
                    <a:pt x="534" y="379"/>
                  </a:lnTo>
                  <a:lnTo>
                    <a:pt x="558" y="392"/>
                  </a:lnTo>
                  <a:lnTo>
                    <a:pt x="582" y="411"/>
                  </a:lnTo>
                  <a:lnTo>
                    <a:pt x="604" y="426"/>
                  </a:lnTo>
                  <a:lnTo>
                    <a:pt x="627" y="445"/>
                  </a:lnTo>
                  <a:lnTo>
                    <a:pt x="649" y="463"/>
                  </a:lnTo>
                  <a:lnTo>
                    <a:pt x="670" y="484"/>
                  </a:lnTo>
                  <a:lnTo>
                    <a:pt x="674" y="490"/>
                  </a:lnTo>
                  <a:lnTo>
                    <a:pt x="682" y="505"/>
                  </a:lnTo>
                  <a:lnTo>
                    <a:pt x="695" y="524"/>
                  </a:lnTo>
                  <a:lnTo>
                    <a:pt x="709" y="550"/>
                  </a:lnTo>
                  <a:lnTo>
                    <a:pt x="725" y="576"/>
                  </a:lnTo>
                  <a:lnTo>
                    <a:pt x="743" y="608"/>
                  </a:lnTo>
                  <a:lnTo>
                    <a:pt x="759" y="640"/>
                  </a:lnTo>
                  <a:lnTo>
                    <a:pt x="776" y="674"/>
                  </a:lnTo>
                  <a:lnTo>
                    <a:pt x="791" y="703"/>
                  </a:lnTo>
                  <a:lnTo>
                    <a:pt x="804" y="732"/>
                  </a:lnTo>
                  <a:lnTo>
                    <a:pt x="813" y="753"/>
                  </a:lnTo>
                  <a:lnTo>
                    <a:pt x="818" y="771"/>
                  </a:lnTo>
                  <a:lnTo>
                    <a:pt x="818" y="782"/>
                  </a:lnTo>
                  <a:lnTo>
                    <a:pt x="813" y="784"/>
                  </a:lnTo>
                  <a:lnTo>
                    <a:pt x="802" y="776"/>
                  </a:lnTo>
                  <a:lnTo>
                    <a:pt x="783" y="758"/>
                  </a:lnTo>
                  <a:lnTo>
                    <a:pt x="762" y="734"/>
                  </a:lnTo>
                  <a:lnTo>
                    <a:pt x="741" y="713"/>
                  </a:lnTo>
                  <a:lnTo>
                    <a:pt x="719" y="692"/>
                  </a:lnTo>
                  <a:lnTo>
                    <a:pt x="698" y="671"/>
                  </a:lnTo>
                  <a:lnTo>
                    <a:pt x="678" y="653"/>
                  </a:lnTo>
                  <a:lnTo>
                    <a:pt x="657" y="632"/>
                  </a:lnTo>
                  <a:lnTo>
                    <a:pt x="635" y="613"/>
                  </a:lnTo>
                  <a:lnTo>
                    <a:pt x="615" y="595"/>
                  </a:lnTo>
                  <a:lnTo>
                    <a:pt x="593" y="576"/>
                  </a:lnTo>
                  <a:lnTo>
                    <a:pt x="571" y="558"/>
                  </a:lnTo>
                  <a:lnTo>
                    <a:pt x="550" y="540"/>
                  </a:lnTo>
                  <a:lnTo>
                    <a:pt x="528" y="524"/>
                  </a:lnTo>
                  <a:lnTo>
                    <a:pt x="505" y="505"/>
                  </a:lnTo>
                  <a:lnTo>
                    <a:pt x="485" y="490"/>
                  </a:lnTo>
                  <a:lnTo>
                    <a:pt x="461" y="474"/>
                  </a:lnTo>
                  <a:lnTo>
                    <a:pt x="438" y="458"/>
                  </a:lnTo>
                  <a:lnTo>
                    <a:pt x="429" y="450"/>
                  </a:lnTo>
                  <a:lnTo>
                    <a:pt x="419" y="442"/>
                  </a:lnTo>
                  <a:lnTo>
                    <a:pt x="408" y="437"/>
                  </a:lnTo>
                  <a:lnTo>
                    <a:pt x="399" y="429"/>
                  </a:lnTo>
                  <a:lnTo>
                    <a:pt x="387" y="424"/>
                  </a:lnTo>
                  <a:lnTo>
                    <a:pt x="378" y="418"/>
                  </a:lnTo>
                  <a:lnTo>
                    <a:pt x="367" y="413"/>
                  </a:lnTo>
                  <a:lnTo>
                    <a:pt x="357" y="408"/>
                  </a:lnTo>
                  <a:lnTo>
                    <a:pt x="348" y="400"/>
                  </a:lnTo>
                  <a:lnTo>
                    <a:pt x="336" y="395"/>
                  </a:lnTo>
                  <a:lnTo>
                    <a:pt x="327" y="387"/>
                  </a:lnTo>
                  <a:lnTo>
                    <a:pt x="317" y="382"/>
                  </a:lnTo>
                  <a:lnTo>
                    <a:pt x="306" y="371"/>
                  </a:lnTo>
                  <a:lnTo>
                    <a:pt x="297" y="363"/>
                  </a:lnTo>
                  <a:lnTo>
                    <a:pt x="287" y="355"/>
                  </a:lnTo>
                  <a:lnTo>
                    <a:pt x="277" y="345"/>
                  </a:lnTo>
                  <a:lnTo>
                    <a:pt x="268" y="334"/>
                  </a:lnTo>
                  <a:lnTo>
                    <a:pt x="257" y="321"/>
                  </a:lnTo>
                  <a:lnTo>
                    <a:pt x="245" y="308"/>
                  </a:lnTo>
                  <a:lnTo>
                    <a:pt x="236" y="295"/>
                  </a:lnTo>
                  <a:lnTo>
                    <a:pt x="223" y="284"/>
                  </a:lnTo>
                  <a:lnTo>
                    <a:pt x="212" y="271"/>
                  </a:lnTo>
                  <a:lnTo>
                    <a:pt x="199" y="255"/>
                  </a:lnTo>
                  <a:lnTo>
                    <a:pt x="188" y="245"/>
                  </a:lnTo>
                  <a:lnTo>
                    <a:pt x="175" y="232"/>
                  </a:lnTo>
                  <a:lnTo>
                    <a:pt x="163" y="221"/>
                  </a:lnTo>
                  <a:lnTo>
                    <a:pt x="151" y="208"/>
                  </a:lnTo>
                  <a:lnTo>
                    <a:pt x="139" y="197"/>
                  </a:lnTo>
                  <a:lnTo>
                    <a:pt x="126" y="187"/>
                  </a:lnTo>
                  <a:lnTo>
                    <a:pt x="115" y="179"/>
                  </a:lnTo>
                  <a:lnTo>
                    <a:pt x="102" y="171"/>
                  </a:lnTo>
                  <a:lnTo>
                    <a:pt x="92" y="166"/>
                  </a:lnTo>
                  <a:lnTo>
                    <a:pt x="84" y="163"/>
                  </a:lnTo>
                  <a:lnTo>
                    <a:pt x="78" y="160"/>
                  </a:lnTo>
                  <a:lnTo>
                    <a:pt x="72" y="158"/>
                  </a:lnTo>
                  <a:lnTo>
                    <a:pt x="67" y="155"/>
                  </a:lnTo>
                  <a:lnTo>
                    <a:pt x="61" y="150"/>
                  </a:lnTo>
                  <a:lnTo>
                    <a:pt x="54" y="147"/>
                  </a:lnTo>
                  <a:lnTo>
                    <a:pt x="48" y="142"/>
                  </a:lnTo>
                  <a:lnTo>
                    <a:pt x="43" y="139"/>
                  </a:lnTo>
                  <a:lnTo>
                    <a:pt x="37" y="134"/>
                  </a:lnTo>
                  <a:lnTo>
                    <a:pt x="30" y="129"/>
                  </a:lnTo>
                  <a:lnTo>
                    <a:pt x="25" y="121"/>
                  </a:lnTo>
                  <a:lnTo>
                    <a:pt x="21" y="116"/>
                  </a:lnTo>
                  <a:lnTo>
                    <a:pt x="16" y="108"/>
                  </a:lnTo>
                  <a:lnTo>
                    <a:pt x="13" y="100"/>
                  </a:lnTo>
                  <a:lnTo>
                    <a:pt x="8" y="92"/>
                  </a:lnTo>
                  <a:lnTo>
                    <a:pt x="5" y="84"/>
                  </a:lnTo>
                  <a:lnTo>
                    <a:pt x="2" y="71"/>
                  </a:lnTo>
                  <a:lnTo>
                    <a:pt x="0" y="60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2" y="31"/>
                  </a:lnTo>
                  <a:lnTo>
                    <a:pt x="5" y="24"/>
                  </a:lnTo>
                  <a:lnTo>
                    <a:pt x="9" y="16"/>
                  </a:lnTo>
                  <a:lnTo>
                    <a:pt x="14" y="10"/>
                  </a:lnTo>
                  <a:lnTo>
                    <a:pt x="19" y="5"/>
                  </a:lnTo>
                  <a:lnTo>
                    <a:pt x="24" y="3"/>
                  </a:lnTo>
                  <a:lnTo>
                    <a:pt x="30" y="0"/>
                  </a:lnTo>
                  <a:lnTo>
                    <a:pt x="37" y="3"/>
                  </a:lnTo>
                  <a:lnTo>
                    <a:pt x="41" y="5"/>
                  </a:lnTo>
                  <a:lnTo>
                    <a:pt x="48" y="8"/>
                  </a:lnTo>
                  <a:lnTo>
                    <a:pt x="54" y="16"/>
                  </a:lnTo>
                  <a:lnTo>
                    <a:pt x="59" y="26"/>
                  </a:lnTo>
                  <a:lnTo>
                    <a:pt x="59" y="26"/>
                  </a:lnTo>
                  <a:close/>
                </a:path>
              </a:pathLst>
            </a:custGeom>
            <a:solidFill>
              <a:srgbClr val="ff4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2831400">
              <a:off x="1618920" y="2363760"/>
              <a:ext cx="328320" cy="425160"/>
            </a:xfrm>
            <a:custGeom>
              <a:avLst/>
              <a:gdLst/>
              <a:ahLst/>
              <a:rect l="l" t="t" r="r" b="b"/>
              <a:pathLst>
                <a:path w="113" h="176">
                  <a:moveTo>
                    <a:pt x="43" y="13"/>
                  </a:moveTo>
                  <a:lnTo>
                    <a:pt x="56" y="8"/>
                  </a:lnTo>
                  <a:lnTo>
                    <a:pt x="70" y="10"/>
                  </a:lnTo>
                  <a:lnTo>
                    <a:pt x="81" y="15"/>
                  </a:lnTo>
                  <a:lnTo>
                    <a:pt x="91" y="26"/>
                  </a:lnTo>
                  <a:lnTo>
                    <a:pt x="99" y="39"/>
                  </a:lnTo>
                  <a:lnTo>
                    <a:pt x="105" y="55"/>
                  </a:lnTo>
                  <a:lnTo>
                    <a:pt x="110" y="73"/>
                  </a:lnTo>
                  <a:lnTo>
                    <a:pt x="113" y="92"/>
                  </a:lnTo>
                  <a:lnTo>
                    <a:pt x="113" y="108"/>
                  </a:lnTo>
                  <a:lnTo>
                    <a:pt x="112" y="126"/>
                  </a:lnTo>
                  <a:lnTo>
                    <a:pt x="108" y="142"/>
                  </a:lnTo>
                  <a:lnTo>
                    <a:pt x="102" y="155"/>
                  </a:lnTo>
                  <a:lnTo>
                    <a:pt x="94" y="165"/>
                  </a:lnTo>
                  <a:lnTo>
                    <a:pt x="84" y="173"/>
                  </a:lnTo>
                  <a:lnTo>
                    <a:pt x="73" y="176"/>
                  </a:lnTo>
                  <a:lnTo>
                    <a:pt x="59" y="173"/>
                  </a:lnTo>
                  <a:lnTo>
                    <a:pt x="43" y="165"/>
                  </a:lnTo>
                  <a:lnTo>
                    <a:pt x="30" y="152"/>
                  </a:lnTo>
                  <a:lnTo>
                    <a:pt x="21" y="139"/>
                  </a:lnTo>
                  <a:lnTo>
                    <a:pt x="13" y="123"/>
                  </a:lnTo>
                  <a:lnTo>
                    <a:pt x="6" y="108"/>
                  </a:lnTo>
                  <a:lnTo>
                    <a:pt x="3" y="89"/>
                  </a:lnTo>
                  <a:lnTo>
                    <a:pt x="0" y="71"/>
                  </a:lnTo>
                  <a:lnTo>
                    <a:pt x="0" y="55"/>
                  </a:lnTo>
                  <a:lnTo>
                    <a:pt x="2" y="39"/>
                  </a:lnTo>
                  <a:lnTo>
                    <a:pt x="5" y="26"/>
                  </a:lnTo>
                  <a:lnTo>
                    <a:pt x="8" y="13"/>
                  </a:lnTo>
                  <a:lnTo>
                    <a:pt x="14" y="5"/>
                  </a:lnTo>
                  <a:lnTo>
                    <a:pt x="19" y="0"/>
                  </a:lnTo>
                  <a:lnTo>
                    <a:pt x="27" y="0"/>
                  </a:lnTo>
                  <a:lnTo>
                    <a:pt x="33" y="2"/>
                  </a:lnTo>
                  <a:lnTo>
                    <a:pt x="43" y="13"/>
                  </a:lnTo>
                  <a:lnTo>
                    <a:pt x="43" y="13"/>
                  </a:lnTo>
                  <a:close/>
                </a:path>
              </a:pathLst>
            </a:custGeom>
            <a:solidFill>
              <a:srgbClr val="40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rot="2831400">
              <a:off x="1710720" y="2175120"/>
              <a:ext cx="168840" cy="292680"/>
            </a:xfrm>
            <a:custGeom>
              <a:avLst/>
              <a:gdLst/>
              <a:ahLst/>
              <a:rect l="l" t="t" r="r" b="b"/>
              <a:pathLst>
                <a:path w="58" h="121">
                  <a:moveTo>
                    <a:pt x="13" y="21"/>
                  </a:moveTo>
                  <a:lnTo>
                    <a:pt x="21" y="8"/>
                  </a:lnTo>
                  <a:lnTo>
                    <a:pt x="31" y="3"/>
                  </a:lnTo>
                  <a:lnTo>
                    <a:pt x="37" y="0"/>
                  </a:lnTo>
                  <a:lnTo>
                    <a:pt x="44" y="6"/>
                  </a:lnTo>
                  <a:lnTo>
                    <a:pt x="48" y="11"/>
                  </a:lnTo>
                  <a:lnTo>
                    <a:pt x="53" y="21"/>
                  </a:lnTo>
                  <a:lnTo>
                    <a:pt x="56" y="32"/>
                  </a:lnTo>
                  <a:lnTo>
                    <a:pt x="58" y="45"/>
                  </a:lnTo>
                  <a:lnTo>
                    <a:pt x="58" y="58"/>
                  </a:lnTo>
                  <a:lnTo>
                    <a:pt x="58" y="71"/>
                  </a:lnTo>
                  <a:lnTo>
                    <a:pt x="56" y="85"/>
                  </a:lnTo>
                  <a:lnTo>
                    <a:pt x="53" y="98"/>
                  </a:lnTo>
                  <a:lnTo>
                    <a:pt x="48" y="108"/>
                  </a:lnTo>
                  <a:lnTo>
                    <a:pt x="42" y="116"/>
                  </a:lnTo>
                  <a:lnTo>
                    <a:pt x="34" y="119"/>
                  </a:lnTo>
                  <a:lnTo>
                    <a:pt x="26" y="121"/>
                  </a:lnTo>
                  <a:lnTo>
                    <a:pt x="20" y="119"/>
                  </a:lnTo>
                  <a:lnTo>
                    <a:pt x="15" y="116"/>
                  </a:lnTo>
                  <a:lnTo>
                    <a:pt x="12" y="111"/>
                  </a:lnTo>
                  <a:lnTo>
                    <a:pt x="8" y="108"/>
                  </a:lnTo>
                  <a:lnTo>
                    <a:pt x="5" y="100"/>
                  </a:lnTo>
                  <a:lnTo>
                    <a:pt x="2" y="95"/>
                  </a:lnTo>
                  <a:lnTo>
                    <a:pt x="2" y="87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4" y="40"/>
                  </a:lnTo>
                  <a:lnTo>
                    <a:pt x="7" y="32"/>
                  </a:lnTo>
                  <a:lnTo>
                    <a:pt x="10" y="27"/>
                  </a:lnTo>
                  <a:lnTo>
                    <a:pt x="13" y="21"/>
                  </a:lnTo>
                  <a:lnTo>
                    <a:pt x="13" y="21"/>
                  </a:lnTo>
                  <a:close/>
                </a:path>
              </a:pathLst>
            </a:custGeom>
            <a:solidFill>
              <a:srgbClr val="40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rot="2831400">
              <a:off x="1046160" y="2859120"/>
              <a:ext cx="1040760" cy="1418400"/>
            </a:xfrm>
            <a:custGeom>
              <a:avLst/>
              <a:gdLst/>
              <a:ahLst/>
              <a:rect l="l" t="t" r="r" b="b"/>
              <a:pathLst>
                <a:path w="358" h="587">
                  <a:moveTo>
                    <a:pt x="76" y="63"/>
                  </a:moveTo>
                  <a:lnTo>
                    <a:pt x="81" y="66"/>
                  </a:lnTo>
                  <a:lnTo>
                    <a:pt x="84" y="71"/>
                  </a:lnTo>
                  <a:lnTo>
                    <a:pt x="87" y="77"/>
                  </a:lnTo>
                  <a:lnTo>
                    <a:pt x="90" y="84"/>
                  </a:lnTo>
                  <a:lnTo>
                    <a:pt x="94" y="90"/>
                  </a:lnTo>
                  <a:lnTo>
                    <a:pt x="97" y="98"/>
                  </a:lnTo>
                  <a:lnTo>
                    <a:pt x="100" y="103"/>
                  </a:lnTo>
                  <a:lnTo>
                    <a:pt x="103" y="111"/>
                  </a:lnTo>
                  <a:lnTo>
                    <a:pt x="106" y="119"/>
                  </a:lnTo>
                  <a:lnTo>
                    <a:pt x="108" y="127"/>
                  </a:lnTo>
                  <a:lnTo>
                    <a:pt x="111" y="132"/>
                  </a:lnTo>
                  <a:lnTo>
                    <a:pt x="114" y="140"/>
                  </a:lnTo>
                  <a:lnTo>
                    <a:pt x="116" y="145"/>
                  </a:lnTo>
                  <a:lnTo>
                    <a:pt x="119" y="153"/>
                  </a:lnTo>
                  <a:lnTo>
                    <a:pt x="122" y="161"/>
                  </a:lnTo>
                  <a:lnTo>
                    <a:pt x="127" y="166"/>
                  </a:lnTo>
                  <a:lnTo>
                    <a:pt x="132" y="171"/>
                  </a:lnTo>
                  <a:lnTo>
                    <a:pt x="141" y="182"/>
                  </a:lnTo>
                  <a:lnTo>
                    <a:pt x="151" y="200"/>
                  </a:lnTo>
                  <a:lnTo>
                    <a:pt x="165" y="219"/>
                  </a:lnTo>
                  <a:lnTo>
                    <a:pt x="180" y="245"/>
                  </a:lnTo>
                  <a:lnTo>
                    <a:pt x="196" y="271"/>
                  </a:lnTo>
                  <a:lnTo>
                    <a:pt x="213" y="300"/>
                  </a:lnTo>
                  <a:lnTo>
                    <a:pt x="232" y="332"/>
                  </a:lnTo>
                  <a:lnTo>
                    <a:pt x="250" y="361"/>
                  </a:lnTo>
                  <a:lnTo>
                    <a:pt x="267" y="392"/>
                  </a:lnTo>
                  <a:lnTo>
                    <a:pt x="283" y="421"/>
                  </a:lnTo>
                  <a:lnTo>
                    <a:pt x="299" y="450"/>
                  </a:lnTo>
                  <a:lnTo>
                    <a:pt x="314" y="474"/>
                  </a:lnTo>
                  <a:lnTo>
                    <a:pt x="326" y="498"/>
                  </a:lnTo>
                  <a:lnTo>
                    <a:pt x="336" y="513"/>
                  </a:lnTo>
                  <a:lnTo>
                    <a:pt x="344" y="529"/>
                  </a:lnTo>
                  <a:lnTo>
                    <a:pt x="349" y="529"/>
                  </a:lnTo>
                  <a:lnTo>
                    <a:pt x="352" y="532"/>
                  </a:lnTo>
                  <a:lnTo>
                    <a:pt x="353" y="535"/>
                  </a:lnTo>
                  <a:lnTo>
                    <a:pt x="357" y="542"/>
                  </a:lnTo>
                  <a:lnTo>
                    <a:pt x="358" y="545"/>
                  </a:lnTo>
                  <a:lnTo>
                    <a:pt x="358" y="553"/>
                  </a:lnTo>
                  <a:lnTo>
                    <a:pt x="358" y="558"/>
                  </a:lnTo>
                  <a:lnTo>
                    <a:pt x="357" y="566"/>
                  </a:lnTo>
                  <a:lnTo>
                    <a:pt x="355" y="571"/>
                  </a:lnTo>
                  <a:lnTo>
                    <a:pt x="352" y="577"/>
                  </a:lnTo>
                  <a:lnTo>
                    <a:pt x="350" y="582"/>
                  </a:lnTo>
                  <a:lnTo>
                    <a:pt x="347" y="585"/>
                  </a:lnTo>
                  <a:lnTo>
                    <a:pt x="344" y="587"/>
                  </a:lnTo>
                  <a:lnTo>
                    <a:pt x="339" y="587"/>
                  </a:lnTo>
                  <a:lnTo>
                    <a:pt x="336" y="587"/>
                  </a:lnTo>
                  <a:lnTo>
                    <a:pt x="331" y="585"/>
                  </a:lnTo>
                  <a:lnTo>
                    <a:pt x="328" y="579"/>
                  </a:lnTo>
                  <a:lnTo>
                    <a:pt x="323" y="577"/>
                  </a:lnTo>
                  <a:lnTo>
                    <a:pt x="320" y="574"/>
                  </a:lnTo>
                  <a:lnTo>
                    <a:pt x="317" y="569"/>
                  </a:lnTo>
                  <a:lnTo>
                    <a:pt x="312" y="566"/>
                  </a:lnTo>
                  <a:lnTo>
                    <a:pt x="309" y="563"/>
                  </a:lnTo>
                  <a:lnTo>
                    <a:pt x="306" y="558"/>
                  </a:lnTo>
                  <a:lnTo>
                    <a:pt x="301" y="556"/>
                  </a:lnTo>
                  <a:lnTo>
                    <a:pt x="298" y="550"/>
                  </a:lnTo>
                  <a:lnTo>
                    <a:pt x="293" y="548"/>
                  </a:lnTo>
                  <a:lnTo>
                    <a:pt x="290" y="542"/>
                  </a:lnTo>
                  <a:lnTo>
                    <a:pt x="285" y="540"/>
                  </a:lnTo>
                  <a:lnTo>
                    <a:pt x="282" y="537"/>
                  </a:lnTo>
                  <a:lnTo>
                    <a:pt x="279" y="535"/>
                  </a:lnTo>
                  <a:lnTo>
                    <a:pt x="275" y="529"/>
                  </a:lnTo>
                  <a:lnTo>
                    <a:pt x="274" y="527"/>
                  </a:lnTo>
                  <a:lnTo>
                    <a:pt x="266" y="516"/>
                  </a:lnTo>
                  <a:lnTo>
                    <a:pt x="259" y="506"/>
                  </a:lnTo>
                  <a:lnTo>
                    <a:pt x="251" y="495"/>
                  </a:lnTo>
                  <a:lnTo>
                    <a:pt x="247" y="485"/>
                  </a:lnTo>
                  <a:lnTo>
                    <a:pt x="240" y="474"/>
                  </a:lnTo>
                  <a:lnTo>
                    <a:pt x="234" y="463"/>
                  </a:lnTo>
                  <a:lnTo>
                    <a:pt x="228" y="453"/>
                  </a:lnTo>
                  <a:lnTo>
                    <a:pt x="221" y="442"/>
                  </a:lnTo>
                  <a:lnTo>
                    <a:pt x="215" y="429"/>
                  </a:lnTo>
                  <a:lnTo>
                    <a:pt x="210" y="419"/>
                  </a:lnTo>
                  <a:lnTo>
                    <a:pt x="204" y="408"/>
                  </a:lnTo>
                  <a:lnTo>
                    <a:pt x="197" y="398"/>
                  </a:lnTo>
                  <a:lnTo>
                    <a:pt x="191" y="384"/>
                  </a:lnTo>
                  <a:lnTo>
                    <a:pt x="184" y="377"/>
                  </a:lnTo>
                  <a:lnTo>
                    <a:pt x="176" y="366"/>
                  </a:lnTo>
                  <a:lnTo>
                    <a:pt x="170" y="358"/>
                  </a:lnTo>
                  <a:lnTo>
                    <a:pt x="157" y="340"/>
                  </a:lnTo>
                  <a:lnTo>
                    <a:pt x="146" y="324"/>
                  </a:lnTo>
                  <a:lnTo>
                    <a:pt x="133" y="306"/>
                  </a:lnTo>
                  <a:lnTo>
                    <a:pt x="122" y="290"/>
                  </a:lnTo>
                  <a:lnTo>
                    <a:pt x="111" y="274"/>
                  </a:lnTo>
                  <a:lnTo>
                    <a:pt x="100" y="256"/>
                  </a:lnTo>
                  <a:lnTo>
                    <a:pt x="89" y="240"/>
                  </a:lnTo>
                  <a:lnTo>
                    <a:pt x="79" y="224"/>
                  </a:lnTo>
                  <a:lnTo>
                    <a:pt x="68" y="205"/>
                  </a:lnTo>
                  <a:lnTo>
                    <a:pt x="59" y="187"/>
                  </a:lnTo>
                  <a:lnTo>
                    <a:pt x="49" y="169"/>
                  </a:lnTo>
                  <a:lnTo>
                    <a:pt x="39" y="150"/>
                  </a:lnTo>
                  <a:lnTo>
                    <a:pt x="30" y="132"/>
                  </a:lnTo>
                  <a:lnTo>
                    <a:pt x="22" y="111"/>
                  </a:lnTo>
                  <a:lnTo>
                    <a:pt x="12" y="90"/>
                  </a:lnTo>
                  <a:lnTo>
                    <a:pt x="6" y="69"/>
                  </a:lnTo>
                  <a:lnTo>
                    <a:pt x="1" y="53"/>
                  </a:lnTo>
                  <a:lnTo>
                    <a:pt x="0" y="42"/>
                  </a:lnTo>
                  <a:lnTo>
                    <a:pt x="0" y="29"/>
                  </a:lnTo>
                  <a:lnTo>
                    <a:pt x="3" y="21"/>
                  </a:lnTo>
                  <a:lnTo>
                    <a:pt x="6" y="13"/>
                  </a:lnTo>
                  <a:lnTo>
                    <a:pt x="12" y="8"/>
                  </a:lnTo>
                  <a:lnTo>
                    <a:pt x="17" y="3"/>
                  </a:lnTo>
                  <a:lnTo>
                    <a:pt x="25" y="3"/>
                  </a:lnTo>
                  <a:lnTo>
                    <a:pt x="33" y="0"/>
                  </a:lnTo>
                  <a:lnTo>
                    <a:pt x="41" y="3"/>
                  </a:lnTo>
                  <a:lnTo>
                    <a:pt x="49" y="8"/>
                  </a:lnTo>
                  <a:lnTo>
                    <a:pt x="55" y="13"/>
                  </a:lnTo>
                  <a:lnTo>
                    <a:pt x="63" y="21"/>
                  </a:lnTo>
                  <a:lnTo>
                    <a:pt x="68" y="32"/>
                  </a:lnTo>
                  <a:lnTo>
                    <a:pt x="73" y="48"/>
                  </a:lnTo>
                  <a:lnTo>
                    <a:pt x="76" y="63"/>
                  </a:lnTo>
                  <a:lnTo>
                    <a:pt x="76" y="63"/>
                  </a:lnTo>
                  <a:close/>
                </a:path>
              </a:pathLst>
            </a:custGeom>
            <a:solidFill>
              <a:srgbClr val="40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rot="2831400">
              <a:off x="912600" y="4424040"/>
              <a:ext cx="982440" cy="1063080"/>
            </a:xfrm>
            <a:custGeom>
              <a:avLst/>
              <a:gdLst/>
              <a:ahLst/>
              <a:rect l="l" t="t" r="r" b="b"/>
              <a:pathLst>
                <a:path w="338" h="440">
                  <a:moveTo>
                    <a:pt x="14" y="74"/>
                  </a:moveTo>
                  <a:lnTo>
                    <a:pt x="9" y="66"/>
                  </a:lnTo>
                  <a:lnTo>
                    <a:pt x="6" y="61"/>
                  </a:lnTo>
                  <a:lnTo>
                    <a:pt x="3" y="53"/>
                  </a:lnTo>
                  <a:lnTo>
                    <a:pt x="1" y="48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1" y="22"/>
                  </a:lnTo>
                  <a:lnTo>
                    <a:pt x="3" y="14"/>
                  </a:lnTo>
                  <a:lnTo>
                    <a:pt x="6" y="8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1" y="3"/>
                  </a:lnTo>
                  <a:lnTo>
                    <a:pt x="35" y="6"/>
                  </a:lnTo>
                  <a:lnTo>
                    <a:pt x="38" y="8"/>
                  </a:lnTo>
                  <a:lnTo>
                    <a:pt x="41" y="8"/>
                  </a:lnTo>
                  <a:lnTo>
                    <a:pt x="44" y="14"/>
                  </a:lnTo>
                  <a:lnTo>
                    <a:pt x="46" y="16"/>
                  </a:lnTo>
                  <a:lnTo>
                    <a:pt x="49" y="16"/>
                  </a:lnTo>
                  <a:lnTo>
                    <a:pt x="52" y="22"/>
                  </a:lnTo>
                  <a:lnTo>
                    <a:pt x="55" y="24"/>
                  </a:lnTo>
                  <a:lnTo>
                    <a:pt x="57" y="27"/>
                  </a:lnTo>
                  <a:lnTo>
                    <a:pt x="60" y="29"/>
                  </a:lnTo>
                  <a:lnTo>
                    <a:pt x="63" y="32"/>
                  </a:lnTo>
                  <a:lnTo>
                    <a:pt x="65" y="37"/>
                  </a:lnTo>
                  <a:lnTo>
                    <a:pt x="70" y="45"/>
                  </a:lnTo>
                  <a:lnTo>
                    <a:pt x="75" y="50"/>
                  </a:lnTo>
                  <a:lnTo>
                    <a:pt x="90" y="74"/>
                  </a:lnTo>
                  <a:lnTo>
                    <a:pt x="105" y="95"/>
                  </a:lnTo>
                  <a:lnTo>
                    <a:pt x="121" y="119"/>
                  </a:lnTo>
                  <a:lnTo>
                    <a:pt x="135" y="140"/>
                  </a:lnTo>
                  <a:lnTo>
                    <a:pt x="151" y="161"/>
                  </a:lnTo>
                  <a:lnTo>
                    <a:pt x="165" y="182"/>
                  </a:lnTo>
                  <a:lnTo>
                    <a:pt x="181" y="201"/>
                  </a:lnTo>
                  <a:lnTo>
                    <a:pt x="197" y="222"/>
                  </a:lnTo>
                  <a:lnTo>
                    <a:pt x="212" y="240"/>
                  </a:lnTo>
                  <a:lnTo>
                    <a:pt x="228" y="261"/>
                  </a:lnTo>
                  <a:lnTo>
                    <a:pt x="244" y="279"/>
                  </a:lnTo>
                  <a:lnTo>
                    <a:pt x="259" y="298"/>
                  </a:lnTo>
                  <a:lnTo>
                    <a:pt x="275" y="316"/>
                  </a:lnTo>
                  <a:lnTo>
                    <a:pt x="293" y="337"/>
                  </a:lnTo>
                  <a:lnTo>
                    <a:pt x="309" y="356"/>
                  </a:lnTo>
                  <a:lnTo>
                    <a:pt x="326" y="374"/>
                  </a:lnTo>
                  <a:lnTo>
                    <a:pt x="331" y="380"/>
                  </a:lnTo>
                  <a:lnTo>
                    <a:pt x="334" y="385"/>
                  </a:lnTo>
                  <a:lnTo>
                    <a:pt x="336" y="390"/>
                  </a:lnTo>
                  <a:lnTo>
                    <a:pt x="338" y="398"/>
                  </a:lnTo>
                  <a:lnTo>
                    <a:pt x="338" y="403"/>
                  </a:lnTo>
                  <a:lnTo>
                    <a:pt x="338" y="411"/>
                  </a:lnTo>
                  <a:lnTo>
                    <a:pt x="336" y="416"/>
                  </a:lnTo>
                  <a:lnTo>
                    <a:pt x="334" y="424"/>
                  </a:lnTo>
                  <a:lnTo>
                    <a:pt x="333" y="427"/>
                  </a:lnTo>
                  <a:lnTo>
                    <a:pt x="330" y="432"/>
                  </a:lnTo>
                  <a:lnTo>
                    <a:pt x="326" y="435"/>
                  </a:lnTo>
                  <a:lnTo>
                    <a:pt x="323" y="440"/>
                  </a:lnTo>
                  <a:lnTo>
                    <a:pt x="318" y="440"/>
                  </a:lnTo>
                  <a:lnTo>
                    <a:pt x="315" y="440"/>
                  </a:lnTo>
                  <a:lnTo>
                    <a:pt x="311" y="437"/>
                  </a:lnTo>
                  <a:lnTo>
                    <a:pt x="306" y="435"/>
                  </a:lnTo>
                  <a:lnTo>
                    <a:pt x="293" y="424"/>
                  </a:lnTo>
                  <a:lnTo>
                    <a:pt x="279" y="411"/>
                  </a:lnTo>
                  <a:lnTo>
                    <a:pt x="263" y="395"/>
                  </a:lnTo>
                  <a:lnTo>
                    <a:pt x="247" y="377"/>
                  </a:lnTo>
                  <a:lnTo>
                    <a:pt x="229" y="358"/>
                  </a:lnTo>
                  <a:lnTo>
                    <a:pt x="213" y="340"/>
                  </a:lnTo>
                  <a:lnTo>
                    <a:pt x="196" y="319"/>
                  </a:lnTo>
                  <a:lnTo>
                    <a:pt x="178" y="301"/>
                  </a:lnTo>
                  <a:lnTo>
                    <a:pt x="161" y="277"/>
                  </a:lnTo>
                  <a:lnTo>
                    <a:pt x="145" y="258"/>
                  </a:lnTo>
                  <a:lnTo>
                    <a:pt x="127" y="237"/>
                  </a:lnTo>
                  <a:lnTo>
                    <a:pt x="113" y="216"/>
                  </a:lnTo>
                  <a:lnTo>
                    <a:pt x="98" y="195"/>
                  </a:lnTo>
                  <a:lnTo>
                    <a:pt x="84" y="177"/>
                  </a:lnTo>
                  <a:lnTo>
                    <a:pt x="71" y="158"/>
                  </a:lnTo>
                  <a:lnTo>
                    <a:pt x="62" y="143"/>
                  </a:lnTo>
                  <a:lnTo>
                    <a:pt x="59" y="137"/>
                  </a:lnTo>
                  <a:lnTo>
                    <a:pt x="55" y="132"/>
                  </a:lnTo>
                  <a:lnTo>
                    <a:pt x="52" y="127"/>
                  </a:lnTo>
                  <a:lnTo>
                    <a:pt x="51" y="124"/>
                  </a:lnTo>
                  <a:lnTo>
                    <a:pt x="47" y="119"/>
                  </a:lnTo>
                  <a:lnTo>
                    <a:pt x="44" y="114"/>
                  </a:lnTo>
                  <a:lnTo>
                    <a:pt x="41" y="108"/>
                  </a:lnTo>
                  <a:lnTo>
                    <a:pt x="39" y="106"/>
                  </a:lnTo>
                  <a:lnTo>
                    <a:pt x="36" y="100"/>
                  </a:lnTo>
                  <a:lnTo>
                    <a:pt x="33" y="95"/>
                  </a:lnTo>
                  <a:lnTo>
                    <a:pt x="30" y="93"/>
                  </a:lnTo>
                  <a:lnTo>
                    <a:pt x="27" y="87"/>
                  </a:lnTo>
                  <a:lnTo>
                    <a:pt x="24" y="85"/>
                  </a:lnTo>
                  <a:lnTo>
                    <a:pt x="20" y="79"/>
                  </a:lnTo>
                  <a:lnTo>
                    <a:pt x="17" y="77"/>
                  </a:lnTo>
                  <a:lnTo>
                    <a:pt x="14" y="74"/>
                  </a:lnTo>
                  <a:lnTo>
                    <a:pt x="14" y="74"/>
                  </a:lnTo>
                  <a:close/>
                </a:path>
              </a:pathLst>
            </a:custGeom>
            <a:solidFill>
              <a:srgbClr val="40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2831400">
              <a:off x="1373040" y="3508200"/>
              <a:ext cx="668520" cy="1191600"/>
            </a:xfrm>
            <a:custGeom>
              <a:avLst/>
              <a:gdLst/>
              <a:ahLst/>
              <a:rect l="l" t="t" r="r" b="b"/>
              <a:pathLst>
                <a:path w="230" h="493">
                  <a:moveTo>
                    <a:pt x="177" y="195"/>
                  </a:moveTo>
                  <a:lnTo>
                    <a:pt x="185" y="206"/>
                  </a:lnTo>
                  <a:lnTo>
                    <a:pt x="190" y="216"/>
                  </a:lnTo>
                  <a:lnTo>
                    <a:pt x="193" y="224"/>
                  </a:lnTo>
                  <a:lnTo>
                    <a:pt x="195" y="235"/>
                  </a:lnTo>
                  <a:lnTo>
                    <a:pt x="195" y="243"/>
                  </a:lnTo>
                  <a:lnTo>
                    <a:pt x="195" y="251"/>
                  </a:lnTo>
                  <a:lnTo>
                    <a:pt x="192" y="258"/>
                  </a:lnTo>
                  <a:lnTo>
                    <a:pt x="188" y="266"/>
                  </a:lnTo>
                  <a:lnTo>
                    <a:pt x="184" y="272"/>
                  </a:lnTo>
                  <a:lnTo>
                    <a:pt x="177" y="277"/>
                  </a:lnTo>
                  <a:lnTo>
                    <a:pt x="171" y="282"/>
                  </a:lnTo>
                  <a:lnTo>
                    <a:pt x="165" y="287"/>
                  </a:lnTo>
                  <a:lnTo>
                    <a:pt x="158" y="287"/>
                  </a:lnTo>
                  <a:lnTo>
                    <a:pt x="150" y="290"/>
                  </a:lnTo>
                  <a:lnTo>
                    <a:pt x="142" y="287"/>
                  </a:lnTo>
                  <a:lnTo>
                    <a:pt x="136" y="287"/>
                  </a:lnTo>
                  <a:lnTo>
                    <a:pt x="133" y="293"/>
                  </a:lnTo>
                  <a:lnTo>
                    <a:pt x="129" y="301"/>
                  </a:lnTo>
                  <a:lnTo>
                    <a:pt x="128" y="306"/>
                  </a:lnTo>
                  <a:lnTo>
                    <a:pt x="125" y="314"/>
                  </a:lnTo>
                  <a:lnTo>
                    <a:pt x="121" y="319"/>
                  </a:lnTo>
                  <a:lnTo>
                    <a:pt x="120" y="327"/>
                  </a:lnTo>
                  <a:lnTo>
                    <a:pt x="117" y="332"/>
                  </a:lnTo>
                  <a:lnTo>
                    <a:pt x="114" y="337"/>
                  </a:lnTo>
                  <a:lnTo>
                    <a:pt x="110" y="343"/>
                  </a:lnTo>
                  <a:lnTo>
                    <a:pt x="107" y="351"/>
                  </a:lnTo>
                  <a:lnTo>
                    <a:pt x="104" y="356"/>
                  </a:lnTo>
                  <a:lnTo>
                    <a:pt x="102" y="361"/>
                  </a:lnTo>
                  <a:lnTo>
                    <a:pt x="99" y="369"/>
                  </a:lnTo>
                  <a:lnTo>
                    <a:pt x="96" y="374"/>
                  </a:lnTo>
                  <a:lnTo>
                    <a:pt x="93" y="382"/>
                  </a:lnTo>
                  <a:lnTo>
                    <a:pt x="90" y="387"/>
                  </a:lnTo>
                  <a:lnTo>
                    <a:pt x="88" y="393"/>
                  </a:lnTo>
                  <a:lnTo>
                    <a:pt x="86" y="398"/>
                  </a:lnTo>
                  <a:lnTo>
                    <a:pt x="85" y="401"/>
                  </a:lnTo>
                  <a:lnTo>
                    <a:pt x="83" y="406"/>
                  </a:lnTo>
                  <a:lnTo>
                    <a:pt x="82" y="411"/>
                  </a:lnTo>
                  <a:lnTo>
                    <a:pt x="80" y="416"/>
                  </a:lnTo>
                  <a:lnTo>
                    <a:pt x="78" y="422"/>
                  </a:lnTo>
                  <a:lnTo>
                    <a:pt x="77" y="427"/>
                  </a:lnTo>
                  <a:lnTo>
                    <a:pt x="77" y="430"/>
                  </a:lnTo>
                  <a:lnTo>
                    <a:pt x="75" y="435"/>
                  </a:lnTo>
                  <a:lnTo>
                    <a:pt x="74" y="440"/>
                  </a:lnTo>
                  <a:lnTo>
                    <a:pt x="72" y="445"/>
                  </a:lnTo>
                  <a:lnTo>
                    <a:pt x="70" y="448"/>
                  </a:lnTo>
                  <a:lnTo>
                    <a:pt x="70" y="453"/>
                  </a:lnTo>
                  <a:lnTo>
                    <a:pt x="69" y="458"/>
                  </a:lnTo>
                  <a:lnTo>
                    <a:pt x="67" y="464"/>
                  </a:lnTo>
                  <a:lnTo>
                    <a:pt x="61" y="472"/>
                  </a:lnTo>
                  <a:lnTo>
                    <a:pt x="56" y="482"/>
                  </a:lnTo>
                  <a:lnTo>
                    <a:pt x="50" y="487"/>
                  </a:lnTo>
                  <a:lnTo>
                    <a:pt x="45" y="490"/>
                  </a:lnTo>
                  <a:lnTo>
                    <a:pt x="37" y="493"/>
                  </a:lnTo>
                  <a:lnTo>
                    <a:pt x="31" y="490"/>
                  </a:lnTo>
                  <a:lnTo>
                    <a:pt x="26" y="490"/>
                  </a:lnTo>
                  <a:lnTo>
                    <a:pt x="19" y="485"/>
                  </a:lnTo>
                  <a:lnTo>
                    <a:pt x="13" y="477"/>
                  </a:lnTo>
                  <a:lnTo>
                    <a:pt x="10" y="472"/>
                  </a:lnTo>
                  <a:lnTo>
                    <a:pt x="5" y="464"/>
                  </a:lnTo>
                  <a:lnTo>
                    <a:pt x="3" y="453"/>
                  </a:lnTo>
                  <a:lnTo>
                    <a:pt x="2" y="443"/>
                  </a:lnTo>
                  <a:lnTo>
                    <a:pt x="0" y="432"/>
                  </a:lnTo>
                  <a:lnTo>
                    <a:pt x="2" y="419"/>
                  </a:lnTo>
                  <a:lnTo>
                    <a:pt x="7" y="408"/>
                  </a:lnTo>
                  <a:lnTo>
                    <a:pt x="10" y="393"/>
                  </a:lnTo>
                  <a:lnTo>
                    <a:pt x="15" y="380"/>
                  </a:lnTo>
                  <a:lnTo>
                    <a:pt x="19" y="364"/>
                  </a:lnTo>
                  <a:lnTo>
                    <a:pt x="26" y="351"/>
                  </a:lnTo>
                  <a:lnTo>
                    <a:pt x="31" y="335"/>
                  </a:lnTo>
                  <a:lnTo>
                    <a:pt x="37" y="319"/>
                  </a:lnTo>
                  <a:lnTo>
                    <a:pt x="42" y="306"/>
                  </a:lnTo>
                  <a:lnTo>
                    <a:pt x="48" y="293"/>
                  </a:lnTo>
                  <a:lnTo>
                    <a:pt x="55" y="277"/>
                  </a:lnTo>
                  <a:lnTo>
                    <a:pt x="62" y="264"/>
                  </a:lnTo>
                  <a:lnTo>
                    <a:pt x="69" y="248"/>
                  </a:lnTo>
                  <a:lnTo>
                    <a:pt x="75" y="235"/>
                  </a:lnTo>
                  <a:lnTo>
                    <a:pt x="82" y="222"/>
                  </a:lnTo>
                  <a:lnTo>
                    <a:pt x="90" y="211"/>
                  </a:lnTo>
                  <a:lnTo>
                    <a:pt x="96" y="201"/>
                  </a:lnTo>
                  <a:lnTo>
                    <a:pt x="102" y="193"/>
                  </a:lnTo>
                  <a:lnTo>
                    <a:pt x="104" y="182"/>
                  </a:lnTo>
                  <a:lnTo>
                    <a:pt x="107" y="174"/>
                  </a:lnTo>
                  <a:lnTo>
                    <a:pt x="110" y="164"/>
                  </a:lnTo>
                  <a:lnTo>
                    <a:pt x="115" y="153"/>
                  </a:lnTo>
                  <a:lnTo>
                    <a:pt x="120" y="140"/>
                  </a:lnTo>
                  <a:lnTo>
                    <a:pt x="126" y="129"/>
                  </a:lnTo>
                  <a:lnTo>
                    <a:pt x="131" y="116"/>
                  </a:lnTo>
                  <a:lnTo>
                    <a:pt x="139" y="106"/>
                  </a:lnTo>
                  <a:lnTo>
                    <a:pt x="145" y="93"/>
                  </a:lnTo>
                  <a:lnTo>
                    <a:pt x="152" y="82"/>
                  </a:lnTo>
                  <a:lnTo>
                    <a:pt x="158" y="69"/>
                  </a:lnTo>
                  <a:lnTo>
                    <a:pt x="165" y="58"/>
                  </a:lnTo>
                  <a:lnTo>
                    <a:pt x="171" y="45"/>
                  </a:lnTo>
                  <a:lnTo>
                    <a:pt x="177" y="35"/>
                  </a:lnTo>
                  <a:lnTo>
                    <a:pt x="182" y="27"/>
                  </a:lnTo>
                  <a:lnTo>
                    <a:pt x="185" y="19"/>
                  </a:lnTo>
                  <a:lnTo>
                    <a:pt x="188" y="11"/>
                  </a:lnTo>
                  <a:lnTo>
                    <a:pt x="193" y="6"/>
                  </a:lnTo>
                  <a:lnTo>
                    <a:pt x="198" y="3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3"/>
                  </a:lnTo>
                  <a:lnTo>
                    <a:pt x="216" y="6"/>
                  </a:lnTo>
                  <a:lnTo>
                    <a:pt x="220" y="11"/>
                  </a:lnTo>
                  <a:lnTo>
                    <a:pt x="222" y="14"/>
                  </a:lnTo>
                  <a:lnTo>
                    <a:pt x="225" y="19"/>
                  </a:lnTo>
                  <a:lnTo>
                    <a:pt x="228" y="24"/>
                  </a:lnTo>
                  <a:lnTo>
                    <a:pt x="230" y="32"/>
                  </a:lnTo>
                  <a:lnTo>
                    <a:pt x="230" y="40"/>
                  </a:lnTo>
                  <a:lnTo>
                    <a:pt x="230" y="48"/>
                  </a:lnTo>
                  <a:lnTo>
                    <a:pt x="228" y="56"/>
                  </a:lnTo>
                  <a:lnTo>
                    <a:pt x="225" y="66"/>
                  </a:lnTo>
                  <a:lnTo>
                    <a:pt x="222" y="74"/>
                  </a:lnTo>
                  <a:lnTo>
                    <a:pt x="219" y="82"/>
                  </a:lnTo>
                  <a:lnTo>
                    <a:pt x="217" y="90"/>
                  </a:lnTo>
                  <a:lnTo>
                    <a:pt x="214" y="98"/>
                  </a:lnTo>
                  <a:lnTo>
                    <a:pt x="211" y="106"/>
                  </a:lnTo>
                  <a:lnTo>
                    <a:pt x="208" y="114"/>
                  </a:lnTo>
                  <a:lnTo>
                    <a:pt x="206" y="122"/>
                  </a:lnTo>
                  <a:lnTo>
                    <a:pt x="203" y="132"/>
                  </a:lnTo>
                  <a:lnTo>
                    <a:pt x="200" y="140"/>
                  </a:lnTo>
                  <a:lnTo>
                    <a:pt x="196" y="148"/>
                  </a:lnTo>
                  <a:lnTo>
                    <a:pt x="195" y="156"/>
                  </a:lnTo>
                  <a:lnTo>
                    <a:pt x="192" y="164"/>
                  </a:lnTo>
                  <a:lnTo>
                    <a:pt x="188" y="172"/>
                  </a:lnTo>
                  <a:lnTo>
                    <a:pt x="185" y="179"/>
                  </a:lnTo>
                  <a:lnTo>
                    <a:pt x="182" y="187"/>
                  </a:lnTo>
                  <a:lnTo>
                    <a:pt x="177" y="195"/>
                  </a:lnTo>
                  <a:lnTo>
                    <a:pt x="177" y="195"/>
                  </a:lnTo>
                  <a:close/>
                </a:path>
              </a:pathLst>
            </a:custGeom>
            <a:solidFill>
              <a:srgbClr val="40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rot="2831400">
              <a:off x="929160" y="3769920"/>
              <a:ext cx="2018160" cy="1635840"/>
            </a:xfrm>
            <a:custGeom>
              <a:avLst/>
              <a:gdLst/>
              <a:ahLst/>
              <a:rect l="l" t="t" r="r" b="b"/>
              <a:pathLst>
                <a:path w="694" h="677">
                  <a:moveTo>
                    <a:pt x="42" y="5"/>
                  </a:moveTo>
                  <a:lnTo>
                    <a:pt x="50" y="13"/>
                  </a:lnTo>
                  <a:lnTo>
                    <a:pt x="59" y="21"/>
                  </a:lnTo>
                  <a:lnTo>
                    <a:pt x="69" y="32"/>
                  </a:lnTo>
                  <a:lnTo>
                    <a:pt x="77" y="40"/>
                  </a:lnTo>
                  <a:lnTo>
                    <a:pt x="87" y="50"/>
                  </a:lnTo>
                  <a:lnTo>
                    <a:pt x="96" y="58"/>
                  </a:lnTo>
                  <a:lnTo>
                    <a:pt x="104" y="69"/>
                  </a:lnTo>
                  <a:lnTo>
                    <a:pt x="114" y="76"/>
                  </a:lnTo>
                  <a:lnTo>
                    <a:pt x="122" y="87"/>
                  </a:lnTo>
                  <a:lnTo>
                    <a:pt x="131" y="98"/>
                  </a:lnTo>
                  <a:lnTo>
                    <a:pt x="139" y="108"/>
                  </a:lnTo>
                  <a:lnTo>
                    <a:pt x="149" y="119"/>
                  </a:lnTo>
                  <a:lnTo>
                    <a:pt x="158" y="127"/>
                  </a:lnTo>
                  <a:lnTo>
                    <a:pt x="168" y="137"/>
                  </a:lnTo>
                  <a:lnTo>
                    <a:pt x="176" y="145"/>
                  </a:lnTo>
                  <a:lnTo>
                    <a:pt x="185" y="155"/>
                  </a:lnTo>
                  <a:lnTo>
                    <a:pt x="206" y="174"/>
                  </a:lnTo>
                  <a:lnTo>
                    <a:pt x="225" y="192"/>
                  </a:lnTo>
                  <a:lnTo>
                    <a:pt x="246" y="211"/>
                  </a:lnTo>
                  <a:lnTo>
                    <a:pt x="265" y="232"/>
                  </a:lnTo>
                  <a:lnTo>
                    <a:pt x="286" y="250"/>
                  </a:lnTo>
                  <a:lnTo>
                    <a:pt x="307" y="269"/>
                  </a:lnTo>
                  <a:lnTo>
                    <a:pt x="326" y="287"/>
                  </a:lnTo>
                  <a:lnTo>
                    <a:pt x="347" y="305"/>
                  </a:lnTo>
                  <a:lnTo>
                    <a:pt x="367" y="321"/>
                  </a:lnTo>
                  <a:lnTo>
                    <a:pt x="388" y="340"/>
                  </a:lnTo>
                  <a:lnTo>
                    <a:pt x="407" y="358"/>
                  </a:lnTo>
                  <a:lnTo>
                    <a:pt x="428" y="379"/>
                  </a:lnTo>
                  <a:lnTo>
                    <a:pt x="449" y="398"/>
                  </a:lnTo>
                  <a:lnTo>
                    <a:pt x="468" y="416"/>
                  </a:lnTo>
                  <a:lnTo>
                    <a:pt x="487" y="437"/>
                  </a:lnTo>
                  <a:lnTo>
                    <a:pt x="508" y="458"/>
                  </a:lnTo>
                  <a:lnTo>
                    <a:pt x="519" y="469"/>
                  </a:lnTo>
                  <a:lnTo>
                    <a:pt x="530" y="479"/>
                  </a:lnTo>
                  <a:lnTo>
                    <a:pt x="541" y="487"/>
                  </a:lnTo>
                  <a:lnTo>
                    <a:pt x="552" y="498"/>
                  </a:lnTo>
                  <a:lnTo>
                    <a:pt x="562" y="508"/>
                  </a:lnTo>
                  <a:lnTo>
                    <a:pt x="573" y="516"/>
                  </a:lnTo>
                  <a:lnTo>
                    <a:pt x="584" y="527"/>
                  </a:lnTo>
                  <a:lnTo>
                    <a:pt x="595" y="535"/>
                  </a:lnTo>
                  <a:lnTo>
                    <a:pt x="606" y="545"/>
                  </a:lnTo>
                  <a:lnTo>
                    <a:pt x="618" y="553"/>
                  </a:lnTo>
                  <a:lnTo>
                    <a:pt x="629" y="563"/>
                  </a:lnTo>
                  <a:lnTo>
                    <a:pt x="640" y="574"/>
                  </a:lnTo>
                  <a:lnTo>
                    <a:pt x="651" y="585"/>
                  </a:lnTo>
                  <a:lnTo>
                    <a:pt x="662" y="595"/>
                  </a:lnTo>
                  <a:lnTo>
                    <a:pt x="673" y="608"/>
                  </a:lnTo>
                  <a:lnTo>
                    <a:pt x="685" y="621"/>
                  </a:lnTo>
                  <a:lnTo>
                    <a:pt x="688" y="627"/>
                  </a:lnTo>
                  <a:lnTo>
                    <a:pt x="691" y="632"/>
                  </a:lnTo>
                  <a:lnTo>
                    <a:pt x="691" y="637"/>
                  </a:lnTo>
                  <a:lnTo>
                    <a:pt x="693" y="642"/>
                  </a:lnTo>
                  <a:lnTo>
                    <a:pt x="694" y="650"/>
                  </a:lnTo>
                  <a:lnTo>
                    <a:pt x="694" y="656"/>
                  </a:lnTo>
                  <a:lnTo>
                    <a:pt x="693" y="661"/>
                  </a:lnTo>
                  <a:lnTo>
                    <a:pt x="691" y="666"/>
                  </a:lnTo>
                  <a:lnTo>
                    <a:pt x="688" y="671"/>
                  </a:lnTo>
                  <a:lnTo>
                    <a:pt x="685" y="674"/>
                  </a:lnTo>
                  <a:lnTo>
                    <a:pt x="681" y="677"/>
                  </a:lnTo>
                  <a:lnTo>
                    <a:pt x="677" y="677"/>
                  </a:lnTo>
                  <a:lnTo>
                    <a:pt x="670" y="677"/>
                  </a:lnTo>
                  <a:lnTo>
                    <a:pt x="664" y="674"/>
                  </a:lnTo>
                  <a:lnTo>
                    <a:pt x="654" y="669"/>
                  </a:lnTo>
                  <a:lnTo>
                    <a:pt x="646" y="661"/>
                  </a:lnTo>
                  <a:lnTo>
                    <a:pt x="637" y="653"/>
                  </a:lnTo>
                  <a:lnTo>
                    <a:pt x="626" y="642"/>
                  </a:lnTo>
                  <a:lnTo>
                    <a:pt x="616" y="635"/>
                  </a:lnTo>
                  <a:lnTo>
                    <a:pt x="606" y="624"/>
                  </a:lnTo>
                  <a:lnTo>
                    <a:pt x="595" y="616"/>
                  </a:lnTo>
                  <a:lnTo>
                    <a:pt x="586" y="606"/>
                  </a:lnTo>
                  <a:lnTo>
                    <a:pt x="576" y="598"/>
                  </a:lnTo>
                  <a:lnTo>
                    <a:pt x="567" y="587"/>
                  </a:lnTo>
                  <a:lnTo>
                    <a:pt x="555" y="577"/>
                  </a:lnTo>
                  <a:lnTo>
                    <a:pt x="546" y="569"/>
                  </a:lnTo>
                  <a:lnTo>
                    <a:pt x="536" y="558"/>
                  </a:lnTo>
                  <a:lnTo>
                    <a:pt x="525" y="550"/>
                  </a:lnTo>
                  <a:lnTo>
                    <a:pt x="516" y="540"/>
                  </a:lnTo>
                  <a:lnTo>
                    <a:pt x="506" y="529"/>
                  </a:lnTo>
                  <a:lnTo>
                    <a:pt x="496" y="519"/>
                  </a:lnTo>
                  <a:lnTo>
                    <a:pt x="487" y="511"/>
                  </a:lnTo>
                  <a:lnTo>
                    <a:pt x="476" y="498"/>
                  </a:lnTo>
                  <a:lnTo>
                    <a:pt x="464" y="490"/>
                  </a:lnTo>
                  <a:lnTo>
                    <a:pt x="453" y="479"/>
                  </a:lnTo>
                  <a:lnTo>
                    <a:pt x="444" y="471"/>
                  </a:lnTo>
                  <a:lnTo>
                    <a:pt x="431" y="461"/>
                  </a:lnTo>
                  <a:lnTo>
                    <a:pt x="420" y="453"/>
                  </a:lnTo>
                  <a:lnTo>
                    <a:pt x="409" y="445"/>
                  </a:lnTo>
                  <a:lnTo>
                    <a:pt x="398" y="437"/>
                  </a:lnTo>
                  <a:lnTo>
                    <a:pt x="386" y="429"/>
                  </a:lnTo>
                  <a:lnTo>
                    <a:pt x="375" y="421"/>
                  </a:lnTo>
                  <a:lnTo>
                    <a:pt x="364" y="413"/>
                  </a:lnTo>
                  <a:lnTo>
                    <a:pt x="353" y="406"/>
                  </a:lnTo>
                  <a:lnTo>
                    <a:pt x="340" y="398"/>
                  </a:lnTo>
                  <a:lnTo>
                    <a:pt x="329" y="387"/>
                  </a:lnTo>
                  <a:lnTo>
                    <a:pt x="318" y="379"/>
                  </a:lnTo>
                  <a:lnTo>
                    <a:pt x="308" y="371"/>
                  </a:lnTo>
                  <a:lnTo>
                    <a:pt x="299" y="363"/>
                  </a:lnTo>
                  <a:lnTo>
                    <a:pt x="289" y="356"/>
                  </a:lnTo>
                  <a:lnTo>
                    <a:pt x="280" y="345"/>
                  </a:lnTo>
                  <a:lnTo>
                    <a:pt x="270" y="337"/>
                  </a:lnTo>
                  <a:lnTo>
                    <a:pt x="260" y="329"/>
                  </a:lnTo>
                  <a:lnTo>
                    <a:pt x="252" y="319"/>
                  </a:lnTo>
                  <a:lnTo>
                    <a:pt x="243" y="311"/>
                  </a:lnTo>
                  <a:lnTo>
                    <a:pt x="233" y="303"/>
                  </a:lnTo>
                  <a:lnTo>
                    <a:pt x="224" y="292"/>
                  </a:lnTo>
                  <a:lnTo>
                    <a:pt x="214" y="282"/>
                  </a:lnTo>
                  <a:lnTo>
                    <a:pt x="205" y="274"/>
                  </a:lnTo>
                  <a:lnTo>
                    <a:pt x="195" y="266"/>
                  </a:lnTo>
                  <a:lnTo>
                    <a:pt x="185" y="255"/>
                  </a:lnTo>
                  <a:lnTo>
                    <a:pt x="177" y="248"/>
                  </a:lnTo>
                  <a:lnTo>
                    <a:pt x="168" y="237"/>
                  </a:lnTo>
                  <a:lnTo>
                    <a:pt x="158" y="229"/>
                  </a:lnTo>
                  <a:lnTo>
                    <a:pt x="150" y="221"/>
                  </a:lnTo>
                  <a:lnTo>
                    <a:pt x="141" y="211"/>
                  </a:lnTo>
                  <a:lnTo>
                    <a:pt x="131" y="203"/>
                  </a:lnTo>
                  <a:lnTo>
                    <a:pt x="123" y="195"/>
                  </a:lnTo>
                  <a:lnTo>
                    <a:pt x="114" y="184"/>
                  </a:lnTo>
                  <a:lnTo>
                    <a:pt x="104" y="174"/>
                  </a:lnTo>
                  <a:lnTo>
                    <a:pt x="96" y="166"/>
                  </a:lnTo>
                  <a:lnTo>
                    <a:pt x="87" y="155"/>
                  </a:lnTo>
                  <a:lnTo>
                    <a:pt x="77" y="148"/>
                  </a:lnTo>
                  <a:lnTo>
                    <a:pt x="69" y="137"/>
                  </a:lnTo>
                  <a:lnTo>
                    <a:pt x="59" y="127"/>
                  </a:lnTo>
                  <a:lnTo>
                    <a:pt x="52" y="119"/>
                  </a:lnTo>
                  <a:lnTo>
                    <a:pt x="42" y="108"/>
                  </a:lnTo>
                  <a:lnTo>
                    <a:pt x="32" y="100"/>
                  </a:lnTo>
                  <a:lnTo>
                    <a:pt x="24" y="92"/>
                  </a:lnTo>
                  <a:lnTo>
                    <a:pt x="15" y="84"/>
                  </a:lnTo>
                  <a:lnTo>
                    <a:pt x="10" y="76"/>
                  </a:lnTo>
                  <a:lnTo>
                    <a:pt x="7" y="69"/>
                  </a:lnTo>
                  <a:lnTo>
                    <a:pt x="4" y="61"/>
                  </a:lnTo>
                  <a:lnTo>
                    <a:pt x="2" y="53"/>
                  </a:lnTo>
                  <a:lnTo>
                    <a:pt x="0" y="45"/>
                  </a:lnTo>
                  <a:lnTo>
                    <a:pt x="2" y="37"/>
                  </a:lnTo>
                  <a:lnTo>
                    <a:pt x="2" y="32"/>
                  </a:lnTo>
                  <a:lnTo>
                    <a:pt x="5" y="24"/>
                  </a:lnTo>
                  <a:lnTo>
                    <a:pt x="7" y="16"/>
                  </a:lnTo>
                  <a:lnTo>
                    <a:pt x="10" y="11"/>
                  </a:lnTo>
                  <a:lnTo>
                    <a:pt x="15" y="5"/>
                  </a:lnTo>
                  <a:lnTo>
                    <a:pt x="20" y="3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4" y="3"/>
                  </a:lnTo>
                  <a:lnTo>
                    <a:pt x="42" y="5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a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rot="2831400">
              <a:off x="1567080" y="2410200"/>
              <a:ext cx="296640" cy="37476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37" y="18"/>
                  </a:moveTo>
                  <a:lnTo>
                    <a:pt x="38" y="26"/>
                  </a:lnTo>
                  <a:lnTo>
                    <a:pt x="40" y="31"/>
                  </a:lnTo>
                  <a:lnTo>
                    <a:pt x="43" y="36"/>
                  </a:lnTo>
                  <a:lnTo>
                    <a:pt x="46" y="42"/>
                  </a:lnTo>
                  <a:lnTo>
                    <a:pt x="50" y="47"/>
                  </a:lnTo>
                  <a:lnTo>
                    <a:pt x="51" y="52"/>
                  </a:lnTo>
                  <a:lnTo>
                    <a:pt x="54" y="55"/>
                  </a:lnTo>
                  <a:lnTo>
                    <a:pt x="59" y="57"/>
                  </a:lnTo>
                  <a:lnTo>
                    <a:pt x="62" y="63"/>
                  </a:lnTo>
                  <a:lnTo>
                    <a:pt x="66" y="65"/>
                  </a:lnTo>
                  <a:lnTo>
                    <a:pt x="70" y="68"/>
                  </a:lnTo>
                  <a:lnTo>
                    <a:pt x="74" y="71"/>
                  </a:lnTo>
                  <a:lnTo>
                    <a:pt x="78" y="73"/>
                  </a:lnTo>
                  <a:lnTo>
                    <a:pt x="82" y="78"/>
                  </a:lnTo>
                  <a:lnTo>
                    <a:pt x="86" y="81"/>
                  </a:lnTo>
                  <a:lnTo>
                    <a:pt x="91" y="86"/>
                  </a:lnTo>
                  <a:lnTo>
                    <a:pt x="96" y="89"/>
                  </a:lnTo>
                  <a:lnTo>
                    <a:pt x="99" y="94"/>
                  </a:lnTo>
                  <a:lnTo>
                    <a:pt x="101" y="100"/>
                  </a:lnTo>
                  <a:lnTo>
                    <a:pt x="102" y="107"/>
                  </a:lnTo>
                  <a:lnTo>
                    <a:pt x="102" y="115"/>
                  </a:lnTo>
                  <a:lnTo>
                    <a:pt x="102" y="121"/>
                  </a:lnTo>
                  <a:lnTo>
                    <a:pt x="101" y="128"/>
                  </a:lnTo>
                  <a:lnTo>
                    <a:pt x="99" y="134"/>
                  </a:lnTo>
                  <a:lnTo>
                    <a:pt x="97" y="139"/>
                  </a:lnTo>
                  <a:lnTo>
                    <a:pt x="94" y="147"/>
                  </a:lnTo>
                  <a:lnTo>
                    <a:pt x="91" y="150"/>
                  </a:lnTo>
                  <a:lnTo>
                    <a:pt x="88" y="152"/>
                  </a:lnTo>
                  <a:lnTo>
                    <a:pt x="83" y="155"/>
                  </a:lnTo>
                  <a:lnTo>
                    <a:pt x="78" y="155"/>
                  </a:lnTo>
                  <a:lnTo>
                    <a:pt x="74" y="155"/>
                  </a:lnTo>
                  <a:lnTo>
                    <a:pt x="69" y="152"/>
                  </a:lnTo>
                  <a:lnTo>
                    <a:pt x="64" y="147"/>
                  </a:lnTo>
                  <a:lnTo>
                    <a:pt x="58" y="142"/>
                  </a:lnTo>
                  <a:lnTo>
                    <a:pt x="53" y="136"/>
                  </a:lnTo>
                  <a:lnTo>
                    <a:pt x="48" y="131"/>
                  </a:lnTo>
                  <a:lnTo>
                    <a:pt x="43" y="123"/>
                  </a:lnTo>
                  <a:lnTo>
                    <a:pt x="38" y="118"/>
                  </a:lnTo>
                  <a:lnTo>
                    <a:pt x="34" y="113"/>
                  </a:lnTo>
                  <a:lnTo>
                    <a:pt x="29" y="107"/>
                  </a:lnTo>
                  <a:lnTo>
                    <a:pt x="26" y="100"/>
                  </a:lnTo>
                  <a:lnTo>
                    <a:pt x="21" y="94"/>
                  </a:lnTo>
                  <a:lnTo>
                    <a:pt x="18" y="86"/>
                  </a:lnTo>
                  <a:lnTo>
                    <a:pt x="15" y="81"/>
                  </a:lnTo>
                  <a:lnTo>
                    <a:pt x="11" y="71"/>
                  </a:lnTo>
                  <a:lnTo>
                    <a:pt x="8" y="63"/>
                  </a:lnTo>
                  <a:lnTo>
                    <a:pt x="5" y="55"/>
                  </a:lnTo>
                  <a:lnTo>
                    <a:pt x="2" y="44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2" y="21"/>
                  </a:lnTo>
                  <a:lnTo>
                    <a:pt x="3" y="15"/>
                  </a:lnTo>
                  <a:lnTo>
                    <a:pt x="5" y="10"/>
                  </a:lnTo>
                  <a:lnTo>
                    <a:pt x="8" y="5"/>
                  </a:lnTo>
                  <a:lnTo>
                    <a:pt x="11" y="5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32" y="7"/>
                  </a:lnTo>
                  <a:lnTo>
                    <a:pt x="34" y="13"/>
                  </a:lnTo>
                  <a:lnTo>
                    <a:pt x="37" y="18"/>
                  </a:lnTo>
                  <a:lnTo>
                    <a:pt x="37" y="18"/>
                  </a:lnTo>
                  <a:close/>
                </a:path>
              </a:pathLst>
            </a:custGeom>
            <a:solidFill>
              <a:srgbClr val="b8f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rot="2831400">
              <a:off x="1726920" y="2221920"/>
              <a:ext cx="113400" cy="183600"/>
            </a:xfrm>
            <a:custGeom>
              <a:avLst/>
              <a:gdLst/>
              <a:ahLst/>
              <a:rect l="l" t="t" r="r" b="b"/>
              <a:pathLst>
                <a:path w="39" h="76">
                  <a:moveTo>
                    <a:pt x="34" y="18"/>
                  </a:moveTo>
                  <a:lnTo>
                    <a:pt x="37" y="29"/>
                  </a:lnTo>
                  <a:lnTo>
                    <a:pt x="39" y="37"/>
                  </a:lnTo>
                  <a:lnTo>
                    <a:pt x="39" y="47"/>
                  </a:lnTo>
                  <a:lnTo>
                    <a:pt x="39" y="55"/>
                  </a:lnTo>
                  <a:lnTo>
                    <a:pt x="37" y="61"/>
                  </a:lnTo>
                  <a:lnTo>
                    <a:pt x="35" y="66"/>
                  </a:lnTo>
                  <a:lnTo>
                    <a:pt x="32" y="68"/>
                  </a:lnTo>
                  <a:lnTo>
                    <a:pt x="29" y="74"/>
                  </a:lnTo>
                  <a:lnTo>
                    <a:pt x="24" y="74"/>
                  </a:lnTo>
                  <a:lnTo>
                    <a:pt x="21" y="76"/>
                  </a:lnTo>
                  <a:lnTo>
                    <a:pt x="18" y="74"/>
                  </a:lnTo>
                  <a:lnTo>
                    <a:pt x="13" y="74"/>
                  </a:lnTo>
                  <a:lnTo>
                    <a:pt x="10" y="71"/>
                  </a:lnTo>
                  <a:lnTo>
                    <a:pt x="7" y="68"/>
                  </a:lnTo>
                  <a:lnTo>
                    <a:pt x="5" y="63"/>
                  </a:lnTo>
                  <a:lnTo>
                    <a:pt x="3" y="58"/>
                  </a:lnTo>
                  <a:lnTo>
                    <a:pt x="2" y="45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2" y="21"/>
                  </a:lnTo>
                  <a:lnTo>
                    <a:pt x="2" y="13"/>
                  </a:lnTo>
                  <a:lnTo>
                    <a:pt x="5" y="11"/>
                  </a:lnTo>
                  <a:lnTo>
                    <a:pt x="7" y="5"/>
                  </a:lnTo>
                  <a:lnTo>
                    <a:pt x="10" y="3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8"/>
                  </a:lnTo>
                  <a:lnTo>
                    <a:pt x="31" y="11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b8f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rot="2831400">
              <a:off x="1697400" y="4147920"/>
              <a:ext cx="218160" cy="190440"/>
            </a:xfrm>
            <a:custGeom>
              <a:avLst/>
              <a:gdLst/>
              <a:ahLst/>
              <a:rect l="l" t="t" r="r" b="b"/>
              <a:pathLst>
                <a:path w="75" h="79">
                  <a:moveTo>
                    <a:pt x="52" y="77"/>
                  </a:moveTo>
                  <a:lnTo>
                    <a:pt x="49" y="77"/>
                  </a:lnTo>
                  <a:lnTo>
                    <a:pt x="46" y="77"/>
                  </a:lnTo>
                  <a:lnTo>
                    <a:pt x="41" y="77"/>
                  </a:lnTo>
                  <a:lnTo>
                    <a:pt x="38" y="79"/>
                  </a:lnTo>
                  <a:lnTo>
                    <a:pt x="35" y="79"/>
                  </a:lnTo>
                  <a:lnTo>
                    <a:pt x="32" y="79"/>
                  </a:lnTo>
                  <a:lnTo>
                    <a:pt x="29" y="79"/>
                  </a:lnTo>
                  <a:lnTo>
                    <a:pt x="25" y="79"/>
                  </a:lnTo>
                  <a:lnTo>
                    <a:pt x="19" y="79"/>
                  </a:lnTo>
                  <a:lnTo>
                    <a:pt x="14" y="77"/>
                  </a:lnTo>
                  <a:lnTo>
                    <a:pt x="9" y="71"/>
                  </a:lnTo>
                  <a:lnTo>
                    <a:pt x="6" y="69"/>
                  </a:lnTo>
                  <a:lnTo>
                    <a:pt x="3" y="61"/>
                  </a:lnTo>
                  <a:lnTo>
                    <a:pt x="1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1" y="27"/>
                  </a:lnTo>
                  <a:lnTo>
                    <a:pt x="3" y="19"/>
                  </a:lnTo>
                  <a:lnTo>
                    <a:pt x="6" y="13"/>
                  </a:lnTo>
                  <a:lnTo>
                    <a:pt x="9" y="8"/>
                  </a:lnTo>
                  <a:lnTo>
                    <a:pt x="14" y="6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48" y="6"/>
                  </a:lnTo>
                  <a:lnTo>
                    <a:pt x="56" y="8"/>
                  </a:lnTo>
                  <a:lnTo>
                    <a:pt x="62" y="13"/>
                  </a:lnTo>
                  <a:lnTo>
                    <a:pt x="67" y="16"/>
                  </a:lnTo>
                  <a:lnTo>
                    <a:pt x="72" y="24"/>
                  </a:lnTo>
                  <a:lnTo>
                    <a:pt x="73" y="32"/>
                  </a:lnTo>
                  <a:lnTo>
                    <a:pt x="75" y="40"/>
                  </a:lnTo>
                  <a:lnTo>
                    <a:pt x="73" y="45"/>
                  </a:lnTo>
                  <a:lnTo>
                    <a:pt x="73" y="53"/>
                  </a:lnTo>
                  <a:lnTo>
                    <a:pt x="70" y="58"/>
                  </a:lnTo>
                  <a:lnTo>
                    <a:pt x="68" y="63"/>
                  </a:lnTo>
                  <a:lnTo>
                    <a:pt x="64" y="69"/>
                  </a:lnTo>
                  <a:lnTo>
                    <a:pt x="60" y="71"/>
                  </a:lnTo>
                  <a:lnTo>
                    <a:pt x="56" y="74"/>
                  </a:lnTo>
                  <a:lnTo>
                    <a:pt x="52" y="77"/>
                  </a:lnTo>
                  <a:lnTo>
                    <a:pt x="52" y="77"/>
                  </a:lnTo>
                  <a:close/>
                </a:path>
              </a:pathLst>
            </a:custGeom>
            <a:solidFill>
              <a:srgbClr val="b8f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rot="2831400">
              <a:off x="693360" y="3280680"/>
              <a:ext cx="2512800" cy="2131560"/>
            </a:xfrm>
            <a:custGeom>
              <a:avLst/>
              <a:gdLst/>
              <a:ahLst/>
              <a:rect l="l" t="t" r="r" b="b"/>
              <a:pathLst>
                <a:path w="864" h="882">
                  <a:moveTo>
                    <a:pt x="51" y="48"/>
                  </a:moveTo>
                  <a:lnTo>
                    <a:pt x="64" y="45"/>
                  </a:lnTo>
                  <a:lnTo>
                    <a:pt x="80" y="50"/>
                  </a:lnTo>
                  <a:lnTo>
                    <a:pt x="100" y="58"/>
                  </a:lnTo>
                  <a:lnTo>
                    <a:pt x="123" y="71"/>
                  </a:lnTo>
                  <a:lnTo>
                    <a:pt x="148" y="87"/>
                  </a:lnTo>
                  <a:lnTo>
                    <a:pt x="175" y="106"/>
                  </a:lnTo>
                  <a:lnTo>
                    <a:pt x="204" y="127"/>
                  </a:lnTo>
                  <a:lnTo>
                    <a:pt x="233" y="148"/>
                  </a:lnTo>
                  <a:lnTo>
                    <a:pt x="261" y="172"/>
                  </a:lnTo>
                  <a:lnTo>
                    <a:pt x="290" y="195"/>
                  </a:lnTo>
                  <a:lnTo>
                    <a:pt x="317" y="219"/>
                  </a:lnTo>
                  <a:lnTo>
                    <a:pt x="341" y="243"/>
                  </a:lnTo>
                  <a:lnTo>
                    <a:pt x="364" y="264"/>
                  </a:lnTo>
                  <a:lnTo>
                    <a:pt x="383" y="285"/>
                  </a:lnTo>
                  <a:lnTo>
                    <a:pt x="397" y="301"/>
                  </a:lnTo>
                  <a:lnTo>
                    <a:pt x="408" y="316"/>
                  </a:lnTo>
                  <a:lnTo>
                    <a:pt x="416" y="322"/>
                  </a:lnTo>
                  <a:lnTo>
                    <a:pt x="429" y="332"/>
                  </a:lnTo>
                  <a:lnTo>
                    <a:pt x="446" y="348"/>
                  </a:lnTo>
                  <a:lnTo>
                    <a:pt x="466" y="369"/>
                  </a:lnTo>
                  <a:lnTo>
                    <a:pt x="486" y="390"/>
                  </a:lnTo>
                  <a:lnTo>
                    <a:pt x="510" y="416"/>
                  </a:lnTo>
                  <a:lnTo>
                    <a:pt x="536" y="445"/>
                  </a:lnTo>
                  <a:lnTo>
                    <a:pt x="560" y="474"/>
                  </a:lnTo>
                  <a:lnTo>
                    <a:pt x="585" y="503"/>
                  </a:lnTo>
                  <a:lnTo>
                    <a:pt x="611" y="532"/>
                  </a:lnTo>
                  <a:lnTo>
                    <a:pt x="635" y="561"/>
                  </a:lnTo>
                  <a:lnTo>
                    <a:pt x="657" y="590"/>
                  </a:lnTo>
                  <a:lnTo>
                    <a:pt x="678" y="614"/>
                  </a:lnTo>
                  <a:lnTo>
                    <a:pt x="695" y="635"/>
                  </a:lnTo>
                  <a:lnTo>
                    <a:pt x="710" y="653"/>
                  </a:lnTo>
                  <a:lnTo>
                    <a:pt x="721" y="666"/>
                  </a:lnTo>
                  <a:lnTo>
                    <a:pt x="724" y="669"/>
                  </a:lnTo>
                  <a:lnTo>
                    <a:pt x="727" y="672"/>
                  </a:lnTo>
                  <a:lnTo>
                    <a:pt x="732" y="674"/>
                  </a:lnTo>
                  <a:lnTo>
                    <a:pt x="735" y="680"/>
                  </a:lnTo>
                  <a:lnTo>
                    <a:pt x="740" y="682"/>
                  </a:lnTo>
                  <a:lnTo>
                    <a:pt x="743" y="685"/>
                  </a:lnTo>
                  <a:lnTo>
                    <a:pt x="748" y="687"/>
                  </a:lnTo>
                  <a:lnTo>
                    <a:pt x="751" y="690"/>
                  </a:lnTo>
                  <a:lnTo>
                    <a:pt x="756" y="693"/>
                  </a:lnTo>
                  <a:lnTo>
                    <a:pt x="759" y="695"/>
                  </a:lnTo>
                  <a:lnTo>
                    <a:pt x="762" y="698"/>
                  </a:lnTo>
                  <a:lnTo>
                    <a:pt x="767" y="703"/>
                  </a:lnTo>
                  <a:lnTo>
                    <a:pt x="770" y="706"/>
                  </a:lnTo>
                  <a:lnTo>
                    <a:pt x="773" y="709"/>
                  </a:lnTo>
                  <a:lnTo>
                    <a:pt x="778" y="714"/>
                  </a:lnTo>
                  <a:lnTo>
                    <a:pt x="781" y="719"/>
                  </a:lnTo>
                  <a:lnTo>
                    <a:pt x="786" y="724"/>
                  </a:lnTo>
                  <a:lnTo>
                    <a:pt x="791" y="730"/>
                  </a:lnTo>
                  <a:lnTo>
                    <a:pt x="794" y="737"/>
                  </a:lnTo>
                  <a:lnTo>
                    <a:pt x="799" y="743"/>
                  </a:lnTo>
                  <a:lnTo>
                    <a:pt x="804" y="748"/>
                  </a:lnTo>
                  <a:lnTo>
                    <a:pt x="808" y="756"/>
                  </a:lnTo>
                  <a:lnTo>
                    <a:pt x="812" y="761"/>
                  </a:lnTo>
                  <a:lnTo>
                    <a:pt x="816" y="769"/>
                  </a:lnTo>
                  <a:lnTo>
                    <a:pt x="821" y="774"/>
                  </a:lnTo>
                  <a:lnTo>
                    <a:pt x="826" y="782"/>
                  </a:lnTo>
                  <a:lnTo>
                    <a:pt x="829" y="787"/>
                  </a:lnTo>
                  <a:lnTo>
                    <a:pt x="834" y="795"/>
                  </a:lnTo>
                  <a:lnTo>
                    <a:pt x="839" y="801"/>
                  </a:lnTo>
                  <a:lnTo>
                    <a:pt x="843" y="806"/>
                  </a:lnTo>
                  <a:lnTo>
                    <a:pt x="848" y="811"/>
                  </a:lnTo>
                  <a:lnTo>
                    <a:pt x="853" y="819"/>
                  </a:lnTo>
                  <a:lnTo>
                    <a:pt x="858" y="824"/>
                  </a:lnTo>
                  <a:lnTo>
                    <a:pt x="861" y="830"/>
                  </a:lnTo>
                  <a:lnTo>
                    <a:pt x="863" y="835"/>
                  </a:lnTo>
                  <a:lnTo>
                    <a:pt x="864" y="843"/>
                  </a:lnTo>
                  <a:lnTo>
                    <a:pt x="864" y="848"/>
                  </a:lnTo>
                  <a:lnTo>
                    <a:pt x="864" y="853"/>
                  </a:lnTo>
                  <a:lnTo>
                    <a:pt x="863" y="859"/>
                  </a:lnTo>
                  <a:lnTo>
                    <a:pt x="863" y="866"/>
                  </a:lnTo>
                  <a:lnTo>
                    <a:pt x="859" y="872"/>
                  </a:lnTo>
                  <a:lnTo>
                    <a:pt x="856" y="874"/>
                  </a:lnTo>
                  <a:lnTo>
                    <a:pt x="853" y="877"/>
                  </a:lnTo>
                  <a:lnTo>
                    <a:pt x="850" y="882"/>
                  </a:lnTo>
                  <a:lnTo>
                    <a:pt x="847" y="882"/>
                  </a:lnTo>
                  <a:lnTo>
                    <a:pt x="842" y="882"/>
                  </a:lnTo>
                  <a:lnTo>
                    <a:pt x="837" y="882"/>
                  </a:lnTo>
                  <a:lnTo>
                    <a:pt x="834" y="880"/>
                  </a:lnTo>
                  <a:lnTo>
                    <a:pt x="829" y="874"/>
                  </a:lnTo>
                  <a:lnTo>
                    <a:pt x="821" y="866"/>
                  </a:lnTo>
                  <a:lnTo>
                    <a:pt x="810" y="853"/>
                  </a:lnTo>
                  <a:lnTo>
                    <a:pt x="797" y="840"/>
                  </a:lnTo>
                  <a:lnTo>
                    <a:pt x="781" y="822"/>
                  </a:lnTo>
                  <a:lnTo>
                    <a:pt x="764" y="801"/>
                  </a:lnTo>
                  <a:lnTo>
                    <a:pt x="746" y="780"/>
                  </a:lnTo>
                  <a:lnTo>
                    <a:pt x="729" y="761"/>
                  </a:lnTo>
                  <a:lnTo>
                    <a:pt x="710" y="737"/>
                  </a:lnTo>
                  <a:lnTo>
                    <a:pt x="692" y="716"/>
                  </a:lnTo>
                  <a:lnTo>
                    <a:pt x="674" y="698"/>
                  </a:lnTo>
                  <a:lnTo>
                    <a:pt x="660" y="680"/>
                  </a:lnTo>
                  <a:lnTo>
                    <a:pt x="646" y="664"/>
                  </a:lnTo>
                  <a:lnTo>
                    <a:pt x="636" y="651"/>
                  </a:lnTo>
                  <a:lnTo>
                    <a:pt x="630" y="643"/>
                  </a:lnTo>
                  <a:lnTo>
                    <a:pt x="627" y="640"/>
                  </a:lnTo>
                  <a:lnTo>
                    <a:pt x="620" y="637"/>
                  </a:lnTo>
                  <a:lnTo>
                    <a:pt x="614" y="632"/>
                  </a:lnTo>
                  <a:lnTo>
                    <a:pt x="606" y="627"/>
                  </a:lnTo>
                  <a:lnTo>
                    <a:pt x="596" y="619"/>
                  </a:lnTo>
                  <a:lnTo>
                    <a:pt x="585" y="608"/>
                  </a:lnTo>
                  <a:lnTo>
                    <a:pt x="574" y="595"/>
                  </a:lnTo>
                  <a:lnTo>
                    <a:pt x="563" y="585"/>
                  </a:lnTo>
                  <a:lnTo>
                    <a:pt x="552" y="572"/>
                  </a:lnTo>
                  <a:lnTo>
                    <a:pt x="541" y="558"/>
                  </a:lnTo>
                  <a:lnTo>
                    <a:pt x="528" y="543"/>
                  </a:lnTo>
                  <a:lnTo>
                    <a:pt x="517" y="532"/>
                  </a:lnTo>
                  <a:lnTo>
                    <a:pt x="507" y="519"/>
                  </a:lnTo>
                  <a:lnTo>
                    <a:pt x="497" y="506"/>
                  </a:lnTo>
                  <a:lnTo>
                    <a:pt x="488" y="495"/>
                  </a:lnTo>
                  <a:lnTo>
                    <a:pt x="480" y="487"/>
                  </a:lnTo>
                  <a:lnTo>
                    <a:pt x="474" y="482"/>
                  </a:lnTo>
                  <a:lnTo>
                    <a:pt x="466" y="479"/>
                  </a:lnTo>
                  <a:lnTo>
                    <a:pt x="451" y="469"/>
                  </a:lnTo>
                  <a:lnTo>
                    <a:pt x="431" y="453"/>
                  </a:lnTo>
                  <a:lnTo>
                    <a:pt x="407" y="429"/>
                  </a:lnTo>
                  <a:lnTo>
                    <a:pt x="378" y="403"/>
                  </a:lnTo>
                  <a:lnTo>
                    <a:pt x="348" y="372"/>
                  </a:lnTo>
                  <a:lnTo>
                    <a:pt x="316" y="337"/>
                  </a:lnTo>
                  <a:lnTo>
                    <a:pt x="282" y="306"/>
                  </a:lnTo>
                  <a:lnTo>
                    <a:pt x="247" y="272"/>
                  </a:lnTo>
                  <a:lnTo>
                    <a:pt x="214" y="240"/>
                  </a:lnTo>
                  <a:lnTo>
                    <a:pt x="180" y="211"/>
                  </a:lnTo>
                  <a:lnTo>
                    <a:pt x="150" y="185"/>
                  </a:lnTo>
                  <a:lnTo>
                    <a:pt x="123" y="166"/>
                  </a:lnTo>
                  <a:lnTo>
                    <a:pt x="99" y="153"/>
                  </a:lnTo>
                  <a:lnTo>
                    <a:pt x="80" y="148"/>
                  </a:lnTo>
                  <a:lnTo>
                    <a:pt x="67" y="153"/>
                  </a:lnTo>
                  <a:lnTo>
                    <a:pt x="49" y="143"/>
                  </a:lnTo>
                  <a:lnTo>
                    <a:pt x="37" y="129"/>
                  </a:lnTo>
                  <a:lnTo>
                    <a:pt x="24" y="114"/>
                  </a:lnTo>
                  <a:lnTo>
                    <a:pt x="16" y="98"/>
                  </a:lnTo>
                  <a:lnTo>
                    <a:pt x="8" y="82"/>
                  </a:lnTo>
                  <a:lnTo>
                    <a:pt x="3" y="64"/>
                  </a:lnTo>
                  <a:lnTo>
                    <a:pt x="0" y="48"/>
                  </a:lnTo>
                  <a:lnTo>
                    <a:pt x="0" y="32"/>
                  </a:lnTo>
                  <a:lnTo>
                    <a:pt x="0" y="19"/>
                  </a:lnTo>
                  <a:lnTo>
                    <a:pt x="3" y="8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30" y="11"/>
                  </a:lnTo>
                  <a:lnTo>
                    <a:pt x="40" y="24"/>
                  </a:lnTo>
                  <a:lnTo>
                    <a:pt x="51" y="48"/>
                  </a:lnTo>
                  <a:lnTo>
                    <a:pt x="51" y="48"/>
                  </a:lnTo>
                  <a:close/>
                </a:path>
              </a:pathLst>
            </a:custGeom>
            <a:solidFill>
              <a:srgbClr val="a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rot="2831400">
              <a:off x="1710000" y="2517840"/>
              <a:ext cx="172080" cy="386640"/>
            </a:xfrm>
            <a:custGeom>
              <a:avLst/>
              <a:gdLst/>
              <a:ahLst/>
              <a:rect l="l" t="t" r="r" b="b"/>
              <a:pathLst>
                <a:path w="59" h="160">
                  <a:moveTo>
                    <a:pt x="35" y="16"/>
                  </a:moveTo>
                  <a:lnTo>
                    <a:pt x="38" y="23"/>
                  </a:lnTo>
                  <a:lnTo>
                    <a:pt x="40" y="29"/>
                  </a:lnTo>
                  <a:lnTo>
                    <a:pt x="41" y="34"/>
                  </a:lnTo>
                  <a:lnTo>
                    <a:pt x="44" y="42"/>
                  </a:lnTo>
                  <a:lnTo>
                    <a:pt x="46" y="47"/>
                  </a:lnTo>
                  <a:lnTo>
                    <a:pt x="49" y="55"/>
                  </a:lnTo>
                  <a:lnTo>
                    <a:pt x="51" y="60"/>
                  </a:lnTo>
                  <a:lnTo>
                    <a:pt x="52" y="68"/>
                  </a:lnTo>
                  <a:lnTo>
                    <a:pt x="54" y="73"/>
                  </a:lnTo>
                  <a:lnTo>
                    <a:pt x="56" y="79"/>
                  </a:lnTo>
                  <a:lnTo>
                    <a:pt x="57" y="87"/>
                  </a:lnTo>
                  <a:lnTo>
                    <a:pt x="59" y="92"/>
                  </a:lnTo>
                  <a:lnTo>
                    <a:pt x="59" y="100"/>
                  </a:lnTo>
                  <a:lnTo>
                    <a:pt x="59" y="105"/>
                  </a:lnTo>
                  <a:lnTo>
                    <a:pt x="59" y="113"/>
                  </a:lnTo>
                  <a:lnTo>
                    <a:pt x="59" y="123"/>
                  </a:lnTo>
                  <a:lnTo>
                    <a:pt x="59" y="131"/>
                  </a:lnTo>
                  <a:lnTo>
                    <a:pt x="56" y="139"/>
                  </a:lnTo>
                  <a:lnTo>
                    <a:pt x="52" y="145"/>
                  </a:lnTo>
                  <a:lnTo>
                    <a:pt x="51" y="152"/>
                  </a:lnTo>
                  <a:lnTo>
                    <a:pt x="46" y="155"/>
                  </a:lnTo>
                  <a:lnTo>
                    <a:pt x="41" y="158"/>
                  </a:lnTo>
                  <a:lnTo>
                    <a:pt x="36" y="158"/>
                  </a:lnTo>
                  <a:lnTo>
                    <a:pt x="33" y="160"/>
                  </a:lnTo>
                  <a:lnTo>
                    <a:pt x="28" y="158"/>
                  </a:lnTo>
                  <a:lnTo>
                    <a:pt x="24" y="155"/>
                  </a:lnTo>
                  <a:lnTo>
                    <a:pt x="20" y="152"/>
                  </a:lnTo>
                  <a:lnTo>
                    <a:pt x="16" y="147"/>
                  </a:lnTo>
                  <a:lnTo>
                    <a:pt x="13" y="142"/>
                  </a:lnTo>
                  <a:lnTo>
                    <a:pt x="11" y="134"/>
                  </a:lnTo>
                  <a:lnTo>
                    <a:pt x="9" y="126"/>
                  </a:lnTo>
                  <a:lnTo>
                    <a:pt x="11" y="118"/>
                  </a:lnTo>
                  <a:lnTo>
                    <a:pt x="11" y="110"/>
                  </a:lnTo>
                  <a:lnTo>
                    <a:pt x="11" y="105"/>
                  </a:lnTo>
                  <a:lnTo>
                    <a:pt x="11" y="102"/>
                  </a:lnTo>
                  <a:lnTo>
                    <a:pt x="11" y="97"/>
                  </a:lnTo>
                  <a:lnTo>
                    <a:pt x="9" y="92"/>
                  </a:lnTo>
                  <a:lnTo>
                    <a:pt x="9" y="89"/>
                  </a:lnTo>
                  <a:lnTo>
                    <a:pt x="9" y="84"/>
                  </a:lnTo>
                  <a:lnTo>
                    <a:pt x="9" y="81"/>
                  </a:lnTo>
                  <a:lnTo>
                    <a:pt x="8" y="71"/>
                  </a:lnTo>
                  <a:lnTo>
                    <a:pt x="6" y="66"/>
                  </a:lnTo>
                  <a:lnTo>
                    <a:pt x="5" y="55"/>
                  </a:lnTo>
                  <a:lnTo>
                    <a:pt x="3" y="47"/>
                  </a:lnTo>
                  <a:lnTo>
                    <a:pt x="0" y="42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1" y="18"/>
                  </a:lnTo>
                  <a:lnTo>
                    <a:pt x="3" y="13"/>
                  </a:lnTo>
                  <a:lnTo>
                    <a:pt x="6" y="8"/>
                  </a:lnTo>
                  <a:lnTo>
                    <a:pt x="9" y="5"/>
                  </a:lnTo>
                  <a:lnTo>
                    <a:pt x="13" y="2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2"/>
                  </a:lnTo>
                  <a:lnTo>
                    <a:pt x="28" y="5"/>
                  </a:lnTo>
                  <a:lnTo>
                    <a:pt x="32" y="10"/>
                  </a:lnTo>
                  <a:lnTo>
                    <a:pt x="35" y="16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4df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rot="2831400">
              <a:off x="1434960" y="3197880"/>
              <a:ext cx="904680" cy="514440"/>
            </a:xfrm>
            <a:custGeom>
              <a:avLst/>
              <a:gdLst/>
              <a:ahLst/>
              <a:rect l="l" t="t" r="r" b="b"/>
              <a:pathLst>
                <a:path w="311" h="213">
                  <a:moveTo>
                    <a:pt x="22" y="0"/>
                  </a:moveTo>
                  <a:lnTo>
                    <a:pt x="43" y="5"/>
                  </a:lnTo>
                  <a:lnTo>
                    <a:pt x="63" y="13"/>
                  </a:lnTo>
                  <a:lnTo>
                    <a:pt x="81" y="19"/>
                  </a:lnTo>
                  <a:lnTo>
                    <a:pt x="100" y="26"/>
                  </a:lnTo>
                  <a:lnTo>
                    <a:pt x="116" y="32"/>
                  </a:lnTo>
                  <a:lnTo>
                    <a:pt x="134" y="42"/>
                  </a:lnTo>
                  <a:lnTo>
                    <a:pt x="150" y="50"/>
                  </a:lnTo>
                  <a:lnTo>
                    <a:pt x="165" y="58"/>
                  </a:lnTo>
                  <a:lnTo>
                    <a:pt x="180" y="69"/>
                  </a:lnTo>
                  <a:lnTo>
                    <a:pt x="196" y="79"/>
                  </a:lnTo>
                  <a:lnTo>
                    <a:pt x="212" y="90"/>
                  </a:lnTo>
                  <a:lnTo>
                    <a:pt x="228" y="100"/>
                  </a:lnTo>
                  <a:lnTo>
                    <a:pt x="245" y="113"/>
                  </a:lnTo>
                  <a:lnTo>
                    <a:pt x="263" y="126"/>
                  </a:lnTo>
                  <a:lnTo>
                    <a:pt x="280" y="140"/>
                  </a:lnTo>
                  <a:lnTo>
                    <a:pt x="299" y="155"/>
                  </a:lnTo>
                  <a:lnTo>
                    <a:pt x="303" y="161"/>
                  </a:lnTo>
                  <a:lnTo>
                    <a:pt x="306" y="163"/>
                  </a:lnTo>
                  <a:lnTo>
                    <a:pt x="309" y="169"/>
                  </a:lnTo>
                  <a:lnTo>
                    <a:pt x="311" y="174"/>
                  </a:lnTo>
                  <a:lnTo>
                    <a:pt x="311" y="179"/>
                  </a:lnTo>
                  <a:lnTo>
                    <a:pt x="311" y="184"/>
                  </a:lnTo>
                  <a:lnTo>
                    <a:pt x="311" y="190"/>
                  </a:lnTo>
                  <a:lnTo>
                    <a:pt x="311" y="195"/>
                  </a:lnTo>
                  <a:lnTo>
                    <a:pt x="309" y="200"/>
                  </a:lnTo>
                  <a:lnTo>
                    <a:pt x="306" y="205"/>
                  </a:lnTo>
                  <a:lnTo>
                    <a:pt x="304" y="208"/>
                  </a:lnTo>
                  <a:lnTo>
                    <a:pt x="301" y="211"/>
                  </a:lnTo>
                  <a:lnTo>
                    <a:pt x="298" y="213"/>
                  </a:lnTo>
                  <a:lnTo>
                    <a:pt x="295" y="213"/>
                  </a:lnTo>
                  <a:lnTo>
                    <a:pt x="291" y="213"/>
                  </a:lnTo>
                  <a:lnTo>
                    <a:pt x="287" y="213"/>
                  </a:lnTo>
                  <a:lnTo>
                    <a:pt x="277" y="208"/>
                  </a:lnTo>
                  <a:lnTo>
                    <a:pt x="268" y="203"/>
                  </a:lnTo>
                  <a:lnTo>
                    <a:pt x="258" y="195"/>
                  </a:lnTo>
                  <a:lnTo>
                    <a:pt x="250" y="190"/>
                  </a:lnTo>
                  <a:lnTo>
                    <a:pt x="240" y="182"/>
                  </a:lnTo>
                  <a:lnTo>
                    <a:pt x="232" y="174"/>
                  </a:lnTo>
                  <a:lnTo>
                    <a:pt x="223" y="166"/>
                  </a:lnTo>
                  <a:lnTo>
                    <a:pt x="213" y="161"/>
                  </a:lnTo>
                  <a:lnTo>
                    <a:pt x="204" y="150"/>
                  </a:lnTo>
                  <a:lnTo>
                    <a:pt x="196" y="142"/>
                  </a:lnTo>
                  <a:lnTo>
                    <a:pt x="186" y="134"/>
                  </a:lnTo>
                  <a:lnTo>
                    <a:pt x="178" y="126"/>
                  </a:lnTo>
                  <a:lnTo>
                    <a:pt x="169" y="121"/>
                  </a:lnTo>
                  <a:lnTo>
                    <a:pt x="161" y="113"/>
                  </a:lnTo>
                  <a:lnTo>
                    <a:pt x="151" y="105"/>
                  </a:lnTo>
                  <a:lnTo>
                    <a:pt x="142" y="100"/>
                  </a:lnTo>
                  <a:lnTo>
                    <a:pt x="134" y="95"/>
                  </a:lnTo>
                  <a:lnTo>
                    <a:pt x="126" y="92"/>
                  </a:lnTo>
                  <a:lnTo>
                    <a:pt x="119" y="87"/>
                  </a:lnTo>
                  <a:lnTo>
                    <a:pt x="111" y="84"/>
                  </a:lnTo>
                  <a:lnTo>
                    <a:pt x="102" y="84"/>
                  </a:lnTo>
                  <a:lnTo>
                    <a:pt x="94" y="82"/>
                  </a:lnTo>
                  <a:lnTo>
                    <a:pt x="86" y="79"/>
                  </a:lnTo>
                  <a:lnTo>
                    <a:pt x="78" y="79"/>
                  </a:lnTo>
                  <a:lnTo>
                    <a:pt x="70" y="76"/>
                  </a:lnTo>
                  <a:lnTo>
                    <a:pt x="62" y="74"/>
                  </a:lnTo>
                  <a:lnTo>
                    <a:pt x="52" y="71"/>
                  </a:lnTo>
                  <a:lnTo>
                    <a:pt x="44" y="69"/>
                  </a:lnTo>
                  <a:lnTo>
                    <a:pt x="36" y="66"/>
                  </a:lnTo>
                  <a:lnTo>
                    <a:pt x="28" y="63"/>
                  </a:lnTo>
                  <a:lnTo>
                    <a:pt x="20" y="61"/>
                  </a:lnTo>
                  <a:lnTo>
                    <a:pt x="12" y="55"/>
                  </a:lnTo>
                  <a:lnTo>
                    <a:pt x="9" y="53"/>
                  </a:lnTo>
                  <a:lnTo>
                    <a:pt x="6" y="50"/>
                  </a:lnTo>
                  <a:lnTo>
                    <a:pt x="3" y="45"/>
                  </a:lnTo>
                  <a:lnTo>
                    <a:pt x="1" y="40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1" y="16"/>
                  </a:lnTo>
                  <a:lnTo>
                    <a:pt x="3" y="11"/>
                  </a:lnTo>
                  <a:lnTo>
                    <a:pt x="4" y="5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4df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rot="2831400">
              <a:off x="863280" y="3989160"/>
              <a:ext cx="1989000" cy="2257560"/>
            </a:xfrm>
            <a:custGeom>
              <a:avLst/>
              <a:gdLst/>
              <a:ahLst/>
              <a:rect l="l" t="t" r="r" b="b"/>
              <a:pathLst>
                <a:path w="684" h="934">
                  <a:moveTo>
                    <a:pt x="75" y="339"/>
                  </a:moveTo>
                  <a:lnTo>
                    <a:pt x="97" y="379"/>
                  </a:lnTo>
                  <a:lnTo>
                    <a:pt x="121" y="416"/>
                  </a:lnTo>
                  <a:lnTo>
                    <a:pt x="145" y="455"/>
                  </a:lnTo>
                  <a:lnTo>
                    <a:pt x="171" y="495"/>
                  </a:lnTo>
                  <a:lnTo>
                    <a:pt x="198" y="532"/>
                  </a:lnTo>
                  <a:lnTo>
                    <a:pt x="225" y="571"/>
                  </a:lnTo>
                  <a:lnTo>
                    <a:pt x="252" y="608"/>
                  </a:lnTo>
                  <a:lnTo>
                    <a:pt x="281" y="647"/>
                  </a:lnTo>
                  <a:lnTo>
                    <a:pt x="309" y="684"/>
                  </a:lnTo>
                  <a:lnTo>
                    <a:pt x="338" y="721"/>
                  </a:lnTo>
                  <a:lnTo>
                    <a:pt x="367" y="758"/>
                  </a:lnTo>
                  <a:lnTo>
                    <a:pt x="394" y="795"/>
                  </a:lnTo>
                  <a:lnTo>
                    <a:pt x="423" y="829"/>
                  </a:lnTo>
                  <a:lnTo>
                    <a:pt x="450" y="866"/>
                  </a:lnTo>
                  <a:lnTo>
                    <a:pt x="477" y="900"/>
                  </a:lnTo>
                  <a:lnTo>
                    <a:pt x="504" y="934"/>
                  </a:lnTo>
                  <a:lnTo>
                    <a:pt x="470" y="903"/>
                  </a:lnTo>
                  <a:lnTo>
                    <a:pt x="439" y="871"/>
                  </a:lnTo>
                  <a:lnTo>
                    <a:pt x="405" y="840"/>
                  </a:lnTo>
                  <a:lnTo>
                    <a:pt x="373" y="808"/>
                  </a:lnTo>
                  <a:lnTo>
                    <a:pt x="341" y="774"/>
                  </a:lnTo>
                  <a:lnTo>
                    <a:pt x="309" y="742"/>
                  </a:lnTo>
                  <a:lnTo>
                    <a:pt x="278" y="708"/>
                  </a:lnTo>
                  <a:lnTo>
                    <a:pt x="246" y="676"/>
                  </a:lnTo>
                  <a:lnTo>
                    <a:pt x="214" y="640"/>
                  </a:lnTo>
                  <a:lnTo>
                    <a:pt x="183" y="605"/>
                  </a:lnTo>
                  <a:lnTo>
                    <a:pt x="152" y="571"/>
                  </a:lnTo>
                  <a:lnTo>
                    <a:pt x="121" y="537"/>
                  </a:lnTo>
                  <a:lnTo>
                    <a:pt x="89" y="500"/>
                  </a:lnTo>
                  <a:lnTo>
                    <a:pt x="59" y="463"/>
                  </a:lnTo>
                  <a:lnTo>
                    <a:pt x="30" y="426"/>
                  </a:lnTo>
                  <a:lnTo>
                    <a:pt x="0" y="389"/>
                  </a:lnTo>
                  <a:lnTo>
                    <a:pt x="10" y="366"/>
                  </a:lnTo>
                  <a:lnTo>
                    <a:pt x="29" y="389"/>
                  </a:lnTo>
                  <a:lnTo>
                    <a:pt x="48" y="416"/>
                  </a:lnTo>
                  <a:lnTo>
                    <a:pt x="69" y="439"/>
                  </a:lnTo>
                  <a:lnTo>
                    <a:pt x="89" y="466"/>
                  </a:lnTo>
                  <a:lnTo>
                    <a:pt x="109" y="490"/>
                  </a:lnTo>
                  <a:lnTo>
                    <a:pt x="129" y="513"/>
                  </a:lnTo>
                  <a:lnTo>
                    <a:pt x="150" y="540"/>
                  </a:lnTo>
                  <a:lnTo>
                    <a:pt x="171" y="563"/>
                  </a:lnTo>
                  <a:lnTo>
                    <a:pt x="191" y="587"/>
                  </a:lnTo>
                  <a:lnTo>
                    <a:pt x="212" y="611"/>
                  </a:lnTo>
                  <a:lnTo>
                    <a:pt x="234" y="632"/>
                  </a:lnTo>
                  <a:lnTo>
                    <a:pt x="255" y="655"/>
                  </a:lnTo>
                  <a:lnTo>
                    <a:pt x="276" y="676"/>
                  </a:lnTo>
                  <a:lnTo>
                    <a:pt x="298" y="700"/>
                  </a:lnTo>
                  <a:lnTo>
                    <a:pt x="319" y="721"/>
                  </a:lnTo>
                  <a:lnTo>
                    <a:pt x="341" y="742"/>
                  </a:lnTo>
                  <a:lnTo>
                    <a:pt x="80" y="376"/>
                  </a:lnTo>
                  <a:lnTo>
                    <a:pt x="73" y="374"/>
                  </a:lnTo>
                  <a:lnTo>
                    <a:pt x="69" y="371"/>
                  </a:lnTo>
                  <a:lnTo>
                    <a:pt x="65" y="368"/>
                  </a:lnTo>
                  <a:lnTo>
                    <a:pt x="61" y="368"/>
                  </a:lnTo>
                  <a:lnTo>
                    <a:pt x="57" y="366"/>
                  </a:lnTo>
                  <a:lnTo>
                    <a:pt x="53" y="361"/>
                  </a:lnTo>
                  <a:lnTo>
                    <a:pt x="48" y="358"/>
                  </a:lnTo>
                  <a:lnTo>
                    <a:pt x="45" y="355"/>
                  </a:lnTo>
                  <a:lnTo>
                    <a:pt x="40" y="353"/>
                  </a:lnTo>
                  <a:lnTo>
                    <a:pt x="37" y="347"/>
                  </a:lnTo>
                  <a:lnTo>
                    <a:pt x="34" y="342"/>
                  </a:lnTo>
                  <a:lnTo>
                    <a:pt x="30" y="339"/>
                  </a:lnTo>
                  <a:lnTo>
                    <a:pt x="26" y="334"/>
                  </a:lnTo>
                  <a:lnTo>
                    <a:pt x="22" y="329"/>
                  </a:lnTo>
                  <a:lnTo>
                    <a:pt x="19" y="324"/>
                  </a:lnTo>
                  <a:lnTo>
                    <a:pt x="16" y="321"/>
                  </a:lnTo>
                  <a:lnTo>
                    <a:pt x="19" y="316"/>
                  </a:lnTo>
                  <a:lnTo>
                    <a:pt x="21" y="313"/>
                  </a:lnTo>
                  <a:lnTo>
                    <a:pt x="24" y="308"/>
                  </a:lnTo>
                  <a:lnTo>
                    <a:pt x="27" y="305"/>
                  </a:lnTo>
                  <a:lnTo>
                    <a:pt x="30" y="297"/>
                  </a:lnTo>
                  <a:lnTo>
                    <a:pt x="34" y="292"/>
                  </a:lnTo>
                  <a:lnTo>
                    <a:pt x="37" y="287"/>
                  </a:lnTo>
                  <a:lnTo>
                    <a:pt x="40" y="282"/>
                  </a:lnTo>
                  <a:lnTo>
                    <a:pt x="43" y="274"/>
                  </a:lnTo>
                  <a:lnTo>
                    <a:pt x="46" y="268"/>
                  </a:lnTo>
                  <a:lnTo>
                    <a:pt x="50" y="260"/>
                  </a:lnTo>
                  <a:lnTo>
                    <a:pt x="53" y="255"/>
                  </a:lnTo>
                  <a:lnTo>
                    <a:pt x="56" y="250"/>
                  </a:lnTo>
                  <a:lnTo>
                    <a:pt x="59" y="245"/>
                  </a:lnTo>
                  <a:lnTo>
                    <a:pt x="62" y="237"/>
                  </a:lnTo>
                  <a:lnTo>
                    <a:pt x="65" y="234"/>
                  </a:lnTo>
                  <a:lnTo>
                    <a:pt x="67" y="237"/>
                  </a:lnTo>
                  <a:lnTo>
                    <a:pt x="70" y="239"/>
                  </a:lnTo>
                  <a:lnTo>
                    <a:pt x="75" y="245"/>
                  </a:lnTo>
                  <a:lnTo>
                    <a:pt x="80" y="247"/>
                  </a:lnTo>
                  <a:lnTo>
                    <a:pt x="85" y="250"/>
                  </a:lnTo>
                  <a:lnTo>
                    <a:pt x="89" y="253"/>
                  </a:lnTo>
                  <a:lnTo>
                    <a:pt x="94" y="253"/>
                  </a:lnTo>
                  <a:lnTo>
                    <a:pt x="99" y="255"/>
                  </a:lnTo>
                  <a:lnTo>
                    <a:pt x="104" y="255"/>
                  </a:lnTo>
                  <a:lnTo>
                    <a:pt x="107" y="255"/>
                  </a:lnTo>
                  <a:lnTo>
                    <a:pt x="110" y="253"/>
                  </a:lnTo>
                  <a:lnTo>
                    <a:pt x="113" y="253"/>
                  </a:lnTo>
                  <a:lnTo>
                    <a:pt x="113" y="250"/>
                  </a:lnTo>
                  <a:lnTo>
                    <a:pt x="115" y="245"/>
                  </a:lnTo>
                  <a:lnTo>
                    <a:pt x="113" y="239"/>
                  </a:lnTo>
                  <a:lnTo>
                    <a:pt x="112" y="234"/>
                  </a:lnTo>
                  <a:lnTo>
                    <a:pt x="73" y="229"/>
                  </a:lnTo>
                  <a:lnTo>
                    <a:pt x="77" y="221"/>
                  </a:lnTo>
                  <a:lnTo>
                    <a:pt x="78" y="213"/>
                  </a:lnTo>
                  <a:lnTo>
                    <a:pt x="80" y="208"/>
                  </a:lnTo>
                  <a:lnTo>
                    <a:pt x="83" y="203"/>
                  </a:lnTo>
                  <a:lnTo>
                    <a:pt x="86" y="197"/>
                  </a:lnTo>
                  <a:lnTo>
                    <a:pt x="88" y="189"/>
                  </a:lnTo>
                  <a:lnTo>
                    <a:pt x="91" y="184"/>
                  </a:lnTo>
                  <a:lnTo>
                    <a:pt x="94" y="179"/>
                  </a:lnTo>
                  <a:lnTo>
                    <a:pt x="96" y="174"/>
                  </a:lnTo>
                  <a:lnTo>
                    <a:pt x="99" y="166"/>
                  </a:lnTo>
                  <a:lnTo>
                    <a:pt x="102" y="160"/>
                  </a:lnTo>
                  <a:lnTo>
                    <a:pt x="105" y="155"/>
                  </a:lnTo>
                  <a:lnTo>
                    <a:pt x="107" y="150"/>
                  </a:lnTo>
                  <a:lnTo>
                    <a:pt x="110" y="142"/>
                  </a:lnTo>
                  <a:lnTo>
                    <a:pt x="113" y="137"/>
                  </a:lnTo>
                  <a:lnTo>
                    <a:pt x="116" y="132"/>
                  </a:lnTo>
                  <a:lnTo>
                    <a:pt x="145" y="158"/>
                  </a:lnTo>
                  <a:lnTo>
                    <a:pt x="174" y="187"/>
                  </a:lnTo>
                  <a:lnTo>
                    <a:pt x="204" y="213"/>
                  </a:lnTo>
                  <a:lnTo>
                    <a:pt x="233" y="245"/>
                  </a:lnTo>
                  <a:lnTo>
                    <a:pt x="262" y="271"/>
                  </a:lnTo>
                  <a:lnTo>
                    <a:pt x="290" y="300"/>
                  </a:lnTo>
                  <a:lnTo>
                    <a:pt x="319" y="332"/>
                  </a:lnTo>
                  <a:lnTo>
                    <a:pt x="348" y="361"/>
                  </a:lnTo>
                  <a:lnTo>
                    <a:pt x="376" y="392"/>
                  </a:lnTo>
                  <a:lnTo>
                    <a:pt x="405" y="421"/>
                  </a:lnTo>
                  <a:lnTo>
                    <a:pt x="432" y="453"/>
                  </a:lnTo>
                  <a:lnTo>
                    <a:pt x="461" y="484"/>
                  </a:lnTo>
                  <a:lnTo>
                    <a:pt x="488" y="516"/>
                  </a:lnTo>
                  <a:lnTo>
                    <a:pt x="517" y="547"/>
                  </a:lnTo>
                  <a:lnTo>
                    <a:pt x="545" y="579"/>
                  </a:lnTo>
                  <a:lnTo>
                    <a:pt x="573" y="611"/>
                  </a:lnTo>
                  <a:lnTo>
                    <a:pt x="547" y="574"/>
                  </a:lnTo>
                  <a:lnTo>
                    <a:pt x="523" y="542"/>
                  </a:lnTo>
                  <a:lnTo>
                    <a:pt x="498" y="505"/>
                  </a:lnTo>
                  <a:lnTo>
                    <a:pt x="472" y="474"/>
                  </a:lnTo>
                  <a:lnTo>
                    <a:pt x="447" y="442"/>
                  </a:lnTo>
                  <a:lnTo>
                    <a:pt x="421" y="411"/>
                  </a:lnTo>
                  <a:lnTo>
                    <a:pt x="394" y="379"/>
                  </a:lnTo>
                  <a:lnTo>
                    <a:pt x="368" y="350"/>
                  </a:lnTo>
                  <a:lnTo>
                    <a:pt x="341" y="318"/>
                  </a:lnTo>
                  <a:lnTo>
                    <a:pt x="314" y="289"/>
                  </a:lnTo>
                  <a:lnTo>
                    <a:pt x="289" y="258"/>
                  </a:lnTo>
                  <a:lnTo>
                    <a:pt x="262" y="232"/>
                  </a:lnTo>
                  <a:lnTo>
                    <a:pt x="234" y="200"/>
                  </a:lnTo>
                  <a:lnTo>
                    <a:pt x="206" y="174"/>
                  </a:lnTo>
                  <a:lnTo>
                    <a:pt x="179" y="145"/>
                  </a:lnTo>
                  <a:lnTo>
                    <a:pt x="152" y="116"/>
                  </a:lnTo>
                  <a:lnTo>
                    <a:pt x="148" y="118"/>
                  </a:lnTo>
                  <a:lnTo>
                    <a:pt x="145" y="121"/>
                  </a:lnTo>
                  <a:lnTo>
                    <a:pt x="142" y="124"/>
                  </a:lnTo>
                  <a:lnTo>
                    <a:pt x="139" y="124"/>
                  </a:lnTo>
                  <a:lnTo>
                    <a:pt x="136" y="126"/>
                  </a:lnTo>
                  <a:lnTo>
                    <a:pt x="132" y="126"/>
                  </a:lnTo>
                  <a:lnTo>
                    <a:pt x="129" y="126"/>
                  </a:lnTo>
                  <a:lnTo>
                    <a:pt x="126" y="126"/>
                  </a:lnTo>
                  <a:lnTo>
                    <a:pt x="123" y="124"/>
                  </a:lnTo>
                  <a:lnTo>
                    <a:pt x="120" y="124"/>
                  </a:lnTo>
                  <a:lnTo>
                    <a:pt x="118" y="121"/>
                  </a:lnTo>
                  <a:lnTo>
                    <a:pt x="115" y="121"/>
                  </a:lnTo>
                  <a:lnTo>
                    <a:pt x="112" y="118"/>
                  </a:lnTo>
                  <a:lnTo>
                    <a:pt x="109" y="116"/>
                  </a:lnTo>
                  <a:lnTo>
                    <a:pt x="107" y="110"/>
                  </a:lnTo>
                  <a:lnTo>
                    <a:pt x="105" y="108"/>
                  </a:lnTo>
                  <a:lnTo>
                    <a:pt x="112" y="95"/>
                  </a:lnTo>
                  <a:lnTo>
                    <a:pt x="123" y="105"/>
                  </a:lnTo>
                  <a:lnTo>
                    <a:pt x="126" y="100"/>
                  </a:lnTo>
                  <a:lnTo>
                    <a:pt x="129" y="95"/>
                  </a:lnTo>
                  <a:lnTo>
                    <a:pt x="132" y="89"/>
                  </a:lnTo>
                  <a:lnTo>
                    <a:pt x="136" y="84"/>
                  </a:lnTo>
                  <a:lnTo>
                    <a:pt x="137" y="76"/>
                  </a:lnTo>
                  <a:lnTo>
                    <a:pt x="139" y="68"/>
                  </a:lnTo>
                  <a:lnTo>
                    <a:pt x="140" y="63"/>
                  </a:lnTo>
                  <a:lnTo>
                    <a:pt x="142" y="55"/>
                  </a:lnTo>
                  <a:lnTo>
                    <a:pt x="142" y="47"/>
                  </a:lnTo>
                  <a:lnTo>
                    <a:pt x="144" y="39"/>
                  </a:lnTo>
                  <a:lnTo>
                    <a:pt x="145" y="31"/>
                  </a:lnTo>
                  <a:lnTo>
                    <a:pt x="147" y="26"/>
                  </a:lnTo>
                  <a:lnTo>
                    <a:pt x="148" y="18"/>
                  </a:lnTo>
                  <a:lnTo>
                    <a:pt x="150" y="10"/>
                  </a:lnTo>
                  <a:lnTo>
                    <a:pt x="152" y="5"/>
                  </a:lnTo>
                  <a:lnTo>
                    <a:pt x="155" y="0"/>
                  </a:lnTo>
                  <a:lnTo>
                    <a:pt x="158" y="3"/>
                  </a:lnTo>
                  <a:lnTo>
                    <a:pt x="160" y="8"/>
                  </a:lnTo>
                  <a:lnTo>
                    <a:pt x="161" y="10"/>
                  </a:lnTo>
                  <a:lnTo>
                    <a:pt x="164" y="16"/>
                  </a:lnTo>
                  <a:lnTo>
                    <a:pt x="166" y="21"/>
                  </a:lnTo>
                  <a:lnTo>
                    <a:pt x="166" y="26"/>
                  </a:lnTo>
                  <a:lnTo>
                    <a:pt x="168" y="31"/>
                  </a:lnTo>
                  <a:lnTo>
                    <a:pt x="169" y="39"/>
                  </a:lnTo>
                  <a:lnTo>
                    <a:pt x="169" y="45"/>
                  </a:lnTo>
                  <a:lnTo>
                    <a:pt x="169" y="50"/>
                  </a:lnTo>
                  <a:lnTo>
                    <a:pt x="169" y="55"/>
                  </a:lnTo>
                  <a:lnTo>
                    <a:pt x="169" y="63"/>
                  </a:lnTo>
                  <a:lnTo>
                    <a:pt x="168" y="68"/>
                  </a:lnTo>
                  <a:lnTo>
                    <a:pt x="168" y="74"/>
                  </a:lnTo>
                  <a:lnTo>
                    <a:pt x="166" y="79"/>
                  </a:lnTo>
                  <a:lnTo>
                    <a:pt x="164" y="84"/>
                  </a:lnTo>
                  <a:lnTo>
                    <a:pt x="198" y="121"/>
                  </a:lnTo>
                  <a:lnTo>
                    <a:pt x="233" y="160"/>
                  </a:lnTo>
                  <a:lnTo>
                    <a:pt x="268" y="200"/>
                  </a:lnTo>
                  <a:lnTo>
                    <a:pt x="301" y="239"/>
                  </a:lnTo>
                  <a:lnTo>
                    <a:pt x="335" y="276"/>
                  </a:lnTo>
                  <a:lnTo>
                    <a:pt x="370" y="316"/>
                  </a:lnTo>
                  <a:lnTo>
                    <a:pt x="403" y="355"/>
                  </a:lnTo>
                  <a:lnTo>
                    <a:pt x="437" y="397"/>
                  </a:lnTo>
                  <a:lnTo>
                    <a:pt x="469" y="437"/>
                  </a:lnTo>
                  <a:lnTo>
                    <a:pt x="502" y="482"/>
                  </a:lnTo>
                  <a:lnTo>
                    <a:pt x="534" y="524"/>
                  </a:lnTo>
                  <a:lnTo>
                    <a:pt x="566" y="568"/>
                  </a:lnTo>
                  <a:lnTo>
                    <a:pt x="595" y="616"/>
                  </a:lnTo>
                  <a:lnTo>
                    <a:pt x="627" y="663"/>
                  </a:lnTo>
                  <a:lnTo>
                    <a:pt x="655" y="713"/>
                  </a:lnTo>
                  <a:lnTo>
                    <a:pt x="684" y="766"/>
                  </a:lnTo>
                  <a:lnTo>
                    <a:pt x="654" y="734"/>
                  </a:lnTo>
                  <a:lnTo>
                    <a:pt x="625" y="700"/>
                  </a:lnTo>
                  <a:lnTo>
                    <a:pt x="595" y="666"/>
                  </a:lnTo>
                  <a:lnTo>
                    <a:pt x="563" y="632"/>
                  </a:lnTo>
                  <a:lnTo>
                    <a:pt x="531" y="595"/>
                  </a:lnTo>
                  <a:lnTo>
                    <a:pt x="501" y="561"/>
                  </a:lnTo>
                  <a:lnTo>
                    <a:pt x="467" y="526"/>
                  </a:lnTo>
                  <a:lnTo>
                    <a:pt x="435" y="495"/>
                  </a:lnTo>
                  <a:lnTo>
                    <a:pt x="402" y="463"/>
                  </a:lnTo>
                  <a:lnTo>
                    <a:pt x="368" y="432"/>
                  </a:lnTo>
                  <a:lnTo>
                    <a:pt x="335" y="405"/>
                  </a:lnTo>
                  <a:lnTo>
                    <a:pt x="301" y="379"/>
                  </a:lnTo>
                  <a:lnTo>
                    <a:pt x="266" y="358"/>
                  </a:lnTo>
                  <a:lnTo>
                    <a:pt x="231" y="339"/>
                  </a:lnTo>
                  <a:lnTo>
                    <a:pt x="198" y="324"/>
                  </a:lnTo>
                  <a:lnTo>
                    <a:pt x="163" y="311"/>
                  </a:lnTo>
                  <a:lnTo>
                    <a:pt x="161" y="308"/>
                  </a:lnTo>
                  <a:lnTo>
                    <a:pt x="161" y="303"/>
                  </a:lnTo>
                  <a:lnTo>
                    <a:pt x="163" y="300"/>
                  </a:lnTo>
                  <a:lnTo>
                    <a:pt x="164" y="300"/>
                  </a:lnTo>
                  <a:lnTo>
                    <a:pt x="168" y="297"/>
                  </a:lnTo>
                  <a:lnTo>
                    <a:pt x="171" y="297"/>
                  </a:lnTo>
                  <a:lnTo>
                    <a:pt x="175" y="295"/>
                  </a:lnTo>
                  <a:lnTo>
                    <a:pt x="180" y="295"/>
                  </a:lnTo>
                  <a:lnTo>
                    <a:pt x="187" y="295"/>
                  </a:lnTo>
                  <a:lnTo>
                    <a:pt x="191" y="297"/>
                  </a:lnTo>
                  <a:lnTo>
                    <a:pt x="198" y="300"/>
                  </a:lnTo>
                  <a:lnTo>
                    <a:pt x="203" y="300"/>
                  </a:lnTo>
                  <a:lnTo>
                    <a:pt x="209" y="303"/>
                  </a:lnTo>
                  <a:lnTo>
                    <a:pt x="214" y="308"/>
                  </a:lnTo>
                  <a:lnTo>
                    <a:pt x="220" y="308"/>
                  </a:lnTo>
                  <a:lnTo>
                    <a:pt x="225" y="313"/>
                  </a:lnTo>
                  <a:lnTo>
                    <a:pt x="230" y="313"/>
                  </a:lnTo>
                  <a:lnTo>
                    <a:pt x="236" y="318"/>
                  </a:lnTo>
                  <a:lnTo>
                    <a:pt x="241" y="318"/>
                  </a:lnTo>
                  <a:lnTo>
                    <a:pt x="247" y="321"/>
                  </a:lnTo>
                  <a:lnTo>
                    <a:pt x="252" y="324"/>
                  </a:lnTo>
                  <a:lnTo>
                    <a:pt x="257" y="324"/>
                  </a:lnTo>
                  <a:lnTo>
                    <a:pt x="250" y="318"/>
                  </a:lnTo>
                  <a:lnTo>
                    <a:pt x="244" y="313"/>
                  </a:lnTo>
                  <a:lnTo>
                    <a:pt x="236" y="311"/>
                  </a:lnTo>
                  <a:lnTo>
                    <a:pt x="228" y="305"/>
                  </a:lnTo>
                  <a:lnTo>
                    <a:pt x="220" y="300"/>
                  </a:lnTo>
                  <a:lnTo>
                    <a:pt x="212" y="295"/>
                  </a:lnTo>
                  <a:lnTo>
                    <a:pt x="204" y="289"/>
                  </a:lnTo>
                  <a:lnTo>
                    <a:pt x="196" y="284"/>
                  </a:lnTo>
                  <a:lnTo>
                    <a:pt x="188" y="276"/>
                  </a:lnTo>
                  <a:lnTo>
                    <a:pt x="180" y="268"/>
                  </a:lnTo>
                  <a:lnTo>
                    <a:pt x="174" y="260"/>
                  </a:lnTo>
                  <a:lnTo>
                    <a:pt x="168" y="253"/>
                  </a:lnTo>
                  <a:lnTo>
                    <a:pt x="161" y="245"/>
                  </a:lnTo>
                  <a:lnTo>
                    <a:pt x="156" y="234"/>
                  </a:lnTo>
                  <a:lnTo>
                    <a:pt x="153" y="221"/>
                  </a:lnTo>
                  <a:lnTo>
                    <a:pt x="150" y="210"/>
                  </a:lnTo>
                  <a:lnTo>
                    <a:pt x="131" y="189"/>
                  </a:lnTo>
                  <a:lnTo>
                    <a:pt x="121" y="210"/>
                  </a:lnTo>
                  <a:lnTo>
                    <a:pt x="128" y="224"/>
                  </a:lnTo>
                  <a:lnTo>
                    <a:pt x="131" y="234"/>
                  </a:lnTo>
                  <a:lnTo>
                    <a:pt x="134" y="245"/>
                  </a:lnTo>
                  <a:lnTo>
                    <a:pt x="137" y="255"/>
                  </a:lnTo>
                  <a:lnTo>
                    <a:pt x="137" y="263"/>
                  </a:lnTo>
                  <a:lnTo>
                    <a:pt x="137" y="271"/>
                  </a:lnTo>
                  <a:lnTo>
                    <a:pt x="136" y="276"/>
                  </a:lnTo>
                  <a:lnTo>
                    <a:pt x="134" y="284"/>
                  </a:lnTo>
                  <a:lnTo>
                    <a:pt x="131" y="287"/>
                  </a:lnTo>
                  <a:lnTo>
                    <a:pt x="128" y="292"/>
                  </a:lnTo>
                  <a:lnTo>
                    <a:pt x="123" y="292"/>
                  </a:lnTo>
                  <a:lnTo>
                    <a:pt x="118" y="295"/>
                  </a:lnTo>
                  <a:lnTo>
                    <a:pt x="110" y="295"/>
                  </a:lnTo>
                  <a:lnTo>
                    <a:pt x="104" y="297"/>
                  </a:lnTo>
                  <a:lnTo>
                    <a:pt x="96" y="295"/>
                  </a:lnTo>
                  <a:lnTo>
                    <a:pt x="88" y="295"/>
                  </a:lnTo>
                  <a:lnTo>
                    <a:pt x="75" y="339"/>
                  </a:lnTo>
                  <a:lnTo>
                    <a:pt x="75" y="3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rot="2831400">
              <a:off x="1158480" y="4226040"/>
              <a:ext cx="180000" cy="209880"/>
            </a:xfrm>
            <a:custGeom>
              <a:avLst/>
              <a:gdLst/>
              <a:ahLst/>
              <a:rect l="l" t="t" r="r" b="b"/>
              <a:pathLst>
                <a:path w="62" h="87">
                  <a:moveTo>
                    <a:pt x="0" y="74"/>
                  </a:moveTo>
                  <a:lnTo>
                    <a:pt x="3" y="68"/>
                  </a:lnTo>
                  <a:lnTo>
                    <a:pt x="5" y="66"/>
                  </a:lnTo>
                  <a:lnTo>
                    <a:pt x="6" y="60"/>
                  </a:lnTo>
                  <a:lnTo>
                    <a:pt x="8" y="55"/>
                  </a:lnTo>
                  <a:lnTo>
                    <a:pt x="11" y="50"/>
                  </a:lnTo>
                  <a:lnTo>
                    <a:pt x="13" y="45"/>
                  </a:lnTo>
                  <a:lnTo>
                    <a:pt x="14" y="42"/>
                  </a:lnTo>
                  <a:lnTo>
                    <a:pt x="17" y="37"/>
                  </a:lnTo>
                  <a:lnTo>
                    <a:pt x="19" y="31"/>
                  </a:lnTo>
                  <a:lnTo>
                    <a:pt x="21" y="26"/>
                  </a:lnTo>
                  <a:lnTo>
                    <a:pt x="22" y="21"/>
                  </a:lnTo>
                  <a:lnTo>
                    <a:pt x="25" y="16"/>
                  </a:lnTo>
                  <a:lnTo>
                    <a:pt x="27" y="13"/>
                  </a:lnTo>
                  <a:lnTo>
                    <a:pt x="28" y="8"/>
                  </a:lnTo>
                  <a:lnTo>
                    <a:pt x="30" y="2"/>
                  </a:lnTo>
                  <a:lnTo>
                    <a:pt x="33" y="0"/>
                  </a:lnTo>
                  <a:lnTo>
                    <a:pt x="62" y="37"/>
                  </a:lnTo>
                  <a:lnTo>
                    <a:pt x="59" y="39"/>
                  </a:lnTo>
                  <a:lnTo>
                    <a:pt x="56" y="45"/>
                  </a:lnTo>
                  <a:lnTo>
                    <a:pt x="52" y="50"/>
                  </a:lnTo>
                  <a:lnTo>
                    <a:pt x="49" y="55"/>
                  </a:lnTo>
                  <a:lnTo>
                    <a:pt x="46" y="60"/>
                  </a:lnTo>
                  <a:lnTo>
                    <a:pt x="41" y="66"/>
                  </a:lnTo>
                  <a:lnTo>
                    <a:pt x="38" y="71"/>
                  </a:lnTo>
                  <a:lnTo>
                    <a:pt x="35" y="79"/>
                  </a:lnTo>
                  <a:lnTo>
                    <a:pt x="30" y="81"/>
                  </a:lnTo>
                  <a:lnTo>
                    <a:pt x="25" y="84"/>
                  </a:lnTo>
                  <a:lnTo>
                    <a:pt x="22" y="84"/>
                  </a:lnTo>
                  <a:lnTo>
                    <a:pt x="17" y="87"/>
                  </a:lnTo>
                  <a:lnTo>
                    <a:pt x="13" y="84"/>
                  </a:lnTo>
                  <a:lnTo>
                    <a:pt x="9" y="84"/>
                  </a:lnTo>
                  <a:lnTo>
                    <a:pt x="5" y="7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rot="2831400">
              <a:off x="1194120" y="4030200"/>
              <a:ext cx="107280" cy="335880"/>
            </a:xfrm>
            <a:custGeom>
              <a:avLst/>
              <a:gdLst/>
              <a:ahLst/>
              <a:rect l="l" t="t" r="r" b="b"/>
              <a:pathLst>
                <a:path w="37" h="139">
                  <a:moveTo>
                    <a:pt x="21" y="139"/>
                  </a:moveTo>
                  <a:lnTo>
                    <a:pt x="16" y="131"/>
                  </a:lnTo>
                  <a:lnTo>
                    <a:pt x="11" y="126"/>
                  </a:lnTo>
                  <a:lnTo>
                    <a:pt x="8" y="118"/>
                  </a:lnTo>
                  <a:lnTo>
                    <a:pt x="5" y="110"/>
                  </a:lnTo>
                  <a:lnTo>
                    <a:pt x="3" y="102"/>
                  </a:lnTo>
                  <a:lnTo>
                    <a:pt x="2" y="92"/>
                  </a:lnTo>
                  <a:lnTo>
                    <a:pt x="0" y="84"/>
                  </a:lnTo>
                  <a:lnTo>
                    <a:pt x="0" y="73"/>
                  </a:lnTo>
                  <a:lnTo>
                    <a:pt x="0" y="63"/>
                  </a:lnTo>
                  <a:lnTo>
                    <a:pt x="0" y="55"/>
                  </a:lnTo>
                  <a:lnTo>
                    <a:pt x="2" y="44"/>
                  </a:lnTo>
                  <a:lnTo>
                    <a:pt x="3" y="37"/>
                  </a:lnTo>
                  <a:lnTo>
                    <a:pt x="5" y="26"/>
                  </a:lnTo>
                  <a:lnTo>
                    <a:pt x="8" y="15"/>
                  </a:lnTo>
                  <a:lnTo>
                    <a:pt x="10" y="8"/>
                  </a:lnTo>
                  <a:lnTo>
                    <a:pt x="14" y="0"/>
                  </a:lnTo>
                  <a:lnTo>
                    <a:pt x="37" y="42"/>
                  </a:lnTo>
                  <a:lnTo>
                    <a:pt x="35" y="44"/>
                  </a:lnTo>
                  <a:lnTo>
                    <a:pt x="32" y="47"/>
                  </a:lnTo>
                  <a:lnTo>
                    <a:pt x="30" y="52"/>
                  </a:lnTo>
                  <a:lnTo>
                    <a:pt x="29" y="60"/>
                  </a:lnTo>
                  <a:lnTo>
                    <a:pt x="26" y="65"/>
                  </a:lnTo>
                  <a:lnTo>
                    <a:pt x="24" y="71"/>
                  </a:lnTo>
                  <a:lnTo>
                    <a:pt x="22" y="79"/>
                  </a:lnTo>
                  <a:lnTo>
                    <a:pt x="21" y="87"/>
                  </a:lnTo>
                  <a:lnTo>
                    <a:pt x="21" y="92"/>
                  </a:lnTo>
                  <a:lnTo>
                    <a:pt x="19" y="97"/>
                  </a:lnTo>
                  <a:lnTo>
                    <a:pt x="19" y="105"/>
                  </a:lnTo>
                  <a:lnTo>
                    <a:pt x="21" y="110"/>
                  </a:lnTo>
                  <a:lnTo>
                    <a:pt x="21" y="115"/>
                  </a:lnTo>
                  <a:lnTo>
                    <a:pt x="24" y="118"/>
                  </a:lnTo>
                  <a:lnTo>
                    <a:pt x="26" y="123"/>
                  </a:lnTo>
                  <a:lnTo>
                    <a:pt x="30" y="126"/>
                  </a:lnTo>
                  <a:lnTo>
                    <a:pt x="21" y="139"/>
                  </a:lnTo>
                  <a:lnTo>
                    <a:pt x="21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rot="2831400">
              <a:off x="1039680" y="2877120"/>
              <a:ext cx="936360" cy="1283400"/>
            </a:xfrm>
            <a:custGeom>
              <a:avLst/>
              <a:gdLst/>
              <a:ahLst/>
              <a:rect l="l" t="t" r="r" b="b"/>
              <a:pathLst>
                <a:path w="322" h="531">
                  <a:moveTo>
                    <a:pt x="306" y="531"/>
                  </a:moveTo>
                  <a:lnTo>
                    <a:pt x="287" y="508"/>
                  </a:lnTo>
                  <a:lnTo>
                    <a:pt x="267" y="484"/>
                  </a:lnTo>
                  <a:lnTo>
                    <a:pt x="247" y="455"/>
                  </a:lnTo>
                  <a:lnTo>
                    <a:pt x="228" y="424"/>
                  </a:lnTo>
                  <a:lnTo>
                    <a:pt x="207" y="392"/>
                  </a:lnTo>
                  <a:lnTo>
                    <a:pt x="186" y="360"/>
                  </a:lnTo>
                  <a:lnTo>
                    <a:pt x="165" y="326"/>
                  </a:lnTo>
                  <a:lnTo>
                    <a:pt x="146" y="292"/>
                  </a:lnTo>
                  <a:lnTo>
                    <a:pt x="125" y="255"/>
                  </a:lnTo>
                  <a:lnTo>
                    <a:pt x="105" y="218"/>
                  </a:lnTo>
                  <a:lnTo>
                    <a:pt x="86" y="184"/>
                  </a:lnTo>
                  <a:lnTo>
                    <a:pt x="67" y="150"/>
                  </a:lnTo>
                  <a:lnTo>
                    <a:pt x="49" y="116"/>
                  </a:lnTo>
                  <a:lnTo>
                    <a:pt x="31" y="81"/>
                  </a:lnTo>
                  <a:lnTo>
                    <a:pt x="14" y="52"/>
                  </a:lnTo>
                  <a:lnTo>
                    <a:pt x="0" y="23"/>
                  </a:lnTo>
                  <a:lnTo>
                    <a:pt x="30" y="0"/>
                  </a:lnTo>
                  <a:lnTo>
                    <a:pt x="46" y="34"/>
                  </a:lnTo>
                  <a:lnTo>
                    <a:pt x="63" y="68"/>
                  </a:lnTo>
                  <a:lnTo>
                    <a:pt x="79" y="102"/>
                  </a:lnTo>
                  <a:lnTo>
                    <a:pt x="98" y="137"/>
                  </a:lnTo>
                  <a:lnTo>
                    <a:pt x="116" y="168"/>
                  </a:lnTo>
                  <a:lnTo>
                    <a:pt x="133" y="202"/>
                  </a:lnTo>
                  <a:lnTo>
                    <a:pt x="151" y="237"/>
                  </a:lnTo>
                  <a:lnTo>
                    <a:pt x="170" y="268"/>
                  </a:lnTo>
                  <a:lnTo>
                    <a:pt x="188" y="302"/>
                  </a:lnTo>
                  <a:lnTo>
                    <a:pt x="207" y="334"/>
                  </a:lnTo>
                  <a:lnTo>
                    <a:pt x="226" y="366"/>
                  </a:lnTo>
                  <a:lnTo>
                    <a:pt x="245" y="397"/>
                  </a:lnTo>
                  <a:lnTo>
                    <a:pt x="264" y="426"/>
                  </a:lnTo>
                  <a:lnTo>
                    <a:pt x="283" y="458"/>
                  </a:lnTo>
                  <a:lnTo>
                    <a:pt x="302" y="489"/>
                  </a:lnTo>
                  <a:lnTo>
                    <a:pt x="322" y="521"/>
                  </a:lnTo>
                  <a:lnTo>
                    <a:pt x="306" y="531"/>
                  </a:lnTo>
                  <a:lnTo>
                    <a:pt x="306" y="5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rot="2831400">
              <a:off x="1158480" y="2977920"/>
              <a:ext cx="1134360" cy="1227600"/>
            </a:xfrm>
            <a:custGeom>
              <a:avLst/>
              <a:gdLst/>
              <a:ahLst/>
              <a:rect l="l" t="t" r="r" b="b"/>
              <a:pathLst>
                <a:path w="390" h="508">
                  <a:moveTo>
                    <a:pt x="350" y="326"/>
                  </a:moveTo>
                  <a:lnTo>
                    <a:pt x="347" y="321"/>
                  </a:lnTo>
                  <a:lnTo>
                    <a:pt x="346" y="318"/>
                  </a:lnTo>
                  <a:lnTo>
                    <a:pt x="342" y="315"/>
                  </a:lnTo>
                  <a:lnTo>
                    <a:pt x="341" y="313"/>
                  </a:lnTo>
                  <a:lnTo>
                    <a:pt x="334" y="308"/>
                  </a:lnTo>
                  <a:lnTo>
                    <a:pt x="331" y="302"/>
                  </a:lnTo>
                  <a:lnTo>
                    <a:pt x="328" y="300"/>
                  </a:lnTo>
                  <a:lnTo>
                    <a:pt x="325" y="297"/>
                  </a:lnTo>
                  <a:lnTo>
                    <a:pt x="323" y="294"/>
                  </a:lnTo>
                  <a:lnTo>
                    <a:pt x="320" y="292"/>
                  </a:lnTo>
                  <a:lnTo>
                    <a:pt x="315" y="289"/>
                  </a:lnTo>
                  <a:lnTo>
                    <a:pt x="311" y="284"/>
                  </a:lnTo>
                  <a:lnTo>
                    <a:pt x="303" y="286"/>
                  </a:lnTo>
                  <a:lnTo>
                    <a:pt x="295" y="289"/>
                  </a:lnTo>
                  <a:lnTo>
                    <a:pt x="287" y="289"/>
                  </a:lnTo>
                  <a:lnTo>
                    <a:pt x="279" y="292"/>
                  </a:lnTo>
                  <a:lnTo>
                    <a:pt x="269" y="289"/>
                  </a:lnTo>
                  <a:lnTo>
                    <a:pt x="260" y="286"/>
                  </a:lnTo>
                  <a:lnTo>
                    <a:pt x="250" y="284"/>
                  </a:lnTo>
                  <a:lnTo>
                    <a:pt x="242" y="279"/>
                  </a:lnTo>
                  <a:lnTo>
                    <a:pt x="232" y="276"/>
                  </a:lnTo>
                  <a:lnTo>
                    <a:pt x="223" y="271"/>
                  </a:lnTo>
                  <a:lnTo>
                    <a:pt x="215" y="265"/>
                  </a:lnTo>
                  <a:lnTo>
                    <a:pt x="205" y="260"/>
                  </a:lnTo>
                  <a:lnTo>
                    <a:pt x="197" y="255"/>
                  </a:lnTo>
                  <a:lnTo>
                    <a:pt x="189" y="250"/>
                  </a:lnTo>
                  <a:lnTo>
                    <a:pt x="183" y="244"/>
                  </a:lnTo>
                  <a:lnTo>
                    <a:pt x="177" y="239"/>
                  </a:lnTo>
                  <a:lnTo>
                    <a:pt x="169" y="215"/>
                  </a:lnTo>
                  <a:lnTo>
                    <a:pt x="175" y="215"/>
                  </a:lnTo>
                  <a:lnTo>
                    <a:pt x="181" y="221"/>
                  </a:lnTo>
                  <a:lnTo>
                    <a:pt x="186" y="223"/>
                  </a:lnTo>
                  <a:lnTo>
                    <a:pt x="193" y="226"/>
                  </a:lnTo>
                  <a:lnTo>
                    <a:pt x="199" y="229"/>
                  </a:lnTo>
                  <a:lnTo>
                    <a:pt x="205" y="231"/>
                  </a:lnTo>
                  <a:lnTo>
                    <a:pt x="212" y="234"/>
                  </a:lnTo>
                  <a:lnTo>
                    <a:pt x="218" y="236"/>
                  </a:lnTo>
                  <a:lnTo>
                    <a:pt x="223" y="239"/>
                  </a:lnTo>
                  <a:lnTo>
                    <a:pt x="229" y="239"/>
                  </a:lnTo>
                  <a:lnTo>
                    <a:pt x="236" y="242"/>
                  </a:lnTo>
                  <a:lnTo>
                    <a:pt x="242" y="244"/>
                  </a:lnTo>
                  <a:lnTo>
                    <a:pt x="247" y="247"/>
                  </a:lnTo>
                  <a:lnTo>
                    <a:pt x="253" y="250"/>
                  </a:lnTo>
                  <a:lnTo>
                    <a:pt x="260" y="250"/>
                  </a:lnTo>
                  <a:lnTo>
                    <a:pt x="266" y="252"/>
                  </a:lnTo>
                  <a:lnTo>
                    <a:pt x="261" y="244"/>
                  </a:lnTo>
                  <a:lnTo>
                    <a:pt x="255" y="239"/>
                  </a:lnTo>
                  <a:lnTo>
                    <a:pt x="248" y="236"/>
                  </a:lnTo>
                  <a:lnTo>
                    <a:pt x="242" y="231"/>
                  </a:lnTo>
                  <a:lnTo>
                    <a:pt x="236" y="226"/>
                  </a:lnTo>
                  <a:lnTo>
                    <a:pt x="229" y="223"/>
                  </a:lnTo>
                  <a:lnTo>
                    <a:pt x="223" y="218"/>
                  </a:lnTo>
                  <a:lnTo>
                    <a:pt x="218" y="215"/>
                  </a:lnTo>
                  <a:lnTo>
                    <a:pt x="210" y="213"/>
                  </a:lnTo>
                  <a:lnTo>
                    <a:pt x="204" y="207"/>
                  </a:lnTo>
                  <a:lnTo>
                    <a:pt x="197" y="207"/>
                  </a:lnTo>
                  <a:lnTo>
                    <a:pt x="191" y="205"/>
                  </a:lnTo>
                  <a:lnTo>
                    <a:pt x="183" y="202"/>
                  </a:lnTo>
                  <a:lnTo>
                    <a:pt x="177" y="200"/>
                  </a:lnTo>
                  <a:lnTo>
                    <a:pt x="170" y="197"/>
                  </a:lnTo>
                  <a:lnTo>
                    <a:pt x="164" y="194"/>
                  </a:lnTo>
                  <a:lnTo>
                    <a:pt x="169" y="242"/>
                  </a:lnTo>
                  <a:lnTo>
                    <a:pt x="177" y="255"/>
                  </a:lnTo>
                  <a:lnTo>
                    <a:pt x="183" y="268"/>
                  </a:lnTo>
                  <a:lnTo>
                    <a:pt x="193" y="281"/>
                  </a:lnTo>
                  <a:lnTo>
                    <a:pt x="201" y="297"/>
                  </a:lnTo>
                  <a:lnTo>
                    <a:pt x="208" y="310"/>
                  </a:lnTo>
                  <a:lnTo>
                    <a:pt x="216" y="321"/>
                  </a:lnTo>
                  <a:lnTo>
                    <a:pt x="224" y="336"/>
                  </a:lnTo>
                  <a:lnTo>
                    <a:pt x="234" y="350"/>
                  </a:lnTo>
                  <a:lnTo>
                    <a:pt x="242" y="363"/>
                  </a:lnTo>
                  <a:lnTo>
                    <a:pt x="250" y="376"/>
                  </a:lnTo>
                  <a:lnTo>
                    <a:pt x="258" y="389"/>
                  </a:lnTo>
                  <a:lnTo>
                    <a:pt x="266" y="405"/>
                  </a:lnTo>
                  <a:lnTo>
                    <a:pt x="274" y="418"/>
                  </a:lnTo>
                  <a:lnTo>
                    <a:pt x="282" y="434"/>
                  </a:lnTo>
                  <a:lnTo>
                    <a:pt x="288" y="450"/>
                  </a:lnTo>
                  <a:lnTo>
                    <a:pt x="296" y="465"/>
                  </a:lnTo>
                  <a:lnTo>
                    <a:pt x="291" y="476"/>
                  </a:lnTo>
                  <a:lnTo>
                    <a:pt x="304" y="489"/>
                  </a:lnTo>
                  <a:lnTo>
                    <a:pt x="295" y="508"/>
                  </a:lnTo>
                  <a:lnTo>
                    <a:pt x="274" y="481"/>
                  </a:lnTo>
                  <a:lnTo>
                    <a:pt x="255" y="452"/>
                  </a:lnTo>
                  <a:lnTo>
                    <a:pt x="236" y="423"/>
                  </a:lnTo>
                  <a:lnTo>
                    <a:pt x="216" y="394"/>
                  </a:lnTo>
                  <a:lnTo>
                    <a:pt x="199" y="360"/>
                  </a:lnTo>
                  <a:lnTo>
                    <a:pt x="180" y="331"/>
                  </a:lnTo>
                  <a:lnTo>
                    <a:pt x="162" y="297"/>
                  </a:lnTo>
                  <a:lnTo>
                    <a:pt x="146" y="268"/>
                  </a:lnTo>
                  <a:lnTo>
                    <a:pt x="127" y="234"/>
                  </a:lnTo>
                  <a:lnTo>
                    <a:pt x="110" y="202"/>
                  </a:lnTo>
                  <a:lnTo>
                    <a:pt x="92" y="171"/>
                  </a:lnTo>
                  <a:lnTo>
                    <a:pt x="75" y="139"/>
                  </a:lnTo>
                  <a:lnTo>
                    <a:pt x="57" y="107"/>
                  </a:lnTo>
                  <a:lnTo>
                    <a:pt x="38" y="79"/>
                  </a:lnTo>
                  <a:lnTo>
                    <a:pt x="19" y="47"/>
                  </a:lnTo>
                  <a:lnTo>
                    <a:pt x="0" y="21"/>
                  </a:lnTo>
                  <a:lnTo>
                    <a:pt x="12" y="0"/>
                  </a:lnTo>
                  <a:lnTo>
                    <a:pt x="32" y="23"/>
                  </a:lnTo>
                  <a:lnTo>
                    <a:pt x="52" y="47"/>
                  </a:lnTo>
                  <a:lnTo>
                    <a:pt x="73" y="68"/>
                  </a:lnTo>
                  <a:lnTo>
                    <a:pt x="95" y="86"/>
                  </a:lnTo>
                  <a:lnTo>
                    <a:pt x="119" y="105"/>
                  </a:lnTo>
                  <a:lnTo>
                    <a:pt x="143" y="123"/>
                  </a:lnTo>
                  <a:lnTo>
                    <a:pt x="167" y="139"/>
                  </a:lnTo>
                  <a:lnTo>
                    <a:pt x="193" y="157"/>
                  </a:lnTo>
                  <a:lnTo>
                    <a:pt x="216" y="173"/>
                  </a:lnTo>
                  <a:lnTo>
                    <a:pt x="242" y="189"/>
                  </a:lnTo>
                  <a:lnTo>
                    <a:pt x="267" y="207"/>
                  </a:lnTo>
                  <a:lnTo>
                    <a:pt x="293" y="226"/>
                  </a:lnTo>
                  <a:lnTo>
                    <a:pt x="317" y="244"/>
                  </a:lnTo>
                  <a:lnTo>
                    <a:pt x="341" y="265"/>
                  </a:lnTo>
                  <a:lnTo>
                    <a:pt x="365" y="286"/>
                  </a:lnTo>
                  <a:lnTo>
                    <a:pt x="390" y="313"/>
                  </a:lnTo>
                  <a:lnTo>
                    <a:pt x="382" y="334"/>
                  </a:lnTo>
                  <a:lnTo>
                    <a:pt x="363" y="308"/>
                  </a:lnTo>
                  <a:lnTo>
                    <a:pt x="350" y="326"/>
                  </a:lnTo>
                  <a:lnTo>
                    <a:pt x="350" y="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rot="2831400">
              <a:off x="1613160" y="3843000"/>
              <a:ext cx="232560" cy="439560"/>
            </a:xfrm>
            <a:custGeom>
              <a:avLst/>
              <a:gdLst/>
              <a:ahLst/>
              <a:rect l="l" t="t" r="r" b="b"/>
              <a:pathLst>
                <a:path w="80" h="182">
                  <a:moveTo>
                    <a:pt x="80" y="21"/>
                  </a:moveTo>
                  <a:lnTo>
                    <a:pt x="66" y="74"/>
                  </a:lnTo>
                  <a:lnTo>
                    <a:pt x="77" y="92"/>
                  </a:lnTo>
                  <a:lnTo>
                    <a:pt x="74" y="114"/>
                  </a:lnTo>
                  <a:lnTo>
                    <a:pt x="69" y="108"/>
                  </a:lnTo>
                  <a:lnTo>
                    <a:pt x="66" y="103"/>
                  </a:lnTo>
                  <a:lnTo>
                    <a:pt x="61" y="95"/>
                  </a:lnTo>
                  <a:lnTo>
                    <a:pt x="58" y="90"/>
                  </a:lnTo>
                  <a:lnTo>
                    <a:pt x="55" y="82"/>
                  </a:lnTo>
                  <a:lnTo>
                    <a:pt x="53" y="74"/>
                  </a:lnTo>
                  <a:lnTo>
                    <a:pt x="51" y="66"/>
                  </a:lnTo>
                  <a:lnTo>
                    <a:pt x="51" y="61"/>
                  </a:lnTo>
                  <a:lnTo>
                    <a:pt x="48" y="56"/>
                  </a:lnTo>
                  <a:lnTo>
                    <a:pt x="45" y="53"/>
                  </a:lnTo>
                  <a:lnTo>
                    <a:pt x="42" y="53"/>
                  </a:lnTo>
                  <a:lnTo>
                    <a:pt x="42" y="56"/>
                  </a:lnTo>
                  <a:lnTo>
                    <a:pt x="40" y="58"/>
                  </a:lnTo>
                  <a:lnTo>
                    <a:pt x="42" y="64"/>
                  </a:lnTo>
                  <a:lnTo>
                    <a:pt x="44" y="71"/>
                  </a:lnTo>
                  <a:lnTo>
                    <a:pt x="45" y="77"/>
                  </a:lnTo>
                  <a:lnTo>
                    <a:pt x="47" y="85"/>
                  </a:lnTo>
                  <a:lnTo>
                    <a:pt x="50" y="92"/>
                  </a:lnTo>
                  <a:lnTo>
                    <a:pt x="51" y="98"/>
                  </a:lnTo>
                  <a:lnTo>
                    <a:pt x="55" y="106"/>
                  </a:lnTo>
                  <a:lnTo>
                    <a:pt x="58" y="114"/>
                  </a:lnTo>
                  <a:lnTo>
                    <a:pt x="59" y="119"/>
                  </a:lnTo>
                  <a:lnTo>
                    <a:pt x="63" y="121"/>
                  </a:lnTo>
                  <a:lnTo>
                    <a:pt x="64" y="127"/>
                  </a:lnTo>
                  <a:lnTo>
                    <a:pt x="51" y="137"/>
                  </a:lnTo>
                  <a:lnTo>
                    <a:pt x="37" y="119"/>
                  </a:lnTo>
                  <a:lnTo>
                    <a:pt x="18" y="182"/>
                  </a:lnTo>
                  <a:lnTo>
                    <a:pt x="0" y="137"/>
                  </a:lnTo>
                  <a:lnTo>
                    <a:pt x="15" y="90"/>
                  </a:lnTo>
                  <a:lnTo>
                    <a:pt x="10" y="79"/>
                  </a:lnTo>
                  <a:lnTo>
                    <a:pt x="7" y="71"/>
                  </a:lnTo>
                  <a:lnTo>
                    <a:pt x="5" y="64"/>
                  </a:lnTo>
                  <a:lnTo>
                    <a:pt x="5" y="56"/>
                  </a:lnTo>
                  <a:lnTo>
                    <a:pt x="7" y="50"/>
                  </a:lnTo>
                  <a:lnTo>
                    <a:pt x="8" y="4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18" y="32"/>
                  </a:lnTo>
                  <a:lnTo>
                    <a:pt x="21" y="29"/>
                  </a:lnTo>
                  <a:lnTo>
                    <a:pt x="26" y="27"/>
                  </a:lnTo>
                  <a:lnTo>
                    <a:pt x="31" y="24"/>
                  </a:lnTo>
                  <a:lnTo>
                    <a:pt x="36" y="24"/>
                  </a:lnTo>
                  <a:lnTo>
                    <a:pt x="40" y="21"/>
                  </a:lnTo>
                  <a:lnTo>
                    <a:pt x="45" y="21"/>
                  </a:lnTo>
                  <a:lnTo>
                    <a:pt x="50" y="21"/>
                  </a:lnTo>
                  <a:lnTo>
                    <a:pt x="53" y="0"/>
                  </a:lnTo>
                  <a:lnTo>
                    <a:pt x="80" y="21"/>
                  </a:lnTo>
                  <a:lnTo>
                    <a:pt x="8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rot="2831400">
              <a:off x="1399320" y="3074760"/>
              <a:ext cx="1192320" cy="763920"/>
            </a:xfrm>
            <a:custGeom>
              <a:avLst/>
              <a:gdLst/>
              <a:ahLst/>
              <a:rect l="l" t="t" r="r" b="b"/>
              <a:pathLst>
                <a:path w="410" h="316">
                  <a:moveTo>
                    <a:pt x="360" y="316"/>
                  </a:moveTo>
                  <a:lnTo>
                    <a:pt x="355" y="310"/>
                  </a:lnTo>
                  <a:lnTo>
                    <a:pt x="351" y="305"/>
                  </a:lnTo>
                  <a:lnTo>
                    <a:pt x="347" y="297"/>
                  </a:lnTo>
                  <a:lnTo>
                    <a:pt x="344" y="289"/>
                  </a:lnTo>
                  <a:lnTo>
                    <a:pt x="344" y="287"/>
                  </a:lnTo>
                  <a:lnTo>
                    <a:pt x="343" y="282"/>
                  </a:lnTo>
                  <a:lnTo>
                    <a:pt x="341" y="276"/>
                  </a:lnTo>
                  <a:lnTo>
                    <a:pt x="341" y="274"/>
                  </a:lnTo>
                  <a:lnTo>
                    <a:pt x="339" y="266"/>
                  </a:lnTo>
                  <a:lnTo>
                    <a:pt x="338" y="258"/>
                  </a:lnTo>
                  <a:lnTo>
                    <a:pt x="317" y="237"/>
                  </a:lnTo>
                  <a:lnTo>
                    <a:pt x="298" y="216"/>
                  </a:lnTo>
                  <a:lnTo>
                    <a:pt x="277" y="197"/>
                  </a:lnTo>
                  <a:lnTo>
                    <a:pt x="256" y="179"/>
                  </a:lnTo>
                  <a:lnTo>
                    <a:pt x="236" y="163"/>
                  </a:lnTo>
                  <a:lnTo>
                    <a:pt x="215" y="145"/>
                  </a:lnTo>
                  <a:lnTo>
                    <a:pt x="194" y="129"/>
                  </a:lnTo>
                  <a:lnTo>
                    <a:pt x="174" y="116"/>
                  </a:lnTo>
                  <a:lnTo>
                    <a:pt x="153" y="100"/>
                  </a:lnTo>
                  <a:lnTo>
                    <a:pt x="130" y="87"/>
                  </a:lnTo>
                  <a:lnTo>
                    <a:pt x="110" y="74"/>
                  </a:lnTo>
                  <a:lnTo>
                    <a:pt x="87" y="60"/>
                  </a:lnTo>
                  <a:lnTo>
                    <a:pt x="65" y="47"/>
                  </a:lnTo>
                  <a:lnTo>
                    <a:pt x="44" y="37"/>
                  </a:lnTo>
                  <a:lnTo>
                    <a:pt x="22" y="26"/>
                  </a:lnTo>
                  <a:lnTo>
                    <a:pt x="0" y="13"/>
                  </a:lnTo>
                  <a:lnTo>
                    <a:pt x="6" y="0"/>
                  </a:lnTo>
                  <a:lnTo>
                    <a:pt x="28" y="10"/>
                  </a:lnTo>
                  <a:lnTo>
                    <a:pt x="51" y="21"/>
                  </a:lnTo>
                  <a:lnTo>
                    <a:pt x="71" y="31"/>
                  </a:lnTo>
                  <a:lnTo>
                    <a:pt x="94" y="45"/>
                  </a:lnTo>
                  <a:lnTo>
                    <a:pt x="115" y="55"/>
                  </a:lnTo>
                  <a:lnTo>
                    <a:pt x="137" y="68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01" y="108"/>
                  </a:lnTo>
                  <a:lnTo>
                    <a:pt x="221" y="121"/>
                  </a:lnTo>
                  <a:lnTo>
                    <a:pt x="242" y="137"/>
                  </a:lnTo>
                  <a:lnTo>
                    <a:pt x="263" y="153"/>
                  </a:lnTo>
                  <a:lnTo>
                    <a:pt x="284" y="168"/>
                  </a:lnTo>
                  <a:lnTo>
                    <a:pt x="304" y="187"/>
                  </a:lnTo>
                  <a:lnTo>
                    <a:pt x="325" y="203"/>
                  </a:lnTo>
                  <a:lnTo>
                    <a:pt x="346" y="221"/>
                  </a:lnTo>
                  <a:lnTo>
                    <a:pt x="349" y="213"/>
                  </a:lnTo>
                  <a:lnTo>
                    <a:pt x="352" y="205"/>
                  </a:lnTo>
                  <a:lnTo>
                    <a:pt x="355" y="200"/>
                  </a:lnTo>
                  <a:lnTo>
                    <a:pt x="359" y="195"/>
                  </a:lnTo>
                  <a:lnTo>
                    <a:pt x="362" y="189"/>
                  </a:lnTo>
                  <a:lnTo>
                    <a:pt x="366" y="187"/>
                  </a:lnTo>
                  <a:lnTo>
                    <a:pt x="370" y="184"/>
                  </a:lnTo>
                  <a:lnTo>
                    <a:pt x="374" y="184"/>
                  </a:lnTo>
                  <a:lnTo>
                    <a:pt x="378" y="184"/>
                  </a:lnTo>
                  <a:lnTo>
                    <a:pt x="382" y="184"/>
                  </a:lnTo>
                  <a:lnTo>
                    <a:pt x="386" y="184"/>
                  </a:lnTo>
                  <a:lnTo>
                    <a:pt x="390" y="187"/>
                  </a:lnTo>
                  <a:lnTo>
                    <a:pt x="395" y="189"/>
                  </a:lnTo>
                  <a:lnTo>
                    <a:pt x="400" y="192"/>
                  </a:lnTo>
                  <a:lnTo>
                    <a:pt x="405" y="197"/>
                  </a:lnTo>
                  <a:lnTo>
                    <a:pt x="410" y="205"/>
                  </a:lnTo>
                  <a:lnTo>
                    <a:pt x="398" y="218"/>
                  </a:lnTo>
                  <a:lnTo>
                    <a:pt x="387" y="205"/>
                  </a:lnTo>
                  <a:lnTo>
                    <a:pt x="386" y="208"/>
                  </a:lnTo>
                  <a:lnTo>
                    <a:pt x="382" y="213"/>
                  </a:lnTo>
                  <a:lnTo>
                    <a:pt x="381" y="218"/>
                  </a:lnTo>
                  <a:lnTo>
                    <a:pt x="379" y="224"/>
                  </a:lnTo>
                  <a:lnTo>
                    <a:pt x="376" y="229"/>
                  </a:lnTo>
                  <a:lnTo>
                    <a:pt x="374" y="237"/>
                  </a:lnTo>
                  <a:lnTo>
                    <a:pt x="373" y="242"/>
                  </a:lnTo>
                  <a:lnTo>
                    <a:pt x="371" y="247"/>
                  </a:lnTo>
                  <a:lnTo>
                    <a:pt x="370" y="253"/>
                  </a:lnTo>
                  <a:lnTo>
                    <a:pt x="368" y="260"/>
                  </a:lnTo>
                  <a:lnTo>
                    <a:pt x="366" y="266"/>
                  </a:lnTo>
                  <a:lnTo>
                    <a:pt x="366" y="271"/>
                  </a:lnTo>
                  <a:lnTo>
                    <a:pt x="365" y="279"/>
                  </a:lnTo>
                  <a:lnTo>
                    <a:pt x="365" y="284"/>
                  </a:lnTo>
                  <a:lnTo>
                    <a:pt x="365" y="292"/>
                  </a:lnTo>
                  <a:lnTo>
                    <a:pt x="366" y="297"/>
                  </a:lnTo>
                  <a:lnTo>
                    <a:pt x="360" y="316"/>
                  </a:lnTo>
                  <a:lnTo>
                    <a:pt x="360" y="3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rot="2831400">
              <a:off x="1624320" y="2491920"/>
              <a:ext cx="296640" cy="381960"/>
            </a:xfrm>
            <a:custGeom>
              <a:avLst/>
              <a:gdLst/>
              <a:ahLst/>
              <a:rect l="l" t="t" r="r" b="b"/>
              <a:pathLst>
                <a:path w="102" h="158">
                  <a:moveTo>
                    <a:pt x="40" y="158"/>
                  </a:moveTo>
                  <a:lnTo>
                    <a:pt x="39" y="152"/>
                  </a:lnTo>
                  <a:lnTo>
                    <a:pt x="35" y="150"/>
                  </a:lnTo>
                  <a:lnTo>
                    <a:pt x="34" y="145"/>
                  </a:lnTo>
                  <a:lnTo>
                    <a:pt x="31" y="142"/>
                  </a:lnTo>
                  <a:lnTo>
                    <a:pt x="29" y="137"/>
                  </a:lnTo>
                  <a:lnTo>
                    <a:pt x="26" y="131"/>
                  </a:lnTo>
                  <a:lnTo>
                    <a:pt x="24" y="129"/>
                  </a:lnTo>
                  <a:lnTo>
                    <a:pt x="21" y="123"/>
                  </a:lnTo>
                  <a:lnTo>
                    <a:pt x="18" y="118"/>
                  </a:lnTo>
                  <a:lnTo>
                    <a:pt x="16" y="116"/>
                  </a:lnTo>
                  <a:lnTo>
                    <a:pt x="13" y="110"/>
                  </a:lnTo>
                  <a:lnTo>
                    <a:pt x="11" y="108"/>
                  </a:lnTo>
                  <a:lnTo>
                    <a:pt x="8" y="102"/>
                  </a:lnTo>
                  <a:lnTo>
                    <a:pt x="5" y="100"/>
                  </a:lnTo>
                  <a:lnTo>
                    <a:pt x="3" y="97"/>
                  </a:lnTo>
                  <a:lnTo>
                    <a:pt x="0" y="95"/>
                  </a:lnTo>
                  <a:lnTo>
                    <a:pt x="11" y="79"/>
                  </a:lnTo>
                  <a:lnTo>
                    <a:pt x="19" y="89"/>
                  </a:lnTo>
                  <a:lnTo>
                    <a:pt x="27" y="95"/>
                  </a:lnTo>
                  <a:lnTo>
                    <a:pt x="35" y="100"/>
                  </a:lnTo>
                  <a:lnTo>
                    <a:pt x="43" y="105"/>
                  </a:lnTo>
                  <a:lnTo>
                    <a:pt x="50" y="105"/>
                  </a:lnTo>
                  <a:lnTo>
                    <a:pt x="54" y="105"/>
                  </a:lnTo>
                  <a:lnTo>
                    <a:pt x="61" y="100"/>
                  </a:lnTo>
                  <a:lnTo>
                    <a:pt x="64" y="97"/>
                  </a:lnTo>
                  <a:lnTo>
                    <a:pt x="67" y="89"/>
                  </a:lnTo>
                  <a:lnTo>
                    <a:pt x="69" y="81"/>
                  </a:lnTo>
                  <a:lnTo>
                    <a:pt x="69" y="73"/>
                  </a:lnTo>
                  <a:lnTo>
                    <a:pt x="69" y="63"/>
                  </a:lnTo>
                  <a:lnTo>
                    <a:pt x="67" y="52"/>
                  </a:lnTo>
                  <a:lnTo>
                    <a:pt x="62" y="39"/>
                  </a:lnTo>
                  <a:lnTo>
                    <a:pt x="58" y="26"/>
                  </a:lnTo>
                  <a:lnTo>
                    <a:pt x="51" y="13"/>
                  </a:lnTo>
                  <a:lnTo>
                    <a:pt x="66" y="0"/>
                  </a:lnTo>
                  <a:lnTo>
                    <a:pt x="67" y="2"/>
                  </a:lnTo>
                  <a:lnTo>
                    <a:pt x="70" y="5"/>
                  </a:lnTo>
                  <a:lnTo>
                    <a:pt x="72" y="8"/>
                  </a:lnTo>
                  <a:lnTo>
                    <a:pt x="75" y="13"/>
                  </a:lnTo>
                  <a:lnTo>
                    <a:pt x="78" y="18"/>
                  </a:lnTo>
                  <a:lnTo>
                    <a:pt x="80" y="21"/>
                  </a:lnTo>
                  <a:lnTo>
                    <a:pt x="83" y="26"/>
                  </a:lnTo>
                  <a:lnTo>
                    <a:pt x="85" y="31"/>
                  </a:lnTo>
                  <a:lnTo>
                    <a:pt x="86" y="37"/>
                  </a:lnTo>
                  <a:lnTo>
                    <a:pt x="90" y="42"/>
                  </a:lnTo>
                  <a:lnTo>
                    <a:pt x="91" y="47"/>
                  </a:lnTo>
                  <a:lnTo>
                    <a:pt x="94" y="52"/>
                  </a:lnTo>
                  <a:lnTo>
                    <a:pt x="96" y="58"/>
                  </a:lnTo>
                  <a:lnTo>
                    <a:pt x="99" y="63"/>
                  </a:lnTo>
                  <a:lnTo>
                    <a:pt x="101" y="66"/>
                  </a:lnTo>
                  <a:lnTo>
                    <a:pt x="102" y="71"/>
                  </a:lnTo>
                  <a:lnTo>
                    <a:pt x="101" y="79"/>
                  </a:lnTo>
                  <a:lnTo>
                    <a:pt x="98" y="87"/>
                  </a:lnTo>
                  <a:lnTo>
                    <a:pt x="96" y="95"/>
                  </a:lnTo>
                  <a:lnTo>
                    <a:pt x="93" y="102"/>
                  </a:lnTo>
                  <a:lnTo>
                    <a:pt x="90" y="108"/>
                  </a:lnTo>
                  <a:lnTo>
                    <a:pt x="86" y="116"/>
                  </a:lnTo>
                  <a:lnTo>
                    <a:pt x="83" y="121"/>
                  </a:lnTo>
                  <a:lnTo>
                    <a:pt x="78" y="126"/>
                  </a:lnTo>
                  <a:lnTo>
                    <a:pt x="74" y="131"/>
                  </a:lnTo>
                  <a:lnTo>
                    <a:pt x="70" y="137"/>
                  </a:lnTo>
                  <a:lnTo>
                    <a:pt x="66" y="142"/>
                  </a:lnTo>
                  <a:lnTo>
                    <a:pt x="61" y="145"/>
                  </a:lnTo>
                  <a:lnTo>
                    <a:pt x="56" y="147"/>
                  </a:lnTo>
                  <a:lnTo>
                    <a:pt x="50" y="152"/>
                  </a:lnTo>
                  <a:lnTo>
                    <a:pt x="45" y="155"/>
                  </a:lnTo>
                  <a:lnTo>
                    <a:pt x="40" y="158"/>
                  </a:lnTo>
                  <a:lnTo>
                    <a:pt x="40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rot="2831400">
              <a:off x="1652760" y="2361240"/>
              <a:ext cx="296640" cy="330840"/>
            </a:xfrm>
            <a:custGeom>
              <a:avLst/>
              <a:gdLst/>
              <a:ahLst/>
              <a:rect l="l" t="t" r="r" b="b"/>
              <a:pathLst>
                <a:path w="102" h="137">
                  <a:moveTo>
                    <a:pt x="38" y="137"/>
                  </a:moveTo>
                  <a:lnTo>
                    <a:pt x="24" y="115"/>
                  </a:lnTo>
                  <a:lnTo>
                    <a:pt x="13" y="94"/>
                  </a:lnTo>
                  <a:lnTo>
                    <a:pt x="5" y="76"/>
                  </a:lnTo>
                  <a:lnTo>
                    <a:pt x="1" y="60"/>
                  </a:lnTo>
                  <a:lnTo>
                    <a:pt x="0" y="44"/>
                  </a:lnTo>
                  <a:lnTo>
                    <a:pt x="1" y="31"/>
                  </a:lnTo>
                  <a:lnTo>
                    <a:pt x="5" y="21"/>
                  </a:lnTo>
                  <a:lnTo>
                    <a:pt x="11" y="13"/>
                  </a:lnTo>
                  <a:lnTo>
                    <a:pt x="19" y="5"/>
                  </a:lnTo>
                  <a:lnTo>
                    <a:pt x="28" y="2"/>
                  </a:lnTo>
                  <a:lnTo>
                    <a:pt x="40" y="0"/>
                  </a:lnTo>
                  <a:lnTo>
                    <a:pt x="51" y="2"/>
                  </a:lnTo>
                  <a:lnTo>
                    <a:pt x="64" y="8"/>
                  </a:lnTo>
                  <a:lnTo>
                    <a:pt x="76" y="15"/>
                  </a:lnTo>
                  <a:lnTo>
                    <a:pt x="89" y="29"/>
                  </a:lnTo>
                  <a:lnTo>
                    <a:pt x="102" y="44"/>
                  </a:lnTo>
                  <a:lnTo>
                    <a:pt x="87" y="63"/>
                  </a:lnTo>
                  <a:lnTo>
                    <a:pt x="76" y="50"/>
                  </a:lnTo>
                  <a:lnTo>
                    <a:pt x="67" y="39"/>
                  </a:lnTo>
                  <a:lnTo>
                    <a:pt x="57" y="31"/>
                  </a:lnTo>
                  <a:lnTo>
                    <a:pt x="49" y="29"/>
                  </a:lnTo>
                  <a:lnTo>
                    <a:pt x="41" y="26"/>
                  </a:lnTo>
                  <a:lnTo>
                    <a:pt x="35" y="29"/>
                  </a:lnTo>
                  <a:lnTo>
                    <a:pt x="30" y="34"/>
                  </a:lnTo>
                  <a:lnTo>
                    <a:pt x="27" y="39"/>
                  </a:lnTo>
                  <a:lnTo>
                    <a:pt x="24" y="47"/>
                  </a:lnTo>
                  <a:lnTo>
                    <a:pt x="22" y="55"/>
                  </a:lnTo>
                  <a:lnTo>
                    <a:pt x="22" y="65"/>
                  </a:lnTo>
                  <a:lnTo>
                    <a:pt x="24" y="76"/>
                  </a:lnTo>
                  <a:lnTo>
                    <a:pt x="27" y="89"/>
                  </a:lnTo>
                  <a:lnTo>
                    <a:pt x="33" y="100"/>
                  </a:lnTo>
                  <a:lnTo>
                    <a:pt x="41" y="113"/>
                  </a:lnTo>
                  <a:lnTo>
                    <a:pt x="51" y="126"/>
                  </a:lnTo>
                  <a:lnTo>
                    <a:pt x="38" y="137"/>
                  </a:lnTo>
                  <a:lnTo>
                    <a:pt x="38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rot="2831400">
              <a:off x="1698120" y="2222280"/>
              <a:ext cx="203040" cy="229320"/>
            </a:xfrm>
            <a:custGeom>
              <a:avLst/>
              <a:gdLst/>
              <a:ahLst/>
              <a:rect l="l" t="t" r="r" b="b"/>
              <a:pathLst>
                <a:path w="70" h="95">
                  <a:moveTo>
                    <a:pt x="37" y="95"/>
                  </a:moveTo>
                  <a:lnTo>
                    <a:pt x="22" y="76"/>
                  </a:lnTo>
                  <a:lnTo>
                    <a:pt x="13" y="63"/>
                  </a:lnTo>
                  <a:lnTo>
                    <a:pt x="6" y="47"/>
                  </a:lnTo>
                  <a:lnTo>
                    <a:pt x="1" y="37"/>
                  </a:lnTo>
                  <a:lnTo>
                    <a:pt x="0" y="26"/>
                  </a:lnTo>
                  <a:lnTo>
                    <a:pt x="1" y="16"/>
                  </a:lnTo>
                  <a:lnTo>
                    <a:pt x="5" y="11"/>
                  </a:lnTo>
                  <a:lnTo>
                    <a:pt x="9" y="5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8" y="3"/>
                  </a:lnTo>
                  <a:lnTo>
                    <a:pt x="46" y="5"/>
                  </a:lnTo>
                  <a:lnTo>
                    <a:pt x="54" y="13"/>
                  </a:lnTo>
                  <a:lnTo>
                    <a:pt x="62" y="21"/>
                  </a:lnTo>
                  <a:lnTo>
                    <a:pt x="70" y="32"/>
                  </a:lnTo>
                  <a:lnTo>
                    <a:pt x="57" y="50"/>
                  </a:lnTo>
                  <a:lnTo>
                    <a:pt x="53" y="40"/>
                  </a:lnTo>
                  <a:lnTo>
                    <a:pt x="48" y="34"/>
                  </a:lnTo>
                  <a:lnTo>
                    <a:pt x="43" y="29"/>
                  </a:lnTo>
                  <a:lnTo>
                    <a:pt x="38" y="26"/>
                  </a:lnTo>
                  <a:lnTo>
                    <a:pt x="35" y="26"/>
                  </a:lnTo>
                  <a:lnTo>
                    <a:pt x="30" y="26"/>
                  </a:lnTo>
                  <a:lnTo>
                    <a:pt x="27" y="26"/>
                  </a:lnTo>
                  <a:lnTo>
                    <a:pt x="25" y="32"/>
                  </a:lnTo>
                  <a:lnTo>
                    <a:pt x="22" y="34"/>
                  </a:lnTo>
                  <a:lnTo>
                    <a:pt x="22" y="40"/>
                  </a:lnTo>
                  <a:lnTo>
                    <a:pt x="22" y="45"/>
                  </a:lnTo>
                  <a:lnTo>
                    <a:pt x="24" y="50"/>
                  </a:lnTo>
                  <a:lnTo>
                    <a:pt x="27" y="55"/>
                  </a:lnTo>
                  <a:lnTo>
                    <a:pt x="32" y="63"/>
                  </a:lnTo>
                  <a:lnTo>
                    <a:pt x="38" y="69"/>
                  </a:lnTo>
                  <a:lnTo>
                    <a:pt x="48" y="76"/>
                  </a:lnTo>
                  <a:lnTo>
                    <a:pt x="37" y="95"/>
                  </a:lnTo>
                  <a:lnTo>
                    <a:pt x="37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rot="2831400">
              <a:off x="1360440" y="4938840"/>
              <a:ext cx="657360" cy="464040"/>
            </a:xfrm>
            <a:custGeom>
              <a:avLst/>
              <a:gdLst/>
              <a:ahLst/>
              <a:rect l="l" t="t" r="r" b="b"/>
              <a:pathLst>
                <a:path w="226" h="192">
                  <a:moveTo>
                    <a:pt x="25" y="2"/>
                  </a:moveTo>
                  <a:lnTo>
                    <a:pt x="35" y="8"/>
                  </a:lnTo>
                  <a:lnTo>
                    <a:pt x="46" y="16"/>
                  </a:lnTo>
                  <a:lnTo>
                    <a:pt x="57" y="24"/>
                  </a:lnTo>
                  <a:lnTo>
                    <a:pt x="70" y="31"/>
                  </a:lnTo>
                  <a:lnTo>
                    <a:pt x="82" y="39"/>
                  </a:lnTo>
                  <a:lnTo>
                    <a:pt x="94" y="50"/>
                  </a:lnTo>
                  <a:lnTo>
                    <a:pt x="106" y="60"/>
                  </a:lnTo>
                  <a:lnTo>
                    <a:pt x="121" y="71"/>
                  </a:lnTo>
                  <a:lnTo>
                    <a:pt x="132" y="79"/>
                  </a:lnTo>
                  <a:lnTo>
                    <a:pt x="145" y="87"/>
                  </a:lnTo>
                  <a:lnTo>
                    <a:pt x="157" y="97"/>
                  </a:lnTo>
                  <a:lnTo>
                    <a:pt x="169" y="105"/>
                  </a:lnTo>
                  <a:lnTo>
                    <a:pt x="180" y="110"/>
                  </a:lnTo>
                  <a:lnTo>
                    <a:pt x="191" y="118"/>
                  </a:lnTo>
                  <a:lnTo>
                    <a:pt x="202" y="124"/>
                  </a:lnTo>
                  <a:lnTo>
                    <a:pt x="212" y="126"/>
                  </a:lnTo>
                  <a:lnTo>
                    <a:pt x="216" y="129"/>
                  </a:lnTo>
                  <a:lnTo>
                    <a:pt x="220" y="131"/>
                  </a:lnTo>
                  <a:lnTo>
                    <a:pt x="221" y="137"/>
                  </a:lnTo>
                  <a:lnTo>
                    <a:pt x="224" y="142"/>
                  </a:lnTo>
                  <a:lnTo>
                    <a:pt x="224" y="147"/>
                  </a:lnTo>
                  <a:lnTo>
                    <a:pt x="226" y="153"/>
                  </a:lnTo>
                  <a:lnTo>
                    <a:pt x="226" y="158"/>
                  </a:lnTo>
                  <a:lnTo>
                    <a:pt x="226" y="166"/>
                  </a:lnTo>
                  <a:lnTo>
                    <a:pt x="224" y="171"/>
                  </a:lnTo>
                  <a:lnTo>
                    <a:pt x="223" y="176"/>
                  </a:lnTo>
                  <a:lnTo>
                    <a:pt x="220" y="181"/>
                  </a:lnTo>
                  <a:lnTo>
                    <a:pt x="218" y="187"/>
                  </a:lnTo>
                  <a:lnTo>
                    <a:pt x="215" y="189"/>
                  </a:lnTo>
                  <a:lnTo>
                    <a:pt x="212" y="192"/>
                  </a:lnTo>
                  <a:lnTo>
                    <a:pt x="207" y="192"/>
                  </a:lnTo>
                  <a:lnTo>
                    <a:pt x="202" y="192"/>
                  </a:lnTo>
                  <a:lnTo>
                    <a:pt x="191" y="184"/>
                  </a:lnTo>
                  <a:lnTo>
                    <a:pt x="178" y="179"/>
                  </a:lnTo>
                  <a:lnTo>
                    <a:pt x="167" y="171"/>
                  </a:lnTo>
                  <a:lnTo>
                    <a:pt x="154" y="163"/>
                  </a:lnTo>
                  <a:lnTo>
                    <a:pt x="141" y="155"/>
                  </a:lnTo>
                  <a:lnTo>
                    <a:pt x="130" y="147"/>
                  </a:lnTo>
                  <a:lnTo>
                    <a:pt x="118" y="137"/>
                  </a:lnTo>
                  <a:lnTo>
                    <a:pt x="106" y="129"/>
                  </a:lnTo>
                  <a:lnTo>
                    <a:pt x="94" y="118"/>
                  </a:lnTo>
                  <a:lnTo>
                    <a:pt x="82" y="110"/>
                  </a:lnTo>
                  <a:lnTo>
                    <a:pt x="70" y="100"/>
                  </a:lnTo>
                  <a:lnTo>
                    <a:pt x="59" y="92"/>
                  </a:lnTo>
                  <a:lnTo>
                    <a:pt x="47" y="84"/>
                  </a:lnTo>
                  <a:lnTo>
                    <a:pt x="35" y="74"/>
                  </a:lnTo>
                  <a:lnTo>
                    <a:pt x="24" y="66"/>
                  </a:lnTo>
                  <a:lnTo>
                    <a:pt x="12" y="58"/>
                  </a:lnTo>
                  <a:lnTo>
                    <a:pt x="8" y="53"/>
                  </a:lnTo>
                  <a:lnTo>
                    <a:pt x="4" y="50"/>
                  </a:lnTo>
                  <a:lnTo>
                    <a:pt x="3" y="45"/>
                  </a:lnTo>
                  <a:lnTo>
                    <a:pt x="1" y="39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1" y="18"/>
                  </a:lnTo>
                  <a:lnTo>
                    <a:pt x="3" y="13"/>
                  </a:lnTo>
                  <a:lnTo>
                    <a:pt x="4" y="10"/>
                  </a:lnTo>
                  <a:lnTo>
                    <a:pt x="8" y="5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b8f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rot="2831400">
              <a:off x="1739160" y="5443200"/>
              <a:ext cx="115920" cy="159480"/>
            </a:xfrm>
            <a:custGeom>
              <a:avLst/>
              <a:gdLst/>
              <a:ahLst/>
              <a:rect l="l" t="t" r="r" b="b"/>
              <a:pathLst>
                <a:path w="40" h="66">
                  <a:moveTo>
                    <a:pt x="27" y="5"/>
                  </a:moveTo>
                  <a:lnTo>
                    <a:pt x="32" y="10"/>
                  </a:lnTo>
                  <a:lnTo>
                    <a:pt x="35" y="16"/>
                  </a:lnTo>
                  <a:lnTo>
                    <a:pt x="38" y="24"/>
                  </a:lnTo>
                  <a:lnTo>
                    <a:pt x="40" y="29"/>
                  </a:lnTo>
                  <a:lnTo>
                    <a:pt x="40" y="37"/>
                  </a:lnTo>
                  <a:lnTo>
                    <a:pt x="40" y="42"/>
                  </a:lnTo>
                  <a:lnTo>
                    <a:pt x="38" y="47"/>
                  </a:lnTo>
                  <a:lnTo>
                    <a:pt x="37" y="52"/>
                  </a:lnTo>
                  <a:lnTo>
                    <a:pt x="35" y="58"/>
                  </a:lnTo>
                  <a:lnTo>
                    <a:pt x="32" y="60"/>
                  </a:lnTo>
                  <a:lnTo>
                    <a:pt x="29" y="63"/>
                  </a:lnTo>
                  <a:lnTo>
                    <a:pt x="25" y="66"/>
                  </a:lnTo>
                  <a:lnTo>
                    <a:pt x="22" y="66"/>
                  </a:lnTo>
                  <a:lnTo>
                    <a:pt x="17" y="66"/>
                  </a:lnTo>
                  <a:lnTo>
                    <a:pt x="14" y="63"/>
                  </a:lnTo>
                  <a:lnTo>
                    <a:pt x="11" y="60"/>
                  </a:lnTo>
                  <a:lnTo>
                    <a:pt x="6" y="52"/>
                  </a:lnTo>
                  <a:lnTo>
                    <a:pt x="3" y="45"/>
                  </a:lnTo>
                  <a:lnTo>
                    <a:pt x="1" y="39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" y="10"/>
                  </a:lnTo>
                  <a:lnTo>
                    <a:pt x="3" y="8"/>
                  </a:lnTo>
                  <a:lnTo>
                    <a:pt x="6" y="5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4" y="2"/>
                  </a:lnTo>
                  <a:lnTo>
                    <a:pt x="27" y="5"/>
                  </a:lnTo>
                  <a:lnTo>
                    <a:pt x="27" y="5"/>
                  </a:lnTo>
                  <a:close/>
                </a:path>
              </a:pathLst>
            </a:custGeom>
            <a:solidFill>
              <a:srgbClr val="b8f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rot="2831400">
              <a:off x="1155600" y="4624200"/>
              <a:ext cx="959400" cy="884520"/>
            </a:xfrm>
            <a:custGeom>
              <a:avLst/>
              <a:gdLst/>
              <a:ahLst/>
              <a:rect l="l" t="t" r="r" b="b"/>
              <a:pathLst>
                <a:path w="330" h="366">
                  <a:moveTo>
                    <a:pt x="193" y="184"/>
                  </a:moveTo>
                  <a:lnTo>
                    <a:pt x="197" y="184"/>
                  </a:lnTo>
                  <a:lnTo>
                    <a:pt x="204" y="187"/>
                  </a:lnTo>
                  <a:lnTo>
                    <a:pt x="213" y="189"/>
                  </a:lnTo>
                  <a:lnTo>
                    <a:pt x="226" y="195"/>
                  </a:lnTo>
                  <a:lnTo>
                    <a:pt x="239" y="203"/>
                  </a:lnTo>
                  <a:lnTo>
                    <a:pt x="253" y="210"/>
                  </a:lnTo>
                  <a:lnTo>
                    <a:pt x="268" y="218"/>
                  </a:lnTo>
                  <a:lnTo>
                    <a:pt x="282" y="229"/>
                  </a:lnTo>
                  <a:lnTo>
                    <a:pt x="295" y="239"/>
                  </a:lnTo>
                  <a:lnTo>
                    <a:pt x="307" y="250"/>
                  </a:lnTo>
                  <a:lnTo>
                    <a:pt x="317" y="263"/>
                  </a:lnTo>
                  <a:lnTo>
                    <a:pt x="325" y="276"/>
                  </a:lnTo>
                  <a:lnTo>
                    <a:pt x="328" y="287"/>
                  </a:lnTo>
                  <a:lnTo>
                    <a:pt x="330" y="300"/>
                  </a:lnTo>
                  <a:lnTo>
                    <a:pt x="327" y="313"/>
                  </a:lnTo>
                  <a:lnTo>
                    <a:pt x="319" y="326"/>
                  </a:lnTo>
                  <a:lnTo>
                    <a:pt x="315" y="326"/>
                  </a:lnTo>
                  <a:lnTo>
                    <a:pt x="314" y="331"/>
                  </a:lnTo>
                  <a:lnTo>
                    <a:pt x="311" y="334"/>
                  </a:lnTo>
                  <a:lnTo>
                    <a:pt x="307" y="339"/>
                  </a:lnTo>
                  <a:lnTo>
                    <a:pt x="304" y="342"/>
                  </a:lnTo>
                  <a:lnTo>
                    <a:pt x="303" y="345"/>
                  </a:lnTo>
                  <a:lnTo>
                    <a:pt x="299" y="347"/>
                  </a:lnTo>
                  <a:lnTo>
                    <a:pt x="298" y="350"/>
                  </a:lnTo>
                  <a:lnTo>
                    <a:pt x="295" y="353"/>
                  </a:lnTo>
                  <a:lnTo>
                    <a:pt x="291" y="358"/>
                  </a:lnTo>
                  <a:lnTo>
                    <a:pt x="288" y="358"/>
                  </a:lnTo>
                  <a:lnTo>
                    <a:pt x="287" y="360"/>
                  </a:lnTo>
                  <a:lnTo>
                    <a:pt x="282" y="363"/>
                  </a:lnTo>
                  <a:lnTo>
                    <a:pt x="279" y="363"/>
                  </a:lnTo>
                  <a:lnTo>
                    <a:pt x="276" y="366"/>
                  </a:lnTo>
                  <a:lnTo>
                    <a:pt x="274" y="366"/>
                  </a:lnTo>
                  <a:lnTo>
                    <a:pt x="263" y="363"/>
                  </a:lnTo>
                  <a:lnTo>
                    <a:pt x="252" y="358"/>
                  </a:lnTo>
                  <a:lnTo>
                    <a:pt x="239" y="347"/>
                  </a:lnTo>
                  <a:lnTo>
                    <a:pt x="226" y="337"/>
                  </a:lnTo>
                  <a:lnTo>
                    <a:pt x="212" y="321"/>
                  </a:lnTo>
                  <a:lnTo>
                    <a:pt x="199" y="305"/>
                  </a:lnTo>
                  <a:lnTo>
                    <a:pt x="185" y="287"/>
                  </a:lnTo>
                  <a:lnTo>
                    <a:pt x="170" y="268"/>
                  </a:lnTo>
                  <a:lnTo>
                    <a:pt x="158" y="247"/>
                  </a:lnTo>
                  <a:lnTo>
                    <a:pt x="143" y="229"/>
                  </a:lnTo>
                  <a:lnTo>
                    <a:pt x="130" y="208"/>
                  </a:lnTo>
                  <a:lnTo>
                    <a:pt x="118" y="189"/>
                  </a:lnTo>
                  <a:lnTo>
                    <a:pt x="107" y="171"/>
                  </a:lnTo>
                  <a:lnTo>
                    <a:pt x="97" y="155"/>
                  </a:lnTo>
                  <a:lnTo>
                    <a:pt x="87" y="139"/>
                  </a:lnTo>
                  <a:lnTo>
                    <a:pt x="81" y="129"/>
                  </a:lnTo>
                  <a:lnTo>
                    <a:pt x="78" y="124"/>
                  </a:lnTo>
                  <a:lnTo>
                    <a:pt x="76" y="121"/>
                  </a:lnTo>
                  <a:lnTo>
                    <a:pt x="73" y="116"/>
                  </a:lnTo>
                  <a:lnTo>
                    <a:pt x="70" y="113"/>
                  </a:lnTo>
                  <a:lnTo>
                    <a:pt x="68" y="108"/>
                  </a:lnTo>
                  <a:lnTo>
                    <a:pt x="65" y="105"/>
                  </a:lnTo>
                  <a:lnTo>
                    <a:pt x="62" y="100"/>
                  </a:lnTo>
                  <a:lnTo>
                    <a:pt x="60" y="97"/>
                  </a:lnTo>
                  <a:lnTo>
                    <a:pt x="57" y="92"/>
                  </a:lnTo>
                  <a:lnTo>
                    <a:pt x="54" y="89"/>
                  </a:lnTo>
                  <a:lnTo>
                    <a:pt x="52" y="84"/>
                  </a:lnTo>
                  <a:lnTo>
                    <a:pt x="49" y="81"/>
                  </a:lnTo>
                  <a:lnTo>
                    <a:pt x="46" y="76"/>
                  </a:lnTo>
                  <a:lnTo>
                    <a:pt x="43" y="74"/>
                  </a:lnTo>
                  <a:lnTo>
                    <a:pt x="40" y="71"/>
                  </a:lnTo>
                  <a:lnTo>
                    <a:pt x="36" y="68"/>
                  </a:lnTo>
                  <a:lnTo>
                    <a:pt x="33" y="66"/>
                  </a:lnTo>
                  <a:lnTo>
                    <a:pt x="30" y="60"/>
                  </a:lnTo>
                  <a:lnTo>
                    <a:pt x="27" y="58"/>
                  </a:lnTo>
                  <a:lnTo>
                    <a:pt x="24" y="52"/>
                  </a:lnTo>
                  <a:lnTo>
                    <a:pt x="20" y="47"/>
                  </a:lnTo>
                  <a:lnTo>
                    <a:pt x="16" y="45"/>
                  </a:lnTo>
                  <a:lnTo>
                    <a:pt x="14" y="39"/>
                  </a:lnTo>
                  <a:lnTo>
                    <a:pt x="11" y="34"/>
                  </a:lnTo>
                  <a:lnTo>
                    <a:pt x="9" y="29"/>
                  </a:lnTo>
                  <a:lnTo>
                    <a:pt x="6" y="24"/>
                  </a:lnTo>
                  <a:lnTo>
                    <a:pt x="3" y="16"/>
                  </a:lnTo>
                  <a:lnTo>
                    <a:pt x="1" y="10"/>
                  </a:lnTo>
                  <a:lnTo>
                    <a:pt x="0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11" y="5"/>
                  </a:lnTo>
                  <a:lnTo>
                    <a:pt x="24" y="13"/>
                  </a:lnTo>
                  <a:lnTo>
                    <a:pt x="35" y="24"/>
                  </a:lnTo>
                  <a:lnTo>
                    <a:pt x="46" y="34"/>
                  </a:lnTo>
                  <a:lnTo>
                    <a:pt x="59" y="47"/>
                  </a:lnTo>
                  <a:lnTo>
                    <a:pt x="68" y="58"/>
                  </a:lnTo>
                  <a:lnTo>
                    <a:pt x="79" y="71"/>
                  </a:lnTo>
                  <a:lnTo>
                    <a:pt x="91" y="81"/>
                  </a:lnTo>
                  <a:lnTo>
                    <a:pt x="102" y="92"/>
                  </a:lnTo>
                  <a:lnTo>
                    <a:pt x="113" y="105"/>
                  </a:lnTo>
                  <a:lnTo>
                    <a:pt x="124" y="116"/>
                  </a:lnTo>
                  <a:lnTo>
                    <a:pt x="135" y="129"/>
                  </a:lnTo>
                  <a:lnTo>
                    <a:pt x="146" y="139"/>
                  </a:lnTo>
                  <a:lnTo>
                    <a:pt x="158" y="150"/>
                  </a:lnTo>
                  <a:lnTo>
                    <a:pt x="169" y="163"/>
                  </a:lnTo>
                  <a:lnTo>
                    <a:pt x="181" y="174"/>
                  </a:lnTo>
                  <a:lnTo>
                    <a:pt x="193" y="184"/>
                  </a:lnTo>
                  <a:lnTo>
                    <a:pt x="193" y="184"/>
                  </a:lnTo>
                  <a:close/>
                </a:path>
              </a:pathLst>
            </a:custGeom>
            <a:solidFill>
              <a:srgbClr val="b8f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"/>
          <p:cNvSpPr/>
          <p:nvPr/>
        </p:nvSpPr>
        <p:spPr>
          <a:xfrm>
            <a:off x="4778640" y="2007360"/>
            <a:ext cx="1110600" cy="110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145" y="3944"/>
                </a:moveTo>
                <a:arcTo wR="10800" hR="10800" stAng="-2364312" swAng="4720980"/>
                <a:lnTo>
                  <a:pt x="10800" y="10800"/>
                </a:lnTo>
                <a:close/>
              </a:path>
              <a:path fill="none" w="21600" h="21600">
                <a:moveTo>
                  <a:pt x="19145" y="3944"/>
                </a:moveTo>
                <a:arcTo wR="10800" hR="10800" stAng="-2364312" swAng="4720980"/>
              </a:path>
            </a:pathLst>
          </a:custGeom>
          <a:solidFill>
            <a:srgbClr val="ffffff"/>
          </a:solidFill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791320" y="2209680"/>
            <a:ext cx="1414440" cy="1800"/>
          </a:xfrm>
          <a:prstGeom prst="line">
            <a:avLst/>
          </a:prstGeom>
          <a:ln w="36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942520" y="2209680"/>
            <a:ext cx="133560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omic Sans MS"/>
              </a:rPr>
              <a:t>1015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181480" y="2209680"/>
            <a:ext cx="685800" cy="762120"/>
          </a:xfrm>
          <a:prstGeom prst="flowChartDelay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421600" y="2209680"/>
            <a:ext cx="33444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3685320" y="533520"/>
            <a:ext cx="18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219320" y="3336840"/>
            <a:ext cx="1523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405080" y="3336840"/>
            <a:ext cx="8931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371600" y="4479840"/>
            <a:ext cx="1295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740240" y="4479840"/>
            <a:ext cx="8931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535760" y="15080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Comic Sans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840320" y="15080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145240" y="15080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304280" y="2711520"/>
            <a:ext cx="63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Comic Sans MS"/>
              </a:rPr>
              <a:t>-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762120" y="2117880"/>
                <a:ext cx="1904760" cy="89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1015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877" name=""/>
          <p:cNvSpPr/>
          <p:nvPr/>
        </p:nvSpPr>
        <p:spPr>
          <a:xfrm>
            <a:off x="1312200" y="3794040"/>
            <a:ext cx="9237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-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508400" y="5013360"/>
            <a:ext cx="1056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-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447920" y="5699160"/>
            <a:ext cx="1295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261160" y="56991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Comic Sans MS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76720" y="3917880"/>
            <a:ext cx="3047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ck answer by multipl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6553080" y="1752480"/>
            <a:ext cx="2057400" cy="1922760"/>
            <a:chOff x="6553080" y="1752480"/>
            <a:chExt cx="2057400" cy="1922760"/>
          </a:xfrm>
        </p:grpSpPr>
        <p:sp>
          <p:nvSpPr>
            <p:cNvPr id="883" name=""/>
            <p:cNvSpPr/>
            <p:nvPr/>
          </p:nvSpPr>
          <p:spPr>
            <a:xfrm>
              <a:off x="6645600" y="1752480"/>
              <a:ext cx="61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cc99"/>
                  </a:solidFill>
                  <a:latin typeface="Comic Sans MS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179120" y="1752480"/>
              <a:ext cx="61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3333cc"/>
                  </a:solidFill>
                  <a:latin typeface="Comic Sans MS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749000" y="1752480"/>
              <a:ext cx="61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6600"/>
                  </a:solidFill>
                  <a:latin typeface="Comic Sans MS"/>
                </a:rPr>
                <a:t>5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238880" y="2666880"/>
              <a:ext cx="137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x7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553080" y="3576600"/>
              <a:ext cx="1905120" cy="4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6460920" y="3581280"/>
            <a:ext cx="1924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Comic Sans MS"/>
              </a:rPr>
              <a:t>101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9" name=""/>
          <p:cNvCxnSpPr>
            <a:stCxn id="888" idx="1"/>
          </p:cNvCxnSpPr>
          <p:nvPr/>
        </p:nvCxnSpPr>
        <p:spPr>
          <a:xfrm rot="10800000">
            <a:off x="2666160" y="2563200"/>
            <a:ext cx="3734640" cy="1521360"/>
          </a:xfrm>
          <a:prstGeom prst="curvedConnector5">
            <a:avLst>
              <a:gd name="adj1" fmla="val 49995"/>
              <a:gd name="adj2" fmla="val 49988"/>
              <a:gd name="adj3" fmla="val 4999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>
            <a:off x="3456720" y="533520"/>
            <a:ext cx="18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932760" y="1371600"/>
            <a:ext cx="35496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1017 ÷ 7 =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867280" y="3429000"/>
            <a:ext cx="1524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053400" y="3429000"/>
            <a:ext cx="8931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019920" y="4572000"/>
            <a:ext cx="1295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88200" y="4572000"/>
            <a:ext cx="8931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003120" y="2819520"/>
            <a:ext cx="141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Comic Sans MS"/>
              </a:rPr>
              <a:t>700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373920" y="3946680"/>
            <a:ext cx="112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70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745080" y="5013360"/>
            <a:ext cx="83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7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183720" y="16002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Comic Sans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488640" y="16002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793560" y="16002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952240" y="2803680"/>
            <a:ext cx="63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Comic Sans MS"/>
              </a:rPr>
              <a:t>-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960160" y="3886200"/>
            <a:ext cx="9237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-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156720" y="5105520"/>
            <a:ext cx="1056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-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095880" y="5791320"/>
            <a:ext cx="1295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909480" y="57913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268800" y="4514760"/>
            <a:ext cx="276120" cy="376200"/>
          </a:xfrm>
          <a:custGeom>
            <a:avLst/>
            <a:gdLst/>
            <a:ahLst/>
            <a:rect l="l" t="t" r="r" b="b"/>
            <a:pathLst>
              <a:path w="348" h="473">
                <a:moveTo>
                  <a:pt x="35" y="0"/>
                </a:moveTo>
                <a:lnTo>
                  <a:pt x="32" y="2"/>
                </a:lnTo>
                <a:lnTo>
                  <a:pt x="28" y="16"/>
                </a:lnTo>
                <a:lnTo>
                  <a:pt x="19" y="37"/>
                </a:lnTo>
                <a:lnTo>
                  <a:pt x="13" y="65"/>
                </a:lnTo>
                <a:lnTo>
                  <a:pt x="6" y="97"/>
                </a:lnTo>
                <a:lnTo>
                  <a:pt x="2" y="134"/>
                </a:lnTo>
                <a:lnTo>
                  <a:pt x="0" y="173"/>
                </a:lnTo>
                <a:lnTo>
                  <a:pt x="5" y="215"/>
                </a:lnTo>
                <a:lnTo>
                  <a:pt x="12" y="256"/>
                </a:lnTo>
                <a:lnTo>
                  <a:pt x="27" y="298"/>
                </a:lnTo>
                <a:lnTo>
                  <a:pt x="48" y="338"/>
                </a:lnTo>
                <a:lnTo>
                  <a:pt x="82" y="375"/>
                </a:lnTo>
                <a:lnTo>
                  <a:pt x="123" y="406"/>
                </a:lnTo>
                <a:lnTo>
                  <a:pt x="175" y="437"/>
                </a:lnTo>
                <a:lnTo>
                  <a:pt x="241" y="458"/>
                </a:lnTo>
                <a:lnTo>
                  <a:pt x="322" y="473"/>
                </a:lnTo>
                <a:lnTo>
                  <a:pt x="348" y="314"/>
                </a:lnTo>
                <a:lnTo>
                  <a:pt x="287" y="139"/>
                </a:lnTo>
                <a:lnTo>
                  <a:pt x="139" y="20"/>
                </a:lnTo>
                <a:lnTo>
                  <a:pt x="35" y="0"/>
                </a:lnTo>
                <a:lnTo>
                  <a:pt x="35" y="0"/>
                </a:lnTo>
                <a:close/>
              </a:path>
            </a:pathLst>
          </a:custGeom>
          <a:solidFill>
            <a:srgbClr val="d9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87480" y="2160360"/>
            <a:ext cx="3498120" cy="4454640"/>
            <a:chOff x="87480" y="2160360"/>
            <a:chExt cx="3498120" cy="4454640"/>
          </a:xfrm>
        </p:grpSpPr>
        <p:sp>
          <p:nvSpPr>
            <p:cNvPr id="909" name=""/>
            <p:cNvSpPr/>
            <p:nvPr/>
          </p:nvSpPr>
          <p:spPr>
            <a:xfrm rot="2831400">
              <a:off x="2897640" y="5252040"/>
              <a:ext cx="31320" cy="151560"/>
            </a:xfrm>
            <a:custGeom>
              <a:avLst/>
              <a:gdLst/>
              <a:ahLst/>
              <a:rect l="l" t="t" r="r" b="b"/>
              <a:pathLst>
                <a:path w="11" h="63">
                  <a:moveTo>
                    <a:pt x="3" y="0"/>
                  </a:moveTo>
                  <a:lnTo>
                    <a:pt x="3" y="8"/>
                  </a:lnTo>
                  <a:lnTo>
                    <a:pt x="3" y="15"/>
                  </a:lnTo>
                  <a:lnTo>
                    <a:pt x="3" y="23"/>
                  </a:lnTo>
                  <a:lnTo>
                    <a:pt x="3" y="31"/>
                  </a:lnTo>
                  <a:lnTo>
                    <a:pt x="2" y="39"/>
                  </a:lnTo>
                  <a:lnTo>
                    <a:pt x="2" y="47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2" y="58"/>
                  </a:lnTo>
                  <a:lnTo>
                    <a:pt x="5" y="55"/>
                  </a:lnTo>
                  <a:lnTo>
                    <a:pt x="7" y="52"/>
                  </a:lnTo>
                  <a:lnTo>
                    <a:pt x="8" y="50"/>
                  </a:lnTo>
                  <a:lnTo>
                    <a:pt x="10" y="42"/>
                  </a:lnTo>
                  <a:lnTo>
                    <a:pt x="11" y="34"/>
                  </a:lnTo>
                  <a:lnTo>
                    <a:pt x="10" y="29"/>
                  </a:lnTo>
                  <a:lnTo>
                    <a:pt x="10" y="21"/>
                  </a:lnTo>
                  <a:lnTo>
                    <a:pt x="8" y="15"/>
                  </a:lnTo>
                  <a:lnTo>
                    <a:pt x="7" y="10"/>
                  </a:lnTo>
                  <a:lnTo>
                    <a:pt x="5" y="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7f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rot="2831400">
              <a:off x="540360" y="3251160"/>
              <a:ext cx="1832040" cy="2035080"/>
            </a:xfrm>
            <a:custGeom>
              <a:avLst/>
              <a:gdLst/>
              <a:ahLst/>
              <a:rect l="l" t="t" r="r" b="b"/>
              <a:pathLst>
                <a:path w="630" h="842">
                  <a:moveTo>
                    <a:pt x="7" y="5"/>
                  </a:moveTo>
                  <a:lnTo>
                    <a:pt x="20" y="24"/>
                  </a:lnTo>
                  <a:lnTo>
                    <a:pt x="31" y="39"/>
                  </a:lnTo>
                  <a:lnTo>
                    <a:pt x="44" y="58"/>
                  </a:lnTo>
                  <a:lnTo>
                    <a:pt x="55" y="76"/>
                  </a:lnTo>
                  <a:lnTo>
                    <a:pt x="67" y="95"/>
                  </a:lnTo>
                  <a:lnTo>
                    <a:pt x="79" y="116"/>
                  </a:lnTo>
                  <a:lnTo>
                    <a:pt x="90" y="134"/>
                  </a:lnTo>
                  <a:lnTo>
                    <a:pt x="102" y="155"/>
                  </a:lnTo>
                  <a:lnTo>
                    <a:pt x="114" y="174"/>
                  </a:lnTo>
                  <a:lnTo>
                    <a:pt x="125" y="195"/>
                  </a:lnTo>
                  <a:lnTo>
                    <a:pt x="136" y="213"/>
                  </a:lnTo>
                  <a:lnTo>
                    <a:pt x="149" y="231"/>
                  </a:lnTo>
                  <a:lnTo>
                    <a:pt x="160" y="250"/>
                  </a:lnTo>
                  <a:lnTo>
                    <a:pt x="171" y="268"/>
                  </a:lnTo>
                  <a:lnTo>
                    <a:pt x="184" y="287"/>
                  </a:lnTo>
                  <a:lnTo>
                    <a:pt x="197" y="303"/>
                  </a:lnTo>
                  <a:lnTo>
                    <a:pt x="208" y="316"/>
                  </a:lnTo>
                  <a:lnTo>
                    <a:pt x="219" y="331"/>
                  </a:lnTo>
                  <a:lnTo>
                    <a:pt x="230" y="345"/>
                  </a:lnTo>
                  <a:lnTo>
                    <a:pt x="243" y="355"/>
                  </a:lnTo>
                  <a:lnTo>
                    <a:pt x="254" y="368"/>
                  </a:lnTo>
                  <a:lnTo>
                    <a:pt x="265" y="379"/>
                  </a:lnTo>
                  <a:lnTo>
                    <a:pt x="278" y="392"/>
                  </a:lnTo>
                  <a:lnTo>
                    <a:pt x="291" y="405"/>
                  </a:lnTo>
                  <a:lnTo>
                    <a:pt x="302" y="416"/>
                  </a:lnTo>
                  <a:lnTo>
                    <a:pt x="313" y="429"/>
                  </a:lnTo>
                  <a:lnTo>
                    <a:pt x="326" y="439"/>
                  </a:lnTo>
                  <a:lnTo>
                    <a:pt x="337" y="453"/>
                  </a:lnTo>
                  <a:lnTo>
                    <a:pt x="350" y="463"/>
                  </a:lnTo>
                  <a:lnTo>
                    <a:pt x="361" y="476"/>
                  </a:lnTo>
                  <a:lnTo>
                    <a:pt x="372" y="489"/>
                  </a:lnTo>
                  <a:lnTo>
                    <a:pt x="383" y="505"/>
                  </a:lnTo>
                  <a:lnTo>
                    <a:pt x="393" y="516"/>
                  </a:lnTo>
                  <a:lnTo>
                    <a:pt x="402" y="529"/>
                  </a:lnTo>
                  <a:lnTo>
                    <a:pt x="412" y="542"/>
                  </a:lnTo>
                  <a:lnTo>
                    <a:pt x="421" y="555"/>
                  </a:lnTo>
                  <a:lnTo>
                    <a:pt x="431" y="568"/>
                  </a:lnTo>
                  <a:lnTo>
                    <a:pt x="441" y="582"/>
                  </a:lnTo>
                  <a:lnTo>
                    <a:pt x="452" y="595"/>
                  </a:lnTo>
                  <a:lnTo>
                    <a:pt x="461" y="611"/>
                  </a:lnTo>
                  <a:lnTo>
                    <a:pt x="471" y="624"/>
                  </a:lnTo>
                  <a:lnTo>
                    <a:pt x="482" y="637"/>
                  </a:lnTo>
                  <a:lnTo>
                    <a:pt x="492" y="650"/>
                  </a:lnTo>
                  <a:lnTo>
                    <a:pt x="501" y="663"/>
                  </a:lnTo>
                  <a:lnTo>
                    <a:pt x="512" y="674"/>
                  </a:lnTo>
                  <a:lnTo>
                    <a:pt x="522" y="687"/>
                  </a:lnTo>
                  <a:lnTo>
                    <a:pt x="533" y="697"/>
                  </a:lnTo>
                  <a:lnTo>
                    <a:pt x="544" y="708"/>
                  </a:lnTo>
                  <a:lnTo>
                    <a:pt x="549" y="711"/>
                  </a:lnTo>
                  <a:lnTo>
                    <a:pt x="554" y="716"/>
                  </a:lnTo>
                  <a:lnTo>
                    <a:pt x="557" y="721"/>
                  </a:lnTo>
                  <a:lnTo>
                    <a:pt x="562" y="726"/>
                  </a:lnTo>
                  <a:lnTo>
                    <a:pt x="566" y="729"/>
                  </a:lnTo>
                  <a:lnTo>
                    <a:pt x="571" y="734"/>
                  </a:lnTo>
                  <a:lnTo>
                    <a:pt x="576" y="739"/>
                  </a:lnTo>
                  <a:lnTo>
                    <a:pt x="581" y="745"/>
                  </a:lnTo>
                  <a:lnTo>
                    <a:pt x="584" y="750"/>
                  </a:lnTo>
                  <a:lnTo>
                    <a:pt x="589" y="755"/>
                  </a:lnTo>
                  <a:lnTo>
                    <a:pt x="594" y="761"/>
                  </a:lnTo>
                  <a:lnTo>
                    <a:pt x="598" y="766"/>
                  </a:lnTo>
                  <a:lnTo>
                    <a:pt x="603" y="768"/>
                  </a:lnTo>
                  <a:lnTo>
                    <a:pt x="608" y="774"/>
                  </a:lnTo>
                  <a:lnTo>
                    <a:pt x="613" y="779"/>
                  </a:lnTo>
                  <a:lnTo>
                    <a:pt x="619" y="784"/>
                  </a:lnTo>
                  <a:lnTo>
                    <a:pt x="622" y="787"/>
                  </a:lnTo>
                  <a:lnTo>
                    <a:pt x="625" y="792"/>
                  </a:lnTo>
                  <a:lnTo>
                    <a:pt x="627" y="797"/>
                  </a:lnTo>
                  <a:lnTo>
                    <a:pt x="629" y="803"/>
                  </a:lnTo>
                  <a:lnTo>
                    <a:pt x="629" y="808"/>
                  </a:lnTo>
                  <a:lnTo>
                    <a:pt x="630" y="813"/>
                  </a:lnTo>
                  <a:lnTo>
                    <a:pt x="629" y="818"/>
                  </a:lnTo>
                  <a:lnTo>
                    <a:pt x="629" y="824"/>
                  </a:lnTo>
                  <a:lnTo>
                    <a:pt x="627" y="829"/>
                  </a:lnTo>
                  <a:lnTo>
                    <a:pt x="624" y="834"/>
                  </a:lnTo>
                  <a:lnTo>
                    <a:pt x="621" y="837"/>
                  </a:lnTo>
                  <a:lnTo>
                    <a:pt x="619" y="840"/>
                  </a:lnTo>
                  <a:lnTo>
                    <a:pt x="616" y="842"/>
                  </a:lnTo>
                  <a:lnTo>
                    <a:pt x="613" y="842"/>
                  </a:lnTo>
                  <a:lnTo>
                    <a:pt x="608" y="842"/>
                  </a:lnTo>
                  <a:lnTo>
                    <a:pt x="605" y="842"/>
                  </a:lnTo>
                  <a:lnTo>
                    <a:pt x="598" y="837"/>
                  </a:lnTo>
                  <a:lnTo>
                    <a:pt x="594" y="834"/>
                  </a:lnTo>
                  <a:lnTo>
                    <a:pt x="587" y="832"/>
                  </a:lnTo>
                  <a:lnTo>
                    <a:pt x="582" y="829"/>
                  </a:lnTo>
                  <a:lnTo>
                    <a:pt x="578" y="824"/>
                  </a:lnTo>
                  <a:lnTo>
                    <a:pt x="571" y="818"/>
                  </a:lnTo>
                  <a:lnTo>
                    <a:pt x="566" y="816"/>
                  </a:lnTo>
                  <a:lnTo>
                    <a:pt x="562" y="811"/>
                  </a:lnTo>
                  <a:lnTo>
                    <a:pt x="557" y="808"/>
                  </a:lnTo>
                  <a:lnTo>
                    <a:pt x="551" y="803"/>
                  </a:lnTo>
                  <a:lnTo>
                    <a:pt x="546" y="797"/>
                  </a:lnTo>
                  <a:lnTo>
                    <a:pt x="541" y="792"/>
                  </a:lnTo>
                  <a:lnTo>
                    <a:pt x="536" y="790"/>
                  </a:lnTo>
                  <a:lnTo>
                    <a:pt x="531" y="784"/>
                  </a:lnTo>
                  <a:lnTo>
                    <a:pt x="527" y="779"/>
                  </a:lnTo>
                  <a:lnTo>
                    <a:pt x="522" y="776"/>
                  </a:lnTo>
                  <a:lnTo>
                    <a:pt x="501" y="758"/>
                  </a:lnTo>
                  <a:lnTo>
                    <a:pt x="482" y="739"/>
                  </a:lnTo>
                  <a:lnTo>
                    <a:pt x="461" y="718"/>
                  </a:lnTo>
                  <a:lnTo>
                    <a:pt x="442" y="700"/>
                  </a:lnTo>
                  <a:lnTo>
                    <a:pt x="421" y="679"/>
                  </a:lnTo>
                  <a:lnTo>
                    <a:pt x="402" y="658"/>
                  </a:lnTo>
                  <a:lnTo>
                    <a:pt x="383" y="637"/>
                  </a:lnTo>
                  <a:lnTo>
                    <a:pt x="364" y="618"/>
                  </a:lnTo>
                  <a:lnTo>
                    <a:pt x="343" y="595"/>
                  </a:lnTo>
                  <a:lnTo>
                    <a:pt x="324" y="571"/>
                  </a:lnTo>
                  <a:lnTo>
                    <a:pt x="305" y="550"/>
                  </a:lnTo>
                  <a:lnTo>
                    <a:pt x="287" y="526"/>
                  </a:lnTo>
                  <a:lnTo>
                    <a:pt x="268" y="505"/>
                  </a:lnTo>
                  <a:lnTo>
                    <a:pt x="251" y="482"/>
                  </a:lnTo>
                  <a:lnTo>
                    <a:pt x="232" y="458"/>
                  </a:lnTo>
                  <a:lnTo>
                    <a:pt x="216" y="437"/>
                  </a:lnTo>
                  <a:lnTo>
                    <a:pt x="206" y="424"/>
                  </a:lnTo>
                  <a:lnTo>
                    <a:pt x="197" y="408"/>
                  </a:lnTo>
                  <a:lnTo>
                    <a:pt x="184" y="387"/>
                  </a:lnTo>
                  <a:lnTo>
                    <a:pt x="169" y="363"/>
                  </a:lnTo>
                  <a:lnTo>
                    <a:pt x="154" y="337"/>
                  </a:lnTo>
                  <a:lnTo>
                    <a:pt x="138" y="308"/>
                  </a:lnTo>
                  <a:lnTo>
                    <a:pt x="120" y="279"/>
                  </a:lnTo>
                  <a:lnTo>
                    <a:pt x="104" y="250"/>
                  </a:lnTo>
                  <a:lnTo>
                    <a:pt x="87" y="218"/>
                  </a:lnTo>
                  <a:lnTo>
                    <a:pt x="71" y="189"/>
                  </a:lnTo>
                  <a:lnTo>
                    <a:pt x="56" y="160"/>
                  </a:lnTo>
                  <a:lnTo>
                    <a:pt x="42" y="134"/>
                  </a:lnTo>
                  <a:lnTo>
                    <a:pt x="31" y="110"/>
                  </a:lnTo>
                  <a:lnTo>
                    <a:pt x="21" y="89"/>
                  </a:lnTo>
                  <a:lnTo>
                    <a:pt x="15" y="71"/>
                  </a:lnTo>
                  <a:lnTo>
                    <a:pt x="12" y="60"/>
                  </a:lnTo>
                  <a:lnTo>
                    <a:pt x="12" y="55"/>
                  </a:lnTo>
                  <a:lnTo>
                    <a:pt x="10" y="52"/>
                  </a:lnTo>
                  <a:lnTo>
                    <a:pt x="10" y="47"/>
                  </a:lnTo>
                  <a:lnTo>
                    <a:pt x="8" y="39"/>
                  </a:lnTo>
                  <a:lnTo>
                    <a:pt x="7" y="34"/>
                  </a:lnTo>
                  <a:lnTo>
                    <a:pt x="5" y="29"/>
                  </a:lnTo>
                  <a:lnTo>
                    <a:pt x="4" y="24"/>
                  </a:lnTo>
                  <a:lnTo>
                    <a:pt x="2" y="18"/>
                  </a:lnTo>
                  <a:lnTo>
                    <a:pt x="2" y="13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4df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rot="2831400">
              <a:off x="678600" y="3915000"/>
              <a:ext cx="2378880" cy="1894680"/>
            </a:xfrm>
            <a:custGeom>
              <a:avLst/>
              <a:gdLst/>
              <a:ahLst/>
              <a:rect l="l" t="t" r="r" b="b"/>
              <a:pathLst>
                <a:path w="818" h="784">
                  <a:moveTo>
                    <a:pt x="59" y="26"/>
                  </a:moveTo>
                  <a:lnTo>
                    <a:pt x="62" y="31"/>
                  </a:lnTo>
                  <a:lnTo>
                    <a:pt x="64" y="37"/>
                  </a:lnTo>
                  <a:lnTo>
                    <a:pt x="67" y="39"/>
                  </a:lnTo>
                  <a:lnTo>
                    <a:pt x="70" y="45"/>
                  </a:lnTo>
                  <a:lnTo>
                    <a:pt x="72" y="45"/>
                  </a:lnTo>
                  <a:lnTo>
                    <a:pt x="75" y="47"/>
                  </a:lnTo>
                  <a:lnTo>
                    <a:pt x="78" y="50"/>
                  </a:lnTo>
                  <a:lnTo>
                    <a:pt x="81" y="50"/>
                  </a:lnTo>
                  <a:lnTo>
                    <a:pt x="84" y="53"/>
                  </a:lnTo>
                  <a:lnTo>
                    <a:pt x="88" y="53"/>
                  </a:lnTo>
                  <a:lnTo>
                    <a:pt x="91" y="53"/>
                  </a:lnTo>
                  <a:lnTo>
                    <a:pt x="94" y="55"/>
                  </a:lnTo>
                  <a:lnTo>
                    <a:pt x="97" y="55"/>
                  </a:lnTo>
                  <a:lnTo>
                    <a:pt x="100" y="55"/>
                  </a:lnTo>
                  <a:lnTo>
                    <a:pt x="104" y="58"/>
                  </a:lnTo>
                  <a:lnTo>
                    <a:pt x="108" y="60"/>
                  </a:lnTo>
                  <a:lnTo>
                    <a:pt x="116" y="63"/>
                  </a:lnTo>
                  <a:lnTo>
                    <a:pt x="126" y="68"/>
                  </a:lnTo>
                  <a:lnTo>
                    <a:pt x="139" y="79"/>
                  </a:lnTo>
                  <a:lnTo>
                    <a:pt x="151" y="87"/>
                  </a:lnTo>
                  <a:lnTo>
                    <a:pt x="166" y="97"/>
                  </a:lnTo>
                  <a:lnTo>
                    <a:pt x="182" y="110"/>
                  </a:lnTo>
                  <a:lnTo>
                    <a:pt x="198" y="124"/>
                  </a:lnTo>
                  <a:lnTo>
                    <a:pt x="215" y="137"/>
                  </a:lnTo>
                  <a:lnTo>
                    <a:pt x="231" y="150"/>
                  </a:lnTo>
                  <a:lnTo>
                    <a:pt x="249" y="163"/>
                  </a:lnTo>
                  <a:lnTo>
                    <a:pt x="265" y="176"/>
                  </a:lnTo>
                  <a:lnTo>
                    <a:pt x="279" y="189"/>
                  </a:lnTo>
                  <a:lnTo>
                    <a:pt x="293" y="203"/>
                  </a:lnTo>
                  <a:lnTo>
                    <a:pt x="304" y="213"/>
                  </a:lnTo>
                  <a:lnTo>
                    <a:pt x="314" y="224"/>
                  </a:lnTo>
                  <a:lnTo>
                    <a:pt x="324" y="232"/>
                  </a:lnTo>
                  <a:lnTo>
                    <a:pt x="338" y="247"/>
                  </a:lnTo>
                  <a:lnTo>
                    <a:pt x="357" y="263"/>
                  </a:lnTo>
                  <a:lnTo>
                    <a:pt x="376" y="279"/>
                  </a:lnTo>
                  <a:lnTo>
                    <a:pt x="397" y="292"/>
                  </a:lnTo>
                  <a:lnTo>
                    <a:pt x="418" y="308"/>
                  </a:lnTo>
                  <a:lnTo>
                    <a:pt x="440" y="321"/>
                  </a:lnTo>
                  <a:lnTo>
                    <a:pt x="464" y="334"/>
                  </a:lnTo>
                  <a:lnTo>
                    <a:pt x="488" y="350"/>
                  </a:lnTo>
                  <a:lnTo>
                    <a:pt x="510" y="363"/>
                  </a:lnTo>
                  <a:lnTo>
                    <a:pt x="534" y="379"/>
                  </a:lnTo>
                  <a:lnTo>
                    <a:pt x="558" y="392"/>
                  </a:lnTo>
                  <a:lnTo>
                    <a:pt x="582" y="411"/>
                  </a:lnTo>
                  <a:lnTo>
                    <a:pt x="604" y="426"/>
                  </a:lnTo>
                  <a:lnTo>
                    <a:pt x="627" y="445"/>
                  </a:lnTo>
                  <a:lnTo>
                    <a:pt x="649" y="463"/>
                  </a:lnTo>
                  <a:lnTo>
                    <a:pt x="670" y="484"/>
                  </a:lnTo>
                  <a:lnTo>
                    <a:pt x="674" y="490"/>
                  </a:lnTo>
                  <a:lnTo>
                    <a:pt x="682" y="505"/>
                  </a:lnTo>
                  <a:lnTo>
                    <a:pt x="695" y="524"/>
                  </a:lnTo>
                  <a:lnTo>
                    <a:pt x="709" y="550"/>
                  </a:lnTo>
                  <a:lnTo>
                    <a:pt x="725" y="576"/>
                  </a:lnTo>
                  <a:lnTo>
                    <a:pt x="743" y="608"/>
                  </a:lnTo>
                  <a:lnTo>
                    <a:pt x="759" y="640"/>
                  </a:lnTo>
                  <a:lnTo>
                    <a:pt x="776" y="674"/>
                  </a:lnTo>
                  <a:lnTo>
                    <a:pt x="791" y="703"/>
                  </a:lnTo>
                  <a:lnTo>
                    <a:pt x="804" y="732"/>
                  </a:lnTo>
                  <a:lnTo>
                    <a:pt x="813" y="753"/>
                  </a:lnTo>
                  <a:lnTo>
                    <a:pt x="818" y="771"/>
                  </a:lnTo>
                  <a:lnTo>
                    <a:pt x="818" y="782"/>
                  </a:lnTo>
                  <a:lnTo>
                    <a:pt x="813" y="784"/>
                  </a:lnTo>
                  <a:lnTo>
                    <a:pt x="802" y="776"/>
                  </a:lnTo>
                  <a:lnTo>
                    <a:pt x="783" y="758"/>
                  </a:lnTo>
                  <a:lnTo>
                    <a:pt x="762" y="734"/>
                  </a:lnTo>
                  <a:lnTo>
                    <a:pt x="741" y="713"/>
                  </a:lnTo>
                  <a:lnTo>
                    <a:pt x="719" y="692"/>
                  </a:lnTo>
                  <a:lnTo>
                    <a:pt x="698" y="671"/>
                  </a:lnTo>
                  <a:lnTo>
                    <a:pt x="678" y="653"/>
                  </a:lnTo>
                  <a:lnTo>
                    <a:pt x="657" y="632"/>
                  </a:lnTo>
                  <a:lnTo>
                    <a:pt x="635" y="613"/>
                  </a:lnTo>
                  <a:lnTo>
                    <a:pt x="615" y="595"/>
                  </a:lnTo>
                  <a:lnTo>
                    <a:pt x="593" y="576"/>
                  </a:lnTo>
                  <a:lnTo>
                    <a:pt x="571" y="558"/>
                  </a:lnTo>
                  <a:lnTo>
                    <a:pt x="550" y="540"/>
                  </a:lnTo>
                  <a:lnTo>
                    <a:pt x="528" y="524"/>
                  </a:lnTo>
                  <a:lnTo>
                    <a:pt x="505" y="505"/>
                  </a:lnTo>
                  <a:lnTo>
                    <a:pt x="485" y="490"/>
                  </a:lnTo>
                  <a:lnTo>
                    <a:pt x="461" y="474"/>
                  </a:lnTo>
                  <a:lnTo>
                    <a:pt x="438" y="458"/>
                  </a:lnTo>
                  <a:lnTo>
                    <a:pt x="429" y="450"/>
                  </a:lnTo>
                  <a:lnTo>
                    <a:pt x="419" y="442"/>
                  </a:lnTo>
                  <a:lnTo>
                    <a:pt x="408" y="437"/>
                  </a:lnTo>
                  <a:lnTo>
                    <a:pt x="399" y="429"/>
                  </a:lnTo>
                  <a:lnTo>
                    <a:pt x="387" y="424"/>
                  </a:lnTo>
                  <a:lnTo>
                    <a:pt x="378" y="418"/>
                  </a:lnTo>
                  <a:lnTo>
                    <a:pt x="367" y="413"/>
                  </a:lnTo>
                  <a:lnTo>
                    <a:pt x="357" y="408"/>
                  </a:lnTo>
                  <a:lnTo>
                    <a:pt x="348" y="400"/>
                  </a:lnTo>
                  <a:lnTo>
                    <a:pt x="336" y="395"/>
                  </a:lnTo>
                  <a:lnTo>
                    <a:pt x="327" y="387"/>
                  </a:lnTo>
                  <a:lnTo>
                    <a:pt x="317" y="382"/>
                  </a:lnTo>
                  <a:lnTo>
                    <a:pt x="306" y="371"/>
                  </a:lnTo>
                  <a:lnTo>
                    <a:pt x="297" y="363"/>
                  </a:lnTo>
                  <a:lnTo>
                    <a:pt x="287" y="355"/>
                  </a:lnTo>
                  <a:lnTo>
                    <a:pt x="277" y="345"/>
                  </a:lnTo>
                  <a:lnTo>
                    <a:pt x="268" y="334"/>
                  </a:lnTo>
                  <a:lnTo>
                    <a:pt x="257" y="321"/>
                  </a:lnTo>
                  <a:lnTo>
                    <a:pt x="245" y="308"/>
                  </a:lnTo>
                  <a:lnTo>
                    <a:pt x="236" y="295"/>
                  </a:lnTo>
                  <a:lnTo>
                    <a:pt x="223" y="284"/>
                  </a:lnTo>
                  <a:lnTo>
                    <a:pt x="212" y="271"/>
                  </a:lnTo>
                  <a:lnTo>
                    <a:pt x="199" y="255"/>
                  </a:lnTo>
                  <a:lnTo>
                    <a:pt x="188" y="245"/>
                  </a:lnTo>
                  <a:lnTo>
                    <a:pt x="175" y="232"/>
                  </a:lnTo>
                  <a:lnTo>
                    <a:pt x="163" y="221"/>
                  </a:lnTo>
                  <a:lnTo>
                    <a:pt x="151" y="208"/>
                  </a:lnTo>
                  <a:lnTo>
                    <a:pt x="139" y="197"/>
                  </a:lnTo>
                  <a:lnTo>
                    <a:pt x="126" y="187"/>
                  </a:lnTo>
                  <a:lnTo>
                    <a:pt x="115" y="179"/>
                  </a:lnTo>
                  <a:lnTo>
                    <a:pt x="102" y="171"/>
                  </a:lnTo>
                  <a:lnTo>
                    <a:pt x="92" y="166"/>
                  </a:lnTo>
                  <a:lnTo>
                    <a:pt x="84" y="163"/>
                  </a:lnTo>
                  <a:lnTo>
                    <a:pt x="78" y="160"/>
                  </a:lnTo>
                  <a:lnTo>
                    <a:pt x="72" y="158"/>
                  </a:lnTo>
                  <a:lnTo>
                    <a:pt x="67" y="155"/>
                  </a:lnTo>
                  <a:lnTo>
                    <a:pt x="61" y="150"/>
                  </a:lnTo>
                  <a:lnTo>
                    <a:pt x="54" y="147"/>
                  </a:lnTo>
                  <a:lnTo>
                    <a:pt x="48" y="142"/>
                  </a:lnTo>
                  <a:lnTo>
                    <a:pt x="43" y="139"/>
                  </a:lnTo>
                  <a:lnTo>
                    <a:pt x="37" y="134"/>
                  </a:lnTo>
                  <a:lnTo>
                    <a:pt x="30" y="129"/>
                  </a:lnTo>
                  <a:lnTo>
                    <a:pt x="25" y="121"/>
                  </a:lnTo>
                  <a:lnTo>
                    <a:pt x="21" y="116"/>
                  </a:lnTo>
                  <a:lnTo>
                    <a:pt x="16" y="108"/>
                  </a:lnTo>
                  <a:lnTo>
                    <a:pt x="13" y="100"/>
                  </a:lnTo>
                  <a:lnTo>
                    <a:pt x="8" y="92"/>
                  </a:lnTo>
                  <a:lnTo>
                    <a:pt x="5" y="84"/>
                  </a:lnTo>
                  <a:lnTo>
                    <a:pt x="2" y="71"/>
                  </a:lnTo>
                  <a:lnTo>
                    <a:pt x="0" y="60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2" y="31"/>
                  </a:lnTo>
                  <a:lnTo>
                    <a:pt x="5" y="24"/>
                  </a:lnTo>
                  <a:lnTo>
                    <a:pt x="9" y="16"/>
                  </a:lnTo>
                  <a:lnTo>
                    <a:pt x="14" y="10"/>
                  </a:lnTo>
                  <a:lnTo>
                    <a:pt x="19" y="5"/>
                  </a:lnTo>
                  <a:lnTo>
                    <a:pt x="24" y="3"/>
                  </a:lnTo>
                  <a:lnTo>
                    <a:pt x="30" y="0"/>
                  </a:lnTo>
                  <a:lnTo>
                    <a:pt x="37" y="3"/>
                  </a:lnTo>
                  <a:lnTo>
                    <a:pt x="41" y="5"/>
                  </a:lnTo>
                  <a:lnTo>
                    <a:pt x="48" y="8"/>
                  </a:lnTo>
                  <a:lnTo>
                    <a:pt x="54" y="16"/>
                  </a:lnTo>
                  <a:lnTo>
                    <a:pt x="59" y="26"/>
                  </a:lnTo>
                  <a:lnTo>
                    <a:pt x="59" y="26"/>
                  </a:lnTo>
                  <a:close/>
                </a:path>
              </a:pathLst>
            </a:custGeom>
            <a:solidFill>
              <a:srgbClr val="ff4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rot="2831400">
              <a:off x="1618920" y="2363760"/>
              <a:ext cx="328320" cy="425160"/>
            </a:xfrm>
            <a:custGeom>
              <a:avLst/>
              <a:gdLst/>
              <a:ahLst/>
              <a:rect l="l" t="t" r="r" b="b"/>
              <a:pathLst>
                <a:path w="113" h="176">
                  <a:moveTo>
                    <a:pt x="43" y="13"/>
                  </a:moveTo>
                  <a:lnTo>
                    <a:pt x="56" y="8"/>
                  </a:lnTo>
                  <a:lnTo>
                    <a:pt x="70" y="10"/>
                  </a:lnTo>
                  <a:lnTo>
                    <a:pt x="81" y="15"/>
                  </a:lnTo>
                  <a:lnTo>
                    <a:pt x="91" y="26"/>
                  </a:lnTo>
                  <a:lnTo>
                    <a:pt x="99" y="39"/>
                  </a:lnTo>
                  <a:lnTo>
                    <a:pt x="105" y="55"/>
                  </a:lnTo>
                  <a:lnTo>
                    <a:pt x="110" y="73"/>
                  </a:lnTo>
                  <a:lnTo>
                    <a:pt x="113" y="92"/>
                  </a:lnTo>
                  <a:lnTo>
                    <a:pt x="113" y="108"/>
                  </a:lnTo>
                  <a:lnTo>
                    <a:pt x="112" y="126"/>
                  </a:lnTo>
                  <a:lnTo>
                    <a:pt x="108" y="142"/>
                  </a:lnTo>
                  <a:lnTo>
                    <a:pt x="102" y="155"/>
                  </a:lnTo>
                  <a:lnTo>
                    <a:pt x="94" y="165"/>
                  </a:lnTo>
                  <a:lnTo>
                    <a:pt x="84" y="173"/>
                  </a:lnTo>
                  <a:lnTo>
                    <a:pt x="73" y="176"/>
                  </a:lnTo>
                  <a:lnTo>
                    <a:pt x="59" y="173"/>
                  </a:lnTo>
                  <a:lnTo>
                    <a:pt x="43" y="165"/>
                  </a:lnTo>
                  <a:lnTo>
                    <a:pt x="30" y="152"/>
                  </a:lnTo>
                  <a:lnTo>
                    <a:pt x="21" y="139"/>
                  </a:lnTo>
                  <a:lnTo>
                    <a:pt x="13" y="123"/>
                  </a:lnTo>
                  <a:lnTo>
                    <a:pt x="6" y="108"/>
                  </a:lnTo>
                  <a:lnTo>
                    <a:pt x="3" y="89"/>
                  </a:lnTo>
                  <a:lnTo>
                    <a:pt x="0" y="71"/>
                  </a:lnTo>
                  <a:lnTo>
                    <a:pt x="0" y="55"/>
                  </a:lnTo>
                  <a:lnTo>
                    <a:pt x="2" y="39"/>
                  </a:lnTo>
                  <a:lnTo>
                    <a:pt x="5" y="26"/>
                  </a:lnTo>
                  <a:lnTo>
                    <a:pt x="8" y="13"/>
                  </a:lnTo>
                  <a:lnTo>
                    <a:pt x="14" y="5"/>
                  </a:lnTo>
                  <a:lnTo>
                    <a:pt x="19" y="0"/>
                  </a:lnTo>
                  <a:lnTo>
                    <a:pt x="27" y="0"/>
                  </a:lnTo>
                  <a:lnTo>
                    <a:pt x="33" y="2"/>
                  </a:lnTo>
                  <a:lnTo>
                    <a:pt x="43" y="13"/>
                  </a:lnTo>
                  <a:lnTo>
                    <a:pt x="43" y="13"/>
                  </a:lnTo>
                  <a:close/>
                </a:path>
              </a:pathLst>
            </a:custGeom>
            <a:solidFill>
              <a:srgbClr val="40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rot="2831400">
              <a:off x="1710720" y="2175120"/>
              <a:ext cx="168840" cy="292680"/>
            </a:xfrm>
            <a:custGeom>
              <a:avLst/>
              <a:gdLst/>
              <a:ahLst/>
              <a:rect l="l" t="t" r="r" b="b"/>
              <a:pathLst>
                <a:path w="58" h="121">
                  <a:moveTo>
                    <a:pt x="13" y="21"/>
                  </a:moveTo>
                  <a:lnTo>
                    <a:pt x="21" y="8"/>
                  </a:lnTo>
                  <a:lnTo>
                    <a:pt x="31" y="3"/>
                  </a:lnTo>
                  <a:lnTo>
                    <a:pt x="37" y="0"/>
                  </a:lnTo>
                  <a:lnTo>
                    <a:pt x="44" y="6"/>
                  </a:lnTo>
                  <a:lnTo>
                    <a:pt x="48" y="11"/>
                  </a:lnTo>
                  <a:lnTo>
                    <a:pt x="53" y="21"/>
                  </a:lnTo>
                  <a:lnTo>
                    <a:pt x="56" y="32"/>
                  </a:lnTo>
                  <a:lnTo>
                    <a:pt x="58" y="45"/>
                  </a:lnTo>
                  <a:lnTo>
                    <a:pt x="58" y="58"/>
                  </a:lnTo>
                  <a:lnTo>
                    <a:pt x="58" y="71"/>
                  </a:lnTo>
                  <a:lnTo>
                    <a:pt x="56" y="85"/>
                  </a:lnTo>
                  <a:lnTo>
                    <a:pt x="53" y="98"/>
                  </a:lnTo>
                  <a:lnTo>
                    <a:pt x="48" y="108"/>
                  </a:lnTo>
                  <a:lnTo>
                    <a:pt x="42" y="116"/>
                  </a:lnTo>
                  <a:lnTo>
                    <a:pt x="34" y="119"/>
                  </a:lnTo>
                  <a:lnTo>
                    <a:pt x="26" y="121"/>
                  </a:lnTo>
                  <a:lnTo>
                    <a:pt x="20" y="119"/>
                  </a:lnTo>
                  <a:lnTo>
                    <a:pt x="15" y="116"/>
                  </a:lnTo>
                  <a:lnTo>
                    <a:pt x="12" y="111"/>
                  </a:lnTo>
                  <a:lnTo>
                    <a:pt x="8" y="108"/>
                  </a:lnTo>
                  <a:lnTo>
                    <a:pt x="5" y="100"/>
                  </a:lnTo>
                  <a:lnTo>
                    <a:pt x="2" y="95"/>
                  </a:lnTo>
                  <a:lnTo>
                    <a:pt x="2" y="87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2" y="48"/>
                  </a:lnTo>
                  <a:lnTo>
                    <a:pt x="4" y="40"/>
                  </a:lnTo>
                  <a:lnTo>
                    <a:pt x="7" y="32"/>
                  </a:lnTo>
                  <a:lnTo>
                    <a:pt x="10" y="27"/>
                  </a:lnTo>
                  <a:lnTo>
                    <a:pt x="13" y="21"/>
                  </a:lnTo>
                  <a:lnTo>
                    <a:pt x="13" y="21"/>
                  </a:lnTo>
                  <a:close/>
                </a:path>
              </a:pathLst>
            </a:custGeom>
            <a:solidFill>
              <a:srgbClr val="40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rot="2831400">
              <a:off x="1046160" y="2859120"/>
              <a:ext cx="1040760" cy="1418400"/>
            </a:xfrm>
            <a:custGeom>
              <a:avLst/>
              <a:gdLst/>
              <a:ahLst/>
              <a:rect l="l" t="t" r="r" b="b"/>
              <a:pathLst>
                <a:path w="358" h="587">
                  <a:moveTo>
                    <a:pt x="76" y="63"/>
                  </a:moveTo>
                  <a:lnTo>
                    <a:pt x="81" y="66"/>
                  </a:lnTo>
                  <a:lnTo>
                    <a:pt x="84" y="71"/>
                  </a:lnTo>
                  <a:lnTo>
                    <a:pt x="87" y="77"/>
                  </a:lnTo>
                  <a:lnTo>
                    <a:pt x="90" y="84"/>
                  </a:lnTo>
                  <a:lnTo>
                    <a:pt x="94" y="90"/>
                  </a:lnTo>
                  <a:lnTo>
                    <a:pt x="97" y="98"/>
                  </a:lnTo>
                  <a:lnTo>
                    <a:pt x="100" y="103"/>
                  </a:lnTo>
                  <a:lnTo>
                    <a:pt x="103" y="111"/>
                  </a:lnTo>
                  <a:lnTo>
                    <a:pt x="106" y="119"/>
                  </a:lnTo>
                  <a:lnTo>
                    <a:pt x="108" y="127"/>
                  </a:lnTo>
                  <a:lnTo>
                    <a:pt x="111" y="132"/>
                  </a:lnTo>
                  <a:lnTo>
                    <a:pt x="114" y="140"/>
                  </a:lnTo>
                  <a:lnTo>
                    <a:pt x="116" y="145"/>
                  </a:lnTo>
                  <a:lnTo>
                    <a:pt x="119" y="153"/>
                  </a:lnTo>
                  <a:lnTo>
                    <a:pt x="122" y="161"/>
                  </a:lnTo>
                  <a:lnTo>
                    <a:pt x="127" y="166"/>
                  </a:lnTo>
                  <a:lnTo>
                    <a:pt x="132" y="171"/>
                  </a:lnTo>
                  <a:lnTo>
                    <a:pt x="141" y="182"/>
                  </a:lnTo>
                  <a:lnTo>
                    <a:pt x="151" y="200"/>
                  </a:lnTo>
                  <a:lnTo>
                    <a:pt x="165" y="219"/>
                  </a:lnTo>
                  <a:lnTo>
                    <a:pt x="180" y="245"/>
                  </a:lnTo>
                  <a:lnTo>
                    <a:pt x="196" y="271"/>
                  </a:lnTo>
                  <a:lnTo>
                    <a:pt x="213" y="300"/>
                  </a:lnTo>
                  <a:lnTo>
                    <a:pt x="232" y="332"/>
                  </a:lnTo>
                  <a:lnTo>
                    <a:pt x="250" y="361"/>
                  </a:lnTo>
                  <a:lnTo>
                    <a:pt x="267" y="392"/>
                  </a:lnTo>
                  <a:lnTo>
                    <a:pt x="283" y="421"/>
                  </a:lnTo>
                  <a:lnTo>
                    <a:pt x="299" y="450"/>
                  </a:lnTo>
                  <a:lnTo>
                    <a:pt x="314" y="474"/>
                  </a:lnTo>
                  <a:lnTo>
                    <a:pt x="326" y="498"/>
                  </a:lnTo>
                  <a:lnTo>
                    <a:pt x="336" y="513"/>
                  </a:lnTo>
                  <a:lnTo>
                    <a:pt x="344" y="529"/>
                  </a:lnTo>
                  <a:lnTo>
                    <a:pt x="349" y="529"/>
                  </a:lnTo>
                  <a:lnTo>
                    <a:pt x="352" y="532"/>
                  </a:lnTo>
                  <a:lnTo>
                    <a:pt x="353" y="535"/>
                  </a:lnTo>
                  <a:lnTo>
                    <a:pt x="357" y="542"/>
                  </a:lnTo>
                  <a:lnTo>
                    <a:pt x="358" y="545"/>
                  </a:lnTo>
                  <a:lnTo>
                    <a:pt x="358" y="553"/>
                  </a:lnTo>
                  <a:lnTo>
                    <a:pt x="358" y="558"/>
                  </a:lnTo>
                  <a:lnTo>
                    <a:pt x="357" y="566"/>
                  </a:lnTo>
                  <a:lnTo>
                    <a:pt x="355" y="571"/>
                  </a:lnTo>
                  <a:lnTo>
                    <a:pt x="352" y="577"/>
                  </a:lnTo>
                  <a:lnTo>
                    <a:pt x="350" y="582"/>
                  </a:lnTo>
                  <a:lnTo>
                    <a:pt x="347" y="585"/>
                  </a:lnTo>
                  <a:lnTo>
                    <a:pt x="344" y="587"/>
                  </a:lnTo>
                  <a:lnTo>
                    <a:pt x="339" y="587"/>
                  </a:lnTo>
                  <a:lnTo>
                    <a:pt x="336" y="587"/>
                  </a:lnTo>
                  <a:lnTo>
                    <a:pt x="331" y="585"/>
                  </a:lnTo>
                  <a:lnTo>
                    <a:pt x="328" y="579"/>
                  </a:lnTo>
                  <a:lnTo>
                    <a:pt x="323" y="577"/>
                  </a:lnTo>
                  <a:lnTo>
                    <a:pt x="320" y="574"/>
                  </a:lnTo>
                  <a:lnTo>
                    <a:pt x="317" y="569"/>
                  </a:lnTo>
                  <a:lnTo>
                    <a:pt x="312" y="566"/>
                  </a:lnTo>
                  <a:lnTo>
                    <a:pt x="309" y="563"/>
                  </a:lnTo>
                  <a:lnTo>
                    <a:pt x="306" y="558"/>
                  </a:lnTo>
                  <a:lnTo>
                    <a:pt x="301" y="556"/>
                  </a:lnTo>
                  <a:lnTo>
                    <a:pt x="298" y="550"/>
                  </a:lnTo>
                  <a:lnTo>
                    <a:pt x="293" y="548"/>
                  </a:lnTo>
                  <a:lnTo>
                    <a:pt x="290" y="542"/>
                  </a:lnTo>
                  <a:lnTo>
                    <a:pt x="285" y="540"/>
                  </a:lnTo>
                  <a:lnTo>
                    <a:pt x="282" y="537"/>
                  </a:lnTo>
                  <a:lnTo>
                    <a:pt x="279" y="535"/>
                  </a:lnTo>
                  <a:lnTo>
                    <a:pt x="275" y="529"/>
                  </a:lnTo>
                  <a:lnTo>
                    <a:pt x="274" y="527"/>
                  </a:lnTo>
                  <a:lnTo>
                    <a:pt x="266" y="516"/>
                  </a:lnTo>
                  <a:lnTo>
                    <a:pt x="259" y="506"/>
                  </a:lnTo>
                  <a:lnTo>
                    <a:pt x="251" y="495"/>
                  </a:lnTo>
                  <a:lnTo>
                    <a:pt x="247" y="485"/>
                  </a:lnTo>
                  <a:lnTo>
                    <a:pt x="240" y="474"/>
                  </a:lnTo>
                  <a:lnTo>
                    <a:pt x="234" y="463"/>
                  </a:lnTo>
                  <a:lnTo>
                    <a:pt x="228" y="453"/>
                  </a:lnTo>
                  <a:lnTo>
                    <a:pt x="221" y="442"/>
                  </a:lnTo>
                  <a:lnTo>
                    <a:pt x="215" y="429"/>
                  </a:lnTo>
                  <a:lnTo>
                    <a:pt x="210" y="419"/>
                  </a:lnTo>
                  <a:lnTo>
                    <a:pt x="204" y="408"/>
                  </a:lnTo>
                  <a:lnTo>
                    <a:pt x="197" y="398"/>
                  </a:lnTo>
                  <a:lnTo>
                    <a:pt x="191" y="384"/>
                  </a:lnTo>
                  <a:lnTo>
                    <a:pt x="184" y="377"/>
                  </a:lnTo>
                  <a:lnTo>
                    <a:pt x="176" y="366"/>
                  </a:lnTo>
                  <a:lnTo>
                    <a:pt x="170" y="358"/>
                  </a:lnTo>
                  <a:lnTo>
                    <a:pt x="157" y="340"/>
                  </a:lnTo>
                  <a:lnTo>
                    <a:pt x="146" y="324"/>
                  </a:lnTo>
                  <a:lnTo>
                    <a:pt x="133" y="306"/>
                  </a:lnTo>
                  <a:lnTo>
                    <a:pt x="122" y="290"/>
                  </a:lnTo>
                  <a:lnTo>
                    <a:pt x="111" y="274"/>
                  </a:lnTo>
                  <a:lnTo>
                    <a:pt x="100" y="256"/>
                  </a:lnTo>
                  <a:lnTo>
                    <a:pt x="89" y="240"/>
                  </a:lnTo>
                  <a:lnTo>
                    <a:pt x="79" y="224"/>
                  </a:lnTo>
                  <a:lnTo>
                    <a:pt x="68" y="205"/>
                  </a:lnTo>
                  <a:lnTo>
                    <a:pt x="59" y="187"/>
                  </a:lnTo>
                  <a:lnTo>
                    <a:pt x="49" y="169"/>
                  </a:lnTo>
                  <a:lnTo>
                    <a:pt x="39" y="150"/>
                  </a:lnTo>
                  <a:lnTo>
                    <a:pt x="30" y="132"/>
                  </a:lnTo>
                  <a:lnTo>
                    <a:pt x="22" y="111"/>
                  </a:lnTo>
                  <a:lnTo>
                    <a:pt x="12" y="90"/>
                  </a:lnTo>
                  <a:lnTo>
                    <a:pt x="6" y="69"/>
                  </a:lnTo>
                  <a:lnTo>
                    <a:pt x="1" y="53"/>
                  </a:lnTo>
                  <a:lnTo>
                    <a:pt x="0" y="42"/>
                  </a:lnTo>
                  <a:lnTo>
                    <a:pt x="0" y="29"/>
                  </a:lnTo>
                  <a:lnTo>
                    <a:pt x="3" y="21"/>
                  </a:lnTo>
                  <a:lnTo>
                    <a:pt x="6" y="13"/>
                  </a:lnTo>
                  <a:lnTo>
                    <a:pt x="12" y="8"/>
                  </a:lnTo>
                  <a:lnTo>
                    <a:pt x="17" y="3"/>
                  </a:lnTo>
                  <a:lnTo>
                    <a:pt x="25" y="3"/>
                  </a:lnTo>
                  <a:lnTo>
                    <a:pt x="33" y="0"/>
                  </a:lnTo>
                  <a:lnTo>
                    <a:pt x="41" y="3"/>
                  </a:lnTo>
                  <a:lnTo>
                    <a:pt x="49" y="8"/>
                  </a:lnTo>
                  <a:lnTo>
                    <a:pt x="55" y="13"/>
                  </a:lnTo>
                  <a:lnTo>
                    <a:pt x="63" y="21"/>
                  </a:lnTo>
                  <a:lnTo>
                    <a:pt x="68" y="32"/>
                  </a:lnTo>
                  <a:lnTo>
                    <a:pt x="73" y="48"/>
                  </a:lnTo>
                  <a:lnTo>
                    <a:pt x="76" y="63"/>
                  </a:lnTo>
                  <a:lnTo>
                    <a:pt x="76" y="63"/>
                  </a:lnTo>
                  <a:close/>
                </a:path>
              </a:pathLst>
            </a:custGeom>
            <a:solidFill>
              <a:srgbClr val="40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rot="2831400">
              <a:off x="912600" y="4424040"/>
              <a:ext cx="982440" cy="1063080"/>
            </a:xfrm>
            <a:custGeom>
              <a:avLst/>
              <a:gdLst/>
              <a:ahLst/>
              <a:rect l="l" t="t" r="r" b="b"/>
              <a:pathLst>
                <a:path w="338" h="440">
                  <a:moveTo>
                    <a:pt x="14" y="74"/>
                  </a:moveTo>
                  <a:lnTo>
                    <a:pt x="9" y="66"/>
                  </a:lnTo>
                  <a:lnTo>
                    <a:pt x="6" y="61"/>
                  </a:lnTo>
                  <a:lnTo>
                    <a:pt x="3" y="53"/>
                  </a:lnTo>
                  <a:lnTo>
                    <a:pt x="1" y="48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1" y="22"/>
                  </a:lnTo>
                  <a:lnTo>
                    <a:pt x="3" y="14"/>
                  </a:lnTo>
                  <a:lnTo>
                    <a:pt x="6" y="8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1" y="3"/>
                  </a:lnTo>
                  <a:lnTo>
                    <a:pt x="35" y="6"/>
                  </a:lnTo>
                  <a:lnTo>
                    <a:pt x="38" y="8"/>
                  </a:lnTo>
                  <a:lnTo>
                    <a:pt x="41" y="8"/>
                  </a:lnTo>
                  <a:lnTo>
                    <a:pt x="44" y="14"/>
                  </a:lnTo>
                  <a:lnTo>
                    <a:pt x="46" y="16"/>
                  </a:lnTo>
                  <a:lnTo>
                    <a:pt x="49" y="16"/>
                  </a:lnTo>
                  <a:lnTo>
                    <a:pt x="52" y="22"/>
                  </a:lnTo>
                  <a:lnTo>
                    <a:pt x="55" y="24"/>
                  </a:lnTo>
                  <a:lnTo>
                    <a:pt x="57" y="27"/>
                  </a:lnTo>
                  <a:lnTo>
                    <a:pt x="60" y="29"/>
                  </a:lnTo>
                  <a:lnTo>
                    <a:pt x="63" y="32"/>
                  </a:lnTo>
                  <a:lnTo>
                    <a:pt x="65" y="37"/>
                  </a:lnTo>
                  <a:lnTo>
                    <a:pt x="70" y="45"/>
                  </a:lnTo>
                  <a:lnTo>
                    <a:pt x="75" y="50"/>
                  </a:lnTo>
                  <a:lnTo>
                    <a:pt x="90" y="74"/>
                  </a:lnTo>
                  <a:lnTo>
                    <a:pt x="105" y="95"/>
                  </a:lnTo>
                  <a:lnTo>
                    <a:pt x="121" y="119"/>
                  </a:lnTo>
                  <a:lnTo>
                    <a:pt x="135" y="140"/>
                  </a:lnTo>
                  <a:lnTo>
                    <a:pt x="151" y="161"/>
                  </a:lnTo>
                  <a:lnTo>
                    <a:pt x="165" y="182"/>
                  </a:lnTo>
                  <a:lnTo>
                    <a:pt x="181" y="201"/>
                  </a:lnTo>
                  <a:lnTo>
                    <a:pt x="197" y="222"/>
                  </a:lnTo>
                  <a:lnTo>
                    <a:pt x="212" y="240"/>
                  </a:lnTo>
                  <a:lnTo>
                    <a:pt x="228" y="261"/>
                  </a:lnTo>
                  <a:lnTo>
                    <a:pt x="244" y="279"/>
                  </a:lnTo>
                  <a:lnTo>
                    <a:pt x="259" y="298"/>
                  </a:lnTo>
                  <a:lnTo>
                    <a:pt x="275" y="316"/>
                  </a:lnTo>
                  <a:lnTo>
                    <a:pt x="293" y="337"/>
                  </a:lnTo>
                  <a:lnTo>
                    <a:pt x="309" y="356"/>
                  </a:lnTo>
                  <a:lnTo>
                    <a:pt x="326" y="374"/>
                  </a:lnTo>
                  <a:lnTo>
                    <a:pt x="331" y="380"/>
                  </a:lnTo>
                  <a:lnTo>
                    <a:pt x="334" y="385"/>
                  </a:lnTo>
                  <a:lnTo>
                    <a:pt x="336" y="390"/>
                  </a:lnTo>
                  <a:lnTo>
                    <a:pt x="338" y="398"/>
                  </a:lnTo>
                  <a:lnTo>
                    <a:pt x="338" y="403"/>
                  </a:lnTo>
                  <a:lnTo>
                    <a:pt x="338" y="411"/>
                  </a:lnTo>
                  <a:lnTo>
                    <a:pt x="336" y="416"/>
                  </a:lnTo>
                  <a:lnTo>
                    <a:pt x="334" y="424"/>
                  </a:lnTo>
                  <a:lnTo>
                    <a:pt x="333" y="427"/>
                  </a:lnTo>
                  <a:lnTo>
                    <a:pt x="330" y="432"/>
                  </a:lnTo>
                  <a:lnTo>
                    <a:pt x="326" y="435"/>
                  </a:lnTo>
                  <a:lnTo>
                    <a:pt x="323" y="440"/>
                  </a:lnTo>
                  <a:lnTo>
                    <a:pt x="318" y="440"/>
                  </a:lnTo>
                  <a:lnTo>
                    <a:pt x="315" y="440"/>
                  </a:lnTo>
                  <a:lnTo>
                    <a:pt x="311" y="437"/>
                  </a:lnTo>
                  <a:lnTo>
                    <a:pt x="306" y="435"/>
                  </a:lnTo>
                  <a:lnTo>
                    <a:pt x="293" y="424"/>
                  </a:lnTo>
                  <a:lnTo>
                    <a:pt x="279" y="411"/>
                  </a:lnTo>
                  <a:lnTo>
                    <a:pt x="263" y="395"/>
                  </a:lnTo>
                  <a:lnTo>
                    <a:pt x="247" y="377"/>
                  </a:lnTo>
                  <a:lnTo>
                    <a:pt x="229" y="358"/>
                  </a:lnTo>
                  <a:lnTo>
                    <a:pt x="213" y="340"/>
                  </a:lnTo>
                  <a:lnTo>
                    <a:pt x="196" y="319"/>
                  </a:lnTo>
                  <a:lnTo>
                    <a:pt x="178" y="301"/>
                  </a:lnTo>
                  <a:lnTo>
                    <a:pt x="161" y="277"/>
                  </a:lnTo>
                  <a:lnTo>
                    <a:pt x="145" y="258"/>
                  </a:lnTo>
                  <a:lnTo>
                    <a:pt x="127" y="237"/>
                  </a:lnTo>
                  <a:lnTo>
                    <a:pt x="113" y="216"/>
                  </a:lnTo>
                  <a:lnTo>
                    <a:pt x="98" y="195"/>
                  </a:lnTo>
                  <a:lnTo>
                    <a:pt x="84" y="177"/>
                  </a:lnTo>
                  <a:lnTo>
                    <a:pt x="71" y="158"/>
                  </a:lnTo>
                  <a:lnTo>
                    <a:pt x="62" y="143"/>
                  </a:lnTo>
                  <a:lnTo>
                    <a:pt x="59" y="137"/>
                  </a:lnTo>
                  <a:lnTo>
                    <a:pt x="55" y="132"/>
                  </a:lnTo>
                  <a:lnTo>
                    <a:pt x="52" y="127"/>
                  </a:lnTo>
                  <a:lnTo>
                    <a:pt x="51" y="124"/>
                  </a:lnTo>
                  <a:lnTo>
                    <a:pt x="47" y="119"/>
                  </a:lnTo>
                  <a:lnTo>
                    <a:pt x="44" y="114"/>
                  </a:lnTo>
                  <a:lnTo>
                    <a:pt x="41" y="108"/>
                  </a:lnTo>
                  <a:lnTo>
                    <a:pt x="39" y="106"/>
                  </a:lnTo>
                  <a:lnTo>
                    <a:pt x="36" y="100"/>
                  </a:lnTo>
                  <a:lnTo>
                    <a:pt x="33" y="95"/>
                  </a:lnTo>
                  <a:lnTo>
                    <a:pt x="30" y="93"/>
                  </a:lnTo>
                  <a:lnTo>
                    <a:pt x="27" y="87"/>
                  </a:lnTo>
                  <a:lnTo>
                    <a:pt x="24" y="85"/>
                  </a:lnTo>
                  <a:lnTo>
                    <a:pt x="20" y="79"/>
                  </a:lnTo>
                  <a:lnTo>
                    <a:pt x="17" y="77"/>
                  </a:lnTo>
                  <a:lnTo>
                    <a:pt x="14" y="74"/>
                  </a:lnTo>
                  <a:lnTo>
                    <a:pt x="14" y="74"/>
                  </a:lnTo>
                  <a:close/>
                </a:path>
              </a:pathLst>
            </a:custGeom>
            <a:solidFill>
              <a:srgbClr val="40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rot="2831400">
              <a:off x="1373040" y="3508200"/>
              <a:ext cx="668520" cy="1191600"/>
            </a:xfrm>
            <a:custGeom>
              <a:avLst/>
              <a:gdLst/>
              <a:ahLst/>
              <a:rect l="l" t="t" r="r" b="b"/>
              <a:pathLst>
                <a:path w="230" h="493">
                  <a:moveTo>
                    <a:pt x="177" y="195"/>
                  </a:moveTo>
                  <a:lnTo>
                    <a:pt x="185" y="206"/>
                  </a:lnTo>
                  <a:lnTo>
                    <a:pt x="190" y="216"/>
                  </a:lnTo>
                  <a:lnTo>
                    <a:pt x="193" y="224"/>
                  </a:lnTo>
                  <a:lnTo>
                    <a:pt x="195" y="235"/>
                  </a:lnTo>
                  <a:lnTo>
                    <a:pt x="195" y="243"/>
                  </a:lnTo>
                  <a:lnTo>
                    <a:pt x="195" y="251"/>
                  </a:lnTo>
                  <a:lnTo>
                    <a:pt x="192" y="258"/>
                  </a:lnTo>
                  <a:lnTo>
                    <a:pt x="188" y="266"/>
                  </a:lnTo>
                  <a:lnTo>
                    <a:pt x="184" y="272"/>
                  </a:lnTo>
                  <a:lnTo>
                    <a:pt x="177" y="277"/>
                  </a:lnTo>
                  <a:lnTo>
                    <a:pt x="171" y="282"/>
                  </a:lnTo>
                  <a:lnTo>
                    <a:pt x="165" y="287"/>
                  </a:lnTo>
                  <a:lnTo>
                    <a:pt x="158" y="287"/>
                  </a:lnTo>
                  <a:lnTo>
                    <a:pt x="150" y="290"/>
                  </a:lnTo>
                  <a:lnTo>
                    <a:pt x="142" y="287"/>
                  </a:lnTo>
                  <a:lnTo>
                    <a:pt x="136" y="287"/>
                  </a:lnTo>
                  <a:lnTo>
                    <a:pt x="133" y="293"/>
                  </a:lnTo>
                  <a:lnTo>
                    <a:pt x="129" y="301"/>
                  </a:lnTo>
                  <a:lnTo>
                    <a:pt x="128" y="306"/>
                  </a:lnTo>
                  <a:lnTo>
                    <a:pt x="125" y="314"/>
                  </a:lnTo>
                  <a:lnTo>
                    <a:pt x="121" y="319"/>
                  </a:lnTo>
                  <a:lnTo>
                    <a:pt x="120" y="327"/>
                  </a:lnTo>
                  <a:lnTo>
                    <a:pt x="117" y="332"/>
                  </a:lnTo>
                  <a:lnTo>
                    <a:pt x="114" y="337"/>
                  </a:lnTo>
                  <a:lnTo>
                    <a:pt x="110" y="343"/>
                  </a:lnTo>
                  <a:lnTo>
                    <a:pt x="107" y="351"/>
                  </a:lnTo>
                  <a:lnTo>
                    <a:pt x="104" y="356"/>
                  </a:lnTo>
                  <a:lnTo>
                    <a:pt x="102" y="361"/>
                  </a:lnTo>
                  <a:lnTo>
                    <a:pt x="99" y="369"/>
                  </a:lnTo>
                  <a:lnTo>
                    <a:pt x="96" y="374"/>
                  </a:lnTo>
                  <a:lnTo>
                    <a:pt x="93" y="382"/>
                  </a:lnTo>
                  <a:lnTo>
                    <a:pt x="90" y="387"/>
                  </a:lnTo>
                  <a:lnTo>
                    <a:pt x="88" y="393"/>
                  </a:lnTo>
                  <a:lnTo>
                    <a:pt x="86" y="398"/>
                  </a:lnTo>
                  <a:lnTo>
                    <a:pt x="85" y="401"/>
                  </a:lnTo>
                  <a:lnTo>
                    <a:pt x="83" y="406"/>
                  </a:lnTo>
                  <a:lnTo>
                    <a:pt x="82" y="411"/>
                  </a:lnTo>
                  <a:lnTo>
                    <a:pt x="80" y="416"/>
                  </a:lnTo>
                  <a:lnTo>
                    <a:pt x="78" y="422"/>
                  </a:lnTo>
                  <a:lnTo>
                    <a:pt x="77" y="427"/>
                  </a:lnTo>
                  <a:lnTo>
                    <a:pt x="77" y="430"/>
                  </a:lnTo>
                  <a:lnTo>
                    <a:pt x="75" y="435"/>
                  </a:lnTo>
                  <a:lnTo>
                    <a:pt x="74" y="440"/>
                  </a:lnTo>
                  <a:lnTo>
                    <a:pt x="72" y="445"/>
                  </a:lnTo>
                  <a:lnTo>
                    <a:pt x="70" y="448"/>
                  </a:lnTo>
                  <a:lnTo>
                    <a:pt x="70" y="453"/>
                  </a:lnTo>
                  <a:lnTo>
                    <a:pt x="69" y="458"/>
                  </a:lnTo>
                  <a:lnTo>
                    <a:pt x="67" y="464"/>
                  </a:lnTo>
                  <a:lnTo>
                    <a:pt x="61" y="472"/>
                  </a:lnTo>
                  <a:lnTo>
                    <a:pt x="56" y="482"/>
                  </a:lnTo>
                  <a:lnTo>
                    <a:pt x="50" y="487"/>
                  </a:lnTo>
                  <a:lnTo>
                    <a:pt x="45" y="490"/>
                  </a:lnTo>
                  <a:lnTo>
                    <a:pt x="37" y="493"/>
                  </a:lnTo>
                  <a:lnTo>
                    <a:pt x="31" y="490"/>
                  </a:lnTo>
                  <a:lnTo>
                    <a:pt x="26" y="490"/>
                  </a:lnTo>
                  <a:lnTo>
                    <a:pt x="19" y="485"/>
                  </a:lnTo>
                  <a:lnTo>
                    <a:pt x="13" y="477"/>
                  </a:lnTo>
                  <a:lnTo>
                    <a:pt x="10" y="472"/>
                  </a:lnTo>
                  <a:lnTo>
                    <a:pt x="5" y="464"/>
                  </a:lnTo>
                  <a:lnTo>
                    <a:pt x="3" y="453"/>
                  </a:lnTo>
                  <a:lnTo>
                    <a:pt x="2" y="443"/>
                  </a:lnTo>
                  <a:lnTo>
                    <a:pt x="0" y="432"/>
                  </a:lnTo>
                  <a:lnTo>
                    <a:pt x="2" y="419"/>
                  </a:lnTo>
                  <a:lnTo>
                    <a:pt x="7" y="408"/>
                  </a:lnTo>
                  <a:lnTo>
                    <a:pt x="10" y="393"/>
                  </a:lnTo>
                  <a:lnTo>
                    <a:pt x="15" y="380"/>
                  </a:lnTo>
                  <a:lnTo>
                    <a:pt x="19" y="364"/>
                  </a:lnTo>
                  <a:lnTo>
                    <a:pt x="26" y="351"/>
                  </a:lnTo>
                  <a:lnTo>
                    <a:pt x="31" y="335"/>
                  </a:lnTo>
                  <a:lnTo>
                    <a:pt x="37" y="319"/>
                  </a:lnTo>
                  <a:lnTo>
                    <a:pt x="42" y="306"/>
                  </a:lnTo>
                  <a:lnTo>
                    <a:pt x="48" y="293"/>
                  </a:lnTo>
                  <a:lnTo>
                    <a:pt x="55" y="277"/>
                  </a:lnTo>
                  <a:lnTo>
                    <a:pt x="62" y="264"/>
                  </a:lnTo>
                  <a:lnTo>
                    <a:pt x="69" y="248"/>
                  </a:lnTo>
                  <a:lnTo>
                    <a:pt x="75" y="235"/>
                  </a:lnTo>
                  <a:lnTo>
                    <a:pt x="82" y="222"/>
                  </a:lnTo>
                  <a:lnTo>
                    <a:pt x="90" y="211"/>
                  </a:lnTo>
                  <a:lnTo>
                    <a:pt x="96" y="201"/>
                  </a:lnTo>
                  <a:lnTo>
                    <a:pt x="102" y="193"/>
                  </a:lnTo>
                  <a:lnTo>
                    <a:pt x="104" y="182"/>
                  </a:lnTo>
                  <a:lnTo>
                    <a:pt x="107" y="174"/>
                  </a:lnTo>
                  <a:lnTo>
                    <a:pt x="110" y="164"/>
                  </a:lnTo>
                  <a:lnTo>
                    <a:pt x="115" y="153"/>
                  </a:lnTo>
                  <a:lnTo>
                    <a:pt x="120" y="140"/>
                  </a:lnTo>
                  <a:lnTo>
                    <a:pt x="126" y="129"/>
                  </a:lnTo>
                  <a:lnTo>
                    <a:pt x="131" y="116"/>
                  </a:lnTo>
                  <a:lnTo>
                    <a:pt x="139" y="106"/>
                  </a:lnTo>
                  <a:lnTo>
                    <a:pt x="145" y="93"/>
                  </a:lnTo>
                  <a:lnTo>
                    <a:pt x="152" y="82"/>
                  </a:lnTo>
                  <a:lnTo>
                    <a:pt x="158" y="69"/>
                  </a:lnTo>
                  <a:lnTo>
                    <a:pt x="165" y="58"/>
                  </a:lnTo>
                  <a:lnTo>
                    <a:pt x="171" y="45"/>
                  </a:lnTo>
                  <a:lnTo>
                    <a:pt x="177" y="35"/>
                  </a:lnTo>
                  <a:lnTo>
                    <a:pt x="182" y="27"/>
                  </a:lnTo>
                  <a:lnTo>
                    <a:pt x="185" y="19"/>
                  </a:lnTo>
                  <a:lnTo>
                    <a:pt x="188" y="11"/>
                  </a:lnTo>
                  <a:lnTo>
                    <a:pt x="193" y="6"/>
                  </a:lnTo>
                  <a:lnTo>
                    <a:pt x="198" y="3"/>
                  </a:lnTo>
                  <a:lnTo>
                    <a:pt x="203" y="0"/>
                  </a:lnTo>
                  <a:lnTo>
                    <a:pt x="206" y="0"/>
                  </a:lnTo>
                  <a:lnTo>
                    <a:pt x="211" y="3"/>
                  </a:lnTo>
                  <a:lnTo>
                    <a:pt x="216" y="6"/>
                  </a:lnTo>
                  <a:lnTo>
                    <a:pt x="220" y="11"/>
                  </a:lnTo>
                  <a:lnTo>
                    <a:pt x="222" y="14"/>
                  </a:lnTo>
                  <a:lnTo>
                    <a:pt x="225" y="19"/>
                  </a:lnTo>
                  <a:lnTo>
                    <a:pt x="228" y="24"/>
                  </a:lnTo>
                  <a:lnTo>
                    <a:pt x="230" y="32"/>
                  </a:lnTo>
                  <a:lnTo>
                    <a:pt x="230" y="40"/>
                  </a:lnTo>
                  <a:lnTo>
                    <a:pt x="230" y="48"/>
                  </a:lnTo>
                  <a:lnTo>
                    <a:pt x="228" y="56"/>
                  </a:lnTo>
                  <a:lnTo>
                    <a:pt x="225" y="66"/>
                  </a:lnTo>
                  <a:lnTo>
                    <a:pt x="222" y="74"/>
                  </a:lnTo>
                  <a:lnTo>
                    <a:pt x="219" y="82"/>
                  </a:lnTo>
                  <a:lnTo>
                    <a:pt x="217" y="90"/>
                  </a:lnTo>
                  <a:lnTo>
                    <a:pt x="214" y="98"/>
                  </a:lnTo>
                  <a:lnTo>
                    <a:pt x="211" y="106"/>
                  </a:lnTo>
                  <a:lnTo>
                    <a:pt x="208" y="114"/>
                  </a:lnTo>
                  <a:lnTo>
                    <a:pt x="206" y="122"/>
                  </a:lnTo>
                  <a:lnTo>
                    <a:pt x="203" y="132"/>
                  </a:lnTo>
                  <a:lnTo>
                    <a:pt x="200" y="140"/>
                  </a:lnTo>
                  <a:lnTo>
                    <a:pt x="196" y="148"/>
                  </a:lnTo>
                  <a:lnTo>
                    <a:pt x="195" y="156"/>
                  </a:lnTo>
                  <a:lnTo>
                    <a:pt x="192" y="164"/>
                  </a:lnTo>
                  <a:lnTo>
                    <a:pt x="188" y="172"/>
                  </a:lnTo>
                  <a:lnTo>
                    <a:pt x="185" y="179"/>
                  </a:lnTo>
                  <a:lnTo>
                    <a:pt x="182" y="187"/>
                  </a:lnTo>
                  <a:lnTo>
                    <a:pt x="177" y="195"/>
                  </a:lnTo>
                  <a:lnTo>
                    <a:pt x="177" y="195"/>
                  </a:lnTo>
                  <a:close/>
                </a:path>
              </a:pathLst>
            </a:custGeom>
            <a:solidFill>
              <a:srgbClr val="40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rot="2831400">
              <a:off x="929160" y="3769920"/>
              <a:ext cx="2018160" cy="1635840"/>
            </a:xfrm>
            <a:custGeom>
              <a:avLst/>
              <a:gdLst/>
              <a:ahLst/>
              <a:rect l="l" t="t" r="r" b="b"/>
              <a:pathLst>
                <a:path w="694" h="677">
                  <a:moveTo>
                    <a:pt x="42" y="5"/>
                  </a:moveTo>
                  <a:lnTo>
                    <a:pt x="50" y="13"/>
                  </a:lnTo>
                  <a:lnTo>
                    <a:pt x="59" y="21"/>
                  </a:lnTo>
                  <a:lnTo>
                    <a:pt x="69" y="32"/>
                  </a:lnTo>
                  <a:lnTo>
                    <a:pt x="77" y="40"/>
                  </a:lnTo>
                  <a:lnTo>
                    <a:pt x="87" y="50"/>
                  </a:lnTo>
                  <a:lnTo>
                    <a:pt x="96" y="58"/>
                  </a:lnTo>
                  <a:lnTo>
                    <a:pt x="104" y="69"/>
                  </a:lnTo>
                  <a:lnTo>
                    <a:pt x="114" y="76"/>
                  </a:lnTo>
                  <a:lnTo>
                    <a:pt x="122" y="87"/>
                  </a:lnTo>
                  <a:lnTo>
                    <a:pt x="131" y="98"/>
                  </a:lnTo>
                  <a:lnTo>
                    <a:pt x="139" y="108"/>
                  </a:lnTo>
                  <a:lnTo>
                    <a:pt x="149" y="119"/>
                  </a:lnTo>
                  <a:lnTo>
                    <a:pt x="158" y="127"/>
                  </a:lnTo>
                  <a:lnTo>
                    <a:pt x="168" y="137"/>
                  </a:lnTo>
                  <a:lnTo>
                    <a:pt x="176" y="145"/>
                  </a:lnTo>
                  <a:lnTo>
                    <a:pt x="185" y="155"/>
                  </a:lnTo>
                  <a:lnTo>
                    <a:pt x="206" y="174"/>
                  </a:lnTo>
                  <a:lnTo>
                    <a:pt x="225" y="192"/>
                  </a:lnTo>
                  <a:lnTo>
                    <a:pt x="246" y="211"/>
                  </a:lnTo>
                  <a:lnTo>
                    <a:pt x="265" y="232"/>
                  </a:lnTo>
                  <a:lnTo>
                    <a:pt x="286" y="250"/>
                  </a:lnTo>
                  <a:lnTo>
                    <a:pt x="307" y="269"/>
                  </a:lnTo>
                  <a:lnTo>
                    <a:pt x="326" y="287"/>
                  </a:lnTo>
                  <a:lnTo>
                    <a:pt x="347" y="305"/>
                  </a:lnTo>
                  <a:lnTo>
                    <a:pt x="367" y="321"/>
                  </a:lnTo>
                  <a:lnTo>
                    <a:pt x="388" y="340"/>
                  </a:lnTo>
                  <a:lnTo>
                    <a:pt x="407" y="358"/>
                  </a:lnTo>
                  <a:lnTo>
                    <a:pt x="428" y="379"/>
                  </a:lnTo>
                  <a:lnTo>
                    <a:pt x="449" y="398"/>
                  </a:lnTo>
                  <a:lnTo>
                    <a:pt x="468" y="416"/>
                  </a:lnTo>
                  <a:lnTo>
                    <a:pt x="487" y="437"/>
                  </a:lnTo>
                  <a:lnTo>
                    <a:pt x="508" y="458"/>
                  </a:lnTo>
                  <a:lnTo>
                    <a:pt x="519" y="469"/>
                  </a:lnTo>
                  <a:lnTo>
                    <a:pt x="530" y="479"/>
                  </a:lnTo>
                  <a:lnTo>
                    <a:pt x="541" y="487"/>
                  </a:lnTo>
                  <a:lnTo>
                    <a:pt x="552" y="498"/>
                  </a:lnTo>
                  <a:lnTo>
                    <a:pt x="562" y="508"/>
                  </a:lnTo>
                  <a:lnTo>
                    <a:pt x="573" y="516"/>
                  </a:lnTo>
                  <a:lnTo>
                    <a:pt x="584" y="527"/>
                  </a:lnTo>
                  <a:lnTo>
                    <a:pt x="595" y="535"/>
                  </a:lnTo>
                  <a:lnTo>
                    <a:pt x="606" y="545"/>
                  </a:lnTo>
                  <a:lnTo>
                    <a:pt x="618" y="553"/>
                  </a:lnTo>
                  <a:lnTo>
                    <a:pt x="629" y="563"/>
                  </a:lnTo>
                  <a:lnTo>
                    <a:pt x="640" y="574"/>
                  </a:lnTo>
                  <a:lnTo>
                    <a:pt x="651" y="585"/>
                  </a:lnTo>
                  <a:lnTo>
                    <a:pt x="662" y="595"/>
                  </a:lnTo>
                  <a:lnTo>
                    <a:pt x="673" y="608"/>
                  </a:lnTo>
                  <a:lnTo>
                    <a:pt x="685" y="621"/>
                  </a:lnTo>
                  <a:lnTo>
                    <a:pt x="688" y="627"/>
                  </a:lnTo>
                  <a:lnTo>
                    <a:pt x="691" y="632"/>
                  </a:lnTo>
                  <a:lnTo>
                    <a:pt x="691" y="637"/>
                  </a:lnTo>
                  <a:lnTo>
                    <a:pt x="693" y="642"/>
                  </a:lnTo>
                  <a:lnTo>
                    <a:pt x="694" y="650"/>
                  </a:lnTo>
                  <a:lnTo>
                    <a:pt x="694" y="656"/>
                  </a:lnTo>
                  <a:lnTo>
                    <a:pt x="693" y="661"/>
                  </a:lnTo>
                  <a:lnTo>
                    <a:pt x="691" y="666"/>
                  </a:lnTo>
                  <a:lnTo>
                    <a:pt x="688" y="671"/>
                  </a:lnTo>
                  <a:lnTo>
                    <a:pt x="685" y="674"/>
                  </a:lnTo>
                  <a:lnTo>
                    <a:pt x="681" y="677"/>
                  </a:lnTo>
                  <a:lnTo>
                    <a:pt x="677" y="677"/>
                  </a:lnTo>
                  <a:lnTo>
                    <a:pt x="670" y="677"/>
                  </a:lnTo>
                  <a:lnTo>
                    <a:pt x="664" y="674"/>
                  </a:lnTo>
                  <a:lnTo>
                    <a:pt x="654" y="669"/>
                  </a:lnTo>
                  <a:lnTo>
                    <a:pt x="646" y="661"/>
                  </a:lnTo>
                  <a:lnTo>
                    <a:pt x="637" y="653"/>
                  </a:lnTo>
                  <a:lnTo>
                    <a:pt x="626" y="642"/>
                  </a:lnTo>
                  <a:lnTo>
                    <a:pt x="616" y="635"/>
                  </a:lnTo>
                  <a:lnTo>
                    <a:pt x="606" y="624"/>
                  </a:lnTo>
                  <a:lnTo>
                    <a:pt x="595" y="616"/>
                  </a:lnTo>
                  <a:lnTo>
                    <a:pt x="586" y="606"/>
                  </a:lnTo>
                  <a:lnTo>
                    <a:pt x="576" y="598"/>
                  </a:lnTo>
                  <a:lnTo>
                    <a:pt x="567" y="587"/>
                  </a:lnTo>
                  <a:lnTo>
                    <a:pt x="555" y="577"/>
                  </a:lnTo>
                  <a:lnTo>
                    <a:pt x="546" y="569"/>
                  </a:lnTo>
                  <a:lnTo>
                    <a:pt x="536" y="558"/>
                  </a:lnTo>
                  <a:lnTo>
                    <a:pt x="525" y="550"/>
                  </a:lnTo>
                  <a:lnTo>
                    <a:pt x="516" y="540"/>
                  </a:lnTo>
                  <a:lnTo>
                    <a:pt x="506" y="529"/>
                  </a:lnTo>
                  <a:lnTo>
                    <a:pt x="496" y="519"/>
                  </a:lnTo>
                  <a:lnTo>
                    <a:pt x="487" y="511"/>
                  </a:lnTo>
                  <a:lnTo>
                    <a:pt x="476" y="498"/>
                  </a:lnTo>
                  <a:lnTo>
                    <a:pt x="464" y="490"/>
                  </a:lnTo>
                  <a:lnTo>
                    <a:pt x="453" y="479"/>
                  </a:lnTo>
                  <a:lnTo>
                    <a:pt x="444" y="471"/>
                  </a:lnTo>
                  <a:lnTo>
                    <a:pt x="431" y="461"/>
                  </a:lnTo>
                  <a:lnTo>
                    <a:pt x="420" y="453"/>
                  </a:lnTo>
                  <a:lnTo>
                    <a:pt x="409" y="445"/>
                  </a:lnTo>
                  <a:lnTo>
                    <a:pt x="398" y="437"/>
                  </a:lnTo>
                  <a:lnTo>
                    <a:pt x="386" y="429"/>
                  </a:lnTo>
                  <a:lnTo>
                    <a:pt x="375" y="421"/>
                  </a:lnTo>
                  <a:lnTo>
                    <a:pt x="364" y="413"/>
                  </a:lnTo>
                  <a:lnTo>
                    <a:pt x="353" y="406"/>
                  </a:lnTo>
                  <a:lnTo>
                    <a:pt x="340" y="398"/>
                  </a:lnTo>
                  <a:lnTo>
                    <a:pt x="329" y="387"/>
                  </a:lnTo>
                  <a:lnTo>
                    <a:pt x="318" y="379"/>
                  </a:lnTo>
                  <a:lnTo>
                    <a:pt x="308" y="371"/>
                  </a:lnTo>
                  <a:lnTo>
                    <a:pt x="299" y="363"/>
                  </a:lnTo>
                  <a:lnTo>
                    <a:pt x="289" y="356"/>
                  </a:lnTo>
                  <a:lnTo>
                    <a:pt x="280" y="345"/>
                  </a:lnTo>
                  <a:lnTo>
                    <a:pt x="270" y="337"/>
                  </a:lnTo>
                  <a:lnTo>
                    <a:pt x="260" y="329"/>
                  </a:lnTo>
                  <a:lnTo>
                    <a:pt x="252" y="319"/>
                  </a:lnTo>
                  <a:lnTo>
                    <a:pt x="243" y="311"/>
                  </a:lnTo>
                  <a:lnTo>
                    <a:pt x="233" y="303"/>
                  </a:lnTo>
                  <a:lnTo>
                    <a:pt x="224" y="292"/>
                  </a:lnTo>
                  <a:lnTo>
                    <a:pt x="214" y="282"/>
                  </a:lnTo>
                  <a:lnTo>
                    <a:pt x="205" y="274"/>
                  </a:lnTo>
                  <a:lnTo>
                    <a:pt x="195" y="266"/>
                  </a:lnTo>
                  <a:lnTo>
                    <a:pt x="185" y="255"/>
                  </a:lnTo>
                  <a:lnTo>
                    <a:pt x="177" y="248"/>
                  </a:lnTo>
                  <a:lnTo>
                    <a:pt x="168" y="237"/>
                  </a:lnTo>
                  <a:lnTo>
                    <a:pt x="158" y="229"/>
                  </a:lnTo>
                  <a:lnTo>
                    <a:pt x="150" y="221"/>
                  </a:lnTo>
                  <a:lnTo>
                    <a:pt x="141" y="211"/>
                  </a:lnTo>
                  <a:lnTo>
                    <a:pt x="131" y="203"/>
                  </a:lnTo>
                  <a:lnTo>
                    <a:pt x="123" y="195"/>
                  </a:lnTo>
                  <a:lnTo>
                    <a:pt x="114" y="184"/>
                  </a:lnTo>
                  <a:lnTo>
                    <a:pt x="104" y="174"/>
                  </a:lnTo>
                  <a:lnTo>
                    <a:pt x="96" y="166"/>
                  </a:lnTo>
                  <a:lnTo>
                    <a:pt x="87" y="155"/>
                  </a:lnTo>
                  <a:lnTo>
                    <a:pt x="77" y="148"/>
                  </a:lnTo>
                  <a:lnTo>
                    <a:pt x="69" y="137"/>
                  </a:lnTo>
                  <a:lnTo>
                    <a:pt x="59" y="127"/>
                  </a:lnTo>
                  <a:lnTo>
                    <a:pt x="52" y="119"/>
                  </a:lnTo>
                  <a:lnTo>
                    <a:pt x="42" y="108"/>
                  </a:lnTo>
                  <a:lnTo>
                    <a:pt x="32" y="100"/>
                  </a:lnTo>
                  <a:lnTo>
                    <a:pt x="24" y="92"/>
                  </a:lnTo>
                  <a:lnTo>
                    <a:pt x="15" y="84"/>
                  </a:lnTo>
                  <a:lnTo>
                    <a:pt x="10" y="76"/>
                  </a:lnTo>
                  <a:lnTo>
                    <a:pt x="7" y="69"/>
                  </a:lnTo>
                  <a:lnTo>
                    <a:pt x="4" y="61"/>
                  </a:lnTo>
                  <a:lnTo>
                    <a:pt x="2" y="53"/>
                  </a:lnTo>
                  <a:lnTo>
                    <a:pt x="0" y="45"/>
                  </a:lnTo>
                  <a:lnTo>
                    <a:pt x="2" y="37"/>
                  </a:lnTo>
                  <a:lnTo>
                    <a:pt x="2" y="32"/>
                  </a:lnTo>
                  <a:lnTo>
                    <a:pt x="5" y="24"/>
                  </a:lnTo>
                  <a:lnTo>
                    <a:pt x="7" y="16"/>
                  </a:lnTo>
                  <a:lnTo>
                    <a:pt x="10" y="11"/>
                  </a:lnTo>
                  <a:lnTo>
                    <a:pt x="15" y="5"/>
                  </a:lnTo>
                  <a:lnTo>
                    <a:pt x="20" y="3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4" y="3"/>
                  </a:lnTo>
                  <a:lnTo>
                    <a:pt x="42" y="5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a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rot="2831400">
              <a:off x="1567080" y="2410200"/>
              <a:ext cx="296640" cy="37476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37" y="18"/>
                  </a:moveTo>
                  <a:lnTo>
                    <a:pt x="38" y="26"/>
                  </a:lnTo>
                  <a:lnTo>
                    <a:pt x="40" y="31"/>
                  </a:lnTo>
                  <a:lnTo>
                    <a:pt x="43" y="36"/>
                  </a:lnTo>
                  <a:lnTo>
                    <a:pt x="46" y="42"/>
                  </a:lnTo>
                  <a:lnTo>
                    <a:pt x="50" y="47"/>
                  </a:lnTo>
                  <a:lnTo>
                    <a:pt x="51" y="52"/>
                  </a:lnTo>
                  <a:lnTo>
                    <a:pt x="54" y="55"/>
                  </a:lnTo>
                  <a:lnTo>
                    <a:pt x="59" y="57"/>
                  </a:lnTo>
                  <a:lnTo>
                    <a:pt x="62" y="63"/>
                  </a:lnTo>
                  <a:lnTo>
                    <a:pt x="66" y="65"/>
                  </a:lnTo>
                  <a:lnTo>
                    <a:pt x="70" y="68"/>
                  </a:lnTo>
                  <a:lnTo>
                    <a:pt x="74" y="71"/>
                  </a:lnTo>
                  <a:lnTo>
                    <a:pt x="78" y="73"/>
                  </a:lnTo>
                  <a:lnTo>
                    <a:pt x="82" y="78"/>
                  </a:lnTo>
                  <a:lnTo>
                    <a:pt x="86" y="81"/>
                  </a:lnTo>
                  <a:lnTo>
                    <a:pt x="91" y="86"/>
                  </a:lnTo>
                  <a:lnTo>
                    <a:pt x="96" y="89"/>
                  </a:lnTo>
                  <a:lnTo>
                    <a:pt x="99" y="94"/>
                  </a:lnTo>
                  <a:lnTo>
                    <a:pt x="101" y="100"/>
                  </a:lnTo>
                  <a:lnTo>
                    <a:pt x="102" y="107"/>
                  </a:lnTo>
                  <a:lnTo>
                    <a:pt x="102" y="115"/>
                  </a:lnTo>
                  <a:lnTo>
                    <a:pt x="102" y="121"/>
                  </a:lnTo>
                  <a:lnTo>
                    <a:pt x="101" y="128"/>
                  </a:lnTo>
                  <a:lnTo>
                    <a:pt x="99" y="134"/>
                  </a:lnTo>
                  <a:lnTo>
                    <a:pt x="97" y="139"/>
                  </a:lnTo>
                  <a:lnTo>
                    <a:pt x="94" y="147"/>
                  </a:lnTo>
                  <a:lnTo>
                    <a:pt x="91" y="150"/>
                  </a:lnTo>
                  <a:lnTo>
                    <a:pt x="88" y="152"/>
                  </a:lnTo>
                  <a:lnTo>
                    <a:pt x="83" y="155"/>
                  </a:lnTo>
                  <a:lnTo>
                    <a:pt x="78" y="155"/>
                  </a:lnTo>
                  <a:lnTo>
                    <a:pt x="74" y="155"/>
                  </a:lnTo>
                  <a:lnTo>
                    <a:pt x="69" y="152"/>
                  </a:lnTo>
                  <a:lnTo>
                    <a:pt x="64" y="147"/>
                  </a:lnTo>
                  <a:lnTo>
                    <a:pt x="58" y="142"/>
                  </a:lnTo>
                  <a:lnTo>
                    <a:pt x="53" y="136"/>
                  </a:lnTo>
                  <a:lnTo>
                    <a:pt x="48" y="131"/>
                  </a:lnTo>
                  <a:lnTo>
                    <a:pt x="43" y="123"/>
                  </a:lnTo>
                  <a:lnTo>
                    <a:pt x="38" y="118"/>
                  </a:lnTo>
                  <a:lnTo>
                    <a:pt x="34" y="113"/>
                  </a:lnTo>
                  <a:lnTo>
                    <a:pt x="29" y="107"/>
                  </a:lnTo>
                  <a:lnTo>
                    <a:pt x="26" y="100"/>
                  </a:lnTo>
                  <a:lnTo>
                    <a:pt x="21" y="94"/>
                  </a:lnTo>
                  <a:lnTo>
                    <a:pt x="18" y="86"/>
                  </a:lnTo>
                  <a:lnTo>
                    <a:pt x="15" y="81"/>
                  </a:lnTo>
                  <a:lnTo>
                    <a:pt x="11" y="71"/>
                  </a:lnTo>
                  <a:lnTo>
                    <a:pt x="8" y="63"/>
                  </a:lnTo>
                  <a:lnTo>
                    <a:pt x="5" y="55"/>
                  </a:lnTo>
                  <a:lnTo>
                    <a:pt x="2" y="44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2" y="21"/>
                  </a:lnTo>
                  <a:lnTo>
                    <a:pt x="3" y="15"/>
                  </a:lnTo>
                  <a:lnTo>
                    <a:pt x="5" y="10"/>
                  </a:lnTo>
                  <a:lnTo>
                    <a:pt x="8" y="5"/>
                  </a:lnTo>
                  <a:lnTo>
                    <a:pt x="11" y="5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32" y="7"/>
                  </a:lnTo>
                  <a:lnTo>
                    <a:pt x="34" y="13"/>
                  </a:lnTo>
                  <a:lnTo>
                    <a:pt x="37" y="18"/>
                  </a:lnTo>
                  <a:lnTo>
                    <a:pt x="37" y="18"/>
                  </a:lnTo>
                  <a:close/>
                </a:path>
              </a:pathLst>
            </a:custGeom>
            <a:solidFill>
              <a:srgbClr val="b8f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rot="2831400">
              <a:off x="1726920" y="2221920"/>
              <a:ext cx="113400" cy="183600"/>
            </a:xfrm>
            <a:custGeom>
              <a:avLst/>
              <a:gdLst/>
              <a:ahLst/>
              <a:rect l="l" t="t" r="r" b="b"/>
              <a:pathLst>
                <a:path w="39" h="76">
                  <a:moveTo>
                    <a:pt x="34" y="18"/>
                  </a:moveTo>
                  <a:lnTo>
                    <a:pt x="37" y="29"/>
                  </a:lnTo>
                  <a:lnTo>
                    <a:pt x="39" y="37"/>
                  </a:lnTo>
                  <a:lnTo>
                    <a:pt x="39" y="47"/>
                  </a:lnTo>
                  <a:lnTo>
                    <a:pt x="39" y="55"/>
                  </a:lnTo>
                  <a:lnTo>
                    <a:pt x="37" y="61"/>
                  </a:lnTo>
                  <a:lnTo>
                    <a:pt x="35" y="66"/>
                  </a:lnTo>
                  <a:lnTo>
                    <a:pt x="32" y="68"/>
                  </a:lnTo>
                  <a:lnTo>
                    <a:pt x="29" y="74"/>
                  </a:lnTo>
                  <a:lnTo>
                    <a:pt x="24" y="74"/>
                  </a:lnTo>
                  <a:lnTo>
                    <a:pt x="21" y="76"/>
                  </a:lnTo>
                  <a:lnTo>
                    <a:pt x="18" y="74"/>
                  </a:lnTo>
                  <a:lnTo>
                    <a:pt x="13" y="74"/>
                  </a:lnTo>
                  <a:lnTo>
                    <a:pt x="10" y="71"/>
                  </a:lnTo>
                  <a:lnTo>
                    <a:pt x="7" y="68"/>
                  </a:lnTo>
                  <a:lnTo>
                    <a:pt x="5" y="63"/>
                  </a:lnTo>
                  <a:lnTo>
                    <a:pt x="3" y="58"/>
                  </a:lnTo>
                  <a:lnTo>
                    <a:pt x="2" y="45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2" y="21"/>
                  </a:lnTo>
                  <a:lnTo>
                    <a:pt x="2" y="13"/>
                  </a:lnTo>
                  <a:lnTo>
                    <a:pt x="5" y="11"/>
                  </a:lnTo>
                  <a:lnTo>
                    <a:pt x="7" y="5"/>
                  </a:lnTo>
                  <a:lnTo>
                    <a:pt x="10" y="3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8"/>
                  </a:lnTo>
                  <a:lnTo>
                    <a:pt x="31" y="11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solidFill>
              <a:srgbClr val="b8f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rot="2831400">
              <a:off x="1697400" y="4147920"/>
              <a:ext cx="218160" cy="190440"/>
            </a:xfrm>
            <a:custGeom>
              <a:avLst/>
              <a:gdLst/>
              <a:ahLst/>
              <a:rect l="l" t="t" r="r" b="b"/>
              <a:pathLst>
                <a:path w="75" h="79">
                  <a:moveTo>
                    <a:pt x="52" y="77"/>
                  </a:moveTo>
                  <a:lnTo>
                    <a:pt x="49" y="77"/>
                  </a:lnTo>
                  <a:lnTo>
                    <a:pt x="46" y="77"/>
                  </a:lnTo>
                  <a:lnTo>
                    <a:pt x="41" y="77"/>
                  </a:lnTo>
                  <a:lnTo>
                    <a:pt x="38" y="79"/>
                  </a:lnTo>
                  <a:lnTo>
                    <a:pt x="35" y="79"/>
                  </a:lnTo>
                  <a:lnTo>
                    <a:pt x="32" y="79"/>
                  </a:lnTo>
                  <a:lnTo>
                    <a:pt x="29" y="79"/>
                  </a:lnTo>
                  <a:lnTo>
                    <a:pt x="25" y="79"/>
                  </a:lnTo>
                  <a:lnTo>
                    <a:pt x="19" y="79"/>
                  </a:lnTo>
                  <a:lnTo>
                    <a:pt x="14" y="77"/>
                  </a:lnTo>
                  <a:lnTo>
                    <a:pt x="9" y="71"/>
                  </a:lnTo>
                  <a:lnTo>
                    <a:pt x="6" y="69"/>
                  </a:lnTo>
                  <a:lnTo>
                    <a:pt x="3" y="61"/>
                  </a:lnTo>
                  <a:lnTo>
                    <a:pt x="1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1" y="27"/>
                  </a:lnTo>
                  <a:lnTo>
                    <a:pt x="3" y="19"/>
                  </a:lnTo>
                  <a:lnTo>
                    <a:pt x="6" y="13"/>
                  </a:lnTo>
                  <a:lnTo>
                    <a:pt x="9" y="8"/>
                  </a:lnTo>
                  <a:lnTo>
                    <a:pt x="14" y="6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48" y="6"/>
                  </a:lnTo>
                  <a:lnTo>
                    <a:pt x="56" y="8"/>
                  </a:lnTo>
                  <a:lnTo>
                    <a:pt x="62" y="13"/>
                  </a:lnTo>
                  <a:lnTo>
                    <a:pt x="67" y="16"/>
                  </a:lnTo>
                  <a:lnTo>
                    <a:pt x="72" y="24"/>
                  </a:lnTo>
                  <a:lnTo>
                    <a:pt x="73" y="32"/>
                  </a:lnTo>
                  <a:lnTo>
                    <a:pt x="75" y="40"/>
                  </a:lnTo>
                  <a:lnTo>
                    <a:pt x="73" y="45"/>
                  </a:lnTo>
                  <a:lnTo>
                    <a:pt x="73" y="53"/>
                  </a:lnTo>
                  <a:lnTo>
                    <a:pt x="70" y="58"/>
                  </a:lnTo>
                  <a:lnTo>
                    <a:pt x="68" y="63"/>
                  </a:lnTo>
                  <a:lnTo>
                    <a:pt x="64" y="69"/>
                  </a:lnTo>
                  <a:lnTo>
                    <a:pt x="60" y="71"/>
                  </a:lnTo>
                  <a:lnTo>
                    <a:pt x="56" y="74"/>
                  </a:lnTo>
                  <a:lnTo>
                    <a:pt x="52" y="77"/>
                  </a:lnTo>
                  <a:lnTo>
                    <a:pt x="52" y="77"/>
                  </a:lnTo>
                  <a:close/>
                </a:path>
              </a:pathLst>
            </a:custGeom>
            <a:solidFill>
              <a:srgbClr val="b8f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rot="2831400">
              <a:off x="693360" y="3280680"/>
              <a:ext cx="2512800" cy="2131560"/>
            </a:xfrm>
            <a:custGeom>
              <a:avLst/>
              <a:gdLst/>
              <a:ahLst/>
              <a:rect l="l" t="t" r="r" b="b"/>
              <a:pathLst>
                <a:path w="864" h="882">
                  <a:moveTo>
                    <a:pt x="51" y="48"/>
                  </a:moveTo>
                  <a:lnTo>
                    <a:pt x="64" y="45"/>
                  </a:lnTo>
                  <a:lnTo>
                    <a:pt x="80" y="50"/>
                  </a:lnTo>
                  <a:lnTo>
                    <a:pt x="100" y="58"/>
                  </a:lnTo>
                  <a:lnTo>
                    <a:pt x="123" y="71"/>
                  </a:lnTo>
                  <a:lnTo>
                    <a:pt x="148" y="87"/>
                  </a:lnTo>
                  <a:lnTo>
                    <a:pt x="175" y="106"/>
                  </a:lnTo>
                  <a:lnTo>
                    <a:pt x="204" y="127"/>
                  </a:lnTo>
                  <a:lnTo>
                    <a:pt x="233" y="148"/>
                  </a:lnTo>
                  <a:lnTo>
                    <a:pt x="261" y="172"/>
                  </a:lnTo>
                  <a:lnTo>
                    <a:pt x="290" y="195"/>
                  </a:lnTo>
                  <a:lnTo>
                    <a:pt x="317" y="219"/>
                  </a:lnTo>
                  <a:lnTo>
                    <a:pt x="341" y="243"/>
                  </a:lnTo>
                  <a:lnTo>
                    <a:pt x="364" y="264"/>
                  </a:lnTo>
                  <a:lnTo>
                    <a:pt x="383" y="285"/>
                  </a:lnTo>
                  <a:lnTo>
                    <a:pt x="397" y="301"/>
                  </a:lnTo>
                  <a:lnTo>
                    <a:pt x="408" y="316"/>
                  </a:lnTo>
                  <a:lnTo>
                    <a:pt x="416" y="322"/>
                  </a:lnTo>
                  <a:lnTo>
                    <a:pt x="429" y="332"/>
                  </a:lnTo>
                  <a:lnTo>
                    <a:pt x="446" y="348"/>
                  </a:lnTo>
                  <a:lnTo>
                    <a:pt x="466" y="369"/>
                  </a:lnTo>
                  <a:lnTo>
                    <a:pt x="486" y="390"/>
                  </a:lnTo>
                  <a:lnTo>
                    <a:pt x="510" y="416"/>
                  </a:lnTo>
                  <a:lnTo>
                    <a:pt x="536" y="445"/>
                  </a:lnTo>
                  <a:lnTo>
                    <a:pt x="560" y="474"/>
                  </a:lnTo>
                  <a:lnTo>
                    <a:pt x="585" y="503"/>
                  </a:lnTo>
                  <a:lnTo>
                    <a:pt x="611" y="532"/>
                  </a:lnTo>
                  <a:lnTo>
                    <a:pt x="635" y="561"/>
                  </a:lnTo>
                  <a:lnTo>
                    <a:pt x="657" y="590"/>
                  </a:lnTo>
                  <a:lnTo>
                    <a:pt x="678" y="614"/>
                  </a:lnTo>
                  <a:lnTo>
                    <a:pt x="695" y="635"/>
                  </a:lnTo>
                  <a:lnTo>
                    <a:pt x="710" y="653"/>
                  </a:lnTo>
                  <a:lnTo>
                    <a:pt x="721" y="666"/>
                  </a:lnTo>
                  <a:lnTo>
                    <a:pt x="724" y="669"/>
                  </a:lnTo>
                  <a:lnTo>
                    <a:pt x="727" y="672"/>
                  </a:lnTo>
                  <a:lnTo>
                    <a:pt x="732" y="674"/>
                  </a:lnTo>
                  <a:lnTo>
                    <a:pt x="735" y="680"/>
                  </a:lnTo>
                  <a:lnTo>
                    <a:pt x="740" y="682"/>
                  </a:lnTo>
                  <a:lnTo>
                    <a:pt x="743" y="685"/>
                  </a:lnTo>
                  <a:lnTo>
                    <a:pt x="748" y="687"/>
                  </a:lnTo>
                  <a:lnTo>
                    <a:pt x="751" y="690"/>
                  </a:lnTo>
                  <a:lnTo>
                    <a:pt x="756" y="693"/>
                  </a:lnTo>
                  <a:lnTo>
                    <a:pt x="759" y="695"/>
                  </a:lnTo>
                  <a:lnTo>
                    <a:pt x="762" y="698"/>
                  </a:lnTo>
                  <a:lnTo>
                    <a:pt x="767" y="703"/>
                  </a:lnTo>
                  <a:lnTo>
                    <a:pt x="770" y="706"/>
                  </a:lnTo>
                  <a:lnTo>
                    <a:pt x="773" y="709"/>
                  </a:lnTo>
                  <a:lnTo>
                    <a:pt x="778" y="714"/>
                  </a:lnTo>
                  <a:lnTo>
                    <a:pt x="781" y="719"/>
                  </a:lnTo>
                  <a:lnTo>
                    <a:pt x="786" y="724"/>
                  </a:lnTo>
                  <a:lnTo>
                    <a:pt x="791" y="730"/>
                  </a:lnTo>
                  <a:lnTo>
                    <a:pt x="794" y="737"/>
                  </a:lnTo>
                  <a:lnTo>
                    <a:pt x="799" y="743"/>
                  </a:lnTo>
                  <a:lnTo>
                    <a:pt x="804" y="748"/>
                  </a:lnTo>
                  <a:lnTo>
                    <a:pt x="808" y="756"/>
                  </a:lnTo>
                  <a:lnTo>
                    <a:pt x="812" y="761"/>
                  </a:lnTo>
                  <a:lnTo>
                    <a:pt x="816" y="769"/>
                  </a:lnTo>
                  <a:lnTo>
                    <a:pt x="821" y="774"/>
                  </a:lnTo>
                  <a:lnTo>
                    <a:pt x="826" y="782"/>
                  </a:lnTo>
                  <a:lnTo>
                    <a:pt x="829" y="787"/>
                  </a:lnTo>
                  <a:lnTo>
                    <a:pt x="834" y="795"/>
                  </a:lnTo>
                  <a:lnTo>
                    <a:pt x="839" y="801"/>
                  </a:lnTo>
                  <a:lnTo>
                    <a:pt x="843" y="806"/>
                  </a:lnTo>
                  <a:lnTo>
                    <a:pt x="848" y="811"/>
                  </a:lnTo>
                  <a:lnTo>
                    <a:pt x="853" y="819"/>
                  </a:lnTo>
                  <a:lnTo>
                    <a:pt x="858" y="824"/>
                  </a:lnTo>
                  <a:lnTo>
                    <a:pt x="861" y="830"/>
                  </a:lnTo>
                  <a:lnTo>
                    <a:pt x="863" y="835"/>
                  </a:lnTo>
                  <a:lnTo>
                    <a:pt x="864" y="843"/>
                  </a:lnTo>
                  <a:lnTo>
                    <a:pt x="864" y="848"/>
                  </a:lnTo>
                  <a:lnTo>
                    <a:pt x="864" y="853"/>
                  </a:lnTo>
                  <a:lnTo>
                    <a:pt x="863" y="859"/>
                  </a:lnTo>
                  <a:lnTo>
                    <a:pt x="863" y="866"/>
                  </a:lnTo>
                  <a:lnTo>
                    <a:pt x="859" y="872"/>
                  </a:lnTo>
                  <a:lnTo>
                    <a:pt x="856" y="874"/>
                  </a:lnTo>
                  <a:lnTo>
                    <a:pt x="853" y="877"/>
                  </a:lnTo>
                  <a:lnTo>
                    <a:pt x="850" y="882"/>
                  </a:lnTo>
                  <a:lnTo>
                    <a:pt x="847" y="882"/>
                  </a:lnTo>
                  <a:lnTo>
                    <a:pt x="842" y="882"/>
                  </a:lnTo>
                  <a:lnTo>
                    <a:pt x="837" y="882"/>
                  </a:lnTo>
                  <a:lnTo>
                    <a:pt x="834" y="880"/>
                  </a:lnTo>
                  <a:lnTo>
                    <a:pt x="829" y="874"/>
                  </a:lnTo>
                  <a:lnTo>
                    <a:pt x="821" y="866"/>
                  </a:lnTo>
                  <a:lnTo>
                    <a:pt x="810" y="853"/>
                  </a:lnTo>
                  <a:lnTo>
                    <a:pt x="797" y="840"/>
                  </a:lnTo>
                  <a:lnTo>
                    <a:pt x="781" y="822"/>
                  </a:lnTo>
                  <a:lnTo>
                    <a:pt x="764" y="801"/>
                  </a:lnTo>
                  <a:lnTo>
                    <a:pt x="746" y="780"/>
                  </a:lnTo>
                  <a:lnTo>
                    <a:pt x="729" y="761"/>
                  </a:lnTo>
                  <a:lnTo>
                    <a:pt x="710" y="737"/>
                  </a:lnTo>
                  <a:lnTo>
                    <a:pt x="692" y="716"/>
                  </a:lnTo>
                  <a:lnTo>
                    <a:pt x="674" y="698"/>
                  </a:lnTo>
                  <a:lnTo>
                    <a:pt x="660" y="680"/>
                  </a:lnTo>
                  <a:lnTo>
                    <a:pt x="646" y="664"/>
                  </a:lnTo>
                  <a:lnTo>
                    <a:pt x="636" y="651"/>
                  </a:lnTo>
                  <a:lnTo>
                    <a:pt x="630" y="643"/>
                  </a:lnTo>
                  <a:lnTo>
                    <a:pt x="627" y="640"/>
                  </a:lnTo>
                  <a:lnTo>
                    <a:pt x="620" y="637"/>
                  </a:lnTo>
                  <a:lnTo>
                    <a:pt x="614" y="632"/>
                  </a:lnTo>
                  <a:lnTo>
                    <a:pt x="606" y="627"/>
                  </a:lnTo>
                  <a:lnTo>
                    <a:pt x="596" y="619"/>
                  </a:lnTo>
                  <a:lnTo>
                    <a:pt x="585" y="608"/>
                  </a:lnTo>
                  <a:lnTo>
                    <a:pt x="574" y="595"/>
                  </a:lnTo>
                  <a:lnTo>
                    <a:pt x="563" y="585"/>
                  </a:lnTo>
                  <a:lnTo>
                    <a:pt x="552" y="572"/>
                  </a:lnTo>
                  <a:lnTo>
                    <a:pt x="541" y="558"/>
                  </a:lnTo>
                  <a:lnTo>
                    <a:pt x="528" y="543"/>
                  </a:lnTo>
                  <a:lnTo>
                    <a:pt x="517" y="532"/>
                  </a:lnTo>
                  <a:lnTo>
                    <a:pt x="507" y="519"/>
                  </a:lnTo>
                  <a:lnTo>
                    <a:pt x="497" y="506"/>
                  </a:lnTo>
                  <a:lnTo>
                    <a:pt x="488" y="495"/>
                  </a:lnTo>
                  <a:lnTo>
                    <a:pt x="480" y="487"/>
                  </a:lnTo>
                  <a:lnTo>
                    <a:pt x="474" y="482"/>
                  </a:lnTo>
                  <a:lnTo>
                    <a:pt x="466" y="479"/>
                  </a:lnTo>
                  <a:lnTo>
                    <a:pt x="451" y="469"/>
                  </a:lnTo>
                  <a:lnTo>
                    <a:pt x="431" y="453"/>
                  </a:lnTo>
                  <a:lnTo>
                    <a:pt x="407" y="429"/>
                  </a:lnTo>
                  <a:lnTo>
                    <a:pt x="378" y="403"/>
                  </a:lnTo>
                  <a:lnTo>
                    <a:pt x="348" y="372"/>
                  </a:lnTo>
                  <a:lnTo>
                    <a:pt x="316" y="337"/>
                  </a:lnTo>
                  <a:lnTo>
                    <a:pt x="282" y="306"/>
                  </a:lnTo>
                  <a:lnTo>
                    <a:pt x="247" y="272"/>
                  </a:lnTo>
                  <a:lnTo>
                    <a:pt x="214" y="240"/>
                  </a:lnTo>
                  <a:lnTo>
                    <a:pt x="180" y="211"/>
                  </a:lnTo>
                  <a:lnTo>
                    <a:pt x="150" y="185"/>
                  </a:lnTo>
                  <a:lnTo>
                    <a:pt x="123" y="166"/>
                  </a:lnTo>
                  <a:lnTo>
                    <a:pt x="99" y="153"/>
                  </a:lnTo>
                  <a:lnTo>
                    <a:pt x="80" y="148"/>
                  </a:lnTo>
                  <a:lnTo>
                    <a:pt x="67" y="153"/>
                  </a:lnTo>
                  <a:lnTo>
                    <a:pt x="49" y="143"/>
                  </a:lnTo>
                  <a:lnTo>
                    <a:pt x="37" y="129"/>
                  </a:lnTo>
                  <a:lnTo>
                    <a:pt x="24" y="114"/>
                  </a:lnTo>
                  <a:lnTo>
                    <a:pt x="16" y="98"/>
                  </a:lnTo>
                  <a:lnTo>
                    <a:pt x="8" y="82"/>
                  </a:lnTo>
                  <a:lnTo>
                    <a:pt x="3" y="64"/>
                  </a:lnTo>
                  <a:lnTo>
                    <a:pt x="0" y="48"/>
                  </a:lnTo>
                  <a:lnTo>
                    <a:pt x="0" y="32"/>
                  </a:lnTo>
                  <a:lnTo>
                    <a:pt x="0" y="19"/>
                  </a:lnTo>
                  <a:lnTo>
                    <a:pt x="3" y="8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30" y="11"/>
                  </a:lnTo>
                  <a:lnTo>
                    <a:pt x="40" y="24"/>
                  </a:lnTo>
                  <a:lnTo>
                    <a:pt x="51" y="48"/>
                  </a:lnTo>
                  <a:lnTo>
                    <a:pt x="51" y="48"/>
                  </a:lnTo>
                  <a:close/>
                </a:path>
              </a:pathLst>
            </a:custGeom>
            <a:solidFill>
              <a:srgbClr val="a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rot="2831400">
              <a:off x="1710000" y="2517840"/>
              <a:ext cx="172080" cy="386640"/>
            </a:xfrm>
            <a:custGeom>
              <a:avLst/>
              <a:gdLst/>
              <a:ahLst/>
              <a:rect l="l" t="t" r="r" b="b"/>
              <a:pathLst>
                <a:path w="59" h="160">
                  <a:moveTo>
                    <a:pt x="35" y="16"/>
                  </a:moveTo>
                  <a:lnTo>
                    <a:pt x="38" y="23"/>
                  </a:lnTo>
                  <a:lnTo>
                    <a:pt x="40" y="29"/>
                  </a:lnTo>
                  <a:lnTo>
                    <a:pt x="41" y="34"/>
                  </a:lnTo>
                  <a:lnTo>
                    <a:pt x="44" y="42"/>
                  </a:lnTo>
                  <a:lnTo>
                    <a:pt x="46" y="47"/>
                  </a:lnTo>
                  <a:lnTo>
                    <a:pt x="49" y="55"/>
                  </a:lnTo>
                  <a:lnTo>
                    <a:pt x="51" y="60"/>
                  </a:lnTo>
                  <a:lnTo>
                    <a:pt x="52" y="68"/>
                  </a:lnTo>
                  <a:lnTo>
                    <a:pt x="54" y="73"/>
                  </a:lnTo>
                  <a:lnTo>
                    <a:pt x="56" y="79"/>
                  </a:lnTo>
                  <a:lnTo>
                    <a:pt x="57" y="87"/>
                  </a:lnTo>
                  <a:lnTo>
                    <a:pt x="59" y="92"/>
                  </a:lnTo>
                  <a:lnTo>
                    <a:pt x="59" y="100"/>
                  </a:lnTo>
                  <a:lnTo>
                    <a:pt x="59" y="105"/>
                  </a:lnTo>
                  <a:lnTo>
                    <a:pt x="59" y="113"/>
                  </a:lnTo>
                  <a:lnTo>
                    <a:pt x="59" y="123"/>
                  </a:lnTo>
                  <a:lnTo>
                    <a:pt x="59" y="131"/>
                  </a:lnTo>
                  <a:lnTo>
                    <a:pt x="56" y="139"/>
                  </a:lnTo>
                  <a:lnTo>
                    <a:pt x="52" y="145"/>
                  </a:lnTo>
                  <a:lnTo>
                    <a:pt x="51" y="152"/>
                  </a:lnTo>
                  <a:lnTo>
                    <a:pt x="46" y="155"/>
                  </a:lnTo>
                  <a:lnTo>
                    <a:pt x="41" y="158"/>
                  </a:lnTo>
                  <a:lnTo>
                    <a:pt x="36" y="158"/>
                  </a:lnTo>
                  <a:lnTo>
                    <a:pt x="33" y="160"/>
                  </a:lnTo>
                  <a:lnTo>
                    <a:pt x="28" y="158"/>
                  </a:lnTo>
                  <a:lnTo>
                    <a:pt x="24" y="155"/>
                  </a:lnTo>
                  <a:lnTo>
                    <a:pt x="20" y="152"/>
                  </a:lnTo>
                  <a:lnTo>
                    <a:pt x="16" y="147"/>
                  </a:lnTo>
                  <a:lnTo>
                    <a:pt x="13" y="142"/>
                  </a:lnTo>
                  <a:lnTo>
                    <a:pt x="11" y="134"/>
                  </a:lnTo>
                  <a:lnTo>
                    <a:pt x="9" y="126"/>
                  </a:lnTo>
                  <a:lnTo>
                    <a:pt x="11" y="118"/>
                  </a:lnTo>
                  <a:lnTo>
                    <a:pt x="11" y="110"/>
                  </a:lnTo>
                  <a:lnTo>
                    <a:pt x="11" y="105"/>
                  </a:lnTo>
                  <a:lnTo>
                    <a:pt x="11" y="102"/>
                  </a:lnTo>
                  <a:lnTo>
                    <a:pt x="11" y="97"/>
                  </a:lnTo>
                  <a:lnTo>
                    <a:pt x="9" y="92"/>
                  </a:lnTo>
                  <a:lnTo>
                    <a:pt x="9" y="89"/>
                  </a:lnTo>
                  <a:lnTo>
                    <a:pt x="9" y="84"/>
                  </a:lnTo>
                  <a:lnTo>
                    <a:pt x="9" y="81"/>
                  </a:lnTo>
                  <a:lnTo>
                    <a:pt x="8" y="71"/>
                  </a:lnTo>
                  <a:lnTo>
                    <a:pt x="6" y="66"/>
                  </a:lnTo>
                  <a:lnTo>
                    <a:pt x="5" y="55"/>
                  </a:lnTo>
                  <a:lnTo>
                    <a:pt x="3" y="47"/>
                  </a:lnTo>
                  <a:lnTo>
                    <a:pt x="0" y="42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1" y="18"/>
                  </a:lnTo>
                  <a:lnTo>
                    <a:pt x="3" y="13"/>
                  </a:lnTo>
                  <a:lnTo>
                    <a:pt x="6" y="8"/>
                  </a:lnTo>
                  <a:lnTo>
                    <a:pt x="9" y="5"/>
                  </a:lnTo>
                  <a:lnTo>
                    <a:pt x="13" y="2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2"/>
                  </a:lnTo>
                  <a:lnTo>
                    <a:pt x="28" y="5"/>
                  </a:lnTo>
                  <a:lnTo>
                    <a:pt x="32" y="10"/>
                  </a:lnTo>
                  <a:lnTo>
                    <a:pt x="35" y="16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4df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rot="2831400">
              <a:off x="1434960" y="3197880"/>
              <a:ext cx="904680" cy="514440"/>
            </a:xfrm>
            <a:custGeom>
              <a:avLst/>
              <a:gdLst/>
              <a:ahLst/>
              <a:rect l="l" t="t" r="r" b="b"/>
              <a:pathLst>
                <a:path w="311" h="213">
                  <a:moveTo>
                    <a:pt x="22" y="0"/>
                  </a:moveTo>
                  <a:lnTo>
                    <a:pt x="43" y="5"/>
                  </a:lnTo>
                  <a:lnTo>
                    <a:pt x="63" y="13"/>
                  </a:lnTo>
                  <a:lnTo>
                    <a:pt x="81" y="19"/>
                  </a:lnTo>
                  <a:lnTo>
                    <a:pt x="100" y="26"/>
                  </a:lnTo>
                  <a:lnTo>
                    <a:pt x="116" y="32"/>
                  </a:lnTo>
                  <a:lnTo>
                    <a:pt x="134" y="42"/>
                  </a:lnTo>
                  <a:lnTo>
                    <a:pt x="150" y="50"/>
                  </a:lnTo>
                  <a:lnTo>
                    <a:pt x="165" y="58"/>
                  </a:lnTo>
                  <a:lnTo>
                    <a:pt x="180" y="69"/>
                  </a:lnTo>
                  <a:lnTo>
                    <a:pt x="196" y="79"/>
                  </a:lnTo>
                  <a:lnTo>
                    <a:pt x="212" y="90"/>
                  </a:lnTo>
                  <a:lnTo>
                    <a:pt x="228" y="100"/>
                  </a:lnTo>
                  <a:lnTo>
                    <a:pt x="245" y="113"/>
                  </a:lnTo>
                  <a:lnTo>
                    <a:pt x="263" y="126"/>
                  </a:lnTo>
                  <a:lnTo>
                    <a:pt x="280" y="140"/>
                  </a:lnTo>
                  <a:lnTo>
                    <a:pt x="299" y="155"/>
                  </a:lnTo>
                  <a:lnTo>
                    <a:pt x="303" y="161"/>
                  </a:lnTo>
                  <a:lnTo>
                    <a:pt x="306" y="163"/>
                  </a:lnTo>
                  <a:lnTo>
                    <a:pt x="309" y="169"/>
                  </a:lnTo>
                  <a:lnTo>
                    <a:pt x="311" y="174"/>
                  </a:lnTo>
                  <a:lnTo>
                    <a:pt x="311" y="179"/>
                  </a:lnTo>
                  <a:lnTo>
                    <a:pt x="311" y="184"/>
                  </a:lnTo>
                  <a:lnTo>
                    <a:pt x="311" y="190"/>
                  </a:lnTo>
                  <a:lnTo>
                    <a:pt x="311" y="195"/>
                  </a:lnTo>
                  <a:lnTo>
                    <a:pt x="309" y="200"/>
                  </a:lnTo>
                  <a:lnTo>
                    <a:pt x="306" y="205"/>
                  </a:lnTo>
                  <a:lnTo>
                    <a:pt x="304" y="208"/>
                  </a:lnTo>
                  <a:lnTo>
                    <a:pt x="301" y="211"/>
                  </a:lnTo>
                  <a:lnTo>
                    <a:pt x="298" y="213"/>
                  </a:lnTo>
                  <a:lnTo>
                    <a:pt x="295" y="213"/>
                  </a:lnTo>
                  <a:lnTo>
                    <a:pt x="291" y="213"/>
                  </a:lnTo>
                  <a:lnTo>
                    <a:pt x="287" y="213"/>
                  </a:lnTo>
                  <a:lnTo>
                    <a:pt x="277" y="208"/>
                  </a:lnTo>
                  <a:lnTo>
                    <a:pt x="268" y="203"/>
                  </a:lnTo>
                  <a:lnTo>
                    <a:pt x="258" y="195"/>
                  </a:lnTo>
                  <a:lnTo>
                    <a:pt x="250" y="190"/>
                  </a:lnTo>
                  <a:lnTo>
                    <a:pt x="240" y="182"/>
                  </a:lnTo>
                  <a:lnTo>
                    <a:pt x="232" y="174"/>
                  </a:lnTo>
                  <a:lnTo>
                    <a:pt x="223" y="166"/>
                  </a:lnTo>
                  <a:lnTo>
                    <a:pt x="213" y="161"/>
                  </a:lnTo>
                  <a:lnTo>
                    <a:pt x="204" y="150"/>
                  </a:lnTo>
                  <a:lnTo>
                    <a:pt x="196" y="142"/>
                  </a:lnTo>
                  <a:lnTo>
                    <a:pt x="186" y="134"/>
                  </a:lnTo>
                  <a:lnTo>
                    <a:pt x="178" y="126"/>
                  </a:lnTo>
                  <a:lnTo>
                    <a:pt x="169" y="121"/>
                  </a:lnTo>
                  <a:lnTo>
                    <a:pt x="161" y="113"/>
                  </a:lnTo>
                  <a:lnTo>
                    <a:pt x="151" y="105"/>
                  </a:lnTo>
                  <a:lnTo>
                    <a:pt x="142" y="100"/>
                  </a:lnTo>
                  <a:lnTo>
                    <a:pt x="134" y="95"/>
                  </a:lnTo>
                  <a:lnTo>
                    <a:pt x="126" y="92"/>
                  </a:lnTo>
                  <a:lnTo>
                    <a:pt x="119" y="87"/>
                  </a:lnTo>
                  <a:lnTo>
                    <a:pt x="111" y="84"/>
                  </a:lnTo>
                  <a:lnTo>
                    <a:pt x="102" y="84"/>
                  </a:lnTo>
                  <a:lnTo>
                    <a:pt x="94" y="82"/>
                  </a:lnTo>
                  <a:lnTo>
                    <a:pt x="86" y="79"/>
                  </a:lnTo>
                  <a:lnTo>
                    <a:pt x="78" y="79"/>
                  </a:lnTo>
                  <a:lnTo>
                    <a:pt x="70" y="76"/>
                  </a:lnTo>
                  <a:lnTo>
                    <a:pt x="62" y="74"/>
                  </a:lnTo>
                  <a:lnTo>
                    <a:pt x="52" y="71"/>
                  </a:lnTo>
                  <a:lnTo>
                    <a:pt x="44" y="69"/>
                  </a:lnTo>
                  <a:lnTo>
                    <a:pt x="36" y="66"/>
                  </a:lnTo>
                  <a:lnTo>
                    <a:pt x="28" y="63"/>
                  </a:lnTo>
                  <a:lnTo>
                    <a:pt x="20" y="61"/>
                  </a:lnTo>
                  <a:lnTo>
                    <a:pt x="12" y="55"/>
                  </a:lnTo>
                  <a:lnTo>
                    <a:pt x="9" y="53"/>
                  </a:lnTo>
                  <a:lnTo>
                    <a:pt x="6" y="50"/>
                  </a:lnTo>
                  <a:lnTo>
                    <a:pt x="3" y="45"/>
                  </a:lnTo>
                  <a:lnTo>
                    <a:pt x="1" y="40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1" y="16"/>
                  </a:lnTo>
                  <a:lnTo>
                    <a:pt x="3" y="11"/>
                  </a:lnTo>
                  <a:lnTo>
                    <a:pt x="4" y="5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4df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2831400">
              <a:off x="863280" y="3989160"/>
              <a:ext cx="1989000" cy="2257560"/>
            </a:xfrm>
            <a:custGeom>
              <a:avLst/>
              <a:gdLst/>
              <a:ahLst/>
              <a:rect l="l" t="t" r="r" b="b"/>
              <a:pathLst>
                <a:path w="684" h="934">
                  <a:moveTo>
                    <a:pt x="75" y="339"/>
                  </a:moveTo>
                  <a:lnTo>
                    <a:pt x="97" y="379"/>
                  </a:lnTo>
                  <a:lnTo>
                    <a:pt x="121" y="416"/>
                  </a:lnTo>
                  <a:lnTo>
                    <a:pt x="145" y="455"/>
                  </a:lnTo>
                  <a:lnTo>
                    <a:pt x="171" y="495"/>
                  </a:lnTo>
                  <a:lnTo>
                    <a:pt x="198" y="532"/>
                  </a:lnTo>
                  <a:lnTo>
                    <a:pt x="225" y="571"/>
                  </a:lnTo>
                  <a:lnTo>
                    <a:pt x="252" y="608"/>
                  </a:lnTo>
                  <a:lnTo>
                    <a:pt x="281" y="647"/>
                  </a:lnTo>
                  <a:lnTo>
                    <a:pt x="309" y="684"/>
                  </a:lnTo>
                  <a:lnTo>
                    <a:pt x="338" y="721"/>
                  </a:lnTo>
                  <a:lnTo>
                    <a:pt x="367" y="758"/>
                  </a:lnTo>
                  <a:lnTo>
                    <a:pt x="394" y="795"/>
                  </a:lnTo>
                  <a:lnTo>
                    <a:pt x="423" y="829"/>
                  </a:lnTo>
                  <a:lnTo>
                    <a:pt x="450" y="866"/>
                  </a:lnTo>
                  <a:lnTo>
                    <a:pt x="477" y="900"/>
                  </a:lnTo>
                  <a:lnTo>
                    <a:pt x="504" y="934"/>
                  </a:lnTo>
                  <a:lnTo>
                    <a:pt x="470" y="903"/>
                  </a:lnTo>
                  <a:lnTo>
                    <a:pt x="439" y="871"/>
                  </a:lnTo>
                  <a:lnTo>
                    <a:pt x="405" y="840"/>
                  </a:lnTo>
                  <a:lnTo>
                    <a:pt x="373" y="808"/>
                  </a:lnTo>
                  <a:lnTo>
                    <a:pt x="341" y="774"/>
                  </a:lnTo>
                  <a:lnTo>
                    <a:pt x="309" y="742"/>
                  </a:lnTo>
                  <a:lnTo>
                    <a:pt x="278" y="708"/>
                  </a:lnTo>
                  <a:lnTo>
                    <a:pt x="246" y="676"/>
                  </a:lnTo>
                  <a:lnTo>
                    <a:pt x="214" y="640"/>
                  </a:lnTo>
                  <a:lnTo>
                    <a:pt x="183" y="605"/>
                  </a:lnTo>
                  <a:lnTo>
                    <a:pt x="152" y="571"/>
                  </a:lnTo>
                  <a:lnTo>
                    <a:pt x="121" y="537"/>
                  </a:lnTo>
                  <a:lnTo>
                    <a:pt x="89" y="500"/>
                  </a:lnTo>
                  <a:lnTo>
                    <a:pt x="59" y="463"/>
                  </a:lnTo>
                  <a:lnTo>
                    <a:pt x="30" y="426"/>
                  </a:lnTo>
                  <a:lnTo>
                    <a:pt x="0" y="389"/>
                  </a:lnTo>
                  <a:lnTo>
                    <a:pt x="10" y="366"/>
                  </a:lnTo>
                  <a:lnTo>
                    <a:pt x="29" y="389"/>
                  </a:lnTo>
                  <a:lnTo>
                    <a:pt x="48" y="416"/>
                  </a:lnTo>
                  <a:lnTo>
                    <a:pt x="69" y="439"/>
                  </a:lnTo>
                  <a:lnTo>
                    <a:pt x="89" y="466"/>
                  </a:lnTo>
                  <a:lnTo>
                    <a:pt x="109" y="490"/>
                  </a:lnTo>
                  <a:lnTo>
                    <a:pt x="129" y="513"/>
                  </a:lnTo>
                  <a:lnTo>
                    <a:pt x="150" y="540"/>
                  </a:lnTo>
                  <a:lnTo>
                    <a:pt x="171" y="563"/>
                  </a:lnTo>
                  <a:lnTo>
                    <a:pt x="191" y="587"/>
                  </a:lnTo>
                  <a:lnTo>
                    <a:pt x="212" y="611"/>
                  </a:lnTo>
                  <a:lnTo>
                    <a:pt x="234" y="632"/>
                  </a:lnTo>
                  <a:lnTo>
                    <a:pt x="255" y="655"/>
                  </a:lnTo>
                  <a:lnTo>
                    <a:pt x="276" y="676"/>
                  </a:lnTo>
                  <a:lnTo>
                    <a:pt x="298" y="700"/>
                  </a:lnTo>
                  <a:lnTo>
                    <a:pt x="319" y="721"/>
                  </a:lnTo>
                  <a:lnTo>
                    <a:pt x="341" y="742"/>
                  </a:lnTo>
                  <a:lnTo>
                    <a:pt x="80" y="376"/>
                  </a:lnTo>
                  <a:lnTo>
                    <a:pt x="73" y="374"/>
                  </a:lnTo>
                  <a:lnTo>
                    <a:pt x="69" y="371"/>
                  </a:lnTo>
                  <a:lnTo>
                    <a:pt x="65" y="368"/>
                  </a:lnTo>
                  <a:lnTo>
                    <a:pt x="61" y="368"/>
                  </a:lnTo>
                  <a:lnTo>
                    <a:pt x="57" y="366"/>
                  </a:lnTo>
                  <a:lnTo>
                    <a:pt x="53" y="361"/>
                  </a:lnTo>
                  <a:lnTo>
                    <a:pt x="48" y="358"/>
                  </a:lnTo>
                  <a:lnTo>
                    <a:pt x="45" y="355"/>
                  </a:lnTo>
                  <a:lnTo>
                    <a:pt x="40" y="353"/>
                  </a:lnTo>
                  <a:lnTo>
                    <a:pt x="37" y="347"/>
                  </a:lnTo>
                  <a:lnTo>
                    <a:pt x="34" y="342"/>
                  </a:lnTo>
                  <a:lnTo>
                    <a:pt x="30" y="339"/>
                  </a:lnTo>
                  <a:lnTo>
                    <a:pt x="26" y="334"/>
                  </a:lnTo>
                  <a:lnTo>
                    <a:pt x="22" y="329"/>
                  </a:lnTo>
                  <a:lnTo>
                    <a:pt x="19" y="324"/>
                  </a:lnTo>
                  <a:lnTo>
                    <a:pt x="16" y="321"/>
                  </a:lnTo>
                  <a:lnTo>
                    <a:pt x="19" y="316"/>
                  </a:lnTo>
                  <a:lnTo>
                    <a:pt x="21" y="313"/>
                  </a:lnTo>
                  <a:lnTo>
                    <a:pt x="24" y="308"/>
                  </a:lnTo>
                  <a:lnTo>
                    <a:pt x="27" y="305"/>
                  </a:lnTo>
                  <a:lnTo>
                    <a:pt x="30" y="297"/>
                  </a:lnTo>
                  <a:lnTo>
                    <a:pt x="34" y="292"/>
                  </a:lnTo>
                  <a:lnTo>
                    <a:pt x="37" y="287"/>
                  </a:lnTo>
                  <a:lnTo>
                    <a:pt x="40" y="282"/>
                  </a:lnTo>
                  <a:lnTo>
                    <a:pt x="43" y="274"/>
                  </a:lnTo>
                  <a:lnTo>
                    <a:pt x="46" y="268"/>
                  </a:lnTo>
                  <a:lnTo>
                    <a:pt x="50" y="260"/>
                  </a:lnTo>
                  <a:lnTo>
                    <a:pt x="53" y="255"/>
                  </a:lnTo>
                  <a:lnTo>
                    <a:pt x="56" y="250"/>
                  </a:lnTo>
                  <a:lnTo>
                    <a:pt x="59" y="245"/>
                  </a:lnTo>
                  <a:lnTo>
                    <a:pt x="62" y="237"/>
                  </a:lnTo>
                  <a:lnTo>
                    <a:pt x="65" y="234"/>
                  </a:lnTo>
                  <a:lnTo>
                    <a:pt x="67" y="237"/>
                  </a:lnTo>
                  <a:lnTo>
                    <a:pt x="70" y="239"/>
                  </a:lnTo>
                  <a:lnTo>
                    <a:pt x="75" y="245"/>
                  </a:lnTo>
                  <a:lnTo>
                    <a:pt x="80" y="247"/>
                  </a:lnTo>
                  <a:lnTo>
                    <a:pt x="85" y="250"/>
                  </a:lnTo>
                  <a:lnTo>
                    <a:pt x="89" y="253"/>
                  </a:lnTo>
                  <a:lnTo>
                    <a:pt x="94" y="253"/>
                  </a:lnTo>
                  <a:lnTo>
                    <a:pt x="99" y="255"/>
                  </a:lnTo>
                  <a:lnTo>
                    <a:pt x="104" y="255"/>
                  </a:lnTo>
                  <a:lnTo>
                    <a:pt x="107" y="255"/>
                  </a:lnTo>
                  <a:lnTo>
                    <a:pt x="110" y="253"/>
                  </a:lnTo>
                  <a:lnTo>
                    <a:pt x="113" y="253"/>
                  </a:lnTo>
                  <a:lnTo>
                    <a:pt x="113" y="250"/>
                  </a:lnTo>
                  <a:lnTo>
                    <a:pt x="115" y="245"/>
                  </a:lnTo>
                  <a:lnTo>
                    <a:pt x="113" y="239"/>
                  </a:lnTo>
                  <a:lnTo>
                    <a:pt x="112" y="234"/>
                  </a:lnTo>
                  <a:lnTo>
                    <a:pt x="73" y="229"/>
                  </a:lnTo>
                  <a:lnTo>
                    <a:pt x="77" y="221"/>
                  </a:lnTo>
                  <a:lnTo>
                    <a:pt x="78" y="213"/>
                  </a:lnTo>
                  <a:lnTo>
                    <a:pt x="80" y="208"/>
                  </a:lnTo>
                  <a:lnTo>
                    <a:pt x="83" y="203"/>
                  </a:lnTo>
                  <a:lnTo>
                    <a:pt x="86" y="197"/>
                  </a:lnTo>
                  <a:lnTo>
                    <a:pt x="88" y="189"/>
                  </a:lnTo>
                  <a:lnTo>
                    <a:pt x="91" y="184"/>
                  </a:lnTo>
                  <a:lnTo>
                    <a:pt x="94" y="179"/>
                  </a:lnTo>
                  <a:lnTo>
                    <a:pt x="96" y="174"/>
                  </a:lnTo>
                  <a:lnTo>
                    <a:pt x="99" y="166"/>
                  </a:lnTo>
                  <a:lnTo>
                    <a:pt x="102" y="160"/>
                  </a:lnTo>
                  <a:lnTo>
                    <a:pt x="105" y="155"/>
                  </a:lnTo>
                  <a:lnTo>
                    <a:pt x="107" y="150"/>
                  </a:lnTo>
                  <a:lnTo>
                    <a:pt x="110" y="142"/>
                  </a:lnTo>
                  <a:lnTo>
                    <a:pt x="113" y="137"/>
                  </a:lnTo>
                  <a:lnTo>
                    <a:pt x="116" y="132"/>
                  </a:lnTo>
                  <a:lnTo>
                    <a:pt x="145" y="158"/>
                  </a:lnTo>
                  <a:lnTo>
                    <a:pt x="174" y="187"/>
                  </a:lnTo>
                  <a:lnTo>
                    <a:pt x="204" y="213"/>
                  </a:lnTo>
                  <a:lnTo>
                    <a:pt x="233" y="245"/>
                  </a:lnTo>
                  <a:lnTo>
                    <a:pt x="262" y="271"/>
                  </a:lnTo>
                  <a:lnTo>
                    <a:pt x="290" y="300"/>
                  </a:lnTo>
                  <a:lnTo>
                    <a:pt x="319" y="332"/>
                  </a:lnTo>
                  <a:lnTo>
                    <a:pt x="348" y="361"/>
                  </a:lnTo>
                  <a:lnTo>
                    <a:pt x="376" y="392"/>
                  </a:lnTo>
                  <a:lnTo>
                    <a:pt x="405" y="421"/>
                  </a:lnTo>
                  <a:lnTo>
                    <a:pt x="432" y="453"/>
                  </a:lnTo>
                  <a:lnTo>
                    <a:pt x="461" y="484"/>
                  </a:lnTo>
                  <a:lnTo>
                    <a:pt x="488" y="516"/>
                  </a:lnTo>
                  <a:lnTo>
                    <a:pt x="517" y="547"/>
                  </a:lnTo>
                  <a:lnTo>
                    <a:pt x="545" y="579"/>
                  </a:lnTo>
                  <a:lnTo>
                    <a:pt x="573" y="611"/>
                  </a:lnTo>
                  <a:lnTo>
                    <a:pt x="547" y="574"/>
                  </a:lnTo>
                  <a:lnTo>
                    <a:pt x="523" y="542"/>
                  </a:lnTo>
                  <a:lnTo>
                    <a:pt x="498" y="505"/>
                  </a:lnTo>
                  <a:lnTo>
                    <a:pt x="472" y="474"/>
                  </a:lnTo>
                  <a:lnTo>
                    <a:pt x="447" y="442"/>
                  </a:lnTo>
                  <a:lnTo>
                    <a:pt x="421" y="411"/>
                  </a:lnTo>
                  <a:lnTo>
                    <a:pt x="394" y="379"/>
                  </a:lnTo>
                  <a:lnTo>
                    <a:pt x="368" y="350"/>
                  </a:lnTo>
                  <a:lnTo>
                    <a:pt x="341" y="318"/>
                  </a:lnTo>
                  <a:lnTo>
                    <a:pt x="314" y="289"/>
                  </a:lnTo>
                  <a:lnTo>
                    <a:pt x="289" y="258"/>
                  </a:lnTo>
                  <a:lnTo>
                    <a:pt x="262" y="232"/>
                  </a:lnTo>
                  <a:lnTo>
                    <a:pt x="234" y="200"/>
                  </a:lnTo>
                  <a:lnTo>
                    <a:pt x="206" y="174"/>
                  </a:lnTo>
                  <a:lnTo>
                    <a:pt x="179" y="145"/>
                  </a:lnTo>
                  <a:lnTo>
                    <a:pt x="152" y="116"/>
                  </a:lnTo>
                  <a:lnTo>
                    <a:pt x="148" y="118"/>
                  </a:lnTo>
                  <a:lnTo>
                    <a:pt x="145" y="121"/>
                  </a:lnTo>
                  <a:lnTo>
                    <a:pt x="142" y="124"/>
                  </a:lnTo>
                  <a:lnTo>
                    <a:pt x="139" y="124"/>
                  </a:lnTo>
                  <a:lnTo>
                    <a:pt x="136" y="126"/>
                  </a:lnTo>
                  <a:lnTo>
                    <a:pt x="132" y="126"/>
                  </a:lnTo>
                  <a:lnTo>
                    <a:pt x="129" y="126"/>
                  </a:lnTo>
                  <a:lnTo>
                    <a:pt x="126" y="126"/>
                  </a:lnTo>
                  <a:lnTo>
                    <a:pt x="123" y="124"/>
                  </a:lnTo>
                  <a:lnTo>
                    <a:pt x="120" y="124"/>
                  </a:lnTo>
                  <a:lnTo>
                    <a:pt x="118" y="121"/>
                  </a:lnTo>
                  <a:lnTo>
                    <a:pt x="115" y="121"/>
                  </a:lnTo>
                  <a:lnTo>
                    <a:pt x="112" y="118"/>
                  </a:lnTo>
                  <a:lnTo>
                    <a:pt x="109" y="116"/>
                  </a:lnTo>
                  <a:lnTo>
                    <a:pt x="107" y="110"/>
                  </a:lnTo>
                  <a:lnTo>
                    <a:pt x="105" y="108"/>
                  </a:lnTo>
                  <a:lnTo>
                    <a:pt x="112" y="95"/>
                  </a:lnTo>
                  <a:lnTo>
                    <a:pt x="123" y="105"/>
                  </a:lnTo>
                  <a:lnTo>
                    <a:pt x="126" y="100"/>
                  </a:lnTo>
                  <a:lnTo>
                    <a:pt x="129" y="95"/>
                  </a:lnTo>
                  <a:lnTo>
                    <a:pt x="132" y="89"/>
                  </a:lnTo>
                  <a:lnTo>
                    <a:pt x="136" y="84"/>
                  </a:lnTo>
                  <a:lnTo>
                    <a:pt x="137" y="76"/>
                  </a:lnTo>
                  <a:lnTo>
                    <a:pt x="139" y="68"/>
                  </a:lnTo>
                  <a:lnTo>
                    <a:pt x="140" y="63"/>
                  </a:lnTo>
                  <a:lnTo>
                    <a:pt x="142" y="55"/>
                  </a:lnTo>
                  <a:lnTo>
                    <a:pt x="142" y="47"/>
                  </a:lnTo>
                  <a:lnTo>
                    <a:pt x="144" y="39"/>
                  </a:lnTo>
                  <a:lnTo>
                    <a:pt x="145" y="31"/>
                  </a:lnTo>
                  <a:lnTo>
                    <a:pt x="147" y="26"/>
                  </a:lnTo>
                  <a:lnTo>
                    <a:pt x="148" y="18"/>
                  </a:lnTo>
                  <a:lnTo>
                    <a:pt x="150" y="10"/>
                  </a:lnTo>
                  <a:lnTo>
                    <a:pt x="152" y="5"/>
                  </a:lnTo>
                  <a:lnTo>
                    <a:pt x="155" y="0"/>
                  </a:lnTo>
                  <a:lnTo>
                    <a:pt x="158" y="3"/>
                  </a:lnTo>
                  <a:lnTo>
                    <a:pt x="160" y="8"/>
                  </a:lnTo>
                  <a:lnTo>
                    <a:pt x="161" y="10"/>
                  </a:lnTo>
                  <a:lnTo>
                    <a:pt x="164" y="16"/>
                  </a:lnTo>
                  <a:lnTo>
                    <a:pt x="166" y="21"/>
                  </a:lnTo>
                  <a:lnTo>
                    <a:pt x="166" y="26"/>
                  </a:lnTo>
                  <a:lnTo>
                    <a:pt x="168" y="31"/>
                  </a:lnTo>
                  <a:lnTo>
                    <a:pt x="169" y="39"/>
                  </a:lnTo>
                  <a:lnTo>
                    <a:pt x="169" y="45"/>
                  </a:lnTo>
                  <a:lnTo>
                    <a:pt x="169" y="50"/>
                  </a:lnTo>
                  <a:lnTo>
                    <a:pt x="169" y="55"/>
                  </a:lnTo>
                  <a:lnTo>
                    <a:pt x="169" y="63"/>
                  </a:lnTo>
                  <a:lnTo>
                    <a:pt x="168" y="68"/>
                  </a:lnTo>
                  <a:lnTo>
                    <a:pt x="168" y="74"/>
                  </a:lnTo>
                  <a:lnTo>
                    <a:pt x="166" y="79"/>
                  </a:lnTo>
                  <a:lnTo>
                    <a:pt x="164" y="84"/>
                  </a:lnTo>
                  <a:lnTo>
                    <a:pt x="198" y="121"/>
                  </a:lnTo>
                  <a:lnTo>
                    <a:pt x="233" y="160"/>
                  </a:lnTo>
                  <a:lnTo>
                    <a:pt x="268" y="200"/>
                  </a:lnTo>
                  <a:lnTo>
                    <a:pt x="301" y="239"/>
                  </a:lnTo>
                  <a:lnTo>
                    <a:pt x="335" y="276"/>
                  </a:lnTo>
                  <a:lnTo>
                    <a:pt x="370" y="316"/>
                  </a:lnTo>
                  <a:lnTo>
                    <a:pt x="403" y="355"/>
                  </a:lnTo>
                  <a:lnTo>
                    <a:pt x="437" y="397"/>
                  </a:lnTo>
                  <a:lnTo>
                    <a:pt x="469" y="437"/>
                  </a:lnTo>
                  <a:lnTo>
                    <a:pt x="502" y="482"/>
                  </a:lnTo>
                  <a:lnTo>
                    <a:pt x="534" y="524"/>
                  </a:lnTo>
                  <a:lnTo>
                    <a:pt x="566" y="568"/>
                  </a:lnTo>
                  <a:lnTo>
                    <a:pt x="595" y="616"/>
                  </a:lnTo>
                  <a:lnTo>
                    <a:pt x="627" y="663"/>
                  </a:lnTo>
                  <a:lnTo>
                    <a:pt x="655" y="713"/>
                  </a:lnTo>
                  <a:lnTo>
                    <a:pt x="684" y="766"/>
                  </a:lnTo>
                  <a:lnTo>
                    <a:pt x="654" y="734"/>
                  </a:lnTo>
                  <a:lnTo>
                    <a:pt x="625" y="700"/>
                  </a:lnTo>
                  <a:lnTo>
                    <a:pt x="595" y="666"/>
                  </a:lnTo>
                  <a:lnTo>
                    <a:pt x="563" y="632"/>
                  </a:lnTo>
                  <a:lnTo>
                    <a:pt x="531" y="595"/>
                  </a:lnTo>
                  <a:lnTo>
                    <a:pt x="501" y="561"/>
                  </a:lnTo>
                  <a:lnTo>
                    <a:pt x="467" y="526"/>
                  </a:lnTo>
                  <a:lnTo>
                    <a:pt x="435" y="495"/>
                  </a:lnTo>
                  <a:lnTo>
                    <a:pt x="402" y="463"/>
                  </a:lnTo>
                  <a:lnTo>
                    <a:pt x="368" y="432"/>
                  </a:lnTo>
                  <a:lnTo>
                    <a:pt x="335" y="405"/>
                  </a:lnTo>
                  <a:lnTo>
                    <a:pt x="301" y="379"/>
                  </a:lnTo>
                  <a:lnTo>
                    <a:pt x="266" y="358"/>
                  </a:lnTo>
                  <a:lnTo>
                    <a:pt x="231" y="339"/>
                  </a:lnTo>
                  <a:lnTo>
                    <a:pt x="198" y="324"/>
                  </a:lnTo>
                  <a:lnTo>
                    <a:pt x="163" y="311"/>
                  </a:lnTo>
                  <a:lnTo>
                    <a:pt x="161" y="308"/>
                  </a:lnTo>
                  <a:lnTo>
                    <a:pt x="161" y="303"/>
                  </a:lnTo>
                  <a:lnTo>
                    <a:pt x="163" y="300"/>
                  </a:lnTo>
                  <a:lnTo>
                    <a:pt x="164" y="300"/>
                  </a:lnTo>
                  <a:lnTo>
                    <a:pt x="168" y="297"/>
                  </a:lnTo>
                  <a:lnTo>
                    <a:pt x="171" y="297"/>
                  </a:lnTo>
                  <a:lnTo>
                    <a:pt x="175" y="295"/>
                  </a:lnTo>
                  <a:lnTo>
                    <a:pt x="180" y="295"/>
                  </a:lnTo>
                  <a:lnTo>
                    <a:pt x="187" y="295"/>
                  </a:lnTo>
                  <a:lnTo>
                    <a:pt x="191" y="297"/>
                  </a:lnTo>
                  <a:lnTo>
                    <a:pt x="198" y="300"/>
                  </a:lnTo>
                  <a:lnTo>
                    <a:pt x="203" y="300"/>
                  </a:lnTo>
                  <a:lnTo>
                    <a:pt x="209" y="303"/>
                  </a:lnTo>
                  <a:lnTo>
                    <a:pt x="214" y="308"/>
                  </a:lnTo>
                  <a:lnTo>
                    <a:pt x="220" y="308"/>
                  </a:lnTo>
                  <a:lnTo>
                    <a:pt x="225" y="313"/>
                  </a:lnTo>
                  <a:lnTo>
                    <a:pt x="230" y="313"/>
                  </a:lnTo>
                  <a:lnTo>
                    <a:pt x="236" y="318"/>
                  </a:lnTo>
                  <a:lnTo>
                    <a:pt x="241" y="318"/>
                  </a:lnTo>
                  <a:lnTo>
                    <a:pt x="247" y="321"/>
                  </a:lnTo>
                  <a:lnTo>
                    <a:pt x="252" y="324"/>
                  </a:lnTo>
                  <a:lnTo>
                    <a:pt x="257" y="324"/>
                  </a:lnTo>
                  <a:lnTo>
                    <a:pt x="250" y="318"/>
                  </a:lnTo>
                  <a:lnTo>
                    <a:pt x="244" y="313"/>
                  </a:lnTo>
                  <a:lnTo>
                    <a:pt x="236" y="311"/>
                  </a:lnTo>
                  <a:lnTo>
                    <a:pt x="228" y="305"/>
                  </a:lnTo>
                  <a:lnTo>
                    <a:pt x="220" y="300"/>
                  </a:lnTo>
                  <a:lnTo>
                    <a:pt x="212" y="295"/>
                  </a:lnTo>
                  <a:lnTo>
                    <a:pt x="204" y="289"/>
                  </a:lnTo>
                  <a:lnTo>
                    <a:pt x="196" y="284"/>
                  </a:lnTo>
                  <a:lnTo>
                    <a:pt x="188" y="276"/>
                  </a:lnTo>
                  <a:lnTo>
                    <a:pt x="180" y="268"/>
                  </a:lnTo>
                  <a:lnTo>
                    <a:pt x="174" y="260"/>
                  </a:lnTo>
                  <a:lnTo>
                    <a:pt x="168" y="253"/>
                  </a:lnTo>
                  <a:lnTo>
                    <a:pt x="161" y="245"/>
                  </a:lnTo>
                  <a:lnTo>
                    <a:pt x="156" y="234"/>
                  </a:lnTo>
                  <a:lnTo>
                    <a:pt x="153" y="221"/>
                  </a:lnTo>
                  <a:lnTo>
                    <a:pt x="150" y="210"/>
                  </a:lnTo>
                  <a:lnTo>
                    <a:pt x="131" y="189"/>
                  </a:lnTo>
                  <a:lnTo>
                    <a:pt x="121" y="210"/>
                  </a:lnTo>
                  <a:lnTo>
                    <a:pt x="128" y="224"/>
                  </a:lnTo>
                  <a:lnTo>
                    <a:pt x="131" y="234"/>
                  </a:lnTo>
                  <a:lnTo>
                    <a:pt x="134" y="245"/>
                  </a:lnTo>
                  <a:lnTo>
                    <a:pt x="137" y="255"/>
                  </a:lnTo>
                  <a:lnTo>
                    <a:pt x="137" y="263"/>
                  </a:lnTo>
                  <a:lnTo>
                    <a:pt x="137" y="271"/>
                  </a:lnTo>
                  <a:lnTo>
                    <a:pt x="136" y="276"/>
                  </a:lnTo>
                  <a:lnTo>
                    <a:pt x="134" y="284"/>
                  </a:lnTo>
                  <a:lnTo>
                    <a:pt x="131" y="287"/>
                  </a:lnTo>
                  <a:lnTo>
                    <a:pt x="128" y="292"/>
                  </a:lnTo>
                  <a:lnTo>
                    <a:pt x="123" y="292"/>
                  </a:lnTo>
                  <a:lnTo>
                    <a:pt x="118" y="295"/>
                  </a:lnTo>
                  <a:lnTo>
                    <a:pt x="110" y="295"/>
                  </a:lnTo>
                  <a:lnTo>
                    <a:pt x="104" y="297"/>
                  </a:lnTo>
                  <a:lnTo>
                    <a:pt x="96" y="295"/>
                  </a:lnTo>
                  <a:lnTo>
                    <a:pt x="88" y="295"/>
                  </a:lnTo>
                  <a:lnTo>
                    <a:pt x="75" y="339"/>
                  </a:lnTo>
                  <a:lnTo>
                    <a:pt x="75" y="3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rot="2831400">
              <a:off x="1158480" y="4226040"/>
              <a:ext cx="180000" cy="209880"/>
            </a:xfrm>
            <a:custGeom>
              <a:avLst/>
              <a:gdLst/>
              <a:ahLst/>
              <a:rect l="l" t="t" r="r" b="b"/>
              <a:pathLst>
                <a:path w="62" h="87">
                  <a:moveTo>
                    <a:pt x="0" y="74"/>
                  </a:moveTo>
                  <a:lnTo>
                    <a:pt x="3" y="68"/>
                  </a:lnTo>
                  <a:lnTo>
                    <a:pt x="5" y="66"/>
                  </a:lnTo>
                  <a:lnTo>
                    <a:pt x="6" y="60"/>
                  </a:lnTo>
                  <a:lnTo>
                    <a:pt x="8" y="55"/>
                  </a:lnTo>
                  <a:lnTo>
                    <a:pt x="11" y="50"/>
                  </a:lnTo>
                  <a:lnTo>
                    <a:pt x="13" y="45"/>
                  </a:lnTo>
                  <a:lnTo>
                    <a:pt x="14" y="42"/>
                  </a:lnTo>
                  <a:lnTo>
                    <a:pt x="17" y="37"/>
                  </a:lnTo>
                  <a:lnTo>
                    <a:pt x="19" y="31"/>
                  </a:lnTo>
                  <a:lnTo>
                    <a:pt x="21" y="26"/>
                  </a:lnTo>
                  <a:lnTo>
                    <a:pt x="22" y="21"/>
                  </a:lnTo>
                  <a:lnTo>
                    <a:pt x="25" y="16"/>
                  </a:lnTo>
                  <a:lnTo>
                    <a:pt x="27" y="13"/>
                  </a:lnTo>
                  <a:lnTo>
                    <a:pt x="28" y="8"/>
                  </a:lnTo>
                  <a:lnTo>
                    <a:pt x="30" y="2"/>
                  </a:lnTo>
                  <a:lnTo>
                    <a:pt x="33" y="0"/>
                  </a:lnTo>
                  <a:lnTo>
                    <a:pt x="62" y="37"/>
                  </a:lnTo>
                  <a:lnTo>
                    <a:pt x="59" y="39"/>
                  </a:lnTo>
                  <a:lnTo>
                    <a:pt x="56" y="45"/>
                  </a:lnTo>
                  <a:lnTo>
                    <a:pt x="52" y="50"/>
                  </a:lnTo>
                  <a:lnTo>
                    <a:pt x="49" y="55"/>
                  </a:lnTo>
                  <a:lnTo>
                    <a:pt x="46" y="60"/>
                  </a:lnTo>
                  <a:lnTo>
                    <a:pt x="41" y="66"/>
                  </a:lnTo>
                  <a:lnTo>
                    <a:pt x="38" y="71"/>
                  </a:lnTo>
                  <a:lnTo>
                    <a:pt x="35" y="79"/>
                  </a:lnTo>
                  <a:lnTo>
                    <a:pt x="30" y="81"/>
                  </a:lnTo>
                  <a:lnTo>
                    <a:pt x="25" y="84"/>
                  </a:lnTo>
                  <a:lnTo>
                    <a:pt x="22" y="84"/>
                  </a:lnTo>
                  <a:lnTo>
                    <a:pt x="17" y="87"/>
                  </a:lnTo>
                  <a:lnTo>
                    <a:pt x="13" y="84"/>
                  </a:lnTo>
                  <a:lnTo>
                    <a:pt x="9" y="84"/>
                  </a:lnTo>
                  <a:lnTo>
                    <a:pt x="5" y="7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rot="2831400">
              <a:off x="1194120" y="4030200"/>
              <a:ext cx="107280" cy="335880"/>
            </a:xfrm>
            <a:custGeom>
              <a:avLst/>
              <a:gdLst/>
              <a:ahLst/>
              <a:rect l="l" t="t" r="r" b="b"/>
              <a:pathLst>
                <a:path w="37" h="139">
                  <a:moveTo>
                    <a:pt x="21" y="139"/>
                  </a:moveTo>
                  <a:lnTo>
                    <a:pt x="16" y="131"/>
                  </a:lnTo>
                  <a:lnTo>
                    <a:pt x="11" y="126"/>
                  </a:lnTo>
                  <a:lnTo>
                    <a:pt x="8" y="118"/>
                  </a:lnTo>
                  <a:lnTo>
                    <a:pt x="5" y="110"/>
                  </a:lnTo>
                  <a:lnTo>
                    <a:pt x="3" y="102"/>
                  </a:lnTo>
                  <a:lnTo>
                    <a:pt x="2" y="92"/>
                  </a:lnTo>
                  <a:lnTo>
                    <a:pt x="0" y="84"/>
                  </a:lnTo>
                  <a:lnTo>
                    <a:pt x="0" y="73"/>
                  </a:lnTo>
                  <a:lnTo>
                    <a:pt x="0" y="63"/>
                  </a:lnTo>
                  <a:lnTo>
                    <a:pt x="0" y="55"/>
                  </a:lnTo>
                  <a:lnTo>
                    <a:pt x="2" y="44"/>
                  </a:lnTo>
                  <a:lnTo>
                    <a:pt x="3" y="37"/>
                  </a:lnTo>
                  <a:lnTo>
                    <a:pt x="5" y="26"/>
                  </a:lnTo>
                  <a:lnTo>
                    <a:pt x="8" y="15"/>
                  </a:lnTo>
                  <a:lnTo>
                    <a:pt x="10" y="8"/>
                  </a:lnTo>
                  <a:lnTo>
                    <a:pt x="14" y="0"/>
                  </a:lnTo>
                  <a:lnTo>
                    <a:pt x="37" y="42"/>
                  </a:lnTo>
                  <a:lnTo>
                    <a:pt x="35" y="44"/>
                  </a:lnTo>
                  <a:lnTo>
                    <a:pt x="32" y="47"/>
                  </a:lnTo>
                  <a:lnTo>
                    <a:pt x="30" y="52"/>
                  </a:lnTo>
                  <a:lnTo>
                    <a:pt x="29" y="60"/>
                  </a:lnTo>
                  <a:lnTo>
                    <a:pt x="26" y="65"/>
                  </a:lnTo>
                  <a:lnTo>
                    <a:pt x="24" y="71"/>
                  </a:lnTo>
                  <a:lnTo>
                    <a:pt x="22" y="79"/>
                  </a:lnTo>
                  <a:lnTo>
                    <a:pt x="21" y="87"/>
                  </a:lnTo>
                  <a:lnTo>
                    <a:pt x="21" y="92"/>
                  </a:lnTo>
                  <a:lnTo>
                    <a:pt x="19" y="97"/>
                  </a:lnTo>
                  <a:lnTo>
                    <a:pt x="19" y="105"/>
                  </a:lnTo>
                  <a:lnTo>
                    <a:pt x="21" y="110"/>
                  </a:lnTo>
                  <a:lnTo>
                    <a:pt x="21" y="115"/>
                  </a:lnTo>
                  <a:lnTo>
                    <a:pt x="24" y="118"/>
                  </a:lnTo>
                  <a:lnTo>
                    <a:pt x="26" y="123"/>
                  </a:lnTo>
                  <a:lnTo>
                    <a:pt x="30" y="126"/>
                  </a:lnTo>
                  <a:lnTo>
                    <a:pt x="21" y="139"/>
                  </a:lnTo>
                  <a:lnTo>
                    <a:pt x="21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rot="2831400">
              <a:off x="1039680" y="2877120"/>
              <a:ext cx="936360" cy="1283400"/>
            </a:xfrm>
            <a:custGeom>
              <a:avLst/>
              <a:gdLst/>
              <a:ahLst/>
              <a:rect l="l" t="t" r="r" b="b"/>
              <a:pathLst>
                <a:path w="322" h="531">
                  <a:moveTo>
                    <a:pt x="306" y="531"/>
                  </a:moveTo>
                  <a:lnTo>
                    <a:pt x="287" y="508"/>
                  </a:lnTo>
                  <a:lnTo>
                    <a:pt x="267" y="484"/>
                  </a:lnTo>
                  <a:lnTo>
                    <a:pt x="247" y="455"/>
                  </a:lnTo>
                  <a:lnTo>
                    <a:pt x="228" y="424"/>
                  </a:lnTo>
                  <a:lnTo>
                    <a:pt x="207" y="392"/>
                  </a:lnTo>
                  <a:lnTo>
                    <a:pt x="186" y="360"/>
                  </a:lnTo>
                  <a:lnTo>
                    <a:pt x="165" y="326"/>
                  </a:lnTo>
                  <a:lnTo>
                    <a:pt x="146" y="292"/>
                  </a:lnTo>
                  <a:lnTo>
                    <a:pt x="125" y="255"/>
                  </a:lnTo>
                  <a:lnTo>
                    <a:pt x="105" y="218"/>
                  </a:lnTo>
                  <a:lnTo>
                    <a:pt x="86" y="184"/>
                  </a:lnTo>
                  <a:lnTo>
                    <a:pt x="67" y="150"/>
                  </a:lnTo>
                  <a:lnTo>
                    <a:pt x="49" y="116"/>
                  </a:lnTo>
                  <a:lnTo>
                    <a:pt x="31" y="81"/>
                  </a:lnTo>
                  <a:lnTo>
                    <a:pt x="14" y="52"/>
                  </a:lnTo>
                  <a:lnTo>
                    <a:pt x="0" y="23"/>
                  </a:lnTo>
                  <a:lnTo>
                    <a:pt x="30" y="0"/>
                  </a:lnTo>
                  <a:lnTo>
                    <a:pt x="46" y="34"/>
                  </a:lnTo>
                  <a:lnTo>
                    <a:pt x="63" y="68"/>
                  </a:lnTo>
                  <a:lnTo>
                    <a:pt x="79" y="102"/>
                  </a:lnTo>
                  <a:lnTo>
                    <a:pt x="98" y="137"/>
                  </a:lnTo>
                  <a:lnTo>
                    <a:pt x="116" y="168"/>
                  </a:lnTo>
                  <a:lnTo>
                    <a:pt x="133" y="202"/>
                  </a:lnTo>
                  <a:lnTo>
                    <a:pt x="151" y="237"/>
                  </a:lnTo>
                  <a:lnTo>
                    <a:pt x="170" y="268"/>
                  </a:lnTo>
                  <a:lnTo>
                    <a:pt x="188" y="302"/>
                  </a:lnTo>
                  <a:lnTo>
                    <a:pt x="207" y="334"/>
                  </a:lnTo>
                  <a:lnTo>
                    <a:pt x="226" y="366"/>
                  </a:lnTo>
                  <a:lnTo>
                    <a:pt x="245" y="397"/>
                  </a:lnTo>
                  <a:lnTo>
                    <a:pt x="264" y="426"/>
                  </a:lnTo>
                  <a:lnTo>
                    <a:pt x="283" y="458"/>
                  </a:lnTo>
                  <a:lnTo>
                    <a:pt x="302" y="489"/>
                  </a:lnTo>
                  <a:lnTo>
                    <a:pt x="322" y="521"/>
                  </a:lnTo>
                  <a:lnTo>
                    <a:pt x="306" y="531"/>
                  </a:lnTo>
                  <a:lnTo>
                    <a:pt x="306" y="5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rot="2831400">
              <a:off x="1158480" y="2977920"/>
              <a:ext cx="1134360" cy="1227600"/>
            </a:xfrm>
            <a:custGeom>
              <a:avLst/>
              <a:gdLst/>
              <a:ahLst/>
              <a:rect l="l" t="t" r="r" b="b"/>
              <a:pathLst>
                <a:path w="390" h="508">
                  <a:moveTo>
                    <a:pt x="350" y="326"/>
                  </a:moveTo>
                  <a:lnTo>
                    <a:pt x="347" y="321"/>
                  </a:lnTo>
                  <a:lnTo>
                    <a:pt x="346" y="318"/>
                  </a:lnTo>
                  <a:lnTo>
                    <a:pt x="342" y="315"/>
                  </a:lnTo>
                  <a:lnTo>
                    <a:pt x="341" y="313"/>
                  </a:lnTo>
                  <a:lnTo>
                    <a:pt x="334" y="308"/>
                  </a:lnTo>
                  <a:lnTo>
                    <a:pt x="331" y="302"/>
                  </a:lnTo>
                  <a:lnTo>
                    <a:pt x="328" y="300"/>
                  </a:lnTo>
                  <a:lnTo>
                    <a:pt x="325" y="297"/>
                  </a:lnTo>
                  <a:lnTo>
                    <a:pt x="323" y="294"/>
                  </a:lnTo>
                  <a:lnTo>
                    <a:pt x="320" y="292"/>
                  </a:lnTo>
                  <a:lnTo>
                    <a:pt x="315" y="289"/>
                  </a:lnTo>
                  <a:lnTo>
                    <a:pt x="311" y="284"/>
                  </a:lnTo>
                  <a:lnTo>
                    <a:pt x="303" y="286"/>
                  </a:lnTo>
                  <a:lnTo>
                    <a:pt x="295" y="289"/>
                  </a:lnTo>
                  <a:lnTo>
                    <a:pt x="287" y="289"/>
                  </a:lnTo>
                  <a:lnTo>
                    <a:pt x="279" y="292"/>
                  </a:lnTo>
                  <a:lnTo>
                    <a:pt x="269" y="289"/>
                  </a:lnTo>
                  <a:lnTo>
                    <a:pt x="260" y="286"/>
                  </a:lnTo>
                  <a:lnTo>
                    <a:pt x="250" y="284"/>
                  </a:lnTo>
                  <a:lnTo>
                    <a:pt x="242" y="279"/>
                  </a:lnTo>
                  <a:lnTo>
                    <a:pt x="232" y="276"/>
                  </a:lnTo>
                  <a:lnTo>
                    <a:pt x="223" y="271"/>
                  </a:lnTo>
                  <a:lnTo>
                    <a:pt x="215" y="265"/>
                  </a:lnTo>
                  <a:lnTo>
                    <a:pt x="205" y="260"/>
                  </a:lnTo>
                  <a:lnTo>
                    <a:pt x="197" y="255"/>
                  </a:lnTo>
                  <a:lnTo>
                    <a:pt x="189" y="250"/>
                  </a:lnTo>
                  <a:lnTo>
                    <a:pt x="183" y="244"/>
                  </a:lnTo>
                  <a:lnTo>
                    <a:pt x="177" y="239"/>
                  </a:lnTo>
                  <a:lnTo>
                    <a:pt x="169" y="215"/>
                  </a:lnTo>
                  <a:lnTo>
                    <a:pt x="175" y="215"/>
                  </a:lnTo>
                  <a:lnTo>
                    <a:pt x="181" y="221"/>
                  </a:lnTo>
                  <a:lnTo>
                    <a:pt x="186" y="223"/>
                  </a:lnTo>
                  <a:lnTo>
                    <a:pt x="193" y="226"/>
                  </a:lnTo>
                  <a:lnTo>
                    <a:pt x="199" y="229"/>
                  </a:lnTo>
                  <a:lnTo>
                    <a:pt x="205" y="231"/>
                  </a:lnTo>
                  <a:lnTo>
                    <a:pt x="212" y="234"/>
                  </a:lnTo>
                  <a:lnTo>
                    <a:pt x="218" y="236"/>
                  </a:lnTo>
                  <a:lnTo>
                    <a:pt x="223" y="239"/>
                  </a:lnTo>
                  <a:lnTo>
                    <a:pt x="229" y="239"/>
                  </a:lnTo>
                  <a:lnTo>
                    <a:pt x="236" y="242"/>
                  </a:lnTo>
                  <a:lnTo>
                    <a:pt x="242" y="244"/>
                  </a:lnTo>
                  <a:lnTo>
                    <a:pt x="247" y="247"/>
                  </a:lnTo>
                  <a:lnTo>
                    <a:pt x="253" y="250"/>
                  </a:lnTo>
                  <a:lnTo>
                    <a:pt x="260" y="250"/>
                  </a:lnTo>
                  <a:lnTo>
                    <a:pt x="266" y="252"/>
                  </a:lnTo>
                  <a:lnTo>
                    <a:pt x="261" y="244"/>
                  </a:lnTo>
                  <a:lnTo>
                    <a:pt x="255" y="239"/>
                  </a:lnTo>
                  <a:lnTo>
                    <a:pt x="248" y="236"/>
                  </a:lnTo>
                  <a:lnTo>
                    <a:pt x="242" y="231"/>
                  </a:lnTo>
                  <a:lnTo>
                    <a:pt x="236" y="226"/>
                  </a:lnTo>
                  <a:lnTo>
                    <a:pt x="229" y="223"/>
                  </a:lnTo>
                  <a:lnTo>
                    <a:pt x="223" y="218"/>
                  </a:lnTo>
                  <a:lnTo>
                    <a:pt x="218" y="215"/>
                  </a:lnTo>
                  <a:lnTo>
                    <a:pt x="210" y="213"/>
                  </a:lnTo>
                  <a:lnTo>
                    <a:pt x="204" y="207"/>
                  </a:lnTo>
                  <a:lnTo>
                    <a:pt x="197" y="207"/>
                  </a:lnTo>
                  <a:lnTo>
                    <a:pt x="191" y="205"/>
                  </a:lnTo>
                  <a:lnTo>
                    <a:pt x="183" y="202"/>
                  </a:lnTo>
                  <a:lnTo>
                    <a:pt x="177" y="200"/>
                  </a:lnTo>
                  <a:lnTo>
                    <a:pt x="170" y="197"/>
                  </a:lnTo>
                  <a:lnTo>
                    <a:pt x="164" y="194"/>
                  </a:lnTo>
                  <a:lnTo>
                    <a:pt x="169" y="242"/>
                  </a:lnTo>
                  <a:lnTo>
                    <a:pt x="177" y="255"/>
                  </a:lnTo>
                  <a:lnTo>
                    <a:pt x="183" y="268"/>
                  </a:lnTo>
                  <a:lnTo>
                    <a:pt x="193" y="281"/>
                  </a:lnTo>
                  <a:lnTo>
                    <a:pt x="201" y="297"/>
                  </a:lnTo>
                  <a:lnTo>
                    <a:pt x="208" y="310"/>
                  </a:lnTo>
                  <a:lnTo>
                    <a:pt x="216" y="321"/>
                  </a:lnTo>
                  <a:lnTo>
                    <a:pt x="224" y="336"/>
                  </a:lnTo>
                  <a:lnTo>
                    <a:pt x="234" y="350"/>
                  </a:lnTo>
                  <a:lnTo>
                    <a:pt x="242" y="363"/>
                  </a:lnTo>
                  <a:lnTo>
                    <a:pt x="250" y="376"/>
                  </a:lnTo>
                  <a:lnTo>
                    <a:pt x="258" y="389"/>
                  </a:lnTo>
                  <a:lnTo>
                    <a:pt x="266" y="405"/>
                  </a:lnTo>
                  <a:lnTo>
                    <a:pt x="274" y="418"/>
                  </a:lnTo>
                  <a:lnTo>
                    <a:pt x="282" y="434"/>
                  </a:lnTo>
                  <a:lnTo>
                    <a:pt x="288" y="450"/>
                  </a:lnTo>
                  <a:lnTo>
                    <a:pt x="296" y="465"/>
                  </a:lnTo>
                  <a:lnTo>
                    <a:pt x="291" y="476"/>
                  </a:lnTo>
                  <a:lnTo>
                    <a:pt x="304" y="489"/>
                  </a:lnTo>
                  <a:lnTo>
                    <a:pt x="295" y="508"/>
                  </a:lnTo>
                  <a:lnTo>
                    <a:pt x="274" y="481"/>
                  </a:lnTo>
                  <a:lnTo>
                    <a:pt x="255" y="452"/>
                  </a:lnTo>
                  <a:lnTo>
                    <a:pt x="236" y="423"/>
                  </a:lnTo>
                  <a:lnTo>
                    <a:pt x="216" y="394"/>
                  </a:lnTo>
                  <a:lnTo>
                    <a:pt x="199" y="360"/>
                  </a:lnTo>
                  <a:lnTo>
                    <a:pt x="180" y="331"/>
                  </a:lnTo>
                  <a:lnTo>
                    <a:pt x="162" y="297"/>
                  </a:lnTo>
                  <a:lnTo>
                    <a:pt x="146" y="268"/>
                  </a:lnTo>
                  <a:lnTo>
                    <a:pt x="127" y="234"/>
                  </a:lnTo>
                  <a:lnTo>
                    <a:pt x="110" y="202"/>
                  </a:lnTo>
                  <a:lnTo>
                    <a:pt x="92" y="171"/>
                  </a:lnTo>
                  <a:lnTo>
                    <a:pt x="75" y="139"/>
                  </a:lnTo>
                  <a:lnTo>
                    <a:pt x="57" y="107"/>
                  </a:lnTo>
                  <a:lnTo>
                    <a:pt x="38" y="79"/>
                  </a:lnTo>
                  <a:lnTo>
                    <a:pt x="19" y="47"/>
                  </a:lnTo>
                  <a:lnTo>
                    <a:pt x="0" y="21"/>
                  </a:lnTo>
                  <a:lnTo>
                    <a:pt x="12" y="0"/>
                  </a:lnTo>
                  <a:lnTo>
                    <a:pt x="32" y="23"/>
                  </a:lnTo>
                  <a:lnTo>
                    <a:pt x="52" y="47"/>
                  </a:lnTo>
                  <a:lnTo>
                    <a:pt x="73" y="68"/>
                  </a:lnTo>
                  <a:lnTo>
                    <a:pt x="95" y="86"/>
                  </a:lnTo>
                  <a:lnTo>
                    <a:pt x="119" y="105"/>
                  </a:lnTo>
                  <a:lnTo>
                    <a:pt x="143" y="123"/>
                  </a:lnTo>
                  <a:lnTo>
                    <a:pt x="167" y="139"/>
                  </a:lnTo>
                  <a:lnTo>
                    <a:pt x="193" y="157"/>
                  </a:lnTo>
                  <a:lnTo>
                    <a:pt x="216" y="173"/>
                  </a:lnTo>
                  <a:lnTo>
                    <a:pt x="242" y="189"/>
                  </a:lnTo>
                  <a:lnTo>
                    <a:pt x="267" y="207"/>
                  </a:lnTo>
                  <a:lnTo>
                    <a:pt x="293" y="226"/>
                  </a:lnTo>
                  <a:lnTo>
                    <a:pt x="317" y="244"/>
                  </a:lnTo>
                  <a:lnTo>
                    <a:pt x="341" y="265"/>
                  </a:lnTo>
                  <a:lnTo>
                    <a:pt x="365" y="286"/>
                  </a:lnTo>
                  <a:lnTo>
                    <a:pt x="390" y="313"/>
                  </a:lnTo>
                  <a:lnTo>
                    <a:pt x="382" y="334"/>
                  </a:lnTo>
                  <a:lnTo>
                    <a:pt x="363" y="308"/>
                  </a:lnTo>
                  <a:lnTo>
                    <a:pt x="350" y="326"/>
                  </a:lnTo>
                  <a:lnTo>
                    <a:pt x="350" y="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rot="2831400">
              <a:off x="1613160" y="3843000"/>
              <a:ext cx="232560" cy="439560"/>
            </a:xfrm>
            <a:custGeom>
              <a:avLst/>
              <a:gdLst/>
              <a:ahLst/>
              <a:rect l="l" t="t" r="r" b="b"/>
              <a:pathLst>
                <a:path w="80" h="182">
                  <a:moveTo>
                    <a:pt x="80" y="21"/>
                  </a:moveTo>
                  <a:lnTo>
                    <a:pt x="66" y="74"/>
                  </a:lnTo>
                  <a:lnTo>
                    <a:pt x="77" y="92"/>
                  </a:lnTo>
                  <a:lnTo>
                    <a:pt x="74" y="114"/>
                  </a:lnTo>
                  <a:lnTo>
                    <a:pt x="69" y="108"/>
                  </a:lnTo>
                  <a:lnTo>
                    <a:pt x="66" y="103"/>
                  </a:lnTo>
                  <a:lnTo>
                    <a:pt x="61" y="95"/>
                  </a:lnTo>
                  <a:lnTo>
                    <a:pt x="58" y="90"/>
                  </a:lnTo>
                  <a:lnTo>
                    <a:pt x="55" y="82"/>
                  </a:lnTo>
                  <a:lnTo>
                    <a:pt x="53" y="74"/>
                  </a:lnTo>
                  <a:lnTo>
                    <a:pt x="51" y="66"/>
                  </a:lnTo>
                  <a:lnTo>
                    <a:pt x="51" y="61"/>
                  </a:lnTo>
                  <a:lnTo>
                    <a:pt x="48" y="56"/>
                  </a:lnTo>
                  <a:lnTo>
                    <a:pt x="45" y="53"/>
                  </a:lnTo>
                  <a:lnTo>
                    <a:pt x="42" y="53"/>
                  </a:lnTo>
                  <a:lnTo>
                    <a:pt x="42" y="56"/>
                  </a:lnTo>
                  <a:lnTo>
                    <a:pt x="40" y="58"/>
                  </a:lnTo>
                  <a:lnTo>
                    <a:pt x="42" y="64"/>
                  </a:lnTo>
                  <a:lnTo>
                    <a:pt x="44" y="71"/>
                  </a:lnTo>
                  <a:lnTo>
                    <a:pt x="45" y="77"/>
                  </a:lnTo>
                  <a:lnTo>
                    <a:pt x="47" y="85"/>
                  </a:lnTo>
                  <a:lnTo>
                    <a:pt x="50" y="92"/>
                  </a:lnTo>
                  <a:lnTo>
                    <a:pt x="51" y="98"/>
                  </a:lnTo>
                  <a:lnTo>
                    <a:pt x="55" y="106"/>
                  </a:lnTo>
                  <a:lnTo>
                    <a:pt x="58" y="114"/>
                  </a:lnTo>
                  <a:lnTo>
                    <a:pt x="59" y="119"/>
                  </a:lnTo>
                  <a:lnTo>
                    <a:pt x="63" y="121"/>
                  </a:lnTo>
                  <a:lnTo>
                    <a:pt x="64" y="127"/>
                  </a:lnTo>
                  <a:lnTo>
                    <a:pt x="51" y="137"/>
                  </a:lnTo>
                  <a:lnTo>
                    <a:pt x="37" y="119"/>
                  </a:lnTo>
                  <a:lnTo>
                    <a:pt x="18" y="182"/>
                  </a:lnTo>
                  <a:lnTo>
                    <a:pt x="0" y="137"/>
                  </a:lnTo>
                  <a:lnTo>
                    <a:pt x="15" y="90"/>
                  </a:lnTo>
                  <a:lnTo>
                    <a:pt x="10" y="79"/>
                  </a:lnTo>
                  <a:lnTo>
                    <a:pt x="7" y="71"/>
                  </a:lnTo>
                  <a:lnTo>
                    <a:pt x="5" y="64"/>
                  </a:lnTo>
                  <a:lnTo>
                    <a:pt x="5" y="56"/>
                  </a:lnTo>
                  <a:lnTo>
                    <a:pt x="7" y="50"/>
                  </a:lnTo>
                  <a:lnTo>
                    <a:pt x="8" y="4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18" y="32"/>
                  </a:lnTo>
                  <a:lnTo>
                    <a:pt x="21" y="29"/>
                  </a:lnTo>
                  <a:lnTo>
                    <a:pt x="26" y="27"/>
                  </a:lnTo>
                  <a:lnTo>
                    <a:pt x="31" y="24"/>
                  </a:lnTo>
                  <a:lnTo>
                    <a:pt x="36" y="24"/>
                  </a:lnTo>
                  <a:lnTo>
                    <a:pt x="40" y="21"/>
                  </a:lnTo>
                  <a:lnTo>
                    <a:pt x="45" y="21"/>
                  </a:lnTo>
                  <a:lnTo>
                    <a:pt x="50" y="21"/>
                  </a:lnTo>
                  <a:lnTo>
                    <a:pt x="53" y="0"/>
                  </a:lnTo>
                  <a:lnTo>
                    <a:pt x="80" y="21"/>
                  </a:lnTo>
                  <a:lnTo>
                    <a:pt x="8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rot="2831400">
              <a:off x="1399320" y="3074760"/>
              <a:ext cx="1192320" cy="763920"/>
            </a:xfrm>
            <a:custGeom>
              <a:avLst/>
              <a:gdLst/>
              <a:ahLst/>
              <a:rect l="l" t="t" r="r" b="b"/>
              <a:pathLst>
                <a:path w="410" h="316">
                  <a:moveTo>
                    <a:pt x="360" y="316"/>
                  </a:moveTo>
                  <a:lnTo>
                    <a:pt x="355" y="310"/>
                  </a:lnTo>
                  <a:lnTo>
                    <a:pt x="351" y="305"/>
                  </a:lnTo>
                  <a:lnTo>
                    <a:pt x="347" y="297"/>
                  </a:lnTo>
                  <a:lnTo>
                    <a:pt x="344" y="289"/>
                  </a:lnTo>
                  <a:lnTo>
                    <a:pt x="344" y="287"/>
                  </a:lnTo>
                  <a:lnTo>
                    <a:pt x="343" y="282"/>
                  </a:lnTo>
                  <a:lnTo>
                    <a:pt x="341" y="276"/>
                  </a:lnTo>
                  <a:lnTo>
                    <a:pt x="341" y="274"/>
                  </a:lnTo>
                  <a:lnTo>
                    <a:pt x="339" y="266"/>
                  </a:lnTo>
                  <a:lnTo>
                    <a:pt x="338" y="258"/>
                  </a:lnTo>
                  <a:lnTo>
                    <a:pt x="317" y="237"/>
                  </a:lnTo>
                  <a:lnTo>
                    <a:pt x="298" y="216"/>
                  </a:lnTo>
                  <a:lnTo>
                    <a:pt x="277" y="197"/>
                  </a:lnTo>
                  <a:lnTo>
                    <a:pt x="256" y="179"/>
                  </a:lnTo>
                  <a:lnTo>
                    <a:pt x="236" y="163"/>
                  </a:lnTo>
                  <a:lnTo>
                    <a:pt x="215" y="145"/>
                  </a:lnTo>
                  <a:lnTo>
                    <a:pt x="194" y="129"/>
                  </a:lnTo>
                  <a:lnTo>
                    <a:pt x="174" y="116"/>
                  </a:lnTo>
                  <a:lnTo>
                    <a:pt x="153" y="100"/>
                  </a:lnTo>
                  <a:lnTo>
                    <a:pt x="130" y="87"/>
                  </a:lnTo>
                  <a:lnTo>
                    <a:pt x="110" y="74"/>
                  </a:lnTo>
                  <a:lnTo>
                    <a:pt x="87" y="60"/>
                  </a:lnTo>
                  <a:lnTo>
                    <a:pt x="65" y="47"/>
                  </a:lnTo>
                  <a:lnTo>
                    <a:pt x="44" y="37"/>
                  </a:lnTo>
                  <a:lnTo>
                    <a:pt x="22" y="26"/>
                  </a:lnTo>
                  <a:lnTo>
                    <a:pt x="0" y="13"/>
                  </a:lnTo>
                  <a:lnTo>
                    <a:pt x="6" y="0"/>
                  </a:lnTo>
                  <a:lnTo>
                    <a:pt x="28" y="10"/>
                  </a:lnTo>
                  <a:lnTo>
                    <a:pt x="51" y="21"/>
                  </a:lnTo>
                  <a:lnTo>
                    <a:pt x="71" y="31"/>
                  </a:lnTo>
                  <a:lnTo>
                    <a:pt x="94" y="45"/>
                  </a:lnTo>
                  <a:lnTo>
                    <a:pt x="115" y="55"/>
                  </a:lnTo>
                  <a:lnTo>
                    <a:pt x="137" y="68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01" y="108"/>
                  </a:lnTo>
                  <a:lnTo>
                    <a:pt x="221" y="121"/>
                  </a:lnTo>
                  <a:lnTo>
                    <a:pt x="242" y="137"/>
                  </a:lnTo>
                  <a:lnTo>
                    <a:pt x="263" y="153"/>
                  </a:lnTo>
                  <a:lnTo>
                    <a:pt x="284" y="168"/>
                  </a:lnTo>
                  <a:lnTo>
                    <a:pt x="304" y="187"/>
                  </a:lnTo>
                  <a:lnTo>
                    <a:pt x="325" y="203"/>
                  </a:lnTo>
                  <a:lnTo>
                    <a:pt x="346" y="221"/>
                  </a:lnTo>
                  <a:lnTo>
                    <a:pt x="349" y="213"/>
                  </a:lnTo>
                  <a:lnTo>
                    <a:pt x="352" y="205"/>
                  </a:lnTo>
                  <a:lnTo>
                    <a:pt x="355" y="200"/>
                  </a:lnTo>
                  <a:lnTo>
                    <a:pt x="359" y="195"/>
                  </a:lnTo>
                  <a:lnTo>
                    <a:pt x="362" y="189"/>
                  </a:lnTo>
                  <a:lnTo>
                    <a:pt x="366" y="187"/>
                  </a:lnTo>
                  <a:lnTo>
                    <a:pt x="370" y="184"/>
                  </a:lnTo>
                  <a:lnTo>
                    <a:pt x="374" y="184"/>
                  </a:lnTo>
                  <a:lnTo>
                    <a:pt x="378" y="184"/>
                  </a:lnTo>
                  <a:lnTo>
                    <a:pt x="382" y="184"/>
                  </a:lnTo>
                  <a:lnTo>
                    <a:pt x="386" y="184"/>
                  </a:lnTo>
                  <a:lnTo>
                    <a:pt x="390" y="187"/>
                  </a:lnTo>
                  <a:lnTo>
                    <a:pt x="395" y="189"/>
                  </a:lnTo>
                  <a:lnTo>
                    <a:pt x="400" y="192"/>
                  </a:lnTo>
                  <a:lnTo>
                    <a:pt x="405" y="197"/>
                  </a:lnTo>
                  <a:lnTo>
                    <a:pt x="410" y="205"/>
                  </a:lnTo>
                  <a:lnTo>
                    <a:pt x="398" y="218"/>
                  </a:lnTo>
                  <a:lnTo>
                    <a:pt x="387" y="205"/>
                  </a:lnTo>
                  <a:lnTo>
                    <a:pt x="386" y="208"/>
                  </a:lnTo>
                  <a:lnTo>
                    <a:pt x="382" y="213"/>
                  </a:lnTo>
                  <a:lnTo>
                    <a:pt x="381" y="218"/>
                  </a:lnTo>
                  <a:lnTo>
                    <a:pt x="379" y="224"/>
                  </a:lnTo>
                  <a:lnTo>
                    <a:pt x="376" y="229"/>
                  </a:lnTo>
                  <a:lnTo>
                    <a:pt x="374" y="237"/>
                  </a:lnTo>
                  <a:lnTo>
                    <a:pt x="373" y="242"/>
                  </a:lnTo>
                  <a:lnTo>
                    <a:pt x="371" y="247"/>
                  </a:lnTo>
                  <a:lnTo>
                    <a:pt x="370" y="253"/>
                  </a:lnTo>
                  <a:lnTo>
                    <a:pt x="368" y="260"/>
                  </a:lnTo>
                  <a:lnTo>
                    <a:pt x="366" y="266"/>
                  </a:lnTo>
                  <a:lnTo>
                    <a:pt x="366" y="271"/>
                  </a:lnTo>
                  <a:lnTo>
                    <a:pt x="365" y="279"/>
                  </a:lnTo>
                  <a:lnTo>
                    <a:pt x="365" y="284"/>
                  </a:lnTo>
                  <a:lnTo>
                    <a:pt x="365" y="292"/>
                  </a:lnTo>
                  <a:lnTo>
                    <a:pt x="366" y="297"/>
                  </a:lnTo>
                  <a:lnTo>
                    <a:pt x="360" y="316"/>
                  </a:lnTo>
                  <a:lnTo>
                    <a:pt x="360" y="3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rot="2831400">
              <a:off x="1624320" y="2491920"/>
              <a:ext cx="296640" cy="381960"/>
            </a:xfrm>
            <a:custGeom>
              <a:avLst/>
              <a:gdLst/>
              <a:ahLst/>
              <a:rect l="l" t="t" r="r" b="b"/>
              <a:pathLst>
                <a:path w="102" h="158">
                  <a:moveTo>
                    <a:pt x="40" y="158"/>
                  </a:moveTo>
                  <a:lnTo>
                    <a:pt x="39" y="152"/>
                  </a:lnTo>
                  <a:lnTo>
                    <a:pt x="35" y="150"/>
                  </a:lnTo>
                  <a:lnTo>
                    <a:pt x="34" y="145"/>
                  </a:lnTo>
                  <a:lnTo>
                    <a:pt x="31" y="142"/>
                  </a:lnTo>
                  <a:lnTo>
                    <a:pt x="29" y="137"/>
                  </a:lnTo>
                  <a:lnTo>
                    <a:pt x="26" y="131"/>
                  </a:lnTo>
                  <a:lnTo>
                    <a:pt x="24" y="129"/>
                  </a:lnTo>
                  <a:lnTo>
                    <a:pt x="21" y="123"/>
                  </a:lnTo>
                  <a:lnTo>
                    <a:pt x="18" y="118"/>
                  </a:lnTo>
                  <a:lnTo>
                    <a:pt x="16" y="116"/>
                  </a:lnTo>
                  <a:lnTo>
                    <a:pt x="13" y="110"/>
                  </a:lnTo>
                  <a:lnTo>
                    <a:pt x="11" y="108"/>
                  </a:lnTo>
                  <a:lnTo>
                    <a:pt x="8" y="102"/>
                  </a:lnTo>
                  <a:lnTo>
                    <a:pt x="5" y="100"/>
                  </a:lnTo>
                  <a:lnTo>
                    <a:pt x="3" y="97"/>
                  </a:lnTo>
                  <a:lnTo>
                    <a:pt x="0" y="95"/>
                  </a:lnTo>
                  <a:lnTo>
                    <a:pt x="11" y="79"/>
                  </a:lnTo>
                  <a:lnTo>
                    <a:pt x="19" y="89"/>
                  </a:lnTo>
                  <a:lnTo>
                    <a:pt x="27" y="95"/>
                  </a:lnTo>
                  <a:lnTo>
                    <a:pt x="35" y="100"/>
                  </a:lnTo>
                  <a:lnTo>
                    <a:pt x="43" y="105"/>
                  </a:lnTo>
                  <a:lnTo>
                    <a:pt x="50" y="105"/>
                  </a:lnTo>
                  <a:lnTo>
                    <a:pt x="54" y="105"/>
                  </a:lnTo>
                  <a:lnTo>
                    <a:pt x="61" y="100"/>
                  </a:lnTo>
                  <a:lnTo>
                    <a:pt x="64" y="97"/>
                  </a:lnTo>
                  <a:lnTo>
                    <a:pt x="67" y="89"/>
                  </a:lnTo>
                  <a:lnTo>
                    <a:pt x="69" y="81"/>
                  </a:lnTo>
                  <a:lnTo>
                    <a:pt x="69" y="73"/>
                  </a:lnTo>
                  <a:lnTo>
                    <a:pt x="69" y="63"/>
                  </a:lnTo>
                  <a:lnTo>
                    <a:pt x="67" y="52"/>
                  </a:lnTo>
                  <a:lnTo>
                    <a:pt x="62" y="39"/>
                  </a:lnTo>
                  <a:lnTo>
                    <a:pt x="58" y="26"/>
                  </a:lnTo>
                  <a:lnTo>
                    <a:pt x="51" y="13"/>
                  </a:lnTo>
                  <a:lnTo>
                    <a:pt x="66" y="0"/>
                  </a:lnTo>
                  <a:lnTo>
                    <a:pt x="67" y="2"/>
                  </a:lnTo>
                  <a:lnTo>
                    <a:pt x="70" y="5"/>
                  </a:lnTo>
                  <a:lnTo>
                    <a:pt x="72" y="8"/>
                  </a:lnTo>
                  <a:lnTo>
                    <a:pt x="75" y="13"/>
                  </a:lnTo>
                  <a:lnTo>
                    <a:pt x="78" y="18"/>
                  </a:lnTo>
                  <a:lnTo>
                    <a:pt x="80" y="21"/>
                  </a:lnTo>
                  <a:lnTo>
                    <a:pt x="83" y="26"/>
                  </a:lnTo>
                  <a:lnTo>
                    <a:pt x="85" y="31"/>
                  </a:lnTo>
                  <a:lnTo>
                    <a:pt x="86" y="37"/>
                  </a:lnTo>
                  <a:lnTo>
                    <a:pt x="90" y="42"/>
                  </a:lnTo>
                  <a:lnTo>
                    <a:pt x="91" y="47"/>
                  </a:lnTo>
                  <a:lnTo>
                    <a:pt x="94" y="52"/>
                  </a:lnTo>
                  <a:lnTo>
                    <a:pt x="96" y="58"/>
                  </a:lnTo>
                  <a:lnTo>
                    <a:pt x="99" y="63"/>
                  </a:lnTo>
                  <a:lnTo>
                    <a:pt x="101" y="66"/>
                  </a:lnTo>
                  <a:lnTo>
                    <a:pt x="102" y="71"/>
                  </a:lnTo>
                  <a:lnTo>
                    <a:pt x="101" y="79"/>
                  </a:lnTo>
                  <a:lnTo>
                    <a:pt x="98" y="87"/>
                  </a:lnTo>
                  <a:lnTo>
                    <a:pt x="96" y="95"/>
                  </a:lnTo>
                  <a:lnTo>
                    <a:pt x="93" y="102"/>
                  </a:lnTo>
                  <a:lnTo>
                    <a:pt x="90" y="108"/>
                  </a:lnTo>
                  <a:lnTo>
                    <a:pt x="86" y="116"/>
                  </a:lnTo>
                  <a:lnTo>
                    <a:pt x="83" y="121"/>
                  </a:lnTo>
                  <a:lnTo>
                    <a:pt x="78" y="126"/>
                  </a:lnTo>
                  <a:lnTo>
                    <a:pt x="74" y="131"/>
                  </a:lnTo>
                  <a:lnTo>
                    <a:pt x="70" y="137"/>
                  </a:lnTo>
                  <a:lnTo>
                    <a:pt x="66" y="142"/>
                  </a:lnTo>
                  <a:lnTo>
                    <a:pt x="61" y="145"/>
                  </a:lnTo>
                  <a:lnTo>
                    <a:pt x="56" y="147"/>
                  </a:lnTo>
                  <a:lnTo>
                    <a:pt x="50" y="152"/>
                  </a:lnTo>
                  <a:lnTo>
                    <a:pt x="45" y="155"/>
                  </a:lnTo>
                  <a:lnTo>
                    <a:pt x="40" y="158"/>
                  </a:lnTo>
                  <a:lnTo>
                    <a:pt x="40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rot="2831400">
              <a:off x="1652760" y="2361240"/>
              <a:ext cx="296640" cy="330840"/>
            </a:xfrm>
            <a:custGeom>
              <a:avLst/>
              <a:gdLst/>
              <a:ahLst/>
              <a:rect l="l" t="t" r="r" b="b"/>
              <a:pathLst>
                <a:path w="102" h="137">
                  <a:moveTo>
                    <a:pt x="38" y="137"/>
                  </a:moveTo>
                  <a:lnTo>
                    <a:pt x="24" y="115"/>
                  </a:lnTo>
                  <a:lnTo>
                    <a:pt x="13" y="94"/>
                  </a:lnTo>
                  <a:lnTo>
                    <a:pt x="5" y="76"/>
                  </a:lnTo>
                  <a:lnTo>
                    <a:pt x="1" y="60"/>
                  </a:lnTo>
                  <a:lnTo>
                    <a:pt x="0" y="44"/>
                  </a:lnTo>
                  <a:lnTo>
                    <a:pt x="1" y="31"/>
                  </a:lnTo>
                  <a:lnTo>
                    <a:pt x="5" y="21"/>
                  </a:lnTo>
                  <a:lnTo>
                    <a:pt x="11" y="13"/>
                  </a:lnTo>
                  <a:lnTo>
                    <a:pt x="19" y="5"/>
                  </a:lnTo>
                  <a:lnTo>
                    <a:pt x="28" y="2"/>
                  </a:lnTo>
                  <a:lnTo>
                    <a:pt x="40" y="0"/>
                  </a:lnTo>
                  <a:lnTo>
                    <a:pt x="51" y="2"/>
                  </a:lnTo>
                  <a:lnTo>
                    <a:pt x="64" y="8"/>
                  </a:lnTo>
                  <a:lnTo>
                    <a:pt x="76" y="15"/>
                  </a:lnTo>
                  <a:lnTo>
                    <a:pt x="89" y="29"/>
                  </a:lnTo>
                  <a:lnTo>
                    <a:pt x="102" y="44"/>
                  </a:lnTo>
                  <a:lnTo>
                    <a:pt x="87" y="63"/>
                  </a:lnTo>
                  <a:lnTo>
                    <a:pt x="76" y="50"/>
                  </a:lnTo>
                  <a:lnTo>
                    <a:pt x="67" y="39"/>
                  </a:lnTo>
                  <a:lnTo>
                    <a:pt x="57" y="31"/>
                  </a:lnTo>
                  <a:lnTo>
                    <a:pt x="49" y="29"/>
                  </a:lnTo>
                  <a:lnTo>
                    <a:pt x="41" y="26"/>
                  </a:lnTo>
                  <a:lnTo>
                    <a:pt x="35" y="29"/>
                  </a:lnTo>
                  <a:lnTo>
                    <a:pt x="30" y="34"/>
                  </a:lnTo>
                  <a:lnTo>
                    <a:pt x="27" y="39"/>
                  </a:lnTo>
                  <a:lnTo>
                    <a:pt x="24" y="47"/>
                  </a:lnTo>
                  <a:lnTo>
                    <a:pt x="22" y="55"/>
                  </a:lnTo>
                  <a:lnTo>
                    <a:pt x="22" y="65"/>
                  </a:lnTo>
                  <a:lnTo>
                    <a:pt x="24" y="76"/>
                  </a:lnTo>
                  <a:lnTo>
                    <a:pt x="27" y="89"/>
                  </a:lnTo>
                  <a:lnTo>
                    <a:pt x="33" y="100"/>
                  </a:lnTo>
                  <a:lnTo>
                    <a:pt x="41" y="113"/>
                  </a:lnTo>
                  <a:lnTo>
                    <a:pt x="51" y="126"/>
                  </a:lnTo>
                  <a:lnTo>
                    <a:pt x="38" y="137"/>
                  </a:lnTo>
                  <a:lnTo>
                    <a:pt x="38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rot="2831400">
              <a:off x="1698120" y="2222280"/>
              <a:ext cx="203040" cy="229320"/>
            </a:xfrm>
            <a:custGeom>
              <a:avLst/>
              <a:gdLst/>
              <a:ahLst/>
              <a:rect l="l" t="t" r="r" b="b"/>
              <a:pathLst>
                <a:path w="70" h="95">
                  <a:moveTo>
                    <a:pt x="37" y="95"/>
                  </a:moveTo>
                  <a:lnTo>
                    <a:pt x="22" y="76"/>
                  </a:lnTo>
                  <a:lnTo>
                    <a:pt x="13" y="63"/>
                  </a:lnTo>
                  <a:lnTo>
                    <a:pt x="6" y="47"/>
                  </a:lnTo>
                  <a:lnTo>
                    <a:pt x="1" y="37"/>
                  </a:lnTo>
                  <a:lnTo>
                    <a:pt x="0" y="26"/>
                  </a:lnTo>
                  <a:lnTo>
                    <a:pt x="1" y="16"/>
                  </a:lnTo>
                  <a:lnTo>
                    <a:pt x="5" y="11"/>
                  </a:lnTo>
                  <a:lnTo>
                    <a:pt x="9" y="5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8" y="3"/>
                  </a:lnTo>
                  <a:lnTo>
                    <a:pt x="46" y="5"/>
                  </a:lnTo>
                  <a:lnTo>
                    <a:pt x="54" y="13"/>
                  </a:lnTo>
                  <a:lnTo>
                    <a:pt x="62" y="21"/>
                  </a:lnTo>
                  <a:lnTo>
                    <a:pt x="70" y="32"/>
                  </a:lnTo>
                  <a:lnTo>
                    <a:pt x="57" y="50"/>
                  </a:lnTo>
                  <a:lnTo>
                    <a:pt x="53" y="40"/>
                  </a:lnTo>
                  <a:lnTo>
                    <a:pt x="48" y="34"/>
                  </a:lnTo>
                  <a:lnTo>
                    <a:pt x="43" y="29"/>
                  </a:lnTo>
                  <a:lnTo>
                    <a:pt x="38" y="26"/>
                  </a:lnTo>
                  <a:lnTo>
                    <a:pt x="35" y="26"/>
                  </a:lnTo>
                  <a:lnTo>
                    <a:pt x="30" y="26"/>
                  </a:lnTo>
                  <a:lnTo>
                    <a:pt x="27" y="26"/>
                  </a:lnTo>
                  <a:lnTo>
                    <a:pt x="25" y="32"/>
                  </a:lnTo>
                  <a:lnTo>
                    <a:pt x="22" y="34"/>
                  </a:lnTo>
                  <a:lnTo>
                    <a:pt x="22" y="40"/>
                  </a:lnTo>
                  <a:lnTo>
                    <a:pt x="22" y="45"/>
                  </a:lnTo>
                  <a:lnTo>
                    <a:pt x="24" y="50"/>
                  </a:lnTo>
                  <a:lnTo>
                    <a:pt x="27" y="55"/>
                  </a:lnTo>
                  <a:lnTo>
                    <a:pt x="32" y="63"/>
                  </a:lnTo>
                  <a:lnTo>
                    <a:pt x="38" y="69"/>
                  </a:lnTo>
                  <a:lnTo>
                    <a:pt x="48" y="76"/>
                  </a:lnTo>
                  <a:lnTo>
                    <a:pt x="37" y="95"/>
                  </a:lnTo>
                  <a:lnTo>
                    <a:pt x="37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rot="2831400">
              <a:off x="1360440" y="4938840"/>
              <a:ext cx="657360" cy="464040"/>
            </a:xfrm>
            <a:custGeom>
              <a:avLst/>
              <a:gdLst/>
              <a:ahLst/>
              <a:rect l="l" t="t" r="r" b="b"/>
              <a:pathLst>
                <a:path w="226" h="192">
                  <a:moveTo>
                    <a:pt x="25" y="2"/>
                  </a:moveTo>
                  <a:lnTo>
                    <a:pt x="35" y="8"/>
                  </a:lnTo>
                  <a:lnTo>
                    <a:pt x="46" y="16"/>
                  </a:lnTo>
                  <a:lnTo>
                    <a:pt x="57" y="24"/>
                  </a:lnTo>
                  <a:lnTo>
                    <a:pt x="70" y="31"/>
                  </a:lnTo>
                  <a:lnTo>
                    <a:pt x="82" y="39"/>
                  </a:lnTo>
                  <a:lnTo>
                    <a:pt x="94" y="50"/>
                  </a:lnTo>
                  <a:lnTo>
                    <a:pt x="106" y="60"/>
                  </a:lnTo>
                  <a:lnTo>
                    <a:pt x="121" y="71"/>
                  </a:lnTo>
                  <a:lnTo>
                    <a:pt x="132" y="79"/>
                  </a:lnTo>
                  <a:lnTo>
                    <a:pt x="145" y="87"/>
                  </a:lnTo>
                  <a:lnTo>
                    <a:pt x="157" y="97"/>
                  </a:lnTo>
                  <a:lnTo>
                    <a:pt x="169" y="105"/>
                  </a:lnTo>
                  <a:lnTo>
                    <a:pt x="180" y="110"/>
                  </a:lnTo>
                  <a:lnTo>
                    <a:pt x="191" y="118"/>
                  </a:lnTo>
                  <a:lnTo>
                    <a:pt x="202" y="124"/>
                  </a:lnTo>
                  <a:lnTo>
                    <a:pt x="212" y="126"/>
                  </a:lnTo>
                  <a:lnTo>
                    <a:pt x="216" y="129"/>
                  </a:lnTo>
                  <a:lnTo>
                    <a:pt x="220" y="131"/>
                  </a:lnTo>
                  <a:lnTo>
                    <a:pt x="221" y="137"/>
                  </a:lnTo>
                  <a:lnTo>
                    <a:pt x="224" y="142"/>
                  </a:lnTo>
                  <a:lnTo>
                    <a:pt x="224" y="147"/>
                  </a:lnTo>
                  <a:lnTo>
                    <a:pt x="226" y="153"/>
                  </a:lnTo>
                  <a:lnTo>
                    <a:pt x="226" y="158"/>
                  </a:lnTo>
                  <a:lnTo>
                    <a:pt x="226" y="166"/>
                  </a:lnTo>
                  <a:lnTo>
                    <a:pt x="224" y="171"/>
                  </a:lnTo>
                  <a:lnTo>
                    <a:pt x="223" y="176"/>
                  </a:lnTo>
                  <a:lnTo>
                    <a:pt x="220" y="181"/>
                  </a:lnTo>
                  <a:lnTo>
                    <a:pt x="218" y="187"/>
                  </a:lnTo>
                  <a:lnTo>
                    <a:pt x="215" y="189"/>
                  </a:lnTo>
                  <a:lnTo>
                    <a:pt x="212" y="192"/>
                  </a:lnTo>
                  <a:lnTo>
                    <a:pt x="207" y="192"/>
                  </a:lnTo>
                  <a:lnTo>
                    <a:pt x="202" y="192"/>
                  </a:lnTo>
                  <a:lnTo>
                    <a:pt x="191" y="184"/>
                  </a:lnTo>
                  <a:lnTo>
                    <a:pt x="178" y="179"/>
                  </a:lnTo>
                  <a:lnTo>
                    <a:pt x="167" y="171"/>
                  </a:lnTo>
                  <a:lnTo>
                    <a:pt x="154" y="163"/>
                  </a:lnTo>
                  <a:lnTo>
                    <a:pt x="141" y="155"/>
                  </a:lnTo>
                  <a:lnTo>
                    <a:pt x="130" y="147"/>
                  </a:lnTo>
                  <a:lnTo>
                    <a:pt x="118" y="137"/>
                  </a:lnTo>
                  <a:lnTo>
                    <a:pt x="106" y="129"/>
                  </a:lnTo>
                  <a:lnTo>
                    <a:pt x="94" y="118"/>
                  </a:lnTo>
                  <a:lnTo>
                    <a:pt x="82" y="110"/>
                  </a:lnTo>
                  <a:lnTo>
                    <a:pt x="70" y="100"/>
                  </a:lnTo>
                  <a:lnTo>
                    <a:pt x="59" y="92"/>
                  </a:lnTo>
                  <a:lnTo>
                    <a:pt x="47" y="84"/>
                  </a:lnTo>
                  <a:lnTo>
                    <a:pt x="35" y="74"/>
                  </a:lnTo>
                  <a:lnTo>
                    <a:pt x="24" y="66"/>
                  </a:lnTo>
                  <a:lnTo>
                    <a:pt x="12" y="58"/>
                  </a:lnTo>
                  <a:lnTo>
                    <a:pt x="8" y="53"/>
                  </a:lnTo>
                  <a:lnTo>
                    <a:pt x="4" y="50"/>
                  </a:lnTo>
                  <a:lnTo>
                    <a:pt x="3" y="45"/>
                  </a:lnTo>
                  <a:lnTo>
                    <a:pt x="1" y="39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1" y="18"/>
                  </a:lnTo>
                  <a:lnTo>
                    <a:pt x="3" y="13"/>
                  </a:lnTo>
                  <a:lnTo>
                    <a:pt x="4" y="10"/>
                  </a:lnTo>
                  <a:lnTo>
                    <a:pt x="8" y="5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b8f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rot="2831400">
              <a:off x="1739160" y="5443200"/>
              <a:ext cx="115920" cy="159480"/>
            </a:xfrm>
            <a:custGeom>
              <a:avLst/>
              <a:gdLst/>
              <a:ahLst/>
              <a:rect l="l" t="t" r="r" b="b"/>
              <a:pathLst>
                <a:path w="40" h="66">
                  <a:moveTo>
                    <a:pt x="27" y="5"/>
                  </a:moveTo>
                  <a:lnTo>
                    <a:pt x="32" y="10"/>
                  </a:lnTo>
                  <a:lnTo>
                    <a:pt x="35" y="16"/>
                  </a:lnTo>
                  <a:lnTo>
                    <a:pt x="38" y="24"/>
                  </a:lnTo>
                  <a:lnTo>
                    <a:pt x="40" y="29"/>
                  </a:lnTo>
                  <a:lnTo>
                    <a:pt x="40" y="37"/>
                  </a:lnTo>
                  <a:lnTo>
                    <a:pt x="40" y="42"/>
                  </a:lnTo>
                  <a:lnTo>
                    <a:pt x="38" y="47"/>
                  </a:lnTo>
                  <a:lnTo>
                    <a:pt x="37" y="52"/>
                  </a:lnTo>
                  <a:lnTo>
                    <a:pt x="35" y="58"/>
                  </a:lnTo>
                  <a:lnTo>
                    <a:pt x="32" y="60"/>
                  </a:lnTo>
                  <a:lnTo>
                    <a:pt x="29" y="63"/>
                  </a:lnTo>
                  <a:lnTo>
                    <a:pt x="25" y="66"/>
                  </a:lnTo>
                  <a:lnTo>
                    <a:pt x="22" y="66"/>
                  </a:lnTo>
                  <a:lnTo>
                    <a:pt x="17" y="66"/>
                  </a:lnTo>
                  <a:lnTo>
                    <a:pt x="14" y="63"/>
                  </a:lnTo>
                  <a:lnTo>
                    <a:pt x="11" y="60"/>
                  </a:lnTo>
                  <a:lnTo>
                    <a:pt x="6" y="52"/>
                  </a:lnTo>
                  <a:lnTo>
                    <a:pt x="3" y="45"/>
                  </a:lnTo>
                  <a:lnTo>
                    <a:pt x="1" y="39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" y="10"/>
                  </a:lnTo>
                  <a:lnTo>
                    <a:pt x="3" y="8"/>
                  </a:lnTo>
                  <a:lnTo>
                    <a:pt x="6" y="5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4" y="2"/>
                  </a:lnTo>
                  <a:lnTo>
                    <a:pt x="27" y="5"/>
                  </a:lnTo>
                  <a:lnTo>
                    <a:pt x="27" y="5"/>
                  </a:lnTo>
                  <a:close/>
                </a:path>
              </a:pathLst>
            </a:custGeom>
            <a:solidFill>
              <a:srgbClr val="b8f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rot="2831400">
              <a:off x="1155600" y="4624200"/>
              <a:ext cx="959400" cy="884520"/>
            </a:xfrm>
            <a:custGeom>
              <a:avLst/>
              <a:gdLst/>
              <a:ahLst/>
              <a:rect l="l" t="t" r="r" b="b"/>
              <a:pathLst>
                <a:path w="330" h="366">
                  <a:moveTo>
                    <a:pt x="193" y="184"/>
                  </a:moveTo>
                  <a:lnTo>
                    <a:pt x="197" y="184"/>
                  </a:lnTo>
                  <a:lnTo>
                    <a:pt x="204" y="187"/>
                  </a:lnTo>
                  <a:lnTo>
                    <a:pt x="213" y="189"/>
                  </a:lnTo>
                  <a:lnTo>
                    <a:pt x="226" y="195"/>
                  </a:lnTo>
                  <a:lnTo>
                    <a:pt x="239" y="203"/>
                  </a:lnTo>
                  <a:lnTo>
                    <a:pt x="253" y="210"/>
                  </a:lnTo>
                  <a:lnTo>
                    <a:pt x="268" y="218"/>
                  </a:lnTo>
                  <a:lnTo>
                    <a:pt x="282" y="229"/>
                  </a:lnTo>
                  <a:lnTo>
                    <a:pt x="295" y="239"/>
                  </a:lnTo>
                  <a:lnTo>
                    <a:pt x="307" y="250"/>
                  </a:lnTo>
                  <a:lnTo>
                    <a:pt x="317" y="263"/>
                  </a:lnTo>
                  <a:lnTo>
                    <a:pt x="325" y="276"/>
                  </a:lnTo>
                  <a:lnTo>
                    <a:pt x="328" y="287"/>
                  </a:lnTo>
                  <a:lnTo>
                    <a:pt x="330" y="300"/>
                  </a:lnTo>
                  <a:lnTo>
                    <a:pt x="327" y="313"/>
                  </a:lnTo>
                  <a:lnTo>
                    <a:pt x="319" y="326"/>
                  </a:lnTo>
                  <a:lnTo>
                    <a:pt x="315" y="326"/>
                  </a:lnTo>
                  <a:lnTo>
                    <a:pt x="314" y="331"/>
                  </a:lnTo>
                  <a:lnTo>
                    <a:pt x="311" y="334"/>
                  </a:lnTo>
                  <a:lnTo>
                    <a:pt x="307" y="339"/>
                  </a:lnTo>
                  <a:lnTo>
                    <a:pt x="304" y="342"/>
                  </a:lnTo>
                  <a:lnTo>
                    <a:pt x="303" y="345"/>
                  </a:lnTo>
                  <a:lnTo>
                    <a:pt x="299" y="347"/>
                  </a:lnTo>
                  <a:lnTo>
                    <a:pt x="298" y="350"/>
                  </a:lnTo>
                  <a:lnTo>
                    <a:pt x="295" y="353"/>
                  </a:lnTo>
                  <a:lnTo>
                    <a:pt x="291" y="358"/>
                  </a:lnTo>
                  <a:lnTo>
                    <a:pt x="288" y="358"/>
                  </a:lnTo>
                  <a:lnTo>
                    <a:pt x="287" y="360"/>
                  </a:lnTo>
                  <a:lnTo>
                    <a:pt x="282" y="363"/>
                  </a:lnTo>
                  <a:lnTo>
                    <a:pt x="279" y="363"/>
                  </a:lnTo>
                  <a:lnTo>
                    <a:pt x="276" y="366"/>
                  </a:lnTo>
                  <a:lnTo>
                    <a:pt x="274" y="366"/>
                  </a:lnTo>
                  <a:lnTo>
                    <a:pt x="263" y="363"/>
                  </a:lnTo>
                  <a:lnTo>
                    <a:pt x="252" y="358"/>
                  </a:lnTo>
                  <a:lnTo>
                    <a:pt x="239" y="347"/>
                  </a:lnTo>
                  <a:lnTo>
                    <a:pt x="226" y="337"/>
                  </a:lnTo>
                  <a:lnTo>
                    <a:pt x="212" y="321"/>
                  </a:lnTo>
                  <a:lnTo>
                    <a:pt x="199" y="305"/>
                  </a:lnTo>
                  <a:lnTo>
                    <a:pt x="185" y="287"/>
                  </a:lnTo>
                  <a:lnTo>
                    <a:pt x="170" y="268"/>
                  </a:lnTo>
                  <a:lnTo>
                    <a:pt x="158" y="247"/>
                  </a:lnTo>
                  <a:lnTo>
                    <a:pt x="143" y="229"/>
                  </a:lnTo>
                  <a:lnTo>
                    <a:pt x="130" y="208"/>
                  </a:lnTo>
                  <a:lnTo>
                    <a:pt x="118" y="189"/>
                  </a:lnTo>
                  <a:lnTo>
                    <a:pt x="107" y="171"/>
                  </a:lnTo>
                  <a:lnTo>
                    <a:pt x="97" y="155"/>
                  </a:lnTo>
                  <a:lnTo>
                    <a:pt x="87" y="139"/>
                  </a:lnTo>
                  <a:lnTo>
                    <a:pt x="81" y="129"/>
                  </a:lnTo>
                  <a:lnTo>
                    <a:pt x="78" y="124"/>
                  </a:lnTo>
                  <a:lnTo>
                    <a:pt x="76" y="121"/>
                  </a:lnTo>
                  <a:lnTo>
                    <a:pt x="73" y="116"/>
                  </a:lnTo>
                  <a:lnTo>
                    <a:pt x="70" y="113"/>
                  </a:lnTo>
                  <a:lnTo>
                    <a:pt x="68" y="108"/>
                  </a:lnTo>
                  <a:lnTo>
                    <a:pt x="65" y="105"/>
                  </a:lnTo>
                  <a:lnTo>
                    <a:pt x="62" y="100"/>
                  </a:lnTo>
                  <a:lnTo>
                    <a:pt x="60" y="97"/>
                  </a:lnTo>
                  <a:lnTo>
                    <a:pt x="57" y="92"/>
                  </a:lnTo>
                  <a:lnTo>
                    <a:pt x="54" y="89"/>
                  </a:lnTo>
                  <a:lnTo>
                    <a:pt x="52" y="84"/>
                  </a:lnTo>
                  <a:lnTo>
                    <a:pt x="49" y="81"/>
                  </a:lnTo>
                  <a:lnTo>
                    <a:pt x="46" y="76"/>
                  </a:lnTo>
                  <a:lnTo>
                    <a:pt x="43" y="74"/>
                  </a:lnTo>
                  <a:lnTo>
                    <a:pt x="40" y="71"/>
                  </a:lnTo>
                  <a:lnTo>
                    <a:pt x="36" y="68"/>
                  </a:lnTo>
                  <a:lnTo>
                    <a:pt x="33" y="66"/>
                  </a:lnTo>
                  <a:lnTo>
                    <a:pt x="30" y="60"/>
                  </a:lnTo>
                  <a:lnTo>
                    <a:pt x="27" y="58"/>
                  </a:lnTo>
                  <a:lnTo>
                    <a:pt x="24" y="52"/>
                  </a:lnTo>
                  <a:lnTo>
                    <a:pt x="20" y="47"/>
                  </a:lnTo>
                  <a:lnTo>
                    <a:pt x="16" y="45"/>
                  </a:lnTo>
                  <a:lnTo>
                    <a:pt x="14" y="39"/>
                  </a:lnTo>
                  <a:lnTo>
                    <a:pt x="11" y="34"/>
                  </a:lnTo>
                  <a:lnTo>
                    <a:pt x="9" y="29"/>
                  </a:lnTo>
                  <a:lnTo>
                    <a:pt x="6" y="24"/>
                  </a:lnTo>
                  <a:lnTo>
                    <a:pt x="3" y="16"/>
                  </a:lnTo>
                  <a:lnTo>
                    <a:pt x="1" y="10"/>
                  </a:lnTo>
                  <a:lnTo>
                    <a:pt x="0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11" y="5"/>
                  </a:lnTo>
                  <a:lnTo>
                    <a:pt x="24" y="13"/>
                  </a:lnTo>
                  <a:lnTo>
                    <a:pt x="35" y="24"/>
                  </a:lnTo>
                  <a:lnTo>
                    <a:pt x="46" y="34"/>
                  </a:lnTo>
                  <a:lnTo>
                    <a:pt x="59" y="47"/>
                  </a:lnTo>
                  <a:lnTo>
                    <a:pt x="68" y="58"/>
                  </a:lnTo>
                  <a:lnTo>
                    <a:pt x="79" y="71"/>
                  </a:lnTo>
                  <a:lnTo>
                    <a:pt x="91" y="81"/>
                  </a:lnTo>
                  <a:lnTo>
                    <a:pt x="102" y="92"/>
                  </a:lnTo>
                  <a:lnTo>
                    <a:pt x="113" y="105"/>
                  </a:lnTo>
                  <a:lnTo>
                    <a:pt x="124" y="116"/>
                  </a:lnTo>
                  <a:lnTo>
                    <a:pt x="135" y="129"/>
                  </a:lnTo>
                  <a:lnTo>
                    <a:pt x="146" y="139"/>
                  </a:lnTo>
                  <a:lnTo>
                    <a:pt x="158" y="150"/>
                  </a:lnTo>
                  <a:lnTo>
                    <a:pt x="169" y="163"/>
                  </a:lnTo>
                  <a:lnTo>
                    <a:pt x="181" y="174"/>
                  </a:lnTo>
                  <a:lnTo>
                    <a:pt x="193" y="184"/>
                  </a:lnTo>
                  <a:lnTo>
                    <a:pt x="193" y="184"/>
                  </a:lnTo>
                  <a:close/>
                </a:path>
              </a:pathLst>
            </a:custGeom>
            <a:solidFill>
              <a:srgbClr val="b8f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37" name=""/>
              <p:cNvSpPr txBox="1"/>
              <p:nvPr/>
            </p:nvSpPr>
            <p:spPr>
              <a:xfrm>
                <a:off x="5410080" y="2209680"/>
                <a:ext cx="19051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1017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938" name=""/>
          <p:cNvSpPr/>
          <p:nvPr/>
        </p:nvSpPr>
        <p:spPr>
          <a:xfrm>
            <a:off x="7398000" y="1600200"/>
            <a:ext cx="80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Comic Sans MS"/>
              </a:rPr>
              <a:t>R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"/>
          <p:cNvSpPr/>
          <p:nvPr/>
        </p:nvSpPr>
        <p:spPr>
          <a:xfrm>
            <a:off x="3533040" y="533520"/>
            <a:ext cx="18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219320" y="3336840"/>
            <a:ext cx="1523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405080" y="3336840"/>
            <a:ext cx="8931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371600" y="4479840"/>
            <a:ext cx="1295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740240" y="4479840"/>
            <a:ext cx="8931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535760" y="15080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Comic Sans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840320" y="15080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145240" y="15080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304280" y="2711520"/>
            <a:ext cx="63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Comic Sans MS"/>
              </a:rPr>
              <a:t>-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312200" y="3794040"/>
            <a:ext cx="9237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-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508400" y="5013360"/>
            <a:ext cx="1056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-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447920" y="5699160"/>
            <a:ext cx="1295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261160" y="56991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124080" y="1600200"/>
            <a:ext cx="30481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ck answer by multiplying then adding the remai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6553080" y="1752480"/>
            <a:ext cx="1905120" cy="1906920"/>
            <a:chOff x="6553080" y="1752480"/>
            <a:chExt cx="1905120" cy="1906920"/>
          </a:xfrm>
        </p:grpSpPr>
        <p:grpSp>
          <p:nvGrpSpPr>
            <p:cNvPr id="954" name=""/>
            <p:cNvGrpSpPr/>
            <p:nvPr/>
          </p:nvGrpSpPr>
          <p:grpSpPr>
            <a:xfrm>
              <a:off x="6645600" y="1752480"/>
              <a:ext cx="1720080" cy="1906920"/>
              <a:chOff x="6645600" y="1752480"/>
              <a:chExt cx="1720080" cy="1906920"/>
            </a:xfrm>
          </p:grpSpPr>
          <p:grpSp>
            <p:nvGrpSpPr>
              <p:cNvPr id="955" name=""/>
              <p:cNvGrpSpPr/>
              <p:nvPr/>
            </p:nvGrpSpPr>
            <p:grpSpPr>
              <a:xfrm>
                <a:off x="6645600" y="1752480"/>
                <a:ext cx="1720080" cy="1008360"/>
                <a:chOff x="6645600" y="1752480"/>
                <a:chExt cx="1720080" cy="1008360"/>
              </a:xfrm>
            </p:grpSpPr>
            <p:sp>
              <p:nvSpPr>
                <p:cNvPr id="956" name=""/>
                <p:cNvSpPr/>
                <p:nvPr/>
              </p:nvSpPr>
              <p:spPr>
                <a:xfrm>
                  <a:off x="6645600" y="1752480"/>
                  <a:ext cx="61668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0" spc="-1" strike="noStrike">
                      <a:solidFill>
                        <a:srgbClr val="00cc99"/>
                      </a:solidFill>
                      <a:latin typeface="Comic Sans MS"/>
                    </a:rPr>
                    <a:t>1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7179120" y="1752480"/>
                  <a:ext cx="61668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0" spc="-1" strike="noStrike">
                      <a:solidFill>
                        <a:srgbClr val="3333cc"/>
                      </a:solidFill>
                      <a:latin typeface="Comic Sans MS"/>
                    </a:rPr>
                    <a:t>4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7749000" y="1752480"/>
                  <a:ext cx="61668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0" spc="-1" strike="noStrike">
                      <a:solidFill>
                        <a:srgbClr val="006600"/>
                      </a:solidFill>
                      <a:latin typeface="Comic Sans MS"/>
                    </a:rPr>
                    <a:t>5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9" name=""/>
              <p:cNvSpPr/>
              <p:nvPr/>
            </p:nvSpPr>
            <p:spPr>
              <a:xfrm>
                <a:off x="6782400" y="2651040"/>
                <a:ext cx="14529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r>
                  <a:rPr b="1" lang="en-US" sz="6000" spc="-1" strike="noStrike">
                    <a:solidFill>
                      <a:srgbClr val="00cc99"/>
                    </a:solidFill>
                    <a:latin typeface="Comic Sans MS"/>
                  </a:rPr>
                  <a:t>  7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>
              <a:off x="6553080" y="3581280"/>
              <a:ext cx="1905120" cy="5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1" name=""/>
          <p:cNvSpPr/>
          <p:nvPr/>
        </p:nvSpPr>
        <p:spPr>
          <a:xfrm>
            <a:off x="6460920" y="3581280"/>
            <a:ext cx="1924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Comic Sans MS"/>
              </a:rPr>
              <a:t>101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762120" y="2133720"/>
                <a:ext cx="19047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1017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963" name=""/>
          <p:cNvGrpSpPr/>
          <p:nvPr/>
        </p:nvGrpSpPr>
        <p:grpSpPr>
          <a:xfrm>
            <a:off x="6629400" y="4403880"/>
            <a:ext cx="1905120" cy="1011240"/>
            <a:chOff x="6629400" y="4403880"/>
            <a:chExt cx="1905120" cy="1011240"/>
          </a:xfrm>
        </p:grpSpPr>
        <p:sp>
          <p:nvSpPr>
            <p:cNvPr id="964" name=""/>
            <p:cNvSpPr/>
            <p:nvPr/>
          </p:nvSpPr>
          <p:spPr>
            <a:xfrm>
              <a:off x="7346160" y="440388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6600"/>
                  </a:solidFill>
                  <a:latin typeface="Comic Sans MS"/>
                </a:rPr>
                <a:t>+2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629400" y="5410080"/>
              <a:ext cx="1905120" cy="5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6537240" y="5410080"/>
            <a:ext cx="1924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Comic Sans MS"/>
              </a:rPr>
              <a:t>101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7" name=""/>
          <p:cNvCxnSpPr/>
          <p:nvPr/>
        </p:nvCxnSpPr>
        <p:spPr>
          <a:xfrm>
            <a:off x="2666880" y="2590560"/>
            <a:ext cx="3810960" cy="3345480"/>
          </a:xfrm>
          <a:prstGeom prst="curvedConnector5">
            <a:avLst>
              <a:gd name="adj1" fmla="val 49995"/>
              <a:gd name="adj2" fmla="val 50000"/>
              <a:gd name="adj3" fmla="val 49995"/>
            </a:avLst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0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"/>
          <p:cNvSpPr/>
          <p:nvPr/>
        </p:nvSpPr>
        <p:spPr>
          <a:xfrm>
            <a:off x="3609000" y="533520"/>
            <a:ext cx="18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80120" y="1371600"/>
            <a:ext cx="294156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1917 ÷ 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410080" y="2514600"/>
            <a:ext cx="1295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Comic Sans MS"/>
              </a:rPr>
              <a:t>-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638680" y="3124080"/>
            <a:ext cx="1524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996520" y="3124080"/>
            <a:ext cx="7606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7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693760" y="3733920"/>
            <a:ext cx="9237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-6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562720" y="4419720"/>
            <a:ext cx="1295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006600" y="4406760"/>
            <a:ext cx="1050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1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770440" y="4940280"/>
            <a:ext cx="1213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-10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638680" y="556272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605640" y="5638680"/>
            <a:ext cx="4708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394040" y="1295280"/>
            <a:ext cx="9388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R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310840" y="2590920"/>
            <a:ext cx="15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Comic Sans MS"/>
              </a:rPr>
              <a:t>1200’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694240" y="3778200"/>
            <a:ext cx="129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120’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080880" y="4952880"/>
            <a:ext cx="103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12’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5029200" y="1844640"/>
                <a:ext cx="213372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1917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984" name=""/>
          <p:cNvSpPr/>
          <p:nvPr/>
        </p:nvSpPr>
        <p:spPr>
          <a:xfrm>
            <a:off x="6756840" y="12952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375960" y="13111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031440" y="12952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Comic Sans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3609000" y="533520"/>
            <a:ext cx="18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124080" y="1981080"/>
            <a:ext cx="3048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eck answer by multiplying then adding the remain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6553080" y="1752480"/>
            <a:ext cx="1905120" cy="1906920"/>
            <a:chOff x="6553080" y="1752480"/>
            <a:chExt cx="1905120" cy="1906920"/>
          </a:xfrm>
        </p:grpSpPr>
        <p:sp>
          <p:nvSpPr>
            <p:cNvPr id="990" name=""/>
            <p:cNvSpPr/>
            <p:nvPr/>
          </p:nvSpPr>
          <p:spPr>
            <a:xfrm>
              <a:off x="6645600" y="1752480"/>
              <a:ext cx="61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cc99"/>
                  </a:solidFill>
                  <a:latin typeface="Comic Sans MS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179120" y="1752480"/>
              <a:ext cx="61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3333cc"/>
                  </a:solidFill>
                  <a:latin typeface="Comic Sans MS"/>
                </a:rPr>
                <a:t>5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749000" y="1752480"/>
              <a:ext cx="61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6600"/>
                  </a:solidFill>
                  <a:latin typeface="Comic Sans MS"/>
                </a:rPr>
                <a:t>9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654600" y="2651040"/>
              <a:ext cx="169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1" lang="en-US" sz="6000" spc="-1" strike="noStrike">
                  <a:solidFill>
                    <a:srgbClr val="00cc99"/>
                  </a:solidFill>
                  <a:latin typeface="Comic Sans MS"/>
                </a:rPr>
                <a:t> </a:t>
              </a: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12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553080" y="3576600"/>
              <a:ext cx="1905120" cy="4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6460920" y="3581280"/>
            <a:ext cx="1924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Comic Sans MS"/>
              </a:rPr>
              <a:t>190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6629400" y="4403880"/>
            <a:ext cx="1905120" cy="1011240"/>
            <a:chOff x="6629400" y="4403880"/>
            <a:chExt cx="1905120" cy="1011240"/>
          </a:xfrm>
        </p:grpSpPr>
        <p:sp>
          <p:nvSpPr>
            <p:cNvPr id="997" name=""/>
            <p:cNvSpPr/>
            <p:nvPr/>
          </p:nvSpPr>
          <p:spPr>
            <a:xfrm>
              <a:off x="7346160" y="440388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6600"/>
                  </a:solidFill>
                  <a:latin typeface="Comic Sans MS"/>
                </a:rPr>
                <a:t>+9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629400" y="5410080"/>
              <a:ext cx="1905120" cy="5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6537240" y="5410080"/>
            <a:ext cx="1924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Comic Sans MS"/>
              </a:rPr>
              <a:t>191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914400" y="2577960"/>
            <a:ext cx="12952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Comic Sans MS"/>
              </a:rPr>
              <a:t>-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143000" y="3187800"/>
            <a:ext cx="1523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500840" y="3187800"/>
            <a:ext cx="7606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7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197720" y="3797280"/>
            <a:ext cx="9237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-6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066680" y="4483080"/>
            <a:ext cx="1295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282320" y="4470480"/>
            <a:ext cx="1050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1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045800" y="5003640"/>
            <a:ext cx="1213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-10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066680" y="56260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914840" y="5702400"/>
            <a:ext cx="4708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898360" y="1359000"/>
            <a:ext cx="9388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R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533520" y="1905120"/>
                <a:ext cx="2133360" cy="88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1917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011" name=""/>
          <p:cNvSpPr/>
          <p:nvPr/>
        </p:nvSpPr>
        <p:spPr>
          <a:xfrm>
            <a:off x="2261160" y="13590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880280" y="13748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535760" y="13590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Comic Sans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4" name=""/>
          <p:cNvCxnSpPr>
            <a:endCxn id="999" idx="1"/>
          </p:cNvCxnSpPr>
          <p:nvPr/>
        </p:nvCxnSpPr>
        <p:spPr>
          <a:xfrm>
            <a:off x="2666880" y="2346120"/>
            <a:ext cx="3810960" cy="3642120"/>
          </a:xfrm>
          <a:prstGeom prst="curvedConnector5">
            <a:avLst>
              <a:gd name="adj1" fmla="val 49995"/>
              <a:gd name="adj2" fmla="val 50000"/>
              <a:gd name="adj3" fmla="val 49995"/>
            </a:avLst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5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5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 txBox="1"/>
          <p:nvPr/>
        </p:nvSpPr>
        <p:spPr>
          <a:xfrm>
            <a:off x="1095480" y="1676520"/>
            <a:ext cx="667692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 </a:t>
            </a: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Division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Rules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16" name=""/>
          <p:cNvSpPr/>
          <p:nvPr/>
        </p:nvSpPr>
        <p:spPr>
          <a:xfrm>
            <a:off x="3352680" y="5335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vision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7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/>
          <p:nvPr/>
        </p:nvSpPr>
        <p:spPr>
          <a:xfrm>
            <a:off x="3352680" y="5335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vision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219320" y="2125800"/>
            <a:ext cx="733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ivision is</a:t>
            </a: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NOT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mmutati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62120" y="121932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Division Ru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0" name=""/>
              <p:cNvSpPr txBox="1"/>
              <p:nvPr/>
            </p:nvSpPr>
            <p:spPr>
              <a:xfrm>
                <a:off x="1905120" y="2963880"/>
                <a:ext cx="4838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÷</m:t>
                    </m:r>
                    <m:r>
                      <m:t xml:space="preserve">b</m:t>
                    </m:r>
                    <m:r>
                      <m:t xml:space="preserve">≠</m:t>
                    </m:r>
                    <m:r>
                      <m:t xml:space="preserve">b</m:t>
                    </m:r>
                    <m:r>
                      <m:t xml:space="preserve">÷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21" name=""/>
          <p:cNvGrpSpPr/>
          <p:nvPr/>
        </p:nvGrpSpPr>
        <p:grpSpPr>
          <a:xfrm>
            <a:off x="4970160" y="4191120"/>
            <a:ext cx="2271960" cy="1419480"/>
            <a:chOff x="4970160" y="4191120"/>
            <a:chExt cx="2271960" cy="1419480"/>
          </a:xfrm>
        </p:grpSpPr>
        <p:sp>
          <p:nvSpPr>
            <p:cNvPr id="1022" name=""/>
            <p:cNvSpPr/>
            <p:nvPr/>
          </p:nvSpPr>
          <p:spPr>
            <a:xfrm>
              <a:off x="6624000" y="4314960"/>
              <a:ext cx="61812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5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8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970160" y="4314960"/>
              <a:ext cx="61812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5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8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712120" y="4191120"/>
              <a:ext cx="8586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endParaRPr b="0" lang="en-US" sz="8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3861360" y="3962520"/>
            <a:ext cx="1142280" cy="17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300" spc="-1" strike="noStrike">
                <a:solidFill>
                  <a:srgbClr val="cc0000"/>
                </a:solidFill>
                <a:latin typeface="Symbol"/>
                <a:ea typeface="Symbol"/>
              </a:rPr>
              <a:t></a:t>
            </a:r>
            <a:endParaRPr b="0" lang="en-US" sz="1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1391760" y="4191120"/>
            <a:ext cx="2289600" cy="1371600"/>
            <a:chOff x="1391760" y="4191120"/>
            <a:chExt cx="2289600" cy="1371600"/>
          </a:xfrm>
        </p:grpSpPr>
        <p:sp>
          <p:nvSpPr>
            <p:cNvPr id="1027" name=""/>
            <p:cNvSpPr/>
            <p:nvPr/>
          </p:nvSpPr>
          <p:spPr>
            <a:xfrm>
              <a:off x="3063240" y="4267080"/>
              <a:ext cx="61812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5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8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391760" y="4267080"/>
              <a:ext cx="61812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5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8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098800" y="4191120"/>
              <a:ext cx="8586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endParaRPr b="0" lang="en-US" sz="8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pull dir="l"/>
      </p:transition>
    </mc:Choice>
    <mc:Fallback>
      <p:transition spd="slow">
        <p:pull dir="l"/>
      </p:transition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/>
          <p:nvPr/>
        </p:nvSpPr>
        <p:spPr>
          <a:xfrm>
            <a:off x="1447920" y="2125800"/>
            <a:ext cx="710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ivision is</a:t>
            </a: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NOT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ssociati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16440" y="2871720"/>
            <a:ext cx="826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(a </a:t>
            </a:r>
            <a:r>
              <a:rPr b="0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b) </a:t>
            </a:r>
            <a:r>
              <a:rPr b="0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c  </a:t>
            </a:r>
            <a:r>
              <a:rPr b="1" lang="en-US" sz="6600" spc="-1" strike="noStrike">
                <a:solidFill>
                  <a:srgbClr val="cc0000"/>
                </a:solidFill>
                <a:latin typeface="Symbol"/>
                <a:ea typeface="Symbol"/>
              </a:rPr>
              <a:t>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 a </a:t>
            </a:r>
            <a:r>
              <a:rPr b="0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(b </a:t>
            </a:r>
            <a:r>
              <a:rPr b="0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c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990720" y="4114800"/>
            <a:ext cx="716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(24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6)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2 =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2 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= 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063440" y="5181480"/>
            <a:ext cx="720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24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(6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2) = 24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3 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 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62120" y="121932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Division Ru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352680" y="5335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vision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"/>
          <p:cNvSpPr/>
          <p:nvPr/>
        </p:nvSpPr>
        <p:spPr>
          <a:xfrm>
            <a:off x="1143000" y="1981080"/>
            <a:ext cx="6934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y number divided by 1 is just that number.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62120" y="121932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Division Ru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447920" y="3886200"/>
            <a:ext cx="6705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a </a:t>
            </a:r>
            <a:r>
              <a:rPr b="0" lang="en-US" sz="6000" spc="-1" strike="noStrike">
                <a:solidFill>
                  <a:srgbClr val="3333cc"/>
                </a:solidFill>
                <a:latin typeface="Symbol"/>
                <a:ea typeface="Symbol"/>
              </a:rPr>
              <a:t>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 1 = 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362320" y="4876920"/>
            <a:ext cx="48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Comic Sans MS"/>
              </a:rPr>
              <a:t>23 </a:t>
            </a:r>
            <a:r>
              <a:rPr b="0" lang="en-US" sz="6000" spc="-1" strike="noStrike">
                <a:solidFill>
                  <a:srgbClr val="006600"/>
                </a:solidFill>
                <a:latin typeface="Symbol"/>
                <a:ea typeface="Symbol"/>
              </a:rPr>
              <a:t></a:t>
            </a:r>
            <a:r>
              <a:rPr b="0" lang="en-US" sz="6000" spc="-1" strike="noStrike">
                <a:solidFill>
                  <a:srgbClr val="006600"/>
                </a:solidFill>
                <a:latin typeface="Comic Sans MS"/>
              </a:rPr>
              <a:t> 1  = 2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352680" y="5335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vision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348720" y="533520"/>
            <a:ext cx="18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2720" y="1265400"/>
            <a:ext cx="8454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vision asks the question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98108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How can I split things into groups containing equal amount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3505320"/>
            <a:ext cx="533520" cy="53316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4191120"/>
            <a:ext cx="533520" cy="53316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3429000"/>
            <a:ext cx="533160" cy="5335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43400" y="4419720"/>
            <a:ext cx="533520" cy="53316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15000" y="3429000"/>
            <a:ext cx="533520" cy="5335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4495680"/>
            <a:ext cx="533520" cy="5335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114800"/>
            <a:ext cx="533520" cy="5335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3505320"/>
            <a:ext cx="533160" cy="53316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3809880"/>
            <a:ext cx="533160" cy="5335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4572000"/>
            <a:ext cx="533520" cy="5335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5257800"/>
            <a:ext cx="533520" cy="5335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4191120"/>
            <a:ext cx="533520" cy="53316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5181480"/>
            <a:ext cx="533160" cy="5335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29200" y="4495680"/>
            <a:ext cx="533520" cy="5335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81480" y="5562720"/>
            <a:ext cx="533520" cy="53316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29400" y="5181480"/>
            <a:ext cx="533520" cy="5335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4572000"/>
            <a:ext cx="533160" cy="5335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4876920"/>
            <a:ext cx="533160" cy="53316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1295280" y="1981080"/>
            <a:ext cx="716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y number divided by 0 is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NOT DEFINED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.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762120" y="121932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Division Ru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828800" y="358128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a </a:t>
            </a:r>
            <a:r>
              <a:rPr b="0" lang="en-US" sz="6000" spc="-1" strike="noStrike">
                <a:solidFill>
                  <a:srgbClr val="3333cc"/>
                </a:solidFill>
                <a:latin typeface="Symbol"/>
                <a:ea typeface="Symbol"/>
              </a:rPr>
              <a:t>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 0 =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648320" y="3505320"/>
            <a:ext cx="1295280" cy="1523880"/>
          </a:xfrm>
          <a:prstGeom prst="irregularSeal1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029200" y="38242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62120" y="510552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0" lang="en-US" sz="6000" spc="-1" strike="noStrike">
                <a:solidFill>
                  <a:srgbClr val="006600"/>
                </a:solidFill>
                <a:latin typeface="Comic Sans MS"/>
              </a:rPr>
              <a:t>23 </a:t>
            </a:r>
            <a:r>
              <a:rPr b="0" lang="en-US" sz="6000" spc="-1" strike="noStrike">
                <a:solidFill>
                  <a:srgbClr val="006600"/>
                </a:solidFill>
                <a:latin typeface="Symbol"/>
                <a:ea typeface="Symbol"/>
              </a:rPr>
              <a:t></a:t>
            </a:r>
            <a:r>
              <a:rPr b="0" lang="en-US" sz="6000" spc="-1" strike="noStrike">
                <a:solidFill>
                  <a:srgbClr val="006600"/>
                </a:solidFill>
                <a:latin typeface="Comic Sans MS"/>
              </a:rPr>
              <a:t> 0 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10080" y="4876920"/>
            <a:ext cx="1295640" cy="1523880"/>
          </a:xfrm>
          <a:prstGeom prst="irregularSeal1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791320" y="51958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352680" y="5335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vision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1066680" y="2057400"/>
            <a:ext cx="739152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9320" indent="-67932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 divided by 0 is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79320" indent="-67932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NOT DEFINED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.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79320" indent="-679320" algn="ctr"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62120" y="121932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Division Ru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62120" y="411480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0" lang="en-US" sz="6000" spc="-1" strike="noStrike">
                <a:solidFill>
                  <a:srgbClr val="006600"/>
                </a:solidFill>
                <a:latin typeface="Comic Sans MS"/>
              </a:rPr>
              <a:t>0 </a:t>
            </a:r>
            <a:r>
              <a:rPr b="0" lang="en-US" sz="6000" spc="-1" strike="noStrike">
                <a:solidFill>
                  <a:srgbClr val="006600"/>
                </a:solidFill>
                <a:latin typeface="Symbol"/>
                <a:ea typeface="Symbol"/>
              </a:rPr>
              <a:t></a:t>
            </a:r>
            <a:r>
              <a:rPr b="0" lang="en-US" sz="6000" spc="-1" strike="noStrike">
                <a:solidFill>
                  <a:srgbClr val="006600"/>
                </a:solidFill>
                <a:latin typeface="Comic Sans MS"/>
              </a:rPr>
              <a:t> 0 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952880" y="3809880"/>
            <a:ext cx="1295640" cy="1524240"/>
          </a:xfrm>
          <a:prstGeom prst="irregularSeal1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34120" y="412920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Comic Sans MS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352680" y="5335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vision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2782800" y="1233360"/>
            <a:ext cx="307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Divisibil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57200" y="2163600"/>
            <a:ext cx="80773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f the last digit is an even numbe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0, 2, 4, 6, 8 .. 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at number is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DIVISIBL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y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The number can be divided by 2 with nothing left over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765880" y="5334120"/>
            <a:ext cx="3018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omic Sans MS"/>
              </a:rPr>
              <a:t>16 </a:t>
            </a:r>
            <a:r>
              <a:rPr b="1" lang="en-US" sz="6000" spc="-1" strike="noStrike">
                <a:solidFill>
                  <a:srgbClr val="006600"/>
                </a:solidFill>
                <a:latin typeface="Symbol"/>
                <a:ea typeface="Symbol"/>
              </a:rPr>
              <a:t></a:t>
            </a:r>
            <a:r>
              <a:rPr b="1" lang="en-US" sz="6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6600"/>
                </a:solidFill>
                <a:latin typeface="Comic Sans MS"/>
              </a:rPr>
              <a:t>2 =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352680" y="5335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vision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0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1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/>
          <p:cNvSpPr/>
          <p:nvPr/>
        </p:nvSpPr>
        <p:spPr>
          <a:xfrm>
            <a:off x="533520" y="2133720"/>
            <a:ext cx="792468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f the last digit is 0 or 5,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at number is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DIVISIBL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y 5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(The number can be divided by 5 with nothing left over.)  </a:t>
            </a:r>
            <a:br>
              <a:rPr sz="3600"/>
            </a:b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45 </a:t>
            </a:r>
            <a:r>
              <a:rPr b="1" lang="en-US" sz="6600" spc="-1" strike="noStrike">
                <a:solidFill>
                  <a:srgbClr val="006600"/>
                </a:solidFill>
                <a:latin typeface="Symbol"/>
                <a:ea typeface="Symbol"/>
              </a:rPr>
              <a:t></a:t>
            </a:r>
            <a:r>
              <a:rPr b="1" lang="en-US" sz="6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5 = 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782800" y="1233360"/>
            <a:ext cx="307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Divisibil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352680" y="5335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vision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1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" descr=""/>
          <p:cNvPicPr/>
          <p:nvPr/>
        </p:nvPicPr>
        <p:blipFill>
          <a:blip r:embed="rId1"/>
          <a:stretch/>
        </p:blipFill>
        <p:spPr>
          <a:xfrm>
            <a:off x="3243240" y="1295280"/>
            <a:ext cx="2656080" cy="2667240"/>
          </a:xfrm>
          <a:prstGeom prst="rect">
            <a:avLst/>
          </a:prstGeom>
          <a:ln w="0">
            <a:noFill/>
          </a:ln>
        </p:spPr>
      </p:pic>
      <p:sp>
        <p:nvSpPr>
          <p:cNvPr id="1064" name=""/>
          <p:cNvSpPr/>
          <p:nvPr/>
        </p:nvSpPr>
        <p:spPr>
          <a:xfrm>
            <a:off x="2235600" y="609480"/>
            <a:ext cx="476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vision Word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1504800" y="3809880"/>
            <a:ext cx="5886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f5ff5"/>
                    </a:gs>
                    <a:gs pos="100000">
                      <a:srgbClr val="5f5ff5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 </a:t>
            </a: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f5ff5"/>
                    </a:gs>
                    <a:gs pos="100000">
                      <a:srgbClr val="5f5ff5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Division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f5ff5"/>
                  </a:gs>
                  <a:gs pos="100000">
                    <a:srgbClr val="5f5ff5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f5ff5"/>
                    </a:gs>
                    <a:gs pos="100000">
                      <a:srgbClr val="5f5ff5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Word Problems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f5ff5"/>
                  </a:gs>
                  <a:gs pos="100000">
                    <a:srgbClr val="5f5ff5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1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533520" y="182880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22 coworkers win a total of $32,032 in a lottery pool.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09480" y="3732120"/>
            <a:ext cx="4496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How much is each person’s spli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09480" y="3733920"/>
            <a:ext cx="4496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How much is each person’s spli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33520" y="182880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Comic Sans MS"/>
              </a:rPr>
              <a:t>22 coworkers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win a </a:t>
            </a:r>
            <a:r>
              <a:rPr b="0" lang="en-US" sz="4800" spc="-1" strike="noStrike">
                <a:solidFill>
                  <a:srgbClr val="006600"/>
                </a:solidFill>
                <a:latin typeface="Comic Sans MS"/>
              </a:rPr>
              <a:t>total of $32,03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in a lottery pool.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0" name="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3048120" cy="2516040"/>
          </a:xfrm>
          <a:prstGeom prst="rect">
            <a:avLst/>
          </a:prstGeom>
          <a:ln w="0">
            <a:noFill/>
          </a:ln>
        </p:spPr>
      </p:pic>
      <p:grpSp>
        <p:nvGrpSpPr>
          <p:cNvPr id="1071" name=""/>
          <p:cNvGrpSpPr/>
          <p:nvPr/>
        </p:nvGrpSpPr>
        <p:grpSpPr>
          <a:xfrm>
            <a:off x="573480" y="1138320"/>
            <a:ext cx="1758960" cy="1252080"/>
            <a:chOff x="573480" y="1138320"/>
            <a:chExt cx="1758960" cy="1252080"/>
          </a:xfrm>
        </p:grpSpPr>
        <p:sp>
          <p:nvSpPr>
            <p:cNvPr id="1072" name=""/>
            <p:cNvSpPr/>
            <p:nvPr/>
          </p:nvSpPr>
          <p:spPr>
            <a:xfrm rot="20897400">
              <a:off x="632880" y="1356840"/>
              <a:ext cx="1650960" cy="3812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rot="20897400">
              <a:off x="652680" y="1290600"/>
              <a:ext cx="1600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2235600" y="609480"/>
            <a:ext cx="476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vision Word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pull dir="l"/>
      </p:transition>
    </mc:Choice>
    <mc:Fallback>
      <p:transition spd="slow">
        <p:pull dir="l"/>
      </p:transition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"/>
          <p:cNvSpPr/>
          <p:nvPr/>
        </p:nvSpPr>
        <p:spPr>
          <a:xfrm>
            <a:off x="609480" y="3657600"/>
            <a:ext cx="4953240" cy="1312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alysis: divide total into 22 par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84800" y="1371600"/>
            <a:ext cx="415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Comic Sans MS"/>
              </a:rPr>
              <a:t>Given: 22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432160" y="2133720"/>
            <a:ext cx="205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Comic Sans MS"/>
              </a:rPr>
              <a:t>$32,03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838080" y="295596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Question: each gets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5410080" y="1812960"/>
                <a:ext cx="251460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32032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080" name=""/>
          <p:cNvSpPr/>
          <p:nvPr/>
        </p:nvSpPr>
        <p:spPr>
          <a:xfrm>
            <a:off x="6370560" y="12366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6694920" y="12366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076160" y="12222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479360" y="12366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989320" y="2406600"/>
            <a:ext cx="92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2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239880" y="3032280"/>
            <a:ext cx="104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370200" y="3565440"/>
            <a:ext cx="92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8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7" name=""/>
          <p:cNvGrpSpPr/>
          <p:nvPr/>
        </p:nvGrpSpPr>
        <p:grpSpPr>
          <a:xfrm>
            <a:off x="6574320" y="4159080"/>
            <a:ext cx="1033920" cy="703440"/>
            <a:chOff x="6574320" y="4159080"/>
            <a:chExt cx="1033920" cy="703440"/>
          </a:xfrm>
        </p:grpSpPr>
        <p:sp>
          <p:nvSpPr>
            <p:cNvPr id="1088" name=""/>
            <p:cNvSpPr/>
            <p:nvPr/>
          </p:nvSpPr>
          <p:spPr>
            <a:xfrm>
              <a:off x="6574320" y="415908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138080" y="415908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0" name=""/>
          <p:cNvSpPr/>
          <p:nvPr/>
        </p:nvSpPr>
        <p:spPr>
          <a:xfrm>
            <a:off x="6451920" y="4632480"/>
            <a:ext cx="121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1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884280" y="5165640"/>
            <a:ext cx="104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3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720840" y="5699160"/>
            <a:ext cx="121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13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248520" y="30481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400800" y="41911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705720" y="52578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858000" y="63244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69160" y="5105520"/>
            <a:ext cx="402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$1,456 e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235600" y="609480"/>
            <a:ext cx="476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vision Word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0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/>
          <p:nvPr/>
        </p:nvSpPr>
        <p:spPr>
          <a:xfrm>
            <a:off x="609480" y="129528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inside walls of a house are 11,056 sq. ft. One can of paint covers 175 sq. f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09480" y="3718080"/>
            <a:ext cx="5943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any cans of paint are necessary to complete the job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1" name="" descr=""/>
          <p:cNvPicPr/>
          <p:nvPr/>
        </p:nvPicPr>
        <p:blipFill>
          <a:blip r:embed="rId1"/>
          <a:stretch/>
        </p:blipFill>
        <p:spPr>
          <a:xfrm>
            <a:off x="6781680" y="4343400"/>
            <a:ext cx="1898640" cy="1905120"/>
          </a:xfrm>
          <a:prstGeom prst="rect">
            <a:avLst/>
          </a:prstGeom>
          <a:ln w="0">
            <a:noFill/>
          </a:ln>
        </p:spPr>
      </p:pic>
      <p:sp>
        <p:nvSpPr>
          <p:cNvPr id="1102" name=""/>
          <p:cNvSpPr/>
          <p:nvPr/>
        </p:nvSpPr>
        <p:spPr>
          <a:xfrm>
            <a:off x="609480" y="127944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inside walls of a house are </a:t>
            </a:r>
            <a:r>
              <a:rPr b="0" lang="en-US" sz="4000" spc="-1" strike="noStrike">
                <a:solidFill>
                  <a:srgbClr val="00cc00"/>
                </a:solidFill>
                <a:latin typeface="Comic Sans MS"/>
              </a:rPr>
              <a:t>11,056 sq. ft. One ca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of paint covers </a:t>
            </a:r>
            <a:r>
              <a:rPr b="0" lang="en-US" sz="4000" spc="-1" strike="noStrike">
                <a:solidFill>
                  <a:srgbClr val="00cc00"/>
                </a:solidFill>
                <a:latin typeface="Comic Sans MS"/>
              </a:rPr>
              <a:t>175 sq. ft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09480" y="3718080"/>
            <a:ext cx="6096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Comic Sans MS"/>
              </a:rPr>
              <a:t>How many can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of paint are necessary to complete the job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235600" y="609480"/>
            <a:ext cx="476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vision Word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5" name=""/>
          <p:cNvGrpSpPr/>
          <p:nvPr/>
        </p:nvGrpSpPr>
        <p:grpSpPr>
          <a:xfrm>
            <a:off x="990720" y="4419720"/>
            <a:ext cx="7238520" cy="1600200"/>
            <a:chOff x="990720" y="4419720"/>
            <a:chExt cx="7238520" cy="1600200"/>
          </a:xfrm>
        </p:grpSpPr>
        <p:sp>
          <p:nvSpPr>
            <p:cNvPr id="1106" name=""/>
            <p:cNvSpPr/>
            <p:nvPr/>
          </p:nvSpPr>
          <p:spPr>
            <a:xfrm>
              <a:off x="990720" y="4419720"/>
              <a:ext cx="7170840" cy="1600200"/>
            </a:xfrm>
            <a:prstGeom prst="roundRect">
              <a:avLst>
                <a:gd name="adj" fmla="val 16667"/>
              </a:avLst>
            </a:prstGeom>
            <a:solidFill>
              <a:srgbClr val="ff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125720" y="4648320"/>
              <a:ext cx="7103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Analysis:  divide total area by how much area is covered by each ca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8" name=""/>
          <p:cNvSpPr/>
          <p:nvPr/>
        </p:nvSpPr>
        <p:spPr>
          <a:xfrm>
            <a:off x="821880" y="1604880"/>
            <a:ext cx="579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Comic Sans MS"/>
              </a:rPr>
              <a:t>Given: 11,056 sq ft to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504880" y="2443320"/>
            <a:ext cx="326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Comic Sans MS"/>
              </a:rPr>
              <a:t>175 sq ft/c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68160" y="3586320"/>
            <a:ext cx="668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Comic Sans MS"/>
              </a:rPr>
              <a:t>Question:  how many ca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235600" y="609480"/>
            <a:ext cx="476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vision Word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"/>
          <p:cNvSpPr/>
          <p:nvPr/>
        </p:nvSpPr>
        <p:spPr>
          <a:xfrm>
            <a:off x="2673000" y="254160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ahoma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395800" y="4114800"/>
            <a:ext cx="114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ahoma"/>
              </a:rPr>
              <a:t>55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549440" y="3581280"/>
            <a:ext cx="164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ahoma"/>
              </a:rPr>
              <a:t>-10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052360" y="4648320"/>
            <a:ext cx="146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ahoma"/>
              </a:rPr>
              <a:t>- 5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859120" y="525780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33"/>
                </a:solidFill>
                <a:latin typeface="Comic Sans MS"/>
                <a:ea typeface="Tahoma"/>
              </a:rPr>
              <a:t>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971800" y="254160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ahoma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00200" y="421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676520" y="5334120"/>
            <a:ext cx="213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952880" y="3241800"/>
            <a:ext cx="2683080" cy="155628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Comic Sans MS"/>
                <a:ea typeface="Tahoma"/>
              </a:rPr>
              <a:t>63+ ca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838080" y="3151080"/>
                <a:ext cx="259092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5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11056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122" name=""/>
          <p:cNvSpPr/>
          <p:nvPr/>
        </p:nvSpPr>
        <p:spPr>
          <a:xfrm>
            <a:off x="4648320" y="4572000"/>
            <a:ext cx="342900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Comic Sans MS"/>
              </a:rPr>
              <a:t>need to bu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Comic Sans MS"/>
              </a:rPr>
              <a:t>64 c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505320" y="254160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600200" y="1393920"/>
            <a:ext cx="6324480" cy="70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11,056 ft</a:t>
            </a:r>
            <a:r>
              <a:rPr b="0" lang="en-US" sz="3600" spc="-1" strike="noStrike" baseline="30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ahoma"/>
              </a:rPr>
              <a:t>÷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 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  <a:ea typeface="Tahoma"/>
              </a:rPr>
              <a:t>175 ft</a:t>
            </a:r>
            <a:r>
              <a:rPr b="0" lang="en-US" sz="3600" spc="-1" strike="noStrike" baseline="30000">
                <a:solidFill>
                  <a:srgbClr val="00cc00"/>
                </a:solidFill>
                <a:latin typeface="Comic Sans MS"/>
                <a:ea typeface="Tahoma"/>
              </a:rPr>
              <a:t>2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  <a:ea typeface="Tahoma"/>
              </a:rPr>
              <a:t>/ca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 =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235600" y="609480"/>
            <a:ext cx="476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vision Word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4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3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3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3520" y="3505320"/>
            <a:ext cx="2590560" cy="25146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3733920"/>
            <a:ext cx="2590920" cy="25146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3505320"/>
            <a:ext cx="2590920" cy="25146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48720" y="533520"/>
            <a:ext cx="18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2720" y="1265400"/>
            <a:ext cx="8454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vision asks the question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198108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How can I split things into groups containing equal amount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4267080"/>
            <a:ext cx="533520" cy="5335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81280" y="4724280"/>
            <a:ext cx="533520" cy="5335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24280" y="3886200"/>
            <a:ext cx="533520" cy="5335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33920" y="4038480"/>
            <a:ext cx="533160" cy="5335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00800" y="3886200"/>
            <a:ext cx="533520" cy="5335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77320" y="5181480"/>
            <a:ext cx="533160" cy="5335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001000" y="4114800"/>
            <a:ext cx="533520" cy="5335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62920" y="3886200"/>
            <a:ext cx="533160" cy="5335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3657600"/>
            <a:ext cx="533160" cy="5335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4419720"/>
            <a:ext cx="533520" cy="53316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5257800"/>
            <a:ext cx="533520" cy="5335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28800" y="3581280"/>
            <a:ext cx="533520" cy="5335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57600" y="5410080"/>
            <a:ext cx="533520" cy="5335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5486400"/>
            <a:ext cx="533160" cy="5335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4648320"/>
            <a:ext cx="533520" cy="53316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05720" y="5105520"/>
            <a:ext cx="533160" cy="53316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648320"/>
            <a:ext cx="533520" cy="53316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5257800"/>
            <a:ext cx="533520" cy="5335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"/>
          <p:cNvSpPr/>
          <p:nvPr/>
        </p:nvSpPr>
        <p:spPr>
          <a:xfrm>
            <a:off x="3229920" y="533520"/>
            <a:ext cx="20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85800" y="1447920"/>
            <a:ext cx="769608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8" name="" descr=""/>
          <p:cNvPicPr/>
          <p:nvPr/>
        </p:nvPicPr>
        <p:blipFill>
          <a:blip r:embed="rId1"/>
          <a:stretch/>
        </p:blipFill>
        <p:spPr>
          <a:xfrm>
            <a:off x="3200400" y="1461960"/>
            <a:ext cx="2743200" cy="1890720"/>
          </a:xfrm>
          <a:prstGeom prst="rect">
            <a:avLst/>
          </a:prstGeom>
          <a:ln w="0">
            <a:noFill/>
          </a:ln>
        </p:spPr>
      </p:pic>
      <p:sp>
        <p:nvSpPr>
          <p:cNvPr id="1129" name=""/>
          <p:cNvSpPr txBox="1"/>
          <p:nvPr/>
        </p:nvSpPr>
        <p:spPr>
          <a:xfrm>
            <a:off x="380880" y="2990880"/>
            <a:ext cx="8001000" cy="325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 </a:t>
            </a: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Solving Equations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 </a:t>
            </a: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with Division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3217320" y="533520"/>
            <a:ext cx="20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865240" y="5349960"/>
            <a:ext cx="3027600" cy="109944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00"/>
                </a:solidFill>
                <a:latin typeface="Comic Sans MS"/>
              </a:rPr>
              <a:t>5X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3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2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105520" cy="3953160"/>
          </a:xfrm>
          <a:prstGeom prst="rect">
            <a:avLst/>
          </a:prstGeom>
          <a:ln w="0">
            <a:noFill/>
          </a:ln>
        </p:spPr>
      </p:pic>
      <p:sp>
        <p:nvSpPr>
          <p:cNvPr id="1133" name=""/>
          <p:cNvSpPr/>
          <p:nvPr/>
        </p:nvSpPr>
        <p:spPr>
          <a:xfrm>
            <a:off x="3842280" y="1401840"/>
            <a:ext cx="10310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2125800" y="3733920"/>
            <a:ext cx="4610520" cy="1099440"/>
            <a:chOff x="2125800" y="3733920"/>
            <a:chExt cx="4610520" cy="1099440"/>
          </a:xfrm>
        </p:grpSpPr>
        <p:sp>
          <p:nvSpPr>
            <p:cNvPr id="1135" name=""/>
            <p:cNvSpPr/>
            <p:nvPr/>
          </p:nvSpPr>
          <p:spPr>
            <a:xfrm>
              <a:off x="2125800" y="3733920"/>
              <a:ext cx="1151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6600"/>
                  </a:solidFill>
                  <a:latin typeface="Comic Sans MS"/>
                </a:rPr>
                <a:t>5X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595480" y="3733920"/>
              <a:ext cx="11408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Comic Sans MS"/>
                </a:rPr>
                <a:t>35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pull dir="l"/>
      </p:transition>
    </mc:Choice>
    <mc:Fallback>
      <p:transition spd="slow">
        <p:pull dir="l"/>
      </p:transition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7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7" name=""/>
          <p:cNvGrpSpPr/>
          <p:nvPr/>
        </p:nvGrpSpPr>
        <p:grpSpPr>
          <a:xfrm>
            <a:off x="914400" y="1600200"/>
            <a:ext cx="4571280" cy="1828440"/>
            <a:chOff x="914400" y="1600200"/>
            <a:chExt cx="4571280" cy="1828440"/>
          </a:xfrm>
        </p:grpSpPr>
        <p:sp>
          <p:nvSpPr>
            <p:cNvPr id="1138" name=""/>
            <p:cNvSpPr/>
            <p:nvPr/>
          </p:nvSpPr>
          <p:spPr>
            <a:xfrm>
              <a:off x="914400" y="1600200"/>
              <a:ext cx="4359240" cy="1828440"/>
            </a:xfrm>
            <a:prstGeom prst="rect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9" name=""/>
            <p:cNvGrpSpPr/>
            <p:nvPr/>
          </p:nvGrpSpPr>
          <p:grpSpPr>
            <a:xfrm>
              <a:off x="914400" y="1830600"/>
              <a:ext cx="4571280" cy="1266840"/>
              <a:chOff x="914400" y="1830600"/>
              <a:chExt cx="4571280" cy="1266840"/>
            </a:xfrm>
          </p:grpSpPr>
          <p:sp>
            <p:nvSpPr>
              <p:cNvPr id="1140" name=""/>
              <p:cNvSpPr/>
              <p:nvPr/>
            </p:nvSpPr>
            <p:spPr>
              <a:xfrm>
                <a:off x="2402640" y="1830600"/>
                <a:ext cx="1913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cc"/>
                    </a:solidFill>
                    <a:latin typeface="Comic Sans MS"/>
                  </a:rPr>
                  <a:t>RULE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914400" y="2369880"/>
                <a:ext cx="4571280" cy="72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spcBef>
                    <a:spcPts val="4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Do unto each side . . 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2" name=""/>
          <p:cNvGrpSpPr/>
          <p:nvPr/>
        </p:nvGrpSpPr>
        <p:grpSpPr>
          <a:xfrm>
            <a:off x="3581280" y="3886200"/>
            <a:ext cx="4419720" cy="1905120"/>
            <a:chOff x="3581280" y="3886200"/>
            <a:chExt cx="4419720" cy="1905120"/>
          </a:xfrm>
        </p:grpSpPr>
        <p:sp>
          <p:nvSpPr>
            <p:cNvPr id="1143" name=""/>
            <p:cNvSpPr/>
            <p:nvPr/>
          </p:nvSpPr>
          <p:spPr>
            <a:xfrm>
              <a:off x="3657600" y="3886200"/>
              <a:ext cx="4267080" cy="1905120"/>
            </a:xfrm>
            <a:prstGeom prst="rect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581280" y="4191120"/>
              <a:ext cx="4419720" cy="14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divide each side by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3217320" y="533520"/>
            <a:ext cx="20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6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105520" cy="3953160"/>
          </a:xfrm>
          <a:prstGeom prst="rect">
            <a:avLst/>
          </a:prstGeom>
          <a:ln w="0">
            <a:noFill/>
          </a:ln>
        </p:spPr>
      </p:pic>
      <p:sp>
        <p:nvSpPr>
          <p:cNvPr id="1147" name=""/>
          <p:cNvSpPr/>
          <p:nvPr/>
        </p:nvSpPr>
        <p:spPr>
          <a:xfrm>
            <a:off x="3842280" y="1401840"/>
            <a:ext cx="10310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" name=""/>
          <p:cNvGrpSpPr/>
          <p:nvPr/>
        </p:nvGrpSpPr>
        <p:grpSpPr>
          <a:xfrm>
            <a:off x="2743200" y="4419720"/>
            <a:ext cx="3276720" cy="2104920"/>
            <a:chOff x="2743200" y="4419720"/>
            <a:chExt cx="3276720" cy="2104920"/>
          </a:xfrm>
        </p:grpSpPr>
        <p:sp>
          <p:nvSpPr>
            <p:cNvPr id="1149" name=""/>
            <p:cNvSpPr/>
            <p:nvPr/>
          </p:nvSpPr>
          <p:spPr>
            <a:xfrm>
              <a:off x="2743200" y="4419720"/>
              <a:ext cx="3276720" cy="210492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6600"/>
                  </a:solidFill>
                  <a:latin typeface="Comic Sans MS"/>
                </a:rPr>
                <a:t>5X</a:t>
              </a:r>
              <a:r>
                <a:rPr b="0" lang="en-US" sz="6600" spc="-1" strike="noStrike">
                  <a:solidFill>
                    <a:srgbClr val="cc3300"/>
                  </a:solidFill>
                  <a:latin typeface="Comic Sans MS"/>
                </a:rPr>
                <a:t>   </a:t>
              </a:r>
              <a:r>
                <a:rPr b="0" lang="en-US" sz="6600" spc="-1" strike="noStrike">
                  <a:solidFill>
                    <a:srgbClr val="000000"/>
                  </a:solidFill>
                  <a:latin typeface="Comic Sans MS"/>
                </a:rPr>
                <a:t>35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cc3300"/>
                  </a:solidFill>
                  <a:latin typeface="Comic Sans MS"/>
                </a:rPr>
                <a:t> </a:t>
              </a:r>
              <a:r>
                <a:rPr b="0" lang="en-US" sz="6600" spc="-1" strike="noStrike">
                  <a:solidFill>
                    <a:srgbClr val="006600"/>
                  </a:solidFill>
                  <a:latin typeface="Comic Sans MS"/>
                </a:rPr>
                <a:t>5</a:t>
              </a:r>
              <a:r>
                <a:rPr b="0" lang="en-US" sz="6600" spc="-1" strike="noStrike">
                  <a:solidFill>
                    <a:srgbClr val="cc3300"/>
                  </a:solidFill>
                  <a:latin typeface="Comic Sans MS"/>
                </a:rPr>
                <a:t>     </a:t>
              </a:r>
              <a:r>
                <a:rPr b="0" lang="en-US" sz="6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895480" y="547056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572000" y="547056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012200" y="4905360"/>
              <a:ext cx="66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33cc"/>
                  </a:solidFill>
                  <a:latin typeface="Comic Sans MS"/>
                </a:rPr>
                <a:t>=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3" name=""/>
          <p:cNvGrpSpPr/>
          <p:nvPr/>
        </p:nvGrpSpPr>
        <p:grpSpPr>
          <a:xfrm>
            <a:off x="2055960" y="2438280"/>
            <a:ext cx="4725720" cy="2104920"/>
            <a:chOff x="2055960" y="2438280"/>
            <a:chExt cx="4725720" cy="2104920"/>
          </a:xfrm>
        </p:grpSpPr>
        <p:grpSp>
          <p:nvGrpSpPr>
            <p:cNvPr id="1154" name=""/>
            <p:cNvGrpSpPr/>
            <p:nvPr/>
          </p:nvGrpSpPr>
          <p:grpSpPr>
            <a:xfrm>
              <a:off x="2055960" y="2438280"/>
              <a:ext cx="4680360" cy="2104920"/>
              <a:chOff x="2055960" y="2438280"/>
              <a:chExt cx="4680360" cy="2104920"/>
            </a:xfrm>
          </p:grpSpPr>
          <p:grpSp>
            <p:nvGrpSpPr>
              <p:cNvPr id="1155" name=""/>
              <p:cNvGrpSpPr/>
              <p:nvPr/>
            </p:nvGrpSpPr>
            <p:grpSpPr>
              <a:xfrm>
                <a:off x="2055960" y="2438280"/>
                <a:ext cx="4680360" cy="2104920"/>
                <a:chOff x="2055960" y="2438280"/>
                <a:chExt cx="4680360" cy="210492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2055960" y="2438280"/>
                  <a:ext cx="1151640" cy="2104920"/>
                </a:xfrm>
                <a:prstGeom prst="rect">
                  <a:avLst/>
                </a:prstGeom>
                <a:solidFill>
                  <a:srgbClr val="00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600" spc="-1" strike="noStrike">
                      <a:solidFill>
                        <a:srgbClr val="006600"/>
                      </a:solidFill>
                      <a:latin typeface="Comic Sans MS"/>
                    </a:rPr>
                    <a:t>5X</a:t>
                  </a:r>
                  <a:endParaRPr b="0" lang="en-US" sz="6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600" spc="-1" strike="noStrike">
                      <a:solidFill>
                        <a:srgbClr val="006600"/>
                      </a:solidFill>
                      <a:latin typeface="Comic Sans MS"/>
                    </a:rPr>
                    <a:t> </a:t>
                  </a:r>
                  <a:r>
                    <a:rPr b="0" lang="en-US" sz="6600" spc="-1" strike="noStrike">
                      <a:solidFill>
                        <a:srgbClr val="006600"/>
                      </a:solidFill>
                      <a:latin typeface="Comic Sans MS"/>
                    </a:rPr>
                    <a:t>5</a:t>
                  </a:r>
                  <a:endParaRPr b="0" lang="en-US" sz="6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595480" y="2438280"/>
                  <a:ext cx="1140840" cy="2104920"/>
                </a:xfrm>
                <a:prstGeom prst="rect">
                  <a:avLst/>
                </a:prstGeom>
                <a:solidFill>
                  <a:srgbClr val="00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600" spc="-1" strike="noStrike">
                      <a:solidFill>
                        <a:srgbClr val="006600"/>
                      </a:solidFill>
                      <a:latin typeface="Comic Sans MS"/>
                    </a:rPr>
                    <a:t>35</a:t>
                  </a:r>
                  <a:endParaRPr b="0" lang="en-US" sz="6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600" spc="-1" strike="noStrike">
                      <a:solidFill>
                        <a:srgbClr val="006600"/>
                      </a:solidFill>
                      <a:latin typeface="Comic Sans MS"/>
                    </a:rPr>
                    <a:t> </a:t>
                  </a:r>
                  <a:r>
                    <a:rPr b="0" lang="en-US" sz="6600" spc="-1" strike="noStrike">
                      <a:solidFill>
                        <a:srgbClr val="006600"/>
                      </a:solidFill>
                      <a:latin typeface="Comic Sans MS"/>
                    </a:rPr>
                    <a:t>5</a:t>
                  </a:r>
                  <a:endParaRPr b="0" lang="en-US" sz="6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8" name=""/>
              <p:cNvSpPr/>
              <p:nvPr/>
            </p:nvSpPr>
            <p:spPr>
              <a:xfrm>
                <a:off x="2057400" y="3505320"/>
                <a:ext cx="12193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9" name=""/>
            <p:cNvSpPr/>
            <p:nvPr/>
          </p:nvSpPr>
          <p:spPr>
            <a:xfrm>
              <a:off x="5562720" y="3505320"/>
              <a:ext cx="1218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0" name=""/>
          <p:cNvSpPr/>
          <p:nvPr/>
        </p:nvSpPr>
        <p:spPr>
          <a:xfrm>
            <a:off x="691920" y="2757600"/>
            <a:ext cx="819360" cy="14346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mic Sans MS"/>
                <a:ea typeface="Tahoma"/>
              </a:rPr>
              <a:t>÷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8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3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"/>
          <p:cNvSpPr/>
          <p:nvPr/>
        </p:nvSpPr>
        <p:spPr>
          <a:xfrm>
            <a:off x="3217320" y="533520"/>
            <a:ext cx="20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143880" y="5349960"/>
            <a:ext cx="2067480" cy="109944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00"/>
                </a:solidFill>
                <a:latin typeface="Comic Sans MS"/>
              </a:rPr>
              <a:t>X</a:t>
            </a:r>
            <a:r>
              <a:rPr b="0" lang="en-US" sz="66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3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105520" cy="3953160"/>
          </a:xfrm>
          <a:prstGeom prst="rect">
            <a:avLst/>
          </a:prstGeom>
          <a:ln w="0">
            <a:noFill/>
          </a:ln>
        </p:spPr>
      </p:pic>
      <p:sp>
        <p:nvSpPr>
          <p:cNvPr id="1164" name=""/>
          <p:cNvSpPr/>
          <p:nvPr/>
        </p:nvSpPr>
        <p:spPr>
          <a:xfrm>
            <a:off x="3842280" y="1401840"/>
            <a:ext cx="10310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5" name=""/>
          <p:cNvGrpSpPr/>
          <p:nvPr/>
        </p:nvGrpSpPr>
        <p:grpSpPr>
          <a:xfrm>
            <a:off x="2193120" y="3701880"/>
            <a:ext cx="4342680" cy="1131480"/>
            <a:chOff x="2193120" y="3701880"/>
            <a:chExt cx="4342680" cy="1131480"/>
          </a:xfrm>
        </p:grpSpPr>
        <p:sp>
          <p:nvSpPr>
            <p:cNvPr id="1166" name=""/>
            <p:cNvSpPr/>
            <p:nvPr/>
          </p:nvSpPr>
          <p:spPr>
            <a:xfrm>
              <a:off x="2193120" y="3701880"/>
              <a:ext cx="671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6600"/>
                  </a:solidFill>
                  <a:latin typeface="Comic Sans MS"/>
                </a:rPr>
                <a:t>X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874840" y="3733920"/>
              <a:ext cx="66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0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"/>
          <p:cNvSpPr/>
          <p:nvPr/>
        </p:nvSpPr>
        <p:spPr>
          <a:xfrm>
            <a:off x="3293280" y="533520"/>
            <a:ext cx="20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09480" y="1812960"/>
            <a:ext cx="7712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am is thinking of buying a trailer.  The dealer has told him that the area is 1904 ft.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and that it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ngth is 56 ft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wide is i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0" name=""/>
          <p:cNvGrpSpPr/>
          <p:nvPr/>
        </p:nvGrpSpPr>
        <p:grpSpPr>
          <a:xfrm>
            <a:off x="4800960" y="3505320"/>
            <a:ext cx="3649320" cy="2331360"/>
            <a:chOff x="4800960" y="3505320"/>
            <a:chExt cx="3649320" cy="2331360"/>
          </a:xfrm>
        </p:grpSpPr>
        <p:grpSp>
          <p:nvGrpSpPr>
            <p:cNvPr id="1171" name=""/>
            <p:cNvGrpSpPr/>
            <p:nvPr/>
          </p:nvGrpSpPr>
          <p:grpSpPr>
            <a:xfrm>
              <a:off x="4800960" y="3505320"/>
              <a:ext cx="3649320" cy="2331360"/>
              <a:chOff x="4800960" y="3505320"/>
              <a:chExt cx="3649320" cy="2331360"/>
            </a:xfrm>
          </p:grpSpPr>
          <p:sp>
            <p:nvSpPr>
              <p:cNvPr id="1172" name=""/>
              <p:cNvSpPr/>
              <p:nvPr/>
            </p:nvSpPr>
            <p:spPr>
              <a:xfrm flipH="1">
                <a:off x="4913640" y="5252040"/>
                <a:ext cx="3479760" cy="566640"/>
              </a:xfrm>
              <a:custGeom>
                <a:avLst/>
                <a:gdLst/>
                <a:ahLst/>
                <a:rect l="l" t="t" r="r" b="b"/>
                <a:pathLst>
                  <a:path w="2257" h="287">
                    <a:moveTo>
                      <a:pt x="1874" y="287"/>
                    </a:moveTo>
                    <a:lnTo>
                      <a:pt x="2257" y="148"/>
                    </a:lnTo>
                    <a:lnTo>
                      <a:pt x="2245" y="148"/>
                    </a:lnTo>
                    <a:lnTo>
                      <a:pt x="2196" y="143"/>
                    </a:lnTo>
                    <a:lnTo>
                      <a:pt x="2117" y="134"/>
                    </a:lnTo>
                    <a:lnTo>
                      <a:pt x="2014" y="125"/>
                    </a:lnTo>
                    <a:lnTo>
                      <a:pt x="1892" y="116"/>
                    </a:lnTo>
                    <a:lnTo>
                      <a:pt x="1764" y="107"/>
                    </a:lnTo>
                    <a:lnTo>
                      <a:pt x="1630" y="94"/>
                    </a:lnTo>
                    <a:lnTo>
                      <a:pt x="1502" y="85"/>
                    </a:lnTo>
                    <a:lnTo>
                      <a:pt x="1387" y="76"/>
                    </a:lnTo>
                    <a:lnTo>
                      <a:pt x="1289" y="67"/>
                    </a:lnTo>
                    <a:lnTo>
                      <a:pt x="1223" y="62"/>
                    </a:lnTo>
                    <a:lnTo>
                      <a:pt x="1192" y="58"/>
                    </a:lnTo>
                    <a:lnTo>
                      <a:pt x="1192" y="58"/>
                    </a:lnTo>
                    <a:lnTo>
                      <a:pt x="1198" y="54"/>
                    </a:lnTo>
                    <a:lnTo>
                      <a:pt x="1223" y="40"/>
                    </a:lnTo>
                    <a:lnTo>
                      <a:pt x="1216" y="22"/>
                    </a:lnTo>
                    <a:lnTo>
                      <a:pt x="1216" y="22"/>
                    </a:lnTo>
                    <a:lnTo>
                      <a:pt x="1192" y="13"/>
                    </a:lnTo>
                    <a:lnTo>
                      <a:pt x="1180" y="9"/>
                    </a:lnTo>
                    <a:lnTo>
                      <a:pt x="1162" y="9"/>
                    </a:lnTo>
                    <a:lnTo>
                      <a:pt x="1150" y="13"/>
                    </a:lnTo>
                    <a:lnTo>
                      <a:pt x="1131" y="18"/>
                    </a:lnTo>
                    <a:lnTo>
                      <a:pt x="1119" y="27"/>
                    </a:lnTo>
                    <a:lnTo>
                      <a:pt x="1107" y="31"/>
                    </a:lnTo>
                    <a:lnTo>
                      <a:pt x="1095" y="31"/>
                    </a:lnTo>
                    <a:lnTo>
                      <a:pt x="1077" y="31"/>
                    </a:lnTo>
                    <a:lnTo>
                      <a:pt x="1077" y="31"/>
                    </a:lnTo>
                    <a:lnTo>
                      <a:pt x="1077" y="27"/>
                    </a:lnTo>
                    <a:lnTo>
                      <a:pt x="1083" y="27"/>
                    </a:lnTo>
                    <a:lnTo>
                      <a:pt x="1077" y="22"/>
                    </a:lnTo>
                    <a:lnTo>
                      <a:pt x="1077" y="22"/>
                    </a:lnTo>
                    <a:lnTo>
                      <a:pt x="900" y="13"/>
                    </a:lnTo>
                    <a:lnTo>
                      <a:pt x="596" y="4"/>
                    </a:lnTo>
                    <a:lnTo>
                      <a:pt x="346" y="0"/>
                    </a:lnTo>
                    <a:lnTo>
                      <a:pt x="346" y="0"/>
                    </a:lnTo>
                    <a:lnTo>
                      <a:pt x="334" y="0"/>
                    </a:lnTo>
                    <a:lnTo>
                      <a:pt x="322" y="4"/>
                    </a:lnTo>
                    <a:lnTo>
                      <a:pt x="298" y="9"/>
                    </a:lnTo>
                    <a:lnTo>
                      <a:pt x="267" y="18"/>
                    </a:lnTo>
                    <a:lnTo>
                      <a:pt x="237" y="27"/>
                    </a:lnTo>
                    <a:lnTo>
                      <a:pt x="200" y="36"/>
                    </a:lnTo>
                    <a:lnTo>
                      <a:pt x="164" y="45"/>
                    </a:lnTo>
                    <a:lnTo>
                      <a:pt x="127" y="58"/>
                    </a:lnTo>
                    <a:lnTo>
                      <a:pt x="97" y="67"/>
                    </a:lnTo>
                    <a:lnTo>
                      <a:pt x="60" y="76"/>
                    </a:lnTo>
                    <a:lnTo>
                      <a:pt x="36" y="80"/>
                    </a:lnTo>
                    <a:lnTo>
                      <a:pt x="18" y="85"/>
                    </a:lnTo>
                    <a:lnTo>
                      <a:pt x="6" y="89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187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H="1">
                <a:off x="4828320" y="5526360"/>
                <a:ext cx="684360" cy="309960"/>
              </a:xfrm>
              <a:custGeom>
                <a:avLst/>
                <a:gdLst/>
                <a:ahLst/>
                <a:rect l="l" t="t" r="r" b="b"/>
                <a:pathLst>
                  <a:path w="444" h="157">
                    <a:moveTo>
                      <a:pt x="389" y="18"/>
                    </a:moveTo>
                    <a:lnTo>
                      <a:pt x="389" y="0"/>
                    </a:lnTo>
                    <a:lnTo>
                      <a:pt x="0" y="139"/>
                    </a:lnTo>
                    <a:lnTo>
                      <a:pt x="12" y="157"/>
                    </a:lnTo>
                    <a:lnTo>
                      <a:pt x="395" y="18"/>
                    </a:lnTo>
                    <a:lnTo>
                      <a:pt x="389" y="0"/>
                    </a:lnTo>
                    <a:lnTo>
                      <a:pt x="395" y="18"/>
                    </a:lnTo>
                    <a:lnTo>
                      <a:pt x="444" y="0"/>
                    </a:lnTo>
                    <a:lnTo>
                      <a:pt x="389" y="0"/>
                    </a:lnTo>
                    <a:lnTo>
                      <a:pt x="38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 flipH="1">
                <a:off x="4913280" y="5526360"/>
                <a:ext cx="18360" cy="356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18"/>
                    </a:moveTo>
                    <a:lnTo>
                      <a:pt x="0" y="18"/>
                    </a:lnTo>
                    <a:lnTo>
                      <a:pt x="12" y="1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flipH="1">
                <a:off x="4922280" y="5516640"/>
                <a:ext cx="84960" cy="45360"/>
              </a:xfrm>
              <a:custGeom>
                <a:avLst/>
                <a:gdLst/>
                <a:ahLst/>
                <a:rect l="l" t="t" r="r" b="b"/>
                <a:pathLst>
                  <a:path w="55" h="23">
                    <a:moveTo>
                      <a:pt x="0" y="18"/>
                    </a:moveTo>
                    <a:lnTo>
                      <a:pt x="0" y="18"/>
                    </a:lnTo>
                    <a:lnTo>
                      <a:pt x="49" y="23"/>
                    </a:lnTo>
                    <a:lnTo>
                      <a:pt x="55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H="1">
                <a:off x="5007240" y="5499360"/>
                <a:ext cx="121320" cy="52920"/>
              </a:xfrm>
              <a:custGeom>
                <a:avLst/>
                <a:gdLst/>
                <a:ahLst/>
                <a:rect l="l" t="t" r="r" b="b"/>
                <a:pathLst>
                  <a:path w="79" h="27">
                    <a:moveTo>
                      <a:pt x="0" y="18"/>
                    </a:moveTo>
                    <a:lnTo>
                      <a:pt x="0" y="18"/>
                    </a:lnTo>
                    <a:lnTo>
                      <a:pt x="79" y="27"/>
                    </a:lnTo>
                    <a:lnTo>
                      <a:pt x="79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>
                <a:off x="5129280" y="5481360"/>
                <a:ext cx="158400" cy="5292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0" y="18"/>
                    </a:moveTo>
                    <a:lnTo>
                      <a:pt x="0" y="18"/>
                    </a:lnTo>
                    <a:lnTo>
                      <a:pt x="103" y="27"/>
                    </a:lnTo>
                    <a:lnTo>
                      <a:pt x="103" y="9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flipH="1">
                <a:off x="5278680" y="5463360"/>
                <a:ext cx="196920" cy="52920"/>
              </a:xfrm>
              <a:custGeom>
                <a:avLst/>
                <a:gdLst/>
                <a:ahLst/>
                <a:rect l="l" t="t" r="r" b="b"/>
                <a:pathLst>
                  <a:path w="128" h="27">
                    <a:moveTo>
                      <a:pt x="0" y="18"/>
                    </a:moveTo>
                    <a:lnTo>
                      <a:pt x="0" y="18"/>
                    </a:lnTo>
                    <a:lnTo>
                      <a:pt x="122" y="27"/>
                    </a:lnTo>
                    <a:lnTo>
                      <a:pt x="12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flipH="1">
                <a:off x="5475960" y="5446080"/>
                <a:ext cx="206640" cy="52920"/>
              </a:xfrm>
              <a:custGeom>
                <a:avLst/>
                <a:gdLst/>
                <a:ahLst/>
                <a:rect l="l" t="t" r="r" b="b"/>
                <a:pathLst>
                  <a:path w="134" h="27">
                    <a:moveTo>
                      <a:pt x="0" y="18"/>
                    </a:moveTo>
                    <a:lnTo>
                      <a:pt x="0" y="18"/>
                    </a:lnTo>
                    <a:lnTo>
                      <a:pt x="134" y="27"/>
                    </a:lnTo>
                    <a:lnTo>
                      <a:pt x="134" y="9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 flipH="1">
                <a:off x="5673600" y="5419800"/>
                <a:ext cx="206640" cy="61200"/>
              </a:xfrm>
              <a:custGeom>
                <a:avLst/>
                <a:gdLst/>
                <a:ahLst/>
                <a:rect l="l" t="t" r="r" b="b"/>
                <a:pathLst>
                  <a:path w="134" h="31">
                    <a:moveTo>
                      <a:pt x="0" y="18"/>
                    </a:moveTo>
                    <a:lnTo>
                      <a:pt x="0" y="18"/>
                    </a:lnTo>
                    <a:lnTo>
                      <a:pt x="128" y="31"/>
                    </a:lnTo>
                    <a:lnTo>
                      <a:pt x="13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 flipH="1">
                <a:off x="5880240" y="5402520"/>
                <a:ext cx="206640" cy="52920"/>
              </a:xfrm>
              <a:custGeom>
                <a:avLst/>
                <a:gdLst/>
                <a:ahLst/>
                <a:rect l="l" t="t" r="r" b="b"/>
                <a:pathLst>
                  <a:path w="134" h="27">
                    <a:moveTo>
                      <a:pt x="0" y="18"/>
                    </a:moveTo>
                    <a:lnTo>
                      <a:pt x="0" y="18"/>
                    </a:lnTo>
                    <a:lnTo>
                      <a:pt x="134" y="27"/>
                    </a:lnTo>
                    <a:lnTo>
                      <a:pt x="134" y="9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flipH="1">
                <a:off x="6077520" y="5384520"/>
                <a:ext cx="186480" cy="5292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18"/>
                    </a:moveTo>
                    <a:lnTo>
                      <a:pt x="0" y="18"/>
                    </a:lnTo>
                    <a:lnTo>
                      <a:pt x="115" y="27"/>
                    </a:lnTo>
                    <a:lnTo>
                      <a:pt x="121" y="9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H="1">
                <a:off x="6254640" y="5366520"/>
                <a:ext cx="150840" cy="52920"/>
              </a:xfrm>
              <a:custGeom>
                <a:avLst/>
                <a:gdLst/>
                <a:ahLst/>
                <a:rect l="l" t="t" r="r" b="b"/>
                <a:pathLst>
                  <a:path w="98" h="27">
                    <a:moveTo>
                      <a:pt x="0" y="18"/>
                    </a:moveTo>
                    <a:lnTo>
                      <a:pt x="0" y="18"/>
                    </a:lnTo>
                    <a:lnTo>
                      <a:pt x="92" y="27"/>
                    </a:lnTo>
                    <a:lnTo>
                      <a:pt x="9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 flipH="1">
                <a:off x="6405840" y="5358960"/>
                <a:ext cx="101520" cy="43200"/>
              </a:xfrm>
              <a:custGeom>
                <a:avLst/>
                <a:gdLst/>
                <a:ahLst/>
                <a:rect l="l" t="t" r="r" b="b"/>
                <a:pathLst>
                  <a:path w="66" h="22">
                    <a:moveTo>
                      <a:pt x="0" y="17"/>
                    </a:moveTo>
                    <a:lnTo>
                      <a:pt x="0" y="17"/>
                    </a:lnTo>
                    <a:lnTo>
                      <a:pt x="66" y="22"/>
                    </a:lnTo>
                    <a:lnTo>
                      <a:pt x="66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flipH="1">
                <a:off x="6507000" y="5349240"/>
                <a:ext cx="93960" cy="43200"/>
              </a:xfrm>
              <a:custGeom>
                <a:avLst/>
                <a:gdLst/>
                <a:ahLst/>
                <a:rect l="l" t="t" r="r" b="b"/>
                <a:pathLst>
                  <a:path w="61" h="22">
                    <a:moveTo>
                      <a:pt x="18" y="5"/>
                    </a:moveTo>
                    <a:lnTo>
                      <a:pt x="24" y="18"/>
                    </a:lnTo>
                    <a:lnTo>
                      <a:pt x="61" y="22"/>
                    </a:lnTo>
                    <a:lnTo>
                      <a:pt x="61" y="5"/>
                    </a:lnTo>
                    <a:lnTo>
                      <a:pt x="30" y="0"/>
                    </a:lnTo>
                    <a:lnTo>
                      <a:pt x="36" y="18"/>
                    </a:lnTo>
                    <a:lnTo>
                      <a:pt x="18" y="5"/>
                    </a:lnTo>
                    <a:lnTo>
                      <a:pt x="0" y="18"/>
                    </a:lnTo>
                    <a:lnTo>
                      <a:pt x="24" y="18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flipH="1">
                <a:off x="6545880" y="5358960"/>
                <a:ext cx="55080" cy="25200"/>
              </a:xfrm>
              <a:custGeom>
                <a:avLst/>
                <a:gdLst/>
                <a:ahLst/>
                <a:rect l="l" t="t" r="r" b="b"/>
                <a:pathLst>
                  <a:path w="36" h="13">
                    <a:moveTo>
                      <a:pt x="18" y="0"/>
                    </a:moveTo>
                    <a:lnTo>
                      <a:pt x="30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6" y="13"/>
                    </a:lnTo>
                    <a:lnTo>
                      <a:pt x="18" y="0"/>
                    </a:lnTo>
                    <a:lnTo>
                      <a:pt x="0" y="13"/>
                    </a:lnTo>
                    <a:lnTo>
                      <a:pt x="24" y="13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H="1">
                <a:off x="6537240" y="5341320"/>
                <a:ext cx="36720" cy="4320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12" y="0"/>
                    </a:moveTo>
                    <a:lnTo>
                      <a:pt x="12" y="0"/>
                    </a:lnTo>
                    <a:lnTo>
                      <a:pt x="0" y="9"/>
                    </a:lnTo>
                    <a:lnTo>
                      <a:pt x="18" y="22"/>
                    </a:lnTo>
                    <a:lnTo>
                      <a:pt x="24" y="17"/>
                    </a:lnTo>
                    <a:lnTo>
                      <a:pt x="24" y="17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flipH="1">
                <a:off x="6479640" y="5313240"/>
                <a:ext cx="75240" cy="6120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18" y="14"/>
                    </a:moveTo>
                    <a:lnTo>
                      <a:pt x="24" y="0"/>
                    </a:lnTo>
                    <a:lnTo>
                      <a:pt x="0" y="14"/>
                    </a:lnTo>
                    <a:lnTo>
                      <a:pt x="12" y="31"/>
                    </a:lnTo>
                    <a:lnTo>
                      <a:pt x="37" y="18"/>
                    </a:lnTo>
                    <a:lnTo>
                      <a:pt x="43" y="9"/>
                    </a:lnTo>
                    <a:lnTo>
                      <a:pt x="37" y="18"/>
                    </a:lnTo>
                    <a:lnTo>
                      <a:pt x="49" y="14"/>
                    </a:lnTo>
                    <a:lnTo>
                      <a:pt x="43" y="9"/>
                    </a:lnTo>
                    <a:lnTo>
                      <a:pt x="18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flipH="1">
                <a:off x="6489360" y="5277960"/>
                <a:ext cx="47520" cy="6300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6" y="18"/>
                    </a:moveTo>
                    <a:lnTo>
                      <a:pt x="0" y="14"/>
                    </a:lnTo>
                    <a:lnTo>
                      <a:pt x="6" y="32"/>
                    </a:lnTo>
                    <a:lnTo>
                      <a:pt x="31" y="27"/>
                    </a:lnTo>
                    <a:lnTo>
                      <a:pt x="25" y="5"/>
                    </a:lnTo>
                    <a:lnTo>
                      <a:pt x="19" y="0"/>
                    </a:lnTo>
                    <a:lnTo>
                      <a:pt x="25" y="5"/>
                    </a:lnTo>
                    <a:lnTo>
                      <a:pt x="19" y="5"/>
                    </a:lnTo>
                    <a:lnTo>
                      <a:pt x="19" y="0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 flipH="1">
                <a:off x="6498360" y="5277960"/>
                <a:ext cx="29160" cy="3528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18"/>
                    </a:move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13" y="0"/>
                    </a:lnTo>
                    <a:lnTo>
                      <a:pt x="19" y="5"/>
                    </a:lnTo>
                    <a:lnTo>
                      <a:pt x="13" y="5"/>
                    </a:lnTo>
                    <a:lnTo>
                      <a:pt x="13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H="1">
                <a:off x="6507000" y="5259960"/>
                <a:ext cx="57240" cy="5292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6" y="18"/>
                    </a:moveTo>
                    <a:lnTo>
                      <a:pt x="0" y="18"/>
                    </a:lnTo>
                    <a:lnTo>
                      <a:pt x="24" y="27"/>
                    </a:lnTo>
                    <a:lnTo>
                      <a:pt x="37" y="9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 flipH="1">
                <a:off x="6546600" y="5252040"/>
                <a:ext cx="36720" cy="4320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6" y="18"/>
                    </a:moveTo>
                    <a:lnTo>
                      <a:pt x="0" y="18"/>
                    </a:lnTo>
                    <a:lnTo>
                      <a:pt x="18" y="22"/>
                    </a:lnTo>
                    <a:lnTo>
                      <a:pt x="24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 flipH="1">
                <a:off x="6574320" y="5252040"/>
                <a:ext cx="36720" cy="356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12" y="18"/>
                    </a:moveTo>
                    <a:lnTo>
                      <a:pt x="6" y="18"/>
                    </a:lnTo>
                    <a:lnTo>
                      <a:pt x="24" y="18"/>
                    </a:lnTo>
                    <a:lnTo>
                      <a:pt x="24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 flipH="1">
                <a:off x="6592680" y="5252040"/>
                <a:ext cx="38160" cy="4320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13" y="22"/>
                    </a:moveTo>
                    <a:lnTo>
                      <a:pt x="13" y="22"/>
                    </a:lnTo>
                    <a:lnTo>
                      <a:pt x="25" y="18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3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H="1">
                <a:off x="6610680" y="5259960"/>
                <a:ext cx="47880" cy="45000"/>
              </a:xfrm>
              <a:custGeom>
                <a:avLst/>
                <a:gdLst/>
                <a:ahLst/>
                <a:rect l="l" t="t" r="r" b="b"/>
                <a:pathLst>
                  <a:path w="31" h="23">
                    <a:moveTo>
                      <a:pt x="12" y="23"/>
                    </a:moveTo>
                    <a:lnTo>
                      <a:pt x="12" y="23"/>
                    </a:lnTo>
                    <a:lnTo>
                      <a:pt x="31" y="18"/>
                    </a:lnTo>
                    <a:lnTo>
                      <a:pt x="18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flipH="1">
                <a:off x="6640560" y="5277960"/>
                <a:ext cx="36720" cy="4500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12" y="23"/>
                    </a:moveTo>
                    <a:lnTo>
                      <a:pt x="12" y="23"/>
                    </a:lnTo>
                    <a:lnTo>
                      <a:pt x="24" y="14"/>
                    </a:lnTo>
                    <a:lnTo>
                      <a:pt x="12" y="0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flipH="1">
                <a:off x="6658920" y="5288040"/>
                <a:ext cx="27360" cy="43200"/>
              </a:xfrm>
              <a:custGeom>
                <a:avLst/>
                <a:gdLst/>
                <a:ahLst/>
                <a:rect l="l" t="t" r="r" b="b"/>
                <a:pathLst>
                  <a:path w="18" h="22">
                    <a:moveTo>
                      <a:pt x="0" y="22"/>
                    </a:moveTo>
                    <a:lnTo>
                      <a:pt x="6" y="18"/>
                    </a:lnTo>
                    <a:lnTo>
                      <a:pt x="18" y="18"/>
                    </a:lnTo>
                    <a:lnTo>
                      <a:pt x="12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6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H="1">
                <a:off x="6686280" y="5295600"/>
                <a:ext cx="18360" cy="356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18"/>
                    </a:moveTo>
                    <a:lnTo>
                      <a:pt x="0" y="18"/>
                    </a:lnTo>
                    <a:lnTo>
                      <a:pt x="12" y="1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flipH="1">
                <a:off x="6705360" y="5295600"/>
                <a:ext cx="38160" cy="3564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0" y="14"/>
                    </a:moveTo>
                    <a:lnTo>
                      <a:pt x="7" y="18"/>
                    </a:lnTo>
                    <a:lnTo>
                      <a:pt x="25" y="18"/>
                    </a:lnTo>
                    <a:lnTo>
                      <a:pt x="25" y="0"/>
                    </a:lnTo>
                    <a:lnTo>
                      <a:pt x="7" y="0"/>
                    </a:lnTo>
                    <a:lnTo>
                      <a:pt x="19" y="0"/>
                    </a:lnTo>
                    <a:lnTo>
                      <a:pt x="0" y="14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flipH="1">
                <a:off x="6714000" y="5295600"/>
                <a:ext cx="29160" cy="356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14"/>
                    </a:move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19" y="0"/>
                    </a:lnTo>
                    <a:lnTo>
                      <a:pt x="0" y="14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flipH="1">
                <a:off x="6714360" y="5288040"/>
                <a:ext cx="66240" cy="35280"/>
              </a:xfrm>
              <a:custGeom>
                <a:avLst/>
                <a:gdLst/>
                <a:ahLst/>
                <a:rect l="l" t="t" r="r" b="b"/>
                <a:pathLst>
                  <a:path w="43" h="18">
                    <a:moveTo>
                      <a:pt x="31" y="0"/>
                    </a:moveTo>
                    <a:lnTo>
                      <a:pt x="18" y="18"/>
                    </a:lnTo>
                    <a:lnTo>
                      <a:pt x="24" y="18"/>
                    </a:lnTo>
                    <a:lnTo>
                      <a:pt x="43" y="4"/>
                    </a:lnTo>
                    <a:lnTo>
                      <a:pt x="37" y="0"/>
                    </a:lnTo>
                    <a:lnTo>
                      <a:pt x="31" y="18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18" y="13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H="1">
                <a:off x="6649200" y="5288040"/>
                <a:ext cx="83160" cy="3528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0" y="18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0"/>
                    </a:lnTo>
                    <a:lnTo>
                      <a:pt x="6" y="18"/>
                    </a:lnTo>
                    <a:lnTo>
                      <a:pt x="54" y="18"/>
                    </a:lnTo>
                    <a:lnTo>
                      <a:pt x="12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H="1">
                <a:off x="6714000" y="5277960"/>
                <a:ext cx="29160" cy="4500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0" y="18"/>
                    </a:moveTo>
                    <a:lnTo>
                      <a:pt x="0" y="18"/>
                    </a:lnTo>
                    <a:lnTo>
                      <a:pt x="7" y="23"/>
                    </a:lnTo>
                    <a:lnTo>
                      <a:pt x="19" y="5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flipH="1">
                <a:off x="6732720" y="5277960"/>
                <a:ext cx="10800" cy="3528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0" y="18"/>
                    </a:move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flipH="1">
                <a:off x="6732720" y="5259960"/>
                <a:ext cx="272880" cy="52920"/>
              </a:xfrm>
              <a:custGeom>
                <a:avLst/>
                <a:gdLst/>
                <a:ahLst/>
                <a:rect l="l" t="t" r="r" b="b"/>
                <a:pathLst>
                  <a:path w="177" h="27">
                    <a:moveTo>
                      <a:pt x="0" y="18"/>
                    </a:moveTo>
                    <a:lnTo>
                      <a:pt x="0" y="18"/>
                    </a:lnTo>
                    <a:lnTo>
                      <a:pt x="170" y="27"/>
                    </a:lnTo>
                    <a:lnTo>
                      <a:pt x="177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flipH="1">
                <a:off x="7005600" y="5242320"/>
                <a:ext cx="468360" cy="52920"/>
              </a:xfrm>
              <a:custGeom>
                <a:avLst/>
                <a:gdLst/>
                <a:ahLst/>
                <a:rect l="l" t="t" r="r" b="b"/>
                <a:pathLst>
                  <a:path w="304" h="27">
                    <a:moveTo>
                      <a:pt x="0" y="18"/>
                    </a:moveTo>
                    <a:lnTo>
                      <a:pt x="0" y="18"/>
                    </a:lnTo>
                    <a:lnTo>
                      <a:pt x="304" y="27"/>
                    </a:lnTo>
                    <a:lnTo>
                      <a:pt x="304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H="1">
                <a:off x="7474320" y="5224680"/>
                <a:ext cx="394560" cy="52920"/>
              </a:xfrm>
              <a:custGeom>
                <a:avLst/>
                <a:gdLst/>
                <a:ahLst/>
                <a:rect l="l" t="t" r="r" b="b"/>
                <a:pathLst>
                  <a:path w="256" h="27">
                    <a:moveTo>
                      <a:pt x="12" y="18"/>
                    </a:moveTo>
                    <a:lnTo>
                      <a:pt x="6" y="23"/>
                    </a:lnTo>
                    <a:lnTo>
                      <a:pt x="256" y="27"/>
                    </a:lnTo>
                    <a:lnTo>
                      <a:pt x="256" y="9"/>
                    </a:lnTo>
                    <a:lnTo>
                      <a:pt x="6" y="0"/>
                    </a:lnTo>
                    <a:lnTo>
                      <a:pt x="0" y="5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H="1">
                <a:off x="7850160" y="5224680"/>
                <a:ext cx="18360" cy="352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12" y="18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0" y="5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flipH="1">
                <a:off x="7850880" y="5234760"/>
                <a:ext cx="36720" cy="3528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12" y="18"/>
                    </a:moveTo>
                    <a:lnTo>
                      <a:pt x="12" y="18"/>
                    </a:lnTo>
                    <a:lnTo>
                      <a:pt x="24" y="13"/>
                    </a:lnTo>
                    <a:lnTo>
                      <a:pt x="12" y="0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flipH="1">
                <a:off x="7869240" y="5234760"/>
                <a:ext cx="36720" cy="4320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6" y="22"/>
                    </a:moveTo>
                    <a:lnTo>
                      <a:pt x="6" y="22"/>
                    </a:lnTo>
                    <a:lnTo>
                      <a:pt x="24" y="18"/>
                    </a:lnTo>
                    <a:lnTo>
                      <a:pt x="18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6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H="1">
                <a:off x="7896960" y="5242320"/>
                <a:ext cx="46080" cy="45360"/>
              </a:xfrm>
              <a:custGeom>
                <a:avLst/>
                <a:gdLst/>
                <a:ahLst/>
                <a:rect l="l" t="t" r="r" b="b"/>
                <a:pathLst>
                  <a:path w="30" h="23">
                    <a:moveTo>
                      <a:pt x="6" y="23"/>
                    </a:moveTo>
                    <a:lnTo>
                      <a:pt x="6" y="23"/>
                    </a:lnTo>
                    <a:lnTo>
                      <a:pt x="30" y="18"/>
                    </a:lnTo>
                    <a:lnTo>
                      <a:pt x="24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H="1">
                <a:off x="7933320" y="5252040"/>
                <a:ext cx="57240" cy="5292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12" y="27"/>
                    </a:moveTo>
                    <a:lnTo>
                      <a:pt x="6" y="27"/>
                    </a:lnTo>
                    <a:lnTo>
                      <a:pt x="37" y="18"/>
                    </a:lnTo>
                    <a:lnTo>
                      <a:pt x="31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flipH="1">
                <a:off x="7972200" y="5270040"/>
                <a:ext cx="64440" cy="52920"/>
              </a:xfrm>
              <a:custGeom>
                <a:avLst/>
                <a:gdLst/>
                <a:ahLst/>
                <a:rect l="l" t="t" r="r" b="b"/>
                <a:pathLst>
                  <a:path w="42" h="27">
                    <a:moveTo>
                      <a:pt x="12" y="27"/>
                    </a:moveTo>
                    <a:lnTo>
                      <a:pt x="12" y="27"/>
                    </a:lnTo>
                    <a:lnTo>
                      <a:pt x="42" y="18"/>
                    </a:lnTo>
                    <a:lnTo>
                      <a:pt x="3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flipH="1">
                <a:off x="8018640" y="5288040"/>
                <a:ext cx="75240" cy="52920"/>
              </a:xfrm>
              <a:custGeom>
                <a:avLst/>
                <a:gdLst/>
                <a:ahLst/>
                <a:rect l="l" t="t" r="r" b="b"/>
                <a:pathLst>
                  <a:path w="49" h="27">
                    <a:moveTo>
                      <a:pt x="12" y="27"/>
                    </a:moveTo>
                    <a:lnTo>
                      <a:pt x="6" y="27"/>
                    </a:lnTo>
                    <a:lnTo>
                      <a:pt x="49" y="18"/>
                    </a:lnTo>
                    <a:lnTo>
                      <a:pt x="37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flipH="1">
                <a:off x="8075520" y="5305320"/>
                <a:ext cx="64440" cy="53640"/>
              </a:xfrm>
              <a:custGeom>
                <a:avLst/>
                <a:gdLst/>
                <a:ahLst/>
                <a:rect l="l" t="t" r="r" b="b"/>
                <a:pathLst>
                  <a:path w="42" h="27">
                    <a:moveTo>
                      <a:pt x="6" y="27"/>
                    </a:moveTo>
                    <a:lnTo>
                      <a:pt x="6" y="27"/>
                    </a:lnTo>
                    <a:lnTo>
                      <a:pt x="42" y="18"/>
                    </a:lnTo>
                    <a:lnTo>
                      <a:pt x="3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6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H="1">
                <a:off x="8131320" y="5323320"/>
                <a:ext cx="75240" cy="51480"/>
              </a:xfrm>
              <a:custGeom>
                <a:avLst/>
                <a:gdLst/>
                <a:ahLst/>
                <a:rect l="l" t="t" r="r" b="b"/>
                <a:pathLst>
                  <a:path w="49" h="26">
                    <a:moveTo>
                      <a:pt x="12" y="26"/>
                    </a:moveTo>
                    <a:lnTo>
                      <a:pt x="12" y="26"/>
                    </a:lnTo>
                    <a:lnTo>
                      <a:pt x="49" y="18"/>
                    </a:lnTo>
                    <a:lnTo>
                      <a:pt x="43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flipH="1">
                <a:off x="8188200" y="5349240"/>
                <a:ext cx="64440" cy="52920"/>
              </a:xfrm>
              <a:custGeom>
                <a:avLst/>
                <a:gdLst/>
                <a:ahLst/>
                <a:rect l="l" t="t" r="r" b="b"/>
                <a:pathLst>
                  <a:path w="42" h="27">
                    <a:moveTo>
                      <a:pt x="12" y="27"/>
                    </a:moveTo>
                    <a:lnTo>
                      <a:pt x="12" y="27"/>
                    </a:lnTo>
                    <a:lnTo>
                      <a:pt x="42" y="13"/>
                    </a:lnTo>
                    <a:lnTo>
                      <a:pt x="3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flipH="1">
                <a:off x="8234640" y="5366520"/>
                <a:ext cx="66240" cy="52920"/>
              </a:xfrm>
              <a:custGeom>
                <a:avLst/>
                <a:gdLst/>
                <a:ahLst/>
                <a:rect l="l" t="t" r="r" b="b"/>
                <a:pathLst>
                  <a:path w="43" h="27">
                    <a:moveTo>
                      <a:pt x="6" y="27"/>
                    </a:moveTo>
                    <a:lnTo>
                      <a:pt x="6" y="27"/>
                    </a:lnTo>
                    <a:lnTo>
                      <a:pt x="43" y="18"/>
                    </a:lnTo>
                    <a:lnTo>
                      <a:pt x="31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6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flipH="1">
                <a:off x="8291880" y="5384520"/>
                <a:ext cx="46080" cy="43200"/>
              </a:xfrm>
              <a:custGeom>
                <a:avLst/>
                <a:gdLst/>
                <a:ahLst/>
                <a:rect l="l" t="t" r="r" b="b"/>
                <a:pathLst>
                  <a:path w="30" h="22">
                    <a:moveTo>
                      <a:pt x="6" y="22"/>
                    </a:moveTo>
                    <a:lnTo>
                      <a:pt x="6" y="22"/>
                    </a:lnTo>
                    <a:lnTo>
                      <a:pt x="30" y="18"/>
                    </a:lnTo>
                    <a:lnTo>
                      <a:pt x="24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6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flipH="1">
                <a:off x="8328240" y="5392800"/>
                <a:ext cx="46440" cy="45000"/>
              </a:xfrm>
              <a:custGeom>
                <a:avLst/>
                <a:gdLst/>
                <a:ahLst/>
                <a:rect l="l" t="t" r="r" b="b"/>
                <a:pathLst>
                  <a:path w="30" h="23">
                    <a:moveTo>
                      <a:pt x="6" y="23"/>
                    </a:moveTo>
                    <a:lnTo>
                      <a:pt x="6" y="23"/>
                    </a:lnTo>
                    <a:lnTo>
                      <a:pt x="30" y="18"/>
                    </a:lnTo>
                    <a:lnTo>
                      <a:pt x="24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flipH="1">
                <a:off x="8365320" y="5402520"/>
                <a:ext cx="27720" cy="43200"/>
              </a:xfrm>
              <a:custGeom>
                <a:avLst/>
                <a:gdLst/>
                <a:ahLst/>
                <a:rect l="l" t="t" r="r" b="b"/>
                <a:pathLst>
                  <a:path w="18" h="22">
                    <a:moveTo>
                      <a:pt x="6" y="22"/>
                    </a:moveTo>
                    <a:lnTo>
                      <a:pt x="12" y="22"/>
                    </a:lnTo>
                    <a:lnTo>
                      <a:pt x="18" y="18"/>
                    </a:lnTo>
                    <a:lnTo>
                      <a:pt x="12" y="0"/>
                    </a:lnTo>
                    <a:lnTo>
                      <a:pt x="0" y="4"/>
                    </a:lnTo>
                    <a:lnTo>
                      <a:pt x="6" y="4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flipH="1">
                <a:off x="8384040" y="5410080"/>
                <a:ext cx="9360" cy="356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0" y="0"/>
                    </a:moveTo>
                    <a:lnTo>
                      <a:pt x="0" y="18"/>
                    </a:lnTo>
                    <a:lnTo>
                      <a:pt x="6" y="18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flipH="1">
                <a:off x="8391960" y="5410080"/>
                <a:ext cx="1440" cy="35640"/>
              </a:xfrm>
              <a:custGeom>
                <a:avLst/>
                <a:gdLst/>
                <a:ahLst/>
                <a:rect l="l" t="t" r="r" b="b"/>
                <a:pathLst>
                  <a:path w="0" h="18">
                    <a:moveTo>
                      <a:pt x="0" y="0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flipH="1">
                <a:off x="5494680" y="5410080"/>
                <a:ext cx="2898720" cy="426600"/>
              </a:xfrm>
              <a:custGeom>
                <a:avLst/>
                <a:gdLst/>
                <a:ahLst/>
                <a:rect l="l" t="t" r="r" b="b"/>
                <a:pathLst>
                  <a:path w="1880" h="216">
                    <a:moveTo>
                      <a:pt x="1868" y="198"/>
                    </a:moveTo>
                    <a:lnTo>
                      <a:pt x="1874" y="198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1874" y="216"/>
                    </a:lnTo>
                    <a:lnTo>
                      <a:pt x="1880" y="216"/>
                    </a:lnTo>
                    <a:lnTo>
                      <a:pt x="1874" y="216"/>
                    </a:lnTo>
                    <a:lnTo>
                      <a:pt x="1874" y="216"/>
                    </a:lnTo>
                    <a:lnTo>
                      <a:pt x="1880" y="216"/>
                    </a:lnTo>
                    <a:lnTo>
                      <a:pt x="1868" y="1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flipH="1">
                <a:off x="4913640" y="5145480"/>
                <a:ext cx="3479760" cy="566640"/>
              </a:xfrm>
              <a:custGeom>
                <a:avLst/>
                <a:gdLst/>
                <a:ahLst/>
                <a:rect l="l" t="t" r="r" b="b"/>
                <a:pathLst>
                  <a:path w="2257" h="287">
                    <a:moveTo>
                      <a:pt x="1874" y="287"/>
                    </a:moveTo>
                    <a:lnTo>
                      <a:pt x="2257" y="152"/>
                    </a:lnTo>
                    <a:lnTo>
                      <a:pt x="2245" y="152"/>
                    </a:lnTo>
                    <a:lnTo>
                      <a:pt x="2196" y="143"/>
                    </a:lnTo>
                    <a:lnTo>
                      <a:pt x="2117" y="139"/>
                    </a:lnTo>
                    <a:lnTo>
                      <a:pt x="2014" y="130"/>
                    </a:lnTo>
                    <a:lnTo>
                      <a:pt x="1892" y="116"/>
                    </a:lnTo>
                    <a:lnTo>
                      <a:pt x="1764" y="108"/>
                    </a:lnTo>
                    <a:lnTo>
                      <a:pt x="1630" y="94"/>
                    </a:lnTo>
                    <a:lnTo>
                      <a:pt x="1502" y="85"/>
                    </a:lnTo>
                    <a:lnTo>
                      <a:pt x="1387" y="76"/>
                    </a:lnTo>
                    <a:lnTo>
                      <a:pt x="1289" y="67"/>
                    </a:lnTo>
                    <a:lnTo>
                      <a:pt x="1223" y="63"/>
                    </a:lnTo>
                    <a:lnTo>
                      <a:pt x="1192" y="63"/>
                    </a:lnTo>
                    <a:lnTo>
                      <a:pt x="1192" y="63"/>
                    </a:lnTo>
                    <a:lnTo>
                      <a:pt x="1198" y="54"/>
                    </a:lnTo>
                    <a:lnTo>
                      <a:pt x="1223" y="40"/>
                    </a:lnTo>
                    <a:lnTo>
                      <a:pt x="1216" y="22"/>
                    </a:lnTo>
                    <a:lnTo>
                      <a:pt x="1216" y="22"/>
                    </a:lnTo>
                    <a:lnTo>
                      <a:pt x="1192" y="13"/>
                    </a:lnTo>
                    <a:lnTo>
                      <a:pt x="1180" y="13"/>
                    </a:lnTo>
                    <a:lnTo>
                      <a:pt x="1162" y="13"/>
                    </a:lnTo>
                    <a:lnTo>
                      <a:pt x="1150" y="13"/>
                    </a:lnTo>
                    <a:lnTo>
                      <a:pt x="1131" y="22"/>
                    </a:lnTo>
                    <a:lnTo>
                      <a:pt x="1119" y="27"/>
                    </a:lnTo>
                    <a:lnTo>
                      <a:pt x="1107" y="31"/>
                    </a:lnTo>
                    <a:lnTo>
                      <a:pt x="1095" y="31"/>
                    </a:lnTo>
                    <a:lnTo>
                      <a:pt x="1077" y="31"/>
                    </a:lnTo>
                    <a:lnTo>
                      <a:pt x="1077" y="31"/>
                    </a:lnTo>
                    <a:lnTo>
                      <a:pt x="1077" y="27"/>
                    </a:lnTo>
                    <a:lnTo>
                      <a:pt x="1083" y="27"/>
                    </a:lnTo>
                    <a:lnTo>
                      <a:pt x="1077" y="22"/>
                    </a:lnTo>
                    <a:lnTo>
                      <a:pt x="1077" y="22"/>
                    </a:lnTo>
                    <a:lnTo>
                      <a:pt x="900" y="13"/>
                    </a:lnTo>
                    <a:lnTo>
                      <a:pt x="596" y="4"/>
                    </a:lnTo>
                    <a:lnTo>
                      <a:pt x="346" y="0"/>
                    </a:lnTo>
                    <a:lnTo>
                      <a:pt x="346" y="0"/>
                    </a:lnTo>
                    <a:lnTo>
                      <a:pt x="334" y="4"/>
                    </a:lnTo>
                    <a:lnTo>
                      <a:pt x="322" y="4"/>
                    </a:lnTo>
                    <a:lnTo>
                      <a:pt x="298" y="13"/>
                    </a:lnTo>
                    <a:lnTo>
                      <a:pt x="267" y="18"/>
                    </a:lnTo>
                    <a:lnTo>
                      <a:pt x="237" y="27"/>
                    </a:lnTo>
                    <a:lnTo>
                      <a:pt x="200" y="36"/>
                    </a:lnTo>
                    <a:lnTo>
                      <a:pt x="164" y="45"/>
                    </a:lnTo>
                    <a:lnTo>
                      <a:pt x="127" y="58"/>
                    </a:lnTo>
                    <a:lnTo>
                      <a:pt x="97" y="67"/>
                    </a:lnTo>
                    <a:lnTo>
                      <a:pt x="60" y="76"/>
                    </a:lnTo>
                    <a:lnTo>
                      <a:pt x="36" y="85"/>
                    </a:lnTo>
                    <a:lnTo>
                      <a:pt x="18" y="90"/>
                    </a:lnTo>
                    <a:lnTo>
                      <a:pt x="6" y="94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1874" y="287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flipH="1">
                <a:off x="4828320" y="5419800"/>
                <a:ext cx="684360" cy="309960"/>
              </a:xfrm>
              <a:custGeom>
                <a:avLst/>
                <a:gdLst/>
                <a:ahLst/>
                <a:rect l="l" t="t" r="r" b="b"/>
                <a:pathLst>
                  <a:path w="444" h="157">
                    <a:moveTo>
                      <a:pt x="389" y="22"/>
                    </a:moveTo>
                    <a:lnTo>
                      <a:pt x="389" y="4"/>
                    </a:lnTo>
                    <a:lnTo>
                      <a:pt x="0" y="139"/>
                    </a:lnTo>
                    <a:lnTo>
                      <a:pt x="12" y="157"/>
                    </a:lnTo>
                    <a:lnTo>
                      <a:pt x="395" y="18"/>
                    </a:lnTo>
                    <a:lnTo>
                      <a:pt x="389" y="0"/>
                    </a:lnTo>
                    <a:lnTo>
                      <a:pt x="395" y="18"/>
                    </a:lnTo>
                    <a:lnTo>
                      <a:pt x="444" y="0"/>
                    </a:lnTo>
                    <a:lnTo>
                      <a:pt x="389" y="0"/>
                    </a:lnTo>
                    <a:lnTo>
                      <a:pt x="38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flipH="1">
                <a:off x="4913280" y="5419800"/>
                <a:ext cx="18360" cy="4320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22"/>
                    </a:moveTo>
                    <a:lnTo>
                      <a:pt x="0" y="22"/>
                    </a:lnTo>
                    <a:lnTo>
                      <a:pt x="12" y="2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flipH="1">
                <a:off x="4922280" y="5410080"/>
                <a:ext cx="84960" cy="52920"/>
              </a:xfrm>
              <a:custGeom>
                <a:avLst/>
                <a:gdLst/>
                <a:ahLst/>
                <a:rect l="l" t="t" r="r" b="b"/>
                <a:pathLst>
                  <a:path w="55" h="27">
                    <a:moveTo>
                      <a:pt x="0" y="18"/>
                    </a:moveTo>
                    <a:lnTo>
                      <a:pt x="0" y="18"/>
                    </a:lnTo>
                    <a:lnTo>
                      <a:pt x="49" y="27"/>
                    </a:lnTo>
                    <a:lnTo>
                      <a:pt x="55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 flipH="1">
                <a:off x="5007240" y="5402520"/>
                <a:ext cx="121320" cy="43200"/>
              </a:xfrm>
              <a:custGeom>
                <a:avLst/>
                <a:gdLst/>
                <a:ahLst/>
                <a:rect l="l" t="t" r="r" b="b"/>
                <a:pathLst>
                  <a:path w="79" h="22">
                    <a:moveTo>
                      <a:pt x="0" y="18"/>
                    </a:moveTo>
                    <a:lnTo>
                      <a:pt x="0" y="18"/>
                    </a:lnTo>
                    <a:lnTo>
                      <a:pt x="79" y="22"/>
                    </a:lnTo>
                    <a:lnTo>
                      <a:pt x="79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flipH="1">
                <a:off x="5129280" y="5384520"/>
                <a:ext cx="158400" cy="5292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0" y="18"/>
                    </a:moveTo>
                    <a:lnTo>
                      <a:pt x="0" y="18"/>
                    </a:lnTo>
                    <a:lnTo>
                      <a:pt x="103" y="27"/>
                    </a:lnTo>
                    <a:lnTo>
                      <a:pt x="103" y="9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flipH="1">
                <a:off x="5278680" y="5358960"/>
                <a:ext cx="196920" cy="60840"/>
              </a:xfrm>
              <a:custGeom>
                <a:avLst/>
                <a:gdLst/>
                <a:ahLst/>
                <a:rect l="l" t="t" r="r" b="b"/>
                <a:pathLst>
                  <a:path w="128" h="31">
                    <a:moveTo>
                      <a:pt x="0" y="17"/>
                    </a:moveTo>
                    <a:lnTo>
                      <a:pt x="0" y="17"/>
                    </a:lnTo>
                    <a:lnTo>
                      <a:pt x="122" y="31"/>
                    </a:lnTo>
                    <a:lnTo>
                      <a:pt x="128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flipH="1">
                <a:off x="5475960" y="5341320"/>
                <a:ext cx="206640" cy="51480"/>
              </a:xfrm>
              <a:custGeom>
                <a:avLst/>
                <a:gdLst/>
                <a:ahLst/>
                <a:rect l="l" t="t" r="r" b="b"/>
                <a:pathLst>
                  <a:path w="134" h="26">
                    <a:moveTo>
                      <a:pt x="0" y="17"/>
                    </a:moveTo>
                    <a:lnTo>
                      <a:pt x="0" y="17"/>
                    </a:lnTo>
                    <a:lnTo>
                      <a:pt x="134" y="26"/>
                    </a:lnTo>
                    <a:lnTo>
                      <a:pt x="134" y="9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flipH="1">
                <a:off x="5673600" y="5313240"/>
                <a:ext cx="206640" cy="61200"/>
              </a:xfrm>
              <a:custGeom>
                <a:avLst/>
                <a:gdLst/>
                <a:ahLst/>
                <a:rect l="l" t="t" r="r" b="b"/>
                <a:pathLst>
                  <a:path w="134" h="31">
                    <a:moveTo>
                      <a:pt x="0" y="18"/>
                    </a:moveTo>
                    <a:lnTo>
                      <a:pt x="0" y="18"/>
                    </a:lnTo>
                    <a:lnTo>
                      <a:pt x="128" y="31"/>
                    </a:lnTo>
                    <a:lnTo>
                      <a:pt x="134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flipH="1">
                <a:off x="5880240" y="5295600"/>
                <a:ext cx="206640" cy="53640"/>
              </a:xfrm>
              <a:custGeom>
                <a:avLst/>
                <a:gdLst/>
                <a:ahLst/>
                <a:rect l="l" t="t" r="r" b="b"/>
                <a:pathLst>
                  <a:path w="134" h="27">
                    <a:moveTo>
                      <a:pt x="0" y="18"/>
                    </a:moveTo>
                    <a:lnTo>
                      <a:pt x="0" y="18"/>
                    </a:lnTo>
                    <a:lnTo>
                      <a:pt x="134" y="27"/>
                    </a:lnTo>
                    <a:lnTo>
                      <a:pt x="134" y="9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flipH="1">
                <a:off x="6077520" y="5277960"/>
                <a:ext cx="186480" cy="5292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18"/>
                    </a:moveTo>
                    <a:lnTo>
                      <a:pt x="0" y="18"/>
                    </a:lnTo>
                    <a:lnTo>
                      <a:pt x="115" y="27"/>
                    </a:lnTo>
                    <a:lnTo>
                      <a:pt x="121" y="9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flipH="1">
                <a:off x="6254640" y="5259960"/>
                <a:ext cx="150840" cy="52920"/>
              </a:xfrm>
              <a:custGeom>
                <a:avLst/>
                <a:gdLst/>
                <a:ahLst/>
                <a:rect l="l" t="t" r="r" b="b"/>
                <a:pathLst>
                  <a:path w="98" h="27">
                    <a:moveTo>
                      <a:pt x="0" y="18"/>
                    </a:moveTo>
                    <a:lnTo>
                      <a:pt x="0" y="18"/>
                    </a:lnTo>
                    <a:lnTo>
                      <a:pt x="92" y="27"/>
                    </a:lnTo>
                    <a:lnTo>
                      <a:pt x="98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 flipH="1">
                <a:off x="6405840" y="5252040"/>
                <a:ext cx="101520" cy="43200"/>
              </a:xfrm>
              <a:custGeom>
                <a:avLst/>
                <a:gdLst/>
                <a:ahLst/>
                <a:rect l="l" t="t" r="r" b="b"/>
                <a:pathLst>
                  <a:path w="66" h="22">
                    <a:moveTo>
                      <a:pt x="0" y="18"/>
                    </a:moveTo>
                    <a:lnTo>
                      <a:pt x="0" y="18"/>
                    </a:lnTo>
                    <a:lnTo>
                      <a:pt x="66" y="22"/>
                    </a:lnTo>
                    <a:lnTo>
                      <a:pt x="66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flipH="1">
                <a:off x="6507000" y="5252040"/>
                <a:ext cx="93960" cy="35640"/>
              </a:xfrm>
              <a:custGeom>
                <a:avLst/>
                <a:gdLst/>
                <a:ahLst/>
                <a:rect l="l" t="t" r="r" b="b"/>
                <a:pathLst>
                  <a:path w="61" h="18">
                    <a:moveTo>
                      <a:pt x="18" y="0"/>
                    </a:moveTo>
                    <a:lnTo>
                      <a:pt x="24" y="18"/>
                    </a:lnTo>
                    <a:lnTo>
                      <a:pt x="61" y="18"/>
                    </a:lnTo>
                    <a:lnTo>
                      <a:pt x="61" y="0"/>
                    </a:lnTo>
                    <a:lnTo>
                      <a:pt x="30" y="0"/>
                    </a:lnTo>
                    <a:lnTo>
                      <a:pt x="36" y="13"/>
                    </a:lnTo>
                    <a:lnTo>
                      <a:pt x="18" y="0"/>
                    </a:lnTo>
                    <a:lnTo>
                      <a:pt x="0" y="13"/>
                    </a:lnTo>
                    <a:lnTo>
                      <a:pt x="24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flipH="1">
                <a:off x="6545880" y="5252040"/>
                <a:ext cx="55080" cy="3564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18" y="0"/>
                    </a:move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6" y="13"/>
                    </a:lnTo>
                    <a:lnTo>
                      <a:pt x="18" y="0"/>
                    </a:lnTo>
                    <a:lnTo>
                      <a:pt x="0" y="13"/>
                    </a:lnTo>
                    <a:lnTo>
                      <a:pt x="24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 flipH="1">
                <a:off x="6537240" y="5242320"/>
                <a:ext cx="36720" cy="356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12" y="0"/>
                    </a:moveTo>
                    <a:lnTo>
                      <a:pt x="12" y="0"/>
                    </a:lnTo>
                    <a:lnTo>
                      <a:pt x="0" y="5"/>
                    </a:lnTo>
                    <a:lnTo>
                      <a:pt x="18" y="18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 flipH="1">
                <a:off x="6479640" y="5216760"/>
                <a:ext cx="75240" cy="52920"/>
              </a:xfrm>
              <a:custGeom>
                <a:avLst/>
                <a:gdLst/>
                <a:ahLst/>
                <a:rect l="l" t="t" r="r" b="b"/>
                <a:pathLst>
                  <a:path w="49" h="27">
                    <a:moveTo>
                      <a:pt x="18" y="9"/>
                    </a:moveTo>
                    <a:lnTo>
                      <a:pt x="24" y="0"/>
                    </a:lnTo>
                    <a:lnTo>
                      <a:pt x="0" y="13"/>
                    </a:lnTo>
                    <a:lnTo>
                      <a:pt x="12" y="27"/>
                    </a:lnTo>
                    <a:lnTo>
                      <a:pt x="37" y="13"/>
                    </a:lnTo>
                    <a:lnTo>
                      <a:pt x="43" y="4"/>
                    </a:lnTo>
                    <a:lnTo>
                      <a:pt x="37" y="13"/>
                    </a:lnTo>
                    <a:lnTo>
                      <a:pt x="49" y="9"/>
                    </a:lnTo>
                    <a:lnTo>
                      <a:pt x="43" y="4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flipH="1">
                <a:off x="6489360" y="5181480"/>
                <a:ext cx="47520" cy="52920"/>
              </a:xfrm>
              <a:custGeom>
                <a:avLst/>
                <a:gdLst/>
                <a:ahLst/>
                <a:rect l="l" t="t" r="r" b="b"/>
                <a:pathLst>
                  <a:path w="31" h="27">
                    <a:moveTo>
                      <a:pt x="6" y="13"/>
                    </a:moveTo>
                    <a:lnTo>
                      <a:pt x="0" y="9"/>
                    </a:lnTo>
                    <a:lnTo>
                      <a:pt x="6" y="27"/>
                    </a:lnTo>
                    <a:lnTo>
                      <a:pt x="31" y="22"/>
                    </a:lnTo>
                    <a:lnTo>
                      <a:pt x="25" y="4"/>
                    </a:lnTo>
                    <a:lnTo>
                      <a:pt x="19" y="0"/>
                    </a:lnTo>
                    <a:lnTo>
                      <a:pt x="25" y="4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flipH="1">
                <a:off x="6498360" y="5181480"/>
                <a:ext cx="29160" cy="252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0" y="13"/>
                    </a:move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13" y="0"/>
                    </a:lnTo>
                    <a:lnTo>
                      <a:pt x="19" y="4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flipH="1">
                <a:off x="6507000" y="5153400"/>
                <a:ext cx="57240" cy="5292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6" y="18"/>
                    </a:moveTo>
                    <a:lnTo>
                      <a:pt x="0" y="18"/>
                    </a:lnTo>
                    <a:lnTo>
                      <a:pt x="24" y="27"/>
                    </a:lnTo>
                    <a:lnTo>
                      <a:pt x="37" y="14"/>
                    </a:lnTo>
                    <a:lnTo>
                      <a:pt x="12" y="5"/>
                    </a:lnTo>
                    <a:lnTo>
                      <a:pt x="12" y="0"/>
                    </a:lnTo>
                    <a:lnTo>
                      <a:pt x="12" y="5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flipH="1">
                <a:off x="6546600" y="5153400"/>
                <a:ext cx="36720" cy="3528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0" y="18"/>
                    </a:lnTo>
                    <a:lnTo>
                      <a:pt x="18" y="18"/>
                    </a:lnTo>
                    <a:lnTo>
                      <a:pt x="2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H="1">
                <a:off x="6574320" y="5153400"/>
                <a:ext cx="36720" cy="3528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6" y="18"/>
                    </a:lnTo>
                    <a:lnTo>
                      <a:pt x="24" y="18"/>
                    </a:lnTo>
                    <a:lnTo>
                      <a:pt x="24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flipH="1">
                <a:off x="6601320" y="5153400"/>
                <a:ext cx="29160" cy="3528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13" y="18"/>
                    </a:moveTo>
                    <a:lnTo>
                      <a:pt x="7" y="18"/>
                    </a:lnTo>
                    <a:lnTo>
                      <a:pt x="19" y="18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flipH="1">
                <a:off x="6610680" y="5163480"/>
                <a:ext cx="47880" cy="43200"/>
              </a:xfrm>
              <a:custGeom>
                <a:avLst/>
                <a:gdLst/>
                <a:ahLst/>
                <a:rect l="l" t="t" r="r" b="b"/>
                <a:pathLst>
                  <a:path w="31" h="22">
                    <a:moveTo>
                      <a:pt x="12" y="18"/>
                    </a:moveTo>
                    <a:lnTo>
                      <a:pt x="12" y="22"/>
                    </a:lnTo>
                    <a:lnTo>
                      <a:pt x="31" y="13"/>
                    </a:lnTo>
                    <a:lnTo>
                      <a:pt x="18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H="1">
                <a:off x="6640560" y="5171400"/>
                <a:ext cx="36720" cy="4500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12" y="23"/>
                    </a:moveTo>
                    <a:lnTo>
                      <a:pt x="12" y="23"/>
                    </a:lnTo>
                    <a:lnTo>
                      <a:pt x="24" y="14"/>
                    </a:lnTo>
                    <a:lnTo>
                      <a:pt x="12" y="0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flipH="1">
                <a:off x="6658920" y="5181480"/>
                <a:ext cx="36360" cy="4320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6" y="22"/>
                    </a:moveTo>
                    <a:lnTo>
                      <a:pt x="12" y="22"/>
                    </a:lnTo>
                    <a:lnTo>
                      <a:pt x="24" y="18"/>
                    </a:lnTo>
                    <a:lnTo>
                      <a:pt x="12" y="0"/>
                    </a:lnTo>
                    <a:lnTo>
                      <a:pt x="0" y="4"/>
                    </a:lnTo>
                    <a:lnTo>
                      <a:pt x="6" y="4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12" y="22"/>
                    </a:lnTo>
                    <a:lnTo>
                      <a:pt x="6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flipH="1">
                <a:off x="6686280" y="5189040"/>
                <a:ext cx="18360" cy="356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18"/>
                    </a:moveTo>
                    <a:lnTo>
                      <a:pt x="0" y="18"/>
                    </a:lnTo>
                    <a:lnTo>
                      <a:pt x="12" y="1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flipH="1">
                <a:off x="6705360" y="5189040"/>
                <a:ext cx="38160" cy="3564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0" y="18"/>
                    </a:moveTo>
                    <a:lnTo>
                      <a:pt x="7" y="18"/>
                    </a:lnTo>
                    <a:lnTo>
                      <a:pt x="25" y="18"/>
                    </a:lnTo>
                    <a:lnTo>
                      <a:pt x="25" y="0"/>
                    </a:lnTo>
                    <a:lnTo>
                      <a:pt x="7" y="0"/>
                    </a:lnTo>
                    <a:lnTo>
                      <a:pt x="19" y="0"/>
                    </a:lnTo>
                    <a:lnTo>
                      <a:pt x="0" y="14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flipH="1">
                <a:off x="6714000" y="5189040"/>
                <a:ext cx="29160" cy="356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18"/>
                    </a:move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19" y="0"/>
                    </a:lnTo>
                    <a:lnTo>
                      <a:pt x="0" y="14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H="1">
                <a:off x="6714360" y="5181480"/>
                <a:ext cx="66240" cy="43200"/>
              </a:xfrm>
              <a:custGeom>
                <a:avLst/>
                <a:gdLst/>
                <a:ahLst/>
                <a:rect l="l" t="t" r="r" b="b"/>
                <a:pathLst>
                  <a:path w="43" h="22">
                    <a:moveTo>
                      <a:pt x="31" y="0"/>
                    </a:moveTo>
                    <a:lnTo>
                      <a:pt x="18" y="18"/>
                    </a:lnTo>
                    <a:lnTo>
                      <a:pt x="24" y="22"/>
                    </a:lnTo>
                    <a:lnTo>
                      <a:pt x="43" y="4"/>
                    </a:lnTo>
                    <a:lnTo>
                      <a:pt x="37" y="4"/>
                    </a:lnTo>
                    <a:lnTo>
                      <a:pt x="31" y="18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18" y="18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flipH="1">
                <a:off x="6649200" y="5181480"/>
                <a:ext cx="83160" cy="3528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0" y="18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0"/>
                    </a:lnTo>
                    <a:lnTo>
                      <a:pt x="6" y="18"/>
                    </a:lnTo>
                    <a:lnTo>
                      <a:pt x="54" y="18"/>
                    </a:lnTo>
                    <a:lnTo>
                      <a:pt x="12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flipH="1">
                <a:off x="6714000" y="5171400"/>
                <a:ext cx="29160" cy="4500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0" y="18"/>
                    </a:moveTo>
                    <a:lnTo>
                      <a:pt x="0" y="18"/>
                    </a:lnTo>
                    <a:lnTo>
                      <a:pt x="7" y="23"/>
                    </a:lnTo>
                    <a:lnTo>
                      <a:pt x="19" y="5"/>
                    </a:lnTo>
                    <a:lnTo>
                      <a:pt x="13" y="5"/>
                    </a:lnTo>
                    <a:lnTo>
                      <a:pt x="7" y="0"/>
                    </a:lnTo>
                    <a:lnTo>
                      <a:pt x="7" y="5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H="1">
                <a:off x="6732720" y="5171400"/>
                <a:ext cx="10800" cy="3528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0" y="18"/>
                    </a:move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0"/>
                    </a:lnTo>
                    <a:lnTo>
                      <a:pt x="7" y="5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H="1">
                <a:off x="6732720" y="5153400"/>
                <a:ext cx="272880" cy="52920"/>
              </a:xfrm>
              <a:custGeom>
                <a:avLst/>
                <a:gdLst/>
                <a:ahLst/>
                <a:rect l="l" t="t" r="r" b="b"/>
                <a:pathLst>
                  <a:path w="177" h="27">
                    <a:moveTo>
                      <a:pt x="0" y="18"/>
                    </a:moveTo>
                    <a:lnTo>
                      <a:pt x="0" y="18"/>
                    </a:lnTo>
                    <a:lnTo>
                      <a:pt x="170" y="27"/>
                    </a:lnTo>
                    <a:lnTo>
                      <a:pt x="177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flipH="1">
                <a:off x="7005600" y="5135760"/>
                <a:ext cx="468360" cy="52920"/>
              </a:xfrm>
              <a:custGeom>
                <a:avLst/>
                <a:gdLst/>
                <a:ahLst/>
                <a:rect l="l" t="t" r="r" b="b"/>
                <a:pathLst>
                  <a:path w="304" h="27">
                    <a:moveTo>
                      <a:pt x="0" y="18"/>
                    </a:moveTo>
                    <a:lnTo>
                      <a:pt x="0" y="18"/>
                    </a:lnTo>
                    <a:lnTo>
                      <a:pt x="304" y="27"/>
                    </a:lnTo>
                    <a:lnTo>
                      <a:pt x="304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H="1">
                <a:off x="7474320" y="5128200"/>
                <a:ext cx="394560" cy="43200"/>
              </a:xfrm>
              <a:custGeom>
                <a:avLst/>
                <a:gdLst/>
                <a:ahLst/>
                <a:rect l="l" t="t" r="r" b="b"/>
                <a:pathLst>
                  <a:path w="256" h="22">
                    <a:moveTo>
                      <a:pt x="12" y="18"/>
                    </a:moveTo>
                    <a:lnTo>
                      <a:pt x="6" y="18"/>
                    </a:lnTo>
                    <a:lnTo>
                      <a:pt x="256" y="22"/>
                    </a:lnTo>
                    <a:lnTo>
                      <a:pt x="256" y="4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H="1">
                <a:off x="7850160" y="5128200"/>
                <a:ext cx="18360" cy="352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12" y="18"/>
                    </a:move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flipH="1">
                <a:off x="7850520" y="5128200"/>
                <a:ext cx="27720" cy="43200"/>
              </a:xfrm>
              <a:custGeom>
                <a:avLst/>
                <a:gdLst/>
                <a:ahLst/>
                <a:rect l="l" t="t" r="r" b="b"/>
                <a:pathLst>
                  <a:path w="18" h="22">
                    <a:moveTo>
                      <a:pt x="6" y="22"/>
                    </a:moveTo>
                    <a:lnTo>
                      <a:pt x="6" y="22"/>
                    </a:lnTo>
                    <a:lnTo>
                      <a:pt x="18" y="18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18"/>
                    </a:lnTo>
                    <a:lnTo>
                      <a:pt x="6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H="1">
                <a:off x="7869240" y="5135760"/>
                <a:ext cx="36720" cy="356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6" y="18"/>
                    </a:moveTo>
                    <a:lnTo>
                      <a:pt x="6" y="18"/>
                    </a:lnTo>
                    <a:lnTo>
                      <a:pt x="24" y="18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H="1">
                <a:off x="7896960" y="5135760"/>
                <a:ext cx="46080" cy="52920"/>
              </a:xfrm>
              <a:custGeom>
                <a:avLst/>
                <a:gdLst/>
                <a:ahLst/>
                <a:rect l="l" t="t" r="r" b="b"/>
                <a:pathLst>
                  <a:path w="30" h="27">
                    <a:moveTo>
                      <a:pt x="6" y="27"/>
                    </a:moveTo>
                    <a:lnTo>
                      <a:pt x="6" y="27"/>
                    </a:lnTo>
                    <a:lnTo>
                      <a:pt x="30" y="18"/>
                    </a:lnTo>
                    <a:lnTo>
                      <a:pt x="24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6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flipH="1">
                <a:off x="7933320" y="5153400"/>
                <a:ext cx="57240" cy="4500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6" y="23"/>
                    </a:moveTo>
                    <a:lnTo>
                      <a:pt x="6" y="23"/>
                    </a:lnTo>
                    <a:lnTo>
                      <a:pt x="37" y="18"/>
                    </a:lnTo>
                    <a:lnTo>
                      <a:pt x="31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H="1">
                <a:off x="7981560" y="5163480"/>
                <a:ext cx="55440" cy="52920"/>
              </a:xfrm>
              <a:custGeom>
                <a:avLst/>
                <a:gdLst/>
                <a:ahLst/>
                <a:rect l="l" t="t" r="r" b="b"/>
                <a:pathLst>
                  <a:path w="36" h="27">
                    <a:moveTo>
                      <a:pt x="12" y="27"/>
                    </a:moveTo>
                    <a:lnTo>
                      <a:pt x="12" y="27"/>
                    </a:lnTo>
                    <a:lnTo>
                      <a:pt x="36" y="18"/>
                    </a:lnTo>
                    <a:lnTo>
                      <a:pt x="3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H="1">
                <a:off x="8018640" y="5181480"/>
                <a:ext cx="75240" cy="52920"/>
              </a:xfrm>
              <a:custGeom>
                <a:avLst/>
                <a:gdLst/>
                <a:ahLst/>
                <a:rect l="l" t="t" r="r" b="b"/>
                <a:pathLst>
                  <a:path w="49" h="27">
                    <a:moveTo>
                      <a:pt x="12" y="27"/>
                    </a:moveTo>
                    <a:lnTo>
                      <a:pt x="6" y="27"/>
                    </a:lnTo>
                    <a:lnTo>
                      <a:pt x="49" y="18"/>
                    </a:lnTo>
                    <a:lnTo>
                      <a:pt x="37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flipH="1">
                <a:off x="8075520" y="5198760"/>
                <a:ext cx="64440" cy="52920"/>
              </a:xfrm>
              <a:custGeom>
                <a:avLst/>
                <a:gdLst/>
                <a:ahLst/>
                <a:rect l="l" t="t" r="r" b="b"/>
                <a:pathLst>
                  <a:path w="42" h="27">
                    <a:moveTo>
                      <a:pt x="6" y="27"/>
                    </a:moveTo>
                    <a:lnTo>
                      <a:pt x="6" y="27"/>
                    </a:lnTo>
                    <a:lnTo>
                      <a:pt x="42" y="18"/>
                    </a:lnTo>
                    <a:lnTo>
                      <a:pt x="3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6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flipH="1">
                <a:off x="8131320" y="5216760"/>
                <a:ext cx="75240" cy="6120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12" y="31"/>
                    </a:moveTo>
                    <a:lnTo>
                      <a:pt x="12" y="31"/>
                    </a:lnTo>
                    <a:lnTo>
                      <a:pt x="49" y="18"/>
                    </a:lnTo>
                    <a:lnTo>
                      <a:pt x="43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2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flipH="1">
                <a:off x="8188200" y="5242320"/>
                <a:ext cx="64440" cy="52920"/>
              </a:xfrm>
              <a:custGeom>
                <a:avLst/>
                <a:gdLst/>
                <a:ahLst/>
                <a:rect l="l" t="t" r="r" b="b"/>
                <a:pathLst>
                  <a:path w="42" h="27">
                    <a:moveTo>
                      <a:pt x="12" y="27"/>
                    </a:moveTo>
                    <a:lnTo>
                      <a:pt x="12" y="27"/>
                    </a:lnTo>
                    <a:lnTo>
                      <a:pt x="42" y="18"/>
                    </a:lnTo>
                    <a:lnTo>
                      <a:pt x="3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flipH="1">
                <a:off x="8234640" y="5259960"/>
                <a:ext cx="66240" cy="52920"/>
              </a:xfrm>
              <a:custGeom>
                <a:avLst/>
                <a:gdLst/>
                <a:ahLst/>
                <a:rect l="l" t="t" r="r" b="b"/>
                <a:pathLst>
                  <a:path w="43" h="27">
                    <a:moveTo>
                      <a:pt x="6" y="27"/>
                    </a:moveTo>
                    <a:lnTo>
                      <a:pt x="6" y="27"/>
                    </a:lnTo>
                    <a:lnTo>
                      <a:pt x="43" y="18"/>
                    </a:lnTo>
                    <a:lnTo>
                      <a:pt x="31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6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flipH="1">
                <a:off x="8291880" y="5277960"/>
                <a:ext cx="46080" cy="45000"/>
              </a:xfrm>
              <a:custGeom>
                <a:avLst/>
                <a:gdLst/>
                <a:ahLst/>
                <a:rect l="l" t="t" r="r" b="b"/>
                <a:pathLst>
                  <a:path w="30" h="23">
                    <a:moveTo>
                      <a:pt x="6" y="23"/>
                    </a:moveTo>
                    <a:lnTo>
                      <a:pt x="6" y="23"/>
                    </a:lnTo>
                    <a:lnTo>
                      <a:pt x="30" y="18"/>
                    </a:lnTo>
                    <a:lnTo>
                      <a:pt x="24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H="1">
                <a:off x="8328240" y="5295600"/>
                <a:ext cx="46440" cy="45360"/>
              </a:xfrm>
              <a:custGeom>
                <a:avLst/>
                <a:gdLst/>
                <a:ahLst/>
                <a:rect l="l" t="t" r="r" b="b"/>
                <a:pathLst>
                  <a:path w="30" h="23">
                    <a:moveTo>
                      <a:pt x="6" y="23"/>
                    </a:moveTo>
                    <a:lnTo>
                      <a:pt x="6" y="23"/>
                    </a:lnTo>
                    <a:lnTo>
                      <a:pt x="30" y="14"/>
                    </a:lnTo>
                    <a:lnTo>
                      <a:pt x="24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flipH="1">
                <a:off x="8365320" y="5305320"/>
                <a:ext cx="27720" cy="43560"/>
              </a:xfrm>
              <a:custGeom>
                <a:avLst/>
                <a:gdLst/>
                <a:ahLst/>
                <a:rect l="l" t="t" r="r" b="b"/>
                <a:pathLst>
                  <a:path w="18" h="22">
                    <a:moveTo>
                      <a:pt x="6" y="22"/>
                    </a:moveTo>
                    <a:lnTo>
                      <a:pt x="6" y="18"/>
                    </a:lnTo>
                    <a:lnTo>
                      <a:pt x="18" y="18"/>
                    </a:lnTo>
                    <a:lnTo>
                      <a:pt x="12" y="0"/>
                    </a:lnTo>
                    <a:lnTo>
                      <a:pt x="0" y="4"/>
                    </a:lnTo>
                    <a:lnTo>
                      <a:pt x="6" y="4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18"/>
                    </a:lnTo>
                    <a:lnTo>
                      <a:pt x="6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flipH="1">
                <a:off x="8384040" y="5313240"/>
                <a:ext cx="9360" cy="356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0" y="0"/>
                    </a:moveTo>
                    <a:lnTo>
                      <a:pt x="0" y="18"/>
                    </a:lnTo>
                    <a:lnTo>
                      <a:pt x="6" y="18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flipH="1">
                <a:off x="8391960" y="5313240"/>
                <a:ext cx="1440" cy="35640"/>
              </a:xfrm>
              <a:custGeom>
                <a:avLst/>
                <a:gdLst/>
                <a:ahLst/>
                <a:rect l="l" t="t" r="r" b="b"/>
                <a:pathLst>
                  <a:path w="0" h="18">
                    <a:moveTo>
                      <a:pt x="0" y="0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flipH="1">
                <a:off x="5494680" y="5313240"/>
                <a:ext cx="2898720" cy="416520"/>
              </a:xfrm>
              <a:custGeom>
                <a:avLst/>
                <a:gdLst/>
                <a:ahLst/>
                <a:rect l="l" t="t" r="r" b="b"/>
                <a:pathLst>
                  <a:path w="1880" h="211">
                    <a:moveTo>
                      <a:pt x="1868" y="193"/>
                    </a:moveTo>
                    <a:lnTo>
                      <a:pt x="1874" y="193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1874" y="211"/>
                    </a:lnTo>
                    <a:lnTo>
                      <a:pt x="1880" y="211"/>
                    </a:lnTo>
                    <a:lnTo>
                      <a:pt x="1874" y="211"/>
                    </a:lnTo>
                    <a:lnTo>
                      <a:pt x="1874" y="211"/>
                    </a:lnTo>
                    <a:lnTo>
                      <a:pt x="1880" y="211"/>
                    </a:lnTo>
                    <a:lnTo>
                      <a:pt x="1868" y="1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flipH="1">
                <a:off x="5053680" y="5473080"/>
                <a:ext cx="121320" cy="25920"/>
              </a:xfrm>
              <a:custGeom>
                <a:avLst/>
                <a:gdLst/>
                <a:ahLst/>
                <a:rect l="l" t="t" r="r" b="b"/>
                <a:pathLst>
                  <a:path w="79" h="13">
                    <a:moveTo>
                      <a:pt x="79" y="4"/>
                    </a:moveTo>
                    <a:lnTo>
                      <a:pt x="54" y="13"/>
                    </a:lnTo>
                    <a:lnTo>
                      <a:pt x="0" y="13"/>
                    </a:lnTo>
                    <a:lnTo>
                      <a:pt x="30" y="0"/>
                    </a:lnTo>
                    <a:lnTo>
                      <a:pt x="79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flipH="1">
                <a:off x="5053680" y="5473080"/>
                <a:ext cx="121320" cy="25920"/>
              </a:xfrm>
              <a:custGeom>
                <a:avLst/>
                <a:gdLst/>
                <a:ahLst/>
                <a:rect l="l" t="t" r="r" b="b"/>
                <a:pathLst>
                  <a:path w="79" h="13">
                    <a:moveTo>
                      <a:pt x="79" y="4"/>
                    </a:moveTo>
                    <a:lnTo>
                      <a:pt x="54" y="13"/>
                    </a:lnTo>
                    <a:lnTo>
                      <a:pt x="0" y="13"/>
                    </a:lnTo>
                    <a:lnTo>
                      <a:pt x="30" y="0"/>
                    </a:lnTo>
                    <a:lnTo>
                      <a:pt x="79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flipH="1">
                <a:off x="5092200" y="5242320"/>
                <a:ext cx="36720" cy="239040"/>
              </a:xfrm>
              <a:custGeom>
                <a:avLst/>
                <a:gdLst/>
                <a:ahLst/>
                <a:rect l="l" t="t" r="r" b="b"/>
                <a:pathLst>
                  <a:path w="24" h="121">
                    <a:moveTo>
                      <a:pt x="24" y="0"/>
                    </a:moveTo>
                    <a:lnTo>
                      <a:pt x="24" y="121"/>
                    </a:lnTo>
                    <a:lnTo>
                      <a:pt x="24" y="121"/>
                    </a:lnTo>
                    <a:lnTo>
                      <a:pt x="24" y="121"/>
                    </a:lnTo>
                    <a:lnTo>
                      <a:pt x="18" y="121"/>
                    </a:lnTo>
                    <a:lnTo>
                      <a:pt x="18" y="121"/>
                    </a:lnTo>
                    <a:lnTo>
                      <a:pt x="12" y="121"/>
                    </a:lnTo>
                    <a:lnTo>
                      <a:pt x="0" y="121"/>
                    </a:lnTo>
                    <a:lnTo>
                      <a:pt x="0" y="121"/>
                    </a:lnTo>
                    <a:lnTo>
                      <a:pt x="0" y="121"/>
                    </a:lnTo>
                    <a:lnTo>
                      <a:pt x="0" y="121"/>
                    </a:lnTo>
                    <a:lnTo>
                      <a:pt x="0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flipH="1">
                <a:off x="5092200" y="5242320"/>
                <a:ext cx="36720" cy="239040"/>
              </a:xfrm>
              <a:custGeom>
                <a:avLst/>
                <a:gdLst/>
                <a:ahLst/>
                <a:rect l="l" t="t" r="r" b="b"/>
                <a:pathLst>
                  <a:path w="24" h="121">
                    <a:moveTo>
                      <a:pt x="24" y="0"/>
                    </a:moveTo>
                    <a:lnTo>
                      <a:pt x="24" y="121"/>
                    </a:lnTo>
                    <a:lnTo>
                      <a:pt x="24" y="121"/>
                    </a:lnTo>
                    <a:lnTo>
                      <a:pt x="24" y="121"/>
                    </a:lnTo>
                    <a:lnTo>
                      <a:pt x="18" y="121"/>
                    </a:lnTo>
                    <a:lnTo>
                      <a:pt x="18" y="121"/>
                    </a:lnTo>
                    <a:lnTo>
                      <a:pt x="12" y="121"/>
                    </a:lnTo>
                    <a:lnTo>
                      <a:pt x="0" y="121"/>
                    </a:lnTo>
                    <a:lnTo>
                      <a:pt x="0" y="121"/>
                    </a:lnTo>
                    <a:lnTo>
                      <a:pt x="0" y="121"/>
                    </a:lnTo>
                    <a:lnTo>
                      <a:pt x="0" y="121"/>
                    </a:lnTo>
                    <a:lnTo>
                      <a:pt x="0" y="0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flipH="1">
                <a:off x="6029280" y="3779640"/>
                <a:ext cx="1836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H="1" flipV="1">
                <a:off x="6037560" y="3505320"/>
                <a:ext cx="1440" cy="274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flipH="1">
                <a:off x="6415560" y="3736080"/>
                <a:ext cx="562320" cy="96480"/>
              </a:xfrm>
              <a:custGeom>
                <a:avLst/>
                <a:gdLst/>
                <a:ahLst/>
                <a:rect l="l" t="t" r="r" b="b"/>
                <a:pathLst>
                  <a:path w="365" h="49">
                    <a:moveTo>
                      <a:pt x="365" y="31"/>
                    </a:moveTo>
                    <a:lnTo>
                      <a:pt x="353" y="22"/>
                    </a:lnTo>
                    <a:lnTo>
                      <a:pt x="335" y="9"/>
                    </a:lnTo>
                    <a:lnTo>
                      <a:pt x="305" y="4"/>
                    </a:lnTo>
                    <a:lnTo>
                      <a:pt x="305" y="4"/>
                    </a:lnTo>
                    <a:lnTo>
                      <a:pt x="189" y="0"/>
                    </a:lnTo>
                    <a:lnTo>
                      <a:pt x="104" y="4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25" y="13"/>
                    </a:lnTo>
                    <a:lnTo>
                      <a:pt x="12" y="22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0" y="40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67" y="45"/>
                    </a:lnTo>
                    <a:lnTo>
                      <a:pt x="128" y="40"/>
                    </a:lnTo>
                    <a:lnTo>
                      <a:pt x="183" y="36"/>
                    </a:lnTo>
                    <a:lnTo>
                      <a:pt x="183" y="36"/>
                    </a:lnTo>
                    <a:lnTo>
                      <a:pt x="232" y="36"/>
                    </a:lnTo>
                    <a:lnTo>
                      <a:pt x="305" y="31"/>
                    </a:lnTo>
                    <a:lnTo>
                      <a:pt x="365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H="1">
                <a:off x="6415560" y="3736080"/>
                <a:ext cx="562320" cy="96480"/>
              </a:xfrm>
              <a:custGeom>
                <a:avLst/>
                <a:gdLst/>
                <a:ahLst/>
                <a:rect l="l" t="t" r="r" b="b"/>
                <a:pathLst>
                  <a:path w="365" h="49">
                    <a:moveTo>
                      <a:pt x="365" y="31"/>
                    </a:moveTo>
                    <a:lnTo>
                      <a:pt x="353" y="22"/>
                    </a:lnTo>
                    <a:lnTo>
                      <a:pt x="335" y="9"/>
                    </a:lnTo>
                    <a:lnTo>
                      <a:pt x="305" y="4"/>
                    </a:lnTo>
                    <a:lnTo>
                      <a:pt x="305" y="4"/>
                    </a:lnTo>
                    <a:lnTo>
                      <a:pt x="189" y="0"/>
                    </a:lnTo>
                    <a:lnTo>
                      <a:pt x="104" y="4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25" y="13"/>
                    </a:lnTo>
                    <a:lnTo>
                      <a:pt x="12" y="22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0" y="40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67" y="45"/>
                    </a:lnTo>
                    <a:lnTo>
                      <a:pt x="128" y="40"/>
                    </a:lnTo>
                    <a:lnTo>
                      <a:pt x="183" y="36"/>
                    </a:lnTo>
                    <a:lnTo>
                      <a:pt x="183" y="36"/>
                    </a:lnTo>
                    <a:lnTo>
                      <a:pt x="232" y="36"/>
                    </a:lnTo>
                    <a:lnTo>
                      <a:pt x="305" y="31"/>
                    </a:lnTo>
                    <a:lnTo>
                      <a:pt x="365" y="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flipH="1">
                <a:off x="6395400" y="3796920"/>
                <a:ext cx="582480" cy="81000"/>
              </a:xfrm>
              <a:custGeom>
                <a:avLst/>
                <a:gdLst/>
                <a:ahLst/>
                <a:rect l="l" t="t" r="r" b="b"/>
                <a:pathLst>
                  <a:path w="378" h="41">
                    <a:moveTo>
                      <a:pt x="0" y="18"/>
                    </a:moveTo>
                    <a:lnTo>
                      <a:pt x="6" y="27"/>
                    </a:lnTo>
                    <a:lnTo>
                      <a:pt x="6" y="36"/>
                    </a:lnTo>
                    <a:lnTo>
                      <a:pt x="12" y="41"/>
                    </a:lnTo>
                    <a:lnTo>
                      <a:pt x="12" y="41"/>
                    </a:lnTo>
                    <a:lnTo>
                      <a:pt x="98" y="36"/>
                    </a:lnTo>
                    <a:lnTo>
                      <a:pt x="268" y="23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9"/>
                    </a:lnTo>
                    <a:lnTo>
                      <a:pt x="371" y="9"/>
                    </a:lnTo>
                    <a:lnTo>
                      <a:pt x="365" y="0"/>
                    </a:lnTo>
                    <a:lnTo>
                      <a:pt x="365" y="0"/>
                    </a:lnTo>
                    <a:lnTo>
                      <a:pt x="311" y="0"/>
                    </a:lnTo>
                    <a:lnTo>
                      <a:pt x="232" y="5"/>
                    </a:lnTo>
                    <a:lnTo>
                      <a:pt x="177" y="5"/>
                    </a:lnTo>
                    <a:lnTo>
                      <a:pt x="177" y="5"/>
                    </a:lnTo>
                    <a:lnTo>
                      <a:pt x="116" y="9"/>
                    </a:lnTo>
                    <a:lnTo>
                      <a:pt x="43" y="1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flipH="1">
                <a:off x="6395400" y="3796920"/>
                <a:ext cx="582480" cy="81000"/>
              </a:xfrm>
              <a:custGeom>
                <a:avLst/>
                <a:gdLst/>
                <a:ahLst/>
                <a:rect l="l" t="t" r="r" b="b"/>
                <a:pathLst>
                  <a:path w="378" h="41">
                    <a:moveTo>
                      <a:pt x="0" y="18"/>
                    </a:moveTo>
                    <a:lnTo>
                      <a:pt x="6" y="27"/>
                    </a:lnTo>
                    <a:lnTo>
                      <a:pt x="6" y="36"/>
                    </a:lnTo>
                    <a:lnTo>
                      <a:pt x="12" y="41"/>
                    </a:lnTo>
                    <a:lnTo>
                      <a:pt x="12" y="41"/>
                    </a:lnTo>
                    <a:lnTo>
                      <a:pt x="98" y="36"/>
                    </a:lnTo>
                    <a:lnTo>
                      <a:pt x="268" y="23"/>
                    </a:lnTo>
                    <a:lnTo>
                      <a:pt x="378" y="14"/>
                    </a:lnTo>
                    <a:lnTo>
                      <a:pt x="378" y="14"/>
                    </a:lnTo>
                    <a:lnTo>
                      <a:pt x="378" y="9"/>
                    </a:lnTo>
                    <a:lnTo>
                      <a:pt x="371" y="9"/>
                    </a:lnTo>
                    <a:lnTo>
                      <a:pt x="365" y="0"/>
                    </a:lnTo>
                    <a:lnTo>
                      <a:pt x="365" y="0"/>
                    </a:lnTo>
                    <a:lnTo>
                      <a:pt x="311" y="0"/>
                    </a:lnTo>
                    <a:lnTo>
                      <a:pt x="232" y="5"/>
                    </a:lnTo>
                    <a:lnTo>
                      <a:pt x="177" y="5"/>
                    </a:lnTo>
                    <a:lnTo>
                      <a:pt x="177" y="5"/>
                    </a:lnTo>
                    <a:lnTo>
                      <a:pt x="116" y="9"/>
                    </a:lnTo>
                    <a:lnTo>
                      <a:pt x="43" y="14"/>
                    </a:lnTo>
                    <a:lnTo>
                      <a:pt x="0" y="1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flipH="1">
                <a:off x="4800600" y="3850920"/>
                <a:ext cx="225000" cy="1231560"/>
              </a:xfrm>
              <a:custGeom>
                <a:avLst/>
                <a:gdLst/>
                <a:ahLst/>
                <a:rect l="l" t="t" r="r" b="b"/>
                <a:pathLst>
                  <a:path w="146" h="624">
                    <a:moveTo>
                      <a:pt x="0" y="0"/>
                    </a:moveTo>
                    <a:lnTo>
                      <a:pt x="18" y="0"/>
                    </a:lnTo>
                    <a:lnTo>
                      <a:pt x="24" y="0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6" y="18"/>
                    </a:lnTo>
                    <a:lnTo>
                      <a:pt x="43" y="41"/>
                    </a:lnTo>
                    <a:lnTo>
                      <a:pt x="55" y="72"/>
                    </a:lnTo>
                    <a:lnTo>
                      <a:pt x="67" y="112"/>
                    </a:lnTo>
                    <a:lnTo>
                      <a:pt x="79" y="153"/>
                    </a:lnTo>
                    <a:lnTo>
                      <a:pt x="97" y="198"/>
                    </a:lnTo>
                    <a:lnTo>
                      <a:pt x="109" y="243"/>
                    </a:lnTo>
                    <a:lnTo>
                      <a:pt x="122" y="283"/>
                    </a:lnTo>
                    <a:lnTo>
                      <a:pt x="134" y="323"/>
                    </a:lnTo>
                    <a:lnTo>
                      <a:pt x="140" y="355"/>
                    </a:lnTo>
                    <a:lnTo>
                      <a:pt x="146" y="373"/>
                    </a:lnTo>
                    <a:lnTo>
                      <a:pt x="146" y="373"/>
                    </a:lnTo>
                    <a:lnTo>
                      <a:pt x="146" y="445"/>
                    </a:lnTo>
                    <a:lnTo>
                      <a:pt x="140" y="543"/>
                    </a:lnTo>
                    <a:lnTo>
                      <a:pt x="140" y="602"/>
                    </a:lnTo>
                    <a:lnTo>
                      <a:pt x="140" y="602"/>
                    </a:lnTo>
                    <a:lnTo>
                      <a:pt x="134" y="611"/>
                    </a:lnTo>
                    <a:lnTo>
                      <a:pt x="134" y="615"/>
                    </a:lnTo>
                    <a:lnTo>
                      <a:pt x="134" y="620"/>
                    </a:lnTo>
                    <a:lnTo>
                      <a:pt x="134" y="620"/>
                    </a:lnTo>
                    <a:lnTo>
                      <a:pt x="128" y="620"/>
                    </a:lnTo>
                    <a:lnTo>
                      <a:pt x="128" y="620"/>
                    </a:lnTo>
                    <a:lnTo>
                      <a:pt x="116" y="6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flipH="1">
                <a:off x="6901920" y="5092200"/>
                <a:ext cx="477720" cy="70920"/>
              </a:xfrm>
              <a:custGeom>
                <a:avLst/>
                <a:gdLst/>
                <a:ahLst/>
                <a:rect l="l" t="t" r="r" b="b"/>
                <a:pathLst>
                  <a:path w="310" h="36">
                    <a:moveTo>
                      <a:pt x="6" y="36"/>
                    </a:moveTo>
                    <a:lnTo>
                      <a:pt x="79" y="31"/>
                    </a:lnTo>
                    <a:lnTo>
                      <a:pt x="219" y="22"/>
                    </a:lnTo>
                    <a:lnTo>
                      <a:pt x="310" y="22"/>
                    </a:lnTo>
                    <a:lnTo>
                      <a:pt x="310" y="22"/>
                    </a:lnTo>
                    <a:lnTo>
                      <a:pt x="237" y="13"/>
                    </a:lnTo>
                    <a:lnTo>
                      <a:pt x="140" y="4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54" y="4"/>
                    </a:lnTo>
                    <a:lnTo>
                      <a:pt x="18" y="4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6" y="22"/>
                    </a:lnTo>
                    <a:lnTo>
                      <a:pt x="6" y="31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 flipH="1">
                <a:off x="8206920" y="4940640"/>
                <a:ext cx="234000" cy="45000"/>
              </a:xfrm>
              <a:custGeom>
                <a:avLst/>
                <a:gdLst/>
                <a:ahLst/>
                <a:rect l="l" t="t" r="r" b="b"/>
                <a:pathLst>
                  <a:path w="152" h="23">
                    <a:moveTo>
                      <a:pt x="12" y="23"/>
                    </a:moveTo>
                    <a:lnTo>
                      <a:pt x="55" y="23"/>
                    </a:lnTo>
                    <a:lnTo>
                      <a:pt x="110" y="14"/>
                    </a:lnTo>
                    <a:lnTo>
                      <a:pt x="152" y="14"/>
                    </a:lnTo>
                    <a:lnTo>
                      <a:pt x="152" y="14"/>
                    </a:lnTo>
                    <a:lnTo>
                      <a:pt x="91" y="5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6" y="18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H="1">
                <a:off x="8206920" y="4940640"/>
                <a:ext cx="234000" cy="45000"/>
              </a:xfrm>
              <a:custGeom>
                <a:avLst/>
                <a:gdLst/>
                <a:ahLst/>
                <a:rect l="l" t="t" r="r" b="b"/>
                <a:pathLst>
                  <a:path w="152" h="23">
                    <a:moveTo>
                      <a:pt x="12" y="23"/>
                    </a:moveTo>
                    <a:lnTo>
                      <a:pt x="55" y="23"/>
                    </a:lnTo>
                    <a:lnTo>
                      <a:pt x="110" y="14"/>
                    </a:lnTo>
                    <a:lnTo>
                      <a:pt x="152" y="14"/>
                    </a:lnTo>
                    <a:lnTo>
                      <a:pt x="152" y="14"/>
                    </a:lnTo>
                    <a:lnTo>
                      <a:pt x="91" y="5"/>
                    </a:lnTo>
                    <a:lnTo>
                      <a:pt x="3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6" y="18"/>
                    </a:lnTo>
                    <a:lnTo>
                      <a:pt x="12" y="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H="1">
                <a:off x="6677280" y="4871160"/>
                <a:ext cx="271080" cy="335520"/>
              </a:xfrm>
              <a:custGeom>
                <a:avLst/>
                <a:gdLst/>
                <a:ahLst/>
                <a:rect l="l" t="t" r="r" b="b"/>
                <a:pathLst>
                  <a:path w="176" h="170">
                    <a:moveTo>
                      <a:pt x="109" y="0"/>
                    </a:moveTo>
                    <a:lnTo>
                      <a:pt x="127" y="0"/>
                    </a:lnTo>
                    <a:lnTo>
                      <a:pt x="140" y="9"/>
                    </a:lnTo>
                    <a:lnTo>
                      <a:pt x="158" y="31"/>
                    </a:lnTo>
                    <a:lnTo>
                      <a:pt x="170" y="49"/>
                    </a:lnTo>
                    <a:lnTo>
                      <a:pt x="176" y="67"/>
                    </a:lnTo>
                    <a:lnTo>
                      <a:pt x="176" y="94"/>
                    </a:lnTo>
                    <a:lnTo>
                      <a:pt x="176" y="94"/>
                    </a:lnTo>
                    <a:lnTo>
                      <a:pt x="164" y="143"/>
                    </a:lnTo>
                    <a:lnTo>
                      <a:pt x="140" y="166"/>
                    </a:lnTo>
                    <a:lnTo>
                      <a:pt x="109" y="170"/>
                    </a:lnTo>
                    <a:lnTo>
                      <a:pt x="109" y="170"/>
                    </a:lnTo>
                    <a:lnTo>
                      <a:pt x="54" y="170"/>
                    </a:lnTo>
                    <a:lnTo>
                      <a:pt x="36" y="170"/>
                    </a:lnTo>
                    <a:lnTo>
                      <a:pt x="24" y="157"/>
                    </a:lnTo>
                    <a:lnTo>
                      <a:pt x="12" y="134"/>
                    </a:lnTo>
                    <a:lnTo>
                      <a:pt x="0" y="116"/>
                    </a:lnTo>
                    <a:lnTo>
                      <a:pt x="0" y="85"/>
                    </a:lnTo>
                    <a:lnTo>
                      <a:pt x="0" y="85"/>
                    </a:lnTo>
                    <a:lnTo>
                      <a:pt x="6" y="40"/>
                    </a:lnTo>
                    <a:lnTo>
                      <a:pt x="24" y="9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flipH="1">
                <a:off x="6686280" y="5064840"/>
                <a:ext cx="169560" cy="141840"/>
              </a:xfrm>
              <a:custGeom>
                <a:avLst/>
                <a:gdLst/>
                <a:ahLst/>
                <a:rect l="l" t="t" r="r" b="b"/>
                <a:pathLst>
                  <a:path w="110" h="72">
                    <a:moveTo>
                      <a:pt x="0" y="72"/>
                    </a:moveTo>
                    <a:lnTo>
                      <a:pt x="7" y="72"/>
                    </a:lnTo>
                    <a:lnTo>
                      <a:pt x="31" y="72"/>
                    </a:lnTo>
                    <a:lnTo>
                      <a:pt x="49" y="72"/>
                    </a:lnTo>
                    <a:lnTo>
                      <a:pt x="49" y="72"/>
                    </a:lnTo>
                    <a:lnTo>
                      <a:pt x="80" y="68"/>
                    </a:lnTo>
                    <a:lnTo>
                      <a:pt x="98" y="54"/>
                    </a:lnTo>
                    <a:lnTo>
                      <a:pt x="110" y="32"/>
                    </a:lnTo>
                    <a:lnTo>
                      <a:pt x="110" y="32"/>
                    </a:lnTo>
                    <a:lnTo>
                      <a:pt x="98" y="23"/>
                    </a:lnTo>
                    <a:lnTo>
                      <a:pt x="80" y="9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1" y="27"/>
                    </a:lnTo>
                    <a:lnTo>
                      <a:pt x="37" y="59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flipH="1">
                <a:off x="6686280" y="5064840"/>
                <a:ext cx="169560" cy="141840"/>
              </a:xfrm>
              <a:custGeom>
                <a:avLst/>
                <a:gdLst/>
                <a:ahLst/>
                <a:rect l="l" t="t" r="r" b="b"/>
                <a:pathLst>
                  <a:path w="110" h="72">
                    <a:moveTo>
                      <a:pt x="0" y="72"/>
                    </a:moveTo>
                    <a:lnTo>
                      <a:pt x="7" y="72"/>
                    </a:lnTo>
                    <a:lnTo>
                      <a:pt x="31" y="72"/>
                    </a:lnTo>
                    <a:lnTo>
                      <a:pt x="49" y="72"/>
                    </a:lnTo>
                    <a:lnTo>
                      <a:pt x="49" y="72"/>
                    </a:lnTo>
                    <a:lnTo>
                      <a:pt x="80" y="68"/>
                    </a:lnTo>
                    <a:lnTo>
                      <a:pt x="98" y="54"/>
                    </a:lnTo>
                    <a:lnTo>
                      <a:pt x="110" y="32"/>
                    </a:lnTo>
                    <a:lnTo>
                      <a:pt x="110" y="32"/>
                    </a:lnTo>
                    <a:lnTo>
                      <a:pt x="98" y="23"/>
                    </a:lnTo>
                    <a:lnTo>
                      <a:pt x="80" y="9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1" y="27"/>
                    </a:lnTo>
                    <a:lnTo>
                      <a:pt x="37" y="59"/>
                    </a:lnTo>
                    <a:lnTo>
                      <a:pt x="0" y="7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flipH="1">
                <a:off x="6743160" y="5074920"/>
                <a:ext cx="92520" cy="131760"/>
              </a:xfrm>
              <a:custGeom>
                <a:avLst/>
                <a:gdLst/>
                <a:ahLst/>
                <a:rect l="l" t="t" r="r" b="b"/>
                <a:pathLst>
                  <a:path w="60" h="67">
                    <a:moveTo>
                      <a:pt x="0" y="67"/>
                    </a:moveTo>
                    <a:lnTo>
                      <a:pt x="12" y="67"/>
                    </a:lnTo>
                    <a:lnTo>
                      <a:pt x="30" y="54"/>
                    </a:lnTo>
                    <a:lnTo>
                      <a:pt x="42" y="40"/>
                    </a:lnTo>
                    <a:lnTo>
                      <a:pt x="54" y="22"/>
                    </a:lnTo>
                    <a:lnTo>
                      <a:pt x="60" y="9"/>
                    </a:lnTo>
                    <a:lnTo>
                      <a:pt x="6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H="1">
                <a:off x="6732360" y="5074920"/>
                <a:ext cx="93960" cy="131760"/>
              </a:xfrm>
              <a:custGeom>
                <a:avLst/>
                <a:gdLst/>
                <a:ahLst/>
                <a:rect l="l" t="t" r="r" b="b"/>
                <a:pathLst>
                  <a:path w="61" h="67">
                    <a:moveTo>
                      <a:pt x="0" y="67"/>
                    </a:moveTo>
                    <a:lnTo>
                      <a:pt x="18" y="67"/>
                    </a:lnTo>
                    <a:lnTo>
                      <a:pt x="30" y="54"/>
                    </a:lnTo>
                    <a:lnTo>
                      <a:pt x="48" y="40"/>
                    </a:lnTo>
                    <a:lnTo>
                      <a:pt x="54" y="22"/>
                    </a:lnTo>
                    <a:lnTo>
                      <a:pt x="61" y="9"/>
                    </a:lnTo>
                    <a:lnTo>
                      <a:pt x="6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H="1">
                <a:off x="6714000" y="5074920"/>
                <a:ext cx="103320" cy="13176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67"/>
                    </a:moveTo>
                    <a:lnTo>
                      <a:pt x="18" y="67"/>
                    </a:lnTo>
                    <a:lnTo>
                      <a:pt x="36" y="54"/>
                    </a:lnTo>
                    <a:lnTo>
                      <a:pt x="48" y="40"/>
                    </a:lnTo>
                    <a:lnTo>
                      <a:pt x="55" y="22"/>
                    </a:lnTo>
                    <a:lnTo>
                      <a:pt x="67" y="9"/>
                    </a:lnTo>
                    <a:lnTo>
                      <a:pt x="6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H="1">
                <a:off x="6705000" y="5074920"/>
                <a:ext cx="102960" cy="13176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67"/>
                    </a:moveTo>
                    <a:lnTo>
                      <a:pt x="18" y="67"/>
                    </a:lnTo>
                    <a:lnTo>
                      <a:pt x="36" y="58"/>
                    </a:lnTo>
                    <a:lnTo>
                      <a:pt x="49" y="40"/>
                    </a:lnTo>
                    <a:lnTo>
                      <a:pt x="61" y="27"/>
                    </a:lnTo>
                    <a:lnTo>
                      <a:pt x="61" y="13"/>
                    </a:lnTo>
                    <a:lnTo>
                      <a:pt x="6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flipH="1">
                <a:off x="6695280" y="5074920"/>
                <a:ext cx="103320" cy="141840"/>
              </a:xfrm>
              <a:custGeom>
                <a:avLst/>
                <a:gdLst/>
                <a:ahLst/>
                <a:rect l="l" t="t" r="r" b="b"/>
                <a:pathLst>
                  <a:path w="67" h="72">
                    <a:moveTo>
                      <a:pt x="0" y="72"/>
                    </a:moveTo>
                    <a:lnTo>
                      <a:pt x="24" y="67"/>
                    </a:lnTo>
                    <a:lnTo>
                      <a:pt x="36" y="58"/>
                    </a:lnTo>
                    <a:lnTo>
                      <a:pt x="49" y="40"/>
                    </a:lnTo>
                    <a:lnTo>
                      <a:pt x="61" y="27"/>
                    </a:lnTo>
                    <a:lnTo>
                      <a:pt x="67" y="13"/>
                    </a:lnTo>
                    <a:lnTo>
                      <a:pt x="6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H="1">
                <a:off x="6686280" y="5074920"/>
                <a:ext cx="93960" cy="141840"/>
              </a:xfrm>
              <a:custGeom>
                <a:avLst/>
                <a:gdLst/>
                <a:ahLst/>
                <a:rect l="l" t="t" r="r" b="b"/>
                <a:pathLst>
                  <a:path w="61" h="72">
                    <a:moveTo>
                      <a:pt x="0" y="72"/>
                    </a:moveTo>
                    <a:lnTo>
                      <a:pt x="18" y="67"/>
                    </a:lnTo>
                    <a:lnTo>
                      <a:pt x="31" y="58"/>
                    </a:lnTo>
                    <a:lnTo>
                      <a:pt x="43" y="40"/>
                    </a:lnTo>
                    <a:lnTo>
                      <a:pt x="55" y="27"/>
                    </a:lnTo>
                    <a:lnTo>
                      <a:pt x="61" y="13"/>
                    </a:lnTo>
                    <a:lnTo>
                      <a:pt x="6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 flipH="1">
                <a:off x="6452640" y="4871160"/>
                <a:ext cx="280080" cy="353520"/>
              </a:xfrm>
              <a:custGeom>
                <a:avLst/>
                <a:gdLst/>
                <a:ahLst/>
                <a:rect l="l" t="t" r="r" b="b"/>
                <a:pathLst>
                  <a:path w="182" h="179">
                    <a:moveTo>
                      <a:pt x="115" y="0"/>
                    </a:moveTo>
                    <a:lnTo>
                      <a:pt x="127" y="9"/>
                    </a:lnTo>
                    <a:lnTo>
                      <a:pt x="146" y="17"/>
                    </a:lnTo>
                    <a:lnTo>
                      <a:pt x="158" y="31"/>
                    </a:lnTo>
                    <a:lnTo>
                      <a:pt x="170" y="49"/>
                    </a:lnTo>
                    <a:lnTo>
                      <a:pt x="182" y="76"/>
                    </a:lnTo>
                    <a:lnTo>
                      <a:pt x="182" y="94"/>
                    </a:lnTo>
                    <a:lnTo>
                      <a:pt x="182" y="94"/>
                    </a:lnTo>
                    <a:lnTo>
                      <a:pt x="170" y="148"/>
                    </a:lnTo>
                    <a:lnTo>
                      <a:pt x="146" y="170"/>
                    </a:lnTo>
                    <a:lnTo>
                      <a:pt x="115" y="179"/>
                    </a:lnTo>
                    <a:lnTo>
                      <a:pt x="115" y="179"/>
                    </a:lnTo>
                    <a:lnTo>
                      <a:pt x="60" y="179"/>
                    </a:lnTo>
                    <a:lnTo>
                      <a:pt x="36" y="170"/>
                    </a:lnTo>
                    <a:lnTo>
                      <a:pt x="24" y="161"/>
                    </a:lnTo>
                    <a:lnTo>
                      <a:pt x="12" y="143"/>
                    </a:lnTo>
                    <a:lnTo>
                      <a:pt x="6" y="116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12" y="49"/>
                    </a:lnTo>
                    <a:lnTo>
                      <a:pt x="30" y="13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flipH="1">
                <a:off x="6460920" y="5074920"/>
                <a:ext cx="169560" cy="141840"/>
              </a:xfrm>
              <a:custGeom>
                <a:avLst/>
                <a:gdLst/>
                <a:ahLst/>
                <a:rect l="l" t="t" r="r" b="b"/>
                <a:pathLst>
                  <a:path w="110" h="72">
                    <a:moveTo>
                      <a:pt x="0" y="72"/>
                    </a:moveTo>
                    <a:lnTo>
                      <a:pt x="7" y="72"/>
                    </a:lnTo>
                    <a:lnTo>
                      <a:pt x="31" y="72"/>
                    </a:lnTo>
                    <a:lnTo>
                      <a:pt x="49" y="72"/>
                    </a:lnTo>
                    <a:lnTo>
                      <a:pt x="49" y="72"/>
                    </a:lnTo>
                    <a:lnTo>
                      <a:pt x="73" y="67"/>
                    </a:lnTo>
                    <a:lnTo>
                      <a:pt x="92" y="49"/>
                    </a:lnTo>
                    <a:lnTo>
                      <a:pt x="110" y="31"/>
                    </a:lnTo>
                    <a:lnTo>
                      <a:pt x="110" y="31"/>
                    </a:lnTo>
                    <a:lnTo>
                      <a:pt x="92" y="22"/>
                    </a:lnTo>
                    <a:lnTo>
                      <a:pt x="80" y="9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55" y="31"/>
                    </a:lnTo>
                    <a:lnTo>
                      <a:pt x="37" y="58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flipH="1">
                <a:off x="6460920" y="5074920"/>
                <a:ext cx="169560" cy="141840"/>
              </a:xfrm>
              <a:custGeom>
                <a:avLst/>
                <a:gdLst/>
                <a:ahLst/>
                <a:rect l="l" t="t" r="r" b="b"/>
                <a:pathLst>
                  <a:path w="110" h="72">
                    <a:moveTo>
                      <a:pt x="0" y="72"/>
                    </a:moveTo>
                    <a:lnTo>
                      <a:pt x="7" y="72"/>
                    </a:lnTo>
                    <a:lnTo>
                      <a:pt x="31" y="72"/>
                    </a:lnTo>
                    <a:lnTo>
                      <a:pt x="49" y="72"/>
                    </a:lnTo>
                    <a:lnTo>
                      <a:pt x="49" y="72"/>
                    </a:lnTo>
                    <a:lnTo>
                      <a:pt x="73" y="67"/>
                    </a:lnTo>
                    <a:lnTo>
                      <a:pt x="92" y="49"/>
                    </a:lnTo>
                    <a:lnTo>
                      <a:pt x="110" y="31"/>
                    </a:lnTo>
                    <a:lnTo>
                      <a:pt x="110" y="31"/>
                    </a:lnTo>
                    <a:lnTo>
                      <a:pt x="92" y="22"/>
                    </a:lnTo>
                    <a:lnTo>
                      <a:pt x="80" y="9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55" y="31"/>
                    </a:lnTo>
                    <a:lnTo>
                      <a:pt x="37" y="58"/>
                    </a:lnTo>
                    <a:lnTo>
                      <a:pt x="0" y="7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H="1">
                <a:off x="6518520" y="5074920"/>
                <a:ext cx="101520" cy="149760"/>
              </a:xfrm>
              <a:custGeom>
                <a:avLst/>
                <a:gdLst/>
                <a:ahLst/>
                <a:rect l="l" t="t" r="r" b="b"/>
                <a:pathLst>
                  <a:path w="66" h="76">
                    <a:moveTo>
                      <a:pt x="0" y="76"/>
                    </a:moveTo>
                    <a:lnTo>
                      <a:pt x="18" y="67"/>
                    </a:lnTo>
                    <a:lnTo>
                      <a:pt x="36" y="58"/>
                    </a:lnTo>
                    <a:lnTo>
                      <a:pt x="48" y="45"/>
                    </a:lnTo>
                    <a:lnTo>
                      <a:pt x="54" y="31"/>
                    </a:lnTo>
                    <a:lnTo>
                      <a:pt x="60" y="13"/>
                    </a:lnTo>
                    <a:lnTo>
                      <a:pt x="6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flipH="1">
                <a:off x="6507360" y="5074920"/>
                <a:ext cx="103320" cy="149760"/>
              </a:xfrm>
              <a:custGeom>
                <a:avLst/>
                <a:gdLst/>
                <a:ahLst/>
                <a:rect l="l" t="t" r="r" b="b"/>
                <a:pathLst>
                  <a:path w="67" h="76">
                    <a:moveTo>
                      <a:pt x="0" y="76"/>
                    </a:moveTo>
                    <a:lnTo>
                      <a:pt x="24" y="67"/>
                    </a:lnTo>
                    <a:lnTo>
                      <a:pt x="36" y="58"/>
                    </a:lnTo>
                    <a:lnTo>
                      <a:pt x="48" y="45"/>
                    </a:lnTo>
                    <a:lnTo>
                      <a:pt x="60" y="31"/>
                    </a:lnTo>
                    <a:lnTo>
                      <a:pt x="67" y="13"/>
                    </a:lnTo>
                    <a:lnTo>
                      <a:pt x="6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flipH="1">
                <a:off x="6498360" y="5074920"/>
                <a:ext cx="102960" cy="149760"/>
              </a:xfrm>
              <a:custGeom>
                <a:avLst/>
                <a:gdLst/>
                <a:ahLst/>
                <a:rect l="l" t="t" r="r" b="b"/>
                <a:pathLst>
                  <a:path w="67" h="76">
                    <a:moveTo>
                      <a:pt x="0" y="76"/>
                    </a:moveTo>
                    <a:lnTo>
                      <a:pt x="24" y="67"/>
                    </a:lnTo>
                    <a:lnTo>
                      <a:pt x="36" y="58"/>
                    </a:lnTo>
                    <a:lnTo>
                      <a:pt x="48" y="45"/>
                    </a:lnTo>
                    <a:lnTo>
                      <a:pt x="61" y="31"/>
                    </a:lnTo>
                    <a:lnTo>
                      <a:pt x="67" y="13"/>
                    </a:lnTo>
                    <a:lnTo>
                      <a:pt x="6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flipH="1">
                <a:off x="6489000" y="5074920"/>
                <a:ext cx="93960" cy="149760"/>
              </a:xfrm>
              <a:custGeom>
                <a:avLst/>
                <a:gdLst/>
                <a:ahLst/>
                <a:rect l="l" t="t" r="r" b="b"/>
                <a:pathLst>
                  <a:path w="61" h="76">
                    <a:moveTo>
                      <a:pt x="0" y="76"/>
                    </a:moveTo>
                    <a:lnTo>
                      <a:pt x="18" y="72"/>
                    </a:lnTo>
                    <a:lnTo>
                      <a:pt x="30" y="58"/>
                    </a:lnTo>
                    <a:lnTo>
                      <a:pt x="49" y="45"/>
                    </a:lnTo>
                    <a:lnTo>
                      <a:pt x="55" y="31"/>
                    </a:lnTo>
                    <a:lnTo>
                      <a:pt x="61" y="13"/>
                    </a:lnTo>
                    <a:lnTo>
                      <a:pt x="6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H="1">
                <a:off x="6471000" y="5082480"/>
                <a:ext cx="102960" cy="142200"/>
              </a:xfrm>
              <a:custGeom>
                <a:avLst/>
                <a:gdLst/>
                <a:ahLst/>
                <a:rect l="l" t="t" r="r" b="b"/>
                <a:pathLst>
                  <a:path w="67" h="72">
                    <a:moveTo>
                      <a:pt x="0" y="72"/>
                    </a:moveTo>
                    <a:lnTo>
                      <a:pt x="18" y="68"/>
                    </a:lnTo>
                    <a:lnTo>
                      <a:pt x="36" y="54"/>
                    </a:lnTo>
                    <a:lnTo>
                      <a:pt x="49" y="45"/>
                    </a:lnTo>
                    <a:lnTo>
                      <a:pt x="55" y="27"/>
                    </a:lnTo>
                    <a:lnTo>
                      <a:pt x="67" y="9"/>
                    </a:lnTo>
                    <a:lnTo>
                      <a:pt x="6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H="1">
                <a:off x="6460920" y="5082480"/>
                <a:ext cx="93960" cy="142200"/>
              </a:xfrm>
              <a:custGeom>
                <a:avLst/>
                <a:gdLst/>
                <a:ahLst/>
                <a:rect l="l" t="t" r="r" b="b"/>
                <a:pathLst>
                  <a:path w="61" h="72">
                    <a:moveTo>
                      <a:pt x="0" y="72"/>
                    </a:moveTo>
                    <a:lnTo>
                      <a:pt x="12" y="68"/>
                    </a:lnTo>
                    <a:lnTo>
                      <a:pt x="31" y="59"/>
                    </a:lnTo>
                    <a:lnTo>
                      <a:pt x="43" y="45"/>
                    </a:lnTo>
                    <a:lnTo>
                      <a:pt x="55" y="27"/>
                    </a:lnTo>
                    <a:lnTo>
                      <a:pt x="55" y="14"/>
                    </a:lnTo>
                    <a:lnTo>
                      <a:pt x="6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flipH="1">
                <a:off x="5889600" y="4825800"/>
                <a:ext cx="2411280" cy="416160"/>
              </a:xfrm>
              <a:custGeom>
                <a:avLst/>
                <a:gdLst/>
                <a:ahLst/>
                <a:rect l="l" t="t" r="r" b="b"/>
                <a:pathLst>
                  <a:path w="1564" h="211">
                    <a:moveTo>
                      <a:pt x="1485" y="180"/>
                    </a:moveTo>
                    <a:lnTo>
                      <a:pt x="1479" y="166"/>
                    </a:lnTo>
                    <a:lnTo>
                      <a:pt x="603" y="108"/>
                    </a:lnTo>
                    <a:lnTo>
                      <a:pt x="524" y="5"/>
                    </a:lnTo>
                    <a:lnTo>
                      <a:pt x="317" y="0"/>
                    </a:lnTo>
                    <a:lnTo>
                      <a:pt x="274" y="85"/>
                    </a:lnTo>
                    <a:lnTo>
                      <a:pt x="0" y="63"/>
                    </a:lnTo>
                    <a:lnTo>
                      <a:pt x="0" y="90"/>
                    </a:lnTo>
                    <a:lnTo>
                      <a:pt x="1564" y="211"/>
                    </a:lnTo>
                    <a:lnTo>
                      <a:pt x="1485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H="1">
                <a:off x="7605720" y="4904640"/>
                <a:ext cx="234000" cy="347400"/>
              </a:xfrm>
              <a:custGeom>
                <a:avLst/>
                <a:gdLst/>
                <a:ahLst/>
                <a:rect l="l" t="t" r="r" b="b"/>
                <a:pathLst>
                  <a:path w="152" h="176">
                    <a:moveTo>
                      <a:pt x="91" y="0"/>
                    </a:moveTo>
                    <a:lnTo>
                      <a:pt x="109" y="9"/>
                    </a:lnTo>
                    <a:lnTo>
                      <a:pt x="127" y="18"/>
                    </a:lnTo>
                    <a:lnTo>
                      <a:pt x="139" y="41"/>
                    </a:lnTo>
                    <a:lnTo>
                      <a:pt x="146" y="63"/>
                    </a:lnTo>
                    <a:lnTo>
                      <a:pt x="152" y="90"/>
                    </a:lnTo>
                    <a:lnTo>
                      <a:pt x="152" y="90"/>
                    </a:lnTo>
                    <a:lnTo>
                      <a:pt x="146" y="135"/>
                    </a:lnTo>
                    <a:lnTo>
                      <a:pt x="121" y="162"/>
                    </a:lnTo>
                    <a:lnTo>
                      <a:pt x="91" y="176"/>
                    </a:lnTo>
                    <a:lnTo>
                      <a:pt x="91" y="176"/>
                    </a:lnTo>
                    <a:lnTo>
                      <a:pt x="54" y="176"/>
                    </a:lnTo>
                    <a:lnTo>
                      <a:pt x="36" y="176"/>
                    </a:lnTo>
                    <a:lnTo>
                      <a:pt x="18" y="162"/>
                    </a:lnTo>
                    <a:lnTo>
                      <a:pt x="6" y="144"/>
                    </a:lnTo>
                    <a:lnTo>
                      <a:pt x="0" y="117"/>
                    </a:lnTo>
                    <a:lnTo>
                      <a:pt x="0" y="90"/>
                    </a:lnTo>
                    <a:lnTo>
                      <a:pt x="0" y="90"/>
                    </a:lnTo>
                    <a:lnTo>
                      <a:pt x="6" y="45"/>
                    </a:lnTo>
                    <a:lnTo>
                      <a:pt x="24" y="14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H="1">
                <a:off x="7596000" y="5118120"/>
                <a:ext cx="150840" cy="133560"/>
              </a:xfrm>
              <a:custGeom>
                <a:avLst/>
                <a:gdLst/>
                <a:ahLst/>
                <a:rect l="l" t="t" r="r" b="b"/>
                <a:pathLst>
                  <a:path w="98" h="68">
                    <a:moveTo>
                      <a:pt x="92" y="45"/>
                    </a:moveTo>
                    <a:lnTo>
                      <a:pt x="98" y="41"/>
                    </a:lnTo>
                    <a:lnTo>
                      <a:pt x="98" y="36"/>
                    </a:lnTo>
                    <a:lnTo>
                      <a:pt x="98" y="32"/>
                    </a:lnTo>
                    <a:lnTo>
                      <a:pt x="98" y="32"/>
                    </a:lnTo>
                    <a:lnTo>
                      <a:pt x="86" y="23"/>
                    </a:lnTo>
                    <a:lnTo>
                      <a:pt x="73" y="9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43" y="32"/>
                    </a:lnTo>
                    <a:lnTo>
                      <a:pt x="25" y="54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6" y="68"/>
                    </a:lnTo>
                    <a:lnTo>
                      <a:pt x="31" y="68"/>
                    </a:lnTo>
                    <a:lnTo>
                      <a:pt x="55" y="68"/>
                    </a:lnTo>
                    <a:lnTo>
                      <a:pt x="55" y="68"/>
                    </a:lnTo>
                    <a:lnTo>
                      <a:pt x="67" y="68"/>
                    </a:lnTo>
                    <a:lnTo>
                      <a:pt x="79" y="59"/>
                    </a:lnTo>
                    <a:lnTo>
                      <a:pt x="92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H="1">
                <a:off x="7653600" y="5118120"/>
                <a:ext cx="102960" cy="141840"/>
              </a:xfrm>
              <a:custGeom>
                <a:avLst/>
                <a:gdLst/>
                <a:ahLst/>
                <a:rect l="l" t="t" r="r" b="b"/>
                <a:pathLst>
                  <a:path w="67" h="72">
                    <a:moveTo>
                      <a:pt x="0" y="72"/>
                    </a:moveTo>
                    <a:lnTo>
                      <a:pt x="25" y="68"/>
                    </a:lnTo>
                    <a:lnTo>
                      <a:pt x="37" y="54"/>
                    </a:lnTo>
                    <a:lnTo>
                      <a:pt x="49" y="41"/>
                    </a:lnTo>
                    <a:lnTo>
                      <a:pt x="61" y="27"/>
                    </a:lnTo>
                    <a:lnTo>
                      <a:pt x="67" y="9"/>
                    </a:lnTo>
                    <a:lnTo>
                      <a:pt x="6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flipH="1">
                <a:off x="7643880" y="5145480"/>
                <a:ext cx="83520" cy="114480"/>
              </a:xfrm>
              <a:custGeom>
                <a:avLst/>
                <a:gdLst/>
                <a:ahLst/>
                <a:rect l="l" t="t" r="r" b="b"/>
                <a:pathLst>
                  <a:path w="54" h="58">
                    <a:moveTo>
                      <a:pt x="0" y="58"/>
                    </a:moveTo>
                    <a:lnTo>
                      <a:pt x="18" y="49"/>
                    </a:lnTo>
                    <a:lnTo>
                      <a:pt x="36" y="31"/>
                    </a:lnTo>
                    <a:lnTo>
                      <a:pt x="48" y="13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flipH="1">
                <a:off x="7634520" y="5163480"/>
                <a:ext cx="83160" cy="96480"/>
              </a:xfrm>
              <a:custGeom>
                <a:avLst/>
                <a:gdLst/>
                <a:ahLst/>
                <a:rect l="l" t="t" r="r" b="b"/>
                <a:pathLst>
                  <a:path w="54" h="49">
                    <a:moveTo>
                      <a:pt x="0" y="49"/>
                    </a:moveTo>
                    <a:lnTo>
                      <a:pt x="24" y="40"/>
                    </a:lnTo>
                    <a:lnTo>
                      <a:pt x="36" y="27"/>
                    </a:lnTo>
                    <a:lnTo>
                      <a:pt x="48" y="13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flipH="1">
                <a:off x="7625880" y="5171400"/>
                <a:ext cx="73440" cy="9828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0" y="50"/>
                    </a:moveTo>
                    <a:lnTo>
                      <a:pt x="24" y="36"/>
                    </a:lnTo>
                    <a:lnTo>
                      <a:pt x="36" y="18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H="1">
                <a:off x="7614720" y="5189040"/>
                <a:ext cx="65880" cy="8100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0" y="41"/>
                    </a:moveTo>
                    <a:lnTo>
                      <a:pt x="12" y="27"/>
                    </a:lnTo>
                    <a:lnTo>
                      <a:pt x="30" y="14"/>
                    </a:lnTo>
                    <a:lnTo>
                      <a:pt x="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H="1">
                <a:off x="7615080" y="5198760"/>
                <a:ext cx="56880" cy="7092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0" y="36"/>
                    </a:moveTo>
                    <a:lnTo>
                      <a:pt x="18" y="27"/>
                    </a:lnTo>
                    <a:lnTo>
                      <a:pt x="30" y="13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flipH="1">
                <a:off x="7718040" y="4985640"/>
                <a:ext cx="84960" cy="203040"/>
              </a:xfrm>
              <a:custGeom>
                <a:avLst/>
                <a:gdLst/>
                <a:ahLst/>
                <a:rect l="l" t="t" r="r" b="b"/>
                <a:pathLst>
                  <a:path w="55" h="103">
                    <a:moveTo>
                      <a:pt x="30" y="0"/>
                    </a:moveTo>
                    <a:lnTo>
                      <a:pt x="12" y="9"/>
                    </a:lnTo>
                    <a:lnTo>
                      <a:pt x="6" y="27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6" y="76"/>
                    </a:lnTo>
                    <a:lnTo>
                      <a:pt x="12" y="94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42" y="94"/>
                    </a:lnTo>
                    <a:lnTo>
                      <a:pt x="55" y="76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5" y="27"/>
                    </a:lnTo>
                    <a:lnTo>
                      <a:pt x="42" y="9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H="1">
                <a:off x="7718040" y="4985640"/>
                <a:ext cx="84960" cy="203040"/>
              </a:xfrm>
              <a:custGeom>
                <a:avLst/>
                <a:gdLst/>
                <a:ahLst/>
                <a:rect l="l" t="t" r="r" b="b"/>
                <a:pathLst>
                  <a:path w="55" h="103">
                    <a:moveTo>
                      <a:pt x="30" y="0"/>
                    </a:moveTo>
                    <a:lnTo>
                      <a:pt x="12" y="9"/>
                    </a:lnTo>
                    <a:lnTo>
                      <a:pt x="6" y="27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6" y="76"/>
                    </a:lnTo>
                    <a:lnTo>
                      <a:pt x="12" y="94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42" y="94"/>
                    </a:lnTo>
                    <a:lnTo>
                      <a:pt x="55" y="76"/>
                    </a:lnTo>
                    <a:lnTo>
                      <a:pt x="55" y="49"/>
                    </a:lnTo>
                    <a:lnTo>
                      <a:pt x="55" y="49"/>
                    </a:lnTo>
                    <a:lnTo>
                      <a:pt x="55" y="27"/>
                    </a:lnTo>
                    <a:lnTo>
                      <a:pt x="42" y="9"/>
                    </a:lnTo>
                    <a:lnTo>
                      <a:pt x="3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flipH="1">
                <a:off x="7717680" y="5003640"/>
                <a:ext cx="75240" cy="167760"/>
              </a:xfrm>
              <a:custGeom>
                <a:avLst/>
                <a:gdLst/>
                <a:ahLst/>
                <a:rect l="l" t="t" r="r" b="b"/>
                <a:pathLst>
                  <a:path w="49" h="85">
                    <a:moveTo>
                      <a:pt x="24" y="0"/>
                    </a:moveTo>
                    <a:lnTo>
                      <a:pt x="12" y="9"/>
                    </a:lnTo>
                    <a:lnTo>
                      <a:pt x="6" y="22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6" y="67"/>
                    </a:lnTo>
                    <a:lnTo>
                      <a:pt x="12" y="81"/>
                    </a:lnTo>
                    <a:lnTo>
                      <a:pt x="24" y="85"/>
                    </a:lnTo>
                    <a:lnTo>
                      <a:pt x="24" y="85"/>
                    </a:lnTo>
                    <a:lnTo>
                      <a:pt x="36" y="81"/>
                    </a:lnTo>
                    <a:lnTo>
                      <a:pt x="49" y="67"/>
                    </a:lnTo>
                    <a:lnTo>
                      <a:pt x="49" y="45"/>
                    </a:lnTo>
                    <a:lnTo>
                      <a:pt x="49" y="45"/>
                    </a:lnTo>
                    <a:lnTo>
                      <a:pt x="49" y="22"/>
                    </a:lnTo>
                    <a:lnTo>
                      <a:pt x="36" y="9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H="1">
                <a:off x="7717680" y="5003640"/>
                <a:ext cx="75240" cy="167760"/>
              </a:xfrm>
              <a:custGeom>
                <a:avLst/>
                <a:gdLst/>
                <a:ahLst/>
                <a:rect l="l" t="t" r="r" b="b"/>
                <a:pathLst>
                  <a:path w="49" h="85">
                    <a:moveTo>
                      <a:pt x="24" y="0"/>
                    </a:moveTo>
                    <a:lnTo>
                      <a:pt x="12" y="9"/>
                    </a:lnTo>
                    <a:lnTo>
                      <a:pt x="6" y="22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6" y="67"/>
                    </a:lnTo>
                    <a:lnTo>
                      <a:pt x="12" y="81"/>
                    </a:lnTo>
                    <a:lnTo>
                      <a:pt x="24" y="85"/>
                    </a:lnTo>
                    <a:lnTo>
                      <a:pt x="24" y="85"/>
                    </a:lnTo>
                    <a:lnTo>
                      <a:pt x="36" y="81"/>
                    </a:lnTo>
                    <a:lnTo>
                      <a:pt x="49" y="67"/>
                    </a:lnTo>
                    <a:lnTo>
                      <a:pt x="49" y="45"/>
                    </a:lnTo>
                    <a:lnTo>
                      <a:pt x="49" y="45"/>
                    </a:lnTo>
                    <a:lnTo>
                      <a:pt x="49" y="22"/>
                    </a:lnTo>
                    <a:lnTo>
                      <a:pt x="36" y="9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H="1">
                <a:off x="7718040" y="5020920"/>
                <a:ext cx="56880" cy="142200"/>
              </a:xfrm>
              <a:custGeom>
                <a:avLst/>
                <a:gdLst/>
                <a:ahLst/>
                <a:rect l="l" t="t" r="r" b="b"/>
                <a:pathLst>
                  <a:path w="37" h="72">
                    <a:moveTo>
                      <a:pt x="37" y="36"/>
                    </a:moveTo>
                    <a:lnTo>
                      <a:pt x="37" y="54"/>
                    </a:lnTo>
                    <a:lnTo>
                      <a:pt x="31" y="67"/>
                    </a:lnTo>
                    <a:lnTo>
                      <a:pt x="18" y="72"/>
                    </a:lnTo>
                    <a:lnTo>
                      <a:pt x="18" y="72"/>
                    </a:lnTo>
                    <a:lnTo>
                      <a:pt x="6" y="67"/>
                    </a:lnTo>
                    <a:lnTo>
                      <a:pt x="0" y="54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18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31" y="0"/>
                    </a:lnTo>
                    <a:lnTo>
                      <a:pt x="37" y="18"/>
                    </a:lnTo>
                    <a:lnTo>
                      <a:pt x="37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H="1">
                <a:off x="7718040" y="5020920"/>
                <a:ext cx="56880" cy="142200"/>
              </a:xfrm>
              <a:custGeom>
                <a:avLst/>
                <a:gdLst/>
                <a:ahLst/>
                <a:rect l="l" t="t" r="r" b="b"/>
                <a:pathLst>
                  <a:path w="37" h="72">
                    <a:moveTo>
                      <a:pt x="37" y="36"/>
                    </a:moveTo>
                    <a:lnTo>
                      <a:pt x="37" y="54"/>
                    </a:lnTo>
                    <a:lnTo>
                      <a:pt x="31" y="67"/>
                    </a:lnTo>
                    <a:lnTo>
                      <a:pt x="18" y="72"/>
                    </a:lnTo>
                    <a:lnTo>
                      <a:pt x="18" y="72"/>
                    </a:lnTo>
                    <a:lnTo>
                      <a:pt x="6" y="67"/>
                    </a:lnTo>
                    <a:lnTo>
                      <a:pt x="0" y="54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18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31" y="0"/>
                    </a:lnTo>
                    <a:lnTo>
                      <a:pt x="37" y="18"/>
                    </a:lnTo>
                    <a:lnTo>
                      <a:pt x="37" y="3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H="1">
                <a:off x="7756200" y="503892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0"/>
                    </a:moveTo>
                    <a:lnTo>
                      <a:pt x="6" y="4"/>
                    </a:lnTo>
                    <a:lnTo>
                      <a:pt x="6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H="1">
                <a:off x="7756200" y="5074920"/>
                <a:ext cx="18360" cy="252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0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6" y="13"/>
                    </a:lnTo>
                    <a:lnTo>
                      <a:pt x="12" y="13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4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 flipH="1">
                <a:off x="7756200" y="5118120"/>
                <a:ext cx="18360" cy="172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0"/>
                    </a:moveTo>
                    <a:lnTo>
                      <a:pt x="0" y="0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12" y="5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 flipH="1">
                <a:off x="7737840" y="513576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5"/>
                    </a:moveTo>
                    <a:lnTo>
                      <a:pt x="0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12" y="9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flipH="1">
                <a:off x="7737840" y="502920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0"/>
                    </a:move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5"/>
                    </a:lnTo>
                    <a:lnTo>
                      <a:pt x="12" y="5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flipH="1">
                <a:off x="7718400" y="5056920"/>
                <a:ext cx="38160" cy="78480"/>
              </a:xfrm>
              <a:custGeom>
                <a:avLst/>
                <a:gdLst/>
                <a:ahLst/>
                <a:rect l="l" t="t" r="r" b="b"/>
                <a:pathLst>
                  <a:path w="25" h="40">
                    <a:moveTo>
                      <a:pt x="25" y="22"/>
                    </a:moveTo>
                    <a:lnTo>
                      <a:pt x="25" y="31"/>
                    </a:lnTo>
                    <a:lnTo>
                      <a:pt x="25" y="36"/>
                    </a:lnTo>
                    <a:lnTo>
                      <a:pt x="12" y="40"/>
                    </a:lnTo>
                    <a:lnTo>
                      <a:pt x="12" y="40"/>
                    </a:lnTo>
                    <a:lnTo>
                      <a:pt x="12" y="36"/>
                    </a:lnTo>
                    <a:lnTo>
                      <a:pt x="6" y="31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6" y="9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25" y="0"/>
                    </a:lnTo>
                    <a:lnTo>
                      <a:pt x="25" y="9"/>
                    </a:lnTo>
                    <a:lnTo>
                      <a:pt x="25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flipH="1">
                <a:off x="7718400" y="5056920"/>
                <a:ext cx="38160" cy="78480"/>
              </a:xfrm>
              <a:custGeom>
                <a:avLst/>
                <a:gdLst/>
                <a:ahLst/>
                <a:rect l="l" t="t" r="r" b="b"/>
                <a:pathLst>
                  <a:path w="25" h="40">
                    <a:moveTo>
                      <a:pt x="25" y="22"/>
                    </a:moveTo>
                    <a:lnTo>
                      <a:pt x="25" y="31"/>
                    </a:lnTo>
                    <a:lnTo>
                      <a:pt x="25" y="36"/>
                    </a:lnTo>
                    <a:lnTo>
                      <a:pt x="12" y="40"/>
                    </a:lnTo>
                    <a:lnTo>
                      <a:pt x="12" y="40"/>
                    </a:lnTo>
                    <a:lnTo>
                      <a:pt x="12" y="36"/>
                    </a:lnTo>
                    <a:lnTo>
                      <a:pt x="6" y="31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6" y="9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25" y="0"/>
                    </a:lnTo>
                    <a:lnTo>
                      <a:pt x="25" y="9"/>
                    </a:lnTo>
                    <a:lnTo>
                      <a:pt x="25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flipH="1">
                <a:off x="7371000" y="4932360"/>
                <a:ext cx="281880" cy="345600"/>
              </a:xfrm>
              <a:custGeom>
                <a:avLst/>
                <a:gdLst/>
                <a:ahLst/>
                <a:rect l="l" t="t" r="r" b="b"/>
                <a:pathLst>
                  <a:path w="183" h="175">
                    <a:moveTo>
                      <a:pt x="110" y="0"/>
                    </a:moveTo>
                    <a:lnTo>
                      <a:pt x="128" y="4"/>
                    </a:lnTo>
                    <a:lnTo>
                      <a:pt x="140" y="13"/>
                    </a:lnTo>
                    <a:lnTo>
                      <a:pt x="158" y="31"/>
                    </a:lnTo>
                    <a:lnTo>
                      <a:pt x="171" y="49"/>
                    </a:lnTo>
                    <a:lnTo>
                      <a:pt x="183" y="72"/>
                    </a:lnTo>
                    <a:lnTo>
                      <a:pt x="183" y="94"/>
                    </a:lnTo>
                    <a:lnTo>
                      <a:pt x="183" y="94"/>
                    </a:lnTo>
                    <a:lnTo>
                      <a:pt x="165" y="144"/>
                    </a:lnTo>
                    <a:lnTo>
                      <a:pt x="140" y="171"/>
                    </a:lnTo>
                    <a:lnTo>
                      <a:pt x="110" y="175"/>
                    </a:lnTo>
                    <a:lnTo>
                      <a:pt x="110" y="175"/>
                    </a:lnTo>
                    <a:lnTo>
                      <a:pt x="55" y="175"/>
                    </a:lnTo>
                    <a:lnTo>
                      <a:pt x="37" y="171"/>
                    </a:lnTo>
                    <a:lnTo>
                      <a:pt x="25" y="162"/>
                    </a:lnTo>
                    <a:lnTo>
                      <a:pt x="12" y="139"/>
                    </a:lnTo>
                    <a:lnTo>
                      <a:pt x="0" y="117"/>
                    </a:lnTo>
                    <a:lnTo>
                      <a:pt x="0" y="85"/>
                    </a:lnTo>
                    <a:lnTo>
                      <a:pt x="0" y="85"/>
                    </a:lnTo>
                    <a:lnTo>
                      <a:pt x="6" y="45"/>
                    </a:lnTo>
                    <a:lnTo>
                      <a:pt x="25" y="13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 flipH="1">
                <a:off x="7389360" y="5135760"/>
                <a:ext cx="169560" cy="142200"/>
              </a:xfrm>
              <a:custGeom>
                <a:avLst/>
                <a:gdLst/>
                <a:ahLst/>
                <a:rect l="l" t="t" r="r" b="b"/>
                <a:pathLst>
                  <a:path w="110" h="72">
                    <a:moveTo>
                      <a:pt x="0" y="72"/>
                    </a:moveTo>
                    <a:lnTo>
                      <a:pt x="6" y="72"/>
                    </a:lnTo>
                    <a:lnTo>
                      <a:pt x="30" y="72"/>
                    </a:lnTo>
                    <a:lnTo>
                      <a:pt x="55" y="72"/>
                    </a:lnTo>
                    <a:lnTo>
                      <a:pt x="55" y="72"/>
                    </a:lnTo>
                    <a:lnTo>
                      <a:pt x="79" y="68"/>
                    </a:lnTo>
                    <a:lnTo>
                      <a:pt x="97" y="50"/>
                    </a:lnTo>
                    <a:lnTo>
                      <a:pt x="110" y="27"/>
                    </a:lnTo>
                    <a:lnTo>
                      <a:pt x="110" y="27"/>
                    </a:lnTo>
                    <a:lnTo>
                      <a:pt x="97" y="18"/>
                    </a:lnTo>
                    <a:lnTo>
                      <a:pt x="79" y="9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1" y="27"/>
                    </a:lnTo>
                    <a:lnTo>
                      <a:pt x="43" y="59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flipH="1">
                <a:off x="7446240" y="5135760"/>
                <a:ext cx="93960" cy="142200"/>
              </a:xfrm>
              <a:custGeom>
                <a:avLst/>
                <a:gdLst/>
                <a:ahLst/>
                <a:rect l="l" t="t" r="r" b="b"/>
                <a:pathLst>
                  <a:path w="61" h="72">
                    <a:moveTo>
                      <a:pt x="0" y="72"/>
                    </a:moveTo>
                    <a:lnTo>
                      <a:pt x="18" y="68"/>
                    </a:lnTo>
                    <a:lnTo>
                      <a:pt x="31" y="59"/>
                    </a:lnTo>
                    <a:lnTo>
                      <a:pt x="43" y="45"/>
                    </a:lnTo>
                    <a:lnTo>
                      <a:pt x="55" y="27"/>
                    </a:lnTo>
                    <a:lnTo>
                      <a:pt x="61" y="9"/>
                    </a:lnTo>
                    <a:lnTo>
                      <a:pt x="6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flipH="1">
                <a:off x="7437240" y="5135760"/>
                <a:ext cx="93960" cy="142200"/>
              </a:xfrm>
              <a:custGeom>
                <a:avLst/>
                <a:gdLst/>
                <a:ahLst/>
                <a:rect l="l" t="t" r="r" b="b"/>
                <a:pathLst>
                  <a:path w="61" h="72">
                    <a:moveTo>
                      <a:pt x="0" y="72"/>
                    </a:moveTo>
                    <a:lnTo>
                      <a:pt x="19" y="68"/>
                    </a:lnTo>
                    <a:lnTo>
                      <a:pt x="37" y="59"/>
                    </a:lnTo>
                    <a:lnTo>
                      <a:pt x="49" y="45"/>
                    </a:lnTo>
                    <a:lnTo>
                      <a:pt x="55" y="27"/>
                    </a:lnTo>
                    <a:lnTo>
                      <a:pt x="61" y="9"/>
                    </a:lnTo>
                    <a:lnTo>
                      <a:pt x="6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flipH="1">
                <a:off x="7418880" y="5135760"/>
                <a:ext cx="93960" cy="142200"/>
              </a:xfrm>
              <a:custGeom>
                <a:avLst/>
                <a:gdLst/>
                <a:ahLst/>
                <a:rect l="l" t="t" r="r" b="b"/>
                <a:pathLst>
                  <a:path w="61" h="72">
                    <a:moveTo>
                      <a:pt x="0" y="72"/>
                    </a:moveTo>
                    <a:lnTo>
                      <a:pt x="13" y="68"/>
                    </a:lnTo>
                    <a:lnTo>
                      <a:pt x="31" y="59"/>
                    </a:lnTo>
                    <a:lnTo>
                      <a:pt x="43" y="45"/>
                    </a:lnTo>
                    <a:lnTo>
                      <a:pt x="49" y="27"/>
                    </a:lnTo>
                    <a:lnTo>
                      <a:pt x="61" y="9"/>
                    </a:lnTo>
                    <a:lnTo>
                      <a:pt x="6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H="1">
                <a:off x="7409520" y="5135760"/>
                <a:ext cx="103320" cy="142200"/>
              </a:xfrm>
              <a:custGeom>
                <a:avLst/>
                <a:gdLst/>
                <a:ahLst/>
                <a:rect l="l" t="t" r="r" b="b"/>
                <a:pathLst>
                  <a:path w="67" h="72">
                    <a:moveTo>
                      <a:pt x="0" y="72"/>
                    </a:moveTo>
                    <a:lnTo>
                      <a:pt x="25" y="68"/>
                    </a:lnTo>
                    <a:lnTo>
                      <a:pt x="37" y="59"/>
                    </a:lnTo>
                    <a:lnTo>
                      <a:pt x="49" y="45"/>
                    </a:lnTo>
                    <a:lnTo>
                      <a:pt x="61" y="27"/>
                    </a:lnTo>
                    <a:lnTo>
                      <a:pt x="61" y="14"/>
                    </a:lnTo>
                    <a:lnTo>
                      <a:pt x="6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H="1">
                <a:off x="7398360" y="5135760"/>
                <a:ext cx="93960" cy="151920"/>
              </a:xfrm>
              <a:custGeom>
                <a:avLst/>
                <a:gdLst/>
                <a:ahLst/>
                <a:rect l="l" t="t" r="r" b="b"/>
                <a:pathLst>
                  <a:path w="61" h="77">
                    <a:moveTo>
                      <a:pt x="0" y="77"/>
                    </a:moveTo>
                    <a:lnTo>
                      <a:pt x="18" y="68"/>
                    </a:lnTo>
                    <a:lnTo>
                      <a:pt x="30" y="59"/>
                    </a:lnTo>
                    <a:lnTo>
                      <a:pt x="42" y="45"/>
                    </a:lnTo>
                    <a:lnTo>
                      <a:pt x="54" y="27"/>
                    </a:lnTo>
                    <a:lnTo>
                      <a:pt x="61" y="14"/>
                    </a:lnTo>
                    <a:lnTo>
                      <a:pt x="6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H="1">
                <a:off x="7389360" y="5135760"/>
                <a:ext cx="93960" cy="151920"/>
              </a:xfrm>
              <a:custGeom>
                <a:avLst/>
                <a:gdLst/>
                <a:ahLst/>
                <a:rect l="l" t="t" r="r" b="b"/>
                <a:pathLst>
                  <a:path w="61" h="77">
                    <a:moveTo>
                      <a:pt x="0" y="77"/>
                    </a:moveTo>
                    <a:lnTo>
                      <a:pt x="18" y="72"/>
                    </a:lnTo>
                    <a:lnTo>
                      <a:pt x="30" y="59"/>
                    </a:lnTo>
                    <a:lnTo>
                      <a:pt x="42" y="45"/>
                    </a:lnTo>
                    <a:lnTo>
                      <a:pt x="55" y="27"/>
                    </a:lnTo>
                    <a:lnTo>
                      <a:pt x="61" y="14"/>
                    </a:lnTo>
                    <a:lnTo>
                      <a:pt x="6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H="1">
                <a:off x="7521840" y="5003640"/>
                <a:ext cx="103320" cy="212760"/>
              </a:xfrm>
              <a:custGeom>
                <a:avLst/>
                <a:gdLst/>
                <a:ahLst/>
                <a:rect l="l" t="t" r="r" b="b"/>
                <a:pathLst>
                  <a:path w="67" h="108">
                    <a:moveTo>
                      <a:pt x="31" y="0"/>
                    </a:moveTo>
                    <a:lnTo>
                      <a:pt x="19" y="9"/>
                    </a:lnTo>
                    <a:lnTo>
                      <a:pt x="7" y="27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7" y="85"/>
                    </a:lnTo>
                    <a:lnTo>
                      <a:pt x="19" y="103"/>
                    </a:lnTo>
                    <a:lnTo>
                      <a:pt x="31" y="108"/>
                    </a:lnTo>
                    <a:lnTo>
                      <a:pt x="31" y="108"/>
                    </a:lnTo>
                    <a:lnTo>
                      <a:pt x="49" y="103"/>
                    </a:lnTo>
                    <a:lnTo>
                      <a:pt x="61" y="85"/>
                    </a:lnTo>
                    <a:lnTo>
                      <a:pt x="67" y="58"/>
                    </a:lnTo>
                    <a:lnTo>
                      <a:pt x="67" y="58"/>
                    </a:lnTo>
                    <a:lnTo>
                      <a:pt x="61" y="27"/>
                    </a:lnTo>
                    <a:lnTo>
                      <a:pt x="49" y="9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flipH="1">
                <a:off x="7521840" y="5020920"/>
                <a:ext cx="83160" cy="185760"/>
              </a:xfrm>
              <a:custGeom>
                <a:avLst/>
                <a:gdLst/>
                <a:ahLst/>
                <a:rect l="l" t="t" r="r" b="b"/>
                <a:pathLst>
                  <a:path w="54" h="94">
                    <a:moveTo>
                      <a:pt x="30" y="0"/>
                    </a:moveTo>
                    <a:lnTo>
                      <a:pt x="12" y="9"/>
                    </a:lnTo>
                    <a:lnTo>
                      <a:pt x="6" y="27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6" y="67"/>
                    </a:lnTo>
                    <a:lnTo>
                      <a:pt x="12" y="85"/>
                    </a:lnTo>
                    <a:lnTo>
                      <a:pt x="30" y="94"/>
                    </a:lnTo>
                    <a:lnTo>
                      <a:pt x="30" y="94"/>
                    </a:lnTo>
                    <a:lnTo>
                      <a:pt x="42" y="85"/>
                    </a:lnTo>
                    <a:lnTo>
                      <a:pt x="48" y="67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48" y="27"/>
                    </a:lnTo>
                    <a:lnTo>
                      <a:pt x="42" y="9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>
                <a:off x="7521840" y="5020920"/>
                <a:ext cx="83160" cy="185760"/>
              </a:xfrm>
              <a:custGeom>
                <a:avLst/>
                <a:gdLst/>
                <a:ahLst/>
                <a:rect l="l" t="t" r="r" b="b"/>
                <a:pathLst>
                  <a:path w="54" h="94">
                    <a:moveTo>
                      <a:pt x="30" y="0"/>
                    </a:moveTo>
                    <a:lnTo>
                      <a:pt x="12" y="9"/>
                    </a:lnTo>
                    <a:lnTo>
                      <a:pt x="6" y="27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6" y="67"/>
                    </a:lnTo>
                    <a:lnTo>
                      <a:pt x="12" y="85"/>
                    </a:lnTo>
                    <a:lnTo>
                      <a:pt x="30" y="94"/>
                    </a:lnTo>
                    <a:lnTo>
                      <a:pt x="30" y="94"/>
                    </a:lnTo>
                    <a:lnTo>
                      <a:pt x="42" y="85"/>
                    </a:lnTo>
                    <a:lnTo>
                      <a:pt x="48" y="67"/>
                    </a:lnTo>
                    <a:lnTo>
                      <a:pt x="54" y="49"/>
                    </a:lnTo>
                    <a:lnTo>
                      <a:pt x="54" y="49"/>
                    </a:lnTo>
                    <a:lnTo>
                      <a:pt x="48" y="27"/>
                    </a:lnTo>
                    <a:lnTo>
                      <a:pt x="42" y="9"/>
                    </a:lnTo>
                    <a:lnTo>
                      <a:pt x="3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flipH="1">
                <a:off x="7522200" y="5038920"/>
                <a:ext cx="73800" cy="149760"/>
              </a:xfrm>
              <a:custGeom>
                <a:avLst/>
                <a:gdLst/>
                <a:ahLst/>
                <a:rect l="l" t="t" r="r" b="b"/>
                <a:pathLst>
                  <a:path w="48" h="76">
                    <a:moveTo>
                      <a:pt x="48" y="40"/>
                    </a:moveTo>
                    <a:lnTo>
                      <a:pt x="48" y="58"/>
                    </a:lnTo>
                    <a:lnTo>
                      <a:pt x="36" y="72"/>
                    </a:lnTo>
                    <a:lnTo>
                      <a:pt x="24" y="76"/>
                    </a:lnTo>
                    <a:lnTo>
                      <a:pt x="24" y="76"/>
                    </a:lnTo>
                    <a:lnTo>
                      <a:pt x="12" y="72"/>
                    </a:lnTo>
                    <a:lnTo>
                      <a:pt x="6" y="5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6" y="18"/>
                    </a:lnTo>
                    <a:lnTo>
                      <a:pt x="12" y="4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36" y="4"/>
                    </a:lnTo>
                    <a:lnTo>
                      <a:pt x="48" y="18"/>
                    </a:lnTo>
                    <a:lnTo>
                      <a:pt x="48" y="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H="1">
                <a:off x="7559280" y="5064840"/>
                <a:ext cx="27360" cy="1728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6" y="0"/>
                    </a:moveTo>
                    <a:lnTo>
                      <a:pt x="6" y="5"/>
                    </a:lnTo>
                    <a:lnTo>
                      <a:pt x="6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12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flipH="1">
                <a:off x="7567920" y="510048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0"/>
                    </a:moveTo>
                    <a:lnTo>
                      <a:pt x="0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6" y="9"/>
                    </a:lnTo>
                    <a:lnTo>
                      <a:pt x="6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H="1">
                <a:off x="7559280" y="5135760"/>
                <a:ext cx="27360" cy="1764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0" y="0"/>
                    </a:moveTo>
                    <a:lnTo>
                      <a:pt x="0" y="5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12" y="9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2" y="5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flipH="1">
                <a:off x="7558920" y="516348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4"/>
                    </a:moveTo>
                    <a:lnTo>
                      <a:pt x="6" y="4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flipH="1">
                <a:off x="7549920" y="5047200"/>
                <a:ext cx="9360" cy="17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5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H="1">
                <a:off x="7522560" y="5074920"/>
                <a:ext cx="36720" cy="88560"/>
              </a:xfrm>
              <a:custGeom>
                <a:avLst/>
                <a:gdLst/>
                <a:ahLst/>
                <a:rect l="l" t="t" r="r" b="b"/>
                <a:pathLst>
                  <a:path w="24" h="45">
                    <a:moveTo>
                      <a:pt x="24" y="22"/>
                    </a:moveTo>
                    <a:lnTo>
                      <a:pt x="24" y="31"/>
                    </a:lnTo>
                    <a:lnTo>
                      <a:pt x="12" y="40"/>
                    </a:lnTo>
                    <a:lnTo>
                      <a:pt x="12" y="45"/>
                    </a:lnTo>
                    <a:lnTo>
                      <a:pt x="12" y="45"/>
                    </a:lnTo>
                    <a:lnTo>
                      <a:pt x="0" y="40"/>
                    </a:lnTo>
                    <a:lnTo>
                      <a:pt x="0" y="31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13"/>
                    </a:lnTo>
                    <a:lnTo>
                      <a:pt x="0" y="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4"/>
                    </a:lnTo>
                    <a:lnTo>
                      <a:pt x="24" y="13"/>
                    </a:lnTo>
                    <a:lnTo>
                      <a:pt x="24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H="1">
                <a:off x="7531560" y="5100480"/>
                <a:ext cx="46080" cy="45000"/>
              </a:xfrm>
              <a:custGeom>
                <a:avLst/>
                <a:gdLst/>
                <a:ahLst/>
                <a:rect l="l" t="t" r="r" b="b"/>
                <a:pathLst>
                  <a:path w="30" h="23">
                    <a:moveTo>
                      <a:pt x="30" y="9"/>
                    </a:moveTo>
                    <a:lnTo>
                      <a:pt x="30" y="18"/>
                    </a:lnTo>
                    <a:lnTo>
                      <a:pt x="24" y="18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30" y="5"/>
                    </a:lnTo>
                    <a:lnTo>
                      <a:pt x="3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H="1">
                <a:off x="7531560" y="5100480"/>
                <a:ext cx="46080" cy="45000"/>
              </a:xfrm>
              <a:custGeom>
                <a:avLst/>
                <a:gdLst/>
                <a:ahLst/>
                <a:rect l="l" t="t" r="r" b="b"/>
                <a:pathLst>
                  <a:path w="30" h="23">
                    <a:moveTo>
                      <a:pt x="30" y="9"/>
                    </a:moveTo>
                    <a:lnTo>
                      <a:pt x="30" y="18"/>
                    </a:lnTo>
                    <a:lnTo>
                      <a:pt x="24" y="18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30" y="5"/>
                    </a:lnTo>
                    <a:lnTo>
                      <a:pt x="3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H="1">
                <a:off x="7558920" y="5110200"/>
                <a:ext cx="18360" cy="252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H="1">
                <a:off x="7558920" y="5110200"/>
                <a:ext cx="18360" cy="252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H="1">
                <a:off x="7717680" y="5074920"/>
                <a:ext cx="47880" cy="43200"/>
              </a:xfrm>
              <a:custGeom>
                <a:avLst/>
                <a:gdLst/>
                <a:ahLst/>
                <a:rect l="l" t="t" r="r" b="b"/>
                <a:pathLst>
                  <a:path w="31" h="22">
                    <a:moveTo>
                      <a:pt x="31" y="13"/>
                    </a:moveTo>
                    <a:lnTo>
                      <a:pt x="31" y="13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31" y="4"/>
                    </a:lnTo>
                    <a:lnTo>
                      <a:pt x="31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H="1">
                <a:off x="7717680" y="5074920"/>
                <a:ext cx="47880" cy="43200"/>
              </a:xfrm>
              <a:custGeom>
                <a:avLst/>
                <a:gdLst/>
                <a:ahLst/>
                <a:rect l="l" t="t" r="r" b="b"/>
                <a:pathLst>
                  <a:path w="31" h="22">
                    <a:moveTo>
                      <a:pt x="31" y="13"/>
                    </a:moveTo>
                    <a:lnTo>
                      <a:pt x="31" y="13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31" y="4"/>
                    </a:lnTo>
                    <a:lnTo>
                      <a:pt x="31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flipH="1">
                <a:off x="7756200" y="5074920"/>
                <a:ext cx="18360" cy="252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0"/>
                    </a:moveTo>
                    <a:lnTo>
                      <a:pt x="6" y="4"/>
                    </a:lnTo>
                    <a:lnTo>
                      <a:pt x="6" y="4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flipH="1">
                <a:off x="7756200" y="5074920"/>
                <a:ext cx="18360" cy="252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0"/>
                    </a:moveTo>
                    <a:lnTo>
                      <a:pt x="6" y="4"/>
                    </a:lnTo>
                    <a:lnTo>
                      <a:pt x="6" y="4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flipH="1">
                <a:off x="8422200" y="4932360"/>
                <a:ext cx="27720" cy="5292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12" y="27"/>
                    </a:move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9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12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flipH="1">
                <a:off x="8422200" y="4932360"/>
                <a:ext cx="27720" cy="5292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12" y="27"/>
                    </a:move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9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12" y="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flipH="1">
                <a:off x="6948720" y="5074920"/>
                <a:ext cx="75240" cy="6084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42" y="31"/>
                    </a:moveTo>
                    <a:lnTo>
                      <a:pt x="42" y="31"/>
                    </a:lnTo>
                    <a:lnTo>
                      <a:pt x="49" y="31"/>
                    </a:lnTo>
                    <a:lnTo>
                      <a:pt x="49" y="27"/>
                    </a:lnTo>
                    <a:lnTo>
                      <a:pt x="49" y="27"/>
                    </a:lnTo>
                    <a:lnTo>
                      <a:pt x="49" y="4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42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flipH="1">
                <a:off x="6948720" y="5074920"/>
                <a:ext cx="75240" cy="6084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42" y="31"/>
                    </a:moveTo>
                    <a:lnTo>
                      <a:pt x="42" y="31"/>
                    </a:lnTo>
                    <a:lnTo>
                      <a:pt x="49" y="31"/>
                    </a:lnTo>
                    <a:lnTo>
                      <a:pt x="49" y="27"/>
                    </a:lnTo>
                    <a:lnTo>
                      <a:pt x="49" y="27"/>
                    </a:lnTo>
                    <a:lnTo>
                      <a:pt x="49" y="4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42" y="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flipH="1">
                <a:off x="6714000" y="5092200"/>
                <a:ext cx="84960" cy="61200"/>
              </a:xfrm>
              <a:custGeom>
                <a:avLst/>
                <a:gdLst/>
                <a:ahLst/>
                <a:rect l="l" t="t" r="r" b="b"/>
                <a:pathLst>
                  <a:path w="55" h="31">
                    <a:moveTo>
                      <a:pt x="49" y="31"/>
                    </a:moveTo>
                    <a:lnTo>
                      <a:pt x="49" y="31"/>
                    </a:lnTo>
                    <a:lnTo>
                      <a:pt x="55" y="31"/>
                    </a:lnTo>
                    <a:lnTo>
                      <a:pt x="55" y="31"/>
                    </a:lnTo>
                    <a:lnTo>
                      <a:pt x="55" y="31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9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flipH="1">
                <a:off x="6714000" y="5092200"/>
                <a:ext cx="84960" cy="61200"/>
              </a:xfrm>
              <a:custGeom>
                <a:avLst/>
                <a:gdLst/>
                <a:ahLst/>
                <a:rect l="l" t="t" r="r" b="b"/>
                <a:pathLst>
                  <a:path w="55" h="31">
                    <a:moveTo>
                      <a:pt x="49" y="31"/>
                    </a:moveTo>
                    <a:lnTo>
                      <a:pt x="49" y="31"/>
                    </a:lnTo>
                    <a:lnTo>
                      <a:pt x="55" y="31"/>
                    </a:lnTo>
                    <a:lnTo>
                      <a:pt x="55" y="31"/>
                    </a:lnTo>
                    <a:lnTo>
                      <a:pt x="55" y="31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9" y="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flipH="1">
                <a:off x="6798960" y="5118120"/>
                <a:ext cx="225000" cy="27000"/>
              </a:xfrm>
              <a:custGeom>
                <a:avLst/>
                <a:gdLst/>
                <a:ahLst/>
                <a:rect l="l" t="t" r="r" b="b"/>
                <a:pathLst>
                  <a:path w="146" h="14">
                    <a:moveTo>
                      <a:pt x="146" y="14"/>
                    </a:moveTo>
                    <a:lnTo>
                      <a:pt x="146" y="9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46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H="1">
                <a:off x="6798960" y="5118120"/>
                <a:ext cx="225000" cy="27000"/>
              </a:xfrm>
              <a:custGeom>
                <a:avLst/>
                <a:gdLst/>
                <a:ahLst/>
                <a:rect l="l" t="t" r="r" b="b"/>
                <a:pathLst>
                  <a:path w="146" h="14">
                    <a:moveTo>
                      <a:pt x="146" y="14"/>
                    </a:moveTo>
                    <a:lnTo>
                      <a:pt x="146" y="9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46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flipH="1">
                <a:off x="8066160" y="4967640"/>
                <a:ext cx="83160" cy="7092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48" y="31"/>
                    </a:moveTo>
                    <a:lnTo>
                      <a:pt x="48" y="31"/>
                    </a:lnTo>
                    <a:lnTo>
                      <a:pt x="48" y="31"/>
                    </a:lnTo>
                    <a:lnTo>
                      <a:pt x="54" y="27"/>
                    </a:lnTo>
                    <a:lnTo>
                      <a:pt x="54" y="27"/>
                    </a:lnTo>
                    <a:lnTo>
                      <a:pt x="54" y="9"/>
                    </a:lnTo>
                    <a:lnTo>
                      <a:pt x="48" y="9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48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H="1">
                <a:off x="8066160" y="4967640"/>
                <a:ext cx="83160" cy="7092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48" y="31"/>
                    </a:moveTo>
                    <a:lnTo>
                      <a:pt x="48" y="31"/>
                    </a:lnTo>
                    <a:lnTo>
                      <a:pt x="48" y="31"/>
                    </a:lnTo>
                    <a:lnTo>
                      <a:pt x="54" y="27"/>
                    </a:lnTo>
                    <a:lnTo>
                      <a:pt x="54" y="27"/>
                    </a:lnTo>
                    <a:lnTo>
                      <a:pt x="54" y="9"/>
                    </a:lnTo>
                    <a:lnTo>
                      <a:pt x="48" y="9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48" y="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H="1">
                <a:off x="7896600" y="4985640"/>
                <a:ext cx="84600" cy="61200"/>
              </a:xfrm>
              <a:custGeom>
                <a:avLst/>
                <a:gdLst/>
                <a:ahLst/>
                <a:rect l="l" t="t" r="r" b="b"/>
                <a:pathLst>
                  <a:path w="55" h="31">
                    <a:moveTo>
                      <a:pt x="55" y="31"/>
                    </a:moveTo>
                    <a:lnTo>
                      <a:pt x="55" y="31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55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flipH="1">
                <a:off x="7896600" y="4985640"/>
                <a:ext cx="84600" cy="61200"/>
              </a:xfrm>
              <a:custGeom>
                <a:avLst/>
                <a:gdLst/>
                <a:ahLst/>
                <a:rect l="l" t="t" r="r" b="b"/>
                <a:pathLst>
                  <a:path w="55" h="31">
                    <a:moveTo>
                      <a:pt x="55" y="31"/>
                    </a:moveTo>
                    <a:lnTo>
                      <a:pt x="55" y="31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55" y="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>
                <a:off x="7981200" y="5003640"/>
                <a:ext cx="168120" cy="35280"/>
              </a:xfrm>
              <a:custGeom>
                <a:avLst/>
                <a:gdLst/>
                <a:ahLst/>
                <a:rect l="l" t="t" r="r" b="b"/>
                <a:pathLst>
                  <a:path w="109" h="18">
                    <a:moveTo>
                      <a:pt x="109" y="18"/>
                    </a:moveTo>
                    <a:lnTo>
                      <a:pt x="109" y="9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09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H="1">
                <a:off x="7981200" y="5003640"/>
                <a:ext cx="168120" cy="35280"/>
              </a:xfrm>
              <a:custGeom>
                <a:avLst/>
                <a:gdLst/>
                <a:ahLst/>
                <a:rect l="l" t="t" r="r" b="b"/>
                <a:pathLst>
                  <a:path w="109" h="18">
                    <a:moveTo>
                      <a:pt x="109" y="18"/>
                    </a:moveTo>
                    <a:lnTo>
                      <a:pt x="109" y="9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09" y="1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2" name=""/>
            <p:cNvGrpSpPr/>
            <p:nvPr/>
          </p:nvGrpSpPr>
          <p:grpSpPr>
            <a:xfrm>
              <a:off x="4800960" y="3807360"/>
              <a:ext cx="3649320" cy="1497600"/>
              <a:chOff x="4800960" y="3807360"/>
              <a:chExt cx="3649320" cy="1497600"/>
            </a:xfrm>
          </p:grpSpPr>
          <p:sp>
            <p:nvSpPr>
              <p:cNvPr id="1373" name=""/>
              <p:cNvSpPr/>
              <p:nvPr/>
            </p:nvSpPr>
            <p:spPr>
              <a:xfrm flipH="1">
                <a:off x="7483680" y="4843440"/>
                <a:ext cx="413280" cy="195120"/>
              </a:xfrm>
              <a:custGeom>
                <a:avLst/>
                <a:gdLst/>
                <a:ahLst/>
                <a:rect l="l" t="t" r="r" b="b"/>
                <a:pathLst>
                  <a:path w="268" h="99">
                    <a:moveTo>
                      <a:pt x="128" y="14"/>
                    </a:moveTo>
                    <a:lnTo>
                      <a:pt x="152" y="18"/>
                    </a:lnTo>
                    <a:lnTo>
                      <a:pt x="183" y="18"/>
                    </a:lnTo>
                    <a:lnTo>
                      <a:pt x="201" y="18"/>
                    </a:lnTo>
                    <a:lnTo>
                      <a:pt x="201" y="18"/>
                    </a:lnTo>
                    <a:lnTo>
                      <a:pt x="213" y="23"/>
                    </a:lnTo>
                    <a:lnTo>
                      <a:pt x="219" y="23"/>
                    </a:lnTo>
                    <a:lnTo>
                      <a:pt x="225" y="27"/>
                    </a:lnTo>
                    <a:lnTo>
                      <a:pt x="225" y="27"/>
                    </a:lnTo>
                    <a:lnTo>
                      <a:pt x="231" y="45"/>
                    </a:lnTo>
                    <a:lnTo>
                      <a:pt x="237" y="72"/>
                    </a:lnTo>
                    <a:lnTo>
                      <a:pt x="249" y="90"/>
                    </a:lnTo>
                    <a:lnTo>
                      <a:pt x="249" y="90"/>
                    </a:lnTo>
                    <a:lnTo>
                      <a:pt x="249" y="90"/>
                    </a:lnTo>
                    <a:lnTo>
                      <a:pt x="249" y="99"/>
                    </a:lnTo>
                    <a:lnTo>
                      <a:pt x="262" y="99"/>
                    </a:lnTo>
                    <a:lnTo>
                      <a:pt x="262" y="99"/>
                    </a:lnTo>
                    <a:lnTo>
                      <a:pt x="262" y="99"/>
                    </a:lnTo>
                    <a:lnTo>
                      <a:pt x="268" y="94"/>
                    </a:lnTo>
                    <a:lnTo>
                      <a:pt x="262" y="90"/>
                    </a:lnTo>
                    <a:lnTo>
                      <a:pt x="262" y="90"/>
                    </a:lnTo>
                    <a:lnTo>
                      <a:pt x="262" y="67"/>
                    </a:lnTo>
                    <a:lnTo>
                      <a:pt x="249" y="31"/>
                    </a:lnTo>
                    <a:lnTo>
                      <a:pt x="237" y="14"/>
                    </a:lnTo>
                    <a:lnTo>
                      <a:pt x="237" y="14"/>
                    </a:lnTo>
                    <a:lnTo>
                      <a:pt x="231" y="14"/>
                    </a:lnTo>
                    <a:lnTo>
                      <a:pt x="225" y="9"/>
                    </a:lnTo>
                    <a:lnTo>
                      <a:pt x="219" y="9"/>
                    </a:lnTo>
                    <a:lnTo>
                      <a:pt x="219" y="9"/>
                    </a:lnTo>
                    <a:lnTo>
                      <a:pt x="170" y="5"/>
                    </a:lnTo>
                    <a:lnTo>
                      <a:pt x="103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49" y="5"/>
                    </a:lnTo>
                    <a:lnTo>
                      <a:pt x="37" y="9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18" y="31"/>
                    </a:lnTo>
                    <a:lnTo>
                      <a:pt x="12" y="54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6" y="76"/>
                    </a:lnTo>
                    <a:lnTo>
                      <a:pt x="12" y="81"/>
                    </a:lnTo>
                    <a:lnTo>
                      <a:pt x="12" y="81"/>
                    </a:lnTo>
                    <a:lnTo>
                      <a:pt x="18" y="81"/>
                    </a:lnTo>
                    <a:lnTo>
                      <a:pt x="24" y="81"/>
                    </a:lnTo>
                    <a:lnTo>
                      <a:pt x="24" y="72"/>
                    </a:lnTo>
                    <a:lnTo>
                      <a:pt x="24" y="72"/>
                    </a:lnTo>
                    <a:lnTo>
                      <a:pt x="30" y="58"/>
                    </a:lnTo>
                    <a:lnTo>
                      <a:pt x="37" y="36"/>
                    </a:lnTo>
                    <a:lnTo>
                      <a:pt x="43" y="23"/>
                    </a:lnTo>
                    <a:lnTo>
                      <a:pt x="43" y="23"/>
                    </a:lnTo>
                    <a:lnTo>
                      <a:pt x="49" y="18"/>
                    </a:lnTo>
                    <a:lnTo>
                      <a:pt x="55" y="14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85" y="14"/>
                    </a:lnTo>
                    <a:lnTo>
                      <a:pt x="110" y="14"/>
                    </a:lnTo>
                    <a:lnTo>
                      <a:pt x="128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flipH="1">
                <a:off x="7483680" y="4843440"/>
                <a:ext cx="413280" cy="195120"/>
              </a:xfrm>
              <a:custGeom>
                <a:avLst/>
                <a:gdLst/>
                <a:ahLst/>
                <a:rect l="l" t="t" r="r" b="b"/>
                <a:pathLst>
                  <a:path w="268" h="99">
                    <a:moveTo>
                      <a:pt x="128" y="14"/>
                    </a:moveTo>
                    <a:lnTo>
                      <a:pt x="152" y="18"/>
                    </a:lnTo>
                    <a:lnTo>
                      <a:pt x="183" y="18"/>
                    </a:lnTo>
                    <a:lnTo>
                      <a:pt x="201" y="18"/>
                    </a:lnTo>
                    <a:lnTo>
                      <a:pt x="201" y="18"/>
                    </a:lnTo>
                    <a:lnTo>
                      <a:pt x="213" y="23"/>
                    </a:lnTo>
                    <a:lnTo>
                      <a:pt x="219" y="23"/>
                    </a:lnTo>
                    <a:lnTo>
                      <a:pt x="225" y="27"/>
                    </a:lnTo>
                    <a:lnTo>
                      <a:pt x="225" y="27"/>
                    </a:lnTo>
                    <a:lnTo>
                      <a:pt x="231" y="45"/>
                    </a:lnTo>
                    <a:lnTo>
                      <a:pt x="237" y="72"/>
                    </a:lnTo>
                    <a:lnTo>
                      <a:pt x="249" y="90"/>
                    </a:lnTo>
                    <a:lnTo>
                      <a:pt x="249" y="90"/>
                    </a:lnTo>
                    <a:lnTo>
                      <a:pt x="249" y="90"/>
                    </a:lnTo>
                    <a:lnTo>
                      <a:pt x="249" y="99"/>
                    </a:lnTo>
                    <a:lnTo>
                      <a:pt x="262" y="99"/>
                    </a:lnTo>
                    <a:lnTo>
                      <a:pt x="262" y="99"/>
                    </a:lnTo>
                    <a:lnTo>
                      <a:pt x="262" y="99"/>
                    </a:lnTo>
                    <a:lnTo>
                      <a:pt x="268" y="94"/>
                    </a:lnTo>
                    <a:lnTo>
                      <a:pt x="262" y="90"/>
                    </a:lnTo>
                    <a:lnTo>
                      <a:pt x="262" y="90"/>
                    </a:lnTo>
                    <a:lnTo>
                      <a:pt x="262" y="67"/>
                    </a:lnTo>
                    <a:lnTo>
                      <a:pt x="249" y="31"/>
                    </a:lnTo>
                    <a:lnTo>
                      <a:pt x="237" y="14"/>
                    </a:lnTo>
                    <a:lnTo>
                      <a:pt x="237" y="14"/>
                    </a:lnTo>
                    <a:lnTo>
                      <a:pt x="231" y="14"/>
                    </a:lnTo>
                    <a:lnTo>
                      <a:pt x="225" y="9"/>
                    </a:lnTo>
                    <a:lnTo>
                      <a:pt x="219" y="9"/>
                    </a:lnTo>
                    <a:lnTo>
                      <a:pt x="219" y="9"/>
                    </a:lnTo>
                    <a:lnTo>
                      <a:pt x="170" y="5"/>
                    </a:lnTo>
                    <a:lnTo>
                      <a:pt x="103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49" y="5"/>
                    </a:lnTo>
                    <a:lnTo>
                      <a:pt x="37" y="9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18" y="31"/>
                    </a:lnTo>
                    <a:lnTo>
                      <a:pt x="12" y="54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6" y="76"/>
                    </a:lnTo>
                    <a:lnTo>
                      <a:pt x="12" y="81"/>
                    </a:lnTo>
                    <a:lnTo>
                      <a:pt x="12" y="81"/>
                    </a:lnTo>
                    <a:lnTo>
                      <a:pt x="18" y="81"/>
                    </a:lnTo>
                    <a:lnTo>
                      <a:pt x="24" y="81"/>
                    </a:lnTo>
                    <a:lnTo>
                      <a:pt x="24" y="72"/>
                    </a:lnTo>
                    <a:lnTo>
                      <a:pt x="24" y="72"/>
                    </a:lnTo>
                    <a:lnTo>
                      <a:pt x="30" y="58"/>
                    </a:lnTo>
                    <a:lnTo>
                      <a:pt x="37" y="36"/>
                    </a:lnTo>
                    <a:lnTo>
                      <a:pt x="43" y="23"/>
                    </a:lnTo>
                    <a:lnTo>
                      <a:pt x="43" y="23"/>
                    </a:lnTo>
                    <a:lnTo>
                      <a:pt x="49" y="18"/>
                    </a:lnTo>
                    <a:lnTo>
                      <a:pt x="55" y="14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85" y="14"/>
                    </a:lnTo>
                    <a:lnTo>
                      <a:pt x="110" y="14"/>
                    </a:lnTo>
                    <a:lnTo>
                      <a:pt x="128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flipH="1">
                <a:off x="6001560" y="3814920"/>
                <a:ext cx="2439000" cy="1338480"/>
              </a:xfrm>
              <a:custGeom>
                <a:avLst/>
                <a:gdLst/>
                <a:ahLst/>
                <a:rect l="l" t="t" r="r" b="b"/>
                <a:pathLst>
                  <a:path w="1582" h="678">
                    <a:moveTo>
                      <a:pt x="61" y="99"/>
                    </a:moveTo>
                    <a:lnTo>
                      <a:pt x="91" y="99"/>
                    </a:lnTo>
                    <a:lnTo>
                      <a:pt x="158" y="90"/>
                    </a:lnTo>
                    <a:lnTo>
                      <a:pt x="243" y="85"/>
                    </a:lnTo>
                    <a:lnTo>
                      <a:pt x="353" y="81"/>
                    </a:lnTo>
                    <a:lnTo>
                      <a:pt x="475" y="72"/>
                    </a:lnTo>
                    <a:lnTo>
                      <a:pt x="609" y="59"/>
                    </a:lnTo>
                    <a:lnTo>
                      <a:pt x="749" y="50"/>
                    </a:lnTo>
                    <a:lnTo>
                      <a:pt x="888" y="41"/>
                    </a:lnTo>
                    <a:lnTo>
                      <a:pt x="1016" y="32"/>
                    </a:lnTo>
                    <a:lnTo>
                      <a:pt x="1138" y="18"/>
                    </a:lnTo>
                    <a:lnTo>
                      <a:pt x="1247" y="9"/>
                    </a:lnTo>
                    <a:lnTo>
                      <a:pt x="1333" y="5"/>
                    </a:lnTo>
                    <a:lnTo>
                      <a:pt x="1394" y="0"/>
                    </a:lnTo>
                    <a:lnTo>
                      <a:pt x="1424" y="0"/>
                    </a:lnTo>
                    <a:lnTo>
                      <a:pt x="1424" y="0"/>
                    </a:lnTo>
                    <a:lnTo>
                      <a:pt x="1467" y="0"/>
                    </a:lnTo>
                    <a:lnTo>
                      <a:pt x="1485" y="9"/>
                    </a:lnTo>
                    <a:lnTo>
                      <a:pt x="1497" y="32"/>
                    </a:lnTo>
                    <a:lnTo>
                      <a:pt x="1497" y="32"/>
                    </a:lnTo>
                    <a:lnTo>
                      <a:pt x="1497" y="59"/>
                    </a:lnTo>
                    <a:lnTo>
                      <a:pt x="1509" y="103"/>
                    </a:lnTo>
                    <a:lnTo>
                      <a:pt x="1521" y="162"/>
                    </a:lnTo>
                    <a:lnTo>
                      <a:pt x="1540" y="225"/>
                    </a:lnTo>
                    <a:lnTo>
                      <a:pt x="1552" y="292"/>
                    </a:lnTo>
                    <a:lnTo>
                      <a:pt x="1564" y="350"/>
                    </a:lnTo>
                    <a:lnTo>
                      <a:pt x="1576" y="400"/>
                    </a:lnTo>
                    <a:lnTo>
                      <a:pt x="1576" y="422"/>
                    </a:lnTo>
                    <a:lnTo>
                      <a:pt x="1576" y="422"/>
                    </a:lnTo>
                    <a:lnTo>
                      <a:pt x="1582" y="494"/>
                    </a:lnTo>
                    <a:lnTo>
                      <a:pt x="1582" y="593"/>
                    </a:lnTo>
                    <a:lnTo>
                      <a:pt x="1582" y="656"/>
                    </a:lnTo>
                    <a:lnTo>
                      <a:pt x="1582" y="656"/>
                    </a:lnTo>
                    <a:lnTo>
                      <a:pt x="1582" y="669"/>
                    </a:lnTo>
                    <a:lnTo>
                      <a:pt x="1576" y="678"/>
                    </a:lnTo>
                    <a:lnTo>
                      <a:pt x="1564" y="678"/>
                    </a:lnTo>
                    <a:lnTo>
                      <a:pt x="1564" y="678"/>
                    </a:lnTo>
                    <a:lnTo>
                      <a:pt x="1448" y="669"/>
                    </a:lnTo>
                    <a:lnTo>
                      <a:pt x="1314" y="660"/>
                    </a:lnTo>
                    <a:lnTo>
                      <a:pt x="1162" y="651"/>
                    </a:lnTo>
                    <a:lnTo>
                      <a:pt x="1016" y="642"/>
                    </a:lnTo>
                    <a:lnTo>
                      <a:pt x="876" y="633"/>
                    </a:lnTo>
                    <a:lnTo>
                      <a:pt x="755" y="624"/>
                    </a:lnTo>
                    <a:lnTo>
                      <a:pt x="663" y="620"/>
                    </a:lnTo>
                    <a:lnTo>
                      <a:pt x="621" y="615"/>
                    </a:lnTo>
                    <a:lnTo>
                      <a:pt x="621" y="615"/>
                    </a:lnTo>
                    <a:lnTo>
                      <a:pt x="615" y="593"/>
                    </a:lnTo>
                    <a:lnTo>
                      <a:pt x="609" y="570"/>
                    </a:lnTo>
                    <a:lnTo>
                      <a:pt x="602" y="552"/>
                    </a:lnTo>
                    <a:lnTo>
                      <a:pt x="602" y="552"/>
                    </a:lnTo>
                    <a:lnTo>
                      <a:pt x="590" y="535"/>
                    </a:lnTo>
                    <a:lnTo>
                      <a:pt x="578" y="530"/>
                    </a:lnTo>
                    <a:lnTo>
                      <a:pt x="548" y="526"/>
                    </a:lnTo>
                    <a:lnTo>
                      <a:pt x="548" y="526"/>
                    </a:lnTo>
                    <a:lnTo>
                      <a:pt x="505" y="526"/>
                    </a:lnTo>
                    <a:lnTo>
                      <a:pt x="463" y="521"/>
                    </a:lnTo>
                    <a:lnTo>
                      <a:pt x="426" y="521"/>
                    </a:lnTo>
                    <a:lnTo>
                      <a:pt x="426" y="521"/>
                    </a:lnTo>
                    <a:lnTo>
                      <a:pt x="408" y="521"/>
                    </a:lnTo>
                    <a:lnTo>
                      <a:pt x="390" y="530"/>
                    </a:lnTo>
                    <a:lnTo>
                      <a:pt x="377" y="544"/>
                    </a:lnTo>
                    <a:lnTo>
                      <a:pt x="377" y="544"/>
                    </a:lnTo>
                    <a:lnTo>
                      <a:pt x="371" y="557"/>
                    </a:lnTo>
                    <a:lnTo>
                      <a:pt x="365" y="570"/>
                    </a:lnTo>
                    <a:lnTo>
                      <a:pt x="359" y="593"/>
                    </a:lnTo>
                    <a:lnTo>
                      <a:pt x="359" y="593"/>
                    </a:lnTo>
                    <a:lnTo>
                      <a:pt x="256" y="588"/>
                    </a:lnTo>
                    <a:lnTo>
                      <a:pt x="134" y="579"/>
                    </a:lnTo>
                    <a:lnTo>
                      <a:pt x="43" y="570"/>
                    </a:lnTo>
                    <a:lnTo>
                      <a:pt x="43" y="570"/>
                    </a:lnTo>
                    <a:lnTo>
                      <a:pt x="18" y="570"/>
                    </a:lnTo>
                    <a:lnTo>
                      <a:pt x="0" y="566"/>
                    </a:lnTo>
                    <a:lnTo>
                      <a:pt x="0" y="557"/>
                    </a:lnTo>
                    <a:lnTo>
                      <a:pt x="0" y="557"/>
                    </a:lnTo>
                    <a:lnTo>
                      <a:pt x="0" y="445"/>
                    </a:lnTo>
                    <a:lnTo>
                      <a:pt x="0" y="252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17"/>
                    </a:lnTo>
                    <a:lnTo>
                      <a:pt x="18" y="103"/>
                    </a:lnTo>
                    <a:lnTo>
                      <a:pt x="61" y="99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H="1">
                <a:off x="8300880" y="4000680"/>
                <a:ext cx="46080" cy="9720"/>
              </a:xfrm>
              <a:custGeom>
                <a:avLst/>
                <a:gdLst/>
                <a:ahLst/>
                <a:rect l="l" t="t" r="r" b="b"/>
                <a:pathLst>
                  <a:path w="30" h="5">
                    <a:moveTo>
                      <a:pt x="30" y="0"/>
                    </a:moveTo>
                    <a:lnTo>
                      <a:pt x="3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H="1">
                <a:off x="8197920" y="3992400"/>
                <a:ext cx="102960" cy="17640"/>
              </a:xfrm>
              <a:custGeom>
                <a:avLst/>
                <a:gdLst/>
                <a:ahLst/>
                <a:rect l="l" t="t" r="r" b="b"/>
                <a:pathLst>
                  <a:path w="67" h="9">
                    <a:moveTo>
                      <a:pt x="61" y="0"/>
                    </a:moveTo>
                    <a:lnTo>
                      <a:pt x="61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67" y="4"/>
                    </a:lnTo>
                    <a:lnTo>
                      <a:pt x="67" y="4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H="1">
                <a:off x="8066520" y="3974760"/>
                <a:ext cx="140040" cy="25920"/>
              </a:xfrm>
              <a:custGeom>
                <a:avLst/>
                <a:gdLst/>
                <a:ahLst/>
                <a:rect l="l" t="t" r="r" b="b"/>
                <a:pathLst>
                  <a:path w="91" h="13">
                    <a:moveTo>
                      <a:pt x="91" y="0"/>
                    </a:moveTo>
                    <a:lnTo>
                      <a:pt x="91" y="0"/>
                    </a:lnTo>
                    <a:lnTo>
                      <a:pt x="0" y="9"/>
                    </a:lnTo>
                    <a:lnTo>
                      <a:pt x="6" y="13"/>
                    </a:lnTo>
                    <a:lnTo>
                      <a:pt x="91" y="4"/>
                    </a:lnTo>
                    <a:lnTo>
                      <a:pt x="91" y="4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>
                <a:off x="7896600" y="3966840"/>
                <a:ext cx="169560" cy="15480"/>
              </a:xfrm>
              <a:custGeom>
                <a:avLst/>
                <a:gdLst/>
                <a:ahLst/>
                <a:rect l="l" t="t" r="r" b="b"/>
                <a:pathLst>
                  <a:path w="110" h="8">
                    <a:moveTo>
                      <a:pt x="110" y="0"/>
                    </a:moveTo>
                    <a:lnTo>
                      <a:pt x="110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110" y="4"/>
                    </a:lnTo>
                    <a:lnTo>
                      <a:pt x="110" y="4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flipH="1">
                <a:off x="7709040" y="3949200"/>
                <a:ext cx="187920" cy="25200"/>
              </a:xfrm>
              <a:custGeom>
                <a:avLst/>
                <a:gdLst/>
                <a:ahLst/>
                <a:rect l="l" t="t" r="r" b="b"/>
                <a:pathLst>
                  <a:path w="122" h="13">
                    <a:moveTo>
                      <a:pt x="122" y="0"/>
                    </a:moveTo>
                    <a:lnTo>
                      <a:pt x="122" y="0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122" y="4"/>
                    </a:lnTo>
                    <a:lnTo>
                      <a:pt x="122" y="4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H="1">
                <a:off x="7502040" y="3921480"/>
                <a:ext cx="206640" cy="35640"/>
              </a:xfrm>
              <a:custGeom>
                <a:avLst/>
                <a:gdLst/>
                <a:ahLst/>
                <a:rect l="l" t="t" r="r" b="b"/>
                <a:pathLst>
                  <a:path w="134" h="18">
                    <a:moveTo>
                      <a:pt x="134" y="0"/>
                    </a:moveTo>
                    <a:lnTo>
                      <a:pt x="134" y="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34" y="5"/>
                    </a:lnTo>
                    <a:lnTo>
                      <a:pt x="134" y="5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flipH="1">
                <a:off x="7286040" y="3903840"/>
                <a:ext cx="216000" cy="27000"/>
              </a:xfrm>
              <a:custGeom>
                <a:avLst/>
                <a:gdLst/>
                <a:ahLst/>
                <a:rect l="l" t="t" r="r" b="b"/>
                <a:pathLst>
                  <a:path w="140" h="14">
                    <a:moveTo>
                      <a:pt x="140" y="0"/>
                    </a:moveTo>
                    <a:lnTo>
                      <a:pt x="140" y="0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140" y="5"/>
                    </a:lnTo>
                    <a:lnTo>
                      <a:pt x="140" y="5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H="1">
                <a:off x="7071480" y="3885840"/>
                <a:ext cx="214200" cy="27720"/>
              </a:xfrm>
              <a:custGeom>
                <a:avLst/>
                <a:gdLst/>
                <a:ahLst/>
                <a:rect l="l" t="t" r="r" b="b"/>
                <a:pathLst>
                  <a:path w="139" h="14">
                    <a:moveTo>
                      <a:pt x="133" y="0"/>
                    </a:moveTo>
                    <a:lnTo>
                      <a:pt x="133" y="0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139" y="5"/>
                    </a:lnTo>
                    <a:lnTo>
                      <a:pt x="139" y="5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flipH="1">
                <a:off x="6874560" y="3868200"/>
                <a:ext cx="206640" cy="27720"/>
              </a:xfrm>
              <a:custGeom>
                <a:avLst/>
                <a:gdLst/>
                <a:ahLst/>
                <a:rect l="l" t="t" r="r" b="b"/>
                <a:pathLst>
                  <a:path w="134" h="14">
                    <a:moveTo>
                      <a:pt x="134" y="0"/>
                    </a:moveTo>
                    <a:lnTo>
                      <a:pt x="134" y="0"/>
                    </a:lnTo>
                    <a:lnTo>
                      <a:pt x="0" y="9"/>
                    </a:lnTo>
                    <a:lnTo>
                      <a:pt x="6" y="14"/>
                    </a:lnTo>
                    <a:lnTo>
                      <a:pt x="134" y="5"/>
                    </a:lnTo>
                    <a:lnTo>
                      <a:pt x="134" y="5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 flipH="1">
                <a:off x="6686640" y="3850560"/>
                <a:ext cx="187920" cy="27000"/>
              </a:xfrm>
              <a:custGeom>
                <a:avLst/>
                <a:gdLst/>
                <a:ahLst/>
                <a:rect l="l" t="t" r="r" b="b"/>
                <a:pathLst>
                  <a:path w="122" h="14">
                    <a:moveTo>
                      <a:pt x="122" y="0"/>
                    </a:moveTo>
                    <a:lnTo>
                      <a:pt x="122" y="0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122" y="5"/>
                    </a:lnTo>
                    <a:lnTo>
                      <a:pt x="122" y="5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 flipH="1">
                <a:off x="6517800" y="3832560"/>
                <a:ext cx="168120" cy="27720"/>
              </a:xfrm>
              <a:custGeom>
                <a:avLst/>
                <a:gdLst/>
                <a:ahLst/>
                <a:rect l="l" t="t" r="r" b="b"/>
                <a:pathLst>
                  <a:path w="109" h="14">
                    <a:moveTo>
                      <a:pt x="109" y="0"/>
                    </a:moveTo>
                    <a:lnTo>
                      <a:pt x="109" y="0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109" y="5"/>
                    </a:lnTo>
                    <a:lnTo>
                      <a:pt x="109" y="5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 flipH="1">
                <a:off x="6385680" y="3824640"/>
                <a:ext cx="132480" cy="17640"/>
              </a:xfrm>
              <a:custGeom>
                <a:avLst/>
                <a:gdLst/>
                <a:ahLst/>
                <a:rect l="l" t="t" r="r" b="b"/>
                <a:pathLst>
                  <a:path w="86" h="9">
                    <a:moveTo>
                      <a:pt x="86" y="0"/>
                    </a:moveTo>
                    <a:lnTo>
                      <a:pt x="86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86" y="4"/>
                    </a:lnTo>
                    <a:lnTo>
                      <a:pt x="86" y="4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flipH="1">
                <a:off x="6291360" y="3814920"/>
                <a:ext cx="93960" cy="17640"/>
              </a:xfrm>
              <a:custGeom>
                <a:avLst/>
                <a:gdLst/>
                <a:ahLst/>
                <a:rect l="l" t="t" r="r" b="b"/>
                <a:pathLst>
                  <a:path w="61" h="9">
                    <a:moveTo>
                      <a:pt x="61" y="0"/>
                    </a:moveTo>
                    <a:lnTo>
                      <a:pt x="61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flipH="1">
                <a:off x="6245640" y="3807360"/>
                <a:ext cx="46080" cy="1728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30" y="0"/>
                    </a:moveTo>
                    <a:lnTo>
                      <a:pt x="30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H="1">
                <a:off x="6244200" y="3807360"/>
                <a:ext cx="1440" cy="756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flipH="1">
                <a:off x="6170040" y="3807360"/>
                <a:ext cx="75240" cy="1728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49" y="4"/>
                    </a:moveTo>
                    <a:lnTo>
                      <a:pt x="49" y="4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43" y="9"/>
                    </a:lnTo>
                    <a:lnTo>
                      <a:pt x="43" y="9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H="1">
                <a:off x="6142320" y="3814920"/>
                <a:ext cx="36720" cy="277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24" y="9"/>
                    </a:moveTo>
                    <a:lnTo>
                      <a:pt x="24" y="9"/>
                    </a:lnTo>
                    <a:lnTo>
                      <a:pt x="6" y="0"/>
                    </a:lnTo>
                    <a:lnTo>
                      <a:pt x="0" y="5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H="1">
                <a:off x="6132600" y="3832560"/>
                <a:ext cx="18360" cy="52920"/>
              </a:xfrm>
              <a:custGeom>
                <a:avLst/>
                <a:gdLst/>
                <a:ahLst/>
                <a:rect l="l" t="t" r="r" b="b"/>
                <a:pathLst>
                  <a:path w="12" h="27">
                    <a:moveTo>
                      <a:pt x="12" y="23"/>
                    </a:moveTo>
                    <a:lnTo>
                      <a:pt x="12" y="23"/>
                    </a:lnTo>
                    <a:lnTo>
                      <a:pt x="6" y="0"/>
                    </a:lnTo>
                    <a:lnTo>
                      <a:pt x="0" y="5"/>
                    </a:lnTo>
                    <a:lnTo>
                      <a:pt x="6" y="27"/>
                    </a:lnTo>
                    <a:lnTo>
                      <a:pt x="6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H="1">
                <a:off x="6132600" y="3877920"/>
                <a:ext cx="900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flipH="1">
                <a:off x="6123240" y="3877920"/>
                <a:ext cx="18360" cy="52920"/>
              </a:xfrm>
              <a:custGeom>
                <a:avLst/>
                <a:gdLst/>
                <a:ahLst/>
                <a:rect l="l" t="t" r="r" b="b"/>
                <a:pathLst>
                  <a:path w="12" h="27">
                    <a:moveTo>
                      <a:pt x="12" y="27"/>
                    </a:moveTo>
                    <a:lnTo>
                      <a:pt x="12" y="27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1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flipH="1">
                <a:off x="6114240" y="3931200"/>
                <a:ext cx="18360" cy="86760"/>
              </a:xfrm>
              <a:custGeom>
                <a:avLst/>
                <a:gdLst/>
                <a:ahLst/>
                <a:rect l="l" t="t" r="r" b="b"/>
                <a:pathLst>
                  <a:path w="12" h="44">
                    <a:moveTo>
                      <a:pt x="12" y="44"/>
                    </a:moveTo>
                    <a:lnTo>
                      <a:pt x="12" y="44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12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flipH="1">
                <a:off x="6086880" y="4017960"/>
                <a:ext cx="36360" cy="116640"/>
              </a:xfrm>
              <a:custGeom>
                <a:avLst/>
                <a:gdLst/>
                <a:ahLst/>
                <a:rect l="l" t="t" r="r" b="b"/>
                <a:pathLst>
                  <a:path w="24" h="59">
                    <a:moveTo>
                      <a:pt x="24" y="59"/>
                    </a:moveTo>
                    <a:lnTo>
                      <a:pt x="24" y="59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18" y="59"/>
                    </a:lnTo>
                    <a:lnTo>
                      <a:pt x="18" y="59"/>
                    </a:lnTo>
                    <a:lnTo>
                      <a:pt x="24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H="1">
                <a:off x="6066360" y="4134960"/>
                <a:ext cx="29160" cy="123840"/>
              </a:xfrm>
              <a:custGeom>
                <a:avLst/>
                <a:gdLst/>
                <a:ahLst/>
                <a:rect l="l" t="t" r="r" b="b"/>
                <a:pathLst>
                  <a:path w="19" h="63">
                    <a:moveTo>
                      <a:pt x="19" y="63"/>
                    </a:moveTo>
                    <a:lnTo>
                      <a:pt x="19" y="6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19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flipH="1">
                <a:off x="6048000" y="4258800"/>
                <a:ext cx="29160" cy="132480"/>
              </a:xfrm>
              <a:custGeom>
                <a:avLst/>
                <a:gdLst/>
                <a:ahLst/>
                <a:rect l="l" t="t" r="r" b="b"/>
                <a:pathLst>
                  <a:path w="19" h="67">
                    <a:moveTo>
                      <a:pt x="19" y="67"/>
                    </a:moveTo>
                    <a:lnTo>
                      <a:pt x="19" y="6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3" y="67"/>
                    </a:lnTo>
                    <a:lnTo>
                      <a:pt x="13" y="67"/>
                    </a:lnTo>
                    <a:lnTo>
                      <a:pt x="19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flipH="1">
                <a:off x="6020640" y="4391280"/>
                <a:ext cx="36720" cy="124200"/>
              </a:xfrm>
              <a:custGeom>
                <a:avLst/>
                <a:gdLst/>
                <a:ahLst/>
                <a:rect l="l" t="t" r="r" b="b"/>
                <a:pathLst>
                  <a:path w="24" h="63">
                    <a:moveTo>
                      <a:pt x="24" y="58"/>
                    </a:moveTo>
                    <a:lnTo>
                      <a:pt x="24" y="58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24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flipH="1">
                <a:off x="6011640" y="4506120"/>
                <a:ext cx="27360" cy="9828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18" y="50"/>
                    </a:moveTo>
                    <a:lnTo>
                      <a:pt x="18" y="50"/>
                    </a:lnTo>
                    <a:lnTo>
                      <a:pt x="12" y="0"/>
                    </a:lnTo>
                    <a:lnTo>
                      <a:pt x="0" y="5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8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flipH="1">
                <a:off x="6001560" y="4604400"/>
                <a:ext cx="18360" cy="4320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12" y="22"/>
                    </a:moveTo>
                    <a:lnTo>
                      <a:pt x="12" y="2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1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flipH="1">
                <a:off x="6001920" y="464796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flipH="1">
                <a:off x="5992560" y="4647960"/>
                <a:ext cx="18360" cy="142200"/>
              </a:xfrm>
              <a:custGeom>
                <a:avLst/>
                <a:gdLst/>
                <a:ahLst/>
                <a:rect l="l" t="t" r="r" b="b"/>
                <a:pathLst>
                  <a:path w="12" h="72">
                    <a:moveTo>
                      <a:pt x="12" y="72"/>
                    </a:moveTo>
                    <a:lnTo>
                      <a:pt x="12" y="7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1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 flipH="1">
                <a:off x="5992560" y="4790160"/>
                <a:ext cx="18360" cy="195120"/>
              </a:xfrm>
              <a:custGeom>
                <a:avLst/>
                <a:gdLst/>
                <a:ahLst/>
                <a:rect l="l" t="t" r="r" b="b"/>
                <a:pathLst>
                  <a:path w="12" h="99">
                    <a:moveTo>
                      <a:pt x="12" y="99"/>
                    </a:moveTo>
                    <a:lnTo>
                      <a:pt x="12" y="99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12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H="1">
                <a:off x="5992560" y="4985280"/>
                <a:ext cx="18360" cy="124200"/>
              </a:xfrm>
              <a:custGeom>
                <a:avLst/>
                <a:gdLst/>
                <a:ahLst/>
                <a:rect l="l" t="t" r="r" b="b"/>
                <a:pathLst>
                  <a:path w="12" h="63">
                    <a:moveTo>
                      <a:pt x="12" y="63"/>
                    </a:moveTo>
                    <a:lnTo>
                      <a:pt x="12" y="63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12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flipH="1">
                <a:off x="5992560" y="5109840"/>
                <a:ext cx="18360" cy="144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flipH="1">
                <a:off x="5992560" y="5109840"/>
                <a:ext cx="18360" cy="352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12" y="18"/>
                    </a:moveTo>
                    <a:lnTo>
                      <a:pt x="12" y="13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6" y="18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flipH="1">
                <a:off x="5992560" y="513540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9"/>
                    </a:moveTo>
                    <a:lnTo>
                      <a:pt x="6" y="9"/>
                    </a:lnTo>
                    <a:lnTo>
                      <a:pt x="12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flipH="1">
                <a:off x="6011280" y="5145120"/>
                <a:ext cx="18000" cy="79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4"/>
                    </a:moveTo>
                    <a:lnTo>
                      <a:pt x="0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 flipH="1">
                <a:off x="6027840" y="514512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H="1">
                <a:off x="6029280" y="5135400"/>
                <a:ext cx="178920" cy="17640"/>
              </a:xfrm>
              <a:custGeom>
                <a:avLst/>
                <a:gdLst/>
                <a:ahLst/>
                <a:rect l="l" t="t" r="r" b="b"/>
                <a:pathLst>
                  <a:path w="116" h="9">
                    <a:moveTo>
                      <a:pt x="0" y="5"/>
                    </a:moveTo>
                    <a:lnTo>
                      <a:pt x="0" y="5"/>
                    </a:lnTo>
                    <a:lnTo>
                      <a:pt x="116" y="9"/>
                    </a:lnTo>
                    <a:lnTo>
                      <a:pt x="116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H="1">
                <a:off x="6208560" y="5117760"/>
                <a:ext cx="206640" cy="27000"/>
              </a:xfrm>
              <a:custGeom>
                <a:avLst/>
                <a:gdLst/>
                <a:ahLst/>
                <a:rect l="l" t="t" r="r" b="b"/>
                <a:pathLst>
                  <a:path w="134" h="14">
                    <a:moveTo>
                      <a:pt x="0" y="5"/>
                    </a:moveTo>
                    <a:lnTo>
                      <a:pt x="0" y="5"/>
                    </a:lnTo>
                    <a:lnTo>
                      <a:pt x="134" y="14"/>
                    </a:lnTo>
                    <a:lnTo>
                      <a:pt x="134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 flipH="1">
                <a:off x="6415560" y="5091840"/>
                <a:ext cx="234000" cy="35640"/>
              </a:xfrm>
              <a:custGeom>
                <a:avLst/>
                <a:gdLst/>
                <a:ahLst/>
                <a:rect l="l" t="t" r="r" b="b"/>
                <a:pathLst>
                  <a:path w="152" h="18">
                    <a:moveTo>
                      <a:pt x="0" y="9"/>
                    </a:moveTo>
                    <a:lnTo>
                      <a:pt x="0" y="9"/>
                    </a:lnTo>
                    <a:lnTo>
                      <a:pt x="152" y="18"/>
                    </a:lnTo>
                    <a:lnTo>
                      <a:pt x="152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flipH="1">
                <a:off x="6649200" y="5074560"/>
                <a:ext cx="225000" cy="35280"/>
              </a:xfrm>
              <a:custGeom>
                <a:avLst/>
                <a:gdLst/>
                <a:ahLst/>
                <a:rect l="l" t="t" r="r" b="b"/>
                <a:pathLst>
                  <a:path w="146" h="18">
                    <a:moveTo>
                      <a:pt x="0" y="9"/>
                    </a:moveTo>
                    <a:lnTo>
                      <a:pt x="0" y="9"/>
                    </a:lnTo>
                    <a:lnTo>
                      <a:pt x="146" y="18"/>
                    </a:lnTo>
                    <a:lnTo>
                      <a:pt x="146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H="1">
                <a:off x="6874560" y="5056560"/>
                <a:ext cx="225000" cy="35280"/>
              </a:xfrm>
              <a:custGeom>
                <a:avLst/>
                <a:gdLst/>
                <a:ahLst/>
                <a:rect l="l" t="t" r="r" b="b"/>
                <a:pathLst>
                  <a:path w="146" h="18">
                    <a:moveTo>
                      <a:pt x="0" y="9"/>
                    </a:moveTo>
                    <a:lnTo>
                      <a:pt x="0" y="9"/>
                    </a:lnTo>
                    <a:lnTo>
                      <a:pt x="146" y="18"/>
                    </a:lnTo>
                    <a:lnTo>
                      <a:pt x="146" y="9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 flipH="1">
                <a:off x="7090560" y="5038560"/>
                <a:ext cx="186480" cy="35640"/>
              </a:xfrm>
              <a:custGeom>
                <a:avLst/>
                <a:gdLst/>
                <a:ahLst/>
                <a:rect l="l" t="t" r="r" b="b"/>
                <a:pathLst>
                  <a:path w="121" h="18">
                    <a:moveTo>
                      <a:pt x="0" y="9"/>
                    </a:moveTo>
                    <a:lnTo>
                      <a:pt x="0" y="9"/>
                    </a:lnTo>
                    <a:lnTo>
                      <a:pt x="115" y="18"/>
                    </a:lnTo>
                    <a:lnTo>
                      <a:pt x="121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H="1">
                <a:off x="7277040" y="5028840"/>
                <a:ext cx="141840" cy="27720"/>
              </a:xfrm>
              <a:custGeom>
                <a:avLst/>
                <a:gdLst/>
                <a:ahLst/>
                <a:rect l="l" t="t" r="r" b="b"/>
                <a:pathLst>
                  <a:path w="92" h="14">
                    <a:moveTo>
                      <a:pt x="0" y="5"/>
                    </a:moveTo>
                    <a:lnTo>
                      <a:pt x="0" y="5"/>
                    </a:lnTo>
                    <a:lnTo>
                      <a:pt x="92" y="14"/>
                    </a:lnTo>
                    <a:lnTo>
                      <a:pt x="92" y="5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flipH="1">
                <a:off x="7409160" y="5020920"/>
                <a:ext cx="83160" cy="17640"/>
              </a:xfrm>
              <a:custGeom>
                <a:avLst/>
                <a:gdLst/>
                <a:ahLst/>
                <a:rect l="l" t="t" r="r" b="b"/>
                <a:pathLst>
                  <a:path w="54" h="9">
                    <a:moveTo>
                      <a:pt x="0" y="4"/>
                    </a:moveTo>
                    <a:lnTo>
                      <a:pt x="6" y="9"/>
                    </a:lnTo>
                    <a:lnTo>
                      <a:pt x="48" y="9"/>
                    </a:lnTo>
                    <a:lnTo>
                      <a:pt x="54" y="4"/>
                    </a:lnTo>
                    <a:lnTo>
                      <a:pt x="6" y="0"/>
                    </a:lnTo>
                    <a:lnTo>
                      <a:pt x="12" y="4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 flipH="1">
                <a:off x="7473960" y="5028840"/>
                <a:ext cx="18360" cy="972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0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flipH="1">
                <a:off x="7473960" y="4975560"/>
                <a:ext cx="27720" cy="5292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0" y="5"/>
                    </a:moveTo>
                    <a:lnTo>
                      <a:pt x="0" y="5"/>
                    </a:lnTo>
                    <a:lnTo>
                      <a:pt x="6" y="27"/>
                    </a:lnTo>
                    <a:lnTo>
                      <a:pt x="18" y="27"/>
                    </a:lnTo>
                    <a:lnTo>
                      <a:pt x="6" y="0"/>
                    </a:lnTo>
                    <a:lnTo>
                      <a:pt x="6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H="1">
                <a:off x="7493040" y="4940280"/>
                <a:ext cx="20160" cy="4500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0" y="5"/>
                    </a:moveTo>
                    <a:lnTo>
                      <a:pt x="0" y="5"/>
                    </a:lnTo>
                    <a:lnTo>
                      <a:pt x="7" y="23"/>
                    </a:lnTo>
                    <a:lnTo>
                      <a:pt x="13" y="2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 flipH="1">
                <a:off x="7502040" y="4896720"/>
                <a:ext cx="19800" cy="529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4"/>
                    </a:moveTo>
                    <a:lnTo>
                      <a:pt x="0" y="4"/>
                    </a:lnTo>
                    <a:lnTo>
                      <a:pt x="6" y="27"/>
                    </a:lnTo>
                    <a:lnTo>
                      <a:pt x="13" y="2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flipH="1">
                <a:off x="7512840" y="4896720"/>
                <a:ext cx="9000" cy="75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 flipH="1">
                <a:off x="7513200" y="4870800"/>
                <a:ext cx="27360" cy="3348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6" y="4"/>
                    </a:moveTo>
                    <a:lnTo>
                      <a:pt x="0" y="4"/>
                    </a:lnTo>
                    <a:lnTo>
                      <a:pt x="12" y="17"/>
                    </a:lnTo>
                    <a:lnTo>
                      <a:pt x="18" y="13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flipH="1">
                <a:off x="7522560" y="485352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9"/>
                    </a:moveTo>
                    <a:lnTo>
                      <a:pt x="0" y="9"/>
                    </a:lnTo>
                    <a:lnTo>
                      <a:pt x="12" y="13"/>
                    </a:lnTo>
                    <a:lnTo>
                      <a:pt x="18" y="9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 flipH="1">
                <a:off x="7549560" y="4853520"/>
                <a:ext cx="46440" cy="1728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0" y="4"/>
                    </a:moveTo>
                    <a:lnTo>
                      <a:pt x="0" y="4"/>
                    </a:lnTo>
                    <a:lnTo>
                      <a:pt x="30" y="9"/>
                    </a:lnTo>
                    <a:lnTo>
                      <a:pt x="3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flipH="1">
                <a:off x="7594920" y="4853520"/>
                <a:ext cx="1440" cy="756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 flipH="1">
                <a:off x="7596000" y="4853520"/>
                <a:ext cx="65880" cy="7560"/>
              </a:xfrm>
              <a:custGeom>
                <a:avLst/>
                <a:gdLst/>
                <a:ahLst/>
                <a:rect l="l" t="t" r="r" b="b"/>
                <a:pathLst>
                  <a:path w="43" h="4">
                    <a:moveTo>
                      <a:pt x="0" y="4"/>
                    </a:moveTo>
                    <a:lnTo>
                      <a:pt x="0" y="4"/>
                    </a:lnTo>
                    <a:lnTo>
                      <a:pt x="43" y="4"/>
                    </a:lnTo>
                    <a:lnTo>
                      <a:pt x="4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>
                <a:off x="7662600" y="4843440"/>
                <a:ext cx="64800" cy="17280"/>
              </a:xfrm>
              <a:custGeom>
                <a:avLst/>
                <a:gdLst/>
                <a:ahLst/>
                <a:rect l="l" t="t" r="r" b="b"/>
                <a:pathLst>
                  <a:path w="42" h="9">
                    <a:moveTo>
                      <a:pt x="0" y="5"/>
                    </a:moveTo>
                    <a:lnTo>
                      <a:pt x="0" y="5"/>
                    </a:lnTo>
                    <a:lnTo>
                      <a:pt x="42" y="9"/>
                    </a:lnTo>
                    <a:lnTo>
                      <a:pt x="42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 flipH="1">
                <a:off x="7727400" y="4843440"/>
                <a:ext cx="56880" cy="9720"/>
              </a:xfrm>
              <a:custGeom>
                <a:avLst/>
                <a:gdLst/>
                <a:ahLst/>
                <a:rect l="l" t="t" r="r" b="b"/>
                <a:pathLst>
                  <a:path w="37" h="5">
                    <a:moveTo>
                      <a:pt x="0" y="5"/>
                    </a:moveTo>
                    <a:lnTo>
                      <a:pt x="0" y="5"/>
                    </a:lnTo>
                    <a:lnTo>
                      <a:pt x="37" y="5"/>
                    </a:lnTo>
                    <a:lnTo>
                      <a:pt x="3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 flipH="1">
                <a:off x="7782840" y="4843440"/>
                <a:ext cx="1440" cy="9720"/>
              </a:xfrm>
              <a:custGeom>
                <a:avLst/>
                <a:gdLst/>
                <a:ahLst/>
                <a:rect l="l" t="t" r="r" b="b"/>
                <a:pathLst>
                  <a:path w="0" h="5">
                    <a:moveTo>
                      <a:pt x="0" y="5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flipH="1">
                <a:off x="7784640" y="4843440"/>
                <a:ext cx="36720" cy="972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6" y="5"/>
                    </a:moveTo>
                    <a:lnTo>
                      <a:pt x="6" y="5"/>
                    </a:lnTo>
                    <a:lnTo>
                      <a:pt x="24" y="5"/>
                    </a:lnTo>
                    <a:lnTo>
                      <a:pt x="24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flipH="1">
                <a:off x="7812360" y="4843440"/>
                <a:ext cx="27360" cy="2700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6" y="9"/>
                    </a:moveTo>
                    <a:lnTo>
                      <a:pt x="6" y="14"/>
                    </a:lnTo>
                    <a:lnTo>
                      <a:pt x="18" y="5"/>
                    </a:lnTo>
                    <a:lnTo>
                      <a:pt x="12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 flipH="1">
                <a:off x="7830360" y="4861080"/>
                <a:ext cx="29160" cy="2772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6" y="14"/>
                    </a:moveTo>
                    <a:lnTo>
                      <a:pt x="6" y="14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flipH="1">
                <a:off x="7850520" y="48787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 flipH="1">
                <a:off x="7850520" y="4878720"/>
                <a:ext cx="27720" cy="3528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2" y="18"/>
                    </a:moveTo>
                    <a:lnTo>
                      <a:pt x="12" y="18"/>
                    </a:lnTo>
                    <a:lnTo>
                      <a:pt x="18" y="5"/>
                    </a:lnTo>
                    <a:lnTo>
                      <a:pt x="12" y="0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 flipH="1">
                <a:off x="7859880" y="4914360"/>
                <a:ext cx="18360" cy="356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18"/>
                    </a:moveTo>
                    <a:lnTo>
                      <a:pt x="6" y="1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flipH="1">
                <a:off x="7868880" y="4940280"/>
                <a:ext cx="27720" cy="5292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6" y="27"/>
                    </a:moveTo>
                    <a:lnTo>
                      <a:pt x="12" y="23"/>
                    </a:lnTo>
                    <a:lnTo>
                      <a:pt x="18" y="5"/>
                    </a:lnTo>
                    <a:lnTo>
                      <a:pt x="12" y="0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12" y="23"/>
                    </a:lnTo>
                    <a:lnTo>
                      <a:pt x="6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 flipH="1">
                <a:off x="7878240" y="4985280"/>
                <a:ext cx="9000" cy="79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flipH="1">
                <a:off x="7887960" y="4967640"/>
                <a:ext cx="158400" cy="25920"/>
              </a:xfrm>
              <a:custGeom>
                <a:avLst/>
                <a:gdLst/>
                <a:ahLst/>
                <a:rect l="l" t="t" r="r" b="b"/>
                <a:pathLst>
                  <a:path w="103" h="13">
                    <a:moveTo>
                      <a:pt x="0" y="9"/>
                    </a:moveTo>
                    <a:lnTo>
                      <a:pt x="0" y="9"/>
                    </a:lnTo>
                    <a:lnTo>
                      <a:pt x="103" y="13"/>
                    </a:lnTo>
                    <a:lnTo>
                      <a:pt x="103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flipH="1">
                <a:off x="8046360" y="4950000"/>
                <a:ext cx="197280" cy="35280"/>
              </a:xfrm>
              <a:custGeom>
                <a:avLst/>
                <a:gdLst/>
                <a:ahLst/>
                <a:rect l="l" t="t" r="r" b="b"/>
                <a:pathLst>
                  <a:path w="128" h="18">
                    <a:moveTo>
                      <a:pt x="0" y="9"/>
                    </a:moveTo>
                    <a:lnTo>
                      <a:pt x="0" y="9"/>
                    </a:lnTo>
                    <a:lnTo>
                      <a:pt x="128" y="18"/>
                    </a:lnTo>
                    <a:lnTo>
                      <a:pt x="128" y="9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 flipH="1">
                <a:off x="8234640" y="4940280"/>
                <a:ext cx="140400" cy="27000"/>
              </a:xfrm>
              <a:custGeom>
                <a:avLst/>
                <a:gdLst/>
                <a:ahLst/>
                <a:rect l="l" t="t" r="r" b="b"/>
                <a:pathLst>
                  <a:path w="91" h="14">
                    <a:moveTo>
                      <a:pt x="0" y="5"/>
                    </a:moveTo>
                    <a:lnTo>
                      <a:pt x="0" y="5"/>
                    </a:lnTo>
                    <a:lnTo>
                      <a:pt x="85" y="14"/>
                    </a:lnTo>
                    <a:lnTo>
                      <a:pt x="91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 flipH="1">
                <a:off x="8373600" y="4940280"/>
                <a:ext cx="1440" cy="9720"/>
              </a:xfrm>
              <a:custGeom>
                <a:avLst/>
                <a:gdLst/>
                <a:ahLst/>
                <a:rect l="l" t="t" r="r" b="b"/>
                <a:pathLst>
                  <a:path w="0" h="5">
                    <a:moveTo>
                      <a:pt x="0" y="5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 flipH="1">
                <a:off x="8375400" y="4940280"/>
                <a:ext cx="38160" cy="9720"/>
              </a:xfrm>
              <a:custGeom>
                <a:avLst/>
                <a:gdLst/>
                <a:ahLst/>
                <a:rect l="l" t="t" r="r" b="b"/>
                <a:pathLst>
                  <a:path w="25" h="5">
                    <a:moveTo>
                      <a:pt x="0" y="5"/>
                    </a:moveTo>
                    <a:lnTo>
                      <a:pt x="0" y="5"/>
                    </a:lnTo>
                    <a:lnTo>
                      <a:pt x="25" y="5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 flipH="1">
                <a:off x="8413560" y="4932000"/>
                <a:ext cx="27360" cy="1764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0" y="0"/>
                    </a:moveTo>
                    <a:lnTo>
                      <a:pt x="0" y="4"/>
                    </a:lnTo>
                    <a:lnTo>
                      <a:pt x="18" y="9"/>
                    </a:lnTo>
                    <a:lnTo>
                      <a:pt x="18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 flipH="1">
                <a:off x="8431560" y="491436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0"/>
                    </a:moveTo>
                    <a:lnTo>
                      <a:pt x="0" y="0"/>
                    </a:lnTo>
                    <a:lnTo>
                      <a:pt x="6" y="9"/>
                    </a:lnTo>
                    <a:lnTo>
                      <a:pt x="12" y="9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flipH="1">
                <a:off x="8440920" y="4914360"/>
                <a:ext cx="936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 flipH="1">
                <a:off x="8440920" y="4692960"/>
                <a:ext cx="9360" cy="221040"/>
              </a:xfrm>
              <a:custGeom>
                <a:avLst/>
                <a:gdLst/>
                <a:ahLst/>
                <a:rect l="l" t="t" r="r" b="b"/>
                <a:pathLst>
                  <a:path w="6" h="112">
                    <a:moveTo>
                      <a:pt x="0" y="0"/>
                    </a:moveTo>
                    <a:lnTo>
                      <a:pt x="0" y="0"/>
                    </a:lnTo>
                    <a:lnTo>
                      <a:pt x="0" y="112"/>
                    </a:lnTo>
                    <a:lnTo>
                      <a:pt x="6" y="11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flipH="1">
                <a:off x="8440920" y="4312080"/>
                <a:ext cx="9360" cy="380880"/>
              </a:xfrm>
              <a:custGeom>
                <a:avLst/>
                <a:gdLst/>
                <a:ahLst/>
                <a:rect l="l" t="t" r="r" b="b"/>
                <a:pathLst>
                  <a:path w="6" h="193">
                    <a:moveTo>
                      <a:pt x="0" y="0"/>
                    </a:moveTo>
                    <a:lnTo>
                      <a:pt x="0" y="0"/>
                    </a:lnTo>
                    <a:lnTo>
                      <a:pt x="0" y="193"/>
                    </a:lnTo>
                    <a:lnTo>
                      <a:pt x="6" y="19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flipH="1">
                <a:off x="8440920" y="4081320"/>
                <a:ext cx="9360" cy="230760"/>
              </a:xfrm>
              <a:custGeom>
                <a:avLst/>
                <a:gdLst/>
                <a:ahLst/>
                <a:rect l="l" t="t" r="r" b="b"/>
                <a:pathLst>
                  <a:path w="6" h="117">
                    <a:moveTo>
                      <a:pt x="0" y="0"/>
                    </a:moveTo>
                    <a:lnTo>
                      <a:pt x="0" y="0"/>
                    </a:lnTo>
                    <a:lnTo>
                      <a:pt x="0" y="117"/>
                    </a:lnTo>
                    <a:lnTo>
                      <a:pt x="6" y="11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flipH="1">
                <a:off x="8440920" y="4081320"/>
                <a:ext cx="936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flipH="1">
                <a:off x="8431560" y="4045680"/>
                <a:ext cx="18360" cy="352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0"/>
                    </a:moveTo>
                    <a:lnTo>
                      <a:pt x="6" y="0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flipH="1">
                <a:off x="8404200" y="4010400"/>
                <a:ext cx="36720" cy="4320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18" y="0"/>
                    </a:moveTo>
                    <a:lnTo>
                      <a:pt x="18" y="4"/>
                    </a:lnTo>
                    <a:lnTo>
                      <a:pt x="0" y="18"/>
                    </a:lnTo>
                    <a:lnTo>
                      <a:pt x="6" y="22"/>
                    </a:lnTo>
                    <a:lnTo>
                      <a:pt x="24" y="4"/>
                    </a:lnTo>
                    <a:lnTo>
                      <a:pt x="18" y="9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 flipH="1">
                <a:off x="8347320" y="4000680"/>
                <a:ext cx="66240" cy="2700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43" y="0"/>
                    </a:moveTo>
                    <a:lnTo>
                      <a:pt x="43" y="0"/>
                    </a:lnTo>
                    <a:lnTo>
                      <a:pt x="0" y="5"/>
                    </a:lnTo>
                    <a:lnTo>
                      <a:pt x="0" y="14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flipH="1">
                <a:off x="4809600" y="3814920"/>
                <a:ext cx="1369080" cy="1338480"/>
              </a:xfrm>
              <a:custGeom>
                <a:avLst/>
                <a:gdLst/>
                <a:ahLst/>
                <a:rect l="l" t="t" r="r" b="b"/>
                <a:pathLst>
                  <a:path w="888" h="678">
                    <a:moveTo>
                      <a:pt x="30" y="0"/>
                    </a:moveTo>
                    <a:lnTo>
                      <a:pt x="206" y="5"/>
                    </a:lnTo>
                    <a:lnTo>
                      <a:pt x="517" y="9"/>
                    </a:lnTo>
                    <a:lnTo>
                      <a:pt x="718" y="9"/>
                    </a:lnTo>
                    <a:lnTo>
                      <a:pt x="718" y="9"/>
                    </a:lnTo>
                    <a:lnTo>
                      <a:pt x="748" y="14"/>
                    </a:lnTo>
                    <a:lnTo>
                      <a:pt x="766" y="18"/>
                    </a:lnTo>
                    <a:lnTo>
                      <a:pt x="784" y="41"/>
                    </a:lnTo>
                    <a:lnTo>
                      <a:pt x="784" y="41"/>
                    </a:lnTo>
                    <a:lnTo>
                      <a:pt x="784" y="59"/>
                    </a:lnTo>
                    <a:lnTo>
                      <a:pt x="797" y="81"/>
                    </a:lnTo>
                    <a:lnTo>
                      <a:pt x="809" y="117"/>
                    </a:lnTo>
                    <a:lnTo>
                      <a:pt x="821" y="153"/>
                    </a:lnTo>
                    <a:lnTo>
                      <a:pt x="833" y="198"/>
                    </a:lnTo>
                    <a:lnTo>
                      <a:pt x="845" y="238"/>
                    </a:lnTo>
                    <a:lnTo>
                      <a:pt x="857" y="283"/>
                    </a:lnTo>
                    <a:lnTo>
                      <a:pt x="870" y="319"/>
                    </a:lnTo>
                    <a:lnTo>
                      <a:pt x="876" y="355"/>
                    </a:lnTo>
                    <a:lnTo>
                      <a:pt x="888" y="382"/>
                    </a:lnTo>
                    <a:lnTo>
                      <a:pt x="888" y="395"/>
                    </a:lnTo>
                    <a:lnTo>
                      <a:pt x="888" y="395"/>
                    </a:lnTo>
                    <a:lnTo>
                      <a:pt x="888" y="449"/>
                    </a:lnTo>
                    <a:lnTo>
                      <a:pt x="888" y="548"/>
                    </a:lnTo>
                    <a:lnTo>
                      <a:pt x="882" y="615"/>
                    </a:lnTo>
                    <a:lnTo>
                      <a:pt x="882" y="615"/>
                    </a:lnTo>
                    <a:lnTo>
                      <a:pt x="876" y="629"/>
                    </a:lnTo>
                    <a:lnTo>
                      <a:pt x="864" y="638"/>
                    </a:lnTo>
                    <a:lnTo>
                      <a:pt x="845" y="638"/>
                    </a:lnTo>
                    <a:lnTo>
                      <a:pt x="845" y="638"/>
                    </a:lnTo>
                    <a:lnTo>
                      <a:pt x="711" y="651"/>
                    </a:lnTo>
                    <a:lnTo>
                      <a:pt x="474" y="660"/>
                    </a:lnTo>
                    <a:lnTo>
                      <a:pt x="231" y="669"/>
                    </a:lnTo>
                    <a:lnTo>
                      <a:pt x="97" y="678"/>
                    </a:lnTo>
                    <a:lnTo>
                      <a:pt x="97" y="678"/>
                    </a:lnTo>
                    <a:lnTo>
                      <a:pt x="103" y="678"/>
                    </a:lnTo>
                    <a:lnTo>
                      <a:pt x="109" y="674"/>
                    </a:lnTo>
                    <a:lnTo>
                      <a:pt x="109" y="665"/>
                    </a:lnTo>
                    <a:lnTo>
                      <a:pt x="109" y="665"/>
                    </a:lnTo>
                    <a:lnTo>
                      <a:pt x="115" y="593"/>
                    </a:lnTo>
                    <a:lnTo>
                      <a:pt x="109" y="485"/>
                    </a:lnTo>
                    <a:lnTo>
                      <a:pt x="109" y="427"/>
                    </a:lnTo>
                    <a:lnTo>
                      <a:pt x="109" y="427"/>
                    </a:lnTo>
                    <a:lnTo>
                      <a:pt x="103" y="404"/>
                    </a:lnTo>
                    <a:lnTo>
                      <a:pt x="97" y="355"/>
                    </a:lnTo>
                    <a:lnTo>
                      <a:pt x="85" y="292"/>
                    </a:lnTo>
                    <a:lnTo>
                      <a:pt x="66" y="225"/>
                    </a:lnTo>
                    <a:lnTo>
                      <a:pt x="54" y="157"/>
                    </a:lnTo>
                    <a:lnTo>
                      <a:pt x="42" y="94"/>
                    </a:lnTo>
                    <a:lnTo>
                      <a:pt x="30" y="45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18" y="9"/>
                    </a:lnTo>
                    <a:lnTo>
                      <a:pt x="6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flipH="1">
                <a:off x="5861520" y="3814920"/>
                <a:ext cx="271080" cy="17640"/>
              </a:xfrm>
              <a:custGeom>
                <a:avLst/>
                <a:gdLst/>
                <a:ahLst/>
                <a:rect l="l" t="t" r="r" b="b"/>
                <a:pathLst>
                  <a:path w="176" h="9">
                    <a:moveTo>
                      <a:pt x="176" y="5"/>
                    </a:moveTo>
                    <a:lnTo>
                      <a:pt x="17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76" y="9"/>
                    </a:lnTo>
                    <a:lnTo>
                      <a:pt x="176" y="9"/>
                    </a:lnTo>
                    <a:lnTo>
                      <a:pt x="17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flipH="1">
                <a:off x="5382000" y="3824640"/>
                <a:ext cx="479520" cy="7920"/>
              </a:xfrm>
              <a:custGeom>
                <a:avLst/>
                <a:gdLst/>
                <a:ahLst/>
                <a:rect l="l" t="t" r="r" b="b"/>
                <a:pathLst>
                  <a:path w="311" h="4">
                    <a:moveTo>
                      <a:pt x="311" y="0"/>
                    </a:moveTo>
                    <a:lnTo>
                      <a:pt x="31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311" y="4"/>
                    </a:lnTo>
                    <a:lnTo>
                      <a:pt x="311" y="4"/>
                    </a:lnTo>
                    <a:lnTo>
                      <a:pt x="3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flipH="1">
                <a:off x="5072400" y="3824640"/>
                <a:ext cx="309600" cy="17640"/>
              </a:xfrm>
              <a:custGeom>
                <a:avLst/>
                <a:gdLst/>
                <a:ahLst/>
                <a:rect l="l" t="t" r="r" b="b"/>
                <a:pathLst>
                  <a:path w="201" h="9">
                    <a:moveTo>
                      <a:pt x="201" y="4"/>
                    </a:moveTo>
                    <a:lnTo>
                      <a:pt x="201" y="4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01" y="9"/>
                    </a:lnTo>
                    <a:lnTo>
                      <a:pt x="201" y="9"/>
                    </a:lnTo>
                    <a:lnTo>
                      <a:pt x="20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H="1">
                <a:off x="5070600" y="3832560"/>
                <a:ext cx="1080" cy="9720"/>
              </a:xfrm>
              <a:custGeom>
                <a:avLst/>
                <a:gdLst/>
                <a:ahLst/>
                <a:rect l="l" t="t" r="r" b="b"/>
                <a:pathLst>
                  <a:path w="0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flipH="1">
                <a:off x="5025960" y="3832560"/>
                <a:ext cx="46080" cy="1764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30" y="5"/>
                    </a:moveTo>
                    <a:lnTo>
                      <a:pt x="3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H="1">
                <a:off x="4988880" y="3842640"/>
                <a:ext cx="46080" cy="1764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30" y="4"/>
                    </a:moveTo>
                    <a:lnTo>
                      <a:pt x="24" y="4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24" y="9"/>
                    </a:lnTo>
                    <a:lnTo>
                      <a:pt x="18" y="9"/>
                    </a:lnTo>
                    <a:lnTo>
                      <a:pt x="30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3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flipH="1">
                <a:off x="4970520" y="3850560"/>
                <a:ext cx="36720" cy="5292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24" y="23"/>
                    </a:moveTo>
                    <a:lnTo>
                      <a:pt x="24" y="23"/>
                    </a:lnTo>
                    <a:lnTo>
                      <a:pt x="12" y="0"/>
                    </a:lnTo>
                    <a:lnTo>
                      <a:pt x="0" y="5"/>
                    </a:lnTo>
                    <a:lnTo>
                      <a:pt x="18" y="27"/>
                    </a:lnTo>
                    <a:lnTo>
                      <a:pt x="18" y="23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H="1">
                <a:off x="4970160" y="3895920"/>
                <a:ext cx="900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flipH="1">
                <a:off x="4959360" y="3895920"/>
                <a:ext cx="19800" cy="3528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13" y="18"/>
                    </a:moveTo>
                    <a:lnTo>
                      <a:pt x="13" y="18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1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flipH="1">
                <a:off x="4950360" y="3931200"/>
                <a:ext cx="19800" cy="4320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3" y="22"/>
                    </a:moveTo>
                    <a:lnTo>
                      <a:pt x="13" y="2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13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 flipH="1">
                <a:off x="4932000" y="39747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18" h="36">
                    <a:moveTo>
                      <a:pt x="18" y="36"/>
                    </a:moveTo>
                    <a:lnTo>
                      <a:pt x="18" y="3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flipH="1">
                <a:off x="4913640" y="404568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18" h="36">
                    <a:moveTo>
                      <a:pt x="18" y="36"/>
                    </a:moveTo>
                    <a:lnTo>
                      <a:pt x="18" y="3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 flipH="1">
                <a:off x="4885560" y="4116960"/>
                <a:ext cx="36720" cy="88560"/>
              </a:xfrm>
              <a:custGeom>
                <a:avLst/>
                <a:gdLst/>
                <a:ahLst/>
                <a:rect l="l" t="t" r="r" b="b"/>
                <a:pathLst>
                  <a:path w="24" h="45">
                    <a:moveTo>
                      <a:pt x="24" y="45"/>
                    </a:moveTo>
                    <a:lnTo>
                      <a:pt x="24" y="45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12" y="45"/>
                    </a:lnTo>
                    <a:lnTo>
                      <a:pt x="12" y="45"/>
                    </a:lnTo>
                    <a:lnTo>
                      <a:pt x="2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flipH="1">
                <a:off x="4867200" y="4205520"/>
                <a:ext cx="36360" cy="79200"/>
              </a:xfrm>
              <a:custGeom>
                <a:avLst/>
                <a:gdLst/>
                <a:ahLst/>
                <a:rect l="l" t="t" r="r" b="b"/>
                <a:pathLst>
                  <a:path w="24" h="40">
                    <a:moveTo>
                      <a:pt x="24" y="40"/>
                    </a:moveTo>
                    <a:lnTo>
                      <a:pt x="24" y="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2" y="40"/>
                    </a:lnTo>
                    <a:lnTo>
                      <a:pt x="12" y="40"/>
                    </a:lnTo>
                    <a:lnTo>
                      <a:pt x="24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 flipH="1">
                <a:off x="4847400" y="4284720"/>
                <a:ext cx="38160" cy="88560"/>
              </a:xfrm>
              <a:custGeom>
                <a:avLst/>
                <a:gdLst/>
                <a:ahLst/>
                <a:rect l="l" t="t" r="r" b="b"/>
                <a:pathLst>
                  <a:path w="25" h="45">
                    <a:moveTo>
                      <a:pt x="25" y="41"/>
                    </a:moveTo>
                    <a:lnTo>
                      <a:pt x="25" y="45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2" y="45"/>
                    </a:lnTo>
                    <a:lnTo>
                      <a:pt x="12" y="45"/>
                    </a:lnTo>
                    <a:lnTo>
                      <a:pt x="25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H="1">
                <a:off x="4828320" y="4365360"/>
                <a:ext cx="38520" cy="79200"/>
              </a:xfrm>
              <a:custGeom>
                <a:avLst/>
                <a:gdLst/>
                <a:ahLst/>
                <a:rect l="l" t="t" r="r" b="b"/>
                <a:pathLst>
                  <a:path w="25" h="40">
                    <a:moveTo>
                      <a:pt x="25" y="40"/>
                    </a:moveTo>
                    <a:lnTo>
                      <a:pt x="25" y="40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13" y="40"/>
                    </a:lnTo>
                    <a:lnTo>
                      <a:pt x="13" y="40"/>
                    </a:lnTo>
                    <a:lnTo>
                      <a:pt x="25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 flipH="1">
                <a:off x="4819680" y="44445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18" h="36">
                    <a:moveTo>
                      <a:pt x="18" y="36"/>
                    </a:moveTo>
                    <a:lnTo>
                      <a:pt x="18" y="3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flipH="1">
                <a:off x="4809600" y="4515840"/>
                <a:ext cx="18360" cy="52920"/>
              </a:xfrm>
              <a:custGeom>
                <a:avLst/>
                <a:gdLst/>
                <a:ahLst/>
                <a:rect l="l" t="t" r="r" b="b"/>
                <a:pathLst>
                  <a:path w="12" h="27">
                    <a:moveTo>
                      <a:pt x="12" y="22"/>
                    </a:moveTo>
                    <a:lnTo>
                      <a:pt x="12" y="2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1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 flipH="1">
                <a:off x="4800600" y="4559400"/>
                <a:ext cx="18360" cy="352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12" y="18"/>
                    </a:moveTo>
                    <a:lnTo>
                      <a:pt x="12" y="18"/>
                    </a:lnTo>
                    <a:lnTo>
                      <a:pt x="6" y="0"/>
                    </a:lnTo>
                    <a:lnTo>
                      <a:pt x="0" y="5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flipH="1">
                <a:off x="4800600" y="4594680"/>
                <a:ext cx="900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 flipH="1">
                <a:off x="4800600" y="4594680"/>
                <a:ext cx="18360" cy="10620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6" y="54"/>
                    </a:moveTo>
                    <a:lnTo>
                      <a:pt x="6" y="5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6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 flipH="1">
                <a:off x="4809960" y="4701240"/>
                <a:ext cx="9360" cy="195480"/>
              </a:xfrm>
              <a:custGeom>
                <a:avLst/>
                <a:gdLst/>
                <a:ahLst/>
                <a:rect l="l" t="t" r="r" b="b"/>
                <a:pathLst>
                  <a:path w="6" h="99">
                    <a:moveTo>
                      <a:pt x="6" y="99"/>
                    </a:moveTo>
                    <a:lnTo>
                      <a:pt x="6" y="99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6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H="1">
                <a:off x="4809600" y="4896720"/>
                <a:ext cx="18360" cy="131760"/>
              </a:xfrm>
              <a:custGeom>
                <a:avLst/>
                <a:gdLst/>
                <a:ahLst/>
                <a:rect l="l" t="t" r="r" b="b"/>
                <a:pathLst>
                  <a:path w="12" h="67">
                    <a:moveTo>
                      <a:pt x="12" y="67"/>
                    </a:moveTo>
                    <a:lnTo>
                      <a:pt x="12" y="67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12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flipH="1">
                <a:off x="4809600" y="5028840"/>
                <a:ext cx="18360" cy="216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12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 flipH="1">
                <a:off x="4809600" y="5028840"/>
                <a:ext cx="18360" cy="356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6" y="18"/>
                    </a:moveTo>
                    <a:lnTo>
                      <a:pt x="6" y="1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H="1">
                <a:off x="4819680" y="505656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13"/>
                    </a:moveTo>
                    <a:lnTo>
                      <a:pt x="6" y="9"/>
                    </a:lnTo>
                    <a:lnTo>
                      <a:pt x="18" y="4"/>
                    </a:lnTo>
                    <a:lnTo>
                      <a:pt x="12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13"/>
                    </a:lnTo>
                    <a:lnTo>
                      <a:pt x="6" y="13"/>
                    </a:lnTo>
                    <a:lnTo>
                      <a:pt x="6" y="9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 flipH="1">
                <a:off x="4846680" y="5064480"/>
                <a:ext cx="29160" cy="1728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0" y="9"/>
                    </a:moveTo>
                    <a:lnTo>
                      <a:pt x="0" y="9"/>
                    </a:lnTo>
                    <a:lnTo>
                      <a:pt x="19" y="9"/>
                    </a:lnTo>
                    <a:lnTo>
                      <a:pt x="19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flipH="1">
                <a:off x="4874760" y="5074560"/>
                <a:ext cx="1080" cy="756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 flipH="1">
                <a:off x="4876200" y="5074560"/>
                <a:ext cx="206640" cy="25200"/>
              </a:xfrm>
              <a:custGeom>
                <a:avLst/>
                <a:gdLst/>
                <a:ahLst/>
                <a:rect l="l" t="t" r="r" b="b"/>
                <a:pathLst>
                  <a:path w="134" h="13">
                    <a:moveTo>
                      <a:pt x="0" y="13"/>
                    </a:moveTo>
                    <a:lnTo>
                      <a:pt x="0" y="13"/>
                    </a:lnTo>
                    <a:lnTo>
                      <a:pt x="134" y="4"/>
                    </a:lnTo>
                    <a:lnTo>
                      <a:pt x="134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flipH="1">
                <a:off x="5083200" y="5091840"/>
                <a:ext cx="365040" cy="35640"/>
              </a:xfrm>
              <a:custGeom>
                <a:avLst/>
                <a:gdLst/>
                <a:ahLst/>
                <a:rect l="l" t="t" r="r" b="b"/>
                <a:pathLst>
                  <a:path w="237" h="18">
                    <a:moveTo>
                      <a:pt x="0" y="18"/>
                    </a:moveTo>
                    <a:lnTo>
                      <a:pt x="0" y="18"/>
                    </a:lnTo>
                    <a:lnTo>
                      <a:pt x="237" y="4"/>
                    </a:lnTo>
                    <a:lnTo>
                      <a:pt x="237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 flipH="1">
                <a:off x="5447880" y="5117760"/>
                <a:ext cx="374760" cy="27000"/>
              </a:xfrm>
              <a:custGeom>
                <a:avLst/>
                <a:gdLst/>
                <a:ahLst/>
                <a:rect l="l" t="t" r="r" b="b"/>
                <a:pathLst>
                  <a:path w="243" h="14">
                    <a:moveTo>
                      <a:pt x="0" y="14"/>
                    </a:moveTo>
                    <a:lnTo>
                      <a:pt x="0" y="14"/>
                    </a:lnTo>
                    <a:lnTo>
                      <a:pt x="243" y="5"/>
                    </a:lnTo>
                    <a:lnTo>
                      <a:pt x="243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flipH="1">
                <a:off x="5822640" y="5135400"/>
                <a:ext cx="206280" cy="17640"/>
              </a:xfrm>
              <a:custGeom>
                <a:avLst/>
                <a:gdLst/>
                <a:ahLst/>
                <a:rect l="l" t="t" r="r" b="b"/>
                <a:pathLst>
                  <a:path w="134" h="9">
                    <a:moveTo>
                      <a:pt x="0" y="5"/>
                    </a:moveTo>
                    <a:lnTo>
                      <a:pt x="0" y="9"/>
                    </a:lnTo>
                    <a:lnTo>
                      <a:pt x="134" y="5"/>
                    </a:lnTo>
                    <a:lnTo>
                      <a:pt x="134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 flipH="1">
                <a:off x="6027840" y="514512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flipH="1">
                <a:off x="6019920" y="5145120"/>
                <a:ext cx="9000" cy="79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flipH="1">
                <a:off x="6001560" y="5135400"/>
                <a:ext cx="18360" cy="176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6" y="5"/>
                    </a:moveTo>
                    <a:lnTo>
                      <a:pt x="6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12" y="9"/>
                    </a:lnTo>
                    <a:lnTo>
                      <a:pt x="12" y="5"/>
                    </a:lnTo>
                    <a:lnTo>
                      <a:pt x="12" y="9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 flipH="1">
                <a:off x="6001920" y="5127840"/>
                <a:ext cx="9360" cy="172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 flipH="1">
                <a:off x="6001920" y="512784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flipH="1">
                <a:off x="5992560" y="4985280"/>
                <a:ext cx="18360" cy="142200"/>
              </a:xfrm>
              <a:custGeom>
                <a:avLst/>
                <a:gdLst/>
                <a:ahLst/>
                <a:rect l="l" t="t" r="r" b="b"/>
                <a:pathLst>
                  <a:path w="12" h="72">
                    <a:moveTo>
                      <a:pt x="0" y="0"/>
                    </a:moveTo>
                    <a:lnTo>
                      <a:pt x="0" y="0"/>
                    </a:lnTo>
                    <a:lnTo>
                      <a:pt x="0" y="72"/>
                    </a:lnTo>
                    <a:lnTo>
                      <a:pt x="6" y="7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H="1">
                <a:off x="5992560" y="4772160"/>
                <a:ext cx="18360" cy="212760"/>
              </a:xfrm>
              <a:custGeom>
                <a:avLst/>
                <a:gdLst/>
                <a:ahLst/>
                <a:rect l="l" t="t" r="r" b="b"/>
                <a:pathLst>
                  <a:path w="12" h="108">
                    <a:moveTo>
                      <a:pt x="0" y="0"/>
                    </a:moveTo>
                    <a:lnTo>
                      <a:pt x="0" y="0"/>
                    </a:lnTo>
                    <a:lnTo>
                      <a:pt x="0" y="108"/>
                    </a:lnTo>
                    <a:lnTo>
                      <a:pt x="12" y="108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flipH="1">
                <a:off x="6001920" y="4657680"/>
                <a:ext cx="9360" cy="114480"/>
              </a:xfrm>
              <a:custGeom>
                <a:avLst/>
                <a:gdLst/>
                <a:ahLst/>
                <a:rect l="l" t="t" r="r" b="b"/>
                <a:pathLst>
                  <a:path w="6" h="58">
                    <a:moveTo>
                      <a:pt x="0" y="0"/>
                    </a:moveTo>
                    <a:lnTo>
                      <a:pt x="0" y="0"/>
                    </a:lnTo>
                    <a:lnTo>
                      <a:pt x="0" y="58"/>
                    </a:lnTo>
                    <a:lnTo>
                      <a:pt x="6" y="58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 flipH="1">
                <a:off x="6001920" y="4657680"/>
                <a:ext cx="9360" cy="216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 flipH="1">
                <a:off x="6001920" y="4612680"/>
                <a:ext cx="27360" cy="4500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0" y="0"/>
                    </a:moveTo>
                    <a:lnTo>
                      <a:pt x="0" y="0"/>
                    </a:lnTo>
                    <a:lnTo>
                      <a:pt x="12" y="23"/>
                    </a:lnTo>
                    <a:lnTo>
                      <a:pt x="18" y="2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flipH="1">
                <a:off x="6020280" y="4515840"/>
                <a:ext cx="18360" cy="96480"/>
              </a:xfrm>
              <a:custGeom>
                <a:avLst/>
                <a:gdLst/>
                <a:ahLst/>
                <a:rect l="l" t="t" r="r" b="b"/>
                <a:pathLst>
                  <a:path w="12" h="49">
                    <a:moveTo>
                      <a:pt x="0" y="0"/>
                    </a:moveTo>
                    <a:lnTo>
                      <a:pt x="0" y="0"/>
                    </a:lnTo>
                    <a:lnTo>
                      <a:pt x="6" y="49"/>
                    </a:lnTo>
                    <a:lnTo>
                      <a:pt x="12" y="49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flipH="1">
                <a:off x="6029280" y="4391280"/>
                <a:ext cx="27720" cy="124200"/>
              </a:xfrm>
              <a:custGeom>
                <a:avLst/>
                <a:gdLst/>
                <a:ahLst/>
                <a:rect l="l" t="t" r="r" b="b"/>
                <a:pathLst>
                  <a:path w="18" h="63">
                    <a:moveTo>
                      <a:pt x="0" y="0"/>
                    </a:moveTo>
                    <a:lnTo>
                      <a:pt x="0" y="0"/>
                    </a:lnTo>
                    <a:lnTo>
                      <a:pt x="12" y="63"/>
                    </a:lnTo>
                    <a:lnTo>
                      <a:pt x="18" y="6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flipH="1">
                <a:off x="6048000" y="4258800"/>
                <a:ext cx="38520" cy="132480"/>
              </a:xfrm>
              <a:custGeom>
                <a:avLst/>
                <a:gdLst/>
                <a:ahLst/>
                <a:rect l="l" t="t" r="r" b="b"/>
                <a:pathLst>
                  <a:path w="25" h="67">
                    <a:moveTo>
                      <a:pt x="0" y="0"/>
                    </a:moveTo>
                    <a:lnTo>
                      <a:pt x="0" y="0"/>
                    </a:lnTo>
                    <a:lnTo>
                      <a:pt x="19" y="67"/>
                    </a:lnTo>
                    <a:lnTo>
                      <a:pt x="25" y="6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flipH="1">
                <a:off x="6077160" y="4116960"/>
                <a:ext cx="27720" cy="141840"/>
              </a:xfrm>
              <a:custGeom>
                <a:avLst/>
                <a:gdLst/>
                <a:ahLst/>
                <a:rect l="l" t="t" r="r" b="b"/>
                <a:pathLst>
                  <a:path w="18" h="72">
                    <a:moveTo>
                      <a:pt x="0" y="4"/>
                    </a:moveTo>
                    <a:lnTo>
                      <a:pt x="0" y="4"/>
                    </a:lnTo>
                    <a:lnTo>
                      <a:pt x="12" y="72"/>
                    </a:lnTo>
                    <a:lnTo>
                      <a:pt x="18" y="7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flipH="1">
                <a:off x="6096240" y="4000680"/>
                <a:ext cx="27360" cy="123840"/>
              </a:xfrm>
              <a:custGeom>
                <a:avLst/>
                <a:gdLst/>
                <a:ahLst/>
                <a:rect l="l" t="t" r="r" b="b"/>
                <a:pathLst>
                  <a:path w="18" h="63">
                    <a:moveTo>
                      <a:pt x="0" y="0"/>
                    </a:moveTo>
                    <a:lnTo>
                      <a:pt x="0" y="0"/>
                    </a:lnTo>
                    <a:lnTo>
                      <a:pt x="12" y="63"/>
                    </a:lnTo>
                    <a:lnTo>
                      <a:pt x="18" y="59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flipH="1">
                <a:off x="6114240" y="3903840"/>
                <a:ext cx="18360" cy="96480"/>
              </a:xfrm>
              <a:custGeom>
                <a:avLst/>
                <a:gdLst/>
                <a:ahLst/>
                <a:rect l="l" t="t" r="r" b="b"/>
                <a:pathLst>
                  <a:path w="12" h="49">
                    <a:moveTo>
                      <a:pt x="0" y="0"/>
                    </a:moveTo>
                    <a:lnTo>
                      <a:pt x="0" y="0"/>
                    </a:lnTo>
                    <a:lnTo>
                      <a:pt x="6" y="49"/>
                    </a:lnTo>
                    <a:lnTo>
                      <a:pt x="12" y="49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 flipH="1">
                <a:off x="6123240" y="3860280"/>
                <a:ext cx="27720" cy="43200"/>
              </a:xfrm>
              <a:custGeom>
                <a:avLst/>
                <a:gdLst/>
                <a:ahLst/>
                <a:rect l="l" t="t" r="r" b="b"/>
                <a:pathLst>
                  <a:path w="18" h="22">
                    <a:moveTo>
                      <a:pt x="0" y="4"/>
                    </a:moveTo>
                    <a:lnTo>
                      <a:pt x="0" y="4"/>
                    </a:lnTo>
                    <a:lnTo>
                      <a:pt x="12" y="22"/>
                    </a:lnTo>
                    <a:lnTo>
                      <a:pt x="18" y="2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flipH="1">
                <a:off x="6132600" y="3860280"/>
                <a:ext cx="18360" cy="756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4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 flipH="1">
                <a:off x="6133320" y="3824640"/>
                <a:ext cx="27360" cy="43200"/>
              </a:xfrm>
              <a:custGeom>
                <a:avLst/>
                <a:gdLst/>
                <a:ahLst/>
                <a:rect l="l" t="t" r="r" b="b"/>
                <a:pathLst>
                  <a:path w="18" h="22">
                    <a:moveTo>
                      <a:pt x="0" y="4"/>
                    </a:moveTo>
                    <a:lnTo>
                      <a:pt x="0" y="4"/>
                    </a:lnTo>
                    <a:lnTo>
                      <a:pt x="6" y="22"/>
                    </a:lnTo>
                    <a:lnTo>
                      <a:pt x="18" y="18"/>
                    </a:lnTo>
                    <a:lnTo>
                      <a:pt x="6" y="4"/>
                    </a:lnTo>
                    <a:lnTo>
                      <a:pt x="6" y="0"/>
                    </a:lnTo>
                    <a:lnTo>
                      <a:pt x="6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flipH="1">
                <a:off x="6151320" y="3824640"/>
                <a:ext cx="18360" cy="79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4"/>
                    </a:moveTo>
                    <a:lnTo>
                      <a:pt x="0" y="4"/>
                    </a:lnTo>
                    <a:lnTo>
                      <a:pt x="6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flipH="1">
                <a:off x="6160320" y="3814920"/>
                <a:ext cx="47880" cy="17640"/>
              </a:xfrm>
              <a:custGeom>
                <a:avLst/>
                <a:gdLst/>
                <a:ahLst/>
                <a:rect l="l" t="t" r="r" b="b"/>
                <a:pathLst>
                  <a:path w="31" h="9">
                    <a:moveTo>
                      <a:pt x="19" y="0"/>
                    </a:moveTo>
                    <a:lnTo>
                      <a:pt x="12" y="5"/>
                    </a:lnTo>
                    <a:lnTo>
                      <a:pt x="25" y="9"/>
                    </a:lnTo>
                    <a:lnTo>
                      <a:pt x="31" y="5"/>
                    </a:lnTo>
                    <a:lnTo>
                      <a:pt x="19" y="0"/>
                    </a:lnTo>
                    <a:lnTo>
                      <a:pt x="19" y="5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19" y="5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flipH="1">
                <a:off x="6179040" y="3814920"/>
                <a:ext cx="29160" cy="9720"/>
              </a:xfrm>
              <a:custGeom>
                <a:avLst/>
                <a:gdLst/>
                <a:ahLst/>
                <a:rect l="l" t="t" r="r" b="b"/>
                <a:pathLst>
                  <a:path w="19" h="5">
                    <a:moveTo>
                      <a:pt x="19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5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19" y="5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H="1">
                <a:off x="6160320" y="3814920"/>
                <a:ext cx="18360" cy="972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12" y="0"/>
                    </a:moveTo>
                    <a:lnTo>
                      <a:pt x="12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flipH="1">
                <a:off x="6141960" y="3814920"/>
                <a:ext cx="18360" cy="972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12" y="0"/>
                    </a:moveTo>
                    <a:lnTo>
                      <a:pt x="12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 flipH="1">
                <a:off x="6132600" y="3814920"/>
                <a:ext cx="9000" cy="97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H="1">
                <a:off x="6170040" y="5206680"/>
                <a:ext cx="75240" cy="27720"/>
              </a:xfrm>
              <a:custGeom>
                <a:avLst/>
                <a:gdLst/>
                <a:ahLst/>
                <a:rect l="l" t="t" r="r" b="b"/>
                <a:pathLst>
                  <a:path w="49" h="14">
                    <a:moveTo>
                      <a:pt x="30" y="14"/>
                    </a:moveTo>
                    <a:lnTo>
                      <a:pt x="49" y="1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2" y="9"/>
                    </a:lnTo>
                    <a:lnTo>
                      <a:pt x="3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flipH="1">
                <a:off x="6170040" y="5206680"/>
                <a:ext cx="75240" cy="27720"/>
              </a:xfrm>
              <a:custGeom>
                <a:avLst/>
                <a:gdLst/>
                <a:ahLst/>
                <a:rect l="l" t="t" r="r" b="b"/>
                <a:pathLst>
                  <a:path w="49" h="14">
                    <a:moveTo>
                      <a:pt x="30" y="14"/>
                    </a:moveTo>
                    <a:lnTo>
                      <a:pt x="49" y="14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2" y="9"/>
                    </a:lnTo>
                    <a:lnTo>
                      <a:pt x="30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flipH="1">
                <a:off x="6020280" y="5206680"/>
                <a:ext cx="149400" cy="27720"/>
              </a:xfrm>
              <a:custGeom>
                <a:avLst/>
                <a:gdLst/>
                <a:ahLst/>
                <a:rect l="l" t="t" r="r" b="b"/>
                <a:pathLst>
                  <a:path w="97" h="14">
                    <a:moveTo>
                      <a:pt x="0" y="14"/>
                    </a:moveTo>
                    <a:lnTo>
                      <a:pt x="30" y="14"/>
                    </a:lnTo>
                    <a:lnTo>
                      <a:pt x="67" y="9"/>
                    </a:lnTo>
                    <a:lnTo>
                      <a:pt x="97" y="9"/>
                    </a:lnTo>
                    <a:lnTo>
                      <a:pt x="97" y="9"/>
                    </a:lnTo>
                    <a:lnTo>
                      <a:pt x="67" y="9"/>
                    </a:lnTo>
                    <a:lnTo>
                      <a:pt x="24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flipH="1">
                <a:off x="6020280" y="5206680"/>
                <a:ext cx="149400" cy="27720"/>
              </a:xfrm>
              <a:custGeom>
                <a:avLst/>
                <a:gdLst/>
                <a:ahLst/>
                <a:rect l="l" t="t" r="r" b="b"/>
                <a:pathLst>
                  <a:path w="97" h="14">
                    <a:moveTo>
                      <a:pt x="0" y="14"/>
                    </a:moveTo>
                    <a:lnTo>
                      <a:pt x="30" y="14"/>
                    </a:lnTo>
                    <a:lnTo>
                      <a:pt x="67" y="9"/>
                    </a:lnTo>
                    <a:lnTo>
                      <a:pt x="97" y="9"/>
                    </a:lnTo>
                    <a:lnTo>
                      <a:pt x="97" y="9"/>
                    </a:lnTo>
                    <a:lnTo>
                      <a:pt x="67" y="9"/>
                    </a:lnTo>
                    <a:lnTo>
                      <a:pt x="24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flipH="1">
                <a:off x="6114600" y="5224320"/>
                <a:ext cx="112320" cy="27000"/>
              </a:xfrm>
              <a:custGeom>
                <a:avLst/>
                <a:gdLst/>
                <a:ahLst/>
                <a:rect l="l" t="t" r="r" b="b"/>
                <a:pathLst>
                  <a:path w="73" h="14">
                    <a:moveTo>
                      <a:pt x="18" y="0"/>
                    </a:moveTo>
                    <a:lnTo>
                      <a:pt x="18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14"/>
                    </a:lnTo>
                    <a:lnTo>
                      <a:pt x="31" y="14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61" y="5"/>
                    </a:lnTo>
                    <a:lnTo>
                      <a:pt x="55" y="5"/>
                    </a:lnTo>
                    <a:lnTo>
                      <a:pt x="49" y="5"/>
                    </a:lnTo>
                    <a:lnTo>
                      <a:pt x="49" y="5"/>
                    </a:lnTo>
                    <a:lnTo>
                      <a:pt x="37" y="9"/>
                    </a:lnTo>
                    <a:lnTo>
                      <a:pt x="31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18" y="9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flipH="1">
                <a:off x="6114600" y="5224320"/>
                <a:ext cx="112320" cy="27000"/>
              </a:xfrm>
              <a:custGeom>
                <a:avLst/>
                <a:gdLst/>
                <a:ahLst/>
                <a:rect l="l" t="t" r="r" b="b"/>
                <a:pathLst>
                  <a:path w="73" h="14">
                    <a:moveTo>
                      <a:pt x="18" y="0"/>
                    </a:moveTo>
                    <a:lnTo>
                      <a:pt x="18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14"/>
                    </a:lnTo>
                    <a:lnTo>
                      <a:pt x="31" y="14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61" y="5"/>
                    </a:lnTo>
                    <a:lnTo>
                      <a:pt x="55" y="5"/>
                    </a:lnTo>
                    <a:lnTo>
                      <a:pt x="49" y="5"/>
                    </a:lnTo>
                    <a:lnTo>
                      <a:pt x="49" y="5"/>
                    </a:lnTo>
                    <a:lnTo>
                      <a:pt x="37" y="9"/>
                    </a:lnTo>
                    <a:lnTo>
                      <a:pt x="31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18" y="9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flipH="1">
                <a:off x="7812000" y="4772160"/>
                <a:ext cx="9360" cy="3528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18"/>
                    </a:move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9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flipH="1">
                <a:off x="7810920" y="4790160"/>
                <a:ext cx="1080" cy="35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flipH="1">
                <a:off x="7812000" y="4825440"/>
                <a:ext cx="9360" cy="176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flipH="1">
                <a:off x="6433560" y="4825440"/>
                <a:ext cx="9000" cy="4500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6" y="23"/>
                    </a:moveTo>
                    <a:lnTo>
                      <a:pt x="6" y="23"/>
                    </a:lnTo>
                    <a:lnTo>
                      <a:pt x="6" y="23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8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flipH="1">
                <a:off x="6432120" y="4843440"/>
                <a:ext cx="1440" cy="52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H="1">
                <a:off x="6433560" y="4888800"/>
                <a:ext cx="9000" cy="252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V="1">
                <a:off x="6011640" y="4639320"/>
                <a:ext cx="2429640" cy="70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flipV="1">
                <a:off x="6011640" y="4675680"/>
                <a:ext cx="2429640" cy="88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flipH="1">
                <a:off x="4809960" y="4622400"/>
                <a:ext cx="1182600" cy="238320"/>
              </a:xfrm>
              <a:custGeom>
                <a:avLst/>
                <a:gdLst/>
                <a:ahLst/>
                <a:rect l="l" t="t" r="r" b="b"/>
                <a:pathLst>
                  <a:path w="767" h="121">
                    <a:moveTo>
                      <a:pt x="767" y="90"/>
                    </a:moveTo>
                    <a:lnTo>
                      <a:pt x="767" y="0"/>
                    </a:lnTo>
                    <a:lnTo>
                      <a:pt x="0" y="27"/>
                    </a:lnTo>
                    <a:lnTo>
                      <a:pt x="0" y="121"/>
                    </a:lnTo>
                    <a:lnTo>
                      <a:pt x="767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flipH="1">
                <a:off x="6010920" y="4604400"/>
                <a:ext cx="2429640" cy="248760"/>
              </a:xfrm>
              <a:custGeom>
                <a:avLst/>
                <a:gdLst/>
                <a:ahLst/>
                <a:rect l="l" t="t" r="r" b="b"/>
                <a:pathLst>
                  <a:path w="1576" h="126">
                    <a:moveTo>
                      <a:pt x="1576" y="126"/>
                    </a:moveTo>
                    <a:lnTo>
                      <a:pt x="1576" y="36"/>
                    </a:lnTo>
                    <a:lnTo>
                      <a:pt x="0" y="0"/>
                    </a:lnTo>
                    <a:lnTo>
                      <a:pt x="0" y="76"/>
                    </a:lnTo>
                    <a:lnTo>
                      <a:pt x="1576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flipH="1">
                <a:off x="6010920" y="4612680"/>
                <a:ext cx="2429640" cy="141840"/>
              </a:xfrm>
              <a:custGeom>
                <a:avLst/>
                <a:gdLst/>
                <a:ahLst/>
                <a:rect l="l" t="t" r="r" b="b"/>
                <a:pathLst>
                  <a:path w="1576" h="72">
                    <a:moveTo>
                      <a:pt x="1576" y="72"/>
                    </a:moveTo>
                    <a:lnTo>
                      <a:pt x="1576" y="36"/>
                    </a:lnTo>
                    <a:lnTo>
                      <a:pt x="0" y="0"/>
                    </a:lnTo>
                    <a:lnTo>
                      <a:pt x="0" y="32"/>
                    </a:lnTo>
                    <a:lnTo>
                      <a:pt x="1576" y="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flipH="1">
                <a:off x="6010920" y="4612680"/>
                <a:ext cx="2429640" cy="141840"/>
              </a:xfrm>
              <a:custGeom>
                <a:avLst/>
                <a:gdLst/>
                <a:ahLst/>
                <a:rect l="l" t="t" r="r" b="b"/>
                <a:pathLst>
                  <a:path w="1576" h="72">
                    <a:moveTo>
                      <a:pt x="1576" y="72"/>
                    </a:moveTo>
                    <a:lnTo>
                      <a:pt x="1576" y="36"/>
                    </a:lnTo>
                    <a:lnTo>
                      <a:pt x="0" y="0"/>
                    </a:lnTo>
                    <a:lnTo>
                      <a:pt x="0" y="32"/>
                    </a:lnTo>
                    <a:lnTo>
                      <a:pt x="1576" y="7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H="1">
                <a:off x="4809960" y="4719240"/>
                <a:ext cx="1182600" cy="52920"/>
              </a:xfrm>
              <a:custGeom>
                <a:avLst/>
                <a:gdLst/>
                <a:ahLst/>
                <a:rect l="l" t="t" r="r" b="b"/>
                <a:pathLst>
                  <a:path w="767" h="27">
                    <a:moveTo>
                      <a:pt x="0" y="27"/>
                    </a:moveTo>
                    <a:lnTo>
                      <a:pt x="207" y="23"/>
                    </a:lnTo>
                    <a:lnTo>
                      <a:pt x="560" y="9"/>
                    </a:lnTo>
                    <a:lnTo>
                      <a:pt x="767" y="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flipH="1">
                <a:off x="4809960" y="4736520"/>
                <a:ext cx="1182600" cy="53640"/>
              </a:xfrm>
              <a:custGeom>
                <a:avLst/>
                <a:gdLst/>
                <a:ahLst/>
                <a:rect l="l" t="t" r="r" b="b"/>
                <a:pathLst>
                  <a:path w="767" h="27">
                    <a:moveTo>
                      <a:pt x="0" y="27"/>
                    </a:moveTo>
                    <a:lnTo>
                      <a:pt x="201" y="23"/>
                    </a:lnTo>
                    <a:lnTo>
                      <a:pt x="560" y="9"/>
                    </a:lnTo>
                    <a:lnTo>
                      <a:pt x="767" y="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flipH="1">
                <a:off x="4809960" y="4754520"/>
                <a:ext cx="1182600" cy="52920"/>
              </a:xfrm>
              <a:custGeom>
                <a:avLst/>
                <a:gdLst/>
                <a:ahLst/>
                <a:rect l="l" t="t" r="r" b="b"/>
                <a:pathLst>
                  <a:path w="767" h="27">
                    <a:moveTo>
                      <a:pt x="0" y="27"/>
                    </a:moveTo>
                    <a:lnTo>
                      <a:pt x="201" y="23"/>
                    </a:lnTo>
                    <a:lnTo>
                      <a:pt x="560" y="9"/>
                    </a:lnTo>
                    <a:lnTo>
                      <a:pt x="767" y="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flipH="1">
                <a:off x="4819320" y="4772160"/>
                <a:ext cx="1173240" cy="52920"/>
              </a:xfrm>
              <a:custGeom>
                <a:avLst/>
                <a:gdLst/>
                <a:ahLst/>
                <a:rect l="l" t="t" r="r" b="b"/>
                <a:pathLst>
                  <a:path w="761" h="27">
                    <a:moveTo>
                      <a:pt x="0" y="27"/>
                    </a:moveTo>
                    <a:lnTo>
                      <a:pt x="201" y="18"/>
                    </a:lnTo>
                    <a:lnTo>
                      <a:pt x="560" y="5"/>
                    </a:lnTo>
                    <a:lnTo>
                      <a:pt x="761" y="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 flipH="1">
                <a:off x="4809960" y="4629960"/>
                <a:ext cx="1182600" cy="124200"/>
              </a:xfrm>
              <a:custGeom>
                <a:avLst/>
                <a:gdLst/>
                <a:ahLst/>
                <a:rect l="l" t="t" r="r" b="b"/>
                <a:pathLst>
                  <a:path w="767" h="63">
                    <a:moveTo>
                      <a:pt x="767" y="36"/>
                    </a:moveTo>
                    <a:lnTo>
                      <a:pt x="767" y="0"/>
                    </a:lnTo>
                    <a:lnTo>
                      <a:pt x="0" y="27"/>
                    </a:lnTo>
                    <a:lnTo>
                      <a:pt x="0" y="63"/>
                    </a:lnTo>
                    <a:lnTo>
                      <a:pt x="767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 flipH="1">
                <a:off x="4809960" y="4629960"/>
                <a:ext cx="1182600" cy="124200"/>
              </a:xfrm>
              <a:custGeom>
                <a:avLst/>
                <a:gdLst/>
                <a:ahLst/>
                <a:rect l="l" t="t" r="r" b="b"/>
                <a:pathLst>
                  <a:path w="767" h="63">
                    <a:moveTo>
                      <a:pt x="767" y="36"/>
                    </a:moveTo>
                    <a:lnTo>
                      <a:pt x="767" y="0"/>
                    </a:lnTo>
                    <a:lnTo>
                      <a:pt x="0" y="27"/>
                    </a:lnTo>
                    <a:lnTo>
                      <a:pt x="0" y="63"/>
                    </a:lnTo>
                    <a:lnTo>
                      <a:pt x="767" y="3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flipH="1">
                <a:off x="4809960" y="4647960"/>
                <a:ext cx="1182600" cy="88560"/>
              </a:xfrm>
              <a:custGeom>
                <a:avLst/>
                <a:gdLst/>
                <a:ahLst/>
                <a:rect l="l" t="t" r="r" b="b"/>
                <a:pathLst>
                  <a:path w="767" h="45">
                    <a:moveTo>
                      <a:pt x="767" y="18"/>
                    </a:moveTo>
                    <a:lnTo>
                      <a:pt x="767" y="0"/>
                    </a:lnTo>
                    <a:lnTo>
                      <a:pt x="0" y="27"/>
                    </a:lnTo>
                    <a:lnTo>
                      <a:pt x="0" y="45"/>
                    </a:lnTo>
                    <a:lnTo>
                      <a:pt x="767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 flipH="1">
                <a:off x="4809960" y="4647960"/>
                <a:ext cx="1182600" cy="88560"/>
              </a:xfrm>
              <a:custGeom>
                <a:avLst/>
                <a:gdLst/>
                <a:ahLst/>
                <a:rect l="l" t="t" r="r" b="b"/>
                <a:pathLst>
                  <a:path w="767" h="45">
                    <a:moveTo>
                      <a:pt x="767" y="18"/>
                    </a:moveTo>
                    <a:lnTo>
                      <a:pt x="767" y="0"/>
                    </a:lnTo>
                    <a:lnTo>
                      <a:pt x="0" y="27"/>
                    </a:lnTo>
                    <a:lnTo>
                      <a:pt x="0" y="45"/>
                    </a:lnTo>
                    <a:lnTo>
                      <a:pt x="767" y="1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flipH="1">
                <a:off x="4988520" y="5188680"/>
                <a:ext cx="83160" cy="52920"/>
              </a:xfrm>
              <a:custGeom>
                <a:avLst/>
                <a:gdLst/>
                <a:ahLst/>
                <a:rect l="l" t="t" r="r" b="b"/>
                <a:pathLst>
                  <a:path w="54" h="27">
                    <a:moveTo>
                      <a:pt x="30" y="9"/>
                    </a:moveTo>
                    <a:lnTo>
                      <a:pt x="36" y="5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42" y="0"/>
                    </a:lnTo>
                    <a:lnTo>
                      <a:pt x="24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8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3"/>
                    </a:lnTo>
                    <a:lnTo>
                      <a:pt x="12" y="23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4" y="18"/>
                    </a:lnTo>
                    <a:lnTo>
                      <a:pt x="30" y="14"/>
                    </a:lnTo>
                    <a:lnTo>
                      <a:pt x="3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 flipH="1">
                <a:off x="4988520" y="5188680"/>
                <a:ext cx="83160" cy="52920"/>
              </a:xfrm>
              <a:custGeom>
                <a:avLst/>
                <a:gdLst/>
                <a:ahLst/>
                <a:rect l="l" t="t" r="r" b="b"/>
                <a:pathLst>
                  <a:path w="54" h="27">
                    <a:moveTo>
                      <a:pt x="30" y="9"/>
                    </a:moveTo>
                    <a:lnTo>
                      <a:pt x="36" y="5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42" y="0"/>
                    </a:lnTo>
                    <a:lnTo>
                      <a:pt x="24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8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3"/>
                    </a:lnTo>
                    <a:lnTo>
                      <a:pt x="12" y="23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4" y="18"/>
                    </a:lnTo>
                    <a:lnTo>
                      <a:pt x="30" y="14"/>
                    </a:lnTo>
                    <a:lnTo>
                      <a:pt x="3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 flipH="1">
                <a:off x="5007600" y="5100120"/>
                <a:ext cx="525600" cy="45000"/>
              </a:xfrm>
              <a:custGeom>
                <a:avLst/>
                <a:gdLst/>
                <a:ahLst/>
                <a:rect l="l" t="t" r="r" b="b"/>
                <a:pathLst>
                  <a:path w="341" h="23">
                    <a:moveTo>
                      <a:pt x="341" y="23"/>
                    </a:moveTo>
                    <a:lnTo>
                      <a:pt x="268" y="23"/>
                    </a:lnTo>
                    <a:lnTo>
                      <a:pt x="110" y="1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86" y="9"/>
                    </a:lnTo>
                    <a:lnTo>
                      <a:pt x="189" y="5"/>
                    </a:lnTo>
                    <a:lnTo>
                      <a:pt x="250" y="0"/>
                    </a:lnTo>
                    <a:lnTo>
                      <a:pt x="250" y="0"/>
                    </a:lnTo>
                    <a:lnTo>
                      <a:pt x="274" y="9"/>
                    </a:lnTo>
                    <a:lnTo>
                      <a:pt x="317" y="18"/>
                    </a:lnTo>
                    <a:lnTo>
                      <a:pt x="341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flipH="1">
                <a:off x="5007600" y="5100120"/>
                <a:ext cx="525600" cy="45000"/>
              </a:xfrm>
              <a:custGeom>
                <a:avLst/>
                <a:gdLst/>
                <a:ahLst/>
                <a:rect l="l" t="t" r="r" b="b"/>
                <a:pathLst>
                  <a:path w="341" h="23">
                    <a:moveTo>
                      <a:pt x="341" y="23"/>
                    </a:moveTo>
                    <a:lnTo>
                      <a:pt x="268" y="23"/>
                    </a:lnTo>
                    <a:lnTo>
                      <a:pt x="110" y="1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86" y="9"/>
                    </a:lnTo>
                    <a:lnTo>
                      <a:pt x="189" y="5"/>
                    </a:lnTo>
                    <a:lnTo>
                      <a:pt x="250" y="0"/>
                    </a:lnTo>
                    <a:lnTo>
                      <a:pt x="250" y="0"/>
                    </a:lnTo>
                    <a:lnTo>
                      <a:pt x="274" y="9"/>
                    </a:lnTo>
                    <a:lnTo>
                      <a:pt x="317" y="18"/>
                    </a:lnTo>
                    <a:lnTo>
                      <a:pt x="341" y="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flipH="1">
                <a:off x="4838040" y="5074560"/>
                <a:ext cx="1182240" cy="167400"/>
              </a:xfrm>
              <a:custGeom>
                <a:avLst/>
                <a:gdLst/>
                <a:ahLst/>
                <a:rect l="l" t="t" r="r" b="b"/>
                <a:pathLst>
                  <a:path w="767" h="85">
                    <a:moveTo>
                      <a:pt x="767" y="9"/>
                    </a:moveTo>
                    <a:lnTo>
                      <a:pt x="767" y="13"/>
                    </a:lnTo>
                    <a:lnTo>
                      <a:pt x="767" y="13"/>
                    </a:lnTo>
                    <a:lnTo>
                      <a:pt x="767" y="13"/>
                    </a:lnTo>
                    <a:lnTo>
                      <a:pt x="767" y="13"/>
                    </a:lnTo>
                    <a:lnTo>
                      <a:pt x="754" y="22"/>
                    </a:lnTo>
                    <a:lnTo>
                      <a:pt x="736" y="31"/>
                    </a:lnTo>
                    <a:lnTo>
                      <a:pt x="712" y="45"/>
                    </a:lnTo>
                    <a:lnTo>
                      <a:pt x="694" y="54"/>
                    </a:lnTo>
                    <a:lnTo>
                      <a:pt x="681" y="58"/>
                    </a:lnTo>
                    <a:lnTo>
                      <a:pt x="681" y="58"/>
                    </a:lnTo>
                    <a:lnTo>
                      <a:pt x="639" y="63"/>
                    </a:lnTo>
                    <a:lnTo>
                      <a:pt x="578" y="63"/>
                    </a:lnTo>
                    <a:lnTo>
                      <a:pt x="529" y="63"/>
                    </a:lnTo>
                    <a:lnTo>
                      <a:pt x="529" y="63"/>
                    </a:lnTo>
                    <a:lnTo>
                      <a:pt x="469" y="67"/>
                    </a:lnTo>
                    <a:lnTo>
                      <a:pt x="395" y="76"/>
                    </a:lnTo>
                    <a:lnTo>
                      <a:pt x="329" y="76"/>
                    </a:lnTo>
                    <a:lnTo>
                      <a:pt x="329" y="76"/>
                    </a:lnTo>
                    <a:lnTo>
                      <a:pt x="249" y="81"/>
                    </a:lnTo>
                    <a:lnTo>
                      <a:pt x="158" y="81"/>
                    </a:lnTo>
                    <a:lnTo>
                      <a:pt x="97" y="85"/>
                    </a:lnTo>
                    <a:lnTo>
                      <a:pt x="97" y="85"/>
                    </a:lnTo>
                    <a:lnTo>
                      <a:pt x="49" y="72"/>
                    </a:lnTo>
                    <a:lnTo>
                      <a:pt x="18" y="58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0" y="49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73" y="36"/>
                    </a:lnTo>
                    <a:lnTo>
                      <a:pt x="256" y="27"/>
                    </a:lnTo>
                    <a:lnTo>
                      <a:pt x="475" y="18"/>
                    </a:lnTo>
                    <a:lnTo>
                      <a:pt x="663" y="4"/>
                    </a:lnTo>
                    <a:lnTo>
                      <a:pt x="761" y="0"/>
                    </a:lnTo>
                    <a:lnTo>
                      <a:pt x="761" y="0"/>
                    </a:lnTo>
                    <a:lnTo>
                      <a:pt x="761" y="0"/>
                    </a:lnTo>
                    <a:lnTo>
                      <a:pt x="761" y="4"/>
                    </a:lnTo>
                    <a:lnTo>
                      <a:pt x="767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 flipH="1">
                <a:off x="4838040" y="5074560"/>
                <a:ext cx="1182240" cy="167400"/>
              </a:xfrm>
              <a:custGeom>
                <a:avLst/>
                <a:gdLst/>
                <a:ahLst/>
                <a:rect l="l" t="t" r="r" b="b"/>
                <a:pathLst>
                  <a:path w="767" h="85">
                    <a:moveTo>
                      <a:pt x="767" y="9"/>
                    </a:moveTo>
                    <a:lnTo>
                      <a:pt x="767" y="13"/>
                    </a:lnTo>
                    <a:lnTo>
                      <a:pt x="767" y="13"/>
                    </a:lnTo>
                    <a:lnTo>
                      <a:pt x="767" y="13"/>
                    </a:lnTo>
                    <a:lnTo>
                      <a:pt x="767" y="13"/>
                    </a:lnTo>
                    <a:lnTo>
                      <a:pt x="754" y="22"/>
                    </a:lnTo>
                    <a:lnTo>
                      <a:pt x="736" y="31"/>
                    </a:lnTo>
                    <a:lnTo>
                      <a:pt x="712" y="45"/>
                    </a:lnTo>
                    <a:lnTo>
                      <a:pt x="694" y="54"/>
                    </a:lnTo>
                    <a:lnTo>
                      <a:pt x="681" y="58"/>
                    </a:lnTo>
                    <a:lnTo>
                      <a:pt x="681" y="58"/>
                    </a:lnTo>
                    <a:lnTo>
                      <a:pt x="639" y="63"/>
                    </a:lnTo>
                    <a:lnTo>
                      <a:pt x="578" y="63"/>
                    </a:lnTo>
                    <a:lnTo>
                      <a:pt x="529" y="63"/>
                    </a:lnTo>
                    <a:lnTo>
                      <a:pt x="529" y="63"/>
                    </a:lnTo>
                    <a:lnTo>
                      <a:pt x="469" y="67"/>
                    </a:lnTo>
                    <a:lnTo>
                      <a:pt x="395" y="76"/>
                    </a:lnTo>
                    <a:lnTo>
                      <a:pt x="329" y="76"/>
                    </a:lnTo>
                    <a:lnTo>
                      <a:pt x="329" y="76"/>
                    </a:lnTo>
                    <a:lnTo>
                      <a:pt x="249" y="81"/>
                    </a:lnTo>
                    <a:lnTo>
                      <a:pt x="158" y="81"/>
                    </a:lnTo>
                    <a:lnTo>
                      <a:pt x="97" y="85"/>
                    </a:lnTo>
                    <a:lnTo>
                      <a:pt x="97" y="85"/>
                    </a:lnTo>
                    <a:lnTo>
                      <a:pt x="49" y="72"/>
                    </a:lnTo>
                    <a:lnTo>
                      <a:pt x="18" y="58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0" y="49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73" y="36"/>
                    </a:lnTo>
                    <a:lnTo>
                      <a:pt x="256" y="27"/>
                    </a:lnTo>
                    <a:lnTo>
                      <a:pt x="475" y="18"/>
                    </a:lnTo>
                    <a:lnTo>
                      <a:pt x="663" y="4"/>
                    </a:lnTo>
                    <a:lnTo>
                      <a:pt x="761" y="0"/>
                    </a:lnTo>
                    <a:lnTo>
                      <a:pt x="761" y="0"/>
                    </a:lnTo>
                    <a:lnTo>
                      <a:pt x="761" y="0"/>
                    </a:lnTo>
                    <a:lnTo>
                      <a:pt x="761" y="4"/>
                    </a:lnTo>
                    <a:lnTo>
                      <a:pt x="767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flipH="1">
                <a:off x="4970160" y="5127840"/>
                <a:ext cx="562680" cy="114120"/>
              </a:xfrm>
              <a:custGeom>
                <a:avLst/>
                <a:gdLst/>
                <a:ahLst/>
                <a:rect l="l" t="t" r="r" b="b"/>
                <a:pathLst>
                  <a:path w="365" h="58">
                    <a:moveTo>
                      <a:pt x="341" y="9"/>
                    </a:moveTo>
                    <a:lnTo>
                      <a:pt x="329" y="9"/>
                    </a:lnTo>
                    <a:lnTo>
                      <a:pt x="323" y="9"/>
                    </a:lnTo>
                    <a:lnTo>
                      <a:pt x="311" y="9"/>
                    </a:lnTo>
                    <a:lnTo>
                      <a:pt x="311" y="9"/>
                    </a:lnTo>
                    <a:lnTo>
                      <a:pt x="201" y="4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92" y="49"/>
                    </a:lnTo>
                    <a:lnTo>
                      <a:pt x="213" y="54"/>
                    </a:lnTo>
                    <a:lnTo>
                      <a:pt x="299" y="58"/>
                    </a:lnTo>
                    <a:lnTo>
                      <a:pt x="299" y="58"/>
                    </a:lnTo>
                    <a:lnTo>
                      <a:pt x="299" y="49"/>
                    </a:lnTo>
                    <a:lnTo>
                      <a:pt x="299" y="49"/>
                    </a:lnTo>
                    <a:lnTo>
                      <a:pt x="299" y="40"/>
                    </a:lnTo>
                    <a:lnTo>
                      <a:pt x="299" y="40"/>
                    </a:lnTo>
                    <a:lnTo>
                      <a:pt x="299" y="36"/>
                    </a:lnTo>
                    <a:lnTo>
                      <a:pt x="305" y="31"/>
                    </a:lnTo>
                    <a:lnTo>
                      <a:pt x="311" y="31"/>
                    </a:lnTo>
                    <a:lnTo>
                      <a:pt x="311" y="31"/>
                    </a:lnTo>
                    <a:lnTo>
                      <a:pt x="329" y="31"/>
                    </a:lnTo>
                    <a:lnTo>
                      <a:pt x="353" y="31"/>
                    </a:lnTo>
                    <a:lnTo>
                      <a:pt x="365" y="27"/>
                    </a:lnTo>
                    <a:lnTo>
                      <a:pt x="365" y="27"/>
                    </a:lnTo>
                    <a:lnTo>
                      <a:pt x="365" y="22"/>
                    </a:lnTo>
                    <a:lnTo>
                      <a:pt x="365" y="13"/>
                    </a:lnTo>
                    <a:lnTo>
                      <a:pt x="365" y="9"/>
                    </a:lnTo>
                    <a:lnTo>
                      <a:pt x="365" y="9"/>
                    </a:lnTo>
                    <a:lnTo>
                      <a:pt x="353" y="4"/>
                    </a:lnTo>
                    <a:lnTo>
                      <a:pt x="347" y="4"/>
                    </a:lnTo>
                    <a:lnTo>
                      <a:pt x="341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H="1">
                <a:off x="4970160" y="5127840"/>
                <a:ext cx="562680" cy="114120"/>
              </a:xfrm>
              <a:custGeom>
                <a:avLst/>
                <a:gdLst/>
                <a:ahLst/>
                <a:rect l="l" t="t" r="r" b="b"/>
                <a:pathLst>
                  <a:path w="365" h="58">
                    <a:moveTo>
                      <a:pt x="341" y="9"/>
                    </a:moveTo>
                    <a:lnTo>
                      <a:pt x="329" y="9"/>
                    </a:lnTo>
                    <a:lnTo>
                      <a:pt x="323" y="9"/>
                    </a:lnTo>
                    <a:lnTo>
                      <a:pt x="311" y="9"/>
                    </a:lnTo>
                    <a:lnTo>
                      <a:pt x="311" y="9"/>
                    </a:lnTo>
                    <a:lnTo>
                      <a:pt x="201" y="4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92" y="49"/>
                    </a:lnTo>
                    <a:lnTo>
                      <a:pt x="213" y="54"/>
                    </a:lnTo>
                    <a:lnTo>
                      <a:pt x="299" y="58"/>
                    </a:lnTo>
                    <a:lnTo>
                      <a:pt x="299" y="58"/>
                    </a:lnTo>
                    <a:lnTo>
                      <a:pt x="299" y="49"/>
                    </a:lnTo>
                    <a:lnTo>
                      <a:pt x="299" y="49"/>
                    </a:lnTo>
                    <a:lnTo>
                      <a:pt x="299" y="40"/>
                    </a:lnTo>
                    <a:lnTo>
                      <a:pt x="299" y="40"/>
                    </a:lnTo>
                    <a:lnTo>
                      <a:pt x="299" y="36"/>
                    </a:lnTo>
                    <a:lnTo>
                      <a:pt x="305" y="31"/>
                    </a:lnTo>
                    <a:lnTo>
                      <a:pt x="311" y="31"/>
                    </a:lnTo>
                    <a:lnTo>
                      <a:pt x="311" y="31"/>
                    </a:lnTo>
                    <a:lnTo>
                      <a:pt x="329" y="31"/>
                    </a:lnTo>
                    <a:lnTo>
                      <a:pt x="353" y="31"/>
                    </a:lnTo>
                    <a:lnTo>
                      <a:pt x="365" y="27"/>
                    </a:lnTo>
                    <a:lnTo>
                      <a:pt x="365" y="27"/>
                    </a:lnTo>
                    <a:lnTo>
                      <a:pt x="365" y="22"/>
                    </a:lnTo>
                    <a:lnTo>
                      <a:pt x="365" y="13"/>
                    </a:lnTo>
                    <a:lnTo>
                      <a:pt x="365" y="9"/>
                    </a:lnTo>
                    <a:lnTo>
                      <a:pt x="365" y="9"/>
                    </a:lnTo>
                    <a:lnTo>
                      <a:pt x="353" y="4"/>
                    </a:lnTo>
                    <a:lnTo>
                      <a:pt x="347" y="4"/>
                    </a:lnTo>
                    <a:lnTo>
                      <a:pt x="341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flipH="1">
                <a:off x="4970160" y="5135400"/>
                <a:ext cx="289800" cy="70920"/>
              </a:xfrm>
              <a:custGeom>
                <a:avLst/>
                <a:gdLst/>
                <a:ahLst/>
                <a:rect l="l" t="t" r="r" b="b"/>
                <a:pathLst>
                  <a:path w="188" h="36">
                    <a:moveTo>
                      <a:pt x="0" y="0"/>
                    </a:moveTo>
                    <a:lnTo>
                      <a:pt x="30" y="9"/>
                    </a:lnTo>
                    <a:lnTo>
                      <a:pt x="79" y="27"/>
                    </a:lnTo>
                    <a:lnTo>
                      <a:pt x="109" y="36"/>
                    </a:lnTo>
                    <a:lnTo>
                      <a:pt x="109" y="36"/>
                    </a:lnTo>
                    <a:lnTo>
                      <a:pt x="115" y="32"/>
                    </a:lnTo>
                    <a:lnTo>
                      <a:pt x="122" y="27"/>
                    </a:lnTo>
                    <a:lnTo>
                      <a:pt x="134" y="27"/>
                    </a:lnTo>
                    <a:lnTo>
                      <a:pt x="134" y="27"/>
                    </a:lnTo>
                    <a:lnTo>
                      <a:pt x="152" y="27"/>
                    </a:lnTo>
                    <a:lnTo>
                      <a:pt x="170" y="27"/>
                    </a:lnTo>
                    <a:lnTo>
                      <a:pt x="188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 flipH="1">
                <a:off x="4970160" y="5135400"/>
                <a:ext cx="289800" cy="70920"/>
              </a:xfrm>
              <a:custGeom>
                <a:avLst/>
                <a:gdLst/>
                <a:ahLst/>
                <a:rect l="l" t="t" r="r" b="b"/>
                <a:pathLst>
                  <a:path w="188" h="36">
                    <a:moveTo>
                      <a:pt x="0" y="0"/>
                    </a:moveTo>
                    <a:lnTo>
                      <a:pt x="30" y="9"/>
                    </a:lnTo>
                    <a:lnTo>
                      <a:pt x="79" y="27"/>
                    </a:lnTo>
                    <a:lnTo>
                      <a:pt x="109" y="36"/>
                    </a:lnTo>
                    <a:lnTo>
                      <a:pt x="109" y="36"/>
                    </a:lnTo>
                    <a:lnTo>
                      <a:pt x="115" y="32"/>
                    </a:lnTo>
                    <a:lnTo>
                      <a:pt x="122" y="27"/>
                    </a:lnTo>
                    <a:lnTo>
                      <a:pt x="134" y="27"/>
                    </a:lnTo>
                    <a:lnTo>
                      <a:pt x="134" y="27"/>
                    </a:lnTo>
                    <a:lnTo>
                      <a:pt x="152" y="27"/>
                    </a:lnTo>
                    <a:lnTo>
                      <a:pt x="170" y="27"/>
                    </a:lnTo>
                    <a:lnTo>
                      <a:pt x="188" y="2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H="1">
                <a:off x="5092200" y="5241960"/>
                <a:ext cx="36720" cy="63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flipH="1">
                <a:off x="5092200" y="5241960"/>
                <a:ext cx="36720" cy="630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flipH="1">
                <a:off x="5232960" y="5117760"/>
                <a:ext cx="158400" cy="9720"/>
              </a:xfrm>
              <a:custGeom>
                <a:avLst/>
                <a:gdLst/>
                <a:ahLst/>
                <a:rect l="l" t="t" r="r" b="b"/>
                <a:pathLst>
                  <a:path w="103" h="5">
                    <a:moveTo>
                      <a:pt x="97" y="5"/>
                    </a:moveTo>
                    <a:lnTo>
                      <a:pt x="103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97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flipH="1">
                <a:off x="5232960" y="5117760"/>
                <a:ext cx="158400" cy="9720"/>
              </a:xfrm>
              <a:custGeom>
                <a:avLst/>
                <a:gdLst/>
                <a:ahLst/>
                <a:rect l="l" t="t" r="r" b="b"/>
                <a:pathLst>
                  <a:path w="103" h="5">
                    <a:moveTo>
                      <a:pt x="97" y="5"/>
                    </a:moveTo>
                    <a:lnTo>
                      <a:pt x="103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97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flipH="1">
                <a:off x="5063040" y="5117760"/>
                <a:ext cx="132480" cy="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H="1">
                <a:off x="5063040" y="5117760"/>
                <a:ext cx="132480" cy="97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H="1">
                <a:off x="5025960" y="4817520"/>
                <a:ext cx="206640" cy="300240"/>
              </a:xfrm>
              <a:custGeom>
                <a:avLst/>
                <a:gdLst/>
                <a:ahLst/>
                <a:rect l="l" t="t" r="r" b="b"/>
                <a:pathLst>
                  <a:path w="134" h="152">
                    <a:moveTo>
                      <a:pt x="55" y="152"/>
                    </a:moveTo>
                    <a:lnTo>
                      <a:pt x="24" y="152"/>
                    </a:lnTo>
                    <a:lnTo>
                      <a:pt x="6" y="143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22"/>
                    </a:lnTo>
                    <a:lnTo>
                      <a:pt x="12" y="9"/>
                    </a:lnTo>
                    <a:lnTo>
                      <a:pt x="31" y="4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91" y="0"/>
                    </a:lnTo>
                    <a:lnTo>
                      <a:pt x="110" y="4"/>
                    </a:lnTo>
                    <a:lnTo>
                      <a:pt x="128" y="9"/>
                    </a:lnTo>
                    <a:lnTo>
                      <a:pt x="134" y="13"/>
                    </a:lnTo>
                    <a:lnTo>
                      <a:pt x="134" y="13"/>
                    </a:lnTo>
                    <a:lnTo>
                      <a:pt x="134" y="130"/>
                    </a:lnTo>
                    <a:lnTo>
                      <a:pt x="134" y="143"/>
                    </a:lnTo>
                    <a:lnTo>
                      <a:pt x="116" y="152"/>
                    </a:lnTo>
                    <a:lnTo>
                      <a:pt x="97" y="152"/>
                    </a:lnTo>
                    <a:lnTo>
                      <a:pt x="97" y="152"/>
                    </a:lnTo>
                    <a:lnTo>
                      <a:pt x="55" y="1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flipH="1">
                <a:off x="5025960" y="4817520"/>
                <a:ext cx="206640" cy="300240"/>
              </a:xfrm>
              <a:custGeom>
                <a:avLst/>
                <a:gdLst/>
                <a:ahLst/>
                <a:rect l="l" t="t" r="r" b="b"/>
                <a:pathLst>
                  <a:path w="134" h="152">
                    <a:moveTo>
                      <a:pt x="55" y="152"/>
                    </a:moveTo>
                    <a:lnTo>
                      <a:pt x="24" y="152"/>
                    </a:lnTo>
                    <a:lnTo>
                      <a:pt x="6" y="143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0" y="22"/>
                    </a:lnTo>
                    <a:lnTo>
                      <a:pt x="12" y="9"/>
                    </a:lnTo>
                    <a:lnTo>
                      <a:pt x="31" y="4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91" y="0"/>
                    </a:lnTo>
                    <a:lnTo>
                      <a:pt x="110" y="4"/>
                    </a:lnTo>
                    <a:lnTo>
                      <a:pt x="128" y="9"/>
                    </a:lnTo>
                    <a:lnTo>
                      <a:pt x="134" y="13"/>
                    </a:lnTo>
                    <a:lnTo>
                      <a:pt x="134" y="13"/>
                    </a:lnTo>
                    <a:lnTo>
                      <a:pt x="134" y="130"/>
                    </a:lnTo>
                    <a:lnTo>
                      <a:pt x="134" y="143"/>
                    </a:lnTo>
                    <a:lnTo>
                      <a:pt x="116" y="152"/>
                    </a:lnTo>
                    <a:lnTo>
                      <a:pt x="97" y="152"/>
                    </a:lnTo>
                    <a:lnTo>
                      <a:pt x="97" y="152"/>
                    </a:lnTo>
                    <a:lnTo>
                      <a:pt x="55" y="15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flipH="1">
                <a:off x="5204520" y="4807800"/>
                <a:ext cx="206640" cy="309960"/>
              </a:xfrm>
              <a:custGeom>
                <a:avLst/>
                <a:gdLst/>
                <a:ahLst/>
                <a:rect l="l" t="t" r="r" b="b"/>
                <a:pathLst>
                  <a:path w="134" h="157">
                    <a:moveTo>
                      <a:pt x="49" y="157"/>
                    </a:moveTo>
                    <a:lnTo>
                      <a:pt x="19" y="157"/>
                    </a:lnTo>
                    <a:lnTo>
                      <a:pt x="0" y="148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23"/>
                    </a:lnTo>
                    <a:lnTo>
                      <a:pt x="7" y="14"/>
                    </a:lnTo>
                    <a:lnTo>
                      <a:pt x="25" y="5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92" y="0"/>
                    </a:lnTo>
                    <a:lnTo>
                      <a:pt x="104" y="5"/>
                    </a:lnTo>
                    <a:lnTo>
                      <a:pt x="122" y="9"/>
                    </a:lnTo>
                    <a:lnTo>
                      <a:pt x="134" y="18"/>
                    </a:lnTo>
                    <a:lnTo>
                      <a:pt x="134" y="18"/>
                    </a:lnTo>
                    <a:lnTo>
                      <a:pt x="134" y="135"/>
                    </a:lnTo>
                    <a:lnTo>
                      <a:pt x="128" y="148"/>
                    </a:lnTo>
                    <a:lnTo>
                      <a:pt x="116" y="157"/>
                    </a:lnTo>
                    <a:lnTo>
                      <a:pt x="92" y="157"/>
                    </a:lnTo>
                    <a:lnTo>
                      <a:pt x="92" y="157"/>
                    </a:lnTo>
                    <a:lnTo>
                      <a:pt x="49" y="1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flipH="1">
                <a:off x="5204520" y="4807800"/>
                <a:ext cx="206640" cy="309960"/>
              </a:xfrm>
              <a:custGeom>
                <a:avLst/>
                <a:gdLst/>
                <a:ahLst/>
                <a:rect l="l" t="t" r="r" b="b"/>
                <a:pathLst>
                  <a:path w="134" h="157">
                    <a:moveTo>
                      <a:pt x="49" y="157"/>
                    </a:moveTo>
                    <a:lnTo>
                      <a:pt x="19" y="157"/>
                    </a:lnTo>
                    <a:lnTo>
                      <a:pt x="0" y="148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23"/>
                    </a:lnTo>
                    <a:lnTo>
                      <a:pt x="7" y="14"/>
                    </a:lnTo>
                    <a:lnTo>
                      <a:pt x="25" y="5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92" y="0"/>
                    </a:lnTo>
                    <a:lnTo>
                      <a:pt x="104" y="5"/>
                    </a:lnTo>
                    <a:lnTo>
                      <a:pt x="122" y="9"/>
                    </a:lnTo>
                    <a:lnTo>
                      <a:pt x="134" y="18"/>
                    </a:lnTo>
                    <a:lnTo>
                      <a:pt x="134" y="18"/>
                    </a:lnTo>
                    <a:lnTo>
                      <a:pt x="134" y="135"/>
                    </a:lnTo>
                    <a:lnTo>
                      <a:pt x="128" y="148"/>
                    </a:lnTo>
                    <a:lnTo>
                      <a:pt x="116" y="157"/>
                    </a:lnTo>
                    <a:lnTo>
                      <a:pt x="92" y="157"/>
                    </a:lnTo>
                    <a:lnTo>
                      <a:pt x="92" y="157"/>
                    </a:lnTo>
                    <a:lnTo>
                      <a:pt x="49" y="1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flipH="1">
                <a:off x="5083200" y="4975560"/>
                <a:ext cx="55440" cy="17640"/>
              </a:xfrm>
              <a:custGeom>
                <a:avLst/>
                <a:gdLst/>
                <a:ahLst/>
                <a:rect l="l" t="t" r="r" b="b"/>
                <a:pathLst>
                  <a:path w="36" h="9">
                    <a:moveTo>
                      <a:pt x="18" y="9"/>
                    </a:moveTo>
                    <a:lnTo>
                      <a:pt x="24" y="5"/>
                    </a:lnTo>
                    <a:lnTo>
                      <a:pt x="30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0" y="5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6" y="0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flipH="1">
                <a:off x="5083200" y="4975560"/>
                <a:ext cx="55440" cy="17640"/>
              </a:xfrm>
              <a:custGeom>
                <a:avLst/>
                <a:gdLst/>
                <a:ahLst/>
                <a:rect l="l" t="t" r="r" b="b"/>
                <a:pathLst>
                  <a:path w="36" h="9">
                    <a:moveTo>
                      <a:pt x="18" y="9"/>
                    </a:moveTo>
                    <a:lnTo>
                      <a:pt x="24" y="5"/>
                    </a:lnTo>
                    <a:lnTo>
                      <a:pt x="30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0" y="5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6" y="0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18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 flipH="1">
                <a:off x="5092200" y="4975560"/>
                <a:ext cx="36720" cy="159480"/>
              </a:xfrm>
              <a:custGeom>
                <a:avLst/>
                <a:gdLst/>
                <a:ahLst/>
                <a:rect l="l" t="t" r="r" b="b"/>
                <a:pathLst>
                  <a:path w="24" h="81">
                    <a:moveTo>
                      <a:pt x="6" y="81"/>
                    </a:moveTo>
                    <a:lnTo>
                      <a:pt x="0" y="8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81"/>
                    </a:lnTo>
                    <a:lnTo>
                      <a:pt x="18" y="81"/>
                    </a:lnTo>
                    <a:lnTo>
                      <a:pt x="6" y="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flipH="1">
                <a:off x="5092200" y="4975560"/>
                <a:ext cx="36720" cy="159480"/>
              </a:xfrm>
              <a:custGeom>
                <a:avLst/>
                <a:gdLst/>
                <a:ahLst/>
                <a:rect l="l" t="t" r="r" b="b"/>
                <a:pathLst>
                  <a:path w="24" h="81">
                    <a:moveTo>
                      <a:pt x="6" y="81"/>
                    </a:moveTo>
                    <a:lnTo>
                      <a:pt x="0" y="81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81"/>
                    </a:lnTo>
                    <a:lnTo>
                      <a:pt x="18" y="81"/>
                    </a:lnTo>
                    <a:lnTo>
                      <a:pt x="6" y="8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flipH="1">
                <a:off x="5101560" y="496764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18" y="13"/>
                    </a:moveTo>
                    <a:lnTo>
                      <a:pt x="18" y="4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8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 flipH="1">
                <a:off x="5101560" y="496764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18" y="13"/>
                    </a:moveTo>
                    <a:lnTo>
                      <a:pt x="18" y="4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8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 flipH="1">
                <a:off x="5092200" y="4967640"/>
                <a:ext cx="9360" cy="2592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0"/>
                    </a:moveTo>
                    <a:lnTo>
                      <a:pt x="6" y="9"/>
                    </a:lnTo>
                    <a:lnTo>
                      <a:pt x="0" y="13"/>
                    </a:lnTo>
                    <a:lnTo>
                      <a:pt x="0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 flipH="1">
                <a:off x="5092200" y="4967640"/>
                <a:ext cx="9360" cy="2592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0"/>
                    </a:moveTo>
                    <a:lnTo>
                      <a:pt x="6" y="9"/>
                    </a:lnTo>
                    <a:lnTo>
                      <a:pt x="0" y="13"/>
                    </a:lnTo>
                    <a:lnTo>
                      <a:pt x="0" y="4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flipH="1">
                <a:off x="5092200" y="4967640"/>
                <a:ext cx="36720" cy="792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24" y="0"/>
                    </a:moveTo>
                    <a:lnTo>
                      <a:pt x="18" y="4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 flipH="1">
                <a:off x="5092200" y="4967640"/>
                <a:ext cx="36720" cy="792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24" y="0"/>
                    </a:moveTo>
                    <a:lnTo>
                      <a:pt x="18" y="4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flipH="1">
                <a:off x="5035320" y="4975560"/>
                <a:ext cx="66240" cy="98640"/>
              </a:xfrm>
              <a:custGeom>
                <a:avLst/>
                <a:gdLst/>
                <a:ahLst/>
                <a:rect l="l" t="t" r="r" b="b"/>
                <a:pathLst>
                  <a:path w="43" h="50">
                    <a:moveTo>
                      <a:pt x="6" y="5"/>
                    </a:moveTo>
                    <a:lnTo>
                      <a:pt x="6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18"/>
                    </a:lnTo>
                    <a:lnTo>
                      <a:pt x="6" y="36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6" y="50"/>
                    </a:lnTo>
                    <a:lnTo>
                      <a:pt x="19" y="50"/>
                    </a:lnTo>
                    <a:lnTo>
                      <a:pt x="31" y="50"/>
                    </a:lnTo>
                    <a:lnTo>
                      <a:pt x="31" y="50"/>
                    </a:lnTo>
                    <a:lnTo>
                      <a:pt x="43" y="50"/>
                    </a:lnTo>
                    <a:lnTo>
                      <a:pt x="43" y="50"/>
                    </a:lnTo>
                    <a:lnTo>
                      <a:pt x="37" y="45"/>
                    </a:lnTo>
                    <a:lnTo>
                      <a:pt x="37" y="45"/>
                    </a:lnTo>
                    <a:lnTo>
                      <a:pt x="25" y="45"/>
                    </a:lnTo>
                    <a:lnTo>
                      <a:pt x="12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12" y="32"/>
                    </a:lnTo>
                    <a:lnTo>
                      <a:pt x="19" y="14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 flipH="1">
                <a:off x="5035320" y="4975560"/>
                <a:ext cx="66240" cy="98640"/>
              </a:xfrm>
              <a:custGeom>
                <a:avLst/>
                <a:gdLst/>
                <a:ahLst/>
                <a:rect l="l" t="t" r="r" b="b"/>
                <a:pathLst>
                  <a:path w="43" h="50">
                    <a:moveTo>
                      <a:pt x="6" y="5"/>
                    </a:moveTo>
                    <a:lnTo>
                      <a:pt x="6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18"/>
                    </a:lnTo>
                    <a:lnTo>
                      <a:pt x="6" y="36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6" y="50"/>
                    </a:lnTo>
                    <a:lnTo>
                      <a:pt x="19" y="50"/>
                    </a:lnTo>
                    <a:lnTo>
                      <a:pt x="31" y="50"/>
                    </a:lnTo>
                    <a:lnTo>
                      <a:pt x="31" y="50"/>
                    </a:lnTo>
                    <a:lnTo>
                      <a:pt x="43" y="50"/>
                    </a:lnTo>
                    <a:lnTo>
                      <a:pt x="43" y="50"/>
                    </a:lnTo>
                    <a:lnTo>
                      <a:pt x="37" y="45"/>
                    </a:lnTo>
                    <a:lnTo>
                      <a:pt x="37" y="45"/>
                    </a:lnTo>
                    <a:lnTo>
                      <a:pt x="25" y="45"/>
                    </a:lnTo>
                    <a:lnTo>
                      <a:pt x="12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12" y="32"/>
                    </a:lnTo>
                    <a:lnTo>
                      <a:pt x="19" y="14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5"/>
                    </a:lnTo>
                    <a:lnTo>
                      <a:pt x="6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flipH="1">
                <a:off x="4913640" y="4152240"/>
                <a:ext cx="1040400" cy="363240"/>
              </a:xfrm>
              <a:custGeom>
                <a:avLst/>
                <a:gdLst/>
                <a:ahLst/>
                <a:rect l="l" t="t" r="r" b="b"/>
                <a:pathLst>
                  <a:path w="675" h="184">
                    <a:moveTo>
                      <a:pt x="6" y="45"/>
                    </a:moveTo>
                    <a:lnTo>
                      <a:pt x="12" y="90"/>
                    </a:lnTo>
                    <a:lnTo>
                      <a:pt x="24" y="130"/>
                    </a:lnTo>
                    <a:lnTo>
                      <a:pt x="36" y="157"/>
                    </a:lnTo>
                    <a:lnTo>
                      <a:pt x="36" y="157"/>
                    </a:lnTo>
                    <a:lnTo>
                      <a:pt x="48" y="179"/>
                    </a:lnTo>
                    <a:lnTo>
                      <a:pt x="66" y="184"/>
                    </a:lnTo>
                    <a:lnTo>
                      <a:pt x="103" y="184"/>
                    </a:lnTo>
                    <a:lnTo>
                      <a:pt x="103" y="184"/>
                    </a:lnTo>
                    <a:lnTo>
                      <a:pt x="249" y="184"/>
                    </a:lnTo>
                    <a:lnTo>
                      <a:pt x="499" y="179"/>
                    </a:lnTo>
                    <a:lnTo>
                      <a:pt x="645" y="175"/>
                    </a:lnTo>
                    <a:lnTo>
                      <a:pt x="645" y="175"/>
                    </a:lnTo>
                    <a:lnTo>
                      <a:pt x="669" y="170"/>
                    </a:lnTo>
                    <a:lnTo>
                      <a:pt x="675" y="161"/>
                    </a:lnTo>
                    <a:lnTo>
                      <a:pt x="675" y="144"/>
                    </a:lnTo>
                    <a:lnTo>
                      <a:pt x="675" y="144"/>
                    </a:lnTo>
                    <a:lnTo>
                      <a:pt x="657" y="103"/>
                    </a:lnTo>
                    <a:lnTo>
                      <a:pt x="638" y="45"/>
                    </a:lnTo>
                    <a:lnTo>
                      <a:pt x="620" y="0"/>
                    </a:lnTo>
                    <a:lnTo>
                      <a:pt x="620" y="0"/>
                    </a:lnTo>
                    <a:lnTo>
                      <a:pt x="462" y="4"/>
                    </a:lnTo>
                    <a:lnTo>
                      <a:pt x="20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4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8"/>
                    </a:lnTo>
                    <a:lnTo>
                      <a:pt x="0" y="31"/>
                    </a:lnTo>
                    <a:lnTo>
                      <a:pt x="6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3" name=""/>
            <p:cNvSpPr/>
            <p:nvPr/>
          </p:nvSpPr>
          <p:spPr>
            <a:xfrm flipH="1">
              <a:off x="4913640" y="4152600"/>
              <a:ext cx="1040400" cy="363240"/>
            </a:xfrm>
            <a:custGeom>
              <a:avLst/>
              <a:gdLst/>
              <a:ahLst/>
              <a:rect l="l" t="t" r="r" b="b"/>
              <a:pathLst>
                <a:path w="675" h="184">
                  <a:moveTo>
                    <a:pt x="0" y="9"/>
                  </a:moveTo>
                  <a:lnTo>
                    <a:pt x="0" y="18"/>
                  </a:lnTo>
                  <a:lnTo>
                    <a:pt x="0" y="31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18" y="45"/>
                  </a:lnTo>
                  <a:lnTo>
                    <a:pt x="12" y="22"/>
                  </a:lnTo>
                  <a:lnTo>
                    <a:pt x="12" y="9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94" y="4"/>
                  </a:lnTo>
                  <a:lnTo>
                    <a:pt x="456" y="4"/>
                  </a:lnTo>
                  <a:lnTo>
                    <a:pt x="614" y="4"/>
                  </a:lnTo>
                  <a:lnTo>
                    <a:pt x="614" y="4"/>
                  </a:lnTo>
                  <a:lnTo>
                    <a:pt x="638" y="54"/>
                  </a:lnTo>
                  <a:lnTo>
                    <a:pt x="651" y="103"/>
                  </a:lnTo>
                  <a:lnTo>
                    <a:pt x="669" y="139"/>
                  </a:lnTo>
                  <a:lnTo>
                    <a:pt x="669" y="139"/>
                  </a:lnTo>
                  <a:lnTo>
                    <a:pt x="675" y="157"/>
                  </a:lnTo>
                  <a:lnTo>
                    <a:pt x="663" y="170"/>
                  </a:lnTo>
                  <a:lnTo>
                    <a:pt x="638" y="170"/>
                  </a:lnTo>
                  <a:lnTo>
                    <a:pt x="638" y="170"/>
                  </a:lnTo>
                  <a:lnTo>
                    <a:pt x="499" y="175"/>
                  </a:lnTo>
                  <a:lnTo>
                    <a:pt x="261" y="179"/>
                  </a:lnTo>
                  <a:lnTo>
                    <a:pt x="115" y="179"/>
                  </a:lnTo>
                  <a:lnTo>
                    <a:pt x="115" y="179"/>
                  </a:lnTo>
                  <a:lnTo>
                    <a:pt x="85" y="179"/>
                  </a:lnTo>
                  <a:lnTo>
                    <a:pt x="66" y="175"/>
                  </a:lnTo>
                  <a:lnTo>
                    <a:pt x="48" y="157"/>
                  </a:lnTo>
                  <a:lnTo>
                    <a:pt x="48" y="157"/>
                  </a:lnTo>
                  <a:lnTo>
                    <a:pt x="42" y="130"/>
                  </a:lnTo>
                  <a:lnTo>
                    <a:pt x="30" y="90"/>
                  </a:lnTo>
                  <a:lnTo>
                    <a:pt x="18" y="45"/>
                  </a:lnTo>
                  <a:lnTo>
                    <a:pt x="18" y="45"/>
                  </a:lnTo>
                  <a:lnTo>
                    <a:pt x="6" y="45"/>
                  </a:lnTo>
                  <a:lnTo>
                    <a:pt x="12" y="90"/>
                  </a:lnTo>
                  <a:lnTo>
                    <a:pt x="24" y="130"/>
                  </a:lnTo>
                  <a:lnTo>
                    <a:pt x="36" y="157"/>
                  </a:lnTo>
                  <a:lnTo>
                    <a:pt x="36" y="157"/>
                  </a:lnTo>
                  <a:lnTo>
                    <a:pt x="48" y="179"/>
                  </a:lnTo>
                  <a:lnTo>
                    <a:pt x="66" y="184"/>
                  </a:lnTo>
                  <a:lnTo>
                    <a:pt x="103" y="184"/>
                  </a:lnTo>
                  <a:lnTo>
                    <a:pt x="103" y="184"/>
                  </a:lnTo>
                  <a:lnTo>
                    <a:pt x="249" y="184"/>
                  </a:lnTo>
                  <a:lnTo>
                    <a:pt x="499" y="179"/>
                  </a:lnTo>
                  <a:lnTo>
                    <a:pt x="645" y="175"/>
                  </a:lnTo>
                  <a:lnTo>
                    <a:pt x="645" y="175"/>
                  </a:lnTo>
                  <a:lnTo>
                    <a:pt x="669" y="170"/>
                  </a:lnTo>
                  <a:lnTo>
                    <a:pt x="675" y="161"/>
                  </a:lnTo>
                  <a:lnTo>
                    <a:pt x="675" y="144"/>
                  </a:lnTo>
                  <a:lnTo>
                    <a:pt x="675" y="144"/>
                  </a:lnTo>
                  <a:lnTo>
                    <a:pt x="657" y="103"/>
                  </a:lnTo>
                  <a:lnTo>
                    <a:pt x="638" y="45"/>
                  </a:lnTo>
                  <a:lnTo>
                    <a:pt x="620" y="0"/>
                  </a:lnTo>
                  <a:lnTo>
                    <a:pt x="620" y="0"/>
                  </a:lnTo>
                  <a:lnTo>
                    <a:pt x="462" y="4"/>
                  </a:lnTo>
                  <a:lnTo>
                    <a:pt x="200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4"/>
                  </a:lnTo>
                  <a:lnTo>
                    <a:pt x="0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4989240" y="4142880"/>
              <a:ext cx="975600" cy="27720"/>
            </a:xfrm>
            <a:custGeom>
              <a:avLst/>
              <a:gdLst/>
              <a:ahLst/>
              <a:rect l="l" t="t" r="r" b="b"/>
              <a:pathLst>
                <a:path w="633" h="14">
                  <a:moveTo>
                    <a:pt x="19" y="5"/>
                  </a:moveTo>
                  <a:lnTo>
                    <a:pt x="627" y="5"/>
                  </a:lnTo>
                  <a:lnTo>
                    <a:pt x="627" y="9"/>
                  </a:lnTo>
                  <a:lnTo>
                    <a:pt x="627" y="9"/>
                  </a:lnTo>
                  <a:lnTo>
                    <a:pt x="633" y="9"/>
                  </a:lnTo>
                  <a:lnTo>
                    <a:pt x="633" y="9"/>
                  </a:lnTo>
                  <a:lnTo>
                    <a:pt x="633" y="5"/>
                  </a:lnTo>
                  <a:lnTo>
                    <a:pt x="627" y="0"/>
                  </a:lnTo>
                  <a:lnTo>
                    <a:pt x="627" y="0"/>
                  </a:lnTo>
                  <a:lnTo>
                    <a:pt x="621" y="0"/>
                  </a:lnTo>
                  <a:lnTo>
                    <a:pt x="621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H="1">
              <a:off x="4989240" y="4142880"/>
              <a:ext cx="975600" cy="27720"/>
            </a:xfrm>
            <a:custGeom>
              <a:avLst/>
              <a:gdLst/>
              <a:ahLst/>
              <a:rect l="l" t="t" r="r" b="b"/>
              <a:pathLst>
                <a:path w="633" h="14">
                  <a:moveTo>
                    <a:pt x="19" y="5"/>
                  </a:moveTo>
                  <a:lnTo>
                    <a:pt x="627" y="5"/>
                  </a:lnTo>
                  <a:lnTo>
                    <a:pt x="627" y="9"/>
                  </a:lnTo>
                  <a:lnTo>
                    <a:pt x="627" y="9"/>
                  </a:lnTo>
                  <a:lnTo>
                    <a:pt x="633" y="9"/>
                  </a:lnTo>
                  <a:lnTo>
                    <a:pt x="633" y="9"/>
                  </a:lnTo>
                  <a:lnTo>
                    <a:pt x="633" y="5"/>
                  </a:lnTo>
                  <a:lnTo>
                    <a:pt x="627" y="0"/>
                  </a:lnTo>
                  <a:lnTo>
                    <a:pt x="627" y="0"/>
                  </a:lnTo>
                  <a:lnTo>
                    <a:pt x="621" y="0"/>
                  </a:lnTo>
                  <a:lnTo>
                    <a:pt x="621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9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5830920" y="4142880"/>
              <a:ext cx="1080" cy="9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>
              <a:off x="5728680" y="4142880"/>
              <a:ext cx="9000" cy="97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0" y="0"/>
                  </a:lnTo>
                  <a:lnTo>
                    <a:pt x="6" y="5"/>
                  </a:lnTo>
                  <a:lnTo>
                    <a:pt x="6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5523840" y="4142880"/>
              <a:ext cx="9360" cy="97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6" y="0"/>
                  </a:lnTo>
                  <a:lnTo>
                    <a:pt x="6" y="5"/>
                  </a:lnTo>
                  <a:lnTo>
                    <a:pt x="6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H="1">
              <a:off x="5420520" y="4142880"/>
              <a:ext cx="9000" cy="97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0" y="0"/>
                  </a:lnTo>
                  <a:lnTo>
                    <a:pt x="6" y="5"/>
                  </a:lnTo>
                  <a:lnTo>
                    <a:pt x="6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5624280" y="4142880"/>
              <a:ext cx="1080" cy="9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>
              <a:off x="5317200" y="4142880"/>
              <a:ext cx="9360" cy="97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6" y="0"/>
                  </a:lnTo>
                  <a:lnTo>
                    <a:pt x="6" y="5"/>
                  </a:lnTo>
                  <a:lnTo>
                    <a:pt x="6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5109120" y="4142880"/>
              <a:ext cx="1080" cy="9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H="1">
              <a:off x="5007240" y="4142880"/>
              <a:ext cx="9000" cy="97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6" y="0"/>
                  </a:lnTo>
                  <a:lnTo>
                    <a:pt x="6" y="5"/>
                  </a:lnTo>
                  <a:lnTo>
                    <a:pt x="6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H="1">
              <a:off x="5204520" y="4142880"/>
              <a:ext cx="18360" cy="97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0"/>
                  </a:moveTo>
                  <a:lnTo>
                    <a:pt x="6" y="0"/>
                  </a:lnTo>
                  <a:lnTo>
                    <a:pt x="6" y="5"/>
                  </a:lnTo>
                  <a:lnTo>
                    <a:pt x="12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4970520" y="4188600"/>
              <a:ext cx="928080" cy="256320"/>
            </a:xfrm>
            <a:custGeom>
              <a:avLst/>
              <a:gdLst/>
              <a:ahLst/>
              <a:rect l="l" t="t" r="r" b="b"/>
              <a:pathLst>
                <a:path w="602" h="130">
                  <a:moveTo>
                    <a:pt x="590" y="121"/>
                  </a:moveTo>
                  <a:lnTo>
                    <a:pt x="596" y="121"/>
                  </a:lnTo>
                  <a:lnTo>
                    <a:pt x="602" y="117"/>
                  </a:lnTo>
                  <a:lnTo>
                    <a:pt x="602" y="112"/>
                  </a:lnTo>
                  <a:lnTo>
                    <a:pt x="602" y="112"/>
                  </a:lnTo>
                  <a:lnTo>
                    <a:pt x="566" y="9"/>
                  </a:lnTo>
                  <a:lnTo>
                    <a:pt x="566" y="4"/>
                  </a:lnTo>
                  <a:lnTo>
                    <a:pt x="566" y="0"/>
                  </a:lnTo>
                  <a:lnTo>
                    <a:pt x="554" y="0"/>
                  </a:lnTo>
                  <a:lnTo>
                    <a:pt x="554" y="0"/>
                  </a:lnTo>
                  <a:lnTo>
                    <a:pt x="12" y="4"/>
                  </a:lnTo>
                  <a:lnTo>
                    <a:pt x="6" y="9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4" y="121"/>
                  </a:lnTo>
                  <a:lnTo>
                    <a:pt x="24" y="130"/>
                  </a:lnTo>
                  <a:lnTo>
                    <a:pt x="30" y="130"/>
                  </a:lnTo>
                  <a:lnTo>
                    <a:pt x="37" y="130"/>
                  </a:lnTo>
                  <a:lnTo>
                    <a:pt x="37" y="130"/>
                  </a:lnTo>
                  <a:lnTo>
                    <a:pt x="590" y="1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H="1">
              <a:off x="4970520" y="4188600"/>
              <a:ext cx="928080" cy="256320"/>
            </a:xfrm>
            <a:custGeom>
              <a:avLst/>
              <a:gdLst/>
              <a:ahLst/>
              <a:rect l="l" t="t" r="r" b="b"/>
              <a:pathLst>
                <a:path w="602" h="130">
                  <a:moveTo>
                    <a:pt x="590" y="121"/>
                  </a:moveTo>
                  <a:lnTo>
                    <a:pt x="596" y="121"/>
                  </a:lnTo>
                  <a:lnTo>
                    <a:pt x="602" y="117"/>
                  </a:lnTo>
                  <a:lnTo>
                    <a:pt x="602" y="112"/>
                  </a:lnTo>
                  <a:lnTo>
                    <a:pt x="602" y="112"/>
                  </a:lnTo>
                  <a:lnTo>
                    <a:pt x="566" y="9"/>
                  </a:lnTo>
                  <a:lnTo>
                    <a:pt x="566" y="4"/>
                  </a:lnTo>
                  <a:lnTo>
                    <a:pt x="566" y="0"/>
                  </a:lnTo>
                  <a:lnTo>
                    <a:pt x="554" y="0"/>
                  </a:lnTo>
                  <a:lnTo>
                    <a:pt x="554" y="0"/>
                  </a:lnTo>
                  <a:lnTo>
                    <a:pt x="12" y="4"/>
                  </a:lnTo>
                  <a:lnTo>
                    <a:pt x="6" y="9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4" y="121"/>
                  </a:lnTo>
                  <a:lnTo>
                    <a:pt x="24" y="130"/>
                  </a:lnTo>
                  <a:lnTo>
                    <a:pt x="30" y="130"/>
                  </a:lnTo>
                  <a:lnTo>
                    <a:pt x="37" y="130"/>
                  </a:lnTo>
                  <a:lnTo>
                    <a:pt x="37" y="130"/>
                  </a:lnTo>
                  <a:lnTo>
                    <a:pt x="590" y="1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H="1">
              <a:off x="4989240" y="4205880"/>
              <a:ext cx="900000" cy="230760"/>
            </a:xfrm>
            <a:custGeom>
              <a:avLst/>
              <a:gdLst/>
              <a:ahLst/>
              <a:rect l="l" t="t" r="r" b="b"/>
              <a:pathLst>
                <a:path w="584" h="117">
                  <a:moveTo>
                    <a:pt x="572" y="108"/>
                  </a:moveTo>
                  <a:lnTo>
                    <a:pt x="578" y="103"/>
                  </a:lnTo>
                  <a:lnTo>
                    <a:pt x="584" y="103"/>
                  </a:lnTo>
                  <a:lnTo>
                    <a:pt x="584" y="99"/>
                  </a:lnTo>
                  <a:lnTo>
                    <a:pt x="584" y="99"/>
                  </a:lnTo>
                  <a:lnTo>
                    <a:pt x="554" y="9"/>
                  </a:lnTo>
                  <a:lnTo>
                    <a:pt x="554" y="0"/>
                  </a:lnTo>
                  <a:lnTo>
                    <a:pt x="548" y="0"/>
                  </a:lnTo>
                  <a:lnTo>
                    <a:pt x="542" y="0"/>
                  </a:lnTo>
                  <a:lnTo>
                    <a:pt x="542" y="0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6" y="9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4" y="108"/>
                  </a:lnTo>
                  <a:lnTo>
                    <a:pt x="24" y="112"/>
                  </a:lnTo>
                  <a:lnTo>
                    <a:pt x="31" y="117"/>
                  </a:lnTo>
                  <a:lnTo>
                    <a:pt x="37" y="117"/>
                  </a:lnTo>
                  <a:lnTo>
                    <a:pt x="37" y="117"/>
                  </a:lnTo>
                  <a:lnTo>
                    <a:pt x="572" y="10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H="1">
              <a:off x="5025600" y="4295160"/>
              <a:ext cx="826200" cy="35280"/>
            </a:xfrm>
            <a:custGeom>
              <a:avLst/>
              <a:gdLst/>
              <a:ahLst/>
              <a:rect l="l" t="t" r="r" b="b"/>
              <a:pathLst>
                <a:path w="536" h="18">
                  <a:moveTo>
                    <a:pt x="536" y="13"/>
                  </a:moveTo>
                  <a:lnTo>
                    <a:pt x="536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536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H="1">
              <a:off x="5007600" y="4320360"/>
              <a:ext cx="844560" cy="45000"/>
            </a:xfrm>
            <a:custGeom>
              <a:avLst/>
              <a:gdLst/>
              <a:ahLst/>
              <a:rect l="l" t="t" r="r" b="b"/>
              <a:pathLst>
                <a:path w="548" h="23">
                  <a:moveTo>
                    <a:pt x="548" y="18"/>
                  </a:moveTo>
                  <a:lnTo>
                    <a:pt x="536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5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>
              <a:off x="5007600" y="4320360"/>
              <a:ext cx="844560" cy="45000"/>
            </a:xfrm>
            <a:custGeom>
              <a:avLst/>
              <a:gdLst/>
              <a:ahLst/>
              <a:rect l="l" t="t" r="r" b="b"/>
              <a:pathLst>
                <a:path w="548" h="23">
                  <a:moveTo>
                    <a:pt x="548" y="18"/>
                  </a:moveTo>
                  <a:lnTo>
                    <a:pt x="536" y="0"/>
                  </a:lnTo>
                  <a:lnTo>
                    <a:pt x="0" y="5"/>
                  </a:lnTo>
                  <a:lnTo>
                    <a:pt x="0" y="23"/>
                  </a:lnTo>
                  <a:lnTo>
                    <a:pt x="548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H="1" flipV="1">
              <a:off x="5025960" y="4294800"/>
              <a:ext cx="83556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H="1" flipV="1">
              <a:off x="5025960" y="4276800"/>
              <a:ext cx="83556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H="1" flipV="1">
              <a:off x="5034960" y="4258800"/>
              <a:ext cx="82656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H="1" flipV="1">
              <a:off x="4998240" y="4391280"/>
              <a:ext cx="83412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H="1" flipV="1">
              <a:off x="5007600" y="4373280"/>
              <a:ext cx="83376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H="1" flipV="1">
              <a:off x="5007600" y="4365720"/>
              <a:ext cx="83376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H="1">
              <a:off x="6743520" y="3992760"/>
              <a:ext cx="280440" cy="1089720"/>
            </a:xfrm>
            <a:custGeom>
              <a:avLst/>
              <a:gdLst/>
              <a:ahLst/>
              <a:rect l="l" t="t" r="r" b="b"/>
              <a:pathLst>
                <a:path w="182" h="552">
                  <a:moveTo>
                    <a:pt x="182" y="382"/>
                  </a:moveTo>
                  <a:lnTo>
                    <a:pt x="182" y="552"/>
                  </a:lnTo>
                  <a:lnTo>
                    <a:pt x="0" y="539"/>
                  </a:lnTo>
                  <a:lnTo>
                    <a:pt x="0" y="9"/>
                  </a:lnTo>
                  <a:lnTo>
                    <a:pt x="182" y="0"/>
                  </a:lnTo>
                  <a:lnTo>
                    <a:pt x="182" y="382"/>
                  </a:lnTo>
                  <a:lnTo>
                    <a:pt x="170" y="382"/>
                  </a:lnTo>
                  <a:lnTo>
                    <a:pt x="164" y="328"/>
                  </a:lnTo>
                  <a:lnTo>
                    <a:pt x="12" y="328"/>
                  </a:lnTo>
                  <a:lnTo>
                    <a:pt x="12" y="422"/>
                  </a:lnTo>
                  <a:lnTo>
                    <a:pt x="170" y="427"/>
                  </a:lnTo>
                  <a:lnTo>
                    <a:pt x="170" y="382"/>
                  </a:lnTo>
                  <a:lnTo>
                    <a:pt x="182" y="382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H="1">
              <a:off x="7915320" y="4081320"/>
              <a:ext cx="169560" cy="894600"/>
            </a:xfrm>
            <a:custGeom>
              <a:avLst/>
              <a:gdLst/>
              <a:ahLst/>
              <a:rect l="l" t="t" r="r" b="b"/>
              <a:pathLst>
                <a:path w="110" h="453">
                  <a:moveTo>
                    <a:pt x="92" y="305"/>
                  </a:moveTo>
                  <a:lnTo>
                    <a:pt x="92" y="350"/>
                  </a:lnTo>
                  <a:lnTo>
                    <a:pt x="12" y="350"/>
                  </a:lnTo>
                  <a:lnTo>
                    <a:pt x="12" y="265"/>
                  </a:lnTo>
                  <a:lnTo>
                    <a:pt x="92" y="265"/>
                  </a:lnTo>
                  <a:lnTo>
                    <a:pt x="92" y="305"/>
                  </a:lnTo>
                  <a:lnTo>
                    <a:pt x="110" y="305"/>
                  </a:lnTo>
                  <a:lnTo>
                    <a:pt x="110" y="0"/>
                  </a:lnTo>
                  <a:lnTo>
                    <a:pt x="0" y="0"/>
                  </a:lnTo>
                  <a:lnTo>
                    <a:pt x="0" y="449"/>
                  </a:lnTo>
                  <a:lnTo>
                    <a:pt x="110" y="453"/>
                  </a:lnTo>
                  <a:lnTo>
                    <a:pt x="110" y="305"/>
                  </a:lnTo>
                  <a:lnTo>
                    <a:pt x="92" y="305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H="1">
              <a:off x="6762240" y="4010760"/>
              <a:ext cx="243360" cy="1054440"/>
            </a:xfrm>
            <a:custGeom>
              <a:avLst/>
              <a:gdLst/>
              <a:ahLst/>
              <a:rect l="l" t="t" r="r" b="b"/>
              <a:pathLst>
                <a:path w="158" h="534">
                  <a:moveTo>
                    <a:pt x="158" y="534"/>
                  </a:moveTo>
                  <a:lnTo>
                    <a:pt x="152" y="0"/>
                  </a:lnTo>
                  <a:lnTo>
                    <a:pt x="0" y="9"/>
                  </a:lnTo>
                  <a:lnTo>
                    <a:pt x="0" y="525"/>
                  </a:lnTo>
                  <a:lnTo>
                    <a:pt x="158" y="5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H="1">
              <a:off x="6743520" y="3992760"/>
              <a:ext cx="280440" cy="1089720"/>
            </a:xfrm>
            <a:custGeom>
              <a:avLst/>
              <a:gdLst/>
              <a:ahLst/>
              <a:rect l="l" t="t" r="r" b="b"/>
              <a:pathLst>
                <a:path w="182" h="552">
                  <a:moveTo>
                    <a:pt x="182" y="552"/>
                  </a:moveTo>
                  <a:lnTo>
                    <a:pt x="182" y="0"/>
                  </a:lnTo>
                  <a:lnTo>
                    <a:pt x="0" y="9"/>
                  </a:lnTo>
                  <a:lnTo>
                    <a:pt x="0" y="539"/>
                  </a:lnTo>
                  <a:lnTo>
                    <a:pt x="182" y="5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>
              <a:off x="7915320" y="4081320"/>
              <a:ext cx="169560" cy="894600"/>
            </a:xfrm>
            <a:custGeom>
              <a:avLst/>
              <a:gdLst/>
              <a:ahLst/>
              <a:rect l="l" t="t" r="r" b="b"/>
              <a:pathLst>
                <a:path w="110" h="453">
                  <a:moveTo>
                    <a:pt x="110" y="453"/>
                  </a:moveTo>
                  <a:lnTo>
                    <a:pt x="110" y="0"/>
                  </a:lnTo>
                  <a:lnTo>
                    <a:pt x="0" y="0"/>
                  </a:lnTo>
                  <a:lnTo>
                    <a:pt x="0" y="449"/>
                  </a:lnTo>
                  <a:lnTo>
                    <a:pt x="110" y="4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>
              <a:off x="7943400" y="4099320"/>
              <a:ext cx="123120" cy="858600"/>
            </a:xfrm>
            <a:custGeom>
              <a:avLst/>
              <a:gdLst/>
              <a:ahLst/>
              <a:rect l="l" t="t" r="r" b="b"/>
              <a:pathLst>
                <a:path w="80" h="435">
                  <a:moveTo>
                    <a:pt x="80" y="435"/>
                  </a:moveTo>
                  <a:lnTo>
                    <a:pt x="80" y="0"/>
                  </a:lnTo>
                  <a:lnTo>
                    <a:pt x="0" y="4"/>
                  </a:lnTo>
                  <a:lnTo>
                    <a:pt x="0" y="431"/>
                  </a:lnTo>
                  <a:lnTo>
                    <a:pt x="80" y="4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6245640" y="4046040"/>
              <a:ext cx="374400" cy="558720"/>
            </a:xfrm>
            <a:custGeom>
              <a:avLst/>
              <a:gdLst/>
              <a:ahLst/>
              <a:rect l="l" t="t" r="r" b="b"/>
              <a:pathLst>
                <a:path w="243" h="283">
                  <a:moveTo>
                    <a:pt x="85" y="283"/>
                  </a:moveTo>
                  <a:lnTo>
                    <a:pt x="176" y="283"/>
                  </a:lnTo>
                  <a:lnTo>
                    <a:pt x="225" y="283"/>
                  </a:lnTo>
                  <a:lnTo>
                    <a:pt x="237" y="283"/>
                  </a:lnTo>
                  <a:lnTo>
                    <a:pt x="237" y="274"/>
                  </a:lnTo>
                  <a:lnTo>
                    <a:pt x="243" y="265"/>
                  </a:lnTo>
                  <a:lnTo>
                    <a:pt x="243" y="265"/>
                  </a:lnTo>
                  <a:lnTo>
                    <a:pt x="243" y="18"/>
                  </a:lnTo>
                  <a:lnTo>
                    <a:pt x="237" y="13"/>
                  </a:lnTo>
                  <a:lnTo>
                    <a:pt x="231" y="4"/>
                  </a:lnTo>
                  <a:lnTo>
                    <a:pt x="225" y="0"/>
                  </a:lnTo>
                  <a:lnTo>
                    <a:pt x="225" y="0"/>
                  </a:lnTo>
                  <a:lnTo>
                    <a:pt x="12" y="13"/>
                  </a:lnTo>
                  <a:lnTo>
                    <a:pt x="6" y="13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56"/>
                  </a:lnTo>
                  <a:lnTo>
                    <a:pt x="0" y="269"/>
                  </a:lnTo>
                  <a:lnTo>
                    <a:pt x="12" y="278"/>
                  </a:lnTo>
                  <a:lnTo>
                    <a:pt x="30" y="283"/>
                  </a:lnTo>
                  <a:lnTo>
                    <a:pt x="30" y="283"/>
                  </a:lnTo>
                  <a:lnTo>
                    <a:pt x="85" y="2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H="1">
              <a:off x="6245640" y="4046040"/>
              <a:ext cx="374400" cy="558720"/>
            </a:xfrm>
            <a:custGeom>
              <a:avLst/>
              <a:gdLst/>
              <a:ahLst/>
              <a:rect l="l" t="t" r="r" b="b"/>
              <a:pathLst>
                <a:path w="243" h="283">
                  <a:moveTo>
                    <a:pt x="176" y="283"/>
                  </a:moveTo>
                  <a:lnTo>
                    <a:pt x="85" y="283"/>
                  </a:lnTo>
                  <a:lnTo>
                    <a:pt x="85" y="274"/>
                  </a:lnTo>
                  <a:lnTo>
                    <a:pt x="109" y="274"/>
                  </a:lnTo>
                  <a:lnTo>
                    <a:pt x="109" y="18"/>
                  </a:lnTo>
                  <a:lnTo>
                    <a:pt x="30" y="18"/>
                  </a:lnTo>
                  <a:lnTo>
                    <a:pt x="18" y="22"/>
                  </a:lnTo>
                  <a:lnTo>
                    <a:pt x="12" y="31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256"/>
                  </a:lnTo>
                  <a:lnTo>
                    <a:pt x="12" y="265"/>
                  </a:lnTo>
                  <a:lnTo>
                    <a:pt x="30" y="274"/>
                  </a:lnTo>
                  <a:lnTo>
                    <a:pt x="42" y="274"/>
                  </a:lnTo>
                  <a:lnTo>
                    <a:pt x="42" y="274"/>
                  </a:lnTo>
                  <a:lnTo>
                    <a:pt x="85" y="274"/>
                  </a:lnTo>
                  <a:lnTo>
                    <a:pt x="85" y="283"/>
                  </a:lnTo>
                  <a:lnTo>
                    <a:pt x="30" y="283"/>
                  </a:lnTo>
                  <a:lnTo>
                    <a:pt x="12" y="278"/>
                  </a:lnTo>
                  <a:lnTo>
                    <a:pt x="0" y="269"/>
                  </a:lnTo>
                  <a:lnTo>
                    <a:pt x="0" y="256"/>
                  </a:lnTo>
                  <a:lnTo>
                    <a:pt x="0" y="25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225" y="0"/>
                  </a:lnTo>
                  <a:lnTo>
                    <a:pt x="231" y="4"/>
                  </a:lnTo>
                  <a:lnTo>
                    <a:pt x="237" y="13"/>
                  </a:lnTo>
                  <a:lnTo>
                    <a:pt x="243" y="18"/>
                  </a:lnTo>
                  <a:lnTo>
                    <a:pt x="243" y="18"/>
                  </a:lnTo>
                  <a:lnTo>
                    <a:pt x="243" y="265"/>
                  </a:lnTo>
                  <a:lnTo>
                    <a:pt x="237" y="274"/>
                  </a:lnTo>
                  <a:lnTo>
                    <a:pt x="237" y="283"/>
                  </a:lnTo>
                  <a:lnTo>
                    <a:pt x="225" y="283"/>
                  </a:lnTo>
                  <a:lnTo>
                    <a:pt x="225" y="283"/>
                  </a:lnTo>
                  <a:lnTo>
                    <a:pt x="176" y="283"/>
                  </a:lnTo>
                  <a:lnTo>
                    <a:pt x="170" y="274"/>
                  </a:lnTo>
                  <a:lnTo>
                    <a:pt x="213" y="274"/>
                  </a:lnTo>
                  <a:lnTo>
                    <a:pt x="225" y="274"/>
                  </a:lnTo>
                  <a:lnTo>
                    <a:pt x="225" y="265"/>
                  </a:lnTo>
                  <a:lnTo>
                    <a:pt x="225" y="256"/>
                  </a:lnTo>
                  <a:lnTo>
                    <a:pt x="225" y="256"/>
                  </a:lnTo>
                  <a:lnTo>
                    <a:pt x="225" y="27"/>
                  </a:lnTo>
                  <a:lnTo>
                    <a:pt x="225" y="18"/>
                  </a:lnTo>
                  <a:lnTo>
                    <a:pt x="219" y="13"/>
                  </a:lnTo>
                  <a:lnTo>
                    <a:pt x="206" y="13"/>
                  </a:lnTo>
                  <a:lnTo>
                    <a:pt x="206" y="13"/>
                  </a:lnTo>
                  <a:lnTo>
                    <a:pt x="127" y="13"/>
                  </a:lnTo>
                  <a:lnTo>
                    <a:pt x="127" y="274"/>
                  </a:lnTo>
                  <a:lnTo>
                    <a:pt x="170" y="274"/>
                  </a:lnTo>
                  <a:lnTo>
                    <a:pt x="176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H="1">
              <a:off x="6817680" y="4081320"/>
              <a:ext cx="131040" cy="355320"/>
            </a:xfrm>
            <a:custGeom>
              <a:avLst/>
              <a:gdLst/>
              <a:ahLst/>
              <a:rect l="l" t="t" r="r" b="b"/>
              <a:pathLst>
                <a:path w="85" h="180">
                  <a:moveTo>
                    <a:pt x="85" y="103"/>
                  </a:moveTo>
                  <a:lnTo>
                    <a:pt x="85" y="18"/>
                  </a:lnTo>
                  <a:lnTo>
                    <a:pt x="85" y="9"/>
                  </a:lnTo>
                  <a:lnTo>
                    <a:pt x="73" y="4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24" y="4"/>
                  </a:lnTo>
                  <a:lnTo>
                    <a:pt x="12" y="9"/>
                  </a:lnTo>
                  <a:lnTo>
                    <a:pt x="6" y="13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66"/>
                  </a:lnTo>
                  <a:lnTo>
                    <a:pt x="6" y="171"/>
                  </a:lnTo>
                  <a:lnTo>
                    <a:pt x="12" y="175"/>
                  </a:lnTo>
                  <a:lnTo>
                    <a:pt x="24" y="180"/>
                  </a:lnTo>
                  <a:lnTo>
                    <a:pt x="24" y="180"/>
                  </a:lnTo>
                  <a:lnTo>
                    <a:pt x="60" y="180"/>
                  </a:lnTo>
                  <a:lnTo>
                    <a:pt x="73" y="175"/>
                  </a:lnTo>
                  <a:lnTo>
                    <a:pt x="85" y="171"/>
                  </a:lnTo>
                  <a:lnTo>
                    <a:pt x="85" y="162"/>
                  </a:lnTo>
                  <a:lnTo>
                    <a:pt x="85" y="162"/>
                  </a:lnTo>
                  <a:lnTo>
                    <a:pt x="85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H="1">
              <a:off x="6817680" y="4081320"/>
              <a:ext cx="131040" cy="355320"/>
            </a:xfrm>
            <a:custGeom>
              <a:avLst/>
              <a:gdLst/>
              <a:ahLst/>
              <a:rect l="l" t="t" r="r" b="b"/>
              <a:pathLst>
                <a:path w="85" h="180">
                  <a:moveTo>
                    <a:pt x="73" y="103"/>
                  </a:moveTo>
                  <a:lnTo>
                    <a:pt x="73" y="157"/>
                  </a:lnTo>
                  <a:lnTo>
                    <a:pt x="73" y="166"/>
                  </a:lnTo>
                  <a:lnTo>
                    <a:pt x="73" y="166"/>
                  </a:lnTo>
                  <a:lnTo>
                    <a:pt x="67" y="171"/>
                  </a:lnTo>
                  <a:lnTo>
                    <a:pt x="67" y="171"/>
                  </a:lnTo>
                  <a:lnTo>
                    <a:pt x="24" y="171"/>
                  </a:lnTo>
                  <a:lnTo>
                    <a:pt x="18" y="171"/>
                  </a:lnTo>
                  <a:lnTo>
                    <a:pt x="12" y="166"/>
                  </a:lnTo>
                  <a:lnTo>
                    <a:pt x="12" y="162"/>
                  </a:lnTo>
                  <a:lnTo>
                    <a:pt x="12" y="162"/>
                  </a:lnTo>
                  <a:lnTo>
                    <a:pt x="12" y="27"/>
                  </a:lnTo>
                  <a:lnTo>
                    <a:pt x="12" y="22"/>
                  </a:lnTo>
                  <a:lnTo>
                    <a:pt x="12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60" y="13"/>
                  </a:lnTo>
                  <a:lnTo>
                    <a:pt x="73" y="13"/>
                  </a:lnTo>
                  <a:lnTo>
                    <a:pt x="73" y="18"/>
                  </a:lnTo>
                  <a:lnTo>
                    <a:pt x="73" y="22"/>
                  </a:lnTo>
                  <a:lnTo>
                    <a:pt x="73" y="22"/>
                  </a:lnTo>
                  <a:lnTo>
                    <a:pt x="73" y="103"/>
                  </a:lnTo>
                  <a:lnTo>
                    <a:pt x="85" y="103"/>
                  </a:lnTo>
                  <a:lnTo>
                    <a:pt x="85" y="18"/>
                  </a:lnTo>
                  <a:lnTo>
                    <a:pt x="85" y="9"/>
                  </a:lnTo>
                  <a:lnTo>
                    <a:pt x="73" y="4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24" y="4"/>
                  </a:lnTo>
                  <a:lnTo>
                    <a:pt x="12" y="9"/>
                  </a:lnTo>
                  <a:lnTo>
                    <a:pt x="6" y="13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66"/>
                  </a:lnTo>
                  <a:lnTo>
                    <a:pt x="6" y="171"/>
                  </a:lnTo>
                  <a:lnTo>
                    <a:pt x="12" y="175"/>
                  </a:lnTo>
                  <a:lnTo>
                    <a:pt x="24" y="180"/>
                  </a:lnTo>
                  <a:lnTo>
                    <a:pt x="24" y="180"/>
                  </a:lnTo>
                  <a:lnTo>
                    <a:pt x="60" y="180"/>
                  </a:lnTo>
                  <a:lnTo>
                    <a:pt x="73" y="175"/>
                  </a:lnTo>
                  <a:lnTo>
                    <a:pt x="85" y="171"/>
                  </a:lnTo>
                  <a:lnTo>
                    <a:pt x="85" y="162"/>
                  </a:lnTo>
                  <a:lnTo>
                    <a:pt x="85" y="162"/>
                  </a:lnTo>
                  <a:lnTo>
                    <a:pt x="85" y="103"/>
                  </a:lnTo>
                  <a:lnTo>
                    <a:pt x="73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H="1">
              <a:off x="7221600" y="4320360"/>
              <a:ext cx="534960" cy="230760"/>
            </a:xfrm>
            <a:custGeom>
              <a:avLst/>
              <a:gdLst/>
              <a:ahLst/>
              <a:rect l="l" t="t" r="r" b="b"/>
              <a:pathLst>
                <a:path w="347" h="117">
                  <a:moveTo>
                    <a:pt x="0" y="45"/>
                  </a:moveTo>
                  <a:lnTo>
                    <a:pt x="0" y="18"/>
                  </a:lnTo>
                  <a:lnTo>
                    <a:pt x="6" y="14"/>
                  </a:lnTo>
                  <a:lnTo>
                    <a:pt x="12" y="9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335" y="0"/>
                  </a:lnTo>
                  <a:lnTo>
                    <a:pt x="341" y="0"/>
                  </a:lnTo>
                  <a:lnTo>
                    <a:pt x="347" y="5"/>
                  </a:lnTo>
                  <a:lnTo>
                    <a:pt x="347" y="14"/>
                  </a:lnTo>
                  <a:lnTo>
                    <a:pt x="347" y="14"/>
                  </a:lnTo>
                  <a:lnTo>
                    <a:pt x="347" y="103"/>
                  </a:lnTo>
                  <a:lnTo>
                    <a:pt x="341" y="103"/>
                  </a:lnTo>
                  <a:lnTo>
                    <a:pt x="335" y="112"/>
                  </a:lnTo>
                  <a:lnTo>
                    <a:pt x="323" y="112"/>
                  </a:lnTo>
                  <a:lnTo>
                    <a:pt x="323" y="112"/>
                  </a:lnTo>
                  <a:lnTo>
                    <a:pt x="31" y="117"/>
                  </a:lnTo>
                  <a:lnTo>
                    <a:pt x="19" y="117"/>
                  </a:lnTo>
                  <a:lnTo>
                    <a:pt x="12" y="112"/>
                  </a:lnTo>
                  <a:lnTo>
                    <a:pt x="6" y="103"/>
                  </a:lnTo>
                  <a:lnTo>
                    <a:pt x="6" y="103"/>
                  </a:lnTo>
                  <a:lnTo>
                    <a:pt x="0" y="8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H="1">
              <a:off x="7221600" y="4320360"/>
              <a:ext cx="534960" cy="230760"/>
            </a:xfrm>
            <a:custGeom>
              <a:avLst/>
              <a:gdLst/>
              <a:ahLst/>
              <a:rect l="l" t="t" r="r" b="b"/>
              <a:pathLst>
                <a:path w="347" h="117">
                  <a:moveTo>
                    <a:pt x="0" y="85"/>
                  </a:moveTo>
                  <a:lnTo>
                    <a:pt x="6" y="103"/>
                  </a:lnTo>
                  <a:lnTo>
                    <a:pt x="12" y="112"/>
                  </a:lnTo>
                  <a:lnTo>
                    <a:pt x="19" y="117"/>
                  </a:lnTo>
                  <a:lnTo>
                    <a:pt x="31" y="117"/>
                  </a:lnTo>
                  <a:lnTo>
                    <a:pt x="31" y="117"/>
                  </a:lnTo>
                  <a:lnTo>
                    <a:pt x="323" y="112"/>
                  </a:lnTo>
                  <a:lnTo>
                    <a:pt x="335" y="112"/>
                  </a:lnTo>
                  <a:lnTo>
                    <a:pt x="341" y="103"/>
                  </a:lnTo>
                  <a:lnTo>
                    <a:pt x="347" y="103"/>
                  </a:lnTo>
                  <a:lnTo>
                    <a:pt x="347" y="103"/>
                  </a:lnTo>
                  <a:lnTo>
                    <a:pt x="347" y="14"/>
                  </a:lnTo>
                  <a:lnTo>
                    <a:pt x="347" y="5"/>
                  </a:lnTo>
                  <a:lnTo>
                    <a:pt x="341" y="0"/>
                  </a:lnTo>
                  <a:lnTo>
                    <a:pt x="335" y="0"/>
                  </a:lnTo>
                  <a:lnTo>
                    <a:pt x="335" y="0"/>
                  </a:lnTo>
                  <a:lnTo>
                    <a:pt x="19" y="5"/>
                  </a:lnTo>
                  <a:lnTo>
                    <a:pt x="12" y="9"/>
                  </a:lnTo>
                  <a:lnTo>
                    <a:pt x="6" y="1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45"/>
                  </a:lnTo>
                  <a:lnTo>
                    <a:pt x="12" y="50"/>
                  </a:lnTo>
                  <a:lnTo>
                    <a:pt x="12" y="32"/>
                  </a:lnTo>
                  <a:lnTo>
                    <a:pt x="19" y="27"/>
                  </a:lnTo>
                  <a:lnTo>
                    <a:pt x="25" y="18"/>
                  </a:lnTo>
                  <a:lnTo>
                    <a:pt x="37" y="18"/>
                  </a:lnTo>
                  <a:lnTo>
                    <a:pt x="37" y="18"/>
                  </a:lnTo>
                  <a:lnTo>
                    <a:pt x="323" y="9"/>
                  </a:lnTo>
                  <a:lnTo>
                    <a:pt x="329" y="14"/>
                  </a:lnTo>
                  <a:lnTo>
                    <a:pt x="335" y="18"/>
                  </a:lnTo>
                  <a:lnTo>
                    <a:pt x="335" y="27"/>
                  </a:lnTo>
                  <a:lnTo>
                    <a:pt x="335" y="27"/>
                  </a:lnTo>
                  <a:lnTo>
                    <a:pt x="335" y="50"/>
                  </a:lnTo>
                  <a:lnTo>
                    <a:pt x="12" y="54"/>
                  </a:lnTo>
                  <a:lnTo>
                    <a:pt x="12" y="50"/>
                  </a:lnTo>
                  <a:lnTo>
                    <a:pt x="0" y="45"/>
                  </a:lnTo>
                  <a:lnTo>
                    <a:pt x="0" y="85"/>
                  </a:lnTo>
                  <a:lnTo>
                    <a:pt x="19" y="85"/>
                  </a:lnTo>
                  <a:lnTo>
                    <a:pt x="12" y="63"/>
                  </a:lnTo>
                  <a:lnTo>
                    <a:pt x="335" y="59"/>
                  </a:lnTo>
                  <a:lnTo>
                    <a:pt x="329" y="85"/>
                  </a:lnTo>
                  <a:lnTo>
                    <a:pt x="329" y="94"/>
                  </a:lnTo>
                  <a:lnTo>
                    <a:pt x="323" y="99"/>
                  </a:lnTo>
                  <a:lnTo>
                    <a:pt x="311" y="99"/>
                  </a:lnTo>
                  <a:lnTo>
                    <a:pt x="311" y="99"/>
                  </a:lnTo>
                  <a:lnTo>
                    <a:pt x="31" y="103"/>
                  </a:lnTo>
                  <a:lnTo>
                    <a:pt x="25" y="103"/>
                  </a:lnTo>
                  <a:lnTo>
                    <a:pt x="19" y="99"/>
                  </a:lnTo>
                  <a:lnTo>
                    <a:pt x="19" y="90"/>
                  </a:lnTo>
                  <a:lnTo>
                    <a:pt x="19" y="90"/>
                  </a:lnTo>
                  <a:lnTo>
                    <a:pt x="19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>
              <a:off x="7954200" y="4170600"/>
              <a:ext cx="101520" cy="28188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81"/>
                  </a:moveTo>
                  <a:lnTo>
                    <a:pt x="66" y="9"/>
                  </a:lnTo>
                  <a:lnTo>
                    <a:pt x="60" y="9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0"/>
                  </a:lnTo>
                  <a:lnTo>
                    <a:pt x="0" y="139"/>
                  </a:lnTo>
                  <a:lnTo>
                    <a:pt x="12" y="143"/>
                  </a:lnTo>
                  <a:lnTo>
                    <a:pt x="18" y="143"/>
                  </a:lnTo>
                  <a:lnTo>
                    <a:pt x="18" y="143"/>
                  </a:lnTo>
                  <a:lnTo>
                    <a:pt x="48" y="143"/>
                  </a:lnTo>
                  <a:lnTo>
                    <a:pt x="54" y="139"/>
                  </a:lnTo>
                  <a:lnTo>
                    <a:pt x="60" y="139"/>
                  </a:lnTo>
                  <a:lnTo>
                    <a:pt x="66" y="130"/>
                  </a:lnTo>
                  <a:lnTo>
                    <a:pt x="66" y="130"/>
                  </a:lnTo>
                  <a:lnTo>
                    <a:pt x="66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>
              <a:off x="7954200" y="4170600"/>
              <a:ext cx="101520" cy="28188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54" y="81"/>
                  </a:moveTo>
                  <a:lnTo>
                    <a:pt x="54" y="130"/>
                  </a:lnTo>
                  <a:lnTo>
                    <a:pt x="54" y="135"/>
                  </a:lnTo>
                  <a:lnTo>
                    <a:pt x="48" y="139"/>
                  </a:lnTo>
                  <a:lnTo>
                    <a:pt x="48" y="139"/>
                  </a:lnTo>
                  <a:lnTo>
                    <a:pt x="48" y="139"/>
                  </a:lnTo>
                  <a:lnTo>
                    <a:pt x="18" y="139"/>
                  </a:lnTo>
                  <a:lnTo>
                    <a:pt x="12" y="139"/>
                  </a:lnTo>
                  <a:lnTo>
                    <a:pt x="12" y="135"/>
                  </a:lnTo>
                  <a:lnTo>
                    <a:pt x="12" y="130"/>
                  </a:lnTo>
                  <a:lnTo>
                    <a:pt x="12" y="130"/>
                  </a:lnTo>
                  <a:lnTo>
                    <a:pt x="12" y="18"/>
                  </a:lnTo>
                  <a:lnTo>
                    <a:pt x="12" y="13"/>
                  </a:lnTo>
                  <a:lnTo>
                    <a:pt x="12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42" y="9"/>
                  </a:lnTo>
                  <a:lnTo>
                    <a:pt x="48" y="9"/>
                  </a:lnTo>
                  <a:lnTo>
                    <a:pt x="54" y="13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54" y="81"/>
                  </a:lnTo>
                  <a:lnTo>
                    <a:pt x="66" y="81"/>
                  </a:lnTo>
                  <a:lnTo>
                    <a:pt x="66" y="9"/>
                  </a:lnTo>
                  <a:lnTo>
                    <a:pt x="60" y="9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0"/>
                  </a:lnTo>
                  <a:lnTo>
                    <a:pt x="0" y="139"/>
                  </a:lnTo>
                  <a:lnTo>
                    <a:pt x="12" y="143"/>
                  </a:lnTo>
                  <a:lnTo>
                    <a:pt x="18" y="143"/>
                  </a:lnTo>
                  <a:lnTo>
                    <a:pt x="18" y="143"/>
                  </a:lnTo>
                  <a:lnTo>
                    <a:pt x="48" y="143"/>
                  </a:lnTo>
                  <a:lnTo>
                    <a:pt x="54" y="139"/>
                  </a:lnTo>
                  <a:lnTo>
                    <a:pt x="60" y="139"/>
                  </a:lnTo>
                  <a:lnTo>
                    <a:pt x="66" y="130"/>
                  </a:lnTo>
                  <a:lnTo>
                    <a:pt x="66" y="130"/>
                  </a:lnTo>
                  <a:lnTo>
                    <a:pt x="66" y="81"/>
                  </a:lnTo>
                  <a:lnTo>
                    <a:pt x="5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>
              <a:off x="8121600" y="4295160"/>
              <a:ext cx="158760" cy="291600"/>
            </a:xfrm>
            <a:custGeom>
              <a:avLst/>
              <a:gdLst/>
              <a:ahLst/>
              <a:rect l="l" t="t" r="r" b="b"/>
              <a:pathLst>
                <a:path w="103" h="148">
                  <a:moveTo>
                    <a:pt x="103" y="98"/>
                  </a:moveTo>
                  <a:lnTo>
                    <a:pt x="103" y="13"/>
                  </a:lnTo>
                  <a:lnTo>
                    <a:pt x="103" y="9"/>
                  </a:lnTo>
                  <a:lnTo>
                    <a:pt x="97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18" y="0"/>
                  </a:lnTo>
                  <a:lnTo>
                    <a:pt x="12" y="4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39"/>
                  </a:lnTo>
                  <a:lnTo>
                    <a:pt x="0" y="143"/>
                  </a:lnTo>
                  <a:lnTo>
                    <a:pt x="6" y="148"/>
                  </a:lnTo>
                  <a:lnTo>
                    <a:pt x="12" y="148"/>
                  </a:lnTo>
                  <a:lnTo>
                    <a:pt x="12" y="148"/>
                  </a:lnTo>
                  <a:lnTo>
                    <a:pt x="91" y="148"/>
                  </a:lnTo>
                  <a:lnTo>
                    <a:pt x="97" y="148"/>
                  </a:lnTo>
                  <a:lnTo>
                    <a:pt x="103" y="139"/>
                  </a:lnTo>
                  <a:lnTo>
                    <a:pt x="103" y="134"/>
                  </a:lnTo>
                  <a:lnTo>
                    <a:pt x="103" y="134"/>
                  </a:lnTo>
                  <a:lnTo>
                    <a:pt x="103" y="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8121600" y="4295160"/>
              <a:ext cx="158760" cy="291600"/>
            </a:xfrm>
            <a:custGeom>
              <a:avLst/>
              <a:gdLst/>
              <a:ahLst/>
              <a:rect l="l" t="t" r="r" b="b"/>
              <a:pathLst>
                <a:path w="103" h="148">
                  <a:moveTo>
                    <a:pt x="97" y="98"/>
                  </a:moveTo>
                  <a:lnTo>
                    <a:pt x="97" y="130"/>
                  </a:lnTo>
                  <a:lnTo>
                    <a:pt x="97" y="134"/>
                  </a:lnTo>
                  <a:lnTo>
                    <a:pt x="91" y="139"/>
                  </a:lnTo>
                  <a:lnTo>
                    <a:pt x="79" y="143"/>
                  </a:lnTo>
                  <a:lnTo>
                    <a:pt x="79" y="143"/>
                  </a:lnTo>
                  <a:lnTo>
                    <a:pt x="24" y="143"/>
                  </a:lnTo>
                  <a:lnTo>
                    <a:pt x="18" y="139"/>
                  </a:lnTo>
                  <a:lnTo>
                    <a:pt x="12" y="139"/>
                  </a:lnTo>
                  <a:lnTo>
                    <a:pt x="12" y="130"/>
                  </a:lnTo>
                  <a:lnTo>
                    <a:pt x="12" y="130"/>
                  </a:lnTo>
                  <a:lnTo>
                    <a:pt x="12" y="22"/>
                  </a:lnTo>
                  <a:lnTo>
                    <a:pt x="12" y="18"/>
                  </a:lnTo>
                  <a:lnTo>
                    <a:pt x="18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79" y="9"/>
                  </a:lnTo>
                  <a:lnTo>
                    <a:pt x="91" y="9"/>
                  </a:lnTo>
                  <a:lnTo>
                    <a:pt x="97" y="13"/>
                  </a:lnTo>
                  <a:lnTo>
                    <a:pt x="97" y="18"/>
                  </a:lnTo>
                  <a:lnTo>
                    <a:pt x="97" y="18"/>
                  </a:lnTo>
                  <a:lnTo>
                    <a:pt x="97" y="98"/>
                  </a:lnTo>
                  <a:lnTo>
                    <a:pt x="103" y="98"/>
                  </a:lnTo>
                  <a:lnTo>
                    <a:pt x="103" y="13"/>
                  </a:lnTo>
                  <a:lnTo>
                    <a:pt x="103" y="9"/>
                  </a:lnTo>
                  <a:lnTo>
                    <a:pt x="97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18" y="0"/>
                  </a:lnTo>
                  <a:lnTo>
                    <a:pt x="12" y="4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39"/>
                  </a:lnTo>
                  <a:lnTo>
                    <a:pt x="0" y="143"/>
                  </a:lnTo>
                  <a:lnTo>
                    <a:pt x="6" y="148"/>
                  </a:lnTo>
                  <a:lnTo>
                    <a:pt x="12" y="148"/>
                  </a:lnTo>
                  <a:lnTo>
                    <a:pt x="12" y="148"/>
                  </a:lnTo>
                  <a:lnTo>
                    <a:pt x="91" y="148"/>
                  </a:lnTo>
                  <a:lnTo>
                    <a:pt x="97" y="148"/>
                  </a:lnTo>
                  <a:lnTo>
                    <a:pt x="103" y="139"/>
                  </a:lnTo>
                  <a:lnTo>
                    <a:pt x="103" y="134"/>
                  </a:lnTo>
                  <a:lnTo>
                    <a:pt x="103" y="134"/>
                  </a:lnTo>
                  <a:lnTo>
                    <a:pt x="103" y="98"/>
                  </a:lnTo>
                  <a:lnTo>
                    <a:pt x="97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H="1">
              <a:off x="8149320" y="4312440"/>
              <a:ext cx="93960" cy="264600"/>
            </a:xfrm>
            <a:custGeom>
              <a:avLst/>
              <a:gdLst/>
              <a:ahLst/>
              <a:rect l="l" t="t" r="r" b="b"/>
              <a:pathLst>
                <a:path w="61" h="134">
                  <a:moveTo>
                    <a:pt x="61" y="31"/>
                  </a:moveTo>
                  <a:lnTo>
                    <a:pt x="61" y="0"/>
                  </a:lnTo>
                  <a:lnTo>
                    <a:pt x="0" y="0"/>
                  </a:lnTo>
                  <a:lnTo>
                    <a:pt x="0" y="134"/>
                  </a:lnTo>
                  <a:lnTo>
                    <a:pt x="61" y="134"/>
                  </a:lnTo>
                  <a:lnTo>
                    <a:pt x="61" y="103"/>
                  </a:lnTo>
                  <a:lnTo>
                    <a:pt x="55" y="103"/>
                  </a:lnTo>
                  <a:lnTo>
                    <a:pt x="55" y="125"/>
                  </a:lnTo>
                  <a:lnTo>
                    <a:pt x="6" y="130"/>
                  </a:lnTo>
                  <a:lnTo>
                    <a:pt x="6" y="89"/>
                  </a:lnTo>
                  <a:lnTo>
                    <a:pt x="55" y="89"/>
                  </a:lnTo>
                  <a:lnTo>
                    <a:pt x="55" y="103"/>
                  </a:lnTo>
                  <a:lnTo>
                    <a:pt x="61" y="103"/>
                  </a:lnTo>
                  <a:lnTo>
                    <a:pt x="61" y="67"/>
                  </a:lnTo>
                  <a:lnTo>
                    <a:pt x="55" y="67"/>
                  </a:lnTo>
                  <a:lnTo>
                    <a:pt x="55" y="85"/>
                  </a:lnTo>
                  <a:lnTo>
                    <a:pt x="6" y="85"/>
                  </a:lnTo>
                  <a:lnTo>
                    <a:pt x="6" y="49"/>
                  </a:lnTo>
                  <a:lnTo>
                    <a:pt x="55" y="49"/>
                  </a:lnTo>
                  <a:lnTo>
                    <a:pt x="55" y="67"/>
                  </a:lnTo>
                  <a:lnTo>
                    <a:pt x="61" y="67"/>
                  </a:lnTo>
                  <a:lnTo>
                    <a:pt x="61" y="31"/>
                  </a:lnTo>
                  <a:lnTo>
                    <a:pt x="55" y="31"/>
                  </a:lnTo>
                  <a:lnTo>
                    <a:pt x="55" y="45"/>
                  </a:lnTo>
                  <a:lnTo>
                    <a:pt x="6" y="49"/>
                  </a:lnTo>
                  <a:lnTo>
                    <a:pt x="6" y="9"/>
                  </a:lnTo>
                  <a:lnTo>
                    <a:pt x="55" y="4"/>
                  </a:lnTo>
                  <a:lnTo>
                    <a:pt x="55" y="31"/>
                  </a:lnTo>
                  <a:lnTo>
                    <a:pt x="6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H="1">
              <a:off x="8046360" y="4747320"/>
              <a:ext cx="9360" cy="25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13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4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H="1">
              <a:off x="8046360" y="4747320"/>
              <a:ext cx="9360" cy="25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13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4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>
              <a:off x="7531560" y="4772880"/>
              <a:ext cx="64440" cy="4500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36" y="23"/>
                  </a:moveTo>
                  <a:lnTo>
                    <a:pt x="36" y="23"/>
                  </a:lnTo>
                  <a:lnTo>
                    <a:pt x="36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9"/>
                  </a:lnTo>
                  <a:lnTo>
                    <a:pt x="36" y="5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>
              <a:off x="7531560" y="4772880"/>
              <a:ext cx="64440" cy="4500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36" y="23"/>
                  </a:moveTo>
                  <a:lnTo>
                    <a:pt x="36" y="23"/>
                  </a:lnTo>
                  <a:lnTo>
                    <a:pt x="36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9"/>
                  </a:lnTo>
                  <a:lnTo>
                    <a:pt x="36" y="5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36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>
              <a:off x="7540920" y="4782600"/>
              <a:ext cx="55440" cy="3528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24" y="18"/>
                  </a:moveTo>
                  <a:lnTo>
                    <a:pt x="30" y="13"/>
                  </a:lnTo>
                  <a:lnTo>
                    <a:pt x="30" y="13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36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3"/>
                  </a:lnTo>
                  <a:lnTo>
                    <a:pt x="6" y="13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24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H="1">
              <a:off x="7540920" y="4782600"/>
              <a:ext cx="55440" cy="3528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24" y="18"/>
                  </a:moveTo>
                  <a:lnTo>
                    <a:pt x="30" y="13"/>
                  </a:lnTo>
                  <a:lnTo>
                    <a:pt x="30" y="13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36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3"/>
                  </a:lnTo>
                  <a:lnTo>
                    <a:pt x="6" y="13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24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H="1">
              <a:off x="6977520" y="4790520"/>
              <a:ext cx="18360" cy="352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18"/>
                  </a:moveTo>
                  <a:lnTo>
                    <a:pt x="12" y="18"/>
                  </a:lnTo>
                  <a:lnTo>
                    <a:pt x="12" y="14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H="1">
              <a:off x="6977520" y="4790520"/>
              <a:ext cx="18360" cy="352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6" y="18"/>
                  </a:moveTo>
                  <a:lnTo>
                    <a:pt x="12" y="18"/>
                  </a:lnTo>
                  <a:lnTo>
                    <a:pt x="12" y="14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H="1">
              <a:off x="7389360" y="4747320"/>
              <a:ext cx="65880" cy="2520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37" y="13"/>
                  </a:moveTo>
                  <a:lnTo>
                    <a:pt x="37" y="13"/>
                  </a:lnTo>
                  <a:lnTo>
                    <a:pt x="37" y="13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43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3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3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7389360" y="4747320"/>
              <a:ext cx="65880" cy="2520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37" y="13"/>
                  </a:moveTo>
                  <a:lnTo>
                    <a:pt x="37" y="13"/>
                  </a:lnTo>
                  <a:lnTo>
                    <a:pt x="37" y="13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43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3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37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H="1">
              <a:off x="6029640" y="4800600"/>
              <a:ext cx="66240" cy="3528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31" y="18"/>
                  </a:moveTo>
                  <a:lnTo>
                    <a:pt x="37" y="18"/>
                  </a:lnTo>
                  <a:lnTo>
                    <a:pt x="43" y="13"/>
                  </a:lnTo>
                  <a:lnTo>
                    <a:pt x="43" y="13"/>
                  </a:lnTo>
                  <a:lnTo>
                    <a:pt x="43" y="13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37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31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H="1">
              <a:off x="6029640" y="4800600"/>
              <a:ext cx="66240" cy="3528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31" y="18"/>
                  </a:moveTo>
                  <a:lnTo>
                    <a:pt x="37" y="18"/>
                  </a:lnTo>
                  <a:lnTo>
                    <a:pt x="43" y="13"/>
                  </a:lnTo>
                  <a:lnTo>
                    <a:pt x="43" y="13"/>
                  </a:lnTo>
                  <a:lnTo>
                    <a:pt x="43" y="13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37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31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H="1">
              <a:off x="6968880" y="4480560"/>
              <a:ext cx="27360" cy="7092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18" y="36"/>
                  </a:moveTo>
                  <a:lnTo>
                    <a:pt x="18" y="0"/>
                  </a:lnTo>
                  <a:lnTo>
                    <a:pt x="0" y="4"/>
                  </a:lnTo>
                  <a:lnTo>
                    <a:pt x="0" y="36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>
              <a:off x="6968880" y="4480560"/>
              <a:ext cx="27360" cy="7092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18" y="36"/>
                  </a:moveTo>
                  <a:lnTo>
                    <a:pt x="18" y="0"/>
                  </a:lnTo>
                  <a:lnTo>
                    <a:pt x="0" y="4"/>
                  </a:lnTo>
                  <a:lnTo>
                    <a:pt x="0" y="36"/>
                  </a:lnTo>
                  <a:lnTo>
                    <a:pt x="18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>
              <a:off x="6254640" y="3814920"/>
              <a:ext cx="2120040" cy="230760"/>
            </a:xfrm>
            <a:custGeom>
              <a:avLst/>
              <a:gdLst/>
              <a:ahLst/>
              <a:rect l="l" t="t" r="r" b="b"/>
              <a:pathLst>
                <a:path w="1375" h="117">
                  <a:moveTo>
                    <a:pt x="1375" y="0"/>
                  </a:moveTo>
                  <a:lnTo>
                    <a:pt x="1375" y="18"/>
                  </a:lnTo>
                  <a:lnTo>
                    <a:pt x="0" y="117"/>
                  </a:lnTo>
                  <a:lnTo>
                    <a:pt x="0" y="99"/>
                  </a:lnTo>
                  <a:lnTo>
                    <a:pt x="13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H="1">
              <a:off x="6254640" y="3814920"/>
              <a:ext cx="2120040" cy="230760"/>
            </a:xfrm>
            <a:custGeom>
              <a:avLst/>
              <a:gdLst/>
              <a:ahLst/>
              <a:rect l="l" t="t" r="r" b="b"/>
              <a:pathLst>
                <a:path w="1375" h="117">
                  <a:moveTo>
                    <a:pt x="1375" y="0"/>
                  </a:moveTo>
                  <a:lnTo>
                    <a:pt x="1375" y="18"/>
                  </a:lnTo>
                  <a:lnTo>
                    <a:pt x="0" y="117"/>
                  </a:lnTo>
                  <a:lnTo>
                    <a:pt x="0" y="99"/>
                  </a:lnTo>
                  <a:lnTo>
                    <a:pt x="137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H="1">
              <a:off x="5007600" y="5128200"/>
              <a:ext cx="55440" cy="17280"/>
            </a:xfrm>
            <a:custGeom>
              <a:avLst/>
              <a:gdLst/>
              <a:ahLst/>
              <a:rect l="l" t="t" r="r" b="b"/>
              <a:pathLst>
                <a:path w="36" h="9">
                  <a:moveTo>
                    <a:pt x="36" y="9"/>
                  </a:moveTo>
                  <a:lnTo>
                    <a:pt x="24" y="4"/>
                  </a:lnTo>
                  <a:lnTo>
                    <a:pt x="6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H="1">
              <a:off x="6010920" y="3957480"/>
              <a:ext cx="55080" cy="17280"/>
            </a:xfrm>
            <a:custGeom>
              <a:avLst/>
              <a:gdLst/>
              <a:ahLst/>
              <a:rect l="l" t="t" r="r" b="b"/>
              <a:pathLst>
                <a:path w="36" h="9">
                  <a:moveTo>
                    <a:pt x="30" y="9"/>
                  </a:moveTo>
                  <a:lnTo>
                    <a:pt x="36" y="9"/>
                  </a:lnTo>
                  <a:lnTo>
                    <a:pt x="36" y="9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H="1">
              <a:off x="4988880" y="3957480"/>
              <a:ext cx="64440" cy="25200"/>
            </a:xfrm>
            <a:custGeom>
              <a:avLst/>
              <a:gdLst/>
              <a:ahLst/>
              <a:rect l="l" t="t" r="r" b="b"/>
              <a:pathLst>
                <a:path w="42" h="13">
                  <a:moveTo>
                    <a:pt x="30" y="13"/>
                  </a:moveTo>
                  <a:lnTo>
                    <a:pt x="36" y="13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5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3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7032960" y="4452480"/>
              <a:ext cx="18360" cy="142200"/>
            </a:xfrm>
            <a:custGeom>
              <a:avLst/>
              <a:gdLst/>
              <a:ahLst/>
              <a:rect l="l" t="t" r="r" b="b"/>
              <a:pathLst>
                <a:path w="12" h="72">
                  <a:moveTo>
                    <a:pt x="6" y="72"/>
                  </a:moveTo>
                  <a:lnTo>
                    <a:pt x="6" y="72"/>
                  </a:lnTo>
                  <a:lnTo>
                    <a:pt x="12" y="72"/>
                  </a:lnTo>
                  <a:lnTo>
                    <a:pt x="12" y="68"/>
                  </a:lnTo>
                  <a:lnTo>
                    <a:pt x="12" y="68"/>
                  </a:lnTo>
                  <a:lnTo>
                    <a:pt x="12" y="63"/>
                  </a:lnTo>
                  <a:lnTo>
                    <a:pt x="12" y="50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12" y="23"/>
                  </a:lnTo>
                  <a:lnTo>
                    <a:pt x="12" y="1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5"/>
                  </a:lnTo>
                  <a:lnTo>
                    <a:pt x="6" y="5"/>
                  </a:lnTo>
                  <a:lnTo>
                    <a:pt x="0" y="14"/>
                  </a:lnTo>
                  <a:lnTo>
                    <a:pt x="0" y="2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50"/>
                  </a:lnTo>
                  <a:lnTo>
                    <a:pt x="0" y="63"/>
                  </a:lnTo>
                  <a:lnTo>
                    <a:pt x="6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H="1">
              <a:off x="7032960" y="4452480"/>
              <a:ext cx="18360" cy="142200"/>
            </a:xfrm>
            <a:custGeom>
              <a:avLst/>
              <a:gdLst/>
              <a:ahLst/>
              <a:rect l="l" t="t" r="r" b="b"/>
              <a:pathLst>
                <a:path w="12" h="72">
                  <a:moveTo>
                    <a:pt x="6" y="72"/>
                  </a:moveTo>
                  <a:lnTo>
                    <a:pt x="6" y="72"/>
                  </a:lnTo>
                  <a:lnTo>
                    <a:pt x="12" y="72"/>
                  </a:lnTo>
                  <a:lnTo>
                    <a:pt x="12" y="68"/>
                  </a:lnTo>
                  <a:lnTo>
                    <a:pt x="12" y="68"/>
                  </a:lnTo>
                  <a:lnTo>
                    <a:pt x="12" y="63"/>
                  </a:lnTo>
                  <a:lnTo>
                    <a:pt x="12" y="50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12" y="23"/>
                  </a:lnTo>
                  <a:lnTo>
                    <a:pt x="12" y="1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5"/>
                  </a:lnTo>
                  <a:lnTo>
                    <a:pt x="6" y="5"/>
                  </a:lnTo>
                  <a:lnTo>
                    <a:pt x="0" y="14"/>
                  </a:lnTo>
                  <a:lnTo>
                    <a:pt x="0" y="2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50"/>
                  </a:lnTo>
                  <a:lnTo>
                    <a:pt x="0" y="63"/>
                  </a:lnTo>
                  <a:lnTo>
                    <a:pt x="6" y="7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H="1">
              <a:off x="8093880" y="4462920"/>
              <a:ext cx="18360" cy="141840"/>
            </a:xfrm>
            <a:custGeom>
              <a:avLst/>
              <a:gdLst/>
              <a:ahLst/>
              <a:rect l="l" t="t" r="r" b="b"/>
              <a:pathLst>
                <a:path w="12" h="72">
                  <a:moveTo>
                    <a:pt x="6" y="72"/>
                  </a:moveTo>
                  <a:lnTo>
                    <a:pt x="6" y="72"/>
                  </a:lnTo>
                  <a:lnTo>
                    <a:pt x="6" y="72"/>
                  </a:lnTo>
                  <a:lnTo>
                    <a:pt x="12" y="67"/>
                  </a:lnTo>
                  <a:lnTo>
                    <a:pt x="12" y="67"/>
                  </a:lnTo>
                  <a:lnTo>
                    <a:pt x="12" y="63"/>
                  </a:lnTo>
                  <a:lnTo>
                    <a:pt x="6" y="49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6" y="22"/>
                  </a:lnTo>
                  <a:lnTo>
                    <a:pt x="6" y="13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13"/>
                  </a:lnTo>
                  <a:lnTo>
                    <a:pt x="0" y="2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49"/>
                  </a:lnTo>
                  <a:lnTo>
                    <a:pt x="6" y="63"/>
                  </a:lnTo>
                  <a:lnTo>
                    <a:pt x="6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>
              <a:off x="8093880" y="4462920"/>
              <a:ext cx="18360" cy="141840"/>
            </a:xfrm>
            <a:custGeom>
              <a:avLst/>
              <a:gdLst/>
              <a:ahLst/>
              <a:rect l="l" t="t" r="r" b="b"/>
              <a:pathLst>
                <a:path w="12" h="72">
                  <a:moveTo>
                    <a:pt x="6" y="72"/>
                  </a:moveTo>
                  <a:lnTo>
                    <a:pt x="6" y="72"/>
                  </a:lnTo>
                  <a:lnTo>
                    <a:pt x="6" y="72"/>
                  </a:lnTo>
                  <a:lnTo>
                    <a:pt x="12" y="67"/>
                  </a:lnTo>
                  <a:lnTo>
                    <a:pt x="12" y="67"/>
                  </a:lnTo>
                  <a:lnTo>
                    <a:pt x="12" y="63"/>
                  </a:lnTo>
                  <a:lnTo>
                    <a:pt x="6" y="49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6" y="22"/>
                  </a:lnTo>
                  <a:lnTo>
                    <a:pt x="6" y="13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13"/>
                  </a:lnTo>
                  <a:lnTo>
                    <a:pt x="0" y="2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49"/>
                  </a:lnTo>
                  <a:lnTo>
                    <a:pt x="6" y="63"/>
                  </a:lnTo>
                  <a:lnTo>
                    <a:pt x="6" y="7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H="1">
              <a:off x="8375040" y="4711320"/>
              <a:ext cx="47520" cy="2520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25" y="13"/>
                  </a:moveTo>
                  <a:lnTo>
                    <a:pt x="31" y="13"/>
                  </a:lnTo>
                  <a:lnTo>
                    <a:pt x="31" y="9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9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25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8375040" y="4711320"/>
              <a:ext cx="47520" cy="2520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25" y="13"/>
                  </a:moveTo>
                  <a:lnTo>
                    <a:pt x="31" y="13"/>
                  </a:lnTo>
                  <a:lnTo>
                    <a:pt x="31" y="9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9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25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8037000" y="4506480"/>
              <a:ext cx="18360" cy="5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H="1">
              <a:off x="8037000" y="4506480"/>
              <a:ext cx="18360" cy="53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H="1">
              <a:off x="5992920" y="3825000"/>
              <a:ext cx="167760" cy="1328760"/>
            </a:xfrm>
            <a:custGeom>
              <a:avLst/>
              <a:gdLst/>
              <a:ahLst/>
              <a:rect l="l" t="t" r="r" b="b"/>
              <a:pathLst>
                <a:path w="109" h="673">
                  <a:moveTo>
                    <a:pt x="97" y="673"/>
                  </a:moveTo>
                  <a:lnTo>
                    <a:pt x="103" y="669"/>
                  </a:lnTo>
                  <a:lnTo>
                    <a:pt x="103" y="664"/>
                  </a:lnTo>
                  <a:lnTo>
                    <a:pt x="109" y="660"/>
                  </a:lnTo>
                  <a:lnTo>
                    <a:pt x="109" y="660"/>
                  </a:lnTo>
                  <a:lnTo>
                    <a:pt x="103" y="597"/>
                  </a:lnTo>
                  <a:lnTo>
                    <a:pt x="103" y="498"/>
                  </a:lnTo>
                  <a:lnTo>
                    <a:pt x="103" y="426"/>
                  </a:lnTo>
                  <a:lnTo>
                    <a:pt x="103" y="426"/>
                  </a:lnTo>
                  <a:lnTo>
                    <a:pt x="97" y="408"/>
                  </a:lnTo>
                  <a:lnTo>
                    <a:pt x="91" y="359"/>
                  </a:lnTo>
                  <a:lnTo>
                    <a:pt x="79" y="296"/>
                  </a:lnTo>
                  <a:lnTo>
                    <a:pt x="61" y="224"/>
                  </a:lnTo>
                  <a:lnTo>
                    <a:pt x="42" y="152"/>
                  </a:lnTo>
                  <a:lnTo>
                    <a:pt x="30" y="85"/>
                  </a:lnTo>
                  <a:lnTo>
                    <a:pt x="18" y="40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2" y="9"/>
                  </a:lnTo>
                  <a:lnTo>
                    <a:pt x="6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>
              <a:off x="5992920" y="3814920"/>
              <a:ext cx="167760" cy="1338480"/>
            </a:xfrm>
            <a:custGeom>
              <a:avLst/>
              <a:gdLst/>
              <a:ahLst/>
              <a:rect l="l" t="t" r="r" b="b"/>
              <a:pathLst>
                <a:path w="109" h="678">
                  <a:moveTo>
                    <a:pt x="103" y="678"/>
                  </a:moveTo>
                  <a:lnTo>
                    <a:pt x="103" y="678"/>
                  </a:lnTo>
                  <a:lnTo>
                    <a:pt x="109" y="669"/>
                  </a:lnTo>
                  <a:lnTo>
                    <a:pt x="109" y="669"/>
                  </a:lnTo>
                  <a:lnTo>
                    <a:pt x="109" y="669"/>
                  </a:lnTo>
                  <a:lnTo>
                    <a:pt x="109" y="602"/>
                  </a:lnTo>
                  <a:lnTo>
                    <a:pt x="109" y="503"/>
                  </a:lnTo>
                  <a:lnTo>
                    <a:pt x="109" y="431"/>
                  </a:lnTo>
                  <a:lnTo>
                    <a:pt x="109" y="431"/>
                  </a:lnTo>
                  <a:lnTo>
                    <a:pt x="103" y="418"/>
                  </a:lnTo>
                  <a:lnTo>
                    <a:pt x="97" y="382"/>
                  </a:lnTo>
                  <a:lnTo>
                    <a:pt x="85" y="328"/>
                  </a:lnTo>
                  <a:lnTo>
                    <a:pt x="73" y="265"/>
                  </a:lnTo>
                  <a:lnTo>
                    <a:pt x="61" y="198"/>
                  </a:lnTo>
                  <a:lnTo>
                    <a:pt x="42" y="135"/>
                  </a:lnTo>
                  <a:lnTo>
                    <a:pt x="30" y="81"/>
                  </a:lnTo>
                  <a:lnTo>
                    <a:pt x="24" y="41"/>
                  </a:lnTo>
                  <a:lnTo>
                    <a:pt x="18" y="23"/>
                  </a:lnTo>
                  <a:lnTo>
                    <a:pt x="18" y="23"/>
                  </a:lnTo>
                  <a:lnTo>
                    <a:pt x="18" y="14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6" y="5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H="1">
              <a:off x="6939360" y="3779640"/>
              <a:ext cx="20160" cy="3528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0"/>
                  </a:moveTo>
                  <a:lnTo>
                    <a:pt x="7" y="5"/>
                  </a:lnTo>
                  <a:lnTo>
                    <a:pt x="7" y="14"/>
                  </a:lnTo>
                  <a:lnTo>
                    <a:pt x="0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H="1">
              <a:off x="6930000" y="3779640"/>
              <a:ext cx="9000" cy="3528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0"/>
                  </a:moveTo>
                  <a:lnTo>
                    <a:pt x="6" y="5"/>
                  </a:lnTo>
                  <a:lnTo>
                    <a:pt x="0" y="9"/>
                  </a:lnTo>
                  <a:lnTo>
                    <a:pt x="0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>
              <a:off x="6920640" y="3771720"/>
              <a:ext cx="9360" cy="4320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6" y="0"/>
                  </a:moveTo>
                  <a:lnTo>
                    <a:pt x="0" y="4"/>
                  </a:lnTo>
                  <a:lnTo>
                    <a:pt x="0" y="13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6911280" y="3771720"/>
              <a:ext cx="9000" cy="4320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6" y="0"/>
                  </a:moveTo>
                  <a:lnTo>
                    <a:pt x="6" y="4"/>
                  </a:lnTo>
                  <a:lnTo>
                    <a:pt x="6" y="13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H="1">
              <a:off x="6902280" y="3771720"/>
              <a:ext cx="9360" cy="4320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6" y="0"/>
                  </a:moveTo>
                  <a:lnTo>
                    <a:pt x="6" y="4"/>
                  </a:lnTo>
                  <a:lnTo>
                    <a:pt x="0" y="13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>
              <a:off x="6891840" y="3761640"/>
              <a:ext cx="1440" cy="45360"/>
            </a:xfrm>
            <a:custGeom>
              <a:avLst/>
              <a:gdLst/>
              <a:ahLst/>
              <a:rect l="l" t="t" r="r" b="b"/>
              <a:pathLst>
                <a:path w="0" h="23">
                  <a:moveTo>
                    <a:pt x="0" y="0"/>
                  </a:moveTo>
                  <a:lnTo>
                    <a:pt x="0" y="9"/>
                  </a:lnTo>
                  <a:lnTo>
                    <a:pt x="0" y="18"/>
                  </a:lnTo>
                  <a:lnTo>
                    <a:pt x="0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H="1">
              <a:off x="6874200" y="3761640"/>
              <a:ext cx="9000" cy="4536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6" y="0"/>
                  </a:moveTo>
                  <a:lnTo>
                    <a:pt x="0" y="9"/>
                  </a:lnTo>
                  <a:lnTo>
                    <a:pt x="0" y="18"/>
                  </a:lnTo>
                  <a:lnTo>
                    <a:pt x="0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H="1">
              <a:off x="6865200" y="3761640"/>
              <a:ext cx="9000" cy="4536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6" y="0"/>
                  </a:moveTo>
                  <a:lnTo>
                    <a:pt x="0" y="9"/>
                  </a:lnTo>
                  <a:lnTo>
                    <a:pt x="0" y="18"/>
                  </a:lnTo>
                  <a:lnTo>
                    <a:pt x="0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>
              <a:off x="6856200" y="3761640"/>
              <a:ext cx="9360" cy="4536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6" y="0"/>
                  </a:moveTo>
                  <a:lnTo>
                    <a:pt x="6" y="9"/>
                  </a:lnTo>
                  <a:lnTo>
                    <a:pt x="6" y="14"/>
                  </a:lnTo>
                  <a:lnTo>
                    <a:pt x="0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H="1">
              <a:off x="6836040" y="3761640"/>
              <a:ext cx="19800" cy="4536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0"/>
                  </a:moveTo>
                  <a:lnTo>
                    <a:pt x="7" y="9"/>
                  </a:lnTo>
                  <a:lnTo>
                    <a:pt x="0" y="14"/>
                  </a:lnTo>
                  <a:lnTo>
                    <a:pt x="0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H="1">
              <a:off x="6817320" y="3761640"/>
              <a:ext cx="9000" cy="3528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0"/>
                  </a:moveTo>
                  <a:lnTo>
                    <a:pt x="6" y="5"/>
                  </a:lnTo>
                  <a:lnTo>
                    <a:pt x="0" y="14"/>
                  </a:lnTo>
                  <a:lnTo>
                    <a:pt x="0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6808320" y="3761640"/>
              <a:ext cx="9360" cy="3528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0"/>
                  </a:moveTo>
                  <a:lnTo>
                    <a:pt x="6" y="5"/>
                  </a:lnTo>
                  <a:lnTo>
                    <a:pt x="0" y="14"/>
                  </a:lnTo>
                  <a:lnTo>
                    <a:pt x="0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H="1">
              <a:off x="6797520" y="3761640"/>
              <a:ext cx="1440" cy="35280"/>
            </a:xfrm>
            <a:custGeom>
              <a:avLst/>
              <a:gdLst/>
              <a:ahLst/>
              <a:rect l="l" t="t" r="r" b="b"/>
              <a:pathLst>
                <a:path w="0" h="18">
                  <a:moveTo>
                    <a:pt x="0" y="0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H="1">
              <a:off x="6930000" y="3850920"/>
              <a:ext cx="29160" cy="2700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0" y="0"/>
                  </a:moveTo>
                  <a:lnTo>
                    <a:pt x="7" y="0"/>
                  </a:lnTo>
                  <a:lnTo>
                    <a:pt x="13" y="9"/>
                  </a:lnTo>
                  <a:lnTo>
                    <a:pt x="19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H="1">
              <a:off x="6930000" y="3842640"/>
              <a:ext cx="9000" cy="3528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6" y="4"/>
                  </a:lnTo>
                  <a:lnTo>
                    <a:pt x="6" y="9"/>
                  </a:lnTo>
                  <a:lnTo>
                    <a:pt x="6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H="1">
              <a:off x="6911280" y="3842640"/>
              <a:ext cx="18360" cy="352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0"/>
                  </a:moveTo>
                  <a:lnTo>
                    <a:pt x="0" y="4"/>
                  </a:lnTo>
                  <a:lnTo>
                    <a:pt x="6" y="9"/>
                  </a:lnTo>
                  <a:lnTo>
                    <a:pt x="12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H="1">
              <a:off x="6902280" y="3842640"/>
              <a:ext cx="9360" cy="3528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0" y="4"/>
                  </a:lnTo>
                  <a:lnTo>
                    <a:pt x="0" y="9"/>
                  </a:lnTo>
                  <a:lnTo>
                    <a:pt x="6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6892920" y="3842640"/>
              <a:ext cx="18360" cy="2520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0"/>
                  </a:moveTo>
                  <a:lnTo>
                    <a:pt x="6" y="4"/>
                  </a:lnTo>
                  <a:lnTo>
                    <a:pt x="12" y="9"/>
                  </a:lnTo>
                  <a:lnTo>
                    <a:pt x="12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>
              <a:off x="6874560" y="3842640"/>
              <a:ext cx="18360" cy="2520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0"/>
                  </a:moveTo>
                  <a:lnTo>
                    <a:pt x="0" y="4"/>
                  </a:lnTo>
                  <a:lnTo>
                    <a:pt x="6" y="4"/>
                  </a:lnTo>
                  <a:lnTo>
                    <a:pt x="12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 flipH="1">
              <a:off x="6874200" y="3832920"/>
              <a:ext cx="9000" cy="3528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6" y="9"/>
                  </a:lnTo>
                  <a:lnTo>
                    <a:pt x="6" y="9"/>
                  </a:lnTo>
                  <a:lnTo>
                    <a:pt x="6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H="1">
              <a:off x="6855840" y="3832920"/>
              <a:ext cx="18360" cy="352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0"/>
                  </a:moveTo>
                  <a:lnTo>
                    <a:pt x="6" y="9"/>
                  </a:lnTo>
                  <a:lnTo>
                    <a:pt x="12" y="9"/>
                  </a:lnTo>
                  <a:lnTo>
                    <a:pt x="12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H="1">
              <a:off x="6836040" y="3832920"/>
              <a:ext cx="19800" cy="3528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0" y="0"/>
                  </a:moveTo>
                  <a:lnTo>
                    <a:pt x="0" y="5"/>
                  </a:lnTo>
                  <a:lnTo>
                    <a:pt x="7" y="9"/>
                  </a:lnTo>
                  <a:lnTo>
                    <a:pt x="13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 flipH="1">
              <a:off x="6835680" y="3832920"/>
              <a:ext cx="9000" cy="3528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6" y="5"/>
                  </a:lnTo>
                  <a:lnTo>
                    <a:pt x="6" y="9"/>
                  </a:lnTo>
                  <a:lnTo>
                    <a:pt x="6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>
              <a:off x="6798960" y="3832920"/>
              <a:ext cx="18360" cy="277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0"/>
                  </a:moveTo>
                  <a:lnTo>
                    <a:pt x="0" y="5"/>
                  </a:lnTo>
                  <a:lnTo>
                    <a:pt x="6" y="9"/>
                  </a:lnTo>
                  <a:lnTo>
                    <a:pt x="12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 flipH="1">
              <a:off x="6789240" y="3832920"/>
              <a:ext cx="18360" cy="277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0"/>
                  </a:moveTo>
                  <a:lnTo>
                    <a:pt x="6" y="5"/>
                  </a:lnTo>
                  <a:lnTo>
                    <a:pt x="6" y="9"/>
                  </a:lnTo>
                  <a:lnTo>
                    <a:pt x="12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 flipH="1">
              <a:off x="6780240" y="3832920"/>
              <a:ext cx="18360" cy="277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0"/>
                  </a:moveTo>
                  <a:lnTo>
                    <a:pt x="6" y="5"/>
                  </a:lnTo>
                  <a:lnTo>
                    <a:pt x="6" y="9"/>
                  </a:lnTo>
                  <a:lnTo>
                    <a:pt x="12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flipH="1">
              <a:off x="8045280" y="4506480"/>
              <a:ext cx="1080" cy="45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H="1">
              <a:off x="7756200" y="4905000"/>
              <a:ext cx="83160" cy="134280"/>
            </a:xfrm>
            <a:custGeom>
              <a:avLst/>
              <a:gdLst/>
              <a:ahLst/>
              <a:rect l="l" t="t" r="r" b="b"/>
              <a:pathLst>
                <a:path w="54" h="68">
                  <a:moveTo>
                    <a:pt x="0" y="68"/>
                  </a:moveTo>
                  <a:lnTo>
                    <a:pt x="0" y="50"/>
                  </a:lnTo>
                  <a:lnTo>
                    <a:pt x="18" y="18"/>
                  </a:lnTo>
                  <a:lnTo>
                    <a:pt x="54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>
              <a:off x="7568280" y="4932720"/>
              <a:ext cx="84960" cy="124200"/>
            </a:xfrm>
            <a:custGeom>
              <a:avLst/>
              <a:gdLst/>
              <a:ahLst/>
              <a:rect l="l" t="t" r="r" b="b"/>
              <a:pathLst>
                <a:path w="55" h="63">
                  <a:moveTo>
                    <a:pt x="0" y="63"/>
                  </a:moveTo>
                  <a:lnTo>
                    <a:pt x="6" y="49"/>
                  </a:lnTo>
                  <a:lnTo>
                    <a:pt x="25" y="18"/>
                  </a:lnTo>
                  <a:lnTo>
                    <a:pt x="55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845400" y="4259160"/>
              <a:ext cx="66240" cy="53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875280" y="4295160"/>
              <a:ext cx="1836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884280" y="4277160"/>
              <a:ext cx="2772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981560" y="4231800"/>
              <a:ext cx="55440" cy="45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981920" y="4259160"/>
              <a:ext cx="3672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8000280" y="4231800"/>
              <a:ext cx="2736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8188920" y="4365720"/>
              <a:ext cx="1836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8179560" y="4356000"/>
              <a:ext cx="18360" cy="35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 flipH="1">
              <a:off x="5110560" y="3796920"/>
              <a:ext cx="9360" cy="3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H="1" flipV="1">
              <a:off x="5109480" y="3522600"/>
              <a:ext cx="1080" cy="27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H="1">
              <a:off x="7586640" y="3842640"/>
              <a:ext cx="562680" cy="106560"/>
            </a:xfrm>
            <a:custGeom>
              <a:avLst/>
              <a:gdLst/>
              <a:ahLst/>
              <a:rect l="l" t="t" r="r" b="b"/>
              <a:pathLst>
                <a:path w="365" h="54">
                  <a:moveTo>
                    <a:pt x="365" y="36"/>
                  </a:moveTo>
                  <a:lnTo>
                    <a:pt x="353" y="22"/>
                  </a:lnTo>
                  <a:lnTo>
                    <a:pt x="334" y="9"/>
                  </a:lnTo>
                  <a:lnTo>
                    <a:pt x="298" y="4"/>
                  </a:lnTo>
                  <a:lnTo>
                    <a:pt x="298" y="4"/>
                  </a:lnTo>
                  <a:lnTo>
                    <a:pt x="188" y="0"/>
                  </a:lnTo>
                  <a:lnTo>
                    <a:pt x="97" y="4"/>
                  </a:lnTo>
                  <a:lnTo>
                    <a:pt x="48" y="9"/>
                  </a:lnTo>
                  <a:lnTo>
                    <a:pt x="48" y="9"/>
                  </a:lnTo>
                  <a:lnTo>
                    <a:pt x="18" y="18"/>
                  </a:lnTo>
                  <a:lnTo>
                    <a:pt x="6" y="22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1" y="49"/>
                  </a:lnTo>
                  <a:lnTo>
                    <a:pt x="127" y="40"/>
                  </a:lnTo>
                  <a:lnTo>
                    <a:pt x="176" y="36"/>
                  </a:lnTo>
                  <a:lnTo>
                    <a:pt x="176" y="36"/>
                  </a:lnTo>
                  <a:lnTo>
                    <a:pt x="231" y="36"/>
                  </a:lnTo>
                  <a:lnTo>
                    <a:pt x="298" y="36"/>
                  </a:lnTo>
                  <a:lnTo>
                    <a:pt x="365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H="1">
              <a:off x="7586640" y="3842640"/>
              <a:ext cx="562680" cy="106560"/>
            </a:xfrm>
            <a:custGeom>
              <a:avLst/>
              <a:gdLst/>
              <a:ahLst/>
              <a:rect l="l" t="t" r="r" b="b"/>
              <a:pathLst>
                <a:path w="365" h="54">
                  <a:moveTo>
                    <a:pt x="365" y="36"/>
                  </a:moveTo>
                  <a:lnTo>
                    <a:pt x="353" y="22"/>
                  </a:lnTo>
                  <a:lnTo>
                    <a:pt x="334" y="9"/>
                  </a:lnTo>
                  <a:lnTo>
                    <a:pt x="298" y="4"/>
                  </a:lnTo>
                  <a:lnTo>
                    <a:pt x="298" y="4"/>
                  </a:lnTo>
                  <a:lnTo>
                    <a:pt x="188" y="0"/>
                  </a:lnTo>
                  <a:lnTo>
                    <a:pt x="97" y="4"/>
                  </a:lnTo>
                  <a:lnTo>
                    <a:pt x="48" y="9"/>
                  </a:lnTo>
                  <a:lnTo>
                    <a:pt x="48" y="9"/>
                  </a:lnTo>
                  <a:lnTo>
                    <a:pt x="18" y="18"/>
                  </a:lnTo>
                  <a:lnTo>
                    <a:pt x="6" y="22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1" y="49"/>
                  </a:lnTo>
                  <a:lnTo>
                    <a:pt x="127" y="40"/>
                  </a:lnTo>
                  <a:lnTo>
                    <a:pt x="176" y="36"/>
                  </a:lnTo>
                  <a:lnTo>
                    <a:pt x="176" y="36"/>
                  </a:lnTo>
                  <a:lnTo>
                    <a:pt x="231" y="36"/>
                  </a:lnTo>
                  <a:lnTo>
                    <a:pt x="298" y="36"/>
                  </a:lnTo>
                  <a:lnTo>
                    <a:pt x="365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H="1">
              <a:off x="7578000" y="3913920"/>
              <a:ext cx="571680" cy="78480"/>
            </a:xfrm>
            <a:custGeom>
              <a:avLst/>
              <a:gdLst/>
              <a:ahLst/>
              <a:rect l="l" t="t" r="r" b="b"/>
              <a:pathLst>
                <a:path w="371" h="40">
                  <a:moveTo>
                    <a:pt x="0" y="18"/>
                  </a:moveTo>
                  <a:lnTo>
                    <a:pt x="6" y="22"/>
                  </a:lnTo>
                  <a:lnTo>
                    <a:pt x="6" y="31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97" y="31"/>
                  </a:lnTo>
                  <a:lnTo>
                    <a:pt x="267" y="22"/>
                  </a:lnTo>
                  <a:lnTo>
                    <a:pt x="371" y="13"/>
                  </a:lnTo>
                  <a:lnTo>
                    <a:pt x="371" y="13"/>
                  </a:lnTo>
                  <a:lnTo>
                    <a:pt x="371" y="9"/>
                  </a:lnTo>
                  <a:lnTo>
                    <a:pt x="371" y="4"/>
                  </a:lnTo>
                  <a:lnTo>
                    <a:pt x="365" y="0"/>
                  </a:lnTo>
                  <a:lnTo>
                    <a:pt x="365" y="0"/>
                  </a:lnTo>
                  <a:lnTo>
                    <a:pt x="304" y="0"/>
                  </a:lnTo>
                  <a:lnTo>
                    <a:pt x="231" y="0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115" y="9"/>
                  </a:lnTo>
                  <a:lnTo>
                    <a:pt x="36" y="13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H="1">
              <a:off x="7578000" y="3913920"/>
              <a:ext cx="571680" cy="78480"/>
            </a:xfrm>
            <a:custGeom>
              <a:avLst/>
              <a:gdLst/>
              <a:ahLst/>
              <a:rect l="l" t="t" r="r" b="b"/>
              <a:pathLst>
                <a:path w="371" h="40">
                  <a:moveTo>
                    <a:pt x="0" y="18"/>
                  </a:moveTo>
                  <a:lnTo>
                    <a:pt x="6" y="22"/>
                  </a:lnTo>
                  <a:lnTo>
                    <a:pt x="6" y="31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97" y="31"/>
                  </a:lnTo>
                  <a:lnTo>
                    <a:pt x="267" y="22"/>
                  </a:lnTo>
                  <a:lnTo>
                    <a:pt x="371" y="13"/>
                  </a:lnTo>
                  <a:lnTo>
                    <a:pt x="371" y="13"/>
                  </a:lnTo>
                  <a:lnTo>
                    <a:pt x="371" y="9"/>
                  </a:lnTo>
                  <a:lnTo>
                    <a:pt x="371" y="4"/>
                  </a:lnTo>
                  <a:lnTo>
                    <a:pt x="365" y="0"/>
                  </a:lnTo>
                  <a:lnTo>
                    <a:pt x="365" y="0"/>
                  </a:lnTo>
                  <a:lnTo>
                    <a:pt x="304" y="0"/>
                  </a:lnTo>
                  <a:lnTo>
                    <a:pt x="231" y="0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115" y="9"/>
                  </a:lnTo>
                  <a:lnTo>
                    <a:pt x="36" y="13"/>
                  </a:lnTo>
                  <a:lnTo>
                    <a:pt x="0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 flipH="1">
              <a:off x="8121960" y="3886200"/>
              <a:ext cx="9360" cy="4500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6" y="0"/>
                  </a:moveTo>
                  <a:lnTo>
                    <a:pt x="6" y="5"/>
                  </a:lnTo>
                  <a:lnTo>
                    <a:pt x="6" y="14"/>
                  </a:lnTo>
                  <a:lnTo>
                    <a:pt x="0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 flipH="1">
              <a:off x="8112600" y="3886200"/>
              <a:ext cx="9000" cy="4500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6" y="0"/>
                  </a:moveTo>
                  <a:lnTo>
                    <a:pt x="6" y="5"/>
                  </a:lnTo>
                  <a:lnTo>
                    <a:pt x="0" y="14"/>
                  </a:lnTo>
                  <a:lnTo>
                    <a:pt x="0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H="1">
              <a:off x="8102160" y="3878280"/>
              <a:ext cx="1440" cy="43200"/>
            </a:xfrm>
            <a:custGeom>
              <a:avLst/>
              <a:gdLst/>
              <a:ahLst/>
              <a:rect l="l" t="t" r="r" b="b"/>
              <a:pathLst>
                <a:path w="0" h="22">
                  <a:moveTo>
                    <a:pt x="0" y="0"/>
                  </a:moveTo>
                  <a:lnTo>
                    <a:pt x="0" y="9"/>
                  </a:lnTo>
                  <a:lnTo>
                    <a:pt x="0" y="18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 flipH="1">
              <a:off x="8084880" y="3878280"/>
              <a:ext cx="18360" cy="4320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12" y="0"/>
                  </a:moveTo>
                  <a:lnTo>
                    <a:pt x="6" y="9"/>
                  </a:lnTo>
                  <a:lnTo>
                    <a:pt x="6" y="18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>
              <a:off x="8083800" y="3878280"/>
              <a:ext cx="1440" cy="43200"/>
            </a:xfrm>
            <a:custGeom>
              <a:avLst/>
              <a:gdLst/>
              <a:ahLst/>
              <a:rect l="l" t="t" r="r" b="b"/>
              <a:pathLst>
                <a:path w="0" h="22">
                  <a:moveTo>
                    <a:pt x="0" y="0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H="1">
              <a:off x="8066160" y="3878280"/>
              <a:ext cx="9000" cy="356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0"/>
                  </a:moveTo>
                  <a:lnTo>
                    <a:pt x="6" y="4"/>
                  </a:lnTo>
                  <a:lnTo>
                    <a:pt x="0" y="13"/>
                  </a:lnTo>
                  <a:lnTo>
                    <a:pt x="0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H="1">
              <a:off x="8054280" y="3878280"/>
              <a:ext cx="1440" cy="35640"/>
            </a:xfrm>
            <a:custGeom>
              <a:avLst/>
              <a:gdLst/>
              <a:ahLst/>
              <a:rect l="l" t="t" r="r" b="b"/>
              <a:pathLst>
                <a:path w="0" h="18">
                  <a:moveTo>
                    <a:pt x="0" y="0"/>
                  </a:moveTo>
                  <a:lnTo>
                    <a:pt x="0" y="4"/>
                  </a:lnTo>
                  <a:lnTo>
                    <a:pt x="0" y="13"/>
                  </a:lnTo>
                  <a:lnTo>
                    <a:pt x="0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>
              <a:off x="8037000" y="3878280"/>
              <a:ext cx="9000" cy="356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0"/>
                  </a:moveTo>
                  <a:lnTo>
                    <a:pt x="0" y="4"/>
                  </a:lnTo>
                  <a:lnTo>
                    <a:pt x="0" y="13"/>
                  </a:lnTo>
                  <a:lnTo>
                    <a:pt x="0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H="1">
              <a:off x="8027640" y="3878280"/>
              <a:ext cx="9360" cy="356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0"/>
                  </a:moveTo>
                  <a:lnTo>
                    <a:pt x="0" y="4"/>
                  </a:lnTo>
                  <a:lnTo>
                    <a:pt x="0" y="9"/>
                  </a:lnTo>
                  <a:lnTo>
                    <a:pt x="0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H="1">
              <a:off x="8018280" y="3878280"/>
              <a:ext cx="9000" cy="356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0"/>
                  </a:moveTo>
                  <a:lnTo>
                    <a:pt x="6" y="4"/>
                  </a:lnTo>
                  <a:lnTo>
                    <a:pt x="0" y="9"/>
                  </a:lnTo>
                  <a:lnTo>
                    <a:pt x="0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>
              <a:off x="7998840" y="3868200"/>
              <a:ext cx="1080" cy="45360"/>
            </a:xfrm>
            <a:custGeom>
              <a:avLst/>
              <a:gdLst/>
              <a:ahLst/>
              <a:rect l="l" t="t" r="r" b="b"/>
              <a:pathLst>
                <a:path w="0" h="23">
                  <a:moveTo>
                    <a:pt x="0" y="0"/>
                  </a:moveTo>
                  <a:lnTo>
                    <a:pt x="0" y="5"/>
                  </a:lnTo>
                  <a:lnTo>
                    <a:pt x="0" y="14"/>
                  </a:lnTo>
                  <a:lnTo>
                    <a:pt x="0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>
              <a:off x="7981560" y="3868200"/>
              <a:ext cx="9360" cy="4536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6" y="0"/>
                  </a:moveTo>
                  <a:lnTo>
                    <a:pt x="6" y="5"/>
                  </a:lnTo>
                  <a:lnTo>
                    <a:pt x="0" y="14"/>
                  </a:lnTo>
                  <a:lnTo>
                    <a:pt x="0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H="1">
              <a:off x="7972200" y="3868200"/>
              <a:ext cx="9000" cy="4536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6" y="0"/>
                  </a:moveTo>
                  <a:lnTo>
                    <a:pt x="0" y="5"/>
                  </a:lnTo>
                  <a:lnTo>
                    <a:pt x="0" y="14"/>
                  </a:lnTo>
                  <a:lnTo>
                    <a:pt x="0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H="1">
              <a:off x="8112600" y="3957480"/>
              <a:ext cx="18360" cy="2520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0"/>
                  </a:moveTo>
                  <a:lnTo>
                    <a:pt x="6" y="5"/>
                  </a:lnTo>
                  <a:lnTo>
                    <a:pt x="6" y="9"/>
                  </a:lnTo>
                  <a:lnTo>
                    <a:pt x="12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H="1">
              <a:off x="8103960" y="3957480"/>
              <a:ext cx="18000" cy="2520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0"/>
                  </a:moveTo>
                  <a:lnTo>
                    <a:pt x="6" y="5"/>
                  </a:lnTo>
                  <a:lnTo>
                    <a:pt x="6" y="9"/>
                  </a:lnTo>
                  <a:lnTo>
                    <a:pt x="12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>
              <a:off x="8094240" y="3957480"/>
              <a:ext cx="9360" cy="25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6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>
              <a:off x="8084880" y="3957480"/>
              <a:ext cx="9000" cy="25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0"/>
                  </a:lnTo>
                  <a:lnTo>
                    <a:pt x="6" y="9"/>
                  </a:lnTo>
                  <a:lnTo>
                    <a:pt x="6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>
              <a:off x="8066520" y="3957480"/>
              <a:ext cx="18360" cy="1728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0"/>
                  </a:moveTo>
                  <a:lnTo>
                    <a:pt x="0" y="0"/>
                  </a:lnTo>
                  <a:lnTo>
                    <a:pt x="6" y="9"/>
                  </a:lnTo>
                  <a:lnTo>
                    <a:pt x="12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8055360" y="3957480"/>
              <a:ext cx="19800" cy="172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0"/>
                  </a:moveTo>
                  <a:lnTo>
                    <a:pt x="6" y="0"/>
                  </a:lnTo>
                  <a:lnTo>
                    <a:pt x="13" y="5"/>
                  </a:lnTo>
                  <a:lnTo>
                    <a:pt x="13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H="1">
              <a:off x="8046360" y="3949200"/>
              <a:ext cx="9360" cy="25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4"/>
                  </a:lnTo>
                  <a:lnTo>
                    <a:pt x="0" y="9"/>
                  </a:lnTo>
                  <a:lnTo>
                    <a:pt x="6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H="1">
              <a:off x="8027640" y="3949200"/>
              <a:ext cx="18360" cy="2520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0"/>
                  </a:moveTo>
                  <a:lnTo>
                    <a:pt x="6" y="4"/>
                  </a:lnTo>
                  <a:lnTo>
                    <a:pt x="6" y="9"/>
                  </a:lnTo>
                  <a:lnTo>
                    <a:pt x="12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 flipH="1">
              <a:off x="8018280" y="3949200"/>
              <a:ext cx="18360" cy="2520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0"/>
                  </a:moveTo>
                  <a:lnTo>
                    <a:pt x="6" y="4"/>
                  </a:lnTo>
                  <a:lnTo>
                    <a:pt x="12" y="9"/>
                  </a:lnTo>
                  <a:lnTo>
                    <a:pt x="12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H="1">
              <a:off x="8009280" y="3949200"/>
              <a:ext cx="9000" cy="2520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0"/>
                  </a:moveTo>
                  <a:lnTo>
                    <a:pt x="0" y="4"/>
                  </a:lnTo>
                  <a:lnTo>
                    <a:pt x="0" y="9"/>
                  </a:lnTo>
                  <a:lnTo>
                    <a:pt x="6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 flipH="1">
              <a:off x="7981560" y="3949200"/>
              <a:ext cx="18360" cy="2520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0"/>
                  </a:moveTo>
                  <a:lnTo>
                    <a:pt x="6" y="4"/>
                  </a:lnTo>
                  <a:lnTo>
                    <a:pt x="12" y="9"/>
                  </a:lnTo>
                  <a:lnTo>
                    <a:pt x="12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H="1">
              <a:off x="7962840" y="3949200"/>
              <a:ext cx="18360" cy="2520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12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H="1">
              <a:off x="7953840" y="3939480"/>
              <a:ext cx="18360" cy="352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0"/>
                  </a:moveTo>
                  <a:lnTo>
                    <a:pt x="6" y="9"/>
                  </a:lnTo>
                  <a:lnTo>
                    <a:pt x="6" y="9"/>
                  </a:lnTo>
                  <a:lnTo>
                    <a:pt x="12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H="1">
              <a:off x="7212240" y="4071600"/>
              <a:ext cx="534960" cy="230760"/>
            </a:xfrm>
            <a:custGeom>
              <a:avLst/>
              <a:gdLst/>
              <a:ahLst/>
              <a:rect l="l" t="t" r="r" b="b"/>
              <a:pathLst>
                <a:path w="347" h="117">
                  <a:moveTo>
                    <a:pt x="0" y="45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6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329" y="0"/>
                  </a:lnTo>
                  <a:lnTo>
                    <a:pt x="341" y="0"/>
                  </a:lnTo>
                  <a:lnTo>
                    <a:pt x="341" y="5"/>
                  </a:lnTo>
                  <a:lnTo>
                    <a:pt x="347" y="14"/>
                  </a:lnTo>
                  <a:lnTo>
                    <a:pt x="347" y="14"/>
                  </a:lnTo>
                  <a:lnTo>
                    <a:pt x="341" y="99"/>
                  </a:lnTo>
                  <a:lnTo>
                    <a:pt x="335" y="104"/>
                  </a:lnTo>
                  <a:lnTo>
                    <a:pt x="329" y="108"/>
                  </a:lnTo>
                  <a:lnTo>
                    <a:pt x="317" y="113"/>
                  </a:lnTo>
                  <a:lnTo>
                    <a:pt x="317" y="113"/>
                  </a:lnTo>
                  <a:lnTo>
                    <a:pt x="25" y="117"/>
                  </a:lnTo>
                  <a:lnTo>
                    <a:pt x="19" y="117"/>
                  </a:lnTo>
                  <a:lnTo>
                    <a:pt x="6" y="113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81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H="1">
              <a:off x="7212240" y="4071600"/>
              <a:ext cx="534960" cy="230760"/>
            </a:xfrm>
            <a:custGeom>
              <a:avLst/>
              <a:gdLst/>
              <a:ahLst/>
              <a:rect l="l" t="t" r="r" b="b"/>
              <a:pathLst>
                <a:path w="347" h="117">
                  <a:moveTo>
                    <a:pt x="0" y="81"/>
                  </a:moveTo>
                  <a:lnTo>
                    <a:pt x="0" y="104"/>
                  </a:lnTo>
                  <a:lnTo>
                    <a:pt x="6" y="113"/>
                  </a:lnTo>
                  <a:lnTo>
                    <a:pt x="19" y="117"/>
                  </a:lnTo>
                  <a:lnTo>
                    <a:pt x="25" y="117"/>
                  </a:lnTo>
                  <a:lnTo>
                    <a:pt x="25" y="117"/>
                  </a:lnTo>
                  <a:lnTo>
                    <a:pt x="317" y="113"/>
                  </a:lnTo>
                  <a:lnTo>
                    <a:pt x="329" y="108"/>
                  </a:lnTo>
                  <a:lnTo>
                    <a:pt x="335" y="104"/>
                  </a:lnTo>
                  <a:lnTo>
                    <a:pt x="341" y="99"/>
                  </a:lnTo>
                  <a:lnTo>
                    <a:pt x="341" y="99"/>
                  </a:lnTo>
                  <a:lnTo>
                    <a:pt x="347" y="14"/>
                  </a:lnTo>
                  <a:lnTo>
                    <a:pt x="341" y="5"/>
                  </a:lnTo>
                  <a:lnTo>
                    <a:pt x="341" y="0"/>
                  </a:lnTo>
                  <a:lnTo>
                    <a:pt x="329" y="0"/>
                  </a:lnTo>
                  <a:lnTo>
                    <a:pt x="329" y="0"/>
                  </a:lnTo>
                  <a:lnTo>
                    <a:pt x="19" y="5"/>
                  </a:lnTo>
                  <a:lnTo>
                    <a:pt x="6" y="5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45"/>
                  </a:lnTo>
                  <a:lnTo>
                    <a:pt x="13" y="45"/>
                  </a:lnTo>
                  <a:lnTo>
                    <a:pt x="13" y="27"/>
                  </a:lnTo>
                  <a:lnTo>
                    <a:pt x="19" y="23"/>
                  </a:lnTo>
                  <a:lnTo>
                    <a:pt x="19" y="18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7" y="9"/>
                  </a:lnTo>
                  <a:lnTo>
                    <a:pt x="323" y="14"/>
                  </a:lnTo>
                  <a:lnTo>
                    <a:pt x="329" y="18"/>
                  </a:lnTo>
                  <a:lnTo>
                    <a:pt x="329" y="23"/>
                  </a:lnTo>
                  <a:lnTo>
                    <a:pt x="329" y="23"/>
                  </a:lnTo>
                  <a:lnTo>
                    <a:pt x="329" y="50"/>
                  </a:lnTo>
                  <a:lnTo>
                    <a:pt x="13" y="59"/>
                  </a:lnTo>
                  <a:lnTo>
                    <a:pt x="13" y="45"/>
                  </a:lnTo>
                  <a:lnTo>
                    <a:pt x="0" y="45"/>
                  </a:lnTo>
                  <a:lnTo>
                    <a:pt x="0" y="81"/>
                  </a:lnTo>
                  <a:lnTo>
                    <a:pt x="13" y="81"/>
                  </a:lnTo>
                  <a:lnTo>
                    <a:pt x="13" y="68"/>
                  </a:lnTo>
                  <a:lnTo>
                    <a:pt x="329" y="59"/>
                  </a:lnTo>
                  <a:lnTo>
                    <a:pt x="329" y="86"/>
                  </a:lnTo>
                  <a:lnTo>
                    <a:pt x="323" y="95"/>
                  </a:lnTo>
                  <a:lnTo>
                    <a:pt x="317" y="95"/>
                  </a:lnTo>
                  <a:lnTo>
                    <a:pt x="305" y="99"/>
                  </a:lnTo>
                  <a:lnTo>
                    <a:pt x="305" y="99"/>
                  </a:lnTo>
                  <a:lnTo>
                    <a:pt x="31" y="104"/>
                  </a:lnTo>
                  <a:lnTo>
                    <a:pt x="19" y="104"/>
                  </a:lnTo>
                  <a:lnTo>
                    <a:pt x="19" y="99"/>
                  </a:lnTo>
                  <a:lnTo>
                    <a:pt x="13" y="90"/>
                  </a:lnTo>
                  <a:lnTo>
                    <a:pt x="13" y="90"/>
                  </a:lnTo>
                  <a:lnTo>
                    <a:pt x="13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7061040" y="4010760"/>
              <a:ext cx="93960" cy="78480"/>
            </a:xfrm>
            <a:custGeom>
              <a:avLst/>
              <a:gdLst/>
              <a:ahLst/>
              <a:rect l="l" t="t" r="r" b="b"/>
              <a:pathLst>
                <a:path w="61" h="40">
                  <a:moveTo>
                    <a:pt x="48" y="36"/>
                  </a:moveTo>
                  <a:lnTo>
                    <a:pt x="54" y="36"/>
                  </a:lnTo>
                  <a:lnTo>
                    <a:pt x="54" y="36"/>
                  </a:lnTo>
                  <a:lnTo>
                    <a:pt x="61" y="31"/>
                  </a:lnTo>
                  <a:lnTo>
                    <a:pt x="61" y="31"/>
                  </a:lnTo>
                  <a:lnTo>
                    <a:pt x="54" y="9"/>
                  </a:lnTo>
                  <a:lnTo>
                    <a:pt x="54" y="4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12" y="4"/>
                  </a:lnTo>
                  <a:lnTo>
                    <a:pt x="6" y="4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31"/>
                  </a:lnTo>
                  <a:lnTo>
                    <a:pt x="6" y="36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 flipH="1">
              <a:off x="7061040" y="4010760"/>
              <a:ext cx="93960" cy="78480"/>
            </a:xfrm>
            <a:custGeom>
              <a:avLst/>
              <a:gdLst/>
              <a:ahLst/>
              <a:rect l="l" t="t" r="r" b="b"/>
              <a:pathLst>
                <a:path w="61" h="40">
                  <a:moveTo>
                    <a:pt x="48" y="36"/>
                  </a:moveTo>
                  <a:lnTo>
                    <a:pt x="54" y="36"/>
                  </a:lnTo>
                  <a:lnTo>
                    <a:pt x="54" y="36"/>
                  </a:lnTo>
                  <a:lnTo>
                    <a:pt x="61" y="31"/>
                  </a:lnTo>
                  <a:lnTo>
                    <a:pt x="61" y="31"/>
                  </a:lnTo>
                  <a:lnTo>
                    <a:pt x="54" y="9"/>
                  </a:lnTo>
                  <a:lnTo>
                    <a:pt x="54" y="4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12" y="4"/>
                  </a:lnTo>
                  <a:lnTo>
                    <a:pt x="6" y="4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31"/>
                  </a:lnTo>
                  <a:lnTo>
                    <a:pt x="6" y="36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48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 flipH="1">
              <a:off x="7071840" y="4028040"/>
              <a:ext cx="83520" cy="61200"/>
            </a:xfrm>
            <a:custGeom>
              <a:avLst/>
              <a:gdLst/>
              <a:ahLst/>
              <a:rect l="l" t="t" r="r" b="b"/>
              <a:pathLst>
                <a:path w="54" h="31">
                  <a:moveTo>
                    <a:pt x="12" y="31"/>
                  </a:moveTo>
                  <a:lnTo>
                    <a:pt x="12" y="31"/>
                  </a:lnTo>
                  <a:lnTo>
                    <a:pt x="6" y="27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2" y="4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54" y="22"/>
                  </a:lnTo>
                  <a:lnTo>
                    <a:pt x="54" y="27"/>
                  </a:lnTo>
                  <a:lnTo>
                    <a:pt x="48" y="27"/>
                  </a:lnTo>
                  <a:lnTo>
                    <a:pt x="42" y="27"/>
                  </a:lnTo>
                  <a:lnTo>
                    <a:pt x="42" y="27"/>
                  </a:lnTo>
                  <a:lnTo>
                    <a:pt x="1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flipH="1">
              <a:off x="7071840" y="4028040"/>
              <a:ext cx="83520" cy="61200"/>
            </a:xfrm>
            <a:custGeom>
              <a:avLst/>
              <a:gdLst/>
              <a:ahLst/>
              <a:rect l="l" t="t" r="r" b="b"/>
              <a:pathLst>
                <a:path w="54" h="31">
                  <a:moveTo>
                    <a:pt x="12" y="31"/>
                  </a:moveTo>
                  <a:lnTo>
                    <a:pt x="12" y="31"/>
                  </a:lnTo>
                  <a:lnTo>
                    <a:pt x="6" y="27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2" y="4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54" y="22"/>
                  </a:lnTo>
                  <a:lnTo>
                    <a:pt x="54" y="27"/>
                  </a:lnTo>
                  <a:lnTo>
                    <a:pt x="48" y="27"/>
                  </a:lnTo>
                  <a:lnTo>
                    <a:pt x="42" y="27"/>
                  </a:lnTo>
                  <a:lnTo>
                    <a:pt x="42" y="27"/>
                  </a:lnTo>
                  <a:lnTo>
                    <a:pt x="12" y="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7267680" y="4196160"/>
              <a:ext cx="66240" cy="53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297560" y="4231800"/>
              <a:ext cx="1836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315920" y="4205880"/>
              <a:ext cx="18360" cy="2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635240" y="4462920"/>
              <a:ext cx="64440" cy="53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662960" y="4498200"/>
              <a:ext cx="1836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7671960" y="4470480"/>
              <a:ext cx="2736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292440" y="4498200"/>
              <a:ext cx="75240" cy="53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321240" y="4533840"/>
              <a:ext cx="2736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330600" y="4506480"/>
              <a:ext cx="2772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499080" y="4135320"/>
              <a:ext cx="75240" cy="53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527880" y="4170600"/>
              <a:ext cx="2736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546600" y="4142880"/>
              <a:ext cx="27360" cy="2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0" name=""/>
          <p:cNvGrpSpPr/>
          <p:nvPr/>
        </p:nvGrpSpPr>
        <p:grpSpPr>
          <a:xfrm>
            <a:off x="5715000" y="5498280"/>
            <a:ext cx="2743200" cy="892800"/>
            <a:chOff x="5715000" y="5498280"/>
            <a:chExt cx="2743200" cy="892800"/>
          </a:xfrm>
        </p:grpSpPr>
        <p:sp>
          <p:nvSpPr>
            <p:cNvPr id="1731" name=""/>
            <p:cNvSpPr/>
            <p:nvPr/>
          </p:nvSpPr>
          <p:spPr>
            <a:xfrm rot="21300000">
              <a:off x="6386400" y="5562360"/>
              <a:ext cx="1508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cc00"/>
                  </a:solidFill>
                  <a:latin typeface="Comic Sans MS"/>
                </a:rPr>
                <a:t>56 ft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H="1">
              <a:off x="5715000" y="6019920"/>
              <a:ext cx="45720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7924680" y="5790960"/>
              <a:ext cx="5335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4" name=""/>
          <p:cNvGrpSpPr/>
          <p:nvPr/>
        </p:nvGrpSpPr>
        <p:grpSpPr>
          <a:xfrm>
            <a:off x="3767040" y="5322600"/>
            <a:ext cx="1643040" cy="1244880"/>
            <a:chOff x="3767040" y="5322600"/>
            <a:chExt cx="1643040" cy="1244880"/>
          </a:xfrm>
        </p:grpSpPr>
        <p:sp>
          <p:nvSpPr>
            <p:cNvPr id="1735" name=""/>
            <p:cNvSpPr/>
            <p:nvPr/>
          </p:nvSpPr>
          <p:spPr>
            <a:xfrm rot="1500000">
              <a:off x="3867120" y="5562720"/>
              <a:ext cx="1306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66ff"/>
                  </a:solidFill>
                  <a:latin typeface="Comic Sans MS"/>
                </a:rPr>
                <a:t>w ft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800600" y="5638680"/>
              <a:ext cx="6094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7" name=""/>
          <p:cNvSpPr/>
          <p:nvPr/>
        </p:nvSpPr>
        <p:spPr>
          <a:xfrm>
            <a:off x="609480" y="1812960"/>
            <a:ext cx="7712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am is thinking of buying a trailer.  The dealer has told him that the </a:t>
            </a:r>
            <a:r>
              <a:rPr b="0" lang="en-US" sz="4000" spc="-1" strike="noStrike">
                <a:solidFill>
                  <a:srgbClr val="00cc00"/>
                </a:solidFill>
                <a:latin typeface="Comic Sans MS"/>
              </a:rPr>
              <a:t>area is 1904 ft.</a:t>
            </a:r>
            <a:r>
              <a:rPr b="0" lang="en-US" sz="4000" spc="-1" strike="noStrike" baseline="30000">
                <a:solidFill>
                  <a:srgbClr val="00cc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and that its </a:t>
            </a:r>
            <a:br>
              <a:rPr sz="4000"/>
            </a:br>
            <a:r>
              <a:rPr b="0" lang="en-US" sz="4000" spc="-1" strike="noStrike">
                <a:solidFill>
                  <a:srgbClr val="00cc00"/>
                </a:solidFill>
                <a:latin typeface="Comic Sans MS"/>
              </a:rPr>
              <a:t>length is 56 ft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66ff"/>
                </a:solidFill>
                <a:latin typeface="Comic Sans MS"/>
              </a:rPr>
              <a:t>How wid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is i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rot="20897400">
            <a:off x="456840" y="1294920"/>
            <a:ext cx="1752480" cy="4302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 rot="20897400">
            <a:off x="513000" y="1214280"/>
            <a:ext cx="181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pull dir="l"/>
      </p:transition>
    </mc:Choice>
    <mc:Fallback>
      <p:transition spd="slow">
        <p:pull dir="l"/>
      </p:transition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5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"/>
          <p:cNvSpPr/>
          <p:nvPr/>
        </p:nvSpPr>
        <p:spPr>
          <a:xfrm>
            <a:off x="2514600" y="22860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Area = 1904 ft.</a:t>
            </a:r>
            <a:r>
              <a:rPr b="0" lang="en-US" sz="3600" spc="-1" strike="noStrike" baseline="30000">
                <a:solidFill>
                  <a:srgbClr val="00cc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972000" y="1447920"/>
            <a:ext cx="473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Given:  length = 56 f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838080" y="5062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Question: width =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3293280" y="533520"/>
            <a:ext cx="20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914400" y="312408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We know: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A = l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5715000" y="3429000"/>
            <a:ext cx="2743200" cy="15238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6" name=""/>
          <p:cNvGrpSpPr/>
          <p:nvPr/>
        </p:nvGrpSpPr>
        <p:grpSpPr>
          <a:xfrm>
            <a:off x="4267080" y="3429000"/>
            <a:ext cx="1752840" cy="1600200"/>
            <a:chOff x="4267080" y="3429000"/>
            <a:chExt cx="1752840" cy="1600200"/>
          </a:xfrm>
        </p:grpSpPr>
        <p:sp>
          <p:nvSpPr>
            <p:cNvPr id="1747" name=""/>
            <p:cNvSpPr/>
            <p:nvPr/>
          </p:nvSpPr>
          <p:spPr>
            <a:xfrm>
              <a:off x="4267080" y="4191120"/>
              <a:ext cx="1752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w = 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486400" y="342900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9" name=""/>
          <p:cNvGrpSpPr/>
          <p:nvPr/>
        </p:nvGrpSpPr>
        <p:grpSpPr>
          <a:xfrm>
            <a:off x="5867280" y="5105520"/>
            <a:ext cx="2743200" cy="611280"/>
            <a:chOff x="5867280" y="5105520"/>
            <a:chExt cx="2743200" cy="611280"/>
          </a:xfrm>
        </p:grpSpPr>
        <p:sp>
          <p:nvSpPr>
            <p:cNvPr id="1750" name=""/>
            <p:cNvSpPr/>
            <p:nvPr/>
          </p:nvSpPr>
          <p:spPr>
            <a:xfrm>
              <a:off x="6248520" y="513540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l = 56f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5867280" y="510552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2" name=""/>
          <p:cNvGrpSpPr/>
          <p:nvPr/>
        </p:nvGrpSpPr>
        <p:grpSpPr>
          <a:xfrm>
            <a:off x="5715000" y="3429000"/>
            <a:ext cx="2895480" cy="1523880"/>
            <a:chOff x="5715000" y="3429000"/>
            <a:chExt cx="2895480" cy="1523880"/>
          </a:xfrm>
        </p:grpSpPr>
        <p:sp>
          <p:nvSpPr>
            <p:cNvPr id="1753" name=""/>
            <p:cNvSpPr/>
            <p:nvPr/>
          </p:nvSpPr>
          <p:spPr>
            <a:xfrm>
              <a:off x="5715000" y="3429000"/>
              <a:ext cx="2743200" cy="1523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715000" y="388620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rea = 1904 ft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9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4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5" name=""/>
          <p:cNvGrpSpPr/>
          <p:nvPr/>
        </p:nvGrpSpPr>
        <p:grpSpPr>
          <a:xfrm>
            <a:off x="762120" y="3505320"/>
            <a:ext cx="2995200" cy="2717280"/>
            <a:chOff x="762120" y="3505320"/>
            <a:chExt cx="2995200" cy="2717280"/>
          </a:xfrm>
        </p:grpSpPr>
        <p:sp>
          <p:nvSpPr>
            <p:cNvPr id="1756" name=""/>
            <p:cNvSpPr/>
            <p:nvPr/>
          </p:nvSpPr>
          <p:spPr>
            <a:xfrm>
              <a:off x="1094040" y="3505320"/>
              <a:ext cx="266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69696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969696"/>
                  </a:solidFill>
                  <a:latin typeface="Comic Sans MS"/>
                </a:rPr>
                <a:t>Do unto each side .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017720" y="3505320"/>
              <a:ext cx="2420640" cy="1047600"/>
            </a:xfrm>
            <a:custGeom>
              <a:avLst/>
              <a:gdLst/>
              <a:ahLst/>
              <a:rect l="l" t="t" r="r" b="b"/>
              <a:pathLst>
                <a:path w="1525" h="660">
                  <a:moveTo>
                    <a:pt x="0" y="660"/>
                  </a:moveTo>
                  <a:lnTo>
                    <a:pt x="186" y="267"/>
                  </a:lnTo>
                  <a:lnTo>
                    <a:pt x="59" y="267"/>
                  </a:lnTo>
                  <a:lnTo>
                    <a:pt x="59" y="222"/>
                  </a:lnTo>
                  <a:lnTo>
                    <a:pt x="720" y="222"/>
                  </a:lnTo>
                  <a:lnTo>
                    <a:pt x="737" y="0"/>
                  </a:lnTo>
                  <a:lnTo>
                    <a:pt x="771" y="0"/>
                  </a:lnTo>
                  <a:lnTo>
                    <a:pt x="813" y="222"/>
                  </a:lnTo>
                  <a:lnTo>
                    <a:pt x="932" y="222"/>
                  </a:lnTo>
                  <a:lnTo>
                    <a:pt x="1440" y="222"/>
                  </a:lnTo>
                  <a:lnTo>
                    <a:pt x="1432" y="267"/>
                  </a:lnTo>
                  <a:lnTo>
                    <a:pt x="1330" y="267"/>
                  </a:lnTo>
                  <a:lnTo>
                    <a:pt x="1525" y="660"/>
                  </a:lnTo>
                  <a:lnTo>
                    <a:pt x="1466" y="660"/>
                  </a:lnTo>
                  <a:lnTo>
                    <a:pt x="1305" y="274"/>
                  </a:lnTo>
                  <a:lnTo>
                    <a:pt x="1152" y="660"/>
                  </a:lnTo>
                  <a:lnTo>
                    <a:pt x="1101" y="660"/>
                  </a:lnTo>
                  <a:lnTo>
                    <a:pt x="1279" y="267"/>
                  </a:lnTo>
                  <a:lnTo>
                    <a:pt x="246" y="267"/>
                  </a:lnTo>
                  <a:lnTo>
                    <a:pt x="424" y="660"/>
                  </a:lnTo>
                  <a:lnTo>
                    <a:pt x="364" y="660"/>
                  </a:lnTo>
                  <a:lnTo>
                    <a:pt x="212" y="289"/>
                  </a:lnTo>
                  <a:lnTo>
                    <a:pt x="59" y="660"/>
                  </a:lnTo>
                  <a:lnTo>
                    <a:pt x="0" y="66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936720" y="4552920"/>
              <a:ext cx="174600" cy="17568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0" y="111"/>
                  </a:moveTo>
                  <a:lnTo>
                    <a:pt x="51" y="0"/>
                  </a:lnTo>
                  <a:lnTo>
                    <a:pt x="110" y="0"/>
                  </a:lnTo>
                  <a:lnTo>
                    <a:pt x="59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595520" y="4552920"/>
              <a:ext cx="174600" cy="17568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43" y="111"/>
                  </a:moveTo>
                  <a:lnTo>
                    <a:pt x="0" y="0"/>
                  </a:lnTo>
                  <a:lnTo>
                    <a:pt x="60" y="0"/>
                  </a:lnTo>
                  <a:lnTo>
                    <a:pt x="110" y="111"/>
                  </a:lnTo>
                  <a:lnTo>
                    <a:pt x="43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2685960" y="4552920"/>
              <a:ext cx="160560" cy="175680"/>
            </a:xfrm>
            <a:custGeom>
              <a:avLst/>
              <a:gdLst/>
              <a:ahLst/>
              <a:rect l="l" t="t" r="r" b="b"/>
              <a:pathLst>
                <a:path w="101" h="111">
                  <a:moveTo>
                    <a:pt x="0" y="111"/>
                  </a:moveTo>
                  <a:lnTo>
                    <a:pt x="50" y="0"/>
                  </a:lnTo>
                  <a:lnTo>
                    <a:pt x="101" y="0"/>
                  </a:lnTo>
                  <a:lnTo>
                    <a:pt x="59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3344760" y="4552920"/>
              <a:ext cx="174600" cy="17568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51" y="111"/>
                  </a:moveTo>
                  <a:lnTo>
                    <a:pt x="0" y="0"/>
                  </a:lnTo>
                  <a:lnTo>
                    <a:pt x="59" y="0"/>
                  </a:lnTo>
                  <a:lnTo>
                    <a:pt x="110" y="111"/>
                  </a:lnTo>
                  <a:lnTo>
                    <a:pt x="51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762120" y="4728960"/>
              <a:ext cx="1184040" cy="765000"/>
            </a:xfrm>
            <a:custGeom>
              <a:avLst/>
              <a:gdLst/>
              <a:ahLst/>
              <a:rect l="l" t="t" r="r" b="b"/>
              <a:pathLst>
                <a:path w="746" h="482">
                  <a:moveTo>
                    <a:pt x="110" y="0"/>
                  </a:moveTo>
                  <a:lnTo>
                    <a:pt x="8" y="207"/>
                  </a:lnTo>
                  <a:lnTo>
                    <a:pt x="0" y="222"/>
                  </a:lnTo>
                  <a:lnTo>
                    <a:pt x="0" y="237"/>
                  </a:lnTo>
                  <a:lnTo>
                    <a:pt x="0" y="259"/>
                  </a:lnTo>
                  <a:lnTo>
                    <a:pt x="8" y="281"/>
                  </a:lnTo>
                  <a:lnTo>
                    <a:pt x="8" y="304"/>
                  </a:lnTo>
                  <a:lnTo>
                    <a:pt x="25" y="326"/>
                  </a:lnTo>
                  <a:lnTo>
                    <a:pt x="34" y="348"/>
                  </a:lnTo>
                  <a:lnTo>
                    <a:pt x="51" y="370"/>
                  </a:lnTo>
                  <a:lnTo>
                    <a:pt x="76" y="393"/>
                  </a:lnTo>
                  <a:lnTo>
                    <a:pt x="102" y="415"/>
                  </a:lnTo>
                  <a:lnTo>
                    <a:pt x="127" y="430"/>
                  </a:lnTo>
                  <a:lnTo>
                    <a:pt x="161" y="452"/>
                  </a:lnTo>
                  <a:lnTo>
                    <a:pt x="203" y="467"/>
                  </a:lnTo>
                  <a:lnTo>
                    <a:pt x="246" y="474"/>
                  </a:lnTo>
                  <a:lnTo>
                    <a:pt x="297" y="482"/>
                  </a:lnTo>
                  <a:lnTo>
                    <a:pt x="356" y="482"/>
                  </a:lnTo>
                  <a:lnTo>
                    <a:pt x="407" y="482"/>
                  </a:lnTo>
                  <a:lnTo>
                    <a:pt x="449" y="474"/>
                  </a:lnTo>
                  <a:lnTo>
                    <a:pt x="491" y="467"/>
                  </a:lnTo>
                  <a:lnTo>
                    <a:pt x="534" y="459"/>
                  </a:lnTo>
                  <a:lnTo>
                    <a:pt x="576" y="444"/>
                  </a:lnTo>
                  <a:lnTo>
                    <a:pt x="610" y="430"/>
                  </a:lnTo>
                  <a:lnTo>
                    <a:pt x="635" y="407"/>
                  </a:lnTo>
                  <a:lnTo>
                    <a:pt x="669" y="393"/>
                  </a:lnTo>
                  <a:lnTo>
                    <a:pt x="686" y="370"/>
                  </a:lnTo>
                  <a:lnTo>
                    <a:pt x="712" y="348"/>
                  </a:lnTo>
                  <a:lnTo>
                    <a:pt x="729" y="326"/>
                  </a:lnTo>
                  <a:lnTo>
                    <a:pt x="737" y="304"/>
                  </a:lnTo>
                  <a:lnTo>
                    <a:pt x="746" y="281"/>
                  </a:lnTo>
                  <a:lnTo>
                    <a:pt x="746" y="259"/>
                  </a:lnTo>
                  <a:lnTo>
                    <a:pt x="746" y="230"/>
                  </a:lnTo>
                  <a:lnTo>
                    <a:pt x="737" y="207"/>
                  </a:lnTo>
                  <a:lnTo>
                    <a:pt x="635" y="0"/>
                  </a:lnTo>
                  <a:lnTo>
                    <a:pt x="568" y="0"/>
                  </a:lnTo>
                  <a:lnTo>
                    <a:pt x="678" y="259"/>
                  </a:lnTo>
                  <a:lnTo>
                    <a:pt x="59" y="259"/>
                  </a:lnTo>
                  <a:lnTo>
                    <a:pt x="169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523960" y="4728960"/>
              <a:ext cx="1170000" cy="765000"/>
            </a:xfrm>
            <a:custGeom>
              <a:avLst/>
              <a:gdLst/>
              <a:ahLst/>
              <a:rect l="l" t="t" r="r" b="b"/>
              <a:pathLst>
                <a:path w="737" h="482">
                  <a:moveTo>
                    <a:pt x="102" y="0"/>
                  </a:moveTo>
                  <a:lnTo>
                    <a:pt x="8" y="200"/>
                  </a:lnTo>
                  <a:lnTo>
                    <a:pt x="0" y="215"/>
                  </a:lnTo>
                  <a:lnTo>
                    <a:pt x="0" y="237"/>
                  </a:lnTo>
                  <a:lnTo>
                    <a:pt x="0" y="259"/>
                  </a:lnTo>
                  <a:lnTo>
                    <a:pt x="8" y="281"/>
                  </a:lnTo>
                  <a:lnTo>
                    <a:pt x="17" y="304"/>
                  </a:lnTo>
                  <a:lnTo>
                    <a:pt x="25" y="326"/>
                  </a:lnTo>
                  <a:lnTo>
                    <a:pt x="42" y="356"/>
                  </a:lnTo>
                  <a:lnTo>
                    <a:pt x="59" y="378"/>
                  </a:lnTo>
                  <a:lnTo>
                    <a:pt x="85" y="400"/>
                  </a:lnTo>
                  <a:lnTo>
                    <a:pt x="110" y="415"/>
                  </a:lnTo>
                  <a:lnTo>
                    <a:pt x="144" y="437"/>
                  </a:lnTo>
                  <a:lnTo>
                    <a:pt x="178" y="452"/>
                  </a:lnTo>
                  <a:lnTo>
                    <a:pt x="220" y="467"/>
                  </a:lnTo>
                  <a:lnTo>
                    <a:pt x="263" y="474"/>
                  </a:lnTo>
                  <a:lnTo>
                    <a:pt x="313" y="482"/>
                  </a:lnTo>
                  <a:lnTo>
                    <a:pt x="364" y="482"/>
                  </a:lnTo>
                  <a:lnTo>
                    <a:pt x="424" y="482"/>
                  </a:lnTo>
                  <a:lnTo>
                    <a:pt x="474" y="474"/>
                  </a:lnTo>
                  <a:lnTo>
                    <a:pt x="517" y="459"/>
                  </a:lnTo>
                  <a:lnTo>
                    <a:pt x="559" y="452"/>
                  </a:lnTo>
                  <a:lnTo>
                    <a:pt x="593" y="430"/>
                  </a:lnTo>
                  <a:lnTo>
                    <a:pt x="627" y="415"/>
                  </a:lnTo>
                  <a:lnTo>
                    <a:pt x="652" y="393"/>
                  </a:lnTo>
                  <a:lnTo>
                    <a:pt x="678" y="370"/>
                  </a:lnTo>
                  <a:lnTo>
                    <a:pt x="695" y="348"/>
                  </a:lnTo>
                  <a:lnTo>
                    <a:pt x="712" y="318"/>
                  </a:lnTo>
                  <a:lnTo>
                    <a:pt x="720" y="296"/>
                  </a:lnTo>
                  <a:lnTo>
                    <a:pt x="729" y="274"/>
                  </a:lnTo>
                  <a:lnTo>
                    <a:pt x="737" y="259"/>
                  </a:lnTo>
                  <a:lnTo>
                    <a:pt x="737" y="237"/>
                  </a:lnTo>
                  <a:lnTo>
                    <a:pt x="737" y="222"/>
                  </a:lnTo>
                  <a:lnTo>
                    <a:pt x="737" y="207"/>
                  </a:lnTo>
                  <a:lnTo>
                    <a:pt x="627" y="0"/>
                  </a:lnTo>
                  <a:lnTo>
                    <a:pt x="568" y="0"/>
                  </a:lnTo>
                  <a:lnTo>
                    <a:pt x="678" y="259"/>
                  </a:lnTo>
                  <a:lnTo>
                    <a:pt x="59" y="259"/>
                  </a:lnTo>
                  <a:lnTo>
                    <a:pt x="161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052720" y="3963960"/>
              <a:ext cx="336600" cy="129600"/>
            </a:xfrm>
            <a:custGeom>
              <a:avLst/>
              <a:gdLst/>
              <a:ahLst/>
              <a:rect l="l" t="t" r="r" b="b"/>
              <a:pathLst>
                <a:path w="212" h="82">
                  <a:moveTo>
                    <a:pt x="26" y="0"/>
                  </a:moveTo>
                  <a:lnTo>
                    <a:pt x="187" y="0"/>
                  </a:lnTo>
                  <a:lnTo>
                    <a:pt x="195" y="0"/>
                  </a:lnTo>
                  <a:lnTo>
                    <a:pt x="204" y="7"/>
                  </a:lnTo>
                  <a:lnTo>
                    <a:pt x="212" y="15"/>
                  </a:lnTo>
                  <a:lnTo>
                    <a:pt x="212" y="22"/>
                  </a:lnTo>
                  <a:lnTo>
                    <a:pt x="212" y="59"/>
                  </a:lnTo>
                  <a:lnTo>
                    <a:pt x="212" y="67"/>
                  </a:lnTo>
                  <a:lnTo>
                    <a:pt x="204" y="74"/>
                  </a:lnTo>
                  <a:lnTo>
                    <a:pt x="195" y="82"/>
                  </a:lnTo>
                  <a:lnTo>
                    <a:pt x="187" y="82"/>
                  </a:lnTo>
                  <a:lnTo>
                    <a:pt x="26" y="82"/>
                  </a:lnTo>
                  <a:lnTo>
                    <a:pt x="17" y="82"/>
                  </a:lnTo>
                  <a:lnTo>
                    <a:pt x="9" y="74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9" y="7"/>
                  </a:lnTo>
                  <a:lnTo>
                    <a:pt x="1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147760" y="4128840"/>
              <a:ext cx="147600" cy="161100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1811160" y="5763960"/>
              <a:ext cx="833760" cy="164880"/>
            </a:xfrm>
            <a:custGeom>
              <a:avLst/>
              <a:gdLst/>
              <a:ahLst/>
              <a:rect l="l" t="t" r="r" b="b"/>
              <a:pathLst>
                <a:path w="525" h="104">
                  <a:moveTo>
                    <a:pt x="51" y="0"/>
                  </a:moveTo>
                  <a:lnTo>
                    <a:pt x="466" y="0"/>
                  </a:lnTo>
                  <a:lnTo>
                    <a:pt x="474" y="0"/>
                  </a:lnTo>
                  <a:lnTo>
                    <a:pt x="491" y="0"/>
                  </a:lnTo>
                  <a:lnTo>
                    <a:pt x="500" y="7"/>
                  </a:lnTo>
                  <a:lnTo>
                    <a:pt x="508" y="15"/>
                  </a:lnTo>
                  <a:lnTo>
                    <a:pt x="517" y="22"/>
                  </a:lnTo>
                  <a:lnTo>
                    <a:pt x="517" y="30"/>
                  </a:lnTo>
                  <a:lnTo>
                    <a:pt x="517" y="37"/>
                  </a:lnTo>
                  <a:lnTo>
                    <a:pt x="525" y="44"/>
                  </a:lnTo>
                  <a:lnTo>
                    <a:pt x="525" y="52"/>
                  </a:lnTo>
                  <a:lnTo>
                    <a:pt x="517" y="67"/>
                  </a:lnTo>
                  <a:lnTo>
                    <a:pt x="517" y="74"/>
                  </a:lnTo>
                  <a:lnTo>
                    <a:pt x="517" y="81"/>
                  </a:lnTo>
                  <a:lnTo>
                    <a:pt x="508" y="89"/>
                  </a:lnTo>
                  <a:lnTo>
                    <a:pt x="500" y="96"/>
                  </a:lnTo>
                  <a:lnTo>
                    <a:pt x="491" y="96"/>
                  </a:lnTo>
                  <a:lnTo>
                    <a:pt x="474" y="104"/>
                  </a:lnTo>
                  <a:lnTo>
                    <a:pt x="466" y="104"/>
                  </a:lnTo>
                  <a:lnTo>
                    <a:pt x="51" y="104"/>
                  </a:lnTo>
                  <a:lnTo>
                    <a:pt x="42" y="104"/>
                  </a:lnTo>
                  <a:lnTo>
                    <a:pt x="34" y="96"/>
                  </a:lnTo>
                  <a:lnTo>
                    <a:pt x="25" y="96"/>
                  </a:lnTo>
                  <a:lnTo>
                    <a:pt x="17" y="89"/>
                  </a:lnTo>
                  <a:lnTo>
                    <a:pt x="8" y="81"/>
                  </a:lnTo>
                  <a:lnTo>
                    <a:pt x="0" y="74"/>
                  </a:lnTo>
                  <a:lnTo>
                    <a:pt x="0" y="67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8" y="22"/>
                  </a:lnTo>
                  <a:lnTo>
                    <a:pt x="17" y="15"/>
                  </a:lnTo>
                  <a:lnTo>
                    <a:pt x="25" y="7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353960" y="5952960"/>
              <a:ext cx="1748160" cy="2696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8" name=""/>
          <p:cNvSpPr/>
          <p:nvPr/>
        </p:nvSpPr>
        <p:spPr>
          <a:xfrm>
            <a:off x="609480" y="295596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1904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56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 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9" name=""/>
          <p:cNvGrpSpPr/>
          <p:nvPr/>
        </p:nvGrpSpPr>
        <p:grpSpPr>
          <a:xfrm>
            <a:off x="732600" y="3886200"/>
            <a:ext cx="3263760" cy="1434600"/>
            <a:chOff x="732600" y="3886200"/>
            <a:chExt cx="3263760" cy="1434600"/>
          </a:xfrm>
        </p:grpSpPr>
        <p:sp>
          <p:nvSpPr>
            <p:cNvPr id="1770" name=""/>
            <p:cNvSpPr/>
            <p:nvPr/>
          </p:nvSpPr>
          <p:spPr>
            <a:xfrm>
              <a:off x="1965960" y="4191120"/>
              <a:ext cx="500760" cy="764280"/>
            </a:xfrm>
            <a:prstGeom prst="rect">
              <a:avLst/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833760" y="4584960"/>
              <a:ext cx="114300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586240" y="4584960"/>
              <a:ext cx="121932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732600" y="3886200"/>
              <a:ext cx="3263760" cy="1434600"/>
            </a:xfrm>
            <a:prstGeom prst="rect">
              <a:avLst/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6600"/>
                  </a:solidFill>
                  <a:latin typeface="Comic Sans MS"/>
                </a:rPr>
                <a:t>1904</a:t>
              </a: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</a:rPr>
                <a:t>    </a:t>
              </a:r>
              <a:r>
                <a:rPr b="0" lang="en-US" sz="4400" spc="-1" strike="noStrike">
                  <a:solidFill>
                    <a:srgbClr val="006600"/>
                  </a:solidFill>
                  <a:latin typeface="Comic Sans MS"/>
                </a:rPr>
                <a:t>56</a:t>
              </a: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</a:rPr>
                <a:t>w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cc0000"/>
                  </a:solidFill>
                  <a:latin typeface="Comic Sans MS"/>
                </a:rPr>
                <a:t> </a:t>
              </a:r>
              <a:r>
                <a:rPr b="0" lang="en-US" sz="4400" spc="-1" strike="noStrike">
                  <a:solidFill>
                    <a:srgbClr val="cc0000"/>
                  </a:solidFill>
                  <a:latin typeface="Comic Sans MS"/>
                </a:rPr>
                <a:t>56       56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4" name=""/>
          <p:cNvGrpSpPr/>
          <p:nvPr/>
        </p:nvGrpSpPr>
        <p:grpSpPr>
          <a:xfrm>
            <a:off x="5791320" y="2819520"/>
            <a:ext cx="2666880" cy="3611160"/>
            <a:chOff x="5791320" y="2819520"/>
            <a:chExt cx="2666880" cy="3611160"/>
          </a:xfrm>
        </p:grpSpPr>
        <p:grpSp>
          <p:nvGrpSpPr>
            <p:cNvPr id="1775" name=""/>
            <p:cNvGrpSpPr/>
            <p:nvPr/>
          </p:nvGrpSpPr>
          <p:grpSpPr>
            <a:xfrm>
              <a:off x="5791320" y="2819520"/>
              <a:ext cx="2666880" cy="3611160"/>
              <a:chOff x="5791320" y="2819520"/>
              <a:chExt cx="2666880" cy="3611160"/>
            </a:xfrm>
          </p:grpSpPr>
          <p:sp>
            <p:nvSpPr>
              <p:cNvPr id="1776" name=""/>
              <p:cNvSpPr/>
              <p:nvPr/>
            </p:nvSpPr>
            <p:spPr>
              <a:xfrm>
                <a:off x="5791320" y="2822400"/>
                <a:ext cx="2666880" cy="3505320"/>
              </a:xfrm>
              <a:custGeom>
                <a:avLst/>
                <a:gdLst>
                  <a:gd name="textAreaLeft" fmla="*/ 78480 w 2666880"/>
                  <a:gd name="textAreaRight" fmla="*/ 2588400 w 2666880"/>
                  <a:gd name="textAreaTop" fmla="*/ 78480 h 3505320"/>
                  <a:gd name="textAreaBottom" fmla="*/ 3426840 h 3505320"/>
                </a:gdLst>
                <a:ahLst/>
                <a:rect l="textAreaLeft" t="textAreaTop" r="textAreaRight" b="textAreaBottom"/>
                <a:pathLst>
                  <a:path w="21600" h="28390">
                    <a:moveTo>
                      <a:pt x="2173" y="0"/>
                    </a:moveTo>
                    <a:arcTo wR="2173" hR="2173" stAng="16200000" swAng="-5400000"/>
                    <a:lnTo>
                      <a:pt x="0" y="26217"/>
                    </a:lnTo>
                    <a:arcTo wR="2173" hR="2173" stAng="10800000" swAng="-5400000"/>
                    <a:lnTo>
                      <a:pt x="19427" y="28390"/>
                    </a:lnTo>
                    <a:arcTo wR="2173" hR="2173" stAng="5400000" swAng="-5400000"/>
                    <a:lnTo>
                      <a:pt x="21600" y="2173"/>
                    </a:lnTo>
                    <a:arcTo wR="2173" hR="2173" stAng="0" swAng="-5400000"/>
                    <a:close/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777" name=""/>
                  <p:cNvSpPr txBox="1"/>
                  <p:nvPr/>
                </p:nvSpPr>
                <p:spPr>
                  <a:xfrm>
                    <a:off x="5943600" y="3360600"/>
                    <a:ext cx="2209320" cy="816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t xml:space="preserve">|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904</m:t>
                            </m:r>
                          </m:e>
                        </m:ba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778" name=""/>
              <p:cNvSpPr/>
              <p:nvPr/>
            </p:nvSpPr>
            <p:spPr>
              <a:xfrm>
                <a:off x="7308000" y="2819520"/>
                <a:ext cx="7599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  <a:ea typeface="Tahoma"/>
                  </a:rPr>
                  <a:t>34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6512400" y="3921120"/>
                <a:ext cx="1212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  <a:ea typeface="Tahoma"/>
                  </a:rPr>
                  <a:t>-168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6928920" y="4508280"/>
                <a:ext cx="1265760" cy="19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  <a:ea typeface="Tahoma"/>
                  </a:rPr>
                  <a:t> 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  <a:ea typeface="Tahoma"/>
                  </a:rPr>
                  <a:t>224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  <a:ea typeface="Tahoma"/>
                  </a:rPr>
                  <a:t>-224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  <a:ea typeface="Tahoma"/>
                  </a:rPr>
                  <a:t>      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  <a:ea typeface="Tahoma"/>
                  </a:rPr>
                  <a:t>0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1" name=""/>
            <p:cNvSpPr/>
            <p:nvPr/>
          </p:nvSpPr>
          <p:spPr>
            <a:xfrm>
              <a:off x="6477120" y="449568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6705720" y="579132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3" name=""/>
          <p:cNvSpPr/>
          <p:nvPr/>
        </p:nvSpPr>
        <p:spPr>
          <a:xfrm>
            <a:off x="1154880" y="5253120"/>
            <a:ext cx="273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w = 34f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3293280" y="533520"/>
            <a:ext cx="20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5715000" y="1447920"/>
            <a:ext cx="2139840" cy="91692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A =</a:t>
            </a:r>
            <a:r>
              <a:rPr b="0" lang="en-US" sz="5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cc00"/>
                </a:solidFill>
                <a:latin typeface="Comic Sans MS"/>
              </a:rPr>
              <a:t>l</a:t>
            </a: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838080" y="152388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nalysi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se area formula to find wid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500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2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"/>
          <p:cNvSpPr/>
          <p:nvPr/>
        </p:nvSpPr>
        <p:spPr>
          <a:xfrm>
            <a:off x="3639240" y="62388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593640" y="1371600"/>
            <a:ext cx="588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We have seen how t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685800" y="20574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ivide whole numb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0" name="" descr=""/>
          <p:cNvPicPr/>
          <p:nvPr/>
        </p:nvPicPr>
        <p:blipFill>
          <a:blip r:embed="rId1"/>
          <a:stretch/>
        </p:blipFill>
        <p:spPr>
          <a:xfrm>
            <a:off x="3581280" y="2971800"/>
            <a:ext cx="4505400" cy="3400560"/>
          </a:xfrm>
          <a:prstGeom prst="rect">
            <a:avLst/>
          </a:prstGeom>
          <a:ln w="0">
            <a:noFill/>
          </a:ln>
        </p:spPr>
      </p:pic>
      <p:grpSp>
        <p:nvGrpSpPr>
          <p:cNvPr id="1791" name=""/>
          <p:cNvGrpSpPr/>
          <p:nvPr/>
        </p:nvGrpSpPr>
        <p:grpSpPr>
          <a:xfrm>
            <a:off x="838080" y="3048120"/>
            <a:ext cx="2210040" cy="2971800"/>
            <a:chOff x="838080" y="3048120"/>
            <a:chExt cx="2210040" cy="2971800"/>
          </a:xfrm>
        </p:grpSpPr>
        <p:sp>
          <p:nvSpPr>
            <p:cNvPr id="1792" name=""/>
            <p:cNvSpPr/>
            <p:nvPr/>
          </p:nvSpPr>
          <p:spPr>
            <a:xfrm>
              <a:off x="838080" y="3048120"/>
              <a:ext cx="221004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846000" y="3060360"/>
              <a:ext cx="219384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1463040" y="308520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1587240" y="309780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487880" y="312264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661760" y="314136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736280" y="316620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798200" y="317844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864440" y="318492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947240" y="322200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396800" y="324072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342800" y="324684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363680" y="324684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371960" y="324684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2017440" y="325944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2088000" y="327816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2137680" y="329040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2195640" y="330912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2237040" y="332172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645200" y="346464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877040" y="352044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657440" y="355176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723680" y="356400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893600" y="359496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765080" y="360756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922400" y="3632400"/>
              <a:ext cx="6624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951200" y="366336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524960" y="393696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512720" y="398052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2518560" y="408024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347120" y="4117320"/>
              <a:ext cx="120852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131840" y="419832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305720" y="424188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338840" y="425412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351080" y="4254120"/>
              <a:ext cx="124164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160640" y="434736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152360" y="440352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332080" y="440964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394360" y="442224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228760" y="444060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446480" y="447192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061280" y="450900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115280" y="452772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2183040" y="4534200"/>
              <a:ext cx="3312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866880" y="454644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330560" y="455256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156680" y="459000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891720" y="480744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024200" y="480744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289160" y="481392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264320" y="483228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231200" y="485100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947240" y="501264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2021760" y="503748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034000" y="507492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2063160" y="511848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367640" y="529272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"/>
          <p:cNvSpPr/>
          <p:nvPr/>
        </p:nvSpPr>
        <p:spPr>
          <a:xfrm>
            <a:off x="3639240" y="62388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609480" y="198108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  <a:tab algn="l" pos="7201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lve word problems involving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ole number div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593640" y="1371600"/>
            <a:ext cx="588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We have seen how t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2" name="" descr=""/>
          <p:cNvPicPr/>
          <p:nvPr/>
        </p:nvPicPr>
        <p:blipFill>
          <a:blip r:embed="rId1"/>
          <a:stretch/>
        </p:blipFill>
        <p:spPr>
          <a:xfrm>
            <a:off x="3809880" y="3429000"/>
            <a:ext cx="3810240" cy="2862360"/>
          </a:xfrm>
          <a:prstGeom prst="rect">
            <a:avLst/>
          </a:prstGeom>
          <a:ln w="0">
            <a:noFill/>
          </a:ln>
        </p:spPr>
      </p:pic>
      <p:grpSp>
        <p:nvGrpSpPr>
          <p:cNvPr id="1853" name=""/>
          <p:cNvGrpSpPr/>
          <p:nvPr/>
        </p:nvGrpSpPr>
        <p:grpSpPr>
          <a:xfrm>
            <a:off x="1066680" y="3276720"/>
            <a:ext cx="1828800" cy="2819160"/>
            <a:chOff x="1066680" y="3276720"/>
            <a:chExt cx="1828800" cy="2819160"/>
          </a:xfrm>
        </p:grpSpPr>
        <p:sp>
          <p:nvSpPr>
            <p:cNvPr id="1854" name=""/>
            <p:cNvSpPr/>
            <p:nvPr/>
          </p:nvSpPr>
          <p:spPr>
            <a:xfrm>
              <a:off x="1066680" y="3276720"/>
              <a:ext cx="1828800" cy="28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073160" y="3288240"/>
              <a:ext cx="1815480" cy="27957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583640" y="3312000"/>
              <a:ext cx="95760" cy="18252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1686600" y="3323520"/>
              <a:ext cx="54720" cy="2005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604160" y="3347280"/>
              <a:ext cx="41040" cy="9432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748160" y="3364920"/>
              <a:ext cx="54720" cy="18252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809720" y="3388680"/>
              <a:ext cx="47880" cy="17676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861200" y="3400560"/>
              <a:ext cx="61560" cy="18252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915920" y="3406320"/>
              <a:ext cx="57960" cy="164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984320" y="3441600"/>
              <a:ext cx="44280" cy="15912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528920" y="3459240"/>
              <a:ext cx="705600" cy="112068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1484280" y="3465360"/>
              <a:ext cx="92160" cy="8020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1501560" y="3465360"/>
              <a:ext cx="99000" cy="81972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508400" y="3465360"/>
              <a:ext cx="119880" cy="10321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042640" y="3477240"/>
              <a:ext cx="47880" cy="13536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100960" y="3494880"/>
              <a:ext cx="34200" cy="1296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2142000" y="3506760"/>
              <a:ext cx="34200" cy="12384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2189880" y="3524400"/>
              <a:ext cx="23760" cy="10584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2224440" y="3535920"/>
              <a:ext cx="30600" cy="11196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734480" y="3671640"/>
              <a:ext cx="184680" cy="37728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926360" y="3724920"/>
              <a:ext cx="154080" cy="38916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744560" y="3754440"/>
              <a:ext cx="143640" cy="27108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799640" y="3765960"/>
              <a:ext cx="71640" cy="11772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940040" y="3795480"/>
              <a:ext cx="126720" cy="29484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833840" y="3807360"/>
              <a:ext cx="16920" cy="291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963800" y="3831120"/>
              <a:ext cx="54720" cy="9432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987920" y="3860640"/>
              <a:ext cx="16920" cy="352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635120" y="4120200"/>
              <a:ext cx="47880" cy="352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624680" y="4161240"/>
              <a:ext cx="428040" cy="164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2457360" y="4255560"/>
              <a:ext cx="284040" cy="28296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487880" y="4291200"/>
              <a:ext cx="1000080" cy="44208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309680" y="4367880"/>
              <a:ext cx="140400" cy="19440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453680" y="4408920"/>
              <a:ext cx="20520" cy="1000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481040" y="4420800"/>
              <a:ext cx="23760" cy="1000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491120" y="4420800"/>
              <a:ext cx="1027440" cy="41868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333800" y="4509360"/>
              <a:ext cx="267120" cy="5367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326960" y="4562280"/>
              <a:ext cx="85320" cy="164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302920" y="4568400"/>
              <a:ext cx="61560" cy="164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354400" y="4580280"/>
              <a:ext cx="99000" cy="13536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217600" y="4597920"/>
              <a:ext cx="82080" cy="17676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569960" y="4627440"/>
              <a:ext cx="684720" cy="24156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251360" y="4662720"/>
              <a:ext cx="61560" cy="31824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296000" y="4680360"/>
              <a:ext cx="30600" cy="2653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179800" y="4686480"/>
              <a:ext cx="27360" cy="5292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090440" y="4698000"/>
              <a:ext cx="188280" cy="37152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474200" y="4704120"/>
              <a:ext cx="691920" cy="81396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330200" y="4739400"/>
              <a:ext cx="16920" cy="10584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110960" y="4945680"/>
              <a:ext cx="119520" cy="1000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220760" y="4945680"/>
              <a:ext cx="30600" cy="4104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1440000" y="4951800"/>
              <a:ext cx="37440" cy="52488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1419120" y="4969440"/>
              <a:ext cx="37440" cy="50112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1391760" y="4987080"/>
              <a:ext cx="37440" cy="44820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1984320" y="5140440"/>
              <a:ext cx="218880" cy="8964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046240" y="5164200"/>
              <a:ext cx="34200" cy="7668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056320" y="5199480"/>
              <a:ext cx="23760" cy="4716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080440" y="5240880"/>
              <a:ext cx="10080" cy="1764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504800" y="5405760"/>
              <a:ext cx="256680" cy="65448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348720" y="533520"/>
            <a:ext cx="18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1295280"/>
            <a:ext cx="73882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If there are 12 students in my class, how many study groups of 4 each can I hav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990720" y="3352680"/>
            <a:ext cx="2332080" cy="2057400"/>
            <a:chOff x="990720" y="3352680"/>
            <a:chExt cx="2332080" cy="205740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990720" y="3352680"/>
              <a:ext cx="80784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1447920" y="3657600"/>
              <a:ext cx="80784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3"/>
            <a:stretch/>
          </p:blipFill>
          <p:spPr>
            <a:xfrm>
              <a:off x="2057400" y="3352680"/>
              <a:ext cx="8082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2514600" y="3809880"/>
              <a:ext cx="808200" cy="160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"/>
          <p:cNvGrpSpPr/>
          <p:nvPr/>
        </p:nvGrpSpPr>
        <p:grpSpPr>
          <a:xfrm>
            <a:off x="2971800" y="3352680"/>
            <a:ext cx="2332080" cy="2057400"/>
            <a:chOff x="2971800" y="3352680"/>
            <a:chExt cx="2332080" cy="2057400"/>
          </a:xfrm>
        </p:grpSpPr>
        <p:pic>
          <p:nvPicPr>
            <p:cNvPr id="159" name="" descr=""/>
            <p:cNvPicPr/>
            <p:nvPr/>
          </p:nvPicPr>
          <p:blipFill>
            <a:blip r:embed="rId5"/>
            <a:stretch/>
          </p:blipFill>
          <p:spPr>
            <a:xfrm>
              <a:off x="2971800" y="3352680"/>
              <a:ext cx="80784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6"/>
            <a:stretch/>
          </p:blipFill>
          <p:spPr>
            <a:xfrm>
              <a:off x="3429000" y="3657600"/>
              <a:ext cx="80784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7"/>
            <a:stretch/>
          </p:blipFill>
          <p:spPr>
            <a:xfrm>
              <a:off x="4038480" y="3352680"/>
              <a:ext cx="8082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8"/>
            <a:stretch/>
          </p:blipFill>
          <p:spPr>
            <a:xfrm>
              <a:off x="4495680" y="3809880"/>
              <a:ext cx="808200" cy="160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3" name=""/>
          <p:cNvGrpSpPr/>
          <p:nvPr/>
        </p:nvGrpSpPr>
        <p:grpSpPr>
          <a:xfrm>
            <a:off x="5211720" y="3352680"/>
            <a:ext cx="2332080" cy="2057400"/>
            <a:chOff x="5211720" y="3352680"/>
            <a:chExt cx="2332080" cy="2057400"/>
          </a:xfrm>
        </p:grpSpPr>
        <p:pic>
          <p:nvPicPr>
            <p:cNvPr id="164" name="" descr=""/>
            <p:cNvPicPr/>
            <p:nvPr/>
          </p:nvPicPr>
          <p:blipFill>
            <a:blip r:embed="rId9"/>
            <a:stretch/>
          </p:blipFill>
          <p:spPr>
            <a:xfrm>
              <a:off x="5211720" y="3352680"/>
              <a:ext cx="80784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10"/>
            <a:stretch/>
          </p:blipFill>
          <p:spPr>
            <a:xfrm>
              <a:off x="5668920" y="3657600"/>
              <a:ext cx="80784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11"/>
            <a:stretch/>
          </p:blipFill>
          <p:spPr>
            <a:xfrm>
              <a:off x="6278400" y="3352680"/>
              <a:ext cx="8082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12"/>
            <a:stretch/>
          </p:blipFill>
          <p:spPr>
            <a:xfrm>
              <a:off x="6735600" y="3809880"/>
              <a:ext cx="808200" cy="160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"/>
          <p:cNvSpPr/>
          <p:nvPr/>
        </p:nvSpPr>
        <p:spPr>
          <a:xfrm>
            <a:off x="3639240" y="62388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762120" y="19051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lve equations involving whole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umber div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609480" y="1295280"/>
            <a:ext cx="588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We have seen how t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4" name="" descr=""/>
          <p:cNvPicPr/>
          <p:nvPr/>
        </p:nvPicPr>
        <p:blipFill>
          <a:blip r:embed="rId1"/>
          <a:stretch/>
        </p:blipFill>
        <p:spPr>
          <a:xfrm>
            <a:off x="3886200" y="3200400"/>
            <a:ext cx="4191120" cy="3125880"/>
          </a:xfrm>
          <a:prstGeom prst="rect">
            <a:avLst/>
          </a:prstGeom>
          <a:ln w="0">
            <a:noFill/>
          </a:ln>
        </p:spPr>
      </p:pic>
      <p:grpSp>
        <p:nvGrpSpPr>
          <p:cNvPr id="1915" name=""/>
          <p:cNvGrpSpPr/>
          <p:nvPr/>
        </p:nvGrpSpPr>
        <p:grpSpPr>
          <a:xfrm>
            <a:off x="1143000" y="3276720"/>
            <a:ext cx="2209680" cy="2971800"/>
            <a:chOff x="1143000" y="3276720"/>
            <a:chExt cx="2209680" cy="2971800"/>
          </a:xfrm>
        </p:grpSpPr>
        <p:sp>
          <p:nvSpPr>
            <p:cNvPr id="1916" name=""/>
            <p:cNvSpPr/>
            <p:nvPr/>
          </p:nvSpPr>
          <p:spPr>
            <a:xfrm>
              <a:off x="1143000" y="327672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150920" y="328896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1767600" y="331380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1891800" y="332640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1792440" y="335124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1966320" y="336996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2040840" y="339480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2103120" y="340704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2169360" y="341352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2251800" y="345060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701360" y="346932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1647720" y="347544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668600" y="347544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1676520" y="347544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2322360" y="348804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392560" y="350676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2442240" y="351900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2500200" y="353772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2541600" y="355032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949760" y="369324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2181600" y="374904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962360" y="378036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2028600" y="379260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2198160" y="382356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070000" y="383616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2227320" y="386100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2256120" y="389196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829880" y="416556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817280" y="420912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823120" y="430884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652040" y="434592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436760" y="442692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610640" y="447048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643760" y="448272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656000" y="448272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465560" y="457596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457280" y="463212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637000" y="463824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698920" y="465084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533320" y="466920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751040" y="470052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1366200" y="473760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1420200" y="475632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487960" y="476280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171800" y="477504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635480" y="478116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461600" y="481860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196640" y="503604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329120" y="503604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594080" y="504252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569240" y="506088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536120" y="507960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2251800" y="524124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2326320" y="526608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2338920" y="530352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2367720" y="534708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1672560" y="552132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3" name="" descr=""/>
          <p:cNvPicPr/>
          <p:nvPr/>
        </p:nvPicPr>
        <p:blipFill>
          <a:blip r:embed="rId1"/>
          <a:stretch/>
        </p:blipFill>
        <p:spPr>
          <a:xfrm>
            <a:off x="609480" y="1335240"/>
            <a:ext cx="3429000" cy="2550960"/>
          </a:xfrm>
          <a:prstGeom prst="rect">
            <a:avLst/>
          </a:prstGeom>
          <a:ln w="0">
            <a:noFill/>
          </a:ln>
        </p:spPr>
      </p:pic>
      <p:pic>
        <p:nvPicPr>
          <p:cNvPr id="1974" name="" descr=""/>
          <p:cNvPicPr/>
          <p:nvPr/>
        </p:nvPicPr>
        <p:blipFill>
          <a:blip r:embed="rId2"/>
          <a:stretch/>
        </p:blipFill>
        <p:spPr>
          <a:xfrm>
            <a:off x="3505320" y="2590920"/>
            <a:ext cx="4952880" cy="3740040"/>
          </a:xfrm>
          <a:prstGeom prst="rect">
            <a:avLst/>
          </a:prstGeom>
          <a:ln w="0">
            <a:noFill/>
          </a:ln>
        </p:spPr>
      </p:pic>
      <p:sp>
        <p:nvSpPr>
          <p:cNvPr id="1975" name=""/>
          <p:cNvSpPr/>
          <p:nvPr/>
        </p:nvSpPr>
        <p:spPr>
          <a:xfrm>
            <a:off x="4648320" y="1447920"/>
            <a:ext cx="312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Next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6" name=""/>
          <p:cNvGrpSpPr/>
          <p:nvPr/>
        </p:nvGrpSpPr>
        <p:grpSpPr>
          <a:xfrm>
            <a:off x="1523880" y="3886200"/>
            <a:ext cx="1905480" cy="1235160"/>
            <a:chOff x="1523880" y="3886200"/>
            <a:chExt cx="1905480" cy="1235160"/>
          </a:xfrm>
        </p:grpSpPr>
        <p:cxnSp>
          <p:nvCxnSpPr>
            <p:cNvPr id="1977" name=""/>
            <p:cNvCxnSpPr/>
            <p:nvPr/>
          </p:nvCxnSpPr>
          <p:spPr>
            <a:xfrm flipH="1" rot="16200000">
              <a:off x="1859040" y="3550680"/>
              <a:ext cx="1235520" cy="190584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1978" name=""/>
            <p:cNvSpPr/>
            <p:nvPr/>
          </p:nvSpPr>
          <p:spPr>
            <a:xfrm>
              <a:off x="3012480" y="5113440"/>
              <a:ext cx="41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348720" y="533520"/>
            <a:ext cx="18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1295280"/>
            <a:ext cx="73882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If there are 12 students in my class, how many study groups of 4 each may I hav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09480" y="4267080"/>
            <a:ext cx="2332080" cy="2057400"/>
            <a:chOff x="609480" y="4267080"/>
            <a:chExt cx="2332080" cy="205740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609480" y="4267080"/>
              <a:ext cx="80784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1066680" y="4572000"/>
              <a:ext cx="80784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1676160" y="4267080"/>
              <a:ext cx="8082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2133360" y="4724280"/>
              <a:ext cx="808200" cy="160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" name=""/>
          <p:cNvGrpSpPr/>
          <p:nvPr/>
        </p:nvGrpSpPr>
        <p:grpSpPr>
          <a:xfrm>
            <a:off x="2971800" y="3124080"/>
            <a:ext cx="2332080" cy="2057400"/>
            <a:chOff x="2971800" y="3124080"/>
            <a:chExt cx="2332080" cy="2057400"/>
          </a:xfrm>
        </p:grpSpPr>
        <p:pic>
          <p:nvPicPr>
            <p:cNvPr id="176" name="" descr=""/>
            <p:cNvPicPr/>
            <p:nvPr/>
          </p:nvPicPr>
          <p:blipFill>
            <a:blip r:embed="rId5"/>
            <a:stretch/>
          </p:blipFill>
          <p:spPr>
            <a:xfrm>
              <a:off x="2971800" y="3124080"/>
              <a:ext cx="80784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6"/>
            <a:stretch/>
          </p:blipFill>
          <p:spPr>
            <a:xfrm>
              <a:off x="3429000" y="3429000"/>
              <a:ext cx="80784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7"/>
            <a:stretch/>
          </p:blipFill>
          <p:spPr>
            <a:xfrm>
              <a:off x="4038480" y="3124080"/>
              <a:ext cx="8082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8"/>
            <a:stretch/>
          </p:blipFill>
          <p:spPr>
            <a:xfrm>
              <a:off x="4495680" y="3581280"/>
              <a:ext cx="808200" cy="160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0" name=""/>
          <p:cNvGrpSpPr/>
          <p:nvPr/>
        </p:nvGrpSpPr>
        <p:grpSpPr>
          <a:xfrm>
            <a:off x="5973840" y="4114800"/>
            <a:ext cx="2332080" cy="2057400"/>
            <a:chOff x="5973840" y="4114800"/>
            <a:chExt cx="2332080" cy="2057400"/>
          </a:xfrm>
        </p:grpSpPr>
        <p:pic>
          <p:nvPicPr>
            <p:cNvPr id="181" name="" descr=""/>
            <p:cNvPicPr/>
            <p:nvPr/>
          </p:nvPicPr>
          <p:blipFill>
            <a:blip r:embed="rId9"/>
            <a:stretch/>
          </p:blipFill>
          <p:spPr>
            <a:xfrm>
              <a:off x="5973840" y="4114800"/>
              <a:ext cx="80784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10"/>
            <a:stretch/>
          </p:blipFill>
          <p:spPr>
            <a:xfrm>
              <a:off x="6431040" y="4419720"/>
              <a:ext cx="80784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11"/>
            <a:stretch/>
          </p:blipFill>
          <p:spPr>
            <a:xfrm>
              <a:off x="7040520" y="4114800"/>
              <a:ext cx="8082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12"/>
            <a:stretch/>
          </p:blipFill>
          <p:spPr>
            <a:xfrm>
              <a:off x="7497720" y="4572000"/>
              <a:ext cx="808200" cy="160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348720" y="533520"/>
            <a:ext cx="18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89960" y="3213000"/>
            <a:ext cx="9504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17960" y="3213000"/>
            <a:ext cx="17200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3333cc"/>
                </a:solidFill>
                <a:latin typeface="Comic Sans MS"/>
              </a:rPr>
              <a:t>12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64320" y="3244680"/>
            <a:ext cx="9504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 Sans MS"/>
              </a:rPr>
              <a:t>÷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82400" y="3244680"/>
            <a:ext cx="9504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99cc"/>
                </a:solidFill>
                <a:latin typeface="Comic Sans MS"/>
              </a:rPr>
              <a:t>4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00280" y="3213000"/>
            <a:ext cx="9504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6600"/>
                </a:solidFill>
                <a:latin typeface="Comic Sans MS"/>
              </a:rPr>
              <a:t>3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59080" y="4066560"/>
            <a:ext cx="3039840" cy="2108160"/>
            <a:chOff x="559080" y="4066560"/>
            <a:chExt cx="3039840" cy="2108160"/>
          </a:xfrm>
        </p:grpSpPr>
        <p:sp>
          <p:nvSpPr>
            <p:cNvPr id="192" name=""/>
            <p:cNvSpPr/>
            <p:nvPr/>
          </p:nvSpPr>
          <p:spPr>
            <a:xfrm>
              <a:off x="559080" y="5257800"/>
              <a:ext cx="3039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Dividend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3" name=""/>
            <p:cNvCxnSpPr>
              <a:stCxn id="192" idx="0"/>
              <a:endCxn id="187" idx="1"/>
            </p:cNvCxnSpPr>
            <p:nvPr/>
          </p:nvCxnSpPr>
          <p:spPr>
            <a:xfrm flipV="1" rot="16200000">
              <a:off x="1129680" y="4307760"/>
              <a:ext cx="1191240" cy="708840"/>
            </a:xfrm>
            <a:prstGeom prst="curvedConnector5">
              <a:avLst>
                <a:gd name="adj1" fmla="val 14117"/>
                <a:gd name="adj2" fmla="val 66107"/>
                <a:gd name="adj3" fmla="val 1411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94" name=""/>
          <p:cNvGrpSpPr/>
          <p:nvPr/>
        </p:nvGrpSpPr>
        <p:grpSpPr>
          <a:xfrm>
            <a:off x="5630040" y="4066560"/>
            <a:ext cx="3035160" cy="2184480"/>
            <a:chOff x="5630040" y="4066560"/>
            <a:chExt cx="3035160" cy="2184480"/>
          </a:xfrm>
        </p:grpSpPr>
        <p:sp>
          <p:nvSpPr>
            <p:cNvPr id="195" name=""/>
            <p:cNvSpPr/>
            <p:nvPr/>
          </p:nvSpPr>
          <p:spPr>
            <a:xfrm>
              <a:off x="5630040" y="5334120"/>
              <a:ext cx="303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6600"/>
                  </a:solidFill>
                  <a:latin typeface="Comic Sans MS"/>
                </a:rPr>
                <a:t>Quotient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6" name=""/>
            <p:cNvCxnSpPr>
              <a:stCxn id="195" idx="0"/>
              <a:endCxn id="190" idx="3"/>
            </p:cNvCxnSpPr>
            <p:nvPr/>
          </p:nvCxnSpPr>
          <p:spPr>
            <a:xfrm flipH="1" flipV="1" rot="5400000">
              <a:off x="6530040" y="4685040"/>
              <a:ext cx="1267560" cy="30600"/>
            </a:xfrm>
            <a:prstGeom prst="curvedConnector5">
              <a:avLst>
                <a:gd name="adj1" fmla="val 16278"/>
                <a:gd name="adj2" fmla="val 433333"/>
                <a:gd name="adj3" fmla="val 16278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97" name=""/>
          <p:cNvGrpSpPr/>
          <p:nvPr/>
        </p:nvGrpSpPr>
        <p:grpSpPr>
          <a:xfrm>
            <a:off x="4556880" y="1676520"/>
            <a:ext cx="3650760" cy="1568520"/>
            <a:chOff x="4556880" y="1676520"/>
            <a:chExt cx="3650760" cy="1568520"/>
          </a:xfrm>
        </p:grpSpPr>
        <p:sp>
          <p:nvSpPr>
            <p:cNvPr id="198" name=""/>
            <p:cNvSpPr/>
            <p:nvPr/>
          </p:nvSpPr>
          <p:spPr>
            <a:xfrm>
              <a:off x="5795640" y="1676520"/>
              <a:ext cx="241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99cc"/>
                  </a:solidFill>
                  <a:latin typeface="Comic Sans MS"/>
                </a:rPr>
                <a:t>Divisor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9" name=""/>
            <p:cNvCxnSpPr>
              <a:stCxn id="198" idx="2"/>
              <a:endCxn id="189" idx="0"/>
            </p:cNvCxnSpPr>
            <p:nvPr/>
          </p:nvCxnSpPr>
          <p:spPr>
            <a:xfrm rot="5400000">
              <a:off x="5452200" y="1695240"/>
              <a:ext cx="654480" cy="2445480"/>
            </a:xfrm>
            <a:prstGeom prst="curvedConnector5">
              <a:avLst>
                <a:gd name="adj1" fmla="val 49972"/>
                <a:gd name="adj2" fmla="val 50000"/>
                <a:gd name="adj3" fmla="val 4997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00" name=""/>
          <p:cNvGrpSpPr/>
          <p:nvPr/>
        </p:nvGrpSpPr>
        <p:grpSpPr>
          <a:xfrm>
            <a:off x="722520" y="1600200"/>
            <a:ext cx="3960360" cy="2134080"/>
            <a:chOff x="722520" y="1600200"/>
            <a:chExt cx="3960360" cy="2134080"/>
          </a:xfrm>
        </p:grpSpPr>
        <p:sp>
          <p:nvSpPr>
            <p:cNvPr id="201" name=""/>
            <p:cNvSpPr/>
            <p:nvPr/>
          </p:nvSpPr>
          <p:spPr>
            <a:xfrm>
              <a:off x="722520" y="1600200"/>
              <a:ext cx="39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Division Symbo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2" name=""/>
            <p:cNvCxnSpPr>
              <a:stCxn id="201" idx="2"/>
            </p:cNvCxnSpPr>
            <p:nvPr/>
          </p:nvCxnSpPr>
          <p:spPr>
            <a:xfrm flipH="1" rot="16200000">
              <a:off x="2426400" y="2578680"/>
              <a:ext cx="1432800" cy="878400"/>
            </a:xfrm>
            <a:prstGeom prst="curvedConnector5">
              <a:avLst>
                <a:gd name="adj1" fmla="val 49987"/>
                <a:gd name="adj2" fmla="val 49979"/>
                <a:gd name="adj3" fmla="val 4998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348720" y="533520"/>
            <a:ext cx="18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131560" y="2057400"/>
            <a:ext cx="4982760" cy="1347480"/>
            <a:chOff x="2131560" y="2057400"/>
            <a:chExt cx="4982760" cy="1347480"/>
          </a:xfrm>
        </p:grpSpPr>
        <p:sp>
          <p:nvSpPr>
            <p:cNvPr id="205" name=""/>
            <p:cNvSpPr/>
            <p:nvPr/>
          </p:nvSpPr>
          <p:spPr>
            <a:xfrm>
              <a:off x="2257560" y="2057400"/>
              <a:ext cx="4800600" cy="12283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131560" y="2091960"/>
              <a:ext cx="498276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8000" spc="-1" strike="noStrike">
                  <a:solidFill>
                    <a:srgbClr val="000000"/>
                  </a:solidFill>
                  <a:latin typeface="Comic Sans MS"/>
                </a:rPr>
                <a:t>12 ÷ 3 = 4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524160" y="1246320"/>
            <a:ext cx="586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Representing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914400" y="3505320"/>
            <a:ext cx="3200400" cy="2666880"/>
            <a:chOff x="914400" y="3505320"/>
            <a:chExt cx="3200400" cy="2666880"/>
          </a:xfrm>
        </p:grpSpPr>
        <p:sp>
          <p:nvSpPr>
            <p:cNvPr id="209" name=""/>
            <p:cNvSpPr/>
            <p:nvPr/>
          </p:nvSpPr>
          <p:spPr>
            <a:xfrm>
              <a:off x="914400" y="3505320"/>
              <a:ext cx="3200400" cy="266688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1066680" y="3670200"/>
                  <a:ext cx="2895840" cy="234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1" name=""/>
          <p:cNvGrpSpPr/>
          <p:nvPr/>
        </p:nvGrpSpPr>
        <p:grpSpPr>
          <a:xfrm>
            <a:off x="5029200" y="3505320"/>
            <a:ext cx="3200400" cy="2743200"/>
            <a:chOff x="5029200" y="3505320"/>
            <a:chExt cx="3200400" cy="2743200"/>
          </a:xfrm>
        </p:grpSpPr>
        <p:sp>
          <p:nvSpPr>
            <p:cNvPr id="212" name=""/>
            <p:cNvSpPr/>
            <p:nvPr/>
          </p:nvSpPr>
          <p:spPr>
            <a:xfrm>
              <a:off x="5029200" y="3505320"/>
              <a:ext cx="3200400" cy="274320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5372280" y="3657600"/>
                  <a:ext cx="2171520" cy="243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348720" y="533520"/>
            <a:ext cx="18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7480" y="1298520"/>
            <a:ext cx="6826320" cy="7642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omic Sans MS"/>
              </a:rPr>
              <a:t>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52480" y="2057400"/>
            <a:ext cx="463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s related to.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67080" y="480060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4 X 2 = 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837720" y="3886200"/>
            <a:ext cx="2133360" cy="2437560"/>
            <a:chOff x="837720" y="3886200"/>
            <a:chExt cx="2133360" cy="2437560"/>
          </a:xfrm>
        </p:grpSpPr>
        <p:grpSp>
          <p:nvGrpSpPr>
            <p:cNvPr id="219" name=""/>
            <p:cNvGrpSpPr/>
            <p:nvPr/>
          </p:nvGrpSpPr>
          <p:grpSpPr>
            <a:xfrm>
              <a:off x="1996200" y="5196240"/>
              <a:ext cx="974880" cy="1127520"/>
              <a:chOff x="1996200" y="5196240"/>
              <a:chExt cx="974880" cy="1127520"/>
            </a:xfrm>
          </p:grpSpPr>
          <p:sp>
            <p:nvSpPr>
              <p:cNvPr id="220" name=""/>
              <p:cNvSpPr/>
              <p:nvPr/>
            </p:nvSpPr>
            <p:spPr>
              <a:xfrm>
                <a:off x="2018880" y="5316480"/>
                <a:ext cx="915120" cy="984960"/>
              </a:xfrm>
              <a:custGeom>
                <a:avLst/>
                <a:gdLst/>
                <a:ahLst/>
                <a:rect l="l" t="t" r="r" b="b"/>
                <a:pathLst>
                  <a:path w="4164" h="3761">
                    <a:moveTo>
                      <a:pt x="0" y="1840"/>
                    </a:moveTo>
                    <a:lnTo>
                      <a:pt x="731" y="1861"/>
                    </a:lnTo>
                    <a:lnTo>
                      <a:pt x="1837" y="2435"/>
                    </a:lnTo>
                    <a:lnTo>
                      <a:pt x="1575" y="2790"/>
                    </a:lnTo>
                    <a:lnTo>
                      <a:pt x="1243" y="3260"/>
                    </a:lnTo>
                    <a:lnTo>
                      <a:pt x="1389" y="3573"/>
                    </a:lnTo>
                    <a:lnTo>
                      <a:pt x="1889" y="3761"/>
                    </a:lnTo>
                    <a:lnTo>
                      <a:pt x="2619" y="3720"/>
                    </a:lnTo>
                    <a:lnTo>
                      <a:pt x="3016" y="3376"/>
                    </a:lnTo>
                    <a:lnTo>
                      <a:pt x="3392" y="1724"/>
                    </a:lnTo>
                    <a:lnTo>
                      <a:pt x="4164" y="429"/>
                    </a:lnTo>
                    <a:lnTo>
                      <a:pt x="4048" y="272"/>
                    </a:lnTo>
                    <a:lnTo>
                      <a:pt x="3434" y="62"/>
                    </a:lnTo>
                    <a:lnTo>
                      <a:pt x="2495" y="0"/>
                    </a:lnTo>
                    <a:lnTo>
                      <a:pt x="1377" y="209"/>
                    </a:lnTo>
                    <a:lnTo>
                      <a:pt x="543" y="846"/>
                    </a:lnTo>
                    <a:lnTo>
                      <a:pt x="157" y="1442"/>
                    </a:lnTo>
                    <a:lnTo>
                      <a:pt x="0" y="1840"/>
                    </a:lnTo>
                    <a:lnTo>
                      <a:pt x="0" y="1840"/>
                    </a:lnTo>
                    <a:close/>
                  </a:path>
                </a:pathLst>
              </a:custGeom>
              <a:solidFill>
                <a:srgbClr val="fbd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319480" y="5425920"/>
                <a:ext cx="410400" cy="210240"/>
              </a:xfrm>
              <a:custGeom>
                <a:avLst/>
                <a:gdLst/>
                <a:ahLst/>
                <a:rect l="l" t="t" r="r" b="b"/>
                <a:pathLst>
                  <a:path w="1866" h="804">
                    <a:moveTo>
                      <a:pt x="0" y="407"/>
                    </a:moveTo>
                    <a:lnTo>
                      <a:pt x="302" y="701"/>
                    </a:lnTo>
                    <a:lnTo>
                      <a:pt x="960" y="804"/>
                    </a:lnTo>
                    <a:lnTo>
                      <a:pt x="1617" y="637"/>
                    </a:lnTo>
                    <a:lnTo>
                      <a:pt x="1866" y="523"/>
                    </a:lnTo>
                    <a:lnTo>
                      <a:pt x="1648" y="220"/>
                    </a:lnTo>
                    <a:lnTo>
                      <a:pt x="1074" y="0"/>
                    </a:lnTo>
                    <a:lnTo>
                      <a:pt x="521" y="42"/>
                    </a:lnTo>
                    <a:lnTo>
                      <a:pt x="0" y="407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459160" y="5459040"/>
                <a:ext cx="130320" cy="150480"/>
              </a:xfrm>
              <a:custGeom>
                <a:avLst/>
                <a:gdLst/>
                <a:ahLst/>
                <a:rect l="l" t="t" r="r" b="b"/>
                <a:pathLst>
                  <a:path w="595" h="576">
                    <a:moveTo>
                      <a:pt x="407" y="0"/>
                    </a:moveTo>
                    <a:lnTo>
                      <a:pt x="167" y="0"/>
                    </a:lnTo>
                    <a:lnTo>
                      <a:pt x="0" y="242"/>
                    </a:lnTo>
                    <a:lnTo>
                      <a:pt x="104" y="491"/>
                    </a:lnTo>
                    <a:lnTo>
                      <a:pt x="397" y="576"/>
                    </a:lnTo>
                    <a:lnTo>
                      <a:pt x="595" y="314"/>
                    </a:lnTo>
                    <a:lnTo>
                      <a:pt x="407" y="0"/>
                    </a:lnTo>
                    <a:lnTo>
                      <a:pt x="407" y="0"/>
                    </a:lnTo>
                    <a:close/>
                  </a:path>
                </a:pathLst>
              </a:custGeom>
              <a:solidFill>
                <a:srgbClr val="99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297520" y="6142320"/>
                <a:ext cx="150480" cy="97200"/>
              </a:xfrm>
              <a:custGeom>
                <a:avLst/>
                <a:gdLst/>
                <a:ahLst/>
                <a:rect l="l" t="t" r="r" b="b"/>
                <a:pathLst>
                  <a:path w="686" h="373">
                    <a:moveTo>
                      <a:pt x="91" y="373"/>
                    </a:moveTo>
                    <a:lnTo>
                      <a:pt x="0" y="173"/>
                    </a:lnTo>
                    <a:lnTo>
                      <a:pt x="91" y="0"/>
                    </a:lnTo>
                    <a:lnTo>
                      <a:pt x="538" y="90"/>
                    </a:lnTo>
                    <a:lnTo>
                      <a:pt x="648" y="137"/>
                    </a:lnTo>
                    <a:lnTo>
                      <a:pt x="686" y="183"/>
                    </a:lnTo>
                    <a:lnTo>
                      <a:pt x="648" y="230"/>
                    </a:lnTo>
                    <a:lnTo>
                      <a:pt x="538" y="278"/>
                    </a:lnTo>
                    <a:lnTo>
                      <a:pt x="352" y="325"/>
                    </a:lnTo>
                    <a:lnTo>
                      <a:pt x="91" y="373"/>
                    </a:lnTo>
                    <a:lnTo>
                      <a:pt x="91" y="373"/>
                    </a:lnTo>
                    <a:close/>
                  </a:path>
                </a:pathLst>
              </a:custGeom>
              <a:solidFill>
                <a:srgbClr val="d42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996200" y="5682960"/>
                <a:ext cx="550800" cy="283680"/>
              </a:xfrm>
              <a:custGeom>
                <a:avLst/>
                <a:gdLst/>
                <a:ahLst/>
                <a:rect l="l" t="t" r="r" b="b"/>
                <a:pathLst>
                  <a:path w="2505" h="1083">
                    <a:moveTo>
                      <a:pt x="67" y="604"/>
                    </a:moveTo>
                    <a:lnTo>
                      <a:pt x="399" y="587"/>
                    </a:lnTo>
                    <a:lnTo>
                      <a:pt x="844" y="612"/>
                    </a:lnTo>
                    <a:lnTo>
                      <a:pt x="1087" y="713"/>
                    </a:lnTo>
                    <a:lnTo>
                      <a:pt x="1224" y="787"/>
                    </a:lnTo>
                    <a:lnTo>
                      <a:pt x="1361" y="866"/>
                    </a:lnTo>
                    <a:lnTo>
                      <a:pt x="1498" y="943"/>
                    </a:lnTo>
                    <a:lnTo>
                      <a:pt x="1627" y="1011"/>
                    </a:lnTo>
                    <a:lnTo>
                      <a:pt x="1743" y="1058"/>
                    </a:lnTo>
                    <a:lnTo>
                      <a:pt x="1844" y="1083"/>
                    </a:lnTo>
                    <a:lnTo>
                      <a:pt x="2100" y="1055"/>
                    </a:lnTo>
                    <a:lnTo>
                      <a:pt x="2311" y="918"/>
                    </a:lnTo>
                    <a:lnTo>
                      <a:pt x="2452" y="707"/>
                    </a:lnTo>
                    <a:lnTo>
                      <a:pt x="2505" y="454"/>
                    </a:lnTo>
                    <a:lnTo>
                      <a:pt x="2469" y="245"/>
                    </a:lnTo>
                    <a:lnTo>
                      <a:pt x="2425" y="161"/>
                    </a:lnTo>
                    <a:lnTo>
                      <a:pt x="2366" y="95"/>
                    </a:lnTo>
                    <a:lnTo>
                      <a:pt x="2294" y="42"/>
                    </a:lnTo>
                    <a:lnTo>
                      <a:pt x="2209" y="9"/>
                    </a:lnTo>
                    <a:lnTo>
                      <a:pt x="1999" y="0"/>
                    </a:lnTo>
                    <a:lnTo>
                      <a:pt x="1836" y="66"/>
                    </a:lnTo>
                    <a:lnTo>
                      <a:pt x="1718" y="203"/>
                    </a:lnTo>
                    <a:lnTo>
                      <a:pt x="1648" y="367"/>
                    </a:lnTo>
                    <a:lnTo>
                      <a:pt x="1629" y="513"/>
                    </a:lnTo>
                    <a:lnTo>
                      <a:pt x="1648" y="574"/>
                    </a:lnTo>
                    <a:lnTo>
                      <a:pt x="1688" y="616"/>
                    </a:lnTo>
                    <a:lnTo>
                      <a:pt x="1806" y="642"/>
                    </a:lnTo>
                    <a:lnTo>
                      <a:pt x="1923" y="595"/>
                    </a:lnTo>
                    <a:lnTo>
                      <a:pt x="1984" y="479"/>
                    </a:lnTo>
                    <a:lnTo>
                      <a:pt x="1969" y="370"/>
                    </a:lnTo>
                    <a:lnTo>
                      <a:pt x="1929" y="308"/>
                    </a:lnTo>
                    <a:lnTo>
                      <a:pt x="1876" y="222"/>
                    </a:lnTo>
                    <a:lnTo>
                      <a:pt x="1895" y="171"/>
                    </a:lnTo>
                    <a:lnTo>
                      <a:pt x="1937" y="133"/>
                    </a:lnTo>
                    <a:lnTo>
                      <a:pt x="2041" y="99"/>
                    </a:lnTo>
                    <a:lnTo>
                      <a:pt x="2157" y="129"/>
                    </a:lnTo>
                    <a:lnTo>
                      <a:pt x="2248" y="205"/>
                    </a:lnTo>
                    <a:lnTo>
                      <a:pt x="2332" y="429"/>
                    </a:lnTo>
                    <a:lnTo>
                      <a:pt x="2311" y="572"/>
                    </a:lnTo>
                    <a:lnTo>
                      <a:pt x="2254" y="709"/>
                    </a:lnTo>
                    <a:lnTo>
                      <a:pt x="2212" y="768"/>
                    </a:lnTo>
                    <a:lnTo>
                      <a:pt x="2167" y="819"/>
                    </a:lnTo>
                    <a:lnTo>
                      <a:pt x="2115" y="855"/>
                    </a:lnTo>
                    <a:lnTo>
                      <a:pt x="2058" y="876"/>
                    </a:lnTo>
                    <a:lnTo>
                      <a:pt x="1800" y="853"/>
                    </a:lnTo>
                    <a:lnTo>
                      <a:pt x="1678" y="798"/>
                    </a:lnTo>
                    <a:lnTo>
                      <a:pt x="1562" y="728"/>
                    </a:lnTo>
                    <a:lnTo>
                      <a:pt x="1450" y="650"/>
                    </a:lnTo>
                    <a:lnTo>
                      <a:pt x="1342" y="572"/>
                    </a:lnTo>
                    <a:lnTo>
                      <a:pt x="1239" y="503"/>
                    </a:lnTo>
                    <a:lnTo>
                      <a:pt x="1140" y="454"/>
                    </a:lnTo>
                    <a:lnTo>
                      <a:pt x="939" y="393"/>
                    </a:lnTo>
                    <a:lnTo>
                      <a:pt x="713" y="349"/>
                    </a:lnTo>
                    <a:lnTo>
                      <a:pt x="247" y="338"/>
                    </a:lnTo>
                    <a:lnTo>
                      <a:pt x="131" y="387"/>
                    </a:lnTo>
                    <a:lnTo>
                      <a:pt x="0" y="551"/>
                    </a:lnTo>
                    <a:lnTo>
                      <a:pt x="67" y="604"/>
                    </a:lnTo>
                    <a:lnTo>
                      <a:pt x="67" y="6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996200" y="5302800"/>
                <a:ext cx="953640" cy="1020960"/>
              </a:xfrm>
              <a:custGeom>
                <a:avLst/>
                <a:gdLst/>
                <a:ahLst/>
                <a:rect l="l" t="t" r="r" b="b"/>
                <a:pathLst>
                  <a:path w="4339" h="3901">
                    <a:moveTo>
                      <a:pt x="247" y="1892"/>
                    </a:moveTo>
                    <a:lnTo>
                      <a:pt x="321" y="1671"/>
                    </a:lnTo>
                    <a:lnTo>
                      <a:pt x="371" y="1550"/>
                    </a:lnTo>
                    <a:lnTo>
                      <a:pt x="428" y="1424"/>
                    </a:lnTo>
                    <a:lnTo>
                      <a:pt x="496" y="1295"/>
                    </a:lnTo>
                    <a:lnTo>
                      <a:pt x="578" y="1166"/>
                    </a:lnTo>
                    <a:lnTo>
                      <a:pt x="673" y="1035"/>
                    </a:lnTo>
                    <a:lnTo>
                      <a:pt x="785" y="907"/>
                    </a:lnTo>
                    <a:lnTo>
                      <a:pt x="914" y="784"/>
                    </a:lnTo>
                    <a:lnTo>
                      <a:pt x="1062" y="666"/>
                    </a:lnTo>
                    <a:lnTo>
                      <a:pt x="1144" y="609"/>
                    </a:lnTo>
                    <a:lnTo>
                      <a:pt x="1232" y="554"/>
                    </a:lnTo>
                    <a:lnTo>
                      <a:pt x="1325" y="502"/>
                    </a:lnTo>
                    <a:lnTo>
                      <a:pt x="1422" y="453"/>
                    </a:lnTo>
                    <a:lnTo>
                      <a:pt x="1526" y="407"/>
                    </a:lnTo>
                    <a:lnTo>
                      <a:pt x="1636" y="364"/>
                    </a:lnTo>
                    <a:lnTo>
                      <a:pt x="1752" y="324"/>
                    </a:lnTo>
                    <a:lnTo>
                      <a:pt x="1876" y="286"/>
                    </a:lnTo>
                    <a:lnTo>
                      <a:pt x="2144" y="223"/>
                    </a:lnTo>
                    <a:lnTo>
                      <a:pt x="2439" y="177"/>
                    </a:lnTo>
                    <a:lnTo>
                      <a:pt x="2866" y="153"/>
                    </a:lnTo>
                    <a:lnTo>
                      <a:pt x="3336" y="183"/>
                    </a:lnTo>
                    <a:lnTo>
                      <a:pt x="3792" y="284"/>
                    </a:lnTo>
                    <a:lnTo>
                      <a:pt x="3999" y="364"/>
                    </a:lnTo>
                    <a:lnTo>
                      <a:pt x="4183" y="468"/>
                    </a:lnTo>
                    <a:lnTo>
                      <a:pt x="4172" y="519"/>
                    </a:lnTo>
                    <a:lnTo>
                      <a:pt x="4103" y="633"/>
                    </a:lnTo>
                    <a:lnTo>
                      <a:pt x="4054" y="709"/>
                    </a:lnTo>
                    <a:lnTo>
                      <a:pt x="3997" y="795"/>
                    </a:lnTo>
                    <a:lnTo>
                      <a:pt x="3932" y="890"/>
                    </a:lnTo>
                    <a:lnTo>
                      <a:pt x="3864" y="991"/>
                    </a:lnTo>
                    <a:lnTo>
                      <a:pt x="3792" y="1097"/>
                    </a:lnTo>
                    <a:lnTo>
                      <a:pt x="3718" y="1206"/>
                    </a:lnTo>
                    <a:lnTo>
                      <a:pt x="3645" y="1318"/>
                    </a:lnTo>
                    <a:lnTo>
                      <a:pt x="3577" y="1426"/>
                    </a:lnTo>
                    <a:lnTo>
                      <a:pt x="3512" y="1534"/>
                    </a:lnTo>
                    <a:lnTo>
                      <a:pt x="3453" y="1637"/>
                    </a:lnTo>
                    <a:lnTo>
                      <a:pt x="3364" y="1825"/>
                    </a:lnTo>
                    <a:lnTo>
                      <a:pt x="3250" y="2186"/>
                    </a:lnTo>
                    <a:lnTo>
                      <a:pt x="3159" y="2572"/>
                    </a:lnTo>
                    <a:lnTo>
                      <a:pt x="3077" y="2964"/>
                    </a:lnTo>
                    <a:lnTo>
                      <a:pt x="2992" y="3340"/>
                    </a:lnTo>
                    <a:lnTo>
                      <a:pt x="2965" y="3405"/>
                    </a:lnTo>
                    <a:lnTo>
                      <a:pt x="2916" y="3485"/>
                    </a:lnTo>
                    <a:lnTo>
                      <a:pt x="2857" y="3559"/>
                    </a:lnTo>
                    <a:lnTo>
                      <a:pt x="2802" y="3604"/>
                    </a:lnTo>
                    <a:lnTo>
                      <a:pt x="2708" y="3652"/>
                    </a:lnTo>
                    <a:lnTo>
                      <a:pt x="2591" y="3696"/>
                    </a:lnTo>
                    <a:lnTo>
                      <a:pt x="2372" y="3738"/>
                    </a:lnTo>
                    <a:lnTo>
                      <a:pt x="1847" y="3690"/>
                    </a:lnTo>
                    <a:lnTo>
                      <a:pt x="1635" y="3604"/>
                    </a:lnTo>
                    <a:lnTo>
                      <a:pt x="1521" y="3439"/>
                    </a:lnTo>
                    <a:lnTo>
                      <a:pt x="1524" y="3253"/>
                    </a:lnTo>
                    <a:lnTo>
                      <a:pt x="1559" y="3158"/>
                    </a:lnTo>
                    <a:lnTo>
                      <a:pt x="1608" y="3063"/>
                    </a:lnTo>
                    <a:lnTo>
                      <a:pt x="1674" y="2970"/>
                    </a:lnTo>
                    <a:lnTo>
                      <a:pt x="1749" y="2880"/>
                    </a:lnTo>
                    <a:lnTo>
                      <a:pt x="1834" y="2797"/>
                    </a:lnTo>
                    <a:lnTo>
                      <a:pt x="1925" y="2719"/>
                    </a:lnTo>
                    <a:lnTo>
                      <a:pt x="2032" y="2631"/>
                    </a:lnTo>
                    <a:lnTo>
                      <a:pt x="2155" y="2521"/>
                    </a:lnTo>
                    <a:lnTo>
                      <a:pt x="2285" y="2390"/>
                    </a:lnTo>
                    <a:lnTo>
                      <a:pt x="2406" y="2238"/>
                    </a:lnTo>
                    <a:lnTo>
                      <a:pt x="1827" y="2479"/>
                    </a:lnTo>
                    <a:lnTo>
                      <a:pt x="1800" y="2595"/>
                    </a:lnTo>
                    <a:lnTo>
                      <a:pt x="1739" y="2715"/>
                    </a:lnTo>
                    <a:lnTo>
                      <a:pt x="1654" y="2838"/>
                    </a:lnTo>
                    <a:lnTo>
                      <a:pt x="1555" y="2960"/>
                    </a:lnTo>
                    <a:lnTo>
                      <a:pt x="1458" y="3082"/>
                    </a:lnTo>
                    <a:lnTo>
                      <a:pt x="1372" y="3203"/>
                    </a:lnTo>
                    <a:lnTo>
                      <a:pt x="1291" y="3430"/>
                    </a:lnTo>
                    <a:lnTo>
                      <a:pt x="1304" y="3502"/>
                    </a:lnTo>
                    <a:lnTo>
                      <a:pt x="1340" y="3570"/>
                    </a:lnTo>
                    <a:lnTo>
                      <a:pt x="1393" y="3637"/>
                    </a:lnTo>
                    <a:lnTo>
                      <a:pt x="1460" y="3696"/>
                    </a:lnTo>
                    <a:lnTo>
                      <a:pt x="1536" y="3749"/>
                    </a:lnTo>
                    <a:lnTo>
                      <a:pt x="1610" y="3793"/>
                    </a:lnTo>
                    <a:lnTo>
                      <a:pt x="1743" y="3844"/>
                    </a:lnTo>
                    <a:lnTo>
                      <a:pt x="1971" y="3880"/>
                    </a:lnTo>
                    <a:lnTo>
                      <a:pt x="2218" y="3901"/>
                    </a:lnTo>
                    <a:lnTo>
                      <a:pt x="2686" y="3869"/>
                    </a:lnTo>
                    <a:lnTo>
                      <a:pt x="2864" y="3802"/>
                    </a:lnTo>
                    <a:lnTo>
                      <a:pt x="3028" y="3675"/>
                    </a:lnTo>
                    <a:lnTo>
                      <a:pt x="3166" y="3511"/>
                    </a:lnTo>
                    <a:lnTo>
                      <a:pt x="3265" y="3331"/>
                    </a:lnTo>
                    <a:lnTo>
                      <a:pt x="3374" y="2989"/>
                    </a:lnTo>
                    <a:lnTo>
                      <a:pt x="3453" y="2601"/>
                    </a:lnTo>
                    <a:lnTo>
                      <a:pt x="3526" y="2209"/>
                    </a:lnTo>
                    <a:lnTo>
                      <a:pt x="3567" y="2025"/>
                    </a:lnTo>
                    <a:lnTo>
                      <a:pt x="3611" y="1858"/>
                    </a:lnTo>
                    <a:lnTo>
                      <a:pt x="3676" y="1690"/>
                    </a:lnTo>
                    <a:lnTo>
                      <a:pt x="3759" y="1523"/>
                    </a:lnTo>
                    <a:lnTo>
                      <a:pt x="3858" y="1354"/>
                    </a:lnTo>
                    <a:lnTo>
                      <a:pt x="3963" y="1187"/>
                    </a:lnTo>
                    <a:lnTo>
                      <a:pt x="4016" y="1101"/>
                    </a:lnTo>
                    <a:lnTo>
                      <a:pt x="4071" y="1017"/>
                    </a:lnTo>
                    <a:lnTo>
                      <a:pt x="4172" y="848"/>
                    </a:lnTo>
                    <a:lnTo>
                      <a:pt x="4263" y="679"/>
                    </a:lnTo>
                    <a:lnTo>
                      <a:pt x="4339" y="510"/>
                    </a:lnTo>
                    <a:lnTo>
                      <a:pt x="4316" y="381"/>
                    </a:lnTo>
                    <a:lnTo>
                      <a:pt x="4273" y="261"/>
                    </a:lnTo>
                    <a:lnTo>
                      <a:pt x="4153" y="219"/>
                    </a:lnTo>
                    <a:lnTo>
                      <a:pt x="4033" y="183"/>
                    </a:lnTo>
                    <a:lnTo>
                      <a:pt x="3792" y="118"/>
                    </a:lnTo>
                    <a:lnTo>
                      <a:pt x="3547" y="69"/>
                    </a:lnTo>
                    <a:lnTo>
                      <a:pt x="3301" y="35"/>
                    </a:lnTo>
                    <a:lnTo>
                      <a:pt x="2813" y="0"/>
                    </a:lnTo>
                    <a:lnTo>
                      <a:pt x="2332" y="12"/>
                    </a:lnTo>
                    <a:lnTo>
                      <a:pt x="1865" y="86"/>
                    </a:lnTo>
                    <a:lnTo>
                      <a:pt x="1644" y="153"/>
                    </a:lnTo>
                    <a:lnTo>
                      <a:pt x="1431" y="236"/>
                    </a:lnTo>
                    <a:lnTo>
                      <a:pt x="1329" y="284"/>
                    </a:lnTo>
                    <a:lnTo>
                      <a:pt x="1228" y="335"/>
                    </a:lnTo>
                    <a:lnTo>
                      <a:pt x="1131" y="390"/>
                    </a:lnTo>
                    <a:lnTo>
                      <a:pt x="1036" y="447"/>
                    </a:lnTo>
                    <a:lnTo>
                      <a:pt x="945" y="510"/>
                    </a:lnTo>
                    <a:lnTo>
                      <a:pt x="857" y="575"/>
                    </a:lnTo>
                    <a:lnTo>
                      <a:pt x="692" y="711"/>
                    </a:lnTo>
                    <a:lnTo>
                      <a:pt x="540" y="858"/>
                    </a:lnTo>
                    <a:lnTo>
                      <a:pt x="405" y="1012"/>
                    </a:lnTo>
                    <a:lnTo>
                      <a:pt x="344" y="1092"/>
                    </a:lnTo>
                    <a:lnTo>
                      <a:pt x="287" y="1171"/>
                    </a:lnTo>
                    <a:lnTo>
                      <a:pt x="188" y="1337"/>
                    </a:lnTo>
                    <a:lnTo>
                      <a:pt x="49" y="1673"/>
                    </a:lnTo>
                    <a:lnTo>
                      <a:pt x="0" y="2008"/>
                    </a:lnTo>
                    <a:lnTo>
                      <a:pt x="247" y="1892"/>
                    </a:lnTo>
                    <a:lnTo>
                      <a:pt x="247" y="18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293920" y="5404320"/>
                <a:ext cx="483120" cy="251640"/>
              </a:xfrm>
              <a:custGeom>
                <a:avLst/>
                <a:gdLst/>
                <a:ahLst/>
                <a:rect l="l" t="t" r="r" b="b"/>
                <a:pathLst>
                  <a:path w="2199" h="962">
                    <a:moveTo>
                      <a:pt x="1844" y="692"/>
                    </a:moveTo>
                    <a:lnTo>
                      <a:pt x="1749" y="742"/>
                    </a:lnTo>
                    <a:lnTo>
                      <a:pt x="1648" y="791"/>
                    </a:lnTo>
                    <a:lnTo>
                      <a:pt x="1540" y="837"/>
                    </a:lnTo>
                    <a:lnTo>
                      <a:pt x="1426" y="877"/>
                    </a:lnTo>
                    <a:lnTo>
                      <a:pt x="1184" y="937"/>
                    </a:lnTo>
                    <a:lnTo>
                      <a:pt x="935" y="962"/>
                    </a:lnTo>
                    <a:lnTo>
                      <a:pt x="682" y="941"/>
                    </a:lnTo>
                    <a:lnTo>
                      <a:pt x="437" y="859"/>
                    </a:lnTo>
                    <a:lnTo>
                      <a:pt x="319" y="793"/>
                    </a:lnTo>
                    <a:lnTo>
                      <a:pt x="207" y="709"/>
                    </a:lnTo>
                    <a:lnTo>
                      <a:pt x="101" y="603"/>
                    </a:lnTo>
                    <a:lnTo>
                      <a:pt x="0" y="477"/>
                    </a:lnTo>
                    <a:lnTo>
                      <a:pt x="53" y="411"/>
                    </a:lnTo>
                    <a:lnTo>
                      <a:pt x="108" y="350"/>
                    </a:lnTo>
                    <a:lnTo>
                      <a:pt x="224" y="244"/>
                    </a:lnTo>
                    <a:lnTo>
                      <a:pt x="285" y="198"/>
                    </a:lnTo>
                    <a:lnTo>
                      <a:pt x="350" y="158"/>
                    </a:lnTo>
                    <a:lnTo>
                      <a:pt x="481" y="91"/>
                    </a:lnTo>
                    <a:lnTo>
                      <a:pt x="620" y="44"/>
                    </a:lnTo>
                    <a:lnTo>
                      <a:pt x="762" y="14"/>
                    </a:lnTo>
                    <a:lnTo>
                      <a:pt x="1057" y="0"/>
                    </a:lnTo>
                    <a:lnTo>
                      <a:pt x="1357" y="42"/>
                    </a:lnTo>
                    <a:lnTo>
                      <a:pt x="1654" y="135"/>
                    </a:lnTo>
                    <a:lnTo>
                      <a:pt x="1798" y="198"/>
                    </a:lnTo>
                    <a:lnTo>
                      <a:pt x="1937" y="268"/>
                    </a:lnTo>
                    <a:lnTo>
                      <a:pt x="2072" y="348"/>
                    </a:lnTo>
                    <a:lnTo>
                      <a:pt x="2199" y="436"/>
                    </a:lnTo>
                    <a:lnTo>
                      <a:pt x="2093" y="538"/>
                    </a:lnTo>
                    <a:lnTo>
                      <a:pt x="1992" y="633"/>
                    </a:lnTo>
                    <a:lnTo>
                      <a:pt x="1901" y="559"/>
                    </a:lnTo>
                    <a:lnTo>
                      <a:pt x="1804" y="489"/>
                    </a:lnTo>
                    <a:lnTo>
                      <a:pt x="1701" y="422"/>
                    </a:lnTo>
                    <a:lnTo>
                      <a:pt x="1593" y="360"/>
                    </a:lnTo>
                    <a:lnTo>
                      <a:pt x="1483" y="302"/>
                    </a:lnTo>
                    <a:lnTo>
                      <a:pt x="1371" y="255"/>
                    </a:lnTo>
                    <a:lnTo>
                      <a:pt x="1255" y="215"/>
                    </a:lnTo>
                    <a:lnTo>
                      <a:pt x="1139" y="187"/>
                    </a:lnTo>
                    <a:lnTo>
                      <a:pt x="905" y="166"/>
                    </a:lnTo>
                    <a:lnTo>
                      <a:pt x="677" y="200"/>
                    </a:lnTo>
                    <a:lnTo>
                      <a:pt x="462" y="304"/>
                    </a:lnTo>
                    <a:lnTo>
                      <a:pt x="264" y="485"/>
                    </a:lnTo>
                    <a:lnTo>
                      <a:pt x="318" y="563"/>
                    </a:lnTo>
                    <a:lnTo>
                      <a:pt x="384" y="628"/>
                    </a:lnTo>
                    <a:lnTo>
                      <a:pt x="464" y="677"/>
                    </a:lnTo>
                    <a:lnTo>
                      <a:pt x="555" y="717"/>
                    </a:lnTo>
                    <a:lnTo>
                      <a:pt x="760" y="764"/>
                    </a:lnTo>
                    <a:lnTo>
                      <a:pt x="990" y="778"/>
                    </a:lnTo>
                    <a:lnTo>
                      <a:pt x="1456" y="743"/>
                    </a:lnTo>
                    <a:lnTo>
                      <a:pt x="1844" y="692"/>
                    </a:lnTo>
                    <a:lnTo>
                      <a:pt x="1844" y="6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504520" y="5502960"/>
                <a:ext cx="39960" cy="47520"/>
              </a:xfrm>
              <a:custGeom>
                <a:avLst/>
                <a:gdLst/>
                <a:ahLst/>
                <a:rect l="l" t="t" r="r" b="b"/>
                <a:pathLst>
                  <a:path w="181" h="182">
                    <a:moveTo>
                      <a:pt x="91" y="0"/>
                    </a:moveTo>
                    <a:lnTo>
                      <a:pt x="154" y="28"/>
                    </a:lnTo>
                    <a:lnTo>
                      <a:pt x="181" y="91"/>
                    </a:lnTo>
                    <a:lnTo>
                      <a:pt x="154" y="155"/>
                    </a:lnTo>
                    <a:lnTo>
                      <a:pt x="91" y="182"/>
                    </a:lnTo>
                    <a:lnTo>
                      <a:pt x="27" y="155"/>
                    </a:lnTo>
                    <a:lnTo>
                      <a:pt x="0" y="91"/>
                    </a:lnTo>
                    <a:lnTo>
                      <a:pt x="27" y="28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497320" y="5433840"/>
                <a:ext cx="105120" cy="185760"/>
              </a:xfrm>
              <a:custGeom>
                <a:avLst/>
                <a:gdLst/>
                <a:ahLst/>
                <a:rect l="l" t="t" r="r" b="b"/>
                <a:pathLst>
                  <a:path w="479" h="711">
                    <a:moveTo>
                      <a:pt x="125" y="711"/>
                    </a:moveTo>
                    <a:lnTo>
                      <a:pt x="0" y="630"/>
                    </a:lnTo>
                    <a:lnTo>
                      <a:pt x="125" y="555"/>
                    </a:lnTo>
                    <a:lnTo>
                      <a:pt x="268" y="495"/>
                    </a:lnTo>
                    <a:lnTo>
                      <a:pt x="330" y="348"/>
                    </a:lnTo>
                    <a:lnTo>
                      <a:pt x="313" y="268"/>
                    </a:lnTo>
                    <a:lnTo>
                      <a:pt x="268" y="200"/>
                    </a:lnTo>
                    <a:lnTo>
                      <a:pt x="201" y="151"/>
                    </a:lnTo>
                    <a:lnTo>
                      <a:pt x="125" y="133"/>
                    </a:lnTo>
                    <a:lnTo>
                      <a:pt x="0" y="75"/>
                    </a:lnTo>
                    <a:lnTo>
                      <a:pt x="125" y="0"/>
                    </a:lnTo>
                    <a:lnTo>
                      <a:pt x="264" y="29"/>
                    </a:lnTo>
                    <a:lnTo>
                      <a:pt x="376" y="103"/>
                    </a:lnTo>
                    <a:lnTo>
                      <a:pt x="452" y="217"/>
                    </a:lnTo>
                    <a:lnTo>
                      <a:pt x="479" y="356"/>
                    </a:lnTo>
                    <a:lnTo>
                      <a:pt x="452" y="495"/>
                    </a:lnTo>
                    <a:lnTo>
                      <a:pt x="420" y="557"/>
                    </a:lnTo>
                    <a:lnTo>
                      <a:pt x="376" y="609"/>
                    </a:lnTo>
                    <a:lnTo>
                      <a:pt x="323" y="652"/>
                    </a:lnTo>
                    <a:lnTo>
                      <a:pt x="264" y="685"/>
                    </a:lnTo>
                    <a:lnTo>
                      <a:pt x="125" y="711"/>
                    </a:lnTo>
                    <a:lnTo>
                      <a:pt x="125" y="7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446200" y="5433840"/>
                <a:ext cx="105840" cy="185760"/>
              </a:xfrm>
              <a:custGeom>
                <a:avLst/>
                <a:gdLst/>
                <a:ahLst/>
                <a:rect l="l" t="t" r="r" b="b"/>
                <a:pathLst>
                  <a:path w="481" h="711">
                    <a:moveTo>
                      <a:pt x="357" y="711"/>
                    </a:moveTo>
                    <a:lnTo>
                      <a:pt x="481" y="630"/>
                    </a:lnTo>
                    <a:lnTo>
                      <a:pt x="357" y="555"/>
                    </a:lnTo>
                    <a:lnTo>
                      <a:pt x="217" y="495"/>
                    </a:lnTo>
                    <a:lnTo>
                      <a:pt x="158" y="348"/>
                    </a:lnTo>
                    <a:lnTo>
                      <a:pt x="175" y="268"/>
                    </a:lnTo>
                    <a:lnTo>
                      <a:pt x="217" y="200"/>
                    </a:lnTo>
                    <a:lnTo>
                      <a:pt x="279" y="151"/>
                    </a:lnTo>
                    <a:lnTo>
                      <a:pt x="357" y="133"/>
                    </a:lnTo>
                    <a:lnTo>
                      <a:pt x="481" y="75"/>
                    </a:lnTo>
                    <a:lnTo>
                      <a:pt x="357" y="0"/>
                    </a:lnTo>
                    <a:lnTo>
                      <a:pt x="217" y="29"/>
                    </a:lnTo>
                    <a:lnTo>
                      <a:pt x="104" y="103"/>
                    </a:lnTo>
                    <a:lnTo>
                      <a:pt x="28" y="217"/>
                    </a:lnTo>
                    <a:lnTo>
                      <a:pt x="0" y="356"/>
                    </a:lnTo>
                    <a:lnTo>
                      <a:pt x="28" y="495"/>
                    </a:lnTo>
                    <a:lnTo>
                      <a:pt x="61" y="557"/>
                    </a:lnTo>
                    <a:lnTo>
                      <a:pt x="104" y="609"/>
                    </a:lnTo>
                    <a:lnTo>
                      <a:pt x="158" y="652"/>
                    </a:lnTo>
                    <a:lnTo>
                      <a:pt x="217" y="685"/>
                    </a:lnTo>
                    <a:lnTo>
                      <a:pt x="357" y="711"/>
                    </a:lnTo>
                    <a:lnTo>
                      <a:pt x="357" y="7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651760" y="5409720"/>
                <a:ext cx="167040" cy="153720"/>
              </a:xfrm>
              <a:custGeom>
                <a:avLst/>
                <a:gdLst/>
                <a:ahLst/>
                <a:rect l="l" t="t" r="r" b="b"/>
                <a:pathLst>
                  <a:path w="760" h="588">
                    <a:moveTo>
                      <a:pt x="380" y="588"/>
                    </a:moveTo>
                    <a:lnTo>
                      <a:pt x="760" y="264"/>
                    </a:lnTo>
                    <a:lnTo>
                      <a:pt x="447" y="316"/>
                    </a:lnTo>
                    <a:lnTo>
                      <a:pt x="528" y="91"/>
                    </a:lnTo>
                    <a:lnTo>
                      <a:pt x="239" y="215"/>
                    </a:lnTo>
                    <a:lnTo>
                      <a:pt x="274" y="0"/>
                    </a:lnTo>
                    <a:lnTo>
                      <a:pt x="0" y="158"/>
                    </a:lnTo>
                    <a:lnTo>
                      <a:pt x="380" y="588"/>
                    </a:lnTo>
                    <a:lnTo>
                      <a:pt x="380" y="5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555640" y="5199840"/>
                <a:ext cx="59040" cy="126360"/>
              </a:xfrm>
              <a:custGeom>
                <a:avLst/>
                <a:gdLst/>
                <a:ahLst/>
                <a:rect l="l" t="t" r="r" b="b"/>
                <a:pathLst>
                  <a:path w="270" h="485">
                    <a:moveTo>
                      <a:pt x="23" y="464"/>
                    </a:moveTo>
                    <a:lnTo>
                      <a:pt x="0" y="317"/>
                    </a:lnTo>
                    <a:lnTo>
                      <a:pt x="32" y="173"/>
                    </a:lnTo>
                    <a:lnTo>
                      <a:pt x="72" y="108"/>
                    </a:lnTo>
                    <a:lnTo>
                      <a:pt x="125" y="49"/>
                    </a:lnTo>
                    <a:lnTo>
                      <a:pt x="188" y="8"/>
                    </a:lnTo>
                    <a:lnTo>
                      <a:pt x="255" y="0"/>
                    </a:lnTo>
                    <a:lnTo>
                      <a:pt x="270" y="25"/>
                    </a:lnTo>
                    <a:lnTo>
                      <a:pt x="237" y="78"/>
                    </a:lnTo>
                    <a:lnTo>
                      <a:pt x="156" y="198"/>
                    </a:lnTo>
                    <a:lnTo>
                      <a:pt x="148" y="454"/>
                    </a:lnTo>
                    <a:lnTo>
                      <a:pt x="85" y="485"/>
                    </a:lnTo>
                    <a:lnTo>
                      <a:pt x="23" y="464"/>
                    </a:lnTo>
                    <a:lnTo>
                      <a:pt x="23" y="4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636280" y="5199840"/>
                <a:ext cx="69840" cy="12132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13" y="454"/>
                    </a:moveTo>
                    <a:lnTo>
                      <a:pt x="0" y="306"/>
                    </a:lnTo>
                    <a:lnTo>
                      <a:pt x="45" y="165"/>
                    </a:lnTo>
                    <a:lnTo>
                      <a:pt x="97" y="99"/>
                    </a:lnTo>
                    <a:lnTo>
                      <a:pt x="161" y="40"/>
                    </a:lnTo>
                    <a:lnTo>
                      <a:pt x="235" y="0"/>
                    </a:lnTo>
                    <a:lnTo>
                      <a:pt x="309" y="0"/>
                    </a:lnTo>
                    <a:lnTo>
                      <a:pt x="319" y="27"/>
                    </a:lnTo>
                    <a:lnTo>
                      <a:pt x="273" y="78"/>
                    </a:lnTo>
                    <a:lnTo>
                      <a:pt x="169" y="198"/>
                    </a:lnTo>
                    <a:lnTo>
                      <a:pt x="127" y="464"/>
                    </a:lnTo>
                    <a:lnTo>
                      <a:pt x="13" y="454"/>
                    </a:lnTo>
                    <a:lnTo>
                      <a:pt x="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715120" y="5196240"/>
                <a:ext cx="83520" cy="124920"/>
              </a:xfrm>
              <a:custGeom>
                <a:avLst/>
                <a:gdLst/>
                <a:ahLst/>
                <a:rect l="l" t="t" r="r" b="b"/>
                <a:pathLst>
                  <a:path w="378" h="477">
                    <a:moveTo>
                      <a:pt x="0" y="460"/>
                    </a:moveTo>
                    <a:lnTo>
                      <a:pt x="7" y="308"/>
                    </a:lnTo>
                    <a:lnTo>
                      <a:pt x="66" y="161"/>
                    </a:lnTo>
                    <a:lnTo>
                      <a:pt x="127" y="97"/>
                    </a:lnTo>
                    <a:lnTo>
                      <a:pt x="205" y="36"/>
                    </a:lnTo>
                    <a:lnTo>
                      <a:pt x="289" y="0"/>
                    </a:lnTo>
                    <a:lnTo>
                      <a:pt x="365" y="5"/>
                    </a:lnTo>
                    <a:lnTo>
                      <a:pt x="378" y="43"/>
                    </a:lnTo>
                    <a:lnTo>
                      <a:pt x="323" y="95"/>
                    </a:lnTo>
                    <a:lnTo>
                      <a:pt x="190" y="211"/>
                    </a:lnTo>
                    <a:lnTo>
                      <a:pt x="108" y="477"/>
                    </a:lnTo>
                    <a:lnTo>
                      <a:pt x="0" y="460"/>
                    </a:lnTo>
                    <a:lnTo>
                      <a:pt x="0" y="4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793600" y="5215320"/>
                <a:ext cx="96480" cy="130680"/>
              </a:xfrm>
              <a:custGeom>
                <a:avLst/>
                <a:gdLst/>
                <a:ahLst/>
                <a:rect l="l" t="t" r="r" b="b"/>
                <a:pathLst>
                  <a:path w="439" h="500">
                    <a:moveTo>
                      <a:pt x="0" y="467"/>
                    </a:moveTo>
                    <a:lnTo>
                      <a:pt x="16" y="306"/>
                    </a:lnTo>
                    <a:lnTo>
                      <a:pt x="44" y="228"/>
                    </a:lnTo>
                    <a:lnTo>
                      <a:pt x="92" y="161"/>
                    </a:lnTo>
                    <a:lnTo>
                      <a:pt x="166" y="95"/>
                    </a:lnTo>
                    <a:lnTo>
                      <a:pt x="255" y="34"/>
                    </a:lnTo>
                    <a:lnTo>
                      <a:pt x="348" y="0"/>
                    </a:lnTo>
                    <a:lnTo>
                      <a:pt x="430" y="13"/>
                    </a:lnTo>
                    <a:lnTo>
                      <a:pt x="439" y="55"/>
                    </a:lnTo>
                    <a:lnTo>
                      <a:pt x="371" y="104"/>
                    </a:lnTo>
                    <a:lnTo>
                      <a:pt x="278" y="160"/>
                    </a:lnTo>
                    <a:lnTo>
                      <a:pt x="207" y="220"/>
                    </a:lnTo>
                    <a:lnTo>
                      <a:pt x="99" y="492"/>
                    </a:lnTo>
                    <a:lnTo>
                      <a:pt x="42" y="500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860560" y="5245920"/>
                <a:ext cx="110520" cy="133200"/>
              </a:xfrm>
              <a:custGeom>
                <a:avLst/>
                <a:gdLst/>
                <a:ahLst/>
                <a:rect l="l" t="t" r="r" b="b"/>
                <a:pathLst>
                  <a:path w="504" h="509">
                    <a:moveTo>
                      <a:pt x="0" y="467"/>
                    </a:moveTo>
                    <a:lnTo>
                      <a:pt x="35" y="306"/>
                    </a:lnTo>
                    <a:lnTo>
                      <a:pt x="73" y="228"/>
                    </a:lnTo>
                    <a:lnTo>
                      <a:pt x="124" y="161"/>
                    </a:lnTo>
                    <a:lnTo>
                      <a:pt x="207" y="95"/>
                    </a:lnTo>
                    <a:lnTo>
                      <a:pt x="306" y="32"/>
                    </a:lnTo>
                    <a:lnTo>
                      <a:pt x="409" y="0"/>
                    </a:lnTo>
                    <a:lnTo>
                      <a:pt x="496" y="21"/>
                    </a:lnTo>
                    <a:lnTo>
                      <a:pt x="504" y="70"/>
                    </a:lnTo>
                    <a:lnTo>
                      <a:pt x="428" y="118"/>
                    </a:lnTo>
                    <a:lnTo>
                      <a:pt x="322" y="171"/>
                    </a:lnTo>
                    <a:lnTo>
                      <a:pt x="240" y="228"/>
                    </a:lnTo>
                    <a:lnTo>
                      <a:pt x="169" y="374"/>
                    </a:lnTo>
                    <a:lnTo>
                      <a:pt x="137" y="448"/>
                    </a:lnTo>
                    <a:lnTo>
                      <a:pt x="92" y="509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837720" y="5196240"/>
              <a:ext cx="953640" cy="1103400"/>
              <a:chOff x="837720" y="5196240"/>
              <a:chExt cx="953640" cy="110340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874080" y="5313960"/>
                <a:ext cx="894960" cy="963720"/>
              </a:xfrm>
              <a:custGeom>
                <a:avLst/>
                <a:gdLst/>
                <a:ahLst/>
                <a:rect l="l" t="t" r="r" b="b"/>
                <a:pathLst>
                  <a:path w="4164" h="3761">
                    <a:moveTo>
                      <a:pt x="0" y="1840"/>
                    </a:moveTo>
                    <a:lnTo>
                      <a:pt x="731" y="1861"/>
                    </a:lnTo>
                    <a:lnTo>
                      <a:pt x="1837" y="2435"/>
                    </a:lnTo>
                    <a:lnTo>
                      <a:pt x="1575" y="2790"/>
                    </a:lnTo>
                    <a:lnTo>
                      <a:pt x="1243" y="3260"/>
                    </a:lnTo>
                    <a:lnTo>
                      <a:pt x="1389" y="3573"/>
                    </a:lnTo>
                    <a:lnTo>
                      <a:pt x="1889" y="3761"/>
                    </a:lnTo>
                    <a:lnTo>
                      <a:pt x="2619" y="3720"/>
                    </a:lnTo>
                    <a:lnTo>
                      <a:pt x="3016" y="3376"/>
                    </a:lnTo>
                    <a:lnTo>
                      <a:pt x="3392" y="1724"/>
                    </a:lnTo>
                    <a:lnTo>
                      <a:pt x="4164" y="429"/>
                    </a:lnTo>
                    <a:lnTo>
                      <a:pt x="4048" y="272"/>
                    </a:lnTo>
                    <a:lnTo>
                      <a:pt x="3434" y="62"/>
                    </a:lnTo>
                    <a:lnTo>
                      <a:pt x="2495" y="0"/>
                    </a:lnTo>
                    <a:lnTo>
                      <a:pt x="1377" y="209"/>
                    </a:lnTo>
                    <a:lnTo>
                      <a:pt x="543" y="846"/>
                    </a:lnTo>
                    <a:lnTo>
                      <a:pt x="157" y="1442"/>
                    </a:lnTo>
                    <a:lnTo>
                      <a:pt x="0" y="1840"/>
                    </a:lnTo>
                    <a:lnTo>
                      <a:pt x="0" y="1840"/>
                    </a:lnTo>
                    <a:close/>
                  </a:path>
                </a:pathLst>
              </a:custGeom>
              <a:solidFill>
                <a:srgbClr val="fbd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1073520" y="5420880"/>
                <a:ext cx="401400" cy="205920"/>
              </a:xfrm>
              <a:custGeom>
                <a:avLst/>
                <a:gdLst/>
                <a:ahLst/>
                <a:rect l="l" t="t" r="r" b="b"/>
                <a:pathLst>
                  <a:path w="1866" h="804">
                    <a:moveTo>
                      <a:pt x="0" y="407"/>
                    </a:moveTo>
                    <a:lnTo>
                      <a:pt x="302" y="701"/>
                    </a:lnTo>
                    <a:lnTo>
                      <a:pt x="960" y="804"/>
                    </a:lnTo>
                    <a:lnTo>
                      <a:pt x="1617" y="637"/>
                    </a:lnTo>
                    <a:lnTo>
                      <a:pt x="1866" y="523"/>
                    </a:lnTo>
                    <a:lnTo>
                      <a:pt x="1648" y="220"/>
                    </a:lnTo>
                    <a:lnTo>
                      <a:pt x="1074" y="0"/>
                    </a:lnTo>
                    <a:lnTo>
                      <a:pt x="521" y="42"/>
                    </a:lnTo>
                    <a:lnTo>
                      <a:pt x="0" y="407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1211040" y="5453280"/>
                <a:ext cx="127440" cy="147240"/>
              </a:xfrm>
              <a:custGeom>
                <a:avLst/>
                <a:gdLst/>
                <a:ahLst/>
                <a:rect l="l" t="t" r="r" b="b"/>
                <a:pathLst>
                  <a:path w="595" h="576">
                    <a:moveTo>
                      <a:pt x="407" y="0"/>
                    </a:moveTo>
                    <a:lnTo>
                      <a:pt x="167" y="0"/>
                    </a:lnTo>
                    <a:lnTo>
                      <a:pt x="0" y="242"/>
                    </a:lnTo>
                    <a:lnTo>
                      <a:pt x="104" y="491"/>
                    </a:lnTo>
                    <a:lnTo>
                      <a:pt x="397" y="576"/>
                    </a:lnTo>
                    <a:lnTo>
                      <a:pt x="595" y="314"/>
                    </a:lnTo>
                    <a:lnTo>
                      <a:pt x="407" y="0"/>
                    </a:lnTo>
                    <a:lnTo>
                      <a:pt x="407" y="0"/>
                    </a:lnTo>
                    <a:close/>
                  </a:path>
                </a:pathLst>
              </a:custGeom>
              <a:solidFill>
                <a:srgbClr val="99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1348920" y="6121800"/>
                <a:ext cx="147240" cy="95040"/>
              </a:xfrm>
              <a:custGeom>
                <a:avLst/>
                <a:gdLst/>
                <a:ahLst/>
                <a:rect l="l" t="t" r="r" b="b"/>
                <a:pathLst>
                  <a:path w="686" h="373">
                    <a:moveTo>
                      <a:pt x="91" y="373"/>
                    </a:moveTo>
                    <a:lnTo>
                      <a:pt x="0" y="173"/>
                    </a:lnTo>
                    <a:lnTo>
                      <a:pt x="91" y="0"/>
                    </a:lnTo>
                    <a:lnTo>
                      <a:pt x="538" y="90"/>
                    </a:lnTo>
                    <a:lnTo>
                      <a:pt x="648" y="137"/>
                    </a:lnTo>
                    <a:lnTo>
                      <a:pt x="686" y="183"/>
                    </a:lnTo>
                    <a:lnTo>
                      <a:pt x="648" y="230"/>
                    </a:lnTo>
                    <a:lnTo>
                      <a:pt x="538" y="278"/>
                    </a:lnTo>
                    <a:lnTo>
                      <a:pt x="352" y="325"/>
                    </a:lnTo>
                    <a:lnTo>
                      <a:pt x="91" y="373"/>
                    </a:lnTo>
                    <a:lnTo>
                      <a:pt x="91" y="373"/>
                    </a:lnTo>
                    <a:close/>
                  </a:path>
                </a:pathLst>
              </a:custGeom>
              <a:solidFill>
                <a:srgbClr val="d42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1252800" y="5672520"/>
                <a:ext cx="538560" cy="277560"/>
              </a:xfrm>
              <a:custGeom>
                <a:avLst/>
                <a:gdLst/>
                <a:ahLst/>
                <a:rect l="l" t="t" r="r" b="b"/>
                <a:pathLst>
                  <a:path w="2505" h="1083">
                    <a:moveTo>
                      <a:pt x="67" y="604"/>
                    </a:moveTo>
                    <a:lnTo>
                      <a:pt x="399" y="587"/>
                    </a:lnTo>
                    <a:lnTo>
                      <a:pt x="844" y="612"/>
                    </a:lnTo>
                    <a:lnTo>
                      <a:pt x="1087" y="713"/>
                    </a:lnTo>
                    <a:lnTo>
                      <a:pt x="1224" y="787"/>
                    </a:lnTo>
                    <a:lnTo>
                      <a:pt x="1361" y="866"/>
                    </a:lnTo>
                    <a:lnTo>
                      <a:pt x="1498" y="943"/>
                    </a:lnTo>
                    <a:lnTo>
                      <a:pt x="1627" y="1011"/>
                    </a:lnTo>
                    <a:lnTo>
                      <a:pt x="1743" y="1058"/>
                    </a:lnTo>
                    <a:lnTo>
                      <a:pt x="1844" y="1083"/>
                    </a:lnTo>
                    <a:lnTo>
                      <a:pt x="2100" y="1055"/>
                    </a:lnTo>
                    <a:lnTo>
                      <a:pt x="2311" y="918"/>
                    </a:lnTo>
                    <a:lnTo>
                      <a:pt x="2452" y="707"/>
                    </a:lnTo>
                    <a:lnTo>
                      <a:pt x="2505" y="454"/>
                    </a:lnTo>
                    <a:lnTo>
                      <a:pt x="2469" y="245"/>
                    </a:lnTo>
                    <a:lnTo>
                      <a:pt x="2425" y="161"/>
                    </a:lnTo>
                    <a:lnTo>
                      <a:pt x="2366" y="95"/>
                    </a:lnTo>
                    <a:lnTo>
                      <a:pt x="2294" y="42"/>
                    </a:lnTo>
                    <a:lnTo>
                      <a:pt x="2209" y="9"/>
                    </a:lnTo>
                    <a:lnTo>
                      <a:pt x="1999" y="0"/>
                    </a:lnTo>
                    <a:lnTo>
                      <a:pt x="1836" y="66"/>
                    </a:lnTo>
                    <a:lnTo>
                      <a:pt x="1718" y="203"/>
                    </a:lnTo>
                    <a:lnTo>
                      <a:pt x="1648" y="367"/>
                    </a:lnTo>
                    <a:lnTo>
                      <a:pt x="1629" y="513"/>
                    </a:lnTo>
                    <a:lnTo>
                      <a:pt x="1648" y="574"/>
                    </a:lnTo>
                    <a:lnTo>
                      <a:pt x="1688" y="616"/>
                    </a:lnTo>
                    <a:lnTo>
                      <a:pt x="1806" y="642"/>
                    </a:lnTo>
                    <a:lnTo>
                      <a:pt x="1923" y="595"/>
                    </a:lnTo>
                    <a:lnTo>
                      <a:pt x="1984" y="479"/>
                    </a:lnTo>
                    <a:lnTo>
                      <a:pt x="1969" y="370"/>
                    </a:lnTo>
                    <a:lnTo>
                      <a:pt x="1929" y="308"/>
                    </a:lnTo>
                    <a:lnTo>
                      <a:pt x="1876" y="222"/>
                    </a:lnTo>
                    <a:lnTo>
                      <a:pt x="1895" y="171"/>
                    </a:lnTo>
                    <a:lnTo>
                      <a:pt x="1937" y="133"/>
                    </a:lnTo>
                    <a:lnTo>
                      <a:pt x="2041" y="99"/>
                    </a:lnTo>
                    <a:lnTo>
                      <a:pt x="2157" y="129"/>
                    </a:lnTo>
                    <a:lnTo>
                      <a:pt x="2248" y="205"/>
                    </a:lnTo>
                    <a:lnTo>
                      <a:pt x="2332" y="429"/>
                    </a:lnTo>
                    <a:lnTo>
                      <a:pt x="2311" y="572"/>
                    </a:lnTo>
                    <a:lnTo>
                      <a:pt x="2254" y="709"/>
                    </a:lnTo>
                    <a:lnTo>
                      <a:pt x="2212" y="768"/>
                    </a:lnTo>
                    <a:lnTo>
                      <a:pt x="2167" y="819"/>
                    </a:lnTo>
                    <a:lnTo>
                      <a:pt x="2115" y="855"/>
                    </a:lnTo>
                    <a:lnTo>
                      <a:pt x="2058" y="876"/>
                    </a:lnTo>
                    <a:lnTo>
                      <a:pt x="1800" y="853"/>
                    </a:lnTo>
                    <a:lnTo>
                      <a:pt x="1678" y="798"/>
                    </a:lnTo>
                    <a:lnTo>
                      <a:pt x="1562" y="728"/>
                    </a:lnTo>
                    <a:lnTo>
                      <a:pt x="1450" y="650"/>
                    </a:lnTo>
                    <a:lnTo>
                      <a:pt x="1342" y="572"/>
                    </a:lnTo>
                    <a:lnTo>
                      <a:pt x="1239" y="503"/>
                    </a:lnTo>
                    <a:lnTo>
                      <a:pt x="1140" y="454"/>
                    </a:lnTo>
                    <a:lnTo>
                      <a:pt x="939" y="393"/>
                    </a:lnTo>
                    <a:lnTo>
                      <a:pt x="713" y="349"/>
                    </a:lnTo>
                    <a:lnTo>
                      <a:pt x="247" y="338"/>
                    </a:lnTo>
                    <a:lnTo>
                      <a:pt x="131" y="387"/>
                    </a:lnTo>
                    <a:lnTo>
                      <a:pt x="0" y="551"/>
                    </a:lnTo>
                    <a:lnTo>
                      <a:pt x="67" y="604"/>
                    </a:lnTo>
                    <a:lnTo>
                      <a:pt x="67" y="6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858240" y="5300640"/>
                <a:ext cx="932760" cy="999000"/>
              </a:xfrm>
              <a:custGeom>
                <a:avLst/>
                <a:gdLst/>
                <a:ahLst/>
                <a:rect l="l" t="t" r="r" b="b"/>
                <a:pathLst>
                  <a:path w="4339" h="3901">
                    <a:moveTo>
                      <a:pt x="247" y="1892"/>
                    </a:moveTo>
                    <a:lnTo>
                      <a:pt x="321" y="1671"/>
                    </a:lnTo>
                    <a:lnTo>
                      <a:pt x="371" y="1550"/>
                    </a:lnTo>
                    <a:lnTo>
                      <a:pt x="428" y="1424"/>
                    </a:lnTo>
                    <a:lnTo>
                      <a:pt x="496" y="1295"/>
                    </a:lnTo>
                    <a:lnTo>
                      <a:pt x="578" y="1166"/>
                    </a:lnTo>
                    <a:lnTo>
                      <a:pt x="673" y="1035"/>
                    </a:lnTo>
                    <a:lnTo>
                      <a:pt x="785" y="907"/>
                    </a:lnTo>
                    <a:lnTo>
                      <a:pt x="914" y="784"/>
                    </a:lnTo>
                    <a:lnTo>
                      <a:pt x="1062" y="666"/>
                    </a:lnTo>
                    <a:lnTo>
                      <a:pt x="1144" y="609"/>
                    </a:lnTo>
                    <a:lnTo>
                      <a:pt x="1232" y="554"/>
                    </a:lnTo>
                    <a:lnTo>
                      <a:pt x="1325" y="502"/>
                    </a:lnTo>
                    <a:lnTo>
                      <a:pt x="1422" y="453"/>
                    </a:lnTo>
                    <a:lnTo>
                      <a:pt x="1526" y="407"/>
                    </a:lnTo>
                    <a:lnTo>
                      <a:pt x="1636" y="364"/>
                    </a:lnTo>
                    <a:lnTo>
                      <a:pt x="1752" y="324"/>
                    </a:lnTo>
                    <a:lnTo>
                      <a:pt x="1876" y="286"/>
                    </a:lnTo>
                    <a:lnTo>
                      <a:pt x="2144" y="223"/>
                    </a:lnTo>
                    <a:lnTo>
                      <a:pt x="2439" y="177"/>
                    </a:lnTo>
                    <a:lnTo>
                      <a:pt x="2866" y="153"/>
                    </a:lnTo>
                    <a:lnTo>
                      <a:pt x="3336" y="183"/>
                    </a:lnTo>
                    <a:lnTo>
                      <a:pt x="3792" y="284"/>
                    </a:lnTo>
                    <a:lnTo>
                      <a:pt x="3999" y="364"/>
                    </a:lnTo>
                    <a:lnTo>
                      <a:pt x="4183" y="468"/>
                    </a:lnTo>
                    <a:lnTo>
                      <a:pt x="4172" y="519"/>
                    </a:lnTo>
                    <a:lnTo>
                      <a:pt x="4103" y="633"/>
                    </a:lnTo>
                    <a:lnTo>
                      <a:pt x="4054" y="709"/>
                    </a:lnTo>
                    <a:lnTo>
                      <a:pt x="3997" y="795"/>
                    </a:lnTo>
                    <a:lnTo>
                      <a:pt x="3932" y="890"/>
                    </a:lnTo>
                    <a:lnTo>
                      <a:pt x="3864" y="991"/>
                    </a:lnTo>
                    <a:lnTo>
                      <a:pt x="3792" y="1097"/>
                    </a:lnTo>
                    <a:lnTo>
                      <a:pt x="3718" y="1206"/>
                    </a:lnTo>
                    <a:lnTo>
                      <a:pt x="3645" y="1318"/>
                    </a:lnTo>
                    <a:lnTo>
                      <a:pt x="3577" y="1426"/>
                    </a:lnTo>
                    <a:lnTo>
                      <a:pt x="3512" y="1534"/>
                    </a:lnTo>
                    <a:lnTo>
                      <a:pt x="3453" y="1637"/>
                    </a:lnTo>
                    <a:lnTo>
                      <a:pt x="3364" y="1825"/>
                    </a:lnTo>
                    <a:lnTo>
                      <a:pt x="3250" y="2186"/>
                    </a:lnTo>
                    <a:lnTo>
                      <a:pt x="3159" y="2572"/>
                    </a:lnTo>
                    <a:lnTo>
                      <a:pt x="3077" y="2964"/>
                    </a:lnTo>
                    <a:lnTo>
                      <a:pt x="2992" y="3340"/>
                    </a:lnTo>
                    <a:lnTo>
                      <a:pt x="2965" y="3405"/>
                    </a:lnTo>
                    <a:lnTo>
                      <a:pt x="2916" y="3485"/>
                    </a:lnTo>
                    <a:lnTo>
                      <a:pt x="2857" y="3559"/>
                    </a:lnTo>
                    <a:lnTo>
                      <a:pt x="2802" y="3604"/>
                    </a:lnTo>
                    <a:lnTo>
                      <a:pt x="2708" y="3652"/>
                    </a:lnTo>
                    <a:lnTo>
                      <a:pt x="2591" y="3696"/>
                    </a:lnTo>
                    <a:lnTo>
                      <a:pt x="2372" y="3738"/>
                    </a:lnTo>
                    <a:lnTo>
                      <a:pt x="1847" y="3690"/>
                    </a:lnTo>
                    <a:lnTo>
                      <a:pt x="1635" y="3604"/>
                    </a:lnTo>
                    <a:lnTo>
                      <a:pt x="1521" y="3439"/>
                    </a:lnTo>
                    <a:lnTo>
                      <a:pt x="1524" y="3253"/>
                    </a:lnTo>
                    <a:lnTo>
                      <a:pt x="1559" y="3158"/>
                    </a:lnTo>
                    <a:lnTo>
                      <a:pt x="1608" y="3063"/>
                    </a:lnTo>
                    <a:lnTo>
                      <a:pt x="1674" y="2970"/>
                    </a:lnTo>
                    <a:lnTo>
                      <a:pt x="1749" y="2880"/>
                    </a:lnTo>
                    <a:lnTo>
                      <a:pt x="1834" y="2797"/>
                    </a:lnTo>
                    <a:lnTo>
                      <a:pt x="1925" y="2719"/>
                    </a:lnTo>
                    <a:lnTo>
                      <a:pt x="2032" y="2631"/>
                    </a:lnTo>
                    <a:lnTo>
                      <a:pt x="2155" y="2521"/>
                    </a:lnTo>
                    <a:lnTo>
                      <a:pt x="2285" y="2390"/>
                    </a:lnTo>
                    <a:lnTo>
                      <a:pt x="2406" y="2238"/>
                    </a:lnTo>
                    <a:lnTo>
                      <a:pt x="1827" y="2479"/>
                    </a:lnTo>
                    <a:lnTo>
                      <a:pt x="1800" y="2595"/>
                    </a:lnTo>
                    <a:lnTo>
                      <a:pt x="1739" y="2715"/>
                    </a:lnTo>
                    <a:lnTo>
                      <a:pt x="1654" y="2838"/>
                    </a:lnTo>
                    <a:lnTo>
                      <a:pt x="1555" y="2960"/>
                    </a:lnTo>
                    <a:lnTo>
                      <a:pt x="1458" y="3082"/>
                    </a:lnTo>
                    <a:lnTo>
                      <a:pt x="1372" y="3203"/>
                    </a:lnTo>
                    <a:lnTo>
                      <a:pt x="1291" y="3430"/>
                    </a:lnTo>
                    <a:lnTo>
                      <a:pt x="1304" y="3502"/>
                    </a:lnTo>
                    <a:lnTo>
                      <a:pt x="1340" y="3570"/>
                    </a:lnTo>
                    <a:lnTo>
                      <a:pt x="1393" y="3637"/>
                    </a:lnTo>
                    <a:lnTo>
                      <a:pt x="1460" y="3696"/>
                    </a:lnTo>
                    <a:lnTo>
                      <a:pt x="1536" y="3749"/>
                    </a:lnTo>
                    <a:lnTo>
                      <a:pt x="1610" y="3793"/>
                    </a:lnTo>
                    <a:lnTo>
                      <a:pt x="1743" y="3844"/>
                    </a:lnTo>
                    <a:lnTo>
                      <a:pt x="1971" y="3880"/>
                    </a:lnTo>
                    <a:lnTo>
                      <a:pt x="2218" y="3901"/>
                    </a:lnTo>
                    <a:lnTo>
                      <a:pt x="2686" y="3869"/>
                    </a:lnTo>
                    <a:lnTo>
                      <a:pt x="2864" y="3802"/>
                    </a:lnTo>
                    <a:lnTo>
                      <a:pt x="3028" y="3675"/>
                    </a:lnTo>
                    <a:lnTo>
                      <a:pt x="3166" y="3511"/>
                    </a:lnTo>
                    <a:lnTo>
                      <a:pt x="3265" y="3331"/>
                    </a:lnTo>
                    <a:lnTo>
                      <a:pt x="3374" y="2989"/>
                    </a:lnTo>
                    <a:lnTo>
                      <a:pt x="3453" y="2601"/>
                    </a:lnTo>
                    <a:lnTo>
                      <a:pt x="3526" y="2209"/>
                    </a:lnTo>
                    <a:lnTo>
                      <a:pt x="3567" y="2025"/>
                    </a:lnTo>
                    <a:lnTo>
                      <a:pt x="3611" y="1858"/>
                    </a:lnTo>
                    <a:lnTo>
                      <a:pt x="3676" y="1690"/>
                    </a:lnTo>
                    <a:lnTo>
                      <a:pt x="3759" y="1523"/>
                    </a:lnTo>
                    <a:lnTo>
                      <a:pt x="3858" y="1354"/>
                    </a:lnTo>
                    <a:lnTo>
                      <a:pt x="3963" y="1187"/>
                    </a:lnTo>
                    <a:lnTo>
                      <a:pt x="4016" y="1101"/>
                    </a:lnTo>
                    <a:lnTo>
                      <a:pt x="4071" y="1017"/>
                    </a:lnTo>
                    <a:lnTo>
                      <a:pt x="4172" y="848"/>
                    </a:lnTo>
                    <a:lnTo>
                      <a:pt x="4263" y="679"/>
                    </a:lnTo>
                    <a:lnTo>
                      <a:pt x="4339" y="510"/>
                    </a:lnTo>
                    <a:lnTo>
                      <a:pt x="4316" y="381"/>
                    </a:lnTo>
                    <a:lnTo>
                      <a:pt x="4273" y="261"/>
                    </a:lnTo>
                    <a:lnTo>
                      <a:pt x="4153" y="219"/>
                    </a:lnTo>
                    <a:lnTo>
                      <a:pt x="4033" y="183"/>
                    </a:lnTo>
                    <a:lnTo>
                      <a:pt x="3792" y="118"/>
                    </a:lnTo>
                    <a:lnTo>
                      <a:pt x="3547" y="69"/>
                    </a:lnTo>
                    <a:lnTo>
                      <a:pt x="3301" y="35"/>
                    </a:lnTo>
                    <a:lnTo>
                      <a:pt x="2813" y="0"/>
                    </a:lnTo>
                    <a:lnTo>
                      <a:pt x="2332" y="12"/>
                    </a:lnTo>
                    <a:lnTo>
                      <a:pt x="1865" y="86"/>
                    </a:lnTo>
                    <a:lnTo>
                      <a:pt x="1644" y="153"/>
                    </a:lnTo>
                    <a:lnTo>
                      <a:pt x="1431" y="236"/>
                    </a:lnTo>
                    <a:lnTo>
                      <a:pt x="1329" y="284"/>
                    </a:lnTo>
                    <a:lnTo>
                      <a:pt x="1228" y="335"/>
                    </a:lnTo>
                    <a:lnTo>
                      <a:pt x="1131" y="390"/>
                    </a:lnTo>
                    <a:lnTo>
                      <a:pt x="1036" y="447"/>
                    </a:lnTo>
                    <a:lnTo>
                      <a:pt x="945" y="510"/>
                    </a:lnTo>
                    <a:lnTo>
                      <a:pt x="857" y="575"/>
                    </a:lnTo>
                    <a:lnTo>
                      <a:pt x="692" y="711"/>
                    </a:lnTo>
                    <a:lnTo>
                      <a:pt x="540" y="858"/>
                    </a:lnTo>
                    <a:lnTo>
                      <a:pt x="405" y="1012"/>
                    </a:lnTo>
                    <a:lnTo>
                      <a:pt x="344" y="1092"/>
                    </a:lnTo>
                    <a:lnTo>
                      <a:pt x="287" y="1171"/>
                    </a:lnTo>
                    <a:lnTo>
                      <a:pt x="188" y="1337"/>
                    </a:lnTo>
                    <a:lnTo>
                      <a:pt x="49" y="1673"/>
                    </a:lnTo>
                    <a:lnTo>
                      <a:pt x="0" y="2008"/>
                    </a:lnTo>
                    <a:lnTo>
                      <a:pt x="247" y="1892"/>
                    </a:lnTo>
                    <a:lnTo>
                      <a:pt x="247" y="18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1027800" y="5400000"/>
                <a:ext cx="472320" cy="246240"/>
              </a:xfrm>
              <a:custGeom>
                <a:avLst/>
                <a:gdLst/>
                <a:ahLst/>
                <a:rect l="l" t="t" r="r" b="b"/>
                <a:pathLst>
                  <a:path w="2199" h="962">
                    <a:moveTo>
                      <a:pt x="1844" y="692"/>
                    </a:moveTo>
                    <a:lnTo>
                      <a:pt x="1749" y="742"/>
                    </a:lnTo>
                    <a:lnTo>
                      <a:pt x="1648" y="791"/>
                    </a:lnTo>
                    <a:lnTo>
                      <a:pt x="1540" y="837"/>
                    </a:lnTo>
                    <a:lnTo>
                      <a:pt x="1426" y="877"/>
                    </a:lnTo>
                    <a:lnTo>
                      <a:pt x="1184" y="937"/>
                    </a:lnTo>
                    <a:lnTo>
                      <a:pt x="935" y="962"/>
                    </a:lnTo>
                    <a:lnTo>
                      <a:pt x="682" y="941"/>
                    </a:lnTo>
                    <a:lnTo>
                      <a:pt x="437" y="859"/>
                    </a:lnTo>
                    <a:lnTo>
                      <a:pt x="319" y="793"/>
                    </a:lnTo>
                    <a:lnTo>
                      <a:pt x="207" y="709"/>
                    </a:lnTo>
                    <a:lnTo>
                      <a:pt x="101" y="603"/>
                    </a:lnTo>
                    <a:lnTo>
                      <a:pt x="0" y="477"/>
                    </a:lnTo>
                    <a:lnTo>
                      <a:pt x="53" y="411"/>
                    </a:lnTo>
                    <a:lnTo>
                      <a:pt x="108" y="350"/>
                    </a:lnTo>
                    <a:lnTo>
                      <a:pt x="224" y="244"/>
                    </a:lnTo>
                    <a:lnTo>
                      <a:pt x="285" y="198"/>
                    </a:lnTo>
                    <a:lnTo>
                      <a:pt x="350" y="158"/>
                    </a:lnTo>
                    <a:lnTo>
                      <a:pt x="481" y="91"/>
                    </a:lnTo>
                    <a:lnTo>
                      <a:pt x="620" y="44"/>
                    </a:lnTo>
                    <a:lnTo>
                      <a:pt x="762" y="14"/>
                    </a:lnTo>
                    <a:lnTo>
                      <a:pt x="1057" y="0"/>
                    </a:lnTo>
                    <a:lnTo>
                      <a:pt x="1357" y="42"/>
                    </a:lnTo>
                    <a:lnTo>
                      <a:pt x="1654" y="135"/>
                    </a:lnTo>
                    <a:lnTo>
                      <a:pt x="1798" y="198"/>
                    </a:lnTo>
                    <a:lnTo>
                      <a:pt x="1937" y="268"/>
                    </a:lnTo>
                    <a:lnTo>
                      <a:pt x="2072" y="348"/>
                    </a:lnTo>
                    <a:lnTo>
                      <a:pt x="2199" y="436"/>
                    </a:lnTo>
                    <a:lnTo>
                      <a:pt x="2093" y="538"/>
                    </a:lnTo>
                    <a:lnTo>
                      <a:pt x="1992" y="633"/>
                    </a:lnTo>
                    <a:lnTo>
                      <a:pt x="1901" y="559"/>
                    </a:lnTo>
                    <a:lnTo>
                      <a:pt x="1804" y="489"/>
                    </a:lnTo>
                    <a:lnTo>
                      <a:pt x="1701" y="422"/>
                    </a:lnTo>
                    <a:lnTo>
                      <a:pt x="1593" y="360"/>
                    </a:lnTo>
                    <a:lnTo>
                      <a:pt x="1483" y="302"/>
                    </a:lnTo>
                    <a:lnTo>
                      <a:pt x="1371" y="255"/>
                    </a:lnTo>
                    <a:lnTo>
                      <a:pt x="1255" y="215"/>
                    </a:lnTo>
                    <a:lnTo>
                      <a:pt x="1139" y="187"/>
                    </a:lnTo>
                    <a:lnTo>
                      <a:pt x="905" y="166"/>
                    </a:lnTo>
                    <a:lnTo>
                      <a:pt x="677" y="200"/>
                    </a:lnTo>
                    <a:lnTo>
                      <a:pt x="462" y="304"/>
                    </a:lnTo>
                    <a:lnTo>
                      <a:pt x="264" y="485"/>
                    </a:lnTo>
                    <a:lnTo>
                      <a:pt x="318" y="563"/>
                    </a:lnTo>
                    <a:lnTo>
                      <a:pt x="384" y="628"/>
                    </a:lnTo>
                    <a:lnTo>
                      <a:pt x="464" y="677"/>
                    </a:lnTo>
                    <a:lnTo>
                      <a:pt x="555" y="717"/>
                    </a:lnTo>
                    <a:lnTo>
                      <a:pt x="760" y="764"/>
                    </a:lnTo>
                    <a:lnTo>
                      <a:pt x="990" y="778"/>
                    </a:lnTo>
                    <a:lnTo>
                      <a:pt x="1456" y="743"/>
                    </a:lnTo>
                    <a:lnTo>
                      <a:pt x="1844" y="692"/>
                    </a:lnTo>
                    <a:lnTo>
                      <a:pt x="1844" y="6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1255320" y="5496120"/>
                <a:ext cx="38880" cy="46440"/>
              </a:xfrm>
              <a:custGeom>
                <a:avLst/>
                <a:gdLst/>
                <a:ahLst/>
                <a:rect l="l" t="t" r="r" b="b"/>
                <a:pathLst>
                  <a:path w="181" h="182">
                    <a:moveTo>
                      <a:pt x="91" y="0"/>
                    </a:moveTo>
                    <a:lnTo>
                      <a:pt x="154" y="28"/>
                    </a:lnTo>
                    <a:lnTo>
                      <a:pt x="181" y="91"/>
                    </a:lnTo>
                    <a:lnTo>
                      <a:pt x="154" y="155"/>
                    </a:lnTo>
                    <a:lnTo>
                      <a:pt x="91" y="182"/>
                    </a:lnTo>
                    <a:lnTo>
                      <a:pt x="27" y="155"/>
                    </a:lnTo>
                    <a:lnTo>
                      <a:pt x="0" y="91"/>
                    </a:lnTo>
                    <a:lnTo>
                      <a:pt x="27" y="28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1198440" y="5428800"/>
                <a:ext cx="102960" cy="181800"/>
              </a:xfrm>
              <a:custGeom>
                <a:avLst/>
                <a:gdLst/>
                <a:ahLst/>
                <a:rect l="l" t="t" r="r" b="b"/>
                <a:pathLst>
                  <a:path w="479" h="711">
                    <a:moveTo>
                      <a:pt x="125" y="711"/>
                    </a:moveTo>
                    <a:lnTo>
                      <a:pt x="0" y="630"/>
                    </a:lnTo>
                    <a:lnTo>
                      <a:pt x="125" y="555"/>
                    </a:lnTo>
                    <a:lnTo>
                      <a:pt x="268" y="495"/>
                    </a:lnTo>
                    <a:lnTo>
                      <a:pt x="330" y="348"/>
                    </a:lnTo>
                    <a:lnTo>
                      <a:pt x="313" y="268"/>
                    </a:lnTo>
                    <a:lnTo>
                      <a:pt x="268" y="200"/>
                    </a:lnTo>
                    <a:lnTo>
                      <a:pt x="201" y="151"/>
                    </a:lnTo>
                    <a:lnTo>
                      <a:pt x="125" y="133"/>
                    </a:lnTo>
                    <a:lnTo>
                      <a:pt x="0" y="75"/>
                    </a:lnTo>
                    <a:lnTo>
                      <a:pt x="125" y="0"/>
                    </a:lnTo>
                    <a:lnTo>
                      <a:pt x="264" y="29"/>
                    </a:lnTo>
                    <a:lnTo>
                      <a:pt x="376" y="103"/>
                    </a:lnTo>
                    <a:lnTo>
                      <a:pt x="452" y="217"/>
                    </a:lnTo>
                    <a:lnTo>
                      <a:pt x="479" y="356"/>
                    </a:lnTo>
                    <a:lnTo>
                      <a:pt x="452" y="495"/>
                    </a:lnTo>
                    <a:lnTo>
                      <a:pt x="420" y="557"/>
                    </a:lnTo>
                    <a:lnTo>
                      <a:pt x="376" y="609"/>
                    </a:lnTo>
                    <a:lnTo>
                      <a:pt x="323" y="652"/>
                    </a:lnTo>
                    <a:lnTo>
                      <a:pt x="264" y="685"/>
                    </a:lnTo>
                    <a:lnTo>
                      <a:pt x="125" y="711"/>
                    </a:lnTo>
                    <a:lnTo>
                      <a:pt x="125" y="7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1247760" y="5428800"/>
                <a:ext cx="103320" cy="181800"/>
              </a:xfrm>
              <a:custGeom>
                <a:avLst/>
                <a:gdLst/>
                <a:ahLst/>
                <a:rect l="l" t="t" r="r" b="b"/>
                <a:pathLst>
                  <a:path w="481" h="711">
                    <a:moveTo>
                      <a:pt x="357" y="711"/>
                    </a:moveTo>
                    <a:lnTo>
                      <a:pt x="481" y="630"/>
                    </a:lnTo>
                    <a:lnTo>
                      <a:pt x="357" y="555"/>
                    </a:lnTo>
                    <a:lnTo>
                      <a:pt x="217" y="495"/>
                    </a:lnTo>
                    <a:lnTo>
                      <a:pt x="158" y="348"/>
                    </a:lnTo>
                    <a:lnTo>
                      <a:pt x="175" y="268"/>
                    </a:lnTo>
                    <a:lnTo>
                      <a:pt x="217" y="200"/>
                    </a:lnTo>
                    <a:lnTo>
                      <a:pt x="279" y="151"/>
                    </a:lnTo>
                    <a:lnTo>
                      <a:pt x="357" y="133"/>
                    </a:lnTo>
                    <a:lnTo>
                      <a:pt x="481" y="75"/>
                    </a:lnTo>
                    <a:lnTo>
                      <a:pt x="357" y="0"/>
                    </a:lnTo>
                    <a:lnTo>
                      <a:pt x="217" y="29"/>
                    </a:lnTo>
                    <a:lnTo>
                      <a:pt x="104" y="103"/>
                    </a:lnTo>
                    <a:lnTo>
                      <a:pt x="28" y="217"/>
                    </a:lnTo>
                    <a:lnTo>
                      <a:pt x="0" y="356"/>
                    </a:lnTo>
                    <a:lnTo>
                      <a:pt x="28" y="495"/>
                    </a:lnTo>
                    <a:lnTo>
                      <a:pt x="61" y="557"/>
                    </a:lnTo>
                    <a:lnTo>
                      <a:pt x="104" y="609"/>
                    </a:lnTo>
                    <a:lnTo>
                      <a:pt x="158" y="652"/>
                    </a:lnTo>
                    <a:lnTo>
                      <a:pt x="217" y="685"/>
                    </a:lnTo>
                    <a:lnTo>
                      <a:pt x="357" y="711"/>
                    </a:lnTo>
                    <a:lnTo>
                      <a:pt x="357" y="7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986760" y="5405040"/>
                <a:ext cx="163080" cy="150480"/>
              </a:xfrm>
              <a:custGeom>
                <a:avLst/>
                <a:gdLst/>
                <a:ahLst/>
                <a:rect l="l" t="t" r="r" b="b"/>
                <a:pathLst>
                  <a:path w="760" h="588">
                    <a:moveTo>
                      <a:pt x="380" y="588"/>
                    </a:moveTo>
                    <a:lnTo>
                      <a:pt x="760" y="264"/>
                    </a:lnTo>
                    <a:lnTo>
                      <a:pt x="447" y="316"/>
                    </a:lnTo>
                    <a:lnTo>
                      <a:pt x="528" y="91"/>
                    </a:lnTo>
                    <a:lnTo>
                      <a:pt x="239" y="215"/>
                    </a:lnTo>
                    <a:lnTo>
                      <a:pt x="274" y="0"/>
                    </a:lnTo>
                    <a:lnTo>
                      <a:pt x="0" y="158"/>
                    </a:lnTo>
                    <a:lnTo>
                      <a:pt x="380" y="588"/>
                    </a:lnTo>
                    <a:lnTo>
                      <a:pt x="380" y="5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1186200" y="5199840"/>
                <a:ext cx="57960" cy="123840"/>
              </a:xfrm>
              <a:custGeom>
                <a:avLst/>
                <a:gdLst/>
                <a:ahLst/>
                <a:rect l="l" t="t" r="r" b="b"/>
                <a:pathLst>
                  <a:path w="270" h="485">
                    <a:moveTo>
                      <a:pt x="23" y="464"/>
                    </a:moveTo>
                    <a:lnTo>
                      <a:pt x="0" y="317"/>
                    </a:lnTo>
                    <a:lnTo>
                      <a:pt x="32" y="173"/>
                    </a:lnTo>
                    <a:lnTo>
                      <a:pt x="72" y="108"/>
                    </a:lnTo>
                    <a:lnTo>
                      <a:pt x="125" y="49"/>
                    </a:lnTo>
                    <a:lnTo>
                      <a:pt x="188" y="8"/>
                    </a:lnTo>
                    <a:lnTo>
                      <a:pt x="255" y="0"/>
                    </a:lnTo>
                    <a:lnTo>
                      <a:pt x="270" y="25"/>
                    </a:lnTo>
                    <a:lnTo>
                      <a:pt x="237" y="78"/>
                    </a:lnTo>
                    <a:lnTo>
                      <a:pt x="156" y="198"/>
                    </a:lnTo>
                    <a:lnTo>
                      <a:pt x="148" y="454"/>
                    </a:lnTo>
                    <a:lnTo>
                      <a:pt x="85" y="485"/>
                    </a:lnTo>
                    <a:lnTo>
                      <a:pt x="23" y="464"/>
                    </a:lnTo>
                    <a:lnTo>
                      <a:pt x="23" y="4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1096920" y="5199840"/>
                <a:ext cx="68400" cy="11880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13" y="454"/>
                    </a:moveTo>
                    <a:lnTo>
                      <a:pt x="0" y="306"/>
                    </a:lnTo>
                    <a:lnTo>
                      <a:pt x="45" y="165"/>
                    </a:lnTo>
                    <a:lnTo>
                      <a:pt x="97" y="99"/>
                    </a:lnTo>
                    <a:lnTo>
                      <a:pt x="161" y="40"/>
                    </a:lnTo>
                    <a:lnTo>
                      <a:pt x="235" y="0"/>
                    </a:lnTo>
                    <a:lnTo>
                      <a:pt x="309" y="0"/>
                    </a:lnTo>
                    <a:lnTo>
                      <a:pt x="319" y="27"/>
                    </a:lnTo>
                    <a:lnTo>
                      <a:pt x="273" y="78"/>
                    </a:lnTo>
                    <a:lnTo>
                      <a:pt x="169" y="198"/>
                    </a:lnTo>
                    <a:lnTo>
                      <a:pt x="127" y="464"/>
                    </a:lnTo>
                    <a:lnTo>
                      <a:pt x="13" y="454"/>
                    </a:lnTo>
                    <a:lnTo>
                      <a:pt x="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1006920" y="5196240"/>
                <a:ext cx="81360" cy="122400"/>
              </a:xfrm>
              <a:custGeom>
                <a:avLst/>
                <a:gdLst/>
                <a:ahLst/>
                <a:rect l="l" t="t" r="r" b="b"/>
                <a:pathLst>
                  <a:path w="378" h="477">
                    <a:moveTo>
                      <a:pt x="0" y="460"/>
                    </a:moveTo>
                    <a:lnTo>
                      <a:pt x="7" y="308"/>
                    </a:lnTo>
                    <a:lnTo>
                      <a:pt x="66" y="161"/>
                    </a:lnTo>
                    <a:lnTo>
                      <a:pt x="127" y="97"/>
                    </a:lnTo>
                    <a:lnTo>
                      <a:pt x="205" y="36"/>
                    </a:lnTo>
                    <a:lnTo>
                      <a:pt x="289" y="0"/>
                    </a:lnTo>
                    <a:lnTo>
                      <a:pt x="365" y="5"/>
                    </a:lnTo>
                    <a:lnTo>
                      <a:pt x="378" y="43"/>
                    </a:lnTo>
                    <a:lnTo>
                      <a:pt x="323" y="95"/>
                    </a:lnTo>
                    <a:lnTo>
                      <a:pt x="190" y="211"/>
                    </a:lnTo>
                    <a:lnTo>
                      <a:pt x="108" y="477"/>
                    </a:lnTo>
                    <a:lnTo>
                      <a:pt x="0" y="460"/>
                    </a:lnTo>
                    <a:lnTo>
                      <a:pt x="0" y="4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917280" y="5214960"/>
                <a:ext cx="94320" cy="127800"/>
              </a:xfrm>
              <a:custGeom>
                <a:avLst/>
                <a:gdLst/>
                <a:ahLst/>
                <a:rect l="l" t="t" r="r" b="b"/>
                <a:pathLst>
                  <a:path w="439" h="500">
                    <a:moveTo>
                      <a:pt x="0" y="467"/>
                    </a:moveTo>
                    <a:lnTo>
                      <a:pt x="16" y="306"/>
                    </a:lnTo>
                    <a:lnTo>
                      <a:pt x="44" y="228"/>
                    </a:lnTo>
                    <a:lnTo>
                      <a:pt x="92" y="161"/>
                    </a:lnTo>
                    <a:lnTo>
                      <a:pt x="166" y="95"/>
                    </a:lnTo>
                    <a:lnTo>
                      <a:pt x="255" y="34"/>
                    </a:lnTo>
                    <a:lnTo>
                      <a:pt x="348" y="0"/>
                    </a:lnTo>
                    <a:lnTo>
                      <a:pt x="430" y="13"/>
                    </a:lnTo>
                    <a:lnTo>
                      <a:pt x="439" y="55"/>
                    </a:lnTo>
                    <a:lnTo>
                      <a:pt x="371" y="104"/>
                    </a:lnTo>
                    <a:lnTo>
                      <a:pt x="278" y="160"/>
                    </a:lnTo>
                    <a:lnTo>
                      <a:pt x="207" y="220"/>
                    </a:lnTo>
                    <a:lnTo>
                      <a:pt x="99" y="492"/>
                    </a:lnTo>
                    <a:lnTo>
                      <a:pt x="42" y="500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837360" y="5244840"/>
                <a:ext cx="108360" cy="130320"/>
              </a:xfrm>
              <a:custGeom>
                <a:avLst/>
                <a:gdLst/>
                <a:ahLst/>
                <a:rect l="l" t="t" r="r" b="b"/>
                <a:pathLst>
                  <a:path w="504" h="509">
                    <a:moveTo>
                      <a:pt x="0" y="467"/>
                    </a:moveTo>
                    <a:lnTo>
                      <a:pt x="35" y="306"/>
                    </a:lnTo>
                    <a:lnTo>
                      <a:pt x="73" y="228"/>
                    </a:lnTo>
                    <a:lnTo>
                      <a:pt x="124" y="161"/>
                    </a:lnTo>
                    <a:lnTo>
                      <a:pt x="207" y="95"/>
                    </a:lnTo>
                    <a:lnTo>
                      <a:pt x="306" y="32"/>
                    </a:lnTo>
                    <a:lnTo>
                      <a:pt x="409" y="0"/>
                    </a:lnTo>
                    <a:lnTo>
                      <a:pt x="496" y="21"/>
                    </a:lnTo>
                    <a:lnTo>
                      <a:pt x="504" y="70"/>
                    </a:lnTo>
                    <a:lnTo>
                      <a:pt x="428" y="118"/>
                    </a:lnTo>
                    <a:lnTo>
                      <a:pt x="322" y="171"/>
                    </a:lnTo>
                    <a:lnTo>
                      <a:pt x="240" y="228"/>
                    </a:lnTo>
                    <a:lnTo>
                      <a:pt x="169" y="374"/>
                    </a:lnTo>
                    <a:lnTo>
                      <a:pt x="137" y="448"/>
                    </a:lnTo>
                    <a:lnTo>
                      <a:pt x="92" y="509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996200" y="3886200"/>
              <a:ext cx="974880" cy="1127160"/>
              <a:chOff x="1996200" y="3886200"/>
              <a:chExt cx="974880" cy="1127160"/>
            </a:xfrm>
          </p:grpSpPr>
          <p:sp>
            <p:nvSpPr>
              <p:cNvPr id="254" name=""/>
              <p:cNvSpPr/>
              <p:nvPr/>
            </p:nvSpPr>
            <p:spPr>
              <a:xfrm>
                <a:off x="2018880" y="4006440"/>
                <a:ext cx="915120" cy="984600"/>
              </a:xfrm>
              <a:custGeom>
                <a:avLst/>
                <a:gdLst/>
                <a:ahLst/>
                <a:rect l="l" t="t" r="r" b="b"/>
                <a:pathLst>
                  <a:path w="4164" h="3761">
                    <a:moveTo>
                      <a:pt x="0" y="1840"/>
                    </a:moveTo>
                    <a:lnTo>
                      <a:pt x="731" y="1861"/>
                    </a:lnTo>
                    <a:lnTo>
                      <a:pt x="1837" y="2435"/>
                    </a:lnTo>
                    <a:lnTo>
                      <a:pt x="1575" y="2790"/>
                    </a:lnTo>
                    <a:lnTo>
                      <a:pt x="1243" y="3260"/>
                    </a:lnTo>
                    <a:lnTo>
                      <a:pt x="1389" y="3573"/>
                    </a:lnTo>
                    <a:lnTo>
                      <a:pt x="1889" y="3761"/>
                    </a:lnTo>
                    <a:lnTo>
                      <a:pt x="2619" y="3720"/>
                    </a:lnTo>
                    <a:lnTo>
                      <a:pt x="3016" y="3376"/>
                    </a:lnTo>
                    <a:lnTo>
                      <a:pt x="3392" y="1724"/>
                    </a:lnTo>
                    <a:lnTo>
                      <a:pt x="4164" y="429"/>
                    </a:lnTo>
                    <a:lnTo>
                      <a:pt x="4048" y="272"/>
                    </a:lnTo>
                    <a:lnTo>
                      <a:pt x="3434" y="62"/>
                    </a:lnTo>
                    <a:lnTo>
                      <a:pt x="2495" y="0"/>
                    </a:lnTo>
                    <a:lnTo>
                      <a:pt x="1377" y="209"/>
                    </a:lnTo>
                    <a:lnTo>
                      <a:pt x="543" y="846"/>
                    </a:lnTo>
                    <a:lnTo>
                      <a:pt x="157" y="1442"/>
                    </a:lnTo>
                    <a:lnTo>
                      <a:pt x="0" y="1840"/>
                    </a:lnTo>
                    <a:lnTo>
                      <a:pt x="0" y="1840"/>
                    </a:lnTo>
                    <a:close/>
                  </a:path>
                </a:pathLst>
              </a:custGeom>
              <a:solidFill>
                <a:srgbClr val="fbd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319480" y="4115880"/>
                <a:ext cx="410400" cy="210240"/>
              </a:xfrm>
              <a:custGeom>
                <a:avLst/>
                <a:gdLst/>
                <a:ahLst/>
                <a:rect l="l" t="t" r="r" b="b"/>
                <a:pathLst>
                  <a:path w="1866" h="804">
                    <a:moveTo>
                      <a:pt x="0" y="407"/>
                    </a:moveTo>
                    <a:lnTo>
                      <a:pt x="302" y="701"/>
                    </a:lnTo>
                    <a:lnTo>
                      <a:pt x="960" y="804"/>
                    </a:lnTo>
                    <a:lnTo>
                      <a:pt x="1617" y="637"/>
                    </a:lnTo>
                    <a:lnTo>
                      <a:pt x="1866" y="523"/>
                    </a:lnTo>
                    <a:lnTo>
                      <a:pt x="1648" y="220"/>
                    </a:lnTo>
                    <a:lnTo>
                      <a:pt x="1074" y="0"/>
                    </a:lnTo>
                    <a:lnTo>
                      <a:pt x="521" y="42"/>
                    </a:lnTo>
                    <a:lnTo>
                      <a:pt x="0" y="407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459160" y="4149000"/>
                <a:ext cx="130320" cy="150480"/>
              </a:xfrm>
              <a:custGeom>
                <a:avLst/>
                <a:gdLst/>
                <a:ahLst/>
                <a:rect l="l" t="t" r="r" b="b"/>
                <a:pathLst>
                  <a:path w="595" h="576">
                    <a:moveTo>
                      <a:pt x="407" y="0"/>
                    </a:moveTo>
                    <a:lnTo>
                      <a:pt x="167" y="0"/>
                    </a:lnTo>
                    <a:lnTo>
                      <a:pt x="0" y="242"/>
                    </a:lnTo>
                    <a:lnTo>
                      <a:pt x="104" y="491"/>
                    </a:lnTo>
                    <a:lnTo>
                      <a:pt x="397" y="576"/>
                    </a:lnTo>
                    <a:lnTo>
                      <a:pt x="595" y="314"/>
                    </a:lnTo>
                    <a:lnTo>
                      <a:pt x="407" y="0"/>
                    </a:lnTo>
                    <a:lnTo>
                      <a:pt x="407" y="0"/>
                    </a:lnTo>
                    <a:close/>
                  </a:path>
                </a:pathLst>
              </a:custGeom>
              <a:solidFill>
                <a:srgbClr val="99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97520" y="4831920"/>
                <a:ext cx="150480" cy="97200"/>
              </a:xfrm>
              <a:custGeom>
                <a:avLst/>
                <a:gdLst/>
                <a:ahLst/>
                <a:rect l="l" t="t" r="r" b="b"/>
                <a:pathLst>
                  <a:path w="686" h="373">
                    <a:moveTo>
                      <a:pt x="91" y="373"/>
                    </a:moveTo>
                    <a:lnTo>
                      <a:pt x="0" y="173"/>
                    </a:lnTo>
                    <a:lnTo>
                      <a:pt x="91" y="0"/>
                    </a:lnTo>
                    <a:lnTo>
                      <a:pt x="538" y="90"/>
                    </a:lnTo>
                    <a:lnTo>
                      <a:pt x="648" y="137"/>
                    </a:lnTo>
                    <a:lnTo>
                      <a:pt x="686" y="183"/>
                    </a:lnTo>
                    <a:lnTo>
                      <a:pt x="648" y="230"/>
                    </a:lnTo>
                    <a:lnTo>
                      <a:pt x="538" y="278"/>
                    </a:lnTo>
                    <a:lnTo>
                      <a:pt x="352" y="325"/>
                    </a:lnTo>
                    <a:lnTo>
                      <a:pt x="91" y="373"/>
                    </a:lnTo>
                    <a:lnTo>
                      <a:pt x="91" y="373"/>
                    </a:lnTo>
                    <a:close/>
                  </a:path>
                </a:pathLst>
              </a:custGeom>
              <a:solidFill>
                <a:srgbClr val="d42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996200" y="4372920"/>
                <a:ext cx="550800" cy="283680"/>
              </a:xfrm>
              <a:custGeom>
                <a:avLst/>
                <a:gdLst/>
                <a:ahLst/>
                <a:rect l="l" t="t" r="r" b="b"/>
                <a:pathLst>
                  <a:path w="2505" h="1083">
                    <a:moveTo>
                      <a:pt x="67" y="604"/>
                    </a:moveTo>
                    <a:lnTo>
                      <a:pt x="399" y="587"/>
                    </a:lnTo>
                    <a:lnTo>
                      <a:pt x="844" y="612"/>
                    </a:lnTo>
                    <a:lnTo>
                      <a:pt x="1087" y="713"/>
                    </a:lnTo>
                    <a:lnTo>
                      <a:pt x="1224" y="787"/>
                    </a:lnTo>
                    <a:lnTo>
                      <a:pt x="1361" y="866"/>
                    </a:lnTo>
                    <a:lnTo>
                      <a:pt x="1498" y="943"/>
                    </a:lnTo>
                    <a:lnTo>
                      <a:pt x="1627" y="1011"/>
                    </a:lnTo>
                    <a:lnTo>
                      <a:pt x="1743" y="1058"/>
                    </a:lnTo>
                    <a:lnTo>
                      <a:pt x="1844" y="1083"/>
                    </a:lnTo>
                    <a:lnTo>
                      <a:pt x="2100" y="1055"/>
                    </a:lnTo>
                    <a:lnTo>
                      <a:pt x="2311" y="918"/>
                    </a:lnTo>
                    <a:lnTo>
                      <a:pt x="2452" y="707"/>
                    </a:lnTo>
                    <a:lnTo>
                      <a:pt x="2505" y="454"/>
                    </a:lnTo>
                    <a:lnTo>
                      <a:pt x="2469" y="245"/>
                    </a:lnTo>
                    <a:lnTo>
                      <a:pt x="2425" y="161"/>
                    </a:lnTo>
                    <a:lnTo>
                      <a:pt x="2366" y="95"/>
                    </a:lnTo>
                    <a:lnTo>
                      <a:pt x="2294" y="42"/>
                    </a:lnTo>
                    <a:lnTo>
                      <a:pt x="2209" y="9"/>
                    </a:lnTo>
                    <a:lnTo>
                      <a:pt x="1999" y="0"/>
                    </a:lnTo>
                    <a:lnTo>
                      <a:pt x="1836" y="66"/>
                    </a:lnTo>
                    <a:lnTo>
                      <a:pt x="1718" y="203"/>
                    </a:lnTo>
                    <a:lnTo>
                      <a:pt x="1648" y="367"/>
                    </a:lnTo>
                    <a:lnTo>
                      <a:pt x="1629" y="513"/>
                    </a:lnTo>
                    <a:lnTo>
                      <a:pt x="1648" y="574"/>
                    </a:lnTo>
                    <a:lnTo>
                      <a:pt x="1688" y="616"/>
                    </a:lnTo>
                    <a:lnTo>
                      <a:pt x="1806" y="642"/>
                    </a:lnTo>
                    <a:lnTo>
                      <a:pt x="1923" y="595"/>
                    </a:lnTo>
                    <a:lnTo>
                      <a:pt x="1984" y="479"/>
                    </a:lnTo>
                    <a:lnTo>
                      <a:pt x="1969" y="370"/>
                    </a:lnTo>
                    <a:lnTo>
                      <a:pt x="1929" y="308"/>
                    </a:lnTo>
                    <a:lnTo>
                      <a:pt x="1876" y="222"/>
                    </a:lnTo>
                    <a:lnTo>
                      <a:pt x="1895" y="171"/>
                    </a:lnTo>
                    <a:lnTo>
                      <a:pt x="1937" y="133"/>
                    </a:lnTo>
                    <a:lnTo>
                      <a:pt x="2041" y="99"/>
                    </a:lnTo>
                    <a:lnTo>
                      <a:pt x="2157" y="129"/>
                    </a:lnTo>
                    <a:lnTo>
                      <a:pt x="2248" y="205"/>
                    </a:lnTo>
                    <a:lnTo>
                      <a:pt x="2332" y="429"/>
                    </a:lnTo>
                    <a:lnTo>
                      <a:pt x="2311" y="572"/>
                    </a:lnTo>
                    <a:lnTo>
                      <a:pt x="2254" y="709"/>
                    </a:lnTo>
                    <a:lnTo>
                      <a:pt x="2212" y="768"/>
                    </a:lnTo>
                    <a:lnTo>
                      <a:pt x="2167" y="819"/>
                    </a:lnTo>
                    <a:lnTo>
                      <a:pt x="2115" y="855"/>
                    </a:lnTo>
                    <a:lnTo>
                      <a:pt x="2058" y="876"/>
                    </a:lnTo>
                    <a:lnTo>
                      <a:pt x="1800" y="853"/>
                    </a:lnTo>
                    <a:lnTo>
                      <a:pt x="1678" y="798"/>
                    </a:lnTo>
                    <a:lnTo>
                      <a:pt x="1562" y="728"/>
                    </a:lnTo>
                    <a:lnTo>
                      <a:pt x="1450" y="650"/>
                    </a:lnTo>
                    <a:lnTo>
                      <a:pt x="1342" y="572"/>
                    </a:lnTo>
                    <a:lnTo>
                      <a:pt x="1239" y="503"/>
                    </a:lnTo>
                    <a:lnTo>
                      <a:pt x="1140" y="454"/>
                    </a:lnTo>
                    <a:lnTo>
                      <a:pt x="939" y="393"/>
                    </a:lnTo>
                    <a:lnTo>
                      <a:pt x="713" y="349"/>
                    </a:lnTo>
                    <a:lnTo>
                      <a:pt x="247" y="338"/>
                    </a:lnTo>
                    <a:lnTo>
                      <a:pt x="131" y="387"/>
                    </a:lnTo>
                    <a:lnTo>
                      <a:pt x="0" y="551"/>
                    </a:lnTo>
                    <a:lnTo>
                      <a:pt x="67" y="604"/>
                    </a:lnTo>
                    <a:lnTo>
                      <a:pt x="67" y="6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96200" y="3992760"/>
                <a:ext cx="953640" cy="1020600"/>
              </a:xfrm>
              <a:custGeom>
                <a:avLst/>
                <a:gdLst/>
                <a:ahLst/>
                <a:rect l="l" t="t" r="r" b="b"/>
                <a:pathLst>
                  <a:path w="4339" h="3901">
                    <a:moveTo>
                      <a:pt x="247" y="1892"/>
                    </a:moveTo>
                    <a:lnTo>
                      <a:pt x="321" y="1671"/>
                    </a:lnTo>
                    <a:lnTo>
                      <a:pt x="371" y="1550"/>
                    </a:lnTo>
                    <a:lnTo>
                      <a:pt x="428" y="1424"/>
                    </a:lnTo>
                    <a:lnTo>
                      <a:pt x="496" y="1295"/>
                    </a:lnTo>
                    <a:lnTo>
                      <a:pt x="578" y="1166"/>
                    </a:lnTo>
                    <a:lnTo>
                      <a:pt x="673" y="1035"/>
                    </a:lnTo>
                    <a:lnTo>
                      <a:pt x="785" y="907"/>
                    </a:lnTo>
                    <a:lnTo>
                      <a:pt x="914" y="784"/>
                    </a:lnTo>
                    <a:lnTo>
                      <a:pt x="1062" y="666"/>
                    </a:lnTo>
                    <a:lnTo>
                      <a:pt x="1144" y="609"/>
                    </a:lnTo>
                    <a:lnTo>
                      <a:pt x="1232" y="554"/>
                    </a:lnTo>
                    <a:lnTo>
                      <a:pt x="1325" y="502"/>
                    </a:lnTo>
                    <a:lnTo>
                      <a:pt x="1422" y="453"/>
                    </a:lnTo>
                    <a:lnTo>
                      <a:pt x="1526" y="407"/>
                    </a:lnTo>
                    <a:lnTo>
                      <a:pt x="1636" y="364"/>
                    </a:lnTo>
                    <a:lnTo>
                      <a:pt x="1752" y="324"/>
                    </a:lnTo>
                    <a:lnTo>
                      <a:pt x="1876" y="286"/>
                    </a:lnTo>
                    <a:lnTo>
                      <a:pt x="2144" y="223"/>
                    </a:lnTo>
                    <a:lnTo>
                      <a:pt x="2439" y="177"/>
                    </a:lnTo>
                    <a:lnTo>
                      <a:pt x="2866" y="153"/>
                    </a:lnTo>
                    <a:lnTo>
                      <a:pt x="3336" y="183"/>
                    </a:lnTo>
                    <a:lnTo>
                      <a:pt x="3792" y="284"/>
                    </a:lnTo>
                    <a:lnTo>
                      <a:pt x="3999" y="364"/>
                    </a:lnTo>
                    <a:lnTo>
                      <a:pt x="4183" y="468"/>
                    </a:lnTo>
                    <a:lnTo>
                      <a:pt x="4172" y="519"/>
                    </a:lnTo>
                    <a:lnTo>
                      <a:pt x="4103" y="633"/>
                    </a:lnTo>
                    <a:lnTo>
                      <a:pt x="4054" y="709"/>
                    </a:lnTo>
                    <a:lnTo>
                      <a:pt x="3997" y="795"/>
                    </a:lnTo>
                    <a:lnTo>
                      <a:pt x="3932" y="890"/>
                    </a:lnTo>
                    <a:lnTo>
                      <a:pt x="3864" y="991"/>
                    </a:lnTo>
                    <a:lnTo>
                      <a:pt x="3792" y="1097"/>
                    </a:lnTo>
                    <a:lnTo>
                      <a:pt x="3718" y="1206"/>
                    </a:lnTo>
                    <a:lnTo>
                      <a:pt x="3645" y="1318"/>
                    </a:lnTo>
                    <a:lnTo>
                      <a:pt x="3577" y="1426"/>
                    </a:lnTo>
                    <a:lnTo>
                      <a:pt x="3512" y="1534"/>
                    </a:lnTo>
                    <a:lnTo>
                      <a:pt x="3453" y="1637"/>
                    </a:lnTo>
                    <a:lnTo>
                      <a:pt x="3364" y="1825"/>
                    </a:lnTo>
                    <a:lnTo>
                      <a:pt x="3250" y="2186"/>
                    </a:lnTo>
                    <a:lnTo>
                      <a:pt x="3159" y="2572"/>
                    </a:lnTo>
                    <a:lnTo>
                      <a:pt x="3077" y="2964"/>
                    </a:lnTo>
                    <a:lnTo>
                      <a:pt x="2992" y="3340"/>
                    </a:lnTo>
                    <a:lnTo>
                      <a:pt x="2965" y="3405"/>
                    </a:lnTo>
                    <a:lnTo>
                      <a:pt x="2916" y="3485"/>
                    </a:lnTo>
                    <a:lnTo>
                      <a:pt x="2857" y="3559"/>
                    </a:lnTo>
                    <a:lnTo>
                      <a:pt x="2802" y="3604"/>
                    </a:lnTo>
                    <a:lnTo>
                      <a:pt x="2708" y="3652"/>
                    </a:lnTo>
                    <a:lnTo>
                      <a:pt x="2591" y="3696"/>
                    </a:lnTo>
                    <a:lnTo>
                      <a:pt x="2372" y="3738"/>
                    </a:lnTo>
                    <a:lnTo>
                      <a:pt x="1847" y="3690"/>
                    </a:lnTo>
                    <a:lnTo>
                      <a:pt x="1635" y="3604"/>
                    </a:lnTo>
                    <a:lnTo>
                      <a:pt x="1521" y="3439"/>
                    </a:lnTo>
                    <a:lnTo>
                      <a:pt x="1524" y="3253"/>
                    </a:lnTo>
                    <a:lnTo>
                      <a:pt x="1559" y="3158"/>
                    </a:lnTo>
                    <a:lnTo>
                      <a:pt x="1608" y="3063"/>
                    </a:lnTo>
                    <a:lnTo>
                      <a:pt x="1674" y="2970"/>
                    </a:lnTo>
                    <a:lnTo>
                      <a:pt x="1749" y="2880"/>
                    </a:lnTo>
                    <a:lnTo>
                      <a:pt x="1834" y="2797"/>
                    </a:lnTo>
                    <a:lnTo>
                      <a:pt x="1925" y="2719"/>
                    </a:lnTo>
                    <a:lnTo>
                      <a:pt x="2032" y="2631"/>
                    </a:lnTo>
                    <a:lnTo>
                      <a:pt x="2155" y="2521"/>
                    </a:lnTo>
                    <a:lnTo>
                      <a:pt x="2285" y="2390"/>
                    </a:lnTo>
                    <a:lnTo>
                      <a:pt x="2406" y="2238"/>
                    </a:lnTo>
                    <a:lnTo>
                      <a:pt x="1827" y="2479"/>
                    </a:lnTo>
                    <a:lnTo>
                      <a:pt x="1800" y="2595"/>
                    </a:lnTo>
                    <a:lnTo>
                      <a:pt x="1739" y="2715"/>
                    </a:lnTo>
                    <a:lnTo>
                      <a:pt x="1654" y="2838"/>
                    </a:lnTo>
                    <a:lnTo>
                      <a:pt x="1555" y="2960"/>
                    </a:lnTo>
                    <a:lnTo>
                      <a:pt x="1458" y="3082"/>
                    </a:lnTo>
                    <a:lnTo>
                      <a:pt x="1372" y="3203"/>
                    </a:lnTo>
                    <a:lnTo>
                      <a:pt x="1291" y="3430"/>
                    </a:lnTo>
                    <a:lnTo>
                      <a:pt x="1304" y="3502"/>
                    </a:lnTo>
                    <a:lnTo>
                      <a:pt x="1340" y="3570"/>
                    </a:lnTo>
                    <a:lnTo>
                      <a:pt x="1393" y="3637"/>
                    </a:lnTo>
                    <a:lnTo>
                      <a:pt x="1460" y="3696"/>
                    </a:lnTo>
                    <a:lnTo>
                      <a:pt x="1536" y="3749"/>
                    </a:lnTo>
                    <a:lnTo>
                      <a:pt x="1610" y="3793"/>
                    </a:lnTo>
                    <a:lnTo>
                      <a:pt x="1743" y="3844"/>
                    </a:lnTo>
                    <a:lnTo>
                      <a:pt x="1971" y="3880"/>
                    </a:lnTo>
                    <a:lnTo>
                      <a:pt x="2218" y="3901"/>
                    </a:lnTo>
                    <a:lnTo>
                      <a:pt x="2686" y="3869"/>
                    </a:lnTo>
                    <a:lnTo>
                      <a:pt x="2864" y="3802"/>
                    </a:lnTo>
                    <a:lnTo>
                      <a:pt x="3028" y="3675"/>
                    </a:lnTo>
                    <a:lnTo>
                      <a:pt x="3166" y="3511"/>
                    </a:lnTo>
                    <a:lnTo>
                      <a:pt x="3265" y="3331"/>
                    </a:lnTo>
                    <a:lnTo>
                      <a:pt x="3374" y="2989"/>
                    </a:lnTo>
                    <a:lnTo>
                      <a:pt x="3453" y="2601"/>
                    </a:lnTo>
                    <a:lnTo>
                      <a:pt x="3526" y="2209"/>
                    </a:lnTo>
                    <a:lnTo>
                      <a:pt x="3567" y="2025"/>
                    </a:lnTo>
                    <a:lnTo>
                      <a:pt x="3611" y="1858"/>
                    </a:lnTo>
                    <a:lnTo>
                      <a:pt x="3676" y="1690"/>
                    </a:lnTo>
                    <a:lnTo>
                      <a:pt x="3759" y="1523"/>
                    </a:lnTo>
                    <a:lnTo>
                      <a:pt x="3858" y="1354"/>
                    </a:lnTo>
                    <a:lnTo>
                      <a:pt x="3963" y="1187"/>
                    </a:lnTo>
                    <a:lnTo>
                      <a:pt x="4016" y="1101"/>
                    </a:lnTo>
                    <a:lnTo>
                      <a:pt x="4071" y="1017"/>
                    </a:lnTo>
                    <a:lnTo>
                      <a:pt x="4172" y="848"/>
                    </a:lnTo>
                    <a:lnTo>
                      <a:pt x="4263" y="679"/>
                    </a:lnTo>
                    <a:lnTo>
                      <a:pt x="4339" y="510"/>
                    </a:lnTo>
                    <a:lnTo>
                      <a:pt x="4316" y="381"/>
                    </a:lnTo>
                    <a:lnTo>
                      <a:pt x="4273" y="261"/>
                    </a:lnTo>
                    <a:lnTo>
                      <a:pt x="4153" y="219"/>
                    </a:lnTo>
                    <a:lnTo>
                      <a:pt x="4033" y="183"/>
                    </a:lnTo>
                    <a:lnTo>
                      <a:pt x="3792" y="118"/>
                    </a:lnTo>
                    <a:lnTo>
                      <a:pt x="3547" y="69"/>
                    </a:lnTo>
                    <a:lnTo>
                      <a:pt x="3301" y="35"/>
                    </a:lnTo>
                    <a:lnTo>
                      <a:pt x="2813" y="0"/>
                    </a:lnTo>
                    <a:lnTo>
                      <a:pt x="2332" y="12"/>
                    </a:lnTo>
                    <a:lnTo>
                      <a:pt x="1865" y="86"/>
                    </a:lnTo>
                    <a:lnTo>
                      <a:pt x="1644" y="153"/>
                    </a:lnTo>
                    <a:lnTo>
                      <a:pt x="1431" y="236"/>
                    </a:lnTo>
                    <a:lnTo>
                      <a:pt x="1329" y="284"/>
                    </a:lnTo>
                    <a:lnTo>
                      <a:pt x="1228" y="335"/>
                    </a:lnTo>
                    <a:lnTo>
                      <a:pt x="1131" y="390"/>
                    </a:lnTo>
                    <a:lnTo>
                      <a:pt x="1036" y="447"/>
                    </a:lnTo>
                    <a:lnTo>
                      <a:pt x="945" y="510"/>
                    </a:lnTo>
                    <a:lnTo>
                      <a:pt x="857" y="575"/>
                    </a:lnTo>
                    <a:lnTo>
                      <a:pt x="692" y="711"/>
                    </a:lnTo>
                    <a:lnTo>
                      <a:pt x="540" y="858"/>
                    </a:lnTo>
                    <a:lnTo>
                      <a:pt x="405" y="1012"/>
                    </a:lnTo>
                    <a:lnTo>
                      <a:pt x="344" y="1092"/>
                    </a:lnTo>
                    <a:lnTo>
                      <a:pt x="287" y="1171"/>
                    </a:lnTo>
                    <a:lnTo>
                      <a:pt x="188" y="1337"/>
                    </a:lnTo>
                    <a:lnTo>
                      <a:pt x="49" y="1673"/>
                    </a:lnTo>
                    <a:lnTo>
                      <a:pt x="0" y="2008"/>
                    </a:lnTo>
                    <a:lnTo>
                      <a:pt x="247" y="1892"/>
                    </a:lnTo>
                    <a:lnTo>
                      <a:pt x="247" y="18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293920" y="4094280"/>
                <a:ext cx="483120" cy="251640"/>
              </a:xfrm>
              <a:custGeom>
                <a:avLst/>
                <a:gdLst/>
                <a:ahLst/>
                <a:rect l="l" t="t" r="r" b="b"/>
                <a:pathLst>
                  <a:path w="2199" h="962">
                    <a:moveTo>
                      <a:pt x="1844" y="692"/>
                    </a:moveTo>
                    <a:lnTo>
                      <a:pt x="1749" y="742"/>
                    </a:lnTo>
                    <a:lnTo>
                      <a:pt x="1648" y="791"/>
                    </a:lnTo>
                    <a:lnTo>
                      <a:pt x="1540" y="837"/>
                    </a:lnTo>
                    <a:lnTo>
                      <a:pt x="1426" y="877"/>
                    </a:lnTo>
                    <a:lnTo>
                      <a:pt x="1184" y="937"/>
                    </a:lnTo>
                    <a:lnTo>
                      <a:pt x="935" y="962"/>
                    </a:lnTo>
                    <a:lnTo>
                      <a:pt x="682" y="941"/>
                    </a:lnTo>
                    <a:lnTo>
                      <a:pt x="437" y="859"/>
                    </a:lnTo>
                    <a:lnTo>
                      <a:pt x="319" y="793"/>
                    </a:lnTo>
                    <a:lnTo>
                      <a:pt x="207" y="709"/>
                    </a:lnTo>
                    <a:lnTo>
                      <a:pt x="101" y="603"/>
                    </a:lnTo>
                    <a:lnTo>
                      <a:pt x="0" y="477"/>
                    </a:lnTo>
                    <a:lnTo>
                      <a:pt x="53" y="411"/>
                    </a:lnTo>
                    <a:lnTo>
                      <a:pt x="108" y="350"/>
                    </a:lnTo>
                    <a:lnTo>
                      <a:pt x="224" y="244"/>
                    </a:lnTo>
                    <a:lnTo>
                      <a:pt x="285" y="198"/>
                    </a:lnTo>
                    <a:lnTo>
                      <a:pt x="350" y="158"/>
                    </a:lnTo>
                    <a:lnTo>
                      <a:pt x="481" y="91"/>
                    </a:lnTo>
                    <a:lnTo>
                      <a:pt x="620" y="44"/>
                    </a:lnTo>
                    <a:lnTo>
                      <a:pt x="762" y="14"/>
                    </a:lnTo>
                    <a:lnTo>
                      <a:pt x="1057" y="0"/>
                    </a:lnTo>
                    <a:lnTo>
                      <a:pt x="1357" y="42"/>
                    </a:lnTo>
                    <a:lnTo>
                      <a:pt x="1654" y="135"/>
                    </a:lnTo>
                    <a:lnTo>
                      <a:pt x="1798" y="198"/>
                    </a:lnTo>
                    <a:lnTo>
                      <a:pt x="1937" y="268"/>
                    </a:lnTo>
                    <a:lnTo>
                      <a:pt x="2072" y="348"/>
                    </a:lnTo>
                    <a:lnTo>
                      <a:pt x="2199" y="436"/>
                    </a:lnTo>
                    <a:lnTo>
                      <a:pt x="2093" y="538"/>
                    </a:lnTo>
                    <a:lnTo>
                      <a:pt x="1992" y="633"/>
                    </a:lnTo>
                    <a:lnTo>
                      <a:pt x="1901" y="559"/>
                    </a:lnTo>
                    <a:lnTo>
                      <a:pt x="1804" y="489"/>
                    </a:lnTo>
                    <a:lnTo>
                      <a:pt x="1701" y="422"/>
                    </a:lnTo>
                    <a:lnTo>
                      <a:pt x="1593" y="360"/>
                    </a:lnTo>
                    <a:lnTo>
                      <a:pt x="1483" y="302"/>
                    </a:lnTo>
                    <a:lnTo>
                      <a:pt x="1371" y="255"/>
                    </a:lnTo>
                    <a:lnTo>
                      <a:pt x="1255" y="215"/>
                    </a:lnTo>
                    <a:lnTo>
                      <a:pt x="1139" y="187"/>
                    </a:lnTo>
                    <a:lnTo>
                      <a:pt x="905" y="166"/>
                    </a:lnTo>
                    <a:lnTo>
                      <a:pt x="677" y="200"/>
                    </a:lnTo>
                    <a:lnTo>
                      <a:pt x="462" y="304"/>
                    </a:lnTo>
                    <a:lnTo>
                      <a:pt x="264" y="485"/>
                    </a:lnTo>
                    <a:lnTo>
                      <a:pt x="318" y="563"/>
                    </a:lnTo>
                    <a:lnTo>
                      <a:pt x="384" y="628"/>
                    </a:lnTo>
                    <a:lnTo>
                      <a:pt x="464" y="677"/>
                    </a:lnTo>
                    <a:lnTo>
                      <a:pt x="555" y="717"/>
                    </a:lnTo>
                    <a:lnTo>
                      <a:pt x="760" y="764"/>
                    </a:lnTo>
                    <a:lnTo>
                      <a:pt x="990" y="778"/>
                    </a:lnTo>
                    <a:lnTo>
                      <a:pt x="1456" y="743"/>
                    </a:lnTo>
                    <a:lnTo>
                      <a:pt x="1844" y="692"/>
                    </a:lnTo>
                    <a:lnTo>
                      <a:pt x="1844" y="6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504520" y="4192920"/>
                <a:ext cx="39960" cy="47520"/>
              </a:xfrm>
              <a:custGeom>
                <a:avLst/>
                <a:gdLst/>
                <a:ahLst/>
                <a:rect l="l" t="t" r="r" b="b"/>
                <a:pathLst>
                  <a:path w="181" h="182">
                    <a:moveTo>
                      <a:pt x="91" y="0"/>
                    </a:moveTo>
                    <a:lnTo>
                      <a:pt x="154" y="28"/>
                    </a:lnTo>
                    <a:lnTo>
                      <a:pt x="181" y="91"/>
                    </a:lnTo>
                    <a:lnTo>
                      <a:pt x="154" y="155"/>
                    </a:lnTo>
                    <a:lnTo>
                      <a:pt x="91" y="182"/>
                    </a:lnTo>
                    <a:lnTo>
                      <a:pt x="27" y="155"/>
                    </a:lnTo>
                    <a:lnTo>
                      <a:pt x="0" y="91"/>
                    </a:lnTo>
                    <a:lnTo>
                      <a:pt x="27" y="28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497320" y="4123800"/>
                <a:ext cx="105120" cy="185760"/>
              </a:xfrm>
              <a:custGeom>
                <a:avLst/>
                <a:gdLst/>
                <a:ahLst/>
                <a:rect l="l" t="t" r="r" b="b"/>
                <a:pathLst>
                  <a:path w="479" h="711">
                    <a:moveTo>
                      <a:pt x="125" y="711"/>
                    </a:moveTo>
                    <a:lnTo>
                      <a:pt x="0" y="630"/>
                    </a:lnTo>
                    <a:lnTo>
                      <a:pt x="125" y="555"/>
                    </a:lnTo>
                    <a:lnTo>
                      <a:pt x="268" y="495"/>
                    </a:lnTo>
                    <a:lnTo>
                      <a:pt x="330" y="348"/>
                    </a:lnTo>
                    <a:lnTo>
                      <a:pt x="313" y="268"/>
                    </a:lnTo>
                    <a:lnTo>
                      <a:pt x="268" y="200"/>
                    </a:lnTo>
                    <a:lnTo>
                      <a:pt x="201" y="151"/>
                    </a:lnTo>
                    <a:lnTo>
                      <a:pt x="125" y="133"/>
                    </a:lnTo>
                    <a:lnTo>
                      <a:pt x="0" y="75"/>
                    </a:lnTo>
                    <a:lnTo>
                      <a:pt x="125" y="0"/>
                    </a:lnTo>
                    <a:lnTo>
                      <a:pt x="264" y="29"/>
                    </a:lnTo>
                    <a:lnTo>
                      <a:pt x="376" y="103"/>
                    </a:lnTo>
                    <a:lnTo>
                      <a:pt x="452" y="217"/>
                    </a:lnTo>
                    <a:lnTo>
                      <a:pt x="479" y="356"/>
                    </a:lnTo>
                    <a:lnTo>
                      <a:pt x="452" y="495"/>
                    </a:lnTo>
                    <a:lnTo>
                      <a:pt x="420" y="557"/>
                    </a:lnTo>
                    <a:lnTo>
                      <a:pt x="376" y="609"/>
                    </a:lnTo>
                    <a:lnTo>
                      <a:pt x="323" y="652"/>
                    </a:lnTo>
                    <a:lnTo>
                      <a:pt x="264" y="685"/>
                    </a:lnTo>
                    <a:lnTo>
                      <a:pt x="125" y="711"/>
                    </a:lnTo>
                    <a:lnTo>
                      <a:pt x="125" y="7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446200" y="4123800"/>
                <a:ext cx="105840" cy="185760"/>
              </a:xfrm>
              <a:custGeom>
                <a:avLst/>
                <a:gdLst/>
                <a:ahLst/>
                <a:rect l="l" t="t" r="r" b="b"/>
                <a:pathLst>
                  <a:path w="481" h="711">
                    <a:moveTo>
                      <a:pt x="357" y="711"/>
                    </a:moveTo>
                    <a:lnTo>
                      <a:pt x="481" y="630"/>
                    </a:lnTo>
                    <a:lnTo>
                      <a:pt x="357" y="555"/>
                    </a:lnTo>
                    <a:lnTo>
                      <a:pt x="217" y="495"/>
                    </a:lnTo>
                    <a:lnTo>
                      <a:pt x="158" y="348"/>
                    </a:lnTo>
                    <a:lnTo>
                      <a:pt x="175" y="268"/>
                    </a:lnTo>
                    <a:lnTo>
                      <a:pt x="217" y="200"/>
                    </a:lnTo>
                    <a:lnTo>
                      <a:pt x="279" y="151"/>
                    </a:lnTo>
                    <a:lnTo>
                      <a:pt x="357" y="133"/>
                    </a:lnTo>
                    <a:lnTo>
                      <a:pt x="481" y="75"/>
                    </a:lnTo>
                    <a:lnTo>
                      <a:pt x="357" y="0"/>
                    </a:lnTo>
                    <a:lnTo>
                      <a:pt x="217" y="29"/>
                    </a:lnTo>
                    <a:lnTo>
                      <a:pt x="104" y="103"/>
                    </a:lnTo>
                    <a:lnTo>
                      <a:pt x="28" y="217"/>
                    </a:lnTo>
                    <a:lnTo>
                      <a:pt x="0" y="356"/>
                    </a:lnTo>
                    <a:lnTo>
                      <a:pt x="28" y="495"/>
                    </a:lnTo>
                    <a:lnTo>
                      <a:pt x="61" y="557"/>
                    </a:lnTo>
                    <a:lnTo>
                      <a:pt x="104" y="609"/>
                    </a:lnTo>
                    <a:lnTo>
                      <a:pt x="158" y="652"/>
                    </a:lnTo>
                    <a:lnTo>
                      <a:pt x="217" y="685"/>
                    </a:lnTo>
                    <a:lnTo>
                      <a:pt x="357" y="711"/>
                    </a:lnTo>
                    <a:lnTo>
                      <a:pt x="357" y="7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651760" y="4099680"/>
                <a:ext cx="167040" cy="153720"/>
              </a:xfrm>
              <a:custGeom>
                <a:avLst/>
                <a:gdLst/>
                <a:ahLst/>
                <a:rect l="l" t="t" r="r" b="b"/>
                <a:pathLst>
                  <a:path w="760" h="588">
                    <a:moveTo>
                      <a:pt x="380" y="588"/>
                    </a:moveTo>
                    <a:lnTo>
                      <a:pt x="760" y="264"/>
                    </a:lnTo>
                    <a:lnTo>
                      <a:pt x="447" y="316"/>
                    </a:lnTo>
                    <a:lnTo>
                      <a:pt x="528" y="91"/>
                    </a:lnTo>
                    <a:lnTo>
                      <a:pt x="239" y="215"/>
                    </a:lnTo>
                    <a:lnTo>
                      <a:pt x="274" y="0"/>
                    </a:lnTo>
                    <a:lnTo>
                      <a:pt x="0" y="158"/>
                    </a:lnTo>
                    <a:lnTo>
                      <a:pt x="380" y="588"/>
                    </a:lnTo>
                    <a:lnTo>
                      <a:pt x="380" y="5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555640" y="3889800"/>
                <a:ext cx="59040" cy="126360"/>
              </a:xfrm>
              <a:custGeom>
                <a:avLst/>
                <a:gdLst/>
                <a:ahLst/>
                <a:rect l="l" t="t" r="r" b="b"/>
                <a:pathLst>
                  <a:path w="270" h="485">
                    <a:moveTo>
                      <a:pt x="23" y="464"/>
                    </a:moveTo>
                    <a:lnTo>
                      <a:pt x="0" y="317"/>
                    </a:lnTo>
                    <a:lnTo>
                      <a:pt x="32" y="173"/>
                    </a:lnTo>
                    <a:lnTo>
                      <a:pt x="72" y="108"/>
                    </a:lnTo>
                    <a:lnTo>
                      <a:pt x="125" y="49"/>
                    </a:lnTo>
                    <a:lnTo>
                      <a:pt x="188" y="8"/>
                    </a:lnTo>
                    <a:lnTo>
                      <a:pt x="255" y="0"/>
                    </a:lnTo>
                    <a:lnTo>
                      <a:pt x="270" y="25"/>
                    </a:lnTo>
                    <a:lnTo>
                      <a:pt x="237" y="78"/>
                    </a:lnTo>
                    <a:lnTo>
                      <a:pt x="156" y="198"/>
                    </a:lnTo>
                    <a:lnTo>
                      <a:pt x="148" y="454"/>
                    </a:lnTo>
                    <a:lnTo>
                      <a:pt x="85" y="485"/>
                    </a:lnTo>
                    <a:lnTo>
                      <a:pt x="23" y="464"/>
                    </a:lnTo>
                    <a:lnTo>
                      <a:pt x="23" y="4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636280" y="3889800"/>
                <a:ext cx="69840" cy="12132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13" y="454"/>
                    </a:moveTo>
                    <a:lnTo>
                      <a:pt x="0" y="306"/>
                    </a:lnTo>
                    <a:lnTo>
                      <a:pt x="45" y="165"/>
                    </a:lnTo>
                    <a:lnTo>
                      <a:pt x="97" y="99"/>
                    </a:lnTo>
                    <a:lnTo>
                      <a:pt x="161" y="40"/>
                    </a:lnTo>
                    <a:lnTo>
                      <a:pt x="235" y="0"/>
                    </a:lnTo>
                    <a:lnTo>
                      <a:pt x="309" y="0"/>
                    </a:lnTo>
                    <a:lnTo>
                      <a:pt x="319" y="27"/>
                    </a:lnTo>
                    <a:lnTo>
                      <a:pt x="273" y="78"/>
                    </a:lnTo>
                    <a:lnTo>
                      <a:pt x="169" y="198"/>
                    </a:lnTo>
                    <a:lnTo>
                      <a:pt x="127" y="464"/>
                    </a:lnTo>
                    <a:lnTo>
                      <a:pt x="13" y="454"/>
                    </a:lnTo>
                    <a:lnTo>
                      <a:pt x="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715120" y="3886200"/>
                <a:ext cx="83520" cy="124920"/>
              </a:xfrm>
              <a:custGeom>
                <a:avLst/>
                <a:gdLst/>
                <a:ahLst/>
                <a:rect l="l" t="t" r="r" b="b"/>
                <a:pathLst>
                  <a:path w="378" h="477">
                    <a:moveTo>
                      <a:pt x="0" y="460"/>
                    </a:moveTo>
                    <a:lnTo>
                      <a:pt x="7" y="308"/>
                    </a:lnTo>
                    <a:lnTo>
                      <a:pt x="66" y="161"/>
                    </a:lnTo>
                    <a:lnTo>
                      <a:pt x="127" y="97"/>
                    </a:lnTo>
                    <a:lnTo>
                      <a:pt x="205" y="36"/>
                    </a:lnTo>
                    <a:lnTo>
                      <a:pt x="289" y="0"/>
                    </a:lnTo>
                    <a:lnTo>
                      <a:pt x="365" y="5"/>
                    </a:lnTo>
                    <a:lnTo>
                      <a:pt x="378" y="43"/>
                    </a:lnTo>
                    <a:lnTo>
                      <a:pt x="323" y="95"/>
                    </a:lnTo>
                    <a:lnTo>
                      <a:pt x="190" y="211"/>
                    </a:lnTo>
                    <a:lnTo>
                      <a:pt x="108" y="477"/>
                    </a:lnTo>
                    <a:lnTo>
                      <a:pt x="0" y="460"/>
                    </a:lnTo>
                    <a:lnTo>
                      <a:pt x="0" y="4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793600" y="3905280"/>
                <a:ext cx="96480" cy="130680"/>
              </a:xfrm>
              <a:custGeom>
                <a:avLst/>
                <a:gdLst/>
                <a:ahLst/>
                <a:rect l="l" t="t" r="r" b="b"/>
                <a:pathLst>
                  <a:path w="439" h="500">
                    <a:moveTo>
                      <a:pt x="0" y="467"/>
                    </a:moveTo>
                    <a:lnTo>
                      <a:pt x="16" y="306"/>
                    </a:lnTo>
                    <a:lnTo>
                      <a:pt x="44" y="228"/>
                    </a:lnTo>
                    <a:lnTo>
                      <a:pt x="92" y="161"/>
                    </a:lnTo>
                    <a:lnTo>
                      <a:pt x="166" y="95"/>
                    </a:lnTo>
                    <a:lnTo>
                      <a:pt x="255" y="34"/>
                    </a:lnTo>
                    <a:lnTo>
                      <a:pt x="348" y="0"/>
                    </a:lnTo>
                    <a:lnTo>
                      <a:pt x="430" y="13"/>
                    </a:lnTo>
                    <a:lnTo>
                      <a:pt x="439" y="55"/>
                    </a:lnTo>
                    <a:lnTo>
                      <a:pt x="371" y="104"/>
                    </a:lnTo>
                    <a:lnTo>
                      <a:pt x="278" y="160"/>
                    </a:lnTo>
                    <a:lnTo>
                      <a:pt x="207" y="220"/>
                    </a:lnTo>
                    <a:lnTo>
                      <a:pt x="99" y="492"/>
                    </a:lnTo>
                    <a:lnTo>
                      <a:pt x="42" y="500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860560" y="3935880"/>
                <a:ext cx="110520" cy="133200"/>
              </a:xfrm>
              <a:custGeom>
                <a:avLst/>
                <a:gdLst/>
                <a:ahLst/>
                <a:rect l="l" t="t" r="r" b="b"/>
                <a:pathLst>
                  <a:path w="504" h="509">
                    <a:moveTo>
                      <a:pt x="0" y="467"/>
                    </a:moveTo>
                    <a:lnTo>
                      <a:pt x="35" y="306"/>
                    </a:lnTo>
                    <a:lnTo>
                      <a:pt x="73" y="228"/>
                    </a:lnTo>
                    <a:lnTo>
                      <a:pt x="124" y="161"/>
                    </a:lnTo>
                    <a:lnTo>
                      <a:pt x="207" y="95"/>
                    </a:lnTo>
                    <a:lnTo>
                      <a:pt x="306" y="32"/>
                    </a:lnTo>
                    <a:lnTo>
                      <a:pt x="409" y="0"/>
                    </a:lnTo>
                    <a:lnTo>
                      <a:pt x="496" y="21"/>
                    </a:lnTo>
                    <a:lnTo>
                      <a:pt x="504" y="70"/>
                    </a:lnTo>
                    <a:lnTo>
                      <a:pt x="428" y="118"/>
                    </a:lnTo>
                    <a:lnTo>
                      <a:pt x="322" y="171"/>
                    </a:lnTo>
                    <a:lnTo>
                      <a:pt x="240" y="228"/>
                    </a:lnTo>
                    <a:lnTo>
                      <a:pt x="169" y="374"/>
                    </a:lnTo>
                    <a:lnTo>
                      <a:pt x="137" y="448"/>
                    </a:lnTo>
                    <a:lnTo>
                      <a:pt x="92" y="509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837720" y="3886200"/>
              <a:ext cx="953640" cy="1103040"/>
              <a:chOff x="837720" y="3886200"/>
              <a:chExt cx="953640" cy="1103040"/>
            </a:xfrm>
          </p:grpSpPr>
          <p:sp>
            <p:nvSpPr>
              <p:cNvPr id="271" name=""/>
              <p:cNvSpPr/>
              <p:nvPr/>
            </p:nvSpPr>
            <p:spPr>
              <a:xfrm flipH="1">
                <a:off x="874080" y="4003920"/>
                <a:ext cx="894960" cy="963360"/>
              </a:xfrm>
              <a:custGeom>
                <a:avLst/>
                <a:gdLst/>
                <a:ahLst/>
                <a:rect l="l" t="t" r="r" b="b"/>
                <a:pathLst>
                  <a:path w="4164" h="3761">
                    <a:moveTo>
                      <a:pt x="0" y="1840"/>
                    </a:moveTo>
                    <a:lnTo>
                      <a:pt x="731" y="1861"/>
                    </a:lnTo>
                    <a:lnTo>
                      <a:pt x="1837" y="2435"/>
                    </a:lnTo>
                    <a:lnTo>
                      <a:pt x="1575" y="2790"/>
                    </a:lnTo>
                    <a:lnTo>
                      <a:pt x="1243" y="3260"/>
                    </a:lnTo>
                    <a:lnTo>
                      <a:pt x="1389" y="3573"/>
                    </a:lnTo>
                    <a:lnTo>
                      <a:pt x="1889" y="3761"/>
                    </a:lnTo>
                    <a:lnTo>
                      <a:pt x="2619" y="3720"/>
                    </a:lnTo>
                    <a:lnTo>
                      <a:pt x="3016" y="3376"/>
                    </a:lnTo>
                    <a:lnTo>
                      <a:pt x="3392" y="1724"/>
                    </a:lnTo>
                    <a:lnTo>
                      <a:pt x="4164" y="429"/>
                    </a:lnTo>
                    <a:lnTo>
                      <a:pt x="4048" y="272"/>
                    </a:lnTo>
                    <a:lnTo>
                      <a:pt x="3434" y="62"/>
                    </a:lnTo>
                    <a:lnTo>
                      <a:pt x="2495" y="0"/>
                    </a:lnTo>
                    <a:lnTo>
                      <a:pt x="1377" y="209"/>
                    </a:lnTo>
                    <a:lnTo>
                      <a:pt x="543" y="846"/>
                    </a:lnTo>
                    <a:lnTo>
                      <a:pt x="157" y="1442"/>
                    </a:lnTo>
                    <a:lnTo>
                      <a:pt x="0" y="1840"/>
                    </a:lnTo>
                    <a:lnTo>
                      <a:pt x="0" y="1840"/>
                    </a:lnTo>
                    <a:close/>
                  </a:path>
                </a:pathLst>
              </a:custGeom>
              <a:solidFill>
                <a:srgbClr val="fbd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1073520" y="4110840"/>
                <a:ext cx="401400" cy="205920"/>
              </a:xfrm>
              <a:custGeom>
                <a:avLst/>
                <a:gdLst/>
                <a:ahLst/>
                <a:rect l="l" t="t" r="r" b="b"/>
                <a:pathLst>
                  <a:path w="1866" h="804">
                    <a:moveTo>
                      <a:pt x="0" y="407"/>
                    </a:moveTo>
                    <a:lnTo>
                      <a:pt x="302" y="701"/>
                    </a:lnTo>
                    <a:lnTo>
                      <a:pt x="960" y="804"/>
                    </a:lnTo>
                    <a:lnTo>
                      <a:pt x="1617" y="637"/>
                    </a:lnTo>
                    <a:lnTo>
                      <a:pt x="1866" y="523"/>
                    </a:lnTo>
                    <a:lnTo>
                      <a:pt x="1648" y="220"/>
                    </a:lnTo>
                    <a:lnTo>
                      <a:pt x="1074" y="0"/>
                    </a:lnTo>
                    <a:lnTo>
                      <a:pt x="521" y="42"/>
                    </a:lnTo>
                    <a:lnTo>
                      <a:pt x="0" y="407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1211040" y="4143240"/>
                <a:ext cx="127440" cy="147240"/>
              </a:xfrm>
              <a:custGeom>
                <a:avLst/>
                <a:gdLst/>
                <a:ahLst/>
                <a:rect l="l" t="t" r="r" b="b"/>
                <a:pathLst>
                  <a:path w="595" h="576">
                    <a:moveTo>
                      <a:pt x="407" y="0"/>
                    </a:moveTo>
                    <a:lnTo>
                      <a:pt x="167" y="0"/>
                    </a:lnTo>
                    <a:lnTo>
                      <a:pt x="0" y="242"/>
                    </a:lnTo>
                    <a:lnTo>
                      <a:pt x="104" y="491"/>
                    </a:lnTo>
                    <a:lnTo>
                      <a:pt x="397" y="576"/>
                    </a:lnTo>
                    <a:lnTo>
                      <a:pt x="595" y="314"/>
                    </a:lnTo>
                    <a:lnTo>
                      <a:pt x="407" y="0"/>
                    </a:lnTo>
                    <a:lnTo>
                      <a:pt x="407" y="0"/>
                    </a:lnTo>
                    <a:close/>
                  </a:path>
                </a:pathLst>
              </a:custGeom>
              <a:solidFill>
                <a:srgbClr val="99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1348920" y="4811400"/>
                <a:ext cx="147240" cy="95040"/>
              </a:xfrm>
              <a:custGeom>
                <a:avLst/>
                <a:gdLst/>
                <a:ahLst/>
                <a:rect l="l" t="t" r="r" b="b"/>
                <a:pathLst>
                  <a:path w="686" h="373">
                    <a:moveTo>
                      <a:pt x="91" y="373"/>
                    </a:moveTo>
                    <a:lnTo>
                      <a:pt x="0" y="173"/>
                    </a:lnTo>
                    <a:lnTo>
                      <a:pt x="91" y="0"/>
                    </a:lnTo>
                    <a:lnTo>
                      <a:pt x="538" y="90"/>
                    </a:lnTo>
                    <a:lnTo>
                      <a:pt x="648" y="137"/>
                    </a:lnTo>
                    <a:lnTo>
                      <a:pt x="686" y="183"/>
                    </a:lnTo>
                    <a:lnTo>
                      <a:pt x="648" y="230"/>
                    </a:lnTo>
                    <a:lnTo>
                      <a:pt x="538" y="278"/>
                    </a:lnTo>
                    <a:lnTo>
                      <a:pt x="352" y="325"/>
                    </a:lnTo>
                    <a:lnTo>
                      <a:pt x="91" y="373"/>
                    </a:lnTo>
                    <a:lnTo>
                      <a:pt x="91" y="373"/>
                    </a:lnTo>
                    <a:close/>
                  </a:path>
                </a:pathLst>
              </a:custGeom>
              <a:solidFill>
                <a:srgbClr val="d42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1252800" y="4362480"/>
                <a:ext cx="538560" cy="277560"/>
              </a:xfrm>
              <a:custGeom>
                <a:avLst/>
                <a:gdLst/>
                <a:ahLst/>
                <a:rect l="l" t="t" r="r" b="b"/>
                <a:pathLst>
                  <a:path w="2505" h="1083">
                    <a:moveTo>
                      <a:pt x="67" y="604"/>
                    </a:moveTo>
                    <a:lnTo>
                      <a:pt x="399" y="587"/>
                    </a:lnTo>
                    <a:lnTo>
                      <a:pt x="844" y="612"/>
                    </a:lnTo>
                    <a:lnTo>
                      <a:pt x="1087" y="713"/>
                    </a:lnTo>
                    <a:lnTo>
                      <a:pt x="1224" y="787"/>
                    </a:lnTo>
                    <a:lnTo>
                      <a:pt x="1361" y="866"/>
                    </a:lnTo>
                    <a:lnTo>
                      <a:pt x="1498" y="943"/>
                    </a:lnTo>
                    <a:lnTo>
                      <a:pt x="1627" y="1011"/>
                    </a:lnTo>
                    <a:lnTo>
                      <a:pt x="1743" y="1058"/>
                    </a:lnTo>
                    <a:lnTo>
                      <a:pt x="1844" y="1083"/>
                    </a:lnTo>
                    <a:lnTo>
                      <a:pt x="2100" y="1055"/>
                    </a:lnTo>
                    <a:lnTo>
                      <a:pt x="2311" y="918"/>
                    </a:lnTo>
                    <a:lnTo>
                      <a:pt x="2452" y="707"/>
                    </a:lnTo>
                    <a:lnTo>
                      <a:pt x="2505" y="454"/>
                    </a:lnTo>
                    <a:lnTo>
                      <a:pt x="2469" y="245"/>
                    </a:lnTo>
                    <a:lnTo>
                      <a:pt x="2425" y="161"/>
                    </a:lnTo>
                    <a:lnTo>
                      <a:pt x="2366" y="95"/>
                    </a:lnTo>
                    <a:lnTo>
                      <a:pt x="2294" y="42"/>
                    </a:lnTo>
                    <a:lnTo>
                      <a:pt x="2209" y="9"/>
                    </a:lnTo>
                    <a:lnTo>
                      <a:pt x="1999" y="0"/>
                    </a:lnTo>
                    <a:lnTo>
                      <a:pt x="1836" y="66"/>
                    </a:lnTo>
                    <a:lnTo>
                      <a:pt x="1718" y="203"/>
                    </a:lnTo>
                    <a:lnTo>
                      <a:pt x="1648" y="367"/>
                    </a:lnTo>
                    <a:lnTo>
                      <a:pt x="1629" y="513"/>
                    </a:lnTo>
                    <a:lnTo>
                      <a:pt x="1648" y="574"/>
                    </a:lnTo>
                    <a:lnTo>
                      <a:pt x="1688" y="616"/>
                    </a:lnTo>
                    <a:lnTo>
                      <a:pt x="1806" y="642"/>
                    </a:lnTo>
                    <a:lnTo>
                      <a:pt x="1923" y="595"/>
                    </a:lnTo>
                    <a:lnTo>
                      <a:pt x="1984" y="479"/>
                    </a:lnTo>
                    <a:lnTo>
                      <a:pt x="1969" y="370"/>
                    </a:lnTo>
                    <a:lnTo>
                      <a:pt x="1929" y="308"/>
                    </a:lnTo>
                    <a:lnTo>
                      <a:pt x="1876" y="222"/>
                    </a:lnTo>
                    <a:lnTo>
                      <a:pt x="1895" y="171"/>
                    </a:lnTo>
                    <a:lnTo>
                      <a:pt x="1937" y="133"/>
                    </a:lnTo>
                    <a:lnTo>
                      <a:pt x="2041" y="99"/>
                    </a:lnTo>
                    <a:lnTo>
                      <a:pt x="2157" y="129"/>
                    </a:lnTo>
                    <a:lnTo>
                      <a:pt x="2248" y="205"/>
                    </a:lnTo>
                    <a:lnTo>
                      <a:pt x="2332" y="429"/>
                    </a:lnTo>
                    <a:lnTo>
                      <a:pt x="2311" y="572"/>
                    </a:lnTo>
                    <a:lnTo>
                      <a:pt x="2254" y="709"/>
                    </a:lnTo>
                    <a:lnTo>
                      <a:pt x="2212" y="768"/>
                    </a:lnTo>
                    <a:lnTo>
                      <a:pt x="2167" y="819"/>
                    </a:lnTo>
                    <a:lnTo>
                      <a:pt x="2115" y="855"/>
                    </a:lnTo>
                    <a:lnTo>
                      <a:pt x="2058" y="876"/>
                    </a:lnTo>
                    <a:lnTo>
                      <a:pt x="1800" y="853"/>
                    </a:lnTo>
                    <a:lnTo>
                      <a:pt x="1678" y="798"/>
                    </a:lnTo>
                    <a:lnTo>
                      <a:pt x="1562" y="728"/>
                    </a:lnTo>
                    <a:lnTo>
                      <a:pt x="1450" y="650"/>
                    </a:lnTo>
                    <a:lnTo>
                      <a:pt x="1342" y="572"/>
                    </a:lnTo>
                    <a:lnTo>
                      <a:pt x="1239" y="503"/>
                    </a:lnTo>
                    <a:lnTo>
                      <a:pt x="1140" y="454"/>
                    </a:lnTo>
                    <a:lnTo>
                      <a:pt x="939" y="393"/>
                    </a:lnTo>
                    <a:lnTo>
                      <a:pt x="713" y="349"/>
                    </a:lnTo>
                    <a:lnTo>
                      <a:pt x="247" y="338"/>
                    </a:lnTo>
                    <a:lnTo>
                      <a:pt x="131" y="387"/>
                    </a:lnTo>
                    <a:lnTo>
                      <a:pt x="0" y="551"/>
                    </a:lnTo>
                    <a:lnTo>
                      <a:pt x="67" y="604"/>
                    </a:lnTo>
                    <a:lnTo>
                      <a:pt x="67" y="6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858240" y="3990600"/>
                <a:ext cx="932760" cy="998640"/>
              </a:xfrm>
              <a:custGeom>
                <a:avLst/>
                <a:gdLst/>
                <a:ahLst/>
                <a:rect l="l" t="t" r="r" b="b"/>
                <a:pathLst>
                  <a:path w="4339" h="3901">
                    <a:moveTo>
                      <a:pt x="247" y="1892"/>
                    </a:moveTo>
                    <a:lnTo>
                      <a:pt x="321" y="1671"/>
                    </a:lnTo>
                    <a:lnTo>
                      <a:pt x="371" y="1550"/>
                    </a:lnTo>
                    <a:lnTo>
                      <a:pt x="428" y="1424"/>
                    </a:lnTo>
                    <a:lnTo>
                      <a:pt x="496" y="1295"/>
                    </a:lnTo>
                    <a:lnTo>
                      <a:pt x="578" y="1166"/>
                    </a:lnTo>
                    <a:lnTo>
                      <a:pt x="673" y="1035"/>
                    </a:lnTo>
                    <a:lnTo>
                      <a:pt x="785" y="907"/>
                    </a:lnTo>
                    <a:lnTo>
                      <a:pt x="914" y="784"/>
                    </a:lnTo>
                    <a:lnTo>
                      <a:pt x="1062" y="666"/>
                    </a:lnTo>
                    <a:lnTo>
                      <a:pt x="1144" y="609"/>
                    </a:lnTo>
                    <a:lnTo>
                      <a:pt x="1232" y="554"/>
                    </a:lnTo>
                    <a:lnTo>
                      <a:pt x="1325" y="502"/>
                    </a:lnTo>
                    <a:lnTo>
                      <a:pt x="1422" y="453"/>
                    </a:lnTo>
                    <a:lnTo>
                      <a:pt x="1526" y="407"/>
                    </a:lnTo>
                    <a:lnTo>
                      <a:pt x="1636" y="364"/>
                    </a:lnTo>
                    <a:lnTo>
                      <a:pt x="1752" y="324"/>
                    </a:lnTo>
                    <a:lnTo>
                      <a:pt x="1876" y="286"/>
                    </a:lnTo>
                    <a:lnTo>
                      <a:pt x="2144" y="223"/>
                    </a:lnTo>
                    <a:lnTo>
                      <a:pt x="2439" y="177"/>
                    </a:lnTo>
                    <a:lnTo>
                      <a:pt x="2866" y="153"/>
                    </a:lnTo>
                    <a:lnTo>
                      <a:pt x="3336" y="183"/>
                    </a:lnTo>
                    <a:lnTo>
                      <a:pt x="3792" y="284"/>
                    </a:lnTo>
                    <a:lnTo>
                      <a:pt x="3999" y="364"/>
                    </a:lnTo>
                    <a:lnTo>
                      <a:pt x="4183" y="468"/>
                    </a:lnTo>
                    <a:lnTo>
                      <a:pt x="4172" y="519"/>
                    </a:lnTo>
                    <a:lnTo>
                      <a:pt x="4103" y="633"/>
                    </a:lnTo>
                    <a:lnTo>
                      <a:pt x="4054" y="709"/>
                    </a:lnTo>
                    <a:lnTo>
                      <a:pt x="3997" y="795"/>
                    </a:lnTo>
                    <a:lnTo>
                      <a:pt x="3932" y="890"/>
                    </a:lnTo>
                    <a:lnTo>
                      <a:pt x="3864" y="991"/>
                    </a:lnTo>
                    <a:lnTo>
                      <a:pt x="3792" y="1097"/>
                    </a:lnTo>
                    <a:lnTo>
                      <a:pt x="3718" y="1206"/>
                    </a:lnTo>
                    <a:lnTo>
                      <a:pt x="3645" y="1318"/>
                    </a:lnTo>
                    <a:lnTo>
                      <a:pt x="3577" y="1426"/>
                    </a:lnTo>
                    <a:lnTo>
                      <a:pt x="3512" y="1534"/>
                    </a:lnTo>
                    <a:lnTo>
                      <a:pt x="3453" y="1637"/>
                    </a:lnTo>
                    <a:lnTo>
                      <a:pt x="3364" y="1825"/>
                    </a:lnTo>
                    <a:lnTo>
                      <a:pt x="3250" y="2186"/>
                    </a:lnTo>
                    <a:lnTo>
                      <a:pt x="3159" y="2572"/>
                    </a:lnTo>
                    <a:lnTo>
                      <a:pt x="3077" y="2964"/>
                    </a:lnTo>
                    <a:lnTo>
                      <a:pt x="2992" y="3340"/>
                    </a:lnTo>
                    <a:lnTo>
                      <a:pt x="2965" y="3405"/>
                    </a:lnTo>
                    <a:lnTo>
                      <a:pt x="2916" y="3485"/>
                    </a:lnTo>
                    <a:lnTo>
                      <a:pt x="2857" y="3559"/>
                    </a:lnTo>
                    <a:lnTo>
                      <a:pt x="2802" y="3604"/>
                    </a:lnTo>
                    <a:lnTo>
                      <a:pt x="2708" y="3652"/>
                    </a:lnTo>
                    <a:lnTo>
                      <a:pt x="2591" y="3696"/>
                    </a:lnTo>
                    <a:lnTo>
                      <a:pt x="2372" y="3738"/>
                    </a:lnTo>
                    <a:lnTo>
                      <a:pt x="1847" y="3690"/>
                    </a:lnTo>
                    <a:lnTo>
                      <a:pt x="1635" y="3604"/>
                    </a:lnTo>
                    <a:lnTo>
                      <a:pt x="1521" y="3439"/>
                    </a:lnTo>
                    <a:lnTo>
                      <a:pt x="1524" y="3253"/>
                    </a:lnTo>
                    <a:lnTo>
                      <a:pt x="1559" y="3158"/>
                    </a:lnTo>
                    <a:lnTo>
                      <a:pt x="1608" y="3063"/>
                    </a:lnTo>
                    <a:lnTo>
                      <a:pt x="1674" y="2970"/>
                    </a:lnTo>
                    <a:lnTo>
                      <a:pt x="1749" y="2880"/>
                    </a:lnTo>
                    <a:lnTo>
                      <a:pt x="1834" y="2797"/>
                    </a:lnTo>
                    <a:lnTo>
                      <a:pt x="1925" y="2719"/>
                    </a:lnTo>
                    <a:lnTo>
                      <a:pt x="2032" y="2631"/>
                    </a:lnTo>
                    <a:lnTo>
                      <a:pt x="2155" y="2521"/>
                    </a:lnTo>
                    <a:lnTo>
                      <a:pt x="2285" y="2390"/>
                    </a:lnTo>
                    <a:lnTo>
                      <a:pt x="2406" y="2238"/>
                    </a:lnTo>
                    <a:lnTo>
                      <a:pt x="1827" y="2479"/>
                    </a:lnTo>
                    <a:lnTo>
                      <a:pt x="1800" y="2595"/>
                    </a:lnTo>
                    <a:lnTo>
                      <a:pt x="1739" y="2715"/>
                    </a:lnTo>
                    <a:lnTo>
                      <a:pt x="1654" y="2838"/>
                    </a:lnTo>
                    <a:lnTo>
                      <a:pt x="1555" y="2960"/>
                    </a:lnTo>
                    <a:lnTo>
                      <a:pt x="1458" y="3082"/>
                    </a:lnTo>
                    <a:lnTo>
                      <a:pt x="1372" y="3203"/>
                    </a:lnTo>
                    <a:lnTo>
                      <a:pt x="1291" y="3430"/>
                    </a:lnTo>
                    <a:lnTo>
                      <a:pt x="1304" y="3502"/>
                    </a:lnTo>
                    <a:lnTo>
                      <a:pt x="1340" y="3570"/>
                    </a:lnTo>
                    <a:lnTo>
                      <a:pt x="1393" y="3637"/>
                    </a:lnTo>
                    <a:lnTo>
                      <a:pt x="1460" y="3696"/>
                    </a:lnTo>
                    <a:lnTo>
                      <a:pt x="1536" y="3749"/>
                    </a:lnTo>
                    <a:lnTo>
                      <a:pt x="1610" y="3793"/>
                    </a:lnTo>
                    <a:lnTo>
                      <a:pt x="1743" y="3844"/>
                    </a:lnTo>
                    <a:lnTo>
                      <a:pt x="1971" y="3880"/>
                    </a:lnTo>
                    <a:lnTo>
                      <a:pt x="2218" y="3901"/>
                    </a:lnTo>
                    <a:lnTo>
                      <a:pt x="2686" y="3869"/>
                    </a:lnTo>
                    <a:lnTo>
                      <a:pt x="2864" y="3802"/>
                    </a:lnTo>
                    <a:lnTo>
                      <a:pt x="3028" y="3675"/>
                    </a:lnTo>
                    <a:lnTo>
                      <a:pt x="3166" y="3511"/>
                    </a:lnTo>
                    <a:lnTo>
                      <a:pt x="3265" y="3331"/>
                    </a:lnTo>
                    <a:lnTo>
                      <a:pt x="3374" y="2989"/>
                    </a:lnTo>
                    <a:lnTo>
                      <a:pt x="3453" y="2601"/>
                    </a:lnTo>
                    <a:lnTo>
                      <a:pt x="3526" y="2209"/>
                    </a:lnTo>
                    <a:lnTo>
                      <a:pt x="3567" y="2025"/>
                    </a:lnTo>
                    <a:lnTo>
                      <a:pt x="3611" y="1858"/>
                    </a:lnTo>
                    <a:lnTo>
                      <a:pt x="3676" y="1690"/>
                    </a:lnTo>
                    <a:lnTo>
                      <a:pt x="3759" y="1523"/>
                    </a:lnTo>
                    <a:lnTo>
                      <a:pt x="3858" y="1354"/>
                    </a:lnTo>
                    <a:lnTo>
                      <a:pt x="3963" y="1187"/>
                    </a:lnTo>
                    <a:lnTo>
                      <a:pt x="4016" y="1101"/>
                    </a:lnTo>
                    <a:lnTo>
                      <a:pt x="4071" y="1017"/>
                    </a:lnTo>
                    <a:lnTo>
                      <a:pt x="4172" y="848"/>
                    </a:lnTo>
                    <a:lnTo>
                      <a:pt x="4263" y="679"/>
                    </a:lnTo>
                    <a:lnTo>
                      <a:pt x="4339" y="510"/>
                    </a:lnTo>
                    <a:lnTo>
                      <a:pt x="4316" y="381"/>
                    </a:lnTo>
                    <a:lnTo>
                      <a:pt x="4273" y="261"/>
                    </a:lnTo>
                    <a:lnTo>
                      <a:pt x="4153" y="219"/>
                    </a:lnTo>
                    <a:lnTo>
                      <a:pt x="4033" y="183"/>
                    </a:lnTo>
                    <a:lnTo>
                      <a:pt x="3792" y="118"/>
                    </a:lnTo>
                    <a:lnTo>
                      <a:pt x="3547" y="69"/>
                    </a:lnTo>
                    <a:lnTo>
                      <a:pt x="3301" y="35"/>
                    </a:lnTo>
                    <a:lnTo>
                      <a:pt x="2813" y="0"/>
                    </a:lnTo>
                    <a:lnTo>
                      <a:pt x="2332" y="12"/>
                    </a:lnTo>
                    <a:lnTo>
                      <a:pt x="1865" y="86"/>
                    </a:lnTo>
                    <a:lnTo>
                      <a:pt x="1644" y="153"/>
                    </a:lnTo>
                    <a:lnTo>
                      <a:pt x="1431" y="236"/>
                    </a:lnTo>
                    <a:lnTo>
                      <a:pt x="1329" y="284"/>
                    </a:lnTo>
                    <a:lnTo>
                      <a:pt x="1228" y="335"/>
                    </a:lnTo>
                    <a:lnTo>
                      <a:pt x="1131" y="390"/>
                    </a:lnTo>
                    <a:lnTo>
                      <a:pt x="1036" y="447"/>
                    </a:lnTo>
                    <a:lnTo>
                      <a:pt x="945" y="510"/>
                    </a:lnTo>
                    <a:lnTo>
                      <a:pt x="857" y="575"/>
                    </a:lnTo>
                    <a:lnTo>
                      <a:pt x="692" y="711"/>
                    </a:lnTo>
                    <a:lnTo>
                      <a:pt x="540" y="858"/>
                    </a:lnTo>
                    <a:lnTo>
                      <a:pt x="405" y="1012"/>
                    </a:lnTo>
                    <a:lnTo>
                      <a:pt x="344" y="1092"/>
                    </a:lnTo>
                    <a:lnTo>
                      <a:pt x="287" y="1171"/>
                    </a:lnTo>
                    <a:lnTo>
                      <a:pt x="188" y="1337"/>
                    </a:lnTo>
                    <a:lnTo>
                      <a:pt x="49" y="1673"/>
                    </a:lnTo>
                    <a:lnTo>
                      <a:pt x="0" y="2008"/>
                    </a:lnTo>
                    <a:lnTo>
                      <a:pt x="247" y="1892"/>
                    </a:lnTo>
                    <a:lnTo>
                      <a:pt x="247" y="18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1027800" y="4089960"/>
                <a:ext cx="472320" cy="246240"/>
              </a:xfrm>
              <a:custGeom>
                <a:avLst/>
                <a:gdLst/>
                <a:ahLst/>
                <a:rect l="l" t="t" r="r" b="b"/>
                <a:pathLst>
                  <a:path w="2199" h="962">
                    <a:moveTo>
                      <a:pt x="1844" y="692"/>
                    </a:moveTo>
                    <a:lnTo>
                      <a:pt x="1749" y="742"/>
                    </a:lnTo>
                    <a:lnTo>
                      <a:pt x="1648" y="791"/>
                    </a:lnTo>
                    <a:lnTo>
                      <a:pt x="1540" y="837"/>
                    </a:lnTo>
                    <a:lnTo>
                      <a:pt x="1426" y="877"/>
                    </a:lnTo>
                    <a:lnTo>
                      <a:pt x="1184" y="937"/>
                    </a:lnTo>
                    <a:lnTo>
                      <a:pt x="935" y="962"/>
                    </a:lnTo>
                    <a:lnTo>
                      <a:pt x="682" y="941"/>
                    </a:lnTo>
                    <a:lnTo>
                      <a:pt x="437" y="859"/>
                    </a:lnTo>
                    <a:lnTo>
                      <a:pt x="319" y="793"/>
                    </a:lnTo>
                    <a:lnTo>
                      <a:pt x="207" y="709"/>
                    </a:lnTo>
                    <a:lnTo>
                      <a:pt x="101" y="603"/>
                    </a:lnTo>
                    <a:lnTo>
                      <a:pt x="0" y="477"/>
                    </a:lnTo>
                    <a:lnTo>
                      <a:pt x="53" y="411"/>
                    </a:lnTo>
                    <a:lnTo>
                      <a:pt x="108" y="350"/>
                    </a:lnTo>
                    <a:lnTo>
                      <a:pt x="224" y="244"/>
                    </a:lnTo>
                    <a:lnTo>
                      <a:pt x="285" y="198"/>
                    </a:lnTo>
                    <a:lnTo>
                      <a:pt x="350" y="158"/>
                    </a:lnTo>
                    <a:lnTo>
                      <a:pt x="481" y="91"/>
                    </a:lnTo>
                    <a:lnTo>
                      <a:pt x="620" y="44"/>
                    </a:lnTo>
                    <a:lnTo>
                      <a:pt x="762" y="14"/>
                    </a:lnTo>
                    <a:lnTo>
                      <a:pt x="1057" y="0"/>
                    </a:lnTo>
                    <a:lnTo>
                      <a:pt x="1357" y="42"/>
                    </a:lnTo>
                    <a:lnTo>
                      <a:pt x="1654" y="135"/>
                    </a:lnTo>
                    <a:lnTo>
                      <a:pt x="1798" y="198"/>
                    </a:lnTo>
                    <a:lnTo>
                      <a:pt x="1937" y="268"/>
                    </a:lnTo>
                    <a:lnTo>
                      <a:pt x="2072" y="348"/>
                    </a:lnTo>
                    <a:lnTo>
                      <a:pt x="2199" y="436"/>
                    </a:lnTo>
                    <a:lnTo>
                      <a:pt x="2093" y="538"/>
                    </a:lnTo>
                    <a:lnTo>
                      <a:pt x="1992" y="633"/>
                    </a:lnTo>
                    <a:lnTo>
                      <a:pt x="1901" y="559"/>
                    </a:lnTo>
                    <a:lnTo>
                      <a:pt x="1804" y="489"/>
                    </a:lnTo>
                    <a:lnTo>
                      <a:pt x="1701" y="422"/>
                    </a:lnTo>
                    <a:lnTo>
                      <a:pt x="1593" y="360"/>
                    </a:lnTo>
                    <a:lnTo>
                      <a:pt x="1483" y="302"/>
                    </a:lnTo>
                    <a:lnTo>
                      <a:pt x="1371" y="255"/>
                    </a:lnTo>
                    <a:lnTo>
                      <a:pt x="1255" y="215"/>
                    </a:lnTo>
                    <a:lnTo>
                      <a:pt x="1139" y="187"/>
                    </a:lnTo>
                    <a:lnTo>
                      <a:pt x="905" y="166"/>
                    </a:lnTo>
                    <a:lnTo>
                      <a:pt x="677" y="200"/>
                    </a:lnTo>
                    <a:lnTo>
                      <a:pt x="462" y="304"/>
                    </a:lnTo>
                    <a:lnTo>
                      <a:pt x="264" y="485"/>
                    </a:lnTo>
                    <a:lnTo>
                      <a:pt x="318" y="563"/>
                    </a:lnTo>
                    <a:lnTo>
                      <a:pt x="384" y="628"/>
                    </a:lnTo>
                    <a:lnTo>
                      <a:pt x="464" y="677"/>
                    </a:lnTo>
                    <a:lnTo>
                      <a:pt x="555" y="717"/>
                    </a:lnTo>
                    <a:lnTo>
                      <a:pt x="760" y="764"/>
                    </a:lnTo>
                    <a:lnTo>
                      <a:pt x="990" y="778"/>
                    </a:lnTo>
                    <a:lnTo>
                      <a:pt x="1456" y="743"/>
                    </a:lnTo>
                    <a:lnTo>
                      <a:pt x="1844" y="692"/>
                    </a:lnTo>
                    <a:lnTo>
                      <a:pt x="1844" y="6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1255320" y="4186080"/>
                <a:ext cx="38880" cy="46440"/>
              </a:xfrm>
              <a:custGeom>
                <a:avLst/>
                <a:gdLst/>
                <a:ahLst/>
                <a:rect l="l" t="t" r="r" b="b"/>
                <a:pathLst>
                  <a:path w="181" h="182">
                    <a:moveTo>
                      <a:pt x="91" y="0"/>
                    </a:moveTo>
                    <a:lnTo>
                      <a:pt x="154" y="28"/>
                    </a:lnTo>
                    <a:lnTo>
                      <a:pt x="181" y="91"/>
                    </a:lnTo>
                    <a:lnTo>
                      <a:pt x="154" y="155"/>
                    </a:lnTo>
                    <a:lnTo>
                      <a:pt x="91" y="182"/>
                    </a:lnTo>
                    <a:lnTo>
                      <a:pt x="27" y="155"/>
                    </a:lnTo>
                    <a:lnTo>
                      <a:pt x="0" y="91"/>
                    </a:lnTo>
                    <a:lnTo>
                      <a:pt x="27" y="28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1198440" y="4118400"/>
                <a:ext cx="102960" cy="181800"/>
              </a:xfrm>
              <a:custGeom>
                <a:avLst/>
                <a:gdLst/>
                <a:ahLst/>
                <a:rect l="l" t="t" r="r" b="b"/>
                <a:pathLst>
                  <a:path w="479" h="711">
                    <a:moveTo>
                      <a:pt x="125" y="711"/>
                    </a:moveTo>
                    <a:lnTo>
                      <a:pt x="0" y="630"/>
                    </a:lnTo>
                    <a:lnTo>
                      <a:pt x="125" y="555"/>
                    </a:lnTo>
                    <a:lnTo>
                      <a:pt x="268" y="495"/>
                    </a:lnTo>
                    <a:lnTo>
                      <a:pt x="330" y="348"/>
                    </a:lnTo>
                    <a:lnTo>
                      <a:pt x="313" y="268"/>
                    </a:lnTo>
                    <a:lnTo>
                      <a:pt x="268" y="200"/>
                    </a:lnTo>
                    <a:lnTo>
                      <a:pt x="201" y="151"/>
                    </a:lnTo>
                    <a:lnTo>
                      <a:pt x="125" y="133"/>
                    </a:lnTo>
                    <a:lnTo>
                      <a:pt x="0" y="75"/>
                    </a:lnTo>
                    <a:lnTo>
                      <a:pt x="125" y="0"/>
                    </a:lnTo>
                    <a:lnTo>
                      <a:pt x="264" y="29"/>
                    </a:lnTo>
                    <a:lnTo>
                      <a:pt x="376" y="103"/>
                    </a:lnTo>
                    <a:lnTo>
                      <a:pt x="452" y="217"/>
                    </a:lnTo>
                    <a:lnTo>
                      <a:pt x="479" y="356"/>
                    </a:lnTo>
                    <a:lnTo>
                      <a:pt x="452" y="495"/>
                    </a:lnTo>
                    <a:lnTo>
                      <a:pt x="420" y="557"/>
                    </a:lnTo>
                    <a:lnTo>
                      <a:pt x="376" y="609"/>
                    </a:lnTo>
                    <a:lnTo>
                      <a:pt x="323" y="652"/>
                    </a:lnTo>
                    <a:lnTo>
                      <a:pt x="264" y="685"/>
                    </a:lnTo>
                    <a:lnTo>
                      <a:pt x="125" y="711"/>
                    </a:lnTo>
                    <a:lnTo>
                      <a:pt x="125" y="7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1247760" y="4118400"/>
                <a:ext cx="103320" cy="181800"/>
              </a:xfrm>
              <a:custGeom>
                <a:avLst/>
                <a:gdLst/>
                <a:ahLst/>
                <a:rect l="l" t="t" r="r" b="b"/>
                <a:pathLst>
                  <a:path w="481" h="711">
                    <a:moveTo>
                      <a:pt x="357" y="711"/>
                    </a:moveTo>
                    <a:lnTo>
                      <a:pt x="481" y="630"/>
                    </a:lnTo>
                    <a:lnTo>
                      <a:pt x="357" y="555"/>
                    </a:lnTo>
                    <a:lnTo>
                      <a:pt x="217" y="495"/>
                    </a:lnTo>
                    <a:lnTo>
                      <a:pt x="158" y="348"/>
                    </a:lnTo>
                    <a:lnTo>
                      <a:pt x="175" y="268"/>
                    </a:lnTo>
                    <a:lnTo>
                      <a:pt x="217" y="200"/>
                    </a:lnTo>
                    <a:lnTo>
                      <a:pt x="279" y="151"/>
                    </a:lnTo>
                    <a:lnTo>
                      <a:pt x="357" y="133"/>
                    </a:lnTo>
                    <a:lnTo>
                      <a:pt x="481" y="75"/>
                    </a:lnTo>
                    <a:lnTo>
                      <a:pt x="357" y="0"/>
                    </a:lnTo>
                    <a:lnTo>
                      <a:pt x="217" y="29"/>
                    </a:lnTo>
                    <a:lnTo>
                      <a:pt x="104" y="103"/>
                    </a:lnTo>
                    <a:lnTo>
                      <a:pt x="28" y="217"/>
                    </a:lnTo>
                    <a:lnTo>
                      <a:pt x="0" y="356"/>
                    </a:lnTo>
                    <a:lnTo>
                      <a:pt x="28" y="495"/>
                    </a:lnTo>
                    <a:lnTo>
                      <a:pt x="61" y="557"/>
                    </a:lnTo>
                    <a:lnTo>
                      <a:pt x="104" y="609"/>
                    </a:lnTo>
                    <a:lnTo>
                      <a:pt x="158" y="652"/>
                    </a:lnTo>
                    <a:lnTo>
                      <a:pt x="217" y="685"/>
                    </a:lnTo>
                    <a:lnTo>
                      <a:pt x="357" y="711"/>
                    </a:lnTo>
                    <a:lnTo>
                      <a:pt x="357" y="7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986760" y="4095000"/>
                <a:ext cx="163080" cy="150480"/>
              </a:xfrm>
              <a:custGeom>
                <a:avLst/>
                <a:gdLst/>
                <a:ahLst/>
                <a:rect l="l" t="t" r="r" b="b"/>
                <a:pathLst>
                  <a:path w="760" h="588">
                    <a:moveTo>
                      <a:pt x="380" y="588"/>
                    </a:moveTo>
                    <a:lnTo>
                      <a:pt x="760" y="264"/>
                    </a:lnTo>
                    <a:lnTo>
                      <a:pt x="447" y="316"/>
                    </a:lnTo>
                    <a:lnTo>
                      <a:pt x="528" y="91"/>
                    </a:lnTo>
                    <a:lnTo>
                      <a:pt x="239" y="215"/>
                    </a:lnTo>
                    <a:lnTo>
                      <a:pt x="274" y="0"/>
                    </a:lnTo>
                    <a:lnTo>
                      <a:pt x="0" y="158"/>
                    </a:lnTo>
                    <a:lnTo>
                      <a:pt x="380" y="588"/>
                    </a:lnTo>
                    <a:lnTo>
                      <a:pt x="380" y="5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1186200" y="3889800"/>
                <a:ext cx="57960" cy="123840"/>
              </a:xfrm>
              <a:custGeom>
                <a:avLst/>
                <a:gdLst/>
                <a:ahLst/>
                <a:rect l="l" t="t" r="r" b="b"/>
                <a:pathLst>
                  <a:path w="270" h="485">
                    <a:moveTo>
                      <a:pt x="23" y="464"/>
                    </a:moveTo>
                    <a:lnTo>
                      <a:pt x="0" y="317"/>
                    </a:lnTo>
                    <a:lnTo>
                      <a:pt x="32" y="173"/>
                    </a:lnTo>
                    <a:lnTo>
                      <a:pt x="72" y="108"/>
                    </a:lnTo>
                    <a:lnTo>
                      <a:pt x="125" y="49"/>
                    </a:lnTo>
                    <a:lnTo>
                      <a:pt x="188" y="8"/>
                    </a:lnTo>
                    <a:lnTo>
                      <a:pt x="255" y="0"/>
                    </a:lnTo>
                    <a:lnTo>
                      <a:pt x="270" y="25"/>
                    </a:lnTo>
                    <a:lnTo>
                      <a:pt x="237" y="78"/>
                    </a:lnTo>
                    <a:lnTo>
                      <a:pt x="156" y="198"/>
                    </a:lnTo>
                    <a:lnTo>
                      <a:pt x="148" y="454"/>
                    </a:lnTo>
                    <a:lnTo>
                      <a:pt x="85" y="485"/>
                    </a:lnTo>
                    <a:lnTo>
                      <a:pt x="23" y="464"/>
                    </a:lnTo>
                    <a:lnTo>
                      <a:pt x="23" y="4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1096920" y="3889800"/>
                <a:ext cx="68400" cy="11880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13" y="454"/>
                    </a:moveTo>
                    <a:lnTo>
                      <a:pt x="0" y="306"/>
                    </a:lnTo>
                    <a:lnTo>
                      <a:pt x="45" y="165"/>
                    </a:lnTo>
                    <a:lnTo>
                      <a:pt x="97" y="99"/>
                    </a:lnTo>
                    <a:lnTo>
                      <a:pt x="161" y="40"/>
                    </a:lnTo>
                    <a:lnTo>
                      <a:pt x="235" y="0"/>
                    </a:lnTo>
                    <a:lnTo>
                      <a:pt x="309" y="0"/>
                    </a:lnTo>
                    <a:lnTo>
                      <a:pt x="319" y="27"/>
                    </a:lnTo>
                    <a:lnTo>
                      <a:pt x="273" y="78"/>
                    </a:lnTo>
                    <a:lnTo>
                      <a:pt x="169" y="198"/>
                    </a:lnTo>
                    <a:lnTo>
                      <a:pt x="127" y="464"/>
                    </a:lnTo>
                    <a:lnTo>
                      <a:pt x="13" y="454"/>
                    </a:lnTo>
                    <a:lnTo>
                      <a:pt x="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1006920" y="3886200"/>
                <a:ext cx="81360" cy="122400"/>
              </a:xfrm>
              <a:custGeom>
                <a:avLst/>
                <a:gdLst/>
                <a:ahLst/>
                <a:rect l="l" t="t" r="r" b="b"/>
                <a:pathLst>
                  <a:path w="378" h="477">
                    <a:moveTo>
                      <a:pt x="0" y="460"/>
                    </a:moveTo>
                    <a:lnTo>
                      <a:pt x="7" y="308"/>
                    </a:lnTo>
                    <a:lnTo>
                      <a:pt x="66" y="161"/>
                    </a:lnTo>
                    <a:lnTo>
                      <a:pt x="127" y="97"/>
                    </a:lnTo>
                    <a:lnTo>
                      <a:pt x="205" y="36"/>
                    </a:lnTo>
                    <a:lnTo>
                      <a:pt x="289" y="0"/>
                    </a:lnTo>
                    <a:lnTo>
                      <a:pt x="365" y="5"/>
                    </a:lnTo>
                    <a:lnTo>
                      <a:pt x="378" y="43"/>
                    </a:lnTo>
                    <a:lnTo>
                      <a:pt x="323" y="95"/>
                    </a:lnTo>
                    <a:lnTo>
                      <a:pt x="190" y="211"/>
                    </a:lnTo>
                    <a:lnTo>
                      <a:pt x="108" y="477"/>
                    </a:lnTo>
                    <a:lnTo>
                      <a:pt x="0" y="460"/>
                    </a:lnTo>
                    <a:lnTo>
                      <a:pt x="0" y="4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917280" y="3904920"/>
                <a:ext cx="94320" cy="127800"/>
              </a:xfrm>
              <a:custGeom>
                <a:avLst/>
                <a:gdLst/>
                <a:ahLst/>
                <a:rect l="l" t="t" r="r" b="b"/>
                <a:pathLst>
                  <a:path w="439" h="500">
                    <a:moveTo>
                      <a:pt x="0" y="467"/>
                    </a:moveTo>
                    <a:lnTo>
                      <a:pt x="16" y="306"/>
                    </a:lnTo>
                    <a:lnTo>
                      <a:pt x="44" y="228"/>
                    </a:lnTo>
                    <a:lnTo>
                      <a:pt x="92" y="161"/>
                    </a:lnTo>
                    <a:lnTo>
                      <a:pt x="166" y="95"/>
                    </a:lnTo>
                    <a:lnTo>
                      <a:pt x="255" y="34"/>
                    </a:lnTo>
                    <a:lnTo>
                      <a:pt x="348" y="0"/>
                    </a:lnTo>
                    <a:lnTo>
                      <a:pt x="430" y="13"/>
                    </a:lnTo>
                    <a:lnTo>
                      <a:pt x="439" y="55"/>
                    </a:lnTo>
                    <a:lnTo>
                      <a:pt x="371" y="104"/>
                    </a:lnTo>
                    <a:lnTo>
                      <a:pt x="278" y="160"/>
                    </a:lnTo>
                    <a:lnTo>
                      <a:pt x="207" y="220"/>
                    </a:lnTo>
                    <a:lnTo>
                      <a:pt x="99" y="492"/>
                    </a:lnTo>
                    <a:lnTo>
                      <a:pt x="42" y="500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837360" y="3934800"/>
                <a:ext cx="108360" cy="130320"/>
              </a:xfrm>
              <a:custGeom>
                <a:avLst/>
                <a:gdLst/>
                <a:ahLst/>
                <a:rect l="l" t="t" r="r" b="b"/>
                <a:pathLst>
                  <a:path w="504" h="509">
                    <a:moveTo>
                      <a:pt x="0" y="467"/>
                    </a:moveTo>
                    <a:lnTo>
                      <a:pt x="35" y="306"/>
                    </a:lnTo>
                    <a:lnTo>
                      <a:pt x="73" y="228"/>
                    </a:lnTo>
                    <a:lnTo>
                      <a:pt x="124" y="161"/>
                    </a:lnTo>
                    <a:lnTo>
                      <a:pt x="207" y="95"/>
                    </a:lnTo>
                    <a:lnTo>
                      <a:pt x="306" y="32"/>
                    </a:lnTo>
                    <a:lnTo>
                      <a:pt x="409" y="0"/>
                    </a:lnTo>
                    <a:lnTo>
                      <a:pt x="496" y="21"/>
                    </a:lnTo>
                    <a:lnTo>
                      <a:pt x="504" y="70"/>
                    </a:lnTo>
                    <a:lnTo>
                      <a:pt x="428" y="118"/>
                    </a:lnTo>
                    <a:lnTo>
                      <a:pt x="322" y="171"/>
                    </a:lnTo>
                    <a:lnTo>
                      <a:pt x="240" y="228"/>
                    </a:lnTo>
                    <a:lnTo>
                      <a:pt x="169" y="374"/>
                    </a:lnTo>
                    <a:lnTo>
                      <a:pt x="137" y="448"/>
                    </a:lnTo>
                    <a:lnTo>
                      <a:pt x="92" y="509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7" name=""/>
          <p:cNvGrpSpPr/>
          <p:nvPr/>
        </p:nvGrpSpPr>
        <p:grpSpPr>
          <a:xfrm>
            <a:off x="6629760" y="1295280"/>
            <a:ext cx="2080440" cy="2465280"/>
            <a:chOff x="6629760" y="1295280"/>
            <a:chExt cx="2080440" cy="2465280"/>
          </a:xfrm>
        </p:grpSpPr>
        <p:grpSp>
          <p:nvGrpSpPr>
            <p:cNvPr id="288" name=""/>
            <p:cNvGrpSpPr/>
            <p:nvPr/>
          </p:nvGrpSpPr>
          <p:grpSpPr>
            <a:xfrm>
              <a:off x="7759080" y="2620080"/>
              <a:ext cx="951120" cy="1140480"/>
              <a:chOff x="7759080" y="2620080"/>
              <a:chExt cx="951120" cy="1140480"/>
            </a:xfrm>
          </p:grpSpPr>
          <p:sp>
            <p:nvSpPr>
              <p:cNvPr id="289" name=""/>
              <p:cNvSpPr/>
              <p:nvPr/>
            </p:nvSpPr>
            <p:spPr>
              <a:xfrm>
                <a:off x="7781040" y="2741760"/>
                <a:ext cx="892440" cy="996120"/>
              </a:xfrm>
              <a:custGeom>
                <a:avLst/>
                <a:gdLst/>
                <a:ahLst/>
                <a:rect l="l" t="t" r="r" b="b"/>
                <a:pathLst>
                  <a:path w="4164" h="3761">
                    <a:moveTo>
                      <a:pt x="0" y="1840"/>
                    </a:moveTo>
                    <a:lnTo>
                      <a:pt x="731" y="1861"/>
                    </a:lnTo>
                    <a:lnTo>
                      <a:pt x="1837" y="2435"/>
                    </a:lnTo>
                    <a:lnTo>
                      <a:pt x="1575" y="2790"/>
                    </a:lnTo>
                    <a:lnTo>
                      <a:pt x="1243" y="3260"/>
                    </a:lnTo>
                    <a:lnTo>
                      <a:pt x="1389" y="3573"/>
                    </a:lnTo>
                    <a:lnTo>
                      <a:pt x="1889" y="3761"/>
                    </a:lnTo>
                    <a:lnTo>
                      <a:pt x="2619" y="3720"/>
                    </a:lnTo>
                    <a:lnTo>
                      <a:pt x="3016" y="3376"/>
                    </a:lnTo>
                    <a:lnTo>
                      <a:pt x="3392" y="1724"/>
                    </a:lnTo>
                    <a:lnTo>
                      <a:pt x="4164" y="429"/>
                    </a:lnTo>
                    <a:lnTo>
                      <a:pt x="4048" y="272"/>
                    </a:lnTo>
                    <a:lnTo>
                      <a:pt x="3434" y="62"/>
                    </a:lnTo>
                    <a:lnTo>
                      <a:pt x="2495" y="0"/>
                    </a:lnTo>
                    <a:lnTo>
                      <a:pt x="1377" y="209"/>
                    </a:lnTo>
                    <a:lnTo>
                      <a:pt x="543" y="846"/>
                    </a:lnTo>
                    <a:lnTo>
                      <a:pt x="157" y="1442"/>
                    </a:lnTo>
                    <a:lnTo>
                      <a:pt x="0" y="1840"/>
                    </a:lnTo>
                    <a:lnTo>
                      <a:pt x="0" y="1840"/>
                    </a:lnTo>
                    <a:close/>
                  </a:path>
                </a:pathLst>
              </a:custGeom>
              <a:solidFill>
                <a:srgbClr val="fbd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074440" y="2852280"/>
                <a:ext cx="400320" cy="212760"/>
              </a:xfrm>
              <a:custGeom>
                <a:avLst/>
                <a:gdLst/>
                <a:ahLst/>
                <a:rect l="l" t="t" r="r" b="b"/>
                <a:pathLst>
                  <a:path w="1866" h="804">
                    <a:moveTo>
                      <a:pt x="0" y="407"/>
                    </a:moveTo>
                    <a:lnTo>
                      <a:pt x="302" y="701"/>
                    </a:lnTo>
                    <a:lnTo>
                      <a:pt x="960" y="804"/>
                    </a:lnTo>
                    <a:lnTo>
                      <a:pt x="1617" y="637"/>
                    </a:lnTo>
                    <a:lnTo>
                      <a:pt x="1866" y="523"/>
                    </a:lnTo>
                    <a:lnTo>
                      <a:pt x="1648" y="220"/>
                    </a:lnTo>
                    <a:lnTo>
                      <a:pt x="1074" y="0"/>
                    </a:lnTo>
                    <a:lnTo>
                      <a:pt x="521" y="42"/>
                    </a:lnTo>
                    <a:lnTo>
                      <a:pt x="0" y="407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210880" y="2885760"/>
                <a:ext cx="127080" cy="152280"/>
              </a:xfrm>
              <a:custGeom>
                <a:avLst/>
                <a:gdLst/>
                <a:ahLst/>
                <a:rect l="l" t="t" r="r" b="b"/>
                <a:pathLst>
                  <a:path w="595" h="576">
                    <a:moveTo>
                      <a:pt x="407" y="0"/>
                    </a:moveTo>
                    <a:lnTo>
                      <a:pt x="167" y="0"/>
                    </a:lnTo>
                    <a:lnTo>
                      <a:pt x="0" y="242"/>
                    </a:lnTo>
                    <a:lnTo>
                      <a:pt x="104" y="491"/>
                    </a:lnTo>
                    <a:lnTo>
                      <a:pt x="397" y="576"/>
                    </a:lnTo>
                    <a:lnTo>
                      <a:pt x="595" y="314"/>
                    </a:lnTo>
                    <a:lnTo>
                      <a:pt x="407" y="0"/>
                    </a:lnTo>
                    <a:lnTo>
                      <a:pt x="407" y="0"/>
                    </a:lnTo>
                    <a:close/>
                  </a:path>
                </a:pathLst>
              </a:custGeom>
              <a:solidFill>
                <a:srgbClr val="99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052840" y="3576600"/>
                <a:ext cx="146880" cy="98280"/>
              </a:xfrm>
              <a:custGeom>
                <a:avLst/>
                <a:gdLst/>
                <a:ahLst/>
                <a:rect l="l" t="t" r="r" b="b"/>
                <a:pathLst>
                  <a:path w="686" h="373">
                    <a:moveTo>
                      <a:pt x="91" y="373"/>
                    </a:moveTo>
                    <a:lnTo>
                      <a:pt x="0" y="173"/>
                    </a:lnTo>
                    <a:lnTo>
                      <a:pt x="91" y="0"/>
                    </a:lnTo>
                    <a:lnTo>
                      <a:pt x="538" y="90"/>
                    </a:lnTo>
                    <a:lnTo>
                      <a:pt x="648" y="137"/>
                    </a:lnTo>
                    <a:lnTo>
                      <a:pt x="686" y="183"/>
                    </a:lnTo>
                    <a:lnTo>
                      <a:pt x="648" y="230"/>
                    </a:lnTo>
                    <a:lnTo>
                      <a:pt x="538" y="278"/>
                    </a:lnTo>
                    <a:lnTo>
                      <a:pt x="352" y="325"/>
                    </a:lnTo>
                    <a:lnTo>
                      <a:pt x="91" y="373"/>
                    </a:lnTo>
                    <a:lnTo>
                      <a:pt x="91" y="373"/>
                    </a:lnTo>
                    <a:close/>
                  </a:path>
                </a:pathLst>
              </a:custGeom>
              <a:solidFill>
                <a:srgbClr val="d42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759080" y="3112560"/>
                <a:ext cx="537120" cy="286920"/>
              </a:xfrm>
              <a:custGeom>
                <a:avLst/>
                <a:gdLst/>
                <a:ahLst/>
                <a:rect l="l" t="t" r="r" b="b"/>
                <a:pathLst>
                  <a:path w="2505" h="1083">
                    <a:moveTo>
                      <a:pt x="67" y="604"/>
                    </a:moveTo>
                    <a:lnTo>
                      <a:pt x="399" y="587"/>
                    </a:lnTo>
                    <a:lnTo>
                      <a:pt x="844" y="612"/>
                    </a:lnTo>
                    <a:lnTo>
                      <a:pt x="1087" y="713"/>
                    </a:lnTo>
                    <a:lnTo>
                      <a:pt x="1224" y="787"/>
                    </a:lnTo>
                    <a:lnTo>
                      <a:pt x="1361" y="866"/>
                    </a:lnTo>
                    <a:lnTo>
                      <a:pt x="1498" y="943"/>
                    </a:lnTo>
                    <a:lnTo>
                      <a:pt x="1627" y="1011"/>
                    </a:lnTo>
                    <a:lnTo>
                      <a:pt x="1743" y="1058"/>
                    </a:lnTo>
                    <a:lnTo>
                      <a:pt x="1844" y="1083"/>
                    </a:lnTo>
                    <a:lnTo>
                      <a:pt x="2100" y="1055"/>
                    </a:lnTo>
                    <a:lnTo>
                      <a:pt x="2311" y="918"/>
                    </a:lnTo>
                    <a:lnTo>
                      <a:pt x="2452" y="707"/>
                    </a:lnTo>
                    <a:lnTo>
                      <a:pt x="2505" y="454"/>
                    </a:lnTo>
                    <a:lnTo>
                      <a:pt x="2469" y="245"/>
                    </a:lnTo>
                    <a:lnTo>
                      <a:pt x="2425" y="161"/>
                    </a:lnTo>
                    <a:lnTo>
                      <a:pt x="2366" y="95"/>
                    </a:lnTo>
                    <a:lnTo>
                      <a:pt x="2294" y="42"/>
                    </a:lnTo>
                    <a:lnTo>
                      <a:pt x="2209" y="9"/>
                    </a:lnTo>
                    <a:lnTo>
                      <a:pt x="1999" y="0"/>
                    </a:lnTo>
                    <a:lnTo>
                      <a:pt x="1836" y="66"/>
                    </a:lnTo>
                    <a:lnTo>
                      <a:pt x="1718" y="203"/>
                    </a:lnTo>
                    <a:lnTo>
                      <a:pt x="1648" y="367"/>
                    </a:lnTo>
                    <a:lnTo>
                      <a:pt x="1629" y="513"/>
                    </a:lnTo>
                    <a:lnTo>
                      <a:pt x="1648" y="574"/>
                    </a:lnTo>
                    <a:lnTo>
                      <a:pt x="1688" y="616"/>
                    </a:lnTo>
                    <a:lnTo>
                      <a:pt x="1806" y="642"/>
                    </a:lnTo>
                    <a:lnTo>
                      <a:pt x="1923" y="595"/>
                    </a:lnTo>
                    <a:lnTo>
                      <a:pt x="1984" y="479"/>
                    </a:lnTo>
                    <a:lnTo>
                      <a:pt x="1969" y="370"/>
                    </a:lnTo>
                    <a:lnTo>
                      <a:pt x="1929" y="308"/>
                    </a:lnTo>
                    <a:lnTo>
                      <a:pt x="1876" y="222"/>
                    </a:lnTo>
                    <a:lnTo>
                      <a:pt x="1895" y="171"/>
                    </a:lnTo>
                    <a:lnTo>
                      <a:pt x="1937" y="133"/>
                    </a:lnTo>
                    <a:lnTo>
                      <a:pt x="2041" y="99"/>
                    </a:lnTo>
                    <a:lnTo>
                      <a:pt x="2157" y="129"/>
                    </a:lnTo>
                    <a:lnTo>
                      <a:pt x="2248" y="205"/>
                    </a:lnTo>
                    <a:lnTo>
                      <a:pt x="2332" y="429"/>
                    </a:lnTo>
                    <a:lnTo>
                      <a:pt x="2311" y="572"/>
                    </a:lnTo>
                    <a:lnTo>
                      <a:pt x="2254" y="709"/>
                    </a:lnTo>
                    <a:lnTo>
                      <a:pt x="2212" y="768"/>
                    </a:lnTo>
                    <a:lnTo>
                      <a:pt x="2167" y="819"/>
                    </a:lnTo>
                    <a:lnTo>
                      <a:pt x="2115" y="855"/>
                    </a:lnTo>
                    <a:lnTo>
                      <a:pt x="2058" y="876"/>
                    </a:lnTo>
                    <a:lnTo>
                      <a:pt x="1800" y="853"/>
                    </a:lnTo>
                    <a:lnTo>
                      <a:pt x="1678" y="798"/>
                    </a:lnTo>
                    <a:lnTo>
                      <a:pt x="1562" y="728"/>
                    </a:lnTo>
                    <a:lnTo>
                      <a:pt x="1450" y="650"/>
                    </a:lnTo>
                    <a:lnTo>
                      <a:pt x="1342" y="572"/>
                    </a:lnTo>
                    <a:lnTo>
                      <a:pt x="1239" y="503"/>
                    </a:lnTo>
                    <a:lnTo>
                      <a:pt x="1140" y="454"/>
                    </a:lnTo>
                    <a:lnTo>
                      <a:pt x="939" y="393"/>
                    </a:lnTo>
                    <a:lnTo>
                      <a:pt x="713" y="349"/>
                    </a:lnTo>
                    <a:lnTo>
                      <a:pt x="247" y="338"/>
                    </a:lnTo>
                    <a:lnTo>
                      <a:pt x="131" y="387"/>
                    </a:lnTo>
                    <a:lnTo>
                      <a:pt x="0" y="551"/>
                    </a:lnTo>
                    <a:lnTo>
                      <a:pt x="67" y="604"/>
                    </a:lnTo>
                    <a:lnTo>
                      <a:pt x="67" y="6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759080" y="2728080"/>
                <a:ext cx="930240" cy="1032480"/>
              </a:xfrm>
              <a:custGeom>
                <a:avLst/>
                <a:gdLst/>
                <a:ahLst/>
                <a:rect l="l" t="t" r="r" b="b"/>
                <a:pathLst>
                  <a:path w="4339" h="3901">
                    <a:moveTo>
                      <a:pt x="247" y="1892"/>
                    </a:moveTo>
                    <a:lnTo>
                      <a:pt x="321" y="1671"/>
                    </a:lnTo>
                    <a:lnTo>
                      <a:pt x="371" y="1550"/>
                    </a:lnTo>
                    <a:lnTo>
                      <a:pt x="428" y="1424"/>
                    </a:lnTo>
                    <a:lnTo>
                      <a:pt x="496" y="1295"/>
                    </a:lnTo>
                    <a:lnTo>
                      <a:pt x="578" y="1166"/>
                    </a:lnTo>
                    <a:lnTo>
                      <a:pt x="673" y="1035"/>
                    </a:lnTo>
                    <a:lnTo>
                      <a:pt x="785" y="907"/>
                    </a:lnTo>
                    <a:lnTo>
                      <a:pt x="914" y="784"/>
                    </a:lnTo>
                    <a:lnTo>
                      <a:pt x="1062" y="666"/>
                    </a:lnTo>
                    <a:lnTo>
                      <a:pt x="1144" y="609"/>
                    </a:lnTo>
                    <a:lnTo>
                      <a:pt x="1232" y="554"/>
                    </a:lnTo>
                    <a:lnTo>
                      <a:pt x="1325" y="502"/>
                    </a:lnTo>
                    <a:lnTo>
                      <a:pt x="1422" y="453"/>
                    </a:lnTo>
                    <a:lnTo>
                      <a:pt x="1526" y="407"/>
                    </a:lnTo>
                    <a:lnTo>
                      <a:pt x="1636" y="364"/>
                    </a:lnTo>
                    <a:lnTo>
                      <a:pt x="1752" y="324"/>
                    </a:lnTo>
                    <a:lnTo>
                      <a:pt x="1876" y="286"/>
                    </a:lnTo>
                    <a:lnTo>
                      <a:pt x="2144" y="223"/>
                    </a:lnTo>
                    <a:lnTo>
                      <a:pt x="2439" y="177"/>
                    </a:lnTo>
                    <a:lnTo>
                      <a:pt x="2866" y="153"/>
                    </a:lnTo>
                    <a:lnTo>
                      <a:pt x="3336" y="183"/>
                    </a:lnTo>
                    <a:lnTo>
                      <a:pt x="3792" y="284"/>
                    </a:lnTo>
                    <a:lnTo>
                      <a:pt x="3999" y="364"/>
                    </a:lnTo>
                    <a:lnTo>
                      <a:pt x="4183" y="468"/>
                    </a:lnTo>
                    <a:lnTo>
                      <a:pt x="4172" y="519"/>
                    </a:lnTo>
                    <a:lnTo>
                      <a:pt x="4103" y="633"/>
                    </a:lnTo>
                    <a:lnTo>
                      <a:pt x="4054" y="709"/>
                    </a:lnTo>
                    <a:lnTo>
                      <a:pt x="3997" y="795"/>
                    </a:lnTo>
                    <a:lnTo>
                      <a:pt x="3932" y="890"/>
                    </a:lnTo>
                    <a:lnTo>
                      <a:pt x="3864" y="991"/>
                    </a:lnTo>
                    <a:lnTo>
                      <a:pt x="3792" y="1097"/>
                    </a:lnTo>
                    <a:lnTo>
                      <a:pt x="3718" y="1206"/>
                    </a:lnTo>
                    <a:lnTo>
                      <a:pt x="3645" y="1318"/>
                    </a:lnTo>
                    <a:lnTo>
                      <a:pt x="3577" y="1426"/>
                    </a:lnTo>
                    <a:lnTo>
                      <a:pt x="3512" y="1534"/>
                    </a:lnTo>
                    <a:lnTo>
                      <a:pt x="3453" y="1637"/>
                    </a:lnTo>
                    <a:lnTo>
                      <a:pt x="3364" y="1825"/>
                    </a:lnTo>
                    <a:lnTo>
                      <a:pt x="3250" y="2186"/>
                    </a:lnTo>
                    <a:lnTo>
                      <a:pt x="3159" y="2572"/>
                    </a:lnTo>
                    <a:lnTo>
                      <a:pt x="3077" y="2964"/>
                    </a:lnTo>
                    <a:lnTo>
                      <a:pt x="2992" y="3340"/>
                    </a:lnTo>
                    <a:lnTo>
                      <a:pt x="2965" y="3405"/>
                    </a:lnTo>
                    <a:lnTo>
                      <a:pt x="2916" y="3485"/>
                    </a:lnTo>
                    <a:lnTo>
                      <a:pt x="2857" y="3559"/>
                    </a:lnTo>
                    <a:lnTo>
                      <a:pt x="2802" y="3604"/>
                    </a:lnTo>
                    <a:lnTo>
                      <a:pt x="2708" y="3652"/>
                    </a:lnTo>
                    <a:lnTo>
                      <a:pt x="2591" y="3696"/>
                    </a:lnTo>
                    <a:lnTo>
                      <a:pt x="2372" y="3738"/>
                    </a:lnTo>
                    <a:lnTo>
                      <a:pt x="1847" y="3690"/>
                    </a:lnTo>
                    <a:lnTo>
                      <a:pt x="1635" y="3604"/>
                    </a:lnTo>
                    <a:lnTo>
                      <a:pt x="1521" y="3439"/>
                    </a:lnTo>
                    <a:lnTo>
                      <a:pt x="1524" y="3253"/>
                    </a:lnTo>
                    <a:lnTo>
                      <a:pt x="1559" y="3158"/>
                    </a:lnTo>
                    <a:lnTo>
                      <a:pt x="1608" y="3063"/>
                    </a:lnTo>
                    <a:lnTo>
                      <a:pt x="1674" y="2970"/>
                    </a:lnTo>
                    <a:lnTo>
                      <a:pt x="1749" y="2880"/>
                    </a:lnTo>
                    <a:lnTo>
                      <a:pt x="1834" y="2797"/>
                    </a:lnTo>
                    <a:lnTo>
                      <a:pt x="1925" y="2719"/>
                    </a:lnTo>
                    <a:lnTo>
                      <a:pt x="2032" y="2631"/>
                    </a:lnTo>
                    <a:lnTo>
                      <a:pt x="2155" y="2521"/>
                    </a:lnTo>
                    <a:lnTo>
                      <a:pt x="2285" y="2390"/>
                    </a:lnTo>
                    <a:lnTo>
                      <a:pt x="2406" y="2238"/>
                    </a:lnTo>
                    <a:lnTo>
                      <a:pt x="1827" y="2479"/>
                    </a:lnTo>
                    <a:lnTo>
                      <a:pt x="1800" y="2595"/>
                    </a:lnTo>
                    <a:lnTo>
                      <a:pt x="1739" y="2715"/>
                    </a:lnTo>
                    <a:lnTo>
                      <a:pt x="1654" y="2838"/>
                    </a:lnTo>
                    <a:lnTo>
                      <a:pt x="1555" y="2960"/>
                    </a:lnTo>
                    <a:lnTo>
                      <a:pt x="1458" y="3082"/>
                    </a:lnTo>
                    <a:lnTo>
                      <a:pt x="1372" y="3203"/>
                    </a:lnTo>
                    <a:lnTo>
                      <a:pt x="1291" y="3430"/>
                    </a:lnTo>
                    <a:lnTo>
                      <a:pt x="1304" y="3502"/>
                    </a:lnTo>
                    <a:lnTo>
                      <a:pt x="1340" y="3570"/>
                    </a:lnTo>
                    <a:lnTo>
                      <a:pt x="1393" y="3637"/>
                    </a:lnTo>
                    <a:lnTo>
                      <a:pt x="1460" y="3696"/>
                    </a:lnTo>
                    <a:lnTo>
                      <a:pt x="1536" y="3749"/>
                    </a:lnTo>
                    <a:lnTo>
                      <a:pt x="1610" y="3793"/>
                    </a:lnTo>
                    <a:lnTo>
                      <a:pt x="1743" y="3844"/>
                    </a:lnTo>
                    <a:lnTo>
                      <a:pt x="1971" y="3880"/>
                    </a:lnTo>
                    <a:lnTo>
                      <a:pt x="2218" y="3901"/>
                    </a:lnTo>
                    <a:lnTo>
                      <a:pt x="2686" y="3869"/>
                    </a:lnTo>
                    <a:lnTo>
                      <a:pt x="2864" y="3802"/>
                    </a:lnTo>
                    <a:lnTo>
                      <a:pt x="3028" y="3675"/>
                    </a:lnTo>
                    <a:lnTo>
                      <a:pt x="3166" y="3511"/>
                    </a:lnTo>
                    <a:lnTo>
                      <a:pt x="3265" y="3331"/>
                    </a:lnTo>
                    <a:lnTo>
                      <a:pt x="3374" y="2989"/>
                    </a:lnTo>
                    <a:lnTo>
                      <a:pt x="3453" y="2601"/>
                    </a:lnTo>
                    <a:lnTo>
                      <a:pt x="3526" y="2209"/>
                    </a:lnTo>
                    <a:lnTo>
                      <a:pt x="3567" y="2025"/>
                    </a:lnTo>
                    <a:lnTo>
                      <a:pt x="3611" y="1858"/>
                    </a:lnTo>
                    <a:lnTo>
                      <a:pt x="3676" y="1690"/>
                    </a:lnTo>
                    <a:lnTo>
                      <a:pt x="3759" y="1523"/>
                    </a:lnTo>
                    <a:lnTo>
                      <a:pt x="3858" y="1354"/>
                    </a:lnTo>
                    <a:lnTo>
                      <a:pt x="3963" y="1187"/>
                    </a:lnTo>
                    <a:lnTo>
                      <a:pt x="4016" y="1101"/>
                    </a:lnTo>
                    <a:lnTo>
                      <a:pt x="4071" y="1017"/>
                    </a:lnTo>
                    <a:lnTo>
                      <a:pt x="4172" y="848"/>
                    </a:lnTo>
                    <a:lnTo>
                      <a:pt x="4263" y="679"/>
                    </a:lnTo>
                    <a:lnTo>
                      <a:pt x="4339" y="510"/>
                    </a:lnTo>
                    <a:lnTo>
                      <a:pt x="4316" y="381"/>
                    </a:lnTo>
                    <a:lnTo>
                      <a:pt x="4273" y="261"/>
                    </a:lnTo>
                    <a:lnTo>
                      <a:pt x="4153" y="219"/>
                    </a:lnTo>
                    <a:lnTo>
                      <a:pt x="4033" y="183"/>
                    </a:lnTo>
                    <a:lnTo>
                      <a:pt x="3792" y="118"/>
                    </a:lnTo>
                    <a:lnTo>
                      <a:pt x="3547" y="69"/>
                    </a:lnTo>
                    <a:lnTo>
                      <a:pt x="3301" y="35"/>
                    </a:lnTo>
                    <a:lnTo>
                      <a:pt x="2813" y="0"/>
                    </a:lnTo>
                    <a:lnTo>
                      <a:pt x="2332" y="12"/>
                    </a:lnTo>
                    <a:lnTo>
                      <a:pt x="1865" y="86"/>
                    </a:lnTo>
                    <a:lnTo>
                      <a:pt x="1644" y="153"/>
                    </a:lnTo>
                    <a:lnTo>
                      <a:pt x="1431" y="236"/>
                    </a:lnTo>
                    <a:lnTo>
                      <a:pt x="1329" y="284"/>
                    </a:lnTo>
                    <a:lnTo>
                      <a:pt x="1228" y="335"/>
                    </a:lnTo>
                    <a:lnTo>
                      <a:pt x="1131" y="390"/>
                    </a:lnTo>
                    <a:lnTo>
                      <a:pt x="1036" y="447"/>
                    </a:lnTo>
                    <a:lnTo>
                      <a:pt x="945" y="510"/>
                    </a:lnTo>
                    <a:lnTo>
                      <a:pt x="857" y="575"/>
                    </a:lnTo>
                    <a:lnTo>
                      <a:pt x="692" y="711"/>
                    </a:lnTo>
                    <a:lnTo>
                      <a:pt x="540" y="858"/>
                    </a:lnTo>
                    <a:lnTo>
                      <a:pt x="405" y="1012"/>
                    </a:lnTo>
                    <a:lnTo>
                      <a:pt x="344" y="1092"/>
                    </a:lnTo>
                    <a:lnTo>
                      <a:pt x="287" y="1171"/>
                    </a:lnTo>
                    <a:lnTo>
                      <a:pt x="188" y="1337"/>
                    </a:lnTo>
                    <a:lnTo>
                      <a:pt x="49" y="1673"/>
                    </a:lnTo>
                    <a:lnTo>
                      <a:pt x="0" y="2008"/>
                    </a:lnTo>
                    <a:lnTo>
                      <a:pt x="247" y="1892"/>
                    </a:lnTo>
                    <a:lnTo>
                      <a:pt x="247" y="18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049600" y="2830680"/>
                <a:ext cx="471240" cy="254520"/>
              </a:xfrm>
              <a:custGeom>
                <a:avLst/>
                <a:gdLst/>
                <a:ahLst/>
                <a:rect l="l" t="t" r="r" b="b"/>
                <a:pathLst>
                  <a:path w="2199" h="962">
                    <a:moveTo>
                      <a:pt x="1844" y="692"/>
                    </a:moveTo>
                    <a:lnTo>
                      <a:pt x="1749" y="742"/>
                    </a:lnTo>
                    <a:lnTo>
                      <a:pt x="1648" y="791"/>
                    </a:lnTo>
                    <a:lnTo>
                      <a:pt x="1540" y="837"/>
                    </a:lnTo>
                    <a:lnTo>
                      <a:pt x="1426" y="877"/>
                    </a:lnTo>
                    <a:lnTo>
                      <a:pt x="1184" y="937"/>
                    </a:lnTo>
                    <a:lnTo>
                      <a:pt x="935" y="962"/>
                    </a:lnTo>
                    <a:lnTo>
                      <a:pt x="682" y="941"/>
                    </a:lnTo>
                    <a:lnTo>
                      <a:pt x="437" y="859"/>
                    </a:lnTo>
                    <a:lnTo>
                      <a:pt x="319" y="793"/>
                    </a:lnTo>
                    <a:lnTo>
                      <a:pt x="207" y="709"/>
                    </a:lnTo>
                    <a:lnTo>
                      <a:pt x="101" y="603"/>
                    </a:lnTo>
                    <a:lnTo>
                      <a:pt x="0" y="477"/>
                    </a:lnTo>
                    <a:lnTo>
                      <a:pt x="53" y="411"/>
                    </a:lnTo>
                    <a:lnTo>
                      <a:pt x="108" y="350"/>
                    </a:lnTo>
                    <a:lnTo>
                      <a:pt x="224" y="244"/>
                    </a:lnTo>
                    <a:lnTo>
                      <a:pt x="285" y="198"/>
                    </a:lnTo>
                    <a:lnTo>
                      <a:pt x="350" y="158"/>
                    </a:lnTo>
                    <a:lnTo>
                      <a:pt x="481" y="91"/>
                    </a:lnTo>
                    <a:lnTo>
                      <a:pt x="620" y="44"/>
                    </a:lnTo>
                    <a:lnTo>
                      <a:pt x="762" y="14"/>
                    </a:lnTo>
                    <a:lnTo>
                      <a:pt x="1057" y="0"/>
                    </a:lnTo>
                    <a:lnTo>
                      <a:pt x="1357" y="42"/>
                    </a:lnTo>
                    <a:lnTo>
                      <a:pt x="1654" y="135"/>
                    </a:lnTo>
                    <a:lnTo>
                      <a:pt x="1798" y="198"/>
                    </a:lnTo>
                    <a:lnTo>
                      <a:pt x="1937" y="268"/>
                    </a:lnTo>
                    <a:lnTo>
                      <a:pt x="2072" y="348"/>
                    </a:lnTo>
                    <a:lnTo>
                      <a:pt x="2199" y="436"/>
                    </a:lnTo>
                    <a:lnTo>
                      <a:pt x="2093" y="538"/>
                    </a:lnTo>
                    <a:lnTo>
                      <a:pt x="1992" y="633"/>
                    </a:lnTo>
                    <a:lnTo>
                      <a:pt x="1901" y="559"/>
                    </a:lnTo>
                    <a:lnTo>
                      <a:pt x="1804" y="489"/>
                    </a:lnTo>
                    <a:lnTo>
                      <a:pt x="1701" y="422"/>
                    </a:lnTo>
                    <a:lnTo>
                      <a:pt x="1593" y="360"/>
                    </a:lnTo>
                    <a:lnTo>
                      <a:pt x="1483" y="302"/>
                    </a:lnTo>
                    <a:lnTo>
                      <a:pt x="1371" y="255"/>
                    </a:lnTo>
                    <a:lnTo>
                      <a:pt x="1255" y="215"/>
                    </a:lnTo>
                    <a:lnTo>
                      <a:pt x="1139" y="187"/>
                    </a:lnTo>
                    <a:lnTo>
                      <a:pt x="905" y="166"/>
                    </a:lnTo>
                    <a:lnTo>
                      <a:pt x="677" y="200"/>
                    </a:lnTo>
                    <a:lnTo>
                      <a:pt x="462" y="304"/>
                    </a:lnTo>
                    <a:lnTo>
                      <a:pt x="264" y="485"/>
                    </a:lnTo>
                    <a:lnTo>
                      <a:pt x="318" y="563"/>
                    </a:lnTo>
                    <a:lnTo>
                      <a:pt x="384" y="628"/>
                    </a:lnTo>
                    <a:lnTo>
                      <a:pt x="464" y="677"/>
                    </a:lnTo>
                    <a:lnTo>
                      <a:pt x="555" y="717"/>
                    </a:lnTo>
                    <a:lnTo>
                      <a:pt x="760" y="764"/>
                    </a:lnTo>
                    <a:lnTo>
                      <a:pt x="990" y="778"/>
                    </a:lnTo>
                    <a:lnTo>
                      <a:pt x="1456" y="743"/>
                    </a:lnTo>
                    <a:lnTo>
                      <a:pt x="1844" y="692"/>
                    </a:lnTo>
                    <a:lnTo>
                      <a:pt x="1844" y="6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254800" y="2930040"/>
                <a:ext cx="38880" cy="47880"/>
              </a:xfrm>
              <a:custGeom>
                <a:avLst/>
                <a:gdLst/>
                <a:ahLst/>
                <a:rect l="l" t="t" r="r" b="b"/>
                <a:pathLst>
                  <a:path w="181" h="182">
                    <a:moveTo>
                      <a:pt x="91" y="0"/>
                    </a:moveTo>
                    <a:lnTo>
                      <a:pt x="154" y="28"/>
                    </a:lnTo>
                    <a:lnTo>
                      <a:pt x="181" y="91"/>
                    </a:lnTo>
                    <a:lnTo>
                      <a:pt x="154" y="155"/>
                    </a:lnTo>
                    <a:lnTo>
                      <a:pt x="91" y="182"/>
                    </a:lnTo>
                    <a:lnTo>
                      <a:pt x="27" y="155"/>
                    </a:lnTo>
                    <a:lnTo>
                      <a:pt x="0" y="91"/>
                    </a:lnTo>
                    <a:lnTo>
                      <a:pt x="27" y="28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247600" y="2860200"/>
                <a:ext cx="102600" cy="187920"/>
              </a:xfrm>
              <a:custGeom>
                <a:avLst/>
                <a:gdLst/>
                <a:ahLst/>
                <a:rect l="l" t="t" r="r" b="b"/>
                <a:pathLst>
                  <a:path w="479" h="711">
                    <a:moveTo>
                      <a:pt x="125" y="711"/>
                    </a:moveTo>
                    <a:lnTo>
                      <a:pt x="0" y="630"/>
                    </a:lnTo>
                    <a:lnTo>
                      <a:pt x="125" y="555"/>
                    </a:lnTo>
                    <a:lnTo>
                      <a:pt x="268" y="495"/>
                    </a:lnTo>
                    <a:lnTo>
                      <a:pt x="330" y="348"/>
                    </a:lnTo>
                    <a:lnTo>
                      <a:pt x="313" y="268"/>
                    </a:lnTo>
                    <a:lnTo>
                      <a:pt x="268" y="200"/>
                    </a:lnTo>
                    <a:lnTo>
                      <a:pt x="201" y="151"/>
                    </a:lnTo>
                    <a:lnTo>
                      <a:pt x="125" y="133"/>
                    </a:lnTo>
                    <a:lnTo>
                      <a:pt x="0" y="75"/>
                    </a:lnTo>
                    <a:lnTo>
                      <a:pt x="125" y="0"/>
                    </a:lnTo>
                    <a:lnTo>
                      <a:pt x="264" y="29"/>
                    </a:lnTo>
                    <a:lnTo>
                      <a:pt x="376" y="103"/>
                    </a:lnTo>
                    <a:lnTo>
                      <a:pt x="452" y="217"/>
                    </a:lnTo>
                    <a:lnTo>
                      <a:pt x="479" y="356"/>
                    </a:lnTo>
                    <a:lnTo>
                      <a:pt x="452" y="495"/>
                    </a:lnTo>
                    <a:lnTo>
                      <a:pt x="420" y="557"/>
                    </a:lnTo>
                    <a:lnTo>
                      <a:pt x="376" y="609"/>
                    </a:lnTo>
                    <a:lnTo>
                      <a:pt x="323" y="652"/>
                    </a:lnTo>
                    <a:lnTo>
                      <a:pt x="264" y="685"/>
                    </a:lnTo>
                    <a:lnTo>
                      <a:pt x="125" y="711"/>
                    </a:lnTo>
                    <a:lnTo>
                      <a:pt x="125" y="7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197920" y="2860200"/>
                <a:ext cx="103320" cy="187920"/>
              </a:xfrm>
              <a:custGeom>
                <a:avLst/>
                <a:gdLst/>
                <a:ahLst/>
                <a:rect l="l" t="t" r="r" b="b"/>
                <a:pathLst>
                  <a:path w="481" h="711">
                    <a:moveTo>
                      <a:pt x="357" y="711"/>
                    </a:moveTo>
                    <a:lnTo>
                      <a:pt x="481" y="630"/>
                    </a:lnTo>
                    <a:lnTo>
                      <a:pt x="357" y="555"/>
                    </a:lnTo>
                    <a:lnTo>
                      <a:pt x="217" y="495"/>
                    </a:lnTo>
                    <a:lnTo>
                      <a:pt x="158" y="348"/>
                    </a:lnTo>
                    <a:lnTo>
                      <a:pt x="175" y="268"/>
                    </a:lnTo>
                    <a:lnTo>
                      <a:pt x="217" y="200"/>
                    </a:lnTo>
                    <a:lnTo>
                      <a:pt x="279" y="151"/>
                    </a:lnTo>
                    <a:lnTo>
                      <a:pt x="357" y="133"/>
                    </a:lnTo>
                    <a:lnTo>
                      <a:pt x="481" y="75"/>
                    </a:lnTo>
                    <a:lnTo>
                      <a:pt x="357" y="0"/>
                    </a:lnTo>
                    <a:lnTo>
                      <a:pt x="217" y="29"/>
                    </a:lnTo>
                    <a:lnTo>
                      <a:pt x="104" y="103"/>
                    </a:lnTo>
                    <a:lnTo>
                      <a:pt x="28" y="217"/>
                    </a:lnTo>
                    <a:lnTo>
                      <a:pt x="0" y="356"/>
                    </a:lnTo>
                    <a:lnTo>
                      <a:pt x="28" y="495"/>
                    </a:lnTo>
                    <a:lnTo>
                      <a:pt x="61" y="557"/>
                    </a:lnTo>
                    <a:lnTo>
                      <a:pt x="104" y="609"/>
                    </a:lnTo>
                    <a:lnTo>
                      <a:pt x="158" y="652"/>
                    </a:lnTo>
                    <a:lnTo>
                      <a:pt x="217" y="685"/>
                    </a:lnTo>
                    <a:lnTo>
                      <a:pt x="357" y="711"/>
                    </a:lnTo>
                    <a:lnTo>
                      <a:pt x="357" y="7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398440" y="2836080"/>
                <a:ext cx="162720" cy="155520"/>
              </a:xfrm>
              <a:custGeom>
                <a:avLst/>
                <a:gdLst/>
                <a:ahLst/>
                <a:rect l="l" t="t" r="r" b="b"/>
                <a:pathLst>
                  <a:path w="760" h="588">
                    <a:moveTo>
                      <a:pt x="380" y="588"/>
                    </a:moveTo>
                    <a:lnTo>
                      <a:pt x="760" y="264"/>
                    </a:lnTo>
                    <a:lnTo>
                      <a:pt x="447" y="316"/>
                    </a:lnTo>
                    <a:lnTo>
                      <a:pt x="528" y="91"/>
                    </a:lnTo>
                    <a:lnTo>
                      <a:pt x="239" y="215"/>
                    </a:lnTo>
                    <a:lnTo>
                      <a:pt x="274" y="0"/>
                    </a:lnTo>
                    <a:lnTo>
                      <a:pt x="0" y="158"/>
                    </a:lnTo>
                    <a:lnTo>
                      <a:pt x="380" y="588"/>
                    </a:lnTo>
                    <a:lnTo>
                      <a:pt x="380" y="5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8304480" y="2623680"/>
                <a:ext cx="57600" cy="127800"/>
              </a:xfrm>
              <a:custGeom>
                <a:avLst/>
                <a:gdLst/>
                <a:ahLst/>
                <a:rect l="l" t="t" r="r" b="b"/>
                <a:pathLst>
                  <a:path w="270" h="485">
                    <a:moveTo>
                      <a:pt x="23" y="464"/>
                    </a:moveTo>
                    <a:lnTo>
                      <a:pt x="0" y="317"/>
                    </a:lnTo>
                    <a:lnTo>
                      <a:pt x="32" y="173"/>
                    </a:lnTo>
                    <a:lnTo>
                      <a:pt x="72" y="108"/>
                    </a:lnTo>
                    <a:lnTo>
                      <a:pt x="125" y="49"/>
                    </a:lnTo>
                    <a:lnTo>
                      <a:pt x="188" y="8"/>
                    </a:lnTo>
                    <a:lnTo>
                      <a:pt x="255" y="0"/>
                    </a:lnTo>
                    <a:lnTo>
                      <a:pt x="270" y="25"/>
                    </a:lnTo>
                    <a:lnTo>
                      <a:pt x="237" y="78"/>
                    </a:lnTo>
                    <a:lnTo>
                      <a:pt x="156" y="198"/>
                    </a:lnTo>
                    <a:lnTo>
                      <a:pt x="148" y="454"/>
                    </a:lnTo>
                    <a:lnTo>
                      <a:pt x="85" y="485"/>
                    </a:lnTo>
                    <a:lnTo>
                      <a:pt x="23" y="464"/>
                    </a:lnTo>
                    <a:lnTo>
                      <a:pt x="23" y="4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8383320" y="2623680"/>
                <a:ext cx="68040" cy="12276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13" y="454"/>
                    </a:moveTo>
                    <a:lnTo>
                      <a:pt x="0" y="306"/>
                    </a:lnTo>
                    <a:lnTo>
                      <a:pt x="45" y="165"/>
                    </a:lnTo>
                    <a:lnTo>
                      <a:pt x="97" y="99"/>
                    </a:lnTo>
                    <a:lnTo>
                      <a:pt x="161" y="40"/>
                    </a:lnTo>
                    <a:lnTo>
                      <a:pt x="235" y="0"/>
                    </a:lnTo>
                    <a:lnTo>
                      <a:pt x="309" y="0"/>
                    </a:lnTo>
                    <a:lnTo>
                      <a:pt x="319" y="27"/>
                    </a:lnTo>
                    <a:lnTo>
                      <a:pt x="273" y="78"/>
                    </a:lnTo>
                    <a:lnTo>
                      <a:pt x="169" y="198"/>
                    </a:lnTo>
                    <a:lnTo>
                      <a:pt x="127" y="464"/>
                    </a:lnTo>
                    <a:lnTo>
                      <a:pt x="13" y="454"/>
                    </a:lnTo>
                    <a:lnTo>
                      <a:pt x="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8460360" y="2620080"/>
                <a:ext cx="81360" cy="126360"/>
              </a:xfrm>
              <a:custGeom>
                <a:avLst/>
                <a:gdLst/>
                <a:ahLst/>
                <a:rect l="l" t="t" r="r" b="b"/>
                <a:pathLst>
                  <a:path w="378" h="477">
                    <a:moveTo>
                      <a:pt x="0" y="460"/>
                    </a:moveTo>
                    <a:lnTo>
                      <a:pt x="7" y="308"/>
                    </a:lnTo>
                    <a:lnTo>
                      <a:pt x="66" y="161"/>
                    </a:lnTo>
                    <a:lnTo>
                      <a:pt x="127" y="97"/>
                    </a:lnTo>
                    <a:lnTo>
                      <a:pt x="205" y="36"/>
                    </a:lnTo>
                    <a:lnTo>
                      <a:pt x="289" y="0"/>
                    </a:lnTo>
                    <a:lnTo>
                      <a:pt x="365" y="5"/>
                    </a:lnTo>
                    <a:lnTo>
                      <a:pt x="378" y="43"/>
                    </a:lnTo>
                    <a:lnTo>
                      <a:pt x="323" y="95"/>
                    </a:lnTo>
                    <a:lnTo>
                      <a:pt x="190" y="211"/>
                    </a:lnTo>
                    <a:lnTo>
                      <a:pt x="108" y="477"/>
                    </a:lnTo>
                    <a:lnTo>
                      <a:pt x="0" y="460"/>
                    </a:lnTo>
                    <a:lnTo>
                      <a:pt x="0" y="4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8536680" y="2639520"/>
                <a:ext cx="93960" cy="132120"/>
              </a:xfrm>
              <a:custGeom>
                <a:avLst/>
                <a:gdLst/>
                <a:ahLst/>
                <a:rect l="l" t="t" r="r" b="b"/>
                <a:pathLst>
                  <a:path w="439" h="500">
                    <a:moveTo>
                      <a:pt x="0" y="467"/>
                    </a:moveTo>
                    <a:lnTo>
                      <a:pt x="16" y="306"/>
                    </a:lnTo>
                    <a:lnTo>
                      <a:pt x="44" y="228"/>
                    </a:lnTo>
                    <a:lnTo>
                      <a:pt x="92" y="161"/>
                    </a:lnTo>
                    <a:lnTo>
                      <a:pt x="166" y="95"/>
                    </a:lnTo>
                    <a:lnTo>
                      <a:pt x="255" y="34"/>
                    </a:lnTo>
                    <a:lnTo>
                      <a:pt x="348" y="0"/>
                    </a:lnTo>
                    <a:lnTo>
                      <a:pt x="430" y="13"/>
                    </a:lnTo>
                    <a:lnTo>
                      <a:pt x="439" y="55"/>
                    </a:lnTo>
                    <a:lnTo>
                      <a:pt x="371" y="104"/>
                    </a:lnTo>
                    <a:lnTo>
                      <a:pt x="278" y="160"/>
                    </a:lnTo>
                    <a:lnTo>
                      <a:pt x="207" y="220"/>
                    </a:lnTo>
                    <a:lnTo>
                      <a:pt x="99" y="492"/>
                    </a:lnTo>
                    <a:lnTo>
                      <a:pt x="42" y="500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602200" y="2670120"/>
                <a:ext cx="108000" cy="134640"/>
              </a:xfrm>
              <a:custGeom>
                <a:avLst/>
                <a:gdLst/>
                <a:ahLst/>
                <a:rect l="l" t="t" r="r" b="b"/>
                <a:pathLst>
                  <a:path w="504" h="509">
                    <a:moveTo>
                      <a:pt x="0" y="467"/>
                    </a:moveTo>
                    <a:lnTo>
                      <a:pt x="35" y="306"/>
                    </a:lnTo>
                    <a:lnTo>
                      <a:pt x="73" y="228"/>
                    </a:lnTo>
                    <a:lnTo>
                      <a:pt x="124" y="161"/>
                    </a:lnTo>
                    <a:lnTo>
                      <a:pt x="207" y="95"/>
                    </a:lnTo>
                    <a:lnTo>
                      <a:pt x="306" y="32"/>
                    </a:lnTo>
                    <a:lnTo>
                      <a:pt x="409" y="0"/>
                    </a:lnTo>
                    <a:lnTo>
                      <a:pt x="496" y="21"/>
                    </a:lnTo>
                    <a:lnTo>
                      <a:pt x="504" y="70"/>
                    </a:lnTo>
                    <a:lnTo>
                      <a:pt x="428" y="118"/>
                    </a:lnTo>
                    <a:lnTo>
                      <a:pt x="322" y="171"/>
                    </a:lnTo>
                    <a:lnTo>
                      <a:pt x="240" y="228"/>
                    </a:lnTo>
                    <a:lnTo>
                      <a:pt x="169" y="374"/>
                    </a:lnTo>
                    <a:lnTo>
                      <a:pt x="137" y="448"/>
                    </a:lnTo>
                    <a:lnTo>
                      <a:pt x="92" y="509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6629760" y="2620080"/>
              <a:ext cx="929880" cy="1115640"/>
              <a:chOff x="6629760" y="2620080"/>
              <a:chExt cx="929880" cy="1115640"/>
            </a:xfrm>
          </p:grpSpPr>
          <p:sp>
            <p:nvSpPr>
              <p:cNvPr id="306" name=""/>
              <p:cNvSpPr/>
              <p:nvPr/>
            </p:nvSpPr>
            <p:spPr>
              <a:xfrm flipH="1">
                <a:off x="6664680" y="2738880"/>
                <a:ext cx="873000" cy="974520"/>
              </a:xfrm>
              <a:custGeom>
                <a:avLst/>
                <a:gdLst/>
                <a:ahLst/>
                <a:rect l="l" t="t" r="r" b="b"/>
                <a:pathLst>
                  <a:path w="4164" h="3761">
                    <a:moveTo>
                      <a:pt x="0" y="1840"/>
                    </a:moveTo>
                    <a:lnTo>
                      <a:pt x="731" y="1861"/>
                    </a:lnTo>
                    <a:lnTo>
                      <a:pt x="1837" y="2435"/>
                    </a:lnTo>
                    <a:lnTo>
                      <a:pt x="1575" y="2790"/>
                    </a:lnTo>
                    <a:lnTo>
                      <a:pt x="1243" y="3260"/>
                    </a:lnTo>
                    <a:lnTo>
                      <a:pt x="1389" y="3573"/>
                    </a:lnTo>
                    <a:lnTo>
                      <a:pt x="1889" y="3761"/>
                    </a:lnTo>
                    <a:lnTo>
                      <a:pt x="2619" y="3720"/>
                    </a:lnTo>
                    <a:lnTo>
                      <a:pt x="3016" y="3376"/>
                    </a:lnTo>
                    <a:lnTo>
                      <a:pt x="3392" y="1724"/>
                    </a:lnTo>
                    <a:lnTo>
                      <a:pt x="4164" y="429"/>
                    </a:lnTo>
                    <a:lnTo>
                      <a:pt x="4048" y="272"/>
                    </a:lnTo>
                    <a:lnTo>
                      <a:pt x="3434" y="62"/>
                    </a:lnTo>
                    <a:lnTo>
                      <a:pt x="2495" y="0"/>
                    </a:lnTo>
                    <a:lnTo>
                      <a:pt x="1377" y="209"/>
                    </a:lnTo>
                    <a:lnTo>
                      <a:pt x="543" y="846"/>
                    </a:lnTo>
                    <a:lnTo>
                      <a:pt x="157" y="1442"/>
                    </a:lnTo>
                    <a:lnTo>
                      <a:pt x="0" y="1840"/>
                    </a:lnTo>
                    <a:lnTo>
                      <a:pt x="0" y="1840"/>
                    </a:lnTo>
                    <a:close/>
                  </a:path>
                </a:pathLst>
              </a:custGeom>
              <a:solidFill>
                <a:srgbClr val="fbd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6859440" y="2847240"/>
                <a:ext cx="391680" cy="208080"/>
              </a:xfrm>
              <a:custGeom>
                <a:avLst/>
                <a:gdLst/>
                <a:ahLst/>
                <a:rect l="l" t="t" r="r" b="b"/>
                <a:pathLst>
                  <a:path w="1866" h="804">
                    <a:moveTo>
                      <a:pt x="0" y="407"/>
                    </a:moveTo>
                    <a:lnTo>
                      <a:pt x="302" y="701"/>
                    </a:lnTo>
                    <a:lnTo>
                      <a:pt x="960" y="804"/>
                    </a:lnTo>
                    <a:lnTo>
                      <a:pt x="1617" y="637"/>
                    </a:lnTo>
                    <a:lnTo>
                      <a:pt x="1866" y="523"/>
                    </a:lnTo>
                    <a:lnTo>
                      <a:pt x="1648" y="220"/>
                    </a:lnTo>
                    <a:lnTo>
                      <a:pt x="1074" y="0"/>
                    </a:lnTo>
                    <a:lnTo>
                      <a:pt x="521" y="42"/>
                    </a:lnTo>
                    <a:lnTo>
                      <a:pt x="0" y="407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6993360" y="2880000"/>
                <a:ext cx="124560" cy="149040"/>
              </a:xfrm>
              <a:custGeom>
                <a:avLst/>
                <a:gdLst/>
                <a:ahLst/>
                <a:rect l="l" t="t" r="r" b="b"/>
                <a:pathLst>
                  <a:path w="595" h="576">
                    <a:moveTo>
                      <a:pt x="407" y="0"/>
                    </a:moveTo>
                    <a:lnTo>
                      <a:pt x="167" y="0"/>
                    </a:lnTo>
                    <a:lnTo>
                      <a:pt x="0" y="242"/>
                    </a:lnTo>
                    <a:lnTo>
                      <a:pt x="104" y="491"/>
                    </a:lnTo>
                    <a:lnTo>
                      <a:pt x="397" y="576"/>
                    </a:lnTo>
                    <a:lnTo>
                      <a:pt x="595" y="314"/>
                    </a:lnTo>
                    <a:lnTo>
                      <a:pt x="407" y="0"/>
                    </a:lnTo>
                    <a:lnTo>
                      <a:pt x="407" y="0"/>
                    </a:lnTo>
                    <a:close/>
                  </a:path>
                </a:pathLst>
              </a:custGeom>
              <a:solidFill>
                <a:srgbClr val="99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7128000" y="3556080"/>
                <a:ext cx="143640" cy="96120"/>
              </a:xfrm>
              <a:custGeom>
                <a:avLst/>
                <a:gdLst/>
                <a:ahLst/>
                <a:rect l="l" t="t" r="r" b="b"/>
                <a:pathLst>
                  <a:path w="686" h="373">
                    <a:moveTo>
                      <a:pt x="91" y="373"/>
                    </a:moveTo>
                    <a:lnTo>
                      <a:pt x="0" y="173"/>
                    </a:lnTo>
                    <a:lnTo>
                      <a:pt x="91" y="0"/>
                    </a:lnTo>
                    <a:lnTo>
                      <a:pt x="538" y="90"/>
                    </a:lnTo>
                    <a:lnTo>
                      <a:pt x="648" y="137"/>
                    </a:lnTo>
                    <a:lnTo>
                      <a:pt x="686" y="183"/>
                    </a:lnTo>
                    <a:lnTo>
                      <a:pt x="648" y="230"/>
                    </a:lnTo>
                    <a:lnTo>
                      <a:pt x="538" y="278"/>
                    </a:lnTo>
                    <a:lnTo>
                      <a:pt x="352" y="325"/>
                    </a:lnTo>
                    <a:lnTo>
                      <a:pt x="91" y="373"/>
                    </a:lnTo>
                    <a:lnTo>
                      <a:pt x="91" y="373"/>
                    </a:lnTo>
                    <a:close/>
                  </a:path>
                </a:pathLst>
              </a:custGeom>
              <a:solidFill>
                <a:srgbClr val="d42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7034040" y="3101760"/>
                <a:ext cx="525240" cy="280800"/>
              </a:xfrm>
              <a:custGeom>
                <a:avLst/>
                <a:gdLst/>
                <a:ahLst/>
                <a:rect l="l" t="t" r="r" b="b"/>
                <a:pathLst>
                  <a:path w="2505" h="1083">
                    <a:moveTo>
                      <a:pt x="67" y="604"/>
                    </a:moveTo>
                    <a:lnTo>
                      <a:pt x="399" y="587"/>
                    </a:lnTo>
                    <a:lnTo>
                      <a:pt x="844" y="612"/>
                    </a:lnTo>
                    <a:lnTo>
                      <a:pt x="1087" y="713"/>
                    </a:lnTo>
                    <a:lnTo>
                      <a:pt x="1224" y="787"/>
                    </a:lnTo>
                    <a:lnTo>
                      <a:pt x="1361" y="866"/>
                    </a:lnTo>
                    <a:lnTo>
                      <a:pt x="1498" y="943"/>
                    </a:lnTo>
                    <a:lnTo>
                      <a:pt x="1627" y="1011"/>
                    </a:lnTo>
                    <a:lnTo>
                      <a:pt x="1743" y="1058"/>
                    </a:lnTo>
                    <a:lnTo>
                      <a:pt x="1844" y="1083"/>
                    </a:lnTo>
                    <a:lnTo>
                      <a:pt x="2100" y="1055"/>
                    </a:lnTo>
                    <a:lnTo>
                      <a:pt x="2311" y="918"/>
                    </a:lnTo>
                    <a:lnTo>
                      <a:pt x="2452" y="707"/>
                    </a:lnTo>
                    <a:lnTo>
                      <a:pt x="2505" y="454"/>
                    </a:lnTo>
                    <a:lnTo>
                      <a:pt x="2469" y="245"/>
                    </a:lnTo>
                    <a:lnTo>
                      <a:pt x="2425" y="161"/>
                    </a:lnTo>
                    <a:lnTo>
                      <a:pt x="2366" y="95"/>
                    </a:lnTo>
                    <a:lnTo>
                      <a:pt x="2294" y="42"/>
                    </a:lnTo>
                    <a:lnTo>
                      <a:pt x="2209" y="9"/>
                    </a:lnTo>
                    <a:lnTo>
                      <a:pt x="1999" y="0"/>
                    </a:lnTo>
                    <a:lnTo>
                      <a:pt x="1836" y="66"/>
                    </a:lnTo>
                    <a:lnTo>
                      <a:pt x="1718" y="203"/>
                    </a:lnTo>
                    <a:lnTo>
                      <a:pt x="1648" y="367"/>
                    </a:lnTo>
                    <a:lnTo>
                      <a:pt x="1629" y="513"/>
                    </a:lnTo>
                    <a:lnTo>
                      <a:pt x="1648" y="574"/>
                    </a:lnTo>
                    <a:lnTo>
                      <a:pt x="1688" y="616"/>
                    </a:lnTo>
                    <a:lnTo>
                      <a:pt x="1806" y="642"/>
                    </a:lnTo>
                    <a:lnTo>
                      <a:pt x="1923" y="595"/>
                    </a:lnTo>
                    <a:lnTo>
                      <a:pt x="1984" y="479"/>
                    </a:lnTo>
                    <a:lnTo>
                      <a:pt x="1969" y="370"/>
                    </a:lnTo>
                    <a:lnTo>
                      <a:pt x="1929" y="308"/>
                    </a:lnTo>
                    <a:lnTo>
                      <a:pt x="1876" y="222"/>
                    </a:lnTo>
                    <a:lnTo>
                      <a:pt x="1895" y="171"/>
                    </a:lnTo>
                    <a:lnTo>
                      <a:pt x="1937" y="133"/>
                    </a:lnTo>
                    <a:lnTo>
                      <a:pt x="2041" y="99"/>
                    </a:lnTo>
                    <a:lnTo>
                      <a:pt x="2157" y="129"/>
                    </a:lnTo>
                    <a:lnTo>
                      <a:pt x="2248" y="205"/>
                    </a:lnTo>
                    <a:lnTo>
                      <a:pt x="2332" y="429"/>
                    </a:lnTo>
                    <a:lnTo>
                      <a:pt x="2311" y="572"/>
                    </a:lnTo>
                    <a:lnTo>
                      <a:pt x="2254" y="709"/>
                    </a:lnTo>
                    <a:lnTo>
                      <a:pt x="2212" y="768"/>
                    </a:lnTo>
                    <a:lnTo>
                      <a:pt x="2167" y="819"/>
                    </a:lnTo>
                    <a:lnTo>
                      <a:pt x="2115" y="855"/>
                    </a:lnTo>
                    <a:lnTo>
                      <a:pt x="2058" y="876"/>
                    </a:lnTo>
                    <a:lnTo>
                      <a:pt x="1800" y="853"/>
                    </a:lnTo>
                    <a:lnTo>
                      <a:pt x="1678" y="798"/>
                    </a:lnTo>
                    <a:lnTo>
                      <a:pt x="1562" y="728"/>
                    </a:lnTo>
                    <a:lnTo>
                      <a:pt x="1450" y="650"/>
                    </a:lnTo>
                    <a:lnTo>
                      <a:pt x="1342" y="572"/>
                    </a:lnTo>
                    <a:lnTo>
                      <a:pt x="1239" y="503"/>
                    </a:lnTo>
                    <a:lnTo>
                      <a:pt x="1140" y="454"/>
                    </a:lnTo>
                    <a:lnTo>
                      <a:pt x="939" y="393"/>
                    </a:lnTo>
                    <a:lnTo>
                      <a:pt x="713" y="349"/>
                    </a:lnTo>
                    <a:lnTo>
                      <a:pt x="247" y="338"/>
                    </a:lnTo>
                    <a:lnTo>
                      <a:pt x="131" y="387"/>
                    </a:lnTo>
                    <a:lnTo>
                      <a:pt x="0" y="551"/>
                    </a:lnTo>
                    <a:lnTo>
                      <a:pt x="67" y="604"/>
                    </a:lnTo>
                    <a:lnTo>
                      <a:pt x="67" y="6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6649560" y="2725560"/>
                <a:ext cx="909720" cy="1010160"/>
              </a:xfrm>
              <a:custGeom>
                <a:avLst/>
                <a:gdLst/>
                <a:ahLst/>
                <a:rect l="l" t="t" r="r" b="b"/>
                <a:pathLst>
                  <a:path w="4339" h="3901">
                    <a:moveTo>
                      <a:pt x="247" y="1892"/>
                    </a:moveTo>
                    <a:lnTo>
                      <a:pt x="321" y="1671"/>
                    </a:lnTo>
                    <a:lnTo>
                      <a:pt x="371" y="1550"/>
                    </a:lnTo>
                    <a:lnTo>
                      <a:pt x="428" y="1424"/>
                    </a:lnTo>
                    <a:lnTo>
                      <a:pt x="496" y="1295"/>
                    </a:lnTo>
                    <a:lnTo>
                      <a:pt x="578" y="1166"/>
                    </a:lnTo>
                    <a:lnTo>
                      <a:pt x="673" y="1035"/>
                    </a:lnTo>
                    <a:lnTo>
                      <a:pt x="785" y="907"/>
                    </a:lnTo>
                    <a:lnTo>
                      <a:pt x="914" y="784"/>
                    </a:lnTo>
                    <a:lnTo>
                      <a:pt x="1062" y="666"/>
                    </a:lnTo>
                    <a:lnTo>
                      <a:pt x="1144" y="609"/>
                    </a:lnTo>
                    <a:lnTo>
                      <a:pt x="1232" y="554"/>
                    </a:lnTo>
                    <a:lnTo>
                      <a:pt x="1325" y="502"/>
                    </a:lnTo>
                    <a:lnTo>
                      <a:pt x="1422" y="453"/>
                    </a:lnTo>
                    <a:lnTo>
                      <a:pt x="1526" y="407"/>
                    </a:lnTo>
                    <a:lnTo>
                      <a:pt x="1636" y="364"/>
                    </a:lnTo>
                    <a:lnTo>
                      <a:pt x="1752" y="324"/>
                    </a:lnTo>
                    <a:lnTo>
                      <a:pt x="1876" y="286"/>
                    </a:lnTo>
                    <a:lnTo>
                      <a:pt x="2144" y="223"/>
                    </a:lnTo>
                    <a:lnTo>
                      <a:pt x="2439" y="177"/>
                    </a:lnTo>
                    <a:lnTo>
                      <a:pt x="2866" y="153"/>
                    </a:lnTo>
                    <a:lnTo>
                      <a:pt x="3336" y="183"/>
                    </a:lnTo>
                    <a:lnTo>
                      <a:pt x="3792" y="284"/>
                    </a:lnTo>
                    <a:lnTo>
                      <a:pt x="3999" y="364"/>
                    </a:lnTo>
                    <a:lnTo>
                      <a:pt x="4183" y="468"/>
                    </a:lnTo>
                    <a:lnTo>
                      <a:pt x="4172" y="519"/>
                    </a:lnTo>
                    <a:lnTo>
                      <a:pt x="4103" y="633"/>
                    </a:lnTo>
                    <a:lnTo>
                      <a:pt x="4054" y="709"/>
                    </a:lnTo>
                    <a:lnTo>
                      <a:pt x="3997" y="795"/>
                    </a:lnTo>
                    <a:lnTo>
                      <a:pt x="3932" y="890"/>
                    </a:lnTo>
                    <a:lnTo>
                      <a:pt x="3864" y="991"/>
                    </a:lnTo>
                    <a:lnTo>
                      <a:pt x="3792" y="1097"/>
                    </a:lnTo>
                    <a:lnTo>
                      <a:pt x="3718" y="1206"/>
                    </a:lnTo>
                    <a:lnTo>
                      <a:pt x="3645" y="1318"/>
                    </a:lnTo>
                    <a:lnTo>
                      <a:pt x="3577" y="1426"/>
                    </a:lnTo>
                    <a:lnTo>
                      <a:pt x="3512" y="1534"/>
                    </a:lnTo>
                    <a:lnTo>
                      <a:pt x="3453" y="1637"/>
                    </a:lnTo>
                    <a:lnTo>
                      <a:pt x="3364" y="1825"/>
                    </a:lnTo>
                    <a:lnTo>
                      <a:pt x="3250" y="2186"/>
                    </a:lnTo>
                    <a:lnTo>
                      <a:pt x="3159" y="2572"/>
                    </a:lnTo>
                    <a:lnTo>
                      <a:pt x="3077" y="2964"/>
                    </a:lnTo>
                    <a:lnTo>
                      <a:pt x="2992" y="3340"/>
                    </a:lnTo>
                    <a:lnTo>
                      <a:pt x="2965" y="3405"/>
                    </a:lnTo>
                    <a:lnTo>
                      <a:pt x="2916" y="3485"/>
                    </a:lnTo>
                    <a:lnTo>
                      <a:pt x="2857" y="3559"/>
                    </a:lnTo>
                    <a:lnTo>
                      <a:pt x="2802" y="3604"/>
                    </a:lnTo>
                    <a:lnTo>
                      <a:pt x="2708" y="3652"/>
                    </a:lnTo>
                    <a:lnTo>
                      <a:pt x="2591" y="3696"/>
                    </a:lnTo>
                    <a:lnTo>
                      <a:pt x="2372" y="3738"/>
                    </a:lnTo>
                    <a:lnTo>
                      <a:pt x="1847" y="3690"/>
                    </a:lnTo>
                    <a:lnTo>
                      <a:pt x="1635" y="3604"/>
                    </a:lnTo>
                    <a:lnTo>
                      <a:pt x="1521" y="3439"/>
                    </a:lnTo>
                    <a:lnTo>
                      <a:pt x="1524" y="3253"/>
                    </a:lnTo>
                    <a:lnTo>
                      <a:pt x="1559" y="3158"/>
                    </a:lnTo>
                    <a:lnTo>
                      <a:pt x="1608" y="3063"/>
                    </a:lnTo>
                    <a:lnTo>
                      <a:pt x="1674" y="2970"/>
                    </a:lnTo>
                    <a:lnTo>
                      <a:pt x="1749" y="2880"/>
                    </a:lnTo>
                    <a:lnTo>
                      <a:pt x="1834" y="2797"/>
                    </a:lnTo>
                    <a:lnTo>
                      <a:pt x="1925" y="2719"/>
                    </a:lnTo>
                    <a:lnTo>
                      <a:pt x="2032" y="2631"/>
                    </a:lnTo>
                    <a:lnTo>
                      <a:pt x="2155" y="2521"/>
                    </a:lnTo>
                    <a:lnTo>
                      <a:pt x="2285" y="2390"/>
                    </a:lnTo>
                    <a:lnTo>
                      <a:pt x="2406" y="2238"/>
                    </a:lnTo>
                    <a:lnTo>
                      <a:pt x="1827" y="2479"/>
                    </a:lnTo>
                    <a:lnTo>
                      <a:pt x="1800" y="2595"/>
                    </a:lnTo>
                    <a:lnTo>
                      <a:pt x="1739" y="2715"/>
                    </a:lnTo>
                    <a:lnTo>
                      <a:pt x="1654" y="2838"/>
                    </a:lnTo>
                    <a:lnTo>
                      <a:pt x="1555" y="2960"/>
                    </a:lnTo>
                    <a:lnTo>
                      <a:pt x="1458" y="3082"/>
                    </a:lnTo>
                    <a:lnTo>
                      <a:pt x="1372" y="3203"/>
                    </a:lnTo>
                    <a:lnTo>
                      <a:pt x="1291" y="3430"/>
                    </a:lnTo>
                    <a:lnTo>
                      <a:pt x="1304" y="3502"/>
                    </a:lnTo>
                    <a:lnTo>
                      <a:pt x="1340" y="3570"/>
                    </a:lnTo>
                    <a:lnTo>
                      <a:pt x="1393" y="3637"/>
                    </a:lnTo>
                    <a:lnTo>
                      <a:pt x="1460" y="3696"/>
                    </a:lnTo>
                    <a:lnTo>
                      <a:pt x="1536" y="3749"/>
                    </a:lnTo>
                    <a:lnTo>
                      <a:pt x="1610" y="3793"/>
                    </a:lnTo>
                    <a:lnTo>
                      <a:pt x="1743" y="3844"/>
                    </a:lnTo>
                    <a:lnTo>
                      <a:pt x="1971" y="3880"/>
                    </a:lnTo>
                    <a:lnTo>
                      <a:pt x="2218" y="3901"/>
                    </a:lnTo>
                    <a:lnTo>
                      <a:pt x="2686" y="3869"/>
                    </a:lnTo>
                    <a:lnTo>
                      <a:pt x="2864" y="3802"/>
                    </a:lnTo>
                    <a:lnTo>
                      <a:pt x="3028" y="3675"/>
                    </a:lnTo>
                    <a:lnTo>
                      <a:pt x="3166" y="3511"/>
                    </a:lnTo>
                    <a:lnTo>
                      <a:pt x="3265" y="3331"/>
                    </a:lnTo>
                    <a:lnTo>
                      <a:pt x="3374" y="2989"/>
                    </a:lnTo>
                    <a:lnTo>
                      <a:pt x="3453" y="2601"/>
                    </a:lnTo>
                    <a:lnTo>
                      <a:pt x="3526" y="2209"/>
                    </a:lnTo>
                    <a:lnTo>
                      <a:pt x="3567" y="2025"/>
                    </a:lnTo>
                    <a:lnTo>
                      <a:pt x="3611" y="1858"/>
                    </a:lnTo>
                    <a:lnTo>
                      <a:pt x="3676" y="1690"/>
                    </a:lnTo>
                    <a:lnTo>
                      <a:pt x="3759" y="1523"/>
                    </a:lnTo>
                    <a:lnTo>
                      <a:pt x="3858" y="1354"/>
                    </a:lnTo>
                    <a:lnTo>
                      <a:pt x="3963" y="1187"/>
                    </a:lnTo>
                    <a:lnTo>
                      <a:pt x="4016" y="1101"/>
                    </a:lnTo>
                    <a:lnTo>
                      <a:pt x="4071" y="1017"/>
                    </a:lnTo>
                    <a:lnTo>
                      <a:pt x="4172" y="848"/>
                    </a:lnTo>
                    <a:lnTo>
                      <a:pt x="4263" y="679"/>
                    </a:lnTo>
                    <a:lnTo>
                      <a:pt x="4339" y="510"/>
                    </a:lnTo>
                    <a:lnTo>
                      <a:pt x="4316" y="381"/>
                    </a:lnTo>
                    <a:lnTo>
                      <a:pt x="4273" y="261"/>
                    </a:lnTo>
                    <a:lnTo>
                      <a:pt x="4153" y="219"/>
                    </a:lnTo>
                    <a:lnTo>
                      <a:pt x="4033" y="183"/>
                    </a:lnTo>
                    <a:lnTo>
                      <a:pt x="3792" y="118"/>
                    </a:lnTo>
                    <a:lnTo>
                      <a:pt x="3547" y="69"/>
                    </a:lnTo>
                    <a:lnTo>
                      <a:pt x="3301" y="35"/>
                    </a:lnTo>
                    <a:lnTo>
                      <a:pt x="2813" y="0"/>
                    </a:lnTo>
                    <a:lnTo>
                      <a:pt x="2332" y="12"/>
                    </a:lnTo>
                    <a:lnTo>
                      <a:pt x="1865" y="86"/>
                    </a:lnTo>
                    <a:lnTo>
                      <a:pt x="1644" y="153"/>
                    </a:lnTo>
                    <a:lnTo>
                      <a:pt x="1431" y="236"/>
                    </a:lnTo>
                    <a:lnTo>
                      <a:pt x="1329" y="284"/>
                    </a:lnTo>
                    <a:lnTo>
                      <a:pt x="1228" y="335"/>
                    </a:lnTo>
                    <a:lnTo>
                      <a:pt x="1131" y="390"/>
                    </a:lnTo>
                    <a:lnTo>
                      <a:pt x="1036" y="447"/>
                    </a:lnTo>
                    <a:lnTo>
                      <a:pt x="945" y="510"/>
                    </a:lnTo>
                    <a:lnTo>
                      <a:pt x="857" y="575"/>
                    </a:lnTo>
                    <a:lnTo>
                      <a:pt x="692" y="711"/>
                    </a:lnTo>
                    <a:lnTo>
                      <a:pt x="540" y="858"/>
                    </a:lnTo>
                    <a:lnTo>
                      <a:pt x="405" y="1012"/>
                    </a:lnTo>
                    <a:lnTo>
                      <a:pt x="344" y="1092"/>
                    </a:lnTo>
                    <a:lnTo>
                      <a:pt x="287" y="1171"/>
                    </a:lnTo>
                    <a:lnTo>
                      <a:pt x="188" y="1337"/>
                    </a:lnTo>
                    <a:lnTo>
                      <a:pt x="49" y="1673"/>
                    </a:lnTo>
                    <a:lnTo>
                      <a:pt x="0" y="2008"/>
                    </a:lnTo>
                    <a:lnTo>
                      <a:pt x="247" y="1892"/>
                    </a:lnTo>
                    <a:lnTo>
                      <a:pt x="247" y="18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6814800" y="2826000"/>
                <a:ext cx="460800" cy="249120"/>
              </a:xfrm>
              <a:custGeom>
                <a:avLst/>
                <a:gdLst/>
                <a:ahLst/>
                <a:rect l="l" t="t" r="r" b="b"/>
                <a:pathLst>
                  <a:path w="2199" h="962">
                    <a:moveTo>
                      <a:pt x="1844" y="692"/>
                    </a:moveTo>
                    <a:lnTo>
                      <a:pt x="1749" y="742"/>
                    </a:lnTo>
                    <a:lnTo>
                      <a:pt x="1648" y="791"/>
                    </a:lnTo>
                    <a:lnTo>
                      <a:pt x="1540" y="837"/>
                    </a:lnTo>
                    <a:lnTo>
                      <a:pt x="1426" y="877"/>
                    </a:lnTo>
                    <a:lnTo>
                      <a:pt x="1184" y="937"/>
                    </a:lnTo>
                    <a:lnTo>
                      <a:pt x="935" y="962"/>
                    </a:lnTo>
                    <a:lnTo>
                      <a:pt x="682" y="941"/>
                    </a:lnTo>
                    <a:lnTo>
                      <a:pt x="437" y="859"/>
                    </a:lnTo>
                    <a:lnTo>
                      <a:pt x="319" y="793"/>
                    </a:lnTo>
                    <a:lnTo>
                      <a:pt x="207" y="709"/>
                    </a:lnTo>
                    <a:lnTo>
                      <a:pt x="101" y="603"/>
                    </a:lnTo>
                    <a:lnTo>
                      <a:pt x="0" y="477"/>
                    </a:lnTo>
                    <a:lnTo>
                      <a:pt x="53" y="411"/>
                    </a:lnTo>
                    <a:lnTo>
                      <a:pt x="108" y="350"/>
                    </a:lnTo>
                    <a:lnTo>
                      <a:pt x="224" y="244"/>
                    </a:lnTo>
                    <a:lnTo>
                      <a:pt x="285" y="198"/>
                    </a:lnTo>
                    <a:lnTo>
                      <a:pt x="350" y="158"/>
                    </a:lnTo>
                    <a:lnTo>
                      <a:pt x="481" y="91"/>
                    </a:lnTo>
                    <a:lnTo>
                      <a:pt x="620" y="44"/>
                    </a:lnTo>
                    <a:lnTo>
                      <a:pt x="762" y="14"/>
                    </a:lnTo>
                    <a:lnTo>
                      <a:pt x="1057" y="0"/>
                    </a:lnTo>
                    <a:lnTo>
                      <a:pt x="1357" y="42"/>
                    </a:lnTo>
                    <a:lnTo>
                      <a:pt x="1654" y="135"/>
                    </a:lnTo>
                    <a:lnTo>
                      <a:pt x="1798" y="198"/>
                    </a:lnTo>
                    <a:lnTo>
                      <a:pt x="1937" y="268"/>
                    </a:lnTo>
                    <a:lnTo>
                      <a:pt x="2072" y="348"/>
                    </a:lnTo>
                    <a:lnTo>
                      <a:pt x="2199" y="436"/>
                    </a:lnTo>
                    <a:lnTo>
                      <a:pt x="2093" y="538"/>
                    </a:lnTo>
                    <a:lnTo>
                      <a:pt x="1992" y="633"/>
                    </a:lnTo>
                    <a:lnTo>
                      <a:pt x="1901" y="559"/>
                    </a:lnTo>
                    <a:lnTo>
                      <a:pt x="1804" y="489"/>
                    </a:lnTo>
                    <a:lnTo>
                      <a:pt x="1701" y="422"/>
                    </a:lnTo>
                    <a:lnTo>
                      <a:pt x="1593" y="360"/>
                    </a:lnTo>
                    <a:lnTo>
                      <a:pt x="1483" y="302"/>
                    </a:lnTo>
                    <a:lnTo>
                      <a:pt x="1371" y="255"/>
                    </a:lnTo>
                    <a:lnTo>
                      <a:pt x="1255" y="215"/>
                    </a:lnTo>
                    <a:lnTo>
                      <a:pt x="1139" y="187"/>
                    </a:lnTo>
                    <a:lnTo>
                      <a:pt x="905" y="166"/>
                    </a:lnTo>
                    <a:lnTo>
                      <a:pt x="677" y="200"/>
                    </a:lnTo>
                    <a:lnTo>
                      <a:pt x="462" y="304"/>
                    </a:lnTo>
                    <a:lnTo>
                      <a:pt x="264" y="485"/>
                    </a:lnTo>
                    <a:lnTo>
                      <a:pt x="318" y="563"/>
                    </a:lnTo>
                    <a:lnTo>
                      <a:pt x="384" y="628"/>
                    </a:lnTo>
                    <a:lnTo>
                      <a:pt x="464" y="677"/>
                    </a:lnTo>
                    <a:lnTo>
                      <a:pt x="555" y="717"/>
                    </a:lnTo>
                    <a:lnTo>
                      <a:pt x="760" y="764"/>
                    </a:lnTo>
                    <a:lnTo>
                      <a:pt x="990" y="778"/>
                    </a:lnTo>
                    <a:lnTo>
                      <a:pt x="1456" y="743"/>
                    </a:lnTo>
                    <a:lnTo>
                      <a:pt x="1844" y="692"/>
                    </a:lnTo>
                    <a:lnTo>
                      <a:pt x="1844" y="6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7036560" y="2923560"/>
                <a:ext cx="37800" cy="46800"/>
              </a:xfrm>
              <a:custGeom>
                <a:avLst/>
                <a:gdLst/>
                <a:ahLst/>
                <a:rect l="l" t="t" r="r" b="b"/>
                <a:pathLst>
                  <a:path w="181" h="182">
                    <a:moveTo>
                      <a:pt x="91" y="0"/>
                    </a:moveTo>
                    <a:lnTo>
                      <a:pt x="154" y="28"/>
                    </a:lnTo>
                    <a:lnTo>
                      <a:pt x="181" y="91"/>
                    </a:lnTo>
                    <a:lnTo>
                      <a:pt x="154" y="155"/>
                    </a:lnTo>
                    <a:lnTo>
                      <a:pt x="91" y="182"/>
                    </a:lnTo>
                    <a:lnTo>
                      <a:pt x="27" y="155"/>
                    </a:lnTo>
                    <a:lnTo>
                      <a:pt x="0" y="91"/>
                    </a:lnTo>
                    <a:lnTo>
                      <a:pt x="27" y="28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6981120" y="2855160"/>
                <a:ext cx="100440" cy="183960"/>
              </a:xfrm>
              <a:custGeom>
                <a:avLst/>
                <a:gdLst/>
                <a:ahLst/>
                <a:rect l="l" t="t" r="r" b="b"/>
                <a:pathLst>
                  <a:path w="479" h="711">
                    <a:moveTo>
                      <a:pt x="125" y="711"/>
                    </a:moveTo>
                    <a:lnTo>
                      <a:pt x="0" y="630"/>
                    </a:lnTo>
                    <a:lnTo>
                      <a:pt x="125" y="555"/>
                    </a:lnTo>
                    <a:lnTo>
                      <a:pt x="268" y="495"/>
                    </a:lnTo>
                    <a:lnTo>
                      <a:pt x="330" y="348"/>
                    </a:lnTo>
                    <a:lnTo>
                      <a:pt x="313" y="268"/>
                    </a:lnTo>
                    <a:lnTo>
                      <a:pt x="268" y="200"/>
                    </a:lnTo>
                    <a:lnTo>
                      <a:pt x="201" y="151"/>
                    </a:lnTo>
                    <a:lnTo>
                      <a:pt x="125" y="133"/>
                    </a:lnTo>
                    <a:lnTo>
                      <a:pt x="0" y="75"/>
                    </a:lnTo>
                    <a:lnTo>
                      <a:pt x="125" y="0"/>
                    </a:lnTo>
                    <a:lnTo>
                      <a:pt x="264" y="29"/>
                    </a:lnTo>
                    <a:lnTo>
                      <a:pt x="376" y="103"/>
                    </a:lnTo>
                    <a:lnTo>
                      <a:pt x="452" y="217"/>
                    </a:lnTo>
                    <a:lnTo>
                      <a:pt x="479" y="356"/>
                    </a:lnTo>
                    <a:lnTo>
                      <a:pt x="452" y="495"/>
                    </a:lnTo>
                    <a:lnTo>
                      <a:pt x="420" y="557"/>
                    </a:lnTo>
                    <a:lnTo>
                      <a:pt x="376" y="609"/>
                    </a:lnTo>
                    <a:lnTo>
                      <a:pt x="323" y="652"/>
                    </a:lnTo>
                    <a:lnTo>
                      <a:pt x="264" y="685"/>
                    </a:lnTo>
                    <a:lnTo>
                      <a:pt x="125" y="711"/>
                    </a:lnTo>
                    <a:lnTo>
                      <a:pt x="125" y="7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7029720" y="2855160"/>
                <a:ext cx="100800" cy="183960"/>
              </a:xfrm>
              <a:custGeom>
                <a:avLst/>
                <a:gdLst/>
                <a:ahLst/>
                <a:rect l="l" t="t" r="r" b="b"/>
                <a:pathLst>
                  <a:path w="481" h="711">
                    <a:moveTo>
                      <a:pt x="357" y="711"/>
                    </a:moveTo>
                    <a:lnTo>
                      <a:pt x="481" y="630"/>
                    </a:lnTo>
                    <a:lnTo>
                      <a:pt x="357" y="555"/>
                    </a:lnTo>
                    <a:lnTo>
                      <a:pt x="217" y="495"/>
                    </a:lnTo>
                    <a:lnTo>
                      <a:pt x="158" y="348"/>
                    </a:lnTo>
                    <a:lnTo>
                      <a:pt x="175" y="268"/>
                    </a:lnTo>
                    <a:lnTo>
                      <a:pt x="217" y="200"/>
                    </a:lnTo>
                    <a:lnTo>
                      <a:pt x="279" y="151"/>
                    </a:lnTo>
                    <a:lnTo>
                      <a:pt x="357" y="133"/>
                    </a:lnTo>
                    <a:lnTo>
                      <a:pt x="481" y="75"/>
                    </a:lnTo>
                    <a:lnTo>
                      <a:pt x="357" y="0"/>
                    </a:lnTo>
                    <a:lnTo>
                      <a:pt x="217" y="29"/>
                    </a:lnTo>
                    <a:lnTo>
                      <a:pt x="104" y="103"/>
                    </a:lnTo>
                    <a:lnTo>
                      <a:pt x="28" y="217"/>
                    </a:lnTo>
                    <a:lnTo>
                      <a:pt x="0" y="356"/>
                    </a:lnTo>
                    <a:lnTo>
                      <a:pt x="28" y="495"/>
                    </a:lnTo>
                    <a:lnTo>
                      <a:pt x="61" y="557"/>
                    </a:lnTo>
                    <a:lnTo>
                      <a:pt x="104" y="609"/>
                    </a:lnTo>
                    <a:lnTo>
                      <a:pt x="158" y="652"/>
                    </a:lnTo>
                    <a:lnTo>
                      <a:pt x="217" y="685"/>
                    </a:lnTo>
                    <a:lnTo>
                      <a:pt x="357" y="711"/>
                    </a:lnTo>
                    <a:lnTo>
                      <a:pt x="357" y="7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6775200" y="2831400"/>
                <a:ext cx="159120" cy="152280"/>
              </a:xfrm>
              <a:custGeom>
                <a:avLst/>
                <a:gdLst/>
                <a:ahLst/>
                <a:rect l="l" t="t" r="r" b="b"/>
                <a:pathLst>
                  <a:path w="760" h="588">
                    <a:moveTo>
                      <a:pt x="380" y="588"/>
                    </a:moveTo>
                    <a:lnTo>
                      <a:pt x="760" y="264"/>
                    </a:lnTo>
                    <a:lnTo>
                      <a:pt x="447" y="316"/>
                    </a:lnTo>
                    <a:lnTo>
                      <a:pt x="528" y="91"/>
                    </a:lnTo>
                    <a:lnTo>
                      <a:pt x="239" y="215"/>
                    </a:lnTo>
                    <a:lnTo>
                      <a:pt x="274" y="0"/>
                    </a:lnTo>
                    <a:lnTo>
                      <a:pt x="0" y="158"/>
                    </a:lnTo>
                    <a:lnTo>
                      <a:pt x="380" y="588"/>
                    </a:lnTo>
                    <a:lnTo>
                      <a:pt x="380" y="5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6969240" y="2623680"/>
                <a:ext cx="56520" cy="125280"/>
              </a:xfrm>
              <a:custGeom>
                <a:avLst/>
                <a:gdLst/>
                <a:ahLst/>
                <a:rect l="l" t="t" r="r" b="b"/>
                <a:pathLst>
                  <a:path w="270" h="485">
                    <a:moveTo>
                      <a:pt x="23" y="464"/>
                    </a:moveTo>
                    <a:lnTo>
                      <a:pt x="0" y="317"/>
                    </a:lnTo>
                    <a:lnTo>
                      <a:pt x="32" y="173"/>
                    </a:lnTo>
                    <a:lnTo>
                      <a:pt x="72" y="108"/>
                    </a:lnTo>
                    <a:lnTo>
                      <a:pt x="125" y="49"/>
                    </a:lnTo>
                    <a:lnTo>
                      <a:pt x="188" y="8"/>
                    </a:lnTo>
                    <a:lnTo>
                      <a:pt x="255" y="0"/>
                    </a:lnTo>
                    <a:lnTo>
                      <a:pt x="270" y="25"/>
                    </a:lnTo>
                    <a:lnTo>
                      <a:pt x="237" y="78"/>
                    </a:lnTo>
                    <a:lnTo>
                      <a:pt x="156" y="198"/>
                    </a:lnTo>
                    <a:lnTo>
                      <a:pt x="148" y="454"/>
                    </a:lnTo>
                    <a:lnTo>
                      <a:pt x="85" y="485"/>
                    </a:lnTo>
                    <a:lnTo>
                      <a:pt x="23" y="464"/>
                    </a:lnTo>
                    <a:lnTo>
                      <a:pt x="23" y="4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6882120" y="2623680"/>
                <a:ext cx="66600" cy="11988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13" y="454"/>
                    </a:moveTo>
                    <a:lnTo>
                      <a:pt x="0" y="306"/>
                    </a:lnTo>
                    <a:lnTo>
                      <a:pt x="45" y="165"/>
                    </a:lnTo>
                    <a:lnTo>
                      <a:pt x="97" y="99"/>
                    </a:lnTo>
                    <a:lnTo>
                      <a:pt x="161" y="40"/>
                    </a:lnTo>
                    <a:lnTo>
                      <a:pt x="235" y="0"/>
                    </a:lnTo>
                    <a:lnTo>
                      <a:pt x="309" y="0"/>
                    </a:lnTo>
                    <a:lnTo>
                      <a:pt x="319" y="27"/>
                    </a:lnTo>
                    <a:lnTo>
                      <a:pt x="273" y="78"/>
                    </a:lnTo>
                    <a:lnTo>
                      <a:pt x="169" y="198"/>
                    </a:lnTo>
                    <a:lnTo>
                      <a:pt x="127" y="464"/>
                    </a:lnTo>
                    <a:lnTo>
                      <a:pt x="13" y="454"/>
                    </a:lnTo>
                    <a:lnTo>
                      <a:pt x="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6793920" y="2620080"/>
                <a:ext cx="79560" cy="123840"/>
              </a:xfrm>
              <a:custGeom>
                <a:avLst/>
                <a:gdLst/>
                <a:ahLst/>
                <a:rect l="l" t="t" r="r" b="b"/>
                <a:pathLst>
                  <a:path w="378" h="477">
                    <a:moveTo>
                      <a:pt x="0" y="460"/>
                    </a:moveTo>
                    <a:lnTo>
                      <a:pt x="7" y="308"/>
                    </a:lnTo>
                    <a:lnTo>
                      <a:pt x="66" y="161"/>
                    </a:lnTo>
                    <a:lnTo>
                      <a:pt x="127" y="97"/>
                    </a:lnTo>
                    <a:lnTo>
                      <a:pt x="205" y="36"/>
                    </a:lnTo>
                    <a:lnTo>
                      <a:pt x="289" y="0"/>
                    </a:lnTo>
                    <a:lnTo>
                      <a:pt x="365" y="5"/>
                    </a:lnTo>
                    <a:lnTo>
                      <a:pt x="378" y="43"/>
                    </a:lnTo>
                    <a:lnTo>
                      <a:pt x="323" y="95"/>
                    </a:lnTo>
                    <a:lnTo>
                      <a:pt x="190" y="211"/>
                    </a:lnTo>
                    <a:lnTo>
                      <a:pt x="108" y="477"/>
                    </a:lnTo>
                    <a:lnTo>
                      <a:pt x="0" y="460"/>
                    </a:lnTo>
                    <a:lnTo>
                      <a:pt x="0" y="4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6707160" y="2639160"/>
                <a:ext cx="92160" cy="129600"/>
              </a:xfrm>
              <a:custGeom>
                <a:avLst/>
                <a:gdLst/>
                <a:ahLst/>
                <a:rect l="l" t="t" r="r" b="b"/>
                <a:pathLst>
                  <a:path w="439" h="500">
                    <a:moveTo>
                      <a:pt x="0" y="467"/>
                    </a:moveTo>
                    <a:lnTo>
                      <a:pt x="16" y="306"/>
                    </a:lnTo>
                    <a:lnTo>
                      <a:pt x="44" y="228"/>
                    </a:lnTo>
                    <a:lnTo>
                      <a:pt x="92" y="161"/>
                    </a:lnTo>
                    <a:lnTo>
                      <a:pt x="166" y="95"/>
                    </a:lnTo>
                    <a:lnTo>
                      <a:pt x="255" y="34"/>
                    </a:lnTo>
                    <a:lnTo>
                      <a:pt x="348" y="0"/>
                    </a:lnTo>
                    <a:lnTo>
                      <a:pt x="430" y="13"/>
                    </a:lnTo>
                    <a:lnTo>
                      <a:pt x="439" y="55"/>
                    </a:lnTo>
                    <a:lnTo>
                      <a:pt x="371" y="104"/>
                    </a:lnTo>
                    <a:lnTo>
                      <a:pt x="278" y="160"/>
                    </a:lnTo>
                    <a:lnTo>
                      <a:pt x="207" y="220"/>
                    </a:lnTo>
                    <a:lnTo>
                      <a:pt x="99" y="492"/>
                    </a:lnTo>
                    <a:lnTo>
                      <a:pt x="42" y="500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6629400" y="2669040"/>
                <a:ext cx="105480" cy="131760"/>
              </a:xfrm>
              <a:custGeom>
                <a:avLst/>
                <a:gdLst/>
                <a:ahLst/>
                <a:rect l="l" t="t" r="r" b="b"/>
                <a:pathLst>
                  <a:path w="504" h="509">
                    <a:moveTo>
                      <a:pt x="0" y="467"/>
                    </a:moveTo>
                    <a:lnTo>
                      <a:pt x="35" y="306"/>
                    </a:lnTo>
                    <a:lnTo>
                      <a:pt x="73" y="228"/>
                    </a:lnTo>
                    <a:lnTo>
                      <a:pt x="124" y="161"/>
                    </a:lnTo>
                    <a:lnTo>
                      <a:pt x="207" y="95"/>
                    </a:lnTo>
                    <a:lnTo>
                      <a:pt x="306" y="32"/>
                    </a:lnTo>
                    <a:lnTo>
                      <a:pt x="409" y="0"/>
                    </a:lnTo>
                    <a:lnTo>
                      <a:pt x="496" y="21"/>
                    </a:lnTo>
                    <a:lnTo>
                      <a:pt x="504" y="70"/>
                    </a:lnTo>
                    <a:lnTo>
                      <a:pt x="428" y="118"/>
                    </a:lnTo>
                    <a:lnTo>
                      <a:pt x="322" y="171"/>
                    </a:lnTo>
                    <a:lnTo>
                      <a:pt x="240" y="228"/>
                    </a:lnTo>
                    <a:lnTo>
                      <a:pt x="169" y="374"/>
                    </a:lnTo>
                    <a:lnTo>
                      <a:pt x="137" y="448"/>
                    </a:lnTo>
                    <a:lnTo>
                      <a:pt x="92" y="509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7759080" y="1295280"/>
              <a:ext cx="951120" cy="1140120"/>
              <a:chOff x="7759080" y="1295280"/>
              <a:chExt cx="951120" cy="1140120"/>
            </a:xfrm>
          </p:grpSpPr>
          <p:sp>
            <p:nvSpPr>
              <p:cNvPr id="323" name=""/>
              <p:cNvSpPr/>
              <p:nvPr/>
            </p:nvSpPr>
            <p:spPr>
              <a:xfrm>
                <a:off x="7781040" y="1416960"/>
                <a:ext cx="892440" cy="995760"/>
              </a:xfrm>
              <a:custGeom>
                <a:avLst/>
                <a:gdLst/>
                <a:ahLst/>
                <a:rect l="l" t="t" r="r" b="b"/>
                <a:pathLst>
                  <a:path w="4164" h="3761">
                    <a:moveTo>
                      <a:pt x="0" y="1840"/>
                    </a:moveTo>
                    <a:lnTo>
                      <a:pt x="731" y="1861"/>
                    </a:lnTo>
                    <a:lnTo>
                      <a:pt x="1837" y="2435"/>
                    </a:lnTo>
                    <a:lnTo>
                      <a:pt x="1575" y="2790"/>
                    </a:lnTo>
                    <a:lnTo>
                      <a:pt x="1243" y="3260"/>
                    </a:lnTo>
                    <a:lnTo>
                      <a:pt x="1389" y="3573"/>
                    </a:lnTo>
                    <a:lnTo>
                      <a:pt x="1889" y="3761"/>
                    </a:lnTo>
                    <a:lnTo>
                      <a:pt x="2619" y="3720"/>
                    </a:lnTo>
                    <a:lnTo>
                      <a:pt x="3016" y="3376"/>
                    </a:lnTo>
                    <a:lnTo>
                      <a:pt x="3392" y="1724"/>
                    </a:lnTo>
                    <a:lnTo>
                      <a:pt x="4164" y="429"/>
                    </a:lnTo>
                    <a:lnTo>
                      <a:pt x="4048" y="272"/>
                    </a:lnTo>
                    <a:lnTo>
                      <a:pt x="3434" y="62"/>
                    </a:lnTo>
                    <a:lnTo>
                      <a:pt x="2495" y="0"/>
                    </a:lnTo>
                    <a:lnTo>
                      <a:pt x="1377" y="209"/>
                    </a:lnTo>
                    <a:lnTo>
                      <a:pt x="543" y="846"/>
                    </a:lnTo>
                    <a:lnTo>
                      <a:pt x="157" y="1442"/>
                    </a:lnTo>
                    <a:lnTo>
                      <a:pt x="0" y="1840"/>
                    </a:lnTo>
                    <a:lnTo>
                      <a:pt x="0" y="1840"/>
                    </a:lnTo>
                    <a:close/>
                  </a:path>
                </a:pathLst>
              </a:custGeom>
              <a:solidFill>
                <a:srgbClr val="fbd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074440" y="1527480"/>
                <a:ext cx="400320" cy="212760"/>
              </a:xfrm>
              <a:custGeom>
                <a:avLst/>
                <a:gdLst/>
                <a:ahLst/>
                <a:rect l="l" t="t" r="r" b="b"/>
                <a:pathLst>
                  <a:path w="1866" h="804">
                    <a:moveTo>
                      <a:pt x="0" y="407"/>
                    </a:moveTo>
                    <a:lnTo>
                      <a:pt x="302" y="701"/>
                    </a:lnTo>
                    <a:lnTo>
                      <a:pt x="960" y="804"/>
                    </a:lnTo>
                    <a:lnTo>
                      <a:pt x="1617" y="637"/>
                    </a:lnTo>
                    <a:lnTo>
                      <a:pt x="1866" y="523"/>
                    </a:lnTo>
                    <a:lnTo>
                      <a:pt x="1648" y="220"/>
                    </a:lnTo>
                    <a:lnTo>
                      <a:pt x="1074" y="0"/>
                    </a:lnTo>
                    <a:lnTo>
                      <a:pt x="521" y="42"/>
                    </a:lnTo>
                    <a:lnTo>
                      <a:pt x="0" y="407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210880" y="1560960"/>
                <a:ext cx="127080" cy="152280"/>
              </a:xfrm>
              <a:custGeom>
                <a:avLst/>
                <a:gdLst/>
                <a:ahLst/>
                <a:rect l="l" t="t" r="r" b="b"/>
                <a:pathLst>
                  <a:path w="595" h="576">
                    <a:moveTo>
                      <a:pt x="407" y="0"/>
                    </a:moveTo>
                    <a:lnTo>
                      <a:pt x="167" y="0"/>
                    </a:lnTo>
                    <a:lnTo>
                      <a:pt x="0" y="242"/>
                    </a:lnTo>
                    <a:lnTo>
                      <a:pt x="104" y="491"/>
                    </a:lnTo>
                    <a:lnTo>
                      <a:pt x="397" y="576"/>
                    </a:lnTo>
                    <a:lnTo>
                      <a:pt x="595" y="314"/>
                    </a:lnTo>
                    <a:lnTo>
                      <a:pt x="407" y="0"/>
                    </a:lnTo>
                    <a:lnTo>
                      <a:pt x="407" y="0"/>
                    </a:lnTo>
                    <a:close/>
                  </a:path>
                </a:pathLst>
              </a:custGeom>
              <a:solidFill>
                <a:srgbClr val="99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052840" y="2251800"/>
                <a:ext cx="146880" cy="98280"/>
              </a:xfrm>
              <a:custGeom>
                <a:avLst/>
                <a:gdLst/>
                <a:ahLst/>
                <a:rect l="l" t="t" r="r" b="b"/>
                <a:pathLst>
                  <a:path w="686" h="373">
                    <a:moveTo>
                      <a:pt x="91" y="373"/>
                    </a:moveTo>
                    <a:lnTo>
                      <a:pt x="0" y="173"/>
                    </a:lnTo>
                    <a:lnTo>
                      <a:pt x="91" y="0"/>
                    </a:lnTo>
                    <a:lnTo>
                      <a:pt x="538" y="90"/>
                    </a:lnTo>
                    <a:lnTo>
                      <a:pt x="648" y="137"/>
                    </a:lnTo>
                    <a:lnTo>
                      <a:pt x="686" y="183"/>
                    </a:lnTo>
                    <a:lnTo>
                      <a:pt x="648" y="230"/>
                    </a:lnTo>
                    <a:lnTo>
                      <a:pt x="538" y="278"/>
                    </a:lnTo>
                    <a:lnTo>
                      <a:pt x="352" y="325"/>
                    </a:lnTo>
                    <a:lnTo>
                      <a:pt x="91" y="373"/>
                    </a:lnTo>
                    <a:lnTo>
                      <a:pt x="91" y="373"/>
                    </a:lnTo>
                    <a:close/>
                  </a:path>
                </a:pathLst>
              </a:custGeom>
              <a:solidFill>
                <a:srgbClr val="d42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759080" y="1787400"/>
                <a:ext cx="537120" cy="286920"/>
              </a:xfrm>
              <a:custGeom>
                <a:avLst/>
                <a:gdLst/>
                <a:ahLst/>
                <a:rect l="l" t="t" r="r" b="b"/>
                <a:pathLst>
                  <a:path w="2505" h="1083">
                    <a:moveTo>
                      <a:pt x="67" y="604"/>
                    </a:moveTo>
                    <a:lnTo>
                      <a:pt x="399" y="587"/>
                    </a:lnTo>
                    <a:lnTo>
                      <a:pt x="844" y="612"/>
                    </a:lnTo>
                    <a:lnTo>
                      <a:pt x="1087" y="713"/>
                    </a:lnTo>
                    <a:lnTo>
                      <a:pt x="1224" y="787"/>
                    </a:lnTo>
                    <a:lnTo>
                      <a:pt x="1361" y="866"/>
                    </a:lnTo>
                    <a:lnTo>
                      <a:pt x="1498" y="943"/>
                    </a:lnTo>
                    <a:lnTo>
                      <a:pt x="1627" y="1011"/>
                    </a:lnTo>
                    <a:lnTo>
                      <a:pt x="1743" y="1058"/>
                    </a:lnTo>
                    <a:lnTo>
                      <a:pt x="1844" y="1083"/>
                    </a:lnTo>
                    <a:lnTo>
                      <a:pt x="2100" y="1055"/>
                    </a:lnTo>
                    <a:lnTo>
                      <a:pt x="2311" y="918"/>
                    </a:lnTo>
                    <a:lnTo>
                      <a:pt x="2452" y="707"/>
                    </a:lnTo>
                    <a:lnTo>
                      <a:pt x="2505" y="454"/>
                    </a:lnTo>
                    <a:lnTo>
                      <a:pt x="2469" y="245"/>
                    </a:lnTo>
                    <a:lnTo>
                      <a:pt x="2425" y="161"/>
                    </a:lnTo>
                    <a:lnTo>
                      <a:pt x="2366" y="95"/>
                    </a:lnTo>
                    <a:lnTo>
                      <a:pt x="2294" y="42"/>
                    </a:lnTo>
                    <a:lnTo>
                      <a:pt x="2209" y="9"/>
                    </a:lnTo>
                    <a:lnTo>
                      <a:pt x="1999" y="0"/>
                    </a:lnTo>
                    <a:lnTo>
                      <a:pt x="1836" y="66"/>
                    </a:lnTo>
                    <a:lnTo>
                      <a:pt x="1718" y="203"/>
                    </a:lnTo>
                    <a:lnTo>
                      <a:pt x="1648" y="367"/>
                    </a:lnTo>
                    <a:lnTo>
                      <a:pt x="1629" y="513"/>
                    </a:lnTo>
                    <a:lnTo>
                      <a:pt x="1648" y="574"/>
                    </a:lnTo>
                    <a:lnTo>
                      <a:pt x="1688" y="616"/>
                    </a:lnTo>
                    <a:lnTo>
                      <a:pt x="1806" y="642"/>
                    </a:lnTo>
                    <a:lnTo>
                      <a:pt x="1923" y="595"/>
                    </a:lnTo>
                    <a:lnTo>
                      <a:pt x="1984" y="479"/>
                    </a:lnTo>
                    <a:lnTo>
                      <a:pt x="1969" y="370"/>
                    </a:lnTo>
                    <a:lnTo>
                      <a:pt x="1929" y="308"/>
                    </a:lnTo>
                    <a:lnTo>
                      <a:pt x="1876" y="222"/>
                    </a:lnTo>
                    <a:lnTo>
                      <a:pt x="1895" y="171"/>
                    </a:lnTo>
                    <a:lnTo>
                      <a:pt x="1937" y="133"/>
                    </a:lnTo>
                    <a:lnTo>
                      <a:pt x="2041" y="99"/>
                    </a:lnTo>
                    <a:lnTo>
                      <a:pt x="2157" y="129"/>
                    </a:lnTo>
                    <a:lnTo>
                      <a:pt x="2248" y="205"/>
                    </a:lnTo>
                    <a:lnTo>
                      <a:pt x="2332" y="429"/>
                    </a:lnTo>
                    <a:lnTo>
                      <a:pt x="2311" y="572"/>
                    </a:lnTo>
                    <a:lnTo>
                      <a:pt x="2254" y="709"/>
                    </a:lnTo>
                    <a:lnTo>
                      <a:pt x="2212" y="768"/>
                    </a:lnTo>
                    <a:lnTo>
                      <a:pt x="2167" y="819"/>
                    </a:lnTo>
                    <a:lnTo>
                      <a:pt x="2115" y="855"/>
                    </a:lnTo>
                    <a:lnTo>
                      <a:pt x="2058" y="876"/>
                    </a:lnTo>
                    <a:lnTo>
                      <a:pt x="1800" y="853"/>
                    </a:lnTo>
                    <a:lnTo>
                      <a:pt x="1678" y="798"/>
                    </a:lnTo>
                    <a:lnTo>
                      <a:pt x="1562" y="728"/>
                    </a:lnTo>
                    <a:lnTo>
                      <a:pt x="1450" y="650"/>
                    </a:lnTo>
                    <a:lnTo>
                      <a:pt x="1342" y="572"/>
                    </a:lnTo>
                    <a:lnTo>
                      <a:pt x="1239" y="503"/>
                    </a:lnTo>
                    <a:lnTo>
                      <a:pt x="1140" y="454"/>
                    </a:lnTo>
                    <a:lnTo>
                      <a:pt x="939" y="393"/>
                    </a:lnTo>
                    <a:lnTo>
                      <a:pt x="713" y="349"/>
                    </a:lnTo>
                    <a:lnTo>
                      <a:pt x="247" y="338"/>
                    </a:lnTo>
                    <a:lnTo>
                      <a:pt x="131" y="387"/>
                    </a:lnTo>
                    <a:lnTo>
                      <a:pt x="0" y="551"/>
                    </a:lnTo>
                    <a:lnTo>
                      <a:pt x="67" y="604"/>
                    </a:lnTo>
                    <a:lnTo>
                      <a:pt x="67" y="6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759080" y="1403280"/>
                <a:ext cx="930240" cy="1032120"/>
              </a:xfrm>
              <a:custGeom>
                <a:avLst/>
                <a:gdLst/>
                <a:ahLst/>
                <a:rect l="l" t="t" r="r" b="b"/>
                <a:pathLst>
                  <a:path w="4339" h="3901">
                    <a:moveTo>
                      <a:pt x="247" y="1892"/>
                    </a:moveTo>
                    <a:lnTo>
                      <a:pt x="321" y="1671"/>
                    </a:lnTo>
                    <a:lnTo>
                      <a:pt x="371" y="1550"/>
                    </a:lnTo>
                    <a:lnTo>
                      <a:pt x="428" y="1424"/>
                    </a:lnTo>
                    <a:lnTo>
                      <a:pt x="496" y="1295"/>
                    </a:lnTo>
                    <a:lnTo>
                      <a:pt x="578" y="1166"/>
                    </a:lnTo>
                    <a:lnTo>
                      <a:pt x="673" y="1035"/>
                    </a:lnTo>
                    <a:lnTo>
                      <a:pt x="785" y="907"/>
                    </a:lnTo>
                    <a:lnTo>
                      <a:pt x="914" y="784"/>
                    </a:lnTo>
                    <a:lnTo>
                      <a:pt x="1062" y="666"/>
                    </a:lnTo>
                    <a:lnTo>
                      <a:pt x="1144" y="609"/>
                    </a:lnTo>
                    <a:lnTo>
                      <a:pt x="1232" y="554"/>
                    </a:lnTo>
                    <a:lnTo>
                      <a:pt x="1325" y="502"/>
                    </a:lnTo>
                    <a:lnTo>
                      <a:pt x="1422" y="453"/>
                    </a:lnTo>
                    <a:lnTo>
                      <a:pt x="1526" y="407"/>
                    </a:lnTo>
                    <a:lnTo>
                      <a:pt x="1636" y="364"/>
                    </a:lnTo>
                    <a:lnTo>
                      <a:pt x="1752" y="324"/>
                    </a:lnTo>
                    <a:lnTo>
                      <a:pt x="1876" y="286"/>
                    </a:lnTo>
                    <a:lnTo>
                      <a:pt x="2144" y="223"/>
                    </a:lnTo>
                    <a:lnTo>
                      <a:pt x="2439" y="177"/>
                    </a:lnTo>
                    <a:lnTo>
                      <a:pt x="2866" y="153"/>
                    </a:lnTo>
                    <a:lnTo>
                      <a:pt x="3336" y="183"/>
                    </a:lnTo>
                    <a:lnTo>
                      <a:pt x="3792" y="284"/>
                    </a:lnTo>
                    <a:lnTo>
                      <a:pt x="3999" y="364"/>
                    </a:lnTo>
                    <a:lnTo>
                      <a:pt x="4183" y="468"/>
                    </a:lnTo>
                    <a:lnTo>
                      <a:pt x="4172" y="519"/>
                    </a:lnTo>
                    <a:lnTo>
                      <a:pt x="4103" y="633"/>
                    </a:lnTo>
                    <a:lnTo>
                      <a:pt x="4054" y="709"/>
                    </a:lnTo>
                    <a:lnTo>
                      <a:pt x="3997" y="795"/>
                    </a:lnTo>
                    <a:lnTo>
                      <a:pt x="3932" y="890"/>
                    </a:lnTo>
                    <a:lnTo>
                      <a:pt x="3864" y="991"/>
                    </a:lnTo>
                    <a:lnTo>
                      <a:pt x="3792" y="1097"/>
                    </a:lnTo>
                    <a:lnTo>
                      <a:pt x="3718" y="1206"/>
                    </a:lnTo>
                    <a:lnTo>
                      <a:pt x="3645" y="1318"/>
                    </a:lnTo>
                    <a:lnTo>
                      <a:pt x="3577" y="1426"/>
                    </a:lnTo>
                    <a:lnTo>
                      <a:pt x="3512" y="1534"/>
                    </a:lnTo>
                    <a:lnTo>
                      <a:pt x="3453" y="1637"/>
                    </a:lnTo>
                    <a:lnTo>
                      <a:pt x="3364" y="1825"/>
                    </a:lnTo>
                    <a:lnTo>
                      <a:pt x="3250" y="2186"/>
                    </a:lnTo>
                    <a:lnTo>
                      <a:pt x="3159" y="2572"/>
                    </a:lnTo>
                    <a:lnTo>
                      <a:pt x="3077" y="2964"/>
                    </a:lnTo>
                    <a:lnTo>
                      <a:pt x="2992" y="3340"/>
                    </a:lnTo>
                    <a:lnTo>
                      <a:pt x="2965" y="3405"/>
                    </a:lnTo>
                    <a:lnTo>
                      <a:pt x="2916" y="3485"/>
                    </a:lnTo>
                    <a:lnTo>
                      <a:pt x="2857" y="3559"/>
                    </a:lnTo>
                    <a:lnTo>
                      <a:pt x="2802" y="3604"/>
                    </a:lnTo>
                    <a:lnTo>
                      <a:pt x="2708" y="3652"/>
                    </a:lnTo>
                    <a:lnTo>
                      <a:pt x="2591" y="3696"/>
                    </a:lnTo>
                    <a:lnTo>
                      <a:pt x="2372" y="3738"/>
                    </a:lnTo>
                    <a:lnTo>
                      <a:pt x="1847" y="3690"/>
                    </a:lnTo>
                    <a:lnTo>
                      <a:pt x="1635" y="3604"/>
                    </a:lnTo>
                    <a:lnTo>
                      <a:pt x="1521" y="3439"/>
                    </a:lnTo>
                    <a:lnTo>
                      <a:pt x="1524" y="3253"/>
                    </a:lnTo>
                    <a:lnTo>
                      <a:pt x="1559" y="3158"/>
                    </a:lnTo>
                    <a:lnTo>
                      <a:pt x="1608" y="3063"/>
                    </a:lnTo>
                    <a:lnTo>
                      <a:pt x="1674" y="2970"/>
                    </a:lnTo>
                    <a:lnTo>
                      <a:pt x="1749" y="2880"/>
                    </a:lnTo>
                    <a:lnTo>
                      <a:pt x="1834" y="2797"/>
                    </a:lnTo>
                    <a:lnTo>
                      <a:pt x="1925" y="2719"/>
                    </a:lnTo>
                    <a:lnTo>
                      <a:pt x="2032" y="2631"/>
                    </a:lnTo>
                    <a:lnTo>
                      <a:pt x="2155" y="2521"/>
                    </a:lnTo>
                    <a:lnTo>
                      <a:pt x="2285" y="2390"/>
                    </a:lnTo>
                    <a:lnTo>
                      <a:pt x="2406" y="2238"/>
                    </a:lnTo>
                    <a:lnTo>
                      <a:pt x="1827" y="2479"/>
                    </a:lnTo>
                    <a:lnTo>
                      <a:pt x="1800" y="2595"/>
                    </a:lnTo>
                    <a:lnTo>
                      <a:pt x="1739" y="2715"/>
                    </a:lnTo>
                    <a:lnTo>
                      <a:pt x="1654" y="2838"/>
                    </a:lnTo>
                    <a:lnTo>
                      <a:pt x="1555" y="2960"/>
                    </a:lnTo>
                    <a:lnTo>
                      <a:pt x="1458" y="3082"/>
                    </a:lnTo>
                    <a:lnTo>
                      <a:pt x="1372" y="3203"/>
                    </a:lnTo>
                    <a:lnTo>
                      <a:pt x="1291" y="3430"/>
                    </a:lnTo>
                    <a:lnTo>
                      <a:pt x="1304" y="3502"/>
                    </a:lnTo>
                    <a:lnTo>
                      <a:pt x="1340" y="3570"/>
                    </a:lnTo>
                    <a:lnTo>
                      <a:pt x="1393" y="3637"/>
                    </a:lnTo>
                    <a:lnTo>
                      <a:pt x="1460" y="3696"/>
                    </a:lnTo>
                    <a:lnTo>
                      <a:pt x="1536" y="3749"/>
                    </a:lnTo>
                    <a:lnTo>
                      <a:pt x="1610" y="3793"/>
                    </a:lnTo>
                    <a:lnTo>
                      <a:pt x="1743" y="3844"/>
                    </a:lnTo>
                    <a:lnTo>
                      <a:pt x="1971" y="3880"/>
                    </a:lnTo>
                    <a:lnTo>
                      <a:pt x="2218" y="3901"/>
                    </a:lnTo>
                    <a:lnTo>
                      <a:pt x="2686" y="3869"/>
                    </a:lnTo>
                    <a:lnTo>
                      <a:pt x="2864" y="3802"/>
                    </a:lnTo>
                    <a:lnTo>
                      <a:pt x="3028" y="3675"/>
                    </a:lnTo>
                    <a:lnTo>
                      <a:pt x="3166" y="3511"/>
                    </a:lnTo>
                    <a:lnTo>
                      <a:pt x="3265" y="3331"/>
                    </a:lnTo>
                    <a:lnTo>
                      <a:pt x="3374" y="2989"/>
                    </a:lnTo>
                    <a:lnTo>
                      <a:pt x="3453" y="2601"/>
                    </a:lnTo>
                    <a:lnTo>
                      <a:pt x="3526" y="2209"/>
                    </a:lnTo>
                    <a:lnTo>
                      <a:pt x="3567" y="2025"/>
                    </a:lnTo>
                    <a:lnTo>
                      <a:pt x="3611" y="1858"/>
                    </a:lnTo>
                    <a:lnTo>
                      <a:pt x="3676" y="1690"/>
                    </a:lnTo>
                    <a:lnTo>
                      <a:pt x="3759" y="1523"/>
                    </a:lnTo>
                    <a:lnTo>
                      <a:pt x="3858" y="1354"/>
                    </a:lnTo>
                    <a:lnTo>
                      <a:pt x="3963" y="1187"/>
                    </a:lnTo>
                    <a:lnTo>
                      <a:pt x="4016" y="1101"/>
                    </a:lnTo>
                    <a:lnTo>
                      <a:pt x="4071" y="1017"/>
                    </a:lnTo>
                    <a:lnTo>
                      <a:pt x="4172" y="848"/>
                    </a:lnTo>
                    <a:lnTo>
                      <a:pt x="4263" y="679"/>
                    </a:lnTo>
                    <a:lnTo>
                      <a:pt x="4339" y="510"/>
                    </a:lnTo>
                    <a:lnTo>
                      <a:pt x="4316" y="381"/>
                    </a:lnTo>
                    <a:lnTo>
                      <a:pt x="4273" y="261"/>
                    </a:lnTo>
                    <a:lnTo>
                      <a:pt x="4153" y="219"/>
                    </a:lnTo>
                    <a:lnTo>
                      <a:pt x="4033" y="183"/>
                    </a:lnTo>
                    <a:lnTo>
                      <a:pt x="3792" y="118"/>
                    </a:lnTo>
                    <a:lnTo>
                      <a:pt x="3547" y="69"/>
                    </a:lnTo>
                    <a:lnTo>
                      <a:pt x="3301" y="35"/>
                    </a:lnTo>
                    <a:lnTo>
                      <a:pt x="2813" y="0"/>
                    </a:lnTo>
                    <a:lnTo>
                      <a:pt x="2332" y="12"/>
                    </a:lnTo>
                    <a:lnTo>
                      <a:pt x="1865" y="86"/>
                    </a:lnTo>
                    <a:lnTo>
                      <a:pt x="1644" y="153"/>
                    </a:lnTo>
                    <a:lnTo>
                      <a:pt x="1431" y="236"/>
                    </a:lnTo>
                    <a:lnTo>
                      <a:pt x="1329" y="284"/>
                    </a:lnTo>
                    <a:lnTo>
                      <a:pt x="1228" y="335"/>
                    </a:lnTo>
                    <a:lnTo>
                      <a:pt x="1131" y="390"/>
                    </a:lnTo>
                    <a:lnTo>
                      <a:pt x="1036" y="447"/>
                    </a:lnTo>
                    <a:lnTo>
                      <a:pt x="945" y="510"/>
                    </a:lnTo>
                    <a:lnTo>
                      <a:pt x="857" y="575"/>
                    </a:lnTo>
                    <a:lnTo>
                      <a:pt x="692" y="711"/>
                    </a:lnTo>
                    <a:lnTo>
                      <a:pt x="540" y="858"/>
                    </a:lnTo>
                    <a:lnTo>
                      <a:pt x="405" y="1012"/>
                    </a:lnTo>
                    <a:lnTo>
                      <a:pt x="344" y="1092"/>
                    </a:lnTo>
                    <a:lnTo>
                      <a:pt x="287" y="1171"/>
                    </a:lnTo>
                    <a:lnTo>
                      <a:pt x="188" y="1337"/>
                    </a:lnTo>
                    <a:lnTo>
                      <a:pt x="49" y="1673"/>
                    </a:lnTo>
                    <a:lnTo>
                      <a:pt x="0" y="2008"/>
                    </a:lnTo>
                    <a:lnTo>
                      <a:pt x="247" y="1892"/>
                    </a:lnTo>
                    <a:lnTo>
                      <a:pt x="247" y="18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049600" y="1505880"/>
                <a:ext cx="471240" cy="254520"/>
              </a:xfrm>
              <a:custGeom>
                <a:avLst/>
                <a:gdLst/>
                <a:ahLst/>
                <a:rect l="l" t="t" r="r" b="b"/>
                <a:pathLst>
                  <a:path w="2199" h="962">
                    <a:moveTo>
                      <a:pt x="1844" y="692"/>
                    </a:moveTo>
                    <a:lnTo>
                      <a:pt x="1749" y="742"/>
                    </a:lnTo>
                    <a:lnTo>
                      <a:pt x="1648" y="791"/>
                    </a:lnTo>
                    <a:lnTo>
                      <a:pt x="1540" y="837"/>
                    </a:lnTo>
                    <a:lnTo>
                      <a:pt x="1426" y="877"/>
                    </a:lnTo>
                    <a:lnTo>
                      <a:pt x="1184" y="937"/>
                    </a:lnTo>
                    <a:lnTo>
                      <a:pt x="935" y="962"/>
                    </a:lnTo>
                    <a:lnTo>
                      <a:pt x="682" y="941"/>
                    </a:lnTo>
                    <a:lnTo>
                      <a:pt x="437" y="859"/>
                    </a:lnTo>
                    <a:lnTo>
                      <a:pt x="319" y="793"/>
                    </a:lnTo>
                    <a:lnTo>
                      <a:pt x="207" y="709"/>
                    </a:lnTo>
                    <a:lnTo>
                      <a:pt x="101" y="603"/>
                    </a:lnTo>
                    <a:lnTo>
                      <a:pt x="0" y="477"/>
                    </a:lnTo>
                    <a:lnTo>
                      <a:pt x="53" y="411"/>
                    </a:lnTo>
                    <a:lnTo>
                      <a:pt x="108" y="350"/>
                    </a:lnTo>
                    <a:lnTo>
                      <a:pt x="224" y="244"/>
                    </a:lnTo>
                    <a:lnTo>
                      <a:pt x="285" y="198"/>
                    </a:lnTo>
                    <a:lnTo>
                      <a:pt x="350" y="158"/>
                    </a:lnTo>
                    <a:lnTo>
                      <a:pt x="481" y="91"/>
                    </a:lnTo>
                    <a:lnTo>
                      <a:pt x="620" y="44"/>
                    </a:lnTo>
                    <a:lnTo>
                      <a:pt x="762" y="14"/>
                    </a:lnTo>
                    <a:lnTo>
                      <a:pt x="1057" y="0"/>
                    </a:lnTo>
                    <a:lnTo>
                      <a:pt x="1357" y="42"/>
                    </a:lnTo>
                    <a:lnTo>
                      <a:pt x="1654" y="135"/>
                    </a:lnTo>
                    <a:lnTo>
                      <a:pt x="1798" y="198"/>
                    </a:lnTo>
                    <a:lnTo>
                      <a:pt x="1937" y="268"/>
                    </a:lnTo>
                    <a:lnTo>
                      <a:pt x="2072" y="348"/>
                    </a:lnTo>
                    <a:lnTo>
                      <a:pt x="2199" y="436"/>
                    </a:lnTo>
                    <a:lnTo>
                      <a:pt x="2093" y="538"/>
                    </a:lnTo>
                    <a:lnTo>
                      <a:pt x="1992" y="633"/>
                    </a:lnTo>
                    <a:lnTo>
                      <a:pt x="1901" y="559"/>
                    </a:lnTo>
                    <a:lnTo>
                      <a:pt x="1804" y="489"/>
                    </a:lnTo>
                    <a:lnTo>
                      <a:pt x="1701" y="422"/>
                    </a:lnTo>
                    <a:lnTo>
                      <a:pt x="1593" y="360"/>
                    </a:lnTo>
                    <a:lnTo>
                      <a:pt x="1483" y="302"/>
                    </a:lnTo>
                    <a:lnTo>
                      <a:pt x="1371" y="255"/>
                    </a:lnTo>
                    <a:lnTo>
                      <a:pt x="1255" y="215"/>
                    </a:lnTo>
                    <a:lnTo>
                      <a:pt x="1139" y="187"/>
                    </a:lnTo>
                    <a:lnTo>
                      <a:pt x="905" y="166"/>
                    </a:lnTo>
                    <a:lnTo>
                      <a:pt x="677" y="200"/>
                    </a:lnTo>
                    <a:lnTo>
                      <a:pt x="462" y="304"/>
                    </a:lnTo>
                    <a:lnTo>
                      <a:pt x="264" y="485"/>
                    </a:lnTo>
                    <a:lnTo>
                      <a:pt x="318" y="563"/>
                    </a:lnTo>
                    <a:lnTo>
                      <a:pt x="384" y="628"/>
                    </a:lnTo>
                    <a:lnTo>
                      <a:pt x="464" y="677"/>
                    </a:lnTo>
                    <a:lnTo>
                      <a:pt x="555" y="717"/>
                    </a:lnTo>
                    <a:lnTo>
                      <a:pt x="760" y="764"/>
                    </a:lnTo>
                    <a:lnTo>
                      <a:pt x="990" y="778"/>
                    </a:lnTo>
                    <a:lnTo>
                      <a:pt x="1456" y="743"/>
                    </a:lnTo>
                    <a:lnTo>
                      <a:pt x="1844" y="692"/>
                    </a:lnTo>
                    <a:lnTo>
                      <a:pt x="1844" y="6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8254800" y="1605240"/>
                <a:ext cx="38880" cy="47880"/>
              </a:xfrm>
              <a:custGeom>
                <a:avLst/>
                <a:gdLst/>
                <a:ahLst/>
                <a:rect l="l" t="t" r="r" b="b"/>
                <a:pathLst>
                  <a:path w="181" h="182">
                    <a:moveTo>
                      <a:pt x="91" y="0"/>
                    </a:moveTo>
                    <a:lnTo>
                      <a:pt x="154" y="28"/>
                    </a:lnTo>
                    <a:lnTo>
                      <a:pt x="181" y="91"/>
                    </a:lnTo>
                    <a:lnTo>
                      <a:pt x="154" y="155"/>
                    </a:lnTo>
                    <a:lnTo>
                      <a:pt x="91" y="182"/>
                    </a:lnTo>
                    <a:lnTo>
                      <a:pt x="27" y="155"/>
                    </a:lnTo>
                    <a:lnTo>
                      <a:pt x="0" y="91"/>
                    </a:lnTo>
                    <a:lnTo>
                      <a:pt x="27" y="28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8247600" y="1535400"/>
                <a:ext cx="102600" cy="187920"/>
              </a:xfrm>
              <a:custGeom>
                <a:avLst/>
                <a:gdLst/>
                <a:ahLst/>
                <a:rect l="l" t="t" r="r" b="b"/>
                <a:pathLst>
                  <a:path w="479" h="711">
                    <a:moveTo>
                      <a:pt x="125" y="711"/>
                    </a:moveTo>
                    <a:lnTo>
                      <a:pt x="0" y="630"/>
                    </a:lnTo>
                    <a:lnTo>
                      <a:pt x="125" y="555"/>
                    </a:lnTo>
                    <a:lnTo>
                      <a:pt x="268" y="495"/>
                    </a:lnTo>
                    <a:lnTo>
                      <a:pt x="330" y="348"/>
                    </a:lnTo>
                    <a:lnTo>
                      <a:pt x="313" y="268"/>
                    </a:lnTo>
                    <a:lnTo>
                      <a:pt x="268" y="200"/>
                    </a:lnTo>
                    <a:lnTo>
                      <a:pt x="201" y="151"/>
                    </a:lnTo>
                    <a:lnTo>
                      <a:pt x="125" y="133"/>
                    </a:lnTo>
                    <a:lnTo>
                      <a:pt x="0" y="75"/>
                    </a:lnTo>
                    <a:lnTo>
                      <a:pt x="125" y="0"/>
                    </a:lnTo>
                    <a:lnTo>
                      <a:pt x="264" y="29"/>
                    </a:lnTo>
                    <a:lnTo>
                      <a:pt x="376" y="103"/>
                    </a:lnTo>
                    <a:lnTo>
                      <a:pt x="452" y="217"/>
                    </a:lnTo>
                    <a:lnTo>
                      <a:pt x="479" y="356"/>
                    </a:lnTo>
                    <a:lnTo>
                      <a:pt x="452" y="495"/>
                    </a:lnTo>
                    <a:lnTo>
                      <a:pt x="420" y="557"/>
                    </a:lnTo>
                    <a:lnTo>
                      <a:pt x="376" y="609"/>
                    </a:lnTo>
                    <a:lnTo>
                      <a:pt x="323" y="652"/>
                    </a:lnTo>
                    <a:lnTo>
                      <a:pt x="264" y="685"/>
                    </a:lnTo>
                    <a:lnTo>
                      <a:pt x="125" y="711"/>
                    </a:lnTo>
                    <a:lnTo>
                      <a:pt x="125" y="7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197920" y="1535400"/>
                <a:ext cx="103320" cy="187920"/>
              </a:xfrm>
              <a:custGeom>
                <a:avLst/>
                <a:gdLst/>
                <a:ahLst/>
                <a:rect l="l" t="t" r="r" b="b"/>
                <a:pathLst>
                  <a:path w="481" h="711">
                    <a:moveTo>
                      <a:pt x="357" y="711"/>
                    </a:moveTo>
                    <a:lnTo>
                      <a:pt x="481" y="630"/>
                    </a:lnTo>
                    <a:lnTo>
                      <a:pt x="357" y="555"/>
                    </a:lnTo>
                    <a:lnTo>
                      <a:pt x="217" y="495"/>
                    </a:lnTo>
                    <a:lnTo>
                      <a:pt x="158" y="348"/>
                    </a:lnTo>
                    <a:lnTo>
                      <a:pt x="175" y="268"/>
                    </a:lnTo>
                    <a:lnTo>
                      <a:pt x="217" y="200"/>
                    </a:lnTo>
                    <a:lnTo>
                      <a:pt x="279" y="151"/>
                    </a:lnTo>
                    <a:lnTo>
                      <a:pt x="357" y="133"/>
                    </a:lnTo>
                    <a:lnTo>
                      <a:pt x="481" y="75"/>
                    </a:lnTo>
                    <a:lnTo>
                      <a:pt x="357" y="0"/>
                    </a:lnTo>
                    <a:lnTo>
                      <a:pt x="217" y="29"/>
                    </a:lnTo>
                    <a:lnTo>
                      <a:pt x="104" y="103"/>
                    </a:lnTo>
                    <a:lnTo>
                      <a:pt x="28" y="217"/>
                    </a:lnTo>
                    <a:lnTo>
                      <a:pt x="0" y="356"/>
                    </a:lnTo>
                    <a:lnTo>
                      <a:pt x="28" y="495"/>
                    </a:lnTo>
                    <a:lnTo>
                      <a:pt x="61" y="557"/>
                    </a:lnTo>
                    <a:lnTo>
                      <a:pt x="104" y="609"/>
                    </a:lnTo>
                    <a:lnTo>
                      <a:pt x="158" y="652"/>
                    </a:lnTo>
                    <a:lnTo>
                      <a:pt x="217" y="685"/>
                    </a:lnTo>
                    <a:lnTo>
                      <a:pt x="357" y="711"/>
                    </a:lnTo>
                    <a:lnTo>
                      <a:pt x="357" y="7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398440" y="1510920"/>
                <a:ext cx="162720" cy="155520"/>
              </a:xfrm>
              <a:custGeom>
                <a:avLst/>
                <a:gdLst/>
                <a:ahLst/>
                <a:rect l="l" t="t" r="r" b="b"/>
                <a:pathLst>
                  <a:path w="760" h="588">
                    <a:moveTo>
                      <a:pt x="380" y="588"/>
                    </a:moveTo>
                    <a:lnTo>
                      <a:pt x="760" y="264"/>
                    </a:lnTo>
                    <a:lnTo>
                      <a:pt x="447" y="316"/>
                    </a:lnTo>
                    <a:lnTo>
                      <a:pt x="528" y="91"/>
                    </a:lnTo>
                    <a:lnTo>
                      <a:pt x="239" y="215"/>
                    </a:lnTo>
                    <a:lnTo>
                      <a:pt x="274" y="0"/>
                    </a:lnTo>
                    <a:lnTo>
                      <a:pt x="0" y="158"/>
                    </a:lnTo>
                    <a:lnTo>
                      <a:pt x="380" y="588"/>
                    </a:lnTo>
                    <a:lnTo>
                      <a:pt x="380" y="5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8304480" y="1298880"/>
                <a:ext cx="57600" cy="127800"/>
              </a:xfrm>
              <a:custGeom>
                <a:avLst/>
                <a:gdLst/>
                <a:ahLst/>
                <a:rect l="l" t="t" r="r" b="b"/>
                <a:pathLst>
                  <a:path w="270" h="485">
                    <a:moveTo>
                      <a:pt x="23" y="464"/>
                    </a:moveTo>
                    <a:lnTo>
                      <a:pt x="0" y="317"/>
                    </a:lnTo>
                    <a:lnTo>
                      <a:pt x="32" y="173"/>
                    </a:lnTo>
                    <a:lnTo>
                      <a:pt x="72" y="108"/>
                    </a:lnTo>
                    <a:lnTo>
                      <a:pt x="125" y="49"/>
                    </a:lnTo>
                    <a:lnTo>
                      <a:pt x="188" y="8"/>
                    </a:lnTo>
                    <a:lnTo>
                      <a:pt x="255" y="0"/>
                    </a:lnTo>
                    <a:lnTo>
                      <a:pt x="270" y="25"/>
                    </a:lnTo>
                    <a:lnTo>
                      <a:pt x="237" y="78"/>
                    </a:lnTo>
                    <a:lnTo>
                      <a:pt x="156" y="198"/>
                    </a:lnTo>
                    <a:lnTo>
                      <a:pt x="148" y="454"/>
                    </a:lnTo>
                    <a:lnTo>
                      <a:pt x="85" y="485"/>
                    </a:lnTo>
                    <a:lnTo>
                      <a:pt x="23" y="464"/>
                    </a:lnTo>
                    <a:lnTo>
                      <a:pt x="23" y="4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8383320" y="1298880"/>
                <a:ext cx="68040" cy="12276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13" y="454"/>
                    </a:moveTo>
                    <a:lnTo>
                      <a:pt x="0" y="306"/>
                    </a:lnTo>
                    <a:lnTo>
                      <a:pt x="45" y="165"/>
                    </a:lnTo>
                    <a:lnTo>
                      <a:pt x="97" y="99"/>
                    </a:lnTo>
                    <a:lnTo>
                      <a:pt x="161" y="40"/>
                    </a:lnTo>
                    <a:lnTo>
                      <a:pt x="235" y="0"/>
                    </a:lnTo>
                    <a:lnTo>
                      <a:pt x="309" y="0"/>
                    </a:lnTo>
                    <a:lnTo>
                      <a:pt x="319" y="27"/>
                    </a:lnTo>
                    <a:lnTo>
                      <a:pt x="273" y="78"/>
                    </a:lnTo>
                    <a:lnTo>
                      <a:pt x="169" y="198"/>
                    </a:lnTo>
                    <a:lnTo>
                      <a:pt x="127" y="464"/>
                    </a:lnTo>
                    <a:lnTo>
                      <a:pt x="13" y="454"/>
                    </a:lnTo>
                    <a:lnTo>
                      <a:pt x="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8460360" y="1295280"/>
                <a:ext cx="81360" cy="126360"/>
              </a:xfrm>
              <a:custGeom>
                <a:avLst/>
                <a:gdLst/>
                <a:ahLst/>
                <a:rect l="l" t="t" r="r" b="b"/>
                <a:pathLst>
                  <a:path w="378" h="477">
                    <a:moveTo>
                      <a:pt x="0" y="460"/>
                    </a:moveTo>
                    <a:lnTo>
                      <a:pt x="7" y="308"/>
                    </a:lnTo>
                    <a:lnTo>
                      <a:pt x="66" y="161"/>
                    </a:lnTo>
                    <a:lnTo>
                      <a:pt x="127" y="97"/>
                    </a:lnTo>
                    <a:lnTo>
                      <a:pt x="205" y="36"/>
                    </a:lnTo>
                    <a:lnTo>
                      <a:pt x="289" y="0"/>
                    </a:lnTo>
                    <a:lnTo>
                      <a:pt x="365" y="5"/>
                    </a:lnTo>
                    <a:lnTo>
                      <a:pt x="378" y="43"/>
                    </a:lnTo>
                    <a:lnTo>
                      <a:pt x="323" y="95"/>
                    </a:lnTo>
                    <a:lnTo>
                      <a:pt x="190" y="211"/>
                    </a:lnTo>
                    <a:lnTo>
                      <a:pt x="108" y="477"/>
                    </a:lnTo>
                    <a:lnTo>
                      <a:pt x="0" y="460"/>
                    </a:lnTo>
                    <a:lnTo>
                      <a:pt x="0" y="4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8536680" y="1314720"/>
                <a:ext cx="93960" cy="132120"/>
              </a:xfrm>
              <a:custGeom>
                <a:avLst/>
                <a:gdLst/>
                <a:ahLst/>
                <a:rect l="l" t="t" r="r" b="b"/>
                <a:pathLst>
                  <a:path w="439" h="500">
                    <a:moveTo>
                      <a:pt x="0" y="467"/>
                    </a:moveTo>
                    <a:lnTo>
                      <a:pt x="16" y="306"/>
                    </a:lnTo>
                    <a:lnTo>
                      <a:pt x="44" y="228"/>
                    </a:lnTo>
                    <a:lnTo>
                      <a:pt x="92" y="161"/>
                    </a:lnTo>
                    <a:lnTo>
                      <a:pt x="166" y="95"/>
                    </a:lnTo>
                    <a:lnTo>
                      <a:pt x="255" y="34"/>
                    </a:lnTo>
                    <a:lnTo>
                      <a:pt x="348" y="0"/>
                    </a:lnTo>
                    <a:lnTo>
                      <a:pt x="430" y="13"/>
                    </a:lnTo>
                    <a:lnTo>
                      <a:pt x="439" y="55"/>
                    </a:lnTo>
                    <a:lnTo>
                      <a:pt x="371" y="104"/>
                    </a:lnTo>
                    <a:lnTo>
                      <a:pt x="278" y="160"/>
                    </a:lnTo>
                    <a:lnTo>
                      <a:pt x="207" y="220"/>
                    </a:lnTo>
                    <a:lnTo>
                      <a:pt x="99" y="492"/>
                    </a:lnTo>
                    <a:lnTo>
                      <a:pt x="42" y="500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8602200" y="1345320"/>
                <a:ext cx="108000" cy="134640"/>
              </a:xfrm>
              <a:custGeom>
                <a:avLst/>
                <a:gdLst/>
                <a:ahLst/>
                <a:rect l="l" t="t" r="r" b="b"/>
                <a:pathLst>
                  <a:path w="504" h="509">
                    <a:moveTo>
                      <a:pt x="0" y="467"/>
                    </a:moveTo>
                    <a:lnTo>
                      <a:pt x="35" y="306"/>
                    </a:lnTo>
                    <a:lnTo>
                      <a:pt x="73" y="228"/>
                    </a:lnTo>
                    <a:lnTo>
                      <a:pt x="124" y="161"/>
                    </a:lnTo>
                    <a:lnTo>
                      <a:pt x="207" y="95"/>
                    </a:lnTo>
                    <a:lnTo>
                      <a:pt x="306" y="32"/>
                    </a:lnTo>
                    <a:lnTo>
                      <a:pt x="409" y="0"/>
                    </a:lnTo>
                    <a:lnTo>
                      <a:pt x="496" y="21"/>
                    </a:lnTo>
                    <a:lnTo>
                      <a:pt x="504" y="70"/>
                    </a:lnTo>
                    <a:lnTo>
                      <a:pt x="428" y="118"/>
                    </a:lnTo>
                    <a:lnTo>
                      <a:pt x="322" y="171"/>
                    </a:lnTo>
                    <a:lnTo>
                      <a:pt x="240" y="228"/>
                    </a:lnTo>
                    <a:lnTo>
                      <a:pt x="169" y="374"/>
                    </a:lnTo>
                    <a:lnTo>
                      <a:pt x="137" y="448"/>
                    </a:lnTo>
                    <a:lnTo>
                      <a:pt x="92" y="509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6629760" y="1295280"/>
              <a:ext cx="929880" cy="1115280"/>
              <a:chOff x="6629760" y="1295280"/>
              <a:chExt cx="929880" cy="1115280"/>
            </a:xfrm>
          </p:grpSpPr>
          <p:sp>
            <p:nvSpPr>
              <p:cNvPr id="340" name=""/>
              <p:cNvSpPr/>
              <p:nvPr/>
            </p:nvSpPr>
            <p:spPr>
              <a:xfrm flipH="1">
                <a:off x="6664680" y="1414080"/>
                <a:ext cx="873000" cy="974160"/>
              </a:xfrm>
              <a:custGeom>
                <a:avLst/>
                <a:gdLst/>
                <a:ahLst/>
                <a:rect l="l" t="t" r="r" b="b"/>
                <a:pathLst>
                  <a:path w="4164" h="3761">
                    <a:moveTo>
                      <a:pt x="0" y="1840"/>
                    </a:moveTo>
                    <a:lnTo>
                      <a:pt x="731" y="1861"/>
                    </a:lnTo>
                    <a:lnTo>
                      <a:pt x="1837" y="2435"/>
                    </a:lnTo>
                    <a:lnTo>
                      <a:pt x="1575" y="2790"/>
                    </a:lnTo>
                    <a:lnTo>
                      <a:pt x="1243" y="3260"/>
                    </a:lnTo>
                    <a:lnTo>
                      <a:pt x="1389" y="3573"/>
                    </a:lnTo>
                    <a:lnTo>
                      <a:pt x="1889" y="3761"/>
                    </a:lnTo>
                    <a:lnTo>
                      <a:pt x="2619" y="3720"/>
                    </a:lnTo>
                    <a:lnTo>
                      <a:pt x="3016" y="3376"/>
                    </a:lnTo>
                    <a:lnTo>
                      <a:pt x="3392" y="1724"/>
                    </a:lnTo>
                    <a:lnTo>
                      <a:pt x="4164" y="429"/>
                    </a:lnTo>
                    <a:lnTo>
                      <a:pt x="4048" y="272"/>
                    </a:lnTo>
                    <a:lnTo>
                      <a:pt x="3434" y="62"/>
                    </a:lnTo>
                    <a:lnTo>
                      <a:pt x="2495" y="0"/>
                    </a:lnTo>
                    <a:lnTo>
                      <a:pt x="1377" y="209"/>
                    </a:lnTo>
                    <a:lnTo>
                      <a:pt x="543" y="846"/>
                    </a:lnTo>
                    <a:lnTo>
                      <a:pt x="157" y="1442"/>
                    </a:lnTo>
                    <a:lnTo>
                      <a:pt x="0" y="1840"/>
                    </a:lnTo>
                    <a:lnTo>
                      <a:pt x="0" y="1840"/>
                    </a:lnTo>
                    <a:close/>
                  </a:path>
                </a:pathLst>
              </a:custGeom>
              <a:solidFill>
                <a:srgbClr val="fbd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6859440" y="1522440"/>
                <a:ext cx="391680" cy="208080"/>
              </a:xfrm>
              <a:custGeom>
                <a:avLst/>
                <a:gdLst/>
                <a:ahLst/>
                <a:rect l="l" t="t" r="r" b="b"/>
                <a:pathLst>
                  <a:path w="1866" h="804">
                    <a:moveTo>
                      <a:pt x="0" y="407"/>
                    </a:moveTo>
                    <a:lnTo>
                      <a:pt x="302" y="701"/>
                    </a:lnTo>
                    <a:lnTo>
                      <a:pt x="960" y="804"/>
                    </a:lnTo>
                    <a:lnTo>
                      <a:pt x="1617" y="637"/>
                    </a:lnTo>
                    <a:lnTo>
                      <a:pt x="1866" y="523"/>
                    </a:lnTo>
                    <a:lnTo>
                      <a:pt x="1648" y="220"/>
                    </a:lnTo>
                    <a:lnTo>
                      <a:pt x="1074" y="0"/>
                    </a:lnTo>
                    <a:lnTo>
                      <a:pt x="521" y="42"/>
                    </a:lnTo>
                    <a:lnTo>
                      <a:pt x="0" y="407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6993360" y="1555200"/>
                <a:ext cx="124560" cy="149040"/>
              </a:xfrm>
              <a:custGeom>
                <a:avLst/>
                <a:gdLst/>
                <a:ahLst/>
                <a:rect l="l" t="t" r="r" b="b"/>
                <a:pathLst>
                  <a:path w="595" h="576">
                    <a:moveTo>
                      <a:pt x="407" y="0"/>
                    </a:moveTo>
                    <a:lnTo>
                      <a:pt x="167" y="0"/>
                    </a:lnTo>
                    <a:lnTo>
                      <a:pt x="0" y="242"/>
                    </a:lnTo>
                    <a:lnTo>
                      <a:pt x="104" y="491"/>
                    </a:lnTo>
                    <a:lnTo>
                      <a:pt x="397" y="576"/>
                    </a:lnTo>
                    <a:lnTo>
                      <a:pt x="595" y="314"/>
                    </a:lnTo>
                    <a:lnTo>
                      <a:pt x="407" y="0"/>
                    </a:lnTo>
                    <a:lnTo>
                      <a:pt x="407" y="0"/>
                    </a:lnTo>
                    <a:close/>
                  </a:path>
                </a:pathLst>
              </a:custGeom>
              <a:solidFill>
                <a:srgbClr val="99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7128000" y="2231280"/>
                <a:ext cx="143640" cy="96120"/>
              </a:xfrm>
              <a:custGeom>
                <a:avLst/>
                <a:gdLst/>
                <a:ahLst/>
                <a:rect l="l" t="t" r="r" b="b"/>
                <a:pathLst>
                  <a:path w="686" h="373">
                    <a:moveTo>
                      <a:pt x="91" y="373"/>
                    </a:moveTo>
                    <a:lnTo>
                      <a:pt x="0" y="173"/>
                    </a:lnTo>
                    <a:lnTo>
                      <a:pt x="91" y="0"/>
                    </a:lnTo>
                    <a:lnTo>
                      <a:pt x="538" y="90"/>
                    </a:lnTo>
                    <a:lnTo>
                      <a:pt x="648" y="137"/>
                    </a:lnTo>
                    <a:lnTo>
                      <a:pt x="686" y="183"/>
                    </a:lnTo>
                    <a:lnTo>
                      <a:pt x="648" y="230"/>
                    </a:lnTo>
                    <a:lnTo>
                      <a:pt x="538" y="278"/>
                    </a:lnTo>
                    <a:lnTo>
                      <a:pt x="352" y="325"/>
                    </a:lnTo>
                    <a:lnTo>
                      <a:pt x="91" y="373"/>
                    </a:lnTo>
                    <a:lnTo>
                      <a:pt x="91" y="373"/>
                    </a:lnTo>
                    <a:close/>
                  </a:path>
                </a:pathLst>
              </a:custGeom>
              <a:solidFill>
                <a:srgbClr val="d422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7034040" y="1776960"/>
                <a:ext cx="525240" cy="280440"/>
              </a:xfrm>
              <a:custGeom>
                <a:avLst/>
                <a:gdLst/>
                <a:ahLst/>
                <a:rect l="l" t="t" r="r" b="b"/>
                <a:pathLst>
                  <a:path w="2505" h="1083">
                    <a:moveTo>
                      <a:pt x="67" y="604"/>
                    </a:moveTo>
                    <a:lnTo>
                      <a:pt x="399" y="587"/>
                    </a:lnTo>
                    <a:lnTo>
                      <a:pt x="844" y="612"/>
                    </a:lnTo>
                    <a:lnTo>
                      <a:pt x="1087" y="713"/>
                    </a:lnTo>
                    <a:lnTo>
                      <a:pt x="1224" y="787"/>
                    </a:lnTo>
                    <a:lnTo>
                      <a:pt x="1361" y="866"/>
                    </a:lnTo>
                    <a:lnTo>
                      <a:pt x="1498" y="943"/>
                    </a:lnTo>
                    <a:lnTo>
                      <a:pt x="1627" y="1011"/>
                    </a:lnTo>
                    <a:lnTo>
                      <a:pt x="1743" y="1058"/>
                    </a:lnTo>
                    <a:lnTo>
                      <a:pt x="1844" y="1083"/>
                    </a:lnTo>
                    <a:lnTo>
                      <a:pt x="2100" y="1055"/>
                    </a:lnTo>
                    <a:lnTo>
                      <a:pt x="2311" y="918"/>
                    </a:lnTo>
                    <a:lnTo>
                      <a:pt x="2452" y="707"/>
                    </a:lnTo>
                    <a:lnTo>
                      <a:pt x="2505" y="454"/>
                    </a:lnTo>
                    <a:lnTo>
                      <a:pt x="2469" y="245"/>
                    </a:lnTo>
                    <a:lnTo>
                      <a:pt x="2425" y="161"/>
                    </a:lnTo>
                    <a:lnTo>
                      <a:pt x="2366" y="95"/>
                    </a:lnTo>
                    <a:lnTo>
                      <a:pt x="2294" y="42"/>
                    </a:lnTo>
                    <a:lnTo>
                      <a:pt x="2209" y="9"/>
                    </a:lnTo>
                    <a:lnTo>
                      <a:pt x="1999" y="0"/>
                    </a:lnTo>
                    <a:lnTo>
                      <a:pt x="1836" y="66"/>
                    </a:lnTo>
                    <a:lnTo>
                      <a:pt x="1718" y="203"/>
                    </a:lnTo>
                    <a:lnTo>
                      <a:pt x="1648" y="367"/>
                    </a:lnTo>
                    <a:lnTo>
                      <a:pt x="1629" y="513"/>
                    </a:lnTo>
                    <a:lnTo>
                      <a:pt x="1648" y="574"/>
                    </a:lnTo>
                    <a:lnTo>
                      <a:pt x="1688" y="616"/>
                    </a:lnTo>
                    <a:lnTo>
                      <a:pt x="1806" y="642"/>
                    </a:lnTo>
                    <a:lnTo>
                      <a:pt x="1923" y="595"/>
                    </a:lnTo>
                    <a:lnTo>
                      <a:pt x="1984" y="479"/>
                    </a:lnTo>
                    <a:lnTo>
                      <a:pt x="1969" y="370"/>
                    </a:lnTo>
                    <a:lnTo>
                      <a:pt x="1929" y="308"/>
                    </a:lnTo>
                    <a:lnTo>
                      <a:pt x="1876" y="222"/>
                    </a:lnTo>
                    <a:lnTo>
                      <a:pt x="1895" y="171"/>
                    </a:lnTo>
                    <a:lnTo>
                      <a:pt x="1937" y="133"/>
                    </a:lnTo>
                    <a:lnTo>
                      <a:pt x="2041" y="99"/>
                    </a:lnTo>
                    <a:lnTo>
                      <a:pt x="2157" y="129"/>
                    </a:lnTo>
                    <a:lnTo>
                      <a:pt x="2248" y="205"/>
                    </a:lnTo>
                    <a:lnTo>
                      <a:pt x="2332" y="429"/>
                    </a:lnTo>
                    <a:lnTo>
                      <a:pt x="2311" y="572"/>
                    </a:lnTo>
                    <a:lnTo>
                      <a:pt x="2254" y="709"/>
                    </a:lnTo>
                    <a:lnTo>
                      <a:pt x="2212" y="768"/>
                    </a:lnTo>
                    <a:lnTo>
                      <a:pt x="2167" y="819"/>
                    </a:lnTo>
                    <a:lnTo>
                      <a:pt x="2115" y="855"/>
                    </a:lnTo>
                    <a:lnTo>
                      <a:pt x="2058" y="876"/>
                    </a:lnTo>
                    <a:lnTo>
                      <a:pt x="1800" y="853"/>
                    </a:lnTo>
                    <a:lnTo>
                      <a:pt x="1678" y="798"/>
                    </a:lnTo>
                    <a:lnTo>
                      <a:pt x="1562" y="728"/>
                    </a:lnTo>
                    <a:lnTo>
                      <a:pt x="1450" y="650"/>
                    </a:lnTo>
                    <a:lnTo>
                      <a:pt x="1342" y="572"/>
                    </a:lnTo>
                    <a:lnTo>
                      <a:pt x="1239" y="503"/>
                    </a:lnTo>
                    <a:lnTo>
                      <a:pt x="1140" y="454"/>
                    </a:lnTo>
                    <a:lnTo>
                      <a:pt x="939" y="393"/>
                    </a:lnTo>
                    <a:lnTo>
                      <a:pt x="713" y="349"/>
                    </a:lnTo>
                    <a:lnTo>
                      <a:pt x="247" y="338"/>
                    </a:lnTo>
                    <a:lnTo>
                      <a:pt x="131" y="387"/>
                    </a:lnTo>
                    <a:lnTo>
                      <a:pt x="0" y="551"/>
                    </a:lnTo>
                    <a:lnTo>
                      <a:pt x="67" y="604"/>
                    </a:lnTo>
                    <a:lnTo>
                      <a:pt x="67" y="6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6649560" y="1400760"/>
                <a:ext cx="909720" cy="1009800"/>
              </a:xfrm>
              <a:custGeom>
                <a:avLst/>
                <a:gdLst/>
                <a:ahLst/>
                <a:rect l="l" t="t" r="r" b="b"/>
                <a:pathLst>
                  <a:path w="4339" h="3901">
                    <a:moveTo>
                      <a:pt x="247" y="1892"/>
                    </a:moveTo>
                    <a:lnTo>
                      <a:pt x="321" y="1671"/>
                    </a:lnTo>
                    <a:lnTo>
                      <a:pt x="371" y="1550"/>
                    </a:lnTo>
                    <a:lnTo>
                      <a:pt x="428" y="1424"/>
                    </a:lnTo>
                    <a:lnTo>
                      <a:pt x="496" y="1295"/>
                    </a:lnTo>
                    <a:lnTo>
                      <a:pt x="578" y="1166"/>
                    </a:lnTo>
                    <a:lnTo>
                      <a:pt x="673" y="1035"/>
                    </a:lnTo>
                    <a:lnTo>
                      <a:pt x="785" y="907"/>
                    </a:lnTo>
                    <a:lnTo>
                      <a:pt x="914" y="784"/>
                    </a:lnTo>
                    <a:lnTo>
                      <a:pt x="1062" y="666"/>
                    </a:lnTo>
                    <a:lnTo>
                      <a:pt x="1144" y="609"/>
                    </a:lnTo>
                    <a:lnTo>
                      <a:pt x="1232" y="554"/>
                    </a:lnTo>
                    <a:lnTo>
                      <a:pt x="1325" y="502"/>
                    </a:lnTo>
                    <a:lnTo>
                      <a:pt x="1422" y="453"/>
                    </a:lnTo>
                    <a:lnTo>
                      <a:pt x="1526" y="407"/>
                    </a:lnTo>
                    <a:lnTo>
                      <a:pt x="1636" y="364"/>
                    </a:lnTo>
                    <a:lnTo>
                      <a:pt x="1752" y="324"/>
                    </a:lnTo>
                    <a:lnTo>
                      <a:pt x="1876" y="286"/>
                    </a:lnTo>
                    <a:lnTo>
                      <a:pt x="2144" y="223"/>
                    </a:lnTo>
                    <a:lnTo>
                      <a:pt x="2439" y="177"/>
                    </a:lnTo>
                    <a:lnTo>
                      <a:pt x="2866" y="153"/>
                    </a:lnTo>
                    <a:lnTo>
                      <a:pt x="3336" y="183"/>
                    </a:lnTo>
                    <a:lnTo>
                      <a:pt x="3792" y="284"/>
                    </a:lnTo>
                    <a:lnTo>
                      <a:pt x="3999" y="364"/>
                    </a:lnTo>
                    <a:lnTo>
                      <a:pt x="4183" y="468"/>
                    </a:lnTo>
                    <a:lnTo>
                      <a:pt x="4172" y="519"/>
                    </a:lnTo>
                    <a:lnTo>
                      <a:pt x="4103" y="633"/>
                    </a:lnTo>
                    <a:lnTo>
                      <a:pt x="4054" y="709"/>
                    </a:lnTo>
                    <a:lnTo>
                      <a:pt x="3997" y="795"/>
                    </a:lnTo>
                    <a:lnTo>
                      <a:pt x="3932" y="890"/>
                    </a:lnTo>
                    <a:lnTo>
                      <a:pt x="3864" y="991"/>
                    </a:lnTo>
                    <a:lnTo>
                      <a:pt x="3792" y="1097"/>
                    </a:lnTo>
                    <a:lnTo>
                      <a:pt x="3718" y="1206"/>
                    </a:lnTo>
                    <a:lnTo>
                      <a:pt x="3645" y="1318"/>
                    </a:lnTo>
                    <a:lnTo>
                      <a:pt x="3577" y="1426"/>
                    </a:lnTo>
                    <a:lnTo>
                      <a:pt x="3512" y="1534"/>
                    </a:lnTo>
                    <a:lnTo>
                      <a:pt x="3453" y="1637"/>
                    </a:lnTo>
                    <a:lnTo>
                      <a:pt x="3364" y="1825"/>
                    </a:lnTo>
                    <a:lnTo>
                      <a:pt x="3250" y="2186"/>
                    </a:lnTo>
                    <a:lnTo>
                      <a:pt x="3159" y="2572"/>
                    </a:lnTo>
                    <a:lnTo>
                      <a:pt x="3077" y="2964"/>
                    </a:lnTo>
                    <a:lnTo>
                      <a:pt x="2992" y="3340"/>
                    </a:lnTo>
                    <a:lnTo>
                      <a:pt x="2965" y="3405"/>
                    </a:lnTo>
                    <a:lnTo>
                      <a:pt x="2916" y="3485"/>
                    </a:lnTo>
                    <a:lnTo>
                      <a:pt x="2857" y="3559"/>
                    </a:lnTo>
                    <a:lnTo>
                      <a:pt x="2802" y="3604"/>
                    </a:lnTo>
                    <a:lnTo>
                      <a:pt x="2708" y="3652"/>
                    </a:lnTo>
                    <a:lnTo>
                      <a:pt x="2591" y="3696"/>
                    </a:lnTo>
                    <a:lnTo>
                      <a:pt x="2372" y="3738"/>
                    </a:lnTo>
                    <a:lnTo>
                      <a:pt x="1847" y="3690"/>
                    </a:lnTo>
                    <a:lnTo>
                      <a:pt x="1635" y="3604"/>
                    </a:lnTo>
                    <a:lnTo>
                      <a:pt x="1521" y="3439"/>
                    </a:lnTo>
                    <a:lnTo>
                      <a:pt x="1524" y="3253"/>
                    </a:lnTo>
                    <a:lnTo>
                      <a:pt x="1559" y="3158"/>
                    </a:lnTo>
                    <a:lnTo>
                      <a:pt x="1608" y="3063"/>
                    </a:lnTo>
                    <a:lnTo>
                      <a:pt x="1674" y="2970"/>
                    </a:lnTo>
                    <a:lnTo>
                      <a:pt x="1749" y="2880"/>
                    </a:lnTo>
                    <a:lnTo>
                      <a:pt x="1834" y="2797"/>
                    </a:lnTo>
                    <a:lnTo>
                      <a:pt x="1925" y="2719"/>
                    </a:lnTo>
                    <a:lnTo>
                      <a:pt x="2032" y="2631"/>
                    </a:lnTo>
                    <a:lnTo>
                      <a:pt x="2155" y="2521"/>
                    </a:lnTo>
                    <a:lnTo>
                      <a:pt x="2285" y="2390"/>
                    </a:lnTo>
                    <a:lnTo>
                      <a:pt x="2406" y="2238"/>
                    </a:lnTo>
                    <a:lnTo>
                      <a:pt x="1827" y="2479"/>
                    </a:lnTo>
                    <a:lnTo>
                      <a:pt x="1800" y="2595"/>
                    </a:lnTo>
                    <a:lnTo>
                      <a:pt x="1739" y="2715"/>
                    </a:lnTo>
                    <a:lnTo>
                      <a:pt x="1654" y="2838"/>
                    </a:lnTo>
                    <a:lnTo>
                      <a:pt x="1555" y="2960"/>
                    </a:lnTo>
                    <a:lnTo>
                      <a:pt x="1458" y="3082"/>
                    </a:lnTo>
                    <a:lnTo>
                      <a:pt x="1372" y="3203"/>
                    </a:lnTo>
                    <a:lnTo>
                      <a:pt x="1291" y="3430"/>
                    </a:lnTo>
                    <a:lnTo>
                      <a:pt x="1304" y="3502"/>
                    </a:lnTo>
                    <a:lnTo>
                      <a:pt x="1340" y="3570"/>
                    </a:lnTo>
                    <a:lnTo>
                      <a:pt x="1393" y="3637"/>
                    </a:lnTo>
                    <a:lnTo>
                      <a:pt x="1460" y="3696"/>
                    </a:lnTo>
                    <a:lnTo>
                      <a:pt x="1536" y="3749"/>
                    </a:lnTo>
                    <a:lnTo>
                      <a:pt x="1610" y="3793"/>
                    </a:lnTo>
                    <a:lnTo>
                      <a:pt x="1743" y="3844"/>
                    </a:lnTo>
                    <a:lnTo>
                      <a:pt x="1971" y="3880"/>
                    </a:lnTo>
                    <a:lnTo>
                      <a:pt x="2218" y="3901"/>
                    </a:lnTo>
                    <a:lnTo>
                      <a:pt x="2686" y="3869"/>
                    </a:lnTo>
                    <a:lnTo>
                      <a:pt x="2864" y="3802"/>
                    </a:lnTo>
                    <a:lnTo>
                      <a:pt x="3028" y="3675"/>
                    </a:lnTo>
                    <a:lnTo>
                      <a:pt x="3166" y="3511"/>
                    </a:lnTo>
                    <a:lnTo>
                      <a:pt x="3265" y="3331"/>
                    </a:lnTo>
                    <a:lnTo>
                      <a:pt x="3374" y="2989"/>
                    </a:lnTo>
                    <a:lnTo>
                      <a:pt x="3453" y="2601"/>
                    </a:lnTo>
                    <a:lnTo>
                      <a:pt x="3526" y="2209"/>
                    </a:lnTo>
                    <a:lnTo>
                      <a:pt x="3567" y="2025"/>
                    </a:lnTo>
                    <a:lnTo>
                      <a:pt x="3611" y="1858"/>
                    </a:lnTo>
                    <a:lnTo>
                      <a:pt x="3676" y="1690"/>
                    </a:lnTo>
                    <a:lnTo>
                      <a:pt x="3759" y="1523"/>
                    </a:lnTo>
                    <a:lnTo>
                      <a:pt x="3858" y="1354"/>
                    </a:lnTo>
                    <a:lnTo>
                      <a:pt x="3963" y="1187"/>
                    </a:lnTo>
                    <a:lnTo>
                      <a:pt x="4016" y="1101"/>
                    </a:lnTo>
                    <a:lnTo>
                      <a:pt x="4071" y="1017"/>
                    </a:lnTo>
                    <a:lnTo>
                      <a:pt x="4172" y="848"/>
                    </a:lnTo>
                    <a:lnTo>
                      <a:pt x="4263" y="679"/>
                    </a:lnTo>
                    <a:lnTo>
                      <a:pt x="4339" y="510"/>
                    </a:lnTo>
                    <a:lnTo>
                      <a:pt x="4316" y="381"/>
                    </a:lnTo>
                    <a:lnTo>
                      <a:pt x="4273" y="261"/>
                    </a:lnTo>
                    <a:lnTo>
                      <a:pt x="4153" y="219"/>
                    </a:lnTo>
                    <a:lnTo>
                      <a:pt x="4033" y="183"/>
                    </a:lnTo>
                    <a:lnTo>
                      <a:pt x="3792" y="118"/>
                    </a:lnTo>
                    <a:lnTo>
                      <a:pt x="3547" y="69"/>
                    </a:lnTo>
                    <a:lnTo>
                      <a:pt x="3301" y="35"/>
                    </a:lnTo>
                    <a:lnTo>
                      <a:pt x="2813" y="0"/>
                    </a:lnTo>
                    <a:lnTo>
                      <a:pt x="2332" y="12"/>
                    </a:lnTo>
                    <a:lnTo>
                      <a:pt x="1865" y="86"/>
                    </a:lnTo>
                    <a:lnTo>
                      <a:pt x="1644" y="153"/>
                    </a:lnTo>
                    <a:lnTo>
                      <a:pt x="1431" y="236"/>
                    </a:lnTo>
                    <a:lnTo>
                      <a:pt x="1329" y="284"/>
                    </a:lnTo>
                    <a:lnTo>
                      <a:pt x="1228" y="335"/>
                    </a:lnTo>
                    <a:lnTo>
                      <a:pt x="1131" y="390"/>
                    </a:lnTo>
                    <a:lnTo>
                      <a:pt x="1036" y="447"/>
                    </a:lnTo>
                    <a:lnTo>
                      <a:pt x="945" y="510"/>
                    </a:lnTo>
                    <a:lnTo>
                      <a:pt x="857" y="575"/>
                    </a:lnTo>
                    <a:lnTo>
                      <a:pt x="692" y="711"/>
                    </a:lnTo>
                    <a:lnTo>
                      <a:pt x="540" y="858"/>
                    </a:lnTo>
                    <a:lnTo>
                      <a:pt x="405" y="1012"/>
                    </a:lnTo>
                    <a:lnTo>
                      <a:pt x="344" y="1092"/>
                    </a:lnTo>
                    <a:lnTo>
                      <a:pt x="287" y="1171"/>
                    </a:lnTo>
                    <a:lnTo>
                      <a:pt x="188" y="1337"/>
                    </a:lnTo>
                    <a:lnTo>
                      <a:pt x="49" y="1673"/>
                    </a:lnTo>
                    <a:lnTo>
                      <a:pt x="0" y="2008"/>
                    </a:lnTo>
                    <a:lnTo>
                      <a:pt x="247" y="1892"/>
                    </a:lnTo>
                    <a:lnTo>
                      <a:pt x="247" y="18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6814800" y="1501200"/>
                <a:ext cx="460800" cy="249120"/>
              </a:xfrm>
              <a:custGeom>
                <a:avLst/>
                <a:gdLst/>
                <a:ahLst/>
                <a:rect l="l" t="t" r="r" b="b"/>
                <a:pathLst>
                  <a:path w="2199" h="962">
                    <a:moveTo>
                      <a:pt x="1844" y="692"/>
                    </a:moveTo>
                    <a:lnTo>
                      <a:pt x="1749" y="742"/>
                    </a:lnTo>
                    <a:lnTo>
                      <a:pt x="1648" y="791"/>
                    </a:lnTo>
                    <a:lnTo>
                      <a:pt x="1540" y="837"/>
                    </a:lnTo>
                    <a:lnTo>
                      <a:pt x="1426" y="877"/>
                    </a:lnTo>
                    <a:lnTo>
                      <a:pt x="1184" y="937"/>
                    </a:lnTo>
                    <a:lnTo>
                      <a:pt x="935" y="962"/>
                    </a:lnTo>
                    <a:lnTo>
                      <a:pt x="682" y="941"/>
                    </a:lnTo>
                    <a:lnTo>
                      <a:pt x="437" y="859"/>
                    </a:lnTo>
                    <a:lnTo>
                      <a:pt x="319" y="793"/>
                    </a:lnTo>
                    <a:lnTo>
                      <a:pt x="207" y="709"/>
                    </a:lnTo>
                    <a:lnTo>
                      <a:pt x="101" y="603"/>
                    </a:lnTo>
                    <a:lnTo>
                      <a:pt x="0" y="477"/>
                    </a:lnTo>
                    <a:lnTo>
                      <a:pt x="53" y="411"/>
                    </a:lnTo>
                    <a:lnTo>
                      <a:pt x="108" y="350"/>
                    </a:lnTo>
                    <a:lnTo>
                      <a:pt x="224" y="244"/>
                    </a:lnTo>
                    <a:lnTo>
                      <a:pt x="285" y="198"/>
                    </a:lnTo>
                    <a:lnTo>
                      <a:pt x="350" y="158"/>
                    </a:lnTo>
                    <a:lnTo>
                      <a:pt x="481" y="91"/>
                    </a:lnTo>
                    <a:lnTo>
                      <a:pt x="620" y="44"/>
                    </a:lnTo>
                    <a:lnTo>
                      <a:pt x="762" y="14"/>
                    </a:lnTo>
                    <a:lnTo>
                      <a:pt x="1057" y="0"/>
                    </a:lnTo>
                    <a:lnTo>
                      <a:pt x="1357" y="42"/>
                    </a:lnTo>
                    <a:lnTo>
                      <a:pt x="1654" y="135"/>
                    </a:lnTo>
                    <a:lnTo>
                      <a:pt x="1798" y="198"/>
                    </a:lnTo>
                    <a:lnTo>
                      <a:pt x="1937" y="268"/>
                    </a:lnTo>
                    <a:lnTo>
                      <a:pt x="2072" y="348"/>
                    </a:lnTo>
                    <a:lnTo>
                      <a:pt x="2199" y="436"/>
                    </a:lnTo>
                    <a:lnTo>
                      <a:pt x="2093" y="538"/>
                    </a:lnTo>
                    <a:lnTo>
                      <a:pt x="1992" y="633"/>
                    </a:lnTo>
                    <a:lnTo>
                      <a:pt x="1901" y="559"/>
                    </a:lnTo>
                    <a:lnTo>
                      <a:pt x="1804" y="489"/>
                    </a:lnTo>
                    <a:lnTo>
                      <a:pt x="1701" y="422"/>
                    </a:lnTo>
                    <a:lnTo>
                      <a:pt x="1593" y="360"/>
                    </a:lnTo>
                    <a:lnTo>
                      <a:pt x="1483" y="302"/>
                    </a:lnTo>
                    <a:lnTo>
                      <a:pt x="1371" y="255"/>
                    </a:lnTo>
                    <a:lnTo>
                      <a:pt x="1255" y="215"/>
                    </a:lnTo>
                    <a:lnTo>
                      <a:pt x="1139" y="187"/>
                    </a:lnTo>
                    <a:lnTo>
                      <a:pt x="905" y="166"/>
                    </a:lnTo>
                    <a:lnTo>
                      <a:pt x="677" y="200"/>
                    </a:lnTo>
                    <a:lnTo>
                      <a:pt x="462" y="304"/>
                    </a:lnTo>
                    <a:lnTo>
                      <a:pt x="264" y="485"/>
                    </a:lnTo>
                    <a:lnTo>
                      <a:pt x="318" y="563"/>
                    </a:lnTo>
                    <a:lnTo>
                      <a:pt x="384" y="628"/>
                    </a:lnTo>
                    <a:lnTo>
                      <a:pt x="464" y="677"/>
                    </a:lnTo>
                    <a:lnTo>
                      <a:pt x="555" y="717"/>
                    </a:lnTo>
                    <a:lnTo>
                      <a:pt x="760" y="764"/>
                    </a:lnTo>
                    <a:lnTo>
                      <a:pt x="990" y="778"/>
                    </a:lnTo>
                    <a:lnTo>
                      <a:pt x="1456" y="743"/>
                    </a:lnTo>
                    <a:lnTo>
                      <a:pt x="1844" y="692"/>
                    </a:lnTo>
                    <a:lnTo>
                      <a:pt x="1844" y="6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7036560" y="1598760"/>
                <a:ext cx="37800" cy="46800"/>
              </a:xfrm>
              <a:custGeom>
                <a:avLst/>
                <a:gdLst/>
                <a:ahLst/>
                <a:rect l="l" t="t" r="r" b="b"/>
                <a:pathLst>
                  <a:path w="181" h="182">
                    <a:moveTo>
                      <a:pt x="91" y="0"/>
                    </a:moveTo>
                    <a:lnTo>
                      <a:pt x="154" y="28"/>
                    </a:lnTo>
                    <a:lnTo>
                      <a:pt x="181" y="91"/>
                    </a:lnTo>
                    <a:lnTo>
                      <a:pt x="154" y="155"/>
                    </a:lnTo>
                    <a:lnTo>
                      <a:pt x="91" y="182"/>
                    </a:lnTo>
                    <a:lnTo>
                      <a:pt x="27" y="155"/>
                    </a:lnTo>
                    <a:lnTo>
                      <a:pt x="0" y="91"/>
                    </a:lnTo>
                    <a:lnTo>
                      <a:pt x="27" y="28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6981120" y="1530360"/>
                <a:ext cx="100440" cy="183960"/>
              </a:xfrm>
              <a:custGeom>
                <a:avLst/>
                <a:gdLst/>
                <a:ahLst/>
                <a:rect l="l" t="t" r="r" b="b"/>
                <a:pathLst>
                  <a:path w="479" h="711">
                    <a:moveTo>
                      <a:pt x="125" y="711"/>
                    </a:moveTo>
                    <a:lnTo>
                      <a:pt x="0" y="630"/>
                    </a:lnTo>
                    <a:lnTo>
                      <a:pt x="125" y="555"/>
                    </a:lnTo>
                    <a:lnTo>
                      <a:pt x="268" y="495"/>
                    </a:lnTo>
                    <a:lnTo>
                      <a:pt x="330" y="348"/>
                    </a:lnTo>
                    <a:lnTo>
                      <a:pt x="313" y="268"/>
                    </a:lnTo>
                    <a:lnTo>
                      <a:pt x="268" y="200"/>
                    </a:lnTo>
                    <a:lnTo>
                      <a:pt x="201" y="151"/>
                    </a:lnTo>
                    <a:lnTo>
                      <a:pt x="125" y="133"/>
                    </a:lnTo>
                    <a:lnTo>
                      <a:pt x="0" y="75"/>
                    </a:lnTo>
                    <a:lnTo>
                      <a:pt x="125" y="0"/>
                    </a:lnTo>
                    <a:lnTo>
                      <a:pt x="264" y="29"/>
                    </a:lnTo>
                    <a:lnTo>
                      <a:pt x="376" y="103"/>
                    </a:lnTo>
                    <a:lnTo>
                      <a:pt x="452" y="217"/>
                    </a:lnTo>
                    <a:lnTo>
                      <a:pt x="479" y="356"/>
                    </a:lnTo>
                    <a:lnTo>
                      <a:pt x="452" y="495"/>
                    </a:lnTo>
                    <a:lnTo>
                      <a:pt x="420" y="557"/>
                    </a:lnTo>
                    <a:lnTo>
                      <a:pt x="376" y="609"/>
                    </a:lnTo>
                    <a:lnTo>
                      <a:pt x="323" y="652"/>
                    </a:lnTo>
                    <a:lnTo>
                      <a:pt x="264" y="685"/>
                    </a:lnTo>
                    <a:lnTo>
                      <a:pt x="125" y="711"/>
                    </a:lnTo>
                    <a:lnTo>
                      <a:pt x="125" y="7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7029720" y="1530360"/>
                <a:ext cx="100800" cy="183960"/>
              </a:xfrm>
              <a:custGeom>
                <a:avLst/>
                <a:gdLst/>
                <a:ahLst/>
                <a:rect l="l" t="t" r="r" b="b"/>
                <a:pathLst>
                  <a:path w="481" h="711">
                    <a:moveTo>
                      <a:pt x="357" y="711"/>
                    </a:moveTo>
                    <a:lnTo>
                      <a:pt x="481" y="630"/>
                    </a:lnTo>
                    <a:lnTo>
                      <a:pt x="357" y="555"/>
                    </a:lnTo>
                    <a:lnTo>
                      <a:pt x="217" y="495"/>
                    </a:lnTo>
                    <a:lnTo>
                      <a:pt x="158" y="348"/>
                    </a:lnTo>
                    <a:lnTo>
                      <a:pt x="175" y="268"/>
                    </a:lnTo>
                    <a:lnTo>
                      <a:pt x="217" y="200"/>
                    </a:lnTo>
                    <a:lnTo>
                      <a:pt x="279" y="151"/>
                    </a:lnTo>
                    <a:lnTo>
                      <a:pt x="357" y="133"/>
                    </a:lnTo>
                    <a:lnTo>
                      <a:pt x="481" y="75"/>
                    </a:lnTo>
                    <a:lnTo>
                      <a:pt x="357" y="0"/>
                    </a:lnTo>
                    <a:lnTo>
                      <a:pt x="217" y="29"/>
                    </a:lnTo>
                    <a:lnTo>
                      <a:pt x="104" y="103"/>
                    </a:lnTo>
                    <a:lnTo>
                      <a:pt x="28" y="217"/>
                    </a:lnTo>
                    <a:lnTo>
                      <a:pt x="0" y="356"/>
                    </a:lnTo>
                    <a:lnTo>
                      <a:pt x="28" y="495"/>
                    </a:lnTo>
                    <a:lnTo>
                      <a:pt x="61" y="557"/>
                    </a:lnTo>
                    <a:lnTo>
                      <a:pt x="104" y="609"/>
                    </a:lnTo>
                    <a:lnTo>
                      <a:pt x="158" y="652"/>
                    </a:lnTo>
                    <a:lnTo>
                      <a:pt x="217" y="685"/>
                    </a:lnTo>
                    <a:lnTo>
                      <a:pt x="357" y="711"/>
                    </a:lnTo>
                    <a:lnTo>
                      <a:pt x="357" y="7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6775200" y="1506600"/>
                <a:ext cx="159120" cy="152280"/>
              </a:xfrm>
              <a:custGeom>
                <a:avLst/>
                <a:gdLst/>
                <a:ahLst/>
                <a:rect l="l" t="t" r="r" b="b"/>
                <a:pathLst>
                  <a:path w="760" h="588">
                    <a:moveTo>
                      <a:pt x="380" y="588"/>
                    </a:moveTo>
                    <a:lnTo>
                      <a:pt x="760" y="264"/>
                    </a:lnTo>
                    <a:lnTo>
                      <a:pt x="447" y="316"/>
                    </a:lnTo>
                    <a:lnTo>
                      <a:pt x="528" y="91"/>
                    </a:lnTo>
                    <a:lnTo>
                      <a:pt x="239" y="215"/>
                    </a:lnTo>
                    <a:lnTo>
                      <a:pt x="274" y="0"/>
                    </a:lnTo>
                    <a:lnTo>
                      <a:pt x="0" y="158"/>
                    </a:lnTo>
                    <a:lnTo>
                      <a:pt x="380" y="588"/>
                    </a:lnTo>
                    <a:lnTo>
                      <a:pt x="380" y="5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6969240" y="1298880"/>
                <a:ext cx="56520" cy="125280"/>
              </a:xfrm>
              <a:custGeom>
                <a:avLst/>
                <a:gdLst/>
                <a:ahLst/>
                <a:rect l="l" t="t" r="r" b="b"/>
                <a:pathLst>
                  <a:path w="270" h="485">
                    <a:moveTo>
                      <a:pt x="23" y="464"/>
                    </a:moveTo>
                    <a:lnTo>
                      <a:pt x="0" y="317"/>
                    </a:lnTo>
                    <a:lnTo>
                      <a:pt x="32" y="173"/>
                    </a:lnTo>
                    <a:lnTo>
                      <a:pt x="72" y="108"/>
                    </a:lnTo>
                    <a:lnTo>
                      <a:pt x="125" y="49"/>
                    </a:lnTo>
                    <a:lnTo>
                      <a:pt x="188" y="8"/>
                    </a:lnTo>
                    <a:lnTo>
                      <a:pt x="255" y="0"/>
                    </a:lnTo>
                    <a:lnTo>
                      <a:pt x="270" y="25"/>
                    </a:lnTo>
                    <a:lnTo>
                      <a:pt x="237" y="78"/>
                    </a:lnTo>
                    <a:lnTo>
                      <a:pt x="156" y="198"/>
                    </a:lnTo>
                    <a:lnTo>
                      <a:pt x="148" y="454"/>
                    </a:lnTo>
                    <a:lnTo>
                      <a:pt x="85" y="485"/>
                    </a:lnTo>
                    <a:lnTo>
                      <a:pt x="23" y="464"/>
                    </a:lnTo>
                    <a:lnTo>
                      <a:pt x="23" y="4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6882120" y="1298880"/>
                <a:ext cx="66600" cy="11988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13" y="454"/>
                    </a:moveTo>
                    <a:lnTo>
                      <a:pt x="0" y="306"/>
                    </a:lnTo>
                    <a:lnTo>
                      <a:pt x="45" y="165"/>
                    </a:lnTo>
                    <a:lnTo>
                      <a:pt x="97" y="99"/>
                    </a:lnTo>
                    <a:lnTo>
                      <a:pt x="161" y="40"/>
                    </a:lnTo>
                    <a:lnTo>
                      <a:pt x="235" y="0"/>
                    </a:lnTo>
                    <a:lnTo>
                      <a:pt x="309" y="0"/>
                    </a:lnTo>
                    <a:lnTo>
                      <a:pt x="319" y="27"/>
                    </a:lnTo>
                    <a:lnTo>
                      <a:pt x="273" y="78"/>
                    </a:lnTo>
                    <a:lnTo>
                      <a:pt x="169" y="198"/>
                    </a:lnTo>
                    <a:lnTo>
                      <a:pt x="127" y="464"/>
                    </a:lnTo>
                    <a:lnTo>
                      <a:pt x="13" y="454"/>
                    </a:lnTo>
                    <a:lnTo>
                      <a:pt x="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6793920" y="1295280"/>
                <a:ext cx="79560" cy="123480"/>
              </a:xfrm>
              <a:custGeom>
                <a:avLst/>
                <a:gdLst/>
                <a:ahLst/>
                <a:rect l="l" t="t" r="r" b="b"/>
                <a:pathLst>
                  <a:path w="378" h="477">
                    <a:moveTo>
                      <a:pt x="0" y="460"/>
                    </a:moveTo>
                    <a:lnTo>
                      <a:pt x="7" y="308"/>
                    </a:lnTo>
                    <a:lnTo>
                      <a:pt x="66" y="161"/>
                    </a:lnTo>
                    <a:lnTo>
                      <a:pt x="127" y="97"/>
                    </a:lnTo>
                    <a:lnTo>
                      <a:pt x="205" y="36"/>
                    </a:lnTo>
                    <a:lnTo>
                      <a:pt x="289" y="0"/>
                    </a:lnTo>
                    <a:lnTo>
                      <a:pt x="365" y="5"/>
                    </a:lnTo>
                    <a:lnTo>
                      <a:pt x="378" y="43"/>
                    </a:lnTo>
                    <a:lnTo>
                      <a:pt x="323" y="95"/>
                    </a:lnTo>
                    <a:lnTo>
                      <a:pt x="190" y="211"/>
                    </a:lnTo>
                    <a:lnTo>
                      <a:pt x="108" y="477"/>
                    </a:lnTo>
                    <a:lnTo>
                      <a:pt x="0" y="460"/>
                    </a:lnTo>
                    <a:lnTo>
                      <a:pt x="0" y="4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6707160" y="1314360"/>
                <a:ext cx="92160" cy="129240"/>
              </a:xfrm>
              <a:custGeom>
                <a:avLst/>
                <a:gdLst/>
                <a:ahLst/>
                <a:rect l="l" t="t" r="r" b="b"/>
                <a:pathLst>
                  <a:path w="439" h="500">
                    <a:moveTo>
                      <a:pt x="0" y="467"/>
                    </a:moveTo>
                    <a:lnTo>
                      <a:pt x="16" y="306"/>
                    </a:lnTo>
                    <a:lnTo>
                      <a:pt x="44" y="228"/>
                    </a:lnTo>
                    <a:lnTo>
                      <a:pt x="92" y="161"/>
                    </a:lnTo>
                    <a:lnTo>
                      <a:pt x="166" y="95"/>
                    </a:lnTo>
                    <a:lnTo>
                      <a:pt x="255" y="34"/>
                    </a:lnTo>
                    <a:lnTo>
                      <a:pt x="348" y="0"/>
                    </a:lnTo>
                    <a:lnTo>
                      <a:pt x="430" y="13"/>
                    </a:lnTo>
                    <a:lnTo>
                      <a:pt x="439" y="55"/>
                    </a:lnTo>
                    <a:lnTo>
                      <a:pt x="371" y="104"/>
                    </a:lnTo>
                    <a:lnTo>
                      <a:pt x="278" y="160"/>
                    </a:lnTo>
                    <a:lnTo>
                      <a:pt x="207" y="220"/>
                    </a:lnTo>
                    <a:lnTo>
                      <a:pt x="99" y="492"/>
                    </a:lnTo>
                    <a:lnTo>
                      <a:pt x="42" y="500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6629400" y="1344240"/>
                <a:ext cx="105480" cy="131760"/>
              </a:xfrm>
              <a:custGeom>
                <a:avLst/>
                <a:gdLst/>
                <a:ahLst/>
                <a:rect l="l" t="t" r="r" b="b"/>
                <a:pathLst>
                  <a:path w="504" h="509">
                    <a:moveTo>
                      <a:pt x="0" y="467"/>
                    </a:moveTo>
                    <a:lnTo>
                      <a:pt x="35" y="306"/>
                    </a:lnTo>
                    <a:lnTo>
                      <a:pt x="73" y="228"/>
                    </a:lnTo>
                    <a:lnTo>
                      <a:pt x="124" y="161"/>
                    </a:lnTo>
                    <a:lnTo>
                      <a:pt x="207" y="95"/>
                    </a:lnTo>
                    <a:lnTo>
                      <a:pt x="306" y="32"/>
                    </a:lnTo>
                    <a:lnTo>
                      <a:pt x="409" y="0"/>
                    </a:lnTo>
                    <a:lnTo>
                      <a:pt x="496" y="21"/>
                    </a:lnTo>
                    <a:lnTo>
                      <a:pt x="504" y="70"/>
                    </a:lnTo>
                    <a:lnTo>
                      <a:pt x="428" y="118"/>
                    </a:lnTo>
                    <a:lnTo>
                      <a:pt x="322" y="171"/>
                    </a:lnTo>
                    <a:lnTo>
                      <a:pt x="240" y="228"/>
                    </a:lnTo>
                    <a:lnTo>
                      <a:pt x="169" y="374"/>
                    </a:lnTo>
                    <a:lnTo>
                      <a:pt x="137" y="448"/>
                    </a:lnTo>
                    <a:lnTo>
                      <a:pt x="92" y="509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6" name=""/>
          <p:cNvSpPr/>
          <p:nvPr/>
        </p:nvSpPr>
        <p:spPr>
          <a:xfrm>
            <a:off x="4343400" y="380988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Comic Sans MS"/>
              </a:rPr>
              <a:t>8 ÷ 4 = 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971800" y="2971800"/>
            <a:ext cx="3809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ulti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5T16:07:34Z</dcterms:created>
  <dc:creator>Community Campus</dc:creator>
  <dc:description/>
  <dc:language>en-US</dc:language>
  <cp:lastModifiedBy>iddcws</cp:lastModifiedBy>
  <dcterms:modified xsi:type="dcterms:W3CDTF">2003-01-28T18:49:48Z</dcterms:modified>
  <cp:revision>84</cp:revision>
  <dc:subject/>
  <dc:title>PowerPoint Presentation</dc:title>
</cp:coreProperties>
</file>