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2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30.png" ContentType="image/png"/>
  <Override PartName="/ppt/media/image12.png" ContentType="image/png"/>
  <Override PartName="/ppt/media/image23.jpeg" ContentType="image/jpeg"/>
  <Override PartName="/ppt/media/image25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4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09680" y="678168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www.florida.computerjobs.com/salary99/salary_exp.cfm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www.hd.org/Damon/photos/_virtual/Cust_urban/Sp/archive-1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91240" y="2575080"/>
            <a:ext cx="2427480" cy="193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889360" y="1660680"/>
            <a:ext cx="394488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Tables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Charts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Graph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2120" y="1623960"/>
            <a:ext cx="2130480" cy="212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79600" y="4133880"/>
            <a:ext cx="23097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42880" y="1698480"/>
            <a:ext cx="6258240" cy="10479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433520" y="2738520"/>
            <a:ext cx="6276960" cy="54288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279440" y="3970440"/>
            <a:ext cx="4372920" cy="1050840"/>
            <a:chOff x="1279440" y="3970440"/>
            <a:chExt cx="4372920" cy="1050840"/>
          </a:xfrm>
        </p:grpSpPr>
        <p:grpSp>
          <p:nvGrpSpPr>
            <p:cNvPr id="210" name=""/>
            <p:cNvGrpSpPr/>
            <p:nvPr/>
          </p:nvGrpSpPr>
          <p:grpSpPr>
            <a:xfrm>
              <a:off x="1279440" y="3970440"/>
              <a:ext cx="4372920" cy="1050840"/>
              <a:chOff x="1279440" y="3970440"/>
              <a:chExt cx="4372920" cy="1050840"/>
            </a:xfrm>
          </p:grpSpPr>
          <p:sp>
            <p:nvSpPr>
              <p:cNvPr id="211" name=""/>
              <p:cNvSpPr/>
              <p:nvPr/>
            </p:nvSpPr>
            <p:spPr>
              <a:xfrm>
                <a:off x="1279440" y="4205520"/>
                <a:ext cx="129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U.S.A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079440" y="3970440"/>
                <a:ext cx="2572920" cy="1050840"/>
                <a:chOff x="3079440" y="3970440"/>
                <a:chExt cx="2572920" cy="10508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268440" y="3970440"/>
                  <a:ext cx="2193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285,000,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71120" y="4500720"/>
                  <a:ext cx="1788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3,718,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079440" y="4488120"/>
                  <a:ext cx="2572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2577960" y="4205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500360" y="4179240"/>
              <a:ext cx="1031760" cy="642960"/>
              <a:chOff x="4500360" y="4179240"/>
              <a:chExt cx="1031760" cy="64296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4725720" y="4179240"/>
                <a:ext cx="806400" cy="123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4500360" y="4698360"/>
                <a:ext cx="806400" cy="123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5967000" y="4205160"/>
            <a:ext cx="1179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 76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33280" y="2760840"/>
            <a:ext cx="784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7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71600" y="1995480"/>
          <a:ext cx="8199360" cy="4148280"/>
        </p:xfrm>
        <a:graphic>
          <a:graphicData uri="http://schemas.openxmlformats.org/drawingml/2006/table">
            <a:tbl>
              <a:tblPr/>
              <a:tblGrid>
                <a:gridCol w="1498320"/>
                <a:gridCol w="2832120"/>
                <a:gridCol w="1797120"/>
                <a:gridCol w="2071800"/>
              </a:tblGrid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276640" y="139212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Population and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0880" y="2076480"/>
            <a:ext cx="8175600" cy="3981240"/>
            <a:chOff x="470880" y="2076480"/>
            <a:chExt cx="8175600" cy="3981240"/>
          </a:xfrm>
        </p:grpSpPr>
        <p:sp>
          <p:nvSpPr>
            <p:cNvPr id="226" name=""/>
            <p:cNvSpPr/>
            <p:nvPr/>
          </p:nvSpPr>
          <p:spPr>
            <a:xfrm>
              <a:off x="470880" y="24717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ount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5880" y="2313000"/>
              <a:ext cx="2878200" cy="838800"/>
              <a:chOff x="1955880" y="2313000"/>
              <a:chExt cx="2878200" cy="838800"/>
            </a:xfrm>
          </p:grpSpPr>
          <p:sp>
            <p:nvSpPr>
              <p:cNvPr id="228" name=""/>
              <p:cNvSpPr/>
              <p:nvPr/>
            </p:nvSpPr>
            <p:spPr>
              <a:xfrm>
                <a:off x="2686320" y="2722680"/>
                <a:ext cx="1415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mid-200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5880" y="2313000"/>
                <a:ext cx="287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Population (M’S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544680" y="4140000"/>
              <a:ext cx="136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ex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200" y="4842000"/>
              <a:ext cx="125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uss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4120" y="553716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U.S.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00600" y="346716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2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00600" y="414000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00600" y="484200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4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00240" y="553716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8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9600" y="3467160"/>
              <a:ext cx="111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Jap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43160" y="2289240"/>
              <a:ext cx="1486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re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q. Mi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6360" y="2076480"/>
              <a:ext cx="2040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ens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per sq. mi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40640" y="3467160"/>
              <a:ext cx="149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46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42080" y="4140000"/>
              <a:ext cx="149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756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92680" y="4842000"/>
              <a:ext cx="178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6,592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93040" y="5537160"/>
              <a:ext cx="178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,718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083360" y="3554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869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83360" y="4229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132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83800" y="4930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83800" y="56246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6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79320" y="1422360"/>
            <a:ext cx="7642440" cy="1568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79320" y="2938320"/>
            <a:ext cx="7626600" cy="2443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82560" y="1442880"/>
            <a:ext cx="2570400" cy="568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82560" y="4464000"/>
            <a:ext cx="7623360" cy="1581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4040" y="2075040"/>
            <a:ext cx="3276720" cy="3282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191840" y="2556000"/>
            <a:ext cx="4011480" cy="22874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rr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ling join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$86,10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79320" y="1422360"/>
            <a:ext cx="7642440" cy="1568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79320" y="2938320"/>
            <a:ext cx="7626600" cy="24433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82560" y="1442880"/>
            <a:ext cx="2570400" cy="568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82560" y="4464000"/>
            <a:ext cx="7623360" cy="1581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239840" y="2330280"/>
            <a:ext cx="2013120" cy="608040"/>
          </a:xfrm>
          <a:prstGeom prst="wedgeRectCallout">
            <a:avLst>
              <a:gd name="adj1" fmla="val -10962"/>
              <a:gd name="adj2" fmla="val 486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86,1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5609880"/>
            <a:ext cx="1282680" cy="2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83080" y="5381640"/>
            <a:ext cx="1189080" cy="442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38160" y="1397160"/>
            <a:ext cx="6794640" cy="3447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592520" y="2290680"/>
            <a:ext cx="38912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percenta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total income goes for tax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90400" y="5157720"/>
                <a:ext cx="2586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hole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263760" y="5183280"/>
                <a:ext cx="2337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7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702400" y="5487840"/>
                <a:ext cx="2962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54040" y="2075040"/>
            <a:ext cx="3276720" cy="32828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191840" y="2556000"/>
            <a:ext cx="4011480" cy="22874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rr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ling join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$32,0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9200" y="1471680"/>
            <a:ext cx="7545240" cy="3087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9200" y="2305080"/>
            <a:ext cx="2436840" cy="608040"/>
          </a:xfrm>
          <a:prstGeom prst="wedgeRectCallout">
            <a:avLst>
              <a:gd name="adj1" fmla="val 31300"/>
              <a:gd name="adj2" fmla="val 1682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32,0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08480" y="3656160"/>
            <a:ext cx="214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0400" y="5157720"/>
                <a:ext cx="2586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hole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33880" y="5183280"/>
                <a:ext cx="23986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702400" y="5487840"/>
                <a:ext cx="2962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211480" y="3776760"/>
            <a:ext cx="4721040" cy="2313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671480" y="2809800"/>
            <a:ext cx="5605560" cy="25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</a:rPr>
              <a:t>Chart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659040" y="2274840"/>
            <a:ext cx="4721400" cy="2313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01880" y="1704960"/>
            <a:ext cx="1633320" cy="1293840"/>
          </a:xfrm>
          <a:prstGeom prst="wedgeRectCallout">
            <a:avLst>
              <a:gd name="adj1" fmla="val 163217"/>
              <a:gd name="adj2" fmla="val 497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6160" y="3494160"/>
            <a:ext cx="242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ful to show relations between quant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7200" y="1447920"/>
            <a:ext cx="8229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hen you finish this unit, you will be able to solve problems using data from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3600" y="2797200"/>
            <a:ext cx="3124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e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r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Pie Chart"/>
          <p:cNvPicPr/>
          <p:nvPr/>
        </p:nvPicPr>
        <p:blipFill>
          <a:blip r:embed="rId1"/>
          <a:stretch/>
        </p:blipFill>
        <p:spPr>
          <a:xfrm>
            <a:off x="1184400" y="1982880"/>
            <a:ext cx="6702480" cy="3714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38280" y="1319040"/>
            <a:ext cx="76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ttendance at Technology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25480" y="582120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120 Attend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Pie Chart"/>
          <p:cNvPicPr/>
          <p:nvPr/>
        </p:nvPicPr>
        <p:blipFill>
          <a:blip r:embed="rId1"/>
          <a:stretch/>
        </p:blipFill>
        <p:spPr>
          <a:xfrm>
            <a:off x="696960" y="1919160"/>
            <a:ext cx="4270320" cy="25495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84560" y="1363680"/>
            <a:ext cx="55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endance at Technolog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81040" y="13510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120 Attend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19560" y="2116080"/>
            <a:ext cx="353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president/ceo/consultants atten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190520" y="3795840"/>
            <a:ext cx="4530960" cy="1464840"/>
            <a:chOff x="1190520" y="3795840"/>
            <a:chExt cx="4530960" cy="1464840"/>
          </a:xfrm>
        </p:grpSpPr>
        <p:sp>
          <p:nvSpPr>
            <p:cNvPr id="297" name=""/>
            <p:cNvSpPr/>
            <p:nvPr/>
          </p:nvSpPr>
          <p:spPr>
            <a:xfrm flipH="1" flipV="1">
              <a:off x="1190520" y="3795840"/>
              <a:ext cx="1324080" cy="11570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32240" y="4618080"/>
              <a:ext cx="3189240" cy="6426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7.3% of 21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82480" y="5670720"/>
                <a:ext cx="2630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12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417840" y="5638680"/>
                <a:ext cx="5354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67</m:t>
                    </m:r>
                    <m:r>
                      <m:rPr>
                        <m:lit/>
                        <m:nor/>
                      </m:rPr>
                      <m:t xml:space="preserve">presiden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t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Pie Chart"/>
          <p:cNvPicPr/>
          <p:nvPr/>
        </p:nvPicPr>
        <p:blipFill>
          <a:blip r:embed="rId1"/>
          <a:stretch/>
        </p:blipFill>
        <p:spPr>
          <a:xfrm>
            <a:off x="696960" y="1919160"/>
            <a:ext cx="4270320" cy="2549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84560" y="1363680"/>
            <a:ext cx="55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tendance at Technolog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81040" y="13510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120 Attend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08480" y="2039760"/>
            <a:ext cx="353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ratio of analysts to preside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00400" y="2039760"/>
            <a:ext cx="2008080" cy="716040"/>
          </a:xfrm>
          <a:prstGeom prst="wedgeRectCallout">
            <a:avLst>
              <a:gd name="adj1" fmla="val -117745"/>
              <a:gd name="adj2" fmla="val 23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28760" y="3613320"/>
            <a:ext cx="2738520" cy="715680"/>
          </a:xfrm>
          <a:prstGeom prst="wedgeRectCallout">
            <a:avLst>
              <a:gd name="adj1" fmla="val -70115"/>
              <a:gd name="adj2" fmla="val -768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si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23960" y="4735440"/>
                <a:ext cx="31179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nalys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siden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154400" y="4697280"/>
                <a:ext cx="14544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892840" y="4916520"/>
                <a:ext cx="15955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550080" y="5819760"/>
            <a:ext cx="801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ughly 2 analysts for every 5 pres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184140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[Pie chart]"/>
          <p:cNvPicPr/>
          <p:nvPr/>
        </p:nvPicPr>
        <p:blipFill>
          <a:blip r:embed="rId1"/>
          <a:stretch/>
        </p:blipFill>
        <p:spPr>
          <a:xfrm>
            <a:off x="2189160" y="1981080"/>
            <a:ext cx="4549680" cy="42814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812160" y="1357200"/>
            <a:ext cx="74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faculty at University of Waterl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13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84140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[Pie chart]"/>
          <p:cNvPicPr/>
          <p:nvPr/>
        </p:nvPicPr>
        <p:blipFill>
          <a:blip r:embed="rId1"/>
          <a:stretch/>
        </p:blipFill>
        <p:spPr>
          <a:xfrm>
            <a:off x="798480" y="1981080"/>
            <a:ext cx="4549680" cy="4281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812160" y="1357200"/>
            <a:ext cx="74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faculty at University of Waterl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73880" y="1876320"/>
            <a:ext cx="298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percent of faculty are in the math depart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573880" y="4816440"/>
                <a:ext cx="29811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hole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3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84140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[Pie chart]"/>
          <p:cNvPicPr/>
          <p:nvPr/>
        </p:nvPicPr>
        <p:blipFill>
          <a:blip r:embed="rId1"/>
          <a:stretch/>
        </p:blipFill>
        <p:spPr>
          <a:xfrm>
            <a:off x="798480" y="2095560"/>
            <a:ext cx="2890800" cy="27208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3960" y="1343160"/>
            <a:ext cx="82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percent of faculty are in the math depart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08120" y="5327640"/>
                <a:ext cx="29811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hole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5265720" y="1905120"/>
            <a:ext cx="239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8  SC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44  AH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3   AR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79   E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61   ES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153   MA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58 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375080" y="5327640"/>
                <a:ext cx="34606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290600" y="1698480"/>
            <a:ext cx="6561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Bar Graph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025720" y="3772080"/>
            <a:ext cx="5232240" cy="2692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38120" y="12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8120" y="12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906480" y="1824120"/>
            <a:ext cx="7143840" cy="4286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570040" y="2473200"/>
            <a:ext cx="3892680" cy="446040"/>
          </a:xfrm>
          <a:prstGeom prst="wedgeRectCallout">
            <a:avLst>
              <a:gd name="adj1" fmla="val -84296"/>
              <a:gd name="adj2" fmla="val 10480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38120" y="12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8120" y="12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65280" y="1608120"/>
            <a:ext cx="7976880" cy="4730400"/>
            <a:chOff x="665280" y="1608120"/>
            <a:chExt cx="7976880" cy="4730400"/>
          </a:xfrm>
        </p:grpSpPr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665280" y="1608120"/>
              <a:ext cx="7976880" cy="47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522880" y="2324520"/>
              <a:ext cx="4346640" cy="492120"/>
            </a:xfrm>
            <a:prstGeom prst="wedgeRectCallout">
              <a:avLst>
                <a:gd name="adj1" fmla="val -84296"/>
                <a:gd name="adj2" fmla="val 1048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umber of Stud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887480" y="3365640"/>
            <a:ext cx="70488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68680" y="4159080"/>
            <a:ext cx="70488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70400" y="4197240"/>
            <a:ext cx="70488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51600" y="4991040"/>
            <a:ext cx="70488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38120" y="12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8120" y="12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34680" y="2647800"/>
            <a:ext cx="180072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5 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89600" y="3483000"/>
            <a:ext cx="209016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8 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34520" y="4317840"/>
            <a:ext cx="219996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7 pla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75280" y="5154480"/>
            <a:ext cx="191808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0 g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0040" y="1812960"/>
            <a:ext cx="351216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ents,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67120" y="14860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37000" y="1533600"/>
            <a:ext cx="420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re are a total of 250 students in the school, what percentage recycles c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830840" y="4224240"/>
                <a:ext cx="29811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hole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564080" y="5452920"/>
                <a:ext cx="34783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55800" y="2685960"/>
            <a:ext cx="533088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able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23040" y="1998720"/>
            <a:ext cx="2960640" cy="3427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210672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5040" y="1763640"/>
            <a:ext cx="7148520" cy="40910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743040" y="2000160"/>
            <a:ext cx="3828960" cy="379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Lin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Graph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896000" y="1677960"/>
            <a:ext cx="3181320" cy="453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434880" y="1066680"/>
          <a:ext cx="822024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066680"/>
                    <a:ext cx="8220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7" name=""/>
          <p:cNvGrpSpPr/>
          <p:nvPr/>
        </p:nvGrpSpPr>
        <p:grpSpPr>
          <a:xfrm>
            <a:off x="1860480" y="3238560"/>
            <a:ext cx="5068800" cy="2047680"/>
            <a:chOff x="1860480" y="3238560"/>
            <a:chExt cx="5068800" cy="2047680"/>
          </a:xfrm>
        </p:grpSpPr>
        <p:sp>
          <p:nvSpPr>
            <p:cNvPr id="368" name=""/>
            <p:cNvSpPr/>
            <p:nvPr/>
          </p:nvSpPr>
          <p:spPr>
            <a:xfrm>
              <a:off x="6929280" y="3238560"/>
              <a:ext cx="0" cy="204768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1860480" y="3238560"/>
              <a:ext cx="506880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940120" y="2070000"/>
            <a:ext cx="2747880" cy="573120"/>
          </a:xfrm>
          <a:prstGeom prst="wedgeRoundRectCallout">
            <a:avLst>
              <a:gd name="adj1" fmla="val 94365"/>
              <a:gd name="adj2" fmla="val 15332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8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762200" y="1339920"/>
            <a:ext cx="68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What was the approximate population in 197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79600" y="601812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970: approximately 3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74720" y="2359080"/>
            <a:ext cx="6597720" cy="281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74720" y="4862520"/>
            <a:ext cx="659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74720" y="4549680"/>
            <a:ext cx="659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74720" y="4237200"/>
            <a:ext cx="659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74720" y="3924360"/>
            <a:ext cx="659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74720" y="3611520"/>
            <a:ext cx="659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4720" y="3298680"/>
            <a:ext cx="659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4720" y="2984400"/>
            <a:ext cx="659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4720" y="2671920"/>
            <a:ext cx="659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74720" y="2359080"/>
            <a:ext cx="659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74720" y="2359080"/>
            <a:ext cx="6597720" cy="2816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2359080"/>
            <a:ext cx="1800" cy="281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25760" y="51753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5760" y="486252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5760" y="45496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5760" y="42372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25760" y="39243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25760" y="361152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5760" y="32986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5760" y="298440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25760" y="267192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25760" y="23590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74720" y="5175360"/>
            <a:ext cx="659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222640" y="51415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324240" y="51415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425840" y="514152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521320" y="51415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622920" y="514152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724880" y="51415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674720" y="51753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776680" y="51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871800" y="517536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973760" y="51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075360" y="51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170840" y="51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8272440" y="517536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222640" y="4316400"/>
            <a:ext cx="1101600" cy="51264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324240" y="4083120"/>
            <a:ext cx="1101600" cy="23328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25840" y="3551040"/>
            <a:ext cx="1095480" cy="53172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521320" y="3090600"/>
            <a:ext cx="1101600" cy="46044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622920" y="2671920"/>
            <a:ext cx="1101960" cy="41904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1760" y="4809960"/>
            <a:ext cx="34920" cy="33480"/>
          </a:xfrm>
          <a:prstGeom prst="ellipse">
            <a:avLst/>
          </a:prstGeom>
          <a:solidFill>
            <a:srgbClr val="000080"/>
          </a:solidFill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03720" y="4297320"/>
            <a:ext cx="34920" cy="33480"/>
          </a:xfrm>
          <a:prstGeom prst="ellipse">
            <a:avLst/>
          </a:prstGeom>
          <a:solidFill>
            <a:srgbClr val="000080"/>
          </a:solidFill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05320" y="4064040"/>
            <a:ext cx="34920" cy="33120"/>
          </a:xfrm>
          <a:prstGeom prst="ellipse">
            <a:avLst/>
          </a:prstGeom>
          <a:solidFill>
            <a:srgbClr val="000080"/>
          </a:solidFill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99000" y="3530520"/>
            <a:ext cx="36720" cy="33480"/>
          </a:xfrm>
          <a:prstGeom prst="ellipse">
            <a:avLst/>
          </a:prstGeom>
          <a:solidFill>
            <a:srgbClr val="000080"/>
          </a:solidFill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02400" y="3071880"/>
            <a:ext cx="34920" cy="33120"/>
          </a:xfrm>
          <a:prstGeom prst="ellipse">
            <a:avLst/>
          </a:prstGeom>
          <a:solidFill>
            <a:srgbClr val="000080"/>
          </a:solidFill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04000" y="2652840"/>
            <a:ext cx="34920" cy="33120"/>
          </a:xfrm>
          <a:prstGeom prst="ellipse">
            <a:avLst/>
          </a:prstGeom>
          <a:solidFill>
            <a:srgbClr val="000080"/>
          </a:solidFill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30320" y="1898640"/>
            <a:ext cx="565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 of Pima County, Arizona 1950-1999 (es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55120" y="5095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48240" y="478296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48240" y="447048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48240" y="415764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48240" y="384336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48240" y="353052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8240" y="321804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48240" y="290520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48240" y="259236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48240" y="227952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36880" y="5315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38480" y="5315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40080" y="5315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4120" y="5315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37160" y="53150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387920" y="531504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9 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79360" y="5608800"/>
            <a:ext cx="49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81360" y="3533400"/>
            <a:ext cx="11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07720" y="842400"/>
            <a:ext cx="2289240" cy="1361880"/>
            <a:chOff x="207720" y="842400"/>
            <a:chExt cx="2289240" cy="1361880"/>
          </a:xfrm>
        </p:grpSpPr>
        <p:sp>
          <p:nvSpPr>
            <p:cNvPr id="441" name=""/>
            <p:cNvSpPr/>
            <p:nvPr/>
          </p:nvSpPr>
          <p:spPr>
            <a:xfrm rot="20897400">
              <a:off x="245520" y="1115640"/>
              <a:ext cx="2057400" cy="3841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20897400">
              <a:off x="281520" y="1049400"/>
              <a:ext cx="214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V="1">
            <a:off x="4425840" y="4083120"/>
            <a:ext cx="0" cy="10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38000" y="4068720"/>
            <a:ext cx="2779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158840" y="1230480"/>
            <a:ext cx="68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Comic Sans MS"/>
              </a:rPr>
              <a:t>What was the approximate population in 19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78160" y="6059520"/>
            <a:ext cx="43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960: approximately 27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820800" y="1722600"/>
          <a:ext cx="7053120" cy="43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722600"/>
                    <a:ext cx="7053120" cy="4376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0" name=""/>
          <p:cNvGrpSpPr/>
          <p:nvPr/>
        </p:nvGrpSpPr>
        <p:grpSpPr>
          <a:xfrm>
            <a:off x="2236680" y="4495680"/>
            <a:ext cx="1420560" cy="609840"/>
            <a:chOff x="2236680" y="4495680"/>
            <a:chExt cx="1420560" cy="609840"/>
          </a:xfrm>
        </p:grpSpPr>
        <p:sp>
          <p:nvSpPr>
            <p:cNvPr id="451" name=""/>
            <p:cNvSpPr/>
            <p:nvPr/>
          </p:nvSpPr>
          <p:spPr>
            <a:xfrm>
              <a:off x="3657240" y="44956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236680" y="4495680"/>
              <a:ext cx="14205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-182520" y="673200"/>
            <a:ext cx="9144000" cy="360"/>
            <a:chOff x="-182520" y="673200"/>
            <a:chExt cx="9144000" cy="360"/>
          </a:xfrm>
        </p:grpSpPr>
        <p:sp>
          <p:nvSpPr>
            <p:cNvPr id="455" name=""/>
            <p:cNvSpPr/>
            <p:nvPr/>
          </p:nvSpPr>
          <p:spPr>
            <a:xfrm>
              <a:off x="-182520" y="67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82520" y="67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757080" y="1554120"/>
            <a:ext cx="7629840" cy="49323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284120" y="2335320"/>
            <a:ext cx="1816200" cy="1284120"/>
          </a:xfrm>
          <a:prstGeom prst="wedgeRoundRectCallout">
            <a:avLst>
              <a:gd name="adj1" fmla="val -15037"/>
              <a:gd name="adj2" fmla="val 19177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height of 35 c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031480" y="4889520"/>
            <a:ext cx="121932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32440" y="3772080"/>
            <a:ext cx="1816200" cy="1284120"/>
          </a:xfrm>
          <a:prstGeom prst="wedgeRoundRectCallout">
            <a:avLst>
              <a:gd name="adj1" fmla="val -251574"/>
              <a:gd name="adj2" fmla="val 8485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6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46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problems using data fro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733920" y="3060720"/>
            <a:ext cx="4533840" cy="3381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52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problems using data fro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3776760" y="3065400"/>
            <a:ext cx="4486320" cy="33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58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problems using data fro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14840" y="3089160"/>
            <a:ext cx="4524120" cy="33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650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2743200" y="2057400"/>
            <a:ext cx="60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problems using data fro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e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3753000" y="3127320"/>
            <a:ext cx="44859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15880" y="2776680"/>
          <a:ext cx="8120160" cy="2824200"/>
        </p:xfrm>
        <a:graphic>
          <a:graphicData uri="http://schemas.openxmlformats.org/drawingml/2006/table">
            <a:tbl>
              <a:tblPr/>
              <a:tblGrid>
                <a:gridCol w="1863720"/>
                <a:gridCol w="3492720"/>
                <a:gridCol w="2763720"/>
              </a:tblGrid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pulation (M’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ea (Sq. Mil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x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6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us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,59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.S.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718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276640" y="17589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Population and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8560" y="3197160"/>
            <a:ext cx="141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d-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038320" y="3530520"/>
            <a:ext cx="2511360" cy="1527120"/>
            <a:chOff x="2038320" y="3530520"/>
            <a:chExt cx="2511360" cy="1527120"/>
          </a:xfrm>
        </p:grpSpPr>
        <p:sp>
          <p:nvSpPr>
            <p:cNvPr id="114" name=""/>
            <p:cNvSpPr/>
            <p:nvPr/>
          </p:nvSpPr>
          <p:spPr>
            <a:xfrm>
              <a:off x="3701880" y="4545000"/>
              <a:ext cx="847800" cy="5126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38320" y="4789440"/>
              <a:ext cx="1663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25960" y="3530520"/>
              <a:ext cx="0" cy="1014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038320" y="3530520"/>
            <a:ext cx="6235560" cy="2070360"/>
            <a:chOff x="2038320" y="3530520"/>
            <a:chExt cx="6235560" cy="2070360"/>
          </a:xfrm>
        </p:grpSpPr>
        <p:sp>
          <p:nvSpPr>
            <p:cNvPr id="118" name=""/>
            <p:cNvSpPr/>
            <p:nvPr/>
          </p:nvSpPr>
          <p:spPr>
            <a:xfrm>
              <a:off x="6257880" y="5083200"/>
              <a:ext cx="2016000" cy="51768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38320" y="5342040"/>
              <a:ext cx="42195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65880" y="3530520"/>
              <a:ext cx="0" cy="1527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800" y="1560600"/>
            <a:ext cx="8205840" cy="483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2800" y="1501920"/>
            <a:ext cx="8205840" cy="18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8840" y="2106720"/>
            <a:ext cx="576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opulation Density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901120" y="1832040"/>
            <a:ext cx="2775960" cy="1389240"/>
            <a:chOff x="5901120" y="1832040"/>
            <a:chExt cx="2775960" cy="1389240"/>
          </a:xfrm>
        </p:grpSpPr>
        <p:sp>
          <p:nvSpPr>
            <p:cNvPr id="126" name=""/>
            <p:cNvSpPr/>
            <p:nvPr/>
          </p:nvSpPr>
          <p:spPr>
            <a:xfrm>
              <a:off x="5901120" y="1832040"/>
              <a:ext cx="277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popula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52400" y="2517840"/>
              <a:ext cx="22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sq. mil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2550960"/>
              <a:ext cx="271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71600" y="2160720"/>
          <a:ext cx="8199360" cy="4076640"/>
        </p:xfrm>
        <a:graphic>
          <a:graphicData uri="http://schemas.openxmlformats.org/drawingml/2006/table">
            <a:tbl>
              <a:tblPr/>
              <a:tblGrid>
                <a:gridCol w="1498320"/>
                <a:gridCol w="2832120"/>
                <a:gridCol w="1797120"/>
                <a:gridCol w="2071800"/>
              </a:tblGrid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276640" y="139212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Population and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70880" y="2165400"/>
            <a:ext cx="8175600" cy="3981240"/>
            <a:chOff x="470880" y="2165400"/>
            <a:chExt cx="8175600" cy="3981240"/>
          </a:xfrm>
        </p:grpSpPr>
        <p:sp>
          <p:nvSpPr>
            <p:cNvPr id="134" name=""/>
            <p:cNvSpPr/>
            <p:nvPr/>
          </p:nvSpPr>
          <p:spPr>
            <a:xfrm>
              <a:off x="470880" y="256068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ount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955880" y="2401920"/>
              <a:ext cx="2878200" cy="838800"/>
              <a:chOff x="1955880" y="2401920"/>
              <a:chExt cx="2878200" cy="838800"/>
            </a:xfrm>
          </p:grpSpPr>
          <p:sp>
            <p:nvSpPr>
              <p:cNvPr id="136" name=""/>
              <p:cNvSpPr/>
              <p:nvPr/>
            </p:nvSpPr>
            <p:spPr>
              <a:xfrm>
                <a:off x="2686320" y="2811600"/>
                <a:ext cx="1415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omic Sans MS"/>
                  </a:rPr>
                  <a:t>mid-200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55880" y="2401920"/>
                <a:ext cx="2878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Population (M’S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544680" y="4228920"/>
              <a:ext cx="136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ex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200" y="4930920"/>
              <a:ext cx="125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uss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4120" y="562608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U.S.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0600" y="355608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2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00600" y="422892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00600" y="493092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4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00240" y="562608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8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9600" y="3556080"/>
              <a:ext cx="111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Jap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43160" y="2378160"/>
              <a:ext cx="1486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re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Sq. Mi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06360" y="2165400"/>
              <a:ext cx="2040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ens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per sq. mi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0640" y="3556080"/>
              <a:ext cx="149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46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42080" y="4228920"/>
              <a:ext cx="149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756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92680" y="4930920"/>
              <a:ext cx="178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6,592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93040" y="5626080"/>
              <a:ext cx="178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,718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496280" y="355428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96280" y="422928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96280" y="493092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96280" y="56246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8360" y="1007640"/>
            <a:ext cx="2289240" cy="1361880"/>
            <a:chOff x="198360" y="1007640"/>
            <a:chExt cx="2289240" cy="1361880"/>
          </a:xfrm>
        </p:grpSpPr>
        <p:sp>
          <p:nvSpPr>
            <p:cNvPr id="157" name=""/>
            <p:cNvSpPr/>
            <p:nvPr/>
          </p:nvSpPr>
          <p:spPr>
            <a:xfrm rot="20897400">
              <a:off x="236160" y="1280880"/>
              <a:ext cx="2057400" cy="3841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897400">
              <a:off x="272160" y="1214640"/>
              <a:ext cx="214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51080" y="1616040"/>
            <a:ext cx="6238800" cy="154296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2161080" y="4017960"/>
            <a:ext cx="4258080" cy="1050840"/>
            <a:chOff x="2161080" y="4017960"/>
            <a:chExt cx="4258080" cy="1050840"/>
          </a:xfrm>
        </p:grpSpPr>
        <p:grpSp>
          <p:nvGrpSpPr>
            <p:cNvPr id="162" name=""/>
            <p:cNvGrpSpPr/>
            <p:nvPr/>
          </p:nvGrpSpPr>
          <p:grpSpPr>
            <a:xfrm>
              <a:off x="2161080" y="4017960"/>
              <a:ext cx="4258080" cy="1050840"/>
              <a:chOff x="2161080" y="4017960"/>
              <a:chExt cx="4258080" cy="10508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61080" y="4252680"/>
                <a:ext cx="1250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Japa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845880" y="4017960"/>
                <a:ext cx="2573280" cy="1050840"/>
                <a:chOff x="3845880" y="4017960"/>
                <a:chExt cx="2573280" cy="1050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035240" y="4017960"/>
                  <a:ext cx="2193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127,000,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385520" y="4548240"/>
                  <a:ext cx="1491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146,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45880" y="4535280"/>
                  <a:ext cx="257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3404880" y="4252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128920" y="4203000"/>
              <a:ext cx="1154160" cy="654120"/>
              <a:chOff x="5128920" y="4203000"/>
              <a:chExt cx="1154160" cy="654120"/>
            </a:xfrm>
          </p:grpSpPr>
          <p:sp>
            <p:nvSpPr>
              <p:cNvPr id="170" name=""/>
              <p:cNvSpPr/>
              <p:nvPr/>
            </p:nvSpPr>
            <p:spPr>
              <a:xfrm flipV="1">
                <a:off x="5476680" y="4203000"/>
                <a:ext cx="806400" cy="123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128920" y="4733280"/>
                <a:ext cx="806760" cy="123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6309000" y="2689200"/>
            <a:ext cx="957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86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43800" y="4290840"/>
            <a:ext cx="12110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86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42880" y="1698480"/>
            <a:ext cx="6258240" cy="104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38200" y="2732040"/>
            <a:ext cx="6267600" cy="50472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1905840" y="3765600"/>
            <a:ext cx="4568040" cy="1050840"/>
            <a:chOff x="1905840" y="3765600"/>
            <a:chExt cx="4568040" cy="1050840"/>
          </a:xfrm>
        </p:grpSpPr>
        <p:grpSp>
          <p:nvGrpSpPr>
            <p:cNvPr id="178" name=""/>
            <p:cNvGrpSpPr/>
            <p:nvPr/>
          </p:nvGrpSpPr>
          <p:grpSpPr>
            <a:xfrm>
              <a:off x="1905840" y="3765600"/>
              <a:ext cx="4568040" cy="1050840"/>
              <a:chOff x="1905840" y="3765600"/>
              <a:chExt cx="4568040" cy="1050840"/>
            </a:xfrm>
          </p:grpSpPr>
          <p:sp>
            <p:nvSpPr>
              <p:cNvPr id="179" name=""/>
              <p:cNvSpPr/>
              <p:nvPr/>
            </p:nvSpPr>
            <p:spPr>
              <a:xfrm>
                <a:off x="1905840" y="4000320"/>
                <a:ext cx="154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Mexic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3900600" y="3765600"/>
                <a:ext cx="2573280" cy="1050840"/>
                <a:chOff x="3900600" y="3765600"/>
                <a:chExt cx="2573280" cy="1050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089960" y="3765600"/>
                  <a:ext cx="2193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100,000,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440600" y="4295880"/>
                  <a:ext cx="1491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756,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900600" y="4282920"/>
                  <a:ext cx="257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415320" y="4000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189760" y="3958560"/>
              <a:ext cx="1165320" cy="653760"/>
              <a:chOff x="5189760" y="3958560"/>
              <a:chExt cx="1165320" cy="65376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5548320" y="3958560"/>
                <a:ext cx="806760" cy="123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189760" y="4488840"/>
                <a:ext cx="806400" cy="123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6761880" y="3987720"/>
            <a:ext cx="138168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 132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59480" y="2754360"/>
            <a:ext cx="957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42880" y="1698480"/>
            <a:ext cx="6258240" cy="1047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50800" y="2746440"/>
            <a:ext cx="6267600" cy="55224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1266480" y="3732120"/>
            <a:ext cx="4417920" cy="1050840"/>
            <a:chOff x="1266480" y="3732120"/>
            <a:chExt cx="4417920" cy="1050840"/>
          </a:xfrm>
        </p:grpSpPr>
        <p:grpSp>
          <p:nvGrpSpPr>
            <p:cNvPr id="194" name=""/>
            <p:cNvGrpSpPr/>
            <p:nvPr/>
          </p:nvGrpSpPr>
          <p:grpSpPr>
            <a:xfrm>
              <a:off x="1266480" y="3732120"/>
              <a:ext cx="4417920" cy="1050840"/>
              <a:chOff x="1266480" y="3732120"/>
              <a:chExt cx="4417920" cy="1050840"/>
            </a:xfrm>
          </p:grpSpPr>
          <p:sp>
            <p:nvSpPr>
              <p:cNvPr id="195" name=""/>
              <p:cNvSpPr/>
              <p:nvPr/>
            </p:nvSpPr>
            <p:spPr>
              <a:xfrm>
                <a:off x="1266480" y="3966840"/>
                <a:ext cx="1409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Russi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111120" y="3732120"/>
                <a:ext cx="2573280" cy="1050840"/>
                <a:chOff x="3111120" y="3732120"/>
                <a:chExt cx="2573280" cy="10508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300840" y="3732120"/>
                  <a:ext cx="2193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144,000,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03520" y="4262400"/>
                  <a:ext cx="1788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6,592,00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111120" y="4249440"/>
                  <a:ext cx="257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2614320" y="3966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566960" y="3899520"/>
              <a:ext cx="975600" cy="676080"/>
              <a:chOff x="4566960" y="3899520"/>
              <a:chExt cx="975600" cy="67608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4736520" y="3899520"/>
                <a:ext cx="806040" cy="123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4566960" y="4452120"/>
                <a:ext cx="806040" cy="123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5986080" y="4002120"/>
            <a:ext cx="1179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 2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67480" y="2746440"/>
            <a:ext cx="7840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2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7:25Z</dcterms:modified>
  <cp:revision>344</cp:revision>
  <dc:subject/>
  <dc:title>PowerPoint Presentation</dc:title>
</cp:coreProperties>
</file>