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0  Uni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558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55680" y="22683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09600" y="1219320"/>
            <a:ext cx="7324920" cy="4375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209600" y="4662360"/>
            <a:ext cx="1981080" cy="1862280"/>
            <a:chOff x="1209600" y="4662360"/>
            <a:chExt cx="1981080" cy="1862280"/>
          </a:xfrm>
        </p:grpSpPr>
        <p:sp>
          <p:nvSpPr>
            <p:cNvPr id="45" name=""/>
            <p:cNvSpPr/>
            <p:nvPr/>
          </p:nvSpPr>
          <p:spPr>
            <a:xfrm>
              <a:off x="1209600" y="4662360"/>
              <a:ext cx="1981080" cy="1862280"/>
            </a:xfrm>
            <a:custGeom>
              <a:avLst/>
              <a:gdLst/>
              <a:ahLst/>
              <a:rect l="l" t="t" r="r" b="b"/>
              <a:pathLst>
                <a:path w="1980" h="2827">
                  <a:moveTo>
                    <a:pt x="1257" y="180"/>
                  </a:moveTo>
                  <a:lnTo>
                    <a:pt x="1250" y="184"/>
                  </a:lnTo>
                  <a:lnTo>
                    <a:pt x="1243" y="188"/>
                  </a:lnTo>
                  <a:lnTo>
                    <a:pt x="1236" y="194"/>
                  </a:lnTo>
                  <a:lnTo>
                    <a:pt x="1231" y="199"/>
                  </a:lnTo>
                  <a:lnTo>
                    <a:pt x="1224" y="205"/>
                  </a:lnTo>
                  <a:lnTo>
                    <a:pt x="1218" y="210"/>
                  </a:lnTo>
                  <a:lnTo>
                    <a:pt x="1214" y="216"/>
                  </a:lnTo>
                  <a:lnTo>
                    <a:pt x="1208" y="223"/>
                  </a:lnTo>
                  <a:lnTo>
                    <a:pt x="1226" y="232"/>
                  </a:lnTo>
                  <a:lnTo>
                    <a:pt x="1243" y="240"/>
                  </a:lnTo>
                  <a:lnTo>
                    <a:pt x="1260" y="248"/>
                  </a:lnTo>
                  <a:lnTo>
                    <a:pt x="1277" y="257"/>
                  </a:lnTo>
                  <a:lnTo>
                    <a:pt x="1293" y="264"/>
                  </a:lnTo>
                  <a:lnTo>
                    <a:pt x="1309" y="271"/>
                  </a:lnTo>
                  <a:lnTo>
                    <a:pt x="1324" y="278"/>
                  </a:lnTo>
                  <a:lnTo>
                    <a:pt x="1339" y="284"/>
                  </a:lnTo>
                  <a:lnTo>
                    <a:pt x="1402" y="309"/>
                  </a:lnTo>
                  <a:lnTo>
                    <a:pt x="1460" y="337"/>
                  </a:lnTo>
                  <a:lnTo>
                    <a:pt x="1510" y="366"/>
                  </a:lnTo>
                  <a:lnTo>
                    <a:pt x="1557" y="397"/>
                  </a:lnTo>
                  <a:lnTo>
                    <a:pt x="1596" y="431"/>
                  </a:lnTo>
                  <a:lnTo>
                    <a:pt x="1631" y="466"/>
                  </a:lnTo>
                  <a:lnTo>
                    <a:pt x="1661" y="503"/>
                  </a:lnTo>
                  <a:lnTo>
                    <a:pt x="1687" y="541"/>
                  </a:lnTo>
                  <a:lnTo>
                    <a:pt x="1710" y="582"/>
                  </a:lnTo>
                  <a:lnTo>
                    <a:pt x="1728" y="622"/>
                  </a:lnTo>
                  <a:lnTo>
                    <a:pt x="1744" y="664"/>
                  </a:lnTo>
                  <a:lnTo>
                    <a:pt x="1755" y="708"/>
                  </a:lnTo>
                  <a:lnTo>
                    <a:pt x="1765" y="753"/>
                  </a:lnTo>
                  <a:lnTo>
                    <a:pt x="1772" y="798"/>
                  </a:lnTo>
                  <a:lnTo>
                    <a:pt x="1778" y="844"/>
                  </a:lnTo>
                  <a:lnTo>
                    <a:pt x="1781" y="892"/>
                  </a:lnTo>
                  <a:lnTo>
                    <a:pt x="1781" y="895"/>
                  </a:lnTo>
                  <a:lnTo>
                    <a:pt x="1781" y="898"/>
                  </a:lnTo>
                  <a:lnTo>
                    <a:pt x="1781" y="902"/>
                  </a:lnTo>
                  <a:lnTo>
                    <a:pt x="1781" y="905"/>
                  </a:lnTo>
                  <a:lnTo>
                    <a:pt x="1783" y="905"/>
                  </a:lnTo>
                  <a:lnTo>
                    <a:pt x="1787" y="905"/>
                  </a:lnTo>
                  <a:lnTo>
                    <a:pt x="1789" y="905"/>
                  </a:lnTo>
                  <a:lnTo>
                    <a:pt x="1791" y="906"/>
                  </a:lnTo>
                  <a:lnTo>
                    <a:pt x="1802" y="908"/>
                  </a:lnTo>
                  <a:lnTo>
                    <a:pt x="1812" y="910"/>
                  </a:lnTo>
                  <a:lnTo>
                    <a:pt x="1820" y="913"/>
                  </a:lnTo>
                  <a:lnTo>
                    <a:pt x="1828" y="916"/>
                  </a:lnTo>
                  <a:lnTo>
                    <a:pt x="1834" y="920"/>
                  </a:lnTo>
                  <a:lnTo>
                    <a:pt x="1838" y="925"/>
                  </a:lnTo>
                  <a:lnTo>
                    <a:pt x="1842" y="927"/>
                  </a:lnTo>
                  <a:lnTo>
                    <a:pt x="1844" y="932"/>
                  </a:lnTo>
                  <a:lnTo>
                    <a:pt x="1849" y="916"/>
                  </a:lnTo>
                  <a:lnTo>
                    <a:pt x="1854" y="902"/>
                  </a:lnTo>
                  <a:lnTo>
                    <a:pt x="1860" y="889"/>
                  </a:lnTo>
                  <a:lnTo>
                    <a:pt x="1867" y="878"/>
                  </a:lnTo>
                  <a:lnTo>
                    <a:pt x="1874" y="868"/>
                  </a:lnTo>
                  <a:lnTo>
                    <a:pt x="1881" y="861"/>
                  </a:lnTo>
                  <a:lnTo>
                    <a:pt x="1890" y="856"/>
                  </a:lnTo>
                  <a:lnTo>
                    <a:pt x="1898" y="853"/>
                  </a:lnTo>
                  <a:lnTo>
                    <a:pt x="1898" y="903"/>
                  </a:lnTo>
                  <a:lnTo>
                    <a:pt x="1888" y="909"/>
                  </a:lnTo>
                  <a:lnTo>
                    <a:pt x="1879" y="918"/>
                  </a:lnTo>
                  <a:lnTo>
                    <a:pt x="1871" y="929"/>
                  </a:lnTo>
                  <a:lnTo>
                    <a:pt x="1863" y="944"/>
                  </a:lnTo>
                  <a:lnTo>
                    <a:pt x="1858" y="961"/>
                  </a:lnTo>
                  <a:lnTo>
                    <a:pt x="1853" y="979"/>
                  </a:lnTo>
                  <a:lnTo>
                    <a:pt x="1850" y="1000"/>
                  </a:lnTo>
                  <a:lnTo>
                    <a:pt x="1849" y="1023"/>
                  </a:lnTo>
                  <a:lnTo>
                    <a:pt x="1849" y="1024"/>
                  </a:lnTo>
                  <a:lnTo>
                    <a:pt x="1850" y="1024"/>
                  </a:lnTo>
                  <a:lnTo>
                    <a:pt x="1850" y="1026"/>
                  </a:lnTo>
                  <a:lnTo>
                    <a:pt x="1850" y="1027"/>
                  </a:lnTo>
                  <a:lnTo>
                    <a:pt x="1859" y="1052"/>
                  </a:lnTo>
                  <a:lnTo>
                    <a:pt x="1865" y="1076"/>
                  </a:lnTo>
                  <a:lnTo>
                    <a:pt x="1870" y="1099"/>
                  </a:lnTo>
                  <a:lnTo>
                    <a:pt x="1873" y="1120"/>
                  </a:lnTo>
                  <a:lnTo>
                    <a:pt x="1877" y="1126"/>
                  </a:lnTo>
                  <a:lnTo>
                    <a:pt x="1880" y="1130"/>
                  </a:lnTo>
                  <a:lnTo>
                    <a:pt x="1885" y="1133"/>
                  </a:lnTo>
                  <a:lnTo>
                    <a:pt x="1889" y="1137"/>
                  </a:lnTo>
                  <a:lnTo>
                    <a:pt x="1893" y="1140"/>
                  </a:lnTo>
                  <a:lnTo>
                    <a:pt x="1897" y="1141"/>
                  </a:lnTo>
                  <a:lnTo>
                    <a:pt x="1903" y="1142"/>
                  </a:lnTo>
                  <a:lnTo>
                    <a:pt x="1907" y="1142"/>
                  </a:lnTo>
                  <a:lnTo>
                    <a:pt x="1918" y="1140"/>
                  </a:lnTo>
                  <a:lnTo>
                    <a:pt x="1930" y="1133"/>
                  </a:lnTo>
                  <a:lnTo>
                    <a:pt x="1939" y="1121"/>
                  </a:lnTo>
                  <a:lnTo>
                    <a:pt x="1948" y="1107"/>
                  </a:lnTo>
                  <a:lnTo>
                    <a:pt x="1955" y="1090"/>
                  </a:lnTo>
                  <a:lnTo>
                    <a:pt x="1960" y="1069"/>
                  </a:lnTo>
                  <a:lnTo>
                    <a:pt x="1964" y="1047"/>
                  </a:lnTo>
                  <a:lnTo>
                    <a:pt x="1965" y="1023"/>
                  </a:lnTo>
                  <a:lnTo>
                    <a:pt x="1964" y="999"/>
                  </a:lnTo>
                  <a:lnTo>
                    <a:pt x="1960" y="977"/>
                  </a:lnTo>
                  <a:lnTo>
                    <a:pt x="1955" y="955"/>
                  </a:lnTo>
                  <a:lnTo>
                    <a:pt x="1948" y="937"/>
                  </a:lnTo>
                  <a:lnTo>
                    <a:pt x="1939" y="923"/>
                  </a:lnTo>
                  <a:lnTo>
                    <a:pt x="1930" y="912"/>
                  </a:lnTo>
                  <a:lnTo>
                    <a:pt x="1918" y="905"/>
                  </a:lnTo>
                  <a:lnTo>
                    <a:pt x="1907" y="902"/>
                  </a:lnTo>
                  <a:lnTo>
                    <a:pt x="1905" y="902"/>
                  </a:lnTo>
                  <a:lnTo>
                    <a:pt x="1903" y="902"/>
                  </a:lnTo>
                  <a:lnTo>
                    <a:pt x="1900" y="903"/>
                  </a:lnTo>
                  <a:lnTo>
                    <a:pt x="1898" y="903"/>
                  </a:lnTo>
                  <a:lnTo>
                    <a:pt x="1898" y="853"/>
                  </a:lnTo>
                  <a:lnTo>
                    <a:pt x="1900" y="853"/>
                  </a:lnTo>
                  <a:lnTo>
                    <a:pt x="1903" y="851"/>
                  </a:lnTo>
                  <a:lnTo>
                    <a:pt x="1905" y="851"/>
                  </a:lnTo>
                  <a:lnTo>
                    <a:pt x="1907" y="851"/>
                  </a:lnTo>
                  <a:lnTo>
                    <a:pt x="1922" y="854"/>
                  </a:lnTo>
                  <a:lnTo>
                    <a:pt x="1935" y="864"/>
                  </a:lnTo>
                  <a:lnTo>
                    <a:pt x="1948" y="881"/>
                  </a:lnTo>
                  <a:lnTo>
                    <a:pt x="1959" y="901"/>
                  </a:lnTo>
                  <a:lnTo>
                    <a:pt x="1968" y="927"/>
                  </a:lnTo>
                  <a:lnTo>
                    <a:pt x="1975" y="955"/>
                  </a:lnTo>
                  <a:lnTo>
                    <a:pt x="1979" y="988"/>
                  </a:lnTo>
                  <a:lnTo>
                    <a:pt x="1980" y="1023"/>
                  </a:lnTo>
                  <a:lnTo>
                    <a:pt x="1979" y="1057"/>
                  </a:lnTo>
                  <a:lnTo>
                    <a:pt x="1975" y="1089"/>
                  </a:lnTo>
                  <a:lnTo>
                    <a:pt x="1968" y="1119"/>
                  </a:lnTo>
                  <a:lnTo>
                    <a:pt x="1959" y="1144"/>
                  </a:lnTo>
                  <a:lnTo>
                    <a:pt x="1948" y="1165"/>
                  </a:lnTo>
                  <a:lnTo>
                    <a:pt x="1935" y="1180"/>
                  </a:lnTo>
                  <a:lnTo>
                    <a:pt x="1922" y="1192"/>
                  </a:lnTo>
                  <a:lnTo>
                    <a:pt x="1907" y="1194"/>
                  </a:lnTo>
                  <a:lnTo>
                    <a:pt x="1899" y="1193"/>
                  </a:lnTo>
                  <a:lnTo>
                    <a:pt x="1891" y="1190"/>
                  </a:lnTo>
                  <a:lnTo>
                    <a:pt x="1884" y="1186"/>
                  </a:lnTo>
                  <a:lnTo>
                    <a:pt x="1877" y="1179"/>
                  </a:lnTo>
                  <a:lnTo>
                    <a:pt x="1876" y="1189"/>
                  </a:lnTo>
                  <a:lnTo>
                    <a:pt x="1876" y="1194"/>
                  </a:lnTo>
                  <a:lnTo>
                    <a:pt x="1876" y="1199"/>
                  </a:lnTo>
                  <a:lnTo>
                    <a:pt x="1876" y="1200"/>
                  </a:lnTo>
                  <a:lnTo>
                    <a:pt x="1878" y="1203"/>
                  </a:lnTo>
                  <a:lnTo>
                    <a:pt x="1884" y="1213"/>
                  </a:lnTo>
                  <a:lnTo>
                    <a:pt x="1891" y="1225"/>
                  </a:lnTo>
                  <a:lnTo>
                    <a:pt x="1899" y="1242"/>
                  </a:lnTo>
                  <a:lnTo>
                    <a:pt x="1906" y="1259"/>
                  </a:lnTo>
                  <a:lnTo>
                    <a:pt x="1909" y="1276"/>
                  </a:lnTo>
                  <a:lnTo>
                    <a:pt x="1908" y="1293"/>
                  </a:lnTo>
                  <a:lnTo>
                    <a:pt x="1902" y="1306"/>
                  </a:lnTo>
                  <a:lnTo>
                    <a:pt x="1895" y="1310"/>
                  </a:lnTo>
                  <a:lnTo>
                    <a:pt x="1884" y="1313"/>
                  </a:lnTo>
                  <a:lnTo>
                    <a:pt x="1869" y="1315"/>
                  </a:lnTo>
                  <a:lnTo>
                    <a:pt x="1851" y="1315"/>
                  </a:lnTo>
                  <a:lnTo>
                    <a:pt x="1832" y="1315"/>
                  </a:lnTo>
                  <a:lnTo>
                    <a:pt x="1810" y="1314"/>
                  </a:lnTo>
                  <a:lnTo>
                    <a:pt x="1789" y="1313"/>
                  </a:lnTo>
                  <a:lnTo>
                    <a:pt x="1766" y="1310"/>
                  </a:lnTo>
                  <a:lnTo>
                    <a:pt x="1764" y="1320"/>
                  </a:lnTo>
                  <a:lnTo>
                    <a:pt x="1763" y="1329"/>
                  </a:lnTo>
                  <a:lnTo>
                    <a:pt x="1761" y="1341"/>
                  </a:lnTo>
                  <a:lnTo>
                    <a:pt x="1758" y="1351"/>
                  </a:lnTo>
                  <a:lnTo>
                    <a:pt x="1740" y="1436"/>
                  </a:lnTo>
                  <a:lnTo>
                    <a:pt x="1729" y="1516"/>
                  </a:lnTo>
                  <a:lnTo>
                    <a:pt x="1723" y="1594"/>
                  </a:lnTo>
                  <a:lnTo>
                    <a:pt x="1721" y="1668"/>
                  </a:lnTo>
                  <a:lnTo>
                    <a:pt x="1723" y="1737"/>
                  </a:lnTo>
                  <a:lnTo>
                    <a:pt x="1727" y="1802"/>
                  </a:lnTo>
                  <a:lnTo>
                    <a:pt x="1732" y="1862"/>
                  </a:lnTo>
                  <a:lnTo>
                    <a:pt x="1738" y="1918"/>
                  </a:lnTo>
                  <a:lnTo>
                    <a:pt x="1740" y="1935"/>
                  </a:lnTo>
                  <a:lnTo>
                    <a:pt x="1743" y="1952"/>
                  </a:lnTo>
                  <a:lnTo>
                    <a:pt x="1745" y="1968"/>
                  </a:lnTo>
                  <a:lnTo>
                    <a:pt x="1748" y="1982"/>
                  </a:lnTo>
                  <a:lnTo>
                    <a:pt x="1750" y="1993"/>
                  </a:lnTo>
                  <a:lnTo>
                    <a:pt x="1754" y="2004"/>
                  </a:lnTo>
                  <a:lnTo>
                    <a:pt x="1756" y="2015"/>
                  </a:lnTo>
                  <a:lnTo>
                    <a:pt x="1758" y="2027"/>
                  </a:lnTo>
                  <a:lnTo>
                    <a:pt x="1767" y="2029"/>
                  </a:lnTo>
                  <a:lnTo>
                    <a:pt x="1776" y="2032"/>
                  </a:lnTo>
                  <a:lnTo>
                    <a:pt x="1784" y="2037"/>
                  </a:lnTo>
                  <a:lnTo>
                    <a:pt x="1792" y="2041"/>
                  </a:lnTo>
                  <a:lnTo>
                    <a:pt x="1798" y="2048"/>
                  </a:lnTo>
                  <a:lnTo>
                    <a:pt x="1802" y="2055"/>
                  </a:lnTo>
                  <a:lnTo>
                    <a:pt x="1806" y="2063"/>
                  </a:lnTo>
                  <a:lnTo>
                    <a:pt x="1808" y="2073"/>
                  </a:lnTo>
                  <a:lnTo>
                    <a:pt x="1809" y="2096"/>
                  </a:lnTo>
                  <a:lnTo>
                    <a:pt x="1808" y="2117"/>
                  </a:lnTo>
                  <a:lnTo>
                    <a:pt x="1803" y="2138"/>
                  </a:lnTo>
                  <a:lnTo>
                    <a:pt x="1798" y="2156"/>
                  </a:lnTo>
                  <a:lnTo>
                    <a:pt x="1811" y="2197"/>
                  </a:lnTo>
                  <a:lnTo>
                    <a:pt x="1823" y="2238"/>
                  </a:lnTo>
                  <a:lnTo>
                    <a:pt x="1829" y="2275"/>
                  </a:lnTo>
                  <a:lnTo>
                    <a:pt x="1832" y="2312"/>
                  </a:lnTo>
                  <a:lnTo>
                    <a:pt x="1826" y="2347"/>
                  </a:lnTo>
                  <a:lnTo>
                    <a:pt x="1812" y="2381"/>
                  </a:lnTo>
                  <a:lnTo>
                    <a:pt x="1788" y="2412"/>
                  </a:lnTo>
                  <a:lnTo>
                    <a:pt x="1752" y="2441"/>
                  </a:lnTo>
                  <a:lnTo>
                    <a:pt x="1734" y="2454"/>
                  </a:lnTo>
                  <a:lnTo>
                    <a:pt x="1717" y="2464"/>
                  </a:lnTo>
                  <a:lnTo>
                    <a:pt x="1701" y="2474"/>
                  </a:lnTo>
                  <a:lnTo>
                    <a:pt x="1685" y="2481"/>
                  </a:lnTo>
                  <a:lnTo>
                    <a:pt x="1669" y="2488"/>
                  </a:lnTo>
                  <a:lnTo>
                    <a:pt x="1652" y="2493"/>
                  </a:lnTo>
                  <a:lnTo>
                    <a:pt x="1634" y="2498"/>
                  </a:lnTo>
                  <a:lnTo>
                    <a:pt x="1615" y="2500"/>
                  </a:lnTo>
                  <a:lnTo>
                    <a:pt x="1588" y="2744"/>
                  </a:lnTo>
                  <a:lnTo>
                    <a:pt x="1599" y="2794"/>
                  </a:lnTo>
                  <a:lnTo>
                    <a:pt x="1564" y="2801"/>
                  </a:lnTo>
                  <a:lnTo>
                    <a:pt x="1562" y="2803"/>
                  </a:lnTo>
                  <a:lnTo>
                    <a:pt x="1559" y="2805"/>
                  </a:lnTo>
                  <a:lnTo>
                    <a:pt x="1553" y="2808"/>
                  </a:lnTo>
                  <a:lnTo>
                    <a:pt x="1545" y="2812"/>
                  </a:lnTo>
                  <a:lnTo>
                    <a:pt x="1535" y="2817"/>
                  </a:lnTo>
                  <a:lnTo>
                    <a:pt x="1523" y="2821"/>
                  </a:lnTo>
                  <a:lnTo>
                    <a:pt x="1507" y="2824"/>
                  </a:lnTo>
                  <a:lnTo>
                    <a:pt x="1489" y="2827"/>
                  </a:lnTo>
                  <a:lnTo>
                    <a:pt x="1467" y="2827"/>
                  </a:lnTo>
                  <a:lnTo>
                    <a:pt x="1443" y="2824"/>
                  </a:lnTo>
                  <a:lnTo>
                    <a:pt x="1413" y="2820"/>
                  </a:lnTo>
                  <a:lnTo>
                    <a:pt x="1382" y="2811"/>
                  </a:lnTo>
                  <a:lnTo>
                    <a:pt x="1346" y="2800"/>
                  </a:lnTo>
                  <a:lnTo>
                    <a:pt x="1305" y="2784"/>
                  </a:lnTo>
                  <a:lnTo>
                    <a:pt x="1261" y="2765"/>
                  </a:lnTo>
                  <a:lnTo>
                    <a:pt x="1212" y="2739"/>
                  </a:lnTo>
                  <a:lnTo>
                    <a:pt x="1157" y="2710"/>
                  </a:lnTo>
                  <a:lnTo>
                    <a:pt x="1108" y="2683"/>
                  </a:lnTo>
                  <a:lnTo>
                    <a:pt x="1063" y="2658"/>
                  </a:lnTo>
                  <a:lnTo>
                    <a:pt x="1022" y="2634"/>
                  </a:lnTo>
                  <a:lnTo>
                    <a:pt x="985" y="2611"/>
                  </a:lnTo>
                  <a:lnTo>
                    <a:pt x="952" y="2592"/>
                  </a:lnTo>
                  <a:lnTo>
                    <a:pt x="923" y="2574"/>
                  </a:lnTo>
                  <a:lnTo>
                    <a:pt x="897" y="2558"/>
                  </a:lnTo>
                  <a:lnTo>
                    <a:pt x="874" y="2543"/>
                  </a:lnTo>
                  <a:lnTo>
                    <a:pt x="855" y="2530"/>
                  </a:lnTo>
                  <a:lnTo>
                    <a:pt x="840" y="2519"/>
                  </a:lnTo>
                  <a:lnTo>
                    <a:pt x="827" y="2510"/>
                  </a:lnTo>
                  <a:lnTo>
                    <a:pt x="817" y="2502"/>
                  </a:lnTo>
                  <a:lnTo>
                    <a:pt x="809" y="2496"/>
                  </a:lnTo>
                  <a:lnTo>
                    <a:pt x="805" y="2493"/>
                  </a:lnTo>
                  <a:lnTo>
                    <a:pt x="802" y="2491"/>
                  </a:lnTo>
                  <a:lnTo>
                    <a:pt x="697" y="2126"/>
                  </a:lnTo>
                  <a:lnTo>
                    <a:pt x="695" y="2134"/>
                  </a:lnTo>
                  <a:lnTo>
                    <a:pt x="692" y="2142"/>
                  </a:lnTo>
                  <a:lnTo>
                    <a:pt x="688" y="2150"/>
                  </a:lnTo>
                  <a:lnTo>
                    <a:pt x="684" y="2160"/>
                  </a:lnTo>
                  <a:lnTo>
                    <a:pt x="679" y="2169"/>
                  </a:lnTo>
                  <a:lnTo>
                    <a:pt x="675" y="2177"/>
                  </a:lnTo>
                  <a:lnTo>
                    <a:pt x="669" y="2186"/>
                  </a:lnTo>
                  <a:lnTo>
                    <a:pt x="663" y="2194"/>
                  </a:lnTo>
                  <a:lnTo>
                    <a:pt x="650" y="2209"/>
                  </a:lnTo>
                  <a:lnTo>
                    <a:pt x="635" y="2228"/>
                  </a:lnTo>
                  <a:lnTo>
                    <a:pt x="620" y="2247"/>
                  </a:lnTo>
                  <a:lnTo>
                    <a:pt x="604" y="2264"/>
                  </a:lnTo>
                  <a:lnTo>
                    <a:pt x="589" y="2281"/>
                  </a:lnTo>
                  <a:lnTo>
                    <a:pt x="577" y="2294"/>
                  </a:lnTo>
                  <a:lnTo>
                    <a:pt x="566" y="2304"/>
                  </a:lnTo>
                  <a:lnTo>
                    <a:pt x="558" y="2306"/>
                  </a:lnTo>
                  <a:lnTo>
                    <a:pt x="550" y="2306"/>
                  </a:lnTo>
                  <a:lnTo>
                    <a:pt x="540" y="2306"/>
                  </a:lnTo>
                  <a:lnTo>
                    <a:pt x="527" y="2306"/>
                  </a:lnTo>
                  <a:lnTo>
                    <a:pt x="515" y="2306"/>
                  </a:lnTo>
                  <a:lnTo>
                    <a:pt x="504" y="2306"/>
                  </a:lnTo>
                  <a:lnTo>
                    <a:pt x="493" y="2306"/>
                  </a:lnTo>
                  <a:lnTo>
                    <a:pt x="487" y="2306"/>
                  </a:lnTo>
                  <a:lnTo>
                    <a:pt x="484" y="2306"/>
                  </a:lnTo>
                  <a:lnTo>
                    <a:pt x="479" y="2228"/>
                  </a:lnTo>
                  <a:lnTo>
                    <a:pt x="458" y="2280"/>
                  </a:lnTo>
                  <a:lnTo>
                    <a:pt x="431" y="2273"/>
                  </a:lnTo>
                  <a:lnTo>
                    <a:pt x="431" y="2228"/>
                  </a:lnTo>
                  <a:lnTo>
                    <a:pt x="427" y="2228"/>
                  </a:lnTo>
                  <a:lnTo>
                    <a:pt x="413" y="2229"/>
                  </a:lnTo>
                  <a:lnTo>
                    <a:pt x="394" y="2228"/>
                  </a:lnTo>
                  <a:lnTo>
                    <a:pt x="372" y="2225"/>
                  </a:lnTo>
                  <a:lnTo>
                    <a:pt x="348" y="2219"/>
                  </a:lnTo>
                  <a:lnTo>
                    <a:pt x="325" y="2208"/>
                  </a:lnTo>
                  <a:lnTo>
                    <a:pt x="307" y="2191"/>
                  </a:lnTo>
                  <a:lnTo>
                    <a:pt x="295" y="2169"/>
                  </a:lnTo>
                  <a:lnTo>
                    <a:pt x="286" y="2136"/>
                  </a:lnTo>
                  <a:lnTo>
                    <a:pt x="277" y="2097"/>
                  </a:lnTo>
                  <a:lnTo>
                    <a:pt x="268" y="2051"/>
                  </a:lnTo>
                  <a:lnTo>
                    <a:pt x="263" y="2001"/>
                  </a:lnTo>
                  <a:lnTo>
                    <a:pt x="262" y="1952"/>
                  </a:lnTo>
                  <a:lnTo>
                    <a:pt x="269" y="1903"/>
                  </a:lnTo>
                  <a:lnTo>
                    <a:pt x="285" y="1859"/>
                  </a:lnTo>
                  <a:lnTo>
                    <a:pt x="311" y="1821"/>
                  </a:lnTo>
                  <a:lnTo>
                    <a:pt x="322" y="1810"/>
                  </a:lnTo>
                  <a:lnTo>
                    <a:pt x="334" y="1802"/>
                  </a:lnTo>
                  <a:lnTo>
                    <a:pt x="347" y="1793"/>
                  </a:lnTo>
                  <a:lnTo>
                    <a:pt x="359" y="1786"/>
                  </a:lnTo>
                  <a:lnTo>
                    <a:pt x="372" y="1779"/>
                  </a:lnTo>
                  <a:lnTo>
                    <a:pt x="385" y="1774"/>
                  </a:lnTo>
                  <a:lnTo>
                    <a:pt x="399" y="1769"/>
                  </a:lnTo>
                  <a:lnTo>
                    <a:pt x="412" y="1767"/>
                  </a:lnTo>
                  <a:lnTo>
                    <a:pt x="425" y="1764"/>
                  </a:lnTo>
                  <a:lnTo>
                    <a:pt x="438" y="1761"/>
                  </a:lnTo>
                  <a:lnTo>
                    <a:pt x="451" y="1760"/>
                  </a:lnTo>
                  <a:lnTo>
                    <a:pt x="463" y="1758"/>
                  </a:lnTo>
                  <a:lnTo>
                    <a:pt x="475" y="1758"/>
                  </a:lnTo>
                  <a:lnTo>
                    <a:pt x="487" y="1758"/>
                  </a:lnTo>
                  <a:lnTo>
                    <a:pt x="497" y="1758"/>
                  </a:lnTo>
                  <a:lnTo>
                    <a:pt x="507" y="1758"/>
                  </a:lnTo>
                  <a:lnTo>
                    <a:pt x="500" y="1755"/>
                  </a:lnTo>
                  <a:lnTo>
                    <a:pt x="491" y="1753"/>
                  </a:lnTo>
                  <a:lnTo>
                    <a:pt x="483" y="1750"/>
                  </a:lnTo>
                  <a:lnTo>
                    <a:pt x="473" y="1746"/>
                  </a:lnTo>
                  <a:lnTo>
                    <a:pt x="464" y="1741"/>
                  </a:lnTo>
                  <a:lnTo>
                    <a:pt x="453" y="1737"/>
                  </a:lnTo>
                  <a:lnTo>
                    <a:pt x="442" y="1731"/>
                  </a:lnTo>
                  <a:lnTo>
                    <a:pt x="429" y="1724"/>
                  </a:lnTo>
                  <a:lnTo>
                    <a:pt x="417" y="1717"/>
                  </a:lnTo>
                  <a:lnTo>
                    <a:pt x="402" y="1709"/>
                  </a:lnTo>
                  <a:lnTo>
                    <a:pt x="389" y="1701"/>
                  </a:lnTo>
                  <a:lnTo>
                    <a:pt x="373" y="1691"/>
                  </a:lnTo>
                  <a:lnTo>
                    <a:pt x="357" y="1679"/>
                  </a:lnTo>
                  <a:lnTo>
                    <a:pt x="340" y="1667"/>
                  </a:lnTo>
                  <a:lnTo>
                    <a:pt x="322" y="1654"/>
                  </a:lnTo>
                  <a:lnTo>
                    <a:pt x="304" y="1640"/>
                  </a:lnTo>
                  <a:lnTo>
                    <a:pt x="294" y="1632"/>
                  </a:lnTo>
                  <a:lnTo>
                    <a:pt x="285" y="1625"/>
                  </a:lnTo>
                  <a:lnTo>
                    <a:pt x="276" y="1616"/>
                  </a:lnTo>
                  <a:lnTo>
                    <a:pt x="268" y="1609"/>
                  </a:lnTo>
                  <a:lnTo>
                    <a:pt x="261" y="1601"/>
                  </a:lnTo>
                  <a:lnTo>
                    <a:pt x="253" y="1594"/>
                  </a:lnTo>
                  <a:lnTo>
                    <a:pt x="247" y="1587"/>
                  </a:lnTo>
                  <a:lnTo>
                    <a:pt x="241" y="1580"/>
                  </a:lnTo>
                  <a:lnTo>
                    <a:pt x="231" y="1580"/>
                  </a:lnTo>
                  <a:lnTo>
                    <a:pt x="227" y="1571"/>
                  </a:lnTo>
                  <a:lnTo>
                    <a:pt x="224" y="1563"/>
                  </a:lnTo>
                  <a:lnTo>
                    <a:pt x="219" y="1554"/>
                  </a:lnTo>
                  <a:lnTo>
                    <a:pt x="216" y="1544"/>
                  </a:lnTo>
                  <a:lnTo>
                    <a:pt x="212" y="1536"/>
                  </a:lnTo>
                  <a:lnTo>
                    <a:pt x="208" y="1528"/>
                  </a:lnTo>
                  <a:lnTo>
                    <a:pt x="205" y="1519"/>
                  </a:lnTo>
                  <a:lnTo>
                    <a:pt x="204" y="1512"/>
                  </a:lnTo>
                  <a:lnTo>
                    <a:pt x="157" y="1452"/>
                  </a:lnTo>
                  <a:lnTo>
                    <a:pt x="118" y="1384"/>
                  </a:lnTo>
                  <a:lnTo>
                    <a:pt x="84" y="1314"/>
                  </a:lnTo>
                  <a:lnTo>
                    <a:pt x="57" y="1238"/>
                  </a:lnTo>
                  <a:lnTo>
                    <a:pt x="35" y="1159"/>
                  </a:lnTo>
                  <a:lnTo>
                    <a:pt x="19" y="1078"/>
                  </a:lnTo>
                  <a:lnTo>
                    <a:pt x="8" y="993"/>
                  </a:lnTo>
                  <a:lnTo>
                    <a:pt x="2" y="909"/>
                  </a:lnTo>
                  <a:lnTo>
                    <a:pt x="0" y="825"/>
                  </a:lnTo>
                  <a:lnTo>
                    <a:pt x="3" y="740"/>
                  </a:lnTo>
                  <a:lnTo>
                    <a:pt x="11" y="657"/>
                  </a:lnTo>
                  <a:lnTo>
                    <a:pt x="22" y="577"/>
                  </a:lnTo>
                  <a:lnTo>
                    <a:pt x="38" y="499"/>
                  </a:lnTo>
                  <a:lnTo>
                    <a:pt x="58" y="426"/>
                  </a:lnTo>
                  <a:lnTo>
                    <a:pt x="81" y="355"/>
                  </a:lnTo>
                  <a:lnTo>
                    <a:pt x="107" y="291"/>
                  </a:lnTo>
                  <a:lnTo>
                    <a:pt x="123" y="261"/>
                  </a:lnTo>
                  <a:lnTo>
                    <a:pt x="143" y="229"/>
                  </a:lnTo>
                  <a:lnTo>
                    <a:pt x="169" y="198"/>
                  </a:lnTo>
                  <a:lnTo>
                    <a:pt x="199" y="167"/>
                  </a:lnTo>
                  <a:lnTo>
                    <a:pt x="233" y="136"/>
                  </a:lnTo>
                  <a:lnTo>
                    <a:pt x="271" y="108"/>
                  </a:lnTo>
                  <a:lnTo>
                    <a:pt x="314" y="81"/>
                  </a:lnTo>
                  <a:lnTo>
                    <a:pt x="359" y="57"/>
                  </a:lnTo>
                  <a:lnTo>
                    <a:pt x="409" y="36"/>
                  </a:lnTo>
                  <a:lnTo>
                    <a:pt x="461" y="21"/>
                  </a:lnTo>
                  <a:lnTo>
                    <a:pt x="515" y="8"/>
                  </a:lnTo>
                  <a:lnTo>
                    <a:pt x="571" y="1"/>
                  </a:lnTo>
                  <a:lnTo>
                    <a:pt x="631" y="0"/>
                  </a:lnTo>
                  <a:lnTo>
                    <a:pt x="692" y="5"/>
                  </a:lnTo>
                  <a:lnTo>
                    <a:pt x="754" y="16"/>
                  </a:lnTo>
                  <a:lnTo>
                    <a:pt x="818" y="36"/>
                  </a:lnTo>
                  <a:lnTo>
                    <a:pt x="837" y="43"/>
                  </a:lnTo>
                  <a:lnTo>
                    <a:pt x="855" y="50"/>
                  </a:lnTo>
                  <a:lnTo>
                    <a:pt x="873" y="57"/>
                  </a:lnTo>
                  <a:lnTo>
                    <a:pt x="893" y="64"/>
                  </a:lnTo>
                  <a:lnTo>
                    <a:pt x="909" y="73"/>
                  </a:lnTo>
                  <a:lnTo>
                    <a:pt x="927" y="80"/>
                  </a:lnTo>
                  <a:lnTo>
                    <a:pt x="944" y="88"/>
                  </a:lnTo>
                  <a:lnTo>
                    <a:pt x="961" y="95"/>
                  </a:lnTo>
                  <a:lnTo>
                    <a:pt x="978" y="104"/>
                  </a:lnTo>
                  <a:lnTo>
                    <a:pt x="995" y="112"/>
                  </a:lnTo>
                  <a:lnTo>
                    <a:pt x="1011" y="120"/>
                  </a:lnTo>
                  <a:lnTo>
                    <a:pt x="1028" y="127"/>
                  </a:lnTo>
                  <a:lnTo>
                    <a:pt x="1044" y="136"/>
                  </a:lnTo>
                  <a:lnTo>
                    <a:pt x="1059" y="144"/>
                  </a:lnTo>
                  <a:lnTo>
                    <a:pt x="1074" y="151"/>
                  </a:lnTo>
                  <a:lnTo>
                    <a:pt x="1090" y="160"/>
                  </a:lnTo>
                  <a:lnTo>
                    <a:pt x="1102" y="147"/>
                  </a:lnTo>
                  <a:lnTo>
                    <a:pt x="1116" y="136"/>
                  </a:lnTo>
                  <a:lnTo>
                    <a:pt x="1129" y="126"/>
                  </a:lnTo>
                  <a:lnTo>
                    <a:pt x="1144" y="116"/>
                  </a:lnTo>
                  <a:lnTo>
                    <a:pt x="1160" y="109"/>
                  </a:lnTo>
                  <a:lnTo>
                    <a:pt x="1177" y="102"/>
                  </a:lnTo>
                  <a:lnTo>
                    <a:pt x="1194" y="97"/>
                  </a:lnTo>
                  <a:lnTo>
                    <a:pt x="1212" y="94"/>
                  </a:lnTo>
                  <a:lnTo>
                    <a:pt x="1244" y="91"/>
                  </a:lnTo>
                  <a:lnTo>
                    <a:pt x="1267" y="95"/>
                  </a:lnTo>
                  <a:lnTo>
                    <a:pt x="1283" y="101"/>
                  </a:lnTo>
                  <a:lnTo>
                    <a:pt x="1292" y="111"/>
                  </a:lnTo>
                  <a:lnTo>
                    <a:pt x="1297" y="120"/>
                  </a:lnTo>
                  <a:lnTo>
                    <a:pt x="1298" y="130"/>
                  </a:lnTo>
                  <a:lnTo>
                    <a:pt x="1300" y="137"/>
                  </a:lnTo>
                  <a:lnTo>
                    <a:pt x="1300" y="142"/>
                  </a:lnTo>
                  <a:lnTo>
                    <a:pt x="1297" y="143"/>
                  </a:lnTo>
                  <a:lnTo>
                    <a:pt x="1302" y="142"/>
                  </a:lnTo>
                  <a:lnTo>
                    <a:pt x="1306" y="140"/>
                  </a:lnTo>
                  <a:lnTo>
                    <a:pt x="1312" y="139"/>
                  </a:lnTo>
                  <a:lnTo>
                    <a:pt x="1316" y="137"/>
                  </a:lnTo>
                  <a:lnTo>
                    <a:pt x="1322" y="136"/>
                  </a:lnTo>
                  <a:lnTo>
                    <a:pt x="1327" y="135"/>
                  </a:lnTo>
                  <a:lnTo>
                    <a:pt x="1332" y="133"/>
                  </a:lnTo>
                  <a:lnTo>
                    <a:pt x="1338" y="133"/>
                  </a:lnTo>
                  <a:lnTo>
                    <a:pt x="1373" y="133"/>
                  </a:lnTo>
                  <a:lnTo>
                    <a:pt x="1404" y="144"/>
                  </a:lnTo>
                  <a:lnTo>
                    <a:pt x="1430" y="161"/>
                  </a:lnTo>
                  <a:lnTo>
                    <a:pt x="1453" y="184"/>
                  </a:lnTo>
                  <a:lnTo>
                    <a:pt x="1470" y="206"/>
                  </a:lnTo>
                  <a:lnTo>
                    <a:pt x="1483" y="226"/>
                  </a:lnTo>
                  <a:lnTo>
                    <a:pt x="1491" y="241"/>
                  </a:lnTo>
                  <a:lnTo>
                    <a:pt x="1495" y="248"/>
                  </a:lnTo>
                  <a:lnTo>
                    <a:pt x="1467" y="267"/>
                  </a:lnTo>
                  <a:lnTo>
                    <a:pt x="1464" y="261"/>
                  </a:lnTo>
                  <a:lnTo>
                    <a:pt x="1454" y="248"/>
                  </a:lnTo>
                  <a:lnTo>
                    <a:pt x="1439" y="229"/>
                  </a:lnTo>
                  <a:lnTo>
                    <a:pt x="1419" y="209"/>
                  </a:lnTo>
                  <a:lnTo>
                    <a:pt x="1396" y="188"/>
                  </a:lnTo>
                  <a:lnTo>
                    <a:pt x="1371" y="171"/>
                  </a:lnTo>
                  <a:lnTo>
                    <a:pt x="1342" y="161"/>
                  </a:lnTo>
                  <a:lnTo>
                    <a:pt x="1313" y="160"/>
                  </a:lnTo>
                  <a:lnTo>
                    <a:pt x="1306" y="161"/>
                  </a:lnTo>
                  <a:lnTo>
                    <a:pt x="1298" y="163"/>
                  </a:lnTo>
                  <a:lnTo>
                    <a:pt x="1292" y="164"/>
                  </a:lnTo>
                  <a:lnTo>
                    <a:pt x="1284" y="167"/>
                  </a:lnTo>
                  <a:lnTo>
                    <a:pt x="1276" y="170"/>
                  </a:lnTo>
                  <a:lnTo>
                    <a:pt x="1269" y="172"/>
                  </a:lnTo>
                  <a:lnTo>
                    <a:pt x="1262" y="177"/>
                  </a:lnTo>
                  <a:lnTo>
                    <a:pt x="1257" y="180"/>
                  </a:lnTo>
                  <a:lnTo>
                    <a:pt x="1257" y="168"/>
                  </a:lnTo>
                  <a:lnTo>
                    <a:pt x="1280" y="150"/>
                  </a:lnTo>
                  <a:lnTo>
                    <a:pt x="1279" y="147"/>
                  </a:lnTo>
                  <a:lnTo>
                    <a:pt x="1277" y="143"/>
                  </a:lnTo>
                  <a:lnTo>
                    <a:pt x="1272" y="135"/>
                  </a:lnTo>
                  <a:lnTo>
                    <a:pt x="1266" y="126"/>
                  </a:lnTo>
                  <a:lnTo>
                    <a:pt x="1256" y="119"/>
                  </a:lnTo>
                  <a:lnTo>
                    <a:pt x="1242" y="113"/>
                  </a:lnTo>
                  <a:lnTo>
                    <a:pt x="1225" y="112"/>
                  </a:lnTo>
                  <a:lnTo>
                    <a:pt x="1204" y="115"/>
                  </a:lnTo>
                  <a:lnTo>
                    <a:pt x="1182" y="122"/>
                  </a:lnTo>
                  <a:lnTo>
                    <a:pt x="1163" y="132"/>
                  </a:lnTo>
                  <a:lnTo>
                    <a:pt x="1148" y="142"/>
                  </a:lnTo>
                  <a:lnTo>
                    <a:pt x="1135" y="150"/>
                  </a:lnTo>
                  <a:lnTo>
                    <a:pt x="1126" y="160"/>
                  </a:lnTo>
                  <a:lnTo>
                    <a:pt x="1119" y="167"/>
                  </a:lnTo>
                  <a:lnTo>
                    <a:pt x="1115" y="172"/>
                  </a:lnTo>
                  <a:lnTo>
                    <a:pt x="1113" y="174"/>
                  </a:lnTo>
                  <a:lnTo>
                    <a:pt x="1191" y="215"/>
                  </a:lnTo>
                  <a:lnTo>
                    <a:pt x="1192" y="213"/>
                  </a:lnTo>
                  <a:lnTo>
                    <a:pt x="1196" y="209"/>
                  </a:lnTo>
                  <a:lnTo>
                    <a:pt x="1201" y="205"/>
                  </a:lnTo>
                  <a:lnTo>
                    <a:pt x="1207" y="198"/>
                  </a:lnTo>
                  <a:lnTo>
                    <a:pt x="1214" y="192"/>
                  </a:lnTo>
                  <a:lnTo>
                    <a:pt x="1221" y="187"/>
                  </a:lnTo>
                  <a:lnTo>
                    <a:pt x="1227" y="181"/>
                  </a:lnTo>
                  <a:lnTo>
                    <a:pt x="1232" y="178"/>
                  </a:lnTo>
                  <a:lnTo>
                    <a:pt x="1241" y="174"/>
                  </a:lnTo>
                  <a:lnTo>
                    <a:pt x="1249" y="171"/>
                  </a:lnTo>
                  <a:lnTo>
                    <a:pt x="1254" y="168"/>
                  </a:lnTo>
                  <a:lnTo>
                    <a:pt x="1257" y="168"/>
                  </a:lnTo>
                  <a:lnTo>
                    <a:pt x="1257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0200" y="5302080"/>
              <a:ext cx="5400" cy="144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5" y="22"/>
                  </a:moveTo>
                  <a:lnTo>
                    <a:pt x="4" y="20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7" y="0"/>
                  </a:lnTo>
                  <a:lnTo>
                    <a:pt x="6" y="6"/>
                  </a:lnTo>
                  <a:lnTo>
                    <a:pt x="6" y="11"/>
                  </a:lnTo>
                  <a:lnTo>
                    <a:pt x="5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04200" y="5276880"/>
              <a:ext cx="16920" cy="1584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17" y="24"/>
                  </a:moveTo>
                  <a:lnTo>
                    <a:pt x="14" y="19"/>
                  </a:lnTo>
                  <a:lnTo>
                    <a:pt x="9" y="12"/>
                  </a:lnTo>
                  <a:lnTo>
                    <a:pt x="5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11" y="12"/>
                  </a:lnTo>
                  <a:lnTo>
                    <a:pt x="14" y="17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4832280"/>
              <a:ext cx="1391760" cy="1614600"/>
            </a:xfrm>
            <a:custGeom>
              <a:avLst/>
              <a:gdLst/>
              <a:ahLst/>
              <a:rect l="l" t="t" r="r" b="b"/>
              <a:pathLst>
                <a:path w="1390" h="2451">
                  <a:moveTo>
                    <a:pt x="1260" y="1034"/>
                  </a:moveTo>
                  <a:lnTo>
                    <a:pt x="1237" y="1033"/>
                  </a:lnTo>
                  <a:lnTo>
                    <a:pt x="1236" y="1034"/>
                  </a:lnTo>
                  <a:lnTo>
                    <a:pt x="1236" y="1034"/>
                  </a:lnTo>
                  <a:lnTo>
                    <a:pt x="1236" y="1034"/>
                  </a:lnTo>
                  <a:lnTo>
                    <a:pt x="1236" y="1036"/>
                  </a:lnTo>
                  <a:lnTo>
                    <a:pt x="1228" y="1036"/>
                  </a:lnTo>
                  <a:lnTo>
                    <a:pt x="1220" y="1036"/>
                  </a:lnTo>
                  <a:lnTo>
                    <a:pt x="1213" y="1036"/>
                  </a:lnTo>
                  <a:lnTo>
                    <a:pt x="1208" y="1036"/>
                  </a:lnTo>
                  <a:lnTo>
                    <a:pt x="1203" y="1036"/>
                  </a:lnTo>
                  <a:lnTo>
                    <a:pt x="1200" y="1036"/>
                  </a:lnTo>
                  <a:lnTo>
                    <a:pt x="1198" y="1036"/>
                  </a:lnTo>
                  <a:lnTo>
                    <a:pt x="1196" y="1036"/>
                  </a:lnTo>
                  <a:lnTo>
                    <a:pt x="1198" y="1036"/>
                  </a:lnTo>
                  <a:lnTo>
                    <a:pt x="1200" y="1036"/>
                  </a:lnTo>
                  <a:lnTo>
                    <a:pt x="1203" y="1037"/>
                  </a:lnTo>
                  <a:lnTo>
                    <a:pt x="1208" y="1037"/>
                  </a:lnTo>
                  <a:lnTo>
                    <a:pt x="1213" y="1039"/>
                  </a:lnTo>
                  <a:lnTo>
                    <a:pt x="1220" y="1040"/>
                  </a:lnTo>
                  <a:lnTo>
                    <a:pt x="1227" y="1040"/>
                  </a:lnTo>
                  <a:lnTo>
                    <a:pt x="1236" y="1041"/>
                  </a:lnTo>
                  <a:lnTo>
                    <a:pt x="1235" y="1051"/>
                  </a:lnTo>
                  <a:lnTo>
                    <a:pt x="1235" y="1063"/>
                  </a:lnTo>
                  <a:lnTo>
                    <a:pt x="1234" y="1072"/>
                  </a:lnTo>
                  <a:lnTo>
                    <a:pt x="1233" y="1084"/>
                  </a:lnTo>
                  <a:lnTo>
                    <a:pt x="1225" y="1178"/>
                  </a:lnTo>
                  <a:lnTo>
                    <a:pt x="1218" y="1272"/>
                  </a:lnTo>
                  <a:lnTo>
                    <a:pt x="1211" y="1365"/>
                  </a:lnTo>
                  <a:lnTo>
                    <a:pt x="1208" y="1455"/>
                  </a:lnTo>
                  <a:lnTo>
                    <a:pt x="1206" y="1539"/>
                  </a:lnTo>
                  <a:lnTo>
                    <a:pt x="1208" y="1618"/>
                  </a:lnTo>
                  <a:lnTo>
                    <a:pt x="1213" y="1690"/>
                  </a:lnTo>
                  <a:lnTo>
                    <a:pt x="1224" y="1751"/>
                  </a:lnTo>
                  <a:lnTo>
                    <a:pt x="1225" y="1753"/>
                  </a:lnTo>
                  <a:lnTo>
                    <a:pt x="1225" y="1756"/>
                  </a:lnTo>
                  <a:lnTo>
                    <a:pt x="1226" y="1757"/>
                  </a:lnTo>
                  <a:lnTo>
                    <a:pt x="1226" y="1760"/>
                  </a:lnTo>
                  <a:lnTo>
                    <a:pt x="1210" y="1757"/>
                  </a:lnTo>
                  <a:lnTo>
                    <a:pt x="1193" y="1756"/>
                  </a:lnTo>
                  <a:lnTo>
                    <a:pt x="1177" y="1753"/>
                  </a:lnTo>
                  <a:lnTo>
                    <a:pt x="1163" y="1751"/>
                  </a:lnTo>
                  <a:lnTo>
                    <a:pt x="1148" y="1751"/>
                  </a:lnTo>
                  <a:lnTo>
                    <a:pt x="1136" y="1750"/>
                  </a:lnTo>
                  <a:lnTo>
                    <a:pt x="1124" y="1751"/>
                  </a:lnTo>
                  <a:lnTo>
                    <a:pt x="1116" y="1753"/>
                  </a:lnTo>
                  <a:lnTo>
                    <a:pt x="1104" y="1756"/>
                  </a:lnTo>
                  <a:lnTo>
                    <a:pt x="1096" y="1757"/>
                  </a:lnTo>
                  <a:lnTo>
                    <a:pt x="1089" y="1758"/>
                  </a:lnTo>
                  <a:lnTo>
                    <a:pt x="1085" y="1758"/>
                  </a:lnTo>
                  <a:lnTo>
                    <a:pt x="1083" y="1758"/>
                  </a:lnTo>
                  <a:lnTo>
                    <a:pt x="1082" y="1758"/>
                  </a:lnTo>
                  <a:lnTo>
                    <a:pt x="1080" y="1757"/>
                  </a:lnTo>
                  <a:lnTo>
                    <a:pt x="1080" y="1757"/>
                  </a:lnTo>
                  <a:lnTo>
                    <a:pt x="1086" y="1742"/>
                  </a:lnTo>
                  <a:lnTo>
                    <a:pt x="1098" y="1701"/>
                  </a:lnTo>
                  <a:lnTo>
                    <a:pt x="1115" y="1643"/>
                  </a:lnTo>
                  <a:lnTo>
                    <a:pt x="1133" y="1577"/>
                  </a:lnTo>
                  <a:lnTo>
                    <a:pt x="1147" y="1512"/>
                  </a:lnTo>
                  <a:lnTo>
                    <a:pt x="1155" y="1458"/>
                  </a:lnTo>
                  <a:lnTo>
                    <a:pt x="1153" y="1420"/>
                  </a:lnTo>
                  <a:lnTo>
                    <a:pt x="1136" y="1408"/>
                  </a:lnTo>
                  <a:lnTo>
                    <a:pt x="1131" y="1415"/>
                  </a:lnTo>
                  <a:lnTo>
                    <a:pt x="1120" y="1432"/>
                  </a:lnTo>
                  <a:lnTo>
                    <a:pt x="1102" y="1460"/>
                  </a:lnTo>
                  <a:lnTo>
                    <a:pt x="1078" y="1497"/>
                  </a:lnTo>
                  <a:lnTo>
                    <a:pt x="1051" y="1541"/>
                  </a:lnTo>
                  <a:lnTo>
                    <a:pt x="1022" y="1590"/>
                  </a:lnTo>
                  <a:lnTo>
                    <a:pt x="990" y="1640"/>
                  </a:lnTo>
                  <a:lnTo>
                    <a:pt x="960" y="1694"/>
                  </a:lnTo>
                  <a:lnTo>
                    <a:pt x="929" y="1747"/>
                  </a:lnTo>
                  <a:lnTo>
                    <a:pt x="901" y="1799"/>
                  </a:lnTo>
                  <a:lnTo>
                    <a:pt x="876" y="1848"/>
                  </a:lnTo>
                  <a:lnTo>
                    <a:pt x="856" y="1892"/>
                  </a:lnTo>
                  <a:lnTo>
                    <a:pt x="842" y="1929"/>
                  </a:lnTo>
                  <a:lnTo>
                    <a:pt x="836" y="1958"/>
                  </a:lnTo>
                  <a:lnTo>
                    <a:pt x="837" y="1976"/>
                  </a:lnTo>
                  <a:lnTo>
                    <a:pt x="848" y="1983"/>
                  </a:lnTo>
                  <a:lnTo>
                    <a:pt x="865" y="1982"/>
                  </a:lnTo>
                  <a:lnTo>
                    <a:pt x="883" y="1978"/>
                  </a:lnTo>
                  <a:lnTo>
                    <a:pt x="902" y="1969"/>
                  </a:lnTo>
                  <a:lnTo>
                    <a:pt x="923" y="1959"/>
                  </a:lnTo>
                  <a:lnTo>
                    <a:pt x="944" y="1947"/>
                  </a:lnTo>
                  <a:lnTo>
                    <a:pt x="967" y="1931"/>
                  </a:lnTo>
                  <a:lnTo>
                    <a:pt x="988" y="1916"/>
                  </a:lnTo>
                  <a:lnTo>
                    <a:pt x="1012" y="1899"/>
                  </a:lnTo>
                  <a:lnTo>
                    <a:pt x="1034" y="1882"/>
                  </a:lnTo>
                  <a:lnTo>
                    <a:pt x="1057" y="1865"/>
                  </a:lnTo>
                  <a:lnTo>
                    <a:pt x="1080" y="1848"/>
                  </a:lnTo>
                  <a:lnTo>
                    <a:pt x="1103" y="1833"/>
                  </a:lnTo>
                  <a:lnTo>
                    <a:pt x="1125" y="1820"/>
                  </a:lnTo>
                  <a:lnTo>
                    <a:pt x="1147" y="1809"/>
                  </a:lnTo>
                  <a:lnTo>
                    <a:pt x="1168" y="1801"/>
                  </a:lnTo>
                  <a:lnTo>
                    <a:pt x="1189" y="1795"/>
                  </a:lnTo>
                  <a:lnTo>
                    <a:pt x="1200" y="1794"/>
                  </a:lnTo>
                  <a:lnTo>
                    <a:pt x="1210" y="1791"/>
                  </a:lnTo>
                  <a:lnTo>
                    <a:pt x="1220" y="1789"/>
                  </a:lnTo>
                  <a:lnTo>
                    <a:pt x="1229" y="1788"/>
                  </a:lnTo>
                  <a:lnTo>
                    <a:pt x="1237" y="1785"/>
                  </a:lnTo>
                  <a:lnTo>
                    <a:pt x="1245" y="1784"/>
                  </a:lnTo>
                  <a:lnTo>
                    <a:pt x="1252" y="1782"/>
                  </a:lnTo>
                  <a:lnTo>
                    <a:pt x="1257" y="1781"/>
                  </a:lnTo>
                  <a:lnTo>
                    <a:pt x="1265" y="1782"/>
                  </a:lnTo>
                  <a:lnTo>
                    <a:pt x="1274" y="1785"/>
                  </a:lnTo>
                  <a:lnTo>
                    <a:pt x="1282" y="1787"/>
                  </a:lnTo>
                  <a:lnTo>
                    <a:pt x="1290" y="1789"/>
                  </a:lnTo>
                  <a:lnTo>
                    <a:pt x="1297" y="1799"/>
                  </a:lnTo>
                  <a:lnTo>
                    <a:pt x="1302" y="1810"/>
                  </a:lnTo>
                  <a:lnTo>
                    <a:pt x="1306" y="1824"/>
                  </a:lnTo>
                  <a:lnTo>
                    <a:pt x="1305" y="1841"/>
                  </a:lnTo>
                  <a:lnTo>
                    <a:pt x="1302" y="1862"/>
                  </a:lnTo>
                  <a:lnTo>
                    <a:pt x="1299" y="1878"/>
                  </a:lnTo>
                  <a:lnTo>
                    <a:pt x="1296" y="1889"/>
                  </a:lnTo>
                  <a:lnTo>
                    <a:pt x="1290" y="1895"/>
                  </a:lnTo>
                  <a:lnTo>
                    <a:pt x="1282" y="1896"/>
                  </a:lnTo>
                  <a:lnTo>
                    <a:pt x="1270" y="1893"/>
                  </a:lnTo>
                  <a:lnTo>
                    <a:pt x="1254" y="1889"/>
                  </a:lnTo>
                  <a:lnTo>
                    <a:pt x="1234" y="1881"/>
                  </a:lnTo>
                  <a:lnTo>
                    <a:pt x="1210" y="1875"/>
                  </a:lnTo>
                  <a:lnTo>
                    <a:pt x="1186" y="1877"/>
                  </a:lnTo>
                  <a:lnTo>
                    <a:pt x="1163" y="1882"/>
                  </a:lnTo>
                  <a:lnTo>
                    <a:pt x="1141" y="1891"/>
                  </a:lnTo>
                  <a:lnTo>
                    <a:pt x="1123" y="1900"/>
                  </a:lnTo>
                  <a:lnTo>
                    <a:pt x="1109" y="1910"/>
                  </a:lnTo>
                  <a:lnTo>
                    <a:pt x="1100" y="1917"/>
                  </a:lnTo>
                  <a:lnTo>
                    <a:pt x="1096" y="1920"/>
                  </a:lnTo>
                  <a:lnTo>
                    <a:pt x="1101" y="1920"/>
                  </a:lnTo>
                  <a:lnTo>
                    <a:pt x="1113" y="1920"/>
                  </a:lnTo>
                  <a:lnTo>
                    <a:pt x="1132" y="1921"/>
                  </a:lnTo>
                  <a:lnTo>
                    <a:pt x="1157" y="1924"/>
                  </a:lnTo>
                  <a:lnTo>
                    <a:pt x="1184" y="1929"/>
                  </a:lnTo>
                  <a:lnTo>
                    <a:pt x="1215" y="1934"/>
                  </a:lnTo>
                  <a:lnTo>
                    <a:pt x="1244" y="1943"/>
                  </a:lnTo>
                  <a:lnTo>
                    <a:pt x="1273" y="1954"/>
                  </a:lnTo>
                  <a:lnTo>
                    <a:pt x="1275" y="1955"/>
                  </a:lnTo>
                  <a:lnTo>
                    <a:pt x="1279" y="1955"/>
                  </a:lnTo>
                  <a:lnTo>
                    <a:pt x="1281" y="1955"/>
                  </a:lnTo>
                  <a:lnTo>
                    <a:pt x="1283" y="1957"/>
                  </a:lnTo>
                  <a:lnTo>
                    <a:pt x="1293" y="1990"/>
                  </a:lnTo>
                  <a:lnTo>
                    <a:pt x="1301" y="2016"/>
                  </a:lnTo>
                  <a:lnTo>
                    <a:pt x="1305" y="2037"/>
                  </a:lnTo>
                  <a:lnTo>
                    <a:pt x="1305" y="2052"/>
                  </a:lnTo>
                  <a:lnTo>
                    <a:pt x="1300" y="2065"/>
                  </a:lnTo>
                  <a:lnTo>
                    <a:pt x="1293" y="2076"/>
                  </a:lnTo>
                  <a:lnTo>
                    <a:pt x="1282" y="2086"/>
                  </a:lnTo>
                  <a:lnTo>
                    <a:pt x="1266" y="2097"/>
                  </a:lnTo>
                  <a:lnTo>
                    <a:pt x="1247" y="2110"/>
                  </a:lnTo>
                  <a:lnTo>
                    <a:pt x="1231" y="2121"/>
                  </a:lnTo>
                  <a:lnTo>
                    <a:pt x="1216" y="2130"/>
                  </a:lnTo>
                  <a:lnTo>
                    <a:pt x="1203" y="2138"/>
                  </a:lnTo>
                  <a:lnTo>
                    <a:pt x="1192" y="2146"/>
                  </a:lnTo>
                  <a:lnTo>
                    <a:pt x="1182" y="2152"/>
                  </a:lnTo>
                  <a:lnTo>
                    <a:pt x="1174" y="2158"/>
                  </a:lnTo>
                  <a:lnTo>
                    <a:pt x="1167" y="2162"/>
                  </a:lnTo>
                  <a:lnTo>
                    <a:pt x="1158" y="2165"/>
                  </a:lnTo>
                  <a:lnTo>
                    <a:pt x="1148" y="2166"/>
                  </a:lnTo>
                  <a:lnTo>
                    <a:pt x="1137" y="2169"/>
                  </a:lnTo>
                  <a:lnTo>
                    <a:pt x="1123" y="2169"/>
                  </a:lnTo>
                  <a:lnTo>
                    <a:pt x="1109" y="2169"/>
                  </a:lnTo>
                  <a:lnTo>
                    <a:pt x="1093" y="2168"/>
                  </a:lnTo>
                  <a:lnTo>
                    <a:pt x="1076" y="2165"/>
                  </a:lnTo>
                  <a:lnTo>
                    <a:pt x="1057" y="2160"/>
                  </a:lnTo>
                  <a:lnTo>
                    <a:pt x="1031" y="2153"/>
                  </a:lnTo>
                  <a:lnTo>
                    <a:pt x="1010" y="2146"/>
                  </a:lnTo>
                  <a:lnTo>
                    <a:pt x="995" y="2142"/>
                  </a:lnTo>
                  <a:lnTo>
                    <a:pt x="985" y="2138"/>
                  </a:lnTo>
                  <a:lnTo>
                    <a:pt x="977" y="2135"/>
                  </a:lnTo>
                  <a:lnTo>
                    <a:pt x="973" y="2132"/>
                  </a:lnTo>
                  <a:lnTo>
                    <a:pt x="971" y="2132"/>
                  </a:lnTo>
                  <a:lnTo>
                    <a:pt x="970" y="2131"/>
                  </a:lnTo>
                  <a:lnTo>
                    <a:pt x="971" y="2132"/>
                  </a:lnTo>
                  <a:lnTo>
                    <a:pt x="974" y="2137"/>
                  </a:lnTo>
                  <a:lnTo>
                    <a:pt x="980" y="2144"/>
                  </a:lnTo>
                  <a:lnTo>
                    <a:pt x="989" y="2152"/>
                  </a:lnTo>
                  <a:lnTo>
                    <a:pt x="1001" y="2162"/>
                  </a:lnTo>
                  <a:lnTo>
                    <a:pt x="1019" y="2173"/>
                  </a:lnTo>
                  <a:lnTo>
                    <a:pt x="1041" y="2183"/>
                  </a:lnTo>
                  <a:lnTo>
                    <a:pt x="1069" y="2194"/>
                  </a:lnTo>
                  <a:lnTo>
                    <a:pt x="1077" y="2197"/>
                  </a:lnTo>
                  <a:lnTo>
                    <a:pt x="1084" y="2200"/>
                  </a:lnTo>
                  <a:lnTo>
                    <a:pt x="1091" y="2203"/>
                  </a:lnTo>
                  <a:lnTo>
                    <a:pt x="1097" y="2205"/>
                  </a:lnTo>
                  <a:lnTo>
                    <a:pt x="1103" y="2207"/>
                  </a:lnTo>
                  <a:lnTo>
                    <a:pt x="1109" y="2210"/>
                  </a:lnTo>
                  <a:lnTo>
                    <a:pt x="1114" y="2211"/>
                  </a:lnTo>
                  <a:lnTo>
                    <a:pt x="1119" y="2212"/>
                  </a:lnTo>
                  <a:lnTo>
                    <a:pt x="1120" y="2225"/>
                  </a:lnTo>
                  <a:lnTo>
                    <a:pt x="1122" y="2252"/>
                  </a:lnTo>
                  <a:lnTo>
                    <a:pt x="1066" y="2451"/>
                  </a:lnTo>
                  <a:lnTo>
                    <a:pt x="1056" y="2451"/>
                  </a:lnTo>
                  <a:lnTo>
                    <a:pt x="1045" y="2451"/>
                  </a:lnTo>
                  <a:lnTo>
                    <a:pt x="1035" y="2451"/>
                  </a:lnTo>
                  <a:lnTo>
                    <a:pt x="1025" y="2451"/>
                  </a:lnTo>
                  <a:lnTo>
                    <a:pt x="1014" y="2450"/>
                  </a:lnTo>
                  <a:lnTo>
                    <a:pt x="1001" y="2447"/>
                  </a:lnTo>
                  <a:lnTo>
                    <a:pt x="988" y="2446"/>
                  </a:lnTo>
                  <a:lnTo>
                    <a:pt x="973" y="2443"/>
                  </a:lnTo>
                  <a:lnTo>
                    <a:pt x="957" y="2439"/>
                  </a:lnTo>
                  <a:lnTo>
                    <a:pt x="939" y="2435"/>
                  </a:lnTo>
                  <a:lnTo>
                    <a:pt x="920" y="2429"/>
                  </a:lnTo>
                  <a:lnTo>
                    <a:pt x="898" y="2423"/>
                  </a:lnTo>
                  <a:lnTo>
                    <a:pt x="873" y="2416"/>
                  </a:lnTo>
                  <a:lnTo>
                    <a:pt x="846" y="2408"/>
                  </a:lnTo>
                  <a:lnTo>
                    <a:pt x="815" y="2398"/>
                  </a:lnTo>
                  <a:lnTo>
                    <a:pt x="783" y="2388"/>
                  </a:lnTo>
                  <a:lnTo>
                    <a:pt x="741" y="2374"/>
                  </a:lnTo>
                  <a:lnTo>
                    <a:pt x="700" y="2359"/>
                  </a:lnTo>
                  <a:lnTo>
                    <a:pt x="663" y="2343"/>
                  </a:lnTo>
                  <a:lnTo>
                    <a:pt x="628" y="2326"/>
                  </a:lnTo>
                  <a:lnTo>
                    <a:pt x="596" y="2309"/>
                  </a:lnTo>
                  <a:lnTo>
                    <a:pt x="565" y="2294"/>
                  </a:lnTo>
                  <a:lnTo>
                    <a:pt x="536" y="2277"/>
                  </a:lnTo>
                  <a:lnTo>
                    <a:pt x="510" y="2260"/>
                  </a:lnTo>
                  <a:lnTo>
                    <a:pt x="486" y="2245"/>
                  </a:lnTo>
                  <a:lnTo>
                    <a:pt x="465" y="2229"/>
                  </a:lnTo>
                  <a:lnTo>
                    <a:pt x="446" y="2215"/>
                  </a:lnTo>
                  <a:lnTo>
                    <a:pt x="429" y="2201"/>
                  </a:lnTo>
                  <a:lnTo>
                    <a:pt x="414" y="2189"/>
                  </a:lnTo>
                  <a:lnTo>
                    <a:pt x="402" y="2179"/>
                  </a:lnTo>
                  <a:lnTo>
                    <a:pt x="393" y="2169"/>
                  </a:lnTo>
                  <a:lnTo>
                    <a:pt x="385" y="2162"/>
                  </a:lnTo>
                  <a:lnTo>
                    <a:pt x="246" y="1415"/>
                  </a:lnTo>
                  <a:lnTo>
                    <a:pt x="227" y="1417"/>
                  </a:lnTo>
                  <a:lnTo>
                    <a:pt x="207" y="1417"/>
                  </a:lnTo>
                  <a:lnTo>
                    <a:pt x="187" y="1413"/>
                  </a:lnTo>
                  <a:lnTo>
                    <a:pt x="167" y="1406"/>
                  </a:lnTo>
                  <a:lnTo>
                    <a:pt x="147" y="1397"/>
                  </a:lnTo>
                  <a:lnTo>
                    <a:pt x="128" y="1384"/>
                  </a:lnTo>
                  <a:lnTo>
                    <a:pt x="107" y="1370"/>
                  </a:lnTo>
                  <a:lnTo>
                    <a:pt x="89" y="1352"/>
                  </a:lnTo>
                  <a:lnTo>
                    <a:pt x="65" y="1323"/>
                  </a:lnTo>
                  <a:lnTo>
                    <a:pt x="44" y="1289"/>
                  </a:lnTo>
                  <a:lnTo>
                    <a:pt x="29" y="1255"/>
                  </a:lnTo>
                  <a:lnTo>
                    <a:pt x="18" y="1219"/>
                  </a:lnTo>
                  <a:lnTo>
                    <a:pt x="12" y="1183"/>
                  </a:lnTo>
                  <a:lnTo>
                    <a:pt x="12" y="1147"/>
                  </a:lnTo>
                  <a:lnTo>
                    <a:pt x="15" y="1113"/>
                  </a:lnTo>
                  <a:lnTo>
                    <a:pt x="25" y="1082"/>
                  </a:lnTo>
                  <a:lnTo>
                    <a:pt x="33" y="1075"/>
                  </a:lnTo>
                  <a:lnTo>
                    <a:pt x="43" y="1070"/>
                  </a:lnTo>
                  <a:lnTo>
                    <a:pt x="53" y="1063"/>
                  </a:lnTo>
                  <a:lnTo>
                    <a:pt x="66" y="1056"/>
                  </a:lnTo>
                  <a:lnTo>
                    <a:pt x="79" y="1049"/>
                  </a:lnTo>
                  <a:lnTo>
                    <a:pt x="94" y="1043"/>
                  </a:lnTo>
                  <a:lnTo>
                    <a:pt x="111" y="1037"/>
                  </a:lnTo>
                  <a:lnTo>
                    <a:pt x="129" y="1032"/>
                  </a:lnTo>
                  <a:lnTo>
                    <a:pt x="147" y="1029"/>
                  </a:lnTo>
                  <a:lnTo>
                    <a:pt x="166" y="1029"/>
                  </a:lnTo>
                  <a:lnTo>
                    <a:pt x="184" y="1032"/>
                  </a:lnTo>
                  <a:lnTo>
                    <a:pt x="203" y="1037"/>
                  </a:lnTo>
                  <a:lnTo>
                    <a:pt x="220" y="1044"/>
                  </a:lnTo>
                  <a:lnTo>
                    <a:pt x="238" y="1054"/>
                  </a:lnTo>
                  <a:lnTo>
                    <a:pt x="254" y="1064"/>
                  </a:lnTo>
                  <a:lnTo>
                    <a:pt x="270" y="1074"/>
                  </a:lnTo>
                  <a:lnTo>
                    <a:pt x="284" y="1085"/>
                  </a:lnTo>
                  <a:lnTo>
                    <a:pt x="297" y="1095"/>
                  </a:lnTo>
                  <a:lnTo>
                    <a:pt x="309" y="1106"/>
                  </a:lnTo>
                  <a:lnTo>
                    <a:pt x="318" y="1115"/>
                  </a:lnTo>
                  <a:lnTo>
                    <a:pt x="326" y="1123"/>
                  </a:lnTo>
                  <a:lnTo>
                    <a:pt x="333" y="1129"/>
                  </a:lnTo>
                  <a:lnTo>
                    <a:pt x="336" y="1133"/>
                  </a:lnTo>
                  <a:lnTo>
                    <a:pt x="337" y="1134"/>
                  </a:lnTo>
                  <a:lnTo>
                    <a:pt x="335" y="1129"/>
                  </a:lnTo>
                  <a:lnTo>
                    <a:pt x="330" y="1113"/>
                  </a:lnTo>
                  <a:lnTo>
                    <a:pt x="319" y="1091"/>
                  </a:lnTo>
                  <a:lnTo>
                    <a:pt x="306" y="1064"/>
                  </a:lnTo>
                  <a:lnTo>
                    <a:pt x="321" y="1016"/>
                  </a:lnTo>
                  <a:lnTo>
                    <a:pt x="319" y="1015"/>
                  </a:lnTo>
                  <a:lnTo>
                    <a:pt x="317" y="1012"/>
                  </a:lnTo>
                  <a:lnTo>
                    <a:pt x="313" y="1008"/>
                  </a:lnTo>
                  <a:lnTo>
                    <a:pt x="306" y="1001"/>
                  </a:lnTo>
                  <a:lnTo>
                    <a:pt x="298" y="992"/>
                  </a:lnTo>
                  <a:lnTo>
                    <a:pt x="288" y="981"/>
                  </a:lnTo>
                  <a:lnTo>
                    <a:pt x="277" y="970"/>
                  </a:lnTo>
                  <a:lnTo>
                    <a:pt x="262" y="956"/>
                  </a:lnTo>
                  <a:lnTo>
                    <a:pt x="246" y="940"/>
                  </a:lnTo>
                  <a:lnTo>
                    <a:pt x="229" y="922"/>
                  </a:lnTo>
                  <a:lnTo>
                    <a:pt x="209" y="904"/>
                  </a:lnTo>
                  <a:lnTo>
                    <a:pt x="186" y="883"/>
                  </a:lnTo>
                  <a:lnTo>
                    <a:pt x="163" y="862"/>
                  </a:lnTo>
                  <a:lnTo>
                    <a:pt x="137" y="838"/>
                  </a:lnTo>
                  <a:lnTo>
                    <a:pt x="109" y="814"/>
                  </a:lnTo>
                  <a:lnTo>
                    <a:pt x="78" y="787"/>
                  </a:lnTo>
                  <a:lnTo>
                    <a:pt x="68" y="777"/>
                  </a:lnTo>
                  <a:lnTo>
                    <a:pt x="59" y="767"/>
                  </a:lnTo>
                  <a:lnTo>
                    <a:pt x="51" y="758"/>
                  </a:lnTo>
                  <a:lnTo>
                    <a:pt x="43" y="746"/>
                  </a:lnTo>
                  <a:lnTo>
                    <a:pt x="36" y="735"/>
                  </a:lnTo>
                  <a:lnTo>
                    <a:pt x="30" y="722"/>
                  </a:lnTo>
                  <a:lnTo>
                    <a:pt x="24" y="710"/>
                  </a:lnTo>
                  <a:lnTo>
                    <a:pt x="19" y="697"/>
                  </a:lnTo>
                  <a:lnTo>
                    <a:pt x="10" y="642"/>
                  </a:lnTo>
                  <a:lnTo>
                    <a:pt x="4" y="589"/>
                  </a:lnTo>
                  <a:lnTo>
                    <a:pt x="0" y="537"/>
                  </a:lnTo>
                  <a:lnTo>
                    <a:pt x="1" y="485"/>
                  </a:lnTo>
                  <a:lnTo>
                    <a:pt x="6" y="434"/>
                  </a:lnTo>
                  <a:lnTo>
                    <a:pt x="15" y="384"/>
                  </a:lnTo>
                  <a:lnTo>
                    <a:pt x="29" y="336"/>
                  </a:lnTo>
                  <a:lnTo>
                    <a:pt x="47" y="288"/>
                  </a:lnTo>
                  <a:lnTo>
                    <a:pt x="58" y="264"/>
                  </a:lnTo>
                  <a:lnTo>
                    <a:pt x="69" y="240"/>
                  </a:lnTo>
                  <a:lnTo>
                    <a:pt x="82" y="215"/>
                  </a:lnTo>
                  <a:lnTo>
                    <a:pt x="95" y="191"/>
                  </a:lnTo>
                  <a:lnTo>
                    <a:pt x="110" y="166"/>
                  </a:lnTo>
                  <a:lnTo>
                    <a:pt x="127" y="142"/>
                  </a:lnTo>
                  <a:lnTo>
                    <a:pt x="144" y="119"/>
                  </a:lnTo>
                  <a:lnTo>
                    <a:pt x="163" y="97"/>
                  </a:lnTo>
                  <a:lnTo>
                    <a:pt x="182" y="77"/>
                  </a:lnTo>
                  <a:lnTo>
                    <a:pt x="204" y="57"/>
                  </a:lnTo>
                  <a:lnTo>
                    <a:pt x="227" y="41"/>
                  </a:lnTo>
                  <a:lnTo>
                    <a:pt x="253" y="27"/>
                  </a:lnTo>
                  <a:lnTo>
                    <a:pt x="280" y="15"/>
                  </a:lnTo>
                  <a:lnTo>
                    <a:pt x="308" y="7"/>
                  </a:lnTo>
                  <a:lnTo>
                    <a:pt x="340" y="1"/>
                  </a:lnTo>
                  <a:lnTo>
                    <a:pt x="372" y="0"/>
                  </a:lnTo>
                  <a:lnTo>
                    <a:pt x="386" y="0"/>
                  </a:lnTo>
                  <a:lnTo>
                    <a:pt x="399" y="0"/>
                  </a:lnTo>
                  <a:lnTo>
                    <a:pt x="413" y="1"/>
                  </a:lnTo>
                  <a:lnTo>
                    <a:pt x="426" y="1"/>
                  </a:lnTo>
                  <a:lnTo>
                    <a:pt x="439" y="1"/>
                  </a:lnTo>
                  <a:lnTo>
                    <a:pt x="452" y="3"/>
                  </a:lnTo>
                  <a:lnTo>
                    <a:pt x="465" y="3"/>
                  </a:lnTo>
                  <a:lnTo>
                    <a:pt x="477" y="4"/>
                  </a:lnTo>
                  <a:lnTo>
                    <a:pt x="490" y="4"/>
                  </a:lnTo>
                  <a:lnTo>
                    <a:pt x="502" y="5"/>
                  </a:lnTo>
                  <a:lnTo>
                    <a:pt x="514" y="7"/>
                  </a:lnTo>
                  <a:lnTo>
                    <a:pt x="527" y="7"/>
                  </a:lnTo>
                  <a:lnTo>
                    <a:pt x="539" y="8"/>
                  </a:lnTo>
                  <a:lnTo>
                    <a:pt x="550" y="10"/>
                  </a:lnTo>
                  <a:lnTo>
                    <a:pt x="563" y="10"/>
                  </a:lnTo>
                  <a:lnTo>
                    <a:pt x="574" y="11"/>
                  </a:lnTo>
                  <a:lnTo>
                    <a:pt x="563" y="41"/>
                  </a:lnTo>
                  <a:lnTo>
                    <a:pt x="554" y="69"/>
                  </a:lnTo>
                  <a:lnTo>
                    <a:pt x="546" y="94"/>
                  </a:lnTo>
                  <a:lnTo>
                    <a:pt x="540" y="118"/>
                  </a:lnTo>
                  <a:lnTo>
                    <a:pt x="537" y="138"/>
                  </a:lnTo>
                  <a:lnTo>
                    <a:pt x="534" y="153"/>
                  </a:lnTo>
                  <a:lnTo>
                    <a:pt x="532" y="163"/>
                  </a:lnTo>
                  <a:lnTo>
                    <a:pt x="531" y="167"/>
                  </a:lnTo>
                  <a:lnTo>
                    <a:pt x="563" y="171"/>
                  </a:lnTo>
                  <a:lnTo>
                    <a:pt x="564" y="157"/>
                  </a:lnTo>
                  <a:lnTo>
                    <a:pt x="567" y="121"/>
                  </a:lnTo>
                  <a:lnTo>
                    <a:pt x="575" y="70"/>
                  </a:lnTo>
                  <a:lnTo>
                    <a:pt x="591" y="12"/>
                  </a:lnTo>
                  <a:lnTo>
                    <a:pt x="607" y="14"/>
                  </a:lnTo>
                  <a:lnTo>
                    <a:pt x="622" y="17"/>
                  </a:lnTo>
                  <a:lnTo>
                    <a:pt x="637" y="18"/>
                  </a:lnTo>
                  <a:lnTo>
                    <a:pt x="652" y="21"/>
                  </a:lnTo>
                  <a:lnTo>
                    <a:pt x="667" y="22"/>
                  </a:lnTo>
                  <a:lnTo>
                    <a:pt x="681" y="25"/>
                  </a:lnTo>
                  <a:lnTo>
                    <a:pt x="696" y="27"/>
                  </a:lnTo>
                  <a:lnTo>
                    <a:pt x="709" y="29"/>
                  </a:lnTo>
                  <a:lnTo>
                    <a:pt x="696" y="62"/>
                  </a:lnTo>
                  <a:lnTo>
                    <a:pt x="685" y="93"/>
                  </a:lnTo>
                  <a:lnTo>
                    <a:pt x="676" y="122"/>
                  </a:lnTo>
                  <a:lnTo>
                    <a:pt x="669" y="149"/>
                  </a:lnTo>
                  <a:lnTo>
                    <a:pt x="663" y="171"/>
                  </a:lnTo>
                  <a:lnTo>
                    <a:pt x="660" y="190"/>
                  </a:lnTo>
                  <a:lnTo>
                    <a:pt x="659" y="202"/>
                  </a:lnTo>
                  <a:lnTo>
                    <a:pt x="658" y="206"/>
                  </a:lnTo>
                  <a:lnTo>
                    <a:pt x="689" y="211"/>
                  </a:lnTo>
                  <a:lnTo>
                    <a:pt x="689" y="206"/>
                  </a:lnTo>
                  <a:lnTo>
                    <a:pt x="690" y="194"/>
                  </a:lnTo>
                  <a:lnTo>
                    <a:pt x="691" y="176"/>
                  </a:lnTo>
                  <a:lnTo>
                    <a:pt x="694" y="153"/>
                  </a:lnTo>
                  <a:lnTo>
                    <a:pt x="698" y="126"/>
                  </a:lnTo>
                  <a:lnTo>
                    <a:pt x="704" y="95"/>
                  </a:lnTo>
                  <a:lnTo>
                    <a:pt x="712" y="64"/>
                  </a:lnTo>
                  <a:lnTo>
                    <a:pt x="723" y="34"/>
                  </a:lnTo>
                  <a:lnTo>
                    <a:pt x="805" y="52"/>
                  </a:lnTo>
                  <a:lnTo>
                    <a:pt x="877" y="74"/>
                  </a:lnTo>
                  <a:lnTo>
                    <a:pt x="942" y="101"/>
                  </a:lnTo>
                  <a:lnTo>
                    <a:pt x="998" y="129"/>
                  </a:lnTo>
                  <a:lnTo>
                    <a:pt x="1047" y="161"/>
                  </a:lnTo>
                  <a:lnTo>
                    <a:pt x="1088" y="195"/>
                  </a:lnTo>
                  <a:lnTo>
                    <a:pt x="1124" y="232"/>
                  </a:lnTo>
                  <a:lnTo>
                    <a:pt x="1155" y="268"/>
                  </a:lnTo>
                  <a:lnTo>
                    <a:pt x="1178" y="308"/>
                  </a:lnTo>
                  <a:lnTo>
                    <a:pt x="1199" y="348"/>
                  </a:lnTo>
                  <a:lnTo>
                    <a:pt x="1215" y="389"/>
                  </a:lnTo>
                  <a:lnTo>
                    <a:pt x="1227" y="430"/>
                  </a:lnTo>
                  <a:lnTo>
                    <a:pt x="1236" y="471"/>
                  </a:lnTo>
                  <a:lnTo>
                    <a:pt x="1243" y="512"/>
                  </a:lnTo>
                  <a:lnTo>
                    <a:pt x="1247" y="552"/>
                  </a:lnTo>
                  <a:lnTo>
                    <a:pt x="1251" y="592"/>
                  </a:lnTo>
                  <a:lnTo>
                    <a:pt x="1211" y="554"/>
                  </a:lnTo>
                  <a:lnTo>
                    <a:pt x="1180" y="517"/>
                  </a:lnTo>
                  <a:lnTo>
                    <a:pt x="1156" y="486"/>
                  </a:lnTo>
                  <a:lnTo>
                    <a:pt x="1138" y="458"/>
                  </a:lnTo>
                  <a:lnTo>
                    <a:pt x="1125" y="436"/>
                  </a:lnTo>
                  <a:lnTo>
                    <a:pt x="1118" y="417"/>
                  </a:lnTo>
                  <a:lnTo>
                    <a:pt x="1113" y="407"/>
                  </a:lnTo>
                  <a:lnTo>
                    <a:pt x="1112" y="403"/>
                  </a:lnTo>
                  <a:lnTo>
                    <a:pt x="1113" y="410"/>
                  </a:lnTo>
                  <a:lnTo>
                    <a:pt x="1118" y="427"/>
                  </a:lnTo>
                  <a:lnTo>
                    <a:pt x="1125" y="454"/>
                  </a:lnTo>
                  <a:lnTo>
                    <a:pt x="1137" y="488"/>
                  </a:lnTo>
                  <a:lnTo>
                    <a:pt x="1154" y="524"/>
                  </a:lnTo>
                  <a:lnTo>
                    <a:pt x="1175" y="561"/>
                  </a:lnTo>
                  <a:lnTo>
                    <a:pt x="1202" y="597"/>
                  </a:lnTo>
                  <a:lnTo>
                    <a:pt x="1236" y="628"/>
                  </a:lnTo>
                  <a:lnTo>
                    <a:pt x="1242" y="632"/>
                  </a:lnTo>
                  <a:lnTo>
                    <a:pt x="1247" y="638"/>
                  </a:lnTo>
                  <a:lnTo>
                    <a:pt x="1253" y="642"/>
                  </a:lnTo>
                  <a:lnTo>
                    <a:pt x="1259" y="648"/>
                  </a:lnTo>
                  <a:lnTo>
                    <a:pt x="1251" y="648"/>
                  </a:lnTo>
                  <a:lnTo>
                    <a:pt x="1244" y="648"/>
                  </a:lnTo>
                  <a:lnTo>
                    <a:pt x="1238" y="649"/>
                  </a:lnTo>
                  <a:lnTo>
                    <a:pt x="1233" y="649"/>
                  </a:lnTo>
                  <a:lnTo>
                    <a:pt x="1227" y="637"/>
                  </a:lnTo>
                  <a:lnTo>
                    <a:pt x="1221" y="627"/>
                  </a:lnTo>
                  <a:lnTo>
                    <a:pt x="1215" y="617"/>
                  </a:lnTo>
                  <a:lnTo>
                    <a:pt x="1208" y="609"/>
                  </a:lnTo>
                  <a:lnTo>
                    <a:pt x="1200" y="603"/>
                  </a:lnTo>
                  <a:lnTo>
                    <a:pt x="1193" y="599"/>
                  </a:lnTo>
                  <a:lnTo>
                    <a:pt x="1185" y="596"/>
                  </a:lnTo>
                  <a:lnTo>
                    <a:pt x="1177" y="594"/>
                  </a:lnTo>
                  <a:lnTo>
                    <a:pt x="1163" y="597"/>
                  </a:lnTo>
                  <a:lnTo>
                    <a:pt x="1149" y="607"/>
                  </a:lnTo>
                  <a:lnTo>
                    <a:pt x="1136" y="624"/>
                  </a:lnTo>
                  <a:lnTo>
                    <a:pt x="1125" y="644"/>
                  </a:lnTo>
                  <a:lnTo>
                    <a:pt x="1115" y="670"/>
                  </a:lnTo>
                  <a:lnTo>
                    <a:pt x="1109" y="698"/>
                  </a:lnTo>
                  <a:lnTo>
                    <a:pt x="1104" y="731"/>
                  </a:lnTo>
                  <a:lnTo>
                    <a:pt x="1103" y="766"/>
                  </a:lnTo>
                  <a:lnTo>
                    <a:pt x="1104" y="800"/>
                  </a:lnTo>
                  <a:lnTo>
                    <a:pt x="1109" y="832"/>
                  </a:lnTo>
                  <a:lnTo>
                    <a:pt x="1115" y="862"/>
                  </a:lnTo>
                  <a:lnTo>
                    <a:pt x="1125" y="887"/>
                  </a:lnTo>
                  <a:lnTo>
                    <a:pt x="1136" y="908"/>
                  </a:lnTo>
                  <a:lnTo>
                    <a:pt x="1149" y="923"/>
                  </a:lnTo>
                  <a:lnTo>
                    <a:pt x="1163" y="935"/>
                  </a:lnTo>
                  <a:lnTo>
                    <a:pt x="1177" y="937"/>
                  </a:lnTo>
                  <a:lnTo>
                    <a:pt x="1192" y="935"/>
                  </a:lnTo>
                  <a:lnTo>
                    <a:pt x="1207" y="923"/>
                  </a:lnTo>
                  <a:lnTo>
                    <a:pt x="1219" y="908"/>
                  </a:lnTo>
                  <a:lnTo>
                    <a:pt x="1230" y="887"/>
                  </a:lnTo>
                  <a:lnTo>
                    <a:pt x="1239" y="862"/>
                  </a:lnTo>
                  <a:lnTo>
                    <a:pt x="1246" y="832"/>
                  </a:lnTo>
                  <a:lnTo>
                    <a:pt x="1251" y="800"/>
                  </a:lnTo>
                  <a:lnTo>
                    <a:pt x="1252" y="766"/>
                  </a:lnTo>
                  <a:lnTo>
                    <a:pt x="1251" y="743"/>
                  </a:lnTo>
                  <a:lnTo>
                    <a:pt x="1249" y="722"/>
                  </a:lnTo>
                  <a:lnTo>
                    <a:pt x="1246" y="703"/>
                  </a:lnTo>
                  <a:lnTo>
                    <a:pt x="1243" y="684"/>
                  </a:lnTo>
                  <a:lnTo>
                    <a:pt x="1246" y="683"/>
                  </a:lnTo>
                  <a:lnTo>
                    <a:pt x="1249" y="682"/>
                  </a:lnTo>
                  <a:lnTo>
                    <a:pt x="1254" y="679"/>
                  </a:lnTo>
                  <a:lnTo>
                    <a:pt x="1259" y="677"/>
                  </a:lnTo>
                  <a:lnTo>
                    <a:pt x="1263" y="676"/>
                  </a:lnTo>
                  <a:lnTo>
                    <a:pt x="1269" y="675"/>
                  </a:lnTo>
                  <a:lnTo>
                    <a:pt x="1274" y="673"/>
                  </a:lnTo>
                  <a:lnTo>
                    <a:pt x="1280" y="672"/>
                  </a:lnTo>
                  <a:lnTo>
                    <a:pt x="1302" y="707"/>
                  </a:lnTo>
                  <a:lnTo>
                    <a:pt x="1322" y="743"/>
                  </a:lnTo>
                  <a:lnTo>
                    <a:pt x="1337" y="781"/>
                  </a:lnTo>
                  <a:lnTo>
                    <a:pt x="1351" y="819"/>
                  </a:lnTo>
                  <a:lnTo>
                    <a:pt x="1360" y="855"/>
                  </a:lnTo>
                  <a:lnTo>
                    <a:pt x="1367" y="887"/>
                  </a:lnTo>
                  <a:lnTo>
                    <a:pt x="1372" y="912"/>
                  </a:lnTo>
                  <a:lnTo>
                    <a:pt x="1375" y="930"/>
                  </a:lnTo>
                  <a:lnTo>
                    <a:pt x="1379" y="954"/>
                  </a:lnTo>
                  <a:lnTo>
                    <a:pt x="1385" y="963"/>
                  </a:lnTo>
                  <a:lnTo>
                    <a:pt x="1389" y="973"/>
                  </a:lnTo>
                  <a:lnTo>
                    <a:pt x="1390" y="997"/>
                  </a:lnTo>
                  <a:lnTo>
                    <a:pt x="1387" y="1006"/>
                  </a:lnTo>
                  <a:lnTo>
                    <a:pt x="1378" y="1015"/>
                  </a:lnTo>
                  <a:lnTo>
                    <a:pt x="1363" y="1020"/>
                  </a:lnTo>
                  <a:lnTo>
                    <a:pt x="1346" y="1026"/>
                  </a:lnTo>
                  <a:lnTo>
                    <a:pt x="1326" y="1029"/>
                  </a:lnTo>
                  <a:lnTo>
                    <a:pt x="1304" y="1032"/>
                  </a:lnTo>
                  <a:lnTo>
                    <a:pt x="1281" y="1033"/>
                  </a:lnTo>
                  <a:lnTo>
                    <a:pt x="1260" y="1034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8120" y="5256360"/>
              <a:ext cx="116280" cy="158760"/>
            </a:xfrm>
            <a:custGeom>
              <a:avLst/>
              <a:gdLst/>
              <a:ahLst/>
              <a:rect l="l" t="t" r="r" b="b"/>
              <a:pathLst>
                <a:path w="116" h="240">
                  <a:moveTo>
                    <a:pt x="116" y="121"/>
                  </a:moveTo>
                  <a:lnTo>
                    <a:pt x="115" y="145"/>
                  </a:lnTo>
                  <a:lnTo>
                    <a:pt x="111" y="167"/>
                  </a:lnTo>
                  <a:lnTo>
                    <a:pt x="106" y="188"/>
                  </a:lnTo>
                  <a:lnTo>
                    <a:pt x="99" y="205"/>
                  </a:lnTo>
                  <a:lnTo>
                    <a:pt x="90" y="219"/>
                  </a:lnTo>
                  <a:lnTo>
                    <a:pt x="80" y="231"/>
                  </a:lnTo>
                  <a:lnTo>
                    <a:pt x="70" y="238"/>
                  </a:lnTo>
                  <a:lnTo>
                    <a:pt x="57" y="240"/>
                  </a:lnTo>
                  <a:lnTo>
                    <a:pt x="46" y="238"/>
                  </a:lnTo>
                  <a:lnTo>
                    <a:pt x="35" y="231"/>
                  </a:lnTo>
                  <a:lnTo>
                    <a:pt x="26" y="219"/>
                  </a:lnTo>
                  <a:lnTo>
                    <a:pt x="17" y="205"/>
                  </a:lnTo>
                  <a:lnTo>
                    <a:pt x="10" y="188"/>
                  </a:lnTo>
                  <a:lnTo>
                    <a:pt x="4" y="167"/>
                  </a:lnTo>
                  <a:lnTo>
                    <a:pt x="1" y="145"/>
                  </a:lnTo>
                  <a:lnTo>
                    <a:pt x="0" y="121"/>
                  </a:lnTo>
                  <a:lnTo>
                    <a:pt x="1" y="97"/>
                  </a:lnTo>
                  <a:lnTo>
                    <a:pt x="4" y="75"/>
                  </a:lnTo>
                  <a:lnTo>
                    <a:pt x="10" y="53"/>
                  </a:lnTo>
                  <a:lnTo>
                    <a:pt x="17" y="35"/>
                  </a:lnTo>
                  <a:lnTo>
                    <a:pt x="26" y="21"/>
                  </a:lnTo>
                  <a:lnTo>
                    <a:pt x="35" y="10"/>
                  </a:lnTo>
                  <a:lnTo>
                    <a:pt x="46" y="3"/>
                  </a:lnTo>
                  <a:lnTo>
                    <a:pt x="57" y="0"/>
                  </a:lnTo>
                  <a:lnTo>
                    <a:pt x="70" y="3"/>
                  </a:lnTo>
                  <a:lnTo>
                    <a:pt x="80" y="10"/>
                  </a:lnTo>
                  <a:lnTo>
                    <a:pt x="90" y="21"/>
                  </a:lnTo>
                  <a:lnTo>
                    <a:pt x="99" y="35"/>
                  </a:lnTo>
                  <a:lnTo>
                    <a:pt x="106" y="53"/>
                  </a:lnTo>
                  <a:lnTo>
                    <a:pt x="111" y="75"/>
                  </a:lnTo>
                  <a:lnTo>
                    <a:pt x="115" y="97"/>
                  </a:lnTo>
                  <a:lnTo>
                    <a:pt x="116" y="12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03360" y="5000760"/>
              <a:ext cx="250560" cy="331560"/>
            </a:xfrm>
            <a:custGeom>
              <a:avLst/>
              <a:gdLst/>
              <a:ahLst/>
              <a:rect l="l" t="t" r="r" b="b"/>
              <a:pathLst>
                <a:path w="250" h="503">
                  <a:moveTo>
                    <a:pt x="15" y="380"/>
                  </a:moveTo>
                  <a:lnTo>
                    <a:pt x="18" y="316"/>
                  </a:lnTo>
                  <a:lnTo>
                    <a:pt x="25" y="257"/>
                  </a:lnTo>
                  <a:lnTo>
                    <a:pt x="38" y="204"/>
                  </a:lnTo>
                  <a:lnTo>
                    <a:pt x="54" y="158"/>
                  </a:lnTo>
                  <a:lnTo>
                    <a:pt x="73" y="118"/>
                  </a:lnTo>
                  <a:lnTo>
                    <a:pt x="94" y="90"/>
                  </a:lnTo>
                  <a:lnTo>
                    <a:pt x="119" y="72"/>
                  </a:lnTo>
                  <a:lnTo>
                    <a:pt x="145" y="65"/>
                  </a:lnTo>
                  <a:lnTo>
                    <a:pt x="161" y="68"/>
                  </a:lnTo>
                  <a:lnTo>
                    <a:pt x="177" y="73"/>
                  </a:lnTo>
                  <a:lnTo>
                    <a:pt x="191" y="84"/>
                  </a:lnTo>
                  <a:lnTo>
                    <a:pt x="205" y="100"/>
                  </a:lnTo>
                  <a:lnTo>
                    <a:pt x="217" y="118"/>
                  </a:lnTo>
                  <a:lnTo>
                    <a:pt x="230" y="139"/>
                  </a:lnTo>
                  <a:lnTo>
                    <a:pt x="241" y="165"/>
                  </a:lnTo>
                  <a:lnTo>
                    <a:pt x="250" y="191"/>
                  </a:lnTo>
                  <a:lnTo>
                    <a:pt x="241" y="150"/>
                  </a:lnTo>
                  <a:lnTo>
                    <a:pt x="230" y="114"/>
                  </a:lnTo>
                  <a:lnTo>
                    <a:pt x="217" y="82"/>
                  </a:lnTo>
                  <a:lnTo>
                    <a:pt x="202" y="53"/>
                  </a:lnTo>
                  <a:lnTo>
                    <a:pt x="186" y="31"/>
                  </a:lnTo>
                  <a:lnTo>
                    <a:pt x="168" y="14"/>
                  </a:lnTo>
                  <a:lnTo>
                    <a:pt x="149" y="4"/>
                  </a:lnTo>
                  <a:lnTo>
                    <a:pt x="129" y="0"/>
                  </a:lnTo>
                  <a:lnTo>
                    <a:pt x="103" y="7"/>
                  </a:lnTo>
                  <a:lnTo>
                    <a:pt x="78" y="25"/>
                  </a:lnTo>
                  <a:lnTo>
                    <a:pt x="57" y="53"/>
                  </a:lnTo>
                  <a:lnTo>
                    <a:pt x="38" y="91"/>
                  </a:lnTo>
                  <a:lnTo>
                    <a:pt x="22" y="139"/>
                  </a:lnTo>
                  <a:lnTo>
                    <a:pt x="10" y="193"/>
                  </a:lnTo>
                  <a:lnTo>
                    <a:pt x="2" y="252"/>
                  </a:lnTo>
                  <a:lnTo>
                    <a:pt x="0" y="315"/>
                  </a:lnTo>
                  <a:lnTo>
                    <a:pt x="2" y="367"/>
                  </a:lnTo>
                  <a:lnTo>
                    <a:pt x="6" y="416"/>
                  </a:lnTo>
                  <a:lnTo>
                    <a:pt x="15" y="461"/>
                  </a:lnTo>
                  <a:lnTo>
                    <a:pt x="25" y="503"/>
                  </a:lnTo>
                  <a:lnTo>
                    <a:pt x="21" y="474"/>
                  </a:lnTo>
                  <a:lnTo>
                    <a:pt x="18" y="444"/>
                  </a:lnTo>
                  <a:lnTo>
                    <a:pt x="16" y="412"/>
                  </a:lnTo>
                  <a:lnTo>
                    <a:pt x="15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54120" y="5292720"/>
              <a:ext cx="243000" cy="127080"/>
            </a:xfrm>
            <a:custGeom>
              <a:avLst/>
              <a:gdLst/>
              <a:ahLst/>
              <a:rect l="l" t="t" r="r" b="b"/>
              <a:pathLst>
                <a:path w="242" h="192">
                  <a:moveTo>
                    <a:pt x="201" y="0"/>
                  </a:moveTo>
                  <a:lnTo>
                    <a:pt x="203" y="87"/>
                  </a:lnTo>
                  <a:lnTo>
                    <a:pt x="212" y="143"/>
                  </a:lnTo>
                  <a:lnTo>
                    <a:pt x="212" y="143"/>
                  </a:lnTo>
                  <a:lnTo>
                    <a:pt x="211" y="145"/>
                  </a:lnTo>
                  <a:lnTo>
                    <a:pt x="209" y="147"/>
                  </a:lnTo>
                  <a:lnTo>
                    <a:pt x="203" y="149"/>
                  </a:lnTo>
                  <a:lnTo>
                    <a:pt x="194" y="152"/>
                  </a:lnTo>
                  <a:lnTo>
                    <a:pt x="180" y="156"/>
                  </a:lnTo>
                  <a:lnTo>
                    <a:pt x="159" y="159"/>
                  </a:lnTo>
                  <a:lnTo>
                    <a:pt x="132" y="163"/>
                  </a:lnTo>
                  <a:lnTo>
                    <a:pt x="103" y="164"/>
                  </a:lnTo>
                  <a:lnTo>
                    <a:pt x="77" y="164"/>
                  </a:lnTo>
                  <a:lnTo>
                    <a:pt x="53" y="162"/>
                  </a:lnTo>
                  <a:lnTo>
                    <a:pt x="35" y="157"/>
                  </a:lnTo>
                  <a:lnTo>
                    <a:pt x="21" y="153"/>
                  </a:lnTo>
                  <a:lnTo>
                    <a:pt x="9" y="149"/>
                  </a:lnTo>
                  <a:lnTo>
                    <a:pt x="3" y="146"/>
                  </a:lnTo>
                  <a:lnTo>
                    <a:pt x="0" y="145"/>
                  </a:lnTo>
                  <a:lnTo>
                    <a:pt x="4" y="147"/>
                  </a:lnTo>
                  <a:lnTo>
                    <a:pt x="13" y="153"/>
                  </a:lnTo>
                  <a:lnTo>
                    <a:pt x="27" y="160"/>
                  </a:lnTo>
                  <a:lnTo>
                    <a:pt x="45" y="170"/>
                  </a:lnTo>
                  <a:lnTo>
                    <a:pt x="67" y="178"/>
                  </a:lnTo>
                  <a:lnTo>
                    <a:pt x="89" y="187"/>
                  </a:lnTo>
                  <a:lnTo>
                    <a:pt x="114" y="191"/>
                  </a:lnTo>
                  <a:lnTo>
                    <a:pt x="138" y="192"/>
                  </a:lnTo>
                  <a:lnTo>
                    <a:pt x="160" y="190"/>
                  </a:lnTo>
                  <a:lnTo>
                    <a:pt x="181" y="185"/>
                  </a:lnTo>
                  <a:lnTo>
                    <a:pt x="199" y="181"/>
                  </a:lnTo>
                  <a:lnTo>
                    <a:pt x="213" y="176"/>
                  </a:lnTo>
                  <a:lnTo>
                    <a:pt x="226" y="171"/>
                  </a:lnTo>
                  <a:lnTo>
                    <a:pt x="235" y="167"/>
                  </a:lnTo>
                  <a:lnTo>
                    <a:pt x="239" y="164"/>
                  </a:lnTo>
                  <a:lnTo>
                    <a:pt x="242" y="163"/>
                  </a:lnTo>
                  <a:lnTo>
                    <a:pt x="220" y="104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09120" y="5508720"/>
              <a:ext cx="287640" cy="623880"/>
            </a:xfrm>
            <a:custGeom>
              <a:avLst/>
              <a:gdLst/>
              <a:ahLst/>
              <a:rect l="l" t="t" r="r" b="b"/>
              <a:pathLst>
                <a:path w="289" h="945">
                  <a:moveTo>
                    <a:pt x="73" y="410"/>
                  </a:moveTo>
                  <a:lnTo>
                    <a:pt x="49" y="535"/>
                  </a:lnTo>
                  <a:lnTo>
                    <a:pt x="30" y="645"/>
                  </a:lnTo>
                  <a:lnTo>
                    <a:pt x="17" y="736"/>
                  </a:lnTo>
                  <a:lnTo>
                    <a:pt x="9" y="811"/>
                  </a:lnTo>
                  <a:lnTo>
                    <a:pt x="3" y="870"/>
                  </a:lnTo>
                  <a:lnTo>
                    <a:pt x="1" y="911"/>
                  </a:lnTo>
                  <a:lnTo>
                    <a:pt x="0" y="936"/>
                  </a:lnTo>
                  <a:lnTo>
                    <a:pt x="0" y="945"/>
                  </a:lnTo>
                  <a:lnTo>
                    <a:pt x="1" y="937"/>
                  </a:lnTo>
                  <a:lnTo>
                    <a:pt x="6" y="916"/>
                  </a:lnTo>
                  <a:lnTo>
                    <a:pt x="11" y="883"/>
                  </a:lnTo>
                  <a:lnTo>
                    <a:pt x="19" y="840"/>
                  </a:lnTo>
                  <a:lnTo>
                    <a:pt x="29" y="788"/>
                  </a:lnTo>
                  <a:lnTo>
                    <a:pt x="40" y="731"/>
                  </a:lnTo>
                  <a:lnTo>
                    <a:pt x="53" y="668"/>
                  </a:lnTo>
                  <a:lnTo>
                    <a:pt x="67" y="603"/>
                  </a:lnTo>
                  <a:lnTo>
                    <a:pt x="80" y="535"/>
                  </a:lnTo>
                  <a:lnTo>
                    <a:pt x="96" y="469"/>
                  </a:lnTo>
                  <a:lnTo>
                    <a:pt x="111" y="405"/>
                  </a:lnTo>
                  <a:lnTo>
                    <a:pt x="126" y="344"/>
                  </a:lnTo>
                  <a:lnTo>
                    <a:pt x="141" y="291"/>
                  </a:lnTo>
                  <a:lnTo>
                    <a:pt x="156" y="244"/>
                  </a:lnTo>
                  <a:lnTo>
                    <a:pt x="170" y="206"/>
                  </a:lnTo>
                  <a:lnTo>
                    <a:pt x="184" y="181"/>
                  </a:lnTo>
                  <a:lnTo>
                    <a:pt x="207" y="143"/>
                  </a:lnTo>
                  <a:lnTo>
                    <a:pt x="229" y="109"/>
                  </a:lnTo>
                  <a:lnTo>
                    <a:pt x="247" y="79"/>
                  </a:lnTo>
                  <a:lnTo>
                    <a:pt x="262" y="52"/>
                  </a:lnTo>
                  <a:lnTo>
                    <a:pt x="273" y="31"/>
                  </a:lnTo>
                  <a:lnTo>
                    <a:pt x="282" y="14"/>
                  </a:lnTo>
                  <a:lnTo>
                    <a:pt x="286" y="4"/>
                  </a:lnTo>
                  <a:lnTo>
                    <a:pt x="289" y="0"/>
                  </a:lnTo>
                  <a:lnTo>
                    <a:pt x="288" y="1"/>
                  </a:lnTo>
                  <a:lnTo>
                    <a:pt x="282" y="3"/>
                  </a:lnTo>
                  <a:lnTo>
                    <a:pt x="275" y="7"/>
                  </a:lnTo>
                  <a:lnTo>
                    <a:pt x="265" y="14"/>
                  </a:lnTo>
                  <a:lnTo>
                    <a:pt x="254" y="24"/>
                  </a:lnTo>
                  <a:lnTo>
                    <a:pt x="240" y="36"/>
                  </a:lnTo>
                  <a:lnTo>
                    <a:pt x="224" y="52"/>
                  </a:lnTo>
                  <a:lnTo>
                    <a:pt x="209" y="72"/>
                  </a:lnTo>
                  <a:lnTo>
                    <a:pt x="192" y="97"/>
                  </a:lnTo>
                  <a:lnTo>
                    <a:pt x="174" y="125"/>
                  </a:lnTo>
                  <a:lnTo>
                    <a:pt x="156" y="159"/>
                  </a:lnTo>
                  <a:lnTo>
                    <a:pt x="138" y="197"/>
                  </a:lnTo>
                  <a:lnTo>
                    <a:pt x="121" y="240"/>
                  </a:lnTo>
                  <a:lnTo>
                    <a:pt x="104" y="291"/>
                  </a:lnTo>
                  <a:lnTo>
                    <a:pt x="88" y="347"/>
                  </a:lnTo>
                  <a:lnTo>
                    <a:pt x="73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48360" y="6141960"/>
              <a:ext cx="189720" cy="130320"/>
            </a:xfrm>
            <a:custGeom>
              <a:avLst/>
              <a:gdLst/>
              <a:ahLst/>
              <a:rect l="l" t="t" r="r" b="b"/>
              <a:pathLst>
                <a:path w="191" h="197">
                  <a:moveTo>
                    <a:pt x="2" y="0"/>
                  </a:moveTo>
                  <a:lnTo>
                    <a:pt x="1" y="10"/>
                  </a:lnTo>
                  <a:lnTo>
                    <a:pt x="0" y="34"/>
                  </a:lnTo>
                  <a:lnTo>
                    <a:pt x="0" y="68"/>
                  </a:lnTo>
                  <a:lnTo>
                    <a:pt x="1" y="106"/>
                  </a:lnTo>
                  <a:lnTo>
                    <a:pt x="6" y="142"/>
                  </a:lnTo>
                  <a:lnTo>
                    <a:pt x="18" y="175"/>
                  </a:lnTo>
                  <a:lnTo>
                    <a:pt x="34" y="194"/>
                  </a:lnTo>
                  <a:lnTo>
                    <a:pt x="59" y="197"/>
                  </a:lnTo>
                  <a:lnTo>
                    <a:pt x="87" y="185"/>
                  </a:lnTo>
                  <a:lnTo>
                    <a:pt x="113" y="162"/>
                  </a:lnTo>
                  <a:lnTo>
                    <a:pt x="136" y="135"/>
                  </a:lnTo>
                  <a:lnTo>
                    <a:pt x="155" y="106"/>
                  </a:lnTo>
                  <a:lnTo>
                    <a:pt x="170" y="78"/>
                  </a:lnTo>
                  <a:lnTo>
                    <a:pt x="182" y="54"/>
                  </a:lnTo>
                  <a:lnTo>
                    <a:pt x="189" y="37"/>
                  </a:lnTo>
                  <a:lnTo>
                    <a:pt x="191" y="30"/>
                  </a:lnTo>
                  <a:lnTo>
                    <a:pt x="188" y="34"/>
                  </a:lnTo>
                  <a:lnTo>
                    <a:pt x="179" y="45"/>
                  </a:lnTo>
                  <a:lnTo>
                    <a:pt x="165" y="61"/>
                  </a:lnTo>
                  <a:lnTo>
                    <a:pt x="148" y="78"/>
                  </a:lnTo>
                  <a:lnTo>
                    <a:pt x="129" y="96"/>
                  </a:lnTo>
                  <a:lnTo>
                    <a:pt x="109" y="113"/>
                  </a:lnTo>
                  <a:lnTo>
                    <a:pt x="89" y="125"/>
                  </a:lnTo>
                  <a:lnTo>
                    <a:pt x="69" y="131"/>
                  </a:lnTo>
                  <a:lnTo>
                    <a:pt x="50" y="127"/>
                  </a:lnTo>
                  <a:lnTo>
                    <a:pt x="36" y="113"/>
                  </a:lnTo>
                  <a:lnTo>
                    <a:pt x="23" y="92"/>
                  </a:lnTo>
                  <a:lnTo>
                    <a:pt x="14" y="68"/>
                  </a:lnTo>
                  <a:lnTo>
                    <a:pt x="9" y="43"/>
                  </a:lnTo>
                  <a:lnTo>
                    <a:pt x="4" y="21"/>
                  </a:lnTo>
                  <a:lnTo>
                    <a:pt x="3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27280" y="6235560"/>
              <a:ext cx="144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70480" y="5565600"/>
              <a:ext cx="203040" cy="51120"/>
            </a:xfrm>
            <a:custGeom>
              <a:avLst/>
              <a:gdLst/>
              <a:ahLst/>
              <a:rect l="l" t="t" r="r" b="b"/>
              <a:pathLst>
                <a:path w="204" h="80">
                  <a:moveTo>
                    <a:pt x="0" y="7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5" y="14"/>
                  </a:lnTo>
                  <a:lnTo>
                    <a:pt x="10" y="18"/>
                  </a:lnTo>
                  <a:lnTo>
                    <a:pt x="19" y="24"/>
                  </a:lnTo>
                  <a:lnTo>
                    <a:pt x="33" y="27"/>
                  </a:lnTo>
                  <a:lnTo>
                    <a:pt x="51" y="30"/>
                  </a:lnTo>
                  <a:lnTo>
                    <a:pt x="74" y="31"/>
                  </a:lnTo>
                  <a:lnTo>
                    <a:pt x="100" y="34"/>
                  </a:lnTo>
                  <a:lnTo>
                    <a:pt x="125" y="38"/>
                  </a:lnTo>
                  <a:lnTo>
                    <a:pt x="147" y="47"/>
                  </a:lnTo>
                  <a:lnTo>
                    <a:pt x="166" y="55"/>
                  </a:lnTo>
                  <a:lnTo>
                    <a:pt x="182" y="65"/>
                  </a:lnTo>
                  <a:lnTo>
                    <a:pt x="194" y="73"/>
                  </a:lnTo>
                  <a:lnTo>
                    <a:pt x="202" y="77"/>
                  </a:lnTo>
                  <a:lnTo>
                    <a:pt x="204" y="80"/>
                  </a:lnTo>
                  <a:lnTo>
                    <a:pt x="203" y="79"/>
                  </a:lnTo>
                  <a:lnTo>
                    <a:pt x="197" y="73"/>
                  </a:lnTo>
                  <a:lnTo>
                    <a:pt x="189" y="65"/>
                  </a:lnTo>
                  <a:lnTo>
                    <a:pt x="178" y="55"/>
                  </a:lnTo>
                  <a:lnTo>
                    <a:pt x="164" y="44"/>
                  </a:lnTo>
                  <a:lnTo>
                    <a:pt x="147" y="33"/>
                  </a:lnTo>
                  <a:lnTo>
                    <a:pt x="125" y="23"/>
                  </a:lnTo>
                  <a:lnTo>
                    <a:pt x="102" y="13"/>
                  </a:lnTo>
                  <a:lnTo>
                    <a:pt x="78" y="6"/>
                  </a:lnTo>
                  <a:lnTo>
                    <a:pt x="58" y="2"/>
                  </a:lnTo>
                  <a:lnTo>
                    <a:pt x="41" y="0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7" y="4"/>
                  </a:lnTo>
                  <a:lnTo>
                    <a:pt x="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98640" y="5543640"/>
              <a:ext cx="31680" cy="15084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21" y="10"/>
                  </a:moveTo>
                  <a:lnTo>
                    <a:pt x="17" y="18"/>
                  </a:lnTo>
                  <a:lnTo>
                    <a:pt x="12" y="41"/>
                  </a:lnTo>
                  <a:lnTo>
                    <a:pt x="5" y="73"/>
                  </a:lnTo>
                  <a:lnTo>
                    <a:pt x="0" y="112"/>
                  </a:lnTo>
                  <a:lnTo>
                    <a:pt x="1" y="153"/>
                  </a:lnTo>
                  <a:lnTo>
                    <a:pt x="5" y="191"/>
                  </a:lnTo>
                  <a:lnTo>
                    <a:pt x="8" y="218"/>
                  </a:lnTo>
                  <a:lnTo>
                    <a:pt x="10" y="229"/>
                  </a:lnTo>
                  <a:lnTo>
                    <a:pt x="23" y="228"/>
                  </a:lnTo>
                  <a:lnTo>
                    <a:pt x="23" y="226"/>
                  </a:lnTo>
                  <a:lnTo>
                    <a:pt x="22" y="223"/>
                  </a:lnTo>
                  <a:lnTo>
                    <a:pt x="19" y="215"/>
                  </a:lnTo>
                  <a:lnTo>
                    <a:pt x="16" y="199"/>
                  </a:lnTo>
                  <a:lnTo>
                    <a:pt x="16" y="159"/>
                  </a:lnTo>
                  <a:lnTo>
                    <a:pt x="22" y="91"/>
                  </a:lnTo>
                  <a:lnTo>
                    <a:pt x="27" y="28"/>
                  </a:lnTo>
                  <a:lnTo>
                    <a:pt x="31" y="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72280" y="5811840"/>
              <a:ext cx="133560" cy="208080"/>
            </a:xfrm>
            <a:custGeom>
              <a:avLst/>
              <a:gdLst/>
              <a:ahLst/>
              <a:rect l="l" t="t" r="r" b="b"/>
              <a:pathLst>
                <a:path w="133" h="318">
                  <a:moveTo>
                    <a:pt x="94" y="159"/>
                  </a:moveTo>
                  <a:lnTo>
                    <a:pt x="103" y="153"/>
                  </a:lnTo>
                  <a:lnTo>
                    <a:pt x="110" y="146"/>
                  </a:lnTo>
                  <a:lnTo>
                    <a:pt x="116" y="138"/>
                  </a:lnTo>
                  <a:lnTo>
                    <a:pt x="122" y="129"/>
                  </a:lnTo>
                  <a:lnTo>
                    <a:pt x="127" y="118"/>
                  </a:lnTo>
                  <a:lnTo>
                    <a:pt x="130" y="107"/>
                  </a:lnTo>
                  <a:lnTo>
                    <a:pt x="132" y="96"/>
                  </a:lnTo>
                  <a:lnTo>
                    <a:pt x="133" y="83"/>
                  </a:lnTo>
                  <a:lnTo>
                    <a:pt x="132" y="66"/>
                  </a:lnTo>
                  <a:lnTo>
                    <a:pt x="128" y="51"/>
                  </a:lnTo>
                  <a:lnTo>
                    <a:pt x="122" y="37"/>
                  </a:lnTo>
                  <a:lnTo>
                    <a:pt x="114" y="24"/>
                  </a:lnTo>
                  <a:lnTo>
                    <a:pt x="104" y="14"/>
                  </a:lnTo>
                  <a:lnTo>
                    <a:pt x="93" y="7"/>
                  </a:lnTo>
                  <a:lnTo>
                    <a:pt x="80" y="2"/>
                  </a:lnTo>
                  <a:lnTo>
                    <a:pt x="67" y="0"/>
                  </a:lnTo>
                  <a:lnTo>
                    <a:pt x="53" y="2"/>
                  </a:lnTo>
                  <a:lnTo>
                    <a:pt x="41" y="7"/>
                  </a:lnTo>
                  <a:lnTo>
                    <a:pt x="30" y="14"/>
                  </a:lnTo>
                  <a:lnTo>
                    <a:pt x="21" y="24"/>
                  </a:lnTo>
                  <a:lnTo>
                    <a:pt x="12" y="37"/>
                  </a:lnTo>
                  <a:lnTo>
                    <a:pt x="6" y="51"/>
                  </a:lnTo>
                  <a:lnTo>
                    <a:pt x="1" y="66"/>
                  </a:lnTo>
                  <a:lnTo>
                    <a:pt x="0" y="83"/>
                  </a:lnTo>
                  <a:lnTo>
                    <a:pt x="1" y="96"/>
                  </a:lnTo>
                  <a:lnTo>
                    <a:pt x="4" y="107"/>
                  </a:lnTo>
                  <a:lnTo>
                    <a:pt x="7" y="118"/>
                  </a:lnTo>
                  <a:lnTo>
                    <a:pt x="12" y="129"/>
                  </a:lnTo>
                  <a:lnTo>
                    <a:pt x="17" y="138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1" y="159"/>
                  </a:lnTo>
                  <a:lnTo>
                    <a:pt x="32" y="165"/>
                  </a:lnTo>
                  <a:lnTo>
                    <a:pt x="25" y="172"/>
                  </a:lnTo>
                  <a:lnTo>
                    <a:pt x="17" y="180"/>
                  </a:lnTo>
                  <a:lnTo>
                    <a:pt x="12" y="188"/>
                  </a:lnTo>
                  <a:lnTo>
                    <a:pt x="7" y="200"/>
                  </a:lnTo>
                  <a:lnTo>
                    <a:pt x="4" y="211"/>
                  </a:lnTo>
                  <a:lnTo>
                    <a:pt x="1" y="222"/>
                  </a:lnTo>
                  <a:lnTo>
                    <a:pt x="0" y="235"/>
                  </a:lnTo>
                  <a:lnTo>
                    <a:pt x="1" y="252"/>
                  </a:lnTo>
                  <a:lnTo>
                    <a:pt x="6" y="267"/>
                  </a:lnTo>
                  <a:lnTo>
                    <a:pt x="12" y="281"/>
                  </a:lnTo>
                  <a:lnTo>
                    <a:pt x="21" y="293"/>
                  </a:lnTo>
                  <a:lnTo>
                    <a:pt x="30" y="304"/>
                  </a:lnTo>
                  <a:lnTo>
                    <a:pt x="41" y="311"/>
                  </a:lnTo>
                  <a:lnTo>
                    <a:pt x="53" y="316"/>
                  </a:lnTo>
                  <a:lnTo>
                    <a:pt x="67" y="318"/>
                  </a:lnTo>
                  <a:lnTo>
                    <a:pt x="80" y="316"/>
                  </a:lnTo>
                  <a:lnTo>
                    <a:pt x="93" y="311"/>
                  </a:lnTo>
                  <a:lnTo>
                    <a:pt x="104" y="304"/>
                  </a:lnTo>
                  <a:lnTo>
                    <a:pt x="114" y="293"/>
                  </a:lnTo>
                  <a:lnTo>
                    <a:pt x="122" y="281"/>
                  </a:lnTo>
                  <a:lnTo>
                    <a:pt x="128" y="267"/>
                  </a:lnTo>
                  <a:lnTo>
                    <a:pt x="132" y="252"/>
                  </a:lnTo>
                  <a:lnTo>
                    <a:pt x="133" y="235"/>
                  </a:lnTo>
                  <a:lnTo>
                    <a:pt x="132" y="222"/>
                  </a:lnTo>
                  <a:lnTo>
                    <a:pt x="130" y="211"/>
                  </a:lnTo>
                  <a:lnTo>
                    <a:pt x="127" y="200"/>
                  </a:lnTo>
                  <a:lnTo>
                    <a:pt x="122" y="188"/>
                  </a:lnTo>
                  <a:lnTo>
                    <a:pt x="116" y="180"/>
                  </a:lnTo>
                  <a:lnTo>
                    <a:pt x="110" y="172"/>
                  </a:lnTo>
                  <a:lnTo>
                    <a:pt x="103" y="165"/>
                  </a:lnTo>
                  <a:lnTo>
                    <a:pt x="94" y="15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48560" y="5138640"/>
              <a:ext cx="243000" cy="69840"/>
            </a:xfrm>
            <a:custGeom>
              <a:avLst/>
              <a:gdLst/>
              <a:ahLst/>
              <a:rect l="l" t="t" r="r" b="b"/>
              <a:pathLst>
                <a:path w="242" h="105">
                  <a:moveTo>
                    <a:pt x="238" y="19"/>
                  </a:moveTo>
                  <a:lnTo>
                    <a:pt x="239" y="14"/>
                  </a:lnTo>
                  <a:lnTo>
                    <a:pt x="241" y="9"/>
                  </a:lnTo>
                  <a:lnTo>
                    <a:pt x="241" y="5"/>
                  </a:lnTo>
                  <a:lnTo>
                    <a:pt x="242" y="0"/>
                  </a:lnTo>
                  <a:lnTo>
                    <a:pt x="221" y="1"/>
                  </a:lnTo>
                  <a:lnTo>
                    <a:pt x="201" y="4"/>
                  </a:lnTo>
                  <a:lnTo>
                    <a:pt x="182" y="8"/>
                  </a:lnTo>
                  <a:lnTo>
                    <a:pt x="164" y="12"/>
                  </a:lnTo>
                  <a:lnTo>
                    <a:pt x="146" y="16"/>
                  </a:lnTo>
                  <a:lnTo>
                    <a:pt x="128" y="22"/>
                  </a:lnTo>
                  <a:lnTo>
                    <a:pt x="112" y="28"/>
                  </a:lnTo>
                  <a:lnTo>
                    <a:pt x="96" y="35"/>
                  </a:lnTo>
                  <a:lnTo>
                    <a:pt x="80" y="42"/>
                  </a:lnTo>
                  <a:lnTo>
                    <a:pt x="66" y="49"/>
                  </a:lnTo>
                  <a:lnTo>
                    <a:pt x="52" y="57"/>
                  </a:lnTo>
                  <a:lnTo>
                    <a:pt x="40" y="66"/>
                  </a:lnTo>
                  <a:lnTo>
                    <a:pt x="29" y="75"/>
                  </a:lnTo>
                  <a:lnTo>
                    <a:pt x="18" y="85"/>
                  </a:lnTo>
                  <a:lnTo>
                    <a:pt x="8" y="95"/>
                  </a:lnTo>
                  <a:lnTo>
                    <a:pt x="0" y="105"/>
                  </a:lnTo>
                  <a:lnTo>
                    <a:pt x="11" y="97"/>
                  </a:lnTo>
                  <a:lnTo>
                    <a:pt x="21" y="88"/>
                  </a:lnTo>
                  <a:lnTo>
                    <a:pt x="32" y="81"/>
                  </a:lnTo>
                  <a:lnTo>
                    <a:pt x="44" y="73"/>
                  </a:lnTo>
                  <a:lnTo>
                    <a:pt x="57" y="66"/>
                  </a:lnTo>
                  <a:lnTo>
                    <a:pt x="70" y="60"/>
                  </a:lnTo>
                  <a:lnTo>
                    <a:pt x="85" y="53"/>
                  </a:lnTo>
                  <a:lnTo>
                    <a:pt x="100" y="47"/>
                  </a:lnTo>
                  <a:lnTo>
                    <a:pt x="115" y="42"/>
                  </a:lnTo>
                  <a:lnTo>
                    <a:pt x="131" y="37"/>
                  </a:lnTo>
                  <a:lnTo>
                    <a:pt x="148" y="33"/>
                  </a:lnTo>
                  <a:lnTo>
                    <a:pt x="165" y="29"/>
                  </a:lnTo>
                  <a:lnTo>
                    <a:pt x="183" y="26"/>
                  </a:lnTo>
                  <a:lnTo>
                    <a:pt x="201" y="23"/>
                  </a:lnTo>
                  <a:lnTo>
                    <a:pt x="219" y="21"/>
                  </a:lnTo>
                  <a:lnTo>
                    <a:pt x="23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4320" y="5195880"/>
              <a:ext cx="225720" cy="68400"/>
            </a:xfrm>
            <a:custGeom>
              <a:avLst/>
              <a:gdLst/>
              <a:ahLst/>
              <a:rect l="l" t="t" r="r" b="b"/>
              <a:pathLst>
                <a:path w="227" h="104">
                  <a:moveTo>
                    <a:pt x="225" y="20"/>
                  </a:moveTo>
                  <a:lnTo>
                    <a:pt x="225" y="14"/>
                  </a:lnTo>
                  <a:lnTo>
                    <a:pt x="227" y="10"/>
                  </a:lnTo>
                  <a:lnTo>
                    <a:pt x="227" y="6"/>
                  </a:lnTo>
                  <a:lnTo>
                    <a:pt x="227" y="0"/>
                  </a:lnTo>
                  <a:lnTo>
                    <a:pt x="207" y="3"/>
                  </a:lnTo>
                  <a:lnTo>
                    <a:pt x="189" y="6"/>
                  </a:lnTo>
                  <a:lnTo>
                    <a:pt x="171" y="9"/>
                  </a:lnTo>
                  <a:lnTo>
                    <a:pt x="153" y="13"/>
                  </a:lnTo>
                  <a:lnTo>
                    <a:pt x="136" y="19"/>
                  </a:lnTo>
                  <a:lnTo>
                    <a:pt x="121" y="23"/>
                  </a:lnTo>
                  <a:lnTo>
                    <a:pt x="105" y="30"/>
                  </a:lnTo>
                  <a:lnTo>
                    <a:pt x="90" y="35"/>
                  </a:lnTo>
                  <a:lnTo>
                    <a:pt x="75" y="42"/>
                  </a:lnTo>
                  <a:lnTo>
                    <a:pt x="62" y="51"/>
                  </a:lnTo>
                  <a:lnTo>
                    <a:pt x="50" y="58"/>
                  </a:lnTo>
                  <a:lnTo>
                    <a:pt x="37" y="66"/>
                  </a:lnTo>
                  <a:lnTo>
                    <a:pt x="27" y="76"/>
                  </a:lnTo>
                  <a:lnTo>
                    <a:pt x="17" y="85"/>
                  </a:lnTo>
                  <a:lnTo>
                    <a:pt x="8" y="94"/>
                  </a:lnTo>
                  <a:lnTo>
                    <a:pt x="0" y="104"/>
                  </a:lnTo>
                  <a:lnTo>
                    <a:pt x="9" y="96"/>
                  </a:lnTo>
                  <a:lnTo>
                    <a:pt x="19" y="89"/>
                  </a:lnTo>
                  <a:lnTo>
                    <a:pt x="30" y="80"/>
                  </a:lnTo>
                  <a:lnTo>
                    <a:pt x="42" y="73"/>
                  </a:lnTo>
                  <a:lnTo>
                    <a:pt x="54" y="68"/>
                  </a:lnTo>
                  <a:lnTo>
                    <a:pt x="66" y="61"/>
                  </a:lnTo>
                  <a:lnTo>
                    <a:pt x="80" y="55"/>
                  </a:lnTo>
                  <a:lnTo>
                    <a:pt x="95" y="49"/>
                  </a:lnTo>
                  <a:lnTo>
                    <a:pt x="109" y="44"/>
                  </a:lnTo>
                  <a:lnTo>
                    <a:pt x="124" y="38"/>
                  </a:lnTo>
                  <a:lnTo>
                    <a:pt x="140" y="34"/>
                  </a:lnTo>
                  <a:lnTo>
                    <a:pt x="157" y="31"/>
                  </a:lnTo>
                  <a:lnTo>
                    <a:pt x="174" y="27"/>
                  </a:lnTo>
                  <a:lnTo>
                    <a:pt x="190" y="24"/>
                  </a:lnTo>
                  <a:lnTo>
                    <a:pt x="207" y="21"/>
                  </a:lnTo>
                  <a:lnTo>
                    <a:pt x="225" y="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84560" y="5243400"/>
              <a:ext cx="197640" cy="6516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198" y="19"/>
                  </a:moveTo>
                  <a:lnTo>
                    <a:pt x="197" y="13"/>
                  </a:lnTo>
                  <a:lnTo>
                    <a:pt x="197" y="9"/>
                  </a:lnTo>
                  <a:lnTo>
                    <a:pt x="197" y="5"/>
                  </a:lnTo>
                  <a:lnTo>
                    <a:pt x="196" y="0"/>
                  </a:lnTo>
                  <a:lnTo>
                    <a:pt x="180" y="3"/>
                  </a:lnTo>
                  <a:lnTo>
                    <a:pt x="163" y="6"/>
                  </a:lnTo>
                  <a:lnTo>
                    <a:pt x="148" y="10"/>
                  </a:lnTo>
                  <a:lnTo>
                    <a:pt x="134" y="14"/>
                  </a:lnTo>
                  <a:lnTo>
                    <a:pt x="119" y="20"/>
                  </a:lnTo>
                  <a:lnTo>
                    <a:pt x="104" y="26"/>
                  </a:lnTo>
                  <a:lnTo>
                    <a:pt x="92" y="31"/>
                  </a:lnTo>
                  <a:lnTo>
                    <a:pt x="78" y="37"/>
                  </a:lnTo>
                  <a:lnTo>
                    <a:pt x="66" y="44"/>
                  </a:lnTo>
                  <a:lnTo>
                    <a:pt x="55" y="51"/>
                  </a:lnTo>
                  <a:lnTo>
                    <a:pt x="44" y="58"/>
                  </a:lnTo>
                  <a:lnTo>
                    <a:pt x="34" y="66"/>
                  </a:lnTo>
                  <a:lnTo>
                    <a:pt x="24" y="73"/>
                  </a:lnTo>
                  <a:lnTo>
                    <a:pt x="15" y="82"/>
                  </a:lnTo>
                  <a:lnTo>
                    <a:pt x="7" y="92"/>
                  </a:lnTo>
                  <a:lnTo>
                    <a:pt x="0" y="100"/>
                  </a:lnTo>
                  <a:lnTo>
                    <a:pt x="8" y="93"/>
                  </a:lnTo>
                  <a:lnTo>
                    <a:pt x="17" y="86"/>
                  </a:lnTo>
                  <a:lnTo>
                    <a:pt x="28" y="79"/>
                  </a:lnTo>
                  <a:lnTo>
                    <a:pt x="38" y="72"/>
                  </a:lnTo>
                  <a:lnTo>
                    <a:pt x="49" y="65"/>
                  </a:lnTo>
                  <a:lnTo>
                    <a:pt x="60" y="59"/>
                  </a:lnTo>
                  <a:lnTo>
                    <a:pt x="72" y="54"/>
                  </a:lnTo>
                  <a:lnTo>
                    <a:pt x="84" y="48"/>
                  </a:lnTo>
                  <a:lnTo>
                    <a:pt x="96" y="44"/>
                  </a:lnTo>
                  <a:lnTo>
                    <a:pt x="110" y="38"/>
                  </a:lnTo>
                  <a:lnTo>
                    <a:pt x="123" y="34"/>
                  </a:lnTo>
                  <a:lnTo>
                    <a:pt x="138" y="30"/>
                  </a:lnTo>
                  <a:lnTo>
                    <a:pt x="153" y="27"/>
                  </a:lnTo>
                  <a:lnTo>
                    <a:pt x="167" y="24"/>
                  </a:lnTo>
                  <a:lnTo>
                    <a:pt x="182" y="21"/>
                  </a:lnTo>
                  <a:lnTo>
                    <a:pt x="198" y="1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12640" y="5297400"/>
              <a:ext cx="188280" cy="63720"/>
            </a:xfrm>
            <a:custGeom>
              <a:avLst/>
              <a:gdLst/>
              <a:ahLst/>
              <a:rect l="l" t="t" r="r" b="b"/>
              <a:pathLst>
                <a:path w="188" h="97">
                  <a:moveTo>
                    <a:pt x="188" y="16"/>
                  </a:moveTo>
                  <a:lnTo>
                    <a:pt x="187" y="12"/>
                  </a:lnTo>
                  <a:lnTo>
                    <a:pt x="186" y="8"/>
                  </a:lnTo>
                  <a:lnTo>
                    <a:pt x="183" y="4"/>
                  </a:lnTo>
                  <a:lnTo>
                    <a:pt x="182" y="0"/>
                  </a:lnTo>
                  <a:lnTo>
                    <a:pt x="166" y="2"/>
                  </a:lnTo>
                  <a:lnTo>
                    <a:pt x="152" y="7"/>
                  </a:lnTo>
                  <a:lnTo>
                    <a:pt x="138" y="11"/>
                  </a:lnTo>
                  <a:lnTo>
                    <a:pt x="124" y="15"/>
                  </a:lnTo>
                  <a:lnTo>
                    <a:pt x="110" y="19"/>
                  </a:lnTo>
                  <a:lnTo>
                    <a:pt x="98" y="25"/>
                  </a:lnTo>
                  <a:lnTo>
                    <a:pt x="84" y="30"/>
                  </a:lnTo>
                  <a:lnTo>
                    <a:pt x="73" y="37"/>
                  </a:lnTo>
                  <a:lnTo>
                    <a:pt x="62" y="43"/>
                  </a:lnTo>
                  <a:lnTo>
                    <a:pt x="50" y="50"/>
                  </a:lnTo>
                  <a:lnTo>
                    <a:pt x="40" y="57"/>
                  </a:lnTo>
                  <a:lnTo>
                    <a:pt x="31" y="64"/>
                  </a:lnTo>
                  <a:lnTo>
                    <a:pt x="22" y="73"/>
                  </a:lnTo>
                  <a:lnTo>
                    <a:pt x="14" y="80"/>
                  </a:lnTo>
                  <a:lnTo>
                    <a:pt x="6" y="88"/>
                  </a:lnTo>
                  <a:lnTo>
                    <a:pt x="0" y="97"/>
                  </a:lnTo>
                  <a:lnTo>
                    <a:pt x="7" y="89"/>
                  </a:lnTo>
                  <a:lnTo>
                    <a:pt x="16" y="82"/>
                  </a:lnTo>
                  <a:lnTo>
                    <a:pt x="25" y="75"/>
                  </a:lnTo>
                  <a:lnTo>
                    <a:pt x="36" y="70"/>
                  </a:lnTo>
                  <a:lnTo>
                    <a:pt x="46" y="64"/>
                  </a:lnTo>
                  <a:lnTo>
                    <a:pt x="57" y="57"/>
                  </a:lnTo>
                  <a:lnTo>
                    <a:pt x="68" y="53"/>
                  </a:lnTo>
                  <a:lnTo>
                    <a:pt x="80" y="47"/>
                  </a:lnTo>
                  <a:lnTo>
                    <a:pt x="92" y="42"/>
                  </a:lnTo>
                  <a:lnTo>
                    <a:pt x="104" y="37"/>
                  </a:lnTo>
                  <a:lnTo>
                    <a:pt x="118" y="33"/>
                  </a:lnTo>
                  <a:lnTo>
                    <a:pt x="131" y="29"/>
                  </a:lnTo>
                  <a:lnTo>
                    <a:pt x="145" y="25"/>
                  </a:lnTo>
                  <a:lnTo>
                    <a:pt x="159" y="22"/>
                  </a:lnTo>
                  <a:lnTo>
                    <a:pt x="173" y="19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3400" y="5343480"/>
              <a:ext cx="178920" cy="61920"/>
            </a:xfrm>
            <a:custGeom>
              <a:avLst/>
              <a:gdLst/>
              <a:ahLst/>
              <a:rect l="l" t="t" r="r" b="b"/>
              <a:pathLst>
                <a:path w="179" h="94">
                  <a:moveTo>
                    <a:pt x="179" y="16"/>
                  </a:moveTo>
                  <a:lnTo>
                    <a:pt x="175" y="11"/>
                  </a:lnTo>
                  <a:lnTo>
                    <a:pt x="173" y="7"/>
                  </a:lnTo>
                  <a:lnTo>
                    <a:pt x="170" y="4"/>
                  </a:lnTo>
                  <a:lnTo>
                    <a:pt x="166" y="0"/>
                  </a:lnTo>
                  <a:lnTo>
                    <a:pt x="139" y="7"/>
                  </a:lnTo>
                  <a:lnTo>
                    <a:pt x="113" y="16"/>
                  </a:lnTo>
                  <a:lnTo>
                    <a:pt x="89" y="26"/>
                  </a:lnTo>
                  <a:lnTo>
                    <a:pt x="67" y="37"/>
                  </a:lnTo>
                  <a:lnTo>
                    <a:pt x="47" y="49"/>
                  </a:lnTo>
                  <a:lnTo>
                    <a:pt x="30" y="63"/>
                  </a:lnTo>
                  <a:lnTo>
                    <a:pt x="14" y="79"/>
                  </a:lnTo>
                  <a:lnTo>
                    <a:pt x="0" y="94"/>
                  </a:lnTo>
                  <a:lnTo>
                    <a:pt x="16" y="80"/>
                  </a:lnTo>
                  <a:lnTo>
                    <a:pt x="34" y="69"/>
                  </a:lnTo>
                  <a:lnTo>
                    <a:pt x="55" y="56"/>
                  </a:lnTo>
                  <a:lnTo>
                    <a:pt x="76" y="47"/>
                  </a:lnTo>
                  <a:lnTo>
                    <a:pt x="100" y="37"/>
                  </a:lnTo>
                  <a:lnTo>
                    <a:pt x="124" y="28"/>
                  </a:lnTo>
                  <a:lnTo>
                    <a:pt x="150" y="21"/>
                  </a:lnTo>
                  <a:lnTo>
                    <a:pt x="179" y="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8120" y="5384880"/>
              <a:ext cx="188280" cy="61920"/>
            </a:xfrm>
            <a:custGeom>
              <a:avLst/>
              <a:gdLst/>
              <a:ahLst/>
              <a:rect l="l" t="t" r="r" b="b"/>
              <a:pathLst>
                <a:path w="188" h="96">
                  <a:moveTo>
                    <a:pt x="188" y="16"/>
                  </a:moveTo>
                  <a:lnTo>
                    <a:pt x="183" y="11"/>
                  </a:lnTo>
                  <a:lnTo>
                    <a:pt x="180" y="7"/>
                  </a:lnTo>
                  <a:lnTo>
                    <a:pt x="175" y="4"/>
                  </a:lnTo>
                  <a:lnTo>
                    <a:pt x="171" y="0"/>
                  </a:lnTo>
                  <a:lnTo>
                    <a:pt x="143" y="7"/>
                  </a:lnTo>
                  <a:lnTo>
                    <a:pt x="117" y="16"/>
                  </a:lnTo>
                  <a:lnTo>
                    <a:pt x="92" y="27"/>
                  </a:lnTo>
                  <a:lnTo>
                    <a:pt x="68" y="38"/>
                  </a:lnTo>
                  <a:lnTo>
                    <a:pt x="48" y="51"/>
                  </a:lnTo>
                  <a:lnTo>
                    <a:pt x="29" y="65"/>
                  </a:lnTo>
                  <a:lnTo>
                    <a:pt x="13" y="80"/>
                  </a:lnTo>
                  <a:lnTo>
                    <a:pt x="0" y="96"/>
                  </a:lnTo>
                  <a:lnTo>
                    <a:pt x="7" y="89"/>
                  </a:lnTo>
                  <a:lnTo>
                    <a:pt x="16" y="82"/>
                  </a:lnTo>
                  <a:lnTo>
                    <a:pt x="25" y="75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6" y="56"/>
                  </a:lnTo>
                  <a:lnTo>
                    <a:pt x="67" y="52"/>
                  </a:lnTo>
                  <a:lnTo>
                    <a:pt x="80" y="46"/>
                  </a:lnTo>
                  <a:lnTo>
                    <a:pt x="92" y="41"/>
                  </a:lnTo>
                  <a:lnTo>
                    <a:pt x="104" y="37"/>
                  </a:lnTo>
                  <a:lnTo>
                    <a:pt x="117" y="32"/>
                  </a:lnTo>
                  <a:lnTo>
                    <a:pt x="130" y="28"/>
                  </a:lnTo>
                  <a:lnTo>
                    <a:pt x="144" y="24"/>
                  </a:lnTo>
                  <a:lnTo>
                    <a:pt x="158" y="21"/>
                  </a:lnTo>
                  <a:lnTo>
                    <a:pt x="173" y="18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84000" y="5418000"/>
              <a:ext cx="182520" cy="61920"/>
            </a:xfrm>
            <a:custGeom>
              <a:avLst/>
              <a:gdLst/>
              <a:ahLst/>
              <a:rect l="l" t="t" r="r" b="b"/>
              <a:pathLst>
                <a:path w="182" h="94">
                  <a:moveTo>
                    <a:pt x="182" y="14"/>
                  </a:moveTo>
                  <a:lnTo>
                    <a:pt x="177" y="11"/>
                  </a:lnTo>
                  <a:lnTo>
                    <a:pt x="173" y="7"/>
                  </a:lnTo>
                  <a:lnTo>
                    <a:pt x="168" y="4"/>
                  </a:lnTo>
                  <a:lnTo>
                    <a:pt x="164" y="0"/>
                  </a:lnTo>
                  <a:lnTo>
                    <a:pt x="136" y="7"/>
                  </a:lnTo>
                  <a:lnTo>
                    <a:pt x="112" y="17"/>
                  </a:lnTo>
                  <a:lnTo>
                    <a:pt x="88" y="26"/>
                  </a:lnTo>
                  <a:lnTo>
                    <a:pt x="67" y="38"/>
                  </a:lnTo>
                  <a:lnTo>
                    <a:pt x="46" y="50"/>
                  </a:lnTo>
                  <a:lnTo>
                    <a:pt x="28" y="64"/>
                  </a:lnTo>
                  <a:lnTo>
                    <a:pt x="14" y="78"/>
                  </a:lnTo>
                  <a:lnTo>
                    <a:pt x="0" y="94"/>
                  </a:lnTo>
                  <a:lnTo>
                    <a:pt x="8" y="87"/>
                  </a:lnTo>
                  <a:lnTo>
                    <a:pt x="16" y="80"/>
                  </a:lnTo>
                  <a:lnTo>
                    <a:pt x="25" y="74"/>
                  </a:lnTo>
                  <a:lnTo>
                    <a:pt x="35" y="67"/>
                  </a:lnTo>
                  <a:lnTo>
                    <a:pt x="45" y="62"/>
                  </a:lnTo>
                  <a:lnTo>
                    <a:pt x="55" y="56"/>
                  </a:lnTo>
                  <a:lnTo>
                    <a:pt x="65" y="50"/>
                  </a:lnTo>
                  <a:lnTo>
                    <a:pt x="78" y="45"/>
                  </a:lnTo>
                  <a:lnTo>
                    <a:pt x="89" y="40"/>
                  </a:lnTo>
                  <a:lnTo>
                    <a:pt x="102" y="35"/>
                  </a:lnTo>
                  <a:lnTo>
                    <a:pt x="114" y="31"/>
                  </a:lnTo>
                  <a:lnTo>
                    <a:pt x="126" y="26"/>
                  </a:lnTo>
                  <a:lnTo>
                    <a:pt x="140" y="24"/>
                  </a:lnTo>
                  <a:lnTo>
                    <a:pt x="153" y="19"/>
                  </a:lnTo>
                  <a:lnTo>
                    <a:pt x="167" y="17"/>
                  </a:lnTo>
                  <a:lnTo>
                    <a:pt x="182" y="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8080" y="5451480"/>
              <a:ext cx="189720" cy="63360"/>
            </a:xfrm>
            <a:custGeom>
              <a:avLst/>
              <a:gdLst/>
              <a:ahLst/>
              <a:rect l="l" t="t" r="r" b="b"/>
              <a:pathLst>
                <a:path w="191" h="95">
                  <a:moveTo>
                    <a:pt x="191" y="15"/>
                  </a:moveTo>
                  <a:lnTo>
                    <a:pt x="185" y="11"/>
                  </a:lnTo>
                  <a:lnTo>
                    <a:pt x="181" y="7"/>
                  </a:lnTo>
                  <a:lnTo>
                    <a:pt x="175" y="4"/>
                  </a:lnTo>
                  <a:lnTo>
                    <a:pt x="169" y="0"/>
                  </a:lnTo>
                  <a:lnTo>
                    <a:pt x="141" y="7"/>
                  </a:lnTo>
                  <a:lnTo>
                    <a:pt x="115" y="15"/>
                  </a:lnTo>
                  <a:lnTo>
                    <a:pt x="90" y="26"/>
                  </a:lnTo>
                  <a:lnTo>
                    <a:pt x="68" y="38"/>
                  </a:lnTo>
                  <a:lnTo>
                    <a:pt x="48" y="50"/>
                  </a:lnTo>
                  <a:lnTo>
                    <a:pt x="29" y="64"/>
                  </a:lnTo>
                  <a:lnTo>
                    <a:pt x="14" y="80"/>
                  </a:lnTo>
                  <a:lnTo>
                    <a:pt x="0" y="95"/>
                  </a:lnTo>
                  <a:lnTo>
                    <a:pt x="8" y="88"/>
                  </a:lnTo>
                  <a:lnTo>
                    <a:pt x="17" y="81"/>
                  </a:lnTo>
                  <a:lnTo>
                    <a:pt x="26" y="74"/>
                  </a:lnTo>
                  <a:lnTo>
                    <a:pt x="36" y="67"/>
                  </a:lnTo>
                  <a:lnTo>
                    <a:pt x="46" y="62"/>
                  </a:lnTo>
                  <a:lnTo>
                    <a:pt x="58" y="56"/>
                  </a:lnTo>
                  <a:lnTo>
                    <a:pt x="69" y="50"/>
                  </a:lnTo>
                  <a:lnTo>
                    <a:pt x="80" y="45"/>
                  </a:lnTo>
                  <a:lnTo>
                    <a:pt x="93" y="39"/>
                  </a:lnTo>
                  <a:lnTo>
                    <a:pt x="106" y="35"/>
                  </a:lnTo>
                  <a:lnTo>
                    <a:pt x="119" y="31"/>
                  </a:lnTo>
                  <a:lnTo>
                    <a:pt x="132" y="26"/>
                  </a:lnTo>
                  <a:lnTo>
                    <a:pt x="147" y="24"/>
                  </a:lnTo>
                  <a:lnTo>
                    <a:pt x="161" y="21"/>
                  </a:lnTo>
                  <a:lnTo>
                    <a:pt x="176" y="18"/>
                  </a:lnTo>
                  <a:lnTo>
                    <a:pt x="191" y="1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79440" y="5492880"/>
              <a:ext cx="361080" cy="236520"/>
            </a:xfrm>
            <a:custGeom>
              <a:avLst/>
              <a:gdLst/>
              <a:ahLst/>
              <a:rect l="l" t="t" r="r" b="b"/>
              <a:pathLst>
                <a:path w="362" h="357">
                  <a:moveTo>
                    <a:pt x="182" y="0"/>
                  </a:moveTo>
                  <a:lnTo>
                    <a:pt x="164" y="1"/>
                  </a:lnTo>
                  <a:lnTo>
                    <a:pt x="146" y="4"/>
                  </a:lnTo>
                  <a:lnTo>
                    <a:pt x="128" y="8"/>
                  </a:lnTo>
                  <a:lnTo>
                    <a:pt x="111" y="14"/>
                  </a:lnTo>
                  <a:lnTo>
                    <a:pt x="95" y="21"/>
                  </a:lnTo>
                  <a:lnTo>
                    <a:pt x="80" y="31"/>
                  </a:lnTo>
                  <a:lnTo>
                    <a:pt x="67" y="41"/>
                  </a:lnTo>
                  <a:lnTo>
                    <a:pt x="53" y="52"/>
                  </a:lnTo>
                  <a:lnTo>
                    <a:pt x="42" y="65"/>
                  </a:lnTo>
                  <a:lnTo>
                    <a:pt x="31" y="79"/>
                  </a:lnTo>
                  <a:lnTo>
                    <a:pt x="22" y="93"/>
                  </a:lnTo>
                  <a:lnTo>
                    <a:pt x="15" y="108"/>
                  </a:lnTo>
                  <a:lnTo>
                    <a:pt x="8" y="125"/>
                  </a:lnTo>
                  <a:lnTo>
                    <a:pt x="4" y="142"/>
                  </a:lnTo>
                  <a:lnTo>
                    <a:pt x="1" y="159"/>
                  </a:lnTo>
                  <a:lnTo>
                    <a:pt x="0" y="177"/>
                  </a:lnTo>
                  <a:lnTo>
                    <a:pt x="1" y="195"/>
                  </a:lnTo>
                  <a:lnTo>
                    <a:pt x="4" y="214"/>
                  </a:lnTo>
                  <a:lnTo>
                    <a:pt x="8" y="230"/>
                  </a:lnTo>
                  <a:lnTo>
                    <a:pt x="15" y="247"/>
                  </a:lnTo>
                  <a:lnTo>
                    <a:pt x="22" y="263"/>
                  </a:lnTo>
                  <a:lnTo>
                    <a:pt x="31" y="278"/>
                  </a:lnTo>
                  <a:lnTo>
                    <a:pt x="42" y="292"/>
                  </a:lnTo>
                  <a:lnTo>
                    <a:pt x="53" y="305"/>
                  </a:lnTo>
                  <a:lnTo>
                    <a:pt x="67" y="316"/>
                  </a:lnTo>
                  <a:lnTo>
                    <a:pt x="80" y="326"/>
                  </a:lnTo>
                  <a:lnTo>
                    <a:pt x="95" y="336"/>
                  </a:lnTo>
                  <a:lnTo>
                    <a:pt x="111" y="343"/>
                  </a:lnTo>
                  <a:lnTo>
                    <a:pt x="128" y="349"/>
                  </a:lnTo>
                  <a:lnTo>
                    <a:pt x="146" y="353"/>
                  </a:lnTo>
                  <a:lnTo>
                    <a:pt x="164" y="356"/>
                  </a:lnTo>
                  <a:lnTo>
                    <a:pt x="182" y="357"/>
                  </a:lnTo>
                  <a:lnTo>
                    <a:pt x="200" y="356"/>
                  </a:lnTo>
                  <a:lnTo>
                    <a:pt x="218" y="353"/>
                  </a:lnTo>
                  <a:lnTo>
                    <a:pt x="235" y="349"/>
                  </a:lnTo>
                  <a:lnTo>
                    <a:pt x="252" y="343"/>
                  </a:lnTo>
                  <a:lnTo>
                    <a:pt x="267" y="336"/>
                  </a:lnTo>
                  <a:lnTo>
                    <a:pt x="282" y="326"/>
                  </a:lnTo>
                  <a:lnTo>
                    <a:pt x="297" y="316"/>
                  </a:lnTo>
                  <a:lnTo>
                    <a:pt x="309" y="305"/>
                  </a:lnTo>
                  <a:lnTo>
                    <a:pt x="320" y="292"/>
                  </a:lnTo>
                  <a:lnTo>
                    <a:pt x="332" y="278"/>
                  </a:lnTo>
                  <a:lnTo>
                    <a:pt x="341" y="263"/>
                  </a:lnTo>
                  <a:lnTo>
                    <a:pt x="347" y="247"/>
                  </a:lnTo>
                  <a:lnTo>
                    <a:pt x="354" y="230"/>
                  </a:lnTo>
                  <a:lnTo>
                    <a:pt x="359" y="214"/>
                  </a:lnTo>
                  <a:lnTo>
                    <a:pt x="361" y="195"/>
                  </a:lnTo>
                  <a:lnTo>
                    <a:pt x="362" y="177"/>
                  </a:lnTo>
                  <a:lnTo>
                    <a:pt x="361" y="159"/>
                  </a:lnTo>
                  <a:lnTo>
                    <a:pt x="359" y="142"/>
                  </a:lnTo>
                  <a:lnTo>
                    <a:pt x="354" y="125"/>
                  </a:lnTo>
                  <a:lnTo>
                    <a:pt x="347" y="108"/>
                  </a:lnTo>
                  <a:lnTo>
                    <a:pt x="341" y="93"/>
                  </a:lnTo>
                  <a:lnTo>
                    <a:pt x="332" y="79"/>
                  </a:lnTo>
                  <a:lnTo>
                    <a:pt x="320" y="65"/>
                  </a:lnTo>
                  <a:lnTo>
                    <a:pt x="309" y="52"/>
                  </a:lnTo>
                  <a:lnTo>
                    <a:pt x="297" y="41"/>
                  </a:lnTo>
                  <a:lnTo>
                    <a:pt x="282" y="31"/>
                  </a:lnTo>
                  <a:lnTo>
                    <a:pt x="267" y="21"/>
                  </a:lnTo>
                  <a:lnTo>
                    <a:pt x="252" y="14"/>
                  </a:lnTo>
                  <a:lnTo>
                    <a:pt x="235" y="8"/>
                  </a:lnTo>
                  <a:lnTo>
                    <a:pt x="218" y="4"/>
                  </a:lnTo>
                  <a:lnTo>
                    <a:pt x="200" y="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01760" y="5511960"/>
              <a:ext cx="318600" cy="198360"/>
            </a:xfrm>
            <a:custGeom>
              <a:avLst/>
              <a:gdLst/>
              <a:ahLst/>
              <a:rect l="l" t="t" r="r" b="b"/>
              <a:pathLst>
                <a:path w="317" h="301">
                  <a:moveTo>
                    <a:pt x="159" y="0"/>
                  </a:moveTo>
                  <a:lnTo>
                    <a:pt x="127" y="3"/>
                  </a:lnTo>
                  <a:lnTo>
                    <a:pt x="97" y="11"/>
                  </a:lnTo>
                  <a:lnTo>
                    <a:pt x="70" y="25"/>
                  </a:lnTo>
                  <a:lnTo>
                    <a:pt x="46" y="44"/>
                  </a:lnTo>
                  <a:lnTo>
                    <a:pt x="27" y="66"/>
                  </a:lnTo>
                  <a:lnTo>
                    <a:pt x="12" y="91"/>
                  </a:lnTo>
                  <a:lnTo>
                    <a:pt x="3" y="120"/>
                  </a:lnTo>
                  <a:lnTo>
                    <a:pt x="0" y="149"/>
                  </a:lnTo>
                  <a:lnTo>
                    <a:pt x="3" y="180"/>
                  </a:lnTo>
                  <a:lnTo>
                    <a:pt x="12" y="208"/>
                  </a:lnTo>
                  <a:lnTo>
                    <a:pt x="27" y="235"/>
                  </a:lnTo>
                  <a:lnTo>
                    <a:pt x="46" y="256"/>
                  </a:lnTo>
                  <a:lnTo>
                    <a:pt x="70" y="276"/>
                  </a:lnTo>
                  <a:lnTo>
                    <a:pt x="97" y="290"/>
                  </a:lnTo>
                  <a:lnTo>
                    <a:pt x="127" y="298"/>
                  </a:lnTo>
                  <a:lnTo>
                    <a:pt x="159" y="301"/>
                  </a:lnTo>
                  <a:lnTo>
                    <a:pt x="190" y="298"/>
                  </a:lnTo>
                  <a:lnTo>
                    <a:pt x="220" y="290"/>
                  </a:lnTo>
                  <a:lnTo>
                    <a:pt x="247" y="276"/>
                  </a:lnTo>
                  <a:lnTo>
                    <a:pt x="270" y="256"/>
                  </a:lnTo>
                  <a:lnTo>
                    <a:pt x="289" y="235"/>
                  </a:lnTo>
                  <a:lnTo>
                    <a:pt x="304" y="208"/>
                  </a:lnTo>
                  <a:lnTo>
                    <a:pt x="313" y="180"/>
                  </a:lnTo>
                  <a:lnTo>
                    <a:pt x="317" y="149"/>
                  </a:lnTo>
                  <a:lnTo>
                    <a:pt x="313" y="120"/>
                  </a:lnTo>
                  <a:lnTo>
                    <a:pt x="304" y="91"/>
                  </a:lnTo>
                  <a:lnTo>
                    <a:pt x="289" y="66"/>
                  </a:lnTo>
                  <a:lnTo>
                    <a:pt x="270" y="44"/>
                  </a:lnTo>
                  <a:lnTo>
                    <a:pt x="247" y="25"/>
                  </a:lnTo>
                  <a:lnTo>
                    <a:pt x="220" y="11"/>
                  </a:lnTo>
                  <a:lnTo>
                    <a:pt x="190" y="3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2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24080" y="5530680"/>
              <a:ext cx="271080" cy="162000"/>
            </a:xfrm>
            <a:custGeom>
              <a:avLst/>
              <a:gdLst/>
              <a:ahLst/>
              <a:rect l="l" t="t" r="r" b="b"/>
              <a:pathLst>
                <a:path w="272" h="245">
                  <a:moveTo>
                    <a:pt x="137" y="0"/>
                  </a:moveTo>
                  <a:lnTo>
                    <a:pt x="110" y="3"/>
                  </a:lnTo>
                  <a:lnTo>
                    <a:pt x="84" y="10"/>
                  </a:lnTo>
                  <a:lnTo>
                    <a:pt x="60" y="21"/>
                  </a:lnTo>
                  <a:lnTo>
                    <a:pt x="40" y="35"/>
                  </a:lnTo>
                  <a:lnTo>
                    <a:pt x="24" y="54"/>
                  </a:lnTo>
                  <a:lnTo>
                    <a:pt x="10" y="75"/>
                  </a:lnTo>
                  <a:lnTo>
                    <a:pt x="3" y="97"/>
                  </a:lnTo>
                  <a:lnTo>
                    <a:pt x="0" y="121"/>
                  </a:lnTo>
                  <a:lnTo>
                    <a:pt x="3" y="146"/>
                  </a:lnTo>
                  <a:lnTo>
                    <a:pt x="10" y="169"/>
                  </a:lnTo>
                  <a:lnTo>
                    <a:pt x="24" y="190"/>
                  </a:lnTo>
                  <a:lnTo>
                    <a:pt x="40" y="208"/>
                  </a:lnTo>
                  <a:lnTo>
                    <a:pt x="60" y="224"/>
                  </a:lnTo>
                  <a:lnTo>
                    <a:pt x="84" y="235"/>
                  </a:lnTo>
                  <a:lnTo>
                    <a:pt x="110" y="242"/>
                  </a:lnTo>
                  <a:lnTo>
                    <a:pt x="137" y="245"/>
                  </a:lnTo>
                  <a:lnTo>
                    <a:pt x="164" y="242"/>
                  </a:lnTo>
                  <a:lnTo>
                    <a:pt x="190" y="235"/>
                  </a:lnTo>
                  <a:lnTo>
                    <a:pt x="212" y="224"/>
                  </a:lnTo>
                  <a:lnTo>
                    <a:pt x="233" y="208"/>
                  </a:lnTo>
                  <a:lnTo>
                    <a:pt x="248" y="190"/>
                  </a:lnTo>
                  <a:lnTo>
                    <a:pt x="262" y="169"/>
                  </a:lnTo>
                  <a:lnTo>
                    <a:pt x="270" y="146"/>
                  </a:lnTo>
                  <a:lnTo>
                    <a:pt x="272" y="121"/>
                  </a:lnTo>
                  <a:lnTo>
                    <a:pt x="270" y="97"/>
                  </a:lnTo>
                  <a:lnTo>
                    <a:pt x="262" y="75"/>
                  </a:lnTo>
                  <a:lnTo>
                    <a:pt x="248" y="54"/>
                  </a:lnTo>
                  <a:lnTo>
                    <a:pt x="233" y="35"/>
                  </a:lnTo>
                  <a:lnTo>
                    <a:pt x="212" y="21"/>
                  </a:lnTo>
                  <a:lnTo>
                    <a:pt x="190" y="10"/>
                  </a:lnTo>
                  <a:lnTo>
                    <a:pt x="164" y="3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2b7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46760" y="5549760"/>
              <a:ext cx="225720" cy="122400"/>
            </a:xfrm>
            <a:custGeom>
              <a:avLst/>
              <a:gdLst/>
              <a:ahLst/>
              <a:rect l="l" t="t" r="r" b="b"/>
              <a:pathLst>
                <a:path w="226" h="187">
                  <a:moveTo>
                    <a:pt x="114" y="0"/>
                  </a:moveTo>
                  <a:lnTo>
                    <a:pt x="91" y="2"/>
                  </a:lnTo>
                  <a:lnTo>
                    <a:pt x="70" y="7"/>
                  </a:lnTo>
                  <a:lnTo>
                    <a:pt x="49" y="16"/>
                  </a:lnTo>
                  <a:lnTo>
                    <a:pt x="34" y="27"/>
                  </a:lnTo>
                  <a:lnTo>
                    <a:pt x="19" y="41"/>
                  </a:lnTo>
                  <a:lnTo>
                    <a:pt x="9" y="57"/>
                  </a:lnTo>
                  <a:lnTo>
                    <a:pt x="2" y="75"/>
                  </a:lnTo>
                  <a:lnTo>
                    <a:pt x="0" y="93"/>
                  </a:lnTo>
                  <a:lnTo>
                    <a:pt x="2" y="113"/>
                  </a:lnTo>
                  <a:lnTo>
                    <a:pt x="9" y="130"/>
                  </a:lnTo>
                  <a:lnTo>
                    <a:pt x="19" y="145"/>
                  </a:lnTo>
                  <a:lnTo>
                    <a:pt x="34" y="159"/>
                  </a:lnTo>
                  <a:lnTo>
                    <a:pt x="49" y="172"/>
                  </a:lnTo>
                  <a:lnTo>
                    <a:pt x="70" y="180"/>
                  </a:lnTo>
                  <a:lnTo>
                    <a:pt x="91" y="186"/>
                  </a:lnTo>
                  <a:lnTo>
                    <a:pt x="114" y="187"/>
                  </a:lnTo>
                  <a:lnTo>
                    <a:pt x="136" y="186"/>
                  </a:lnTo>
                  <a:lnTo>
                    <a:pt x="158" y="180"/>
                  </a:lnTo>
                  <a:lnTo>
                    <a:pt x="177" y="172"/>
                  </a:lnTo>
                  <a:lnTo>
                    <a:pt x="194" y="159"/>
                  </a:lnTo>
                  <a:lnTo>
                    <a:pt x="207" y="145"/>
                  </a:lnTo>
                  <a:lnTo>
                    <a:pt x="217" y="130"/>
                  </a:lnTo>
                  <a:lnTo>
                    <a:pt x="224" y="113"/>
                  </a:lnTo>
                  <a:lnTo>
                    <a:pt x="226" y="93"/>
                  </a:lnTo>
                  <a:lnTo>
                    <a:pt x="224" y="75"/>
                  </a:lnTo>
                  <a:lnTo>
                    <a:pt x="217" y="57"/>
                  </a:lnTo>
                  <a:lnTo>
                    <a:pt x="207" y="41"/>
                  </a:lnTo>
                  <a:lnTo>
                    <a:pt x="194" y="27"/>
                  </a:lnTo>
                  <a:lnTo>
                    <a:pt x="177" y="16"/>
                  </a:lnTo>
                  <a:lnTo>
                    <a:pt x="158" y="7"/>
                  </a:lnTo>
                  <a:lnTo>
                    <a:pt x="136" y="2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2a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69440" y="5567400"/>
              <a:ext cx="181080" cy="85680"/>
            </a:xfrm>
            <a:custGeom>
              <a:avLst/>
              <a:gdLst/>
              <a:ahLst/>
              <a:rect l="l" t="t" r="r" b="b"/>
              <a:pathLst>
                <a:path w="182" h="131">
                  <a:moveTo>
                    <a:pt x="92" y="0"/>
                  </a:moveTo>
                  <a:lnTo>
                    <a:pt x="74" y="2"/>
                  </a:lnTo>
                  <a:lnTo>
                    <a:pt x="56" y="6"/>
                  </a:lnTo>
                  <a:lnTo>
                    <a:pt x="41" y="12"/>
                  </a:lnTo>
                  <a:lnTo>
                    <a:pt x="27" y="19"/>
                  </a:lnTo>
                  <a:lnTo>
                    <a:pt x="16" y="29"/>
                  </a:lnTo>
                  <a:lnTo>
                    <a:pt x="7" y="40"/>
                  </a:lnTo>
                  <a:lnTo>
                    <a:pt x="3" y="52"/>
                  </a:lnTo>
                  <a:lnTo>
                    <a:pt x="0" y="65"/>
                  </a:lnTo>
                  <a:lnTo>
                    <a:pt x="3" y="78"/>
                  </a:lnTo>
                  <a:lnTo>
                    <a:pt x="7" y="90"/>
                  </a:lnTo>
                  <a:lnTo>
                    <a:pt x="16" y="102"/>
                  </a:lnTo>
                  <a:lnTo>
                    <a:pt x="27" y="111"/>
                  </a:lnTo>
                  <a:lnTo>
                    <a:pt x="41" y="120"/>
                  </a:lnTo>
                  <a:lnTo>
                    <a:pt x="56" y="126"/>
                  </a:lnTo>
                  <a:lnTo>
                    <a:pt x="74" y="130"/>
                  </a:lnTo>
                  <a:lnTo>
                    <a:pt x="92" y="131"/>
                  </a:lnTo>
                  <a:lnTo>
                    <a:pt x="110" y="130"/>
                  </a:lnTo>
                  <a:lnTo>
                    <a:pt x="127" y="126"/>
                  </a:lnTo>
                  <a:lnTo>
                    <a:pt x="141" y="120"/>
                  </a:lnTo>
                  <a:lnTo>
                    <a:pt x="155" y="111"/>
                  </a:lnTo>
                  <a:lnTo>
                    <a:pt x="166" y="102"/>
                  </a:lnTo>
                  <a:lnTo>
                    <a:pt x="175" y="90"/>
                  </a:lnTo>
                  <a:lnTo>
                    <a:pt x="180" y="78"/>
                  </a:lnTo>
                  <a:lnTo>
                    <a:pt x="182" y="65"/>
                  </a:lnTo>
                  <a:lnTo>
                    <a:pt x="180" y="52"/>
                  </a:lnTo>
                  <a:lnTo>
                    <a:pt x="175" y="40"/>
                  </a:lnTo>
                  <a:lnTo>
                    <a:pt x="166" y="29"/>
                  </a:lnTo>
                  <a:lnTo>
                    <a:pt x="155" y="19"/>
                  </a:lnTo>
                  <a:lnTo>
                    <a:pt x="141" y="12"/>
                  </a:lnTo>
                  <a:lnTo>
                    <a:pt x="127" y="6"/>
                  </a:lnTo>
                  <a:lnTo>
                    <a:pt x="110" y="2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29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66120" y="5589720"/>
              <a:ext cx="274320" cy="129960"/>
            </a:xfrm>
            <a:custGeom>
              <a:avLst/>
              <a:gdLst/>
              <a:ahLst/>
              <a:rect l="l" t="t" r="r" b="b"/>
              <a:pathLst>
                <a:path w="273" h="197">
                  <a:moveTo>
                    <a:pt x="136" y="158"/>
                  </a:moveTo>
                  <a:lnTo>
                    <a:pt x="104" y="145"/>
                  </a:lnTo>
                  <a:lnTo>
                    <a:pt x="75" y="125"/>
                  </a:lnTo>
                  <a:lnTo>
                    <a:pt x="52" y="99"/>
                  </a:lnTo>
                  <a:lnTo>
                    <a:pt x="32" y="72"/>
                  </a:lnTo>
                  <a:lnTo>
                    <a:pt x="18" y="45"/>
                  </a:lnTo>
                  <a:lnTo>
                    <a:pt x="8" y="23"/>
                  </a:lnTo>
                  <a:lnTo>
                    <a:pt x="2" y="6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31"/>
                  </a:lnTo>
                  <a:lnTo>
                    <a:pt x="8" y="62"/>
                  </a:lnTo>
                  <a:lnTo>
                    <a:pt x="17" y="99"/>
                  </a:lnTo>
                  <a:lnTo>
                    <a:pt x="29" y="135"/>
                  </a:lnTo>
                  <a:lnTo>
                    <a:pt x="47" y="166"/>
                  </a:lnTo>
                  <a:lnTo>
                    <a:pt x="70" y="189"/>
                  </a:lnTo>
                  <a:lnTo>
                    <a:pt x="100" y="197"/>
                  </a:lnTo>
                  <a:lnTo>
                    <a:pt x="133" y="196"/>
                  </a:lnTo>
                  <a:lnTo>
                    <a:pt x="164" y="191"/>
                  </a:lnTo>
                  <a:lnTo>
                    <a:pt x="194" y="187"/>
                  </a:lnTo>
                  <a:lnTo>
                    <a:pt x="220" y="180"/>
                  </a:lnTo>
                  <a:lnTo>
                    <a:pt x="241" y="174"/>
                  </a:lnTo>
                  <a:lnTo>
                    <a:pt x="258" y="170"/>
                  </a:lnTo>
                  <a:lnTo>
                    <a:pt x="269" y="166"/>
                  </a:lnTo>
                  <a:lnTo>
                    <a:pt x="273" y="165"/>
                  </a:lnTo>
                  <a:lnTo>
                    <a:pt x="270" y="165"/>
                  </a:lnTo>
                  <a:lnTo>
                    <a:pt x="265" y="166"/>
                  </a:lnTo>
                  <a:lnTo>
                    <a:pt x="255" y="167"/>
                  </a:lnTo>
                  <a:lnTo>
                    <a:pt x="240" y="169"/>
                  </a:lnTo>
                  <a:lnTo>
                    <a:pt x="221" y="169"/>
                  </a:lnTo>
                  <a:lnTo>
                    <a:pt x="197" y="167"/>
                  </a:lnTo>
                  <a:lnTo>
                    <a:pt x="169" y="163"/>
                  </a:lnTo>
                  <a:lnTo>
                    <a:pt x="13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3558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55680" y="22683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09600" y="1219320"/>
            <a:ext cx="7324920" cy="4375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828800" y="2332080"/>
            <a:ext cx="6039000" cy="13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ore Word Problems</a:t>
            </a:r>
            <a:endParaRPr b="1" lang="en-US" sz="4400" spc="1" strike="noStrike">
              <a:ln w="0">
                <a:noFill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1209600" y="4662360"/>
            <a:ext cx="1981440" cy="1862280"/>
          </a:xfrm>
          <a:custGeom>
            <a:avLst/>
            <a:gdLst/>
            <a:ahLst/>
            <a:rect l="l" t="t" r="r" b="b"/>
            <a:pathLst>
              <a:path w="1980" h="2827">
                <a:moveTo>
                  <a:pt x="1257" y="180"/>
                </a:moveTo>
                <a:lnTo>
                  <a:pt x="1250" y="184"/>
                </a:lnTo>
                <a:lnTo>
                  <a:pt x="1243" y="188"/>
                </a:lnTo>
                <a:lnTo>
                  <a:pt x="1236" y="194"/>
                </a:lnTo>
                <a:lnTo>
                  <a:pt x="1231" y="199"/>
                </a:lnTo>
                <a:lnTo>
                  <a:pt x="1224" y="205"/>
                </a:lnTo>
                <a:lnTo>
                  <a:pt x="1218" y="210"/>
                </a:lnTo>
                <a:lnTo>
                  <a:pt x="1214" y="216"/>
                </a:lnTo>
                <a:lnTo>
                  <a:pt x="1208" y="223"/>
                </a:lnTo>
                <a:lnTo>
                  <a:pt x="1226" y="232"/>
                </a:lnTo>
                <a:lnTo>
                  <a:pt x="1243" y="240"/>
                </a:lnTo>
                <a:lnTo>
                  <a:pt x="1260" y="248"/>
                </a:lnTo>
                <a:lnTo>
                  <a:pt x="1277" y="257"/>
                </a:lnTo>
                <a:lnTo>
                  <a:pt x="1293" y="264"/>
                </a:lnTo>
                <a:lnTo>
                  <a:pt x="1309" y="271"/>
                </a:lnTo>
                <a:lnTo>
                  <a:pt x="1324" y="278"/>
                </a:lnTo>
                <a:lnTo>
                  <a:pt x="1339" y="284"/>
                </a:lnTo>
                <a:lnTo>
                  <a:pt x="1402" y="309"/>
                </a:lnTo>
                <a:lnTo>
                  <a:pt x="1460" y="337"/>
                </a:lnTo>
                <a:lnTo>
                  <a:pt x="1510" y="366"/>
                </a:lnTo>
                <a:lnTo>
                  <a:pt x="1557" y="397"/>
                </a:lnTo>
                <a:lnTo>
                  <a:pt x="1596" y="431"/>
                </a:lnTo>
                <a:lnTo>
                  <a:pt x="1631" y="466"/>
                </a:lnTo>
                <a:lnTo>
                  <a:pt x="1661" y="503"/>
                </a:lnTo>
                <a:lnTo>
                  <a:pt x="1687" y="541"/>
                </a:lnTo>
                <a:lnTo>
                  <a:pt x="1710" y="582"/>
                </a:lnTo>
                <a:lnTo>
                  <a:pt x="1728" y="622"/>
                </a:lnTo>
                <a:lnTo>
                  <a:pt x="1744" y="664"/>
                </a:lnTo>
                <a:lnTo>
                  <a:pt x="1755" y="708"/>
                </a:lnTo>
                <a:lnTo>
                  <a:pt x="1765" y="753"/>
                </a:lnTo>
                <a:lnTo>
                  <a:pt x="1772" y="798"/>
                </a:lnTo>
                <a:lnTo>
                  <a:pt x="1778" y="844"/>
                </a:lnTo>
                <a:lnTo>
                  <a:pt x="1781" y="892"/>
                </a:lnTo>
                <a:lnTo>
                  <a:pt x="1781" y="895"/>
                </a:lnTo>
                <a:lnTo>
                  <a:pt x="1781" y="898"/>
                </a:lnTo>
                <a:lnTo>
                  <a:pt x="1781" y="902"/>
                </a:lnTo>
                <a:lnTo>
                  <a:pt x="1781" y="905"/>
                </a:lnTo>
                <a:lnTo>
                  <a:pt x="1783" y="905"/>
                </a:lnTo>
                <a:lnTo>
                  <a:pt x="1787" y="905"/>
                </a:lnTo>
                <a:lnTo>
                  <a:pt x="1789" y="905"/>
                </a:lnTo>
                <a:lnTo>
                  <a:pt x="1791" y="906"/>
                </a:lnTo>
                <a:lnTo>
                  <a:pt x="1802" y="908"/>
                </a:lnTo>
                <a:lnTo>
                  <a:pt x="1812" y="910"/>
                </a:lnTo>
                <a:lnTo>
                  <a:pt x="1820" y="913"/>
                </a:lnTo>
                <a:lnTo>
                  <a:pt x="1828" y="916"/>
                </a:lnTo>
                <a:lnTo>
                  <a:pt x="1834" y="920"/>
                </a:lnTo>
                <a:lnTo>
                  <a:pt x="1838" y="925"/>
                </a:lnTo>
                <a:lnTo>
                  <a:pt x="1842" y="927"/>
                </a:lnTo>
                <a:lnTo>
                  <a:pt x="1844" y="932"/>
                </a:lnTo>
                <a:lnTo>
                  <a:pt x="1849" y="916"/>
                </a:lnTo>
                <a:lnTo>
                  <a:pt x="1854" y="902"/>
                </a:lnTo>
                <a:lnTo>
                  <a:pt x="1860" y="889"/>
                </a:lnTo>
                <a:lnTo>
                  <a:pt x="1867" y="878"/>
                </a:lnTo>
                <a:lnTo>
                  <a:pt x="1874" y="868"/>
                </a:lnTo>
                <a:lnTo>
                  <a:pt x="1881" y="861"/>
                </a:lnTo>
                <a:lnTo>
                  <a:pt x="1890" y="856"/>
                </a:lnTo>
                <a:lnTo>
                  <a:pt x="1898" y="853"/>
                </a:lnTo>
                <a:lnTo>
                  <a:pt x="1898" y="903"/>
                </a:lnTo>
                <a:lnTo>
                  <a:pt x="1888" y="909"/>
                </a:lnTo>
                <a:lnTo>
                  <a:pt x="1879" y="918"/>
                </a:lnTo>
                <a:lnTo>
                  <a:pt x="1871" y="929"/>
                </a:lnTo>
                <a:lnTo>
                  <a:pt x="1863" y="944"/>
                </a:lnTo>
                <a:lnTo>
                  <a:pt x="1858" y="961"/>
                </a:lnTo>
                <a:lnTo>
                  <a:pt x="1853" y="979"/>
                </a:lnTo>
                <a:lnTo>
                  <a:pt x="1850" y="1000"/>
                </a:lnTo>
                <a:lnTo>
                  <a:pt x="1849" y="1023"/>
                </a:lnTo>
                <a:lnTo>
                  <a:pt x="1849" y="1024"/>
                </a:lnTo>
                <a:lnTo>
                  <a:pt x="1850" y="1024"/>
                </a:lnTo>
                <a:lnTo>
                  <a:pt x="1850" y="1026"/>
                </a:lnTo>
                <a:lnTo>
                  <a:pt x="1850" y="1027"/>
                </a:lnTo>
                <a:lnTo>
                  <a:pt x="1859" y="1052"/>
                </a:lnTo>
                <a:lnTo>
                  <a:pt x="1865" y="1076"/>
                </a:lnTo>
                <a:lnTo>
                  <a:pt x="1870" y="1099"/>
                </a:lnTo>
                <a:lnTo>
                  <a:pt x="1873" y="1120"/>
                </a:lnTo>
                <a:lnTo>
                  <a:pt x="1877" y="1126"/>
                </a:lnTo>
                <a:lnTo>
                  <a:pt x="1880" y="1130"/>
                </a:lnTo>
                <a:lnTo>
                  <a:pt x="1885" y="1133"/>
                </a:lnTo>
                <a:lnTo>
                  <a:pt x="1889" y="1137"/>
                </a:lnTo>
                <a:lnTo>
                  <a:pt x="1893" y="1140"/>
                </a:lnTo>
                <a:lnTo>
                  <a:pt x="1897" y="1141"/>
                </a:lnTo>
                <a:lnTo>
                  <a:pt x="1903" y="1142"/>
                </a:lnTo>
                <a:lnTo>
                  <a:pt x="1907" y="1142"/>
                </a:lnTo>
                <a:lnTo>
                  <a:pt x="1918" y="1140"/>
                </a:lnTo>
                <a:lnTo>
                  <a:pt x="1930" y="1133"/>
                </a:lnTo>
                <a:lnTo>
                  <a:pt x="1939" y="1121"/>
                </a:lnTo>
                <a:lnTo>
                  <a:pt x="1948" y="1107"/>
                </a:lnTo>
                <a:lnTo>
                  <a:pt x="1955" y="1090"/>
                </a:lnTo>
                <a:lnTo>
                  <a:pt x="1960" y="1069"/>
                </a:lnTo>
                <a:lnTo>
                  <a:pt x="1964" y="1047"/>
                </a:lnTo>
                <a:lnTo>
                  <a:pt x="1965" y="1023"/>
                </a:lnTo>
                <a:lnTo>
                  <a:pt x="1964" y="999"/>
                </a:lnTo>
                <a:lnTo>
                  <a:pt x="1960" y="977"/>
                </a:lnTo>
                <a:lnTo>
                  <a:pt x="1955" y="955"/>
                </a:lnTo>
                <a:lnTo>
                  <a:pt x="1948" y="937"/>
                </a:lnTo>
                <a:lnTo>
                  <a:pt x="1939" y="923"/>
                </a:lnTo>
                <a:lnTo>
                  <a:pt x="1930" y="912"/>
                </a:lnTo>
                <a:lnTo>
                  <a:pt x="1918" y="905"/>
                </a:lnTo>
                <a:lnTo>
                  <a:pt x="1907" y="902"/>
                </a:lnTo>
                <a:lnTo>
                  <a:pt x="1905" y="902"/>
                </a:lnTo>
                <a:lnTo>
                  <a:pt x="1903" y="902"/>
                </a:lnTo>
                <a:lnTo>
                  <a:pt x="1900" y="903"/>
                </a:lnTo>
                <a:lnTo>
                  <a:pt x="1898" y="903"/>
                </a:lnTo>
                <a:lnTo>
                  <a:pt x="1898" y="853"/>
                </a:lnTo>
                <a:lnTo>
                  <a:pt x="1900" y="853"/>
                </a:lnTo>
                <a:lnTo>
                  <a:pt x="1903" y="851"/>
                </a:lnTo>
                <a:lnTo>
                  <a:pt x="1905" y="851"/>
                </a:lnTo>
                <a:lnTo>
                  <a:pt x="1907" y="851"/>
                </a:lnTo>
                <a:lnTo>
                  <a:pt x="1922" y="854"/>
                </a:lnTo>
                <a:lnTo>
                  <a:pt x="1935" y="864"/>
                </a:lnTo>
                <a:lnTo>
                  <a:pt x="1948" y="881"/>
                </a:lnTo>
                <a:lnTo>
                  <a:pt x="1959" y="901"/>
                </a:lnTo>
                <a:lnTo>
                  <a:pt x="1968" y="927"/>
                </a:lnTo>
                <a:lnTo>
                  <a:pt x="1975" y="955"/>
                </a:lnTo>
                <a:lnTo>
                  <a:pt x="1979" y="988"/>
                </a:lnTo>
                <a:lnTo>
                  <a:pt x="1980" y="1023"/>
                </a:lnTo>
                <a:lnTo>
                  <a:pt x="1979" y="1057"/>
                </a:lnTo>
                <a:lnTo>
                  <a:pt x="1975" y="1089"/>
                </a:lnTo>
                <a:lnTo>
                  <a:pt x="1968" y="1119"/>
                </a:lnTo>
                <a:lnTo>
                  <a:pt x="1959" y="1144"/>
                </a:lnTo>
                <a:lnTo>
                  <a:pt x="1948" y="1165"/>
                </a:lnTo>
                <a:lnTo>
                  <a:pt x="1935" y="1180"/>
                </a:lnTo>
                <a:lnTo>
                  <a:pt x="1922" y="1192"/>
                </a:lnTo>
                <a:lnTo>
                  <a:pt x="1907" y="1194"/>
                </a:lnTo>
                <a:lnTo>
                  <a:pt x="1899" y="1193"/>
                </a:lnTo>
                <a:lnTo>
                  <a:pt x="1891" y="1190"/>
                </a:lnTo>
                <a:lnTo>
                  <a:pt x="1884" y="1186"/>
                </a:lnTo>
                <a:lnTo>
                  <a:pt x="1877" y="1179"/>
                </a:lnTo>
                <a:lnTo>
                  <a:pt x="1876" y="1189"/>
                </a:lnTo>
                <a:lnTo>
                  <a:pt x="1876" y="1194"/>
                </a:lnTo>
                <a:lnTo>
                  <a:pt x="1876" y="1199"/>
                </a:lnTo>
                <a:lnTo>
                  <a:pt x="1876" y="1200"/>
                </a:lnTo>
                <a:lnTo>
                  <a:pt x="1878" y="1203"/>
                </a:lnTo>
                <a:lnTo>
                  <a:pt x="1884" y="1213"/>
                </a:lnTo>
                <a:lnTo>
                  <a:pt x="1891" y="1225"/>
                </a:lnTo>
                <a:lnTo>
                  <a:pt x="1899" y="1242"/>
                </a:lnTo>
                <a:lnTo>
                  <a:pt x="1906" y="1259"/>
                </a:lnTo>
                <a:lnTo>
                  <a:pt x="1909" y="1276"/>
                </a:lnTo>
                <a:lnTo>
                  <a:pt x="1908" y="1293"/>
                </a:lnTo>
                <a:lnTo>
                  <a:pt x="1902" y="1306"/>
                </a:lnTo>
                <a:lnTo>
                  <a:pt x="1895" y="1310"/>
                </a:lnTo>
                <a:lnTo>
                  <a:pt x="1884" y="1313"/>
                </a:lnTo>
                <a:lnTo>
                  <a:pt x="1869" y="1315"/>
                </a:lnTo>
                <a:lnTo>
                  <a:pt x="1851" y="1315"/>
                </a:lnTo>
                <a:lnTo>
                  <a:pt x="1832" y="1315"/>
                </a:lnTo>
                <a:lnTo>
                  <a:pt x="1810" y="1314"/>
                </a:lnTo>
                <a:lnTo>
                  <a:pt x="1789" y="1313"/>
                </a:lnTo>
                <a:lnTo>
                  <a:pt x="1766" y="1310"/>
                </a:lnTo>
                <a:lnTo>
                  <a:pt x="1764" y="1320"/>
                </a:lnTo>
                <a:lnTo>
                  <a:pt x="1763" y="1329"/>
                </a:lnTo>
                <a:lnTo>
                  <a:pt x="1761" y="1341"/>
                </a:lnTo>
                <a:lnTo>
                  <a:pt x="1758" y="1351"/>
                </a:lnTo>
                <a:lnTo>
                  <a:pt x="1740" y="1436"/>
                </a:lnTo>
                <a:lnTo>
                  <a:pt x="1729" y="1516"/>
                </a:lnTo>
                <a:lnTo>
                  <a:pt x="1723" y="1594"/>
                </a:lnTo>
                <a:lnTo>
                  <a:pt x="1721" y="1668"/>
                </a:lnTo>
                <a:lnTo>
                  <a:pt x="1723" y="1737"/>
                </a:lnTo>
                <a:lnTo>
                  <a:pt x="1727" y="1802"/>
                </a:lnTo>
                <a:lnTo>
                  <a:pt x="1732" y="1862"/>
                </a:lnTo>
                <a:lnTo>
                  <a:pt x="1738" y="1918"/>
                </a:lnTo>
                <a:lnTo>
                  <a:pt x="1740" y="1935"/>
                </a:lnTo>
                <a:lnTo>
                  <a:pt x="1743" y="1952"/>
                </a:lnTo>
                <a:lnTo>
                  <a:pt x="1745" y="1968"/>
                </a:lnTo>
                <a:lnTo>
                  <a:pt x="1748" y="1982"/>
                </a:lnTo>
                <a:lnTo>
                  <a:pt x="1750" y="1993"/>
                </a:lnTo>
                <a:lnTo>
                  <a:pt x="1754" y="2004"/>
                </a:lnTo>
                <a:lnTo>
                  <a:pt x="1756" y="2015"/>
                </a:lnTo>
                <a:lnTo>
                  <a:pt x="1758" y="2027"/>
                </a:lnTo>
                <a:lnTo>
                  <a:pt x="1767" y="2029"/>
                </a:lnTo>
                <a:lnTo>
                  <a:pt x="1776" y="2032"/>
                </a:lnTo>
                <a:lnTo>
                  <a:pt x="1784" y="2037"/>
                </a:lnTo>
                <a:lnTo>
                  <a:pt x="1792" y="2041"/>
                </a:lnTo>
                <a:lnTo>
                  <a:pt x="1798" y="2048"/>
                </a:lnTo>
                <a:lnTo>
                  <a:pt x="1802" y="2055"/>
                </a:lnTo>
                <a:lnTo>
                  <a:pt x="1806" y="2063"/>
                </a:lnTo>
                <a:lnTo>
                  <a:pt x="1808" y="2073"/>
                </a:lnTo>
                <a:lnTo>
                  <a:pt x="1809" y="2096"/>
                </a:lnTo>
                <a:lnTo>
                  <a:pt x="1808" y="2117"/>
                </a:lnTo>
                <a:lnTo>
                  <a:pt x="1803" y="2138"/>
                </a:lnTo>
                <a:lnTo>
                  <a:pt x="1798" y="2156"/>
                </a:lnTo>
                <a:lnTo>
                  <a:pt x="1811" y="2197"/>
                </a:lnTo>
                <a:lnTo>
                  <a:pt x="1823" y="2238"/>
                </a:lnTo>
                <a:lnTo>
                  <a:pt x="1829" y="2275"/>
                </a:lnTo>
                <a:lnTo>
                  <a:pt x="1832" y="2312"/>
                </a:lnTo>
                <a:lnTo>
                  <a:pt x="1826" y="2347"/>
                </a:lnTo>
                <a:lnTo>
                  <a:pt x="1812" y="2381"/>
                </a:lnTo>
                <a:lnTo>
                  <a:pt x="1788" y="2412"/>
                </a:lnTo>
                <a:lnTo>
                  <a:pt x="1752" y="2441"/>
                </a:lnTo>
                <a:lnTo>
                  <a:pt x="1734" y="2454"/>
                </a:lnTo>
                <a:lnTo>
                  <a:pt x="1717" y="2464"/>
                </a:lnTo>
                <a:lnTo>
                  <a:pt x="1701" y="2474"/>
                </a:lnTo>
                <a:lnTo>
                  <a:pt x="1685" y="2481"/>
                </a:lnTo>
                <a:lnTo>
                  <a:pt x="1669" y="2488"/>
                </a:lnTo>
                <a:lnTo>
                  <a:pt x="1652" y="2493"/>
                </a:lnTo>
                <a:lnTo>
                  <a:pt x="1634" y="2498"/>
                </a:lnTo>
                <a:lnTo>
                  <a:pt x="1615" y="2500"/>
                </a:lnTo>
                <a:lnTo>
                  <a:pt x="1588" y="2744"/>
                </a:lnTo>
                <a:lnTo>
                  <a:pt x="1599" y="2794"/>
                </a:lnTo>
                <a:lnTo>
                  <a:pt x="1564" y="2801"/>
                </a:lnTo>
                <a:lnTo>
                  <a:pt x="1562" y="2803"/>
                </a:lnTo>
                <a:lnTo>
                  <a:pt x="1559" y="2805"/>
                </a:lnTo>
                <a:lnTo>
                  <a:pt x="1553" y="2808"/>
                </a:lnTo>
                <a:lnTo>
                  <a:pt x="1545" y="2812"/>
                </a:lnTo>
                <a:lnTo>
                  <a:pt x="1535" y="2817"/>
                </a:lnTo>
                <a:lnTo>
                  <a:pt x="1523" y="2821"/>
                </a:lnTo>
                <a:lnTo>
                  <a:pt x="1507" y="2824"/>
                </a:lnTo>
                <a:lnTo>
                  <a:pt x="1489" y="2827"/>
                </a:lnTo>
                <a:lnTo>
                  <a:pt x="1467" y="2827"/>
                </a:lnTo>
                <a:lnTo>
                  <a:pt x="1443" y="2824"/>
                </a:lnTo>
                <a:lnTo>
                  <a:pt x="1413" y="2820"/>
                </a:lnTo>
                <a:lnTo>
                  <a:pt x="1382" y="2811"/>
                </a:lnTo>
                <a:lnTo>
                  <a:pt x="1346" y="2800"/>
                </a:lnTo>
                <a:lnTo>
                  <a:pt x="1305" y="2784"/>
                </a:lnTo>
                <a:lnTo>
                  <a:pt x="1261" y="2765"/>
                </a:lnTo>
                <a:lnTo>
                  <a:pt x="1212" y="2739"/>
                </a:lnTo>
                <a:lnTo>
                  <a:pt x="1157" y="2710"/>
                </a:lnTo>
                <a:lnTo>
                  <a:pt x="1108" y="2683"/>
                </a:lnTo>
                <a:lnTo>
                  <a:pt x="1063" y="2658"/>
                </a:lnTo>
                <a:lnTo>
                  <a:pt x="1022" y="2634"/>
                </a:lnTo>
                <a:lnTo>
                  <a:pt x="985" y="2611"/>
                </a:lnTo>
                <a:lnTo>
                  <a:pt x="952" y="2592"/>
                </a:lnTo>
                <a:lnTo>
                  <a:pt x="923" y="2574"/>
                </a:lnTo>
                <a:lnTo>
                  <a:pt x="897" y="2558"/>
                </a:lnTo>
                <a:lnTo>
                  <a:pt x="874" y="2543"/>
                </a:lnTo>
                <a:lnTo>
                  <a:pt x="855" y="2530"/>
                </a:lnTo>
                <a:lnTo>
                  <a:pt x="840" y="2519"/>
                </a:lnTo>
                <a:lnTo>
                  <a:pt x="827" y="2510"/>
                </a:lnTo>
                <a:lnTo>
                  <a:pt x="817" y="2502"/>
                </a:lnTo>
                <a:lnTo>
                  <a:pt x="809" y="2496"/>
                </a:lnTo>
                <a:lnTo>
                  <a:pt x="805" y="2493"/>
                </a:lnTo>
                <a:lnTo>
                  <a:pt x="802" y="2491"/>
                </a:lnTo>
                <a:lnTo>
                  <a:pt x="697" y="2126"/>
                </a:lnTo>
                <a:lnTo>
                  <a:pt x="695" y="2134"/>
                </a:lnTo>
                <a:lnTo>
                  <a:pt x="692" y="2142"/>
                </a:lnTo>
                <a:lnTo>
                  <a:pt x="688" y="2150"/>
                </a:lnTo>
                <a:lnTo>
                  <a:pt x="684" y="2160"/>
                </a:lnTo>
                <a:lnTo>
                  <a:pt x="679" y="2169"/>
                </a:lnTo>
                <a:lnTo>
                  <a:pt x="675" y="2177"/>
                </a:lnTo>
                <a:lnTo>
                  <a:pt x="669" y="2186"/>
                </a:lnTo>
                <a:lnTo>
                  <a:pt x="663" y="2194"/>
                </a:lnTo>
                <a:lnTo>
                  <a:pt x="650" y="2209"/>
                </a:lnTo>
                <a:lnTo>
                  <a:pt x="635" y="2228"/>
                </a:lnTo>
                <a:lnTo>
                  <a:pt x="620" y="2247"/>
                </a:lnTo>
                <a:lnTo>
                  <a:pt x="604" y="2264"/>
                </a:lnTo>
                <a:lnTo>
                  <a:pt x="589" y="2281"/>
                </a:lnTo>
                <a:lnTo>
                  <a:pt x="577" y="2294"/>
                </a:lnTo>
                <a:lnTo>
                  <a:pt x="566" y="2304"/>
                </a:lnTo>
                <a:lnTo>
                  <a:pt x="558" y="2306"/>
                </a:lnTo>
                <a:lnTo>
                  <a:pt x="550" y="2306"/>
                </a:lnTo>
                <a:lnTo>
                  <a:pt x="540" y="2306"/>
                </a:lnTo>
                <a:lnTo>
                  <a:pt x="527" y="2306"/>
                </a:lnTo>
                <a:lnTo>
                  <a:pt x="515" y="2306"/>
                </a:lnTo>
                <a:lnTo>
                  <a:pt x="504" y="2306"/>
                </a:lnTo>
                <a:lnTo>
                  <a:pt x="493" y="2306"/>
                </a:lnTo>
                <a:lnTo>
                  <a:pt x="487" y="2306"/>
                </a:lnTo>
                <a:lnTo>
                  <a:pt x="484" y="2306"/>
                </a:lnTo>
                <a:lnTo>
                  <a:pt x="479" y="2228"/>
                </a:lnTo>
                <a:lnTo>
                  <a:pt x="458" y="2280"/>
                </a:lnTo>
                <a:lnTo>
                  <a:pt x="431" y="2273"/>
                </a:lnTo>
                <a:lnTo>
                  <a:pt x="431" y="2228"/>
                </a:lnTo>
                <a:lnTo>
                  <a:pt x="427" y="2228"/>
                </a:lnTo>
                <a:lnTo>
                  <a:pt x="413" y="2229"/>
                </a:lnTo>
                <a:lnTo>
                  <a:pt x="394" y="2228"/>
                </a:lnTo>
                <a:lnTo>
                  <a:pt x="372" y="2225"/>
                </a:lnTo>
                <a:lnTo>
                  <a:pt x="348" y="2219"/>
                </a:lnTo>
                <a:lnTo>
                  <a:pt x="325" y="2208"/>
                </a:lnTo>
                <a:lnTo>
                  <a:pt x="307" y="2191"/>
                </a:lnTo>
                <a:lnTo>
                  <a:pt x="295" y="2169"/>
                </a:lnTo>
                <a:lnTo>
                  <a:pt x="286" y="2136"/>
                </a:lnTo>
                <a:lnTo>
                  <a:pt x="277" y="2097"/>
                </a:lnTo>
                <a:lnTo>
                  <a:pt x="268" y="2051"/>
                </a:lnTo>
                <a:lnTo>
                  <a:pt x="263" y="2001"/>
                </a:lnTo>
                <a:lnTo>
                  <a:pt x="262" y="1952"/>
                </a:lnTo>
                <a:lnTo>
                  <a:pt x="269" y="1903"/>
                </a:lnTo>
                <a:lnTo>
                  <a:pt x="285" y="1859"/>
                </a:lnTo>
                <a:lnTo>
                  <a:pt x="311" y="1821"/>
                </a:lnTo>
                <a:lnTo>
                  <a:pt x="322" y="1810"/>
                </a:lnTo>
                <a:lnTo>
                  <a:pt x="334" y="1802"/>
                </a:lnTo>
                <a:lnTo>
                  <a:pt x="347" y="1793"/>
                </a:lnTo>
                <a:lnTo>
                  <a:pt x="359" y="1786"/>
                </a:lnTo>
                <a:lnTo>
                  <a:pt x="372" y="1779"/>
                </a:lnTo>
                <a:lnTo>
                  <a:pt x="385" y="1774"/>
                </a:lnTo>
                <a:lnTo>
                  <a:pt x="399" y="1769"/>
                </a:lnTo>
                <a:lnTo>
                  <a:pt x="412" y="1767"/>
                </a:lnTo>
                <a:lnTo>
                  <a:pt x="425" y="1764"/>
                </a:lnTo>
                <a:lnTo>
                  <a:pt x="438" y="1761"/>
                </a:lnTo>
                <a:lnTo>
                  <a:pt x="451" y="1760"/>
                </a:lnTo>
                <a:lnTo>
                  <a:pt x="463" y="1758"/>
                </a:lnTo>
                <a:lnTo>
                  <a:pt x="475" y="1758"/>
                </a:lnTo>
                <a:lnTo>
                  <a:pt x="487" y="1758"/>
                </a:lnTo>
                <a:lnTo>
                  <a:pt x="497" y="1758"/>
                </a:lnTo>
                <a:lnTo>
                  <a:pt x="507" y="1758"/>
                </a:lnTo>
                <a:lnTo>
                  <a:pt x="500" y="1755"/>
                </a:lnTo>
                <a:lnTo>
                  <a:pt x="491" y="1753"/>
                </a:lnTo>
                <a:lnTo>
                  <a:pt x="483" y="1750"/>
                </a:lnTo>
                <a:lnTo>
                  <a:pt x="473" y="1746"/>
                </a:lnTo>
                <a:lnTo>
                  <a:pt x="464" y="1741"/>
                </a:lnTo>
                <a:lnTo>
                  <a:pt x="453" y="1737"/>
                </a:lnTo>
                <a:lnTo>
                  <a:pt x="442" y="1731"/>
                </a:lnTo>
                <a:lnTo>
                  <a:pt x="429" y="1724"/>
                </a:lnTo>
                <a:lnTo>
                  <a:pt x="417" y="1717"/>
                </a:lnTo>
                <a:lnTo>
                  <a:pt x="402" y="1709"/>
                </a:lnTo>
                <a:lnTo>
                  <a:pt x="389" y="1701"/>
                </a:lnTo>
                <a:lnTo>
                  <a:pt x="373" y="1691"/>
                </a:lnTo>
                <a:lnTo>
                  <a:pt x="357" y="1679"/>
                </a:lnTo>
                <a:lnTo>
                  <a:pt x="340" y="1667"/>
                </a:lnTo>
                <a:lnTo>
                  <a:pt x="322" y="1654"/>
                </a:lnTo>
                <a:lnTo>
                  <a:pt x="304" y="1640"/>
                </a:lnTo>
                <a:lnTo>
                  <a:pt x="294" y="1632"/>
                </a:lnTo>
                <a:lnTo>
                  <a:pt x="285" y="1625"/>
                </a:lnTo>
                <a:lnTo>
                  <a:pt x="276" y="1616"/>
                </a:lnTo>
                <a:lnTo>
                  <a:pt x="268" y="1609"/>
                </a:lnTo>
                <a:lnTo>
                  <a:pt x="261" y="1601"/>
                </a:lnTo>
                <a:lnTo>
                  <a:pt x="253" y="1594"/>
                </a:lnTo>
                <a:lnTo>
                  <a:pt x="247" y="1587"/>
                </a:lnTo>
                <a:lnTo>
                  <a:pt x="241" y="1580"/>
                </a:lnTo>
                <a:lnTo>
                  <a:pt x="231" y="1580"/>
                </a:lnTo>
                <a:lnTo>
                  <a:pt x="227" y="1571"/>
                </a:lnTo>
                <a:lnTo>
                  <a:pt x="224" y="1563"/>
                </a:lnTo>
                <a:lnTo>
                  <a:pt x="219" y="1554"/>
                </a:lnTo>
                <a:lnTo>
                  <a:pt x="216" y="1544"/>
                </a:lnTo>
                <a:lnTo>
                  <a:pt x="212" y="1536"/>
                </a:lnTo>
                <a:lnTo>
                  <a:pt x="208" y="1528"/>
                </a:lnTo>
                <a:lnTo>
                  <a:pt x="205" y="1519"/>
                </a:lnTo>
                <a:lnTo>
                  <a:pt x="204" y="1512"/>
                </a:lnTo>
                <a:lnTo>
                  <a:pt x="157" y="1452"/>
                </a:lnTo>
                <a:lnTo>
                  <a:pt x="118" y="1384"/>
                </a:lnTo>
                <a:lnTo>
                  <a:pt x="84" y="1314"/>
                </a:lnTo>
                <a:lnTo>
                  <a:pt x="57" y="1238"/>
                </a:lnTo>
                <a:lnTo>
                  <a:pt x="35" y="1159"/>
                </a:lnTo>
                <a:lnTo>
                  <a:pt x="19" y="1078"/>
                </a:lnTo>
                <a:lnTo>
                  <a:pt x="8" y="993"/>
                </a:lnTo>
                <a:lnTo>
                  <a:pt x="2" y="909"/>
                </a:lnTo>
                <a:lnTo>
                  <a:pt x="0" y="825"/>
                </a:lnTo>
                <a:lnTo>
                  <a:pt x="3" y="740"/>
                </a:lnTo>
                <a:lnTo>
                  <a:pt x="11" y="657"/>
                </a:lnTo>
                <a:lnTo>
                  <a:pt x="22" y="577"/>
                </a:lnTo>
                <a:lnTo>
                  <a:pt x="38" y="499"/>
                </a:lnTo>
                <a:lnTo>
                  <a:pt x="58" y="426"/>
                </a:lnTo>
                <a:lnTo>
                  <a:pt x="81" y="355"/>
                </a:lnTo>
                <a:lnTo>
                  <a:pt x="107" y="291"/>
                </a:lnTo>
                <a:lnTo>
                  <a:pt x="123" y="261"/>
                </a:lnTo>
                <a:lnTo>
                  <a:pt x="143" y="229"/>
                </a:lnTo>
                <a:lnTo>
                  <a:pt x="169" y="198"/>
                </a:lnTo>
                <a:lnTo>
                  <a:pt x="199" y="167"/>
                </a:lnTo>
                <a:lnTo>
                  <a:pt x="233" y="136"/>
                </a:lnTo>
                <a:lnTo>
                  <a:pt x="271" y="108"/>
                </a:lnTo>
                <a:lnTo>
                  <a:pt x="314" y="81"/>
                </a:lnTo>
                <a:lnTo>
                  <a:pt x="359" y="57"/>
                </a:lnTo>
                <a:lnTo>
                  <a:pt x="409" y="36"/>
                </a:lnTo>
                <a:lnTo>
                  <a:pt x="461" y="21"/>
                </a:lnTo>
                <a:lnTo>
                  <a:pt x="515" y="8"/>
                </a:lnTo>
                <a:lnTo>
                  <a:pt x="571" y="1"/>
                </a:lnTo>
                <a:lnTo>
                  <a:pt x="631" y="0"/>
                </a:lnTo>
                <a:lnTo>
                  <a:pt x="692" y="5"/>
                </a:lnTo>
                <a:lnTo>
                  <a:pt x="754" y="16"/>
                </a:lnTo>
                <a:lnTo>
                  <a:pt x="818" y="36"/>
                </a:lnTo>
                <a:lnTo>
                  <a:pt x="837" y="43"/>
                </a:lnTo>
                <a:lnTo>
                  <a:pt x="855" y="50"/>
                </a:lnTo>
                <a:lnTo>
                  <a:pt x="873" y="57"/>
                </a:lnTo>
                <a:lnTo>
                  <a:pt x="893" y="64"/>
                </a:lnTo>
                <a:lnTo>
                  <a:pt x="909" y="73"/>
                </a:lnTo>
                <a:lnTo>
                  <a:pt x="927" y="80"/>
                </a:lnTo>
                <a:lnTo>
                  <a:pt x="944" y="88"/>
                </a:lnTo>
                <a:lnTo>
                  <a:pt x="961" y="95"/>
                </a:lnTo>
                <a:lnTo>
                  <a:pt x="978" y="104"/>
                </a:lnTo>
                <a:lnTo>
                  <a:pt x="995" y="112"/>
                </a:lnTo>
                <a:lnTo>
                  <a:pt x="1011" y="120"/>
                </a:lnTo>
                <a:lnTo>
                  <a:pt x="1028" y="127"/>
                </a:lnTo>
                <a:lnTo>
                  <a:pt x="1044" y="136"/>
                </a:lnTo>
                <a:lnTo>
                  <a:pt x="1059" y="144"/>
                </a:lnTo>
                <a:lnTo>
                  <a:pt x="1074" y="151"/>
                </a:lnTo>
                <a:lnTo>
                  <a:pt x="1090" y="160"/>
                </a:lnTo>
                <a:lnTo>
                  <a:pt x="1102" y="147"/>
                </a:lnTo>
                <a:lnTo>
                  <a:pt x="1116" y="136"/>
                </a:lnTo>
                <a:lnTo>
                  <a:pt x="1129" y="126"/>
                </a:lnTo>
                <a:lnTo>
                  <a:pt x="1144" y="116"/>
                </a:lnTo>
                <a:lnTo>
                  <a:pt x="1160" y="109"/>
                </a:lnTo>
                <a:lnTo>
                  <a:pt x="1177" y="102"/>
                </a:lnTo>
                <a:lnTo>
                  <a:pt x="1194" y="97"/>
                </a:lnTo>
                <a:lnTo>
                  <a:pt x="1212" y="94"/>
                </a:lnTo>
                <a:lnTo>
                  <a:pt x="1244" y="91"/>
                </a:lnTo>
                <a:lnTo>
                  <a:pt x="1267" y="95"/>
                </a:lnTo>
                <a:lnTo>
                  <a:pt x="1283" y="101"/>
                </a:lnTo>
                <a:lnTo>
                  <a:pt x="1292" y="111"/>
                </a:lnTo>
                <a:lnTo>
                  <a:pt x="1297" y="120"/>
                </a:lnTo>
                <a:lnTo>
                  <a:pt x="1298" y="130"/>
                </a:lnTo>
                <a:lnTo>
                  <a:pt x="1300" y="137"/>
                </a:lnTo>
                <a:lnTo>
                  <a:pt x="1300" y="142"/>
                </a:lnTo>
                <a:lnTo>
                  <a:pt x="1297" y="143"/>
                </a:lnTo>
                <a:lnTo>
                  <a:pt x="1302" y="142"/>
                </a:lnTo>
                <a:lnTo>
                  <a:pt x="1306" y="140"/>
                </a:lnTo>
                <a:lnTo>
                  <a:pt x="1312" y="139"/>
                </a:lnTo>
                <a:lnTo>
                  <a:pt x="1316" y="137"/>
                </a:lnTo>
                <a:lnTo>
                  <a:pt x="1322" y="136"/>
                </a:lnTo>
                <a:lnTo>
                  <a:pt x="1327" y="135"/>
                </a:lnTo>
                <a:lnTo>
                  <a:pt x="1332" y="133"/>
                </a:lnTo>
                <a:lnTo>
                  <a:pt x="1338" y="133"/>
                </a:lnTo>
                <a:lnTo>
                  <a:pt x="1373" y="133"/>
                </a:lnTo>
                <a:lnTo>
                  <a:pt x="1404" y="144"/>
                </a:lnTo>
                <a:lnTo>
                  <a:pt x="1430" y="161"/>
                </a:lnTo>
                <a:lnTo>
                  <a:pt x="1453" y="184"/>
                </a:lnTo>
                <a:lnTo>
                  <a:pt x="1470" y="206"/>
                </a:lnTo>
                <a:lnTo>
                  <a:pt x="1483" y="226"/>
                </a:lnTo>
                <a:lnTo>
                  <a:pt x="1491" y="241"/>
                </a:lnTo>
                <a:lnTo>
                  <a:pt x="1495" y="248"/>
                </a:lnTo>
                <a:lnTo>
                  <a:pt x="1467" y="267"/>
                </a:lnTo>
                <a:lnTo>
                  <a:pt x="1464" y="261"/>
                </a:lnTo>
                <a:lnTo>
                  <a:pt x="1454" y="248"/>
                </a:lnTo>
                <a:lnTo>
                  <a:pt x="1439" y="229"/>
                </a:lnTo>
                <a:lnTo>
                  <a:pt x="1419" y="209"/>
                </a:lnTo>
                <a:lnTo>
                  <a:pt x="1396" y="188"/>
                </a:lnTo>
                <a:lnTo>
                  <a:pt x="1371" y="171"/>
                </a:lnTo>
                <a:lnTo>
                  <a:pt x="1342" y="161"/>
                </a:lnTo>
                <a:lnTo>
                  <a:pt x="1313" y="160"/>
                </a:lnTo>
                <a:lnTo>
                  <a:pt x="1306" y="161"/>
                </a:lnTo>
                <a:lnTo>
                  <a:pt x="1298" y="163"/>
                </a:lnTo>
                <a:lnTo>
                  <a:pt x="1292" y="164"/>
                </a:lnTo>
                <a:lnTo>
                  <a:pt x="1284" y="167"/>
                </a:lnTo>
                <a:lnTo>
                  <a:pt x="1276" y="170"/>
                </a:lnTo>
                <a:lnTo>
                  <a:pt x="1269" y="172"/>
                </a:lnTo>
                <a:lnTo>
                  <a:pt x="1262" y="177"/>
                </a:lnTo>
                <a:lnTo>
                  <a:pt x="1257" y="180"/>
                </a:lnTo>
                <a:lnTo>
                  <a:pt x="1257" y="168"/>
                </a:lnTo>
                <a:lnTo>
                  <a:pt x="1280" y="150"/>
                </a:lnTo>
                <a:lnTo>
                  <a:pt x="1279" y="147"/>
                </a:lnTo>
                <a:lnTo>
                  <a:pt x="1277" y="143"/>
                </a:lnTo>
                <a:lnTo>
                  <a:pt x="1272" y="135"/>
                </a:lnTo>
                <a:lnTo>
                  <a:pt x="1266" y="126"/>
                </a:lnTo>
                <a:lnTo>
                  <a:pt x="1256" y="119"/>
                </a:lnTo>
                <a:lnTo>
                  <a:pt x="1242" y="113"/>
                </a:lnTo>
                <a:lnTo>
                  <a:pt x="1225" y="112"/>
                </a:lnTo>
                <a:lnTo>
                  <a:pt x="1204" y="115"/>
                </a:lnTo>
                <a:lnTo>
                  <a:pt x="1182" y="122"/>
                </a:lnTo>
                <a:lnTo>
                  <a:pt x="1163" y="132"/>
                </a:lnTo>
                <a:lnTo>
                  <a:pt x="1148" y="142"/>
                </a:lnTo>
                <a:lnTo>
                  <a:pt x="1135" y="150"/>
                </a:lnTo>
                <a:lnTo>
                  <a:pt x="1126" y="160"/>
                </a:lnTo>
                <a:lnTo>
                  <a:pt x="1119" y="167"/>
                </a:lnTo>
                <a:lnTo>
                  <a:pt x="1115" y="172"/>
                </a:lnTo>
                <a:lnTo>
                  <a:pt x="1113" y="174"/>
                </a:lnTo>
                <a:lnTo>
                  <a:pt x="1191" y="215"/>
                </a:lnTo>
                <a:lnTo>
                  <a:pt x="1192" y="213"/>
                </a:lnTo>
                <a:lnTo>
                  <a:pt x="1196" y="209"/>
                </a:lnTo>
                <a:lnTo>
                  <a:pt x="1201" y="205"/>
                </a:lnTo>
                <a:lnTo>
                  <a:pt x="1207" y="198"/>
                </a:lnTo>
                <a:lnTo>
                  <a:pt x="1214" y="192"/>
                </a:lnTo>
                <a:lnTo>
                  <a:pt x="1221" y="187"/>
                </a:lnTo>
                <a:lnTo>
                  <a:pt x="1227" y="181"/>
                </a:lnTo>
                <a:lnTo>
                  <a:pt x="1232" y="178"/>
                </a:lnTo>
                <a:lnTo>
                  <a:pt x="1241" y="174"/>
                </a:lnTo>
                <a:lnTo>
                  <a:pt x="1249" y="171"/>
                </a:lnTo>
                <a:lnTo>
                  <a:pt x="1254" y="168"/>
                </a:lnTo>
                <a:lnTo>
                  <a:pt x="1257" y="168"/>
                </a:lnTo>
                <a:lnTo>
                  <a:pt x="1257" y="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0200" y="5302080"/>
            <a:ext cx="6120" cy="14400"/>
          </a:xfrm>
          <a:custGeom>
            <a:avLst/>
            <a:gdLst/>
            <a:ahLst/>
            <a:rect l="l" t="t" r="r" b="b"/>
            <a:pathLst>
              <a:path w="7" h="22">
                <a:moveTo>
                  <a:pt x="5" y="22"/>
                </a:moveTo>
                <a:lnTo>
                  <a:pt x="4" y="20"/>
                </a:lnTo>
                <a:lnTo>
                  <a:pt x="3" y="18"/>
                </a:lnTo>
                <a:lnTo>
                  <a:pt x="2" y="15"/>
                </a:lnTo>
                <a:lnTo>
                  <a:pt x="0" y="14"/>
                </a:lnTo>
                <a:lnTo>
                  <a:pt x="7" y="0"/>
                </a:lnTo>
                <a:lnTo>
                  <a:pt x="6" y="6"/>
                </a:lnTo>
                <a:lnTo>
                  <a:pt x="6" y="11"/>
                </a:lnTo>
                <a:lnTo>
                  <a:pt x="5" y="17"/>
                </a:lnTo>
                <a:lnTo>
                  <a:pt x="5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05280" y="5276880"/>
            <a:ext cx="15840" cy="15840"/>
          </a:xfrm>
          <a:custGeom>
            <a:avLst/>
            <a:gdLst/>
            <a:ahLst/>
            <a:rect l="l" t="t" r="r" b="b"/>
            <a:pathLst>
              <a:path w="17" h="24">
                <a:moveTo>
                  <a:pt x="17" y="24"/>
                </a:moveTo>
                <a:lnTo>
                  <a:pt x="14" y="19"/>
                </a:lnTo>
                <a:lnTo>
                  <a:pt x="9" y="12"/>
                </a:lnTo>
                <a:lnTo>
                  <a:pt x="5" y="6"/>
                </a:lnTo>
                <a:lnTo>
                  <a:pt x="0" y="0"/>
                </a:lnTo>
                <a:lnTo>
                  <a:pt x="6" y="6"/>
                </a:lnTo>
                <a:lnTo>
                  <a:pt x="11" y="12"/>
                </a:lnTo>
                <a:lnTo>
                  <a:pt x="14" y="17"/>
                </a:lnTo>
                <a:lnTo>
                  <a:pt x="17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7440" y="4832280"/>
            <a:ext cx="1392120" cy="1614600"/>
          </a:xfrm>
          <a:custGeom>
            <a:avLst/>
            <a:gdLst/>
            <a:ahLst/>
            <a:rect l="l" t="t" r="r" b="b"/>
            <a:pathLst>
              <a:path w="1390" h="2451">
                <a:moveTo>
                  <a:pt x="1260" y="1034"/>
                </a:moveTo>
                <a:lnTo>
                  <a:pt x="1237" y="1033"/>
                </a:lnTo>
                <a:lnTo>
                  <a:pt x="1236" y="1034"/>
                </a:lnTo>
                <a:lnTo>
                  <a:pt x="1236" y="1034"/>
                </a:lnTo>
                <a:lnTo>
                  <a:pt x="1236" y="1034"/>
                </a:lnTo>
                <a:lnTo>
                  <a:pt x="1236" y="1036"/>
                </a:lnTo>
                <a:lnTo>
                  <a:pt x="1228" y="1036"/>
                </a:lnTo>
                <a:lnTo>
                  <a:pt x="1220" y="1036"/>
                </a:lnTo>
                <a:lnTo>
                  <a:pt x="1213" y="1036"/>
                </a:lnTo>
                <a:lnTo>
                  <a:pt x="1208" y="1036"/>
                </a:lnTo>
                <a:lnTo>
                  <a:pt x="1203" y="1036"/>
                </a:lnTo>
                <a:lnTo>
                  <a:pt x="1200" y="1036"/>
                </a:lnTo>
                <a:lnTo>
                  <a:pt x="1198" y="1036"/>
                </a:lnTo>
                <a:lnTo>
                  <a:pt x="1196" y="1036"/>
                </a:lnTo>
                <a:lnTo>
                  <a:pt x="1198" y="1036"/>
                </a:lnTo>
                <a:lnTo>
                  <a:pt x="1200" y="1036"/>
                </a:lnTo>
                <a:lnTo>
                  <a:pt x="1203" y="1037"/>
                </a:lnTo>
                <a:lnTo>
                  <a:pt x="1208" y="1037"/>
                </a:lnTo>
                <a:lnTo>
                  <a:pt x="1213" y="1039"/>
                </a:lnTo>
                <a:lnTo>
                  <a:pt x="1220" y="1040"/>
                </a:lnTo>
                <a:lnTo>
                  <a:pt x="1227" y="1040"/>
                </a:lnTo>
                <a:lnTo>
                  <a:pt x="1236" y="1041"/>
                </a:lnTo>
                <a:lnTo>
                  <a:pt x="1235" y="1051"/>
                </a:lnTo>
                <a:lnTo>
                  <a:pt x="1235" y="1063"/>
                </a:lnTo>
                <a:lnTo>
                  <a:pt x="1234" y="1072"/>
                </a:lnTo>
                <a:lnTo>
                  <a:pt x="1233" y="1084"/>
                </a:lnTo>
                <a:lnTo>
                  <a:pt x="1225" y="1178"/>
                </a:lnTo>
                <a:lnTo>
                  <a:pt x="1218" y="1272"/>
                </a:lnTo>
                <a:lnTo>
                  <a:pt x="1211" y="1365"/>
                </a:lnTo>
                <a:lnTo>
                  <a:pt x="1208" y="1455"/>
                </a:lnTo>
                <a:lnTo>
                  <a:pt x="1206" y="1539"/>
                </a:lnTo>
                <a:lnTo>
                  <a:pt x="1208" y="1618"/>
                </a:lnTo>
                <a:lnTo>
                  <a:pt x="1213" y="1690"/>
                </a:lnTo>
                <a:lnTo>
                  <a:pt x="1224" y="1751"/>
                </a:lnTo>
                <a:lnTo>
                  <a:pt x="1225" y="1753"/>
                </a:lnTo>
                <a:lnTo>
                  <a:pt x="1225" y="1756"/>
                </a:lnTo>
                <a:lnTo>
                  <a:pt x="1226" y="1757"/>
                </a:lnTo>
                <a:lnTo>
                  <a:pt x="1226" y="1760"/>
                </a:lnTo>
                <a:lnTo>
                  <a:pt x="1210" y="1757"/>
                </a:lnTo>
                <a:lnTo>
                  <a:pt x="1193" y="1756"/>
                </a:lnTo>
                <a:lnTo>
                  <a:pt x="1177" y="1753"/>
                </a:lnTo>
                <a:lnTo>
                  <a:pt x="1163" y="1751"/>
                </a:lnTo>
                <a:lnTo>
                  <a:pt x="1148" y="1751"/>
                </a:lnTo>
                <a:lnTo>
                  <a:pt x="1136" y="1750"/>
                </a:lnTo>
                <a:lnTo>
                  <a:pt x="1124" y="1751"/>
                </a:lnTo>
                <a:lnTo>
                  <a:pt x="1116" y="1753"/>
                </a:lnTo>
                <a:lnTo>
                  <a:pt x="1104" y="1756"/>
                </a:lnTo>
                <a:lnTo>
                  <a:pt x="1096" y="1757"/>
                </a:lnTo>
                <a:lnTo>
                  <a:pt x="1089" y="1758"/>
                </a:lnTo>
                <a:lnTo>
                  <a:pt x="1085" y="1758"/>
                </a:lnTo>
                <a:lnTo>
                  <a:pt x="1083" y="1758"/>
                </a:lnTo>
                <a:lnTo>
                  <a:pt x="1082" y="1758"/>
                </a:lnTo>
                <a:lnTo>
                  <a:pt x="1080" y="1757"/>
                </a:lnTo>
                <a:lnTo>
                  <a:pt x="1080" y="1757"/>
                </a:lnTo>
                <a:lnTo>
                  <a:pt x="1086" y="1742"/>
                </a:lnTo>
                <a:lnTo>
                  <a:pt x="1098" y="1701"/>
                </a:lnTo>
                <a:lnTo>
                  <a:pt x="1115" y="1643"/>
                </a:lnTo>
                <a:lnTo>
                  <a:pt x="1133" y="1577"/>
                </a:lnTo>
                <a:lnTo>
                  <a:pt x="1147" y="1512"/>
                </a:lnTo>
                <a:lnTo>
                  <a:pt x="1155" y="1458"/>
                </a:lnTo>
                <a:lnTo>
                  <a:pt x="1153" y="1420"/>
                </a:lnTo>
                <a:lnTo>
                  <a:pt x="1136" y="1408"/>
                </a:lnTo>
                <a:lnTo>
                  <a:pt x="1131" y="1415"/>
                </a:lnTo>
                <a:lnTo>
                  <a:pt x="1120" y="1432"/>
                </a:lnTo>
                <a:lnTo>
                  <a:pt x="1102" y="1460"/>
                </a:lnTo>
                <a:lnTo>
                  <a:pt x="1078" y="1497"/>
                </a:lnTo>
                <a:lnTo>
                  <a:pt x="1051" y="1541"/>
                </a:lnTo>
                <a:lnTo>
                  <a:pt x="1022" y="1590"/>
                </a:lnTo>
                <a:lnTo>
                  <a:pt x="990" y="1640"/>
                </a:lnTo>
                <a:lnTo>
                  <a:pt x="960" y="1694"/>
                </a:lnTo>
                <a:lnTo>
                  <a:pt x="929" y="1747"/>
                </a:lnTo>
                <a:lnTo>
                  <a:pt x="901" y="1799"/>
                </a:lnTo>
                <a:lnTo>
                  <a:pt x="876" y="1848"/>
                </a:lnTo>
                <a:lnTo>
                  <a:pt x="856" y="1892"/>
                </a:lnTo>
                <a:lnTo>
                  <a:pt x="842" y="1929"/>
                </a:lnTo>
                <a:lnTo>
                  <a:pt x="836" y="1958"/>
                </a:lnTo>
                <a:lnTo>
                  <a:pt x="837" y="1976"/>
                </a:lnTo>
                <a:lnTo>
                  <a:pt x="848" y="1983"/>
                </a:lnTo>
                <a:lnTo>
                  <a:pt x="865" y="1982"/>
                </a:lnTo>
                <a:lnTo>
                  <a:pt x="883" y="1978"/>
                </a:lnTo>
                <a:lnTo>
                  <a:pt x="902" y="1969"/>
                </a:lnTo>
                <a:lnTo>
                  <a:pt x="923" y="1959"/>
                </a:lnTo>
                <a:lnTo>
                  <a:pt x="944" y="1947"/>
                </a:lnTo>
                <a:lnTo>
                  <a:pt x="967" y="1931"/>
                </a:lnTo>
                <a:lnTo>
                  <a:pt x="988" y="1916"/>
                </a:lnTo>
                <a:lnTo>
                  <a:pt x="1012" y="1899"/>
                </a:lnTo>
                <a:lnTo>
                  <a:pt x="1034" y="1882"/>
                </a:lnTo>
                <a:lnTo>
                  <a:pt x="1057" y="1865"/>
                </a:lnTo>
                <a:lnTo>
                  <a:pt x="1080" y="1848"/>
                </a:lnTo>
                <a:lnTo>
                  <a:pt x="1103" y="1833"/>
                </a:lnTo>
                <a:lnTo>
                  <a:pt x="1125" y="1820"/>
                </a:lnTo>
                <a:lnTo>
                  <a:pt x="1147" y="1809"/>
                </a:lnTo>
                <a:lnTo>
                  <a:pt x="1168" y="1801"/>
                </a:lnTo>
                <a:lnTo>
                  <a:pt x="1189" y="1795"/>
                </a:lnTo>
                <a:lnTo>
                  <a:pt x="1200" y="1794"/>
                </a:lnTo>
                <a:lnTo>
                  <a:pt x="1210" y="1791"/>
                </a:lnTo>
                <a:lnTo>
                  <a:pt x="1220" y="1789"/>
                </a:lnTo>
                <a:lnTo>
                  <a:pt x="1229" y="1788"/>
                </a:lnTo>
                <a:lnTo>
                  <a:pt x="1237" y="1785"/>
                </a:lnTo>
                <a:lnTo>
                  <a:pt x="1245" y="1784"/>
                </a:lnTo>
                <a:lnTo>
                  <a:pt x="1252" y="1782"/>
                </a:lnTo>
                <a:lnTo>
                  <a:pt x="1257" y="1781"/>
                </a:lnTo>
                <a:lnTo>
                  <a:pt x="1265" y="1782"/>
                </a:lnTo>
                <a:lnTo>
                  <a:pt x="1274" y="1785"/>
                </a:lnTo>
                <a:lnTo>
                  <a:pt x="1282" y="1787"/>
                </a:lnTo>
                <a:lnTo>
                  <a:pt x="1290" y="1789"/>
                </a:lnTo>
                <a:lnTo>
                  <a:pt x="1297" y="1799"/>
                </a:lnTo>
                <a:lnTo>
                  <a:pt x="1302" y="1810"/>
                </a:lnTo>
                <a:lnTo>
                  <a:pt x="1306" y="1824"/>
                </a:lnTo>
                <a:lnTo>
                  <a:pt x="1305" y="1841"/>
                </a:lnTo>
                <a:lnTo>
                  <a:pt x="1302" y="1862"/>
                </a:lnTo>
                <a:lnTo>
                  <a:pt x="1299" y="1878"/>
                </a:lnTo>
                <a:lnTo>
                  <a:pt x="1296" y="1889"/>
                </a:lnTo>
                <a:lnTo>
                  <a:pt x="1290" y="1895"/>
                </a:lnTo>
                <a:lnTo>
                  <a:pt x="1282" y="1896"/>
                </a:lnTo>
                <a:lnTo>
                  <a:pt x="1270" y="1893"/>
                </a:lnTo>
                <a:lnTo>
                  <a:pt x="1254" y="1889"/>
                </a:lnTo>
                <a:lnTo>
                  <a:pt x="1234" y="1881"/>
                </a:lnTo>
                <a:lnTo>
                  <a:pt x="1210" y="1875"/>
                </a:lnTo>
                <a:lnTo>
                  <a:pt x="1186" y="1877"/>
                </a:lnTo>
                <a:lnTo>
                  <a:pt x="1163" y="1882"/>
                </a:lnTo>
                <a:lnTo>
                  <a:pt x="1141" y="1891"/>
                </a:lnTo>
                <a:lnTo>
                  <a:pt x="1123" y="1900"/>
                </a:lnTo>
                <a:lnTo>
                  <a:pt x="1109" y="1910"/>
                </a:lnTo>
                <a:lnTo>
                  <a:pt x="1100" y="1917"/>
                </a:lnTo>
                <a:lnTo>
                  <a:pt x="1096" y="1920"/>
                </a:lnTo>
                <a:lnTo>
                  <a:pt x="1101" y="1920"/>
                </a:lnTo>
                <a:lnTo>
                  <a:pt x="1113" y="1920"/>
                </a:lnTo>
                <a:lnTo>
                  <a:pt x="1132" y="1921"/>
                </a:lnTo>
                <a:lnTo>
                  <a:pt x="1157" y="1924"/>
                </a:lnTo>
                <a:lnTo>
                  <a:pt x="1184" y="1929"/>
                </a:lnTo>
                <a:lnTo>
                  <a:pt x="1215" y="1934"/>
                </a:lnTo>
                <a:lnTo>
                  <a:pt x="1244" y="1943"/>
                </a:lnTo>
                <a:lnTo>
                  <a:pt x="1273" y="1954"/>
                </a:lnTo>
                <a:lnTo>
                  <a:pt x="1275" y="1955"/>
                </a:lnTo>
                <a:lnTo>
                  <a:pt x="1279" y="1955"/>
                </a:lnTo>
                <a:lnTo>
                  <a:pt x="1281" y="1955"/>
                </a:lnTo>
                <a:lnTo>
                  <a:pt x="1283" y="1957"/>
                </a:lnTo>
                <a:lnTo>
                  <a:pt x="1293" y="1990"/>
                </a:lnTo>
                <a:lnTo>
                  <a:pt x="1301" y="2016"/>
                </a:lnTo>
                <a:lnTo>
                  <a:pt x="1305" y="2037"/>
                </a:lnTo>
                <a:lnTo>
                  <a:pt x="1305" y="2052"/>
                </a:lnTo>
                <a:lnTo>
                  <a:pt x="1300" y="2065"/>
                </a:lnTo>
                <a:lnTo>
                  <a:pt x="1293" y="2076"/>
                </a:lnTo>
                <a:lnTo>
                  <a:pt x="1282" y="2086"/>
                </a:lnTo>
                <a:lnTo>
                  <a:pt x="1266" y="2097"/>
                </a:lnTo>
                <a:lnTo>
                  <a:pt x="1247" y="2110"/>
                </a:lnTo>
                <a:lnTo>
                  <a:pt x="1231" y="2121"/>
                </a:lnTo>
                <a:lnTo>
                  <a:pt x="1216" y="2130"/>
                </a:lnTo>
                <a:lnTo>
                  <a:pt x="1203" y="2138"/>
                </a:lnTo>
                <a:lnTo>
                  <a:pt x="1192" y="2146"/>
                </a:lnTo>
                <a:lnTo>
                  <a:pt x="1182" y="2152"/>
                </a:lnTo>
                <a:lnTo>
                  <a:pt x="1174" y="2158"/>
                </a:lnTo>
                <a:lnTo>
                  <a:pt x="1167" y="2162"/>
                </a:lnTo>
                <a:lnTo>
                  <a:pt x="1158" y="2165"/>
                </a:lnTo>
                <a:lnTo>
                  <a:pt x="1148" y="2166"/>
                </a:lnTo>
                <a:lnTo>
                  <a:pt x="1137" y="2169"/>
                </a:lnTo>
                <a:lnTo>
                  <a:pt x="1123" y="2169"/>
                </a:lnTo>
                <a:lnTo>
                  <a:pt x="1109" y="2169"/>
                </a:lnTo>
                <a:lnTo>
                  <a:pt x="1093" y="2168"/>
                </a:lnTo>
                <a:lnTo>
                  <a:pt x="1076" y="2165"/>
                </a:lnTo>
                <a:lnTo>
                  <a:pt x="1057" y="2160"/>
                </a:lnTo>
                <a:lnTo>
                  <a:pt x="1031" y="2153"/>
                </a:lnTo>
                <a:lnTo>
                  <a:pt x="1010" y="2146"/>
                </a:lnTo>
                <a:lnTo>
                  <a:pt x="995" y="2142"/>
                </a:lnTo>
                <a:lnTo>
                  <a:pt x="985" y="2138"/>
                </a:lnTo>
                <a:lnTo>
                  <a:pt x="977" y="2135"/>
                </a:lnTo>
                <a:lnTo>
                  <a:pt x="973" y="2132"/>
                </a:lnTo>
                <a:lnTo>
                  <a:pt x="971" y="2132"/>
                </a:lnTo>
                <a:lnTo>
                  <a:pt x="970" y="2131"/>
                </a:lnTo>
                <a:lnTo>
                  <a:pt x="971" y="2132"/>
                </a:lnTo>
                <a:lnTo>
                  <a:pt x="974" y="2137"/>
                </a:lnTo>
                <a:lnTo>
                  <a:pt x="980" y="2144"/>
                </a:lnTo>
                <a:lnTo>
                  <a:pt x="989" y="2152"/>
                </a:lnTo>
                <a:lnTo>
                  <a:pt x="1001" y="2162"/>
                </a:lnTo>
                <a:lnTo>
                  <a:pt x="1019" y="2173"/>
                </a:lnTo>
                <a:lnTo>
                  <a:pt x="1041" y="2183"/>
                </a:lnTo>
                <a:lnTo>
                  <a:pt x="1069" y="2194"/>
                </a:lnTo>
                <a:lnTo>
                  <a:pt x="1077" y="2197"/>
                </a:lnTo>
                <a:lnTo>
                  <a:pt x="1084" y="2200"/>
                </a:lnTo>
                <a:lnTo>
                  <a:pt x="1091" y="2203"/>
                </a:lnTo>
                <a:lnTo>
                  <a:pt x="1097" y="2205"/>
                </a:lnTo>
                <a:lnTo>
                  <a:pt x="1103" y="2207"/>
                </a:lnTo>
                <a:lnTo>
                  <a:pt x="1109" y="2210"/>
                </a:lnTo>
                <a:lnTo>
                  <a:pt x="1114" y="2211"/>
                </a:lnTo>
                <a:lnTo>
                  <a:pt x="1119" y="2212"/>
                </a:lnTo>
                <a:lnTo>
                  <a:pt x="1120" y="2225"/>
                </a:lnTo>
                <a:lnTo>
                  <a:pt x="1122" y="2252"/>
                </a:lnTo>
                <a:lnTo>
                  <a:pt x="1066" y="2451"/>
                </a:lnTo>
                <a:lnTo>
                  <a:pt x="1056" y="2451"/>
                </a:lnTo>
                <a:lnTo>
                  <a:pt x="1045" y="2451"/>
                </a:lnTo>
                <a:lnTo>
                  <a:pt x="1035" y="2451"/>
                </a:lnTo>
                <a:lnTo>
                  <a:pt x="1025" y="2451"/>
                </a:lnTo>
                <a:lnTo>
                  <a:pt x="1014" y="2450"/>
                </a:lnTo>
                <a:lnTo>
                  <a:pt x="1001" y="2447"/>
                </a:lnTo>
                <a:lnTo>
                  <a:pt x="988" y="2446"/>
                </a:lnTo>
                <a:lnTo>
                  <a:pt x="973" y="2443"/>
                </a:lnTo>
                <a:lnTo>
                  <a:pt x="957" y="2439"/>
                </a:lnTo>
                <a:lnTo>
                  <a:pt x="939" y="2435"/>
                </a:lnTo>
                <a:lnTo>
                  <a:pt x="920" y="2429"/>
                </a:lnTo>
                <a:lnTo>
                  <a:pt x="898" y="2423"/>
                </a:lnTo>
                <a:lnTo>
                  <a:pt x="873" y="2416"/>
                </a:lnTo>
                <a:lnTo>
                  <a:pt x="846" y="2408"/>
                </a:lnTo>
                <a:lnTo>
                  <a:pt x="815" y="2398"/>
                </a:lnTo>
                <a:lnTo>
                  <a:pt x="783" y="2388"/>
                </a:lnTo>
                <a:lnTo>
                  <a:pt x="741" y="2374"/>
                </a:lnTo>
                <a:lnTo>
                  <a:pt x="700" y="2359"/>
                </a:lnTo>
                <a:lnTo>
                  <a:pt x="663" y="2343"/>
                </a:lnTo>
                <a:lnTo>
                  <a:pt x="628" y="2326"/>
                </a:lnTo>
                <a:lnTo>
                  <a:pt x="596" y="2309"/>
                </a:lnTo>
                <a:lnTo>
                  <a:pt x="565" y="2294"/>
                </a:lnTo>
                <a:lnTo>
                  <a:pt x="536" y="2277"/>
                </a:lnTo>
                <a:lnTo>
                  <a:pt x="510" y="2260"/>
                </a:lnTo>
                <a:lnTo>
                  <a:pt x="486" y="2245"/>
                </a:lnTo>
                <a:lnTo>
                  <a:pt x="465" y="2229"/>
                </a:lnTo>
                <a:lnTo>
                  <a:pt x="446" y="2215"/>
                </a:lnTo>
                <a:lnTo>
                  <a:pt x="429" y="2201"/>
                </a:lnTo>
                <a:lnTo>
                  <a:pt x="414" y="2189"/>
                </a:lnTo>
                <a:lnTo>
                  <a:pt x="402" y="2179"/>
                </a:lnTo>
                <a:lnTo>
                  <a:pt x="393" y="2169"/>
                </a:lnTo>
                <a:lnTo>
                  <a:pt x="385" y="2162"/>
                </a:lnTo>
                <a:lnTo>
                  <a:pt x="246" y="1415"/>
                </a:lnTo>
                <a:lnTo>
                  <a:pt x="227" y="1417"/>
                </a:lnTo>
                <a:lnTo>
                  <a:pt x="207" y="1417"/>
                </a:lnTo>
                <a:lnTo>
                  <a:pt x="187" y="1413"/>
                </a:lnTo>
                <a:lnTo>
                  <a:pt x="167" y="1406"/>
                </a:lnTo>
                <a:lnTo>
                  <a:pt x="147" y="1397"/>
                </a:lnTo>
                <a:lnTo>
                  <a:pt x="128" y="1384"/>
                </a:lnTo>
                <a:lnTo>
                  <a:pt x="107" y="1370"/>
                </a:lnTo>
                <a:lnTo>
                  <a:pt x="89" y="1352"/>
                </a:lnTo>
                <a:lnTo>
                  <a:pt x="65" y="1323"/>
                </a:lnTo>
                <a:lnTo>
                  <a:pt x="44" y="1289"/>
                </a:lnTo>
                <a:lnTo>
                  <a:pt x="29" y="1255"/>
                </a:lnTo>
                <a:lnTo>
                  <a:pt x="18" y="1219"/>
                </a:lnTo>
                <a:lnTo>
                  <a:pt x="12" y="1183"/>
                </a:lnTo>
                <a:lnTo>
                  <a:pt x="12" y="1147"/>
                </a:lnTo>
                <a:lnTo>
                  <a:pt x="15" y="1113"/>
                </a:lnTo>
                <a:lnTo>
                  <a:pt x="25" y="1082"/>
                </a:lnTo>
                <a:lnTo>
                  <a:pt x="33" y="1075"/>
                </a:lnTo>
                <a:lnTo>
                  <a:pt x="43" y="1070"/>
                </a:lnTo>
                <a:lnTo>
                  <a:pt x="53" y="1063"/>
                </a:lnTo>
                <a:lnTo>
                  <a:pt x="66" y="1056"/>
                </a:lnTo>
                <a:lnTo>
                  <a:pt x="79" y="1049"/>
                </a:lnTo>
                <a:lnTo>
                  <a:pt x="94" y="1043"/>
                </a:lnTo>
                <a:lnTo>
                  <a:pt x="111" y="1037"/>
                </a:lnTo>
                <a:lnTo>
                  <a:pt x="129" y="1032"/>
                </a:lnTo>
                <a:lnTo>
                  <a:pt x="147" y="1029"/>
                </a:lnTo>
                <a:lnTo>
                  <a:pt x="166" y="1029"/>
                </a:lnTo>
                <a:lnTo>
                  <a:pt x="184" y="1032"/>
                </a:lnTo>
                <a:lnTo>
                  <a:pt x="203" y="1037"/>
                </a:lnTo>
                <a:lnTo>
                  <a:pt x="220" y="1044"/>
                </a:lnTo>
                <a:lnTo>
                  <a:pt x="238" y="1054"/>
                </a:lnTo>
                <a:lnTo>
                  <a:pt x="254" y="1064"/>
                </a:lnTo>
                <a:lnTo>
                  <a:pt x="270" y="1074"/>
                </a:lnTo>
                <a:lnTo>
                  <a:pt x="284" y="1085"/>
                </a:lnTo>
                <a:lnTo>
                  <a:pt x="297" y="1095"/>
                </a:lnTo>
                <a:lnTo>
                  <a:pt x="309" y="1106"/>
                </a:lnTo>
                <a:lnTo>
                  <a:pt x="318" y="1115"/>
                </a:lnTo>
                <a:lnTo>
                  <a:pt x="326" y="1123"/>
                </a:lnTo>
                <a:lnTo>
                  <a:pt x="333" y="1129"/>
                </a:lnTo>
                <a:lnTo>
                  <a:pt x="336" y="1133"/>
                </a:lnTo>
                <a:lnTo>
                  <a:pt x="337" y="1134"/>
                </a:lnTo>
                <a:lnTo>
                  <a:pt x="335" y="1129"/>
                </a:lnTo>
                <a:lnTo>
                  <a:pt x="330" y="1113"/>
                </a:lnTo>
                <a:lnTo>
                  <a:pt x="319" y="1091"/>
                </a:lnTo>
                <a:lnTo>
                  <a:pt x="306" y="1064"/>
                </a:lnTo>
                <a:lnTo>
                  <a:pt x="321" y="1016"/>
                </a:lnTo>
                <a:lnTo>
                  <a:pt x="319" y="1015"/>
                </a:lnTo>
                <a:lnTo>
                  <a:pt x="317" y="1012"/>
                </a:lnTo>
                <a:lnTo>
                  <a:pt x="313" y="1008"/>
                </a:lnTo>
                <a:lnTo>
                  <a:pt x="306" y="1001"/>
                </a:lnTo>
                <a:lnTo>
                  <a:pt x="298" y="992"/>
                </a:lnTo>
                <a:lnTo>
                  <a:pt x="288" y="981"/>
                </a:lnTo>
                <a:lnTo>
                  <a:pt x="277" y="970"/>
                </a:lnTo>
                <a:lnTo>
                  <a:pt x="262" y="956"/>
                </a:lnTo>
                <a:lnTo>
                  <a:pt x="246" y="940"/>
                </a:lnTo>
                <a:lnTo>
                  <a:pt x="229" y="922"/>
                </a:lnTo>
                <a:lnTo>
                  <a:pt x="209" y="904"/>
                </a:lnTo>
                <a:lnTo>
                  <a:pt x="186" y="883"/>
                </a:lnTo>
                <a:lnTo>
                  <a:pt x="163" y="862"/>
                </a:lnTo>
                <a:lnTo>
                  <a:pt x="137" y="838"/>
                </a:lnTo>
                <a:lnTo>
                  <a:pt x="109" y="814"/>
                </a:lnTo>
                <a:lnTo>
                  <a:pt x="78" y="787"/>
                </a:lnTo>
                <a:lnTo>
                  <a:pt x="68" y="777"/>
                </a:lnTo>
                <a:lnTo>
                  <a:pt x="59" y="767"/>
                </a:lnTo>
                <a:lnTo>
                  <a:pt x="51" y="758"/>
                </a:lnTo>
                <a:lnTo>
                  <a:pt x="43" y="746"/>
                </a:lnTo>
                <a:lnTo>
                  <a:pt x="36" y="735"/>
                </a:lnTo>
                <a:lnTo>
                  <a:pt x="30" y="722"/>
                </a:lnTo>
                <a:lnTo>
                  <a:pt x="24" y="710"/>
                </a:lnTo>
                <a:lnTo>
                  <a:pt x="19" y="697"/>
                </a:lnTo>
                <a:lnTo>
                  <a:pt x="10" y="642"/>
                </a:lnTo>
                <a:lnTo>
                  <a:pt x="4" y="589"/>
                </a:lnTo>
                <a:lnTo>
                  <a:pt x="0" y="537"/>
                </a:lnTo>
                <a:lnTo>
                  <a:pt x="1" y="485"/>
                </a:lnTo>
                <a:lnTo>
                  <a:pt x="6" y="434"/>
                </a:lnTo>
                <a:lnTo>
                  <a:pt x="15" y="384"/>
                </a:lnTo>
                <a:lnTo>
                  <a:pt x="29" y="336"/>
                </a:lnTo>
                <a:lnTo>
                  <a:pt x="47" y="288"/>
                </a:lnTo>
                <a:lnTo>
                  <a:pt x="58" y="264"/>
                </a:lnTo>
                <a:lnTo>
                  <a:pt x="69" y="240"/>
                </a:lnTo>
                <a:lnTo>
                  <a:pt x="82" y="215"/>
                </a:lnTo>
                <a:lnTo>
                  <a:pt x="95" y="191"/>
                </a:lnTo>
                <a:lnTo>
                  <a:pt x="110" y="166"/>
                </a:lnTo>
                <a:lnTo>
                  <a:pt x="127" y="142"/>
                </a:lnTo>
                <a:lnTo>
                  <a:pt x="144" y="119"/>
                </a:lnTo>
                <a:lnTo>
                  <a:pt x="163" y="97"/>
                </a:lnTo>
                <a:lnTo>
                  <a:pt x="182" y="77"/>
                </a:lnTo>
                <a:lnTo>
                  <a:pt x="204" y="57"/>
                </a:lnTo>
                <a:lnTo>
                  <a:pt x="227" y="41"/>
                </a:lnTo>
                <a:lnTo>
                  <a:pt x="253" y="27"/>
                </a:lnTo>
                <a:lnTo>
                  <a:pt x="280" y="15"/>
                </a:lnTo>
                <a:lnTo>
                  <a:pt x="308" y="7"/>
                </a:lnTo>
                <a:lnTo>
                  <a:pt x="340" y="1"/>
                </a:lnTo>
                <a:lnTo>
                  <a:pt x="372" y="0"/>
                </a:lnTo>
                <a:lnTo>
                  <a:pt x="386" y="0"/>
                </a:lnTo>
                <a:lnTo>
                  <a:pt x="399" y="0"/>
                </a:lnTo>
                <a:lnTo>
                  <a:pt x="413" y="1"/>
                </a:lnTo>
                <a:lnTo>
                  <a:pt x="426" y="1"/>
                </a:lnTo>
                <a:lnTo>
                  <a:pt x="439" y="1"/>
                </a:lnTo>
                <a:lnTo>
                  <a:pt x="452" y="3"/>
                </a:lnTo>
                <a:lnTo>
                  <a:pt x="465" y="3"/>
                </a:lnTo>
                <a:lnTo>
                  <a:pt x="477" y="4"/>
                </a:lnTo>
                <a:lnTo>
                  <a:pt x="490" y="4"/>
                </a:lnTo>
                <a:lnTo>
                  <a:pt x="502" y="5"/>
                </a:lnTo>
                <a:lnTo>
                  <a:pt x="514" y="7"/>
                </a:lnTo>
                <a:lnTo>
                  <a:pt x="527" y="7"/>
                </a:lnTo>
                <a:lnTo>
                  <a:pt x="539" y="8"/>
                </a:lnTo>
                <a:lnTo>
                  <a:pt x="550" y="10"/>
                </a:lnTo>
                <a:lnTo>
                  <a:pt x="563" y="10"/>
                </a:lnTo>
                <a:lnTo>
                  <a:pt x="574" y="11"/>
                </a:lnTo>
                <a:lnTo>
                  <a:pt x="563" y="41"/>
                </a:lnTo>
                <a:lnTo>
                  <a:pt x="554" y="69"/>
                </a:lnTo>
                <a:lnTo>
                  <a:pt x="546" y="94"/>
                </a:lnTo>
                <a:lnTo>
                  <a:pt x="540" y="118"/>
                </a:lnTo>
                <a:lnTo>
                  <a:pt x="537" y="138"/>
                </a:lnTo>
                <a:lnTo>
                  <a:pt x="534" y="153"/>
                </a:lnTo>
                <a:lnTo>
                  <a:pt x="532" y="163"/>
                </a:lnTo>
                <a:lnTo>
                  <a:pt x="531" y="167"/>
                </a:lnTo>
                <a:lnTo>
                  <a:pt x="563" y="171"/>
                </a:lnTo>
                <a:lnTo>
                  <a:pt x="564" y="157"/>
                </a:lnTo>
                <a:lnTo>
                  <a:pt x="567" y="121"/>
                </a:lnTo>
                <a:lnTo>
                  <a:pt x="575" y="70"/>
                </a:lnTo>
                <a:lnTo>
                  <a:pt x="591" y="12"/>
                </a:lnTo>
                <a:lnTo>
                  <a:pt x="607" y="14"/>
                </a:lnTo>
                <a:lnTo>
                  <a:pt x="622" y="17"/>
                </a:lnTo>
                <a:lnTo>
                  <a:pt x="637" y="18"/>
                </a:lnTo>
                <a:lnTo>
                  <a:pt x="652" y="21"/>
                </a:lnTo>
                <a:lnTo>
                  <a:pt x="667" y="22"/>
                </a:lnTo>
                <a:lnTo>
                  <a:pt x="681" y="25"/>
                </a:lnTo>
                <a:lnTo>
                  <a:pt x="696" y="27"/>
                </a:lnTo>
                <a:lnTo>
                  <a:pt x="709" y="29"/>
                </a:lnTo>
                <a:lnTo>
                  <a:pt x="696" y="62"/>
                </a:lnTo>
                <a:lnTo>
                  <a:pt x="685" y="93"/>
                </a:lnTo>
                <a:lnTo>
                  <a:pt x="676" y="122"/>
                </a:lnTo>
                <a:lnTo>
                  <a:pt x="669" y="149"/>
                </a:lnTo>
                <a:lnTo>
                  <a:pt x="663" y="171"/>
                </a:lnTo>
                <a:lnTo>
                  <a:pt x="660" y="190"/>
                </a:lnTo>
                <a:lnTo>
                  <a:pt x="659" y="202"/>
                </a:lnTo>
                <a:lnTo>
                  <a:pt x="658" y="206"/>
                </a:lnTo>
                <a:lnTo>
                  <a:pt x="689" y="211"/>
                </a:lnTo>
                <a:lnTo>
                  <a:pt x="689" y="206"/>
                </a:lnTo>
                <a:lnTo>
                  <a:pt x="690" y="194"/>
                </a:lnTo>
                <a:lnTo>
                  <a:pt x="691" y="176"/>
                </a:lnTo>
                <a:lnTo>
                  <a:pt x="694" y="153"/>
                </a:lnTo>
                <a:lnTo>
                  <a:pt x="698" y="126"/>
                </a:lnTo>
                <a:lnTo>
                  <a:pt x="704" y="95"/>
                </a:lnTo>
                <a:lnTo>
                  <a:pt x="712" y="64"/>
                </a:lnTo>
                <a:lnTo>
                  <a:pt x="723" y="34"/>
                </a:lnTo>
                <a:lnTo>
                  <a:pt x="805" y="52"/>
                </a:lnTo>
                <a:lnTo>
                  <a:pt x="877" y="74"/>
                </a:lnTo>
                <a:lnTo>
                  <a:pt x="942" y="101"/>
                </a:lnTo>
                <a:lnTo>
                  <a:pt x="998" y="129"/>
                </a:lnTo>
                <a:lnTo>
                  <a:pt x="1047" y="161"/>
                </a:lnTo>
                <a:lnTo>
                  <a:pt x="1088" y="195"/>
                </a:lnTo>
                <a:lnTo>
                  <a:pt x="1124" y="232"/>
                </a:lnTo>
                <a:lnTo>
                  <a:pt x="1155" y="268"/>
                </a:lnTo>
                <a:lnTo>
                  <a:pt x="1178" y="308"/>
                </a:lnTo>
                <a:lnTo>
                  <a:pt x="1199" y="348"/>
                </a:lnTo>
                <a:lnTo>
                  <a:pt x="1215" y="389"/>
                </a:lnTo>
                <a:lnTo>
                  <a:pt x="1227" y="430"/>
                </a:lnTo>
                <a:lnTo>
                  <a:pt x="1236" y="471"/>
                </a:lnTo>
                <a:lnTo>
                  <a:pt x="1243" y="512"/>
                </a:lnTo>
                <a:lnTo>
                  <a:pt x="1247" y="552"/>
                </a:lnTo>
                <a:lnTo>
                  <a:pt x="1251" y="592"/>
                </a:lnTo>
                <a:lnTo>
                  <a:pt x="1211" y="554"/>
                </a:lnTo>
                <a:lnTo>
                  <a:pt x="1180" y="517"/>
                </a:lnTo>
                <a:lnTo>
                  <a:pt x="1156" y="486"/>
                </a:lnTo>
                <a:lnTo>
                  <a:pt x="1138" y="458"/>
                </a:lnTo>
                <a:lnTo>
                  <a:pt x="1125" y="436"/>
                </a:lnTo>
                <a:lnTo>
                  <a:pt x="1118" y="417"/>
                </a:lnTo>
                <a:lnTo>
                  <a:pt x="1113" y="407"/>
                </a:lnTo>
                <a:lnTo>
                  <a:pt x="1112" y="403"/>
                </a:lnTo>
                <a:lnTo>
                  <a:pt x="1113" y="410"/>
                </a:lnTo>
                <a:lnTo>
                  <a:pt x="1118" y="427"/>
                </a:lnTo>
                <a:lnTo>
                  <a:pt x="1125" y="454"/>
                </a:lnTo>
                <a:lnTo>
                  <a:pt x="1137" y="488"/>
                </a:lnTo>
                <a:lnTo>
                  <a:pt x="1154" y="524"/>
                </a:lnTo>
                <a:lnTo>
                  <a:pt x="1175" y="561"/>
                </a:lnTo>
                <a:lnTo>
                  <a:pt x="1202" y="597"/>
                </a:lnTo>
                <a:lnTo>
                  <a:pt x="1236" y="628"/>
                </a:lnTo>
                <a:lnTo>
                  <a:pt x="1242" y="632"/>
                </a:lnTo>
                <a:lnTo>
                  <a:pt x="1247" y="638"/>
                </a:lnTo>
                <a:lnTo>
                  <a:pt x="1253" y="642"/>
                </a:lnTo>
                <a:lnTo>
                  <a:pt x="1259" y="648"/>
                </a:lnTo>
                <a:lnTo>
                  <a:pt x="1251" y="648"/>
                </a:lnTo>
                <a:lnTo>
                  <a:pt x="1244" y="648"/>
                </a:lnTo>
                <a:lnTo>
                  <a:pt x="1238" y="649"/>
                </a:lnTo>
                <a:lnTo>
                  <a:pt x="1233" y="649"/>
                </a:lnTo>
                <a:lnTo>
                  <a:pt x="1227" y="637"/>
                </a:lnTo>
                <a:lnTo>
                  <a:pt x="1221" y="627"/>
                </a:lnTo>
                <a:lnTo>
                  <a:pt x="1215" y="617"/>
                </a:lnTo>
                <a:lnTo>
                  <a:pt x="1208" y="609"/>
                </a:lnTo>
                <a:lnTo>
                  <a:pt x="1200" y="603"/>
                </a:lnTo>
                <a:lnTo>
                  <a:pt x="1193" y="599"/>
                </a:lnTo>
                <a:lnTo>
                  <a:pt x="1185" y="596"/>
                </a:lnTo>
                <a:lnTo>
                  <a:pt x="1177" y="594"/>
                </a:lnTo>
                <a:lnTo>
                  <a:pt x="1163" y="597"/>
                </a:lnTo>
                <a:lnTo>
                  <a:pt x="1149" y="607"/>
                </a:lnTo>
                <a:lnTo>
                  <a:pt x="1136" y="624"/>
                </a:lnTo>
                <a:lnTo>
                  <a:pt x="1125" y="644"/>
                </a:lnTo>
                <a:lnTo>
                  <a:pt x="1115" y="670"/>
                </a:lnTo>
                <a:lnTo>
                  <a:pt x="1109" y="698"/>
                </a:lnTo>
                <a:lnTo>
                  <a:pt x="1104" y="731"/>
                </a:lnTo>
                <a:lnTo>
                  <a:pt x="1103" y="766"/>
                </a:lnTo>
                <a:lnTo>
                  <a:pt x="1104" y="800"/>
                </a:lnTo>
                <a:lnTo>
                  <a:pt x="1109" y="832"/>
                </a:lnTo>
                <a:lnTo>
                  <a:pt x="1115" y="862"/>
                </a:lnTo>
                <a:lnTo>
                  <a:pt x="1125" y="887"/>
                </a:lnTo>
                <a:lnTo>
                  <a:pt x="1136" y="908"/>
                </a:lnTo>
                <a:lnTo>
                  <a:pt x="1149" y="923"/>
                </a:lnTo>
                <a:lnTo>
                  <a:pt x="1163" y="935"/>
                </a:lnTo>
                <a:lnTo>
                  <a:pt x="1177" y="937"/>
                </a:lnTo>
                <a:lnTo>
                  <a:pt x="1192" y="935"/>
                </a:lnTo>
                <a:lnTo>
                  <a:pt x="1207" y="923"/>
                </a:lnTo>
                <a:lnTo>
                  <a:pt x="1219" y="908"/>
                </a:lnTo>
                <a:lnTo>
                  <a:pt x="1230" y="887"/>
                </a:lnTo>
                <a:lnTo>
                  <a:pt x="1239" y="862"/>
                </a:lnTo>
                <a:lnTo>
                  <a:pt x="1246" y="832"/>
                </a:lnTo>
                <a:lnTo>
                  <a:pt x="1251" y="800"/>
                </a:lnTo>
                <a:lnTo>
                  <a:pt x="1252" y="766"/>
                </a:lnTo>
                <a:lnTo>
                  <a:pt x="1251" y="743"/>
                </a:lnTo>
                <a:lnTo>
                  <a:pt x="1249" y="722"/>
                </a:lnTo>
                <a:lnTo>
                  <a:pt x="1246" y="703"/>
                </a:lnTo>
                <a:lnTo>
                  <a:pt x="1243" y="684"/>
                </a:lnTo>
                <a:lnTo>
                  <a:pt x="1246" y="683"/>
                </a:lnTo>
                <a:lnTo>
                  <a:pt x="1249" y="682"/>
                </a:lnTo>
                <a:lnTo>
                  <a:pt x="1254" y="679"/>
                </a:lnTo>
                <a:lnTo>
                  <a:pt x="1259" y="677"/>
                </a:lnTo>
                <a:lnTo>
                  <a:pt x="1263" y="676"/>
                </a:lnTo>
                <a:lnTo>
                  <a:pt x="1269" y="675"/>
                </a:lnTo>
                <a:lnTo>
                  <a:pt x="1274" y="673"/>
                </a:lnTo>
                <a:lnTo>
                  <a:pt x="1280" y="672"/>
                </a:lnTo>
                <a:lnTo>
                  <a:pt x="1302" y="707"/>
                </a:lnTo>
                <a:lnTo>
                  <a:pt x="1322" y="743"/>
                </a:lnTo>
                <a:lnTo>
                  <a:pt x="1337" y="781"/>
                </a:lnTo>
                <a:lnTo>
                  <a:pt x="1351" y="819"/>
                </a:lnTo>
                <a:lnTo>
                  <a:pt x="1360" y="855"/>
                </a:lnTo>
                <a:lnTo>
                  <a:pt x="1367" y="887"/>
                </a:lnTo>
                <a:lnTo>
                  <a:pt x="1372" y="912"/>
                </a:lnTo>
                <a:lnTo>
                  <a:pt x="1375" y="930"/>
                </a:lnTo>
                <a:lnTo>
                  <a:pt x="1379" y="954"/>
                </a:lnTo>
                <a:lnTo>
                  <a:pt x="1385" y="963"/>
                </a:lnTo>
                <a:lnTo>
                  <a:pt x="1389" y="973"/>
                </a:lnTo>
                <a:lnTo>
                  <a:pt x="1390" y="997"/>
                </a:lnTo>
                <a:lnTo>
                  <a:pt x="1387" y="1006"/>
                </a:lnTo>
                <a:lnTo>
                  <a:pt x="1378" y="1015"/>
                </a:lnTo>
                <a:lnTo>
                  <a:pt x="1363" y="1020"/>
                </a:lnTo>
                <a:lnTo>
                  <a:pt x="1346" y="1026"/>
                </a:lnTo>
                <a:lnTo>
                  <a:pt x="1326" y="1029"/>
                </a:lnTo>
                <a:lnTo>
                  <a:pt x="1304" y="1032"/>
                </a:lnTo>
                <a:lnTo>
                  <a:pt x="1281" y="1033"/>
                </a:lnTo>
                <a:lnTo>
                  <a:pt x="1260" y="1034"/>
                </a:lnTo>
                <a:close/>
              </a:path>
            </a:pathLst>
          </a:custGeom>
          <a:solidFill>
            <a:srgbClr val="f2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78120" y="5256360"/>
            <a:ext cx="117360" cy="158760"/>
          </a:xfrm>
          <a:custGeom>
            <a:avLst/>
            <a:gdLst/>
            <a:ahLst/>
            <a:rect l="l" t="t" r="r" b="b"/>
            <a:pathLst>
              <a:path w="116" h="240">
                <a:moveTo>
                  <a:pt x="116" y="121"/>
                </a:moveTo>
                <a:lnTo>
                  <a:pt x="115" y="145"/>
                </a:lnTo>
                <a:lnTo>
                  <a:pt x="111" y="167"/>
                </a:lnTo>
                <a:lnTo>
                  <a:pt x="106" y="188"/>
                </a:lnTo>
                <a:lnTo>
                  <a:pt x="99" y="205"/>
                </a:lnTo>
                <a:lnTo>
                  <a:pt x="90" y="219"/>
                </a:lnTo>
                <a:lnTo>
                  <a:pt x="80" y="231"/>
                </a:lnTo>
                <a:lnTo>
                  <a:pt x="70" y="238"/>
                </a:lnTo>
                <a:lnTo>
                  <a:pt x="57" y="240"/>
                </a:lnTo>
                <a:lnTo>
                  <a:pt x="46" y="238"/>
                </a:lnTo>
                <a:lnTo>
                  <a:pt x="35" y="231"/>
                </a:lnTo>
                <a:lnTo>
                  <a:pt x="26" y="219"/>
                </a:lnTo>
                <a:lnTo>
                  <a:pt x="17" y="205"/>
                </a:lnTo>
                <a:lnTo>
                  <a:pt x="10" y="188"/>
                </a:lnTo>
                <a:lnTo>
                  <a:pt x="4" y="167"/>
                </a:lnTo>
                <a:lnTo>
                  <a:pt x="1" y="145"/>
                </a:lnTo>
                <a:lnTo>
                  <a:pt x="0" y="121"/>
                </a:lnTo>
                <a:lnTo>
                  <a:pt x="1" y="97"/>
                </a:lnTo>
                <a:lnTo>
                  <a:pt x="4" y="75"/>
                </a:lnTo>
                <a:lnTo>
                  <a:pt x="10" y="53"/>
                </a:lnTo>
                <a:lnTo>
                  <a:pt x="17" y="35"/>
                </a:lnTo>
                <a:lnTo>
                  <a:pt x="26" y="21"/>
                </a:lnTo>
                <a:lnTo>
                  <a:pt x="35" y="10"/>
                </a:lnTo>
                <a:lnTo>
                  <a:pt x="46" y="3"/>
                </a:lnTo>
                <a:lnTo>
                  <a:pt x="57" y="0"/>
                </a:lnTo>
                <a:lnTo>
                  <a:pt x="70" y="3"/>
                </a:lnTo>
                <a:lnTo>
                  <a:pt x="80" y="10"/>
                </a:lnTo>
                <a:lnTo>
                  <a:pt x="90" y="21"/>
                </a:lnTo>
                <a:lnTo>
                  <a:pt x="99" y="35"/>
                </a:lnTo>
                <a:lnTo>
                  <a:pt x="106" y="53"/>
                </a:lnTo>
                <a:lnTo>
                  <a:pt x="111" y="75"/>
                </a:lnTo>
                <a:lnTo>
                  <a:pt x="115" y="97"/>
                </a:lnTo>
                <a:lnTo>
                  <a:pt x="116" y="121"/>
                </a:lnTo>
                <a:close/>
              </a:path>
            </a:pathLst>
          </a:custGeom>
          <a:solidFill>
            <a:srgbClr val="f2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03360" y="5000760"/>
            <a:ext cx="250920" cy="331560"/>
          </a:xfrm>
          <a:custGeom>
            <a:avLst/>
            <a:gdLst/>
            <a:ahLst/>
            <a:rect l="l" t="t" r="r" b="b"/>
            <a:pathLst>
              <a:path w="250" h="503">
                <a:moveTo>
                  <a:pt x="15" y="380"/>
                </a:moveTo>
                <a:lnTo>
                  <a:pt x="18" y="316"/>
                </a:lnTo>
                <a:lnTo>
                  <a:pt x="25" y="257"/>
                </a:lnTo>
                <a:lnTo>
                  <a:pt x="38" y="204"/>
                </a:lnTo>
                <a:lnTo>
                  <a:pt x="54" y="158"/>
                </a:lnTo>
                <a:lnTo>
                  <a:pt x="73" y="118"/>
                </a:lnTo>
                <a:lnTo>
                  <a:pt x="94" y="90"/>
                </a:lnTo>
                <a:lnTo>
                  <a:pt x="119" y="72"/>
                </a:lnTo>
                <a:lnTo>
                  <a:pt x="145" y="65"/>
                </a:lnTo>
                <a:lnTo>
                  <a:pt x="161" y="68"/>
                </a:lnTo>
                <a:lnTo>
                  <a:pt x="177" y="73"/>
                </a:lnTo>
                <a:lnTo>
                  <a:pt x="191" y="84"/>
                </a:lnTo>
                <a:lnTo>
                  <a:pt x="205" y="100"/>
                </a:lnTo>
                <a:lnTo>
                  <a:pt x="217" y="118"/>
                </a:lnTo>
                <a:lnTo>
                  <a:pt x="230" y="139"/>
                </a:lnTo>
                <a:lnTo>
                  <a:pt x="241" y="165"/>
                </a:lnTo>
                <a:lnTo>
                  <a:pt x="250" y="191"/>
                </a:lnTo>
                <a:lnTo>
                  <a:pt x="241" y="150"/>
                </a:lnTo>
                <a:lnTo>
                  <a:pt x="230" y="114"/>
                </a:lnTo>
                <a:lnTo>
                  <a:pt x="217" y="82"/>
                </a:lnTo>
                <a:lnTo>
                  <a:pt x="202" y="53"/>
                </a:lnTo>
                <a:lnTo>
                  <a:pt x="186" y="31"/>
                </a:lnTo>
                <a:lnTo>
                  <a:pt x="168" y="14"/>
                </a:lnTo>
                <a:lnTo>
                  <a:pt x="149" y="4"/>
                </a:lnTo>
                <a:lnTo>
                  <a:pt x="129" y="0"/>
                </a:lnTo>
                <a:lnTo>
                  <a:pt x="103" y="7"/>
                </a:lnTo>
                <a:lnTo>
                  <a:pt x="78" y="25"/>
                </a:lnTo>
                <a:lnTo>
                  <a:pt x="57" y="53"/>
                </a:lnTo>
                <a:lnTo>
                  <a:pt x="38" y="91"/>
                </a:lnTo>
                <a:lnTo>
                  <a:pt x="22" y="139"/>
                </a:lnTo>
                <a:lnTo>
                  <a:pt x="10" y="193"/>
                </a:lnTo>
                <a:lnTo>
                  <a:pt x="2" y="252"/>
                </a:lnTo>
                <a:lnTo>
                  <a:pt x="0" y="315"/>
                </a:lnTo>
                <a:lnTo>
                  <a:pt x="2" y="367"/>
                </a:lnTo>
                <a:lnTo>
                  <a:pt x="6" y="416"/>
                </a:lnTo>
                <a:lnTo>
                  <a:pt x="15" y="461"/>
                </a:lnTo>
                <a:lnTo>
                  <a:pt x="25" y="503"/>
                </a:lnTo>
                <a:lnTo>
                  <a:pt x="21" y="474"/>
                </a:lnTo>
                <a:lnTo>
                  <a:pt x="18" y="444"/>
                </a:lnTo>
                <a:lnTo>
                  <a:pt x="16" y="412"/>
                </a:lnTo>
                <a:lnTo>
                  <a:pt x="15" y="3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54120" y="5292720"/>
            <a:ext cx="243000" cy="127080"/>
          </a:xfrm>
          <a:custGeom>
            <a:avLst/>
            <a:gdLst/>
            <a:ahLst/>
            <a:rect l="l" t="t" r="r" b="b"/>
            <a:pathLst>
              <a:path w="242" h="192">
                <a:moveTo>
                  <a:pt x="201" y="0"/>
                </a:moveTo>
                <a:lnTo>
                  <a:pt x="203" y="87"/>
                </a:lnTo>
                <a:lnTo>
                  <a:pt x="212" y="143"/>
                </a:lnTo>
                <a:lnTo>
                  <a:pt x="212" y="143"/>
                </a:lnTo>
                <a:lnTo>
                  <a:pt x="211" y="145"/>
                </a:lnTo>
                <a:lnTo>
                  <a:pt x="209" y="147"/>
                </a:lnTo>
                <a:lnTo>
                  <a:pt x="203" y="149"/>
                </a:lnTo>
                <a:lnTo>
                  <a:pt x="194" y="152"/>
                </a:lnTo>
                <a:lnTo>
                  <a:pt x="180" y="156"/>
                </a:lnTo>
                <a:lnTo>
                  <a:pt x="159" y="159"/>
                </a:lnTo>
                <a:lnTo>
                  <a:pt x="132" y="163"/>
                </a:lnTo>
                <a:lnTo>
                  <a:pt x="103" y="164"/>
                </a:lnTo>
                <a:lnTo>
                  <a:pt x="77" y="164"/>
                </a:lnTo>
                <a:lnTo>
                  <a:pt x="53" y="162"/>
                </a:lnTo>
                <a:lnTo>
                  <a:pt x="35" y="157"/>
                </a:lnTo>
                <a:lnTo>
                  <a:pt x="21" y="153"/>
                </a:lnTo>
                <a:lnTo>
                  <a:pt x="9" y="149"/>
                </a:lnTo>
                <a:lnTo>
                  <a:pt x="3" y="146"/>
                </a:lnTo>
                <a:lnTo>
                  <a:pt x="0" y="145"/>
                </a:lnTo>
                <a:lnTo>
                  <a:pt x="4" y="147"/>
                </a:lnTo>
                <a:lnTo>
                  <a:pt x="13" y="153"/>
                </a:lnTo>
                <a:lnTo>
                  <a:pt x="27" y="160"/>
                </a:lnTo>
                <a:lnTo>
                  <a:pt x="45" y="170"/>
                </a:lnTo>
                <a:lnTo>
                  <a:pt x="67" y="178"/>
                </a:lnTo>
                <a:lnTo>
                  <a:pt x="89" y="187"/>
                </a:lnTo>
                <a:lnTo>
                  <a:pt x="114" y="191"/>
                </a:lnTo>
                <a:lnTo>
                  <a:pt x="138" y="192"/>
                </a:lnTo>
                <a:lnTo>
                  <a:pt x="160" y="190"/>
                </a:lnTo>
                <a:lnTo>
                  <a:pt x="181" y="185"/>
                </a:lnTo>
                <a:lnTo>
                  <a:pt x="199" y="181"/>
                </a:lnTo>
                <a:lnTo>
                  <a:pt x="213" y="176"/>
                </a:lnTo>
                <a:lnTo>
                  <a:pt x="226" y="171"/>
                </a:lnTo>
                <a:lnTo>
                  <a:pt x="235" y="167"/>
                </a:lnTo>
                <a:lnTo>
                  <a:pt x="239" y="164"/>
                </a:lnTo>
                <a:lnTo>
                  <a:pt x="242" y="163"/>
                </a:lnTo>
                <a:lnTo>
                  <a:pt x="220" y="104"/>
                </a:lnTo>
                <a:lnTo>
                  <a:pt x="20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09840" y="5508720"/>
            <a:ext cx="287280" cy="623880"/>
          </a:xfrm>
          <a:custGeom>
            <a:avLst/>
            <a:gdLst/>
            <a:ahLst/>
            <a:rect l="l" t="t" r="r" b="b"/>
            <a:pathLst>
              <a:path w="289" h="945">
                <a:moveTo>
                  <a:pt x="73" y="410"/>
                </a:moveTo>
                <a:lnTo>
                  <a:pt x="49" y="535"/>
                </a:lnTo>
                <a:lnTo>
                  <a:pt x="30" y="645"/>
                </a:lnTo>
                <a:lnTo>
                  <a:pt x="17" y="736"/>
                </a:lnTo>
                <a:lnTo>
                  <a:pt x="9" y="811"/>
                </a:lnTo>
                <a:lnTo>
                  <a:pt x="3" y="870"/>
                </a:lnTo>
                <a:lnTo>
                  <a:pt x="1" y="911"/>
                </a:lnTo>
                <a:lnTo>
                  <a:pt x="0" y="936"/>
                </a:lnTo>
                <a:lnTo>
                  <a:pt x="0" y="945"/>
                </a:lnTo>
                <a:lnTo>
                  <a:pt x="1" y="937"/>
                </a:lnTo>
                <a:lnTo>
                  <a:pt x="6" y="916"/>
                </a:lnTo>
                <a:lnTo>
                  <a:pt x="11" y="883"/>
                </a:lnTo>
                <a:lnTo>
                  <a:pt x="19" y="840"/>
                </a:lnTo>
                <a:lnTo>
                  <a:pt x="29" y="788"/>
                </a:lnTo>
                <a:lnTo>
                  <a:pt x="40" y="731"/>
                </a:lnTo>
                <a:lnTo>
                  <a:pt x="53" y="668"/>
                </a:lnTo>
                <a:lnTo>
                  <a:pt x="67" y="603"/>
                </a:lnTo>
                <a:lnTo>
                  <a:pt x="80" y="535"/>
                </a:lnTo>
                <a:lnTo>
                  <a:pt x="96" y="469"/>
                </a:lnTo>
                <a:lnTo>
                  <a:pt x="111" y="405"/>
                </a:lnTo>
                <a:lnTo>
                  <a:pt x="126" y="344"/>
                </a:lnTo>
                <a:lnTo>
                  <a:pt x="141" y="291"/>
                </a:lnTo>
                <a:lnTo>
                  <a:pt x="156" y="244"/>
                </a:lnTo>
                <a:lnTo>
                  <a:pt x="170" y="206"/>
                </a:lnTo>
                <a:lnTo>
                  <a:pt x="184" y="181"/>
                </a:lnTo>
                <a:lnTo>
                  <a:pt x="207" y="143"/>
                </a:lnTo>
                <a:lnTo>
                  <a:pt x="229" y="109"/>
                </a:lnTo>
                <a:lnTo>
                  <a:pt x="247" y="79"/>
                </a:lnTo>
                <a:lnTo>
                  <a:pt x="262" y="52"/>
                </a:lnTo>
                <a:lnTo>
                  <a:pt x="273" y="31"/>
                </a:lnTo>
                <a:lnTo>
                  <a:pt x="282" y="14"/>
                </a:lnTo>
                <a:lnTo>
                  <a:pt x="286" y="4"/>
                </a:lnTo>
                <a:lnTo>
                  <a:pt x="289" y="0"/>
                </a:lnTo>
                <a:lnTo>
                  <a:pt x="288" y="1"/>
                </a:lnTo>
                <a:lnTo>
                  <a:pt x="282" y="3"/>
                </a:lnTo>
                <a:lnTo>
                  <a:pt x="275" y="7"/>
                </a:lnTo>
                <a:lnTo>
                  <a:pt x="265" y="14"/>
                </a:lnTo>
                <a:lnTo>
                  <a:pt x="254" y="24"/>
                </a:lnTo>
                <a:lnTo>
                  <a:pt x="240" y="36"/>
                </a:lnTo>
                <a:lnTo>
                  <a:pt x="224" y="52"/>
                </a:lnTo>
                <a:lnTo>
                  <a:pt x="209" y="72"/>
                </a:lnTo>
                <a:lnTo>
                  <a:pt x="192" y="97"/>
                </a:lnTo>
                <a:lnTo>
                  <a:pt x="174" y="125"/>
                </a:lnTo>
                <a:lnTo>
                  <a:pt x="156" y="159"/>
                </a:lnTo>
                <a:lnTo>
                  <a:pt x="138" y="197"/>
                </a:lnTo>
                <a:lnTo>
                  <a:pt x="121" y="240"/>
                </a:lnTo>
                <a:lnTo>
                  <a:pt x="104" y="291"/>
                </a:lnTo>
                <a:lnTo>
                  <a:pt x="88" y="347"/>
                </a:lnTo>
                <a:lnTo>
                  <a:pt x="73" y="4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49440" y="6141960"/>
            <a:ext cx="189000" cy="130320"/>
          </a:xfrm>
          <a:custGeom>
            <a:avLst/>
            <a:gdLst/>
            <a:ahLst/>
            <a:rect l="l" t="t" r="r" b="b"/>
            <a:pathLst>
              <a:path w="191" h="197">
                <a:moveTo>
                  <a:pt x="2" y="0"/>
                </a:moveTo>
                <a:lnTo>
                  <a:pt x="1" y="10"/>
                </a:lnTo>
                <a:lnTo>
                  <a:pt x="0" y="34"/>
                </a:lnTo>
                <a:lnTo>
                  <a:pt x="0" y="68"/>
                </a:lnTo>
                <a:lnTo>
                  <a:pt x="1" y="106"/>
                </a:lnTo>
                <a:lnTo>
                  <a:pt x="6" y="142"/>
                </a:lnTo>
                <a:lnTo>
                  <a:pt x="18" y="175"/>
                </a:lnTo>
                <a:lnTo>
                  <a:pt x="34" y="194"/>
                </a:lnTo>
                <a:lnTo>
                  <a:pt x="59" y="197"/>
                </a:lnTo>
                <a:lnTo>
                  <a:pt x="87" y="185"/>
                </a:lnTo>
                <a:lnTo>
                  <a:pt x="113" y="162"/>
                </a:lnTo>
                <a:lnTo>
                  <a:pt x="136" y="135"/>
                </a:lnTo>
                <a:lnTo>
                  <a:pt x="155" y="106"/>
                </a:lnTo>
                <a:lnTo>
                  <a:pt x="170" y="78"/>
                </a:lnTo>
                <a:lnTo>
                  <a:pt x="182" y="54"/>
                </a:lnTo>
                <a:lnTo>
                  <a:pt x="189" y="37"/>
                </a:lnTo>
                <a:lnTo>
                  <a:pt x="191" y="30"/>
                </a:lnTo>
                <a:lnTo>
                  <a:pt x="188" y="34"/>
                </a:lnTo>
                <a:lnTo>
                  <a:pt x="179" y="45"/>
                </a:lnTo>
                <a:lnTo>
                  <a:pt x="165" y="61"/>
                </a:lnTo>
                <a:lnTo>
                  <a:pt x="148" y="78"/>
                </a:lnTo>
                <a:lnTo>
                  <a:pt x="129" y="96"/>
                </a:lnTo>
                <a:lnTo>
                  <a:pt x="109" y="113"/>
                </a:lnTo>
                <a:lnTo>
                  <a:pt x="89" y="125"/>
                </a:lnTo>
                <a:lnTo>
                  <a:pt x="69" y="131"/>
                </a:lnTo>
                <a:lnTo>
                  <a:pt x="50" y="127"/>
                </a:lnTo>
                <a:lnTo>
                  <a:pt x="36" y="113"/>
                </a:lnTo>
                <a:lnTo>
                  <a:pt x="23" y="92"/>
                </a:lnTo>
                <a:lnTo>
                  <a:pt x="14" y="68"/>
                </a:lnTo>
                <a:lnTo>
                  <a:pt x="9" y="43"/>
                </a:lnTo>
                <a:lnTo>
                  <a:pt x="4" y="21"/>
                </a:lnTo>
                <a:lnTo>
                  <a:pt x="3" y="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6235560"/>
            <a:ext cx="180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1560" y="5565600"/>
            <a:ext cx="203400" cy="51120"/>
          </a:xfrm>
          <a:custGeom>
            <a:avLst/>
            <a:gdLst/>
            <a:ahLst/>
            <a:rect l="l" t="t" r="r" b="b"/>
            <a:pathLst>
              <a:path w="204" h="80">
                <a:moveTo>
                  <a:pt x="0" y="7"/>
                </a:moveTo>
                <a:lnTo>
                  <a:pt x="0" y="9"/>
                </a:lnTo>
                <a:lnTo>
                  <a:pt x="1" y="11"/>
                </a:lnTo>
                <a:lnTo>
                  <a:pt x="5" y="14"/>
                </a:lnTo>
                <a:lnTo>
                  <a:pt x="10" y="18"/>
                </a:lnTo>
                <a:lnTo>
                  <a:pt x="19" y="24"/>
                </a:lnTo>
                <a:lnTo>
                  <a:pt x="33" y="27"/>
                </a:lnTo>
                <a:lnTo>
                  <a:pt x="51" y="30"/>
                </a:lnTo>
                <a:lnTo>
                  <a:pt x="74" y="31"/>
                </a:lnTo>
                <a:lnTo>
                  <a:pt x="100" y="34"/>
                </a:lnTo>
                <a:lnTo>
                  <a:pt x="125" y="38"/>
                </a:lnTo>
                <a:lnTo>
                  <a:pt x="147" y="47"/>
                </a:lnTo>
                <a:lnTo>
                  <a:pt x="166" y="55"/>
                </a:lnTo>
                <a:lnTo>
                  <a:pt x="182" y="65"/>
                </a:lnTo>
                <a:lnTo>
                  <a:pt x="194" y="73"/>
                </a:lnTo>
                <a:lnTo>
                  <a:pt x="202" y="77"/>
                </a:lnTo>
                <a:lnTo>
                  <a:pt x="204" y="80"/>
                </a:lnTo>
                <a:lnTo>
                  <a:pt x="203" y="79"/>
                </a:lnTo>
                <a:lnTo>
                  <a:pt x="197" y="73"/>
                </a:lnTo>
                <a:lnTo>
                  <a:pt x="189" y="65"/>
                </a:lnTo>
                <a:lnTo>
                  <a:pt x="178" y="55"/>
                </a:lnTo>
                <a:lnTo>
                  <a:pt x="164" y="44"/>
                </a:lnTo>
                <a:lnTo>
                  <a:pt x="147" y="33"/>
                </a:lnTo>
                <a:lnTo>
                  <a:pt x="125" y="23"/>
                </a:lnTo>
                <a:lnTo>
                  <a:pt x="102" y="13"/>
                </a:lnTo>
                <a:lnTo>
                  <a:pt x="78" y="6"/>
                </a:lnTo>
                <a:lnTo>
                  <a:pt x="58" y="2"/>
                </a:lnTo>
                <a:lnTo>
                  <a:pt x="41" y="0"/>
                </a:lnTo>
                <a:lnTo>
                  <a:pt x="26" y="0"/>
                </a:lnTo>
                <a:lnTo>
                  <a:pt x="15" y="3"/>
                </a:lnTo>
                <a:lnTo>
                  <a:pt x="7" y="4"/>
                </a:lnTo>
                <a:lnTo>
                  <a:pt x="1" y="6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98640" y="5543640"/>
            <a:ext cx="32040" cy="150840"/>
          </a:xfrm>
          <a:custGeom>
            <a:avLst/>
            <a:gdLst/>
            <a:ahLst/>
            <a:rect l="l" t="t" r="r" b="b"/>
            <a:pathLst>
              <a:path w="31" h="229">
                <a:moveTo>
                  <a:pt x="21" y="10"/>
                </a:moveTo>
                <a:lnTo>
                  <a:pt x="17" y="18"/>
                </a:lnTo>
                <a:lnTo>
                  <a:pt x="12" y="41"/>
                </a:lnTo>
                <a:lnTo>
                  <a:pt x="5" y="73"/>
                </a:lnTo>
                <a:lnTo>
                  <a:pt x="0" y="112"/>
                </a:lnTo>
                <a:lnTo>
                  <a:pt x="1" y="153"/>
                </a:lnTo>
                <a:lnTo>
                  <a:pt x="5" y="191"/>
                </a:lnTo>
                <a:lnTo>
                  <a:pt x="8" y="218"/>
                </a:lnTo>
                <a:lnTo>
                  <a:pt x="10" y="229"/>
                </a:lnTo>
                <a:lnTo>
                  <a:pt x="23" y="228"/>
                </a:lnTo>
                <a:lnTo>
                  <a:pt x="23" y="226"/>
                </a:lnTo>
                <a:lnTo>
                  <a:pt x="22" y="223"/>
                </a:lnTo>
                <a:lnTo>
                  <a:pt x="19" y="215"/>
                </a:lnTo>
                <a:lnTo>
                  <a:pt x="16" y="199"/>
                </a:lnTo>
                <a:lnTo>
                  <a:pt x="16" y="159"/>
                </a:lnTo>
                <a:lnTo>
                  <a:pt x="22" y="91"/>
                </a:lnTo>
                <a:lnTo>
                  <a:pt x="27" y="28"/>
                </a:lnTo>
                <a:lnTo>
                  <a:pt x="31" y="0"/>
                </a:lnTo>
                <a:lnTo>
                  <a:pt x="21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73360" y="5811840"/>
            <a:ext cx="133200" cy="208080"/>
          </a:xfrm>
          <a:custGeom>
            <a:avLst/>
            <a:gdLst/>
            <a:ahLst/>
            <a:rect l="l" t="t" r="r" b="b"/>
            <a:pathLst>
              <a:path w="133" h="318">
                <a:moveTo>
                  <a:pt x="94" y="159"/>
                </a:moveTo>
                <a:lnTo>
                  <a:pt x="103" y="153"/>
                </a:lnTo>
                <a:lnTo>
                  <a:pt x="110" y="146"/>
                </a:lnTo>
                <a:lnTo>
                  <a:pt x="116" y="138"/>
                </a:lnTo>
                <a:lnTo>
                  <a:pt x="122" y="129"/>
                </a:lnTo>
                <a:lnTo>
                  <a:pt x="127" y="118"/>
                </a:lnTo>
                <a:lnTo>
                  <a:pt x="130" y="107"/>
                </a:lnTo>
                <a:lnTo>
                  <a:pt x="132" y="96"/>
                </a:lnTo>
                <a:lnTo>
                  <a:pt x="133" y="83"/>
                </a:lnTo>
                <a:lnTo>
                  <a:pt x="132" y="66"/>
                </a:lnTo>
                <a:lnTo>
                  <a:pt x="128" y="51"/>
                </a:lnTo>
                <a:lnTo>
                  <a:pt x="122" y="37"/>
                </a:lnTo>
                <a:lnTo>
                  <a:pt x="114" y="24"/>
                </a:lnTo>
                <a:lnTo>
                  <a:pt x="104" y="14"/>
                </a:lnTo>
                <a:lnTo>
                  <a:pt x="93" y="7"/>
                </a:lnTo>
                <a:lnTo>
                  <a:pt x="80" y="2"/>
                </a:lnTo>
                <a:lnTo>
                  <a:pt x="67" y="0"/>
                </a:lnTo>
                <a:lnTo>
                  <a:pt x="53" y="2"/>
                </a:lnTo>
                <a:lnTo>
                  <a:pt x="41" y="7"/>
                </a:lnTo>
                <a:lnTo>
                  <a:pt x="30" y="14"/>
                </a:lnTo>
                <a:lnTo>
                  <a:pt x="21" y="24"/>
                </a:lnTo>
                <a:lnTo>
                  <a:pt x="12" y="37"/>
                </a:lnTo>
                <a:lnTo>
                  <a:pt x="6" y="51"/>
                </a:lnTo>
                <a:lnTo>
                  <a:pt x="1" y="66"/>
                </a:lnTo>
                <a:lnTo>
                  <a:pt x="0" y="83"/>
                </a:lnTo>
                <a:lnTo>
                  <a:pt x="1" y="96"/>
                </a:lnTo>
                <a:lnTo>
                  <a:pt x="4" y="107"/>
                </a:lnTo>
                <a:lnTo>
                  <a:pt x="7" y="118"/>
                </a:lnTo>
                <a:lnTo>
                  <a:pt x="12" y="129"/>
                </a:lnTo>
                <a:lnTo>
                  <a:pt x="17" y="138"/>
                </a:lnTo>
                <a:lnTo>
                  <a:pt x="25" y="146"/>
                </a:lnTo>
                <a:lnTo>
                  <a:pt x="32" y="153"/>
                </a:lnTo>
                <a:lnTo>
                  <a:pt x="41" y="159"/>
                </a:lnTo>
                <a:lnTo>
                  <a:pt x="32" y="165"/>
                </a:lnTo>
                <a:lnTo>
                  <a:pt x="25" y="172"/>
                </a:lnTo>
                <a:lnTo>
                  <a:pt x="17" y="180"/>
                </a:lnTo>
                <a:lnTo>
                  <a:pt x="12" y="188"/>
                </a:lnTo>
                <a:lnTo>
                  <a:pt x="7" y="200"/>
                </a:lnTo>
                <a:lnTo>
                  <a:pt x="4" y="211"/>
                </a:lnTo>
                <a:lnTo>
                  <a:pt x="1" y="222"/>
                </a:lnTo>
                <a:lnTo>
                  <a:pt x="0" y="235"/>
                </a:lnTo>
                <a:lnTo>
                  <a:pt x="1" y="252"/>
                </a:lnTo>
                <a:lnTo>
                  <a:pt x="6" y="267"/>
                </a:lnTo>
                <a:lnTo>
                  <a:pt x="12" y="281"/>
                </a:lnTo>
                <a:lnTo>
                  <a:pt x="21" y="293"/>
                </a:lnTo>
                <a:lnTo>
                  <a:pt x="30" y="304"/>
                </a:lnTo>
                <a:lnTo>
                  <a:pt x="41" y="311"/>
                </a:lnTo>
                <a:lnTo>
                  <a:pt x="53" y="316"/>
                </a:lnTo>
                <a:lnTo>
                  <a:pt x="67" y="318"/>
                </a:lnTo>
                <a:lnTo>
                  <a:pt x="80" y="316"/>
                </a:lnTo>
                <a:lnTo>
                  <a:pt x="93" y="311"/>
                </a:lnTo>
                <a:lnTo>
                  <a:pt x="104" y="304"/>
                </a:lnTo>
                <a:lnTo>
                  <a:pt x="114" y="293"/>
                </a:lnTo>
                <a:lnTo>
                  <a:pt x="122" y="281"/>
                </a:lnTo>
                <a:lnTo>
                  <a:pt x="128" y="267"/>
                </a:lnTo>
                <a:lnTo>
                  <a:pt x="132" y="252"/>
                </a:lnTo>
                <a:lnTo>
                  <a:pt x="133" y="235"/>
                </a:lnTo>
                <a:lnTo>
                  <a:pt x="132" y="222"/>
                </a:lnTo>
                <a:lnTo>
                  <a:pt x="130" y="211"/>
                </a:lnTo>
                <a:lnTo>
                  <a:pt x="127" y="200"/>
                </a:lnTo>
                <a:lnTo>
                  <a:pt x="122" y="188"/>
                </a:lnTo>
                <a:lnTo>
                  <a:pt x="116" y="180"/>
                </a:lnTo>
                <a:lnTo>
                  <a:pt x="110" y="172"/>
                </a:lnTo>
                <a:lnTo>
                  <a:pt x="103" y="165"/>
                </a:lnTo>
                <a:lnTo>
                  <a:pt x="94" y="15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49280" y="5138640"/>
            <a:ext cx="243000" cy="69840"/>
          </a:xfrm>
          <a:custGeom>
            <a:avLst/>
            <a:gdLst/>
            <a:ahLst/>
            <a:rect l="l" t="t" r="r" b="b"/>
            <a:pathLst>
              <a:path w="242" h="105">
                <a:moveTo>
                  <a:pt x="238" y="19"/>
                </a:moveTo>
                <a:lnTo>
                  <a:pt x="239" y="14"/>
                </a:lnTo>
                <a:lnTo>
                  <a:pt x="241" y="9"/>
                </a:lnTo>
                <a:lnTo>
                  <a:pt x="241" y="5"/>
                </a:lnTo>
                <a:lnTo>
                  <a:pt x="242" y="0"/>
                </a:lnTo>
                <a:lnTo>
                  <a:pt x="221" y="1"/>
                </a:lnTo>
                <a:lnTo>
                  <a:pt x="201" y="4"/>
                </a:lnTo>
                <a:lnTo>
                  <a:pt x="182" y="8"/>
                </a:lnTo>
                <a:lnTo>
                  <a:pt x="164" y="12"/>
                </a:lnTo>
                <a:lnTo>
                  <a:pt x="146" y="16"/>
                </a:lnTo>
                <a:lnTo>
                  <a:pt x="128" y="22"/>
                </a:lnTo>
                <a:lnTo>
                  <a:pt x="112" y="28"/>
                </a:lnTo>
                <a:lnTo>
                  <a:pt x="96" y="35"/>
                </a:lnTo>
                <a:lnTo>
                  <a:pt x="80" y="42"/>
                </a:lnTo>
                <a:lnTo>
                  <a:pt x="66" y="49"/>
                </a:lnTo>
                <a:lnTo>
                  <a:pt x="52" y="57"/>
                </a:lnTo>
                <a:lnTo>
                  <a:pt x="40" y="66"/>
                </a:lnTo>
                <a:lnTo>
                  <a:pt x="29" y="75"/>
                </a:lnTo>
                <a:lnTo>
                  <a:pt x="18" y="85"/>
                </a:lnTo>
                <a:lnTo>
                  <a:pt x="8" y="95"/>
                </a:lnTo>
                <a:lnTo>
                  <a:pt x="0" y="105"/>
                </a:lnTo>
                <a:lnTo>
                  <a:pt x="11" y="97"/>
                </a:lnTo>
                <a:lnTo>
                  <a:pt x="21" y="88"/>
                </a:lnTo>
                <a:lnTo>
                  <a:pt x="32" y="81"/>
                </a:lnTo>
                <a:lnTo>
                  <a:pt x="44" y="73"/>
                </a:lnTo>
                <a:lnTo>
                  <a:pt x="57" y="66"/>
                </a:lnTo>
                <a:lnTo>
                  <a:pt x="70" y="60"/>
                </a:lnTo>
                <a:lnTo>
                  <a:pt x="85" y="53"/>
                </a:lnTo>
                <a:lnTo>
                  <a:pt x="100" y="47"/>
                </a:lnTo>
                <a:lnTo>
                  <a:pt x="115" y="42"/>
                </a:lnTo>
                <a:lnTo>
                  <a:pt x="131" y="37"/>
                </a:lnTo>
                <a:lnTo>
                  <a:pt x="148" y="33"/>
                </a:lnTo>
                <a:lnTo>
                  <a:pt x="165" y="29"/>
                </a:lnTo>
                <a:lnTo>
                  <a:pt x="183" y="26"/>
                </a:lnTo>
                <a:lnTo>
                  <a:pt x="201" y="23"/>
                </a:lnTo>
                <a:lnTo>
                  <a:pt x="219" y="21"/>
                </a:lnTo>
                <a:lnTo>
                  <a:pt x="238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53960" y="5195880"/>
            <a:ext cx="227160" cy="68400"/>
          </a:xfrm>
          <a:custGeom>
            <a:avLst/>
            <a:gdLst/>
            <a:ahLst/>
            <a:rect l="l" t="t" r="r" b="b"/>
            <a:pathLst>
              <a:path w="227" h="104">
                <a:moveTo>
                  <a:pt x="225" y="20"/>
                </a:moveTo>
                <a:lnTo>
                  <a:pt x="225" y="14"/>
                </a:lnTo>
                <a:lnTo>
                  <a:pt x="227" y="10"/>
                </a:lnTo>
                <a:lnTo>
                  <a:pt x="227" y="6"/>
                </a:lnTo>
                <a:lnTo>
                  <a:pt x="227" y="0"/>
                </a:lnTo>
                <a:lnTo>
                  <a:pt x="207" y="3"/>
                </a:lnTo>
                <a:lnTo>
                  <a:pt x="189" y="6"/>
                </a:lnTo>
                <a:lnTo>
                  <a:pt x="171" y="9"/>
                </a:lnTo>
                <a:lnTo>
                  <a:pt x="153" y="13"/>
                </a:lnTo>
                <a:lnTo>
                  <a:pt x="136" y="19"/>
                </a:lnTo>
                <a:lnTo>
                  <a:pt x="121" y="23"/>
                </a:lnTo>
                <a:lnTo>
                  <a:pt x="105" y="30"/>
                </a:lnTo>
                <a:lnTo>
                  <a:pt x="90" y="35"/>
                </a:lnTo>
                <a:lnTo>
                  <a:pt x="75" y="42"/>
                </a:lnTo>
                <a:lnTo>
                  <a:pt x="62" y="51"/>
                </a:lnTo>
                <a:lnTo>
                  <a:pt x="50" y="58"/>
                </a:lnTo>
                <a:lnTo>
                  <a:pt x="37" y="66"/>
                </a:lnTo>
                <a:lnTo>
                  <a:pt x="27" y="76"/>
                </a:lnTo>
                <a:lnTo>
                  <a:pt x="17" y="85"/>
                </a:lnTo>
                <a:lnTo>
                  <a:pt x="8" y="94"/>
                </a:lnTo>
                <a:lnTo>
                  <a:pt x="0" y="104"/>
                </a:lnTo>
                <a:lnTo>
                  <a:pt x="9" y="96"/>
                </a:lnTo>
                <a:lnTo>
                  <a:pt x="19" y="89"/>
                </a:lnTo>
                <a:lnTo>
                  <a:pt x="30" y="80"/>
                </a:lnTo>
                <a:lnTo>
                  <a:pt x="42" y="73"/>
                </a:lnTo>
                <a:lnTo>
                  <a:pt x="54" y="68"/>
                </a:lnTo>
                <a:lnTo>
                  <a:pt x="66" y="61"/>
                </a:lnTo>
                <a:lnTo>
                  <a:pt x="80" y="55"/>
                </a:lnTo>
                <a:lnTo>
                  <a:pt x="95" y="49"/>
                </a:lnTo>
                <a:lnTo>
                  <a:pt x="109" y="44"/>
                </a:lnTo>
                <a:lnTo>
                  <a:pt x="124" y="38"/>
                </a:lnTo>
                <a:lnTo>
                  <a:pt x="140" y="34"/>
                </a:lnTo>
                <a:lnTo>
                  <a:pt x="157" y="31"/>
                </a:lnTo>
                <a:lnTo>
                  <a:pt x="174" y="27"/>
                </a:lnTo>
                <a:lnTo>
                  <a:pt x="190" y="24"/>
                </a:lnTo>
                <a:lnTo>
                  <a:pt x="207" y="21"/>
                </a:lnTo>
                <a:lnTo>
                  <a:pt x="225" y="2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4200" y="5243400"/>
            <a:ext cx="198360" cy="65160"/>
          </a:xfrm>
          <a:custGeom>
            <a:avLst/>
            <a:gdLst/>
            <a:ahLst/>
            <a:rect l="l" t="t" r="r" b="b"/>
            <a:pathLst>
              <a:path w="198" h="100">
                <a:moveTo>
                  <a:pt x="198" y="19"/>
                </a:moveTo>
                <a:lnTo>
                  <a:pt x="197" y="13"/>
                </a:lnTo>
                <a:lnTo>
                  <a:pt x="197" y="9"/>
                </a:lnTo>
                <a:lnTo>
                  <a:pt x="197" y="5"/>
                </a:lnTo>
                <a:lnTo>
                  <a:pt x="196" y="0"/>
                </a:lnTo>
                <a:lnTo>
                  <a:pt x="180" y="3"/>
                </a:lnTo>
                <a:lnTo>
                  <a:pt x="163" y="6"/>
                </a:lnTo>
                <a:lnTo>
                  <a:pt x="148" y="10"/>
                </a:lnTo>
                <a:lnTo>
                  <a:pt x="134" y="14"/>
                </a:lnTo>
                <a:lnTo>
                  <a:pt x="119" y="20"/>
                </a:lnTo>
                <a:lnTo>
                  <a:pt x="104" y="26"/>
                </a:lnTo>
                <a:lnTo>
                  <a:pt x="92" y="31"/>
                </a:lnTo>
                <a:lnTo>
                  <a:pt x="78" y="37"/>
                </a:lnTo>
                <a:lnTo>
                  <a:pt x="66" y="44"/>
                </a:lnTo>
                <a:lnTo>
                  <a:pt x="55" y="51"/>
                </a:lnTo>
                <a:lnTo>
                  <a:pt x="44" y="58"/>
                </a:lnTo>
                <a:lnTo>
                  <a:pt x="34" y="66"/>
                </a:lnTo>
                <a:lnTo>
                  <a:pt x="24" y="73"/>
                </a:lnTo>
                <a:lnTo>
                  <a:pt x="15" y="82"/>
                </a:lnTo>
                <a:lnTo>
                  <a:pt x="7" y="92"/>
                </a:lnTo>
                <a:lnTo>
                  <a:pt x="0" y="100"/>
                </a:lnTo>
                <a:lnTo>
                  <a:pt x="8" y="93"/>
                </a:lnTo>
                <a:lnTo>
                  <a:pt x="17" y="86"/>
                </a:lnTo>
                <a:lnTo>
                  <a:pt x="28" y="79"/>
                </a:lnTo>
                <a:lnTo>
                  <a:pt x="38" y="72"/>
                </a:lnTo>
                <a:lnTo>
                  <a:pt x="49" y="65"/>
                </a:lnTo>
                <a:lnTo>
                  <a:pt x="60" y="59"/>
                </a:lnTo>
                <a:lnTo>
                  <a:pt x="72" y="54"/>
                </a:lnTo>
                <a:lnTo>
                  <a:pt x="84" y="48"/>
                </a:lnTo>
                <a:lnTo>
                  <a:pt x="96" y="44"/>
                </a:lnTo>
                <a:lnTo>
                  <a:pt x="110" y="38"/>
                </a:lnTo>
                <a:lnTo>
                  <a:pt x="123" y="34"/>
                </a:lnTo>
                <a:lnTo>
                  <a:pt x="138" y="30"/>
                </a:lnTo>
                <a:lnTo>
                  <a:pt x="153" y="27"/>
                </a:lnTo>
                <a:lnTo>
                  <a:pt x="167" y="24"/>
                </a:lnTo>
                <a:lnTo>
                  <a:pt x="182" y="21"/>
                </a:lnTo>
                <a:lnTo>
                  <a:pt x="198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13000" y="5297400"/>
            <a:ext cx="188640" cy="63720"/>
          </a:xfrm>
          <a:custGeom>
            <a:avLst/>
            <a:gdLst/>
            <a:ahLst/>
            <a:rect l="l" t="t" r="r" b="b"/>
            <a:pathLst>
              <a:path w="188" h="97">
                <a:moveTo>
                  <a:pt x="188" y="16"/>
                </a:moveTo>
                <a:lnTo>
                  <a:pt x="187" y="12"/>
                </a:lnTo>
                <a:lnTo>
                  <a:pt x="186" y="8"/>
                </a:lnTo>
                <a:lnTo>
                  <a:pt x="183" y="4"/>
                </a:lnTo>
                <a:lnTo>
                  <a:pt x="182" y="0"/>
                </a:lnTo>
                <a:lnTo>
                  <a:pt x="166" y="2"/>
                </a:lnTo>
                <a:lnTo>
                  <a:pt x="152" y="7"/>
                </a:lnTo>
                <a:lnTo>
                  <a:pt x="138" y="11"/>
                </a:lnTo>
                <a:lnTo>
                  <a:pt x="124" y="15"/>
                </a:lnTo>
                <a:lnTo>
                  <a:pt x="110" y="19"/>
                </a:lnTo>
                <a:lnTo>
                  <a:pt x="98" y="25"/>
                </a:lnTo>
                <a:lnTo>
                  <a:pt x="84" y="30"/>
                </a:lnTo>
                <a:lnTo>
                  <a:pt x="73" y="37"/>
                </a:lnTo>
                <a:lnTo>
                  <a:pt x="62" y="43"/>
                </a:lnTo>
                <a:lnTo>
                  <a:pt x="50" y="50"/>
                </a:lnTo>
                <a:lnTo>
                  <a:pt x="40" y="57"/>
                </a:lnTo>
                <a:lnTo>
                  <a:pt x="31" y="64"/>
                </a:lnTo>
                <a:lnTo>
                  <a:pt x="22" y="73"/>
                </a:lnTo>
                <a:lnTo>
                  <a:pt x="14" y="80"/>
                </a:lnTo>
                <a:lnTo>
                  <a:pt x="6" y="88"/>
                </a:lnTo>
                <a:lnTo>
                  <a:pt x="0" y="97"/>
                </a:lnTo>
                <a:lnTo>
                  <a:pt x="7" y="89"/>
                </a:lnTo>
                <a:lnTo>
                  <a:pt x="16" y="82"/>
                </a:lnTo>
                <a:lnTo>
                  <a:pt x="25" y="75"/>
                </a:lnTo>
                <a:lnTo>
                  <a:pt x="36" y="70"/>
                </a:lnTo>
                <a:lnTo>
                  <a:pt x="46" y="64"/>
                </a:lnTo>
                <a:lnTo>
                  <a:pt x="57" y="57"/>
                </a:lnTo>
                <a:lnTo>
                  <a:pt x="68" y="53"/>
                </a:lnTo>
                <a:lnTo>
                  <a:pt x="80" y="47"/>
                </a:lnTo>
                <a:lnTo>
                  <a:pt x="92" y="42"/>
                </a:lnTo>
                <a:lnTo>
                  <a:pt x="104" y="37"/>
                </a:lnTo>
                <a:lnTo>
                  <a:pt x="118" y="33"/>
                </a:lnTo>
                <a:lnTo>
                  <a:pt x="131" y="29"/>
                </a:lnTo>
                <a:lnTo>
                  <a:pt x="145" y="25"/>
                </a:lnTo>
                <a:lnTo>
                  <a:pt x="159" y="22"/>
                </a:lnTo>
                <a:lnTo>
                  <a:pt x="173" y="19"/>
                </a:lnTo>
                <a:lnTo>
                  <a:pt x="188" y="1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63760" y="5343480"/>
            <a:ext cx="179280" cy="61920"/>
          </a:xfrm>
          <a:custGeom>
            <a:avLst/>
            <a:gdLst/>
            <a:ahLst/>
            <a:rect l="l" t="t" r="r" b="b"/>
            <a:pathLst>
              <a:path w="179" h="94">
                <a:moveTo>
                  <a:pt x="179" y="16"/>
                </a:moveTo>
                <a:lnTo>
                  <a:pt x="175" y="11"/>
                </a:lnTo>
                <a:lnTo>
                  <a:pt x="173" y="7"/>
                </a:lnTo>
                <a:lnTo>
                  <a:pt x="170" y="4"/>
                </a:lnTo>
                <a:lnTo>
                  <a:pt x="166" y="0"/>
                </a:lnTo>
                <a:lnTo>
                  <a:pt x="139" y="7"/>
                </a:lnTo>
                <a:lnTo>
                  <a:pt x="113" y="16"/>
                </a:lnTo>
                <a:lnTo>
                  <a:pt x="89" y="26"/>
                </a:lnTo>
                <a:lnTo>
                  <a:pt x="67" y="37"/>
                </a:lnTo>
                <a:lnTo>
                  <a:pt x="47" y="49"/>
                </a:lnTo>
                <a:lnTo>
                  <a:pt x="30" y="63"/>
                </a:lnTo>
                <a:lnTo>
                  <a:pt x="14" y="79"/>
                </a:lnTo>
                <a:lnTo>
                  <a:pt x="0" y="94"/>
                </a:lnTo>
                <a:lnTo>
                  <a:pt x="16" y="80"/>
                </a:lnTo>
                <a:lnTo>
                  <a:pt x="34" y="69"/>
                </a:lnTo>
                <a:lnTo>
                  <a:pt x="55" y="56"/>
                </a:lnTo>
                <a:lnTo>
                  <a:pt x="76" y="47"/>
                </a:lnTo>
                <a:lnTo>
                  <a:pt x="100" y="37"/>
                </a:lnTo>
                <a:lnTo>
                  <a:pt x="124" y="28"/>
                </a:lnTo>
                <a:lnTo>
                  <a:pt x="150" y="21"/>
                </a:lnTo>
                <a:lnTo>
                  <a:pt x="179" y="1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19200" y="5384880"/>
            <a:ext cx="187200" cy="61920"/>
          </a:xfrm>
          <a:custGeom>
            <a:avLst/>
            <a:gdLst/>
            <a:ahLst/>
            <a:rect l="l" t="t" r="r" b="b"/>
            <a:pathLst>
              <a:path w="188" h="96">
                <a:moveTo>
                  <a:pt x="188" y="16"/>
                </a:moveTo>
                <a:lnTo>
                  <a:pt x="183" y="11"/>
                </a:lnTo>
                <a:lnTo>
                  <a:pt x="180" y="7"/>
                </a:lnTo>
                <a:lnTo>
                  <a:pt x="175" y="4"/>
                </a:lnTo>
                <a:lnTo>
                  <a:pt x="171" y="0"/>
                </a:lnTo>
                <a:lnTo>
                  <a:pt x="143" y="7"/>
                </a:lnTo>
                <a:lnTo>
                  <a:pt x="117" y="16"/>
                </a:lnTo>
                <a:lnTo>
                  <a:pt x="92" y="27"/>
                </a:lnTo>
                <a:lnTo>
                  <a:pt x="68" y="38"/>
                </a:lnTo>
                <a:lnTo>
                  <a:pt x="48" y="51"/>
                </a:lnTo>
                <a:lnTo>
                  <a:pt x="29" y="65"/>
                </a:lnTo>
                <a:lnTo>
                  <a:pt x="13" y="80"/>
                </a:lnTo>
                <a:lnTo>
                  <a:pt x="0" y="96"/>
                </a:lnTo>
                <a:lnTo>
                  <a:pt x="7" y="89"/>
                </a:lnTo>
                <a:lnTo>
                  <a:pt x="16" y="82"/>
                </a:lnTo>
                <a:lnTo>
                  <a:pt x="25" y="75"/>
                </a:lnTo>
                <a:lnTo>
                  <a:pt x="36" y="69"/>
                </a:lnTo>
                <a:lnTo>
                  <a:pt x="46" y="63"/>
                </a:lnTo>
                <a:lnTo>
                  <a:pt x="56" y="56"/>
                </a:lnTo>
                <a:lnTo>
                  <a:pt x="67" y="52"/>
                </a:lnTo>
                <a:lnTo>
                  <a:pt x="80" y="46"/>
                </a:lnTo>
                <a:lnTo>
                  <a:pt x="92" y="41"/>
                </a:lnTo>
                <a:lnTo>
                  <a:pt x="104" y="37"/>
                </a:lnTo>
                <a:lnTo>
                  <a:pt x="117" y="32"/>
                </a:lnTo>
                <a:lnTo>
                  <a:pt x="130" y="28"/>
                </a:lnTo>
                <a:lnTo>
                  <a:pt x="144" y="24"/>
                </a:lnTo>
                <a:lnTo>
                  <a:pt x="158" y="21"/>
                </a:lnTo>
                <a:lnTo>
                  <a:pt x="173" y="18"/>
                </a:lnTo>
                <a:lnTo>
                  <a:pt x="188" y="1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4360" y="5418000"/>
            <a:ext cx="182520" cy="61920"/>
          </a:xfrm>
          <a:custGeom>
            <a:avLst/>
            <a:gdLst/>
            <a:ahLst/>
            <a:rect l="l" t="t" r="r" b="b"/>
            <a:pathLst>
              <a:path w="182" h="94">
                <a:moveTo>
                  <a:pt x="182" y="14"/>
                </a:moveTo>
                <a:lnTo>
                  <a:pt x="177" y="11"/>
                </a:lnTo>
                <a:lnTo>
                  <a:pt x="173" y="7"/>
                </a:lnTo>
                <a:lnTo>
                  <a:pt x="168" y="4"/>
                </a:lnTo>
                <a:lnTo>
                  <a:pt x="164" y="0"/>
                </a:lnTo>
                <a:lnTo>
                  <a:pt x="136" y="7"/>
                </a:lnTo>
                <a:lnTo>
                  <a:pt x="112" y="17"/>
                </a:lnTo>
                <a:lnTo>
                  <a:pt x="88" y="26"/>
                </a:lnTo>
                <a:lnTo>
                  <a:pt x="67" y="38"/>
                </a:lnTo>
                <a:lnTo>
                  <a:pt x="46" y="50"/>
                </a:lnTo>
                <a:lnTo>
                  <a:pt x="28" y="64"/>
                </a:lnTo>
                <a:lnTo>
                  <a:pt x="14" y="78"/>
                </a:lnTo>
                <a:lnTo>
                  <a:pt x="0" y="94"/>
                </a:lnTo>
                <a:lnTo>
                  <a:pt x="8" y="87"/>
                </a:lnTo>
                <a:lnTo>
                  <a:pt x="16" y="80"/>
                </a:lnTo>
                <a:lnTo>
                  <a:pt x="25" y="74"/>
                </a:lnTo>
                <a:lnTo>
                  <a:pt x="35" y="67"/>
                </a:lnTo>
                <a:lnTo>
                  <a:pt x="45" y="62"/>
                </a:lnTo>
                <a:lnTo>
                  <a:pt x="55" y="56"/>
                </a:lnTo>
                <a:lnTo>
                  <a:pt x="65" y="50"/>
                </a:lnTo>
                <a:lnTo>
                  <a:pt x="78" y="45"/>
                </a:lnTo>
                <a:lnTo>
                  <a:pt x="89" y="40"/>
                </a:lnTo>
                <a:lnTo>
                  <a:pt x="102" y="35"/>
                </a:lnTo>
                <a:lnTo>
                  <a:pt x="114" y="31"/>
                </a:lnTo>
                <a:lnTo>
                  <a:pt x="126" y="26"/>
                </a:lnTo>
                <a:lnTo>
                  <a:pt x="140" y="24"/>
                </a:lnTo>
                <a:lnTo>
                  <a:pt x="153" y="19"/>
                </a:lnTo>
                <a:lnTo>
                  <a:pt x="167" y="17"/>
                </a:lnTo>
                <a:lnTo>
                  <a:pt x="182" y="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47720" y="5451480"/>
            <a:ext cx="190440" cy="63360"/>
          </a:xfrm>
          <a:custGeom>
            <a:avLst/>
            <a:gdLst/>
            <a:ahLst/>
            <a:rect l="l" t="t" r="r" b="b"/>
            <a:pathLst>
              <a:path w="191" h="95">
                <a:moveTo>
                  <a:pt x="191" y="15"/>
                </a:moveTo>
                <a:lnTo>
                  <a:pt x="185" y="11"/>
                </a:lnTo>
                <a:lnTo>
                  <a:pt x="181" y="7"/>
                </a:lnTo>
                <a:lnTo>
                  <a:pt x="175" y="4"/>
                </a:lnTo>
                <a:lnTo>
                  <a:pt x="169" y="0"/>
                </a:lnTo>
                <a:lnTo>
                  <a:pt x="141" y="7"/>
                </a:lnTo>
                <a:lnTo>
                  <a:pt x="115" y="15"/>
                </a:lnTo>
                <a:lnTo>
                  <a:pt x="90" y="26"/>
                </a:lnTo>
                <a:lnTo>
                  <a:pt x="68" y="38"/>
                </a:lnTo>
                <a:lnTo>
                  <a:pt x="48" y="50"/>
                </a:lnTo>
                <a:lnTo>
                  <a:pt x="29" y="64"/>
                </a:lnTo>
                <a:lnTo>
                  <a:pt x="14" y="80"/>
                </a:lnTo>
                <a:lnTo>
                  <a:pt x="0" y="95"/>
                </a:lnTo>
                <a:lnTo>
                  <a:pt x="8" y="88"/>
                </a:lnTo>
                <a:lnTo>
                  <a:pt x="17" y="81"/>
                </a:lnTo>
                <a:lnTo>
                  <a:pt x="26" y="74"/>
                </a:lnTo>
                <a:lnTo>
                  <a:pt x="36" y="67"/>
                </a:lnTo>
                <a:lnTo>
                  <a:pt x="46" y="62"/>
                </a:lnTo>
                <a:lnTo>
                  <a:pt x="58" y="56"/>
                </a:lnTo>
                <a:lnTo>
                  <a:pt x="69" y="50"/>
                </a:lnTo>
                <a:lnTo>
                  <a:pt x="80" y="45"/>
                </a:lnTo>
                <a:lnTo>
                  <a:pt x="93" y="39"/>
                </a:lnTo>
                <a:lnTo>
                  <a:pt x="106" y="35"/>
                </a:lnTo>
                <a:lnTo>
                  <a:pt x="119" y="31"/>
                </a:lnTo>
                <a:lnTo>
                  <a:pt x="132" y="26"/>
                </a:lnTo>
                <a:lnTo>
                  <a:pt x="147" y="24"/>
                </a:lnTo>
                <a:lnTo>
                  <a:pt x="161" y="21"/>
                </a:lnTo>
                <a:lnTo>
                  <a:pt x="176" y="18"/>
                </a:lnTo>
                <a:lnTo>
                  <a:pt x="191" y="1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79800" y="5492880"/>
            <a:ext cx="361800" cy="236520"/>
          </a:xfrm>
          <a:custGeom>
            <a:avLst/>
            <a:gdLst/>
            <a:ahLst/>
            <a:rect l="l" t="t" r="r" b="b"/>
            <a:pathLst>
              <a:path w="362" h="357">
                <a:moveTo>
                  <a:pt x="182" y="0"/>
                </a:moveTo>
                <a:lnTo>
                  <a:pt x="164" y="1"/>
                </a:lnTo>
                <a:lnTo>
                  <a:pt x="146" y="4"/>
                </a:lnTo>
                <a:lnTo>
                  <a:pt x="128" y="8"/>
                </a:lnTo>
                <a:lnTo>
                  <a:pt x="111" y="14"/>
                </a:lnTo>
                <a:lnTo>
                  <a:pt x="95" y="21"/>
                </a:lnTo>
                <a:lnTo>
                  <a:pt x="80" y="31"/>
                </a:lnTo>
                <a:lnTo>
                  <a:pt x="67" y="41"/>
                </a:lnTo>
                <a:lnTo>
                  <a:pt x="53" y="52"/>
                </a:lnTo>
                <a:lnTo>
                  <a:pt x="42" y="65"/>
                </a:lnTo>
                <a:lnTo>
                  <a:pt x="31" y="79"/>
                </a:lnTo>
                <a:lnTo>
                  <a:pt x="22" y="93"/>
                </a:lnTo>
                <a:lnTo>
                  <a:pt x="15" y="108"/>
                </a:lnTo>
                <a:lnTo>
                  <a:pt x="8" y="125"/>
                </a:lnTo>
                <a:lnTo>
                  <a:pt x="4" y="142"/>
                </a:lnTo>
                <a:lnTo>
                  <a:pt x="1" y="159"/>
                </a:lnTo>
                <a:lnTo>
                  <a:pt x="0" y="177"/>
                </a:lnTo>
                <a:lnTo>
                  <a:pt x="1" y="195"/>
                </a:lnTo>
                <a:lnTo>
                  <a:pt x="4" y="214"/>
                </a:lnTo>
                <a:lnTo>
                  <a:pt x="8" y="230"/>
                </a:lnTo>
                <a:lnTo>
                  <a:pt x="15" y="247"/>
                </a:lnTo>
                <a:lnTo>
                  <a:pt x="22" y="263"/>
                </a:lnTo>
                <a:lnTo>
                  <a:pt x="31" y="278"/>
                </a:lnTo>
                <a:lnTo>
                  <a:pt x="42" y="292"/>
                </a:lnTo>
                <a:lnTo>
                  <a:pt x="53" y="305"/>
                </a:lnTo>
                <a:lnTo>
                  <a:pt x="67" y="316"/>
                </a:lnTo>
                <a:lnTo>
                  <a:pt x="80" y="326"/>
                </a:lnTo>
                <a:lnTo>
                  <a:pt x="95" y="336"/>
                </a:lnTo>
                <a:lnTo>
                  <a:pt x="111" y="343"/>
                </a:lnTo>
                <a:lnTo>
                  <a:pt x="128" y="349"/>
                </a:lnTo>
                <a:lnTo>
                  <a:pt x="146" y="353"/>
                </a:lnTo>
                <a:lnTo>
                  <a:pt x="164" y="356"/>
                </a:lnTo>
                <a:lnTo>
                  <a:pt x="182" y="357"/>
                </a:lnTo>
                <a:lnTo>
                  <a:pt x="200" y="356"/>
                </a:lnTo>
                <a:lnTo>
                  <a:pt x="218" y="353"/>
                </a:lnTo>
                <a:lnTo>
                  <a:pt x="235" y="349"/>
                </a:lnTo>
                <a:lnTo>
                  <a:pt x="252" y="343"/>
                </a:lnTo>
                <a:lnTo>
                  <a:pt x="267" y="336"/>
                </a:lnTo>
                <a:lnTo>
                  <a:pt x="282" y="326"/>
                </a:lnTo>
                <a:lnTo>
                  <a:pt x="297" y="316"/>
                </a:lnTo>
                <a:lnTo>
                  <a:pt x="309" y="305"/>
                </a:lnTo>
                <a:lnTo>
                  <a:pt x="320" y="292"/>
                </a:lnTo>
                <a:lnTo>
                  <a:pt x="332" y="278"/>
                </a:lnTo>
                <a:lnTo>
                  <a:pt x="341" y="263"/>
                </a:lnTo>
                <a:lnTo>
                  <a:pt x="347" y="247"/>
                </a:lnTo>
                <a:lnTo>
                  <a:pt x="354" y="230"/>
                </a:lnTo>
                <a:lnTo>
                  <a:pt x="359" y="214"/>
                </a:lnTo>
                <a:lnTo>
                  <a:pt x="361" y="195"/>
                </a:lnTo>
                <a:lnTo>
                  <a:pt x="362" y="177"/>
                </a:lnTo>
                <a:lnTo>
                  <a:pt x="361" y="159"/>
                </a:lnTo>
                <a:lnTo>
                  <a:pt x="359" y="142"/>
                </a:lnTo>
                <a:lnTo>
                  <a:pt x="354" y="125"/>
                </a:lnTo>
                <a:lnTo>
                  <a:pt x="347" y="108"/>
                </a:lnTo>
                <a:lnTo>
                  <a:pt x="341" y="93"/>
                </a:lnTo>
                <a:lnTo>
                  <a:pt x="332" y="79"/>
                </a:lnTo>
                <a:lnTo>
                  <a:pt x="320" y="65"/>
                </a:lnTo>
                <a:lnTo>
                  <a:pt x="309" y="52"/>
                </a:lnTo>
                <a:lnTo>
                  <a:pt x="297" y="41"/>
                </a:lnTo>
                <a:lnTo>
                  <a:pt x="282" y="31"/>
                </a:lnTo>
                <a:lnTo>
                  <a:pt x="267" y="21"/>
                </a:lnTo>
                <a:lnTo>
                  <a:pt x="252" y="14"/>
                </a:lnTo>
                <a:lnTo>
                  <a:pt x="235" y="8"/>
                </a:lnTo>
                <a:lnTo>
                  <a:pt x="218" y="4"/>
                </a:lnTo>
                <a:lnTo>
                  <a:pt x="200" y="1"/>
                </a:lnTo>
                <a:lnTo>
                  <a:pt x="182" y="0"/>
                </a:lnTo>
                <a:close/>
              </a:path>
            </a:pathLst>
          </a:custGeom>
          <a:solidFill>
            <a:srgbClr val="f2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1760" y="5511960"/>
            <a:ext cx="319320" cy="198360"/>
          </a:xfrm>
          <a:custGeom>
            <a:avLst/>
            <a:gdLst/>
            <a:ahLst/>
            <a:rect l="l" t="t" r="r" b="b"/>
            <a:pathLst>
              <a:path w="317" h="301">
                <a:moveTo>
                  <a:pt x="159" y="0"/>
                </a:moveTo>
                <a:lnTo>
                  <a:pt x="127" y="3"/>
                </a:lnTo>
                <a:lnTo>
                  <a:pt x="97" y="11"/>
                </a:lnTo>
                <a:lnTo>
                  <a:pt x="70" y="25"/>
                </a:lnTo>
                <a:lnTo>
                  <a:pt x="46" y="44"/>
                </a:lnTo>
                <a:lnTo>
                  <a:pt x="27" y="66"/>
                </a:lnTo>
                <a:lnTo>
                  <a:pt x="12" y="91"/>
                </a:lnTo>
                <a:lnTo>
                  <a:pt x="3" y="120"/>
                </a:lnTo>
                <a:lnTo>
                  <a:pt x="0" y="149"/>
                </a:lnTo>
                <a:lnTo>
                  <a:pt x="3" y="180"/>
                </a:lnTo>
                <a:lnTo>
                  <a:pt x="12" y="208"/>
                </a:lnTo>
                <a:lnTo>
                  <a:pt x="27" y="235"/>
                </a:lnTo>
                <a:lnTo>
                  <a:pt x="46" y="256"/>
                </a:lnTo>
                <a:lnTo>
                  <a:pt x="70" y="276"/>
                </a:lnTo>
                <a:lnTo>
                  <a:pt x="97" y="290"/>
                </a:lnTo>
                <a:lnTo>
                  <a:pt x="127" y="298"/>
                </a:lnTo>
                <a:lnTo>
                  <a:pt x="159" y="301"/>
                </a:lnTo>
                <a:lnTo>
                  <a:pt x="190" y="298"/>
                </a:lnTo>
                <a:lnTo>
                  <a:pt x="220" y="290"/>
                </a:lnTo>
                <a:lnTo>
                  <a:pt x="247" y="276"/>
                </a:lnTo>
                <a:lnTo>
                  <a:pt x="270" y="256"/>
                </a:lnTo>
                <a:lnTo>
                  <a:pt x="289" y="235"/>
                </a:lnTo>
                <a:lnTo>
                  <a:pt x="304" y="208"/>
                </a:lnTo>
                <a:lnTo>
                  <a:pt x="313" y="180"/>
                </a:lnTo>
                <a:lnTo>
                  <a:pt x="317" y="149"/>
                </a:lnTo>
                <a:lnTo>
                  <a:pt x="313" y="120"/>
                </a:lnTo>
                <a:lnTo>
                  <a:pt x="304" y="91"/>
                </a:lnTo>
                <a:lnTo>
                  <a:pt x="289" y="66"/>
                </a:lnTo>
                <a:lnTo>
                  <a:pt x="270" y="44"/>
                </a:lnTo>
                <a:lnTo>
                  <a:pt x="247" y="25"/>
                </a:lnTo>
                <a:lnTo>
                  <a:pt x="220" y="11"/>
                </a:lnTo>
                <a:lnTo>
                  <a:pt x="190" y="3"/>
                </a:lnTo>
                <a:lnTo>
                  <a:pt x="159" y="0"/>
                </a:lnTo>
                <a:close/>
              </a:path>
            </a:pathLst>
          </a:custGeom>
          <a:solidFill>
            <a:srgbClr val="f2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24080" y="5530680"/>
            <a:ext cx="271440" cy="162000"/>
          </a:xfrm>
          <a:custGeom>
            <a:avLst/>
            <a:gdLst/>
            <a:ahLst/>
            <a:rect l="l" t="t" r="r" b="b"/>
            <a:pathLst>
              <a:path w="272" h="245">
                <a:moveTo>
                  <a:pt x="137" y="0"/>
                </a:moveTo>
                <a:lnTo>
                  <a:pt x="110" y="3"/>
                </a:lnTo>
                <a:lnTo>
                  <a:pt x="84" y="10"/>
                </a:lnTo>
                <a:lnTo>
                  <a:pt x="60" y="21"/>
                </a:lnTo>
                <a:lnTo>
                  <a:pt x="40" y="35"/>
                </a:lnTo>
                <a:lnTo>
                  <a:pt x="24" y="54"/>
                </a:lnTo>
                <a:lnTo>
                  <a:pt x="10" y="75"/>
                </a:lnTo>
                <a:lnTo>
                  <a:pt x="3" y="97"/>
                </a:lnTo>
                <a:lnTo>
                  <a:pt x="0" y="121"/>
                </a:lnTo>
                <a:lnTo>
                  <a:pt x="3" y="146"/>
                </a:lnTo>
                <a:lnTo>
                  <a:pt x="10" y="169"/>
                </a:lnTo>
                <a:lnTo>
                  <a:pt x="24" y="190"/>
                </a:lnTo>
                <a:lnTo>
                  <a:pt x="40" y="208"/>
                </a:lnTo>
                <a:lnTo>
                  <a:pt x="60" y="224"/>
                </a:lnTo>
                <a:lnTo>
                  <a:pt x="84" y="235"/>
                </a:lnTo>
                <a:lnTo>
                  <a:pt x="110" y="242"/>
                </a:lnTo>
                <a:lnTo>
                  <a:pt x="137" y="245"/>
                </a:lnTo>
                <a:lnTo>
                  <a:pt x="164" y="242"/>
                </a:lnTo>
                <a:lnTo>
                  <a:pt x="190" y="235"/>
                </a:lnTo>
                <a:lnTo>
                  <a:pt x="212" y="224"/>
                </a:lnTo>
                <a:lnTo>
                  <a:pt x="233" y="208"/>
                </a:lnTo>
                <a:lnTo>
                  <a:pt x="248" y="190"/>
                </a:lnTo>
                <a:lnTo>
                  <a:pt x="262" y="169"/>
                </a:lnTo>
                <a:lnTo>
                  <a:pt x="270" y="146"/>
                </a:lnTo>
                <a:lnTo>
                  <a:pt x="272" y="121"/>
                </a:lnTo>
                <a:lnTo>
                  <a:pt x="270" y="97"/>
                </a:lnTo>
                <a:lnTo>
                  <a:pt x="262" y="75"/>
                </a:lnTo>
                <a:lnTo>
                  <a:pt x="248" y="54"/>
                </a:lnTo>
                <a:lnTo>
                  <a:pt x="233" y="35"/>
                </a:lnTo>
                <a:lnTo>
                  <a:pt x="212" y="21"/>
                </a:lnTo>
                <a:lnTo>
                  <a:pt x="190" y="10"/>
                </a:lnTo>
                <a:lnTo>
                  <a:pt x="164" y="3"/>
                </a:lnTo>
                <a:lnTo>
                  <a:pt x="137" y="0"/>
                </a:lnTo>
                <a:close/>
              </a:path>
            </a:pathLst>
          </a:custGeom>
          <a:solidFill>
            <a:srgbClr val="f2b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7840" y="5549760"/>
            <a:ext cx="225360" cy="122400"/>
          </a:xfrm>
          <a:custGeom>
            <a:avLst/>
            <a:gdLst/>
            <a:ahLst/>
            <a:rect l="l" t="t" r="r" b="b"/>
            <a:pathLst>
              <a:path w="226" h="187">
                <a:moveTo>
                  <a:pt x="114" y="0"/>
                </a:moveTo>
                <a:lnTo>
                  <a:pt x="91" y="2"/>
                </a:lnTo>
                <a:lnTo>
                  <a:pt x="70" y="7"/>
                </a:lnTo>
                <a:lnTo>
                  <a:pt x="49" y="16"/>
                </a:lnTo>
                <a:lnTo>
                  <a:pt x="34" y="27"/>
                </a:lnTo>
                <a:lnTo>
                  <a:pt x="19" y="41"/>
                </a:lnTo>
                <a:lnTo>
                  <a:pt x="9" y="57"/>
                </a:lnTo>
                <a:lnTo>
                  <a:pt x="2" y="75"/>
                </a:lnTo>
                <a:lnTo>
                  <a:pt x="0" y="93"/>
                </a:lnTo>
                <a:lnTo>
                  <a:pt x="2" y="113"/>
                </a:lnTo>
                <a:lnTo>
                  <a:pt x="9" y="130"/>
                </a:lnTo>
                <a:lnTo>
                  <a:pt x="19" y="145"/>
                </a:lnTo>
                <a:lnTo>
                  <a:pt x="34" y="159"/>
                </a:lnTo>
                <a:lnTo>
                  <a:pt x="49" y="172"/>
                </a:lnTo>
                <a:lnTo>
                  <a:pt x="70" y="180"/>
                </a:lnTo>
                <a:lnTo>
                  <a:pt x="91" y="186"/>
                </a:lnTo>
                <a:lnTo>
                  <a:pt x="114" y="187"/>
                </a:lnTo>
                <a:lnTo>
                  <a:pt x="136" y="186"/>
                </a:lnTo>
                <a:lnTo>
                  <a:pt x="158" y="180"/>
                </a:lnTo>
                <a:lnTo>
                  <a:pt x="177" y="172"/>
                </a:lnTo>
                <a:lnTo>
                  <a:pt x="194" y="159"/>
                </a:lnTo>
                <a:lnTo>
                  <a:pt x="207" y="145"/>
                </a:lnTo>
                <a:lnTo>
                  <a:pt x="217" y="130"/>
                </a:lnTo>
                <a:lnTo>
                  <a:pt x="224" y="113"/>
                </a:lnTo>
                <a:lnTo>
                  <a:pt x="226" y="93"/>
                </a:lnTo>
                <a:lnTo>
                  <a:pt x="224" y="75"/>
                </a:lnTo>
                <a:lnTo>
                  <a:pt x="217" y="57"/>
                </a:lnTo>
                <a:lnTo>
                  <a:pt x="207" y="41"/>
                </a:lnTo>
                <a:lnTo>
                  <a:pt x="194" y="27"/>
                </a:lnTo>
                <a:lnTo>
                  <a:pt x="177" y="16"/>
                </a:lnTo>
                <a:lnTo>
                  <a:pt x="158" y="7"/>
                </a:lnTo>
                <a:lnTo>
                  <a:pt x="136" y="2"/>
                </a:lnTo>
                <a:lnTo>
                  <a:pt x="114" y="0"/>
                </a:lnTo>
                <a:close/>
              </a:path>
            </a:pathLst>
          </a:custGeom>
          <a:solidFill>
            <a:srgbClr val="f2a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70160" y="5567400"/>
            <a:ext cx="181080" cy="85680"/>
          </a:xfrm>
          <a:custGeom>
            <a:avLst/>
            <a:gdLst/>
            <a:ahLst/>
            <a:rect l="l" t="t" r="r" b="b"/>
            <a:pathLst>
              <a:path w="182" h="131">
                <a:moveTo>
                  <a:pt x="92" y="0"/>
                </a:moveTo>
                <a:lnTo>
                  <a:pt x="74" y="2"/>
                </a:lnTo>
                <a:lnTo>
                  <a:pt x="56" y="6"/>
                </a:lnTo>
                <a:lnTo>
                  <a:pt x="41" y="12"/>
                </a:lnTo>
                <a:lnTo>
                  <a:pt x="27" y="19"/>
                </a:lnTo>
                <a:lnTo>
                  <a:pt x="16" y="29"/>
                </a:lnTo>
                <a:lnTo>
                  <a:pt x="7" y="40"/>
                </a:lnTo>
                <a:lnTo>
                  <a:pt x="3" y="52"/>
                </a:lnTo>
                <a:lnTo>
                  <a:pt x="0" y="65"/>
                </a:lnTo>
                <a:lnTo>
                  <a:pt x="3" y="78"/>
                </a:lnTo>
                <a:lnTo>
                  <a:pt x="7" y="90"/>
                </a:lnTo>
                <a:lnTo>
                  <a:pt x="16" y="102"/>
                </a:lnTo>
                <a:lnTo>
                  <a:pt x="27" y="111"/>
                </a:lnTo>
                <a:lnTo>
                  <a:pt x="41" y="120"/>
                </a:lnTo>
                <a:lnTo>
                  <a:pt x="56" y="126"/>
                </a:lnTo>
                <a:lnTo>
                  <a:pt x="74" y="130"/>
                </a:lnTo>
                <a:lnTo>
                  <a:pt x="92" y="131"/>
                </a:lnTo>
                <a:lnTo>
                  <a:pt x="110" y="130"/>
                </a:lnTo>
                <a:lnTo>
                  <a:pt x="127" y="126"/>
                </a:lnTo>
                <a:lnTo>
                  <a:pt x="141" y="120"/>
                </a:lnTo>
                <a:lnTo>
                  <a:pt x="155" y="111"/>
                </a:lnTo>
                <a:lnTo>
                  <a:pt x="166" y="102"/>
                </a:lnTo>
                <a:lnTo>
                  <a:pt x="175" y="90"/>
                </a:lnTo>
                <a:lnTo>
                  <a:pt x="180" y="78"/>
                </a:lnTo>
                <a:lnTo>
                  <a:pt x="182" y="65"/>
                </a:lnTo>
                <a:lnTo>
                  <a:pt x="180" y="52"/>
                </a:lnTo>
                <a:lnTo>
                  <a:pt x="175" y="40"/>
                </a:lnTo>
                <a:lnTo>
                  <a:pt x="166" y="29"/>
                </a:lnTo>
                <a:lnTo>
                  <a:pt x="155" y="19"/>
                </a:lnTo>
                <a:lnTo>
                  <a:pt x="141" y="12"/>
                </a:lnTo>
                <a:lnTo>
                  <a:pt x="127" y="6"/>
                </a:lnTo>
                <a:lnTo>
                  <a:pt x="110" y="2"/>
                </a:lnTo>
                <a:lnTo>
                  <a:pt x="92" y="0"/>
                </a:lnTo>
                <a:close/>
              </a:path>
            </a:pathLst>
          </a:custGeom>
          <a:solidFill>
            <a:srgbClr val="f296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66840" y="5589720"/>
            <a:ext cx="274680" cy="129960"/>
          </a:xfrm>
          <a:custGeom>
            <a:avLst/>
            <a:gdLst/>
            <a:ahLst/>
            <a:rect l="l" t="t" r="r" b="b"/>
            <a:pathLst>
              <a:path w="273" h="197">
                <a:moveTo>
                  <a:pt x="136" y="158"/>
                </a:moveTo>
                <a:lnTo>
                  <a:pt x="104" y="145"/>
                </a:lnTo>
                <a:lnTo>
                  <a:pt x="75" y="125"/>
                </a:lnTo>
                <a:lnTo>
                  <a:pt x="52" y="99"/>
                </a:lnTo>
                <a:lnTo>
                  <a:pt x="32" y="72"/>
                </a:lnTo>
                <a:lnTo>
                  <a:pt x="18" y="45"/>
                </a:lnTo>
                <a:lnTo>
                  <a:pt x="8" y="23"/>
                </a:lnTo>
                <a:lnTo>
                  <a:pt x="2" y="6"/>
                </a:lnTo>
                <a:lnTo>
                  <a:pt x="0" y="0"/>
                </a:lnTo>
                <a:lnTo>
                  <a:pt x="1" y="9"/>
                </a:lnTo>
                <a:lnTo>
                  <a:pt x="3" y="31"/>
                </a:lnTo>
                <a:lnTo>
                  <a:pt x="8" y="62"/>
                </a:lnTo>
                <a:lnTo>
                  <a:pt x="17" y="99"/>
                </a:lnTo>
                <a:lnTo>
                  <a:pt x="29" y="135"/>
                </a:lnTo>
                <a:lnTo>
                  <a:pt x="47" y="166"/>
                </a:lnTo>
                <a:lnTo>
                  <a:pt x="70" y="189"/>
                </a:lnTo>
                <a:lnTo>
                  <a:pt x="100" y="197"/>
                </a:lnTo>
                <a:lnTo>
                  <a:pt x="133" y="196"/>
                </a:lnTo>
                <a:lnTo>
                  <a:pt x="164" y="191"/>
                </a:lnTo>
                <a:lnTo>
                  <a:pt x="194" y="187"/>
                </a:lnTo>
                <a:lnTo>
                  <a:pt x="220" y="180"/>
                </a:lnTo>
                <a:lnTo>
                  <a:pt x="241" y="174"/>
                </a:lnTo>
                <a:lnTo>
                  <a:pt x="258" y="170"/>
                </a:lnTo>
                <a:lnTo>
                  <a:pt x="269" y="166"/>
                </a:lnTo>
                <a:lnTo>
                  <a:pt x="273" y="165"/>
                </a:lnTo>
                <a:lnTo>
                  <a:pt x="270" y="165"/>
                </a:lnTo>
                <a:lnTo>
                  <a:pt x="265" y="166"/>
                </a:lnTo>
                <a:lnTo>
                  <a:pt x="255" y="167"/>
                </a:lnTo>
                <a:lnTo>
                  <a:pt x="240" y="169"/>
                </a:lnTo>
                <a:lnTo>
                  <a:pt x="221" y="169"/>
                </a:lnTo>
                <a:lnTo>
                  <a:pt x="197" y="167"/>
                </a:lnTo>
                <a:lnTo>
                  <a:pt x="169" y="163"/>
                </a:lnTo>
                <a:lnTo>
                  <a:pt x="136" y="1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00400" y="4832280"/>
            <a:ext cx="53341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9999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with geometr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9999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4038480" y="2286000"/>
            <a:ext cx="3657600" cy="1068840"/>
            <a:chOff x="4038480" y="2286000"/>
            <a:chExt cx="3657600" cy="1068840"/>
          </a:xfrm>
        </p:grpSpPr>
        <p:sp>
          <p:nvSpPr>
            <p:cNvPr id="417" name=""/>
            <p:cNvSpPr/>
            <p:nvPr/>
          </p:nvSpPr>
          <p:spPr>
            <a:xfrm>
              <a:off x="4038480" y="2498760"/>
              <a:ext cx="36576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omic Sans MS"/>
                </a:rPr>
                <a:t>cone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    V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omic Sans MS"/>
                </a:rPr>
                <a:t>cylind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5562720" y="2286000"/>
              <a:ext cx="457200" cy="1068840"/>
              <a:chOff x="5562720" y="2286000"/>
              <a:chExt cx="457200" cy="1068840"/>
            </a:xfrm>
          </p:grpSpPr>
          <p:sp>
            <p:nvSpPr>
              <p:cNvPr id="419" name=""/>
              <p:cNvSpPr/>
              <p:nvPr/>
            </p:nvSpPr>
            <p:spPr>
              <a:xfrm>
                <a:off x="5583600" y="2286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583960" y="2773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62720" y="28195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2" name=""/>
          <p:cNvSpPr/>
          <p:nvPr/>
        </p:nvSpPr>
        <p:spPr>
          <a:xfrm>
            <a:off x="1295280" y="13716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The Volume of a C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57150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con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&lt;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cyl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876920" y="3505320"/>
            <a:ext cx="2438280" cy="1068840"/>
            <a:chOff x="4876920" y="3505320"/>
            <a:chExt cx="2438280" cy="1068840"/>
          </a:xfrm>
        </p:grpSpPr>
        <p:sp>
          <p:nvSpPr>
            <p:cNvPr id="425" name=""/>
            <p:cNvSpPr/>
            <p:nvPr/>
          </p:nvSpPr>
          <p:spPr>
            <a:xfrm>
              <a:off x="4876920" y="371808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5562720" y="3505320"/>
              <a:ext cx="457200" cy="1068840"/>
              <a:chOff x="5562720" y="3505320"/>
              <a:chExt cx="457200" cy="1068840"/>
            </a:xfrm>
          </p:grpSpPr>
          <p:sp>
            <p:nvSpPr>
              <p:cNvPr id="427" name=""/>
              <p:cNvSpPr/>
              <p:nvPr/>
            </p:nvSpPr>
            <p:spPr>
              <a:xfrm>
                <a:off x="5583600" y="3505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3960" y="3992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562720" y="4038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0" name=""/>
          <p:cNvSpPr/>
          <p:nvPr/>
        </p:nvSpPr>
        <p:spPr>
          <a:xfrm>
            <a:off x="1676520" y="2666880"/>
            <a:ext cx="1752480" cy="2514600"/>
          </a:xfrm>
          <a:custGeom>
            <a:avLst/>
            <a:gdLst/>
            <a:ahLst/>
            <a:rect l="l" t="t" r="r" b="b"/>
            <a:pathLst>
              <a:path w="1104" h="1824">
                <a:moveTo>
                  <a:pt x="0" y="1824"/>
                </a:moveTo>
                <a:lnTo>
                  <a:pt x="528" y="0"/>
                </a:lnTo>
                <a:lnTo>
                  <a:pt x="1104" y="1824"/>
                </a:lnTo>
                <a:lnTo>
                  <a:pt x="0" y="1824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76520" y="4800600"/>
            <a:ext cx="1752480" cy="7621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14600" y="274320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05120" y="489276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4600" y="3710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676520" y="4289400"/>
            <a:ext cx="5989680" cy="1273320"/>
            <a:chOff x="1676520" y="4289400"/>
            <a:chExt cx="5989680" cy="1273320"/>
          </a:xfrm>
        </p:grpSpPr>
        <p:sp>
          <p:nvSpPr>
            <p:cNvPr id="437" name=""/>
            <p:cNvSpPr/>
            <p:nvPr/>
          </p:nvSpPr>
          <p:spPr>
            <a:xfrm>
              <a:off x="1676520" y="4800600"/>
              <a:ext cx="1752480" cy="762120"/>
            </a:xfrm>
            <a:prstGeom prst="ellipse">
              <a:avLst/>
            </a:prstGeom>
            <a:solidFill>
              <a:srgbClr val="66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5562720" y="4289400"/>
              <a:ext cx="2103480" cy="818640"/>
              <a:chOff x="5562720" y="4289400"/>
              <a:chExt cx="2103480" cy="818640"/>
            </a:xfrm>
          </p:grpSpPr>
          <p:sp>
            <p:nvSpPr>
              <p:cNvPr id="439" name=""/>
              <p:cNvSpPr/>
              <p:nvPr/>
            </p:nvSpPr>
            <p:spPr>
              <a:xfrm rot="5400000">
                <a:off x="6144840" y="4164120"/>
                <a:ext cx="282600" cy="533160"/>
              </a:xfrm>
              <a:custGeom>
                <a:avLst/>
                <a:gdLst>
                  <a:gd name="textAreaLeft" fmla="*/ 0 w 282600"/>
                  <a:gd name="textAreaRight" fmla="*/ 101880 w 282600"/>
                  <a:gd name="textAreaTop" fmla="*/ 13680 h 533160"/>
                  <a:gd name="textAreaBottom" fmla="*/ 5194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562720" y="4648320"/>
                <a:ext cx="210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Area of 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1" name=""/>
          <p:cNvSpPr/>
          <p:nvPr/>
        </p:nvSpPr>
        <p:spPr>
          <a:xfrm>
            <a:off x="1676520" y="2362320"/>
            <a:ext cx="1752480" cy="320040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4038480" y="370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Volume of 4 con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95280" y="13716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Volume of Sphere (Bal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95280" y="2971800"/>
            <a:ext cx="2286000" cy="2209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3809880"/>
            <a:ext cx="2286000" cy="457200"/>
          </a:xfrm>
          <a:prstGeom prst="ellipse">
            <a:avLst/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133720" y="3687840"/>
            <a:ext cx="1447560" cy="581400"/>
            <a:chOff x="2133720" y="3687840"/>
            <a:chExt cx="1447560" cy="581400"/>
          </a:xfrm>
        </p:grpSpPr>
        <p:sp>
          <p:nvSpPr>
            <p:cNvPr id="447" name=""/>
            <p:cNvSpPr/>
            <p:nvPr/>
          </p:nvSpPr>
          <p:spPr>
            <a:xfrm>
              <a:off x="2133720" y="3687840"/>
              <a:ext cx="35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4038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219640" y="2583000"/>
            <a:ext cx="2209680" cy="1114560"/>
            <a:chOff x="5219640" y="2583000"/>
            <a:chExt cx="2209680" cy="1114560"/>
          </a:xfrm>
        </p:grpSpPr>
        <p:sp>
          <p:nvSpPr>
            <p:cNvPr id="450" name=""/>
            <p:cNvSpPr/>
            <p:nvPr/>
          </p:nvSpPr>
          <p:spPr>
            <a:xfrm>
              <a:off x="5219640" y="281772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6057720" y="2583000"/>
              <a:ext cx="533520" cy="1114560"/>
              <a:chOff x="6057720" y="2583000"/>
              <a:chExt cx="533520" cy="1114560"/>
            </a:xfrm>
          </p:grpSpPr>
          <p:sp>
            <p:nvSpPr>
              <p:cNvPr id="452" name=""/>
              <p:cNvSpPr/>
              <p:nvPr/>
            </p:nvSpPr>
            <p:spPr>
              <a:xfrm>
                <a:off x="6117480" y="2583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17480" y="3116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57720" y="3116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5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754200" y="1628640"/>
            <a:ext cx="59054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alculating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Volume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664080" y="3386160"/>
            <a:ext cx="4762440" cy="2844720"/>
            <a:chOff x="3664080" y="3386160"/>
            <a:chExt cx="4762440" cy="2844720"/>
          </a:xfrm>
        </p:grpSpPr>
        <p:sp>
          <p:nvSpPr>
            <p:cNvPr id="458" name=""/>
            <p:cNvSpPr/>
            <p:nvPr/>
          </p:nvSpPr>
          <p:spPr>
            <a:xfrm>
              <a:off x="3664080" y="4527360"/>
              <a:ext cx="4433760" cy="1703520"/>
            </a:xfrm>
            <a:custGeom>
              <a:avLst/>
              <a:gdLst/>
              <a:ahLst/>
              <a:rect l="l" t="t" r="r" b="b"/>
              <a:pathLst>
                <a:path w="2793" h="2147">
                  <a:moveTo>
                    <a:pt x="1217" y="112"/>
                  </a:moveTo>
                  <a:lnTo>
                    <a:pt x="2793" y="0"/>
                  </a:lnTo>
                  <a:lnTo>
                    <a:pt x="2766" y="2147"/>
                  </a:lnTo>
                  <a:lnTo>
                    <a:pt x="0" y="1970"/>
                  </a:lnTo>
                  <a:lnTo>
                    <a:pt x="857" y="200"/>
                  </a:lnTo>
                  <a:lnTo>
                    <a:pt x="1217" y="112"/>
                  </a:lnTo>
                  <a:lnTo>
                    <a:pt x="1217" y="11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3440" y="4317840"/>
              <a:ext cx="1006560" cy="1195560"/>
            </a:xfrm>
            <a:custGeom>
              <a:avLst/>
              <a:gdLst/>
              <a:ahLst/>
              <a:rect l="l" t="t" r="r" b="b"/>
              <a:pathLst>
                <a:path w="634" h="1506">
                  <a:moveTo>
                    <a:pt x="0" y="0"/>
                  </a:moveTo>
                  <a:lnTo>
                    <a:pt x="25" y="955"/>
                  </a:lnTo>
                  <a:lnTo>
                    <a:pt x="530" y="1506"/>
                  </a:lnTo>
                  <a:lnTo>
                    <a:pt x="610" y="1501"/>
                  </a:lnTo>
                  <a:lnTo>
                    <a:pt x="634" y="40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eb3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73840" y="4527360"/>
              <a:ext cx="1228680" cy="1001880"/>
            </a:xfrm>
            <a:custGeom>
              <a:avLst/>
              <a:gdLst/>
              <a:ahLst/>
              <a:rect l="l" t="t" r="r" b="b"/>
              <a:pathLst>
                <a:path w="774" h="1263">
                  <a:moveTo>
                    <a:pt x="0" y="262"/>
                  </a:moveTo>
                  <a:lnTo>
                    <a:pt x="23" y="1263"/>
                  </a:lnTo>
                  <a:lnTo>
                    <a:pt x="774" y="969"/>
                  </a:lnTo>
                  <a:lnTo>
                    <a:pt x="769" y="22"/>
                  </a:lnTo>
                  <a:lnTo>
                    <a:pt x="377" y="0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26040" y="4186080"/>
              <a:ext cx="2082960" cy="595440"/>
            </a:xfrm>
            <a:custGeom>
              <a:avLst/>
              <a:gdLst/>
              <a:ahLst/>
              <a:rect l="l" t="t" r="r" b="b"/>
              <a:pathLst>
                <a:path w="1312" h="751">
                  <a:moveTo>
                    <a:pt x="0" y="179"/>
                  </a:moveTo>
                  <a:lnTo>
                    <a:pt x="534" y="751"/>
                  </a:lnTo>
                  <a:lnTo>
                    <a:pt x="1312" y="488"/>
                  </a:lnTo>
                  <a:lnTo>
                    <a:pt x="747" y="0"/>
                  </a:lnTo>
                  <a:lnTo>
                    <a:pt x="218" y="98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7e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78360" y="3713040"/>
              <a:ext cx="578160" cy="744480"/>
            </a:xfrm>
            <a:custGeom>
              <a:avLst/>
              <a:gdLst/>
              <a:ahLst/>
              <a:rect l="l" t="t" r="r" b="b"/>
              <a:pathLst>
                <a:path w="364" h="939">
                  <a:moveTo>
                    <a:pt x="32" y="0"/>
                  </a:moveTo>
                  <a:lnTo>
                    <a:pt x="364" y="846"/>
                  </a:lnTo>
                  <a:lnTo>
                    <a:pt x="123" y="939"/>
                  </a:lnTo>
                  <a:lnTo>
                    <a:pt x="0" y="3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9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59640" y="3713040"/>
              <a:ext cx="471240" cy="743040"/>
            </a:xfrm>
            <a:custGeom>
              <a:avLst/>
              <a:gdLst/>
              <a:ahLst/>
              <a:rect l="l" t="t" r="r" b="b"/>
              <a:pathLst>
                <a:path w="297" h="936">
                  <a:moveTo>
                    <a:pt x="32" y="0"/>
                  </a:moveTo>
                  <a:lnTo>
                    <a:pt x="297" y="888"/>
                  </a:lnTo>
                  <a:lnTo>
                    <a:pt x="24" y="936"/>
                  </a:lnTo>
                  <a:lnTo>
                    <a:pt x="0" y="8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4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6560" y="3708360"/>
              <a:ext cx="342720" cy="744480"/>
            </a:xfrm>
            <a:custGeom>
              <a:avLst/>
              <a:gdLst/>
              <a:ahLst/>
              <a:rect l="l" t="t" r="r" b="b"/>
              <a:pathLst>
                <a:path w="216" h="938">
                  <a:moveTo>
                    <a:pt x="78" y="0"/>
                  </a:moveTo>
                  <a:lnTo>
                    <a:pt x="216" y="938"/>
                  </a:lnTo>
                  <a:lnTo>
                    <a:pt x="0" y="930"/>
                  </a:lnTo>
                  <a:lnTo>
                    <a:pt x="20" y="209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88120" y="3711600"/>
              <a:ext cx="428400" cy="739440"/>
            </a:xfrm>
            <a:custGeom>
              <a:avLst/>
              <a:gdLst/>
              <a:ahLst/>
              <a:rect l="l" t="t" r="r" b="b"/>
              <a:pathLst>
                <a:path w="270" h="934">
                  <a:moveTo>
                    <a:pt x="270" y="0"/>
                  </a:moveTo>
                  <a:lnTo>
                    <a:pt x="220" y="934"/>
                  </a:lnTo>
                  <a:lnTo>
                    <a:pt x="0" y="8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05760" y="4197240"/>
              <a:ext cx="834840" cy="846000"/>
            </a:xfrm>
            <a:custGeom>
              <a:avLst/>
              <a:gdLst/>
              <a:ahLst/>
              <a:rect l="l" t="t" r="r" b="b"/>
              <a:pathLst>
                <a:path w="526" h="1067">
                  <a:moveTo>
                    <a:pt x="526" y="0"/>
                  </a:moveTo>
                  <a:lnTo>
                    <a:pt x="4" y="657"/>
                  </a:lnTo>
                  <a:lnTo>
                    <a:pt x="0" y="913"/>
                  </a:lnTo>
                  <a:lnTo>
                    <a:pt x="510" y="1067"/>
                  </a:lnTo>
                  <a:lnTo>
                    <a:pt x="526" y="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96320" y="4205160"/>
              <a:ext cx="741240" cy="841320"/>
            </a:xfrm>
            <a:custGeom>
              <a:avLst/>
              <a:gdLst/>
              <a:ahLst/>
              <a:rect l="l" t="t" r="r" b="b"/>
              <a:pathLst>
                <a:path w="467" h="1062">
                  <a:moveTo>
                    <a:pt x="27" y="0"/>
                  </a:moveTo>
                  <a:lnTo>
                    <a:pt x="0" y="1062"/>
                  </a:lnTo>
                  <a:lnTo>
                    <a:pt x="467" y="731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b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45440" y="5049720"/>
              <a:ext cx="762120" cy="625320"/>
            </a:xfrm>
            <a:custGeom>
              <a:avLst/>
              <a:gdLst/>
              <a:ahLst/>
              <a:rect l="l" t="t" r="r" b="b"/>
              <a:pathLst>
                <a:path w="480" h="788">
                  <a:moveTo>
                    <a:pt x="243" y="0"/>
                  </a:moveTo>
                  <a:lnTo>
                    <a:pt x="150" y="32"/>
                  </a:lnTo>
                  <a:lnTo>
                    <a:pt x="36" y="174"/>
                  </a:lnTo>
                  <a:lnTo>
                    <a:pt x="0" y="407"/>
                  </a:lnTo>
                  <a:lnTo>
                    <a:pt x="64" y="660"/>
                  </a:lnTo>
                  <a:lnTo>
                    <a:pt x="266" y="788"/>
                  </a:lnTo>
                  <a:lnTo>
                    <a:pt x="480" y="788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78720" y="5027400"/>
              <a:ext cx="646200" cy="641520"/>
            </a:xfrm>
            <a:custGeom>
              <a:avLst/>
              <a:gdLst/>
              <a:ahLst/>
              <a:rect l="l" t="t" r="r" b="b"/>
              <a:pathLst>
                <a:path w="407" h="807">
                  <a:moveTo>
                    <a:pt x="56" y="59"/>
                  </a:moveTo>
                  <a:lnTo>
                    <a:pt x="52" y="64"/>
                  </a:lnTo>
                  <a:lnTo>
                    <a:pt x="45" y="79"/>
                  </a:lnTo>
                  <a:lnTo>
                    <a:pt x="36" y="107"/>
                  </a:lnTo>
                  <a:lnTo>
                    <a:pt x="26" y="143"/>
                  </a:lnTo>
                  <a:lnTo>
                    <a:pt x="15" y="185"/>
                  </a:lnTo>
                  <a:lnTo>
                    <a:pt x="8" y="235"/>
                  </a:lnTo>
                  <a:lnTo>
                    <a:pt x="0" y="291"/>
                  </a:lnTo>
                  <a:lnTo>
                    <a:pt x="0" y="350"/>
                  </a:lnTo>
                  <a:lnTo>
                    <a:pt x="3" y="409"/>
                  </a:lnTo>
                  <a:lnTo>
                    <a:pt x="14" y="471"/>
                  </a:lnTo>
                  <a:lnTo>
                    <a:pt x="32" y="533"/>
                  </a:lnTo>
                  <a:lnTo>
                    <a:pt x="61" y="597"/>
                  </a:lnTo>
                  <a:lnTo>
                    <a:pt x="100" y="655"/>
                  </a:lnTo>
                  <a:lnTo>
                    <a:pt x="152" y="711"/>
                  </a:lnTo>
                  <a:lnTo>
                    <a:pt x="218" y="760"/>
                  </a:lnTo>
                  <a:lnTo>
                    <a:pt x="300" y="807"/>
                  </a:lnTo>
                  <a:lnTo>
                    <a:pt x="407" y="741"/>
                  </a:lnTo>
                  <a:lnTo>
                    <a:pt x="163" y="0"/>
                  </a:lnTo>
                  <a:lnTo>
                    <a:pt x="56" y="5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3200" y="5040000"/>
              <a:ext cx="676080" cy="608040"/>
            </a:xfrm>
            <a:custGeom>
              <a:avLst/>
              <a:gdLst/>
              <a:ahLst/>
              <a:rect l="l" t="t" r="r" b="b"/>
              <a:pathLst>
                <a:path w="426" h="765">
                  <a:moveTo>
                    <a:pt x="78" y="8"/>
                  </a:moveTo>
                  <a:lnTo>
                    <a:pt x="19" y="92"/>
                  </a:lnTo>
                  <a:lnTo>
                    <a:pt x="55" y="161"/>
                  </a:lnTo>
                  <a:lnTo>
                    <a:pt x="0" y="228"/>
                  </a:lnTo>
                  <a:lnTo>
                    <a:pt x="56" y="278"/>
                  </a:lnTo>
                  <a:lnTo>
                    <a:pt x="15" y="354"/>
                  </a:lnTo>
                  <a:lnTo>
                    <a:pt x="80" y="388"/>
                  </a:lnTo>
                  <a:lnTo>
                    <a:pt x="49" y="481"/>
                  </a:lnTo>
                  <a:lnTo>
                    <a:pt x="119" y="495"/>
                  </a:lnTo>
                  <a:lnTo>
                    <a:pt x="103" y="586"/>
                  </a:lnTo>
                  <a:lnTo>
                    <a:pt x="182" y="583"/>
                  </a:lnTo>
                  <a:lnTo>
                    <a:pt x="179" y="674"/>
                  </a:lnTo>
                  <a:lnTo>
                    <a:pt x="240" y="665"/>
                  </a:lnTo>
                  <a:lnTo>
                    <a:pt x="278" y="765"/>
                  </a:lnTo>
                  <a:lnTo>
                    <a:pt x="379" y="676"/>
                  </a:lnTo>
                  <a:lnTo>
                    <a:pt x="426" y="511"/>
                  </a:lnTo>
                  <a:lnTo>
                    <a:pt x="201" y="0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c4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45560" y="5054400"/>
              <a:ext cx="457200" cy="412920"/>
            </a:xfrm>
            <a:custGeom>
              <a:avLst/>
              <a:gdLst/>
              <a:ahLst/>
              <a:rect l="l" t="t" r="r" b="b"/>
              <a:pathLst>
                <a:path w="288" h="520">
                  <a:moveTo>
                    <a:pt x="29" y="0"/>
                  </a:moveTo>
                  <a:lnTo>
                    <a:pt x="26" y="3"/>
                  </a:lnTo>
                  <a:lnTo>
                    <a:pt x="23" y="18"/>
                  </a:lnTo>
                  <a:lnTo>
                    <a:pt x="16" y="42"/>
                  </a:lnTo>
                  <a:lnTo>
                    <a:pt x="11" y="72"/>
                  </a:lnTo>
                  <a:lnTo>
                    <a:pt x="5" y="107"/>
                  </a:lnTo>
                  <a:lnTo>
                    <a:pt x="1" y="147"/>
                  </a:lnTo>
                  <a:lnTo>
                    <a:pt x="0" y="190"/>
                  </a:lnTo>
                  <a:lnTo>
                    <a:pt x="3" y="237"/>
                  </a:lnTo>
                  <a:lnTo>
                    <a:pt x="10" y="281"/>
                  </a:lnTo>
                  <a:lnTo>
                    <a:pt x="22" y="328"/>
                  </a:lnTo>
                  <a:lnTo>
                    <a:pt x="40" y="371"/>
                  </a:lnTo>
                  <a:lnTo>
                    <a:pt x="67" y="413"/>
                  </a:lnTo>
                  <a:lnTo>
                    <a:pt x="101" y="446"/>
                  </a:lnTo>
                  <a:lnTo>
                    <a:pt x="145" y="480"/>
                  </a:lnTo>
                  <a:lnTo>
                    <a:pt x="199" y="504"/>
                  </a:lnTo>
                  <a:lnTo>
                    <a:pt x="267" y="520"/>
                  </a:lnTo>
                  <a:lnTo>
                    <a:pt x="288" y="345"/>
                  </a:lnTo>
                  <a:lnTo>
                    <a:pt x="238" y="154"/>
                  </a:lnTo>
                  <a:lnTo>
                    <a:pt x="115" y="2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9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75640" y="5311800"/>
              <a:ext cx="290520" cy="523800"/>
            </a:xfrm>
            <a:custGeom>
              <a:avLst/>
              <a:gdLst/>
              <a:ahLst/>
              <a:rect l="l" t="t" r="r" b="b"/>
              <a:pathLst>
                <a:path w="183" h="660">
                  <a:moveTo>
                    <a:pt x="96" y="14"/>
                  </a:moveTo>
                  <a:lnTo>
                    <a:pt x="183" y="657"/>
                  </a:lnTo>
                  <a:lnTo>
                    <a:pt x="163" y="660"/>
                  </a:lnTo>
                  <a:lnTo>
                    <a:pt x="0" y="0"/>
                  </a:lnTo>
                  <a:lnTo>
                    <a:pt x="96" y="14"/>
                  </a:lnTo>
                  <a:lnTo>
                    <a:pt x="96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643800" y="5168880"/>
              <a:ext cx="441360" cy="125280"/>
            </a:xfrm>
            <a:custGeom>
              <a:avLst/>
              <a:gdLst/>
              <a:ahLst/>
              <a:rect l="l" t="t" r="r" b="b"/>
              <a:pathLst>
                <a:path w="278" h="158">
                  <a:moveTo>
                    <a:pt x="0" y="59"/>
                  </a:moveTo>
                  <a:lnTo>
                    <a:pt x="272" y="0"/>
                  </a:lnTo>
                  <a:lnTo>
                    <a:pt x="278" y="117"/>
                  </a:lnTo>
                  <a:lnTo>
                    <a:pt x="13" y="158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70640" y="5613120"/>
              <a:ext cx="212760" cy="203400"/>
            </a:xfrm>
            <a:custGeom>
              <a:avLst/>
              <a:gdLst/>
              <a:ahLst/>
              <a:rect l="l" t="t" r="r" b="b"/>
              <a:pathLst>
                <a:path w="134" h="257">
                  <a:moveTo>
                    <a:pt x="32" y="0"/>
                  </a:moveTo>
                  <a:lnTo>
                    <a:pt x="134" y="92"/>
                  </a:lnTo>
                  <a:lnTo>
                    <a:pt x="0" y="25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1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77200" y="4200480"/>
              <a:ext cx="564840" cy="1501560"/>
            </a:xfrm>
            <a:custGeom>
              <a:avLst/>
              <a:gdLst/>
              <a:ahLst/>
              <a:rect l="l" t="t" r="r" b="b"/>
              <a:pathLst>
                <a:path w="356" h="1891">
                  <a:moveTo>
                    <a:pt x="356" y="122"/>
                  </a:moveTo>
                  <a:lnTo>
                    <a:pt x="99" y="1666"/>
                  </a:lnTo>
                  <a:lnTo>
                    <a:pt x="59" y="1891"/>
                  </a:lnTo>
                  <a:lnTo>
                    <a:pt x="0" y="1821"/>
                  </a:lnTo>
                  <a:lnTo>
                    <a:pt x="284" y="0"/>
                  </a:lnTo>
                  <a:lnTo>
                    <a:pt x="356" y="122"/>
                  </a:lnTo>
                  <a:lnTo>
                    <a:pt x="356" y="12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94520" y="5155920"/>
              <a:ext cx="130320" cy="171720"/>
            </a:xfrm>
            <a:custGeom>
              <a:avLst/>
              <a:gdLst/>
              <a:ahLst/>
              <a:rect l="l" t="t" r="r" b="b"/>
              <a:pathLst>
                <a:path w="82" h="216">
                  <a:moveTo>
                    <a:pt x="8" y="0"/>
                  </a:moveTo>
                  <a:lnTo>
                    <a:pt x="82" y="3"/>
                  </a:lnTo>
                  <a:lnTo>
                    <a:pt x="70" y="216"/>
                  </a:lnTo>
                  <a:lnTo>
                    <a:pt x="0" y="20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37280" y="3800160"/>
              <a:ext cx="857520" cy="1543320"/>
            </a:xfrm>
            <a:custGeom>
              <a:avLst/>
              <a:gdLst/>
              <a:ahLst/>
              <a:rect l="l" t="t" r="r" b="b"/>
              <a:pathLst>
                <a:path w="540" h="1946">
                  <a:moveTo>
                    <a:pt x="0" y="142"/>
                  </a:moveTo>
                  <a:lnTo>
                    <a:pt x="278" y="0"/>
                  </a:lnTo>
                  <a:lnTo>
                    <a:pt x="275" y="469"/>
                  </a:lnTo>
                  <a:lnTo>
                    <a:pt x="540" y="1925"/>
                  </a:lnTo>
                  <a:lnTo>
                    <a:pt x="470" y="1946"/>
                  </a:lnTo>
                  <a:lnTo>
                    <a:pt x="447" y="1791"/>
                  </a:lnTo>
                  <a:lnTo>
                    <a:pt x="153" y="595"/>
                  </a:lnTo>
                  <a:lnTo>
                    <a:pt x="49" y="632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02520" y="3800160"/>
              <a:ext cx="922320" cy="1528920"/>
            </a:xfrm>
            <a:custGeom>
              <a:avLst/>
              <a:gdLst/>
              <a:ahLst/>
              <a:rect l="l" t="t" r="r" b="b"/>
              <a:pathLst>
                <a:path w="581" h="1924">
                  <a:moveTo>
                    <a:pt x="177" y="0"/>
                  </a:moveTo>
                  <a:lnTo>
                    <a:pt x="0" y="638"/>
                  </a:lnTo>
                  <a:lnTo>
                    <a:pt x="86" y="526"/>
                  </a:lnTo>
                  <a:lnTo>
                    <a:pt x="140" y="492"/>
                  </a:lnTo>
                  <a:lnTo>
                    <a:pt x="412" y="1924"/>
                  </a:lnTo>
                  <a:lnTo>
                    <a:pt x="461" y="1916"/>
                  </a:lnTo>
                  <a:lnTo>
                    <a:pt x="442" y="1840"/>
                  </a:lnTo>
                  <a:lnTo>
                    <a:pt x="424" y="1755"/>
                  </a:lnTo>
                  <a:lnTo>
                    <a:pt x="518" y="1721"/>
                  </a:lnTo>
                  <a:lnTo>
                    <a:pt x="581" y="1723"/>
                  </a:lnTo>
                  <a:lnTo>
                    <a:pt x="493" y="1565"/>
                  </a:lnTo>
                  <a:lnTo>
                    <a:pt x="405" y="1594"/>
                  </a:lnTo>
                  <a:lnTo>
                    <a:pt x="196" y="446"/>
                  </a:lnTo>
                  <a:lnTo>
                    <a:pt x="228" y="388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23080" y="3728880"/>
              <a:ext cx="681120" cy="21276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251" y="0"/>
                  </a:moveTo>
                  <a:lnTo>
                    <a:pt x="429" y="91"/>
                  </a:lnTo>
                  <a:lnTo>
                    <a:pt x="220" y="268"/>
                  </a:lnTo>
                  <a:lnTo>
                    <a:pt x="0" y="150"/>
                  </a:lnTo>
                  <a:lnTo>
                    <a:pt x="132" y="19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64480" y="3421080"/>
              <a:ext cx="244440" cy="179280"/>
            </a:xfrm>
            <a:custGeom>
              <a:avLst/>
              <a:gdLst/>
              <a:ahLst/>
              <a:rect l="l" t="t" r="r" b="b"/>
              <a:pathLst>
                <a:path w="154" h="227">
                  <a:moveTo>
                    <a:pt x="154" y="0"/>
                  </a:moveTo>
                  <a:lnTo>
                    <a:pt x="118" y="0"/>
                  </a:lnTo>
                  <a:lnTo>
                    <a:pt x="0" y="128"/>
                  </a:lnTo>
                  <a:lnTo>
                    <a:pt x="141" y="227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42320" y="3422520"/>
              <a:ext cx="341280" cy="150840"/>
            </a:xfrm>
            <a:custGeom>
              <a:avLst/>
              <a:gdLst/>
              <a:ahLst/>
              <a:rect l="l" t="t" r="r" b="b"/>
              <a:pathLst>
                <a:path w="215" h="191">
                  <a:moveTo>
                    <a:pt x="26" y="0"/>
                  </a:moveTo>
                  <a:lnTo>
                    <a:pt x="0" y="191"/>
                  </a:lnTo>
                  <a:lnTo>
                    <a:pt x="215" y="10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42320" y="3503520"/>
              <a:ext cx="322200" cy="388800"/>
            </a:xfrm>
            <a:custGeom>
              <a:avLst/>
              <a:gdLst/>
              <a:ahLst/>
              <a:rect l="l" t="t" r="r" b="b"/>
              <a:pathLst>
                <a:path w="203" h="491">
                  <a:moveTo>
                    <a:pt x="0" y="64"/>
                  </a:moveTo>
                  <a:lnTo>
                    <a:pt x="203" y="0"/>
                  </a:lnTo>
                  <a:lnTo>
                    <a:pt x="145" y="326"/>
                  </a:lnTo>
                  <a:lnTo>
                    <a:pt x="122" y="491"/>
                  </a:lnTo>
                  <a:lnTo>
                    <a:pt x="37" y="4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499360" y="4089240"/>
              <a:ext cx="698400" cy="1589040"/>
            </a:xfrm>
            <a:custGeom>
              <a:avLst/>
              <a:gdLst/>
              <a:ahLst/>
              <a:rect l="l" t="t" r="r" b="b"/>
              <a:pathLst>
                <a:path w="440" h="2003">
                  <a:moveTo>
                    <a:pt x="141" y="1934"/>
                  </a:moveTo>
                  <a:lnTo>
                    <a:pt x="440" y="62"/>
                  </a:lnTo>
                  <a:lnTo>
                    <a:pt x="360" y="0"/>
                  </a:lnTo>
                  <a:lnTo>
                    <a:pt x="133" y="1400"/>
                  </a:lnTo>
                  <a:lnTo>
                    <a:pt x="71" y="1438"/>
                  </a:lnTo>
                  <a:lnTo>
                    <a:pt x="72" y="1553"/>
                  </a:lnTo>
                  <a:lnTo>
                    <a:pt x="0" y="1646"/>
                  </a:lnTo>
                  <a:lnTo>
                    <a:pt x="86" y="1648"/>
                  </a:lnTo>
                  <a:lnTo>
                    <a:pt x="66" y="1923"/>
                  </a:lnTo>
                  <a:lnTo>
                    <a:pt x="133" y="2003"/>
                  </a:lnTo>
                  <a:lnTo>
                    <a:pt x="141" y="1934"/>
                  </a:lnTo>
                  <a:lnTo>
                    <a:pt x="141" y="1934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31040" y="5167080"/>
              <a:ext cx="225360" cy="77760"/>
            </a:xfrm>
            <a:custGeom>
              <a:avLst/>
              <a:gdLst/>
              <a:ahLst/>
              <a:rect l="l" t="t" r="r" b="b"/>
              <a:pathLst>
                <a:path w="142" h="98">
                  <a:moveTo>
                    <a:pt x="76" y="98"/>
                  </a:moveTo>
                  <a:lnTo>
                    <a:pt x="142" y="72"/>
                  </a:lnTo>
                  <a:lnTo>
                    <a:pt x="136" y="31"/>
                  </a:lnTo>
                  <a:lnTo>
                    <a:pt x="52" y="0"/>
                  </a:lnTo>
                  <a:lnTo>
                    <a:pt x="0" y="26"/>
                  </a:lnTo>
                  <a:lnTo>
                    <a:pt x="76" y="98"/>
                  </a:lnTo>
                  <a:lnTo>
                    <a:pt x="76" y="98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61200" y="5217840"/>
              <a:ext cx="155520" cy="139680"/>
            </a:xfrm>
            <a:custGeom>
              <a:avLst/>
              <a:gdLst/>
              <a:ahLst/>
              <a:rect l="l" t="t" r="r" b="b"/>
              <a:pathLst>
                <a:path w="98" h="176">
                  <a:moveTo>
                    <a:pt x="53" y="0"/>
                  </a:moveTo>
                  <a:lnTo>
                    <a:pt x="98" y="47"/>
                  </a:lnTo>
                  <a:lnTo>
                    <a:pt x="87" y="139"/>
                  </a:lnTo>
                  <a:lnTo>
                    <a:pt x="38" y="176"/>
                  </a:lnTo>
                  <a:lnTo>
                    <a:pt x="0" y="117"/>
                  </a:lnTo>
                  <a:lnTo>
                    <a:pt x="6" y="4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6200" y="514188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347">
                  <a:moveTo>
                    <a:pt x="61" y="0"/>
                  </a:moveTo>
                  <a:lnTo>
                    <a:pt x="51" y="68"/>
                  </a:lnTo>
                  <a:lnTo>
                    <a:pt x="95" y="108"/>
                  </a:lnTo>
                  <a:lnTo>
                    <a:pt x="70" y="267"/>
                  </a:lnTo>
                  <a:lnTo>
                    <a:pt x="0" y="320"/>
                  </a:lnTo>
                  <a:lnTo>
                    <a:pt x="7" y="347"/>
                  </a:lnTo>
                  <a:lnTo>
                    <a:pt x="84" y="272"/>
                  </a:lnTo>
                  <a:lnTo>
                    <a:pt x="110" y="109"/>
                  </a:lnTo>
                  <a:lnTo>
                    <a:pt x="99" y="32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02240" y="5155920"/>
              <a:ext cx="190800" cy="239760"/>
            </a:xfrm>
            <a:custGeom>
              <a:avLst/>
              <a:gdLst/>
              <a:ahLst/>
              <a:rect l="l" t="t" r="r" b="b"/>
              <a:pathLst>
                <a:path w="120" h="302">
                  <a:moveTo>
                    <a:pt x="112" y="50"/>
                  </a:moveTo>
                  <a:lnTo>
                    <a:pt x="75" y="19"/>
                  </a:lnTo>
                  <a:lnTo>
                    <a:pt x="30" y="42"/>
                  </a:lnTo>
                  <a:lnTo>
                    <a:pt x="106" y="107"/>
                  </a:lnTo>
                  <a:lnTo>
                    <a:pt x="87" y="232"/>
                  </a:lnTo>
                  <a:lnTo>
                    <a:pt x="0" y="302"/>
                  </a:lnTo>
                  <a:lnTo>
                    <a:pt x="15" y="216"/>
                  </a:lnTo>
                  <a:lnTo>
                    <a:pt x="50" y="190"/>
                  </a:lnTo>
                  <a:lnTo>
                    <a:pt x="56" y="134"/>
                  </a:lnTo>
                  <a:lnTo>
                    <a:pt x="25" y="109"/>
                  </a:lnTo>
                  <a:lnTo>
                    <a:pt x="18" y="29"/>
                  </a:lnTo>
                  <a:lnTo>
                    <a:pt x="78" y="0"/>
                  </a:lnTo>
                  <a:lnTo>
                    <a:pt x="120" y="37"/>
                  </a:lnTo>
                  <a:lnTo>
                    <a:pt x="112" y="50"/>
                  </a:lnTo>
                  <a:lnTo>
                    <a:pt x="11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21600" y="5178240"/>
              <a:ext cx="137880" cy="217440"/>
            </a:xfrm>
            <a:custGeom>
              <a:avLst/>
              <a:gdLst/>
              <a:ahLst/>
              <a:rect l="l" t="t" r="r" b="b"/>
              <a:pathLst>
                <a:path w="87" h="273">
                  <a:moveTo>
                    <a:pt x="69" y="0"/>
                  </a:moveTo>
                  <a:lnTo>
                    <a:pt x="5" y="91"/>
                  </a:lnTo>
                  <a:lnTo>
                    <a:pt x="0" y="180"/>
                  </a:lnTo>
                  <a:lnTo>
                    <a:pt x="51" y="273"/>
                  </a:lnTo>
                  <a:lnTo>
                    <a:pt x="87" y="222"/>
                  </a:lnTo>
                  <a:lnTo>
                    <a:pt x="66" y="187"/>
                  </a:lnTo>
                  <a:lnTo>
                    <a:pt x="45" y="155"/>
                  </a:lnTo>
                  <a:lnTo>
                    <a:pt x="47" y="105"/>
                  </a:lnTo>
                  <a:lnTo>
                    <a:pt x="76" y="80"/>
                  </a:lnTo>
                  <a:lnTo>
                    <a:pt x="84" y="61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42200" y="5330520"/>
              <a:ext cx="1333440" cy="524160"/>
            </a:xfrm>
            <a:custGeom>
              <a:avLst/>
              <a:gdLst/>
              <a:ahLst/>
              <a:rect l="l" t="t" r="r" b="b"/>
              <a:pathLst>
                <a:path w="840" h="658">
                  <a:moveTo>
                    <a:pt x="2" y="658"/>
                  </a:moveTo>
                  <a:lnTo>
                    <a:pt x="6" y="652"/>
                  </a:lnTo>
                  <a:lnTo>
                    <a:pt x="22" y="634"/>
                  </a:lnTo>
                  <a:lnTo>
                    <a:pt x="45" y="605"/>
                  </a:lnTo>
                  <a:lnTo>
                    <a:pt x="77" y="570"/>
                  </a:lnTo>
                  <a:lnTo>
                    <a:pt x="117" y="529"/>
                  </a:lnTo>
                  <a:lnTo>
                    <a:pt x="164" y="481"/>
                  </a:lnTo>
                  <a:lnTo>
                    <a:pt x="216" y="428"/>
                  </a:lnTo>
                  <a:lnTo>
                    <a:pt x="275" y="377"/>
                  </a:lnTo>
                  <a:lnTo>
                    <a:pt x="337" y="319"/>
                  </a:lnTo>
                  <a:lnTo>
                    <a:pt x="403" y="267"/>
                  </a:lnTo>
                  <a:lnTo>
                    <a:pt x="473" y="214"/>
                  </a:lnTo>
                  <a:lnTo>
                    <a:pt x="544" y="166"/>
                  </a:lnTo>
                  <a:lnTo>
                    <a:pt x="618" y="123"/>
                  </a:lnTo>
                  <a:lnTo>
                    <a:pt x="693" y="88"/>
                  </a:lnTo>
                  <a:lnTo>
                    <a:pt x="767" y="59"/>
                  </a:lnTo>
                  <a:lnTo>
                    <a:pt x="840" y="41"/>
                  </a:lnTo>
                  <a:lnTo>
                    <a:pt x="808" y="0"/>
                  </a:lnTo>
                  <a:lnTo>
                    <a:pt x="803" y="0"/>
                  </a:lnTo>
                  <a:lnTo>
                    <a:pt x="788" y="6"/>
                  </a:lnTo>
                  <a:lnTo>
                    <a:pt x="764" y="14"/>
                  </a:lnTo>
                  <a:lnTo>
                    <a:pt x="735" y="25"/>
                  </a:lnTo>
                  <a:lnTo>
                    <a:pt x="697" y="41"/>
                  </a:lnTo>
                  <a:lnTo>
                    <a:pt x="654" y="62"/>
                  </a:lnTo>
                  <a:lnTo>
                    <a:pt x="605" y="86"/>
                  </a:lnTo>
                  <a:lnTo>
                    <a:pt x="552" y="116"/>
                  </a:lnTo>
                  <a:lnTo>
                    <a:pt x="494" y="150"/>
                  </a:lnTo>
                  <a:lnTo>
                    <a:pt x="433" y="191"/>
                  </a:lnTo>
                  <a:lnTo>
                    <a:pt x="369" y="238"/>
                  </a:lnTo>
                  <a:lnTo>
                    <a:pt x="304" y="291"/>
                  </a:lnTo>
                  <a:lnTo>
                    <a:pt x="238" y="348"/>
                  </a:lnTo>
                  <a:lnTo>
                    <a:pt x="171" y="412"/>
                  </a:lnTo>
                  <a:lnTo>
                    <a:pt x="105" y="484"/>
                  </a:lnTo>
                  <a:lnTo>
                    <a:pt x="41" y="564"/>
                  </a:lnTo>
                  <a:lnTo>
                    <a:pt x="82" y="401"/>
                  </a:lnTo>
                  <a:lnTo>
                    <a:pt x="57" y="321"/>
                  </a:lnTo>
                  <a:lnTo>
                    <a:pt x="0" y="583"/>
                  </a:lnTo>
                  <a:lnTo>
                    <a:pt x="2" y="658"/>
                  </a:lnTo>
                  <a:lnTo>
                    <a:pt x="2" y="6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56320" y="4491000"/>
              <a:ext cx="1063800" cy="1204920"/>
            </a:xfrm>
            <a:custGeom>
              <a:avLst/>
              <a:gdLst/>
              <a:ahLst/>
              <a:rect l="l" t="t" r="r" b="b"/>
              <a:pathLst>
                <a:path w="670" h="1517">
                  <a:moveTo>
                    <a:pt x="0" y="1469"/>
                  </a:moveTo>
                  <a:lnTo>
                    <a:pt x="61" y="1517"/>
                  </a:lnTo>
                  <a:lnTo>
                    <a:pt x="92" y="1489"/>
                  </a:lnTo>
                  <a:lnTo>
                    <a:pt x="151" y="1171"/>
                  </a:lnTo>
                  <a:lnTo>
                    <a:pt x="421" y="1046"/>
                  </a:lnTo>
                  <a:lnTo>
                    <a:pt x="417" y="662"/>
                  </a:lnTo>
                  <a:lnTo>
                    <a:pt x="670" y="707"/>
                  </a:lnTo>
                  <a:lnTo>
                    <a:pt x="657" y="587"/>
                  </a:lnTo>
                  <a:lnTo>
                    <a:pt x="421" y="498"/>
                  </a:lnTo>
                  <a:lnTo>
                    <a:pt x="421" y="315"/>
                  </a:lnTo>
                  <a:lnTo>
                    <a:pt x="540" y="195"/>
                  </a:lnTo>
                  <a:lnTo>
                    <a:pt x="524" y="136"/>
                  </a:lnTo>
                  <a:lnTo>
                    <a:pt x="423" y="237"/>
                  </a:lnTo>
                  <a:lnTo>
                    <a:pt x="423" y="72"/>
                  </a:lnTo>
                  <a:lnTo>
                    <a:pt x="326" y="0"/>
                  </a:lnTo>
                  <a:lnTo>
                    <a:pt x="316" y="56"/>
                  </a:lnTo>
                  <a:lnTo>
                    <a:pt x="389" y="109"/>
                  </a:lnTo>
                  <a:lnTo>
                    <a:pt x="395" y="991"/>
                  </a:lnTo>
                  <a:lnTo>
                    <a:pt x="142" y="1115"/>
                  </a:lnTo>
                  <a:lnTo>
                    <a:pt x="66" y="1492"/>
                  </a:lnTo>
                  <a:lnTo>
                    <a:pt x="42" y="1417"/>
                  </a:lnTo>
                  <a:lnTo>
                    <a:pt x="0" y="1469"/>
                  </a:lnTo>
                  <a:lnTo>
                    <a:pt x="0" y="14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61000" y="3386160"/>
              <a:ext cx="4005360" cy="2581200"/>
            </a:xfrm>
            <a:custGeom>
              <a:avLst/>
              <a:gdLst/>
              <a:ahLst/>
              <a:rect l="l" t="t" r="r" b="b"/>
              <a:pathLst>
                <a:path w="2523" h="3252">
                  <a:moveTo>
                    <a:pt x="1090" y="2532"/>
                  </a:moveTo>
                  <a:lnTo>
                    <a:pt x="1081" y="2577"/>
                  </a:lnTo>
                  <a:lnTo>
                    <a:pt x="786" y="2666"/>
                  </a:lnTo>
                  <a:lnTo>
                    <a:pt x="270" y="2107"/>
                  </a:lnTo>
                  <a:lnTo>
                    <a:pt x="244" y="1199"/>
                  </a:lnTo>
                  <a:lnTo>
                    <a:pt x="295" y="1202"/>
                  </a:lnTo>
                  <a:lnTo>
                    <a:pt x="434" y="1266"/>
                  </a:lnTo>
                  <a:lnTo>
                    <a:pt x="663" y="438"/>
                  </a:lnTo>
                  <a:lnTo>
                    <a:pt x="988" y="1264"/>
                  </a:lnTo>
                  <a:lnTo>
                    <a:pt x="1024" y="1264"/>
                  </a:lnTo>
                  <a:lnTo>
                    <a:pt x="1022" y="1260"/>
                  </a:lnTo>
                  <a:lnTo>
                    <a:pt x="1020" y="1253"/>
                  </a:lnTo>
                  <a:lnTo>
                    <a:pt x="1014" y="1240"/>
                  </a:lnTo>
                  <a:lnTo>
                    <a:pt x="1010" y="1226"/>
                  </a:lnTo>
                  <a:lnTo>
                    <a:pt x="1002" y="1207"/>
                  </a:lnTo>
                  <a:lnTo>
                    <a:pt x="996" y="1189"/>
                  </a:lnTo>
                  <a:lnTo>
                    <a:pt x="988" y="1167"/>
                  </a:lnTo>
                  <a:lnTo>
                    <a:pt x="982" y="1148"/>
                  </a:lnTo>
                  <a:lnTo>
                    <a:pt x="972" y="1124"/>
                  </a:lnTo>
                  <a:lnTo>
                    <a:pt x="965" y="1105"/>
                  </a:lnTo>
                  <a:lnTo>
                    <a:pt x="958" y="1084"/>
                  </a:lnTo>
                  <a:lnTo>
                    <a:pt x="952" y="1066"/>
                  </a:lnTo>
                  <a:lnTo>
                    <a:pt x="946" y="1052"/>
                  </a:lnTo>
                  <a:lnTo>
                    <a:pt x="943" y="1041"/>
                  </a:lnTo>
                  <a:lnTo>
                    <a:pt x="940" y="1033"/>
                  </a:lnTo>
                  <a:lnTo>
                    <a:pt x="940" y="1031"/>
                  </a:lnTo>
                  <a:lnTo>
                    <a:pt x="941" y="1031"/>
                  </a:lnTo>
                  <a:lnTo>
                    <a:pt x="944" y="1031"/>
                  </a:lnTo>
                  <a:lnTo>
                    <a:pt x="950" y="1031"/>
                  </a:lnTo>
                  <a:lnTo>
                    <a:pt x="956" y="1031"/>
                  </a:lnTo>
                  <a:lnTo>
                    <a:pt x="964" y="1031"/>
                  </a:lnTo>
                  <a:lnTo>
                    <a:pt x="970" y="1031"/>
                  </a:lnTo>
                  <a:lnTo>
                    <a:pt x="973" y="1031"/>
                  </a:lnTo>
                  <a:lnTo>
                    <a:pt x="976" y="1031"/>
                  </a:lnTo>
                  <a:lnTo>
                    <a:pt x="1249" y="1277"/>
                  </a:lnTo>
                  <a:lnTo>
                    <a:pt x="1147" y="2267"/>
                  </a:lnTo>
                  <a:lnTo>
                    <a:pt x="1200" y="2329"/>
                  </a:lnTo>
                  <a:lnTo>
                    <a:pt x="1401" y="1045"/>
                  </a:lnTo>
                  <a:lnTo>
                    <a:pt x="1530" y="1295"/>
                  </a:lnTo>
                  <a:lnTo>
                    <a:pt x="1546" y="1202"/>
                  </a:lnTo>
                  <a:lnTo>
                    <a:pt x="1822" y="2278"/>
                  </a:lnTo>
                  <a:lnTo>
                    <a:pt x="1751" y="2288"/>
                  </a:lnTo>
                  <a:lnTo>
                    <a:pt x="1760" y="2329"/>
                  </a:lnTo>
                  <a:lnTo>
                    <a:pt x="1873" y="2313"/>
                  </a:lnTo>
                  <a:lnTo>
                    <a:pt x="1876" y="2398"/>
                  </a:lnTo>
                  <a:lnTo>
                    <a:pt x="1835" y="2391"/>
                  </a:lnTo>
                  <a:lnTo>
                    <a:pt x="1893" y="2585"/>
                  </a:lnTo>
                  <a:lnTo>
                    <a:pt x="1774" y="2622"/>
                  </a:lnTo>
                  <a:lnTo>
                    <a:pt x="1925" y="2679"/>
                  </a:lnTo>
                  <a:lnTo>
                    <a:pt x="2051" y="3071"/>
                  </a:lnTo>
                  <a:lnTo>
                    <a:pt x="1937" y="2964"/>
                  </a:lnTo>
                  <a:lnTo>
                    <a:pt x="1886" y="2989"/>
                  </a:lnTo>
                  <a:lnTo>
                    <a:pt x="2007" y="3085"/>
                  </a:lnTo>
                  <a:lnTo>
                    <a:pt x="1862" y="3132"/>
                  </a:lnTo>
                  <a:lnTo>
                    <a:pt x="1861" y="3183"/>
                  </a:lnTo>
                  <a:lnTo>
                    <a:pt x="2045" y="3127"/>
                  </a:lnTo>
                  <a:lnTo>
                    <a:pt x="2173" y="3252"/>
                  </a:lnTo>
                  <a:lnTo>
                    <a:pt x="2201" y="3231"/>
                  </a:lnTo>
                  <a:lnTo>
                    <a:pt x="2121" y="3130"/>
                  </a:lnTo>
                  <a:lnTo>
                    <a:pt x="2231" y="3127"/>
                  </a:lnTo>
                  <a:lnTo>
                    <a:pt x="2248" y="3080"/>
                  </a:lnTo>
                  <a:lnTo>
                    <a:pt x="2077" y="3082"/>
                  </a:lnTo>
                  <a:lnTo>
                    <a:pt x="1949" y="2451"/>
                  </a:lnTo>
                  <a:lnTo>
                    <a:pt x="1929" y="2457"/>
                  </a:lnTo>
                  <a:lnTo>
                    <a:pt x="1626" y="1049"/>
                  </a:lnTo>
                  <a:lnTo>
                    <a:pt x="1552" y="1106"/>
                  </a:lnTo>
                  <a:lnTo>
                    <a:pt x="1542" y="679"/>
                  </a:lnTo>
                  <a:lnTo>
                    <a:pt x="1321" y="580"/>
                  </a:lnTo>
                  <a:lnTo>
                    <a:pt x="1431" y="484"/>
                  </a:lnTo>
                  <a:lnTo>
                    <a:pt x="1469" y="611"/>
                  </a:lnTo>
                  <a:lnTo>
                    <a:pt x="1514" y="623"/>
                  </a:lnTo>
                  <a:lnTo>
                    <a:pt x="1443" y="208"/>
                  </a:lnTo>
                  <a:lnTo>
                    <a:pt x="1349" y="171"/>
                  </a:lnTo>
                  <a:lnTo>
                    <a:pt x="1460" y="70"/>
                  </a:lnTo>
                  <a:lnTo>
                    <a:pt x="1626" y="152"/>
                  </a:lnTo>
                  <a:lnTo>
                    <a:pt x="1579" y="480"/>
                  </a:lnTo>
                  <a:lnTo>
                    <a:pt x="1710" y="537"/>
                  </a:lnTo>
                  <a:lnTo>
                    <a:pt x="1751" y="926"/>
                  </a:lnTo>
                  <a:lnTo>
                    <a:pt x="1728" y="969"/>
                  </a:lnTo>
                  <a:lnTo>
                    <a:pt x="1966" y="2297"/>
                  </a:lnTo>
                  <a:lnTo>
                    <a:pt x="2009" y="2292"/>
                  </a:lnTo>
                  <a:lnTo>
                    <a:pt x="2013" y="2294"/>
                  </a:lnTo>
                  <a:lnTo>
                    <a:pt x="2018" y="2300"/>
                  </a:lnTo>
                  <a:lnTo>
                    <a:pt x="2020" y="2307"/>
                  </a:lnTo>
                  <a:lnTo>
                    <a:pt x="2024" y="2316"/>
                  </a:lnTo>
                  <a:lnTo>
                    <a:pt x="2024" y="2324"/>
                  </a:lnTo>
                  <a:lnTo>
                    <a:pt x="2024" y="2334"/>
                  </a:lnTo>
                  <a:lnTo>
                    <a:pt x="2020" y="2340"/>
                  </a:lnTo>
                  <a:lnTo>
                    <a:pt x="2014" y="2347"/>
                  </a:lnTo>
                  <a:lnTo>
                    <a:pt x="1978" y="2355"/>
                  </a:lnTo>
                  <a:lnTo>
                    <a:pt x="1999" y="2473"/>
                  </a:lnTo>
                  <a:lnTo>
                    <a:pt x="2173" y="2465"/>
                  </a:lnTo>
                  <a:lnTo>
                    <a:pt x="2170" y="2487"/>
                  </a:lnTo>
                  <a:lnTo>
                    <a:pt x="2009" y="2555"/>
                  </a:lnTo>
                  <a:lnTo>
                    <a:pt x="2032" y="2730"/>
                  </a:lnTo>
                  <a:lnTo>
                    <a:pt x="2329" y="2889"/>
                  </a:lnTo>
                  <a:lnTo>
                    <a:pt x="2523" y="2887"/>
                  </a:lnTo>
                  <a:lnTo>
                    <a:pt x="2512" y="2809"/>
                  </a:lnTo>
                  <a:lnTo>
                    <a:pt x="2438" y="2844"/>
                  </a:lnTo>
                  <a:lnTo>
                    <a:pt x="2435" y="2756"/>
                  </a:lnTo>
                  <a:lnTo>
                    <a:pt x="2359" y="2764"/>
                  </a:lnTo>
                  <a:lnTo>
                    <a:pt x="2366" y="2676"/>
                  </a:lnTo>
                  <a:lnTo>
                    <a:pt x="2290" y="2674"/>
                  </a:lnTo>
                  <a:lnTo>
                    <a:pt x="2328" y="2599"/>
                  </a:lnTo>
                  <a:lnTo>
                    <a:pt x="2263" y="2563"/>
                  </a:lnTo>
                  <a:lnTo>
                    <a:pt x="2308" y="2499"/>
                  </a:lnTo>
                  <a:lnTo>
                    <a:pt x="2249" y="2428"/>
                  </a:lnTo>
                  <a:lnTo>
                    <a:pt x="2306" y="2383"/>
                  </a:lnTo>
                  <a:lnTo>
                    <a:pt x="2260" y="2313"/>
                  </a:lnTo>
                  <a:lnTo>
                    <a:pt x="2323" y="2297"/>
                  </a:lnTo>
                  <a:lnTo>
                    <a:pt x="2286" y="2192"/>
                  </a:lnTo>
                  <a:lnTo>
                    <a:pt x="2237" y="2275"/>
                  </a:lnTo>
                  <a:lnTo>
                    <a:pt x="2189" y="2422"/>
                  </a:lnTo>
                  <a:lnTo>
                    <a:pt x="2054" y="2422"/>
                  </a:lnTo>
                  <a:lnTo>
                    <a:pt x="2062" y="2244"/>
                  </a:lnTo>
                  <a:lnTo>
                    <a:pt x="1991" y="2137"/>
                  </a:lnTo>
                  <a:lnTo>
                    <a:pt x="2044" y="2113"/>
                  </a:lnTo>
                  <a:lnTo>
                    <a:pt x="2042" y="2070"/>
                  </a:lnTo>
                  <a:lnTo>
                    <a:pt x="1943" y="2029"/>
                  </a:lnTo>
                  <a:lnTo>
                    <a:pt x="1751" y="964"/>
                  </a:lnTo>
                  <a:lnTo>
                    <a:pt x="1794" y="927"/>
                  </a:lnTo>
                  <a:lnTo>
                    <a:pt x="1748" y="505"/>
                  </a:lnTo>
                  <a:lnTo>
                    <a:pt x="1622" y="448"/>
                  </a:lnTo>
                  <a:lnTo>
                    <a:pt x="1666" y="125"/>
                  </a:lnTo>
                  <a:lnTo>
                    <a:pt x="1463" y="0"/>
                  </a:lnTo>
                  <a:lnTo>
                    <a:pt x="1293" y="155"/>
                  </a:lnTo>
                  <a:lnTo>
                    <a:pt x="1413" y="440"/>
                  </a:lnTo>
                  <a:lnTo>
                    <a:pt x="1298" y="551"/>
                  </a:lnTo>
                  <a:lnTo>
                    <a:pt x="1249" y="1228"/>
                  </a:lnTo>
                  <a:lnTo>
                    <a:pt x="996" y="990"/>
                  </a:lnTo>
                  <a:lnTo>
                    <a:pt x="920" y="993"/>
                  </a:lnTo>
                  <a:lnTo>
                    <a:pt x="665" y="350"/>
                  </a:lnTo>
                  <a:lnTo>
                    <a:pt x="448" y="1068"/>
                  </a:lnTo>
                  <a:lnTo>
                    <a:pt x="204" y="1172"/>
                  </a:lnTo>
                  <a:lnTo>
                    <a:pt x="227" y="1778"/>
                  </a:lnTo>
                  <a:lnTo>
                    <a:pt x="0" y="1832"/>
                  </a:lnTo>
                  <a:lnTo>
                    <a:pt x="292" y="2551"/>
                  </a:lnTo>
                  <a:lnTo>
                    <a:pt x="771" y="2734"/>
                  </a:lnTo>
                  <a:lnTo>
                    <a:pt x="1065" y="2646"/>
                  </a:lnTo>
                  <a:lnTo>
                    <a:pt x="1022" y="2858"/>
                  </a:lnTo>
                  <a:lnTo>
                    <a:pt x="1064" y="3109"/>
                  </a:lnTo>
                  <a:lnTo>
                    <a:pt x="1177" y="2481"/>
                  </a:lnTo>
                  <a:lnTo>
                    <a:pt x="1159" y="2492"/>
                  </a:lnTo>
                  <a:lnTo>
                    <a:pt x="1158" y="2492"/>
                  </a:lnTo>
                  <a:lnTo>
                    <a:pt x="1154" y="2497"/>
                  </a:lnTo>
                  <a:lnTo>
                    <a:pt x="1151" y="2500"/>
                  </a:lnTo>
                  <a:lnTo>
                    <a:pt x="1145" y="2508"/>
                  </a:lnTo>
                  <a:lnTo>
                    <a:pt x="1140" y="2511"/>
                  </a:lnTo>
                  <a:lnTo>
                    <a:pt x="1135" y="2515"/>
                  </a:lnTo>
                  <a:lnTo>
                    <a:pt x="1129" y="2516"/>
                  </a:lnTo>
                  <a:lnTo>
                    <a:pt x="1123" y="2521"/>
                  </a:lnTo>
                  <a:lnTo>
                    <a:pt x="1116" y="2524"/>
                  </a:lnTo>
                  <a:lnTo>
                    <a:pt x="1109" y="2526"/>
                  </a:lnTo>
                  <a:lnTo>
                    <a:pt x="1099" y="2529"/>
                  </a:lnTo>
                  <a:lnTo>
                    <a:pt x="1090" y="2532"/>
                  </a:lnTo>
                  <a:lnTo>
                    <a:pt x="1090" y="2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734160" y="4171680"/>
              <a:ext cx="1127160" cy="893880"/>
            </a:xfrm>
            <a:custGeom>
              <a:avLst/>
              <a:gdLst/>
              <a:ahLst/>
              <a:rect l="l" t="t" r="r" b="b"/>
              <a:pathLst>
                <a:path w="710" h="1127">
                  <a:moveTo>
                    <a:pt x="0" y="346"/>
                  </a:moveTo>
                  <a:lnTo>
                    <a:pt x="259" y="0"/>
                  </a:lnTo>
                  <a:lnTo>
                    <a:pt x="710" y="780"/>
                  </a:lnTo>
                  <a:lnTo>
                    <a:pt x="228" y="1127"/>
                  </a:lnTo>
                  <a:lnTo>
                    <a:pt x="227" y="1083"/>
                  </a:lnTo>
                  <a:lnTo>
                    <a:pt x="674" y="775"/>
                  </a:lnTo>
                  <a:lnTo>
                    <a:pt x="252" y="62"/>
                  </a:lnTo>
                  <a:lnTo>
                    <a:pt x="6" y="417"/>
                  </a:lnTo>
                  <a:lnTo>
                    <a:pt x="0" y="346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70760" y="5051160"/>
              <a:ext cx="174600" cy="279360"/>
            </a:xfrm>
            <a:custGeom>
              <a:avLst/>
              <a:gdLst/>
              <a:ahLst/>
              <a:rect l="l" t="t" r="r" b="b"/>
              <a:pathLst>
                <a:path w="110" h="352">
                  <a:moveTo>
                    <a:pt x="23" y="0"/>
                  </a:moveTo>
                  <a:lnTo>
                    <a:pt x="110" y="139"/>
                  </a:lnTo>
                  <a:lnTo>
                    <a:pt x="97" y="352"/>
                  </a:lnTo>
                  <a:lnTo>
                    <a:pt x="72" y="344"/>
                  </a:lnTo>
                  <a:lnTo>
                    <a:pt x="82" y="145"/>
                  </a:lnTo>
                  <a:lnTo>
                    <a:pt x="0" y="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09080" y="5013360"/>
              <a:ext cx="1117440" cy="690480"/>
            </a:xfrm>
            <a:custGeom>
              <a:avLst/>
              <a:gdLst/>
              <a:ahLst/>
              <a:rect l="l" t="t" r="r" b="b"/>
              <a:pathLst>
                <a:path w="704" h="870">
                  <a:moveTo>
                    <a:pt x="0" y="382"/>
                  </a:moveTo>
                  <a:lnTo>
                    <a:pt x="0" y="376"/>
                  </a:lnTo>
                  <a:lnTo>
                    <a:pt x="1" y="365"/>
                  </a:lnTo>
                  <a:lnTo>
                    <a:pt x="4" y="344"/>
                  </a:lnTo>
                  <a:lnTo>
                    <a:pt x="10" y="322"/>
                  </a:lnTo>
                  <a:lnTo>
                    <a:pt x="16" y="291"/>
                  </a:lnTo>
                  <a:lnTo>
                    <a:pt x="25" y="259"/>
                  </a:lnTo>
                  <a:lnTo>
                    <a:pt x="37" y="224"/>
                  </a:lnTo>
                  <a:lnTo>
                    <a:pt x="54" y="191"/>
                  </a:lnTo>
                  <a:lnTo>
                    <a:pt x="72" y="154"/>
                  </a:lnTo>
                  <a:lnTo>
                    <a:pt x="94" y="120"/>
                  </a:lnTo>
                  <a:lnTo>
                    <a:pt x="120" y="87"/>
                  </a:lnTo>
                  <a:lnTo>
                    <a:pt x="151" y="60"/>
                  </a:lnTo>
                  <a:lnTo>
                    <a:pt x="185" y="34"/>
                  </a:lnTo>
                  <a:lnTo>
                    <a:pt x="225" y="15"/>
                  </a:lnTo>
                  <a:lnTo>
                    <a:pt x="269" y="2"/>
                  </a:lnTo>
                  <a:lnTo>
                    <a:pt x="320" y="0"/>
                  </a:lnTo>
                  <a:lnTo>
                    <a:pt x="369" y="2"/>
                  </a:lnTo>
                  <a:lnTo>
                    <a:pt x="415" y="8"/>
                  </a:lnTo>
                  <a:lnTo>
                    <a:pt x="456" y="20"/>
                  </a:lnTo>
                  <a:lnTo>
                    <a:pt x="495" y="34"/>
                  </a:lnTo>
                  <a:lnTo>
                    <a:pt x="529" y="52"/>
                  </a:lnTo>
                  <a:lnTo>
                    <a:pt x="559" y="72"/>
                  </a:lnTo>
                  <a:lnTo>
                    <a:pt x="586" y="95"/>
                  </a:lnTo>
                  <a:lnTo>
                    <a:pt x="610" y="123"/>
                  </a:lnTo>
                  <a:lnTo>
                    <a:pt x="630" y="152"/>
                  </a:lnTo>
                  <a:lnTo>
                    <a:pt x="647" y="184"/>
                  </a:lnTo>
                  <a:lnTo>
                    <a:pt x="663" y="216"/>
                  </a:lnTo>
                  <a:lnTo>
                    <a:pt x="675" y="253"/>
                  </a:lnTo>
                  <a:lnTo>
                    <a:pt x="683" y="288"/>
                  </a:lnTo>
                  <a:lnTo>
                    <a:pt x="693" y="325"/>
                  </a:lnTo>
                  <a:lnTo>
                    <a:pt x="698" y="363"/>
                  </a:lnTo>
                  <a:lnTo>
                    <a:pt x="703" y="402"/>
                  </a:lnTo>
                  <a:lnTo>
                    <a:pt x="704" y="438"/>
                  </a:lnTo>
                  <a:lnTo>
                    <a:pt x="703" y="477"/>
                  </a:lnTo>
                  <a:lnTo>
                    <a:pt x="698" y="517"/>
                  </a:lnTo>
                  <a:lnTo>
                    <a:pt x="692" y="555"/>
                  </a:lnTo>
                  <a:lnTo>
                    <a:pt x="683" y="593"/>
                  </a:lnTo>
                  <a:lnTo>
                    <a:pt x="670" y="630"/>
                  </a:lnTo>
                  <a:lnTo>
                    <a:pt x="656" y="667"/>
                  </a:lnTo>
                  <a:lnTo>
                    <a:pt x="639" y="702"/>
                  </a:lnTo>
                  <a:lnTo>
                    <a:pt x="619" y="733"/>
                  </a:lnTo>
                  <a:lnTo>
                    <a:pt x="598" y="761"/>
                  </a:lnTo>
                  <a:lnTo>
                    <a:pt x="573" y="787"/>
                  </a:lnTo>
                  <a:lnTo>
                    <a:pt x="549" y="812"/>
                  </a:lnTo>
                  <a:lnTo>
                    <a:pt x="520" y="830"/>
                  </a:lnTo>
                  <a:lnTo>
                    <a:pt x="493" y="846"/>
                  </a:lnTo>
                  <a:lnTo>
                    <a:pt x="461" y="857"/>
                  </a:lnTo>
                  <a:lnTo>
                    <a:pt x="430" y="865"/>
                  </a:lnTo>
                  <a:lnTo>
                    <a:pt x="413" y="865"/>
                  </a:lnTo>
                  <a:lnTo>
                    <a:pt x="396" y="867"/>
                  </a:lnTo>
                  <a:lnTo>
                    <a:pt x="378" y="868"/>
                  </a:lnTo>
                  <a:lnTo>
                    <a:pt x="360" y="870"/>
                  </a:lnTo>
                  <a:lnTo>
                    <a:pt x="339" y="868"/>
                  </a:lnTo>
                  <a:lnTo>
                    <a:pt x="320" y="868"/>
                  </a:lnTo>
                  <a:lnTo>
                    <a:pt x="299" y="868"/>
                  </a:lnTo>
                  <a:lnTo>
                    <a:pt x="279" y="868"/>
                  </a:lnTo>
                  <a:lnTo>
                    <a:pt x="258" y="865"/>
                  </a:lnTo>
                  <a:lnTo>
                    <a:pt x="239" y="862"/>
                  </a:lnTo>
                  <a:lnTo>
                    <a:pt x="219" y="859"/>
                  </a:lnTo>
                  <a:lnTo>
                    <a:pt x="200" y="856"/>
                  </a:lnTo>
                  <a:lnTo>
                    <a:pt x="182" y="849"/>
                  </a:lnTo>
                  <a:lnTo>
                    <a:pt x="164" y="844"/>
                  </a:lnTo>
                  <a:lnTo>
                    <a:pt x="150" y="836"/>
                  </a:lnTo>
                  <a:lnTo>
                    <a:pt x="136" y="830"/>
                  </a:lnTo>
                  <a:lnTo>
                    <a:pt x="181" y="803"/>
                  </a:lnTo>
                  <a:lnTo>
                    <a:pt x="343" y="820"/>
                  </a:lnTo>
                  <a:lnTo>
                    <a:pt x="347" y="820"/>
                  </a:lnTo>
                  <a:lnTo>
                    <a:pt x="355" y="820"/>
                  </a:lnTo>
                  <a:lnTo>
                    <a:pt x="369" y="820"/>
                  </a:lnTo>
                  <a:lnTo>
                    <a:pt x="391" y="819"/>
                  </a:lnTo>
                  <a:lnTo>
                    <a:pt x="413" y="814"/>
                  </a:lnTo>
                  <a:lnTo>
                    <a:pt x="439" y="808"/>
                  </a:lnTo>
                  <a:lnTo>
                    <a:pt x="467" y="798"/>
                  </a:lnTo>
                  <a:lnTo>
                    <a:pt x="497" y="787"/>
                  </a:lnTo>
                  <a:lnTo>
                    <a:pt x="525" y="766"/>
                  </a:lnTo>
                  <a:lnTo>
                    <a:pt x="555" y="744"/>
                  </a:lnTo>
                  <a:lnTo>
                    <a:pt x="582" y="713"/>
                  </a:lnTo>
                  <a:lnTo>
                    <a:pt x="607" y="677"/>
                  </a:lnTo>
                  <a:lnTo>
                    <a:pt x="629" y="633"/>
                  </a:lnTo>
                  <a:lnTo>
                    <a:pt x="647" y="581"/>
                  </a:lnTo>
                  <a:lnTo>
                    <a:pt x="659" y="520"/>
                  </a:lnTo>
                  <a:lnTo>
                    <a:pt x="668" y="451"/>
                  </a:lnTo>
                  <a:lnTo>
                    <a:pt x="666" y="379"/>
                  </a:lnTo>
                  <a:lnTo>
                    <a:pt x="658" y="317"/>
                  </a:lnTo>
                  <a:lnTo>
                    <a:pt x="645" y="263"/>
                  </a:lnTo>
                  <a:lnTo>
                    <a:pt x="624" y="216"/>
                  </a:lnTo>
                  <a:lnTo>
                    <a:pt x="598" y="176"/>
                  </a:lnTo>
                  <a:lnTo>
                    <a:pt x="569" y="144"/>
                  </a:lnTo>
                  <a:lnTo>
                    <a:pt x="537" y="117"/>
                  </a:lnTo>
                  <a:lnTo>
                    <a:pt x="505" y="96"/>
                  </a:lnTo>
                  <a:lnTo>
                    <a:pt x="468" y="79"/>
                  </a:lnTo>
                  <a:lnTo>
                    <a:pt x="435" y="68"/>
                  </a:lnTo>
                  <a:lnTo>
                    <a:pt x="401" y="60"/>
                  </a:lnTo>
                  <a:lnTo>
                    <a:pt x="369" y="55"/>
                  </a:lnTo>
                  <a:lnTo>
                    <a:pt x="340" y="53"/>
                  </a:lnTo>
                  <a:lnTo>
                    <a:pt x="316" y="53"/>
                  </a:lnTo>
                  <a:lnTo>
                    <a:pt x="296" y="56"/>
                  </a:lnTo>
                  <a:lnTo>
                    <a:pt x="283" y="61"/>
                  </a:lnTo>
                  <a:lnTo>
                    <a:pt x="272" y="64"/>
                  </a:lnTo>
                  <a:lnTo>
                    <a:pt x="260" y="69"/>
                  </a:lnTo>
                  <a:lnTo>
                    <a:pt x="249" y="72"/>
                  </a:lnTo>
                  <a:lnTo>
                    <a:pt x="239" y="79"/>
                  </a:lnTo>
                  <a:lnTo>
                    <a:pt x="227" y="82"/>
                  </a:lnTo>
                  <a:lnTo>
                    <a:pt x="216" y="87"/>
                  </a:lnTo>
                  <a:lnTo>
                    <a:pt x="204" y="93"/>
                  </a:lnTo>
                  <a:lnTo>
                    <a:pt x="194" y="101"/>
                  </a:lnTo>
                  <a:lnTo>
                    <a:pt x="182" y="107"/>
                  </a:lnTo>
                  <a:lnTo>
                    <a:pt x="170" y="115"/>
                  </a:lnTo>
                  <a:lnTo>
                    <a:pt x="158" y="125"/>
                  </a:lnTo>
                  <a:lnTo>
                    <a:pt x="147" y="136"/>
                  </a:lnTo>
                  <a:lnTo>
                    <a:pt x="135" y="149"/>
                  </a:lnTo>
                  <a:lnTo>
                    <a:pt x="123" y="163"/>
                  </a:lnTo>
                  <a:lnTo>
                    <a:pt x="111" y="179"/>
                  </a:lnTo>
                  <a:lnTo>
                    <a:pt x="99" y="200"/>
                  </a:lnTo>
                  <a:lnTo>
                    <a:pt x="54" y="304"/>
                  </a:lnTo>
                  <a:lnTo>
                    <a:pt x="36" y="405"/>
                  </a:lnTo>
                  <a:lnTo>
                    <a:pt x="0" y="382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07320" y="5317920"/>
              <a:ext cx="142920" cy="33480"/>
            </a:xfrm>
            <a:custGeom>
              <a:avLst/>
              <a:gdLst/>
              <a:ahLst/>
              <a:rect l="l" t="t" r="r" b="b"/>
              <a:pathLst>
                <a:path w="90" h="43">
                  <a:moveTo>
                    <a:pt x="0" y="26"/>
                  </a:moveTo>
                  <a:lnTo>
                    <a:pt x="1" y="24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3" y="14"/>
                  </a:lnTo>
                  <a:lnTo>
                    <a:pt x="19" y="11"/>
                  </a:lnTo>
                  <a:lnTo>
                    <a:pt x="25" y="10"/>
                  </a:lnTo>
                  <a:lnTo>
                    <a:pt x="30" y="6"/>
                  </a:lnTo>
                  <a:lnTo>
                    <a:pt x="37" y="5"/>
                  </a:lnTo>
                  <a:lnTo>
                    <a:pt x="44" y="2"/>
                  </a:lnTo>
                  <a:lnTo>
                    <a:pt x="53" y="2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9" y="0"/>
                  </a:lnTo>
                  <a:lnTo>
                    <a:pt x="90" y="5"/>
                  </a:lnTo>
                  <a:lnTo>
                    <a:pt x="86" y="14"/>
                  </a:lnTo>
                  <a:lnTo>
                    <a:pt x="83" y="14"/>
                  </a:lnTo>
                  <a:lnTo>
                    <a:pt x="77" y="14"/>
                  </a:lnTo>
                  <a:lnTo>
                    <a:pt x="72" y="14"/>
                  </a:lnTo>
                  <a:lnTo>
                    <a:pt x="67" y="14"/>
                  </a:lnTo>
                  <a:lnTo>
                    <a:pt x="61" y="14"/>
                  </a:lnTo>
                  <a:lnTo>
                    <a:pt x="56" y="14"/>
                  </a:lnTo>
                  <a:lnTo>
                    <a:pt x="49" y="14"/>
                  </a:lnTo>
                  <a:lnTo>
                    <a:pt x="42" y="16"/>
                  </a:lnTo>
                  <a:lnTo>
                    <a:pt x="36" y="19"/>
                  </a:lnTo>
                  <a:lnTo>
                    <a:pt x="30" y="24"/>
                  </a:lnTo>
                  <a:lnTo>
                    <a:pt x="24" y="26"/>
                  </a:lnTo>
                  <a:lnTo>
                    <a:pt x="18" y="32"/>
                  </a:lnTo>
                  <a:lnTo>
                    <a:pt x="12" y="35"/>
                  </a:lnTo>
                  <a:lnTo>
                    <a:pt x="8" y="43"/>
                  </a:lnTo>
                  <a:lnTo>
                    <a:pt x="6" y="40"/>
                  </a:lnTo>
                  <a:lnTo>
                    <a:pt x="3" y="35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08880" y="5202000"/>
              <a:ext cx="247680" cy="111240"/>
            </a:xfrm>
            <a:custGeom>
              <a:avLst/>
              <a:gdLst/>
              <a:ahLst/>
              <a:rect l="l" t="t" r="r" b="b"/>
              <a:pathLst>
                <a:path w="156" h="140">
                  <a:moveTo>
                    <a:pt x="22" y="0"/>
                  </a:moveTo>
                  <a:lnTo>
                    <a:pt x="20" y="0"/>
                  </a:lnTo>
                  <a:lnTo>
                    <a:pt x="16" y="3"/>
                  </a:lnTo>
                  <a:lnTo>
                    <a:pt x="13" y="8"/>
                  </a:lnTo>
                  <a:lnTo>
                    <a:pt x="10" y="16"/>
                  </a:lnTo>
                  <a:lnTo>
                    <a:pt x="4" y="24"/>
                  </a:lnTo>
                  <a:lnTo>
                    <a:pt x="3" y="36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3" y="75"/>
                  </a:lnTo>
                  <a:lnTo>
                    <a:pt x="3" y="84"/>
                  </a:lnTo>
                  <a:lnTo>
                    <a:pt x="4" y="92"/>
                  </a:lnTo>
                  <a:lnTo>
                    <a:pt x="8" y="100"/>
                  </a:lnTo>
                  <a:lnTo>
                    <a:pt x="10" y="108"/>
                  </a:lnTo>
                  <a:lnTo>
                    <a:pt x="19" y="119"/>
                  </a:lnTo>
                  <a:lnTo>
                    <a:pt x="28" y="129"/>
                  </a:lnTo>
                  <a:lnTo>
                    <a:pt x="35" y="134"/>
                  </a:lnTo>
                  <a:lnTo>
                    <a:pt x="45" y="139"/>
                  </a:lnTo>
                  <a:lnTo>
                    <a:pt x="54" y="139"/>
                  </a:lnTo>
                  <a:lnTo>
                    <a:pt x="60" y="140"/>
                  </a:lnTo>
                  <a:lnTo>
                    <a:pt x="156" y="113"/>
                  </a:lnTo>
                  <a:lnTo>
                    <a:pt x="153" y="84"/>
                  </a:lnTo>
                  <a:lnTo>
                    <a:pt x="76" y="100"/>
                  </a:lnTo>
                  <a:lnTo>
                    <a:pt x="76" y="97"/>
                  </a:lnTo>
                  <a:lnTo>
                    <a:pt x="76" y="91"/>
                  </a:lnTo>
                  <a:lnTo>
                    <a:pt x="76" y="78"/>
                  </a:lnTo>
                  <a:lnTo>
                    <a:pt x="76" y="67"/>
                  </a:lnTo>
                  <a:lnTo>
                    <a:pt x="74" y="59"/>
                  </a:lnTo>
                  <a:lnTo>
                    <a:pt x="74" y="51"/>
                  </a:lnTo>
                  <a:lnTo>
                    <a:pt x="72" y="43"/>
                  </a:lnTo>
                  <a:lnTo>
                    <a:pt x="70" y="36"/>
                  </a:lnTo>
                  <a:lnTo>
                    <a:pt x="66" y="25"/>
                  </a:lnTo>
                  <a:lnTo>
                    <a:pt x="60" y="1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02360" y="4322520"/>
              <a:ext cx="1184040" cy="154080"/>
            </a:xfrm>
            <a:custGeom>
              <a:avLst/>
              <a:gdLst/>
              <a:ahLst/>
              <a:rect l="l" t="t" r="r" b="b"/>
              <a:pathLst>
                <a:path w="746" h="195">
                  <a:moveTo>
                    <a:pt x="156" y="52"/>
                  </a:moveTo>
                  <a:lnTo>
                    <a:pt x="158" y="54"/>
                  </a:lnTo>
                  <a:lnTo>
                    <a:pt x="165" y="60"/>
                  </a:lnTo>
                  <a:lnTo>
                    <a:pt x="176" y="68"/>
                  </a:lnTo>
                  <a:lnTo>
                    <a:pt x="193" y="81"/>
                  </a:lnTo>
                  <a:lnTo>
                    <a:pt x="214" y="92"/>
                  </a:lnTo>
                  <a:lnTo>
                    <a:pt x="240" y="105"/>
                  </a:lnTo>
                  <a:lnTo>
                    <a:pt x="269" y="118"/>
                  </a:lnTo>
                  <a:lnTo>
                    <a:pt x="305" y="129"/>
                  </a:lnTo>
                  <a:lnTo>
                    <a:pt x="342" y="136"/>
                  </a:lnTo>
                  <a:lnTo>
                    <a:pt x="384" y="142"/>
                  </a:lnTo>
                  <a:lnTo>
                    <a:pt x="430" y="144"/>
                  </a:lnTo>
                  <a:lnTo>
                    <a:pt x="479" y="140"/>
                  </a:lnTo>
                  <a:lnTo>
                    <a:pt x="532" y="131"/>
                  </a:lnTo>
                  <a:lnTo>
                    <a:pt x="589" y="115"/>
                  </a:lnTo>
                  <a:lnTo>
                    <a:pt x="648" y="92"/>
                  </a:lnTo>
                  <a:lnTo>
                    <a:pt x="712" y="60"/>
                  </a:lnTo>
                  <a:lnTo>
                    <a:pt x="746" y="81"/>
                  </a:lnTo>
                  <a:lnTo>
                    <a:pt x="742" y="84"/>
                  </a:lnTo>
                  <a:lnTo>
                    <a:pt x="733" y="94"/>
                  </a:lnTo>
                  <a:lnTo>
                    <a:pt x="717" y="105"/>
                  </a:lnTo>
                  <a:lnTo>
                    <a:pt x="697" y="123"/>
                  </a:lnTo>
                  <a:lnTo>
                    <a:pt x="669" y="139"/>
                  </a:lnTo>
                  <a:lnTo>
                    <a:pt x="635" y="156"/>
                  </a:lnTo>
                  <a:lnTo>
                    <a:pt x="596" y="172"/>
                  </a:lnTo>
                  <a:lnTo>
                    <a:pt x="553" y="187"/>
                  </a:lnTo>
                  <a:lnTo>
                    <a:pt x="501" y="193"/>
                  </a:lnTo>
                  <a:lnTo>
                    <a:pt x="445" y="195"/>
                  </a:lnTo>
                  <a:lnTo>
                    <a:pt x="384" y="188"/>
                  </a:lnTo>
                  <a:lnTo>
                    <a:pt x="319" y="176"/>
                  </a:lnTo>
                  <a:lnTo>
                    <a:pt x="245" y="150"/>
                  </a:lnTo>
                  <a:lnTo>
                    <a:pt x="169" y="113"/>
                  </a:lnTo>
                  <a:lnTo>
                    <a:pt x="86" y="64"/>
                  </a:lnTo>
                  <a:lnTo>
                    <a:pt x="0" y="0"/>
                  </a:lnTo>
                  <a:lnTo>
                    <a:pt x="156" y="52"/>
                  </a:lnTo>
                  <a:lnTo>
                    <a:pt x="15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5105520" y="2286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 = 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48040" y="3657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3.14)(5in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21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00600" y="5638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649i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1447920"/>
            <a:ext cx="72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volume of  a cylin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33520" y="2362320"/>
            <a:ext cx="2971800" cy="3429000"/>
            <a:chOff x="533520" y="2362320"/>
            <a:chExt cx="2971800" cy="3429000"/>
          </a:xfrm>
        </p:grpSpPr>
        <p:sp>
          <p:nvSpPr>
            <p:cNvPr id="503" name=""/>
            <p:cNvSpPr/>
            <p:nvPr/>
          </p:nvSpPr>
          <p:spPr>
            <a:xfrm>
              <a:off x="1219320" y="2362320"/>
              <a:ext cx="2286000" cy="3429000"/>
            </a:xfrm>
            <a:prstGeom prst="can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19320" y="5029200"/>
              <a:ext cx="2286000" cy="762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86000" y="275904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2468520"/>
              <a:ext cx="77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3520" y="3543480"/>
              <a:ext cx="68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1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18148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72080" y="43434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3.14)(25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(21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686480" y="5029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1648.5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990720" y="13716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volume of a pyram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80880" y="2316240"/>
            <a:ext cx="4419720" cy="4164480"/>
            <a:chOff x="380880" y="2316240"/>
            <a:chExt cx="4419720" cy="4164480"/>
          </a:xfrm>
        </p:grpSpPr>
        <p:sp>
          <p:nvSpPr>
            <p:cNvPr id="514" name=""/>
            <p:cNvSpPr/>
            <p:nvPr/>
          </p:nvSpPr>
          <p:spPr>
            <a:xfrm>
              <a:off x="380880" y="2316240"/>
              <a:ext cx="441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Great Pyramid of Giz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1071360" y="2851200"/>
              <a:ext cx="1981440" cy="1905120"/>
              <a:chOff x="1071360" y="2851200"/>
              <a:chExt cx="1981440" cy="190512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1071720" y="2851200"/>
                <a:ext cx="106668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2138400" y="2851200"/>
                <a:ext cx="91440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2062080" y="2851200"/>
                <a:ext cx="7632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2062080" y="2851200"/>
                <a:ext cx="763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1071360" y="3689280"/>
                <a:ext cx="9903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062080" y="3689280"/>
                <a:ext cx="9907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71720" y="4222800"/>
                <a:ext cx="9903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2062080" y="4222800"/>
                <a:ext cx="99072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 rot="21562200">
              <a:off x="1068120" y="4832280"/>
              <a:ext cx="213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 = 751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1594000">
              <a:off x="1219320" y="536544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 = 751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1594000">
              <a:off x="1143000" y="58975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 = 481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762440" y="2743200"/>
            <a:ext cx="2286000" cy="1068840"/>
            <a:chOff x="4762440" y="2743200"/>
            <a:chExt cx="2286000" cy="1068840"/>
          </a:xfrm>
        </p:grpSpPr>
        <p:sp>
          <p:nvSpPr>
            <p:cNvPr id="528" name=""/>
            <p:cNvSpPr/>
            <p:nvPr/>
          </p:nvSpPr>
          <p:spPr>
            <a:xfrm>
              <a:off x="4762440" y="295596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    lw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676840" y="2743200"/>
              <a:ext cx="457200" cy="1068840"/>
              <a:chOff x="5676840" y="2743200"/>
              <a:chExt cx="457200" cy="1068840"/>
            </a:xfrm>
          </p:grpSpPr>
          <p:sp>
            <p:nvSpPr>
              <p:cNvPr id="530" name=""/>
              <p:cNvSpPr/>
              <p:nvPr/>
            </p:nvSpPr>
            <p:spPr>
              <a:xfrm>
                <a:off x="5697720" y="2743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98440" y="3230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76840" y="3276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3467160" y="3733920"/>
            <a:ext cx="4876920" cy="1068840"/>
            <a:chOff x="3467160" y="3733920"/>
            <a:chExt cx="4876920" cy="1068840"/>
          </a:xfrm>
        </p:grpSpPr>
        <p:sp>
          <p:nvSpPr>
            <p:cNvPr id="534" name=""/>
            <p:cNvSpPr/>
            <p:nvPr/>
          </p:nvSpPr>
          <p:spPr>
            <a:xfrm>
              <a:off x="3467160" y="394668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    (751ft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481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4381560" y="3733920"/>
              <a:ext cx="457200" cy="1068840"/>
              <a:chOff x="4381560" y="3733920"/>
              <a:chExt cx="457200" cy="1068840"/>
            </a:xfrm>
          </p:grpSpPr>
          <p:sp>
            <p:nvSpPr>
              <p:cNvPr id="536" name=""/>
              <p:cNvSpPr/>
              <p:nvPr/>
            </p:nvSpPr>
            <p:spPr>
              <a:xfrm>
                <a:off x="4402440" y="3733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403160" y="4221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381560" y="42674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9" name=""/>
          <p:cNvGrpSpPr/>
          <p:nvPr/>
        </p:nvGrpSpPr>
        <p:grpSpPr>
          <a:xfrm>
            <a:off x="3276720" y="4800600"/>
            <a:ext cx="5257800" cy="1068840"/>
            <a:chOff x="3276720" y="4800600"/>
            <a:chExt cx="5257800" cy="1068840"/>
          </a:xfrm>
        </p:grpSpPr>
        <p:sp>
          <p:nvSpPr>
            <p:cNvPr id="540" name=""/>
            <p:cNvSpPr/>
            <p:nvPr/>
          </p:nvSpPr>
          <p:spPr>
            <a:xfrm>
              <a:off x="3276720" y="5013360"/>
              <a:ext cx="52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    (271,284,481ft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4267080" y="4800600"/>
              <a:ext cx="457200" cy="1068840"/>
              <a:chOff x="4267080" y="4800600"/>
              <a:chExt cx="457200" cy="1068840"/>
            </a:xfrm>
          </p:grpSpPr>
          <p:sp>
            <p:nvSpPr>
              <p:cNvPr id="542" name=""/>
              <p:cNvSpPr/>
              <p:nvPr/>
            </p:nvSpPr>
            <p:spPr>
              <a:xfrm>
                <a:off x="4287960" y="4800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88680" y="5288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67080" y="53341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5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276720" y="2743200"/>
            <a:ext cx="5257800" cy="1068840"/>
            <a:chOff x="3276720" y="2743200"/>
            <a:chExt cx="5257800" cy="1068840"/>
          </a:xfrm>
        </p:grpSpPr>
        <p:sp>
          <p:nvSpPr>
            <p:cNvPr id="547" name=""/>
            <p:cNvSpPr/>
            <p:nvPr/>
          </p:nvSpPr>
          <p:spPr>
            <a:xfrm>
              <a:off x="3276720" y="2955960"/>
              <a:ext cx="52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    (271,284,481ft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4267080" y="2743200"/>
              <a:ext cx="457200" cy="1068840"/>
              <a:chOff x="4267080" y="2743200"/>
              <a:chExt cx="457200" cy="1068840"/>
            </a:xfrm>
          </p:grpSpPr>
          <p:sp>
            <p:nvSpPr>
              <p:cNvPr id="549" name=""/>
              <p:cNvSpPr/>
              <p:nvPr/>
            </p:nvSpPr>
            <p:spPr>
              <a:xfrm>
                <a:off x="4287960" y="2743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288680" y="3230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67080" y="3276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380880" y="2316240"/>
            <a:ext cx="4419720" cy="4164480"/>
            <a:chOff x="380880" y="2316240"/>
            <a:chExt cx="4419720" cy="4164480"/>
          </a:xfrm>
        </p:grpSpPr>
        <p:sp>
          <p:nvSpPr>
            <p:cNvPr id="553" name=""/>
            <p:cNvSpPr/>
            <p:nvPr/>
          </p:nvSpPr>
          <p:spPr>
            <a:xfrm>
              <a:off x="380880" y="2316240"/>
              <a:ext cx="441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Great Pyramid of Giz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1071360" y="2851200"/>
              <a:ext cx="1981440" cy="1905120"/>
              <a:chOff x="1071360" y="2851200"/>
              <a:chExt cx="1981440" cy="1905120"/>
            </a:xfrm>
          </p:grpSpPr>
          <p:sp>
            <p:nvSpPr>
              <p:cNvPr id="555" name=""/>
              <p:cNvSpPr/>
              <p:nvPr/>
            </p:nvSpPr>
            <p:spPr>
              <a:xfrm flipV="1">
                <a:off x="1071720" y="2851200"/>
                <a:ext cx="106668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 flipV="1">
                <a:off x="2138400" y="2851200"/>
                <a:ext cx="91440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2062080" y="2851200"/>
                <a:ext cx="7632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062080" y="2851200"/>
                <a:ext cx="763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1071360" y="3689280"/>
                <a:ext cx="9903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062080" y="3689280"/>
                <a:ext cx="9907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71720" y="4222800"/>
                <a:ext cx="9903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2062080" y="4222800"/>
                <a:ext cx="99072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 rot="21562200">
              <a:off x="1068120" y="4832280"/>
              <a:ext cx="213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 = 751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1594000">
              <a:off x="1219320" y="536544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 = 751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1594000">
              <a:off x="1143000" y="589752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 = 481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990720" y="13716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volume of a pyram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00680" y="4844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90,428,160ft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000680" y="3962520"/>
            <a:ext cx="3809880" cy="642600"/>
            <a:chOff x="4000680" y="3962520"/>
            <a:chExt cx="3809880" cy="642600"/>
          </a:xfrm>
        </p:grpSpPr>
        <p:sp>
          <p:nvSpPr>
            <p:cNvPr id="569" name=""/>
            <p:cNvSpPr/>
            <p:nvPr/>
          </p:nvSpPr>
          <p:spPr>
            <a:xfrm>
              <a:off x="4000680" y="396252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90428160.3ft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8168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33920" y="5683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9.043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7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t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olume of a ice cream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95280" y="57150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con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&lt;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cyli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029200" y="2209680"/>
            <a:ext cx="3581280" cy="4147920"/>
            <a:chOff x="5029200" y="2209680"/>
            <a:chExt cx="3581280" cy="4147920"/>
          </a:xfrm>
        </p:grpSpPr>
        <p:pic>
          <p:nvPicPr>
            <p:cNvPr id="576" name="" descr=""/>
            <p:cNvPicPr/>
            <p:nvPr/>
          </p:nvPicPr>
          <p:blipFill>
            <a:blip r:embed="rId1"/>
            <a:stretch/>
          </p:blipFill>
          <p:spPr>
            <a:xfrm>
              <a:off x="5829480" y="2209680"/>
              <a:ext cx="19810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5029200" y="571500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Ice Cream Co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676520" y="2362320"/>
            <a:ext cx="4038480" cy="3200400"/>
            <a:chOff x="1676520" y="2362320"/>
            <a:chExt cx="4038480" cy="3200400"/>
          </a:xfrm>
        </p:grpSpPr>
        <p:grpSp>
          <p:nvGrpSpPr>
            <p:cNvPr id="579" name=""/>
            <p:cNvGrpSpPr/>
            <p:nvPr/>
          </p:nvGrpSpPr>
          <p:grpSpPr>
            <a:xfrm>
              <a:off x="1676520" y="2362320"/>
              <a:ext cx="4038480" cy="3200400"/>
              <a:chOff x="1676520" y="2362320"/>
              <a:chExt cx="4038480" cy="3200400"/>
            </a:xfrm>
          </p:grpSpPr>
          <p:sp>
            <p:nvSpPr>
              <p:cNvPr id="580" name=""/>
              <p:cNvSpPr/>
              <p:nvPr/>
            </p:nvSpPr>
            <p:spPr>
              <a:xfrm>
                <a:off x="1676520" y="2362320"/>
                <a:ext cx="1752480" cy="3200400"/>
              </a:xfrm>
              <a:prstGeom prst="can">
                <a:avLst>
                  <a:gd name="adj" fmla="val 25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33920" y="4616280"/>
                <a:ext cx="198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ylinde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09880" y="4724280"/>
                <a:ext cx="1905120" cy="381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200400" y="4114800"/>
                <a:ext cx="228600" cy="2286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84" name=""/>
              <p:cNvCxnSpPr>
                <a:stCxn id="582" idx="2"/>
                <a:endCxn id="583" idx="6"/>
              </p:cNvCxnSpPr>
              <p:nvPr/>
            </p:nvCxnSpPr>
            <p:spPr>
              <a:xfrm rot="10800000">
                <a:off x="3428280" y="4228560"/>
                <a:ext cx="381600" cy="686520"/>
              </a:xfrm>
              <a:prstGeom prst="curvedConnector5">
                <a:avLst>
                  <a:gd name="adj1" fmla="val 49952"/>
                  <a:gd name="adj2" fmla="val 50000"/>
                  <a:gd name="adj3" fmla="val 49952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85" name=""/>
            <p:cNvSpPr/>
            <p:nvPr/>
          </p:nvSpPr>
          <p:spPr>
            <a:xfrm>
              <a:off x="2286000" y="3124080"/>
              <a:ext cx="514440" cy="28800"/>
            </a:xfrm>
            <a:custGeom>
              <a:avLst/>
              <a:gdLst/>
              <a:ahLst/>
              <a:rect l="l" t="t" r="r" b="b"/>
              <a:pathLst>
                <a:path w="324" h="18">
                  <a:moveTo>
                    <a:pt x="0" y="0"/>
                  </a:moveTo>
                  <a:cubicBezTo>
                    <a:pt x="60" y="10"/>
                    <a:pt x="85" y="14"/>
                    <a:pt x="156" y="18"/>
                  </a:cubicBezTo>
                  <a:cubicBezTo>
                    <a:pt x="192" y="16"/>
                    <a:pt x="228" y="15"/>
                    <a:pt x="264" y="12"/>
                  </a:cubicBezTo>
                  <a:cubicBezTo>
                    <a:pt x="283" y="10"/>
                    <a:pt x="305" y="0"/>
                    <a:pt x="3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676520" y="2666880"/>
            <a:ext cx="3200400" cy="2895840"/>
            <a:chOff x="1676520" y="2666880"/>
            <a:chExt cx="3200400" cy="2895840"/>
          </a:xfrm>
        </p:grpSpPr>
        <p:grpSp>
          <p:nvGrpSpPr>
            <p:cNvPr id="587" name=""/>
            <p:cNvGrpSpPr/>
            <p:nvPr/>
          </p:nvGrpSpPr>
          <p:grpSpPr>
            <a:xfrm>
              <a:off x="1676520" y="2666880"/>
              <a:ext cx="3200400" cy="2895840"/>
              <a:chOff x="1676520" y="2666880"/>
              <a:chExt cx="3200400" cy="2895840"/>
            </a:xfrm>
          </p:grpSpPr>
          <p:sp>
            <p:nvSpPr>
              <p:cNvPr id="588" name=""/>
              <p:cNvSpPr/>
              <p:nvPr/>
            </p:nvSpPr>
            <p:spPr>
              <a:xfrm>
                <a:off x="1676520" y="2666880"/>
                <a:ext cx="1752480" cy="2514600"/>
              </a:xfrm>
              <a:custGeom>
                <a:avLst/>
                <a:gdLst/>
                <a:ahLst/>
                <a:rect l="l" t="t" r="r" b="b"/>
                <a:pathLst>
                  <a:path w="1104" h="1824">
                    <a:moveTo>
                      <a:pt x="0" y="1824"/>
                    </a:moveTo>
                    <a:lnTo>
                      <a:pt x="528" y="0"/>
                    </a:lnTo>
                    <a:lnTo>
                      <a:pt x="1104" y="1824"/>
                    </a:lnTo>
                    <a:lnTo>
                      <a:pt x="0" y="1824"/>
                    </a:lnTo>
                    <a:close/>
                  </a:path>
                </a:pathLst>
              </a:custGeom>
              <a:solidFill>
                <a:srgbClr val="ffff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57600" y="2940120"/>
                <a:ext cx="121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on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76520" y="4800600"/>
                <a:ext cx="1752480" cy="7621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657600" y="3048120"/>
                <a:ext cx="1143000" cy="4572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666880" y="3581280"/>
                <a:ext cx="228600" cy="3049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93" name=""/>
              <p:cNvCxnSpPr>
                <a:stCxn id="591" idx="2"/>
                <a:endCxn id="592" idx="7"/>
              </p:cNvCxnSpPr>
              <p:nvPr/>
            </p:nvCxnSpPr>
            <p:spPr>
              <a:xfrm flipV="1" rot="10800000">
                <a:off x="2861640" y="3276360"/>
                <a:ext cx="795960" cy="34992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94" name=""/>
            <p:cNvSpPr/>
            <p:nvPr/>
          </p:nvSpPr>
          <p:spPr>
            <a:xfrm>
              <a:off x="2228760" y="3124080"/>
              <a:ext cx="514440" cy="28800"/>
            </a:xfrm>
            <a:custGeom>
              <a:avLst/>
              <a:gdLst/>
              <a:ahLst/>
              <a:rect l="l" t="t" r="r" b="b"/>
              <a:pathLst>
                <a:path w="324" h="18">
                  <a:moveTo>
                    <a:pt x="0" y="0"/>
                  </a:moveTo>
                  <a:cubicBezTo>
                    <a:pt x="60" y="10"/>
                    <a:pt x="85" y="14"/>
                    <a:pt x="156" y="18"/>
                  </a:cubicBezTo>
                  <a:cubicBezTo>
                    <a:pt x="192" y="16"/>
                    <a:pt x="228" y="15"/>
                    <a:pt x="264" y="12"/>
                  </a:cubicBezTo>
                  <a:cubicBezTo>
                    <a:pt x="283" y="10"/>
                    <a:pt x="305" y="0"/>
                    <a:pt x="3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837720" y="2361960"/>
            <a:ext cx="2439000" cy="2895840"/>
            <a:chOff x="837720" y="2361960"/>
            <a:chExt cx="2439000" cy="2895840"/>
          </a:xfrm>
        </p:grpSpPr>
        <p:grpSp>
          <p:nvGrpSpPr>
            <p:cNvPr id="597" name=""/>
            <p:cNvGrpSpPr/>
            <p:nvPr/>
          </p:nvGrpSpPr>
          <p:grpSpPr>
            <a:xfrm>
              <a:off x="837720" y="2361960"/>
              <a:ext cx="1752840" cy="2895480"/>
              <a:chOff x="837720" y="2361960"/>
              <a:chExt cx="1752840" cy="2895480"/>
            </a:xfrm>
          </p:grpSpPr>
          <p:sp>
            <p:nvSpPr>
              <p:cNvPr id="598" name=""/>
              <p:cNvSpPr/>
              <p:nvPr/>
            </p:nvSpPr>
            <p:spPr>
              <a:xfrm rot="10800000">
                <a:off x="837720" y="2742840"/>
                <a:ext cx="1752840" cy="2514600"/>
              </a:xfrm>
              <a:custGeom>
                <a:avLst/>
                <a:gdLst/>
                <a:ahLst/>
                <a:rect l="l" t="t" r="r" b="b"/>
                <a:pathLst>
                  <a:path w="1104" h="1824">
                    <a:moveTo>
                      <a:pt x="0" y="1824"/>
                    </a:moveTo>
                    <a:lnTo>
                      <a:pt x="528" y="0"/>
                    </a:lnTo>
                    <a:lnTo>
                      <a:pt x="1104" y="1824"/>
                    </a:lnTo>
                    <a:lnTo>
                      <a:pt x="0" y="1824"/>
                    </a:lnTo>
                    <a:close/>
                  </a:path>
                </a:pathLst>
              </a:custGeom>
              <a:solidFill>
                <a:srgbClr val="ffff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0800000">
                <a:off x="837720" y="2361960"/>
                <a:ext cx="1752840" cy="7617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52480" y="27129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2452680"/>
              <a:ext cx="99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.8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09680" y="374796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.3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2743200" y="274320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743200" y="4267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2743200" y="1371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ce Cream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16560" y="3200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 ÷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3360960" y="3992400"/>
            <a:ext cx="4582440" cy="1190880"/>
            <a:chOff x="3360960" y="3992400"/>
            <a:chExt cx="4582440" cy="1190880"/>
          </a:xfrm>
        </p:grpSpPr>
        <p:sp>
          <p:nvSpPr>
            <p:cNvPr id="608" name=""/>
            <p:cNvSpPr/>
            <p:nvPr/>
          </p:nvSpPr>
          <p:spPr>
            <a:xfrm>
              <a:off x="3360960" y="4265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904920" y="3992400"/>
              <a:ext cx="4038480" cy="1190880"/>
              <a:chOff x="3904920" y="3992400"/>
              <a:chExt cx="4038480" cy="1190880"/>
            </a:xfrm>
          </p:grpSpPr>
          <p:sp>
            <p:nvSpPr>
              <p:cNvPr id="610" name=""/>
              <p:cNvSpPr/>
              <p:nvPr/>
            </p:nvSpPr>
            <p:spPr>
              <a:xfrm>
                <a:off x="3942720" y="3992400"/>
                <a:ext cx="39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(3.14)(1.8in)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(5.3in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733360" y="4601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04920" y="460188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3341880" y="5211720"/>
            <a:ext cx="4620960" cy="1190880"/>
            <a:chOff x="3341880" y="5211720"/>
            <a:chExt cx="4620960" cy="1190880"/>
          </a:xfrm>
        </p:grpSpPr>
        <p:sp>
          <p:nvSpPr>
            <p:cNvPr id="614" name=""/>
            <p:cNvSpPr/>
            <p:nvPr/>
          </p:nvSpPr>
          <p:spPr>
            <a:xfrm>
              <a:off x="3341880" y="5484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771720" y="5211720"/>
              <a:ext cx="4191120" cy="1190880"/>
              <a:chOff x="3771720" y="5211720"/>
              <a:chExt cx="4191120" cy="1190880"/>
            </a:xfrm>
          </p:grpSpPr>
          <p:sp>
            <p:nvSpPr>
              <p:cNvPr id="616" name=""/>
              <p:cNvSpPr/>
              <p:nvPr/>
            </p:nvSpPr>
            <p:spPr>
              <a:xfrm>
                <a:off x="3771720" y="5211720"/>
                <a:ext cx="4191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(3.14)(3.24in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)(5.3in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676840" y="58212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48040" y="582120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9" name=""/>
          <p:cNvGrpSpPr/>
          <p:nvPr/>
        </p:nvGrpSpPr>
        <p:grpSpPr>
          <a:xfrm>
            <a:off x="4402080" y="2119320"/>
            <a:ext cx="2514600" cy="1068840"/>
            <a:chOff x="4402080" y="2119320"/>
            <a:chExt cx="2514600" cy="1068840"/>
          </a:xfrm>
        </p:grpSpPr>
        <p:sp>
          <p:nvSpPr>
            <p:cNvPr id="620" name=""/>
            <p:cNvSpPr/>
            <p:nvPr/>
          </p:nvSpPr>
          <p:spPr>
            <a:xfrm>
              <a:off x="4402080" y="23320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5316480" y="2119320"/>
              <a:ext cx="457200" cy="1068840"/>
              <a:chOff x="5316480" y="2119320"/>
              <a:chExt cx="457200" cy="1068840"/>
            </a:xfrm>
          </p:grpSpPr>
          <p:sp>
            <p:nvSpPr>
              <p:cNvPr id="622" name=""/>
              <p:cNvSpPr/>
              <p:nvPr/>
            </p:nvSpPr>
            <p:spPr>
              <a:xfrm>
                <a:off x="5337360" y="2119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337720" y="2606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16480" y="2652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5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3341880" y="2057400"/>
            <a:ext cx="4620960" cy="1190880"/>
            <a:chOff x="3341880" y="2057400"/>
            <a:chExt cx="4620960" cy="1190880"/>
          </a:xfrm>
        </p:grpSpPr>
        <p:sp>
          <p:nvSpPr>
            <p:cNvPr id="627" name=""/>
            <p:cNvSpPr/>
            <p:nvPr/>
          </p:nvSpPr>
          <p:spPr>
            <a:xfrm>
              <a:off x="3341880" y="2330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771720" y="2057400"/>
              <a:ext cx="4191120" cy="1190880"/>
              <a:chOff x="3771720" y="2057400"/>
              <a:chExt cx="4191120" cy="1190880"/>
            </a:xfrm>
          </p:grpSpPr>
          <p:sp>
            <p:nvSpPr>
              <p:cNvPr id="629" name=""/>
              <p:cNvSpPr/>
              <p:nvPr/>
            </p:nvSpPr>
            <p:spPr>
              <a:xfrm>
                <a:off x="3771720" y="2057400"/>
                <a:ext cx="4191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(3.14)(3.24in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)(5.3in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676840" y="2666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848040" y="266688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2" name=""/>
          <p:cNvGrpSpPr/>
          <p:nvPr/>
        </p:nvGrpSpPr>
        <p:grpSpPr>
          <a:xfrm>
            <a:off x="837720" y="2361960"/>
            <a:ext cx="2439000" cy="2895840"/>
            <a:chOff x="837720" y="2361960"/>
            <a:chExt cx="2439000" cy="2895840"/>
          </a:xfrm>
        </p:grpSpPr>
        <p:grpSp>
          <p:nvGrpSpPr>
            <p:cNvPr id="633" name=""/>
            <p:cNvGrpSpPr/>
            <p:nvPr/>
          </p:nvGrpSpPr>
          <p:grpSpPr>
            <a:xfrm>
              <a:off x="837720" y="2361960"/>
              <a:ext cx="1752840" cy="2895480"/>
              <a:chOff x="837720" y="2361960"/>
              <a:chExt cx="1752840" cy="2895480"/>
            </a:xfrm>
          </p:grpSpPr>
          <p:sp>
            <p:nvSpPr>
              <p:cNvPr id="634" name=""/>
              <p:cNvSpPr/>
              <p:nvPr/>
            </p:nvSpPr>
            <p:spPr>
              <a:xfrm rot="10800000">
                <a:off x="837720" y="2742840"/>
                <a:ext cx="1752840" cy="2514600"/>
              </a:xfrm>
              <a:custGeom>
                <a:avLst/>
                <a:gdLst/>
                <a:ahLst/>
                <a:rect l="l" t="t" r="r" b="b"/>
                <a:pathLst>
                  <a:path w="1104" h="1824">
                    <a:moveTo>
                      <a:pt x="0" y="1824"/>
                    </a:moveTo>
                    <a:lnTo>
                      <a:pt x="528" y="0"/>
                    </a:lnTo>
                    <a:lnTo>
                      <a:pt x="1104" y="1824"/>
                    </a:lnTo>
                    <a:lnTo>
                      <a:pt x="0" y="1824"/>
                    </a:lnTo>
                    <a:close/>
                  </a:path>
                </a:pathLst>
              </a:custGeom>
              <a:solidFill>
                <a:srgbClr val="ffff99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0800000">
                <a:off x="837720" y="2361960"/>
                <a:ext cx="1752840" cy="7617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52480" y="27129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8080" y="2452680"/>
              <a:ext cx="990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.8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209680" y="374796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.3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743200" y="274320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42670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2743200" y="1371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ce Cream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994200" y="3276720"/>
            <a:ext cx="3326040" cy="1144800"/>
            <a:chOff x="3994200" y="3276720"/>
            <a:chExt cx="3326040" cy="1144800"/>
          </a:xfrm>
        </p:grpSpPr>
        <p:sp>
          <p:nvSpPr>
            <p:cNvPr id="643" name=""/>
            <p:cNvSpPr/>
            <p:nvPr/>
          </p:nvSpPr>
          <p:spPr>
            <a:xfrm>
              <a:off x="3994200" y="352764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527720" y="3276720"/>
              <a:ext cx="2057400" cy="1144800"/>
              <a:chOff x="4527720" y="3276720"/>
              <a:chExt cx="2057400" cy="1144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545000" y="3276720"/>
                <a:ext cx="2021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3.9200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365800" y="38401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527720" y="3840120"/>
                <a:ext cx="205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6588000" y="3527640"/>
              <a:ext cx="73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in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3992400" y="449568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 = 7.97336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34000" y="5257800"/>
            <a:ext cx="18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8.0i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066680" y="1676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olume of a 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294920" y="2971800"/>
            <a:ext cx="2286360" cy="3308760"/>
            <a:chOff x="1294920" y="2971800"/>
            <a:chExt cx="2286360" cy="3308760"/>
          </a:xfrm>
        </p:grpSpPr>
        <p:sp>
          <p:nvSpPr>
            <p:cNvPr id="654" name=""/>
            <p:cNvSpPr/>
            <p:nvPr/>
          </p:nvSpPr>
          <p:spPr>
            <a:xfrm>
              <a:off x="2324160" y="35053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.5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95280" y="297180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55800" y="3916440"/>
              <a:ext cx="35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4038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57400" y="5211720"/>
              <a:ext cx="762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1294920" y="54864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819520" y="54864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95280" y="5334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81280" y="5334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4172040" y="3763800"/>
            <a:ext cx="4152960" cy="1191240"/>
            <a:chOff x="4172040" y="3763800"/>
            <a:chExt cx="4152960" cy="1191240"/>
          </a:xfrm>
        </p:grpSpPr>
        <p:sp>
          <p:nvSpPr>
            <p:cNvPr id="664" name=""/>
            <p:cNvSpPr/>
            <p:nvPr/>
          </p:nvSpPr>
          <p:spPr>
            <a:xfrm>
              <a:off x="4172040" y="403704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124600" y="3763800"/>
              <a:ext cx="3200400" cy="1191240"/>
              <a:chOff x="5124600" y="3763800"/>
              <a:chExt cx="3200400" cy="1191240"/>
            </a:xfrm>
          </p:grpSpPr>
          <p:sp>
            <p:nvSpPr>
              <p:cNvPr id="666" name=""/>
              <p:cNvSpPr/>
              <p:nvPr/>
            </p:nvSpPr>
            <p:spPr>
              <a:xfrm>
                <a:off x="5124600" y="3763800"/>
                <a:ext cx="3200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(4)(3.14)(3.5in)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496200" y="437364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24600" y="4373640"/>
                <a:ext cx="320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4191120" y="5059440"/>
            <a:ext cx="4114800" cy="1190880"/>
            <a:chOff x="4191120" y="5059440"/>
            <a:chExt cx="4114800" cy="1190880"/>
          </a:xfrm>
        </p:grpSpPr>
        <p:sp>
          <p:nvSpPr>
            <p:cNvPr id="670" name=""/>
            <p:cNvSpPr/>
            <p:nvPr/>
          </p:nvSpPr>
          <p:spPr>
            <a:xfrm>
              <a:off x="4191120" y="53323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4572000" y="5059440"/>
              <a:ext cx="3733920" cy="1190880"/>
              <a:chOff x="4572000" y="5059440"/>
              <a:chExt cx="3733920" cy="1190880"/>
            </a:xfrm>
          </p:grpSpPr>
          <p:sp>
            <p:nvSpPr>
              <p:cNvPr id="672" name=""/>
              <p:cNvSpPr/>
              <p:nvPr/>
            </p:nvSpPr>
            <p:spPr>
              <a:xfrm>
                <a:off x="4572000" y="5059440"/>
                <a:ext cx="3733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(3.14)(42.875in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210360" y="56689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48320" y="56689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"/>
          <p:cNvGrpSpPr/>
          <p:nvPr/>
        </p:nvGrpSpPr>
        <p:grpSpPr>
          <a:xfrm>
            <a:off x="5219640" y="2583000"/>
            <a:ext cx="2209680" cy="1114560"/>
            <a:chOff x="5219640" y="2583000"/>
            <a:chExt cx="2209680" cy="1114560"/>
          </a:xfrm>
        </p:grpSpPr>
        <p:sp>
          <p:nvSpPr>
            <p:cNvPr id="676" name=""/>
            <p:cNvSpPr/>
            <p:nvPr/>
          </p:nvSpPr>
          <p:spPr>
            <a:xfrm>
              <a:off x="5219640" y="281772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6057720" y="2583000"/>
              <a:ext cx="533520" cy="1114560"/>
              <a:chOff x="6057720" y="2583000"/>
              <a:chExt cx="533520" cy="1114560"/>
            </a:xfrm>
          </p:grpSpPr>
          <p:sp>
            <p:nvSpPr>
              <p:cNvPr id="678" name=""/>
              <p:cNvSpPr/>
              <p:nvPr/>
            </p:nvSpPr>
            <p:spPr>
              <a:xfrm>
                <a:off x="6117480" y="2583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17480" y="3116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057720" y="3116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78040" y="1447920"/>
            <a:ext cx="780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492280"/>
            <a:ext cx="54104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 the volume of a prism (box) given the height, length, and 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 the volume of a pyramid given the height, length, and 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4191120" y="2544840"/>
            <a:ext cx="4114800" cy="1190880"/>
            <a:chOff x="4191120" y="2544840"/>
            <a:chExt cx="4114800" cy="1190880"/>
          </a:xfrm>
        </p:grpSpPr>
        <p:sp>
          <p:nvSpPr>
            <p:cNvPr id="683" name=""/>
            <p:cNvSpPr/>
            <p:nvPr/>
          </p:nvSpPr>
          <p:spPr>
            <a:xfrm>
              <a:off x="4191120" y="28177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4572000" y="2544840"/>
              <a:ext cx="3733920" cy="1190880"/>
              <a:chOff x="4572000" y="2544840"/>
              <a:chExt cx="3733920" cy="1190880"/>
            </a:xfrm>
          </p:grpSpPr>
          <p:sp>
            <p:nvSpPr>
              <p:cNvPr id="685" name=""/>
              <p:cNvSpPr/>
              <p:nvPr/>
            </p:nvSpPr>
            <p:spPr>
              <a:xfrm>
                <a:off x="4572000" y="2544840"/>
                <a:ext cx="3733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(3.14)(42.875in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210360" y="3154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648320" y="31543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"/>
          <p:cNvSpPr/>
          <p:nvPr/>
        </p:nvSpPr>
        <p:spPr>
          <a:xfrm>
            <a:off x="1295280" y="1492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olume of a spher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294920" y="2971800"/>
            <a:ext cx="2286360" cy="3308760"/>
            <a:chOff x="1294920" y="2971800"/>
            <a:chExt cx="2286360" cy="3308760"/>
          </a:xfrm>
        </p:grpSpPr>
        <p:sp>
          <p:nvSpPr>
            <p:cNvPr id="690" name=""/>
            <p:cNvSpPr/>
            <p:nvPr/>
          </p:nvSpPr>
          <p:spPr>
            <a:xfrm>
              <a:off x="2324160" y="35053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.5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95280" y="297180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55800" y="3916440"/>
              <a:ext cx="35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438280" y="4038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57400" y="5211720"/>
              <a:ext cx="762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1294920" y="54864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2819520" y="54864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95280" y="5334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81280" y="53341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981680" y="3763800"/>
            <a:ext cx="2533680" cy="1114560"/>
            <a:chOff x="4981680" y="3763800"/>
            <a:chExt cx="2533680" cy="1114560"/>
          </a:xfrm>
        </p:grpSpPr>
        <p:sp>
          <p:nvSpPr>
            <p:cNvPr id="700" name=""/>
            <p:cNvSpPr/>
            <p:nvPr/>
          </p:nvSpPr>
          <p:spPr>
            <a:xfrm>
              <a:off x="4981680" y="4000320"/>
              <a:ext cx="39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5457960" y="3763800"/>
              <a:ext cx="2057400" cy="1114560"/>
              <a:chOff x="5457960" y="3763800"/>
              <a:chExt cx="2057400" cy="1114560"/>
            </a:xfrm>
          </p:grpSpPr>
          <p:sp>
            <p:nvSpPr>
              <p:cNvPr id="702" name=""/>
              <p:cNvSpPr/>
              <p:nvPr/>
            </p:nvSpPr>
            <p:spPr>
              <a:xfrm>
                <a:off x="5505480" y="3763800"/>
                <a:ext cx="196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38.51in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257880" y="42969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457960" y="4296960"/>
                <a:ext cx="205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5105520" y="57150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79.5i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4800600" y="4952880"/>
            <a:ext cx="2895480" cy="642600"/>
            <a:chOff x="4800600" y="4952880"/>
            <a:chExt cx="2895480" cy="642600"/>
          </a:xfrm>
        </p:grpSpPr>
        <p:sp>
          <p:nvSpPr>
            <p:cNvPr id="707" name=""/>
            <p:cNvSpPr/>
            <p:nvPr/>
          </p:nvSpPr>
          <p:spPr>
            <a:xfrm>
              <a:off x="4800600" y="49528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179.503in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05720" y="50292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295280" y="1371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olume of a 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1295280" y="2971800"/>
            <a:ext cx="2286000" cy="2209680"/>
            <a:chOff x="1295280" y="2971800"/>
            <a:chExt cx="2286000" cy="2209680"/>
          </a:xfrm>
        </p:grpSpPr>
        <p:sp>
          <p:nvSpPr>
            <p:cNvPr id="712" name=""/>
            <p:cNvSpPr/>
            <p:nvPr/>
          </p:nvSpPr>
          <p:spPr>
            <a:xfrm>
              <a:off x="1600200" y="350532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.00038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95280" y="297180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55800" y="3916440"/>
              <a:ext cx="35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38280" y="4038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219640" y="2057400"/>
            <a:ext cx="2209680" cy="1114560"/>
            <a:chOff x="5219640" y="2057400"/>
            <a:chExt cx="2209680" cy="1114560"/>
          </a:xfrm>
        </p:grpSpPr>
        <p:sp>
          <p:nvSpPr>
            <p:cNvPr id="717" name=""/>
            <p:cNvSpPr/>
            <p:nvPr/>
          </p:nvSpPr>
          <p:spPr>
            <a:xfrm>
              <a:off x="5219640" y="229212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6057720" y="2057400"/>
              <a:ext cx="533520" cy="1114560"/>
              <a:chOff x="6057720" y="2057400"/>
              <a:chExt cx="533520" cy="1114560"/>
            </a:xfrm>
          </p:grpSpPr>
          <p:sp>
            <p:nvSpPr>
              <p:cNvPr id="719" name=""/>
              <p:cNvSpPr/>
              <p:nvPr/>
            </p:nvSpPr>
            <p:spPr>
              <a:xfrm>
                <a:off x="6117480" y="2057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117480" y="2590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057720" y="25905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5562720" y="3078000"/>
            <a:ext cx="1523880" cy="1114560"/>
            <a:chOff x="5562720" y="3078000"/>
            <a:chExt cx="1523880" cy="1114560"/>
          </a:xfrm>
        </p:grpSpPr>
        <p:sp>
          <p:nvSpPr>
            <p:cNvPr id="723" name=""/>
            <p:cNvSpPr/>
            <p:nvPr/>
          </p:nvSpPr>
          <p:spPr>
            <a:xfrm>
              <a:off x="5562720" y="33127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6019920" y="3078000"/>
              <a:ext cx="1066680" cy="1114560"/>
              <a:chOff x="6019920" y="3078000"/>
              <a:chExt cx="1066680" cy="1114560"/>
            </a:xfrm>
          </p:grpSpPr>
          <p:sp>
            <p:nvSpPr>
              <p:cNvPr id="725" name=""/>
              <p:cNvSpPr/>
              <p:nvPr/>
            </p:nvSpPr>
            <p:spPr>
              <a:xfrm>
                <a:off x="6045120" y="3078000"/>
                <a:ext cx="1015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346080" y="3611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019920" y="361116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8" name=""/>
          <p:cNvGrpSpPr/>
          <p:nvPr/>
        </p:nvGrpSpPr>
        <p:grpSpPr>
          <a:xfrm>
            <a:off x="4114800" y="4114800"/>
            <a:ext cx="4419720" cy="1190880"/>
            <a:chOff x="4114800" y="4114800"/>
            <a:chExt cx="4419720" cy="1190880"/>
          </a:xfrm>
        </p:grpSpPr>
        <p:sp>
          <p:nvSpPr>
            <p:cNvPr id="729" name=""/>
            <p:cNvSpPr/>
            <p:nvPr/>
          </p:nvSpPr>
          <p:spPr>
            <a:xfrm>
              <a:off x="4114800" y="43876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419720" y="4114800"/>
              <a:ext cx="4114800" cy="1190880"/>
              <a:chOff x="4419720" y="4114800"/>
              <a:chExt cx="4114800" cy="1190880"/>
            </a:xfrm>
          </p:grpSpPr>
          <p:sp>
            <p:nvSpPr>
              <p:cNvPr id="731" name=""/>
              <p:cNvSpPr/>
              <p:nvPr/>
            </p:nvSpPr>
            <p:spPr>
              <a:xfrm>
                <a:off x="4419720" y="4114800"/>
                <a:ext cx="4114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(4)(3.14)(.00038in)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270120" y="4724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572000" y="4724280"/>
                <a:ext cx="381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4038480" y="5288040"/>
            <a:ext cx="4572000" cy="1190880"/>
            <a:chOff x="4038480" y="5288040"/>
            <a:chExt cx="4572000" cy="1190880"/>
          </a:xfrm>
        </p:grpSpPr>
        <p:sp>
          <p:nvSpPr>
            <p:cNvPr id="735" name=""/>
            <p:cNvSpPr/>
            <p:nvPr/>
          </p:nvSpPr>
          <p:spPr>
            <a:xfrm>
              <a:off x="4038480" y="55609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4495680" y="5288040"/>
              <a:ext cx="1523880" cy="1190880"/>
              <a:chOff x="4495680" y="5288040"/>
              <a:chExt cx="1523880" cy="1190880"/>
            </a:xfrm>
          </p:grpSpPr>
          <p:sp>
            <p:nvSpPr>
              <p:cNvPr id="737" name=""/>
              <p:cNvSpPr/>
              <p:nvPr/>
            </p:nvSpPr>
            <p:spPr>
              <a:xfrm>
                <a:off x="4495680" y="5288040"/>
                <a:ext cx="1523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(3.14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50080" y="5897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495680" y="589752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6019560" y="556272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.00038in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"/>
          <p:cNvGrpSpPr/>
          <p:nvPr/>
        </p:nvGrpSpPr>
        <p:grpSpPr>
          <a:xfrm>
            <a:off x="4038480" y="2087640"/>
            <a:ext cx="4572000" cy="1190880"/>
            <a:chOff x="4038480" y="2087640"/>
            <a:chExt cx="4572000" cy="1190880"/>
          </a:xfrm>
        </p:grpSpPr>
        <p:sp>
          <p:nvSpPr>
            <p:cNvPr id="743" name=""/>
            <p:cNvSpPr/>
            <p:nvPr/>
          </p:nvSpPr>
          <p:spPr>
            <a:xfrm>
              <a:off x="4038480" y="2360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4495680" y="2087640"/>
              <a:ext cx="1523880" cy="1190880"/>
              <a:chOff x="4495680" y="2087640"/>
              <a:chExt cx="1523880" cy="1190880"/>
            </a:xfrm>
          </p:grpSpPr>
          <p:sp>
            <p:nvSpPr>
              <p:cNvPr id="745" name=""/>
              <p:cNvSpPr/>
              <p:nvPr/>
            </p:nvSpPr>
            <p:spPr>
              <a:xfrm>
                <a:off x="4495680" y="2087640"/>
                <a:ext cx="1523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(3.14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050080" y="2697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495680" y="269712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6019560" y="236232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.00038in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2743200" y="1371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295280" y="2971800"/>
            <a:ext cx="2286000" cy="2209680"/>
            <a:chOff x="1295280" y="2971800"/>
            <a:chExt cx="2286000" cy="2209680"/>
          </a:xfrm>
        </p:grpSpPr>
        <p:sp>
          <p:nvSpPr>
            <p:cNvPr id="751" name=""/>
            <p:cNvSpPr/>
            <p:nvPr/>
          </p:nvSpPr>
          <p:spPr>
            <a:xfrm>
              <a:off x="1600200" y="350532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.00038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5280" y="297180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755800" y="3916440"/>
              <a:ext cx="35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8280" y="4038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4381560" y="3313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4.19(.00038in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05240" y="40672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ed to calculate (.00038in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2743200" y="1371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295280" y="2971800"/>
            <a:ext cx="2286000" cy="2209680"/>
            <a:chOff x="1295280" y="2971800"/>
            <a:chExt cx="2286000" cy="2209680"/>
          </a:xfrm>
        </p:grpSpPr>
        <p:sp>
          <p:nvSpPr>
            <p:cNvPr id="760" name=""/>
            <p:cNvSpPr/>
            <p:nvPr/>
          </p:nvSpPr>
          <p:spPr>
            <a:xfrm>
              <a:off x="1600200" y="350532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.00038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295280" y="297180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55800" y="3916440"/>
              <a:ext cx="35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438280" y="4038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4781520" y="2071800"/>
            <a:ext cx="30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-problem: .00038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4343040" y="3123720"/>
            <a:ext cx="3886560" cy="1693440"/>
            <a:chOff x="4343040" y="3123720"/>
            <a:chExt cx="3886560" cy="1693440"/>
          </a:xfrm>
        </p:grpSpPr>
        <p:sp>
          <p:nvSpPr>
            <p:cNvPr id="766" name=""/>
            <p:cNvSpPr/>
            <p:nvPr/>
          </p:nvSpPr>
          <p:spPr>
            <a:xfrm>
              <a:off x="4495680" y="3625920"/>
              <a:ext cx="36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 decimal plac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6200000">
              <a:off x="6134040" y="2247480"/>
              <a:ext cx="304920" cy="20574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3809880"/>
              <a:ext cx="365760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9" name=""/>
            <p:cNvCxnSpPr>
              <a:stCxn id="767" idx="1"/>
              <a:endCxn id="768" idx="2"/>
            </p:cNvCxnSpPr>
            <p:nvPr/>
          </p:nvCxnSpPr>
          <p:spPr>
            <a:xfrm rot="5400000">
              <a:off x="5169960" y="2847960"/>
              <a:ext cx="516600" cy="1713600"/>
            </a:xfrm>
            <a:prstGeom prst="curvedConnector5">
              <a:avLst>
                <a:gd name="adj1" fmla="val 24267"/>
                <a:gd name="adj2" fmla="val 56671"/>
                <a:gd name="adj3" fmla="val 2426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70" name=""/>
          <p:cNvSpPr/>
          <p:nvPr/>
        </p:nvSpPr>
        <p:spPr>
          <a:xfrm>
            <a:off x="53341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00400" y="5105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Multiply 38 x 38 x 3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619440" y="57913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8 x 38 x 38 = 54,8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2743200" y="1371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1295280" y="2971800"/>
            <a:ext cx="2286000" cy="2209680"/>
            <a:chOff x="1295280" y="2971800"/>
            <a:chExt cx="2286000" cy="2209680"/>
          </a:xfrm>
        </p:grpSpPr>
        <p:sp>
          <p:nvSpPr>
            <p:cNvPr id="776" name=""/>
            <p:cNvSpPr/>
            <p:nvPr/>
          </p:nvSpPr>
          <p:spPr>
            <a:xfrm>
              <a:off x="1600200" y="350532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.00038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95280" y="297180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55800" y="3916440"/>
              <a:ext cx="35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38280" y="4038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4781520" y="2071800"/>
            <a:ext cx="30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-problem: .00038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343040" y="3123720"/>
            <a:ext cx="3886560" cy="1693440"/>
            <a:chOff x="4343040" y="3123720"/>
            <a:chExt cx="3886560" cy="1693440"/>
          </a:xfrm>
        </p:grpSpPr>
        <p:sp>
          <p:nvSpPr>
            <p:cNvPr id="782" name=""/>
            <p:cNvSpPr/>
            <p:nvPr/>
          </p:nvSpPr>
          <p:spPr>
            <a:xfrm>
              <a:off x="4495680" y="3625920"/>
              <a:ext cx="36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 decimal plac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6200000">
              <a:off x="6134040" y="2247480"/>
              <a:ext cx="304920" cy="20574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72000" y="3809880"/>
              <a:ext cx="365760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5" name=""/>
            <p:cNvCxnSpPr>
              <a:stCxn id="783" idx="1"/>
              <a:endCxn id="784" idx="2"/>
            </p:cNvCxnSpPr>
            <p:nvPr/>
          </p:nvCxnSpPr>
          <p:spPr>
            <a:xfrm rot="5400000">
              <a:off x="5169960" y="2847960"/>
              <a:ext cx="516600" cy="1713600"/>
            </a:xfrm>
            <a:prstGeom prst="curvedConnector5">
              <a:avLst>
                <a:gd name="adj1" fmla="val 24267"/>
                <a:gd name="adj2" fmla="val 56671"/>
                <a:gd name="adj3" fmla="val 2426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86" name=""/>
          <p:cNvSpPr/>
          <p:nvPr/>
        </p:nvSpPr>
        <p:spPr>
          <a:xfrm>
            <a:off x="53341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200400" y="5105520"/>
            <a:ext cx="56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Count back 15 decimal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pl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048120" y="141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.00038in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914400" y="220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.00038in)(.00038in)(.00038in)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5120" y="29718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000000000054872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285640" y="3581280"/>
            <a:ext cx="4267080" cy="1099080"/>
            <a:chOff x="2285640" y="3581280"/>
            <a:chExt cx="4267080" cy="1099080"/>
          </a:xfrm>
        </p:grpSpPr>
        <p:sp>
          <p:nvSpPr>
            <p:cNvPr id="793" name=""/>
            <p:cNvSpPr/>
            <p:nvPr/>
          </p:nvSpPr>
          <p:spPr>
            <a:xfrm flipH="1">
              <a:off x="2285640" y="358128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67160" y="3611520"/>
              <a:ext cx="190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5 pla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685800" y="43434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 = (4.19)(0.000000000054872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600200" y="51055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0.0000000002291368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58672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 = 2.291368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048120" y="141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.00038in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914400" y="220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.00038in)(.00038in)(.00038in)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905120" y="29718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000000000054872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85640" y="3581280"/>
            <a:ext cx="4267080" cy="1099080"/>
            <a:chOff x="2285640" y="3581280"/>
            <a:chExt cx="4267080" cy="1099080"/>
          </a:xfrm>
        </p:grpSpPr>
        <p:sp>
          <p:nvSpPr>
            <p:cNvPr id="803" name=""/>
            <p:cNvSpPr/>
            <p:nvPr/>
          </p:nvSpPr>
          <p:spPr>
            <a:xfrm flipH="1">
              <a:off x="2285640" y="3581280"/>
              <a:ext cx="42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467160" y="3611520"/>
              <a:ext cx="190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5 pla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685800" y="43434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 = (4.19)(0.000000000054872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00200" y="51055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0.0000000002291368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666880" y="58672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.29 x 1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-10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i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7200" y="166068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an of whipped cream is a cylinder 3.5 inches in diameter and 5.25 inches high with a round top that is ½ of a sphere. If the contents are ½ compressed gas and ½ cream, what is the volume of whipped cream in the c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7200" y="166068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an of whipped cream is a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cylinder 3.5 inch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diamet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5.25 inch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igh with a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round to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hat is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½ of a spher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If the contents ar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½ compressed ga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½ cream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what is the volume of whipped cream in the c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57200" y="166068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an of whipped cream is a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cylinder 3.5 inche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 diamet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5.25 inch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igh with a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round to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hat is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½ of a spher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If the contents ar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½ compressed ga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½ cream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is the volume of whipped cream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n the c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33520" y="144792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                                   Cylinder 5.25in high, 3.5in diameter Spherical top (3.5in diameter)        ½ full of c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520" y="365760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estion:          Volume of c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257800" y="4114800"/>
            <a:ext cx="2286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705720" y="4114800"/>
            <a:ext cx="228600" cy="30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952880" y="3039120"/>
            <a:ext cx="2990520" cy="3285360"/>
            <a:chOff x="4952880" y="3039120"/>
            <a:chExt cx="2990520" cy="3285360"/>
          </a:xfrm>
        </p:grpSpPr>
        <p:grpSp>
          <p:nvGrpSpPr>
            <p:cNvPr id="819" name=""/>
            <p:cNvGrpSpPr/>
            <p:nvPr/>
          </p:nvGrpSpPr>
          <p:grpSpPr>
            <a:xfrm>
              <a:off x="4952880" y="3039120"/>
              <a:ext cx="2286000" cy="3285360"/>
              <a:chOff x="4952880" y="3039120"/>
              <a:chExt cx="2286000" cy="328536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5257800" y="3039120"/>
                <a:ext cx="1676520" cy="3285360"/>
                <a:chOff x="5257800" y="3039120"/>
                <a:chExt cx="1676520" cy="328536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257800" y="3886200"/>
                  <a:ext cx="1676520" cy="2438280"/>
                </a:xfrm>
                <a:prstGeom prst="can">
                  <a:avLst>
                    <a:gd name="adj" fmla="val 25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822" name=""/>
                <p:cNvCxnSpPr>
                  <a:stCxn id="816" idx="1"/>
                  <a:endCxn id="817" idx="7"/>
                </p:cNvCxnSpPr>
                <p:nvPr/>
              </p:nvCxnSpPr>
              <p:spPr>
                <a:xfrm flipH="1" rot="16200000">
                  <a:off x="6094800" y="3354120"/>
                  <a:ext cx="2520" cy="1610280"/>
                </a:xfrm>
                <a:prstGeom prst="curvedConnector5">
                  <a:avLst>
                    <a:gd name="adj1" fmla="val -51800000"/>
                    <a:gd name="adj2" fmla="val 50000"/>
                    <a:gd name="adj3" fmla="val -51800000"/>
                  </a:avLst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823" name=""/>
                <p:cNvSpPr/>
                <p:nvPr/>
              </p:nvSpPr>
              <p:spPr>
                <a:xfrm>
                  <a:off x="5943600" y="3124080"/>
                  <a:ext cx="228600" cy="2286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4" name=""/>
                <p:cNvGrpSpPr/>
                <p:nvPr/>
              </p:nvGrpSpPr>
              <p:grpSpPr>
                <a:xfrm>
                  <a:off x="5867280" y="3200400"/>
                  <a:ext cx="685800" cy="1600200"/>
                  <a:chOff x="5867280" y="3200400"/>
                  <a:chExt cx="685800" cy="160020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6324480" y="4495680"/>
                    <a:ext cx="2286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5867280" y="3200400"/>
                    <a:ext cx="2286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827" name=""/>
                  <p:cNvCxnSpPr>
                    <a:stCxn id="825" idx="0"/>
                    <a:endCxn id="826" idx="6"/>
                  </p:cNvCxnSpPr>
                  <p:nvPr/>
                </p:nvCxnSpPr>
                <p:spPr>
                  <a:xfrm flipV="1" rot="16200000">
                    <a:off x="5695200" y="3751920"/>
                    <a:ext cx="1143720" cy="343800"/>
                  </a:xfrm>
                  <a:prstGeom prst="curvedConnector2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828" name=""/>
                <p:cNvSpPr/>
                <p:nvPr/>
              </p:nvSpPr>
              <p:spPr>
                <a:xfrm>
                  <a:off x="5638680" y="3886200"/>
                  <a:ext cx="30492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019920" y="3200400"/>
                  <a:ext cx="30456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830" name=""/>
                <p:cNvCxnSpPr>
                  <a:stCxn id="828" idx="0"/>
                  <a:endCxn id="829" idx="2"/>
                </p:cNvCxnSpPr>
                <p:nvPr/>
              </p:nvCxnSpPr>
              <p:spPr>
                <a:xfrm flipH="1" flipV="1" rot="5400000">
                  <a:off x="5619600" y="3485520"/>
                  <a:ext cx="572040" cy="229320"/>
                </a:xfrm>
                <a:prstGeom prst="curvedConnector2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  <p:grpSp>
            <p:nvGrpSpPr>
              <p:cNvPr id="831" name=""/>
              <p:cNvGrpSpPr/>
              <p:nvPr/>
            </p:nvGrpSpPr>
            <p:grpSpPr>
              <a:xfrm>
                <a:off x="4952880" y="5611320"/>
                <a:ext cx="2286000" cy="713160"/>
                <a:chOff x="4952880" y="5611320"/>
                <a:chExt cx="2286000" cy="71316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4952880" y="5943600"/>
                  <a:ext cx="38124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858000" y="5943600"/>
                  <a:ext cx="38088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834" name=""/>
                <p:cNvCxnSpPr>
                  <a:stCxn id="832" idx="7"/>
                  <a:endCxn id="833" idx="1"/>
                </p:cNvCxnSpPr>
                <p:nvPr/>
              </p:nvCxnSpPr>
              <p:spPr>
                <a:xfrm flipH="1" rot="16200000">
                  <a:off x="6094800" y="5181120"/>
                  <a:ext cx="2520" cy="1635840"/>
                </a:xfrm>
                <a:prstGeom prst="curvedConnector5">
                  <a:avLst>
                    <a:gd name="adj1" fmla="val -17900000"/>
                    <a:gd name="adj2" fmla="val 49988"/>
                    <a:gd name="adj3" fmla="val -17900000"/>
                  </a:avLst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</p:grpSp>
        <p:sp>
          <p:nvSpPr>
            <p:cNvPr id="835" name=""/>
            <p:cNvSpPr/>
            <p:nvPr/>
          </p:nvSpPr>
          <p:spPr>
            <a:xfrm>
              <a:off x="5708160" y="480060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257800" y="50911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38960" y="509112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953400" y="4876920"/>
              <a:ext cx="99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.2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162920" y="416052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62920" y="53802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38080" y="1895400"/>
            <a:ext cx="7620120" cy="3743280"/>
          </a:xfrm>
          <a:prstGeom prst="roundRect">
            <a:avLst>
              <a:gd name="adj" fmla="val 1666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066680" y="2014560"/>
            <a:ext cx="71629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sis:  Use formulas for volume  (cylinder and sphere) to calculate the volume of the can itself and the top of the can (half a spher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two volumes to get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half the can is cream, so divide total by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67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697120" y="2492280"/>
            <a:ext cx="60958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 the volume of a cylinder given the height and radius of th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 the volume of a cone given the height and rad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78040" y="1447920"/>
            <a:ext cx="780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415800" y="2552760"/>
            <a:ext cx="1295640" cy="3416400"/>
            <a:chOff x="415800" y="2552760"/>
            <a:chExt cx="1295640" cy="3416400"/>
          </a:xfrm>
        </p:grpSpPr>
        <p:sp>
          <p:nvSpPr>
            <p:cNvPr id="845" name=""/>
            <p:cNvSpPr/>
            <p:nvPr/>
          </p:nvSpPr>
          <p:spPr>
            <a:xfrm>
              <a:off x="961920" y="2998800"/>
              <a:ext cx="233640" cy="36360"/>
            </a:xfrm>
            <a:custGeom>
              <a:avLst/>
              <a:gdLst/>
              <a:ahLst/>
              <a:rect l="l" t="t" r="r" b="b"/>
              <a:pathLst>
                <a:path w="147" h="23">
                  <a:moveTo>
                    <a:pt x="147" y="3"/>
                  </a:moveTo>
                  <a:lnTo>
                    <a:pt x="145" y="23"/>
                  </a:lnTo>
                  <a:lnTo>
                    <a:pt x="5" y="20"/>
                  </a:lnTo>
                  <a:lnTo>
                    <a:pt x="0" y="0"/>
                  </a:lnTo>
                  <a:lnTo>
                    <a:pt x="14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800" y="3503520"/>
              <a:ext cx="1295640" cy="2465640"/>
            </a:xfrm>
            <a:custGeom>
              <a:avLst/>
              <a:gdLst/>
              <a:ahLst/>
              <a:rect l="l" t="t" r="r" b="b"/>
              <a:pathLst>
                <a:path w="816" h="1553">
                  <a:moveTo>
                    <a:pt x="0" y="12"/>
                  </a:moveTo>
                  <a:lnTo>
                    <a:pt x="0" y="1436"/>
                  </a:lnTo>
                  <a:lnTo>
                    <a:pt x="18" y="1449"/>
                  </a:lnTo>
                  <a:lnTo>
                    <a:pt x="36" y="1460"/>
                  </a:lnTo>
                  <a:lnTo>
                    <a:pt x="57" y="1472"/>
                  </a:lnTo>
                  <a:lnTo>
                    <a:pt x="77" y="1483"/>
                  </a:lnTo>
                  <a:lnTo>
                    <a:pt x="101" y="1493"/>
                  </a:lnTo>
                  <a:lnTo>
                    <a:pt x="124" y="1503"/>
                  </a:lnTo>
                  <a:lnTo>
                    <a:pt x="149" y="1512"/>
                  </a:lnTo>
                  <a:lnTo>
                    <a:pt x="175" y="1520"/>
                  </a:lnTo>
                  <a:lnTo>
                    <a:pt x="201" y="1528"/>
                  </a:lnTo>
                  <a:lnTo>
                    <a:pt x="228" y="1533"/>
                  </a:lnTo>
                  <a:lnTo>
                    <a:pt x="257" y="1539"/>
                  </a:lnTo>
                  <a:lnTo>
                    <a:pt x="287" y="1545"/>
                  </a:lnTo>
                  <a:lnTo>
                    <a:pt x="316" y="1548"/>
                  </a:lnTo>
                  <a:lnTo>
                    <a:pt x="348" y="1551"/>
                  </a:lnTo>
                  <a:lnTo>
                    <a:pt x="380" y="1553"/>
                  </a:lnTo>
                  <a:lnTo>
                    <a:pt x="411" y="1553"/>
                  </a:lnTo>
                  <a:lnTo>
                    <a:pt x="451" y="1553"/>
                  </a:lnTo>
                  <a:lnTo>
                    <a:pt x="488" y="1551"/>
                  </a:lnTo>
                  <a:lnTo>
                    <a:pt x="524" y="1548"/>
                  </a:lnTo>
                  <a:lnTo>
                    <a:pt x="557" y="1543"/>
                  </a:lnTo>
                  <a:lnTo>
                    <a:pt x="588" y="1539"/>
                  </a:lnTo>
                  <a:lnTo>
                    <a:pt x="619" y="1532"/>
                  </a:lnTo>
                  <a:lnTo>
                    <a:pt x="646" y="1526"/>
                  </a:lnTo>
                  <a:lnTo>
                    <a:pt x="672" y="1518"/>
                  </a:lnTo>
                  <a:lnTo>
                    <a:pt x="695" y="1509"/>
                  </a:lnTo>
                  <a:lnTo>
                    <a:pt x="717" y="1499"/>
                  </a:lnTo>
                  <a:lnTo>
                    <a:pt x="738" y="1489"/>
                  </a:lnTo>
                  <a:lnTo>
                    <a:pt x="757" y="1479"/>
                  </a:lnTo>
                  <a:lnTo>
                    <a:pt x="774" y="1467"/>
                  </a:lnTo>
                  <a:lnTo>
                    <a:pt x="790" y="1454"/>
                  </a:lnTo>
                  <a:lnTo>
                    <a:pt x="804" y="1443"/>
                  </a:lnTo>
                  <a:lnTo>
                    <a:pt x="816" y="1430"/>
                  </a:lnTo>
                  <a:lnTo>
                    <a:pt x="81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800" y="3014640"/>
              <a:ext cx="1295640" cy="687240"/>
            </a:xfrm>
            <a:custGeom>
              <a:avLst/>
              <a:gdLst/>
              <a:ahLst/>
              <a:rect l="l" t="t" r="r" b="b"/>
              <a:pathLst>
                <a:path w="816" h="433">
                  <a:moveTo>
                    <a:pt x="521" y="11"/>
                  </a:moveTo>
                  <a:lnTo>
                    <a:pt x="528" y="13"/>
                  </a:lnTo>
                  <a:lnTo>
                    <a:pt x="538" y="14"/>
                  </a:lnTo>
                  <a:lnTo>
                    <a:pt x="551" y="17"/>
                  </a:lnTo>
                  <a:lnTo>
                    <a:pt x="569" y="21"/>
                  </a:lnTo>
                  <a:lnTo>
                    <a:pt x="588" y="27"/>
                  </a:lnTo>
                  <a:lnTo>
                    <a:pt x="609" y="36"/>
                  </a:lnTo>
                  <a:lnTo>
                    <a:pt x="631" y="47"/>
                  </a:lnTo>
                  <a:lnTo>
                    <a:pt x="654" y="60"/>
                  </a:lnTo>
                  <a:lnTo>
                    <a:pt x="679" y="77"/>
                  </a:lnTo>
                  <a:lnTo>
                    <a:pt x="702" y="97"/>
                  </a:lnTo>
                  <a:lnTo>
                    <a:pt x="726" y="122"/>
                  </a:lnTo>
                  <a:lnTo>
                    <a:pt x="748" y="149"/>
                  </a:lnTo>
                  <a:lnTo>
                    <a:pt x="768" y="182"/>
                  </a:lnTo>
                  <a:lnTo>
                    <a:pt x="788" y="218"/>
                  </a:lnTo>
                  <a:lnTo>
                    <a:pt x="804" y="261"/>
                  </a:lnTo>
                  <a:lnTo>
                    <a:pt x="816" y="308"/>
                  </a:lnTo>
                  <a:lnTo>
                    <a:pt x="815" y="310"/>
                  </a:lnTo>
                  <a:lnTo>
                    <a:pt x="814" y="314"/>
                  </a:lnTo>
                  <a:lnTo>
                    <a:pt x="808" y="321"/>
                  </a:lnTo>
                  <a:lnTo>
                    <a:pt x="801" y="330"/>
                  </a:lnTo>
                  <a:lnTo>
                    <a:pt x="792" y="340"/>
                  </a:lnTo>
                  <a:lnTo>
                    <a:pt x="779" y="351"/>
                  </a:lnTo>
                  <a:lnTo>
                    <a:pt x="763" y="363"/>
                  </a:lnTo>
                  <a:lnTo>
                    <a:pt x="744" y="374"/>
                  </a:lnTo>
                  <a:lnTo>
                    <a:pt x="720" y="387"/>
                  </a:lnTo>
                  <a:lnTo>
                    <a:pt x="691" y="398"/>
                  </a:lnTo>
                  <a:lnTo>
                    <a:pt x="660" y="409"/>
                  </a:lnTo>
                  <a:lnTo>
                    <a:pt x="623" y="419"/>
                  </a:lnTo>
                  <a:lnTo>
                    <a:pt x="580" y="426"/>
                  </a:lnTo>
                  <a:lnTo>
                    <a:pt x="532" y="431"/>
                  </a:lnTo>
                  <a:lnTo>
                    <a:pt x="478" y="433"/>
                  </a:lnTo>
                  <a:lnTo>
                    <a:pt x="418" y="433"/>
                  </a:lnTo>
                  <a:lnTo>
                    <a:pt x="415" y="433"/>
                  </a:lnTo>
                  <a:lnTo>
                    <a:pt x="406" y="433"/>
                  </a:lnTo>
                  <a:lnTo>
                    <a:pt x="392" y="433"/>
                  </a:lnTo>
                  <a:lnTo>
                    <a:pt x="373" y="431"/>
                  </a:lnTo>
                  <a:lnTo>
                    <a:pt x="349" y="431"/>
                  </a:lnTo>
                  <a:lnTo>
                    <a:pt x="323" y="429"/>
                  </a:lnTo>
                  <a:lnTo>
                    <a:pt x="293" y="426"/>
                  </a:lnTo>
                  <a:lnTo>
                    <a:pt x="261" y="421"/>
                  </a:lnTo>
                  <a:lnTo>
                    <a:pt x="228" y="416"/>
                  </a:lnTo>
                  <a:lnTo>
                    <a:pt x="194" y="409"/>
                  </a:lnTo>
                  <a:lnTo>
                    <a:pt x="160" y="400"/>
                  </a:lnTo>
                  <a:lnTo>
                    <a:pt x="125" y="388"/>
                  </a:lnTo>
                  <a:lnTo>
                    <a:pt x="91" y="374"/>
                  </a:lnTo>
                  <a:lnTo>
                    <a:pt x="58" y="360"/>
                  </a:lnTo>
                  <a:lnTo>
                    <a:pt x="28" y="341"/>
                  </a:lnTo>
                  <a:lnTo>
                    <a:pt x="0" y="320"/>
                  </a:lnTo>
                  <a:lnTo>
                    <a:pt x="0" y="317"/>
                  </a:lnTo>
                  <a:lnTo>
                    <a:pt x="2" y="310"/>
                  </a:lnTo>
                  <a:lnTo>
                    <a:pt x="4" y="297"/>
                  </a:lnTo>
                  <a:lnTo>
                    <a:pt x="9" y="281"/>
                  </a:lnTo>
                  <a:lnTo>
                    <a:pt x="15" y="261"/>
                  </a:lnTo>
                  <a:lnTo>
                    <a:pt x="24" y="239"/>
                  </a:lnTo>
                  <a:lnTo>
                    <a:pt x="33" y="215"/>
                  </a:lnTo>
                  <a:lnTo>
                    <a:pt x="46" y="189"/>
                  </a:lnTo>
                  <a:lnTo>
                    <a:pt x="62" y="163"/>
                  </a:lnTo>
                  <a:lnTo>
                    <a:pt x="80" y="137"/>
                  </a:lnTo>
                  <a:lnTo>
                    <a:pt x="102" y="112"/>
                  </a:lnTo>
                  <a:lnTo>
                    <a:pt x="127" y="87"/>
                  </a:lnTo>
                  <a:lnTo>
                    <a:pt x="157" y="64"/>
                  </a:lnTo>
                  <a:lnTo>
                    <a:pt x="190" y="44"/>
                  </a:lnTo>
                  <a:lnTo>
                    <a:pt x="227" y="27"/>
                  </a:lnTo>
                  <a:lnTo>
                    <a:pt x="268" y="13"/>
                  </a:lnTo>
                  <a:lnTo>
                    <a:pt x="286" y="8"/>
                  </a:lnTo>
                  <a:lnTo>
                    <a:pt x="304" y="6"/>
                  </a:lnTo>
                  <a:lnTo>
                    <a:pt x="323" y="3"/>
                  </a:lnTo>
                  <a:lnTo>
                    <a:pt x="342" y="1"/>
                  </a:lnTo>
                  <a:lnTo>
                    <a:pt x="363" y="1"/>
                  </a:lnTo>
                  <a:lnTo>
                    <a:pt x="382" y="0"/>
                  </a:lnTo>
                  <a:lnTo>
                    <a:pt x="402" y="1"/>
                  </a:lnTo>
                  <a:lnTo>
                    <a:pt x="419" y="1"/>
                  </a:lnTo>
                  <a:lnTo>
                    <a:pt x="437" y="3"/>
                  </a:lnTo>
                  <a:lnTo>
                    <a:pt x="455" y="4"/>
                  </a:lnTo>
                  <a:lnTo>
                    <a:pt x="470" y="4"/>
                  </a:lnTo>
                  <a:lnTo>
                    <a:pt x="484" y="6"/>
                  </a:lnTo>
                  <a:lnTo>
                    <a:pt x="496" y="8"/>
                  </a:lnTo>
                  <a:lnTo>
                    <a:pt x="507" y="8"/>
                  </a:lnTo>
                  <a:lnTo>
                    <a:pt x="516" y="10"/>
                  </a:lnTo>
                  <a:lnTo>
                    <a:pt x="52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88840" y="2552760"/>
              <a:ext cx="366840" cy="477720"/>
            </a:xfrm>
            <a:custGeom>
              <a:avLst/>
              <a:gdLst/>
              <a:ahLst/>
              <a:rect l="l" t="t" r="r" b="b"/>
              <a:pathLst>
                <a:path w="231" h="301">
                  <a:moveTo>
                    <a:pt x="0" y="7"/>
                  </a:moveTo>
                  <a:lnTo>
                    <a:pt x="0" y="261"/>
                  </a:lnTo>
                  <a:lnTo>
                    <a:pt x="2" y="262"/>
                  </a:lnTo>
                  <a:lnTo>
                    <a:pt x="5" y="264"/>
                  </a:lnTo>
                  <a:lnTo>
                    <a:pt x="11" y="268"/>
                  </a:lnTo>
                  <a:lnTo>
                    <a:pt x="18" y="272"/>
                  </a:lnTo>
                  <a:lnTo>
                    <a:pt x="29" y="276"/>
                  </a:lnTo>
                  <a:lnTo>
                    <a:pt x="40" y="282"/>
                  </a:lnTo>
                  <a:lnTo>
                    <a:pt x="54" y="286"/>
                  </a:lnTo>
                  <a:lnTo>
                    <a:pt x="69" y="292"/>
                  </a:lnTo>
                  <a:lnTo>
                    <a:pt x="86" y="295"/>
                  </a:lnTo>
                  <a:lnTo>
                    <a:pt x="104" y="298"/>
                  </a:lnTo>
                  <a:lnTo>
                    <a:pt x="123" y="301"/>
                  </a:lnTo>
                  <a:lnTo>
                    <a:pt x="142" y="299"/>
                  </a:lnTo>
                  <a:lnTo>
                    <a:pt x="164" y="298"/>
                  </a:lnTo>
                  <a:lnTo>
                    <a:pt x="186" y="294"/>
                  </a:lnTo>
                  <a:lnTo>
                    <a:pt x="208" y="286"/>
                  </a:lnTo>
                  <a:lnTo>
                    <a:pt x="231" y="276"/>
                  </a:lnTo>
                  <a:lnTo>
                    <a:pt x="231" y="67"/>
                  </a:lnTo>
                  <a:lnTo>
                    <a:pt x="135" y="4"/>
                  </a:lnTo>
                  <a:lnTo>
                    <a:pt x="132" y="4"/>
                  </a:lnTo>
                  <a:lnTo>
                    <a:pt x="124" y="2"/>
                  </a:lnTo>
                  <a:lnTo>
                    <a:pt x="112" y="1"/>
                  </a:lnTo>
                  <a:lnTo>
                    <a:pt x="95" y="0"/>
                  </a:lnTo>
                  <a:lnTo>
                    <a:pt x="76" y="0"/>
                  </a:lnTo>
                  <a:lnTo>
                    <a:pt x="53" y="0"/>
                  </a:lnTo>
                  <a:lnTo>
                    <a:pt x="28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41400" y="2679840"/>
              <a:ext cx="34920" cy="7452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5" y="47"/>
                  </a:moveTo>
                  <a:lnTo>
                    <a:pt x="7" y="46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3" y="43"/>
                  </a:lnTo>
                  <a:lnTo>
                    <a:pt x="13" y="33"/>
                  </a:lnTo>
                  <a:lnTo>
                    <a:pt x="16" y="24"/>
                  </a:lnTo>
                  <a:lnTo>
                    <a:pt x="20" y="17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1" y="0"/>
                  </a:lnTo>
                  <a:lnTo>
                    <a:pt x="6" y="6"/>
                  </a:lnTo>
                  <a:lnTo>
                    <a:pt x="0" y="19"/>
                  </a:lnTo>
                  <a:lnTo>
                    <a:pt x="2" y="34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61920" y="270036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30"/>
                  </a:moveTo>
                  <a:lnTo>
                    <a:pt x="5" y="23"/>
                  </a:lnTo>
                  <a:lnTo>
                    <a:pt x="9" y="14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4"/>
                  </a:lnTo>
                  <a:lnTo>
                    <a:pt x="3" y="11"/>
                  </a:lnTo>
                  <a:lnTo>
                    <a:pt x="0" y="2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22320" y="2654280"/>
              <a:ext cx="52560" cy="10008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33" y="16"/>
                  </a:moveTo>
                  <a:lnTo>
                    <a:pt x="29" y="9"/>
                  </a:lnTo>
                  <a:lnTo>
                    <a:pt x="25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7" y="7"/>
                  </a:lnTo>
                  <a:lnTo>
                    <a:pt x="1" y="20"/>
                  </a:lnTo>
                  <a:lnTo>
                    <a:pt x="0" y="39"/>
                  </a:lnTo>
                  <a:lnTo>
                    <a:pt x="7" y="63"/>
                  </a:lnTo>
                  <a:lnTo>
                    <a:pt x="10" y="63"/>
                  </a:lnTo>
                  <a:lnTo>
                    <a:pt x="12" y="63"/>
                  </a:lnTo>
                  <a:lnTo>
                    <a:pt x="14" y="63"/>
                  </a:lnTo>
                  <a:lnTo>
                    <a:pt x="17" y="63"/>
                  </a:lnTo>
                  <a:lnTo>
                    <a:pt x="14" y="50"/>
                  </a:lnTo>
                  <a:lnTo>
                    <a:pt x="12" y="35"/>
                  </a:lnTo>
                  <a:lnTo>
                    <a:pt x="18" y="22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14400" y="2654280"/>
              <a:ext cx="30240" cy="100080"/>
            </a:xfrm>
            <a:custGeom>
              <a:avLst/>
              <a:gdLst/>
              <a:ahLst/>
              <a:rect l="l" t="t" r="r" b="b"/>
              <a:pathLst>
                <a:path w="19" h="63">
                  <a:moveTo>
                    <a:pt x="19" y="0"/>
                  </a:moveTo>
                  <a:lnTo>
                    <a:pt x="12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62"/>
                  </a:lnTo>
                  <a:lnTo>
                    <a:pt x="2" y="63"/>
                  </a:lnTo>
                  <a:lnTo>
                    <a:pt x="6" y="63"/>
                  </a:lnTo>
                  <a:lnTo>
                    <a:pt x="9" y="63"/>
                  </a:lnTo>
                  <a:lnTo>
                    <a:pt x="12" y="63"/>
                  </a:lnTo>
                  <a:lnTo>
                    <a:pt x="5" y="39"/>
                  </a:lnTo>
                  <a:lnTo>
                    <a:pt x="6" y="20"/>
                  </a:lnTo>
                  <a:lnTo>
                    <a:pt x="12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22320" y="26906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0"/>
                  </a:moveTo>
                  <a:lnTo>
                    <a:pt x="1" y="2"/>
                  </a:lnTo>
                  <a:lnTo>
                    <a:pt x="6" y="7"/>
                  </a:lnTo>
                  <a:lnTo>
                    <a:pt x="6" y="14"/>
                  </a:lnTo>
                  <a:lnTo>
                    <a:pt x="0" y="23"/>
                  </a:lnTo>
                  <a:lnTo>
                    <a:pt x="18" y="22"/>
                  </a:lnTo>
                  <a:lnTo>
                    <a:pt x="19" y="20"/>
                  </a:lnTo>
                  <a:lnTo>
                    <a:pt x="22" y="14"/>
                  </a:lnTo>
                  <a:lnTo>
                    <a:pt x="23" y="9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906480" y="269064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9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5" y="20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4"/>
                  </a:lnTo>
                  <a:lnTo>
                    <a:pt x="13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17640" y="270504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03480" y="2654280"/>
              <a:ext cx="28440" cy="324000"/>
            </a:xfrm>
            <a:custGeom>
              <a:avLst/>
              <a:gdLst/>
              <a:ahLst/>
              <a:rect l="l" t="t" r="r" b="b"/>
              <a:pathLst>
                <a:path w="18" h="204">
                  <a:moveTo>
                    <a:pt x="18" y="10"/>
                  </a:moveTo>
                  <a:lnTo>
                    <a:pt x="2" y="0"/>
                  </a:lnTo>
                  <a:lnTo>
                    <a:pt x="0" y="204"/>
                  </a:lnTo>
                  <a:lnTo>
                    <a:pt x="4" y="202"/>
                  </a:lnTo>
                  <a:lnTo>
                    <a:pt x="9" y="198"/>
                  </a:lnTo>
                  <a:lnTo>
                    <a:pt x="13" y="195"/>
                  </a:lnTo>
                  <a:lnTo>
                    <a:pt x="17" y="194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136520" y="2606760"/>
              <a:ext cx="69840" cy="388800"/>
            </a:xfrm>
            <a:custGeom>
              <a:avLst/>
              <a:gdLst/>
              <a:ahLst/>
              <a:rect l="l" t="t" r="r" b="b"/>
              <a:pathLst>
                <a:path w="44" h="245">
                  <a:moveTo>
                    <a:pt x="1" y="0"/>
                  </a:moveTo>
                  <a:lnTo>
                    <a:pt x="0" y="245"/>
                  </a:lnTo>
                  <a:lnTo>
                    <a:pt x="5" y="245"/>
                  </a:lnTo>
                  <a:lnTo>
                    <a:pt x="11" y="244"/>
                  </a:lnTo>
                  <a:lnTo>
                    <a:pt x="15" y="242"/>
                  </a:lnTo>
                  <a:lnTo>
                    <a:pt x="20" y="241"/>
                  </a:lnTo>
                  <a:lnTo>
                    <a:pt x="26" y="240"/>
                  </a:lnTo>
                  <a:lnTo>
                    <a:pt x="31" y="238"/>
                  </a:lnTo>
                  <a:lnTo>
                    <a:pt x="37" y="235"/>
                  </a:lnTo>
                  <a:lnTo>
                    <a:pt x="42" y="234"/>
                  </a:lnTo>
                  <a:lnTo>
                    <a:pt x="44" y="3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84320" y="2579760"/>
              <a:ext cx="54000" cy="423720"/>
            </a:xfrm>
            <a:custGeom>
              <a:avLst/>
              <a:gdLst/>
              <a:ahLst/>
              <a:rect l="l" t="t" r="r" b="b"/>
              <a:pathLst>
                <a:path w="34" h="267">
                  <a:moveTo>
                    <a:pt x="9" y="1"/>
                  </a:moveTo>
                  <a:lnTo>
                    <a:pt x="9" y="1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67"/>
                  </a:lnTo>
                  <a:lnTo>
                    <a:pt x="8" y="267"/>
                  </a:lnTo>
                  <a:lnTo>
                    <a:pt x="16" y="265"/>
                  </a:lnTo>
                  <a:lnTo>
                    <a:pt x="24" y="264"/>
                  </a:lnTo>
                  <a:lnTo>
                    <a:pt x="33" y="262"/>
                  </a:lnTo>
                  <a:lnTo>
                    <a:pt x="34" y="17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044720" y="2575080"/>
              <a:ext cx="42840" cy="428400"/>
            </a:xfrm>
            <a:custGeom>
              <a:avLst/>
              <a:gdLst/>
              <a:ahLst/>
              <a:rect l="l" t="t" r="r" b="b"/>
              <a:pathLst>
                <a:path w="27" h="270">
                  <a:moveTo>
                    <a:pt x="3" y="0"/>
                  </a:moveTo>
                  <a:lnTo>
                    <a:pt x="0" y="270"/>
                  </a:lnTo>
                  <a:lnTo>
                    <a:pt x="7" y="270"/>
                  </a:lnTo>
                  <a:lnTo>
                    <a:pt x="12" y="270"/>
                  </a:lnTo>
                  <a:lnTo>
                    <a:pt x="19" y="270"/>
                  </a:lnTo>
                  <a:lnTo>
                    <a:pt x="25" y="270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18" y="1"/>
                  </a:lnTo>
                  <a:lnTo>
                    <a:pt x="1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027080" y="2573280"/>
              <a:ext cx="22320" cy="430200"/>
            </a:xfrm>
            <a:custGeom>
              <a:avLst/>
              <a:gdLst/>
              <a:ahLst/>
              <a:rect l="l" t="t" r="r" b="b"/>
              <a:pathLst>
                <a:path w="14" h="271">
                  <a:moveTo>
                    <a:pt x="3" y="0"/>
                  </a:moveTo>
                  <a:lnTo>
                    <a:pt x="0" y="269"/>
                  </a:lnTo>
                  <a:lnTo>
                    <a:pt x="3" y="269"/>
                  </a:lnTo>
                  <a:lnTo>
                    <a:pt x="6" y="269"/>
                  </a:lnTo>
                  <a:lnTo>
                    <a:pt x="8" y="269"/>
                  </a:lnTo>
                  <a:lnTo>
                    <a:pt x="11" y="27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008000" y="2573280"/>
              <a:ext cx="23760" cy="426960"/>
            </a:xfrm>
            <a:custGeom>
              <a:avLst/>
              <a:gdLst/>
              <a:ahLst/>
              <a:rect l="l" t="t" r="r" b="b"/>
              <a:pathLst>
                <a:path w="15" h="269">
                  <a:moveTo>
                    <a:pt x="1" y="0"/>
                  </a:moveTo>
                  <a:lnTo>
                    <a:pt x="0" y="266"/>
                  </a:lnTo>
                  <a:lnTo>
                    <a:pt x="2" y="268"/>
                  </a:lnTo>
                  <a:lnTo>
                    <a:pt x="7" y="268"/>
                  </a:lnTo>
                  <a:lnTo>
                    <a:pt x="9" y="268"/>
                  </a:lnTo>
                  <a:lnTo>
                    <a:pt x="12" y="269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79560" y="2573280"/>
              <a:ext cx="30240" cy="422280"/>
            </a:xfrm>
            <a:custGeom>
              <a:avLst/>
              <a:gdLst/>
              <a:ahLst/>
              <a:rect l="l" t="t" r="r" b="b"/>
              <a:pathLst>
                <a:path w="19" h="266">
                  <a:moveTo>
                    <a:pt x="3" y="0"/>
                  </a:moveTo>
                  <a:lnTo>
                    <a:pt x="1" y="58"/>
                  </a:lnTo>
                  <a:lnTo>
                    <a:pt x="3" y="60"/>
                  </a:lnTo>
                  <a:lnTo>
                    <a:pt x="3" y="61"/>
                  </a:lnTo>
                  <a:lnTo>
                    <a:pt x="4" y="63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8"/>
                  </a:lnTo>
                  <a:lnTo>
                    <a:pt x="8" y="93"/>
                  </a:lnTo>
                  <a:lnTo>
                    <a:pt x="1" y="109"/>
                  </a:lnTo>
                  <a:lnTo>
                    <a:pt x="0" y="262"/>
                  </a:lnTo>
                  <a:lnTo>
                    <a:pt x="4" y="263"/>
                  </a:lnTo>
                  <a:lnTo>
                    <a:pt x="8" y="263"/>
                  </a:lnTo>
                  <a:lnTo>
                    <a:pt x="12" y="265"/>
                  </a:lnTo>
                  <a:lnTo>
                    <a:pt x="18" y="266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33480" y="2746440"/>
              <a:ext cx="47520" cy="243000"/>
            </a:xfrm>
            <a:custGeom>
              <a:avLst/>
              <a:gdLst/>
              <a:ahLst/>
              <a:rect l="l" t="t" r="r" b="b"/>
              <a:pathLst>
                <a:path w="30" h="153">
                  <a:moveTo>
                    <a:pt x="21" y="10"/>
                  </a:moveTo>
                  <a:lnTo>
                    <a:pt x="19" y="10"/>
                  </a:lnTo>
                  <a:lnTo>
                    <a:pt x="15" y="11"/>
                  </a:lnTo>
                  <a:lnTo>
                    <a:pt x="8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5" y="146"/>
                  </a:lnTo>
                  <a:lnTo>
                    <a:pt x="12" y="147"/>
                  </a:lnTo>
                  <a:lnTo>
                    <a:pt x="21" y="150"/>
                  </a:lnTo>
                  <a:lnTo>
                    <a:pt x="29" y="153"/>
                  </a:lnTo>
                  <a:lnTo>
                    <a:pt x="30" y="0"/>
                  </a:lnTo>
                  <a:lnTo>
                    <a:pt x="27" y="2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34920" y="257328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29" y="58"/>
                  </a:moveTo>
                  <a:lnTo>
                    <a:pt x="31" y="0"/>
                  </a:lnTo>
                  <a:lnTo>
                    <a:pt x="24" y="1"/>
                  </a:lnTo>
                  <a:lnTo>
                    <a:pt x="15" y="1"/>
                  </a:lnTo>
                  <a:lnTo>
                    <a:pt x="9" y="1"/>
                  </a:lnTo>
                  <a:lnTo>
                    <a:pt x="0" y="2"/>
                  </a:lnTo>
                  <a:lnTo>
                    <a:pt x="0" y="44"/>
                  </a:lnTo>
                  <a:lnTo>
                    <a:pt x="9" y="44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29" y="5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11160" y="2576520"/>
              <a:ext cx="23760" cy="6660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2" y="2"/>
                  </a:move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10" y="42"/>
                  </a:lnTo>
                  <a:lnTo>
                    <a:pt x="15" y="42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911160" y="2765520"/>
              <a:ext cx="22320" cy="207720"/>
            </a:xfrm>
            <a:custGeom>
              <a:avLst/>
              <a:gdLst/>
              <a:ahLst/>
              <a:rect l="l" t="t" r="r" b="b"/>
              <a:pathLst>
                <a:path w="14" h="131">
                  <a:moveTo>
                    <a:pt x="0" y="0"/>
                  </a:moveTo>
                  <a:lnTo>
                    <a:pt x="0" y="124"/>
                  </a:lnTo>
                  <a:lnTo>
                    <a:pt x="2" y="124"/>
                  </a:lnTo>
                  <a:lnTo>
                    <a:pt x="3" y="125"/>
                  </a:lnTo>
                  <a:lnTo>
                    <a:pt x="7" y="128"/>
                  </a:lnTo>
                  <a:lnTo>
                    <a:pt x="14" y="13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70080" y="3078000"/>
              <a:ext cx="399960" cy="492120"/>
            </a:xfrm>
            <a:custGeom>
              <a:avLst/>
              <a:gdLst/>
              <a:ahLst/>
              <a:rect l="l" t="t" r="r" b="b"/>
              <a:pathLst>
                <a:path w="252" h="310">
                  <a:moveTo>
                    <a:pt x="252" y="265"/>
                  </a:moveTo>
                  <a:lnTo>
                    <a:pt x="252" y="262"/>
                  </a:lnTo>
                  <a:lnTo>
                    <a:pt x="250" y="255"/>
                  </a:lnTo>
                  <a:lnTo>
                    <a:pt x="245" y="244"/>
                  </a:lnTo>
                  <a:lnTo>
                    <a:pt x="241" y="229"/>
                  </a:lnTo>
                  <a:lnTo>
                    <a:pt x="234" y="212"/>
                  </a:lnTo>
                  <a:lnTo>
                    <a:pt x="225" y="192"/>
                  </a:lnTo>
                  <a:lnTo>
                    <a:pt x="215" y="171"/>
                  </a:lnTo>
                  <a:lnTo>
                    <a:pt x="203" y="148"/>
                  </a:lnTo>
                  <a:lnTo>
                    <a:pt x="188" y="125"/>
                  </a:lnTo>
                  <a:lnTo>
                    <a:pt x="171" y="102"/>
                  </a:lnTo>
                  <a:lnTo>
                    <a:pt x="152" y="79"/>
                  </a:lnTo>
                  <a:lnTo>
                    <a:pt x="130" y="59"/>
                  </a:lnTo>
                  <a:lnTo>
                    <a:pt x="107" y="39"/>
                  </a:lnTo>
                  <a:lnTo>
                    <a:pt x="81" y="23"/>
                  </a:lnTo>
                  <a:lnTo>
                    <a:pt x="52" y="1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6" y="4"/>
                  </a:lnTo>
                  <a:lnTo>
                    <a:pt x="9" y="9"/>
                  </a:lnTo>
                  <a:lnTo>
                    <a:pt x="0" y="14"/>
                  </a:lnTo>
                  <a:lnTo>
                    <a:pt x="39" y="47"/>
                  </a:lnTo>
                  <a:lnTo>
                    <a:pt x="75" y="82"/>
                  </a:lnTo>
                  <a:lnTo>
                    <a:pt x="105" y="119"/>
                  </a:lnTo>
                  <a:lnTo>
                    <a:pt x="131" y="158"/>
                  </a:lnTo>
                  <a:lnTo>
                    <a:pt x="153" y="198"/>
                  </a:lnTo>
                  <a:lnTo>
                    <a:pt x="171" y="237"/>
                  </a:lnTo>
                  <a:lnTo>
                    <a:pt x="186" y="274"/>
                  </a:lnTo>
                  <a:lnTo>
                    <a:pt x="199" y="310"/>
                  </a:lnTo>
                  <a:lnTo>
                    <a:pt x="207" y="305"/>
                  </a:lnTo>
                  <a:lnTo>
                    <a:pt x="214" y="300"/>
                  </a:lnTo>
                  <a:lnTo>
                    <a:pt x="221" y="294"/>
                  </a:lnTo>
                  <a:lnTo>
                    <a:pt x="228" y="290"/>
                  </a:lnTo>
                  <a:lnTo>
                    <a:pt x="234" y="284"/>
                  </a:lnTo>
                  <a:lnTo>
                    <a:pt x="241" y="278"/>
                  </a:lnTo>
                  <a:lnTo>
                    <a:pt x="247" y="271"/>
                  </a:lnTo>
                  <a:lnTo>
                    <a:pt x="252" y="26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43000" y="3100320"/>
              <a:ext cx="442800" cy="528840"/>
            </a:xfrm>
            <a:custGeom>
              <a:avLst/>
              <a:gdLst/>
              <a:ahLst/>
              <a:rect l="l" t="t" r="r" b="b"/>
              <a:pathLst>
                <a:path w="279" h="333">
                  <a:moveTo>
                    <a:pt x="80" y="0"/>
                  </a:moveTo>
                  <a:lnTo>
                    <a:pt x="74" y="3"/>
                  </a:lnTo>
                  <a:lnTo>
                    <a:pt x="66" y="6"/>
                  </a:lnTo>
                  <a:lnTo>
                    <a:pt x="58" y="9"/>
                  </a:lnTo>
                  <a:lnTo>
                    <a:pt x="49" y="12"/>
                  </a:lnTo>
                  <a:lnTo>
                    <a:pt x="38" y="13"/>
                  </a:lnTo>
                  <a:lnTo>
                    <a:pt x="27" y="16"/>
                  </a:lnTo>
                  <a:lnTo>
                    <a:pt x="14" y="17"/>
                  </a:lnTo>
                  <a:lnTo>
                    <a:pt x="0" y="19"/>
                  </a:lnTo>
                  <a:lnTo>
                    <a:pt x="14" y="32"/>
                  </a:lnTo>
                  <a:lnTo>
                    <a:pt x="31" y="52"/>
                  </a:lnTo>
                  <a:lnTo>
                    <a:pt x="52" y="78"/>
                  </a:lnTo>
                  <a:lnTo>
                    <a:pt x="75" y="111"/>
                  </a:lnTo>
                  <a:lnTo>
                    <a:pt x="100" y="154"/>
                  </a:lnTo>
                  <a:lnTo>
                    <a:pt x="126" y="204"/>
                  </a:lnTo>
                  <a:lnTo>
                    <a:pt x="152" y="263"/>
                  </a:lnTo>
                  <a:lnTo>
                    <a:pt x="178" y="333"/>
                  </a:lnTo>
                  <a:lnTo>
                    <a:pt x="192" y="330"/>
                  </a:lnTo>
                  <a:lnTo>
                    <a:pt x="205" y="326"/>
                  </a:lnTo>
                  <a:lnTo>
                    <a:pt x="218" y="322"/>
                  </a:lnTo>
                  <a:lnTo>
                    <a:pt x="231" y="317"/>
                  </a:lnTo>
                  <a:lnTo>
                    <a:pt x="243" y="313"/>
                  </a:lnTo>
                  <a:lnTo>
                    <a:pt x="255" y="307"/>
                  </a:lnTo>
                  <a:lnTo>
                    <a:pt x="268" y="301"/>
                  </a:lnTo>
                  <a:lnTo>
                    <a:pt x="279" y="296"/>
                  </a:lnTo>
                  <a:lnTo>
                    <a:pt x="266" y="260"/>
                  </a:lnTo>
                  <a:lnTo>
                    <a:pt x="251" y="223"/>
                  </a:lnTo>
                  <a:lnTo>
                    <a:pt x="233" y="184"/>
                  </a:lnTo>
                  <a:lnTo>
                    <a:pt x="211" y="144"/>
                  </a:lnTo>
                  <a:lnTo>
                    <a:pt x="185" y="105"/>
                  </a:lnTo>
                  <a:lnTo>
                    <a:pt x="155" y="68"/>
                  </a:lnTo>
                  <a:lnTo>
                    <a:pt x="119" y="3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36800" y="3127320"/>
              <a:ext cx="388800" cy="536760"/>
            </a:xfrm>
            <a:custGeom>
              <a:avLst/>
              <a:gdLst/>
              <a:ahLst/>
              <a:rect l="l" t="t" r="r" b="b"/>
              <a:pathLst>
                <a:path w="245" h="338">
                  <a:moveTo>
                    <a:pt x="67" y="2"/>
                  </a:moveTo>
                  <a:lnTo>
                    <a:pt x="63" y="2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1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1" y="2"/>
                  </a:lnTo>
                  <a:lnTo>
                    <a:pt x="0" y="0"/>
                  </a:lnTo>
                  <a:lnTo>
                    <a:pt x="1" y="46"/>
                  </a:lnTo>
                  <a:lnTo>
                    <a:pt x="5" y="92"/>
                  </a:lnTo>
                  <a:lnTo>
                    <a:pt x="11" y="138"/>
                  </a:lnTo>
                  <a:lnTo>
                    <a:pt x="19" y="183"/>
                  </a:lnTo>
                  <a:lnTo>
                    <a:pt x="28" y="226"/>
                  </a:lnTo>
                  <a:lnTo>
                    <a:pt x="37" y="266"/>
                  </a:lnTo>
                  <a:lnTo>
                    <a:pt x="46" y="305"/>
                  </a:lnTo>
                  <a:lnTo>
                    <a:pt x="56" y="338"/>
                  </a:lnTo>
                  <a:lnTo>
                    <a:pt x="72" y="338"/>
                  </a:lnTo>
                  <a:lnTo>
                    <a:pt x="92" y="336"/>
                  </a:lnTo>
                  <a:lnTo>
                    <a:pt x="114" y="336"/>
                  </a:lnTo>
                  <a:lnTo>
                    <a:pt x="138" y="333"/>
                  </a:lnTo>
                  <a:lnTo>
                    <a:pt x="163" y="330"/>
                  </a:lnTo>
                  <a:lnTo>
                    <a:pt x="190" y="327"/>
                  </a:lnTo>
                  <a:lnTo>
                    <a:pt x="218" y="322"/>
                  </a:lnTo>
                  <a:lnTo>
                    <a:pt x="245" y="316"/>
                  </a:lnTo>
                  <a:lnTo>
                    <a:pt x="219" y="246"/>
                  </a:lnTo>
                  <a:lnTo>
                    <a:pt x="193" y="187"/>
                  </a:lnTo>
                  <a:lnTo>
                    <a:pt x="167" y="137"/>
                  </a:lnTo>
                  <a:lnTo>
                    <a:pt x="142" y="94"/>
                  </a:lnTo>
                  <a:lnTo>
                    <a:pt x="119" y="61"/>
                  </a:lnTo>
                  <a:lnTo>
                    <a:pt x="98" y="35"/>
                  </a:lnTo>
                  <a:lnTo>
                    <a:pt x="81" y="15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15840" y="3125880"/>
              <a:ext cx="209520" cy="538200"/>
            </a:xfrm>
            <a:custGeom>
              <a:avLst/>
              <a:gdLst/>
              <a:ahLst/>
              <a:rect l="l" t="t" r="r" b="b"/>
              <a:pathLst>
                <a:path w="132" h="339">
                  <a:moveTo>
                    <a:pt x="48" y="0"/>
                  </a:moveTo>
                  <a:lnTo>
                    <a:pt x="22" y="45"/>
                  </a:lnTo>
                  <a:lnTo>
                    <a:pt x="7" y="93"/>
                  </a:lnTo>
                  <a:lnTo>
                    <a:pt x="0" y="143"/>
                  </a:lnTo>
                  <a:lnTo>
                    <a:pt x="0" y="192"/>
                  </a:lnTo>
                  <a:lnTo>
                    <a:pt x="3" y="238"/>
                  </a:lnTo>
                  <a:lnTo>
                    <a:pt x="7" y="278"/>
                  </a:lnTo>
                  <a:lnTo>
                    <a:pt x="11" y="311"/>
                  </a:lnTo>
                  <a:lnTo>
                    <a:pt x="11" y="334"/>
                  </a:lnTo>
                  <a:lnTo>
                    <a:pt x="22" y="336"/>
                  </a:lnTo>
                  <a:lnTo>
                    <a:pt x="34" y="336"/>
                  </a:lnTo>
                  <a:lnTo>
                    <a:pt x="45" y="337"/>
                  </a:lnTo>
                  <a:lnTo>
                    <a:pt x="56" y="337"/>
                  </a:lnTo>
                  <a:lnTo>
                    <a:pt x="69" y="337"/>
                  </a:lnTo>
                  <a:lnTo>
                    <a:pt x="80" y="337"/>
                  </a:lnTo>
                  <a:lnTo>
                    <a:pt x="92" y="337"/>
                  </a:lnTo>
                  <a:lnTo>
                    <a:pt x="104" y="337"/>
                  </a:lnTo>
                  <a:lnTo>
                    <a:pt x="106" y="337"/>
                  </a:lnTo>
                  <a:lnTo>
                    <a:pt x="111" y="337"/>
                  </a:lnTo>
                  <a:lnTo>
                    <a:pt x="119" y="339"/>
                  </a:lnTo>
                  <a:lnTo>
                    <a:pt x="132" y="339"/>
                  </a:lnTo>
                  <a:lnTo>
                    <a:pt x="122" y="306"/>
                  </a:lnTo>
                  <a:lnTo>
                    <a:pt x="113" y="267"/>
                  </a:lnTo>
                  <a:lnTo>
                    <a:pt x="104" y="227"/>
                  </a:lnTo>
                  <a:lnTo>
                    <a:pt x="95" y="184"/>
                  </a:lnTo>
                  <a:lnTo>
                    <a:pt x="87" y="139"/>
                  </a:lnTo>
                  <a:lnTo>
                    <a:pt x="81" y="93"/>
                  </a:lnTo>
                  <a:lnTo>
                    <a:pt x="77" y="47"/>
                  </a:lnTo>
                  <a:lnTo>
                    <a:pt x="76" y="1"/>
                  </a:lnTo>
                  <a:lnTo>
                    <a:pt x="69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3800" y="3098880"/>
              <a:ext cx="411120" cy="498240"/>
            </a:xfrm>
            <a:custGeom>
              <a:avLst/>
              <a:gdLst/>
              <a:ahLst/>
              <a:rect l="l" t="t" r="r" b="b"/>
              <a:pathLst>
                <a:path w="259" h="314">
                  <a:moveTo>
                    <a:pt x="259" y="10"/>
                  </a:moveTo>
                  <a:lnTo>
                    <a:pt x="252" y="7"/>
                  </a:lnTo>
                  <a:lnTo>
                    <a:pt x="246" y="6"/>
                  </a:lnTo>
                  <a:lnTo>
                    <a:pt x="239" y="3"/>
                  </a:lnTo>
                  <a:lnTo>
                    <a:pt x="232" y="0"/>
                  </a:lnTo>
                  <a:lnTo>
                    <a:pt x="222" y="4"/>
                  </a:lnTo>
                  <a:lnTo>
                    <a:pt x="211" y="8"/>
                  </a:lnTo>
                  <a:lnTo>
                    <a:pt x="199" y="16"/>
                  </a:lnTo>
                  <a:lnTo>
                    <a:pt x="184" y="23"/>
                  </a:lnTo>
                  <a:lnTo>
                    <a:pt x="169" y="33"/>
                  </a:lnTo>
                  <a:lnTo>
                    <a:pt x="154" y="44"/>
                  </a:lnTo>
                  <a:lnTo>
                    <a:pt x="136" y="57"/>
                  </a:lnTo>
                  <a:lnTo>
                    <a:pt x="119" y="72"/>
                  </a:lnTo>
                  <a:lnTo>
                    <a:pt x="103" y="89"/>
                  </a:lnTo>
                  <a:lnTo>
                    <a:pt x="85" y="109"/>
                  </a:lnTo>
                  <a:lnTo>
                    <a:pt x="68" y="130"/>
                  </a:lnTo>
                  <a:lnTo>
                    <a:pt x="53" y="155"/>
                  </a:lnTo>
                  <a:lnTo>
                    <a:pt x="38" y="182"/>
                  </a:lnTo>
                  <a:lnTo>
                    <a:pt x="23" y="212"/>
                  </a:lnTo>
                  <a:lnTo>
                    <a:pt x="11" y="245"/>
                  </a:lnTo>
                  <a:lnTo>
                    <a:pt x="0" y="281"/>
                  </a:lnTo>
                  <a:lnTo>
                    <a:pt x="8" y="285"/>
                  </a:lnTo>
                  <a:lnTo>
                    <a:pt x="16" y="288"/>
                  </a:lnTo>
                  <a:lnTo>
                    <a:pt x="26" y="292"/>
                  </a:lnTo>
                  <a:lnTo>
                    <a:pt x="35" y="297"/>
                  </a:lnTo>
                  <a:lnTo>
                    <a:pt x="45" y="301"/>
                  </a:lnTo>
                  <a:lnTo>
                    <a:pt x="56" y="305"/>
                  </a:lnTo>
                  <a:lnTo>
                    <a:pt x="68" y="310"/>
                  </a:lnTo>
                  <a:lnTo>
                    <a:pt x="81" y="314"/>
                  </a:lnTo>
                  <a:lnTo>
                    <a:pt x="96" y="244"/>
                  </a:lnTo>
                  <a:lnTo>
                    <a:pt x="115" y="185"/>
                  </a:lnTo>
                  <a:lnTo>
                    <a:pt x="140" y="135"/>
                  </a:lnTo>
                  <a:lnTo>
                    <a:pt x="166" y="95"/>
                  </a:lnTo>
                  <a:lnTo>
                    <a:pt x="192" y="63"/>
                  </a:lnTo>
                  <a:lnTo>
                    <a:pt x="218" y="39"/>
                  </a:lnTo>
                  <a:lnTo>
                    <a:pt x="241" y="21"/>
                  </a:lnTo>
                  <a:lnTo>
                    <a:pt x="259" y="1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55760" y="3063960"/>
              <a:ext cx="436320" cy="480960"/>
            </a:xfrm>
            <a:custGeom>
              <a:avLst/>
              <a:gdLst/>
              <a:ahLst/>
              <a:rect l="l" t="t" r="r" b="b"/>
              <a:pathLst>
                <a:path w="275" h="303">
                  <a:moveTo>
                    <a:pt x="275" y="22"/>
                  </a:moveTo>
                  <a:lnTo>
                    <a:pt x="265" y="18"/>
                  </a:lnTo>
                  <a:lnTo>
                    <a:pt x="258" y="12"/>
                  </a:lnTo>
                  <a:lnTo>
                    <a:pt x="250" y="6"/>
                  </a:lnTo>
                  <a:lnTo>
                    <a:pt x="245" y="0"/>
                  </a:lnTo>
                  <a:lnTo>
                    <a:pt x="243" y="0"/>
                  </a:lnTo>
                  <a:lnTo>
                    <a:pt x="236" y="2"/>
                  </a:lnTo>
                  <a:lnTo>
                    <a:pt x="228" y="5"/>
                  </a:lnTo>
                  <a:lnTo>
                    <a:pt x="217" y="10"/>
                  </a:lnTo>
                  <a:lnTo>
                    <a:pt x="202" y="16"/>
                  </a:lnTo>
                  <a:lnTo>
                    <a:pt x="186" y="25"/>
                  </a:lnTo>
                  <a:lnTo>
                    <a:pt x="168" y="35"/>
                  </a:lnTo>
                  <a:lnTo>
                    <a:pt x="150" y="49"/>
                  </a:lnTo>
                  <a:lnTo>
                    <a:pt x="129" y="65"/>
                  </a:lnTo>
                  <a:lnTo>
                    <a:pt x="109" y="85"/>
                  </a:lnTo>
                  <a:lnTo>
                    <a:pt x="88" y="106"/>
                  </a:lnTo>
                  <a:lnTo>
                    <a:pt x="69" y="134"/>
                  </a:lnTo>
                  <a:lnTo>
                    <a:pt x="50" y="164"/>
                  </a:lnTo>
                  <a:lnTo>
                    <a:pt x="32" y="198"/>
                  </a:lnTo>
                  <a:lnTo>
                    <a:pt x="15" y="237"/>
                  </a:lnTo>
                  <a:lnTo>
                    <a:pt x="0" y="280"/>
                  </a:lnTo>
                  <a:lnTo>
                    <a:pt x="1" y="280"/>
                  </a:lnTo>
                  <a:lnTo>
                    <a:pt x="3" y="281"/>
                  </a:lnTo>
                  <a:lnTo>
                    <a:pt x="7" y="283"/>
                  </a:lnTo>
                  <a:lnTo>
                    <a:pt x="11" y="286"/>
                  </a:lnTo>
                  <a:lnTo>
                    <a:pt x="17" y="290"/>
                  </a:lnTo>
                  <a:lnTo>
                    <a:pt x="25" y="293"/>
                  </a:lnTo>
                  <a:lnTo>
                    <a:pt x="33" y="297"/>
                  </a:lnTo>
                  <a:lnTo>
                    <a:pt x="43" y="303"/>
                  </a:lnTo>
                  <a:lnTo>
                    <a:pt x="54" y="267"/>
                  </a:lnTo>
                  <a:lnTo>
                    <a:pt x="66" y="234"/>
                  </a:lnTo>
                  <a:lnTo>
                    <a:pt x="81" y="204"/>
                  </a:lnTo>
                  <a:lnTo>
                    <a:pt x="96" y="177"/>
                  </a:lnTo>
                  <a:lnTo>
                    <a:pt x="111" y="152"/>
                  </a:lnTo>
                  <a:lnTo>
                    <a:pt x="128" y="131"/>
                  </a:lnTo>
                  <a:lnTo>
                    <a:pt x="146" y="111"/>
                  </a:lnTo>
                  <a:lnTo>
                    <a:pt x="162" y="94"/>
                  </a:lnTo>
                  <a:lnTo>
                    <a:pt x="179" y="79"/>
                  </a:lnTo>
                  <a:lnTo>
                    <a:pt x="197" y="66"/>
                  </a:lnTo>
                  <a:lnTo>
                    <a:pt x="212" y="55"/>
                  </a:lnTo>
                  <a:lnTo>
                    <a:pt x="227" y="45"/>
                  </a:lnTo>
                  <a:lnTo>
                    <a:pt x="242" y="38"/>
                  </a:lnTo>
                  <a:lnTo>
                    <a:pt x="254" y="30"/>
                  </a:lnTo>
                  <a:lnTo>
                    <a:pt x="265" y="26"/>
                  </a:lnTo>
                  <a:lnTo>
                    <a:pt x="275" y="22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2320" y="3114720"/>
              <a:ext cx="339840" cy="541440"/>
            </a:xfrm>
            <a:custGeom>
              <a:avLst/>
              <a:gdLst/>
              <a:ahLst/>
              <a:rect l="l" t="t" r="r" b="b"/>
              <a:pathLst>
                <a:path w="214" h="341">
                  <a:moveTo>
                    <a:pt x="0" y="304"/>
                  </a:moveTo>
                  <a:lnTo>
                    <a:pt x="18" y="310"/>
                  </a:lnTo>
                  <a:lnTo>
                    <a:pt x="37" y="315"/>
                  </a:lnTo>
                  <a:lnTo>
                    <a:pt x="57" y="321"/>
                  </a:lnTo>
                  <a:lnTo>
                    <a:pt x="79" y="325"/>
                  </a:lnTo>
                  <a:lnTo>
                    <a:pt x="103" y="330"/>
                  </a:lnTo>
                  <a:lnTo>
                    <a:pt x="126" y="334"/>
                  </a:lnTo>
                  <a:lnTo>
                    <a:pt x="151" y="338"/>
                  </a:lnTo>
                  <a:lnTo>
                    <a:pt x="177" y="341"/>
                  </a:lnTo>
                  <a:lnTo>
                    <a:pt x="177" y="318"/>
                  </a:lnTo>
                  <a:lnTo>
                    <a:pt x="173" y="285"/>
                  </a:lnTo>
                  <a:lnTo>
                    <a:pt x="169" y="245"/>
                  </a:lnTo>
                  <a:lnTo>
                    <a:pt x="166" y="199"/>
                  </a:lnTo>
                  <a:lnTo>
                    <a:pt x="166" y="150"/>
                  </a:lnTo>
                  <a:lnTo>
                    <a:pt x="173" y="100"/>
                  </a:lnTo>
                  <a:lnTo>
                    <a:pt x="188" y="52"/>
                  </a:lnTo>
                  <a:lnTo>
                    <a:pt x="214" y="7"/>
                  </a:lnTo>
                  <a:lnTo>
                    <a:pt x="206" y="6"/>
                  </a:lnTo>
                  <a:lnTo>
                    <a:pt x="196" y="3"/>
                  </a:lnTo>
                  <a:lnTo>
                    <a:pt x="188" y="1"/>
                  </a:lnTo>
                  <a:lnTo>
                    <a:pt x="178" y="0"/>
                  </a:lnTo>
                  <a:lnTo>
                    <a:pt x="160" y="11"/>
                  </a:lnTo>
                  <a:lnTo>
                    <a:pt x="137" y="29"/>
                  </a:lnTo>
                  <a:lnTo>
                    <a:pt x="111" y="53"/>
                  </a:lnTo>
                  <a:lnTo>
                    <a:pt x="85" y="85"/>
                  </a:lnTo>
                  <a:lnTo>
                    <a:pt x="59" y="125"/>
                  </a:lnTo>
                  <a:lnTo>
                    <a:pt x="34" y="175"/>
                  </a:lnTo>
                  <a:lnTo>
                    <a:pt x="15" y="23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79680" y="3571920"/>
              <a:ext cx="79200" cy="2222280"/>
            </a:xfrm>
            <a:custGeom>
              <a:avLst/>
              <a:gdLst/>
              <a:ahLst/>
              <a:rect l="l" t="t" r="r" b="b"/>
              <a:pathLst>
                <a:path w="50" h="1400">
                  <a:moveTo>
                    <a:pt x="50" y="0"/>
                  </a:moveTo>
                  <a:lnTo>
                    <a:pt x="45" y="6"/>
                  </a:lnTo>
                  <a:lnTo>
                    <a:pt x="39" y="12"/>
                  </a:lnTo>
                  <a:lnTo>
                    <a:pt x="34" y="17"/>
                  </a:lnTo>
                  <a:lnTo>
                    <a:pt x="27" y="22"/>
                  </a:lnTo>
                  <a:lnTo>
                    <a:pt x="22" y="26"/>
                  </a:lnTo>
                  <a:lnTo>
                    <a:pt x="15" y="30"/>
                  </a:lnTo>
                  <a:lnTo>
                    <a:pt x="6" y="35"/>
                  </a:lnTo>
                  <a:lnTo>
                    <a:pt x="0" y="39"/>
                  </a:lnTo>
                  <a:lnTo>
                    <a:pt x="0" y="1400"/>
                  </a:lnTo>
                  <a:lnTo>
                    <a:pt x="12" y="1393"/>
                  </a:lnTo>
                  <a:lnTo>
                    <a:pt x="22" y="1384"/>
                  </a:lnTo>
                  <a:lnTo>
                    <a:pt x="31" y="1378"/>
                  </a:lnTo>
                  <a:lnTo>
                    <a:pt x="38" y="1373"/>
                  </a:lnTo>
                  <a:lnTo>
                    <a:pt x="44" y="1368"/>
                  </a:lnTo>
                  <a:lnTo>
                    <a:pt x="48" y="1364"/>
                  </a:lnTo>
                  <a:lnTo>
                    <a:pt x="49" y="1363"/>
                  </a:lnTo>
                  <a:lnTo>
                    <a:pt x="50" y="136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93920" y="3633840"/>
              <a:ext cx="185760" cy="2244600"/>
            </a:xfrm>
            <a:custGeom>
              <a:avLst/>
              <a:gdLst/>
              <a:ahLst/>
              <a:rect l="l" t="t" r="r" b="b"/>
              <a:pathLst>
                <a:path w="117" h="1414">
                  <a:moveTo>
                    <a:pt x="0" y="37"/>
                  </a:moveTo>
                  <a:lnTo>
                    <a:pt x="0" y="1414"/>
                  </a:lnTo>
                  <a:lnTo>
                    <a:pt x="18" y="1408"/>
                  </a:lnTo>
                  <a:lnTo>
                    <a:pt x="36" y="1401"/>
                  </a:lnTo>
                  <a:lnTo>
                    <a:pt x="52" y="1395"/>
                  </a:lnTo>
                  <a:lnTo>
                    <a:pt x="67" y="1388"/>
                  </a:lnTo>
                  <a:lnTo>
                    <a:pt x="81" y="1381"/>
                  </a:lnTo>
                  <a:lnTo>
                    <a:pt x="93" y="1374"/>
                  </a:lnTo>
                  <a:lnTo>
                    <a:pt x="106" y="1368"/>
                  </a:lnTo>
                  <a:lnTo>
                    <a:pt x="117" y="1361"/>
                  </a:lnTo>
                  <a:lnTo>
                    <a:pt x="117" y="0"/>
                  </a:lnTo>
                  <a:lnTo>
                    <a:pt x="103" y="7"/>
                  </a:lnTo>
                  <a:lnTo>
                    <a:pt x="90" y="13"/>
                  </a:lnTo>
                  <a:lnTo>
                    <a:pt x="75" y="19"/>
                  </a:lnTo>
                  <a:lnTo>
                    <a:pt x="62" y="23"/>
                  </a:lnTo>
                  <a:lnTo>
                    <a:pt x="47" y="27"/>
                  </a:lnTo>
                  <a:lnTo>
                    <a:pt x="31" y="31"/>
                  </a:lnTo>
                  <a:lnTo>
                    <a:pt x="16" y="3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85760" y="3692520"/>
              <a:ext cx="308160" cy="2227320"/>
            </a:xfrm>
            <a:custGeom>
              <a:avLst/>
              <a:gdLst/>
              <a:ahLst/>
              <a:rect l="l" t="t" r="r" b="b"/>
              <a:pathLst>
                <a:path w="194" h="1403">
                  <a:moveTo>
                    <a:pt x="0" y="10"/>
                  </a:moveTo>
                  <a:lnTo>
                    <a:pt x="3" y="250"/>
                  </a:lnTo>
                  <a:lnTo>
                    <a:pt x="6" y="657"/>
                  </a:lnTo>
                  <a:lnTo>
                    <a:pt x="7" y="1089"/>
                  </a:lnTo>
                  <a:lnTo>
                    <a:pt x="3" y="1403"/>
                  </a:lnTo>
                  <a:lnTo>
                    <a:pt x="30" y="1403"/>
                  </a:lnTo>
                  <a:lnTo>
                    <a:pt x="58" y="1401"/>
                  </a:lnTo>
                  <a:lnTo>
                    <a:pt x="83" y="1400"/>
                  </a:lnTo>
                  <a:lnTo>
                    <a:pt x="107" y="1396"/>
                  </a:lnTo>
                  <a:lnTo>
                    <a:pt x="131" y="1393"/>
                  </a:lnTo>
                  <a:lnTo>
                    <a:pt x="153" y="1389"/>
                  </a:lnTo>
                  <a:lnTo>
                    <a:pt x="173" y="1383"/>
                  </a:lnTo>
                  <a:lnTo>
                    <a:pt x="194" y="1377"/>
                  </a:lnTo>
                  <a:lnTo>
                    <a:pt x="194" y="0"/>
                  </a:lnTo>
                  <a:lnTo>
                    <a:pt x="158" y="6"/>
                  </a:lnTo>
                  <a:lnTo>
                    <a:pt x="124" y="9"/>
                  </a:lnTo>
                  <a:lnTo>
                    <a:pt x="91" y="12"/>
                  </a:lnTo>
                  <a:lnTo>
                    <a:pt x="62" y="12"/>
                  </a:lnTo>
                  <a:lnTo>
                    <a:pt x="37" y="12"/>
                  </a:lnTo>
                  <a:lnTo>
                    <a:pt x="18" y="12"/>
                  </a:lnTo>
                  <a:lnTo>
                    <a:pt x="6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41400" y="3706920"/>
              <a:ext cx="155520" cy="2212920"/>
            </a:xfrm>
            <a:custGeom>
              <a:avLst/>
              <a:gdLst/>
              <a:ahLst/>
              <a:rect l="l" t="t" r="r" b="b"/>
              <a:pathLst>
                <a:path w="98" h="1394">
                  <a:moveTo>
                    <a:pt x="91" y="1"/>
                  </a:moveTo>
                  <a:lnTo>
                    <a:pt x="91" y="1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79" y="1"/>
                  </a:lnTo>
                  <a:lnTo>
                    <a:pt x="68" y="1"/>
                  </a:lnTo>
                  <a:lnTo>
                    <a:pt x="55" y="1"/>
                  </a:lnTo>
                  <a:lnTo>
                    <a:pt x="44" y="1"/>
                  </a:lnTo>
                  <a:lnTo>
                    <a:pt x="33" y="1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1387"/>
                  </a:lnTo>
                  <a:lnTo>
                    <a:pt x="20" y="1388"/>
                  </a:lnTo>
                  <a:lnTo>
                    <a:pt x="38" y="1390"/>
                  </a:lnTo>
                  <a:lnTo>
                    <a:pt x="53" y="1391"/>
                  </a:lnTo>
                  <a:lnTo>
                    <a:pt x="66" y="1392"/>
                  </a:lnTo>
                  <a:lnTo>
                    <a:pt x="76" y="1392"/>
                  </a:lnTo>
                  <a:lnTo>
                    <a:pt x="84" y="1394"/>
                  </a:lnTo>
                  <a:lnTo>
                    <a:pt x="90" y="1394"/>
                  </a:lnTo>
                  <a:lnTo>
                    <a:pt x="91" y="1394"/>
                  </a:lnTo>
                  <a:lnTo>
                    <a:pt x="92" y="1394"/>
                  </a:lnTo>
                  <a:lnTo>
                    <a:pt x="92" y="1394"/>
                  </a:lnTo>
                  <a:lnTo>
                    <a:pt x="92" y="1394"/>
                  </a:lnTo>
                  <a:lnTo>
                    <a:pt x="94" y="1394"/>
                  </a:lnTo>
                  <a:lnTo>
                    <a:pt x="98" y="1080"/>
                  </a:lnTo>
                  <a:lnTo>
                    <a:pt x="97" y="648"/>
                  </a:lnTo>
                  <a:lnTo>
                    <a:pt x="94" y="241"/>
                  </a:lnTo>
                  <a:lnTo>
                    <a:pt x="91" y="1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1720" y="5551560"/>
              <a:ext cx="115920" cy="290520"/>
            </a:xfrm>
            <a:custGeom>
              <a:avLst/>
              <a:gdLst/>
              <a:ahLst/>
              <a:rect l="l" t="t" r="r" b="b"/>
              <a:pathLst>
                <a:path w="73" h="183">
                  <a:moveTo>
                    <a:pt x="73" y="15"/>
                  </a:moveTo>
                  <a:lnTo>
                    <a:pt x="67" y="17"/>
                  </a:lnTo>
                  <a:lnTo>
                    <a:pt x="61" y="18"/>
                  </a:lnTo>
                  <a:lnTo>
                    <a:pt x="55" y="20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18"/>
                  </a:lnTo>
                  <a:lnTo>
                    <a:pt x="30" y="17"/>
                  </a:lnTo>
                  <a:lnTo>
                    <a:pt x="24" y="14"/>
                  </a:lnTo>
                  <a:lnTo>
                    <a:pt x="18" y="11"/>
                  </a:lnTo>
                  <a:lnTo>
                    <a:pt x="11" y="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8" y="153"/>
                  </a:lnTo>
                  <a:lnTo>
                    <a:pt x="17" y="157"/>
                  </a:lnTo>
                  <a:lnTo>
                    <a:pt x="26" y="162"/>
                  </a:lnTo>
                  <a:lnTo>
                    <a:pt x="35" y="167"/>
                  </a:lnTo>
                  <a:lnTo>
                    <a:pt x="44" y="172"/>
                  </a:lnTo>
                  <a:lnTo>
                    <a:pt x="54" y="176"/>
                  </a:lnTo>
                  <a:lnTo>
                    <a:pt x="63" y="179"/>
                  </a:lnTo>
                  <a:lnTo>
                    <a:pt x="73" y="183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5120" y="5459400"/>
              <a:ext cx="66600" cy="325440"/>
            </a:xfrm>
            <a:custGeom>
              <a:avLst/>
              <a:gdLst/>
              <a:ahLst/>
              <a:rect l="l" t="t" r="r" b="b"/>
              <a:pathLst>
                <a:path w="42" h="205">
                  <a:moveTo>
                    <a:pt x="0" y="0"/>
                  </a:moveTo>
                  <a:lnTo>
                    <a:pt x="0" y="169"/>
                  </a:lnTo>
                  <a:lnTo>
                    <a:pt x="4" y="174"/>
                  </a:lnTo>
                  <a:lnTo>
                    <a:pt x="9" y="179"/>
                  </a:lnTo>
                  <a:lnTo>
                    <a:pt x="15" y="184"/>
                  </a:lnTo>
                  <a:lnTo>
                    <a:pt x="20" y="188"/>
                  </a:lnTo>
                  <a:lnTo>
                    <a:pt x="26" y="192"/>
                  </a:lnTo>
                  <a:lnTo>
                    <a:pt x="31" y="197"/>
                  </a:lnTo>
                  <a:lnTo>
                    <a:pt x="37" y="201"/>
                  </a:lnTo>
                  <a:lnTo>
                    <a:pt x="42" y="205"/>
                  </a:lnTo>
                  <a:lnTo>
                    <a:pt x="42" y="58"/>
                  </a:lnTo>
                  <a:lnTo>
                    <a:pt x="37" y="52"/>
                  </a:lnTo>
                  <a:lnTo>
                    <a:pt x="31" y="46"/>
                  </a:lnTo>
                  <a:lnTo>
                    <a:pt x="26" y="40"/>
                  </a:lnTo>
                  <a:lnTo>
                    <a:pt x="20" y="33"/>
                  </a:lnTo>
                  <a:lnTo>
                    <a:pt x="15" y="26"/>
                  </a:lnTo>
                  <a:lnTo>
                    <a:pt x="11" y="17"/>
                  </a:lnTo>
                  <a:lnTo>
                    <a:pt x="5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5120" y="5354640"/>
              <a:ext cx="66600" cy="196920"/>
            </a:xfrm>
            <a:custGeom>
              <a:avLst/>
              <a:gdLst/>
              <a:ahLst/>
              <a:rect l="l" t="t" r="r" b="b"/>
              <a:pathLst>
                <a:path w="42" h="124">
                  <a:moveTo>
                    <a:pt x="42" y="124"/>
                  </a:moveTo>
                  <a:lnTo>
                    <a:pt x="42" y="65"/>
                  </a:lnTo>
                  <a:lnTo>
                    <a:pt x="37" y="59"/>
                  </a:lnTo>
                  <a:lnTo>
                    <a:pt x="31" y="52"/>
                  </a:lnTo>
                  <a:lnTo>
                    <a:pt x="26" y="45"/>
                  </a:lnTo>
                  <a:lnTo>
                    <a:pt x="20" y="37"/>
                  </a:lnTo>
                  <a:lnTo>
                    <a:pt x="15" y="29"/>
                  </a:lnTo>
                  <a:lnTo>
                    <a:pt x="9" y="2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5" y="75"/>
                  </a:lnTo>
                  <a:lnTo>
                    <a:pt x="11" y="83"/>
                  </a:lnTo>
                  <a:lnTo>
                    <a:pt x="15" y="92"/>
                  </a:lnTo>
                  <a:lnTo>
                    <a:pt x="20" y="99"/>
                  </a:lnTo>
                  <a:lnTo>
                    <a:pt x="26" y="106"/>
                  </a:lnTo>
                  <a:lnTo>
                    <a:pt x="31" y="112"/>
                  </a:lnTo>
                  <a:lnTo>
                    <a:pt x="37" y="118"/>
                  </a:lnTo>
                  <a:lnTo>
                    <a:pt x="42" y="12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5120" y="5254560"/>
              <a:ext cx="66600" cy="203400"/>
            </a:xfrm>
            <a:custGeom>
              <a:avLst/>
              <a:gdLst/>
              <a:ahLst/>
              <a:rect l="l" t="t" r="r" b="b"/>
              <a:pathLst>
                <a:path w="42" h="128">
                  <a:moveTo>
                    <a:pt x="42" y="128"/>
                  </a:moveTo>
                  <a:lnTo>
                    <a:pt x="42" y="75"/>
                  </a:lnTo>
                  <a:lnTo>
                    <a:pt x="37" y="67"/>
                  </a:lnTo>
                  <a:lnTo>
                    <a:pt x="31" y="60"/>
                  </a:lnTo>
                  <a:lnTo>
                    <a:pt x="26" y="52"/>
                  </a:lnTo>
                  <a:lnTo>
                    <a:pt x="20" y="43"/>
                  </a:lnTo>
                  <a:lnTo>
                    <a:pt x="15" y="33"/>
                  </a:lnTo>
                  <a:lnTo>
                    <a:pt x="9" y="23"/>
                  </a:lnTo>
                  <a:lnTo>
                    <a:pt x="4" y="12"/>
                  </a:lnTo>
                  <a:lnTo>
                    <a:pt x="0" y="0"/>
                  </a:lnTo>
                  <a:lnTo>
                    <a:pt x="0" y="63"/>
                  </a:lnTo>
                  <a:lnTo>
                    <a:pt x="4" y="73"/>
                  </a:lnTo>
                  <a:lnTo>
                    <a:pt x="9" y="83"/>
                  </a:lnTo>
                  <a:lnTo>
                    <a:pt x="15" y="92"/>
                  </a:lnTo>
                  <a:lnTo>
                    <a:pt x="20" y="100"/>
                  </a:lnTo>
                  <a:lnTo>
                    <a:pt x="26" y="108"/>
                  </a:lnTo>
                  <a:lnTo>
                    <a:pt x="31" y="115"/>
                  </a:lnTo>
                  <a:lnTo>
                    <a:pt x="37" y="122"/>
                  </a:lnTo>
                  <a:lnTo>
                    <a:pt x="42" y="12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5120" y="4016520"/>
              <a:ext cx="66600" cy="1357200"/>
            </a:xfrm>
            <a:custGeom>
              <a:avLst/>
              <a:gdLst/>
              <a:ahLst/>
              <a:rect l="l" t="t" r="r" b="b"/>
              <a:pathLst>
                <a:path w="42" h="855">
                  <a:moveTo>
                    <a:pt x="42" y="855"/>
                  </a:moveTo>
                  <a:lnTo>
                    <a:pt x="42" y="0"/>
                  </a:lnTo>
                  <a:lnTo>
                    <a:pt x="37" y="7"/>
                  </a:lnTo>
                  <a:lnTo>
                    <a:pt x="31" y="14"/>
                  </a:lnTo>
                  <a:lnTo>
                    <a:pt x="26" y="23"/>
                  </a:lnTo>
                  <a:lnTo>
                    <a:pt x="20" y="31"/>
                  </a:lnTo>
                  <a:lnTo>
                    <a:pt x="15" y="41"/>
                  </a:lnTo>
                  <a:lnTo>
                    <a:pt x="9" y="51"/>
                  </a:lnTo>
                  <a:lnTo>
                    <a:pt x="4" y="63"/>
                  </a:lnTo>
                  <a:lnTo>
                    <a:pt x="0" y="74"/>
                  </a:lnTo>
                  <a:lnTo>
                    <a:pt x="0" y="780"/>
                  </a:lnTo>
                  <a:lnTo>
                    <a:pt x="4" y="792"/>
                  </a:lnTo>
                  <a:lnTo>
                    <a:pt x="9" y="803"/>
                  </a:lnTo>
                  <a:lnTo>
                    <a:pt x="15" y="813"/>
                  </a:lnTo>
                  <a:lnTo>
                    <a:pt x="20" y="823"/>
                  </a:lnTo>
                  <a:lnTo>
                    <a:pt x="26" y="832"/>
                  </a:lnTo>
                  <a:lnTo>
                    <a:pt x="31" y="840"/>
                  </a:lnTo>
                  <a:lnTo>
                    <a:pt x="37" y="847"/>
                  </a:lnTo>
                  <a:lnTo>
                    <a:pt x="42" y="85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5120" y="3932280"/>
              <a:ext cx="66600" cy="201600"/>
            </a:xfrm>
            <a:custGeom>
              <a:avLst/>
              <a:gdLst/>
              <a:ahLst/>
              <a:rect l="l" t="t" r="r" b="b"/>
              <a:pathLst>
                <a:path w="42" h="127">
                  <a:moveTo>
                    <a:pt x="42" y="53"/>
                  </a:moveTo>
                  <a:lnTo>
                    <a:pt x="42" y="0"/>
                  </a:lnTo>
                  <a:lnTo>
                    <a:pt x="37" y="6"/>
                  </a:lnTo>
                  <a:lnTo>
                    <a:pt x="31" y="13"/>
                  </a:lnTo>
                  <a:lnTo>
                    <a:pt x="26" y="20"/>
                  </a:lnTo>
                  <a:lnTo>
                    <a:pt x="20" y="27"/>
                  </a:lnTo>
                  <a:lnTo>
                    <a:pt x="15" y="36"/>
                  </a:lnTo>
                  <a:lnTo>
                    <a:pt x="9" y="44"/>
                  </a:lnTo>
                  <a:lnTo>
                    <a:pt x="4" y="54"/>
                  </a:lnTo>
                  <a:lnTo>
                    <a:pt x="0" y="64"/>
                  </a:lnTo>
                  <a:lnTo>
                    <a:pt x="0" y="127"/>
                  </a:lnTo>
                  <a:lnTo>
                    <a:pt x="4" y="116"/>
                  </a:lnTo>
                  <a:lnTo>
                    <a:pt x="9" y="104"/>
                  </a:lnTo>
                  <a:lnTo>
                    <a:pt x="15" y="94"/>
                  </a:lnTo>
                  <a:lnTo>
                    <a:pt x="20" y="84"/>
                  </a:lnTo>
                  <a:lnTo>
                    <a:pt x="26" y="76"/>
                  </a:lnTo>
                  <a:lnTo>
                    <a:pt x="31" y="67"/>
                  </a:lnTo>
                  <a:lnTo>
                    <a:pt x="37" y="60"/>
                  </a:lnTo>
                  <a:lnTo>
                    <a:pt x="42" y="5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65120" y="3838680"/>
              <a:ext cx="66600" cy="195120"/>
            </a:xfrm>
            <a:custGeom>
              <a:avLst/>
              <a:gdLst/>
              <a:ahLst/>
              <a:rect l="l" t="t" r="r" b="b"/>
              <a:pathLst>
                <a:path w="42" h="123">
                  <a:moveTo>
                    <a:pt x="42" y="59"/>
                  </a:moveTo>
                  <a:lnTo>
                    <a:pt x="42" y="0"/>
                  </a:lnTo>
                  <a:lnTo>
                    <a:pt x="37" y="6"/>
                  </a:lnTo>
                  <a:lnTo>
                    <a:pt x="31" y="11"/>
                  </a:lnTo>
                  <a:lnTo>
                    <a:pt x="26" y="19"/>
                  </a:lnTo>
                  <a:lnTo>
                    <a:pt x="20" y="24"/>
                  </a:lnTo>
                  <a:lnTo>
                    <a:pt x="15" y="33"/>
                  </a:lnTo>
                  <a:lnTo>
                    <a:pt x="11" y="40"/>
                  </a:lnTo>
                  <a:lnTo>
                    <a:pt x="5" y="49"/>
                  </a:lnTo>
                  <a:lnTo>
                    <a:pt x="0" y="57"/>
                  </a:lnTo>
                  <a:lnTo>
                    <a:pt x="0" y="123"/>
                  </a:lnTo>
                  <a:lnTo>
                    <a:pt x="4" y="113"/>
                  </a:lnTo>
                  <a:lnTo>
                    <a:pt x="9" y="103"/>
                  </a:lnTo>
                  <a:lnTo>
                    <a:pt x="15" y="95"/>
                  </a:lnTo>
                  <a:lnTo>
                    <a:pt x="20" y="86"/>
                  </a:lnTo>
                  <a:lnTo>
                    <a:pt x="26" y="79"/>
                  </a:lnTo>
                  <a:lnTo>
                    <a:pt x="31" y="72"/>
                  </a:lnTo>
                  <a:lnTo>
                    <a:pt x="37" y="65"/>
                  </a:lnTo>
                  <a:lnTo>
                    <a:pt x="42" y="5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65120" y="3560760"/>
              <a:ext cx="66600" cy="368280"/>
            </a:xfrm>
            <a:custGeom>
              <a:avLst/>
              <a:gdLst/>
              <a:ahLst/>
              <a:rect l="l" t="t" r="r" b="b"/>
              <a:pathLst>
                <a:path w="42" h="232">
                  <a:moveTo>
                    <a:pt x="42" y="175"/>
                  </a:moveTo>
                  <a:lnTo>
                    <a:pt x="42" y="30"/>
                  </a:lnTo>
                  <a:lnTo>
                    <a:pt x="31" y="24"/>
                  </a:lnTo>
                  <a:lnTo>
                    <a:pt x="23" y="19"/>
                  </a:lnTo>
                  <a:lnTo>
                    <a:pt x="16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32"/>
                  </a:lnTo>
                  <a:lnTo>
                    <a:pt x="5" y="224"/>
                  </a:lnTo>
                  <a:lnTo>
                    <a:pt x="11" y="215"/>
                  </a:lnTo>
                  <a:lnTo>
                    <a:pt x="15" y="208"/>
                  </a:lnTo>
                  <a:lnTo>
                    <a:pt x="20" y="199"/>
                  </a:lnTo>
                  <a:lnTo>
                    <a:pt x="26" y="194"/>
                  </a:lnTo>
                  <a:lnTo>
                    <a:pt x="31" y="186"/>
                  </a:lnTo>
                  <a:lnTo>
                    <a:pt x="37" y="181"/>
                  </a:lnTo>
                  <a:lnTo>
                    <a:pt x="42" y="17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1720" y="3608280"/>
              <a:ext cx="115920" cy="23040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50" y="125"/>
                  </a:moveTo>
                  <a:lnTo>
                    <a:pt x="55" y="125"/>
                  </a:lnTo>
                  <a:lnTo>
                    <a:pt x="61" y="126"/>
                  </a:lnTo>
                  <a:lnTo>
                    <a:pt x="67" y="128"/>
                  </a:lnTo>
                  <a:lnTo>
                    <a:pt x="73" y="129"/>
                  </a:lnTo>
                  <a:lnTo>
                    <a:pt x="73" y="30"/>
                  </a:lnTo>
                  <a:lnTo>
                    <a:pt x="62" y="26"/>
                  </a:lnTo>
                  <a:lnTo>
                    <a:pt x="51" y="23"/>
                  </a:lnTo>
                  <a:lnTo>
                    <a:pt x="41" y="19"/>
                  </a:lnTo>
                  <a:lnTo>
                    <a:pt x="32" y="14"/>
                  </a:lnTo>
                  <a:lnTo>
                    <a:pt x="22" y="12"/>
                  </a:lnTo>
                  <a:lnTo>
                    <a:pt x="15" y="7"/>
                  </a:lnTo>
                  <a:lnTo>
                    <a:pt x="7" y="4"/>
                  </a:lnTo>
                  <a:lnTo>
                    <a:pt x="0" y="0"/>
                  </a:lnTo>
                  <a:lnTo>
                    <a:pt x="0" y="145"/>
                  </a:lnTo>
                  <a:lnTo>
                    <a:pt x="6" y="141"/>
                  </a:lnTo>
                  <a:lnTo>
                    <a:pt x="11" y="136"/>
                  </a:lnTo>
                  <a:lnTo>
                    <a:pt x="18" y="134"/>
                  </a:lnTo>
                  <a:lnTo>
                    <a:pt x="24" y="131"/>
                  </a:lnTo>
                  <a:lnTo>
                    <a:pt x="30" y="128"/>
                  </a:lnTo>
                  <a:lnTo>
                    <a:pt x="36" y="126"/>
                  </a:lnTo>
                  <a:lnTo>
                    <a:pt x="43" y="125"/>
                  </a:lnTo>
                  <a:lnTo>
                    <a:pt x="50" y="125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7640" y="3656160"/>
              <a:ext cx="293760" cy="2252520"/>
            </a:xfrm>
            <a:custGeom>
              <a:avLst/>
              <a:gdLst/>
              <a:ahLst/>
              <a:rect l="l" t="t" r="r" b="b"/>
              <a:pathLst>
                <a:path w="185" h="1419">
                  <a:moveTo>
                    <a:pt x="157" y="654"/>
                  </a:moveTo>
                  <a:lnTo>
                    <a:pt x="154" y="758"/>
                  </a:lnTo>
                  <a:lnTo>
                    <a:pt x="144" y="855"/>
                  </a:lnTo>
                  <a:lnTo>
                    <a:pt x="130" y="945"/>
                  </a:lnTo>
                  <a:lnTo>
                    <a:pt x="111" y="1024"/>
                  </a:lnTo>
                  <a:lnTo>
                    <a:pt x="88" y="1093"/>
                  </a:lnTo>
                  <a:lnTo>
                    <a:pt x="62" y="1148"/>
                  </a:lnTo>
                  <a:lnTo>
                    <a:pt x="32" y="1186"/>
                  </a:lnTo>
                  <a:lnTo>
                    <a:pt x="0" y="1209"/>
                  </a:lnTo>
                  <a:lnTo>
                    <a:pt x="0" y="1377"/>
                  </a:lnTo>
                  <a:lnTo>
                    <a:pt x="23" y="1386"/>
                  </a:lnTo>
                  <a:lnTo>
                    <a:pt x="48" y="1393"/>
                  </a:lnTo>
                  <a:lnTo>
                    <a:pt x="71" y="1400"/>
                  </a:lnTo>
                  <a:lnTo>
                    <a:pt x="96" y="1404"/>
                  </a:lnTo>
                  <a:lnTo>
                    <a:pt x="120" y="1410"/>
                  </a:lnTo>
                  <a:lnTo>
                    <a:pt x="143" y="1413"/>
                  </a:lnTo>
                  <a:lnTo>
                    <a:pt x="165" y="1416"/>
                  </a:lnTo>
                  <a:lnTo>
                    <a:pt x="185" y="1419"/>
                  </a:lnTo>
                  <a:lnTo>
                    <a:pt x="185" y="32"/>
                  </a:lnTo>
                  <a:lnTo>
                    <a:pt x="157" y="30"/>
                  </a:lnTo>
                  <a:lnTo>
                    <a:pt x="129" y="27"/>
                  </a:lnTo>
                  <a:lnTo>
                    <a:pt x="103" y="23"/>
                  </a:lnTo>
                  <a:lnTo>
                    <a:pt x="80" y="20"/>
                  </a:lnTo>
                  <a:lnTo>
                    <a:pt x="58" y="16"/>
                  </a:lnTo>
                  <a:lnTo>
                    <a:pt x="37" y="10"/>
                  </a:lnTo>
                  <a:lnTo>
                    <a:pt x="18" y="6"/>
                  </a:lnTo>
                  <a:lnTo>
                    <a:pt x="0" y="0"/>
                  </a:lnTo>
                  <a:lnTo>
                    <a:pt x="0" y="99"/>
                  </a:lnTo>
                  <a:lnTo>
                    <a:pt x="32" y="122"/>
                  </a:lnTo>
                  <a:lnTo>
                    <a:pt x="62" y="161"/>
                  </a:lnTo>
                  <a:lnTo>
                    <a:pt x="88" y="215"/>
                  </a:lnTo>
                  <a:lnTo>
                    <a:pt x="111" y="284"/>
                  </a:lnTo>
                  <a:lnTo>
                    <a:pt x="130" y="363"/>
                  </a:lnTo>
                  <a:lnTo>
                    <a:pt x="144" y="453"/>
                  </a:lnTo>
                  <a:lnTo>
                    <a:pt x="154" y="551"/>
                  </a:lnTo>
                  <a:lnTo>
                    <a:pt x="157" y="654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47640" y="3813120"/>
              <a:ext cx="249120" cy="1762200"/>
            </a:xfrm>
            <a:custGeom>
              <a:avLst/>
              <a:gdLst/>
              <a:ahLst/>
              <a:rect l="l" t="t" r="r" b="b"/>
              <a:pathLst>
                <a:path w="157" h="1110">
                  <a:moveTo>
                    <a:pt x="157" y="555"/>
                  </a:moveTo>
                  <a:lnTo>
                    <a:pt x="154" y="452"/>
                  </a:lnTo>
                  <a:lnTo>
                    <a:pt x="144" y="354"/>
                  </a:lnTo>
                  <a:lnTo>
                    <a:pt x="130" y="264"/>
                  </a:lnTo>
                  <a:lnTo>
                    <a:pt x="111" y="185"/>
                  </a:lnTo>
                  <a:lnTo>
                    <a:pt x="88" y="116"/>
                  </a:lnTo>
                  <a:lnTo>
                    <a:pt x="62" y="62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58"/>
                  </a:lnTo>
                  <a:lnTo>
                    <a:pt x="29" y="79"/>
                  </a:lnTo>
                  <a:lnTo>
                    <a:pt x="55" y="114"/>
                  </a:lnTo>
                  <a:lnTo>
                    <a:pt x="78" y="164"/>
                  </a:lnTo>
                  <a:lnTo>
                    <a:pt x="99" y="224"/>
                  </a:lnTo>
                  <a:lnTo>
                    <a:pt x="115" y="296"/>
                  </a:lnTo>
                  <a:lnTo>
                    <a:pt x="128" y="375"/>
                  </a:lnTo>
                  <a:lnTo>
                    <a:pt x="136" y="462"/>
                  </a:lnTo>
                  <a:lnTo>
                    <a:pt x="139" y="555"/>
                  </a:lnTo>
                  <a:lnTo>
                    <a:pt x="136" y="648"/>
                  </a:lnTo>
                  <a:lnTo>
                    <a:pt x="128" y="736"/>
                  </a:lnTo>
                  <a:lnTo>
                    <a:pt x="115" y="815"/>
                  </a:lnTo>
                  <a:lnTo>
                    <a:pt x="99" y="887"/>
                  </a:lnTo>
                  <a:lnTo>
                    <a:pt x="78" y="948"/>
                  </a:lnTo>
                  <a:lnTo>
                    <a:pt x="55" y="997"/>
                  </a:lnTo>
                  <a:lnTo>
                    <a:pt x="29" y="1033"/>
                  </a:lnTo>
                  <a:lnTo>
                    <a:pt x="0" y="1054"/>
                  </a:lnTo>
                  <a:lnTo>
                    <a:pt x="0" y="1110"/>
                  </a:lnTo>
                  <a:lnTo>
                    <a:pt x="32" y="1087"/>
                  </a:lnTo>
                  <a:lnTo>
                    <a:pt x="62" y="1049"/>
                  </a:lnTo>
                  <a:lnTo>
                    <a:pt x="88" y="994"/>
                  </a:lnTo>
                  <a:lnTo>
                    <a:pt x="111" y="925"/>
                  </a:lnTo>
                  <a:lnTo>
                    <a:pt x="130" y="846"/>
                  </a:lnTo>
                  <a:lnTo>
                    <a:pt x="144" y="756"/>
                  </a:lnTo>
                  <a:lnTo>
                    <a:pt x="154" y="659"/>
                  </a:lnTo>
                  <a:lnTo>
                    <a:pt x="157" y="555"/>
                  </a:lnTo>
                  <a:close/>
                </a:path>
              </a:pathLst>
            </a:custGeom>
            <a:solidFill>
              <a:srgbClr val="f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31720" y="545796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50" y="23"/>
                  </a:moveTo>
                  <a:lnTo>
                    <a:pt x="43" y="23"/>
                  </a:lnTo>
                  <a:lnTo>
                    <a:pt x="36" y="21"/>
                  </a:lnTo>
                  <a:lnTo>
                    <a:pt x="30" y="20"/>
                  </a:lnTo>
                  <a:lnTo>
                    <a:pt x="24" y="17"/>
                  </a:lnTo>
                  <a:lnTo>
                    <a:pt x="18" y="14"/>
                  </a:lnTo>
                  <a:lnTo>
                    <a:pt x="11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0" y="59"/>
                  </a:lnTo>
                  <a:lnTo>
                    <a:pt x="6" y="63"/>
                  </a:lnTo>
                  <a:lnTo>
                    <a:pt x="11" y="67"/>
                  </a:lnTo>
                  <a:lnTo>
                    <a:pt x="18" y="70"/>
                  </a:lnTo>
                  <a:lnTo>
                    <a:pt x="24" y="73"/>
                  </a:lnTo>
                  <a:lnTo>
                    <a:pt x="30" y="76"/>
                  </a:lnTo>
                  <a:lnTo>
                    <a:pt x="36" y="77"/>
                  </a:lnTo>
                  <a:lnTo>
                    <a:pt x="43" y="79"/>
                  </a:lnTo>
                  <a:lnTo>
                    <a:pt x="50" y="79"/>
                  </a:lnTo>
                  <a:lnTo>
                    <a:pt x="55" y="79"/>
                  </a:lnTo>
                  <a:lnTo>
                    <a:pt x="61" y="77"/>
                  </a:lnTo>
                  <a:lnTo>
                    <a:pt x="67" y="76"/>
                  </a:lnTo>
                  <a:lnTo>
                    <a:pt x="73" y="74"/>
                  </a:lnTo>
                  <a:lnTo>
                    <a:pt x="73" y="18"/>
                  </a:lnTo>
                  <a:lnTo>
                    <a:pt x="67" y="20"/>
                  </a:lnTo>
                  <a:lnTo>
                    <a:pt x="61" y="21"/>
                  </a:lnTo>
                  <a:lnTo>
                    <a:pt x="55" y="23"/>
                  </a:lnTo>
                  <a:lnTo>
                    <a:pt x="50" y="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1720" y="537372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73" y="71"/>
                  </a:moveTo>
                  <a:lnTo>
                    <a:pt x="73" y="20"/>
                  </a:lnTo>
                  <a:lnTo>
                    <a:pt x="67" y="23"/>
                  </a:lnTo>
                  <a:lnTo>
                    <a:pt x="61" y="24"/>
                  </a:lnTo>
                  <a:lnTo>
                    <a:pt x="55" y="25"/>
                  </a:lnTo>
                  <a:lnTo>
                    <a:pt x="50" y="25"/>
                  </a:lnTo>
                  <a:lnTo>
                    <a:pt x="43" y="25"/>
                  </a:lnTo>
                  <a:lnTo>
                    <a:pt x="36" y="24"/>
                  </a:lnTo>
                  <a:lnTo>
                    <a:pt x="30" y="21"/>
                  </a:lnTo>
                  <a:lnTo>
                    <a:pt x="24" y="18"/>
                  </a:lnTo>
                  <a:lnTo>
                    <a:pt x="18" y="15"/>
                  </a:lnTo>
                  <a:lnTo>
                    <a:pt x="11" y="11"/>
                  </a:lnTo>
                  <a:lnTo>
                    <a:pt x="6" y="5"/>
                  </a:lnTo>
                  <a:lnTo>
                    <a:pt x="0" y="0"/>
                  </a:lnTo>
                  <a:lnTo>
                    <a:pt x="0" y="53"/>
                  </a:lnTo>
                  <a:lnTo>
                    <a:pt x="6" y="58"/>
                  </a:lnTo>
                  <a:lnTo>
                    <a:pt x="11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0" y="73"/>
                  </a:lnTo>
                  <a:lnTo>
                    <a:pt x="36" y="74"/>
                  </a:lnTo>
                  <a:lnTo>
                    <a:pt x="43" y="76"/>
                  </a:lnTo>
                  <a:lnTo>
                    <a:pt x="50" y="76"/>
                  </a:lnTo>
                  <a:lnTo>
                    <a:pt x="55" y="76"/>
                  </a:lnTo>
                  <a:lnTo>
                    <a:pt x="61" y="74"/>
                  </a:lnTo>
                  <a:lnTo>
                    <a:pt x="67" y="73"/>
                  </a:lnTo>
                  <a:lnTo>
                    <a:pt x="73" y="71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31720" y="3975120"/>
              <a:ext cx="115920" cy="1438200"/>
            </a:xfrm>
            <a:custGeom>
              <a:avLst/>
              <a:gdLst/>
              <a:ahLst/>
              <a:rect l="l" t="t" r="r" b="b"/>
              <a:pathLst>
                <a:path w="73" h="906">
                  <a:moveTo>
                    <a:pt x="73" y="901"/>
                  </a:moveTo>
                  <a:lnTo>
                    <a:pt x="73" y="6"/>
                  </a:lnTo>
                  <a:lnTo>
                    <a:pt x="67" y="4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1" y="14"/>
                  </a:lnTo>
                  <a:lnTo>
                    <a:pt x="6" y="20"/>
                  </a:lnTo>
                  <a:lnTo>
                    <a:pt x="0" y="26"/>
                  </a:lnTo>
                  <a:lnTo>
                    <a:pt x="0" y="881"/>
                  </a:lnTo>
                  <a:lnTo>
                    <a:pt x="6" y="886"/>
                  </a:lnTo>
                  <a:lnTo>
                    <a:pt x="11" y="892"/>
                  </a:lnTo>
                  <a:lnTo>
                    <a:pt x="18" y="896"/>
                  </a:lnTo>
                  <a:lnTo>
                    <a:pt x="24" y="899"/>
                  </a:lnTo>
                  <a:lnTo>
                    <a:pt x="30" y="902"/>
                  </a:lnTo>
                  <a:lnTo>
                    <a:pt x="36" y="905"/>
                  </a:lnTo>
                  <a:lnTo>
                    <a:pt x="43" y="906"/>
                  </a:lnTo>
                  <a:lnTo>
                    <a:pt x="50" y="906"/>
                  </a:lnTo>
                  <a:lnTo>
                    <a:pt x="55" y="906"/>
                  </a:lnTo>
                  <a:lnTo>
                    <a:pt x="61" y="905"/>
                  </a:lnTo>
                  <a:lnTo>
                    <a:pt x="67" y="904"/>
                  </a:lnTo>
                  <a:lnTo>
                    <a:pt x="73" y="90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31720" y="3895560"/>
              <a:ext cx="115920" cy="12096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73" y="56"/>
                  </a:moveTo>
                  <a:lnTo>
                    <a:pt x="73" y="6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1" y="13"/>
                  </a:lnTo>
                  <a:lnTo>
                    <a:pt x="6" y="17"/>
                  </a:lnTo>
                  <a:lnTo>
                    <a:pt x="0" y="23"/>
                  </a:lnTo>
                  <a:lnTo>
                    <a:pt x="0" y="76"/>
                  </a:lnTo>
                  <a:lnTo>
                    <a:pt x="6" y="70"/>
                  </a:lnTo>
                  <a:lnTo>
                    <a:pt x="11" y="64"/>
                  </a:lnTo>
                  <a:lnTo>
                    <a:pt x="18" y="60"/>
                  </a:lnTo>
                  <a:lnTo>
                    <a:pt x="24" y="56"/>
                  </a:lnTo>
                  <a:lnTo>
                    <a:pt x="30" y="54"/>
                  </a:lnTo>
                  <a:lnTo>
                    <a:pt x="36" y="51"/>
                  </a:lnTo>
                  <a:lnTo>
                    <a:pt x="43" y="50"/>
                  </a:lnTo>
                  <a:lnTo>
                    <a:pt x="50" y="50"/>
                  </a:lnTo>
                  <a:lnTo>
                    <a:pt x="55" y="50"/>
                  </a:lnTo>
                  <a:lnTo>
                    <a:pt x="61" y="51"/>
                  </a:lnTo>
                  <a:lnTo>
                    <a:pt x="67" y="54"/>
                  </a:lnTo>
                  <a:lnTo>
                    <a:pt x="73" y="56"/>
                  </a:lnTo>
                  <a:close/>
                </a:path>
              </a:pathLst>
            </a:custGeom>
            <a:solidFill>
              <a:srgbClr val="3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31720" y="380700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73" y="62"/>
                  </a:moveTo>
                  <a:lnTo>
                    <a:pt x="73" y="4"/>
                  </a:lnTo>
                  <a:lnTo>
                    <a:pt x="67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1" y="11"/>
                  </a:lnTo>
                  <a:lnTo>
                    <a:pt x="6" y="16"/>
                  </a:lnTo>
                  <a:lnTo>
                    <a:pt x="0" y="20"/>
                  </a:lnTo>
                  <a:lnTo>
                    <a:pt x="0" y="79"/>
                  </a:lnTo>
                  <a:lnTo>
                    <a:pt x="6" y="73"/>
                  </a:lnTo>
                  <a:lnTo>
                    <a:pt x="11" y="69"/>
                  </a:lnTo>
                  <a:lnTo>
                    <a:pt x="18" y="66"/>
                  </a:lnTo>
                  <a:lnTo>
                    <a:pt x="24" y="62"/>
                  </a:lnTo>
                  <a:lnTo>
                    <a:pt x="30" y="59"/>
                  </a:lnTo>
                  <a:lnTo>
                    <a:pt x="36" y="57"/>
                  </a:lnTo>
                  <a:lnTo>
                    <a:pt x="43" y="56"/>
                  </a:lnTo>
                  <a:lnTo>
                    <a:pt x="50" y="56"/>
                  </a:lnTo>
                  <a:lnTo>
                    <a:pt x="55" y="56"/>
                  </a:lnTo>
                  <a:lnTo>
                    <a:pt x="61" y="57"/>
                  </a:lnTo>
                  <a:lnTo>
                    <a:pt x="67" y="59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7640" y="3905280"/>
              <a:ext cx="220680" cy="1581120"/>
            </a:xfrm>
            <a:custGeom>
              <a:avLst/>
              <a:gdLst/>
              <a:ahLst/>
              <a:rect l="l" t="t" r="r" b="b"/>
              <a:pathLst>
                <a:path w="139" h="996">
                  <a:moveTo>
                    <a:pt x="122" y="497"/>
                  </a:moveTo>
                  <a:lnTo>
                    <a:pt x="120" y="579"/>
                  </a:lnTo>
                  <a:lnTo>
                    <a:pt x="113" y="658"/>
                  </a:lnTo>
                  <a:lnTo>
                    <a:pt x="102" y="728"/>
                  </a:lnTo>
                  <a:lnTo>
                    <a:pt x="87" y="793"/>
                  </a:lnTo>
                  <a:lnTo>
                    <a:pt x="69" y="847"/>
                  </a:lnTo>
                  <a:lnTo>
                    <a:pt x="48" y="892"/>
                  </a:lnTo>
                  <a:lnTo>
                    <a:pt x="25" y="925"/>
                  </a:lnTo>
                  <a:lnTo>
                    <a:pt x="0" y="945"/>
                  </a:lnTo>
                  <a:lnTo>
                    <a:pt x="0" y="996"/>
                  </a:lnTo>
                  <a:lnTo>
                    <a:pt x="29" y="975"/>
                  </a:lnTo>
                  <a:lnTo>
                    <a:pt x="55" y="939"/>
                  </a:lnTo>
                  <a:lnTo>
                    <a:pt x="78" y="890"/>
                  </a:lnTo>
                  <a:lnTo>
                    <a:pt x="99" y="829"/>
                  </a:lnTo>
                  <a:lnTo>
                    <a:pt x="115" y="757"/>
                  </a:lnTo>
                  <a:lnTo>
                    <a:pt x="128" y="678"/>
                  </a:lnTo>
                  <a:lnTo>
                    <a:pt x="136" y="590"/>
                  </a:lnTo>
                  <a:lnTo>
                    <a:pt x="139" y="497"/>
                  </a:lnTo>
                  <a:lnTo>
                    <a:pt x="136" y="404"/>
                  </a:lnTo>
                  <a:lnTo>
                    <a:pt x="128" y="317"/>
                  </a:lnTo>
                  <a:lnTo>
                    <a:pt x="115" y="238"/>
                  </a:lnTo>
                  <a:lnTo>
                    <a:pt x="99" y="166"/>
                  </a:lnTo>
                  <a:lnTo>
                    <a:pt x="78" y="106"/>
                  </a:lnTo>
                  <a:lnTo>
                    <a:pt x="55" y="56"/>
                  </a:lnTo>
                  <a:lnTo>
                    <a:pt x="29" y="21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5" y="70"/>
                  </a:lnTo>
                  <a:lnTo>
                    <a:pt x="48" y="103"/>
                  </a:lnTo>
                  <a:lnTo>
                    <a:pt x="69" y="147"/>
                  </a:lnTo>
                  <a:lnTo>
                    <a:pt x="87" y="202"/>
                  </a:lnTo>
                  <a:lnTo>
                    <a:pt x="102" y="266"/>
                  </a:lnTo>
                  <a:lnTo>
                    <a:pt x="113" y="337"/>
                  </a:lnTo>
                  <a:lnTo>
                    <a:pt x="120" y="416"/>
                  </a:lnTo>
                  <a:lnTo>
                    <a:pt x="122" y="497"/>
                  </a:lnTo>
                  <a:close/>
                </a:path>
              </a:pathLst>
            </a:custGeom>
            <a:solidFill>
              <a:srgbClr val="7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7640" y="3984480"/>
              <a:ext cx="193680" cy="1420920"/>
            </a:xfrm>
            <a:custGeom>
              <a:avLst/>
              <a:gdLst/>
              <a:ahLst/>
              <a:rect l="l" t="t" r="r" b="b"/>
              <a:pathLst>
                <a:path w="122" h="895">
                  <a:moveTo>
                    <a:pt x="122" y="447"/>
                  </a:moveTo>
                  <a:lnTo>
                    <a:pt x="120" y="366"/>
                  </a:lnTo>
                  <a:lnTo>
                    <a:pt x="113" y="287"/>
                  </a:lnTo>
                  <a:lnTo>
                    <a:pt x="102" y="216"/>
                  </a:lnTo>
                  <a:lnTo>
                    <a:pt x="87" y="152"/>
                  </a:lnTo>
                  <a:lnTo>
                    <a:pt x="69" y="97"/>
                  </a:lnTo>
                  <a:lnTo>
                    <a:pt x="48" y="53"/>
                  </a:lnTo>
                  <a:lnTo>
                    <a:pt x="25" y="20"/>
                  </a:lnTo>
                  <a:lnTo>
                    <a:pt x="0" y="0"/>
                  </a:lnTo>
                  <a:lnTo>
                    <a:pt x="0" y="895"/>
                  </a:lnTo>
                  <a:lnTo>
                    <a:pt x="25" y="875"/>
                  </a:lnTo>
                  <a:lnTo>
                    <a:pt x="48" y="842"/>
                  </a:lnTo>
                  <a:lnTo>
                    <a:pt x="69" y="797"/>
                  </a:lnTo>
                  <a:lnTo>
                    <a:pt x="87" y="743"/>
                  </a:lnTo>
                  <a:lnTo>
                    <a:pt x="102" y="678"/>
                  </a:lnTo>
                  <a:lnTo>
                    <a:pt x="113" y="608"/>
                  </a:lnTo>
                  <a:lnTo>
                    <a:pt x="120" y="529"/>
                  </a:lnTo>
                  <a:lnTo>
                    <a:pt x="122" y="447"/>
                  </a:lnTo>
                  <a:close/>
                </a:path>
              </a:pathLst>
            </a:custGeom>
            <a:solidFill>
              <a:srgbClr val="ff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76320" y="3006720"/>
              <a:ext cx="219240" cy="82440"/>
            </a:xfrm>
            <a:custGeom>
              <a:avLst/>
              <a:gdLst/>
              <a:ahLst/>
              <a:rect l="l" t="t" r="r" b="b"/>
              <a:pathLst>
                <a:path w="138" h="52">
                  <a:moveTo>
                    <a:pt x="138" y="42"/>
                  </a:moveTo>
                  <a:lnTo>
                    <a:pt x="138" y="41"/>
                  </a:lnTo>
                  <a:lnTo>
                    <a:pt x="135" y="39"/>
                  </a:lnTo>
                  <a:lnTo>
                    <a:pt x="134" y="36"/>
                  </a:lnTo>
                  <a:lnTo>
                    <a:pt x="131" y="32"/>
                  </a:lnTo>
                  <a:lnTo>
                    <a:pt x="114" y="33"/>
                  </a:lnTo>
                  <a:lnTo>
                    <a:pt x="98" y="32"/>
                  </a:lnTo>
                  <a:lnTo>
                    <a:pt x="83" y="31"/>
                  </a:lnTo>
                  <a:lnTo>
                    <a:pt x="68" y="28"/>
                  </a:lnTo>
                  <a:lnTo>
                    <a:pt x="55" y="23"/>
                  </a:lnTo>
                  <a:lnTo>
                    <a:pt x="44" y="21"/>
                  </a:lnTo>
                  <a:lnTo>
                    <a:pt x="33" y="16"/>
                  </a:lnTo>
                  <a:lnTo>
                    <a:pt x="25" y="12"/>
                  </a:lnTo>
                  <a:lnTo>
                    <a:pt x="20" y="9"/>
                  </a:lnTo>
                  <a:lnTo>
                    <a:pt x="13" y="6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8"/>
                  </a:lnTo>
                  <a:lnTo>
                    <a:pt x="6" y="11"/>
                  </a:lnTo>
                  <a:lnTo>
                    <a:pt x="13" y="13"/>
                  </a:lnTo>
                  <a:lnTo>
                    <a:pt x="21" y="18"/>
                  </a:lnTo>
                  <a:lnTo>
                    <a:pt x="28" y="22"/>
                  </a:lnTo>
                  <a:lnTo>
                    <a:pt x="36" y="29"/>
                  </a:lnTo>
                  <a:lnTo>
                    <a:pt x="42" y="35"/>
                  </a:lnTo>
                  <a:lnTo>
                    <a:pt x="47" y="43"/>
                  </a:lnTo>
                  <a:lnTo>
                    <a:pt x="49" y="51"/>
                  </a:lnTo>
                  <a:lnTo>
                    <a:pt x="59" y="52"/>
                  </a:lnTo>
                  <a:lnTo>
                    <a:pt x="70" y="52"/>
                  </a:lnTo>
                  <a:lnTo>
                    <a:pt x="81" y="52"/>
                  </a:lnTo>
                  <a:lnTo>
                    <a:pt x="92" y="51"/>
                  </a:lnTo>
                  <a:lnTo>
                    <a:pt x="103" y="51"/>
                  </a:lnTo>
                  <a:lnTo>
                    <a:pt x="116" y="48"/>
                  </a:lnTo>
                  <a:lnTo>
                    <a:pt x="127" y="45"/>
                  </a:lnTo>
                  <a:lnTo>
                    <a:pt x="138" y="4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66960" y="3019320"/>
              <a:ext cx="87120" cy="6840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8" y="0"/>
                  </a:moveTo>
                  <a:lnTo>
                    <a:pt x="9" y="7"/>
                  </a:lnTo>
                  <a:lnTo>
                    <a:pt x="11" y="15"/>
                  </a:lnTo>
                  <a:lnTo>
                    <a:pt x="6" y="24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4" y="34"/>
                  </a:lnTo>
                  <a:lnTo>
                    <a:pt x="9" y="35"/>
                  </a:lnTo>
                  <a:lnTo>
                    <a:pt x="15" y="37"/>
                  </a:lnTo>
                  <a:lnTo>
                    <a:pt x="23" y="38"/>
                  </a:lnTo>
                  <a:lnTo>
                    <a:pt x="33" y="40"/>
                  </a:lnTo>
                  <a:lnTo>
                    <a:pt x="44" y="41"/>
                  </a:lnTo>
                  <a:lnTo>
                    <a:pt x="55" y="43"/>
                  </a:lnTo>
                  <a:lnTo>
                    <a:pt x="53" y="35"/>
                  </a:lnTo>
                  <a:lnTo>
                    <a:pt x="48" y="27"/>
                  </a:lnTo>
                  <a:lnTo>
                    <a:pt x="42" y="21"/>
                  </a:lnTo>
                  <a:lnTo>
                    <a:pt x="34" y="14"/>
                  </a:lnTo>
                  <a:lnTo>
                    <a:pt x="27" y="10"/>
                  </a:lnTo>
                  <a:lnTo>
                    <a:pt x="19" y="5"/>
                  </a:lnTo>
                  <a:lnTo>
                    <a:pt x="12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15920" y="3016080"/>
              <a:ext cx="168480" cy="43200"/>
            </a:xfrm>
            <a:custGeom>
              <a:avLst/>
              <a:gdLst/>
              <a:ahLst/>
              <a:rect l="l" t="t" r="r" b="b"/>
              <a:pathLst>
                <a:path w="106" h="27">
                  <a:moveTo>
                    <a:pt x="106" y="26"/>
                  </a:moveTo>
                  <a:lnTo>
                    <a:pt x="103" y="20"/>
                  </a:lnTo>
                  <a:lnTo>
                    <a:pt x="102" y="15"/>
                  </a:lnTo>
                  <a:lnTo>
                    <a:pt x="100" y="7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4" y="3"/>
                  </a:lnTo>
                  <a:lnTo>
                    <a:pt x="84" y="5"/>
                  </a:lnTo>
                  <a:lnTo>
                    <a:pt x="70" y="7"/>
                  </a:lnTo>
                  <a:lnTo>
                    <a:pt x="55" y="9"/>
                  </a:lnTo>
                  <a:lnTo>
                    <a:pt x="39" y="10"/>
                  </a:lnTo>
                  <a:lnTo>
                    <a:pt x="19" y="9"/>
                  </a:lnTo>
                  <a:lnTo>
                    <a:pt x="0" y="6"/>
                  </a:lnTo>
                  <a:lnTo>
                    <a:pt x="8" y="10"/>
                  </a:lnTo>
                  <a:lnTo>
                    <a:pt x="19" y="15"/>
                  </a:lnTo>
                  <a:lnTo>
                    <a:pt x="30" y="17"/>
                  </a:lnTo>
                  <a:lnTo>
                    <a:pt x="43" y="22"/>
                  </a:lnTo>
                  <a:lnTo>
                    <a:pt x="58" y="25"/>
                  </a:lnTo>
                  <a:lnTo>
                    <a:pt x="73" y="26"/>
                  </a:lnTo>
                  <a:lnTo>
                    <a:pt x="89" y="27"/>
                  </a:lnTo>
                  <a:lnTo>
                    <a:pt x="10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09800" y="3057480"/>
              <a:ext cx="676080" cy="487440"/>
            </a:xfrm>
            <a:custGeom>
              <a:avLst/>
              <a:gdLst/>
              <a:ahLst/>
              <a:rect l="l" t="t" r="r" b="b"/>
              <a:pathLst>
                <a:path w="426" h="307">
                  <a:moveTo>
                    <a:pt x="0" y="23"/>
                  </a:moveTo>
                  <a:lnTo>
                    <a:pt x="3" y="23"/>
                  </a:lnTo>
                  <a:lnTo>
                    <a:pt x="11" y="24"/>
                  </a:lnTo>
                  <a:lnTo>
                    <a:pt x="23" y="27"/>
                  </a:lnTo>
                  <a:lnTo>
                    <a:pt x="40" y="32"/>
                  </a:lnTo>
                  <a:lnTo>
                    <a:pt x="60" y="37"/>
                  </a:lnTo>
                  <a:lnTo>
                    <a:pt x="84" y="46"/>
                  </a:lnTo>
                  <a:lnTo>
                    <a:pt x="111" y="56"/>
                  </a:lnTo>
                  <a:lnTo>
                    <a:pt x="140" y="70"/>
                  </a:lnTo>
                  <a:lnTo>
                    <a:pt x="172" y="86"/>
                  </a:lnTo>
                  <a:lnTo>
                    <a:pt x="205" y="106"/>
                  </a:lnTo>
                  <a:lnTo>
                    <a:pt x="240" y="129"/>
                  </a:lnTo>
                  <a:lnTo>
                    <a:pt x="275" y="155"/>
                  </a:lnTo>
                  <a:lnTo>
                    <a:pt x="312" y="186"/>
                  </a:lnTo>
                  <a:lnTo>
                    <a:pt x="348" y="222"/>
                  </a:lnTo>
                  <a:lnTo>
                    <a:pt x="383" y="262"/>
                  </a:lnTo>
                  <a:lnTo>
                    <a:pt x="418" y="307"/>
                  </a:lnTo>
                  <a:lnTo>
                    <a:pt x="426" y="264"/>
                  </a:lnTo>
                  <a:lnTo>
                    <a:pt x="423" y="257"/>
                  </a:lnTo>
                  <a:lnTo>
                    <a:pt x="418" y="235"/>
                  </a:lnTo>
                  <a:lnTo>
                    <a:pt x="405" y="205"/>
                  </a:lnTo>
                  <a:lnTo>
                    <a:pt x="386" y="168"/>
                  </a:lnTo>
                  <a:lnTo>
                    <a:pt x="360" y="128"/>
                  </a:lnTo>
                  <a:lnTo>
                    <a:pt x="326" y="88"/>
                  </a:lnTo>
                  <a:lnTo>
                    <a:pt x="283" y="50"/>
                  </a:lnTo>
                  <a:lnTo>
                    <a:pt x="231" y="19"/>
                  </a:lnTo>
                  <a:lnTo>
                    <a:pt x="164" y="0"/>
                  </a:lnTo>
                  <a:lnTo>
                    <a:pt x="109" y="3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1560600" y="879480"/>
            <a:ext cx="564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12880" y="1731960"/>
            <a:ext cx="649764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836000" y="1728720"/>
            <a:ext cx="543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tal volume = volume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16920" y="1709640"/>
            <a:ext cx="543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tal volume = volume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48600" y="2278080"/>
            <a:ext cx="642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ylinder + ½ volume of 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29520" y="2259000"/>
            <a:ext cx="642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linder + ½ volume of 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362320" y="4135320"/>
            <a:ext cx="6362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12280" y="4162320"/>
            <a:ext cx="945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77120" y="5477040"/>
            <a:ext cx="56196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636560" y="3218040"/>
            <a:ext cx="6234840" cy="2436480"/>
            <a:chOff x="1636560" y="3218040"/>
            <a:chExt cx="6234840" cy="2436480"/>
          </a:xfrm>
        </p:grpSpPr>
        <p:sp>
          <p:nvSpPr>
            <p:cNvPr id="910" name=""/>
            <p:cNvSpPr/>
            <p:nvPr/>
          </p:nvSpPr>
          <p:spPr>
            <a:xfrm>
              <a:off x="5889240" y="4121280"/>
              <a:ext cx="1033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½(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867280" y="4102200"/>
              <a:ext cx="1033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½(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908400" y="4162320"/>
              <a:ext cx="3070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86080" y="4141800"/>
              <a:ext cx="3070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23760" y="4121280"/>
              <a:ext cx="232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01440" y="4102200"/>
              <a:ext cx="232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463520" y="414972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50920" y="413712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02920" y="4121280"/>
              <a:ext cx="168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80960" y="4102200"/>
              <a:ext cx="168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77120" y="5035680"/>
              <a:ext cx="5619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563520" y="4114800"/>
              <a:ext cx="21096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4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1636560" y="3218040"/>
              <a:ext cx="4795920" cy="606240"/>
              <a:chOff x="1636560" y="3218040"/>
              <a:chExt cx="4795920" cy="606240"/>
            </a:xfrm>
          </p:grpSpPr>
          <p:sp>
            <p:nvSpPr>
              <p:cNvPr id="923" name=""/>
              <p:cNvSpPr/>
              <p:nvPr/>
            </p:nvSpPr>
            <p:spPr>
              <a:xfrm>
                <a:off x="1803240" y="3284640"/>
                <a:ext cx="4629240" cy="539640"/>
              </a:xfrm>
              <a:custGeom>
                <a:avLst/>
                <a:gdLst/>
                <a:ahLst/>
                <a:rect l="l" t="t" r="r" b="b"/>
                <a:pathLst>
                  <a:path w="2916" h="340">
                    <a:moveTo>
                      <a:pt x="2877" y="316"/>
                    </a:moveTo>
                    <a:lnTo>
                      <a:pt x="2877" y="340"/>
                    </a:lnTo>
                    <a:lnTo>
                      <a:pt x="2880" y="339"/>
                    </a:lnTo>
                    <a:lnTo>
                      <a:pt x="2884" y="338"/>
                    </a:lnTo>
                    <a:lnTo>
                      <a:pt x="2888" y="336"/>
                    </a:lnTo>
                    <a:lnTo>
                      <a:pt x="2891" y="333"/>
                    </a:lnTo>
                    <a:lnTo>
                      <a:pt x="2893" y="329"/>
                    </a:lnTo>
                    <a:lnTo>
                      <a:pt x="2896" y="325"/>
                    </a:lnTo>
                    <a:lnTo>
                      <a:pt x="2898" y="319"/>
                    </a:lnTo>
                    <a:lnTo>
                      <a:pt x="2900" y="312"/>
                    </a:lnTo>
                    <a:lnTo>
                      <a:pt x="2903" y="303"/>
                    </a:lnTo>
                    <a:lnTo>
                      <a:pt x="2905" y="294"/>
                    </a:lnTo>
                    <a:lnTo>
                      <a:pt x="2906" y="289"/>
                    </a:lnTo>
                    <a:lnTo>
                      <a:pt x="2908" y="279"/>
                    </a:lnTo>
                    <a:lnTo>
                      <a:pt x="2911" y="255"/>
                    </a:lnTo>
                    <a:lnTo>
                      <a:pt x="2914" y="228"/>
                    </a:lnTo>
                    <a:lnTo>
                      <a:pt x="2915" y="200"/>
                    </a:lnTo>
                    <a:lnTo>
                      <a:pt x="2916" y="170"/>
                    </a:lnTo>
                    <a:lnTo>
                      <a:pt x="2915" y="166"/>
                    </a:lnTo>
                    <a:lnTo>
                      <a:pt x="2914" y="162"/>
                    </a:lnTo>
                    <a:lnTo>
                      <a:pt x="2911" y="158"/>
                    </a:lnTo>
                    <a:lnTo>
                      <a:pt x="2908" y="154"/>
                    </a:lnTo>
                    <a:lnTo>
                      <a:pt x="2903" y="151"/>
                    </a:lnTo>
                    <a:lnTo>
                      <a:pt x="2899" y="148"/>
                    </a:lnTo>
                    <a:lnTo>
                      <a:pt x="2892" y="144"/>
                    </a:lnTo>
                    <a:lnTo>
                      <a:pt x="2883" y="141"/>
                    </a:lnTo>
                    <a:lnTo>
                      <a:pt x="2872" y="137"/>
                    </a:lnTo>
                    <a:lnTo>
                      <a:pt x="2859" y="134"/>
                    </a:lnTo>
                    <a:lnTo>
                      <a:pt x="2844" y="130"/>
                    </a:lnTo>
                    <a:lnTo>
                      <a:pt x="2827" y="126"/>
                    </a:lnTo>
                    <a:lnTo>
                      <a:pt x="2823" y="125"/>
                    </a:lnTo>
                    <a:lnTo>
                      <a:pt x="2804" y="122"/>
                    </a:lnTo>
                    <a:lnTo>
                      <a:pt x="2784" y="118"/>
                    </a:lnTo>
                    <a:lnTo>
                      <a:pt x="2762" y="115"/>
                    </a:lnTo>
                    <a:lnTo>
                      <a:pt x="2738" y="111"/>
                    </a:lnTo>
                    <a:lnTo>
                      <a:pt x="2713" y="108"/>
                    </a:lnTo>
                    <a:lnTo>
                      <a:pt x="2686" y="104"/>
                    </a:lnTo>
                    <a:lnTo>
                      <a:pt x="2657" y="101"/>
                    </a:lnTo>
                    <a:lnTo>
                      <a:pt x="2627" y="97"/>
                    </a:lnTo>
                    <a:lnTo>
                      <a:pt x="2595" y="94"/>
                    </a:lnTo>
                    <a:lnTo>
                      <a:pt x="2561" y="91"/>
                    </a:lnTo>
                    <a:lnTo>
                      <a:pt x="2526" y="87"/>
                    </a:lnTo>
                    <a:lnTo>
                      <a:pt x="2490" y="84"/>
                    </a:lnTo>
                    <a:lnTo>
                      <a:pt x="2452" y="81"/>
                    </a:lnTo>
                    <a:lnTo>
                      <a:pt x="2413" y="78"/>
                    </a:lnTo>
                    <a:lnTo>
                      <a:pt x="2373" y="75"/>
                    </a:lnTo>
                    <a:lnTo>
                      <a:pt x="2331" y="71"/>
                    </a:lnTo>
                    <a:lnTo>
                      <a:pt x="2287" y="68"/>
                    </a:lnTo>
                    <a:lnTo>
                      <a:pt x="2243" y="65"/>
                    </a:lnTo>
                    <a:lnTo>
                      <a:pt x="2197" y="62"/>
                    </a:lnTo>
                    <a:lnTo>
                      <a:pt x="2150" y="59"/>
                    </a:lnTo>
                    <a:lnTo>
                      <a:pt x="2102" y="57"/>
                    </a:lnTo>
                    <a:lnTo>
                      <a:pt x="2053" y="54"/>
                    </a:lnTo>
                    <a:lnTo>
                      <a:pt x="2003" y="51"/>
                    </a:lnTo>
                    <a:lnTo>
                      <a:pt x="1952" y="48"/>
                    </a:lnTo>
                    <a:lnTo>
                      <a:pt x="1899" y="46"/>
                    </a:lnTo>
                    <a:lnTo>
                      <a:pt x="1846" y="43"/>
                    </a:lnTo>
                    <a:lnTo>
                      <a:pt x="1791" y="40"/>
                    </a:lnTo>
                    <a:lnTo>
                      <a:pt x="1680" y="35"/>
                    </a:lnTo>
                    <a:lnTo>
                      <a:pt x="1564" y="31"/>
                    </a:lnTo>
                    <a:lnTo>
                      <a:pt x="1446" y="26"/>
                    </a:lnTo>
                    <a:lnTo>
                      <a:pt x="1325" y="22"/>
                    </a:lnTo>
                    <a:lnTo>
                      <a:pt x="1200" y="18"/>
                    </a:lnTo>
                    <a:lnTo>
                      <a:pt x="1074" y="15"/>
                    </a:lnTo>
                    <a:lnTo>
                      <a:pt x="945" y="12"/>
                    </a:lnTo>
                    <a:lnTo>
                      <a:pt x="814" y="9"/>
                    </a:lnTo>
                    <a:lnTo>
                      <a:pt x="681" y="7"/>
                    </a:lnTo>
                    <a:lnTo>
                      <a:pt x="547" y="4"/>
                    </a:lnTo>
                    <a:lnTo>
                      <a:pt x="411" y="3"/>
                    </a:lnTo>
                    <a:lnTo>
                      <a:pt x="275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275" y="25"/>
                    </a:lnTo>
                    <a:lnTo>
                      <a:pt x="411" y="27"/>
                    </a:lnTo>
                    <a:lnTo>
                      <a:pt x="547" y="28"/>
                    </a:lnTo>
                    <a:lnTo>
                      <a:pt x="681" y="31"/>
                    </a:lnTo>
                    <a:lnTo>
                      <a:pt x="814" y="33"/>
                    </a:lnTo>
                    <a:lnTo>
                      <a:pt x="945" y="36"/>
                    </a:lnTo>
                    <a:lnTo>
                      <a:pt x="1074" y="39"/>
                    </a:lnTo>
                    <a:lnTo>
                      <a:pt x="1200" y="42"/>
                    </a:lnTo>
                    <a:lnTo>
                      <a:pt x="1325" y="46"/>
                    </a:lnTo>
                    <a:lnTo>
                      <a:pt x="1446" y="50"/>
                    </a:lnTo>
                    <a:lnTo>
                      <a:pt x="1564" y="55"/>
                    </a:lnTo>
                    <a:lnTo>
                      <a:pt x="1680" y="59"/>
                    </a:lnTo>
                    <a:lnTo>
                      <a:pt x="1791" y="64"/>
                    </a:lnTo>
                    <a:lnTo>
                      <a:pt x="1846" y="67"/>
                    </a:lnTo>
                    <a:lnTo>
                      <a:pt x="1899" y="70"/>
                    </a:lnTo>
                    <a:lnTo>
                      <a:pt x="1952" y="72"/>
                    </a:lnTo>
                    <a:lnTo>
                      <a:pt x="2003" y="75"/>
                    </a:lnTo>
                    <a:lnTo>
                      <a:pt x="2053" y="78"/>
                    </a:lnTo>
                    <a:lnTo>
                      <a:pt x="2102" y="81"/>
                    </a:lnTo>
                    <a:lnTo>
                      <a:pt x="2150" y="83"/>
                    </a:lnTo>
                    <a:lnTo>
                      <a:pt x="2197" y="86"/>
                    </a:lnTo>
                    <a:lnTo>
                      <a:pt x="2243" y="89"/>
                    </a:lnTo>
                    <a:lnTo>
                      <a:pt x="2287" y="92"/>
                    </a:lnTo>
                    <a:lnTo>
                      <a:pt x="2331" y="95"/>
                    </a:lnTo>
                    <a:lnTo>
                      <a:pt x="2373" y="99"/>
                    </a:lnTo>
                    <a:lnTo>
                      <a:pt x="2413" y="102"/>
                    </a:lnTo>
                    <a:lnTo>
                      <a:pt x="2452" y="105"/>
                    </a:lnTo>
                    <a:lnTo>
                      <a:pt x="2490" y="108"/>
                    </a:lnTo>
                    <a:lnTo>
                      <a:pt x="2526" y="111"/>
                    </a:lnTo>
                    <a:lnTo>
                      <a:pt x="2561" y="115"/>
                    </a:lnTo>
                    <a:lnTo>
                      <a:pt x="2595" y="118"/>
                    </a:lnTo>
                    <a:lnTo>
                      <a:pt x="2627" y="121"/>
                    </a:lnTo>
                    <a:lnTo>
                      <a:pt x="2657" y="125"/>
                    </a:lnTo>
                    <a:lnTo>
                      <a:pt x="2686" y="128"/>
                    </a:lnTo>
                    <a:lnTo>
                      <a:pt x="2713" y="132"/>
                    </a:lnTo>
                    <a:lnTo>
                      <a:pt x="2738" y="135"/>
                    </a:lnTo>
                    <a:lnTo>
                      <a:pt x="2762" y="139"/>
                    </a:lnTo>
                    <a:lnTo>
                      <a:pt x="2784" y="142"/>
                    </a:lnTo>
                    <a:lnTo>
                      <a:pt x="2804" y="146"/>
                    </a:lnTo>
                    <a:lnTo>
                      <a:pt x="2823" y="149"/>
                    </a:lnTo>
                    <a:lnTo>
                      <a:pt x="2823" y="137"/>
                    </a:lnTo>
                    <a:lnTo>
                      <a:pt x="2818" y="148"/>
                    </a:lnTo>
                    <a:lnTo>
                      <a:pt x="2835" y="152"/>
                    </a:lnTo>
                    <a:lnTo>
                      <a:pt x="2850" y="156"/>
                    </a:lnTo>
                    <a:lnTo>
                      <a:pt x="2863" y="159"/>
                    </a:lnTo>
                    <a:lnTo>
                      <a:pt x="2874" y="163"/>
                    </a:lnTo>
                    <a:lnTo>
                      <a:pt x="2883" y="166"/>
                    </a:lnTo>
                    <a:lnTo>
                      <a:pt x="2890" y="170"/>
                    </a:lnTo>
                    <a:lnTo>
                      <a:pt x="2895" y="159"/>
                    </a:lnTo>
                    <a:lnTo>
                      <a:pt x="2886" y="168"/>
                    </a:lnTo>
                    <a:lnTo>
                      <a:pt x="2891" y="171"/>
                    </a:lnTo>
                    <a:lnTo>
                      <a:pt x="2894" y="175"/>
                    </a:lnTo>
                    <a:lnTo>
                      <a:pt x="2892" y="171"/>
                    </a:lnTo>
                    <a:lnTo>
                      <a:pt x="2903" y="166"/>
                    </a:lnTo>
                    <a:lnTo>
                      <a:pt x="2891" y="166"/>
                    </a:lnTo>
                    <a:lnTo>
                      <a:pt x="2892" y="170"/>
                    </a:lnTo>
                    <a:lnTo>
                      <a:pt x="2891" y="200"/>
                    </a:lnTo>
                    <a:lnTo>
                      <a:pt x="2890" y="228"/>
                    </a:lnTo>
                    <a:lnTo>
                      <a:pt x="2887" y="255"/>
                    </a:lnTo>
                    <a:lnTo>
                      <a:pt x="2884" y="279"/>
                    </a:lnTo>
                    <a:lnTo>
                      <a:pt x="2882" y="289"/>
                    </a:lnTo>
                    <a:lnTo>
                      <a:pt x="2894" y="289"/>
                    </a:lnTo>
                    <a:lnTo>
                      <a:pt x="2883" y="285"/>
                    </a:lnTo>
                    <a:lnTo>
                      <a:pt x="2881" y="294"/>
                    </a:lnTo>
                    <a:lnTo>
                      <a:pt x="2878" y="303"/>
                    </a:lnTo>
                    <a:lnTo>
                      <a:pt x="2876" y="310"/>
                    </a:lnTo>
                    <a:lnTo>
                      <a:pt x="2874" y="316"/>
                    </a:lnTo>
                    <a:lnTo>
                      <a:pt x="2871" y="320"/>
                    </a:lnTo>
                    <a:lnTo>
                      <a:pt x="2882" y="324"/>
                    </a:lnTo>
                    <a:lnTo>
                      <a:pt x="2874" y="316"/>
                    </a:lnTo>
                    <a:lnTo>
                      <a:pt x="2871" y="319"/>
                    </a:lnTo>
                    <a:lnTo>
                      <a:pt x="2875" y="316"/>
                    </a:lnTo>
                    <a:lnTo>
                      <a:pt x="2880" y="327"/>
                    </a:lnTo>
                    <a:lnTo>
                      <a:pt x="2880" y="315"/>
                    </a:lnTo>
                    <a:lnTo>
                      <a:pt x="2877" y="3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636560" y="3218040"/>
                <a:ext cx="169920" cy="16956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107" y="0"/>
                    </a:moveTo>
                    <a:lnTo>
                      <a:pt x="0" y="54"/>
                    </a:lnTo>
                    <a:lnTo>
                      <a:pt x="107" y="107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5" name=""/>
          <p:cNvGrpSpPr/>
          <p:nvPr/>
        </p:nvGrpSpPr>
        <p:grpSpPr>
          <a:xfrm>
            <a:off x="874800" y="4102200"/>
            <a:ext cx="5040720" cy="1265040"/>
            <a:chOff x="874800" y="4102200"/>
            <a:chExt cx="5040720" cy="1265040"/>
          </a:xfrm>
        </p:grpSpPr>
        <p:sp>
          <p:nvSpPr>
            <p:cNvPr id="926" name=""/>
            <p:cNvSpPr/>
            <p:nvPr/>
          </p:nvSpPr>
          <p:spPr>
            <a:xfrm>
              <a:off x="4196880" y="4162320"/>
              <a:ext cx="3070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76360" y="4141800"/>
              <a:ext cx="3070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512240" y="4121280"/>
              <a:ext cx="232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491720" y="4102200"/>
              <a:ext cx="232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755240" y="414972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739400" y="4137120"/>
              <a:ext cx="210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959360" y="4121280"/>
              <a:ext cx="956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h +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937040" y="4102200"/>
              <a:ext cx="956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h +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874800" y="4675320"/>
              <a:ext cx="3724200" cy="691920"/>
              <a:chOff x="874800" y="4675320"/>
              <a:chExt cx="3724200" cy="691920"/>
            </a:xfrm>
          </p:grpSpPr>
          <p:sp>
            <p:nvSpPr>
              <p:cNvPr id="935" name=""/>
              <p:cNvSpPr/>
              <p:nvPr/>
            </p:nvSpPr>
            <p:spPr>
              <a:xfrm>
                <a:off x="1041480" y="4675320"/>
                <a:ext cx="3557520" cy="626760"/>
              </a:xfrm>
              <a:custGeom>
                <a:avLst/>
                <a:gdLst/>
                <a:ahLst/>
                <a:rect l="l" t="t" r="r" b="b"/>
                <a:pathLst>
                  <a:path w="2241" h="395">
                    <a:moveTo>
                      <a:pt x="2241" y="0"/>
                    </a:moveTo>
                    <a:lnTo>
                      <a:pt x="2217" y="0"/>
                    </a:lnTo>
                    <a:lnTo>
                      <a:pt x="2216" y="9"/>
                    </a:lnTo>
                    <a:lnTo>
                      <a:pt x="2228" y="9"/>
                    </a:lnTo>
                    <a:lnTo>
                      <a:pt x="2217" y="4"/>
                    </a:lnTo>
                    <a:lnTo>
                      <a:pt x="2215" y="13"/>
                    </a:lnTo>
                    <a:lnTo>
                      <a:pt x="2211" y="22"/>
                    </a:lnTo>
                    <a:lnTo>
                      <a:pt x="2205" y="30"/>
                    </a:lnTo>
                    <a:lnTo>
                      <a:pt x="2216" y="35"/>
                    </a:lnTo>
                    <a:lnTo>
                      <a:pt x="2208" y="26"/>
                    </a:lnTo>
                    <a:lnTo>
                      <a:pt x="2201" y="35"/>
                    </a:lnTo>
                    <a:lnTo>
                      <a:pt x="2192" y="44"/>
                    </a:lnTo>
                    <a:lnTo>
                      <a:pt x="2183" y="52"/>
                    </a:lnTo>
                    <a:lnTo>
                      <a:pt x="2171" y="61"/>
                    </a:lnTo>
                    <a:lnTo>
                      <a:pt x="2180" y="69"/>
                    </a:lnTo>
                    <a:lnTo>
                      <a:pt x="2175" y="58"/>
                    </a:lnTo>
                    <a:lnTo>
                      <a:pt x="2162" y="67"/>
                    </a:lnTo>
                    <a:lnTo>
                      <a:pt x="2148" y="76"/>
                    </a:lnTo>
                    <a:lnTo>
                      <a:pt x="2133" y="84"/>
                    </a:lnTo>
                    <a:lnTo>
                      <a:pt x="2116" y="93"/>
                    </a:lnTo>
                    <a:lnTo>
                      <a:pt x="2098" y="101"/>
                    </a:lnTo>
                    <a:lnTo>
                      <a:pt x="2078" y="109"/>
                    </a:lnTo>
                    <a:lnTo>
                      <a:pt x="2057" y="118"/>
                    </a:lnTo>
                    <a:lnTo>
                      <a:pt x="2035" y="126"/>
                    </a:lnTo>
                    <a:lnTo>
                      <a:pt x="2012" y="134"/>
                    </a:lnTo>
                    <a:lnTo>
                      <a:pt x="1988" y="142"/>
                    </a:lnTo>
                    <a:lnTo>
                      <a:pt x="1962" y="150"/>
                    </a:lnTo>
                    <a:lnTo>
                      <a:pt x="1935" y="158"/>
                    </a:lnTo>
                    <a:lnTo>
                      <a:pt x="1908" y="166"/>
                    </a:lnTo>
                    <a:lnTo>
                      <a:pt x="1879" y="174"/>
                    </a:lnTo>
                    <a:lnTo>
                      <a:pt x="1849" y="181"/>
                    </a:lnTo>
                    <a:lnTo>
                      <a:pt x="1817" y="189"/>
                    </a:lnTo>
                    <a:lnTo>
                      <a:pt x="1785" y="197"/>
                    </a:lnTo>
                    <a:lnTo>
                      <a:pt x="1752" y="204"/>
                    </a:lnTo>
                    <a:lnTo>
                      <a:pt x="1683" y="219"/>
                    </a:lnTo>
                    <a:lnTo>
                      <a:pt x="1688" y="230"/>
                    </a:lnTo>
                    <a:lnTo>
                      <a:pt x="1688" y="218"/>
                    </a:lnTo>
                    <a:lnTo>
                      <a:pt x="1615" y="232"/>
                    </a:lnTo>
                    <a:lnTo>
                      <a:pt x="1539" y="245"/>
                    </a:lnTo>
                    <a:lnTo>
                      <a:pt x="1459" y="258"/>
                    </a:lnTo>
                    <a:lnTo>
                      <a:pt x="1376" y="271"/>
                    </a:lnTo>
                    <a:lnTo>
                      <a:pt x="1291" y="283"/>
                    </a:lnTo>
                    <a:lnTo>
                      <a:pt x="1202" y="294"/>
                    </a:lnTo>
                    <a:lnTo>
                      <a:pt x="1111" y="305"/>
                    </a:lnTo>
                    <a:lnTo>
                      <a:pt x="1018" y="315"/>
                    </a:lnTo>
                    <a:lnTo>
                      <a:pt x="923" y="324"/>
                    </a:lnTo>
                    <a:lnTo>
                      <a:pt x="825" y="333"/>
                    </a:lnTo>
                    <a:lnTo>
                      <a:pt x="726" y="341"/>
                    </a:lnTo>
                    <a:lnTo>
                      <a:pt x="626" y="348"/>
                    </a:lnTo>
                    <a:lnTo>
                      <a:pt x="524" y="354"/>
                    </a:lnTo>
                    <a:lnTo>
                      <a:pt x="421" y="359"/>
                    </a:lnTo>
                    <a:lnTo>
                      <a:pt x="211" y="367"/>
                    </a:lnTo>
                    <a:lnTo>
                      <a:pt x="106" y="369"/>
                    </a:lnTo>
                    <a:lnTo>
                      <a:pt x="0" y="371"/>
                    </a:lnTo>
                    <a:lnTo>
                      <a:pt x="0" y="395"/>
                    </a:lnTo>
                    <a:lnTo>
                      <a:pt x="106" y="393"/>
                    </a:lnTo>
                    <a:lnTo>
                      <a:pt x="211" y="391"/>
                    </a:lnTo>
                    <a:lnTo>
                      <a:pt x="421" y="383"/>
                    </a:lnTo>
                    <a:lnTo>
                      <a:pt x="524" y="378"/>
                    </a:lnTo>
                    <a:lnTo>
                      <a:pt x="626" y="372"/>
                    </a:lnTo>
                    <a:lnTo>
                      <a:pt x="726" y="365"/>
                    </a:lnTo>
                    <a:lnTo>
                      <a:pt x="825" y="357"/>
                    </a:lnTo>
                    <a:lnTo>
                      <a:pt x="923" y="348"/>
                    </a:lnTo>
                    <a:lnTo>
                      <a:pt x="1018" y="339"/>
                    </a:lnTo>
                    <a:lnTo>
                      <a:pt x="1111" y="329"/>
                    </a:lnTo>
                    <a:lnTo>
                      <a:pt x="1202" y="318"/>
                    </a:lnTo>
                    <a:lnTo>
                      <a:pt x="1291" y="307"/>
                    </a:lnTo>
                    <a:lnTo>
                      <a:pt x="1376" y="295"/>
                    </a:lnTo>
                    <a:lnTo>
                      <a:pt x="1459" y="282"/>
                    </a:lnTo>
                    <a:lnTo>
                      <a:pt x="1539" y="269"/>
                    </a:lnTo>
                    <a:lnTo>
                      <a:pt x="1615" y="256"/>
                    </a:lnTo>
                    <a:lnTo>
                      <a:pt x="1688" y="242"/>
                    </a:lnTo>
                    <a:lnTo>
                      <a:pt x="1692" y="241"/>
                    </a:lnTo>
                    <a:lnTo>
                      <a:pt x="1761" y="226"/>
                    </a:lnTo>
                    <a:lnTo>
                      <a:pt x="1794" y="219"/>
                    </a:lnTo>
                    <a:lnTo>
                      <a:pt x="1826" y="211"/>
                    </a:lnTo>
                    <a:lnTo>
                      <a:pt x="1858" y="203"/>
                    </a:lnTo>
                    <a:lnTo>
                      <a:pt x="1888" y="196"/>
                    </a:lnTo>
                    <a:lnTo>
                      <a:pt x="1917" y="188"/>
                    </a:lnTo>
                    <a:lnTo>
                      <a:pt x="1944" y="180"/>
                    </a:lnTo>
                    <a:lnTo>
                      <a:pt x="1971" y="172"/>
                    </a:lnTo>
                    <a:lnTo>
                      <a:pt x="1997" y="164"/>
                    </a:lnTo>
                    <a:lnTo>
                      <a:pt x="2021" y="156"/>
                    </a:lnTo>
                    <a:lnTo>
                      <a:pt x="2044" y="148"/>
                    </a:lnTo>
                    <a:lnTo>
                      <a:pt x="2066" y="140"/>
                    </a:lnTo>
                    <a:lnTo>
                      <a:pt x="2087" y="131"/>
                    </a:lnTo>
                    <a:lnTo>
                      <a:pt x="2107" y="123"/>
                    </a:lnTo>
                    <a:lnTo>
                      <a:pt x="2125" y="115"/>
                    </a:lnTo>
                    <a:lnTo>
                      <a:pt x="2142" y="106"/>
                    </a:lnTo>
                    <a:lnTo>
                      <a:pt x="2157" y="98"/>
                    </a:lnTo>
                    <a:lnTo>
                      <a:pt x="2171" y="89"/>
                    </a:lnTo>
                    <a:lnTo>
                      <a:pt x="2184" y="80"/>
                    </a:lnTo>
                    <a:lnTo>
                      <a:pt x="2188" y="78"/>
                    </a:lnTo>
                    <a:lnTo>
                      <a:pt x="2200" y="69"/>
                    </a:lnTo>
                    <a:lnTo>
                      <a:pt x="2209" y="61"/>
                    </a:lnTo>
                    <a:lnTo>
                      <a:pt x="2218" y="52"/>
                    </a:lnTo>
                    <a:lnTo>
                      <a:pt x="2225" y="43"/>
                    </a:lnTo>
                    <a:lnTo>
                      <a:pt x="2227" y="39"/>
                    </a:lnTo>
                    <a:lnTo>
                      <a:pt x="2233" y="31"/>
                    </a:lnTo>
                    <a:lnTo>
                      <a:pt x="2237" y="22"/>
                    </a:lnTo>
                    <a:lnTo>
                      <a:pt x="2239" y="13"/>
                    </a:lnTo>
                    <a:lnTo>
                      <a:pt x="2240" y="9"/>
                    </a:lnTo>
                    <a:lnTo>
                      <a:pt x="2240" y="9"/>
                    </a:lnTo>
                    <a:lnTo>
                      <a:pt x="22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74800" y="5197320"/>
                <a:ext cx="169920" cy="16992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106" y="0"/>
                    </a:moveTo>
                    <a:lnTo>
                      <a:pt x="0" y="55"/>
                    </a:lnTo>
                    <a:lnTo>
                      <a:pt x="107" y="10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448080" y="144792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09680" y="2286000"/>
            <a:ext cx="649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tal volume = volume of cylinder + ½ volume of 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3209760" y="3701880"/>
            <a:ext cx="4496040" cy="1131480"/>
            <a:chOff x="3209760" y="3701880"/>
            <a:chExt cx="4496040" cy="1131480"/>
          </a:xfrm>
        </p:grpSpPr>
        <p:sp>
          <p:nvSpPr>
            <p:cNvPr id="942" name=""/>
            <p:cNvSpPr/>
            <p:nvPr/>
          </p:nvSpPr>
          <p:spPr>
            <a:xfrm>
              <a:off x="3209760" y="370188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 + ½(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6192720" y="3809880"/>
              <a:ext cx="370080" cy="1023480"/>
              <a:chOff x="6192720" y="3809880"/>
              <a:chExt cx="370080" cy="1023480"/>
            </a:xfrm>
          </p:grpSpPr>
          <p:sp>
            <p:nvSpPr>
              <p:cNvPr id="944" name=""/>
              <p:cNvSpPr/>
              <p:nvPr/>
            </p:nvSpPr>
            <p:spPr>
              <a:xfrm>
                <a:off x="6211080" y="41907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211080" y="3809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192720" y="4052880"/>
                <a:ext cx="370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2785680" y="4648320"/>
            <a:ext cx="5345640" cy="1372680"/>
            <a:chOff x="2785680" y="4648320"/>
            <a:chExt cx="5345640" cy="1372680"/>
          </a:xfrm>
        </p:grpSpPr>
        <p:sp>
          <p:nvSpPr>
            <p:cNvPr id="948" name=""/>
            <p:cNvSpPr/>
            <p:nvPr/>
          </p:nvSpPr>
          <p:spPr>
            <a:xfrm>
              <a:off x="2785680" y="4648320"/>
              <a:ext cx="534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 = ½diameter = ½(3.5in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911760" y="5378400"/>
              <a:ext cx="407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.5(3.5in) = 1.75i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380880" y="2473920"/>
            <a:ext cx="2324880" cy="3285360"/>
            <a:chOff x="380880" y="2473920"/>
            <a:chExt cx="2324880" cy="3285360"/>
          </a:xfrm>
        </p:grpSpPr>
        <p:grpSp>
          <p:nvGrpSpPr>
            <p:cNvPr id="951" name=""/>
            <p:cNvGrpSpPr/>
            <p:nvPr/>
          </p:nvGrpSpPr>
          <p:grpSpPr>
            <a:xfrm>
              <a:off x="380880" y="2473920"/>
              <a:ext cx="1828440" cy="3285360"/>
              <a:chOff x="380880" y="2473920"/>
              <a:chExt cx="1828440" cy="328536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609480" y="2473920"/>
                <a:ext cx="1295640" cy="3285360"/>
                <a:chOff x="609480" y="2473920"/>
                <a:chExt cx="1295640" cy="328536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609480" y="3321000"/>
                  <a:ext cx="1295640" cy="2438280"/>
                </a:xfrm>
                <a:prstGeom prst="can">
                  <a:avLst>
                    <a:gd name="adj" fmla="val 25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954" name=""/>
                <p:cNvCxnSpPr/>
                <p:nvPr/>
              </p:nvCxnSpPr>
              <p:spPr>
                <a:xfrm flipH="1" rot="16200000">
                  <a:off x="1255680" y="2971800"/>
                  <a:ext cx="2520" cy="1244520"/>
                </a:xfrm>
                <a:prstGeom prst="curvedConnector5">
                  <a:avLst>
                    <a:gd name="adj1" fmla="val -51800000"/>
                    <a:gd name="adj2" fmla="val 50000"/>
                    <a:gd name="adj3" fmla="val -51800000"/>
                  </a:avLst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955" name=""/>
                <p:cNvSpPr/>
                <p:nvPr/>
              </p:nvSpPr>
              <p:spPr>
                <a:xfrm>
                  <a:off x="1139400" y="2558880"/>
                  <a:ext cx="176400" cy="2286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6" name=""/>
                <p:cNvGrpSpPr/>
                <p:nvPr/>
              </p:nvGrpSpPr>
              <p:grpSpPr>
                <a:xfrm>
                  <a:off x="1080360" y="2635200"/>
                  <a:ext cx="529560" cy="1600200"/>
                  <a:chOff x="1080360" y="2635200"/>
                  <a:chExt cx="529560" cy="160020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1433520" y="3930480"/>
                    <a:ext cx="1764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1080360" y="2635200"/>
                    <a:ext cx="1764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959" name=""/>
                  <p:cNvCxnSpPr>
                    <a:stCxn id="957" idx="0"/>
                    <a:endCxn id="958" idx="6"/>
                  </p:cNvCxnSpPr>
                  <p:nvPr/>
                </p:nvCxnSpPr>
                <p:spPr>
                  <a:xfrm flipV="1" rot="16200000">
                    <a:off x="817200" y="3225600"/>
                    <a:ext cx="1143720" cy="265680"/>
                  </a:xfrm>
                  <a:prstGeom prst="curvedConnector2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960" name=""/>
                <p:cNvSpPr/>
                <p:nvPr/>
              </p:nvSpPr>
              <p:spPr>
                <a:xfrm>
                  <a:off x="903600" y="3321000"/>
                  <a:ext cx="23544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198440" y="2635200"/>
                  <a:ext cx="23508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962" name=""/>
                <p:cNvCxnSpPr>
                  <a:stCxn id="960" idx="0"/>
                  <a:endCxn id="961" idx="2"/>
                </p:cNvCxnSpPr>
                <p:nvPr/>
              </p:nvCxnSpPr>
              <p:spPr>
                <a:xfrm flipH="1" flipV="1" rot="5400000">
                  <a:off x="824040" y="2946600"/>
                  <a:ext cx="572040" cy="177120"/>
                </a:xfrm>
                <a:prstGeom prst="curvedConnector2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  <p:grpSp>
            <p:nvGrpSpPr>
              <p:cNvPr id="963" name=""/>
              <p:cNvGrpSpPr/>
              <p:nvPr/>
            </p:nvGrpSpPr>
            <p:grpSpPr>
              <a:xfrm>
                <a:off x="380880" y="5046120"/>
                <a:ext cx="1828440" cy="713160"/>
                <a:chOff x="380880" y="5046120"/>
                <a:chExt cx="1828440" cy="7131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380880" y="5378400"/>
                  <a:ext cx="30492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904760" y="5378400"/>
                  <a:ext cx="30456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966" name=""/>
                <p:cNvCxnSpPr>
                  <a:stCxn id="964" idx="7"/>
                  <a:endCxn id="965" idx="1"/>
                </p:cNvCxnSpPr>
                <p:nvPr/>
              </p:nvCxnSpPr>
              <p:spPr>
                <a:xfrm flipH="1" rot="16200000">
                  <a:off x="1293840" y="4779720"/>
                  <a:ext cx="2520" cy="1308600"/>
                </a:xfrm>
                <a:prstGeom prst="curvedConnector5">
                  <a:avLst>
                    <a:gd name="adj1" fmla="val -17900000"/>
                    <a:gd name="adj2" fmla="val 50000"/>
                    <a:gd name="adj3" fmla="val -17900000"/>
                  </a:avLst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</p:grpSp>
        <p:sp>
          <p:nvSpPr>
            <p:cNvPr id="967" name=""/>
            <p:cNvSpPr/>
            <p:nvPr/>
          </p:nvSpPr>
          <p:spPr>
            <a:xfrm>
              <a:off x="990000" y="43322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921680" y="43434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609120" y="45608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92200" y="45608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2133720" y="3625920"/>
              <a:ext cx="0" cy="70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33720" y="4789440"/>
              <a:ext cx="0" cy="6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448080" y="144792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2535120" y="4662360"/>
            <a:ext cx="5846760" cy="1695240"/>
            <a:chOff x="2535120" y="4662360"/>
            <a:chExt cx="5846760" cy="1695240"/>
          </a:xfrm>
        </p:grpSpPr>
        <p:sp>
          <p:nvSpPr>
            <p:cNvPr id="976" name=""/>
            <p:cNvSpPr/>
            <p:nvPr/>
          </p:nvSpPr>
          <p:spPr>
            <a:xfrm>
              <a:off x="2535120" y="4662360"/>
              <a:ext cx="584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(3.14)(1.75in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5.25in)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½(   )(3.14)(1.75in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4354560" y="5334120"/>
              <a:ext cx="369720" cy="1023480"/>
              <a:chOff x="4354560" y="5334120"/>
              <a:chExt cx="369720" cy="1023480"/>
            </a:xfrm>
          </p:grpSpPr>
          <p:sp>
            <p:nvSpPr>
              <p:cNvPr id="978" name=""/>
              <p:cNvSpPr/>
              <p:nvPr/>
            </p:nvSpPr>
            <p:spPr>
              <a:xfrm>
                <a:off x="4372920" y="57150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372920" y="53341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54560" y="5577120"/>
                <a:ext cx="36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1" name=""/>
          <p:cNvGrpSpPr/>
          <p:nvPr/>
        </p:nvGrpSpPr>
        <p:grpSpPr>
          <a:xfrm>
            <a:off x="380880" y="2473920"/>
            <a:ext cx="2324880" cy="3285360"/>
            <a:chOff x="380880" y="2473920"/>
            <a:chExt cx="2324880" cy="3285360"/>
          </a:xfrm>
        </p:grpSpPr>
        <p:grpSp>
          <p:nvGrpSpPr>
            <p:cNvPr id="982" name=""/>
            <p:cNvGrpSpPr/>
            <p:nvPr/>
          </p:nvGrpSpPr>
          <p:grpSpPr>
            <a:xfrm>
              <a:off x="380880" y="2473920"/>
              <a:ext cx="1828440" cy="3285360"/>
              <a:chOff x="380880" y="2473920"/>
              <a:chExt cx="1828440" cy="328536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609480" y="2473920"/>
                <a:ext cx="1295640" cy="3285360"/>
                <a:chOff x="609480" y="2473920"/>
                <a:chExt cx="1295640" cy="328536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09480" y="3321000"/>
                  <a:ext cx="1295640" cy="2438280"/>
                </a:xfrm>
                <a:prstGeom prst="can">
                  <a:avLst>
                    <a:gd name="adj" fmla="val 25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985" name=""/>
                <p:cNvCxnSpPr/>
                <p:nvPr/>
              </p:nvCxnSpPr>
              <p:spPr>
                <a:xfrm flipH="1" rot="16200000">
                  <a:off x="1255680" y="2971800"/>
                  <a:ext cx="2520" cy="1244520"/>
                </a:xfrm>
                <a:prstGeom prst="curvedConnector5">
                  <a:avLst>
                    <a:gd name="adj1" fmla="val -51800000"/>
                    <a:gd name="adj2" fmla="val 50000"/>
                    <a:gd name="adj3" fmla="val -51800000"/>
                  </a:avLst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986" name=""/>
                <p:cNvSpPr/>
                <p:nvPr/>
              </p:nvSpPr>
              <p:spPr>
                <a:xfrm>
                  <a:off x="1139400" y="2558880"/>
                  <a:ext cx="176400" cy="2286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7" name=""/>
                <p:cNvGrpSpPr/>
                <p:nvPr/>
              </p:nvGrpSpPr>
              <p:grpSpPr>
                <a:xfrm>
                  <a:off x="1080360" y="2635200"/>
                  <a:ext cx="529560" cy="1600200"/>
                  <a:chOff x="1080360" y="2635200"/>
                  <a:chExt cx="529560" cy="160020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433520" y="3930480"/>
                    <a:ext cx="1764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080360" y="2635200"/>
                    <a:ext cx="1764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990" name=""/>
                  <p:cNvCxnSpPr>
                    <a:stCxn id="988" idx="0"/>
                    <a:endCxn id="989" idx="6"/>
                  </p:cNvCxnSpPr>
                  <p:nvPr/>
                </p:nvCxnSpPr>
                <p:spPr>
                  <a:xfrm flipV="1" rot="16200000">
                    <a:off x="817200" y="3225600"/>
                    <a:ext cx="1143720" cy="265680"/>
                  </a:xfrm>
                  <a:prstGeom prst="curvedConnector2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991" name=""/>
                <p:cNvSpPr/>
                <p:nvPr/>
              </p:nvSpPr>
              <p:spPr>
                <a:xfrm>
                  <a:off x="903600" y="3321000"/>
                  <a:ext cx="23544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1198440" y="2635200"/>
                  <a:ext cx="23508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993" name=""/>
                <p:cNvCxnSpPr>
                  <a:stCxn id="991" idx="0"/>
                  <a:endCxn id="992" idx="2"/>
                </p:cNvCxnSpPr>
                <p:nvPr/>
              </p:nvCxnSpPr>
              <p:spPr>
                <a:xfrm flipH="1" flipV="1" rot="5400000">
                  <a:off x="824040" y="2946600"/>
                  <a:ext cx="572040" cy="177120"/>
                </a:xfrm>
                <a:prstGeom prst="curvedConnector2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  <p:grpSp>
            <p:nvGrpSpPr>
              <p:cNvPr id="994" name=""/>
              <p:cNvGrpSpPr/>
              <p:nvPr/>
            </p:nvGrpSpPr>
            <p:grpSpPr>
              <a:xfrm>
                <a:off x="380880" y="5046120"/>
                <a:ext cx="1828440" cy="713160"/>
                <a:chOff x="380880" y="5046120"/>
                <a:chExt cx="1828440" cy="71316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380880" y="5378400"/>
                  <a:ext cx="30492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904760" y="5378400"/>
                  <a:ext cx="30456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997" name=""/>
                <p:cNvCxnSpPr>
                  <a:stCxn id="995" idx="7"/>
                  <a:endCxn id="996" idx="1"/>
                </p:cNvCxnSpPr>
                <p:nvPr/>
              </p:nvCxnSpPr>
              <p:spPr>
                <a:xfrm flipH="1" rot="16200000">
                  <a:off x="1293840" y="4779720"/>
                  <a:ext cx="2520" cy="1308600"/>
                </a:xfrm>
                <a:prstGeom prst="curvedConnector5">
                  <a:avLst>
                    <a:gd name="adj1" fmla="val -17900000"/>
                    <a:gd name="adj2" fmla="val 50000"/>
                    <a:gd name="adj3" fmla="val -17900000"/>
                  </a:avLst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</p:grpSp>
        <p:sp>
          <p:nvSpPr>
            <p:cNvPr id="998" name=""/>
            <p:cNvSpPr/>
            <p:nvPr/>
          </p:nvSpPr>
          <p:spPr>
            <a:xfrm>
              <a:off x="990000" y="43322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921680" y="43434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609120" y="45608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2200" y="45608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2133720" y="3625920"/>
              <a:ext cx="0" cy="70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33720" y="4789440"/>
              <a:ext cx="0" cy="6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2209680" y="2286000"/>
            <a:ext cx="649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tal volume = volume of cylinder + ½ volume of 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3209760" y="3701880"/>
            <a:ext cx="4496040" cy="1131480"/>
            <a:chOff x="3209760" y="3701880"/>
            <a:chExt cx="4496040" cy="1131480"/>
          </a:xfrm>
        </p:grpSpPr>
        <p:sp>
          <p:nvSpPr>
            <p:cNvPr id="1006" name=""/>
            <p:cNvSpPr/>
            <p:nvPr/>
          </p:nvSpPr>
          <p:spPr>
            <a:xfrm>
              <a:off x="3209760" y="370188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 + ½(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6192720" y="3809880"/>
              <a:ext cx="370080" cy="1023480"/>
              <a:chOff x="6192720" y="3809880"/>
              <a:chExt cx="370080" cy="1023480"/>
            </a:xfrm>
          </p:grpSpPr>
          <p:sp>
            <p:nvSpPr>
              <p:cNvPr id="1008" name=""/>
              <p:cNvSpPr/>
              <p:nvPr/>
            </p:nvSpPr>
            <p:spPr>
              <a:xfrm>
                <a:off x="6211080" y="41907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211080" y="3809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92720" y="4052880"/>
                <a:ext cx="370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514600" y="2847960"/>
            <a:ext cx="57340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50.49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(.5)(1.33)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(3.14)(1.75in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1676520" y="1430280"/>
            <a:ext cx="5846760" cy="1695240"/>
            <a:chOff x="1676520" y="1430280"/>
            <a:chExt cx="5846760" cy="1695240"/>
          </a:xfrm>
        </p:grpSpPr>
        <p:sp>
          <p:nvSpPr>
            <p:cNvPr id="1014" name=""/>
            <p:cNvSpPr/>
            <p:nvPr/>
          </p:nvSpPr>
          <p:spPr>
            <a:xfrm>
              <a:off x="1676520" y="1430280"/>
              <a:ext cx="584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(3.14)(1.75in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5.25in)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½(   )(3.14)(1.75in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3495960" y="2102040"/>
              <a:ext cx="369720" cy="1023480"/>
              <a:chOff x="3495960" y="2102040"/>
              <a:chExt cx="369720" cy="1023480"/>
            </a:xfrm>
          </p:grpSpPr>
          <p:sp>
            <p:nvSpPr>
              <p:cNvPr id="1016" name=""/>
              <p:cNvSpPr/>
              <p:nvPr/>
            </p:nvSpPr>
            <p:spPr>
              <a:xfrm>
                <a:off x="3514320" y="24829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514320" y="2102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495960" y="2345040"/>
                <a:ext cx="36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"/>
          <p:cNvSpPr/>
          <p:nvPr/>
        </p:nvSpPr>
        <p:spPr>
          <a:xfrm>
            <a:off x="2638440" y="4159080"/>
            <a:ext cx="5486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50.49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11.19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706920" y="49212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61.68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09720" y="5683320"/>
            <a:ext cx="3543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crea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½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can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118560" y="5683320"/>
            <a:ext cx="190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0.84i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380880" y="2473920"/>
            <a:ext cx="2324880" cy="3285360"/>
            <a:chOff x="380880" y="2473920"/>
            <a:chExt cx="2324880" cy="3285360"/>
          </a:xfrm>
        </p:grpSpPr>
        <p:grpSp>
          <p:nvGrpSpPr>
            <p:cNvPr id="1024" name=""/>
            <p:cNvGrpSpPr/>
            <p:nvPr/>
          </p:nvGrpSpPr>
          <p:grpSpPr>
            <a:xfrm>
              <a:off x="380880" y="2473920"/>
              <a:ext cx="1828440" cy="3285360"/>
              <a:chOff x="380880" y="2473920"/>
              <a:chExt cx="1828440" cy="3285360"/>
            </a:xfrm>
          </p:grpSpPr>
          <p:grpSp>
            <p:nvGrpSpPr>
              <p:cNvPr id="1025" name=""/>
              <p:cNvGrpSpPr/>
              <p:nvPr/>
            </p:nvGrpSpPr>
            <p:grpSpPr>
              <a:xfrm>
                <a:off x="609480" y="2473920"/>
                <a:ext cx="1295640" cy="3285360"/>
                <a:chOff x="609480" y="2473920"/>
                <a:chExt cx="1295640" cy="328536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609480" y="3321000"/>
                  <a:ext cx="1295640" cy="2438280"/>
                </a:xfrm>
                <a:prstGeom prst="can">
                  <a:avLst>
                    <a:gd name="adj" fmla="val 25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27" name=""/>
                <p:cNvCxnSpPr/>
                <p:nvPr/>
              </p:nvCxnSpPr>
              <p:spPr>
                <a:xfrm flipH="1" rot="16200000">
                  <a:off x="1255680" y="2971800"/>
                  <a:ext cx="2520" cy="1244520"/>
                </a:xfrm>
                <a:prstGeom prst="curvedConnector5">
                  <a:avLst>
                    <a:gd name="adj1" fmla="val -51800000"/>
                    <a:gd name="adj2" fmla="val 50000"/>
                    <a:gd name="adj3" fmla="val -51800000"/>
                  </a:avLst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28" name=""/>
                <p:cNvSpPr/>
                <p:nvPr/>
              </p:nvSpPr>
              <p:spPr>
                <a:xfrm>
                  <a:off x="1139400" y="2558880"/>
                  <a:ext cx="176400" cy="2286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80360" y="2635200"/>
                  <a:ext cx="529560" cy="1600200"/>
                  <a:chOff x="1080360" y="2635200"/>
                  <a:chExt cx="529560" cy="160020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>
                    <a:off x="1433520" y="3930480"/>
                    <a:ext cx="1764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1080360" y="2635200"/>
                    <a:ext cx="1764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032" name=""/>
                  <p:cNvCxnSpPr>
                    <a:stCxn id="1030" idx="0"/>
                    <a:endCxn id="1031" idx="6"/>
                  </p:cNvCxnSpPr>
                  <p:nvPr/>
                </p:nvCxnSpPr>
                <p:spPr>
                  <a:xfrm flipV="1" rot="16200000">
                    <a:off x="817200" y="3225600"/>
                    <a:ext cx="1143720" cy="265680"/>
                  </a:xfrm>
                  <a:prstGeom prst="curvedConnector2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1033" name=""/>
                <p:cNvSpPr/>
                <p:nvPr/>
              </p:nvSpPr>
              <p:spPr>
                <a:xfrm>
                  <a:off x="903600" y="3321000"/>
                  <a:ext cx="23544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1198440" y="2635200"/>
                  <a:ext cx="23508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35" name=""/>
                <p:cNvCxnSpPr>
                  <a:stCxn id="1033" idx="0"/>
                  <a:endCxn id="1034" idx="2"/>
                </p:cNvCxnSpPr>
                <p:nvPr/>
              </p:nvCxnSpPr>
              <p:spPr>
                <a:xfrm flipH="1" flipV="1" rot="5400000">
                  <a:off x="824040" y="2946600"/>
                  <a:ext cx="572040" cy="177120"/>
                </a:xfrm>
                <a:prstGeom prst="curvedConnector2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  <p:grpSp>
            <p:nvGrpSpPr>
              <p:cNvPr id="1036" name=""/>
              <p:cNvGrpSpPr/>
              <p:nvPr/>
            </p:nvGrpSpPr>
            <p:grpSpPr>
              <a:xfrm>
                <a:off x="380880" y="5046120"/>
                <a:ext cx="1828440" cy="713160"/>
                <a:chOff x="380880" y="5046120"/>
                <a:chExt cx="1828440" cy="71316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380880" y="5378400"/>
                  <a:ext cx="30492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1904760" y="5378400"/>
                  <a:ext cx="30456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39" name=""/>
                <p:cNvCxnSpPr>
                  <a:stCxn id="1037" idx="7"/>
                  <a:endCxn id="1038" idx="1"/>
                </p:cNvCxnSpPr>
                <p:nvPr/>
              </p:nvCxnSpPr>
              <p:spPr>
                <a:xfrm flipH="1" rot="16200000">
                  <a:off x="1293840" y="4779720"/>
                  <a:ext cx="2520" cy="1308600"/>
                </a:xfrm>
                <a:prstGeom prst="curvedConnector5">
                  <a:avLst>
                    <a:gd name="adj1" fmla="val -17900000"/>
                    <a:gd name="adj2" fmla="val 50000"/>
                    <a:gd name="adj3" fmla="val -17900000"/>
                  </a:avLst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</p:grpSp>
        <p:sp>
          <p:nvSpPr>
            <p:cNvPr id="1040" name=""/>
            <p:cNvSpPr/>
            <p:nvPr/>
          </p:nvSpPr>
          <p:spPr>
            <a:xfrm>
              <a:off x="990000" y="43322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921680" y="43434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609120" y="45608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492200" y="45608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133720" y="3625920"/>
              <a:ext cx="0" cy="70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33720" y="4789440"/>
              <a:ext cx="0" cy="6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09680" y="3168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(3)(2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5) + (½)(3)(2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705040" y="13716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ck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2362320" y="2254320"/>
            <a:ext cx="4495680" cy="1131480"/>
            <a:chOff x="2362320" y="2254320"/>
            <a:chExt cx="4495680" cy="1131480"/>
          </a:xfrm>
        </p:grpSpPr>
        <p:sp>
          <p:nvSpPr>
            <p:cNvPr id="1050" name=""/>
            <p:cNvSpPr/>
            <p:nvPr/>
          </p:nvSpPr>
          <p:spPr>
            <a:xfrm>
              <a:off x="2362320" y="2254320"/>
              <a:ext cx="44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 + ½(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5344920" y="2362320"/>
              <a:ext cx="369720" cy="1023480"/>
              <a:chOff x="5344920" y="2362320"/>
              <a:chExt cx="369720" cy="1023480"/>
            </a:xfrm>
          </p:grpSpPr>
          <p:sp>
            <p:nvSpPr>
              <p:cNvPr id="1052" name=""/>
              <p:cNvSpPr/>
              <p:nvPr/>
            </p:nvSpPr>
            <p:spPr>
              <a:xfrm>
                <a:off x="5363280" y="2743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3280" y="23623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44920" y="2605320"/>
                <a:ext cx="36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5" name=""/>
          <p:cNvSpPr/>
          <p:nvPr/>
        </p:nvSpPr>
        <p:spPr>
          <a:xfrm>
            <a:off x="2666880" y="41911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3)(4)(5) + (½)(3)(8)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971800" y="52261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60 +12)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832720" y="522432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2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380880" y="2473920"/>
            <a:ext cx="2324880" cy="3285360"/>
            <a:chOff x="380880" y="2473920"/>
            <a:chExt cx="2324880" cy="3285360"/>
          </a:xfrm>
        </p:grpSpPr>
        <p:grpSp>
          <p:nvGrpSpPr>
            <p:cNvPr id="1059" name=""/>
            <p:cNvGrpSpPr/>
            <p:nvPr/>
          </p:nvGrpSpPr>
          <p:grpSpPr>
            <a:xfrm>
              <a:off x="380880" y="2473920"/>
              <a:ext cx="1828440" cy="3285360"/>
              <a:chOff x="380880" y="2473920"/>
              <a:chExt cx="1828440" cy="32853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609480" y="2473920"/>
                <a:ext cx="1295640" cy="3285360"/>
                <a:chOff x="609480" y="2473920"/>
                <a:chExt cx="1295640" cy="32853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609480" y="3321000"/>
                  <a:ext cx="1295640" cy="2438280"/>
                </a:xfrm>
                <a:prstGeom prst="can">
                  <a:avLst>
                    <a:gd name="adj" fmla="val 25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62" name=""/>
                <p:cNvCxnSpPr/>
                <p:nvPr/>
              </p:nvCxnSpPr>
              <p:spPr>
                <a:xfrm flipH="1" rot="16200000">
                  <a:off x="1255680" y="2971800"/>
                  <a:ext cx="2520" cy="1244520"/>
                </a:xfrm>
                <a:prstGeom prst="curvedConnector5">
                  <a:avLst>
                    <a:gd name="adj1" fmla="val -51800000"/>
                    <a:gd name="adj2" fmla="val 50000"/>
                    <a:gd name="adj3" fmla="val -51800000"/>
                  </a:avLst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63" name=""/>
                <p:cNvSpPr/>
                <p:nvPr/>
              </p:nvSpPr>
              <p:spPr>
                <a:xfrm>
                  <a:off x="1139400" y="2558880"/>
                  <a:ext cx="176400" cy="2286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4" name=""/>
                <p:cNvGrpSpPr/>
                <p:nvPr/>
              </p:nvGrpSpPr>
              <p:grpSpPr>
                <a:xfrm>
                  <a:off x="1080360" y="2635200"/>
                  <a:ext cx="529560" cy="1600200"/>
                  <a:chOff x="1080360" y="2635200"/>
                  <a:chExt cx="529560" cy="160020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>
                    <a:off x="1433520" y="3930480"/>
                    <a:ext cx="1764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1080360" y="2635200"/>
                    <a:ext cx="1764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067" name=""/>
                  <p:cNvCxnSpPr>
                    <a:stCxn id="1065" idx="0"/>
                    <a:endCxn id="1066" idx="6"/>
                  </p:cNvCxnSpPr>
                  <p:nvPr/>
                </p:nvCxnSpPr>
                <p:spPr>
                  <a:xfrm flipV="1" rot="16200000">
                    <a:off x="817200" y="3225600"/>
                    <a:ext cx="1143720" cy="265680"/>
                  </a:xfrm>
                  <a:prstGeom prst="curvedConnector2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1068" name=""/>
                <p:cNvSpPr/>
                <p:nvPr/>
              </p:nvSpPr>
              <p:spPr>
                <a:xfrm>
                  <a:off x="903600" y="3321000"/>
                  <a:ext cx="23544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198440" y="2635200"/>
                  <a:ext cx="23508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70" name=""/>
                <p:cNvCxnSpPr>
                  <a:stCxn id="1068" idx="0"/>
                  <a:endCxn id="1069" idx="2"/>
                </p:cNvCxnSpPr>
                <p:nvPr/>
              </p:nvCxnSpPr>
              <p:spPr>
                <a:xfrm flipH="1" flipV="1" rot="5400000">
                  <a:off x="824040" y="2946600"/>
                  <a:ext cx="572040" cy="177120"/>
                </a:xfrm>
                <a:prstGeom prst="curvedConnector2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  <p:grpSp>
            <p:nvGrpSpPr>
              <p:cNvPr id="1071" name=""/>
              <p:cNvGrpSpPr/>
              <p:nvPr/>
            </p:nvGrpSpPr>
            <p:grpSpPr>
              <a:xfrm>
                <a:off x="380880" y="5046120"/>
                <a:ext cx="1828440" cy="713160"/>
                <a:chOff x="380880" y="5046120"/>
                <a:chExt cx="1828440" cy="71316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380880" y="5378400"/>
                  <a:ext cx="30492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904760" y="5378400"/>
                  <a:ext cx="30456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74" name=""/>
                <p:cNvCxnSpPr>
                  <a:stCxn id="1072" idx="7"/>
                  <a:endCxn id="1073" idx="1"/>
                </p:cNvCxnSpPr>
                <p:nvPr/>
              </p:nvCxnSpPr>
              <p:spPr>
                <a:xfrm flipH="1" rot="16200000">
                  <a:off x="1293840" y="4779720"/>
                  <a:ext cx="2520" cy="1308600"/>
                </a:xfrm>
                <a:prstGeom prst="curvedConnector5">
                  <a:avLst>
                    <a:gd name="adj1" fmla="val -17900000"/>
                    <a:gd name="adj2" fmla="val 50000"/>
                    <a:gd name="adj3" fmla="val -17900000"/>
                  </a:avLst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</p:grpSp>
        <p:sp>
          <p:nvSpPr>
            <p:cNvPr id="1075" name=""/>
            <p:cNvSpPr/>
            <p:nvPr/>
          </p:nvSpPr>
          <p:spPr>
            <a:xfrm>
              <a:off x="990000" y="43322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1680" y="43434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09120" y="45608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92200" y="45608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133720" y="3625920"/>
              <a:ext cx="0" cy="70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33720" y="4789440"/>
              <a:ext cx="0" cy="6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044800" y="2254320"/>
            <a:ext cx="4000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liqui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½(72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886000" y="2254320"/>
            <a:ext cx="125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6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259000" y="327672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tual answer = 30.84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97560" y="4311720"/>
            <a:ext cx="98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380880" y="2473920"/>
            <a:ext cx="2324880" cy="3285360"/>
            <a:chOff x="380880" y="2473920"/>
            <a:chExt cx="2324880" cy="3285360"/>
          </a:xfrm>
        </p:grpSpPr>
        <p:grpSp>
          <p:nvGrpSpPr>
            <p:cNvPr id="1087" name=""/>
            <p:cNvGrpSpPr/>
            <p:nvPr/>
          </p:nvGrpSpPr>
          <p:grpSpPr>
            <a:xfrm>
              <a:off x="380880" y="2473920"/>
              <a:ext cx="1828440" cy="3285360"/>
              <a:chOff x="380880" y="2473920"/>
              <a:chExt cx="1828440" cy="328536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609480" y="2473920"/>
                <a:ext cx="1295640" cy="3285360"/>
                <a:chOff x="609480" y="2473920"/>
                <a:chExt cx="1295640" cy="32853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609480" y="3321000"/>
                  <a:ext cx="1295640" cy="2438280"/>
                </a:xfrm>
                <a:prstGeom prst="can">
                  <a:avLst>
                    <a:gd name="adj" fmla="val 25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90" name=""/>
                <p:cNvCxnSpPr/>
                <p:nvPr/>
              </p:nvCxnSpPr>
              <p:spPr>
                <a:xfrm flipH="1" rot="16200000">
                  <a:off x="1255680" y="2971800"/>
                  <a:ext cx="2520" cy="1244520"/>
                </a:xfrm>
                <a:prstGeom prst="curvedConnector5">
                  <a:avLst>
                    <a:gd name="adj1" fmla="val -51800000"/>
                    <a:gd name="adj2" fmla="val 50000"/>
                    <a:gd name="adj3" fmla="val -51800000"/>
                  </a:avLst>
                </a:prstGeom>
                <a:ln w="381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1091" name=""/>
                <p:cNvSpPr/>
                <p:nvPr/>
              </p:nvSpPr>
              <p:spPr>
                <a:xfrm>
                  <a:off x="1139400" y="2558880"/>
                  <a:ext cx="176400" cy="2286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2" name=""/>
                <p:cNvGrpSpPr/>
                <p:nvPr/>
              </p:nvGrpSpPr>
              <p:grpSpPr>
                <a:xfrm>
                  <a:off x="1080360" y="2635200"/>
                  <a:ext cx="529560" cy="1600200"/>
                  <a:chOff x="1080360" y="2635200"/>
                  <a:chExt cx="529560" cy="160020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>
                    <a:off x="1433520" y="3930480"/>
                    <a:ext cx="1764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1080360" y="2635200"/>
                    <a:ext cx="176400" cy="304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095" name=""/>
                  <p:cNvCxnSpPr>
                    <a:stCxn id="1093" idx="0"/>
                    <a:endCxn id="1094" idx="6"/>
                  </p:cNvCxnSpPr>
                  <p:nvPr/>
                </p:nvCxnSpPr>
                <p:spPr>
                  <a:xfrm flipV="1" rot="16200000">
                    <a:off x="817200" y="3225600"/>
                    <a:ext cx="1143720" cy="265680"/>
                  </a:xfrm>
                  <a:prstGeom prst="curvedConnector2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1096" name=""/>
                <p:cNvSpPr/>
                <p:nvPr/>
              </p:nvSpPr>
              <p:spPr>
                <a:xfrm>
                  <a:off x="903600" y="3321000"/>
                  <a:ext cx="23544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1198440" y="2635200"/>
                  <a:ext cx="235080" cy="228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98" name=""/>
                <p:cNvCxnSpPr>
                  <a:stCxn id="1096" idx="0"/>
                  <a:endCxn id="1097" idx="2"/>
                </p:cNvCxnSpPr>
                <p:nvPr/>
              </p:nvCxnSpPr>
              <p:spPr>
                <a:xfrm flipH="1" flipV="1" rot="5400000">
                  <a:off x="824040" y="2946600"/>
                  <a:ext cx="572040" cy="177120"/>
                </a:xfrm>
                <a:prstGeom prst="curvedConnector2">
                  <a:avLst/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  <p:grpSp>
            <p:nvGrpSpPr>
              <p:cNvPr id="1099" name=""/>
              <p:cNvGrpSpPr/>
              <p:nvPr/>
            </p:nvGrpSpPr>
            <p:grpSpPr>
              <a:xfrm>
                <a:off x="380880" y="5046120"/>
                <a:ext cx="1828440" cy="713160"/>
                <a:chOff x="380880" y="5046120"/>
                <a:chExt cx="1828440" cy="71316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380880" y="5378400"/>
                  <a:ext cx="30492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1904760" y="5378400"/>
                  <a:ext cx="30456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102" name=""/>
                <p:cNvCxnSpPr>
                  <a:stCxn id="1100" idx="7"/>
                  <a:endCxn id="1101" idx="1"/>
                </p:cNvCxnSpPr>
                <p:nvPr/>
              </p:nvCxnSpPr>
              <p:spPr>
                <a:xfrm flipH="1" rot="16200000">
                  <a:off x="1293840" y="4779720"/>
                  <a:ext cx="2520" cy="1308600"/>
                </a:xfrm>
                <a:prstGeom prst="curvedConnector5">
                  <a:avLst>
                    <a:gd name="adj1" fmla="val -17900000"/>
                    <a:gd name="adj2" fmla="val 50000"/>
                    <a:gd name="adj3" fmla="val -17900000"/>
                  </a:avLst>
                </a:prstGeom>
                <a:ln w="38160">
                  <a:solidFill>
                    <a:srgbClr val="000000"/>
                  </a:solidFill>
                  <a:prstDash val="dash"/>
                  <a:miter/>
                </a:ln>
              </p:spPr>
            </p:cxnSp>
          </p:grpSp>
        </p:grpSp>
        <p:sp>
          <p:nvSpPr>
            <p:cNvPr id="1103" name=""/>
            <p:cNvSpPr/>
            <p:nvPr/>
          </p:nvSpPr>
          <p:spPr>
            <a:xfrm>
              <a:off x="990000" y="43322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21680" y="43434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609120" y="45608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92200" y="4560840"/>
              <a:ext cx="41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133720" y="3625920"/>
              <a:ext cx="0" cy="70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133720" y="4789440"/>
              <a:ext cx="0" cy="62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2705040" y="13716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ck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5257800" cy="27954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11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1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volume of a prism (box) given the height, length, and 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86200" y="700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5257800" cy="27590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17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7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volume of a pyramid given the height, length, and 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86200" y="700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5257800" cy="28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23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23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volume of a cylinder given the height and radius of th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886200" y="700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5257800" cy="32223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29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29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volume of a cone given the height and 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86200" y="700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228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697120" y="261792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 the volume of a sphere given the rad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78040" y="1447920"/>
            <a:ext cx="780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525780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359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360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volume of a sphere given the 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886200" y="7002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828800" y="2209680"/>
            <a:ext cx="57880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Volume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 </a:t>
            </a: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ormulas  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1706760" cy="1825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705720" y="1447920"/>
            <a:ext cx="1773000" cy="18255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1219320" y="4572000"/>
            <a:ext cx="1658880" cy="1827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477120" y="4800600"/>
            <a:ext cx="1749240" cy="1827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733920" y="700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838080" y="2819520"/>
            <a:ext cx="2057400" cy="2743200"/>
            <a:chOff x="838080" y="2819520"/>
            <a:chExt cx="2057400" cy="2743200"/>
          </a:xfrm>
        </p:grpSpPr>
        <p:sp>
          <p:nvSpPr>
            <p:cNvPr id="295" name=""/>
            <p:cNvSpPr/>
            <p:nvPr/>
          </p:nvSpPr>
          <p:spPr>
            <a:xfrm flipV="1">
              <a:off x="838080" y="502920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71600" y="5029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71600" y="281952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429000" y="137160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Volu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21016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ace taken up by objec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bic inches (i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572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bic centimeters (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91040" y="5257800"/>
            <a:ext cx="221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 = lw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838080" y="2819520"/>
            <a:ext cx="6172200" cy="2743200"/>
            <a:chOff x="838080" y="2819520"/>
            <a:chExt cx="6172200" cy="2743200"/>
          </a:xfrm>
        </p:grpSpPr>
        <p:sp>
          <p:nvSpPr>
            <p:cNvPr id="304" name=""/>
            <p:cNvSpPr/>
            <p:nvPr/>
          </p:nvSpPr>
          <p:spPr>
            <a:xfrm>
              <a:off x="3429000" y="304812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ubic feet (ft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2819520"/>
              <a:ext cx="2057400" cy="274320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838080" y="2819520"/>
            <a:ext cx="2438640" cy="3278520"/>
            <a:chOff x="838080" y="2819520"/>
            <a:chExt cx="2438640" cy="3278520"/>
          </a:xfrm>
        </p:grpSpPr>
        <p:sp>
          <p:nvSpPr>
            <p:cNvPr id="307" name=""/>
            <p:cNvSpPr/>
            <p:nvPr/>
          </p:nvSpPr>
          <p:spPr>
            <a:xfrm flipV="1">
              <a:off x="2438280" y="5105160"/>
              <a:ext cx="5335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7920" y="551664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68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95480" y="37339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086280" y="28195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86280" y="4267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52480" y="580536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38080" y="580536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3920" y="700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657600" y="2254320"/>
            <a:ext cx="277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 = l w 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42670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24280" y="432756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ea of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51055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 h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90720" y="13716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Volume of a prism (box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838080" y="2819520"/>
            <a:ext cx="2057400" cy="2743200"/>
            <a:chOff x="838080" y="2819520"/>
            <a:chExt cx="2057400" cy="2743200"/>
          </a:xfrm>
        </p:grpSpPr>
        <p:sp>
          <p:nvSpPr>
            <p:cNvPr id="322" name=""/>
            <p:cNvSpPr/>
            <p:nvPr/>
          </p:nvSpPr>
          <p:spPr>
            <a:xfrm flipV="1">
              <a:off x="838080" y="502920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71600" y="5029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71600" y="281952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38080" y="2819520"/>
            <a:ext cx="2057400" cy="27432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2819520"/>
            <a:ext cx="2438640" cy="3278520"/>
            <a:chOff x="838080" y="2819520"/>
            <a:chExt cx="2438640" cy="3278520"/>
          </a:xfrm>
        </p:grpSpPr>
        <p:sp>
          <p:nvSpPr>
            <p:cNvPr id="327" name=""/>
            <p:cNvSpPr/>
            <p:nvPr/>
          </p:nvSpPr>
          <p:spPr>
            <a:xfrm flipV="1">
              <a:off x="2438280" y="5105160"/>
              <a:ext cx="5335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47920" y="551664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5181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95480" y="37339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086280" y="28195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086280" y="4267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2480" y="580536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38080" y="580536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7720" y="2819160"/>
            <a:ext cx="5029560" cy="2776320"/>
            <a:chOff x="837720" y="2819160"/>
            <a:chExt cx="5029560" cy="2776320"/>
          </a:xfrm>
        </p:grpSpPr>
        <p:sp>
          <p:nvSpPr>
            <p:cNvPr id="336" name=""/>
            <p:cNvSpPr/>
            <p:nvPr/>
          </p:nvSpPr>
          <p:spPr>
            <a:xfrm>
              <a:off x="4451400" y="3016080"/>
              <a:ext cx="141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 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6200000">
              <a:off x="5128200" y="2642040"/>
              <a:ext cx="228600" cy="582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120 h 582480"/>
                <a:gd name="textAreaBottom" fmla="*/ 567360 h 5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837720" y="4952880"/>
              <a:ext cx="1916280" cy="642600"/>
              <a:chOff x="837720" y="4952880"/>
              <a:chExt cx="1916280" cy="642600"/>
            </a:xfrm>
          </p:grpSpPr>
          <p:sp>
            <p:nvSpPr>
              <p:cNvPr id="339" name=""/>
              <p:cNvSpPr/>
              <p:nvPr/>
            </p:nvSpPr>
            <p:spPr>
              <a:xfrm>
                <a:off x="1443600" y="4952880"/>
                <a:ext cx="473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837720" y="5029200"/>
                <a:ext cx="58284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1004400" y="5029200"/>
                <a:ext cx="58320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1171080" y="5029200"/>
                <a:ext cx="58320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1670760" y="5029200"/>
                <a:ext cx="58320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1837440" y="5029200"/>
                <a:ext cx="58284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2004120" y="5029200"/>
                <a:ext cx="58320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2170800" y="5029200"/>
                <a:ext cx="58320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78640" y="3048120"/>
            <a:ext cx="5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600200" y="144792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Volume of a Pyram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10160" y="3048120"/>
            <a:ext cx="2514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bo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lw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962520" y="3886200"/>
            <a:ext cx="3809880" cy="1068840"/>
            <a:chOff x="3962520" y="3886200"/>
            <a:chExt cx="3809880" cy="1068840"/>
          </a:xfrm>
        </p:grpSpPr>
        <p:sp>
          <p:nvSpPr>
            <p:cNvPr id="352" name=""/>
            <p:cNvSpPr/>
            <p:nvPr/>
          </p:nvSpPr>
          <p:spPr>
            <a:xfrm>
              <a:off x="3962520" y="4068720"/>
              <a:ext cx="3809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Comic Sans MS"/>
                </a:rPr>
                <a:t>pyramid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=     lw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6248520" y="3886200"/>
              <a:ext cx="457200" cy="1068840"/>
              <a:chOff x="6248520" y="3886200"/>
              <a:chExt cx="457200" cy="1068840"/>
            </a:xfrm>
          </p:grpSpPr>
          <p:sp>
            <p:nvSpPr>
              <p:cNvPr id="354" name=""/>
              <p:cNvSpPr/>
              <p:nvPr/>
            </p:nvSpPr>
            <p:spPr>
              <a:xfrm>
                <a:off x="6269400" y="3886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270120" y="4373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48520" y="4419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4533840" y="5029200"/>
            <a:ext cx="2667240" cy="1068840"/>
            <a:chOff x="4533840" y="5029200"/>
            <a:chExt cx="2667240" cy="1068840"/>
          </a:xfrm>
        </p:grpSpPr>
        <p:sp>
          <p:nvSpPr>
            <p:cNvPr id="358" name=""/>
            <p:cNvSpPr/>
            <p:nvPr/>
          </p:nvSpPr>
          <p:spPr>
            <a:xfrm>
              <a:off x="4533840" y="5211360"/>
              <a:ext cx="26672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     A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Comic Sans MS"/>
                </a:rPr>
                <a:t>base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067360" y="5029200"/>
              <a:ext cx="457200" cy="1068840"/>
              <a:chOff x="5067360" y="5029200"/>
              <a:chExt cx="457200" cy="1068840"/>
            </a:xfrm>
          </p:grpSpPr>
          <p:sp>
            <p:nvSpPr>
              <p:cNvPr id="360" name=""/>
              <p:cNvSpPr/>
              <p:nvPr/>
            </p:nvSpPr>
            <p:spPr>
              <a:xfrm>
                <a:off x="5088240" y="5029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88960" y="5516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67360" y="5562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1066320" y="2851200"/>
            <a:ext cx="1981440" cy="2179800"/>
            <a:chOff x="1066320" y="2851200"/>
            <a:chExt cx="1981440" cy="2179800"/>
          </a:xfrm>
        </p:grpSpPr>
        <p:grpSp>
          <p:nvGrpSpPr>
            <p:cNvPr id="364" name=""/>
            <p:cNvGrpSpPr/>
            <p:nvPr/>
          </p:nvGrpSpPr>
          <p:grpSpPr>
            <a:xfrm>
              <a:off x="1066320" y="2851200"/>
              <a:ext cx="1981440" cy="1905120"/>
              <a:chOff x="1066320" y="2851200"/>
              <a:chExt cx="1981440" cy="1905120"/>
            </a:xfrm>
          </p:grpSpPr>
          <p:sp>
            <p:nvSpPr>
              <p:cNvPr id="365" name=""/>
              <p:cNvSpPr/>
              <p:nvPr/>
            </p:nvSpPr>
            <p:spPr>
              <a:xfrm flipV="1">
                <a:off x="1066680" y="2851200"/>
                <a:ext cx="106668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 flipV="1">
                <a:off x="2133360" y="2851200"/>
                <a:ext cx="91440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057040" y="2851200"/>
                <a:ext cx="7632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057040" y="2851200"/>
                <a:ext cx="7632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1066320" y="3689280"/>
                <a:ext cx="9903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57040" y="3689280"/>
                <a:ext cx="99072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066680" y="4222800"/>
                <a:ext cx="99036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2057040" y="4222800"/>
                <a:ext cx="99072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2490120" y="4343400"/>
              <a:ext cx="5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94920" y="4449600"/>
              <a:ext cx="2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7000" y="2133360"/>
            <a:ext cx="2637000" cy="3963240"/>
            <a:chOff x="837000" y="2133360"/>
            <a:chExt cx="2637000" cy="3963240"/>
          </a:xfrm>
        </p:grpSpPr>
        <p:sp>
          <p:nvSpPr>
            <p:cNvPr id="376" name=""/>
            <p:cNvSpPr/>
            <p:nvPr/>
          </p:nvSpPr>
          <p:spPr>
            <a:xfrm flipV="1">
              <a:off x="2057400" y="2666880"/>
              <a:ext cx="990720" cy="457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837000" y="2133360"/>
              <a:ext cx="2637000" cy="3963240"/>
              <a:chOff x="837000" y="2133360"/>
              <a:chExt cx="2637000" cy="3963240"/>
            </a:xfrm>
          </p:grpSpPr>
          <p:sp>
            <p:nvSpPr>
              <p:cNvPr id="378" name=""/>
              <p:cNvSpPr/>
              <p:nvPr/>
            </p:nvSpPr>
            <p:spPr>
              <a:xfrm>
                <a:off x="1295280" y="4905360"/>
                <a:ext cx="2057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Box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 over pyrami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066680" y="2133360"/>
                <a:ext cx="2407320" cy="2590560"/>
                <a:chOff x="1066680" y="2133360"/>
                <a:chExt cx="2407320" cy="2590560"/>
              </a:xfrm>
            </p:grpSpPr>
            <p:sp>
              <p:nvSpPr>
                <p:cNvPr id="380" name=""/>
                <p:cNvSpPr/>
                <p:nvPr/>
              </p:nvSpPr>
              <p:spPr>
                <a:xfrm flipV="1">
                  <a:off x="3048120" y="2666520"/>
                  <a:ext cx="0" cy="16002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1066680" y="2590560"/>
                  <a:ext cx="0" cy="16002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2057400" y="3123720"/>
                  <a:ext cx="0" cy="16002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>
                  <a:off x="1066680" y="2590560"/>
                  <a:ext cx="990720" cy="5331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1066680" y="2133720"/>
                  <a:ext cx="990720" cy="4572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flipV="1">
                  <a:off x="2057400" y="2133360"/>
                  <a:ext cx="990720" cy="5331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41640" y="3124080"/>
                  <a:ext cx="432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1371600" y="5105520"/>
                <a:ext cx="1905120" cy="914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66680" y="3352680"/>
                <a:ext cx="228600" cy="3049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9" name=""/>
              <p:cNvCxnSpPr>
                <a:stCxn id="387" idx="2"/>
                <a:endCxn id="388" idx="2"/>
              </p:cNvCxnSpPr>
              <p:nvPr/>
            </p:nvCxnSpPr>
            <p:spPr>
              <a:xfrm rot="10800000">
                <a:off x="1065960" y="3504600"/>
                <a:ext cx="305640" cy="2057760"/>
              </a:xfrm>
              <a:prstGeom prst="curvedConnector5">
                <a:avLst>
                  <a:gd name="adj1" fmla="val 175000"/>
                  <a:gd name="adj2" fmla="val 49991"/>
                  <a:gd name="adj3" fmla="val 175000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90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71720" y="3733920"/>
            <a:ext cx="1976400" cy="10350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219320" y="2590920"/>
            <a:ext cx="2286000" cy="342900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25146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324480" y="2971800"/>
            <a:ext cx="1600200" cy="1099800"/>
            <a:chOff x="6324480" y="2971800"/>
            <a:chExt cx="1600200" cy="1099800"/>
          </a:xfrm>
        </p:grpSpPr>
        <p:sp>
          <p:nvSpPr>
            <p:cNvPr id="395" name=""/>
            <p:cNvSpPr/>
            <p:nvPr/>
          </p:nvSpPr>
          <p:spPr>
            <a:xfrm>
              <a:off x="6896160" y="2971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24480" y="34290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eigh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33412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 = 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105520" y="4799880"/>
            <a:ext cx="2247480" cy="871920"/>
            <a:chOff x="5105520" y="4799880"/>
            <a:chExt cx="2247480" cy="871920"/>
          </a:xfrm>
        </p:grpSpPr>
        <p:sp>
          <p:nvSpPr>
            <p:cNvPr id="399" name=""/>
            <p:cNvSpPr/>
            <p:nvPr/>
          </p:nvSpPr>
          <p:spPr>
            <a:xfrm>
              <a:off x="5105520" y="5029200"/>
              <a:ext cx="22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h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5400000">
              <a:off x="6368040" y="4536000"/>
              <a:ext cx="304920" cy="8319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1600 h 831960"/>
                <a:gd name="textAreaBottom" fmla="*/ 810360 h 83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219320" y="2514600"/>
            <a:ext cx="7391160" cy="3505320"/>
            <a:chOff x="1219320" y="2514600"/>
            <a:chExt cx="7391160" cy="3505320"/>
          </a:xfrm>
        </p:grpSpPr>
        <p:sp>
          <p:nvSpPr>
            <p:cNvPr id="402" name=""/>
            <p:cNvSpPr/>
            <p:nvPr/>
          </p:nvSpPr>
          <p:spPr>
            <a:xfrm>
              <a:off x="5334120" y="251460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area of b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219320" y="5257800"/>
              <a:ext cx="2286000" cy="762120"/>
              <a:chOff x="1219320" y="5257800"/>
              <a:chExt cx="2286000" cy="762120"/>
            </a:xfrm>
          </p:grpSpPr>
          <p:sp>
            <p:nvSpPr>
              <p:cNvPr id="404" name=""/>
              <p:cNvSpPr/>
              <p:nvPr/>
            </p:nvSpPr>
            <p:spPr>
              <a:xfrm>
                <a:off x="1219320" y="5257800"/>
                <a:ext cx="2286000" cy="7621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95560" y="53182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1523880" y="14479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Volume of a Cyli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5257800"/>
            <a:ext cx="2286000" cy="70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286000" y="5105520"/>
            <a:ext cx="2133720" cy="642600"/>
            <a:chOff x="2286000" y="5105520"/>
            <a:chExt cx="2133720" cy="642600"/>
          </a:xfrm>
        </p:grpSpPr>
        <p:sp>
          <p:nvSpPr>
            <p:cNvPr id="410" name=""/>
            <p:cNvSpPr/>
            <p:nvPr/>
          </p:nvSpPr>
          <p:spPr>
            <a:xfrm>
              <a:off x="2286000" y="56707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09880" y="51055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2" name=""/>
            <p:cNvCxnSpPr/>
            <p:nvPr/>
          </p:nvCxnSpPr>
          <p:spPr>
            <a:xfrm flipV="1" rot="10800000">
              <a:off x="2628360" y="5368680"/>
              <a:ext cx="1372320" cy="3024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3" name=""/>
          <p:cNvSpPr/>
          <p:nvPr/>
        </p:nvSpPr>
        <p:spPr>
          <a:xfrm>
            <a:off x="754560" y="39625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914400" y="30924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14400" y="4603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5:31Z</dcterms:modified>
  <cp:revision>191</cp:revision>
  <dc:subject/>
  <dc:title>PowerPoint Presentation</dc:title>
</cp:coreProperties>
</file>