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80880" y="-380880"/>
            <a:ext cx="9905760" cy="7696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2800" y="45720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T086  Prealg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426720" y="45720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ass 9  Unit 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0" y="0"/>
            <a:ext cx="1981080" cy="304920"/>
          </a:xfrm>
          <a:custGeom>
            <a:avLst/>
            <a:gdLst>
              <a:gd name="textAreaLeft" fmla="*/ 19440 w 1981080"/>
              <a:gd name="textAreaRight" fmla="*/ 1961640 w 1981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196" h="21600">
                <a:moveTo>
                  <a:pt x="0" y="0"/>
                </a:moveTo>
                <a:lnTo>
                  <a:pt x="140196" y="0"/>
                </a:lnTo>
                <a:lnTo>
                  <a:pt x="140196" y="21600"/>
                </a:lnTo>
                <a:lnTo>
                  <a:pt x="0" y="21600"/>
                </a:lnTo>
                <a:close/>
              </a:path>
              <a:path fill="lightenLess" w="140196" h="21600">
                <a:moveTo>
                  <a:pt x="0" y="0"/>
                </a:moveTo>
                <a:lnTo>
                  <a:pt x="140196" y="0"/>
                </a:lnTo>
                <a:lnTo>
                  <a:pt x="138796" y="1400"/>
                </a:lnTo>
                <a:lnTo>
                  <a:pt x="1400" y="1400"/>
                </a:lnTo>
                <a:close/>
              </a:path>
              <a:path fill="darken" w="140196" h="21600">
                <a:moveTo>
                  <a:pt x="140196" y="0"/>
                </a:moveTo>
                <a:lnTo>
                  <a:pt x="140196" y="21600"/>
                </a:lnTo>
                <a:lnTo>
                  <a:pt x="138796" y="20200"/>
                </a:lnTo>
                <a:lnTo>
                  <a:pt x="138796" y="1400"/>
                </a:lnTo>
                <a:close/>
              </a:path>
              <a:path fill="darkenLess" w="140196" h="21600">
                <a:moveTo>
                  <a:pt x="140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796" y="20200"/>
                </a:lnTo>
                <a:close/>
              </a:path>
              <a:path fill="lighten" w="140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 to T O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57400" y="6629400"/>
            <a:ext cx="510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© Pima Community College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187720" y="2227320"/>
            <a:ext cx="4284000" cy="3254400"/>
            <a:chOff x="2187720" y="2227320"/>
            <a:chExt cx="4284000" cy="3254400"/>
          </a:xfrm>
        </p:grpSpPr>
        <p:sp>
          <p:nvSpPr>
            <p:cNvPr id="42" name=""/>
            <p:cNvSpPr/>
            <p:nvPr/>
          </p:nvSpPr>
          <p:spPr>
            <a:xfrm>
              <a:off x="2187720" y="2227320"/>
              <a:ext cx="4284000" cy="3254400"/>
            </a:xfrm>
            <a:custGeom>
              <a:avLst/>
              <a:gdLst/>
              <a:ahLst/>
              <a:rect l="l" t="t" r="r" b="b"/>
              <a:pathLst>
                <a:path w="3716" h="4309">
                  <a:moveTo>
                    <a:pt x="3648" y="34"/>
                  </a:moveTo>
                  <a:lnTo>
                    <a:pt x="2325" y="0"/>
                  </a:lnTo>
                  <a:lnTo>
                    <a:pt x="2290" y="764"/>
                  </a:lnTo>
                  <a:lnTo>
                    <a:pt x="795" y="834"/>
                  </a:lnTo>
                  <a:lnTo>
                    <a:pt x="656" y="2157"/>
                  </a:lnTo>
                  <a:lnTo>
                    <a:pt x="135" y="2298"/>
                  </a:lnTo>
                  <a:lnTo>
                    <a:pt x="0" y="4260"/>
                  </a:lnTo>
                  <a:lnTo>
                    <a:pt x="1595" y="4309"/>
                  </a:lnTo>
                  <a:lnTo>
                    <a:pt x="1633" y="3803"/>
                  </a:lnTo>
                  <a:lnTo>
                    <a:pt x="3189" y="3689"/>
                  </a:lnTo>
                  <a:lnTo>
                    <a:pt x="3091" y="2157"/>
                  </a:lnTo>
                  <a:lnTo>
                    <a:pt x="3716" y="1948"/>
                  </a:lnTo>
                  <a:lnTo>
                    <a:pt x="3648" y="34"/>
                  </a:lnTo>
                  <a:lnTo>
                    <a:pt x="3648" y="34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42680" y="2383920"/>
              <a:ext cx="3730320" cy="2918880"/>
            </a:xfrm>
            <a:custGeom>
              <a:avLst/>
              <a:gdLst/>
              <a:ahLst/>
              <a:rect l="l" t="t" r="r" b="b"/>
              <a:pathLst>
                <a:path w="3235" h="3866">
                  <a:moveTo>
                    <a:pt x="2296" y="141"/>
                  </a:moveTo>
                  <a:lnTo>
                    <a:pt x="2296" y="802"/>
                  </a:lnTo>
                  <a:lnTo>
                    <a:pt x="730" y="802"/>
                  </a:lnTo>
                  <a:lnTo>
                    <a:pt x="696" y="2195"/>
                  </a:lnTo>
                  <a:lnTo>
                    <a:pt x="34" y="2334"/>
                  </a:lnTo>
                  <a:lnTo>
                    <a:pt x="0" y="3762"/>
                  </a:lnTo>
                  <a:lnTo>
                    <a:pt x="1009" y="3866"/>
                  </a:lnTo>
                  <a:lnTo>
                    <a:pt x="1043" y="3239"/>
                  </a:lnTo>
                  <a:lnTo>
                    <a:pt x="2435" y="3171"/>
                  </a:lnTo>
                  <a:lnTo>
                    <a:pt x="2574" y="1811"/>
                  </a:lnTo>
                  <a:lnTo>
                    <a:pt x="3201" y="1741"/>
                  </a:lnTo>
                  <a:lnTo>
                    <a:pt x="3235" y="0"/>
                  </a:lnTo>
                  <a:lnTo>
                    <a:pt x="2296" y="141"/>
                  </a:lnTo>
                  <a:lnTo>
                    <a:pt x="2296" y="141"/>
                  </a:lnTo>
                  <a:close/>
                </a:path>
              </a:pathLst>
            </a:cu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85480" y="2726640"/>
              <a:ext cx="3006360" cy="2235240"/>
            </a:xfrm>
            <a:custGeom>
              <a:avLst/>
              <a:gdLst/>
              <a:ahLst/>
              <a:rect l="l" t="t" r="r" b="b"/>
              <a:pathLst>
                <a:path w="2608" h="2960">
                  <a:moveTo>
                    <a:pt x="2190" y="0"/>
                  </a:moveTo>
                  <a:lnTo>
                    <a:pt x="2190" y="662"/>
                  </a:lnTo>
                  <a:lnTo>
                    <a:pt x="1530" y="662"/>
                  </a:lnTo>
                  <a:lnTo>
                    <a:pt x="1530" y="1323"/>
                  </a:lnTo>
                  <a:lnTo>
                    <a:pt x="730" y="1357"/>
                  </a:lnTo>
                  <a:lnTo>
                    <a:pt x="730" y="2055"/>
                  </a:lnTo>
                  <a:lnTo>
                    <a:pt x="34" y="2089"/>
                  </a:lnTo>
                  <a:lnTo>
                    <a:pt x="0" y="2960"/>
                  </a:lnTo>
                  <a:lnTo>
                    <a:pt x="416" y="2960"/>
                  </a:lnTo>
                  <a:lnTo>
                    <a:pt x="382" y="2507"/>
                  </a:lnTo>
                  <a:lnTo>
                    <a:pt x="1182" y="2437"/>
                  </a:lnTo>
                  <a:lnTo>
                    <a:pt x="1146" y="1705"/>
                  </a:lnTo>
                  <a:lnTo>
                    <a:pt x="1946" y="1705"/>
                  </a:lnTo>
                  <a:lnTo>
                    <a:pt x="1946" y="1114"/>
                  </a:lnTo>
                  <a:lnTo>
                    <a:pt x="2572" y="1044"/>
                  </a:lnTo>
                  <a:lnTo>
                    <a:pt x="2608" y="0"/>
                  </a:lnTo>
                  <a:lnTo>
                    <a:pt x="2190" y="0"/>
                  </a:lnTo>
                  <a:lnTo>
                    <a:pt x="2190" y="0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38680" y="3219120"/>
              <a:ext cx="536760" cy="354600"/>
            </a:xfrm>
            <a:custGeom>
              <a:avLst/>
              <a:gdLst/>
              <a:ahLst/>
              <a:rect l="l" t="t" r="r" b="b"/>
              <a:pathLst>
                <a:path w="468" h="470">
                  <a:moveTo>
                    <a:pt x="234" y="470"/>
                  </a:moveTo>
                  <a:lnTo>
                    <a:pt x="325" y="451"/>
                  </a:lnTo>
                  <a:lnTo>
                    <a:pt x="399" y="401"/>
                  </a:lnTo>
                  <a:lnTo>
                    <a:pt x="449" y="327"/>
                  </a:lnTo>
                  <a:lnTo>
                    <a:pt x="468" y="236"/>
                  </a:lnTo>
                  <a:lnTo>
                    <a:pt x="449" y="145"/>
                  </a:lnTo>
                  <a:lnTo>
                    <a:pt x="428" y="105"/>
                  </a:lnTo>
                  <a:lnTo>
                    <a:pt x="399" y="71"/>
                  </a:lnTo>
                  <a:lnTo>
                    <a:pt x="365" y="42"/>
                  </a:lnTo>
                  <a:lnTo>
                    <a:pt x="325" y="19"/>
                  </a:lnTo>
                  <a:lnTo>
                    <a:pt x="234" y="0"/>
                  </a:lnTo>
                  <a:lnTo>
                    <a:pt x="143" y="19"/>
                  </a:lnTo>
                  <a:lnTo>
                    <a:pt x="69" y="71"/>
                  </a:lnTo>
                  <a:lnTo>
                    <a:pt x="17" y="145"/>
                  </a:lnTo>
                  <a:lnTo>
                    <a:pt x="0" y="236"/>
                  </a:lnTo>
                  <a:lnTo>
                    <a:pt x="17" y="327"/>
                  </a:lnTo>
                  <a:lnTo>
                    <a:pt x="40" y="367"/>
                  </a:lnTo>
                  <a:lnTo>
                    <a:pt x="69" y="401"/>
                  </a:lnTo>
                  <a:lnTo>
                    <a:pt x="103" y="430"/>
                  </a:lnTo>
                  <a:lnTo>
                    <a:pt x="143" y="451"/>
                  </a:lnTo>
                  <a:lnTo>
                    <a:pt x="234" y="470"/>
                  </a:lnTo>
                  <a:lnTo>
                    <a:pt x="234" y="470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50760" y="4108680"/>
              <a:ext cx="594720" cy="390960"/>
            </a:xfrm>
            <a:custGeom>
              <a:avLst/>
              <a:gdLst/>
              <a:ahLst/>
              <a:rect l="l" t="t" r="r" b="b"/>
              <a:pathLst>
                <a:path w="517" h="517">
                  <a:moveTo>
                    <a:pt x="259" y="517"/>
                  </a:moveTo>
                  <a:lnTo>
                    <a:pt x="359" y="496"/>
                  </a:lnTo>
                  <a:lnTo>
                    <a:pt x="441" y="441"/>
                  </a:lnTo>
                  <a:lnTo>
                    <a:pt x="498" y="359"/>
                  </a:lnTo>
                  <a:lnTo>
                    <a:pt x="517" y="258"/>
                  </a:lnTo>
                  <a:lnTo>
                    <a:pt x="498" y="158"/>
                  </a:lnTo>
                  <a:lnTo>
                    <a:pt x="473" y="114"/>
                  </a:lnTo>
                  <a:lnTo>
                    <a:pt x="441" y="76"/>
                  </a:lnTo>
                  <a:lnTo>
                    <a:pt x="403" y="44"/>
                  </a:lnTo>
                  <a:lnTo>
                    <a:pt x="359" y="19"/>
                  </a:lnTo>
                  <a:lnTo>
                    <a:pt x="259" y="0"/>
                  </a:lnTo>
                  <a:lnTo>
                    <a:pt x="158" y="19"/>
                  </a:lnTo>
                  <a:lnTo>
                    <a:pt x="76" y="76"/>
                  </a:lnTo>
                  <a:lnTo>
                    <a:pt x="21" y="158"/>
                  </a:lnTo>
                  <a:lnTo>
                    <a:pt x="0" y="258"/>
                  </a:lnTo>
                  <a:lnTo>
                    <a:pt x="21" y="359"/>
                  </a:lnTo>
                  <a:lnTo>
                    <a:pt x="44" y="403"/>
                  </a:lnTo>
                  <a:lnTo>
                    <a:pt x="76" y="441"/>
                  </a:lnTo>
                  <a:lnTo>
                    <a:pt x="114" y="473"/>
                  </a:lnTo>
                  <a:lnTo>
                    <a:pt x="158" y="496"/>
                  </a:lnTo>
                  <a:lnTo>
                    <a:pt x="259" y="517"/>
                  </a:lnTo>
                  <a:lnTo>
                    <a:pt x="259" y="517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 txBox="1"/>
          <p:nvPr/>
        </p:nvSpPr>
        <p:spPr>
          <a:xfrm>
            <a:off x="685800" y="1523880"/>
            <a:ext cx="7772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ividing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cimals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279440" y="3662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81280" y="1828800"/>
                <a:ext cx="1600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6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19720" y="129528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38480" y="12952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29528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2438280"/>
            <a:ext cx="1104840" cy="764280"/>
            <a:chOff x="3962520" y="2438280"/>
            <a:chExt cx="1104840" cy="764280"/>
          </a:xfrm>
        </p:grpSpPr>
        <p:sp>
          <p:nvSpPr>
            <p:cNvPr id="437" name=""/>
            <p:cNvSpPr/>
            <p:nvPr/>
          </p:nvSpPr>
          <p:spPr>
            <a:xfrm>
              <a:off x="4038480" y="2438280"/>
              <a:ext cx="68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62520" y="3124080"/>
              <a:ext cx="110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4495680" y="30481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495680" y="3581280"/>
            <a:ext cx="685800" cy="764280"/>
            <a:chOff x="4495680" y="3581280"/>
            <a:chExt cx="685800" cy="764280"/>
          </a:xfrm>
        </p:grpSpPr>
        <p:sp>
          <p:nvSpPr>
            <p:cNvPr id="441" name=""/>
            <p:cNvSpPr/>
            <p:nvPr/>
          </p:nvSpPr>
          <p:spPr>
            <a:xfrm>
              <a:off x="4495680" y="35812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95680" y="4267080"/>
              <a:ext cx="6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95680" y="4343040"/>
              <a:ext cx="6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1447920" y="441972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ust like regular divis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510552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ut decimal point directly above decimal point in divid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267080" y="1981080"/>
                <a:ext cx="18288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30481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.3 ÷ 9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1600" y="15238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04360" y="1523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533840" y="2583000"/>
            <a:ext cx="1790640" cy="703440"/>
            <a:chOff x="4533840" y="2583000"/>
            <a:chExt cx="1790640" cy="703440"/>
          </a:xfrm>
        </p:grpSpPr>
        <p:sp>
          <p:nvSpPr>
            <p:cNvPr id="452" name=""/>
            <p:cNvSpPr/>
            <p:nvPr/>
          </p:nvSpPr>
          <p:spPr>
            <a:xfrm>
              <a:off x="4781880" y="25830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33840" y="3200400"/>
              <a:ext cx="17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537880" y="32004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267080" y="1981080"/>
                <a:ext cx="33530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0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30481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.3 ÷ 9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66600" y="15238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5257800" y="3794040"/>
            <a:ext cx="1219320" cy="703440"/>
            <a:chOff x="5257800" y="3794040"/>
            <a:chExt cx="1219320" cy="703440"/>
          </a:xfrm>
        </p:grpSpPr>
        <p:sp>
          <p:nvSpPr>
            <p:cNvPr id="460" name=""/>
            <p:cNvSpPr/>
            <p:nvPr/>
          </p:nvSpPr>
          <p:spPr>
            <a:xfrm>
              <a:off x="5508000" y="379404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57800" y="441972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5764680" y="4403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71040" y="4403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31600" y="15238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1523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42440" y="32004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66360" y="1523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221440" y="5013360"/>
            <a:ext cx="1273680" cy="703440"/>
            <a:chOff x="5221440" y="5013360"/>
            <a:chExt cx="1273680" cy="703440"/>
          </a:xfrm>
        </p:grpSpPr>
        <p:sp>
          <p:nvSpPr>
            <p:cNvPr id="469" name=""/>
            <p:cNvSpPr/>
            <p:nvPr/>
          </p:nvSpPr>
          <p:spPr>
            <a:xfrm>
              <a:off x="5735160" y="501336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21440" y="562284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069600" y="5622840"/>
            <a:ext cx="776520" cy="703440"/>
            <a:chOff x="6069600" y="5622840"/>
            <a:chExt cx="776520" cy="703440"/>
          </a:xfrm>
        </p:grpSpPr>
        <p:sp>
          <p:nvSpPr>
            <p:cNvPr id="472" name=""/>
            <p:cNvSpPr/>
            <p:nvPr/>
          </p:nvSpPr>
          <p:spPr>
            <a:xfrm>
              <a:off x="6069600" y="56228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75960" y="56228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533840" y="2583000"/>
            <a:ext cx="1790640" cy="703440"/>
            <a:chOff x="4533840" y="2583000"/>
            <a:chExt cx="1790640" cy="703440"/>
          </a:xfrm>
        </p:grpSpPr>
        <p:sp>
          <p:nvSpPr>
            <p:cNvPr id="475" name=""/>
            <p:cNvSpPr/>
            <p:nvPr/>
          </p:nvSpPr>
          <p:spPr>
            <a:xfrm>
              <a:off x="4781880" y="25830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33840" y="3200400"/>
              <a:ext cx="17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5537880" y="32004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366960" y="152388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333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1800" y="14479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.3 ÷ 9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41960" y="2422440"/>
            <a:ext cx="118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.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56440" y="2422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61360" y="2422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66280" y="2422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59680" y="2422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75760" y="2422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00120" y="242244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333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9000" y="3413160"/>
            <a:ext cx="118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.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772160" y="3505320"/>
            <a:ext cx="3525840" cy="1221120"/>
            <a:chOff x="4772160" y="3505320"/>
            <a:chExt cx="3525840" cy="1221120"/>
          </a:xfrm>
        </p:grpSpPr>
        <p:sp>
          <p:nvSpPr>
            <p:cNvPr id="490" name=""/>
            <p:cNvSpPr/>
            <p:nvPr/>
          </p:nvSpPr>
          <p:spPr>
            <a:xfrm>
              <a:off x="4772160" y="3581280"/>
              <a:ext cx="32544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72160" y="3505320"/>
              <a:ext cx="333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15000" y="3657600"/>
              <a:ext cx="2583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Repeating decim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95880" y="3749760"/>
              <a:ext cx="1676520" cy="898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4" name=""/>
            <p:cNvCxnSpPr>
              <a:stCxn id="493" idx="2"/>
              <a:endCxn id="490" idx="4"/>
            </p:cNvCxnSpPr>
            <p:nvPr/>
          </p:nvCxnSpPr>
          <p:spPr>
            <a:xfrm rot="10800000">
              <a:off x="4934880" y="3961800"/>
              <a:ext cx="1161000" cy="2372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95" name=""/>
          <p:cNvSpPr/>
          <p:nvPr/>
        </p:nvSpPr>
        <p:spPr>
          <a:xfrm>
            <a:off x="1446840" y="5742000"/>
            <a:ext cx="62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e bar over repeating p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05640" y="4800600"/>
            <a:ext cx="30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4.070707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164560" y="4800600"/>
            <a:ext cx="1942560" cy="703440"/>
            <a:chOff x="5164560" y="4800600"/>
            <a:chExt cx="1942560" cy="703440"/>
          </a:xfrm>
        </p:grpSpPr>
        <p:sp>
          <p:nvSpPr>
            <p:cNvPr id="498" name=""/>
            <p:cNvSpPr/>
            <p:nvPr/>
          </p:nvSpPr>
          <p:spPr>
            <a:xfrm>
              <a:off x="5164560" y="4800600"/>
              <a:ext cx="189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r>
                <a:rPr b="0" lang="en-US" sz="40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24.0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24480" y="4876920"/>
              <a:ext cx="782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30481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11 ÷ 9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64760" y="1295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533840" y="2422440"/>
            <a:ext cx="1790640" cy="703440"/>
            <a:chOff x="4533840" y="2422440"/>
            <a:chExt cx="1790640" cy="703440"/>
          </a:xfrm>
        </p:grpSpPr>
        <p:sp>
          <p:nvSpPr>
            <p:cNvPr id="504" name=""/>
            <p:cNvSpPr/>
            <p:nvPr/>
          </p:nvSpPr>
          <p:spPr>
            <a:xfrm>
              <a:off x="4780800" y="242244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33840" y="3040200"/>
              <a:ext cx="17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5080680" y="3032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197240" y="1752480"/>
                <a:ext cx="16700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41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5309280" y="1295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49960" y="3032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533840" y="3641760"/>
            <a:ext cx="1790640" cy="703440"/>
            <a:chOff x="4533840" y="3641760"/>
            <a:chExt cx="1790640" cy="703440"/>
          </a:xfrm>
        </p:grpSpPr>
        <p:sp>
          <p:nvSpPr>
            <p:cNvPr id="511" name=""/>
            <p:cNvSpPr/>
            <p:nvPr/>
          </p:nvSpPr>
          <p:spPr>
            <a:xfrm>
              <a:off x="5050800" y="364176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33840" y="4267080"/>
              <a:ext cx="17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345640" y="4251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636160" y="12952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105520" y="4784760"/>
            <a:ext cx="1218960" cy="703440"/>
            <a:chOff x="5105520" y="4784760"/>
            <a:chExt cx="1218960" cy="703440"/>
          </a:xfrm>
        </p:grpSpPr>
        <p:sp>
          <p:nvSpPr>
            <p:cNvPr id="517" name=""/>
            <p:cNvSpPr/>
            <p:nvPr/>
          </p:nvSpPr>
          <p:spPr>
            <a:xfrm>
              <a:off x="5390640" y="478476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105520" y="539424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725080" y="5394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90160" y="4251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267080" y="1752480"/>
                <a:ext cx="29718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411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4964760" y="1295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533840" y="2422440"/>
            <a:ext cx="1790640" cy="703440"/>
            <a:chOff x="4533840" y="2422440"/>
            <a:chExt cx="1790640" cy="703440"/>
          </a:xfrm>
        </p:grpSpPr>
        <p:sp>
          <p:nvSpPr>
            <p:cNvPr id="524" name=""/>
            <p:cNvSpPr/>
            <p:nvPr/>
          </p:nvSpPr>
          <p:spPr>
            <a:xfrm>
              <a:off x="4780800" y="242244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33840" y="3040200"/>
              <a:ext cx="17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5080680" y="3032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09280" y="1295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49960" y="3032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533840" y="3641760"/>
            <a:ext cx="1790640" cy="703440"/>
            <a:chOff x="4533840" y="3641760"/>
            <a:chExt cx="1790640" cy="703440"/>
          </a:xfrm>
        </p:grpSpPr>
        <p:sp>
          <p:nvSpPr>
            <p:cNvPr id="530" name=""/>
            <p:cNvSpPr/>
            <p:nvPr/>
          </p:nvSpPr>
          <p:spPr>
            <a:xfrm>
              <a:off x="5050800" y="364176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33840" y="4267080"/>
              <a:ext cx="1790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5345640" y="4251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802840" y="1295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71040" y="53942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71520" y="59277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07760" y="1295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03680" y="129528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666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09480" y="30481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11 ÷ 9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81080" y="17524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11 ÷ 9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679640" y="1752480"/>
            <a:ext cx="245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45.6666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3755880" y="2743200"/>
            <a:ext cx="1607040" cy="703440"/>
            <a:chOff x="3755880" y="2743200"/>
            <a:chExt cx="1607040" cy="703440"/>
          </a:xfrm>
        </p:grpSpPr>
        <p:sp>
          <p:nvSpPr>
            <p:cNvPr id="543" name=""/>
            <p:cNvSpPr/>
            <p:nvPr/>
          </p:nvSpPr>
          <p:spPr>
            <a:xfrm>
              <a:off x="3755880" y="2743200"/>
              <a:ext cx="160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r>
                <a:rPr b="0" lang="en-US" sz="40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45.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965840" y="2759040"/>
              <a:ext cx="333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685800" y="365760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can get decimal equivalents to remainders in whole number division by adding “.0000…” to the divid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533520" y="1600200"/>
            <a:ext cx="60958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cimal Equivalent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of Fractions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6850080" y="4943520"/>
            <a:ext cx="369720" cy="274680"/>
          </a:xfrm>
          <a:custGeom>
            <a:avLst/>
            <a:gdLst/>
            <a:ahLst/>
            <a:rect l="l" t="t" r="r" b="b"/>
            <a:pathLst>
              <a:path w="467" h="345">
                <a:moveTo>
                  <a:pt x="271" y="0"/>
                </a:moveTo>
                <a:lnTo>
                  <a:pt x="88" y="183"/>
                </a:lnTo>
                <a:lnTo>
                  <a:pt x="0" y="329"/>
                </a:lnTo>
                <a:lnTo>
                  <a:pt x="275" y="345"/>
                </a:lnTo>
                <a:lnTo>
                  <a:pt x="467" y="69"/>
                </a:lnTo>
                <a:lnTo>
                  <a:pt x="271" y="0"/>
                </a:lnTo>
                <a:lnTo>
                  <a:pt x="271" y="0"/>
                </a:lnTo>
                <a:close/>
              </a:path>
            </a:pathLst>
          </a:custGeom>
          <a:solidFill>
            <a:srgbClr val="f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07080" y="5300640"/>
            <a:ext cx="1238400" cy="855720"/>
          </a:xfrm>
          <a:custGeom>
            <a:avLst/>
            <a:gdLst/>
            <a:ahLst/>
            <a:rect l="l" t="t" r="r" b="b"/>
            <a:pathLst>
              <a:path w="1560" h="1078">
                <a:moveTo>
                  <a:pt x="266" y="68"/>
                </a:moveTo>
                <a:lnTo>
                  <a:pt x="254" y="580"/>
                </a:lnTo>
                <a:lnTo>
                  <a:pt x="0" y="627"/>
                </a:lnTo>
                <a:lnTo>
                  <a:pt x="8" y="919"/>
                </a:lnTo>
                <a:lnTo>
                  <a:pt x="509" y="964"/>
                </a:lnTo>
                <a:lnTo>
                  <a:pt x="567" y="773"/>
                </a:lnTo>
                <a:lnTo>
                  <a:pt x="703" y="685"/>
                </a:lnTo>
                <a:lnTo>
                  <a:pt x="804" y="676"/>
                </a:lnTo>
                <a:lnTo>
                  <a:pt x="875" y="882"/>
                </a:lnTo>
                <a:lnTo>
                  <a:pt x="1080" y="1039"/>
                </a:lnTo>
                <a:lnTo>
                  <a:pt x="1313" y="1078"/>
                </a:lnTo>
                <a:lnTo>
                  <a:pt x="1433" y="930"/>
                </a:lnTo>
                <a:lnTo>
                  <a:pt x="1560" y="689"/>
                </a:lnTo>
                <a:lnTo>
                  <a:pt x="1388" y="556"/>
                </a:lnTo>
                <a:lnTo>
                  <a:pt x="825" y="572"/>
                </a:lnTo>
                <a:lnTo>
                  <a:pt x="616" y="497"/>
                </a:lnTo>
                <a:lnTo>
                  <a:pt x="567" y="376"/>
                </a:lnTo>
                <a:lnTo>
                  <a:pt x="583" y="0"/>
                </a:lnTo>
                <a:lnTo>
                  <a:pt x="308" y="34"/>
                </a:lnTo>
                <a:lnTo>
                  <a:pt x="266" y="68"/>
                </a:lnTo>
                <a:lnTo>
                  <a:pt x="266" y="68"/>
                </a:lnTo>
                <a:close/>
              </a:path>
            </a:pathLst>
          </a:custGeom>
          <a:solidFill>
            <a:srgbClr val="dbd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99320" y="5641920"/>
            <a:ext cx="268200" cy="407880"/>
          </a:xfrm>
          <a:custGeom>
            <a:avLst/>
            <a:gdLst/>
            <a:ahLst/>
            <a:rect l="l" t="t" r="r" b="b"/>
            <a:pathLst>
              <a:path w="338" h="512">
                <a:moveTo>
                  <a:pt x="321" y="0"/>
                </a:moveTo>
                <a:lnTo>
                  <a:pt x="146" y="78"/>
                </a:lnTo>
                <a:lnTo>
                  <a:pt x="85" y="139"/>
                </a:lnTo>
                <a:lnTo>
                  <a:pt x="34" y="230"/>
                </a:lnTo>
                <a:lnTo>
                  <a:pt x="5" y="352"/>
                </a:lnTo>
                <a:lnTo>
                  <a:pt x="0" y="425"/>
                </a:lnTo>
                <a:lnTo>
                  <a:pt x="5" y="509"/>
                </a:lnTo>
                <a:lnTo>
                  <a:pt x="55" y="512"/>
                </a:lnTo>
                <a:lnTo>
                  <a:pt x="60" y="310"/>
                </a:lnTo>
                <a:lnTo>
                  <a:pt x="72" y="269"/>
                </a:lnTo>
                <a:lnTo>
                  <a:pt x="89" y="228"/>
                </a:lnTo>
                <a:lnTo>
                  <a:pt x="112" y="190"/>
                </a:lnTo>
                <a:lnTo>
                  <a:pt x="141" y="154"/>
                </a:lnTo>
                <a:lnTo>
                  <a:pt x="177" y="120"/>
                </a:lnTo>
                <a:lnTo>
                  <a:pt x="222" y="91"/>
                </a:lnTo>
                <a:lnTo>
                  <a:pt x="276" y="66"/>
                </a:lnTo>
                <a:lnTo>
                  <a:pt x="338" y="50"/>
                </a:lnTo>
                <a:lnTo>
                  <a:pt x="321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129440" y="5735520"/>
            <a:ext cx="627120" cy="128880"/>
          </a:xfrm>
          <a:custGeom>
            <a:avLst/>
            <a:gdLst/>
            <a:ahLst/>
            <a:rect l="l" t="t" r="r" b="b"/>
            <a:pathLst>
              <a:path w="790" h="162">
                <a:moveTo>
                  <a:pt x="0" y="0"/>
                </a:moveTo>
                <a:lnTo>
                  <a:pt x="10" y="51"/>
                </a:lnTo>
                <a:lnTo>
                  <a:pt x="23" y="73"/>
                </a:lnTo>
                <a:lnTo>
                  <a:pt x="46" y="95"/>
                </a:lnTo>
                <a:lnTo>
                  <a:pt x="77" y="115"/>
                </a:lnTo>
                <a:lnTo>
                  <a:pt x="120" y="133"/>
                </a:lnTo>
                <a:lnTo>
                  <a:pt x="171" y="147"/>
                </a:lnTo>
                <a:lnTo>
                  <a:pt x="287" y="162"/>
                </a:lnTo>
                <a:lnTo>
                  <a:pt x="488" y="149"/>
                </a:lnTo>
                <a:lnTo>
                  <a:pt x="625" y="124"/>
                </a:lnTo>
                <a:lnTo>
                  <a:pt x="790" y="86"/>
                </a:lnTo>
                <a:lnTo>
                  <a:pt x="788" y="42"/>
                </a:lnTo>
                <a:lnTo>
                  <a:pt x="780" y="0"/>
                </a:lnTo>
                <a:lnTo>
                  <a:pt x="240" y="1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f91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88360" y="5767560"/>
            <a:ext cx="285480" cy="268200"/>
          </a:xfrm>
          <a:custGeom>
            <a:avLst/>
            <a:gdLst/>
            <a:ahLst/>
            <a:rect l="l" t="t" r="r" b="b"/>
            <a:pathLst>
              <a:path w="360" h="339">
                <a:moveTo>
                  <a:pt x="0" y="10"/>
                </a:moveTo>
                <a:lnTo>
                  <a:pt x="8" y="166"/>
                </a:lnTo>
                <a:lnTo>
                  <a:pt x="42" y="225"/>
                </a:lnTo>
                <a:lnTo>
                  <a:pt x="69" y="253"/>
                </a:lnTo>
                <a:lnTo>
                  <a:pt x="104" y="279"/>
                </a:lnTo>
                <a:lnTo>
                  <a:pt x="146" y="300"/>
                </a:lnTo>
                <a:lnTo>
                  <a:pt x="198" y="320"/>
                </a:lnTo>
                <a:lnTo>
                  <a:pt x="259" y="331"/>
                </a:lnTo>
                <a:lnTo>
                  <a:pt x="334" y="339"/>
                </a:lnTo>
                <a:lnTo>
                  <a:pt x="360" y="289"/>
                </a:lnTo>
                <a:lnTo>
                  <a:pt x="50" y="3"/>
                </a:lnTo>
                <a:lnTo>
                  <a:pt x="26" y="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11920" y="5205240"/>
            <a:ext cx="249120" cy="125640"/>
          </a:xfrm>
          <a:custGeom>
            <a:avLst/>
            <a:gdLst/>
            <a:ahLst/>
            <a:rect l="l" t="t" r="r" b="b"/>
            <a:pathLst>
              <a:path w="313" h="159">
                <a:moveTo>
                  <a:pt x="0" y="159"/>
                </a:moveTo>
                <a:lnTo>
                  <a:pt x="310" y="149"/>
                </a:lnTo>
                <a:lnTo>
                  <a:pt x="313" y="16"/>
                </a:lnTo>
                <a:lnTo>
                  <a:pt x="39" y="0"/>
                </a:lnTo>
                <a:lnTo>
                  <a:pt x="0" y="159"/>
                </a:lnTo>
                <a:lnTo>
                  <a:pt x="0" y="159"/>
                </a:lnTo>
                <a:close/>
              </a:path>
            </a:pathLst>
          </a:custGeom>
          <a:solidFill>
            <a:srgbClr val="a86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593120" y="5845320"/>
            <a:ext cx="411120" cy="515880"/>
          </a:xfrm>
          <a:custGeom>
            <a:avLst/>
            <a:gdLst/>
            <a:ahLst/>
            <a:rect l="l" t="t" r="r" b="b"/>
            <a:pathLst>
              <a:path w="517" h="651">
                <a:moveTo>
                  <a:pt x="300" y="25"/>
                </a:moveTo>
                <a:lnTo>
                  <a:pt x="0" y="584"/>
                </a:lnTo>
                <a:lnTo>
                  <a:pt x="37" y="651"/>
                </a:lnTo>
                <a:lnTo>
                  <a:pt x="129" y="616"/>
                </a:lnTo>
                <a:lnTo>
                  <a:pt x="275" y="480"/>
                </a:lnTo>
                <a:lnTo>
                  <a:pt x="358" y="197"/>
                </a:lnTo>
                <a:lnTo>
                  <a:pt x="442" y="226"/>
                </a:lnTo>
                <a:lnTo>
                  <a:pt x="517" y="75"/>
                </a:lnTo>
                <a:lnTo>
                  <a:pt x="429" y="0"/>
                </a:lnTo>
                <a:lnTo>
                  <a:pt x="300" y="25"/>
                </a:lnTo>
                <a:lnTo>
                  <a:pt x="300" y="25"/>
                </a:lnTo>
                <a:close/>
              </a:path>
            </a:pathLst>
          </a:cu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445080" y="6046920"/>
            <a:ext cx="597240" cy="164880"/>
          </a:xfrm>
          <a:custGeom>
            <a:avLst/>
            <a:gdLst/>
            <a:ahLst/>
            <a:rect l="l" t="t" r="r" b="b"/>
            <a:pathLst>
              <a:path w="751" h="207">
                <a:moveTo>
                  <a:pt x="226" y="0"/>
                </a:moveTo>
                <a:lnTo>
                  <a:pt x="42" y="104"/>
                </a:lnTo>
                <a:lnTo>
                  <a:pt x="0" y="199"/>
                </a:lnTo>
                <a:lnTo>
                  <a:pt x="141" y="207"/>
                </a:lnTo>
                <a:lnTo>
                  <a:pt x="497" y="125"/>
                </a:lnTo>
                <a:lnTo>
                  <a:pt x="509" y="196"/>
                </a:lnTo>
                <a:lnTo>
                  <a:pt x="717" y="196"/>
                </a:lnTo>
                <a:lnTo>
                  <a:pt x="751" y="157"/>
                </a:lnTo>
                <a:lnTo>
                  <a:pt x="714" y="24"/>
                </a:lnTo>
                <a:lnTo>
                  <a:pt x="226" y="0"/>
                </a:lnTo>
                <a:lnTo>
                  <a:pt x="226" y="0"/>
                </a:lnTo>
                <a:close/>
              </a:path>
            </a:pathLst>
          </a:cu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461360" y="4950000"/>
            <a:ext cx="844560" cy="838080"/>
          </a:xfrm>
          <a:custGeom>
            <a:avLst/>
            <a:gdLst/>
            <a:ahLst/>
            <a:rect l="l" t="t" r="r" b="b"/>
            <a:pathLst>
              <a:path w="1063" h="1055">
                <a:moveTo>
                  <a:pt x="150" y="22"/>
                </a:moveTo>
                <a:lnTo>
                  <a:pt x="121" y="368"/>
                </a:lnTo>
                <a:lnTo>
                  <a:pt x="0" y="744"/>
                </a:lnTo>
                <a:lnTo>
                  <a:pt x="815" y="1055"/>
                </a:lnTo>
                <a:lnTo>
                  <a:pt x="963" y="976"/>
                </a:lnTo>
                <a:lnTo>
                  <a:pt x="1062" y="700"/>
                </a:lnTo>
                <a:lnTo>
                  <a:pt x="1063" y="540"/>
                </a:lnTo>
                <a:lnTo>
                  <a:pt x="449" y="99"/>
                </a:lnTo>
                <a:lnTo>
                  <a:pt x="186" y="0"/>
                </a:lnTo>
                <a:lnTo>
                  <a:pt x="150" y="22"/>
                </a:lnTo>
                <a:lnTo>
                  <a:pt x="150" y="22"/>
                </a:lnTo>
                <a:close/>
              </a:path>
            </a:pathLst>
          </a:custGeom>
          <a:solidFill>
            <a:srgbClr val="4a9e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58120" y="6064200"/>
            <a:ext cx="241200" cy="79560"/>
          </a:xfrm>
          <a:custGeom>
            <a:avLst/>
            <a:gdLst/>
            <a:ahLst/>
            <a:rect l="l" t="t" r="r" b="b"/>
            <a:pathLst>
              <a:path w="305" h="99">
                <a:moveTo>
                  <a:pt x="0" y="42"/>
                </a:moveTo>
                <a:lnTo>
                  <a:pt x="36" y="99"/>
                </a:lnTo>
                <a:lnTo>
                  <a:pt x="305" y="13"/>
                </a:lnTo>
                <a:lnTo>
                  <a:pt x="83" y="0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61160" y="6008760"/>
            <a:ext cx="135000" cy="203040"/>
          </a:xfrm>
          <a:custGeom>
            <a:avLst/>
            <a:gdLst/>
            <a:ahLst/>
            <a:rect l="l" t="t" r="r" b="b"/>
            <a:pathLst>
              <a:path w="170" h="254">
                <a:moveTo>
                  <a:pt x="0" y="238"/>
                </a:moveTo>
                <a:lnTo>
                  <a:pt x="78" y="254"/>
                </a:lnTo>
                <a:lnTo>
                  <a:pt x="125" y="203"/>
                </a:lnTo>
                <a:lnTo>
                  <a:pt x="157" y="125"/>
                </a:lnTo>
                <a:lnTo>
                  <a:pt x="170" y="0"/>
                </a:lnTo>
                <a:lnTo>
                  <a:pt x="120" y="15"/>
                </a:lnTo>
                <a:lnTo>
                  <a:pt x="0" y="238"/>
                </a:lnTo>
                <a:lnTo>
                  <a:pt x="0" y="2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719840" y="5410080"/>
            <a:ext cx="573120" cy="268560"/>
          </a:xfrm>
          <a:custGeom>
            <a:avLst/>
            <a:gdLst/>
            <a:ahLst/>
            <a:rect l="l" t="t" r="r" b="b"/>
            <a:pathLst>
              <a:path w="723" h="339">
                <a:moveTo>
                  <a:pt x="3" y="54"/>
                </a:moveTo>
                <a:lnTo>
                  <a:pt x="0" y="130"/>
                </a:lnTo>
                <a:lnTo>
                  <a:pt x="16" y="151"/>
                </a:lnTo>
                <a:lnTo>
                  <a:pt x="47" y="163"/>
                </a:lnTo>
                <a:lnTo>
                  <a:pt x="173" y="135"/>
                </a:lnTo>
                <a:lnTo>
                  <a:pt x="274" y="258"/>
                </a:lnTo>
                <a:lnTo>
                  <a:pt x="296" y="286"/>
                </a:lnTo>
                <a:lnTo>
                  <a:pt x="319" y="310"/>
                </a:lnTo>
                <a:lnTo>
                  <a:pt x="350" y="331"/>
                </a:lnTo>
                <a:lnTo>
                  <a:pt x="382" y="339"/>
                </a:lnTo>
                <a:lnTo>
                  <a:pt x="416" y="331"/>
                </a:lnTo>
                <a:lnTo>
                  <a:pt x="481" y="226"/>
                </a:lnTo>
                <a:lnTo>
                  <a:pt x="499" y="180"/>
                </a:lnTo>
                <a:lnTo>
                  <a:pt x="523" y="156"/>
                </a:lnTo>
                <a:lnTo>
                  <a:pt x="562" y="158"/>
                </a:lnTo>
                <a:lnTo>
                  <a:pt x="613" y="159"/>
                </a:lnTo>
                <a:lnTo>
                  <a:pt x="664" y="132"/>
                </a:lnTo>
                <a:lnTo>
                  <a:pt x="707" y="99"/>
                </a:lnTo>
                <a:lnTo>
                  <a:pt x="723" y="85"/>
                </a:lnTo>
                <a:lnTo>
                  <a:pt x="723" y="0"/>
                </a:lnTo>
                <a:lnTo>
                  <a:pt x="3" y="54"/>
                </a:lnTo>
                <a:lnTo>
                  <a:pt x="3" y="54"/>
                </a:lnTo>
                <a:close/>
              </a:path>
            </a:pathLst>
          </a:custGeom>
          <a:solidFill>
            <a:srgbClr val="216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459560" y="5464080"/>
            <a:ext cx="711360" cy="320760"/>
          </a:xfrm>
          <a:custGeom>
            <a:avLst/>
            <a:gdLst/>
            <a:ahLst/>
            <a:rect l="l" t="t" r="r" b="b"/>
            <a:pathLst>
              <a:path w="897" h="403">
                <a:moveTo>
                  <a:pt x="63" y="0"/>
                </a:moveTo>
                <a:lnTo>
                  <a:pt x="897" y="366"/>
                </a:lnTo>
                <a:lnTo>
                  <a:pt x="835" y="403"/>
                </a:lnTo>
                <a:lnTo>
                  <a:pt x="0" y="90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216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07240" y="4983120"/>
            <a:ext cx="655560" cy="625680"/>
          </a:xfrm>
          <a:custGeom>
            <a:avLst/>
            <a:gdLst/>
            <a:ahLst/>
            <a:rect l="l" t="t" r="r" b="b"/>
            <a:pathLst>
              <a:path w="827" h="790">
                <a:moveTo>
                  <a:pt x="553" y="180"/>
                </a:moveTo>
                <a:lnTo>
                  <a:pt x="827" y="418"/>
                </a:lnTo>
                <a:lnTo>
                  <a:pt x="636" y="550"/>
                </a:lnTo>
                <a:lnTo>
                  <a:pt x="456" y="594"/>
                </a:lnTo>
                <a:lnTo>
                  <a:pt x="390" y="775"/>
                </a:lnTo>
                <a:lnTo>
                  <a:pt x="302" y="790"/>
                </a:lnTo>
                <a:lnTo>
                  <a:pt x="224" y="720"/>
                </a:lnTo>
                <a:lnTo>
                  <a:pt x="221" y="587"/>
                </a:lnTo>
                <a:lnTo>
                  <a:pt x="31" y="607"/>
                </a:lnTo>
                <a:lnTo>
                  <a:pt x="5" y="529"/>
                </a:lnTo>
                <a:lnTo>
                  <a:pt x="103" y="386"/>
                </a:lnTo>
                <a:lnTo>
                  <a:pt x="0" y="274"/>
                </a:lnTo>
                <a:lnTo>
                  <a:pt x="18" y="200"/>
                </a:lnTo>
                <a:lnTo>
                  <a:pt x="163" y="190"/>
                </a:lnTo>
                <a:lnTo>
                  <a:pt x="164" y="41"/>
                </a:lnTo>
                <a:lnTo>
                  <a:pt x="237" y="0"/>
                </a:lnTo>
                <a:lnTo>
                  <a:pt x="443" y="230"/>
                </a:lnTo>
                <a:lnTo>
                  <a:pt x="553" y="180"/>
                </a:lnTo>
                <a:lnTo>
                  <a:pt x="553" y="180"/>
                </a:lnTo>
                <a:close/>
              </a:path>
            </a:pathLst>
          </a:custGeom>
          <a:solidFill>
            <a:srgbClr val="ffc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069400" y="5138640"/>
            <a:ext cx="182520" cy="308160"/>
          </a:xfrm>
          <a:custGeom>
            <a:avLst/>
            <a:gdLst/>
            <a:ahLst/>
            <a:rect l="l" t="t" r="r" b="b"/>
            <a:pathLst>
              <a:path w="230" h="389">
                <a:moveTo>
                  <a:pt x="0" y="43"/>
                </a:moveTo>
                <a:lnTo>
                  <a:pt x="42" y="389"/>
                </a:lnTo>
                <a:lnTo>
                  <a:pt x="230" y="352"/>
                </a:lnTo>
                <a:lnTo>
                  <a:pt x="84" y="0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224760" y="4359240"/>
            <a:ext cx="533160" cy="750960"/>
          </a:xfrm>
          <a:custGeom>
            <a:avLst/>
            <a:gdLst/>
            <a:ahLst/>
            <a:rect l="l" t="t" r="r" b="b"/>
            <a:pathLst>
              <a:path w="673" h="945">
                <a:moveTo>
                  <a:pt x="673" y="499"/>
                </a:moveTo>
                <a:lnTo>
                  <a:pt x="252" y="945"/>
                </a:lnTo>
                <a:lnTo>
                  <a:pt x="330" y="732"/>
                </a:lnTo>
                <a:lnTo>
                  <a:pt x="211" y="585"/>
                </a:lnTo>
                <a:lnTo>
                  <a:pt x="51" y="617"/>
                </a:lnTo>
                <a:lnTo>
                  <a:pt x="0" y="505"/>
                </a:lnTo>
                <a:lnTo>
                  <a:pt x="33" y="434"/>
                </a:lnTo>
                <a:lnTo>
                  <a:pt x="7" y="288"/>
                </a:lnTo>
                <a:lnTo>
                  <a:pt x="44" y="214"/>
                </a:lnTo>
                <a:lnTo>
                  <a:pt x="111" y="217"/>
                </a:lnTo>
                <a:lnTo>
                  <a:pt x="150" y="340"/>
                </a:lnTo>
                <a:lnTo>
                  <a:pt x="223" y="304"/>
                </a:lnTo>
                <a:lnTo>
                  <a:pt x="229" y="222"/>
                </a:lnTo>
                <a:lnTo>
                  <a:pt x="117" y="175"/>
                </a:lnTo>
                <a:lnTo>
                  <a:pt x="120" y="113"/>
                </a:lnTo>
                <a:lnTo>
                  <a:pt x="244" y="0"/>
                </a:lnTo>
                <a:lnTo>
                  <a:pt x="433" y="47"/>
                </a:lnTo>
                <a:lnTo>
                  <a:pt x="536" y="455"/>
                </a:lnTo>
                <a:lnTo>
                  <a:pt x="673" y="499"/>
                </a:lnTo>
                <a:lnTo>
                  <a:pt x="673" y="499"/>
                </a:lnTo>
                <a:close/>
              </a:path>
            </a:pathLst>
          </a:custGeom>
          <a:solidFill>
            <a:srgbClr val="ffc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96120" y="4721400"/>
            <a:ext cx="390600" cy="420480"/>
          </a:xfrm>
          <a:custGeom>
            <a:avLst/>
            <a:gdLst/>
            <a:ahLst/>
            <a:rect l="l" t="t" r="r" b="b"/>
            <a:pathLst>
              <a:path w="493" h="530">
                <a:moveTo>
                  <a:pt x="84" y="530"/>
                </a:moveTo>
                <a:lnTo>
                  <a:pt x="493" y="54"/>
                </a:lnTo>
                <a:lnTo>
                  <a:pt x="331" y="0"/>
                </a:lnTo>
                <a:lnTo>
                  <a:pt x="80" y="221"/>
                </a:lnTo>
                <a:lnTo>
                  <a:pt x="130" y="300"/>
                </a:lnTo>
                <a:lnTo>
                  <a:pt x="0" y="472"/>
                </a:lnTo>
                <a:lnTo>
                  <a:pt x="84" y="530"/>
                </a:lnTo>
                <a:lnTo>
                  <a:pt x="84" y="530"/>
                </a:lnTo>
                <a:close/>
              </a:path>
            </a:pathLst>
          </a:custGeom>
          <a:solidFill>
            <a:srgbClr val="fff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97560" y="4559400"/>
            <a:ext cx="2075040" cy="1222200"/>
          </a:xfrm>
          <a:custGeom>
            <a:avLst/>
            <a:gdLst/>
            <a:ahLst/>
            <a:rect l="l" t="t" r="r" b="b"/>
            <a:pathLst>
              <a:path w="2614" h="1540">
                <a:moveTo>
                  <a:pt x="391" y="241"/>
                </a:moveTo>
                <a:lnTo>
                  <a:pt x="0" y="663"/>
                </a:lnTo>
                <a:lnTo>
                  <a:pt x="263" y="817"/>
                </a:lnTo>
                <a:lnTo>
                  <a:pt x="250" y="898"/>
                </a:lnTo>
                <a:lnTo>
                  <a:pt x="224" y="1078"/>
                </a:lnTo>
                <a:lnTo>
                  <a:pt x="200" y="1263"/>
                </a:lnTo>
                <a:lnTo>
                  <a:pt x="187" y="1360"/>
                </a:lnTo>
                <a:lnTo>
                  <a:pt x="193" y="1461"/>
                </a:lnTo>
                <a:lnTo>
                  <a:pt x="200" y="1540"/>
                </a:lnTo>
                <a:lnTo>
                  <a:pt x="529" y="1532"/>
                </a:lnTo>
                <a:lnTo>
                  <a:pt x="518" y="1156"/>
                </a:lnTo>
                <a:lnTo>
                  <a:pt x="555" y="827"/>
                </a:lnTo>
                <a:lnTo>
                  <a:pt x="818" y="496"/>
                </a:lnTo>
                <a:lnTo>
                  <a:pt x="983" y="512"/>
                </a:lnTo>
                <a:lnTo>
                  <a:pt x="1041" y="562"/>
                </a:lnTo>
                <a:lnTo>
                  <a:pt x="863" y="851"/>
                </a:lnTo>
                <a:lnTo>
                  <a:pt x="821" y="1318"/>
                </a:lnTo>
                <a:lnTo>
                  <a:pt x="892" y="1461"/>
                </a:lnTo>
                <a:lnTo>
                  <a:pt x="1092" y="1498"/>
                </a:lnTo>
                <a:lnTo>
                  <a:pt x="1651" y="1490"/>
                </a:lnTo>
                <a:lnTo>
                  <a:pt x="1776" y="1443"/>
                </a:lnTo>
                <a:lnTo>
                  <a:pt x="1709" y="1394"/>
                </a:lnTo>
                <a:lnTo>
                  <a:pt x="1330" y="1230"/>
                </a:lnTo>
                <a:lnTo>
                  <a:pt x="1401" y="1105"/>
                </a:lnTo>
                <a:lnTo>
                  <a:pt x="1497" y="504"/>
                </a:lnTo>
                <a:lnTo>
                  <a:pt x="1789" y="588"/>
                </a:lnTo>
                <a:lnTo>
                  <a:pt x="1867" y="538"/>
                </a:lnTo>
                <a:lnTo>
                  <a:pt x="1967" y="580"/>
                </a:lnTo>
                <a:lnTo>
                  <a:pt x="2089" y="763"/>
                </a:lnTo>
                <a:lnTo>
                  <a:pt x="2168" y="747"/>
                </a:lnTo>
                <a:lnTo>
                  <a:pt x="2285" y="1093"/>
                </a:lnTo>
                <a:lnTo>
                  <a:pt x="2468" y="981"/>
                </a:lnTo>
                <a:lnTo>
                  <a:pt x="2601" y="759"/>
                </a:lnTo>
                <a:lnTo>
                  <a:pt x="2614" y="467"/>
                </a:lnTo>
                <a:lnTo>
                  <a:pt x="2506" y="212"/>
                </a:lnTo>
                <a:lnTo>
                  <a:pt x="2285" y="50"/>
                </a:lnTo>
                <a:lnTo>
                  <a:pt x="2042" y="0"/>
                </a:lnTo>
                <a:lnTo>
                  <a:pt x="1293" y="363"/>
                </a:lnTo>
                <a:lnTo>
                  <a:pt x="1051" y="358"/>
                </a:lnTo>
                <a:lnTo>
                  <a:pt x="1100" y="24"/>
                </a:lnTo>
                <a:lnTo>
                  <a:pt x="842" y="61"/>
                </a:lnTo>
                <a:lnTo>
                  <a:pt x="600" y="204"/>
                </a:lnTo>
                <a:lnTo>
                  <a:pt x="391" y="241"/>
                </a:lnTo>
                <a:lnTo>
                  <a:pt x="391" y="241"/>
                </a:lnTo>
                <a:close/>
              </a:path>
            </a:pathLst>
          </a:custGeom>
          <a:solidFill>
            <a:srgbClr val="b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931080" y="4754520"/>
            <a:ext cx="519120" cy="330120"/>
          </a:xfrm>
          <a:custGeom>
            <a:avLst/>
            <a:gdLst/>
            <a:ahLst/>
            <a:rect l="l" t="t" r="r" b="b"/>
            <a:pathLst>
              <a:path w="653" h="415">
                <a:moveTo>
                  <a:pt x="97" y="23"/>
                </a:moveTo>
                <a:lnTo>
                  <a:pt x="0" y="248"/>
                </a:lnTo>
                <a:lnTo>
                  <a:pt x="227" y="232"/>
                </a:lnTo>
                <a:lnTo>
                  <a:pt x="447" y="321"/>
                </a:lnTo>
                <a:lnTo>
                  <a:pt x="544" y="415"/>
                </a:lnTo>
                <a:lnTo>
                  <a:pt x="621" y="308"/>
                </a:lnTo>
                <a:lnTo>
                  <a:pt x="653" y="97"/>
                </a:lnTo>
                <a:lnTo>
                  <a:pt x="439" y="135"/>
                </a:lnTo>
                <a:lnTo>
                  <a:pt x="139" y="0"/>
                </a:lnTo>
                <a:lnTo>
                  <a:pt x="97" y="23"/>
                </a:lnTo>
                <a:lnTo>
                  <a:pt x="97" y="23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62720" y="4989600"/>
            <a:ext cx="209520" cy="533160"/>
          </a:xfrm>
          <a:custGeom>
            <a:avLst/>
            <a:gdLst/>
            <a:ahLst/>
            <a:rect l="l" t="t" r="r" b="b"/>
            <a:pathLst>
              <a:path w="263" h="671">
                <a:moveTo>
                  <a:pt x="263" y="0"/>
                </a:moveTo>
                <a:lnTo>
                  <a:pt x="64" y="214"/>
                </a:lnTo>
                <a:lnTo>
                  <a:pt x="0" y="511"/>
                </a:lnTo>
                <a:lnTo>
                  <a:pt x="23" y="658"/>
                </a:lnTo>
                <a:lnTo>
                  <a:pt x="107" y="671"/>
                </a:lnTo>
                <a:lnTo>
                  <a:pt x="161" y="605"/>
                </a:lnTo>
                <a:lnTo>
                  <a:pt x="262" y="131"/>
                </a:lnTo>
                <a:lnTo>
                  <a:pt x="263" y="0"/>
                </a:lnTo>
                <a:lnTo>
                  <a:pt x="26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400800" y="5049720"/>
            <a:ext cx="287280" cy="160560"/>
          </a:xfrm>
          <a:custGeom>
            <a:avLst/>
            <a:gdLst/>
            <a:ahLst/>
            <a:rect l="l" t="t" r="r" b="b"/>
            <a:pathLst>
              <a:path w="363" h="203">
                <a:moveTo>
                  <a:pt x="56" y="0"/>
                </a:moveTo>
                <a:lnTo>
                  <a:pt x="90" y="22"/>
                </a:lnTo>
                <a:lnTo>
                  <a:pt x="126" y="39"/>
                </a:lnTo>
                <a:lnTo>
                  <a:pt x="170" y="57"/>
                </a:lnTo>
                <a:lnTo>
                  <a:pt x="220" y="70"/>
                </a:lnTo>
                <a:lnTo>
                  <a:pt x="270" y="75"/>
                </a:lnTo>
                <a:lnTo>
                  <a:pt x="319" y="64"/>
                </a:lnTo>
                <a:lnTo>
                  <a:pt x="363" y="36"/>
                </a:lnTo>
                <a:lnTo>
                  <a:pt x="285" y="203"/>
                </a:lnTo>
                <a:lnTo>
                  <a:pt x="0" y="64"/>
                </a:lnTo>
                <a:lnTo>
                  <a:pt x="56" y="0"/>
                </a:lnTo>
                <a:lnTo>
                  <a:pt x="56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80280" y="5149800"/>
            <a:ext cx="493560" cy="593640"/>
          </a:xfrm>
          <a:custGeom>
            <a:avLst/>
            <a:gdLst/>
            <a:ahLst/>
            <a:rect l="l" t="t" r="r" b="b"/>
            <a:pathLst>
              <a:path w="621" h="749">
                <a:moveTo>
                  <a:pt x="129" y="0"/>
                </a:moveTo>
                <a:lnTo>
                  <a:pt x="116" y="19"/>
                </a:lnTo>
                <a:lnTo>
                  <a:pt x="86" y="73"/>
                </a:lnTo>
                <a:lnTo>
                  <a:pt x="47" y="151"/>
                </a:lnTo>
                <a:lnTo>
                  <a:pt x="14" y="243"/>
                </a:lnTo>
                <a:lnTo>
                  <a:pt x="0" y="344"/>
                </a:lnTo>
                <a:lnTo>
                  <a:pt x="13" y="443"/>
                </a:lnTo>
                <a:lnTo>
                  <a:pt x="34" y="490"/>
                </a:lnTo>
                <a:lnTo>
                  <a:pt x="68" y="533"/>
                </a:lnTo>
                <a:lnTo>
                  <a:pt x="113" y="571"/>
                </a:lnTo>
                <a:lnTo>
                  <a:pt x="141" y="588"/>
                </a:lnTo>
                <a:lnTo>
                  <a:pt x="173" y="603"/>
                </a:lnTo>
                <a:lnTo>
                  <a:pt x="532" y="749"/>
                </a:lnTo>
                <a:lnTo>
                  <a:pt x="621" y="723"/>
                </a:lnTo>
                <a:lnTo>
                  <a:pt x="621" y="650"/>
                </a:lnTo>
                <a:lnTo>
                  <a:pt x="131" y="443"/>
                </a:lnTo>
                <a:lnTo>
                  <a:pt x="81" y="217"/>
                </a:lnTo>
                <a:lnTo>
                  <a:pt x="150" y="36"/>
                </a:lnTo>
                <a:lnTo>
                  <a:pt x="129" y="0"/>
                </a:lnTo>
                <a:lnTo>
                  <a:pt x="129" y="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004160" y="3589200"/>
            <a:ext cx="1104840" cy="1263960"/>
          </a:xfrm>
          <a:custGeom>
            <a:avLst/>
            <a:gdLst/>
            <a:ahLst/>
            <a:rect l="l" t="t" r="r" b="b"/>
            <a:pathLst>
              <a:path w="1393" h="1592">
                <a:moveTo>
                  <a:pt x="0" y="868"/>
                </a:moveTo>
                <a:lnTo>
                  <a:pt x="136" y="399"/>
                </a:lnTo>
                <a:lnTo>
                  <a:pt x="384" y="119"/>
                </a:lnTo>
                <a:lnTo>
                  <a:pt x="726" y="0"/>
                </a:lnTo>
                <a:lnTo>
                  <a:pt x="1218" y="2"/>
                </a:lnTo>
                <a:lnTo>
                  <a:pt x="1393" y="91"/>
                </a:lnTo>
                <a:lnTo>
                  <a:pt x="1249" y="1254"/>
                </a:lnTo>
                <a:lnTo>
                  <a:pt x="532" y="1581"/>
                </a:lnTo>
                <a:lnTo>
                  <a:pt x="282" y="1592"/>
                </a:lnTo>
                <a:lnTo>
                  <a:pt x="345" y="1116"/>
                </a:lnTo>
                <a:lnTo>
                  <a:pt x="290" y="1036"/>
                </a:lnTo>
                <a:lnTo>
                  <a:pt x="42" y="976"/>
                </a:lnTo>
                <a:lnTo>
                  <a:pt x="0" y="868"/>
                </a:lnTo>
                <a:lnTo>
                  <a:pt x="0" y="868"/>
                </a:lnTo>
                <a:close/>
              </a:path>
            </a:pathLst>
          </a:custGeom>
          <a:solidFill>
            <a:srgbClr val="ffc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872480" y="3591000"/>
            <a:ext cx="150840" cy="615960"/>
          </a:xfrm>
          <a:custGeom>
            <a:avLst/>
            <a:gdLst/>
            <a:ahLst/>
            <a:rect l="l" t="t" r="r" b="b"/>
            <a:pathLst>
              <a:path w="189" h="775">
                <a:moveTo>
                  <a:pt x="173" y="32"/>
                </a:moveTo>
                <a:lnTo>
                  <a:pt x="189" y="199"/>
                </a:lnTo>
                <a:lnTo>
                  <a:pt x="170" y="368"/>
                </a:lnTo>
                <a:lnTo>
                  <a:pt x="142" y="564"/>
                </a:lnTo>
                <a:lnTo>
                  <a:pt x="118" y="653"/>
                </a:lnTo>
                <a:lnTo>
                  <a:pt x="100" y="700"/>
                </a:lnTo>
                <a:lnTo>
                  <a:pt x="79" y="750"/>
                </a:lnTo>
                <a:lnTo>
                  <a:pt x="53" y="775"/>
                </a:lnTo>
                <a:lnTo>
                  <a:pt x="22" y="771"/>
                </a:lnTo>
                <a:lnTo>
                  <a:pt x="0" y="749"/>
                </a:lnTo>
                <a:lnTo>
                  <a:pt x="0" y="715"/>
                </a:lnTo>
                <a:lnTo>
                  <a:pt x="60" y="541"/>
                </a:lnTo>
                <a:lnTo>
                  <a:pt x="84" y="360"/>
                </a:lnTo>
                <a:lnTo>
                  <a:pt x="89" y="53"/>
                </a:lnTo>
                <a:lnTo>
                  <a:pt x="94" y="17"/>
                </a:lnTo>
                <a:lnTo>
                  <a:pt x="120" y="0"/>
                </a:lnTo>
                <a:lnTo>
                  <a:pt x="152" y="3"/>
                </a:lnTo>
                <a:lnTo>
                  <a:pt x="173" y="32"/>
                </a:lnTo>
                <a:lnTo>
                  <a:pt x="173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097840" y="3638520"/>
            <a:ext cx="120600" cy="604800"/>
          </a:xfrm>
          <a:custGeom>
            <a:avLst/>
            <a:gdLst/>
            <a:ahLst/>
            <a:rect l="l" t="t" r="r" b="b"/>
            <a:pathLst>
              <a:path w="151" h="762">
                <a:moveTo>
                  <a:pt x="80" y="21"/>
                </a:moveTo>
                <a:lnTo>
                  <a:pt x="125" y="137"/>
                </a:lnTo>
                <a:lnTo>
                  <a:pt x="143" y="262"/>
                </a:lnTo>
                <a:lnTo>
                  <a:pt x="151" y="499"/>
                </a:lnTo>
                <a:lnTo>
                  <a:pt x="133" y="611"/>
                </a:lnTo>
                <a:lnTo>
                  <a:pt x="101" y="734"/>
                </a:lnTo>
                <a:lnTo>
                  <a:pt x="78" y="762"/>
                </a:lnTo>
                <a:lnTo>
                  <a:pt x="47" y="762"/>
                </a:lnTo>
                <a:lnTo>
                  <a:pt x="23" y="744"/>
                </a:lnTo>
                <a:lnTo>
                  <a:pt x="20" y="708"/>
                </a:lnTo>
                <a:lnTo>
                  <a:pt x="64" y="491"/>
                </a:lnTo>
                <a:lnTo>
                  <a:pt x="57" y="270"/>
                </a:lnTo>
                <a:lnTo>
                  <a:pt x="41" y="162"/>
                </a:lnTo>
                <a:lnTo>
                  <a:pt x="26" y="113"/>
                </a:lnTo>
                <a:lnTo>
                  <a:pt x="4" y="61"/>
                </a:lnTo>
                <a:lnTo>
                  <a:pt x="0" y="27"/>
                </a:lnTo>
                <a:lnTo>
                  <a:pt x="21" y="3"/>
                </a:lnTo>
                <a:lnTo>
                  <a:pt x="52" y="0"/>
                </a:lnTo>
                <a:lnTo>
                  <a:pt x="80" y="21"/>
                </a:lnTo>
                <a:lnTo>
                  <a:pt x="80" y="21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270920" y="4200480"/>
            <a:ext cx="68040" cy="69840"/>
          </a:xfrm>
          <a:custGeom>
            <a:avLst/>
            <a:gdLst/>
            <a:ahLst/>
            <a:rect l="l" t="t" r="r" b="b"/>
            <a:pathLst>
              <a:path w="86" h="88">
                <a:moveTo>
                  <a:pt x="0" y="44"/>
                </a:moveTo>
                <a:lnTo>
                  <a:pt x="13" y="13"/>
                </a:lnTo>
                <a:lnTo>
                  <a:pt x="43" y="0"/>
                </a:lnTo>
                <a:lnTo>
                  <a:pt x="73" y="13"/>
                </a:lnTo>
                <a:lnTo>
                  <a:pt x="86" y="44"/>
                </a:lnTo>
                <a:lnTo>
                  <a:pt x="73" y="75"/>
                </a:lnTo>
                <a:lnTo>
                  <a:pt x="43" y="88"/>
                </a:lnTo>
                <a:lnTo>
                  <a:pt x="13" y="75"/>
                </a:lnTo>
                <a:lnTo>
                  <a:pt x="0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4600" y="4322880"/>
            <a:ext cx="1093680" cy="461880"/>
          </a:xfrm>
          <a:custGeom>
            <a:avLst/>
            <a:gdLst/>
            <a:ahLst/>
            <a:rect l="l" t="t" r="r" b="b"/>
            <a:pathLst>
              <a:path w="1378" h="583">
                <a:moveTo>
                  <a:pt x="1334" y="370"/>
                </a:moveTo>
                <a:lnTo>
                  <a:pt x="1097" y="380"/>
                </a:lnTo>
                <a:lnTo>
                  <a:pt x="992" y="406"/>
                </a:lnTo>
                <a:lnTo>
                  <a:pt x="937" y="430"/>
                </a:lnTo>
                <a:lnTo>
                  <a:pt x="882" y="461"/>
                </a:lnTo>
                <a:lnTo>
                  <a:pt x="849" y="482"/>
                </a:lnTo>
                <a:lnTo>
                  <a:pt x="817" y="503"/>
                </a:lnTo>
                <a:lnTo>
                  <a:pt x="788" y="523"/>
                </a:lnTo>
                <a:lnTo>
                  <a:pt x="758" y="540"/>
                </a:lnTo>
                <a:lnTo>
                  <a:pt x="728" y="555"/>
                </a:lnTo>
                <a:lnTo>
                  <a:pt x="695" y="568"/>
                </a:lnTo>
                <a:lnTo>
                  <a:pt x="621" y="583"/>
                </a:lnTo>
                <a:lnTo>
                  <a:pt x="536" y="579"/>
                </a:lnTo>
                <a:lnTo>
                  <a:pt x="460" y="552"/>
                </a:lnTo>
                <a:lnTo>
                  <a:pt x="402" y="500"/>
                </a:lnTo>
                <a:lnTo>
                  <a:pt x="369" y="427"/>
                </a:lnTo>
                <a:lnTo>
                  <a:pt x="330" y="179"/>
                </a:lnTo>
                <a:lnTo>
                  <a:pt x="317" y="155"/>
                </a:lnTo>
                <a:lnTo>
                  <a:pt x="301" y="133"/>
                </a:lnTo>
                <a:lnTo>
                  <a:pt x="262" y="103"/>
                </a:lnTo>
                <a:lnTo>
                  <a:pt x="215" y="86"/>
                </a:lnTo>
                <a:lnTo>
                  <a:pt x="163" y="93"/>
                </a:lnTo>
                <a:lnTo>
                  <a:pt x="123" y="111"/>
                </a:lnTo>
                <a:lnTo>
                  <a:pt x="86" y="138"/>
                </a:lnTo>
                <a:lnTo>
                  <a:pt x="64" y="167"/>
                </a:lnTo>
                <a:lnTo>
                  <a:pt x="77" y="190"/>
                </a:lnTo>
                <a:lnTo>
                  <a:pt x="191" y="258"/>
                </a:lnTo>
                <a:lnTo>
                  <a:pt x="199" y="309"/>
                </a:lnTo>
                <a:lnTo>
                  <a:pt x="186" y="356"/>
                </a:lnTo>
                <a:lnTo>
                  <a:pt x="159" y="396"/>
                </a:lnTo>
                <a:lnTo>
                  <a:pt x="139" y="411"/>
                </a:lnTo>
                <a:lnTo>
                  <a:pt x="116" y="422"/>
                </a:lnTo>
                <a:lnTo>
                  <a:pt x="81" y="422"/>
                </a:lnTo>
                <a:lnTo>
                  <a:pt x="60" y="398"/>
                </a:lnTo>
                <a:lnTo>
                  <a:pt x="60" y="367"/>
                </a:lnTo>
                <a:lnTo>
                  <a:pt x="84" y="343"/>
                </a:lnTo>
                <a:lnTo>
                  <a:pt x="108" y="320"/>
                </a:lnTo>
                <a:lnTo>
                  <a:pt x="110" y="286"/>
                </a:lnTo>
                <a:lnTo>
                  <a:pt x="99" y="274"/>
                </a:lnTo>
                <a:lnTo>
                  <a:pt x="81" y="273"/>
                </a:lnTo>
                <a:lnTo>
                  <a:pt x="40" y="270"/>
                </a:lnTo>
                <a:lnTo>
                  <a:pt x="13" y="245"/>
                </a:lnTo>
                <a:lnTo>
                  <a:pt x="0" y="213"/>
                </a:lnTo>
                <a:lnTo>
                  <a:pt x="14" y="133"/>
                </a:lnTo>
                <a:lnTo>
                  <a:pt x="37" y="93"/>
                </a:lnTo>
                <a:lnTo>
                  <a:pt x="66" y="57"/>
                </a:lnTo>
                <a:lnTo>
                  <a:pt x="100" y="28"/>
                </a:lnTo>
                <a:lnTo>
                  <a:pt x="137" y="10"/>
                </a:lnTo>
                <a:lnTo>
                  <a:pt x="220" y="0"/>
                </a:lnTo>
                <a:lnTo>
                  <a:pt x="296" y="23"/>
                </a:lnTo>
                <a:lnTo>
                  <a:pt x="361" y="72"/>
                </a:lnTo>
                <a:lnTo>
                  <a:pt x="408" y="143"/>
                </a:lnTo>
                <a:lnTo>
                  <a:pt x="439" y="273"/>
                </a:lnTo>
                <a:lnTo>
                  <a:pt x="454" y="409"/>
                </a:lnTo>
                <a:lnTo>
                  <a:pt x="475" y="453"/>
                </a:lnTo>
                <a:lnTo>
                  <a:pt x="512" y="482"/>
                </a:lnTo>
                <a:lnTo>
                  <a:pt x="561" y="495"/>
                </a:lnTo>
                <a:lnTo>
                  <a:pt x="613" y="497"/>
                </a:lnTo>
                <a:lnTo>
                  <a:pt x="677" y="484"/>
                </a:lnTo>
                <a:lnTo>
                  <a:pt x="731" y="458"/>
                </a:lnTo>
                <a:lnTo>
                  <a:pt x="781" y="424"/>
                </a:lnTo>
                <a:lnTo>
                  <a:pt x="807" y="406"/>
                </a:lnTo>
                <a:lnTo>
                  <a:pt x="836" y="388"/>
                </a:lnTo>
                <a:lnTo>
                  <a:pt x="867" y="369"/>
                </a:lnTo>
                <a:lnTo>
                  <a:pt x="898" y="352"/>
                </a:lnTo>
                <a:lnTo>
                  <a:pt x="956" y="326"/>
                </a:lnTo>
                <a:lnTo>
                  <a:pt x="1015" y="309"/>
                </a:lnTo>
                <a:lnTo>
                  <a:pt x="1073" y="297"/>
                </a:lnTo>
                <a:lnTo>
                  <a:pt x="1334" y="284"/>
                </a:lnTo>
                <a:lnTo>
                  <a:pt x="1367" y="297"/>
                </a:lnTo>
                <a:lnTo>
                  <a:pt x="1378" y="326"/>
                </a:lnTo>
                <a:lnTo>
                  <a:pt x="1367" y="357"/>
                </a:lnTo>
                <a:lnTo>
                  <a:pt x="1334" y="370"/>
                </a:lnTo>
                <a:lnTo>
                  <a:pt x="1334" y="3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88040" y="4491000"/>
            <a:ext cx="468360" cy="739800"/>
          </a:xfrm>
          <a:custGeom>
            <a:avLst/>
            <a:gdLst/>
            <a:ahLst/>
            <a:rect l="l" t="t" r="r" b="b"/>
            <a:pathLst>
              <a:path w="590" h="932">
                <a:moveTo>
                  <a:pt x="250" y="211"/>
                </a:moveTo>
                <a:lnTo>
                  <a:pt x="203" y="214"/>
                </a:lnTo>
                <a:lnTo>
                  <a:pt x="162" y="201"/>
                </a:lnTo>
                <a:lnTo>
                  <a:pt x="143" y="173"/>
                </a:lnTo>
                <a:lnTo>
                  <a:pt x="138" y="141"/>
                </a:lnTo>
                <a:lnTo>
                  <a:pt x="133" y="107"/>
                </a:lnTo>
                <a:lnTo>
                  <a:pt x="117" y="79"/>
                </a:lnTo>
                <a:lnTo>
                  <a:pt x="101" y="78"/>
                </a:lnTo>
                <a:lnTo>
                  <a:pt x="91" y="99"/>
                </a:lnTo>
                <a:lnTo>
                  <a:pt x="86" y="160"/>
                </a:lnTo>
                <a:lnTo>
                  <a:pt x="92" y="188"/>
                </a:lnTo>
                <a:lnTo>
                  <a:pt x="105" y="211"/>
                </a:lnTo>
                <a:lnTo>
                  <a:pt x="128" y="261"/>
                </a:lnTo>
                <a:lnTo>
                  <a:pt x="123" y="295"/>
                </a:lnTo>
                <a:lnTo>
                  <a:pt x="107" y="324"/>
                </a:lnTo>
                <a:lnTo>
                  <a:pt x="91" y="387"/>
                </a:lnTo>
                <a:lnTo>
                  <a:pt x="114" y="413"/>
                </a:lnTo>
                <a:lnTo>
                  <a:pt x="154" y="421"/>
                </a:lnTo>
                <a:lnTo>
                  <a:pt x="227" y="400"/>
                </a:lnTo>
                <a:lnTo>
                  <a:pt x="259" y="391"/>
                </a:lnTo>
                <a:lnTo>
                  <a:pt x="295" y="399"/>
                </a:lnTo>
                <a:lnTo>
                  <a:pt x="321" y="426"/>
                </a:lnTo>
                <a:lnTo>
                  <a:pt x="341" y="460"/>
                </a:lnTo>
                <a:lnTo>
                  <a:pt x="426" y="572"/>
                </a:lnTo>
                <a:lnTo>
                  <a:pt x="422" y="613"/>
                </a:lnTo>
                <a:lnTo>
                  <a:pt x="407" y="647"/>
                </a:lnTo>
                <a:lnTo>
                  <a:pt x="386" y="678"/>
                </a:lnTo>
                <a:lnTo>
                  <a:pt x="360" y="712"/>
                </a:lnTo>
                <a:lnTo>
                  <a:pt x="324" y="751"/>
                </a:lnTo>
                <a:lnTo>
                  <a:pt x="326" y="768"/>
                </a:lnTo>
                <a:lnTo>
                  <a:pt x="341" y="780"/>
                </a:lnTo>
                <a:lnTo>
                  <a:pt x="381" y="799"/>
                </a:lnTo>
                <a:lnTo>
                  <a:pt x="426" y="825"/>
                </a:lnTo>
                <a:lnTo>
                  <a:pt x="465" y="838"/>
                </a:lnTo>
                <a:lnTo>
                  <a:pt x="559" y="853"/>
                </a:lnTo>
                <a:lnTo>
                  <a:pt x="587" y="872"/>
                </a:lnTo>
                <a:lnTo>
                  <a:pt x="590" y="885"/>
                </a:lnTo>
                <a:lnTo>
                  <a:pt x="587" y="901"/>
                </a:lnTo>
                <a:lnTo>
                  <a:pt x="566" y="927"/>
                </a:lnTo>
                <a:lnTo>
                  <a:pt x="529" y="932"/>
                </a:lnTo>
                <a:lnTo>
                  <a:pt x="425" y="903"/>
                </a:lnTo>
                <a:lnTo>
                  <a:pt x="383" y="880"/>
                </a:lnTo>
                <a:lnTo>
                  <a:pt x="332" y="846"/>
                </a:lnTo>
                <a:lnTo>
                  <a:pt x="292" y="823"/>
                </a:lnTo>
                <a:lnTo>
                  <a:pt x="255" y="799"/>
                </a:lnTo>
                <a:lnTo>
                  <a:pt x="229" y="772"/>
                </a:lnTo>
                <a:lnTo>
                  <a:pt x="227" y="734"/>
                </a:lnTo>
                <a:lnTo>
                  <a:pt x="238" y="712"/>
                </a:lnTo>
                <a:lnTo>
                  <a:pt x="255" y="694"/>
                </a:lnTo>
                <a:lnTo>
                  <a:pt x="290" y="658"/>
                </a:lnTo>
                <a:lnTo>
                  <a:pt x="341" y="575"/>
                </a:lnTo>
                <a:lnTo>
                  <a:pt x="319" y="541"/>
                </a:lnTo>
                <a:lnTo>
                  <a:pt x="282" y="514"/>
                </a:lnTo>
                <a:lnTo>
                  <a:pt x="253" y="475"/>
                </a:lnTo>
                <a:lnTo>
                  <a:pt x="229" y="472"/>
                </a:lnTo>
                <a:lnTo>
                  <a:pt x="206" y="485"/>
                </a:lnTo>
                <a:lnTo>
                  <a:pt x="182" y="499"/>
                </a:lnTo>
                <a:lnTo>
                  <a:pt x="154" y="507"/>
                </a:lnTo>
                <a:lnTo>
                  <a:pt x="58" y="481"/>
                </a:lnTo>
                <a:lnTo>
                  <a:pt x="26" y="449"/>
                </a:lnTo>
                <a:lnTo>
                  <a:pt x="7" y="404"/>
                </a:lnTo>
                <a:lnTo>
                  <a:pt x="8" y="368"/>
                </a:lnTo>
                <a:lnTo>
                  <a:pt x="23" y="335"/>
                </a:lnTo>
                <a:lnTo>
                  <a:pt x="42" y="267"/>
                </a:lnTo>
                <a:lnTo>
                  <a:pt x="19" y="214"/>
                </a:lnTo>
                <a:lnTo>
                  <a:pt x="0" y="160"/>
                </a:lnTo>
                <a:lnTo>
                  <a:pt x="18" y="92"/>
                </a:lnTo>
                <a:lnTo>
                  <a:pt x="36" y="60"/>
                </a:lnTo>
                <a:lnTo>
                  <a:pt x="60" y="32"/>
                </a:lnTo>
                <a:lnTo>
                  <a:pt x="88" y="11"/>
                </a:lnTo>
                <a:lnTo>
                  <a:pt x="115" y="0"/>
                </a:lnTo>
                <a:lnTo>
                  <a:pt x="170" y="11"/>
                </a:lnTo>
                <a:lnTo>
                  <a:pt x="188" y="39"/>
                </a:lnTo>
                <a:lnTo>
                  <a:pt x="191" y="73"/>
                </a:lnTo>
                <a:lnTo>
                  <a:pt x="196" y="105"/>
                </a:lnTo>
                <a:lnTo>
                  <a:pt x="214" y="133"/>
                </a:lnTo>
                <a:lnTo>
                  <a:pt x="243" y="125"/>
                </a:lnTo>
                <a:lnTo>
                  <a:pt x="277" y="134"/>
                </a:lnTo>
                <a:lnTo>
                  <a:pt x="289" y="164"/>
                </a:lnTo>
                <a:lnTo>
                  <a:pt x="281" y="194"/>
                </a:lnTo>
                <a:lnTo>
                  <a:pt x="250" y="211"/>
                </a:lnTo>
                <a:lnTo>
                  <a:pt x="250" y="2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512040" y="4950000"/>
            <a:ext cx="317520" cy="880920"/>
          </a:xfrm>
          <a:custGeom>
            <a:avLst/>
            <a:gdLst/>
            <a:ahLst/>
            <a:rect l="l" t="t" r="r" b="b"/>
            <a:pathLst>
              <a:path w="401" h="1109">
                <a:moveTo>
                  <a:pt x="357" y="56"/>
                </a:moveTo>
                <a:lnTo>
                  <a:pt x="337" y="100"/>
                </a:lnTo>
                <a:lnTo>
                  <a:pt x="318" y="137"/>
                </a:lnTo>
                <a:lnTo>
                  <a:pt x="297" y="172"/>
                </a:lnTo>
                <a:lnTo>
                  <a:pt x="274" y="204"/>
                </a:lnTo>
                <a:lnTo>
                  <a:pt x="251" y="236"/>
                </a:lnTo>
                <a:lnTo>
                  <a:pt x="229" y="270"/>
                </a:lnTo>
                <a:lnTo>
                  <a:pt x="182" y="348"/>
                </a:lnTo>
                <a:lnTo>
                  <a:pt x="139" y="489"/>
                </a:lnTo>
                <a:lnTo>
                  <a:pt x="88" y="757"/>
                </a:lnTo>
                <a:lnTo>
                  <a:pt x="91" y="1021"/>
                </a:lnTo>
                <a:lnTo>
                  <a:pt x="357" y="993"/>
                </a:lnTo>
                <a:lnTo>
                  <a:pt x="389" y="1005"/>
                </a:lnTo>
                <a:lnTo>
                  <a:pt x="401" y="1032"/>
                </a:lnTo>
                <a:lnTo>
                  <a:pt x="389" y="1062"/>
                </a:lnTo>
                <a:lnTo>
                  <a:pt x="357" y="1078"/>
                </a:lnTo>
                <a:lnTo>
                  <a:pt x="204" y="1097"/>
                </a:lnTo>
                <a:lnTo>
                  <a:pt x="52" y="1109"/>
                </a:lnTo>
                <a:lnTo>
                  <a:pt x="21" y="1099"/>
                </a:lnTo>
                <a:lnTo>
                  <a:pt x="8" y="1070"/>
                </a:lnTo>
                <a:lnTo>
                  <a:pt x="0" y="766"/>
                </a:lnTo>
                <a:lnTo>
                  <a:pt x="19" y="625"/>
                </a:lnTo>
                <a:lnTo>
                  <a:pt x="36" y="549"/>
                </a:lnTo>
                <a:lnTo>
                  <a:pt x="55" y="468"/>
                </a:lnTo>
                <a:lnTo>
                  <a:pt x="76" y="387"/>
                </a:lnTo>
                <a:lnTo>
                  <a:pt x="105" y="309"/>
                </a:lnTo>
                <a:lnTo>
                  <a:pt x="128" y="269"/>
                </a:lnTo>
                <a:lnTo>
                  <a:pt x="151" y="233"/>
                </a:lnTo>
                <a:lnTo>
                  <a:pt x="174" y="201"/>
                </a:lnTo>
                <a:lnTo>
                  <a:pt x="195" y="170"/>
                </a:lnTo>
                <a:lnTo>
                  <a:pt x="217" y="137"/>
                </a:lnTo>
                <a:lnTo>
                  <a:pt x="238" y="103"/>
                </a:lnTo>
                <a:lnTo>
                  <a:pt x="276" y="26"/>
                </a:lnTo>
                <a:lnTo>
                  <a:pt x="300" y="0"/>
                </a:lnTo>
                <a:lnTo>
                  <a:pt x="332" y="1"/>
                </a:lnTo>
                <a:lnTo>
                  <a:pt x="355" y="21"/>
                </a:lnTo>
                <a:lnTo>
                  <a:pt x="357" y="56"/>
                </a:lnTo>
                <a:lnTo>
                  <a:pt x="357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68960" y="4794120"/>
            <a:ext cx="154080" cy="222480"/>
          </a:xfrm>
          <a:custGeom>
            <a:avLst/>
            <a:gdLst/>
            <a:ahLst/>
            <a:rect l="l" t="t" r="r" b="b"/>
            <a:pathLst>
              <a:path w="193" h="279">
                <a:moveTo>
                  <a:pt x="164" y="85"/>
                </a:moveTo>
                <a:lnTo>
                  <a:pt x="113" y="103"/>
                </a:lnTo>
                <a:lnTo>
                  <a:pt x="84" y="140"/>
                </a:lnTo>
                <a:lnTo>
                  <a:pt x="94" y="176"/>
                </a:lnTo>
                <a:lnTo>
                  <a:pt x="110" y="189"/>
                </a:lnTo>
                <a:lnTo>
                  <a:pt x="129" y="195"/>
                </a:lnTo>
                <a:lnTo>
                  <a:pt x="160" y="213"/>
                </a:lnTo>
                <a:lnTo>
                  <a:pt x="167" y="244"/>
                </a:lnTo>
                <a:lnTo>
                  <a:pt x="152" y="271"/>
                </a:lnTo>
                <a:lnTo>
                  <a:pt x="118" y="279"/>
                </a:lnTo>
                <a:lnTo>
                  <a:pt x="65" y="260"/>
                </a:lnTo>
                <a:lnTo>
                  <a:pt x="22" y="221"/>
                </a:lnTo>
                <a:lnTo>
                  <a:pt x="0" y="172"/>
                </a:lnTo>
                <a:lnTo>
                  <a:pt x="1" y="117"/>
                </a:lnTo>
                <a:lnTo>
                  <a:pt x="21" y="73"/>
                </a:lnTo>
                <a:lnTo>
                  <a:pt x="52" y="41"/>
                </a:lnTo>
                <a:lnTo>
                  <a:pt x="92" y="17"/>
                </a:lnTo>
                <a:lnTo>
                  <a:pt x="141" y="0"/>
                </a:lnTo>
                <a:lnTo>
                  <a:pt x="175" y="5"/>
                </a:lnTo>
                <a:lnTo>
                  <a:pt x="193" y="31"/>
                </a:lnTo>
                <a:lnTo>
                  <a:pt x="191" y="64"/>
                </a:lnTo>
                <a:lnTo>
                  <a:pt x="164" y="85"/>
                </a:lnTo>
                <a:lnTo>
                  <a:pt x="164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122960" y="4794120"/>
            <a:ext cx="193680" cy="220680"/>
          </a:xfrm>
          <a:custGeom>
            <a:avLst/>
            <a:gdLst/>
            <a:ahLst/>
            <a:rect l="l" t="t" r="r" b="b"/>
            <a:pathLst>
              <a:path w="245" h="278">
                <a:moveTo>
                  <a:pt x="52" y="190"/>
                </a:moveTo>
                <a:lnTo>
                  <a:pt x="120" y="189"/>
                </a:lnTo>
                <a:lnTo>
                  <a:pt x="159" y="143"/>
                </a:lnTo>
                <a:lnTo>
                  <a:pt x="153" y="119"/>
                </a:lnTo>
                <a:lnTo>
                  <a:pt x="136" y="101"/>
                </a:lnTo>
                <a:lnTo>
                  <a:pt x="85" y="86"/>
                </a:lnTo>
                <a:lnTo>
                  <a:pt x="52" y="73"/>
                </a:lnTo>
                <a:lnTo>
                  <a:pt x="41" y="44"/>
                </a:lnTo>
                <a:lnTo>
                  <a:pt x="52" y="13"/>
                </a:lnTo>
                <a:lnTo>
                  <a:pt x="85" y="0"/>
                </a:lnTo>
                <a:lnTo>
                  <a:pt x="146" y="12"/>
                </a:lnTo>
                <a:lnTo>
                  <a:pt x="198" y="44"/>
                </a:lnTo>
                <a:lnTo>
                  <a:pt x="234" y="91"/>
                </a:lnTo>
                <a:lnTo>
                  <a:pt x="245" y="150"/>
                </a:lnTo>
                <a:lnTo>
                  <a:pt x="237" y="184"/>
                </a:lnTo>
                <a:lnTo>
                  <a:pt x="221" y="214"/>
                </a:lnTo>
                <a:lnTo>
                  <a:pt x="196" y="239"/>
                </a:lnTo>
                <a:lnTo>
                  <a:pt x="169" y="257"/>
                </a:lnTo>
                <a:lnTo>
                  <a:pt x="136" y="271"/>
                </a:lnTo>
                <a:lnTo>
                  <a:pt x="101" y="278"/>
                </a:lnTo>
                <a:lnTo>
                  <a:pt x="29" y="273"/>
                </a:lnTo>
                <a:lnTo>
                  <a:pt x="2" y="252"/>
                </a:lnTo>
                <a:lnTo>
                  <a:pt x="0" y="219"/>
                </a:lnTo>
                <a:lnTo>
                  <a:pt x="18" y="195"/>
                </a:lnTo>
                <a:lnTo>
                  <a:pt x="52" y="190"/>
                </a:lnTo>
                <a:lnTo>
                  <a:pt x="52" y="1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904080" y="4745160"/>
            <a:ext cx="297000" cy="241200"/>
          </a:xfrm>
          <a:custGeom>
            <a:avLst/>
            <a:gdLst/>
            <a:ahLst/>
            <a:rect l="l" t="t" r="r" b="b"/>
            <a:pathLst>
              <a:path w="374" h="303">
                <a:moveTo>
                  <a:pt x="316" y="143"/>
                </a:moveTo>
                <a:lnTo>
                  <a:pt x="266" y="110"/>
                </a:lnTo>
                <a:lnTo>
                  <a:pt x="217" y="70"/>
                </a:lnTo>
                <a:lnTo>
                  <a:pt x="196" y="53"/>
                </a:lnTo>
                <a:lnTo>
                  <a:pt x="178" y="45"/>
                </a:lnTo>
                <a:lnTo>
                  <a:pt x="155" y="66"/>
                </a:lnTo>
                <a:lnTo>
                  <a:pt x="139" y="110"/>
                </a:lnTo>
                <a:lnTo>
                  <a:pt x="115" y="147"/>
                </a:lnTo>
                <a:lnTo>
                  <a:pt x="73" y="219"/>
                </a:lnTo>
                <a:lnTo>
                  <a:pt x="218" y="201"/>
                </a:lnTo>
                <a:lnTo>
                  <a:pt x="253" y="211"/>
                </a:lnTo>
                <a:lnTo>
                  <a:pt x="266" y="238"/>
                </a:lnTo>
                <a:lnTo>
                  <a:pt x="257" y="267"/>
                </a:lnTo>
                <a:lnTo>
                  <a:pt x="227" y="284"/>
                </a:lnTo>
                <a:lnTo>
                  <a:pt x="45" y="303"/>
                </a:lnTo>
                <a:lnTo>
                  <a:pt x="22" y="303"/>
                </a:lnTo>
                <a:lnTo>
                  <a:pt x="6" y="290"/>
                </a:lnTo>
                <a:lnTo>
                  <a:pt x="0" y="237"/>
                </a:lnTo>
                <a:lnTo>
                  <a:pt x="13" y="180"/>
                </a:lnTo>
                <a:lnTo>
                  <a:pt x="32" y="141"/>
                </a:lnTo>
                <a:lnTo>
                  <a:pt x="71" y="49"/>
                </a:lnTo>
                <a:lnTo>
                  <a:pt x="86" y="18"/>
                </a:lnTo>
                <a:lnTo>
                  <a:pt x="110" y="0"/>
                </a:lnTo>
                <a:lnTo>
                  <a:pt x="180" y="0"/>
                </a:lnTo>
                <a:lnTo>
                  <a:pt x="266" y="29"/>
                </a:lnTo>
                <a:lnTo>
                  <a:pt x="309" y="47"/>
                </a:lnTo>
                <a:lnTo>
                  <a:pt x="350" y="65"/>
                </a:lnTo>
                <a:lnTo>
                  <a:pt x="374" y="89"/>
                </a:lnTo>
                <a:lnTo>
                  <a:pt x="373" y="121"/>
                </a:lnTo>
                <a:lnTo>
                  <a:pt x="350" y="144"/>
                </a:lnTo>
                <a:lnTo>
                  <a:pt x="316" y="143"/>
                </a:lnTo>
                <a:lnTo>
                  <a:pt x="316" y="1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226280" y="4811760"/>
            <a:ext cx="257040" cy="303120"/>
          </a:xfrm>
          <a:custGeom>
            <a:avLst/>
            <a:gdLst/>
            <a:ahLst/>
            <a:rect l="l" t="t" r="r" b="b"/>
            <a:pathLst>
              <a:path w="324" h="382">
                <a:moveTo>
                  <a:pt x="71" y="175"/>
                </a:moveTo>
                <a:lnTo>
                  <a:pt x="163" y="277"/>
                </a:lnTo>
                <a:lnTo>
                  <a:pt x="214" y="188"/>
                </a:lnTo>
                <a:lnTo>
                  <a:pt x="235" y="87"/>
                </a:lnTo>
                <a:lnTo>
                  <a:pt x="73" y="103"/>
                </a:lnTo>
                <a:lnTo>
                  <a:pt x="38" y="97"/>
                </a:lnTo>
                <a:lnTo>
                  <a:pt x="24" y="73"/>
                </a:lnTo>
                <a:lnTo>
                  <a:pt x="32" y="42"/>
                </a:lnTo>
                <a:lnTo>
                  <a:pt x="43" y="30"/>
                </a:lnTo>
                <a:lnTo>
                  <a:pt x="61" y="24"/>
                </a:lnTo>
                <a:lnTo>
                  <a:pt x="171" y="4"/>
                </a:lnTo>
                <a:lnTo>
                  <a:pt x="282" y="0"/>
                </a:lnTo>
                <a:lnTo>
                  <a:pt x="316" y="13"/>
                </a:lnTo>
                <a:lnTo>
                  <a:pt x="324" y="47"/>
                </a:lnTo>
                <a:lnTo>
                  <a:pt x="314" y="141"/>
                </a:lnTo>
                <a:lnTo>
                  <a:pt x="293" y="222"/>
                </a:lnTo>
                <a:lnTo>
                  <a:pt x="277" y="259"/>
                </a:lnTo>
                <a:lnTo>
                  <a:pt x="256" y="296"/>
                </a:lnTo>
                <a:lnTo>
                  <a:pt x="230" y="332"/>
                </a:lnTo>
                <a:lnTo>
                  <a:pt x="196" y="368"/>
                </a:lnTo>
                <a:lnTo>
                  <a:pt x="168" y="382"/>
                </a:lnTo>
                <a:lnTo>
                  <a:pt x="137" y="371"/>
                </a:lnTo>
                <a:lnTo>
                  <a:pt x="68" y="304"/>
                </a:lnTo>
                <a:lnTo>
                  <a:pt x="9" y="225"/>
                </a:lnTo>
                <a:lnTo>
                  <a:pt x="0" y="189"/>
                </a:lnTo>
                <a:lnTo>
                  <a:pt x="14" y="165"/>
                </a:lnTo>
                <a:lnTo>
                  <a:pt x="42" y="155"/>
                </a:lnTo>
                <a:lnTo>
                  <a:pt x="71" y="175"/>
                </a:lnTo>
                <a:lnTo>
                  <a:pt x="71" y="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402680" y="4543560"/>
            <a:ext cx="637920" cy="334800"/>
          </a:xfrm>
          <a:custGeom>
            <a:avLst/>
            <a:gdLst/>
            <a:ahLst/>
            <a:rect l="l" t="t" r="r" b="b"/>
            <a:pathLst>
              <a:path w="802" h="422">
                <a:moveTo>
                  <a:pt x="22" y="342"/>
                </a:moveTo>
                <a:lnTo>
                  <a:pt x="58" y="323"/>
                </a:lnTo>
                <a:lnTo>
                  <a:pt x="92" y="305"/>
                </a:lnTo>
                <a:lnTo>
                  <a:pt x="155" y="273"/>
                </a:lnTo>
                <a:lnTo>
                  <a:pt x="215" y="242"/>
                </a:lnTo>
                <a:lnTo>
                  <a:pt x="272" y="213"/>
                </a:lnTo>
                <a:lnTo>
                  <a:pt x="331" y="185"/>
                </a:lnTo>
                <a:lnTo>
                  <a:pt x="389" y="156"/>
                </a:lnTo>
                <a:lnTo>
                  <a:pt x="454" y="125"/>
                </a:lnTo>
                <a:lnTo>
                  <a:pt x="523" y="91"/>
                </a:lnTo>
                <a:lnTo>
                  <a:pt x="737" y="5"/>
                </a:lnTo>
                <a:lnTo>
                  <a:pt x="772" y="0"/>
                </a:lnTo>
                <a:lnTo>
                  <a:pt x="796" y="20"/>
                </a:lnTo>
                <a:lnTo>
                  <a:pt x="802" y="51"/>
                </a:lnTo>
                <a:lnTo>
                  <a:pt x="783" y="78"/>
                </a:lnTo>
                <a:lnTo>
                  <a:pt x="726" y="107"/>
                </a:lnTo>
                <a:lnTo>
                  <a:pt x="673" y="127"/>
                </a:lnTo>
                <a:lnTo>
                  <a:pt x="561" y="169"/>
                </a:lnTo>
                <a:lnTo>
                  <a:pt x="491" y="203"/>
                </a:lnTo>
                <a:lnTo>
                  <a:pt x="428" y="234"/>
                </a:lnTo>
                <a:lnTo>
                  <a:pt x="368" y="263"/>
                </a:lnTo>
                <a:lnTo>
                  <a:pt x="311" y="291"/>
                </a:lnTo>
                <a:lnTo>
                  <a:pt x="254" y="320"/>
                </a:lnTo>
                <a:lnTo>
                  <a:pt x="194" y="349"/>
                </a:lnTo>
                <a:lnTo>
                  <a:pt x="131" y="383"/>
                </a:lnTo>
                <a:lnTo>
                  <a:pt x="99" y="401"/>
                </a:lnTo>
                <a:lnTo>
                  <a:pt x="63" y="419"/>
                </a:lnTo>
                <a:lnTo>
                  <a:pt x="27" y="422"/>
                </a:lnTo>
                <a:lnTo>
                  <a:pt x="5" y="401"/>
                </a:lnTo>
                <a:lnTo>
                  <a:pt x="0" y="370"/>
                </a:lnTo>
                <a:lnTo>
                  <a:pt x="22" y="342"/>
                </a:lnTo>
                <a:lnTo>
                  <a:pt x="22" y="3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64400" y="4913280"/>
            <a:ext cx="333360" cy="880920"/>
          </a:xfrm>
          <a:custGeom>
            <a:avLst/>
            <a:gdLst/>
            <a:ahLst/>
            <a:rect l="l" t="t" r="r" b="b"/>
            <a:pathLst>
              <a:path w="420" h="1110">
                <a:moveTo>
                  <a:pt x="406" y="76"/>
                </a:moveTo>
                <a:lnTo>
                  <a:pt x="364" y="113"/>
                </a:lnTo>
                <a:lnTo>
                  <a:pt x="323" y="150"/>
                </a:lnTo>
                <a:lnTo>
                  <a:pt x="287" y="186"/>
                </a:lnTo>
                <a:lnTo>
                  <a:pt x="253" y="222"/>
                </a:lnTo>
                <a:lnTo>
                  <a:pt x="223" y="259"/>
                </a:lnTo>
                <a:lnTo>
                  <a:pt x="193" y="298"/>
                </a:lnTo>
                <a:lnTo>
                  <a:pt x="140" y="395"/>
                </a:lnTo>
                <a:lnTo>
                  <a:pt x="111" y="478"/>
                </a:lnTo>
                <a:lnTo>
                  <a:pt x="99" y="557"/>
                </a:lnTo>
                <a:lnTo>
                  <a:pt x="91" y="731"/>
                </a:lnTo>
                <a:lnTo>
                  <a:pt x="88" y="820"/>
                </a:lnTo>
                <a:lnTo>
                  <a:pt x="91" y="909"/>
                </a:lnTo>
                <a:lnTo>
                  <a:pt x="95" y="1015"/>
                </a:lnTo>
                <a:lnTo>
                  <a:pt x="85" y="1068"/>
                </a:lnTo>
                <a:lnTo>
                  <a:pt x="64" y="1110"/>
                </a:lnTo>
                <a:lnTo>
                  <a:pt x="0" y="1086"/>
                </a:lnTo>
                <a:lnTo>
                  <a:pt x="13" y="1005"/>
                </a:lnTo>
                <a:lnTo>
                  <a:pt x="5" y="916"/>
                </a:lnTo>
                <a:lnTo>
                  <a:pt x="2" y="820"/>
                </a:lnTo>
                <a:lnTo>
                  <a:pt x="5" y="724"/>
                </a:lnTo>
                <a:lnTo>
                  <a:pt x="15" y="536"/>
                </a:lnTo>
                <a:lnTo>
                  <a:pt x="30" y="450"/>
                </a:lnTo>
                <a:lnTo>
                  <a:pt x="43" y="405"/>
                </a:lnTo>
                <a:lnTo>
                  <a:pt x="62" y="358"/>
                </a:lnTo>
                <a:lnTo>
                  <a:pt x="90" y="303"/>
                </a:lnTo>
                <a:lnTo>
                  <a:pt x="119" y="254"/>
                </a:lnTo>
                <a:lnTo>
                  <a:pt x="151" y="210"/>
                </a:lnTo>
                <a:lnTo>
                  <a:pt x="184" y="170"/>
                </a:lnTo>
                <a:lnTo>
                  <a:pt x="221" y="131"/>
                </a:lnTo>
                <a:lnTo>
                  <a:pt x="260" y="92"/>
                </a:lnTo>
                <a:lnTo>
                  <a:pt x="302" y="53"/>
                </a:lnTo>
                <a:lnTo>
                  <a:pt x="347" y="11"/>
                </a:lnTo>
                <a:lnTo>
                  <a:pt x="380" y="0"/>
                </a:lnTo>
                <a:lnTo>
                  <a:pt x="409" y="14"/>
                </a:lnTo>
                <a:lnTo>
                  <a:pt x="420" y="43"/>
                </a:lnTo>
                <a:lnTo>
                  <a:pt x="406" y="76"/>
                </a:lnTo>
                <a:lnTo>
                  <a:pt x="406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70880" y="4514760"/>
            <a:ext cx="838080" cy="1139760"/>
          </a:xfrm>
          <a:custGeom>
            <a:avLst/>
            <a:gdLst/>
            <a:ahLst/>
            <a:rect l="l" t="t" r="r" b="b"/>
            <a:pathLst>
              <a:path w="1056" h="1434">
                <a:moveTo>
                  <a:pt x="444" y="0"/>
                </a:moveTo>
                <a:lnTo>
                  <a:pt x="631" y="34"/>
                </a:lnTo>
                <a:lnTo>
                  <a:pt x="710" y="66"/>
                </a:lnTo>
                <a:lnTo>
                  <a:pt x="749" y="87"/>
                </a:lnTo>
                <a:lnTo>
                  <a:pt x="785" y="110"/>
                </a:lnTo>
                <a:lnTo>
                  <a:pt x="851" y="165"/>
                </a:lnTo>
                <a:lnTo>
                  <a:pt x="913" y="230"/>
                </a:lnTo>
                <a:lnTo>
                  <a:pt x="940" y="266"/>
                </a:lnTo>
                <a:lnTo>
                  <a:pt x="968" y="304"/>
                </a:lnTo>
                <a:lnTo>
                  <a:pt x="1018" y="389"/>
                </a:lnTo>
                <a:lnTo>
                  <a:pt x="1046" y="483"/>
                </a:lnTo>
                <a:lnTo>
                  <a:pt x="1051" y="585"/>
                </a:lnTo>
                <a:lnTo>
                  <a:pt x="1056" y="679"/>
                </a:lnTo>
                <a:lnTo>
                  <a:pt x="1051" y="762"/>
                </a:lnTo>
                <a:lnTo>
                  <a:pt x="1030" y="843"/>
                </a:lnTo>
                <a:lnTo>
                  <a:pt x="1012" y="883"/>
                </a:lnTo>
                <a:lnTo>
                  <a:pt x="991" y="927"/>
                </a:lnTo>
                <a:lnTo>
                  <a:pt x="962" y="974"/>
                </a:lnTo>
                <a:lnTo>
                  <a:pt x="932" y="1016"/>
                </a:lnTo>
                <a:lnTo>
                  <a:pt x="902" y="1053"/>
                </a:lnTo>
                <a:lnTo>
                  <a:pt x="869" y="1088"/>
                </a:lnTo>
                <a:lnTo>
                  <a:pt x="833" y="1117"/>
                </a:lnTo>
                <a:lnTo>
                  <a:pt x="793" y="1144"/>
                </a:lnTo>
                <a:lnTo>
                  <a:pt x="749" y="1170"/>
                </a:lnTo>
                <a:lnTo>
                  <a:pt x="699" y="1193"/>
                </a:lnTo>
                <a:lnTo>
                  <a:pt x="606" y="1199"/>
                </a:lnTo>
                <a:lnTo>
                  <a:pt x="566" y="1204"/>
                </a:lnTo>
                <a:lnTo>
                  <a:pt x="535" y="1230"/>
                </a:lnTo>
                <a:lnTo>
                  <a:pt x="470" y="1392"/>
                </a:lnTo>
                <a:lnTo>
                  <a:pt x="438" y="1420"/>
                </a:lnTo>
                <a:lnTo>
                  <a:pt x="399" y="1434"/>
                </a:lnTo>
                <a:lnTo>
                  <a:pt x="315" y="1420"/>
                </a:lnTo>
                <a:lnTo>
                  <a:pt x="264" y="1383"/>
                </a:lnTo>
                <a:lnTo>
                  <a:pt x="235" y="1332"/>
                </a:lnTo>
                <a:lnTo>
                  <a:pt x="230" y="1206"/>
                </a:lnTo>
                <a:lnTo>
                  <a:pt x="185" y="1220"/>
                </a:lnTo>
                <a:lnTo>
                  <a:pt x="143" y="1233"/>
                </a:lnTo>
                <a:lnTo>
                  <a:pt x="55" y="1217"/>
                </a:lnTo>
                <a:lnTo>
                  <a:pt x="19" y="1170"/>
                </a:lnTo>
                <a:lnTo>
                  <a:pt x="24" y="1109"/>
                </a:lnTo>
                <a:lnTo>
                  <a:pt x="37" y="1075"/>
                </a:lnTo>
                <a:lnTo>
                  <a:pt x="55" y="1042"/>
                </a:lnTo>
                <a:lnTo>
                  <a:pt x="79" y="1010"/>
                </a:lnTo>
                <a:lnTo>
                  <a:pt x="105" y="981"/>
                </a:lnTo>
                <a:lnTo>
                  <a:pt x="23" y="912"/>
                </a:lnTo>
                <a:lnTo>
                  <a:pt x="0" y="874"/>
                </a:lnTo>
                <a:lnTo>
                  <a:pt x="0" y="825"/>
                </a:lnTo>
                <a:lnTo>
                  <a:pt x="24" y="779"/>
                </a:lnTo>
                <a:lnTo>
                  <a:pt x="44" y="765"/>
                </a:lnTo>
                <a:lnTo>
                  <a:pt x="66" y="754"/>
                </a:lnTo>
                <a:lnTo>
                  <a:pt x="178" y="742"/>
                </a:lnTo>
                <a:lnTo>
                  <a:pt x="165" y="627"/>
                </a:lnTo>
                <a:lnTo>
                  <a:pt x="180" y="583"/>
                </a:lnTo>
                <a:lnTo>
                  <a:pt x="221" y="554"/>
                </a:lnTo>
                <a:lnTo>
                  <a:pt x="287" y="548"/>
                </a:lnTo>
                <a:lnTo>
                  <a:pt x="349" y="575"/>
                </a:lnTo>
                <a:lnTo>
                  <a:pt x="404" y="625"/>
                </a:lnTo>
                <a:lnTo>
                  <a:pt x="451" y="684"/>
                </a:lnTo>
                <a:lnTo>
                  <a:pt x="477" y="739"/>
                </a:lnTo>
                <a:lnTo>
                  <a:pt x="491" y="763"/>
                </a:lnTo>
                <a:lnTo>
                  <a:pt x="514" y="778"/>
                </a:lnTo>
                <a:lnTo>
                  <a:pt x="537" y="767"/>
                </a:lnTo>
                <a:lnTo>
                  <a:pt x="556" y="741"/>
                </a:lnTo>
                <a:lnTo>
                  <a:pt x="587" y="703"/>
                </a:lnTo>
                <a:lnTo>
                  <a:pt x="566" y="677"/>
                </a:lnTo>
                <a:lnTo>
                  <a:pt x="530" y="663"/>
                </a:lnTo>
                <a:lnTo>
                  <a:pt x="504" y="640"/>
                </a:lnTo>
                <a:lnTo>
                  <a:pt x="504" y="608"/>
                </a:lnTo>
                <a:lnTo>
                  <a:pt x="524" y="583"/>
                </a:lnTo>
                <a:lnTo>
                  <a:pt x="559" y="582"/>
                </a:lnTo>
                <a:lnTo>
                  <a:pt x="634" y="622"/>
                </a:lnTo>
                <a:lnTo>
                  <a:pt x="673" y="690"/>
                </a:lnTo>
                <a:lnTo>
                  <a:pt x="671" y="724"/>
                </a:lnTo>
                <a:lnTo>
                  <a:pt x="660" y="752"/>
                </a:lnTo>
                <a:lnTo>
                  <a:pt x="639" y="779"/>
                </a:lnTo>
                <a:lnTo>
                  <a:pt x="615" y="804"/>
                </a:lnTo>
                <a:lnTo>
                  <a:pt x="587" y="830"/>
                </a:lnTo>
                <a:lnTo>
                  <a:pt x="558" y="849"/>
                </a:lnTo>
                <a:lnTo>
                  <a:pt x="527" y="862"/>
                </a:lnTo>
                <a:lnTo>
                  <a:pt x="491" y="861"/>
                </a:lnTo>
                <a:lnTo>
                  <a:pt x="428" y="810"/>
                </a:lnTo>
                <a:lnTo>
                  <a:pt x="383" y="736"/>
                </a:lnTo>
                <a:lnTo>
                  <a:pt x="355" y="695"/>
                </a:lnTo>
                <a:lnTo>
                  <a:pt x="324" y="658"/>
                </a:lnTo>
                <a:lnTo>
                  <a:pt x="308" y="643"/>
                </a:lnTo>
                <a:lnTo>
                  <a:pt x="292" y="634"/>
                </a:lnTo>
                <a:lnTo>
                  <a:pt x="251" y="635"/>
                </a:lnTo>
                <a:lnTo>
                  <a:pt x="230" y="660"/>
                </a:lnTo>
                <a:lnTo>
                  <a:pt x="238" y="695"/>
                </a:lnTo>
                <a:lnTo>
                  <a:pt x="276" y="788"/>
                </a:lnTo>
                <a:lnTo>
                  <a:pt x="266" y="830"/>
                </a:lnTo>
                <a:lnTo>
                  <a:pt x="222" y="836"/>
                </a:lnTo>
                <a:lnTo>
                  <a:pt x="138" y="818"/>
                </a:lnTo>
                <a:lnTo>
                  <a:pt x="104" y="822"/>
                </a:lnTo>
                <a:lnTo>
                  <a:pt x="83" y="848"/>
                </a:lnTo>
                <a:lnTo>
                  <a:pt x="89" y="882"/>
                </a:lnTo>
                <a:lnTo>
                  <a:pt x="120" y="904"/>
                </a:lnTo>
                <a:lnTo>
                  <a:pt x="201" y="948"/>
                </a:lnTo>
                <a:lnTo>
                  <a:pt x="221" y="982"/>
                </a:lnTo>
                <a:lnTo>
                  <a:pt x="214" y="998"/>
                </a:lnTo>
                <a:lnTo>
                  <a:pt x="198" y="1015"/>
                </a:lnTo>
                <a:lnTo>
                  <a:pt x="154" y="1045"/>
                </a:lnTo>
                <a:lnTo>
                  <a:pt x="110" y="1081"/>
                </a:lnTo>
                <a:lnTo>
                  <a:pt x="88" y="1115"/>
                </a:lnTo>
                <a:lnTo>
                  <a:pt x="101" y="1144"/>
                </a:lnTo>
                <a:lnTo>
                  <a:pt x="148" y="1156"/>
                </a:lnTo>
                <a:lnTo>
                  <a:pt x="193" y="1143"/>
                </a:lnTo>
                <a:lnTo>
                  <a:pt x="240" y="1122"/>
                </a:lnTo>
                <a:lnTo>
                  <a:pt x="292" y="1110"/>
                </a:lnTo>
                <a:lnTo>
                  <a:pt x="334" y="1126"/>
                </a:lnTo>
                <a:lnTo>
                  <a:pt x="331" y="1172"/>
                </a:lnTo>
                <a:lnTo>
                  <a:pt x="308" y="1269"/>
                </a:lnTo>
                <a:lnTo>
                  <a:pt x="318" y="1313"/>
                </a:lnTo>
                <a:lnTo>
                  <a:pt x="350" y="1342"/>
                </a:lnTo>
                <a:lnTo>
                  <a:pt x="379" y="1350"/>
                </a:lnTo>
                <a:lnTo>
                  <a:pt x="404" y="1339"/>
                </a:lnTo>
                <a:lnTo>
                  <a:pt x="435" y="1266"/>
                </a:lnTo>
                <a:lnTo>
                  <a:pt x="460" y="1188"/>
                </a:lnTo>
                <a:lnTo>
                  <a:pt x="477" y="1164"/>
                </a:lnTo>
                <a:lnTo>
                  <a:pt x="498" y="1149"/>
                </a:lnTo>
                <a:lnTo>
                  <a:pt x="548" y="1135"/>
                </a:lnTo>
                <a:lnTo>
                  <a:pt x="665" y="1113"/>
                </a:lnTo>
                <a:lnTo>
                  <a:pt x="746" y="1071"/>
                </a:lnTo>
                <a:lnTo>
                  <a:pt x="811" y="1023"/>
                </a:lnTo>
                <a:lnTo>
                  <a:pt x="866" y="961"/>
                </a:lnTo>
                <a:lnTo>
                  <a:pt x="890" y="925"/>
                </a:lnTo>
                <a:lnTo>
                  <a:pt x="916" y="883"/>
                </a:lnTo>
                <a:lnTo>
                  <a:pt x="965" y="744"/>
                </a:lnTo>
                <a:lnTo>
                  <a:pt x="970" y="672"/>
                </a:lnTo>
                <a:lnTo>
                  <a:pt x="965" y="591"/>
                </a:lnTo>
                <a:lnTo>
                  <a:pt x="942" y="429"/>
                </a:lnTo>
                <a:lnTo>
                  <a:pt x="921" y="392"/>
                </a:lnTo>
                <a:lnTo>
                  <a:pt x="898" y="355"/>
                </a:lnTo>
                <a:lnTo>
                  <a:pt x="874" y="321"/>
                </a:lnTo>
                <a:lnTo>
                  <a:pt x="850" y="290"/>
                </a:lnTo>
                <a:lnTo>
                  <a:pt x="824" y="259"/>
                </a:lnTo>
                <a:lnTo>
                  <a:pt x="796" y="232"/>
                </a:lnTo>
                <a:lnTo>
                  <a:pt x="738" y="184"/>
                </a:lnTo>
                <a:lnTo>
                  <a:pt x="707" y="163"/>
                </a:lnTo>
                <a:lnTo>
                  <a:pt x="673" y="146"/>
                </a:lnTo>
                <a:lnTo>
                  <a:pt x="639" y="129"/>
                </a:lnTo>
                <a:lnTo>
                  <a:pt x="603" y="115"/>
                </a:lnTo>
                <a:lnTo>
                  <a:pt x="525" y="95"/>
                </a:lnTo>
                <a:lnTo>
                  <a:pt x="439" y="86"/>
                </a:lnTo>
                <a:lnTo>
                  <a:pt x="409" y="69"/>
                </a:lnTo>
                <a:lnTo>
                  <a:pt x="399" y="40"/>
                </a:lnTo>
                <a:lnTo>
                  <a:pt x="412" y="11"/>
                </a:lnTo>
                <a:lnTo>
                  <a:pt x="444" y="0"/>
                </a:lnTo>
                <a:lnTo>
                  <a:pt x="44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26360" y="4916520"/>
            <a:ext cx="527040" cy="644400"/>
          </a:xfrm>
          <a:custGeom>
            <a:avLst/>
            <a:gdLst/>
            <a:ahLst/>
            <a:rect l="l" t="t" r="r" b="b"/>
            <a:pathLst>
              <a:path w="665" h="811">
                <a:moveTo>
                  <a:pt x="610" y="189"/>
                </a:moveTo>
                <a:lnTo>
                  <a:pt x="568" y="166"/>
                </a:lnTo>
                <a:lnTo>
                  <a:pt x="532" y="148"/>
                </a:lnTo>
                <a:lnTo>
                  <a:pt x="453" y="117"/>
                </a:lnTo>
                <a:lnTo>
                  <a:pt x="407" y="93"/>
                </a:lnTo>
                <a:lnTo>
                  <a:pt x="365" y="95"/>
                </a:lnTo>
                <a:lnTo>
                  <a:pt x="357" y="132"/>
                </a:lnTo>
                <a:lnTo>
                  <a:pt x="339" y="364"/>
                </a:lnTo>
                <a:lnTo>
                  <a:pt x="318" y="471"/>
                </a:lnTo>
                <a:lnTo>
                  <a:pt x="286" y="589"/>
                </a:lnTo>
                <a:lnTo>
                  <a:pt x="252" y="717"/>
                </a:lnTo>
                <a:lnTo>
                  <a:pt x="221" y="769"/>
                </a:lnTo>
                <a:lnTo>
                  <a:pt x="172" y="806"/>
                </a:lnTo>
                <a:lnTo>
                  <a:pt x="111" y="811"/>
                </a:lnTo>
                <a:lnTo>
                  <a:pt x="56" y="779"/>
                </a:lnTo>
                <a:lnTo>
                  <a:pt x="17" y="720"/>
                </a:lnTo>
                <a:lnTo>
                  <a:pt x="0" y="654"/>
                </a:lnTo>
                <a:lnTo>
                  <a:pt x="17" y="467"/>
                </a:lnTo>
                <a:lnTo>
                  <a:pt x="36" y="385"/>
                </a:lnTo>
                <a:lnTo>
                  <a:pt x="65" y="284"/>
                </a:lnTo>
                <a:lnTo>
                  <a:pt x="86" y="255"/>
                </a:lnTo>
                <a:lnTo>
                  <a:pt x="116" y="250"/>
                </a:lnTo>
                <a:lnTo>
                  <a:pt x="138" y="265"/>
                </a:lnTo>
                <a:lnTo>
                  <a:pt x="141" y="299"/>
                </a:lnTo>
                <a:lnTo>
                  <a:pt x="99" y="474"/>
                </a:lnTo>
                <a:lnTo>
                  <a:pt x="88" y="654"/>
                </a:lnTo>
                <a:lnTo>
                  <a:pt x="99" y="709"/>
                </a:lnTo>
                <a:lnTo>
                  <a:pt x="114" y="728"/>
                </a:lnTo>
                <a:lnTo>
                  <a:pt x="135" y="728"/>
                </a:lnTo>
                <a:lnTo>
                  <a:pt x="169" y="701"/>
                </a:lnTo>
                <a:lnTo>
                  <a:pt x="185" y="662"/>
                </a:lnTo>
                <a:lnTo>
                  <a:pt x="203" y="566"/>
                </a:lnTo>
                <a:lnTo>
                  <a:pt x="232" y="453"/>
                </a:lnTo>
                <a:lnTo>
                  <a:pt x="253" y="352"/>
                </a:lnTo>
                <a:lnTo>
                  <a:pt x="271" y="132"/>
                </a:lnTo>
                <a:lnTo>
                  <a:pt x="273" y="64"/>
                </a:lnTo>
                <a:lnTo>
                  <a:pt x="281" y="36"/>
                </a:lnTo>
                <a:lnTo>
                  <a:pt x="300" y="15"/>
                </a:lnTo>
                <a:lnTo>
                  <a:pt x="341" y="0"/>
                </a:lnTo>
                <a:lnTo>
                  <a:pt x="381" y="10"/>
                </a:lnTo>
                <a:lnTo>
                  <a:pt x="425" y="30"/>
                </a:lnTo>
                <a:lnTo>
                  <a:pt x="471" y="51"/>
                </a:lnTo>
                <a:lnTo>
                  <a:pt x="638" y="111"/>
                </a:lnTo>
                <a:lnTo>
                  <a:pt x="662" y="138"/>
                </a:lnTo>
                <a:lnTo>
                  <a:pt x="665" y="155"/>
                </a:lnTo>
                <a:lnTo>
                  <a:pt x="662" y="169"/>
                </a:lnTo>
                <a:lnTo>
                  <a:pt x="644" y="192"/>
                </a:lnTo>
                <a:lnTo>
                  <a:pt x="610" y="189"/>
                </a:lnTo>
                <a:lnTo>
                  <a:pt x="610" y="1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404120" y="5332320"/>
            <a:ext cx="952560" cy="492120"/>
          </a:xfrm>
          <a:custGeom>
            <a:avLst/>
            <a:gdLst/>
            <a:ahLst/>
            <a:rect l="l" t="t" r="r" b="b"/>
            <a:pathLst>
              <a:path w="1200" h="619">
                <a:moveTo>
                  <a:pt x="1200" y="52"/>
                </a:moveTo>
                <a:lnTo>
                  <a:pt x="1171" y="208"/>
                </a:lnTo>
                <a:lnTo>
                  <a:pt x="1143" y="349"/>
                </a:lnTo>
                <a:lnTo>
                  <a:pt x="1122" y="415"/>
                </a:lnTo>
                <a:lnTo>
                  <a:pt x="1092" y="477"/>
                </a:lnTo>
                <a:lnTo>
                  <a:pt x="1072" y="506"/>
                </a:lnTo>
                <a:lnTo>
                  <a:pt x="1049" y="535"/>
                </a:lnTo>
                <a:lnTo>
                  <a:pt x="1023" y="563"/>
                </a:lnTo>
                <a:lnTo>
                  <a:pt x="994" y="590"/>
                </a:lnTo>
                <a:lnTo>
                  <a:pt x="963" y="610"/>
                </a:lnTo>
                <a:lnTo>
                  <a:pt x="931" y="619"/>
                </a:lnTo>
                <a:lnTo>
                  <a:pt x="863" y="618"/>
                </a:lnTo>
                <a:lnTo>
                  <a:pt x="793" y="595"/>
                </a:lnTo>
                <a:lnTo>
                  <a:pt x="722" y="564"/>
                </a:lnTo>
                <a:lnTo>
                  <a:pt x="571" y="521"/>
                </a:lnTo>
                <a:lnTo>
                  <a:pt x="497" y="488"/>
                </a:lnTo>
                <a:lnTo>
                  <a:pt x="428" y="457"/>
                </a:lnTo>
                <a:lnTo>
                  <a:pt x="365" y="428"/>
                </a:lnTo>
                <a:lnTo>
                  <a:pt x="305" y="401"/>
                </a:lnTo>
                <a:lnTo>
                  <a:pt x="242" y="373"/>
                </a:lnTo>
                <a:lnTo>
                  <a:pt x="177" y="347"/>
                </a:lnTo>
                <a:lnTo>
                  <a:pt x="107" y="321"/>
                </a:lnTo>
                <a:lnTo>
                  <a:pt x="30" y="297"/>
                </a:lnTo>
                <a:lnTo>
                  <a:pt x="2" y="276"/>
                </a:lnTo>
                <a:lnTo>
                  <a:pt x="0" y="243"/>
                </a:lnTo>
                <a:lnTo>
                  <a:pt x="18" y="219"/>
                </a:lnTo>
                <a:lnTo>
                  <a:pt x="52" y="214"/>
                </a:lnTo>
                <a:lnTo>
                  <a:pt x="132" y="238"/>
                </a:lnTo>
                <a:lnTo>
                  <a:pt x="205" y="264"/>
                </a:lnTo>
                <a:lnTo>
                  <a:pt x="270" y="290"/>
                </a:lnTo>
                <a:lnTo>
                  <a:pt x="333" y="318"/>
                </a:lnTo>
                <a:lnTo>
                  <a:pt x="394" y="347"/>
                </a:lnTo>
                <a:lnTo>
                  <a:pt x="459" y="376"/>
                </a:lnTo>
                <a:lnTo>
                  <a:pt x="527" y="409"/>
                </a:lnTo>
                <a:lnTo>
                  <a:pt x="604" y="441"/>
                </a:lnTo>
                <a:lnTo>
                  <a:pt x="756" y="487"/>
                </a:lnTo>
                <a:lnTo>
                  <a:pt x="805" y="511"/>
                </a:lnTo>
                <a:lnTo>
                  <a:pt x="852" y="532"/>
                </a:lnTo>
                <a:lnTo>
                  <a:pt x="897" y="540"/>
                </a:lnTo>
                <a:lnTo>
                  <a:pt x="939" y="524"/>
                </a:lnTo>
                <a:lnTo>
                  <a:pt x="989" y="474"/>
                </a:lnTo>
                <a:lnTo>
                  <a:pt x="1025" y="420"/>
                </a:lnTo>
                <a:lnTo>
                  <a:pt x="1069" y="305"/>
                </a:lnTo>
                <a:lnTo>
                  <a:pt x="1116" y="34"/>
                </a:lnTo>
                <a:lnTo>
                  <a:pt x="1135" y="5"/>
                </a:lnTo>
                <a:lnTo>
                  <a:pt x="1166" y="0"/>
                </a:lnTo>
                <a:lnTo>
                  <a:pt x="1194" y="18"/>
                </a:lnTo>
                <a:lnTo>
                  <a:pt x="1200" y="52"/>
                </a:lnTo>
                <a:lnTo>
                  <a:pt x="1200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415280" y="4965840"/>
            <a:ext cx="112680" cy="485640"/>
          </a:xfrm>
          <a:custGeom>
            <a:avLst/>
            <a:gdLst/>
            <a:ahLst/>
            <a:rect l="l" t="t" r="r" b="b"/>
            <a:pathLst>
              <a:path w="143" h="611">
                <a:moveTo>
                  <a:pt x="143" y="47"/>
                </a:moveTo>
                <a:lnTo>
                  <a:pt x="111" y="204"/>
                </a:lnTo>
                <a:lnTo>
                  <a:pt x="80" y="362"/>
                </a:lnTo>
                <a:lnTo>
                  <a:pt x="42" y="572"/>
                </a:lnTo>
                <a:lnTo>
                  <a:pt x="28" y="603"/>
                </a:lnTo>
                <a:lnTo>
                  <a:pt x="10" y="611"/>
                </a:lnTo>
                <a:lnTo>
                  <a:pt x="0" y="566"/>
                </a:lnTo>
                <a:lnTo>
                  <a:pt x="47" y="344"/>
                </a:lnTo>
                <a:lnTo>
                  <a:pt x="96" y="36"/>
                </a:lnTo>
                <a:lnTo>
                  <a:pt x="111" y="7"/>
                </a:lnTo>
                <a:lnTo>
                  <a:pt x="128" y="0"/>
                </a:lnTo>
                <a:lnTo>
                  <a:pt x="143" y="47"/>
                </a:lnTo>
                <a:lnTo>
                  <a:pt x="143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013520" y="4943520"/>
            <a:ext cx="852480" cy="853920"/>
          </a:xfrm>
          <a:custGeom>
            <a:avLst/>
            <a:gdLst/>
            <a:ahLst/>
            <a:rect l="l" t="t" r="r" b="b"/>
            <a:pathLst>
              <a:path w="1075" h="1074">
                <a:moveTo>
                  <a:pt x="1059" y="979"/>
                </a:moveTo>
                <a:lnTo>
                  <a:pt x="1024" y="1003"/>
                </a:lnTo>
                <a:lnTo>
                  <a:pt x="990" y="1019"/>
                </a:lnTo>
                <a:lnTo>
                  <a:pt x="928" y="1040"/>
                </a:lnTo>
                <a:lnTo>
                  <a:pt x="779" y="1058"/>
                </a:lnTo>
                <a:lnTo>
                  <a:pt x="610" y="1071"/>
                </a:lnTo>
                <a:lnTo>
                  <a:pt x="459" y="1074"/>
                </a:lnTo>
                <a:lnTo>
                  <a:pt x="310" y="1061"/>
                </a:lnTo>
                <a:lnTo>
                  <a:pt x="145" y="1027"/>
                </a:lnTo>
                <a:lnTo>
                  <a:pt x="83" y="998"/>
                </a:lnTo>
                <a:lnTo>
                  <a:pt x="41" y="948"/>
                </a:lnTo>
                <a:lnTo>
                  <a:pt x="4" y="812"/>
                </a:lnTo>
                <a:lnTo>
                  <a:pt x="0" y="669"/>
                </a:lnTo>
                <a:lnTo>
                  <a:pt x="17" y="526"/>
                </a:lnTo>
                <a:lnTo>
                  <a:pt x="31" y="394"/>
                </a:lnTo>
                <a:lnTo>
                  <a:pt x="46" y="334"/>
                </a:lnTo>
                <a:lnTo>
                  <a:pt x="72" y="272"/>
                </a:lnTo>
                <a:lnTo>
                  <a:pt x="96" y="233"/>
                </a:lnTo>
                <a:lnTo>
                  <a:pt x="122" y="204"/>
                </a:lnTo>
                <a:lnTo>
                  <a:pt x="176" y="137"/>
                </a:lnTo>
                <a:lnTo>
                  <a:pt x="218" y="68"/>
                </a:lnTo>
                <a:lnTo>
                  <a:pt x="242" y="38"/>
                </a:lnTo>
                <a:lnTo>
                  <a:pt x="273" y="9"/>
                </a:lnTo>
                <a:lnTo>
                  <a:pt x="307" y="0"/>
                </a:lnTo>
                <a:lnTo>
                  <a:pt x="334" y="16"/>
                </a:lnTo>
                <a:lnTo>
                  <a:pt x="344" y="47"/>
                </a:lnTo>
                <a:lnTo>
                  <a:pt x="326" y="77"/>
                </a:lnTo>
                <a:lnTo>
                  <a:pt x="283" y="124"/>
                </a:lnTo>
                <a:lnTo>
                  <a:pt x="248" y="183"/>
                </a:lnTo>
                <a:lnTo>
                  <a:pt x="224" y="217"/>
                </a:lnTo>
                <a:lnTo>
                  <a:pt x="197" y="246"/>
                </a:lnTo>
                <a:lnTo>
                  <a:pt x="148" y="311"/>
                </a:lnTo>
                <a:lnTo>
                  <a:pt x="114" y="419"/>
                </a:lnTo>
                <a:lnTo>
                  <a:pt x="101" y="538"/>
                </a:lnTo>
                <a:lnTo>
                  <a:pt x="90" y="805"/>
                </a:lnTo>
                <a:lnTo>
                  <a:pt x="107" y="893"/>
                </a:lnTo>
                <a:lnTo>
                  <a:pt x="130" y="925"/>
                </a:lnTo>
                <a:lnTo>
                  <a:pt x="166" y="945"/>
                </a:lnTo>
                <a:lnTo>
                  <a:pt x="248" y="963"/>
                </a:lnTo>
                <a:lnTo>
                  <a:pt x="325" y="976"/>
                </a:lnTo>
                <a:lnTo>
                  <a:pt x="467" y="987"/>
                </a:lnTo>
                <a:lnTo>
                  <a:pt x="772" y="972"/>
                </a:lnTo>
                <a:lnTo>
                  <a:pt x="891" y="967"/>
                </a:lnTo>
                <a:lnTo>
                  <a:pt x="994" y="925"/>
                </a:lnTo>
                <a:lnTo>
                  <a:pt x="1032" y="916"/>
                </a:lnTo>
                <a:lnTo>
                  <a:pt x="1062" y="927"/>
                </a:lnTo>
                <a:lnTo>
                  <a:pt x="1075" y="953"/>
                </a:lnTo>
                <a:lnTo>
                  <a:pt x="1059" y="979"/>
                </a:lnTo>
                <a:lnTo>
                  <a:pt x="1059" y="9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96080" y="5288040"/>
            <a:ext cx="282600" cy="74520"/>
          </a:xfrm>
          <a:custGeom>
            <a:avLst/>
            <a:gdLst/>
            <a:ahLst/>
            <a:rect l="l" t="t" r="r" b="b"/>
            <a:pathLst>
              <a:path w="357" h="94">
                <a:moveTo>
                  <a:pt x="39" y="9"/>
                </a:moveTo>
                <a:lnTo>
                  <a:pt x="315" y="0"/>
                </a:lnTo>
                <a:lnTo>
                  <a:pt x="346" y="13"/>
                </a:lnTo>
                <a:lnTo>
                  <a:pt x="357" y="43"/>
                </a:lnTo>
                <a:lnTo>
                  <a:pt x="346" y="72"/>
                </a:lnTo>
                <a:lnTo>
                  <a:pt x="315" y="86"/>
                </a:lnTo>
                <a:lnTo>
                  <a:pt x="47" y="94"/>
                </a:lnTo>
                <a:lnTo>
                  <a:pt x="13" y="85"/>
                </a:lnTo>
                <a:lnTo>
                  <a:pt x="0" y="56"/>
                </a:lnTo>
                <a:lnTo>
                  <a:pt x="8" y="25"/>
                </a:lnTo>
                <a:lnTo>
                  <a:pt x="21" y="15"/>
                </a:lnTo>
                <a:lnTo>
                  <a:pt x="39" y="9"/>
                </a:lnTo>
                <a:lnTo>
                  <a:pt x="39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1640" y="5172120"/>
            <a:ext cx="279360" cy="777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50" y="14"/>
                </a:moveTo>
                <a:lnTo>
                  <a:pt x="180" y="0"/>
                </a:lnTo>
                <a:lnTo>
                  <a:pt x="313" y="19"/>
                </a:lnTo>
                <a:lnTo>
                  <a:pt x="344" y="37"/>
                </a:lnTo>
                <a:lnTo>
                  <a:pt x="352" y="66"/>
                </a:lnTo>
                <a:lnTo>
                  <a:pt x="339" y="92"/>
                </a:lnTo>
                <a:lnTo>
                  <a:pt x="306" y="98"/>
                </a:lnTo>
                <a:lnTo>
                  <a:pt x="170" y="84"/>
                </a:lnTo>
                <a:lnTo>
                  <a:pt x="35" y="97"/>
                </a:lnTo>
                <a:lnTo>
                  <a:pt x="6" y="90"/>
                </a:lnTo>
                <a:lnTo>
                  <a:pt x="0" y="63"/>
                </a:lnTo>
                <a:lnTo>
                  <a:pt x="16" y="32"/>
                </a:lnTo>
                <a:lnTo>
                  <a:pt x="50" y="14"/>
                </a:lnTo>
                <a:lnTo>
                  <a:pt x="5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72240"/>
            <a:ext cx="716040" cy="322200"/>
          </a:xfrm>
          <a:custGeom>
            <a:avLst/>
            <a:gdLst/>
            <a:ahLst/>
            <a:rect l="l" t="t" r="r" b="b"/>
            <a:pathLst>
              <a:path w="902" h="405">
                <a:moveTo>
                  <a:pt x="103" y="40"/>
                </a:moveTo>
                <a:lnTo>
                  <a:pt x="94" y="183"/>
                </a:lnTo>
                <a:lnTo>
                  <a:pt x="91" y="293"/>
                </a:lnTo>
                <a:lnTo>
                  <a:pt x="111" y="308"/>
                </a:lnTo>
                <a:lnTo>
                  <a:pt x="137" y="311"/>
                </a:lnTo>
                <a:lnTo>
                  <a:pt x="195" y="308"/>
                </a:lnTo>
                <a:lnTo>
                  <a:pt x="367" y="325"/>
                </a:lnTo>
                <a:lnTo>
                  <a:pt x="495" y="332"/>
                </a:lnTo>
                <a:lnTo>
                  <a:pt x="537" y="324"/>
                </a:lnTo>
                <a:lnTo>
                  <a:pt x="561" y="287"/>
                </a:lnTo>
                <a:lnTo>
                  <a:pt x="568" y="244"/>
                </a:lnTo>
                <a:lnTo>
                  <a:pt x="571" y="201"/>
                </a:lnTo>
                <a:lnTo>
                  <a:pt x="589" y="159"/>
                </a:lnTo>
                <a:lnTo>
                  <a:pt x="615" y="128"/>
                </a:lnTo>
                <a:lnTo>
                  <a:pt x="642" y="103"/>
                </a:lnTo>
                <a:lnTo>
                  <a:pt x="672" y="84"/>
                </a:lnTo>
                <a:lnTo>
                  <a:pt x="702" y="68"/>
                </a:lnTo>
                <a:lnTo>
                  <a:pt x="772" y="47"/>
                </a:lnTo>
                <a:lnTo>
                  <a:pt x="852" y="32"/>
                </a:lnTo>
                <a:lnTo>
                  <a:pt x="886" y="39"/>
                </a:lnTo>
                <a:lnTo>
                  <a:pt x="902" y="66"/>
                </a:lnTo>
                <a:lnTo>
                  <a:pt x="897" y="97"/>
                </a:lnTo>
                <a:lnTo>
                  <a:pt x="884" y="110"/>
                </a:lnTo>
                <a:lnTo>
                  <a:pt x="866" y="116"/>
                </a:lnTo>
                <a:lnTo>
                  <a:pt x="750" y="142"/>
                </a:lnTo>
                <a:lnTo>
                  <a:pt x="701" y="167"/>
                </a:lnTo>
                <a:lnTo>
                  <a:pt x="659" y="209"/>
                </a:lnTo>
                <a:lnTo>
                  <a:pt x="631" y="301"/>
                </a:lnTo>
                <a:lnTo>
                  <a:pt x="621" y="347"/>
                </a:lnTo>
                <a:lnTo>
                  <a:pt x="612" y="368"/>
                </a:lnTo>
                <a:lnTo>
                  <a:pt x="595" y="387"/>
                </a:lnTo>
                <a:lnTo>
                  <a:pt x="558" y="403"/>
                </a:lnTo>
                <a:lnTo>
                  <a:pt x="511" y="405"/>
                </a:lnTo>
                <a:lnTo>
                  <a:pt x="364" y="397"/>
                </a:lnTo>
                <a:lnTo>
                  <a:pt x="187" y="394"/>
                </a:lnTo>
                <a:lnTo>
                  <a:pt x="91" y="385"/>
                </a:lnTo>
                <a:lnTo>
                  <a:pt x="51" y="371"/>
                </a:lnTo>
                <a:lnTo>
                  <a:pt x="18" y="340"/>
                </a:lnTo>
                <a:lnTo>
                  <a:pt x="0" y="266"/>
                </a:lnTo>
                <a:lnTo>
                  <a:pt x="8" y="183"/>
                </a:lnTo>
                <a:lnTo>
                  <a:pt x="4" y="113"/>
                </a:lnTo>
                <a:lnTo>
                  <a:pt x="8" y="43"/>
                </a:lnTo>
                <a:lnTo>
                  <a:pt x="28" y="11"/>
                </a:lnTo>
                <a:lnTo>
                  <a:pt x="62" y="0"/>
                </a:lnTo>
                <a:lnTo>
                  <a:pt x="93" y="8"/>
                </a:lnTo>
                <a:lnTo>
                  <a:pt x="103" y="40"/>
                </a:lnTo>
                <a:lnTo>
                  <a:pt x="103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15120" y="5749920"/>
            <a:ext cx="668520" cy="439920"/>
          </a:xfrm>
          <a:custGeom>
            <a:avLst/>
            <a:gdLst/>
            <a:ahLst/>
            <a:rect l="l" t="t" r="r" b="b"/>
            <a:pathLst>
              <a:path w="842" h="555">
                <a:moveTo>
                  <a:pt x="88" y="116"/>
                </a:moveTo>
                <a:lnTo>
                  <a:pt x="99" y="190"/>
                </a:lnTo>
                <a:lnTo>
                  <a:pt x="126" y="258"/>
                </a:lnTo>
                <a:lnTo>
                  <a:pt x="144" y="289"/>
                </a:lnTo>
                <a:lnTo>
                  <a:pt x="165" y="318"/>
                </a:lnTo>
                <a:lnTo>
                  <a:pt x="190" y="344"/>
                </a:lnTo>
                <a:lnTo>
                  <a:pt x="216" y="368"/>
                </a:lnTo>
                <a:lnTo>
                  <a:pt x="245" y="391"/>
                </a:lnTo>
                <a:lnTo>
                  <a:pt x="276" y="411"/>
                </a:lnTo>
                <a:lnTo>
                  <a:pt x="308" y="427"/>
                </a:lnTo>
                <a:lnTo>
                  <a:pt x="342" y="441"/>
                </a:lnTo>
                <a:lnTo>
                  <a:pt x="415" y="461"/>
                </a:lnTo>
                <a:lnTo>
                  <a:pt x="493" y="469"/>
                </a:lnTo>
                <a:lnTo>
                  <a:pt x="551" y="454"/>
                </a:lnTo>
                <a:lnTo>
                  <a:pt x="597" y="415"/>
                </a:lnTo>
                <a:lnTo>
                  <a:pt x="631" y="362"/>
                </a:lnTo>
                <a:lnTo>
                  <a:pt x="658" y="300"/>
                </a:lnTo>
                <a:lnTo>
                  <a:pt x="683" y="250"/>
                </a:lnTo>
                <a:lnTo>
                  <a:pt x="707" y="200"/>
                </a:lnTo>
                <a:lnTo>
                  <a:pt x="733" y="151"/>
                </a:lnTo>
                <a:lnTo>
                  <a:pt x="718" y="124"/>
                </a:lnTo>
                <a:lnTo>
                  <a:pt x="696" y="106"/>
                </a:lnTo>
                <a:lnTo>
                  <a:pt x="649" y="65"/>
                </a:lnTo>
                <a:lnTo>
                  <a:pt x="644" y="31"/>
                </a:lnTo>
                <a:lnTo>
                  <a:pt x="663" y="7"/>
                </a:lnTo>
                <a:lnTo>
                  <a:pt x="694" y="0"/>
                </a:lnTo>
                <a:lnTo>
                  <a:pt x="723" y="22"/>
                </a:lnTo>
                <a:lnTo>
                  <a:pt x="752" y="49"/>
                </a:lnTo>
                <a:lnTo>
                  <a:pt x="788" y="62"/>
                </a:lnTo>
                <a:lnTo>
                  <a:pt x="842" y="106"/>
                </a:lnTo>
                <a:lnTo>
                  <a:pt x="840" y="138"/>
                </a:lnTo>
                <a:lnTo>
                  <a:pt x="824" y="174"/>
                </a:lnTo>
                <a:lnTo>
                  <a:pt x="785" y="240"/>
                </a:lnTo>
                <a:lnTo>
                  <a:pt x="738" y="336"/>
                </a:lnTo>
                <a:lnTo>
                  <a:pt x="717" y="378"/>
                </a:lnTo>
                <a:lnTo>
                  <a:pt x="694" y="419"/>
                </a:lnTo>
                <a:lnTo>
                  <a:pt x="670" y="456"/>
                </a:lnTo>
                <a:lnTo>
                  <a:pt x="642" y="488"/>
                </a:lnTo>
                <a:lnTo>
                  <a:pt x="611" y="516"/>
                </a:lnTo>
                <a:lnTo>
                  <a:pt x="576" y="537"/>
                </a:lnTo>
                <a:lnTo>
                  <a:pt x="537" y="550"/>
                </a:lnTo>
                <a:lnTo>
                  <a:pt x="491" y="555"/>
                </a:lnTo>
                <a:lnTo>
                  <a:pt x="310" y="521"/>
                </a:lnTo>
                <a:lnTo>
                  <a:pt x="227" y="482"/>
                </a:lnTo>
                <a:lnTo>
                  <a:pt x="190" y="459"/>
                </a:lnTo>
                <a:lnTo>
                  <a:pt x="156" y="432"/>
                </a:lnTo>
                <a:lnTo>
                  <a:pt x="96" y="368"/>
                </a:lnTo>
                <a:lnTo>
                  <a:pt x="49" y="296"/>
                </a:lnTo>
                <a:lnTo>
                  <a:pt x="0" y="120"/>
                </a:lnTo>
                <a:lnTo>
                  <a:pt x="13" y="86"/>
                </a:lnTo>
                <a:lnTo>
                  <a:pt x="41" y="75"/>
                </a:lnTo>
                <a:lnTo>
                  <a:pt x="71" y="83"/>
                </a:lnTo>
                <a:lnTo>
                  <a:pt x="88" y="116"/>
                </a:lnTo>
                <a:lnTo>
                  <a:pt x="88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62880" y="5808600"/>
            <a:ext cx="465120" cy="579600"/>
          </a:xfrm>
          <a:custGeom>
            <a:avLst/>
            <a:gdLst/>
            <a:ahLst/>
            <a:rect l="l" t="t" r="r" b="b"/>
            <a:pathLst>
              <a:path w="587" h="730">
                <a:moveTo>
                  <a:pt x="347" y="0"/>
                </a:moveTo>
                <a:lnTo>
                  <a:pt x="489" y="31"/>
                </a:lnTo>
                <a:lnTo>
                  <a:pt x="548" y="55"/>
                </a:lnTo>
                <a:lnTo>
                  <a:pt x="587" y="97"/>
                </a:lnTo>
                <a:lnTo>
                  <a:pt x="584" y="139"/>
                </a:lnTo>
                <a:lnTo>
                  <a:pt x="558" y="201"/>
                </a:lnTo>
                <a:lnTo>
                  <a:pt x="525" y="261"/>
                </a:lnTo>
                <a:lnTo>
                  <a:pt x="499" y="302"/>
                </a:lnTo>
                <a:lnTo>
                  <a:pt x="480" y="315"/>
                </a:lnTo>
                <a:lnTo>
                  <a:pt x="464" y="305"/>
                </a:lnTo>
                <a:lnTo>
                  <a:pt x="442" y="289"/>
                </a:lnTo>
                <a:lnTo>
                  <a:pt x="413" y="279"/>
                </a:lnTo>
                <a:lnTo>
                  <a:pt x="361" y="501"/>
                </a:lnTo>
                <a:lnTo>
                  <a:pt x="329" y="558"/>
                </a:lnTo>
                <a:lnTo>
                  <a:pt x="303" y="600"/>
                </a:lnTo>
                <a:lnTo>
                  <a:pt x="274" y="632"/>
                </a:lnTo>
                <a:lnTo>
                  <a:pt x="230" y="666"/>
                </a:lnTo>
                <a:lnTo>
                  <a:pt x="206" y="683"/>
                </a:lnTo>
                <a:lnTo>
                  <a:pt x="181" y="699"/>
                </a:lnTo>
                <a:lnTo>
                  <a:pt x="128" y="723"/>
                </a:lnTo>
                <a:lnTo>
                  <a:pt x="76" y="730"/>
                </a:lnTo>
                <a:lnTo>
                  <a:pt x="27" y="708"/>
                </a:lnTo>
                <a:lnTo>
                  <a:pt x="3" y="671"/>
                </a:lnTo>
                <a:lnTo>
                  <a:pt x="0" y="621"/>
                </a:lnTo>
                <a:lnTo>
                  <a:pt x="13" y="567"/>
                </a:lnTo>
                <a:lnTo>
                  <a:pt x="39" y="516"/>
                </a:lnTo>
                <a:lnTo>
                  <a:pt x="58" y="482"/>
                </a:lnTo>
                <a:lnTo>
                  <a:pt x="79" y="452"/>
                </a:lnTo>
                <a:lnTo>
                  <a:pt x="131" y="394"/>
                </a:lnTo>
                <a:lnTo>
                  <a:pt x="160" y="376"/>
                </a:lnTo>
                <a:lnTo>
                  <a:pt x="189" y="383"/>
                </a:lnTo>
                <a:lnTo>
                  <a:pt x="202" y="405"/>
                </a:lnTo>
                <a:lnTo>
                  <a:pt x="191" y="438"/>
                </a:lnTo>
                <a:lnTo>
                  <a:pt x="151" y="490"/>
                </a:lnTo>
                <a:lnTo>
                  <a:pt x="120" y="548"/>
                </a:lnTo>
                <a:lnTo>
                  <a:pt x="78" y="621"/>
                </a:lnTo>
                <a:lnTo>
                  <a:pt x="82" y="642"/>
                </a:lnTo>
                <a:lnTo>
                  <a:pt x="108" y="650"/>
                </a:lnTo>
                <a:lnTo>
                  <a:pt x="136" y="640"/>
                </a:lnTo>
                <a:lnTo>
                  <a:pt x="191" y="590"/>
                </a:lnTo>
                <a:lnTo>
                  <a:pt x="288" y="447"/>
                </a:lnTo>
                <a:lnTo>
                  <a:pt x="324" y="357"/>
                </a:lnTo>
                <a:lnTo>
                  <a:pt x="345" y="279"/>
                </a:lnTo>
                <a:lnTo>
                  <a:pt x="353" y="230"/>
                </a:lnTo>
                <a:lnTo>
                  <a:pt x="365" y="216"/>
                </a:lnTo>
                <a:lnTo>
                  <a:pt x="384" y="209"/>
                </a:lnTo>
                <a:lnTo>
                  <a:pt x="442" y="233"/>
                </a:lnTo>
                <a:lnTo>
                  <a:pt x="465" y="243"/>
                </a:lnTo>
                <a:lnTo>
                  <a:pt x="485" y="230"/>
                </a:lnTo>
                <a:lnTo>
                  <a:pt x="502" y="186"/>
                </a:lnTo>
                <a:lnTo>
                  <a:pt x="512" y="141"/>
                </a:lnTo>
                <a:lnTo>
                  <a:pt x="504" y="122"/>
                </a:lnTo>
                <a:lnTo>
                  <a:pt x="486" y="109"/>
                </a:lnTo>
                <a:lnTo>
                  <a:pt x="438" y="96"/>
                </a:lnTo>
                <a:lnTo>
                  <a:pt x="326" y="84"/>
                </a:lnTo>
                <a:lnTo>
                  <a:pt x="297" y="63"/>
                </a:lnTo>
                <a:lnTo>
                  <a:pt x="295" y="31"/>
                </a:lnTo>
                <a:lnTo>
                  <a:pt x="313" y="5"/>
                </a:lnTo>
                <a:lnTo>
                  <a:pt x="347" y="0"/>
                </a:lnTo>
                <a:lnTo>
                  <a:pt x="3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411960" y="6029280"/>
            <a:ext cx="652320" cy="216000"/>
          </a:xfrm>
          <a:custGeom>
            <a:avLst/>
            <a:gdLst/>
            <a:ahLst/>
            <a:rect l="l" t="t" r="r" b="b"/>
            <a:pathLst>
              <a:path w="822" h="273">
                <a:moveTo>
                  <a:pt x="801" y="31"/>
                </a:moveTo>
                <a:lnTo>
                  <a:pt x="822" y="221"/>
                </a:lnTo>
                <a:lnTo>
                  <a:pt x="800" y="248"/>
                </a:lnTo>
                <a:lnTo>
                  <a:pt x="769" y="263"/>
                </a:lnTo>
                <a:lnTo>
                  <a:pt x="694" y="269"/>
                </a:lnTo>
                <a:lnTo>
                  <a:pt x="527" y="273"/>
                </a:lnTo>
                <a:lnTo>
                  <a:pt x="491" y="261"/>
                </a:lnTo>
                <a:lnTo>
                  <a:pt x="485" y="224"/>
                </a:lnTo>
                <a:lnTo>
                  <a:pt x="496" y="187"/>
                </a:lnTo>
                <a:lnTo>
                  <a:pt x="269" y="245"/>
                </a:lnTo>
                <a:lnTo>
                  <a:pt x="209" y="261"/>
                </a:lnTo>
                <a:lnTo>
                  <a:pt x="156" y="271"/>
                </a:lnTo>
                <a:lnTo>
                  <a:pt x="39" y="268"/>
                </a:lnTo>
                <a:lnTo>
                  <a:pt x="10" y="255"/>
                </a:lnTo>
                <a:lnTo>
                  <a:pt x="0" y="226"/>
                </a:lnTo>
                <a:lnTo>
                  <a:pt x="7" y="179"/>
                </a:lnTo>
                <a:lnTo>
                  <a:pt x="23" y="140"/>
                </a:lnTo>
                <a:lnTo>
                  <a:pt x="47" y="110"/>
                </a:lnTo>
                <a:lnTo>
                  <a:pt x="80" y="86"/>
                </a:lnTo>
                <a:lnTo>
                  <a:pt x="119" y="65"/>
                </a:lnTo>
                <a:lnTo>
                  <a:pt x="161" y="47"/>
                </a:lnTo>
                <a:lnTo>
                  <a:pt x="208" y="28"/>
                </a:lnTo>
                <a:lnTo>
                  <a:pt x="255" y="8"/>
                </a:lnTo>
                <a:lnTo>
                  <a:pt x="292" y="0"/>
                </a:lnTo>
                <a:lnTo>
                  <a:pt x="320" y="10"/>
                </a:lnTo>
                <a:lnTo>
                  <a:pt x="328" y="29"/>
                </a:lnTo>
                <a:lnTo>
                  <a:pt x="307" y="49"/>
                </a:lnTo>
                <a:lnTo>
                  <a:pt x="243" y="76"/>
                </a:lnTo>
                <a:lnTo>
                  <a:pt x="182" y="106"/>
                </a:lnTo>
                <a:lnTo>
                  <a:pt x="96" y="183"/>
                </a:lnTo>
                <a:lnTo>
                  <a:pt x="245" y="166"/>
                </a:lnTo>
                <a:lnTo>
                  <a:pt x="323" y="143"/>
                </a:lnTo>
                <a:lnTo>
                  <a:pt x="393" y="125"/>
                </a:lnTo>
                <a:lnTo>
                  <a:pt x="545" y="102"/>
                </a:lnTo>
                <a:lnTo>
                  <a:pt x="587" y="102"/>
                </a:lnTo>
                <a:lnTo>
                  <a:pt x="594" y="133"/>
                </a:lnTo>
                <a:lnTo>
                  <a:pt x="579" y="187"/>
                </a:lnTo>
                <a:lnTo>
                  <a:pt x="683" y="195"/>
                </a:lnTo>
                <a:lnTo>
                  <a:pt x="746" y="180"/>
                </a:lnTo>
                <a:lnTo>
                  <a:pt x="751" y="158"/>
                </a:lnTo>
                <a:lnTo>
                  <a:pt x="746" y="135"/>
                </a:lnTo>
                <a:lnTo>
                  <a:pt x="731" y="85"/>
                </a:lnTo>
                <a:lnTo>
                  <a:pt x="740" y="44"/>
                </a:lnTo>
                <a:lnTo>
                  <a:pt x="762" y="15"/>
                </a:lnTo>
                <a:lnTo>
                  <a:pt x="788" y="7"/>
                </a:lnTo>
                <a:lnTo>
                  <a:pt x="801" y="31"/>
                </a:lnTo>
                <a:lnTo>
                  <a:pt x="801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81520" y="4129200"/>
            <a:ext cx="641520" cy="403200"/>
          </a:xfrm>
          <a:custGeom>
            <a:avLst/>
            <a:gdLst/>
            <a:ahLst/>
            <a:rect l="l" t="t" r="r" b="b"/>
            <a:pathLst>
              <a:path w="809" h="508">
                <a:moveTo>
                  <a:pt x="0" y="17"/>
                </a:moveTo>
                <a:lnTo>
                  <a:pt x="12" y="0"/>
                </a:lnTo>
                <a:lnTo>
                  <a:pt x="809" y="438"/>
                </a:lnTo>
                <a:lnTo>
                  <a:pt x="764" y="508"/>
                </a:lnTo>
                <a:lnTo>
                  <a:pt x="0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967440" y="3530520"/>
            <a:ext cx="1168560" cy="1336680"/>
          </a:xfrm>
          <a:custGeom>
            <a:avLst/>
            <a:gdLst/>
            <a:ahLst/>
            <a:rect l="l" t="t" r="r" b="b"/>
            <a:pathLst>
              <a:path w="1470" h="1683">
                <a:moveTo>
                  <a:pt x="283" y="1633"/>
                </a:moveTo>
                <a:lnTo>
                  <a:pt x="324" y="1370"/>
                </a:lnTo>
                <a:lnTo>
                  <a:pt x="342" y="1263"/>
                </a:lnTo>
                <a:lnTo>
                  <a:pt x="337" y="1213"/>
                </a:lnTo>
                <a:lnTo>
                  <a:pt x="313" y="1164"/>
                </a:lnTo>
                <a:lnTo>
                  <a:pt x="292" y="1147"/>
                </a:lnTo>
                <a:lnTo>
                  <a:pt x="266" y="1139"/>
                </a:lnTo>
                <a:lnTo>
                  <a:pt x="207" y="1130"/>
                </a:lnTo>
                <a:lnTo>
                  <a:pt x="97" y="1100"/>
                </a:lnTo>
                <a:lnTo>
                  <a:pt x="19" y="1027"/>
                </a:lnTo>
                <a:lnTo>
                  <a:pt x="0" y="963"/>
                </a:lnTo>
                <a:lnTo>
                  <a:pt x="3" y="902"/>
                </a:lnTo>
                <a:lnTo>
                  <a:pt x="21" y="837"/>
                </a:lnTo>
                <a:lnTo>
                  <a:pt x="39" y="769"/>
                </a:lnTo>
                <a:lnTo>
                  <a:pt x="74" y="613"/>
                </a:lnTo>
                <a:lnTo>
                  <a:pt x="100" y="542"/>
                </a:lnTo>
                <a:lnTo>
                  <a:pt x="118" y="506"/>
                </a:lnTo>
                <a:lnTo>
                  <a:pt x="141" y="467"/>
                </a:lnTo>
                <a:lnTo>
                  <a:pt x="172" y="415"/>
                </a:lnTo>
                <a:lnTo>
                  <a:pt x="201" y="368"/>
                </a:lnTo>
                <a:lnTo>
                  <a:pt x="230" y="325"/>
                </a:lnTo>
                <a:lnTo>
                  <a:pt x="261" y="284"/>
                </a:lnTo>
                <a:lnTo>
                  <a:pt x="295" y="247"/>
                </a:lnTo>
                <a:lnTo>
                  <a:pt x="330" y="211"/>
                </a:lnTo>
                <a:lnTo>
                  <a:pt x="373" y="176"/>
                </a:lnTo>
                <a:lnTo>
                  <a:pt x="397" y="159"/>
                </a:lnTo>
                <a:lnTo>
                  <a:pt x="421" y="141"/>
                </a:lnTo>
                <a:lnTo>
                  <a:pt x="454" y="124"/>
                </a:lnTo>
                <a:lnTo>
                  <a:pt x="484" y="109"/>
                </a:lnTo>
                <a:lnTo>
                  <a:pt x="543" y="88"/>
                </a:lnTo>
                <a:lnTo>
                  <a:pt x="674" y="52"/>
                </a:lnTo>
                <a:lnTo>
                  <a:pt x="783" y="25"/>
                </a:lnTo>
                <a:lnTo>
                  <a:pt x="882" y="5"/>
                </a:lnTo>
                <a:lnTo>
                  <a:pt x="1065" y="0"/>
                </a:lnTo>
                <a:lnTo>
                  <a:pt x="1245" y="38"/>
                </a:lnTo>
                <a:lnTo>
                  <a:pt x="1341" y="75"/>
                </a:lnTo>
                <a:lnTo>
                  <a:pt x="1391" y="96"/>
                </a:lnTo>
                <a:lnTo>
                  <a:pt x="1443" y="122"/>
                </a:lnTo>
                <a:lnTo>
                  <a:pt x="1469" y="150"/>
                </a:lnTo>
                <a:lnTo>
                  <a:pt x="1470" y="184"/>
                </a:lnTo>
                <a:lnTo>
                  <a:pt x="1454" y="208"/>
                </a:lnTo>
                <a:lnTo>
                  <a:pt x="1422" y="206"/>
                </a:lnTo>
                <a:lnTo>
                  <a:pt x="1373" y="182"/>
                </a:lnTo>
                <a:lnTo>
                  <a:pt x="1326" y="163"/>
                </a:lnTo>
                <a:lnTo>
                  <a:pt x="1281" y="143"/>
                </a:lnTo>
                <a:lnTo>
                  <a:pt x="1237" y="129"/>
                </a:lnTo>
                <a:lnTo>
                  <a:pt x="1151" y="104"/>
                </a:lnTo>
                <a:lnTo>
                  <a:pt x="1067" y="91"/>
                </a:lnTo>
                <a:lnTo>
                  <a:pt x="893" y="93"/>
                </a:lnTo>
                <a:lnTo>
                  <a:pt x="699" y="135"/>
                </a:lnTo>
                <a:lnTo>
                  <a:pt x="468" y="214"/>
                </a:lnTo>
                <a:lnTo>
                  <a:pt x="386" y="278"/>
                </a:lnTo>
                <a:lnTo>
                  <a:pt x="322" y="346"/>
                </a:lnTo>
                <a:lnTo>
                  <a:pt x="295" y="383"/>
                </a:lnTo>
                <a:lnTo>
                  <a:pt x="269" y="422"/>
                </a:lnTo>
                <a:lnTo>
                  <a:pt x="243" y="466"/>
                </a:lnTo>
                <a:lnTo>
                  <a:pt x="214" y="513"/>
                </a:lnTo>
                <a:lnTo>
                  <a:pt x="155" y="644"/>
                </a:lnTo>
                <a:lnTo>
                  <a:pt x="123" y="787"/>
                </a:lnTo>
                <a:lnTo>
                  <a:pt x="95" y="988"/>
                </a:lnTo>
                <a:lnTo>
                  <a:pt x="120" y="1017"/>
                </a:lnTo>
                <a:lnTo>
                  <a:pt x="150" y="1032"/>
                </a:lnTo>
                <a:lnTo>
                  <a:pt x="228" y="1048"/>
                </a:lnTo>
                <a:lnTo>
                  <a:pt x="314" y="1067"/>
                </a:lnTo>
                <a:lnTo>
                  <a:pt x="384" y="1114"/>
                </a:lnTo>
                <a:lnTo>
                  <a:pt x="415" y="1179"/>
                </a:lnTo>
                <a:lnTo>
                  <a:pt x="426" y="1242"/>
                </a:lnTo>
                <a:lnTo>
                  <a:pt x="408" y="1385"/>
                </a:lnTo>
                <a:lnTo>
                  <a:pt x="369" y="1649"/>
                </a:lnTo>
                <a:lnTo>
                  <a:pt x="361" y="1667"/>
                </a:lnTo>
                <a:lnTo>
                  <a:pt x="350" y="1678"/>
                </a:lnTo>
                <a:lnTo>
                  <a:pt x="319" y="1683"/>
                </a:lnTo>
                <a:lnTo>
                  <a:pt x="292" y="1667"/>
                </a:lnTo>
                <a:lnTo>
                  <a:pt x="283" y="1633"/>
                </a:lnTo>
                <a:lnTo>
                  <a:pt x="283" y="16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966080" y="3625920"/>
            <a:ext cx="177840" cy="988920"/>
          </a:xfrm>
          <a:custGeom>
            <a:avLst/>
            <a:gdLst/>
            <a:ahLst/>
            <a:rect l="l" t="t" r="r" b="b"/>
            <a:pathLst>
              <a:path w="224" h="1246">
                <a:moveTo>
                  <a:pt x="216" y="34"/>
                </a:moveTo>
                <a:lnTo>
                  <a:pt x="224" y="133"/>
                </a:lnTo>
                <a:lnTo>
                  <a:pt x="216" y="219"/>
                </a:lnTo>
                <a:lnTo>
                  <a:pt x="184" y="402"/>
                </a:lnTo>
                <a:lnTo>
                  <a:pt x="153" y="616"/>
                </a:lnTo>
                <a:lnTo>
                  <a:pt x="125" y="803"/>
                </a:lnTo>
                <a:lnTo>
                  <a:pt x="86" y="1205"/>
                </a:lnTo>
                <a:lnTo>
                  <a:pt x="72" y="1237"/>
                </a:lnTo>
                <a:lnTo>
                  <a:pt x="41" y="1246"/>
                </a:lnTo>
                <a:lnTo>
                  <a:pt x="12" y="1234"/>
                </a:lnTo>
                <a:lnTo>
                  <a:pt x="0" y="1200"/>
                </a:lnTo>
                <a:lnTo>
                  <a:pt x="17" y="984"/>
                </a:lnTo>
                <a:lnTo>
                  <a:pt x="39" y="796"/>
                </a:lnTo>
                <a:lnTo>
                  <a:pt x="67" y="607"/>
                </a:lnTo>
                <a:lnTo>
                  <a:pt x="98" y="391"/>
                </a:lnTo>
                <a:lnTo>
                  <a:pt x="132" y="51"/>
                </a:lnTo>
                <a:lnTo>
                  <a:pt x="140" y="15"/>
                </a:lnTo>
                <a:lnTo>
                  <a:pt x="167" y="0"/>
                </a:lnTo>
                <a:lnTo>
                  <a:pt x="198" y="5"/>
                </a:lnTo>
                <a:lnTo>
                  <a:pt x="216" y="34"/>
                </a:lnTo>
                <a:lnTo>
                  <a:pt x="216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08320" y="3692520"/>
            <a:ext cx="49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Monotype Corsiva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91560" y="374184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= 1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ff3300"/>
                </a:solidFill>
                <a:latin typeface="Monotype Corsiva"/>
              </a:rPr>
              <a:t>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-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-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1676520"/>
            <a:ext cx="205740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905120" y="2011320"/>
            <a:ext cx="1143000" cy="1678320"/>
            <a:chOff x="1905120" y="2011320"/>
            <a:chExt cx="1143000" cy="1678320"/>
          </a:xfrm>
        </p:grpSpPr>
        <p:sp>
          <p:nvSpPr>
            <p:cNvPr id="602" name=""/>
            <p:cNvSpPr/>
            <p:nvPr/>
          </p:nvSpPr>
          <p:spPr>
            <a:xfrm>
              <a:off x="1905120" y="2011320"/>
              <a:ext cx="1143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½ pi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905120" y="2620800"/>
              <a:ext cx="1143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½ pi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447920" y="2286000"/>
            <a:ext cx="6324480" cy="642600"/>
            <a:chOff x="1447920" y="2286000"/>
            <a:chExt cx="6324480" cy="642600"/>
          </a:xfrm>
        </p:grpSpPr>
        <p:sp>
          <p:nvSpPr>
            <p:cNvPr id="605" name=""/>
            <p:cNvSpPr/>
            <p:nvPr/>
          </p:nvSpPr>
          <p:spPr>
            <a:xfrm>
              <a:off x="1447920" y="259056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38480" y="228600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ivided 2 ways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202920" y="1295280"/>
            <a:ext cx="2588400" cy="703440"/>
            <a:chOff x="3202920" y="1295280"/>
            <a:chExt cx="2588400" cy="703440"/>
          </a:xfrm>
        </p:grpSpPr>
        <p:sp>
          <p:nvSpPr>
            <p:cNvPr id="608" name=""/>
            <p:cNvSpPr/>
            <p:nvPr/>
          </p:nvSpPr>
          <p:spPr>
            <a:xfrm>
              <a:off x="4343400" y="1295280"/>
              <a:ext cx="14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 pi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95680" y="1295280"/>
              <a:ext cx="1219320" cy="70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9" idx="2"/>
              <a:endCxn id="600" idx="7"/>
            </p:cNvCxnSpPr>
            <p:nvPr/>
          </p:nvCxnSpPr>
          <p:spPr>
            <a:xfrm flipV="1" rot="10800000">
              <a:off x="3202920" y="1645200"/>
              <a:ext cx="1292760" cy="2991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11" name=""/>
          <p:cNvSpPr/>
          <p:nvPr/>
        </p:nvSpPr>
        <p:spPr>
          <a:xfrm>
            <a:off x="4766760" y="3124080"/>
            <a:ext cx="22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2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085840" y="4427640"/>
            <a:ext cx="72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324080" y="4427640"/>
            <a:ext cx="1488960" cy="703440"/>
            <a:chOff x="1324080" y="4427640"/>
            <a:chExt cx="1488960" cy="703440"/>
          </a:xfrm>
        </p:grpSpPr>
        <p:sp>
          <p:nvSpPr>
            <p:cNvPr id="614" name=""/>
            <p:cNvSpPr/>
            <p:nvPr/>
          </p:nvSpPr>
          <p:spPr>
            <a:xfrm>
              <a:off x="1324080" y="4427640"/>
              <a:ext cx="107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)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11440" y="4495680"/>
              <a:ext cx="110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209680" y="3878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621680" y="4435560"/>
            <a:ext cx="6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149800" y="4497480"/>
            <a:ext cx="185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 1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708160" y="5638680"/>
            <a:ext cx="18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.5 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872520" y="5630760"/>
            <a:ext cx="1889280" cy="719280"/>
            <a:chOff x="3872520" y="5630760"/>
            <a:chExt cx="1889280" cy="719280"/>
          </a:xfrm>
        </p:grpSpPr>
        <p:sp>
          <p:nvSpPr>
            <p:cNvPr id="621" name=""/>
            <p:cNvSpPr/>
            <p:nvPr/>
          </p:nvSpPr>
          <p:spPr>
            <a:xfrm>
              <a:off x="3872520" y="56386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4273200" y="5630760"/>
              <a:ext cx="1488600" cy="719280"/>
              <a:chOff x="4273200" y="5630760"/>
              <a:chExt cx="1488600" cy="719280"/>
            </a:xfrm>
          </p:grpSpPr>
          <p:sp>
            <p:nvSpPr>
              <p:cNvPr id="623" name=""/>
              <p:cNvSpPr/>
              <p:nvPr/>
            </p:nvSpPr>
            <p:spPr>
              <a:xfrm>
                <a:off x="4273200" y="5646600"/>
                <a:ext cx="1072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2)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034960" y="5630760"/>
                <a:ext cx="726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.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60200" y="5707080"/>
                <a:ext cx="110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1822320" y="5013360"/>
            <a:ext cx="962280" cy="703440"/>
            <a:chOff x="1822320" y="5013360"/>
            <a:chExt cx="962280" cy="703440"/>
          </a:xfrm>
        </p:grpSpPr>
        <p:sp>
          <p:nvSpPr>
            <p:cNvPr id="627" name=""/>
            <p:cNvSpPr/>
            <p:nvPr/>
          </p:nvSpPr>
          <p:spPr>
            <a:xfrm>
              <a:off x="1822320" y="5013360"/>
              <a:ext cx="96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 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2320" y="5638680"/>
              <a:ext cx="95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22320" y="5715000"/>
              <a:ext cx="95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2054880" y="38782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-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447920" y="1676520"/>
            <a:ext cx="205740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3202920" y="1295280"/>
            <a:ext cx="2588400" cy="703440"/>
            <a:chOff x="3202920" y="1295280"/>
            <a:chExt cx="2588400" cy="703440"/>
          </a:xfrm>
        </p:grpSpPr>
        <p:sp>
          <p:nvSpPr>
            <p:cNvPr id="634" name=""/>
            <p:cNvSpPr/>
            <p:nvPr/>
          </p:nvSpPr>
          <p:spPr>
            <a:xfrm>
              <a:off x="4343400" y="1295280"/>
              <a:ext cx="144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 pi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95680" y="1295280"/>
              <a:ext cx="1219320" cy="701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6" name=""/>
            <p:cNvCxnSpPr>
              <a:stCxn id="635" idx="2"/>
              <a:endCxn id="632" idx="7"/>
            </p:cNvCxnSpPr>
            <p:nvPr/>
          </p:nvCxnSpPr>
          <p:spPr>
            <a:xfrm flipV="1" rot="10800000">
              <a:off x="3202920" y="1645200"/>
              <a:ext cx="1292760" cy="2991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7" name=""/>
          <p:cNvGrpSpPr/>
          <p:nvPr/>
        </p:nvGrpSpPr>
        <p:grpSpPr>
          <a:xfrm>
            <a:off x="1803240" y="1920960"/>
            <a:ext cx="5969160" cy="1584360"/>
            <a:chOff x="1803240" y="1920960"/>
            <a:chExt cx="5969160" cy="1584360"/>
          </a:xfrm>
        </p:grpSpPr>
        <p:sp>
          <p:nvSpPr>
            <p:cNvPr id="638" name=""/>
            <p:cNvSpPr/>
            <p:nvPr/>
          </p:nvSpPr>
          <p:spPr>
            <a:xfrm flipH="1">
              <a:off x="2209320" y="2590920"/>
              <a:ext cx="3049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38480" y="228636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Divided 3 ways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2485800" y="2575080"/>
              <a:ext cx="1019160" cy="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03240" y="1920960"/>
              <a:ext cx="711360" cy="66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1761480" y="1752480"/>
            <a:ext cx="1145520" cy="1723680"/>
            <a:chOff x="1761480" y="1752480"/>
            <a:chExt cx="1145520" cy="1723680"/>
          </a:xfrm>
        </p:grpSpPr>
        <p:grpSp>
          <p:nvGrpSpPr>
            <p:cNvPr id="643" name=""/>
            <p:cNvGrpSpPr/>
            <p:nvPr/>
          </p:nvGrpSpPr>
          <p:grpSpPr>
            <a:xfrm>
              <a:off x="2523600" y="2590560"/>
              <a:ext cx="383400" cy="885600"/>
              <a:chOff x="2523600" y="2590560"/>
              <a:chExt cx="383400" cy="885600"/>
            </a:xfrm>
          </p:grpSpPr>
          <p:sp>
            <p:nvSpPr>
              <p:cNvPr id="644" name=""/>
              <p:cNvSpPr/>
              <p:nvPr/>
            </p:nvSpPr>
            <p:spPr>
              <a:xfrm>
                <a:off x="2523600" y="25905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523600" y="29556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543040" y="3031920"/>
                <a:ext cx="352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1761480" y="2286000"/>
              <a:ext cx="383400" cy="885600"/>
              <a:chOff x="1761480" y="2286000"/>
              <a:chExt cx="383400" cy="885600"/>
            </a:xfrm>
          </p:grpSpPr>
          <p:sp>
            <p:nvSpPr>
              <p:cNvPr id="648" name=""/>
              <p:cNvSpPr/>
              <p:nvPr/>
            </p:nvSpPr>
            <p:spPr>
              <a:xfrm>
                <a:off x="176148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761480" y="26510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780920" y="2727360"/>
                <a:ext cx="352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447280" y="1752480"/>
              <a:ext cx="383400" cy="885600"/>
              <a:chOff x="2447280" y="1752480"/>
              <a:chExt cx="383400" cy="885600"/>
            </a:xfrm>
          </p:grpSpPr>
          <p:sp>
            <p:nvSpPr>
              <p:cNvPr id="652" name=""/>
              <p:cNvSpPr/>
              <p:nvPr/>
            </p:nvSpPr>
            <p:spPr>
              <a:xfrm>
                <a:off x="2447280" y="1752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447280" y="21175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466720" y="2193840"/>
                <a:ext cx="352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5" name=""/>
          <p:cNvSpPr/>
          <p:nvPr/>
        </p:nvSpPr>
        <p:spPr>
          <a:xfrm>
            <a:off x="4992840" y="444960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0.333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4511160" y="4373640"/>
            <a:ext cx="383400" cy="885600"/>
            <a:chOff x="4511160" y="4373640"/>
            <a:chExt cx="383400" cy="885600"/>
          </a:xfrm>
        </p:grpSpPr>
        <p:sp>
          <p:nvSpPr>
            <p:cNvPr id="657" name=""/>
            <p:cNvSpPr/>
            <p:nvPr/>
          </p:nvSpPr>
          <p:spPr>
            <a:xfrm>
              <a:off x="4511160" y="4373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11160" y="4738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30600" y="4815000"/>
              <a:ext cx="3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249160" y="5334120"/>
            <a:ext cx="1317240" cy="703440"/>
            <a:chOff x="5249160" y="5334120"/>
            <a:chExt cx="1317240" cy="703440"/>
          </a:xfrm>
        </p:grpSpPr>
        <p:sp>
          <p:nvSpPr>
            <p:cNvPr id="661" name=""/>
            <p:cNvSpPr/>
            <p:nvPr/>
          </p:nvSpPr>
          <p:spPr>
            <a:xfrm>
              <a:off x="5249160" y="5334120"/>
              <a:ext cx="131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r>
                <a:rPr b="0" lang="en-US" sz="40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0.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97760" y="5410080"/>
              <a:ext cx="3045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766760" y="3124080"/>
            <a:ext cx="22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3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85840" y="4130640"/>
            <a:ext cx="172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0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324080" y="4130640"/>
            <a:ext cx="2181240" cy="703440"/>
            <a:chOff x="1324080" y="4130640"/>
            <a:chExt cx="2181240" cy="703440"/>
          </a:xfrm>
        </p:grpSpPr>
        <p:sp>
          <p:nvSpPr>
            <p:cNvPr id="666" name=""/>
            <p:cNvSpPr/>
            <p:nvPr/>
          </p:nvSpPr>
          <p:spPr>
            <a:xfrm>
              <a:off x="1324080" y="4130640"/>
              <a:ext cx="107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)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11440" y="4198680"/>
              <a:ext cx="179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2209680" y="3581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54880" y="35812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3581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3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1803240" y="4640400"/>
            <a:ext cx="939960" cy="703440"/>
            <a:chOff x="1803240" y="4640400"/>
            <a:chExt cx="939960" cy="703440"/>
          </a:xfrm>
        </p:grpSpPr>
        <p:sp>
          <p:nvSpPr>
            <p:cNvPr id="672" name=""/>
            <p:cNvSpPr/>
            <p:nvPr/>
          </p:nvSpPr>
          <p:spPr>
            <a:xfrm>
              <a:off x="2197080" y="4640400"/>
              <a:ext cx="546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803240" y="5257800"/>
              <a:ext cx="93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2209680" y="5165640"/>
            <a:ext cx="5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38280" y="5165640"/>
            <a:ext cx="5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057400" y="5638680"/>
            <a:ext cx="939960" cy="703440"/>
            <a:chOff x="2057400" y="5638680"/>
            <a:chExt cx="939960" cy="703440"/>
          </a:xfrm>
        </p:grpSpPr>
        <p:sp>
          <p:nvSpPr>
            <p:cNvPr id="677" name=""/>
            <p:cNvSpPr/>
            <p:nvPr/>
          </p:nvSpPr>
          <p:spPr>
            <a:xfrm>
              <a:off x="2451240" y="5638680"/>
              <a:ext cx="546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057400" y="6256440"/>
              <a:ext cx="93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2526120" y="3581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51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2286000"/>
            <a:ext cx="556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e decimal numbers by whole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 the decimal equivalent of f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7002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-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133720" y="18367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ra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5316480" y="1447920"/>
            <a:ext cx="555480" cy="1604160"/>
            <a:chOff x="5316480" y="1447920"/>
            <a:chExt cx="555480" cy="1604160"/>
          </a:xfrm>
        </p:grpSpPr>
        <p:sp>
          <p:nvSpPr>
            <p:cNvPr id="683" name=""/>
            <p:cNvSpPr/>
            <p:nvPr/>
          </p:nvSpPr>
          <p:spPr>
            <a:xfrm>
              <a:off x="5332320" y="1447920"/>
              <a:ext cx="52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16480" y="2226960"/>
              <a:ext cx="55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321160" y="222696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1676520" y="365760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cimal Equival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2743200" y="4876920"/>
            <a:ext cx="3570120" cy="825120"/>
            <a:chOff x="2743200" y="4876920"/>
            <a:chExt cx="3570120" cy="825120"/>
          </a:xfrm>
        </p:grpSpPr>
        <p:sp>
          <p:nvSpPr>
            <p:cNvPr id="688" name=""/>
            <p:cNvSpPr/>
            <p:nvPr/>
          </p:nvSpPr>
          <p:spPr>
            <a:xfrm>
              <a:off x="2743200" y="4876920"/>
              <a:ext cx="3570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b)a.0000…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265560" y="495288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4343400" y="13716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cimal equival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-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343400" y="13716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86000" y="19810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86000" y="1371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3136320" y="2011320"/>
            <a:ext cx="383400" cy="885600"/>
            <a:chOff x="3136320" y="2011320"/>
            <a:chExt cx="383400" cy="885600"/>
          </a:xfrm>
        </p:grpSpPr>
        <p:sp>
          <p:nvSpPr>
            <p:cNvPr id="696" name=""/>
            <p:cNvSpPr/>
            <p:nvPr/>
          </p:nvSpPr>
          <p:spPr>
            <a:xfrm>
              <a:off x="3136320" y="2011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36320" y="2376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55760" y="2452680"/>
              <a:ext cx="3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5050080" y="213372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19520" y="28954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136320" y="2925720"/>
            <a:ext cx="383400" cy="885600"/>
            <a:chOff x="3136320" y="2925720"/>
            <a:chExt cx="383400" cy="885600"/>
          </a:xfrm>
        </p:grpSpPr>
        <p:sp>
          <p:nvSpPr>
            <p:cNvPr id="702" name=""/>
            <p:cNvSpPr/>
            <p:nvPr/>
          </p:nvSpPr>
          <p:spPr>
            <a:xfrm>
              <a:off x="3136320" y="2925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136320" y="3290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5760" y="3367080"/>
              <a:ext cx="3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4919040" y="304632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819520" y="38098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136320" y="3840120"/>
            <a:ext cx="383400" cy="885600"/>
            <a:chOff x="3136320" y="3840120"/>
            <a:chExt cx="383400" cy="885600"/>
          </a:xfrm>
        </p:grpSpPr>
        <p:sp>
          <p:nvSpPr>
            <p:cNvPr id="708" name=""/>
            <p:cNvSpPr/>
            <p:nvPr/>
          </p:nvSpPr>
          <p:spPr>
            <a:xfrm>
              <a:off x="3136320" y="3840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36320" y="4205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155760" y="4281480"/>
              <a:ext cx="3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4788000" y="3960720"/>
            <a:ext cx="10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1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819520" y="47242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3136320" y="4754520"/>
            <a:ext cx="383400" cy="885600"/>
            <a:chOff x="3136320" y="4754520"/>
            <a:chExt cx="383400" cy="885600"/>
          </a:xfrm>
        </p:grpSpPr>
        <p:sp>
          <p:nvSpPr>
            <p:cNvPr id="714" name=""/>
            <p:cNvSpPr/>
            <p:nvPr/>
          </p:nvSpPr>
          <p:spPr>
            <a:xfrm>
              <a:off x="3136320" y="4754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36320" y="5119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55760" y="5195880"/>
              <a:ext cx="3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2819520" y="56386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3123720" y="5668920"/>
            <a:ext cx="411840" cy="885600"/>
            <a:chOff x="3123720" y="5668920"/>
            <a:chExt cx="411840" cy="885600"/>
          </a:xfrm>
        </p:grpSpPr>
        <p:sp>
          <p:nvSpPr>
            <p:cNvPr id="719" name=""/>
            <p:cNvSpPr/>
            <p:nvPr/>
          </p:nvSpPr>
          <p:spPr>
            <a:xfrm>
              <a:off x="3152160" y="5668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23720" y="6033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143160" y="6110280"/>
              <a:ext cx="3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5050080" y="487692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50080" y="579132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814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8148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-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09480" y="14479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ing mixed numbers as decim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41360" y="2735280"/>
            <a:ext cx="14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    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540960" y="2590920"/>
            <a:ext cx="586080" cy="991800"/>
            <a:chOff x="3540960" y="2590920"/>
            <a:chExt cx="586080" cy="991800"/>
          </a:xfrm>
        </p:grpSpPr>
        <p:sp>
          <p:nvSpPr>
            <p:cNvPr id="730" name=""/>
            <p:cNvSpPr/>
            <p:nvPr/>
          </p:nvSpPr>
          <p:spPr>
            <a:xfrm>
              <a:off x="3540960" y="25909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40960" y="30621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66880" y="30621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628520" y="2590920"/>
            <a:ext cx="1479600" cy="991800"/>
            <a:chOff x="4628520" y="2590920"/>
            <a:chExt cx="1479600" cy="991800"/>
          </a:xfrm>
        </p:grpSpPr>
        <p:grpSp>
          <p:nvGrpSpPr>
            <p:cNvPr id="734" name=""/>
            <p:cNvGrpSpPr/>
            <p:nvPr/>
          </p:nvGrpSpPr>
          <p:grpSpPr>
            <a:xfrm>
              <a:off x="5522040" y="2590920"/>
              <a:ext cx="586080" cy="991800"/>
              <a:chOff x="5522040" y="2590920"/>
              <a:chExt cx="586080" cy="991800"/>
            </a:xfrm>
          </p:grpSpPr>
          <p:sp>
            <p:nvSpPr>
              <p:cNvPr id="735" name=""/>
              <p:cNvSpPr/>
              <p:nvPr/>
            </p:nvSpPr>
            <p:spPr>
              <a:xfrm>
                <a:off x="5522040" y="259092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522040" y="306216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547960" y="306216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4628520" y="2735280"/>
              <a:ext cx="892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7 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1981080" y="3809880"/>
            <a:ext cx="5181840" cy="992160"/>
            <a:chOff x="1981080" y="3809880"/>
            <a:chExt cx="5181840" cy="992160"/>
          </a:xfrm>
        </p:grpSpPr>
        <p:sp>
          <p:nvSpPr>
            <p:cNvPr id="740" name=""/>
            <p:cNvSpPr/>
            <p:nvPr/>
          </p:nvSpPr>
          <p:spPr>
            <a:xfrm>
              <a:off x="1981080" y="398448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hange      to decim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3921840" y="3809880"/>
              <a:ext cx="586080" cy="992160"/>
              <a:chOff x="3921840" y="3809880"/>
              <a:chExt cx="586080" cy="992160"/>
            </a:xfrm>
          </p:grpSpPr>
          <p:sp>
            <p:nvSpPr>
              <p:cNvPr id="742" name=""/>
              <p:cNvSpPr/>
              <p:nvPr/>
            </p:nvSpPr>
            <p:spPr>
              <a:xfrm>
                <a:off x="3921840" y="38098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921840" y="42814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47760" y="42814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5" name=""/>
          <p:cNvGrpSpPr/>
          <p:nvPr/>
        </p:nvGrpSpPr>
        <p:grpSpPr>
          <a:xfrm>
            <a:off x="3112200" y="5181480"/>
            <a:ext cx="2993400" cy="992160"/>
            <a:chOff x="3112200" y="5181480"/>
            <a:chExt cx="2993400" cy="992160"/>
          </a:xfrm>
        </p:grpSpPr>
        <p:grpSp>
          <p:nvGrpSpPr>
            <p:cNvPr id="746" name=""/>
            <p:cNvGrpSpPr/>
            <p:nvPr/>
          </p:nvGrpSpPr>
          <p:grpSpPr>
            <a:xfrm>
              <a:off x="3112200" y="5181480"/>
              <a:ext cx="586080" cy="992160"/>
              <a:chOff x="3112200" y="5181480"/>
              <a:chExt cx="586080" cy="992160"/>
            </a:xfrm>
          </p:grpSpPr>
          <p:sp>
            <p:nvSpPr>
              <p:cNvPr id="747" name=""/>
              <p:cNvSpPr/>
              <p:nvPr/>
            </p:nvSpPr>
            <p:spPr>
              <a:xfrm>
                <a:off x="3112200" y="51814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112200" y="56530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138120" y="565308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3675240" y="5326200"/>
              <a:ext cx="243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 14 </a:t>
              </a: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1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mals -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600200" y="1371600"/>
            <a:ext cx="5943600" cy="992160"/>
            <a:chOff x="1600200" y="1371600"/>
            <a:chExt cx="5943600" cy="992160"/>
          </a:xfrm>
        </p:grpSpPr>
        <p:sp>
          <p:nvSpPr>
            <p:cNvPr id="753" name=""/>
            <p:cNvSpPr/>
            <p:nvPr/>
          </p:nvSpPr>
          <p:spPr>
            <a:xfrm>
              <a:off x="1600200" y="151596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Write 7     as decima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3950280" y="1371600"/>
              <a:ext cx="586080" cy="992160"/>
              <a:chOff x="3950280" y="1371600"/>
              <a:chExt cx="586080" cy="992160"/>
            </a:xfrm>
          </p:grpSpPr>
          <p:sp>
            <p:nvSpPr>
              <p:cNvPr id="755" name=""/>
              <p:cNvSpPr/>
              <p:nvPr/>
            </p:nvSpPr>
            <p:spPr>
              <a:xfrm>
                <a:off x="3950280" y="13716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950280" y="18432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976200" y="1843200"/>
                <a:ext cx="5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8" name=""/>
          <p:cNvSpPr/>
          <p:nvPr/>
        </p:nvSpPr>
        <p:spPr>
          <a:xfrm>
            <a:off x="4845960" y="3268800"/>
            <a:ext cx="18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     =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5225040" y="3124080"/>
            <a:ext cx="2913480" cy="992160"/>
            <a:chOff x="5225040" y="3124080"/>
            <a:chExt cx="2913480" cy="992160"/>
          </a:xfrm>
        </p:grpSpPr>
        <p:grpSp>
          <p:nvGrpSpPr>
            <p:cNvPr id="760" name=""/>
            <p:cNvGrpSpPr/>
            <p:nvPr/>
          </p:nvGrpSpPr>
          <p:grpSpPr>
            <a:xfrm>
              <a:off x="5225040" y="3124080"/>
              <a:ext cx="586080" cy="992160"/>
              <a:chOff x="5225040" y="3124080"/>
              <a:chExt cx="586080" cy="992160"/>
            </a:xfrm>
          </p:grpSpPr>
          <p:sp>
            <p:nvSpPr>
              <p:cNvPr id="761" name=""/>
              <p:cNvSpPr/>
              <p:nvPr/>
            </p:nvSpPr>
            <p:spPr>
              <a:xfrm>
                <a:off x="5225040" y="31240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225040" y="35956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250960" y="35956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6546600" y="3268440"/>
              <a:ext cx="159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.933.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5662440" y="4267080"/>
            <a:ext cx="1629000" cy="703440"/>
            <a:chOff x="5662440" y="4267080"/>
            <a:chExt cx="1629000" cy="703440"/>
          </a:xfrm>
        </p:grpSpPr>
        <p:sp>
          <p:nvSpPr>
            <p:cNvPr id="766" name=""/>
            <p:cNvSpPr/>
            <p:nvPr/>
          </p:nvSpPr>
          <p:spPr>
            <a:xfrm>
              <a:off x="5662440" y="4267080"/>
              <a:ext cx="160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r>
                <a:rPr b="0" lang="en-US" sz="40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7.9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31000" y="4343400"/>
              <a:ext cx="4604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851040" y="2666880"/>
            <a:ext cx="3187080" cy="3583080"/>
            <a:chOff x="851040" y="2666880"/>
            <a:chExt cx="3187080" cy="3583080"/>
          </a:xfrm>
        </p:grpSpPr>
        <p:sp>
          <p:nvSpPr>
            <p:cNvPr id="769" name=""/>
            <p:cNvSpPr/>
            <p:nvPr/>
          </p:nvSpPr>
          <p:spPr>
            <a:xfrm>
              <a:off x="851040" y="3215880"/>
              <a:ext cx="281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5)14.000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95440" y="3284280"/>
              <a:ext cx="254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154600" y="2666880"/>
              <a:ext cx="187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.9333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27840" y="379404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3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95440" y="4419360"/>
              <a:ext cx="1072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67560" y="44035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167560" y="49528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070000" y="5562360"/>
              <a:ext cx="92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507400" y="55465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3355920" y="2757600"/>
            <a:ext cx="2565360" cy="2278080"/>
          </a:xfrm>
          <a:custGeom>
            <a:avLst/>
            <a:gdLst/>
            <a:ahLst/>
            <a:rect l="l" t="t" r="r" b="b"/>
            <a:pathLst>
              <a:path w="1616" h="1435">
                <a:moveTo>
                  <a:pt x="0" y="0"/>
                </a:moveTo>
                <a:lnTo>
                  <a:pt x="0" y="1435"/>
                </a:lnTo>
                <a:lnTo>
                  <a:pt x="1614" y="1420"/>
                </a:lnTo>
                <a:lnTo>
                  <a:pt x="1616" y="5"/>
                </a:lnTo>
                <a:lnTo>
                  <a:pt x="0" y="0"/>
                </a:lnTo>
                <a:close/>
              </a:path>
            </a:pathLst>
          </a:custGeom>
          <a:solidFill>
            <a:srgbClr val="007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398120" y="327672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44.2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425760" y="5200560"/>
            <a:ext cx="1014480" cy="568440"/>
          </a:xfrm>
          <a:custGeom>
            <a:avLst/>
            <a:gdLst/>
            <a:ahLst/>
            <a:rect l="l" t="t" r="r" b="b"/>
            <a:pathLst>
              <a:path w="639" h="358">
                <a:moveTo>
                  <a:pt x="0" y="10"/>
                </a:moveTo>
                <a:lnTo>
                  <a:pt x="380" y="0"/>
                </a:lnTo>
                <a:lnTo>
                  <a:pt x="570" y="16"/>
                </a:lnTo>
                <a:lnTo>
                  <a:pt x="639" y="358"/>
                </a:lnTo>
                <a:lnTo>
                  <a:pt x="72" y="358"/>
                </a:lnTo>
                <a:lnTo>
                  <a:pt x="9" y="177"/>
                </a:lnTo>
                <a:lnTo>
                  <a:pt x="0" y="10"/>
                </a:lnTo>
                <a:close/>
              </a:path>
            </a:pathLst>
          </a:custGeom>
          <a:solidFill>
            <a:srgbClr val="0019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411360" y="2854440"/>
            <a:ext cx="673200" cy="765000"/>
          </a:xfrm>
          <a:custGeom>
            <a:avLst/>
            <a:gdLst/>
            <a:ahLst/>
            <a:rect l="l" t="t" r="r" b="b"/>
            <a:pathLst>
              <a:path w="424" h="482">
                <a:moveTo>
                  <a:pt x="27" y="131"/>
                </a:moveTo>
                <a:lnTo>
                  <a:pt x="0" y="207"/>
                </a:lnTo>
                <a:lnTo>
                  <a:pt x="2" y="219"/>
                </a:lnTo>
                <a:lnTo>
                  <a:pt x="8" y="245"/>
                </a:lnTo>
                <a:lnTo>
                  <a:pt x="14" y="272"/>
                </a:lnTo>
                <a:lnTo>
                  <a:pt x="17" y="287"/>
                </a:lnTo>
                <a:lnTo>
                  <a:pt x="20" y="291"/>
                </a:lnTo>
                <a:lnTo>
                  <a:pt x="26" y="300"/>
                </a:lnTo>
                <a:lnTo>
                  <a:pt x="35" y="312"/>
                </a:lnTo>
                <a:lnTo>
                  <a:pt x="46" y="324"/>
                </a:lnTo>
                <a:lnTo>
                  <a:pt x="56" y="337"/>
                </a:lnTo>
                <a:lnTo>
                  <a:pt x="65" y="348"/>
                </a:lnTo>
                <a:lnTo>
                  <a:pt x="72" y="355"/>
                </a:lnTo>
                <a:lnTo>
                  <a:pt x="74" y="358"/>
                </a:lnTo>
                <a:lnTo>
                  <a:pt x="107" y="407"/>
                </a:lnTo>
                <a:lnTo>
                  <a:pt x="115" y="482"/>
                </a:lnTo>
                <a:lnTo>
                  <a:pt x="171" y="441"/>
                </a:lnTo>
                <a:lnTo>
                  <a:pt x="140" y="148"/>
                </a:lnTo>
                <a:lnTo>
                  <a:pt x="225" y="136"/>
                </a:lnTo>
                <a:lnTo>
                  <a:pt x="346" y="159"/>
                </a:lnTo>
                <a:lnTo>
                  <a:pt x="424" y="103"/>
                </a:lnTo>
                <a:lnTo>
                  <a:pt x="387" y="98"/>
                </a:lnTo>
                <a:lnTo>
                  <a:pt x="374" y="75"/>
                </a:lnTo>
                <a:lnTo>
                  <a:pt x="312" y="25"/>
                </a:lnTo>
                <a:lnTo>
                  <a:pt x="200" y="0"/>
                </a:lnTo>
                <a:lnTo>
                  <a:pt x="105" y="43"/>
                </a:lnTo>
                <a:lnTo>
                  <a:pt x="64" y="95"/>
                </a:lnTo>
                <a:lnTo>
                  <a:pt x="27" y="131"/>
                </a:lnTo>
                <a:close/>
              </a:path>
            </a:pathLst>
          </a:custGeom>
          <a:solidFill>
            <a:srgbClr val="99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076560" y="3643200"/>
            <a:ext cx="2062080" cy="1614600"/>
          </a:xfrm>
          <a:custGeom>
            <a:avLst/>
            <a:gdLst/>
            <a:ahLst/>
            <a:rect l="l" t="t" r="r" b="b"/>
            <a:pathLst>
              <a:path w="1299" h="1017">
                <a:moveTo>
                  <a:pt x="341" y="0"/>
                </a:moveTo>
                <a:lnTo>
                  <a:pt x="124" y="154"/>
                </a:lnTo>
                <a:lnTo>
                  <a:pt x="42" y="239"/>
                </a:lnTo>
                <a:lnTo>
                  <a:pt x="0" y="568"/>
                </a:lnTo>
                <a:lnTo>
                  <a:pt x="23" y="738"/>
                </a:lnTo>
                <a:lnTo>
                  <a:pt x="105" y="827"/>
                </a:lnTo>
                <a:lnTo>
                  <a:pt x="170" y="892"/>
                </a:lnTo>
                <a:lnTo>
                  <a:pt x="331" y="1017"/>
                </a:lnTo>
                <a:lnTo>
                  <a:pt x="420" y="919"/>
                </a:lnTo>
                <a:lnTo>
                  <a:pt x="505" y="961"/>
                </a:lnTo>
                <a:lnTo>
                  <a:pt x="666" y="1007"/>
                </a:lnTo>
                <a:lnTo>
                  <a:pt x="794" y="991"/>
                </a:lnTo>
                <a:lnTo>
                  <a:pt x="823" y="909"/>
                </a:lnTo>
                <a:lnTo>
                  <a:pt x="849" y="561"/>
                </a:lnTo>
                <a:lnTo>
                  <a:pt x="840" y="486"/>
                </a:lnTo>
                <a:lnTo>
                  <a:pt x="971" y="525"/>
                </a:lnTo>
                <a:lnTo>
                  <a:pt x="1030" y="531"/>
                </a:lnTo>
                <a:lnTo>
                  <a:pt x="1151" y="410"/>
                </a:lnTo>
                <a:lnTo>
                  <a:pt x="1299" y="154"/>
                </a:lnTo>
                <a:lnTo>
                  <a:pt x="1191" y="82"/>
                </a:lnTo>
                <a:lnTo>
                  <a:pt x="1013" y="318"/>
                </a:lnTo>
                <a:lnTo>
                  <a:pt x="1017" y="246"/>
                </a:lnTo>
                <a:lnTo>
                  <a:pt x="890" y="102"/>
                </a:lnTo>
                <a:lnTo>
                  <a:pt x="735" y="26"/>
                </a:lnTo>
                <a:lnTo>
                  <a:pt x="626" y="10"/>
                </a:lnTo>
                <a:lnTo>
                  <a:pt x="341" y="0"/>
                </a:lnTo>
                <a:close/>
              </a:path>
            </a:pathLst>
          </a:custGeom>
          <a:solidFill>
            <a:srgbClr val="00f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621240" y="5106960"/>
            <a:ext cx="492120" cy="432000"/>
          </a:xfrm>
          <a:custGeom>
            <a:avLst/>
            <a:gdLst/>
            <a:ahLst/>
            <a:rect l="l" t="t" r="r" b="b"/>
            <a:pathLst>
              <a:path w="310" h="272">
                <a:moveTo>
                  <a:pt x="0" y="89"/>
                </a:moveTo>
                <a:lnTo>
                  <a:pt x="24" y="34"/>
                </a:lnTo>
                <a:lnTo>
                  <a:pt x="73" y="0"/>
                </a:lnTo>
                <a:lnTo>
                  <a:pt x="176" y="48"/>
                </a:lnTo>
                <a:lnTo>
                  <a:pt x="224" y="45"/>
                </a:lnTo>
                <a:lnTo>
                  <a:pt x="252" y="63"/>
                </a:lnTo>
                <a:lnTo>
                  <a:pt x="304" y="63"/>
                </a:lnTo>
                <a:lnTo>
                  <a:pt x="310" y="124"/>
                </a:lnTo>
                <a:lnTo>
                  <a:pt x="306" y="169"/>
                </a:lnTo>
                <a:lnTo>
                  <a:pt x="284" y="206"/>
                </a:lnTo>
                <a:lnTo>
                  <a:pt x="252" y="213"/>
                </a:lnTo>
                <a:lnTo>
                  <a:pt x="245" y="228"/>
                </a:lnTo>
                <a:lnTo>
                  <a:pt x="202" y="250"/>
                </a:lnTo>
                <a:lnTo>
                  <a:pt x="173" y="272"/>
                </a:lnTo>
                <a:lnTo>
                  <a:pt x="117" y="247"/>
                </a:lnTo>
                <a:lnTo>
                  <a:pt x="0" y="89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568680" y="3062160"/>
            <a:ext cx="539640" cy="892440"/>
          </a:xfrm>
          <a:custGeom>
            <a:avLst/>
            <a:gdLst/>
            <a:ahLst/>
            <a:rect l="l" t="t" r="r" b="b"/>
            <a:pathLst>
              <a:path w="340" h="562">
                <a:moveTo>
                  <a:pt x="11" y="29"/>
                </a:moveTo>
                <a:lnTo>
                  <a:pt x="37" y="66"/>
                </a:lnTo>
                <a:lnTo>
                  <a:pt x="47" y="137"/>
                </a:lnTo>
                <a:lnTo>
                  <a:pt x="13" y="151"/>
                </a:lnTo>
                <a:lnTo>
                  <a:pt x="0" y="187"/>
                </a:lnTo>
                <a:lnTo>
                  <a:pt x="23" y="219"/>
                </a:lnTo>
                <a:lnTo>
                  <a:pt x="55" y="247"/>
                </a:lnTo>
                <a:lnTo>
                  <a:pt x="74" y="312"/>
                </a:lnTo>
                <a:lnTo>
                  <a:pt x="105" y="401"/>
                </a:lnTo>
                <a:lnTo>
                  <a:pt x="180" y="521"/>
                </a:lnTo>
                <a:lnTo>
                  <a:pt x="205" y="562"/>
                </a:lnTo>
                <a:lnTo>
                  <a:pt x="233" y="508"/>
                </a:lnTo>
                <a:lnTo>
                  <a:pt x="252" y="423"/>
                </a:lnTo>
                <a:lnTo>
                  <a:pt x="244" y="343"/>
                </a:lnTo>
                <a:lnTo>
                  <a:pt x="268" y="340"/>
                </a:lnTo>
                <a:lnTo>
                  <a:pt x="313" y="284"/>
                </a:lnTo>
                <a:lnTo>
                  <a:pt x="340" y="169"/>
                </a:lnTo>
                <a:lnTo>
                  <a:pt x="319" y="64"/>
                </a:lnTo>
                <a:lnTo>
                  <a:pt x="281" y="4"/>
                </a:lnTo>
                <a:lnTo>
                  <a:pt x="215" y="25"/>
                </a:lnTo>
                <a:lnTo>
                  <a:pt x="134" y="2"/>
                </a:lnTo>
                <a:lnTo>
                  <a:pt x="95" y="0"/>
                </a:lnTo>
                <a:lnTo>
                  <a:pt x="11" y="29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133960" y="3301920"/>
            <a:ext cx="268200" cy="453960"/>
          </a:xfrm>
          <a:custGeom>
            <a:avLst/>
            <a:gdLst/>
            <a:ahLst/>
            <a:rect l="l" t="t" r="r" b="b"/>
            <a:pathLst>
              <a:path w="169" h="286">
                <a:moveTo>
                  <a:pt x="17" y="88"/>
                </a:moveTo>
                <a:lnTo>
                  <a:pt x="60" y="51"/>
                </a:lnTo>
                <a:lnTo>
                  <a:pt x="112" y="20"/>
                </a:lnTo>
                <a:lnTo>
                  <a:pt x="167" y="0"/>
                </a:lnTo>
                <a:lnTo>
                  <a:pt x="169" y="21"/>
                </a:lnTo>
                <a:lnTo>
                  <a:pt x="151" y="48"/>
                </a:lnTo>
                <a:lnTo>
                  <a:pt x="120" y="62"/>
                </a:lnTo>
                <a:lnTo>
                  <a:pt x="105" y="80"/>
                </a:lnTo>
                <a:lnTo>
                  <a:pt x="128" y="120"/>
                </a:lnTo>
                <a:lnTo>
                  <a:pt x="111" y="152"/>
                </a:lnTo>
                <a:lnTo>
                  <a:pt x="116" y="180"/>
                </a:lnTo>
                <a:lnTo>
                  <a:pt x="120" y="204"/>
                </a:lnTo>
                <a:lnTo>
                  <a:pt x="111" y="215"/>
                </a:lnTo>
                <a:lnTo>
                  <a:pt x="117" y="238"/>
                </a:lnTo>
                <a:lnTo>
                  <a:pt x="90" y="269"/>
                </a:lnTo>
                <a:lnTo>
                  <a:pt x="39" y="286"/>
                </a:lnTo>
                <a:lnTo>
                  <a:pt x="0" y="179"/>
                </a:lnTo>
                <a:lnTo>
                  <a:pt x="17" y="88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062160" y="2743200"/>
            <a:ext cx="2938680" cy="3119400"/>
          </a:xfrm>
          <a:custGeom>
            <a:avLst/>
            <a:gdLst/>
            <a:ahLst/>
            <a:rect l="l" t="t" r="r" b="b"/>
            <a:pathLst>
              <a:path w="1851" h="1965">
                <a:moveTo>
                  <a:pt x="197" y="630"/>
                </a:moveTo>
                <a:lnTo>
                  <a:pt x="196" y="21"/>
                </a:lnTo>
                <a:lnTo>
                  <a:pt x="1790" y="22"/>
                </a:lnTo>
                <a:lnTo>
                  <a:pt x="1791" y="1425"/>
                </a:lnTo>
                <a:lnTo>
                  <a:pt x="1458" y="1424"/>
                </a:lnTo>
                <a:lnTo>
                  <a:pt x="1458" y="1411"/>
                </a:lnTo>
                <a:lnTo>
                  <a:pt x="1455" y="1399"/>
                </a:lnTo>
                <a:lnTo>
                  <a:pt x="1450" y="1389"/>
                </a:lnTo>
                <a:lnTo>
                  <a:pt x="1441" y="1381"/>
                </a:lnTo>
                <a:lnTo>
                  <a:pt x="1118" y="1381"/>
                </a:lnTo>
                <a:lnTo>
                  <a:pt x="1110" y="1384"/>
                </a:lnTo>
                <a:lnTo>
                  <a:pt x="1102" y="1387"/>
                </a:lnTo>
                <a:lnTo>
                  <a:pt x="1096" y="1392"/>
                </a:lnTo>
                <a:lnTo>
                  <a:pt x="1092" y="1400"/>
                </a:lnTo>
                <a:lnTo>
                  <a:pt x="1091" y="1406"/>
                </a:lnTo>
                <a:lnTo>
                  <a:pt x="1090" y="1413"/>
                </a:lnTo>
                <a:lnTo>
                  <a:pt x="1089" y="1420"/>
                </a:lnTo>
                <a:lnTo>
                  <a:pt x="1091" y="1427"/>
                </a:lnTo>
                <a:lnTo>
                  <a:pt x="880" y="1427"/>
                </a:lnTo>
                <a:lnTo>
                  <a:pt x="1216" y="1121"/>
                </a:lnTo>
                <a:lnTo>
                  <a:pt x="1218" y="1112"/>
                </a:lnTo>
                <a:lnTo>
                  <a:pt x="1216" y="1102"/>
                </a:lnTo>
                <a:lnTo>
                  <a:pt x="1211" y="1093"/>
                </a:lnTo>
                <a:lnTo>
                  <a:pt x="1202" y="1088"/>
                </a:lnTo>
                <a:lnTo>
                  <a:pt x="860" y="1379"/>
                </a:lnTo>
                <a:lnTo>
                  <a:pt x="874" y="1227"/>
                </a:lnTo>
                <a:lnTo>
                  <a:pt x="875" y="1166"/>
                </a:lnTo>
                <a:lnTo>
                  <a:pt x="872" y="1107"/>
                </a:lnTo>
                <a:lnTo>
                  <a:pt x="866" y="1049"/>
                </a:lnTo>
                <a:lnTo>
                  <a:pt x="856" y="992"/>
                </a:lnTo>
                <a:lnTo>
                  <a:pt x="843" y="936"/>
                </a:lnTo>
                <a:lnTo>
                  <a:pt x="826" y="881"/>
                </a:lnTo>
                <a:lnTo>
                  <a:pt x="807" y="828"/>
                </a:lnTo>
                <a:lnTo>
                  <a:pt x="786" y="775"/>
                </a:lnTo>
                <a:lnTo>
                  <a:pt x="784" y="776"/>
                </a:lnTo>
                <a:lnTo>
                  <a:pt x="779" y="779"/>
                </a:lnTo>
                <a:lnTo>
                  <a:pt x="773" y="783"/>
                </a:lnTo>
                <a:lnTo>
                  <a:pt x="771" y="789"/>
                </a:lnTo>
                <a:lnTo>
                  <a:pt x="800" y="866"/>
                </a:lnTo>
                <a:lnTo>
                  <a:pt x="829" y="979"/>
                </a:lnTo>
                <a:lnTo>
                  <a:pt x="836" y="1019"/>
                </a:lnTo>
                <a:lnTo>
                  <a:pt x="841" y="1060"/>
                </a:lnTo>
                <a:lnTo>
                  <a:pt x="844" y="1102"/>
                </a:lnTo>
                <a:lnTo>
                  <a:pt x="845" y="1145"/>
                </a:lnTo>
                <a:lnTo>
                  <a:pt x="843" y="1288"/>
                </a:lnTo>
                <a:lnTo>
                  <a:pt x="833" y="1402"/>
                </a:lnTo>
                <a:lnTo>
                  <a:pt x="670" y="1544"/>
                </a:lnTo>
                <a:lnTo>
                  <a:pt x="663" y="1543"/>
                </a:lnTo>
                <a:lnTo>
                  <a:pt x="655" y="1543"/>
                </a:lnTo>
                <a:lnTo>
                  <a:pt x="648" y="1544"/>
                </a:lnTo>
                <a:lnTo>
                  <a:pt x="640" y="1545"/>
                </a:lnTo>
                <a:lnTo>
                  <a:pt x="633" y="1546"/>
                </a:lnTo>
                <a:lnTo>
                  <a:pt x="625" y="1547"/>
                </a:lnTo>
                <a:lnTo>
                  <a:pt x="618" y="1546"/>
                </a:lnTo>
                <a:lnTo>
                  <a:pt x="610" y="1545"/>
                </a:lnTo>
                <a:lnTo>
                  <a:pt x="596" y="1535"/>
                </a:lnTo>
                <a:lnTo>
                  <a:pt x="580" y="1529"/>
                </a:lnTo>
                <a:lnTo>
                  <a:pt x="562" y="1526"/>
                </a:lnTo>
                <a:lnTo>
                  <a:pt x="544" y="1525"/>
                </a:lnTo>
                <a:lnTo>
                  <a:pt x="526" y="1524"/>
                </a:lnTo>
                <a:lnTo>
                  <a:pt x="508" y="1521"/>
                </a:lnTo>
                <a:lnTo>
                  <a:pt x="492" y="1516"/>
                </a:lnTo>
                <a:lnTo>
                  <a:pt x="477" y="1507"/>
                </a:lnTo>
                <a:lnTo>
                  <a:pt x="464" y="1500"/>
                </a:lnTo>
                <a:lnTo>
                  <a:pt x="454" y="1490"/>
                </a:lnTo>
                <a:lnTo>
                  <a:pt x="446" y="1478"/>
                </a:lnTo>
                <a:lnTo>
                  <a:pt x="441" y="1466"/>
                </a:lnTo>
                <a:lnTo>
                  <a:pt x="437" y="1452"/>
                </a:lnTo>
                <a:lnTo>
                  <a:pt x="432" y="1439"/>
                </a:lnTo>
                <a:lnTo>
                  <a:pt x="428" y="1425"/>
                </a:lnTo>
                <a:lnTo>
                  <a:pt x="422" y="1413"/>
                </a:lnTo>
                <a:lnTo>
                  <a:pt x="410" y="1387"/>
                </a:lnTo>
                <a:lnTo>
                  <a:pt x="397" y="1360"/>
                </a:lnTo>
                <a:lnTo>
                  <a:pt x="383" y="1334"/>
                </a:lnTo>
                <a:lnTo>
                  <a:pt x="369" y="1309"/>
                </a:lnTo>
                <a:lnTo>
                  <a:pt x="353" y="1284"/>
                </a:lnTo>
                <a:lnTo>
                  <a:pt x="337" y="1259"/>
                </a:lnTo>
                <a:lnTo>
                  <a:pt x="321" y="1234"/>
                </a:lnTo>
                <a:lnTo>
                  <a:pt x="303" y="1210"/>
                </a:lnTo>
                <a:lnTo>
                  <a:pt x="304" y="1164"/>
                </a:lnTo>
                <a:lnTo>
                  <a:pt x="304" y="1119"/>
                </a:lnTo>
                <a:lnTo>
                  <a:pt x="302" y="1073"/>
                </a:lnTo>
                <a:lnTo>
                  <a:pt x="298" y="1028"/>
                </a:lnTo>
                <a:lnTo>
                  <a:pt x="292" y="984"/>
                </a:lnTo>
                <a:lnTo>
                  <a:pt x="284" y="941"/>
                </a:lnTo>
                <a:lnTo>
                  <a:pt x="272" y="899"/>
                </a:lnTo>
                <a:lnTo>
                  <a:pt x="258" y="858"/>
                </a:lnTo>
                <a:lnTo>
                  <a:pt x="254" y="853"/>
                </a:lnTo>
                <a:lnTo>
                  <a:pt x="250" y="851"/>
                </a:lnTo>
                <a:lnTo>
                  <a:pt x="244" y="850"/>
                </a:lnTo>
                <a:lnTo>
                  <a:pt x="238" y="849"/>
                </a:lnTo>
                <a:lnTo>
                  <a:pt x="244" y="874"/>
                </a:lnTo>
                <a:lnTo>
                  <a:pt x="249" y="901"/>
                </a:lnTo>
                <a:lnTo>
                  <a:pt x="255" y="928"/>
                </a:lnTo>
                <a:lnTo>
                  <a:pt x="259" y="956"/>
                </a:lnTo>
                <a:lnTo>
                  <a:pt x="271" y="1118"/>
                </a:lnTo>
                <a:lnTo>
                  <a:pt x="272" y="1147"/>
                </a:lnTo>
                <a:lnTo>
                  <a:pt x="271" y="1175"/>
                </a:lnTo>
                <a:lnTo>
                  <a:pt x="269" y="1204"/>
                </a:lnTo>
                <a:lnTo>
                  <a:pt x="269" y="1232"/>
                </a:lnTo>
                <a:lnTo>
                  <a:pt x="291" y="1261"/>
                </a:lnTo>
                <a:lnTo>
                  <a:pt x="313" y="1290"/>
                </a:lnTo>
                <a:lnTo>
                  <a:pt x="333" y="1320"/>
                </a:lnTo>
                <a:lnTo>
                  <a:pt x="353" y="1351"/>
                </a:lnTo>
                <a:lnTo>
                  <a:pt x="371" y="1382"/>
                </a:lnTo>
                <a:lnTo>
                  <a:pt x="387" y="1414"/>
                </a:lnTo>
                <a:lnTo>
                  <a:pt x="402" y="1446"/>
                </a:lnTo>
                <a:lnTo>
                  <a:pt x="416" y="1479"/>
                </a:lnTo>
                <a:lnTo>
                  <a:pt x="403" y="1487"/>
                </a:lnTo>
                <a:lnTo>
                  <a:pt x="390" y="1496"/>
                </a:lnTo>
                <a:lnTo>
                  <a:pt x="378" y="1506"/>
                </a:lnTo>
                <a:lnTo>
                  <a:pt x="368" y="1518"/>
                </a:lnTo>
                <a:lnTo>
                  <a:pt x="358" y="1530"/>
                </a:lnTo>
                <a:lnTo>
                  <a:pt x="350" y="1544"/>
                </a:lnTo>
                <a:lnTo>
                  <a:pt x="344" y="1557"/>
                </a:lnTo>
                <a:lnTo>
                  <a:pt x="339" y="1571"/>
                </a:lnTo>
                <a:lnTo>
                  <a:pt x="303" y="1547"/>
                </a:lnTo>
                <a:lnTo>
                  <a:pt x="211" y="1475"/>
                </a:lnTo>
                <a:lnTo>
                  <a:pt x="107" y="1380"/>
                </a:lnTo>
                <a:lnTo>
                  <a:pt x="96" y="1368"/>
                </a:lnTo>
                <a:lnTo>
                  <a:pt x="86" y="1356"/>
                </a:lnTo>
                <a:lnTo>
                  <a:pt x="77" y="1344"/>
                </a:lnTo>
                <a:lnTo>
                  <a:pt x="69" y="1331"/>
                </a:lnTo>
                <a:lnTo>
                  <a:pt x="62" y="1318"/>
                </a:lnTo>
                <a:lnTo>
                  <a:pt x="55" y="1304"/>
                </a:lnTo>
                <a:lnTo>
                  <a:pt x="49" y="1290"/>
                </a:lnTo>
                <a:lnTo>
                  <a:pt x="43" y="1276"/>
                </a:lnTo>
                <a:lnTo>
                  <a:pt x="34" y="1128"/>
                </a:lnTo>
                <a:lnTo>
                  <a:pt x="36" y="967"/>
                </a:lnTo>
                <a:lnTo>
                  <a:pt x="41" y="943"/>
                </a:lnTo>
                <a:lnTo>
                  <a:pt x="46" y="918"/>
                </a:lnTo>
                <a:lnTo>
                  <a:pt x="50" y="894"/>
                </a:lnTo>
                <a:lnTo>
                  <a:pt x="55" y="869"/>
                </a:lnTo>
                <a:lnTo>
                  <a:pt x="61" y="846"/>
                </a:lnTo>
                <a:lnTo>
                  <a:pt x="70" y="823"/>
                </a:lnTo>
                <a:lnTo>
                  <a:pt x="82" y="802"/>
                </a:lnTo>
                <a:lnTo>
                  <a:pt x="97" y="782"/>
                </a:lnTo>
                <a:lnTo>
                  <a:pt x="109" y="771"/>
                </a:lnTo>
                <a:lnTo>
                  <a:pt x="121" y="759"/>
                </a:lnTo>
                <a:lnTo>
                  <a:pt x="133" y="748"/>
                </a:lnTo>
                <a:lnTo>
                  <a:pt x="146" y="737"/>
                </a:lnTo>
                <a:lnTo>
                  <a:pt x="158" y="726"/>
                </a:lnTo>
                <a:lnTo>
                  <a:pt x="171" y="715"/>
                </a:lnTo>
                <a:lnTo>
                  <a:pt x="183" y="704"/>
                </a:lnTo>
                <a:lnTo>
                  <a:pt x="196" y="693"/>
                </a:lnTo>
                <a:lnTo>
                  <a:pt x="209" y="683"/>
                </a:lnTo>
                <a:lnTo>
                  <a:pt x="222" y="673"/>
                </a:lnTo>
                <a:lnTo>
                  <a:pt x="235" y="663"/>
                </a:lnTo>
                <a:lnTo>
                  <a:pt x="249" y="653"/>
                </a:lnTo>
                <a:lnTo>
                  <a:pt x="262" y="644"/>
                </a:lnTo>
                <a:lnTo>
                  <a:pt x="276" y="635"/>
                </a:lnTo>
                <a:lnTo>
                  <a:pt x="290" y="627"/>
                </a:lnTo>
                <a:lnTo>
                  <a:pt x="304" y="619"/>
                </a:lnTo>
                <a:lnTo>
                  <a:pt x="311" y="651"/>
                </a:lnTo>
                <a:lnTo>
                  <a:pt x="319" y="684"/>
                </a:lnTo>
                <a:lnTo>
                  <a:pt x="328" y="717"/>
                </a:lnTo>
                <a:lnTo>
                  <a:pt x="339" y="749"/>
                </a:lnTo>
                <a:lnTo>
                  <a:pt x="350" y="782"/>
                </a:lnTo>
                <a:lnTo>
                  <a:pt x="363" y="814"/>
                </a:lnTo>
                <a:lnTo>
                  <a:pt x="377" y="845"/>
                </a:lnTo>
                <a:lnTo>
                  <a:pt x="393" y="876"/>
                </a:lnTo>
                <a:lnTo>
                  <a:pt x="409" y="905"/>
                </a:lnTo>
                <a:lnTo>
                  <a:pt x="426" y="934"/>
                </a:lnTo>
                <a:lnTo>
                  <a:pt x="444" y="961"/>
                </a:lnTo>
                <a:lnTo>
                  <a:pt x="464" y="986"/>
                </a:lnTo>
                <a:lnTo>
                  <a:pt x="484" y="1010"/>
                </a:lnTo>
                <a:lnTo>
                  <a:pt x="505" y="1032"/>
                </a:lnTo>
                <a:lnTo>
                  <a:pt x="527" y="1052"/>
                </a:lnTo>
                <a:lnTo>
                  <a:pt x="550" y="1070"/>
                </a:lnTo>
                <a:lnTo>
                  <a:pt x="558" y="1074"/>
                </a:lnTo>
                <a:lnTo>
                  <a:pt x="565" y="1076"/>
                </a:lnTo>
                <a:lnTo>
                  <a:pt x="571" y="1077"/>
                </a:lnTo>
                <a:lnTo>
                  <a:pt x="577" y="1077"/>
                </a:lnTo>
                <a:lnTo>
                  <a:pt x="582" y="1077"/>
                </a:lnTo>
                <a:lnTo>
                  <a:pt x="587" y="1074"/>
                </a:lnTo>
                <a:lnTo>
                  <a:pt x="591" y="1071"/>
                </a:lnTo>
                <a:lnTo>
                  <a:pt x="596" y="1067"/>
                </a:lnTo>
                <a:lnTo>
                  <a:pt x="605" y="1048"/>
                </a:lnTo>
                <a:lnTo>
                  <a:pt x="614" y="1028"/>
                </a:lnTo>
                <a:lnTo>
                  <a:pt x="621" y="1009"/>
                </a:lnTo>
                <a:lnTo>
                  <a:pt x="628" y="988"/>
                </a:lnTo>
                <a:lnTo>
                  <a:pt x="635" y="968"/>
                </a:lnTo>
                <a:lnTo>
                  <a:pt x="641" y="947"/>
                </a:lnTo>
                <a:lnTo>
                  <a:pt x="646" y="927"/>
                </a:lnTo>
                <a:lnTo>
                  <a:pt x="651" y="906"/>
                </a:lnTo>
                <a:lnTo>
                  <a:pt x="669" y="788"/>
                </a:lnTo>
                <a:lnTo>
                  <a:pt x="669" y="640"/>
                </a:lnTo>
                <a:lnTo>
                  <a:pt x="665" y="644"/>
                </a:lnTo>
                <a:lnTo>
                  <a:pt x="660" y="656"/>
                </a:lnTo>
                <a:lnTo>
                  <a:pt x="655" y="668"/>
                </a:lnTo>
                <a:lnTo>
                  <a:pt x="653" y="673"/>
                </a:lnTo>
                <a:lnTo>
                  <a:pt x="652" y="720"/>
                </a:lnTo>
                <a:lnTo>
                  <a:pt x="650" y="767"/>
                </a:lnTo>
                <a:lnTo>
                  <a:pt x="645" y="813"/>
                </a:lnTo>
                <a:lnTo>
                  <a:pt x="638" y="858"/>
                </a:lnTo>
                <a:lnTo>
                  <a:pt x="630" y="903"/>
                </a:lnTo>
                <a:lnTo>
                  <a:pt x="619" y="947"/>
                </a:lnTo>
                <a:lnTo>
                  <a:pt x="606" y="989"/>
                </a:lnTo>
                <a:lnTo>
                  <a:pt x="592" y="1031"/>
                </a:lnTo>
                <a:lnTo>
                  <a:pt x="584" y="1031"/>
                </a:lnTo>
                <a:lnTo>
                  <a:pt x="588" y="1014"/>
                </a:lnTo>
                <a:lnTo>
                  <a:pt x="593" y="998"/>
                </a:lnTo>
                <a:lnTo>
                  <a:pt x="598" y="981"/>
                </a:lnTo>
                <a:lnTo>
                  <a:pt x="603" y="964"/>
                </a:lnTo>
                <a:lnTo>
                  <a:pt x="607" y="946"/>
                </a:lnTo>
                <a:lnTo>
                  <a:pt x="612" y="929"/>
                </a:lnTo>
                <a:lnTo>
                  <a:pt x="616" y="912"/>
                </a:lnTo>
                <a:lnTo>
                  <a:pt x="619" y="894"/>
                </a:lnTo>
                <a:lnTo>
                  <a:pt x="633" y="776"/>
                </a:lnTo>
                <a:lnTo>
                  <a:pt x="636" y="713"/>
                </a:lnTo>
                <a:lnTo>
                  <a:pt x="638" y="699"/>
                </a:lnTo>
                <a:lnTo>
                  <a:pt x="643" y="685"/>
                </a:lnTo>
                <a:lnTo>
                  <a:pt x="648" y="672"/>
                </a:lnTo>
                <a:lnTo>
                  <a:pt x="654" y="659"/>
                </a:lnTo>
                <a:lnTo>
                  <a:pt x="660" y="645"/>
                </a:lnTo>
                <a:lnTo>
                  <a:pt x="663" y="632"/>
                </a:lnTo>
                <a:lnTo>
                  <a:pt x="665" y="617"/>
                </a:lnTo>
                <a:lnTo>
                  <a:pt x="663" y="602"/>
                </a:lnTo>
                <a:lnTo>
                  <a:pt x="688" y="604"/>
                </a:lnTo>
                <a:lnTo>
                  <a:pt x="712" y="608"/>
                </a:lnTo>
                <a:lnTo>
                  <a:pt x="737" y="613"/>
                </a:lnTo>
                <a:lnTo>
                  <a:pt x="760" y="620"/>
                </a:lnTo>
                <a:lnTo>
                  <a:pt x="783" y="628"/>
                </a:lnTo>
                <a:lnTo>
                  <a:pt x="806" y="637"/>
                </a:lnTo>
                <a:lnTo>
                  <a:pt x="828" y="647"/>
                </a:lnTo>
                <a:lnTo>
                  <a:pt x="850" y="659"/>
                </a:lnTo>
                <a:lnTo>
                  <a:pt x="871" y="672"/>
                </a:lnTo>
                <a:lnTo>
                  <a:pt x="891" y="686"/>
                </a:lnTo>
                <a:lnTo>
                  <a:pt x="911" y="701"/>
                </a:lnTo>
                <a:lnTo>
                  <a:pt x="929" y="718"/>
                </a:lnTo>
                <a:lnTo>
                  <a:pt x="948" y="735"/>
                </a:lnTo>
                <a:lnTo>
                  <a:pt x="965" y="754"/>
                </a:lnTo>
                <a:lnTo>
                  <a:pt x="982" y="773"/>
                </a:lnTo>
                <a:lnTo>
                  <a:pt x="998" y="794"/>
                </a:lnTo>
                <a:lnTo>
                  <a:pt x="1017" y="830"/>
                </a:lnTo>
                <a:lnTo>
                  <a:pt x="1009" y="858"/>
                </a:lnTo>
                <a:lnTo>
                  <a:pt x="1003" y="889"/>
                </a:lnTo>
                <a:lnTo>
                  <a:pt x="1004" y="920"/>
                </a:lnTo>
                <a:lnTo>
                  <a:pt x="1015" y="947"/>
                </a:lnTo>
                <a:lnTo>
                  <a:pt x="1017" y="947"/>
                </a:lnTo>
                <a:lnTo>
                  <a:pt x="1018" y="946"/>
                </a:lnTo>
                <a:lnTo>
                  <a:pt x="1020" y="945"/>
                </a:lnTo>
                <a:lnTo>
                  <a:pt x="1021" y="943"/>
                </a:lnTo>
                <a:lnTo>
                  <a:pt x="1023" y="910"/>
                </a:lnTo>
                <a:lnTo>
                  <a:pt x="1032" y="880"/>
                </a:lnTo>
                <a:lnTo>
                  <a:pt x="1047" y="853"/>
                </a:lnTo>
                <a:lnTo>
                  <a:pt x="1065" y="827"/>
                </a:lnTo>
                <a:lnTo>
                  <a:pt x="1086" y="802"/>
                </a:lnTo>
                <a:lnTo>
                  <a:pt x="1108" y="778"/>
                </a:lnTo>
                <a:lnTo>
                  <a:pt x="1130" y="754"/>
                </a:lnTo>
                <a:lnTo>
                  <a:pt x="1150" y="729"/>
                </a:lnTo>
                <a:lnTo>
                  <a:pt x="1200" y="683"/>
                </a:lnTo>
                <a:lnTo>
                  <a:pt x="1210" y="692"/>
                </a:lnTo>
                <a:lnTo>
                  <a:pt x="1219" y="700"/>
                </a:lnTo>
                <a:lnTo>
                  <a:pt x="1230" y="708"/>
                </a:lnTo>
                <a:lnTo>
                  <a:pt x="1240" y="715"/>
                </a:lnTo>
                <a:lnTo>
                  <a:pt x="1251" y="721"/>
                </a:lnTo>
                <a:lnTo>
                  <a:pt x="1263" y="726"/>
                </a:lnTo>
                <a:lnTo>
                  <a:pt x="1275" y="729"/>
                </a:lnTo>
                <a:lnTo>
                  <a:pt x="1287" y="731"/>
                </a:lnTo>
                <a:lnTo>
                  <a:pt x="1237" y="836"/>
                </a:lnTo>
                <a:lnTo>
                  <a:pt x="1227" y="854"/>
                </a:lnTo>
                <a:lnTo>
                  <a:pt x="1217" y="871"/>
                </a:lnTo>
                <a:lnTo>
                  <a:pt x="1206" y="889"/>
                </a:lnTo>
                <a:lnTo>
                  <a:pt x="1195" y="906"/>
                </a:lnTo>
                <a:lnTo>
                  <a:pt x="1183" y="923"/>
                </a:lnTo>
                <a:lnTo>
                  <a:pt x="1170" y="940"/>
                </a:lnTo>
                <a:lnTo>
                  <a:pt x="1157" y="957"/>
                </a:lnTo>
                <a:lnTo>
                  <a:pt x="1144" y="973"/>
                </a:lnTo>
                <a:lnTo>
                  <a:pt x="1131" y="989"/>
                </a:lnTo>
                <a:lnTo>
                  <a:pt x="1117" y="1005"/>
                </a:lnTo>
                <a:lnTo>
                  <a:pt x="1103" y="1021"/>
                </a:lnTo>
                <a:lnTo>
                  <a:pt x="1088" y="1036"/>
                </a:lnTo>
                <a:lnTo>
                  <a:pt x="1074" y="1051"/>
                </a:lnTo>
                <a:lnTo>
                  <a:pt x="1059" y="1065"/>
                </a:lnTo>
                <a:lnTo>
                  <a:pt x="1044" y="1079"/>
                </a:lnTo>
                <a:lnTo>
                  <a:pt x="1029" y="1093"/>
                </a:lnTo>
                <a:lnTo>
                  <a:pt x="1010" y="1091"/>
                </a:lnTo>
                <a:lnTo>
                  <a:pt x="991" y="1086"/>
                </a:lnTo>
                <a:lnTo>
                  <a:pt x="973" y="1081"/>
                </a:lnTo>
                <a:lnTo>
                  <a:pt x="956" y="1074"/>
                </a:lnTo>
                <a:lnTo>
                  <a:pt x="938" y="1067"/>
                </a:lnTo>
                <a:lnTo>
                  <a:pt x="922" y="1060"/>
                </a:lnTo>
                <a:lnTo>
                  <a:pt x="905" y="1052"/>
                </a:lnTo>
                <a:lnTo>
                  <a:pt x="888" y="1044"/>
                </a:lnTo>
                <a:lnTo>
                  <a:pt x="882" y="1052"/>
                </a:lnTo>
                <a:lnTo>
                  <a:pt x="881" y="1063"/>
                </a:lnTo>
                <a:lnTo>
                  <a:pt x="883" y="1074"/>
                </a:lnTo>
                <a:lnTo>
                  <a:pt x="885" y="1083"/>
                </a:lnTo>
                <a:lnTo>
                  <a:pt x="888" y="1088"/>
                </a:lnTo>
                <a:lnTo>
                  <a:pt x="892" y="1091"/>
                </a:lnTo>
                <a:lnTo>
                  <a:pt x="896" y="1094"/>
                </a:lnTo>
                <a:lnTo>
                  <a:pt x="901" y="1096"/>
                </a:lnTo>
                <a:lnTo>
                  <a:pt x="906" y="1097"/>
                </a:lnTo>
                <a:lnTo>
                  <a:pt x="911" y="1099"/>
                </a:lnTo>
                <a:lnTo>
                  <a:pt x="916" y="1101"/>
                </a:lnTo>
                <a:lnTo>
                  <a:pt x="920" y="1103"/>
                </a:lnTo>
                <a:lnTo>
                  <a:pt x="934" y="1106"/>
                </a:lnTo>
                <a:lnTo>
                  <a:pt x="948" y="1109"/>
                </a:lnTo>
                <a:lnTo>
                  <a:pt x="962" y="1112"/>
                </a:lnTo>
                <a:lnTo>
                  <a:pt x="976" y="1114"/>
                </a:lnTo>
                <a:lnTo>
                  <a:pt x="990" y="1116"/>
                </a:lnTo>
                <a:lnTo>
                  <a:pt x="1005" y="1117"/>
                </a:lnTo>
                <a:lnTo>
                  <a:pt x="1019" y="1118"/>
                </a:lnTo>
                <a:lnTo>
                  <a:pt x="1034" y="1117"/>
                </a:lnTo>
                <a:lnTo>
                  <a:pt x="1051" y="1109"/>
                </a:lnTo>
                <a:lnTo>
                  <a:pt x="1067" y="1099"/>
                </a:lnTo>
                <a:lnTo>
                  <a:pt x="1082" y="1087"/>
                </a:lnTo>
                <a:lnTo>
                  <a:pt x="1098" y="1074"/>
                </a:lnTo>
                <a:lnTo>
                  <a:pt x="1112" y="1061"/>
                </a:lnTo>
                <a:lnTo>
                  <a:pt x="1126" y="1046"/>
                </a:lnTo>
                <a:lnTo>
                  <a:pt x="1140" y="1032"/>
                </a:lnTo>
                <a:lnTo>
                  <a:pt x="1153" y="1018"/>
                </a:lnTo>
                <a:lnTo>
                  <a:pt x="1225" y="919"/>
                </a:lnTo>
                <a:lnTo>
                  <a:pt x="1242" y="894"/>
                </a:lnTo>
                <a:lnTo>
                  <a:pt x="1257" y="868"/>
                </a:lnTo>
                <a:lnTo>
                  <a:pt x="1271" y="842"/>
                </a:lnTo>
                <a:lnTo>
                  <a:pt x="1284" y="815"/>
                </a:lnTo>
                <a:lnTo>
                  <a:pt x="1297" y="788"/>
                </a:lnTo>
                <a:lnTo>
                  <a:pt x="1308" y="761"/>
                </a:lnTo>
                <a:lnTo>
                  <a:pt x="1319" y="733"/>
                </a:lnTo>
                <a:lnTo>
                  <a:pt x="1330" y="705"/>
                </a:lnTo>
                <a:lnTo>
                  <a:pt x="1342" y="699"/>
                </a:lnTo>
                <a:lnTo>
                  <a:pt x="1354" y="691"/>
                </a:lnTo>
                <a:lnTo>
                  <a:pt x="1364" y="682"/>
                </a:lnTo>
                <a:lnTo>
                  <a:pt x="1374" y="672"/>
                </a:lnTo>
                <a:lnTo>
                  <a:pt x="1383" y="661"/>
                </a:lnTo>
                <a:lnTo>
                  <a:pt x="1391" y="649"/>
                </a:lnTo>
                <a:lnTo>
                  <a:pt x="1397" y="637"/>
                </a:lnTo>
                <a:lnTo>
                  <a:pt x="1402" y="624"/>
                </a:lnTo>
                <a:lnTo>
                  <a:pt x="1407" y="620"/>
                </a:lnTo>
                <a:lnTo>
                  <a:pt x="1412" y="616"/>
                </a:lnTo>
                <a:lnTo>
                  <a:pt x="1417" y="611"/>
                </a:lnTo>
                <a:lnTo>
                  <a:pt x="1422" y="606"/>
                </a:lnTo>
                <a:lnTo>
                  <a:pt x="1426" y="600"/>
                </a:lnTo>
                <a:lnTo>
                  <a:pt x="1428" y="594"/>
                </a:lnTo>
                <a:lnTo>
                  <a:pt x="1429" y="588"/>
                </a:lnTo>
                <a:lnTo>
                  <a:pt x="1427" y="581"/>
                </a:lnTo>
                <a:lnTo>
                  <a:pt x="1425" y="578"/>
                </a:lnTo>
                <a:lnTo>
                  <a:pt x="1423" y="576"/>
                </a:lnTo>
                <a:lnTo>
                  <a:pt x="1420" y="575"/>
                </a:lnTo>
                <a:lnTo>
                  <a:pt x="1417" y="575"/>
                </a:lnTo>
                <a:lnTo>
                  <a:pt x="1414" y="578"/>
                </a:lnTo>
                <a:lnTo>
                  <a:pt x="1413" y="583"/>
                </a:lnTo>
                <a:lnTo>
                  <a:pt x="1414" y="587"/>
                </a:lnTo>
                <a:lnTo>
                  <a:pt x="1415" y="591"/>
                </a:lnTo>
                <a:lnTo>
                  <a:pt x="1411" y="596"/>
                </a:lnTo>
                <a:lnTo>
                  <a:pt x="1406" y="601"/>
                </a:lnTo>
                <a:lnTo>
                  <a:pt x="1400" y="605"/>
                </a:lnTo>
                <a:lnTo>
                  <a:pt x="1394" y="608"/>
                </a:lnTo>
                <a:lnTo>
                  <a:pt x="1388" y="610"/>
                </a:lnTo>
                <a:lnTo>
                  <a:pt x="1382" y="613"/>
                </a:lnTo>
                <a:lnTo>
                  <a:pt x="1376" y="615"/>
                </a:lnTo>
                <a:lnTo>
                  <a:pt x="1370" y="617"/>
                </a:lnTo>
                <a:lnTo>
                  <a:pt x="1368" y="612"/>
                </a:lnTo>
                <a:lnTo>
                  <a:pt x="1369" y="607"/>
                </a:lnTo>
                <a:lnTo>
                  <a:pt x="1371" y="603"/>
                </a:lnTo>
                <a:lnTo>
                  <a:pt x="1376" y="600"/>
                </a:lnTo>
                <a:lnTo>
                  <a:pt x="1380" y="597"/>
                </a:lnTo>
                <a:lnTo>
                  <a:pt x="1385" y="594"/>
                </a:lnTo>
                <a:lnTo>
                  <a:pt x="1390" y="591"/>
                </a:lnTo>
                <a:lnTo>
                  <a:pt x="1393" y="588"/>
                </a:lnTo>
                <a:lnTo>
                  <a:pt x="1399" y="585"/>
                </a:lnTo>
                <a:lnTo>
                  <a:pt x="1404" y="581"/>
                </a:lnTo>
                <a:lnTo>
                  <a:pt x="1410" y="578"/>
                </a:lnTo>
                <a:lnTo>
                  <a:pt x="1415" y="574"/>
                </a:lnTo>
                <a:lnTo>
                  <a:pt x="1420" y="570"/>
                </a:lnTo>
                <a:lnTo>
                  <a:pt x="1425" y="566"/>
                </a:lnTo>
                <a:lnTo>
                  <a:pt x="1428" y="560"/>
                </a:lnTo>
                <a:lnTo>
                  <a:pt x="1431" y="554"/>
                </a:lnTo>
                <a:lnTo>
                  <a:pt x="1433" y="545"/>
                </a:lnTo>
                <a:lnTo>
                  <a:pt x="1432" y="537"/>
                </a:lnTo>
                <a:lnTo>
                  <a:pt x="1430" y="529"/>
                </a:lnTo>
                <a:lnTo>
                  <a:pt x="1424" y="522"/>
                </a:lnTo>
                <a:lnTo>
                  <a:pt x="1421" y="522"/>
                </a:lnTo>
                <a:lnTo>
                  <a:pt x="1419" y="522"/>
                </a:lnTo>
                <a:lnTo>
                  <a:pt x="1418" y="523"/>
                </a:lnTo>
                <a:lnTo>
                  <a:pt x="1416" y="525"/>
                </a:lnTo>
                <a:lnTo>
                  <a:pt x="1416" y="534"/>
                </a:lnTo>
                <a:lnTo>
                  <a:pt x="1418" y="543"/>
                </a:lnTo>
                <a:lnTo>
                  <a:pt x="1418" y="551"/>
                </a:lnTo>
                <a:lnTo>
                  <a:pt x="1412" y="559"/>
                </a:lnTo>
                <a:lnTo>
                  <a:pt x="1405" y="563"/>
                </a:lnTo>
                <a:lnTo>
                  <a:pt x="1399" y="567"/>
                </a:lnTo>
                <a:lnTo>
                  <a:pt x="1392" y="572"/>
                </a:lnTo>
                <a:lnTo>
                  <a:pt x="1386" y="577"/>
                </a:lnTo>
                <a:lnTo>
                  <a:pt x="1379" y="580"/>
                </a:lnTo>
                <a:lnTo>
                  <a:pt x="1372" y="583"/>
                </a:lnTo>
                <a:lnTo>
                  <a:pt x="1364" y="583"/>
                </a:lnTo>
                <a:lnTo>
                  <a:pt x="1356" y="581"/>
                </a:lnTo>
                <a:lnTo>
                  <a:pt x="1357" y="573"/>
                </a:lnTo>
                <a:lnTo>
                  <a:pt x="1362" y="567"/>
                </a:lnTo>
                <a:lnTo>
                  <a:pt x="1369" y="562"/>
                </a:lnTo>
                <a:lnTo>
                  <a:pt x="1376" y="558"/>
                </a:lnTo>
                <a:lnTo>
                  <a:pt x="1387" y="545"/>
                </a:lnTo>
                <a:lnTo>
                  <a:pt x="1399" y="532"/>
                </a:lnTo>
                <a:lnTo>
                  <a:pt x="1413" y="519"/>
                </a:lnTo>
                <a:lnTo>
                  <a:pt x="1425" y="506"/>
                </a:lnTo>
                <a:lnTo>
                  <a:pt x="1434" y="492"/>
                </a:lnTo>
                <a:lnTo>
                  <a:pt x="1439" y="477"/>
                </a:lnTo>
                <a:lnTo>
                  <a:pt x="1438" y="460"/>
                </a:lnTo>
                <a:lnTo>
                  <a:pt x="1429" y="442"/>
                </a:lnTo>
                <a:lnTo>
                  <a:pt x="1427" y="440"/>
                </a:lnTo>
                <a:lnTo>
                  <a:pt x="1426" y="438"/>
                </a:lnTo>
                <a:lnTo>
                  <a:pt x="1424" y="437"/>
                </a:lnTo>
                <a:lnTo>
                  <a:pt x="1421" y="437"/>
                </a:lnTo>
                <a:lnTo>
                  <a:pt x="1418" y="446"/>
                </a:lnTo>
                <a:lnTo>
                  <a:pt x="1419" y="456"/>
                </a:lnTo>
                <a:lnTo>
                  <a:pt x="1421" y="467"/>
                </a:lnTo>
                <a:lnTo>
                  <a:pt x="1419" y="478"/>
                </a:lnTo>
                <a:lnTo>
                  <a:pt x="1415" y="489"/>
                </a:lnTo>
                <a:lnTo>
                  <a:pt x="1409" y="498"/>
                </a:lnTo>
                <a:lnTo>
                  <a:pt x="1402" y="508"/>
                </a:lnTo>
                <a:lnTo>
                  <a:pt x="1395" y="516"/>
                </a:lnTo>
                <a:lnTo>
                  <a:pt x="1386" y="524"/>
                </a:lnTo>
                <a:lnTo>
                  <a:pt x="1377" y="532"/>
                </a:lnTo>
                <a:lnTo>
                  <a:pt x="1368" y="539"/>
                </a:lnTo>
                <a:lnTo>
                  <a:pt x="1359" y="546"/>
                </a:lnTo>
                <a:lnTo>
                  <a:pt x="1355" y="539"/>
                </a:lnTo>
                <a:lnTo>
                  <a:pt x="1357" y="531"/>
                </a:lnTo>
                <a:lnTo>
                  <a:pt x="1361" y="523"/>
                </a:lnTo>
                <a:lnTo>
                  <a:pt x="1365" y="515"/>
                </a:lnTo>
                <a:lnTo>
                  <a:pt x="1371" y="512"/>
                </a:lnTo>
                <a:lnTo>
                  <a:pt x="1376" y="509"/>
                </a:lnTo>
                <a:lnTo>
                  <a:pt x="1380" y="504"/>
                </a:lnTo>
                <a:lnTo>
                  <a:pt x="1384" y="500"/>
                </a:lnTo>
                <a:lnTo>
                  <a:pt x="1388" y="495"/>
                </a:lnTo>
                <a:lnTo>
                  <a:pt x="1392" y="491"/>
                </a:lnTo>
                <a:lnTo>
                  <a:pt x="1397" y="486"/>
                </a:lnTo>
                <a:lnTo>
                  <a:pt x="1404" y="483"/>
                </a:lnTo>
                <a:lnTo>
                  <a:pt x="1404" y="480"/>
                </a:lnTo>
                <a:lnTo>
                  <a:pt x="1403" y="478"/>
                </a:lnTo>
                <a:lnTo>
                  <a:pt x="1402" y="477"/>
                </a:lnTo>
                <a:lnTo>
                  <a:pt x="1401" y="475"/>
                </a:lnTo>
                <a:lnTo>
                  <a:pt x="1394" y="477"/>
                </a:lnTo>
                <a:lnTo>
                  <a:pt x="1387" y="480"/>
                </a:lnTo>
                <a:lnTo>
                  <a:pt x="1381" y="484"/>
                </a:lnTo>
                <a:lnTo>
                  <a:pt x="1375" y="488"/>
                </a:lnTo>
                <a:lnTo>
                  <a:pt x="1369" y="493"/>
                </a:lnTo>
                <a:lnTo>
                  <a:pt x="1363" y="499"/>
                </a:lnTo>
                <a:lnTo>
                  <a:pt x="1357" y="504"/>
                </a:lnTo>
                <a:lnTo>
                  <a:pt x="1351" y="509"/>
                </a:lnTo>
                <a:lnTo>
                  <a:pt x="1344" y="518"/>
                </a:lnTo>
                <a:lnTo>
                  <a:pt x="1338" y="527"/>
                </a:lnTo>
                <a:lnTo>
                  <a:pt x="1335" y="538"/>
                </a:lnTo>
                <a:lnTo>
                  <a:pt x="1337" y="551"/>
                </a:lnTo>
                <a:lnTo>
                  <a:pt x="1339" y="553"/>
                </a:lnTo>
                <a:lnTo>
                  <a:pt x="1341" y="556"/>
                </a:lnTo>
                <a:lnTo>
                  <a:pt x="1343" y="558"/>
                </a:lnTo>
                <a:lnTo>
                  <a:pt x="1346" y="559"/>
                </a:lnTo>
                <a:lnTo>
                  <a:pt x="1341" y="563"/>
                </a:lnTo>
                <a:lnTo>
                  <a:pt x="1337" y="569"/>
                </a:lnTo>
                <a:lnTo>
                  <a:pt x="1334" y="575"/>
                </a:lnTo>
                <a:lnTo>
                  <a:pt x="1332" y="582"/>
                </a:lnTo>
                <a:lnTo>
                  <a:pt x="1332" y="568"/>
                </a:lnTo>
                <a:lnTo>
                  <a:pt x="1330" y="554"/>
                </a:lnTo>
                <a:lnTo>
                  <a:pt x="1326" y="540"/>
                </a:lnTo>
                <a:lnTo>
                  <a:pt x="1323" y="527"/>
                </a:lnTo>
                <a:lnTo>
                  <a:pt x="1320" y="514"/>
                </a:lnTo>
                <a:lnTo>
                  <a:pt x="1320" y="501"/>
                </a:lnTo>
                <a:lnTo>
                  <a:pt x="1324" y="488"/>
                </a:lnTo>
                <a:lnTo>
                  <a:pt x="1333" y="475"/>
                </a:lnTo>
                <a:lnTo>
                  <a:pt x="1333" y="464"/>
                </a:lnTo>
                <a:lnTo>
                  <a:pt x="1335" y="454"/>
                </a:lnTo>
                <a:lnTo>
                  <a:pt x="1340" y="445"/>
                </a:lnTo>
                <a:lnTo>
                  <a:pt x="1346" y="437"/>
                </a:lnTo>
                <a:lnTo>
                  <a:pt x="1353" y="429"/>
                </a:lnTo>
                <a:lnTo>
                  <a:pt x="1360" y="422"/>
                </a:lnTo>
                <a:lnTo>
                  <a:pt x="1367" y="414"/>
                </a:lnTo>
                <a:lnTo>
                  <a:pt x="1374" y="407"/>
                </a:lnTo>
                <a:lnTo>
                  <a:pt x="1386" y="401"/>
                </a:lnTo>
                <a:lnTo>
                  <a:pt x="1398" y="395"/>
                </a:lnTo>
                <a:lnTo>
                  <a:pt x="1409" y="389"/>
                </a:lnTo>
                <a:lnTo>
                  <a:pt x="1421" y="382"/>
                </a:lnTo>
                <a:lnTo>
                  <a:pt x="1432" y="376"/>
                </a:lnTo>
                <a:lnTo>
                  <a:pt x="1444" y="371"/>
                </a:lnTo>
                <a:lnTo>
                  <a:pt x="1456" y="366"/>
                </a:lnTo>
                <a:lnTo>
                  <a:pt x="1468" y="362"/>
                </a:lnTo>
                <a:lnTo>
                  <a:pt x="1465" y="370"/>
                </a:lnTo>
                <a:lnTo>
                  <a:pt x="1460" y="377"/>
                </a:lnTo>
                <a:lnTo>
                  <a:pt x="1455" y="383"/>
                </a:lnTo>
                <a:lnTo>
                  <a:pt x="1449" y="389"/>
                </a:lnTo>
                <a:lnTo>
                  <a:pt x="1442" y="394"/>
                </a:lnTo>
                <a:lnTo>
                  <a:pt x="1435" y="398"/>
                </a:lnTo>
                <a:lnTo>
                  <a:pt x="1428" y="402"/>
                </a:lnTo>
                <a:lnTo>
                  <a:pt x="1420" y="405"/>
                </a:lnTo>
                <a:lnTo>
                  <a:pt x="1413" y="413"/>
                </a:lnTo>
                <a:lnTo>
                  <a:pt x="1406" y="422"/>
                </a:lnTo>
                <a:lnTo>
                  <a:pt x="1398" y="431"/>
                </a:lnTo>
                <a:lnTo>
                  <a:pt x="1389" y="440"/>
                </a:lnTo>
                <a:lnTo>
                  <a:pt x="1380" y="447"/>
                </a:lnTo>
                <a:lnTo>
                  <a:pt x="1370" y="454"/>
                </a:lnTo>
                <a:lnTo>
                  <a:pt x="1360" y="458"/>
                </a:lnTo>
                <a:lnTo>
                  <a:pt x="1349" y="460"/>
                </a:lnTo>
                <a:lnTo>
                  <a:pt x="1347" y="461"/>
                </a:lnTo>
                <a:lnTo>
                  <a:pt x="1347" y="463"/>
                </a:lnTo>
                <a:lnTo>
                  <a:pt x="1346" y="465"/>
                </a:lnTo>
                <a:lnTo>
                  <a:pt x="1347" y="467"/>
                </a:lnTo>
                <a:lnTo>
                  <a:pt x="1351" y="470"/>
                </a:lnTo>
                <a:lnTo>
                  <a:pt x="1355" y="471"/>
                </a:lnTo>
                <a:lnTo>
                  <a:pt x="1360" y="473"/>
                </a:lnTo>
                <a:lnTo>
                  <a:pt x="1364" y="473"/>
                </a:lnTo>
                <a:lnTo>
                  <a:pt x="1369" y="473"/>
                </a:lnTo>
                <a:lnTo>
                  <a:pt x="1373" y="472"/>
                </a:lnTo>
                <a:lnTo>
                  <a:pt x="1378" y="471"/>
                </a:lnTo>
                <a:lnTo>
                  <a:pt x="1382" y="470"/>
                </a:lnTo>
                <a:lnTo>
                  <a:pt x="1392" y="463"/>
                </a:lnTo>
                <a:lnTo>
                  <a:pt x="1401" y="455"/>
                </a:lnTo>
                <a:lnTo>
                  <a:pt x="1410" y="446"/>
                </a:lnTo>
                <a:lnTo>
                  <a:pt x="1418" y="437"/>
                </a:lnTo>
                <a:lnTo>
                  <a:pt x="1427" y="428"/>
                </a:lnTo>
                <a:lnTo>
                  <a:pt x="1435" y="420"/>
                </a:lnTo>
                <a:lnTo>
                  <a:pt x="1445" y="414"/>
                </a:lnTo>
                <a:lnTo>
                  <a:pt x="1456" y="409"/>
                </a:lnTo>
                <a:lnTo>
                  <a:pt x="1463" y="404"/>
                </a:lnTo>
                <a:lnTo>
                  <a:pt x="1469" y="398"/>
                </a:lnTo>
                <a:lnTo>
                  <a:pt x="1474" y="391"/>
                </a:lnTo>
                <a:lnTo>
                  <a:pt x="1478" y="384"/>
                </a:lnTo>
                <a:lnTo>
                  <a:pt x="1481" y="377"/>
                </a:lnTo>
                <a:lnTo>
                  <a:pt x="1483" y="369"/>
                </a:lnTo>
                <a:lnTo>
                  <a:pt x="1484" y="361"/>
                </a:lnTo>
                <a:lnTo>
                  <a:pt x="1484" y="353"/>
                </a:lnTo>
                <a:lnTo>
                  <a:pt x="1482" y="348"/>
                </a:lnTo>
                <a:lnTo>
                  <a:pt x="1478" y="345"/>
                </a:lnTo>
                <a:lnTo>
                  <a:pt x="1474" y="344"/>
                </a:lnTo>
                <a:lnTo>
                  <a:pt x="1470" y="345"/>
                </a:lnTo>
                <a:lnTo>
                  <a:pt x="1465" y="346"/>
                </a:lnTo>
                <a:lnTo>
                  <a:pt x="1461" y="347"/>
                </a:lnTo>
                <a:lnTo>
                  <a:pt x="1457" y="348"/>
                </a:lnTo>
                <a:lnTo>
                  <a:pt x="1453" y="349"/>
                </a:lnTo>
                <a:lnTo>
                  <a:pt x="1436" y="356"/>
                </a:lnTo>
                <a:lnTo>
                  <a:pt x="1420" y="364"/>
                </a:lnTo>
                <a:lnTo>
                  <a:pt x="1403" y="371"/>
                </a:lnTo>
                <a:lnTo>
                  <a:pt x="1387" y="380"/>
                </a:lnTo>
                <a:lnTo>
                  <a:pt x="1371" y="389"/>
                </a:lnTo>
                <a:lnTo>
                  <a:pt x="1356" y="399"/>
                </a:lnTo>
                <a:lnTo>
                  <a:pt x="1342" y="410"/>
                </a:lnTo>
                <a:lnTo>
                  <a:pt x="1329" y="423"/>
                </a:lnTo>
                <a:lnTo>
                  <a:pt x="1326" y="421"/>
                </a:lnTo>
                <a:lnTo>
                  <a:pt x="1323" y="419"/>
                </a:lnTo>
                <a:lnTo>
                  <a:pt x="1319" y="416"/>
                </a:lnTo>
                <a:lnTo>
                  <a:pt x="1315" y="414"/>
                </a:lnTo>
                <a:lnTo>
                  <a:pt x="1311" y="412"/>
                </a:lnTo>
                <a:lnTo>
                  <a:pt x="1307" y="411"/>
                </a:lnTo>
                <a:lnTo>
                  <a:pt x="1303" y="411"/>
                </a:lnTo>
                <a:lnTo>
                  <a:pt x="1298" y="412"/>
                </a:lnTo>
                <a:lnTo>
                  <a:pt x="1291" y="420"/>
                </a:lnTo>
                <a:lnTo>
                  <a:pt x="1286" y="428"/>
                </a:lnTo>
                <a:lnTo>
                  <a:pt x="1280" y="436"/>
                </a:lnTo>
                <a:lnTo>
                  <a:pt x="1276" y="445"/>
                </a:lnTo>
                <a:lnTo>
                  <a:pt x="1272" y="453"/>
                </a:lnTo>
                <a:lnTo>
                  <a:pt x="1267" y="462"/>
                </a:lnTo>
                <a:lnTo>
                  <a:pt x="1263" y="471"/>
                </a:lnTo>
                <a:lnTo>
                  <a:pt x="1259" y="479"/>
                </a:lnTo>
                <a:lnTo>
                  <a:pt x="1243" y="495"/>
                </a:lnTo>
                <a:lnTo>
                  <a:pt x="1233" y="512"/>
                </a:lnTo>
                <a:lnTo>
                  <a:pt x="1227" y="532"/>
                </a:lnTo>
                <a:lnTo>
                  <a:pt x="1223" y="553"/>
                </a:lnTo>
                <a:lnTo>
                  <a:pt x="1222" y="574"/>
                </a:lnTo>
                <a:lnTo>
                  <a:pt x="1220" y="596"/>
                </a:lnTo>
                <a:lnTo>
                  <a:pt x="1218" y="618"/>
                </a:lnTo>
                <a:lnTo>
                  <a:pt x="1214" y="638"/>
                </a:lnTo>
                <a:lnTo>
                  <a:pt x="1180" y="656"/>
                </a:lnTo>
                <a:lnTo>
                  <a:pt x="1045" y="797"/>
                </a:lnTo>
                <a:lnTo>
                  <a:pt x="1042" y="801"/>
                </a:lnTo>
                <a:lnTo>
                  <a:pt x="1039" y="806"/>
                </a:lnTo>
                <a:lnTo>
                  <a:pt x="1036" y="810"/>
                </a:lnTo>
                <a:lnTo>
                  <a:pt x="1034" y="814"/>
                </a:lnTo>
                <a:lnTo>
                  <a:pt x="1017" y="787"/>
                </a:lnTo>
                <a:lnTo>
                  <a:pt x="998" y="761"/>
                </a:lnTo>
                <a:lnTo>
                  <a:pt x="978" y="737"/>
                </a:lnTo>
                <a:lnTo>
                  <a:pt x="956" y="714"/>
                </a:lnTo>
                <a:lnTo>
                  <a:pt x="933" y="693"/>
                </a:lnTo>
                <a:lnTo>
                  <a:pt x="909" y="673"/>
                </a:lnTo>
                <a:lnTo>
                  <a:pt x="884" y="654"/>
                </a:lnTo>
                <a:lnTo>
                  <a:pt x="858" y="637"/>
                </a:lnTo>
                <a:lnTo>
                  <a:pt x="831" y="621"/>
                </a:lnTo>
                <a:lnTo>
                  <a:pt x="803" y="607"/>
                </a:lnTo>
                <a:lnTo>
                  <a:pt x="774" y="594"/>
                </a:lnTo>
                <a:lnTo>
                  <a:pt x="745" y="583"/>
                </a:lnTo>
                <a:lnTo>
                  <a:pt x="715" y="574"/>
                </a:lnTo>
                <a:lnTo>
                  <a:pt x="685" y="566"/>
                </a:lnTo>
                <a:lnTo>
                  <a:pt x="655" y="560"/>
                </a:lnTo>
                <a:lnTo>
                  <a:pt x="624" y="556"/>
                </a:lnTo>
                <a:lnTo>
                  <a:pt x="620" y="552"/>
                </a:lnTo>
                <a:lnTo>
                  <a:pt x="615" y="548"/>
                </a:lnTo>
                <a:lnTo>
                  <a:pt x="610" y="545"/>
                </a:lnTo>
                <a:lnTo>
                  <a:pt x="606" y="540"/>
                </a:lnTo>
                <a:lnTo>
                  <a:pt x="621" y="520"/>
                </a:lnTo>
                <a:lnTo>
                  <a:pt x="634" y="500"/>
                </a:lnTo>
                <a:lnTo>
                  <a:pt x="646" y="479"/>
                </a:lnTo>
                <a:lnTo>
                  <a:pt x="655" y="457"/>
                </a:lnTo>
                <a:lnTo>
                  <a:pt x="662" y="434"/>
                </a:lnTo>
                <a:lnTo>
                  <a:pt x="667" y="410"/>
                </a:lnTo>
                <a:lnTo>
                  <a:pt x="670" y="385"/>
                </a:lnTo>
                <a:lnTo>
                  <a:pt x="670" y="359"/>
                </a:lnTo>
                <a:lnTo>
                  <a:pt x="666" y="340"/>
                </a:lnTo>
                <a:lnTo>
                  <a:pt x="662" y="321"/>
                </a:lnTo>
                <a:lnTo>
                  <a:pt x="657" y="302"/>
                </a:lnTo>
                <a:lnTo>
                  <a:pt x="651" y="284"/>
                </a:lnTo>
                <a:lnTo>
                  <a:pt x="643" y="266"/>
                </a:lnTo>
                <a:lnTo>
                  <a:pt x="635" y="248"/>
                </a:lnTo>
                <a:lnTo>
                  <a:pt x="625" y="232"/>
                </a:lnTo>
                <a:lnTo>
                  <a:pt x="613" y="216"/>
                </a:lnTo>
                <a:lnTo>
                  <a:pt x="604" y="219"/>
                </a:lnTo>
                <a:lnTo>
                  <a:pt x="621" y="252"/>
                </a:lnTo>
                <a:lnTo>
                  <a:pt x="634" y="290"/>
                </a:lnTo>
                <a:lnTo>
                  <a:pt x="641" y="329"/>
                </a:lnTo>
                <a:lnTo>
                  <a:pt x="643" y="370"/>
                </a:lnTo>
                <a:lnTo>
                  <a:pt x="640" y="411"/>
                </a:lnTo>
                <a:lnTo>
                  <a:pt x="632" y="451"/>
                </a:lnTo>
                <a:lnTo>
                  <a:pt x="618" y="488"/>
                </a:lnTo>
                <a:lnTo>
                  <a:pt x="599" y="521"/>
                </a:lnTo>
                <a:lnTo>
                  <a:pt x="591" y="526"/>
                </a:lnTo>
                <a:lnTo>
                  <a:pt x="582" y="530"/>
                </a:lnTo>
                <a:lnTo>
                  <a:pt x="572" y="531"/>
                </a:lnTo>
                <a:lnTo>
                  <a:pt x="562" y="531"/>
                </a:lnTo>
                <a:lnTo>
                  <a:pt x="551" y="530"/>
                </a:lnTo>
                <a:lnTo>
                  <a:pt x="541" y="529"/>
                </a:lnTo>
                <a:lnTo>
                  <a:pt x="530" y="527"/>
                </a:lnTo>
                <a:lnTo>
                  <a:pt x="521" y="526"/>
                </a:lnTo>
                <a:lnTo>
                  <a:pt x="507" y="522"/>
                </a:lnTo>
                <a:lnTo>
                  <a:pt x="494" y="518"/>
                </a:lnTo>
                <a:lnTo>
                  <a:pt x="480" y="513"/>
                </a:lnTo>
                <a:lnTo>
                  <a:pt x="467" y="508"/>
                </a:lnTo>
                <a:lnTo>
                  <a:pt x="454" y="502"/>
                </a:lnTo>
                <a:lnTo>
                  <a:pt x="441" y="496"/>
                </a:lnTo>
                <a:lnTo>
                  <a:pt x="428" y="489"/>
                </a:lnTo>
                <a:lnTo>
                  <a:pt x="416" y="482"/>
                </a:lnTo>
                <a:lnTo>
                  <a:pt x="418" y="486"/>
                </a:lnTo>
                <a:lnTo>
                  <a:pt x="427" y="496"/>
                </a:lnTo>
                <a:lnTo>
                  <a:pt x="441" y="508"/>
                </a:lnTo>
                <a:lnTo>
                  <a:pt x="458" y="522"/>
                </a:lnTo>
                <a:lnTo>
                  <a:pt x="478" y="536"/>
                </a:lnTo>
                <a:lnTo>
                  <a:pt x="500" y="547"/>
                </a:lnTo>
                <a:lnTo>
                  <a:pt x="522" y="554"/>
                </a:lnTo>
                <a:lnTo>
                  <a:pt x="543" y="556"/>
                </a:lnTo>
                <a:lnTo>
                  <a:pt x="551" y="574"/>
                </a:lnTo>
                <a:lnTo>
                  <a:pt x="555" y="593"/>
                </a:lnTo>
                <a:lnTo>
                  <a:pt x="557" y="613"/>
                </a:lnTo>
                <a:lnTo>
                  <a:pt x="555" y="633"/>
                </a:lnTo>
                <a:lnTo>
                  <a:pt x="552" y="653"/>
                </a:lnTo>
                <a:lnTo>
                  <a:pt x="548" y="673"/>
                </a:lnTo>
                <a:lnTo>
                  <a:pt x="543" y="692"/>
                </a:lnTo>
                <a:lnTo>
                  <a:pt x="539" y="711"/>
                </a:lnTo>
                <a:lnTo>
                  <a:pt x="536" y="720"/>
                </a:lnTo>
                <a:lnTo>
                  <a:pt x="531" y="729"/>
                </a:lnTo>
                <a:lnTo>
                  <a:pt x="526" y="738"/>
                </a:lnTo>
                <a:lnTo>
                  <a:pt x="523" y="747"/>
                </a:lnTo>
                <a:lnTo>
                  <a:pt x="475" y="672"/>
                </a:lnTo>
                <a:lnTo>
                  <a:pt x="420" y="560"/>
                </a:lnTo>
                <a:lnTo>
                  <a:pt x="413" y="540"/>
                </a:lnTo>
                <a:lnTo>
                  <a:pt x="408" y="519"/>
                </a:lnTo>
                <a:lnTo>
                  <a:pt x="404" y="497"/>
                </a:lnTo>
                <a:lnTo>
                  <a:pt x="399" y="475"/>
                </a:lnTo>
                <a:lnTo>
                  <a:pt x="392" y="455"/>
                </a:lnTo>
                <a:lnTo>
                  <a:pt x="381" y="437"/>
                </a:lnTo>
                <a:lnTo>
                  <a:pt x="366" y="422"/>
                </a:lnTo>
                <a:lnTo>
                  <a:pt x="345" y="410"/>
                </a:lnTo>
                <a:lnTo>
                  <a:pt x="337" y="401"/>
                </a:lnTo>
                <a:lnTo>
                  <a:pt x="333" y="391"/>
                </a:lnTo>
                <a:lnTo>
                  <a:pt x="332" y="379"/>
                </a:lnTo>
                <a:lnTo>
                  <a:pt x="334" y="368"/>
                </a:lnTo>
                <a:lnTo>
                  <a:pt x="338" y="362"/>
                </a:lnTo>
                <a:lnTo>
                  <a:pt x="342" y="356"/>
                </a:lnTo>
                <a:lnTo>
                  <a:pt x="347" y="350"/>
                </a:lnTo>
                <a:lnTo>
                  <a:pt x="353" y="347"/>
                </a:lnTo>
                <a:lnTo>
                  <a:pt x="360" y="347"/>
                </a:lnTo>
                <a:lnTo>
                  <a:pt x="365" y="351"/>
                </a:lnTo>
                <a:lnTo>
                  <a:pt x="371" y="353"/>
                </a:lnTo>
                <a:lnTo>
                  <a:pt x="377" y="350"/>
                </a:lnTo>
                <a:lnTo>
                  <a:pt x="378" y="334"/>
                </a:lnTo>
                <a:lnTo>
                  <a:pt x="378" y="318"/>
                </a:lnTo>
                <a:lnTo>
                  <a:pt x="377" y="303"/>
                </a:lnTo>
                <a:lnTo>
                  <a:pt x="374" y="287"/>
                </a:lnTo>
                <a:lnTo>
                  <a:pt x="369" y="273"/>
                </a:lnTo>
                <a:lnTo>
                  <a:pt x="362" y="260"/>
                </a:lnTo>
                <a:lnTo>
                  <a:pt x="353" y="248"/>
                </a:lnTo>
                <a:lnTo>
                  <a:pt x="340" y="237"/>
                </a:lnTo>
                <a:lnTo>
                  <a:pt x="355" y="228"/>
                </a:lnTo>
                <a:lnTo>
                  <a:pt x="369" y="222"/>
                </a:lnTo>
                <a:lnTo>
                  <a:pt x="384" y="218"/>
                </a:lnTo>
                <a:lnTo>
                  <a:pt x="399" y="217"/>
                </a:lnTo>
                <a:lnTo>
                  <a:pt x="414" y="217"/>
                </a:lnTo>
                <a:lnTo>
                  <a:pt x="430" y="218"/>
                </a:lnTo>
                <a:lnTo>
                  <a:pt x="445" y="221"/>
                </a:lnTo>
                <a:lnTo>
                  <a:pt x="461" y="224"/>
                </a:lnTo>
                <a:lnTo>
                  <a:pt x="476" y="227"/>
                </a:lnTo>
                <a:lnTo>
                  <a:pt x="492" y="231"/>
                </a:lnTo>
                <a:lnTo>
                  <a:pt x="507" y="234"/>
                </a:lnTo>
                <a:lnTo>
                  <a:pt x="523" y="236"/>
                </a:lnTo>
                <a:lnTo>
                  <a:pt x="539" y="237"/>
                </a:lnTo>
                <a:lnTo>
                  <a:pt x="554" y="236"/>
                </a:lnTo>
                <a:lnTo>
                  <a:pt x="570" y="234"/>
                </a:lnTo>
                <a:lnTo>
                  <a:pt x="585" y="229"/>
                </a:lnTo>
                <a:lnTo>
                  <a:pt x="592" y="223"/>
                </a:lnTo>
                <a:lnTo>
                  <a:pt x="599" y="217"/>
                </a:lnTo>
                <a:lnTo>
                  <a:pt x="604" y="209"/>
                </a:lnTo>
                <a:lnTo>
                  <a:pt x="605" y="200"/>
                </a:lnTo>
                <a:lnTo>
                  <a:pt x="599" y="200"/>
                </a:lnTo>
                <a:lnTo>
                  <a:pt x="594" y="203"/>
                </a:lnTo>
                <a:lnTo>
                  <a:pt x="589" y="207"/>
                </a:lnTo>
                <a:lnTo>
                  <a:pt x="582" y="211"/>
                </a:lnTo>
                <a:lnTo>
                  <a:pt x="570" y="214"/>
                </a:lnTo>
                <a:lnTo>
                  <a:pt x="558" y="216"/>
                </a:lnTo>
                <a:lnTo>
                  <a:pt x="546" y="216"/>
                </a:lnTo>
                <a:lnTo>
                  <a:pt x="535" y="216"/>
                </a:lnTo>
                <a:lnTo>
                  <a:pt x="524" y="214"/>
                </a:lnTo>
                <a:lnTo>
                  <a:pt x="513" y="211"/>
                </a:lnTo>
                <a:lnTo>
                  <a:pt x="502" y="208"/>
                </a:lnTo>
                <a:lnTo>
                  <a:pt x="491" y="205"/>
                </a:lnTo>
                <a:lnTo>
                  <a:pt x="480" y="201"/>
                </a:lnTo>
                <a:lnTo>
                  <a:pt x="469" y="198"/>
                </a:lnTo>
                <a:lnTo>
                  <a:pt x="458" y="196"/>
                </a:lnTo>
                <a:lnTo>
                  <a:pt x="447" y="194"/>
                </a:lnTo>
                <a:lnTo>
                  <a:pt x="435" y="192"/>
                </a:lnTo>
                <a:lnTo>
                  <a:pt x="423" y="193"/>
                </a:lnTo>
                <a:lnTo>
                  <a:pt x="411" y="194"/>
                </a:lnTo>
                <a:lnTo>
                  <a:pt x="398" y="197"/>
                </a:lnTo>
                <a:lnTo>
                  <a:pt x="388" y="200"/>
                </a:lnTo>
                <a:lnTo>
                  <a:pt x="378" y="203"/>
                </a:lnTo>
                <a:lnTo>
                  <a:pt x="368" y="206"/>
                </a:lnTo>
                <a:lnTo>
                  <a:pt x="359" y="209"/>
                </a:lnTo>
                <a:lnTo>
                  <a:pt x="349" y="212"/>
                </a:lnTo>
                <a:lnTo>
                  <a:pt x="340" y="217"/>
                </a:lnTo>
                <a:lnTo>
                  <a:pt x="331" y="222"/>
                </a:lnTo>
                <a:lnTo>
                  <a:pt x="322" y="228"/>
                </a:lnTo>
                <a:lnTo>
                  <a:pt x="329" y="238"/>
                </a:lnTo>
                <a:lnTo>
                  <a:pt x="336" y="249"/>
                </a:lnTo>
                <a:lnTo>
                  <a:pt x="343" y="260"/>
                </a:lnTo>
                <a:lnTo>
                  <a:pt x="348" y="271"/>
                </a:lnTo>
                <a:lnTo>
                  <a:pt x="353" y="283"/>
                </a:lnTo>
                <a:lnTo>
                  <a:pt x="356" y="296"/>
                </a:lnTo>
                <a:lnTo>
                  <a:pt x="358" y="309"/>
                </a:lnTo>
                <a:lnTo>
                  <a:pt x="358" y="323"/>
                </a:lnTo>
                <a:lnTo>
                  <a:pt x="358" y="330"/>
                </a:lnTo>
                <a:lnTo>
                  <a:pt x="353" y="333"/>
                </a:lnTo>
                <a:lnTo>
                  <a:pt x="345" y="334"/>
                </a:lnTo>
                <a:lnTo>
                  <a:pt x="339" y="335"/>
                </a:lnTo>
                <a:lnTo>
                  <a:pt x="331" y="342"/>
                </a:lnTo>
                <a:lnTo>
                  <a:pt x="323" y="350"/>
                </a:lnTo>
                <a:lnTo>
                  <a:pt x="316" y="359"/>
                </a:lnTo>
                <a:lnTo>
                  <a:pt x="312" y="369"/>
                </a:lnTo>
                <a:lnTo>
                  <a:pt x="311" y="380"/>
                </a:lnTo>
                <a:lnTo>
                  <a:pt x="311" y="391"/>
                </a:lnTo>
                <a:lnTo>
                  <a:pt x="313" y="401"/>
                </a:lnTo>
                <a:lnTo>
                  <a:pt x="318" y="410"/>
                </a:lnTo>
                <a:lnTo>
                  <a:pt x="325" y="418"/>
                </a:lnTo>
                <a:lnTo>
                  <a:pt x="333" y="425"/>
                </a:lnTo>
                <a:lnTo>
                  <a:pt x="341" y="431"/>
                </a:lnTo>
                <a:lnTo>
                  <a:pt x="350" y="437"/>
                </a:lnTo>
                <a:lnTo>
                  <a:pt x="358" y="443"/>
                </a:lnTo>
                <a:lnTo>
                  <a:pt x="365" y="450"/>
                </a:lnTo>
                <a:lnTo>
                  <a:pt x="369" y="459"/>
                </a:lnTo>
                <a:lnTo>
                  <a:pt x="372" y="469"/>
                </a:lnTo>
                <a:lnTo>
                  <a:pt x="376" y="480"/>
                </a:lnTo>
                <a:lnTo>
                  <a:pt x="377" y="491"/>
                </a:lnTo>
                <a:lnTo>
                  <a:pt x="374" y="501"/>
                </a:lnTo>
                <a:lnTo>
                  <a:pt x="369" y="511"/>
                </a:lnTo>
                <a:lnTo>
                  <a:pt x="364" y="522"/>
                </a:lnTo>
                <a:lnTo>
                  <a:pt x="359" y="532"/>
                </a:lnTo>
                <a:lnTo>
                  <a:pt x="355" y="543"/>
                </a:lnTo>
                <a:lnTo>
                  <a:pt x="354" y="554"/>
                </a:lnTo>
                <a:lnTo>
                  <a:pt x="349" y="557"/>
                </a:lnTo>
                <a:lnTo>
                  <a:pt x="336" y="564"/>
                </a:lnTo>
                <a:lnTo>
                  <a:pt x="317" y="575"/>
                </a:lnTo>
                <a:lnTo>
                  <a:pt x="294" y="589"/>
                </a:lnTo>
                <a:lnTo>
                  <a:pt x="268" y="605"/>
                </a:lnTo>
                <a:lnTo>
                  <a:pt x="242" y="621"/>
                </a:lnTo>
                <a:lnTo>
                  <a:pt x="218" y="638"/>
                </a:lnTo>
                <a:lnTo>
                  <a:pt x="197" y="653"/>
                </a:lnTo>
                <a:lnTo>
                  <a:pt x="174" y="669"/>
                </a:lnTo>
                <a:lnTo>
                  <a:pt x="153" y="688"/>
                </a:lnTo>
                <a:lnTo>
                  <a:pt x="131" y="707"/>
                </a:lnTo>
                <a:lnTo>
                  <a:pt x="108" y="727"/>
                </a:lnTo>
                <a:lnTo>
                  <a:pt x="86" y="748"/>
                </a:lnTo>
                <a:lnTo>
                  <a:pt x="65" y="770"/>
                </a:lnTo>
                <a:lnTo>
                  <a:pt x="48" y="793"/>
                </a:lnTo>
                <a:lnTo>
                  <a:pt x="35" y="819"/>
                </a:lnTo>
                <a:lnTo>
                  <a:pt x="27" y="846"/>
                </a:lnTo>
                <a:lnTo>
                  <a:pt x="16" y="912"/>
                </a:lnTo>
                <a:lnTo>
                  <a:pt x="8" y="979"/>
                </a:lnTo>
                <a:lnTo>
                  <a:pt x="3" y="1047"/>
                </a:lnTo>
                <a:lnTo>
                  <a:pt x="0" y="1116"/>
                </a:lnTo>
                <a:lnTo>
                  <a:pt x="7" y="1241"/>
                </a:lnTo>
                <a:lnTo>
                  <a:pt x="19" y="1312"/>
                </a:lnTo>
                <a:lnTo>
                  <a:pt x="18" y="1320"/>
                </a:lnTo>
                <a:lnTo>
                  <a:pt x="22" y="1329"/>
                </a:lnTo>
                <a:lnTo>
                  <a:pt x="28" y="1337"/>
                </a:lnTo>
                <a:lnTo>
                  <a:pt x="33" y="1345"/>
                </a:lnTo>
                <a:lnTo>
                  <a:pt x="48" y="1360"/>
                </a:lnTo>
                <a:lnTo>
                  <a:pt x="63" y="1375"/>
                </a:lnTo>
                <a:lnTo>
                  <a:pt x="78" y="1390"/>
                </a:lnTo>
                <a:lnTo>
                  <a:pt x="93" y="1404"/>
                </a:lnTo>
                <a:lnTo>
                  <a:pt x="108" y="1418"/>
                </a:lnTo>
                <a:lnTo>
                  <a:pt x="123" y="1431"/>
                </a:lnTo>
                <a:lnTo>
                  <a:pt x="139" y="1445"/>
                </a:lnTo>
                <a:lnTo>
                  <a:pt x="155" y="1459"/>
                </a:lnTo>
                <a:lnTo>
                  <a:pt x="158" y="1483"/>
                </a:lnTo>
                <a:lnTo>
                  <a:pt x="161" y="1508"/>
                </a:lnTo>
                <a:lnTo>
                  <a:pt x="164" y="1533"/>
                </a:lnTo>
                <a:lnTo>
                  <a:pt x="170" y="1557"/>
                </a:lnTo>
                <a:lnTo>
                  <a:pt x="173" y="1562"/>
                </a:lnTo>
                <a:lnTo>
                  <a:pt x="177" y="1566"/>
                </a:lnTo>
                <a:lnTo>
                  <a:pt x="181" y="1568"/>
                </a:lnTo>
                <a:lnTo>
                  <a:pt x="187" y="1570"/>
                </a:lnTo>
                <a:lnTo>
                  <a:pt x="193" y="1570"/>
                </a:lnTo>
                <a:lnTo>
                  <a:pt x="199" y="1571"/>
                </a:lnTo>
                <a:lnTo>
                  <a:pt x="205" y="1572"/>
                </a:lnTo>
                <a:lnTo>
                  <a:pt x="210" y="1574"/>
                </a:lnTo>
                <a:lnTo>
                  <a:pt x="222" y="1692"/>
                </a:lnTo>
                <a:lnTo>
                  <a:pt x="256" y="1850"/>
                </a:lnTo>
                <a:lnTo>
                  <a:pt x="274" y="1901"/>
                </a:lnTo>
                <a:lnTo>
                  <a:pt x="269" y="1906"/>
                </a:lnTo>
                <a:lnTo>
                  <a:pt x="263" y="1911"/>
                </a:lnTo>
                <a:lnTo>
                  <a:pt x="258" y="1916"/>
                </a:lnTo>
                <a:lnTo>
                  <a:pt x="253" y="1920"/>
                </a:lnTo>
                <a:lnTo>
                  <a:pt x="249" y="1924"/>
                </a:lnTo>
                <a:lnTo>
                  <a:pt x="247" y="1929"/>
                </a:lnTo>
                <a:lnTo>
                  <a:pt x="245" y="1936"/>
                </a:lnTo>
                <a:lnTo>
                  <a:pt x="246" y="1943"/>
                </a:lnTo>
                <a:lnTo>
                  <a:pt x="248" y="1950"/>
                </a:lnTo>
                <a:lnTo>
                  <a:pt x="250" y="1955"/>
                </a:lnTo>
                <a:lnTo>
                  <a:pt x="253" y="1960"/>
                </a:lnTo>
                <a:lnTo>
                  <a:pt x="258" y="1964"/>
                </a:lnTo>
                <a:lnTo>
                  <a:pt x="266" y="1965"/>
                </a:lnTo>
                <a:lnTo>
                  <a:pt x="274" y="1964"/>
                </a:lnTo>
                <a:lnTo>
                  <a:pt x="280" y="1960"/>
                </a:lnTo>
                <a:lnTo>
                  <a:pt x="285" y="1956"/>
                </a:lnTo>
                <a:lnTo>
                  <a:pt x="497" y="1767"/>
                </a:lnTo>
                <a:lnTo>
                  <a:pt x="499" y="1767"/>
                </a:lnTo>
                <a:lnTo>
                  <a:pt x="503" y="1768"/>
                </a:lnTo>
                <a:lnTo>
                  <a:pt x="509" y="1769"/>
                </a:lnTo>
                <a:lnTo>
                  <a:pt x="517" y="1769"/>
                </a:lnTo>
                <a:lnTo>
                  <a:pt x="524" y="1769"/>
                </a:lnTo>
                <a:lnTo>
                  <a:pt x="532" y="1767"/>
                </a:lnTo>
                <a:lnTo>
                  <a:pt x="538" y="1765"/>
                </a:lnTo>
                <a:lnTo>
                  <a:pt x="543" y="1761"/>
                </a:lnTo>
                <a:lnTo>
                  <a:pt x="551" y="1758"/>
                </a:lnTo>
                <a:lnTo>
                  <a:pt x="559" y="1754"/>
                </a:lnTo>
                <a:lnTo>
                  <a:pt x="566" y="1748"/>
                </a:lnTo>
                <a:lnTo>
                  <a:pt x="573" y="1742"/>
                </a:lnTo>
                <a:lnTo>
                  <a:pt x="579" y="1737"/>
                </a:lnTo>
                <a:lnTo>
                  <a:pt x="586" y="1732"/>
                </a:lnTo>
                <a:lnTo>
                  <a:pt x="594" y="1728"/>
                </a:lnTo>
                <a:lnTo>
                  <a:pt x="603" y="1726"/>
                </a:lnTo>
                <a:lnTo>
                  <a:pt x="607" y="1723"/>
                </a:lnTo>
                <a:lnTo>
                  <a:pt x="611" y="1720"/>
                </a:lnTo>
                <a:lnTo>
                  <a:pt x="614" y="1716"/>
                </a:lnTo>
                <a:lnTo>
                  <a:pt x="617" y="1712"/>
                </a:lnTo>
                <a:lnTo>
                  <a:pt x="620" y="1709"/>
                </a:lnTo>
                <a:lnTo>
                  <a:pt x="623" y="1706"/>
                </a:lnTo>
                <a:lnTo>
                  <a:pt x="628" y="1705"/>
                </a:lnTo>
                <a:lnTo>
                  <a:pt x="633" y="1706"/>
                </a:lnTo>
                <a:lnTo>
                  <a:pt x="646" y="1695"/>
                </a:lnTo>
                <a:lnTo>
                  <a:pt x="655" y="1683"/>
                </a:lnTo>
                <a:lnTo>
                  <a:pt x="660" y="1670"/>
                </a:lnTo>
                <a:lnTo>
                  <a:pt x="662" y="1657"/>
                </a:lnTo>
                <a:lnTo>
                  <a:pt x="663" y="1645"/>
                </a:lnTo>
                <a:lnTo>
                  <a:pt x="662" y="1635"/>
                </a:lnTo>
                <a:lnTo>
                  <a:pt x="661" y="1628"/>
                </a:lnTo>
                <a:lnTo>
                  <a:pt x="661" y="1626"/>
                </a:lnTo>
                <a:lnTo>
                  <a:pt x="660" y="1636"/>
                </a:lnTo>
                <a:lnTo>
                  <a:pt x="657" y="1647"/>
                </a:lnTo>
                <a:lnTo>
                  <a:pt x="653" y="1657"/>
                </a:lnTo>
                <a:lnTo>
                  <a:pt x="648" y="1666"/>
                </a:lnTo>
                <a:lnTo>
                  <a:pt x="642" y="1674"/>
                </a:lnTo>
                <a:lnTo>
                  <a:pt x="635" y="1682"/>
                </a:lnTo>
                <a:lnTo>
                  <a:pt x="627" y="1687"/>
                </a:lnTo>
                <a:lnTo>
                  <a:pt x="618" y="1691"/>
                </a:lnTo>
                <a:lnTo>
                  <a:pt x="609" y="1689"/>
                </a:lnTo>
                <a:lnTo>
                  <a:pt x="602" y="1691"/>
                </a:lnTo>
                <a:lnTo>
                  <a:pt x="598" y="1696"/>
                </a:lnTo>
                <a:lnTo>
                  <a:pt x="595" y="1702"/>
                </a:lnTo>
                <a:lnTo>
                  <a:pt x="592" y="1708"/>
                </a:lnTo>
                <a:lnTo>
                  <a:pt x="588" y="1714"/>
                </a:lnTo>
                <a:lnTo>
                  <a:pt x="583" y="1719"/>
                </a:lnTo>
                <a:lnTo>
                  <a:pt x="575" y="1721"/>
                </a:lnTo>
                <a:lnTo>
                  <a:pt x="569" y="1721"/>
                </a:lnTo>
                <a:lnTo>
                  <a:pt x="564" y="1723"/>
                </a:lnTo>
                <a:lnTo>
                  <a:pt x="559" y="1726"/>
                </a:lnTo>
                <a:lnTo>
                  <a:pt x="555" y="1730"/>
                </a:lnTo>
                <a:lnTo>
                  <a:pt x="550" y="1734"/>
                </a:lnTo>
                <a:lnTo>
                  <a:pt x="545" y="1737"/>
                </a:lnTo>
                <a:lnTo>
                  <a:pt x="540" y="1739"/>
                </a:lnTo>
                <a:lnTo>
                  <a:pt x="534" y="1739"/>
                </a:lnTo>
                <a:lnTo>
                  <a:pt x="534" y="1742"/>
                </a:lnTo>
                <a:lnTo>
                  <a:pt x="534" y="1744"/>
                </a:lnTo>
                <a:lnTo>
                  <a:pt x="533" y="1746"/>
                </a:lnTo>
                <a:lnTo>
                  <a:pt x="532" y="1748"/>
                </a:lnTo>
                <a:lnTo>
                  <a:pt x="525" y="1747"/>
                </a:lnTo>
                <a:lnTo>
                  <a:pt x="518" y="1745"/>
                </a:lnTo>
                <a:lnTo>
                  <a:pt x="511" y="1742"/>
                </a:lnTo>
                <a:lnTo>
                  <a:pt x="504" y="1738"/>
                </a:lnTo>
                <a:lnTo>
                  <a:pt x="498" y="1734"/>
                </a:lnTo>
                <a:lnTo>
                  <a:pt x="492" y="1729"/>
                </a:lnTo>
                <a:lnTo>
                  <a:pt x="487" y="1724"/>
                </a:lnTo>
                <a:lnTo>
                  <a:pt x="482" y="1719"/>
                </a:lnTo>
                <a:lnTo>
                  <a:pt x="463" y="1701"/>
                </a:lnTo>
                <a:lnTo>
                  <a:pt x="448" y="1682"/>
                </a:lnTo>
                <a:lnTo>
                  <a:pt x="434" y="1661"/>
                </a:lnTo>
                <a:lnTo>
                  <a:pt x="422" y="1640"/>
                </a:lnTo>
                <a:lnTo>
                  <a:pt x="410" y="1619"/>
                </a:lnTo>
                <a:lnTo>
                  <a:pt x="397" y="1598"/>
                </a:lnTo>
                <a:lnTo>
                  <a:pt x="383" y="1578"/>
                </a:lnTo>
                <a:lnTo>
                  <a:pt x="366" y="1560"/>
                </a:lnTo>
                <a:lnTo>
                  <a:pt x="383" y="1536"/>
                </a:lnTo>
                <a:lnTo>
                  <a:pt x="389" y="1530"/>
                </a:lnTo>
                <a:lnTo>
                  <a:pt x="395" y="1525"/>
                </a:lnTo>
                <a:lnTo>
                  <a:pt x="401" y="1520"/>
                </a:lnTo>
                <a:lnTo>
                  <a:pt x="407" y="1516"/>
                </a:lnTo>
                <a:lnTo>
                  <a:pt x="413" y="1512"/>
                </a:lnTo>
                <a:lnTo>
                  <a:pt x="419" y="1508"/>
                </a:lnTo>
                <a:lnTo>
                  <a:pt x="425" y="1505"/>
                </a:lnTo>
                <a:lnTo>
                  <a:pt x="431" y="1503"/>
                </a:lnTo>
                <a:lnTo>
                  <a:pt x="440" y="1510"/>
                </a:lnTo>
                <a:lnTo>
                  <a:pt x="450" y="1517"/>
                </a:lnTo>
                <a:lnTo>
                  <a:pt x="460" y="1523"/>
                </a:lnTo>
                <a:lnTo>
                  <a:pt x="470" y="1528"/>
                </a:lnTo>
                <a:lnTo>
                  <a:pt x="480" y="1533"/>
                </a:lnTo>
                <a:lnTo>
                  <a:pt x="491" y="1537"/>
                </a:lnTo>
                <a:lnTo>
                  <a:pt x="501" y="1541"/>
                </a:lnTo>
                <a:lnTo>
                  <a:pt x="512" y="1545"/>
                </a:lnTo>
                <a:lnTo>
                  <a:pt x="523" y="1547"/>
                </a:lnTo>
                <a:lnTo>
                  <a:pt x="535" y="1547"/>
                </a:lnTo>
                <a:lnTo>
                  <a:pt x="546" y="1546"/>
                </a:lnTo>
                <a:lnTo>
                  <a:pt x="558" y="1545"/>
                </a:lnTo>
                <a:lnTo>
                  <a:pt x="569" y="1545"/>
                </a:lnTo>
                <a:lnTo>
                  <a:pt x="579" y="1547"/>
                </a:lnTo>
                <a:lnTo>
                  <a:pt x="588" y="1552"/>
                </a:lnTo>
                <a:lnTo>
                  <a:pt x="596" y="1562"/>
                </a:lnTo>
                <a:lnTo>
                  <a:pt x="602" y="1566"/>
                </a:lnTo>
                <a:lnTo>
                  <a:pt x="609" y="1567"/>
                </a:lnTo>
                <a:lnTo>
                  <a:pt x="616" y="1566"/>
                </a:lnTo>
                <a:lnTo>
                  <a:pt x="623" y="1565"/>
                </a:lnTo>
                <a:lnTo>
                  <a:pt x="629" y="1563"/>
                </a:lnTo>
                <a:lnTo>
                  <a:pt x="636" y="1562"/>
                </a:lnTo>
                <a:lnTo>
                  <a:pt x="643" y="1562"/>
                </a:lnTo>
                <a:lnTo>
                  <a:pt x="649" y="1563"/>
                </a:lnTo>
                <a:lnTo>
                  <a:pt x="640" y="1572"/>
                </a:lnTo>
                <a:lnTo>
                  <a:pt x="630" y="1579"/>
                </a:lnTo>
                <a:lnTo>
                  <a:pt x="619" y="1586"/>
                </a:lnTo>
                <a:lnTo>
                  <a:pt x="607" y="1591"/>
                </a:lnTo>
                <a:lnTo>
                  <a:pt x="595" y="1594"/>
                </a:lnTo>
                <a:lnTo>
                  <a:pt x="582" y="1595"/>
                </a:lnTo>
                <a:lnTo>
                  <a:pt x="569" y="1594"/>
                </a:lnTo>
                <a:lnTo>
                  <a:pt x="556" y="1590"/>
                </a:lnTo>
                <a:lnTo>
                  <a:pt x="552" y="1589"/>
                </a:lnTo>
                <a:lnTo>
                  <a:pt x="550" y="1591"/>
                </a:lnTo>
                <a:lnTo>
                  <a:pt x="550" y="1595"/>
                </a:lnTo>
                <a:lnTo>
                  <a:pt x="550" y="1599"/>
                </a:lnTo>
                <a:lnTo>
                  <a:pt x="556" y="1609"/>
                </a:lnTo>
                <a:lnTo>
                  <a:pt x="562" y="1619"/>
                </a:lnTo>
                <a:lnTo>
                  <a:pt x="568" y="1628"/>
                </a:lnTo>
                <a:lnTo>
                  <a:pt x="575" y="1638"/>
                </a:lnTo>
                <a:lnTo>
                  <a:pt x="583" y="1646"/>
                </a:lnTo>
                <a:lnTo>
                  <a:pt x="592" y="1654"/>
                </a:lnTo>
                <a:lnTo>
                  <a:pt x="601" y="1660"/>
                </a:lnTo>
                <a:lnTo>
                  <a:pt x="612" y="1665"/>
                </a:lnTo>
                <a:lnTo>
                  <a:pt x="622" y="1665"/>
                </a:lnTo>
                <a:lnTo>
                  <a:pt x="629" y="1662"/>
                </a:lnTo>
                <a:lnTo>
                  <a:pt x="636" y="1657"/>
                </a:lnTo>
                <a:lnTo>
                  <a:pt x="641" y="1650"/>
                </a:lnTo>
                <a:lnTo>
                  <a:pt x="645" y="1642"/>
                </a:lnTo>
                <a:lnTo>
                  <a:pt x="650" y="1634"/>
                </a:lnTo>
                <a:lnTo>
                  <a:pt x="655" y="1627"/>
                </a:lnTo>
                <a:lnTo>
                  <a:pt x="661" y="1621"/>
                </a:lnTo>
                <a:lnTo>
                  <a:pt x="667" y="1616"/>
                </a:lnTo>
                <a:lnTo>
                  <a:pt x="672" y="1612"/>
                </a:lnTo>
                <a:lnTo>
                  <a:pt x="677" y="1607"/>
                </a:lnTo>
                <a:lnTo>
                  <a:pt x="681" y="1603"/>
                </a:lnTo>
                <a:lnTo>
                  <a:pt x="686" y="1598"/>
                </a:lnTo>
                <a:lnTo>
                  <a:pt x="691" y="1594"/>
                </a:lnTo>
                <a:lnTo>
                  <a:pt x="696" y="1589"/>
                </a:lnTo>
                <a:lnTo>
                  <a:pt x="701" y="1584"/>
                </a:lnTo>
                <a:lnTo>
                  <a:pt x="712" y="1583"/>
                </a:lnTo>
                <a:lnTo>
                  <a:pt x="723" y="1582"/>
                </a:lnTo>
                <a:lnTo>
                  <a:pt x="734" y="1581"/>
                </a:lnTo>
                <a:lnTo>
                  <a:pt x="745" y="1579"/>
                </a:lnTo>
                <a:lnTo>
                  <a:pt x="756" y="1577"/>
                </a:lnTo>
                <a:lnTo>
                  <a:pt x="767" y="1576"/>
                </a:lnTo>
                <a:lnTo>
                  <a:pt x="777" y="1575"/>
                </a:lnTo>
                <a:lnTo>
                  <a:pt x="788" y="1574"/>
                </a:lnTo>
                <a:lnTo>
                  <a:pt x="792" y="1617"/>
                </a:lnTo>
                <a:lnTo>
                  <a:pt x="796" y="1661"/>
                </a:lnTo>
                <a:lnTo>
                  <a:pt x="801" y="1704"/>
                </a:lnTo>
                <a:lnTo>
                  <a:pt x="808" y="1746"/>
                </a:lnTo>
                <a:lnTo>
                  <a:pt x="811" y="1761"/>
                </a:lnTo>
                <a:lnTo>
                  <a:pt x="815" y="1776"/>
                </a:lnTo>
                <a:lnTo>
                  <a:pt x="818" y="1790"/>
                </a:lnTo>
                <a:lnTo>
                  <a:pt x="822" y="1805"/>
                </a:lnTo>
                <a:lnTo>
                  <a:pt x="825" y="1820"/>
                </a:lnTo>
                <a:lnTo>
                  <a:pt x="830" y="1835"/>
                </a:lnTo>
                <a:lnTo>
                  <a:pt x="835" y="1849"/>
                </a:lnTo>
                <a:lnTo>
                  <a:pt x="841" y="1863"/>
                </a:lnTo>
                <a:lnTo>
                  <a:pt x="846" y="1863"/>
                </a:lnTo>
                <a:lnTo>
                  <a:pt x="849" y="1863"/>
                </a:lnTo>
                <a:lnTo>
                  <a:pt x="853" y="1862"/>
                </a:lnTo>
                <a:lnTo>
                  <a:pt x="857" y="1861"/>
                </a:lnTo>
                <a:lnTo>
                  <a:pt x="851" y="1829"/>
                </a:lnTo>
                <a:lnTo>
                  <a:pt x="845" y="1787"/>
                </a:lnTo>
                <a:lnTo>
                  <a:pt x="837" y="1739"/>
                </a:lnTo>
                <a:lnTo>
                  <a:pt x="830" y="1689"/>
                </a:lnTo>
                <a:lnTo>
                  <a:pt x="823" y="1642"/>
                </a:lnTo>
                <a:lnTo>
                  <a:pt x="818" y="1603"/>
                </a:lnTo>
                <a:lnTo>
                  <a:pt x="814" y="1576"/>
                </a:lnTo>
                <a:lnTo>
                  <a:pt x="813" y="1566"/>
                </a:lnTo>
                <a:lnTo>
                  <a:pt x="816" y="1564"/>
                </a:lnTo>
                <a:lnTo>
                  <a:pt x="823" y="1558"/>
                </a:lnTo>
                <a:lnTo>
                  <a:pt x="830" y="1552"/>
                </a:lnTo>
                <a:lnTo>
                  <a:pt x="835" y="1546"/>
                </a:lnTo>
                <a:lnTo>
                  <a:pt x="835" y="1541"/>
                </a:lnTo>
                <a:lnTo>
                  <a:pt x="836" y="1535"/>
                </a:lnTo>
                <a:lnTo>
                  <a:pt x="836" y="1530"/>
                </a:lnTo>
                <a:lnTo>
                  <a:pt x="839" y="1526"/>
                </a:lnTo>
                <a:lnTo>
                  <a:pt x="842" y="1526"/>
                </a:lnTo>
                <a:lnTo>
                  <a:pt x="850" y="1526"/>
                </a:lnTo>
                <a:lnTo>
                  <a:pt x="864" y="1526"/>
                </a:lnTo>
                <a:lnTo>
                  <a:pt x="882" y="1526"/>
                </a:lnTo>
                <a:lnTo>
                  <a:pt x="905" y="1526"/>
                </a:lnTo>
                <a:lnTo>
                  <a:pt x="932" y="1526"/>
                </a:lnTo>
                <a:lnTo>
                  <a:pt x="963" y="1526"/>
                </a:lnTo>
                <a:lnTo>
                  <a:pt x="997" y="1526"/>
                </a:lnTo>
                <a:lnTo>
                  <a:pt x="1033" y="1526"/>
                </a:lnTo>
                <a:lnTo>
                  <a:pt x="1073" y="1527"/>
                </a:lnTo>
                <a:lnTo>
                  <a:pt x="1114" y="1527"/>
                </a:lnTo>
                <a:lnTo>
                  <a:pt x="1158" y="1527"/>
                </a:lnTo>
                <a:lnTo>
                  <a:pt x="1203" y="1527"/>
                </a:lnTo>
                <a:lnTo>
                  <a:pt x="1249" y="1527"/>
                </a:lnTo>
                <a:lnTo>
                  <a:pt x="1296" y="1527"/>
                </a:lnTo>
                <a:lnTo>
                  <a:pt x="1343" y="1527"/>
                </a:lnTo>
                <a:lnTo>
                  <a:pt x="1390" y="1527"/>
                </a:lnTo>
                <a:lnTo>
                  <a:pt x="1437" y="1527"/>
                </a:lnTo>
                <a:lnTo>
                  <a:pt x="1483" y="1527"/>
                </a:lnTo>
                <a:lnTo>
                  <a:pt x="1528" y="1527"/>
                </a:lnTo>
                <a:lnTo>
                  <a:pt x="1572" y="1527"/>
                </a:lnTo>
                <a:lnTo>
                  <a:pt x="1614" y="1527"/>
                </a:lnTo>
                <a:lnTo>
                  <a:pt x="1653" y="1527"/>
                </a:lnTo>
                <a:lnTo>
                  <a:pt x="1690" y="1527"/>
                </a:lnTo>
                <a:lnTo>
                  <a:pt x="1724" y="1527"/>
                </a:lnTo>
                <a:lnTo>
                  <a:pt x="1755" y="1527"/>
                </a:lnTo>
                <a:lnTo>
                  <a:pt x="1781" y="1526"/>
                </a:lnTo>
                <a:lnTo>
                  <a:pt x="1804" y="1526"/>
                </a:lnTo>
                <a:lnTo>
                  <a:pt x="1823" y="1526"/>
                </a:lnTo>
                <a:lnTo>
                  <a:pt x="1837" y="1526"/>
                </a:lnTo>
                <a:lnTo>
                  <a:pt x="1845" y="1525"/>
                </a:lnTo>
                <a:lnTo>
                  <a:pt x="1848" y="1525"/>
                </a:lnTo>
                <a:lnTo>
                  <a:pt x="1851" y="1512"/>
                </a:lnTo>
                <a:lnTo>
                  <a:pt x="1851" y="1496"/>
                </a:lnTo>
                <a:lnTo>
                  <a:pt x="1847" y="1480"/>
                </a:lnTo>
                <a:lnTo>
                  <a:pt x="1841" y="1464"/>
                </a:lnTo>
                <a:lnTo>
                  <a:pt x="1833" y="1449"/>
                </a:lnTo>
                <a:lnTo>
                  <a:pt x="1825" y="1436"/>
                </a:lnTo>
                <a:lnTo>
                  <a:pt x="1818" y="1426"/>
                </a:lnTo>
                <a:lnTo>
                  <a:pt x="1812" y="1421"/>
                </a:lnTo>
                <a:lnTo>
                  <a:pt x="1812" y="0"/>
                </a:lnTo>
                <a:lnTo>
                  <a:pt x="174" y="0"/>
                </a:lnTo>
                <a:lnTo>
                  <a:pt x="174" y="643"/>
                </a:lnTo>
                <a:lnTo>
                  <a:pt x="197" y="6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502080" y="2838600"/>
            <a:ext cx="555480" cy="187200"/>
          </a:xfrm>
          <a:custGeom>
            <a:avLst/>
            <a:gdLst/>
            <a:ahLst/>
            <a:rect l="l" t="t" r="r" b="b"/>
            <a:pathLst>
              <a:path w="350" h="118">
                <a:moveTo>
                  <a:pt x="311" y="75"/>
                </a:moveTo>
                <a:lnTo>
                  <a:pt x="315" y="78"/>
                </a:lnTo>
                <a:lnTo>
                  <a:pt x="320" y="80"/>
                </a:lnTo>
                <a:lnTo>
                  <a:pt x="324" y="82"/>
                </a:lnTo>
                <a:lnTo>
                  <a:pt x="329" y="83"/>
                </a:lnTo>
                <a:lnTo>
                  <a:pt x="334" y="84"/>
                </a:lnTo>
                <a:lnTo>
                  <a:pt x="340" y="85"/>
                </a:lnTo>
                <a:lnTo>
                  <a:pt x="345" y="86"/>
                </a:lnTo>
                <a:lnTo>
                  <a:pt x="350" y="86"/>
                </a:lnTo>
                <a:lnTo>
                  <a:pt x="348" y="92"/>
                </a:lnTo>
                <a:lnTo>
                  <a:pt x="344" y="94"/>
                </a:lnTo>
                <a:lnTo>
                  <a:pt x="337" y="95"/>
                </a:lnTo>
                <a:lnTo>
                  <a:pt x="332" y="96"/>
                </a:lnTo>
                <a:lnTo>
                  <a:pt x="317" y="93"/>
                </a:lnTo>
                <a:lnTo>
                  <a:pt x="303" y="87"/>
                </a:lnTo>
                <a:lnTo>
                  <a:pt x="290" y="79"/>
                </a:lnTo>
                <a:lnTo>
                  <a:pt x="277" y="70"/>
                </a:lnTo>
                <a:lnTo>
                  <a:pt x="264" y="61"/>
                </a:lnTo>
                <a:lnTo>
                  <a:pt x="251" y="52"/>
                </a:lnTo>
                <a:lnTo>
                  <a:pt x="237" y="44"/>
                </a:lnTo>
                <a:lnTo>
                  <a:pt x="223" y="39"/>
                </a:lnTo>
                <a:lnTo>
                  <a:pt x="210" y="36"/>
                </a:lnTo>
                <a:lnTo>
                  <a:pt x="197" y="33"/>
                </a:lnTo>
                <a:lnTo>
                  <a:pt x="183" y="31"/>
                </a:lnTo>
                <a:lnTo>
                  <a:pt x="170" y="30"/>
                </a:lnTo>
                <a:lnTo>
                  <a:pt x="157" y="30"/>
                </a:lnTo>
                <a:lnTo>
                  <a:pt x="144" y="31"/>
                </a:lnTo>
                <a:lnTo>
                  <a:pt x="131" y="32"/>
                </a:lnTo>
                <a:lnTo>
                  <a:pt x="119" y="35"/>
                </a:lnTo>
                <a:lnTo>
                  <a:pt x="106" y="38"/>
                </a:lnTo>
                <a:lnTo>
                  <a:pt x="94" y="42"/>
                </a:lnTo>
                <a:lnTo>
                  <a:pt x="82" y="47"/>
                </a:lnTo>
                <a:lnTo>
                  <a:pt x="71" y="53"/>
                </a:lnTo>
                <a:lnTo>
                  <a:pt x="59" y="59"/>
                </a:lnTo>
                <a:lnTo>
                  <a:pt x="49" y="67"/>
                </a:lnTo>
                <a:lnTo>
                  <a:pt x="39" y="76"/>
                </a:lnTo>
                <a:lnTo>
                  <a:pt x="29" y="85"/>
                </a:lnTo>
                <a:lnTo>
                  <a:pt x="23" y="95"/>
                </a:lnTo>
                <a:lnTo>
                  <a:pt x="13" y="106"/>
                </a:lnTo>
                <a:lnTo>
                  <a:pt x="4" y="115"/>
                </a:lnTo>
                <a:lnTo>
                  <a:pt x="0" y="118"/>
                </a:lnTo>
                <a:lnTo>
                  <a:pt x="6" y="98"/>
                </a:lnTo>
                <a:lnTo>
                  <a:pt x="16" y="79"/>
                </a:lnTo>
                <a:lnTo>
                  <a:pt x="29" y="61"/>
                </a:lnTo>
                <a:lnTo>
                  <a:pt x="44" y="45"/>
                </a:lnTo>
                <a:lnTo>
                  <a:pt x="62" y="31"/>
                </a:lnTo>
                <a:lnTo>
                  <a:pt x="82" y="19"/>
                </a:lnTo>
                <a:lnTo>
                  <a:pt x="102" y="10"/>
                </a:lnTo>
                <a:lnTo>
                  <a:pt x="123" y="5"/>
                </a:lnTo>
                <a:lnTo>
                  <a:pt x="137" y="2"/>
                </a:lnTo>
                <a:lnTo>
                  <a:pt x="150" y="1"/>
                </a:lnTo>
                <a:lnTo>
                  <a:pt x="164" y="0"/>
                </a:lnTo>
                <a:lnTo>
                  <a:pt x="177" y="0"/>
                </a:lnTo>
                <a:lnTo>
                  <a:pt x="190" y="2"/>
                </a:lnTo>
                <a:lnTo>
                  <a:pt x="203" y="4"/>
                </a:lnTo>
                <a:lnTo>
                  <a:pt x="216" y="7"/>
                </a:lnTo>
                <a:lnTo>
                  <a:pt x="228" y="11"/>
                </a:lnTo>
                <a:lnTo>
                  <a:pt x="240" y="16"/>
                </a:lnTo>
                <a:lnTo>
                  <a:pt x="252" y="21"/>
                </a:lnTo>
                <a:lnTo>
                  <a:pt x="263" y="28"/>
                </a:lnTo>
                <a:lnTo>
                  <a:pt x="274" y="36"/>
                </a:lnTo>
                <a:lnTo>
                  <a:pt x="284" y="44"/>
                </a:lnTo>
                <a:lnTo>
                  <a:pt x="294" y="54"/>
                </a:lnTo>
                <a:lnTo>
                  <a:pt x="303" y="64"/>
                </a:lnTo>
                <a:lnTo>
                  <a:pt x="311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49840" y="2952720"/>
            <a:ext cx="245880" cy="117360"/>
          </a:xfrm>
          <a:custGeom>
            <a:avLst/>
            <a:gdLst/>
            <a:ahLst/>
            <a:rect l="l" t="t" r="r" b="b"/>
            <a:pathLst>
              <a:path w="155" h="74">
                <a:moveTo>
                  <a:pt x="145" y="24"/>
                </a:moveTo>
                <a:lnTo>
                  <a:pt x="155" y="24"/>
                </a:lnTo>
                <a:lnTo>
                  <a:pt x="154" y="32"/>
                </a:lnTo>
                <a:lnTo>
                  <a:pt x="152" y="39"/>
                </a:lnTo>
                <a:lnTo>
                  <a:pt x="148" y="45"/>
                </a:lnTo>
                <a:lnTo>
                  <a:pt x="144" y="52"/>
                </a:lnTo>
                <a:lnTo>
                  <a:pt x="139" y="58"/>
                </a:lnTo>
                <a:lnTo>
                  <a:pt x="133" y="63"/>
                </a:lnTo>
                <a:lnTo>
                  <a:pt x="127" y="69"/>
                </a:lnTo>
                <a:lnTo>
                  <a:pt x="121" y="74"/>
                </a:lnTo>
                <a:lnTo>
                  <a:pt x="117" y="71"/>
                </a:lnTo>
                <a:lnTo>
                  <a:pt x="117" y="67"/>
                </a:lnTo>
                <a:lnTo>
                  <a:pt x="118" y="63"/>
                </a:lnTo>
                <a:lnTo>
                  <a:pt x="119" y="58"/>
                </a:lnTo>
                <a:lnTo>
                  <a:pt x="122" y="56"/>
                </a:lnTo>
                <a:lnTo>
                  <a:pt x="125" y="53"/>
                </a:lnTo>
                <a:lnTo>
                  <a:pt x="127" y="51"/>
                </a:lnTo>
                <a:lnTo>
                  <a:pt x="129" y="48"/>
                </a:lnTo>
                <a:lnTo>
                  <a:pt x="104" y="47"/>
                </a:lnTo>
                <a:lnTo>
                  <a:pt x="80" y="42"/>
                </a:lnTo>
                <a:lnTo>
                  <a:pt x="58" y="35"/>
                </a:lnTo>
                <a:lnTo>
                  <a:pt x="39" y="25"/>
                </a:lnTo>
                <a:lnTo>
                  <a:pt x="23" y="16"/>
                </a:lnTo>
                <a:lnTo>
                  <a:pt x="10" y="8"/>
                </a:lnTo>
                <a:lnTo>
                  <a:pt x="3" y="2"/>
                </a:lnTo>
                <a:lnTo>
                  <a:pt x="0" y="0"/>
                </a:lnTo>
                <a:lnTo>
                  <a:pt x="19" y="4"/>
                </a:lnTo>
                <a:lnTo>
                  <a:pt x="37" y="9"/>
                </a:lnTo>
                <a:lnTo>
                  <a:pt x="55" y="16"/>
                </a:lnTo>
                <a:lnTo>
                  <a:pt x="73" y="22"/>
                </a:lnTo>
                <a:lnTo>
                  <a:pt x="90" y="27"/>
                </a:lnTo>
                <a:lnTo>
                  <a:pt x="108" y="30"/>
                </a:lnTo>
                <a:lnTo>
                  <a:pt x="126" y="29"/>
                </a:lnTo>
                <a:lnTo>
                  <a:pt x="145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392640" y="3036960"/>
            <a:ext cx="222120" cy="565200"/>
          </a:xfrm>
          <a:custGeom>
            <a:avLst/>
            <a:gdLst/>
            <a:ahLst/>
            <a:rect l="l" t="t" r="r" b="b"/>
            <a:pathLst>
              <a:path w="140" h="356">
                <a:moveTo>
                  <a:pt x="39" y="156"/>
                </a:moveTo>
                <a:lnTo>
                  <a:pt x="54" y="188"/>
                </a:lnTo>
                <a:lnTo>
                  <a:pt x="124" y="277"/>
                </a:lnTo>
                <a:lnTo>
                  <a:pt x="133" y="295"/>
                </a:lnTo>
                <a:lnTo>
                  <a:pt x="139" y="315"/>
                </a:lnTo>
                <a:lnTo>
                  <a:pt x="140" y="336"/>
                </a:lnTo>
                <a:lnTo>
                  <a:pt x="135" y="356"/>
                </a:lnTo>
                <a:lnTo>
                  <a:pt x="128" y="353"/>
                </a:lnTo>
                <a:lnTo>
                  <a:pt x="127" y="347"/>
                </a:lnTo>
                <a:lnTo>
                  <a:pt x="127" y="339"/>
                </a:lnTo>
                <a:lnTo>
                  <a:pt x="124" y="332"/>
                </a:lnTo>
                <a:lnTo>
                  <a:pt x="111" y="300"/>
                </a:lnTo>
                <a:lnTo>
                  <a:pt x="92" y="270"/>
                </a:lnTo>
                <a:lnTo>
                  <a:pt x="69" y="242"/>
                </a:lnTo>
                <a:lnTo>
                  <a:pt x="46" y="215"/>
                </a:lnTo>
                <a:lnTo>
                  <a:pt x="24" y="187"/>
                </a:lnTo>
                <a:lnTo>
                  <a:pt x="8" y="156"/>
                </a:lnTo>
                <a:lnTo>
                  <a:pt x="0" y="123"/>
                </a:lnTo>
                <a:lnTo>
                  <a:pt x="3" y="85"/>
                </a:lnTo>
                <a:lnTo>
                  <a:pt x="6" y="73"/>
                </a:lnTo>
                <a:lnTo>
                  <a:pt x="10" y="61"/>
                </a:lnTo>
                <a:lnTo>
                  <a:pt x="15" y="49"/>
                </a:lnTo>
                <a:lnTo>
                  <a:pt x="21" y="38"/>
                </a:lnTo>
                <a:lnTo>
                  <a:pt x="27" y="27"/>
                </a:lnTo>
                <a:lnTo>
                  <a:pt x="35" y="17"/>
                </a:lnTo>
                <a:lnTo>
                  <a:pt x="43" y="8"/>
                </a:lnTo>
                <a:lnTo>
                  <a:pt x="53" y="0"/>
                </a:lnTo>
                <a:lnTo>
                  <a:pt x="51" y="4"/>
                </a:lnTo>
                <a:lnTo>
                  <a:pt x="47" y="15"/>
                </a:lnTo>
                <a:lnTo>
                  <a:pt x="41" y="32"/>
                </a:lnTo>
                <a:lnTo>
                  <a:pt x="36" y="54"/>
                </a:lnTo>
                <a:lnTo>
                  <a:pt x="32" y="78"/>
                </a:lnTo>
                <a:lnTo>
                  <a:pt x="30" y="104"/>
                </a:lnTo>
                <a:lnTo>
                  <a:pt x="32" y="131"/>
                </a:lnTo>
                <a:lnTo>
                  <a:pt x="39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41640" y="3160800"/>
            <a:ext cx="98640" cy="210960"/>
          </a:xfrm>
          <a:custGeom>
            <a:avLst/>
            <a:gdLst/>
            <a:ahLst/>
            <a:rect l="l" t="t" r="r" b="b"/>
            <a:pathLst>
              <a:path w="62" h="133">
                <a:moveTo>
                  <a:pt x="62" y="6"/>
                </a:moveTo>
                <a:lnTo>
                  <a:pt x="58" y="12"/>
                </a:lnTo>
                <a:lnTo>
                  <a:pt x="53" y="16"/>
                </a:lnTo>
                <a:lnTo>
                  <a:pt x="47" y="19"/>
                </a:lnTo>
                <a:lnTo>
                  <a:pt x="41" y="21"/>
                </a:lnTo>
                <a:lnTo>
                  <a:pt x="34" y="22"/>
                </a:lnTo>
                <a:lnTo>
                  <a:pt x="27" y="24"/>
                </a:lnTo>
                <a:lnTo>
                  <a:pt x="21" y="26"/>
                </a:lnTo>
                <a:lnTo>
                  <a:pt x="16" y="30"/>
                </a:lnTo>
                <a:lnTo>
                  <a:pt x="20" y="56"/>
                </a:lnTo>
                <a:lnTo>
                  <a:pt x="27" y="81"/>
                </a:lnTo>
                <a:lnTo>
                  <a:pt x="34" y="106"/>
                </a:lnTo>
                <a:lnTo>
                  <a:pt x="41" y="130"/>
                </a:lnTo>
                <a:lnTo>
                  <a:pt x="36" y="133"/>
                </a:lnTo>
                <a:lnTo>
                  <a:pt x="28" y="121"/>
                </a:lnTo>
                <a:lnTo>
                  <a:pt x="20" y="108"/>
                </a:lnTo>
                <a:lnTo>
                  <a:pt x="12" y="95"/>
                </a:lnTo>
                <a:lnTo>
                  <a:pt x="7" y="81"/>
                </a:lnTo>
                <a:lnTo>
                  <a:pt x="2" y="67"/>
                </a:lnTo>
                <a:lnTo>
                  <a:pt x="0" y="53"/>
                </a:lnTo>
                <a:lnTo>
                  <a:pt x="0" y="38"/>
                </a:lnTo>
                <a:lnTo>
                  <a:pt x="2" y="23"/>
                </a:lnTo>
                <a:lnTo>
                  <a:pt x="8" y="17"/>
                </a:lnTo>
                <a:lnTo>
                  <a:pt x="15" y="11"/>
                </a:lnTo>
                <a:lnTo>
                  <a:pt x="23" y="7"/>
                </a:lnTo>
                <a:lnTo>
                  <a:pt x="31" y="3"/>
                </a:lnTo>
                <a:lnTo>
                  <a:pt x="38" y="1"/>
                </a:lnTo>
                <a:lnTo>
                  <a:pt x="46" y="0"/>
                </a:lnTo>
                <a:lnTo>
                  <a:pt x="54" y="2"/>
                </a:lnTo>
                <a:lnTo>
                  <a:pt x="6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754440" y="3220920"/>
            <a:ext cx="100080" cy="52560"/>
          </a:xfrm>
          <a:custGeom>
            <a:avLst/>
            <a:gdLst/>
            <a:ahLst/>
            <a:rect l="l" t="t" r="r" b="b"/>
            <a:pathLst>
              <a:path w="63" h="33">
                <a:moveTo>
                  <a:pt x="63" y="3"/>
                </a:moveTo>
                <a:lnTo>
                  <a:pt x="63" y="7"/>
                </a:lnTo>
                <a:lnTo>
                  <a:pt x="62" y="11"/>
                </a:lnTo>
                <a:lnTo>
                  <a:pt x="59" y="15"/>
                </a:lnTo>
                <a:lnTo>
                  <a:pt x="56" y="19"/>
                </a:lnTo>
                <a:lnTo>
                  <a:pt x="50" y="22"/>
                </a:lnTo>
                <a:lnTo>
                  <a:pt x="43" y="25"/>
                </a:lnTo>
                <a:lnTo>
                  <a:pt x="36" y="28"/>
                </a:lnTo>
                <a:lnTo>
                  <a:pt x="29" y="30"/>
                </a:lnTo>
                <a:lnTo>
                  <a:pt x="22" y="32"/>
                </a:lnTo>
                <a:lnTo>
                  <a:pt x="15" y="33"/>
                </a:lnTo>
                <a:lnTo>
                  <a:pt x="7" y="32"/>
                </a:lnTo>
                <a:lnTo>
                  <a:pt x="0" y="29"/>
                </a:lnTo>
                <a:lnTo>
                  <a:pt x="4" y="23"/>
                </a:lnTo>
                <a:lnTo>
                  <a:pt x="9" y="18"/>
                </a:lnTo>
                <a:lnTo>
                  <a:pt x="14" y="14"/>
                </a:lnTo>
                <a:lnTo>
                  <a:pt x="20" y="11"/>
                </a:lnTo>
                <a:lnTo>
                  <a:pt x="26" y="8"/>
                </a:lnTo>
                <a:lnTo>
                  <a:pt x="32" y="6"/>
                </a:lnTo>
                <a:lnTo>
                  <a:pt x="38" y="3"/>
                </a:lnTo>
                <a:lnTo>
                  <a:pt x="44" y="0"/>
                </a:lnTo>
                <a:lnTo>
                  <a:pt x="63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611520" y="3340080"/>
            <a:ext cx="60480" cy="57240"/>
          </a:xfrm>
          <a:custGeom>
            <a:avLst/>
            <a:gdLst/>
            <a:ahLst/>
            <a:rect l="l" t="t" r="r" b="b"/>
            <a:pathLst>
              <a:path w="38" h="36">
                <a:moveTo>
                  <a:pt x="38" y="26"/>
                </a:moveTo>
                <a:lnTo>
                  <a:pt x="38" y="36"/>
                </a:lnTo>
                <a:lnTo>
                  <a:pt x="33" y="33"/>
                </a:lnTo>
                <a:lnTo>
                  <a:pt x="29" y="30"/>
                </a:lnTo>
                <a:lnTo>
                  <a:pt x="26" y="25"/>
                </a:lnTo>
                <a:lnTo>
                  <a:pt x="22" y="21"/>
                </a:lnTo>
                <a:lnTo>
                  <a:pt x="17" y="17"/>
                </a:lnTo>
                <a:lnTo>
                  <a:pt x="13" y="14"/>
                </a:lnTo>
                <a:lnTo>
                  <a:pt x="7" y="13"/>
                </a:lnTo>
                <a:lnTo>
                  <a:pt x="0" y="14"/>
                </a:lnTo>
                <a:lnTo>
                  <a:pt x="0" y="10"/>
                </a:lnTo>
                <a:lnTo>
                  <a:pt x="1" y="5"/>
                </a:lnTo>
                <a:lnTo>
                  <a:pt x="4" y="2"/>
                </a:lnTo>
                <a:lnTo>
                  <a:pt x="8" y="0"/>
                </a:lnTo>
                <a:lnTo>
                  <a:pt x="14" y="0"/>
                </a:lnTo>
                <a:lnTo>
                  <a:pt x="18" y="2"/>
                </a:lnTo>
                <a:lnTo>
                  <a:pt x="22" y="5"/>
                </a:lnTo>
                <a:lnTo>
                  <a:pt x="26" y="8"/>
                </a:lnTo>
                <a:lnTo>
                  <a:pt x="29" y="13"/>
                </a:lnTo>
                <a:lnTo>
                  <a:pt x="32" y="17"/>
                </a:lnTo>
                <a:lnTo>
                  <a:pt x="35" y="22"/>
                </a:lnTo>
                <a:lnTo>
                  <a:pt x="38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98800" y="3381480"/>
            <a:ext cx="57240" cy="36360"/>
          </a:xfrm>
          <a:custGeom>
            <a:avLst/>
            <a:gdLst/>
            <a:ahLst/>
            <a:rect l="l" t="t" r="r" b="b"/>
            <a:pathLst>
              <a:path w="36" h="23">
                <a:moveTo>
                  <a:pt x="36" y="5"/>
                </a:moveTo>
                <a:lnTo>
                  <a:pt x="33" y="7"/>
                </a:lnTo>
                <a:lnTo>
                  <a:pt x="29" y="10"/>
                </a:lnTo>
                <a:lnTo>
                  <a:pt x="25" y="12"/>
                </a:lnTo>
                <a:lnTo>
                  <a:pt x="22" y="15"/>
                </a:lnTo>
                <a:lnTo>
                  <a:pt x="18" y="18"/>
                </a:lnTo>
                <a:lnTo>
                  <a:pt x="14" y="20"/>
                </a:lnTo>
                <a:lnTo>
                  <a:pt x="9" y="22"/>
                </a:lnTo>
                <a:lnTo>
                  <a:pt x="5" y="23"/>
                </a:lnTo>
                <a:lnTo>
                  <a:pt x="3" y="20"/>
                </a:lnTo>
                <a:lnTo>
                  <a:pt x="1" y="16"/>
                </a:lnTo>
                <a:lnTo>
                  <a:pt x="0" y="12"/>
                </a:lnTo>
                <a:lnTo>
                  <a:pt x="0" y="7"/>
                </a:lnTo>
                <a:lnTo>
                  <a:pt x="7" y="2"/>
                </a:lnTo>
                <a:lnTo>
                  <a:pt x="13" y="7"/>
                </a:lnTo>
                <a:lnTo>
                  <a:pt x="21" y="3"/>
                </a:lnTo>
                <a:lnTo>
                  <a:pt x="29" y="0"/>
                </a:lnTo>
                <a:lnTo>
                  <a:pt x="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76840" y="3417840"/>
            <a:ext cx="144360" cy="88920"/>
          </a:xfrm>
          <a:custGeom>
            <a:avLst/>
            <a:gdLst/>
            <a:ahLst/>
            <a:rect l="l" t="t" r="r" b="b"/>
            <a:pathLst>
              <a:path w="91" h="56">
                <a:moveTo>
                  <a:pt x="91" y="0"/>
                </a:moveTo>
                <a:lnTo>
                  <a:pt x="90" y="5"/>
                </a:lnTo>
                <a:lnTo>
                  <a:pt x="87" y="10"/>
                </a:lnTo>
                <a:lnTo>
                  <a:pt x="83" y="14"/>
                </a:lnTo>
                <a:lnTo>
                  <a:pt x="79" y="17"/>
                </a:lnTo>
                <a:lnTo>
                  <a:pt x="74" y="20"/>
                </a:lnTo>
                <a:lnTo>
                  <a:pt x="70" y="22"/>
                </a:lnTo>
                <a:lnTo>
                  <a:pt x="65" y="26"/>
                </a:lnTo>
                <a:lnTo>
                  <a:pt x="61" y="29"/>
                </a:lnTo>
                <a:lnTo>
                  <a:pt x="57" y="31"/>
                </a:lnTo>
                <a:lnTo>
                  <a:pt x="54" y="32"/>
                </a:lnTo>
                <a:lnTo>
                  <a:pt x="50" y="33"/>
                </a:lnTo>
                <a:lnTo>
                  <a:pt x="46" y="34"/>
                </a:lnTo>
                <a:lnTo>
                  <a:pt x="42" y="35"/>
                </a:lnTo>
                <a:lnTo>
                  <a:pt x="38" y="36"/>
                </a:lnTo>
                <a:lnTo>
                  <a:pt x="35" y="38"/>
                </a:lnTo>
                <a:lnTo>
                  <a:pt x="31" y="40"/>
                </a:lnTo>
                <a:lnTo>
                  <a:pt x="36" y="44"/>
                </a:lnTo>
                <a:lnTo>
                  <a:pt x="42" y="45"/>
                </a:lnTo>
                <a:lnTo>
                  <a:pt x="49" y="44"/>
                </a:lnTo>
                <a:lnTo>
                  <a:pt x="55" y="43"/>
                </a:lnTo>
                <a:lnTo>
                  <a:pt x="62" y="40"/>
                </a:lnTo>
                <a:lnTo>
                  <a:pt x="69" y="35"/>
                </a:lnTo>
                <a:lnTo>
                  <a:pt x="75" y="29"/>
                </a:lnTo>
                <a:lnTo>
                  <a:pt x="80" y="23"/>
                </a:lnTo>
                <a:lnTo>
                  <a:pt x="84" y="23"/>
                </a:lnTo>
                <a:lnTo>
                  <a:pt x="87" y="23"/>
                </a:lnTo>
                <a:lnTo>
                  <a:pt x="90" y="25"/>
                </a:lnTo>
                <a:lnTo>
                  <a:pt x="91" y="28"/>
                </a:lnTo>
                <a:lnTo>
                  <a:pt x="90" y="34"/>
                </a:lnTo>
                <a:lnTo>
                  <a:pt x="87" y="39"/>
                </a:lnTo>
                <a:lnTo>
                  <a:pt x="83" y="43"/>
                </a:lnTo>
                <a:lnTo>
                  <a:pt x="78" y="46"/>
                </a:lnTo>
                <a:lnTo>
                  <a:pt x="73" y="49"/>
                </a:lnTo>
                <a:lnTo>
                  <a:pt x="67" y="51"/>
                </a:lnTo>
                <a:lnTo>
                  <a:pt x="61" y="53"/>
                </a:lnTo>
                <a:lnTo>
                  <a:pt x="56" y="55"/>
                </a:lnTo>
                <a:lnTo>
                  <a:pt x="47" y="56"/>
                </a:lnTo>
                <a:lnTo>
                  <a:pt x="39" y="55"/>
                </a:lnTo>
                <a:lnTo>
                  <a:pt x="32" y="53"/>
                </a:lnTo>
                <a:lnTo>
                  <a:pt x="25" y="50"/>
                </a:lnTo>
                <a:lnTo>
                  <a:pt x="18" y="45"/>
                </a:lnTo>
                <a:lnTo>
                  <a:pt x="12" y="40"/>
                </a:lnTo>
                <a:lnTo>
                  <a:pt x="6" y="35"/>
                </a:lnTo>
                <a:lnTo>
                  <a:pt x="0" y="30"/>
                </a:lnTo>
                <a:lnTo>
                  <a:pt x="6" y="27"/>
                </a:lnTo>
                <a:lnTo>
                  <a:pt x="12" y="28"/>
                </a:lnTo>
                <a:lnTo>
                  <a:pt x="18" y="29"/>
                </a:lnTo>
                <a:lnTo>
                  <a:pt x="24" y="27"/>
                </a:lnTo>
                <a:lnTo>
                  <a:pt x="32" y="24"/>
                </a:lnTo>
                <a:lnTo>
                  <a:pt x="39" y="21"/>
                </a:lnTo>
                <a:lnTo>
                  <a:pt x="47" y="18"/>
                </a:lnTo>
                <a:lnTo>
                  <a:pt x="54" y="15"/>
                </a:lnTo>
                <a:lnTo>
                  <a:pt x="62" y="12"/>
                </a:lnTo>
                <a:lnTo>
                  <a:pt x="69" y="8"/>
                </a:lnTo>
                <a:lnTo>
                  <a:pt x="77" y="4"/>
                </a:lnTo>
                <a:lnTo>
                  <a:pt x="84" y="0"/>
                </a:lnTo>
                <a:lnTo>
                  <a:pt x="9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006880" y="3432240"/>
            <a:ext cx="238320" cy="431640"/>
          </a:xfrm>
          <a:custGeom>
            <a:avLst/>
            <a:gdLst/>
            <a:ahLst/>
            <a:rect l="l" t="t" r="r" b="b"/>
            <a:pathLst>
              <a:path w="150" h="272">
                <a:moveTo>
                  <a:pt x="83" y="121"/>
                </a:moveTo>
                <a:lnTo>
                  <a:pt x="86" y="143"/>
                </a:lnTo>
                <a:lnTo>
                  <a:pt x="86" y="165"/>
                </a:lnTo>
                <a:lnTo>
                  <a:pt x="85" y="187"/>
                </a:lnTo>
                <a:lnTo>
                  <a:pt x="83" y="209"/>
                </a:lnTo>
                <a:lnTo>
                  <a:pt x="85" y="211"/>
                </a:lnTo>
                <a:lnTo>
                  <a:pt x="87" y="212"/>
                </a:lnTo>
                <a:lnTo>
                  <a:pt x="89" y="213"/>
                </a:lnTo>
                <a:lnTo>
                  <a:pt x="91" y="213"/>
                </a:lnTo>
                <a:lnTo>
                  <a:pt x="96" y="198"/>
                </a:lnTo>
                <a:lnTo>
                  <a:pt x="101" y="184"/>
                </a:lnTo>
                <a:lnTo>
                  <a:pt x="105" y="169"/>
                </a:lnTo>
                <a:lnTo>
                  <a:pt x="106" y="153"/>
                </a:lnTo>
                <a:lnTo>
                  <a:pt x="106" y="156"/>
                </a:lnTo>
                <a:lnTo>
                  <a:pt x="109" y="161"/>
                </a:lnTo>
                <a:lnTo>
                  <a:pt x="113" y="165"/>
                </a:lnTo>
                <a:lnTo>
                  <a:pt x="117" y="169"/>
                </a:lnTo>
                <a:lnTo>
                  <a:pt x="120" y="169"/>
                </a:lnTo>
                <a:lnTo>
                  <a:pt x="122" y="170"/>
                </a:lnTo>
                <a:lnTo>
                  <a:pt x="124" y="171"/>
                </a:lnTo>
                <a:lnTo>
                  <a:pt x="127" y="171"/>
                </a:lnTo>
                <a:lnTo>
                  <a:pt x="126" y="178"/>
                </a:lnTo>
                <a:lnTo>
                  <a:pt x="128" y="186"/>
                </a:lnTo>
                <a:lnTo>
                  <a:pt x="131" y="194"/>
                </a:lnTo>
                <a:lnTo>
                  <a:pt x="137" y="199"/>
                </a:lnTo>
                <a:lnTo>
                  <a:pt x="150" y="199"/>
                </a:lnTo>
                <a:lnTo>
                  <a:pt x="141" y="210"/>
                </a:lnTo>
                <a:lnTo>
                  <a:pt x="132" y="221"/>
                </a:lnTo>
                <a:lnTo>
                  <a:pt x="122" y="231"/>
                </a:lnTo>
                <a:lnTo>
                  <a:pt x="112" y="240"/>
                </a:lnTo>
                <a:lnTo>
                  <a:pt x="100" y="248"/>
                </a:lnTo>
                <a:lnTo>
                  <a:pt x="88" y="254"/>
                </a:lnTo>
                <a:lnTo>
                  <a:pt x="76" y="260"/>
                </a:lnTo>
                <a:lnTo>
                  <a:pt x="62" y="263"/>
                </a:lnTo>
                <a:lnTo>
                  <a:pt x="53" y="272"/>
                </a:lnTo>
                <a:lnTo>
                  <a:pt x="46" y="269"/>
                </a:lnTo>
                <a:lnTo>
                  <a:pt x="39" y="265"/>
                </a:lnTo>
                <a:lnTo>
                  <a:pt x="32" y="261"/>
                </a:lnTo>
                <a:lnTo>
                  <a:pt x="26" y="257"/>
                </a:lnTo>
                <a:lnTo>
                  <a:pt x="19" y="253"/>
                </a:lnTo>
                <a:lnTo>
                  <a:pt x="13" y="248"/>
                </a:lnTo>
                <a:lnTo>
                  <a:pt x="6" y="243"/>
                </a:lnTo>
                <a:lnTo>
                  <a:pt x="0" y="238"/>
                </a:lnTo>
                <a:lnTo>
                  <a:pt x="11" y="207"/>
                </a:lnTo>
                <a:lnTo>
                  <a:pt x="28" y="97"/>
                </a:lnTo>
                <a:lnTo>
                  <a:pt x="35" y="85"/>
                </a:lnTo>
                <a:lnTo>
                  <a:pt x="43" y="74"/>
                </a:lnTo>
                <a:lnTo>
                  <a:pt x="50" y="62"/>
                </a:lnTo>
                <a:lnTo>
                  <a:pt x="58" y="50"/>
                </a:lnTo>
                <a:lnTo>
                  <a:pt x="65" y="38"/>
                </a:lnTo>
                <a:lnTo>
                  <a:pt x="72" y="26"/>
                </a:lnTo>
                <a:lnTo>
                  <a:pt x="78" y="13"/>
                </a:lnTo>
                <a:lnTo>
                  <a:pt x="82" y="0"/>
                </a:lnTo>
                <a:lnTo>
                  <a:pt x="88" y="15"/>
                </a:lnTo>
                <a:lnTo>
                  <a:pt x="88" y="30"/>
                </a:lnTo>
                <a:lnTo>
                  <a:pt x="85" y="45"/>
                </a:lnTo>
                <a:lnTo>
                  <a:pt x="80" y="60"/>
                </a:lnTo>
                <a:lnTo>
                  <a:pt x="75" y="75"/>
                </a:lnTo>
                <a:lnTo>
                  <a:pt x="73" y="90"/>
                </a:lnTo>
                <a:lnTo>
                  <a:pt x="75" y="106"/>
                </a:lnTo>
                <a:lnTo>
                  <a:pt x="83" y="121"/>
                </a:lnTo>
                <a:close/>
              </a:path>
            </a:pathLst>
          </a:custGeom>
          <a:solidFill>
            <a:srgbClr val="f2c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52920" y="3583080"/>
            <a:ext cx="436320" cy="771480"/>
          </a:xfrm>
          <a:custGeom>
            <a:avLst/>
            <a:gdLst/>
            <a:ahLst/>
            <a:rect l="l" t="t" r="r" b="b"/>
            <a:pathLst>
              <a:path w="275" h="486">
                <a:moveTo>
                  <a:pt x="23" y="27"/>
                </a:moveTo>
                <a:lnTo>
                  <a:pt x="39" y="70"/>
                </a:lnTo>
                <a:lnTo>
                  <a:pt x="95" y="170"/>
                </a:lnTo>
                <a:lnTo>
                  <a:pt x="101" y="179"/>
                </a:lnTo>
                <a:lnTo>
                  <a:pt x="108" y="188"/>
                </a:lnTo>
                <a:lnTo>
                  <a:pt x="114" y="197"/>
                </a:lnTo>
                <a:lnTo>
                  <a:pt x="120" y="206"/>
                </a:lnTo>
                <a:lnTo>
                  <a:pt x="126" y="215"/>
                </a:lnTo>
                <a:lnTo>
                  <a:pt x="131" y="224"/>
                </a:lnTo>
                <a:lnTo>
                  <a:pt x="136" y="234"/>
                </a:lnTo>
                <a:lnTo>
                  <a:pt x="139" y="244"/>
                </a:lnTo>
                <a:lnTo>
                  <a:pt x="136" y="323"/>
                </a:lnTo>
                <a:lnTo>
                  <a:pt x="148" y="347"/>
                </a:lnTo>
                <a:lnTo>
                  <a:pt x="158" y="372"/>
                </a:lnTo>
                <a:lnTo>
                  <a:pt x="166" y="396"/>
                </a:lnTo>
                <a:lnTo>
                  <a:pt x="173" y="418"/>
                </a:lnTo>
                <a:lnTo>
                  <a:pt x="177" y="437"/>
                </a:lnTo>
                <a:lnTo>
                  <a:pt x="181" y="451"/>
                </a:lnTo>
                <a:lnTo>
                  <a:pt x="184" y="461"/>
                </a:lnTo>
                <a:lnTo>
                  <a:pt x="186" y="464"/>
                </a:lnTo>
                <a:lnTo>
                  <a:pt x="189" y="453"/>
                </a:lnTo>
                <a:lnTo>
                  <a:pt x="190" y="441"/>
                </a:lnTo>
                <a:lnTo>
                  <a:pt x="191" y="430"/>
                </a:lnTo>
                <a:lnTo>
                  <a:pt x="190" y="418"/>
                </a:lnTo>
                <a:lnTo>
                  <a:pt x="188" y="403"/>
                </a:lnTo>
                <a:lnTo>
                  <a:pt x="184" y="389"/>
                </a:lnTo>
                <a:lnTo>
                  <a:pt x="179" y="376"/>
                </a:lnTo>
                <a:lnTo>
                  <a:pt x="174" y="362"/>
                </a:lnTo>
                <a:lnTo>
                  <a:pt x="168" y="349"/>
                </a:lnTo>
                <a:lnTo>
                  <a:pt x="162" y="336"/>
                </a:lnTo>
                <a:lnTo>
                  <a:pt x="156" y="323"/>
                </a:lnTo>
                <a:lnTo>
                  <a:pt x="150" y="310"/>
                </a:lnTo>
                <a:lnTo>
                  <a:pt x="157" y="251"/>
                </a:lnTo>
                <a:lnTo>
                  <a:pt x="173" y="226"/>
                </a:lnTo>
                <a:lnTo>
                  <a:pt x="187" y="200"/>
                </a:lnTo>
                <a:lnTo>
                  <a:pt x="197" y="173"/>
                </a:lnTo>
                <a:lnTo>
                  <a:pt x="205" y="144"/>
                </a:lnTo>
                <a:lnTo>
                  <a:pt x="209" y="114"/>
                </a:lnTo>
                <a:lnTo>
                  <a:pt x="212" y="84"/>
                </a:lnTo>
                <a:lnTo>
                  <a:pt x="212" y="53"/>
                </a:lnTo>
                <a:lnTo>
                  <a:pt x="210" y="23"/>
                </a:lnTo>
                <a:lnTo>
                  <a:pt x="221" y="23"/>
                </a:lnTo>
                <a:lnTo>
                  <a:pt x="230" y="32"/>
                </a:lnTo>
                <a:lnTo>
                  <a:pt x="239" y="41"/>
                </a:lnTo>
                <a:lnTo>
                  <a:pt x="249" y="50"/>
                </a:lnTo>
                <a:lnTo>
                  <a:pt x="258" y="59"/>
                </a:lnTo>
                <a:lnTo>
                  <a:pt x="266" y="69"/>
                </a:lnTo>
                <a:lnTo>
                  <a:pt x="272" y="80"/>
                </a:lnTo>
                <a:lnTo>
                  <a:pt x="275" y="93"/>
                </a:lnTo>
                <a:lnTo>
                  <a:pt x="274" y="106"/>
                </a:lnTo>
                <a:lnTo>
                  <a:pt x="262" y="128"/>
                </a:lnTo>
                <a:lnTo>
                  <a:pt x="262" y="121"/>
                </a:lnTo>
                <a:lnTo>
                  <a:pt x="262" y="113"/>
                </a:lnTo>
                <a:lnTo>
                  <a:pt x="259" y="105"/>
                </a:lnTo>
                <a:lnTo>
                  <a:pt x="253" y="99"/>
                </a:lnTo>
                <a:lnTo>
                  <a:pt x="247" y="101"/>
                </a:lnTo>
                <a:lnTo>
                  <a:pt x="241" y="105"/>
                </a:lnTo>
                <a:lnTo>
                  <a:pt x="237" y="109"/>
                </a:lnTo>
                <a:lnTo>
                  <a:pt x="233" y="115"/>
                </a:lnTo>
                <a:lnTo>
                  <a:pt x="230" y="121"/>
                </a:lnTo>
                <a:lnTo>
                  <a:pt x="227" y="127"/>
                </a:lnTo>
                <a:lnTo>
                  <a:pt x="223" y="133"/>
                </a:lnTo>
                <a:lnTo>
                  <a:pt x="219" y="138"/>
                </a:lnTo>
                <a:lnTo>
                  <a:pt x="214" y="151"/>
                </a:lnTo>
                <a:lnTo>
                  <a:pt x="207" y="163"/>
                </a:lnTo>
                <a:lnTo>
                  <a:pt x="201" y="175"/>
                </a:lnTo>
                <a:lnTo>
                  <a:pt x="197" y="188"/>
                </a:lnTo>
                <a:lnTo>
                  <a:pt x="199" y="188"/>
                </a:lnTo>
                <a:lnTo>
                  <a:pt x="202" y="185"/>
                </a:lnTo>
                <a:lnTo>
                  <a:pt x="205" y="182"/>
                </a:lnTo>
                <a:lnTo>
                  <a:pt x="210" y="177"/>
                </a:lnTo>
                <a:lnTo>
                  <a:pt x="214" y="171"/>
                </a:lnTo>
                <a:lnTo>
                  <a:pt x="219" y="166"/>
                </a:lnTo>
                <a:lnTo>
                  <a:pt x="223" y="161"/>
                </a:lnTo>
                <a:lnTo>
                  <a:pt x="227" y="156"/>
                </a:lnTo>
                <a:lnTo>
                  <a:pt x="238" y="181"/>
                </a:lnTo>
                <a:lnTo>
                  <a:pt x="243" y="206"/>
                </a:lnTo>
                <a:lnTo>
                  <a:pt x="244" y="232"/>
                </a:lnTo>
                <a:lnTo>
                  <a:pt x="241" y="259"/>
                </a:lnTo>
                <a:lnTo>
                  <a:pt x="237" y="287"/>
                </a:lnTo>
                <a:lnTo>
                  <a:pt x="232" y="314"/>
                </a:lnTo>
                <a:lnTo>
                  <a:pt x="228" y="341"/>
                </a:lnTo>
                <a:lnTo>
                  <a:pt x="226" y="368"/>
                </a:lnTo>
                <a:lnTo>
                  <a:pt x="222" y="383"/>
                </a:lnTo>
                <a:lnTo>
                  <a:pt x="218" y="398"/>
                </a:lnTo>
                <a:lnTo>
                  <a:pt x="214" y="413"/>
                </a:lnTo>
                <a:lnTo>
                  <a:pt x="210" y="428"/>
                </a:lnTo>
                <a:lnTo>
                  <a:pt x="206" y="443"/>
                </a:lnTo>
                <a:lnTo>
                  <a:pt x="201" y="457"/>
                </a:lnTo>
                <a:lnTo>
                  <a:pt x="196" y="472"/>
                </a:lnTo>
                <a:lnTo>
                  <a:pt x="191" y="486"/>
                </a:lnTo>
                <a:lnTo>
                  <a:pt x="169" y="462"/>
                </a:lnTo>
                <a:lnTo>
                  <a:pt x="149" y="436"/>
                </a:lnTo>
                <a:lnTo>
                  <a:pt x="130" y="409"/>
                </a:lnTo>
                <a:lnTo>
                  <a:pt x="113" y="381"/>
                </a:lnTo>
                <a:lnTo>
                  <a:pt x="96" y="351"/>
                </a:lnTo>
                <a:lnTo>
                  <a:pt x="81" y="321"/>
                </a:lnTo>
                <a:lnTo>
                  <a:pt x="68" y="291"/>
                </a:lnTo>
                <a:lnTo>
                  <a:pt x="56" y="260"/>
                </a:lnTo>
                <a:lnTo>
                  <a:pt x="58" y="234"/>
                </a:lnTo>
                <a:lnTo>
                  <a:pt x="58" y="207"/>
                </a:lnTo>
                <a:lnTo>
                  <a:pt x="59" y="180"/>
                </a:lnTo>
                <a:lnTo>
                  <a:pt x="62" y="154"/>
                </a:lnTo>
                <a:lnTo>
                  <a:pt x="67" y="162"/>
                </a:lnTo>
                <a:lnTo>
                  <a:pt x="70" y="172"/>
                </a:lnTo>
                <a:lnTo>
                  <a:pt x="73" y="181"/>
                </a:lnTo>
                <a:lnTo>
                  <a:pt x="75" y="191"/>
                </a:lnTo>
                <a:lnTo>
                  <a:pt x="79" y="200"/>
                </a:lnTo>
                <a:lnTo>
                  <a:pt x="84" y="208"/>
                </a:lnTo>
                <a:lnTo>
                  <a:pt x="90" y="215"/>
                </a:lnTo>
                <a:lnTo>
                  <a:pt x="100" y="220"/>
                </a:lnTo>
                <a:lnTo>
                  <a:pt x="104" y="227"/>
                </a:lnTo>
                <a:lnTo>
                  <a:pt x="108" y="234"/>
                </a:lnTo>
                <a:lnTo>
                  <a:pt x="113" y="241"/>
                </a:lnTo>
                <a:lnTo>
                  <a:pt x="119" y="246"/>
                </a:lnTo>
                <a:lnTo>
                  <a:pt x="118" y="242"/>
                </a:lnTo>
                <a:lnTo>
                  <a:pt x="115" y="233"/>
                </a:lnTo>
                <a:lnTo>
                  <a:pt x="110" y="218"/>
                </a:lnTo>
                <a:lnTo>
                  <a:pt x="103" y="201"/>
                </a:lnTo>
                <a:lnTo>
                  <a:pt x="95" y="182"/>
                </a:lnTo>
                <a:lnTo>
                  <a:pt x="87" y="162"/>
                </a:lnTo>
                <a:lnTo>
                  <a:pt x="77" y="145"/>
                </a:lnTo>
                <a:lnTo>
                  <a:pt x="67" y="130"/>
                </a:lnTo>
                <a:lnTo>
                  <a:pt x="62" y="127"/>
                </a:lnTo>
                <a:lnTo>
                  <a:pt x="56" y="127"/>
                </a:lnTo>
                <a:lnTo>
                  <a:pt x="50" y="128"/>
                </a:lnTo>
                <a:lnTo>
                  <a:pt x="45" y="131"/>
                </a:lnTo>
                <a:lnTo>
                  <a:pt x="41" y="143"/>
                </a:lnTo>
                <a:lnTo>
                  <a:pt x="40" y="156"/>
                </a:lnTo>
                <a:lnTo>
                  <a:pt x="40" y="170"/>
                </a:lnTo>
                <a:lnTo>
                  <a:pt x="41" y="183"/>
                </a:lnTo>
                <a:lnTo>
                  <a:pt x="41" y="220"/>
                </a:lnTo>
                <a:lnTo>
                  <a:pt x="34" y="199"/>
                </a:lnTo>
                <a:lnTo>
                  <a:pt x="28" y="178"/>
                </a:lnTo>
                <a:lnTo>
                  <a:pt x="21" y="157"/>
                </a:lnTo>
                <a:lnTo>
                  <a:pt x="16" y="135"/>
                </a:lnTo>
                <a:lnTo>
                  <a:pt x="10" y="114"/>
                </a:lnTo>
                <a:lnTo>
                  <a:pt x="6" y="92"/>
                </a:lnTo>
                <a:lnTo>
                  <a:pt x="2" y="70"/>
                </a:lnTo>
                <a:lnTo>
                  <a:pt x="0" y="47"/>
                </a:lnTo>
                <a:lnTo>
                  <a:pt x="2" y="35"/>
                </a:lnTo>
                <a:lnTo>
                  <a:pt x="6" y="23"/>
                </a:lnTo>
                <a:lnTo>
                  <a:pt x="10" y="11"/>
                </a:lnTo>
                <a:lnTo>
                  <a:pt x="15" y="0"/>
                </a:lnTo>
                <a:lnTo>
                  <a:pt x="18" y="6"/>
                </a:lnTo>
                <a:lnTo>
                  <a:pt x="19" y="13"/>
                </a:lnTo>
                <a:lnTo>
                  <a:pt x="21" y="20"/>
                </a:lnTo>
                <a:lnTo>
                  <a:pt x="23" y="27"/>
                </a:lnTo>
                <a:close/>
              </a:path>
            </a:pathLst>
          </a:custGeom>
          <a:solidFill>
            <a:srgbClr val="ffff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583080" y="3683160"/>
            <a:ext cx="411120" cy="734760"/>
          </a:xfrm>
          <a:custGeom>
            <a:avLst/>
            <a:gdLst/>
            <a:ahLst/>
            <a:rect l="l" t="t" r="r" b="b"/>
            <a:pathLst>
              <a:path w="259" h="463">
                <a:moveTo>
                  <a:pt x="35" y="55"/>
                </a:moveTo>
                <a:lnTo>
                  <a:pt x="41" y="80"/>
                </a:lnTo>
                <a:lnTo>
                  <a:pt x="48" y="105"/>
                </a:lnTo>
                <a:lnTo>
                  <a:pt x="56" y="129"/>
                </a:lnTo>
                <a:lnTo>
                  <a:pt x="63" y="154"/>
                </a:lnTo>
                <a:lnTo>
                  <a:pt x="72" y="178"/>
                </a:lnTo>
                <a:lnTo>
                  <a:pt x="80" y="202"/>
                </a:lnTo>
                <a:lnTo>
                  <a:pt x="90" y="226"/>
                </a:lnTo>
                <a:lnTo>
                  <a:pt x="100" y="250"/>
                </a:lnTo>
                <a:lnTo>
                  <a:pt x="111" y="273"/>
                </a:lnTo>
                <a:lnTo>
                  <a:pt x="122" y="296"/>
                </a:lnTo>
                <a:lnTo>
                  <a:pt x="134" y="319"/>
                </a:lnTo>
                <a:lnTo>
                  <a:pt x="147" y="341"/>
                </a:lnTo>
                <a:lnTo>
                  <a:pt x="161" y="363"/>
                </a:lnTo>
                <a:lnTo>
                  <a:pt x="175" y="385"/>
                </a:lnTo>
                <a:lnTo>
                  <a:pt x="191" y="406"/>
                </a:lnTo>
                <a:lnTo>
                  <a:pt x="207" y="427"/>
                </a:lnTo>
                <a:lnTo>
                  <a:pt x="213" y="433"/>
                </a:lnTo>
                <a:lnTo>
                  <a:pt x="219" y="437"/>
                </a:lnTo>
                <a:lnTo>
                  <a:pt x="225" y="441"/>
                </a:lnTo>
                <a:lnTo>
                  <a:pt x="232" y="445"/>
                </a:lnTo>
                <a:lnTo>
                  <a:pt x="239" y="448"/>
                </a:lnTo>
                <a:lnTo>
                  <a:pt x="245" y="451"/>
                </a:lnTo>
                <a:lnTo>
                  <a:pt x="252" y="453"/>
                </a:lnTo>
                <a:lnTo>
                  <a:pt x="259" y="456"/>
                </a:lnTo>
                <a:lnTo>
                  <a:pt x="257" y="460"/>
                </a:lnTo>
                <a:lnTo>
                  <a:pt x="253" y="462"/>
                </a:lnTo>
                <a:lnTo>
                  <a:pt x="249" y="463"/>
                </a:lnTo>
                <a:lnTo>
                  <a:pt x="245" y="463"/>
                </a:lnTo>
                <a:lnTo>
                  <a:pt x="241" y="462"/>
                </a:lnTo>
                <a:lnTo>
                  <a:pt x="236" y="460"/>
                </a:lnTo>
                <a:lnTo>
                  <a:pt x="232" y="459"/>
                </a:lnTo>
                <a:lnTo>
                  <a:pt x="229" y="458"/>
                </a:lnTo>
                <a:lnTo>
                  <a:pt x="214" y="447"/>
                </a:lnTo>
                <a:lnTo>
                  <a:pt x="199" y="434"/>
                </a:lnTo>
                <a:lnTo>
                  <a:pt x="185" y="419"/>
                </a:lnTo>
                <a:lnTo>
                  <a:pt x="171" y="404"/>
                </a:lnTo>
                <a:lnTo>
                  <a:pt x="157" y="388"/>
                </a:lnTo>
                <a:lnTo>
                  <a:pt x="144" y="370"/>
                </a:lnTo>
                <a:lnTo>
                  <a:pt x="131" y="352"/>
                </a:lnTo>
                <a:lnTo>
                  <a:pt x="119" y="333"/>
                </a:lnTo>
                <a:lnTo>
                  <a:pt x="108" y="314"/>
                </a:lnTo>
                <a:lnTo>
                  <a:pt x="97" y="294"/>
                </a:lnTo>
                <a:lnTo>
                  <a:pt x="87" y="273"/>
                </a:lnTo>
                <a:lnTo>
                  <a:pt x="77" y="253"/>
                </a:lnTo>
                <a:lnTo>
                  <a:pt x="68" y="232"/>
                </a:lnTo>
                <a:lnTo>
                  <a:pt x="60" y="212"/>
                </a:lnTo>
                <a:lnTo>
                  <a:pt x="52" y="192"/>
                </a:lnTo>
                <a:lnTo>
                  <a:pt x="45" y="172"/>
                </a:lnTo>
                <a:lnTo>
                  <a:pt x="39" y="162"/>
                </a:lnTo>
                <a:lnTo>
                  <a:pt x="7" y="50"/>
                </a:lnTo>
                <a:lnTo>
                  <a:pt x="6" y="41"/>
                </a:lnTo>
                <a:lnTo>
                  <a:pt x="4" y="32"/>
                </a:lnTo>
                <a:lnTo>
                  <a:pt x="2" y="23"/>
                </a:lnTo>
                <a:lnTo>
                  <a:pt x="0" y="14"/>
                </a:lnTo>
                <a:lnTo>
                  <a:pt x="24" y="0"/>
                </a:lnTo>
                <a:lnTo>
                  <a:pt x="28" y="12"/>
                </a:lnTo>
                <a:lnTo>
                  <a:pt x="31" y="26"/>
                </a:lnTo>
                <a:lnTo>
                  <a:pt x="33" y="40"/>
                </a:lnTo>
                <a:lnTo>
                  <a:pt x="35" y="55"/>
                </a:lnTo>
                <a:close/>
              </a:path>
            </a:pathLst>
          </a:custGeom>
          <a:solidFill>
            <a:srgbClr val="00f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011480" y="4546440"/>
            <a:ext cx="900360" cy="801720"/>
          </a:xfrm>
          <a:custGeom>
            <a:avLst/>
            <a:gdLst/>
            <a:ahLst/>
            <a:rect l="l" t="t" r="r" b="b"/>
            <a:pathLst>
              <a:path w="567" h="505">
                <a:moveTo>
                  <a:pt x="158" y="379"/>
                </a:moveTo>
                <a:lnTo>
                  <a:pt x="18" y="505"/>
                </a:lnTo>
                <a:lnTo>
                  <a:pt x="13" y="504"/>
                </a:lnTo>
                <a:lnTo>
                  <a:pt x="8" y="502"/>
                </a:lnTo>
                <a:lnTo>
                  <a:pt x="4" y="500"/>
                </a:lnTo>
                <a:lnTo>
                  <a:pt x="0" y="497"/>
                </a:lnTo>
                <a:lnTo>
                  <a:pt x="343" y="194"/>
                </a:lnTo>
                <a:lnTo>
                  <a:pt x="561" y="0"/>
                </a:lnTo>
                <a:lnTo>
                  <a:pt x="567" y="10"/>
                </a:lnTo>
                <a:lnTo>
                  <a:pt x="158" y="379"/>
                </a:lnTo>
                <a:close/>
              </a:path>
            </a:pathLst>
          </a:custGeom>
          <a:solidFill>
            <a:srgbClr val="aa7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827600" y="4960800"/>
            <a:ext cx="507960" cy="49320"/>
          </a:xfrm>
          <a:custGeom>
            <a:avLst/>
            <a:gdLst/>
            <a:ahLst/>
            <a:rect l="l" t="t" r="r" b="b"/>
            <a:pathLst>
              <a:path w="320" h="31">
                <a:moveTo>
                  <a:pt x="320" y="12"/>
                </a:moveTo>
                <a:lnTo>
                  <a:pt x="320" y="31"/>
                </a:lnTo>
                <a:lnTo>
                  <a:pt x="12" y="31"/>
                </a:lnTo>
                <a:lnTo>
                  <a:pt x="3" y="29"/>
                </a:lnTo>
                <a:lnTo>
                  <a:pt x="0" y="18"/>
                </a:lnTo>
                <a:lnTo>
                  <a:pt x="1" y="7"/>
                </a:lnTo>
                <a:lnTo>
                  <a:pt x="2" y="1"/>
                </a:lnTo>
                <a:lnTo>
                  <a:pt x="308" y="1"/>
                </a:lnTo>
                <a:lnTo>
                  <a:pt x="314" y="0"/>
                </a:lnTo>
                <a:lnTo>
                  <a:pt x="317" y="3"/>
                </a:lnTo>
                <a:lnTo>
                  <a:pt x="318" y="8"/>
                </a:lnTo>
                <a:lnTo>
                  <a:pt x="320" y="12"/>
                </a:lnTo>
                <a:close/>
              </a:path>
            </a:pathLst>
          </a:custGeom>
          <a:solidFill>
            <a:srgbClr val="00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378400" y="5029200"/>
            <a:ext cx="552600" cy="33480"/>
          </a:xfrm>
          <a:custGeom>
            <a:avLst/>
            <a:gdLst/>
            <a:ahLst/>
            <a:rect l="l" t="t" r="r" b="b"/>
            <a:pathLst>
              <a:path w="348" h="21">
                <a:moveTo>
                  <a:pt x="348" y="19"/>
                </a:moveTo>
                <a:lnTo>
                  <a:pt x="0" y="21"/>
                </a:lnTo>
                <a:lnTo>
                  <a:pt x="2" y="1"/>
                </a:lnTo>
                <a:lnTo>
                  <a:pt x="332" y="0"/>
                </a:lnTo>
                <a:lnTo>
                  <a:pt x="348" y="19"/>
                </a:lnTo>
                <a:close/>
              </a:path>
            </a:pathLst>
          </a:custGeom>
          <a:solidFill>
            <a:srgbClr val="aa7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822920" y="5033880"/>
            <a:ext cx="527040" cy="28800"/>
          </a:xfrm>
          <a:custGeom>
            <a:avLst/>
            <a:gdLst/>
            <a:ahLst/>
            <a:rect l="l" t="t" r="r" b="b"/>
            <a:pathLst>
              <a:path w="332" h="18">
                <a:moveTo>
                  <a:pt x="329" y="0"/>
                </a:moveTo>
                <a:lnTo>
                  <a:pt x="330" y="5"/>
                </a:lnTo>
                <a:lnTo>
                  <a:pt x="332" y="10"/>
                </a:lnTo>
                <a:lnTo>
                  <a:pt x="332" y="15"/>
                </a:lnTo>
                <a:lnTo>
                  <a:pt x="328" y="18"/>
                </a:lnTo>
                <a:lnTo>
                  <a:pt x="0" y="18"/>
                </a:lnTo>
                <a:lnTo>
                  <a:pt x="0" y="1"/>
                </a:lnTo>
                <a:lnTo>
                  <a:pt x="329" y="0"/>
                </a:lnTo>
                <a:close/>
              </a:path>
            </a:pathLst>
          </a:custGeom>
          <a:solidFill>
            <a:srgbClr val="e5d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413240" y="5037120"/>
            <a:ext cx="372960" cy="30240"/>
          </a:xfrm>
          <a:custGeom>
            <a:avLst/>
            <a:gdLst/>
            <a:ahLst/>
            <a:rect l="l" t="t" r="r" b="b"/>
            <a:pathLst>
              <a:path w="235" h="19">
                <a:moveTo>
                  <a:pt x="233" y="0"/>
                </a:moveTo>
                <a:lnTo>
                  <a:pt x="235" y="19"/>
                </a:lnTo>
                <a:lnTo>
                  <a:pt x="0" y="18"/>
                </a:lnTo>
                <a:lnTo>
                  <a:pt x="0" y="14"/>
                </a:lnTo>
                <a:lnTo>
                  <a:pt x="1" y="8"/>
                </a:lnTo>
                <a:lnTo>
                  <a:pt x="3" y="3"/>
                </a:lnTo>
                <a:lnTo>
                  <a:pt x="8" y="0"/>
                </a:lnTo>
                <a:lnTo>
                  <a:pt x="233" y="0"/>
                </a:lnTo>
                <a:close/>
              </a:path>
            </a:pathLst>
          </a:custGeom>
          <a:solidFill>
            <a:srgbClr val="aa7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398840" y="5094360"/>
            <a:ext cx="1565280" cy="47520"/>
          </a:xfrm>
          <a:custGeom>
            <a:avLst/>
            <a:gdLst/>
            <a:ahLst/>
            <a:rect l="l" t="t" r="r" b="b"/>
            <a:pathLst>
              <a:path w="986" h="30">
                <a:moveTo>
                  <a:pt x="975" y="1"/>
                </a:moveTo>
                <a:lnTo>
                  <a:pt x="979" y="7"/>
                </a:lnTo>
                <a:lnTo>
                  <a:pt x="982" y="15"/>
                </a:lnTo>
                <a:lnTo>
                  <a:pt x="984" y="23"/>
                </a:lnTo>
                <a:lnTo>
                  <a:pt x="986" y="30"/>
                </a:lnTo>
                <a:lnTo>
                  <a:pt x="0" y="29"/>
                </a:lnTo>
                <a:lnTo>
                  <a:pt x="1" y="20"/>
                </a:lnTo>
                <a:lnTo>
                  <a:pt x="2" y="11"/>
                </a:lnTo>
                <a:lnTo>
                  <a:pt x="5" y="3"/>
                </a:lnTo>
                <a:lnTo>
                  <a:pt x="13" y="0"/>
                </a:lnTo>
                <a:lnTo>
                  <a:pt x="975" y="1"/>
                </a:lnTo>
                <a:close/>
              </a:path>
            </a:pathLst>
          </a:custGeom>
          <a:solidFill>
            <a:srgbClr val="aa7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230720" y="5094360"/>
            <a:ext cx="131760" cy="117360"/>
          </a:xfrm>
          <a:custGeom>
            <a:avLst/>
            <a:gdLst/>
            <a:ahLst/>
            <a:rect l="l" t="t" r="r" b="b"/>
            <a:pathLst>
              <a:path w="83" h="74">
                <a:moveTo>
                  <a:pt x="44" y="69"/>
                </a:moveTo>
                <a:lnTo>
                  <a:pt x="38" y="69"/>
                </a:lnTo>
                <a:lnTo>
                  <a:pt x="33" y="70"/>
                </a:lnTo>
                <a:lnTo>
                  <a:pt x="27" y="71"/>
                </a:lnTo>
                <a:lnTo>
                  <a:pt x="22" y="72"/>
                </a:lnTo>
                <a:lnTo>
                  <a:pt x="17" y="73"/>
                </a:lnTo>
                <a:lnTo>
                  <a:pt x="11" y="74"/>
                </a:lnTo>
                <a:lnTo>
                  <a:pt x="6" y="74"/>
                </a:lnTo>
                <a:lnTo>
                  <a:pt x="0" y="73"/>
                </a:lnTo>
                <a:lnTo>
                  <a:pt x="83" y="0"/>
                </a:lnTo>
                <a:lnTo>
                  <a:pt x="80" y="9"/>
                </a:lnTo>
                <a:lnTo>
                  <a:pt x="78" y="20"/>
                </a:lnTo>
                <a:lnTo>
                  <a:pt x="76" y="32"/>
                </a:lnTo>
                <a:lnTo>
                  <a:pt x="74" y="43"/>
                </a:lnTo>
                <a:lnTo>
                  <a:pt x="70" y="53"/>
                </a:lnTo>
                <a:lnTo>
                  <a:pt x="65" y="62"/>
                </a:lnTo>
                <a:lnTo>
                  <a:pt x="56" y="67"/>
                </a:lnTo>
                <a:lnTo>
                  <a:pt x="44" y="69"/>
                </a:lnTo>
                <a:close/>
              </a:path>
            </a:pathLst>
          </a:custGeom>
          <a:solidFill>
            <a:srgbClr val="00f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370320" y="5116680"/>
            <a:ext cx="117360" cy="88560"/>
          </a:xfrm>
          <a:custGeom>
            <a:avLst/>
            <a:gdLst/>
            <a:ahLst/>
            <a:rect l="l" t="t" r="r" b="b"/>
            <a:pathLst>
              <a:path w="74" h="56">
                <a:moveTo>
                  <a:pt x="74" y="56"/>
                </a:moveTo>
                <a:lnTo>
                  <a:pt x="10" y="55"/>
                </a:lnTo>
                <a:lnTo>
                  <a:pt x="6" y="42"/>
                </a:lnTo>
                <a:lnTo>
                  <a:pt x="4" y="28"/>
                </a:lnTo>
                <a:lnTo>
                  <a:pt x="2" y="14"/>
                </a:lnTo>
                <a:lnTo>
                  <a:pt x="0" y="0"/>
                </a:lnTo>
                <a:lnTo>
                  <a:pt x="9" y="7"/>
                </a:lnTo>
                <a:lnTo>
                  <a:pt x="18" y="15"/>
                </a:lnTo>
                <a:lnTo>
                  <a:pt x="28" y="22"/>
                </a:lnTo>
                <a:lnTo>
                  <a:pt x="37" y="30"/>
                </a:lnTo>
                <a:lnTo>
                  <a:pt x="46" y="37"/>
                </a:lnTo>
                <a:lnTo>
                  <a:pt x="55" y="44"/>
                </a:lnTo>
                <a:lnTo>
                  <a:pt x="64" y="51"/>
                </a:lnTo>
                <a:lnTo>
                  <a:pt x="74" y="56"/>
                </a:lnTo>
                <a:close/>
              </a:path>
            </a:pathLst>
          </a:custGeom>
          <a:solidFill>
            <a:srgbClr val="00f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443400" y="5232240"/>
            <a:ext cx="344520" cy="489240"/>
          </a:xfrm>
          <a:custGeom>
            <a:avLst/>
            <a:gdLst/>
            <a:ahLst/>
            <a:rect l="l" t="t" r="r" b="b"/>
            <a:pathLst>
              <a:path w="217" h="308">
                <a:moveTo>
                  <a:pt x="83" y="27"/>
                </a:moveTo>
                <a:lnTo>
                  <a:pt x="86" y="30"/>
                </a:lnTo>
                <a:lnTo>
                  <a:pt x="90" y="33"/>
                </a:lnTo>
                <a:lnTo>
                  <a:pt x="94" y="35"/>
                </a:lnTo>
                <a:lnTo>
                  <a:pt x="98" y="37"/>
                </a:lnTo>
                <a:lnTo>
                  <a:pt x="102" y="38"/>
                </a:lnTo>
                <a:lnTo>
                  <a:pt x="106" y="38"/>
                </a:lnTo>
                <a:lnTo>
                  <a:pt x="110" y="38"/>
                </a:lnTo>
                <a:lnTo>
                  <a:pt x="114" y="38"/>
                </a:lnTo>
                <a:lnTo>
                  <a:pt x="120" y="34"/>
                </a:lnTo>
                <a:lnTo>
                  <a:pt x="125" y="35"/>
                </a:lnTo>
                <a:lnTo>
                  <a:pt x="128" y="39"/>
                </a:lnTo>
                <a:lnTo>
                  <a:pt x="132" y="44"/>
                </a:lnTo>
                <a:lnTo>
                  <a:pt x="201" y="151"/>
                </a:lnTo>
                <a:lnTo>
                  <a:pt x="204" y="156"/>
                </a:lnTo>
                <a:lnTo>
                  <a:pt x="208" y="160"/>
                </a:lnTo>
                <a:lnTo>
                  <a:pt x="212" y="165"/>
                </a:lnTo>
                <a:lnTo>
                  <a:pt x="217" y="170"/>
                </a:lnTo>
                <a:lnTo>
                  <a:pt x="59" y="308"/>
                </a:lnTo>
                <a:lnTo>
                  <a:pt x="52" y="282"/>
                </a:lnTo>
                <a:lnTo>
                  <a:pt x="46" y="255"/>
                </a:lnTo>
                <a:lnTo>
                  <a:pt x="39" y="228"/>
                </a:lnTo>
                <a:lnTo>
                  <a:pt x="32" y="202"/>
                </a:lnTo>
                <a:lnTo>
                  <a:pt x="6" y="52"/>
                </a:lnTo>
                <a:lnTo>
                  <a:pt x="0" y="5"/>
                </a:lnTo>
                <a:lnTo>
                  <a:pt x="6" y="5"/>
                </a:lnTo>
                <a:lnTo>
                  <a:pt x="13" y="4"/>
                </a:lnTo>
                <a:lnTo>
                  <a:pt x="19" y="3"/>
                </a:lnTo>
                <a:lnTo>
                  <a:pt x="26" y="2"/>
                </a:lnTo>
                <a:lnTo>
                  <a:pt x="33" y="1"/>
                </a:lnTo>
                <a:lnTo>
                  <a:pt x="39" y="0"/>
                </a:lnTo>
                <a:lnTo>
                  <a:pt x="46" y="0"/>
                </a:lnTo>
                <a:lnTo>
                  <a:pt x="52" y="1"/>
                </a:lnTo>
                <a:lnTo>
                  <a:pt x="83" y="27"/>
                </a:lnTo>
                <a:close/>
              </a:path>
            </a:pathLst>
          </a:custGeom>
          <a:solidFill>
            <a:srgbClr val="0019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486240" y="5524560"/>
            <a:ext cx="339480" cy="304920"/>
          </a:xfrm>
          <a:custGeom>
            <a:avLst/>
            <a:gdLst/>
            <a:ahLst/>
            <a:rect l="l" t="t" r="r" b="b"/>
            <a:pathLst>
              <a:path w="214" h="192">
                <a:moveTo>
                  <a:pt x="214" y="7"/>
                </a:moveTo>
                <a:lnTo>
                  <a:pt x="11" y="192"/>
                </a:lnTo>
                <a:lnTo>
                  <a:pt x="8" y="191"/>
                </a:lnTo>
                <a:lnTo>
                  <a:pt x="4" y="187"/>
                </a:lnTo>
                <a:lnTo>
                  <a:pt x="1" y="183"/>
                </a:lnTo>
                <a:lnTo>
                  <a:pt x="0" y="180"/>
                </a:lnTo>
                <a:lnTo>
                  <a:pt x="203" y="0"/>
                </a:lnTo>
                <a:lnTo>
                  <a:pt x="206" y="1"/>
                </a:lnTo>
                <a:lnTo>
                  <a:pt x="209" y="2"/>
                </a:lnTo>
                <a:lnTo>
                  <a:pt x="212" y="4"/>
                </a:lnTo>
                <a:lnTo>
                  <a:pt x="214" y="7"/>
                </a:lnTo>
                <a:close/>
              </a:path>
            </a:pathLst>
          </a:custGeom>
          <a:solidFill>
            <a:srgbClr val="aa7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208040" y="2879640"/>
            <a:ext cx="15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8.43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3.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838080" y="1452600"/>
            <a:ext cx="7391520" cy="44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ividing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cimals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927160" y="1447920"/>
            <a:ext cx="328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.43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3.4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432520" y="2209680"/>
            <a:ext cx="1223280" cy="1145160"/>
            <a:chOff x="2432520" y="2209680"/>
            <a:chExt cx="1223280" cy="1145160"/>
          </a:xfrm>
        </p:grpSpPr>
        <p:sp>
          <p:nvSpPr>
            <p:cNvPr id="814" name=""/>
            <p:cNvSpPr/>
            <p:nvPr/>
          </p:nvSpPr>
          <p:spPr>
            <a:xfrm>
              <a:off x="2432520" y="2209680"/>
              <a:ext cx="122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8.4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664720" y="2773440"/>
              <a:ext cx="7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3.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438280" y="2773440"/>
              <a:ext cx="121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3738600" y="2209680"/>
            <a:ext cx="1174320" cy="1145160"/>
            <a:chOff x="3738600" y="2209680"/>
            <a:chExt cx="1174320" cy="1145160"/>
          </a:xfrm>
        </p:grpSpPr>
        <p:sp>
          <p:nvSpPr>
            <p:cNvPr id="818" name=""/>
            <p:cNvSpPr/>
            <p:nvPr/>
          </p:nvSpPr>
          <p:spPr>
            <a:xfrm>
              <a:off x="3738600" y="2438280"/>
              <a:ext cx="371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•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12720" y="22096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14160" y="27734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90760" y="2773440"/>
              <a:ext cx="72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5015520" y="2209680"/>
            <a:ext cx="1764360" cy="1145160"/>
            <a:chOff x="5015520" y="2209680"/>
            <a:chExt cx="1764360" cy="1145160"/>
          </a:xfrm>
        </p:grpSpPr>
        <p:sp>
          <p:nvSpPr>
            <p:cNvPr id="823" name=""/>
            <p:cNvSpPr/>
            <p:nvPr/>
          </p:nvSpPr>
          <p:spPr>
            <a:xfrm>
              <a:off x="5015520" y="24303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5556600" y="2209680"/>
              <a:ext cx="1223280" cy="1145160"/>
              <a:chOff x="5556600" y="2209680"/>
              <a:chExt cx="1223280" cy="1145160"/>
            </a:xfrm>
          </p:grpSpPr>
          <p:sp>
            <p:nvSpPr>
              <p:cNvPr id="825" name=""/>
              <p:cNvSpPr/>
              <p:nvPr/>
            </p:nvSpPr>
            <p:spPr>
              <a:xfrm>
                <a:off x="5556600" y="2209680"/>
                <a:ext cx="122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184.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843880" y="277344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omic Sans MS"/>
                  </a:rPr>
                  <a:t>3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562720" y="2773440"/>
                <a:ext cx="1211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8" name=""/>
          <p:cNvSpPr/>
          <p:nvPr/>
        </p:nvSpPr>
        <p:spPr>
          <a:xfrm>
            <a:off x="2957040" y="3887640"/>
            <a:ext cx="191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00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907360" y="33526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275640" y="335448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058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762120" y="3352680"/>
            <a:ext cx="4114800" cy="2841840"/>
            <a:chOff x="762120" y="3352680"/>
            <a:chExt cx="4114800" cy="2841840"/>
          </a:xfrm>
        </p:grpSpPr>
        <p:sp>
          <p:nvSpPr>
            <p:cNvPr id="832" name=""/>
            <p:cNvSpPr/>
            <p:nvPr/>
          </p:nvSpPr>
          <p:spPr>
            <a:xfrm>
              <a:off x="762120" y="3887640"/>
              <a:ext cx="246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4)184.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506600" y="3959280"/>
              <a:ext cx="337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135160" y="3352680"/>
              <a:ext cx="89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5.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591560" y="442440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7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600200" y="5049720"/>
              <a:ext cx="103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855080" y="503388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4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855080" y="549108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3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63720" y="6095880"/>
              <a:ext cx="103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6295320" y="44798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6230880" y="4952880"/>
            <a:ext cx="887400" cy="1297440"/>
            <a:chOff x="6230880" y="4952880"/>
            <a:chExt cx="887400" cy="1297440"/>
          </a:xfrm>
        </p:grpSpPr>
        <p:sp>
          <p:nvSpPr>
            <p:cNvPr id="842" name=""/>
            <p:cNvSpPr/>
            <p:nvPr/>
          </p:nvSpPr>
          <p:spPr>
            <a:xfrm>
              <a:off x="6295320" y="55468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295320" y="49528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6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230880" y="5562720"/>
              <a:ext cx="88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5472000" y="3429000"/>
            <a:ext cx="1283760" cy="2819520"/>
            <a:chOff x="5472000" y="3429000"/>
            <a:chExt cx="1283760" cy="2819520"/>
          </a:xfrm>
        </p:grpSpPr>
        <p:sp>
          <p:nvSpPr>
            <p:cNvPr id="846" name=""/>
            <p:cNvSpPr/>
            <p:nvPr/>
          </p:nvSpPr>
          <p:spPr>
            <a:xfrm>
              <a:off x="5706360" y="342900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4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706360" y="388620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3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715000" y="4491000"/>
              <a:ext cx="103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72000" y="3429000"/>
              <a:ext cx="0" cy="28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97600" y="1447920"/>
            <a:ext cx="256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4.2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0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09480" y="2664000"/>
            <a:ext cx="227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dividend &amp; divisor by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373560" y="2932200"/>
            <a:ext cx="3270240" cy="703440"/>
            <a:chOff x="3373560" y="2932200"/>
            <a:chExt cx="3270240" cy="703440"/>
          </a:xfrm>
        </p:grpSpPr>
        <p:sp>
          <p:nvSpPr>
            <p:cNvPr id="854" name=""/>
            <p:cNvSpPr/>
            <p:nvPr/>
          </p:nvSpPr>
          <p:spPr>
            <a:xfrm>
              <a:off x="3373560" y="2932200"/>
              <a:ext cx="234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.5 )44.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419720" y="2992320"/>
              <a:ext cx="222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594400" y="2932200"/>
              <a:ext cx="104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0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3648240" y="3321000"/>
            <a:ext cx="1076040" cy="1144440"/>
            <a:chOff x="3648240" y="3321000"/>
            <a:chExt cx="1076040" cy="1144440"/>
          </a:xfrm>
        </p:grpSpPr>
        <p:sp>
          <p:nvSpPr>
            <p:cNvPr id="858" name=""/>
            <p:cNvSpPr/>
            <p:nvPr/>
          </p:nvSpPr>
          <p:spPr>
            <a:xfrm>
              <a:off x="3652920" y="3822840"/>
              <a:ext cx="106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191120" y="3321000"/>
              <a:ext cx="228600" cy="312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48240" y="3930840"/>
              <a:ext cx="1076040" cy="533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1" name=""/>
            <p:cNvCxnSpPr>
              <a:stCxn id="860" idx="0"/>
              <a:endCxn id="859" idx="2"/>
            </p:cNvCxnSpPr>
            <p:nvPr/>
          </p:nvCxnSpPr>
          <p:spPr>
            <a:xfrm flipH="1" flipV="1" rot="5400000">
              <a:off x="3962160" y="3701520"/>
              <a:ext cx="453240" cy="576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62" name=""/>
          <p:cNvGrpSpPr/>
          <p:nvPr/>
        </p:nvGrpSpPr>
        <p:grpSpPr>
          <a:xfrm>
            <a:off x="5034240" y="3160800"/>
            <a:ext cx="1071360" cy="1412640"/>
            <a:chOff x="5034240" y="3160800"/>
            <a:chExt cx="1071360" cy="1412640"/>
          </a:xfrm>
        </p:grpSpPr>
        <p:sp>
          <p:nvSpPr>
            <p:cNvPr id="863" name=""/>
            <p:cNvSpPr/>
            <p:nvPr/>
          </p:nvSpPr>
          <p:spPr>
            <a:xfrm>
              <a:off x="5034240" y="3930840"/>
              <a:ext cx="106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x 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10080" y="3160800"/>
              <a:ext cx="228600" cy="312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05520" y="3930840"/>
              <a:ext cx="1000080" cy="533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66" name=""/>
            <p:cNvCxnSpPr>
              <a:stCxn id="865" idx="0"/>
              <a:endCxn id="864" idx="5"/>
            </p:cNvCxnSpPr>
            <p:nvPr/>
          </p:nvCxnSpPr>
          <p:spPr>
            <a:xfrm flipV="1">
              <a:off x="5605200" y="3427200"/>
              <a:ext cx="1080" cy="50400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pull dir="l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297600" y="1447920"/>
            <a:ext cx="256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4.2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0.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9480" y="2664000"/>
            <a:ext cx="227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ltiply dividend &amp; divisor by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449520" y="2911320"/>
            <a:ext cx="2733840" cy="703440"/>
            <a:chOff x="3449520" y="2911320"/>
            <a:chExt cx="2733840" cy="703440"/>
          </a:xfrm>
        </p:grpSpPr>
        <p:sp>
          <p:nvSpPr>
            <p:cNvPr id="871" name=""/>
            <p:cNvSpPr/>
            <p:nvPr/>
          </p:nvSpPr>
          <p:spPr>
            <a:xfrm>
              <a:off x="3449520" y="2911320"/>
              <a:ext cx="234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5)442.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62520" y="2987640"/>
              <a:ext cx="222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3997440" y="2362320"/>
            <a:ext cx="1558440" cy="3811680"/>
            <a:chOff x="3997440" y="2362320"/>
            <a:chExt cx="1558440" cy="3811680"/>
          </a:xfrm>
        </p:grpSpPr>
        <p:sp>
          <p:nvSpPr>
            <p:cNvPr id="874" name=""/>
            <p:cNvSpPr/>
            <p:nvPr/>
          </p:nvSpPr>
          <p:spPr>
            <a:xfrm>
              <a:off x="4370760" y="2362320"/>
              <a:ext cx="118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88.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060080" y="33685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97440" y="3978360"/>
              <a:ext cx="87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365000" y="39466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65000" y="44038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302000" y="5029200"/>
              <a:ext cx="87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669920" y="501336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69920" y="547056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606920" y="6095880"/>
              <a:ext cx="87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06920" y="6172200"/>
              <a:ext cx="87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l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50120" y="1447920"/>
            <a:ext cx="343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6.42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0.0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2039760" y="2516040"/>
            <a:ext cx="4202280" cy="703440"/>
            <a:chOff x="2039760" y="2516040"/>
            <a:chExt cx="4202280" cy="703440"/>
          </a:xfrm>
        </p:grpSpPr>
        <p:sp>
          <p:nvSpPr>
            <p:cNvPr id="887" name=""/>
            <p:cNvSpPr/>
            <p:nvPr/>
          </p:nvSpPr>
          <p:spPr>
            <a:xfrm>
              <a:off x="2039760" y="2516040"/>
              <a:ext cx="38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0.0 3 7 )76.4 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1200" y="2595600"/>
              <a:ext cx="222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5672520" y="2516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010920" y="19810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834560" y="2514600"/>
            <a:ext cx="3575520" cy="1758960"/>
            <a:chOff x="1834560" y="2514600"/>
            <a:chExt cx="3575520" cy="1758960"/>
          </a:xfrm>
        </p:grpSpPr>
        <p:grpSp>
          <p:nvGrpSpPr>
            <p:cNvPr id="892" name=""/>
            <p:cNvGrpSpPr/>
            <p:nvPr/>
          </p:nvGrpSpPr>
          <p:grpSpPr>
            <a:xfrm>
              <a:off x="1834560" y="2514600"/>
              <a:ext cx="1289520" cy="1330200"/>
              <a:chOff x="1834560" y="2514600"/>
              <a:chExt cx="1289520" cy="1330200"/>
            </a:xfrm>
          </p:grpSpPr>
          <p:sp>
            <p:nvSpPr>
              <p:cNvPr id="893" name=""/>
              <p:cNvSpPr/>
              <p:nvPr/>
            </p:nvSpPr>
            <p:spPr>
              <a:xfrm>
                <a:off x="2799360" y="25146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834560" y="3324240"/>
                <a:ext cx="86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905120" y="3352680"/>
                <a:ext cx="725400" cy="428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830680" y="2743200"/>
                <a:ext cx="293400" cy="320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97" name=""/>
              <p:cNvCxnSpPr>
                <a:stCxn id="895" idx="6"/>
                <a:endCxn id="896" idx="4"/>
              </p:cNvCxnSpPr>
              <p:nvPr/>
            </p:nvCxnSpPr>
            <p:spPr>
              <a:xfrm flipV="1">
                <a:off x="2630520" y="3063600"/>
                <a:ext cx="348480" cy="50400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898" name=""/>
            <p:cNvGrpSpPr/>
            <p:nvPr/>
          </p:nvGrpSpPr>
          <p:grpSpPr>
            <a:xfrm>
              <a:off x="4483800" y="2743200"/>
              <a:ext cx="926280" cy="1530360"/>
              <a:chOff x="4483800" y="2743200"/>
              <a:chExt cx="926280" cy="1530360"/>
            </a:xfrm>
          </p:grpSpPr>
          <p:sp>
            <p:nvSpPr>
              <p:cNvPr id="899" name=""/>
              <p:cNvSpPr/>
              <p:nvPr/>
            </p:nvSpPr>
            <p:spPr>
              <a:xfrm>
                <a:off x="4483800" y="3753000"/>
                <a:ext cx="86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532400" y="3809880"/>
                <a:ext cx="725400" cy="428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116680" y="2743200"/>
                <a:ext cx="293400" cy="320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2" name=""/>
              <p:cNvCxnSpPr>
                <a:stCxn id="900" idx="0"/>
                <a:endCxn id="901" idx="4"/>
              </p:cNvCxnSpPr>
              <p:nvPr/>
            </p:nvCxnSpPr>
            <p:spPr>
              <a:xfrm flipH="1" flipV="1" rot="5400000">
                <a:off x="4706640" y="3252240"/>
                <a:ext cx="746640" cy="369000"/>
              </a:xfrm>
              <a:prstGeom prst="curvedConnector5">
                <a:avLst>
                  <a:gd name="adj1" fmla="val 49975"/>
                  <a:gd name="adj2" fmla="val 50000"/>
                  <a:gd name="adj3" fmla="val 49975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903" name=""/>
          <p:cNvGrpSpPr/>
          <p:nvPr/>
        </p:nvGrpSpPr>
        <p:grpSpPr>
          <a:xfrm>
            <a:off x="2433960" y="2514600"/>
            <a:ext cx="3829680" cy="1758960"/>
            <a:chOff x="2433960" y="2514600"/>
            <a:chExt cx="3829680" cy="1758960"/>
          </a:xfrm>
        </p:grpSpPr>
        <p:grpSp>
          <p:nvGrpSpPr>
            <p:cNvPr id="904" name=""/>
            <p:cNvGrpSpPr/>
            <p:nvPr/>
          </p:nvGrpSpPr>
          <p:grpSpPr>
            <a:xfrm>
              <a:off x="2433960" y="2514600"/>
              <a:ext cx="1212480" cy="1758960"/>
              <a:chOff x="2433960" y="2514600"/>
              <a:chExt cx="1212480" cy="1758960"/>
            </a:xfrm>
          </p:grpSpPr>
          <p:sp>
            <p:nvSpPr>
              <p:cNvPr id="905" name=""/>
              <p:cNvSpPr/>
              <p:nvPr/>
            </p:nvSpPr>
            <p:spPr>
              <a:xfrm>
                <a:off x="3250440" y="25146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433960" y="3753000"/>
                <a:ext cx="1069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627280" y="3762360"/>
                <a:ext cx="725400" cy="428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352680" y="2743200"/>
                <a:ext cx="293760" cy="320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9" name=""/>
              <p:cNvCxnSpPr>
                <a:stCxn id="907" idx="0"/>
                <a:endCxn id="908" idx="3"/>
              </p:cNvCxnSpPr>
              <p:nvPr/>
            </p:nvCxnSpPr>
            <p:spPr>
              <a:xfrm flipH="1" flipV="1" rot="5400000">
                <a:off x="2819880" y="3186360"/>
                <a:ext cx="747000" cy="405360"/>
              </a:xfrm>
              <a:prstGeom prst="curvedConnector5">
                <a:avLst>
                  <a:gd name="adj1" fmla="val 46769"/>
                  <a:gd name="adj2" fmla="val 49955"/>
                  <a:gd name="adj3" fmla="val 46769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910" name=""/>
            <p:cNvGrpSpPr/>
            <p:nvPr/>
          </p:nvGrpSpPr>
          <p:grpSpPr>
            <a:xfrm>
              <a:off x="5194440" y="2743200"/>
              <a:ext cx="1069200" cy="1100160"/>
              <a:chOff x="5194440" y="2743200"/>
              <a:chExt cx="1069200" cy="1100160"/>
            </a:xfrm>
          </p:grpSpPr>
          <p:sp>
            <p:nvSpPr>
              <p:cNvPr id="911" name=""/>
              <p:cNvSpPr/>
              <p:nvPr/>
            </p:nvSpPr>
            <p:spPr>
              <a:xfrm>
                <a:off x="5194440" y="3322800"/>
                <a:ext cx="1069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294160" y="3381480"/>
                <a:ext cx="725760" cy="428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497560" y="2743200"/>
                <a:ext cx="293760" cy="320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4" name=""/>
              <p:cNvCxnSpPr>
                <a:stCxn id="912" idx="0"/>
                <a:endCxn id="913" idx="4"/>
              </p:cNvCxnSpPr>
              <p:nvPr/>
            </p:nvCxnSpPr>
            <p:spPr>
              <a:xfrm flipV="1" rot="16200000">
                <a:off x="5492160" y="3216240"/>
                <a:ext cx="317880" cy="1332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915" name=""/>
          <p:cNvGrpSpPr/>
          <p:nvPr/>
        </p:nvGrpSpPr>
        <p:grpSpPr>
          <a:xfrm>
            <a:off x="3220920" y="2514600"/>
            <a:ext cx="3997440" cy="1758960"/>
            <a:chOff x="3220920" y="2514600"/>
            <a:chExt cx="3997440" cy="1758960"/>
          </a:xfrm>
        </p:grpSpPr>
        <p:grpSp>
          <p:nvGrpSpPr>
            <p:cNvPr id="916" name=""/>
            <p:cNvGrpSpPr/>
            <p:nvPr/>
          </p:nvGrpSpPr>
          <p:grpSpPr>
            <a:xfrm>
              <a:off x="3220920" y="2514600"/>
              <a:ext cx="1271880" cy="1373040"/>
              <a:chOff x="3220920" y="2514600"/>
              <a:chExt cx="1271880" cy="1373040"/>
            </a:xfrm>
          </p:grpSpPr>
          <p:sp>
            <p:nvSpPr>
              <p:cNvPr id="917" name=""/>
              <p:cNvSpPr/>
              <p:nvPr/>
            </p:nvSpPr>
            <p:spPr>
              <a:xfrm>
                <a:off x="3631320" y="2514600"/>
                <a:ext cx="316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.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220920" y="3367080"/>
                <a:ext cx="127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429000" y="3457440"/>
                <a:ext cx="725400" cy="428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45080" y="2743200"/>
                <a:ext cx="293400" cy="320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21" name=""/>
              <p:cNvCxnSpPr>
                <a:stCxn id="919" idx="0"/>
                <a:endCxn id="920" idx="3"/>
              </p:cNvCxnSpPr>
              <p:nvPr/>
            </p:nvCxnSpPr>
            <p:spPr>
              <a:xfrm flipV="1" rot="16200000">
                <a:off x="3569040" y="3233880"/>
                <a:ext cx="442080" cy="5400"/>
              </a:xfrm>
              <a:prstGeom prst="curvedConnector5">
                <a:avLst>
                  <a:gd name="adj1" fmla="val 44580"/>
                  <a:gd name="adj2" fmla="val 50000"/>
                  <a:gd name="adj3" fmla="val 44580"/>
                </a:avLst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922" name=""/>
            <p:cNvGrpSpPr/>
            <p:nvPr/>
          </p:nvGrpSpPr>
          <p:grpSpPr>
            <a:xfrm>
              <a:off x="5791320" y="2803680"/>
              <a:ext cx="1427040" cy="1469880"/>
              <a:chOff x="5791320" y="2803680"/>
              <a:chExt cx="1427040" cy="1469880"/>
            </a:xfrm>
          </p:grpSpPr>
          <p:sp>
            <p:nvSpPr>
              <p:cNvPr id="923" name=""/>
              <p:cNvSpPr/>
              <p:nvPr/>
            </p:nvSpPr>
            <p:spPr>
              <a:xfrm>
                <a:off x="5946480" y="3753000"/>
                <a:ext cx="127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x 1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324480" y="3762360"/>
                <a:ext cx="725760" cy="428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791320" y="2803680"/>
                <a:ext cx="293400" cy="320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26" name=""/>
              <p:cNvCxnSpPr>
                <a:stCxn id="924" idx="0"/>
                <a:endCxn id="925" idx="6"/>
              </p:cNvCxnSpPr>
              <p:nvPr/>
            </p:nvCxnSpPr>
            <p:spPr>
              <a:xfrm flipV="1" rot="16200000">
                <a:off x="5987160" y="3061080"/>
                <a:ext cx="799200" cy="603720"/>
              </a:xfrm>
              <a:prstGeom prst="curvedConnector2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927" name=""/>
          <p:cNvGrpSpPr/>
          <p:nvPr/>
        </p:nvGrpSpPr>
        <p:grpSpPr>
          <a:xfrm>
            <a:off x="2743200" y="5097600"/>
            <a:ext cx="3641760" cy="703440"/>
            <a:chOff x="2743200" y="5097600"/>
            <a:chExt cx="3641760" cy="703440"/>
          </a:xfrm>
        </p:grpSpPr>
        <p:sp>
          <p:nvSpPr>
            <p:cNvPr id="928" name=""/>
            <p:cNvSpPr/>
            <p:nvPr/>
          </p:nvSpPr>
          <p:spPr>
            <a:xfrm>
              <a:off x="2743200" y="5097600"/>
              <a:ext cx="2649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37)7642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505320" y="5168880"/>
              <a:ext cx="287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5172480" y="5097600"/>
            <a:ext cx="118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953520" y="4556160"/>
            <a:ext cx="23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065.4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48400" y="2787480"/>
            <a:ext cx="32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to sto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9480" y="35784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 will often say            “Round to nearest hundredth,”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095560" y="491796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065.405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2065.4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095560" y="56833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nearest hundred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2590920" y="1424160"/>
            <a:ext cx="3925440" cy="1244520"/>
            <a:chOff x="2590920" y="1424160"/>
            <a:chExt cx="3925440" cy="1244520"/>
          </a:xfrm>
        </p:grpSpPr>
        <p:grpSp>
          <p:nvGrpSpPr>
            <p:cNvPr id="938" name=""/>
            <p:cNvGrpSpPr/>
            <p:nvPr/>
          </p:nvGrpSpPr>
          <p:grpSpPr>
            <a:xfrm>
              <a:off x="2590920" y="1965240"/>
              <a:ext cx="3641760" cy="703440"/>
              <a:chOff x="2590920" y="1965240"/>
              <a:chExt cx="3641760" cy="703440"/>
            </a:xfrm>
          </p:grpSpPr>
          <p:sp>
            <p:nvSpPr>
              <p:cNvPr id="939" name=""/>
              <p:cNvSpPr/>
              <p:nvPr/>
            </p:nvSpPr>
            <p:spPr>
              <a:xfrm>
                <a:off x="2590920" y="1965240"/>
                <a:ext cx="2649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37)76420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353040" y="2036160"/>
                <a:ext cx="287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5020200" y="1965240"/>
              <a:ext cx="118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.00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772440" y="1424160"/>
              <a:ext cx="274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2065.405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12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286000"/>
            <a:ext cx="556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e decimal numbers by decimal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ress square roots as decimal approx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7002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6095880" y="1523880"/>
            <a:ext cx="2621160" cy="487692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 txBox="1"/>
          <p:nvPr/>
        </p:nvSpPr>
        <p:spPr>
          <a:xfrm>
            <a:off x="1371600" y="1600200"/>
            <a:ext cx="58672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quare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Roots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45" name=""/>
          <p:cNvSpPr/>
          <p:nvPr/>
        </p:nvSpPr>
        <p:spPr>
          <a:xfrm>
            <a:off x="822240" y="16048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503880" y="2556000"/>
            <a:ext cx="219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34400" y="3851280"/>
            <a:ext cx="19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9 =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99080" y="3851280"/>
            <a:ext cx="228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 =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95200" y="5238720"/>
            <a:ext cx="49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etween 3 and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30360" y="1504800"/>
            <a:ext cx="611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nding square ro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3473640" y="1447920"/>
            <a:ext cx="219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21120" y="5653080"/>
            <a:ext cx="120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33520" y="230652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ry 3.5 x 3.5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123880" y="2308320"/>
            <a:ext cx="17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2.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938280" y="2308320"/>
            <a:ext cx="154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25720" y="3138480"/>
            <a:ext cx="339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.2 x 3.2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284080" y="3138480"/>
            <a:ext cx="17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.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63560" y="3976560"/>
            <a:ext cx="391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.15 x 3.15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597280" y="3976560"/>
            <a:ext cx="17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9.9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739880" y="4815000"/>
            <a:ext cx="39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.17 x 3.1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569920" y="4815000"/>
            <a:ext cx="173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.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178640" y="1674720"/>
            <a:ext cx="177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01880" y="1674720"/>
            <a:ext cx="458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.16227766016837933199889354443272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33520" y="409896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n-repeating decimal sequence goes on forev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3520" y="54100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usually approxim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1178640" y="1674720"/>
            <a:ext cx="177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801880" y="1674720"/>
            <a:ext cx="458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3.16227766016837933199889354443272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133720" y="4692600"/>
            <a:ext cx="4952880" cy="1328400"/>
            <a:chOff x="2133720" y="4692600"/>
            <a:chExt cx="4952880" cy="1328400"/>
          </a:xfrm>
        </p:grpSpPr>
        <p:sp>
          <p:nvSpPr>
            <p:cNvPr id="974" name=""/>
            <p:cNvSpPr/>
            <p:nvPr/>
          </p:nvSpPr>
          <p:spPr>
            <a:xfrm>
              <a:off x="2921400" y="4692600"/>
              <a:ext cx="3278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√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10 </a:t>
              </a:r>
              <a:r>
                <a:rPr b="0" lang="en-US" sz="4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</a:t>
              </a:r>
              <a:r>
                <a:rPr b="0" lang="en-US" sz="48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3.1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133720" y="5378400"/>
              <a:ext cx="495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to nearest hundredt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4267080" y="4159080"/>
            <a:ext cx="3657600" cy="1371600"/>
            <a:chOff x="4267080" y="4159080"/>
            <a:chExt cx="3657600" cy="1371600"/>
          </a:xfrm>
        </p:grpSpPr>
        <p:sp>
          <p:nvSpPr>
            <p:cNvPr id="977" name=""/>
            <p:cNvSpPr/>
            <p:nvPr/>
          </p:nvSpPr>
          <p:spPr>
            <a:xfrm>
              <a:off x="4267080" y="4997160"/>
              <a:ext cx="457200" cy="533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800600" y="4159080"/>
              <a:ext cx="31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pproximatel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952880" y="4159080"/>
              <a:ext cx="2667240" cy="579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0" name=""/>
            <p:cNvCxnSpPr>
              <a:stCxn id="979" idx="2"/>
              <a:endCxn id="977" idx="0"/>
            </p:cNvCxnSpPr>
            <p:nvPr/>
          </p:nvCxnSpPr>
          <p:spPr>
            <a:xfrm flipV="1" rot="10800000">
              <a:off x="4494960" y="4448520"/>
              <a:ext cx="457920" cy="5482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dissolve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676520" y="14479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rrational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533520" y="2467080"/>
            <a:ext cx="8153280" cy="1649520"/>
            <a:chOff x="533520" y="2467080"/>
            <a:chExt cx="8153280" cy="1649520"/>
          </a:xfrm>
        </p:grpSpPr>
        <p:sp>
          <p:nvSpPr>
            <p:cNvPr id="984" name=""/>
            <p:cNvSpPr/>
            <p:nvPr/>
          </p:nvSpPr>
          <p:spPr>
            <a:xfrm>
              <a:off x="533520" y="2803680"/>
              <a:ext cx="8153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Can’t be written in the form    , where a &amp; b are integers (b </a:t>
              </a: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 0)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7387920" y="2467080"/>
              <a:ext cx="536760" cy="1207800"/>
              <a:chOff x="7387920" y="2467080"/>
              <a:chExt cx="536760" cy="1207800"/>
            </a:xfrm>
          </p:grpSpPr>
          <p:sp>
            <p:nvSpPr>
              <p:cNvPr id="986" name=""/>
              <p:cNvSpPr/>
              <p:nvPr/>
            </p:nvSpPr>
            <p:spPr>
              <a:xfrm>
                <a:off x="7400520" y="2467080"/>
                <a:ext cx="43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387920" y="3032280"/>
                <a:ext cx="46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391520" y="304956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9" name=""/>
          <p:cNvSpPr/>
          <p:nvPr/>
        </p:nvSpPr>
        <p:spPr>
          <a:xfrm>
            <a:off x="1981080" y="478476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0 is irratio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447920" y="14479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Estimating Square Ro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38080" y="242244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wton’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114800" y="24382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) Gu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114800" y="32608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) Div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114800" y="40989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) Ave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666880" y="4937040"/>
            <a:ext cx="5105520" cy="1082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114800" y="2438280"/>
            <a:ext cx="609480" cy="70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905120" y="2788560"/>
            <a:ext cx="5410080" cy="3461400"/>
            <a:chOff x="1905120" y="2788560"/>
            <a:chExt cx="5410080" cy="3461400"/>
          </a:xfrm>
        </p:grpSpPr>
        <p:sp>
          <p:nvSpPr>
            <p:cNvPr id="999" name=""/>
            <p:cNvSpPr/>
            <p:nvPr/>
          </p:nvSpPr>
          <p:spPr>
            <a:xfrm>
              <a:off x="1905120" y="4937040"/>
              <a:ext cx="5410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Average = new guess Go to 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0" name=""/>
            <p:cNvCxnSpPr>
              <a:stCxn id="996" idx="1"/>
              <a:endCxn id="997" idx="2"/>
            </p:cNvCxnSpPr>
            <p:nvPr/>
          </p:nvCxnSpPr>
          <p:spPr>
            <a:xfrm flipH="1" flipV="1" rot="5400000">
              <a:off x="2611080" y="3591720"/>
              <a:ext cx="2307240" cy="7009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pull dir="l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3723480" y="1447920"/>
            <a:ext cx="184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7 =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523880" y="259092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 • 2 =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105520" y="2590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 • 3 =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367200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Guess 2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3276720" y="4586400"/>
            <a:ext cx="2743200" cy="1510920"/>
            <a:chOff x="3276720" y="4586400"/>
            <a:chExt cx="2743200" cy="1510920"/>
          </a:xfrm>
        </p:grpSpPr>
        <p:sp>
          <p:nvSpPr>
            <p:cNvPr id="1007" name=""/>
            <p:cNvSpPr/>
            <p:nvPr/>
          </p:nvSpPr>
          <p:spPr>
            <a:xfrm>
              <a:off x="3276720" y="5272200"/>
              <a:ext cx="2743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2.5)7.0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419720" y="53341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514400" y="4586400"/>
              <a:ext cx="1041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2.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4107240" y="1447920"/>
            <a:ext cx="91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990720" y="2514600"/>
            <a:ext cx="71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verage (2.5 + 2.8)/2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514600" y="36720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5.3/2 = 2.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2971800" y="4662360"/>
            <a:ext cx="3200400" cy="1434960"/>
            <a:chOff x="2971800" y="4662360"/>
            <a:chExt cx="3200400" cy="1434960"/>
          </a:xfrm>
        </p:grpSpPr>
        <p:sp>
          <p:nvSpPr>
            <p:cNvPr id="1015" name=""/>
            <p:cNvSpPr/>
            <p:nvPr/>
          </p:nvSpPr>
          <p:spPr>
            <a:xfrm>
              <a:off x="2971800" y="5272200"/>
              <a:ext cx="3200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2.65)7.0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495680" y="541008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601880" y="4662360"/>
              <a:ext cx="139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2.6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4107240" y="1447920"/>
            <a:ext cx="91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2120" y="251460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verage (2.65 + 2.64)/2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286000" y="36720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5.29/2 = 2.6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173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228600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scientific notation to express very small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7002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4107240" y="1447920"/>
            <a:ext cx="91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219320" y="25146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.645 x 2.645 = 6.99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209680" y="376236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tty clos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894400" y="4967280"/>
            <a:ext cx="327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US" sz="48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 2.6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828800" y="144792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se a calcul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38480" y="289548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ter number, press          ke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62720" y="3581280"/>
            <a:ext cx="114300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1" name="" descr=""/>
          <p:cNvPicPr/>
          <p:nvPr/>
        </p:nvPicPr>
        <p:blipFill>
          <a:blip r:embed="rId1"/>
          <a:stretch/>
        </p:blipFill>
        <p:spPr>
          <a:xfrm>
            <a:off x="-685800" y="2327400"/>
            <a:ext cx="5467320" cy="3757320"/>
          </a:xfrm>
          <a:prstGeom prst="rect">
            <a:avLst/>
          </a:prstGeom>
          <a:ln w="0">
            <a:noFill/>
          </a:ln>
        </p:spPr>
      </p:pic>
      <p:sp>
        <p:nvSpPr>
          <p:cNvPr id="1032" name=""/>
          <p:cNvSpPr/>
          <p:nvPr/>
        </p:nvSpPr>
        <p:spPr>
          <a:xfrm>
            <a:off x="1066680" y="3794040"/>
            <a:ext cx="457200" cy="4730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238560" y="45720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01 • 3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3253680" y="1447920"/>
            <a:ext cx="2635920" cy="825120"/>
            <a:chOff x="3253680" y="1447920"/>
            <a:chExt cx="2635920" cy="825120"/>
          </a:xfrm>
        </p:grpSpPr>
        <p:sp>
          <p:nvSpPr>
            <p:cNvPr id="1036" name=""/>
            <p:cNvSpPr/>
            <p:nvPr/>
          </p:nvSpPr>
          <p:spPr>
            <a:xfrm>
              <a:off x="3253680" y="1447920"/>
              <a:ext cx="2635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√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0009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628800" y="1600200"/>
              <a:ext cx="1676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2895480" y="2590920"/>
            <a:ext cx="3352680" cy="825120"/>
            <a:chOff x="2895480" y="2590920"/>
            <a:chExt cx="3352680" cy="825120"/>
          </a:xfrm>
        </p:grpSpPr>
        <p:sp>
          <p:nvSpPr>
            <p:cNvPr id="1039" name=""/>
            <p:cNvSpPr/>
            <p:nvPr/>
          </p:nvSpPr>
          <p:spPr>
            <a:xfrm>
              <a:off x="2895480" y="2590920"/>
              <a:ext cx="3352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√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0001•9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352680" y="2743200"/>
              <a:ext cx="2438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2590920" y="3657600"/>
            <a:ext cx="3962160" cy="825120"/>
            <a:chOff x="2590920" y="3657600"/>
            <a:chExt cx="3962160" cy="825120"/>
          </a:xfrm>
        </p:grpSpPr>
        <p:sp>
          <p:nvSpPr>
            <p:cNvPr id="1042" name=""/>
            <p:cNvSpPr/>
            <p:nvPr/>
          </p:nvSpPr>
          <p:spPr>
            <a:xfrm>
              <a:off x="2590920" y="3657600"/>
              <a:ext cx="396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√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0001 • √9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48120" y="3810240"/>
              <a:ext cx="160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" name=""/>
          <p:cNvSpPr/>
          <p:nvPr/>
        </p:nvSpPr>
        <p:spPr>
          <a:xfrm>
            <a:off x="3924360" y="5553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0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quare Ro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33520" y="501336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quare root has ½ the number of decimal places if not irration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3414240" y="1447920"/>
            <a:ext cx="2287080" cy="825120"/>
            <a:chOff x="3414240" y="1447920"/>
            <a:chExt cx="2287080" cy="825120"/>
          </a:xfrm>
        </p:grpSpPr>
        <p:sp>
          <p:nvSpPr>
            <p:cNvPr id="1048" name=""/>
            <p:cNvSpPr/>
            <p:nvPr/>
          </p:nvSpPr>
          <p:spPr>
            <a:xfrm>
              <a:off x="3414240" y="1447920"/>
              <a:ext cx="2287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√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009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00520" y="1600200"/>
              <a:ext cx="1676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2590920" y="40528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.03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1219320" y="2971800"/>
            <a:ext cx="6781680" cy="825120"/>
            <a:chOff x="1219320" y="2971800"/>
            <a:chExt cx="6781680" cy="825120"/>
          </a:xfrm>
        </p:grpSpPr>
        <p:sp>
          <p:nvSpPr>
            <p:cNvPr id="1052" name=""/>
            <p:cNvSpPr/>
            <p:nvPr/>
          </p:nvSpPr>
          <p:spPr>
            <a:xfrm>
              <a:off x="1219320" y="2971800"/>
              <a:ext cx="6781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√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.001•9 = √.001 • √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057400" y="3124080"/>
              <a:ext cx="1828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876920" y="312408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4114800" y="40528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81480" y="40528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.09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4648320" y="2270160"/>
            <a:ext cx="3429000" cy="1311120"/>
            <a:chOff x="4648320" y="2270160"/>
            <a:chExt cx="3429000" cy="1311120"/>
          </a:xfrm>
        </p:grpSpPr>
        <p:sp>
          <p:nvSpPr>
            <p:cNvPr id="1058" name=""/>
            <p:cNvSpPr/>
            <p:nvPr/>
          </p:nvSpPr>
          <p:spPr>
            <a:xfrm>
              <a:off x="4648320" y="2971800"/>
              <a:ext cx="198108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981760" y="227016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irratio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019920" y="2271600"/>
              <a:ext cx="2057400" cy="577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1" name=""/>
            <p:cNvCxnSpPr>
              <a:stCxn id="1060" idx="2"/>
              <a:endCxn id="1058" idx="0"/>
            </p:cNvCxnSpPr>
            <p:nvPr/>
          </p:nvCxnSpPr>
          <p:spPr>
            <a:xfrm flipV="1" rot="10800000">
              <a:off x="5638320" y="2560320"/>
              <a:ext cx="381600" cy="4118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wipe dir="r"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421000" cy="434160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 txBox="1"/>
          <p:nvPr/>
        </p:nvSpPr>
        <p:spPr>
          <a:xfrm>
            <a:off x="990720" y="1523880"/>
            <a:ext cx="72388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ivision of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cientific Notation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1828800" y="7002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sion of 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1828800" y="7002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sion of 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0880" y="2025720"/>
            <a:ext cx="8382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istance from Earth to Alpha Centauri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362320" y="2787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1,200,000,000 k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895480" y="3549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.12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k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7200" y="4343400"/>
            <a:ext cx="8305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n use for very large numb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about very small numb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0" dur="500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5" dur="500"/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2133720" y="1371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ction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209680" y="125748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80880" y="1371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3453120" y="1905120"/>
            <a:ext cx="788760" cy="977760"/>
            <a:chOff x="3453120" y="1905120"/>
            <a:chExt cx="788760" cy="977760"/>
          </a:xfrm>
        </p:grpSpPr>
        <p:sp>
          <p:nvSpPr>
            <p:cNvPr id="1075" name=""/>
            <p:cNvSpPr/>
            <p:nvPr/>
          </p:nvSpPr>
          <p:spPr>
            <a:xfrm>
              <a:off x="3453120" y="190512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55440" y="2362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471840" y="2376720"/>
              <a:ext cx="76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6657120" y="207180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3555360" y="2819520"/>
            <a:ext cx="586080" cy="991800"/>
            <a:chOff x="3555360" y="2819520"/>
            <a:chExt cx="586080" cy="991800"/>
          </a:xfrm>
        </p:grpSpPr>
        <p:sp>
          <p:nvSpPr>
            <p:cNvPr id="1081" name=""/>
            <p:cNvSpPr/>
            <p:nvPr/>
          </p:nvSpPr>
          <p:spPr>
            <a:xfrm>
              <a:off x="3555360" y="28195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55800" y="3290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581640" y="3290760"/>
              <a:ext cx="5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6658200" y="29941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3644640" y="3733920"/>
            <a:ext cx="385920" cy="991800"/>
            <a:chOff x="3644640" y="3733920"/>
            <a:chExt cx="385920" cy="991800"/>
          </a:xfrm>
        </p:grpSpPr>
        <p:sp>
          <p:nvSpPr>
            <p:cNvPr id="1087" name=""/>
            <p:cNvSpPr/>
            <p:nvPr/>
          </p:nvSpPr>
          <p:spPr>
            <a:xfrm>
              <a:off x="3644640" y="3733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644640" y="4205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678480" y="4205160"/>
              <a:ext cx="35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6657120" y="39085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57200" y="47242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3555360" y="4648320"/>
            <a:ext cx="586080" cy="991800"/>
            <a:chOff x="3555360" y="4648320"/>
            <a:chExt cx="586080" cy="991800"/>
          </a:xfrm>
        </p:grpSpPr>
        <p:sp>
          <p:nvSpPr>
            <p:cNvPr id="1093" name=""/>
            <p:cNvSpPr/>
            <p:nvPr/>
          </p:nvSpPr>
          <p:spPr>
            <a:xfrm>
              <a:off x="3655800" y="4648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555360" y="51195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96040" y="5119560"/>
              <a:ext cx="52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457200" y="56386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3452760" y="5562720"/>
            <a:ext cx="788760" cy="977760"/>
            <a:chOff x="3452760" y="5562720"/>
            <a:chExt cx="788760" cy="977760"/>
          </a:xfrm>
        </p:grpSpPr>
        <p:sp>
          <p:nvSpPr>
            <p:cNvPr id="1098" name=""/>
            <p:cNvSpPr/>
            <p:nvPr/>
          </p:nvSpPr>
          <p:spPr>
            <a:xfrm>
              <a:off x="3655440" y="5562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52760" y="601992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3485880" y="6019920"/>
              <a:ext cx="75096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6615360" y="4822920"/>
            <a:ext cx="9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616080" y="5729400"/>
            <a:ext cx="9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410080" y="129528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257800" y="1371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nenti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12160" y="20718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943200" y="29941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074240" y="39085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013040" y="482292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882000" y="57294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828800" y="7002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sion of 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2209680" y="1257480"/>
            <a:ext cx="0" cy="51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3627360" y="1905120"/>
            <a:ext cx="439920" cy="977760"/>
            <a:chOff x="3627360" y="1905120"/>
            <a:chExt cx="439920" cy="977760"/>
          </a:xfrm>
        </p:grpSpPr>
        <p:sp>
          <p:nvSpPr>
            <p:cNvPr id="1114" name=""/>
            <p:cNvSpPr/>
            <p:nvPr/>
          </p:nvSpPr>
          <p:spPr>
            <a:xfrm>
              <a:off x="3650760" y="1905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52560" y="2362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27360" y="2376360"/>
              <a:ext cx="43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6657120" y="207180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3550320" y="2819520"/>
            <a:ext cx="586080" cy="991800"/>
            <a:chOff x="3550320" y="2819520"/>
            <a:chExt cx="586080" cy="991800"/>
          </a:xfrm>
        </p:grpSpPr>
        <p:sp>
          <p:nvSpPr>
            <p:cNvPr id="1120" name=""/>
            <p:cNvSpPr/>
            <p:nvPr/>
          </p:nvSpPr>
          <p:spPr>
            <a:xfrm>
              <a:off x="3650400" y="2819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550320" y="32907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584160" y="3290760"/>
              <a:ext cx="5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6615360" y="2994120"/>
            <a:ext cx="9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57200" y="38098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3452760" y="3733920"/>
            <a:ext cx="788760" cy="991800"/>
            <a:chOff x="3452760" y="3733920"/>
            <a:chExt cx="788760" cy="991800"/>
          </a:xfrm>
        </p:grpSpPr>
        <p:sp>
          <p:nvSpPr>
            <p:cNvPr id="1126" name=""/>
            <p:cNvSpPr/>
            <p:nvPr/>
          </p:nvSpPr>
          <p:spPr>
            <a:xfrm>
              <a:off x="3655440" y="3733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452760" y="4205160"/>
              <a:ext cx="78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471480" y="4205160"/>
              <a:ext cx="76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6616080" y="3908520"/>
            <a:ext cx="9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7200" y="47242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3352320" y="4648320"/>
            <a:ext cx="994320" cy="991800"/>
            <a:chOff x="3352320" y="4648320"/>
            <a:chExt cx="994320" cy="991800"/>
          </a:xfrm>
        </p:grpSpPr>
        <p:sp>
          <p:nvSpPr>
            <p:cNvPr id="1132" name=""/>
            <p:cNvSpPr/>
            <p:nvPr/>
          </p:nvSpPr>
          <p:spPr>
            <a:xfrm>
              <a:off x="3655800" y="4648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352320" y="511956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378240" y="5119560"/>
              <a:ext cx="96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457200" y="56386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3202920" y="5562720"/>
            <a:ext cx="1300320" cy="977760"/>
            <a:chOff x="3202920" y="5562720"/>
            <a:chExt cx="1300320" cy="977760"/>
          </a:xfrm>
        </p:grpSpPr>
        <p:sp>
          <p:nvSpPr>
            <p:cNvPr id="1137" name=""/>
            <p:cNvSpPr/>
            <p:nvPr/>
          </p:nvSpPr>
          <p:spPr>
            <a:xfrm>
              <a:off x="3655440" y="55627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202920" y="6019920"/>
              <a:ext cx="128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3219480" y="6019560"/>
              <a:ext cx="128376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6616080" y="4822920"/>
            <a:ext cx="9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616080" y="5729400"/>
            <a:ext cx="9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410080" y="129528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091520" y="20718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030680" y="299412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901080" y="390852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0040" y="4822920"/>
            <a:ext cx="10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39000" y="572940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0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133720" y="1371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ction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80880" y="1371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57800" y="1371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nenti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828800" y="7002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sion of 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/>
          <p:nvPr/>
        </p:nvSpPr>
        <p:spPr>
          <a:xfrm>
            <a:off x="533520" y="1447920"/>
            <a:ext cx="8001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</a:rPr>
              <a:t>Can use negative exponents to express values less than 1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048120" y="33526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. 0 0 0 3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2819520" y="3352680"/>
            <a:ext cx="3733560" cy="2273040"/>
            <a:chOff x="2819520" y="3352680"/>
            <a:chExt cx="3733560" cy="2273040"/>
          </a:xfrm>
        </p:grpSpPr>
        <p:sp>
          <p:nvSpPr>
            <p:cNvPr id="1155" name=""/>
            <p:cNvSpPr/>
            <p:nvPr/>
          </p:nvSpPr>
          <p:spPr>
            <a:xfrm>
              <a:off x="2819520" y="4800600"/>
              <a:ext cx="3429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3.8 x 10</a:t>
              </a:r>
              <a:r>
                <a:rPr b="0" lang="en-US" sz="4800" spc="-1" strike="noStrike" baseline="30000">
                  <a:solidFill>
                    <a:srgbClr val="0000ff"/>
                  </a:solidFill>
                  <a:latin typeface="Comic Sans MS"/>
                </a:rPr>
                <a:t>-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943600" y="3352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3275640" y="3873600"/>
            <a:ext cx="913680" cy="626400"/>
            <a:chOff x="3275640" y="3873600"/>
            <a:chExt cx="913680" cy="626400"/>
          </a:xfrm>
        </p:grpSpPr>
        <p:sp>
          <p:nvSpPr>
            <p:cNvPr id="1158" name=""/>
            <p:cNvSpPr/>
            <p:nvPr/>
          </p:nvSpPr>
          <p:spPr>
            <a:xfrm>
              <a:off x="3275640" y="4040280"/>
              <a:ext cx="6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75160" y="3873600"/>
              <a:ext cx="614160" cy="13320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3976920" y="3886200"/>
            <a:ext cx="685080" cy="613800"/>
            <a:chOff x="3976920" y="3886200"/>
            <a:chExt cx="685080" cy="613800"/>
          </a:xfrm>
        </p:grpSpPr>
        <p:sp>
          <p:nvSpPr>
            <p:cNvPr id="1161" name=""/>
            <p:cNvSpPr/>
            <p:nvPr/>
          </p:nvSpPr>
          <p:spPr>
            <a:xfrm>
              <a:off x="3976920" y="4040280"/>
              <a:ext cx="6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91120" y="3886200"/>
              <a:ext cx="457200" cy="13320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4634280" y="3886200"/>
            <a:ext cx="685080" cy="612000"/>
            <a:chOff x="4634280" y="3886200"/>
            <a:chExt cx="685080" cy="612000"/>
          </a:xfrm>
        </p:grpSpPr>
        <p:sp>
          <p:nvSpPr>
            <p:cNvPr id="1164" name=""/>
            <p:cNvSpPr/>
            <p:nvPr/>
          </p:nvSpPr>
          <p:spPr>
            <a:xfrm>
              <a:off x="4634280" y="4038480"/>
              <a:ext cx="6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648320" y="3886200"/>
              <a:ext cx="457200" cy="13320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5105520" y="3352680"/>
            <a:ext cx="899640" cy="1145520"/>
            <a:chOff x="5105520" y="3352680"/>
            <a:chExt cx="899640" cy="1145520"/>
          </a:xfrm>
        </p:grpSpPr>
        <p:sp>
          <p:nvSpPr>
            <p:cNvPr id="1167" name=""/>
            <p:cNvSpPr/>
            <p:nvPr/>
          </p:nvSpPr>
          <p:spPr>
            <a:xfrm>
              <a:off x="5320080" y="4038480"/>
              <a:ext cx="6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401440" y="3352680"/>
              <a:ext cx="31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105520" y="3886200"/>
              <a:ext cx="457200" cy="13320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>
            <a:off x="1828800" y="7002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sion of 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2286000" y="14479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ameter of a h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523880" y="22860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londe: 0. 0 0 0 6 6 7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3886200" y="2835360"/>
            <a:ext cx="614520" cy="613800"/>
            <a:chOff x="3886200" y="2835360"/>
            <a:chExt cx="614520" cy="613800"/>
          </a:xfrm>
        </p:grpSpPr>
        <p:sp>
          <p:nvSpPr>
            <p:cNvPr id="1174" name=""/>
            <p:cNvSpPr/>
            <p:nvPr/>
          </p:nvSpPr>
          <p:spPr>
            <a:xfrm>
              <a:off x="3949200" y="2989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886200" y="2835360"/>
              <a:ext cx="614520" cy="13320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4442040" y="2835360"/>
            <a:ext cx="510840" cy="613800"/>
            <a:chOff x="4442040" y="2835360"/>
            <a:chExt cx="510840" cy="613800"/>
          </a:xfrm>
        </p:grpSpPr>
        <p:sp>
          <p:nvSpPr>
            <p:cNvPr id="1177" name=""/>
            <p:cNvSpPr/>
            <p:nvPr/>
          </p:nvSpPr>
          <p:spPr>
            <a:xfrm>
              <a:off x="4442040" y="2989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495680" y="2835360"/>
              <a:ext cx="457200" cy="13320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52880" y="2835360"/>
            <a:ext cx="474480" cy="612000"/>
            <a:chOff x="4952880" y="2835360"/>
            <a:chExt cx="474480" cy="612000"/>
          </a:xfrm>
        </p:grpSpPr>
        <p:sp>
          <p:nvSpPr>
            <p:cNvPr id="1180" name=""/>
            <p:cNvSpPr/>
            <p:nvPr/>
          </p:nvSpPr>
          <p:spPr>
            <a:xfrm>
              <a:off x="4975200" y="29876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52880" y="2835360"/>
              <a:ext cx="457200" cy="13320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410080" y="2286000"/>
            <a:ext cx="618840" cy="1161360"/>
            <a:chOff x="5410080" y="2286000"/>
            <a:chExt cx="618840" cy="1161360"/>
          </a:xfrm>
        </p:grpSpPr>
        <p:sp>
          <p:nvSpPr>
            <p:cNvPr id="1183" name=""/>
            <p:cNvSpPr/>
            <p:nvPr/>
          </p:nvSpPr>
          <p:spPr>
            <a:xfrm>
              <a:off x="5432400" y="29876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12480" y="2286000"/>
              <a:ext cx="31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410080" y="2835360"/>
              <a:ext cx="457200" cy="13320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2819520" y="3581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6.67 x 10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-4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905120" y="441972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lack: 0. 0 0 2 2 2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819520" y="56991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.22 x 10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-3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38480" y="4971960"/>
            <a:ext cx="614520" cy="593280"/>
            <a:chOff x="4038480" y="4971960"/>
            <a:chExt cx="614520" cy="593280"/>
          </a:xfrm>
        </p:grpSpPr>
        <p:sp>
          <p:nvSpPr>
            <p:cNvPr id="1190" name=""/>
            <p:cNvSpPr/>
            <p:nvPr/>
          </p:nvSpPr>
          <p:spPr>
            <a:xfrm>
              <a:off x="4038480" y="4971960"/>
              <a:ext cx="614520" cy="13356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01480" y="5105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4594320" y="4971960"/>
            <a:ext cx="511200" cy="593280"/>
            <a:chOff x="4594320" y="4971960"/>
            <a:chExt cx="511200" cy="593280"/>
          </a:xfrm>
        </p:grpSpPr>
        <p:sp>
          <p:nvSpPr>
            <p:cNvPr id="1193" name=""/>
            <p:cNvSpPr/>
            <p:nvPr/>
          </p:nvSpPr>
          <p:spPr>
            <a:xfrm>
              <a:off x="4648320" y="4971960"/>
              <a:ext cx="457200" cy="13356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594320" y="5105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5105520" y="4419720"/>
            <a:ext cx="612360" cy="1143720"/>
            <a:chOff x="5105520" y="4419720"/>
            <a:chExt cx="612360" cy="1143720"/>
          </a:xfrm>
        </p:grpSpPr>
        <p:sp>
          <p:nvSpPr>
            <p:cNvPr id="1196" name=""/>
            <p:cNvSpPr/>
            <p:nvPr/>
          </p:nvSpPr>
          <p:spPr>
            <a:xfrm>
              <a:off x="5105520" y="4971960"/>
              <a:ext cx="457200" cy="13356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401440" y="4419720"/>
              <a:ext cx="31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127840" y="510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1828800" y="7002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sion of 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0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1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234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228600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ide monomials containing decimal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7002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2743200" y="144792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in of S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981080" y="228600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mall: 0. 0 0 1 9 5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3949200" y="2835360"/>
            <a:ext cx="703800" cy="613800"/>
            <a:chOff x="3949200" y="2835360"/>
            <a:chExt cx="703800" cy="613800"/>
          </a:xfrm>
        </p:grpSpPr>
        <p:sp>
          <p:nvSpPr>
            <p:cNvPr id="1203" name=""/>
            <p:cNvSpPr/>
            <p:nvPr/>
          </p:nvSpPr>
          <p:spPr>
            <a:xfrm>
              <a:off x="3949200" y="2989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038480" y="2835360"/>
              <a:ext cx="614520" cy="13320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4442040" y="2835360"/>
            <a:ext cx="663480" cy="613800"/>
            <a:chOff x="4442040" y="2835360"/>
            <a:chExt cx="663480" cy="613800"/>
          </a:xfrm>
        </p:grpSpPr>
        <p:sp>
          <p:nvSpPr>
            <p:cNvPr id="1206" name=""/>
            <p:cNvSpPr/>
            <p:nvPr/>
          </p:nvSpPr>
          <p:spPr>
            <a:xfrm>
              <a:off x="4442040" y="2989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8320" y="2835360"/>
              <a:ext cx="457200" cy="13320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4975200" y="2286000"/>
            <a:ext cx="742680" cy="1161360"/>
            <a:chOff x="4975200" y="2286000"/>
            <a:chExt cx="742680" cy="1161360"/>
          </a:xfrm>
        </p:grpSpPr>
        <p:grpSp>
          <p:nvGrpSpPr>
            <p:cNvPr id="1209" name=""/>
            <p:cNvGrpSpPr/>
            <p:nvPr/>
          </p:nvGrpSpPr>
          <p:grpSpPr>
            <a:xfrm>
              <a:off x="4975200" y="2835360"/>
              <a:ext cx="587520" cy="612000"/>
              <a:chOff x="4975200" y="2835360"/>
              <a:chExt cx="587520" cy="612000"/>
            </a:xfrm>
          </p:grpSpPr>
          <p:sp>
            <p:nvSpPr>
              <p:cNvPr id="1210" name=""/>
              <p:cNvSpPr/>
              <p:nvPr/>
            </p:nvSpPr>
            <p:spPr>
              <a:xfrm>
                <a:off x="4975200" y="29876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105520" y="2835360"/>
                <a:ext cx="457200" cy="133200"/>
              </a:xfrm>
              <a:custGeom>
                <a:avLst/>
                <a:gdLst/>
                <a:ahLst/>
                <a:rect l="l" t="t" r="r" b="b"/>
                <a:pathLst>
                  <a:path w="387" h="84">
                    <a:moveTo>
                      <a:pt x="0" y="0"/>
                    </a:moveTo>
                    <a:cubicBezTo>
                      <a:pt x="94" y="72"/>
                      <a:pt x="113" y="73"/>
                      <a:pt x="241" y="84"/>
                    </a:cubicBezTo>
                    <a:cubicBezTo>
                      <a:pt x="277" y="76"/>
                      <a:pt x="387" y="62"/>
                      <a:pt x="387" y="11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2" name=""/>
            <p:cNvSpPr/>
            <p:nvPr/>
          </p:nvSpPr>
          <p:spPr>
            <a:xfrm>
              <a:off x="5401440" y="2286000"/>
              <a:ext cx="31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2819520" y="35812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1.95 x 10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-3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05120" y="441972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arge: 0. 0 7 8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819520" y="56991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7.8 x 10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-2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4038480" y="4971960"/>
            <a:ext cx="614520" cy="593280"/>
            <a:chOff x="4038480" y="4971960"/>
            <a:chExt cx="614520" cy="593280"/>
          </a:xfrm>
        </p:grpSpPr>
        <p:sp>
          <p:nvSpPr>
            <p:cNvPr id="1217" name=""/>
            <p:cNvSpPr/>
            <p:nvPr/>
          </p:nvSpPr>
          <p:spPr>
            <a:xfrm>
              <a:off x="4038480" y="4971960"/>
              <a:ext cx="614520" cy="13356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101480" y="5105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4594320" y="4419720"/>
            <a:ext cx="672480" cy="1145520"/>
            <a:chOff x="4594320" y="4419720"/>
            <a:chExt cx="672480" cy="1145520"/>
          </a:xfrm>
        </p:grpSpPr>
        <p:sp>
          <p:nvSpPr>
            <p:cNvPr id="1220" name=""/>
            <p:cNvSpPr/>
            <p:nvPr/>
          </p:nvSpPr>
          <p:spPr>
            <a:xfrm>
              <a:off x="4648320" y="4971960"/>
              <a:ext cx="457200" cy="13356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94320" y="5105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950360" y="4419720"/>
              <a:ext cx="31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"/>
          <p:cNvSpPr/>
          <p:nvPr/>
        </p:nvSpPr>
        <p:spPr>
          <a:xfrm>
            <a:off x="1828800" y="7002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sion of 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1981080" y="14479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ameter of an At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523880" y="280044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.000 000 000 006 41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590920" y="48769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6.41 x 10</a:t>
            </a:r>
            <a:r>
              <a:rPr b="0" lang="en-US" sz="4000" spc="-1" strike="noStrike" baseline="30000">
                <a:solidFill>
                  <a:srgbClr val="0000ff"/>
                </a:solidFill>
                <a:latin typeface="Comic Sans MS"/>
              </a:rPr>
              <a:t>-12</a:t>
            </a: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 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2057400" y="2800440"/>
            <a:ext cx="4428720" cy="1544400"/>
            <a:chOff x="2057400" y="2800440"/>
            <a:chExt cx="4428720" cy="1544400"/>
          </a:xfrm>
        </p:grpSpPr>
        <p:sp>
          <p:nvSpPr>
            <p:cNvPr id="1228" name=""/>
            <p:cNvSpPr/>
            <p:nvPr/>
          </p:nvSpPr>
          <p:spPr>
            <a:xfrm>
              <a:off x="2057400" y="3333960"/>
              <a:ext cx="4267080" cy="304560"/>
            </a:xfrm>
            <a:custGeom>
              <a:avLst/>
              <a:gdLst/>
              <a:ahLst/>
              <a:rect l="l" t="t" r="r" b="b"/>
              <a:pathLst>
                <a:path w="387" h="84">
                  <a:moveTo>
                    <a:pt x="0" y="0"/>
                  </a:moveTo>
                  <a:cubicBezTo>
                    <a:pt x="94" y="72"/>
                    <a:pt x="113" y="73"/>
                    <a:pt x="241" y="84"/>
                  </a:cubicBezTo>
                  <a:cubicBezTo>
                    <a:pt x="277" y="76"/>
                    <a:pt x="387" y="62"/>
                    <a:pt x="387" y="1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111120" y="3702240"/>
              <a:ext cx="217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12 plac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69680" y="2800440"/>
              <a:ext cx="31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1828800" y="7002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sion of Scientific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"/>
          <p:cNvGrpSpPr/>
          <p:nvPr/>
        </p:nvGrpSpPr>
        <p:grpSpPr>
          <a:xfrm>
            <a:off x="2286000" y="1536840"/>
            <a:ext cx="4419720" cy="4559040"/>
            <a:chOff x="2286000" y="1536840"/>
            <a:chExt cx="4419720" cy="4559040"/>
          </a:xfrm>
        </p:grpSpPr>
        <p:grpSp>
          <p:nvGrpSpPr>
            <p:cNvPr id="1233" name=""/>
            <p:cNvGrpSpPr/>
            <p:nvPr/>
          </p:nvGrpSpPr>
          <p:grpSpPr>
            <a:xfrm>
              <a:off x="2286000" y="1536840"/>
              <a:ext cx="4419720" cy="4559040"/>
              <a:chOff x="2286000" y="1536840"/>
              <a:chExt cx="4419720" cy="4559040"/>
            </a:xfrm>
          </p:grpSpPr>
          <p:sp>
            <p:nvSpPr>
              <p:cNvPr id="1234" name=""/>
              <p:cNvSpPr/>
              <p:nvPr/>
            </p:nvSpPr>
            <p:spPr>
              <a:xfrm>
                <a:off x="2430000" y="1536840"/>
                <a:ext cx="4245120" cy="4559040"/>
              </a:xfrm>
              <a:custGeom>
                <a:avLst/>
                <a:gdLst/>
                <a:ahLst/>
                <a:rect l="l" t="t" r="r" b="b"/>
                <a:pathLst>
                  <a:path w="3359" h="3544">
                    <a:moveTo>
                      <a:pt x="135" y="761"/>
                    </a:moveTo>
                    <a:lnTo>
                      <a:pt x="906" y="897"/>
                    </a:lnTo>
                    <a:lnTo>
                      <a:pt x="1016" y="55"/>
                    </a:lnTo>
                    <a:lnTo>
                      <a:pt x="1598" y="653"/>
                    </a:lnTo>
                    <a:lnTo>
                      <a:pt x="2966" y="0"/>
                    </a:lnTo>
                    <a:lnTo>
                      <a:pt x="2465" y="1344"/>
                    </a:lnTo>
                    <a:lnTo>
                      <a:pt x="3359" y="1438"/>
                    </a:lnTo>
                    <a:lnTo>
                      <a:pt x="2451" y="2740"/>
                    </a:lnTo>
                    <a:lnTo>
                      <a:pt x="2573" y="3544"/>
                    </a:lnTo>
                    <a:lnTo>
                      <a:pt x="1637" y="2686"/>
                    </a:lnTo>
                    <a:lnTo>
                      <a:pt x="934" y="3512"/>
                    </a:lnTo>
                    <a:lnTo>
                      <a:pt x="799" y="2225"/>
                    </a:lnTo>
                    <a:lnTo>
                      <a:pt x="0" y="2238"/>
                    </a:lnTo>
                    <a:lnTo>
                      <a:pt x="635" y="1276"/>
                    </a:lnTo>
                    <a:lnTo>
                      <a:pt x="135" y="761"/>
                    </a:lnTo>
                    <a:lnTo>
                      <a:pt x="135" y="761"/>
                    </a:ln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286000" y="1743840"/>
                <a:ext cx="4419720" cy="4307040"/>
              </a:xfrm>
              <a:custGeom>
                <a:avLst/>
                <a:gdLst/>
                <a:ahLst/>
                <a:rect l="l" t="t" r="r" b="b"/>
                <a:pathLst>
                  <a:path w="3497" h="3348">
                    <a:moveTo>
                      <a:pt x="0" y="663"/>
                    </a:moveTo>
                    <a:lnTo>
                      <a:pt x="696" y="1908"/>
                    </a:lnTo>
                    <a:lnTo>
                      <a:pt x="249" y="3251"/>
                    </a:lnTo>
                    <a:lnTo>
                      <a:pt x="1357" y="2551"/>
                    </a:lnTo>
                    <a:lnTo>
                      <a:pt x="1980" y="3348"/>
                    </a:lnTo>
                    <a:lnTo>
                      <a:pt x="2330" y="2570"/>
                    </a:lnTo>
                    <a:lnTo>
                      <a:pt x="3302" y="2783"/>
                    </a:lnTo>
                    <a:lnTo>
                      <a:pt x="2972" y="1986"/>
                    </a:lnTo>
                    <a:lnTo>
                      <a:pt x="3497" y="1558"/>
                    </a:lnTo>
                    <a:lnTo>
                      <a:pt x="2953" y="1402"/>
                    </a:lnTo>
                    <a:lnTo>
                      <a:pt x="3458" y="213"/>
                    </a:lnTo>
                    <a:lnTo>
                      <a:pt x="2350" y="721"/>
                    </a:lnTo>
                    <a:lnTo>
                      <a:pt x="1708" y="0"/>
                    </a:lnTo>
                    <a:lnTo>
                      <a:pt x="1474" y="837"/>
                    </a:lnTo>
                    <a:lnTo>
                      <a:pt x="1495" y="1305"/>
                    </a:lnTo>
                    <a:lnTo>
                      <a:pt x="1844" y="605"/>
                    </a:lnTo>
                    <a:lnTo>
                      <a:pt x="2251" y="1148"/>
                    </a:lnTo>
                    <a:lnTo>
                      <a:pt x="2991" y="741"/>
                    </a:lnTo>
                    <a:lnTo>
                      <a:pt x="2601" y="1518"/>
                    </a:lnTo>
                    <a:lnTo>
                      <a:pt x="2953" y="1654"/>
                    </a:lnTo>
                    <a:lnTo>
                      <a:pt x="2623" y="1889"/>
                    </a:lnTo>
                    <a:lnTo>
                      <a:pt x="2817" y="2395"/>
                    </a:lnTo>
                    <a:lnTo>
                      <a:pt x="2156" y="2141"/>
                    </a:lnTo>
                    <a:lnTo>
                      <a:pt x="1921" y="2725"/>
                    </a:lnTo>
                    <a:lnTo>
                      <a:pt x="1495" y="2180"/>
                    </a:lnTo>
                    <a:lnTo>
                      <a:pt x="774" y="2510"/>
                    </a:lnTo>
                    <a:lnTo>
                      <a:pt x="1104" y="1792"/>
                    </a:lnTo>
                    <a:lnTo>
                      <a:pt x="404" y="818"/>
                    </a:lnTo>
                    <a:lnTo>
                      <a:pt x="0" y="663"/>
                    </a:lnTo>
                    <a:lnTo>
                      <a:pt x="0" y="663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306160" y="1818360"/>
                <a:ext cx="2064960" cy="1728720"/>
              </a:xfrm>
              <a:custGeom>
                <a:avLst/>
                <a:gdLst/>
                <a:ahLst/>
                <a:rect l="l" t="t" r="r" b="b"/>
                <a:pathLst>
                  <a:path w="1634" h="1344">
                    <a:moveTo>
                      <a:pt x="0" y="605"/>
                    </a:moveTo>
                    <a:lnTo>
                      <a:pt x="874" y="760"/>
                    </a:lnTo>
                    <a:lnTo>
                      <a:pt x="874" y="0"/>
                    </a:lnTo>
                    <a:lnTo>
                      <a:pt x="1634" y="605"/>
                    </a:lnTo>
                    <a:lnTo>
                      <a:pt x="1497" y="1266"/>
                    </a:lnTo>
                    <a:lnTo>
                      <a:pt x="1088" y="702"/>
                    </a:lnTo>
                    <a:lnTo>
                      <a:pt x="1186" y="1344"/>
                    </a:lnTo>
                    <a:lnTo>
                      <a:pt x="465" y="1053"/>
                    </a:lnTo>
                    <a:lnTo>
                      <a:pt x="0" y="605"/>
                    </a:lnTo>
                    <a:lnTo>
                      <a:pt x="0" y="605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7" name=""/>
            <p:cNvSpPr/>
            <p:nvPr/>
          </p:nvSpPr>
          <p:spPr>
            <a:xfrm>
              <a:off x="3069720" y="2840760"/>
              <a:ext cx="3065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Matisse ITC"/>
                </a:rPr>
                <a:t>15.2x</a:t>
              </a:r>
              <a:r>
                <a:rPr b="0" lang="en-US" sz="6000" spc="-1" strike="noStrike" baseline="30000">
                  <a:solidFill>
                    <a:srgbClr val="ffffff"/>
                  </a:solidFill>
                  <a:latin typeface="Matisse ITC"/>
                </a:rPr>
                <a:t>3</a:t>
              </a:r>
              <a:r>
                <a:rPr b="0" lang="en-US" sz="6000" spc="-1" strike="noStrike">
                  <a:solidFill>
                    <a:srgbClr val="ffffff"/>
                  </a:solidFill>
                  <a:latin typeface="Matisse ITC"/>
                </a:rPr>
                <a:t>y</a:t>
              </a:r>
              <a:r>
                <a:rPr b="0" lang="en-US" sz="6000" spc="-1" strike="noStrike" baseline="30000">
                  <a:solidFill>
                    <a:srgbClr val="ffffff"/>
                  </a:solidFill>
                  <a:latin typeface="Matisse ITC"/>
                </a:rPr>
                <a:t>4</a:t>
              </a:r>
              <a:r>
                <a:rPr b="0" lang="en-US" sz="6000" spc="-1" strike="noStrike">
                  <a:solidFill>
                    <a:srgbClr val="ffffff"/>
                  </a:solidFill>
                  <a:latin typeface="Matisse ITC"/>
                </a:rPr>
                <a:t>  7.1x</a:t>
              </a:r>
              <a:r>
                <a:rPr b="0" lang="en-US" sz="6000" spc="-1" strike="noStrike" baseline="30000">
                  <a:solidFill>
                    <a:srgbClr val="ffffff"/>
                  </a:solidFill>
                  <a:latin typeface="Matisse ITC"/>
                </a:rPr>
                <a:t>2</a:t>
              </a:r>
              <a:r>
                <a:rPr b="0" lang="en-US" sz="6000" spc="-1" strike="noStrike">
                  <a:solidFill>
                    <a:srgbClr val="ffffff"/>
                  </a:solidFill>
                  <a:latin typeface="Matisse ITC"/>
                </a:rPr>
                <a:t>y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"/>
          <p:cNvSpPr txBox="1"/>
          <p:nvPr/>
        </p:nvSpPr>
        <p:spPr>
          <a:xfrm>
            <a:off x="762120" y="1676520"/>
            <a:ext cx="76197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ividing Monomials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Using Decimals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39" name=""/>
          <p:cNvSpPr/>
          <p:nvPr/>
        </p:nvSpPr>
        <p:spPr>
          <a:xfrm>
            <a:off x="1600200" y="7002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 Us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1600200" y="7002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 Us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2286000" y="1981080"/>
            <a:ext cx="4572000" cy="1389240"/>
            <a:chOff x="2286000" y="1981080"/>
            <a:chExt cx="4572000" cy="1389240"/>
          </a:xfrm>
        </p:grpSpPr>
        <p:sp>
          <p:nvSpPr>
            <p:cNvPr id="1242" name=""/>
            <p:cNvSpPr/>
            <p:nvPr/>
          </p:nvSpPr>
          <p:spPr>
            <a:xfrm>
              <a:off x="2286000" y="2263680"/>
              <a:ext cx="457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Rule        = 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-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3" name=""/>
            <p:cNvGrpSpPr/>
            <p:nvPr/>
          </p:nvGrpSpPr>
          <p:grpSpPr>
            <a:xfrm>
              <a:off x="4038480" y="1981080"/>
              <a:ext cx="1066680" cy="1389240"/>
              <a:chOff x="4038480" y="1981080"/>
              <a:chExt cx="1066680" cy="1389240"/>
            </a:xfrm>
          </p:grpSpPr>
          <p:sp>
            <p:nvSpPr>
              <p:cNvPr id="1244" name=""/>
              <p:cNvSpPr/>
              <p:nvPr/>
            </p:nvSpPr>
            <p:spPr>
              <a:xfrm>
                <a:off x="4267080" y="19810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038480" y="2666880"/>
                <a:ext cx="10666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US" sz="4000" spc="-1" strike="noStrike" baseline="30000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038480" y="2682720"/>
                <a:ext cx="106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7" name=""/>
          <p:cNvGrpSpPr/>
          <p:nvPr/>
        </p:nvGrpSpPr>
        <p:grpSpPr>
          <a:xfrm>
            <a:off x="1905120" y="3809880"/>
            <a:ext cx="5333760" cy="1830960"/>
            <a:chOff x="1905120" y="3809880"/>
            <a:chExt cx="5333760" cy="1830960"/>
          </a:xfrm>
        </p:grpSpPr>
        <p:sp>
          <p:nvSpPr>
            <p:cNvPr id="1248" name=""/>
            <p:cNvSpPr/>
            <p:nvPr/>
          </p:nvSpPr>
          <p:spPr>
            <a:xfrm>
              <a:off x="1905120" y="4084560"/>
              <a:ext cx="53337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Example: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= r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9" name=""/>
            <p:cNvGrpSpPr/>
            <p:nvPr/>
          </p:nvGrpSpPr>
          <p:grpSpPr>
            <a:xfrm>
              <a:off x="4705200" y="3809880"/>
              <a:ext cx="780480" cy="1373400"/>
              <a:chOff x="4705200" y="3809880"/>
              <a:chExt cx="780480" cy="1373400"/>
            </a:xfrm>
          </p:grpSpPr>
          <p:sp>
            <p:nvSpPr>
              <p:cNvPr id="1250" name=""/>
              <p:cNvSpPr/>
              <p:nvPr/>
            </p:nvSpPr>
            <p:spPr>
              <a:xfrm>
                <a:off x="4860000" y="380988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768920" y="4479840"/>
                <a:ext cx="653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r>
                  <a:rPr b="0" lang="en-US" sz="4000" spc="-1" strike="noStrike" baseline="30000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705200" y="4495680"/>
                <a:ext cx="78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6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523880" y="144792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5.2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7.1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y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3025800" y="2563920"/>
            <a:ext cx="3082680" cy="1602360"/>
            <a:chOff x="3025800" y="2563920"/>
            <a:chExt cx="3082680" cy="1602360"/>
          </a:xfrm>
        </p:grpSpPr>
        <p:grpSp>
          <p:nvGrpSpPr>
            <p:cNvPr id="1255" name=""/>
            <p:cNvGrpSpPr/>
            <p:nvPr/>
          </p:nvGrpSpPr>
          <p:grpSpPr>
            <a:xfrm>
              <a:off x="3025800" y="2563920"/>
              <a:ext cx="2527200" cy="1602360"/>
              <a:chOff x="3025800" y="2563920"/>
              <a:chExt cx="2527200" cy="1602360"/>
            </a:xfrm>
          </p:grpSpPr>
          <p:sp>
            <p:nvSpPr>
              <p:cNvPr id="1256" name=""/>
              <p:cNvSpPr/>
              <p:nvPr/>
            </p:nvSpPr>
            <p:spPr>
              <a:xfrm>
                <a:off x="3167280" y="2563920"/>
                <a:ext cx="22424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15.2x</a:t>
                </a:r>
                <a:r>
                  <a:rPr b="0" lang="en-US" sz="4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r>
                  <a:rPr b="0" lang="en-US" sz="4400" spc="-1" strike="noStrike" baseline="30000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421080" y="3402000"/>
                <a:ext cx="1736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7.1x</a:t>
                </a:r>
                <a:r>
                  <a:rPr b="0" lang="en-US" sz="44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025800" y="3352680"/>
                <a:ext cx="252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9" name=""/>
            <p:cNvSpPr/>
            <p:nvPr/>
          </p:nvSpPr>
          <p:spPr>
            <a:xfrm>
              <a:off x="5607720" y="29829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1126800" y="4302000"/>
            <a:ext cx="6874200" cy="1429560"/>
            <a:chOff x="1126800" y="4302000"/>
            <a:chExt cx="6874200" cy="1429560"/>
          </a:xfrm>
        </p:grpSpPr>
        <p:grpSp>
          <p:nvGrpSpPr>
            <p:cNvPr id="1261" name=""/>
            <p:cNvGrpSpPr/>
            <p:nvPr/>
          </p:nvGrpSpPr>
          <p:grpSpPr>
            <a:xfrm>
              <a:off x="1126800" y="4302000"/>
              <a:ext cx="1290240" cy="1429560"/>
              <a:chOff x="1126800" y="4302000"/>
              <a:chExt cx="1290240" cy="1429560"/>
            </a:xfrm>
          </p:grpSpPr>
          <p:sp>
            <p:nvSpPr>
              <p:cNvPr id="1262" name=""/>
              <p:cNvSpPr/>
              <p:nvPr/>
            </p:nvSpPr>
            <p:spPr>
              <a:xfrm>
                <a:off x="1126800" y="4302000"/>
                <a:ext cx="12902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15.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85920" y="4967280"/>
                <a:ext cx="970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Comic Sans MS"/>
                  </a:rPr>
                  <a:t>7.1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214280" y="5013360"/>
                <a:ext cx="111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5" name=""/>
            <p:cNvSpPr/>
            <p:nvPr/>
          </p:nvSpPr>
          <p:spPr>
            <a:xfrm>
              <a:off x="2451240" y="4603680"/>
              <a:ext cx="5549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• 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• 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• 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1600200" y="7002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 Us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7" name=""/>
          <p:cNvGrpSpPr/>
          <p:nvPr/>
        </p:nvGrpSpPr>
        <p:grpSpPr>
          <a:xfrm>
            <a:off x="1130040" y="1523880"/>
            <a:ext cx="6870960" cy="1368360"/>
            <a:chOff x="1130040" y="1523880"/>
            <a:chExt cx="6870960" cy="1368360"/>
          </a:xfrm>
        </p:grpSpPr>
        <p:grpSp>
          <p:nvGrpSpPr>
            <p:cNvPr id="1268" name=""/>
            <p:cNvGrpSpPr/>
            <p:nvPr/>
          </p:nvGrpSpPr>
          <p:grpSpPr>
            <a:xfrm>
              <a:off x="1130040" y="1523880"/>
              <a:ext cx="1185120" cy="1368360"/>
              <a:chOff x="1130040" y="1523880"/>
              <a:chExt cx="1185120" cy="1368360"/>
            </a:xfrm>
          </p:grpSpPr>
          <p:sp>
            <p:nvSpPr>
              <p:cNvPr id="1269" name=""/>
              <p:cNvSpPr/>
              <p:nvPr/>
            </p:nvSpPr>
            <p:spPr>
              <a:xfrm>
                <a:off x="1130040" y="1523880"/>
                <a:ext cx="1185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15.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1267920" y="2188800"/>
                <a:ext cx="895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7.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143000" y="2188800"/>
                <a:ext cx="111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2450880" y="1795320"/>
              <a:ext cx="5550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• 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• 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• 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2409480" y="3276720"/>
            <a:ext cx="1185120" cy="1368360"/>
            <a:chOff x="2409480" y="3276720"/>
            <a:chExt cx="1185120" cy="1368360"/>
          </a:xfrm>
        </p:grpSpPr>
        <p:sp>
          <p:nvSpPr>
            <p:cNvPr id="1274" name=""/>
            <p:cNvSpPr/>
            <p:nvPr/>
          </p:nvSpPr>
          <p:spPr>
            <a:xfrm>
              <a:off x="2409480" y="3276720"/>
              <a:ext cx="118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15.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547360" y="3941640"/>
              <a:ext cx="89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7.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22440" y="3941640"/>
              <a:ext cx="1112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895480" y="2509920"/>
            <a:ext cx="2467080" cy="1863360"/>
            <a:chOff x="2895480" y="2509920"/>
            <a:chExt cx="2467080" cy="1863360"/>
          </a:xfrm>
        </p:grpSpPr>
        <p:sp>
          <p:nvSpPr>
            <p:cNvPr id="1278" name=""/>
            <p:cNvSpPr/>
            <p:nvPr/>
          </p:nvSpPr>
          <p:spPr>
            <a:xfrm>
              <a:off x="3843000" y="3548160"/>
              <a:ext cx="1410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3-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rot="16200000">
              <a:off x="3733560" y="1671480"/>
              <a:ext cx="380880" cy="20574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114800" y="3548160"/>
              <a:ext cx="1247760" cy="823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1" name=""/>
            <p:cNvCxnSpPr>
              <a:stCxn id="1279" idx="1"/>
              <a:endCxn id="1280" idx="0"/>
            </p:cNvCxnSpPr>
            <p:nvPr/>
          </p:nvCxnSpPr>
          <p:spPr>
            <a:xfrm flipH="1" rot="16200000">
              <a:off x="4009680" y="2819880"/>
              <a:ext cx="640440" cy="816840"/>
            </a:xfrm>
            <a:prstGeom prst="curvedConnector5">
              <a:avLst>
                <a:gd name="adj1" fmla="val 48593"/>
                <a:gd name="adj2" fmla="val 50000"/>
                <a:gd name="adj3" fmla="val 4859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82" name=""/>
          <p:cNvGrpSpPr/>
          <p:nvPr/>
        </p:nvGrpSpPr>
        <p:grpSpPr>
          <a:xfrm>
            <a:off x="5471280" y="2514600"/>
            <a:ext cx="1843920" cy="1858680"/>
            <a:chOff x="5471280" y="2514600"/>
            <a:chExt cx="1843920" cy="1858680"/>
          </a:xfrm>
        </p:grpSpPr>
        <p:sp>
          <p:nvSpPr>
            <p:cNvPr id="1283" name=""/>
            <p:cNvSpPr/>
            <p:nvPr/>
          </p:nvSpPr>
          <p:spPr>
            <a:xfrm>
              <a:off x="5471280" y="3548160"/>
              <a:ext cx="1398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• </a:t>
              </a: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Comic Sans MS"/>
                </a:rPr>
                <a:t>4-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16200000">
              <a:off x="6208560" y="1788840"/>
              <a:ext cx="380880" cy="183204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47520 h 1832040"/>
                <a:gd name="textAreaBottom" fmla="*/ 1784520 h 18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610240" y="3519360"/>
              <a:ext cx="1247760" cy="824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6" name=""/>
            <p:cNvCxnSpPr>
              <a:stCxn id="1284" idx="1"/>
              <a:endCxn id="1285" idx="0"/>
            </p:cNvCxnSpPr>
            <p:nvPr/>
          </p:nvCxnSpPr>
          <p:spPr>
            <a:xfrm rot="5400000">
              <a:off x="6012000" y="3134520"/>
              <a:ext cx="606960" cy="164160"/>
            </a:xfrm>
            <a:prstGeom prst="curvedConnector5">
              <a:avLst>
                <a:gd name="adj1" fmla="val 48427"/>
                <a:gd name="adj2" fmla="val 49890"/>
                <a:gd name="adj3" fmla="val 4842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87" name=""/>
          <p:cNvSpPr/>
          <p:nvPr/>
        </p:nvSpPr>
        <p:spPr>
          <a:xfrm>
            <a:off x="3326760" y="5270400"/>
            <a:ext cx="139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2.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4038480" y="4191120"/>
            <a:ext cx="1090800" cy="1904400"/>
            <a:chOff x="4038480" y="4191120"/>
            <a:chExt cx="1090800" cy="1904400"/>
          </a:xfrm>
        </p:grpSpPr>
        <p:sp>
          <p:nvSpPr>
            <p:cNvPr id="1289" name=""/>
            <p:cNvSpPr/>
            <p:nvPr/>
          </p:nvSpPr>
          <p:spPr>
            <a:xfrm>
              <a:off x="4605120" y="5270400"/>
              <a:ext cx="503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6200000">
              <a:off x="4393440" y="3836160"/>
              <a:ext cx="380880" cy="10908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8440 h 1090800"/>
                <a:gd name="textAreaBottom" fmla="*/ 1062360 h 109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648320" y="5425920"/>
              <a:ext cx="457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2" name=""/>
            <p:cNvCxnSpPr>
              <a:stCxn id="1290" idx="1"/>
              <a:endCxn id="1291" idx="0"/>
            </p:cNvCxnSpPr>
            <p:nvPr/>
          </p:nvCxnSpPr>
          <p:spPr>
            <a:xfrm flipH="1" rot="16200000">
              <a:off x="4312440" y="4861080"/>
              <a:ext cx="835560" cy="294480"/>
            </a:xfrm>
            <a:prstGeom prst="curvedConnector5">
              <a:avLst>
                <a:gd name="adj1" fmla="val 48836"/>
                <a:gd name="adj2" fmla="val 49938"/>
                <a:gd name="adj3" fmla="val 48836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93" name=""/>
          <p:cNvGrpSpPr/>
          <p:nvPr/>
        </p:nvGrpSpPr>
        <p:grpSpPr>
          <a:xfrm>
            <a:off x="5069160" y="4191120"/>
            <a:ext cx="1788840" cy="1906200"/>
            <a:chOff x="5069160" y="4191120"/>
            <a:chExt cx="1788840" cy="1906200"/>
          </a:xfrm>
        </p:grpSpPr>
        <p:sp>
          <p:nvSpPr>
            <p:cNvPr id="1294" name=""/>
            <p:cNvSpPr/>
            <p:nvPr/>
          </p:nvSpPr>
          <p:spPr>
            <a:xfrm>
              <a:off x="5069160" y="5272200"/>
              <a:ext cx="694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Comic Sans MS"/>
                </a:rPr>
                <a:t>y</a:t>
              </a:r>
              <a:r>
                <a:rPr b="0" lang="en-US" sz="4800" spc="-1" strike="noStrike" baseline="30000">
                  <a:solidFill>
                    <a:srgbClr val="0000ff"/>
                  </a:solidFill>
                  <a:latin typeface="Comic Sans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16200000">
              <a:off x="6122160" y="3836160"/>
              <a:ext cx="380880" cy="109044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8440 h 1090440"/>
                <a:gd name="textAreaBottom" fmla="*/ 1062000 h 10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334120" y="5425920"/>
              <a:ext cx="457200" cy="517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7" name=""/>
            <p:cNvCxnSpPr>
              <a:stCxn id="1295" idx="1"/>
              <a:endCxn id="1296" idx="6"/>
            </p:cNvCxnSpPr>
            <p:nvPr/>
          </p:nvCxnSpPr>
          <p:spPr>
            <a:xfrm rot="5400000">
              <a:off x="5504040" y="4877640"/>
              <a:ext cx="1094400" cy="5212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98" name=""/>
          <p:cNvSpPr/>
          <p:nvPr/>
        </p:nvSpPr>
        <p:spPr>
          <a:xfrm>
            <a:off x="1600200" y="7002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 Us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1523880" y="144792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5.14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6.28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3025800" y="2330280"/>
            <a:ext cx="3053880" cy="1284120"/>
            <a:chOff x="3025800" y="2330280"/>
            <a:chExt cx="3053880" cy="1284120"/>
          </a:xfrm>
        </p:grpSpPr>
        <p:grpSp>
          <p:nvGrpSpPr>
            <p:cNvPr id="1301" name=""/>
            <p:cNvGrpSpPr/>
            <p:nvPr/>
          </p:nvGrpSpPr>
          <p:grpSpPr>
            <a:xfrm>
              <a:off x="3025800" y="2330280"/>
              <a:ext cx="2527200" cy="1284120"/>
              <a:chOff x="3025800" y="2330280"/>
              <a:chExt cx="2527200" cy="1284120"/>
            </a:xfrm>
          </p:grpSpPr>
          <p:sp>
            <p:nvSpPr>
              <p:cNvPr id="1302" name=""/>
              <p:cNvSpPr/>
              <p:nvPr/>
            </p:nvSpPr>
            <p:spPr>
              <a:xfrm>
                <a:off x="3249720" y="2330280"/>
                <a:ext cx="207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-5.14a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323520" y="2971800"/>
                <a:ext cx="193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.28a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4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r>
                  <a:rPr b="0" lang="en-US" sz="3600" spc="-1" strike="noStrike" baseline="30000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025800" y="2971800"/>
                <a:ext cx="252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5609520" y="26208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4159080" y="4033800"/>
            <a:ext cx="10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2-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2540160" y="3701880"/>
            <a:ext cx="1515960" cy="1265040"/>
            <a:chOff x="2540160" y="3701880"/>
            <a:chExt cx="1515960" cy="1265040"/>
          </a:xfrm>
        </p:grpSpPr>
        <p:grpSp>
          <p:nvGrpSpPr>
            <p:cNvPr id="1308" name=""/>
            <p:cNvGrpSpPr/>
            <p:nvPr/>
          </p:nvGrpSpPr>
          <p:grpSpPr>
            <a:xfrm>
              <a:off x="2943360" y="3701880"/>
              <a:ext cx="1112760" cy="1265040"/>
              <a:chOff x="2943360" y="3701880"/>
              <a:chExt cx="1112760" cy="1265040"/>
            </a:xfrm>
          </p:grpSpPr>
          <p:sp>
            <p:nvSpPr>
              <p:cNvPr id="1309" name=""/>
              <p:cNvSpPr/>
              <p:nvPr/>
            </p:nvSpPr>
            <p:spPr>
              <a:xfrm>
                <a:off x="2955960" y="3701880"/>
                <a:ext cx="108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5.1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955960" y="4324320"/>
                <a:ext cx="108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omic Sans MS"/>
                  </a:rPr>
                  <a:t>6.2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943360" y="4343400"/>
                <a:ext cx="111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2" name=""/>
            <p:cNvSpPr/>
            <p:nvPr/>
          </p:nvSpPr>
          <p:spPr>
            <a:xfrm>
              <a:off x="2540160" y="3983040"/>
              <a:ext cx="343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3" name=""/>
          <p:cNvSpPr/>
          <p:nvPr/>
        </p:nvSpPr>
        <p:spPr>
          <a:xfrm>
            <a:off x="5083560" y="4033800"/>
            <a:ext cx="14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3-5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18600" y="5342040"/>
            <a:ext cx="148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 0.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39520" y="5342040"/>
            <a:ext cx="72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232520" y="5342040"/>
            <a:ext cx="75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5046120" y="5060880"/>
            <a:ext cx="1921320" cy="1265040"/>
            <a:chOff x="5046120" y="5060880"/>
            <a:chExt cx="1921320" cy="1265040"/>
          </a:xfrm>
        </p:grpSpPr>
        <p:sp>
          <p:nvSpPr>
            <p:cNvPr id="1318" name=""/>
            <p:cNvSpPr/>
            <p:nvPr/>
          </p:nvSpPr>
          <p:spPr>
            <a:xfrm>
              <a:off x="5046120" y="5342040"/>
              <a:ext cx="76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r>
                <a:rPr b="0" lang="en-US" sz="4000" spc="-1" strike="noStrike">
                  <a:solidFill>
                    <a:srgbClr val="cc0000"/>
                  </a:solidFill>
                  <a:latin typeface="Comic Sans MS"/>
                </a:rPr>
                <a:t> </a:t>
              </a: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867280" y="5060880"/>
              <a:ext cx="108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0.8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900400" y="5683320"/>
              <a:ext cx="102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Comic Sans MS"/>
                </a:rPr>
                <a:t>b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854680" y="5702400"/>
              <a:ext cx="11127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" name=""/>
          <p:cNvSpPr/>
          <p:nvPr/>
        </p:nvSpPr>
        <p:spPr>
          <a:xfrm>
            <a:off x="1600200" y="7002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Monomials Us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7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2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7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2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7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"/>
          <p:cNvGrpSpPr/>
          <p:nvPr/>
        </p:nvGrpSpPr>
        <p:grpSpPr>
          <a:xfrm>
            <a:off x="3343320" y="2971800"/>
            <a:ext cx="2523960" cy="3505320"/>
            <a:chOff x="3343320" y="2971800"/>
            <a:chExt cx="2523960" cy="3505320"/>
          </a:xfrm>
        </p:grpSpPr>
        <p:pic>
          <p:nvPicPr>
            <p:cNvPr id="1324" name="" descr=""/>
            <p:cNvPicPr/>
            <p:nvPr/>
          </p:nvPicPr>
          <p:blipFill>
            <a:blip r:embed="rId1"/>
            <a:stretch/>
          </p:blipFill>
          <p:spPr>
            <a:xfrm>
              <a:off x="3343320" y="2971800"/>
              <a:ext cx="252396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5" name=""/>
            <p:cNvSpPr/>
            <p:nvPr/>
          </p:nvSpPr>
          <p:spPr>
            <a:xfrm>
              <a:off x="5213160" y="31885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Matisse ITC"/>
                </a:rPr>
                <a:t>A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6" name=""/>
          <p:cNvSpPr txBox="1"/>
          <p:nvPr/>
        </p:nvSpPr>
        <p:spPr>
          <a:xfrm>
            <a:off x="1295280" y="1523880"/>
            <a:ext cx="66294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Equation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Solving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ation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438280" y="184320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-0.37r = 6.5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2438280" y="2666880"/>
            <a:ext cx="4343400" cy="825120"/>
            <a:chOff x="2438280" y="2666880"/>
            <a:chExt cx="4343400" cy="825120"/>
          </a:xfrm>
        </p:grpSpPr>
        <p:sp>
          <p:nvSpPr>
            <p:cNvPr id="1331" name=""/>
            <p:cNvSpPr/>
            <p:nvPr/>
          </p:nvSpPr>
          <p:spPr>
            <a:xfrm>
              <a:off x="2626560" y="2666880"/>
              <a:ext cx="394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-0.37      -0.3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438280" y="266688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876920" y="2666880"/>
              <a:ext cx="19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946240" y="3581280"/>
            <a:ext cx="3225960" cy="1373400"/>
            <a:chOff x="2946240" y="3581280"/>
            <a:chExt cx="3225960" cy="1373400"/>
          </a:xfrm>
        </p:grpSpPr>
        <p:sp>
          <p:nvSpPr>
            <p:cNvPr id="1335" name=""/>
            <p:cNvSpPr/>
            <p:nvPr/>
          </p:nvSpPr>
          <p:spPr>
            <a:xfrm>
              <a:off x="2946240" y="3854520"/>
              <a:ext cx="190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r = 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4622760" y="3581280"/>
              <a:ext cx="1549440" cy="1373400"/>
              <a:chOff x="4622760" y="3581280"/>
              <a:chExt cx="1549440" cy="1373400"/>
            </a:xfrm>
          </p:grpSpPr>
          <p:sp>
            <p:nvSpPr>
              <p:cNvPr id="1337" name=""/>
              <p:cNvSpPr/>
              <p:nvPr/>
            </p:nvSpPr>
            <p:spPr>
              <a:xfrm>
                <a:off x="4660200" y="3581280"/>
                <a:ext cx="1474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6.58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804200" y="4251240"/>
                <a:ext cx="1185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0.37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622760" y="4251240"/>
                <a:ext cx="154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0" name=""/>
          <p:cNvSpPr/>
          <p:nvPr/>
        </p:nvSpPr>
        <p:spPr>
          <a:xfrm>
            <a:off x="3040200" y="525780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r </a:t>
            </a:r>
            <a:r>
              <a:rPr b="0" lang="en-US" sz="4800" spc="-1" strike="noStrike">
                <a:solidFill>
                  <a:srgbClr val="0000ff"/>
                </a:solidFill>
                <a:latin typeface="Symbol"/>
                <a:ea typeface="Symbol"/>
              </a:rPr>
              <a:t></a:t>
            </a: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 -17.7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" descr=""/>
          <p:cNvPicPr/>
          <p:nvPr/>
        </p:nvPicPr>
        <p:blipFill>
          <a:blip r:embed="rId1"/>
          <a:stretch/>
        </p:blipFill>
        <p:spPr>
          <a:xfrm>
            <a:off x="3276720" y="3114720"/>
            <a:ext cx="5105160" cy="31622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34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34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0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e decimal numbers by whol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809880" y="700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533520" y="2895480"/>
            <a:ext cx="2361960" cy="2971800"/>
            <a:chOff x="533520" y="2895480"/>
            <a:chExt cx="2361960" cy="2971800"/>
          </a:xfrm>
        </p:grpSpPr>
        <p:sp>
          <p:nvSpPr>
            <p:cNvPr id="295" name=""/>
            <p:cNvSpPr/>
            <p:nvPr/>
          </p:nvSpPr>
          <p:spPr>
            <a:xfrm>
              <a:off x="533520" y="2895480"/>
              <a:ext cx="236196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2160" y="2907720"/>
              <a:ext cx="234432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01320" y="2932560"/>
              <a:ext cx="12384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34160" y="2945160"/>
              <a:ext cx="7056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27960" y="2970000"/>
              <a:ext cx="529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13720" y="2988720"/>
              <a:ext cx="7056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93280" y="3013560"/>
              <a:ext cx="6192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59520" y="3025800"/>
              <a:ext cx="795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30440" y="3032280"/>
              <a:ext cx="7488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19000" y="3069360"/>
              <a:ext cx="572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30400" y="3088080"/>
              <a:ext cx="91116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73160" y="3094200"/>
              <a:ext cx="11916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95120" y="3094200"/>
              <a:ext cx="12816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04120" y="3094200"/>
              <a:ext cx="15480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94240" y="3106800"/>
              <a:ext cx="6192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69480" y="3125520"/>
              <a:ext cx="4392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22400" y="3137760"/>
              <a:ext cx="4392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4320" y="3156480"/>
              <a:ext cx="3096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28600" y="3169080"/>
              <a:ext cx="3960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96080" y="3312000"/>
              <a:ext cx="23868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43760" y="3367800"/>
              <a:ext cx="1987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09400" y="3399120"/>
              <a:ext cx="18576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79960" y="3411360"/>
              <a:ext cx="9288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61400" y="3442320"/>
              <a:ext cx="16344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24240" y="3454920"/>
              <a:ext cx="2196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92360" y="3479760"/>
              <a:ext cx="7056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23320" y="3510720"/>
              <a:ext cx="2196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67560" y="3784320"/>
              <a:ext cx="6192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54240" y="3827880"/>
              <a:ext cx="55296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29560" y="3927600"/>
              <a:ext cx="3668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77480" y="3964680"/>
              <a:ext cx="129168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7440" y="4045680"/>
              <a:ext cx="18108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33200" y="4089240"/>
              <a:ext cx="262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68480" y="4101480"/>
              <a:ext cx="3096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81800" y="4101480"/>
              <a:ext cx="132696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8400" y="4194720"/>
              <a:ext cx="34488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9400" y="4250880"/>
              <a:ext cx="1105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30480" y="4257000"/>
              <a:ext cx="7956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96720" y="4269600"/>
              <a:ext cx="12816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19600" y="4287960"/>
              <a:ext cx="10584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83680" y="4319280"/>
              <a:ext cx="88452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2200" y="4356360"/>
              <a:ext cx="795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9800" y="4375080"/>
              <a:ext cx="3960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71000" y="4381560"/>
              <a:ext cx="3528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4120" y="4393800"/>
              <a:ext cx="24300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59840" y="4399920"/>
              <a:ext cx="8935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4080" y="4437360"/>
              <a:ext cx="2196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0760" y="4654800"/>
              <a:ext cx="15480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2240" y="4654800"/>
              <a:ext cx="3960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15560" y="4661280"/>
              <a:ext cx="4860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88920" y="4679640"/>
              <a:ext cx="4860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53640" y="4698360"/>
              <a:ext cx="4860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19000" y="4860000"/>
              <a:ext cx="28296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98560" y="4884840"/>
              <a:ext cx="4392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11880" y="4922280"/>
              <a:ext cx="306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42840" y="4965840"/>
              <a:ext cx="1296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99440" y="5140080"/>
              <a:ext cx="33156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457200" y="1447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en you finish this unit, you wi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228600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equations requiring division of decimal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7002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3" name="" descr=""/>
          <p:cNvPicPr/>
          <p:nvPr/>
        </p:nvPicPr>
        <p:blipFill>
          <a:blip r:embed="rId1"/>
          <a:stretch/>
        </p:blipFill>
        <p:spPr>
          <a:xfrm>
            <a:off x="3276720" y="3110040"/>
            <a:ext cx="5105160" cy="31496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404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405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2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the decimal equivalent of f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809880" y="700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5105160" cy="31244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466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467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e decimal numbers by decimal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809880" y="700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" descr=""/>
          <p:cNvPicPr/>
          <p:nvPr/>
        </p:nvPicPr>
        <p:blipFill>
          <a:blip r:embed="rId1"/>
          <a:stretch/>
        </p:blipFill>
        <p:spPr>
          <a:xfrm>
            <a:off x="3276720" y="3102120"/>
            <a:ext cx="5105160" cy="31939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528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529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6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 square roots as decimal approxi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809880" y="700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" descr=""/>
          <p:cNvPicPr/>
          <p:nvPr/>
        </p:nvPicPr>
        <p:blipFill>
          <a:blip r:embed="rId1"/>
          <a:stretch/>
        </p:blipFill>
        <p:spPr>
          <a:xfrm>
            <a:off x="3276720" y="3125880"/>
            <a:ext cx="5105160" cy="313848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590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591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8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scientific notation to express very small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809880" y="700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1" name="" descr=""/>
          <p:cNvPicPr/>
          <p:nvPr/>
        </p:nvPicPr>
        <p:blipFill>
          <a:blip r:embed="rId1"/>
          <a:stretch/>
        </p:blipFill>
        <p:spPr>
          <a:xfrm>
            <a:off x="3276720" y="3087720"/>
            <a:ext cx="5105160" cy="31557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652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653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0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e monomials containing decimal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809880" y="700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3" name="" descr=""/>
          <p:cNvPicPr/>
          <p:nvPr/>
        </p:nvPicPr>
        <p:blipFill>
          <a:blip r:embed="rId1"/>
          <a:stretch/>
        </p:blipFill>
        <p:spPr>
          <a:xfrm>
            <a:off x="3276720" y="3114720"/>
            <a:ext cx="5105160" cy="30812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714" name=""/>
          <p:cNvGrpSpPr/>
          <p:nvPr/>
        </p:nvGrpSpPr>
        <p:grpSpPr>
          <a:xfrm>
            <a:off x="533520" y="2895480"/>
            <a:ext cx="2209680" cy="2971800"/>
            <a:chOff x="533520" y="2895480"/>
            <a:chExt cx="2209680" cy="2971800"/>
          </a:xfrm>
        </p:grpSpPr>
        <p:sp>
          <p:nvSpPr>
            <p:cNvPr id="1715" name=""/>
            <p:cNvSpPr/>
            <p:nvPr/>
          </p:nvSpPr>
          <p:spPr>
            <a:xfrm>
              <a:off x="533520" y="2895480"/>
              <a:ext cx="2209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41440" y="2907720"/>
              <a:ext cx="2193480" cy="2946960"/>
            </a:xfrm>
            <a:custGeom>
              <a:avLst/>
              <a:gdLst/>
              <a:ahLst/>
              <a:rect l="l" t="t" r="r" b="b"/>
              <a:pathLst>
                <a:path w="61339" h="54893">
                  <a:moveTo>
                    <a:pt x="20369" y="694"/>
                  </a:moveTo>
                  <a:lnTo>
                    <a:pt x="20485" y="579"/>
                  </a:lnTo>
                  <a:lnTo>
                    <a:pt x="20485" y="463"/>
                  </a:lnTo>
                  <a:lnTo>
                    <a:pt x="20601" y="463"/>
                  </a:lnTo>
                  <a:lnTo>
                    <a:pt x="20717" y="347"/>
                  </a:lnTo>
                  <a:lnTo>
                    <a:pt x="20832" y="347"/>
                  </a:lnTo>
                  <a:lnTo>
                    <a:pt x="20948" y="347"/>
                  </a:lnTo>
                  <a:lnTo>
                    <a:pt x="21064" y="231"/>
                  </a:lnTo>
                  <a:lnTo>
                    <a:pt x="21179" y="231"/>
                  </a:lnTo>
                  <a:lnTo>
                    <a:pt x="21179" y="231"/>
                  </a:lnTo>
                  <a:lnTo>
                    <a:pt x="21411" y="231"/>
                  </a:lnTo>
                  <a:lnTo>
                    <a:pt x="21527" y="347"/>
                  </a:lnTo>
                  <a:lnTo>
                    <a:pt x="21758" y="463"/>
                  </a:lnTo>
                  <a:lnTo>
                    <a:pt x="21990" y="579"/>
                  </a:lnTo>
                  <a:lnTo>
                    <a:pt x="22105" y="694"/>
                  </a:lnTo>
                  <a:lnTo>
                    <a:pt x="22221" y="810"/>
                  </a:lnTo>
                  <a:lnTo>
                    <a:pt x="22453" y="1042"/>
                  </a:lnTo>
                  <a:lnTo>
                    <a:pt x="22568" y="1274"/>
                  </a:lnTo>
                  <a:lnTo>
                    <a:pt x="22568" y="1274"/>
                  </a:lnTo>
                  <a:lnTo>
                    <a:pt x="22684" y="1158"/>
                  </a:lnTo>
                  <a:lnTo>
                    <a:pt x="22915" y="1042"/>
                  </a:lnTo>
                  <a:lnTo>
                    <a:pt x="23031" y="1042"/>
                  </a:lnTo>
                  <a:lnTo>
                    <a:pt x="23147" y="1042"/>
                  </a:lnTo>
                  <a:lnTo>
                    <a:pt x="23378" y="1042"/>
                  </a:lnTo>
                  <a:lnTo>
                    <a:pt x="23494" y="1042"/>
                  </a:lnTo>
                  <a:lnTo>
                    <a:pt x="23726" y="1042"/>
                  </a:lnTo>
                  <a:lnTo>
                    <a:pt x="23841" y="1158"/>
                  </a:lnTo>
                  <a:lnTo>
                    <a:pt x="23841" y="1158"/>
                  </a:lnTo>
                  <a:lnTo>
                    <a:pt x="23957" y="1158"/>
                  </a:lnTo>
                  <a:lnTo>
                    <a:pt x="24188" y="1274"/>
                  </a:lnTo>
                  <a:lnTo>
                    <a:pt x="24304" y="1389"/>
                  </a:lnTo>
                  <a:lnTo>
                    <a:pt x="24420" y="1505"/>
                  </a:lnTo>
                  <a:lnTo>
                    <a:pt x="24536" y="1621"/>
                  </a:lnTo>
                  <a:lnTo>
                    <a:pt x="24651" y="1621"/>
                  </a:lnTo>
                  <a:lnTo>
                    <a:pt x="24767" y="1621"/>
                  </a:lnTo>
                  <a:lnTo>
                    <a:pt x="24999" y="1389"/>
                  </a:lnTo>
                  <a:lnTo>
                    <a:pt x="24999" y="1389"/>
                  </a:lnTo>
                  <a:lnTo>
                    <a:pt x="25114" y="1389"/>
                  </a:lnTo>
                  <a:lnTo>
                    <a:pt x="25346" y="1505"/>
                  </a:lnTo>
                  <a:lnTo>
                    <a:pt x="25462" y="1505"/>
                  </a:lnTo>
                  <a:lnTo>
                    <a:pt x="25577" y="1621"/>
                  </a:lnTo>
                  <a:lnTo>
                    <a:pt x="25693" y="1737"/>
                  </a:lnTo>
                  <a:lnTo>
                    <a:pt x="25809" y="1853"/>
                  </a:lnTo>
                  <a:lnTo>
                    <a:pt x="25924" y="1968"/>
                  </a:lnTo>
                  <a:lnTo>
                    <a:pt x="26040" y="1968"/>
                  </a:lnTo>
                  <a:lnTo>
                    <a:pt x="26040" y="1968"/>
                  </a:lnTo>
                  <a:lnTo>
                    <a:pt x="26272" y="1968"/>
                  </a:lnTo>
                  <a:lnTo>
                    <a:pt x="26503" y="1853"/>
                  </a:lnTo>
                  <a:lnTo>
                    <a:pt x="26735" y="1853"/>
                  </a:lnTo>
                  <a:lnTo>
                    <a:pt x="26966" y="1737"/>
                  </a:lnTo>
                  <a:lnTo>
                    <a:pt x="27082" y="1737"/>
                  </a:lnTo>
                  <a:lnTo>
                    <a:pt x="27313" y="1737"/>
                  </a:lnTo>
                  <a:lnTo>
                    <a:pt x="27545" y="1853"/>
                  </a:lnTo>
                  <a:lnTo>
                    <a:pt x="27660" y="1968"/>
                  </a:lnTo>
                  <a:lnTo>
                    <a:pt x="27660" y="1968"/>
                  </a:lnTo>
                  <a:lnTo>
                    <a:pt x="28123" y="2316"/>
                  </a:lnTo>
                  <a:lnTo>
                    <a:pt x="28123" y="2316"/>
                  </a:lnTo>
                  <a:lnTo>
                    <a:pt x="28239" y="2084"/>
                  </a:lnTo>
                  <a:lnTo>
                    <a:pt x="28471" y="1968"/>
                  </a:lnTo>
                  <a:lnTo>
                    <a:pt x="28586" y="1968"/>
                  </a:lnTo>
                  <a:lnTo>
                    <a:pt x="28818" y="1968"/>
                  </a:lnTo>
                  <a:lnTo>
                    <a:pt x="29049" y="1968"/>
                  </a:lnTo>
                  <a:lnTo>
                    <a:pt x="29281" y="1968"/>
                  </a:lnTo>
                  <a:lnTo>
                    <a:pt x="29512" y="1968"/>
                  </a:lnTo>
                  <a:lnTo>
                    <a:pt x="29744" y="1968"/>
                  </a:lnTo>
                  <a:lnTo>
                    <a:pt x="29744" y="1968"/>
                  </a:lnTo>
                  <a:lnTo>
                    <a:pt x="29859" y="2084"/>
                  </a:lnTo>
                  <a:lnTo>
                    <a:pt x="29975" y="2200"/>
                  </a:lnTo>
                  <a:lnTo>
                    <a:pt x="29975" y="2316"/>
                  </a:lnTo>
                  <a:lnTo>
                    <a:pt x="30091" y="2432"/>
                  </a:lnTo>
                  <a:lnTo>
                    <a:pt x="30207" y="2547"/>
                  </a:lnTo>
                  <a:lnTo>
                    <a:pt x="30322" y="2663"/>
                  </a:lnTo>
                  <a:lnTo>
                    <a:pt x="30438" y="2779"/>
                  </a:lnTo>
                  <a:lnTo>
                    <a:pt x="30554" y="2779"/>
                  </a:lnTo>
                  <a:lnTo>
                    <a:pt x="30554" y="2779"/>
                  </a:lnTo>
                  <a:lnTo>
                    <a:pt x="30670" y="2779"/>
                  </a:lnTo>
                  <a:lnTo>
                    <a:pt x="30785" y="2663"/>
                  </a:lnTo>
                  <a:lnTo>
                    <a:pt x="30901" y="2663"/>
                  </a:lnTo>
                  <a:lnTo>
                    <a:pt x="31132" y="2663"/>
                  </a:lnTo>
                  <a:lnTo>
                    <a:pt x="31248" y="2663"/>
                  </a:lnTo>
                  <a:lnTo>
                    <a:pt x="31364" y="2663"/>
                  </a:lnTo>
                  <a:lnTo>
                    <a:pt x="31595" y="2663"/>
                  </a:lnTo>
                  <a:lnTo>
                    <a:pt x="31711" y="2663"/>
                  </a:lnTo>
                  <a:lnTo>
                    <a:pt x="31711" y="2663"/>
                  </a:lnTo>
                  <a:lnTo>
                    <a:pt x="31943" y="2895"/>
                  </a:lnTo>
                  <a:lnTo>
                    <a:pt x="32058" y="3011"/>
                  </a:lnTo>
                  <a:lnTo>
                    <a:pt x="32174" y="3126"/>
                  </a:lnTo>
                  <a:lnTo>
                    <a:pt x="32290" y="3358"/>
                  </a:lnTo>
                  <a:lnTo>
                    <a:pt x="32521" y="3474"/>
                  </a:lnTo>
                  <a:lnTo>
                    <a:pt x="32637" y="3474"/>
                  </a:lnTo>
                  <a:lnTo>
                    <a:pt x="-32668" y="3474"/>
                  </a:lnTo>
                  <a:lnTo>
                    <a:pt x="-32436" y="3242"/>
                  </a:lnTo>
                  <a:lnTo>
                    <a:pt x="-32436" y="3242"/>
                  </a:lnTo>
                  <a:lnTo>
                    <a:pt x="-32205" y="3242"/>
                  </a:lnTo>
                  <a:lnTo>
                    <a:pt x="-31973" y="3242"/>
                  </a:lnTo>
                  <a:lnTo>
                    <a:pt x="-31626" y="3358"/>
                  </a:lnTo>
                  <a:lnTo>
                    <a:pt x="-31395" y="3474"/>
                  </a:lnTo>
                  <a:lnTo>
                    <a:pt x="-31163" y="3706"/>
                  </a:lnTo>
                  <a:lnTo>
                    <a:pt x="-30932" y="3706"/>
                  </a:lnTo>
                  <a:lnTo>
                    <a:pt x="-30584" y="3821"/>
                  </a:lnTo>
                  <a:lnTo>
                    <a:pt x="-30237" y="3706"/>
                  </a:lnTo>
                  <a:lnTo>
                    <a:pt x="-30237" y="3706"/>
                  </a:lnTo>
                  <a:lnTo>
                    <a:pt x="-30006" y="3821"/>
                  </a:lnTo>
                  <a:lnTo>
                    <a:pt x="-29774" y="3937"/>
                  </a:lnTo>
                  <a:lnTo>
                    <a:pt x="-29543" y="3937"/>
                  </a:lnTo>
                  <a:lnTo>
                    <a:pt x="-29311" y="3937"/>
                  </a:lnTo>
                  <a:lnTo>
                    <a:pt x="-29080" y="3821"/>
                  </a:lnTo>
                  <a:lnTo>
                    <a:pt x="-28733" y="3937"/>
                  </a:lnTo>
                  <a:lnTo>
                    <a:pt x="-28501" y="4053"/>
                  </a:lnTo>
                  <a:lnTo>
                    <a:pt x="-28385" y="4169"/>
                  </a:lnTo>
                  <a:lnTo>
                    <a:pt x="-28385" y="4169"/>
                  </a:lnTo>
                  <a:lnTo>
                    <a:pt x="-28038" y="4169"/>
                  </a:lnTo>
                  <a:lnTo>
                    <a:pt x="-27807" y="4169"/>
                  </a:lnTo>
                  <a:lnTo>
                    <a:pt x="-27575" y="4169"/>
                  </a:lnTo>
                  <a:lnTo>
                    <a:pt x="-27344" y="4285"/>
                  </a:lnTo>
                  <a:lnTo>
                    <a:pt x="-27112" y="4400"/>
                  </a:lnTo>
                  <a:lnTo>
                    <a:pt x="-26881" y="4516"/>
                  </a:lnTo>
                  <a:lnTo>
                    <a:pt x="-26650" y="4516"/>
                  </a:lnTo>
                  <a:lnTo>
                    <a:pt x="-26418" y="4285"/>
                  </a:lnTo>
                  <a:lnTo>
                    <a:pt x="-26418" y="4285"/>
                  </a:lnTo>
                  <a:lnTo>
                    <a:pt x="-26187" y="4400"/>
                  </a:lnTo>
                  <a:lnTo>
                    <a:pt x="-25955" y="4516"/>
                  </a:lnTo>
                  <a:lnTo>
                    <a:pt x="-25724" y="4632"/>
                  </a:lnTo>
                  <a:lnTo>
                    <a:pt x="-25608" y="4748"/>
                  </a:lnTo>
                  <a:lnTo>
                    <a:pt x="-25492" y="4979"/>
                  </a:lnTo>
                  <a:lnTo>
                    <a:pt x="-25376" y="5095"/>
                  </a:lnTo>
                  <a:lnTo>
                    <a:pt x="-25261" y="5327"/>
                  </a:lnTo>
                  <a:lnTo>
                    <a:pt x="-25145" y="5558"/>
                  </a:lnTo>
                  <a:lnTo>
                    <a:pt x="-25145" y="5558"/>
                  </a:lnTo>
                  <a:lnTo>
                    <a:pt x="-25145" y="6022"/>
                  </a:lnTo>
                  <a:lnTo>
                    <a:pt x="-25145" y="6369"/>
                  </a:lnTo>
                  <a:lnTo>
                    <a:pt x="-25376" y="6717"/>
                  </a:lnTo>
                  <a:lnTo>
                    <a:pt x="-25492" y="7064"/>
                  </a:lnTo>
                  <a:lnTo>
                    <a:pt x="-25724" y="7296"/>
                  </a:lnTo>
                  <a:lnTo>
                    <a:pt x="-25839" y="7643"/>
                  </a:lnTo>
                  <a:lnTo>
                    <a:pt x="-25955" y="7990"/>
                  </a:lnTo>
                  <a:lnTo>
                    <a:pt x="-26071" y="8454"/>
                  </a:lnTo>
                  <a:lnTo>
                    <a:pt x="-26071" y="8454"/>
                  </a:lnTo>
                  <a:lnTo>
                    <a:pt x="-26534" y="9959"/>
                  </a:lnTo>
                  <a:lnTo>
                    <a:pt x="-26997" y="11465"/>
                  </a:lnTo>
                  <a:lnTo>
                    <a:pt x="-27344" y="13086"/>
                  </a:lnTo>
                  <a:lnTo>
                    <a:pt x="-27691" y="14707"/>
                  </a:lnTo>
                  <a:lnTo>
                    <a:pt x="-28038" y="16329"/>
                  </a:lnTo>
                  <a:lnTo>
                    <a:pt x="-28270" y="17950"/>
                  </a:lnTo>
                  <a:lnTo>
                    <a:pt x="-28501" y="19571"/>
                  </a:lnTo>
                  <a:lnTo>
                    <a:pt x="-28617" y="21193"/>
                  </a:lnTo>
                  <a:lnTo>
                    <a:pt x="-28617" y="21193"/>
                  </a:lnTo>
                  <a:lnTo>
                    <a:pt x="-28501" y="21309"/>
                  </a:lnTo>
                  <a:lnTo>
                    <a:pt x="-28501" y="21309"/>
                  </a:lnTo>
                  <a:lnTo>
                    <a:pt x="-26650" y="20845"/>
                  </a:lnTo>
                  <a:lnTo>
                    <a:pt x="-24914" y="20498"/>
                  </a:lnTo>
                  <a:lnTo>
                    <a:pt x="-23178" y="20150"/>
                  </a:lnTo>
                  <a:lnTo>
                    <a:pt x="-21326" y="19919"/>
                  </a:lnTo>
                  <a:lnTo>
                    <a:pt x="-19590" y="19571"/>
                  </a:lnTo>
                  <a:lnTo>
                    <a:pt x="-17738" y="19224"/>
                  </a:lnTo>
                  <a:lnTo>
                    <a:pt x="-16002" y="18992"/>
                  </a:lnTo>
                  <a:lnTo>
                    <a:pt x="-14266" y="18645"/>
                  </a:lnTo>
                  <a:lnTo>
                    <a:pt x="-14266" y="18645"/>
                  </a:lnTo>
                  <a:lnTo>
                    <a:pt x="-12993" y="18761"/>
                  </a:lnTo>
                  <a:lnTo>
                    <a:pt x="-11720" y="18877"/>
                  </a:lnTo>
                  <a:lnTo>
                    <a:pt x="-10563" y="18992"/>
                  </a:lnTo>
                  <a:lnTo>
                    <a:pt x="-9290" y="18992"/>
                  </a:lnTo>
                  <a:lnTo>
                    <a:pt x="-8017" y="19108"/>
                  </a:lnTo>
                  <a:lnTo>
                    <a:pt x="-6859" y="19224"/>
                  </a:lnTo>
                  <a:lnTo>
                    <a:pt x="-5586" y="19340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313" y="19571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687"/>
                  </a:lnTo>
                  <a:lnTo>
                    <a:pt x="-4197" y="19803"/>
                  </a:lnTo>
                  <a:lnTo>
                    <a:pt x="-4197" y="19803"/>
                  </a:lnTo>
                  <a:lnTo>
                    <a:pt x="-4313" y="19803"/>
                  </a:lnTo>
                  <a:lnTo>
                    <a:pt x="-4313" y="19803"/>
                  </a:lnTo>
                  <a:lnTo>
                    <a:pt x="-17044" y="25246"/>
                  </a:lnTo>
                  <a:lnTo>
                    <a:pt x="-17044" y="25246"/>
                  </a:lnTo>
                  <a:lnTo>
                    <a:pt x="-17159" y="25246"/>
                  </a:lnTo>
                  <a:lnTo>
                    <a:pt x="-17391" y="25246"/>
                  </a:lnTo>
                  <a:lnTo>
                    <a:pt x="-17622" y="25362"/>
                  </a:lnTo>
                  <a:lnTo>
                    <a:pt x="-17854" y="25362"/>
                  </a:lnTo>
                  <a:lnTo>
                    <a:pt x="-17970" y="25478"/>
                  </a:lnTo>
                  <a:lnTo>
                    <a:pt x="-18201" y="25478"/>
                  </a:lnTo>
                  <a:lnTo>
                    <a:pt x="-18317" y="25478"/>
                  </a:lnTo>
                  <a:lnTo>
                    <a:pt x="-18548" y="25594"/>
                  </a:lnTo>
                  <a:lnTo>
                    <a:pt x="-18548" y="25594"/>
                  </a:lnTo>
                  <a:lnTo>
                    <a:pt x="-18548" y="25941"/>
                  </a:lnTo>
                  <a:lnTo>
                    <a:pt x="-18664" y="26288"/>
                  </a:lnTo>
                  <a:lnTo>
                    <a:pt x="-18895" y="26636"/>
                  </a:lnTo>
                  <a:lnTo>
                    <a:pt x="-19127" y="26983"/>
                  </a:lnTo>
                  <a:lnTo>
                    <a:pt x="-19358" y="27215"/>
                  </a:lnTo>
                  <a:lnTo>
                    <a:pt x="-19706" y="27562"/>
                  </a:lnTo>
                  <a:lnTo>
                    <a:pt x="-19937" y="27794"/>
                  </a:lnTo>
                  <a:lnTo>
                    <a:pt x="-20284" y="28026"/>
                  </a:lnTo>
                  <a:lnTo>
                    <a:pt x="-20284" y="28026"/>
                  </a:lnTo>
                  <a:lnTo>
                    <a:pt x="-20631" y="28141"/>
                  </a:lnTo>
                  <a:lnTo>
                    <a:pt x="-20863" y="28257"/>
                  </a:lnTo>
                  <a:lnTo>
                    <a:pt x="-21094" y="28373"/>
                  </a:lnTo>
                  <a:lnTo>
                    <a:pt x="-21442" y="28373"/>
                  </a:lnTo>
                  <a:lnTo>
                    <a:pt x="-21673" y="28489"/>
                  </a:lnTo>
                  <a:lnTo>
                    <a:pt x="-22020" y="28489"/>
                  </a:lnTo>
                  <a:lnTo>
                    <a:pt x="-22252" y="28373"/>
                  </a:lnTo>
                  <a:lnTo>
                    <a:pt x="-22483" y="28141"/>
                  </a:lnTo>
                  <a:lnTo>
                    <a:pt x="-22483" y="28141"/>
                  </a:lnTo>
                  <a:lnTo>
                    <a:pt x="-22715" y="28257"/>
                  </a:lnTo>
                  <a:lnTo>
                    <a:pt x="-22830" y="28373"/>
                  </a:lnTo>
                  <a:lnTo>
                    <a:pt x="-23062" y="28489"/>
                  </a:lnTo>
                  <a:lnTo>
                    <a:pt x="-23293" y="28605"/>
                  </a:lnTo>
                  <a:lnTo>
                    <a:pt x="-23409" y="28605"/>
                  </a:lnTo>
                  <a:lnTo>
                    <a:pt x="-23640" y="28720"/>
                  </a:lnTo>
                  <a:lnTo>
                    <a:pt x="-23872" y="28720"/>
                  </a:lnTo>
                  <a:lnTo>
                    <a:pt x="-24103" y="28605"/>
                  </a:lnTo>
                  <a:lnTo>
                    <a:pt x="-24103" y="28605"/>
                  </a:lnTo>
                  <a:lnTo>
                    <a:pt x="-24335" y="28952"/>
                  </a:lnTo>
                  <a:lnTo>
                    <a:pt x="-24566" y="29184"/>
                  </a:lnTo>
                  <a:lnTo>
                    <a:pt x="-24798" y="29299"/>
                  </a:lnTo>
                  <a:lnTo>
                    <a:pt x="-25145" y="29415"/>
                  </a:lnTo>
                  <a:lnTo>
                    <a:pt x="-25376" y="29531"/>
                  </a:lnTo>
                  <a:lnTo>
                    <a:pt x="-25724" y="29531"/>
                  </a:lnTo>
                  <a:lnTo>
                    <a:pt x="-26071" y="29647"/>
                  </a:lnTo>
                  <a:lnTo>
                    <a:pt x="-26418" y="29531"/>
                  </a:lnTo>
                  <a:lnTo>
                    <a:pt x="-26418" y="29531"/>
                  </a:lnTo>
                  <a:lnTo>
                    <a:pt x="-26534" y="29531"/>
                  </a:lnTo>
                  <a:lnTo>
                    <a:pt x="-26650" y="29415"/>
                  </a:lnTo>
                  <a:lnTo>
                    <a:pt x="-26765" y="29299"/>
                  </a:lnTo>
                  <a:lnTo>
                    <a:pt x="-26881" y="29184"/>
                  </a:lnTo>
                  <a:lnTo>
                    <a:pt x="-26997" y="29068"/>
                  </a:lnTo>
                  <a:lnTo>
                    <a:pt x="-27112" y="28952"/>
                  </a:lnTo>
                  <a:lnTo>
                    <a:pt x="-27228" y="28952"/>
                  </a:lnTo>
                  <a:lnTo>
                    <a:pt x="-27460" y="29068"/>
                  </a:lnTo>
                  <a:lnTo>
                    <a:pt x="-27460" y="29068"/>
                  </a:lnTo>
                  <a:lnTo>
                    <a:pt x="-27575" y="29184"/>
                  </a:lnTo>
                  <a:lnTo>
                    <a:pt x="-27691" y="29299"/>
                  </a:lnTo>
                  <a:lnTo>
                    <a:pt x="-27923" y="29415"/>
                  </a:lnTo>
                  <a:lnTo>
                    <a:pt x="-28038" y="29531"/>
                  </a:lnTo>
                  <a:lnTo>
                    <a:pt x="-28270" y="29647"/>
                  </a:lnTo>
                  <a:lnTo>
                    <a:pt x="-28385" y="29763"/>
                  </a:lnTo>
                  <a:lnTo>
                    <a:pt x="-28617" y="29879"/>
                  </a:lnTo>
                  <a:lnTo>
                    <a:pt x="-28733" y="29994"/>
                  </a:lnTo>
                  <a:lnTo>
                    <a:pt x="-28733" y="29994"/>
                  </a:lnTo>
                  <a:lnTo>
                    <a:pt x="-28733" y="30689"/>
                  </a:lnTo>
                  <a:lnTo>
                    <a:pt x="-28733" y="31268"/>
                  </a:lnTo>
                  <a:lnTo>
                    <a:pt x="-28617" y="31963"/>
                  </a:lnTo>
                  <a:lnTo>
                    <a:pt x="-28501" y="32542"/>
                  </a:lnTo>
                  <a:lnTo>
                    <a:pt x="-28385" y="-32299"/>
                  </a:lnTo>
                  <a:lnTo>
                    <a:pt x="-28385" y="-31720"/>
                  </a:lnTo>
                  <a:lnTo>
                    <a:pt x="-28270" y="-31025"/>
                  </a:lnTo>
                  <a:lnTo>
                    <a:pt x="-28154" y="-30446"/>
                  </a:lnTo>
                  <a:lnTo>
                    <a:pt x="-28154" y="-30446"/>
                  </a:lnTo>
                  <a:lnTo>
                    <a:pt x="-28501" y="-30214"/>
                  </a:lnTo>
                  <a:lnTo>
                    <a:pt x="-28733" y="-29983"/>
                  </a:lnTo>
                  <a:lnTo>
                    <a:pt x="-29196" y="-29867"/>
                  </a:lnTo>
                  <a:lnTo>
                    <a:pt x="-29543" y="-29867"/>
                  </a:lnTo>
                  <a:lnTo>
                    <a:pt x="-29890" y="-29751"/>
                  </a:lnTo>
                  <a:lnTo>
                    <a:pt x="-30237" y="-29751"/>
                  </a:lnTo>
                  <a:lnTo>
                    <a:pt x="-30700" y="-29635"/>
                  </a:lnTo>
                  <a:lnTo>
                    <a:pt x="-31047" y="-29635"/>
                  </a:lnTo>
                  <a:lnTo>
                    <a:pt x="-31047" y="-29635"/>
                  </a:lnTo>
                  <a:lnTo>
                    <a:pt x="-31047" y="-29288"/>
                  </a:lnTo>
                  <a:lnTo>
                    <a:pt x="-31047" y="-29288"/>
                  </a:lnTo>
                  <a:lnTo>
                    <a:pt x="-30700" y="-28825"/>
                  </a:lnTo>
                  <a:lnTo>
                    <a:pt x="-30353" y="-28246"/>
                  </a:lnTo>
                  <a:lnTo>
                    <a:pt x="-30006" y="-27782"/>
                  </a:lnTo>
                  <a:lnTo>
                    <a:pt x="-29774" y="-27319"/>
                  </a:lnTo>
                  <a:lnTo>
                    <a:pt x="-29427" y="-26856"/>
                  </a:lnTo>
                  <a:lnTo>
                    <a:pt x="-29080" y="-26277"/>
                  </a:lnTo>
                  <a:lnTo>
                    <a:pt x="-28848" y="-25814"/>
                  </a:lnTo>
                  <a:lnTo>
                    <a:pt x="-28617" y="-25235"/>
                  </a:lnTo>
                  <a:lnTo>
                    <a:pt x="-28617" y="-25235"/>
                  </a:lnTo>
                  <a:lnTo>
                    <a:pt x="-28733" y="-24540"/>
                  </a:lnTo>
                  <a:lnTo>
                    <a:pt x="-28848" y="-23729"/>
                  </a:lnTo>
                  <a:lnTo>
                    <a:pt x="-28964" y="-23034"/>
                  </a:lnTo>
                  <a:lnTo>
                    <a:pt x="-29196" y="-22224"/>
                  </a:lnTo>
                  <a:lnTo>
                    <a:pt x="-29311" y="-21529"/>
                  </a:lnTo>
                  <a:lnTo>
                    <a:pt x="-29543" y="-20718"/>
                  </a:lnTo>
                  <a:lnTo>
                    <a:pt x="-29659" y="-20023"/>
                  </a:lnTo>
                  <a:lnTo>
                    <a:pt x="-29890" y="-19213"/>
                  </a:lnTo>
                  <a:lnTo>
                    <a:pt x="-29890" y="-19213"/>
                  </a:lnTo>
                  <a:lnTo>
                    <a:pt x="-29774" y="-18865"/>
                  </a:lnTo>
                  <a:lnTo>
                    <a:pt x="-29543" y="-18518"/>
                  </a:lnTo>
                  <a:lnTo>
                    <a:pt x="-29427" y="-18286"/>
                  </a:lnTo>
                  <a:lnTo>
                    <a:pt x="-29196" y="-18054"/>
                  </a:lnTo>
                  <a:lnTo>
                    <a:pt x="-28964" y="-17707"/>
                  </a:lnTo>
                  <a:lnTo>
                    <a:pt x="-28733" y="-17475"/>
                  </a:lnTo>
                  <a:lnTo>
                    <a:pt x="-28501" y="-17244"/>
                  </a:lnTo>
                  <a:lnTo>
                    <a:pt x="-28501" y="-16896"/>
                  </a:lnTo>
                  <a:lnTo>
                    <a:pt x="-28501" y="-16896"/>
                  </a:lnTo>
                  <a:lnTo>
                    <a:pt x="-28385" y="-16665"/>
                  </a:lnTo>
                  <a:lnTo>
                    <a:pt x="-28154" y="-16317"/>
                  </a:lnTo>
                  <a:lnTo>
                    <a:pt x="-28038" y="-16086"/>
                  </a:lnTo>
                  <a:lnTo>
                    <a:pt x="-27807" y="-15854"/>
                  </a:lnTo>
                  <a:lnTo>
                    <a:pt x="-27691" y="-15622"/>
                  </a:lnTo>
                  <a:lnTo>
                    <a:pt x="-27575" y="-15391"/>
                  </a:lnTo>
                  <a:lnTo>
                    <a:pt x="-27344" y="-15159"/>
                  </a:lnTo>
                  <a:lnTo>
                    <a:pt x="-27344" y="-14928"/>
                  </a:lnTo>
                  <a:lnTo>
                    <a:pt x="-27344" y="-14928"/>
                  </a:lnTo>
                  <a:lnTo>
                    <a:pt x="-27228" y="-14464"/>
                  </a:lnTo>
                  <a:lnTo>
                    <a:pt x="-26997" y="-14117"/>
                  </a:lnTo>
                  <a:lnTo>
                    <a:pt x="-26881" y="-13654"/>
                  </a:lnTo>
                  <a:lnTo>
                    <a:pt x="-26881" y="-13190"/>
                  </a:lnTo>
                  <a:lnTo>
                    <a:pt x="-26765" y="-12727"/>
                  </a:lnTo>
                  <a:lnTo>
                    <a:pt x="-26765" y="-12380"/>
                  </a:lnTo>
                  <a:lnTo>
                    <a:pt x="-26881" y="-11917"/>
                  </a:lnTo>
                  <a:lnTo>
                    <a:pt x="-27228" y="-11569"/>
                  </a:lnTo>
                  <a:lnTo>
                    <a:pt x="-27228" y="-11569"/>
                  </a:lnTo>
                  <a:lnTo>
                    <a:pt x="-27228" y="-11453"/>
                  </a:lnTo>
                  <a:lnTo>
                    <a:pt x="-27344" y="-11453"/>
                  </a:lnTo>
                  <a:lnTo>
                    <a:pt x="-27344" y="-11453"/>
                  </a:lnTo>
                  <a:lnTo>
                    <a:pt x="-27460" y="-11453"/>
                  </a:lnTo>
                  <a:lnTo>
                    <a:pt x="-27460" y="-11453"/>
                  </a:lnTo>
                  <a:lnTo>
                    <a:pt x="-27575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7691" y="-11453"/>
                  </a:lnTo>
                  <a:lnTo>
                    <a:pt x="-28154" y="-11222"/>
                  </a:lnTo>
                  <a:lnTo>
                    <a:pt x="-28733" y="-11106"/>
                  </a:lnTo>
                  <a:lnTo>
                    <a:pt x="-29311" y="-11106"/>
                  </a:lnTo>
                  <a:lnTo>
                    <a:pt x="-29890" y="-11222"/>
                  </a:lnTo>
                  <a:lnTo>
                    <a:pt x="-30353" y="-11337"/>
                  </a:lnTo>
                  <a:lnTo>
                    <a:pt x="-30932" y="-11453"/>
                  </a:lnTo>
                  <a:lnTo>
                    <a:pt x="-31395" y="-11685"/>
                  </a:lnTo>
                  <a:lnTo>
                    <a:pt x="-31857" y="-12032"/>
                  </a:lnTo>
                  <a:lnTo>
                    <a:pt x="-31857" y="-12032"/>
                  </a:lnTo>
                  <a:lnTo>
                    <a:pt x="-32320" y="-12496"/>
                  </a:lnTo>
                  <a:lnTo>
                    <a:pt x="-32552" y="-13075"/>
                  </a:lnTo>
                  <a:lnTo>
                    <a:pt x="32753" y="-13769"/>
                  </a:lnTo>
                  <a:lnTo>
                    <a:pt x="32637" y="-14464"/>
                  </a:lnTo>
                  <a:lnTo>
                    <a:pt x="32405" y="-15159"/>
                  </a:lnTo>
                  <a:lnTo>
                    <a:pt x="32058" y="-15622"/>
                  </a:lnTo>
                  <a:lnTo>
                    <a:pt x="31595" y="-16086"/>
                  </a:lnTo>
                  <a:lnTo>
                    <a:pt x="30785" y="-16201"/>
                  </a:lnTo>
                  <a:lnTo>
                    <a:pt x="30785" y="-16201"/>
                  </a:lnTo>
                  <a:lnTo>
                    <a:pt x="30670" y="-16317"/>
                  </a:lnTo>
                  <a:lnTo>
                    <a:pt x="30554" y="-16549"/>
                  </a:lnTo>
                  <a:lnTo>
                    <a:pt x="30438" y="-16781"/>
                  </a:lnTo>
                  <a:lnTo>
                    <a:pt x="30322" y="-16896"/>
                  </a:lnTo>
                  <a:lnTo>
                    <a:pt x="30322" y="-17128"/>
                  </a:lnTo>
                  <a:lnTo>
                    <a:pt x="30322" y="-17360"/>
                  </a:lnTo>
                  <a:lnTo>
                    <a:pt x="30322" y="-17591"/>
                  </a:lnTo>
                  <a:lnTo>
                    <a:pt x="30322" y="-17823"/>
                  </a:lnTo>
                  <a:lnTo>
                    <a:pt x="30322" y="-17823"/>
                  </a:lnTo>
                  <a:lnTo>
                    <a:pt x="30554" y="-18170"/>
                  </a:lnTo>
                  <a:lnTo>
                    <a:pt x="30785" y="-18518"/>
                  </a:lnTo>
                  <a:lnTo>
                    <a:pt x="31132" y="-18749"/>
                  </a:lnTo>
                  <a:lnTo>
                    <a:pt x="31480" y="-18981"/>
                  </a:lnTo>
                  <a:lnTo>
                    <a:pt x="31827" y="-19213"/>
                  </a:lnTo>
                  <a:lnTo>
                    <a:pt x="32174" y="-19444"/>
                  </a:lnTo>
                  <a:lnTo>
                    <a:pt x="32405" y="-19676"/>
                  </a:lnTo>
                  <a:lnTo>
                    <a:pt x="32637" y="-20139"/>
                  </a:lnTo>
                  <a:lnTo>
                    <a:pt x="32637" y="-20139"/>
                  </a:lnTo>
                  <a:lnTo>
                    <a:pt x="-32668" y="-20950"/>
                  </a:lnTo>
                  <a:lnTo>
                    <a:pt x="-32436" y="-21876"/>
                  </a:lnTo>
                  <a:lnTo>
                    <a:pt x="-32205" y="-22803"/>
                  </a:lnTo>
                  <a:lnTo>
                    <a:pt x="-32089" y="-23729"/>
                  </a:lnTo>
                  <a:lnTo>
                    <a:pt x="-32089" y="-24656"/>
                  </a:lnTo>
                  <a:lnTo>
                    <a:pt x="-32205" y="-25466"/>
                  </a:lnTo>
                  <a:lnTo>
                    <a:pt x="-32552" y="-26277"/>
                  </a:lnTo>
                  <a:lnTo>
                    <a:pt x="32290" y="-27088"/>
                  </a:lnTo>
                  <a:lnTo>
                    <a:pt x="32290" y="-27088"/>
                  </a:lnTo>
                  <a:lnTo>
                    <a:pt x="30901" y="-28593"/>
                  </a:lnTo>
                  <a:lnTo>
                    <a:pt x="30901" y="-28593"/>
                  </a:lnTo>
                  <a:lnTo>
                    <a:pt x="29744" y="-28130"/>
                  </a:lnTo>
                  <a:lnTo>
                    <a:pt x="28586" y="-27667"/>
                  </a:lnTo>
                  <a:lnTo>
                    <a:pt x="27545" y="-27203"/>
                  </a:lnTo>
                  <a:lnTo>
                    <a:pt x="26387" y="-26740"/>
                  </a:lnTo>
                  <a:lnTo>
                    <a:pt x="25230" y="-26161"/>
                  </a:lnTo>
                  <a:lnTo>
                    <a:pt x="24073" y="-25698"/>
                  </a:lnTo>
                  <a:lnTo>
                    <a:pt x="23031" y="-25119"/>
                  </a:lnTo>
                  <a:lnTo>
                    <a:pt x="21874" y="-24656"/>
                  </a:lnTo>
                  <a:lnTo>
                    <a:pt x="21874" y="-24656"/>
                  </a:lnTo>
                  <a:lnTo>
                    <a:pt x="21990" y="-24192"/>
                  </a:lnTo>
                  <a:lnTo>
                    <a:pt x="22221" y="-23845"/>
                  </a:lnTo>
                  <a:lnTo>
                    <a:pt x="22337" y="-23382"/>
                  </a:lnTo>
                  <a:lnTo>
                    <a:pt x="22568" y="-23034"/>
                  </a:lnTo>
                  <a:lnTo>
                    <a:pt x="22684" y="-22687"/>
                  </a:lnTo>
                  <a:lnTo>
                    <a:pt x="22915" y="-22224"/>
                  </a:lnTo>
                  <a:lnTo>
                    <a:pt x="23147" y="-21876"/>
                  </a:lnTo>
                  <a:lnTo>
                    <a:pt x="23263" y="-21529"/>
                  </a:lnTo>
                  <a:lnTo>
                    <a:pt x="23263" y="-21529"/>
                  </a:lnTo>
                  <a:lnTo>
                    <a:pt x="23263" y="-21181"/>
                  </a:lnTo>
                  <a:lnTo>
                    <a:pt x="23147" y="-20950"/>
                  </a:lnTo>
                  <a:lnTo>
                    <a:pt x="23031" y="-20718"/>
                  </a:lnTo>
                  <a:lnTo>
                    <a:pt x="22915" y="-20486"/>
                  </a:lnTo>
                  <a:lnTo>
                    <a:pt x="22684" y="-20371"/>
                  </a:lnTo>
                  <a:lnTo>
                    <a:pt x="22453" y="-20139"/>
                  </a:lnTo>
                  <a:lnTo>
                    <a:pt x="22221" y="-19907"/>
                  </a:lnTo>
                  <a:lnTo>
                    <a:pt x="22105" y="-19792"/>
                  </a:lnTo>
                  <a:lnTo>
                    <a:pt x="22105" y="-19792"/>
                  </a:lnTo>
                  <a:lnTo>
                    <a:pt x="20601" y="-17939"/>
                  </a:lnTo>
                  <a:lnTo>
                    <a:pt x="20601" y="-17939"/>
                  </a:lnTo>
                  <a:lnTo>
                    <a:pt x="20485" y="-17475"/>
                  </a:lnTo>
                  <a:lnTo>
                    <a:pt x="20485" y="-17012"/>
                  </a:lnTo>
                  <a:lnTo>
                    <a:pt x="20369" y="-16433"/>
                  </a:lnTo>
                  <a:lnTo>
                    <a:pt x="20254" y="-15970"/>
                  </a:lnTo>
                  <a:lnTo>
                    <a:pt x="20254" y="-15507"/>
                  </a:lnTo>
                  <a:lnTo>
                    <a:pt x="20254" y="-15043"/>
                  </a:lnTo>
                  <a:lnTo>
                    <a:pt x="20254" y="-14580"/>
                  </a:lnTo>
                  <a:lnTo>
                    <a:pt x="20369" y="-14117"/>
                  </a:lnTo>
                  <a:lnTo>
                    <a:pt x="20369" y="-14117"/>
                  </a:lnTo>
                  <a:lnTo>
                    <a:pt x="20485" y="-14117"/>
                  </a:lnTo>
                  <a:lnTo>
                    <a:pt x="20601" y="-14117"/>
                  </a:lnTo>
                  <a:lnTo>
                    <a:pt x="20832" y="-14001"/>
                  </a:lnTo>
                  <a:lnTo>
                    <a:pt x="20832" y="-13885"/>
                  </a:lnTo>
                  <a:lnTo>
                    <a:pt x="20948" y="-13769"/>
                  </a:lnTo>
                  <a:lnTo>
                    <a:pt x="21064" y="-13654"/>
                  </a:lnTo>
                  <a:lnTo>
                    <a:pt x="21179" y="-13538"/>
                  </a:lnTo>
                  <a:lnTo>
                    <a:pt x="21411" y="-13538"/>
                  </a:lnTo>
                  <a:lnTo>
                    <a:pt x="21411" y="-13538"/>
                  </a:lnTo>
                  <a:lnTo>
                    <a:pt x="23031" y="-13422"/>
                  </a:lnTo>
                  <a:lnTo>
                    <a:pt x="23031" y="-13422"/>
                  </a:lnTo>
                  <a:lnTo>
                    <a:pt x="23031" y="-13306"/>
                  </a:lnTo>
                  <a:lnTo>
                    <a:pt x="23147" y="-13190"/>
                  </a:lnTo>
                  <a:lnTo>
                    <a:pt x="23263" y="-13075"/>
                  </a:lnTo>
                  <a:lnTo>
                    <a:pt x="23378" y="-12959"/>
                  </a:lnTo>
                  <a:lnTo>
                    <a:pt x="23494" y="-12843"/>
                  </a:lnTo>
                  <a:lnTo>
                    <a:pt x="23610" y="-12611"/>
                  </a:lnTo>
                  <a:lnTo>
                    <a:pt x="23610" y="-12496"/>
                  </a:lnTo>
                  <a:lnTo>
                    <a:pt x="23726" y="-12264"/>
                  </a:lnTo>
                  <a:lnTo>
                    <a:pt x="23726" y="-12264"/>
                  </a:lnTo>
                  <a:lnTo>
                    <a:pt x="23726" y="-12032"/>
                  </a:lnTo>
                  <a:lnTo>
                    <a:pt x="23610" y="-11801"/>
                  </a:lnTo>
                  <a:lnTo>
                    <a:pt x="23494" y="-11569"/>
                  </a:lnTo>
                  <a:lnTo>
                    <a:pt x="23378" y="-11453"/>
                  </a:lnTo>
                  <a:lnTo>
                    <a:pt x="23147" y="-11222"/>
                  </a:lnTo>
                  <a:lnTo>
                    <a:pt x="22915" y="-11106"/>
                  </a:lnTo>
                  <a:lnTo>
                    <a:pt x="22684" y="-10990"/>
                  </a:lnTo>
                  <a:lnTo>
                    <a:pt x="22453" y="-10874"/>
                  </a:lnTo>
                  <a:lnTo>
                    <a:pt x="22453" y="-10874"/>
                  </a:lnTo>
                  <a:lnTo>
                    <a:pt x="21758" y="-10643"/>
                  </a:lnTo>
                  <a:lnTo>
                    <a:pt x="21179" y="-10643"/>
                  </a:lnTo>
                  <a:lnTo>
                    <a:pt x="20485" y="-10643"/>
                  </a:lnTo>
                  <a:lnTo>
                    <a:pt x="19791" y="-10758"/>
                  </a:lnTo>
                  <a:lnTo>
                    <a:pt x="19096" y="-10990"/>
                  </a:lnTo>
                  <a:lnTo>
                    <a:pt x="18518" y="-11222"/>
                  </a:lnTo>
                  <a:lnTo>
                    <a:pt x="17939" y="-11569"/>
                  </a:lnTo>
                  <a:lnTo>
                    <a:pt x="17360" y="-11917"/>
                  </a:lnTo>
                  <a:lnTo>
                    <a:pt x="17360" y="-11917"/>
                  </a:lnTo>
                  <a:lnTo>
                    <a:pt x="17013" y="-12496"/>
                  </a:lnTo>
                  <a:lnTo>
                    <a:pt x="16782" y="-13190"/>
                  </a:lnTo>
                  <a:lnTo>
                    <a:pt x="16550" y="-13769"/>
                  </a:lnTo>
                  <a:lnTo>
                    <a:pt x="16319" y="-14464"/>
                  </a:lnTo>
                  <a:lnTo>
                    <a:pt x="15972" y="-15043"/>
                  </a:lnTo>
                  <a:lnTo>
                    <a:pt x="15509" y="-15622"/>
                  </a:lnTo>
                  <a:lnTo>
                    <a:pt x="15046" y="-16086"/>
                  </a:lnTo>
                  <a:lnTo>
                    <a:pt x="14351" y="-16317"/>
                  </a:lnTo>
                  <a:lnTo>
                    <a:pt x="14351" y="-16317"/>
                  </a:lnTo>
                  <a:lnTo>
                    <a:pt x="14236" y="-16433"/>
                  </a:lnTo>
                  <a:lnTo>
                    <a:pt x="14120" y="-16549"/>
                  </a:lnTo>
                  <a:lnTo>
                    <a:pt x="14120" y="-16781"/>
                  </a:lnTo>
                  <a:lnTo>
                    <a:pt x="14004" y="-16896"/>
                  </a:lnTo>
                  <a:lnTo>
                    <a:pt x="14004" y="-17128"/>
                  </a:lnTo>
                  <a:lnTo>
                    <a:pt x="14004" y="-17244"/>
                  </a:lnTo>
                  <a:lnTo>
                    <a:pt x="14120" y="-17360"/>
                  </a:lnTo>
                  <a:lnTo>
                    <a:pt x="14120" y="-17591"/>
                  </a:lnTo>
                  <a:lnTo>
                    <a:pt x="14120" y="-17591"/>
                  </a:lnTo>
                  <a:lnTo>
                    <a:pt x="14467" y="-17939"/>
                  </a:lnTo>
                  <a:lnTo>
                    <a:pt x="14930" y="-18286"/>
                  </a:lnTo>
                  <a:lnTo>
                    <a:pt x="15393" y="-18402"/>
                  </a:lnTo>
                  <a:lnTo>
                    <a:pt x="15972" y="-18633"/>
                  </a:lnTo>
                  <a:lnTo>
                    <a:pt x="16434" y="-18749"/>
                  </a:lnTo>
                  <a:lnTo>
                    <a:pt x="17013" y="-18865"/>
                  </a:lnTo>
                  <a:lnTo>
                    <a:pt x="17476" y="-19097"/>
                  </a:lnTo>
                  <a:lnTo>
                    <a:pt x="17939" y="-19444"/>
                  </a:lnTo>
                  <a:lnTo>
                    <a:pt x="17939" y="-19444"/>
                  </a:lnTo>
                  <a:lnTo>
                    <a:pt x="18286" y="-19792"/>
                  </a:lnTo>
                  <a:lnTo>
                    <a:pt x="18633" y="-20023"/>
                  </a:lnTo>
                  <a:lnTo>
                    <a:pt x="18981" y="-20255"/>
                  </a:lnTo>
                  <a:lnTo>
                    <a:pt x="19328" y="-20602"/>
                  </a:lnTo>
                  <a:lnTo>
                    <a:pt x="19559" y="-20950"/>
                  </a:lnTo>
                  <a:lnTo>
                    <a:pt x="19791" y="-21297"/>
                  </a:lnTo>
                  <a:lnTo>
                    <a:pt x="20022" y="-21645"/>
                  </a:lnTo>
                  <a:lnTo>
                    <a:pt x="20369" y="-21992"/>
                  </a:lnTo>
                  <a:lnTo>
                    <a:pt x="20369" y="-21992"/>
                  </a:lnTo>
                  <a:lnTo>
                    <a:pt x="20138" y="-22108"/>
                  </a:lnTo>
                  <a:lnTo>
                    <a:pt x="20022" y="-22339"/>
                  </a:lnTo>
                  <a:lnTo>
                    <a:pt x="19906" y="-22571"/>
                  </a:lnTo>
                  <a:lnTo>
                    <a:pt x="19906" y="-22803"/>
                  </a:lnTo>
                  <a:lnTo>
                    <a:pt x="19791" y="-23034"/>
                  </a:lnTo>
                  <a:lnTo>
                    <a:pt x="19675" y="-23266"/>
                  </a:lnTo>
                  <a:lnTo>
                    <a:pt x="19559" y="-23382"/>
                  </a:lnTo>
                  <a:lnTo>
                    <a:pt x="19443" y="-23613"/>
                  </a:lnTo>
                  <a:lnTo>
                    <a:pt x="19443" y="-23613"/>
                  </a:lnTo>
                  <a:lnTo>
                    <a:pt x="18633" y="-23266"/>
                  </a:lnTo>
                  <a:lnTo>
                    <a:pt x="17823" y="-22918"/>
                  </a:lnTo>
                  <a:lnTo>
                    <a:pt x="17129" y="-22571"/>
                  </a:lnTo>
                  <a:lnTo>
                    <a:pt x="16319" y="-22224"/>
                  </a:lnTo>
                  <a:lnTo>
                    <a:pt x="15624" y="-21876"/>
                  </a:lnTo>
                  <a:lnTo>
                    <a:pt x="14814" y="-21529"/>
                  </a:lnTo>
                  <a:lnTo>
                    <a:pt x="14120" y="-21297"/>
                  </a:lnTo>
                  <a:lnTo>
                    <a:pt x="13194" y="-21181"/>
                  </a:lnTo>
                  <a:lnTo>
                    <a:pt x="13194" y="-21181"/>
                  </a:lnTo>
                  <a:lnTo>
                    <a:pt x="13194" y="-21297"/>
                  </a:lnTo>
                  <a:lnTo>
                    <a:pt x="13194" y="-21413"/>
                  </a:lnTo>
                  <a:lnTo>
                    <a:pt x="13078" y="-21645"/>
                  </a:lnTo>
                  <a:lnTo>
                    <a:pt x="13078" y="-21760"/>
                  </a:lnTo>
                  <a:lnTo>
                    <a:pt x="13078" y="-21876"/>
                  </a:lnTo>
                  <a:lnTo>
                    <a:pt x="13078" y="-22108"/>
                  </a:lnTo>
                  <a:lnTo>
                    <a:pt x="13078" y="-22224"/>
                  </a:lnTo>
                  <a:lnTo>
                    <a:pt x="12962" y="-22339"/>
                  </a:lnTo>
                  <a:lnTo>
                    <a:pt x="12962" y="-22339"/>
                  </a:lnTo>
                  <a:lnTo>
                    <a:pt x="12847" y="-22224"/>
                  </a:lnTo>
                  <a:lnTo>
                    <a:pt x="12731" y="-22224"/>
                  </a:lnTo>
                  <a:lnTo>
                    <a:pt x="12615" y="-22108"/>
                  </a:lnTo>
                  <a:lnTo>
                    <a:pt x="12500" y="-22108"/>
                  </a:lnTo>
                  <a:lnTo>
                    <a:pt x="12384" y="-22108"/>
                  </a:lnTo>
                  <a:lnTo>
                    <a:pt x="12268" y="-21992"/>
                  </a:lnTo>
                  <a:lnTo>
                    <a:pt x="12152" y="-22108"/>
                  </a:lnTo>
                  <a:lnTo>
                    <a:pt x="12037" y="-22108"/>
                  </a:lnTo>
                  <a:lnTo>
                    <a:pt x="12037" y="-22108"/>
                  </a:lnTo>
                  <a:lnTo>
                    <a:pt x="12037" y="-22339"/>
                  </a:lnTo>
                  <a:lnTo>
                    <a:pt x="12037" y="-22339"/>
                  </a:lnTo>
                  <a:lnTo>
                    <a:pt x="12037" y="-22455"/>
                  </a:lnTo>
                  <a:lnTo>
                    <a:pt x="11921" y="-22455"/>
                  </a:lnTo>
                  <a:lnTo>
                    <a:pt x="11805" y="-22455"/>
                  </a:lnTo>
                  <a:lnTo>
                    <a:pt x="11689" y="-22455"/>
                  </a:lnTo>
                  <a:lnTo>
                    <a:pt x="11574" y="-22339"/>
                  </a:lnTo>
                  <a:lnTo>
                    <a:pt x="11574" y="-22339"/>
                  </a:lnTo>
                  <a:lnTo>
                    <a:pt x="11458" y="-22339"/>
                  </a:lnTo>
                  <a:lnTo>
                    <a:pt x="11342" y="-22339"/>
                  </a:lnTo>
                  <a:lnTo>
                    <a:pt x="11342" y="-22339"/>
                  </a:lnTo>
                  <a:lnTo>
                    <a:pt x="11342" y="-22455"/>
                  </a:lnTo>
                  <a:lnTo>
                    <a:pt x="11342" y="-22571"/>
                  </a:lnTo>
                  <a:lnTo>
                    <a:pt x="11342" y="-22687"/>
                  </a:lnTo>
                  <a:lnTo>
                    <a:pt x="11342" y="-22803"/>
                  </a:lnTo>
                  <a:lnTo>
                    <a:pt x="11342" y="-22918"/>
                  </a:lnTo>
                  <a:lnTo>
                    <a:pt x="11342" y="-23034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342" y="-23150"/>
                  </a:lnTo>
                  <a:lnTo>
                    <a:pt x="11226" y="-23150"/>
                  </a:lnTo>
                  <a:lnTo>
                    <a:pt x="11111" y="-23034"/>
                  </a:lnTo>
                  <a:lnTo>
                    <a:pt x="10995" y="-23034"/>
                  </a:lnTo>
                  <a:lnTo>
                    <a:pt x="10879" y="-22918"/>
                  </a:lnTo>
                  <a:lnTo>
                    <a:pt x="10648" y="-22918"/>
                  </a:lnTo>
                  <a:lnTo>
                    <a:pt x="10532" y="-22918"/>
                  </a:lnTo>
                  <a:lnTo>
                    <a:pt x="10416" y="-22918"/>
                  </a:lnTo>
                  <a:lnTo>
                    <a:pt x="10301" y="-22918"/>
                  </a:lnTo>
                  <a:lnTo>
                    <a:pt x="10301" y="-22918"/>
                  </a:lnTo>
                  <a:lnTo>
                    <a:pt x="10416" y="-24192"/>
                  </a:lnTo>
                  <a:lnTo>
                    <a:pt x="10648" y="-25350"/>
                  </a:lnTo>
                  <a:lnTo>
                    <a:pt x="10764" y="-26509"/>
                  </a:lnTo>
                  <a:lnTo>
                    <a:pt x="10879" y="-27782"/>
                  </a:lnTo>
                  <a:lnTo>
                    <a:pt x="10995" y="-28941"/>
                  </a:lnTo>
                  <a:lnTo>
                    <a:pt x="11226" y="-30099"/>
                  </a:lnTo>
                  <a:lnTo>
                    <a:pt x="11342" y="-31257"/>
                  </a:lnTo>
                  <a:lnTo>
                    <a:pt x="11574" y="-32415"/>
                  </a:lnTo>
                  <a:lnTo>
                    <a:pt x="11574" y="-32415"/>
                  </a:lnTo>
                  <a:lnTo>
                    <a:pt x="11458" y="-32531"/>
                  </a:lnTo>
                  <a:lnTo>
                    <a:pt x="11342" y="-32646"/>
                  </a:lnTo>
                  <a:lnTo>
                    <a:pt x="11111" y="-32762"/>
                  </a:lnTo>
                  <a:lnTo>
                    <a:pt x="10995" y="32658"/>
                  </a:lnTo>
                  <a:lnTo>
                    <a:pt x="10879" y="32542"/>
                  </a:lnTo>
                  <a:lnTo>
                    <a:pt x="10648" y="32426"/>
                  </a:lnTo>
                  <a:lnTo>
                    <a:pt x="10532" y="32311"/>
                  </a:lnTo>
                  <a:lnTo>
                    <a:pt x="10532" y="32195"/>
                  </a:lnTo>
                  <a:lnTo>
                    <a:pt x="10532" y="32195"/>
                  </a:lnTo>
                  <a:lnTo>
                    <a:pt x="10532" y="32542"/>
                  </a:lnTo>
                  <a:lnTo>
                    <a:pt x="10532" y="-32762"/>
                  </a:lnTo>
                  <a:lnTo>
                    <a:pt x="10648" y="-32415"/>
                  </a:lnTo>
                  <a:lnTo>
                    <a:pt x="10764" y="-32067"/>
                  </a:lnTo>
                  <a:lnTo>
                    <a:pt x="10879" y="-31720"/>
                  </a:lnTo>
                  <a:lnTo>
                    <a:pt x="10879" y="-31488"/>
                  </a:lnTo>
                  <a:lnTo>
                    <a:pt x="10879" y="-31141"/>
                  </a:lnTo>
                  <a:lnTo>
                    <a:pt x="10879" y="-30793"/>
                  </a:lnTo>
                  <a:lnTo>
                    <a:pt x="10879" y="-30793"/>
                  </a:lnTo>
                  <a:lnTo>
                    <a:pt x="10764" y="-30678"/>
                  </a:lnTo>
                  <a:lnTo>
                    <a:pt x="10648" y="-30562"/>
                  </a:lnTo>
                  <a:lnTo>
                    <a:pt x="10532" y="-30562"/>
                  </a:lnTo>
                  <a:lnTo>
                    <a:pt x="10301" y="-30446"/>
                  </a:lnTo>
                  <a:lnTo>
                    <a:pt x="10185" y="-30446"/>
                  </a:lnTo>
                  <a:lnTo>
                    <a:pt x="9953" y="-30562"/>
                  </a:lnTo>
                  <a:lnTo>
                    <a:pt x="9838" y="-30562"/>
                  </a:lnTo>
                  <a:lnTo>
                    <a:pt x="9722" y="-30678"/>
                  </a:lnTo>
                  <a:lnTo>
                    <a:pt x="9722" y="-30678"/>
                  </a:lnTo>
                  <a:lnTo>
                    <a:pt x="9491" y="-30678"/>
                  </a:lnTo>
                  <a:lnTo>
                    <a:pt x="9259" y="-30909"/>
                  </a:lnTo>
                  <a:lnTo>
                    <a:pt x="9143" y="-31025"/>
                  </a:lnTo>
                  <a:lnTo>
                    <a:pt x="9028" y="-31257"/>
                  </a:lnTo>
                  <a:lnTo>
                    <a:pt x="8912" y="-31488"/>
                  </a:lnTo>
                  <a:lnTo>
                    <a:pt x="8796" y="-31604"/>
                  </a:lnTo>
                  <a:lnTo>
                    <a:pt x="8680" y="-31836"/>
                  </a:lnTo>
                  <a:lnTo>
                    <a:pt x="8565" y="-32067"/>
                  </a:lnTo>
                  <a:lnTo>
                    <a:pt x="8565" y="-32067"/>
                  </a:lnTo>
                  <a:lnTo>
                    <a:pt x="7870" y="-31836"/>
                  </a:lnTo>
                  <a:lnTo>
                    <a:pt x="7292" y="-31604"/>
                  </a:lnTo>
                  <a:lnTo>
                    <a:pt x="6597" y="-31373"/>
                  </a:lnTo>
                  <a:lnTo>
                    <a:pt x="6019" y="-31025"/>
                  </a:lnTo>
                  <a:lnTo>
                    <a:pt x="5440" y="-30793"/>
                  </a:lnTo>
                  <a:lnTo>
                    <a:pt x="4861" y="-30562"/>
                  </a:lnTo>
                  <a:lnTo>
                    <a:pt x="4167" y="-30330"/>
                  </a:lnTo>
                  <a:lnTo>
                    <a:pt x="3588" y="-30099"/>
                  </a:lnTo>
                  <a:lnTo>
                    <a:pt x="3588" y="-30099"/>
                  </a:lnTo>
                  <a:lnTo>
                    <a:pt x="3241" y="-30099"/>
                  </a:lnTo>
                  <a:lnTo>
                    <a:pt x="2894" y="-30099"/>
                  </a:lnTo>
                  <a:lnTo>
                    <a:pt x="2547" y="-30099"/>
                  </a:lnTo>
                  <a:lnTo>
                    <a:pt x="2199" y="-30330"/>
                  </a:lnTo>
                  <a:lnTo>
                    <a:pt x="1852" y="-30446"/>
                  </a:lnTo>
                  <a:lnTo>
                    <a:pt x="1505" y="-30678"/>
                  </a:lnTo>
                  <a:lnTo>
                    <a:pt x="1274" y="-30909"/>
                  </a:lnTo>
                  <a:lnTo>
                    <a:pt x="926" y="-31141"/>
                  </a:lnTo>
                  <a:lnTo>
                    <a:pt x="926" y="-31141"/>
                  </a:lnTo>
                  <a:lnTo>
                    <a:pt x="579" y="-31720"/>
                  </a:lnTo>
                  <a:lnTo>
                    <a:pt x="232" y="-32415"/>
                  </a:lnTo>
                  <a:lnTo>
                    <a:pt x="116" y="32426"/>
                  </a:lnTo>
                  <a:lnTo>
                    <a:pt x="0" y="31731"/>
                  </a:lnTo>
                  <a:lnTo>
                    <a:pt x="0" y="31037"/>
                  </a:lnTo>
                  <a:lnTo>
                    <a:pt x="116" y="30342"/>
                  </a:lnTo>
                  <a:lnTo>
                    <a:pt x="348" y="29647"/>
                  </a:lnTo>
                  <a:lnTo>
                    <a:pt x="579" y="29068"/>
                  </a:lnTo>
                  <a:lnTo>
                    <a:pt x="579" y="29068"/>
                  </a:lnTo>
                  <a:lnTo>
                    <a:pt x="1158" y="28257"/>
                  </a:lnTo>
                  <a:lnTo>
                    <a:pt x="1968" y="27910"/>
                  </a:lnTo>
                  <a:lnTo>
                    <a:pt x="2894" y="27678"/>
                  </a:lnTo>
                  <a:lnTo>
                    <a:pt x="3820" y="27562"/>
                  </a:lnTo>
                  <a:lnTo>
                    <a:pt x="4745" y="27562"/>
                  </a:lnTo>
                  <a:lnTo>
                    <a:pt x="5671" y="27331"/>
                  </a:lnTo>
                  <a:lnTo>
                    <a:pt x="6597" y="27099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407" y="26520"/>
                  </a:lnTo>
                  <a:lnTo>
                    <a:pt x="7523" y="26520"/>
                  </a:lnTo>
                  <a:lnTo>
                    <a:pt x="7523" y="26520"/>
                  </a:lnTo>
                  <a:lnTo>
                    <a:pt x="7639" y="26520"/>
                  </a:lnTo>
                  <a:lnTo>
                    <a:pt x="7639" y="26520"/>
                  </a:lnTo>
                  <a:lnTo>
                    <a:pt x="7755" y="26520"/>
                  </a:lnTo>
                  <a:lnTo>
                    <a:pt x="7755" y="26520"/>
                  </a:lnTo>
                  <a:lnTo>
                    <a:pt x="7870" y="26520"/>
                  </a:lnTo>
                  <a:lnTo>
                    <a:pt x="7870" y="26520"/>
                  </a:lnTo>
                  <a:lnTo>
                    <a:pt x="7292" y="25709"/>
                  </a:lnTo>
                  <a:lnTo>
                    <a:pt x="6713" y="25014"/>
                  </a:lnTo>
                  <a:lnTo>
                    <a:pt x="6250" y="24204"/>
                  </a:lnTo>
                  <a:lnTo>
                    <a:pt x="5787" y="23393"/>
                  </a:lnTo>
                  <a:lnTo>
                    <a:pt x="5440" y="22582"/>
                  </a:lnTo>
                  <a:lnTo>
                    <a:pt x="5208" y="21772"/>
                  </a:lnTo>
                  <a:lnTo>
                    <a:pt x="5208" y="20845"/>
                  </a:lnTo>
                  <a:lnTo>
                    <a:pt x="5324" y="19919"/>
                  </a:lnTo>
                  <a:lnTo>
                    <a:pt x="5324" y="19919"/>
                  </a:lnTo>
                  <a:lnTo>
                    <a:pt x="5440" y="19571"/>
                  </a:lnTo>
                  <a:lnTo>
                    <a:pt x="5671" y="19224"/>
                  </a:lnTo>
                  <a:lnTo>
                    <a:pt x="6019" y="19108"/>
                  </a:lnTo>
                  <a:lnTo>
                    <a:pt x="6366" y="18992"/>
                  </a:lnTo>
                  <a:lnTo>
                    <a:pt x="6713" y="18877"/>
                  </a:lnTo>
                  <a:lnTo>
                    <a:pt x="7060" y="18761"/>
                  </a:lnTo>
                  <a:lnTo>
                    <a:pt x="7523" y="18761"/>
                  </a:lnTo>
                  <a:lnTo>
                    <a:pt x="7870" y="18645"/>
                  </a:lnTo>
                  <a:lnTo>
                    <a:pt x="7870" y="18645"/>
                  </a:lnTo>
                  <a:lnTo>
                    <a:pt x="8565" y="18529"/>
                  </a:lnTo>
                  <a:lnTo>
                    <a:pt x="9259" y="18529"/>
                  </a:lnTo>
                  <a:lnTo>
                    <a:pt x="9953" y="18529"/>
                  </a:lnTo>
                  <a:lnTo>
                    <a:pt x="10648" y="18645"/>
                  </a:lnTo>
                  <a:lnTo>
                    <a:pt x="11342" y="18645"/>
                  </a:lnTo>
                  <a:lnTo>
                    <a:pt x="11921" y="18877"/>
                  </a:lnTo>
                  <a:lnTo>
                    <a:pt x="12615" y="18992"/>
                  </a:lnTo>
                  <a:lnTo>
                    <a:pt x="13310" y="19108"/>
                  </a:lnTo>
                  <a:lnTo>
                    <a:pt x="13310" y="19108"/>
                  </a:lnTo>
                  <a:lnTo>
                    <a:pt x="13425" y="18992"/>
                  </a:lnTo>
                  <a:lnTo>
                    <a:pt x="13425" y="18992"/>
                  </a:lnTo>
                  <a:lnTo>
                    <a:pt x="13773" y="17139"/>
                  </a:lnTo>
                  <a:lnTo>
                    <a:pt x="14004" y="15286"/>
                  </a:lnTo>
                  <a:lnTo>
                    <a:pt x="14351" y="13434"/>
                  </a:lnTo>
                  <a:lnTo>
                    <a:pt x="14814" y="11581"/>
                  </a:lnTo>
                  <a:lnTo>
                    <a:pt x="15161" y="9728"/>
                  </a:lnTo>
                  <a:lnTo>
                    <a:pt x="15509" y="7875"/>
                  </a:lnTo>
                  <a:lnTo>
                    <a:pt x="15856" y="6138"/>
                  </a:lnTo>
                  <a:lnTo>
                    <a:pt x="16203" y="4285"/>
                  </a:lnTo>
                  <a:lnTo>
                    <a:pt x="16203" y="4285"/>
                  </a:lnTo>
                  <a:lnTo>
                    <a:pt x="16319" y="4053"/>
                  </a:lnTo>
                  <a:lnTo>
                    <a:pt x="16319" y="3821"/>
                  </a:lnTo>
                  <a:lnTo>
                    <a:pt x="16203" y="3590"/>
                  </a:lnTo>
                  <a:lnTo>
                    <a:pt x="16203" y="3358"/>
                  </a:lnTo>
                  <a:lnTo>
                    <a:pt x="16319" y="3126"/>
                  </a:lnTo>
                  <a:lnTo>
                    <a:pt x="16434" y="3011"/>
                  </a:lnTo>
                  <a:lnTo>
                    <a:pt x="16550" y="2895"/>
                  </a:lnTo>
                  <a:lnTo>
                    <a:pt x="16897" y="2895"/>
                  </a:lnTo>
                  <a:lnTo>
                    <a:pt x="16897" y="2895"/>
                  </a:lnTo>
                  <a:lnTo>
                    <a:pt x="16782" y="2663"/>
                  </a:lnTo>
                  <a:lnTo>
                    <a:pt x="16782" y="2316"/>
                  </a:lnTo>
                  <a:lnTo>
                    <a:pt x="16782" y="1968"/>
                  </a:lnTo>
                  <a:lnTo>
                    <a:pt x="16782" y="1621"/>
                  </a:lnTo>
                  <a:lnTo>
                    <a:pt x="16897" y="1389"/>
                  </a:lnTo>
                  <a:lnTo>
                    <a:pt x="17013" y="1042"/>
                  </a:lnTo>
                  <a:lnTo>
                    <a:pt x="17129" y="810"/>
                  </a:lnTo>
                  <a:lnTo>
                    <a:pt x="17360" y="579"/>
                  </a:lnTo>
                  <a:lnTo>
                    <a:pt x="17360" y="579"/>
                  </a:lnTo>
                  <a:lnTo>
                    <a:pt x="17707" y="347"/>
                  </a:lnTo>
                  <a:lnTo>
                    <a:pt x="18055" y="115"/>
                  </a:lnTo>
                  <a:lnTo>
                    <a:pt x="18518" y="0"/>
                  </a:lnTo>
                  <a:lnTo>
                    <a:pt x="18981" y="0"/>
                  </a:lnTo>
                  <a:lnTo>
                    <a:pt x="19328" y="0"/>
                  </a:lnTo>
                  <a:lnTo>
                    <a:pt x="19791" y="115"/>
                  </a:lnTo>
                  <a:lnTo>
                    <a:pt x="20138" y="347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lnTo>
                    <a:pt x="20369" y="6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158120" y="2932560"/>
              <a:ext cx="115560" cy="192600"/>
            </a:xfrm>
            <a:custGeom>
              <a:avLst/>
              <a:gdLst/>
              <a:ahLst/>
              <a:rect l="l" t="t" r="r" b="b"/>
              <a:pathLst>
                <a:path w="3240" h="3590">
                  <a:moveTo>
                    <a:pt x="3124" y="926"/>
                  </a:moveTo>
                  <a:lnTo>
                    <a:pt x="3124" y="1274"/>
                  </a:lnTo>
                  <a:lnTo>
                    <a:pt x="3240" y="1621"/>
                  </a:lnTo>
                  <a:lnTo>
                    <a:pt x="3240" y="1969"/>
                  </a:lnTo>
                  <a:lnTo>
                    <a:pt x="3240" y="2316"/>
                  </a:lnTo>
                  <a:lnTo>
                    <a:pt x="3240" y="2663"/>
                  </a:lnTo>
                  <a:lnTo>
                    <a:pt x="3124" y="2895"/>
                  </a:lnTo>
                  <a:lnTo>
                    <a:pt x="3009" y="3243"/>
                  </a:lnTo>
                  <a:lnTo>
                    <a:pt x="2893" y="3590"/>
                  </a:lnTo>
                  <a:lnTo>
                    <a:pt x="2893" y="3590"/>
                  </a:lnTo>
                  <a:lnTo>
                    <a:pt x="2546" y="3590"/>
                  </a:lnTo>
                  <a:lnTo>
                    <a:pt x="2546" y="3243"/>
                  </a:lnTo>
                  <a:lnTo>
                    <a:pt x="2661" y="3243"/>
                  </a:lnTo>
                  <a:lnTo>
                    <a:pt x="2661" y="3243"/>
                  </a:lnTo>
                  <a:lnTo>
                    <a:pt x="2661" y="3011"/>
                  </a:lnTo>
                  <a:lnTo>
                    <a:pt x="2777" y="2663"/>
                  </a:lnTo>
                  <a:lnTo>
                    <a:pt x="2893" y="2432"/>
                  </a:lnTo>
                  <a:lnTo>
                    <a:pt x="2893" y="2084"/>
                  </a:lnTo>
                  <a:lnTo>
                    <a:pt x="3009" y="1737"/>
                  </a:lnTo>
                  <a:lnTo>
                    <a:pt x="2893" y="1505"/>
                  </a:lnTo>
                  <a:lnTo>
                    <a:pt x="2893" y="1158"/>
                  </a:lnTo>
                  <a:lnTo>
                    <a:pt x="2777" y="926"/>
                  </a:lnTo>
                  <a:lnTo>
                    <a:pt x="2777" y="926"/>
                  </a:lnTo>
                  <a:lnTo>
                    <a:pt x="2661" y="811"/>
                  </a:lnTo>
                  <a:lnTo>
                    <a:pt x="2546" y="695"/>
                  </a:lnTo>
                  <a:lnTo>
                    <a:pt x="2430" y="579"/>
                  </a:lnTo>
                  <a:lnTo>
                    <a:pt x="2198" y="463"/>
                  </a:lnTo>
                  <a:lnTo>
                    <a:pt x="2083" y="347"/>
                  </a:lnTo>
                  <a:lnTo>
                    <a:pt x="1967" y="231"/>
                  </a:lnTo>
                  <a:lnTo>
                    <a:pt x="1851" y="231"/>
                  </a:lnTo>
                  <a:lnTo>
                    <a:pt x="1736" y="231"/>
                  </a:lnTo>
                  <a:lnTo>
                    <a:pt x="1736" y="231"/>
                  </a:lnTo>
                  <a:lnTo>
                    <a:pt x="1504" y="231"/>
                  </a:lnTo>
                  <a:lnTo>
                    <a:pt x="1273" y="347"/>
                  </a:lnTo>
                  <a:lnTo>
                    <a:pt x="1041" y="347"/>
                  </a:lnTo>
                  <a:lnTo>
                    <a:pt x="925" y="463"/>
                  </a:lnTo>
                  <a:lnTo>
                    <a:pt x="694" y="695"/>
                  </a:lnTo>
                  <a:lnTo>
                    <a:pt x="578" y="811"/>
                  </a:lnTo>
                  <a:lnTo>
                    <a:pt x="462" y="926"/>
                  </a:lnTo>
                  <a:lnTo>
                    <a:pt x="347" y="1158"/>
                  </a:lnTo>
                  <a:lnTo>
                    <a:pt x="347" y="1158"/>
                  </a:lnTo>
                  <a:lnTo>
                    <a:pt x="347" y="2432"/>
                  </a:lnTo>
                  <a:lnTo>
                    <a:pt x="347" y="2432"/>
                  </a:lnTo>
                  <a:lnTo>
                    <a:pt x="115" y="2316"/>
                  </a:lnTo>
                  <a:lnTo>
                    <a:pt x="115" y="2200"/>
                  </a:lnTo>
                  <a:lnTo>
                    <a:pt x="0" y="1969"/>
                  </a:lnTo>
                  <a:lnTo>
                    <a:pt x="0" y="1737"/>
                  </a:lnTo>
                  <a:lnTo>
                    <a:pt x="0" y="1505"/>
                  </a:lnTo>
                  <a:lnTo>
                    <a:pt x="0" y="1390"/>
                  </a:lnTo>
                  <a:lnTo>
                    <a:pt x="0" y="1158"/>
                  </a:lnTo>
                  <a:lnTo>
                    <a:pt x="115" y="926"/>
                  </a:lnTo>
                  <a:lnTo>
                    <a:pt x="115" y="926"/>
                  </a:lnTo>
                  <a:lnTo>
                    <a:pt x="347" y="579"/>
                  </a:lnTo>
                  <a:lnTo>
                    <a:pt x="694" y="231"/>
                  </a:lnTo>
                  <a:lnTo>
                    <a:pt x="1041" y="116"/>
                  </a:lnTo>
                  <a:lnTo>
                    <a:pt x="1504" y="0"/>
                  </a:lnTo>
                  <a:lnTo>
                    <a:pt x="2083" y="0"/>
                  </a:lnTo>
                  <a:lnTo>
                    <a:pt x="2430" y="231"/>
                  </a:lnTo>
                  <a:lnTo>
                    <a:pt x="2777" y="463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lnTo>
                    <a:pt x="3124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282320" y="2945160"/>
              <a:ext cx="65880" cy="211320"/>
            </a:xfrm>
            <a:custGeom>
              <a:avLst/>
              <a:gdLst/>
              <a:ahLst/>
              <a:rect l="l" t="t" r="r" b="b"/>
              <a:pathLst>
                <a:path w="1851" h="3938">
                  <a:moveTo>
                    <a:pt x="1851" y="1853"/>
                  </a:moveTo>
                  <a:lnTo>
                    <a:pt x="1851" y="1969"/>
                  </a:lnTo>
                  <a:lnTo>
                    <a:pt x="1851" y="2201"/>
                  </a:lnTo>
                  <a:lnTo>
                    <a:pt x="1851" y="2317"/>
                  </a:lnTo>
                  <a:lnTo>
                    <a:pt x="1736" y="2432"/>
                  </a:lnTo>
                  <a:lnTo>
                    <a:pt x="1736" y="2548"/>
                  </a:lnTo>
                  <a:lnTo>
                    <a:pt x="1736" y="2664"/>
                  </a:lnTo>
                  <a:lnTo>
                    <a:pt x="1736" y="2896"/>
                  </a:lnTo>
                  <a:lnTo>
                    <a:pt x="1736" y="3012"/>
                  </a:lnTo>
                  <a:lnTo>
                    <a:pt x="1736" y="3012"/>
                  </a:lnTo>
                  <a:lnTo>
                    <a:pt x="1620" y="3127"/>
                  </a:lnTo>
                  <a:lnTo>
                    <a:pt x="1620" y="3243"/>
                  </a:lnTo>
                  <a:lnTo>
                    <a:pt x="1504" y="3359"/>
                  </a:lnTo>
                  <a:lnTo>
                    <a:pt x="1388" y="3475"/>
                  </a:lnTo>
                  <a:lnTo>
                    <a:pt x="1273" y="3591"/>
                  </a:lnTo>
                  <a:lnTo>
                    <a:pt x="1157" y="3706"/>
                  </a:lnTo>
                  <a:lnTo>
                    <a:pt x="1041" y="3822"/>
                  </a:lnTo>
                  <a:lnTo>
                    <a:pt x="925" y="3938"/>
                  </a:lnTo>
                  <a:lnTo>
                    <a:pt x="925" y="3938"/>
                  </a:lnTo>
                  <a:lnTo>
                    <a:pt x="810" y="3938"/>
                  </a:lnTo>
                  <a:lnTo>
                    <a:pt x="810" y="3938"/>
                  </a:lnTo>
                  <a:lnTo>
                    <a:pt x="694" y="3938"/>
                  </a:lnTo>
                  <a:lnTo>
                    <a:pt x="694" y="3822"/>
                  </a:lnTo>
                  <a:lnTo>
                    <a:pt x="694" y="3822"/>
                  </a:lnTo>
                  <a:lnTo>
                    <a:pt x="694" y="3706"/>
                  </a:lnTo>
                  <a:lnTo>
                    <a:pt x="694" y="3706"/>
                  </a:lnTo>
                  <a:lnTo>
                    <a:pt x="694" y="3591"/>
                  </a:lnTo>
                  <a:lnTo>
                    <a:pt x="694" y="3591"/>
                  </a:lnTo>
                  <a:lnTo>
                    <a:pt x="925" y="3243"/>
                  </a:lnTo>
                  <a:lnTo>
                    <a:pt x="1157" y="3012"/>
                  </a:lnTo>
                  <a:lnTo>
                    <a:pt x="1273" y="2664"/>
                  </a:lnTo>
                  <a:lnTo>
                    <a:pt x="1273" y="2317"/>
                  </a:lnTo>
                  <a:lnTo>
                    <a:pt x="1273" y="1969"/>
                  </a:lnTo>
                  <a:lnTo>
                    <a:pt x="1157" y="1622"/>
                  </a:lnTo>
                  <a:lnTo>
                    <a:pt x="1041" y="1274"/>
                  </a:lnTo>
                  <a:lnTo>
                    <a:pt x="1041" y="811"/>
                  </a:lnTo>
                  <a:lnTo>
                    <a:pt x="1041" y="811"/>
                  </a:lnTo>
                  <a:lnTo>
                    <a:pt x="925" y="811"/>
                  </a:lnTo>
                  <a:lnTo>
                    <a:pt x="810" y="695"/>
                  </a:lnTo>
                  <a:lnTo>
                    <a:pt x="694" y="580"/>
                  </a:lnTo>
                  <a:lnTo>
                    <a:pt x="578" y="464"/>
                  </a:lnTo>
                  <a:lnTo>
                    <a:pt x="462" y="464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5" y="464"/>
                  </a:lnTo>
                  <a:lnTo>
                    <a:pt x="115" y="46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15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2" y="0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925" y="232"/>
                  </a:lnTo>
                  <a:lnTo>
                    <a:pt x="1041" y="232"/>
                  </a:lnTo>
                  <a:lnTo>
                    <a:pt x="1041" y="232"/>
                  </a:lnTo>
                  <a:lnTo>
                    <a:pt x="1273" y="464"/>
                  </a:lnTo>
                  <a:lnTo>
                    <a:pt x="1388" y="580"/>
                  </a:lnTo>
                  <a:lnTo>
                    <a:pt x="1504" y="811"/>
                  </a:lnTo>
                  <a:lnTo>
                    <a:pt x="1620" y="1043"/>
                  </a:lnTo>
                  <a:lnTo>
                    <a:pt x="1620" y="1159"/>
                  </a:lnTo>
                  <a:lnTo>
                    <a:pt x="1736" y="1390"/>
                  </a:lnTo>
                  <a:lnTo>
                    <a:pt x="1736" y="1622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lnTo>
                    <a:pt x="1851" y="18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182960" y="2970000"/>
              <a:ext cx="49320" cy="99360"/>
            </a:xfrm>
            <a:custGeom>
              <a:avLst/>
              <a:gdLst/>
              <a:ahLst/>
              <a:rect l="l" t="t" r="r" b="b"/>
              <a:pathLst>
                <a:path w="1389" h="1853">
                  <a:moveTo>
                    <a:pt x="1389" y="347"/>
                  </a:moveTo>
                  <a:lnTo>
                    <a:pt x="1157" y="579"/>
                  </a:lnTo>
                  <a:lnTo>
                    <a:pt x="1042" y="810"/>
                  </a:lnTo>
                  <a:lnTo>
                    <a:pt x="926" y="1042"/>
                  </a:lnTo>
                  <a:lnTo>
                    <a:pt x="810" y="1389"/>
                  </a:lnTo>
                  <a:lnTo>
                    <a:pt x="810" y="1621"/>
                  </a:lnTo>
                  <a:lnTo>
                    <a:pt x="694" y="1853"/>
                  </a:lnTo>
                  <a:lnTo>
                    <a:pt x="463" y="1853"/>
                  </a:lnTo>
                  <a:lnTo>
                    <a:pt x="116" y="1737"/>
                  </a:lnTo>
                  <a:lnTo>
                    <a:pt x="116" y="1737"/>
                  </a:lnTo>
                  <a:lnTo>
                    <a:pt x="0" y="1505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6" y="810"/>
                  </a:lnTo>
                  <a:lnTo>
                    <a:pt x="116" y="579"/>
                  </a:lnTo>
                  <a:lnTo>
                    <a:pt x="231" y="347"/>
                  </a:lnTo>
                  <a:lnTo>
                    <a:pt x="463" y="231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7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389" y="231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lnTo>
                    <a:pt x="1389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356840" y="2988720"/>
              <a:ext cx="65880" cy="192600"/>
            </a:xfrm>
            <a:custGeom>
              <a:avLst/>
              <a:gdLst/>
              <a:ahLst/>
              <a:rect l="l" t="t" r="r" b="b"/>
              <a:pathLst>
                <a:path w="1851" h="3590">
                  <a:moveTo>
                    <a:pt x="1620" y="695"/>
                  </a:moveTo>
                  <a:lnTo>
                    <a:pt x="1736" y="927"/>
                  </a:lnTo>
                  <a:lnTo>
                    <a:pt x="1736" y="1158"/>
                  </a:lnTo>
                  <a:lnTo>
                    <a:pt x="1851" y="1390"/>
                  </a:lnTo>
                  <a:lnTo>
                    <a:pt x="1851" y="1621"/>
                  </a:lnTo>
                  <a:lnTo>
                    <a:pt x="1851" y="1853"/>
                  </a:lnTo>
                  <a:lnTo>
                    <a:pt x="1851" y="2085"/>
                  </a:lnTo>
                  <a:lnTo>
                    <a:pt x="1851" y="2316"/>
                  </a:lnTo>
                  <a:lnTo>
                    <a:pt x="1736" y="2432"/>
                  </a:lnTo>
                  <a:lnTo>
                    <a:pt x="1736" y="2432"/>
                  </a:lnTo>
                  <a:lnTo>
                    <a:pt x="1736" y="2664"/>
                  </a:lnTo>
                  <a:lnTo>
                    <a:pt x="1620" y="2780"/>
                  </a:lnTo>
                  <a:lnTo>
                    <a:pt x="1504" y="2895"/>
                  </a:lnTo>
                  <a:lnTo>
                    <a:pt x="1388" y="3127"/>
                  </a:lnTo>
                  <a:lnTo>
                    <a:pt x="1273" y="3243"/>
                  </a:lnTo>
                  <a:lnTo>
                    <a:pt x="1157" y="3359"/>
                  </a:lnTo>
                  <a:lnTo>
                    <a:pt x="1041" y="3474"/>
                  </a:lnTo>
                  <a:lnTo>
                    <a:pt x="926" y="3590"/>
                  </a:lnTo>
                  <a:lnTo>
                    <a:pt x="926" y="3590"/>
                  </a:lnTo>
                  <a:lnTo>
                    <a:pt x="810" y="3590"/>
                  </a:lnTo>
                  <a:lnTo>
                    <a:pt x="694" y="3590"/>
                  </a:lnTo>
                  <a:lnTo>
                    <a:pt x="694" y="3474"/>
                  </a:lnTo>
                  <a:lnTo>
                    <a:pt x="578" y="3474"/>
                  </a:lnTo>
                  <a:lnTo>
                    <a:pt x="578" y="3359"/>
                  </a:lnTo>
                  <a:lnTo>
                    <a:pt x="578" y="3359"/>
                  </a:lnTo>
                  <a:lnTo>
                    <a:pt x="578" y="3243"/>
                  </a:lnTo>
                  <a:lnTo>
                    <a:pt x="578" y="3127"/>
                  </a:lnTo>
                  <a:lnTo>
                    <a:pt x="578" y="3127"/>
                  </a:lnTo>
                  <a:lnTo>
                    <a:pt x="694" y="3127"/>
                  </a:lnTo>
                  <a:lnTo>
                    <a:pt x="810" y="3011"/>
                  </a:lnTo>
                  <a:lnTo>
                    <a:pt x="926" y="2895"/>
                  </a:lnTo>
                  <a:lnTo>
                    <a:pt x="1041" y="2780"/>
                  </a:lnTo>
                  <a:lnTo>
                    <a:pt x="1041" y="2664"/>
                  </a:lnTo>
                  <a:lnTo>
                    <a:pt x="1157" y="2432"/>
                  </a:lnTo>
                  <a:lnTo>
                    <a:pt x="1157" y="2316"/>
                  </a:lnTo>
                  <a:lnTo>
                    <a:pt x="1157" y="2201"/>
                  </a:lnTo>
                  <a:lnTo>
                    <a:pt x="1157" y="2201"/>
                  </a:lnTo>
                  <a:lnTo>
                    <a:pt x="1157" y="1969"/>
                  </a:lnTo>
                  <a:lnTo>
                    <a:pt x="1157" y="1621"/>
                  </a:lnTo>
                  <a:lnTo>
                    <a:pt x="1157" y="1390"/>
                  </a:lnTo>
                  <a:lnTo>
                    <a:pt x="1041" y="1042"/>
                  </a:lnTo>
                  <a:lnTo>
                    <a:pt x="926" y="811"/>
                  </a:lnTo>
                  <a:lnTo>
                    <a:pt x="810" y="579"/>
                  </a:lnTo>
                  <a:lnTo>
                    <a:pt x="578" y="348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347" y="232"/>
                  </a:lnTo>
                  <a:lnTo>
                    <a:pt x="231" y="232"/>
                  </a:lnTo>
                  <a:lnTo>
                    <a:pt x="231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115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6"/>
                  </a:lnTo>
                  <a:lnTo>
                    <a:pt x="1273" y="232"/>
                  </a:lnTo>
                  <a:lnTo>
                    <a:pt x="1504" y="463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620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431360" y="3013560"/>
              <a:ext cx="57600" cy="186480"/>
            </a:xfrm>
            <a:custGeom>
              <a:avLst/>
              <a:gdLst/>
              <a:ahLst/>
              <a:rect l="l" t="t" r="r" b="b"/>
              <a:pathLst>
                <a:path w="1620" h="3475">
                  <a:moveTo>
                    <a:pt x="1620" y="1390"/>
                  </a:moveTo>
                  <a:lnTo>
                    <a:pt x="1620" y="1622"/>
                  </a:lnTo>
                  <a:lnTo>
                    <a:pt x="1620" y="1853"/>
                  </a:lnTo>
                  <a:lnTo>
                    <a:pt x="1620" y="2085"/>
                  </a:lnTo>
                  <a:lnTo>
                    <a:pt x="1620" y="2317"/>
                  </a:lnTo>
                  <a:lnTo>
                    <a:pt x="1620" y="2432"/>
                  </a:lnTo>
                  <a:lnTo>
                    <a:pt x="1620" y="2664"/>
                  </a:lnTo>
                  <a:lnTo>
                    <a:pt x="1504" y="2896"/>
                  </a:lnTo>
                  <a:lnTo>
                    <a:pt x="1389" y="3011"/>
                  </a:lnTo>
                  <a:lnTo>
                    <a:pt x="1389" y="3011"/>
                  </a:lnTo>
                  <a:lnTo>
                    <a:pt x="1273" y="3127"/>
                  </a:lnTo>
                  <a:lnTo>
                    <a:pt x="1157" y="3127"/>
                  </a:lnTo>
                  <a:lnTo>
                    <a:pt x="1041" y="3243"/>
                  </a:lnTo>
                  <a:lnTo>
                    <a:pt x="1041" y="3359"/>
                  </a:lnTo>
                  <a:lnTo>
                    <a:pt x="926" y="3475"/>
                  </a:lnTo>
                  <a:lnTo>
                    <a:pt x="926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694" y="3359"/>
                  </a:lnTo>
                  <a:lnTo>
                    <a:pt x="694" y="3243"/>
                  </a:lnTo>
                  <a:lnTo>
                    <a:pt x="810" y="3127"/>
                  </a:lnTo>
                  <a:lnTo>
                    <a:pt x="810" y="3011"/>
                  </a:lnTo>
                  <a:lnTo>
                    <a:pt x="926" y="2896"/>
                  </a:lnTo>
                  <a:lnTo>
                    <a:pt x="1041" y="2780"/>
                  </a:lnTo>
                  <a:lnTo>
                    <a:pt x="1157" y="2664"/>
                  </a:lnTo>
                  <a:lnTo>
                    <a:pt x="1273" y="2548"/>
                  </a:lnTo>
                  <a:lnTo>
                    <a:pt x="1273" y="2432"/>
                  </a:lnTo>
                  <a:lnTo>
                    <a:pt x="1273" y="2432"/>
                  </a:lnTo>
                  <a:lnTo>
                    <a:pt x="1389" y="2085"/>
                  </a:lnTo>
                  <a:lnTo>
                    <a:pt x="1389" y="1853"/>
                  </a:lnTo>
                  <a:lnTo>
                    <a:pt x="1273" y="1506"/>
                  </a:lnTo>
                  <a:lnTo>
                    <a:pt x="1157" y="1274"/>
                  </a:lnTo>
                  <a:lnTo>
                    <a:pt x="1041" y="1043"/>
                  </a:lnTo>
                  <a:lnTo>
                    <a:pt x="810" y="811"/>
                  </a:lnTo>
                  <a:lnTo>
                    <a:pt x="579" y="579"/>
                  </a:lnTo>
                  <a:lnTo>
                    <a:pt x="347" y="348"/>
                  </a:lnTo>
                  <a:lnTo>
                    <a:pt x="347" y="348"/>
                  </a:lnTo>
                  <a:lnTo>
                    <a:pt x="347" y="464"/>
                  </a:lnTo>
                  <a:lnTo>
                    <a:pt x="231" y="464"/>
                  </a:lnTo>
                  <a:lnTo>
                    <a:pt x="116" y="348"/>
                  </a:lnTo>
                  <a:lnTo>
                    <a:pt x="116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463" y="0"/>
                  </a:lnTo>
                  <a:lnTo>
                    <a:pt x="694" y="116"/>
                  </a:lnTo>
                  <a:lnTo>
                    <a:pt x="926" y="348"/>
                  </a:lnTo>
                  <a:lnTo>
                    <a:pt x="1041" y="464"/>
                  </a:lnTo>
                  <a:lnTo>
                    <a:pt x="1273" y="695"/>
                  </a:lnTo>
                  <a:lnTo>
                    <a:pt x="1389" y="927"/>
                  </a:lnTo>
                  <a:lnTo>
                    <a:pt x="1504" y="1158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lnTo>
                    <a:pt x="1620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493640" y="3025800"/>
              <a:ext cx="74160" cy="192600"/>
            </a:xfrm>
            <a:custGeom>
              <a:avLst/>
              <a:gdLst/>
              <a:ahLst/>
              <a:rect l="l" t="t" r="r" b="b"/>
              <a:pathLst>
                <a:path w="2083" h="3590">
                  <a:moveTo>
                    <a:pt x="2083" y="1390"/>
                  </a:moveTo>
                  <a:lnTo>
                    <a:pt x="2083" y="1737"/>
                  </a:lnTo>
                  <a:lnTo>
                    <a:pt x="2083" y="1969"/>
                  </a:lnTo>
                  <a:lnTo>
                    <a:pt x="2083" y="2200"/>
                  </a:lnTo>
                  <a:lnTo>
                    <a:pt x="2083" y="2548"/>
                  </a:lnTo>
                  <a:lnTo>
                    <a:pt x="1967" y="2779"/>
                  </a:lnTo>
                  <a:lnTo>
                    <a:pt x="1967" y="3011"/>
                  </a:lnTo>
                  <a:lnTo>
                    <a:pt x="1852" y="3243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620" y="3474"/>
                  </a:lnTo>
                  <a:lnTo>
                    <a:pt x="1504" y="3474"/>
                  </a:lnTo>
                  <a:lnTo>
                    <a:pt x="1389" y="3474"/>
                  </a:lnTo>
                  <a:lnTo>
                    <a:pt x="1273" y="3590"/>
                  </a:lnTo>
                  <a:lnTo>
                    <a:pt x="1273" y="3590"/>
                  </a:lnTo>
                  <a:lnTo>
                    <a:pt x="1157" y="3590"/>
                  </a:lnTo>
                  <a:lnTo>
                    <a:pt x="1041" y="3590"/>
                  </a:lnTo>
                  <a:lnTo>
                    <a:pt x="1041" y="3474"/>
                  </a:lnTo>
                  <a:lnTo>
                    <a:pt x="1041" y="3474"/>
                  </a:lnTo>
                  <a:lnTo>
                    <a:pt x="1157" y="3358"/>
                  </a:lnTo>
                  <a:lnTo>
                    <a:pt x="1273" y="3243"/>
                  </a:lnTo>
                  <a:lnTo>
                    <a:pt x="1389" y="3011"/>
                  </a:lnTo>
                  <a:lnTo>
                    <a:pt x="1504" y="2895"/>
                  </a:lnTo>
                  <a:lnTo>
                    <a:pt x="1504" y="2664"/>
                  </a:lnTo>
                  <a:lnTo>
                    <a:pt x="1620" y="2432"/>
                  </a:lnTo>
                  <a:lnTo>
                    <a:pt x="1620" y="2200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620" y="1621"/>
                  </a:lnTo>
                  <a:lnTo>
                    <a:pt x="1504" y="1390"/>
                  </a:lnTo>
                  <a:lnTo>
                    <a:pt x="1389" y="1274"/>
                  </a:lnTo>
                  <a:lnTo>
                    <a:pt x="1273" y="1042"/>
                  </a:lnTo>
                  <a:lnTo>
                    <a:pt x="1157" y="811"/>
                  </a:lnTo>
                  <a:lnTo>
                    <a:pt x="1041" y="695"/>
                  </a:lnTo>
                  <a:lnTo>
                    <a:pt x="810" y="463"/>
                  </a:lnTo>
                  <a:lnTo>
                    <a:pt x="810" y="463"/>
                  </a:lnTo>
                  <a:lnTo>
                    <a:pt x="694" y="463"/>
                  </a:lnTo>
                  <a:lnTo>
                    <a:pt x="579" y="347"/>
                  </a:lnTo>
                  <a:lnTo>
                    <a:pt x="463" y="347"/>
                  </a:lnTo>
                  <a:lnTo>
                    <a:pt x="347" y="463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47" y="0"/>
                  </a:lnTo>
                  <a:lnTo>
                    <a:pt x="579" y="0"/>
                  </a:lnTo>
                  <a:lnTo>
                    <a:pt x="926" y="116"/>
                  </a:lnTo>
                  <a:lnTo>
                    <a:pt x="1157" y="347"/>
                  </a:lnTo>
                  <a:lnTo>
                    <a:pt x="1389" y="579"/>
                  </a:lnTo>
                  <a:lnTo>
                    <a:pt x="1620" y="811"/>
                  </a:lnTo>
                  <a:lnTo>
                    <a:pt x="1852" y="1158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lnTo>
                    <a:pt x="2083" y="1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559880" y="3032280"/>
              <a:ext cx="70200" cy="173880"/>
            </a:xfrm>
            <a:custGeom>
              <a:avLst/>
              <a:gdLst/>
              <a:ahLst/>
              <a:rect l="l" t="t" r="r" b="b"/>
              <a:pathLst>
                <a:path w="1967" h="3242">
                  <a:moveTo>
                    <a:pt x="1388" y="463"/>
                  </a:moveTo>
                  <a:lnTo>
                    <a:pt x="1620" y="695"/>
                  </a:lnTo>
                  <a:lnTo>
                    <a:pt x="1736" y="810"/>
                  </a:lnTo>
                  <a:lnTo>
                    <a:pt x="1851" y="1042"/>
                  </a:lnTo>
                  <a:lnTo>
                    <a:pt x="1967" y="1274"/>
                  </a:lnTo>
                  <a:lnTo>
                    <a:pt x="1967" y="1621"/>
                  </a:lnTo>
                  <a:lnTo>
                    <a:pt x="1967" y="1853"/>
                  </a:lnTo>
                  <a:lnTo>
                    <a:pt x="1967" y="2084"/>
                  </a:lnTo>
                  <a:lnTo>
                    <a:pt x="1967" y="2316"/>
                  </a:lnTo>
                  <a:lnTo>
                    <a:pt x="1967" y="2316"/>
                  </a:lnTo>
                  <a:lnTo>
                    <a:pt x="1851" y="2548"/>
                  </a:lnTo>
                  <a:lnTo>
                    <a:pt x="1851" y="2663"/>
                  </a:lnTo>
                  <a:lnTo>
                    <a:pt x="1736" y="2779"/>
                  </a:lnTo>
                  <a:lnTo>
                    <a:pt x="1620" y="2895"/>
                  </a:lnTo>
                  <a:lnTo>
                    <a:pt x="1620" y="3011"/>
                  </a:lnTo>
                  <a:lnTo>
                    <a:pt x="1504" y="3127"/>
                  </a:lnTo>
                  <a:lnTo>
                    <a:pt x="1388" y="3242"/>
                  </a:lnTo>
                  <a:lnTo>
                    <a:pt x="1273" y="3242"/>
                  </a:lnTo>
                  <a:lnTo>
                    <a:pt x="1273" y="3242"/>
                  </a:lnTo>
                  <a:lnTo>
                    <a:pt x="1273" y="3011"/>
                  </a:lnTo>
                  <a:lnTo>
                    <a:pt x="1388" y="2663"/>
                  </a:lnTo>
                  <a:lnTo>
                    <a:pt x="1504" y="2316"/>
                  </a:lnTo>
                  <a:lnTo>
                    <a:pt x="1620" y="1969"/>
                  </a:lnTo>
                  <a:lnTo>
                    <a:pt x="1620" y="1621"/>
                  </a:lnTo>
                  <a:lnTo>
                    <a:pt x="1620" y="1274"/>
                  </a:lnTo>
                  <a:lnTo>
                    <a:pt x="1504" y="926"/>
                  </a:lnTo>
                  <a:lnTo>
                    <a:pt x="1273" y="695"/>
                  </a:lnTo>
                  <a:lnTo>
                    <a:pt x="1273" y="695"/>
                  </a:lnTo>
                  <a:lnTo>
                    <a:pt x="1157" y="579"/>
                  </a:lnTo>
                  <a:lnTo>
                    <a:pt x="925" y="579"/>
                  </a:lnTo>
                  <a:lnTo>
                    <a:pt x="810" y="463"/>
                  </a:lnTo>
                  <a:lnTo>
                    <a:pt x="578" y="463"/>
                  </a:lnTo>
                  <a:lnTo>
                    <a:pt x="463" y="463"/>
                  </a:lnTo>
                  <a:lnTo>
                    <a:pt x="231" y="463"/>
                  </a:lnTo>
                  <a:lnTo>
                    <a:pt x="115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231" y="116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925" y="116"/>
                  </a:lnTo>
                  <a:lnTo>
                    <a:pt x="1157" y="231"/>
                  </a:lnTo>
                  <a:lnTo>
                    <a:pt x="1273" y="347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lnTo>
                    <a:pt x="138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642320" y="3069360"/>
              <a:ext cx="53640" cy="167760"/>
            </a:xfrm>
            <a:custGeom>
              <a:avLst/>
              <a:gdLst/>
              <a:ahLst/>
              <a:rect l="l" t="t" r="r" b="b"/>
              <a:pathLst>
                <a:path w="1505" h="3127">
                  <a:moveTo>
                    <a:pt x="1505" y="1158"/>
                  </a:moveTo>
                  <a:lnTo>
                    <a:pt x="1505" y="1389"/>
                  </a:lnTo>
                  <a:lnTo>
                    <a:pt x="1505" y="1737"/>
                  </a:lnTo>
                  <a:lnTo>
                    <a:pt x="1505" y="1968"/>
                  </a:lnTo>
                  <a:lnTo>
                    <a:pt x="1389" y="2316"/>
                  </a:lnTo>
                  <a:lnTo>
                    <a:pt x="1273" y="2547"/>
                  </a:lnTo>
                  <a:lnTo>
                    <a:pt x="1158" y="2779"/>
                  </a:lnTo>
                  <a:lnTo>
                    <a:pt x="926" y="2895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3127"/>
                  </a:lnTo>
                  <a:lnTo>
                    <a:pt x="695" y="2895"/>
                  </a:lnTo>
                  <a:lnTo>
                    <a:pt x="695" y="2779"/>
                  </a:lnTo>
                  <a:lnTo>
                    <a:pt x="810" y="2663"/>
                  </a:lnTo>
                  <a:lnTo>
                    <a:pt x="810" y="2432"/>
                  </a:lnTo>
                  <a:lnTo>
                    <a:pt x="926" y="2316"/>
                  </a:lnTo>
                  <a:lnTo>
                    <a:pt x="926" y="2200"/>
                  </a:lnTo>
                  <a:lnTo>
                    <a:pt x="1042" y="1968"/>
                  </a:lnTo>
                  <a:lnTo>
                    <a:pt x="1042" y="1737"/>
                  </a:lnTo>
                  <a:lnTo>
                    <a:pt x="1042" y="1737"/>
                  </a:lnTo>
                  <a:lnTo>
                    <a:pt x="1042" y="1621"/>
                  </a:lnTo>
                  <a:lnTo>
                    <a:pt x="1042" y="1389"/>
                  </a:lnTo>
                  <a:lnTo>
                    <a:pt x="926" y="1158"/>
                  </a:lnTo>
                  <a:lnTo>
                    <a:pt x="926" y="926"/>
                  </a:lnTo>
                  <a:lnTo>
                    <a:pt x="926" y="810"/>
                  </a:lnTo>
                  <a:lnTo>
                    <a:pt x="810" y="695"/>
                  </a:lnTo>
                  <a:lnTo>
                    <a:pt x="579" y="463"/>
                  </a:lnTo>
                  <a:lnTo>
                    <a:pt x="463" y="347"/>
                  </a:lnTo>
                  <a:lnTo>
                    <a:pt x="463" y="347"/>
                  </a:lnTo>
                  <a:lnTo>
                    <a:pt x="347" y="347"/>
                  </a:lnTo>
                  <a:lnTo>
                    <a:pt x="232" y="347"/>
                  </a:lnTo>
                  <a:lnTo>
                    <a:pt x="232" y="347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463" y="0"/>
                  </a:lnTo>
                  <a:lnTo>
                    <a:pt x="695" y="115"/>
                  </a:lnTo>
                  <a:lnTo>
                    <a:pt x="926" y="231"/>
                  </a:lnTo>
                  <a:lnTo>
                    <a:pt x="1042" y="347"/>
                  </a:lnTo>
                  <a:lnTo>
                    <a:pt x="1158" y="579"/>
                  </a:lnTo>
                  <a:lnTo>
                    <a:pt x="1273" y="695"/>
                  </a:lnTo>
                  <a:lnTo>
                    <a:pt x="1389" y="926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lnTo>
                    <a:pt x="1505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091880" y="3088080"/>
              <a:ext cx="852480" cy="1181160"/>
            </a:xfrm>
            <a:custGeom>
              <a:avLst/>
              <a:gdLst/>
              <a:ahLst/>
              <a:rect l="l" t="t" r="r" b="b"/>
              <a:pathLst>
                <a:path w="23841" h="22004">
                  <a:moveTo>
                    <a:pt x="4050" y="116"/>
                  </a:moveTo>
                  <a:lnTo>
                    <a:pt x="4050" y="232"/>
                  </a:lnTo>
                  <a:lnTo>
                    <a:pt x="3935" y="348"/>
                  </a:lnTo>
                  <a:lnTo>
                    <a:pt x="3935" y="463"/>
                  </a:lnTo>
                  <a:lnTo>
                    <a:pt x="3935" y="579"/>
                  </a:lnTo>
                  <a:lnTo>
                    <a:pt x="3935" y="695"/>
                  </a:lnTo>
                  <a:lnTo>
                    <a:pt x="3935" y="811"/>
                  </a:lnTo>
                  <a:lnTo>
                    <a:pt x="4050" y="927"/>
                  </a:lnTo>
                  <a:lnTo>
                    <a:pt x="4050" y="1042"/>
                  </a:lnTo>
                  <a:lnTo>
                    <a:pt x="4050" y="1042"/>
                  </a:lnTo>
                  <a:lnTo>
                    <a:pt x="4166" y="1158"/>
                  </a:lnTo>
                  <a:lnTo>
                    <a:pt x="4166" y="1274"/>
                  </a:lnTo>
                  <a:lnTo>
                    <a:pt x="4282" y="1274"/>
                  </a:lnTo>
                  <a:lnTo>
                    <a:pt x="4398" y="1274"/>
                  </a:lnTo>
                  <a:lnTo>
                    <a:pt x="4398" y="1274"/>
                  </a:lnTo>
                  <a:lnTo>
                    <a:pt x="4513" y="1274"/>
                  </a:lnTo>
                  <a:lnTo>
                    <a:pt x="4629" y="1274"/>
                  </a:lnTo>
                  <a:lnTo>
                    <a:pt x="4745" y="1274"/>
                  </a:lnTo>
                  <a:lnTo>
                    <a:pt x="4745" y="1274"/>
                  </a:lnTo>
                  <a:lnTo>
                    <a:pt x="4861" y="1158"/>
                  </a:lnTo>
                  <a:lnTo>
                    <a:pt x="4976" y="1042"/>
                  </a:lnTo>
                  <a:lnTo>
                    <a:pt x="5092" y="927"/>
                  </a:lnTo>
                  <a:lnTo>
                    <a:pt x="5208" y="695"/>
                  </a:lnTo>
                  <a:lnTo>
                    <a:pt x="5324" y="579"/>
                  </a:lnTo>
                  <a:lnTo>
                    <a:pt x="5439" y="463"/>
                  </a:lnTo>
                  <a:lnTo>
                    <a:pt x="5439" y="348"/>
                  </a:lnTo>
                  <a:lnTo>
                    <a:pt x="5439" y="116"/>
                  </a:lnTo>
                  <a:lnTo>
                    <a:pt x="5439" y="116"/>
                  </a:lnTo>
                  <a:lnTo>
                    <a:pt x="5786" y="232"/>
                  </a:lnTo>
                  <a:lnTo>
                    <a:pt x="5786" y="232"/>
                  </a:lnTo>
                  <a:lnTo>
                    <a:pt x="5671" y="348"/>
                  </a:lnTo>
                  <a:lnTo>
                    <a:pt x="5439" y="463"/>
                  </a:lnTo>
                  <a:lnTo>
                    <a:pt x="5439" y="579"/>
                  </a:lnTo>
                  <a:lnTo>
                    <a:pt x="5324" y="811"/>
                  </a:lnTo>
                  <a:lnTo>
                    <a:pt x="5324" y="927"/>
                  </a:lnTo>
                  <a:lnTo>
                    <a:pt x="5324" y="1158"/>
                  </a:lnTo>
                  <a:lnTo>
                    <a:pt x="5439" y="1390"/>
                  </a:lnTo>
                  <a:lnTo>
                    <a:pt x="5439" y="1506"/>
                  </a:lnTo>
                  <a:lnTo>
                    <a:pt x="5439" y="1506"/>
                  </a:lnTo>
                  <a:lnTo>
                    <a:pt x="5555" y="1737"/>
                  </a:lnTo>
                  <a:lnTo>
                    <a:pt x="5671" y="1737"/>
                  </a:lnTo>
                  <a:lnTo>
                    <a:pt x="5786" y="1853"/>
                  </a:lnTo>
                  <a:lnTo>
                    <a:pt x="5902" y="1853"/>
                  </a:lnTo>
                  <a:lnTo>
                    <a:pt x="6018" y="1853"/>
                  </a:lnTo>
                  <a:lnTo>
                    <a:pt x="6249" y="1853"/>
                  </a:lnTo>
                  <a:lnTo>
                    <a:pt x="6365" y="1853"/>
                  </a:lnTo>
                  <a:lnTo>
                    <a:pt x="6481" y="1737"/>
                  </a:lnTo>
                  <a:lnTo>
                    <a:pt x="6481" y="1737"/>
                  </a:lnTo>
                  <a:lnTo>
                    <a:pt x="6712" y="1737"/>
                  </a:lnTo>
                  <a:lnTo>
                    <a:pt x="6828" y="1621"/>
                  </a:lnTo>
                  <a:lnTo>
                    <a:pt x="6944" y="1390"/>
                  </a:lnTo>
                  <a:lnTo>
                    <a:pt x="7060" y="1274"/>
                  </a:lnTo>
                  <a:lnTo>
                    <a:pt x="7175" y="1042"/>
                  </a:lnTo>
                  <a:lnTo>
                    <a:pt x="7291" y="927"/>
                  </a:lnTo>
                  <a:lnTo>
                    <a:pt x="7291" y="695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522" y="579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638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754" y="695"/>
                  </a:lnTo>
                  <a:lnTo>
                    <a:pt x="7638" y="695"/>
                  </a:lnTo>
                  <a:lnTo>
                    <a:pt x="7522" y="811"/>
                  </a:lnTo>
                  <a:lnTo>
                    <a:pt x="7407" y="1042"/>
                  </a:lnTo>
                  <a:lnTo>
                    <a:pt x="7407" y="1158"/>
                  </a:lnTo>
                  <a:lnTo>
                    <a:pt x="7291" y="1274"/>
                  </a:lnTo>
                  <a:lnTo>
                    <a:pt x="7291" y="1390"/>
                  </a:lnTo>
                  <a:lnTo>
                    <a:pt x="7291" y="1506"/>
                  </a:lnTo>
                  <a:lnTo>
                    <a:pt x="7291" y="1621"/>
                  </a:lnTo>
                  <a:lnTo>
                    <a:pt x="7291" y="1621"/>
                  </a:lnTo>
                  <a:lnTo>
                    <a:pt x="7407" y="1737"/>
                  </a:lnTo>
                  <a:lnTo>
                    <a:pt x="7407" y="1969"/>
                  </a:lnTo>
                  <a:lnTo>
                    <a:pt x="7407" y="2085"/>
                  </a:lnTo>
                  <a:lnTo>
                    <a:pt x="7522" y="2200"/>
                  </a:lnTo>
                  <a:lnTo>
                    <a:pt x="7522" y="2316"/>
                  </a:lnTo>
                  <a:lnTo>
                    <a:pt x="7638" y="2316"/>
                  </a:lnTo>
                  <a:lnTo>
                    <a:pt x="7754" y="2432"/>
                  </a:lnTo>
                  <a:lnTo>
                    <a:pt x="7870" y="2432"/>
                  </a:lnTo>
                  <a:lnTo>
                    <a:pt x="7870" y="2432"/>
                  </a:lnTo>
                  <a:lnTo>
                    <a:pt x="8101" y="2432"/>
                  </a:lnTo>
                  <a:lnTo>
                    <a:pt x="8217" y="2432"/>
                  </a:lnTo>
                  <a:lnTo>
                    <a:pt x="8333" y="2316"/>
                  </a:lnTo>
                  <a:lnTo>
                    <a:pt x="8448" y="2200"/>
                  </a:lnTo>
                  <a:lnTo>
                    <a:pt x="8564" y="2200"/>
                  </a:lnTo>
                  <a:lnTo>
                    <a:pt x="8564" y="2085"/>
                  </a:lnTo>
                  <a:lnTo>
                    <a:pt x="8680" y="1969"/>
                  </a:lnTo>
                  <a:lnTo>
                    <a:pt x="8911" y="1969"/>
                  </a:lnTo>
                  <a:lnTo>
                    <a:pt x="8911" y="1969"/>
                  </a:lnTo>
                  <a:lnTo>
                    <a:pt x="8911" y="1853"/>
                  </a:lnTo>
                  <a:lnTo>
                    <a:pt x="8911" y="1737"/>
                  </a:lnTo>
                  <a:lnTo>
                    <a:pt x="9027" y="1737"/>
                  </a:lnTo>
                  <a:lnTo>
                    <a:pt x="9143" y="1621"/>
                  </a:lnTo>
                  <a:lnTo>
                    <a:pt x="9258" y="1506"/>
                  </a:lnTo>
                  <a:lnTo>
                    <a:pt x="9374" y="1390"/>
                  </a:lnTo>
                  <a:lnTo>
                    <a:pt x="9374" y="1274"/>
                  </a:lnTo>
                  <a:lnTo>
                    <a:pt x="9490" y="1158"/>
                  </a:lnTo>
                  <a:lnTo>
                    <a:pt x="9490" y="1158"/>
                  </a:lnTo>
                  <a:lnTo>
                    <a:pt x="9837" y="1274"/>
                  </a:lnTo>
                  <a:lnTo>
                    <a:pt x="9837" y="1274"/>
                  </a:lnTo>
                  <a:lnTo>
                    <a:pt x="9837" y="1390"/>
                  </a:lnTo>
                  <a:lnTo>
                    <a:pt x="9721" y="1621"/>
                  </a:lnTo>
                  <a:lnTo>
                    <a:pt x="9721" y="1853"/>
                  </a:lnTo>
                  <a:lnTo>
                    <a:pt x="9606" y="2085"/>
                  </a:lnTo>
                  <a:lnTo>
                    <a:pt x="9606" y="2200"/>
                  </a:lnTo>
                  <a:lnTo>
                    <a:pt x="9721" y="2432"/>
                  </a:lnTo>
                  <a:lnTo>
                    <a:pt x="9721" y="2664"/>
                  </a:lnTo>
                  <a:lnTo>
                    <a:pt x="9953" y="2780"/>
                  </a:lnTo>
                  <a:lnTo>
                    <a:pt x="9953" y="2780"/>
                  </a:lnTo>
                  <a:lnTo>
                    <a:pt x="10069" y="2780"/>
                  </a:lnTo>
                  <a:lnTo>
                    <a:pt x="10184" y="2780"/>
                  </a:lnTo>
                  <a:lnTo>
                    <a:pt x="10300" y="2780"/>
                  </a:lnTo>
                  <a:lnTo>
                    <a:pt x="10531" y="2780"/>
                  </a:lnTo>
                  <a:lnTo>
                    <a:pt x="10647" y="2780"/>
                  </a:lnTo>
                  <a:lnTo>
                    <a:pt x="10763" y="2664"/>
                  </a:lnTo>
                  <a:lnTo>
                    <a:pt x="10763" y="2548"/>
                  </a:lnTo>
                  <a:lnTo>
                    <a:pt x="10879" y="2432"/>
                  </a:lnTo>
                  <a:lnTo>
                    <a:pt x="10879" y="2432"/>
                  </a:lnTo>
                  <a:lnTo>
                    <a:pt x="10763" y="2432"/>
                  </a:lnTo>
                  <a:lnTo>
                    <a:pt x="10763" y="2432"/>
                  </a:lnTo>
                  <a:lnTo>
                    <a:pt x="10994" y="2316"/>
                  </a:lnTo>
                  <a:lnTo>
                    <a:pt x="11110" y="2200"/>
                  </a:lnTo>
                  <a:lnTo>
                    <a:pt x="11226" y="1969"/>
                  </a:lnTo>
                  <a:lnTo>
                    <a:pt x="11342" y="1737"/>
                  </a:lnTo>
                  <a:lnTo>
                    <a:pt x="11457" y="1506"/>
                  </a:lnTo>
                  <a:lnTo>
                    <a:pt x="11689" y="1506"/>
                  </a:lnTo>
                  <a:lnTo>
                    <a:pt x="11805" y="1506"/>
                  </a:lnTo>
                  <a:lnTo>
                    <a:pt x="12036" y="1621"/>
                  </a:lnTo>
                  <a:lnTo>
                    <a:pt x="12036" y="1621"/>
                  </a:lnTo>
                  <a:lnTo>
                    <a:pt x="12036" y="1737"/>
                  </a:lnTo>
                  <a:lnTo>
                    <a:pt x="11920" y="1969"/>
                  </a:lnTo>
                  <a:lnTo>
                    <a:pt x="11920" y="2085"/>
                  </a:lnTo>
                  <a:lnTo>
                    <a:pt x="11805" y="2200"/>
                  </a:lnTo>
                  <a:lnTo>
                    <a:pt x="11805" y="2432"/>
                  </a:lnTo>
                  <a:lnTo>
                    <a:pt x="11805" y="2548"/>
                  </a:lnTo>
                  <a:lnTo>
                    <a:pt x="11920" y="2780"/>
                  </a:lnTo>
                  <a:lnTo>
                    <a:pt x="12036" y="2895"/>
                  </a:lnTo>
                  <a:lnTo>
                    <a:pt x="12036" y="2895"/>
                  </a:lnTo>
                  <a:lnTo>
                    <a:pt x="12152" y="3011"/>
                  </a:lnTo>
                  <a:lnTo>
                    <a:pt x="12267" y="3127"/>
                  </a:lnTo>
                  <a:lnTo>
                    <a:pt x="12383" y="3127"/>
                  </a:lnTo>
                  <a:lnTo>
                    <a:pt x="12499" y="3127"/>
                  </a:lnTo>
                  <a:lnTo>
                    <a:pt x="12615" y="3127"/>
                  </a:lnTo>
                  <a:lnTo>
                    <a:pt x="12730" y="3127"/>
                  </a:lnTo>
                  <a:lnTo>
                    <a:pt x="12846" y="3011"/>
                  </a:lnTo>
                  <a:lnTo>
                    <a:pt x="12962" y="3011"/>
                  </a:lnTo>
                  <a:lnTo>
                    <a:pt x="12962" y="3011"/>
                  </a:lnTo>
                  <a:lnTo>
                    <a:pt x="12846" y="2780"/>
                  </a:lnTo>
                  <a:lnTo>
                    <a:pt x="12962" y="2664"/>
                  </a:lnTo>
                  <a:lnTo>
                    <a:pt x="13078" y="2548"/>
                  </a:lnTo>
                  <a:lnTo>
                    <a:pt x="13193" y="2432"/>
                  </a:lnTo>
                  <a:lnTo>
                    <a:pt x="13309" y="2316"/>
                  </a:lnTo>
                  <a:lnTo>
                    <a:pt x="13425" y="2200"/>
                  </a:lnTo>
                  <a:lnTo>
                    <a:pt x="13541" y="2085"/>
                  </a:lnTo>
                  <a:lnTo>
                    <a:pt x="13656" y="1969"/>
                  </a:lnTo>
                  <a:lnTo>
                    <a:pt x="13656" y="1969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3772" y="2085"/>
                  </a:lnTo>
                  <a:lnTo>
                    <a:pt x="13772" y="2316"/>
                  </a:lnTo>
                  <a:lnTo>
                    <a:pt x="13772" y="2432"/>
                  </a:lnTo>
                  <a:lnTo>
                    <a:pt x="13656" y="2664"/>
                  </a:lnTo>
                  <a:lnTo>
                    <a:pt x="13772" y="2780"/>
                  </a:lnTo>
                  <a:lnTo>
                    <a:pt x="13772" y="2895"/>
                  </a:lnTo>
                  <a:lnTo>
                    <a:pt x="13888" y="3127"/>
                  </a:lnTo>
                  <a:lnTo>
                    <a:pt x="14003" y="3127"/>
                  </a:lnTo>
                  <a:lnTo>
                    <a:pt x="14003" y="3127"/>
                  </a:lnTo>
                  <a:lnTo>
                    <a:pt x="14119" y="3127"/>
                  </a:lnTo>
                  <a:lnTo>
                    <a:pt x="14235" y="3127"/>
                  </a:lnTo>
                  <a:lnTo>
                    <a:pt x="14351" y="3127"/>
                  </a:lnTo>
                  <a:lnTo>
                    <a:pt x="14466" y="3127"/>
                  </a:lnTo>
                  <a:lnTo>
                    <a:pt x="14582" y="3011"/>
                  </a:lnTo>
                  <a:lnTo>
                    <a:pt x="14582" y="3011"/>
                  </a:lnTo>
                  <a:lnTo>
                    <a:pt x="14698" y="2895"/>
                  </a:lnTo>
                  <a:lnTo>
                    <a:pt x="14814" y="2780"/>
                  </a:lnTo>
                  <a:lnTo>
                    <a:pt x="14814" y="2780"/>
                  </a:lnTo>
                  <a:lnTo>
                    <a:pt x="14814" y="2664"/>
                  </a:lnTo>
                  <a:lnTo>
                    <a:pt x="14814" y="2664"/>
                  </a:lnTo>
                  <a:lnTo>
                    <a:pt x="14814" y="2548"/>
                  </a:lnTo>
                  <a:lnTo>
                    <a:pt x="14929" y="2432"/>
                  </a:lnTo>
                  <a:lnTo>
                    <a:pt x="14929" y="2316"/>
                  </a:lnTo>
                  <a:lnTo>
                    <a:pt x="15045" y="2316"/>
                  </a:lnTo>
                  <a:lnTo>
                    <a:pt x="15045" y="2200"/>
                  </a:lnTo>
                  <a:lnTo>
                    <a:pt x="15161" y="2085"/>
                  </a:lnTo>
                  <a:lnTo>
                    <a:pt x="15161" y="2085"/>
                  </a:lnTo>
                  <a:lnTo>
                    <a:pt x="15624" y="2085"/>
                  </a:lnTo>
                  <a:lnTo>
                    <a:pt x="15624" y="2085"/>
                  </a:lnTo>
                  <a:lnTo>
                    <a:pt x="15624" y="2200"/>
                  </a:lnTo>
                  <a:lnTo>
                    <a:pt x="15508" y="2432"/>
                  </a:lnTo>
                  <a:lnTo>
                    <a:pt x="15508" y="2548"/>
                  </a:lnTo>
                  <a:lnTo>
                    <a:pt x="15508" y="2664"/>
                  </a:lnTo>
                  <a:lnTo>
                    <a:pt x="15508" y="2780"/>
                  </a:lnTo>
                  <a:lnTo>
                    <a:pt x="15508" y="2895"/>
                  </a:lnTo>
                  <a:lnTo>
                    <a:pt x="15624" y="3011"/>
                  </a:lnTo>
                  <a:lnTo>
                    <a:pt x="15739" y="3127"/>
                  </a:lnTo>
                  <a:lnTo>
                    <a:pt x="15739" y="3127"/>
                  </a:lnTo>
                  <a:lnTo>
                    <a:pt x="15739" y="3243"/>
                  </a:lnTo>
                  <a:lnTo>
                    <a:pt x="15855" y="3243"/>
                  </a:lnTo>
                  <a:lnTo>
                    <a:pt x="15855" y="3243"/>
                  </a:lnTo>
                  <a:lnTo>
                    <a:pt x="15971" y="3359"/>
                  </a:lnTo>
                  <a:lnTo>
                    <a:pt x="16087" y="3359"/>
                  </a:lnTo>
                  <a:lnTo>
                    <a:pt x="16202" y="3359"/>
                  </a:lnTo>
                  <a:lnTo>
                    <a:pt x="16202" y="3359"/>
                  </a:lnTo>
                  <a:lnTo>
                    <a:pt x="16318" y="3359"/>
                  </a:lnTo>
                  <a:lnTo>
                    <a:pt x="16318" y="3359"/>
                  </a:lnTo>
                  <a:lnTo>
                    <a:pt x="16550" y="3243"/>
                  </a:lnTo>
                  <a:lnTo>
                    <a:pt x="16665" y="3011"/>
                  </a:lnTo>
                  <a:lnTo>
                    <a:pt x="16781" y="2895"/>
                  </a:lnTo>
                  <a:lnTo>
                    <a:pt x="17012" y="2664"/>
                  </a:lnTo>
                  <a:lnTo>
                    <a:pt x="17128" y="2432"/>
                  </a:lnTo>
                  <a:lnTo>
                    <a:pt x="17244" y="2316"/>
                  </a:lnTo>
                  <a:lnTo>
                    <a:pt x="17475" y="2316"/>
                  </a:lnTo>
                  <a:lnTo>
                    <a:pt x="17823" y="2432"/>
                  </a:lnTo>
                  <a:lnTo>
                    <a:pt x="17823" y="2432"/>
                  </a:lnTo>
                  <a:lnTo>
                    <a:pt x="17823" y="2548"/>
                  </a:lnTo>
                  <a:lnTo>
                    <a:pt x="17707" y="2664"/>
                  </a:lnTo>
                  <a:lnTo>
                    <a:pt x="17707" y="2780"/>
                  </a:lnTo>
                  <a:lnTo>
                    <a:pt x="17591" y="2895"/>
                  </a:lnTo>
                  <a:lnTo>
                    <a:pt x="17591" y="3011"/>
                  </a:lnTo>
                  <a:lnTo>
                    <a:pt x="17475" y="3127"/>
                  </a:lnTo>
                  <a:lnTo>
                    <a:pt x="17475" y="3243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591" y="3474"/>
                  </a:lnTo>
                  <a:lnTo>
                    <a:pt x="17707" y="3590"/>
                  </a:lnTo>
                  <a:lnTo>
                    <a:pt x="17707" y="3590"/>
                  </a:lnTo>
                  <a:lnTo>
                    <a:pt x="17823" y="3706"/>
                  </a:lnTo>
                  <a:lnTo>
                    <a:pt x="17938" y="3706"/>
                  </a:lnTo>
                  <a:lnTo>
                    <a:pt x="18054" y="3706"/>
                  </a:lnTo>
                  <a:lnTo>
                    <a:pt x="18170" y="3706"/>
                  </a:lnTo>
                  <a:lnTo>
                    <a:pt x="18286" y="3706"/>
                  </a:lnTo>
                  <a:lnTo>
                    <a:pt x="18286" y="3706"/>
                  </a:lnTo>
                  <a:lnTo>
                    <a:pt x="18401" y="3590"/>
                  </a:lnTo>
                  <a:lnTo>
                    <a:pt x="18517" y="3474"/>
                  </a:lnTo>
                  <a:lnTo>
                    <a:pt x="18748" y="3359"/>
                  </a:lnTo>
                  <a:lnTo>
                    <a:pt x="18864" y="3243"/>
                  </a:lnTo>
                  <a:lnTo>
                    <a:pt x="18980" y="3127"/>
                  </a:lnTo>
                  <a:lnTo>
                    <a:pt x="19096" y="3011"/>
                  </a:lnTo>
                  <a:lnTo>
                    <a:pt x="19211" y="2780"/>
                  </a:lnTo>
                  <a:lnTo>
                    <a:pt x="19327" y="2664"/>
                  </a:lnTo>
                  <a:lnTo>
                    <a:pt x="19327" y="2664"/>
                  </a:lnTo>
                  <a:lnTo>
                    <a:pt x="19559" y="2664"/>
                  </a:lnTo>
                  <a:lnTo>
                    <a:pt x="19559" y="2664"/>
                  </a:lnTo>
                  <a:lnTo>
                    <a:pt x="19559" y="2780"/>
                  </a:lnTo>
                  <a:lnTo>
                    <a:pt x="19559" y="3011"/>
                  </a:lnTo>
                  <a:lnTo>
                    <a:pt x="19559" y="3127"/>
                  </a:lnTo>
                  <a:lnTo>
                    <a:pt x="19443" y="3359"/>
                  </a:lnTo>
                  <a:lnTo>
                    <a:pt x="19443" y="3474"/>
                  </a:lnTo>
                  <a:lnTo>
                    <a:pt x="19559" y="3590"/>
                  </a:lnTo>
                  <a:lnTo>
                    <a:pt x="19674" y="3706"/>
                  </a:lnTo>
                  <a:lnTo>
                    <a:pt x="19790" y="3822"/>
                  </a:lnTo>
                  <a:lnTo>
                    <a:pt x="19790" y="3822"/>
                  </a:lnTo>
                  <a:lnTo>
                    <a:pt x="19906" y="3822"/>
                  </a:lnTo>
                  <a:lnTo>
                    <a:pt x="20022" y="3822"/>
                  </a:lnTo>
                  <a:lnTo>
                    <a:pt x="20137" y="3822"/>
                  </a:lnTo>
                  <a:lnTo>
                    <a:pt x="20253" y="3822"/>
                  </a:lnTo>
                  <a:lnTo>
                    <a:pt x="20369" y="3706"/>
                  </a:lnTo>
                  <a:lnTo>
                    <a:pt x="20484" y="3706"/>
                  </a:lnTo>
                  <a:lnTo>
                    <a:pt x="20600" y="3590"/>
                  </a:lnTo>
                  <a:lnTo>
                    <a:pt x="20716" y="3590"/>
                  </a:lnTo>
                  <a:lnTo>
                    <a:pt x="20716" y="3590"/>
                  </a:lnTo>
                  <a:lnTo>
                    <a:pt x="20600" y="3474"/>
                  </a:lnTo>
                  <a:lnTo>
                    <a:pt x="20600" y="3359"/>
                  </a:lnTo>
                  <a:lnTo>
                    <a:pt x="20716" y="3243"/>
                  </a:lnTo>
                  <a:lnTo>
                    <a:pt x="20716" y="3127"/>
                  </a:lnTo>
                  <a:lnTo>
                    <a:pt x="20832" y="3127"/>
                  </a:lnTo>
                  <a:lnTo>
                    <a:pt x="20832" y="3011"/>
                  </a:lnTo>
                  <a:lnTo>
                    <a:pt x="20947" y="2895"/>
                  </a:lnTo>
                  <a:lnTo>
                    <a:pt x="20947" y="2780"/>
                  </a:lnTo>
                  <a:lnTo>
                    <a:pt x="20947" y="2780"/>
                  </a:lnTo>
                  <a:lnTo>
                    <a:pt x="20947" y="2895"/>
                  </a:lnTo>
                  <a:lnTo>
                    <a:pt x="20947" y="3011"/>
                  </a:lnTo>
                  <a:lnTo>
                    <a:pt x="20947" y="3127"/>
                  </a:lnTo>
                  <a:lnTo>
                    <a:pt x="20947" y="3359"/>
                  </a:lnTo>
                  <a:lnTo>
                    <a:pt x="20832" y="3474"/>
                  </a:lnTo>
                  <a:lnTo>
                    <a:pt x="20832" y="3590"/>
                  </a:lnTo>
                  <a:lnTo>
                    <a:pt x="20832" y="3706"/>
                  </a:lnTo>
                  <a:lnTo>
                    <a:pt x="20832" y="3822"/>
                  </a:lnTo>
                  <a:lnTo>
                    <a:pt x="20832" y="3822"/>
                  </a:lnTo>
                  <a:lnTo>
                    <a:pt x="20947" y="3938"/>
                  </a:lnTo>
                  <a:lnTo>
                    <a:pt x="20947" y="3938"/>
                  </a:lnTo>
                  <a:lnTo>
                    <a:pt x="21063" y="4053"/>
                  </a:lnTo>
                  <a:lnTo>
                    <a:pt x="21179" y="4053"/>
                  </a:lnTo>
                  <a:lnTo>
                    <a:pt x="21295" y="4053"/>
                  </a:lnTo>
                  <a:lnTo>
                    <a:pt x="21295" y="4053"/>
                  </a:lnTo>
                  <a:lnTo>
                    <a:pt x="21410" y="4053"/>
                  </a:lnTo>
                  <a:lnTo>
                    <a:pt x="21526" y="4053"/>
                  </a:lnTo>
                  <a:lnTo>
                    <a:pt x="21526" y="4053"/>
                  </a:lnTo>
                  <a:lnTo>
                    <a:pt x="21642" y="3938"/>
                  </a:lnTo>
                  <a:lnTo>
                    <a:pt x="21642" y="3822"/>
                  </a:lnTo>
                  <a:lnTo>
                    <a:pt x="21758" y="3706"/>
                  </a:lnTo>
                  <a:lnTo>
                    <a:pt x="21873" y="3590"/>
                  </a:lnTo>
                  <a:lnTo>
                    <a:pt x="21989" y="3474"/>
                  </a:lnTo>
                  <a:lnTo>
                    <a:pt x="22105" y="3359"/>
                  </a:lnTo>
                  <a:lnTo>
                    <a:pt x="22105" y="3243"/>
                  </a:lnTo>
                  <a:lnTo>
                    <a:pt x="22220" y="3011"/>
                  </a:lnTo>
                  <a:lnTo>
                    <a:pt x="22220" y="3011"/>
                  </a:lnTo>
                  <a:lnTo>
                    <a:pt x="22105" y="3127"/>
                  </a:lnTo>
                  <a:lnTo>
                    <a:pt x="22105" y="3243"/>
                  </a:lnTo>
                  <a:lnTo>
                    <a:pt x="22105" y="3359"/>
                  </a:lnTo>
                  <a:lnTo>
                    <a:pt x="22105" y="3474"/>
                  </a:lnTo>
                  <a:lnTo>
                    <a:pt x="22105" y="3590"/>
                  </a:lnTo>
                  <a:lnTo>
                    <a:pt x="22105" y="3706"/>
                  </a:lnTo>
                  <a:lnTo>
                    <a:pt x="22105" y="3822"/>
                  </a:lnTo>
                  <a:lnTo>
                    <a:pt x="22220" y="3938"/>
                  </a:lnTo>
                  <a:lnTo>
                    <a:pt x="22220" y="3938"/>
                  </a:lnTo>
                  <a:lnTo>
                    <a:pt x="22336" y="4053"/>
                  </a:lnTo>
                  <a:lnTo>
                    <a:pt x="22452" y="4169"/>
                  </a:lnTo>
                  <a:lnTo>
                    <a:pt x="22568" y="4169"/>
                  </a:lnTo>
                  <a:lnTo>
                    <a:pt x="22683" y="4053"/>
                  </a:lnTo>
                  <a:lnTo>
                    <a:pt x="22799" y="3938"/>
                  </a:lnTo>
                  <a:lnTo>
                    <a:pt x="22915" y="3822"/>
                  </a:lnTo>
                  <a:lnTo>
                    <a:pt x="23031" y="3822"/>
                  </a:lnTo>
                  <a:lnTo>
                    <a:pt x="23146" y="3822"/>
                  </a:lnTo>
                  <a:lnTo>
                    <a:pt x="23146" y="3822"/>
                  </a:lnTo>
                  <a:lnTo>
                    <a:pt x="23146" y="3938"/>
                  </a:lnTo>
                  <a:lnTo>
                    <a:pt x="23146" y="3938"/>
                  </a:lnTo>
                  <a:lnTo>
                    <a:pt x="23146" y="4053"/>
                  </a:lnTo>
                  <a:lnTo>
                    <a:pt x="23146" y="4169"/>
                  </a:lnTo>
                  <a:lnTo>
                    <a:pt x="23146" y="4285"/>
                  </a:lnTo>
                  <a:lnTo>
                    <a:pt x="23262" y="4285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378" y="4401"/>
                  </a:lnTo>
                  <a:lnTo>
                    <a:pt x="23841" y="4285"/>
                  </a:lnTo>
                  <a:lnTo>
                    <a:pt x="23841" y="4285"/>
                  </a:lnTo>
                  <a:lnTo>
                    <a:pt x="23378" y="5906"/>
                  </a:lnTo>
                  <a:lnTo>
                    <a:pt x="22799" y="7528"/>
                  </a:lnTo>
                  <a:lnTo>
                    <a:pt x="22452" y="9265"/>
                  </a:lnTo>
                  <a:lnTo>
                    <a:pt x="21989" y="11002"/>
                  </a:lnTo>
                  <a:lnTo>
                    <a:pt x="21642" y="12739"/>
                  </a:lnTo>
                  <a:lnTo>
                    <a:pt x="21410" y="14476"/>
                  </a:lnTo>
                  <a:lnTo>
                    <a:pt x="21179" y="16213"/>
                  </a:lnTo>
                  <a:lnTo>
                    <a:pt x="21063" y="17951"/>
                  </a:lnTo>
                  <a:lnTo>
                    <a:pt x="21063" y="17951"/>
                  </a:lnTo>
                  <a:lnTo>
                    <a:pt x="18517" y="18414"/>
                  </a:lnTo>
                  <a:lnTo>
                    <a:pt x="15971" y="18877"/>
                  </a:lnTo>
                  <a:lnTo>
                    <a:pt x="13541" y="19456"/>
                  </a:lnTo>
                  <a:lnTo>
                    <a:pt x="11110" y="20035"/>
                  </a:lnTo>
                  <a:lnTo>
                    <a:pt x="8564" y="20614"/>
                  </a:lnTo>
                  <a:lnTo>
                    <a:pt x="6134" y="21077"/>
                  </a:lnTo>
                  <a:lnTo>
                    <a:pt x="3588" y="21656"/>
                  </a:lnTo>
                  <a:lnTo>
                    <a:pt x="926" y="22004"/>
                  </a:lnTo>
                  <a:lnTo>
                    <a:pt x="926" y="22004"/>
                  </a:lnTo>
                  <a:lnTo>
                    <a:pt x="1041" y="21888"/>
                  </a:lnTo>
                  <a:lnTo>
                    <a:pt x="1041" y="21656"/>
                  </a:lnTo>
                  <a:lnTo>
                    <a:pt x="1041" y="21541"/>
                  </a:lnTo>
                  <a:lnTo>
                    <a:pt x="1041" y="21309"/>
                  </a:lnTo>
                  <a:lnTo>
                    <a:pt x="1041" y="21193"/>
                  </a:lnTo>
                  <a:lnTo>
                    <a:pt x="926" y="20962"/>
                  </a:lnTo>
                  <a:lnTo>
                    <a:pt x="926" y="20730"/>
                  </a:lnTo>
                  <a:lnTo>
                    <a:pt x="926" y="20614"/>
                  </a:lnTo>
                  <a:lnTo>
                    <a:pt x="926" y="20614"/>
                  </a:lnTo>
                  <a:lnTo>
                    <a:pt x="810" y="20498"/>
                  </a:lnTo>
                  <a:lnTo>
                    <a:pt x="694" y="20383"/>
                  </a:lnTo>
                  <a:lnTo>
                    <a:pt x="579" y="20267"/>
                  </a:lnTo>
                  <a:lnTo>
                    <a:pt x="463" y="20267"/>
                  </a:lnTo>
                  <a:lnTo>
                    <a:pt x="347" y="20151"/>
                  </a:lnTo>
                  <a:lnTo>
                    <a:pt x="231" y="20151"/>
                  </a:lnTo>
                  <a:lnTo>
                    <a:pt x="116" y="20035"/>
                  </a:lnTo>
                  <a:lnTo>
                    <a:pt x="0" y="20035"/>
                  </a:lnTo>
                  <a:lnTo>
                    <a:pt x="0" y="20035"/>
                  </a:lnTo>
                  <a:lnTo>
                    <a:pt x="347" y="17603"/>
                  </a:lnTo>
                  <a:lnTo>
                    <a:pt x="694" y="15055"/>
                  </a:lnTo>
                  <a:lnTo>
                    <a:pt x="1273" y="12623"/>
                  </a:lnTo>
                  <a:lnTo>
                    <a:pt x="1852" y="10076"/>
                  </a:lnTo>
                  <a:lnTo>
                    <a:pt x="2430" y="7644"/>
                  </a:lnTo>
                  <a:lnTo>
                    <a:pt x="2893" y="5096"/>
                  </a:lnTo>
                  <a:lnTo>
                    <a:pt x="3472" y="2548"/>
                  </a:lnTo>
                  <a:lnTo>
                    <a:pt x="3935" y="0"/>
                  </a:lnTo>
                  <a:lnTo>
                    <a:pt x="3935" y="0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lnTo>
                    <a:pt x="4050" y="116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038240" y="3094200"/>
              <a:ext cx="111600" cy="845280"/>
            </a:xfrm>
            <a:custGeom>
              <a:avLst/>
              <a:gdLst/>
              <a:ahLst/>
              <a:rect l="l" t="t" r="r" b="b"/>
              <a:pathLst>
                <a:path w="3125" h="15750">
                  <a:moveTo>
                    <a:pt x="3125" y="0"/>
                  </a:moveTo>
                  <a:lnTo>
                    <a:pt x="3125" y="347"/>
                  </a:lnTo>
                  <a:lnTo>
                    <a:pt x="3125" y="811"/>
                  </a:lnTo>
                  <a:lnTo>
                    <a:pt x="3009" y="1274"/>
                  </a:lnTo>
                  <a:lnTo>
                    <a:pt x="2894" y="1737"/>
                  </a:lnTo>
                  <a:lnTo>
                    <a:pt x="2894" y="2084"/>
                  </a:lnTo>
                  <a:lnTo>
                    <a:pt x="2778" y="2548"/>
                  </a:lnTo>
                  <a:lnTo>
                    <a:pt x="2662" y="2895"/>
                  </a:lnTo>
                  <a:lnTo>
                    <a:pt x="2546" y="3358"/>
                  </a:lnTo>
                  <a:lnTo>
                    <a:pt x="2546" y="3358"/>
                  </a:lnTo>
                  <a:lnTo>
                    <a:pt x="2199" y="4748"/>
                  </a:lnTo>
                  <a:lnTo>
                    <a:pt x="1968" y="6138"/>
                  </a:lnTo>
                  <a:lnTo>
                    <a:pt x="1736" y="7528"/>
                  </a:lnTo>
                  <a:lnTo>
                    <a:pt x="1389" y="8917"/>
                  </a:lnTo>
                  <a:lnTo>
                    <a:pt x="1158" y="10307"/>
                  </a:lnTo>
                  <a:lnTo>
                    <a:pt x="926" y="11812"/>
                  </a:lnTo>
                  <a:lnTo>
                    <a:pt x="695" y="13086"/>
                  </a:lnTo>
                  <a:lnTo>
                    <a:pt x="463" y="14476"/>
                  </a:lnTo>
                  <a:lnTo>
                    <a:pt x="463" y="14476"/>
                  </a:lnTo>
                  <a:lnTo>
                    <a:pt x="348" y="14592"/>
                  </a:lnTo>
                  <a:lnTo>
                    <a:pt x="348" y="14824"/>
                  </a:lnTo>
                  <a:lnTo>
                    <a:pt x="348" y="14939"/>
                  </a:lnTo>
                  <a:lnTo>
                    <a:pt x="348" y="15055"/>
                  </a:lnTo>
                  <a:lnTo>
                    <a:pt x="232" y="15287"/>
                  </a:lnTo>
                  <a:lnTo>
                    <a:pt x="232" y="15403"/>
                  </a:lnTo>
                  <a:lnTo>
                    <a:pt x="232" y="15518"/>
                  </a:lnTo>
                  <a:lnTo>
                    <a:pt x="232" y="15750"/>
                  </a:lnTo>
                  <a:lnTo>
                    <a:pt x="232" y="15750"/>
                  </a:lnTo>
                  <a:lnTo>
                    <a:pt x="0" y="15750"/>
                  </a:lnTo>
                  <a:lnTo>
                    <a:pt x="0" y="15750"/>
                  </a:lnTo>
                  <a:lnTo>
                    <a:pt x="116" y="14824"/>
                  </a:lnTo>
                  <a:lnTo>
                    <a:pt x="348" y="14013"/>
                  </a:lnTo>
                  <a:lnTo>
                    <a:pt x="463" y="13086"/>
                  </a:lnTo>
                  <a:lnTo>
                    <a:pt x="579" y="12276"/>
                  </a:lnTo>
                  <a:lnTo>
                    <a:pt x="695" y="11349"/>
                  </a:lnTo>
                  <a:lnTo>
                    <a:pt x="810" y="10423"/>
                  </a:lnTo>
                  <a:lnTo>
                    <a:pt x="926" y="9612"/>
                  </a:lnTo>
                  <a:lnTo>
                    <a:pt x="1042" y="8686"/>
                  </a:lnTo>
                  <a:lnTo>
                    <a:pt x="1042" y="8686"/>
                  </a:lnTo>
                  <a:lnTo>
                    <a:pt x="1273" y="7643"/>
                  </a:lnTo>
                  <a:lnTo>
                    <a:pt x="1505" y="6601"/>
                  </a:lnTo>
                  <a:lnTo>
                    <a:pt x="1736" y="5559"/>
                  </a:lnTo>
                  <a:lnTo>
                    <a:pt x="1968" y="4516"/>
                  </a:lnTo>
                  <a:lnTo>
                    <a:pt x="2199" y="3358"/>
                  </a:lnTo>
                  <a:lnTo>
                    <a:pt x="2431" y="2316"/>
                  </a:lnTo>
                  <a:lnTo>
                    <a:pt x="2662" y="1274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778" y="116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2894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1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059120" y="3094200"/>
              <a:ext cx="119880" cy="864000"/>
            </a:xfrm>
            <a:custGeom>
              <a:avLst/>
              <a:gdLst/>
              <a:ahLst/>
              <a:rect l="l" t="t" r="r" b="b"/>
              <a:pathLst>
                <a:path w="3356" h="16097">
                  <a:moveTo>
                    <a:pt x="3356" y="0"/>
                  </a:moveTo>
                  <a:lnTo>
                    <a:pt x="3125" y="1390"/>
                  </a:lnTo>
                  <a:lnTo>
                    <a:pt x="2893" y="2779"/>
                  </a:lnTo>
                  <a:lnTo>
                    <a:pt x="2662" y="4053"/>
                  </a:lnTo>
                  <a:lnTo>
                    <a:pt x="2315" y="5443"/>
                  </a:lnTo>
                  <a:lnTo>
                    <a:pt x="2083" y="6833"/>
                  </a:lnTo>
                  <a:lnTo>
                    <a:pt x="1736" y="8107"/>
                  </a:lnTo>
                  <a:lnTo>
                    <a:pt x="1505" y="9496"/>
                  </a:lnTo>
                  <a:lnTo>
                    <a:pt x="1273" y="10770"/>
                  </a:lnTo>
                  <a:lnTo>
                    <a:pt x="1273" y="10770"/>
                  </a:lnTo>
                  <a:lnTo>
                    <a:pt x="1157" y="11002"/>
                  </a:lnTo>
                  <a:lnTo>
                    <a:pt x="1157" y="11233"/>
                  </a:lnTo>
                  <a:lnTo>
                    <a:pt x="1042" y="11465"/>
                  </a:lnTo>
                  <a:lnTo>
                    <a:pt x="1042" y="11697"/>
                  </a:lnTo>
                  <a:lnTo>
                    <a:pt x="926" y="11928"/>
                  </a:lnTo>
                  <a:lnTo>
                    <a:pt x="926" y="12276"/>
                  </a:lnTo>
                  <a:lnTo>
                    <a:pt x="926" y="12507"/>
                  </a:lnTo>
                  <a:lnTo>
                    <a:pt x="810" y="12739"/>
                  </a:lnTo>
                  <a:lnTo>
                    <a:pt x="810" y="12739"/>
                  </a:lnTo>
                  <a:lnTo>
                    <a:pt x="926" y="13086"/>
                  </a:lnTo>
                  <a:lnTo>
                    <a:pt x="810" y="13550"/>
                  </a:lnTo>
                  <a:lnTo>
                    <a:pt x="810" y="13897"/>
                  </a:lnTo>
                  <a:lnTo>
                    <a:pt x="694" y="14360"/>
                  </a:lnTo>
                  <a:lnTo>
                    <a:pt x="579" y="14824"/>
                  </a:lnTo>
                  <a:lnTo>
                    <a:pt x="463" y="15171"/>
                  </a:lnTo>
                  <a:lnTo>
                    <a:pt x="463" y="15634"/>
                  </a:lnTo>
                  <a:lnTo>
                    <a:pt x="463" y="16097"/>
                  </a:lnTo>
                  <a:lnTo>
                    <a:pt x="463" y="16097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347" y="13897"/>
                  </a:lnTo>
                  <a:lnTo>
                    <a:pt x="694" y="11928"/>
                  </a:lnTo>
                  <a:lnTo>
                    <a:pt x="1042" y="9960"/>
                  </a:lnTo>
                  <a:lnTo>
                    <a:pt x="1389" y="7875"/>
                  </a:lnTo>
                  <a:lnTo>
                    <a:pt x="1852" y="5906"/>
                  </a:lnTo>
                  <a:lnTo>
                    <a:pt x="2199" y="3937"/>
                  </a:lnTo>
                  <a:lnTo>
                    <a:pt x="2546" y="1969"/>
                  </a:lnTo>
                  <a:lnTo>
                    <a:pt x="2893" y="0"/>
                  </a:lnTo>
                  <a:lnTo>
                    <a:pt x="2893" y="0"/>
                  </a:lnTo>
                  <a:lnTo>
                    <a:pt x="3009" y="0"/>
                  </a:lnTo>
                  <a:lnTo>
                    <a:pt x="3009" y="0"/>
                  </a:lnTo>
                  <a:lnTo>
                    <a:pt x="3125" y="0"/>
                  </a:lnTo>
                  <a:lnTo>
                    <a:pt x="3125" y="0"/>
                  </a:lnTo>
                  <a:lnTo>
                    <a:pt x="3240" y="0"/>
                  </a:lnTo>
                  <a:lnTo>
                    <a:pt x="3240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067040" y="3094200"/>
              <a:ext cx="144720" cy="1087920"/>
            </a:xfrm>
            <a:custGeom>
              <a:avLst/>
              <a:gdLst/>
              <a:ahLst/>
              <a:rect l="l" t="t" r="r" b="b"/>
              <a:pathLst>
                <a:path w="4051" h="20267">
                  <a:moveTo>
                    <a:pt x="3704" y="116"/>
                  </a:moveTo>
                  <a:lnTo>
                    <a:pt x="3935" y="0"/>
                  </a:lnTo>
                  <a:lnTo>
                    <a:pt x="4051" y="232"/>
                  </a:lnTo>
                  <a:lnTo>
                    <a:pt x="4051" y="232"/>
                  </a:lnTo>
                  <a:lnTo>
                    <a:pt x="3588" y="2779"/>
                  </a:lnTo>
                  <a:lnTo>
                    <a:pt x="3009" y="5211"/>
                  </a:lnTo>
                  <a:lnTo>
                    <a:pt x="2547" y="7643"/>
                  </a:lnTo>
                  <a:lnTo>
                    <a:pt x="1968" y="10075"/>
                  </a:lnTo>
                  <a:lnTo>
                    <a:pt x="1389" y="12623"/>
                  </a:lnTo>
                  <a:lnTo>
                    <a:pt x="926" y="15055"/>
                  </a:lnTo>
                  <a:lnTo>
                    <a:pt x="579" y="17603"/>
                  </a:lnTo>
                  <a:lnTo>
                    <a:pt x="348" y="20035"/>
                  </a:lnTo>
                  <a:lnTo>
                    <a:pt x="348" y="20035"/>
                  </a:lnTo>
                  <a:lnTo>
                    <a:pt x="348" y="20151"/>
                  </a:lnTo>
                  <a:lnTo>
                    <a:pt x="232" y="20151"/>
                  </a:lnTo>
                  <a:lnTo>
                    <a:pt x="232" y="20151"/>
                  </a:lnTo>
                  <a:lnTo>
                    <a:pt x="116" y="20151"/>
                  </a:lnTo>
                  <a:lnTo>
                    <a:pt x="116" y="20151"/>
                  </a:lnTo>
                  <a:lnTo>
                    <a:pt x="116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0" y="20267"/>
                  </a:lnTo>
                  <a:lnTo>
                    <a:pt x="348" y="18761"/>
                  </a:lnTo>
                  <a:lnTo>
                    <a:pt x="579" y="17140"/>
                  </a:lnTo>
                  <a:lnTo>
                    <a:pt x="695" y="15634"/>
                  </a:lnTo>
                  <a:lnTo>
                    <a:pt x="926" y="14129"/>
                  </a:lnTo>
                  <a:lnTo>
                    <a:pt x="1042" y="12507"/>
                  </a:lnTo>
                  <a:lnTo>
                    <a:pt x="1158" y="11002"/>
                  </a:lnTo>
                  <a:lnTo>
                    <a:pt x="1505" y="9496"/>
                  </a:lnTo>
                  <a:lnTo>
                    <a:pt x="1852" y="7991"/>
                  </a:lnTo>
                  <a:lnTo>
                    <a:pt x="1852" y="7991"/>
                  </a:lnTo>
                  <a:lnTo>
                    <a:pt x="1968" y="6948"/>
                  </a:lnTo>
                  <a:lnTo>
                    <a:pt x="2199" y="5906"/>
                  </a:lnTo>
                  <a:lnTo>
                    <a:pt x="2431" y="4980"/>
                  </a:lnTo>
                  <a:lnTo>
                    <a:pt x="2778" y="4053"/>
                  </a:lnTo>
                  <a:lnTo>
                    <a:pt x="3009" y="3011"/>
                  </a:lnTo>
                  <a:lnTo>
                    <a:pt x="3241" y="2084"/>
                  </a:lnTo>
                  <a:lnTo>
                    <a:pt x="3472" y="1042"/>
                  </a:lnTo>
                  <a:lnTo>
                    <a:pt x="3588" y="0"/>
                  </a:lnTo>
                  <a:lnTo>
                    <a:pt x="3588" y="0"/>
                  </a:lnTo>
                  <a:lnTo>
                    <a:pt x="3704" y="0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lnTo>
                    <a:pt x="3704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712880" y="3106800"/>
              <a:ext cx="57600" cy="142920"/>
            </a:xfrm>
            <a:custGeom>
              <a:avLst/>
              <a:gdLst/>
              <a:ahLst/>
              <a:rect l="l" t="t" r="r" b="b"/>
              <a:pathLst>
                <a:path w="1620" h="2663">
                  <a:moveTo>
                    <a:pt x="1620" y="810"/>
                  </a:moveTo>
                  <a:lnTo>
                    <a:pt x="1620" y="1042"/>
                  </a:lnTo>
                  <a:lnTo>
                    <a:pt x="1620" y="1158"/>
                  </a:lnTo>
                  <a:lnTo>
                    <a:pt x="1620" y="1389"/>
                  </a:lnTo>
                  <a:lnTo>
                    <a:pt x="1620" y="1621"/>
                  </a:lnTo>
                  <a:lnTo>
                    <a:pt x="1620" y="1852"/>
                  </a:lnTo>
                  <a:lnTo>
                    <a:pt x="1504" y="1968"/>
                  </a:lnTo>
                  <a:lnTo>
                    <a:pt x="1388" y="2200"/>
                  </a:lnTo>
                  <a:lnTo>
                    <a:pt x="1388" y="2316"/>
                  </a:lnTo>
                  <a:lnTo>
                    <a:pt x="1388" y="2316"/>
                  </a:lnTo>
                  <a:lnTo>
                    <a:pt x="1273" y="2432"/>
                  </a:lnTo>
                  <a:lnTo>
                    <a:pt x="1157" y="2432"/>
                  </a:lnTo>
                  <a:lnTo>
                    <a:pt x="1157" y="2547"/>
                  </a:lnTo>
                  <a:lnTo>
                    <a:pt x="1041" y="2547"/>
                  </a:lnTo>
                  <a:lnTo>
                    <a:pt x="1041" y="2663"/>
                  </a:lnTo>
                  <a:lnTo>
                    <a:pt x="926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810" y="2663"/>
                  </a:lnTo>
                  <a:lnTo>
                    <a:pt x="926" y="2432"/>
                  </a:lnTo>
                  <a:lnTo>
                    <a:pt x="926" y="2200"/>
                  </a:lnTo>
                  <a:lnTo>
                    <a:pt x="1041" y="1968"/>
                  </a:lnTo>
                  <a:lnTo>
                    <a:pt x="1157" y="1737"/>
                  </a:lnTo>
                  <a:lnTo>
                    <a:pt x="1157" y="1505"/>
                  </a:lnTo>
                  <a:lnTo>
                    <a:pt x="1157" y="1158"/>
                  </a:lnTo>
                  <a:lnTo>
                    <a:pt x="1041" y="926"/>
                  </a:lnTo>
                  <a:lnTo>
                    <a:pt x="1041" y="694"/>
                  </a:lnTo>
                  <a:lnTo>
                    <a:pt x="1041" y="694"/>
                  </a:lnTo>
                  <a:lnTo>
                    <a:pt x="926" y="579"/>
                  </a:lnTo>
                  <a:lnTo>
                    <a:pt x="810" y="463"/>
                  </a:lnTo>
                  <a:lnTo>
                    <a:pt x="694" y="347"/>
                  </a:lnTo>
                  <a:lnTo>
                    <a:pt x="578" y="347"/>
                  </a:lnTo>
                  <a:lnTo>
                    <a:pt x="463" y="231"/>
                  </a:lnTo>
                  <a:lnTo>
                    <a:pt x="231" y="231"/>
                  </a:lnTo>
                  <a:lnTo>
                    <a:pt x="115" y="231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115" y="0"/>
                  </a:lnTo>
                  <a:lnTo>
                    <a:pt x="347" y="0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115"/>
                  </a:lnTo>
                  <a:lnTo>
                    <a:pt x="1273" y="347"/>
                  </a:lnTo>
                  <a:lnTo>
                    <a:pt x="1504" y="579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lnTo>
                    <a:pt x="1620" y="8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783080" y="3125520"/>
              <a:ext cx="41040" cy="136800"/>
            </a:xfrm>
            <a:custGeom>
              <a:avLst/>
              <a:gdLst/>
              <a:ahLst/>
              <a:rect l="l" t="t" r="r" b="b"/>
              <a:pathLst>
                <a:path w="1157" h="2548">
                  <a:moveTo>
                    <a:pt x="1042" y="811"/>
                  </a:moveTo>
                  <a:lnTo>
                    <a:pt x="1042" y="926"/>
                  </a:lnTo>
                  <a:lnTo>
                    <a:pt x="1157" y="1158"/>
                  </a:lnTo>
                  <a:lnTo>
                    <a:pt x="1157" y="1274"/>
                  </a:lnTo>
                  <a:lnTo>
                    <a:pt x="1157" y="1505"/>
                  </a:lnTo>
                  <a:lnTo>
                    <a:pt x="1157" y="1621"/>
                  </a:lnTo>
                  <a:lnTo>
                    <a:pt x="1157" y="1853"/>
                  </a:lnTo>
                  <a:lnTo>
                    <a:pt x="1157" y="1969"/>
                  </a:lnTo>
                  <a:lnTo>
                    <a:pt x="1042" y="2200"/>
                  </a:lnTo>
                  <a:lnTo>
                    <a:pt x="1042" y="2200"/>
                  </a:lnTo>
                  <a:lnTo>
                    <a:pt x="695" y="2548"/>
                  </a:lnTo>
                  <a:lnTo>
                    <a:pt x="695" y="2548"/>
                  </a:lnTo>
                  <a:lnTo>
                    <a:pt x="695" y="2200"/>
                  </a:lnTo>
                  <a:lnTo>
                    <a:pt x="695" y="1969"/>
                  </a:lnTo>
                  <a:lnTo>
                    <a:pt x="810" y="1621"/>
                  </a:lnTo>
                  <a:lnTo>
                    <a:pt x="810" y="1274"/>
                  </a:lnTo>
                  <a:lnTo>
                    <a:pt x="810" y="1042"/>
                  </a:lnTo>
                  <a:lnTo>
                    <a:pt x="695" y="811"/>
                  </a:lnTo>
                  <a:lnTo>
                    <a:pt x="463" y="579"/>
                  </a:lnTo>
                  <a:lnTo>
                    <a:pt x="116" y="347"/>
                  </a:lnTo>
                  <a:lnTo>
                    <a:pt x="116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810" y="347"/>
                  </a:lnTo>
                  <a:lnTo>
                    <a:pt x="926" y="463"/>
                  </a:lnTo>
                  <a:lnTo>
                    <a:pt x="926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832760" y="3137760"/>
              <a:ext cx="41040" cy="130320"/>
            </a:xfrm>
            <a:custGeom>
              <a:avLst/>
              <a:gdLst/>
              <a:ahLst/>
              <a:rect l="l" t="t" r="r" b="b"/>
              <a:pathLst>
                <a:path w="1157" h="2432">
                  <a:moveTo>
                    <a:pt x="1157" y="926"/>
                  </a:moveTo>
                  <a:lnTo>
                    <a:pt x="1157" y="1158"/>
                  </a:lnTo>
                  <a:lnTo>
                    <a:pt x="1157" y="1389"/>
                  </a:lnTo>
                  <a:lnTo>
                    <a:pt x="1157" y="1505"/>
                  </a:lnTo>
                  <a:lnTo>
                    <a:pt x="1157" y="1737"/>
                  </a:lnTo>
                  <a:lnTo>
                    <a:pt x="1042" y="1968"/>
                  </a:lnTo>
                  <a:lnTo>
                    <a:pt x="926" y="2200"/>
                  </a:lnTo>
                  <a:lnTo>
                    <a:pt x="810" y="2316"/>
                  </a:lnTo>
                  <a:lnTo>
                    <a:pt x="579" y="2432"/>
                  </a:lnTo>
                  <a:lnTo>
                    <a:pt x="579" y="2432"/>
                  </a:lnTo>
                  <a:lnTo>
                    <a:pt x="694" y="2316"/>
                  </a:lnTo>
                  <a:lnTo>
                    <a:pt x="694" y="2200"/>
                  </a:lnTo>
                  <a:lnTo>
                    <a:pt x="694" y="1968"/>
                  </a:lnTo>
                  <a:lnTo>
                    <a:pt x="810" y="1853"/>
                  </a:lnTo>
                  <a:lnTo>
                    <a:pt x="810" y="1621"/>
                  </a:lnTo>
                  <a:lnTo>
                    <a:pt x="926" y="1389"/>
                  </a:lnTo>
                  <a:lnTo>
                    <a:pt x="926" y="1273"/>
                  </a:lnTo>
                  <a:lnTo>
                    <a:pt x="810" y="1042"/>
                  </a:lnTo>
                  <a:lnTo>
                    <a:pt x="810" y="1042"/>
                  </a:lnTo>
                  <a:lnTo>
                    <a:pt x="810" y="926"/>
                  </a:lnTo>
                  <a:lnTo>
                    <a:pt x="694" y="810"/>
                  </a:lnTo>
                  <a:lnTo>
                    <a:pt x="463" y="694"/>
                  </a:lnTo>
                  <a:lnTo>
                    <a:pt x="347" y="579"/>
                  </a:lnTo>
                  <a:lnTo>
                    <a:pt x="231" y="463"/>
                  </a:lnTo>
                  <a:lnTo>
                    <a:pt x="116" y="347"/>
                  </a:lnTo>
                  <a:lnTo>
                    <a:pt x="0" y="2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7" y="0"/>
                  </a:lnTo>
                  <a:lnTo>
                    <a:pt x="579" y="115"/>
                  </a:lnTo>
                  <a:lnTo>
                    <a:pt x="694" y="231"/>
                  </a:lnTo>
                  <a:lnTo>
                    <a:pt x="810" y="347"/>
                  </a:lnTo>
                  <a:lnTo>
                    <a:pt x="926" y="579"/>
                  </a:lnTo>
                  <a:lnTo>
                    <a:pt x="1042" y="810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157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890720" y="3156480"/>
              <a:ext cx="28800" cy="111600"/>
            </a:xfrm>
            <a:custGeom>
              <a:avLst/>
              <a:gdLst/>
              <a:ahLst/>
              <a:rect l="l" t="t" r="r" b="b"/>
              <a:pathLst>
                <a:path w="810" h="2085">
                  <a:moveTo>
                    <a:pt x="810" y="579"/>
                  </a:moveTo>
                  <a:lnTo>
                    <a:pt x="810" y="811"/>
                  </a:lnTo>
                  <a:lnTo>
                    <a:pt x="810" y="1042"/>
                  </a:lnTo>
                  <a:lnTo>
                    <a:pt x="810" y="1158"/>
                  </a:lnTo>
                  <a:lnTo>
                    <a:pt x="810" y="1390"/>
                  </a:lnTo>
                  <a:lnTo>
                    <a:pt x="695" y="1621"/>
                  </a:lnTo>
                  <a:lnTo>
                    <a:pt x="695" y="1737"/>
                  </a:lnTo>
                  <a:lnTo>
                    <a:pt x="579" y="1969"/>
                  </a:lnTo>
                  <a:lnTo>
                    <a:pt x="347" y="2085"/>
                  </a:lnTo>
                  <a:lnTo>
                    <a:pt x="347" y="2085"/>
                  </a:lnTo>
                  <a:lnTo>
                    <a:pt x="463" y="1969"/>
                  </a:lnTo>
                  <a:lnTo>
                    <a:pt x="463" y="1737"/>
                  </a:lnTo>
                  <a:lnTo>
                    <a:pt x="579" y="1506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1"/>
                  </a:lnTo>
                  <a:lnTo>
                    <a:pt x="579" y="579"/>
                  </a:lnTo>
                  <a:lnTo>
                    <a:pt x="347" y="347"/>
                  </a:lnTo>
                  <a:lnTo>
                    <a:pt x="347" y="3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2" y="0"/>
                  </a:lnTo>
                  <a:lnTo>
                    <a:pt x="347" y="0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579" y="232"/>
                  </a:lnTo>
                  <a:lnTo>
                    <a:pt x="695" y="347"/>
                  </a:lnTo>
                  <a:lnTo>
                    <a:pt x="695" y="463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lnTo>
                    <a:pt x="810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932120" y="3169080"/>
              <a:ext cx="37080" cy="118080"/>
            </a:xfrm>
            <a:custGeom>
              <a:avLst/>
              <a:gdLst/>
              <a:ahLst/>
              <a:rect l="l" t="t" r="r" b="b"/>
              <a:pathLst>
                <a:path w="1042" h="2200">
                  <a:moveTo>
                    <a:pt x="1042" y="694"/>
                  </a:moveTo>
                  <a:lnTo>
                    <a:pt x="1042" y="926"/>
                  </a:lnTo>
                  <a:lnTo>
                    <a:pt x="1042" y="1042"/>
                  </a:lnTo>
                  <a:lnTo>
                    <a:pt x="1042" y="1274"/>
                  </a:lnTo>
                  <a:lnTo>
                    <a:pt x="926" y="1505"/>
                  </a:lnTo>
                  <a:lnTo>
                    <a:pt x="926" y="1737"/>
                  </a:lnTo>
                  <a:lnTo>
                    <a:pt x="811" y="1853"/>
                  </a:lnTo>
                  <a:lnTo>
                    <a:pt x="579" y="2084"/>
                  </a:lnTo>
                  <a:lnTo>
                    <a:pt x="463" y="2200"/>
                  </a:lnTo>
                  <a:lnTo>
                    <a:pt x="463" y="2200"/>
                  </a:lnTo>
                  <a:lnTo>
                    <a:pt x="116" y="2200"/>
                  </a:lnTo>
                  <a:lnTo>
                    <a:pt x="116" y="2200"/>
                  </a:lnTo>
                  <a:lnTo>
                    <a:pt x="232" y="1968"/>
                  </a:lnTo>
                  <a:lnTo>
                    <a:pt x="348" y="1737"/>
                  </a:lnTo>
                  <a:lnTo>
                    <a:pt x="463" y="1621"/>
                  </a:lnTo>
                  <a:lnTo>
                    <a:pt x="463" y="1389"/>
                  </a:lnTo>
                  <a:lnTo>
                    <a:pt x="579" y="1274"/>
                  </a:lnTo>
                  <a:lnTo>
                    <a:pt x="579" y="1042"/>
                  </a:lnTo>
                  <a:lnTo>
                    <a:pt x="579" y="810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0"/>
                  </a:lnTo>
                  <a:lnTo>
                    <a:pt x="348" y="0"/>
                  </a:lnTo>
                  <a:lnTo>
                    <a:pt x="463" y="0"/>
                  </a:lnTo>
                  <a:lnTo>
                    <a:pt x="579" y="115"/>
                  </a:lnTo>
                  <a:lnTo>
                    <a:pt x="811" y="231"/>
                  </a:lnTo>
                  <a:lnTo>
                    <a:pt x="926" y="347"/>
                  </a:lnTo>
                  <a:lnTo>
                    <a:pt x="1042" y="579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lnTo>
                    <a:pt x="1042" y="6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340280" y="3312000"/>
              <a:ext cx="223200" cy="397800"/>
            </a:xfrm>
            <a:custGeom>
              <a:avLst/>
              <a:gdLst/>
              <a:ahLst/>
              <a:rect l="l" t="t" r="r" b="b"/>
              <a:pathLst>
                <a:path w="6249" h="7412">
                  <a:moveTo>
                    <a:pt x="5439" y="1969"/>
                  </a:moveTo>
                  <a:lnTo>
                    <a:pt x="5439" y="2085"/>
                  </a:lnTo>
                  <a:lnTo>
                    <a:pt x="5555" y="2085"/>
                  </a:lnTo>
                  <a:lnTo>
                    <a:pt x="5555" y="2085"/>
                  </a:lnTo>
                  <a:lnTo>
                    <a:pt x="5671" y="2085"/>
                  </a:lnTo>
                  <a:lnTo>
                    <a:pt x="5671" y="2085"/>
                  </a:lnTo>
                  <a:lnTo>
                    <a:pt x="5786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5902" y="2085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969"/>
                  </a:lnTo>
                  <a:lnTo>
                    <a:pt x="6018" y="1853"/>
                  </a:lnTo>
                  <a:lnTo>
                    <a:pt x="6018" y="1853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134" y="1737"/>
                  </a:lnTo>
                  <a:lnTo>
                    <a:pt x="6249" y="1737"/>
                  </a:lnTo>
                  <a:lnTo>
                    <a:pt x="6249" y="1737"/>
                  </a:lnTo>
                  <a:lnTo>
                    <a:pt x="6249" y="1853"/>
                  </a:lnTo>
                  <a:lnTo>
                    <a:pt x="6249" y="1969"/>
                  </a:lnTo>
                  <a:lnTo>
                    <a:pt x="6249" y="2085"/>
                  </a:lnTo>
                  <a:lnTo>
                    <a:pt x="6134" y="2201"/>
                  </a:lnTo>
                  <a:lnTo>
                    <a:pt x="6018" y="2316"/>
                  </a:lnTo>
                  <a:lnTo>
                    <a:pt x="5902" y="2432"/>
                  </a:lnTo>
                  <a:lnTo>
                    <a:pt x="5786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671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2548"/>
                  </a:lnTo>
                  <a:lnTo>
                    <a:pt x="5555" y="3127"/>
                  </a:lnTo>
                  <a:lnTo>
                    <a:pt x="5555" y="3822"/>
                  </a:lnTo>
                  <a:lnTo>
                    <a:pt x="5555" y="4401"/>
                  </a:lnTo>
                  <a:lnTo>
                    <a:pt x="5323" y="4980"/>
                  </a:lnTo>
                  <a:lnTo>
                    <a:pt x="5208" y="5675"/>
                  </a:lnTo>
                  <a:lnTo>
                    <a:pt x="4861" y="6138"/>
                  </a:lnTo>
                  <a:lnTo>
                    <a:pt x="4398" y="6601"/>
                  </a:lnTo>
                  <a:lnTo>
                    <a:pt x="3935" y="7065"/>
                  </a:lnTo>
                  <a:lnTo>
                    <a:pt x="3935" y="7065"/>
                  </a:lnTo>
                  <a:lnTo>
                    <a:pt x="3703" y="7180"/>
                  </a:lnTo>
                  <a:lnTo>
                    <a:pt x="3356" y="7296"/>
                  </a:lnTo>
                  <a:lnTo>
                    <a:pt x="3125" y="7412"/>
                  </a:lnTo>
                  <a:lnTo>
                    <a:pt x="2893" y="7412"/>
                  </a:lnTo>
                  <a:lnTo>
                    <a:pt x="2546" y="7412"/>
                  </a:lnTo>
                  <a:lnTo>
                    <a:pt x="2199" y="7412"/>
                  </a:lnTo>
                  <a:lnTo>
                    <a:pt x="1967" y="7296"/>
                  </a:lnTo>
                  <a:lnTo>
                    <a:pt x="1620" y="7296"/>
                  </a:lnTo>
                  <a:lnTo>
                    <a:pt x="1620" y="7296"/>
                  </a:lnTo>
                  <a:lnTo>
                    <a:pt x="1389" y="7180"/>
                  </a:lnTo>
                  <a:lnTo>
                    <a:pt x="1157" y="7065"/>
                  </a:lnTo>
                  <a:lnTo>
                    <a:pt x="926" y="6949"/>
                  </a:lnTo>
                  <a:lnTo>
                    <a:pt x="694" y="6717"/>
                  </a:lnTo>
                  <a:lnTo>
                    <a:pt x="578" y="6601"/>
                  </a:lnTo>
                  <a:lnTo>
                    <a:pt x="347" y="6370"/>
                  </a:lnTo>
                  <a:lnTo>
                    <a:pt x="231" y="6138"/>
                  </a:lnTo>
                  <a:lnTo>
                    <a:pt x="116" y="5907"/>
                  </a:lnTo>
                  <a:lnTo>
                    <a:pt x="116" y="5907"/>
                  </a:lnTo>
                  <a:lnTo>
                    <a:pt x="0" y="5559"/>
                  </a:lnTo>
                  <a:lnTo>
                    <a:pt x="0" y="5096"/>
                  </a:lnTo>
                  <a:lnTo>
                    <a:pt x="0" y="4748"/>
                  </a:lnTo>
                  <a:lnTo>
                    <a:pt x="0" y="4285"/>
                  </a:lnTo>
                  <a:lnTo>
                    <a:pt x="0" y="3938"/>
                  </a:lnTo>
                  <a:lnTo>
                    <a:pt x="116" y="3590"/>
                  </a:lnTo>
                  <a:lnTo>
                    <a:pt x="347" y="3243"/>
                  </a:lnTo>
                  <a:lnTo>
                    <a:pt x="578" y="2895"/>
                  </a:lnTo>
                  <a:lnTo>
                    <a:pt x="578" y="2895"/>
                  </a:lnTo>
                  <a:lnTo>
                    <a:pt x="926" y="2432"/>
                  </a:lnTo>
                  <a:lnTo>
                    <a:pt x="1273" y="2085"/>
                  </a:lnTo>
                  <a:lnTo>
                    <a:pt x="1736" y="1853"/>
                  </a:lnTo>
                  <a:lnTo>
                    <a:pt x="2083" y="1622"/>
                  </a:lnTo>
                  <a:lnTo>
                    <a:pt x="2546" y="1390"/>
                  </a:lnTo>
                  <a:lnTo>
                    <a:pt x="3009" y="1274"/>
                  </a:lnTo>
                  <a:lnTo>
                    <a:pt x="3587" y="1158"/>
                  </a:lnTo>
                  <a:lnTo>
                    <a:pt x="4050" y="1158"/>
                  </a:lnTo>
                  <a:lnTo>
                    <a:pt x="4050" y="1158"/>
                  </a:lnTo>
                  <a:lnTo>
                    <a:pt x="3587" y="927"/>
                  </a:lnTo>
                  <a:lnTo>
                    <a:pt x="3240" y="811"/>
                  </a:lnTo>
                  <a:lnTo>
                    <a:pt x="2777" y="579"/>
                  </a:lnTo>
                  <a:lnTo>
                    <a:pt x="2314" y="463"/>
                  </a:lnTo>
                  <a:lnTo>
                    <a:pt x="1851" y="463"/>
                  </a:lnTo>
                  <a:lnTo>
                    <a:pt x="1389" y="463"/>
                  </a:lnTo>
                  <a:lnTo>
                    <a:pt x="926" y="579"/>
                  </a:lnTo>
                  <a:lnTo>
                    <a:pt x="578" y="695"/>
                  </a:lnTo>
                  <a:lnTo>
                    <a:pt x="578" y="695"/>
                  </a:lnTo>
                  <a:lnTo>
                    <a:pt x="578" y="463"/>
                  </a:lnTo>
                  <a:lnTo>
                    <a:pt x="694" y="348"/>
                  </a:lnTo>
                  <a:lnTo>
                    <a:pt x="926" y="232"/>
                  </a:lnTo>
                  <a:lnTo>
                    <a:pt x="1041" y="116"/>
                  </a:lnTo>
                  <a:lnTo>
                    <a:pt x="1273" y="116"/>
                  </a:lnTo>
                  <a:lnTo>
                    <a:pt x="1504" y="0"/>
                  </a:lnTo>
                  <a:lnTo>
                    <a:pt x="1620" y="0"/>
                  </a:lnTo>
                  <a:lnTo>
                    <a:pt x="1851" y="0"/>
                  </a:lnTo>
                  <a:lnTo>
                    <a:pt x="1851" y="0"/>
                  </a:lnTo>
                  <a:lnTo>
                    <a:pt x="2314" y="116"/>
                  </a:lnTo>
                  <a:lnTo>
                    <a:pt x="2777" y="232"/>
                  </a:lnTo>
                  <a:lnTo>
                    <a:pt x="3356" y="463"/>
                  </a:lnTo>
                  <a:lnTo>
                    <a:pt x="3819" y="579"/>
                  </a:lnTo>
                  <a:lnTo>
                    <a:pt x="4282" y="811"/>
                  </a:lnTo>
                  <a:lnTo>
                    <a:pt x="4745" y="1043"/>
                  </a:lnTo>
                  <a:lnTo>
                    <a:pt x="5092" y="1506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lnTo>
                    <a:pt x="5439" y="19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72120" y="3367800"/>
              <a:ext cx="186120" cy="410040"/>
            </a:xfrm>
            <a:custGeom>
              <a:avLst/>
              <a:gdLst/>
              <a:ahLst/>
              <a:rect l="l" t="t" r="r" b="b"/>
              <a:pathLst>
                <a:path w="5208" h="7643">
                  <a:moveTo>
                    <a:pt x="4976" y="347"/>
                  </a:moveTo>
                  <a:lnTo>
                    <a:pt x="4976" y="347"/>
                  </a:lnTo>
                  <a:lnTo>
                    <a:pt x="4861" y="347"/>
                  </a:lnTo>
                  <a:lnTo>
                    <a:pt x="4745" y="347"/>
                  </a:lnTo>
                  <a:lnTo>
                    <a:pt x="4629" y="347"/>
                  </a:lnTo>
                  <a:lnTo>
                    <a:pt x="4513" y="347"/>
                  </a:lnTo>
                  <a:lnTo>
                    <a:pt x="4398" y="347"/>
                  </a:lnTo>
                  <a:lnTo>
                    <a:pt x="4282" y="231"/>
                  </a:lnTo>
                  <a:lnTo>
                    <a:pt x="4166" y="347"/>
                  </a:lnTo>
                  <a:lnTo>
                    <a:pt x="4166" y="347"/>
                  </a:lnTo>
                  <a:lnTo>
                    <a:pt x="4050" y="347"/>
                  </a:lnTo>
                  <a:lnTo>
                    <a:pt x="3819" y="463"/>
                  </a:lnTo>
                  <a:lnTo>
                    <a:pt x="3703" y="463"/>
                  </a:lnTo>
                  <a:lnTo>
                    <a:pt x="3472" y="579"/>
                  </a:lnTo>
                  <a:lnTo>
                    <a:pt x="3356" y="579"/>
                  </a:lnTo>
                  <a:lnTo>
                    <a:pt x="3240" y="694"/>
                  </a:lnTo>
                  <a:lnTo>
                    <a:pt x="3009" y="810"/>
                  </a:lnTo>
                  <a:lnTo>
                    <a:pt x="2893" y="926"/>
                  </a:lnTo>
                  <a:lnTo>
                    <a:pt x="2893" y="926"/>
                  </a:lnTo>
                  <a:lnTo>
                    <a:pt x="3240" y="926"/>
                  </a:lnTo>
                  <a:lnTo>
                    <a:pt x="3472" y="1042"/>
                  </a:lnTo>
                  <a:lnTo>
                    <a:pt x="3819" y="1158"/>
                  </a:lnTo>
                  <a:lnTo>
                    <a:pt x="4050" y="1273"/>
                  </a:lnTo>
                  <a:lnTo>
                    <a:pt x="4282" y="1389"/>
                  </a:lnTo>
                  <a:lnTo>
                    <a:pt x="4513" y="1621"/>
                  </a:lnTo>
                  <a:lnTo>
                    <a:pt x="4745" y="1852"/>
                  </a:lnTo>
                  <a:lnTo>
                    <a:pt x="4976" y="2084"/>
                  </a:lnTo>
                  <a:lnTo>
                    <a:pt x="4976" y="2084"/>
                  </a:lnTo>
                  <a:lnTo>
                    <a:pt x="5092" y="2663"/>
                  </a:lnTo>
                  <a:lnTo>
                    <a:pt x="5208" y="3242"/>
                  </a:lnTo>
                  <a:lnTo>
                    <a:pt x="5208" y="3821"/>
                  </a:lnTo>
                  <a:lnTo>
                    <a:pt x="5092" y="4400"/>
                  </a:lnTo>
                  <a:lnTo>
                    <a:pt x="4976" y="4979"/>
                  </a:lnTo>
                  <a:lnTo>
                    <a:pt x="4745" y="5558"/>
                  </a:lnTo>
                  <a:lnTo>
                    <a:pt x="4513" y="6137"/>
                  </a:lnTo>
                  <a:lnTo>
                    <a:pt x="4166" y="6601"/>
                  </a:lnTo>
                  <a:lnTo>
                    <a:pt x="4166" y="6601"/>
                  </a:lnTo>
                  <a:lnTo>
                    <a:pt x="3819" y="6948"/>
                  </a:lnTo>
                  <a:lnTo>
                    <a:pt x="3472" y="7180"/>
                  </a:lnTo>
                  <a:lnTo>
                    <a:pt x="3125" y="7411"/>
                  </a:lnTo>
                  <a:lnTo>
                    <a:pt x="2662" y="7527"/>
                  </a:lnTo>
                  <a:lnTo>
                    <a:pt x="2199" y="7643"/>
                  </a:lnTo>
                  <a:lnTo>
                    <a:pt x="1736" y="7643"/>
                  </a:lnTo>
                  <a:lnTo>
                    <a:pt x="1273" y="7643"/>
                  </a:lnTo>
                  <a:lnTo>
                    <a:pt x="810" y="7527"/>
                  </a:lnTo>
                  <a:lnTo>
                    <a:pt x="810" y="7527"/>
                  </a:lnTo>
                  <a:lnTo>
                    <a:pt x="463" y="7064"/>
                  </a:lnTo>
                  <a:lnTo>
                    <a:pt x="231" y="6485"/>
                  </a:lnTo>
                  <a:lnTo>
                    <a:pt x="0" y="5906"/>
                  </a:lnTo>
                  <a:lnTo>
                    <a:pt x="0" y="5211"/>
                  </a:lnTo>
                  <a:lnTo>
                    <a:pt x="116" y="4632"/>
                  </a:lnTo>
                  <a:lnTo>
                    <a:pt x="231" y="3937"/>
                  </a:lnTo>
                  <a:lnTo>
                    <a:pt x="347" y="3358"/>
                  </a:lnTo>
                  <a:lnTo>
                    <a:pt x="578" y="2779"/>
                  </a:lnTo>
                  <a:lnTo>
                    <a:pt x="578" y="2779"/>
                  </a:lnTo>
                  <a:lnTo>
                    <a:pt x="578" y="2547"/>
                  </a:lnTo>
                  <a:lnTo>
                    <a:pt x="694" y="2432"/>
                  </a:lnTo>
                  <a:lnTo>
                    <a:pt x="810" y="2316"/>
                  </a:lnTo>
                  <a:lnTo>
                    <a:pt x="810" y="2200"/>
                  </a:lnTo>
                  <a:lnTo>
                    <a:pt x="926" y="1968"/>
                  </a:lnTo>
                  <a:lnTo>
                    <a:pt x="1041" y="1852"/>
                  </a:lnTo>
                  <a:lnTo>
                    <a:pt x="1041" y="1737"/>
                  </a:lnTo>
                  <a:lnTo>
                    <a:pt x="1157" y="1621"/>
                  </a:lnTo>
                  <a:lnTo>
                    <a:pt x="1157" y="1621"/>
                  </a:lnTo>
                  <a:lnTo>
                    <a:pt x="1041" y="1505"/>
                  </a:lnTo>
                  <a:lnTo>
                    <a:pt x="926" y="1505"/>
                  </a:lnTo>
                  <a:lnTo>
                    <a:pt x="926" y="1389"/>
                  </a:lnTo>
                  <a:lnTo>
                    <a:pt x="810" y="1389"/>
                  </a:lnTo>
                  <a:lnTo>
                    <a:pt x="694" y="1389"/>
                  </a:lnTo>
                  <a:lnTo>
                    <a:pt x="694" y="1389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578" y="1273"/>
                  </a:lnTo>
                  <a:lnTo>
                    <a:pt x="694" y="1158"/>
                  </a:lnTo>
                  <a:lnTo>
                    <a:pt x="810" y="1158"/>
                  </a:lnTo>
                  <a:lnTo>
                    <a:pt x="926" y="1158"/>
                  </a:lnTo>
                  <a:lnTo>
                    <a:pt x="1041" y="1158"/>
                  </a:lnTo>
                  <a:lnTo>
                    <a:pt x="1157" y="1158"/>
                  </a:lnTo>
                  <a:lnTo>
                    <a:pt x="1389" y="1158"/>
                  </a:lnTo>
                  <a:lnTo>
                    <a:pt x="1504" y="1158"/>
                  </a:lnTo>
                  <a:lnTo>
                    <a:pt x="1620" y="1158"/>
                  </a:lnTo>
                  <a:lnTo>
                    <a:pt x="1620" y="1158"/>
                  </a:lnTo>
                  <a:lnTo>
                    <a:pt x="1967" y="926"/>
                  </a:lnTo>
                  <a:lnTo>
                    <a:pt x="2430" y="694"/>
                  </a:lnTo>
                  <a:lnTo>
                    <a:pt x="2777" y="347"/>
                  </a:lnTo>
                  <a:lnTo>
                    <a:pt x="3240" y="115"/>
                  </a:lnTo>
                  <a:lnTo>
                    <a:pt x="3703" y="0"/>
                  </a:lnTo>
                  <a:lnTo>
                    <a:pt x="4166" y="0"/>
                  </a:lnTo>
                  <a:lnTo>
                    <a:pt x="4629" y="0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lnTo>
                    <a:pt x="4976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352880" y="3399120"/>
              <a:ext cx="173520" cy="285840"/>
            </a:xfrm>
            <a:custGeom>
              <a:avLst/>
              <a:gdLst/>
              <a:ahLst/>
              <a:rect l="l" t="t" r="r" b="b"/>
              <a:pathLst>
                <a:path w="4861" h="5327">
                  <a:moveTo>
                    <a:pt x="4398" y="463"/>
                  </a:moveTo>
                  <a:lnTo>
                    <a:pt x="4629" y="926"/>
                  </a:lnTo>
                  <a:lnTo>
                    <a:pt x="4745" y="1389"/>
                  </a:lnTo>
                  <a:lnTo>
                    <a:pt x="4745" y="1968"/>
                  </a:lnTo>
                  <a:lnTo>
                    <a:pt x="4861" y="2432"/>
                  </a:lnTo>
                  <a:lnTo>
                    <a:pt x="4745" y="2895"/>
                  </a:lnTo>
                  <a:lnTo>
                    <a:pt x="4629" y="3474"/>
                  </a:lnTo>
                  <a:lnTo>
                    <a:pt x="4398" y="3937"/>
                  </a:lnTo>
                  <a:lnTo>
                    <a:pt x="4051" y="4285"/>
                  </a:lnTo>
                  <a:lnTo>
                    <a:pt x="4051" y="4285"/>
                  </a:lnTo>
                  <a:lnTo>
                    <a:pt x="3935" y="4516"/>
                  </a:lnTo>
                  <a:lnTo>
                    <a:pt x="3819" y="4632"/>
                  </a:lnTo>
                  <a:lnTo>
                    <a:pt x="3588" y="4864"/>
                  </a:lnTo>
                  <a:lnTo>
                    <a:pt x="3356" y="4979"/>
                  </a:lnTo>
                  <a:lnTo>
                    <a:pt x="3125" y="5095"/>
                  </a:lnTo>
                  <a:lnTo>
                    <a:pt x="3009" y="5211"/>
                  </a:lnTo>
                  <a:lnTo>
                    <a:pt x="2778" y="5327"/>
                  </a:lnTo>
                  <a:lnTo>
                    <a:pt x="2430" y="5327"/>
                  </a:lnTo>
                  <a:lnTo>
                    <a:pt x="2430" y="5327"/>
                  </a:lnTo>
                  <a:lnTo>
                    <a:pt x="2083" y="5327"/>
                  </a:lnTo>
                  <a:lnTo>
                    <a:pt x="1736" y="5211"/>
                  </a:lnTo>
                  <a:lnTo>
                    <a:pt x="1389" y="5211"/>
                  </a:lnTo>
                  <a:lnTo>
                    <a:pt x="1157" y="5095"/>
                  </a:lnTo>
                  <a:lnTo>
                    <a:pt x="810" y="4864"/>
                  </a:lnTo>
                  <a:lnTo>
                    <a:pt x="579" y="4748"/>
                  </a:lnTo>
                  <a:lnTo>
                    <a:pt x="347" y="4400"/>
                  </a:lnTo>
                  <a:lnTo>
                    <a:pt x="231" y="4053"/>
                  </a:lnTo>
                  <a:lnTo>
                    <a:pt x="231" y="4053"/>
                  </a:lnTo>
                  <a:lnTo>
                    <a:pt x="116" y="3590"/>
                  </a:lnTo>
                  <a:lnTo>
                    <a:pt x="0" y="3242"/>
                  </a:lnTo>
                  <a:lnTo>
                    <a:pt x="116" y="2779"/>
                  </a:lnTo>
                  <a:lnTo>
                    <a:pt x="231" y="2316"/>
                  </a:lnTo>
                  <a:lnTo>
                    <a:pt x="347" y="1853"/>
                  </a:lnTo>
                  <a:lnTo>
                    <a:pt x="579" y="1505"/>
                  </a:lnTo>
                  <a:lnTo>
                    <a:pt x="810" y="1158"/>
                  </a:lnTo>
                  <a:lnTo>
                    <a:pt x="1157" y="926"/>
                  </a:lnTo>
                  <a:lnTo>
                    <a:pt x="1157" y="926"/>
                  </a:lnTo>
                  <a:lnTo>
                    <a:pt x="1504" y="579"/>
                  </a:lnTo>
                  <a:lnTo>
                    <a:pt x="1852" y="463"/>
                  </a:lnTo>
                  <a:lnTo>
                    <a:pt x="2199" y="347"/>
                  </a:lnTo>
                  <a:lnTo>
                    <a:pt x="2546" y="231"/>
                  </a:lnTo>
                  <a:lnTo>
                    <a:pt x="2893" y="115"/>
                  </a:lnTo>
                  <a:lnTo>
                    <a:pt x="3240" y="115"/>
                  </a:lnTo>
                  <a:lnTo>
                    <a:pt x="3703" y="115"/>
                  </a:lnTo>
                  <a:lnTo>
                    <a:pt x="4051" y="0"/>
                  </a:lnTo>
                  <a:lnTo>
                    <a:pt x="4051" y="0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lnTo>
                    <a:pt x="4398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419120" y="3411360"/>
              <a:ext cx="86760" cy="124200"/>
            </a:xfrm>
            <a:custGeom>
              <a:avLst/>
              <a:gdLst/>
              <a:ahLst/>
              <a:rect l="l" t="t" r="r" b="b"/>
              <a:pathLst>
                <a:path w="2430" h="2316">
                  <a:moveTo>
                    <a:pt x="2314" y="579"/>
                  </a:moveTo>
                  <a:lnTo>
                    <a:pt x="2430" y="811"/>
                  </a:lnTo>
                  <a:lnTo>
                    <a:pt x="2430" y="1042"/>
                  </a:lnTo>
                  <a:lnTo>
                    <a:pt x="2430" y="1274"/>
                  </a:lnTo>
                  <a:lnTo>
                    <a:pt x="2314" y="1506"/>
                  </a:lnTo>
                  <a:lnTo>
                    <a:pt x="2199" y="1737"/>
                  </a:lnTo>
                  <a:lnTo>
                    <a:pt x="2083" y="1969"/>
                  </a:lnTo>
                  <a:lnTo>
                    <a:pt x="1851" y="2085"/>
                  </a:lnTo>
                  <a:lnTo>
                    <a:pt x="1620" y="2201"/>
                  </a:lnTo>
                  <a:lnTo>
                    <a:pt x="1620" y="2201"/>
                  </a:lnTo>
                  <a:lnTo>
                    <a:pt x="1504" y="2201"/>
                  </a:lnTo>
                  <a:lnTo>
                    <a:pt x="1388" y="2316"/>
                  </a:lnTo>
                  <a:lnTo>
                    <a:pt x="1157" y="2316"/>
                  </a:lnTo>
                  <a:lnTo>
                    <a:pt x="1041" y="2201"/>
                  </a:lnTo>
                  <a:lnTo>
                    <a:pt x="926" y="2201"/>
                  </a:lnTo>
                  <a:lnTo>
                    <a:pt x="810" y="2201"/>
                  </a:lnTo>
                  <a:lnTo>
                    <a:pt x="578" y="2085"/>
                  </a:lnTo>
                  <a:lnTo>
                    <a:pt x="463" y="2085"/>
                  </a:lnTo>
                  <a:lnTo>
                    <a:pt x="463" y="2085"/>
                  </a:lnTo>
                  <a:lnTo>
                    <a:pt x="347" y="1969"/>
                  </a:lnTo>
                  <a:lnTo>
                    <a:pt x="231" y="1737"/>
                  </a:lnTo>
                  <a:lnTo>
                    <a:pt x="115" y="1622"/>
                  </a:lnTo>
                  <a:lnTo>
                    <a:pt x="115" y="1390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578" y="232"/>
                  </a:lnTo>
                  <a:lnTo>
                    <a:pt x="810" y="116"/>
                  </a:lnTo>
                  <a:lnTo>
                    <a:pt x="1273" y="0"/>
                  </a:lnTo>
                  <a:lnTo>
                    <a:pt x="1620" y="0"/>
                  </a:lnTo>
                  <a:lnTo>
                    <a:pt x="1851" y="116"/>
                  </a:lnTo>
                  <a:lnTo>
                    <a:pt x="2199" y="232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lnTo>
                    <a:pt x="2314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588680" y="3442320"/>
              <a:ext cx="153000" cy="310680"/>
            </a:xfrm>
            <a:custGeom>
              <a:avLst/>
              <a:gdLst/>
              <a:ahLst/>
              <a:rect l="l" t="t" r="r" b="b"/>
              <a:pathLst>
                <a:path w="4282" h="5791">
                  <a:moveTo>
                    <a:pt x="4166" y="927"/>
                  </a:moveTo>
                  <a:lnTo>
                    <a:pt x="4282" y="1506"/>
                  </a:lnTo>
                  <a:lnTo>
                    <a:pt x="4282" y="1969"/>
                  </a:lnTo>
                  <a:lnTo>
                    <a:pt x="4282" y="2432"/>
                  </a:lnTo>
                  <a:lnTo>
                    <a:pt x="4166" y="2895"/>
                  </a:lnTo>
                  <a:lnTo>
                    <a:pt x="4050" y="3359"/>
                  </a:lnTo>
                  <a:lnTo>
                    <a:pt x="3935" y="3822"/>
                  </a:lnTo>
                  <a:lnTo>
                    <a:pt x="3703" y="4285"/>
                  </a:lnTo>
                  <a:lnTo>
                    <a:pt x="3587" y="4633"/>
                  </a:lnTo>
                  <a:lnTo>
                    <a:pt x="3587" y="4633"/>
                  </a:lnTo>
                  <a:lnTo>
                    <a:pt x="3240" y="4980"/>
                  </a:lnTo>
                  <a:lnTo>
                    <a:pt x="3009" y="5327"/>
                  </a:lnTo>
                  <a:lnTo>
                    <a:pt x="2662" y="5443"/>
                  </a:lnTo>
                  <a:lnTo>
                    <a:pt x="2199" y="5675"/>
                  </a:lnTo>
                  <a:lnTo>
                    <a:pt x="1851" y="5791"/>
                  </a:lnTo>
                  <a:lnTo>
                    <a:pt x="1504" y="5791"/>
                  </a:lnTo>
                  <a:lnTo>
                    <a:pt x="1041" y="5791"/>
                  </a:lnTo>
                  <a:lnTo>
                    <a:pt x="578" y="5791"/>
                  </a:lnTo>
                  <a:lnTo>
                    <a:pt x="578" y="5791"/>
                  </a:lnTo>
                  <a:lnTo>
                    <a:pt x="231" y="5096"/>
                  </a:lnTo>
                  <a:lnTo>
                    <a:pt x="0" y="4401"/>
                  </a:lnTo>
                  <a:lnTo>
                    <a:pt x="0" y="3706"/>
                  </a:lnTo>
                  <a:lnTo>
                    <a:pt x="0" y="3011"/>
                  </a:lnTo>
                  <a:lnTo>
                    <a:pt x="231" y="2316"/>
                  </a:lnTo>
                  <a:lnTo>
                    <a:pt x="463" y="1622"/>
                  </a:lnTo>
                  <a:lnTo>
                    <a:pt x="810" y="927"/>
                  </a:lnTo>
                  <a:lnTo>
                    <a:pt x="1157" y="348"/>
                  </a:lnTo>
                  <a:lnTo>
                    <a:pt x="1157" y="348"/>
                  </a:lnTo>
                  <a:lnTo>
                    <a:pt x="1389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0"/>
                  </a:lnTo>
                  <a:lnTo>
                    <a:pt x="2314" y="0"/>
                  </a:lnTo>
                  <a:lnTo>
                    <a:pt x="2662" y="0"/>
                  </a:lnTo>
                  <a:lnTo>
                    <a:pt x="2893" y="116"/>
                  </a:lnTo>
                  <a:lnTo>
                    <a:pt x="3124" y="116"/>
                  </a:lnTo>
                  <a:lnTo>
                    <a:pt x="3124" y="116"/>
                  </a:lnTo>
                  <a:lnTo>
                    <a:pt x="3240" y="232"/>
                  </a:lnTo>
                  <a:lnTo>
                    <a:pt x="3472" y="232"/>
                  </a:lnTo>
                  <a:lnTo>
                    <a:pt x="3587" y="348"/>
                  </a:lnTo>
                  <a:lnTo>
                    <a:pt x="3703" y="463"/>
                  </a:lnTo>
                  <a:lnTo>
                    <a:pt x="3819" y="579"/>
                  </a:lnTo>
                  <a:lnTo>
                    <a:pt x="3935" y="695"/>
                  </a:lnTo>
                  <a:lnTo>
                    <a:pt x="4050" y="811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lnTo>
                    <a:pt x="4166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460520" y="3454920"/>
              <a:ext cx="20520" cy="3096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63" y="579"/>
                  </a:moveTo>
                  <a:lnTo>
                    <a:pt x="463" y="579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116" y="347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231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0"/>
                  </a:lnTo>
                  <a:lnTo>
                    <a:pt x="579" y="116"/>
                  </a:lnTo>
                  <a:lnTo>
                    <a:pt x="579" y="116"/>
                  </a:lnTo>
                  <a:lnTo>
                    <a:pt x="579" y="231"/>
                  </a:lnTo>
                  <a:lnTo>
                    <a:pt x="579" y="347"/>
                  </a:lnTo>
                  <a:lnTo>
                    <a:pt x="579" y="463"/>
                  </a:lnTo>
                  <a:lnTo>
                    <a:pt x="579" y="463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lnTo>
                    <a:pt x="463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17840" y="3479760"/>
              <a:ext cx="65880" cy="99360"/>
            </a:xfrm>
            <a:custGeom>
              <a:avLst/>
              <a:gdLst/>
              <a:ahLst/>
              <a:rect l="l" t="t" r="r" b="b"/>
              <a:pathLst>
                <a:path w="1852" h="1853">
                  <a:moveTo>
                    <a:pt x="1852" y="579"/>
                  </a:moveTo>
                  <a:lnTo>
                    <a:pt x="1852" y="811"/>
                  </a:lnTo>
                  <a:lnTo>
                    <a:pt x="1852" y="927"/>
                  </a:lnTo>
                  <a:lnTo>
                    <a:pt x="1736" y="1158"/>
                  </a:lnTo>
                  <a:lnTo>
                    <a:pt x="1736" y="1390"/>
                  </a:lnTo>
                  <a:lnTo>
                    <a:pt x="1620" y="1506"/>
                  </a:lnTo>
                  <a:lnTo>
                    <a:pt x="1389" y="1621"/>
                  </a:lnTo>
                  <a:lnTo>
                    <a:pt x="1273" y="1737"/>
                  </a:lnTo>
                  <a:lnTo>
                    <a:pt x="1041" y="1853"/>
                  </a:lnTo>
                  <a:lnTo>
                    <a:pt x="1041" y="1853"/>
                  </a:lnTo>
                  <a:lnTo>
                    <a:pt x="926" y="1853"/>
                  </a:lnTo>
                  <a:lnTo>
                    <a:pt x="694" y="1853"/>
                  </a:lnTo>
                  <a:lnTo>
                    <a:pt x="579" y="1737"/>
                  </a:lnTo>
                  <a:lnTo>
                    <a:pt x="463" y="1737"/>
                  </a:lnTo>
                  <a:lnTo>
                    <a:pt x="347" y="1621"/>
                  </a:lnTo>
                  <a:lnTo>
                    <a:pt x="231" y="1506"/>
                  </a:lnTo>
                  <a:lnTo>
                    <a:pt x="116" y="1390"/>
                  </a:lnTo>
                  <a:lnTo>
                    <a:pt x="0" y="1274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927"/>
                  </a:lnTo>
                  <a:lnTo>
                    <a:pt x="0" y="811"/>
                  </a:lnTo>
                  <a:lnTo>
                    <a:pt x="0" y="695"/>
                  </a:lnTo>
                  <a:lnTo>
                    <a:pt x="0" y="463"/>
                  </a:lnTo>
                  <a:lnTo>
                    <a:pt x="116" y="348"/>
                  </a:lnTo>
                  <a:lnTo>
                    <a:pt x="116" y="232"/>
                  </a:lnTo>
                  <a:lnTo>
                    <a:pt x="231" y="116"/>
                  </a:lnTo>
                  <a:lnTo>
                    <a:pt x="231" y="116"/>
                  </a:lnTo>
                  <a:lnTo>
                    <a:pt x="463" y="0"/>
                  </a:lnTo>
                  <a:lnTo>
                    <a:pt x="694" y="0"/>
                  </a:lnTo>
                  <a:lnTo>
                    <a:pt x="926" y="0"/>
                  </a:lnTo>
                  <a:lnTo>
                    <a:pt x="1157" y="0"/>
                  </a:lnTo>
                  <a:lnTo>
                    <a:pt x="1389" y="0"/>
                  </a:lnTo>
                  <a:lnTo>
                    <a:pt x="1620" y="116"/>
                  </a:lnTo>
                  <a:lnTo>
                    <a:pt x="1736" y="348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lnTo>
                    <a:pt x="1852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646640" y="3510720"/>
              <a:ext cx="20520" cy="37080"/>
            </a:xfrm>
            <a:custGeom>
              <a:avLst/>
              <a:gdLst/>
              <a:ahLst/>
              <a:rect l="l" t="t" r="r" b="b"/>
              <a:pathLst>
                <a:path w="579" h="695">
                  <a:moveTo>
                    <a:pt x="463" y="116"/>
                  </a:moveTo>
                  <a:lnTo>
                    <a:pt x="463" y="116"/>
                  </a:lnTo>
                  <a:lnTo>
                    <a:pt x="579" y="232"/>
                  </a:lnTo>
                  <a:lnTo>
                    <a:pt x="463" y="348"/>
                  </a:lnTo>
                  <a:lnTo>
                    <a:pt x="463" y="463"/>
                  </a:lnTo>
                  <a:lnTo>
                    <a:pt x="463" y="463"/>
                  </a:lnTo>
                  <a:lnTo>
                    <a:pt x="347" y="579"/>
                  </a:lnTo>
                  <a:lnTo>
                    <a:pt x="231" y="579"/>
                  </a:lnTo>
                  <a:lnTo>
                    <a:pt x="231" y="695"/>
                  </a:lnTo>
                  <a:lnTo>
                    <a:pt x="231" y="695"/>
                  </a:lnTo>
                  <a:lnTo>
                    <a:pt x="116" y="695"/>
                  </a:lnTo>
                  <a:lnTo>
                    <a:pt x="116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116" y="116"/>
                  </a:lnTo>
                  <a:lnTo>
                    <a:pt x="116" y="116"/>
                  </a:lnTo>
                  <a:lnTo>
                    <a:pt x="231" y="116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7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lnTo>
                    <a:pt x="46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220400" y="3784320"/>
              <a:ext cx="57600" cy="37080"/>
            </a:xfrm>
            <a:custGeom>
              <a:avLst/>
              <a:gdLst/>
              <a:ahLst/>
              <a:rect l="l" t="t" r="r" b="b"/>
              <a:pathLst>
                <a:path w="1620" h="695">
                  <a:moveTo>
                    <a:pt x="1620" y="116"/>
                  </a:moveTo>
                  <a:lnTo>
                    <a:pt x="1388" y="116"/>
                  </a:lnTo>
                  <a:lnTo>
                    <a:pt x="1157" y="116"/>
                  </a:lnTo>
                  <a:lnTo>
                    <a:pt x="1041" y="231"/>
                  </a:lnTo>
                  <a:lnTo>
                    <a:pt x="810" y="347"/>
                  </a:lnTo>
                  <a:lnTo>
                    <a:pt x="578" y="347"/>
                  </a:lnTo>
                  <a:lnTo>
                    <a:pt x="462" y="463"/>
                  </a:lnTo>
                  <a:lnTo>
                    <a:pt x="347" y="579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115" y="695"/>
                  </a:lnTo>
                  <a:lnTo>
                    <a:pt x="0" y="695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115" y="347"/>
                  </a:lnTo>
                  <a:lnTo>
                    <a:pt x="115" y="347"/>
                  </a:lnTo>
                  <a:lnTo>
                    <a:pt x="231" y="231"/>
                  </a:lnTo>
                  <a:lnTo>
                    <a:pt x="462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1041" y="0"/>
                  </a:lnTo>
                  <a:lnTo>
                    <a:pt x="1157" y="0"/>
                  </a:lnTo>
                  <a:lnTo>
                    <a:pt x="1388" y="0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lnTo>
                    <a:pt x="162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207800" y="3827880"/>
              <a:ext cx="517320" cy="173880"/>
            </a:xfrm>
            <a:custGeom>
              <a:avLst/>
              <a:gdLst/>
              <a:ahLst/>
              <a:rect l="l" t="t" r="r" b="b"/>
              <a:pathLst>
                <a:path w="14467" h="3243">
                  <a:moveTo>
                    <a:pt x="3820" y="232"/>
                  </a:moveTo>
                  <a:lnTo>
                    <a:pt x="3704" y="232"/>
                  </a:lnTo>
                  <a:lnTo>
                    <a:pt x="3472" y="232"/>
                  </a:lnTo>
                  <a:lnTo>
                    <a:pt x="3357" y="232"/>
                  </a:lnTo>
                  <a:lnTo>
                    <a:pt x="3125" y="232"/>
                  </a:lnTo>
                  <a:lnTo>
                    <a:pt x="3009" y="348"/>
                  </a:lnTo>
                  <a:lnTo>
                    <a:pt x="2778" y="348"/>
                  </a:lnTo>
                  <a:lnTo>
                    <a:pt x="2662" y="348"/>
                  </a:lnTo>
                  <a:lnTo>
                    <a:pt x="2431" y="464"/>
                  </a:lnTo>
                  <a:lnTo>
                    <a:pt x="2431" y="464"/>
                  </a:lnTo>
                  <a:lnTo>
                    <a:pt x="2431" y="695"/>
                  </a:lnTo>
                  <a:lnTo>
                    <a:pt x="2431" y="695"/>
                  </a:lnTo>
                  <a:lnTo>
                    <a:pt x="2894" y="1159"/>
                  </a:lnTo>
                  <a:lnTo>
                    <a:pt x="3472" y="1622"/>
                  </a:lnTo>
                  <a:lnTo>
                    <a:pt x="4051" y="1853"/>
                  </a:lnTo>
                  <a:lnTo>
                    <a:pt x="4745" y="2085"/>
                  </a:lnTo>
                  <a:lnTo>
                    <a:pt x="5440" y="2201"/>
                  </a:lnTo>
                  <a:lnTo>
                    <a:pt x="6018" y="2432"/>
                  </a:lnTo>
                  <a:lnTo>
                    <a:pt x="6713" y="2548"/>
                  </a:lnTo>
                  <a:lnTo>
                    <a:pt x="7291" y="2780"/>
                  </a:lnTo>
                  <a:lnTo>
                    <a:pt x="7291" y="2780"/>
                  </a:lnTo>
                  <a:lnTo>
                    <a:pt x="7639" y="2780"/>
                  </a:lnTo>
                  <a:lnTo>
                    <a:pt x="7986" y="2780"/>
                  </a:lnTo>
                  <a:lnTo>
                    <a:pt x="8333" y="2780"/>
                  </a:lnTo>
                  <a:lnTo>
                    <a:pt x="8680" y="2664"/>
                  </a:lnTo>
                  <a:lnTo>
                    <a:pt x="9027" y="2664"/>
                  </a:lnTo>
                  <a:lnTo>
                    <a:pt x="9375" y="2548"/>
                  </a:lnTo>
                  <a:lnTo>
                    <a:pt x="9722" y="2432"/>
                  </a:lnTo>
                  <a:lnTo>
                    <a:pt x="10069" y="2317"/>
                  </a:lnTo>
                  <a:lnTo>
                    <a:pt x="10069" y="2317"/>
                  </a:lnTo>
                  <a:lnTo>
                    <a:pt x="10185" y="2317"/>
                  </a:lnTo>
                  <a:lnTo>
                    <a:pt x="10185" y="2317"/>
                  </a:lnTo>
                  <a:lnTo>
                    <a:pt x="10301" y="2317"/>
                  </a:lnTo>
                  <a:lnTo>
                    <a:pt x="10416" y="2317"/>
                  </a:lnTo>
                  <a:lnTo>
                    <a:pt x="10532" y="2317"/>
                  </a:lnTo>
                  <a:lnTo>
                    <a:pt x="10648" y="2201"/>
                  </a:lnTo>
                  <a:lnTo>
                    <a:pt x="10763" y="2201"/>
                  </a:lnTo>
                  <a:lnTo>
                    <a:pt x="10763" y="2085"/>
                  </a:lnTo>
                  <a:lnTo>
                    <a:pt x="10763" y="2085"/>
                  </a:lnTo>
                  <a:lnTo>
                    <a:pt x="10879" y="2201"/>
                  </a:lnTo>
                  <a:lnTo>
                    <a:pt x="10879" y="2201"/>
                  </a:lnTo>
                  <a:lnTo>
                    <a:pt x="11226" y="1969"/>
                  </a:lnTo>
                  <a:lnTo>
                    <a:pt x="11574" y="1853"/>
                  </a:lnTo>
                  <a:lnTo>
                    <a:pt x="11921" y="1738"/>
                  </a:lnTo>
                  <a:lnTo>
                    <a:pt x="12268" y="1622"/>
                  </a:lnTo>
                  <a:lnTo>
                    <a:pt x="12615" y="1506"/>
                  </a:lnTo>
                  <a:lnTo>
                    <a:pt x="12962" y="1506"/>
                  </a:lnTo>
                  <a:lnTo>
                    <a:pt x="13310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772" y="1506"/>
                  </a:lnTo>
                  <a:lnTo>
                    <a:pt x="13888" y="1390"/>
                  </a:lnTo>
                  <a:lnTo>
                    <a:pt x="14004" y="1390"/>
                  </a:lnTo>
                  <a:lnTo>
                    <a:pt x="14120" y="1274"/>
                  </a:lnTo>
                  <a:lnTo>
                    <a:pt x="14120" y="1159"/>
                  </a:lnTo>
                  <a:lnTo>
                    <a:pt x="14235" y="1159"/>
                  </a:lnTo>
                  <a:lnTo>
                    <a:pt x="14351" y="1159"/>
                  </a:lnTo>
                  <a:lnTo>
                    <a:pt x="14467" y="1159"/>
                  </a:lnTo>
                  <a:lnTo>
                    <a:pt x="14467" y="1159"/>
                  </a:lnTo>
                  <a:lnTo>
                    <a:pt x="14467" y="1274"/>
                  </a:lnTo>
                  <a:lnTo>
                    <a:pt x="14351" y="1390"/>
                  </a:lnTo>
                  <a:lnTo>
                    <a:pt x="14351" y="1506"/>
                  </a:lnTo>
                  <a:lnTo>
                    <a:pt x="14235" y="1622"/>
                  </a:lnTo>
                  <a:lnTo>
                    <a:pt x="14120" y="1738"/>
                  </a:lnTo>
                  <a:lnTo>
                    <a:pt x="14004" y="1853"/>
                  </a:lnTo>
                  <a:lnTo>
                    <a:pt x="13888" y="1853"/>
                  </a:lnTo>
                  <a:lnTo>
                    <a:pt x="13772" y="1969"/>
                  </a:lnTo>
                  <a:lnTo>
                    <a:pt x="13772" y="1969"/>
                  </a:lnTo>
                  <a:lnTo>
                    <a:pt x="12962" y="1969"/>
                  </a:lnTo>
                  <a:lnTo>
                    <a:pt x="12152" y="2085"/>
                  </a:lnTo>
                  <a:lnTo>
                    <a:pt x="11458" y="2317"/>
                  </a:lnTo>
                  <a:lnTo>
                    <a:pt x="10648" y="2548"/>
                  </a:lnTo>
                  <a:lnTo>
                    <a:pt x="9953" y="2780"/>
                  </a:lnTo>
                  <a:lnTo>
                    <a:pt x="9143" y="3011"/>
                  </a:lnTo>
                  <a:lnTo>
                    <a:pt x="8333" y="3127"/>
                  </a:lnTo>
                  <a:lnTo>
                    <a:pt x="7523" y="3243"/>
                  </a:lnTo>
                  <a:lnTo>
                    <a:pt x="7523" y="3243"/>
                  </a:lnTo>
                  <a:lnTo>
                    <a:pt x="6713" y="3011"/>
                  </a:lnTo>
                  <a:lnTo>
                    <a:pt x="6018" y="2896"/>
                  </a:lnTo>
                  <a:lnTo>
                    <a:pt x="5208" y="2664"/>
                  </a:lnTo>
                  <a:lnTo>
                    <a:pt x="4514" y="2432"/>
                  </a:lnTo>
                  <a:lnTo>
                    <a:pt x="3704" y="2201"/>
                  </a:lnTo>
                  <a:lnTo>
                    <a:pt x="3125" y="1738"/>
                  </a:lnTo>
                  <a:lnTo>
                    <a:pt x="2431" y="1274"/>
                  </a:lnTo>
                  <a:lnTo>
                    <a:pt x="1968" y="695"/>
                  </a:lnTo>
                  <a:lnTo>
                    <a:pt x="1968" y="695"/>
                  </a:lnTo>
                  <a:lnTo>
                    <a:pt x="1736" y="811"/>
                  </a:lnTo>
                  <a:lnTo>
                    <a:pt x="1505" y="927"/>
                  </a:lnTo>
                  <a:lnTo>
                    <a:pt x="1273" y="1043"/>
                  </a:lnTo>
                  <a:lnTo>
                    <a:pt x="1042" y="1159"/>
                  </a:lnTo>
                  <a:lnTo>
                    <a:pt x="810" y="1274"/>
                  </a:lnTo>
                  <a:lnTo>
                    <a:pt x="579" y="1506"/>
                  </a:lnTo>
                  <a:lnTo>
                    <a:pt x="463" y="1622"/>
                  </a:lnTo>
                  <a:lnTo>
                    <a:pt x="348" y="1853"/>
                  </a:lnTo>
                  <a:lnTo>
                    <a:pt x="348" y="1853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853"/>
                  </a:lnTo>
                  <a:lnTo>
                    <a:pt x="116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116" y="1390"/>
                  </a:lnTo>
                  <a:lnTo>
                    <a:pt x="348" y="1159"/>
                  </a:lnTo>
                  <a:lnTo>
                    <a:pt x="463" y="927"/>
                  </a:lnTo>
                  <a:lnTo>
                    <a:pt x="810" y="811"/>
                  </a:lnTo>
                  <a:lnTo>
                    <a:pt x="1042" y="695"/>
                  </a:lnTo>
                  <a:lnTo>
                    <a:pt x="1273" y="579"/>
                  </a:lnTo>
                  <a:lnTo>
                    <a:pt x="1621" y="348"/>
                  </a:lnTo>
                  <a:lnTo>
                    <a:pt x="1852" y="232"/>
                  </a:lnTo>
                  <a:lnTo>
                    <a:pt x="1852" y="232"/>
                  </a:lnTo>
                  <a:lnTo>
                    <a:pt x="2084" y="116"/>
                  </a:lnTo>
                  <a:lnTo>
                    <a:pt x="2315" y="116"/>
                  </a:lnTo>
                  <a:lnTo>
                    <a:pt x="2546" y="0"/>
                  </a:lnTo>
                  <a:lnTo>
                    <a:pt x="2778" y="0"/>
                  </a:lnTo>
                  <a:lnTo>
                    <a:pt x="3125" y="0"/>
                  </a:lnTo>
                  <a:lnTo>
                    <a:pt x="3357" y="116"/>
                  </a:lnTo>
                  <a:lnTo>
                    <a:pt x="3588" y="116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lnTo>
                    <a:pt x="382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213640" y="3927600"/>
              <a:ext cx="343440" cy="298440"/>
            </a:xfrm>
            <a:custGeom>
              <a:avLst/>
              <a:gdLst/>
              <a:ahLst/>
              <a:rect l="l" t="t" r="r" b="b"/>
              <a:pathLst>
                <a:path w="9606" h="5559">
                  <a:moveTo>
                    <a:pt x="9606" y="695"/>
                  </a:moveTo>
                  <a:lnTo>
                    <a:pt x="9606" y="811"/>
                  </a:lnTo>
                  <a:lnTo>
                    <a:pt x="9606" y="811"/>
                  </a:lnTo>
                  <a:lnTo>
                    <a:pt x="9490" y="811"/>
                  </a:lnTo>
                  <a:lnTo>
                    <a:pt x="9375" y="811"/>
                  </a:lnTo>
                  <a:lnTo>
                    <a:pt x="9259" y="811"/>
                  </a:lnTo>
                  <a:lnTo>
                    <a:pt x="9143" y="811"/>
                  </a:lnTo>
                  <a:lnTo>
                    <a:pt x="9027" y="811"/>
                  </a:lnTo>
                  <a:lnTo>
                    <a:pt x="8912" y="927"/>
                  </a:lnTo>
                  <a:lnTo>
                    <a:pt x="8796" y="927"/>
                  </a:lnTo>
                  <a:lnTo>
                    <a:pt x="8680" y="1043"/>
                  </a:lnTo>
                  <a:lnTo>
                    <a:pt x="8680" y="1043"/>
                  </a:lnTo>
                  <a:lnTo>
                    <a:pt x="8912" y="1158"/>
                  </a:lnTo>
                  <a:lnTo>
                    <a:pt x="8912" y="1158"/>
                  </a:lnTo>
                  <a:lnTo>
                    <a:pt x="8680" y="1158"/>
                  </a:lnTo>
                  <a:lnTo>
                    <a:pt x="8564" y="1274"/>
                  </a:lnTo>
                  <a:lnTo>
                    <a:pt x="8333" y="1274"/>
                  </a:lnTo>
                  <a:lnTo>
                    <a:pt x="8102" y="1274"/>
                  </a:lnTo>
                  <a:lnTo>
                    <a:pt x="7986" y="1390"/>
                  </a:lnTo>
                  <a:lnTo>
                    <a:pt x="7754" y="1390"/>
                  </a:lnTo>
                  <a:lnTo>
                    <a:pt x="7639" y="1506"/>
                  </a:lnTo>
                  <a:lnTo>
                    <a:pt x="7407" y="1622"/>
                  </a:lnTo>
                  <a:lnTo>
                    <a:pt x="7407" y="1622"/>
                  </a:lnTo>
                  <a:lnTo>
                    <a:pt x="7639" y="1622"/>
                  </a:lnTo>
                  <a:lnTo>
                    <a:pt x="7754" y="1622"/>
                  </a:lnTo>
                  <a:lnTo>
                    <a:pt x="7870" y="1738"/>
                  </a:lnTo>
                  <a:lnTo>
                    <a:pt x="7986" y="1738"/>
                  </a:lnTo>
                  <a:lnTo>
                    <a:pt x="8102" y="1738"/>
                  </a:lnTo>
                  <a:lnTo>
                    <a:pt x="8217" y="1853"/>
                  </a:lnTo>
                  <a:lnTo>
                    <a:pt x="8333" y="1853"/>
                  </a:lnTo>
                  <a:lnTo>
                    <a:pt x="8564" y="1853"/>
                  </a:lnTo>
                  <a:lnTo>
                    <a:pt x="8564" y="1853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564" y="1969"/>
                  </a:lnTo>
                  <a:lnTo>
                    <a:pt x="8680" y="2085"/>
                  </a:lnTo>
                  <a:lnTo>
                    <a:pt x="8680" y="2085"/>
                  </a:lnTo>
                  <a:lnTo>
                    <a:pt x="8796" y="1969"/>
                  </a:lnTo>
                  <a:lnTo>
                    <a:pt x="8796" y="1969"/>
                  </a:lnTo>
                  <a:lnTo>
                    <a:pt x="8912" y="1969"/>
                  </a:lnTo>
                  <a:lnTo>
                    <a:pt x="8912" y="1969"/>
                  </a:lnTo>
                  <a:lnTo>
                    <a:pt x="9027" y="1969"/>
                  </a:lnTo>
                  <a:lnTo>
                    <a:pt x="9027" y="1969"/>
                  </a:lnTo>
                  <a:lnTo>
                    <a:pt x="8796" y="2085"/>
                  </a:lnTo>
                  <a:lnTo>
                    <a:pt x="8680" y="2085"/>
                  </a:lnTo>
                  <a:lnTo>
                    <a:pt x="8449" y="2201"/>
                  </a:lnTo>
                  <a:lnTo>
                    <a:pt x="8333" y="2317"/>
                  </a:lnTo>
                  <a:lnTo>
                    <a:pt x="8102" y="2317"/>
                  </a:lnTo>
                  <a:lnTo>
                    <a:pt x="7986" y="2432"/>
                  </a:lnTo>
                  <a:lnTo>
                    <a:pt x="7754" y="2664"/>
                  </a:lnTo>
                  <a:lnTo>
                    <a:pt x="7639" y="2780"/>
                  </a:lnTo>
                  <a:lnTo>
                    <a:pt x="7639" y="2780"/>
                  </a:lnTo>
                  <a:lnTo>
                    <a:pt x="7870" y="2780"/>
                  </a:lnTo>
                  <a:lnTo>
                    <a:pt x="8102" y="2780"/>
                  </a:lnTo>
                  <a:lnTo>
                    <a:pt x="8333" y="2780"/>
                  </a:lnTo>
                  <a:lnTo>
                    <a:pt x="8564" y="2664"/>
                  </a:lnTo>
                  <a:lnTo>
                    <a:pt x="8796" y="2548"/>
                  </a:lnTo>
                  <a:lnTo>
                    <a:pt x="9027" y="2548"/>
                  </a:lnTo>
                  <a:lnTo>
                    <a:pt x="9259" y="2432"/>
                  </a:lnTo>
                  <a:lnTo>
                    <a:pt x="9490" y="2432"/>
                  </a:lnTo>
                  <a:lnTo>
                    <a:pt x="9490" y="2432"/>
                  </a:lnTo>
                  <a:lnTo>
                    <a:pt x="8564" y="2896"/>
                  </a:lnTo>
                  <a:lnTo>
                    <a:pt x="7754" y="3243"/>
                  </a:lnTo>
                  <a:lnTo>
                    <a:pt x="6828" y="3590"/>
                  </a:lnTo>
                  <a:lnTo>
                    <a:pt x="6018" y="3938"/>
                  </a:lnTo>
                  <a:lnTo>
                    <a:pt x="5092" y="4401"/>
                  </a:lnTo>
                  <a:lnTo>
                    <a:pt x="4282" y="4749"/>
                  </a:lnTo>
                  <a:lnTo>
                    <a:pt x="3357" y="5096"/>
                  </a:lnTo>
                  <a:lnTo>
                    <a:pt x="2546" y="5559"/>
                  </a:lnTo>
                  <a:lnTo>
                    <a:pt x="2546" y="5559"/>
                  </a:lnTo>
                  <a:lnTo>
                    <a:pt x="2431" y="5443"/>
                  </a:lnTo>
                  <a:lnTo>
                    <a:pt x="2199" y="5328"/>
                  </a:lnTo>
                  <a:lnTo>
                    <a:pt x="1968" y="5212"/>
                  </a:lnTo>
                  <a:lnTo>
                    <a:pt x="1736" y="5212"/>
                  </a:lnTo>
                  <a:lnTo>
                    <a:pt x="1505" y="5096"/>
                  </a:lnTo>
                  <a:lnTo>
                    <a:pt x="1389" y="4980"/>
                  </a:lnTo>
                  <a:lnTo>
                    <a:pt x="1273" y="4864"/>
                  </a:lnTo>
                  <a:lnTo>
                    <a:pt x="1273" y="4517"/>
                  </a:lnTo>
                  <a:lnTo>
                    <a:pt x="1273" y="4517"/>
                  </a:lnTo>
                  <a:lnTo>
                    <a:pt x="1389" y="4401"/>
                  </a:lnTo>
                  <a:lnTo>
                    <a:pt x="1505" y="4170"/>
                  </a:lnTo>
                  <a:lnTo>
                    <a:pt x="1621" y="4054"/>
                  </a:lnTo>
                  <a:lnTo>
                    <a:pt x="1852" y="3822"/>
                  </a:lnTo>
                  <a:lnTo>
                    <a:pt x="1968" y="3706"/>
                  </a:lnTo>
                  <a:lnTo>
                    <a:pt x="2083" y="3590"/>
                  </a:lnTo>
                  <a:lnTo>
                    <a:pt x="2199" y="3359"/>
                  </a:lnTo>
                  <a:lnTo>
                    <a:pt x="2315" y="3243"/>
                  </a:lnTo>
                  <a:lnTo>
                    <a:pt x="2315" y="3243"/>
                  </a:lnTo>
                  <a:lnTo>
                    <a:pt x="2083" y="3011"/>
                  </a:lnTo>
                  <a:lnTo>
                    <a:pt x="1621" y="2896"/>
                  </a:lnTo>
                  <a:lnTo>
                    <a:pt x="1273" y="2896"/>
                  </a:lnTo>
                  <a:lnTo>
                    <a:pt x="810" y="2896"/>
                  </a:lnTo>
                  <a:lnTo>
                    <a:pt x="347" y="2780"/>
                  </a:lnTo>
                  <a:lnTo>
                    <a:pt x="116" y="2664"/>
                  </a:lnTo>
                  <a:lnTo>
                    <a:pt x="0" y="2317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810" y="1274"/>
                  </a:lnTo>
                  <a:lnTo>
                    <a:pt x="1736" y="811"/>
                  </a:lnTo>
                  <a:lnTo>
                    <a:pt x="2662" y="464"/>
                  </a:lnTo>
                  <a:lnTo>
                    <a:pt x="3588" y="232"/>
                  </a:lnTo>
                  <a:lnTo>
                    <a:pt x="4630" y="0"/>
                  </a:lnTo>
                  <a:lnTo>
                    <a:pt x="5555" y="0"/>
                  </a:lnTo>
                  <a:lnTo>
                    <a:pt x="6597" y="116"/>
                  </a:lnTo>
                  <a:lnTo>
                    <a:pt x="7639" y="348"/>
                  </a:lnTo>
                  <a:lnTo>
                    <a:pt x="7639" y="348"/>
                  </a:lnTo>
                  <a:lnTo>
                    <a:pt x="7870" y="464"/>
                  </a:lnTo>
                  <a:lnTo>
                    <a:pt x="8102" y="464"/>
                  </a:lnTo>
                  <a:lnTo>
                    <a:pt x="8333" y="464"/>
                  </a:lnTo>
                  <a:lnTo>
                    <a:pt x="8564" y="464"/>
                  </a:lnTo>
                  <a:lnTo>
                    <a:pt x="8796" y="579"/>
                  </a:lnTo>
                  <a:lnTo>
                    <a:pt x="9143" y="579"/>
                  </a:lnTo>
                  <a:lnTo>
                    <a:pt x="9375" y="579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lnTo>
                    <a:pt x="9606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042560" y="3964680"/>
              <a:ext cx="1208160" cy="466200"/>
            </a:xfrm>
            <a:custGeom>
              <a:avLst/>
              <a:gdLst/>
              <a:ahLst/>
              <a:rect l="l" t="t" r="r" b="b"/>
              <a:pathLst>
                <a:path w="33794" h="8686">
                  <a:moveTo>
                    <a:pt x="-31742" y="0"/>
                  </a:moveTo>
                  <a:lnTo>
                    <a:pt x="-31974" y="116"/>
                  </a:lnTo>
                  <a:lnTo>
                    <a:pt x="-32205" y="348"/>
                  </a:lnTo>
                  <a:lnTo>
                    <a:pt x="-32437" y="463"/>
                  </a:lnTo>
                  <a:lnTo>
                    <a:pt x="-32668" y="579"/>
                  </a:lnTo>
                  <a:lnTo>
                    <a:pt x="32637" y="811"/>
                  </a:lnTo>
                  <a:lnTo>
                    <a:pt x="32521" y="927"/>
                  </a:lnTo>
                  <a:lnTo>
                    <a:pt x="32289" y="1158"/>
                  </a:lnTo>
                  <a:lnTo>
                    <a:pt x="32174" y="1390"/>
                  </a:lnTo>
                  <a:lnTo>
                    <a:pt x="32174" y="1390"/>
                  </a:lnTo>
                  <a:lnTo>
                    <a:pt x="32289" y="1506"/>
                  </a:lnTo>
                  <a:lnTo>
                    <a:pt x="32289" y="1737"/>
                  </a:lnTo>
                  <a:lnTo>
                    <a:pt x="32405" y="1853"/>
                  </a:lnTo>
                  <a:lnTo>
                    <a:pt x="32405" y="1969"/>
                  </a:lnTo>
                  <a:lnTo>
                    <a:pt x="32521" y="2085"/>
                  </a:lnTo>
                  <a:lnTo>
                    <a:pt x="32637" y="2201"/>
                  </a:lnTo>
                  <a:lnTo>
                    <a:pt x="32752" y="2316"/>
                  </a:lnTo>
                  <a:lnTo>
                    <a:pt x="-32668" y="2432"/>
                  </a:lnTo>
                  <a:lnTo>
                    <a:pt x="-32668" y="2432"/>
                  </a:lnTo>
                  <a:lnTo>
                    <a:pt x="29628" y="3011"/>
                  </a:lnTo>
                  <a:lnTo>
                    <a:pt x="26271" y="3590"/>
                  </a:lnTo>
                  <a:lnTo>
                    <a:pt x="23031" y="4169"/>
                  </a:lnTo>
                  <a:lnTo>
                    <a:pt x="19790" y="4864"/>
                  </a:lnTo>
                  <a:lnTo>
                    <a:pt x="16550" y="5443"/>
                  </a:lnTo>
                  <a:lnTo>
                    <a:pt x="13309" y="6138"/>
                  </a:lnTo>
                  <a:lnTo>
                    <a:pt x="10069" y="6833"/>
                  </a:lnTo>
                  <a:lnTo>
                    <a:pt x="6713" y="7644"/>
                  </a:lnTo>
                  <a:lnTo>
                    <a:pt x="6713" y="7644"/>
                  </a:lnTo>
                  <a:lnTo>
                    <a:pt x="0" y="8686"/>
                  </a:lnTo>
                  <a:lnTo>
                    <a:pt x="0" y="8686"/>
                  </a:lnTo>
                  <a:lnTo>
                    <a:pt x="0" y="8454"/>
                  </a:lnTo>
                  <a:lnTo>
                    <a:pt x="0" y="8223"/>
                  </a:lnTo>
                  <a:lnTo>
                    <a:pt x="0" y="7991"/>
                  </a:lnTo>
                  <a:lnTo>
                    <a:pt x="0" y="7760"/>
                  </a:lnTo>
                  <a:lnTo>
                    <a:pt x="116" y="7528"/>
                  </a:lnTo>
                  <a:lnTo>
                    <a:pt x="116" y="7296"/>
                  </a:lnTo>
                  <a:lnTo>
                    <a:pt x="232" y="7065"/>
                  </a:lnTo>
                  <a:lnTo>
                    <a:pt x="232" y="6833"/>
                  </a:lnTo>
                  <a:lnTo>
                    <a:pt x="232" y="6833"/>
                  </a:lnTo>
                  <a:lnTo>
                    <a:pt x="694" y="6486"/>
                  </a:lnTo>
                  <a:lnTo>
                    <a:pt x="694" y="6486"/>
                  </a:lnTo>
                  <a:lnTo>
                    <a:pt x="2662" y="6138"/>
                  </a:lnTo>
                  <a:lnTo>
                    <a:pt x="4745" y="5791"/>
                  </a:lnTo>
                  <a:lnTo>
                    <a:pt x="6713" y="5327"/>
                  </a:lnTo>
                  <a:lnTo>
                    <a:pt x="8796" y="4980"/>
                  </a:lnTo>
                  <a:lnTo>
                    <a:pt x="10879" y="4633"/>
                  </a:lnTo>
                  <a:lnTo>
                    <a:pt x="12962" y="4169"/>
                  </a:lnTo>
                  <a:lnTo>
                    <a:pt x="14930" y="3706"/>
                  </a:lnTo>
                  <a:lnTo>
                    <a:pt x="17013" y="3243"/>
                  </a:lnTo>
                  <a:lnTo>
                    <a:pt x="17013" y="3243"/>
                  </a:lnTo>
                  <a:lnTo>
                    <a:pt x="30553" y="579"/>
                  </a:lnTo>
                  <a:lnTo>
                    <a:pt x="30553" y="579"/>
                  </a:lnTo>
                  <a:lnTo>
                    <a:pt x="31016" y="463"/>
                  </a:lnTo>
                  <a:lnTo>
                    <a:pt x="31363" y="463"/>
                  </a:lnTo>
                  <a:lnTo>
                    <a:pt x="31826" y="348"/>
                  </a:lnTo>
                  <a:lnTo>
                    <a:pt x="32174" y="232"/>
                  </a:lnTo>
                  <a:lnTo>
                    <a:pt x="32521" y="232"/>
                  </a:lnTo>
                  <a:lnTo>
                    <a:pt x="-32552" y="116"/>
                  </a:lnTo>
                  <a:lnTo>
                    <a:pt x="-32205" y="116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lnTo>
                    <a:pt x="-31742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27280" y="4045680"/>
              <a:ext cx="169560" cy="204840"/>
            </a:xfrm>
            <a:custGeom>
              <a:avLst/>
              <a:gdLst/>
              <a:ahLst/>
              <a:rect l="l" t="t" r="r" b="b"/>
              <a:pathLst>
                <a:path w="4745" h="3821">
                  <a:moveTo>
                    <a:pt x="4745" y="695"/>
                  </a:moveTo>
                  <a:lnTo>
                    <a:pt x="4514" y="2895"/>
                  </a:lnTo>
                  <a:lnTo>
                    <a:pt x="4514" y="2895"/>
                  </a:lnTo>
                  <a:lnTo>
                    <a:pt x="4282" y="3011"/>
                  </a:lnTo>
                  <a:lnTo>
                    <a:pt x="4051" y="3242"/>
                  </a:lnTo>
                  <a:lnTo>
                    <a:pt x="3819" y="3474"/>
                  </a:lnTo>
                  <a:lnTo>
                    <a:pt x="3588" y="3590"/>
                  </a:lnTo>
                  <a:lnTo>
                    <a:pt x="3356" y="3706"/>
                  </a:lnTo>
                  <a:lnTo>
                    <a:pt x="3125" y="3821"/>
                  </a:lnTo>
                  <a:lnTo>
                    <a:pt x="2893" y="3706"/>
                  </a:lnTo>
                  <a:lnTo>
                    <a:pt x="2662" y="3358"/>
                  </a:lnTo>
                  <a:lnTo>
                    <a:pt x="2662" y="3358"/>
                  </a:lnTo>
                  <a:lnTo>
                    <a:pt x="2430" y="3358"/>
                  </a:lnTo>
                  <a:lnTo>
                    <a:pt x="2315" y="3358"/>
                  </a:lnTo>
                  <a:lnTo>
                    <a:pt x="2199" y="3474"/>
                  </a:lnTo>
                  <a:lnTo>
                    <a:pt x="1967" y="3474"/>
                  </a:lnTo>
                  <a:lnTo>
                    <a:pt x="1852" y="3590"/>
                  </a:lnTo>
                  <a:lnTo>
                    <a:pt x="1736" y="3706"/>
                  </a:lnTo>
                  <a:lnTo>
                    <a:pt x="1505" y="3706"/>
                  </a:lnTo>
                  <a:lnTo>
                    <a:pt x="1389" y="3821"/>
                  </a:lnTo>
                  <a:lnTo>
                    <a:pt x="1389" y="3821"/>
                  </a:lnTo>
                  <a:lnTo>
                    <a:pt x="1042" y="3474"/>
                  </a:lnTo>
                  <a:lnTo>
                    <a:pt x="810" y="3127"/>
                  </a:lnTo>
                  <a:lnTo>
                    <a:pt x="579" y="2663"/>
                  </a:lnTo>
                  <a:lnTo>
                    <a:pt x="463" y="2200"/>
                  </a:lnTo>
                  <a:lnTo>
                    <a:pt x="231" y="1853"/>
                  </a:lnTo>
                  <a:lnTo>
                    <a:pt x="116" y="1389"/>
                  </a:lnTo>
                  <a:lnTo>
                    <a:pt x="0" y="926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463" y="231"/>
                  </a:lnTo>
                  <a:lnTo>
                    <a:pt x="1157" y="0"/>
                  </a:lnTo>
                  <a:lnTo>
                    <a:pt x="1736" y="0"/>
                  </a:lnTo>
                  <a:lnTo>
                    <a:pt x="2430" y="0"/>
                  </a:lnTo>
                  <a:lnTo>
                    <a:pt x="3009" y="116"/>
                  </a:lnTo>
                  <a:lnTo>
                    <a:pt x="3703" y="231"/>
                  </a:lnTo>
                  <a:lnTo>
                    <a:pt x="4282" y="463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lnTo>
                    <a:pt x="4745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001160" y="4089240"/>
              <a:ext cx="24480" cy="105480"/>
            </a:xfrm>
            <a:custGeom>
              <a:avLst/>
              <a:gdLst/>
              <a:ahLst/>
              <a:rect l="l" t="t" r="r" b="b"/>
              <a:pathLst>
                <a:path w="694" h="1969">
                  <a:moveTo>
                    <a:pt x="578" y="1969"/>
                  </a:moveTo>
                  <a:lnTo>
                    <a:pt x="463" y="1969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969"/>
                  </a:lnTo>
                  <a:lnTo>
                    <a:pt x="0" y="1969"/>
                  </a:lnTo>
                  <a:lnTo>
                    <a:pt x="0" y="1853"/>
                  </a:lnTo>
                  <a:lnTo>
                    <a:pt x="0" y="1738"/>
                  </a:lnTo>
                  <a:lnTo>
                    <a:pt x="0" y="1738"/>
                  </a:lnTo>
                  <a:lnTo>
                    <a:pt x="347" y="0"/>
                  </a:lnTo>
                  <a:lnTo>
                    <a:pt x="694" y="116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lnTo>
                    <a:pt x="578" y="19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034280" y="4101480"/>
              <a:ext cx="28800" cy="105480"/>
            </a:xfrm>
            <a:custGeom>
              <a:avLst/>
              <a:gdLst/>
              <a:ahLst/>
              <a:rect l="l" t="t" r="r" b="b"/>
              <a:pathLst>
                <a:path w="810" h="1969">
                  <a:moveTo>
                    <a:pt x="694" y="232"/>
                  </a:moveTo>
                  <a:lnTo>
                    <a:pt x="810" y="463"/>
                  </a:lnTo>
                  <a:lnTo>
                    <a:pt x="694" y="579"/>
                  </a:lnTo>
                  <a:lnTo>
                    <a:pt x="694" y="695"/>
                  </a:lnTo>
                  <a:lnTo>
                    <a:pt x="694" y="927"/>
                  </a:lnTo>
                  <a:lnTo>
                    <a:pt x="694" y="1042"/>
                  </a:lnTo>
                  <a:lnTo>
                    <a:pt x="694" y="1274"/>
                  </a:lnTo>
                  <a:lnTo>
                    <a:pt x="694" y="1390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621"/>
                  </a:lnTo>
                  <a:lnTo>
                    <a:pt x="694" y="1737"/>
                  </a:lnTo>
                  <a:lnTo>
                    <a:pt x="578" y="1737"/>
                  </a:lnTo>
                  <a:lnTo>
                    <a:pt x="463" y="1853"/>
                  </a:lnTo>
                  <a:lnTo>
                    <a:pt x="463" y="1853"/>
                  </a:lnTo>
                  <a:lnTo>
                    <a:pt x="347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231" y="1969"/>
                  </a:lnTo>
                  <a:lnTo>
                    <a:pt x="115" y="1853"/>
                  </a:lnTo>
                  <a:lnTo>
                    <a:pt x="115" y="1853"/>
                  </a:lnTo>
                  <a:lnTo>
                    <a:pt x="0" y="1853"/>
                  </a:lnTo>
                  <a:lnTo>
                    <a:pt x="0" y="1853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737"/>
                  </a:lnTo>
                  <a:lnTo>
                    <a:pt x="0" y="1506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115" y="927"/>
                  </a:lnTo>
                  <a:lnTo>
                    <a:pt x="115" y="695"/>
                  </a:lnTo>
                  <a:lnTo>
                    <a:pt x="231" y="463"/>
                  </a:lnTo>
                  <a:lnTo>
                    <a:pt x="231" y="23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116"/>
                  </a:lnTo>
                  <a:lnTo>
                    <a:pt x="347" y="116"/>
                  </a:lnTo>
                  <a:lnTo>
                    <a:pt x="463" y="232"/>
                  </a:lnTo>
                  <a:lnTo>
                    <a:pt x="463" y="232"/>
                  </a:lnTo>
                  <a:lnTo>
                    <a:pt x="578" y="347"/>
                  </a:lnTo>
                  <a:lnTo>
                    <a:pt x="578" y="347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046520" y="4101480"/>
              <a:ext cx="1241280" cy="441360"/>
            </a:xfrm>
            <a:custGeom>
              <a:avLst/>
              <a:gdLst/>
              <a:ahLst/>
              <a:rect l="l" t="t" r="r" b="b"/>
              <a:pathLst>
                <a:path w="34719" h="8223">
                  <a:moveTo>
                    <a:pt x="-31048" y="0"/>
                  </a:moveTo>
                  <a:lnTo>
                    <a:pt x="-31279" y="232"/>
                  </a:lnTo>
                  <a:lnTo>
                    <a:pt x="-31395" y="347"/>
                  </a:lnTo>
                  <a:lnTo>
                    <a:pt x="-31627" y="579"/>
                  </a:lnTo>
                  <a:lnTo>
                    <a:pt x="-31742" y="811"/>
                  </a:lnTo>
                  <a:lnTo>
                    <a:pt x="-31858" y="1042"/>
                  </a:lnTo>
                  <a:lnTo>
                    <a:pt x="-31858" y="1390"/>
                  </a:lnTo>
                  <a:lnTo>
                    <a:pt x="-31858" y="1621"/>
                  </a:lnTo>
                  <a:lnTo>
                    <a:pt x="-31742" y="1853"/>
                  </a:lnTo>
                  <a:lnTo>
                    <a:pt x="-31742" y="1853"/>
                  </a:lnTo>
                  <a:lnTo>
                    <a:pt x="-31742" y="2085"/>
                  </a:lnTo>
                  <a:lnTo>
                    <a:pt x="-31627" y="2200"/>
                  </a:lnTo>
                  <a:lnTo>
                    <a:pt x="-31511" y="2200"/>
                  </a:lnTo>
                  <a:lnTo>
                    <a:pt x="-31395" y="2316"/>
                  </a:lnTo>
                  <a:lnTo>
                    <a:pt x="-31279" y="2432"/>
                  </a:lnTo>
                  <a:lnTo>
                    <a:pt x="-31164" y="2432"/>
                  </a:lnTo>
                  <a:lnTo>
                    <a:pt x="-30932" y="2548"/>
                  </a:lnTo>
                  <a:lnTo>
                    <a:pt x="-30817" y="2548"/>
                  </a:lnTo>
                  <a:lnTo>
                    <a:pt x="-30817" y="2548"/>
                  </a:lnTo>
                  <a:lnTo>
                    <a:pt x="-31048" y="2664"/>
                  </a:lnTo>
                  <a:lnTo>
                    <a:pt x="-31395" y="2664"/>
                  </a:lnTo>
                  <a:lnTo>
                    <a:pt x="-31627" y="2779"/>
                  </a:lnTo>
                  <a:lnTo>
                    <a:pt x="-31858" y="2779"/>
                  </a:lnTo>
                  <a:lnTo>
                    <a:pt x="-32090" y="2779"/>
                  </a:lnTo>
                  <a:lnTo>
                    <a:pt x="-32437" y="2895"/>
                  </a:lnTo>
                  <a:lnTo>
                    <a:pt x="-32668" y="2895"/>
                  </a:lnTo>
                  <a:lnTo>
                    <a:pt x="32636" y="3011"/>
                  </a:lnTo>
                  <a:lnTo>
                    <a:pt x="32636" y="3011"/>
                  </a:lnTo>
                  <a:lnTo>
                    <a:pt x="32405" y="2895"/>
                  </a:lnTo>
                  <a:lnTo>
                    <a:pt x="32173" y="2779"/>
                  </a:lnTo>
                  <a:lnTo>
                    <a:pt x="31942" y="2779"/>
                  </a:lnTo>
                  <a:lnTo>
                    <a:pt x="31710" y="2779"/>
                  </a:lnTo>
                  <a:lnTo>
                    <a:pt x="31479" y="2779"/>
                  </a:lnTo>
                  <a:lnTo>
                    <a:pt x="31247" y="2779"/>
                  </a:lnTo>
                  <a:lnTo>
                    <a:pt x="31016" y="2895"/>
                  </a:lnTo>
                  <a:lnTo>
                    <a:pt x="30785" y="2895"/>
                  </a:lnTo>
                  <a:lnTo>
                    <a:pt x="30785" y="2895"/>
                  </a:lnTo>
                  <a:lnTo>
                    <a:pt x="29974" y="3474"/>
                  </a:lnTo>
                  <a:lnTo>
                    <a:pt x="29974" y="3474"/>
                  </a:lnTo>
                  <a:lnTo>
                    <a:pt x="29974" y="3359"/>
                  </a:lnTo>
                  <a:lnTo>
                    <a:pt x="29974" y="3359"/>
                  </a:lnTo>
                  <a:lnTo>
                    <a:pt x="29859" y="3243"/>
                  </a:lnTo>
                  <a:lnTo>
                    <a:pt x="29859" y="3127"/>
                  </a:lnTo>
                  <a:lnTo>
                    <a:pt x="29859" y="3127"/>
                  </a:lnTo>
                  <a:lnTo>
                    <a:pt x="29859" y="3011"/>
                  </a:lnTo>
                  <a:lnTo>
                    <a:pt x="29859" y="3011"/>
                  </a:lnTo>
                  <a:lnTo>
                    <a:pt x="29974" y="2895"/>
                  </a:lnTo>
                  <a:lnTo>
                    <a:pt x="29974" y="2895"/>
                  </a:lnTo>
                  <a:lnTo>
                    <a:pt x="-32321" y="2316"/>
                  </a:lnTo>
                  <a:lnTo>
                    <a:pt x="-32321" y="2316"/>
                  </a:lnTo>
                  <a:lnTo>
                    <a:pt x="-32205" y="2316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200"/>
                  </a:lnTo>
                  <a:lnTo>
                    <a:pt x="-32205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090" y="2085"/>
                  </a:lnTo>
                  <a:lnTo>
                    <a:pt x="-32553" y="2085"/>
                  </a:lnTo>
                  <a:lnTo>
                    <a:pt x="32521" y="2200"/>
                  </a:lnTo>
                  <a:lnTo>
                    <a:pt x="31942" y="2200"/>
                  </a:lnTo>
                  <a:lnTo>
                    <a:pt x="31479" y="2316"/>
                  </a:lnTo>
                  <a:lnTo>
                    <a:pt x="31016" y="2432"/>
                  </a:lnTo>
                  <a:lnTo>
                    <a:pt x="30437" y="2548"/>
                  </a:lnTo>
                  <a:lnTo>
                    <a:pt x="29974" y="2664"/>
                  </a:lnTo>
                  <a:lnTo>
                    <a:pt x="29512" y="2779"/>
                  </a:lnTo>
                  <a:lnTo>
                    <a:pt x="29512" y="2779"/>
                  </a:lnTo>
                  <a:lnTo>
                    <a:pt x="29396" y="2664"/>
                  </a:lnTo>
                  <a:lnTo>
                    <a:pt x="29164" y="2664"/>
                  </a:lnTo>
                  <a:lnTo>
                    <a:pt x="28933" y="2548"/>
                  </a:lnTo>
                  <a:lnTo>
                    <a:pt x="28701" y="2548"/>
                  </a:lnTo>
                  <a:lnTo>
                    <a:pt x="28470" y="2432"/>
                  </a:lnTo>
                  <a:lnTo>
                    <a:pt x="28238" y="2548"/>
                  </a:lnTo>
                  <a:lnTo>
                    <a:pt x="28123" y="2548"/>
                  </a:lnTo>
                  <a:lnTo>
                    <a:pt x="27891" y="2664"/>
                  </a:lnTo>
                  <a:lnTo>
                    <a:pt x="27891" y="2664"/>
                  </a:lnTo>
                  <a:lnTo>
                    <a:pt x="27660" y="2895"/>
                  </a:lnTo>
                  <a:lnTo>
                    <a:pt x="27544" y="3011"/>
                  </a:lnTo>
                  <a:lnTo>
                    <a:pt x="27428" y="3011"/>
                  </a:lnTo>
                  <a:lnTo>
                    <a:pt x="27197" y="3011"/>
                  </a:lnTo>
                  <a:lnTo>
                    <a:pt x="27081" y="2895"/>
                  </a:lnTo>
                  <a:lnTo>
                    <a:pt x="26850" y="2895"/>
                  </a:lnTo>
                  <a:lnTo>
                    <a:pt x="26618" y="2895"/>
                  </a:lnTo>
                  <a:lnTo>
                    <a:pt x="26502" y="3127"/>
                  </a:lnTo>
                  <a:lnTo>
                    <a:pt x="26502" y="3127"/>
                  </a:lnTo>
                  <a:lnTo>
                    <a:pt x="26387" y="3474"/>
                  </a:lnTo>
                  <a:lnTo>
                    <a:pt x="26155" y="3706"/>
                  </a:lnTo>
                  <a:lnTo>
                    <a:pt x="25924" y="3822"/>
                  </a:lnTo>
                  <a:lnTo>
                    <a:pt x="25577" y="3822"/>
                  </a:lnTo>
                  <a:lnTo>
                    <a:pt x="25229" y="3822"/>
                  </a:lnTo>
                  <a:lnTo>
                    <a:pt x="24882" y="3822"/>
                  </a:lnTo>
                  <a:lnTo>
                    <a:pt x="24651" y="3822"/>
                  </a:lnTo>
                  <a:lnTo>
                    <a:pt x="24304" y="3938"/>
                  </a:lnTo>
                  <a:lnTo>
                    <a:pt x="24304" y="3938"/>
                  </a:lnTo>
                  <a:lnTo>
                    <a:pt x="21526" y="4517"/>
                  </a:lnTo>
                  <a:lnTo>
                    <a:pt x="18633" y="5096"/>
                  </a:lnTo>
                  <a:lnTo>
                    <a:pt x="15855" y="5559"/>
                  </a:lnTo>
                  <a:lnTo>
                    <a:pt x="13078" y="6138"/>
                  </a:lnTo>
                  <a:lnTo>
                    <a:pt x="10184" y="6717"/>
                  </a:lnTo>
                  <a:lnTo>
                    <a:pt x="7407" y="7296"/>
                  </a:lnTo>
                  <a:lnTo>
                    <a:pt x="4513" y="7759"/>
                  </a:lnTo>
                  <a:lnTo>
                    <a:pt x="1620" y="8223"/>
                  </a:lnTo>
                  <a:lnTo>
                    <a:pt x="1620" y="8223"/>
                  </a:lnTo>
                  <a:lnTo>
                    <a:pt x="1389" y="8107"/>
                  </a:lnTo>
                  <a:lnTo>
                    <a:pt x="1157" y="7875"/>
                  </a:lnTo>
                  <a:lnTo>
                    <a:pt x="926" y="7759"/>
                  </a:lnTo>
                  <a:lnTo>
                    <a:pt x="694" y="7528"/>
                  </a:lnTo>
                  <a:lnTo>
                    <a:pt x="463" y="7296"/>
                  </a:lnTo>
                  <a:lnTo>
                    <a:pt x="231" y="7064"/>
                  </a:lnTo>
                  <a:lnTo>
                    <a:pt x="116" y="6717"/>
                  </a:lnTo>
                  <a:lnTo>
                    <a:pt x="0" y="6485"/>
                  </a:lnTo>
                  <a:lnTo>
                    <a:pt x="0" y="6485"/>
                  </a:lnTo>
                  <a:lnTo>
                    <a:pt x="4398" y="5675"/>
                  </a:lnTo>
                  <a:lnTo>
                    <a:pt x="8680" y="4864"/>
                  </a:lnTo>
                  <a:lnTo>
                    <a:pt x="12846" y="3938"/>
                  </a:lnTo>
                  <a:lnTo>
                    <a:pt x="17128" y="3127"/>
                  </a:lnTo>
                  <a:lnTo>
                    <a:pt x="21295" y="2316"/>
                  </a:lnTo>
                  <a:lnTo>
                    <a:pt x="25577" y="1506"/>
                  </a:lnTo>
                  <a:lnTo>
                    <a:pt x="29859" y="695"/>
                  </a:lnTo>
                  <a:lnTo>
                    <a:pt x="-31279" y="116"/>
                  </a:lnTo>
                  <a:lnTo>
                    <a:pt x="-31279" y="116"/>
                  </a:lnTo>
                  <a:lnTo>
                    <a:pt x="-31279" y="0"/>
                  </a:lnTo>
                  <a:lnTo>
                    <a:pt x="-31279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164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lnTo>
                    <a:pt x="-31048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56080" y="4194720"/>
              <a:ext cx="322560" cy="565560"/>
            </a:xfrm>
            <a:custGeom>
              <a:avLst/>
              <a:gdLst/>
              <a:ahLst/>
              <a:rect l="l" t="t" r="r" b="b"/>
              <a:pathLst>
                <a:path w="9027" h="10539">
                  <a:moveTo>
                    <a:pt x="7176" y="579"/>
                  </a:moveTo>
                  <a:lnTo>
                    <a:pt x="7176" y="695"/>
                  </a:lnTo>
                  <a:lnTo>
                    <a:pt x="7176" y="811"/>
                  </a:lnTo>
                  <a:lnTo>
                    <a:pt x="7176" y="927"/>
                  </a:lnTo>
                  <a:lnTo>
                    <a:pt x="7060" y="1042"/>
                  </a:lnTo>
                  <a:lnTo>
                    <a:pt x="7060" y="1158"/>
                  </a:lnTo>
                  <a:lnTo>
                    <a:pt x="6944" y="1274"/>
                  </a:lnTo>
                  <a:lnTo>
                    <a:pt x="6828" y="1274"/>
                  </a:lnTo>
                  <a:lnTo>
                    <a:pt x="6713" y="1274"/>
                  </a:lnTo>
                  <a:lnTo>
                    <a:pt x="6713" y="1274"/>
                  </a:lnTo>
                  <a:lnTo>
                    <a:pt x="6597" y="1274"/>
                  </a:lnTo>
                  <a:lnTo>
                    <a:pt x="6365" y="1274"/>
                  </a:lnTo>
                  <a:lnTo>
                    <a:pt x="6134" y="1274"/>
                  </a:lnTo>
                  <a:lnTo>
                    <a:pt x="6018" y="1274"/>
                  </a:lnTo>
                  <a:lnTo>
                    <a:pt x="5787" y="1390"/>
                  </a:lnTo>
                  <a:lnTo>
                    <a:pt x="5671" y="1506"/>
                  </a:lnTo>
                  <a:lnTo>
                    <a:pt x="5555" y="1622"/>
                  </a:lnTo>
                  <a:lnTo>
                    <a:pt x="5440" y="1737"/>
                  </a:lnTo>
                  <a:lnTo>
                    <a:pt x="5440" y="1737"/>
                  </a:lnTo>
                  <a:lnTo>
                    <a:pt x="5324" y="1969"/>
                  </a:lnTo>
                  <a:lnTo>
                    <a:pt x="5092" y="2201"/>
                  </a:lnTo>
                  <a:lnTo>
                    <a:pt x="4977" y="2432"/>
                  </a:lnTo>
                  <a:lnTo>
                    <a:pt x="4861" y="2664"/>
                  </a:lnTo>
                  <a:lnTo>
                    <a:pt x="4745" y="2895"/>
                  </a:lnTo>
                  <a:lnTo>
                    <a:pt x="4745" y="3127"/>
                  </a:lnTo>
                  <a:lnTo>
                    <a:pt x="4629" y="3359"/>
                  </a:lnTo>
                  <a:lnTo>
                    <a:pt x="4745" y="3590"/>
                  </a:lnTo>
                  <a:lnTo>
                    <a:pt x="4745" y="3590"/>
                  </a:lnTo>
                  <a:lnTo>
                    <a:pt x="4629" y="3822"/>
                  </a:lnTo>
                  <a:lnTo>
                    <a:pt x="4629" y="4054"/>
                  </a:lnTo>
                  <a:lnTo>
                    <a:pt x="4629" y="4401"/>
                  </a:lnTo>
                  <a:lnTo>
                    <a:pt x="4745" y="4633"/>
                  </a:lnTo>
                  <a:lnTo>
                    <a:pt x="4861" y="4864"/>
                  </a:lnTo>
                  <a:lnTo>
                    <a:pt x="4861" y="5212"/>
                  </a:lnTo>
                  <a:lnTo>
                    <a:pt x="4977" y="5443"/>
                  </a:lnTo>
                  <a:lnTo>
                    <a:pt x="5092" y="5675"/>
                  </a:lnTo>
                  <a:lnTo>
                    <a:pt x="5092" y="5675"/>
                  </a:lnTo>
                  <a:lnTo>
                    <a:pt x="5555" y="6138"/>
                  </a:lnTo>
                  <a:lnTo>
                    <a:pt x="5902" y="6486"/>
                  </a:lnTo>
                  <a:lnTo>
                    <a:pt x="6481" y="6717"/>
                  </a:lnTo>
                  <a:lnTo>
                    <a:pt x="6944" y="6949"/>
                  </a:lnTo>
                  <a:lnTo>
                    <a:pt x="7523" y="7180"/>
                  </a:lnTo>
                  <a:lnTo>
                    <a:pt x="7986" y="7296"/>
                  </a:lnTo>
                  <a:lnTo>
                    <a:pt x="8564" y="7528"/>
                  </a:lnTo>
                  <a:lnTo>
                    <a:pt x="9027" y="7875"/>
                  </a:lnTo>
                  <a:lnTo>
                    <a:pt x="9027" y="7875"/>
                  </a:lnTo>
                  <a:lnTo>
                    <a:pt x="9027" y="7991"/>
                  </a:lnTo>
                  <a:lnTo>
                    <a:pt x="9027" y="8107"/>
                  </a:lnTo>
                  <a:lnTo>
                    <a:pt x="9027" y="8223"/>
                  </a:lnTo>
                  <a:lnTo>
                    <a:pt x="8911" y="8339"/>
                  </a:lnTo>
                  <a:lnTo>
                    <a:pt x="8911" y="8454"/>
                  </a:lnTo>
                  <a:lnTo>
                    <a:pt x="8911" y="8570"/>
                  </a:lnTo>
                  <a:lnTo>
                    <a:pt x="8796" y="8686"/>
                  </a:lnTo>
                  <a:lnTo>
                    <a:pt x="8796" y="8802"/>
                  </a:lnTo>
                  <a:lnTo>
                    <a:pt x="8796" y="8802"/>
                  </a:lnTo>
                  <a:lnTo>
                    <a:pt x="8449" y="8918"/>
                  </a:lnTo>
                  <a:lnTo>
                    <a:pt x="8217" y="9033"/>
                  </a:lnTo>
                  <a:lnTo>
                    <a:pt x="7870" y="8918"/>
                  </a:lnTo>
                  <a:lnTo>
                    <a:pt x="7638" y="8918"/>
                  </a:lnTo>
                  <a:lnTo>
                    <a:pt x="7291" y="8686"/>
                  </a:lnTo>
                  <a:lnTo>
                    <a:pt x="7060" y="8570"/>
                  </a:lnTo>
                  <a:lnTo>
                    <a:pt x="6828" y="8454"/>
                  </a:lnTo>
                  <a:lnTo>
                    <a:pt x="6597" y="8223"/>
                  </a:lnTo>
                  <a:lnTo>
                    <a:pt x="6597" y="8223"/>
                  </a:lnTo>
                  <a:lnTo>
                    <a:pt x="6134" y="8223"/>
                  </a:lnTo>
                  <a:lnTo>
                    <a:pt x="5787" y="8107"/>
                  </a:lnTo>
                  <a:lnTo>
                    <a:pt x="5440" y="7991"/>
                  </a:lnTo>
                  <a:lnTo>
                    <a:pt x="5092" y="7759"/>
                  </a:lnTo>
                  <a:lnTo>
                    <a:pt x="4745" y="7528"/>
                  </a:lnTo>
                  <a:lnTo>
                    <a:pt x="4398" y="7296"/>
                  </a:lnTo>
                  <a:lnTo>
                    <a:pt x="4051" y="7065"/>
                  </a:lnTo>
                  <a:lnTo>
                    <a:pt x="3704" y="6949"/>
                  </a:lnTo>
                  <a:lnTo>
                    <a:pt x="3704" y="6949"/>
                  </a:lnTo>
                  <a:lnTo>
                    <a:pt x="3588" y="6833"/>
                  </a:lnTo>
                  <a:lnTo>
                    <a:pt x="3472" y="6949"/>
                  </a:lnTo>
                  <a:lnTo>
                    <a:pt x="4861" y="8223"/>
                  </a:lnTo>
                  <a:lnTo>
                    <a:pt x="4861" y="8223"/>
                  </a:lnTo>
                  <a:lnTo>
                    <a:pt x="4514" y="8223"/>
                  </a:lnTo>
                  <a:lnTo>
                    <a:pt x="4166" y="8107"/>
                  </a:lnTo>
                  <a:lnTo>
                    <a:pt x="3819" y="7875"/>
                  </a:lnTo>
                  <a:lnTo>
                    <a:pt x="3588" y="7644"/>
                  </a:lnTo>
                  <a:lnTo>
                    <a:pt x="3241" y="7412"/>
                  </a:lnTo>
                  <a:lnTo>
                    <a:pt x="3009" y="7180"/>
                  </a:lnTo>
                  <a:lnTo>
                    <a:pt x="2662" y="7065"/>
                  </a:lnTo>
                  <a:lnTo>
                    <a:pt x="2430" y="6949"/>
                  </a:lnTo>
                  <a:lnTo>
                    <a:pt x="2430" y="6949"/>
                  </a:lnTo>
                  <a:lnTo>
                    <a:pt x="2546" y="7180"/>
                  </a:lnTo>
                  <a:lnTo>
                    <a:pt x="2662" y="7412"/>
                  </a:lnTo>
                  <a:lnTo>
                    <a:pt x="2893" y="7644"/>
                  </a:lnTo>
                  <a:lnTo>
                    <a:pt x="3125" y="7875"/>
                  </a:lnTo>
                  <a:lnTo>
                    <a:pt x="3241" y="7991"/>
                  </a:lnTo>
                  <a:lnTo>
                    <a:pt x="3472" y="8223"/>
                  </a:lnTo>
                  <a:lnTo>
                    <a:pt x="3704" y="8454"/>
                  </a:lnTo>
                  <a:lnTo>
                    <a:pt x="3935" y="8570"/>
                  </a:lnTo>
                  <a:lnTo>
                    <a:pt x="3935" y="8570"/>
                  </a:lnTo>
                  <a:lnTo>
                    <a:pt x="3935" y="8686"/>
                  </a:lnTo>
                  <a:lnTo>
                    <a:pt x="3819" y="8686"/>
                  </a:lnTo>
                  <a:lnTo>
                    <a:pt x="3588" y="8802"/>
                  </a:lnTo>
                  <a:lnTo>
                    <a:pt x="3472" y="8802"/>
                  </a:lnTo>
                  <a:lnTo>
                    <a:pt x="3356" y="8802"/>
                  </a:lnTo>
                  <a:lnTo>
                    <a:pt x="3241" y="8802"/>
                  </a:lnTo>
                  <a:lnTo>
                    <a:pt x="3009" y="8802"/>
                  </a:lnTo>
                  <a:lnTo>
                    <a:pt x="3009" y="8686"/>
                  </a:lnTo>
                  <a:lnTo>
                    <a:pt x="3009" y="8686"/>
                  </a:lnTo>
                  <a:lnTo>
                    <a:pt x="2662" y="8570"/>
                  </a:lnTo>
                  <a:lnTo>
                    <a:pt x="2546" y="8339"/>
                  </a:lnTo>
                  <a:lnTo>
                    <a:pt x="2315" y="8107"/>
                  </a:lnTo>
                  <a:lnTo>
                    <a:pt x="2083" y="7875"/>
                  </a:lnTo>
                  <a:lnTo>
                    <a:pt x="1852" y="7644"/>
                  </a:lnTo>
                  <a:lnTo>
                    <a:pt x="1620" y="7412"/>
                  </a:lnTo>
                  <a:lnTo>
                    <a:pt x="1505" y="7296"/>
                  </a:lnTo>
                  <a:lnTo>
                    <a:pt x="1273" y="7065"/>
                  </a:lnTo>
                  <a:lnTo>
                    <a:pt x="1273" y="7065"/>
                  </a:lnTo>
                  <a:lnTo>
                    <a:pt x="1157" y="7412"/>
                  </a:lnTo>
                  <a:lnTo>
                    <a:pt x="1157" y="7759"/>
                  </a:lnTo>
                  <a:lnTo>
                    <a:pt x="1157" y="8107"/>
                  </a:lnTo>
                  <a:lnTo>
                    <a:pt x="1157" y="8454"/>
                  </a:lnTo>
                  <a:lnTo>
                    <a:pt x="1273" y="8802"/>
                  </a:lnTo>
                  <a:lnTo>
                    <a:pt x="1389" y="9149"/>
                  </a:lnTo>
                  <a:lnTo>
                    <a:pt x="1505" y="9612"/>
                  </a:lnTo>
                  <a:lnTo>
                    <a:pt x="1620" y="9960"/>
                  </a:lnTo>
                  <a:lnTo>
                    <a:pt x="1620" y="9960"/>
                  </a:lnTo>
                  <a:lnTo>
                    <a:pt x="1620" y="10539"/>
                  </a:lnTo>
                  <a:lnTo>
                    <a:pt x="1620" y="10539"/>
                  </a:lnTo>
                  <a:lnTo>
                    <a:pt x="1389" y="10539"/>
                  </a:lnTo>
                  <a:lnTo>
                    <a:pt x="1273" y="10539"/>
                  </a:lnTo>
                  <a:lnTo>
                    <a:pt x="1042" y="10423"/>
                  </a:lnTo>
                  <a:lnTo>
                    <a:pt x="926" y="10423"/>
                  </a:lnTo>
                  <a:lnTo>
                    <a:pt x="810" y="10191"/>
                  </a:lnTo>
                  <a:lnTo>
                    <a:pt x="695" y="10076"/>
                  </a:lnTo>
                  <a:lnTo>
                    <a:pt x="579" y="9960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116" y="9149"/>
                  </a:lnTo>
                  <a:lnTo>
                    <a:pt x="0" y="8570"/>
                  </a:lnTo>
                  <a:lnTo>
                    <a:pt x="116" y="7991"/>
                  </a:lnTo>
                  <a:lnTo>
                    <a:pt x="347" y="7412"/>
                  </a:lnTo>
                  <a:lnTo>
                    <a:pt x="579" y="6833"/>
                  </a:lnTo>
                  <a:lnTo>
                    <a:pt x="810" y="6138"/>
                  </a:lnTo>
                  <a:lnTo>
                    <a:pt x="926" y="5559"/>
                  </a:lnTo>
                  <a:lnTo>
                    <a:pt x="926" y="4864"/>
                  </a:lnTo>
                  <a:lnTo>
                    <a:pt x="926" y="4864"/>
                  </a:lnTo>
                  <a:lnTo>
                    <a:pt x="1157" y="4864"/>
                  </a:lnTo>
                  <a:lnTo>
                    <a:pt x="1389" y="4864"/>
                  </a:lnTo>
                  <a:lnTo>
                    <a:pt x="1620" y="4864"/>
                  </a:lnTo>
                  <a:lnTo>
                    <a:pt x="1852" y="4748"/>
                  </a:lnTo>
                  <a:lnTo>
                    <a:pt x="2083" y="4633"/>
                  </a:lnTo>
                  <a:lnTo>
                    <a:pt x="2315" y="4517"/>
                  </a:lnTo>
                  <a:lnTo>
                    <a:pt x="2546" y="4401"/>
                  </a:lnTo>
                  <a:lnTo>
                    <a:pt x="2662" y="4169"/>
                  </a:lnTo>
                  <a:lnTo>
                    <a:pt x="2662" y="4169"/>
                  </a:lnTo>
                  <a:lnTo>
                    <a:pt x="2778" y="3822"/>
                  </a:lnTo>
                  <a:lnTo>
                    <a:pt x="3009" y="3475"/>
                  </a:lnTo>
                  <a:lnTo>
                    <a:pt x="3125" y="3127"/>
                  </a:lnTo>
                  <a:lnTo>
                    <a:pt x="3241" y="2780"/>
                  </a:lnTo>
                  <a:lnTo>
                    <a:pt x="3241" y="2432"/>
                  </a:lnTo>
                  <a:lnTo>
                    <a:pt x="3241" y="2085"/>
                  </a:lnTo>
                  <a:lnTo>
                    <a:pt x="3125" y="1737"/>
                  </a:lnTo>
                  <a:lnTo>
                    <a:pt x="3009" y="1390"/>
                  </a:lnTo>
                  <a:lnTo>
                    <a:pt x="3009" y="1390"/>
                  </a:lnTo>
                  <a:lnTo>
                    <a:pt x="3125" y="1274"/>
                  </a:lnTo>
                  <a:lnTo>
                    <a:pt x="3241" y="1042"/>
                  </a:lnTo>
                  <a:lnTo>
                    <a:pt x="3472" y="811"/>
                  </a:lnTo>
                  <a:lnTo>
                    <a:pt x="3704" y="695"/>
                  </a:lnTo>
                  <a:lnTo>
                    <a:pt x="3819" y="579"/>
                  </a:lnTo>
                  <a:lnTo>
                    <a:pt x="4051" y="463"/>
                  </a:lnTo>
                  <a:lnTo>
                    <a:pt x="4282" y="463"/>
                  </a:lnTo>
                  <a:lnTo>
                    <a:pt x="4629" y="463"/>
                  </a:lnTo>
                  <a:lnTo>
                    <a:pt x="4629" y="463"/>
                  </a:lnTo>
                  <a:lnTo>
                    <a:pt x="4745" y="579"/>
                  </a:lnTo>
                  <a:lnTo>
                    <a:pt x="4977" y="579"/>
                  </a:lnTo>
                  <a:lnTo>
                    <a:pt x="5092" y="695"/>
                  </a:lnTo>
                  <a:lnTo>
                    <a:pt x="5324" y="811"/>
                  </a:lnTo>
                  <a:lnTo>
                    <a:pt x="5440" y="927"/>
                  </a:lnTo>
                  <a:lnTo>
                    <a:pt x="5555" y="927"/>
                  </a:lnTo>
                  <a:lnTo>
                    <a:pt x="5787" y="927"/>
                  </a:lnTo>
                  <a:lnTo>
                    <a:pt x="6018" y="811"/>
                  </a:lnTo>
                  <a:lnTo>
                    <a:pt x="6018" y="811"/>
                  </a:lnTo>
                  <a:lnTo>
                    <a:pt x="5671" y="463"/>
                  </a:lnTo>
                  <a:lnTo>
                    <a:pt x="5671" y="463"/>
                  </a:lnTo>
                  <a:lnTo>
                    <a:pt x="5902" y="348"/>
                  </a:lnTo>
                  <a:lnTo>
                    <a:pt x="6134" y="232"/>
                  </a:lnTo>
                  <a:lnTo>
                    <a:pt x="6365" y="116"/>
                  </a:lnTo>
                  <a:lnTo>
                    <a:pt x="6597" y="0"/>
                  </a:lnTo>
                  <a:lnTo>
                    <a:pt x="6828" y="0"/>
                  </a:lnTo>
                  <a:lnTo>
                    <a:pt x="6944" y="116"/>
                  </a:lnTo>
                  <a:lnTo>
                    <a:pt x="7060" y="232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lnTo>
                    <a:pt x="7176" y="5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47800" y="4250880"/>
              <a:ext cx="103320" cy="173880"/>
            </a:xfrm>
            <a:custGeom>
              <a:avLst/>
              <a:gdLst/>
              <a:ahLst/>
              <a:rect l="l" t="t" r="r" b="b"/>
              <a:pathLst>
                <a:path w="2893" h="3243">
                  <a:moveTo>
                    <a:pt x="2893" y="927"/>
                  </a:moveTo>
                  <a:lnTo>
                    <a:pt x="2893" y="1159"/>
                  </a:lnTo>
                  <a:lnTo>
                    <a:pt x="2893" y="1390"/>
                  </a:lnTo>
                  <a:lnTo>
                    <a:pt x="2893" y="1622"/>
                  </a:lnTo>
                  <a:lnTo>
                    <a:pt x="2893" y="1853"/>
                  </a:lnTo>
                  <a:lnTo>
                    <a:pt x="2777" y="2085"/>
                  </a:lnTo>
                  <a:lnTo>
                    <a:pt x="2661" y="2317"/>
                  </a:lnTo>
                  <a:lnTo>
                    <a:pt x="2546" y="2548"/>
                  </a:lnTo>
                  <a:lnTo>
                    <a:pt x="2430" y="2780"/>
                  </a:lnTo>
                  <a:lnTo>
                    <a:pt x="2430" y="2780"/>
                  </a:lnTo>
                  <a:lnTo>
                    <a:pt x="2314" y="2896"/>
                  </a:lnTo>
                  <a:lnTo>
                    <a:pt x="2199" y="3012"/>
                  </a:lnTo>
                  <a:lnTo>
                    <a:pt x="1967" y="3127"/>
                  </a:lnTo>
                  <a:lnTo>
                    <a:pt x="1851" y="3243"/>
                  </a:lnTo>
                  <a:lnTo>
                    <a:pt x="1620" y="3243"/>
                  </a:lnTo>
                  <a:lnTo>
                    <a:pt x="1388" y="3243"/>
                  </a:lnTo>
                  <a:lnTo>
                    <a:pt x="1157" y="3243"/>
                  </a:lnTo>
                  <a:lnTo>
                    <a:pt x="1041" y="3243"/>
                  </a:lnTo>
                  <a:lnTo>
                    <a:pt x="1041" y="3243"/>
                  </a:lnTo>
                  <a:lnTo>
                    <a:pt x="810" y="3127"/>
                  </a:lnTo>
                  <a:lnTo>
                    <a:pt x="694" y="3127"/>
                  </a:lnTo>
                  <a:lnTo>
                    <a:pt x="463" y="3012"/>
                  </a:lnTo>
                  <a:lnTo>
                    <a:pt x="347" y="2896"/>
                  </a:lnTo>
                  <a:lnTo>
                    <a:pt x="231" y="2664"/>
                  </a:lnTo>
                  <a:lnTo>
                    <a:pt x="231" y="2548"/>
                  </a:lnTo>
                  <a:lnTo>
                    <a:pt x="115" y="2433"/>
                  </a:lnTo>
                  <a:lnTo>
                    <a:pt x="0" y="2201"/>
                  </a:lnTo>
                  <a:lnTo>
                    <a:pt x="0" y="2201"/>
                  </a:lnTo>
                  <a:lnTo>
                    <a:pt x="231" y="2317"/>
                  </a:lnTo>
                  <a:lnTo>
                    <a:pt x="347" y="2317"/>
                  </a:lnTo>
                  <a:lnTo>
                    <a:pt x="578" y="2317"/>
                  </a:lnTo>
                  <a:lnTo>
                    <a:pt x="810" y="2317"/>
                  </a:lnTo>
                  <a:lnTo>
                    <a:pt x="926" y="2317"/>
                  </a:lnTo>
                  <a:lnTo>
                    <a:pt x="1157" y="2201"/>
                  </a:lnTo>
                  <a:lnTo>
                    <a:pt x="1388" y="2201"/>
                  </a:lnTo>
                  <a:lnTo>
                    <a:pt x="1620" y="1969"/>
                  </a:lnTo>
                  <a:lnTo>
                    <a:pt x="1620" y="1969"/>
                  </a:lnTo>
                  <a:lnTo>
                    <a:pt x="1620" y="1853"/>
                  </a:lnTo>
                  <a:lnTo>
                    <a:pt x="1736" y="1738"/>
                  </a:lnTo>
                  <a:lnTo>
                    <a:pt x="1851" y="1506"/>
                  </a:lnTo>
                  <a:lnTo>
                    <a:pt x="1851" y="1390"/>
                  </a:lnTo>
                  <a:lnTo>
                    <a:pt x="1967" y="1159"/>
                  </a:lnTo>
                  <a:lnTo>
                    <a:pt x="1967" y="1043"/>
                  </a:lnTo>
                  <a:lnTo>
                    <a:pt x="1851" y="811"/>
                  </a:lnTo>
                  <a:lnTo>
                    <a:pt x="1736" y="695"/>
                  </a:lnTo>
                  <a:lnTo>
                    <a:pt x="1736" y="695"/>
                  </a:lnTo>
                  <a:lnTo>
                    <a:pt x="1504" y="232"/>
                  </a:lnTo>
                  <a:lnTo>
                    <a:pt x="1504" y="232"/>
                  </a:lnTo>
                  <a:lnTo>
                    <a:pt x="1620" y="116"/>
                  </a:lnTo>
                  <a:lnTo>
                    <a:pt x="1851" y="0"/>
                  </a:lnTo>
                  <a:lnTo>
                    <a:pt x="2083" y="116"/>
                  </a:lnTo>
                  <a:lnTo>
                    <a:pt x="2314" y="232"/>
                  </a:lnTo>
                  <a:lnTo>
                    <a:pt x="2546" y="348"/>
                  </a:lnTo>
                  <a:lnTo>
                    <a:pt x="2661" y="580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lnTo>
                    <a:pt x="289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027520" y="4257000"/>
              <a:ext cx="74520" cy="173880"/>
            </a:xfrm>
            <a:custGeom>
              <a:avLst/>
              <a:gdLst/>
              <a:ahLst/>
              <a:rect l="l" t="t" r="r" b="b"/>
              <a:pathLst>
                <a:path w="2084" h="3243">
                  <a:moveTo>
                    <a:pt x="2084" y="464"/>
                  </a:moveTo>
                  <a:lnTo>
                    <a:pt x="2084" y="811"/>
                  </a:lnTo>
                  <a:lnTo>
                    <a:pt x="2084" y="1043"/>
                  </a:lnTo>
                  <a:lnTo>
                    <a:pt x="1968" y="1274"/>
                  </a:lnTo>
                  <a:lnTo>
                    <a:pt x="1852" y="1622"/>
                  </a:lnTo>
                  <a:lnTo>
                    <a:pt x="1736" y="1853"/>
                  </a:lnTo>
                  <a:lnTo>
                    <a:pt x="1621" y="2085"/>
                  </a:lnTo>
                  <a:lnTo>
                    <a:pt x="1505" y="2317"/>
                  </a:lnTo>
                  <a:lnTo>
                    <a:pt x="1389" y="2548"/>
                  </a:lnTo>
                  <a:lnTo>
                    <a:pt x="1389" y="2548"/>
                  </a:lnTo>
                  <a:lnTo>
                    <a:pt x="1158" y="2664"/>
                  </a:lnTo>
                  <a:lnTo>
                    <a:pt x="1042" y="2780"/>
                  </a:lnTo>
                  <a:lnTo>
                    <a:pt x="926" y="2896"/>
                  </a:lnTo>
                  <a:lnTo>
                    <a:pt x="695" y="3011"/>
                  </a:lnTo>
                  <a:lnTo>
                    <a:pt x="579" y="3127"/>
                  </a:lnTo>
                  <a:lnTo>
                    <a:pt x="463" y="3243"/>
                  </a:lnTo>
                  <a:lnTo>
                    <a:pt x="232" y="3243"/>
                  </a:lnTo>
                  <a:lnTo>
                    <a:pt x="0" y="3243"/>
                  </a:lnTo>
                  <a:lnTo>
                    <a:pt x="0" y="3243"/>
                  </a:lnTo>
                  <a:lnTo>
                    <a:pt x="116" y="2896"/>
                  </a:lnTo>
                  <a:lnTo>
                    <a:pt x="116" y="2548"/>
                  </a:lnTo>
                  <a:lnTo>
                    <a:pt x="232" y="2317"/>
                  </a:lnTo>
                  <a:lnTo>
                    <a:pt x="348" y="1969"/>
                  </a:lnTo>
                  <a:lnTo>
                    <a:pt x="348" y="1622"/>
                  </a:lnTo>
                  <a:lnTo>
                    <a:pt x="348" y="1274"/>
                  </a:lnTo>
                  <a:lnTo>
                    <a:pt x="348" y="927"/>
                  </a:lnTo>
                  <a:lnTo>
                    <a:pt x="232" y="579"/>
                  </a:lnTo>
                  <a:lnTo>
                    <a:pt x="232" y="579"/>
                  </a:lnTo>
                  <a:lnTo>
                    <a:pt x="348" y="232"/>
                  </a:lnTo>
                  <a:lnTo>
                    <a:pt x="463" y="116"/>
                  </a:lnTo>
                  <a:lnTo>
                    <a:pt x="695" y="0"/>
                  </a:lnTo>
                  <a:lnTo>
                    <a:pt x="1042" y="0"/>
                  </a:lnTo>
                  <a:lnTo>
                    <a:pt x="1273" y="116"/>
                  </a:lnTo>
                  <a:lnTo>
                    <a:pt x="1621" y="232"/>
                  </a:lnTo>
                  <a:lnTo>
                    <a:pt x="1852" y="348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lnTo>
                    <a:pt x="2084" y="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089440" y="4269600"/>
              <a:ext cx="119880" cy="142920"/>
            </a:xfrm>
            <a:custGeom>
              <a:avLst/>
              <a:gdLst/>
              <a:ahLst/>
              <a:rect l="l" t="t" r="r" b="b"/>
              <a:pathLst>
                <a:path w="3357" h="2664">
                  <a:moveTo>
                    <a:pt x="3357" y="347"/>
                  </a:moveTo>
                  <a:lnTo>
                    <a:pt x="3125" y="811"/>
                  </a:lnTo>
                  <a:lnTo>
                    <a:pt x="2894" y="1158"/>
                  </a:lnTo>
                  <a:lnTo>
                    <a:pt x="2546" y="1505"/>
                  </a:lnTo>
                  <a:lnTo>
                    <a:pt x="2199" y="1853"/>
                  </a:lnTo>
                  <a:lnTo>
                    <a:pt x="1852" y="2200"/>
                  </a:lnTo>
                  <a:lnTo>
                    <a:pt x="1505" y="2432"/>
                  </a:lnTo>
                  <a:lnTo>
                    <a:pt x="1042" y="2548"/>
                  </a:lnTo>
                  <a:lnTo>
                    <a:pt x="695" y="2664"/>
                  </a:lnTo>
                  <a:lnTo>
                    <a:pt x="695" y="2664"/>
                  </a:lnTo>
                  <a:lnTo>
                    <a:pt x="0" y="2548"/>
                  </a:lnTo>
                  <a:lnTo>
                    <a:pt x="0" y="2548"/>
                  </a:lnTo>
                  <a:lnTo>
                    <a:pt x="348" y="2200"/>
                  </a:lnTo>
                  <a:lnTo>
                    <a:pt x="463" y="1853"/>
                  </a:lnTo>
                  <a:lnTo>
                    <a:pt x="695" y="1505"/>
                  </a:lnTo>
                  <a:lnTo>
                    <a:pt x="810" y="1158"/>
                  </a:lnTo>
                  <a:lnTo>
                    <a:pt x="926" y="811"/>
                  </a:lnTo>
                  <a:lnTo>
                    <a:pt x="1158" y="579"/>
                  </a:lnTo>
                  <a:lnTo>
                    <a:pt x="1505" y="232"/>
                  </a:lnTo>
                  <a:lnTo>
                    <a:pt x="1852" y="116"/>
                  </a:lnTo>
                  <a:lnTo>
                    <a:pt x="1852" y="116"/>
                  </a:lnTo>
                  <a:lnTo>
                    <a:pt x="2083" y="0"/>
                  </a:lnTo>
                  <a:lnTo>
                    <a:pt x="2315" y="0"/>
                  </a:lnTo>
                  <a:lnTo>
                    <a:pt x="2431" y="0"/>
                  </a:lnTo>
                  <a:lnTo>
                    <a:pt x="2662" y="0"/>
                  </a:lnTo>
                  <a:lnTo>
                    <a:pt x="2778" y="116"/>
                  </a:lnTo>
                  <a:lnTo>
                    <a:pt x="3009" y="116"/>
                  </a:lnTo>
                  <a:lnTo>
                    <a:pt x="3125" y="232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lnTo>
                    <a:pt x="3357" y="3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923840" y="4287960"/>
              <a:ext cx="99000" cy="186480"/>
            </a:xfrm>
            <a:custGeom>
              <a:avLst/>
              <a:gdLst/>
              <a:ahLst/>
              <a:rect l="l" t="t" r="r" b="b"/>
              <a:pathLst>
                <a:path w="2778" h="3475">
                  <a:moveTo>
                    <a:pt x="2778" y="1158"/>
                  </a:moveTo>
                  <a:lnTo>
                    <a:pt x="2662" y="1506"/>
                  </a:lnTo>
                  <a:lnTo>
                    <a:pt x="2662" y="1738"/>
                  </a:lnTo>
                  <a:lnTo>
                    <a:pt x="2546" y="2085"/>
                  </a:lnTo>
                  <a:lnTo>
                    <a:pt x="2430" y="2317"/>
                  </a:lnTo>
                  <a:lnTo>
                    <a:pt x="2430" y="2664"/>
                  </a:lnTo>
                  <a:lnTo>
                    <a:pt x="2199" y="2896"/>
                  </a:lnTo>
                  <a:lnTo>
                    <a:pt x="2083" y="3127"/>
                  </a:lnTo>
                  <a:lnTo>
                    <a:pt x="1736" y="3243"/>
                  </a:lnTo>
                  <a:lnTo>
                    <a:pt x="1736" y="3243"/>
                  </a:lnTo>
                  <a:lnTo>
                    <a:pt x="1620" y="3359"/>
                  </a:lnTo>
                  <a:lnTo>
                    <a:pt x="1505" y="3359"/>
                  </a:lnTo>
                  <a:lnTo>
                    <a:pt x="1273" y="3359"/>
                  </a:lnTo>
                  <a:lnTo>
                    <a:pt x="1157" y="3475"/>
                  </a:lnTo>
                  <a:lnTo>
                    <a:pt x="1042" y="3475"/>
                  </a:lnTo>
                  <a:lnTo>
                    <a:pt x="810" y="3475"/>
                  </a:lnTo>
                  <a:lnTo>
                    <a:pt x="694" y="3359"/>
                  </a:lnTo>
                  <a:lnTo>
                    <a:pt x="579" y="3359"/>
                  </a:lnTo>
                  <a:lnTo>
                    <a:pt x="579" y="3359"/>
                  </a:lnTo>
                  <a:lnTo>
                    <a:pt x="347" y="3127"/>
                  </a:lnTo>
                  <a:lnTo>
                    <a:pt x="231" y="2896"/>
                  </a:lnTo>
                  <a:lnTo>
                    <a:pt x="231" y="2664"/>
                  </a:lnTo>
                  <a:lnTo>
                    <a:pt x="116" y="2432"/>
                  </a:lnTo>
                  <a:lnTo>
                    <a:pt x="116" y="2201"/>
                  </a:lnTo>
                  <a:lnTo>
                    <a:pt x="116" y="1969"/>
                  </a:lnTo>
                  <a:lnTo>
                    <a:pt x="0" y="1738"/>
                  </a:lnTo>
                  <a:lnTo>
                    <a:pt x="0" y="1506"/>
                  </a:lnTo>
                  <a:lnTo>
                    <a:pt x="0" y="1506"/>
                  </a:lnTo>
                  <a:lnTo>
                    <a:pt x="926" y="1274"/>
                  </a:lnTo>
                  <a:lnTo>
                    <a:pt x="926" y="1274"/>
                  </a:lnTo>
                  <a:lnTo>
                    <a:pt x="926" y="1390"/>
                  </a:lnTo>
                  <a:lnTo>
                    <a:pt x="926" y="1506"/>
                  </a:lnTo>
                  <a:lnTo>
                    <a:pt x="926" y="1622"/>
                  </a:lnTo>
                  <a:lnTo>
                    <a:pt x="926" y="1738"/>
                  </a:lnTo>
                  <a:lnTo>
                    <a:pt x="926" y="1853"/>
                  </a:lnTo>
                  <a:lnTo>
                    <a:pt x="926" y="1853"/>
                  </a:lnTo>
                  <a:lnTo>
                    <a:pt x="926" y="1969"/>
                  </a:lnTo>
                  <a:lnTo>
                    <a:pt x="1042" y="2085"/>
                  </a:lnTo>
                  <a:lnTo>
                    <a:pt x="1042" y="2085"/>
                  </a:lnTo>
                  <a:lnTo>
                    <a:pt x="1157" y="1738"/>
                  </a:lnTo>
                  <a:lnTo>
                    <a:pt x="1273" y="1390"/>
                  </a:lnTo>
                  <a:lnTo>
                    <a:pt x="1389" y="1158"/>
                  </a:lnTo>
                  <a:lnTo>
                    <a:pt x="1620" y="927"/>
                  </a:lnTo>
                  <a:lnTo>
                    <a:pt x="1852" y="579"/>
                  </a:lnTo>
                  <a:lnTo>
                    <a:pt x="2083" y="348"/>
                  </a:lnTo>
                  <a:lnTo>
                    <a:pt x="2315" y="232"/>
                  </a:lnTo>
                  <a:lnTo>
                    <a:pt x="2546" y="0"/>
                  </a:lnTo>
                  <a:lnTo>
                    <a:pt x="2546" y="0"/>
                  </a:lnTo>
                  <a:lnTo>
                    <a:pt x="2662" y="116"/>
                  </a:lnTo>
                  <a:lnTo>
                    <a:pt x="2778" y="232"/>
                  </a:lnTo>
                  <a:lnTo>
                    <a:pt x="2778" y="348"/>
                  </a:lnTo>
                  <a:lnTo>
                    <a:pt x="2778" y="579"/>
                  </a:lnTo>
                  <a:lnTo>
                    <a:pt x="2778" y="695"/>
                  </a:lnTo>
                  <a:lnTo>
                    <a:pt x="2778" y="927"/>
                  </a:lnTo>
                  <a:lnTo>
                    <a:pt x="2778" y="1043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lnTo>
                    <a:pt x="2778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141560" y="4319280"/>
              <a:ext cx="827640" cy="254880"/>
            </a:xfrm>
            <a:custGeom>
              <a:avLst/>
              <a:gdLst/>
              <a:ahLst/>
              <a:rect l="l" t="t" r="r" b="b"/>
              <a:pathLst>
                <a:path w="23146" h="4749">
                  <a:moveTo>
                    <a:pt x="23146" y="0"/>
                  </a:moveTo>
                  <a:lnTo>
                    <a:pt x="22336" y="232"/>
                  </a:lnTo>
                  <a:lnTo>
                    <a:pt x="21526" y="464"/>
                  </a:lnTo>
                  <a:lnTo>
                    <a:pt x="20600" y="695"/>
                  </a:lnTo>
                  <a:lnTo>
                    <a:pt x="19790" y="1043"/>
                  </a:lnTo>
                  <a:lnTo>
                    <a:pt x="18980" y="1274"/>
                  </a:lnTo>
                  <a:lnTo>
                    <a:pt x="18054" y="1390"/>
                  </a:lnTo>
                  <a:lnTo>
                    <a:pt x="17128" y="1622"/>
                  </a:lnTo>
                  <a:lnTo>
                    <a:pt x="16318" y="1738"/>
                  </a:lnTo>
                  <a:lnTo>
                    <a:pt x="16318" y="1738"/>
                  </a:lnTo>
                  <a:lnTo>
                    <a:pt x="4397" y="4054"/>
                  </a:lnTo>
                  <a:lnTo>
                    <a:pt x="810" y="4749"/>
                  </a:lnTo>
                  <a:lnTo>
                    <a:pt x="0" y="4401"/>
                  </a:lnTo>
                  <a:lnTo>
                    <a:pt x="0" y="4401"/>
                  </a:lnTo>
                  <a:lnTo>
                    <a:pt x="2314" y="3938"/>
                  </a:lnTo>
                  <a:lnTo>
                    <a:pt x="4629" y="3591"/>
                  </a:lnTo>
                  <a:lnTo>
                    <a:pt x="6944" y="3127"/>
                  </a:lnTo>
                  <a:lnTo>
                    <a:pt x="9258" y="2664"/>
                  </a:lnTo>
                  <a:lnTo>
                    <a:pt x="11573" y="2201"/>
                  </a:lnTo>
                  <a:lnTo>
                    <a:pt x="13888" y="1738"/>
                  </a:lnTo>
                  <a:lnTo>
                    <a:pt x="16202" y="1274"/>
                  </a:lnTo>
                  <a:lnTo>
                    <a:pt x="18633" y="927"/>
                  </a:lnTo>
                  <a:lnTo>
                    <a:pt x="18633" y="927"/>
                  </a:lnTo>
                  <a:lnTo>
                    <a:pt x="19211" y="811"/>
                  </a:lnTo>
                  <a:lnTo>
                    <a:pt x="19674" y="695"/>
                  </a:lnTo>
                  <a:lnTo>
                    <a:pt x="20253" y="695"/>
                  </a:lnTo>
                  <a:lnTo>
                    <a:pt x="20831" y="579"/>
                  </a:lnTo>
                  <a:lnTo>
                    <a:pt x="21410" y="464"/>
                  </a:lnTo>
                  <a:lnTo>
                    <a:pt x="21989" y="348"/>
                  </a:lnTo>
                  <a:lnTo>
                    <a:pt x="22567" y="116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lnTo>
                    <a:pt x="23146" y="0"/>
                  </a:lnTo>
                  <a:close/>
                </a:path>
              </a:pathLst>
            </a:custGeom>
            <a:solidFill>
              <a:srgbClr val="ff9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56720" y="4356360"/>
              <a:ext cx="74160" cy="335520"/>
            </a:xfrm>
            <a:custGeom>
              <a:avLst/>
              <a:gdLst/>
              <a:ahLst/>
              <a:rect l="l" t="t" r="r" b="b"/>
              <a:pathLst>
                <a:path w="2083" h="6254">
                  <a:moveTo>
                    <a:pt x="1620" y="0"/>
                  </a:moveTo>
                  <a:lnTo>
                    <a:pt x="1273" y="695"/>
                  </a:lnTo>
                  <a:lnTo>
                    <a:pt x="1041" y="1506"/>
                  </a:lnTo>
                  <a:lnTo>
                    <a:pt x="925" y="2316"/>
                  </a:lnTo>
                  <a:lnTo>
                    <a:pt x="925" y="3127"/>
                  </a:lnTo>
                  <a:lnTo>
                    <a:pt x="1041" y="3822"/>
                  </a:lnTo>
                  <a:lnTo>
                    <a:pt x="1273" y="4633"/>
                  </a:lnTo>
                  <a:lnTo>
                    <a:pt x="1620" y="5328"/>
                  </a:lnTo>
                  <a:lnTo>
                    <a:pt x="2083" y="5907"/>
                  </a:lnTo>
                  <a:lnTo>
                    <a:pt x="2083" y="5907"/>
                  </a:lnTo>
                  <a:lnTo>
                    <a:pt x="2083" y="6254"/>
                  </a:lnTo>
                  <a:lnTo>
                    <a:pt x="2083" y="6254"/>
                  </a:lnTo>
                  <a:lnTo>
                    <a:pt x="1851" y="6254"/>
                  </a:lnTo>
                  <a:lnTo>
                    <a:pt x="1736" y="6254"/>
                  </a:lnTo>
                  <a:lnTo>
                    <a:pt x="1504" y="6254"/>
                  </a:lnTo>
                  <a:lnTo>
                    <a:pt x="1388" y="6138"/>
                  </a:lnTo>
                  <a:lnTo>
                    <a:pt x="1273" y="6022"/>
                  </a:lnTo>
                  <a:lnTo>
                    <a:pt x="1041" y="5907"/>
                  </a:lnTo>
                  <a:lnTo>
                    <a:pt x="925" y="5907"/>
                  </a:lnTo>
                  <a:lnTo>
                    <a:pt x="810" y="5791"/>
                  </a:lnTo>
                  <a:lnTo>
                    <a:pt x="810" y="5791"/>
                  </a:lnTo>
                  <a:lnTo>
                    <a:pt x="462" y="5212"/>
                  </a:lnTo>
                  <a:lnTo>
                    <a:pt x="231" y="4748"/>
                  </a:lnTo>
                  <a:lnTo>
                    <a:pt x="0" y="4169"/>
                  </a:lnTo>
                  <a:lnTo>
                    <a:pt x="0" y="3475"/>
                  </a:lnTo>
                  <a:lnTo>
                    <a:pt x="0" y="2896"/>
                  </a:lnTo>
                  <a:lnTo>
                    <a:pt x="0" y="2201"/>
                  </a:lnTo>
                  <a:lnTo>
                    <a:pt x="115" y="1622"/>
                  </a:lnTo>
                  <a:lnTo>
                    <a:pt x="231" y="1043"/>
                  </a:lnTo>
                  <a:lnTo>
                    <a:pt x="231" y="1043"/>
                  </a:lnTo>
                  <a:lnTo>
                    <a:pt x="347" y="927"/>
                  </a:lnTo>
                  <a:lnTo>
                    <a:pt x="462" y="695"/>
                  </a:lnTo>
                  <a:lnTo>
                    <a:pt x="694" y="579"/>
                  </a:lnTo>
                  <a:lnTo>
                    <a:pt x="810" y="348"/>
                  </a:lnTo>
                  <a:lnTo>
                    <a:pt x="925" y="232"/>
                  </a:lnTo>
                  <a:lnTo>
                    <a:pt x="1157" y="116"/>
                  </a:lnTo>
                  <a:lnTo>
                    <a:pt x="1388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lnTo>
                    <a:pt x="16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10720" y="4375080"/>
              <a:ext cx="37080" cy="279720"/>
            </a:xfrm>
            <a:custGeom>
              <a:avLst/>
              <a:gdLst/>
              <a:ahLst/>
              <a:rect l="l" t="t" r="r" b="b"/>
              <a:pathLst>
                <a:path w="1042" h="5211">
                  <a:moveTo>
                    <a:pt x="694" y="1968"/>
                  </a:moveTo>
                  <a:lnTo>
                    <a:pt x="1042" y="3706"/>
                  </a:lnTo>
                  <a:lnTo>
                    <a:pt x="810" y="5211"/>
                  </a:lnTo>
                  <a:lnTo>
                    <a:pt x="810" y="5211"/>
                  </a:lnTo>
                  <a:lnTo>
                    <a:pt x="463" y="4632"/>
                  </a:lnTo>
                  <a:lnTo>
                    <a:pt x="232" y="3937"/>
                  </a:lnTo>
                  <a:lnTo>
                    <a:pt x="0" y="3358"/>
                  </a:lnTo>
                  <a:lnTo>
                    <a:pt x="0" y="2663"/>
                  </a:lnTo>
                  <a:lnTo>
                    <a:pt x="0" y="1968"/>
                  </a:lnTo>
                  <a:lnTo>
                    <a:pt x="0" y="1274"/>
                  </a:lnTo>
                  <a:lnTo>
                    <a:pt x="232" y="579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694" y="231"/>
                  </a:lnTo>
                  <a:lnTo>
                    <a:pt x="810" y="463"/>
                  </a:lnTo>
                  <a:lnTo>
                    <a:pt x="810" y="695"/>
                  </a:lnTo>
                  <a:lnTo>
                    <a:pt x="810" y="926"/>
                  </a:lnTo>
                  <a:lnTo>
                    <a:pt x="694" y="1158"/>
                  </a:lnTo>
                  <a:lnTo>
                    <a:pt x="694" y="1505"/>
                  </a:lnTo>
                  <a:lnTo>
                    <a:pt x="579" y="1737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lnTo>
                    <a:pt x="694" y="19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878480" y="4381560"/>
              <a:ext cx="32760" cy="55800"/>
            </a:xfrm>
            <a:custGeom>
              <a:avLst/>
              <a:gdLst/>
              <a:ahLst/>
              <a:rect l="l" t="t" r="r" b="b"/>
              <a:pathLst>
                <a:path w="926" h="1042">
                  <a:moveTo>
                    <a:pt x="926" y="926"/>
                  </a:moveTo>
                  <a:lnTo>
                    <a:pt x="926" y="1042"/>
                  </a:lnTo>
                  <a:lnTo>
                    <a:pt x="926" y="1042"/>
                  </a:lnTo>
                  <a:lnTo>
                    <a:pt x="810" y="1042"/>
                  </a:lnTo>
                  <a:lnTo>
                    <a:pt x="694" y="1042"/>
                  </a:lnTo>
                  <a:lnTo>
                    <a:pt x="579" y="1042"/>
                  </a:lnTo>
                  <a:lnTo>
                    <a:pt x="463" y="926"/>
                  </a:lnTo>
                  <a:lnTo>
                    <a:pt x="347" y="926"/>
                  </a:lnTo>
                  <a:lnTo>
                    <a:pt x="231" y="810"/>
                  </a:lnTo>
                  <a:lnTo>
                    <a:pt x="116" y="69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463"/>
                  </a:lnTo>
                  <a:lnTo>
                    <a:pt x="0" y="347"/>
                  </a:lnTo>
                  <a:lnTo>
                    <a:pt x="0" y="231"/>
                  </a:lnTo>
                  <a:lnTo>
                    <a:pt x="116" y="115"/>
                  </a:lnTo>
                  <a:lnTo>
                    <a:pt x="116" y="115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463" y="0"/>
                  </a:lnTo>
                  <a:lnTo>
                    <a:pt x="463" y="0"/>
                  </a:lnTo>
                  <a:lnTo>
                    <a:pt x="579" y="0"/>
                  </a:lnTo>
                  <a:lnTo>
                    <a:pt x="694" y="115"/>
                  </a:lnTo>
                  <a:lnTo>
                    <a:pt x="810" y="115"/>
                  </a:lnTo>
                  <a:lnTo>
                    <a:pt x="810" y="347"/>
                  </a:lnTo>
                  <a:lnTo>
                    <a:pt x="810" y="463"/>
                  </a:lnTo>
                  <a:lnTo>
                    <a:pt x="926" y="579"/>
                  </a:lnTo>
                  <a:lnTo>
                    <a:pt x="926" y="810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lnTo>
                    <a:pt x="926" y="9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62320" y="4393800"/>
              <a:ext cx="227520" cy="391680"/>
            </a:xfrm>
            <a:custGeom>
              <a:avLst/>
              <a:gdLst/>
              <a:ahLst/>
              <a:rect l="l" t="t" r="r" b="b"/>
              <a:pathLst>
                <a:path w="6365" h="7296">
                  <a:moveTo>
                    <a:pt x="6365" y="5791"/>
                  </a:moveTo>
                  <a:lnTo>
                    <a:pt x="5671" y="6022"/>
                  </a:lnTo>
                  <a:lnTo>
                    <a:pt x="4977" y="6370"/>
                  </a:lnTo>
                  <a:lnTo>
                    <a:pt x="4282" y="6717"/>
                  </a:lnTo>
                  <a:lnTo>
                    <a:pt x="3588" y="7065"/>
                  </a:lnTo>
                  <a:lnTo>
                    <a:pt x="2778" y="7296"/>
                  </a:lnTo>
                  <a:lnTo>
                    <a:pt x="2083" y="7296"/>
                  </a:lnTo>
                  <a:lnTo>
                    <a:pt x="1389" y="6949"/>
                  </a:lnTo>
                  <a:lnTo>
                    <a:pt x="810" y="6370"/>
                  </a:lnTo>
                  <a:lnTo>
                    <a:pt x="810" y="6370"/>
                  </a:lnTo>
                  <a:lnTo>
                    <a:pt x="463" y="5906"/>
                  </a:lnTo>
                  <a:lnTo>
                    <a:pt x="116" y="5327"/>
                  </a:lnTo>
                  <a:lnTo>
                    <a:pt x="0" y="4748"/>
                  </a:lnTo>
                  <a:lnTo>
                    <a:pt x="0" y="4169"/>
                  </a:lnTo>
                  <a:lnTo>
                    <a:pt x="0" y="3590"/>
                  </a:lnTo>
                  <a:lnTo>
                    <a:pt x="0" y="3011"/>
                  </a:lnTo>
                  <a:lnTo>
                    <a:pt x="116" y="2432"/>
                  </a:lnTo>
                  <a:lnTo>
                    <a:pt x="232" y="1853"/>
                  </a:lnTo>
                  <a:lnTo>
                    <a:pt x="232" y="1853"/>
                  </a:lnTo>
                  <a:lnTo>
                    <a:pt x="695" y="1274"/>
                  </a:lnTo>
                  <a:lnTo>
                    <a:pt x="1157" y="811"/>
                  </a:lnTo>
                  <a:lnTo>
                    <a:pt x="1736" y="579"/>
                  </a:lnTo>
                  <a:lnTo>
                    <a:pt x="2431" y="463"/>
                  </a:lnTo>
                  <a:lnTo>
                    <a:pt x="3125" y="348"/>
                  </a:lnTo>
                  <a:lnTo>
                    <a:pt x="3935" y="232"/>
                  </a:lnTo>
                  <a:lnTo>
                    <a:pt x="4629" y="232"/>
                  </a:lnTo>
                  <a:lnTo>
                    <a:pt x="5208" y="0"/>
                  </a:lnTo>
                  <a:lnTo>
                    <a:pt x="5208" y="0"/>
                  </a:lnTo>
                  <a:lnTo>
                    <a:pt x="5092" y="811"/>
                  </a:lnTo>
                  <a:lnTo>
                    <a:pt x="4977" y="1506"/>
                  </a:lnTo>
                  <a:lnTo>
                    <a:pt x="4977" y="2316"/>
                  </a:lnTo>
                  <a:lnTo>
                    <a:pt x="4977" y="3127"/>
                  </a:lnTo>
                  <a:lnTo>
                    <a:pt x="5092" y="3938"/>
                  </a:lnTo>
                  <a:lnTo>
                    <a:pt x="5324" y="4633"/>
                  </a:lnTo>
                  <a:lnTo>
                    <a:pt x="5787" y="5327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lnTo>
                    <a:pt x="6365" y="5791"/>
                  </a:lnTo>
                  <a:close/>
                </a:path>
              </a:pathLst>
            </a:custGeom>
            <a:solidFill>
              <a:srgbClr val="ff3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26000" y="4399920"/>
              <a:ext cx="835920" cy="857880"/>
            </a:xfrm>
            <a:custGeom>
              <a:avLst/>
              <a:gdLst/>
              <a:ahLst/>
              <a:rect l="l" t="t" r="r" b="b"/>
              <a:pathLst>
                <a:path w="23378" h="15982">
                  <a:moveTo>
                    <a:pt x="23378" y="6949"/>
                  </a:moveTo>
                  <a:lnTo>
                    <a:pt x="23031" y="7180"/>
                  </a:lnTo>
                  <a:lnTo>
                    <a:pt x="22568" y="7412"/>
                  </a:lnTo>
                  <a:lnTo>
                    <a:pt x="22221" y="7528"/>
                  </a:lnTo>
                  <a:lnTo>
                    <a:pt x="21758" y="7528"/>
                  </a:lnTo>
                  <a:lnTo>
                    <a:pt x="21295" y="7643"/>
                  </a:lnTo>
                  <a:lnTo>
                    <a:pt x="20832" y="7643"/>
                  </a:lnTo>
                  <a:lnTo>
                    <a:pt x="20369" y="7759"/>
                  </a:lnTo>
                  <a:lnTo>
                    <a:pt x="19906" y="7875"/>
                  </a:lnTo>
                  <a:lnTo>
                    <a:pt x="19906" y="7875"/>
                  </a:lnTo>
                  <a:lnTo>
                    <a:pt x="16203" y="9033"/>
                  </a:lnTo>
                  <a:lnTo>
                    <a:pt x="2778" y="15055"/>
                  </a:lnTo>
                  <a:lnTo>
                    <a:pt x="2778" y="15055"/>
                  </a:lnTo>
                  <a:lnTo>
                    <a:pt x="2546" y="15171"/>
                  </a:lnTo>
                  <a:lnTo>
                    <a:pt x="2199" y="15403"/>
                  </a:lnTo>
                  <a:lnTo>
                    <a:pt x="1852" y="15518"/>
                  </a:lnTo>
                  <a:lnTo>
                    <a:pt x="1505" y="15750"/>
                  </a:lnTo>
                  <a:lnTo>
                    <a:pt x="1157" y="15866"/>
                  </a:lnTo>
                  <a:lnTo>
                    <a:pt x="810" y="15982"/>
                  </a:lnTo>
                  <a:lnTo>
                    <a:pt x="463" y="15982"/>
                  </a:lnTo>
                  <a:lnTo>
                    <a:pt x="0" y="15982"/>
                  </a:lnTo>
                  <a:lnTo>
                    <a:pt x="0" y="15982"/>
                  </a:lnTo>
                  <a:lnTo>
                    <a:pt x="0" y="14592"/>
                  </a:lnTo>
                  <a:lnTo>
                    <a:pt x="116" y="13202"/>
                  </a:lnTo>
                  <a:lnTo>
                    <a:pt x="116" y="11813"/>
                  </a:lnTo>
                  <a:lnTo>
                    <a:pt x="232" y="10423"/>
                  </a:lnTo>
                  <a:lnTo>
                    <a:pt x="347" y="8917"/>
                  </a:lnTo>
                  <a:lnTo>
                    <a:pt x="347" y="7528"/>
                  </a:lnTo>
                  <a:lnTo>
                    <a:pt x="463" y="6138"/>
                  </a:lnTo>
                  <a:lnTo>
                    <a:pt x="579" y="4748"/>
                  </a:lnTo>
                  <a:lnTo>
                    <a:pt x="579" y="4748"/>
                  </a:lnTo>
                  <a:lnTo>
                    <a:pt x="1157" y="4748"/>
                  </a:lnTo>
                  <a:lnTo>
                    <a:pt x="1620" y="4980"/>
                  </a:lnTo>
                  <a:lnTo>
                    <a:pt x="2083" y="5211"/>
                  </a:lnTo>
                  <a:lnTo>
                    <a:pt x="2546" y="5559"/>
                  </a:lnTo>
                  <a:lnTo>
                    <a:pt x="3009" y="5790"/>
                  </a:lnTo>
                  <a:lnTo>
                    <a:pt x="3472" y="5790"/>
                  </a:lnTo>
                  <a:lnTo>
                    <a:pt x="3935" y="5675"/>
                  </a:lnTo>
                  <a:lnTo>
                    <a:pt x="4514" y="5327"/>
                  </a:lnTo>
                  <a:lnTo>
                    <a:pt x="4514" y="5327"/>
                  </a:lnTo>
                  <a:lnTo>
                    <a:pt x="4514" y="5211"/>
                  </a:lnTo>
                  <a:lnTo>
                    <a:pt x="4629" y="5096"/>
                  </a:lnTo>
                  <a:lnTo>
                    <a:pt x="4629" y="4980"/>
                  </a:lnTo>
                  <a:lnTo>
                    <a:pt x="4745" y="4980"/>
                  </a:lnTo>
                  <a:lnTo>
                    <a:pt x="4745" y="4864"/>
                  </a:lnTo>
                  <a:lnTo>
                    <a:pt x="4745" y="4748"/>
                  </a:lnTo>
                  <a:lnTo>
                    <a:pt x="4861" y="4632"/>
                  </a:lnTo>
                  <a:lnTo>
                    <a:pt x="4861" y="4517"/>
                  </a:lnTo>
                  <a:lnTo>
                    <a:pt x="4861" y="4517"/>
                  </a:lnTo>
                  <a:lnTo>
                    <a:pt x="4861" y="4401"/>
                  </a:lnTo>
                  <a:lnTo>
                    <a:pt x="4745" y="4285"/>
                  </a:lnTo>
                  <a:lnTo>
                    <a:pt x="4745" y="4169"/>
                  </a:lnTo>
                  <a:lnTo>
                    <a:pt x="4745" y="4053"/>
                  </a:lnTo>
                  <a:lnTo>
                    <a:pt x="4745" y="3937"/>
                  </a:lnTo>
                  <a:lnTo>
                    <a:pt x="4629" y="3822"/>
                  </a:lnTo>
                  <a:lnTo>
                    <a:pt x="4629" y="3706"/>
                  </a:lnTo>
                  <a:lnTo>
                    <a:pt x="4514" y="3706"/>
                  </a:lnTo>
                  <a:lnTo>
                    <a:pt x="4514" y="3706"/>
                  </a:lnTo>
                  <a:lnTo>
                    <a:pt x="6828" y="3127"/>
                  </a:lnTo>
                  <a:lnTo>
                    <a:pt x="9143" y="2664"/>
                  </a:lnTo>
                  <a:lnTo>
                    <a:pt x="11458" y="2316"/>
                  </a:lnTo>
                  <a:lnTo>
                    <a:pt x="13772" y="1853"/>
                  </a:lnTo>
                  <a:lnTo>
                    <a:pt x="15971" y="1390"/>
                  </a:lnTo>
                  <a:lnTo>
                    <a:pt x="18286" y="1042"/>
                  </a:lnTo>
                  <a:lnTo>
                    <a:pt x="20600" y="579"/>
                  </a:lnTo>
                  <a:lnTo>
                    <a:pt x="22799" y="0"/>
                  </a:lnTo>
                  <a:lnTo>
                    <a:pt x="22799" y="0"/>
                  </a:lnTo>
                  <a:lnTo>
                    <a:pt x="22799" y="926"/>
                  </a:lnTo>
                  <a:lnTo>
                    <a:pt x="22799" y="1737"/>
                  </a:lnTo>
                  <a:lnTo>
                    <a:pt x="22799" y="2664"/>
                  </a:lnTo>
                  <a:lnTo>
                    <a:pt x="22799" y="3590"/>
                  </a:lnTo>
                  <a:lnTo>
                    <a:pt x="22915" y="4401"/>
                  </a:lnTo>
                  <a:lnTo>
                    <a:pt x="23031" y="5327"/>
                  </a:lnTo>
                  <a:lnTo>
                    <a:pt x="23147" y="6138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lnTo>
                    <a:pt x="23378" y="6949"/>
                  </a:lnTo>
                  <a:close/>
                </a:path>
              </a:pathLst>
            </a:cu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52120" y="4437360"/>
              <a:ext cx="20520" cy="111600"/>
            </a:xfrm>
            <a:custGeom>
              <a:avLst/>
              <a:gdLst/>
              <a:ahLst/>
              <a:rect l="l" t="t" r="r" b="b"/>
              <a:pathLst>
                <a:path w="579" h="2084">
                  <a:moveTo>
                    <a:pt x="579" y="695"/>
                  </a:moveTo>
                  <a:lnTo>
                    <a:pt x="116" y="2084"/>
                  </a:lnTo>
                  <a:lnTo>
                    <a:pt x="116" y="2084"/>
                  </a:lnTo>
                  <a:lnTo>
                    <a:pt x="0" y="1853"/>
                  </a:lnTo>
                  <a:lnTo>
                    <a:pt x="0" y="1621"/>
                  </a:lnTo>
                  <a:lnTo>
                    <a:pt x="0" y="1274"/>
                  </a:lnTo>
                  <a:lnTo>
                    <a:pt x="0" y="1042"/>
                  </a:lnTo>
                  <a:lnTo>
                    <a:pt x="0" y="810"/>
                  </a:lnTo>
                  <a:lnTo>
                    <a:pt x="0" y="579"/>
                  </a:lnTo>
                  <a:lnTo>
                    <a:pt x="0" y="23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232" y="0"/>
                  </a:lnTo>
                  <a:lnTo>
                    <a:pt x="348" y="116"/>
                  </a:lnTo>
                  <a:lnTo>
                    <a:pt x="348" y="116"/>
                  </a:lnTo>
                  <a:lnTo>
                    <a:pt x="463" y="231"/>
                  </a:lnTo>
                  <a:lnTo>
                    <a:pt x="463" y="347"/>
                  </a:lnTo>
                  <a:lnTo>
                    <a:pt x="463" y="463"/>
                  </a:lnTo>
                  <a:lnTo>
                    <a:pt x="463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87160" y="4654800"/>
              <a:ext cx="144720" cy="105480"/>
            </a:xfrm>
            <a:custGeom>
              <a:avLst/>
              <a:gdLst/>
              <a:ahLst/>
              <a:rect l="l" t="t" r="r" b="b"/>
              <a:pathLst>
                <a:path w="4050" h="1969">
                  <a:moveTo>
                    <a:pt x="1157" y="1274"/>
                  </a:moveTo>
                  <a:lnTo>
                    <a:pt x="1157" y="1158"/>
                  </a:lnTo>
                  <a:lnTo>
                    <a:pt x="1157" y="1042"/>
                  </a:lnTo>
                  <a:lnTo>
                    <a:pt x="1041" y="1042"/>
                  </a:lnTo>
                  <a:lnTo>
                    <a:pt x="1041" y="927"/>
                  </a:lnTo>
                  <a:lnTo>
                    <a:pt x="1041" y="811"/>
                  </a:lnTo>
                  <a:lnTo>
                    <a:pt x="925" y="695"/>
                  </a:lnTo>
                  <a:lnTo>
                    <a:pt x="925" y="579"/>
                  </a:lnTo>
                  <a:lnTo>
                    <a:pt x="925" y="463"/>
                  </a:lnTo>
                  <a:lnTo>
                    <a:pt x="925" y="463"/>
                  </a:lnTo>
                  <a:lnTo>
                    <a:pt x="1157" y="463"/>
                  </a:lnTo>
                  <a:lnTo>
                    <a:pt x="1273" y="579"/>
                  </a:lnTo>
                  <a:lnTo>
                    <a:pt x="1388" y="695"/>
                  </a:lnTo>
                  <a:lnTo>
                    <a:pt x="1504" y="927"/>
                  </a:lnTo>
                  <a:lnTo>
                    <a:pt x="1620" y="1042"/>
                  </a:lnTo>
                  <a:lnTo>
                    <a:pt x="1620" y="1158"/>
                  </a:lnTo>
                  <a:lnTo>
                    <a:pt x="1851" y="1274"/>
                  </a:lnTo>
                  <a:lnTo>
                    <a:pt x="1967" y="1390"/>
                  </a:lnTo>
                  <a:lnTo>
                    <a:pt x="1967" y="1390"/>
                  </a:lnTo>
                  <a:lnTo>
                    <a:pt x="1851" y="1274"/>
                  </a:lnTo>
                  <a:lnTo>
                    <a:pt x="1851" y="1158"/>
                  </a:lnTo>
                  <a:lnTo>
                    <a:pt x="1851" y="1042"/>
                  </a:lnTo>
                  <a:lnTo>
                    <a:pt x="1736" y="927"/>
                  </a:lnTo>
                  <a:lnTo>
                    <a:pt x="1736" y="811"/>
                  </a:lnTo>
                  <a:lnTo>
                    <a:pt x="1736" y="695"/>
                  </a:lnTo>
                  <a:lnTo>
                    <a:pt x="1620" y="579"/>
                  </a:lnTo>
                  <a:lnTo>
                    <a:pt x="1620" y="463"/>
                  </a:lnTo>
                  <a:lnTo>
                    <a:pt x="1620" y="463"/>
                  </a:lnTo>
                  <a:lnTo>
                    <a:pt x="1851" y="463"/>
                  </a:lnTo>
                  <a:lnTo>
                    <a:pt x="1967" y="579"/>
                  </a:lnTo>
                  <a:lnTo>
                    <a:pt x="2083" y="811"/>
                  </a:lnTo>
                  <a:lnTo>
                    <a:pt x="2083" y="927"/>
                  </a:lnTo>
                  <a:lnTo>
                    <a:pt x="2198" y="1158"/>
                  </a:lnTo>
                  <a:lnTo>
                    <a:pt x="2314" y="1274"/>
                  </a:lnTo>
                  <a:lnTo>
                    <a:pt x="2546" y="1274"/>
                  </a:lnTo>
                  <a:lnTo>
                    <a:pt x="2777" y="1274"/>
                  </a:lnTo>
                  <a:lnTo>
                    <a:pt x="2777" y="1274"/>
                  </a:lnTo>
                  <a:lnTo>
                    <a:pt x="2661" y="1158"/>
                  </a:lnTo>
                  <a:lnTo>
                    <a:pt x="2661" y="1042"/>
                  </a:lnTo>
                  <a:lnTo>
                    <a:pt x="2661" y="1042"/>
                  </a:lnTo>
                  <a:lnTo>
                    <a:pt x="2546" y="927"/>
                  </a:lnTo>
                  <a:lnTo>
                    <a:pt x="2546" y="811"/>
                  </a:lnTo>
                  <a:lnTo>
                    <a:pt x="2430" y="695"/>
                  </a:lnTo>
                  <a:lnTo>
                    <a:pt x="2430" y="695"/>
                  </a:lnTo>
                  <a:lnTo>
                    <a:pt x="2430" y="579"/>
                  </a:lnTo>
                  <a:lnTo>
                    <a:pt x="2430" y="579"/>
                  </a:lnTo>
                  <a:lnTo>
                    <a:pt x="2546" y="579"/>
                  </a:lnTo>
                  <a:lnTo>
                    <a:pt x="2777" y="695"/>
                  </a:lnTo>
                  <a:lnTo>
                    <a:pt x="2777" y="811"/>
                  </a:lnTo>
                  <a:lnTo>
                    <a:pt x="2893" y="927"/>
                  </a:lnTo>
                  <a:lnTo>
                    <a:pt x="3009" y="1042"/>
                  </a:lnTo>
                  <a:lnTo>
                    <a:pt x="3124" y="1158"/>
                  </a:lnTo>
                  <a:lnTo>
                    <a:pt x="3356" y="1158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471" y="1042"/>
                  </a:lnTo>
                  <a:lnTo>
                    <a:pt x="3356" y="927"/>
                  </a:lnTo>
                  <a:lnTo>
                    <a:pt x="3240" y="811"/>
                  </a:lnTo>
                  <a:lnTo>
                    <a:pt x="3124" y="695"/>
                  </a:lnTo>
                  <a:lnTo>
                    <a:pt x="3009" y="579"/>
                  </a:lnTo>
                  <a:lnTo>
                    <a:pt x="3009" y="463"/>
                  </a:lnTo>
                  <a:lnTo>
                    <a:pt x="3009" y="348"/>
                  </a:lnTo>
                  <a:lnTo>
                    <a:pt x="3009" y="232"/>
                  </a:lnTo>
                  <a:lnTo>
                    <a:pt x="3009" y="232"/>
                  </a:lnTo>
                  <a:lnTo>
                    <a:pt x="3124" y="348"/>
                  </a:lnTo>
                  <a:lnTo>
                    <a:pt x="3240" y="348"/>
                  </a:lnTo>
                  <a:lnTo>
                    <a:pt x="3356" y="463"/>
                  </a:lnTo>
                  <a:lnTo>
                    <a:pt x="3471" y="579"/>
                  </a:lnTo>
                  <a:lnTo>
                    <a:pt x="3587" y="695"/>
                  </a:lnTo>
                  <a:lnTo>
                    <a:pt x="3819" y="811"/>
                  </a:lnTo>
                  <a:lnTo>
                    <a:pt x="3934" y="811"/>
                  </a:lnTo>
                  <a:lnTo>
                    <a:pt x="4050" y="927"/>
                  </a:lnTo>
                  <a:lnTo>
                    <a:pt x="4050" y="927"/>
                  </a:lnTo>
                  <a:lnTo>
                    <a:pt x="3934" y="1042"/>
                  </a:lnTo>
                  <a:lnTo>
                    <a:pt x="3819" y="1042"/>
                  </a:lnTo>
                  <a:lnTo>
                    <a:pt x="3703" y="1158"/>
                  </a:lnTo>
                  <a:lnTo>
                    <a:pt x="3587" y="1158"/>
                  </a:lnTo>
                  <a:lnTo>
                    <a:pt x="3471" y="1158"/>
                  </a:lnTo>
                  <a:lnTo>
                    <a:pt x="3356" y="1158"/>
                  </a:lnTo>
                  <a:lnTo>
                    <a:pt x="3356" y="1274"/>
                  </a:lnTo>
                  <a:lnTo>
                    <a:pt x="3471" y="1390"/>
                  </a:lnTo>
                  <a:lnTo>
                    <a:pt x="3471" y="1390"/>
                  </a:lnTo>
                  <a:lnTo>
                    <a:pt x="3009" y="1506"/>
                  </a:lnTo>
                  <a:lnTo>
                    <a:pt x="3009" y="1506"/>
                  </a:lnTo>
                  <a:lnTo>
                    <a:pt x="2893" y="1621"/>
                  </a:lnTo>
                  <a:lnTo>
                    <a:pt x="2777" y="1737"/>
                  </a:lnTo>
                  <a:lnTo>
                    <a:pt x="2661" y="1737"/>
                  </a:lnTo>
                  <a:lnTo>
                    <a:pt x="2546" y="1853"/>
                  </a:lnTo>
                  <a:lnTo>
                    <a:pt x="2314" y="1853"/>
                  </a:lnTo>
                  <a:lnTo>
                    <a:pt x="2198" y="1853"/>
                  </a:lnTo>
                  <a:lnTo>
                    <a:pt x="1967" y="1969"/>
                  </a:lnTo>
                  <a:lnTo>
                    <a:pt x="1851" y="1969"/>
                  </a:lnTo>
                  <a:lnTo>
                    <a:pt x="1851" y="1969"/>
                  </a:lnTo>
                  <a:lnTo>
                    <a:pt x="1736" y="1969"/>
                  </a:lnTo>
                  <a:lnTo>
                    <a:pt x="1504" y="1969"/>
                  </a:lnTo>
                  <a:lnTo>
                    <a:pt x="1273" y="1853"/>
                  </a:lnTo>
                  <a:lnTo>
                    <a:pt x="1157" y="1737"/>
                  </a:lnTo>
                  <a:lnTo>
                    <a:pt x="925" y="1621"/>
                  </a:lnTo>
                  <a:lnTo>
                    <a:pt x="810" y="1506"/>
                  </a:lnTo>
                  <a:lnTo>
                    <a:pt x="694" y="1390"/>
                  </a:lnTo>
                  <a:lnTo>
                    <a:pt x="462" y="1274"/>
                  </a:lnTo>
                  <a:lnTo>
                    <a:pt x="462" y="1274"/>
                  </a:lnTo>
                  <a:lnTo>
                    <a:pt x="347" y="1158"/>
                  </a:lnTo>
                  <a:lnTo>
                    <a:pt x="231" y="927"/>
                  </a:lnTo>
                  <a:lnTo>
                    <a:pt x="231" y="811"/>
                  </a:lnTo>
                  <a:lnTo>
                    <a:pt x="115" y="579"/>
                  </a:lnTo>
                  <a:lnTo>
                    <a:pt x="0" y="463"/>
                  </a:lnTo>
                  <a:lnTo>
                    <a:pt x="0" y="232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5" y="116"/>
                  </a:lnTo>
                  <a:lnTo>
                    <a:pt x="231" y="348"/>
                  </a:lnTo>
                  <a:lnTo>
                    <a:pt x="347" y="463"/>
                  </a:lnTo>
                  <a:lnTo>
                    <a:pt x="462" y="695"/>
                  </a:lnTo>
                  <a:lnTo>
                    <a:pt x="578" y="811"/>
                  </a:lnTo>
                  <a:lnTo>
                    <a:pt x="810" y="1042"/>
                  </a:lnTo>
                  <a:lnTo>
                    <a:pt x="925" y="1158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lnTo>
                    <a:pt x="1157" y="1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19640" y="4654800"/>
              <a:ext cx="37080" cy="43200"/>
            </a:xfrm>
            <a:custGeom>
              <a:avLst/>
              <a:gdLst/>
              <a:ahLst/>
              <a:rect l="l" t="t" r="r" b="b"/>
              <a:pathLst>
                <a:path w="1042" h="811">
                  <a:moveTo>
                    <a:pt x="1042" y="811"/>
                  </a:moveTo>
                  <a:lnTo>
                    <a:pt x="926" y="811"/>
                  </a:lnTo>
                  <a:lnTo>
                    <a:pt x="810" y="811"/>
                  </a:lnTo>
                  <a:lnTo>
                    <a:pt x="694" y="811"/>
                  </a:lnTo>
                  <a:lnTo>
                    <a:pt x="579" y="811"/>
                  </a:lnTo>
                  <a:lnTo>
                    <a:pt x="463" y="695"/>
                  </a:lnTo>
                  <a:lnTo>
                    <a:pt x="347" y="695"/>
                  </a:lnTo>
                  <a:lnTo>
                    <a:pt x="231" y="579"/>
                  </a:lnTo>
                  <a:lnTo>
                    <a:pt x="116" y="579"/>
                  </a:lnTo>
                  <a:lnTo>
                    <a:pt x="116" y="5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6" y="116"/>
                  </a:lnTo>
                  <a:lnTo>
                    <a:pt x="231" y="232"/>
                  </a:lnTo>
                  <a:lnTo>
                    <a:pt x="463" y="348"/>
                  </a:lnTo>
                  <a:lnTo>
                    <a:pt x="694" y="348"/>
                  </a:lnTo>
                  <a:lnTo>
                    <a:pt x="810" y="348"/>
                  </a:lnTo>
                  <a:lnTo>
                    <a:pt x="926" y="463"/>
                  </a:lnTo>
                  <a:lnTo>
                    <a:pt x="1042" y="579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lnTo>
                    <a:pt x="1042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984600" y="4661280"/>
              <a:ext cx="45360" cy="553320"/>
            </a:xfrm>
            <a:custGeom>
              <a:avLst/>
              <a:gdLst/>
              <a:ahLst/>
              <a:rect l="l" t="t" r="r" b="b"/>
              <a:pathLst>
                <a:path w="1273" h="10307">
                  <a:moveTo>
                    <a:pt x="1273" y="116"/>
                  </a:moveTo>
                  <a:lnTo>
                    <a:pt x="1273" y="1274"/>
                  </a:lnTo>
                  <a:lnTo>
                    <a:pt x="1157" y="2548"/>
                  </a:lnTo>
                  <a:lnTo>
                    <a:pt x="1157" y="3706"/>
                  </a:lnTo>
                  <a:lnTo>
                    <a:pt x="1041" y="4980"/>
                  </a:lnTo>
                  <a:lnTo>
                    <a:pt x="926" y="6254"/>
                  </a:lnTo>
                  <a:lnTo>
                    <a:pt x="810" y="7528"/>
                  </a:lnTo>
                  <a:lnTo>
                    <a:pt x="694" y="8917"/>
                  </a:lnTo>
                  <a:lnTo>
                    <a:pt x="694" y="10191"/>
                  </a:lnTo>
                  <a:lnTo>
                    <a:pt x="694" y="10191"/>
                  </a:lnTo>
                  <a:lnTo>
                    <a:pt x="578" y="10191"/>
                  </a:lnTo>
                  <a:lnTo>
                    <a:pt x="463" y="10191"/>
                  </a:lnTo>
                  <a:lnTo>
                    <a:pt x="347" y="10191"/>
                  </a:lnTo>
                  <a:lnTo>
                    <a:pt x="347" y="10307"/>
                  </a:lnTo>
                  <a:lnTo>
                    <a:pt x="231" y="10307"/>
                  </a:lnTo>
                  <a:lnTo>
                    <a:pt x="116" y="10307"/>
                  </a:lnTo>
                  <a:lnTo>
                    <a:pt x="116" y="10307"/>
                  </a:lnTo>
                  <a:lnTo>
                    <a:pt x="0" y="10307"/>
                  </a:lnTo>
                  <a:lnTo>
                    <a:pt x="0" y="10307"/>
                  </a:lnTo>
                  <a:lnTo>
                    <a:pt x="0" y="9033"/>
                  </a:lnTo>
                  <a:lnTo>
                    <a:pt x="116" y="7759"/>
                  </a:lnTo>
                  <a:lnTo>
                    <a:pt x="231" y="6485"/>
                  </a:lnTo>
                  <a:lnTo>
                    <a:pt x="347" y="5211"/>
                  </a:lnTo>
                  <a:lnTo>
                    <a:pt x="463" y="4053"/>
                  </a:lnTo>
                  <a:lnTo>
                    <a:pt x="578" y="2779"/>
                  </a:lnTo>
                  <a:lnTo>
                    <a:pt x="694" y="1505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926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810" y="232"/>
                  </a:lnTo>
                  <a:lnTo>
                    <a:pt x="694" y="232"/>
                  </a:lnTo>
                  <a:lnTo>
                    <a:pt x="694" y="232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694" y="116"/>
                  </a:lnTo>
                  <a:lnTo>
                    <a:pt x="810" y="116"/>
                  </a:lnTo>
                  <a:lnTo>
                    <a:pt x="810" y="0"/>
                  </a:lnTo>
                  <a:lnTo>
                    <a:pt x="926" y="0"/>
                  </a:lnTo>
                  <a:lnTo>
                    <a:pt x="1041" y="116"/>
                  </a:lnTo>
                  <a:lnTo>
                    <a:pt x="1157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lnTo>
                    <a:pt x="1273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959760" y="4679640"/>
              <a:ext cx="45360" cy="528480"/>
            </a:xfrm>
            <a:custGeom>
              <a:avLst/>
              <a:gdLst/>
              <a:ahLst/>
              <a:rect l="l" t="t" r="r" b="b"/>
              <a:pathLst>
                <a:path w="1273" h="9844">
                  <a:moveTo>
                    <a:pt x="1273" y="0"/>
                  </a:moveTo>
                  <a:lnTo>
                    <a:pt x="1042" y="1158"/>
                  </a:lnTo>
                  <a:lnTo>
                    <a:pt x="926" y="2432"/>
                  </a:lnTo>
                  <a:lnTo>
                    <a:pt x="811" y="3590"/>
                  </a:lnTo>
                  <a:lnTo>
                    <a:pt x="695" y="4864"/>
                  </a:lnTo>
                  <a:lnTo>
                    <a:pt x="579" y="6138"/>
                  </a:lnTo>
                  <a:lnTo>
                    <a:pt x="463" y="7412"/>
                  </a:lnTo>
                  <a:lnTo>
                    <a:pt x="463" y="8570"/>
                  </a:lnTo>
                  <a:lnTo>
                    <a:pt x="348" y="9844"/>
                  </a:lnTo>
                  <a:lnTo>
                    <a:pt x="348" y="9844"/>
                  </a:lnTo>
                  <a:lnTo>
                    <a:pt x="463" y="9844"/>
                  </a:lnTo>
                  <a:lnTo>
                    <a:pt x="463" y="9844"/>
                  </a:lnTo>
                  <a:lnTo>
                    <a:pt x="348" y="9844"/>
                  </a:lnTo>
                  <a:lnTo>
                    <a:pt x="348" y="9728"/>
                  </a:lnTo>
                  <a:lnTo>
                    <a:pt x="232" y="9728"/>
                  </a:lnTo>
                  <a:lnTo>
                    <a:pt x="116" y="9728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9844"/>
                  </a:lnTo>
                  <a:lnTo>
                    <a:pt x="0" y="8570"/>
                  </a:lnTo>
                  <a:lnTo>
                    <a:pt x="116" y="7412"/>
                  </a:lnTo>
                  <a:lnTo>
                    <a:pt x="116" y="6254"/>
                  </a:lnTo>
                  <a:lnTo>
                    <a:pt x="232" y="4980"/>
                  </a:lnTo>
                  <a:lnTo>
                    <a:pt x="348" y="3822"/>
                  </a:lnTo>
                  <a:lnTo>
                    <a:pt x="463" y="2548"/>
                  </a:lnTo>
                  <a:lnTo>
                    <a:pt x="579" y="1390"/>
                  </a:lnTo>
                  <a:lnTo>
                    <a:pt x="811" y="232"/>
                  </a:lnTo>
                  <a:lnTo>
                    <a:pt x="811" y="232"/>
                  </a:lnTo>
                  <a:lnTo>
                    <a:pt x="926" y="232"/>
                  </a:lnTo>
                  <a:lnTo>
                    <a:pt x="926" y="116"/>
                  </a:lnTo>
                  <a:lnTo>
                    <a:pt x="1042" y="116"/>
                  </a:lnTo>
                  <a:lnTo>
                    <a:pt x="1042" y="116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926640" y="4698360"/>
              <a:ext cx="45360" cy="472320"/>
            </a:xfrm>
            <a:custGeom>
              <a:avLst/>
              <a:gdLst/>
              <a:ahLst/>
              <a:rect l="l" t="t" r="r" b="b"/>
              <a:pathLst>
                <a:path w="1273" h="8801">
                  <a:moveTo>
                    <a:pt x="578" y="8801"/>
                  </a:moveTo>
                  <a:lnTo>
                    <a:pt x="462" y="8801"/>
                  </a:lnTo>
                  <a:lnTo>
                    <a:pt x="462" y="8801"/>
                  </a:lnTo>
                  <a:lnTo>
                    <a:pt x="347" y="8801"/>
                  </a:lnTo>
                  <a:lnTo>
                    <a:pt x="231" y="8801"/>
                  </a:lnTo>
                  <a:lnTo>
                    <a:pt x="231" y="8801"/>
                  </a:lnTo>
                  <a:lnTo>
                    <a:pt x="115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0" y="8801"/>
                  </a:lnTo>
                  <a:lnTo>
                    <a:pt x="115" y="7643"/>
                  </a:lnTo>
                  <a:lnTo>
                    <a:pt x="231" y="6485"/>
                  </a:lnTo>
                  <a:lnTo>
                    <a:pt x="347" y="5443"/>
                  </a:lnTo>
                  <a:lnTo>
                    <a:pt x="462" y="4285"/>
                  </a:lnTo>
                  <a:lnTo>
                    <a:pt x="694" y="3127"/>
                  </a:lnTo>
                  <a:lnTo>
                    <a:pt x="925" y="2084"/>
                  </a:lnTo>
                  <a:lnTo>
                    <a:pt x="1041" y="1042"/>
                  </a:lnTo>
                  <a:lnTo>
                    <a:pt x="1273" y="0"/>
                  </a:lnTo>
                  <a:lnTo>
                    <a:pt x="1273" y="0"/>
                  </a:lnTo>
                  <a:lnTo>
                    <a:pt x="1157" y="1042"/>
                  </a:lnTo>
                  <a:lnTo>
                    <a:pt x="1041" y="2200"/>
                  </a:lnTo>
                  <a:lnTo>
                    <a:pt x="925" y="3242"/>
                  </a:lnTo>
                  <a:lnTo>
                    <a:pt x="810" y="4401"/>
                  </a:lnTo>
                  <a:lnTo>
                    <a:pt x="810" y="5443"/>
                  </a:lnTo>
                  <a:lnTo>
                    <a:pt x="694" y="6485"/>
                  </a:lnTo>
                  <a:lnTo>
                    <a:pt x="694" y="7643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lnTo>
                    <a:pt x="578" y="88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642320" y="4860000"/>
              <a:ext cx="264600" cy="945000"/>
            </a:xfrm>
            <a:custGeom>
              <a:avLst/>
              <a:gdLst/>
              <a:ahLst/>
              <a:rect l="l" t="t" r="r" b="b"/>
              <a:pathLst>
                <a:path w="7407" h="17603">
                  <a:moveTo>
                    <a:pt x="3356" y="0"/>
                  </a:moveTo>
                  <a:lnTo>
                    <a:pt x="3588" y="463"/>
                  </a:lnTo>
                  <a:lnTo>
                    <a:pt x="3935" y="1042"/>
                  </a:lnTo>
                  <a:lnTo>
                    <a:pt x="4282" y="1505"/>
                  </a:lnTo>
                  <a:lnTo>
                    <a:pt x="4630" y="1969"/>
                  </a:lnTo>
                  <a:lnTo>
                    <a:pt x="4861" y="2432"/>
                  </a:lnTo>
                  <a:lnTo>
                    <a:pt x="5208" y="2895"/>
                  </a:lnTo>
                  <a:lnTo>
                    <a:pt x="5440" y="3358"/>
                  </a:lnTo>
                  <a:lnTo>
                    <a:pt x="5555" y="3937"/>
                  </a:lnTo>
                  <a:lnTo>
                    <a:pt x="5555" y="3937"/>
                  </a:lnTo>
                  <a:lnTo>
                    <a:pt x="5555" y="4632"/>
                  </a:lnTo>
                  <a:lnTo>
                    <a:pt x="5324" y="5443"/>
                  </a:lnTo>
                  <a:lnTo>
                    <a:pt x="5208" y="6254"/>
                  </a:lnTo>
                  <a:lnTo>
                    <a:pt x="4977" y="7064"/>
                  </a:lnTo>
                  <a:lnTo>
                    <a:pt x="4861" y="7875"/>
                  </a:lnTo>
                  <a:lnTo>
                    <a:pt x="4745" y="8686"/>
                  </a:lnTo>
                  <a:lnTo>
                    <a:pt x="4630" y="9496"/>
                  </a:lnTo>
                  <a:lnTo>
                    <a:pt x="4514" y="10307"/>
                  </a:lnTo>
                  <a:lnTo>
                    <a:pt x="4514" y="10307"/>
                  </a:lnTo>
                  <a:lnTo>
                    <a:pt x="4630" y="10654"/>
                  </a:lnTo>
                  <a:lnTo>
                    <a:pt x="4861" y="10886"/>
                  </a:lnTo>
                  <a:lnTo>
                    <a:pt x="5092" y="11118"/>
                  </a:lnTo>
                  <a:lnTo>
                    <a:pt x="5208" y="11349"/>
                  </a:lnTo>
                  <a:lnTo>
                    <a:pt x="5440" y="11697"/>
                  </a:lnTo>
                  <a:lnTo>
                    <a:pt x="5555" y="11928"/>
                  </a:lnTo>
                  <a:lnTo>
                    <a:pt x="5787" y="12160"/>
                  </a:lnTo>
                  <a:lnTo>
                    <a:pt x="5903" y="12507"/>
                  </a:lnTo>
                  <a:lnTo>
                    <a:pt x="5903" y="12507"/>
                  </a:lnTo>
                  <a:lnTo>
                    <a:pt x="5440" y="12507"/>
                  </a:lnTo>
                  <a:lnTo>
                    <a:pt x="5208" y="12623"/>
                  </a:lnTo>
                  <a:lnTo>
                    <a:pt x="4861" y="12739"/>
                  </a:lnTo>
                  <a:lnTo>
                    <a:pt x="4514" y="12739"/>
                  </a:lnTo>
                  <a:lnTo>
                    <a:pt x="4167" y="12855"/>
                  </a:lnTo>
                  <a:lnTo>
                    <a:pt x="3935" y="13086"/>
                  </a:lnTo>
                  <a:lnTo>
                    <a:pt x="3588" y="13202"/>
                  </a:lnTo>
                  <a:lnTo>
                    <a:pt x="3356" y="13434"/>
                  </a:lnTo>
                  <a:lnTo>
                    <a:pt x="3356" y="13434"/>
                  </a:lnTo>
                  <a:lnTo>
                    <a:pt x="3704" y="13318"/>
                  </a:lnTo>
                  <a:lnTo>
                    <a:pt x="4051" y="13318"/>
                  </a:lnTo>
                  <a:lnTo>
                    <a:pt x="4398" y="13202"/>
                  </a:lnTo>
                  <a:lnTo>
                    <a:pt x="4745" y="13086"/>
                  </a:lnTo>
                  <a:lnTo>
                    <a:pt x="5092" y="13086"/>
                  </a:lnTo>
                  <a:lnTo>
                    <a:pt x="5440" y="12971"/>
                  </a:lnTo>
                  <a:lnTo>
                    <a:pt x="5787" y="12971"/>
                  </a:lnTo>
                  <a:lnTo>
                    <a:pt x="6134" y="12971"/>
                  </a:lnTo>
                  <a:lnTo>
                    <a:pt x="6134" y="12971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134" y="13086"/>
                  </a:lnTo>
                  <a:lnTo>
                    <a:pt x="6250" y="13086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202"/>
                  </a:lnTo>
                  <a:lnTo>
                    <a:pt x="6250" y="13318"/>
                  </a:lnTo>
                  <a:lnTo>
                    <a:pt x="6250" y="13318"/>
                  </a:lnTo>
                  <a:lnTo>
                    <a:pt x="5903" y="13318"/>
                  </a:lnTo>
                  <a:lnTo>
                    <a:pt x="5555" y="13318"/>
                  </a:lnTo>
                  <a:lnTo>
                    <a:pt x="5324" y="13434"/>
                  </a:lnTo>
                  <a:lnTo>
                    <a:pt x="5092" y="13550"/>
                  </a:lnTo>
                  <a:lnTo>
                    <a:pt x="4745" y="13781"/>
                  </a:lnTo>
                  <a:lnTo>
                    <a:pt x="4514" y="13897"/>
                  </a:lnTo>
                  <a:lnTo>
                    <a:pt x="4282" y="14129"/>
                  </a:lnTo>
                  <a:lnTo>
                    <a:pt x="4051" y="14244"/>
                  </a:lnTo>
                  <a:lnTo>
                    <a:pt x="4051" y="14244"/>
                  </a:lnTo>
                  <a:lnTo>
                    <a:pt x="4167" y="14244"/>
                  </a:lnTo>
                  <a:lnTo>
                    <a:pt x="4282" y="14244"/>
                  </a:lnTo>
                  <a:lnTo>
                    <a:pt x="4514" y="14244"/>
                  </a:lnTo>
                  <a:lnTo>
                    <a:pt x="4630" y="14129"/>
                  </a:lnTo>
                  <a:lnTo>
                    <a:pt x="4745" y="14013"/>
                  </a:lnTo>
                  <a:lnTo>
                    <a:pt x="4861" y="14013"/>
                  </a:lnTo>
                  <a:lnTo>
                    <a:pt x="5092" y="14013"/>
                  </a:lnTo>
                  <a:lnTo>
                    <a:pt x="5208" y="13897"/>
                  </a:lnTo>
                  <a:lnTo>
                    <a:pt x="5208" y="13897"/>
                  </a:lnTo>
                  <a:lnTo>
                    <a:pt x="5440" y="13897"/>
                  </a:lnTo>
                  <a:lnTo>
                    <a:pt x="5555" y="13897"/>
                  </a:lnTo>
                  <a:lnTo>
                    <a:pt x="5787" y="13897"/>
                  </a:lnTo>
                  <a:lnTo>
                    <a:pt x="6018" y="13781"/>
                  </a:lnTo>
                  <a:lnTo>
                    <a:pt x="6134" y="13781"/>
                  </a:lnTo>
                  <a:lnTo>
                    <a:pt x="6366" y="13781"/>
                  </a:lnTo>
                  <a:lnTo>
                    <a:pt x="6481" y="13781"/>
                  </a:lnTo>
                  <a:lnTo>
                    <a:pt x="6713" y="13781"/>
                  </a:lnTo>
                  <a:lnTo>
                    <a:pt x="6713" y="13781"/>
                  </a:lnTo>
                  <a:lnTo>
                    <a:pt x="6828" y="14244"/>
                  </a:lnTo>
                  <a:lnTo>
                    <a:pt x="7060" y="14592"/>
                  </a:lnTo>
                  <a:lnTo>
                    <a:pt x="7176" y="15055"/>
                  </a:lnTo>
                  <a:lnTo>
                    <a:pt x="7291" y="15518"/>
                  </a:lnTo>
                  <a:lnTo>
                    <a:pt x="7407" y="15982"/>
                  </a:lnTo>
                  <a:lnTo>
                    <a:pt x="7407" y="16329"/>
                  </a:lnTo>
                  <a:lnTo>
                    <a:pt x="7407" y="16792"/>
                  </a:lnTo>
                  <a:lnTo>
                    <a:pt x="7176" y="17255"/>
                  </a:lnTo>
                  <a:lnTo>
                    <a:pt x="7176" y="17255"/>
                  </a:lnTo>
                  <a:lnTo>
                    <a:pt x="6713" y="17371"/>
                  </a:lnTo>
                  <a:lnTo>
                    <a:pt x="6250" y="17487"/>
                  </a:lnTo>
                  <a:lnTo>
                    <a:pt x="5671" y="17603"/>
                  </a:lnTo>
                  <a:lnTo>
                    <a:pt x="5208" y="17487"/>
                  </a:lnTo>
                  <a:lnTo>
                    <a:pt x="4745" y="17371"/>
                  </a:lnTo>
                  <a:lnTo>
                    <a:pt x="4167" y="17255"/>
                  </a:lnTo>
                  <a:lnTo>
                    <a:pt x="3704" y="17024"/>
                  </a:lnTo>
                  <a:lnTo>
                    <a:pt x="3356" y="16792"/>
                  </a:lnTo>
                  <a:lnTo>
                    <a:pt x="3356" y="16792"/>
                  </a:lnTo>
                  <a:lnTo>
                    <a:pt x="2894" y="16329"/>
                  </a:lnTo>
                  <a:lnTo>
                    <a:pt x="2662" y="15634"/>
                  </a:lnTo>
                  <a:lnTo>
                    <a:pt x="2431" y="15055"/>
                  </a:lnTo>
                  <a:lnTo>
                    <a:pt x="2199" y="14360"/>
                  </a:lnTo>
                  <a:lnTo>
                    <a:pt x="1968" y="13665"/>
                  </a:lnTo>
                  <a:lnTo>
                    <a:pt x="1620" y="13202"/>
                  </a:lnTo>
                  <a:lnTo>
                    <a:pt x="1158" y="12855"/>
                  </a:lnTo>
                  <a:lnTo>
                    <a:pt x="463" y="12623"/>
                  </a:lnTo>
                  <a:lnTo>
                    <a:pt x="463" y="12623"/>
                  </a:lnTo>
                  <a:lnTo>
                    <a:pt x="232" y="12507"/>
                  </a:lnTo>
                  <a:lnTo>
                    <a:pt x="232" y="12391"/>
                  </a:lnTo>
                  <a:lnTo>
                    <a:pt x="116" y="12276"/>
                  </a:lnTo>
                  <a:lnTo>
                    <a:pt x="0" y="12044"/>
                  </a:lnTo>
                  <a:lnTo>
                    <a:pt x="0" y="11928"/>
                  </a:lnTo>
                  <a:lnTo>
                    <a:pt x="0" y="11812"/>
                  </a:lnTo>
                  <a:lnTo>
                    <a:pt x="0" y="11581"/>
                  </a:lnTo>
                  <a:lnTo>
                    <a:pt x="116" y="11465"/>
                  </a:lnTo>
                  <a:lnTo>
                    <a:pt x="116" y="11465"/>
                  </a:lnTo>
                  <a:lnTo>
                    <a:pt x="347" y="11118"/>
                  </a:lnTo>
                  <a:lnTo>
                    <a:pt x="579" y="10770"/>
                  </a:lnTo>
                  <a:lnTo>
                    <a:pt x="926" y="10539"/>
                  </a:lnTo>
                  <a:lnTo>
                    <a:pt x="1273" y="10307"/>
                  </a:lnTo>
                  <a:lnTo>
                    <a:pt x="1620" y="10075"/>
                  </a:lnTo>
                  <a:lnTo>
                    <a:pt x="1968" y="9844"/>
                  </a:lnTo>
                  <a:lnTo>
                    <a:pt x="2199" y="9612"/>
                  </a:lnTo>
                  <a:lnTo>
                    <a:pt x="2431" y="9265"/>
                  </a:lnTo>
                  <a:lnTo>
                    <a:pt x="2431" y="9265"/>
                  </a:lnTo>
                  <a:lnTo>
                    <a:pt x="2546" y="8570"/>
                  </a:lnTo>
                  <a:lnTo>
                    <a:pt x="2662" y="7991"/>
                  </a:lnTo>
                  <a:lnTo>
                    <a:pt x="2778" y="7412"/>
                  </a:lnTo>
                  <a:lnTo>
                    <a:pt x="2894" y="6833"/>
                  </a:lnTo>
                  <a:lnTo>
                    <a:pt x="3009" y="6254"/>
                  </a:lnTo>
                  <a:lnTo>
                    <a:pt x="3125" y="5675"/>
                  </a:lnTo>
                  <a:lnTo>
                    <a:pt x="3241" y="5095"/>
                  </a:lnTo>
                  <a:lnTo>
                    <a:pt x="3241" y="4516"/>
                  </a:lnTo>
                  <a:lnTo>
                    <a:pt x="3241" y="4516"/>
                  </a:lnTo>
                  <a:lnTo>
                    <a:pt x="3125" y="4053"/>
                  </a:lnTo>
                  <a:lnTo>
                    <a:pt x="3009" y="3706"/>
                  </a:lnTo>
                  <a:lnTo>
                    <a:pt x="2778" y="3243"/>
                  </a:lnTo>
                  <a:lnTo>
                    <a:pt x="2546" y="2895"/>
                  </a:lnTo>
                  <a:lnTo>
                    <a:pt x="2315" y="2548"/>
                  </a:lnTo>
                  <a:lnTo>
                    <a:pt x="2083" y="2200"/>
                  </a:lnTo>
                  <a:lnTo>
                    <a:pt x="1736" y="1853"/>
                  </a:lnTo>
                  <a:lnTo>
                    <a:pt x="1505" y="1505"/>
                  </a:lnTo>
                  <a:lnTo>
                    <a:pt x="1505" y="1505"/>
                  </a:lnTo>
                  <a:lnTo>
                    <a:pt x="1389" y="1390"/>
                  </a:lnTo>
                  <a:lnTo>
                    <a:pt x="1273" y="1274"/>
                  </a:lnTo>
                  <a:lnTo>
                    <a:pt x="1273" y="1158"/>
                  </a:lnTo>
                  <a:lnTo>
                    <a:pt x="1273" y="1042"/>
                  </a:lnTo>
                  <a:lnTo>
                    <a:pt x="1389" y="926"/>
                  </a:lnTo>
                  <a:lnTo>
                    <a:pt x="1389" y="811"/>
                  </a:lnTo>
                  <a:lnTo>
                    <a:pt x="1505" y="811"/>
                  </a:lnTo>
                  <a:lnTo>
                    <a:pt x="1620" y="695"/>
                  </a:lnTo>
                  <a:lnTo>
                    <a:pt x="1620" y="695"/>
                  </a:lnTo>
                  <a:lnTo>
                    <a:pt x="1852" y="463"/>
                  </a:lnTo>
                  <a:lnTo>
                    <a:pt x="1852" y="463"/>
                  </a:lnTo>
                  <a:lnTo>
                    <a:pt x="1852" y="579"/>
                  </a:lnTo>
                  <a:lnTo>
                    <a:pt x="1736" y="695"/>
                  </a:lnTo>
                  <a:lnTo>
                    <a:pt x="1620" y="811"/>
                  </a:lnTo>
                  <a:lnTo>
                    <a:pt x="1505" y="926"/>
                  </a:lnTo>
                  <a:lnTo>
                    <a:pt x="1505" y="1042"/>
                  </a:lnTo>
                  <a:lnTo>
                    <a:pt x="1505" y="1158"/>
                  </a:lnTo>
                  <a:lnTo>
                    <a:pt x="1505" y="1274"/>
                  </a:lnTo>
                  <a:lnTo>
                    <a:pt x="1852" y="1274"/>
                  </a:lnTo>
                  <a:lnTo>
                    <a:pt x="1852" y="1274"/>
                  </a:lnTo>
                  <a:lnTo>
                    <a:pt x="1968" y="1158"/>
                  </a:lnTo>
                  <a:lnTo>
                    <a:pt x="2083" y="926"/>
                  </a:lnTo>
                  <a:lnTo>
                    <a:pt x="2315" y="695"/>
                  </a:lnTo>
                  <a:lnTo>
                    <a:pt x="2431" y="579"/>
                  </a:lnTo>
                  <a:lnTo>
                    <a:pt x="2662" y="463"/>
                  </a:lnTo>
                  <a:lnTo>
                    <a:pt x="2894" y="347"/>
                  </a:lnTo>
                  <a:lnTo>
                    <a:pt x="3125" y="116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lnTo>
                    <a:pt x="3356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716840" y="4884840"/>
              <a:ext cx="41400" cy="80640"/>
            </a:xfrm>
            <a:custGeom>
              <a:avLst/>
              <a:gdLst/>
              <a:ahLst/>
              <a:rect l="l" t="t" r="r" b="b"/>
              <a:pathLst>
                <a:path w="1158" h="1506">
                  <a:moveTo>
                    <a:pt x="1158" y="0"/>
                  </a:moveTo>
                  <a:lnTo>
                    <a:pt x="1158" y="116"/>
                  </a:lnTo>
                  <a:lnTo>
                    <a:pt x="1042" y="232"/>
                  </a:lnTo>
                  <a:lnTo>
                    <a:pt x="1042" y="348"/>
                  </a:lnTo>
                  <a:lnTo>
                    <a:pt x="926" y="463"/>
                  </a:lnTo>
                  <a:lnTo>
                    <a:pt x="811" y="463"/>
                  </a:lnTo>
                  <a:lnTo>
                    <a:pt x="695" y="579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579" y="695"/>
                  </a:lnTo>
                  <a:lnTo>
                    <a:pt x="463" y="811"/>
                  </a:lnTo>
                  <a:lnTo>
                    <a:pt x="463" y="927"/>
                  </a:lnTo>
                  <a:lnTo>
                    <a:pt x="348" y="1042"/>
                  </a:lnTo>
                  <a:lnTo>
                    <a:pt x="348" y="1158"/>
                  </a:lnTo>
                  <a:lnTo>
                    <a:pt x="232" y="1274"/>
                  </a:lnTo>
                  <a:lnTo>
                    <a:pt x="232" y="1274"/>
                  </a:lnTo>
                  <a:lnTo>
                    <a:pt x="116" y="1390"/>
                  </a:lnTo>
                  <a:lnTo>
                    <a:pt x="116" y="1506"/>
                  </a:lnTo>
                  <a:lnTo>
                    <a:pt x="116" y="1506"/>
                  </a:lnTo>
                  <a:lnTo>
                    <a:pt x="0" y="1274"/>
                  </a:lnTo>
                  <a:lnTo>
                    <a:pt x="0" y="1158"/>
                  </a:lnTo>
                  <a:lnTo>
                    <a:pt x="0" y="1042"/>
                  </a:lnTo>
                  <a:lnTo>
                    <a:pt x="0" y="811"/>
                  </a:lnTo>
                  <a:lnTo>
                    <a:pt x="116" y="695"/>
                  </a:lnTo>
                  <a:lnTo>
                    <a:pt x="232" y="579"/>
                  </a:lnTo>
                  <a:lnTo>
                    <a:pt x="348" y="463"/>
                  </a:lnTo>
                  <a:lnTo>
                    <a:pt x="348" y="348"/>
                  </a:lnTo>
                  <a:lnTo>
                    <a:pt x="348" y="348"/>
                  </a:lnTo>
                  <a:lnTo>
                    <a:pt x="463" y="232"/>
                  </a:lnTo>
                  <a:lnTo>
                    <a:pt x="579" y="232"/>
                  </a:lnTo>
                  <a:lnTo>
                    <a:pt x="695" y="116"/>
                  </a:lnTo>
                  <a:lnTo>
                    <a:pt x="811" y="116"/>
                  </a:lnTo>
                  <a:lnTo>
                    <a:pt x="811" y="0"/>
                  </a:lnTo>
                  <a:lnTo>
                    <a:pt x="926" y="0"/>
                  </a:lnTo>
                  <a:lnTo>
                    <a:pt x="1042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729440" y="4922280"/>
              <a:ext cx="28800" cy="49680"/>
            </a:xfrm>
            <a:custGeom>
              <a:avLst/>
              <a:gdLst/>
              <a:ahLst/>
              <a:rect l="l" t="t" r="r" b="b"/>
              <a:pathLst>
                <a:path w="810" h="926">
                  <a:moveTo>
                    <a:pt x="810" y="0"/>
                  </a:moveTo>
                  <a:lnTo>
                    <a:pt x="694" y="116"/>
                  </a:lnTo>
                  <a:lnTo>
                    <a:pt x="694" y="232"/>
                  </a:lnTo>
                  <a:lnTo>
                    <a:pt x="694" y="347"/>
                  </a:lnTo>
                  <a:lnTo>
                    <a:pt x="578" y="463"/>
                  </a:lnTo>
                  <a:lnTo>
                    <a:pt x="463" y="579"/>
                  </a:lnTo>
                  <a:lnTo>
                    <a:pt x="463" y="695"/>
                  </a:lnTo>
                  <a:lnTo>
                    <a:pt x="347" y="811"/>
                  </a:lnTo>
                  <a:lnTo>
                    <a:pt x="347" y="926"/>
                  </a:lnTo>
                  <a:lnTo>
                    <a:pt x="347" y="926"/>
                  </a:lnTo>
                  <a:lnTo>
                    <a:pt x="0" y="926"/>
                  </a:lnTo>
                  <a:lnTo>
                    <a:pt x="0" y="926"/>
                  </a:lnTo>
                  <a:lnTo>
                    <a:pt x="0" y="811"/>
                  </a:lnTo>
                  <a:lnTo>
                    <a:pt x="115" y="579"/>
                  </a:lnTo>
                  <a:lnTo>
                    <a:pt x="115" y="463"/>
                  </a:lnTo>
                  <a:lnTo>
                    <a:pt x="231" y="347"/>
                  </a:lnTo>
                  <a:lnTo>
                    <a:pt x="347" y="232"/>
                  </a:lnTo>
                  <a:lnTo>
                    <a:pt x="463" y="116"/>
                  </a:lnTo>
                  <a:lnTo>
                    <a:pt x="578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lnTo>
                    <a:pt x="8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758240" y="4965840"/>
              <a:ext cx="12240" cy="18360"/>
            </a:xfrm>
            <a:custGeom>
              <a:avLst/>
              <a:gdLst/>
              <a:ahLst/>
              <a:rect l="l" t="t" r="r" b="b"/>
              <a:pathLst>
                <a:path w="347" h="347">
                  <a:moveTo>
                    <a:pt x="231" y="347"/>
                  </a:moveTo>
                  <a:lnTo>
                    <a:pt x="0" y="231"/>
                  </a:lnTo>
                  <a:lnTo>
                    <a:pt x="0" y="231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231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lnTo>
                    <a:pt x="231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063080" y="5140080"/>
              <a:ext cx="310320" cy="690120"/>
            </a:xfrm>
            <a:custGeom>
              <a:avLst/>
              <a:gdLst/>
              <a:ahLst/>
              <a:rect l="l" t="t" r="r" b="b"/>
              <a:pathLst>
                <a:path w="8680" h="12855">
                  <a:moveTo>
                    <a:pt x="7059" y="0"/>
                  </a:moveTo>
                  <a:lnTo>
                    <a:pt x="6944" y="116"/>
                  </a:lnTo>
                  <a:lnTo>
                    <a:pt x="6712" y="232"/>
                  </a:lnTo>
                  <a:lnTo>
                    <a:pt x="6596" y="348"/>
                  </a:lnTo>
                  <a:lnTo>
                    <a:pt x="6481" y="464"/>
                  </a:lnTo>
                  <a:lnTo>
                    <a:pt x="6365" y="579"/>
                  </a:lnTo>
                  <a:lnTo>
                    <a:pt x="6134" y="695"/>
                  </a:lnTo>
                  <a:lnTo>
                    <a:pt x="6018" y="811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927"/>
                  </a:lnTo>
                  <a:lnTo>
                    <a:pt x="5902" y="1043"/>
                  </a:lnTo>
                  <a:lnTo>
                    <a:pt x="6018" y="1043"/>
                  </a:lnTo>
                  <a:lnTo>
                    <a:pt x="6018" y="1158"/>
                  </a:lnTo>
                  <a:lnTo>
                    <a:pt x="6134" y="1158"/>
                  </a:lnTo>
                  <a:lnTo>
                    <a:pt x="6249" y="1274"/>
                  </a:lnTo>
                  <a:lnTo>
                    <a:pt x="6249" y="1158"/>
                  </a:lnTo>
                  <a:lnTo>
                    <a:pt x="6365" y="1158"/>
                  </a:lnTo>
                  <a:lnTo>
                    <a:pt x="6365" y="1158"/>
                  </a:lnTo>
                  <a:lnTo>
                    <a:pt x="7291" y="348"/>
                  </a:lnTo>
                  <a:lnTo>
                    <a:pt x="7291" y="348"/>
                  </a:lnTo>
                  <a:lnTo>
                    <a:pt x="7291" y="464"/>
                  </a:lnTo>
                  <a:lnTo>
                    <a:pt x="7291" y="579"/>
                  </a:lnTo>
                  <a:lnTo>
                    <a:pt x="7291" y="695"/>
                  </a:lnTo>
                  <a:lnTo>
                    <a:pt x="7175" y="695"/>
                  </a:lnTo>
                  <a:lnTo>
                    <a:pt x="7059" y="811"/>
                  </a:lnTo>
                  <a:lnTo>
                    <a:pt x="6944" y="927"/>
                  </a:lnTo>
                  <a:lnTo>
                    <a:pt x="6828" y="1043"/>
                  </a:lnTo>
                  <a:lnTo>
                    <a:pt x="6828" y="1158"/>
                  </a:lnTo>
                  <a:lnTo>
                    <a:pt x="6828" y="1158"/>
                  </a:lnTo>
                  <a:lnTo>
                    <a:pt x="6712" y="1158"/>
                  </a:lnTo>
                  <a:lnTo>
                    <a:pt x="6712" y="1158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274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712" y="1390"/>
                  </a:lnTo>
                  <a:lnTo>
                    <a:pt x="6828" y="1506"/>
                  </a:lnTo>
                  <a:lnTo>
                    <a:pt x="6944" y="1506"/>
                  </a:lnTo>
                  <a:lnTo>
                    <a:pt x="7059" y="1506"/>
                  </a:lnTo>
                  <a:lnTo>
                    <a:pt x="7175" y="1390"/>
                  </a:lnTo>
                  <a:lnTo>
                    <a:pt x="7175" y="1274"/>
                  </a:lnTo>
                  <a:lnTo>
                    <a:pt x="7291" y="1158"/>
                  </a:lnTo>
                  <a:lnTo>
                    <a:pt x="7407" y="1158"/>
                  </a:lnTo>
                  <a:lnTo>
                    <a:pt x="7522" y="1043"/>
                  </a:lnTo>
                  <a:lnTo>
                    <a:pt x="7522" y="1043"/>
                  </a:lnTo>
                  <a:lnTo>
                    <a:pt x="7638" y="1274"/>
                  </a:lnTo>
                  <a:lnTo>
                    <a:pt x="7754" y="1506"/>
                  </a:lnTo>
                  <a:lnTo>
                    <a:pt x="7870" y="1737"/>
                  </a:lnTo>
                  <a:lnTo>
                    <a:pt x="8101" y="2085"/>
                  </a:lnTo>
                  <a:lnTo>
                    <a:pt x="8101" y="2316"/>
                  </a:lnTo>
                  <a:lnTo>
                    <a:pt x="8217" y="2548"/>
                  </a:lnTo>
                  <a:lnTo>
                    <a:pt x="8101" y="2780"/>
                  </a:lnTo>
                  <a:lnTo>
                    <a:pt x="7985" y="3011"/>
                  </a:lnTo>
                  <a:lnTo>
                    <a:pt x="7985" y="3011"/>
                  </a:lnTo>
                  <a:lnTo>
                    <a:pt x="7522" y="3359"/>
                  </a:lnTo>
                  <a:lnTo>
                    <a:pt x="7291" y="3706"/>
                  </a:lnTo>
                  <a:lnTo>
                    <a:pt x="6944" y="4054"/>
                  </a:lnTo>
                  <a:lnTo>
                    <a:pt x="6712" y="4517"/>
                  </a:lnTo>
                  <a:lnTo>
                    <a:pt x="6481" y="4864"/>
                  </a:lnTo>
                  <a:lnTo>
                    <a:pt x="6249" y="5212"/>
                  </a:lnTo>
                  <a:lnTo>
                    <a:pt x="5902" y="5559"/>
                  </a:lnTo>
                  <a:lnTo>
                    <a:pt x="5555" y="5791"/>
                  </a:lnTo>
                  <a:lnTo>
                    <a:pt x="5555" y="5791"/>
                  </a:lnTo>
                  <a:lnTo>
                    <a:pt x="5439" y="6486"/>
                  </a:lnTo>
                  <a:lnTo>
                    <a:pt x="5323" y="7180"/>
                  </a:lnTo>
                  <a:lnTo>
                    <a:pt x="5208" y="7760"/>
                  </a:lnTo>
                  <a:lnTo>
                    <a:pt x="5208" y="8454"/>
                  </a:lnTo>
                  <a:lnTo>
                    <a:pt x="5208" y="9149"/>
                  </a:lnTo>
                  <a:lnTo>
                    <a:pt x="5323" y="9844"/>
                  </a:lnTo>
                  <a:lnTo>
                    <a:pt x="5555" y="10423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5902" y="11002"/>
                  </a:lnTo>
                  <a:lnTo>
                    <a:pt x="6018" y="10886"/>
                  </a:lnTo>
                  <a:lnTo>
                    <a:pt x="6018" y="10771"/>
                  </a:lnTo>
                  <a:lnTo>
                    <a:pt x="6018" y="10771"/>
                  </a:lnTo>
                  <a:lnTo>
                    <a:pt x="6018" y="10655"/>
                  </a:lnTo>
                  <a:lnTo>
                    <a:pt x="6018" y="10539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5902" y="10423"/>
                  </a:lnTo>
                  <a:lnTo>
                    <a:pt x="6018" y="10423"/>
                  </a:lnTo>
                  <a:lnTo>
                    <a:pt x="6134" y="10423"/>
                  </a:lnTo>
                  <a:lnTo>
                    <a:pt x="6134" y="10539"/>
                  </a:lnTo>
                  <a:lnTo>
                    <a:pt x="6249" y="10539"/>
                  </a:lnTo>
                  <a:lnTo>
                    <a:pt x="6249" y="10655"/>
                  </a:lnTo>
                  <a:lnTo>
                    <a:pt x="6365" y="10655"/>
                  </a:lnTo>
                  <a:lnTo>
                    <a:pt x="6365" y="10771"/>
                  </a:lnTo>
                  <a:lnTo>
                    <a:pt x="6481" y="10886"/>
                  </a:lnTo>
                  <a:lnTo>
                    <a:pt x="6481" y="10886"/>
                  </a:lnTo>
                  <a:lnTo>
                    <a:pt x="6365" y="11465"/>
                  </a:lnTo>
                  <a:lnTo>
                    <a:pt x="6365" y="11465"/>
                  </a:lnTo>
                  <a:lnTo>
                    <a:pt x="6481" y="11465"/>
                  </a:lnTo>
                  <a:lnTo>
                    <a:pt x="6596" y="11465"/>
                  </a:lnTo>
                  <a:lnTo>
                    <a:pt x="6712" y="11465"/>
                  </a:lnTo>
                  <a:lnTo>
                    <a:pt x="6712" y="11350"/>
                  </a:lnTo>
                  <a:lnTo>
                    <a:pt x="6712" y="11234"/>
                  </a:lnTo>
                  <a:lnTo>
                    <a:pt x="6828" y="11118"/>
                  </a:lnTo>
                  <a:lnTo>
                    <a:pt x="6828" y="11002"/>
                  </a:lnTo>
                  <a:lnTo>
                    <a:pt x="6944" y="10886"/>
                  </a:lnTo>
                  <a:lnTo>
                    <a:pt x="6944" y="10886"/>
                  </a:lnTo>
                  <a:lnTo>
                    <a:pt x="7175" y="10886"/>
                  </a:lnTo>
                  <a:lnTo>
                    <a:pt x="7407" y="10886"/>
                  </a:lnTo>
                  <a:lnTo>
                    <a:pt x="7638" y="10886"/>
                  </a:lnTo>
                  <a:lnTo>
                    <a:pt x="7870" y="10886"/>
                  </a:lnTo>
                  <a:lnTo>
                    <a:pt x="8101" y="11002"/>
                  </a:lnTo>
                  <a:lnTo>
                    <a:pt x="8332" y="11002"/>
                  </a:lnTo>
                  <a:lnTo>
                    <a:pt x="8564" y="11234"/>
                  </a:lnTo>
                  <a:lnTo>
                    <a:pt x="8564" y="11581"/>
                  </a:lnTo>
                  <a:lnTo>
                    <a:pt x="8564" y="11581"/>
                  </a:lnTo>
                  <a:lnTo>
                    <a:pt x="8680" y="11929"/>
                  </a:lnTo>
                  <a:lnTo>
                    <a:pt x="8564" y="12160"/>
                  </a:lnTo>
                  <a:lnTo>
                    <a:pt x="8448" y="12392"/>
                  </a:lnTo>
                  <a:lnTo>
                    <a:pt x="8217" y="12508"/>
                  </a:lnTo>
                  <a:lnTo>
                    <a:pt x="7985" y="12624"/>
                  </a:lnTo>
                  <a:lnTo>
                    <a:pt x="7638" y="12624"/>
                  </a:lnTo>
                  <a:lnTo>
                    <a:pt x="7291" y="12739"/>
                  </a:lnTo>
                  <a:lnTo>
                    <a:pt x="7059" y="12855"/>
                  </a:lnTo>
                  <a:lnTo>
                    <a:pt x="7059" y="12855"/>
                  </a:lnTo>
                  <a:lnTo>
                    <a:pt x="6596" y="12855"/>
                  </a:lnTo>
                  <a:lnTo>
                    <a:pt x="6018" y="12739"/>
                  </a:lnTo>
                  <a:lnTo>
                    <a:pt x="5555" y="12739"/>
                  </a:lnTo>
                  <a:lnTo>
                    <a:pt x="5092" y="12624"/>
                  </a:lnTo>
                  <a:lnTo>
                    <a:pt x="4513" y="12508"/>
                  </a:lnTo>
                  <a:lnTo>
                    <a:pt x="4166" y="12276"/>
                  </a:lnTo>
                  <a:lnTo>
                    <a:pt x="3703" y="12044"/>
                  </a:lnTo>
                  <a:lnTo>
                    <a:pt x="3240" y="11813"/>
                  </a:lnTo>
                  <a:lnTo>
                    <a:pt x="3240" y="11813"/>
                  </a:lnTo>
                  <a:lnTo>
                    <a:pt x="2893" y="11234"/>
                  </a:lnTo>
                  <a:lnTo>
                    <a:pt x="2662" y="10539"/>
                  </a:lnTo>
                  <a:lnTo>
                    <a:pt x="2430" y="9960"/>
                  </a:lnTo>
                  <a:lnTo>
                    <a:pt x="2199" y="9265"/>
                  </a:lnTo>
                  <a:lnTo>
                    <a:pt x="1851" y="8686"/>
                  </a:lnTo>
                  <a:lnTo>
                    <a:pt x="1504" y="8107"/>
                  </a:lnTo>
                  <a:lnTo>
                    <a:pt x="926" y="7644"/>
                  </a:lnTo>
                  <a:lnTo>
                    <a:pt x="231" y="7412"/>
                  </a:lnTo>
                  <a:lnTo>
                    <a:pt x="231" y="7412"/>
                  </a:lnTo>
                  <a:lnTo>
                    <a:pt x="115" y="7296"/>
                  </a:lnTo>
                  <a:lnTo>
                    <a:pt x="115" y="7296"/>
                  </a:lnTo>
                  <a:lnTo>
                    <a:pt x="0" y="7180"/>
                  </a:lnTo>
                  <a:lnTo>
                    <a:pt x="0" y="7065"/>
                  </a:lnTo>
                  <a:lnTo>
                    <a:pt x="0" y="6949"/>
                  </a:lnTo>
                  <a:lnTo>
                    <a:pt x="0" y="6833"/>
                  </a:lnTo>
                  <a:lnTo>
                    <a:pt x="0" y="6717"/>
                  </a:lnTo>
                  <a:lnTo>
                    <a:pt x="0" y="6601"/>
                  </a:lnTo>
                  <a:lnTo>
                    <a:pt x="0" y="6601"/>
                  </a:lnTo>
                  <a:lnTo>
                    <a:pt x="231" y="6370"/>
                  </a:lnTo>
                  <a:lnTo>
                    <a:pt x="463" y="6138"/>
                  </a:lnTo>
                  <a:lnTo>
                    <a:pt x="810" y="6022"/>
                  </a:lnTo>
                  <a:lnTo>
                    <a:pt x="1157" y="5907"/>
                  </a:lnTo>
                  <a:lnTo>
                    <a:pt x="1504" y="5907"/>
                  </a:lnTo>
                  <a:lnTo>
                    <a:pt x="1851" y="5791"/>
                  </a:lnTo>
                  <a:lnTo>
                    <a:pt x="2199" y="5675"/>
                  </a:lnTo>
                  <a:lnTo>
                    <a:pt x="2430" y="5559"/>
                  </a:lnTo>
                  <a:lnTo>
                    <a:pt x="2430" y="5559"/>
                  </a:lnTo>
                  <a:lnTo>
                    <a:pt x="3009" y="5328"/>
                  </a:lnTo>
                  <a:lnTo>
                    <a:pt x="3472" y="4980"/>
                  </a:lnTo>
                  <a:lnTo>
                    <a:pt x="3935" y="4633"/>
                  </a:lnTo>
                  <a:lnTo>
                    <a:pt x="4398" y="4285"/>
                  </a:lnTo>
                  <a:lnTo>
                    <a:pt x="4860" y="3822"/>
                  </a:lnTo>
                  <a:lnTo>
                    <a:pt x="5323" y="3475"/>
                  </a:lnTo>
                  <a:lnTo>
                    <a:pt x="5671" y="3011"/>
                  </a:lnTo>
                  <a:lnTo>
                    <a:pt x="6018" y="2432"/>
                  </a:lnTo>
                  <a:lnTo>
                    <a:pt x="6018" y="2432"/>
                  </a:lnTo>
                  <a:lnTo>
                    <a:pt x="6018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134" y="2548"/>
                  </a:lnTo>
                  <a:lnTo>
                    <a:pt x="6249" y="2548"/>
                  </a:lnTo>
                  <a:lnTo>
                    <a:pt x="6249" y="2548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432"/>
                  </a:lnTo>
                  <a:lnTo>
                    <a:pt x="6249" y="2201"/>
                  </a:lnTo>
                  <a:lnTo>
                    <a:pt x="6134" y="1969"/>
                  </a:lnTo>
                  <a:lnTo>
                    <a:pt x="6018" y="1737"/>
                  </a:lnTo>
                  <a:lnTo>
                    <a:pt x="5902" y="1506"/>
                  </a:lnTo>
                  <a:lnTo>
                    <a:pt x="5786" y="1274"/>
                  </a:lnTo>
                  <a:lnTo>
                    <a:pt x="5671" y="1043"/>
                  </a:lnTo>
                  <a:lnTo>
                    <a:pt x="5555" y="811"/>
                  </a:lnTo>
                  <a:lnTo>
                    <a:pt x="5439" y="579"/>
                  </a:lnTo>
                  <a:lnTo>
                    <a:pt x="5439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555" y="579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695"/>
                  </a:lnTo>
                  <a:lnTo>
                    <a:pt x="5671" y="811"/>
                  </a:lnTo>
                  <a:lnTo>
                    <a:pt x="5671" y="811"/>
                  </a:lnTo>
                  <a:lnTo>
                    <a:pt x="5786" y="811"/>
                  </a:lnTo>
                  <a:lnTo>
                    <a:pt x="5786" y="811"/>
                  </a:lnTo>
                  <a:lnTo>
                    <a:pt x="5902" y="695"/>
                  </a:lnTo>
                  <a:lnTo>
                    <a:pt x="6018" y="579"/>
                  </a:lnTo>
                  <a:lnTo>
                    <a:pt x="6249" y="464"/>
                  </a:lnTo>
                  <a:lnTo>
                    <a:pt x="6365" y="348"/>
                  </a:lnTo>
                  <a:lnTo>
                    <a:pt x="6481" y="232"/>
                  </a:lnTo>
                  <a:lnTo>
                    <a:pt x="6712" y="116"/>
                  </a:lnTo>
                  <a:lnTo>
                    <a:pt x="6828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lnTo>
                    <a:pt x="7059" y="0"/>
                  </a:lnTo>
                  <a:close/>
                </a:path>
              </a:pathLst>
            </a:custGeom>
            <a:solidFill>
              <a:srgbClr val="f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2" name=""/>
          <p:cNvSpPr/>
          <p:nvPr/>
        </p:nvSpPr>
        <p:spPr>
          <a:xfrm>
            <a:off x="685800" y="1447920"/>
            <a:ext cx="75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 this unit we have seen how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743200" y="2057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equations requiring division of decimal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809880" y="7002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"/>
          <p:cNvGrpSpPr/>
          <p:nvPr/>
        </p:nvGrpSpPr>
        <p:grpSpPr>
          <a:xfrm>
            <a:off x="2187720" y="2227320"/>
            <a:ext cx="4284000" cy="3254400"/>
            <a:chOff x="2187720" y="2227320"/>
            <a:chExt cx="4284000" cy="3254400"/>
          </a:xfrm>
        </p:grpSpPr>
        <p:sp>
          <p:nvSpPr>
            <p:cNvPr id="356" name=""/>
            <p:cNvSpPr/>
            <p:nvPr/>
          </p:nvSpPr>
          <p:spPr>
            <a:xfrm>
              <a:off x="2187720" y="2227320"/>
              <a:ext cx="4284000" cy="3254400"/>
            </a:xfrm>
            <a:custGeom>
              <a:avLst/>
              <a:gdLst/>
              <a:ahLst/>
              <a:rect l="l" t="t" r="r" b="b"/>
              <a:pathLst>
                <a:path w="3716" h="4309">
                  <a:moveTo>
                    <a:pt x="3648" y="34"/>
                  </a:moveTo>
                  <a:lnTo>
                    <a:pt x="2325" y="0"/>
                  </a:lnTo>
                  <a:lnTo>
                    <a:pt x="2290" y="764"/>
                  </a:lnTo>
                  <a:lnTo>
                    <a:pt x="795" y="834"/>
                  </a:lnTo>
                  <a:lnTo>
                    <a:pt x="656" y="2157"/>
                  </a:lnTo>
                  <a:lnTo>
                    <a:pt x="135" y="2298"/>
                  </a:lnTo>
                  <a:lnTo>
                    <a:pt x="0" y="4260"/>
                  </a:lnTo>
                  <a:lnTo>
                    <a:pt x="1595" y="4309"/>
                  </a:lnTo>
                  <a:lnTo>
                    <a:pt x="1633" y="3803"/>
                  </a:lnTo>
                  <a:lnTo>
                    <a:pt x="3189" y="3689"/>
                  </a:lnTo>
                  <a:lnTo>
                    <a:pt x="3091" y="2157"/>
                  </a:lnTo>
                  <a:lnTo>
                    <a:pt x="3716" y="1948"/>
                  </a:lnTo>
                  <a:lnTo>
                    <a:pt x="3648" y="34"/>
                  </a:lnTo>
                  <a:lnTo>
                    <a:pt x="3648" y="34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42680" y="2383920"/>
              <a:ext cx="3730320" cy="2918880"/>
            </a:xfrm>
            <a:custGeom>
              <a:avLst/>
              <a:gdLst/>
              <a:ahLst/>
              <a:rect l="l" t="t" r="r" b="b"/>
              <a:pathLst>
                <a:path w="3235" h="3866">
                  <a:moveTo>
                    <a:pt x="2296" y="141"/>
                  </a:moveTo>
                  <a:lnTo>
                    <a:pt x="2296" y="802"/>
                  </a:lnTo>
                  <a:lnTo>
                    <a:pt x="730" y="802"/>
                  </a:lnTo>
                  <a:lnTo>
                    <a:pt x="696" y="2195"/>
                  </a:lnTo>
                  <a:lnTo>
                    <a:pt x="34" y="2334"/>
                  </a:lnTo>
                  <a:lnTo>
                    <a:pt x="0" y="3762"/>
                  </a:lnTo>
                  <a:lnTo>
                    <a:pt x="1009" y="3866"/>
                  </a:lnTo>
                  <a:lnTo>
                    <a:pt x="1043" y="3239"/>
                  </a:lnTo>
                  <a:lnTo>
                    <a:pt x="2435" y="3171"/>
                  </a:lnTo>
                  <a:lnTo>
                    <a:pt x="2574" y="1811"/>
                  </a:lnTo>
                  <a:lnTo>
                    <a:pt x="3201" y="1741"/>
                  </a:lnTo>
                  <a:lnTo>
                    <a:pt x="3235" y="0"/>
                  </a:lnTo>
                  <a:lnTo>
                    <a:pt x="2296" y="141"/>
                  </a:lnTo>
                  <a:lnTo>
                    <a:pt x="2296" y="141"/>
                  </a:lnTo>
                  <a:close/>
                </a:path>
              </a:pathLst>
            </a:cu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85480" y="2726640"/>
              <a:ext cx="3006360" cy="2235240"/>
            </a:xfrm>
            <a:custGeom>
              <a:avLst/>
              <a:gdLst/>
              <a:ahLst/>
              <a:rect l="l" t="t" r="r" b="b"/>
              <a:pathLst>
                <a:path w="2608" h="2960">
                  <a:moveTo>
                    <a:pt x="2190" y="0"/>
                  </a:moveTo>
                  <a:lnTo>
                    <a:pt x="2190" y="662"/>
                  </a:lnTo>
                  <a:lnTo>
                    <a:pt x="1530" y="662"/>
                  </a:lnTo>
                  <a:lnTo>
                    <a:pt x="1530" y="1323"/>
                  </a:lnTo>
                  <a:lnTo>
                    <a:pt x="730" y="1357"/>
                  </a:lnTo>
                  <a:lnTo>
                    <a:pt x="730" y="2055"/>
                  </a:lnTo>
                  <a:lnTo>
                    <a:pt x="34" y="2089"/>
                  </a:lnTo>
                  <a:lnTo>
                    <a:pt x="0" y="2960"/>
                  </a:lnTo>
                  <a:lnTo>
                    <a:pt x="416" y="2960"/>
                  </a:lnTo>
                  <a:lnTo>
                    <a:pt x="382" y="2507"/>
                  </a:lnTo>
                  <a:lnTo>
                    <a:pt x="1182" y="2437"/>
                  </a:lnTo>
                  <a:lnTo>
                    <a:pt x="1146" y="1705"/>
                  </a:lnTo>
                  <a:lnTo>
                    <a:pt x="1946" y="1705"/>
                  </a:lnTo>
                  <a:lnTo>
                    <a:pt x="1946" y="1114"/>
                  </a:lnTo>
                  <a:lnTo>
                    <a:pt x="2572" y="1044"/>
                  </a:lnTo>
                  <a:lnTo>
                    <a:pt x="2608" y="0"/>
                  </a:lnTo>
                  <a:lnTo>
                    <a:pt x="2190" y="0"/>
                  </a:lnTo>
                  <a:lnTo>
                    <a:pt x="2190" y="0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38680" y="3219120"/>
              <a:ext cx="536760" cy="354600"/>
            </a:xfrm>
            <a:custGeom>
              <a:avLst/>
              <a:gdLst/>
              <a:ahLst/>
              <a:rect l="l" t="t" r="r" b="b"/>
              <a:pathLst>
                <a:path w="468" h="470">
                  <a:moveTo>
                    <a:pt x="234" y="470"/>
                  </a:moveTo>
                  <a:lnTo>
                    <a:pt x="325" y="451"/>
                  </a:lnTo>
                  <a:lnTo>
                    <a:pt x="399" y="401"/>
                  </a:lnTo>
                  <a:lnTo>
                    <a:pt x="449" y="327"/>
                  </a:lnTo>
                  <a:lnTo>
                    <a:pt x="468" y="236"/>
                  </a:lnTo>
                  <a:lnTo>
                    <a:pt x="449" y="145"/>
                  </a:lnTo>
                  <a:lnTo>
                    <a:pt x="428" y="105"/>
                  </a:lnTo>
                  <a:lnTo>
                    <a:pt x="399" y="71"/>
                  </a:lnTo>
                  <a:lnTo>
                    <a:pt x="365" y="42"/>
                  </a:lnTo>
                  <a:lnTo>
                    <a:pt x="325" y="19"/>
                  </a:lnTo>
                  <a:lnTo>
                    <a:pt x="234" y="0"/>
                  </a:lnTo>
                  <a:lnTo>
                    <a:pt x="143" y="19"/>
                  </a:lnTo>
                  <a:lnTo>
                    <a:pt x="69" y="71"/>
                  </a:lnTo>
                  <a:lnTo>
                    <a:pt x="17" y="145"/>
                  </a:lnTo>
                  <a:lnTo>
                    <a:pt x="0" y="236"/>
                  </a:lnTo>
                  <a:lnTo>
                    <a:pt x="17" y="327"/>
                  </a:lnTo>
                  <a:lnTo>
                    <a:pt x="40" y="367"/>
                  </a:lnTo>
                  <a:lnTo>
                    <a:pt x="69" y="401"/>
                  </a:lnTo>
                  <a:lnTo>
                    <a:pt x="103" y="430"/>
                  </a:lnTo>
                  <a:lnTo>
                    <a:pt x="143" y="451"/>
                  </a:lnTo>
                  <a:lnTo>
                    <a:pt x="234" y="470"/>
                  </a:lnTo>
                  <a:lnTo>
                    <a:pt x="234" y="470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50760" y="4108680"/>
              <a:ext cx="594720" cy="390960"/>
            </a:xfrm>
            <a:custGeom>
              <a:avLst/>
              <a:gdLst/>
              <a:ahLst/>
              <a:rect l="l" t="t" r="r" b="b"/>
              <a:pathLst>
                <a:path w="517" h="517">
                  <a:moveTo>
                    <a:pt x="259" y="517"/>
                  </a:moveTo>
                  <a:lnTo>
                    <a:pt x="359" y="496"/>
                  </a:lnTo>
                  <a:lnTo>
                    <a:pt x="441" y="441"/>
                  </a:lnTo>
                  <a:lnTo>
                    <a:pt x="498" y="359"/>
                  </a:lnTo>
                  <a:lnTo>
                    <a:pt x="517" y="258"/>
                  </a:lnTo>
                  <a:lnTo>
                    <a:pt x="498" y="158"/>
                  </a:lnTo>
                  <a:lnTo>
                    <a:pt x="473" y="114"/>
                  </a:lnTo>
                  <a:lnTo>
                    <a:pt x="441" y="76"/>
                  </a:lnTo>
                  <a:lnTo>
                    <a:pt x="403" y="44"/>
                  </a:lnTo>
                  <a:lnTo>
                    <a:pt x="359" y="19"/>
                  </a:lnTo>
                  <a:lnTo>
                    <a:pt x="259" y="0"/>
                  </a:lnTo>
                  <a:lnTo>
                    <a:pt x="158" y="19"/>
                  </a:lnTo>
                  <a:lnTo>
                    <a:pt x="76" y="76"/>
                  </a:lnTo>
                  <a:lnTo>
                    <a:pt x="21" y="158"/>
                  </a:lnTo>
                  <a:lnTo>
                    <a:pt x="0" y="258"/>
                  </a:lnTo>
                  <a:lnTo>
                    <a:pt x="21" y="359"/>
                  </a:lnTo>
                  <a:lnTo>
                    <a:pt x="44" y="403"/>
                  </a:lnTo>
                  <a:lnTo>
                    <a:pt x="76" y="441"/>
                  </a:lnTo>
                  <a:lnTo>
                    <a:pt x="114" y="473"/>
                  </a:lnTo>
                  <a:lnTo>
                    <a:pt x="158" y="496"/>
                  </a:lnTo>
                  <a:lnTo>
                    <a:pt x="259" y="517"/>
                  </a:lnTo>
                  <a:lnTo>
                    <a:pt x="259" y="517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 txBox="1"/>
          <p:nvPr/>
        </p:nvSpPr>
        <p:spPr>
          <a:xfrm>
            <a:off x="685800" y="1523880"/>
            <a:ext cx="7772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ividing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Decimals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279440" y="3662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14479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.6 ÷ 3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8800" y="2209680"/>
            <a:ext cx="5486400" cy="1676160"/>
            <a:chOff x="1828800" y="2209680"/>
            <a:chExt cx="5486400" cy="1676160"/>
          </a:xfrm>
        </p:grpSpPr>
        <p:sp>
          <p:nvSpPr>
            <p:cNvPr id="367" name=""/>
            <p:cNvSpPr/>
            <p:nvPr/>
          </p:nvSpPr>
          <p:spPr>
            <a:xfrm>
              <a:off x="4124160" y="2209680"/>
              <a:ext cx="89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6.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828800" y="2819160"/>
              <a:ext cx="5486400" cy="1066680"/>
              <a:chOff x="1828800" y="2819160"/>
              <a:chExt cx="5486400" cy="1066680"/>
            </a:xfrm>
          </p:grpSpPr>
          <p:sp>
            <p:nvSpPr>
              <p:cNvPr id="369" name=""/>
              <p:cNvSpPr/>
              <p:nvPr/>
            </p:nvSpPr>
            <p:spPr>
              <a:xfrm>
                <a:off x="1828800" y="2819160"/>
                <a:ext cx="182880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657600" y="2819160"/>
                <a:ext cx="182880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486400" y="2819160"/>
                <a:ext cx="182880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371120" y="3001680"/>
                <a:ext cx="401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542320" y="3001680"/>
                <a:ext cx="401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199920" y="3001680"/>
                <a:ext cx="401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 flipH="1">
              <a:off x="1828800" y="2560320"/>
              <a:ext cx="227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37120" y="2560320"/>
              <a:ext cx="227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828800" y="3840120"/>
            <a:ext cx="5486400" cy="1114560"/>
            <a:chOff x="1828800" y="3840120"/>
            <a:chExt cx="5486400" cy="1114560"/>
          </a:xfrm>
        </p:grpSpPr>
        <p:grpSp>
          <p:nvGrpSpPr>
            <p:cNvPr id="378" name=""/>
            <p:cNvGrpSpPr/>
            <p:nvPr/>
          </p:nvGrpSpPr>
          <p:grpSpPr>
            <a:xfrm>
              <a:off x="4050000" y="3840120"/>
              <a:ext cx="1071720" cy="1114560"/>
              <a:chOff x="4050000" y="3840120"/>
              <a:chExt cx="1071720" cy="1114560"/>
            </a:xfrm>
          </p:grpSpPr>
          <p:sp>
            <p:nvSpPr>
              <p:cNvPr id="379" name=""/>
              <p:cNvSpPr/>
              <p:nvPr/>
            </p:nvSpPr>
            <p:spPr>
              <a:xfrm>
                <a:off x="4050000" y="404460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4473360" y="3840120"/>
                <a:ext cx="648360" cy="1114560"/>
                <a:chOff x="4473360" y="3840120"/>
                <a:chExt cx="648360" cy="11145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4590000" y="38401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474800" y="437328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473360" y="4373280"/>
                  <a:ext cx="631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4" name=""/>
            <p:cNvSpPr/>
            <p:nvPr/>
          </p:nvSpPr>
          <p:spPr>
            <a:xfrm flipH="1">
              <a:off x="1828800" y="439596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57800" y="439596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145240" y="5059440"/>
            <a:ext cx="4729320" cy="1114560"/>
            <a:chOff x="2145240" y="5059440"/>
            <a:chExt cx="4729320" cy="1114560"/>
          </a:xfrm>
        </p:grpSpPr>
        <p:grpSp>
          <p:nvGrpSpPr>
            <p:cNvPr id="387" name=""/>
            <p:cNvGrpSpPr/>
            <p:nvPr/>
          </p:nvGrpSpPr>
          <p:grpSpPr>
            <a:xfrm>
              <a:off x="2145240" y="5059440"/>
              <a:ext cx="1071720" cy="1114560"/>
              <a:chOff x="2145240" y="5059440"/>
              <a:chExt cx="1071720" cy="1114560"/>
            </a:xfrm>
          </p:grpSpPr>
          <p:sp>
            <p:nvSpPr>
              <p:cNvPr id="388" name=""/>
              <p:cNvSpPr/>
              <p:nvPr/>
            </p:nvSpPr>
            <p:spPr>
              <a:xfrm>
                <a:off x="2145240" y="526392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2568600" y="5059440"/>
                <a:ext cx="648360" cy="1114560"/>
                <a:chOff x="2568600" y="5059440"/>
                <a:chExt cx="648360" cy="11145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2685240" y="50594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570040" y="559260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1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68600" y="5592600"/>
                  <a:ext cx="631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3" name=""/>
            <p:cNvGrpSpPr/>
            <p:nvPr/>
          </p:nvGrpSpPr>
          <p:grpSpPr>
            <a:xfrm>
              <a:off x="3974040" y="5059440"/>
              <a:ext cx="1071720" cy="1114560"/>
              <a:chOff x="3974040" y="5059440"/>
              <a:chExt cx="1071720" cy="1114560"/>
            </a:xfrm>
          </p:grpSpPr>
          <p:sp>
            <p:nvSpPr>
              <p:cNvPr id="394" name=""/>
              <p:cNvSpPr/>
              <p:nvPr/>
            </p:nvSpPr>
            <p:spPr>
              <a:xfrm>
                <a:off x="3974040" y="526392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4397400" y="5059440"/>
                <a:ext cx="648360" cy="1114560"/>
                <a:chOff x="4397400" y="5059440"/>
                <a:chExt cx="648360" cy="11145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4514040" y="50594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398840" y="559260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1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397400" y="5592600"/>
                  <a:ext cx="631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9" name=""/>
            <p:cNvGrpSpPr/>
            <p:nvPr/>
          </p:nvGrpSpPr>
          <p:grpSpPr>
            <a:xfrm>
              <a:off x="5802840" y="5059440"/>
              <a:ext cx="1071720" cy="1114560"/>
              <a:chOff x="5802840" y="5059440"/>
              <a:chExt cx="1071720" cy="1114560"/>
            </a:xfrm>
          </p:grpSpPr>
          <p:sp>
            <p:nvSpPr>
              <p:cNvPr id="400" name=""/>
              <p:cNvSpPr/>
              <p:nvPr/>
            </p:nvSpPr>
            <p:spPr>
              <a:xfrm>
                <a:off x="5802840" y="526392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Comic Sans MS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1" name=""/>
              <p:cNvGrpSpPr/>
              <p:nvPr/>
            </p:nvGrpSpPr>
            <p:grpSpPr>
              <a:xfrm>
                <a:off x="6226200" y="5059440"/>
                <a:ext cx="648360" cy="1114560"/>
                <a:chOff x="6226200" y="5059440"/>
                <a:chExt cx="648360" cy="11145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6342840" y="505944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227640" y="559260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ff"/>
                      </a:solidFill>
                      <a:latin typeface="Comic Sans MS"/>
                    </a:rPr>
                    <a:t>1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226200" y="5592600"/>
                  <a:ext cx="631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pull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752480" y="700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ing Dec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971800" y="14479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.6 ÷ 3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828800" y="2209680"/>
            <a:ext cx="5486400" cy="1676160"/>
            <a:chOff x="1828800" y="2209680"/>
            <a:chExt cx="5486400" cy="1676160"/>
          </a:xfrm>
        </p:grpSpPr>
        <p:sp>
          <p:nvSpPr>
            <p:cNvPr id="408" name=""/>
            <p:cNvSpPr/>
            <p:nvPr/>
          </p:nvSpPr>
          <p:spPr>
            <a:xfrm>
              <a:off x="4124160" y="2209680"/>
              <a:ext cx="89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6.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1828800" y="2819160"/>
              <a:ext cx="5486400" cy="1066680"/>
              <a:chOff x="1828800" y="2819160"/>
              <a:chExt cx="5486400" cy="1066680"/>
            </a:xfrm>
          </p:grpSpPr>
          <p:sp>
            <p:nvSpPr>
              <p:cNvPr id="410" name=""/>
              <p:cNvSpPr/>
              <p:nvPr/>
            </p:nvSpPr>
            <p:spPr>
              <a:xfrm>
                <a:off x="1828800" y="2819160"/>
                <a:ext cx="182880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657600" y="2819160"/>
                <a:ext cx="182880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486400" y="2819160"/>
                <a:ext cx="182880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71120" y="3001680"/>
                <a:ext cx="401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542320" y="3001680"/>
                <a:ext cx="401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99920" y="3001680"/>
                <a:ext cx="401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flipH="1">
              <a:off x="1828800" y="2560320"/>
              <a:ext cx="227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37120" y="2560320"/>
              <a:ext cx="227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828800" y="3840120"/>
            <a:ext cx="5486400" cy="1114560"/>
            <a:chOff x="1828800" y="3840120"/>
            <a:chExt cx="5486400" cy="1114560"/>
          </a:xfrm>
        </p:grpSpPr>
        <p:grpSp>
          <p:nvGrpSpPr>
            <p:cNvPr id="419" name=""/>
            <p:cNvGrpSpPr/>
            <p:nvPr/>
          </p:nvGrpSpPr>
          <p:grpSpPr>
            <a:xfrm>
              <a:off x="4050000" y="3840120"/>
              <a:ext cx="1071720" cy="1114560"/>
              <a:chOff x="4050000" y="3840120"/>
              <a:chExt cx="1071720" cy="1114560"/>
            </a:xfrm>
          </p:grpSpPr>
          <p:sp>
            <p:nvSpPr>
              <p:cNvPr id="420" name=""/>
              <p:cNvSpPr/>
              <p:nvPr/>
            </p:nvSpPr>
            <p:spPr>
              <a:xfrm>
                <a:off x="4050000" y="404460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4473360" y="3840120"/>
                <a:ext cx="648360" cy="1114560"/>
                <a:chOff x="4473360" y="3840120"/>
                <a:chExt cx="648360" cy="11145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4590000" y="3840120"/>
                  <a:ext cx="414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474800" y="4373280"/>
                  <a:ext cx="646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473360" y="4373280"/>
                  <a:ext cx="631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5" name=""/>
            <p:cNvSpPr/>
            <p:nvPr/>
          </p:nvSpPr>
          <p:spPr>
            <a:xfrm flipH="1">
              <a:off x="1828800" y="439596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57800" y="439596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151000" y="5264280"/>
            <a:ext cx="4552920" cy="703440"/>
            <a:chOff x="2151000" y="5264280"/>
            <a:chExt cx="4552920" cy="703440"/>
          </a:xfrm>
        </p:grpSpPr>
        <p:sp>
          <p:nvSpPr>
            <p:cNvPr id="428" name=""/>
            <p:cNvSpPr/>
            <p:nvPr/>
          </p:nvSpPr>
          <p:spPr>
            <a:xfrm>
              <a:off x="2151000" y="5264280"/>
              <a:ext cx="89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2.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79800" y="5264280"/>
              <a:ext cx="89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2.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08600" y="5264280"/>
              <a:ext cx="89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Comic Sans MS"/>
                </a:rPr>
                <a:t>2.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23:15:18Z</dcterms:created>
  <dc:creator>Community Campus</dc:creator>
  <dc:description/>
  <dc:language>en-US</dc:language>
  <cp:lastModifiedBy>iddcws</cp:lastModifiedBy>
  <dcterms:modified xsi:type="dcterms:W3CDTF">2003-01-28T18:54:37Z</dcterms:modified>
  <cp:revision>213</cp:revision>
  <dc:subject/>
  <dc:title>PowerPoint Presentation</dc:title>
</cp:coreProperties>
</file>