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4.png" ContentType="image/png"/>
  <Override PartName="/ppt/media/image2.wmf" ContentType="image/x-wmf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32960" y="45720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5   Uni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0"/>
            <a:ext cx="6019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 Problems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Polynomial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433600" cy="30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14600" y="32148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V = l•w•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58960" y="4529160"/>
            <a:ext cx="381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V = 2s•2s•2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5257800"/>
            <a:ext cx="504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Comic Sans MS"/>
              </a:rPr>
              <a:t>V = 8s</a:t>
            </a:r>
            <a:r>
              <a:rPr b="1" lang="en-US" sz="6000" spc="-1" strike="noStrike" baseline="30000">
                <a:solidFill>
                  <a:srgbClr val="996633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996633"/>
                </a:solidFill>
                <a:latin typeface="Comic Sans MS"/>
              </a:rPr>
              <a:t>ft</a:t>
            </a:r>
            <a:r>
              <a:rPr b="1" lang="en-US" sz="6000" spc="-1" strike="noStrike" baseline="30000">
                <a:solidFill>
                  <a:srgbClr val="996633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2631960"/>
            <a:ext cx="68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with formula for volume of a c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4071960"/>
            <a:ext cx="68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itute values for l, w, and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57240" y="5470560"/>
            <a:ext cx="68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17780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ub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34080" y="1307520"/>
            <a:ext cx="1541520" cy="890640"/>
            <a:chOff x="334080" y="1307520"/>
            <a:chExt cx="1541520" cy="890640"/>
          </a:xfrm>
        </p:grpSpPr>
        <p:sp>
          <p:nvSpPr>
            <p:cNvPr id="238" name=""/>
            <p:cNvSpPr/>
            <p:nvPr/>
          </p:nvSpPr>
          <p:spPr>
            <a:xfrm rot="20897400">
              <a:off x="380520" y="1447920"/>
              <a:ext cx="1447920" cy="6094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0897400">
              <a:off x="455760" y="1512360"/>
              <a:ext cx="1295280" cy="520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art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666880" y="30160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V = l•w•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43434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V = s•s•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38440" y="51055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Comic Sans MS"/>
              </a:rPr>
              <a:t>V = s</a:t>
            </a:r>
            <a:r>
              <a:rPr b="1" lang="en-US" sz="6000" spc="-1" strike="noStrike" baseline="30000">
                <a:solidFill>
                  <a:srgbClr val="996633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996633"/>
                </a:solidFill>
                <a:latin typeface="Comic Sans MS"/>
              </a:rPr>
              <a:t>ft</a:t>
            </a:r>
            <a:r>
              <a:rPr b="1" lang="en-US" sz="6000" spc="-1" strike="noStrike" baseline="30000">
                <a:solidFill>
                  <a:srgbClr val="996633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2430360"/>
            <a:ext cx="68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 with formula for volume of a c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3870360"/>
            <a:ext cx="68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itute values for l, w, and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57240" y="5268960"/>
            <a:ext cx="68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89360" y="16765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ub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11840" y="1334520"/>
            <a:ext cx="1541520" cy="890640"/>
            <a:chOff x="411840" y="1334520"/>
            <a:chExt cx="1541520" cy="890640"/>
          </a:xfrm>
        </p:grpSpPr>
        <p:sp>
          <p:nvSpPr>
            <p:cNvPr id="249" name=""/>
            <p:cNvSpPr/>
            <p:nvPr/>
          </p:nvSpPr>
          <p:spPr>
            <a:xfrm rot="20897400">
              <a:off x="458280" y="1474920"/>
              <a:ext cx="1447920" cy="6094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897400">
              <a:off x="533520" y="1539360"/>
              <a:ext cx="1295280" cy="520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art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60640" y="3171960"/>
            <a:ext cx="2005200" cy="2100600"/>
            <a:chOff x="6560640" y="3171960"/>
            <a:chExt cx="2005200" cy="2100600"/>
          </a:xfrm>
        </p:grpSpPr>
        <p:sp>
          <p:nvSpPr>
            <p:cNvPr id="252" name=""/>
            <p:cNvSpPr/>
            <p:nvPr/>
          </p:nvSpPr>
          <p:spPr>
            <a:xfrm flipH="1">
              <a:off x="6560280" y="3354480"/>
              <a:ext cx="1513080" cy="139680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34280" y="4691160"/>
              <a:ext cx="3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90000" y="4022640"/>
              <a:ext cx="3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45560" y="3171960"/>
              <a:ext cx="3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05840" y="3719520"/>
              <a:ext cx="0" cy="9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889680" y="4933800"/>
              <a:ext cx="44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10560" y="3354480"/>
              <a:ext cx="39528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96080" y="4952880"/>
              <a:ext cx="365400" cy="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4038480"/>
            <a:ext cx="2286000" cy="19814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88360" y="495288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25040" y="597384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05720" y="38862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472428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057400" y="6278400"/>
            <a:ext cx="511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65480" y="6278400"/>
            <a:ext cx="64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865160" y="3965400"/>
            <a:ext cx="467280" cy="495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66880" y="1600200"/>
            <a:ext cx="1752840" cy="175248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6960" y="243828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1320" y="327672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5560" y="137160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36920" y="2057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666880" y="3581280"/>
            <a:ext cx="511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3581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608200" y="1507680"/>
            <a:ext cx="422640" cy="489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973760" y="2335320"/>
            <a:ext cx="3713040" cy="3063240"/>
            <a:chOff x="4973760" y="2335320"/>
            <a:chExt cx="3713040" cy="3063240"/>
          </a:xfrm>
        </p:grpSpPr>
        <p:sp>
          <p:nvSpPr>
            <p:cNvPr id="277" name=""/>
            <p:cNvSpPr/>
            <p:nvPr/>
          </p:nvSpPr>
          <p:spPr>
            <a:xfrm>
              <a:off x="5037120" y="2335320"/>
              <a:ext cx="3260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V = s</a:t>
              </a:r>
              <a:r>
                <a:rPr b="1" lang="en-US" sz="54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ft</a:t>
              </a:r>
              <a:r>
                <a:rPr b="1" lang="en-US" sz="54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73760" y="4481640"/>
              <a:ext cx="371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996633"/>
                  </a:solidFill>
                  <a:latin typeface="Comic Sans MS"/>
                </a:rPr>
                <a:t>V = 8s</a:t>
              </a:r>
              <a:r>
                <a:rPr b="1" lang="en-US" sz="5400" spc="-1" strike="noStrike" baseline="30000">
                  <a:solidFill>
                    <a:srgbClr val="996633"/>
                  </a:solidFill>
                  <a:latin typeface="Comic Sans MS"/>
                </a:rPr>
                <a:t>3</a:t>
              </a:r>
              <a:r>
                <a:rPr b="0" lang="en-US" sz="5400" spc="-1" strike="noStrike">
                  <a:solidFill>
                    <a:srgbClr val="996633"/>
                  </a:solidFill>
                  <a:latin typeface="Comic Sans MS"/>
                </a:rPr>
                <a:t>ft</a:t>
              </a:r>
              <a:r>
                <a:rPr b="1" lang="en-US" sz="5400" spc="-1" strike="noStrike" baseline="30000">
                  <a:solidFill>
                    <a:srgbClr val="996633"/>
                  </a:solidFill>
                  <a:latin typeface="Comic Sans MS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1523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ub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8862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ub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11840" y="1334520"/>
            <a:ext cx="1541520" cy="890640"/>
            <a:chOff x="411840" y="1334520"/>
            <a:chExt cx="1541520" cy="890640"/>
          </a:xfrm>
        </p:grpSpPr>
        <p:sp>
          <p:nvSpPr>
            <p:cNvPr id="283" name=""/>
            <p:cNvSpPr/>
            <p:nvPr/>
          </p:nvSpPr>
          <p:spPr>
            <a:xfrm rot="20897400">
              <a:off x="458280" y="1474920"/>
              <a:ext cx="1447920" cy="6094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897400">
              <a:off x="533520" y="1539360"/>
              <a:ext cx="1295280" cy="520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art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14400" y="1447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al piece of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6600" y="19051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volume is directly related to 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572000" y="2514600"/>
            <a:ext cx="2286000" cy="19810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371600" y="2793960"/>
            <a:ext cx="1512720" cy="139716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1752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V = s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ft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4419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V = 8s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ft</a:t>
            </a:r>
            <a:r>
              <a:rPr b="1" lang="en-US" sz="4000" spc="-1" strike="noStrike" baseline="30000">
                <a:solidFill>
                  <a:srgbClr val="333399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1879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found the volume of large cube is 8 times volume of smaller cu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714840" y="1905120"/>
            <a:ext cx="48956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volume of the second cube is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8x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volume of the first cub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14840" y="3809880"/>
            <a:ext cx="48956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eight of the second cube is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8x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eight of the first cu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2438280" cy="33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876920" y="2286000"/>
            <a:ext cx="35812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original weighs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100lb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the second cube weighs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800lb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411480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733920" y="2879640"/>
            <a:ext cx="426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the surface area of a box 5in x 7in x 12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14400" y="3581280"/>
            <a:ext cx="2601720" cy="2897640"/>
            <a:chOff x="914400" y="3581280"/>
            <a:chExt cx="2601720" cy="2897640"/>
          </a:xfrm>
        </p:grpSpPr>
        <p:sp>
          <p:nvSpPr>
            <p:cNvPr id="302" name=""/>
            <p:cNvSpPr/>
            <p:nvPr/>
          </p:nvSpPr>
          <p:spPr>
            <a:xfrm>
              <a:off x="914400" y="3581280"/>
              <a:ext cx="1752840" cy="22100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30440" y="548640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11480" y="589752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22680" y="428472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55760" y="41148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93560" y="396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18920" y="35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95640" y="4114800"/>
              <a:ext cx="396720" cy="41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0200" y="3581280"/>
              <a:ext cx="397080" cy="41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0" y="3962520"/>
              <a:ext cx="320760" cy="41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754360" y="3581280"/>
              <a:ext cx="0" cy="179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2320" y="5378400"/>
              <a:ext cx="38088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14400" y="5943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3581280"/>
            <a:ext cx="1752480" cy="221004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914400" y="3581280"/>
            <a:ext cx="2601720" cy="2897640"/>
            <a:chOff x="914400" y="3581280"/>
            <a:chExt cx="2601720" cy="2897640"/>
          </a:xfrm>
        </p:grpSpPr>
        <p:sp>
          <p:nvSpPr>
            <p:cNvPr id="318" name=""/>
            <p:cNvSpPr/>
            <p:nvPr/>
          </p:nvSpPr>
          <p:spPr>
            <a:xfrm>
              <a:off x="2530440" y="548640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1120" y="589752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22680" y="428472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754360" y="3581280"/>
              <a:ext cx="0" cy="179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362320" y="5378400"/>
              <a:ext cx="38088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14400" y="5943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733920" y="2879640"/>
            <a:ext cx="426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surface area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a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box 5in x 7in x 12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88600" y="1601280"/>
            <a:ext cx="3176640" cy="1545840"/>
            <a:chOff x="588600" y="1601280"/>
            <a:chExt cx="3176640" cy="1545840"/>
          </a:xfrm>
        </p:grpSpPr>
        <p:sp>
          <p:nvSpPr>
            <p:cNvPr id="326" name=""/>
            <p:cNvSpPr/>
            <p:nvPr/>
          </p:nvSpPr>
          <p:spPr>
            <a:xfrm rot="20897400">
              <a:off x="623160" y="1944360"/>
              <a:ext cx="301644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897400">
              <a:off x="652680" y="190044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676520" y="1606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4880" indent="-1604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Given:  a rectangular b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3581280"/>
            <a:ext cx="1752480" cy="221004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295280" y="4114800"/>
            <a:ext cx="768600" cy="728640"/>
            <a:chOff x="1295280" y="4114800"/>
            <a:chExt cx="768600" cy="728640"/>
          </a:xfrm>
        </p:grpSpPr>
        <p:sp>
          <p:nvSpPr>
            <p:cNvPr id="331" name=""/>
            <p:cNvSpPr/>
            <p:nvPr/>
          </p:nvSpPr>
          <p:spPr>
            <a:xfrm>
              <a:off x="1492200" y="4114800"/>
              <a:ext cx="33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95280" y="4114800"/>
              <a:ext cx="768600" cy="7286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447920" y="3370320"/>
            <a:ext cx="838080" cy="728640"/>
            <a:chOff x="1447920" y="3370320"/>
            <a:chExt cx="838080" cy="728640"/>
          </a:xfrm>
        </p:grpSpPr>
        <p:sp>
          <p:nvSpPr>
            <p:cNvPr id="334" name=""/>
            <p:cNvSpPr/>
            <p:nvPr/>
          </p:nvSpPr>
          <p:spPr>
            <a:xfrm>
              <a:off x="1610640" y="337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47920" y="3370320"/>
              <a:ext cx="838080" cy="7286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286000" y="3962520"/>
            <a:ext cx="468360" cy="880920"/>
            <a:chOff x="2286000" y="3962520"/>
            <a:chExt cx="468360" cy="880920"/>
          </a:xfrm>
        </p:grpSpPr>
        <p:sp>
          <p:nvSpPr>
            <p:cNvPr id="337" name=""/>
            <p:cNvSpPr/>
            <p:nvPr/>
          </p:nvSpPr>
          <p:spPr>
            <a:xfrm>
              <a:off x="2286000" y="396252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86000" y="3962520"/>
              <a:ext cx="468360" cy="8809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914400" y="3581280"/>
            <a:ext cx="2601720" cy="2897640"/>
            <a:chOff x="914400" y="3581280"/>
            <a:chExt cx="2601720" cy="2897640"/>
          </a:xfrm>
        </p:grpSpPr>
        <p:sp>
          <p:nvSpPr>
            <p:cNvPr id="340" name=""/>
            <p:cNvSpPr/>
            <p:nvPr/>
          </p:nvSpPr>
          <p:spPr>
            <a:xfrm>
              <a:off x="2530440" y="548640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11120" y="589752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22680" y="428472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754360" y="3581280"/>
              <a:ext cx="0" cy="179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362320" y="5378400"/>
              <a:ext cx="38088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5943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9880" y="338616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box has six su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2335320"/>
            <a:ext cx="42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5in x 7in x 12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4114800"/>
            <a:ext cx="49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two of each: 1 - 2 - 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572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4880" indent="-1604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s:  surface area of the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809520" y="3627360"/>
            <a:ext cx="1395000" cy="1847160"/>
            <a:chOff x="3809520" y="3627360"/>
            <a:chExt cx="1395000" cy="1847160"/>
          </a:xfrm>
        </p:grpSpPr>
        <p:sp>
          <p:nvSpPr>
            <p:cNvPr id="352" name=""/>
            <p:cNvSpPr/>
            <p:nvPr/>
          </p:nvSpPr>
          <p:spPr>
            <a:xfrm>
              <a:off x="3809880" y="3627360"/>
              <a:ext cx="1371600" cy="17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09880" y="3643200"/>
              <a:ext cx="336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09880" y="3643200"/>
              <a:ext cx="33660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89760" y="5014800"/>
              <a:ext cx="464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66600" y="4252680"/>
              <a:ext cx="637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809520" y="5243400"/>
              <a:ext cx="4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67120" y="524340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952880" y="362736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2880" y="4709880"/>
              <a:ext cx="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181120" y="3612960"/>
            <a:ext cx="790200" cy="1796760"/>
            <a:chOff x="5181120" y="3612960"/>
            <a:chExt cx="790200" cy="1796760"/>
          </a:xfrm>
        </p:grpSpPr>
        <p:sp>
          <p:nvSpPr>
            <p:cNvPr id="362" name=""/>
            <p:cNvSpPr/>
            <p:nvPr/>
          </p:nvSpPr>
          <p:spPr>
            <a:xfrm>
              <a:off x="5181480" y="3627360"/>
              <a:ext cx="762120" cy="178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81480" y="3643200"/>
              <a:ext cx="336600" cy="459720"/>
            </a:xfrm>
            <a:prstGeom prst="rect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3643200"/>
              <a:ext cx="336600" cy="414000"/>
            </a:xfrm>
            <a:prstGeom prst="ellipse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52120" y="4862520"/>
              <a:ext cx="464040" cy="459720"/>
            </a:xfrm>
            <a:prstGeom prst="rect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33400" y="4252680"/>
              <a:ext cx="637920" cy="459720"/>
            </a:xfrm>
            <a:prstGeom prst="rect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791320" y="3612960"/>
              <a:ext cx="0" cy="64260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4695840"/>
              <a:ext cx="0" cy="69948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181120" y="5243400"/>
              <a:ext cx="762120" cy="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14840" y="3627360"/>
            <a:ext cx="772560" cy="1795680"/>
            <a:chOff x="7314840" y="3627360"/>
            <a:chExt cx="772560" cy="1795680"/>
          </a:xfrm>
        </p:grpSpPr>
        <p:sp>
          <p:nvSpPr>
            <p:cNvPr id="371" name=""/>
            <p:cNvSpPr/>
            <p:nvPr/>
          </p:nvSpPr>
          <p:spPr>
            <a:xfrm>
              <a:off x="7315200" y="3639960"/>
              <a:ext cx="762120" cy="178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38600" y="3657600"/>
              <a:ext cx="354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26360" y="3657600"/>
              <a:ext cx="32076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85480" y="4876920"/>
              <a:ext cx="464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49480" y="4267080"/>
              <a:ext cx="637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924680" y="3627360"/>
              <a:ext cx="0" cy="64296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24680" y="4710240"/>
              <a:ext cx="0" cy="69984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14840" y="5257800"/>
              <a:ext cx="762120" cy="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943600" y="2728440"/>
            <a:ext cx="1371600" cy="1008000"/>
            <a:chOff x="5943600" y="2728440"/>
            <a:chExt cx="1371600" cy="1008000"/>
          </a:xfrm>
        </p:grpSpPr>
        <p:sp>
          <p:nvSpPr>
            <p:cNvPr id="380" name=""/>
            <p:cNvSpPr/>
            <p:nvPr/>
          </p:nvSpPr>
          <p:spPr>
            <a:xfrm>
              <a:off x="5943600" y="2728800"/>
              <a:ext cx="1371600" cy="91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62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43600" y="2743200"/>
              <a:ext cx="396720" cy="41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14120" y="327672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95000" y="297180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943600" y="350532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00840" y="350532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86600" y="327672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086600" y="2728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943600" y="3627360"/>
            <a:ext cx="1377000" cy="1861560"/>
            <a:chOff x="5943600" y="3627360"/>
            <a:chExt cx="1377000" cy="1861560"/>
          </a:xfrm>
        </p:grpSpPr>
        <p:sp>
          <p:nvSpPr>
            <p:cNvPr id="390" name=""/>
            <p:cNvSpPr/>
            <p:nvPr/>
          </p:nvSpPr>
          <p:spPr>
            <a:xfrm>
              <a:off x="5943600" y="3641760"/>
              <a:ext cx="1371600" cy="17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04080" y="3657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3600" y="3657600"/>
              <a:ext cx="396720" cy="41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14120" y="502920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82680" y="42670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943600" y="52578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00840" y="525780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086600" y="362736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86600" y="4710240"/>
              <a:ext cx="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580200">
              <a:off x="5945760" y="4030200"/>
              <a:ext cx="10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43200" y="2057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m of areas of all su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3581280"/>
            <a:ext cx="1752480" cy="221004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295280" y="4114800"/>
            <a:ext cx="768600" cy="728640"/>
            <a:chOff x="1295280" y="4114800"/>
            <a:chExt cx="768600" cy="728640"/>
          </a:xfrm>
        </p:grpSpPr>
        <p:sp>
          <p:nvSpPr>
            <p:cNvPr id="404" name=""/>
            <p:cNvSpPr/>
            <p:nvPr/>
          </p:nvSpPr>
          <p:spPr>
            <a:xfrm>
              <a:off x="1492200" y="4114800"/>
              <a:ext cx="33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95280" y="4114800"/>
              <a:ext cx="768600" cy="7286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447920" y="3370320"/>
            <a:ext cx="838080" cy="728640"/>
            <a:chOff x="1447920" y="3370320"/>
            <a:chExt cx="838080" cy="728640"/>
          </a:xfrm>
        </p:grpSpPr>
        <p:sp>
          <p:nvSpPr>
            <p:cNvPr id="407" name=""/>
            <p:cNvSpPr/>
            <p:nvPr/>
          </p:nvSpPr>
          <p:spPr>
            <a:xfrm>
              <a:off x="1610640" y="337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47920" y="3370320"/>
              <a:ext cx="838080" cy="7286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286000" y="3962520"/>
            <a:ext cx="468360" cy="880920"/>
            <a:chOff x="2286000" y="3962520"/>
            <a:chExt cx="468360" cy="880920"/>
          </a:xfrm>
        </p:grpSpPr>
        <p:sp>
          <p:nvSpPr>
            <p:cNvPr id="410" name=""/>
            <p:cNvSpPr/>
            <p:nvPr/>
          </p:nvSpPr>
          <p:spPr>
            <a:xfrm>
              <a:off x="2286000" y="396252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0" y="3962520"/>
              <a:ext cx="468360" cy="8809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914400" y="3581280"/>
            <a:ext cx="2601720" cy="2897640"/>
            <a:chOff x="914400" y="3581280"/>
            <a:chExt cx="2601720" cy="2897640"/>
          </a:xfrm>
        </p:grpSpPr>
        <p:sp>
          <p:nvSpPr>
            <p:cNvPr id="413" name=""/>
            <p:cNvSpPr/>
            <p:nvPr/>
          </p:nvSpPr>
          <p:spPr>
            <a:xfrm>
              <a:off x="2530440" y="548640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11120" y="589752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22680" y="428472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2754360" y="3581280"/>
              <a:ext cx="0" cy="179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362320" y="5378400"/>
              <a:ext cx="38088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14400" y="5943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943600" y="5424480"/>
            <a:ext cx="1371600" cy="992880"/>
            <a:chOff x="5943600" y="5424480"/>
            <a:chExt cx="1371600" cy="992880"/>
          </a:xfrm>
        </p:grpSpPr>
        <p:sp>
          <p:nvSpPr>
            <p:cNvPr id="420" name=""/>
            <p:cNvSpPr/>
            <p:nvPr/>
          </p:nvSpPr>
          <p:spPr>
            <a:xfrm>
              <a:off x="5943600" y="5427360"/>
              <a:ext cx="1371600" cy="91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43600" y="54244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43600" y="5424480"/>
              <a:ext cx="336600" cy="41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14120" y="595764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95000" y="565272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943600" y="618624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00840" y="618624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5973480"/>
              <a:ext cx="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086600" y="5425560"/>
              <a:ext cx="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09880" y="2743200"/>
            <a:ext cx="4272480" cy="3673800"/>
            <a:chOff x="3809880" y="2743200"/>
            <a:chExt cx="4272480" cy="3673800"/>
          </a:xfrm>
        </p:grpSpPr>
        <p:grpSp>
          <p:nvGrpSpPr>
            <p:cNvPr id="430" name=""/>
            <p:cNvGrpSpPr/>
            <p:nvPr/>
          </p:nvGrpSpPr>
          <p:grpSpPr>
            <a:xfrm>
              <a:off x="3809880" y="3641040"/>
              <a:ext cx="1394280" cy="1847160"/>
              <a:chOff x="3809880" y="3641040"/>
              <a:chExt cx="1394280" cy="1847160"/>
            </a:xfrm>
          </p:grpSpPr>
          <p:sp>
            <p:nvSpPr>
              <p:cNvPr id="431" name=""/>
              <p:cNvSpPr/>
              <p:nvPr/>
            </p:nvSpPr>
            <p:spPr>
              <a:xfrm>
                <a:off x="3809880" y="3641400"/>
                <a:ext cx="1371240" cy="178236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809880" y="3656880"/>
                <a:ext cx="3362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9880" y="3656880"/>
                <a:ext cx="33624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89400" y="502848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7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66240" y="4266360"/>
                <a:ext cx="63792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2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809880" y="525708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66760" y="525708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952520" y="364104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52520" y="4723560"/>
                <a:ext cx="0" cy="6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181480" y="3627000"/>
              <a:ext cx="784800" cy="1796400"/>
              <a:chOff x="5181480" y="3627000"/>
              <a:chExt cx="784800" cy="1796400"/>
            </a:xfrm>
          </p:grpSpPr>
          <p:sp>
            <p:nvSpPr>
              <p:cNvPr id="441" name=""/>
              <p:cNvSpPr/>
              <p:nvPr/>
            </p:nvSpPr>
            <p:spPr>
              <a:xfrm>
                <a:off x="5181480" y="3641400"/>
                <a:ext cx="761760" cy="178200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181480" y="3657240"/>
                <a:ext cx="3362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81480" y="3657240"/>
                <a:ext cx="33624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46720" y="487620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328360" y="4266720"/>
                <a:ext cx="63792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2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5790960" y="362700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90960" y="4709520"/>
                <a:ext cx="0" cy="6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5181480" y="52570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7314480" y="3641040"/>
              <a:ext cx="767880" cy="1795320"/>
              <a:chOff x="7314480" y="3641040"/>
              <a:chExt cx="767880" cy="1795320"/>
            </a:xfrm>
          </p:grpSpPr>
          <p:sp>
            <p:nvSpPr>
              <p:cNvPr id="450" name=""/>
              <p:cNvSpPr/>
              <p:nvPr/>
            </p:nvSpPr>
            <p:spPr>
              <a:xfrm>
                <a:off x="7314840" y="3653640"/>
                <a:ext cx="762120" cy="1782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333560" y="3671280"/>
                <a:ext cx="3546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26000" y="3671280"/>
                <a:ext cx="32076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480440" y="489060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444440" y="4280760"/>
                <a:ext cx="63792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2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7924320" y="364104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924320" y="4723920"/>
                <a:ext cx="0" cy="6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314480" y="52714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943240" y="2743200"/>
              <a:ext cx="1371600" cy="1007280"/>
              <a:chOff x="5943240" y="2743200"/>
              <a:chExt cx="1371600" cy="1007280"/>
            </a:xfrm>
          </p:grpSpPr>
          <p:sp>
            <p:nvSpPr>
              <p:cNvPr id="459" name=""/>
              <p:cNvSpPr/>
              <p:nvPr/>
            </p:nvSpPr>
            <p:spPr>
              <a:xfrm>
                <a:off x="5943240" y="2743200"/>
                <a:ext cx="1371600" cy="91080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61960" y="2757240"/>
                <a:ext cx="3546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43240" y="2757240"/>
                <a:ext cx="39672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413760" y="329076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7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794640" y="298584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5943240" y="351936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900480" y="3519360"/>
                <a:ext cx="41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86240" y="3290760"/>
                <a:ext cx="0" cy="3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086240" y="2743200"/>
                <a:ext cx="0" cy="2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943240" y="5424120"/>
              <a:ext cx="1371600" cy="992880"/>
              <a:chOff x="5943240" y="5424120"/>
              <a:chExt cx="1371600" cy="992880"/>
            </a:xfrm>
          </p:grpSpPr>
          <p:sp>
            <p:nvSpPr>
              <p:cNvPr id="469" name=""/>
              <p:cNvSpPr/>
              <p:nvPr/>
            </p:nvSpPr>
            <p:spPr>
              <a:xfrm>
                <a:off x="5943240" y="5427000"/>
                <a:ext cx="1371600" cy="91080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943240" y="5424120"/>
                <a:ext cx="3366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943240" y="5424120"/>
                <a:ext cx="33660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13760" y="595728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7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94640" y="565236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5943240" y="618588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00480" y="6185880"/>
                <a:ext cx="41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86240" y="5973120"/>
                <a:ext cx="0" cy="3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086240" y="5425200"/>
                <a:ext cx="0" cy="24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943240" y="3641040"/>
              <a:ext cx="1377000" cy="1861560"/>
              <a:chOff x="5943240" y="3641040"/>
              <a:chExt cx="1377000" cy="1861560"/>
            </a:xfrm>
          </p:grpSpPr>
          <p:sp>
            <p:nvSpPr>
              <p:cNvPr id="479" name=""/>
              <p:cNvSpPr/>
              <p:nvPr/>
            </p:nvSpPr>
            <p:spPr>
              <a:xfrm>
                <a:off x="5943240" y="3655440"/>
                <a:ext cx="1371600" cy="178236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03720" y="3671280"/>
                <a:ext cx="3362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943240" y="3671280"/>
                <a:ext cx="39672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413760" y="504288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7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82320" y="4280760"/>
                <a:ext cx="63792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2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5943240" y="527148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900480" y="5271480"/>
                <a:ext cx="41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7086240" y="364104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086240" y="4723920"/>
                <a:ext cx="0" cy="6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8580200">
                <a:off x="5945400" y="4043880"/>
                <a:ext cx="106488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1676520"/>
            <a:ext cx="7620120" cy="44956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43000" y="1905120"/>
            <a:ext cx="7238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is: The box is made up a six rectangular sides, each has an area given by formula, A= lw.  Given all lengths and widths, calculate each surface area.  Then add all six areas together for total surface area of bo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  Each side of the box is duplicated, so need to calculate 3 areas and add each one twic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90400" y="144792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471760"/>
            <a:ext cx="556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polynomials to solve problems involving geometric fig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polynomials to solve problems involving falling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676520" y="1727280"/>
            <a:ext cx="1752480" cy="170172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5291280"/>
            <a:ext cx="7391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191120" y="1600200"/>
            <a:ext cx="3733560" cy="2593440"/>
            <a:chOff x="4191120" y="1600200"/>
            <a:chExt cx="3733560" cy="2593440"/>
          </a:xfrm>
        </p:grpSpPr>
        <p:grpSp>
          <p:nvGrpSpPr>
            <p:cNvPr id="495" name=""/>
            <p:cNvGrpSpPr/>
            <p:nvPr/>
          </p:nvGrpSpPr>
          <p:grpSpPr>
            <a:xfrm>
              <a:off x="4191120" y="1600200"/>
              <a:ext cx="3504960" cy="2514600"/>
              <a:chOff x="4191120" y="1600200"/>
              <a:chExt cx="3504960" cy="2514600"/>
            </a:xfrm>
          </p:grpSpPr>
          <p:sp>
            <p:nvSpPr>
              <p:cNvPr id="496" name=""/>
              <p:cNvSpPr/>
              <p:nvPr/>
            </p:nvSpPr>
            <p:spPr>
              <a:xfrm>
                <a:off x="5943600" y="2184480"/>
                <a:ext cx="140184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191120" y="2184480"/>
                <a:ext cx="140148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92600" y="2184480"/>
                <a:ext cx="35100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45440" y="2184480"/>
                <a:ext cx="35064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43600" y="3530520"/>
                <a:ext cx="1401840" cy="58428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943600" y="1600200"/>
                <a:ext cx="1401840" cy="58428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5943600" y="2209680"/>
              <a:ext cx="457200" cy="459720"/>
              <a:chOff x="5943600" y="2209680"/>
              <a:chExt cx="457200" cy="459720"/>
            </a:xfrm>
          </p:grpSpPr>
          <p:sp>
            <p:nvSpPr>
              <p:cNvPr id="503" name=""/>
              <p:cNvSpPr/>
              <p:nvPr/>
            </p:nvSpPr>
            <p:spPr>
              <a:xfrm>
                <a:off x="594360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943600" y="2209680"/>
                <a:ext cx="457200" cy="4572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943600" y="1600200"/>
              <a:ext cx="457200" cy="510480"/>
              <a:chOff x="5943600" y="1600200"/>
              <a:chExt cx="457200" cy="510480"/>
            </a:xfrm>
          </p:grpSpPr>
          <p:sp>
            <p:nvSpPr>
              <p:cNvPr id="506" name=""/>
              <p:cNvSpPr/>
              <p:nvPr/>
            </p:nvSpPr>
            <p:spPr>
              <a:xfrm>
                <a:off x="5943600" y="165096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943600" y="1600200"/>
                <a:ext cx="457200" cy="432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7315200" y="2209680"/>
              <a:ext cx="457200" cy="459720"/>
              <a:chOff x="7315200" y="2209680"/>
              <a:chExt cx="457200" cy="459720"/>
            </a:xfrm>
          </p:grpSpPr>
          <p:sp>
            <p:nvSpPr>
              <p:cNvPr id="509" name=""/>
              <p:cNvSpPr/>
              <p:nvPr/>
            </p:nvSpPr>
            <p:spPr>
              <a:xfrm>
                <a:off x="731520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345440" y="2209680"/>
                <a:ext cx="35064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562720" y="2209680"/>
              <a:ext cx="457200" cy="459720"/>
              <a:chOff x="5562720" y="2209680"/>
              <a:chExt cx="457200" cy="459720"/>
            </a:xfrm>
          </p:grpSpPr>
          <p:sp>
            <p:nvSpPr>
              <p:cNvPr id="512" name=""/>
              <p:cNvSpPr/>
              <p:nvPr/>
            </p:nvSpPr>
            <p:spPr>
              <a:xfrm>
                <a:off x="556272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592600" y="2209680"/>
                <a:ext cx="35100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4191120" y="2209680"/>
              <a:ext cx="457200" cy="459720"/>
              <a:chOff x="4191120" y="2209680"/>
              <a:chExt cx="457200" cy="459720"/>
            </a:xfrm>
          </p:grpSpPr>
          <p:sp>
            <p:nvSpPr>
              <p:cNvPr id="515" name=""/>
              <p:cNvSpPr/>
              <p:nvPr/>
            </p:nvSpPr>
            <p:spPr>
              <a:xfrm>
                <a:off x="419112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191120" y="2209680"/>
                <a:ext cx="45720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943600" y="3581280"/>
              <a:ext cx="457200" cy="459720"/>
              <a:chOff x="5943600" y="3581280"/>
              <a:chExt cx="457200" cy="459720"/>
            </a:xfrm>
          </p:grpSpPr>
          <p:sp>
            <p:nvSpPr>
              <p:cNvPr id="518" name=""/>
              <p:cNvSpPr/>
              <p:nvPr/>
            </p:nvSpPr>
            <p:spPr>
              <a:xfrm>
                <a:off x="5943600" y="35812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43600" y="3581280"/>
                <a:ext cx="457200" cy="432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781680" y="2590920"/>
              <a:ext cx="68580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29200" y="2590920"/>
              <a:ext cx="68580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483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71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77120" y="373392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77120" y="182880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58000" y="167652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35812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627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120" y="4267080"/>
            <a:ext cx="754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rface area of whole box = 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59240" y="5181480"/>
            <a:ext cx="271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A = l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28800" y="4281480"/>
            <a:ext cx="57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each rectangular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76520" y="1727280"/>
            <a:ext cx="1752480" cy="170172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191120" y="1600200"/>
            <a:ext cx="3733560" cy="2593440"/>
            <a:chOff x="4191120" y="1600200"/>
            <a:chExt cx="3733560" cy="2593440"/>
          </a:xfrm>
        </p:grpSpPr>
        <p:grpSp>
          <p:nvGrpSpPr>
            <p:cNvPr id="537" name=""/>
            <p:cNvGrpSpPr/>
            <p:nvPr/>
          </p:nvGrpSpPr>
          <p:grpSpPr>
            <a:xfrm>
              <a:off x="4191120" y="1600200"/>
              <a:ext cx="3504960" cy="2514600"/>
              <a:chOff x="4191120" y="1600200"/>
              <a:chExt cx="3504960" cy="2514600"/>
            </a:xfrm>
          </p:grpSpPr>
          <p:sp>
            <p:nvSpPr>
              <p:cNvPr id="538" name=""/>
              <p:cNvSpPr/>
              <p:nvPr/>
            </p:nvSpPr>
            <p:spPr>
              <a:xfrm>
                <a:off x="5943600" y="2184480"/>
                <a:ext cx="140184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91120" y="2184480"/>
                <a:ext cx="140148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92600" y="2184480"/>
                <a:ext cx="35100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345440" y="2184480"/>
                <a:ext cx="35064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43600" y="3530520"/>
                <a:ext cx="1401840" cy="58428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943600" y="1600200"/>
                <a:ext cx="1401840" cy="58428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5943600" y="2209680"/>
              <a:ext cx="457200" cy="459720"/>
              <a:chOff x="5943600" y="2209680"/>
              <a:chExt cx="457200" cy="459720"/>
            </a:xfrm>
          </p:grpSpPr>
          <p:sp>
            <p:nvSpPr>
              <p:cNvPr id="545" name=""/>
              <p:cNvSpPr/>
              <p:nvPr/>
            </p:nvSpPr>
            <p:spPr>
              <a:xfrm>
                <a:off x="594360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43600" y="2209680"/>
                <a:ext cx="457200" cy="4572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943600" y="1600200"/>
              <a:ext cx="457200" cy="510480"/>
              <a:chOff x="5943600" y="1600200"/>
              <a:chExt cx="457200" cy="510480"/>
            </a:xfrm>
          </p:grpSpPr>
          <p:sp>
            <p:nvSpPr>
              <p:cNvPr id="548" name=""/>
              <p:cNvSpPr/>
              <p:nvPr/>
            </p:nvSpPr>
            <p:spPr>
              <a:xfrm>
                <a:off x="5943600" y="165096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943600" y="1600200"/>
                <a:ext cx="457200" cy="432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315200" y="2209680"/>
              <a:ext cx="457200" cy="459720"/>
              <a:chOff x="7315200" y="2209680"/>
              <a:chExt cx="457200" cy="459720"/>
            </a:xfrm>
          </p:grpSpPr>
          <p:sp>
            <p:nvSpPr>
              <p:cNvPr id="551" name=""/>
              <p:cNvSpPr/>
              <p:nvPr/>
            </p:nvSpPr>
            <p:spPr>
              <a:xfrm>
                <a:off x="731520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345440" y="2209680"/>
                <a:ext cx="35064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5562720" y="2209680"/>
              <a:ext cx="457200" cy="459720"/>
              <a:chOff x="5562720" y="2209680"/>
              <a:chExt cx="457200" cy="459720"/>
            </a:xfrm>
          </p:grpSpPr>
          <p:sp>
            <p:nvSpPr>
              <p:cNvPr id="554" name=""/>
              <p:cNvSpPr/>
              <p:nvPr/>
            </p:nvSpPr>
            <p:spPr>
              <a:xfrm>
                <a:off x="556272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592600" y="2209680"/>
                <a:ext cx="35100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4191120" y="2209680"/>
              <a:ext cx="457200" cy="459720"/>
              <a:chOff x="4191120" y="2209680"/>
              <a:chExt cx="457200" cy="459720"/>
            </a:xfrm>
          </p:grpSpPr>
          <p:sp>
            <p:nvSpPr>
              <p:cNvPr id="557" name=""/>
              <p:cNvSpPr/>
              <p:nvPr/>
            </p:nvSpPr>
            <p:spPr>
              <a:xfrm>
                <a:off x="419112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191120" y="2209680"/>
                <a:ext cx="45720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943600" y="3581280"/>
              <a:ext cx="457200" cy="459720"/>
              <a:chOff x="5943600" y="3581280"/>
              <a:chExt cx="457200" cy="459720"/>
            </a:xfrm>
          </p:grpSpPr>
          <p:sp>
            <p:nvSpPr>
              <p:cNvPr id="560" name=""/>
              <p:cNvSpPr/>
              <p:nvPr/>
            </p:nvSpPr>
            <p:spPr>
              <a:xfrm>
                <a:off x="5943600" y="35812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43600" y="3581280"/>
                <a:ext cx="457200" cy="432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6781680" y="2590920"/>
              <a:ext cx="68580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29200" y="2590920"/>
              <a:ext cx="68580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83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771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77120" y="373392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77120" y="182880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58000" y="167652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1520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34320" y="35812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627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" y="4267080"/>
            <a:ext cx="81532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(12in)(7in) + (12in)(5in) + (7in)(5in) + (12in)(5in) + (12in)(7in) +(7in)(5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" y="4267080"/>
            <a:ext cx="81532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(12in)(7in) + (12in)(5in) + (7in)(5in) + (12in)(7in) + (12in)(5in) + (7in)(5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727280"/>
            <a:ext cx="1752480" cy="170172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191120" y="1600200"/>
            <a:ext cx="3733560" cy="2593440"/>
            <a:chOff x="4191120" y="1600200"/>
            <a:chExt cx="3733560" cy="2593440"/>
          </a:xfrm>
        </p:grpSpPr>
        <p:grpSp>
          <p:nvGrpSpPr>
            <p:cNvPr id="577" name=""/>
            <p:cNvGrpSpPr/>
            <p:nvPr/>
          </p:nvGrpSpPr>
          <p:grpSpPr>
            <a:xfrm>
              <a:off x="4191120" y="1600200"/>
              <a:ext cx="3504960" cy="2514600"/>
              <a:chOff x="4191120" y="1600200"/>
              <a:chExt cx="3504960" cy="2514600"/>
            </a:xfrm>
          </p:grpSpPr>
          <p:sp>
            <p:nvSpPr>
              <p:cNvPr id="578" name=""/>
              <p:cNvSpPr/>
              <p:nvPr/>
            </p:nvSpPr>
            <p:spPr>
              <a:xfrm>
                <a:off x="5943600" y="2184480"/>
                <a:ext cx="140184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191120" y="2184480"/>
                <a:ext cx="140148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92600" y="2184480"/>
                <a:ext cx="35100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345440" y="2184480"/>
                <a:ext cx="35064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943600" y="3530520"/>
                <a:ext cx="1401840" cy="58428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943600" y="1600200"/>
                <a:ext cx="1401840" cy="58428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943600" y="2209680"/>
              <a:ext cx="457200" cy="459720"/>
              <a:chOff x="5943600" y="2209680"/>
              <a:chExt cx="457200" cy="459720"/>
            </a:xfrm>
          </p:grpSpPr>
          <p:sp>
            <p:nvSpPr>
              <p:cNvPr id="585" name=""/>
              <p:cNvSpPr/>
              <p:nvPr/>
            </p:nvSpPr>
            <p:spPr>
              <a:xfrm>
                <a:off x="594360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943600" y="2209680"/>
                <a:ext cx="457200" cy="4572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943600" y="1600200"/>
              <a:ext cx="457200" cy="510480"/>
              <a:chOff x="5943600" y="1600200"/>
              <a:chExt cx="457200" cy="510480"/>
            </a:xfrm>
          </p:grpSpPr>
          <p:sp>
            <p:nvSpPr>
              <p:cNvPr id="588" name=""/>
              <p:cNvSpPr/>
              <p:nvPr/>
            </p:nvSpPr>
            <p:spPr>
              <a:xfrm>
                <a:off x="5943600" y="165096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943600" y="1600200"/>
                <a:ext cx="457200" cy="432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7315200" y="2209680"/>
              <a:ext cx="457200" cy="459720"/>
              <a:chOff x="7315200" y="2209680"/>
              <a:chExt cx="457200" cy="459720"/>
            </a:xfrm>
          </p:grpSpPr>
          <p:sp>
            <p:nvSpPr>
              <p:cNvPr id="591" name=""/>
              <p:cNvSpPr/>
              <p:nvPr/>
            </p:nvSpPr>
            <p:spPr>
              <a:xfrm>
                <a:off x="731520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345440" y="2209680"/>
                <a:ext cx="35064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5562720" y="2209680"/>
              <a:ext cx="457200" cy="459720"/>
              <a:chOff x="5562720" y="2209680"/>
              <a:chExt cx="457200" cy="459720"/>
            </a:xfrm>
          </p:grpSpPr>
          <p:sp>
            <p:nvSpPr>
              <p:cNvPr id="594" name=""/>
              <p:cNvSpPr/>
              <p:nvPr/>
            </p:nvSpPr>
            <p:spPr>
              <a:xfrm>
                <a:off x="556272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92600" y="2209680"/>
                <a:ext cx="35100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4191120" y="2209680"/>
              <a:ext cx="457200" cy="459720"/>
              <a:chOff x="4191120" y="2209680"/>
              <a:chExt cx="457200" cy="459720"/>
            </a:xfrm>
          </p:grpSpPr>
          <p:sp>
            <p:nvSpPr>
              <p:cNvPr id="597" name=""/>
              <p:cNvSpPr/>
              <p:nvPr/>
            </p:nvSpPr>
            <p:spPr>
              <a:xfrm>
                <a:off x="419112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191120" y="2209680"/>
                <a:ext cx="45720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5943600" y="3581280"/>
              <a:ext cx="457200" cy="459720"/>
              <a:chOff x="5943600" y="3581280"/>
              <a:chExt cx="457200" cy="459720"/>
            </a:xfrm>
          </p:grpSpPr>
          <p:sp>
            <p:nvSpPr>
              <p:cNvPr id="600" name=""/>
              <p:cNvSpPr/>
              <p:nvPr/>
            </p:nvSpPr>
            <p:spPr>
              <a:xfrm>
                <a:off x="5943600" y="35812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43600" y="3581280"/>
                <a:ext cx="457200" cy="432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781680" y="2590920"/>
              <a:ext cx="68580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29200" y="2590920"/>
              <a:ext cx="68580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83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771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77120" y="373392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77120" y="182880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58000" y="167652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1520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34320" y="35812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627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20600" y="4454640"/>
            <a:ext cx="7742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5640" indent="-10256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2(84in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60in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35in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64080" y="5294160"/>
            <a:ext cx="3589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5400" spc="-1" strike="noStrike" baseline="-25000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= 358in</a:t>
            </a:r>
            <a:r>
              <a:rPr b="0" lang="en-US" sz="5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5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76520" y="1727280"/>
            <a:ext cx="1752480" cy="1701720"/>
          </a:xfrm>
          <a:prstGeom prst="cube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191120" y="1600200"/>
            <a:ext cx="3733560" cy="2593440"/>
            <a:chOff x="4191120" y="1600200"/>
            <a:chExt cx="3733560" cy="2593440"/>
          </a:xfrm>
        </p:grpSpPr>
        <p:grpSp>
          <p:nvGrpSpPr>
            <p:cNvPr id="617" name=""/>
            <p:cNvGrpSpPr/>
            <p:nvPr/>
          </p:nvGrpSpPr>
          <p:grpSpPr>
            <a:xfrm>
              <a:off x="4191120" y="1600200"/>
              <a:ext cx="3504960" cy="2514600"/>
              <a:chOff x="4191120" y="1600200"/>
              <a:chExt cx="3504960" cy="2514600"/>
            </a:xfrm>
          </p:grpSpPr>
          <p:sp>
            <p:nvSpPr>
              <p:cNvPr id="618" name=""/>
              <p:cNvSpPr/>
              <p:nvPr/>
            </p:nvSpPr>
            <p:spPr>
              <a:xfrm>
                <a:off x="5943600" y="2184480"/>
                <a:ext cx="140184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191120" y="2184480"/>
                <a:ext cx="140148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92600" y="2184480"/>
                <a:ext cx="35100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45440" y="2184480"/>
                <a:ext cx="350640" cy="134604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43600" y="3530520"/>
                <a:ext cx="1401840" cy="58428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43600" y="1600200"/>
                <a:ext cx="1401840" cy="58428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943600" y="2209680"/>
              <a:ext cx="457200" cy="459720"/>
              <a:chOff x="5943600" y="2209680"/>
              <a:chExt cx="457200" cy="459720"/>
            </a:xfrm>
          </p:grpSpPr>
          <p:sp>
            <p:nvSpPr>
              <p:cNvPr id="625" name=""/>
              <p:cNvSpPr/>
              <p:nvPr/>
            </p:nvSpPr>
            <p:spPr>
              <a:xfrm>
                <a:off x="594360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43600" y="2209680"/>
                <a:ext cx="457200" cy="4572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5943600" y="1600200"/>
              <a:ext cx="457200" cy="510480"/>
              <a:chOff x="5943600" y="1600200"/>
              <a:chExt cx="457200" cy="510480"/>
            </a:xfrm>
          </p:grpSpPr>
          <p:sp>
            <p:nvSpPr>
              <p:cNvPr id="628" name=""/>
              <p:cNvSpPr/>
              <p:nvPr/>
            </p:nvSpPr>
            <p:spPr>
              <a:xfrm>
                <a:off x="5943600" y="165096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1600200"/>
                <a:ext cx="457200" cy="432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315200" y="2209680"/>
              <a:ext cx="457200" cy="459720"/>
              <a:chOff x="7315200" y="2209680"/>
              <a:chExt cx="457200" cy="459720"/>
            </a:xfrm>
          </p:grpSpPr>
          <p:sp>
            <p:nvSpPr>
              <p:cNvPr id="631" name=""/>
              <p:cNvSpPr/>
              <p:nvPr/>
            </p:nvSpPr>
            <p:spPr>
              <a:xfrm>
                <a:off x="731520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45440" y="2209680"/>
                <a:ext cx="35064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5562720" y="2209680"/>
              <a:ext cx="457200" cy="459720"/>
              <a:chOff x="5562720" y="2209680"/>
              <a:chExt cx="457200" cy="459720"/>
            </a:xfrm>
          </p:grpSpPr>
          <p:sp>
            <p:nvSpPr>
              <p:cNvPr id="634" name=""/>
              <p:cNvSpPr/>
              <p:nvPr/>
            </p:nvSpPr>
            <p:spPr>
              <a:xfrm>
                <a:off x="556272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592600" y="2209680"/>
                <a:ext cx="35100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191120" y="2209680"/>
              <a:ext cx="457200" cy="459720"/>
              <a:chOff x="4191120" y="2209680"/>
              <a:chExt cx="457200" cy="459720"/>
            </a:xfrm>
          </p:grpSpPr>
          <p:sp>
            <p:nvSpPr>
              <p:cNvPr id="637" name=""/>
              <p:cNvSpPr/>
              <p:nvPr/>
            </p:nvSpPr>
            <p:spPr>
              <a:xfrm>
                <a:off x="4191120" y="22096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191120" y="2209680"/>
                <a:ext cx="457200" cy="43164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5943600" y="3581280"/>
              <a:ext cx="457200" cy="459720"/>
              <a:chOff x="5943600" y="3581280"/>
              <a:chExt cx="457200" cy="459720"/>
            </a:xfrm>
          </p:grpSpPr>
          <p:sp>
            <p:nvSpPr>
              <p:cNvPr id="640" name=""/>
              <p:cNvSpPr/>
              <p:nvPr/>
            </p:nvSpPr>
            <p:spPr>
              <a:xfrm>
                <a:off x="5943600" y="3581280"/>
                <a:ext cx="4572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943600" y="3581280"/>
                <a:ext cx="457200" cy="432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6781680" y="2590920"/>
              <a:ext cx="68580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29200" y="2590920"/>
              <a:ext cx="68580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483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771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77120" y="373392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477120" y="182880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58000" y="167652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1520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34320" y="35812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62720" y="3124080"/>
              <a:ext cx="609480" cy="45972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257480" y="2544840"/>
            <a:ext cx="1752480" cy="251460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19520" y="4632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76520" y="50594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34592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5288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257480" y="528804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514600" y="4294080"/>
            <a:ext cx="45720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124080" y="411480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124080" y="2544480"/>
            <a:ext cx="0" cy="195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63044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lgebraic expression for the surface area of a box with dimens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67320" y="3422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ngth, 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width, w             height,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19680" y="1311480"/>
            <a:ext cx="2235960" cy="1034640"/>
            <a:chOff x="319680" y="1311480"/>
            <a:chExt cx="2235960" cy="1034640"/>
          </a:xfrm>
        </p:grpSpPr>
        <p:sp>
          <p:nvSpPr>
            <p:cNvPr id="665" name=""/>
            <p:cNvSpPr/>
            <p:nvPr/>
          </p:nvSpPr>
          <p:spPr>
            <a:xfrm rot="20897400">
              <a:off x="358920" y="1523880"/>
              <a:ext cx="2157120" cy="6094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897400">
              <a:off x="457200" y="1562040"/>
              <a:ext cx="2017800" cy="520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n gener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1905120" y="541008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 = 2(hl+hw+l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85800" y="20574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Solving Problem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with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Falling Bodie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1482840" cy="278460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838080" y="1600200"/>
            <a:ext cx="4191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skydiver jumps out of a plane traveling 10,000 ft above the ground. How high is she after 10 seconds? After 25 seconds?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06760" cy="38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685800" y="1752480"/>
            <a:ext cx="510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17th century, the Italian mathematician, Galileo Galilei found a way to calculate the distance fallen by an object in a given amount of time and the speed of a falling object at any moment in its f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 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943600" y="1752480"/>
            <a:ext cx="2700360" cy="44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29080" y="1393920"/>
            <a:ext cx="3292560" cy="51591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457200" y="1828800"/>
            <a:ext cx="510552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Galileo fou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ignoring air resistance, all objects fall at the sam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speed increases as objects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distance fallen and speed at any moment can be expressed 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57200" y="1523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bjects fall according to the form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00400" y="2313000"/>
            <a:ext cx="3124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-16t</a:t>
            </a:r>
            <a:r>
              <a:rPr b="1" lang="en-US" sz="36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 +</a:t>
            </a: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14400" y="2971800"/>
            <a:ext cx="76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height above the earth in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52560" y="3860640"/>
            <a:ext cx="81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time the object falls in seco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52560" y="4849920"/>
            <a:ext cx="7657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omic Sans MS"/>
              </a:rPr>
              <a:t>d</a:t>
            </a:r>
            <a:r>
              <a:rPr b="1" lang="en-US" sz="3200" spc="-1" strike="noStrike" baseline="-25000">
                <a:solidFill>
                  <a:srgbClr val="996633"/>
                </a:solidFill>
                <a:latin typeface="Comic Sans MS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original distance or starting height above the ground in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19520" y="30481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polynomials to solve problems involving business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0400" y="144792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609480" y="182880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skydiver jumps out of a plane traveling 10,000 ft above the ground. How high is she after 10 seconds? After 25 second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3047760" cy="21448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09480" y="1828800"/>
            <a:ext cx="777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skydiver jumps out of a plane traveling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0,000 ft above the groun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ow hig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she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fter 10 second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fter 25 second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533520" y="14875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Given: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 falling body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starts from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 10,000 ft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abov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162920" y="1589040"/>
            <a:ext cx="1708200" cy="1077840"/>
          </a:xfrm>
          <a:prstGeom prst="rect">
            <a:avLst/>
          </a:prstGeom>
          <a:ln w="0">
            <a:noFill/>
          </a:ln>
        </p:spPr>
      </p:pic>
      <p:grpSp>
        <p:nvGrpSpPr>
          <p:cNvPr id="692" name=""/>
          <p:cNvGrpSpPr/>
          <p:nvPr/>
        </p:nvGrpSpPr>
        <p:grpSpPr>
          <a:xfrm>
            <a:off x="7315200" y="2509920"/>
            <a:ext cx="1676520" cy="3578040"/>
            <a:chOff x="7315200" y="2509920"/>
            <a:chExt cx="1676520" cy="3578040"/>
          </a:xfrm>
        </p:grpSpPr>
        <p:sp>
          <p:nvSpPr>
            <p:cNvPr id="693" name=""/>
            <p:cNvSpPr/>
            <p:nvPr/>
          </p:nvSpPr>
          <p:spPr>
            <a:xfrm>
              <a:off x="7315200" y="3733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,000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229600" y="4114800"/>
              <a:ext cx="0" cy="197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8229600" y="2509920"/>
              <a:ext cx="0" cy="12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886200" y="5845320"/>
            <a:ext cx="4343400" cy="520560"/>
            <a:chOff x="3886200" y="5845320"/>
            <a:chExt cx="4343400" cy="520560"/>
          </a:xfrm>
        </p:grpSpPr>
        <p:sp>
          <p:nvSpPr>
            <p:cNvPr id="698" name=""/>
            <p:cNvSpPr/>
            <p:nvPr/>
          </p:nvSpPr>
          <p:spPr>
            <a:xfrm>
              <a:off x="5181480" y="609588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86200" y="58453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grou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 flipV="1">
            <a:off x="8229600" y="2509560"/>
            <a:ext cx="0" cy="357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057400" y="2971800"/>
            <a:ext cx="44118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d = -16t</a:t>
            </a:r>
            <a:r>
              <a:rPr b="1" lang="en-US" sz="4400" spc="-1" strike="noStrike" baseline="30000">
                <a:solidFill>
                  <a:srgbClr val="00cc99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 + d</a:t>
            </a:r>
            <a:r>
              <a:rPr b="1" lang="en-US" sz="4400" spc="-1" strike="noStrike" baseline="-25000">
                <a:solidFill>
                  <a:srgbClr val="00cc99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3520" y="16462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s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How far abov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5181480" y="1589040"/>
            <a:ext cx="3810240" cy="4506840"/>
            <a:chOff x="5181480" y="1589040"/>
            <a:chExt cx="3810240" cy="4506840"/>
          </a:xfrm>
        </p:grpSpPr>
        <p:sp>
          <p:nvSpPr>
            <p:cNvPr id="705" name=""/>
            <p:cNvSpPr/>
            <p:nvPr/>
          </p:nvSpPr>
          <p:spPr>
            <a:xfrm>
              <a:off x="5181480" y="609588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6" name="" descr=""/>
            <p:cNvPicPr/>
            <p:nvPr/>
          </p:nvPicPr>
          <p:blipFill>
            <a:blip r:embed="rId1"/>
            <a:stretch/>
          </p:blipFill>
          <p:spPr>
            <a:xfrm>
              <a:off x="7162920" y="1589040"/>
              <a:ext cx="17082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7315200" y="3733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,000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229600" y="4114800"/>
              <a:ext cx="0" cy="197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8229600" y="2509920"/>
              <a:ext cx="0" cy="12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4191120" y="3809880"/>
            <a:ext cx="2361960" cy="2278080"/>
            <a:chOff x="4191120" y="3809880"/>
            <a:chExt cx="2361960" cy="2278080"/>
          </a:xfrm>
        </p:grpSpPr>
        <p:pic>
          <p:nvPicPr>
            <p:cNvPr id="711" name="" descr=""/>
            <p:cNvPicPr/>
            <p:nvPr/>
          </p:nvPicPr>
          <p:blipFill>
            <a:blip r:embed="rId2"/>
            <a:stretch/>
          </p:blipFill>
          <p:spPr>
            <a:xfrm>
              <a:off x="4191120" y="3809880"/>
              <a:ext cx="18223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 flipV="1">
              <a:off x="5562720" y="5181480"/>
              <a:ext cx="0" cy="90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76920" y="54864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25 s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867280" y="2819520"/>
            <a:ext cx="2362320" cy="3268440"/>
            <a:chOff x="5867280" y="2819520"/>
            <a:chExt cx="2362320" cy="3268440"/>
          </a:xfrm>
        </p:grpSpPr>
        <p:pic>
          <p:nvPicPr>
            <p:cNvPr id="715" name="" descr=""/>
            <p:cNvPicPr/>
            <p:nvPr/>
          </p:nvPicPr>
          <p:blipFill>
            <a:blip r:embed="rId3"/>
            <a:stretch/>
          </p:blipFill>
          <p:spPr>
            <a:xfrm>
              <a:off x="5867280" y="2819520"/>
              <a:ext cx="15177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 flipV="1">
              <a:off x="7010280" y="4017960"/>
              <a:ext cx="0" cy="20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53080" y="5327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 s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2743200" y="2305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. after 10 sec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43200" y="29638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 after 25 sec?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6680" y="2133720"/>
            <a:ext cx="7086600" cy="35812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219320" y="2438280"/>
            <a:ext cx="69339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is: Use the given formula to find d, the distance above the ground at time 10 seconds into the fall given the original h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same formula to calculate the distance at 25 seconds into the fal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838080" y="1447920"/>
            <a:ext cx="5639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  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d = -16t</a:t>
            </a:r>
            <a:r>
              <a:rPr b="1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 + d</a:t>
            </a:r>
            <a:r>
              <a:rPr b="1" lang="en-US" sz="44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14400" y="24652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10 sec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d = -16(10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10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14400" y="40384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 = -1600 + 10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4800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 = 8400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09880" y="48387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6666ff"/>
                </a:solidFill>
                <a:latin typeface="Comic Sans MS"/>
              </a:rPr>
              <a:t>(1.5 mil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181480" y="1589040"/>
            <a:ext cx="3810240" cy="4506840"/>
            <a:chOff x="5181480" y="1589040"/>
            <a:chExt cx="3810240" cy="4506840"/>
          </a:xfrm>
        </p:grpSpPr>
        <p:sp>
          <p:nvSpPr>
            <p:cNvPr id="730" name=""/>
            <p:cNvSpPr/>
            <p:nvPr/>
          </p:nvSpPr>
          <p:spPr>
            <a:xfrm>
              <a:off x="5181480" y="609588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1" name="" descr=""/>
            <p:cNvPicPr/>
            <p:nvPr/>
          </p:nvPicPr>
          <p:blipFill>
            <a:blip r:embed="rId1"/>
            <a:stretch/>
          </p:blipFill>
          <p:spPr>
            <a:xfrm>
              <a:off x="7162920" y="1589040"/>
              <a:ext cx="17082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7315200" y="3733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,000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229600" y="4114800"/>
              <a:ext cx="0" cy="197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8229600" y="2509920"/>
              <a:ext cx="0" cy="12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867280" y="2819520"/>
            <a:ext cx="2362320" cy="3268440"/>
            <a:chOff x="5867280" y="2819520"/>
            <a:chExt cx="2362320" cy="3268440"/>
          </a:xfrm>
        </p:grpSpPr>
        <p:pic>
          <p:nvPicPr>
            <p:cNvPr id="736" name="" descr=""/>
            <p:cNvPicPr/>
            <p:nvPr/>
          </p:nvPicPr>
          <p:blipFill>
            <a:blip r:embed="rId2"/>
            <a:stretch/>
          </p:blipFill>
          <p:spPr>
            <a:xfrm>
              <a:off x="5867280" y="2819520"/>
              <a:ext cx="151776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 flipV="1">
              <a:off x="7010280" y="4017960"/>
              <a:ext cx="0" cy="20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53080" y="5327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 s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838080" y="556272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1.5 mil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ov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010280" y="3962520"/>
            <a:ext cx="0" cy="21333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609480" y="30481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10,000 – 8400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5181480" y="1589040"/>
            <a:ext cx="3810240" cy="4506840"/>
            <a:chOff x="5181480" y="1589040"/>
            <a:chExt cx="3810240" cy="4506840"/>
          </a:xfrm>
        </p:grpSpPr>
        <p:sp>
          <p:nvSpPr>
            <p:cNvPr id="744" name=""/>
            <p:cNvSpPr/>
            <p:nvPr/>
          </p:nvSpPr>
          <p:spPr>
            <a:xfrm>
              <a:off x="5181480" y="609588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5" name="" descr=""/>
            <p:cNvPicPr/>
            <p:nvPr/>
          </p:nvPicPr>
          <p:blipFill>
            <a:blip r:embed="rId1"/>
            <a:stretch/>
          </p:blipFill>
          <p:spPr>
            <a:xfrm>
              <a:off x="7162920" y="1589040"/>
              <a:ext cx="17082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6" name=""/>
            <p:cNvSpPr/>
            <p:nvPr/>
          </p:nvSpPr>
          <p:spPr>
            <a:xfrm>
              <a:off x="7315200" y="3733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,000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229600" y="4114800"/>
              <a:ext cx="0" cy="197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8229600" y="2509920"/>
              <a:ext cx="0" cy="12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5638680" y="2819520"/>
            <a:ext cx="2590920" cy="3268440"/>
            <a:chOff x="5638680" y="2819520"/>
            <a:chExt cx="2590920" cy="3268440"/>
          </a:xfrm>
        </p:grpSpPr>
        <p:grpSp>
          <p:nvGrpSpPr>
            <p:cNvPr id="750" name=""/>
            <p:cNvGrpSpPr/>
            <p:nvPr/>
          </p:nvGrpSpPr>
          <p:grpSpPr>
            <a:xfrm>
              <a:off x="5867280" y="2819520"/>
              <a:ext cx="2362320" cy="3268440"/>
              <a:chOff x="5867280" y="2819520"/>
              <a:chExt cx="2362320" cy="3268440"/>
            </a:xfrm>
          </p:grpSpPr>
          <p:pic>
            <p:nvPicPr>
              <p:cNvPr id="7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67280" y="2819520"/>
                <a:ext cx="1517760" cy="11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"/>
              <p:cNvSpPr/>
              <p:nvPr/>
            </p:nvSpPr>
            <p:spPr>
              <a:xfrm flipV="1">
                <a:off x="7010280" y="4017960"/>
                <a:ext cx="0" cy="207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553080" y="532764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5638680" y="497520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00"/>
                  </a:solidFill>
                  <a:latin typeface="Comic Sans MS"/>
                </a:rPr>
                <a:t>8400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3809880" y="5845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7010280" y="3973320"/>
            <a:ext cx="0" cy="211428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120" y="158904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r is </a:t>
            </a:r>
            <a:r>
              <a:rPr b="0" lang="en-US" sz="4400" spc="-1" strike="noStrike">
                <a:solidFill>
                  <a:srgbClr val="6666ff"/>
                </a:solidFill>
                <a:latin typeface="Comic Sans MS"/>
              </a:rPr>
              <a:t>8400 f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v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85040" y="2509920"/>
            <a:ext cx="0" cy="14637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120" y="4114800"/>
            <a:ext cx="510516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ff"/>
                </a:solidFill>
                <a:latin typeface="Comic Sans MS"/>
              </a:rPr>
              <a:t>1600ft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low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460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1600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838080" y="1447920"/>
            <a:ext cx="5639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   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d = -16t</a:t>
            </a:r>
            <a:r>
              <a:rPr b="1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 + d</a:t>
            </a:r>
            <a:r>
              <a:rPr b="1" lang="en-US" sz="44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24652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25 sec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d = -16(625) + 10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14400" y="40384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 = -10,000 + 10,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14400" y="4800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Comic Sans MS"/>
              </a:rPr>
              <a:t>d = 0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410080" y="1589040"/>
            <a:ext cx="3810240" cy="4506840"/>
            <a:chOff x="5410080" y="1589040"/>
            <a:chExt cx="3810240" cy="4506840"/>
          </a:xfrm>
        </p:grpSpPr>
        <p:sp>
          <p:nvSpPr>
            <p:cNvPr id="767" name=""/>
            <p:cNvSpPr/>
            <p:nvPr/>
          </p:nvSpPr>
          <p:spPr>
            <a:xfrm>
              <a:off x="5410080" y="609588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8" name="" descr=""/>
            <p:cNvPicPr/>
            <p:nvPr/>
          </p:nvPicPr>
          <p:blipFill>
            <a:blip r:embed="rId1"/>
            <a:stretch/>
          </p:blipFill>
          <p:spPr>
            <a:xfrm>
              <a:off x="7391520" y="1589040"/>
              <a:ext cx="17082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7543800" y="3733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,000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458200" y="4114800"/>
              <a:ext cx="0" cy="197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458200" y="2509920"/>
              <a:ext cx="0" cy="12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6172200" y="3809880"/>
            <a:ext cx="2361960" cy="2278080"/>
            <a:chOff x="6172200" y="3809880"/>
            <a:chExt cx="2361960" cy="2278080"/>
          </a:xfrm>
        </p:grpSpPr>
        <p:pic>
          <p:nvPicPr>
            <p:cNvPr id="773" name="" descr=""/>
            <p:cNvPicPr/>
            <p:nvPr/>
          </p:nvPicPr>
          <p:blipFill>
            <a:blip r:embed="rId2"/>
            <a:stretch/>
          </p:blipFill>
          <p:spPr>
            <a:xfrm>
              <a:off x="6172200" y="3809880"/>
              <a:ext cx="18223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 flipV="1">
              <a:off x="7543800" y="5181480"/>
              <a:ext cx="0" cy="90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58000" y="54864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25 s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952880" y="1589040"/>
            <a:ext cx="3810240" cy="4506840"/>
            <a:chOff x="4952880" y="1589040"/>
            <a:chExt cx="3810240" cy="4506840"/>
          </a:xfrm>
        </p:grpSpPr>
        <p:sp>
          <p:nvSpPr>
            <p:cNvPr id="778" name=""/>
            <p:cNvSpPr/>
            <p:nvPr/>
          </p:nvSpPr>
          <p:spPr>
            <a:xfrm>
              <a:off x="4952880" y="6095880"/>
              <a:ext cx="3048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9" name="" descr=""/>
            <p:cNvPicPr/>
            <p:nvPr/>
          </p:nvPicPr>
          <p:blipFill>
            <a:blip r:embed="rId1"/>
            <a:stretch/>
          </p:blipFill>
          <p:spPr>
            <a:xfrm>
              <a:off x="6934320" y="1589040"/>
              <a:ext cx="170820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7086600" y="3733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0,000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01000" y="4114800"/>
              <a:ext cx="0" cy="197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8001000" y="2509920"/>
              <a:ext cx="0" cy="12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1752480" y="170964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d = </a:t>
            </a:r>
            <a:r>
              <a:rPr b="0" lang="en-US" sz="4000" spc="-1" strike="noStrike">
                <a:solidFill>
                  <a:srgbClr val="6666ff"/>
                </a:solidFill>
                <a:latin typeface="Comic Sans MS"/>
              </a:rPr>
              <a:t>0 f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09880" y="5794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2120" y="2895480"/>
            <a:ext cx="5333760" cy="2743200"/>
            <a:chOff x="762120" y="2895480"/>
            <a:chExt cx="5333760" cy="2743200"/>
          </a:xfrm>
        </p:grpSpPr>
        <p:sp>
          <p:nvSpPr>
            <p:cNvPr id="786" name=""/>
            <p:cNvSpPr/>
            <p:nvPr/>
          </p:nvSpPr>
          <p:spPr>
            <a:xfrm>
              <a:off x="1905120" y="3679560"/>
              <a:ext cx="2666880" cy="1959120"/>
            </a:xfrm>
            <a:prstGeom prst="irregularSeal2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49360" y="4401720"/>
              <a:ext cx="168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00"/>
                  </a:solidFill>
                  <a:latin typeface="Comic Sans MS"/>
                </a:rPr>
                <a:t>Splat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2120" y="2895480"/>
              <a:ext cx="5333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skydiver hits ground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9" name="" descr=""/>
          <p:cNvPicPr/>
          <p:nvPr/>
        </p:nvPicPr>
        <p:blipFill>
          <a:blip r:embed="rId2"/>
          <a:stretch/>
        </p:blipFill>
        <p:spPr>
          <a:xfrm>
            <a:off x="5638680" y="5400720"/>
            <a:ext cx="1822680" cy="82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33520" y="1828800"/>
            <a:ext cx="6629400" cy="4648320"/>
            <a:chOff x="533520" y="1828800"/>
            <a:chExt cx="6629400" cy="4648320"/>
          </a:xfrm>
        </p:grpSpPr>
        <p:sp>
          <p:nvSpPr>
            <p:cNvPr id="792" name=""/>
            <p:cNvSpPr/>
            <p:nvPr/>
          </p:nvSpPr>
          <p:spPr>
            <a:xfrm>
              <a:off x="1295280" y="1828800"/>
              <a:ext cx="5867640" cy="2438280"/>
            </a:xfrm>
            <a:prstGeom prst="wedgeEllipseCallout">
              <a:avLst>
                <a:gd name="adj1" fmla="val -38449"/>
                <a:gd name="adj2" fmla="val 60412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41400">
              <a:off x="1904760" y="2362320"/>
              <a:ext cx="4572000" cy="1409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hoops!  Did I forget to tell you to open the parachut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4" name="" descr=""/>
            <p:cNvPicPr/>
            <p:nvPr/>
          </p:nvPicPr>
          <p:blipFill>
            <a:blip r:embed="rId1"/>
            <a:stretch/>
          </p:blipFill>
          <p:spPr>
            <a:xfrm>
              <a:off x="533520" y="4343400"/>
              <a:ext cx="1739880" cy="21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"/>
          <p:cNvGrpSpPr/>
          <p:nvPr/>
        </p:nvGrpSpPr>
        <p:grpSpPr>
          <a:xfrm>
            <a:off x="5181480" y="3786120"/>
            <a:ext cx="3276720" cy="2436840"/>
            <a:chOff x="5181480" y="3786120"/>
            <a:chExt cx="3276720" cy="2436840"/>
          </a:xfrm>
        </p:grpSpPr>
        <p:sp>
          <p:nvSpPr>
            <p:cNvPr id="796" name=""/>
            <p:cNvSpPr/>
            <p:nvPr/>
          </p:nvSpPr>
          <p:spPr>
            <a:xfrm>
              <a:off x="6553080" y="3786120"/>
              <a:ext cx="1765440" cy="1324080"/>
            </a:xfrm>
            <a:prstGeom prst="wedgeEllipseCallout">
              <a:avLst>
                <a:gd name="adj1" fmla="val -70953"/>
                <a:gd name="adj2" fmla="val 95472"/>
              </a:avLst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61000" y="4098960"/>
              <a:ext cx="189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Ouch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8" name="" descr=""/>
            <p:cNvPicPr/>
            <p:nvPr/>
          </p:nvPicPr>
          <p:blipFill>
            <a:blip r:embed="rId2"/>
            <a:stretch/>
          </p:blipFill>
          <p:spPr>
            <a:xfrm>
              <a:off x="5376960" y="5619600"/>
              <a:ext cx="267156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5181480" y="6222960"/>
              <a:ext cx="321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581280" y="2060640"/>
            <a:ext cx="5029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ebble dropped from the Eiffel Tower hits the ground after 8 sec. How high is the Eiffel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581280" y="2057400"/>
            <a:ext cx="5029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ebble dropped from the Eiffel Tower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hits the ground after 8 sec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How high is the Eiffel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12640" y="1372680"/>
            <a:ext cx="3176640" cy="1545840"/>
            <a:chOff x="512640" y="1372680"/>
            <a:chExt cx="3176640" cy="1545840"/>
          </a:xfrm>
        </p:grpSpPr>
        <p:sp>
          <p:nvSpPr>
            <p:cNvPr id="804" name=""/>
            <p:cNvSpPr/>
            <p:nvPr/>
          </p:nvSpPr>
          <p:spPr>
            <a:xfrm rot="20897400">
              <a:off x="547200" y="1715760"/>
              <a:ext cx="301644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0897400">
              <a:off x="576720" y="167184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2860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81080" y="4572000"/>
            <a:ext cx="2248200" cy="134460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2057400"/>
            <a:ext cx="1257480" cy="923760"/>
          </a:xfrm>
          <a:prstGeom prst="cube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057400"/>
            <a:ext cx="1028520" cy="115740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747800"/>
            <a:ext cx="647712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 Problems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 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Geometric Figur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4495680"/>
            <a:ext cx="1733760" cy="1497240"/>
          </a:xfrm>
          <a:prstGeom prst="hexagon">
            <a:avLst>
              <a:gd name="adj" fmla="val 28949"/>
              <a:gd name="vf" fmla="val 115470"/>
            </a:avLst>
          </a:prstGeom>
          <a:solidFill>
            <a:srgbClr val="ff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533520" y="1371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Given: t = 8 sec to 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5867280" y="2368440"/>
            <a:ext cx="1805040" cy="363240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 flipH="1">
            <a:off x="5562360" y="2368440"/>
            <a:ext cx="1881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566120" y="2368440"/>
            <a:ext cx="0" cy="3632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45400" y="1992240"/>
            <a:ext cx="139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?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15000" y="5943600"/>
            <a:ext cx="155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4038480" y="5715000"/>
            <a:ext cx="4343400" cy="581400"/>
            <a:chOff x="4038480" y="5715000"/>
            <a:chExt cx="4343400" cy="581400"/>
          </a:xfrm>
        </p:grpSpPr>
        <p:sp>
          <p:nvSpPr>
            <p:cNvPr id="814" name=""/>
            <p:cNvSpPr/>
            <p:nvPr/>
          </p:nvSpPr>
          <p:spPr>
            <a:xfrm>
              <a:off x="4038480" y="571500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 = 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62440" y="6045120"/>
              <a:ext cx="271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981080" y="2327400"/>
            <a:ext cx="3429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8 sec to go d</a:t>
            </a:r>
            <a:r>
              <a:rPr b="1" lang="en-US" sz="4400" spc="-1" strike="noStrike" baseline="-25000">
                <a:solidFill>
                  <a:srgbClr val="00cc99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791320" y="2346480"/>
            <a:ext cx="0" cy="3574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5715000" y="1429560"/>
            <a:ext cx="1993680" cy="1092600"/>
            <a:chOff x="5715000" y="1429560"/>
            <a:chExt cx="1993680" cy="1092600"/>
          </a:xfrm>
        </p:grpSpPr>
        <p:sp>
          <p:nvSpPr>
            <p:cNvPr id="819" name=""/>
            <p:cNvSpPr/>
            <p:nvPr/>
          </p:nvSpPr>
          <p:spPr>
            <a:xfrm>
              <a:off x="5715000" y="2286000"/>
              <a:ext cx="155520" cy="1731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543600">
              <a:off x="6252480" y="1441080"/>
              <a:ext cx="1447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pebb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1" name=""/>
            <p:cNvCxnSpPr>
              <a:stCxn id="820" idx="1"/>
              <a:endCxn id="819" idx="6"/>
            </p:cNvCxnSpPr>
            <p:nvPr/>
          </p:nvCxnSpPr>
          <p:spPr>
            <a:xfrm flipH="1">
              <a:off x="5870160" y="1741320"/>
              <a:ext cx="378720" cy="63288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822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43498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720" indent="-216072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Question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how far  did it f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81080" y="3056040"/>
            <a:ext cx="4267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d = -16t</a:t>
            </a:r>
            <a:r>
              <a:rPr b="0" lang="en-US" sz="4400" spc="-1" strike="noStrike" baseline="30000">
                <a:solidFill>
                  <a:srgbClr val="00cc99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 + d</a:t>
            </a:r>
            <a:r>
              <a:rPr b="0" lang="en-US" sz="4400" spc="-1" strike="noStrike" baseline="-25000">
                <a:solidFill>
                  <a:srgbClr val="00cc99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762120" y="1930320"/>
            <a:ext cx="1805040" cy="3632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46280" y="2209680"/>
            <a:ext cx="5996160" cy="2743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66880" y="243828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is: Pebble falls a distance equal to height of tower.  Use formula to find original height for time of 8 seconds and a final distance above the ground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762120" y="1930320"/>
            <a:ext cx="1805040" cy="36324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3352680" y="4835520"/>
            <a:ext cx="4267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d = -16t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 + d</a:t>
            </a:r>
            <a:r>
              <a:rPr b="0" lang="en-US" sz="44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81080" y="1523880"/>
            <a:ext cx="64771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2240" indent="-1025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bble falls total distance of        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d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= height of t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590920" y="2971800"/>
            <a:ext cx="589104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tion between d (height of pebble at time = 8 sec) and initial height, d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Comic Sans MS"/>
              </a:rPr>
              <a:t>0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given b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6729480" y="1930320"/>
            <a:ext cx="1805040" cy="36324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1905120" y="1371600"/>
            <a:ext cx="426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d = -16t</a:t>
            </a:r>
            <a:r>
              <a:rPr b="1" lang="en-US" sz="4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 + d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981080" y="2568600"/>
            <a:ext cx="426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 = -16(8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981080" y="3406680"/>
            <a:ext cx="426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 = (-16)(64) + d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981080" y="4235400"/>
            <a:ext cx="4267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 = -1024 + d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66880" y="5251320"/>
            <a:ext cx="4191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d</a:t>
            </a:r>
            <a:r>
              <a:rPr b="1" lang="en-US" sz="4800" spc="-1" strike="noStrike" baseline="-25000">
                <a:solidFill>
                  <a:srgbClr val="006600"/>
                </a:solidFill>
                <a:latin typeface="Comic Sans MS"/>
              </a:rPr>
              <a:t>0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 = 1024f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5800" y="2050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ituting giv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" y="4816440"/>
            <a:ext cx="4495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for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17600" y="685800"/>
            <a:ext cx="532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5410080" y="2819520"/>
            <a:ext cx="3040200" cy="250020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533520" y="1676520"/>
            <a:ext cx="6400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Using Polynomi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n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Business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ransaction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457200" y="1273320"/>
            <a:ext cx="8305920" cy="527976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579600" y="4300560"/>
            <a:ext cx="475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ow much you make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029200" y="430056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ney from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362320" y="5197320"/>
            <a:ext cx="5628960" cy="581400"/>
            <a:chOff x="2362320" y="5197320"/>
            <a:chExt cx="5628960" cy="581400"/>
          </a:xfrm>
        </p:grpSpPr>
        <p:sp>
          <p:nvSpPr>
            <p:cNvPr id="850" name=""/>
            <p:cNvSpPr/>
            <p:nvPr/>
          </p:nvSpPr>
          <p:spPr>
            <a:xfrm>
              <a:off x="2362320" y="5197320"/>
              <a:ext cx="161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min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24560" y="5197320"/>
              <a:ext cx="42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st of Produ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72000" y="16002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rofit &amp; Loss</a:t>
            </a:r>
            <a:endParaRPr b="1" lang="en-US" sz="2400" spc="1" strike="noStrike">
              <a:ln w="9360">
                <a:solidFill>
                  <a:srgbClr val="ffcc99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ransition>
    <p:pull dir="l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838080" y="13716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Net Profi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How much you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38080" y="312408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00"/>
                </a:solidFill>
                <a:uFillTx/>
                <a:latin typeface="Comic Sans MS"/>
              </a:rPr>
              <a:t>Revenue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Money from s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489276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sts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Cost of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879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= R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- 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609480" y="1922400"/>
            <a:ext cx="8077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ontolube garage charges $25 to lube any vehicle.  Other work adds about $6000 per month to the revenue. It costs Prontolube $8 in materials to service trucks and $6 to service cars. Monthly operating expenses are $23,500. Write expressions for Revenue, Costs, and Net Profit for “c” cars and “t” trucks per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480" y="1905120"/>
            <a:ext cx="8077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ontolube garage charges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$2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lube any vehicle.  Other work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ad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bout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$6000 per mon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reven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It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o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ntolube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$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materials to service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trucks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$6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service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ars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onthly operating expenses are $23,5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Writ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ressions for Revenue, Costs, and Net Profit for “c” cars and “t” trucks per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69640" y="1130400"/>
            <a:ext cx="1833840" cy="1267560"/>
            <a:chOff x="269640" y="1130400"/>
            <a:chExt cx="1833840" cy="1267560"/>
          </a:xfrm>
        </p:grpSpPr>
        <p:sp>
          <p:nvSpPr>
            <p:cNvPr id="863" name=""/>
            <p:cNvSpPr/>
            <p:nvPr/>
          </p:nvSpPr>
          <p:spPr>
            <a:xfrm rot="20897400">
              <a:off x="455400" y="1342800"/>
              <a:ext cx="1600200" cy="4334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897400">
              <a:off x="348120" y="1290600"/>
              <a:ext cx="167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533520" y="1494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iven: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$25/oi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5562720" y="3765600"/>
            <a:ext cx="3047760" cy="24415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28800" y="2152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$6,000 in additional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28800" y="281160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$8 per truck   $6 per car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752480" y="3529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“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” cars, “t” truck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4187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$23,500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57200" y="2239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Question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: 1. Revenue “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2819520" cy="22590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2590920" y="3002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. Costs “C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90920" y="3763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3. Net Profit “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2120" y="1676520"/>
            <a:ext cx="42670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ressions used to calculate perimeters, areas and volumes are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POLYNOMIAL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1981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P = 2l + 2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4606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 = l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952880"/>
            <a:ext cx="22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V = lw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0800" y="4800600"/>
            <a:ext cx="1295280" cy="99072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4343400"/>
            <a:ext cx="1295640" cy="1219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88080" y="2709720"/>
            <a:ext cx="2517840" cy="1024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251000" y="2182680"/>
            <a:ext cx="675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$25/vehicle, “c” cars, “t” trucks $6,000 additional work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93800" y="368136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= $25 • total veh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333840" y="3681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$6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219320" y="4464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= 25(c + t) + 6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76520" y="52578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R = 25c + 25t + 6,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93800" y="1371600"/>
            <a:ext cx="48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coming reven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219320" y="2182680"/>
            <a:ext cx="7467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$8 cost/truck, $6 cost/car, “c” cars, “t” trucks $23,500 oper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93800" y="1371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676520" y="3733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209680" y="37339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6 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657600" y="37339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$8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3733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$23,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371600" y="48769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C = 6c + 8t + 23,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1143000" y="239724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R = 25c + 25t + 6,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43000" y="33256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 = 6c + 8t + 23,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895480" y="15238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=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 R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-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93800" y="4616280"/>
            <a:ext cx="804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3480" indent="-12034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 = (25c + 25t + 6,00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93800" y="1371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Ne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17600" y="5557680"/>
            <a:ext cx="631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6c + 8t + 23,50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3200400" y="1600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81080" y="23623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5c + 25t + 6,000    6c + 8t + 23,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295280" y="2971800"/>
            <a:ext cx="6781680" cy="1950840"/>
            <a:chOff x="1295280" y="2971800"/>
            <a:chExt cx="6781680" cy="1950840"/>
          </a:xfrm>
        </p:grpSpPr>
        <p:sp>
          <p:nvSpPr>
            <p:cNvPr id="903" name=""/>
            <p:cNvSpPr/>
            <p:nvPr/>
          </p:nvSpPr>
          <p:spPr>
            <a:xfrm>
              <a:off x="5644440" y="4343400"/>
              <a:ext cx="2432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1295280" y="2971800"/>
              <a:ext cx="6339600" cy="941400"/>
              <a:chOff x="1295280" y="2971800"/>
              <a:chExt cx="6339600" cy="941400"/>
            </a:xfrm>
          </p:grpSpPr>
          <p:sp>
            <p:nvSpPr>
              <p:cNvPr id="905" name=""/>
              <p:cNvSpPr/>
              <p:nvPr/>
            </p:nvSpPr>
            <p:spPr>
              <a:xfrm>
                <a:off x="1295280" y="2971800"/>
                <a:ext cx="6339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–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   )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295280" y="3913200"/>
                <a:ext cx="60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2209680" y="3841920"/>
            <a:ext cx="4132440" cy="2178000"/>
            <a:chOff x="2209680" y="3841920"/>
            <a:chExt cx="4132440" cy="2178000"/>
          </a:xfrm>
        </p:grpSpPr>
        <p:sp>
          <p:nvSpPr>
            <p:cNvPr id="908" name=""/>
            <p:cNvSpPr/>
            <p:nvPr/>
          </p:nvSpPr>
          <p:spPr>
            <a:xfrm>
              <a:off x="2209680" y="3841920"/>
              <a:ext cx="4132440" cy="2178000"/>
            </a:xfrm>
            <a:prstGeom prst="irregularSeal1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99240" y="4367160"/>
              <a:ext cx="3242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ubtracting Polynomials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3200400" y="16002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81080" y="236232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5c + 25t + 6,000    6c + 8t + 23,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1295280" y="2971800"/>
            <a:ext cx="6781680" cy="1950840"/>
            <a:chOff x="1295280" y="2971800"/>
            <a:chExt cx="6781680" cy="1950840"/>
          </a:xfrm>
        </p:grpSpPr>
        <p:sp>
          <p:nvSpPr>
            <p:cNvPr id="914" name=""/>
            <p:cNvSpPr/>
            <p:nvPr/>
          </p:nvSpPr>
          <p:spPr>
            <a:xfrm>
              <a:off x="5644440" y="4343400"/>
              <a:ext cx="2432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1295280" y="2971800"/>
              <a:ext cx="6339600" cy="941400"/>
              <a:chOff x="1295280" y="2971800"/>
              <a:chExt cx="6339600" cy="941400"/>
            </a:xfrm>
          </p:grpSpPr>
          <p:sp>
            <p:nvSpPr>
              <p:cNvPr id="916" name=""/>
              <p:cNvSpPr/>
              <p:nvPr/>
            </p:nvSpPr>
            <p:spPr>
              <a:xfrm>
                <a:off x="1295280" y="2971800"/>
                <a:ext cx="63396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–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   )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295280" y="3913200"/>
                <a:ext cx="60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8" name=""/>
          <p:cNvSpPr/>
          <p:nvPr/>
        </p:nvSpPr>
        <p:spPr>
          <a:xfrm>
            <a:off x="1663920" y="404028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19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67480" y="4040280"/>
            <a:ext cx="16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+ 17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8480" y="4038480"/>
            <a:ext cx="255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–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17,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200400" y="19051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95280" y="28954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R = 25c + 25t + 6,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38242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 = 6c + 8t + 23,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95280" y="4815000"/>
            <a:ext cx="652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N = 19c + 17t – 17,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17600" y="685800"/>
            <a:ext cx="53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2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685800" y="1447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590920" y="19494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olynomials in problems involving 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4381560" cy="3333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90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685800" y="1447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90920" y="198108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olynomials to solve problems involving falling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4448160" cy="332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5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685800" y="14479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590920" y="198108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polynomials in problems involving business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4448160" cy="334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" descr=""/>
          <p:cNvPicPr/>
          <p:nvPr/>
        </p:nvPicPr>
        <p:blipFill>
          <a:blip r:embed="rId1"/>
          <a:stretch/>
        </p:blipFill>
        <p:spPr>
          <a:xfrm>
            <a:off x="609480" y="1446120"/>
            <a:ext cx="3581640" cy="266868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2"/>
          <a:stretch/>
        </p:blipFill>
        <p:spPr>
          <a:xfrm>
            <a:off x="3429000" y="2543040"/>
            <a:ext cx="53341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1114" name=""/>
          <p:cNvGrpSpPr/>
          <p:nvPr/>
        </p:nvGrpSpPr>
        <p:grpSpPr>
          <a:xfrm>
            <a:off x="2361240" y="1600200"/>
            <a:ext cx="5106240" cy="3520800"/>
            <a:chOff x="2361240" y="1600200"/>
            <a:chExt cx="5106240" cy="3520800"/>
          </a:xfrm>
        </p:grpSpPr>
        <p:grpSp>
          <p:nvGrpSpPr>
            <p:cNvPr id="1115" name=""/>
            <p:cNvGrpSpPr/>
            <p:nvPr/>
          </p:nvGrpSpPr>
          <p:grpSpPr>
            <a:xfrm>
              <a:off x="2361240" y="4038120"/>
              <a:ext cx="1067760" cy="1082880"/>
              <a:chOff x="2361240" y="4038120"/>
              <a:chExt cx="1067760" cy="1082880"/>
            </a:xfrm>
          </p:grpSpPr>
          <p:cxnSp>
            <p:nvCxnSpPr>
              <p:cNvPr id="1116" name=""/>
              <p:cNvCxnSpPr/>
              <p:nvPr/>
            </p:nvCxnSpPr>
            <p:spPr>
              <a:xfrm flipH="1" rot="16200000">
                <a:off x="2353320" y="4046040"/>
                <a:ext cx="1083240" cy="10674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17" name=""/>
              <p:cNvSpPr/>
              <p:nvPr/>
            </p:nvSpPr>
            <p:spPr>
              <a:xfrm>
                <a:off x="3195720" y="5114520"/>
                <a:ext cx="23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4572000" y="160020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223524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cube has sides of s ft. How much greater would the volume be if the length of each side were doubled ? If the weight is directly related to the volume, and the original cube weighed 100lbs, what is the weight of the double-size cub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223524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cub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ha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side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s f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How much great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ould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volume b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f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leng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each s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er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doubled</a:t>
            </a:r>
            <a:r>
              <a:rPr b="0" lang="en-US" sz="3600" spc="-1" strike="noStrike">
                <a:solidFill>
                  <a:srgbClr val="c70533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 If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eigh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directly related to the volu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and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original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be weighed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100lbs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at is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ight o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double-size cub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2080" y="1297080"/>
            <a:ext cx="2343960" cy="973800"/>
            <a:chOff x="352080" y="1297080"/>
            <a:chExt cx="2343960" cy="973800"/>
          </a:xfrm>
        </p:grpSpPr>
        <p:sp>
          <p:nvSpPr>
            <p:cNvPr id="183" name=""/>
            <p:cNvSpPr/>
            <p:nvPr/>
          </p:nvSpPr>
          <p:spPr>
            <a:xfrm rot="20897400">
              <a:off x="390960" y="1563480"/>
              <a:ext cx="226224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897400">
              <a:off x="380880" y="152352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15541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4360" indent="-13143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 cube 1 - length each side is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44360" y="3886200"/>
            <a:ext cx="5131440" cy="2638800"/>
            <a:chOff x="3744360" y="3886200"/>
            <a:chExt cx="5131440" cy="2638800"/>
          </a:xfrm>
        </p:grpSpPr>
        <p:sp>
          <p:nvSpPr>
            <p:cNvPr id="188" name=""/>
            <p:cNvSpPr/>
            <p:nvPr/>
          </p:nvSpPr>
          <p:spPr>
            <a:xfrm>
              <a:off x="6975720" y="4221000"/>
              <a:ext cx="190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oubled cub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744360" y="3886200"/>
              <a:ext cx="3231360" cy="2638800"/>
              <a:chOff x="3744360" y="3886200"/>
              <a:chExt cx="3231360" cy="2638800"/>
            </a:xfrm>
          </p:grpSpPr>
          <p:sp>
            <p:nvSpPr>
              <p:cNvPr id="190" name=""/>
              <p:cNvSpPr/>
              <p:nvPr/>
            </p:nvSpPr>
            <p:spPr>
              <a:xfrm>
                <a:off x="4689720" y="4038480"/>
                <a:ext cx="2286000" cy="198144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44360" y="4952880"/>
                <a:ext cx="60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57360" y="5943600"/>
                <a:ext cx="60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25240" y="3886200"/>
                <a:ext cx="60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61120" y="4724280"/>
                <a:ext cx="0" cy="121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97800" y="6248520"/>
                <a:ext cx="64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4684680" y="3965400"/>
                <a:ext cx="467280" cy="49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4689720" y="624852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609480" y="4038480"/>
            <a:ext cx="3505320" cy="2410200"/>
            <a:chOff x="609480" y="4038480"/>
            <a:chExt cx="3505320" cy="2410200"/>
          </a:xfrm>
        </p:grpSpPr>
        <p:grpSp>
          <p:nvGrpSpPr>
            <p:cNvPr id="199" name=""/>
            <p:cNvGrpSpPr/>
            <p:nvPr/>
          </p:nvGrpSpPr>
          <p:grpSpPr>
            <a:xfrm>
              <a:off x="1294920" y="4038480"/>
              <a:ext cx="2005200" cy="2100600"/>
              <a:chOff x="1294920" y="4038480"/>
              <a:chExt cx="2005200" cy="210060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1294560" y="4221000"/>
                <a:ext cx="1513080" cy="1397160"/>
              </a:xfrm>
              <a:prstGeom prst="cube">
                <a:avLst>
                  <a:gd name="adj" fmla="val 2500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068560" y="5557680"/>
                <a:ext cx="375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24280" y="4889520"/>
                <a:ext cx="375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79840" y="4038480"/>
                <a:ext cx="375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40120" y="4586400"/>
                <a:ext cx="0" cy="9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623960" y="5800680"/>
                <a:ext cx="44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44840" y="4221000"/>
                <a:ext cx="39528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09480" y="586728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Original cub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757520" y="2011320"/>
            <a:ext cx="67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cube 2 - length of each side is 2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7520" y="24955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weight cube 1 = 100 l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3002040"/>
            <a:ext cx="71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volume is directly related to 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0680" y="2112840"/>
            <a:ext cx="735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8240" indent="-19382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omic Sans MS"/>
              </a:rPr>
              <a:t>Questions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1. volume of doubled cu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4038480"/>
            <a:ext cx="2286000" cy="19814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1560" y="495288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44560" y="59436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12440" y="3886200"/>
            <a:ext cx="6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472428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876920" y="6248520"/>
            <a:ext cx="511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85000" y="6248520"/>
            <a:ext cx="64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871880" y="3965400"/>
            <a:ext cx="467280" cy="495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4906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ubled cu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772400" y="2189160"/>
            <a:ext cx="1201320" cy="1239840"/>
            <a:chOff x="7772400" y="2189160"/>
            <a:chExt cx="1201320" cy="1239840"/>
          </a:xfrm>
        </p:grpSpPr>
        <p:sp>
          <p:nvSpPr>
            <p:cNvPr id="223" name=""/>
            <p:cNvSpPr/>
            <p:nvPr/>
          </p:nvSpPr>
          <p:spPr>
            <a:xfrm>
              <a:off x="7999560" y="2189160"/>
              <a:ext cx="974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9966"/>
                  </a:solidFill>
                  <a:latin typeface="Comic Sans MS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2400" y="2198880"/>
              <a:ext cx="251280" cy="1230120"/>
            </a:xfrm>
            <a:custGeom>
              <a:avLst/>
              <a:gdLst>
                <a:gd name="textAreaLeft" fmla="*/ 0 w 251280"/>
                <a:gd name="textAreaRight" fmla="*/ 90720 w 251280"/>
                <a:gd name="textAreaTop" fmla="*/ 32040 h 1230120"/>
                <a:gd name="textAreaBottom" fmla="*/ 1198080 h 12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671920" y="2771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 Weight of doubled cu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447920" y="685800"/>
            <a:ext cx="63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/Geometric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676520"/>
            <a:ext cx="7620120" cy="44956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1981080"/>
            <a:ext cx="72388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is: 1.  Use formula for volume of cube and givens to find an expression for the volume of each c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Use fact that volume is directly related to weight to find relation between weigh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Calculate weight of cube 2 using weight of cube 1 and the relation found in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21:56:35Z</dcterms:created>
  <dc:creator>Community Campus</dc:creator>
  <dc:description/>
  <dc:language>en-US</dc:language>
  <cp:lastModifiedBy>iddcws</cp:lastModifiedBy>
  <dcterms:modified xsi:type="dcterms:W3CDTF">2003-01-28T18:51:48Z</dcterms:modified>
  <cp:revision>177</cp:revision>
  <dc:subject/>
  <dc:title>PowerPoint Presentation</dc:title>
</cp:coreProperties>
</file>