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jpeg" ContentType="image/jpeg"/>
  <Override PartName="/ppt/media/image9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5  Unit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www.davis.edu/bjh/swariner/index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Original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2416320"/>
            <a:ext cx="6782040" cy="23842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3" name=""/>
          <p:cNvSpPr/>
          <p:nvPr/>
        </p:nvSpPr>
        <p:spPr>
          <a:xfrm>
            <a:off x="6747840" y="2666880"/>
            <a:ext cx="758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18288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Bi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m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3886200" cy="2901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329076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+ 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1055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wo t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18288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omic Sans MS"/>
              </a:rPr>
              <a:t>Tri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m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2547720" cy="2667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14400" y="304812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8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+ 2x + 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5105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ree t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18288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Comic Sans MS"/>
              </a:rPr>
              <a:t>Poly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nom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18456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3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+ 2x +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648320"/>
            <a:ext cx="4876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re than one te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ny number &gt; 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705640" y="4216320"/>
            <a:ext cx="2752560" cy="203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38080" y="33624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-5x</a:t>
            </a:r>
            <a:r>
              <a:rPr b="0" lang="en-US" sz="9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2590920"/>
            <a:ext cx="419724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egree   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pow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733560" y="3352680"/>
            <a:ext cx="99036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1523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scribing a mo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536724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Coefficient     </a:t>
            </a:r>
            <a:r>
              <a:rPr b="0" lang="en-US" sz="4800" spc="-1" strike="noStrike">
                <a:solidFill>
                  <a:srgbClr val="006600"/>
                </a:solidFill>
                <a:latin typeface="Comic Sans MS"/>
              </a:rPr>
              <a:t>-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38080" y="3314880"/>
            <a:ext cx="3124080" cy="1557000"/>
            <a:chOff x="838080" y="3314880"/>
            <a:chExt cx="3124080" cy="1557000"/>
          </a:xfrm>
        </p:grpSpPr>
        <p:sp>
          <p:nvSpPr>
            <p:cNvPr id="197" name=""/>
            <p:cNvSpPr/>
            <p:nvPr/>
          </p:nvSpPr>
          <p:spPr>
            <a:xfrm>
              <a:off x="838080" y="3314880"/>
              <a:ext cx="3124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-5x</a:t>
              </a:r>
              <a:r>
                <a:rPr b="0" lang="en-US" sz="9600" spc="-1" strike="noStrike" baseline="30000">
                  <a:solidFill>
                    <a:srgbClr val="3333ff"/>
                  </a:solidFill>
                  <a:latin typeface="Comic Sans MS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3314880"/>
              <a:ext cx="3124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6600cc"/>
                  </a:solidFill>
                  <a:latin typeface="Comic Sans MS"/>
                </a:rPr>
                <a:t>-5</a:t>
              </a: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9600" spc="-1" strike="noStrike" baseline="30000">
                  <a:solidFill>
                    <a:srgbClr val="990033"/>
                  </a:solidFill>
                  <a:latin typeface="Comic Sans MS"/>
                </a:rPr>
                <a:t>2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057040" y="4724280"/>
            <a:ext cx="2057400" cy="106704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76520" y="342900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y number raised to the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5400" spc="-1" strike="noStrike" baseline="30000">
                <a:solidFill>
                  <a:srgbClr val="3333cc"/>
                </a:solidFill>
                <a:latin typeface="Comic Sans MS"/>
              </a:rPr>
              <a:t>th</a:t>
            </a:r>
            <a:r>
              <a:rPr b="0" lang="en-US" sz="54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ower = </a:t>
            </a: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7652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80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 =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2743200" y="2209680"/>
            <a:ext cx="4876560" cy="1557000"/>
            <a:chOff x="2743200" y="2209680"/>
            <a:chExt cx="4876560" cy="1557000"/>
          </a:xfrm>
        </p:grpSpPr>
        <p:sp>
          <p:nvSpPr>
            <p:cNvPr id="205" name=""/>
            <p:cNvSpPr/>
            <p:nvPr/>
          </p:nvSpPr>
          <p:spPr>
            <a:xfrm>
              <a:off x="2743200" y="2209680"/>
              <a:ext cx="4114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+8 = </a:t>
              </a:r>
              <a:r>
                <a:rPr b="0" lang="en-US" sz="9600" spc="-1" strike="noStrike">
                  <a:solidFill>
                    <a:srgbClr val="996633"/>
                  </a:solidFill>
                  <a:latin typeface="Comic Sans MS"/>
                </a:rPr>
                <a:t>8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5880" y="2378160"/>
              <a:ext cx="1523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8000" spc="-1" strike="noStrike" baseline="30000">
                  <a:solidFill>
                    <a:srgbClr val="3333ff"/>
                  </a:solidFill>
                  <a:latin typeface="Comic Sans MS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17600" y="1622160"/>
            <a:ext cx="2594160" cy="1606680"/>
            <a:chOff x="417600" y="1622160"/>
            <a:chExt cx="2594160" cy="1606680"/>
          </a:xfrm>
        </p:grpSpPr>
        <p:sp>
          <p:nvSpPr>
            <p:cNvPr id="208" name=""/>
            <p:cNvSpPr/>
            <p:nvPr/>
          </p:nvSpPr>
          <p:spPr>
            <a:xfrm rot="20936400">
              <a:off x="457200" y="1857240"/>
              <a:ext cx="2514600" cy="657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0978400">
              <a:off x="582840" y="1836720"/>
              <a:ext cx="2340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herefo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295280" y="39625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Comic Sans MS"/>
              </a:rPr>
              <a:t>Coefficient =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50022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Degree =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73392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33"/>
                </a:solidFill>
                <a:latin typeface="Comic Sans MS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474012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ff"/>
                </a:solidFill>
                <a:latin typeface="Comic Sans MS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306396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onomials with the same variables raised to the same expon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16765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Like T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25146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2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y +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1447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Identify and combine like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19320" y="2286000"/>
            <a:ext cx="4572000" cy="2166480"/>
            <a:chOff x="1219320" y="2286000"/>
            <a:chExt cx="4572000" cy="2166480"/>
          </a:xfrm>
        </p:grpSpPr>
        <p:sp>
          <p:nvSpPr>
            <p:cNvPr id="221" name=""/>
            <p:cNvSpPr/>
            <p:nvPr/>
          </p:nvSpPr>
          <p:spPr>
            <a:xfrm>
              <a:off x="1219320" y="2286000"/>
              <a:ext cx="1295640" cy="121932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19720" y="2286000"/>
              <a:ext cx="1371600" cy="121932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33720" y="380988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Comic Sans MS"/>
                </a:rPr>
                <a:t>like ter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23" idx="1"/>
              <a:endCxn id="221" idx="4"/>
            </p:cNvCxnSpPr>
            <p:nvPr/>
          </p:nvCxnSpPr>
          <p:spPr>
            <a:xfrm rot="10800000">
              <a:off x="1866600" y="3523680"/>
              <a:ext cx="267120" cy="6516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23" idx="3"/>
              <a:endCxn id="222" idx="4"/>
            </p:cNvCxnSpPr>
            <p:nvPr/>
          </p:nvCxnSpPr>
          <p:spPr>
            <a:xfrm flipV="1">
              <a:off x="4495680" y="3524040"/>
              <a:ext cx="610200" cy="6516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26" name=""/>
          <p:cNvSpPr/>
          <p:nvPr/>
        </p:nvSpPr>
        <p:spPr>
          <a:xfrm>
            <a:off x="13716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2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6213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3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46213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endCxn id="227" idx="0"/>
          </p:cNvCxnSpPr>
          <p:nvPr/>
        </p:nvCxnSpPr>
        <p:spPr>
          <a:xfrm flipV="1" rot="10800000">
            <a:off x="3618720" y="3428640"/>
            <a:ext cx="1080" cy="1220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8" idx="3"/>
            <a:endCxn id="229" idx="3"/>
          </p:cNvCxnSpPr>
          <p:nvPr/>
        </p:nvCxnSpPr>
        <p:spPr>
          <a:xfrm flipH="1">
            <a:off x="6933600" y="2985840"/>
            <a:ext cx="1143720" cy="2106720"/>
          </a:xfrm>
          <a:prstGeom prst="curvedConnector5">
            <a:avLst>
              <a:gd name="adj1" fmla="val -19993"/>
              <a:gd name="adj2" fmla="val 49991"/>
              <a:gd name="adj3" fmla="val -1999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/>
          <p:nvPr/>
        </p:nvCxnSpPr>
        <p:spPr>
          <a:xfrm flipV="1" rot="10800000">
            <a:off x="5180760" y="3580920"/>
            <a:ext cx="1372320" cy="1116720"/>
          </a:xfrm>
          <a:prstGeom prst="curvedConnector5">
            <a:avLst>
              <a:gd name="adj1" fmla="val 49986"/>
              <a:gd name="adj2" fmla="val 49983"/>
              <a:gd name="adj3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95280" y="16002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4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)(-2a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) =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85800" y="2651040"/>
            <a:ext cx="7543800" cy="1236960"/>
            <a:chOff x="685800" y="2651040"/>
            <a:chExt cx="7543800" cy="1236960"/>
          </a:xfrm>
        </p:grpSpPr>
        <p:sp>
          <p:nvSpPr>
            <p:cNvPr id="236" name=""/>
            <p:cNvSpPr/>
            <p:nvPr/>
          </p:nvSpPr>
          <p:spPr>
            <a:xfrm>
              <a:off x="685800" y="2879640"/>
              <a:ext cx="7543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4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6000" spc="-1" strike="noStrike" baseline="30000">
                  <a:solidFill>
                    <a:srgbClr val="c70533"/>
                  </a:solidFill>
                  <a:latin typeface="Comic Sans MS"/>
                </a:rPr>
                <a:t> </a:t>
              </a:r>
              <a:r>
                <a:rPr b="0" lang="en-US" sz="6000" spc="-1" strike="noStrike" baseline="30000">
                  <a:solidFill>
                    <a:srgbClr val="ff6600"/>
                  </a:solidFill>
                  <a:latin typeface="Comic Sans MS"/>
                </a:rPr>
                <a:t> 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 (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-2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)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r>
                <a:rPr b="0" lang="en-US" sz="6000" spc="-1" strike="noStrike">
                  <a:solidFill>
                    <a:srgbClr val="ff66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6000" spc="-1" strike="noStrike" baseline="30000">
                  <a:solidFill>
                    <a:srgbClr val="808080"/>
                  </a:solidFill>
                  <a:latin typeface="Comic Sans MS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95280" y="2651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62320" y="2651040"/>
              <a:ext cx="53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2651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29200" y="2651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72200" y="2651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9480" y="3794040"/>
            <a:ext cx="7925040" cy="1236960"/>
            <a:chOff x="609480" y="3794040"/>
            <a:chExt cx="7925040" cy="1236960"/>
          </a:xfrm>
        </p:grpSpPr>
        <p:sp>
          <p:nvSpPr>
            <p:cNvPr id="243" name=""/>
            <p:cNvSpPr/>
            <p:nvPr/>
          </p:nvSpPr>
          <p:spPr>
            <a:xfrm>
              <a:off x="609480" y="4022640"/>
              <a:ext cx="7925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4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-2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)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2  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r>
                <a:rPr b="0" lang="en-US" sz="6000" spc="-1" strike="noStrike">
                  <a:solidFill>
                    <a:srgbClr val="ff6600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6000" spc="-1" strike="noStrike" baseline="30000">
                  <a:solidFill>
                    <a:srgbClr val="808080"/>
                  </a:solidFill>
                  <a:latin typeface="Comic Sans MS"/>
                </a:rPr>
                <a:t>1</a:t>
              </a: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  </a:t>
              </a: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6000" spc="-1" strike="noStrike" baseline="30000">
                  <a:solidFill>
                    <a:srgbClr val="808080"/>
                  </a:solidFill>
                  <a:latin typeface="Comic Sans MS"/>
                </a:rPr>
                <a:t>6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95280" y="3794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3794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91120" y="3794040"/>
              <a:ext cx="53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3794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00800" y="37940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839520" y="5028120"/>
            <a:ext cx="3427200" cy="1374480"/>
            <a:chOff x="839520" y="5028120"/>
            <a:chExt cx="3427200" cy="1374480"/>
          </a:xfrm>
        </p:grpSpPr>
        <p:grpSp>
          <p:nvGrpSpPr>
            <p:cNvPr id="250" name=""/>
            <p:cNvGrpSpPr/>
            <p:nvPr/>
          </p:nvGrpSpPr>
          <p:grpSpPr>
            <a:xfrm>
              <a:off x="839520" y="5028120"/>
              <a:ext cx="3427200" cy="1374480"/>
              <a:chOff x="839520" y="5028120"/>
              <a:chExt cx="3427200" cy="1374480"/>
            </a:xfrm>
          </p:grpSpPr>
          <p:sp>
            <p:nvSpPr>
              <p:cNvPr id="251" name=""/>
              <p:cNvSpPr/>
              <p:nvPr/>
            </p:nvSpPr>
            <p:spPr>
              <a:xfrm rot="16196400">
                <a:off x="1905480" y="3963240"/>
                <a:ext cx="304560" cy="2436480"/>
              </a:xfrm>
              <a:custGeom>
                <a:avLst/>
                <a:gdLst>
                  <a:gd name="textAreaLeft" fmla="*/ 194760 w 304560"/>
                  <a:gd name="textAreaRight" fmla="*/ 304920 w 304560"/>
                  <a:gd name="textAreaTop" fmla="*/ 63360 h 2436480"/>
                  <a:gd name="textAreaBottom" fmla="*/ 2373120 h 243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7760" y="5394240"/>
                <a:ext cx="12189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6600"/>
                    </a:solidFill>
                    <a:latin typeface="Comic Sans MS"/>
                  </a:rPr>
                  <a:t>-8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/>
            <p:nvPr/>
          </p:nvCxnSpPr>
          <p:spPr>
            <a:xfrm flipH="1" rot="16200000">
              <a:off x="2280600" y="5129640"/>
              <a:ext cx="545040" cy="991440"/>
            </a:xfrm>
            <a:prstGeom prst="curvedConnector2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</p:cxnSp>
      </p:grpSp>
      <p:grpSp>
        <p:nvGrpSpPr>
          <p:cNvPr id="254" name=""/>
          <p:cNvGrpSpPr/>
          <p:nvPr/>
        </p:nvGrpSpPr>
        <p:grpSpPr>
          <a:xfrm>
            <a:off x="4724280" y="4941000"/>
            <a:ext cx="2819520" cy="1389960"/>
            <a:chOff x="4724280" y="4941000"/>
            <a:chExt cx="2819520" cy="1389960"/>
          </a:xfrm>
        </p:grpSpPr>
        <p:sp>
          <p:nvSpPr>
            <p:cNvPr id="255" name=""/>
            <p:cNvSpPr/>
            <p:nvPr/>
          </p:nvSpPr>
          <p:spPr>
            <a:xfrm rot="16196400">
              <a:off x="6495840" y="4198680"/>
              <a:ext cx="304560" cy="17906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6440 h 1790640"/>
                <a:gd name="textAreaBottom" fmla="*/ 1744200 h 179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24280" y="532260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6000" spc="-1" strike="noStrike" baseline="30000">
                  <a:solidFill>
                    <a:srgbClr val="808080"/>
                  </a:solidFill>
                  <a:latin typeface="Comic Sans MS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7" name=""/>
            <p:cNvCxnSpPr/>
            <p:nvPr/>
          </p:nvCxnSpPr>
          <p:spPr>
            <a:xfrm rot="5400000">
              <a:off x="6013800" y="5191560"/>
              <a:ext cx="564480" cy="705240"/>
            </a:xfrm>
            <a:prstGeom prst="curvedConnector2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</p:grpSp>
      <p:grpSp>
        <p:nvGrpSpPr>
          <p:cNvPr id="258" name=""/>
          <p:cNvGrpSpPr/>
          <p:nvPr/>
        </p:nvGrpSpPr>
        <p:grpSpPr>
          <a:xfrm>
            <a:off x="3543120" y="4952160"/>
            <a:ext cx="1791000" cy="1374120"/>
            <a:chOff x="3543120" y="4952160"/>
            <a:chExt cx="1791000" cy="1374120"/>
          </a:xfrm>
        </p:grpSpPr>
        <p:sp>
          <p:nvSpPr>
            <p:cNvPr id="259" name=""/>
            <p:cNvSpPr/>
            <p:nvPr/>
          </p:nvSpPr>
          <p:spPr>
            <a:xfrm rot="16196400">
              <a:off x="4286160" y="4209840"/>
              <a:ext cx="304560" cy="17906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6440 h 1790640"/>
                <a:gd name="textAreaBottom" fmla="*/ 1744200 h 179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86200" y="5317920"/>
              <a:ext cx="1219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6000" spc="-1" strike="noStrike" baseline="30000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19720" y="5105160"/>
              <a:ext cx="0" cy="5475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762120" y="209556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8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 – 3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2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32767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( -2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 – 2y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00200" y="1943280"/>
            <a:ext cx="1552680" cy="2438280"/>
            <a:chOff x="1600200" y="1943280"/>
            <a:chExt cx="1552680" cy="2438280"/>
          </a:xfrm>
        </p:grpSpPr>
        <p:sp>
          <p:nvSpPr>
            <p:cNvPr id="266" name=""/>
            <p:cNvSpPr/>
            <p:nvPr/>
          </p:nvSpPr>
          <p:spPr>
            <a:xfrm>
              <a:off x="1747800" y="1943280"/>
              <a:ext cx="1330560" cy="1219320"/>
            </a:xfrm>
            <a:prstGeom prst="ellipse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00200" y="3238560"/>
              <a:ext cx="1552680" cy="1143000"/>
            </a:xfrm>
            <a:prstGeom prst="ellipse">
              <a:avLst/>
            </a:prstGeom>
            <a:noFill/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276720" y="3276720"/>
            <a:ext cx="961920" cy="102852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76720" y="1943280"/>
            <a:ext cx="2588760" cy="2399760"/>
            <a:chOff x="3276720" y="1943280"/>
            <a:chExt cx="2588760" cy="2399760"/>
          </a:xfrm>
        </p:grpSpPr>
        <p:sp>
          <p:nvSpPr>
            <p:cNvPr id="270" name=""/>
            <p:cNvSpPr/>
            <p:nvPr/>
          </p:nvSpPr>
          <p:spPr>
            <a:xfrm>
              <a:off x="3276720" y="1943280"/>
              <a:ext cx="1701360" cy="12949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8000" y="3200400"/>
              <a:ext cx="1257480" cy="114264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334120" y="1943280"/>
            <a:ext cx="1295280" cy="1143000"/>
          </a:xfrm>
          <a:prstGeom prst="ellipse">
            <a:avLst/>
          </a:prstGeom>
          <a:noFill/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3162240"/>
            <a:ext cx="1035000" cy="106704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0" y="2057400"/>
            <a:ext cx="762120" cy="91440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8006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3x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480060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 y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48006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7x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4800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3y</a:t>
            </a:r>
            <a:r>
              <a:rPr b="0" lang="en-US" sz="54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19920" y="48006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- 2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15200" y="48006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5821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descending order of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5867280"/>
            <a:ext cx="1143000" cy="5572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Comic Sans MS"/>
              </a:rPr>
              <a:t>In this unit we will review algebraic operations inclu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676600"/>
            <a:ext cx="51051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ocabulary of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ition, subtraction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multiplication and divis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f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ition, subtraction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multiplication and divis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f 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905120" y="134604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2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x – 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235116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2x + 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327480"/>
            <a:ext cx="53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3613320"/>
            <a:ext cx="7353360" cy="18406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rite additive inverse of each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d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8" idx="3"/>
            <a:endCxn id="286" idx="3"/>
          </p:cNvCxnSpPr>
          <p:nvPr/>
        </p:nvCxnSpPr>
        <p:spPr>
          <a:xfrm flipH="1" flipV="1">
            <a:off x="7009560" y="2763000"/>
            <a:ext cx="1258200" cy="1786680"/>
          </a:xfrm>
          <a:prstGeom prst="curvedConnector5">
            <a:avLst>
              <a:gd name="adj1" fmla="val -16657"/>
              <a:gd name="adj2" fmla="val 50000"/>
              <a:gd name="adj3" fmla="val -1665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905120" y="182880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2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x – 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283356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(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– 2x + 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809880"/>
            <a:ext cx="53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2819520"/>
            <a:ext cx="2514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+) –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2819520"/>
            <a:ext cx="15242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2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39006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–</a:t>
            </a: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1x</a:t>
            </a:r>
            <a:r>
              <a:rPr b="0" lang="en-US" sz="6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39006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Comic Sans MS"/>
              </a:rPr>
              <a:t>+ 7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38098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6600"/>
                </a:solidFill>
                <a:latin typeface="Comic Sans MS"/>
              </a:rPr>
              <a:t>-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181480" y="2819520"/>
            <a:ext cx="2133720" cy="825120"/>
            <a:chOff x="5181480" y="2819520"/>
            <a:chExt cx="2133720" cy="825120"/>
          </a:xfrm>
        </p:grpSpPr>
        <p:sp>
          <p:nvSpPr>
            <p:cNvPr id="300" name=""/>
            <p:cNvSpPr/>
            <p:nvPr/>
          </p:nvSpPr>
          <p:spPr>
            <a:xfrm>
              <a:off x="5181480" y="2819520"/>
              <a:ext cx="137160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53080" y="2819520"/>
              <a:ext cx="762120" cy="82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514600" y="1793880"/>
            <a:ext cx="1600200" cy="19810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1828800"/>
            <a:ext cx="1600200" cy="1981080"/>
          </a:xfrm>
          <a:prstGeom prst="ellipse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1843200"/>
            <a:ext cx="1600200" cy="1981080"/>
          </a:xfrm>
          <a:prstGeom prst="ellipse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209680" y="152388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8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2r</a:t>
            </a:r>
            <a:r>
              <a:rPr b="0" lang="en-US" sz="48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4r</a:t>
            </a:r>
            <a:r>
              <a:rPr b="0" lang="en-US" sz="4800" spc="-1" strike="noStrike" baseline="30000">
                <a:solidFill>
                  <a:srgbClr val="80808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905120" y="2743200"/>
            <a:ext cx="5410080" cy="1053720"/>
            <a:chOff x="1905120" y="2743200"/>
            <a:chExt cx="5410080" cy="1053720"/>
          </a:xfrm>
        </p:grpSpPr>
        <p:sp>
          <p:nvSpPr>
            <p:cNvPr id="308" name=""/>
            <p:cNvSpPr/>
            <p:nvPr/>
          </p:nvSpPr>
          <p:spPr>
            <a:xfrm>
              <a:off x="1905120" y="2971800"/>
              <a:ext cx="541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8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2r</a:t>
              </a:r>
              <a:r>
                <a:rPr b="0" lang="en-US" sz="48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8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4r</a:t>
              </a:r>
              <a:r>
                <a:rPr b="0" lang="en-US" sz="4800" spc="-1" strike="noStrike" baseline="30000">
                  <a:solidFill>
                    <a:srgbClr val="80808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3200" y="2743200"/>
              <a:ext cx="30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34120" y="2743200"/>
              <a:ext cx="304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676160" y="3798720"/>
            <a:ext cx="2743560" cy="1857960"/>
            <a:chOff x="1676160" y="3798720"/>
            <a:chExt cx="2743560" cy="1857960"/>
          </a:xfrm>
        </p:grpSpPr>
        <p:sp>
          <p:nvSpPr>
            <p:cNvPr id="312" name=""/>
            <p:cNvSpPr/>
            <p:nvPr/>
          </p:nvSpPr>
          <p:spPr>
            <a:xfrm>
              <a:off x="1905120" y="4648320"/>
              <a:ext cx="2514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16r</a:t>
              </a:r>
              <a:r>
                <a:rPr b="0" lang="en-US" sz="6000" spc="-1" strike="noStrike" baseline="30000">
                  <a:solidFill>
                    <a:srgbClr val="0066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676160" y="3798720"/>
              <a:ext cx="2030400" cy="1427400"/>
              <a:chOff x="1676160" y="3798720"/>
              <a:chExt cx="2030400" cy="1427400"/>
            </a:xfrm>
          </p:grpSpPr>
          <p:sp>
            <p:nvSpPr>
              <p:cNvPr id="314" name=""/>
              <p:cNvSpPr/>
              <p:nvPr/>
            </p:nvSpPr>
            <p:spPr>
              <a:xfrm rot="5400000">
                <a:off x="2843640" y="3164400"/>
                <a:ext cx="228600" cy="149724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8880 h 1497240"/>
                  <a:gd name="textAreaBottom" fmla="*/ 1458360 h 149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5" name=""/>
              <p:cNvCxnSpPr>
                <a:stCxn id="314" idx="1"/>
                <a:endCxn id="312" idx="1"/>
              </p:cNvCxnSpPr>
              <p:nvPr/>
            </p:nvCxnSpPr>
            <p:spPr>
              <a:xfrm rot="5400000">
                <a:off x="1841760" y="4109040"/>
                <a:ext cx="1180440" cy="1054800"/>
              </a:xfrm>
              <a:prstGeom prst="curvedConnector5">
                <a:avLst>
                  <a:gd name="adj1" fmla="val 24618"/>
                  <a:gd name="adj2" fmla="val 60839"/>
                  <a:gd name="adj3" fmla="val 24618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16" name=""/>
          <p:cNvGrpSpPr/>
          <p:nvPr/>
        </p:nvGrpSpPr>
        <p:grpSpPr>
          <a:xfrm>
            <a:off x="4419720" y="3913200"/>
            <a:ext cx="2895840" cy="1743480"/>
            <a:chOff x="4419720" y="3913200"/>
            <a:chExt cx="2895840" cy="1743480"/>
          </a:xfrm>
        </p:grpSpPr>
        <p:grpSp>
          <p:nvGrpSpPr>
            <p:cNvPr id="317" name=""/>
            <p:cNvGrpSpPr/>
            <p:nvPr/>
          </p:nvGrpSpPr>
          <p:grpSpPr>
            <a:xfrm>
              <a:off x="4889520" y="3913200"/>
              <a:ext cx="2426040" cy="1312920"/>
              <a:chOff x="4889520" y="3913200"/>
              <a:chExt cx="2426040" cy="1312920"/>
            </a:xfrm>
          </p:grpSpPr>
          <p:sp>
            <p:nvSpPr>
              <p:cNvPr id="318" name=""/>
              <p:cNvSpPr/>
              <p:nvPr/>
            </p:nvSpPr>
            <p:spPr>
              <a:xfrm rot="5400000">
                <a:off x="5523480" y="3278880"/>
                <a:ext cx="228600" cy="14968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8880 h 1496880"/>
                  <a:gd name="textAreaBottom" fmla="*/ 1458000 h 149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9" name=""/>
              <p:cNvCxnSpPr>
                <a:stCxn id="318" idx="1"/>
                <a:endCxn id="312" idx="3"/>
              </p:cNvCxnSpPr>
              <p:nvPr/>
            </p:nvCxnSpPr>
            <p:spPr>
              <a:xfrm flipH="1" rot="16200000">
                <a:off x="5829840" y="3969000"/>
                <a:ext cx="1065960" cy="1448640"/>
              </a:xfrm>
              <a:prstGeom prst="curvedConnector5">
                <a:avLst>
                  <a:gd name="adj1" fmla="val 21891"/>
                  <a:gd name="adj2" fmla="val 57892"/>
                  <a:gd name="adj3" fmla="val 21891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20" name=""/>
            <p:cNvSpPr/>
            <p:nvPr/>
          </p:nvSpPr>
          <p:spPr>
            <a:xfrm>
              <a:off x="4419720" y="4648320"/>
              <a:ext cx="266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00"/>
                  </a:solidFill>
                  <a:latin typeface="Comic Sans MS"/>
                </a:rPr>
                <a:t>+ 32r</a:t>
              </a:r>
              <a:r>
                <a:rPr b="0" lang="en-US" sz="6000" spc="-1" strike="noStrike" baseline="30000">
                  <a:solidFill>
                    <a:srgbClr val="006600"/>
                  </a:solidFill>
                  <a:latin typeface="Comic Sans MS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820800" y="2035080"/>
            <a:ext cx="8051760" cy="1008360"/>
            <a:chOff x="820800" y="2035080"/>
            <a:chExt cx="8051760" cy="1008360"/>
          </a:xfrm>
        </p:grpSpPr>
        <p:sp>
          <p:nvSpPr>
            <p:cNvPr id="322" name=""/>
            <p:cNvSpPr/>
            <p:nvPr/>
          </p:nvSpPr>
          <p:spPr>
            <a:xfrm>
              <a:off x="820800" y="2035080"/>
              <a:ext cx="647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istributive law:   </a:t>
              </a: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2286000"/>
              <a:ext cx="231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000" spc="-1" strike="noStrike">
                  <a:solidFill>
                    <a:srgbClr val="6600cc"/>
                  </a:solidFill>
                  <a:latin typeface="Comic Sans MS"/>
                </a:rPr>
                <a:t>a</a:t>
              </a: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533520" y="2971800"/>
            <a:ext cx="2133360" cy="3200400"/>
            <a:chOff x="533520" y="2971800"/>
            <a:chExt cx="2133360" cy="3200400"/>
          </a:xfrm>
        </p:grpSpPr>
        <p:sp>
          <p:nvSpPr>
            <p:cNvPr id="326" name=""/>
            <p:cNvSpPr/>
            <p:nvPr/>
          </p:nvSpPr>
          <p:spPr>
            <a:xfrm>
              <a:off x="533520" y="2971800"/>
              <a:ext cx="213336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1440" y="2985120"/>
              <a:ext cx="2117520" cy="31737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36880" y="3011760"/>
              <a:ext cx="111600" cy="2073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56400" y="3025080"/>
              <a:ext cx="63720" cy="2275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60640" y="3052080"/>
              <a:ext cx="47880" cy="1069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28400" y="3071880"/>
              <a:ext cx="63720" cy="2073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0400" y="3098880"/>
              <a:ext cx="55800" cy="200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60520" y="3112200"/>
              <a:ext cx="71640" cy="2073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24240" y="3119040"/>
              <a:ext cx="67680" cy="18720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04160" y="3159000"/>
              <a:ext cx="51840" cy="1807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72800" y="3179160"/>
              <a:ext cx="822960" cy="12722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20960" y="3186000"/>
              <a:ext cx="107640" cy="91044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0760" y="3186000"/>
              <a:ext cx="115560" cy="9306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48680" y="3186000"/>
              <a:ext cx="139680" cy="1171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2200" y="3199320"/>
              <a:ext cx="55800" cy="1537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39880" y="3219480"/>
              <a:ext cx="39600" cy="14724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88120" y="3232800"/>
              <a:ext cx="39600" cy="1404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3920" y="3252960"/>
              <a:ext cx="27720" cy="1202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83880" y="3266280"/>
              <a:ext cx="35640" cy="127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12560" y="3420360"/>
              <a:ext cx="215640" cy="4284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36120" y="3480480"/>
              <a:ext cx="179640" cy="44172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24440" y="3513960"/>
              <a:ext cx="167760" cy="3078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88520" y="3527280"/>
              <a:ext cx="83880" cy="1335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52320" y="3560760"/>
              <a:ext cx="147600" cy="3348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28480" y="3574440"/>
              <a:ext cx="19800" cy="331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80040" y="3601080"/>
              <a:ext cx="63720" cy="1069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8120" y="3634560"/>
              <a:ext cx="19800" cy="39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96640" y="3929040"/>
              <a:ext cx="55800" cy="39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84760" y="3975840"/>
              <a:ext cx="499320" cy="18720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55680" y="4083120"/>
              <a:ext cx="331560" cy="3211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4920" y="4123440"/>
              <a:ext cx="1166400" cy="502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7200" y="4210560"/>
              <a:ext cx="163800" cy="22068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84960" y="4257360"/>
              <a:ext cx="23760" cy="1137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17000" y="4270680"/>
              <a:ext cx="27720" cy="1137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28880" y="4270680"/>
              <a:ext cx="1198440" cy="4752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4920" y="4371120"/>
              <a:ext cx="311400" cy="60912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7000" y="4431240"/>
              <a:ext cx="99720" cy="18720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75680" y="4438080"/>
              <a:ext cx="71640" cy="18720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35800" y="4451400"/>
              <a:ext cx="115560" cy="1537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75960" y="4471560"/>
              <a:ext cx="95760" cy="200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0680" y="4505040"/>
              <a:ext cx="798840" cy="2743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9160" y="4545360"/>
              <a:ext cx="71640" cy="3614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1000" y="4565160"/>
              <a:ext cx="35640" cy="3009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32040" y="4572000"/>
              <a:ext cx="31680" cy="601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240" y="4585320"/>
              <a:ext cx="219600" cy="4215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08720" y="4592160"/>
              <a:ext cx="807120" cy="9237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0960" y="4632120"/>
              <a:ext cx="19800" cy="12024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5360" y="4866480"/>
              <a:ext cx="139680" cy="1137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3160" y="4866480"/>
              <a:ext cx="35640" cy="468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760" y="4873320"/>
              <a:ext cx="43920" cy="5958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45000" y="4893480"/>
              <a:ext cx="43920" cy="56916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12960" y="4913640"/>
              <a:ext cx="43920" cy="5086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04160" y="5087520"/>
              <a:ext cx="255600" cy="10177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76160" y="5114520"/>
              <a:ext cx="39960" cy="867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88040" y="5154480"/>
              <a:ext cx="27720" cy="532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16120" y="5201280"/>
              <a:ext cx="11880" cy="1980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4720" y="5388840"/>
              <a:ext cx="299520" cy="7430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612880" y="4952880"/>
            <a:ext cx="968400" cy="838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030320" cy="838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483000" y="4952880"/>
            <a:ext cx="3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7589880" y="5029200"/>
            <a:ext cx="944640" cy="9144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251400" y="5029200"/>
            <a:ext cx="1063800" cy="905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296120" y="51055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1480" y="510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209680" y="1752480"/>
            <a:ext cx="63248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wo Binomal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362320" y="4572000"/>
            <a:ext cx="6248160" cy="1752480"/>
            <a:chOff x="2362320" y="4572000"/>
            <a:chExt cx="6248160" cy="1752480"/>
          </a:xfrm>
        </p:grpSpPr>
        <p:sp>
          <p:nvSpPr>
            <p:cNvPr id="392" name=""/>
            <p:cNvSpPr/>
            <p:nvPr/>
          </p:nvSpPr>
          <p:spPr>
            <a:xfrm>
              <a:off x="5943600" y="4648320"/>
              <a:ext cx="2666880" cy="1676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62320" y="4572000"/>
              <a:ext cx="2666880" cy="167652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828800" y="144792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(a + b)</a:t>
            </a:r>
            <a:r>
              <a:rPr b="0" lang="en-US" sz="6000" spc="-1" strike="noStrike">
                <a:solidFill>
                  <a:srgbClr val="0066ff"/>
                </a:solidFill>
                <a:latin typeface="Comic Sans MS"/>
              </a:rPr>
              <a:t> (c + d)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90720" y="3048120"/>
            <a:ext cx="914400" cy="1099440"/>
            <a:chOff x="990720" y="3048120"/>
            <a:chExt cx="914400" cy="1099440"/>
          </a:xfrm>
        </p:grpSpPr>
        <p:sp>
          <p:nvSpPr>
            <p:cNvPr id="397" name=""/>
            <p:cNvSpPr/>
            <p:nvPr/>
          </p:nvSpPr>
          <p:spPr>
            <a:xfrm>
              <a:off x="990720" y="3276720"/>
              <a:ext cx="6094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9320" y="304812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0000"/>
                  </a:solidFill>
                  <a:latin typeface="Comic Sans MS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1676520" y="31240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(c + d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981080" y="4724280"/>
            <a:ext cx="2438640" cy="1099440"/>
            <a:chOff x="1981080" y="4724280"/>
            <a:chExt cx="2438640" cy="1099440"/>
          </a:xfrm>
        </p:grpSpPr>
        <p:sp>
          <p:nvSpPr>
            <p:cNvPr id="401" name=""/>
            <p:cNvSpPr/>
            <p:nvPr/>
          </p:nvSpPr>
          <p:spPr>
            <a:xfrm>
              <a:off x="1981080" y="472428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0000"/>
                  </a:solidFill>
                  <a:latin typeface="Comic Sans MS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4800600"/>
              <a:ext cx="609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95480" y="472428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52680" y="472428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0000"/>
                  </a:solidFill>
                  <a:latin typeface="Comic Sans MS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09880" y="4800600"/>
              <a:ext cx="609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 rot="5400000">
            <a:off x="2437920" y="3276720"/>
            <a:ext cx="381240" cy="236196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581280" y="2666880"/>
            <a:ext cx="1981440" cy="60984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5400000">
            <a:off x="5333760" y="1676160"/>
            <a:ext cx="381240" cy="1905120"/>
          </a:xfrm>
          <a:custGeom>
            <a:avLst/>
            <a:gdLst>
              <a:gd name="textAreaLeft" fmla="*/ 0 w 381240"/>
              <a:gd name="textAreaRight" fmla="*/ 137520 w 3812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2520" y="3200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419720" y="3112920"/>
            <a:ext cx="2971800" cy="1084680"/>
            <a:chOff x="4419720" y="3112920"/>
            <a:chExt cx="2971800" cy="1084680"/>
          </a:xfrm>
        </p:grpSpPr>
        <p:sp>
          <p:nvSpPr>
            <p:cNvPr id="411" name=""/>
            <p:cNvSpPr/>
            <p:nvPr/>
          </p:nvSpPr>
          <p:spPr>
            <a:xfrm>
              <a:off x="4419720" y="31892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76920" y="3112920"/>
              <a:ext cx="2514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(c + d)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 rot="5400000">
            <a:off x="5562360" y="327636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343400" y="4724280"/>
            <a:ext cx="2971800" cy="1099440"/>
            <a:chOff x="4343400" y="4724280"/>
            <a:chExt cx="2971800" cy="1099440"/>
          </a:xfrm>
        </p:grpSpPr>
        <p:sp>
          <p:nvSpPr>
            <p:cNvPr id="415" name=""/>
            <p:cNvSpPr/>
            <p:nvPr/>
          </p:nvSpPr>
          <p:spPr>
            <a:xfrm>
              <a:off x="4800600" y="480060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57800" y="4800600"/>
              <a:ext cx="609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15000" y="472428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72200" y="480060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29400" y="480060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43400" y="4724280"/>
              <a:ext cx="685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 flipV="1">
            <a:off x="2362320" y="2819160"/>
            <a:ext cx="3047760" cy="304560"/>
          </a:xfrm>
          <a:custGeom>
            <a:avLst/>
            <a:gdLst/>
            <a:ahLst/>
            <a:rect l="l" t="t" r="r" b="b"/>
            <a:pathLst>
              <a:path w="1728" h="280">
                <a:moveTo>
                  <a:pt x="0" y="280"/>
                </a:moveTo>
                <a:cubicBezTo>
                  <a:pt x="240" y="179"/>
                  <a:pt x="480" y="79"/>
                  <a:pt x="672" y="40"/>
                </a:cubicBezTo>
                <a:cubicBezTo>
                  <a:pt x="863" y="0"/>
                  <a:pt x="976" y="8"/>
                  <a:pt x="1152" y="40"/>
                </a:cubicBezTo>
                <a:cubicBezTo>
                  <a:pt x="1327" y="71"/>
                  <a:pt x="1631" y="199"/>
                  <a:pt x="1728" y="2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1905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(3a + 8) (2a + 6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05720" y="182880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1905120"/>
            <a:ext cx="137160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24080" y="16765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endCxn id="425" idx="0"/>
          </p:cNvCxnSpPr>
          <p:nvPr/>
        </p:nvCxnSpPr>
        <p:spPr>
          <a:xfrm flipH="1" flipV="1" rot="5400000">
            <a:off x="3619080" y="494640"/>
            <a:ext cx="229320" cy="304884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endCxn id="424" idx="1"/>
          </p:cNvCxnSpPr>
          <p:nvPr/>
        </p:nvCxnSpPr>
        <p:spPr>
          <a:xfrm flipH="1" flipV="1" rot="5400000">
            <a:off x="4506480" y="-267480"/>
            <a:ext cx="104040" cy="4698360"/>
          </a:xfrm>
          <a:prstGeom prst="curvedConnector5">
            <a:avLst>
              <a:gd name="adj1" fmla="val 516666"/>
              <a:gd name="adj2" fmla="val 50000"/>
              <a:gd name="adj3" fmla="val 51666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6" idx="4"/>
            <a:endCxn id="425" idx="4"/>
          </p:cNvCxnSpPr>
          <p:nvPr/>
        </p:nvCxnSpPr>
        <p:spPr>
          <a:xfrm flipH="1" rot="16200000">
            <a:off x="4495680" y="2361600"/>
            <a:ext cx="76680" cy="1448640"/>
          </a:xfrm>
          <a:prstGeom prst="curvedConnector5">
            <a:avLst>
              <a:gd name="adj1" fmla="val 400000"/>
              <a:gd name="adj2" fmla="val 49987"/>
              <a:gd name="adj3" fmla="val 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/>
          <p:nvPr/>
        </p:nvCxnSpPr>
        <p:spPr>
          <a:xfrm flipH="1" flipV="1" rot="5400000">
            <a:off x="5333760" y="1523520"/>
            <a:ext cx="49680" cy="3098160"/>
          </a:xfrm>
          <a:prstGeom prst="curvedConnector5">
            <a:avLst>
              <a:gd name="adj1" fmla="val -773722"/>
              <a:gd name="adj2" fmla="val 49994"/>
              <a:gd name="adj3" fmla="val -77372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419720" y="1676520"/>
            <a:ext cx="43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95640" y="1447920"/>
            <a:ext cx="41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343400" y="2895480"/>
            <a:ext cx="39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25680" y="3124080"/>
            <a:ext cx="340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4343400"/>
            <a:ext cx="21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3a)(2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24120" y="43434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(3a)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38720" y="4343400"/>
            <a:ext cx="22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8(2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5880" y="4343400"/>
            <a:ext cx="23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(6)(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3962520"/>
            <a:ext cx="43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61920" y="3962520"/>
            <a:ext cx="418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562720" y="3962520"/>
            <a:ext cx="39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20960" y="3962520"/>
            <a:ext cx="340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05120" y="5410080"/>
            <a:ext cx="115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a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5410080"/>
            <a:ext cx="166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18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54100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16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79960" y="5410080"/>
            <a:ext cx="14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00520" y="1065960"/>
            <a:ext cx="2418840" cy="958320"/>
            <a:chOff x="200520" y="1065960"/>
            <a:chExt cx="2418840" cy="958320"/>
          </a:xfrm>
        </p:grpSpPr>
        <p:sp>
          <p:nvSpPr>
            <p:cNvPr id="448" name=""/>
            <p:cNvSpPr/>
            <p:nvPr/>
          </p:nvSpPr>
          <p:spPr>
            <a:xfrm rot="20897400">
              <a:off x="222840" y="1305720"/>
              <a:ext cx="2313000" cy="457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0897400">
              <a:off x="378720" y="1284480"/>
              <a:ext cx="221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828800" y="1600200"/>
            <a:ext cx="5866920" cy="1556280"/>
            <a:chOff x="1828800" y="1600200"/>
            <a:chExt cx="5866920" cy="1556280"/>
          </a:xfrm>
        </p:grpSpPr>
        <p:sp>
          <p:nvSpPr>
            <p:cNvPr id="452" name=""/>
            <p:cNvSpPr/>
            <p:nvPr/>
          </p:nvSpPr>
          <p:spPr>
            <a:xfrm>
              <a:off x="1828800" y="1600200"/>
              <a:ext cx="128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6a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73240" y="1600200"/>
              <a:ext cx="185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18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47880" y="1600200"/>
              <a:ext cx="17164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16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21080" y="1600200"/>
              <a:ext cx="1574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4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178000" y="3276720"/>
            <a:ext cx="5664240" cy="1008360"/>
            <a:chOff x="2178000" y="3276720"/>
            <a:chExt cx="5664240" cy="1008360"/>
          </a:xfrm>
        </p:grpSpPr>
        <p:sp>
          <p:nvSpPr>
            <p:cNvPr id="457" name=""/>
            <p:cNvSpPr/>
            <p:nvPr/>
          </p:nvSpPr>
          <p:spPr>
            <a:xfrm>
              <a:off x="2178000" y="3276720"/>
              <a:ext cx="3938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6a</a:t>
              </a:r>
              <a:r>
                <a:rPr b="0" lang="en-US" sz="6000" spc="-1" strike="noStrike" baseline="30000">
                  <a:solidFill>
                    <a:srgbClr val="cc0000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05320" y="3276720"/>
              <a:ext cx="220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+ 34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38680" y="3276720"/>
              <a:ext cx="220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+ 4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 txBox="1"/>
          <p:nvPr/>
        </p:nvSpPr>
        <p:spPr>
          <a:xfrm>
            <a:off x="838080" y="4419720"/>
            <a:ext cx="472464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 O I 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04920" y="2281320"/>
            <a:ext cx="5867640" cy="753840"/>
            <a:chOff x="304920" y="2281320"/>
            <a:chExt cx="5867640" cy="753840"/>
          </a:xfrm>
        </p:grpSpPr>
        <p:sp>
          <p:nvSpPr>
            <p:cNvPr id="462" name=""/>
            <p:cNvSpPr/>
            <p:nvPr/>
          </p:nvSpPr>
          <p:spPr>
            <a:xfrm rot="16188600">
              <a:off x="4609080" y="1180440"/>
              <a:ext cx="457200" cy="26679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7960"/>
                <a:gd name="textAreaBottom" fmla="*/ 2598480 h 266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51"/>
                  </a:lnTo>
                  <a:cubicBezTo>
                    <a:pt x="10800" y="10051"/>
                    <a:pt x="5400" y="10951"/>
                    <a:pt x="0" y="10951"/>
                  </a:cubicBezTo>
                  <a:cubicBezTo>
                    <a:pt x="5400" y="10951"/>
                    <a:pt x="10800" y="11851"/>
                    <a:pt x="10800" y="1275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2514600"/>
              <a:ext cx="364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9966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339966"/>
                  </a:solidFill>
                  <a:latin typeface="Comic Sans MS"/>
                </a:rPr>
                <a:t>combine like ter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3429000" cy="27478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066680" y="28195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a + 4) (a + 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77120" y="266688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43400" y="2743200"/>
            <a:ext cx="13716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95480" y="251460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24280" y="2362320"/>
            <a:ext cx="457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43400" y="365760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71960" y="358128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23160" y="259092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276720" y="12193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a + 4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flipV="1" rot="5400000">
            <a:off x="4505760" y="3195000"/>
            <a:ext cx="27720" cy="964440"/>
          </a:xfrm>
          <a:prstGeom prst="curvedConnector5">
            <a:avLst>
              <a:gd name="adj1" fmla="val -1593421"/>
              <a:gd name="adj2" fmla="val 50000"/>
              <a:gd name="adj3" fmla="val -159342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/>
          <p:nvPr/>
        </p:nvCxnSpPr>
        <p:spPr>
          <a:xfrm flipH="1" rot="16200000">
            <a:off x="4905360" y="2850840"/>
            <a:ext cx="272160" cy="1951920"/>
          </a:xfrm>
          <a:prstGeom prst="curvedConnector5">
            <a:avLst>
              <a:gd name="adj1" fmla="val 184105"/>
              <a:gd name="adj2" fmla="val 49990"/>
              <a:gd name="adj3" fmla="val 18410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69" idx="1"/>
            <a:endCxn id="473" idx="0"/>
          </p:cNvCxnSpPr>
          <p:nvPr/>
        </p:nvCxnSpPr>
        <p:spPr>
          <a:xfrm flipH="1" flipV="1" rot="5400000">
            <a:off x="4581720" y="1105200"/>
            <a:ext cx="126000" cy="3096360"/>
          </a:xfrm>
          <a:prstGeom prst="curvedConnector5">
            <a:avLst>
              <a:gd name="adj1" fmla="val 342979"/>
              <a:gd name="adj2" fmla="val 50000"/>
              <a:gd name="adj3" fmla="val 342979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8" name=""/>
          <p:cNvCxnSpPr/>
          <p:nvPr/>
        </p:nvCxnSpPr>
        <p:spPr>
          <a:xfrm flipH="1" rot="16200000">
            <a:off x="3929040" y="1937160"/>
            <a:ext cx="130680" cy="1892880"/>
          </a:xfrm>
          <a:prstGeom prst="curvedConnector5">
            <a:avLst>
              <a:gd name="adj1" fmla="val -330386"/>
              <a:gd name="adj2" fmla="val 45672"/>
              <a:gd name="adj3" fmla="val -330386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1828800" y="4390920"/>
            <a:ext cx="118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16200" y="4390920"/>
            <a:ext cx="197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4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95880" y="4390920"/>
            <a:ext cx="18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4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73840" y="4390920"/>
            <a:ext cx="18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24000" y="4086360"/>
            <a:ext cx="557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08000" y="4038480"/>
            <a:ext cx="37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81640" y="4086360"/>
            <a:ext cx="514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65640" y="4038480"/>
            <a:ext cx="315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90920" y="5094360"/>
            <a:ext cx="178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a</a:t>
            </a:r>
            <a:r>
              <a:rPr b="0" lang="en-US" sz="60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0280" y="5094360"/>
            <a:ext cx="254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+ 8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46840" y="5094360"/>
            <a:ext cx="28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+ 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6188600">
            <a:off x="4457520" y="377136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0" y="1523880"/>
            <a:ext cx="17524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50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429000" y="23623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a + 4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34020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a</a:t>
            </a:r>
            <a:r>
              <a:rPr b="0" lang="en-US" sz="60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352680" y="32767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 8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57800" y="3352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Comic Sans MS"/>
              </a:rPr>
              <a:t>+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 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4190760" y="269352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05320" y="4572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ice first times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endCxn id="500" idx="0"/>
          </p:cNvCxnSpPr>
          <p:nvPr/>
        </p:nvCxnSpPr>
        <p:spPr>
          <a:xfrm rot="5400000">
            <a:off x="2094840" y="4854240"/>
            <a:ext cx="83916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609480" y="55785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of firs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1480" y="59594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of las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14479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Shortcut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quaring a 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496" idx="2"/>
          </p:cNvCxnSpPr>
          <p:nvPr/>
        </p:nvCxnSpPr>
        <p:spPr>
          <a:xfrm flipH="1" rot="16200000">
            <a:off x="6310080" y="4771440"/>
            <a:ext cx="1067400" cy="9626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514600" y="16002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Comic Sans MS"/>
              </a:rPr>
              <a:t>CONJUGATES</a:t>
            </a:r>
            <a:r>
              <a:rPr b="0" lang="en-US" sz="4000" spc="-1" strike="noStrike">
                <a:solidFill>
                  <a:srgbClr val="339933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66680" y="28954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nomials which differ only by the sign between the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4495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9933"/>
                </a:solidFill>
                <a:latin typeface="Comic Sans MS"/>
              </a:rPr>
              <a:t>(x + 3) and (x – 3) are conjug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38280" y="685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1523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Equ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438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thematical expression that contains an equal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2120" y="3657600"/>
            <a:ext cx="7361280" cy="2666880"/>
            <a:chOff x="762120" y="3657600"/>
            <a:chExt cx="7361280" cy="26668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943600" y="3657600"/>
              <a:ext cx="21798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62120" y="5029200"/>
              <a:ext cx="533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(Einstein’s formula relating mass and energy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523880" y="3733920"/>
            <a:ext cx="2895840" cy="1008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Comic Sans MS"/>
              </a:rPr>
              <a:t>E = mc</a:t>
            </a:r>
            <a:r>
              <a:rPr b="0" lang="en-US" sz="60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85800" y="1905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x 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+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4) (x </a:t>
            </a: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-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/>
          <p:nvPr/>
        </p:nvCxnSpPr>
        <p:spPr>
          <a:xfrm flipH="1" rot="16200000">
            <a:off x="4495680" y="2133000"/>
            <a:ext cx="76680" cy="1448640"/>
          </a:xfrm>
          <a:prstGeom prst="curvedConnector5">
            <a:avLst>
              <a:gd name="adj1" fmla="val 400000"/>
              <a:gd name="adj2" fmla="val 49987"/>
              <a:gd name="adj3" fmla="val 40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419720" y="167652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43400" y="2743200"/>
            <a:ext cx="3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27600" y="274320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1932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 4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3733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4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52680" y="3733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2120" y="3429000"/>
            <a:ext cx="43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32040" y="342900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3429000"/>
            <a:ext cx="3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67200" y="3429000"/>
            <a:ext cx="287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219320" y="4495680"/>
            <a:ext cx="2971800" cy="703440"/>
            <a:chOff x="1219320" y="4495680"/>
            <a:chExt cx="2971800" cy="703440"/>
          </a:xfrm>
        </p:grpSpPr>
        <p:sp>
          <p:nvSpPr>
            <p:cNvPr id="523" name=""/>
            <p:cNvSpPr/>
            <p:nvPr/>
          </p:nvSpPr>
          <p:spPr>
            <a:xfrm>
              <a:off x="1219320" y="4495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05120" y="4495680"/>
              <a:ext cx="172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0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8120" y="449568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600200" y="5334120"/>
            <a:ext cx="2514240" cy="916920"/>
            <a:chOff x="1600200" y="5334120"/>
            <a:chExt cx="2514240" cy="916920"/>
          </a:xfrm>
        </p:grpSpPr>
        <p:sp>
          <p:nvSpPr>
            <p:cNvPr id="527" name=""/>
            <p:cNvSpPr/>
            <p:nvPr/>
          </p:nvSpPr>
          <p:spPr>
            <a:xfrm>
              <a:off x="1600200" y="5334120"/>
              <a:ext cx="246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0000"/>
                  </a:solidFill>
                  <a:latin typeface="Comic Sans MS"/>
                </a:rPr>
                <a:t>x</a:t>
              </a:r>
              <a:r>
                <a:rPr b="0" lang="en-US" sz="5400" spc="-1" strike="noStrike" baseline="30000">
                  <a:solidFill>
                    <a:srgbClr val="cc0000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49720" y="5334120"/>
              <a:ext cx="1764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5400" spc="-1" strike="noStrike">
                  <a:solidFill>
                    <a:srgbClr val="cc0000"/>
                  </a:solidFill>
                  <a:latin typeface="Comic Sans MS"/>
                </a:rPr>
                <a:t>- 1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565960" y="1371600"/>
            <a:ext cx="339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flipV="1" rot="5400000">
            <a:off x="4176360" y="913680"/>
            <a:ext cx="91080" cy="2072520"/>
          </a:xfrm>
          <a:prstGeom prst="curvedConnector5">
            <a:avLst>
              <a:gd name="adj1" fmla="val 436507"/>
              <a:gd name="adj2" fmla="val 50000"/>
              <a:gd name="adj3" fmla="val 4365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"/>
          <p:cNvCxnSpPr/>
          <p:nvPr/>
        </p:nvCxnSpPr>
        <p:spPr>
          <a:xfrm flipH="1" flipV="1" rot="5400000">
            <a:off x="4620960" y="483840"/>
            <a:ext cx="76680" cy="2947320"/>
          </a:xfrm>
          <a:prstGeom prst="curvedConnector5">
            <a:avLst>
              <a:gd name="adj1" fmla="val 621226"/>
              <a:gd name="adj2" fmla="val 50000"/>
              <a:gd name="adj3" fmla="val 62122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4258800" y="2742840"/>
            <a:ext cx="2218680" cy="1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4724280" y="3840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60" indent="-507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different 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285640" y="4572000"/>
            <a:ext cx="762480" cy="685800"/>
            <a:chOff x="2285640" y="4572000"/>
            <a:chExt cx="762480" cy="685800"/>
          </a:xfrm>
        </p:grpSpPr>
        <p:sp>
          <p:nvSpPr>
            <p:cNvPr id="535" name=""/>
            <p:cNvSpPr/>
            <p:nvPr/>
          </p:nvSpPr>
          <p:spPr>
            <a:xfrm flipH="1">
              <a:off x="2285640" y="4572000"/>
              <a:ext cx="76212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86000" y="4572000"/>
              <a:ext cx="76212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5257800" y="4449600"/>
            <a:ext cx="3352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 is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quare of a 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20760" y="5462640"/>
            <a:ext cx="35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– secon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914400" y="22096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dividing exponents of terms with the sam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13716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600200" y="4786200"/>
            <a:ext cx="2438280" cy="1510920"/>
            <a:chOff x="1600200" y="4786200"/>
            <a:chExt cx="2438280" cy="1510920"/>
          </a:xfrm>
        </p:grpSpPr>
        <p:sp>
          <p:nvSpPr>
            <p:cNvPr id="543" name=""/>
            <p:cNvSpPr/>
            <p:nvPr/>
          </p:nvSpPr>
          <p:spPr>
            <a:xfrm>
              <a:off x="2895480" y="5029200"/>
              <a:ext cx="114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0000"/>
                  </a:solidFill>
                  <a:latin typeface="Comic Sans MS"/>
                </a:rPr>
                <a:t>n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Comic Sans MS"/>
                </a:rPr>
                <a:t>a-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1600200" y="4786200"/>
              <a:ext cx="1371600" cy="1510920"/>
              <a:chOff x="1600200" y="4786200"/>
              <a:chExt cx="1371600" cy="1510920"/>
            </a:xfrm>
          </p:grpSpPr>
          <p:sp>
            <p:nvSpPr>
              <p:cNvPr id="545" name=""/>
              <p:cNvSpPr/>
              <p:nvPr/>
            </p:nvSpPr>
            <p:spPr>
              <a:xfrm>
                <a:off x="1600200" y="47862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c0000"/>
                    </a:solidFill>
                    <a:latin typeface="Comic Sans MS"/>
                  </a:rPr>
                  <a:t>n</a:t>
                </a:r>
                <a:r>
                  <a:rPr b="0" lang="en-US" sz="4800" spc="-1" strike="noStrike" baseline="30000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00200" y="54720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c0000"/>
                    </a:solidFill>
                    <a:latin typeface="Comic Sans MS"/>
                  </a:rPr>
                  <a:t>n</a:t>
                </a:r>
                <a:r>
                  <a:rPr b="0" lang="en-US" sz="4800" spc="-1" strike="noStrike" baseline="30000">
                    <a:solidFill>
                      <a:srgbClr val="3333cc"/>
                    </a:solidFill>
                    <a:latin typeface="Comic Sans MS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361960" y="5105520"/>
                <a:ext cx="609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600200" y="5486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4572000" y="5257440"/>
            <a:ext cx="3581280" cy="642960"/>
            <a:chOff x="4572000" y="5257440"/>
            <a:chExt cx="3581280" cy="642960"/>
          </a:xfrm>
        </p:grpSpPr>
        <p:sp>
          <p:nvSpPr>
            <p:cNvPr id="550" name=""/>
            <p:cNvSpPr/>
            <p:nvPr/>
          </p:nvSpPr>
          <p:spPr>
            <a:xfrm>
              <a:off x="4572000" y="525780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here </a:t>
              </a: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n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315200" y="5257440"/>
              <a:ext cx="228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1295280" y="3505320"/>
            <a:ext cx="6858000" cy="13230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write the comm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99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subtract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828800" y="196524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2r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3r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4267080" y="2193840"/>
                <a:ext cx="6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56" name=""/>
          <p:cNvSpPr/>
          <p:nvPr/>
        </p:nvSpPr>
        <p:spPr>
          <a:xfrm>
            <a:off x="609480" y="54705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4r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-1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5-2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209680" y="3228840"/>
            <a:ext cx="5105520" cy="1938600"/>
            <a:chOff x="2209680" y="3228840"/>
            <a:chExt cx="5105520" cy="1938600"/>
          </a:xfrm>
        </p:grpSpPr>
        <p:grpSp>
          <p:nvGrpSpPr>
            <p:cNvPr id="558" name=""/>
            <p:cNvGrpSpPr/>
            <p:nvPr/>
          </p:nvGrpSpPr>
          <p:grpSpPr>
            <a:xfrm>
              <a:off x="2209680" y="3228840"/>
              <a:ext cx="5105520" cy="1938600"/>
              <a:chOff x="2209680" y="3228840"/>
              <a:chExt cx="5105520" cy="19386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2209680" y="3228840"/>
                <a:ext cx="5105520" cy="1938600"/>
                <a:chOff x="2209680" y="3228840"/>
                <a:chExt cx="5105520" cy="193860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886200" y="3230640"/>
                  <a:ext cx="9903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r>
                    <a:rPr b="0" lang="en-US" sz="6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886200" y="4159080"/>
                  <a:ext cx="9903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r>
                    <a:rPr b="0" lang="en-US" sz="6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209680" y="4159080"/>
                  <a:ext cx="11811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-3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286000" y="3230640"/>
                  <a:ext cx="106668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12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247840" y="4205160"/>
                  <a:ext cx="1104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352680" y="3435480"/>
                  <a:ext cx="5335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.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886200" y="4205160"/>
                  <a:ext cx="99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781680" y="3664080"/>
                  <a:ext cx="5335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=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876560" y="3435480"/>
                  <a:ext cx="5335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.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562360" y="3228840"/>
                  <a:ext cx="990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en-US" sz="6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562360" y="4159080"/>
                  <a:ext cx="990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en-US" sz="6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>
                <a:off x="5486400" y="42051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2209680" y="41749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62160" y="4174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62360" y="4174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54705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-4r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523880" y="144792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5.2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7.1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025800" y="2563920"/>
            <a:ext cx="3082680" cy="1602360"/>
            <a:chOff x="3025800" y="2563920"/>
            <a:chExt cx="3082680" cy="1602360"/>
          </a:xfrm>
        </p:grpSpPr>
        <p:grpSp>
          <p:nvGrpSpPr>
            <p:cNvPr id="579" name=""/>
            <p:cNvGrpSpPr/>
            <p:nvPr/>
          </p:nvGrpSpPr>
          <p:grpSpPr>
            <a:xfrm>
              <a:off x="3025800" y="2563920"/>
              <a:ext cx="2527200" cy="1602360"/>
              <a:chOff x="3025800" y="2563920"/>
              <a:chExt cx="2527200" cy="1602360"/>
            </a:xfrm>
          </p:grpSpPr>
          <p:sp>
            <p:nvSpPr>
              <p:cNvPr id="580" name=""/>
              <p:cNvSpPr/>
              <p:nvPr/>
            </p:nvSpPr>
            <p:spPr>
              <a:xfrm>
                <a:off x="3167280" y="2563920"/>
                <a:ext cx="2242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15.2x</a:t>
                </a:r>
                <a:r>
                  <a:rPr b="0" lang="en-US" sz="4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r>
                  <a:rPr b="0" lang="en-US" sz="44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421080" y="3402000"/>
                <a:ext cx="1736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7.1x</a:t>
                </a:r>
                <a:r>
                  <a:rPr b="0" lang="en-US" sz="4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025800" y="3352680"/>
                <a:ext cx="252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607720" y="29829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126800" y="4302000"/>
            <a:ext cx="6874200" cy="1429560"/>
            <a:chOff x="1126800" y="4302000"/>
            <a:chExt cx="6874200" cy="1429560"/>
          </a:xfrm>
        </p:grpSpPr>
        <p:grpSp>
          <p:nvGrpSpPr>
            <p:cNvPr id="585" name=""/>
            <p:cNvGrpSpPr/>
            <p:nvPr/>
          </p:nvGrpSpPr>
          <p:grpSpPr>
            <a:xfrm>
              <a:off x="1126800" y="4302000"/>
              <a:ext cx="1290240" cy="1429560"/>
              <a:chOff x="1126800" y="4302000"/>
              <a:chExt cx="1290240" cy="1429560"/>
            </a:xfrm>
          </p:grpSpPr>
          <p:sp>
            <p:nvSpPr>
              <p:cNvPr id="586" name=""/>
              <p:cNvSpPr/>
              <p:nvPr/>
            </p:nvSpPr>
            <p:spPr>
              <a:xfrm>
                <a:off x="1126800" y="4302000"/>
                <a:ext cx="1290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15.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285920" y="4967280"/>
                <a:ext cx="970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7.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214280" y="5013360"/>
                <a:ext cx="111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2451240" y="4603680"/>
              <a:ext cx="554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1126800" y="1905120"/>
            <a:ext cx="6874200" cy="1429200"/>
            <a:chOff x="1126800" y="1905120"/>
            <a:chExt cx="6874200" cy="1429200"/>
          </a:xfrm>
        </p:grpSpPr>
        <p:grpSp>
          <p:nvGrpSpPr>
            <p:cNvPr id="592" name=""/>
            <p:cNvGrpSpPr/>
            <p:nvPr/>
          </p:nvGrpSpPr>
          <p:grpSpPr>
            <a:xfrm>
              <a:off x="1126800" y="1905120"/>
              <a:ext cx="1290240" cy="1429200"/>
              <a:chOff x="1126800" y="1905120"/>
              <a:chExt cx="1290240" cy="1429200"/>
            </a:xfrm>
          </p:grpSpPr>
          <p:sp>
            <p:nvSpPr>
              <p:cNvPr id="593" name=""/>
              <p:cNvSpPr/>
              <p:nvPr/>
            </p:nvSpPr>
            <p:spPr>
              <a:xfrm>
                <a:off x="1126800" y="1905120"/>
                <a:ext cx="1290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15.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85920" y="2570040"/>
                <a:ext cx="970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7.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14280" y="2616120"/>
                <a:ext cx="111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2451240" y="2206440"/>
              <a:ext cx="554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555280" y="3595680"/>
            <a:ext cx="6741000" cy="825120"/>
            <a:chOff x="2555280" y="3595680"/>
            <a:chExt cx="6741000" cy="825120"/>
          </a:xfrm>
        </p:grpSpPr>
        <p:sp>
          <p:nvSpPr>
            <p:cNvPr id="599" name=""/>
            <p:cNvSpPr/>
            <p:nvPr/>
          </p:nvSpPr>
          <p:spPr>
            <a:xfrm>
              <a:off x="3746520" y="3595680"/>
              <a:ext cx="554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55280" y="3698640"/>
              <a:ext cx="109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2.1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09480" y="214776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38480" y="207180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6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3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66880" y="2986200"/>
            <a:ext cx="22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3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(?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2986200"/>
            <a:ext cx="3810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3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(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?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4341960"/>
            <a:ext cx="58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3x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)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666880" y="4738680"/>
            <a:ext cx="3916440" cy="763920"/>
            <a:chOff x="2666880" y="4738680"/>
            <a:chExt cx="3916440" cy="763920"/>
          </a:xfrm>
        </p:grpSpPr>
        <p:sp>
          <p:nvSpPr>
            <p:cNvPr id="607" name=""/>
            <p:cNvSpPr/>
            <p:nvPr/>
          </p:nvSpPr>
          <p:spPr>
            <a:xfrm>
              <a:off x="2834280" y="4770720"/>
              <a:ext cx="73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3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17040" y="4799160"/>
              <a:ext cx="73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3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7800" y="4799160"/>
              <a:ext cx="73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3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66880" y="4746600"/>
              <a:ext cx="94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14800" y="4738680"/>
              <a:ext cx="94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35800" y="4746600"/>
              <a:ext cx="94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09480" y="2986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867760" y="4052880"/>
            <a:ext cx="3590640" cy="947160"/>
            <a:chOff x="2867760" y="4052880"/>
            <a:chExt cx="3590640" cy="947160"/>
          </a:xfrm>
        </p:grpSpPr>
        <p:sp>
          <p:nvSpPr>
            <p:cNvPr id="615" name=""/>
            <p:cNvSpPr/>
            <p:nvPr/>
          </p:nvSpPr>
          <p:spPr>
            <a:xfrm>
              <a:off x="2867760" y="4068360"/>
              <a:ext cx="90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x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28200" y="4068360"/>
              <a:ext cx="90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6x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20040" y="4052880"/>
              <a:ext cx="73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94080" y="435744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70200" y="435744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2819520" y="572940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3x</a:t>
            </a:r>
            <a:r>
              <a:rPr b="1" lang="en-US" sz="4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9999"/>
                </a:solidFill>
                <a:latin typeface="Comic Sans MS"/>
              </a:rPr>
              <a:t>(3x</a:t>
            </a:r>
            <a:r>
              <a:rPr b="1" lang="en-US" sz="4800" spc="-1" strike="noStrike" baseline="30000">
                <a:solidFill>
                  <a:srgbClr val="009999"/>
                </a:solidFill>
                <a:latin typeface="Comic Sans MS"/>
              </a:rPr>
              <a:t>2</a:t>
            </a:r>
            <a:r>
              <a:rPr b="1" lang="en-US" sz="4800" spc="-1" strike="noStrike">
                <a:solidFill>
                  <a:srgbClr val="009999"/>
                </a:solidFill>
                <a:latin typeface="Comic Sans MS"/>
              </a:rPr>
              <a:t> + 2x + 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l"/>
      </p:transition>
    </mc:Choice>
    <mc:Fallback>
      <p:transition spd="slow">
        <p:pull dir="l"/>
      </p:transition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3200400" y="1523880"/>
            <a:ext cx="2742840" cy="1146600"/>
            <a:chOff x="3200400" y="1523880"/>
            <a:chExt cx="2742840" cy="1146600"/>
          </a:xfrm>
        </p:grpSpPr>
        <p:sp>
          <p:nvSpPr>
            <p:cNvPr id="623" name=""/>
            <p:cNvSpPr/>
            <p:nvPr/>
          </p:nvSpPr>
          <p:spPr>
            <a:xfrm>
              <a:off x="4267080" y="17463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3200400" y="1523880"/>
              <a:ext cx="990360" cy="1144800"/>
              <a:chOff x="3200400" y="1523880"/>
              <a:chExt cx="990360" cy="1144800"/>
            </a:xfrm>
          </p:grpSpPr>
          <p:sp>
            <p:nvSpPr>
              <p:cNvPr id="625" name=""/>
              <p:cNvSpPr/>
              <p:nvPr/>
            </p:nvSpPr>
            <p:spPr>
              <a:xfrm>
                <a:off x="3200400" y="152388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00400" y="208728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b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209520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876920" y="1525680"/>
              <a:ext cx="1066320" cy="1144800"/>
              <a:chOff x="4876920" y="1525680"/>
              <a:chExt cx="1066320" cy="1144800"/>
            </a:xfrm>
          </p:grpSpPr>
          <p:sp>
            <p:nvSpPr>
              <p:cNvPr id="629" name=""/>
              <p:cNvSpPr/>
              <p:nvPr/>
            </p:nvSpPr>
            <p:spPr>
              <a:xfrm>
                <a:off x="4876920" y="1525680"/>
                <a:ext cx="1066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b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76920" y="2089080"/>
                <a:ext cx="1066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a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76920" y="2097000"/>
                <a:ext cx="106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2" name=""/>
          <p:cNvGrpSpPr/>
          <p:nvPr/>
        </p:nvGrpSpPr>
        <p:grpSpPr>
          <a:xfrm>
            <a:off x="1905120" y="3000240"/>
            <a:ext cx="5409720" cy="1146600"/>
            <a:chOff x="1905120" y="3000240"/>
            <a:chExt cx="5409720" cy="1146600"/>
          </a:xfrm>
        </p:grpSpPr>
        <p:sp>
          <p:nvSpPr>
            <p:cNvPr id="633" name=""/>
            <p:cNvSpPr/>
            <p:nvPr/>
          </p:nvSpPr>
          <p:spPr>
            <a:xfrm>
              <a:off x="3657600" y="3222360"/>
              <a:ext cx="53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1905120" y="3000240"/>
              <a:ext cx="1752480" cy="1144800"/>
              <a:chOff x="1905120" y="3000240"/>
              <a:chExt cx="1752480" cy="1144800"/>
            </a:xfrm>
          </p:grpSpPr>
          <p:sp>
            <p:nvSpPr>
              <p:cNvPr id="635" name=""/>
              <p:cNvSpPr/>
              <p:nvPr/>
            </p:nvSpPr>
            <p:spPr>
              <a:xfrm>
                <a:off x="2171520" y="3000240"/>
                <a:ext cx="121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 • 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905120" y="356364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• b • 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962000" y="3563640"/>
                <a:ext cx="1638000" cy="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267080" y="3001680"/>
              <a:ext cx="3047760" cy="1145160"/>
              <a:chOff x="4267080" y="3001680"/>
              <a:chExt cx="3047760" cy="1145160"/>
            </a:xfrm>
          </p:grpSpPr>
          <p:sp>
            <p:nvSpPr>
              <p:cNvPr id="639" name=""/>
              <p:cNvSpPr/>
              <p:nvPr/>
            </p:nvSpPr>
            <p:spPr>
              <a:xfrm>
                <a:off x="4267080" y="3001680"/>
                <a:ext cx="304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 • b • b • b •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14720" y="356544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 • a • 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4267080" y="3563280"/>
                <a:ext cx="304776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2" name=""/>
          <p:cNvGrpSpPr/>
          <p:nvPr/>
        </p:nvGrpSpPr>
        <p:grpSpPr>
          <a:xfrm>
            <a:off x="2470320" y="3153960"/>
            <a:ext cx="2962080" cy="838440"/>
            <a:chOff x="2470320" y="3153960"/>
            <a:chExt cx="2962080" cy="838440"/>
          </a:xfrm>
        </p:grpSpPr>
        <p:sp>
          <p:nvSpPr>
            <p:cNvPr id="643" name=""/>
            <p:cNvSpPr/>
            <p:nvPr/>
          </p:nvSpPr>
          <p:spPr>
            <a:xfrm flipV="1">
              <a:off x="2470320" y="3687840"/>
              <a:ext cx="57780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4854600" y="3153960"/>
              <a:ext cx="5778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3124080" y="3153960"/>
            <a:ext cx="2962440" cy="838440"/>
            <a:chOff x="3124080" y="3153960"/>
            <a:chExt cx="2962440" cy="838440"/>
          </a:xfrm>
        </p:grpSpPr>
        <p:sp>
          <p:nvSpPr>
            <p:cNvPr id="646" name=""/>
            <p:cNvSpPr/>
            <p:nvPr/>
          </p:nvSpPr>
          <p:spPr>
            <a:xfrm flipV="1">
              <a:off x="3124080" y="3687840"/>
              <a:ext cx="57780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5508720" y="3153960"/>
              <a:ext cx="5778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774880" y="3153960"/>
            <a:ext cx="3321000" cy="838440"/>
            <a:chOff x="2774880" y="3153960"/>
            <a:chExt cx="3321000" cy="838440"/>
          </a:xfrm>
        </p:grpSpPr>
        <p:sp>
          <p:nvSpPr>
            <p:cNvPr id="649" name=""/>
            <p:cNvSpPr/>
            <p:nvPr/>
          </p:nvSpPr>
          <p:spPr>
            <a:xfrm flipV="1">
              <a:off x="2774880" y="3153960"/>
              <a:ext cx="57780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5518080" y="3687840"/>
              <a:ext cx="57780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1576800" y="2620800"/>
            <a:ext cx="3570480" cy="1862640"/>
            <a:chOff x="1576800" y="2620800"/>
            <a:chExt cx="3570480" cy="1862640"/>
          </a:xfrm>
        </p:grpSpPr>
        <p:sp>
          <p:nvSpPr>
            <p:cNvPr id="652" name=""/>
            <p:cNvSpPr/>
            <p:nvPr/>
          </p:nvSpPr>
          <p:spPr>
            <a:xfrm flipV="1">
              <a:off x="1882800" y="3687840"/>
              <a:ext cx="57780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76800" y="3902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4267080" y="3153960"/>
              <a:ext cx="5778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33280" y="26208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209680" y="2620800"/>
            <a:ext cx="3245040" cy="1861200"/>
            <a:chOff x="2209680" y="2620800"/>
            <a:chExt cx="3245040" cy="1861200"/>
          </a:xfrm>
        </p:grpSpPr>
        <p:sp>
          <p:nvSpPr>
            <p:cNvPr id="657" name=""/>
            <p:cNvSpPr/>
            <p:nvPr/>
          </p:nvSpPr>
          <p:spPr>
            <a:xfrm flipV="1">
              <a:off x="2209680" y="3153960"/>
              <a:ext cx="577800" cy="3049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43480" y="26208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4876920" y="3687840"/>
              <a:ext cx="577800" cy="3045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04680" y="39006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372280" y="4648320"/>
            <a:ext cx="952200" cy="1144800"/>
            <a:chOff x="5372280" y="4648320"/>
            <a:chExt cx="952200" cy="1144800"/>
          </a:xfrm>
        </p:grpSpPr>
        <p:sp>
          <p:nvSpPr>
            <p:cNvPr id="662" name=""/>
            <p:cNvSpPr/>
            <p:nvPr/>
          </p:nvSpPr>
          <p:spPr>
            <a:xfrm>
              <a:off x="5398920" y="4648320"/>
              <a:ext cx="89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02240" y="5211720"/>
              <a:ext cx="69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3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72280" y="5211720"/>
              <a:ext cx="952200" cy="1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2819520" y="4649760"/>
            <a:ext cx="2476440" cy="1145160"/>
            <a:chOff x="2819520" y="4649760"/>
            <a:chExt cx="2476440" cy="1145160"/>
          </a:xfrm>
        </p:grpSpPr>
        <p:sp>
          <p:nvSpPr>
            <p:cNvPr id="666" name=""/>
            <p:cNvSpPr/>
            <p:nvPr/>
          </p:nvSpPr>
          <p:spPr>
            <a:xfrm>
              <a:off x="4762440" y="487044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2819520" y="4649760"/>
              <a:ext cx="1866960" cy="1145160"/>
              <a:chOff x="2819520" y="4649760"/>
              <a:chExt cx="1866960" cy="1145160"/>
            </a:xfrm>
          </p:grpSpPr>
          <p:sp>
            <p:nvSpPr>
              <p:cNvPr id="668" name=""/>
              <p:cNvSpPr/>
              <p:nvPr/>
            </p:nvSpPr>
            <p:spPr>
              <a:xfrm>
                <a:off x="2819520" y="4649760"/>
                <a:ext cx="1866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• b •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215160" y="5213520"/>
                <a:ext cx="1075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 • 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2819520" y="5211360"/>
                <a:ext cx="186696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076400" y="3760920"/>
            <a:ext cx="3646440" cy="1250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66680" y="2514600"/>
            <a:ext cx="366264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455920" y="2514600"/>
            <a:ext cx="1030320" cy="249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438280" y="2514600"/>
            <a:ext cx="1047600" cy="1885680"/>
            <a:chOff x="2438280" y="2514600"/>
            <a:chExt cx="1047600" cy="1885680"/>
          </a:xfrm>
        </p:grpSpPr>
        <p:sp>
          <p:nvSpPr>
            <p:cNvPr id="676" name=""/>
            <p:cNvSpPr/>
            <p:nvPr/>
          </p:nvSpPr>
          <p:spPr>
            <a:xfrm>
              <a:off x="2438280" y="2514600"/>
              <a:ext cx="81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38280" y="3757680"/>
              <a:ext cx="104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438280" y="3124080"/>
            <a:ext cx="1047600" cy="1885680"/>
            <a:chOff x="2438280" y="3124080"/>
            <a:chExt cx="1047600" cy="1885680"/>
          </a:xfrm>
        </p:grpSpPr>
        <p:sp>
          <p:nvSpPr>
            <p:cNvPr id="679" name=""/>
            <p:cNvSpPr/>
            <p:nvPr/>
          </p:nvSpPr>
          <p:spPr>
            <a:xfrm>
              <a:off x="2438280" y="3124080"/>
              <a:ext cx="81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38280" y="4367160"/>
              <a:ext cx="104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657600" y="2514600"/>
            <a:ext cx="914400" cy="2434320"/>
            <a:chOff x="3657600" y="2514600"/>
            <a:chExt cx="914400" cy="2434320"/>
          </a:xfrm>
        </p:grpSpPr>
        <p:sp>
          <p:nvSpPr>
            <p:cNvPr id="682" name=""/>
            <p:cNvSpPr/>
            <p:nvPr/>
          </p:nvSpPr>
          <p:spPr>
            <a:xfrm>
              <a:off x="3886200" y="25146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657600" y="37576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10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066680" y="2535120"/>
            <a:ext cx="3662280" cy="2495160"/>
            <a:chOff x="1066680" y="2535120"/>
            <a:chExt cx="3662280" cy="2495160"/>
          </a:xfrm>
        </p:grpSpPr>
        <p:grpSp>
          <p:nvGrpSpPr>
            <p:cNvPr id="685" name=""/>
            <p:cNvGrpSpPr/>
            <p:nvPr/>
          </p:nvGrpSpPr>
          <p:grpSpPr>
            <a:xfrm>
              <a:off x="1555560" y="2535120"/>
              <a:ext cx="900000" cy="1252080"/>
              <a:chOff x="1555560" y="2535120"/>
              <a:chExt cx="900000" cy="1252080"/>
            </a:xfrm>
          </p:grpSpPr>
          <p:sp>
            <p:nvSpPr>
              <p:cNvPr id="686" name=""/>
              <p:cNvSpPr/>
              <p:nvPr/>
            </p:nvSpPr>
            <p:spPr>
              <a:xfrm>
                <a:off x="1776240" y="25351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555560" y="3144600"/>
                <a:ext cx="9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y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1571400" y="3144600"/>
                <a:ext cx="87012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1145160" y="4082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1623960" y="3778200"/>
              <a:ext cx="761760" cy="1252080"/>
              <a:chOff x="1623960" y="3778200"/>
              <a:chExt cx="761760" cy="1252080"/>
            </a:xfrm>
          </p:grpSpPr>
          <p:sp>
            <p:nvSpPr>
              <p:cNvPr id="691" name=""/>
              <p:cNvSpPr/>
              <p:nvPr/>
            </p:nvSpPr>
            <p:spPr>
              <a:xfrm>
                <a:off x="1802880" y="3778200"/>
                <a:ext cx="40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623960" y="438768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y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692000" y="4403520"/>
                <a:ext cx="62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1066680" y="5029200"/>
              <a:ext cx="366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65160" y="314460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6y</a:t>
              </a:r>
              <a:r>
                <a:rPr b="0" lang="en-US" sz="3600" spc="-1" strike="noStrike" baseline="30000">
                  <a:solidFill>
                    <a:srgbClr val="80808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681360" y="3144600"/>
              <a:ext cx="869760" cy="15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63720" y="4387680"/>
              <a:ext cx="9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6y</a:t>
              </a:r>
              <a:r>
                <a:rPr b="0" lang="en-US" sz="3600" spc="-1" strike="noStrike" baseline="30000">
                  <a:solidFill>
                    <a:srgbClr val="80808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57240" y="4403520"/>
              <a:ext cx="914400" cy="15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10080" y="2911320"/>
            <a:ext cx="2438280" cy="1510200"/>
            <a:chOff x="5410080" y="2911320"/>
            <a:chExt cx="2438280" cy="1510200"/>
          </a:xfrm>
        </p:grpSpPr>
        <p:sp>
          <p:nvSpPr>
            <p:cNvPr id="700" name=""/>
            <p:cNvSpPr/>
            <p:nvPr/>
          </p:nvSpPr>
          <p:spPr>
            <a:xfrm>
              <a:off x="5410080" y="2911320"/>
              <a:ext cx="2438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Comic Sans MS"/>
                </a:rPr>
                <a:t>9 + 10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38280" y="3657240"/>
              <a:ext cx="118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Comic Sans MS"/>
                </a:rPr>
                <a:t>6y</a:t>
              </a:r>
              <a:r>
                <a:rPr b="0" lang="en-US" sz="44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06200" y="3696120"/>
              <a:ext cx="2244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093320" y="15238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70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o far we have looked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2676600"/>
            <a:ext cx="51051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ocabulary of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ition, subtraction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multiplication and divis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f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ition, subtraction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multiplication and divis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f 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762120" y="3778200"/>
            <a:ext cx="4682880" cy="1251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62120" y="2527200"/>
            <a:ext cx="468288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460600" y="2535120"/>
            <a:ext cx="1200240" cy="24465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2362320" y="2511360"/>
            <a:ext cx="1325520" cy="1885680"/>
            <a:chOff x="2362320" y="2511360"/>
            <a:chExt cx="1325520" cy="1885680"/>
          </a:xfrm>
        </p:grpSpPr>
        <p:sp>
          <p:nvSpPr>
            <p:cNvPr id="771" name=""/>
            <p:cNvSpPr/>
            <p:nvPr/>
          </p:nvSpPr>
          <p:spPr>
            <a:xfrm>
              <a:off x="2362320" y="2511360"/>
              <a:ext cx="107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62320" y="3754440"/>
              <a:ext cx="13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7b</a:t>
              </a:r>
              <a:r>
                <a:rPr b="0" lang="en-US" sz="3600" spc="-1" strike="noStrike" baseline="30000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2362320" y="3121200"/>
            <a:ext cx="1325520" cy="1885320"/>
            <a:chOff x="2362320" y="3121200"/>
            <a:chExt cx="1325520" cy="1885320"/>
          </a:xfrm>
        </p:grpSpPr>
        <p:sp>
          <p:nvSpPr>
            <p:cNvPr id="774" name=""/>
            <p:cNvSpPr/>
            <p:nvPr/>
          </p:nvSpPr>
          <p:spPr>
            <a:xfrm>
              <a:off x="2362320" y="3121200"/>
              <a:ext cx="107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62320" y="4363920"/>
              <a:ext cx="13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7b</a:t>
              </a:r>
              <a:r>
                <a:rPr b="0" lang="en-US" sz="3600" spc="-1" strike="noStrike" baseline="30000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840600" y="2511360"/>
            <a:ext cx="1674000" cy="2495160"/>
            <a:chOff x="840600" y="2511360"/>
            <a:chExt cx="1674000" cy="2495160"/>
          </a:xfrm>
        </p:grpSpPr>
        <p:grpSp>
          <p:nvGrpSpPr>
            <p:cNvPr id="777" name=""/>
            <p:cNvGrpSpPr/>
            <p:nvPr/>
          </p:nvGrpSpPr>
          <p:grpSpPr>
            <a:xfrm>
              <a:off x="1284480" y="2511360"/>
              <a:ext cx="1230120" cy="1252080"/>
              <a:chOff x="1284480" y="2511360"/>
              <a:chExt cx="1230120" cy="1252080"/>
            </a:xfrm>
          </p:grpSpPr>
          <p:sp>
            <p:nvSpPr>
              <p:cNvPr id="778" name=""/>
              <p:cNvSpPr/>
              <p:nvPr/>
            </p:nvSpPr>
            <p:spPr>
              <a:xfrm>
                <a:off x="1519200" y="251136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284480" y="3120840"/>
                <a:ext cx="1230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ab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339920" y="3136680"/>
                <a:ext cx="112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840600" y="4059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1309680" y="3754440"/>
              <a:ext cx="1181160" cy="1252080"/>
              <a:chOff x="1309680" y="3754440"/>
              <a:chExt cx="1181160" cy="1252080"/>
            </a:xfrm>
          </p:grpSpPr>
          <p:sp>
            <p:nvSpPr>
              <p:cNvPr id="783" name=""/>
              <p:cNvSpPr/>
              <p:nvPr/>
            </p:nvSpPr>
            <p:spPr>
              <a:xfrm>
                <a:off x="1700280" y="375444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309680" y="4363920"/>
                <a:ext cx="118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a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393920" y="4379760"/>
                <a:ext cx="101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2511360"/>
            <a:ext cx="1218960" cy="1885680"/>
            <a:chOff x="3849840" y="2511360"/>
            <a:chExt cx="1218960" cy="1885680"/>
          </a:xfrm>
        </p:grpSpPr>
        <p:sp>
          <p:nvSpPr>
            <p:cNvPr id="787" name=""/>
            <p:cNvSpPr/>
            <p:nvPr/>
          </p:nvSpPr>
          <p:spPr>
            <a:xfrm>
              <a:off x="4076640" y="25113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9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49840" y="375444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14b</a:t>
              </a:r>
              <a:r>
                <a:rPr b="0" lang="en-US" sz="36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62120" y="3121200"/>
            <a:ext cx="4495680" cy="1885320"/>
            <a:chOff x="762120" y="3121200"/>
            <a:chExt cx="4495680" cy="1885320"/>
          </a:xfrm>
        </p:grpSpPr>
        <p:sp>
          <p:nvSpPr>
            <p:cNvPr id="790" name=""/>
            <p:cNvSpPr/>
            <p:nvPr/>
          </p:nvSpPr>
          <p:spPr>
            <a:xfrm>
              <a:off x="762120" y="5005440"/>
              <a:ext cx="449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3660840" y="3121200"/>
              <a:ext cx="1595520" cy="642600"/>
              <a:chOff x="3660840" y="3121200"/>
              <a:chExt cx="1595520" cy="642600"/>
            </a:xfrm>
          </p:grpSpPr>
          <p:sp>
            <p:nvSpPr>
              <p:cNvPr id="792" name=""/>
              <p:cNvSpPr/>
              <p:nvPr/>
            </p:nvSpPr>
            <p:spPr>
              <a:xfrm>
                <a:off x="3660840" y="3121200"/>
                <a:ext cx="159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21a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b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03680" y="3121200"/>
                <a:ext cx="15112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3662280" y="4363920"/>
              <a:ext cx="1595520" cy="642600"/>
              <a:chOff x="3662280" y="4363920"/>
              <a:chExt cx="1595520" cy="642600"/>
            </a:xfrm>
          </p:grpSpPr>
          <p:sp>
            <p:nvSpPr>
              <p:cNvPr id="795" name=""/>
              <p:cNvSpPr/>
              <p:nvPr/>
            </p:nvSpPr>
            <p:spPr>
              <a:xfrm>
                <a:off x="3662280" y="4363920"/>
                <a:ext cx="159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21a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b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38600" y="4379400"/>
                <a:ext cx="1442880" cy="154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5715000" y="3002040"/>
            <a:ext cx="2881080" cy="1572120"/>
            <a:chOff x="5715000" y="3002040"/>
            <a:chExt cx="2881080" cy="1572120"/>
          </a:xfrm>
        </p:grpSpPr>
        <p:sp>
          <p:nvSpPr>
            <p:cNvPr id="798" name=""/>
            <p:cNvSpPr/>
            <p:nvPr/>
          </p:nvSpPr>
          <p:spPr>
            <a:xfrm>
              <a:off x="5715000" y="3002040"/>
              <a:ext cx="28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9a + 14b</a:t>
              </a:r>
              <a:r>
                <a:rPr b="0" lang="en-US" sz="44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10640" y="3809880"/>
              <a:ext cx="2089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21a</a:t>
              </a:r>
              <a:r>
                <a:rPr b="0" lang="en-US" sz="4400" spc="-1" strike="noStrike" baseline="30000">
                  <a:solidFill>
                    <a:srgbClr val="808080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4400" spc="-1" strike="noStrike" baseline="30000">
                  <a:solidFill>
                    <a:srgbClr val="80808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15000" y="3852000"/>
              <a:ext cx="2881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093320" y="15238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15238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Comic Sans MS"/>
              </a:rPr>
              <a:t>Expre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514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thematical relationship without an equal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039760" y="3956040"/>
                <a:ext cx="217188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457200" y="3429000"/>
            <a:ext cx="8305920" cy="2730240"/>
            <a:chOff x="457200" y="3429000"/>
            <a:chExt cx="8305920" cy="27302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702760" y="3429000"/>
              <a:ext cx="233136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563868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Fahrenheit temperature in terms of Celsiu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906480" y="3468600"/>
            <a:ext cx="4046400" cy="1251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00000" y="2209680"/>
            <a:ext cx="404352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2100240" y="2225520"/>
            <a:ext cx="1325520" cy="1885680"/>
            <a:chOff x="2100240" y="2225520"/>
            <a:chExt cx="1325520" cy="1885680"/>
          </a:xfrm>
        </p:grpSpPr>
        <p:sp>
          <p:nvSpPr>
            <p:cNvPr id="806" name=""/>
            <p:cNvSpPr/>
            <p:nvPr/>
          </p:nvSpPr>
          <p:spPr>
            <a:xfrm>
              <a:off x="2358720" y="2225520"/>
              <a:ext cx="81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00240" y="3468600"/>
              <a:ext cx="13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y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100240" y="2835360"/>
            <a:ext cx="1325520" cy="1885320"/>
            <a:chOff x="2100240" y="2835360"/>
            <a:chExt cx="1325520" cy="1885320"/>
          </a:xfrm>
        </p:grpSpPr>
        <p:sp>
          <p:nvSpPr>
            <p:cNvPr id="809" name=""/>
            <p:cNvSpPr/>
            <p:nvPr/>
          </p:nvSpPr>
          <p:spPr>
            <a:xfrm>
              <a:off x="2358720" y="2835360"/>
              <a:ext cx="81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00240" y="4078080"/>
              <a:ext cx="13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y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909000" y="2225520"/>
            <a:ext cx="1526400" cy="2495160"/>
            <a:chOff x="909000" y="2225520"/>
            <a:chExt cx="1526400" cy="2495160"/>
          </a:xfrm>
        </p:grpSpPr>
        <p:grpSp>
          <p:nvGrpSpPr>
            <p:cNvPr id="812" name=""/>
            <p:cNvGrpSpPr/>
            <p:nvPr/>
          </p:nvGrpSpPr>
          <p:grpSpPr>
            <a:xfrm>
              <a:off x="1283040" y="2225520"/>
              <a:ext cx="1152360" cy="1252080"/>
              <a:chOff x="1283040" y="2225520"/>
              <a:chExt cx="1152360" cy="1252080"/>
            </a:xfrm>
          </p:grpSpPr>
          <p:sp>
            <p:nvSpPr>
              <p:cNvPr id="813" name=""/>
              <p:cNvSpPr/>
              <p:nvPr/>
            </p:nvSpPr>
            <p:spPr>
              <a:xfrm>
                <a:off x="1478160" y="222552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83040" y="2835000"/>
                <a:ext cx="115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yz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354320" y="2850840"/>
                <a:ext cx="101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909000" y="3773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1478160" y="3468600"/>
              <a:ext cx="761760" cy="1252080"/>
              <a:chOff x="1478160" y="3468600"/>
              <a:chExt cx="761760" cy="1252080"/>
            </a:xfrm>
          </p:grpSpPr>
          <p:sp>
            <p:nvSpPr>
              <p:cNvPr id="818" name=""/>
              <p:cNvSpPr/>
              <p:nvPr/>
            </p:nvSpPr>
            <p:spPr>
              <a:xfrm>
                <a:off x="1657440" y="346860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478160" y="407808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z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46200" y="409392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"/>
          <p:cNvGrpSpPr/>
          <p:nvPr/>
        </p:nvGrpSpPr>
        <p:grpSpPr>
          <a:xfrm>
            <a:off x="3621240" y="2225520"/>
            <a:ext cx="1218960" cy="1885680"/>
            <a:chOff x="3621240" y="2225520"/>
            <a:chExt cx="1218960" cy="1885680"/>
          </a:xfrm>
        </p:grpSpPr>
        <p:sp>
          <p:nvSpPr>
            <p:cNvPr id="822" name=""/>
            <p:cNvSpPr/>
            <p:nvPr/>
          </p:nvSpPr>
          <p:spPr>
            <a:xfrm>
              <a:off x="3848040" y="2225520"/>
              <a:ext cx="76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8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21240" y="34686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3y</a:t>
              </a:r>
              <a:r>
                <a:rPr b="0" lang="en-US" sz="36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830160" y="2835360"/>
            <a:ext cx="4119480" cy="1885320"/>
            <a:chOff x="830160" y="2835360"/>
            <a:chExt cx="4119480" cy="1885320"/>
          </a:xfrm>
        </p:grpSpPr>
        <p:sp>
          <p:nvSpPr>
            <p:cNvPr id="825" name=""/>
            <p:cNvSpPr/>
            <p:nvPr/>
          </p:nvSpPr>
          <p:spPr>
            <a:xfrm>
              <a:off x="830160" y="4719600"/>
              <a:ext cx="411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3516120" y="2835360"/>
              <a:ext cx="1427040" cy="642600"/>
              <a:chOff x="3516120" y="2835360"/>
              <a:chExt cx="1427040" cy="642600"/>
            </a:xfrm>
          </p:grpSpPr>
          <p:sp>
            <p:nvSpPr>
              <p:cNvPr id="827" name=""/>
              <p:cNvSpPr/>
              <p:nvPr/>
            </p:nvSpPr>
            <p:spPr>
              <a:xfrm>
                <a:off x="3516120" y="2835360"/>
                <a:ext cx="1427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12yz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516120" y="2835360"/>
                <a:ext cx="14270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3509640" y="4078080"/>
              <a:ext cx="1440000" cy="642600"/>
              <a:chOff x="3509640" y="4078080"/>
              <a:chExt cx="1440000" cy="642600"/>
            </a:xfrm>
          </p:grpSpPr>
          <p:sp>
            <p:nvSpPr>
              <p:cNvPr id="830" name=""/>
              <p:cNvSpPr/>
              <p:nvPr/>
            </p:nvSpPr>
            <p:spPr>
              <a:xfrm>
                <a:off x="3509640" y="4078080"/>
                <a:ext cx="144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12yz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563640" y="4093560"/>
                <a:ext cx="1330560" cy="154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2" name=""/>
          <p:cNvGrpSpPr/>
          <p:nvPr/>
        </p:nvGrpSpPr>
        <p:grpSpPr>
          <a:xfrm>
            <a:off x="5410080" y="2840040"/>
            <a:ext cx="3132000" cy="1359720"/>
            <a:chOff x="5410080" y="2840040"/>
            <a:chExt cx="3132000" cy="1359720"/>
          </a:xfrm>
        </p:grpSpPr>
        <p:sp>
          <p:nvSpPr>
            <p:cNvPr id="833" name=""/>
            <p:cNvSpPr/>
            <p:nvPr/>
          </p:nvSpPr>
          <p:spPr>
            <a:xfrm>
              <a:off x="5410080" y="2840040"/>
              <a:ext cx="31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8x + 3y</a:t>
              </a:r>
              <a:r>
                <a:rPr b="0" lang="en-US" sz="40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03720" y="3496320"/>
              <a:ext cx="194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12yz</a:t>
              </a:r>
              <a:r>
                <a:rPr b="0" lang="en-US" sz="4000" spc="-1" strike="noStrike" baseline="30000">
                  <a:solidFill>
                    <a:srgbClr val="80808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529240" y="3530160"/>
              <a:ext cx="2895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093320" y="15238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1676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n th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410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value of the expre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362320" y="3809880"/>
            <a:ext cx="6781680" cy="1358280"/>
            <a:chOff x="2362320" y="3809880"/>
            <a:chExt cx="6781680" cy="1358280"/>
          </a:xfrm>
        </p:grpSpPr>
        <p:sp>
          <p:nvSpPr>
            <p:cNvPr id="123" name=""/>
            <p:cNvSpPr/>
            <p:nvPr/>
          </p:nvSpPr>
          <p:spPr>
            <a:xfrm>
              <a:off x="2362320" y="3809880"/>
              <a:ext cx="67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d the additional inform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24640" y="4343040"/>
              <a:ext cx="20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F=</a:t>
              </a:r>
              <a:r>
                <a:rPr b="0" lang="en-US" sz="48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6600cc"/>
                  </a:solidFill>
                  <a:latin typeface="Comic Sans MS"/>
                </a:rPr>
                <a:t>5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19720" y="2362320"/>
            <a:ext cx="2743200" cy="1526040"/>
            <a:chOff x="4419720" y="2362320"/>
            <a:chExt cx="2743200" cy="1526040"/>
          </a:xfrm>
        </p:grpSpPr>
        <p:sp>
          <p:nvSpPr>
            <p:cNvPr id="126" name=""/>
            <p:cNvSpPr/>
            <p:nvPr/>
          </p:nvSpPr>
          <p:spPr>
            <a:xfrm>
              <a:off x="4419720" y="236232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5(F – 32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720" y="312408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31240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57200" y="1447920"/>
            <a:ext cx="3200400" cy="2743200"/>
            <a:chOff x="457200" y="1447920"/>
            <a:chExt cx="3200400" cy="2743200"/>
          </a:xfrm>
        </p:grpSpPr>
        <p:sp>
          <p:nvSpPr>
            <p:cNvPr id="130" name=""/>
            <p:cNvSpPr/>
            <p:nvPr/>
          </p:nvSpPr>
          <p:spPr>
            <a:xfrm>
              <a:off x="457200" y="1447920"/>
              <a:ext cx="3200400" cy="2743200"/>
            </a:xfrm>
            <a:prstGeom prst="irregularSeal1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011200">
              <a:off x="1617840" y="1949400"/>
              <a:ext cx="10490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ffff66"/>
                  </a:solidFill>
                  <a:latin typeface="Comic Sans MS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2208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911640" y="1324080"/>
            <a:ext cx="2026440" cy="1847880"/>
            <a:chOff x="6911640" y="1324080"/>
            <a:chExt cx="2026440" cy="1847880"/>
          </a:xfrm>
        </p:grpSpPr>
        <p:sp>
          <p:nvSpPr>
            <p:cNvPr id="135" name=""/>
            <p:cNvSpPr/>
            <p:nvPr/>
          </p:nvSpPr>
          <p:spPr>
            <a:xfrm rot="19720200">
              <a:off x="7086240" y="1676160"/>
              <a:ext cx="1676520" cy="1143000"/>
            </a:xfrm>
            <a:prstGeom prst="wedgeEllipseCallout">
              <a:avLst>
                <a:gd name="adj1" fmla="val -44601"/>
                <a:gd name="adj2" fmla="val 54027"/>
              </a:avLst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70720" y="1752480"/>
              <a:ext cx="1292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Hi!  My name is Pol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 txBox="1"/>
          <p:nvPr/>
        </p:nvSpPr>
        <p:spPr>
          <a:xfrm>
            <a:off x="685800" y="1828800"/>
            <a:ext cx="58579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escribing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Monomials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nd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Polynomial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19520" y="12952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733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5120" indent="-557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so called a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5120" indent="-557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riables and constants may be raised to a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35120" indent="-557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y NOT include +,-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19520" y="1295280"/>
            <a:ext cx="3657600" cy="1922760"/>
            <a:chOff x="2819520" y="1295280"/>
            <a:chExt cx="3657600" cy="1922760"/>
          </a:xfrm>
        </p:grpSpPr>
        <p:sp>
          <p:nvSpPr>
            <p:cNvPr id="141" name=""/>
            <p:cNvSpPr/>
            <p:nvPr/>
          </p:nvSpPr>
          <p:spPr>
            <a:xfrm>
              <a:off x="2819520" y="1295280"/>
              <a:ext cx="36576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cc"/>
                  </a:solidFill>
                  <a:latin typeface="Comic Sans MS"/>
                </a:rPr>
                <a:t>Mono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mia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209680"/>
              <a:ext cx="182880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133720" y="2438280"/>
                <a:ext cx="502920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791320" y="5562720"/>
                <a:ext cx="41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514600" y="609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124080" y="1687680"/>
            <a:ext cx="34290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Polynomi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5430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xpression made up of monomials added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71440" y="3886200"/>
            <a:ext cx="2514600" cy="1371600"/>
            <a:chOff x="2971440" y="3886200"/>
            <a:chExt cx="2514600" cy="1371600"/>
          </a:xfrm>
        </p:grpSpPr>
        <p:sp>
          <p:nvSpPr>
            <p:cNvPr id="150" name=""/>
            <p:cNvSpPr/>
            <p:nvPr/>
          </p:nvSpPr>
          <p:spPr>
            <a:xfrm flipH="1">
              <a:off x="2971080" y="3886200"/>
              <a:ext cx="2514600" cy="1371600"/>
            </a:xfrm>
            <a:prstGeom prst="wedgeEllipseCallout">
              <a:avLst>
                <a:gd name="adj1" fmla="val -74680"/>
                <a:gd name="adj2" fmla="val -8800"/>
              </a:avLst>
            </a:prstGeom>
            <a:solidFill>
              <a:srgbClr val="66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8120" y="4191120"/>
              <a:ext cx="236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olly wants a nomial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2221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124080" y="1295280"/>
            <a:ext cx="3429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00"/>
                </a:solidFill>
                <a:uFillTx/>
                <a:latin typeface="Comic Sans MS"/>
              </a:rPr>
              <a:t>Poly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096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xpression made up of monomials added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5990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 – 10x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5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5715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09480" y="4522680"/>
            <a:ext cx="2895480" cy="1356840"/>
            <a:chOff x="609480" y="4522680"/>
            <a:chExt cx="2895480" cy="1356840"/>
          </a:xfrm>
        </p:grpSpPr>
        <p:sp>
          <p:nvSpPr>
            <p:cNvPr id="158" name=""/>
            <p:cNvSpPr/>
            <p:nvPr/>
          </p:nvSpPr>
          <p:spPr>
            <a:xfrm>
              <a:off x="609480" y="4522680"/>
              <a:ext cx="121932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56" idx="1"/>
              <a:endCxn id="158" idx="5"/>
            </p:cNvCxnSpPr>
            <p:nvPr/>
          </p:nvCxnSpPr>
          <p:spPr>
            <a:xfrm rot="10800000">
              <a:off x="1650240" y="5433120"/>
              <a:ext cx="1855080" cy="446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209680" y="4446720"/>
            <a:ext cx="1600200" cy="1433160"/>
            <a:chOff x="2209680" y="4446720"/>
            <a:chExt cx="1600200" cy="1433160"/>
          </a:xfrm>
        </p:grpSpPr>
        <p:sp>
          <p:nvSpPr>
            <p:cNvPr id="161" name=""/>
            <p:cNvSpPr/>
            <p:nvPr/>
          </p:nvSpPr>
          <p:spPr>
            <a:xfrm>
              <a:off x="2209680" y="4446720"/>
              <a:ext cx="16002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56" idx="1"/>
              <a:endCxn id="161" idx="4"/>
            </p:cNvCxnSpPr>
            <p:nvPr/>
          </p:nvCxnSpPr>
          <p:spPr>
            <a:xfrm rot="10800000">
              <a:off x="3009240" y="5589000"/>
              <a:ext cx="496080" cy="291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3" name=""/>
          <p:cNvGrpSpPr/>
          <p:nvPr/>
        </p:nvGrpSpPr>
        <p:grpSpPr>
          <a:xfrm>
            <a:off x="4114800" y="4522680"/>
            <a:ext cx="1905120" cy="1371600"/>
            <a:chOff x="4114800" y="4522680"/>
            <a:chExt cx="1905120" cy="1371600"/>
          </a:xfrm>
        </p:grpSpPr>
        <p:sp>
          <p:nvSpPr>
            <p:cNvPr id="164" name=""/>
            <p:cNvSpPr/>
            <p:nvPr/>
          </p:nvSpPr>
          <p:spPr>
            <a:xfrm>
              <a:off x="4114800" y="452268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endCxn id="164" idx="5"/>
            </p:cNvCxnSpPr>
            <p:nvPr/>
          </p:nvCxnSpPr>
          <p:spPr>
            <a:xfrm flipV="1">
              <a:off x="5486400" y="5368320"/>
              <a:ext cx="254880" cy="526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6" name=""/>
          <p:cNvGrpSpPr/>
          <p:nvPr/>
        </p:nvGrpSpPr>
        <p:grpSpPr>
          <a:xfrm>
            <a:off x="5486040" y="4522680"/>
            <a:ext cx="2057760" cy="1371600"/>
            <a:chOff x="5486040" y="4522680"/>
            <a:chExt cx="2057760" cy="1371600"/>
          </a:xfrm>
        </p:grpSpPr>
        <p:sp>
          <p:nvSpPr>
            <p:cNvPr id="167" name=""/>
            <p:cNvSpPr/>
            <p:nvPr/>
          </p:nvSpPr>
          <p:spPr>
            <a:xfrm>
              <a:off x="6400800" y="4522680"/>
              <a:ext cx="11430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endCxn id="167" idx="3"/>
            </p:cNvCxnSpPr>
            <p:nvPr/>
          </p:nvCxnSpPr>
          <p:spPr>
            <a:xfrm flipV="1">
              <a:off x="5486040" y="5368320"/>
              <a:ext cx="1081800" cy="526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5486400" y="4495680"/>
            <a:ext cx="3200400" cy="1371600"/>
            <a:chOff x="5486400" y="4495680"/>
            <a:chExt cx="3200400" cy="1371600"/>
          </a:xfrm>
        </p:grpSpPr>
        <p:sp>
          <p:nvSpPr>
            <p:cNvPr id="170" name=""/>
            <p:cNvSpPr/>
            <p:nvPr/>
          </p:nvSpPr>
          <p:spPr>
            <a:xfrm>
              <a:off x="7924680" y="4495680"/>
              <a:ext cx="76212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endCxn id="170" idx="3"/>
            </p:cNvCxnSpPr>
            <p:nvPr/>
          </p:nvCxnSpPr>
          <p:spPr>
            <a:xfrm flipV="1">
              <a:off x="5486400" y="5276520"/>
              <a:ext cx="2550240" cy="591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838080" y="3429000"/>
            <a:ext cx="7696080" cy="1170000"/>
            <a:chOff x="838080" y="3429000"/>
            <a:chExt cx="7696080" cy="1170000"/>
          </a:xfrm>
        </p:grpSpPr>
        <p:sp>
          <p:nvSpPr>
            <p:cNvPr id="173" name=""/>
            <p:cNvSpPr/>
            <p:nvPr/>
          </p:nvSpPr>
          <p:spPr>
            <a:xfrm rot="5400000">
              <a:off x="4381200" y="446040"/>
              <a:ext cx="609480" cy="76960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200520 h 7696080"/>
                <a:gd name="textAreaBottom" fmla="*/ 7495560 h 769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20560" y="3429000"/>
              <a:ext cx="338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polynom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3623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omials /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4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7:59Z</dcterms:modified>
  <cp:revision>185</cp:revision>
  <dc:subject/>
  <dc:title>PowerPoint Presentation</dc:title>
</cp:coreProperties>
</file>