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gif" ContentType="image/gi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427080" y="45720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8  Unit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92320" y="2270160"/>
            <a:ext cx="4889520" cy="3902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00000" y="1192320"/>
            <a:ext cx="7417080" cy="483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The Lowest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ommon Denominato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2957400" y="609480"/>
            <a:ext cx="375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681280" y="2093760"/>
            <a:ext cx="3789360" cy="1144800"/>
            <a:chOff x="2681280" y="2093760"/>
            <a:chExt cx="3789360" cy="1144800"/>
          </a:xfrm>
        </p:grpSpPr>
        <p:grpSp>
          <p:nvGrpSpPr>
            <p:cNvPr id="445" name=""/>
            <p:cNvGrpSpPr/>
            <p:nvPr/>
          </p:nvGrpSpPr>
          <p:grpSpPr>
            <a:xfrm>
              <a:off x="2681280" y="2098440"/>
              <a:ext cx="432000" cy="1132560"/>
              <a:chOff x="2681280" y="2098440"/>
              <a:chExt cx="432000" cy="1132560"/>
            </a:xfrm>
          </p:grpSpPr>
          <p:sp>
            <p:nvSpPr>
              <p:cNvPr id="446" name=""/>
              <p:cNvSpPr/>
              <p:nvPr/>
            </p:nvSpPr>
            <p:spPr>
              <a:xfrm>
                <a:off x="2691720" y="20984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690280" y="26496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681280" y="2663640"/>
                <a:ext cx="43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4460040" y="2342880"/>
              <a:ext cx="32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473800" y="23428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4930920" y="2098440"/>
              <a:ext cx="431640" cy="1132200"/>
              <a:chOff x="4930920" y="2098440"/>
              <a:chExt cx="431640" cy="1132200"/>
            </a:xfrm>
          </p:grpSpPr>
          <p:sp>
            <p:nvSpPr>
              <p:cNvPr id="452" name=""/>
              <p:cNvSpPr/>
              <p:nvPr/>
            </p:nvSpPr>
            <p:spPr>
              <a:xfrm>
                <a:off x="4941000" y="20984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939560" y="26492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930920" y="2663640"/>
                <a:ext cx="43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6039000" y="2098440"/>
              <a:ext cx="431640" cy="1132200"/>
              <a:chOff x="6039000" y="2098440"/>
              <a:chExt cx="431640" cy="1132200"/>
            </a:xfrm>
          </p:grpSpPr>
          <p:sp>
            <p:nvSpPr>
              <p:cNvPr id="456" name=""/>
              <p:cNvSpPr/>
              <p:nvPr/>
            </p:nvSpPr>
            <p:spPr>
              <a:xfrm>
                <a:off x="6049080" y="20984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047640" y="26492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039000" y="2663280"/>
                <a:ext cx="43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3681000" y="2093760"/>
              <a:ext cx="647640" cy="1144800"/>
              <a:chOff x="3681000" y="2093760"/>
              <a:chExt cx="647640" cy="1144800"/>
            </a:xfrm>
          </p:grpSpPr>
          <p:sp>
            <p:nvSpPr>
              <p:cNvPr id="460" name=""/>
              <p:cNvSpPr/>
              <p:nvPr/>
            </p:nvSpPr>
            <p:spPr>
              <a:xfrm>
                <a:off x="3681720" y="209376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681000" y="265716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697200" y="2657160"/>
                <a:ext cx="614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3214440" y="234288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455560" y="1849320"/>
            <a:ext cx="2249640" cy="1583640"/>
            <a:chOff x="2455560" y="1849320"/>
            <a:chExt cx="2249640" cy="1583640"/>
          </a:xfrm>
        </p:grpSpPr>
        <p:grpSp>
          <p:nvGrpSpPr>
            <p:cNvPr id="465" name=""/>
            <p:cNvGrpSpPr/>
            <p:nvPr/>
          </p:nvGrpSpPr>
          <p:grpSpPr>
            <a:xfrm>
              <a:off x="2678400" y="2178000"/>
              <a:ext cx="1621440" cy="882360"/>
              <a:chOff x="2678400" y="2178000"/>
              <a:chExt cx="1621440" cy="882360"/>
            </a:xfrm>
          </p:grpSpPr>
          <p:sp>
            <p:nvSpPr>
              <p:cNvPr id="466" name=""/>
              <p:cNvSpPr/>
              <p:nvPr/>
            </p:nvSpPr>
            <p:spPr>
              <a:xfrm flipV="1">
                <a:off x="3709080" y="2178000"/>
                <a:ext cx="590760" cy="3506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3709080" y="2709720"/>
                <a:ext cx="590760" cy="3506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2678400" y="2196360"/>
                <a:ext cx="448560" cy="3124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2679840" y="2728080"/>
                <a:ext cx="448920" cy="3124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2493000" y="1849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77080" y="1849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55560" y="29732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33520" y="29732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180960" y="3422520"/>
            <a:ext cx="2775600" cy="1975320"/>
            <a:chOff x="3180960" y="3422520"/>
            <a:chExt cx="2775600" cy="1975320"/>
          </a:xfrm>
        </p:grpSpPr>
        <p:sp>
          <p:nvSpPr>
            <p:cNvPr id="475" name=""/>
            <p:cNvSpPr/>
            <p:nvPr/>
          </p:nvSpPr>
          <p:spPr>
            <a:xfrm>
              <a:off x="4576680" y="3422520"/>
              <a:ext cx="0" cy="65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945600" y="4503600"/>
              <a:ext cx="32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959360" y="45036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4416480" y="4259160"/>
              <a:ext cx="431640" cy="1132200"/>
              <a:chOff x="4416480" y="4259160"/>
              <a:chExt cx="431640" cy="1132200"/>
            </a:xfrm>
          </p:grpSpPr>
          <p:sp>
            <p:nvSpPr>
              <p:cNvPr id="479" name=""/>
              <p:cNvSpPr/>
              <p:nvPr/>
            </p:nvSpPr>
            <p:spPr>
              <a:xfrm>
                <a:off x="4426560" y="42591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425120" y="48099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416480" y="4824360"/>
                <a:ext cx="43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5524560" y="4259160"/>
              <a:ext cx="432000" cy="1132200"/>
              <a:chOff x="5524560" y="4259160"/>
              <a:chExt cx="432000" cy="1132200"/>
            </a:xfrm>
          </p:grpSpPr>
          <p:sp>
            <p:nvSpPr>
              <p:cNvPr id="483" name=""/>
              <p:cNvSpPr/>
              <p:nvPr/>
            </p:nvSpPr>
            <p:spPr>
              <a:xfrm>
                <a:off x="5535000" y="42591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533560" y="48099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524560" y="4824000"/>
                <a:ext cx="43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3180960" y="4253040"/>
              <a:ext cx="648720" cy="1144800"/>
              <a:chOff x="3180960" y="4253040"/>
              <a:chExt cx="648720" cy="1144800"/>
            </a:xfrm>
          </p:grpSpPr>
          <p:sp>
            <p:nvSpPr>
              <p:cNvPr id="487" name=""/>
              <p:cNvSpPr/>
              <p:nvPr/>
            </p:nvSpPr>
            <p:spPr>
              <a:xfrm>
                <a:off x="3180960" y="425304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9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182760" y="481644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197160" y="4816440"/>
                <a:ext cx="614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2957400" y="609480"/>
            <a:ext cx="375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2739600" y="1504800"/>
            <a:ext cx="3157920" cy="1149480"/>
            <a:chOff x="2739600" y="1504800"/>
            <a:chExt cx="3157920" cy="1149480"/>
          </a:xfrm>
        </p:grpSpPr>
        <p:sp>
          <p:nvSpPr>
            <p:cNvPr id="492" name=""/>
            <p:cNvSpPr/>
            <p:nvPr/>
          </p:nvSpPr>
          <p:spPr>
            <a:xfrm>
              <a:off x="3504240" y="1757160"/>
              <a:ext cx="32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918320" y="17571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2739600" y="1506240"/>
              <a:ext cx="648720" cy="1144800"/>
              <a:chOff x="2739600" y="1506240"/>
              <a:chExt cx="648720" cy="1144800"/>
            </a:xfrm>
          </p:grpSpPr>
          <p:sp>
            <p:nvSpPr>
              <p:cNvPr id="495" name=""/>
              <p:cNvSpPr/>
              <p:nvPr/>
            </p:nvSpPr>
            <p:spPr>
              <a:xfrm>
                <a:off x="2739600" y="150624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9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741400" y="206964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755800" y="2069640"/>
                <a:ext cx="614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3912480" y="1504800"/>
              <a:ext cx="483480" cy="1149480"/>
              <a:chOff x="3912480" y="1504800"/>
              <a:chExt cx="483480" cy="1149480"/>
            </a:xfrm>
          </p:grpSpPr>
          <p:sp>
            <p:nvSpPr>
              <p:cNvPr id="499" name=""/>
              <p:cNvSpPr/>
              <p:nvPr/>
            </p:nvSpPr>
            <p:spPr>
              <a:xfrm>
                <a:off x="3912480" y="20728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963960" y="2082600"/>
                <a:ext cx="43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913920" y="15048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5414400" y="1504800"/>
              <a:ext cx="483120" cy="1149480"/>
              <a:chOff x="5414400" y="1504800"/>
              <a:chExt cx="483120" cy="1149480"/>
            </a:xfrm>
          </p:grpSpPr>
          <p:sp>
            <p:nvSpPr>
              <p:cNvPr id="503" name=""/>
              <p:cNvSpPr/>
              <p:nvPr/>
            </p:nvSpPr>
            <p:spPr>
              <a:xfrm>
                <a:off x="5414400" y="20728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465880" y="2082600"/>
                <a:ext cx="43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415840" y="15048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4185720" y="1503360"/>
            <a:ext cx="4190400" cy="1149480"/>
            <a:chOff x="4185720" y="1503360"/>
            <a:chExt cx="4190400" cy="1149480"/>
          </a:xfrm>
        </p:grpSpPr>
        <p:grpSp>
          <p:nvGrpSpPr>
            <p:cNvPr id="507" name=""/>
            <p:cNvGrpSpPr/>
            <p:nvPr/>
          </p:nvGrpSpPr>
          <p:grpSpPr>
            <a:xfrm>
              <a:off x="4185720" y="1503360"/>
              <a:ext cx="657720" cy="1149480"/>
              <a:chOff x="4185720" y="1503360"/>
              <a:chExt cx="657720" cy="1149480"/>
            </a:xfrm>
          </p:grpSpPr>
          <p:sp>
            <p:nvSpPr>
              <p:cNvPr id="508" name=""/>
              <p:cNvSpPr/>
              <p:nvPr/>
            </p:nvSpPr>
            <p:spPr>
              <a:xfrm>
                <a:off x="4185720" y="2071440"/>
                <a:ext cx="65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(3)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387680" y="2082600"/>
                <a:ext cx="43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185720" y="1503360"/>
                <a:ext cx="65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(3)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5687640" y="1503360"/>
              <a:ext cx="657720" cy="1149480"/>
              <a:chOff x="5687640" y="1503360"/>
              <a:chExt cx="657720" cy="1149480"/>
            </a:xfrm>
          </p:grpSpPr>
          <p:sp>
            <p:nvSpPr>
              <p:cNvPr id="512" name=""/>
              <p:cNvSpPr/>
              <p:nvPr/>
            </p:nvSpPr>
            <p:spPr>
              <a:xfrm>
                <a:off x="5687640" y="2071440"/>
                <a:ext cx="65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(2)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889600" y="2082600"/>
                <a:ext cx="43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687640" y="1503360"/>
                <a:ext cx="65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(2)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6672960" y="1819080"/>
              <a:ext cx="170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Comic Sans MS"/>
                </a:rPr>
                <a:t>LCD is 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016080" y="3384720"/>
            <a:ext cx="3105720" cy="1146240"/>
            <a:chOff x="3016080" y="3384720"/>
            <a:chExt cx="3105720" cy="1146240"/>
          </a:xfrm>
        </p:grpSpPr>
        <p:grpSp>
          <p:nvGrpSpPr>
            <p:cNvPr id="517" name=""/>
            <p:cNvGrpSpPr/>
            <p:nvPr/>
          </p:nvGrpSpPr>
          <p:grpSpPr>
            <a:xfrm>
              <a:off x="3016080" y="3384720"/>
              <a:ext cx="1865880" cy="1145880"/>
              <a:chOff x="3016080" y="3384720"/>
              <a:chExt cx="1865880" cy="1145880"/>
            </a:xfrm>
          </p:grpSpPr>
          <p:sp>
            <p:nvSpPr>
              <p:cNvPr id="518" name=""/>
              <p:cNvSpPr/>
              <p:nvPr/>
            </p:nvSpPr>
            <p:spPr>
              <a:xfrm>
                <a:off x="3780720" y="3635280"/>
                <a:ext cx="328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9" name=""/>
              <p:cNvGrpSpPr/>
              <p:nvPr/>
            </p:nvGrpSpPr>
            <p:grpSpPr>
              <a:xfrm>
                <a:off x="3016080" y="3384720"/>
                <a:ext cx="648720" cy="1144440"/>
                <a:chOff x="3016080" y="3384720"/>
                <a:chExt cx="648720" cy="114444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3016080" y="3384720"/>
                  <a:ext cx="646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9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3017880" y="3947760"/>
                  <a:ext cx="646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032280" y="3947760"/>
                  <a:ext cx="614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4235040" y="3386160"/>
                <a:ext cx="646920" cy="1144440"/>
                <a:chOff x="4235040" y="3386160"/>
                <a:chExt cx="646920" cy="114444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4350600" y="33861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9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4235040" y="3949200"/>
                  <a:ext cx="646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249800" y="3949200"/>
                  <a:ext cx="614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>
              <a:off x="4951440" y="36352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474880" y="338616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474880" y="394956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491080" y="3949560"/>
              <a:ext cx="61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3614400" y="5294160"/>
            <a:ext cx="1923120" cy="1146600"/>
            <a:chOff x="3614400" y="5294160"/>
            <a:chExt cx="1923120" cy="1146600"/>
          </a:xfrm>
        </p:grpSpPr>
        <p:sp>
          <p:nvSpPr>
            <p:cNvPr id="532" name=""/>
            <p:cNvSpPr/>
            <p:nvPr/>
          </p:nvSpPr>
          <p:spPr>
            <a:xfrm>
              <a:off x="4353120" y="55468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4890600" y="5295960"/>
              <a:ext cx="646920" cy="1144800"/>
              <a:chOff x="4890600" y="5295960"/>
              <a:chExt cx="646920" cy="1144800"/>
            </a:xfrm>
          </p:grpSpPr>
          <p:sp>
            <p:nvSpPr>
              <p:cNvPr id="534" name=""/>
              <p:cNvSpPr/>
              <p:nvPr/>
            </p:nvSpPr>
            <p:spPr>
              <a:xfrm>
                <a:off x="4890600" y="529596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890600" y="585936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1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906800" y="5859360"/>
                <a:ext cx="6145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3614400" y="5294160"/>
              <a:ext cx="646920" cy="1145160"/>
              <a:chOff x="3614400" y="5294160"/>
              <a:chExt cx="646920" cy="1145160"/>
            </a:xfrm>
          </p:grpSpPr>
          <p:sp>
            <p:nvSpPr>
              <p:cNvPr id="538" name=""/>
              <p:cNvSpPr/>
              <p:nvPr/>
            </p:nvSpPr>
            <p:spPr>
              <a:xfrm>
                <a:off x="3614400" y="529416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614400" y="585792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1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630600" y="5857920"/>
                <a:ext cx="6145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6939000" y="5372280"/>
            <a:ext cx="1212840" cy="99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2957400" y="609480"/>
            <a:ext cx="375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36640" y="1681200"/>
            <a:ext cx="74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thod 2 will involve determining the LCD at the beginning of the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2957400" y="3421080"/>
            <a:ext cx="3152880" cy="2936880"/>
            <a:chOff x="2957400" y="3421080"/>
            <a:chExt cx="3152880" cy="2936880"/>
          </a:xfrm>
        </p:grpSpPr>
        <p:sp>
          <p:nvSpPr>
            <p:cNvPr id="545" name=""/>
            <p:cNvSpPr/>
            <p:nvPr/>
          </p:nvSpPr>
          <p:spPr>
            <a:xfrm>
              <a:off x="4595760" y="5599080"/>
              <a:ext cx="130320" cy="758880"/>
            </a:xfrm>
            <a:custGeom>
              <a:avLst/>
              <a:gdLst/>
              <a:ahLst/>
              <a:rect l="l" t="t" r="r" b="b"/>
              <a:pathLst>
                <a:path w="69" h="272">
                  <a:moveTo>
                    <a:pt x="69" y="0"/>
                  </a:moveTo>
                  <a:lnTo>
                    <a:pt x="69" y="270"/>
                  </a:lnTo>
                  <a:lnTo>
                    <a:pt x="0" y="272"/>
                  </a:lnTo>
                  <a:lnTo>
                    <a:pt x="0" y="62"/>
                  </a:lnTo>
                  <a:lnTo>
                    <a:pt x="69" y="0"/>
                  </a:lnTo>
                </a:path>
              </a:pathLst>
            </a:custGeom>
            <a:solidFill>
              <a:srgbClr val="6633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230720" y="5765760"/>
              <a:ext cx="361800" cy="592200"/>
            </a:xfrm>
            <a:custGeom>
              <a:avLst/>
              <a:gdLst/>
              <a:ahLst/>
              <a:rect l="l" t="t" r="r" b="b"/>
              <a:pathLst>
                <a:path w="193" h="212">
                  <a:moveTo>
                    <a:pt x="0" y="210"/>
                  </a:moveTo>
                  <a:lnTo>
                    <a:pt x="0" y="0"/>
                  </a:lnTo>
                  <a:lnTo>
                    <a:pt x="193" y="2"/>
                  </a:lnTo>
                  <a:lnTo>
                    <a:pt x="193" y="212"/>
                  </a:lnTo>
                  <a:lnTo>
                    <a:pt x="0" y="210"/>
                  </a:lnTo>
                </a:path>
              </a:pathLst>
            </a:custGeom>
            <a:solidFill>
              <a:srgbClr val="6633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205160" y="3421080"/>
              <a:ext cx="492120" cy="173160"/>
            </a:xfrm>
            <a:custGeom>
              <a:avLst/>
              <a:gdLst/>
              <a:ahLst/>
              <a:rect l="l" t="t" r="r" b="b"/>
              <a:pathLst>
                <a:path w="262" h="62">
                  <a:moveTo>
                    <a:pt x="0" y="60"/>
                  </a:moveTo>
                  <a:lnTo>
                    <a:pt x="74" y="0"/>
                  </a:lnTo>
                  <a:lnTo>
                    <a:pt x="262" y="2"/>
                  </a:lnTo>
                  <a:lnTo>
                    <a:pt x="190" y="62"/>
                  </a:lnTo>
                  <a:lnTo>
                    <a:pt x="0" y="6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205160" y="3421080"/>
              <a:ext cx="492120" cy="173160"/>
            </a:xfrm>
            <a:custGeom>
              <a:avLst/>
              <a:gdLst/>
              <a:ahLst/>
              <a:rect l="l" t="t" r="r" b="b"/>
              <a:pathLst>
                <a:path w="262" h="62">
                  <a:moveTo>
                    <a:pt x="0" y="60"/>
                  </a:moveTo>
                  <a:lnTo>
                    <a:pt x="74" y="0"/>
                  </a:lnTo>
                  <a:lnTo>
                    <a:pt x="262" y="2"/>
                  </a:lnTo>
                  <a:lnTo>
                    <a:pt x="190" y="62"/>
                  </a:lnTo>
                  <a:lnTo>
                    <a:pt x="0" y="60"/>
                  </a:lnTo>
                </a:path>
              </a:pathLst>
            </a:custGeom>
            <a:solidFill>
              <a:srgbClr val="6633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567320" y="3421080"/>
              <a:ext cx="129960" cy="758880"/>
            </a:xfrm>
            <a:custGeom>
              <a:avLst/>
              <a:gdLst/>
              <a:ahLst/>
              <a:rect l="l" t="t" r="r" b="b"/>
              <a:pathLst>
                <a:path w="69" h="272">
                  <a:moveTo>
                    <a:pt x="69" y="0"/>
                  </a:moveTo>
                  <a:lnTo>
                    <a:pt x="69" y="270"/>
                  </a:lnTo>
                  <a:lnTo>
                    <a:pt x="0" y="272"/>
                  </a:lnTo>
                  <a:lnTo>
                    <a:pt x="0" y="62"/>
                  </a:lnTo>
                  <a:lnTo>
                    <a:pt x="6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567320" y="3421080"/>
              <a:ext cx="129960" cy="758880"/>
            </a:xfrm>
            <a:custGeom>
              <a:avLst/>
              <a:gdLst/>
              <a:ahLst/>
              <a:rect l="l" t="t" r="r" b="b"/>
              <a:pathLst>
                <a:path w="69" h="272">
                  <a:moveTo>
                    <a:pt x="69" y="0"/>
                  </a:moveTo>
                  <a:lnTo>
                    <a:pt x="69" y="270"/>
                  </a:lnTo>
                  <a:lnTo>
                    <a:pt x="0" y="272"/>
                  </a:lnTo>
                  <a:lnTo>
                    <a:pt x="0" y="62"/>
                  </a:lnTo>
                  <a:lnTo>
                    <a:pt x="69" y="0"/>
                  </a:lnTo>
                </a:path>
              </a:pathLst>
            </a:custGeom>
            <a:solidFill>
              <a:srgbClr val="6633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205160" y="3589200"/>
              <a:ext cx="362160" cy="590760"/>
            </a:xfrm>
            <a:custGeom>
              <a:avLst/>
              <a:gdLst/>
              <a:ahLst/>
              <a:rect l="l" t="t" r="r" b="b"/>
              <a:pathLst>
                <a:path w="193" h="212">
                  <a:moveTo>
                    <a:pt x="0" y="210"/>
                  </a:moveTo>
                  <a:lnTo>
                    <a:pt x="0" y="0"/>
                  </a:lnTo>
                  <a:lnTo>
                    <a:pt x="193" y="2"/>
                  </a:lnTo>
                  <a:lnTo>
                    <a:pt x="193" y="212"/>
                  </a:lnTo>
                  <a:lnTo>
                    <a:pt x="0" y="21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205160" y="3589200"/>
              <a:ext cx="362160" cy="590760"/>
            </a:xfrm>
            <a:custGeom>
              <a:avLst/>
              <a:gdLst/>
              <a:ahLst/>
              <a:rect l="l" t="t" r="r" b="b"/>
              <a:pathLst>
                <a:path w="193" h="212">
                  <a:moveTo>
                    <a:pt x="0" y="210"/>
                  </a:moveTo>
                  <a:lnTo>
                    <a:pt x="0" y="0"/>
                  </a:lnTo>
                  <a:lnTo>
                    <a:pt x="193" y="2"/>
                  </a:lnTo>
                  <a:lnTo>
                    <a:pt x="193" y="212"/>
                  </a:lnTo>
                  <a:lnTo>
                    <a:pt x="0" y="210"/>
                  </a:lnTo>
                </a:path>
              </a:pathLst>
            </a:custGeom>
            <a:solidFill>
              <a:srgbClr val="6633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957400" y="4175280"/>
              <a:ext cx="2805120" cy="66600"/>
            </a:xfrm>
            <a:custGeom>
              <a:avLst/>
              <a:gdLst/>
              <a:ahLst/>
              <a:rect l="l" t="t" r="r" b="b"/>
              <a:pathLst>
                <a:path w="1491" h="24">
                  <a:moveTo>
                    <a:pt x="105" y="0"/>
                  </a:moveTo>
                  <a:lnTo>
                    <a:pt x="1491" y="0"/>
                  </a:lnTo>
                  <a:lnTo>
                    <a:pt x="1460" y="24"/>
                  </a:lnTo>
                  <a:lnTo>
                    <a:pt x="0" y="24"/>
                  </a:lnTo>
                  <a:lnTo>
                    <a:pt x="10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957400" y="4175280"/>
              <a:ext cx="2805120" cy="66600"/>
            </a:xfrm>
            <a:custGeom>
              <a:avLst/>
              <a:gdLst/>
              <a:ahLst/>
              <a:rect l="l" t="t" r="r" b="b"/>
              <a:pathLst>
                <a:path w="1491" h="24">
                  <a:moveTo>
                    <a:pt x="105" y="0"/>
                  </a:moveTo>
                  <a:lnTo>
                    <a:pt x="1491" y="0"/>
                  </a:lnTo>
                  <a:lnTo>
                    <a:pt x="1460" y="24"/>
                  </a:lnTo>
                  <a:lnTo>
                    <a:pt x="0" y="24"/>
                  </a:lnTo>
                  <a:lnTo>
                    <a:pt x="105" y="0"/>
                  </a:lnTo>
                </a:path>
              </a:pathLst>
            </a:custGeom>
            <a:solidFill>
              <a:srgbClr val="9933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703840" y="4175280"/>
              <a:ext cx="406440" cy="449280"/>
            </a:xfrm>
            <a:custGeom>
              <a:avLst/>
              <a:gdLst/>
              <a:ahLst/>
              <a:rect l="l" t="t" r="r" b="b"/>
              <a:pathLst>
                <a:path w="216" h="161">
                  <a:moveTo>
                    <a:pt x="31" y="0"/>
                  </a:moveTo>
                  <a:lnTo>
                    <a:pt x="216" y="140"/>
                  </a:lnTo>
                  <a:lnTo>
                    <a:pt x="181" y="161"/>
                  </a:lnTo>
                  <a:lnTo>
                    <a:pt x="0" y="24"/>
                  </a:lnTo>
                  <a:lnTo>
                    <a:pt x="31" y="0"/>
                  </a:lnTo>
                </a:path>
              </a:pathLst>
            </a:custGeom>
            <a:solidFill>
              <a:srgbClr val="cc99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703840" y="4175280"/>
              <a:ext cx="406440" cy="449280"/>
            </a:xfrm>
            <a:custGeom>
              <a:avLst/>
              <a:gdLst/>
              <a:ahLst/>
              <a:rect l="l" t="t" r="r" b="b"/>
              <a:pathLst>
                <a:path w="216" h="161">
                  <a:moveTo>
                    <a:pt x="31" y="0"/>
                  </a:moveTo>
                  <a:lnTo>
                    <a:pt x="216" y="140"/>
                  </a:lnTo>
                  <a:lnTo>
                    <a:pt x="181" y="161"/>
                  </a:lnTo>
                  <a:lnTo>
                    <a:pt x="0" y="24"/>
                  </a:lnTo>
                  <a:lnTo>
                    <a:pt x="31" y="0"/>
                  </a:lnTo>
                </a:path>
              </a:pathLst>
            </a:custGeom>
            <a:solidFill>
              <a:srgbClr val="9933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957400" y="4241880"/>
              <a:ext cx="3087720" cy="747720"/>
            </a:xfrm>
            <a:custGeom>
              <a:avLst/>
              <a:gdLst/>
              <a:ahLst/>
              <a:rect l="l" t="t" r="r" b="b"/>
              <a:pathLst>
                <a:path w="1641" h="268">
                  <a:moveTo>
                    <a:pt x="1460" y="0"/>
                  </a:moveTo>
                  <a:lnTo>
                    <a:pt x="1641" y="137"/>
                  </a:lnTo>
                  <a:lnTo>
                    <a:pt x="1444" y="268"/>
                  </a:lnTo>
                  <a:lnTo>
                    <a:pt x="19" y="268"/>
                  </a:lnTo>
                  <a:lnTo>
                    <a:pt x="223" y="132"/>
                  </a:lnTo>
                  <a:lnTo>
                    <a:pt x="0" y="0"/>
                  </a:lnTo>
                  <a:lnTo>
                    <a:pt x="146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957400" y="4241880"/>
              <a:ext cx="3087720" cy="747720"/>
            </a:xfrm>
            <a:custGeom>
              <a:avLst/>
              <a:gdLst/>
              <a:ahLst/>
              <a:rect l="l" t="t" r="r" b="b"/>
              <a:pathLst>
                <a:path w="1641" h="268">
                  <a:moveTo>
                    <a:pt x="1460" y="0"/>
                  </a:moveTo>
                  <a:lnTo>
                    <a:pt x="1641" y="137"/>
                  </a:lnTo>
                  <a:lnTo>
                    <a:pt x="1444" y="268"/>
                  </a:lnTo>
                  <a:lnTo>
                    <a:pt x="19" y="268"/>
                  </a:lnTo>
                  <a:lnTo>
                    <a:pt x="223" y="132"/>
                  </a:lnTo>
                  <a:lnTo>
                    <a:pt x="0" y="0"/>
                  </a:lnTo>
                  <a:lnTo>
                    <a:pt x="1460" y="0"/>
                  </a:lnTo>
                </a:path>
              </a:pathLst>
            </a:custGeom>
            <a:solidFill>
              <a:srgbClr val="cc66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05160" y="4989600"/>
              <a:ext cx="284400" cy="90360"/>
            </a:xfrm>
            <a:custGeom>
              <a:avLst/>
              <a:gdLst/>
              <a:ahLst/>
              <a:rect l="l" t="t" r="r" b="b"/>
              <a:pathLst>
                <a:path w="151" h="32">
                  <a:moveTo>
                    <a:pt x="0" y="0"/>
                  </a:moveTo>
                  <a:lnTo>
                    <a:pt x="151" y="0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205160" y="4989600"/>
              <a:ext cx="284400" cy="90360"/>
            </a:xfrm>
            <a:custGeom>
              <a:avLst/>
              <a:gdLst/>
              <a:ahLst/>
              <a:rect l="l" t="t" r="r" b="b"/>
              <a:pathLst>
                <a:path w="151" h="32">
                  <a:moveTo>
                    <a:pt x="0" y="0"/>
                  </a:moveTo>
                  <a:lnTo>
                    <a:pt x="151" y="0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6633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19360" y="4989600"/>
              <a:ext cx="1125720" cy="1119240"/>
            </a:xfrm>
            <a:custGeom>
              <a:avLst/>
              <a:gdLst/>
              <a:ahLst/>
              <a:rect l="l" t="t" r="r" b="b"/>
              <a:pathLst>
                <a:path w="598" h="401">
                  <a:moveTo>
                    <a:pt x="598" y="0"/>
                  </a:moveTo>
                  <a:lnTo>
                    <a:pt x="61" y="119"/>
                  </a:lnTo>
                  <a:lnTo>
                    <a:pt x="130" y="215"/>
                  </a:lnTo>
                  <a:lnTo>
                    <a:pt x="51" y="401"/>
                  </a:lnTo>
                  <a:lnTo>
                    <a:pt x="5" y="387"/>
                  </a:lnTo>
                  <a:lnTo>
                    <a:pt x="88" y="221"/>
                  </a:lnTo>
                  <a:lnTo>
                    <a:pt x="0" y="109"/>
                  </a:lnTo>
                  <a:lnTo>
                    <a:pt x="515" y="0"/>
                  </a:lnTo>
                  <a:lnTo>
                    <a:pt x="598" y="0"/>
                  </a:lnTo>
                </a:path>
              </a:pathLst>
            </a:custGeom>
            <a:solidFill>
              <a:srgbClr val="ffcc6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519360" y="4989600"/>
              <a:ext cx="1125720" cy="1119240"/>
            </a:xfrm>
            <a:custGeom>
              <a:avLst/>
              <a:gdLst/>
              <a:ahLst/>
              <a:rect l="l" t="t" r="r" b="b"/>
              <a:pathLst>
                <a:path w="598" h="401">
                  <a:moveTo>
                    <a:pt x="598" y="0"/>
                  </a:moveTo>
                  <a:lnTo>
                    <a:pt x="61" y="119"/>
                  </a:lnTo>
                  <a:lnTo>
                    <a:pt x="130" y="215"/>
                  </a:lnTo>
                  <a:lnTo>
                    <a:pt x="51" y="401"/>
                  </a:lnTo>
                  <a:lnTo>
                    <a:pt x="5" y="387"/>
                  </a:lnTo>
                  <a:lnTo>
                    <a:pt x="88" y="221"/>
                  </a:lnTo>
                  <a:lnTo>
                    <a:pt x="0" y="109"/>
                  </a:lnTo>
                  <a:lnTo>
                    <a:pt x="515" y="0"/>
                  </a:lnTo>
                  <a:lnTo>
                    <a:pt x="598" y="0"/>
                  </a:lnTo>
                </a:path>
              </a:pathLst>
            </a:custGeom>
            <a:solidFill>
              <a:srgbClr val="9933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616200" y="4989600"/>
              <a:ext cx="1779840" cy="1119240"/>
            </a:xfrm>
            <a:custGeom>
              <a:avLst/>
              <a:gdLst/>
              <a:ahLst/>
              <a:rect l="l" t="t" r="r" b="b"/>
              <a:pathLst>
                <a:path w="946" h="401">
                  <a:moveTo>
                    <a:pt x="10" y="119"/>
                  </a:moveTo>
                  <a:lnTo>
                    <a:pt x="547" y="0"/>
                  </a:lnTo>
                  <a:lnTo>
                    <a:pt x="874" y="0"/>
                  </a:lnTo>
                  <a:lnTo>
                    <a:pt x="946" y="54"/>
                  </a:lnTo>
                  <a:lnTo>
                    <a:pt x="844" y="191"/>
                  </a:lnTo>
                  <a:lnTo>
                    <a:pt x="0" y="401"/>
                  </a:lnTo>
                  <a:lnTo>
                    <a:pt x="79" y="215"/>
                  </a:lnTo>
                  <a:lnTo>
                    <a:pt x="10" y="11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616200" y="4989600"/>
              <a:ext cx="1779840" cy="1119240"/>
            </a:xfrm>
            <a:custGeom>
              <a:avLst/>
              <a:gdLst/>
              <a:ahLst/>
              <a:rect l="l" t="t" r="r" b="b"/>
              <a:pathLst>
                <a:path w="946" h="401">
                  <a:moveTo>
                    <a:pt x="10" y="119"/>
                  </a:moveTo>
                  <a:lnTo>
                    <a:pt x="547" y="0"/>
                  </a:lnTo>
                  <a:lnTo>
                    <a:pt x="874" y="0"/>
                  </a:lnTo>
                  <a:lnTo>
                    <a:pt x="946" y="54"/>
                  </a:lnTo>
                  <a:lnTo>
                    <a:pt x="844" y="191"/>
                  </a:lnTo>
                  <a:lnTo>
                    <a:pt x="0" y="401"/>
                  </a:lnTo>
                  <a:lnTo>
                    <a:pt x="79" y="215"/>
                  </a:lnTo>
                  <a:lnTo>
                    <a:pt x="10" y="119"/>
                  </a:lnTo>
                </a:path>
              </a:pathLst>
            </a:custGeom>
            <a:solidFill>
              <a:srgbClr val="cc66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20413800">
              <a:off x="3618000" y="5157360"/>
              <a:ext cx="17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ethod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96600" y="4286160"/>
              <a:ext cx="223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Method 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2957400" y="609480"/>
            <a:ext cx="375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092400" y="1319040"/>
            <a:ext cx="2946600" cy="1132200"/>
            <a:chOff x="3092400" y="1319040"/>
            <a:chExt cx="2946600" cy="1132200"/>
          </a:xfrm>
        </p:grpSpPr>
        <p:grpSp>
          <p:nvGrpSpPr>
            <p:cNvPr id="569" name=""/>
            <p:cNvGrpSpPr/>
            <p:nvPr/>
          </p:nvGrpSpPr>
          <p:grpSpPr>
            <a:xfrm>
              <a:off x="3092400" y="1319040"/>
              <a:ext cx="870480" cy="1132200"/>
              <a:chOff x="3092400" y="1319040"/>
              <a:chExt cx="870480" cy="1132200"/>
            </a:xfrm>
          </p:grpSpPr>
          <p:grpSp>
            <p:nvGrpSpPr>
              <p:cNvPr id="570" name=""/>
              <p:cNvGrpSpPr/>
              <p:nvPr/>
            </p:nvGrpSpPr>
            <p:grpSpPr>
              <a:xfrm>
                <a:off x="3092400" y="1319040"/>
                <a:ext cx="432000" cy="1132200"/>
                <a:chOff x="3092400" y="1319040"/>
                <a:chExt cx="432000" cy="113220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3102840" y="13190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7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3101400" y="18698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092400" y="1883880"/>
                  <a:ext cx="432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4" name=""/>
              <p:cNvSpPr/>
              <p:nvPr/>
            </p:nvSpPr>
            <p:spPr>
              <a:xfrm>
                <a:off x="3539880" y="1563480"/>
                <a:ext cx="42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4014000" y="1563480"/>
              <a:ext cx="32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042160" y="15634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4498920" y="1319040"/>
              <a:ext cx="431640" cy="1131840"/>
              <a:chOff x="4498920" y="1319040"/>
              <a:chExt cx="431640" cy="1131840"/>
            </a:xfrm>
          </p:grpSpPr>
          <p:sp>
            <p:nvSpPr>
              <p:cNvPr id="578" name=""/>
              <p:cNvSpPr/>
              <p:nvPr/>
            </p:nvSpPr>
            <p:spPr>
              <a:xfrm>
                <a:off x="4509000" y="13190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507560" y="18694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498920" y="1883880"/>
                <a:ext cx="43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5607000" y="1319040"/>
              <a:ext cx="432000" cy="1132200"/>
              <a:chOff x="5607000" y="1319040"/>
              <a:chExt cx="432000" cy="1132200"/>
            </a:xfrm>
          </p:grpSpPr>
          <p:sp>
            <p:nvSpPr>
              <p:cNvPr id="582" name=""/>
              <p:cNvSpPr/>
              <p:nvPr/>
            </p:nvSpPr>
            <p:spPr>
              <a:xfrm>
                <a:off x="5617440" y="13190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616000" y="18698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607000" y="1883880"/>
                <a:ext cx="43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5" name=""/>
          <p:cNvGrpSpPr/>
          <p:nvPr/>
        </p:nvGrpSpPr>
        <p:grpSpPr>
          <a:xfrm>
            <a:off x="1182240" y="2419200"/>
            <a:ext cx="6789960" cy="4110120"/>
            <a:chOff x="1182240" y="2419200"/>
            <a:chExt cx="6789960" cy="4110120"/>
          </a:xfrm>
        </p:grpSpPr>
        <p:pic>
          <p:nvPicPr>
            <p:cNvPr id="586" name="" descr=""/>
            <p:cNvPicPr/>
            <p:nvPr/>
          </p:nvPicPr>
          <p:blipFill>
            <a:blip r:embed="rId1"/>
            <a:stretch/>
          </p:blipFill>
          <p:spPr>
            <a:xfrm>
              <a:off x="6367320" y="4468680"/>
              <a:ext cx="16048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 flipH="1">
              <a:off x="1181880" y="2419200"/>
              <a:ext cx="5422680" cy="2457720"/>
            </a:xfrm>
            <a:prstGeom prst="cloudCallout">
              <a:avLst>
                <a:gd name="adj1" fmla="val -43592"/>
                <a:gd name="adj2" fmla="val 7881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2504520" y="2700360"/>
            <a:ext cx="27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, 16, 24, 32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280600" y="3255840"/>
            <a:ext cx="322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, 8, 12, 20, 24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503800" y="3849840"/>
            <a:ext cx="27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, 12, 18, 24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2957400" y="609480"/>
            <a:ext cx="375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2809800" y="1316160"/>
            <a:ext cx="3546720" cy="1132200"/>
            <a:chOff x="2809800" y="1316160"/>
            <a:chExt cx="3546720" cy="1132200"/>
          </a:xfrm>
        </p:grpSpPr>
        <p:grpSp>
          <p:nvGrpSpPr>
            <p:cNvPr id="593" name=""/>
            <p:cNvGrpSpPr/>
            <p:nvPr/>
          </p:nvGrpSpPr>
          <p:grpSpPr>
            <a:xfrm>
              <a:off x="2809800" y="1316160"/>
              <a:ext cx="870480" cy="1132200"/>
              <a:chOff x="2809800" y="1316160"/>
              <a:chExt cx="870480" cy="1132200"/>
            </a:xfrm>
          </p:grpSpPr>
          <p:grpSp>
            <p:nvGrpSpPr>
              <p:cNvPr id="594" name=""/>
              <p:cNvGrpSpPr/>
              <p:nvPr/>
            </p:nvGrpSpPr>
            <p:grpSpPr>
              <a:xfrm>
                <a:off x="2809800" y="1316160"/>
                <a:ext cx="432000" cy="1132200"/>
                <a:chOff x="2809800" y="1316160"/>
                <a:chExt cx="432000" cy="113220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2820240" y="13161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7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818800" y="18669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809800" y="1881000"/>
                  <a:ext cx="432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8" name=""/>
              <p:cNvSpPr/>
              <p:nvPr/>
            </p:nvSpPr>
            <p:spPr>
              <a:xfrm>
                <a:off x="3257280" y="1560600"/>
                <a:ext cx="42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3731400" y="1560240"/>
              <a:ext cx="32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059440" y="15602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1" name=""/>
            <p:cNvGrpSpPr/>
            <p:nvPr/>
          </p:nvGrpSpPr>
          <p:grpSpPr>
            <a:xfrm>
              <a:off x="4216320" y="1316160"/>
              <a:ext cx="431640" cy="1131840"/>
              <a:chOff x="4216320" y="1316160"/>
              <a:chExt cx="431640" cy="1131840"/>
            </a:xfrm>
          </p:grpSpPr>
          <p:sp>
            <p:nvSpPr>
              <p:cNvPr id="602" name=""/>
              <p:cNvSpPr/>
              <p:nvPr/>
            </p:nvSpPr>
            <p:spPr>
              <a:xfrm>
                <a:off x="4226400" y="13161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224960" y="18666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216320" y="1881000"/>
                <a:ext cx="43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5924520" y="1316160"/>
              <a:ext cx="432000" cy="1132200"/>
              <a:chOff x="5924520" y="1316160"/>
              <a:chExt cx="432000" cy="1132200"/>
            </a:xfrm>
          </p:grpSpPr>
          <p:sp>
            <p:nvSpPr>
              <p:cNvPr id="606" name=""/>
              <p:cNvSpPr/>
              <p:nvPr/>
            </p:nvSpPr>
            <p:spPr>
              <a:xfrm>
                <a:off x="5934960" y="13161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933520" y="18669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924520" y="1881000"/>
                <a:ext cx="43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9" name=""/>
          <p:cNvGrpSpPr/>
          <p:nvPr/>
        </p:nvGrpSpPr>
        <p:grpSpPr>
          <a:xfrm>
            <a:off x="1787400" y="947160"/>
            <a:ext cx="5535720" cy="1852920"/>
            <a:chOff x="1787400" y="947160"/>
            <a:chExt cx="5535720" cy="1852920"/>
          </a:xfrm>
        </p:grpSpPr>
        <p:sp>
          <p:nvSpPr>
            <p:cNvPr id="610" name=""/>
            <p:cNvSpPr/>
            <p:nvPr/>
          </p:nvSpPr>
          <p:spPr>
            <a:xfrm flipH="1" rot="18907800">
              <a:off x="2510640" y="1231560"/>
              <a:ext cx="1335240" cy="128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2692200">
              <a:off x="3596040" y="1231200"/>
              <a:ext cx="1335600" cy="128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 rot="18907800">
              <a:off x="5620320" y="1233360"/>
              <a:ext cx="1335240" cy="128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2692200">
              <a:off x="5305320" y="1233720"/>
              <a:ext cx="1335600" cy="128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787400" y="15606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2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618240" y="15606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2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1216080" y="2700360"/>
            <a:ext cx="6680160" cy="1136880"/>
            <a:chOff x="1216080" y="2700360"/>
            <a:chExt cx="6680160" cy="1136880"/>
          </a:xfrm>
        </p:grpSpPr>
        <p:grpSp>
          <p:nvGrpSpPr>
            <p:cNvPr id="617" name=""/>
            <p:cNvGrpSpPr/>
            <p:nvPr/>
          </p:nvGrpSpPr>
          <p:grpSpPr>
            <a:xfrm>
              <a:off x="2475000" y="2701800"/>
              <a:ext cx="869760" cy="1132560"/>
              <a:chOff x="2475000" y="2701800"/>
              <a:chExt cx="869760" cy="1132560"/>
            </a:xfrm>
          </p:grpSpPr>
          <p:grpSp>
            <p:nvGrpSpPr>
              <p:cNvPr id="618" name=""/>
              <p:cNvGrpSpPr/>
              <p:nvPr/>
            </p:nvGrpSpPr>
            <p:grpSpPr>
              <a:xfrm>
                <a:off x="2475000" y="2701800"/>
                <a:ext cx="431640" cy="1132560"/>
                <a:chOff x="2475000" y="2701800"/>
                <a:chExt cx="431640" cy="113256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2485080" y="27018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7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2483640" y="32529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2475000" y="3267000"/>
                  <a:ext cx="431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2921760" y="2946600"/>
                <a:ext cx="42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3" name=""/>
            <p:cNvSpPr/>
            <p:nvPr/>
          </p:nvSpPr>
          <p:spPr>
            <a:xfrm>
              <a:off x="3396240" y="2946240"/>
              <a:ext cx="32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67480" y="29462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5153040" y="2701800"/>
              <a:ext cx="431640" cy="1132200"/>
              <a:chOff x="5153040" y="2701800"/>
              <a:chExt cx="431640" cy="1132200"/>
            </a:xfrm>
          </p:grpSpPr>
          <p:sp>
            <p:nvSpPr>
              <p:cNvPr id="626" name=""/>
              <p:cNvSpPr/>
              <p:nvPr/>
            </p:nvSpPr>
            <p:spPr>
              <a:xfrm>
                <a:off x="5163120" y="27018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161680" y="32526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153040" y="3267000"/>
                <a:ext cx="43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6203880" y="2701800"/>
              <a:ext cx="432000" cy="1132200"/>
              <a:chOff x="6203880" y="2701800"/>
              <a:chExt cx="432000" cy="1132200"/>
            </a:xfrm>
          </p:grpSpPr>
          <p:sp>
            <p:nvSpPr>
              <p:cNvPr id="630" name=""/>
              <p:cNvSpPr/>
              <p:nvPr/>
            </p:nvSpPr>
            <p:spPr>
              <a:xfrm>
                <a:off x="6214320" y="27018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212880" y="32526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203880" y="3266640"/>
                <a:ext cx="43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3887640" y="2701800"/>
              <a:ext cx="679680" cy="1135440"/>
              <a:chOff x="3887640" y="2701800"/>
              <a:chExt cx="679680" cy="1135440"/>
            </a:xfrm>
          </p:grpSpPr>
          <p:sp>
            <p:nvSpPr>
              <p:cNvPr id="634" name=""/>
              <p:cNvSpPr/>
              <p:nvPr/>
            </p:nvSpPr>
            <p:spPr>
              <a:xfrm>
                <a:off x="3903840" y="270180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2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019760" y="32558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887640" y="3270240"/>
                <a:ext cx="67968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1216080" y="2700360"/>
              <a:ext cx="679320" cy="1135080"/>
              <a:chOff x="1216080" y="2700360"/>
              <a:chExt cx="679320" cy="1135080"/>
            </a:xfrm>
          </p:grpSpPr>
          <p:sp>
            <p:nvSpPr>
              <p:cNvPr id="638" name=""/>
              <p:cNvSpPr/>
              <p:nvPr/>
            </p:nvSpPr>
            <p:spPr>
              <a:xfrm>
                <a:off x="1232280" y="270036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2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347840" y="32540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216080" y="3268440"/>
                <a:ext cx="67932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1991880" y="294624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671720" y="294624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748200" y="294624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7216920" y="2701800"/>
              <a:ext cx="679320" cy="1135440"/>
              <a:chOff x="7216920" y="2701800"/>
              <a:chExt cx="679320" cy="1135440"/>
            </a:xfrm>
          </p:grpSpPr>
          <p:sp>
            <p:nvSpPr>
              <p:cNvPr id="645" name=""/>
              <p:cNvSpPr/>
              <p:nvPr/>
            </p:nvSpPr>
            <p:spPr>
              <a:xfrm>
                <a:off x="7233120" y="270180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2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348680" y="32558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216920" y="3270240"/>
                <a:ext cx="67932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8" name=""/>
          <p:cNvGrpSpPr/>
          <p:nvPr/>
        </p:nvGrpSpPr>
        <p:grpSpPr>
          <a:xfrm>
            <a:off x="1249200" y="4324320"/>
            <a:ext cx="6680520" cy="1136880"/>
            <a:chOff x="1249200" y="4324320"/>
            <a:chExt cx="6680520" cy="1136880"/>
          </a:xfrm>
        </p:grpSpPr>
        <p:grpSp>
          <p:nvGrpSpPr>
            <p:cNvPr id="649" name=""/>
            <p:cNvGrpSpPr/>
            <p:nvPr/>
          </p:nvGrpSpPr>
          <p:grpSpPr>
            <a:xfrm>
              <a:off x="2508120" y="4326120"/>
              <a:ext cx="870480" cy="1132200"/>
              <a:chOff x="2508120" y="4326120"/>
              <a:chExt cx="870480" cy="1132200"/>
            </a:xfrm>
          </p:grpSpPr>
          <p:grpSp>
            <p:nvGrpSpPr>
              <p:cNvPr id="650" name=""/>
              <p:cNvGrpSpPr/>
              <p:nvPr/>
            </p:nvGrpSpPr>
            <p:grpSpPr>
              <a:xfrm>
                <a:off x="2508120" y="4326120"/>
                <a:ext cx="432000" cy="1132200"/>
                <a:chOff x="2508120" y="4326120"/>
                <a:chExt cx="432000" cy="113220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2518560" y="432612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7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2517120" y="487692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2508120" y="4890960"/>
                  <a:ext cx="432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4" name=""/>
              <p:cNvSpPr/>
              <p:nvPr/>
            </p:nvSpPr>
            <p:spPr>
              <a:xfrm>
                <a:off x="2955600" y="4570560"/>
                <a:ext cx="42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5" name=""/>
            <p:cNvSpPr/>
            <p:nvPr/>
          </p:nvSpPr>
          <p:spPr>
            <a:xfrm>
              <a:off x="3429720" y="4570560"/>
              <a:ext cx="32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700960" y="45705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7" name=""/>
            <p:cNvGrpSpPr/>
            <p:nvPr/>
          </p:nvGrpSpPr>
          <p:grpSpPr>
            <a:xfrm>
              <a:off x="5186520" y="4326120"/>
              <a:ext cx="431640" cy="1131840"/>
              <a:chOff x="5186520" y="4326120"/>
              <a:chExt cx="431640" cy="1131840"/>
            </a:xfrm>
          </p:grpSpPr>
          <p:sp>
            <p:nvSpPr>
              <p:cNvPr id="658" name=""/>
              <p:cNvSpPr/>
              <p:nvPr/>
            </p:nvSpPr>
            <p:spPr>
              <a:xfrm>
                <a:off x="5196600" y="43261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195160" y="48765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186520" y="4890960"/>
                <a:ext cx="43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6237360" y="4326120"/>
              <a:ext cx="432000" cy="1132200"/>
              <a:chOff x="6237360" y="4326120"/>
              <a:chExt cx="432000" cy="1132200"/>
            </a:xfrm>
          </p:grpSpPr>
          <p:sp>
            <p:nvSpPr>
              <p:cNvPr id="662" name=""/>
              <p:cNvSpPr/>
              <p:nvPr/>
            </p:nvSpPr>
            <p:spPr>
              <a:xfrm>
                <a:off x="6247800" y="43261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246360" y="48769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237360" y="4890960"/>
                <a:ext cx="43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3921120" y="4326120"/>
              <a:ext cx="679320" cy="1135080"/>
              <a:chOff x="3921120" y="4326120"/>
              <a:chExt cx="679320" cy="1135080"/>
            </a:xfrm>
          </p:grpSpPr>
          <p:sp>
            <p:nvSpPr>
              <p:cNvPr id="666" name=""/>
              <p:cNvSpPr/>
              <p:nvPr/>
            </p:nvSpPr>
            <p:spPr>
              <a:xfrm>
                <a:off x="3937320" y="432612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2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052880" y="48798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921120" y="4894200"/>
                <a:ext cx="67932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1249200" y="4324320"/>
              <a:ext cx="679680" cy="1135440"/>
              <a:chOff x="1249200" y="4324320"/>
              <a:chExt cx="679680" cy="1135440"/>
            </a:xfrm>
          </p:grpSpPr>
          <p:sp>
            <p:nvSpPr>
              <p:cNvPr id="670" name=""/>
              <p:cNvSpPr/>
              <p:nvPr/>
            </p:nvSpPr>
            <p:spPr>
              <a:xfrm>
                <a:off x="1265400" y="432432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2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381320" y="48783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249200" y="4892760"/>
                <a:ext cx="67968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3" name=""/>
            <p:cNvSpPr/>
            <p:nvPr/>
          </p:nvSpPr>
          <p:spPr>
            <a:xfrm>
              <a:off x="2025360" y="457056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705200" y="457056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781680" y="457056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6" name=""/>
            <p:cNvGrpSpPr/>
            <p:nvPr/>
          </p:nvGrpSpPr>
          <p:grpSpPr>
            <a:xfrm>
              <a:off x="7250040" y="4326120"/>
              <a:ext cx="679680" cy="1135080"/>
              <a:chOff x="7250040" y="4326120"/>
              <a:chExt cx="679680" cy="1135080"/>
            </a:xfrm>
          </p:grpSpPr>
          <p:sp>
            <p:nvSpPr>
              <p:cNvPr id="677" name=""/>
              <p:cNvSpPr/>
              <p:nvPr/>
            </p:nvSpPr>
            <p:spPr>
              <a:xfrm>
                <a:off x="7266240" y="432612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2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382160" y="48798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250040" y="4894200"/>
                <a:ext cx="67968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0" name=""/>
          <p:cNvGrpSpPr/>
          <p:nvPr/>
        </p:nvGrpSpPr>
        <p:grpSpPr>
          <a:xfrm>
            <a:off x="3839760" y="4029120"/>
            <a:ext cx="1922400" cy="2410920"/>
            <a:chOff x="3839760" y="4029120"/>
            <a:chExt cx="1922400" cy="2410920"/>
          </a:xfrm>
        </p:grpSpPr>
        <p:grpSp>
          <p:nvGrpSpPr>
            <p:cNvPr id="681" name=""/>
            <p:cNvGrpSpPr/>
            <p:nvPr/>
          </p:nvGrpSpPr>
          <p:grpSpPr>
            <a:xfrm>
              <a:off x="3839760" y="4029120"/>
              <a:ext cx="1922400" cy="1635840"/>
              <a:chOff x="3839760" y="4029120"/>
              <a:chExt cx="1922400" cy="1635840"/>
            </a:xfrm>
          </p:grpSpPr>
          <p:sp>
            <p:nvSpPr>
              <p:cNvPr id="682" name=""/>
              <p:cNvSpPr/>
              <p:nvPr/>
            </p:nvSpPr>
            <p:spPr>
              <a:xfrm flipV="1">
                <a:off x="4010400" y="4387680"/>
                <a:ext cx="548640" cy="394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5118480" y="4970160"/>
                <a:ext cx="548640" cy="394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407560" y="52052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839760" y="40291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Comic Sans MS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6" name=""/>
            <p:cNvSpPr/>
            <p:nvPr/>
          </p:nvSpPr>
          <p:spPr>
            <a:xfrm>
              <a:off x="3954600" y="5797440"/>
              <a:ext cx="105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–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182600" y="4027320"/>
            <a:ext cx="2785320" cy="2412720"/>
            <a:chOff x="1182600" y="4027320"/>
            <a:chExt cx="2785320" cy="2412720"/>
          </a:xfrm>
        </p:grpSpPr>
        <p:grpSp>
          <p:nvGrpSpPr>
            <p:cNvPr id="688" name=""/>
            <p:cNvGrpSpPr/>
            <p:nvPr/>
          </p:nvGrpSpPr>
          <p:grpSpPr>
            <a:xfrm>
              <a:off x="1182600" y="4027320"/>
              <a:ext cx="1882800" cy="1635840"/>
              <a:chOff x="1182600" y="4027320"/>
              <a:chExt cx="1882800" cy="1635840"/>
            </a:xfrm>
          </p:grpSpPr>
          <p:sp>
            <p:nvSpPr>
              <p:cNvPr id="689" name=""/>
              <p:cNvSpPr/>
              <p:nvPr/>
            </p:nvSpPr>
            <p:spPr>
              <a:xfrm flipV="1">
                <a:off x="1302120" y="4388040"/>
                <a:ext cx="548640" cy="3945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V="1">
                <a:off x="2410200" y="4970520"/>
                <a:ext cx="548640" cy="3945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745000" y="5203440"/>
                <a:ext cx="32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182600" y="402732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>
              <a:off x="3020760" y="5797440"/>
              <a:ext cx="94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1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5002200" y="4029120"/>
            <a:ext cx="2863800" cy="2410920"/>
            <a:chOff x="5002200" y="4029120"/>
            <a:chExt cx="2863800" cy="2410920"/>
          </a:xfrm>
        </p:grpSpPr>
        <p:grpSp>
          <p:nvGrpSpPr>
            <p:cNvPr id="695" name=""/>
            <p:cNvGrpSpPr/>
            <p:nvPr/>
          </p:nvGrpSpPr>
          <p:grpSpPr>
            <a:xfrm>
              <a:off x="6166080" y="4029120"/>
              <a:ext cx="1699920" cy="1635840"/>
              <a:chOff x="6166080" y="4029120"/>
              <a:chExt cx="1699920" cy="1635840"/>
            </a:xfrm>
          </p:grpSpPr>
          <p:sp>
            <p:nvSpPr>
              <p:cNvPr id="696" name=""/>
              <p:cNvSpPr/>
              <p:nvPr/>
            </p:nvSpPr>
            <p:spPr>
              <a:xfrm flipV="1">
                <a:off x="7317000" y="4387320"/>
                <a:ext cx="549000" cy="3952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6166080" y="4968360"/>
                <a:ext cx="549000" cy="3952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477480" y="52052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189560" y="40291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Comic Sans MS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0" name=""/>
            <p:cNvSpPr/>
            <p:nvPr/>
          </p:nvSpPr>
          <p:spPr>
            <a:xfrm>
              <a:off x="5002200" y="5797440"/>
              <a:ext cx="111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2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2957400" y="609480"/>
            <a:ext cx="375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2907720" y="1747800"/>
            <a:ext cx="3103920" cy="642600"/>
            <a:chOff x="2907720" y="1747800"/>
            <a:chExt cx="3103920" cy="642600"/>
          </a:xfrm>
        </p:grpSpPr>
        <p:sp>
          <p:nvSpPr>
            <p:cNvPr id="703" name=""/>
            <p:cNvSpPr/>
            <p:nvPr/>
          </p:nvSpPr>
          <p:spPr>
            <a:xfrm>
              <a:off x="3851280" y="1747800"/>
              <a:ext cx="105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–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907720" y="1747800"/>
              <a:ext cx="94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1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898880" y="1747800"/>
              <a:ext cx="111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2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3827520" y="2340000"/>
            <a:ext cx="2209680" cy="642600"/>
            <a:chOff x="3827520" y="2340000"/>
            <a:chExt cx="2209680" cy="642600"/>
          </a:xfrm>
        </p:grpSpPr>
        <p:sp>
          <p:nvSpPr>
            <p:cNvPr id="707" name=""/>
            <p:cNvSpPr/>
            <p:nvPr/>
          </p:nvSpPr>
          <p:spPr>
            <a:xfrm>
              <a:off x="3827520" y="2340000"/>
              <a:ext cx="10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+ 1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951080" y="2340000"/>
              <a:ext cx="10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+ 1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2854440" y="2962440"/>
            <a:ext cx="3429000" cy="642600"/>
            <a:chOff x="2854440" y="2962440"/>
            <a:chExt cx="3429000" cy="642600"/>
          </a:xfrm>
        </p:grpSpPr>
        <p:sp>
          <p:nvSpPr>
            <p:cNvPr id="710" name=""/>
            <p:cNvSpPr/>
            <p:nvPr/>
          </p:nvSpPr>
          <p:spPr>
            <a:xfrm>
              <a:off x="4894560" y="2962440"/>
              <a:ext cx="111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3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854440" y="2981520"/>
              <a:ext cx="342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908080" y="2962440"/>
              <a:ext cx="94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1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3000240" y="3583080"/>
            <a:ext cx="3015000" cy="644400"/>
            <a:chOff x="3000240" y="3583080"/>
            <a:chExt cx="3015000" cy="644400"/>
          </a:xfrm>
        </p:grpSpPr>
        <p:sp>
          <p:nvSpPr>
            <p:cNvPr id="714" name=""/>
            <p:cNvSpPr/>
            <p:nvPr/>
          </p:nvSpPr>
          <p:spPr>
            <a:xfrm>
              <a:off x="5310360" y="35830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2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79840" y="3603600"/>
              <a:ext cx="56520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029040" y="35848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2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000240" y="3603600"/>
              <a:ext cx="7621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3081960" y="4608360"/>
            <a:ext cx="1564920" cy="1193400"/>
            <a:chOff x="3081960" y="4608360"/>
            <a:chExt cx="1564920" cy="1193400"/>
          </a:xfrm>
        </p:grpSpPr>
        <p:sp>
          <p:nvSpPr>
            <p:cNvPr id="719" name=""/>
            <p:cNvSpPr/>
            <p:nvPr/>
          </p:nvSpPr>
          <p:spPr>
            <a:xfrm>
              <a:off x="3081960" y="4883040"/>
              <a:ext cx="80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3942000" y="4608360"/>
              <a:ext cx="704880" cy="1193400"/>
              <a:chOff x="3942000" y="4608360"/>
              <a:chExt cx="704880" cy="1193400"/>
            </a:xfrm>
          </p:grpSpPr>
          <p:sp>
            <p:nvSpPr>
              <p:cNvPr id="721" name=""/>
              <p:cNvSpPr/>
              <p:nvPr/>
            </p:nvSpPr>
            <p:spPr>
              <a:xfrm>
                <a:off x="3970800" y="460836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942000" y="515916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011480" y="5179680"/>
                <a:ext cx="565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4" name=""/>
          <p:cNvGrpSpPr/>
          <p:nvPr/>
        </p:nvGrpSpPr>
        <p:grpSpPr>
          <a:xfrm>
            <a:off x="4665600" y="4605480"/>
            <a:ext cx="1419120" cy="1198080"/>
            <a:chOff x="4665600" y="4605480"/>
            <a:chExt cx="1419120" cy="1198080"/>
          </a:xfrm>
        </p:grpSpPr>
        <p:grpSp>
          <p:nvGrpSpPr>
            <p:cNvPr id="725" name=""/>
            <p:cNvGrpSpPr/>
            <p:nvPr/>
          </p:nvGrpSpPr>
          <p:grpSpPr>
            <a:xfrm>
              <a:off x="5058360" y="4605480"/>
              <a:ext cx="1026360" cy="1198080"/>
              <a:chOff x="5058360" y="4605480"/>
              <a:chExt cx="1026360" cy="1198080"/>
            </a:xfrm>
          </p:grpSpPr>
          <p:grpSp>
            <p:nvGrpSpPr>
              <p:cNvPr id="726" name=""/>
              <p:cNvGrpSpPr/>
              <p:nvPr/>
            </p:nvGrpSpPr>
            <p:grpSpPr>
              <a:xfrm>
                <a:off x="5379840" y="4605480"/>
                <a:ext cx="704880" cy="1198080"/>
                <a:chOff x="5379840" y="4605480"/>
                <a:chExt cx="704880" cy="119808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5379840" y="5160960"/>
                  <a:ext cx="7048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ff"/>
                      </a:solidFill>
                      <a:latin typeface="Comic Sans MS"/>
                    </a:rPr>
                    <a:t>21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5473440" y="5180040"/>
                  <a:ext cx="51912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5409720" y="4605480"/>
                  <a:ext cx="646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17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0" name=""/>
              <p:cNvSpPr/>
              <p:nvPr/>
            </p:nvSpPr>
            <p:spPr>
              <a:xfrm>
                <a:off x="5058360" y="488340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1" name=""/>
            <p:cNvSpPr/>
            <p:nvPr/>
          </p:nvSpPr>
          <p:spPr>
            <a:xfrm>
              <a:off x="4665600" y="48834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501480" y="1655640"/>
            <a:ext cx="813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solving equations, you can clear away fractions by multiplying both sides by the fractions’ LC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957400" y="609480"/>
            <a:ext cx="375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2768400" y="1393920"/>
            <a:ext cx="35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lve and che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2118960" y="2197080"/>
            <a:ext cx="4849920" cy="1132200"/>
            <a:chOff x="2118960" y="2197080"/>
            <a:chExt cx="4849920" cy="1132200"/>
          </a:xfrm>
        </p:grpSpPr>
        <p:grpSp>
          <p:nvGrpSpPr>
            <p:cNvPr id="736" name=""/>
            <p:cNvGrpSpPr/>
            <p:nvPr/>
          </p:nvGrpSpPr>
          <p:grpSpPr>
            <a:xfrm>
              <a:off x="2118960" y="2197080"/>
              <a:ext cx="646920" cy="1132200"/>
              <a:chOff x="2118960" y="2197080"/>
              <a:chExt cx="646920" cy="1132200"/>
            </a:xfrm>
          </p:grpSpPr>
          <p:sp>
            <p:nvSpPr>
              <p:cNvPr id="737" name=""/>
              <p:cNvSpPr/>
              <p:nvPr/>
            </p:nvSpPr>
            <p:spPr>
              <a:xfrm>
                <a:off x="2234160" y="21970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118960" y="274788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135160" y="2762280"/>
                <a:ext cx="614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0" name=""/>
            <p:cNvSpPr/>
            <p:nvPr/>
          </p:nvSpPr>
          <p:spPr>
            <a:xfrm>
              <a:off x="2766600" y="2441520"/>
              <a:ext cx="187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n + 2)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1" name=""/>
            <p:cNvGrpSpPr/>
            <p:nvPr/>
          </p:nvGrpSpPr>
          <p:grpSpPr>
            <a:xfrm>
              <a:off x="4770360" y="2198520"/>
              <a:ext cx="431640" cy="1130760"/>
              <a:chOff x="4770360" y="2198520"/>
              <a:chExt cx="431640" cy="1130760"/>
            </a:xfrm>
          </p:grpSpPr>
          <p:sp>
            <p:nvSpPr>
              <p:cNvPr id="742" name=""/>
              <p:cNvSpPr/>
              <p:nvPr/>
            </p:nvSpPr>
            <p:spPr>
              <a:xfrm>
                <a:off x="4778640" y="21985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779000" y="27478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4770360" y="2761920"/>
                <a:ext cx="43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>
              <a:off x="5241240" y="2441520"/>
              <a:ext cx="172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2n – 3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833400" y="3757680"/>
            <a:ext cx="7437600" cy="1135080"/>
            <a:chOff x="833400" y="3757680"/>
            <a:chExt cx="7437600" cy="1135080"/>
          </a:xfrm>
        </p:grpSpPr>
        <p:grpSp>
          <p:nvGrpSpPr>
            <p:cNvPr id="747" name=""/>
            <p:cNvGrpSpPr/>
            <p:nvPr/>
          </p:nvGrpSpPr>
          <p:grpSpPr>
            <a:xfrm>
              <a:off x="2120760" y="3759120"/>
              <a:ext cx="646920" cy="1132200"/>
              <a:chOff x="2120760" y="3759120"/>
              <a:chExt cx="646920" cy="1132200"/>
            </a:xfrm>
          </p:grpSpPr>
          <p:sp>
            <p:nvSpPr>
              <p:cNvPr id="748" name=""/>
              <p:cNvSpPr/>
              <p:nvPr/>
            </p:nvSpPr>
            <p:spPr>
              <a:xfrm>
                <a:off x="2235960" y="37591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120760" y="430992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136960" y="4324320"/>
                <a:ext cx="614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2768400" y="4003560"/>
              <a:ext cx="187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n + 2)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6072120" y="3760560"/>
              <a:ext cx="431640" cy="1130760"/>
              <a:chOff x="6072120" y="3760560"/>
              <a:chExt cx="431640" cy="1130760"/>
            </a:xfrm>
          </p:grpSpPr>
          <p:sp>
            <p:nvSpPr>
              <p:cNvPr id="753" name=""/>
              <p:cNvSpPr/>
              <p:nvPr/>
            </p:nvSpPr>
            <p:spPr>
              <a:xfrm>
                <a:off x="6080400" y="37605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080760" y="43099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072120" y="4323960"/>
                <a:ext cx="43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6543360" y="4003560"/>
              <a:ext cx="172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2n – 3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833400" y="3757680"/>
              <a:ext cx="717480" cy="1133640"/>
              <a:chOff x="833400" y="3757680"/>
              <a:chExt cx="717480" cy="1133640"/>
            </a:xfrm>
          </p:grpSpPr>
          <p:sp>
            <p:nvSpPr>
              <p:cNvPr id="758" name=""/>
              <p:cNvSpPr/>
              <p:nvPr/>
            </p:nvSpPr>
            <p:spPr>
              <a:xfrm>
                <a:off x="868320" y="375768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3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985680" y="43099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33400" y="4322520"/>
                <a:ext cx="71748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>
              <a:off x="1663560" y="400356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4761000" y="3759120"/>
              <a:ext cx="717480" cy="1133640"/>
              <a:chOff x="4761000" y="3759120"/>
              <a:chExt cx="717480" cy="1133640"/>
            </a:xfrm>
          </p:grpSpPr>
          <p:sp>
            <p:nvSpPr>
              <p:cNvPr id="763" name=""/>
              <p:cNvSpPr/>
              <p:nvPr/>
            </p:nvSpPr>
            <p:spPr>
              <a:xfrm>
                <a:off x="4795920" y="375912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3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913280" y="43113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761000" y="4323960"/>
                <a:ext cx="71748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6" name=""/>
            <p:cNvSpPr/>
            <p:nvPr/>
          </p:nvSpPr>
          <p:spPr>
            <a:xfrm>
              <a:off x="5590800" y="400356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831960" y="5295960"/>
            <a:ext cx="3814920" cy="1133640"/>
            <a:chOff x="831960" y="5295960"/>
            <a:chExt cx="3814920" cy="1133640"/>
          </a:xfrm>
        </p:grpSpPr>
        <p:grpSp>
          <p:nvGrpSpPr>
            <p:cNvPr id="768" name=""/>
            <p:cNvGrpSpPr/>
            <p:nvPr/>
          </p:nvGrpSpPr>
          <p:grpSpPr>
            <a:xfrm>
              <a:off x="2118960" y="5297400"/>
              <a:ext cx="646920" cy="1132200"/>
              <a:chOff x="2118960" y="5297400"/>
              <a:chExt cx="646920" cy="1132200"/>
            </a:xfrm>
          </p:grpSpPr>
          <p:sp>
            <p:nvSpPr>
              <p:cNvPr id="769" name=""/>
              <p:cNvSpPr/>
              <p:nvPr/>
            </p:nvSpPr>
            <p:spPr>
              <a:xfrm>
                <a:off x="2234520" y="52974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118960" y="584820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135160" y="5862600"/>
                <a:ext cx="614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2" name=""/>
            <p:cNvSpPr/>
            <p:nvPr/>
          </p:nvSpPr>
          <p:spPr>
            <a:xfrm>
              <a:off x="2766960" y="5541840"/>
              <a:ext cx="187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n + 2)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3" name=""/>
            <p:cNvGrpSpPr/>
            <p:nvPr/>
          </p:nvGrpSpPr>
          <p:grpSpPr>
            <a:xfrm>
              <a:off x="831960" y="5295960"/>
              <a:ext cx="717480" cy="1133640"/>
              <a:chOff x="831960" y="5295960"/>
              <a:chExt cx="717480" cy="1133640"/>
            </a:xfrm>
          </p:grpSpPr>
          <p:sp>
            <p:nvSpPr>
              <p:cNvPr id="774" name=""/>
              <p:cNvSpPr/>
              <p:nvPr/>
            </p:nvSpPr>
            <p:spPr>
              <a:xfrm>
                <a:off x="866880" y="529596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3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984240" y="58482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31960" y="5860800"/>
                <a:ext cx="71748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7" name=""/>
            <p:cNvSpPr/>
            <p:nvPr/>
          </p:nvSpPr>
          <p:spPr>
            <a:xfrm>
              <a:off x="1661760" y="554184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4759200" y="5297400"/>
            <a:ext cx="3510000" cy="1133640"/>
            <a:chOff x="4759200" y="5297400"/>
            <a:chExt cx="3510000" cy="1133640"/>
          </a:xfrm>
        </p:grpSpPr>
        <p:grpSp>
          <p:nvGrpSpPr>
            <p:cNvPr id="779" name=""/>
            <p:cNvGrpSpPr/>
            <p:nvPr/>
          </p:nvGrpSpPr>
          <p:grpSpPr>
            <a:xfrm>
              <a:off x="6070320" y="5298840"/>
              <a:ext cx="431640" cy="1130760"/>
              <a:chOff x="6070320" y="5298840"/>
              <a:chExt cx="431640" cy="1130760"/>
            </a:xfrm>
          </p:grpSpPr>
          <p:sp>
            <p:nvSpPr>
              <p:cNvPr id="780" name=""/>
              <p:cNvSpPr/>
              <p:nvPr/>
            </p:nvSpPr>
            <p:spPr>
              <a:xfrm>
                <a:off x="6078600" y="52988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078960" y="58482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070320" y="5862240"/>
                <a:ext cx="43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6541560" y="5541840"/>
              <a:ext cx="172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2n – 3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4759200" y="5297400"/>
              <a:ext cx="717480" cy="1133640"/>
              <a:chOff x="4759200" y="5297400"/>
              <a:chExt cx="717480" cy="1133640"/>
            </a:xfrm>
          </p:grpSpPr>
          <p:sp>
            <p:nvSpPr>
              <p:cNvPr id="785" name=""/>
              <p:cNvSpPr/>
              <p:nvPr/>
            </p:nvSpPr>
            <p:spPr>
              <a:xfrm>
                <a:off x="4794120" y="529740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3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911480" y="58496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759200" y="5862240"/>
                <a:ext cx="71748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8" name=""/>
            <p:cNvSpPr/>
            <p:nvPr/>
          </p:nvSpPr>
          <p:spPr>
            <a:xfrm>
              <a:off x="5589000" y="554184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9" name=""/>
          <p:cNvSpPr/>
          <p:nvPr/>
        </p:nvSpPr>
        <p:spPr>
          <a:xfrm>
            <a:off x="6675120" y="3224160"/>
            <a:ext cx="192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LCD is 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4502520" y="5065560"/>
            <a:ext cx="2162880" cy="1477440"/>
            <a:chOff x="4502520" y="5065560"/>
            <a:chExt cx="2162880" cy="1477440"/>
          </a:xfrm>
        </p:grpSpPr>
        <p:grpSp>
          <p:nvGrpSpPr>
            <p:cNvPr id="791" name=""/>
            <p:cNvGrpSpPr/>
            <p:nvPr/>
          </p:nvGrpSpPr>
          <p:grpSpPr>
            <a:xfrm>
              <a:off x="4833720" y="5399280"/>
              <a:ext cx="1751400" cy="920520"/>
              <a:chOff x="4833720" y="5399280"/>
              <a:chExt cx="1751400" cy="920520"/>
            </a:xfrm>
          </p:grpSpPr>
          <p:sp>
            <p:nvSpPr>
              <p:cNvPr id="792" name=""/>
              <p:cNvSpPr/>
              <p:nvPr/>
            </p:nvSpPr>
            <p:spPr>
              <a:xfrm flipV="1">
                <a:off x="4833720" y="5399280"/>
                <a:ext cx="584640" cy="382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V="1">
                <a:off x="6000480" y="5937480"/>
                <a:ext cx="584640" cy="382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4" name=""/>
            <p:cNvSpPr/>
            <p:nvPr/>
          </p:nvSpPr>
          <p:spPr>
            <a:xfrm>
              <a:off x="6310800" y="6083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02520" y="50655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723600" y="5064120"/>
            <a:ext cx="2160360" cy="1480320"/>
            <a:chOff x="723600" y="5064120"/>
            <a:chExt cx="2160360" cy="1480320"/>
          </a:xfrm>
        </p:grpSpPr>
        <p:grpSp>
          <p:nvGrpSpPr>
            <p:cNvPr id="797" name=""/>
            <p:cNvGrpSpPr/>
            <p:nvPr/>
          </p:nvGrpSpPr>
          <p:grpSpPr>
            <a:xfrm>
              <a:off x="866520" y="5399280"/>
              <a:ext cx="1837080" cy="920160"/>
              <a:chOff x="866520" y="5399280"/>
              <a:chExt cx="1837080" cy="920160"/>
            </a:xfrm>
          </p:grpSpPr>
          <p:sp>
            <p:nvSpPr>
              <p:cNvPr id="798" name=""/>
              <p:cNvSpPr/>
              <p:nvPr/>
            </p:nvSpPr>
            <p:spPr>
              <a:xfrm flipV="1">
                <a:off x="866520" y="5399280"/>
                <a:ext cx="584640" cy="382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V="1">
                <a:off x="2118960" y="5936760"/>
                <a:ext cx="584640" cy="3826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0" name=""/>
            <p:cNvSpPr/>
            <p:nvPr/>
          </p:nvSpPr>
          <p:spPr>
            <a:xfrm>
              <a:off x="723600" y="5064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529360" y="6084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2957400" y="609480"/>
            <a:ext cx="375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"/>
          <p:cNvGrpSpPr/>
          <p:nvPr/>
        </p:nvGrpSpPr>
        <p:grpSpPr>
          <a:xfrm>
            <a:off x="1875960" y="1682640"/>
            <a:ext cx="5378040" cy="642600"/>
            <a:chOff x="1875960" y="1682640"/>
            <a:chExt cx="5378040" cy="642600"/>
          </a:xfrm>
        </p:grpSpPr>
        <p:sp>
          <p:nvSpPr>
            <p:cNvPr id="804" name=""/>
            <p:cNvSpPr/>
            <p:nvPr/>
          </p:nvSpPr>
          <p:spPr>
            <a:xfrm>
              <a:off x="1875960" y="1682640"/>
              <a:ext cx="111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3 •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892960" y="1682640"/>
              <a:ext cx="436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n + 2) =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10 •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2n –3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2327760" y="2863800"/>
            <a:ext cx="44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7(n + 2) = 10(2n –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2288520" y="4098960"/>
            <a:ext cx="2117880" cy="1239480"/>
            <a:chOff x="2288520" y="4098960"/>
            <a:chExt cx="2117880" cy="1239480"/>
          </a:xfrm>
        </p:grpSpPr>
        <p:sp>
          <p:nvSpPr>
            <p:cNvPr id="808" name=""/>
            <p:cNvSpPr/>
            <p:nvPr/>
          </p:nvSpPr>
          <p:spPr>
            <a:xfrm>
              <a:off x="2395440" y="4098960"/>
              <a:ext cx="201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7n + 5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288520" y="4695840"/>
              <a:ext cx="2044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-20n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600" spc="-1" strike="noStrike">
                  <a:solidFill>
                    <a:srgbClr val="9900cc"/>
                  </a:solidFill>
                  <a:latin typeface="Comic Sans MS"/>
                </a:rPr>
                <a:t>- 5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4451400" y="4098960"/>
            <a:ext cx="2455560" cy="1239480"/>
            <a:chOff x="4451400" y="4098960"/>
            <a:chExt cx="2455560" cy="1239480"/>
          </a:xfrm>
        </p:grpSpPr>
        <p:sp>
          <p:nvSpPr>
            <p:cNvPr id="811" name=""/>
            <p:cNvSpPr/>
            <p:nvPr/>
          </p:nvSpPr>
          <p:spPr>
            <a:xfrm>
              <a:off x="4896000" y="4098960"/>
              <a:ext cx="201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0n + 3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4320" y="4695840"/>
              <a:ext cx="2044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-20n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600" spc="-1" strike="noStrike">
                  <a:solidFill>
                    <a:srgbClr val="9900cc"/>
                  </a:solidFill>
                  <a:latin typeface="Comic Sans MS"/>
                </a:rPr>
                <a:t>- 5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451400" y="40989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2384280" y="5322960"/>
            <a:ext cx="4534200" cy="644040"/>
            <a:chOff x="2384280" y="5322960"/>
            <a:chExt cx="4534200" cy="644040"/>
          </a:xfrm>
        </p:grpSpPr>
        <p:sp>
          <p:nvSpPr>
            <p:cNvPr id="815" name=""/>
            <p:cNvSpPr/>
            <p:nvPr/>
          </p:nvSpPr>
          <p:spPr>
            <a:xfrm>
              <a:off x="2384280" y="5337000"/>
              <a:ext cx="453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665800" y="53244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7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451400" y="53244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15600" y="5322960"/>
              <a:ext cx="8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8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2957400" y="609480"/>
            <a:ext cx="375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"/>
          <p:cNvGrpSpPr/>
          <p:nvPr/>
        </p:nvGrpSpPr>
        <p:grpSpPr>
          <a:xfrm>
            <a:off x="3111840" y="3025800"/>
            <a:ext cx="1632240" cy="1136880"/>
            <a:chOff x="3111840" y="3025800"/>
            <a:chExt cx="1632240" cy="1136880"/>
          </a:xfrm>
        </p:grpSpPr>
        <p:sp>
          <p:nvSpPr>
            <p:cNvPr id="821" name=""/>
            <p:cNvSpPr/>
            <p:nvPr/>
          </p:nvSpPr>
          <p:spPr>
            <a:xfrm>
              <a:off x="3111840" y="3273480"/>
              <a:ext cx="84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n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2" name=""/>
            <p:cNvGrpSpPr/>
            <p:nvPr/>
          </p:nvGrpSpPr>
          <p:grpSpPr>
            <a:xfrm>
              <a:off x="3966120" y="3025800"/>
              <a:ext cx="777960" cy="1136880"/>
              <a:chOff x="3966120" y="3025800"/>
              <a:chExt cx="777960" cy="1136880"/>
            </a:xfrm>
          </p:grpSpPr>
          <p:sp>
            <p:nvSpPr>
              <p:cNvPr id="823" name=""/>
              <p:cNvSpPr/>
              <p:nvPr/>
            </p:nvSpPr>
            <p:spPr>
              <a:xfrm>
                <a:off x="3966120" y="3025800"/>
                <a:ext cx="777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-8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149000" y="35812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048200" y="3591000"/>
                <a:ext cx="614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6" name=""/>
          <p:cNvSpPr/>
          <p:nvPr/>
        </p:nvSpPr>
        <p:spPr>
          <a:xfrm>
            <a:off x="4764240" y="32716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= -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957400" y="609480"/>
            <a:ext cx="375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45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14320" y="1447920"/>
            <a:ext cx="75265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When you finish this unit, you will be able to 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33600" y="2797200"/>
            <a:ext cx="500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the LCD to simplify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3838680" y="127800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2126880" y="2340000"/>
            <a:ext cx="4849920" cy="1132200"/>
            <a:chOff x="2126880" y="2340000"/>
            <a:chExt cx="4849920" cy="1132200"/>
          </a:xfrm>
        </p:grpSpPr>
        <p:grpSp>
          <p:nvGrpSpPr>
            <p:cNvPr id="830" name=""/>
            <p:cNvGrpSpPr/>
            <p:nvPr/>
          </p:nvGrpSpPr>
          <p:grpSpPr>
            <a:xfrm>
              <a:off x="2126880" y="2340000"/>
              <a:ext cx="646920" cy="1132200"/>
              <a:chOff x="2126880" y="2340000"/>
              <a:chExt cx="646920" cy="1132200"/>
            </a:xfrm>
          </p:grpSpPr>
          <p:sp>
            <p:nvSpPr>
              <p:cNvPr id="831" name=""/>
              <p:cNvSpPr/>
              <p:nvPr/>
            </p:nvSpPr>
            <p:spPr>
              <a:xfrm>
                <a:off x="2242080" y="23400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126880" y="289080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143080" y="2905200"/>
                <a:ext cx="614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4" name=""/>
            <p:cNvSpPr/>
            <p:nvPr/>
          </p:nvSpPr>
          <p:spPr>
            <a:xfrm>
              <a:off x="2774520" y="2584440"/>
              <a:ext cx="187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n + 2)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"/>
            <p:cNvGrpSpPr/>
            <p:nvPr/>
          </p:nvGrpSpPr>
          <p:grpSpPr>
            <a:xfrm>
              <a:off x="4778280" y="2341440"/>
              <a:ext cx="431640" cy="1130760"/>
              <a:chOff x="4778280" y="2341440"/>
              <a:chExt cx="431640" cy="1130760"/>
            </a:xfrm>
          </p:grpSpPr>
          <p:sp>
            <p:nvSpPr>
              <p:cNvPr id="836" name=""/>
              <p:cNvSpPr/>
              <p:nvPr/>
            </p:nvSpPr>
            <p:spPr>
              <a:xfrm>
                <a:off x="4786560" y="23414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786920" y="28908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778280" y="2904840"/>
                <a:ext cx="43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9" name=""/>
            <p:cNvSpPr/>
            <p:nvPr/>
          </p:nvSpPr>
          <p:spPr>
            <a:xfrm>
              <a:off x="5249160" y="2584440"/>
              <a:ext cx="172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2n – 3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3659400" y="400068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 = -12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1461600" y="5167440"/>
            <a:ext cx="6137280" cy="1132200"/>
            <a:chOff x="1461600" y="5167440"/>
            <a:chExt cx="6137280" cy="1132200"/>
          </a:xfrm>
        </p:grpSpPr>
        <p:grpSp>
          <p:nvGrpSpPr>
            <p:cNvPr id="842" name=""/>
            <p:cNvGrpSpPr/>
            <p:nvPr/>
          </p:nvGrpSpPr>
          <p:grpSpPr>
            <a:xfrm>
              <a:off x="1461600" y="5167440"/>
              <a:ext cx="646920" cy="1132200"/>
              <a:chOff x="1461600" y="5167440"/>
              <a:chExt cx="646920" cy="1132200"/>
            </a:xfrm>
          </p:grpSpPr>
          <p:sp>
            <p:nvSpPr>
              <p:cNvPr id="843" name=""/>
              <p:cNvSpPr/>
              <p:nvPr/>
            </p:nvSpPr>
            <p:spPr>
              <a:xfrm>
                <a:off x="1577160" y="51674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461600" y="571824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477800" y="5732640"/>
                <a:ext cx="614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6" name=""/>
            <p:cNvSpPr/>
            <p:nvPr/>
          </p:nvSpPr>
          <p:spPr>
            <a:xfrm>
              <a:off x="2132640" y="5411520"/>
              <a:ext cx="227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-12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+ 2)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7" name=""/>
            <p:cNvGrpSpPr/>
            <p:nvPr/>
          </p:nvGrpSpPr>
          <p:grpSpPr>
            <a:xfrm>
              <a:off x="4556160" y="5168520"/>
              <a:ext cx="431640" cy="1130760"/>
              <a:chOff x="4556160" y="5168520"/>
              <a:chExt cx="431640" cy="1130760"/>
            </a:xfrm>
          </p:grpSpPr>
          <p:sp>
            <p:nvSpPr>
              <p:cNvPr id="848" name=""/>
              <p:cNvSpPr/>
              <p:nvPr/>
            </p:nvSpPr>
            <p:spPr>
              <a:xfrm>
                <a:off x="4564440" y="51685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564800" y="57178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556160" y="5731920"/>
                <a:ext cx="43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1" name=""/>
            <p:cNvSpPr/>
            <p:nvPr/>
          </p:nvSpPr>
          <p:spPr>
            <a:xfrm>
              <a:off x="5070960" y="5411520"/>
              <a:ext cx="252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2 •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-12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– 3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57400" y="609480"/>
            <a:ext cx="375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"/>
          <p:cNvGrpSpPr/>
          <p:nvPr/>
        </p:nvGrpSpPr>
        <p:grpSpPr>
          <a:xfrm>
            <a:off x="2550960" y="1320840"/>
            <a:ext cx="2174040" cy="1132200"/>
            <a:chOff x="2550960" y="1320840"/>
            <a:chExt cx="2174040" cy="1132200"/>
          </a:xfrm>
        </p:grpSpPr>
        <p:grpSp>
          <p:nvGrpSpPr>
            <p:cNvPr id="854" name=""/>
            <p:cNvGrpSpPr/>
            <p:nvPr/>
          </p:nvGrpSpPr>
          <p:grpSpPr>
            <a:xfrm>
              <a:off x="2550960" y="1320840"/>
              <a:ext cx="646920" cy="1132200"/>
              <a:chOff x="2550960" y="1320840"/>
              <a:chExt cx="646920" cy="1132200"/>
            </a:xfrm>
          </p:grpSpPr>
          <p:sp>
            <p:nvSpPr>
              <p:cNvPr id="855" name=""/>
              <p:cNvSpPr/>
              <p:nvPr/>
            </p:nvSpPr>
            <p:spPr>
              <a:xfrm>
                <a:off x="2666160" y="13208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550960" y="187164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567160" y="1886040"/>
                <a:ext cx="614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"/>
            <p:cNvSpPr/>
            <p:nvPr/>
          </p:nvSpPr>
          <p:spPr>
            <a:xfrm>
              <a:off x="3216960" y="1565280"/>
              <a:ext cx="150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-10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)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4873680" y="1322280"/>
            <a:ext cx="1636200" cy="1130760"/>
            <a:chOff x="4873680" y="1322280"/>
            <a:chExt cx="1636200" cy="1130760"/>
          </a:xfrm>
        </p:grpSpPr>
        <p:grpSp>
          <p:nvGrpSpPr>
            <p:cNvPr id="860" name=""/>
            <p:cNvGrpSpPr/>
            <p:nvPr/>
          </p:nvGrpSpPr>
          <p:grpSpPr>
            <a:xfrm>
              <a:off x="4873680" y="1322280"/>
              <a:ext cx="431640" cy="1130760"/>
              <a:chOff x="4873680" y="1322280"/>
              <a:chExt cx="431640" cy="1130760"/>
            </a:xfrm>
          </p:grpSpPr>
          <p:sp>
            <p:nvSpPr>
              <p:cNvPr id="861" name=""/>
              <p:cNvSpPr/>
              <p:nvPr/>
            </p:nvSpPr>
            <p:spPr>
              <a:xfrm>
                <a:off x="4881960" y="13222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882320" y="18716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873680" y="1885680"/>
                <a:ext cx="43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4" name=""/>
            <p:cNvSpPr/>
            <p:nvPr/>
          </p:nvSpPr>
          <p:spPr>
            <a:xfrm>
              <a:off x="5382720" y="1565280"/>
              <a:ext cx="112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-27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2496960" y="2911320"/>
            <a:ext cx="1925280" cy="1138320"/>
            <a:chOff x="2496960" y="2911320"/>
            <a:chExt cx="1925280" cy="1138320"/>
          </a:xfrm>
        </p:grpSpPr>
        <p:grpSp>
          <p:nvGrpSpPr>
            <p:cNvPr id="866" name=""/>
            <p:cNvGrpSpPr/>
            <p:nvPr/>
          </p:nvGrpSpPr>
          <p:grpSpPr>
            <a:xfrm>
              <a:off x="2496960" y="2914200"/>
              <a:ext cx="646920" cy="1132200"/>
              <a:chOff x="2496960" y="2914200"/>
              <a:chExt cx="646920" cy="1132200"/>
            </a:xfrm>
          </p:grpSpPr>
          <p:sp>
            <p:nvSpPr>
              <p:cNvPr id="867" name=""/>
              <p:cNvSpPr/>
              <p:nvPr/>
            </p:nvSpPr>
            <p:spPr>
              <a:xfrm>
                <a:off x="2612160" y="29142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496960" y="346500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513160" y="3479400"/>
                <a:ext cx="614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3644280" y="2911320"/>
              <a:ext cx="777960" cy="1138320"/>
              <a:chOff x="3644280" y="2911320"/>
              <a:chExt cx="777960" cy="1138320"/>
            </a:xfrm>
          </p:grpSpPr>
          <p:sp>
            <p:nvSpPr>
              <p:cNvPr id="871" name=""/>
              <p:cNvSpPr/>
              <p:nvPr/>
            </p:nvSpPr>
            <p:spPr>
              <a:xfrm>
                <a:off x="3644280" y="2911320"/>
                <a:ext cx="777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-1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825720" y="34682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727080" y="3482640"/>
                <a:ext cx="614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>
              <a:off x="3234600" y="315864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4430880" y="2913120"/>
            <a:ext cx="2334240" cy="1138320"/>
            <a:chOff x="4430880" y="2913120"/>
            <a:chExt cx="2334240" cy="1138320"/>
          </a:xfrm>
        </p:grpSpPr>
        <p:grpSp>
          <p:nvGrpSpPr>
            <p:cNvPr id="876" name=""/>
            <p:cNvGrpSpPr/>
            <p:nvPr/>
          </p:nvGrpSpPr>
          <p:grpSpPr>
            <a:xfrm>
              <a:off x="4977000" y="2913120"/>
              <a:ext cx="1788120" cy="1138320"/>
              <a:chOff x="4977000" y="2913120"/>
              <a:chExt cx="1788120" cy="1138320"/>
            </a:xfrm>
          </p:grpSpPr>
          <p:grpSp>
            <p:nvGrpSpPr>
              <p:cNvPr id="877" name=""/>
              <p:cNvGrpSpPr/>
              <p:nvPr/>
            </p:nvGrpSpPr>
            <p:grpSpPr>
              <a:xfrm>
                <a:off x="4977000" y="2916360"/>
                <a:ext cx="431640" cy="1130760"/>
                <a:chOff x="4977000" y="2916360"/>
                <a:chExt cx="431640" cy="113076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4985280" y="29163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4985640" y="346572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4977000" y="3479760"/>
                  <a:ext cx="431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1" name=""/>
              <p:cNvGrpSpPr/>
              <p:nvPr/>
            </p:nvGrpSpPr>
            <p:grpSpPr>
              <a:xfrm>
                <a:off x="5985000" y="2913120"/>
                <a:ext cx="780120" cy="1138320"/>
                <a:chOff x="5985000" y="2913120"/>
                <a:chExt cx="780120" cy="1138320"/>
              </a:xfrm>
            </p:grpSpPr>
            <p:sp>
              <p:nvSpPr>
                <p:cNvPr id="882" name=""/>
                <p:cNvSpPr/>
                <p:nvPr/>
              </p:nvSpPr>
              <p:spPr>
                <a:xfrm>
                  <a:off x="5987160" y="2913120"/>
                  <a:ext cx="7779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-27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6085440" y="34700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5985000" y="3484440"/>
                  <a:ext cx="614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5" name=""/>
              <p:cNvSpPr/>
              <p:nvPr/>
            </p:nvSpPr>
            <p:spPr>
              <a:xfrm>
                <a:off x="5506920" y="3160800"/>
                <a:ext cx="35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•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6" name=""/>
            <p:cNvSpPr/>
            <p:nvPr/>
          </p:nvSpPr>
          <p:spPr>
            <a:xfrm>
              <a:off x="4430880" y="3159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3822480" y="4030560"/>
            <a:ext cx="1500480" cy="2004840"/>
            <a:chOff x="3822480" y="4030560"/>
            <a:chExt cx="1500480" cy="2004840"/>
          </a:xfrm>
        </p:grpSpPr>
        <p:sp>
          <p:nvSpPr>
            <p:cNvPr id="888" name=""/>
            <p:cNvSpPr/>
            <p:nvPr/>
          </p:nvSpPr>
          <p:spPr>
            <a:xfrm>
              <a:off x="4572000" y="4030560"/>
              <a:ext cx="0" cy="1016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822480" y="5392800"/>
              <a:ext cx="1500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9 = -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0" name="" descr=""/>
          <p:cNvPicPr/>
          <p:nvPr/>
        </p:nvPicPr>
        <p:blipFill>
          <a:blip r:embed="rId1"/>
          <a:stretch/>
        </p:blipFill>
        <p:spPr>
          <a:xfrm>
            <a:off x="6939000" y="5372280"/>
            <a:ext cx="1212840" cy="990360"/>
          </a:xfrm>
          <a:prstGeom prst="rect">
            <a:avLst/>
          </a:prstGeom>
          <a:ln w="0">
            <a:noFill/>
          </a:ln>
        </p:spPr>
      </p:pic>
      <p:sp>
        <p:nvSpPr>
          <p:cNvPr id="891" name=""/>
          <p:cNvSpPr/>
          <p:nvPr/>
        </p:nvSpPr>
        <p:spPr>
          <a:xfrm>
            <a:off x="2957400" y="609480"/>
            <a:ext cx="375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5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 txBox="1"/>
          <p:nvPr/>
        </p:nvSpPr>
        <p:spPr>
          <a:xfrm>
            <a:off x="500040" y="1887480"/>
            <a:ext cx="817236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Translating Sentences 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to Equations,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 </a:t>
            </a: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then Solving 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2843280" y="6094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921600" y="1393920"/>
            <a:ext cx="17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ngl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130360" y="1403280"/>
            <a:ext cx="296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th • spea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910800" y="2244600"/>
            <a:ext cx="4650840" cy="652320"/>
            <a:chOff x="910800" y="2244600"/>
            <a:chExt cx="4650840" cy="652320"/>
          </a:xfrm>
        </p:grpSpPr>
        <p:sp>
          <p:nvSpPr>
            <p:cNvPr id="897" name=""/>
            <p:cNvSpPr/>
            <p:nvPr/>
          </p:nvSpPr>
          <p:spPr>
            <a:xfrm>
              <a:off x="910800" y="2244600"/>
              <a:ext cx="284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the sum of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118840" y="22543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936360" y="3110040"/>
            <a:ext cx="4625280" cy="651960"/>
            <a:chOff x="936360" y="3110040"/>
            <a:chExt cx="4625280" cy="651960"/>
          </a:xfrm>
        </p:grpSpPr>
        <p:sp>
          <p:nvSpPr>
            <p:cNvPr id="900" name=""/>
            <p:cNvSpPr/>
            <p:nvPr/>
          </p:nvSpPr>
          <p:spPr>
            <a:xfrm>
              <a:off x="936360" y="3110040"/>
              <a:ext cx="240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split into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118840" y="31194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÷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954360" y="3970440"/>
            <a:ext cx="5317920" cy="651960"/>
            <a:chOff x="954360" y="3970440"/>
            <a:chExt cx="5317920" cy="651960"/>
          </a:xfrm>
        </p:grpSpPr>
        <p:sp>
          <p:nvSpPr>
            <p:cNvPr id="903" name=""/>
            <p:cNvSpPr/>
            <p:nvPr/>
          </p:nvSpPr>
          <p:spPr>
            <a:xfrm>
              <a:off x="954360" y="3970440"/>
              <a:ext cx="320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 less than x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201640" y="3979800"/>
              <a:ext cx="107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 - 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905040" y="4834080"/>
            <a:ext cx="4663800" cy="651960"/>
            <a:chOff x="905040" y="4834080"/>
            <a:chExt cx="4663800" cy="651960"/>
          </a:xfrm>
        </p:grpSpPr>
        <p:sp>
          <p:nvSpPr>
            <p:cNvPr id="906" name=""/>
            <p:cNvSpPr/>
            <p:nvPr/>
          </p:nvSpPr>
          <p:spPr>
            <a:xfrm>
              <a:off x="905040" y="4834080"/>
              <a:ext cx="357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is the same as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126040" y="4843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958680" y="5446800"/>
            <a:ext cx="5445360" cy="1134000"/>
            <a:chOff x="958680" y="5446800"/>
            <a:chExt cx="5445360" cy="1134000"/>
          </a:xfrm>
        </p:grpSpPr>
        <p:sp>
          <p:nvSpPr>
            <p:cNvPr id="909" name=""/>
            <p:cNvSpPr/>
            <p:nvPr/>
          </p:nvSpPr>
          <p:spPr>
            <a:xfrm>
              <a:off x="958680" y="5691240"/>
              <a:ext cx="291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one-half of 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0" name=""/>
            <p:cNvGrpSpPr/>
            <p:nvPr/>
          </p:nvGrpSpPr>
          <p:grpSpPr>
            <a:xfrm>
              <a:off x="5146920" y="5446800"/>
              <a:ext cx="1257120" cy="1134000"/>
              <a:chOff x="5146920" y="5446800"/>
              <a:chExt cx="1257120" cy="1134000"/>
            </a:xfrm>
          </p:grpSpPr>
          <p:sp>
            <p:nvSpPr>
              <p:cNvPr id="911" name=""/>
              <p:cNvSpPr/>
              <p:nvPr/>
            </p:nvSpPr>
            <p:spPr>
              <a:xfrm>
                <a:off x="5650200" y="5691240"/>
                <a:ext cx="753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• 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2" name=""/>
              <p:cNvGrpSpPr/>
              <p:nvPr/>
            </p:nvGrpSpPr>
            <p:grpSpPr>
              <a:xfrm>
                <a:off x="5146920" y="5446800"/>
                <a:ext cx="414720" cy="1134000"/>
                <a:chOff x="5146920" y="5446800"/>
                <a:chExt cx="414720" cy="113400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5146920" y="54468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5151600" y="6012000"/>
                  <a:ext cx="403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5147640" y="59994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538560" y="1558800"/>
            <a:ext cx="801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ree fifths of n is the same as 8 less than 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536400" y="1558800"/>
            <a:ext cx="3027600" cy="1718280"/>
            <a:chOff x="536400" y="1558800"/>
            <a:chExt cx="3027600" cy="1718280"/>
          </a:xfrm>
        </p:grpSpPr>
        <p:sp>
          <p:nvSpPr>
            <p:cNvPr id="918" name=""/>
            <p:cNvSpPr/>
            <p:nvPr/>
          </p:nvSpPr>
          <p:spPr>
            <a:xfrm>
              <a:off x="536400" y="1558800"/>
              <a:ext cx="3027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ff"/>
                  </a:solidFill>
                  <a:latin typeface="Comic Sans MS"/>
                </a:rPr>
                <a:t>Three fifths of 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9" name=""/>
            <p:cNvGrpSpPr/>
            <p:nvPr/>
          </p:nvGrpSpPr>
          <p:grpSpPr>
            <a:xfrm>
              <a:off x="1414440" y="2143080"/>
              <a:ext cx="1279440" cy="1134000"/>
              <a:chOff x="1414440" y="2143080"/>
              <a:chExt cx="1279440" cy="1134000"/>
            </a:xfrm>
          </p:grpSpPr>
          <p:sp>
            <p:nvSpPr>
              <p:cNvPr id="920" name=""/>
              <p:cNvSpPr/>
              <p:nvPr/>
            </p:nvSpPr>
            <p:spPr>
              <a:xfrm>
                <a:off x="1424880" y="26956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423440" y="21430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1414440" y="2708280"/>
                <a:ext cx="4320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940040" y="2389320"/>
                <a:ext cx="753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• 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4" name=""/>
          <p:cNvGrpSpPr/>
          <p:nvPr/>
        </p:nvGrpSpPr>
        <p:grpSpPr>
          <a:xfrm>
            <a:off x="3595320" y="1558800"/>
            <a:ext cx="2712240" cy="1473120"/>
            <a:chOff x="3595320" y="1558800"/>
            <a:chExt cx="2712240" cy="1473120"/>
          </a:xfrm>
        </p:grpSpPr>
        <p:sp>
          <p:nvSpPr>
            <p:cNvPr id="925" name=""/>
            <p:cNvSpPr/>
            <p:nvPr/>
          </p:nvSpPr>
          <p:spPr>
            <a:xfrm>
              <a:off x="3595320" y="1558800"/>
              <a:ext cx="2712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ff"/>
                  </a:solidFill>
                  <a:latin typeface="Comic Sans MS"/>
                </a:rPr>
                <a:t>is the same a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729320" y="23893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6228000" y="1558800"/>
            <a:ext cx="2434680" cy="1473120"/>
            <a:chOff x="6228000" y="1558800"/>
            <a:chExt cx="2434680" cy="1473120"/>
          </a:xfrm>
        </p:grpSpPr>
        <p:sp>
          <p:nvSpPr>
            <p:cNvPr id="928" name=""/>
            <p:cNvSpPr/>
            <p:nvPr/>
          </p:nvSpPr>
          <p:spPr>
            <a:xfrm>
              <a:off x="6228000" y="1558800"/>
              <a:ext cx="2434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ff"/>
                  </a:solidFill>
                  <a:latin typeface="Comic Sans MS"/>
                </a:rPr>
                <a:t>8 less than 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890760" y="2389320"/>
              <a:ext cx="1110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n - 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3384720" y="2979720"/>
            <a:ext cx="2350080" cy="1133640"/>
            <a:chOff x="3384720" y="2979720"/>
            <a:chExt cx="2350080" cy="1133640"/>
          </a:xfrm>
        </p:grpSpPr>
        <p:grpSp>
          <p:nvGrpSpPr>
            <p:cNvPr id="931" name=""/>
            <p:cNvGrpSpPr/>
            <p:nvPr/>
          </p:nvGrpSpPr>
          <p:grpSpPr>
            <a:xfrm>
              <a:off x="3384720" y="2979720"/>
              <a:ext cx="876240" cy="1133640"/>
              <a:chOff x="3384720" y="2979720"/>
              <a:chExt cx="876240" cy="1133640"/>
            </a:xfrm>
          </p:grpSpPr>
          <p:sp>
            <p:nvSpPr>
              <p:cNvPr id="932" name=""/>
              <p:cNvSpPr/>
              <p:nvPr/>
            </p:nvSpPr>
            <p:spPr>
              <a:xfrm>
                <a:off x="3394440" y="35319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393360" y="29797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384720" y="3544560"/>
                <a:ext cx="43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798360" y="3225600"/>
                <a:ext cx="462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6" name=""/>
            <p:cNvSpPr/>
            <p:nvPr/>
          </p:nvSpPr>
          <p:spPr>
            <a:xfrm>
              <a:off x="4243320" y="3242880"/>
              <a:ext cx="149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n - 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2419200" y="4070520"/>
            <a:ext cx="4326120" cy="1134000"/>
            <a:chOff x="2419200" y="4070520"/>
            <a:chExt cx="4326120" cy="1134000"/>
          </a:xfrm>
        </p:grpSpPr>
        <p:grpSp>
          <p:nvGrpSpPr>
            <p:cNvPr id="938" name=""/>
            <p:cNvGrpSpPr/>
            <p:nvPr/>
          </p:nvGrpSpPr>
          <p:grpSpPr>
            <a:xfrm>
              <a:off x="2419200" y="4070520"/>
              <a:ext cx="1970280" cy="1134000"/>
              <a:chOff x="2419200" y="4070520"/>
              <a:chExt cx="1970280" cy="1134000"/>
            </a:xfrm>
          </p:grpSpPr>
          <p:sp>
            <p:nvSpPr>
              <p:cNvPr id="939" name=""/>
              <p:cNvSpPr/>
              <p:nvPr/>
            </p:nvSpPr>
            <p:spPr>
              <a:xfrm>
                <a:off x="2429640" y="46231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2427840" y="40705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419200" y="4635720"/>
                <a:ext cx="43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797200" y="4316760"/>
                <a:ext cx="1592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n – 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1n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3" name=""/>
            <p:cNvSpPr/>
            <p:nvPr/>
          </p:nvSpPr>
          <p:spPr>
            <a:xfrm>
              <a:off x="4243680" y="4321440"/>
              <a:ext cx="250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n –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1n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- 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4" name=""/>
          <p:cNvGrpSpPr/>
          <p:nvPr/>
        </p:nvGrpSpPr>
        <p:grpSpPr>
          <a:xfrm>
            <a:off x="2886120" y="5294160"/>
            <a:ext cx="3333240" cy="1133640"/>
            <a:chOff x="2886120" y="5294160"/>
            <a:chExt cx="3333240" cy="1133640"/>
          </a:xfrm>
        </p:grpSpPr>
        <p:grpSp>
          <p:nvGrpSpPr>
            <p:cNvPr id="945" name=""/>
            <p:cNvGrpSpPr/>
            <p:nvPr/>
          </p:nvGrpSpPr>
          <p:grpSpPr>
            <a:xfrm>
              <a:off x="2886120" y="5294160"/>
              <a:ext cx="876600" cy="1133640"/>
              <a:chOff x="2886120" y="5294160"/>
              <a:chExt cx="876600" cy="1133640"/>
            </a:xfrm>
          </p:grpSpPr>
          <p:sp>
            <p:nvSpPr>
              <p:cNvPr id="946" name=""/>
              <p:cNvSpPr/>
              <p:nvPr/>
            </p:nvSpPr>
            <p:spPr>
              <a:xfrm>
                <a:off x="2896560" y="58464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894760" y="52941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886120" y="5859000"/>
                <a:ext cx="43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300120" y="5540040"/>
                <a:ext cx="462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0" name=""/>
            <p:cNvSpPr/>
            <p:nvPr/>
          </p:nvSpPr>
          <p:spPr>
            <a:xfrm>
              <a:off x="5128920" y="5540040"/>
              <a:ext cx="109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- 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1" name=""/>
            <p:cNvGrpSpPr/>
            <p:nvPr/>
          </p:nvGrpSpPr>
          <p:grpSpPr>
            <a:xfrm>
              <a:off x="4236840" y="5294160"/>
              <a:ext cx="876240" cy="1133640"/>
              <a:chOff x="4236840" y="5294160"/>
              <a:chExt cx="876240" cy="1133640"/>
            </a:xfrm>
          </p:grpSpPr>
          <p:sp>
            <p:nvSpPr>
              <p:cNvPr id="952" name=""/>
              <p:cNvSpPr/>
              <p:nvPr/>
            </p:nvSpPr>
            <p:spPr>
              <a:xfrm>
                <a:off x="4246920" y="58464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4245480" y="52941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236840" y="5859000"/>
                <a:ext cx="4316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650480" y="5540040"/>
                <a:ext cx="462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>
              <a:off x="3760920" y="5538600"/>
              <a:ext cx="32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7" name=""/>
          <p:cNvSpPr/>
          <p:nvPr/>
        </p:nvSpPr>
        <p:spPr>
          <a:xfrm>
            <a:off x="2843280" y="6094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2843280" y="6094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2894040" y="1265400"/>
            <a:ext cx="3333240" cy="1133640"/>
            <a:chOff x="2894040" y="1265400"/>
            <a:chExt cx="3333240" cy="1133640"/>
          </a:xfrm>
        </p:grpSpPr>
        <p:grpSp>
          <p:nvGrpSpPr>
            <p:cNvPr id="960" name=""/>
            <p:cNvGrpSpPr/>
            <p:nvPr/>
          </p:nvGrpSpPr>
          <p:grpSpPr>
            <a:xfrm>
              <a:off x="2894040" y="1265400"/>
              <a:ext cx="876600" cy="1133640"/>
              <a:chOff x="2894040" y="1265400"/>
              <a:chExt cx="876600" cy="1133640"/>
            </a:xfrm>
          </p:grpSpPr>
          <p:sp>
            <p:nvSpPr>
              <p:cNvPr id="961" name=""/>
              <p:cNvSpPr/>
              <p:nvPr/>
            </p:nvSpPr>
            <p:spPr>
              <a:xfrm>
                <a:off x="2904480" y="18176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902680" y="12654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894040" y="1830240"/>
                <a:ext cx="43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308040" y="1511280"/>
                <a:ext cx="462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5" name=""/>
            <p:cNvSpPr/>
            <p:nvPr/>
          </p:nvSpPr>
          <p:spPr>
            <a:xfrm>
              <a:off x="5136840" y="1511280"/>
              <a:ext cx="109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- 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6" name=""/>
            <p:cNvGrpSpPr/>
            <p:nvPr/>
          </p:nvGrpSpPr>
          <p:grpSpPr>
            <a:xfrm>
              <a:off x="4244760" y="1265400"/>
              <a:ext cx="876240" cy="1133640"/>
              <a:chOff x="4244760" y="1265400"/>
              <a:chExt cx="876240" cy="1133640"/>
            </a:xfrm>
          </p:grpSpPr>
          <p:sp>
            <p:nvSpPr>
              <p:cNvPr id="967" name=""/>
              <p:cNvSpPr/>
              <p:nvPr/>
            </p:nvSpPr>
            <p:spPr>
              <a:xfrm>
                <a:off x="4254840" y="18176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253400" y="12654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244760" y="1830240"/>
                <a:ext cx="4316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658400" y="1511280"/>
                <a:ext cx="462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1" name=""/>
            <p:cNvSpPr/>
            <p:nvPr/>
          </p:nvSpPr>
          <p:spPr>
            <a:xfrm>
              <a:off x="3768840" y="1509840"/>
              <a:ext cx="32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3399480" y="2392200"/>
            <a:ext cx="2347200" cy="1133640"/>
            <a:chOff x="3399480" y="2392200"/>
            <a:chExt cx="2347200" cy="1133640"/>
          </a:xfrm>
        </p:grpSpPr>
        <p:sp>
          <p:nvSpPr>
            <p:cNvPr id="973" name=""/>
            <p:cNvSpPr/>
            <p:nvPr/>
          </p:nvSpPr>
          <p:spPr>
            <a:xfrm>
              <a:off x="4656240" y="2638440"/>
              <a:ext cx="109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- 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4" name=""/>
            <p:cNvGrpSpPr/>
            <p:nvPr/>
          </p:nvGrpSpPr>
          <p:grpSpPr>
            <a:xfrm>
              <a:off x="3399480" y="2392200"/>
              <a:ext cx="1247400" cy="1133640"/>
              <a:chOff x="3399480" y="2392200"/>
              <a:chExt cx="1247400" cy="1133640"/>
            </a:xfrm>
          </p:grpSpPr>
          <p:grpSp>
            <p:nvGrpSpPr>
              <p:cNvPr id="975" name=""/>
              <p:cNvGrpSpPr/>
              <p:nvPr/>
            </p:nvGrpSpPr>
            <p:grpSpPr>
              <a:xfrm>
                <a:off x="3770280" y="2392200"/>
                <a:ext cx="876600" cy="1133640"/>
                <a:chOff x="3770280" y="2392200"/>
                <a:chExt cx="876600" cy="113364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3780720" y="29444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3778920" y="23922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3770280" y="2957040"/>
                  <a:ext cx="431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4184280" y="2638080"/>
                  <a:ext cx="4626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0" name=""/>
              <p:cNvSpPr/>
              <p:nvPr/>
            </p:nvSpPr>
            <p:spPr>
              <a:xfrm>
                <a:off x="3399480" y="2636640"/>
                <a:ext cx="328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1" name=""/>
          <p:cNvGrpSpPr/>
          <p:nvPr/>
        </p:nvGrpSpPr>
        <p:grpSpPr>
          <a:xfrm>
            <a:off x="1672560" y="3533760"/>
            <a:ext cx="5595120" cy="1134000"/>
            <a:chOff x="1672560" y="3533760"/>
            <a:chExt cx="5595120" cy="1134000"/>
          </a:xfrm>
        </p:grpSpPr>
        <p:grpSp>
          <p:nvGrpSpPr>
            <p:cNvPr id="982" name=""/>
            <p:cNvGrpSpPr/>
            <p:nvPr/>
          </p:nvGrpSpPr>
          <p:grpSpPr>
            <a:xfrm>
              <a:off x="3307320" y="3533760"/>
              <a:ext cx="1247040" cy="1133640"/>
              <a:chOff x="3307320" y="3533760"/>
              <a:chExt cx="1247040" cy="1133640"/>
            </a:xfrm>
          </p:grpSpPr>
          <p:grpSp>
            <p:nvGrpSpPr>
              <p:cNvPr id="983" name=""/>
              <p:cNvGrpSpPr/>
              <p:nvPr/>
            </p:nvGrpSpPr>
            <p:grpSpPr>
              <a:xfrm>
                <a:off x="3678120" y="3533760"/>
                <a:ext cx="876240" cy="1133640"/>
                <a:chOff x="3678120" y="3533760"/>
                <a:chExt cx="876240" cy="113364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3687840" y="40860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3686760" y="35337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678120" y="4098600"/>
                  <a:ext cx="431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4091760" y="3779640"/>
                  <a:ext cx="4626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8" name=""/>
              <p:cNvSpPr/>
              <p:nvPr/>
            </p:nvSpPr>
            <p:spPr>
              <a:xfrm>
                <a:off x="3307320" y="3778200"/>
                <a:ext cx="328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9" name=""/>
            <p:cNvGrpSpPr/>
            <p:nvPr/>
          </p:nvGrpSpPr>
          <p:grpSpPr>
            <a:xfrm>
              <a:off x="1672560" y="3533760"/>
              <a:ext cx="988200" cy="1134000"/>
              <a:chOff x="1672560" y="3533760"/>
              <a:chExt cx="988200" cy="1134000"/>
            </a:xfrm>
          </p:grpSpPr>
          <p:sp>
            <p:nvSpPr>
              <p:cNvPr id="990" name=""/>
              <p:cNvSpPr/>
              <p:nvPr/>
            </p:nvSpPr>
            <p:spPr>
              <a:xfrm>
                <a:off x="2053440" y="40863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2052000" y="35337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043360" y="4098960"/>
                <a:ext cx="43164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476440" y="3779640"/>
                <a:ext cx="1843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672560" y="3778200"/>
                <a:ext cx="328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cc99"/>
                    </a:solidFill>
                    <a:latin typeface="Comic Sans MS"/>
                  </a:rPr>
                  <a:t>-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5" name=""/>
            <p:cNvSpPr/>
            <p:nvPr/>
          </p:nvSpPr>
          <p:spPr>
            <a:xfrm>
              <a:off x="2914200" y="378000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521240" y="3780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7" name=""/>
            <p:cNvGrpSpPr/>
            <p:nvPr/>
          </p:nvGrpSpPr>
          <p:grpSpPr>
            <a:xfrm>
              <a:off x="4986720" y="3535560"/>
              <a:ext cx="803880" cy="1132200"/>
              <a:chOff x="4986720" y="3535560"/>
              <a:chExt cx="803880" cy="1132200"/>
            </a:xfrm>
          </p:grpSpPr>
          <p:grpSp>
            <p:nvGrpSpPr>
              <p:cNvPr id="998" name=""/>
              <p:cNvGrpSpPr/>
              <p:nvPr/>
            </p:nvGrpSpPr>
            <p:grpSpPr>
              <a:xfrm>
                <a:off x="5358960" y="3535560"/>
                <a:ext cx="431640" cy="1132200"/>
                <a:chOff x="5358960" y="3535560"/>
                <a:chExt cx="431640" cy="113220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5358960" y="3535560"/>
                  <a:ext cx="4316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5366520" y="40863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5358960" y="4100400"/>
                  <a:ext cx="431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2" name=""/>
              <p:cNvSpPr/>
              <p:nvPr/>
            </p:nvSpPr>
            <p:spPr>
              <a:xfrm>
                <a:off x="4986720" y="3780000"/>
                <a:ext cx="328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6279480" y="3533760"/>
              <a:ext cx="988200" cy="1134000"/>
              <a:chOff x="6279480" y="3533760"/>
              <a:chExt cx="988200" cy="1134000"/>
            </a:xfrm>
          </p:grpSpPr>
          <p:sp>
            <p:nvSpPr>
              <p:cNvPr id="1004" name=""/>
              <p:cNvSpPr/>
              <p:nvPr/>
            </p:nvSpPr>
            <p:spPr>
              <a:xfrm>
                <a:off x="6660360" y="40863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6658920" y="35337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6650280" y="4098960"/>
                <a:ext cx="43164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083360" y="3779640"/>
                <a:ext cx="1843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6279480" y="3778200"/>
                <a:ext cx="328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cc99"/>
                    </a:solidFill>
                    <a:latin typeface="Comic Sans MS"/>
                  </a:rPr>
                  <a:t>-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9" name=""/>
            <p:cNvSpPr/>
            <p:nvPr/>
          </p:nvSpPr>
          <p:spPr>
            <a:xfrm>
              <a:off x="5884920" y="3780000"/>
              <a:ext cx="36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3155400" y="4672080"/>
            <a:ext cx="2864520" cy="1129320"/>
            <a:chOff x="3155400" y="4672080"/>
            <a:chExt cx="2864520" cy="1129320"/>
          </a:xfrm>
        </p:grpSpPr>
        <p:sp>
          <p:nvSpPr>
            <p:cNvPr id="1011" name=""/>
            <p:cNvSpPr/>
            <p:nvPr/>
          </p:nvSpPr>
          <p:spPr>
            <a:xfrm>
              <a:off x="3155400" y="491508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n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2" name=""/>
            <p:cNvGrpSpPr/>
            <p:nvPr/>
          </p:nvGrpSpPr>
          <p:grpSpPr>
            <a:xfrm>
              <a:off x="3897360" y="4672080"/>
              <a:ext cx="878760" cy="1129320"/>
              <a:chOff x="3897360" y="4672080"/>
              <a:chExt cx="878760" cy="1129320"/>
            </a:xfrm>
          </p:grpSpPr>
          <p:sp>
            <p:nvSpPr>
              <p:cNvPr id="1013" name=""/>
              <p:cNvSpPr/>
              <p:nvPr/>
            </p:nvSpPr>
            <p:spPr>
              <a:xfrm>
                <a:off x="3897360" y="467208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065480" y="52200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951000" y="5237280"/>
                <a:ext cx="825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6" name=""/>
            <p:cNvSpPr/>
            <p:nvPr/>
          </p:nvSpPr>
          <p:spPr>
            <a:xfrm>
              <a:off x="4933800" y="4915080"/>
              <a:ext cx="10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2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>
            <a:off x="3834720" y="584820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n = 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1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6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2843280" y="6094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67000" y="1444680"/>
            <a:ext cx="801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ree fifths of n is the same as 8 less than 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041840" y="2136600"/>
            <a:ext cx="70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ree fifths of </a:t>
            </a: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20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equals 8 less than </a:t>
            </a: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2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2847960" y="2820960"/>
            <a:ext cx="3373920" cy="1134000"/>
            <a:chOff x="2847960" y="2820960"/>
            <a:chExt cx="3373920" cy="1134000"/>
          </a:xfrm>
        </p:grpSpPr>
        <p:sp>
          <p:nvSpPr>
            <p:cNvPr id="1022" name=""/>
            <p:cNvSpPr/>
            <p:nvPr/>
          </p:nvSpPr>
          <p:spPr>
            <a:xfrm>
              <a:off x="4488480" y="3052800"/>
              <a:ext cx="173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20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- 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2847960" y="2820960"/>
              <a:ext cx="1574280" cy="1134000"/>
              <a:chOff x="2847960" y="2820960"/>
              <a:chExt cx="1574280" cy="1134000"/>
            </a:xfrm>
          </p:grpSpPr>
          <p:grpSp>
            <p:nvGrpSpPr>
              <p:cNvPr id="1024" name=""/>
              <p:cNvGrpSpPr/>
              <p:nvPr/>
            </p:nvGrpSpPr>
            <p:grpSpPr>
              <a:xfrm>
                <a:off x="2847960" y="2820960"/>
                <a:ext cx="431640" cy="1134000"/>
                <a:chOff x="2847960" y="2820960"/>
                <a:chExt cx="431640" cy="1134000"/>
              </a:xfrm>
            </p:grpSpPr>
            <p:sp>
              <p:nvSpPr>
                <p:cNvPr id="1025" name=""/>
                <p:cNvSpPr/>
                <p:nvPr/>
              </p:nvSpPr>
              <p:spPr>
                <a:xfrm>
                  <a:off x="2858040" y="33735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2856600" y="28209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2847960" y="3386160"/>
                  <a:ext cx="431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8" name=""/>
              <p:cNvGrpSpPr/>
              <p:nvPr/>
            </p:nvGrpSpPr>
            <p:grpSpPr>
              <a:xfrm>
                <a:off x="3775320" y="2820960"/>
                <a:ext cx="646920" cy="1134000"/>
                <a:chOff x="3775320" y="2820960"/>
                <a:chExt cx="646920" cy="1134000"/>
              </a:xfrm>
            </p:grpSpPr>
            <p:sp>
              <p:nvSpPr>
                <p:cNvPr id="1029" name=""/>
                <p:cNvSpPr/>
                <p:nvPr/>
              </p:nvSpPr>
              <p:spPr>
                <a:xfrm>
                  <a:off x="3890880" y="33735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3775320" y="2820960"/>
                  <a:ext cx="646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2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3882600" y="3386160"/>
                  <a:ext cx="43164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2" name=""/>
              <p:cNvSpPr/>
              <p:nvPr/>
            </p:nvSpPr>
            <p:spPr>
              <a:xfrm>
                <a:off x="3390480" y="3065400"/>
                <a:ext cx="35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•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3" name=""/>
          <p:cNvGrpSpPr/>
          <p:nvPr/>
        </p:nvGrpSpPr>
        <p:grpSpPr>
          <a:xfrm>
            <a:off x="3094560" y="4067280"/>
            <a:ext cx="2946960" cy="1519920"/>
            <a:chOff x="3094560" y="4067280"/>
            <a:chExt cx="2946960" cy="1519920"/>
          </a:xfrm>
        </p:grpSpPr>
        <p:grpSp>
          <p:nvGrpSpPr>
            <p:cNvPr id="1034" name=""/>
            <p:cNvGrpSpPr/>
            <p:nvPr/>
          </p:nvGrpSpPr>
          <p:grpSpPr>
            <a:xfrm>
              <a:off x="3398760" y="4330440"/>
              <a:ext cx="2642760" cy="1133640"/>
              <a:chOff x="3398760" y="4330440"/>
              <a:chExt cx="2642760" cy="1133640"/>
            </a:xfrm>
          </p:grpSpPr>
          <p:sp>
            <p:nvSpPr>
              <p:cNvPr id="1035" name=""/>
              <p:cNvSpPr/>
              <p:nvPr/>
            </p:nvSpPr>
            <p:spPr>
              <a:xfrm>
                <a:off x="4955400" y="4574520"/>
                <a:ext cx="1086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= 1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6" name=""/>
              <p:cNvGrpSpPr/>
              <p:nvPr/>
            </p:nvGrpSpPr>
            <p:grpSpPr>
              <a:xfrm>
                <a:off x="3398760" y="4330440"/>
                <a:ext cx="1574280" cy="1133640"/>
                <a:chOff x="3398760" y="4330440"/>
                <a:chExt cx="1574280" cy="1133640"/>
              </a:xfrm>
            </p:grpSpPr>
            <p:grpSp>
              <p:nvGrpSpPr>
                <p:cNvPr id="1037" name=""/>
                <p:cNvGrpSpPr/>
                <p:nvPr/>
              </p:nvGrpSpPr>
              <p:grpSpPr>
                <a:xfrm>
                  <a:off x="3398760" y="4330440"/>
                  <a:ext cx="431640" cy="1133640"/>
                  <a:chOff x="3398760" y="4330440"/>
                  <a:chExt cx="431640" cy="1133640"/>
                </a:xfrm>
              </p:grpSpPr>
              <p:sp>
                <p:nvSpPr>
                  <p:cNvPr id="1038" name=""/>
                  <p:cNvSpPr/>
                  <p:nvPr/>
                </p:nvSpPr>
                <p:spPr>
                  <a:xfrm>
                    <a:off x="3409200" y="4882680"/>
                    <a:ext cx="4140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5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3407400" y="4330440"/>
                    <a:ext cx="4140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3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3398760" y="4895280"/>
                    <a:ext cx="4316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1" name=""/>
                <p:cNvGrpSpPr/>
                <p:nvPr/>
              </p:nvGrpSpPr>
              <p:grpSpPr>
                <a:xfrm>
                  <a:off x="4326120" y="4330440"/>
                  <a:ext cx="646920" cy="1133640"/>
                  <a:chOff x="4326120" y="4330440"/>
                  <a:chExt cx="646920" cy="1133640"/>
                </a:xfrm>
              </p:grpSpPr>
              <p:sp>
                <p:nvSpPr>
                  <p:cNvPr id="1042" name=""/>
                  <p:cNvSpPr/>
                  <p:nvPr/>
                </p:nvSpPr>
                <p:spPr>
                  <a:xfrm>
                    <a:off x="4442040" y="4882680"/>
                    <a:ext cx="4140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1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4326120" y="4330440"/>
                    <a:ext cx="64692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20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4433760" y="4895280"/>
                    <a:ext cx="4320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45" name=""/>
                <p:cNvSpPr/>
                <p:nvPr/>
              </p:nvSpPr>
              <p:spPr>
                <a:xfrm>
                  <a:off x="3941280" y="4574520"/>
                  <a:ext cx="35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•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6" name=""/>
            <p:cNvSpPr/>
            <p:nvPr/>
          </p:nvSpPr>
          <p:spPr>
            <a:xfrm flipV="1">
              <a:off x="4382640" y="4396320"/>
              <a:ext cx="507240" cy="415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3349080" y="4934520"/>
              <a:ext cx="507240" cy="415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094560" y="5127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731840" y="406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3700440" y="58183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2 =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1" name="" descr=""/>
          <p:cNvPicPr/>
          <p:nvPr/>
        </p:nvPicPr>
        <p:blipFill>
          <a:blip r:embed="rId1"/>
          <a:stretch/>
        </p:blipFill>
        <p:spPr>
          <a:xfrm>
            <a:off x="6939000" y="5372280"/>
            <a:ext cx="1212840" cy="990360"/>
          </a:xfrm>
          <a:prstGeom prst="rect">
            <a:avLst/>
          </a:prstGeom>
          <a:ln w="0">
            <a:noFill/>
          </a:ln>
        </p:spPr>
      </p:pic>
      <p:sp>
        <p:nvSpPr>
          <p:cNvPr id="1052" name=""/>
          <p:cNvSpPr/>
          <p:nvPr/>
        </p:nvSpPr>
        <p:spPr>
          <a:xfrm rot="19515000">
            <a:off x="741960" y="4024080"/>
            <a:ext cx="1636200" cy="6426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CHE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4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/>
          <p:nvPr/>
        </p:nvSpPr>
        <p:spPr>
          <a:xfrm>
            <a:off x="2843280" y="6094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1146600" y="2104920"/>
            <a:ext cx="3636000" cy="1001520"/>
            <a:chOff x="1146600" y="2104920"/>
            <a:chExt cx="3636000" cy="1001520"/>
          </a:xfrm>
        </p:grpSpPr>
        <p:sp>
          <p:nvSpPr>
            <p:cNvPr id="1055" name=""/>
            <p:cNvSpPr/>
            <p:nvPr/>
          </p:nvSpPr>
          <p:spPr>
            <a:xfrm>
              <a:off x="1146600" y="2338560"/>
              <a:ext cx="2026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omic Sans MS"/>
                </a:rPr>
                <a:t>is equal to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6" name=""/>
            <p:cNvGrpSpPr/>
            <p:nvPr/>
          </p:nvGrpSpPr>
          <p:grpSpPr>
            <a:xfrm>
              <a:off x="3268800" y="2104920"/>
              <a:ext cx="1513800" cy="1001520"/>
              <a:chOff x="3268800" y="2104920"/>
              <a:chExt cx="1513800" cy="1001520"/>
            </a:xfrm>
          </p:grpSpPr>
          <p:grpSp>
            <p:nvGrpSpPr>
              <p:cNvPr id="1057" name=""/>
              <p:cNvGrpSpPr/>
              <p:nvPr/>
            </p:nvGrpSpPr>
            <p:grpSpPr>
              <a:xfrm>
                <a:off x="3268800" y="2104920"/>
                <a:ext cx="429840" cy="1001520"/>
                <a:chOff x="3268800" y="2104920"/>
                <a:chExt cx="429840" cy="1001520"/>
              </a:xfrm>
            </p:grpSpPr>
            <p:sp>
              <p:nvSpPr>
                <p:cNvPr id="1058" name=""/>
                <p:cNvSpPr/>
                <p:nvPr/>
              </p:nvSpPr>
              <p:spPr>
                <a:xfrm>
                  <a:off x="3291480" y="258588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3291480" y="210492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3268800" y="2608200"/>
                  <a:ext cx="429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1" name=""/>
              <p:cNvSpPr/>
              <p:nvPr/>
            </p:nvSpPr>
            <p:spPr>
              <a:xfrm>
                <a:off x="3804840" y="2330280"/>
                <a:ext cx="9777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Comic Sans MS"/>
                  </a:rPr>
                  <a:t>of p.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2" name=""/>
          <p:cNvGrpSpPr/>
          <p:nvPr/>
        </p:nvGrpSpPr>
        <p:grpSpPr>
          <a:xfrm>
            <a:off x="1163520" y="1339920"/>
            <a:ext cx="6811200" cy="1001520"/>
            <a:chOff x="1163520" y="1339920"/>
            <a:chExt cx="6811200" cy="1001520"/>
          </a:xfrm>
        </p:grpSpPr>
        <p:grpSp>
          <p:nvGrpSpPr>
            <p:cNvPr id="1063" name=""/>
            <p:cNvGrpSpPr/>
            <p:nvPr/>
          </p:nvGrpSpPr>
          <p:grpSpPr>
            <a:xfrm>
              <a:off x="1163520" y="1339920"/>
              <a:ext cx="430200" cy="1001520"/>
              <a:chOff x="1163520" y="1339920"/>
              <a:chExt cx="430200" cy="1001520"/>
            </a:xfrm>
          </p:grpSpPr>
          <p:sp>
            <p:nvSpPr>
              <p:cNvPr id="1064" name=""/>
              <p:cNvSpPr/>
              <p:nvPr/>
            </p:nvSpPr>
            <p:spPr>
              <a:xfrm>
                <a:off x="1185480" y="18208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185480" y="13399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1163520" y="1843200"/>
                <a:ext cx="430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7" name=""/>
            <p:cNvSpPr/>
            <p:nvPr/>
          </p:nvSpPr>
          <p:spPr>
            <a:xfrm>
              <a:off x="1743840" y="1565280"/>
              <a:ext cx="6230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omic Sans MS"/>
                </a:rPr>
                <a:t>of the difference between p and 4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3267000" y="2104920"/>
            <a:ext cx="4758480" cy="2137320"/>
            <a:chOff x="3267000" y="2104920"/>
            <a:chExt cx="4758480" cy="2137320"/>
          </a:xfrm>
        </p:grpSpPr>
        <p:grpSp>
          <p:nvGrpSpPr>
            <p:cNvPr id="1069" name=""/>
            <p:cNvGrpSpPr/>
            <p:nvPr/>
          </p:nvGrpSpPr>
          <p:grpSpPr>
            <a:xfrm>
              <a:off x="3267000" y="2104920"/>
              <a:ext cx="1514520" cy="1001520"/>
              <a:chOff x="3267000" y="2104920"/>
              <a:chExt cx="1514520" cy="1001520"/>
            </a:xfrm>
          </p:grpSpPr>
          <p:grpSp>
            <p:nvGrpSpPr>
              <p:cNvPr id="1070" name=""/>
              <p:cNvGrpSpPr/>
              <p:nvPr/>
            </p:nvGrpSpPr>
            <p:grpSpPr>
              <a:xfrm>
                <a:off x="3267000" y="2104920"/>
                <a:ext cx="430200" cy="1001520"/>
                <a:chOff x="3267000" y="2104920"/>
                <a:chExt cx="430200" cy="100152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3290400" y="258588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Comic Sans MS"/>
                    </a:rPr>
                    <a:t>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3290400" y="210492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Comic Sans MS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3267000" y="2607840"/>
                  <a:ext cx="43020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4" name=""/>
              <p:cNvSpPr/>
              <p:nvPr/>
            </p:nvSpPr>
            <p:spPr>
              <a:xfrm>
                <a:off x="3803760" y="2330280"/>
                <a:ext cx="9777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ff"/>
                    </a:solidFill>
                    <a:latin typeface="Comic Sans MS"/>
                  </a:rPr>
                  <a:t>of p.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"/>
            <p:cNvGrpSpPr/>
            <p:nvPr/>
          </p:nvGrpSpPr>
          <p:grpSpPr>
            <a:xfrm>
              <a:off x="6730920" y="3108240"/>
              <a:ext cx="1294560" cy="1134000"/>
              <a:chOff x="6730920" y="3108240"/>
              <a:chExt cx="1294560" cy="1134000"/>
            </a:xfrm>
          </p:grpSpPr>
          <p:grpSp>
            <p:nvGrpSpPr>
              <p:cNvPr id="1076" name=""/>
              <p:cNvGrpSpPr/>
              <p:nvPr/>
            </p:nvGrpSpPr>
            <p:grpSpPr>
              <a:xfrm>
                <a:off x="6730920" y="3108240"/>
                <a:ext cx="430200" cy="1134000"/>
                <a:chOff x="6730920" y="3108240"/>
                <a:chExt cx="430200" cy="113400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6738120" y="36608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6739920" y="31082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6730920" y="3673440"/>
                  <a:ext cx="43020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0" name=""/>
              <p:cNvSpPr/>
              <p:nvPr/>
            </p:nvSpPr>
            <p:spPr>
              <a:xfrm>
                <a:off x="7271640" y="3352680"/>
                <a:ext cx="753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• 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p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1" name=""/>
          <p:cNvGrpSpPr/>
          <p:nvPr/>
        </p:nvGrpSpPr>
        <p:grpSpPr>
          <a:xfrm>
            <a:off x="2228040" y="1555920"/>
            <a:ext cx="5770800" cy="2439360"/>
            <a:chOff x="2228040" y="1555920"/>
            <a:chExt cx="5770800" cy="2439360"/>
          </a:xfrm>
        </p:grpSpPr>
        <p:sp>
          <p:nvSpPr>
            <p:cNvPr id="1082" name=""/>
            <p:cNvSpPr/>
            <p:nvPr/>
          </p:nvSpPr>
          <p:spPr>
            <a:xfrm>
              <a:off x="2228040" y="1555920"/>
              <a:ext cx="5770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ff"/>
                  </a:solidFill>
                  <a:latin typeface="Comic Sans MS"/>
                </a:rPr>
                <a:t>the difference between p and 4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103560" y="3352680"/>
              <a:ext cx="146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(p – 4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1158840" y="1335240"/>
            <a:ext cx="1098000" cy="2907000"/>
            <a:chOff x="1158840" y="1335240"/>
            <a:chExt cx="1098000" cy="2907000"/>
          </a:xfrm>
        </p:grpSpPr>
        <p:grpSp>
          <p:nvGrpSpPr>
            <p:cNvPr id="1085" name=""/>
            <p:cNvGrpSpPr/>
            <p:nvPr/>
          </p:nvGrpSpPr>
          <p:grpSpPr>
            <a:xfrm>
              <a:off x="1158840" y="1335240"/>
              <a:ext cx="1098000" cy="1001520"/>
              <a:chOff x="1158840" y="1335240"/>
              <a:chExt cx="1098000" cy="1001520"/>
            </a:xfrm>
          </p:grpSpPr>
          <p:grpSp>
            <p:nvGrpSpPr>
              <p:cNvPr id="1086" name=""/>
              <p:cNvGrpSpPr/>
              <p:nvPr/>
            </p:nvGrpSpPr>
            <p:grpSpPr>
              <a:xfrm>
                <a:off x="1158840" y="1335240"/>
                <a:ext cx="430200" cy="1001520"/>
                <a:chOff x="1158840" y="1335240"/>
                <a:chExt cx="430200" cy="100152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1180440" y="18162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Comic Sans MS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1180440" y="13352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Comic Sans MS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1158840" y="1838160"/>
                  <a:ext cx="43020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0" name=""/>
              <p:cNvSpPr/>
              <p:nvPr/>
            </p:nvSpPr>
            <p:spPr>
              <a:xfrm>
                <a:off x="1715040" y="1560600"/>
                <a:ext cx="5418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ff"/>
                    </a:solidFill>
                    <a:latin typeface="Comic Sans MS"/>
                  </a:rPr>
                  <a:t>of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1263600" y="3108240"/>
              <a:ext cx="903600" cy="1134000"/>
              <a:chOff x="1263600" y="3108240"/>
              <a:chExt cx="903600" cy="1134000"/>
            </a:xfrm>
          </p:grpSpPr>
          <p:grpSp>
            <p:nvGrpSpPr>
              <p:cNvPr id="1092" name=""/>
              <p:cNvGrpSpPr/>
              <p:nvPr/>
            </p:nvGrpSpPr>
            <p:grpSpPr>
              <a:xfrm>
                <a:off x="1263600" y="3108240"/>
                <a:ext cx="430200" cy="1134000"/>
                <a:chOff x="1263600" y="3108240"/>
                <a:chExt cx="430200" cy="113400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1270800" y="36608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1272600" y="31082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1263600" y="3673440"/>
                  <a:ext cx="43020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6" name=""/>
              <p:cNvSpPr/>
              <p:nvPr/>
            </p:nvSpPr>
            <p:spPr>
              <a:xfrm>
                <a:off x="1814400" y="3352680"/>
                <a:ext cx="35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•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7" name=""/>
          <p:cNvGrpSpPr/>
          <p:nvPr/>
        </p:nvGrpSpPr>
        <p:grpSpPr>
          <a:xfrm>
            <a:off x="1148400" y="2336760"/>
            <a:ext cx="4706280" cy="1660320"/>
            <a:chOff x="1148400" y="2336760"/>
            <a:chExt cx="4706280" cy="1660320"/>
          </a:xfrm>
        </p:grpSpPr>
        <p:sp>
          <p:nvSpPr>
            <p:cNvPr id="1098" name=""/>
            <p:cNvSpPr/>
            <p:nvPr/>
          </p:nvSpPr>
          <p:spPr>
            <a:xfrm>
              <a:off x="1148400" y="2336760"/>
              <a:ext cx="2026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ff"/>
                  </a:solidFill>
                  <a:latin typeface="Comic Sans MS"/>
                </a:rPr>
                <a:t>is equal to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437080" y="3354480"/>
              <a:ext cx="41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2916000" y="4689360"/>
            <a:ext cx="3330000" cy="1133640"/>
            <a:chOff x="2916000" y="4689360"/>
            <a:chExt cx="3330000" cy="1133640"/>
          </a:xfrm>
        </p:grpSpPr>
        <p:grpSp>
          <p:nvGrpSpPr>
            <p:cNvPr id="1101" name=""/>
            <p:cNvGrpSpPr/>
            <p:nvPr/>
          </p:nvGrpSpPr>
          <p:grpSpPr>
            <a:xfrm>
              <a:off x="5368680" y="4689360"/>
              <a:ext cx="429840" cy="1133640"/>
              <a:chOff x="5368680" y="4689360"/>
              <a:chExt cx="429840" cy="1133640"/>
            </a:xfrm>
          </p:grpSpPr>
          <p:sp>
            <p:nvSpPr>
              <p:cNvPr id="1102" name=""/>
              <p:cNvSpPr/>
              <p:nvPr/>
            </p:nvSpPr>
            <p:spPr>
              <a:xfrm>
                <a:off x="5375880" y="52416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377320" y="46893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368680" y="5254200"/>
                <a:ext cx="42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5" name=""/>
            <p:cNvSpPr/>
            <p:nvPr/>
          </p:nvSpPr>
          <p:spPr>
            <a:xfrm>
              <a:off x="5783400" y="4933800"/>
              <a:ext cx="46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312720" y="4933800"/>
              <a:ext cx="146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p – 4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7" name=""/>
            <p:cNvGrpSpPr/>
            <p:nvPr/>
          </p:nvGrpSpPr>
          <p:grpSpPr>
            <a:xfrm>
              <a:off x="2916000" y="4689360"/>
              <a:ext cx="429840" cy="1133640"/>
              <a:chOff x="2916000" y="4689360"/>
              <a:chExt cx="429840" cy="1133640"/>
            </a:xfrm>
          </p:grpSpPr>
          <p:sp>
            <p:nvSpPr>
              <p:cNvPr id="1108" name=""/>
              <p:cNvSpPr/>
              <p:nvPr/>
            </p:nvSpPr>
            <p:spPr>
              <a:xfrm>
                <a:off x="2923200" y="52416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2924640" y="46893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2916000" y="5254200"/>
                <a:ext cx="42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1" name=""/>
            <p:cNvSpPr/>
            <p:nvPr/>
          </p:nvSpPr>
          <p:spPr>
            <a:xfrm>
              <a:off x="4832280" y="4935600"/>
              <a:ext cx="41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"/>
          <p:cNvSpPr/>
          <p:nvPr/>
        </p:nvSpPr>
        <p:spPr>
          <a:xfrm>
            <a:off x="2843280" y="6094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2916000" y="1539720"/>
            <a:ext cx="3330000" cy="1133640"/>
            <a:chOff x="2916000" y="1539720"/>
            <a:chExt cx="3330000" cy="1133640"/>
          </a:xfrm>
        </p:grpSpPr>
        <p:grpSp>
          <p:nvGrpSpPr>
            <p:cNvPr id="1114" name=""/>
            <p:cNvGrpSpPr/>
            <p:nvPr/>
          </p:nvGrpSpPr>
          <p:grpSpPr>
            <a:xfrm>
              <a:off x="5368680" y="1539720"/>
              <a:ext cx="429840" cy="1133640"/>
              <a:chOff x="5368680" y="1539720"/>
              <a:chExt cx="429840" cy="1133640"/>
            </a:xfrm>
          </p:grpSpPr>
          <p:sp>
            <p:nvSpPr>
              <p:cNvPr id="1115" name=""/>
              <p:cNvSpPr/>
              <p:nvPr/>
            </p:nvSpPr>
            <p:spPr>
              <a:xfrm>
                <a:off x="5375880" y="20919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377320" y="15397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368680" y="2104560"/>
                <a:ext cx="42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8" name=""/>
            <p:cNvSpPr/>
            <p:nvPr/>
          </p:nvSpPr>
          <p:spPr>
            <a:xfrm>
              <a:off x="5783400" y="1784160"/>
              <a:ext cx="46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312720" y="1784160"/>
              <a:ext cx="146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p – 4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0" name=""/>
            <p:cNvGrpSpPr/>
            <p:nvPr/>
          </p:nvGrpSpPr>
          <p:grpSpPr>
            <a:xfrm>
              <a:off x="2916000" y="1539720"/>
              <a:ext cx="429840" cy="1133640"/>
              <a:chOff x="2916000" y="1539720"/>
              <a:chExt cx="429840" cy="1133640"/>
            </a:xfrm>
          </p:grpSpPr>
          <p:sp>
            <p:nvSpPr>
              <p:cNvPr id="1121" name=""/>
              <p:cNvSpPr/>
              <p:nvPr/>
            </p:nvSpPr>
            <p:spPr>
              <a:xfrm>
                <a:off x="2923200" y="20919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924640" y="15397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2916000" y="2104560"/>
                <a:ext cx="42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4" name=""/>
            <p:cNvSpPr/>
            <p:nvPr/>
          </p:nvSpPr>
          <p:spPr>
            <a:xfrm>
              <a:off x="4832280" y="1785960"/>
              <a:ext cx="41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5" name=""/>
          <p:cNvGrpSpPr/>
          <p:nvPr/>
        </p:nvGrpSpPr>
        <p:grpSpPr>
          <a:xfrm>
            <a:off x="1756080" y="3359160"/>
            <a:ext cx="5663520" cy="1134000"/>
            <a:chOff x="1756080" y="3359160"/>
            <a:chExt cx="5663520" cy="1134000"/>
          </a:xfrm>
        </p:grpSpPr>
        <p:grpSp>
          <p:nvGrpSpPr>
            <p:cNvPr id="1126" name=""/>
            <p:cNvGrpSpPr/>
            <p:nvPr/>
          </p:nvGrpSpPr>
          <p:grpSpPr>
            <a:xfrm>
              <a:off x="2956320" y="3359160"/>
              <a:ext cx="1861920" cy="1133640"/>
              <a:chOff x="2956320" y="3359160"/>
              <a:chExt cx="1861920" cy="1133640"/>
            </a:xfrm>
          </p:grpSpPr>
          <p:sp>
            <p:nvSpPr>
              <p:cNvPr id="1127" name=""/>
              <p:cNvSpPr/>
              <p:nvPr/>
            </p:nvSpPr>
            <p:spPr>
              <a:xfrm>
                <a:off x="3352680" y="3603600"/>
                <a:ext cx="1465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(p – 4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8" name=""/>
              <p:cNvGrpSpPr/>
              <p:nvPr/>
            </p:nvGrpSpPr>
            <p:grpSpPr>
              <a:xfrm>
                <a:off x="2956320" y="3359160"/>
                <a:ext cx="430200" cy="1133640"/>
                <a:chOff x="2956320" y="3359160"/>
                <a:chExt cx="430200" cy="113364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2963520" y="39114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2964960" y="33591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2956320" y="3924000"/>
                  <a:ext cx="430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2" name=""/>
            <p:cNvGrpSpPr/>
            <p:nvPr/>
          </p:nvGrpSpPr>
          <p:grpSpPr>
            <a:xfrm>
              <a:off x="1756080" y="3359160"/>
              <a:ext cx="646920" cy="1134000"/>
              <a:chOff x="1756080" y="3359160"/>
              <a:chExt cx="646920" cy="1134000"/>
            </a:xfrm>
          </p:grpSpPr>
          <p:sp>
            <p:nvSpPr>
              <p:cNvPr id="1133" name=""/>
              <p:cNvSpPr/>
              <p:nvPr/>
            </p:nvSpPr>
            <p:spPr>
              <a:xfrm>
                <a:off x="1872000" y="39117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1756080" y="335916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2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1801800" y="3924360"/>
                <a:ext cx="55584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6" name=""/>
            <p:cNvSpPr/>
            <p:nvPr/>
          </p:nvSpPr>
          <p:spPr>
            <a:xfrm>
              <a:off x="2482560" y="360360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846680" y="36036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8" name=""/>
            <p:cNvGrpSpPr/>
            <p:nvPr/>
          </p:nvGrpSpPr>
          <p:grpSpPr>
            <a:xfrm>
              <a:off x="6542280" y="3359160"/>
              <a:ext cx="877320" cy="1133640"/>
              <a:chOff x="6542280" y="3359160"/>
              <a:chExt cx="877320" cy="1133640"/>
            </a:xfrm>
          </p:grpSpPr>
          <p:grpSp>
            <p:nvGrpSpPr>
              <p:cNvPr id="1139" name=""/>
              <p:cNvGrpSpPr/>
              <p:nvPr/>
            </p:nvGrpSpPr>
            <p:grpSpPr>
              <a:xfrm>
                <a:off x="6542280" y="3359160"/>
                <a:ext cx="430200" cy="1133640"/>
                <a:chOff x="6542280" y="3359160"/>
                <a:chExt cx="430200" cy="113364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6549480" y="39114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6550920" y="33591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542280" y="3924000"/>
                  <a:ext cx="430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3" name=""/>
              <p:cNvSpPr/>
              <p:nvPr/>
            </p:nvSpPr>
            <p:spPr>
              <a:xfrm>
                <a:off x="6957000" y="3603600"/>
                <a:ext cx="462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4" name=""/>
            <p:cNvGrpSpPr/>
            <p:nvPr/>
          </p:nvGrpSpPr>
          <p:grpSpPr>
            <a:xfrm>
              <a:off x="5359680" y="3359160"/>
              <a:ext cx="646920" cy="1134000"/>
              <a:chOff x="5359680" y="3359160"/>
              <a:chExt cx="646920" cy="1134000"/>
            </a:xfrm>
          </p:grpSpPr>
          <p:sp>
            <p:nvSpPr>
              <p:cNvPr id="1145" name=""/>
              <p:cNvSpPr/>
              <p:nvPr/>
            </p:nvSpPr>
            <p:spPr>
              <a:xfrm>
                <a:off x="5475600" y="39117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359680" y="335916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2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405400" y="3924360"/>
                <a:ext cx="555840" cy="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8" name=""/>
            <p:cNvSpPr/>
            <p:nvPr/>
          </p:nvSpPr>
          <p:spPr>
            <a:xfrm>
              <a:off x="6057720" y="360504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9" name=""/>
          <p:cNvSpPr/>
          <p:nvPr/>
        </p:nvSpPr>
        <p:spPr>
          <a:xfrm>
            <a:off x="6675120" y="2495520"/>
            <a:ext cx="192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LCD is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1682280" y="4950000"/>
            <a:ext cx="3204000" cy="1480320"/>
            <a:chOff x="1682280" y="4950000"/>
            <a:chExt cx="3204000" cy="1480320"/>
          </a:xfrm>
        </p:grpSpPr>
        <p:grpSp>
          <p:nvGrpSpPr>
            <p:cNvPr id="1151" name=""/>
            <p:cNvGrpSpPr/>
            <p:nvPr/>
          </p:nvGrpSpPr>
          <p:grpSpPr>
            <a:xfrm>
              <a:off x="1824480" y="5168880"/>
              <a:ext cx="3061800" cy="1134000"/>
              <a:chOff x="1824480" y="5168880"/>
              <a:chExt cx="3061800" cy="1134000"/>
            </a:xfrm>
          </p:grpSpPr>
          <p:grpSp>
            <p:nvGrpSpPr>
              <p:cNvPr id="1152" name=""/>
              <p:cNvGrpSpPr/>
              <p:nvPr/>
            </p:nvGrpSpPr>
            <p:grpSpPr>
              <a:xfrm>
                <a:off x="3024360" y="5168880"/>
                <a:ext cx="1861920" cy="1133640"/>
                <a:chOff x="3024360" y="5168880"/>
                <a:chExt cx="1861920" cy="113364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3420720" y="5413320"/>
                  <a:ext cx="14655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(p – 4)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4" name=""/>
                <p:cNvGrpSpPr/>
                <p:nvPr/>
              </p:nvGrpSpPr>
              <p:grpSpPr>
                <a:xfrm>
                  <a:off x="3024360" y="5168880"/>
                  <a:ext cx="430200" cy="1133640"/>
                  <a:chOff x="3024360" y="5168880"/>
                  <a:chExt cx="430200" cy="1133640"/>
                </a:xfrm>
              </p:grpSpPr>
              <p:sp>
                <p:nvSpPr>
                  <p:cNvPr id="1155" name=""/>
                  <p:cNvSpPr/>
                  <p:nvPr/>
                </p:nvSpPr>
                <p:spPr>
                  <a:xfrm>
                    <a:off x="3031560" y="5721120"/>
                    <a:ext cx="4140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4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3033000" y="5168880"/>
                    <a:ext cx="4140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3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3024360" y="5733720"/>
                    <a:ext cx="4302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58" name=""/>
              <p:cNvGrpSpPr/>
              <p:nvPr/>
            </p:nvGrpSpPr>
            <p:grpSpPr>
              <a:xfrm>
                <a:off x="1824480" y="5168880"/>
                <a:ext cx="646920" cy="1134000"/>
                <a:chOff x="1824480" y="5168880"/>
                <a:chExt cx="646920" cy="113400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1940040" y="572148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1824480" y="5168880"/>
                  <a:ext cx="646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2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1870200" y="5734080"/>
                  <a:ext cx="555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2" name=""/>
              <p:cNvSpPr/>
              <p:nvPr/>
            </p:nvSpPr>
            <p:spPr>
              <a:xfrm>
                <a:off x="2550960" y="5413320"/>
                <a:ext cx="35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•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3" name=""/>
            <p:cNvGrpSpPr/>
            <p:nvPr/>
          </p:nvGrpSpPr>
          <p:grpSpPr>
            <a:xfrm>
              <a:off x="1682280" y="4950000"/>
              <a:ext cx="1915920" cy="1480320"/>
              <a:chOff x="1682280" y="4950000"/>
              <a:chExt cx="1915920" cy="1480320"/>
            </a:xfrm>
          </p:grpSpPr>
          <p:sp>
            <p:nvSpPr>
              <p:cNvPr id="1164" name=""/>
              <p:cNvSpPr/>
              <p:nvPr/>
            </p:nvSpPr>
            <p:spPr>
              <a:xfrm flipV="1">
                <a:off x="1822320" y="5245560"/>
                <a:ext cx="598680" cy="426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V="1">
                <a:off x="2973240" y="5853960"/>
                <a:ext cx="509760" cy="326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682280" y="4950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Comic Sans MS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243600" y="59706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8" name=""/>
          <p:cNvGrpSpPr/>
          <p:nvPr/>
        </p:nvGrpSpPr>
        <p:grpSpPr>
          <a:xfrm>
            <a:off x="4915080" y="4950000"/>
            <a:ext cx="2572560" cy="1478880"/>
            <a:chOff x="4915080" y="4950000"/>
            <a:chExt cx="2572560" cy="1478880"/>
          </a:xfrm>
        </p:grpSpPr>
        <p:grpSp>
          <p:nvGrpSpPr>
            <p:cNvPr id="1169" name=""/>
            <p:cNvGrpSpPr/>
            <p:nvPr/>
          </p:nvGrpSpPr>
          <p:grpSpPr>
            <a:xfrm>
              <a:off x="4915080" y="5168880"/>
              <a:ext cx="2572560" cy="1134000"/>
              <a:chOff x="4915080" y="5168880"/>
              <a:chExt cx="2572560" cy="1134000"/>
            </a:xfrm>
          </p:grpSpPr>
          <p:sp>
            <p:nvSpPr>
              <p:cNvPr id="1170" name=""/>
              <p:cNvSpPr/>
              <p:nvPr/>
            </p:nvSpPr>
            <p:spPr>
              <a:xfrm>
                <a:off x="4915080" y="541332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1" name=""/>
              <p:cNvGrpSpPr/>
              <p:nvPr/>
            </p:nvGrpSpPr>
            <p:grpSpPr>
              <a:xfrm>
                <a:off x="6610320" y="5168880"/>
                <a:ext cx="877320" cy="1133640"/>
                <a:chOff x="6610320" y="5168880"/>
                <a:chExt cx="877320" cy="1133640"/>
              </a:xfrm>
            </p:grpSpPr>
            <p:grpSp>
              <p:nvGrpSpPr>
                <p:cNvPr id="1172" name=""/>
                <p:cNvGrpSpPr/>
                <p:nvPr/>
              </p:nvGrpSpPr>
              <p:grpSpPr>
                <a:xfrm>
                  <a:off x="6610320" y="5168880"/>
                  <a:ext cx="429840" cy="1133640"/>
                  <a:chOff x="6610320" y="5168880"/>
                  <a:chExt cx="429840" cy="1133640"/>
                </a:xfrm>
              </p:grpSpPr>
              <p:sp>
                <p:nvSpPr>
                  <p:cNvPr id="1173" name=""/>
                  <p:cNvSpPr/>
                  <p:nvPr/>
                </p:nvSpPr>
                <p:spPr>
                  <a:xfrm>
                    <a:off x="6617520" y="5721120"/>
                    <a:ext cx="4140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5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6618960" y="5168880"/>
                    <a:ext cx="4140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4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6610320" y="5733720"/>
                    <a:ext cx="4298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76" name=""/>
                <p:cNvSpPr/>
                <p:nvPr/>
              </p:nvSpPr>
              <p:spPr>
                <a:xfrm>
                  <a:off x="7025040" y="5413320"/>
                  <a:ext cx="4626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p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7" name=""/>
              <p:cNvGrpSpPr/>
              <p:nvPr/>
            </p:nvGrpSpPr>
            <p:grpSpPr>
              <a:xfrm>
                <a:off x="5428080" y="5168880"/>
                <a:ext cx="646920" cy="1134000"/>
                <a:chOff x="5428080" y="5168880"/>
                <a:chExt cx="646920" cy="1134000"/>
              </a:xfrm>
            </p:grpSpPr>
            <p:sp>
              <p:nvSpPr>
                <p:cNvPr id="1178" name=""/>
                <p:cNvSpPr/>
                <p:nvPr/>
              </p:nvSpPr>
              <p:spPr>
                <a:xfrm>
                  <a:off x="5543640" y="572148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5428080" y="5168880"/>
                  <a:ext cx="646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2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5473800" y="5734080"/>
                  <a:ext cx="555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1" name=""/>
              <p:cNvSpPr/>
              <p:nvPr/>
            </p:nvSpPr>
            <p:spPr>
              <a:xfrm>
                <a:off x="6125760" y="5415120"/>
                <a:ext cx="35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•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2" name=""/>
            <p:cNvGrpSpPr/>
            <p:nvPr/>
          </p:nvGrpSpPr>
          <p:grpSpPr>
            <a:xfrm>
              <a:off x="5281200" y="4950000"/>
              <a:ext cx="1916640" cy="1478880"/>
              <a:chOff x="5281200" y="4950000"/>
              <a:chExt cx="1916640" cy="1478880"/>
            </a:xfrm>
          </p:grpSpPr>
          <p:sp>
            <p:nvSpPr>
              <p:cNvPr id="1183" name=""/>
              <p:cNvSpPr/>
              <p:nvPr/>
            </p:nvSpPr>
            <p:spPr>
              <a:xfrm flipV="1">
                <a:off x="5465520" y="5244120"/>
                <a:ext cx="599040" cy="425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flipV="1">
                <a:off x="6616440" y="5852520"/>
                <a:ext cx="509760" cy="326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281200" y="4950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Comic Sans MS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877080" y="5969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l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3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2843280" y="6094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2922120" y="1641600"/>
            <a:ext cx="3343680" cy="644040"/>
            <a:chOff x="2922120" y="1641600"/>
            <a:chExt cx="3343680" cy="644040"/>
          </a:xfrm>
        </p:grpSpPr>
        <p:sp>
          <p:nvSpPr>
            <p:cNvPr id="1189" name=""/>
            <p:cNvSpPr/>
            <p:nvPr/>
          </p:nvSpPr>
          <p:spPr>
            <a:xfrm>
              <a:off x="5279040" y="1641600"/>
              <a:ext cx="98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6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922120" y="1641600"/>
              <a:ext cx="198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5(p – 4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917960" y="1643040"/>
              <a:ext cx="41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2999880" y="2854440"/>
            <a:ext cx="3306960" cy="644040"/>
            <a:chOff x="2999880" y="2854440"/>
            <a:chExt cx="3306960" cy="644040"/>
          </a:xfrm>
        </p:grpSpPr>
        <p:sp>
          <p:nvSpPr>
            <p:cNvPr id="1193" name=""/>
            <p:cNvSpPr/>
            <p:nvPr/>
          </p:nvSpPr>
          <p:spPr>
            <a:xfrm>
              <a:off x="5320080" y="2854440"/>
              <a:ext cx="98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6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999880" y="2854440"/>
              <a:ext cx="197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5p – 6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959360" y="2855880"/>
              <a:ext cx="41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2829960" y="3554280"/>
            <a:ext cx="3484440" cy="644400"/>
            <a:chOff x="2829960" y="3554280"/>
            <a:chExt cx="3484440" cy="644400"/>
          </a:xfrm>
        </p:grpSpPr>
        <p:sp>
          <p:nvSpPr>
            <p:cNvPr id="1197" name=""/>
            <p:cNvSpPr/>
            <p:nvPr/>
          </p:nvSpPr>
          <p:spPr>
            <a:xfrm>
              <a:off x="2829960" y="3554280"/>
              <a:ext cx="113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-15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179680" y="3556080"/>
              <a:ext cx="113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-15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844720" y="4195800"/>
              <a:ext cx="34545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0" name=""/>
          <p:cNvGrpSpPr/>
          <p:nvPr/>
        </p:nvGrpSpPr>
        <p:grpSpPr>
          <a:xfrm>
            <a:off x="4085280" y="4181400"/>
            <a:ext cx="1693800" cy="642600"/>
            <a:chOff x="4085280" y="4181400"/>
            <a:chExt cx="1693800" cy="642600"/>
          </a:xfrm>
        </p:grpSpPr>
        <p:sp>
          <p:nvSpPr>
            <p:cNvPr id="1201" name=""/>
            <p:cNvSpPr/>
            <p:nvPr/>
          </p:nvSpPr>
          <p:spPr>
            <a:xfrm>
              <a:off x="4935240" y="4181400"/>
              <a:ext cx="84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085280" y="4181400"/>
              <a:ext cx="8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6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3" name=""/>
          <p:cNvGrpSpPr/>
          <p:nvPr/>
        </p:nvGrpSpPr>
        <p:grpSpPr>
          <a:xfrm>
            <a:off x="3679200" y="5403960"/>
            <a:ext cx="1723680" cy="642600"/>
            <a:chOff x="3679200" y="5403960"/>
            <a:chExt cx="1723680" cy="642600"/>
          </a:xfrm>
        </p:grpSpPr>
        <p:sp>
          <p:nvSpPr>
            <p:cNvPr id="1204" name=""/>
            <p:cNvSpPr/>
            <p:nvPr/>
          </p:nvSpPr>
          <p:spPr>
            <a:xfrm>
              <a:off x="3679200" y="5403960"/>
              <a:ext cx="84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p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550040" y="5403960"/>
              <a:ext cx="8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-6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06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814320" y="1447920"/>
            <a:ext cx="75265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When you finish this unit, you will be able to 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00400" y="2770200"/>
            <a:ext cx="502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nslate sentences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equations,  then solv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"/>
          <p:cNvGrpSpPr/>
          <p:nvPr/>
        </p:nvGrpSpPr>
        <p:grpSpPr>
          <a:xfrm>
            <a:off x="1214280" y="1316160"/>
            <a:ext cx="6723360" cy="1593720"/>
            <a:chOff x="1214280" y="1316160"/>
            <a:chExt cx="6723360" cy="1593720"/>
          </a:xfrm>
        </p:grpSpPr>
        <p:grpSp>
          <p:nvGrpSpPr>
            <p:cNvPr id="1207" name=""/>
            <p:cNvGrpSpPr/>
            <p:nvPr/>
          </p:nvGrpSpPr>
          <p:grpSpPr>
            <a:xfrm>
              <a:off x="1228680" y="1776240"/>
              <a:ext cx="4889880" cy="1133640"/>
              <a:chOff x="1228680" y="1776240"/>
              <a:chExt cx="4889880" cy="1133640"/>
            </a:xfrm>
          </p:grpSpPr>
          <p:grpSp>
            <p:nvGrpSpPr>
              <p:cNvPr id="1208" name=""/>
              <p:cNvGrpSpPr/>
              <p:nvPr/>
            </p:nvGrpSpPr>
            <p:grpSpPr>
              <a:xfrm>
                <a:off x="5703840" y="1776240"/>
                <a:ext cx="414720" cy="1133640"/>
                <a:chOff x="5703840" y="1776240"/>
                <a:chExt cx="414720" cy="1133640"/>
              </a:xfrm>
            </p:grpSpPr>
            <p:sp>
              <p:nvSpPr>
                <p:cNvPr id="1209" name=""/>
                <p:cNvSpPr/>
                <p:nvPr/>
              </p:nvSpPr>
              <p:spPr>
                <a:xfrm>
                  <a:off x="5703840" y="17762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5711400" y="2339640"/>
                  <a:ext cx="400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5704560" y="232848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2" name=""/>
              <p:cNvSpPr/>
              <p:nvPr/>
            </p:nvSpPr>
            <p:spPr>
              <a:xfrm>
                <a:off x="1228680" y="2022120"/>
                <a:ext cx="4352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by 2, is the same a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3" name=""/>
            <p:cNvSpPr/>
            <p:nvPr/>
          </p:nvSpPr>
          <p:spPr>
            <a:xfrm>
              <a:off x="1214280" y="1316160"/>
              <a:ext cx="672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The square root of z, reduce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5702040" y="1771560"/>
            <a:ext cx="2226600" cy="2270520"/>
            <a:chOff x="5702040" y="1771560"/>
            <a:chExt cx="2226600" cy="2270520"/>
          </a:xfrm>
        </p:grpSpPr>
        <p:grpSp>
          <p:nvGrpSpPr>
            <p:cNvPr id="1215" name=""/>
            <p:cNvGrpSpPr/>
            <p:nvPr/>
          </p:nvGrpSpPr>
          <p:grpSpPr>
            <a:xfrm>
              <a:off x="7513920" y="2908080"/>
              <a:ext cx="414720" cy="1134000"/>
              <a:chOff x="7513920" y="2908080"/>
              <a:chExt cx="414720" cy="1134000"/>
            </a:xfrm>
          </p:grpSpPr>
          <p:sp>
            <p:nvSpPr>
              <p:cNvPr id="1216" name=""/>
              <p:cNvSpPr/>
              <p:nvPr/>
            </p:nvSpPr>
            <p:spPr>
              <a:xfrm>
                <a:off x="7513920" y="29080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521480" y="3471840"/>
                <a:ext cx="4003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514640" y="34606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9" name=""/>
            <p:cNvGrpSpPr/>
            <p:nvPr/>
          </p:nvGrpSpPr>
          <p:grpSpPr>
            <a:xfrm>
              <a:off x="5702040" y="1771560"/>
              <a:ext cx="415080" cy="1134000"/>
              <a:chOff x="5702040" y="1771560"/>
              <a:chExt cx="415080" cy="1134000"/>
            </a:xfrm>
          </p:grpSpPr>
          <p:sp>
            <p:nvSpPr>
              <p:cNvPr id="1220" name=""/>
              <p:cNvSpPr/>
              <p:nvPr/>
            </p:nvSpPr>
            <p:spPr>
              <a:xfrm>
                <a:off x="5702040" y="17715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709960" y="2335320"/>
                <a:ext cx="3999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703120" y="23241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3" name=""/>
          <p:cNvGrpSpPr/>
          <p:nvPr/>
        </p:nvGrpSpPr>
        <p:grpSpPr>
          <a:xfrm>
            <a:off x="1222920" y="1316160"/>
            <a:ext cx="6591240" cy="2478960"/>
            <a:chOff x="1222920" y="1316160"/>
            <a:chExt cx="6591240" cy="2478960"/>
          </a:xfrm>
        </p:grpSpPr>
        <p:sp>
          <p:nvSpPr>
            <p:cNvPr id="1224" name=""/>
            <p:cNvSpPr/>
            <p:nvPr/>
          </p:nvSpPr>
          <p:spPr>
            <a:xfrm>
              <a:off x="3528720" y="3152520"/>
              <a:ext cx="59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-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864040" y="1316160"/>
              <a:ext cx="195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reduce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222920" y="2020680"/>
              <a:ext cx="107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by 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2392200" y="2014560"/>
            <a:ext cx="3748320" cy="1780560"/>
            <a:chOff x="2392200" y="2014560"/>
            <a:chExt cx="3748320" cy="1780560"/>
          </a:xfrm>
        </p:grpSpPr>
        <p:sp>
          <p:nvSpPr>
            <p:cNvPr id="1228" name=""/>
            <p:cNvSpPr/>
            <p:nvPr/>
          </p:nvSpPr>
          <p:spPr>
            <a:xfrm>
              <a:off x="5697720" y="31525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392200" y="2014560"/>
              <a:ext cx="321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is the same a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0" name=""/>
          <p:cNvGrpSpPr/>
          <p:nvPr/>
        </p:nvGrpSpPr>
        <p:grpSpPr>
          <a:xfrm>
            <a:off x="1219680" y="1316160"/>
            <a:ext cx="4536000" cy="2540880"/>
            <a:chOff x="1219680" y="1316160"/>
            <a:chExt cx="4536000" cy="2540880"/>
          </a:xfrm>
        </p:grpSpPr>
        <p:sp>
          <p:nvSpPr>
            <p:cNvPr id="1231" name=""/>
            <p:cNvSpPr/>
            <p:nvPr/>
          </p:nvSpPr>
          <p:spPr>
            <a:xfrm>
              <a:off x="1262160" y="1316160"/>
              <a:ext cx="449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The square root of z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2" name=""/>
            <p:cNvGrpSpPr/>
            <p:nvPr/>
          </p:nvGrpSpPr>
          <p:grpSpPr>
            <a:xfrm>
              <a:off x="1219680" y="3092760"/>
              <a:ext cx="788400" cy="764280"/>
              <a:chOff x="1219680" y="3092760"/>
              <a:chExt cx="788400" cy="764280"/>
            </a:xfrm>
          </p:grpSpPr>
          <p:sp>
            <p:nvSpPr>
              <p:cNvPr id="1233" name=""/>
              <p:cNvSpPr/>
              <p:nvPr/>
            </p:nvSpPr>
            <p:spPr>
              <a:xfrm>
                <a:off x="1595160" y="3152880"/>
                <a:ext cx="39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z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4" name=""/>
              <p:cNvGrpSpPr/>
              <p:nvPr/>
            </p:nvGrpSpPr>
            <p:grpSpPr>
              <a:xfrm>
                <a:off x="1219680" y="3092760"/>
                <a:ext cx="788400" cy="764280"/>
                <a:chOff x="1219680" y="3092760"/>
                <a:chExt cx="788400" cy="764280"/>
              </a:xfrm>
            </p:grpSpPr>
            <p:sp>
              <p:nvSpPr>
                <p:cNvPr id="1235" name=""/>
                <p:cNvSpPr/>
                <p:nvPr/>
              </p:nvSpPr>
              <p:spPr>
                <a:xfrm>
                  <a:off x="1219680" y="3092760"/>
                  <a:ext cx="47952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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1598400" y="313992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7" name=""/>
          <p:cNvSpPr/>
          <p:nvPr/>
        </p:nvSpPr>
        <p:spPr>
          <a:xfrm>
            <a:off x="2843280" y="6094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3125880" y="3903840"/>
            <a:ext cx="2581560" cy="1134000"/>
            <a:chOff x="3125880" y="3903840"/>
            <a:chExt cx="2581560" cy="1134000"/>
          </a:xfrm>
        </p:grpSpPr>
        <p:grpSp>
          <p:nvGrpSpPr>
            <p:cNvPr id="1239" name=""/>
            <p:cNvGrpSpPr/>
            <p:nvPr/>
          </p:nvGrpSpPr>
          <p:grpSpPr>
            <a:xfrm>
              <a:off x="3125880" y="4088160"/>
              <a:ext cx="793080" cy="764280"/>
              <a:chOff x="3125880" y="4088160"/>
              <a:chExt cx="793080" cy="764280"/>
            </a:xfrm>
          </p:grpSpPr>
          <p:sp>
            <p:nvSpPr>
              <p:cNvPr id="1240" name=""/>
              <p:cNvSpPr/>
              <p:nvPr/>
            </p:nvSpPr>
            <p:spPr>
              <a:xfrm>
                <a:off x="3489120" y="4148280"/>
                <a:ext cx="429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z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3125880" y="4088160"/>
                <a:ext cx="4903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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3509640" y="4135680"/>
                <a:ext cx="4093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3" name=""/>
            <p:cNvSpPr/>
            <p:nvPr/>
          </p:nvSpPr>
          <p:spPr>
            <a:xfrm>
              <a:off x="4048200" y="4148280"/>
              <a:ext cx="109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 2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4" name=""/>
            <p:cNvGrpSpPr/>
            <p:nvPr/>
          </p:nvGrpSpPr>
          <p:grpSpPr>
            <a:xfrm>
              <a:off x="5292720" y="3903840"/>
              <a:ext cx="414720" cy="1134000"/>
              <a:chOff x="5292720" y="3903840"/>
              <a:chExt cx="414720" cy="1134000"/>
            </a:xfrm>
          </p:grpSpPr>
          <p:sp>
            <p:nvSpPr>
              <p:cNvPr id="1245" name=""/>
              <p:cNvSpPr/>
              <p:nvPr/>
            </p:nvSpPr>
            <p:spPr>
              <a:xfrm>
                <a:off x="5292720" y="39038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300640" y="4467600"/>
                <a:ext cx="399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293440" y="44564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8" name=""/>
          <p:cNvGrpSpPr/>
          <p:nvPr/>
        </p:nvGrpSpPr>
        <p:grpSpPr>
          <a:xfrm>
            <a:off x="3054240" y="4851360"/>
            <a:ext cx="3035520" cy="644400"/>
            <a:chOff x="3054240" y="4851360"/>
            <a:chExt cx="3035520" cy="644400"/>
          </a:xfrm>
        </p:grpSpPr>
        <p:sp>
          <p:nvSpPr>
            <p:cNvPr id="1249" name=""/>
            <p:cNvSpPr/>
            <p:nvPr/>
          </p:nvSpPr>
          <p:spPr>
            <a:xfrm>
              <a:off x="4095720" y="485136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+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148360" y="485316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+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054240" y="5492880"/>
              <a:ext cx="3035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2" name=""/>
          <p:cNvGrpSpPr/>
          <p:nvPr/>
        </p:nvGrpSpPr>
        <p:grpSpPr>
          <a:xfrm>
            <a:off x="3106800" y="5430960"/>
            <a:ext cx="2896200" cy="1134000"/>
            <a:chOff x="3106800" y="5430960"/>
            <a:chExt cx="2896200" cy="1134000"/>
          </a:xfrm>
        </p:grpSpPr>
        <p:grpSp>
          <p:nvGrpSpPr>
            <p:cNvPr id="1253" name=""/>
            <p:cNvGrpSpPr/>
            <p:nvPr/>
          </p:nvGrpSpPr>
          <p:grpSpPr>
            <a:xfrm>
              <a:off x="3106800" y="5616720"/>
              <a:ext cx="793800" cy="764280"/>
              <a:chOff x="3106800" y="5616720"/>
              <a:chExt cx="793800" cy="764280"/>
            </a:xfrm>
          </p:grpSpPr>
          <p:sp>
            <p:nvSpPr>
              <p:cNvPr id="1254" name=""/>
              <p:cNvSpPr/>
              <p:nvPr/>
            </p:nvSpPr>
            <p:spPr>
              <a:xfrm>
                <a:off x="3470400" y="5676840"/>
                <a:ext cx="43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z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106800" y="5616720"/>
                <a:ext cx="4906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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490920" y="5664240"/>
                <a:ext cx="4096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4770360" y="5430960"/>
              <a:ext cx="1232640" cy="1134000"/>
              <a:chOff x="4770360" y="5430960"/>
              <a:chExt cx="1232640" cy="1134000"/>
            </a:xfrm>
          </p:grpSpPr>
          <p:sp>
            <p:nvSpPr>
              <p:cNvPr id="1258" name=""/>
              <p:cNvSpPr/>
              <p:nvPr/>
            </p:nvSpPr>
            <p:spPr>
              <a:xfrm>
                <a:off x="4770360" y="5675400"/>
                <a:ext cx="82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= 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9" name=""/>
              <p:cNvGrpSpPr/>
              <p:nvPr/>
            </p:nvGrpSpPr>
            <p:grpSpPr>
              <a:xfrm>
                <a:off x="5588280" y="5430960"/>
                <a:ext cx="414720" cy="1134000"/>
                <a:chOff x="5588280" y="5430960"/>
                <a:chExt cx="414720" cy="1134000"/>
              </a:xfrm>
            </p:grpSpPr>
            <p:sp>
              <p:nvSpPr>
                <p:cNvPr id="1260" name=""/>
                <p:cNvSpPr/>
                <p:nvPr/>
              </p:nvSpPr>
              <p:spPr>
                <a:xfrm>
                  <a:off x="5588280" y="54309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5596200" y="5994720"/>
                  <a:ext cx="399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5589000" y="59835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"/>
          <p:cNvSpPr/>
          <p:nvPr/>
        </p:nvSpPr>
        <p:spPr>
          <a:xfrm>
            <a:off x="2843280" y="6094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4" name=""/>
          <p:cNvGrpSpPr/>
          <p:nvPr/>
        </p:nvGrpSpPr>
        <p:grpSpPr>
          <a:xfrm>
            <a:off x="2906640" y="1338120"/>
            <a:ext cx="2124720" cy="1134000"/>
            <a:chOff x="2906640" y="1338120"/>
            <a:chExt cx="2124720" cy="1134000"/>
          </a:xfrm>
        </p:grpSpPr>
        <p:grpSp>
          <p:nvGrpSpPr>
            <p:cNvPr id="1265" name=""/>
            <p:cNvGrpSpPr/>
            <p:nvPr/>
          </p:nvGrpSpPr>
          <p:grpSpPr>
            <a:xfrm>
              <a:off x="2906640" y="1523880"/>
              <a:ext cx="793800" cy="764280"/>
              <a:chOff x="2906640" y="1523880"/>
              <a:chExt cx="793800" cy="764280"/>
            </a:xfrm>
          </p:grpSpPr>
          <p:sp>
            <p:nvSpPr>
              <p:cNvPr id="1266" name=""/>
              <p:cNvSpPr/>
              <p:nvPr/>
            </p:nvSpPr>
            <p:spPr>
              <a:xfrm>
                <a:off x="3270240" y="1584000"/>
                <a:ext cx="43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z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906640" y="1523880"/>
                <a:ext cx="4906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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3290760" y="1571400"/>
                <a:ext cx="4096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9" name=""/>
            <p:cNvGrpSpPr/>
            <p:nvPr/>
          </p:nvGrpSpPr>
          <p:grpSpPr>
            <a:xfrm>
              <a:off x="3798720" y="1338120"/>
              <a:ext cx="1232640" cy="1134000"/>
              <a:chOff x="3798720" y="1338120"/>
              <a:chExt cx="1232640" cy="1134000"/>
            </a:xfrm>
          </p:grpSpPr>
          <p:sp>
            <p:nvSpPr>
              <p:cNvPr id="1270" name=""/>
              <p:cNvSpPr/>
              <p:nvPr/>
            </p:nvSpPr>
            <p:spPr>
              <a:xfrm>
                <a:off x="3798720" y="1582560"/>
                <a:ext cx="82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= 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1" name=""/>
              <p:cNvGrpSpPr/>
              <p:nvPr/>
            </p:nvGrpSpPr>
            <p:grpSpPr>
              <a:xfrm>
                <a:off x="4616640" y="1338120"/>
                <a:ext cx="414720" cy="1134000"/>
                <a:chOff x="4616640" y="1338120"/>
                <a:chExt cx="414720" cy="1134000"/>
              </a:xfrm>
            </p:grpSpPr>
            <p:sp>
              <p:nvSpPr>
                <p:cNvPr id="1272" name=""/>
                <p:cNvSpPr/>
                <p:nvPr/>
              </p:nvSpPr>
              <p:spPr>
                <a:xfrm>
                  <a:off x="4616640" y="133812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4624560" y="1901880"/>
                  <a:ext cx="399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4617360" y="189072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75" name=""/>
          <p:cNvGrpSpPr/>
          <p:nvPr/>
        </p:nvGrpSpPr>
        <p:grpSpPr>
          <a:xfrm>
            <a:off x="5114880" y="1339920"/>
            <a:ext cx="1156320" cy="1130400"/>
            <a:chOff x="5114880" y="1339920"/>
            <a:chExt cx="1156320" cy="1130400"/>
          </a:xfrm>
        </p:grpSpPr>
        <p:sp>
          <p:nvSpPr>
            <p:cNvPr id="1276" name=""/>
            <p:cNvSpPr/>
            <p:nvPr/>
          </p:nvSpPr>
          <p:spPr>
            <a:xfrm>
              <a:off x="5114880" y="15825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7" name=""/>
            <p:cNvGrpSpPr/>
            <p:nvPr/>
          </p:nvGrpSpPr>
          <p:grpSpPr>
            <a:xfrm>
              <a:off x="5624280" y="1339920"/>
              <a:ext cx="646920" cy="1130400"/>
              <a:chOff x="5624280" y="1339920"/>
              <a:chExt cx="646920" cy="1130400"/>
            </a:xfrm>
          </p:grpSpPr>
          <p:sp>
            <p:nvSpPr>
              <p:cNvPr id="1278" name=""/>
              <p:cNvSpPr/>
              <p:nvPr/>
            </p:nvSpPr>
            <p:spPr>
              <a:xfrm>
                <a:off x="5624280" y="133992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740920" y="18889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654520" y="1904760"/>
                <a:ext cx="583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81" name=""/>
          <p:cNvGrpSpPr/>
          <p:nvPr/>
        </p:nvGrpSpPr>
        <p:grpSpPr>
          <a:xfrm>
            <a:off x="3139920" y="2641680"/>
            <a:ext cx="2592720" cy="1130400"/>
            <a:chOff x="3139920" y="2641680"/>
            <a:chExt cx="2592720" cy="1130400"/>
          </a:xfrm>
        </p:grpSpPr>
        <p:sp>
          <p:nvSpPr>
            <p:cNvPr id="1282" name=""/>
            <p:cNvSpPr/>
            <p:nvPr/>
          </p:nvSpPr>
          <p:spPr>
            <a:xfrm>
              <a:off x="4305240" y="2884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3" name=""/>
            <p:cNvGrpSpPr/>
            <p:nvPr/>
          </p:nvGrpSpPr>
          <p:grpSpPr>
            <a:xfrm>
              <a:off x="3139920" y="2824200"/>
              <a:ext cx="793800" cy="764280"/>
              <a:chOff x="3139920" y="2824200"/>
              <a:chExt cx="793800" cy="764280"/>
            </a:xfrm>
          </p:grpSpPr>
          <p:sp>
            <p:nvSpPr>
              <p:cNvPr id="1284" name=""/>
              <p:cNvSpPr/>
              <p:nvPr/>
            </p:nvSpPr>
            <p:spPr>
              <a:xfrm>
                <a:off x="3503520" y="2884320"/>
                <a:ext cx="43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z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3139920" y="2824200"/>
                <a:ext cx="4906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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3524040" y="2871720"/>
                <a:ext cx="4096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7" name=""/>
            <p:cNvGrpSpPr/>
            <p:nvPr/>
          </p:nvGrpSpPr>
          <p:grpSpPr>
            <a:xfrm>
              <a:off x="5085720" y="2641680"/>
              <a:ext cx="646920" cy="1130400"/>
              <a:chOff x="5085720" y="2641680"/>
              <a:chExt cx="646920" cy="1130400"/>
            </a:xfrm>
          </p:grpSpPr>
          <p:sp>
            <p:nvSpPr>
              <p:cNvPr id="1288" name=""/>
              <p:cNvSpPr/>
              <p:nvPr/>
            </p:nvSpPr>
            <p:spPr>
              <a:xfrm>
                <a:off x="5085720" y="264168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202720" y="31906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116320" y="3206520"/>
                <a:ext cx="584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1" name=""/>
          <p:cNvGrpSpPr/>
          <p:nvPr/>
        </p:nvGrpSpPr>
        <p:grpSpPr>
          <a:xfrm>
            <a:off x="3000960" y="4006800"/>
            <a:ext cx="1664640" cy="1130400"/>
            <a:chOff x="3000960" y="4006800"/>
            <a:chExt cx="1664640" cy="1130400"/>
          </a:xfrm>
        </p:grpSpPr>
        <p:sp>
          <p:nvSpPr>
            <p:cNvPr id="1292" name=""/>
            <p:cNvSpPr/>
            <p:nvPr/>
          </p:nvSpPr>
          <p:spPr>
            <a:xfrm>
              <a:off x="3000960" y="4249800"/>
              <a:ext cx="77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z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3" name=""/>
            <p:cNvGrpSpPr/>
            <p:nvPr/>
          </p:nvGrpSpPr>
          <p:grpSpPr>
            <a:xfrm>
              <a:off x="3884400" y="4006800"/>
              <a:ext cx="781200" cy="1130400"/>
              <a:chOff x="3884400" y="4006800"/>
              <a:chExt cx="781200" cy="1130400"/>
            </a:xfrm>
          </p:grpSpPr>
          <p:sp>
            <p:nvSpPr>
              <p:cNvPr id="1294" name=""/>
              <p:cNvSpPr/>
              <p:nvPr/>
            </p:nvSpPr>
            <p:spPr>
              <a:xfrm>
                <a:off x="3884400" y="4006800"/>
                <a:ext cx="781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7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4001400" y="4555800"/>
                <a:ext cx="548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914640" y="4571640"/>
                <a:ext cx="719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7" name=""/>
          <p:cNvGrpSpPr/>
          <p:nvPr/>
        </p:nvGrpSpPr>
        <p:grpSpPr>
          <a:xfrm>
            <a:off x="4749840" y="4006800"/>
            <a:ext cx="1400040" cy="1130400"/>
            <a:chOff x="4749840" y="4006800"/>
            <a:chExt cx="1400040" cy="1130400"/>
          </a:xfrm>
        </p:grpSpPr>
        <p:sp>
          <p:nvSpPr>
            <p:cNvPr id="1298" name=""/>
            <p:cNvSpPr/>
            <p:nvPr/>
          </p:nvSpPr>
          <p:spPr>
            <a:xfrm>
              <a:off x="4749840" y="42498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9" name=""/>
            <p:cNvGrpSpPr/>
            <p:nvPr/>
          </p:nvGrpSpPr>
          <p:grpSpPr>
            <a:xfrm>
              <a:off x="5269680" y="4006800"/>
              <a:ext cx="880200" cy="1130400"/>
              <a:chOff x="5269680" y="4006800"/>
              <a:chExt cx="880200" cy="1130400"/>
            </a:xfrm>
          </p:grpSpPr>
          <p:sp>
            <p:nvSpPr>
              <p:cNvPr id="1300" name=""/>
              <p:cNvSpPr/>
              <p:nvPr/>
            </p:nvSpPr>
            <p:spPr>
              <a:xfrm>
                <a:off x="5269680" y="4006800"/>
                <a:ext cx="880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89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386320" y="455580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6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298480" y="4571640"/>
                <a:ext cx="82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3" name=""/>
          <p:cNvGrpSpPr/>
          <p:nvPr/>
        </p:nvGrpSpPr>
        <p:grpSpPr>
          <a:xfrm>
            <a:off x="3705840" y="5305320"/>
            <a:ext cx="1762560" cy="1145160"/>
            <a:chOff x="3705840" y="5305320"/>
            <a:chExt cx="1762560" cy="1145160"/>
          </a:xfrm>
        </p:grpSpPr>
        <p:sp>
          <p:nvSpPr>
            <p:cNvPr id="1304" name=""/>
            <p:cNvSpPr/>
            <p:nvPr/>
          </p:nvSpPr>
          <p:spPr>
            <a:xfrm>
              <a:off x="3705840" y="5556240"/>
              <a:ext cx="11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z =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821480" y="530532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3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821480" y="586908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6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886280" y="5870520"/>
              <a:ext cx="5176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8" name=""/>
          <p:cNvGrpSpPr/>
          <p:nvPr/>
        </p:nvGrpSpPr>
        <p:grpSpPr>
          <a:xfrm>
            <a:off x="2601720" y="2270520"/>
            <a:ext cx="3844800" cy="1853640"/>
            <a:chOff x="2601720" y="2270520"/>
            <a:chExt cx="3844800" cy="1853640"/>
          </a:xfrm>
        </p:grpSpPr>
        <p:sp>
          <p:nvSpPr>
            <p:cNvPr id="1309" name=""/>
            <p:cNvSpPr/>
            <p:nvPr/>
          </p:nvSpPr>
          <p:spPr>
            <a:xfrm flipH="1" rot="18907800">
              <a:off x="3074040" y="2554920"/>
              <a:ext cx="1336320" cy="128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rot="2692200">
              <a:off x="2859480" y="2554920"/>
              <a:ext cx="1335600" cy="128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044600" y="2546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H="1" rot="18907800">
              <a:off x="4852080" y="2556720"/>
              <a:ext cx="1336320" cy="1282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rot="2692200">
              <a:off x="4650840" y="2557080"/>
              <a:ext cx="1336320" cy="128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839920" y="2556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5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5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/>
          <p:nvPr/>
        </p:nvSpPr>
        <p:spPr>
          <a:xfrm>
            <a:off x="2843280" y="6094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072800" y="1389240"/>
            <a:ext cx="69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is the difference betwe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7" name=""/>
          <p:cNvGrpSpPr/>
          <p:nvPr/>
        </p:nvGrpSpPr>
        <p:grpSpPr>
          <a:xfrm>
            <a:off x="1209960" y="4656240"/>
            <a:ext cx="6596640" cy="1586520"/>
            <a:chOff x="1209960" y="4656240"/>
            <a:chExt cx="6596640" cy="1586520"/>
          </a:xfrm>
        </p:grpSpPr>
        <p:sp>
          <p:nvSpPr>
            <p:cNvPr id="1318" name=""/>
            <p:cNvSpPr/>
            <p:nvPr/>
          </p:nvSpPr>
          <p:spPr>
            <a:xfrm>
              <a:off x="1209960" y="4656240"/>
              <a:ext cx="659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The square root of z reduced by 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9" name=""/>
            <p:cNvGrpSpPr/>
            <p:nvPr/>
          </p:nvGrpSpPr>
          <p:grpSpPr>
            <a:xfrm>
              <a:off x="3786120" y="5478480"/>
              <a:ext cx="1558800" cy="764280"/>
              <a:chOff x="3786120" y="5478480"/>
              <a:chExt cx="1558800" cy="764280"/>
            </a:xfrm>
          </p:grpSpPr>
          <p:sp>
            <p:nvSpPr>
              <p:cNvPr id="1320" name=""/>
              <p:cNvSpPr/>
              <p:nvPr/>
            </p:nvSpPr>
            <p:spPr>
              <a:xfrm>
                <a:off x="4149720" y="5538960"/>
                <a:ext cx="119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z - 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1" name=""/>
              <p:cNvGrpSpPr/>
              <p:nvPr/>
            </p:nvGrpSpPr>
            <p:grpSpPr>
              <a:xfrm>
                <a:off x="3786120" y="5478480"/>
                <a:ext cx="1558800" cy="764280"/>
                <a:chOff x="3786120" y="5478480"/>
                <a:chExt cx="1558800" cy="764280"/>
              </a:xfrm>
            </p:grpSpPr>
            <p:sp>
              <p:nvSpPr>
                <p:cNvPr id="1322" name=""/>
                <p:cNvSpPr/>
                <p:nvPr/>
              </p:nvSpPr>
              <p:spPr>
                <a:xfrm>
                  <a:off x="3786120" y="5478480"/>
                  <a:ext cx="4906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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4170240" y="5526000"/>
                  <a:ext cx="1174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24" name=""/>
          <p:cNvGrpSpPr/>
          <p:nvPr/>
        </p:nvGrpSpPr>
        <p:grpSpPr>
          <a:xfrm>
            <a:off x="1173240" y="2505240"/>
            <a:ext cx="4231440" cy="1538640"/>
            <a:chOff x="1173240" y="2505240"/>
            <a:chExt cx="4231440" cy="1538640"/>
          </a:xfrm>
        </p:grpSpPr>
        <p:grpSp>
          <p:nvGrpSpPr>
            <p:cNvPr id="1325" name=""/>
            <p:cNvGrpSpPr/>
            <p:nvPr/>
          </p:nvGrpSpPr>
          <p:grpSpPr>
            <a:xfrm>
              <a:off x="3726000" y="3279600"/>
              <a:ext cx="793080" cy="764280"/>
              <a:chOff x="3726000" y="3279600"/>
              <a:chExt cx="793080" cy="764280"/>
            </a:xfrm>
          </p:grpSpPr>
          <p:sp>
            <p:nvSpPr>
              <p:cNvPr id="1326" name=""/>
              <p:cNvSpPr/>
              <p:nvPr/>
            </p:nvSpPr>
            <p:spPr>
              <a:xfrm>
                <a:off x="4089240" y="3339720"/>
                <a:ext cx="429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z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3726000" y="3279600"/>
                <a:ext cx="4903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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4109760" y="3327120"/>
                <a:ext cx="4093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9" name=""/>
            <p:cNvSpPr/>
            <p:nvPr/>
          </p:nvSpPr>
          <p:spPr>
            <a:xfrm>
              <a:off x="1173240" y="2505240"/>
              <a:ext cx="423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The square root of z,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0" name=""/>
          <p:cNvGrpSpPr/>
          <p:nvPr/>
        </p:nvGrpSpPr>
        <p:grpSpPr>
          <a:xfrm>
            <a:off x="4653720" y="2506680"/>
            <a:ext cx="3354840" cy="1474560"/>
            <a:chOff x="4653720" y="2506680"/>
            <a:chExt cx="3354840" cy="1474560"/>
          </a:xfrm>
        </p:grpSpPr>
        <p:sp>
          <p:nvSpPr>
            <p:cNvPr id="1331" name=""/>
            <p:cNvSpPr/>
            <p:nvPr/>
          </p:nvSpPr>
          <p:spPr>
            <a:xfrm>
              <a:off x="4653720" y="3338640"/>
              <a:ext cx="70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 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352840" y="2506680"/>
              <a:ext cx="265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reduced by 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"/>
          <p:cNvSpPr/>
          <p:nvPr/>
        </p:nvSpPr>
        <p:spPr>
          <a:xfrm>
            <a:off x="2843280" y="6094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998720" y="1569960"/>
            <a:ext cx="197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z = 16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5" name=""/>
          <p:cNvGrpSpPr/>
          <p:nvPr/>
        </p:nvGrpSpPr>
        <p:grpSpPr>
          <a:xfrm>
            <a:off x="4005000" y="1509840"/>
            <a:ext cx="3240000" cy="764280"/>
            <a:chOff x="4005000" y="1509840"/>
            <a:chExt cx="3240000" cy="764280"/>
          </a:xfrm>
        </p:grpSpPr>
        <p:sp>
          <p:nvSpPr>
            <p:cNvPr id="1336" name=""/>
            <p:cNvSpPr/>
            <p:nvPr/>
          </p:nvSpPr>
          <p:spPr>
            <a:xfrm>
              <a:off x="4005000" y="1569960"/>
              <a:ext cx="116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the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7" name=""/>
            <p:cNvGrpSpPr/>
            <p:nvPr/>
          </p:nvGrpSpPr>
          <p:grpSpPr>
            <a:xfrm>
              <a:off x="5168520" y="1509840"/>
              <a:ext cx="1637280" cy="764280"/>
              <a:chOff x="5168520" y="1509840"/>
              <a:chExt cx="1637280" cy="764280"/>
            </a:xfrm>
          </p:grpSpPr>
          <p:grpSp>
            <p:nvGrpSpPr>
              <p:cNvPr id="1338" name=""/>
              <p:cNvGrpSpPr/>
              <p:nvPr/>
            </p:nvGrpSpPr>
            <p:grpSpPr>
              <a:xfrm>
                <a:off x="5168520" y="1509840"/>
                <a:ext cx="793800" cy="764280"/>
                <a:chOff x="5168520" y="1509840"/>
                <a:chExt cx="793800" cy="764280"/>
              </a:xfrm>
            </p:grpSpPr>
            <p:sp>
              <p:nvSpPr>
                <p:cNvPr id="1339" name=""/>
                <p:cNvSpPr/>
                <p:nvPr/>
              </p:nvSpPr>
              <p:spPr>
                <a:xfrm>
                  <a:off x="5532120" y="1569960"/>
                  <a:ext cx="4302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z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5168520" y="1509840"/>
                  <a:ext cx="4906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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5552640" y="1557360"/>
                  <a:ext cx="40968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2" name=""/>
              <p:cNvSpPr/>
              <p:nvPr/>
            </p:nvSpPr>
            <p:spPr>
              <a:xfrm>
                <a:off x="6096240" y="1568520"/>
                <a:ext cx="709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- 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3" name=""/>
            <p:cNvSpPr/>
            <p:nvPr/>
          </p:nvSpPr>
          <p:spPr>
            <a:xfrm>
              <a:off x="6802200" y="15699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2468520" y="2808360"/>
            <a:ext cx="1780200" cy="1251360"/>
            <a:chOff x="2468520" y="2808360"/>
            <a:chExt cx="1780200" cy="1251360"/>
          </a:xfrm>
        </p:grpSpPr>
        <p:grpSp>
          <p:nvGrpSpPr>
            <p:cNvPr id="1345" name=""/>
            <p:cNvGrpSpPr/>
            <p:nvPr/>
          </p:nvGrpSpPr>
          <p:grpSpPr>
            <a:xfrm>
              <a:off x="2468520" y="2808360"/>
              <a:ext cx="1056960" cy="1251360"/>
              <a:chOff x="2468520" y="2808360"/>
              <a:chExt cx="1056960" cy="1251360"/>
            </a:xfrm>
          </p:grpSpPr>
          <p:sp>
            <p:nvSpPr>
              <p:cNvPr id="1346" name=""/>
              <p:cNvSpPr/>
              <p:nvPr/>
            </p:nvSpPr>
            <p:spPr>
              <a:xfrm>
                <a:off x="2831760" y="2868480"/>
                <a:ext cx="6937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16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7" name=""/>
              <p:cNvGrpSpPr/>
              <p:nvPr/>
            </p:nvGrpSpPr>
            <p:grpSpPr>
              <a:xfrm>
                <a:off x="2468520" y="2808360"/>
                <a:ext cx="1056960" cy="764280"/>
                <a:chOff x="2468520" y="2808360"/>
                <a:chExt cx="1056960" cy="764280"/>
              </a:xfrm>
            </p:grpSpPr>
            <p:sp>
              <p:nvSpPr>
                <p:cNvPr id="1348" name=""/>
                <p:cNvSpPr/>
                <p:nvPr/>
              </p:nvSpPr>
              <p:spPr>
                <a:xfrm>
                  <a:off x="2468520" y="2808360"/>
                  <a:ext cx="49032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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2852640" y="2855880"/>
                  <a:ext cx="67284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50" name=""/>
            <p:cNvSpPr/>
            <p:nvPr/>
          </p:nvSpPr>
          <p:spPr>
            <a:xfrm>
              <a:off x="3539160" y="2868120"/>
              <a:ext cx="70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 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1" name=""/>
          <p:cNvSpPr/>
          <p:nvPr/>
        </p:nvSpPr>
        <p:spPr>
          <a:xfrm>
            <a:off x="4275360" y="28684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4 –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5835600" y="2868480"/>
            <a:ext cx="82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463840" y="413064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ever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4576680" y="4070520"/>
            <a:ext cx="2087640" cy="764280"/>
            <a:chOff x="4576680" y="4070520"/>
            <a:chExt cx="2087640" cy="764280"/>
          </a:xfrm>
        </p:grpSpPr>
        <p:grpSp>
          <p:nvGrpSpPr>
            <p:cNvPr id="1355" name=""/>
            <p:cNvGrpSpPr/>
            <p:nvPr/>
          </p:nvGrpSpPr>
          <p:grpSpPr>
            <a:xfrm>
              <a:off x="4576680" y="4070520"/>
              <a:ext cx="1558800" cy="764280"/>
              <a:chOff x="4576680" y="4070520"/>
              <a:chExt cx="1558800" cy="764280"/>
            </a:xfrm>
          </p:grpSpPr>
          <p:sp>
            <p:nvSpPr>
              <p:cNvPr id="1356" name=""/>
              <p:cNvSpPr/>
              <p:nvPr/>
            </p:nvSpPr>
            <p:spPr>
              <a:xfrm>
                <a:off x="4940280" y="4130640"/>
                <a:ext cx="119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z - 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7" name=""/>
              <p:cNvGrpSpPr/>
              <p:nvPr/>
            </p:nvGrpSpPr>
            <p:grpSpPr>
              <a:xfrm>
                <a:off x="4576680" y="4070520"/>
                <a:ext cx="1558800" cy="764280"/>
                <a:chOff x="4576680" y="4070520"/>
                <a:chExt cx="1558800" cy="764280"/>
              </a:xfrm>
            </p:grpSpPr>
            <p:sp>
              <p:nvSpPr>
                <p:cNvPr id="1358" name=""/>
                <p:cNvSpPr/>
                <p:nvPr/>
              </p:nvSpPr>
              <p:spPr>
                <a:xfrm>
                  <a:off x="4576680" y="4070520"/>
                  <a:ext cx="4906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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4960800" y="4117680"/>
                  <a:ext cx="1174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60" name=""/>
            <p:cNvSpPr/>
            <p:nvPr/>
          </p:nvSpPr>
          <p:spPr>
            <a:xfrm>
              <a:off x="6221520" y="41292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1" name=""/>
          <p:cNvGrpSpPr/>
          <p:nvPr/>
        </p:nvGrpSpPr>
        <p:grpSpPr>
          <a:xfrm>
            <a:off x="1209600" y="5418000"/>
            <a:ext cx="1868400" cy="764280"/>
            <a:chOff x="1209600" y="5418000"/>
            <a:chExt cx="1868400" cy="764280"/>
          </a:xfrm>
        </p:grpSpPr>
        <p:sp>
          <p:nvSpPr>
            <p:cNvPr id="1362" name=""/>
            <p:cNvSpPr/>
            <p:nvPr/>
          </p:nvSpPr>
          <p:spPr>
            <a:xfrm>
              <a:off x="1573200" y="5478120"/>
              <a:ext cx="150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16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- 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3" name=""/>
            <p:cNvGrpSpPr/>
            <p:nvPr/>
          </p:nvGrpSpPr>
          <p:grpSpPr>
            <a:xfrm>
              <a:off x="1209600" y="5418000"/>
              <a:ext cx="1868400" cy="764280"/>
              <a:chOff x="1209600" y="5418000"/>
              <a:chExt cx="1868400" cy="764280"/>
            </a:xfrm>
          </p:grpSpPr>
          <p:sp>
            <p:nvSpPr>
              <p:cNvPr id="1364" name=""/>
              <p:cNvSpPr/>
              <p:nvPr/>
            </p:nvSpPr>
            <p:spPr>
              <a:xfrm>
                <a:off x="1209600" y="5418000"/>
                <a:ext cx="4903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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1593720" y="5465520"/>
                <a:ext cx="1484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6" name=""/>
          <p:cNvGrpSpPr/>
          <p:nvPr/>
        </p:nvGrpSpPr>
        <p:grpSpPr>
          <a:xfrm>
            <a:off x="3168720" y="5418000"/>
            <a:ext cx="1506240" cy="1251360"/>
            <a:chOff x="3168720" y="5418000"/>
            <a:chExt cx="1506240" cy="1251360"/>
          </a:xfrm>
        </p:grpSpPr>
        <p:sp>
          <p:nvSpPr>
            <p:cNvPr id="1367" name=""/>
            <p:cNvSpPr/>
            <p:nvPr/>
          </p:nvSpPr>
          <p:spPr>
            <a:xfrm>
              <a:off x="3168720" y="54781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8" name=""/>
            <p:cNvGrpSpPr/>
            <p:nvPr/>
          </p:nvGrpSpPr>
          <p:grpSpPr>
            <a:xfrm>
              <a:off x="3618000" y="5418000"/>
              <a:ext cx="1056960" cy="1251360"/>
              <a:chOff x="3618000" y="5418000"/>
              <a:chExt cx="1056960" cy="1251360"/>
            </a:xfrm>
          </p:grpSpPr>
          <p:sp>
            <p:nvSpPr>
              <p:cNvPr id="1369" name=""/>
              <p:cNvSpPr/>
              <p:nvPr/>
            </p:nvSpPr>
            <p:spPr>
              <a:xfrm>
                <a:off x="3981240" y="5478120"/>
                <a:ext cx="6937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0" name=""/>
              <p:cNvGrpSpPr/>
              <p:nvPr/>
            </p:nvGrpSpPr>
            <p:grpSpPr>
              <a:xfrm>
                <a:off x="3618000" y="5418000"/>
                <a:ext cx="1056960" cy="764280"/>
                <a:chOff x="3618000" y="5418000"/>
                <a:chExt cx="1056960" cy="764280"/>
              </a:xfrm>
            </p:grpSpPr>
            <p:sp>
              <p:nvSpPr>
                <p:cNvPr id="1371" name=""/>
                <p:cNvSpPr/>
                <p:nvPr/>
              </p:nvSpPr>
              <p:spPr>
                <a:xfrm>
                  <a:off x="3618000" y="5418000"/>
                  <a:ext cx="49032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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4002120" y="5465520"/>
                  <a:ext cx="67284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73" name=""/>
          <p:cNvSpPr/>
          <p:nvPr/>
        </p:nvSpPr>
        <p:spPr>
          <a:xfrm>
            <a:off x="4725720" y="5478480"/>
            <a:ext cx="32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3.7416573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/>
          <p:nvPr/>
        </p:nvSpPr>
        <p:spPr>
          <a:xfrm>
            <a:off x="2843280" y="6094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415800" y="1411200"/>
            <a:ext cx="8411400" cy="1020600"/>
            <a:chOff x="415800" y="1411200"/>
            <a:chExt cx="8411400" cy="1020600"/>
          </a:xfrm>
        </p:grpSpPr>
        <p:grpSp>
          <p:nvGrpSpPr>
            <p:cNvPr id="1376" name=""/>
            <p:cNvGrpSpPr/>
            <p:nvPr/>
          </p:nvGrpSpPr>
          <p:grpSpPr>
            <a:xfrm>
              <a:off x="7299360" y="1430280"/>
              <a:ext cx="1527840" cy="1001520"/>
              <a:chOff x="7299360" y="1430280"/>
              <a:chExt cx="1527840" cy="1001520"/>
            </a:xfrm>
          </p:grpSpPr>
          <p:sp>
            <p:nvSpPr>
              <p:cNvPr id="1377" name=""/>
              <p:cNvSpPr/>
              <p:nvPr/>
            </p:nvSpPr>
            <p:spPr>
              <a:xfrm>
                <a:off x="7848000" y="1655640"/>
                <a:ext cx="9792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Comic Sans MS"/>
                  </a:rPr>
                  <a:t>of n.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8" name=""/>
              <p:cNvGrpSpPr/>
              <p:nvPr/>
            </p:nvGrpSpPr>
            <p:grpSpPr>
              <a:xfrm>
                <a:off x="7299360" y="1430280"/>
                <a:ext cx="430200" cy="1001520"/>
                <a:chOff x="7299360" y="1430280"/>
                <a:chExt cx="430200" cy="1001520"/>
              </a:xfrm>
            </p:grpSpPr>
            <p:sp>
              <p:nvSpPr>
                <p:cNvPr id="1379" name=""/>
                <p:cNvSpPr/>
                <p:nvPr/>
              </p:nvSpPr>
              <p:spPr>
                <a:xfrm>
                  <a:off x="7322400" y="19112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7322400" y="143028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7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7299360" y="1933560"/>
                  <a:ext cx="430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2" name=""/>
            <p:cNvGrpSpPr/>
            <p:nvPr/>
          </p:nvGrpSpPr>
          <p:grpSpPr>
            <a:xfrm>
              <a:off x="415800" y="1411200"/>
              <a:ext cx="430200" cy="1001520"/>
              <a:chOff x="415800" y="1411200"/>
              <a:chExt cx="430200" cy="1001520"/>
            </a:xfrm>
          </p:grpSpPr>
          <p:sp>
            <p:nvSpPr>
              <p:cNvPr id="1383" name=""/>
              <p:cNvSpPr/>
              <p:nvPr/>
            </p:nvSpPr>
            <p:spPr>
              <a:xfrm>
                <a:off x="437760" y="18921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437760" y="14112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15800" y="1914480"/>
                <a:ext cx="430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6" name=""/>
            <p:cNvSpPr/>
            <p:nvPr/>
          </p:nvSpPr>
          <p:spPr>
            <a:xfrm>
              <a:off x="844200" y="1636560"/>
              <a:ext cx="650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omic Sans MS"/>
                </a:rPr>
                <a:t>of n increased by 12 is the same as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414360" y="1392120"/>
            <a:ext cx="1614600" cy="2378520"/>
            <a:chOff x="414360" y="1392120"/>
            <a:chExt cx="1614600" cy="2378520"/>
          </a:xfrm>
        </p:grpSpPr>
        <p:grpSp>
          <p:nvGrpSpPr>
            <p:cNvPr id="1388" name=""/>
            <p:cNvGrpSpPr/>
            <p:nvPr/>
          </p:nvGrpSpPr>
          <p:grpSpPr>
            <a:xfrm>
              <a:off x="414360" y="1392120"/>
              <a:ext cx="991440" cy="1001520"/>
              <a:chOff x="414360" y="1392120"/>
              <a:chExt cx="991440" cy="1001520"/>
            </a:xfrm>
          </p:grpSpPr>
          <p:sp>
            <p:nvSpPr>
              <p:cNvPr id="1389" name=""/>
              <p:cNvSpPr/>
              <p:nvPr/>
            </p:nvSpPr>
            <p:spPr>
              <a:xfrm>
                <a:off x="864000" y="1630440"/>
                <a:ext cx="5418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ff"/>
                    </a:solidFill>
                    <a:latin typeface="Comic Sans MS"/>
                  </a:rPr>
                  <a:t>of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0" name=""/>
              <p:cNvGrpSpPr/>
              <p:nvPr/>
            </p:nvGrpSpPr>
            <p:grpSpPr>
              <a:xfrm>
                <a:off x="414360" y="1392120"/>
                <a:ext cx="430200" cy="1001520"/>
                <a:chOff x="414360" y="1392120"/>
                <a:chExt cx="430200" cy="1001520"/>
              </a:xfrm>
            </p:grpSpPr>
            <p:sp>
              <p:nvSpPr>
                <p:cNvPr id="1391" name=""/>
                <p:cNvSpPr/>
                <p:nvPr/>
              </p:nvSpPr>
              <p:spPr>
                <a:xfrm>
                  <a:off x="437760" y="187308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Comic Sans MS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437760" y="139212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Comic Sans MS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414360" y="1895400"/>
                  <a:ext cx="43020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94" name=""/>
            <p:cNvGrpSpPr/>
            <p:nvPr/>
          </p:nvGrpSpPr>
          <p:grpSpPr>
            <a:xfrm>
              <a:off x="1144440" y="2651040"/>
              <a:ext cx="884520" cy="1119600"/>
              <a:chOff x="1144440" y="2651040"/>
              <a:chExt cx="884520" cy="1119600"/>
            </a:xfrm>
          </p:grpSpPr>
          <p:grpSp>
            <p:nvGrpSpPr>
              <p:cNvPr id="1395" name=""/>
              <p:cNvGrpSpPr/>
              <p:nvPr/>
            </p:nvGrpSpPr>
            <p:grpSpPr>
              <a:xfrm>
                <a:off x="1144440" y="2651040"/>
                <a:ext cx="430200" cy="1119600"/>
                <a:chOff x="1144440" y="2651040"/>
                <a:chExt cx="430200" cy="1119600"/>
              </a:xfrm>
            </p:grpSpPr>
            <p:sp>
              <p:nvSpPr>
                <p:cNvPr id="1396" name=""/>
                <p:cNvSpPr/>
                <p:nvPr/>
              </p:nvSpPr>
              <p:spPr>
                <a:xfrm>
                  <a:off x="1153440" y="31892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1153440" y="26510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1144440" y="3216240"/>
                  <a:ext cx="43020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9" name=""/>
              <p:cNvSpPr/>
              <p:nvPr/>
            </p:nvSpPr>
            <p:spPr>
              <a:xfrm>
                <a:off x="1676160" y="2889360"/>
                <a:ext cx="35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•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0" name=""/>
          <p:cNvGrpSpPr/>
          <p:nvPr/>
        </p:nvGrpSpPr>
        <p:grpSpPr>
          <a:xfrm>
            <a:off x="1324440" y="1617840"/>
            <a:ext cx="3315600" cy="1914120"/>
            <a:chOff x="1324440" y="1617840"/>
            <a:chExt cx="3315600" cy="1914120"/>
          </a:xfrm>
        </p:grpSpPr>
        <p:sp>
          <p:nvSpPr>
            <p:cNvPr id="1401" name=""/>
            <p:cNvSpPr/>
            <p:nvPr/>
          </p:nvSpPr>
          <p:spPr>
            <a:xfrm>
              <a:off x="1324440" y="1617840"/>
              <a:ext cx="3315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ff"/>
                  </a:solidFill>
                  <a:latin typeface="Comic Sans MS"/>
                </a:rPr>
                <a:t>n increased by 1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831760" y="2889360"/>
              <a:ext cx="176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(n + 12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3" name=""/>
          <p:cNvGrpSpPr/>
          <p:nvPr/>
        </p:nvGrpSpPr>
        <p:grpSpPr>
          <a:xfrm>
            <a:off x="4533840" y="1612800"/>
            <a:ext cx="2712240" cy="1919160"/>
            <a:chOff x="4533840" y="1612800"/>
            <a:chExt cx="2712240" cy="1919160"/>
          </a:xfrm>
        </p:grpSpPr>
        <p:sp>
          <p:nvSpPr>
            <p:cNvPr id="1404" name=""/>
            <p:cNvSpPr/>
            <p:nvPr/>
          </p:nvSpPr>
          <p:spPr>
            <a:xfrm>
              <a:off x="4533840" y="1612800"/>
              <a:ext cx="2712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ff"/>
                  </a:solidFill>
                  <a:latin typeface="Comic Sans MS"/>
                </a:rPr>
                <a:t>is the same a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357880" y="28893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6" name=""/>
          <p:cNvGrpSpPr/>
          <p:nvPr/>
        </p:nvGrpSpPr>
        <p:grpSpPr>
          <a:xfrm>
            <a:off x="6684840" y="1420920"/>
            <a:ext cx="2127600" cy="2357640"/>
            <a:chOff x="6684840" y="1420920"/>
            <a:chExt cx="2127600" cy="2357640"/>
          </a:xfrm>
        </p:grpSpPr>
        <p:grpSp>
          <p:nvGrpSpPr>
            <p:cNvPr id="1407" name=""/>
            <p:cNvGrpSpPr/>
            <p:nvPr/>
          </p:nvGrpSpPr>
          <p:grpSpPr>
            <a:xfrm>
              <a:off x="7284960" y="1420920"/>
              <a:ext cx="1527480" cy="1001520"/>
              <a:chOff x="7284960" y="1420920"/>
              <a:chExt cx="1527480" cy="1001520"/>
            </a:xfrm>
          </p:grpSpPr>
          <p:sp>
            <p:nvSpPr>
              <p:cNvPr id="1408" name=""/>
              <p:cNvSpPr/>
              <p:nvPr/>
            </p:nvSpPr>
            <p:spPr>
              <a:xfrm>
                <a:off x="7833240" y="1646280"/>
                <a:ext cx="9792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ff"/>
                    </a:solidFill>
                    <a:latin typeface="Comic Sans MS"/>
                  </a:rPr>
                  <a:t>of n.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9" name=""/>
              <p:cNvGrpSpPr/>
              <p:nvPr/>
            </p:nvGrpSpPr>
            <p:grpSpPr>
              <a:xfrm>
                <a:off x="7284960" y="1420920"/>
                <a:ext cx="430200" cy="1001520"/>
                <a:chOff x="7284960" y="1420920"/>
                <a:chExt cx="430200" cy="100152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7308000" y="190188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Comic Sans MS"/>
                    </a:rPr>
                    <a:t>8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7308000" y="142092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Comic Sans MS"/>
                    </a:rPr>
                    <a:t>7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7284960" y="1924200"/>
                  <a:ext cx="43020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13" name=""/>
            <p:cNvGrpSpPr/>
            <p:nvPr/>
          </p:nvGrpSpPr>
          <p:grpSpPr>
            <a:xfrm>
              <a:off x="6684840" y="2644920"/>
              <a:ext cx="1278000" cy="1133640"/>
              <a:chOff x="6684840" y="2644920"/>
              <a:chExt cx="1278000" cy="1133640"/>
            </a:xfrm>
          </p:grpSpPr>
          <p:grpSp>
            <p:nvGrpSpPr>
              <p:cNvPr id="1414" name=""/>
              <p:cNvGrpSpPr/>
              <p:nvPr/>
            </p:nvGrpSpPr>
            <p:grpSpPr>
              <a:xfrm>
                <a:off x="6684840" y="2644920"/>
                <a:ext cx="430200" cy="1133640"/>
                <a:chOff x="6684840" y="2644920"/>
                <a:chExt cx="430200" cy="1133640"/>
              </a:xfrm>
            </p:grpSpPr>
            <p:sp>
              <p:nvSpPr>
                <p:cNvPr id="1415" name=""/>
                <p:cNvSpPr/>
                <p:nvPr/>
              </p:nvSpPr>
              <p:spPr>
                <a:xfrm>
                  <a:off x="6693840" y="31971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6693840" y="264492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7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6684840" y="3209760"/>
                  <a:ext cx="43020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8" name=""/>
              <p:cNvSpPr/>
              <p:nvPr/>
            </p:nvSpPr>
            <p:spPr>
              <a:xfrm>
                <a:off x="7209000" y="2889360"/>
                <a:ext cx="753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• 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9" name=""/>
          <p:cNvGrpSpPr/>
          <p:nvPr/>
        </p:nvGrpSpPr>
        <p:grpSpPr>
          <a:xfrm>
            <a:off x="2787480" y="4710240"/>
            <a:ext cx="3689640" cy="1134000"/>
            <a:chOff x="2787480" y="4710240"/>
            <a:chExt cx="3689640" cy="1134000"/>
          </a:xfrm>
        </p:grpSpPr>
        <p:grpSp>
          <p:nvGrpSpPr>
            <p:cNvPr id="1420" name=""/>
            <p:cNvGrpSpPr/>
            <p:nvPr/>
          </p:nvGrpSpPr>
          <p:grpSpPr>
            <a:xfrm>
              <a:off x="2787480" y="4716360"/>
              <a:ext cx="430200" cy="1119240"/>
              <a:chOff x="2787480" y="4716360"/>
              <a:chExt cx="430200" cy="1119240"/>
            </a:xfrm>
          </p:grpSpPr>
          <p:sp>
            <p:nvSpPr>
              <p:cNvPr id="1421" name=""/>
              <p:cNvSpPr/>
              <p:nvPr/>
            </p:nvSpPr>
            <p:spPr>
              <a:xfrm>
                <a:off x="2796120" y="52542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2796120" y="47163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2787480" y="5281200"/>
                <a:ext cx="430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4" name=""/>
            <p:cNvSpPr/>
            <p:nvPr/>
          </p:nvSpPr>
          <p:spPr>
            <a:xfrm>
              <a:off x="3310920" y="4954680"/>
              <a:ext cx="176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n + 12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060880" y="4954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6" name=""/>
            <p:cNvGrpSpPr/>
            <p:nvPr/>
          </p:nvGrpSpPr>
          <p:grpSpPr>
            <a:xfrm>
              <a:off x="5601960" y="4710240"/>
              <a:ext cx="430200" cy="1134000"/>
              <a:chOff x="5601960" y="4710240"/>
              <a:chExt cx="430200" cy="1134000"/>
            </a:xfrm>
          </p:grpSpPr>
          <p:sp>
            <p:nvSpPr>
              <p:cNvPr id="1427" name=""/>
              <p:cNvSpPr/>
              <p:nvPr/>
            </p:nvSpPr>
            <p:spPr>
              <a:xfrm>
                <a:off x="5610600" y="52628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5610600" y="47102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5601960" y="5275440"/>
                <a:ext cx="430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0" name=""/>
            <p:cNvSpPr/>
            <p:nvPr/>
          </p:nvSpPr>
          <p:spPr>
            <a:xfrm>
              <a:off x="6014520" y="4954680"/>
              <a:ext cx="46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9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1" name=""/>
          <p:cNvGrpSpPr/>
          <p:nvPr/>
        </p:nvGrpSpPr>
        <p:grpSpPr>
          <a:xfrm>
            <a:off x="1987200" y="1320840"/>
            <a:ext cx="5153400" cy="1871640"/>
            <a:chOff x="1987200" y="1320840"/>
            <a:chExt cx="5153400" cy="1871640"/>
          </a:xfrm>
        </p:grpSpPr>
        <p:grpSp>
          <p:nvGrpSpPr>
            <p:cNvPr id="1432" name=""/>
            <p:cNvGrpSpPr/>
            <p:nvPr/>
          </p:nvGrpSpPr>
          <p:grpSpPr>
            <a:xfrm>
              <a:off x="2001960" y="1320840"/>
              <a:ext cx="5138640" cy="1134000"/>
              <a:chOff x="2001960" y="1320840"/>
              <a:chExt cx="5138640" cy="1134000"/>
            </a:xfrm>
          </p:grpSpPr>
          <p:grpSp>
            <p:nvGrpSpPr>
              <p:cNvPr id="1433" name=""/>
              <p:cNvGrpSpPr/>
              <p:nvPr/>
            </p:nvGrpSpPr>
            <p:grpSpPr>
              <a:xfrm>
                <a:off x="2001960" y="1320840"/>
                <a:ext cx="430200" cy="1134000"/>
                <a:chOff x="2001960" y="1320840"/>
                <a:chExt cx="430200" cy="1134000"/>
              </a:xfrm>
            </p:grpSpPr>
            <p:sp>
              <p:nvSpPr>
                <p:cNvPr id="1434" name=""/>
                <p:cNvSpPr/>
                <p:nvPr/>
              </p:nvSpPr>
              <p:spPr>
                <a:xfrm>
                  <a:off x="2010600" y="18734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2010600" y="13208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2001960" y="1886040"/>
                  <a:ext cx="430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7" name=""/>
              <p:cNvSpPr/>
              <p:nvPr/>
            </p:nvSpPr>
            <p:spPr>
              <a:xfrm>
                <a:off x="2544840" y="1560600"/>
                <a:ext cx="459576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000000"/>
                    </a:solidFill>
                    <a:latin typeface="Comic Sans MS"/>
                  </a:rPr>
                  <a:t>of n</a:t>
                </a:r>
                <a:r>
                  <a:rPr b="0" lang="en-US" sz="3400" spc="-1" strike="noStrike">
                    <a:solidFill>
                      <a:srgbClr val="ff3300"/>
                    </a:solidFill>
                    <a:latin typeface="Comic Sans MS"/>
                  </a:rPr>
                  <a:t>, </a:t>
                </a:r>
                <a:r>
                  <a:rPr b="0" lang="en-US" sz="3400" spc="-1" strike="noStrike">
                    <a:solidFill>
                      <a:srgbClr val="000000"/>
                    </a:solidFill>
                    <a:latin typeface="Comic Sans MS"/>
                  </a:rPr>
                  <a:t>increased by 12</a:t>
                </a:r>
                <a:r>
                  <a:rPr b="0" lang="en-US" sz="3400" spc="-1" strike="noStrike">
                    <a:solidFill>
                      <a:srgbClr val="ff3300"/>
                    </a:solidFill>
                    <a:latin typeface="Comic Sans MS"/>
                  </a:rPr>
                  <a:t>, 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8" name=""/>
            <p:cNvGrpSpPr/>
            <p:nvPr/>
          </p:nvGrpSpPr>
          <p:grpSpPr>
            <a:xfrm>
              <a:off x="1987200" y="2058840"/>
              <a:ext cx="4768560" cy="1133640"/>
              <a:chOff x="1987200" y="2058840"/>
              <a:chExt cx="4768560" cy="1133640"/>
            </a:xfrm>
          </p:grpSpPr>
          <p:sp>
            <p:nvSpPr>
              <p:cNvPr id="1439" name=""/>
              <p:cNvSpPr/>
              <p:nvPr/>
            </p:nvSpPr>
            <p:spPr>
              <a:xfrm>
                <a:off x="5671440" y="2319480"/>
                <a:ext cx="108432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000000"/>
                    </a:solidFill>
                    <a:latin typeface="Comic Sans MS"/>
                  </a:rPr>
                  <a:t>of n.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0" name=""/>
              <p:cNvGrpSpPr/>
              <p:nvPr/>
            </p:nvGrpSpPr>
            <p:grpSpPr>
              <a:xfrm>
                <a:off x="5130720" y="2058840"/>
                <a:ext cx="430200" cy="1133640"/>
                <a:chOff x="5130720" y="2058840"/>
                <a:chExt cx="430200" cy="1133640"/>
              </a:xfrm>
            </p:grpSpPr>
            <p:sp>
              <p:nvSpPr>
                <p:cNvPr id="1441" name=""/>
                <p:cNvSpPr/>
                <p:nvPr/>
              </p:nvSpPr>
              <p:spPr>
                <a:xfrm>
                  <a:off x="5139360" y="261108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5139360" y="20588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7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5130720" y="2623680"/>
                  <a:ext cx="430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4" name=""/>
              <p:cNvSpPr/>
              <p:nvPr/>
            </p:nvSpPr>
            <p:spPr>
              <a:xfrm>
                <a:off x="1987200" y="2319480"/>
                <a:ext cx="305028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000000"/>
                    </a:solidFill>
                    <a:latin typeface="Comic Sans MS"/>
                  </a:rPr>
                  <a:t>is the same as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45" name=""/>
          <p:cNvSpPr/>
          <p:nvPr/>
        </p:nvSpPr>
        <p:spPr>
          <a:xfrm>
            <a:off x="2843280" y="6094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6" name=""/>
          <p:cNvGrpSpPr/>
          <p:nvPr/>
        </p:nvGrpSpPr>
        <p:grpSpPr>
          <a:xfrm>
            <a:off x="1667520" y="1290600"/>
            <a:ext cx="1843920" cy="3434760"/>
            <a:chOff x="1667520" y="1290600"/>
            <a:chExt cx="1843920" cy="3434760"/>
          </a:xfrm>
        </p:grpSpPr>
        <p:grpSp>
          <p:nvGrpSpPr>
            <p:cNvPr id="1447" name=""/>
            <p:cNvGrpSpPr/>
            <p:nvPr/>
          </p:nvGrpSpPr>
          <p:grpSpPr>
            <a:xfrm>
              <a:off x="2003400" y="1290600"/>
              <a:ext cx="1508040" cy="1134000"/>
              <a:chOff x="2003400" y="1290600"/>
              <a:chExt cx="1508040" cy="1134000"/>
            </a:xfrm>
          </p:grpSpPr>
          <p:sp>
            <p:nvSpPr>
              <p:cNvPr id="1448" name=""/>
              <p:cNvSpPr/>
              <p:nvPr/>
            </p:nvSpPr>
            <p:spPr>
              <a:xfrm>
                <a:off x="2542680" y="1557360"/>
                <a:ext cx="96876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0000ff"/>
                    </a:solidFill>
                    <a:latin typeface="Comic Sans MS"/>
                  </a:rPr>
                  <a:t>of n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9" name=""/>
              <p:cNvGrpSpPr/>
              <p:nvPr/>
            </p:nvGrpSpPr>
            <p:grpSpPr>
              <a:xfrm>
                <a:off x="2003400" y="1290600"/>
                <a:ext cx="430200" cy="1134000"/>
                <a:chOff x="2003400" y="1290600"/>
                <a:chExt cx="430200" cy="1134000"/>
              </a:xfrm>
            </p:grpSpPr>
            <p:sp>
              <p:nvSpPr>
                <p:cNvPr id="1450" name=""/>
                <p:cNvSpPr/>
                <p:nvPr/>
              </p:nvSpPr>
              <p:spPr>
                <a:xfrm>
                  <a:off x="2012040" y="18432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2012040" y="12906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2003400" y="1855800"/>
                  <a:ext cx="43020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53" name=""/>
            <p:cNvGrpSpPr/>
            <p:nvPr/>
          </p:nvGrpSpPr>
          <p:grpSpPr>
            <a:xfrm>
              <a:off x="1667520" y="3459240"/>
              <a:ext cx="1281600" cy="1266120"/>
              <a:chOff x="1667520" y="3459240"/>
              <a:chExt cx="1281600" cy="1266120"/>
            </a:xfrm>
          </p:grpSpPr>
          <p:sp>
            <p:nvSpPr>
              <p:cNvPr id="1454" name=""/>
              <p:cNvSpPr/>
              <p:nvPr/>
            </p:nvSpPr>
            <p:spPr>
              <a:xfrm>
                <a:off x="2195280" y="3763800"/>
                <a:ext cx="753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• 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5" name=""/>
              <p:cNvGrpSpPr/>
              <p:nvPr/>
            </p:nvGrpSpPr>
            <p:grpSpPr>
              <a:xfrm>
                <a:off x="1667520" y="3459240"/>
                <a:ext cx="442800" cy="1266120"/>
                <a:chOff x="1667520" y="3459240"/>
                <a:chExt cx="442800" cy="1266120"/>
              </a:xfrm>
            </p:grpSpPr>
            <p:sp>
              <p:nvSpPr>
                <p:cNvPr id="1456" name=""/>
                <p:cNvSpPr/>
                <p:nvPr/>
              </p:nvSpPr>
              <p:spPr>
                <a:xfrm>
                  <a:off x="1667520" y="408276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ff"/>
                      </a:solidFill>
                      <a:latin typeface="Comic Sans MS"/>
                    </a:rPr>
                    <a:t>4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1667520" y="345924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ff"/>
                      </a:solidFill>
                      <a:latin typeface="Comic Sans MS"/>
                    </a:rPr>
                    <a:t>3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1673280" y="4087440"/>
                  <a:ext cx="42984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59" name=""/>
          <p:cNvGrpSpPr/>
          <p:nvPr/>
        </p:nvGrpSpPr>
        <p:grpSpPr>
          <a:xfrm>
            <a:off x="3500280" y="1552680"/>
            <a:ext cx="3414600" cy="2860200"/>
            <a:chOff x="3500280" y="1552680"/>
            <a:chExt cx="3414600" cy="2860200"/>
          </a:xfrm>
        </p:grpSpPr>
        <p:sp>
          <p:nvSpPr>
            <p:cNvPr id="1460" name=""/>
            <p:cNvSpPr/>
            <p:nvPr/>
          </p:nvSpPr>
          <p:spPr>
            <a:xfrm>
              <a:off x="3564360" y="1552680"/>
              <a:ext cx="33505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ff"/>
                  </a:solidFill>
                  <a:latin typeface="Comic Sans MS"/>
                </a:rPr>
                <a:t>increased by 12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500280" y="3770280"/>
              <a:ext cx="10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+ 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2" name=""/>
          <p:cNvGrpSpPr/>
          <p:nvPr/>
        </p:nvGrpSpPr>
        <p:grpSpPr>
          <a:xfrm>
            <a:off x="1985760" y="2319480"/>
            <a:ext cx="3856320" cy="2077560"/>
            <a:chOff x="1985760" y="2319480"/>
            <a:chExt cx="3856320" cy="2077560"/>
          </a:xfrm>
        </p:grpSpPr>
        <p:sp>
          <p:nvSpPr>
            <p:cNvPr id="1463" name=""/>
            <p:cNvSpPr/>
            <p:nvPr/>
          </p:nvSpPr>
          <p:spPr>
            <a:xfrm>
              <a:off x="1985760" y="2319480"/>
              <a:ext cx="30502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ff"/>
                  </a:solidFill>
                  <a:latin typeface="Comic Sans MS"/>
                </a:rPr>
                <a:t>is the same as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399280" y="3754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5" name=""/>
          <p:cNvGrpSpPr/>
          <p:nvPr/>
        </p:nvGrpSpPr>
        <p:grpSpPr>
          <a:xfrm>
            <a:off x="5135400" y="2057400"/>
            <a:ext cx="2372040" cy="2646000"/>
            <a:chOff x="5135400" y="2057400"/>
            <a:chExt cx="2372040" cy="2646000"/>
          </a:xfrm>
        </p:grpSpPr>
        <p:grpSp>
          <p:nvGrpSpPr>
            <p:cNvPr id="1466" name=""/>
            <p:cNvGrpSpPr/>
            <p:nvPr/>
          </p:nvGrpSpPr>
          <p:grpSpPr>
            <a:xfrm>
              <a:off x="5135400" y="2057400"/>
              <a:ext cx="1624680" cy="1133640"/>
              <a:chOff x="5135400" y="2057400"/>
              <a:chExt cx="1624680" cy="1133640"/>
            </a:xfrm>
          </p:grpSpPr>
          <p:sp>
            <p:nvSpPr>
              <p:cNvPr id="1467" name=""/>
              <p:cNvSpPr/>
              <p:nvPr/>
            </p:nvSpPr>
            <p:spPr>
              <a:xfrm>
                <a:off x="5675760" y="2317680"/>
                <a:ext cx="108432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0000ff"/>
                    </a:solidFill>
                    <a:latin typeface="Comic Sans MS"/>
                  </a:rPr>
                  <a:t>of n.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8" name=""/>
              <p:cNvGrpSpPr/>
              <p:nvPr/>
            </p:nvGrpSpPr>
            <p:grpSpPr>
              <a:xfrm>
                <a:off x="5135400" y="2057400"/>
                <a:ext cx="430200" cy="1133640"/>
                <a:chOff x="5135400" y="2057400"/>
                <a:chExt cx="430200" cy="1133640"/>
              </a:xfrm>
            </p:grpSpPr>
            <p:sp>
              <p:nvSpPr>
                <p:cNvPr id="1469" name=""/>
                <p:cNvSpPr/>
                <p:nvPr/>
              </p:nvSpPr>
              <p:spPr>
                <a:xfrm>
                  <a:off x="5144040" y="26096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5144040" y="20574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7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5135400" y="2622600"/>
                  <a:ext cx="43020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72" name=""/>
            <p:cNvGrpSpPr/>
            <p:nvPr/>
          </p:nvGrpSpPr>
          <p:grpSpPr>
            <a:xfrm>
              <a:off x="6523560" y="3451320"/>
              <a:ext cx="983880" cy="1252080"/>
              <a:chOff x="6523560" y="3451320"/>
              <a:chExt cx="983880" cy="1252080"/>
            </a:xfrm>
          </p:grpSpPr>
          <p:sp>
            <p:nvSpPr>
              <p:cNvPr id="1473" name=""/>
              <p:cNvSpPr/>
              <p:nvPr/>
            </p:nvSpPr>
            <p:spPr>
              <a:xfrm>
                <a:off x="7044840" y="3755880"/>
                <a:ext cx="462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4" name=""/>
              <p:cNvGrpSpPr/>
              <p:nvPr/>
            </p:nvGrpSpPr>
            <p:grpSpPr>
              <a:xfrm>
                <a:off x="6523560" y="3451320"/>
                <a:ext cx="442800" cy="1252080"/>
                <a:chOff x="6523560" y="3451320"/>
                <a:chExt cx="442800" cy="1252080"/>
              </a:xfrm>
            </p:grpSpPr>
            <p:sp>
              <p:nvSpPr>
                <p:cNvPr id="1475" name=""/>
                <p:cNvSpPr/>
                <p:nvPr/>
              </p:nvSpPr>
              <p:spPr>
                <a:xfrm>
                  <a:off x="6523560" y="406080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ff"/>
                      </a:solidFill>
                      <a:latin typeface="Comic Sans MS"/>
                    </a:rPr>
                    <a:t>8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6523560" y="345132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ff"/>
                      </a:solidFill>
                      <a:latin typeface="Comic Sans MS"/>
                    </a:rPr>
                    <a:t>7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6529320" y="4065480"/>
                  <a:ext cx="43020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78" name=""/>
          <p:cNvGrpSpPr/>
          <p:nvPr/>
        </p:nvGrpSpPr>
        <p:grpSpPr>
          <a:xfrm>
            <a:off x="2966400" y="5175360"/>
            <a:ext cx="3258720" cy="1266480"/>
            <a:chOff x="2966400" y="5175360"/>
            <a:chExt cx="3258720" cy="1266480"/>
          </a:xfrm>
        </p:grpSpPr>
        <p:grpSp>
          <p:nvGrpSpPr>
            <p:cNvPr id="1479" name=""/>
            <p:cNvGrpSpPr/>
            <p:nvPr/>
          </p:nvGrpSpPr>
          <p:grpSpPr>
            <a:xfrm>
              <a:off x="2966400" y="5175360"/>
              <a:ext cx="864720" cy="1266480"/>
              <a:chOff x="2966400" y="5175360"/>
              <a:chExt cx="864720" cy="1266480"/>
            </a:xfrm>
          </p:grpSpPr>
          <p:sp>
            <p:nvSpPr>
              <p:cNvPr id="1480" name=""/>
              <p:cNvSpPr/>
              <p:nvPr/>
            </p:nvSpPr>
            <p:spPr>
              <a:xfrm>
                <a:off x="3368520" y="5486400"/>
                <a:ext cx="462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1" name=""/>
              <p:cNvGrpSpPr/>
              <p:nvPr/>
            </p:nvGrpSpPr>
            <p:grpSpPr>
              <a:xfrm>
                <a:off x="2966400" y="5175360"/>
                <a:ext cx="442800" cy="1266480"/>
                <a:chOff x="2966400" y="5175360"/>
                <a:chExt cx="442800" cy="1266480"/>
              </a:xfrm>
            </p:grpSpPr>
            <p:sp>
              <p:nvSpPr>
                <p:cNvPr id="1482" name=""/>
                <p:cNvSpPr/>
                <p:nvPr/>
              </p:nvSpPr>
              <p:spPr>
                <a:xfrm>
                  <a:off x="2966400" y="579924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4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2966400" y="517536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3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2971800" y="5803920"/>
                  <a:ext cx="430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85" name=""/>
            <p:cNvSpPr/>
            <p:nvPr/>
          </p:nvSpPr>
          <p:spPr>
            <a:xfrm>
              <a:off x="3790800" y="5487840"/>
              <a:ext cx="10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829400" y="54878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7" name=""/>
            <p:cNvGrpSpPr/>
            <p:nvPr/>
          </p:nvGrpSpPr>
          <p:grpSpPr>
            <a:xfrm>
              <a:off x="5369760" y="5183280"/>
              <a:ext cx="855360" cy="1252440"/>
              <a:chOff x="5369760" y="5183280"/>
              <a:chExt cx="855360" cy="1252440"/>
            </a:xfrm>
          </p:grpSpPr>
          <p:sp>
            <p:nvSpPr>
              <p:cNvPr id="1488" name=""/>
              <p:cNvSpPr/>
              <p:nvPr/>
            </p:nvSpPr>
            <p:spPr>
              <a:xfrm>
                <a:off x="5762520" y="5473800"/>
                <a:ext cx="462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9" name=""/>
              <p:cNvGrpSpPr/>
              <p:nvPr/>
            </p:nvGrpSpPr>
            <p:grpSpPr>
              <a:xfrm>
                <a:off x="5369760" y="5183280"/>
                <a:ext cx="442800" cy="1252440"/>
                <a:chOff x="5369760" y="5183280"/>
                <a:chExt cx="442800" cy="1252440"/>
              </a:xfrm>
            </p:grpSpPr>
            <p:sp>
              <p:nvSpPr>
                <p:cNvPr id="1490" name=""/>
                <p:cNvSpPr/>
                <p:nvPr/>
              </p:nvSpPr>
              <p:spPr>
                <a:xfrm>
                  <a:off x="5369760" y="579312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5369760" y="518328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7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5375160" y="5797800"/>
                  <a:ext cx="430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pull dir="l"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6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4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495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2" name=""/>
          <p:cNvSpPr/>
          <p:nvPr/>
        </p:nvSpPr>
        <p:spPr>
          <a:xfrm>
            <a:off x="2600280" y="2200320"/>
            <a:ext cx="603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the LCD to simplify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4" name=""/>
          <p:cNvGraphicFramePr/>
          <p:nvPr/>
        </p:nvGraphicFramePr>
        <p:xfrm>
          <a:off x="3460680" y="2895480"/>
          <a:ext cx="4572000" cy="3429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60680" y="2895480"/>
                    <a:ext cx="4572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7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558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5" name=""/>
          <p:cNvSpPr/>
          <p:nvPr/>
        </p:nvSpPr>
        <p:spPr>
          <a:xfrm>
            <a:off x="2600280" y="2057400"/>
            <a:ext cx="603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e sentences to equations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then solv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7" name=""/>
          <p:cNvGraphicFramePr/>
          <p:nvPr/>
        </p:nvGraphicFramePr>
        <p:xfrm>
          <a:off x="3319560" y="3035160"/>
          <a:ext cx="4572000" cy="3429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9560" y="3035160"/>
                    <a:ext cx="4572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84280" y="2543040"/>
            <a:ext cx="789624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Using the LCD to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Simplify Equations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957400" y="609480"/>
            <a:ext cx="375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64960" y="5748480"/>
            <a:ext cx="13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n = -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941280" y="2184480"/>
            <a:ext cx="4807800" cy="642600"/>
            <a:chOff x="3941280" y="2184480"/>
            <a:chExt cx="4807800" cy="642600"/>
          </a:xfrm>
        </p:grpSpPr>
        <p:sp>
          <p:nvSpPr>
            <p:cNvPr id="169" name=""/>
            <p:cNvSpPr/>
            <p:nvPr/>
          </p:nvSpPr>
          <p:spPr>
            <a:xfrm>
              <a:off x="6033960" y="2276640"/>
              <a:ext cx="271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Addition Princi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3941280" y="2184480"/>
              <a:ext cx="1976400" cy="642600"/>
              <a:chOff x="3941280" y="2184480"/>
              <a:chExt cx="1976400" cy="642600"/>
            </a:xfrm>
          </p:grpSpPr>
          <p:sp>
            <p:nvSpPr>
              <p:cNvPr id="171" name=""/>
              <p:cNvSpPr/>
              <p:nvPr/>
            </p:nvSpPr>
            <p:spPr>
              <a:xfrm>
                <a:off x="3941280" y="2184480"/>
                <a:ext cx="82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+ 6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094000" y="2184480"/>
                <a:ext cx="82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+ 6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3089160" y="1339920"/>
            <a:ext cx="2948760" cy="1132200"/>
            <a:chOff x="3089160" y="1339920"/>
            <a:chExt cx="2948760" cy="1132200"/>
          </a:xfrm>
        </p:grpSpPr>
        <p:grpSp>
          <p:nvGrpSpPr>
            <p:cNvPr id="174" name=""/>
            <p:cNvGrpSpPr/>
            <p:nvPr/>
          </p:nvGrpSpPr>
          <p:grpSpPr>
            <a:xfrm>
              <a:off x="3089160" y="1339920"/>
              <a:ext cx="876600" cy="1132200"/>
              <a:chOff x="3089160" y="1339920"/>
              <a:chExt cx="876600" cy="113220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3089160" y="1339920"/>
                <a:ext cx="431640" cy="1132200"/>
                <a:chOff x="3089160" y="1339920"/>
                <a:chExt cx="431640" cy="1132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098880" y="133992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097800" y="189072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089160" y="1905120"/>
                  <a:ext cx="431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3503160" y="1584360"/>
                <a:ext cx="462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3969360" y="1584360"/>
              <a:ext cx="32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13880" y="15843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62440" y="15843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85080" y="1584360"/>
              <a:ext cx="8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3016080" y="2825640"/>
            <a:ext cx="3070080" cy="1141200"/>
            <a:chOff x="3016080" y="2825640"/>
            <a:chExt cx="3070080" cy="1141200"/>
          </a:xfrm>
        </p:grpSpPr>
        <p:sp>
          <p:nvSpPr>
            <p:cNvPr id="185" name=""/>
            <p:cNvSpPr/>
            <p:nvPr/>
          </p:nvSpPr>
          <p:spPr>
            <a:xfrm>
              <a:off x="3016080" y="2825640"/>
              <a:ext cx="307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084120" y="2835000"/>
              <a:ext cx="2946600" cy="1131840"/>
              <a:chOff x="3084120" y="2835000"/>
              <a:chExt cx="2946600" cy="113184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4779720" y="3079080"/>
                <a:ext cx="1251000" cy="642600"/>
                <a:chOff x="4779720" y="3079080"/>
                <a:chExt cx="1251000" cy="64260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4779720" y="307908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=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325840" y="3079080"/>
                  <a:ext cx="7048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-4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3084120" y="2835000"/>
                <a:ext cx="876600" cy="1131840"/>
                <a:chOff x="3084120" y="2835000"/>
                <a:chExt cx="876600" cy="1131840"/>
              </a:xfrm>
            </p:grpSpPr>
            <p:grpSp>
              <p:nvGrpSpPr>
                <p:cNvPr id="191" name=""/>
                <p:cNvGrpSpPr/>
                <p:nvPr/>
              </p:nvGrpSpPr>
              <p:grpSpPr>
                <a:xfrm>
                  <a:off x="3084120" y="2835000"/>
                  <a:ext cx="431640" cy="1131840"/>
                  <a:chOff x="3084120" y="2835000"/>
                  <a:chExt cx="431640" cy="113184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>
                    <a:off x="3093840" y="2835000"/>
                    <a:ext cx="4140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1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3092760" y="3385440"/>
                    <a:ext cx="4140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2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3084120" y="3399840"/>
                    <a:ext cx="4316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5" name=""/>
                <p:cNvSpPr/>
                <p:nvPr/>
              </p:nvSpPr>
              <p:spPr>
                <a:xfrm>
                  <a:off x="3498120" y="3079080"/>
                  <a:ext cx="4626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6" name=""/>
          <p:cNvGrpSpPr/>
          <p:nvPr/>
        </p:nvGrpSpPr>
        <p:grpSpPr>
          <a:xfrm>
            <a:off x="3497400" y="4218120"/>
            <a:ext cx="2106000" cy="1131840"/>
            <a:chOff x="3497400" y="4218120"/>
            <a:chExt cx="2106000" cy="1131840"/>
          </a:xfrm>
        </p:grpSpPr>
        <p:sp>
          <p:nvSpPr>
            <p:cNvPr id="197" name=""/>
            <p:cNvSpPr/>
            <p:nvPr/>
          </p:nvSpPr>
          <p:spPr>
            <a:xfrm>
              <a:off x="4341960" y="44622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3497400" y="4218120"/>
              <a:ext cx="876600" cy="1131840"/>
              <a:chOff x="3497400" y="4218120"/>
              <a:chExt cx="876600" cy="113184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3497400" y="4218120"/>
                <a:ext cx="431640" cy="1131840"/>
                <a:chOff x="3497400" y="4218120"/>
                <a:chExt cx="431640" cy="11318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3507120" y="421812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506040" y="47685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497400" y="4782960"/>
                  <a:ext cx="431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3911400" y="4462200"/>
                <a:ext cx="462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4799520" y="4218120"/>
              <a:ext cx="803880" cy="1130400"/>
              <a:chOff x="4799520" y="4218120"/>
              <a:chExt cx="803880" cy="113040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5167080" y="4218120"/>
                <a:ext cx="436320" cy="1130400"/>
                <a:chOff x="5167080" y="4218120"/>
                <a:chExt cx="436320" cy="11304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167080" y="4218120"/>
                  <a:ext cx="4363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179320" y="476712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169960" y="4781520"/>
                  <a:ext cx="431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" name=""/>
              <p:cNvSpPr/>
              <p:nvPr/>
            </p:nvSpPr>
            <p:spPr>
              <a:xfrm>
                <a:off x="4799520" y="4460760"/>
                <a:ext cx="328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2475000" y="4189320"/>
            <a:ext cx="6284520" cy="1191240"/>
            <a:chOff x="2475000" y="4189320"/>
            <a:chExt cx="6284520" cy="1191240"/>
          </a:xfrm>
        </p:grpSpPr>
        <p:grpSp>
          <p:nvGrpSpPr>
            <p:cNvPr id="211" name=""/>
            <p:cNvGrpSpPr/>
            <p:nvPr/>
          </p:nvGrpSpPr>
          <p:grpSpPr>
            <a:xfrm>
              <a:off x="2475000" y="4218120"/>
              <a:ext cx="4152600" cy="1131840"/>
              <a:chOff x="2475000" y="4218120"/>
              <a:chExt cx="4152600" cy="1131840"/>
            </a:xfrm>
          </p:grpSpPr>
          <p:grpSp>
            <p:nvGrpSpPr>
              <p:cNvPr id="212" name=""/>
              <p:cNvGrpSpPr/>
              <p:nvPr/>
            </p:nvGrpSpPr>
            <p:grpSpPr>
              <a:xfrm>
                <a:off x="6195960" y="4218120"/>
                <a:ext cx="431640" cy="1131840"/>
                <a:chOff x="6195960" y="4218120"/>
                <a:chExt cx="431640" cy="11318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6206400" y="421812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cc99"/>
                      </a:solidFill>
                      <a:latin typeface="Comic Sans MS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6205680" y="47685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cc99"/>
                      </a:solidFill>
                      <a:latin typeface="Comic Sans MS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195960" y="4782960"/>
                  <a:ext cx="431640" cy="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711400" y="4462200"/>
                <a:ext cx="35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cc99"/>
                    </a:solidFill>
                    <a:latin typeface="Comic Sans MS"/>
                  </a:rPr>
                  <a:t>•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2475000" y="4218120"/>
                <a:ext cx="431640" cy="1131840"/>
                <a:chOff x="2475000" y="4218120"/>
                <a:chExt cx="431640" cy="113184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2485440" y="421812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cc99"/>
                      </a:solidFill>
                      <a:latin typeface="Comic Sans MS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484720" y="47685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cc99"/>
                      </a:solidFill>
                      <a:latin typeface="Comic Sans MS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475000" y="4782960"/>
                  <a:ext cx="431640" cy="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1" name=""/>
              <p:cNvSpPr/>
              <p:nvPr/>
            </p:nvSpPr>
            <p:spPr>
              <a:xfrm>
                <a:off x="3027240" y="4462200"/>
                <a:ext cx="362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cc99"/>
                    </a:solidFill>
                    <a:latin typeface="Comic Sans MS"/>
                  </a:rPr>
                  <a:t>•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6657120" y="4189320"/>
              <a:ext cx="2102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Comic Sans MS"/>
                </a:rPr>
                <a:t>multiplica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Comic Sans MS"/>
                </a:rPr>
                <a:t>inverse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Comic Sans MS"/>
                </a:rPr>
                <a:t>recipro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957400" y="609480"/>
            <a:ext cx="375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78120" y="1393920"/>
            <a:ext cx="35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lve and che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584440" y="2290680"/>
            <a:ext cx="2946600" cy="1132200"/>
            <a:chOff x="2584440" y="2290680"/>
            <a:chExt cx="2946600" cy="1132200"/>
          </a:xfrm>
        </p:grpSpPr>
        <p:grpSp>
          <p:nvGrpSpPr>
            <p:cNvPr id="226" name=""/>
            <p:cNvGrpSpPr/>
            <p:nvPr/>
          </p:nvGrpSpPr>
          <p:grpSpPr>
            <a:xfrm>
              <a:off x="2584440" y="2290680"/>
              <a:ext cx="870480" cy="1132200"/>
              <a:chOff x="2584440" y="2290680"/>
              <a:chExt cx="870480" cy="1132200"/>
            </a:xfrm>
          </p:grpSpPr>
          <p:grpSp>
            <p:nvGrpSpPr>
              <p:cNvPr id="227" name=""/>
              <p:cNvGrpSpPr/>
              <p:nvPr/>
            </p:nvGrpSpPr>
            <p:grpSpPr>
              <a:xfrm>
                <a:off x="2584440" y="2290680"/>
                <a:ext cx="432000" cy="1132200"/>
                <a:chOff x="2584440" y="2290680"/>
                <a:chExt cx="432000" cy="11322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2594880" y="229068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7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593440" y="284148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584440" y="2855520"/>
                  <a:ext cx="432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3031920" y="2535120"/>
                <a:ext cx="42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3506040" y="2535120"/>
              <a:ext cx="32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34200" y="25351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3990960" y="2290680"/>
              <a:ext cx="431640" cy="1131840"/>
              <a:chOff x="3990960" y="2290680"/>
              <a:chExt cx="431640" cy="1131840"/>
            </a:xfrm>
          </p:grpSpPr>
          <p:sp>
            <p:nvSpPr>
              <p:cNvPr id="235" name=""/>
              <p:cNvSpPr/>
              <p:nvPr/>
            </p:nvSpPr>
            <p:spPr>
              <a:xfrm>
                <a:off x="4001040" y="22906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999600" y="28411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90960" y="2855520"/>
                <a:ext cx="43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5099040" y="2290680"/>
              <a:ext cx="432000" cy="1132200"/>
              <a:chOff x="5099040" y="2290680"/>
              <a:chExt cx="432000" cy="1132200"/>
            </a:xfrm>
          </p:grpSpPr>
          <p:sp>
            <p:nvSpPr>
              <p:cNvPr id="239" name=""/>
              <p:cNvSpPr/>
              <p:nvPr/>
            </p:nvSpPr>
            <p:spPr>
              <a:xfrm>
                <a:off x="5109480" y="22906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108040" y="28414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099040" y="2855520"/>
                <a:ext cx="43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2" name=""/>
          <p:cNvGrpSpPr/>
          <p:nvPr/>
        </p:nvGrpSpPr>
        <p:grpSpPr>
          <a:xfrm>
            <a:off x="3447360" y="3416400"/>
            <a:ext cx="2084040" cy="1131840"/>
            <a:chOff x="3447360" y="3416400"/>
            <a:chExt cx="2084040" cy="1131840"/>
          </a:xfrm>
        </p:grpSpPr>
        <p:grpSp>
          <p:nvGrpSpPr>
            <p:cNvPr id="243" name=""/>
            <p:cNvGrpSpPr/>
            <p:nvPr/>
          </p:nvGrpSpPr>
          <p:grpSpPr>
            <a:xfrm>
              <a:off x="3447360" y="3416400"/>
              <a:ext cx="973080" cy="1131840"/>
              <a:chOff x="3447360" y="3416400"/>
              <a:chExt cx="973080" cy="1131840"/>
            </a:xfrm>
          </p:grpSpPr>
          <p:sp>
            <p:nvSpPr>
              <p:cNvPr id="244" name=""/>
              <p:cNvSpPr/>
              <p:nvPr/>
            </p:nvSpPr>
            <p:spPr>
              <a:xfrm>
                <a:off x="3447360" y="36604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+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3989160" y="3416400"/>
                <a:ext cx="431280" cy="1131840"/>
                <a:chOff x="3989160" y="3416400"/>
                <a:chExt cx="431280" cy="11318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3998880" y="34164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997800" y="39668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989160" y="3981240"/>
                  <a:ext cx="43128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9" name=""/>
            <p:cNvGrpSpPr/>
            <p:nvPr/>
          </p:nvGrpSpPr>
          <p:grpSpPr>
            <a:xfrm>
              <a:off x="4558320" y="3416400"/>
              <a:ext cx="973080" cy="1131840"/>
              <a:chOff x="4558320" y="3416400"/>
              <a:chExt cx="973080" cy="1131840"/>
            </a:xfrm>
          </p:grpSpPr>
          <p:sp>
            <p:nvSpPr>
              <p:cNvPr id="250" name=""/>
              <p:cNvSpPr/>
              <p:nvPr/>
            </p:nvSpPr>
            <p:spPr>
              <a:xfrm>
                <a:off x="4558320" y="36604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+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1" name=""/>
              <p:cNvGrpSpPr/>
              <p:nvPr/>
            </p:nvGrpSpPr>
            <p:grpSpPr>
              <a:xfrm>
                <a:off x="5100120" y="3416400"/>
                <a:ext cx="431280" cy="1131840"/>
                <a:chOff x="5100120" y="3416400"/>
                <a:chExt cx="431280" cy="11318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5109840" y="34164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108760" y="39668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100120" y="3981240"/>
                  <a:ext cx="43128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5" name=""/>
          <p:cNvGrpSpPr/>
          <p:nvPr/>
        </p:nvGrpSpPr>
        <p:grpSpPr>
          <a:xfrm>
            <a:off x="2465280" y="4544640"/>
            <a:ext cx="4224240" cy="1134000"/>
            <a:chOff x="2465280" y="4544640"/>
            <a:chExt cx="4224240" cy="1134000"/>
          </a:xfrm>
        </p:grpSpPr>
        <p:sp>
          <p:nvSpPr>
            <p:cNvPr id="256" name=""/>
            <p:cNvSpPr/>
            <p:nvPr/>
          </p:nvSpPr>
          <p:spPr>
            <a:xfrm flipV="1">
              <a:off x="2465280" y="4544640"/>
              <a:ext cx="42242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2568240" y="4545000"/>
              <a:ext cx="4021200" cy="1133640"/>
              <a:chOff x="2568240" y="4545000"/>
              <a:chExt cx="4021200" cy="113364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2568240" y="4545000"/>
                <a:ext cx="870480" cy="1132560"/>
                <a:chOff x="2568240" y="4545000"/>
                <a:chExt cx="870480" cy="113256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2568240" y="4545000"/>
                  <a:ext cx="432000" cy="1132560"/>
                  <a:chOff x="2568240" y="4545000"/>
                  <a:chExt cx="432000" cy="113256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2578680" y="4545000"/>
                    <a:ext cx="4140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7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2577240" y="5096160"/>
                    <a:ext cx="4140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8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2568240" y="5110200"/>
                    <a:ext cx="4320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015720" y="4789800"/>
                  <a:ext cx="42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x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" name=""/>
              <p:cNvSpPr/>
              <p:nvPr/>
            </p:nvSpPr>
            <p:spPr>
              <a:xfrm>
                <a:off x="4545000" y="479124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5109840" y="4545000"/>
                <a:ext cx="432000" cy="1132200"/>
                <a:chOff x="5109840" y="4545000"/>
                <a:chExt cx="432000" cy="113220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5120280" y="45450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118840" y="50958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6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109840" y="5109840"/>
                  <a:ext cx="432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9" name=""/>
              <p:cNvSpPr/>
              <p:nvPr/>
            </p:nvSpPr>
            <p:spPr>
              <a:xfrm>
                <a:off x="5630040" y="479124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0" name=""/>
              <p:cNvGrpSpPr/>
              <p:nvPr/>
            </p:nvGrpSpPr>
            <p:grpSpPr>
              <a:xfrm>
                <a:off x="6157800" y="4546800"/>
                <a:ext cx="431640" cy="1131840"/>
                <a:chOff x="6157800" y="4546800"/>
                <a:chExt cx="431640" cy="11318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6167880" y="45468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166440" y="50972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6157800" y="5111640"/>
                  <a:ext cx="431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957400" y="609480"/>
            <a:ext cx="375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317480" y="1789200"/>
            <a:ext cx="2267640" cy="1155960"/>
            <a:chOff x="4317480" y="1789200"/>
            <a:chExt cx="2267640" cy="1155960"/>
          </a:xfrm>
        </p:grpSpPr>
        <p:sp>
          <p:nvSpPr>
            <p:cNvPr id="276" name=""/>
            <p:cNvSpPr/>
            <p:nvPr/>
          </p:nvSpPr>
          <p:spPr>
            <a:xfrm>
              <a:off x="4317480" y="1789200"/>
              <a:ext cx="65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cc99"/>
                  </a:solidFill>
                  <a:latin typeface="Comic Sans MS"/>
                </a:rPr>
                <a:t>(2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23960" y="2362320"/>
              <a:ext cx="65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cc99"/>
                  </a:solidFill>
                  <a:latin typeface="Comic Sans MS"/>
                </a:rPr>
                <a:t>(2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27400" y="1789200"/>
              <a:ext cx="65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cc99"/>
                  </a:solidFill>
                  <a:latin typeface="Comic Sans MS"/>
                </a:rPr>
                <a:t>(3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924160" y="2363760"/>
              <a:ext cx="65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cc99"/>
                  </a:solidFill>
                  <a:latin typeface="Comic Sans MS"/>
                </a:rPr>
                <a:t>(3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2525760" y="1790640"/>
            <a:ext cx="4095720" cy="1154520"/>
            <a:chOff x="2525760" y="1790640"/>
            <a:chExt cx="4095720" cy="1154520"/>
          </a:xfrm>
        </p:grpSpPr>
        <p:grpSp>
          <p:nvGrpSpPr>
            <p:cNvPr id="281" name=""/>
            <p:cNvGrpSpPr/>
            <p:nvPr/>
          </p:nvGrpSpPr>
          <p:grpSpPr>
            <a:xfrm>
              <a:off x="2525760" y="1801800"/>
              <a:ext cx="869760" cy="1132560"/>
              <a:chOff x="2525760" y="1801800"/>
              <a:chExt cx="869760" cy="113256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2525760" y="1801800"/>
                <a:ext cx="431640" cy="1132560"/>
                <a:chOff x="2525760" y="1801800"/>
                <a:chExt cx="431640" cy="113256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2535840" y="18018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7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534400" y="23529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525760" y="2367000"/>
                  <a:ext cx="431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6" name=""/>
              <p:cNvSpPr/>
              <p:nvPr/>
            </p:nvSpPr>
            <p:spPr>
              <a:xfrm>
                <a:off x="2972520" y="2046600"/>
                <a:ext cx="42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3487680" y="20462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038480" y="2384280"/>
              <a:ext cx="979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052160" y="17906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047480" y="23637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5643720" y="2383920"/>
              <a:ext cx="9777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53800" y="17906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53800" y="23637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090400" y="20462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6798600" y="2076480"/>
            <a:ext cx="192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LCD is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108160" y="3348000"/>
            <a:ext cx="3335760" cy="1154520"/>
            <a:chOff x="2108160" y="3348000"/>
            <a:chExt cx="3335760" cy="1154520"/>
          </a:xfrm>
        </p:grpSpPr>
        <p:grpSp>
          <p:nvGrpSpPr>
            <p:cNvPr id="297" name=""/>
            <p:cNvGrpSpPr/>
            <p:nvPr/>
          </p:nvGrpSpPr>
          <p:grpSpPr>
            <a:xfrm>
              <a:off x="2108160" y="3359160"/>
              <a:ext cx="870480" cy="1132560"/>
              <a:chOff x="2108160" y="3359160"/>
              <a:chExt cx="870480" cy="1132560"/>
            </a:xfrm>
          </p:grpSpPr>
          <p:grpSp>
            <p:nvGrpSpPr>
              <p:cNvPr id="298" name=""/>
              <p:cNvGrpSpPr/>
              <p:nvPr/>
            </p:nvGrpSpPr>
            <p:grpSpPr>
              <a:xfrm>
                <a:off x="2108160" y="3359160"/>
                <a:ext cx="432000" cy="1132560"/>
                <a:chOff x="2108160" y="3359160"/>
                <a:chExt cx="432000" cy="113256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2118600" y="33591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7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117160" y="391032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108160" y="3924360"/>
                  <a:ext cx="432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>
                <a:off x="2555640" y="3603600"/>
                <a:ext cx="42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3013200" y="36036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3563640" y="3348000"/>
              <a:ext cx="648720" cy="1154520"/>
              <a:chOff x="3563640" y="3348000"/>
              <a:chExt cx="648720" cy="1154520"/>
            </a:xfrm>
          </p:grpSpPr>
          <p:sp>
            <p:nvSpPr>
              <p:cNvPr id="305" name=""/>
              <p:cNvSpPr/>
              <p:nvPr/>
            </p:nvSpPr>
            <p:spPr>
              <a:xfrm>
                <a:off x="3579840" y="3941640"/>
                <a:ext cx="61452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565440" y="334800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563640" y="392112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4797000" y="3348000"/>
              <a:ext cx="646920" cy="1154520"/>
              <a:chOff x="4797000" y="3348000"/>
              <a:chExt cx="646920" cy="1154520"/>
            </a:xfrm>
          </p:grpSpPr>
          <p:sp>
            <p:nvSpPr>
              <p:cNvPr id="309" name=""/>
              <p:cNvSpPr/>
              <p:nvPr/>
            </p:nvSpPr>
            <p:spPr>
              <a:xfrm>
                <a:off x="4811760" y="3943440"/>
                <a:ext cx="615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912560" y="33480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797000" y="392112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4272840" y="36036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559480" y="3349800"/>
            <a:ext cx="1497600" cy="1154160"/>
            <a:chOff x="5559480" y="3349800"/>
            <a:chExt cx="1497600" cy="1154160"/>
          </a:xfrm>
        </p:grpSpPr>
        <p:grpSp>
          <p:nvGrpSpPr>
            <p:cNvPr id="314" name=""/>
            <p:cNvGrpSpPr/>
            <p:nvPr/>
          </p:nvGrpSpPr>
          <p:grpSpPr>
            <a:xfrm>
              <a:off x="6408360" y="3349800"/>
              <a:ext cx="648720" cy="1154160"/>
              <a:chOff x="6408360" y="3349800"/>
              <a:chExt cx="648720" cy="1154160"/>
            </a:xfrm>
          </p:grpSpPr>
          <p:sp>
            <p:nvSpPr>
              <p:cNvPr id="315" name=""/>
              <p:cNvSpPr/>
              <p:nvPr/>
            </p:nvSpPr>
            <p:spPr>
              <a:xfrm>
                <a:off x="6424560" y="3943080"/>
                <a:ext cx="6145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410160" y="334980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9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408360" y="392256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5559480" y="3621240"/>
              <a:ext cx="730440" cy="609480"/>
            </a:xfrm>
            <a:prstGeom prst="rightArrow">
              <a:avLst>
                <a:gd name="adj1" fmla="val 50000"/>
                <a:gd name="adj2" fmla="val 29962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546360" y="4896000"/>
            <a:ext cx="2070720" cy="1162080"/>
            <a:chOff x="3546360" y="4896000"/>
            <a:chExt cx="2070720" cy="1162080"/>
          </a:xfrm>
        </p:grpSpPr>
        <p:grpSp>
          <p:nvGrpSpPr>
            <p:cNvPr id="320" name=""/>
            <p:cNvGrpSpPr/>
            <p:nvPr/>
          </p:nvGrpSpPr>
          <p:grpSpPr>
            <a:xfrm>
              <a:off x="3546360" y="4925880"/>
              <a:ext cx="869760" cy="1132200"/>
              <a:chOff x="3546360" y="4925880"/>
              <a:chExt cx="869760" cy="113220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3546360" y="4925880"/>
                <a:ext cx="431640" cy="1132200"/>
                <a:chOff x="3546360" y="4925880"/>
                <a:chExt cx="431640" cy="113220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556440" y="492588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7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555000" y="547668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46360" y="5490720"/>
                  <a:ext cx="431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5" name=""/>
              <p:cNvSpPr/>
              <p:nvPr/>
            </p:nvSpPr>
            <p:spPr>
              <a:xfrm>
                <a:off x="3993120" y="5169960"/>
                <a:ext cx="42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4451040" y="51703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4968360" y="4896000"/>
              <a:ext cx="648720" cy="1154160"/>
              <a:chOff x="4968360" y="4896000"/>
              <a:chExt cx="648720" cy="1154160"/>
            </a:xfrm>
          </p:grpSpPr>
          <p:sp>
            <p:nvSpPr>
              <p:cNvPr id="328" name=""/>
              <p:cNvSpPr/>
              <p:nvPr/>
            </p:nvSpPr>
            <p:spPr>
              <a:xfrm>
                <a:off x="4984560" y="5489280"/>
                <a:ext cx="6145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970160" y="489600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9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968360" y="546876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57400" y="609480"/>
            <a:ext cx="375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3548160" y="1646280"/>
            <a:ext cx="2070720" cy="1162080"/>
            <a:chOff x="3548160" y="1646280"/>
            <a:chExt cx="2070720" cy="1162080"/>
          </a:xfrm>
        </p:grpSpPr>
        <p:grpSp>
          <p:nvGrpSpPr>
            <p:cNvPr id="333" name=""/>
            <p:cNvGrpSpPr/>
            <p:nvPr/>
          </p:nvGrpSpPr>
          <p:grpSpPr>
            <a:xfrm>
              <a:off x="3548160" y="1676160"/>
              <a:ext cx="870480" cy="1132200"/>
              <a:chOff x="3548160" y="1676160"/>
              <a:chExt cx="870480" cy="1132200"/>
            </a:xfrm>
          </p:grpSpPr>
          <p:grpSp>
            <p:nvGrpSpPr>
              <p:cNvPr id="334" name=""/>
              <p:cNvGrpSpPr/>
              <p:nvPr/>
            </p:nvGrpSpPr>
            <p:grpSpPr>
              <a:xfrm>
                <a:off x="3548160" y="1676160"/>
                <a:ext cx="432000" cy="1132200"/>
                <a:chOff x="3548160" y="1676160"/>
                <a:chExt cx="432000" cy="113220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3558600" y="16761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7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3557160" y="22269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548160" y="2241000"/>
                  <a:ext cx="432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8" name=""/>
              <p:cNvSpPr/>
              <p:nvPr/>
            </p:nvSpPr>
            <p:spPr>
              <a:xfrm>
                <a:off x="3995640" y="1920240"/>
                <a:ext cx="42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4453200" y="19206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4970160" y="1646280"/>
              <a:ext cx="648720" cy="1154160"/>
              <a:chOff x="4970160" y="1646280"/>
              <a:chExt cx="648720" cy="1154160"/>
            </a:xfrm>
          </p:grpSpPr>
          <p:sp>
            <p:nvSpPr>
              <p:cNvPr id="341" name=""/>
              <p:cNvSpPr/>
              <p:nvPr/>
            </p:nvSpPr>
            <p:spPr>
              <a:xfrm>
                <a:off x="4986360" y="2239560"/>
                <a:ext cx="6145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971960" y="164628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9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970160" y="221904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4" name=""/>
          <p:cNvGrpSpPr/>
          <p:nvPr/>
        </p:nvGrpSpPr>
        <p:grpSpPr>
          <a:xfrm>
            <a:off x="2517840" y="1654200"/>
            <a:ext cx="6211800" cy="1146600"/>
            <a:chOff x="2517840" y="1654200"/>
            <a:chExt cx="6211800" cy="1146600"/>
          </a:xfrm>
        </p:grpSpPr>
        <p:grpSp>
          <p:nvGrpSpPr>
            <p:cNvPr id="345" name=""/>
            <p:cNvGrpSpPr/>
            <p:nvPr/>
          </p:nvGrpSpPr>
          <p:grpSpPr>
            <a:xfrm>
              <a:off x="2517840" y="1654200"/>
              <a:ext cx="4118040" cy="1146600"/>
              <a:chOff x="2517840" y="1654200"/>
              <a:chExt cx="4118040" cy="114660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2517840" y="1660320"/>
                <a:ext cx="431640" cy="1132200"/>
                <a:chOff x="2517840" y="1660320"/>
                <a:chExt cx="431640" cy="113220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2528280" y="166032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cc99"/>
                      </a:solidFill>
                      <a:latin typeface="Comic Sans MS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526480" y="221112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cc99"/>
                      </a:solidFill>
                      <a:latin typeface="Comic Sans MS"/>
                    </a:rPr>
                    <a:t>7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517840" y="2225520"/>
                  <a:ext cx="431640" cy="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6203880" y="1654200"/>
                <a:ext cx="432000" cy="1146600"/>
                <a:chOff x="6203880" y="1654200"/>
                <a:chExt cx="432000" cy="114660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214320" y="16542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cc99"/>
                      </a:solidFill>
                      <a:latin typeface="Comic Sans MS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212880" y="22194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cc99"/>
                      </a:solidFill>
                      <a:latin typeface="Comic Sans MS"/>
                    </a:rPr>
                    <a:t>7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203880" y="2219400"/>
                  <a:ext cx="432000" cy="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"/>
              <p:cNvSpPr/>
              <p:nvPr/>
            </p:nvSpPr>
            <p:spPr>
              <a:xfrm>
                <a:off x="3071520" y="1904760"/>
                <a:ext cx="35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cc99"/>
                    </a:solidFill>
                    <a:latin typeface="Comic Sans MS"/>
                  </a:rPr>
                  <a:t>•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706720" y="1904760"/>
                <a:ext cx="35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cc99"/>
                    </a:solidFill>
                    <a:latin typeface="Comic Sans MS"/>
                  </a:rPr>
                  <a:t>•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6648480" y="1814400"/>
              <a:ext cx="2081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Comic Sans MS"/>
                </a:rPr>
                <a:t>multiplicative inver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2603160" y="3357720"/>
            <a:ext cx="2640600" cy="1154520"/>
            <a:chOff x="2603160" y="3357720"/>
            <a:chExt cx="2640600" cy="1154520"/>
          </a:xfrm>
        </p:grpSpPr>
        <p:sp>
          <p:nvSpPr>
            <p:cNvPr id="358" name=""/>
            <p:cNvSpPr/>
            <p:nvPr/>
          </p:nvSpPr>
          <p:spPr>
            <a:xfrm>
              <a:off x="2603160" y="3632400"/>
              <a:ext cx="4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061080" y="36324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3578040" y="3357720"/>
              <a:ext cx="648720" cy="1154160"/>
              <a:chOff x="3578040" y="3357720"/>
              <a:chExt cx="648720" cy="1154160"/>
            </a:xfrm>
          </p:grpSpPr>
          <p:sp>
            <p:nvSpPr>
              <p:cNvPr id="361" name=""/>
              <p:cNvSpPr/>
              <p:nvPr/>
            </p:nvSpPr>
            <p:spPr>
              <a:xfrm>
                <a:off x="3594240" y="3951000"/>
                <a:ext cx="6145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579840" y="335772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9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578040" y="393048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4822200" y="33656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820760" y="39308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811760" y="3930840"/>
              <a:ext cx="43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14600" y="361656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3427200" y="3138480"/>
            <a:ext cx="2141640" cy="1594800"/>
            <a:chOff x="3427200" y="3138480"/>
            <a:chExt cx="2141640" cy="1594800"/>
          </a:xfrm>
        </p:grpSpPr>
        <p:sp>
          <p:nvSpPr>
            <p:cNvPr id="369" name=""/>
            <p:cNvSpPr/>
            <p:nvPr/>
          </p:nvSpPr>
          <p:spPr>
            <a:xfrm>
              <a:off x="3427200" y="4273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99120" y="313848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3646800" y="4039560"/>
              <a:ext cx="538560" cy="299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756680" y="3492000"/>
              <a:ext cx="538560" cy="299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5351400" y="3363840"/>
            <a:ext cx="1197720" cy="1144800"/>
            <a:chOff x="5351400" y="3363840"/>
            <a:chExt cx="1197720" cy="1144800"/>
          </a:xfrm>
        </p:grpSpPr>
        <p:sp>
          <p:nvSpPr>
            <p:cNvPr id="374" name=""/>
            <p:cNvSpPr/>
            <p:nvPr/>
          </p:nvSpPr>
          <p:spPr>
            <a:xfrm>
              <a:off x="5351400" y="36133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5901480" y="3363840"/>
              <a:ext cx="647640" cy="1144800"/>
              <a:chOff x="5901480" y="3363840"/>
              <a:chExt cx="647640" cy="1144800"/>
            </a:xfrm>
          </p:grpSpPr>
          <p:sp>
            <p:nvSpPr>
              <p:cNvPr id="376" name=""/>
              <p:cNvSpPr/>
              <p:nvPr/>
            </p:nvSpPr>
            <p:spPr>
              <a:xfrm>
                <a:off x="5902200" y="336384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01480" y="392724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17680" y="3927240"/>
                <a:ext cx="614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9" name=""/>
          <p:cNvGrpSpPr/>
          <p:nvPr/>
        </p:nvGrpSpPr>
        <p:grpSpPr>
          <a:xfrm>
            <a:off x="3868920" y="5060880"/>
            <a:ext cx="1420920" cy="1160640"/>
            <a:chOff x="3868920" y="5060880"/>
            <a:chExt cx="1420920" cy="1160640"/>
          </a:xfrm>
        </p:grpSpPr>
        <p:sp>
          <p:nvSpPr>
            <p:cNvPr id="380" name=""/>
            <p:cNvSpPr/>
            <p:nvPr/>
          </p:nvSpPr>
          <p:spPr>
            <a:xfrm>
              <a:off x="3868920" y="53193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4263480" y="5060880"/>
              <a:ext cx="1026360" cy="1160640"/>
              <a:chOff x="4263480" y="5060880"/>
              <a:chExt cx="1026360" cy="1160640"/>
            </a:xfrm>
          </p:grpSpPr>
          <p:sp>
            <p:nvSpPr>
              <p:cNvPr id="382" name=""/>
              <p:cNvSpPr/>
              <p:nvPr/>
            </p:nvSpPr>
            <p:spPr>
              <a:xfrm>
                <a:off x="4263480" y="531936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3" name=""/>
              <p:cNvGrpSpPr/>
              <p:nvPr/>
            </p:nvGrpSpPr>
            <p:grpSpPr>
              <a:xfrm>
                <a:off x="4642920" y="5060880"/>
                <a:ext cx="646920" cy="1160640"/>
                <a:chOff x="4642920" y="5060880"/>
                <a:chExt cx="646920" cy="116064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4642920" y="5060880"/>
                  <a:ext cx="646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17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4642920" y="5640120"/>
                  <a:ext cx="646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2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705200" y="5640120"/>
                  <a:ext cx="52236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957400" y="609480"/>
            <a:ext cx="375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38680" y="127800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3102120" y="2247840"/>
            <a:ext cx="2945880" cy="1132200"/>
            <a:chOff x="3102120" y="2247840"/>
            <a:chExt cx="2945880" cy="1132200"/>
          </a:xfrm>
        </p:grpSpPr>
        <p:grpSp>
          <p:nvGrpSpPr>
            <p:cNvPr id="390" name=""/>
            <p:cNvGrpSpPr/>
            <p:nvPr/>
          </p:nvGrpSpPr>
          <p:grpSpPr>
            <a:xfrm>
              <a:off x="3102120" y="2247840"/>
              <a:ext cx="869760" cy="1132200"/>
              <a:chOff x="3102120" y="2247840"/>
              <a:chExt cx="869760" cy="1132200"/>
            </a:xfrm>
          </p:grpSpPr>
          <p:grpSp>
            <p:nvGrpSpPr>
              <p:cNvPr id="391" name=""/>
              <p:cNvGrpSpPr/>
              <p:nvPr/>
            </p:nvGrpSpPr>
            <p:grpSpPr>
              <a:xfrm>
                <a:off x="3102120" y="2247840"/>
                <a:ext cx="431640" cy="1132200"/>
                <a:chOff x="3102120" y="2247840"/>
                <a:chExt cx="431640" cy="113220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3112200" y="22478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7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3110760" y="27986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3102120" y="2812680"/>
                  <a:ext cx="431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5" name=""/>
              <p:cNvSpPr/>
              <p:nvPr/>
            </p:nvSpPr>
            <p:spPr>
              <a:xfrm>
                <a:off x="3548880" y="2492280"/>
                <a:ext cx="42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4023000" y="2492280"/>
              <a:ext cx="32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51520" y="24922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508280" y="2247840"/>
              <a:ext cx="431640" cy="1131840"/>
              <a:chOff x="4508280" y="2247840"/>
              <a:chExt cx="431640" cy="1131840"/>
            </a:xfrm>
          </p:grpSpPr>
          <p:sp>
            <p:nvSpPr>
              <p:cNvPr id="399" name=""/>
              <p:cNvSpPr/>
              <p:nvPr/>
            </p:nvSpPr>
            <p:spPr>
              <a:xfrm>
                <a:off x="4518360" y="22478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516920" y="27982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508280" y="2812680"/>
                <a:ext cx="43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5616360" y="2247840"/>
              <a:ext cx="431640" cy="1132200"/>
              <a:chOff x="5616360" y="2247840"/>
              <a:chExt cx="431640" cy="1132200"/>
            </a:xfrm>
          </p:grpSpPr>
          <p:sp>
            <p:nvSpPr>
              <p:cNvPr id="403" name=""/>
              <p:cNvSpPr/>
              <p:nvPr/>
            </p:nvSpPr>
            <p:spPr>
              <a:xfrm>
                <a:off x="5626440" y="22478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625000" y="27986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616360" y="2812680"/>
                <a:ext cx="43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6" name=""/>
          <p:cNvGrpSpPr/>
          <p:nvPr/>
        </p:nvGrpSpPr>
        <p:grpSpPr>
          <a:xfrm>
            <a:off x="2691720" y="3692520"/>
            <a:ext cx="3760560" cy="1161000"/>
            <a:chOff x="2691720" y="3692520"/>
            <a:chExt cx="3760560" cy="1161000"/>
          </a:xfrm>
        </p:grpSpPr>
        <p:grpSp>
          <p:nvGrpSpPr>
            <p:cNvPr id="407" name=""/>
            <p:cNvGrpSpPr/>
            <p:nvPr/>
          </p:nvGrpSpPr>
          <p:grpSpPr>
            <a:xfrm>
              <a:off x="2691720" y="3692520"/>
              <a:ext cx="3252600" cy="1161000"/>
              <a:chOff x="2691720" y="3692520"/>
              <a:chExt cx="3252600" cy="1161000"/>
            </a:xfrm>
          </p:grpSpPr>
          <p:sp>
            <p:nvSpPr>
              <p:cNvPr id="408" name=""/>
              <p:cNvSpPr/>
              <p:nvPr/>
            </p:nvSpPr>
            <p:spPr>
              <a:xfrm>
                <a:off x="4556880" y="3951360"/>
                <a:ext cx="646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or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5296680" y="3700440"/>
                <a:ext cx="647640" cy="1144800"/>
                <a:chOff x="5296680" y="3700440"/>
                <a:chExt cx="647640" cy="114480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5297400" y="3700440"/>
                  <a:ext cx="646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3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5296680" y="4263840"/>
                  <a:ext cx="646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2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5312880" y="4263840"/>
                  <a:ext cx="614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3106440" y="3692520"/>
                <a:ext cx="1421280" cy="1161000"/>
                <a:chOff x="3106440" y="3692520"/>
                <a:chExt cx="1421280" cy="116100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3106440" y="395136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=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5" name=""/>
                <p:cNvGrpSpPr/>
                <p:nvPr/>
              </p:nvGrpSpPr>
              <p:grpSpPr>
                <a:xfrm>
                  <a:off x="3501000" y="3692520"/>
                  <a:ext cx="1026720" cy="1161000"/>
                  <a:chOff x="3501000" y="3692520"/>
                  <a:chExt cx="1026720" cy="116100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3501000" y="3951360"/>
                    <a:ext cx="44280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1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17" name=""/>
                  <p:cNvGrpSpPr/>
                  <p:nvPr/>
                </p:nvGrpSpPr>
                <p:grpSpPr>
                  <a:xfrm>
                    <a:off x="3880800" y="3692520"/>
                    <a:ext cx="646920" cy="1161000"/>
                    <a:chOff x="3880800" y="3692520"/>
                    <a:chExt cx="646920" cy="1161000"/>
                  </a:xfrm>
                </p:grpSpPr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3880800" y="3692520"/>
                      <a:ext cx="64692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9" name=""/>
                    <p:cNvSpPr/>
                    <p:nvPr/>
                  </p:nvSpPr>
                  <p:spPr>
                    <a:xfrm>
                      <a:off x="3880800" y="4272120"/>
                      <a:ext cx="64692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3942720" y="4272120"/>
                      <a:ext cx="5223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421" name=""/>
              <p:cNvSpPr/>
              <p:nvPr/>
            </p:nvSpPr>
            <p:spPr>
              <a:xfrm>
                <a:off x="2691720" y="3951360"/>
                <a:ext cx="42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6073560" y="395136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2679840" y="5164200"/>
            <a:ext cx="3789360" cy="1145160"/>
            <a:chOff x="2679840" y="5164200"/>
            <a:chExt cx="3789360" cy="1145160"/>
          </a:xfrm>
        </p:grpSpPr>
        <p:grpSp>
          <p:nvGrpSpPr>
            <p:cNvPr id="424" name=""/>
            <p:cNvGrpSpPr/>
            <p:nvPr/>
          </p:nvGrpSpPr>
          <p:grpSpPr>
            <a:xfrm>
              <a:off x="2679840" y="5168880"/>
              <a:ext cx="432000" cy="1132560"/>
              <a:chOff x="2679840" y="5168880"/>
              <a:chExt cx="432000" cy="1132560"/>
            </a:xfrm>
          </p:grpSpPr>
          <p:sp>
            <p:nvSpPr>
              <p:cNvPr id="425" name=""/>
              <p:cNvSpPr/>
              <p:nvPr/>
            </p:nvSpPr>
            <p:spPr>
              <a:xfrm>
                <a:off x="2690280" y="51688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688840" y="57200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679840" y="5734080"/>
                <a:ext cx="43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4458600" y="5413320"/>
              <a:ext cx="32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472360" y="54133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4929120" y="5168880"/>
              <a:ext cx="431640" cy="1132200"/>
              <a:chOff x="4929120" y="5168880"/>
              <a:chExt cx="431640" cy="1132200"/>
            </a:xfrm>
          </p:grpSpPr>
          <p:sp>
            <p:nvSpPr>
              <p:cNvPr id="431" name=""/>
              <p:cNvSpPr/>
              <p:nvPr/>
            </p:nvSpPr>
            <p:spPr>
              <a:xfrm>
                <a:off x="4939200" y="51688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937760" y="57196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929120" y="5734080"/>
                <a:ext cx="43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6037200" y="5168880"/>
              <a:ext cx="432000" cy="1132200"/>
              <a:chOff x="6037200" y="5168880"/>
              <a:chExt cx="432000" cy="1132200"/>
            </a:xfrm>
          </p:grpSpPr>
          <p:sp>
            <p:nvSpPr>
              <p:cNvPr id="435" name=""/>
              <p:cNvSpPr/>
              <p:nvPr/>
            </p:nvSpPr>
            <p:spPr>
              <a:xfrm>
                <a:off x="6047640" y="51688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046200" y="57196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037200" y="5733720"/>
                <a:ext cx="43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3679560" y="5164200"/>
              <a:ext cx="647640" cy="1145160"/>
              <a:chOff x="3679560" y="5164200"/>
              <a:chExt cx="647640" cy="1145160"/>
            </a:xfrm>
          </p:grpSpPr>
          <p:sp>
            <p:nvSpPr>
              <p:cNvPr id="439" name=""/>
              <p:cNvSpPr/>
              <p:nvPr/>
            </p:nvSpPr>
            <p:spPr>
              <a:xfrm>
                <a:off x="3680280" y="516420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3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679560" y="572796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2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695760" y="5727960"/>
                <a:ext cx="6145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>
              <a:off x="3213000" y="541332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23:15:18Z</dcterms:created>
  <dc:creator>Community Campus</dc:creator>
  <dc:description/>
  <dc:language>en-US</dc:language>
  <cp:lastModifiedBy>iddcws</cp:lastModifiedBy>
  <dcterms:modified xsi:type="dcterms:W3CDTF">2003-01-28T18:53:58Z</dcterms:modified>
  <cp:revision>542</cp:revision>
  <dc:subject/>
  <dc:title>PowerPoint Presentation</dc:title>
</cp:coreProperties>
</file>