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5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32600" y="45720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2      Unit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73600" y="2027160"/>
            <a:ext cx="1782720" cy="671760"/>
          </a:xfrm>
          <a:custGeom>
            <a:avLst/>
            <a:gdLst/>
            <a:ahLst/>
            <a:rect l="l" t="t" r="r" b="b"/>
            <a:pathLst>
              <a:path w="1123" h="423">
                <a:moveTo>
                  <a:pt x="0" y="0"/>
                </a:moveTo>
                <a:lnTo>
                  <a:pt x="0" y="0"/>
                </a:lnTo>
                <a:lnTo>
                  <a:pt x="0" y="307"/>
                </a:lnTo>
                <a:lnTo>
                  <a:pt x="465" y="423"/>
                </a:lnTo>
                <a:lnTo>
                  <a:pt x="1123" y="254"/>
                </a:lnTo>
                <a:lnTo>
                  <a:pt x="0" y="0"/>
                </a:lnTo>
                <a:close/>
              </a:path>
            </a:pathLst>
          </a:custGeom>
          <a:solidFill>
            <a:srgbClr val="cf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73600" y="2027160"/>
            <a:ext cx="1782720" cy="671760"/>
          </a:xfrm>
          <a:custGeom>
            <a:avLst/>
            <a:gdLst/>
            <a:ahLst/>
            <a:rect l="l" t="t" r="r" b="b"/>
            <a:pathLst>
              <a:path w="1123" h="423">
                <a:moveTo>
                  <a:pt x="0" y="0"/>
                </a:moveTo>
                <a:lnTo>
                  <a:pt x="0" y="307"/>
                </a:lnTo>
                <a:lnTo>
                  <a:pt x="465" y="423"/>
                </a:lnTo>
                <a:lnTo>
                  <a:pt x="1123" y="254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76440" y="3319560"/>
            <a:ext cx="674640" cy="1092240"/>
          </a:xfrm>
          <a:custGeom>
            <a:avLst/>
            <a:gdLst/>
            <a:ahLst/>
            <a:rect l="l" t="t" r="r" b="b"/>
            <a:pathLst>
              <a:path w="425" h="688">
                <a:moveTo>
                  <a:pt x="14" y="688"/>
                </a:moveTo>
                <a:lnTo>
                  <a:pt x="14" y="688"/>
                </a:lnTo>
                <a:lnTo>
                  <a:pt x="425" y="592"/>
                </a:lnTo>
                <a:lnTo>
                  <a:pt x="425" y="117"/>
                </a:lnTo>
                <a:lnTo>
                  <a:pt x="0" y="0"/>
                </a:lnTo>
                <a:lnTo>
                  <a:pt x="14" y="688"/>
                </a:lnTo>
                <a:close/>
              </a:path>
            </a:pathLst>
          </a:custGeom>
          <a:solidFill>
            <a:srgbClr val="5c00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76440" y="3319560"/>
            <a:ext cx="674640" cy="1092240"/>
          </a:xfrm>
          <a:custGeom>
            <a:avLst/>
            <a:gdLst/>
            <a:ahLst/>
            <a:rect l="l" t="t" r="r" b="b"/>
            <a:pathLst>
              <a:path w="425" h="688">
                <a:moveTo>
                  <a:pt x="14" y="688"/>
                </a:moveTo>
                <a:lnTo>
                  <a:pt x="425" y="592"/>
                </a:lnTo>
                <a:lnTo>
                  <a:pt x="425" y="117"/>
                </a:lnTo>
                <a:lnTo>
                  <a:pt x="0" y="0"/>
                </a:lnTo>
                <a:lnTo>
                  <a:pt x="14" y="688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8120" y="2430360"/>
            <a:ext cx="3782880" cy="3876840"/>
          </a:xfrm>
          <a:custGeom>
            <a:avLst/>
            <a:gdLst/>
            <a:ahLst/>
            <a:rect l="l" t="t" r="r" b="b"/>
            <a:pathLst>
              <a:path w="2383" h="2442">
                <a:moveTo>
                  <a:pt x="0" y="1681"/>
                </a:moveTo>
                <a:lnTo>
                  <a:pt x="0" y="1681"/>
                </a:lnTo>
                <a:lnTo>
                  <a:pt x="2383" y="2442"/>
                </a:lnTo>
                <a:lnTo>
                  <a:pt x="2383" y="645"/>
                </a:lnTo>
                <a:lnTo>
                  <a:pt x="0" y="0"/>
                </a:lnTo>
                <a:lnTo>
                  <a:pt x="0" y="1089"/>
                </a:lnTo>
                <a:lnTo>
                  <a:pt x="561" y="1248"/>
                </a:lnTo>
                <a:lnTo>
                  <a:pt x="547" y="560"/>
                </a:lnTo>
                <a:lnTo>
                  <a:pt x="1835" y="888"/>
                </a:lnTo>
                <a:lnTo>
                  <a:pt x="1835" y="1882"/>
                </a:lnTo>
                <a:lnTo>
                  <a:pt x="0" y="1290"/>
                </a:lnTo>
                <a:lnTo>
                  <a:pt x="0" y="1681"/>
                </a:lnTo>
                <a:close/>
              </a:path>
            </a:pathLst>
          </a:custGeom>
          <a:solidFill>
            <a:srgbClr val="cf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8120" y="2430360"/>
            <a:ext cx="3782880" cy="3876840"/>
          </a:xfrm>
          <a:custGeom>
            <a:avLst/>
            <a:gdLst/>
            <a:ahLst/>
            <a:rect l="l" t="t" r="r" b="b"/>
            <a:pathLst>
              <a:path w="2383" h="2442">
                <a:moveTo>
                  <a:pt x="0" y="1681"/>
                </a:moveTo>
                <a:lnTo>
                  <a:pt x="2383" y="2442"/>
                </a:lnTo>
                <a:lnTo>
                  <a:pt x="2383" y="645"/>
                </a:lnTo>
                <a:lnTo>
                  <a:pt x="0" y="0"/>
                </a:lnTo>
                <a:lnTo>
                  <a:pt x="0" y="1089"/>
                </a:lnTo>
                <a:lnTo>
                  <a:pt x="561" y="1248"/>
                </a:lnTo>
                <a:lnTo>
                  <a:pt x="547" y="560"/>
                </a:lnTo>
                <a:lnTo>
                  <a:pt x="1835" y="888"/>
                </a:lnTo>
                <a:lnTo>
                  <a:pt x="1835" y="1882"/>
                </a:lnTo>
                <a:lnTo>
                  <a:pt x="0" y="1290"/>
                </a:lnTo>
                <a:lnTo>
                  <a:pt x="0" y="1681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8120" y="4294080"/>
            <a:ext cx="2913120" cy="1123920"/>
          </a:xfrm>
          <a:custGeom>
            <a:avLst/>
            <a:gdLst/>
            <a:ahLst/>
            <a:rect l="l" t="t" r="r" b="b"/>
            <a:pathLst>
              <a:path w="1835" h="708">
                <a:moveTo>
                  <a:pt x="1835" y="401"/>
                </a:moveTo>
                <a:lnTo>
                  <a:pt x="1835" y="401"/>
                </a:lnTo>
                <a:lnTo>
                  <a:pt x="1835" y="708"/>
                </a:lnTo>
                <a:lnTo>
                  <a:pt x="0" y="116"/>
                </a:lnTo>
                <a:lnTo>
                  <a:pt x="561" y="0"/>
                </a:lnTo>
                <a:lnTo>
                  <a:pt x="1835" y="401"/>
                </a:lnTo>
                <a:close/>
              </a:path>
            </a:pathLst>
          </a:custGeom>
          <a:solidFill>
            <a:srgbClr val="9a3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120" y="4294080"/>
            <a:ext cx="2913120" cy="1123920"/>
          </a:xfrm>
          <a:custGeom>
            <a:avLst/>
            <a:gdLst/>
            <a:ahLst/>
            <a:rect l="l" t="t" r="r" b="b"/>
            <a:pathLst>
              <a:path w="1835" h="708">
                <a:moveTo>
                  <a:pt x="1835" y="401"/>
                </a:moveTo>
                <a:lnTo>
                  <a:pt x="1835" y="708"/>
                </a:lnTo>
                <a:lnTo>
                  <a:pt x="0" y="116"/>
                </a:lnTo>
                <a:lnTo>
                  <a:pt x="561" y="0"/>
                </a:lnTo>
                <a:lnTo>
                  <a:pt x="1835" y="401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1000" y="2430360"/>
            <a:ext cx="3868920" cy="3876840"/>
          </a:xfrm>
          <a:custGeom>
            <a:avLst/>
            <a:gdLst/>
            <a:ahLst/>
            <a:rect l="l" t="t" r="r" b="b"/>
            <a:pathLst>
              <a:path w="2437" h="2442">
                <a:moveTo>
                  <a:pt x="1766" y="1903"/>
                </a:moveTo>
                <a:lnTo>
                  <a:pt x="1766" y="1903"/>
                </a:lnTo>
                <a:lnTo>
                  <a:pt x="0" y="2442"/>
                </a:lnTo>
                <a:lnTo>
                  <a:pt x="0" y="645"/>
                </a:lnTo>
                <a:lnTo>
                  <a:pt x="2437" y="0"/>
                </a:lnTo>
                <a:lnTo>
                  <a:pt x="2437" y="1681"/>
                </a:lnTo>
                <a:lnTo>
                  <a:pt x="1876" y="1850"/>
                </a:lnTo>
                <a:lnTo>
                  <a:pt x="1890" y="560"/>
                </a:lnTo>
                <a:lnTo>
                  <a:pt x="602" y="888"/>
                </a:lnTo>
                <a:lnTo>
                  <a:pt x="602" y="1882"/>
                </a:lnTo>
                <a:lnTo>
                  <a:pt x="1766" y="1512"/>
                </a:lnTo>
                <a:lnTo>
                  <a:pt x="1766" y="1903"/>
                </a:lnTo>
                <a:close/>
              </a:path>
            </a:pathLst>
          </a:custGeom>
          <a:solidFill>
            <a:srgbClr val="5c00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1000" y="2430360"/>
            <a:ext cx="3868920" cy="3876840"/>
          </a:xfrm>
          <a:custGeom>
            <a:avLst/>
            <a:gdLst/>
            <a:ahLst/>
            <a:rect l="l" t="t" r="r" b="b"/>
            <a:pathLst>
              <a:path w="2437" h="2442">
                <a:moveTo>
                  <a:pt x="1766" y="1903"/>
                </a:moveTo>
                <a:lnTo>
                  <a:pt x="0" y="2442"/>
                </a:lnTo>
                <a:lnTo>
                  <a:pt x="0" y="645"/>
                </a:lnTo>
                <a:lnTo>
                  <a:pt x="2437" y="0"/>
                </a:lnTo>
                <a:lnTo>
                  <a:pt x="2437" y="1681"/>
                </a:lnTo>
                <a:lnTo>
                  <a:pt x="1876" y="1850"/>
                </a:lnTo>
                <a:lnTo>
                  <a:pt x="1890" y="560"/>
                </a:lnTo>
                <a:lnTo>
                  <a:pt x="602" y="888"/>
                </a:lnTo>
                <a:lnTo>
                  <a:pt x="602" y="1882"/>
                </a:lnTo>
                <a:lnTo>
                  <a:pt x="1766" y="1512"/>
                </a:lnTo>
                <a:lnTo>
                  <a:pt x="1766" y="1903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46800" y="4629240"/>
            <a:ext cx="1847880" cy="788760"/>
          </a:xfrm>
          <a:custGeom>
            <a:avLst/>
            <a:gdLst/>
            <a:ahLst/>
            <a:rect l="l" t="t" r="r" b="b"/>
            <a:pathLst>
              <a:path w="1164" h="497">
                <a:moveTo>
                  <a:pt x="0" y="190"/>
                </a:moveTo>
                <a:lnTo>
                  <a:pt x="0" y="190"/>
                </a:lnTo>
                <a:lnTo>
                  <a:pt x="0" y="497"/>
                </a:lnTo>
                <a:lnTo>
                  <a:pt x="1164" y="127"/>
                </a:lnTo>
                <a:lnTo>
                  <a:pt x="603" y="0"/>
                </a:lnTo>
                <a:lnTo>
                  <a:pt x="0" y="190"/>
                </a:lnTo>
                <a:close/>
              </a:path>
            </a:pathLst>
          </a:custGeom>
          <a:solidFill>
            <a:srgbClr val="9a3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46800" y="4629240"/>
            <a:ext cx="1847880" cy="788760"/>
          </a:xfrm>
          <a:custGeom>
            <a:avLst/>
            <a:gdLst/>
            <a:ahLst/>
            <a:rect l="l" t="t" r="r" b="b"/>
            <a:pathLst>
              <a:path w="1164" h="497">
                <a:moveTo>
                  <a:pt x="0" y="190"/>
                </a:moveTo>
                <a:lnTo>
                  <a:pt x="0" y="497"/>
                </a:lnTo>
                <a:lnTo>
                  <a:pt x="1164" y="127"/>
                </a:lnTo>
                <a:lnTo>
                  <a:pt x="603" y="0"/>
                </a:lnTo>
                <a:lnTo>
                  <a:pt x="0" y="19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6600" y="3319560"/>
            <a:ext cx="674640" cy="2047680"/>
          </a:xfrm>
          <a:custGeom>
            <a:avLst/>
            <a:gdLst/>
            <a:ahLst/>
            <a:rect l="l" t="t" r="r" b="b"/>
            <a:pathLst>
              <a:path w="425" h="1290">
                <a:moveTo>
                  <a:pt x="411" y="1290"/>
                </a:moveTo>
                <a:lnTo>
                  <a:pt x="411" y="1290"/>
                </a:lnTo>
                <a:lnTo>
                  <a:pt x="0" y="1195"/>
                </a:lnTo>
                <a:lnTo>
                  <a:pt x="0" y="117"/>
                </a:lnTo>
                <a:lnTo>
                  <a:pt x="425" y="0"/>
                </a:lnTo>
                <a:lnTo>
                  <a:pt x="411" y="1290"/>
                </a:lnTo>
                <a:close/>
              </a:path>
            </a:pathLst>
          </a:custGeom>
          <a:solidFill>
            <a:srgbClr val="cf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16600" y="3319560"/>
            <a:ext cx="674640" cy="2047680"/>
          </a:xfrm>
          <a:custGeom>
            <a:avLst/>
            <a:gdLst/>
            <a:ahLst/>
            <a:rect l="l" t="t" r="r" b="b"/>
            <a:pathLst>
              <a:path w="425" h="1290">
                <a:moveTo>
                  <a:pt x="411" y="1290"/>
                </a:moveTo>
                <a:lnTo>
                  <a:pt x="0" y="1195"/>
                </a:lnTo>
                <a:lnTo>
                  <a:pt x="0" y="117"/>
                </a:lnTo>
                <a:lnTo>
                  <a:pt x="425" y="0"/>
                </a:lnTo>
                <a:lnTo>
                  <a:pt x="411" y="129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541520"/>
            <a:ext cx="7608960" cy="1913040"/>
          </a:xfrm>
          <a:custGeom>
            <a:avLst/>
            <a:gdLst/>
            <a:ahLst/>
            <a:rect l="l" t="t" r="r" b="b"/>
            <a:pathLst>
              <a:path w="4793" h="1205">
                <a:moveTo>
                  <a:pt x="2383" y="0"/>
                </a:moveTo>
                <a:lnTo>
                  <a:pt x="2383" y="0"/>
                </a:lnTo>
                <a:lnTo>
                  <a:pt x="0" y="560"/>
                </a:lnTo>
                <a:lnTo>
                  <a:pt x="2383" y="1205"/>
                </a:lnTo>
                <a:lnTo>
                  <a:pt x="4793" y="560"/>
                </a:lnTo>
                <a:lnTo>
                  <a:pt x="3122" y="169"/>
                </a:lnTo>
                <a:lnTo>
                  <a:pt x="2561" y="306"/>
                </a:lnTo>
                <a:lnTo>
                  <a:pt x="3684" y="560"/>
                </a:lnTo>
                <a:lnTo>
                  <a:pt x="2383" y="888"/>
                </a:lnTo>
                <a:lnTo>
                  <a:pt x="1095" y="560"/>
                </a:lnTo>
                <a:lnTo>
                  <a:pt x="2958" y="137"/>
                </a:lnTo>
                <a:lnTo>
                  <a:pt x="2383" y="0"/>
                </a:lnTo>
                <a:close/>
              </a:path>
            </a:pathLst>
          </a:custGeom>
          <a:solidFill>
            <a:srgbClr val="9a3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8120" y="1541520"/>
            <a:ext cx="7608960" cy="1913040"/>
          </a:xfrm>
          <a:custGeom>
            <a:avLst/>
            <a:gdLst/>
            <a:ahLst/>
            <a:rect l="l" t="t" r="r" b="b"/>
            <a:pathLst>
              <a:path w="4793" h="1205">
                <a:moveTo>
                  <a:pt x="2383" y="0"/>
                </a:moveTo>
                <a:lnTo>
                  <a:pt x="0" y="560"/>
                </a:lnTo>
                <a:lnTo>
                  <a:pt x="2383" y="1205"/>
                </a:lnTo>
                <a:lnTo>
                  <a:pt x="4793" y="560"/>
                </a:lnTo>
                <a:lnTo>
                  <a:pt x="3122" y="169"/>
                </a:lnTo>
                <a:lnTo>
                  <a:pt x="2561" y="306"/>
                </a:lnTo>
                <a:lnTo>
                  <a:pt x="3684" y="560"/>
                </a:lnTo>
                <a:lnTo>
                  <a:pt x="2383" y="888"/>
                </a:lnTo>
                <a:lnTo>
                  <a:pt x="1095" y="560"/>
                </a:lnTo>
                <a:lnTo>
                  <a:pt x="2958" y="137"/>
                </a:lnTo>
                <a:lnTo>
                  <a:pt x="2383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46200" y="1758960"/>
            <a:ext cx="2957760" cy="939960"/>
          </a:xfrm>
          <a:custGeom>
            <a:avLst/>
            <a:gdLst/>
            <a:ahLst/>
            <a:rect l="l" t="t" r="r" b="b"/>
            <a:pathLst>
              <a:path w="1863" h="592">
                <a:moveTo>
                  <a:pt x="0" y="423"/>
                </a:moveTo>
                <a:lnTo>
                  <a:pt x="0" y="423"/>
                </a:lnTo>
                <a:lnTo>
                  <a:pt x="685" y="592"/>
                </a:lnTo>
                <a:lnTo>
                  <a:pt x="1863" y="328"/>
                </a:lnTo>
                <a:lnTo>
                  <a:pt x="1863" y="0"/>
                </a:lnTo>
                <a:lnTo>
                  <a:pt x="0" y="423"/>
                </a:lnTo>
                <a:close/>
              </a:path>
            </a:pathLst>
          </a:custGeom>
          <a:solidFill>
            <a:srgbClr val="5c00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46200" y="1758960"/>
            <a:ext cx="2957760" cy="939960"/>
          </a:xfrm>
          <a:custGeom>
            <a:avLst/>
            <a:gdLst/>
            <a:ahLst/>
            <a:rect l="l" t="t" r="r" b="b"/>
            <a:pathLst>
              <a:path w="1863" h="592">
                <a:moveTo>
                  <a:pt x="0" y="423"/>
                </a:moveTo>
                <a:lnTo>
                  <a:pt x="685" y="592"/>
                </a:lnTo>
                <a:lnTo>
                  <a:pt x="1863" y="328"/>
                </a:lnTo>
                <a:lnTo>
                  <a:pt x="1863" y="0"/>
                </a:lnTo>
                <a:lnTo>
                  <a:pt x="0" y="423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700000">
            <a:off x="4379040" y="2925360"/>
            <a:ext cx="40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der of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900000">
            <a:off x="1059120" y="502920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0700000">
            <a:off x="1285200" y="1843200"/>
            <a:ext cx="35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ometrical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425400" y="68580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86400" y="1219320"/>
            <a:ext cx="358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quare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3398760"/>
            <a:ext cx="289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verse operation of squ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85800" y="3475080"/>
            <a:ext cx="4228200" cy="2743200"/>
            <a:chOff x="685800" y="3475080"/>
            <a:chExt cx="4228200" cy="2743200"/>
          </a:xfrm>
        </p:grpSpPr>
        <p:sp>
          <p:nvSpPr>
            <p:cNvPr id="309" name=""/>
            <p:cNvSpPr/>
            <p:nvPr/>
          </p:nvSpPr>
          <p:spPr>
            <a:xfrm>
              <a:off x="4267080" y="4572000"/>
              <a:ext cx="533520" cy="533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85800" y="3475080"/>
              <a:ext cx="4228200" cy="2743200"/>
              <a:chOff x="685800" y="3475080"/>
              <a:chExt cx="4228200" cy="2743200"/>
            </a:xfrm>
          </p:grpSpPr>
          <p:sp>
            <p:nvSpPr>
              <p:cNvPr id="311" name=""/>
              <p:cNvSpPr/>
              <p:nvPr/>
            </p:nvSpPr>
            <p:spPr>
              <a:xfrm>
                <a:off x="1600200" y="3962520"/>
                <a:ext cx="533520" cy="5331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00200" y="4572000"/>
                <a:ext cx="533520" cy="5335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600200" y="5181480"/>
                <a:ext cx="533520" cy="5335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209680" y="3962520"/>
                <a:ext cx="533520" cy="5331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19520" y="3962520"/>
                <a:ext cx="533160" cy="5331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9520" y="5181480"/>
                <a:ext cx="533160" cy="5335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209680" y="4572000"/>
                <a:ext cx="533520" cy="5335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819520" y="4572000"/>
                <a:ext cx="533160" cy="5335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09680" y="5181480"/>
                <a:ext cx="533520" cy="5335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53160" y="4160880"/>
                <a:ext cx="703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ccccff"/>
                    </a:solidFill>
                    <a:latin typeface="Comic Sans MS"/>
                  </a:rPr>
                  <a:t>9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685800" y="3475080"/>
                    <a:ext cx="1424160" cy="274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/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2" name=""/>
              <p:cNvSpPr/>
              <p:nvPr/>
            </p:nvSpPr>
            <p:spPr>
              <a:xfrm>
                <a:off x="4267080" y="3962520"/>
                <a:ext cx="533520" cy="5331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267080" y="5181480"/>
                <a:ext cx="533520" cy="5335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210560" y="4191120"/>
                <a:ext cx="7034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ccccff"/>
                    </a:solidFill>
                    <a:latin typeface="Comic Sans MS"/>
                  </a:rPr>
                  <a:t>3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717000" y="4343400"/>
                <a:ext cx="529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00200" y="3703680"/>
                <a:ext cx="20574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990720" y="22096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number which, when multiplied by itself, gives you the original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828800" y="4800240"/>
            <a:ext cx="1465560" cy="1968840"/>
            <a:chOff x="1828800" y="4800240"/>
            <a:chExt cx="1465560" cy="1968840"/>
          </a:xfrm>
        </p:grpSpPr>
        <p:sp>
          <p:nvSpPr>
            <p:cNvPr id="329" name=""/>
            <p:cNvSpPr/>
            <p:nvPr/>
          </p:nvSpPr>
          <p:spPr>
            <a:xfrm>
              <a:off x="1828800" y="5943600"/>
              <a:ext cx="121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qu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/>
            <p:nvPr/>
          </p:nvCxnSpPr>
          <p:spPr>
            <a:xfrm flipH="1" flipV="1">
              <a:off x="2819160" y="4800240"/>
              <a:ext cx="172080" cy="1386720"/>
            </a:xfrm>
            <a:prstGeom prst="curvedConnector5">
              <a:avLst>
                <a:gd name="adj1" fmla="val -176729"/>
                <a:gd name="adj2" fmla="val 49987"/>
                <a:gd name="adj3" fmla="val -17672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31" name=""/>
          <p:cNvGrpSpPr/>
          <p:nvPr/>
        </p:nvGrpSpPr>
        <p:grpSpPr>
          <a:xfrm>
            <a:off x="3886200" y="4770360"/>
            <a:ext cx="2076120" cy="1602720"/>
            <a:chOff x="3886200" y="4770360"/>
            <a:chExt cx="2076120" cy="1602720"/>
          </a:xfrm>
        </p:grpSpPr>
        <p:sp>
          <p:nvSpPr>
            <p:cNvPr id="332" name=""/>
            <p:cNvSpPr/>
            <p:nvPr/>
          </p:nvSpPr>
          <p:spPr>
            <a:xfrm>
              <a:off x="3886200" y="59133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quare roo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3" name=""/>
            <p:cNvCxnSpPr/>
            <p:nvPr/>
          </p:nvCxnSpPr>
          <p:spPr>
            <a:xfrm flipH="1" flipV="1">
              <a:off x="4799880" y="4770360"/>
              <a:ext cx="934200" cy="1356120"/>
            </a:xfrm>
            <a:prstGeom prst="curvedConnector5">
              <a:avLst>
                <a:gd name="adj1" fmla="val -24479"/>
                <a:gd name="adj2" fmla="val 50000"/>
                <a:gd name="adj3" fmla="val -2447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577680" y="60948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52480" y="49528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quare root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ne is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1371600"/>
            <a:ext cx="5333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aking a square ro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429000" y="2286000"/>
                <a:ext cx="4800600" cy="25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8" name=""/>
          <p:cNvGrpSpPr/>
          <p:nvPr/>
        </p:nvGrpSpPr>
        <p:grpSpPr>
          <a:xfrm>
            <a:off x="838080" y="2163600"/>
            <a:ext cx="2201760" cy="2361960"/>
            <a:chOff x="838080" y="2163600"/>
            <a:chExt cx="2201760" cy="2361960"/>
          </a:xfrm>
        </p:grpSpPr>
        <p:sp>
          <p:nvSpPr>
            <p:cNvPr id="339" name=""/>
            <p:cNvSpPr/>
            <p:nvPr/>
          </p:nvSpPr>
          <p:spPr>
            <a:xfrm>
              <a:off x="838080" y="2163600"/>
              <a:ext cx="698040" cy="751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38080" y="2968920"/>
              <a:ext cx="698040" cy="751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38080" y="3774240"/>
              <a:ext cx="698040" cy="751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90120" y="2163600"/>
              <a:ext cx="698040" cy="751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41800" y="2163600"/>
              <a:ext cx="698040" cy="751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90120" y="2968920"/>
              <a:ext cx="698040" cy="751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41800" y="2968920"/>
              <a:ext cx="698040" cy="751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90120" y="3774240"/>
              <a:ext cx="698040" cy="7513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41800" y="3774240"/>
              <a:ext cx="698040" cy="7513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72920" y="30805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ccff"/>
                  </a:solidFill>
                  <a:latin typeface="Comic Sans MS"/>
                </a:rPr>
                <a:t>9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62120" y="4449600"/>
            <a:ext cx="2285640" cy="581400"/>
            <a:chOff x="762120" y="4449600"/>
            <a:chExt cx="2285640" cy="581400"/>
          </a:xfrm>
        </p:grpSpPr>
        <p:sp>
          <p:nvSpPr>
            <p:cNvPr id="350" name=""/>
            <p:cNvSpPr/>
            <p:nvPr/>
          </p:nvSpPr>
          <p:spPr>
            <a:xfrm>
              <a:off x="1349640" y="4449600"/>
              <a:ext cx="13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2120" y="4739040"/>
              <a:ext cx="58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60240" y="4739040"/>
              <a:ext cx="58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66840" y="2306520"/>
            <a:ext cx="581400" cy="2142720"/>
            <a:chOff x="366840" y="2306520"/>
            <a:chExt cx="581400" cy="2142720"/>
          </a:xfrm>
        </p:grpSpPr>
        <p:sp>
          <p:nvSpPr>
            <p:cNvPr id="354" name=""/>
            <p:cNvSpPr/>
            <p:nvPr/>
          </p:nvSpPr>
          <p:spPr>
            <a:xfrm rot="16200000">
              <a:off x="-43560" y="2766960"/>
              <a:ext cx="14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2760" y="3898440"/>
              <a:ext cx="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752760" y="2306520"/>
              <a:ext cx="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762120" y="5486400"/>
            <a:ext cx="1371240" cy="779760"/>
            <a:chOff x="762120" y="5486400"/>
            <a:chExt cx="1371240" cy="779760"/>
          </a:xfrm>
        </p:grpSpPr>
        <p:sp>
          <p:nvSpPr>
            <p:cNvPr id="358" name=""/>
            <p:cNvSpPr/>
            <p:nvPr/>
          </p:nvSpPr>
          <p:spPr>
            <a:xfrm>
              <a:off x="762120" y="5486400"/>
              <a:ext cx="1371240" cy="779760"/>
            </a:xfrm>
            <a:prstGeom prst="wedgeEllipseCallout">
              <a:avLst>
                <a:gd name="adj1" fmla="val -42648"/>
                <a:gd name="adj2" fmla="val 69907"/>
              </a:avLst>
            </a:prstGeom>
            <a:solidFill>
              <a:srgbClr val="33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23040" y="5573160"/>
              <a:ext cx="121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sa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273120" y="60948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5334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quare ro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676520" y="2604960"/>
                <a:ext cx="495288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2823480" y="2540160"/>
            <a:ext cx="4002840" cy="2871720"/>
            <a:chOff x="2823480" y="2540160"/>
            <a:chExt cx="4002840" cy="2871720"/>
          </a:xfrm>
        </p:grpSpPr>
        <p:sp>
          <p:nvSpPr>
            <p:cNvPr id="364" name=""/>
            <p:cNvSpPr/>
            <p:nvPr/>
          </p:nvSpPr>
          <p:spPr>
            <a:xfrm>
              <a:off x="2823480" y="2540160"/>
              <a:ext cx="1118160" cy="20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900" spc="-1" strike="noStrike">
                  <a:solidFill>
                    <a:srgbClr val="339933"/>
                  </a:solidFill>
                  <a:latin typeface="Comic Sans MS"/>
                </a:rPr>
                <a:t>9</a:t>
              </a:r>
              <a:endParaRPr b="0" lang="en-US" sz="1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382200" y="4368240"/>
              <a:ext cx="3444120" cy="1043640"/>
              <a:chOff x="3382200" y="4368240"/>
              <a:chExt cx="3444120" cy="1043640"/>
            </a:xfrm>
          </p:grpSpPr>
          <p:sp>
            <p:nvSpPr>
              <p:cNvPr id="366" name=""/>
              <p:cNvSpPr/>
              <p:nvPr/>
            </p:nvSpPr>
            <p:spPr>
              <a:xfrm>
                <a:off x="4446360" y="4708440"/>
                <a:ext cx="2379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0066"/>
                    </a:solidFill>
                    <a:latin typeface="Comic Sans MS"/>
                  </a:rPr>
                  <a:t>Radicand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67" name=""/>
              <p:cNvCxnSpPr>
                <a:stCxn id="366" idx="1"/>
                <a:endCxn id="364" idx="2"/>
              </p:cNvCxnSpPr>
              <p:nvPr/>
            </p:nvCxnSpPr>
            <p:spPr>
              <a:xfrm rot="10800000">
                <a:off x="3381840" y="4368240"/>
                <a:ext cx="1108800" cy="641880"/>
              </a:xfrm>
              <a:prstGeom prst="curvedConnector2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68" name=""/>
          <p:cNvGrpSpPr/>
          <p:nvPr/>
        </p:nvGrpSpPr>
        <p:grpSpPr>
          <a:xfrm>
            <a:off x="5105520" y="1798560"/>
            <a:ext cx="4038120" cy="2775600"/>
            <a:chOff x="5105520" y="1798560"/>
            <a:chExt cx="4038120" cy="2775600"/>
          </a:xfrm>
        </p:grpSpPr>
        <p:sp>
          <p:nvSpPr>
            <p:cNvPr id="369" name=""/>
            <p:cNvSpPr/>
            <p:nvPr/>
          </p:nvSpPr>
          <p:spPr>
            <a:xfrm>
              <a:off x="5568480" y="2697120"/>
              <a:ext cx="103104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1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5105520" y="1798560"/>
              <a:ext cx="4038120" cy="1096920"/>
              <a:chOff x="5105520" y="1798560"/>
              <a:chExt cx="4038120" cy="1096920"/>
            </a:xfrm>
          </p:grpSpPr>
          <p:sp>
            <p:nvSpPr>
              <p:cNvPr id="371" name=""/>
              <p:cNvSpPr/>
              <p:nvPr/>
            </p:nvSpPr>
            <p:spPr>
              <a:xfrm>
                <a:off x="5105520" y="1798560"/>
                <a:ext cx="403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cc"/>
                    </a:solidFill>
                    <a:latin typeface="Comic Sans MS"/>
                  </a:rPr>
                  <a:t>Square roo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72" name=""/>
              <p:cNvCxnSpPr>
                <a:stCxn id="371" idx="2"/>
                <a:endCxn id="369" idx="0"/>
              </p:cNvCxnSpPr>
              <p:nvPr/>
            </p:nvCxnSpPr>
            <p:spPr>
              <a:xfrm rot="5400000">
                <a:off x="6277680" y="2048760"/>
                <a:ext cx="469080" cy="1225440"/>
              </a:xfrm>
              <a:prstGeom prst="curvedConnector5">
                <a:avLst>
                  <a:gd name="adj1" fmla="val 49769"/>
                  <a:gd name="adj2" fmla="val 49985"/>
                  <a:gd name="adj3" fmla="val 49769"/>
                </a:avLst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73" name=""/>
          <p:cNvGrpSpPr/>
          <p:nvPr/>
        </p:nvGrpSpPr>
        <p:grpSpPr>
          <a:xfrm>
            <a:off x="1103400" y="1573200"/>
            <a:ext cx="3280320" cy="2016360"/>
            <a:chOff x="1103400" y="1573200"/>
            <a:chExt cx="3280320" cy="2016360"/>
          </a:xfrm>
        </p:grpSpPr>
        <p:sp>
          <p:nvSpPr>
            <p:cNvPr id="374" name=""/>
            <p:cNvSpPr/>
            <p:nvPr/>
          </p:nvSpPr>
          <p:spPr>
            <a:xfrm>
              <a:off x="1330200" y="1573200"/>
              <a:ext cx="305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Radical Sig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5" name=""/>
            <p:cNvCxnSpPr/>
            <p:nvPr/>
          </p:nvCxnSpPr>
          <p:spPr>
            <a:xfrm flipH="1" flipV="1" rot="10800000">
              <a:off x="1331640" y="1874520"/>
              <a:ext cx="991440" cy="1715040"/>
            </a:xfrm>
            <a:prstGeom prst="curvedConnector5">
              <a:avLst>
                <a:gd name="adj1" fmla="val -23065"/>
                <a:gd name="adj2" fmla="val 49989"/>
                <a:gd name="adj3" fmla="val -2306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273120" y="60948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505764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 is a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“perfect square”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cause it has a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hole numb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its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quare ro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05120" y="1143000"/>
            <a:ext cx="5333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erfect 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990720" y="2057400"/>
            <a:ext cx="2201400" cy="2361960"/>
            <a:chOff x="990720" y="2057400"/>
            <a:chExt cx="2201400" cy="2361960"/>
          </a:xfrm>
        </p:grpSpPr>
        <p:sp>
          <p:nvSpPr>
            <p:cNvPr id="380" name=""/>
            <p:cNvSpPr/>
            <p:nvPr/>
          </p:nvSpPr>
          <p:spPr>
            <a:xfrm>
              <a:off x="990720" y="2057400"/>
              <a:ext cx="698040" cy="751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90720" y="2862720"/>
              <a:ext cx="698040" cy="751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90720" y="3668040"/>
              <a:ext cx="698040" cy="751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42400" y="2057400"/>
              <a:ext cx="697680" cy="751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94080" y="2057400"/>
              <a:ext cx="698040" cy="751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42400" y="2862720"/>
              <a:ext cx="697680" cy="751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94080" y="2862720"/>
              <a:ext cx="698040" cy="751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42400" y="3668040"/>
              <a:ext cx="697680" cy="7513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94080" y="3668040"/>
              <a:ext cx="698040" cy="7513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25200" y="29743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ccff"/>
                  </a:solidFill>
                  <a:latin typeface="Comic Sans MS"/>
                </a:rPr>
                <a:t>9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914400" y="4343400"/>
            <a:ext cx="2285640" cy="581400"/>
            <a:chOff x="914400" y="4343400"/>
            <a:chExt cx="2285640" cy="581400"/>
          </a:xfrm>
        </p:grpSpPr>
        <p:sp>
          <p:nvSpPr>
            <p:cNvPr id="391" name=""/>
            <p:cNvSpPr/>
            <p:nvPr/>
          </p:nvSpPr>
          <p:spPr>
            <a:xfrm>
              <a:off x="1501920" y="4343400"/>
              <a:ext cx="13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914400" y="4632840"/>
              <a:ext cx="58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12520" y="4632840"/>
              <a:ext cx="58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68440" y="2046600"/>
            <a:ext cx="581400" cy="2449440"/>
            <a:chOff x="568440" y="2046600"/>
            <a:chExt cx="581400" cy="2449440"/>
          </a:xfrm>
        </p:grpSpPr>
        <p:sp>
          <p:nvSpPr>
            <p:cNvPr id="395" name=""/>
            <p:cNvSpPr/>
            <p:nvPr/>
          </p:nvSpPr>
          <p:spPr>
            <a:xfrm rot="16200000">
              <a:off x="57240" y="2594160"/>
              <a:ext cx="160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1520" y="3866400"/>
              <a:ext cx="0" cy="62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911520" y="2046600"/>
              <a:ext cx="0" cy="62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962520" y="2514600"/>
                <a:ext cx="419076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414360" y="3006720"/>
            <a:ext cx="2856960" cy="2897640"/>
            <a:chOff x="414360" y="3006720"/>
            <a:chExt cx="2856960" cy="2897640"/>
          </a:xfrm>
        </p:grpSpPr>
        <p:sp>
          <p:nvSpPr>
            <p:cNvPr id="400" name=""/>
            <p:cNvSpPr/>
            <p:nvPr/>
          </p:nvSpPr>
          <p:spPr>
            <a:xfrm>
              <a:off x="1670040" y="3841920"/>
              <a:ext cx="696960" cy="752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7640" y="3036960"/>
              <a:ext cx="698400" cy="75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7640" y="3841920"/>
              <a:ext cx="698400" cy="752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17640" y="4648320"/>
              <a:ext cx="698400" cy="750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70040" y="3036960"/>
              <a:ext cx="696960" cy="750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21000" y="3036960"/>
              <a:ext cx="698400" cy="7509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21000" y="3841920"/>
              <a:ext cx="698400" cy="7524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70040" y="4648320"/>
              <a:ext cx="696960" cy="750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21000" y="4648320"/>
              <a:ext cx="698400" cy="750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909720" y="5322960"/>
              <a:ext cx="2361600" cy="581400"/>
              <a:chOff x="909720" y="5322960"/>
              <a:chExt cx="2361600" cy="581400"/>
            </a:xfrm>
          </p:grpSpPr>
          <p:sp>
            <p:nvSpPr>
              <p:cNvPr id="410" name=""/>
              <p:cNvSpPr/>
              <p:nvPr/>
            </p:nvSpPr>
            <p:spPr>
              <a:xfrm>
                <a:off x="1516680" y="5322960"/>
                <a:ext cx="1349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909720" y="5612040"/>
                <a:ext cx="606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64360" y="5612040"/>
                <a:ext cx="606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14360" y="3006720"/>
              <a:ext cx="581400" cy="2140200"/>
              <a:chOff x="414360" y="3006720"/>
              <a:chExt cx="581400" cy="2140200"/>
            </a:xfrm>
          </p:grpSpPr>
          <p:sp>
            <p:nvSpPr>
              <p:cNvPr id="414" name=""/>
              <p:cNvSpPr/>
              <p:nvPr/>
            </p:nvSpPr>
            <p:spPr>
              <a:xfrm rot="16200000">
                <a:off x="20160" y="3400560"/>
                <a:ext cx="136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917640" y="4609440"/>
                <a:ext cx="0" cy="53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917640" y="3055680"/>
                <a:ext cx="0" cy="53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833400" y="2763720"/>
            <a:ext cx="2705040" cy="2711520"/>
            <a:chOff x="833400" y="2763720"/>
            <a:chExt cx="2705040" cy="2711520"/>
          </a:xfrm>
        </p:grpSpPr>
        <p:pic>
          <p:nvPicPr>
            <p:cNvPr id="418" name="" descr=""/>
            <p:cNvPicPr/>
            <p:nvPr/>
          </p:nvPicPr>
          <p:blipFill>
            <a:blip r:embed="rId10"/>
            <a:stretch/>
          </p:blipFill>
          <p:spPr>
            <a:xfrm>
              <a:off x="3195720" y="2884320"/>
              <a:ext cx="3427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11"/>
            <a:stretch/>
          </p:blipFill>
          <p:spPr>
            <a:xfrm>
              <a:off x="833400" y="2763720"/>
              <a:ext cx="2590920" cy="1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0" name=""/>
          <p:cNvSpPr/>
          <p:nvPr/>
        </p:nvSpPr>
        <p:spPr>
          <a:xfrm>
            <a:off x="3273120" y="60948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14479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hole number times itself that will give you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5105520"/>
            <a:ext cx="5333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omic Sans MS"/>
              </a:rPr>
              <a:t>NO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erfect 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478880" y="3581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ccff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809880" y="2971800"/>
                <a:ext cx="478152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088800" y="68580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27360" y="4648320"/>
            <a:ext cx="1508040" cy="81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17880" y="4648320"/>
            <a:ext cx="1509480" cy="81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480" y="4648320"/>
            <a:ext cx="1508400" cy="81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27360" y="5460840"/>
            <a:ext cx="1508040" cy="812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17880" y="5460840"/>
            <a:ext cx="1509480" cy="812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480" y="5460840"/>
            <a:ext cx="1508400" cy="812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27360" y="3835440"/>
            <a:ext cx="1508040" cy="812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17880" y="3835440"/>
            <a:ext cx="1509480" cy="812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3835440"/>
            <a:ext cx="1508400" cy="812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27360" y="3022560"/>
            <a:ext cx="1508040" cy="812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17880" y="3022560"/>
            <a:ext cx="1509480" cy="812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3022560"/>
            <a:ext cx="1508400" cy="812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27360" y="2209680"/>
            <a:ext cx="1508040" cy="812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17880" y="2209680"/>
            <a:ext cx="1509480" cy="812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2209680"/>
            <a:ext cx="1508400" cy="812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27360" y="1397160"/>
            <a:ext cx="1508040" cy="81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17880" y="1397160"/>
            <a:ext cx="1509480" cy="81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397160"/>
            <a:ext cx="1508400" cy="812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1397160"/>
            <a:ext cx="150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220968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3022560"/>
            <a:ext cx="449604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3835440"/>
            <a:ext cx="449604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4648320"/>
            <a:ext cx="449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09480" y="6248520"/>
            <a:ext cx="4496040" cy="25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1397160"/>
            <a:ext cx="0" cy="4876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17880" y="1397160"/>
            <a:ext cx="0" cy="487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27360" y="1397160"/>
            <a:ext cx="0" cy="487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35400" y="1397160"/>
            <a:ext cx="0" cy="487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133720" y="1371240"/>
            <a:ext cx="2987640" cy="255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9480" y="5460840"/>
            <a:ext cx="449604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04640" y="205740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04640" y="289548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04640" y="37339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04640" y="46483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04640" y="53341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62720" y="1371600"/>
            <a:ext cx="3124080" cy="4876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562720" y="1371600"/>
            <a:ext cx="3124080" cy="4879440"/>
            <a:chOff x="5562720" y="1371600"/>
            <a:chExt cx="3124080" cy="4879440"/>
          </a:xfrm>
        </p:grpSpPr>
        <p:sp>
          <p:nvSpPr>
            <p:cNvPr id="463" name=""/>
            <p:cNvSpPr/>
            <p:nvPr/>
          </p:nvSpPr>
          <p:spPr>
            <a:xfrm>
              <a:off x="7178760" y="5435640"/>
              <a:ext cx="1508040" cy="812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78760" y="4622760"/>
              <a:ext cx="1508040" cy="812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78760" y="3809880"/>
              <a:ext cx="1508040" cy="812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78760" y="2997360"/>
              <a:ext cx="1508040" cy="81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78760" y="2184480"/>
              <a:ext cx="1508040" cy="812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178760" y="1371600"/>
              <a:ext cx="1508040" cy="812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o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68920" y="1371600"/>
              <a:ext cx="1509840" cy="812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Sq. Rt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0" name=""/>
                <p:cNvSpPr txBox="1"/>
                <p:nvPr/>
              </p:nvSpPr>
              <p:spPr>
                <a:xfrm>
                  <a:off x="5562720" y="2286000"/>
                  <a:ext cx="60948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1" name=""/>
                <p:cNvSpPr txBox="1"/>
                <p:nvPr/>
              </p:nvSpPr>
              <p:spPr>
                <a:xfrm>
                  <a:off x="5562720" y="3124080"/>
                  <a:ext cx="76212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2" name=""/>
                <p:cNvSpPr txBox="1"/>
                <p:nvPr/>
              </p:nvSpPr>
              <p:spPr>
                <a:xfrm>
                  <a:off x="5562720" y="3844800"/>
                  <a:ext cx="83808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9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3" name=""/>
                <p:cNvSpPr txBox="1"/>
                <p:nvPr/>
              </p:nvSpPr>
              <p:spPr>
                <a:xfrm>
                  <a:off x="5562720" y="4708440"/>
                  <a:ext cx="990720" cy="63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4" name=""/>
                <p:cNvSpPr txBox="1"/>
                <p:nvPr/>
              </p:nvSpPr>
              <p:spPr>
                <a:xfrm>
                  <a:off x="5562720" y="5603760"/>
                  <a:ext cx="99072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75" name=""/>
            <p:cNvSpPr/>
            <p:nvPr/>
          </p:nvSpPr>
          <p:spPr>
            <a:xfrm>
              <a:off x="6686280" y="21337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86280" y="28954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86280" y="37339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86280" y="45720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86280" y="53341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7391520" y="1447920"/>
            <a:ext cx="0" cy="487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13716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62720" y="2133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62720" y="30481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62720" y="3886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562720" y="47242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62720" y="54864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4572000" y="2514600"/>
            <a:ext cx="3429000" cy="3124080"/>
          </a:xfrm>
          <a:prstGeom prst="rect">
            <a:avLst/>
          </a:prstGeom>
          <a:solidFill>
            <a:srgbClr val="ff99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62940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72000" y="3200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4360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25780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1520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0" y="3809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50292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37339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088840" y="3733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1600200"/>
            <a:ext cx="609840" cy="609480"/>
          </a:xfrm>
          <a:prstGeom prst="rect">
            <a:avLst/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43200" y="1676520"/>
            <a:ext cx="1219320" cy="1143000"/>
          </a:xfrm>
          <a:prstGeom prst="rect">
            <a:avLst/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2743200"/>
            <a:ext cx="1524240" cy="1371600"/>
          </a:xfrm>
          <a:prstGeom prst="rect">
            <a:avLst/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05120" y="4495680"/>
            <a:ext cx="2133360" cy="1752840"/>
          </a:xfrm>
          <a:prstGeom prst="rect">
            <a:avLst/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5268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4320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3200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66680" y="3657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0020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13372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971800" y="44956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54100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505320" y="44956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38280" y="44956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05120" y="49528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05120" y="58672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95280" y="1600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1828800"/>
            <a:ext cx="6858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23880" y="3124080"/>
            <a:ext cx="792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66880" y="4952880"/>
            <a:ext cx="792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95280" y="4952880"/>
            <a:ext cx="7621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1905120"/>
            <a:ext cx="609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38280" y="3048120"/>
            <a:ext cx="6858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1600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PERFECT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24280" y="5867280"/>
            <a:ext cx="371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Comic Sans MS"/>
              </a:rPr>
              <a:t>SQUARE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828440" y="1828800"/>
            <a:ext cx="4496040" cy="3276720"/>
            <a:chOff x="1828440" y="1828800"/>
            <a:chExt cx="4496040" cy="3276720"/>
          </a:xfrm>
        </p:grpSpPr>
        <p:sp>
          <p:nvSpPr>
            <p:cNvPr id="524" name=""/>
            <p:cNvSpPr/>
            <p:nvPr/>
          </p:nvSpPr>
          <p:spPr>
            <a:xfrm>
              <a:off x="4952880" y="2286000"/>
              <a:ext cx="1371600" cy="1447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504960" y="1981080"/>
              <a:ext cx="990360" cy="2286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3200040" y="2133720"/>
              <a:ext cx="1600200" cy="29718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2057040" y="2133720"/>
              <a:ext cx="2514600" cy="1295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828440" y="1828800"/>
              <a:ext cx="25909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599840" y="2209680"/>
            <a:ext cx="6553440" cy="3733920"/>
            <a:chOff x="1599840" y="2209680"/>
            <a:chExt cx="6553440" cy="3733920"/>
          </a:xfrm>
        </p:grpSpPr>
        <p:sp>
          <p:nvSpPr>
            <p:cNvPr id="530" name=""/>
            <p:cNvSpPr/>
            <p:nvPr/>
          </p:nvSpPr>
          <p:spPr>
            <a:xfrm flipV="1">
              <a:off x="6934320" y="4343400"/>
              <a:ext cx="1218960" cy="137160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1752480" y="5562720"/>
              <a:ext cx="4191120" cy="38088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flipV="1">
              <a:off x="2819520" y="3733920"/>
              <a:ext cx="3504960" cy="220968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2590560" y="2590920"/>
              <a:ext cx="4190760" cy="320040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flipV="1">
              <a:off x="1599840" y="2209680"/>
              <a:ext cx="4876920" cy="365760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838080" y="16002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3083040" cy="25909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3501720" y="53352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71800" y="4038480"/>
            <a:ext cx="5638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number times itself equals the first numb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14400" y="15238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you take the square root of a number, you are ask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3657600" y="2514600"/>
                <a:ext cx="2438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3501720" y="53352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339600" y="25909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62120" y="1371600"/>
            <a:ext cx="75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number times itself equals 121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189560" y="246852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31440" y="4081320"/>
            <a:ext cx="3295800" cy="192240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Comic Sans MS"/>
              </a:rPr>
              <a:t>Estimate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Comic Sans MS"/>
              </a:rPr>
              <a:t>10 x 10 =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Comic Sans MS"/>
              </a:rPr>
              <a:t>20 x 20 =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0830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352680" y="2660760"/>
                <a:ext cx="289584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1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3349080" y="70020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345720" y="2833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965640" y="262080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Comic Sans MS"/>
              </a:rPr>
              <a:t>5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70120" y="4191120"/>
            <a:ext cx="3585240" cy="192240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Comic Sans MS"/>
              </a:rPr>
              <a:t>Estimat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Comic Sans MS"/>
              </a:rPr>
              <a:t>50 x 50 =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Comic Sans MS"/>
              </a:rPr>
              <a:t>60 x 60 = 3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9480" y="1432080"/>
            <a:ext cx="754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number times itself equals 3136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0830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711960" y="6094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2664000"/>
            <a:ext cx="57909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square root of a perfect 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rrectly evaluate math expressions containing a variety of 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7200" y="2590920"/>
            <a:ext cx="2438280" cy="3429000"/>
            <a:chOff x="457200" y="2590920"/>
            <a:chExt cx="2438280" cy="3429000"/>
          </a:xfrm>
        </p:grpSpPr>
        <p:sp>
          <p:nvSpPr>
            <p:cNvPr id="66" name=""/>
            <p:cNvSpPr/>
            <p:nvPr/>
          </p:nvSpPr>
          <p:spPr>
            <a:xfrm>
              <a:off x="457200" y="2590920"/>
              <a:ext cx="243828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6200" y="2604960"/>
              <a:ext cx="2420280" cy="3400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6600" y="2633760"/>
              <a:ext cx="127800" cy="2221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83760" y="2648160"/>
              <a:ext cx="72720" cy="243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73960" y="2676960"/>
              <a:ext cx="54720" cy="1144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65840" y="2698200"/>
              <a:ext cx="72720" cy="2221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47920" y="2727000"/>
              <a:ext cx="63720" cy="214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16680" y="2741400"/>
              <a:ext cx="82080" cy="2221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89400" y="2748600"/>
              <a:ext cx="77400" cy="2005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80840" y="2791800"/>
              <a:ext cx="59040" cy="1936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73520" y="2813040"/>
              <a:ext cx="940680" cy="1362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14120" y="2820240"/>
              <a:ext cx="123120" cy="97560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37160" y="2820240"/>
              <a:ext cx="132120" cy="9968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46160" y="2820240"/>
              <a:ext cx="159840" cy="1255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58600" y="2834640"/>
              <a:ext cx="63720" cy="16488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36000" y="2856240"/>
              <a:ext cx="45360" cy="1576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91080" y="2870640"/>
              <a:ext cx="45360" cy="1504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54800" y="2892240"/>
              <a:ext cx="31680" cy="1288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00520" y="2906280"/>
              <a:ext cx="41040" cy="136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47480" y="3071520"/>
              <a:ext cx="246240" cy="459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03440" y="3135960"/>
              <a:ext cx="205200" cy="4734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61160" y="3171960"/>
              <a:ext cx="191520" cy="3297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34240" y="3186360"/>
              <a:ext cx="95760" cy="1432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21440" y="3222000"/>
              <a:ext cx="168840" cy="35856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79960" y="3236400"/>
              <a:ext cx="22680" cy="356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53480" y="3265200"/>
              <a:ext cx="73080" cy="1144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85520" y="3300840"/>
              <a:ext cx="22680" cy="428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15000" y="3616560"/>
              <a:ext cx="63720" cy="428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01320" y="3666960"/>
              <a:ext cx="570600" cy="200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11200" y="3781800"/>
              <a:ext cx="378720" cy="3441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18800" y="3824640"/>
              <a:ext cx="1333440" cy="5378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1200" y="3917880"/>
              <a:ext cx="187200" cy="2365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73080" y="3968280"/>
              <a:ext cx="27360" cy="121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09440" y="3982680"/>
              <a:ext cx="31680" cy="121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3480" y="3982680"/>
              <a:ext cx="1369800" cy="5094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3240" y="4090320"/>
              <a:ext cx="356040" cy="6526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240" y="4154760"/>
              <a:ext cx="114120" cy="200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05640" y="4161960"/>
              <a:ext cx="82080" cy="200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74040" y="4176360"/>
              <a:ext cx="132120" cy="16488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91520" y="4197600"/>
              <a:ext cx="109440" cy="214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28240" y="4233600"/>
              <a:ext cx="913320" cy="294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3800" y="4276800"/>
              <a:ext cx="82080" cy="3873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840" y="4298400"/>
              <a:ext cx="41040" cy="3225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41120" y="4305600"/>
              <a:ext cx="36360" cy="644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880" y="4319640"/>
              <a:ext cx="250920" cy="4518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00440" y="4326840"/>
              <a:ext cx="922320" cy="9900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8560" y="4370040"/>
              <a:ext cx="22680" cy="1288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6240" y="4620960"/>
              <a:ext cx="159480" cy="121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2400" y="4620960"/>
              <a:ext cx="41040" cy="500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54720" y="4628160"/>
              <a:ext cx="50040" cy="6382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27360" y="4649760"/>
              <a:ext cx="50040" cy="609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91000" y="4671360"/>
              <a:ext cx="50040" cy="5450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80840" y="4857840"/>
              <a:ext cx="291960" cy="10904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62920" y="4886640"/>
              <a:ext cx="45360" cy="932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76960" y="4929480"/>
              <a:ext cx="31680" cy="572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08640" y="4979880"/>
              <a:ext cx="13680" cy="212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41480" y="5180760"/>
              <a:ext cx="342360" cy="7963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3886200" y="14479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49080" y="70020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38080" y="23623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estimate the square root of a number that is  NOT a perfect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33520" y="3657600"/>
            <a:ext cx="8001000" cy="1937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d square root of the next highest perfect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d square root of the next lowest perfect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imate (make a reasonable guess) at the number for the actual squar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914400" y="1981080"/>
            <a:ext cx="5029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ick Quiz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733920" y="1878120"/>
            <a:ext cx="4763880" cy="4446360"/>
            <a:chOff x="3733920" y="1878120"/>
            <a:chExt cx="4763880" cy="4446360"/>
          </a:xfrm>
        </p:grpSpPr>
        <p:pic>
          <p:nvPicPr>
            <p:cNvPr id="561" name="" descr=""/>
            <p:cNvPicPr/>
            <p:nvPr/>
          </p:nvPicPr>
          <p:blipFill>
            <a:blip r:embed="rId1"/>
            <a:stretch/>
          </p:blipFill>
          <p:spPr>
            <a:xfrm>
              <a:off x="3733920" y="1878120"/>
              <a:ext cx="4763880" cy="44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 rot="13685400">
              <a:off x="5372640" y="4379400"/>
              <a:ext cx="114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Comic Sans MS"/>
                </a:rPr>
                <a:t>A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2438280"/>
            <a:ext cx="441972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990720" y="15238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are perfect squa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380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Perfect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41911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t a perfect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657600" y="24382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57600" y="32004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6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600" y="38862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Comic Sans MS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57600" y="4648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Comic Sans MS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57600" y="53341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00800" y="5380200"/>
            <a:ext cx="1143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00800" y="2408400"/>
            <a:ext cx="1066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Comic Sans MS"/>
              </a:rPr>
              <a:t>1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00800" y="3170160"/>
            <a:ext cx="838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400800" y="3886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Comic Sans MS"/>
              </a:rPr>
              <a:t>6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00800" y="46483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143000" y="2362320"/>
            <a:ext cx="30481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14400" y="1523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timate the square roo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124080" y="2286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x 15 = 2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24080" y="2895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x 14 = 1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019920" y="236232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553080" y="2286000"/>
            <a:ext cx="1828440" cy="764280"/>
            <a:chOff x="6553080" y="2286000"/>
            <a:chExt cx="1828440" cy="764280"/>
          </a:xfrm>
        </p:grpSpPr>
        <p:sp>
          <p:nvSpPr>
            <p:cNvPr id="585" name=""/>
            <p:cNvSpPr/>
            <p:nvPr/>
          </p:nvSpPr>
          <p:spPr>
            <a:xfrm>
              <a:off x="6895800" y="2286000"/>
              <a:ext cx="1485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Comic Sans MS"/>
                </a:rPr>
                <a:t>14.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53080" y="2286000"/>
              <a:ext cx="799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Comic Sans MS"/>
                </a:rPr>
                <a:t>~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3276720" y="3886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 x 9 = 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4495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 x 8 =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080" y="388620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095880" y="4114800"/>
            <a:ext cx="1645920" cy="764280"/>
            <a:chOff x="6095880" y="4114800"/>
            <a:chExt cx="1645920" cy="764280"/>
          </a:xfrm>
        </p:grpSpPr>
        <p:sp>
          <p:nvSpPr>
            <p:cNvPr id="591" name=""/>
            <p:cNvSpPr/>
            <p:nvPr/>
          </p:nvSpPr>
          <p:spPr>
            <a:xfrm>
              <a:off x="6553440" y="4114800"/>
              <a:ext cx="118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Comic Sans MS"/>
                </a:rPr>
                <a:t>8.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95880" y="4114800"/>
              <a:ext cx="640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Comic Sans MS"/>
                </a:rPr>
                <a:t>~</a:t>
              </a:r>
              <a:r>
                <a:rPr b="0" lang="en-US" sz="44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5105520" cy="346896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 txBox="1"/>
          <p:nvPr/>
        </p:nvSpPr>
        <p:spPr>
          <a:xfrm>
            <a:off x="1295280" y="1981080"/>
            <a:ext cx="6858000" cy="182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 Black"/>
              </a:rPr>
              <a:t>Order of Operation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595" name=""/>
          <p:cNvSpPr/>
          <p:nvPr/>
        </p:nvSpPr>
        <p:spPr>
          <a:xfrm>
            <a:off x="5502600" y="3962520"/>
            <a:ext cx="950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20826600">
            <a:off x="6607440" y="3809520"/>
            <a:ext cx="5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Comic Sans MS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25360" y="4343400"/>
            <a:ext cx="6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17760" y="435780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Comic Sans MS"/>
              </a:rPr>
              <a:t>÷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782440" y="68580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685800" y="4311720"/>
            <a:ext cx="7934400" cy="1785600"/>
            <a:chOff x="685800" y="4311720"/>
            <a:chExt cx="7934400" cy="1785600"/>
          </a:xfrm>
        </p:grpSpPr>
        <p:sp>
          <p:nvSpPr>
            <p:cNvPr id="601" name=""/>
            <p:cNvSpPr/>
            <p:nvPr/>
          </p:nvSpPr>
          <p:spPr>
            <a:xfrm>
              <a:off x="685800" y="4311720"/>
              <a:ext cx="396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Different Ord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72000" y="5454720"/>
              <a:ext cx="40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Different Resul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91120" y="4724280"/>
              <a:ext cx="1066680" cy="838440"/>
            </a:xfrm>
            <a:custGeom>
              <a:avLst/>
              <a:gdLst>
                <a:gd name="textAreaLeft" fmla="*/ 166680 w 1066680"/>
                <a:gd name="textAreaRight" fmla="*/ 933480 w 1066680"/>
                <a:gd name="textAreaTop" fmla="*/ 209520 h 838440"/>
                <a:gd name="textAreaBottom" fmla="*/ 6289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6095880" y="2438280"/>
            <a:ext cx="2521080" cy="2071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609480" y="1600200"/>
            <a:ext cx="60962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we need a standard </a:t>
            </a:r>
            <a:r>
              <a:rPr b="0" lang="en-US" sz="5400" spc="-1" strike="noStrike">
                <a:solidFill>
                  <a:srgbClr val="339966"/>
                </a:solidFill>
                <a:latin typeface="Comic Sans MS"/>
              </a:rPr>
              <a:t>orde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66"/>
                </a:solidFill>
                <a:latin typeface="Comic Sans MS"/>
              </a:rPr>
              <a:t>of oper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782440" y="68580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016280" y="1434960"/>
            <a:ext cx="575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What do you do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Tahoma"/>
              </a:rPr>
              <a:t>fir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37120" y="2217600"/>
            <a:ext cx="37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8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ahoma"/>
              </a:rPr>
              <a:t>÷ </a:t>
            </a:r>
            <a:r>
              <a:rPr b="0" lang="en-US" sz="6000" spc="-1" strike="noStrike">
                <a:solidFill>
                  <a:srgbClr val="008000"/>
                </a:solidFill>
                <a:latin typeface="Comic Sans MS"/>
                <a:ea typeface="Tahoma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ahoma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rot="16200000">
            <a:off x="3048120" y="2362320"/>
            <a:ext cx="380880" cy="1752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4240" y="3382920"/>
            <a:ext cx="76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dd 4 to 8 THEN divide the answer by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36320" y="3809880"/>
            <a:ext cx="75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403720" y="4473720"/>
            <a:ext cx="37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8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ahoma"/>
              </a:rPr>
              <a:t>÷ </a:t>
            </a:r>
            <a:r>
              <a:rPr b="0" lang="en-US" sz="6000" spc="-1" strike="noStrike">
                <a:solidFill>
                  <a:srgbClr val="008000"/>
                </a:solidFill>
                <a:latin typeface="Comic Sans MS"/>
                <a:ea typeface="Tahoma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ahoma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rot="16200000">
            <a:off x="4457520" y="4685760"/>
            <a:ext cx="304920" cy="1752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80840" y="5638680"/>
            <a:ext cx="76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ivide 8 by 4 THEN add 4 to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44280" y="205740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66"/>
                </a:solidFill>
                <a:latin typeface="Comic Sans MS"/>
                <a:ea typeface="Tahoma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420600" y="434340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66"/>
                </a:solidFill>
                <a:latin typeface="Comic Sans MS"/>
                <a:ea typeface="Tahoma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708120" y="2971800"/>
            <a:ext cx="76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arenthe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owers/Ro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ultiplication/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dition/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82440" y="68580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993240" y="1752480"/>
            <a:ext cx="7006680" cy="1099440"/>
            <a:chOff x="993240" y="1752480"/>
            <a:chExt cx="7006680" cy="1099440"/>
          </a:xfrm>
        </p:grpSpPr>
        <p:sp>
          <p:nvSpPr>
            <p:cNvPr id="620" name=""/>
            <p:cNvSpPr/>
            <p:nvPr/>
          </p:nvSpPr>
          <p:spPr>
            <a:xfrm>
              <a:off x="993240" y="1752480"/>
              <a:ext cx="7006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2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+ 8)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 4 + 2 </a:t>
              </a:r>
              <a:r>
                <a:rPr b="0" lang="en-US" sz="6600" spc="-1" strike="noStrike" baseline="24000">
                  <a:solidFill>
                    <a:srgbClr val="000000"/>
                  </a:solidFill>
                  <a:latin typeface="Comic Sans MS"/>
                  <a:ea typeface="Tahoma"/>
                </a:rPr>
                <a:t>.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2 +         = 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1" name=""/>
                <p:cNvSpPr txBox="1"/>
                <p:nvPr/>
              </p:nvSpPr>
              <p:spPr>
                <a:xfrm>
                  <a:off x="6019920" y="1790640"/>
                  <a:ext cx="12952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2" name=""/>
          <p:cNvGrpSpPr/>
          <p:nvPr/>
        </p:nvGrpSpPr>
        <p:grpSpPr>
          <a:xfrm>
            <a:off x="993240" y="1752480"/>
            <a:ext cx="7006680" cy="1099440"/>
            <a:chOff x="993240" y="1752480"/>
            <a:chExt cx="7006680" cy="1099440"/>
          </a:xfrm>
        </p:grpSpPr>
        <p:sp>
          <p:nvSpPr>
            <p:cNvPr id="623" name=""/>
            <p:cNvSpPr/>
            <p:nvPr/>
          </p:nvSpPr>
          <p:spPr>
            <a:xfrm>
              <a:off x="993240" y="1752480"/>
              <a:ext cx="7006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(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+ 8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)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 4 + 2 </a:t>
              </a:r>
              <a:r>
                <a:rPr b="0" lang="en-US" sz="6600" spc="-1" strike="noStrike" baseline="24000">
                  <a:solidFill>
                    <a:srgbClr val="000000"/>
                  </a:solidFill>
                  <a:latin typeface="Comic Sans MS"/>
                  <a:ea typeface="Tahoma"/>
                </a:rPr>
                <a:t>.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2 +         = 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6019920" y="1790640"/>
                  <a:ext cx="12952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5" name=""/>
          <p:cNvGrpSpPr/>
          <p:nvPr/>
        </p:nvGrpSpPr>
        <p:grpSpPr>
          <a:xfrm>
            <a:off x="993240" y="1752480"/>
            <a:ext cx="7006680" cy="1099440"/>
            <a:chOff x="993240" y="1752480"/>
            <a:chExt cx="7006680" cy="1099440"/>
          </a:xfrm>
        </p:grpSpPr>
        <p:grpSp>
          <p:nvGrpSpPr>
            <p:cNvPr id="626" name=""/>
            <p:cNvGrpSpPr/>
            <p:nvPr/>
          </p:nvGrpSpPr>
          <p:grpSpPr>
            <a:xfrm>
              <a:off x="993240" y="1752480"/>
              <a:ext cx="7006680" cy="1099440"/>
              <a:chOff x="993240" y="1752480"/>
              <a:chExt cx="7006680" cy="1099440"/>
            </a:xfrm>
          </p:grpSpPr>
          <p:sp>
            <p:nvSpPr>
              <p:cNvPr id="627" name=""/>
              <p:cNvSpPr/>
              <p:nvPr/>
            </p:nvSpPr>
            <p:spPr>
              <a:xfrm>
                <a:off x="993240" y="1752480"/>
                <a:ext cx="70066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(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 baseline="30000">
                    <a:solidFill>
                      <a:srgbClr val="008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+ 8</a:t>
                </a: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)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÷ 4 + 2 </a:t>
                </a:r>
                <a:r>
                  <a:rPr b="0" lang="en-US" sz="6600" spc="-1" strike="noStrike" baseline="24000">
                    <a:solidFill>
                      <a:srgbClr val="000000"/>
                    </a:solidFill>
                    <a:latin typeface="Comic Sans MS"/>
                    <a:ea typeface="Tahoma"/>
                  </a:rPr>
                  <a:t>.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2 +         = 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8" name=""/>
                  <p:cNvSpPr txBox="1"/>
                  <p:nvPr/>
                </p:nvSpPr>
                <p:spPr>
                  <a:xfrm>
                    <a:off x="6019920" y="1790640"/>
                    <a:ext cx="129528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29" name=""/>
            <p:cNvSpPr/>
            <p:nvPr/>
          </p:nvSpPr>
          <p:spPr>
            <a:xfrm>
              <a:off x="626796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991800" y="1752480"/>
            <a:ext cx="7006680" cy="1099440"/>
            <a:chOff x="991800" y="1752480"/>
            <a:chExt cx="7006680" cy="1099440"/>
          </a:xfrm>
        </p:grpSpPr>
        <p:grpSp>
          <p:nvGrpSpPr>
            <p:cNvPr id="631" name=""/>
            <p:cNvGrpSpPr/>
            <p:nvPr/>
          </p:nvGrpSpPr>
          <p:grpSpPr>
            <a:xfrm>
              <a:off x="991800" y="1752480"/>
              <a:ext cx="7006680" cy="1099440"/>
              <a:chOff x="991800" y="1752480"/>
              <a:chExt cx="7006680" cy="1099440"/>
            </a:xfrm>
          </p:grpSpPr>
          <p:sp>
            <p:nvSpPr>
              <p:cNvPr id="632" name=""/>
              <p:cNvSpPr/>
              <p:nvPr/>
            </p:nvSpPr>
            <p:spPr>
              <a:xfrm>
                <a:off x="991800" y="1752480"/>
                <a:ext cx="70066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(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 baseline="30000">
                    <a:solidFill>
                      <a:srgbClr val="008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+ 8</a:t>
                </a: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)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400" spc="-1" strike="noStrike">
                    <a:solidFill>
                      <a:srgbClr val="cc66ff"/>
                    </a:solidFill>
                    <a:latin typeface="Comic Sans MS"/>
                    <a:ea typeface="Tahoma"/>
                  </a:rPr>
                  <a:t>÷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4 + 2 </a:t>
                </a:r>
                <a:r>
                  <a:rPr b="0" lang="en-US" sz="6600" spc="-1" strike="noStrike" baseline="24000">
                    <a:solidFill>
                      <a:srgbClr val="cc66ff"/>
                    </a:solidFill>
                    <a:latin typeface="Comic Sans MS"/>
                    <a:ea typeface="Tahoma"/>
                  </a:rPr>
                  <a:t>.</a:t>
                </a:r>
                <a:r>
                  <a:rPr b="0" lang="en-US" sz="6600" spc="-1" strike="noStrike" baseline="24000">
                    <a:solidFill>
                      <a:srgbClr val="000000"/>
                    </a:solidFill>
                    <a:latin typeface="Comic Sans MS"/>
                    <a:ea typeface="Tahoma"/>
                  </a:rPr>
                  <a:t>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2 +         = 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3" name=""/>
                  <p:cNvSpPr txBox="1"/>
                  <p:nvPr/>
                </p:nvSpPr>
                <p:spPr>
                  <a:xfrm>
                    <a:off x="6018480" y="1790640"/>
                    <a:ext cx="129528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34" name=""/>
            <p:cNvSpPr/>
            <p:nvPr/>
          </p:nvSpPr>
          <p:spPr>
            <a:xfrm>
              <a:off x="626652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993240" y="1752480"/>
            <a:ext cx="7006320" cy="1099440"/>
            <a:chOff x="993240" y="1752480"/>
            <a:chExt cx="7006320" cy="1099440"/>
          </a:xfrm>
        </p:grpSpPr>
        <p:grpSp>
          <p:nvGrpSpPr>
            <p:cNvPr id="636" name=""/>
            <p:cNvGrpSpPr/>
            <p:nvPr/>
          </p:nvGrpSpPr>
          <p:grpSpPr>
            <a:xfrm>
              <a:off x="993240" y="1752480"/>
              <a:ext cx="7006320" cy="1099440"/>
              <a:chOff x="993240" y="1752480"/>
              <a:chExt cx="7006320" cy="1099440"/>
            </a:xfrm>
          </p:grpSpPr>
          <p:sp>
            <p:nvSpPr>
              <p:cNvPr id="637" name=""/>
              <p:cNvSpPr/>
              <p:nvPr/>
            </p:nvSpPr>
            <p:spPr>
              <a:xfrm>
                <a:off x="993240" y="1752480"/>
                <a:ext cx="70063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(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 baseline="30000">
                    <a:solidFill>
                      <a:srgbClr val="339933"/>
                    </a:solidFill>
                    <a:latin typeface="Comic Sans MS"/>
                  </a:rPr>
                  <a:t>2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400" spc="-1" strike="noStrike">
                    <a:solidFill>
                      <a:srgbClr val="006666"/>
                    </a:solidFill>
                    <a:latin typeface="Comic Sans MS"/>
                  </a:rPr>
                  <a:t>+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8</a:t>
                </a: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)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400" spc="-1" strike="noStrike">
                    <a:solidFill>
                      <a:srgbClr val="cc66ff"/>
                    </a:solidFill>
                    <a:latin typeface="Comic Sans MS"/>
                    <a:ea typeface="Tahoma"/>
                  </a:rPr>
                  <a:t>÷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4 </a:t>
                </a:r>
                <a:r>
                  <a:rPr b="0" lang="en-US" sz="4400" spc="-1" strike="noStrike">
                    <a:solidFill>
                      <a:srgbClr val="006666"/>
                    </a:solidFill>
                    <a:latin typeface="Comic Sans MS"/>
                    <a:ea typeface="Tahoma"/>
                  </a:rPr>
                  <a:t>+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2 </a:t>
                </a:r>
                <a:r>
                  <a:rPr b="0" lang="en-US" sz="6600" spc="-1" strike="noStrike" baseline="24000">
                    <a:solidFill>
                      <a:srgbClr val="cc66ff"/>
                    </a:solidFill>
                    <a:latin typeface="Comic Sans MS"/>
                    <a:ea typeface="Tahoma"/>
                  </a:rPr>
                  <a:t>.</a:t>
                </a:r>
                <a:r>
                  <a:rPr b="0" lang="en-US" sz="6600" spc="-1" strike="noStrike" baseline="24000">
                    <a:solidFill>
                      <a:srgbClr val="000000"/>
                    </a:solidFill>
                    <a:latin typeface="Comic Sans MS"/>
                    <a:ea typeface="Tahoma"/>
                  </a:rPr>
                  <a:t>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2 </a:t>
                </a:r>
                <a:r>
                  <a:rPr b="0" lang="en-US" sz="4400" spc="-1" strike="noStrike">
                    <a:solidFill>
                      <a:srgbClr val="006666"/>
                    </a:solidFill>
                    <a:latin typeface="Comic Sans MS"/>
                    <a:ea typeface="Tahoma"/>
                  </a:rPr>
                  <a:t>+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        = 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8" name=""/>
                  <p:cNvSpPr txBox="1"/>
                  <p:nvPr/>
                </p:nvSpPr>
                <p:spPr>
                  <a:xfrm>
                    <a:off x="6019920" y="1790640"/>
                    <a:ext cx="129528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39" name=""/>
            <p:cNvSpPr/>
            <p:nvPr/>
          </p:nvSpPr>
          <p:spPr>
            <a:xfrm>
              <a:off x="626796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9933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684360" y="2971800"/>
            <a:ext cx="76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arenthe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owers/Ro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ultiplication/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dition/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08120" y="2971800"/>
            <a:ext cx="76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arenthe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owers/Ro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ultiplication/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dition/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08120" y="3000240"/>
            <a:ext cx="76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arenthe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owers/Ro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ff"/>
                </a:solidFill>
                <a:latin typeface="Comic Sans MS"/>
              </a:rPr>
              <a:t>Multiplication/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dition/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4360" y="2971800"/>
            <a:ext cx="76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arenthe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99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omic Sans MS"/>
              </a:rPr>
              <a:t>Powers/Ro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ff"/>
                </a:solidFill>
                <a:latin typeface="Comic Sans MS"/>
              </a:rPr>
              <a:t>Multiplication/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Comic Sans MS"/>
              </a:rPr>
              <a:t>Addition/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4" name=""/>
          <p:cNvGrpSpPr/>
          <p:nvPr/>
        </p:nvGrpSpPr>
        <p:grpSpPr>
          <a:xfrm>
            <a:off x="916920" y="1752480"/>
            <a:ext cx="7006320" cy="1099440"/>
            <a:chOff x="916920" y="1752480"/>
            <a:chExt cx="7006320" cy="1099440"/>
          </a:xfrm>
        </p:grpSpPr>
        <p:grpSp>
          <p:nvGrpSpPr>
            <p:cNvPr id="645" name=""/>
            <p:cNvGrpSpPr/>
            <p:nvPr/>
          </p:nvGrpSpPr>
          <p:grpSpPr>
            <a:xfrm>
              <a:off x="916920" y="1752480"/>
              <a:ext cx="7006320" cy="1099440"/>
              <a:chOff x="916920" y="1752480"/>
              <a:chExt cx="7006320" cy="1099440"/>
            </a:xfrm>
          </p:grpSpPr>
          <p:sp>
            <p:nvSpPr>
              <p:cNvPr id="646" name=""/>
              <p:cNvSpPr/>
              <p:nvPr/>
            </p:nvSpPr>
            <p:spPr>
              <a:xfrm>
                <a:off x="916920" y="1752480"/>
                <a:ext cx="70063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(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 baseline="30000">
                    <a:solidFill>
                      <a:srgbClr val="008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400" spc="-1" strike="noStrike">
                    <a:solidFill>
                      <a:srgbClr val="006666"/>
                    </a:solidFill>
                    <a:latin typeface="Comic Sans MS"/>
                  </a:rPr>
                  <a:t>+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8</a:t>
                </a: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)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400" spc="-1" strike="noStrike">
                    <a:solidFill>
                      <a:srgbClr val="cc0000"/>
                    </a:solidFill>
                    <a:latin typeface="Comic Sans MS"/>
                    <a:ea typeface="Tahoma"/>
                  </a:rPr>
                  <a:t>÷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4 </a:t>
                </a:r>
                <a:r>
                  <a:rPr b="0" lang="en-US" sz="4400" spc="-1" strike="noStrike">
                    <a:solidFill>
                      <a:srgbClr val="006666"/>
                    </a:solidFill>
                    <a:latin typeface="Comic Sans MS"/>
                    <a:ea typeface="Tahoma"/>
                  </a:rPr>
                  <a:t>+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2 </a:t>
                </a:r>
                <a:r>
                  <a:rPr b="0" lang="en-US" sz="6600" spc="-1" strike="noStrike" baseline="24000">
                    <a:solidFill>
                      <a:srgbClr val="cc0000"/>
                    </a:solidFill>
                    <a:latin typeface="Comic Sans MS"/>
                    <a:ea typeface="Tahoma"/>
                  </a:rPr>
                  <a:t>.</a:t>
                </a:r>
                <a:r>
                  <a:rPr b="0" lang="en-US" sz="6600" spc="-1" strike="noStrike" baseline="24000">
                    <a:solidFill>
                      <a:srgbClr val="000000"/>
                    </a:solidFill>
                    <a:latin typeface="Comic Sans MS"/>
                    <a:ea typeface="Tahoma"/>
                  </a:rPr>
                  <a:t>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2 </a:t>
                </a:r>
                <a:r>
                  <a:rPr b="0" lang="en-US" sz="4400" spc="-1" strike="noStrike">
                    <a:solidFill>
                      <a:srgbClr val="006666"/>
                    </a:solidFill>
                    <a:latin typeface="Comic Sans MS"/>
                    <a:ea typeface="Tahoma"/>
                  </a:rPr>
                  <a:t>+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        = 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47" name=""/>
                  <p:cNvSpPr txBox="1"/>
                  <p:nvPr/>
                </p:nvSpPr>
                <p:spPr>
                  <a:xfrm>
                    <a:off x="5943600" y="1790640"/>
                    <a:ext cx="129528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48" name=""/>
            <p:cNvSpPr/>
            <p:nvPr/>
          </p:nvSpPr>
          <p:spPr>
            <a:xfrm>
              <a:off x="619164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73040" y="3324240"/>
            <a:ext cx="705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Paren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99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Powers/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Comic Sans MS"/>
              </a:rPr>
              <a:t>Multiplication/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Addition/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 rot="16200000">
            <a:off x="1485360" y="1637640"/>
            <a:ext cx="381240" cy="1981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580640" y="3352680"/>
            <a:ext cx="43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(mini-proble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782440" y="68580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704880" y="155880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8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)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20400" y="3247920"/>
            <a:ext cx="705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Paren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99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Powers/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Comic Sans MS"/>
              </a:rPr>
              <a:t>Multiplication/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Addition/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28000" y="3276720"/>
            <a:ext cx="43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(mini-proble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82440" y="68580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53120" y="1596960"/>
            <a:ext cx="297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8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)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437600" y="16606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11960" y="6094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24382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ly formulas to find the area, perimeter and volume  of rectangles, squares, parallelograms and bo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57200" y="2590920"/>
            <a:ext cx="2438280" cy="3429000"/>
            <a:chOff x="457200" y="2590920"/>
            <a:chExt cx="2438280" cy="3429000"/>
          </a:xfrm>
        </p:grpSpPr>
        <p:sp>
          <p:nvSpPr>
            <p:cNvPr id="127" name=""/>
            <p:cNvSpPr/>
            <p:nvPr/>
          </p:nvSpPr>
          <p:spPr>
            <a:xfrm>
              <a:off x="457200" y="2590920"/>
              <a:ext cx="243828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6200" y="2604960"/>
              <a:ext cx="2420280" cy="3400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46600" y="2633760"/>
              <a:ext cx="127800" cy="2221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83760" y="2648160"/>
              <a:ext cx="72720" cy="243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73960" y="2676960"/>
              <a:ext cx="54720" cy="1144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65840" y="2698200"/>
              <a:ext cx="72720" cy="2221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7920" y="2727000"/>
              <a:ext cx="63720" cy="214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16680" y="2741400"/>
              <a:ext cx="82080" cy="2221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89400" y="2748600"/>
              <a:ext cx="77400" cy="2005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80840" y="2791800"/>
              <a:ext cx="59040" cy="1936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73520" y="2813040"/>
              <a:ext cx="940680" cy="1362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14120" y="2820240"/>
              <a:ext cx="123120" cy="97560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37160" y="2820240"/>
              <a:ext cx="132120" cy="9968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46160" y="2820240"/>
              <a:ext cx="159840" cy="1255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58600" y="2834640"/>
              <a:ext cx="63720" cy="16488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36000" y="2856240"/>
              <a:ext cx="45360" cy="1576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91080" y="2870640"/>
              <a:ext cx="45360" cy="1504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54800" y="2892240"/>
              <a:ext cx="31680" cy="1288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00520" y="2906280"/>
              <a:ext cx="41040" cy="136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47480" y="3071520"/>
              <a:ext cx="246240" cy="459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3440" y="3135960"/>
              <a:ext cx="205200" cy="4734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61160" y="3171960"/>
              <a:ext cx="191520" cy="3297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4240" y="3186360"/>
              <a:ext cx="95760" cy="1432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21440" y="3222000"/>
              <a:ext cx="168840" cy="35856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79960" y="3236400"/>
              <a:ext cx="22680" cy="356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53480" y="3265200"/>
              <a:ext cx="73080" cy="1144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85520" y="3300840"/>
              <a:ext cx="22680" cy="428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5000" y="3616560"/>
              <a:ext cx="63720" cy="428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01320" y="3666960"/>
              <a:ext cx="570600" cy="200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11200" y="3781800"/>
              <a:ext cx="378720" cy="3441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18800" y="3824640"/>
              <a:ext cx="1333440" cy="5378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1200" y="3917880"/>
              <a:ext cx="187200" cy="2365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73080" y="3968280"/>
              <a:ext cx="27360" cy="121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09440" y="3982680"/>
              <a:ext cx="31680" cy="121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23480" y="3982680"/>
              <a:ext cx="1369800" cy="5094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3240" y="4090320"/>
              <a:ext cx="356040" cy="6526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4240" y="4154760"/>
              <a:ext cx="114120" cy="200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05640" y="4161960"/>
              <a:ext cx="82080" cy="200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74040" y="4176360"/>
              <a:ext cx="132120" cy="16488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91520" y="4197600"/>
              <a:ext cx="109440" cy="214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28240" y="4233600"/>
              <a:ext cx="913320" cy="294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3800" y="4276800"/>
              <a:ext cx="82080" cy="3873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840" y="4298400"/>
              <a:ext cx="41040" cy="3225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41120" y="4305600"/>
              <a:ext cx="36360" cy="644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8880" y="4319640"/>
              <a:ext cx="250920" cy="4518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00440" y="4326840"/>
              <a:ext cx="922320" cy="9900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560" y="4370040"/>
              <a:ext cx="22680" cy="1288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6240" y="4620960"/>
              <a:ext cx="159480" cy="121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400" y="4620960"/>
              <a:ext cx="41040" cy="500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54720" y="4628160"/>
              <a:ext cx="50040" cy="6382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27360" y="4649760"/>
              <a:ext cx="50040" cy="609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91000" y="4671360"/>
              <a:ext cx="50040" cy="5450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80840" y="4857840"/>
              <a:ext cx="291960" cy="10904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62920" y="4886640"/>
              <a:ext cx="45360" cy="932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76960" y="4929480"/>
              <a:ext cx="31680" cy="572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8640" y="4979880"/>
              <a:ext cx="13680" cy="212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41480" y="5180760"/>
              <a:ext cx="342360" cy="7963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1144080" y="1600200"/>
            <a:ext cx="640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cc66ff"/>
                </a:solidFill>
                <a:latin typeface="Comic Sans MS"/>
                <a:ea typeface="Tahoma"/>
              </a:rPr>
              <a:t>÷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4 </a:t>
            </a:r>
            <a:r>
              <a:rPr b="0" lang="en-US" sz="4800" spc="-1" strike="noStrike">
                <a:solidFill>
                  <a:srgbClr val="006666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2 </a:t>
            </a:r>
            <a:r>
              <a:rPr b="0" lang="en-US" sz="7200" spc="-1" strike="noStrike" baseline="24000">
                <a:solidFill>
                  <a:srgbClr val="cc66ff"/>
                </a:solidFill>
                <a:latin typeface="Comic Sans MS"/>
                <a:ea typeface="Tahoma"/>
              </a:rPr>
              <a:t>.</a:t>
            </a:r>
            <a:r>
              <a:rPr b="0" lang="en-US" sz="7200" spc="-1" strike="noStrike" baseline="24000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2 </a:t>
            </a:r>
            <a:r>
              <a:rPr b="0" lang="en-US" sz="4800" spc="-1" strike="noStrike">
                <a:solidFill>
                  <a:srgbClr val="006666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       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410080" y="1752480"/>
            <a:ext cx="1388880" cy="764280"/>
            <a:chOff x="5410080" y="1752480"/>
            <a:chExt cx="1388880" cy="764280"/>
          </a:xfrm>
        </p:grpSpPr>
        <mc:AlternateContent>
          <mc:Choice xmlns:a14="http://schemas.microsoft.com/office/drawing/2010/main" Requires="a14">
            <p:sp>
              <p:nvSpPr>
                <p:cNvPr id="661" name=""/>
                <p:cNvSpPr txBox="1"/>
                <p:nvPr/>
              </p:nvSpPr>
              <p:spPr>
                <a:xfrm>
                  <a:off x="5410080" y="1752480"/>
                  <a:ext cx="12956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662" name=""/>
            <p:cNvSpPr/>
            <p:nvPr/>
          </p:nvSpPr>
          <p:spPr>
            <a:xfrm>
              <a:off x="565812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320400" y="3276720"/>
            <a:ext cx="705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ren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99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Powers/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Comic Sans MS"/>
              </a:rPr>
              <a:t>Multiplication/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Addition/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28000" y="3276720"/>
            <a:ext cx="43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mini-proble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782440" y="68580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410080" y="1600200"/>
            <a:ext cx="1335600" cy="825120"/>
            <a:chOff x="5410080" y="1600200"/>
            <a:chExt cx="1335600" cy="825120"/>
          </a:xfrm>
        </p:grpSpPr>
        <p:pic>
          <p:nvPicPr>
            <p:cNvPr id="667" name="" descr=""/>
            <p:cNvPicPr/>
            <p:nvPr/>
          </p:nvPicPr>
          <p:blipFill>
            <a:blip r:embed="rId1"/>
            <a:stretch/>
          </p:blipFill>
          <p:spPr>
            <a:xfrm>
              <a:off x="5410080" y="1766520"/>
              <a:ext cx="1295280" cy="59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5518080" y="1600200"/>
              <a:ext cx="122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9933"/>
                  </a:solidFill>
                  <a:latin typeface="Comic Sans MS"/>
                </a:rPr>
                <a:t>12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410080" y="1676520"/>
            <a:ext cx="1218960" cy="685080"/>
            <a:chOff x="5410080" y="1676520"/>
            <a:chExt cx="1218960" cy="685080"/>
          </a:xfrm>
        </p:grpSpPr>
        <p:sp>
          <p:nvSpPr>
            <p:cNvPr id="670" name=""/>
            <p:cNvSpPr/>
            <p:nvPr/>
          </p:nvSpPr>
          <p:spPr>
            <a:xfrm>
              <a:off x="5714640" y="16765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5511600" y="1676520"/>
              <a:ext cx="203040" cy="68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5410080" y="2190600"/>
              <a:ext cx="101520" cy="17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140840" y="1614600"/>
            <a:ext cx="640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cc66ff"/>
                </a:solidFill>
                <a:latin typeface="Comic Sans MS"/>
                <a:ea typeface="Tahoma"/>
              </a:rPr>
              <a:t>÷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4 </a:t>
            </a:r>
            <a:r>
              <a:rPr b="0" lang="en-US" sz="4800" spc="-1" strike="noStrike">
                <a:solidFill>
                  <a:srgbClr val="006666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2 </a:t>
            </a:r>
            <a:r>
              <a:rPr b="0" lang="en-US" sz="7200" spc="-1" strike="noStrike" baseline="24000">
                <a:solidFill>
                  <a:srgbClr val="cc66ff"/>
                </a:solidFill>
                <a:latin typeface="Comic Sans MS"/>
                <a:ea typeface="Tahoma"/>
              </a:rPr>
              <a:t>.</a:t>
            </a:r>
            <a:r>
              <a:rPr b="0" lang="en-US" sz="7200" spc="-1" strike="noStrike" baseline="24000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2 </a:t>
            </a:r>
            <a:r>
              <a:rPr b="0" lang="en-US" sz="4800" spc="-1" strike="noStrike">
                <a:solidFill>
                  <a:srgbClr val="006666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       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5410080" y="1752480"/>
            <a:ext cx="1388880" cy="764280"/>
            <a:chOff x="5410080" y="1752480"/>
            <a:chExt cx="1388880" cy="764280"/>
          </a:xfrm>
        </p:grpSpPr>
        <mc:AlternateContent>
          <mc:Choice xmlns:a14="http://schemas.microsoft.com/office/drawing/2010/main" Requires="a14">
            <p:sp>
              <p:nvSpPr>
                <p:cNvPr id="675" name=""/>
                <p:cNvSpPr txBox="1"/>
                <p:nvPr/>
              </p:nvSpPr>
              <p:spPr>
                <a:xfrm>
                  <a:off x="5410080" y="1752480"/>
                  <a:ext cx="12956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676" name=""/>
            <p:cNvSpPr/>
            <p:nvPr/>
          </p:nvSpPr>
          <p:spPr>
            <a:xfrm>
              <a:off x="565812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320400" y="3276720"/>
            <a:ext cx="705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ren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owers/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Comic Sans MS"/>
              </a:rPr>
              <a:t>Multiplication/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Addition/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428000" y="3276720"/>
            <a:ext cx="43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mini-proble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782440" y="68580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410080" y="1600200"/>
            <a:ext cx="1295280" cy="825120"/>
            <a:chOff x="5410080" y="1600200"/>
            <a:chExt cx="1295280" cy="825120"/>
          </a:xfrm>
        </p:grpSpPr>
        <p:pic>
          <p:nvPicPr>
            <p:cNvPr id="681" name="" descr=""/>
            <p:cNvPicPr/>
            <p:nvPr/>
          </p:nvPicPr>
          <p:blipFill>
            <a:blip r:embed="rId1"/>
            <a:stretch/>
          </p:blipFill>
          <p:spPr>
            <a:xfrm>
              <a:off x="5410080" y="1766520"/>
              <a:ext cx="1295280" cy="59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5506560" y="160020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8000"/>
                  </a:solidFill>
                  <a:latin typeface="Comic Sans MS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140840" y="1614600"/>
            <a:ext cx="640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  <a:ea typeface="Tahoma"/>
              </a:rPr>
              <a:t>÷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4 </a:t>
            </a:r>
            <a:r>
              <a:rPr b="0" lang="en-US" sz="4800" spc="-1" strike="noStrike">
                <a:solidFill>
                  <a:srgbClr val="006666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2 </a:t>
            </a:r>
            <a:r>
              <a:rPr b="0" lang="en-US" sz="7200" spc="-1" strike="noStrike" baseline="24000">
                <a:solidFill>
                  <a:srgbClr val="cc0000"/>
                </a:solidFill>
                <a:latin typeface="Comic Sans MS"/>
                <a:ea typeface="Tahoma"/>
              </a:rPr>
              <a:t>.</a:t>
            </a:r>
            <a:r>
              <a:rPr b="0" lang="en-US" sz="7200" spc="-1" strike="noStrike" baseline="24000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2 </a:t>
            </a:r>
            <a:r>
              <a:rPr b="0" lang="en-US" sz="4800" spc="-1" strike="noStrike">
                <a:solidFill>
                  <a:srgbClr val="006666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       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5410080" y="1752480"/>
            <a:ext cx="1388880" cy="764280"/>
            <a:chOff x="5410080" y="1752480"/>
            <a:chExt cx="1388880" cy="76428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5410080" y="1752480"/>
                  <a:ext cx="12956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686" name=""/>
            <p:cNvSpPr/>
            <p:nvPr/>
          </p:nvSpPr>
          <p:spPr>
            <a:xfrm>
              <a:off x="565812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320400" y="3276720"/>
            <a:ext cx="705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ren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owers/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ultiplication/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Addition/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28000" y="3276720"/>
            <a:ext cx="43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mini-proble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782440" y="68580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410080" y="1600200"/>
            <a:ext cx="1295280" cy="825120"/>
            <a:chOff x="5410080" y="1600200"/>
            <a:chExt cx="1295280" cy="825120"/>
          </a:xfrm>
        </p:grpSpPr>
        <p:pic>
          <p:nvPicPr>
            <p:cNvPr id="691" name="" descr=""/>
            <p:cNvPicPr/>
            <p:nvPr/>
          </p:nvPicPr>
          <p:blipFill>
            <a:blip r:embed="rId1"/>
            <a:stretch/>
          </p:blipFill>
          <p:spPr>
            <a:xfrm>
              <a:off x="5410080" y="1766520"/>
              <a:ext cx="1295280" cy="59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5506560" y="160020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8000"/>
                  </a:solidFill>
                  <a:latin typeface="Comic Sans MS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914400" y="1600200"/>
            <a:ext cx="1981080" cy="907920"/>
            <a:chOff x="914400" y="1600200"/>
            <a:chExt cx="1981080" cy="907920"/>
          </a:xfrm>
        </p:grpSpPr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914400" y="1600200"/>
              <a:ext cx="19810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613160" y="16765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66ff"/>
                  </a:solidFill>
                  <a:latin typeface="Comic Sans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429000" y="1600200"/>
            <a:ext cx="1295280" cy="907920"/>
            <a:chOff x="3429000" y="1600200"/>
            <a:chExt cx="1295280" cy="907920"/>
          </a:xfrm>
        </p:grpSpPr>
        <p:pic>
          <p:nvPicPr>
            <p:cNvPr id="697" name="" descr=""/>
            <p:cNvPicPr/>
            <p:nvPr/>
          </p:nvPicPr>
          <p:blipFill>
            <a:blip r:embed="rId3"/>
            <a:stretch/>
          </p:blipFill>
          <p:spPr>
            <a:xfrm>
              <a:off x="3429000" y="1600200"/>
              <a:ext cx="12952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3889800" y="16765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66ff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1140840" y="1614600"/>
            <a:ext cx="640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  <a:ea typeface="Tahoma"/>
              </a:rPr>
              <a:t>÷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4 </a:t>
            </a:r>
            <a:r>
              <a:rPr b="0" lang="en-US" sz="4800" spc="-1" strike="noStrike">
                <a:solidFill>
                  <a:srgbClr val="006666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2 </a:t>
            </a:r>
            <a:r>
              <a:rPr b="0" lang="en-US" sz="7200" spc="-1" strike="noStrike" baseline="24000">
                <a:solidFill>
                  <a:srgbClr val="cc0000"/>
                </a:solidFill>
                <a:latin typeface="Comic Sans MS"/>
                <a:ea typeface="Tahoma"/>
              </a:rPr>
              <a:t>.</a:t>
            </a:r>
            <a:r>
              <a:rPr b="0" lang="en-US" sz="7200" spc="-1" strike="noStrike" baseline="24000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2 </a:t>
            </a:r>
            <a:r>
              <a:rPr b="0" lang="en-US" sz="4800" spc="-1" strike="noStrike">
                <a:solidFill>
                  <a:srgbClr val="006666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       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5410080" y="1752480"/>
            <a:ext cx="1388880" cy="764280"/>
            <a:chOff x="5410080" y="1752480"/>
            <a:chExt cx="1388880" cy="764280"/>
          </a:xfrm>
        </p:grpSpPr>
        <mc:AlternateContent>
          <mc:Choice xmlns:a14="http://schemas.microsoft.com/office/drawing/2010/main" Requires="a14">
            <p:sp>
              <p:nvSpPr>
                <p:cNvPr id="701" name=""/>
                <p:cNvSpPr txBox="1"/>
                <p:nvPr/>
              </p:nvSpPr>
              <p:spPr>
                <a:xfrm>
                  <a:off x="5410080" y="1752480"/>
                  <a:ext cx="12956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702" name=""/>
            <p:cNvSpPr/>
            <p:nvPr/>
          </p:nvSpPr>
          <p:spPr>
            <a:xfrm>
              <a:off x="565812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320400" y="3276720"/>
            <a:ext cx="705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ren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owers/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ultiplication/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ddition/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28000" y="3276720"/>
            <a:ext cx="43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mini-proble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782440" y="68580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5410080" y="1600200"/>
            <a:ext cx="1295280" cy="825120"/>
            <a:chOff x="5410080" y="1600200"/>
            <a:chExt cx="1295280" cy="825120"/>
          </a:xfrm>
        </p:grpSpPr>
        <p:pic>
          <p:nvPicPr>
            <p:cNvPr id="707" name="" descr=""/>
            <p:cNvPicPr/>
            <p:nvPr/>
          </p:nvPicPr>
          <p:blipFill>
            <a:blip r:embed="rId1"/>
            <a:stretch/>
          </p:blipFill>
          <p:spPr>
            <a:xfrm>
              <a:off x="5410080" y="1766520"/>
              <a:ext cx="1295280" cy="59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5506560" y="160020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8000"/>
                  </a:solidFill>
                  <a:latin typeface="Comic Sans MS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914400" y="1600200"/>
            <a:ext cx="1981080" cy="907920"/>
            <a:chOff x="914400" y="1600200"/>
            <a:chExt cx="1981080" cy="907920"/>
          </a:xfrm>
        </p:grpSpPr>
        <p:pic>
          <p:nvPicPr>
            <p:cNvPr id="710" name="" descr=""/>
            <p:cNvPicPr/>
            <p:nvPr/>
          </p:nvPicPr>
          <p:blipFill>
            <a:blip r:embed="rId2"/>
            <a:stretch/>
          </p:blipFill>
          <p:spPr>
            <a:xfrm>
              <a:off x="914400" y="1600200"/>
              <a:ext cx="19810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1613160" y="16765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66ff"/>
                  </a:solidFill>
                  <a:latin typeface="Comic Sans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3429000" y="1600200"/>
            <a:ext cx="1295280" cy="907920"/>
            <a:chOff x="3429000" y="1600200"/>
            <a:chExt cx="1295280" cy="907920"/>
          </a:xfrm>
        </p:grpSpPr>
        <p:pic>
          <p:nvPicPr>
            <p:cNvPr id="713" name="" descr=""/>
            <p:cNvPicPr/>
            <p:nvPr/>
          </p:nvPicPr>
          <p:blipFill>
            <a:blip r:embed="rId3"/>
            <a:stretch/>
          </p:blipFill>
          <p:spPr>
            <a:xfrm>
              <a:off x="3429000" y="1600200"/>
              <a:ext cx="12952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3889800" y="16765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66ff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7238880" y="1530360"/>
            <a:ext cx="1091160" cy="907920"/>
            <a:chOff x="7238880" y="1530360"/>
            <a:chExt cx="1091160" cy="907920"/>
          </a:xfrm>
        </p:grpSpPr>
        <p:pic>
          <p:nvPicPr>
            <p:cNvPr id="716" name="" descr=""/>
            <p:cNvPicPr/>
            <p:nvPr/>
          </p:nvPicPr>
          <p:blipFill>
            <a:blip r:embed="rId4"/>
            <a:stretch/>
          </p:blipFill>
          <p:spPr>
            <a:xfrm>
              <a:off x="7238880" y="1530360"/>
              <a:ext cx="7221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7451280" y="160668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66"/>
                  </a:solidFill>
                  <a:latin typeface="Comic Sans MS"/>
                </a:rPr>
                <a:t>1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2706480" y="71280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679400" y="2516040"/>
            <a:ext cx="4097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4 + 3 • 6 ÷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668240" y="3316320"/>
            <a:ext cx="39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4 + 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3</a:t>
            </a: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•</a:t>
            </a: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6</a:t>
            </a: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÷</a:t>
            </a: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9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490040" y="4408560"/>
            <a:ext cx="34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4 + 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18</a:t>
            </a: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÷ 9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82800" y="5500800"/>
            <a:ext cx="36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808080"/>
                </a:solidFill>
                <a:latin typeface="Comic Sans MS"/>
              </a:rPr>
              <a:t> +       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00320" y="1386000"/>
            <a:ext cx="248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M</a:t>
            </a: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13760" y="55008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876920" y="2133720"/>
            <a:ext cx="990360" cy="1295280"/>
            <a:chOff x="4876920" y="2133720"/>
            <a:chExt cx="990360" cy="1295280"/>
          </a:xfrm>
        </p:grpSpPr>
        <p:sp>
          <p:nvSpPr>
            <p:cNvPr id="726" name=""/>
            <p:cNvSpPr/>
            <p:nvPr/>
          </p:nvSpPr>
          <p:spPr>
            <a:xfrm>
              <a:off x="4876920" y="2133720"/>
              <a:ext cx="990360" cy="99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5257800" y="312408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2666880" y="4038480"/>
            <a:ext cx="1371600" cy="505080"/>
            <a:chOff x="2666880" y="4038480"/>
            <a:chExt cx="1371600" cy="505080"/>
          </a:xfrm>
        </p:grpSpPr>
        <p:sp>
          <p:nvSpPr>
            <p:cNvPr id="729" name=""/>
            <p:cNvSpPr/>
            <p:nvPr/>
          </p:nvSpPr>
          <p:spPr>
            <a:xfrm rot="5400000">
              <a:off x="3238200" y="346680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0" name=""/>
            <p:cNvCxnSpPr>
              <a:stCxn id="729" idx="1"/>
            </p:cNvCxnSpPr>
            <p:nvPr/>
          </p:nvCxnSpPr>
          <p:spPr>
            <a:xfrm rot="5400000">
              <a:off x="2993400" y="4186080"/>
              <a:ext cx="259560" cy="456480"/>
            </a:xfrm>
            <a:prstGeom prst="curvedConnector2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</p:grpSp>
      <p:grpSp>
        <p:nvGrpSpPr>
          <p:cNvPr id="731" name=""/>
          <p:cNvGrpSpPr/>
          <p:nvPr/>
        </p:nvGrpSpPr>
        <p:grpSpPr>
          <a:xfrm>
            <a:off x="2666520" y="5181480"/>
            <a:ext cx="1676520" cy="457200"/>
            <a:chOff x="2666520" y="5181480"/>
            <a:chExt cx="1676520" cy="457200"/>
          </a:xfrm>
        </p:grpSpPr>
        <p:sp>
          <p:nvSpPr>
            <p:cNvPr id="732" name=""/>
            <p:cNvSpPr/>
            <p:nvPr/>
          </p:nvSpPr>
          <p:spPr>
            <a:xfrm rot="5400000">
              <a:off x="3390480" y="4457520"/>
              <a:ext cx="228600" cy="16765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05320" y="5410080"/>
              <a:ext cx="533160" cy="228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726120" y="1443240"/>
            <a:ext cx="1758960" cy="1252080"/>
            <a:chOff x="726120" y="1443240"/>
            <a:chExt cx="1758960" cy="1252080"/>
          </a:xfrm>
        </p:grpSpPr>
        <p:sp>
          <p:nvSpPr>
            <p:cNvPr id="735" name=""/>
            <p:cNvSpPr/>
            <p:nvPr/>
          </p:nvSpPr>
          <p:spPr>
            <a:xfrm rot="20897400">
              <a:off x="785520" y="1661760"/>
              <a:ext cx="1650960" cy="3812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20897400">
              <a:off x="805320" y="1595520"/>
              <a:ext cx="1600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706480" y="68580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393200" y="2486160"/>
            <a:ext cx="6014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 + 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[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(3 + 2)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• 3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(4 + 5)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]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647720" y="3181320"/>
            <a:ext cx="543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 + 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4000" spc="-1" strike="noStrike">
                <a:solidFill>
                  <a:srgbClr val="ff66ff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•3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(   </a:t>
            </a:r>
            <a:r>
              <a:rPr b="1" lang="en-US" sz="4000" spc="-1" strike="noStrike">
                <a:solidFill>
                  <a:srgbClr val="ff66ff"/>
                </a:solidFill>
                <a:latin typeface="Comic Sans MS"/>
              </a:rPr>
              <a:t>9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  )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]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722240" y="4095720"/>
            <a:ext cx="53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 + 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4000" spc="-1" strike="noStrike">
                <a:solidFill>
                  <a:srgbClr val="ff66ff"/>
                </a:solidFill>
                <a:latin typeface="Comic Sans MS"/>
              </a:rPr>
              <a:t>5    •     2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]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419840" y="5334120"/>
            <a:ext cx="4172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 +           </a:t>
            </a:r>
            <a:r>
              <a:rPr b="1" lang="en-US" sz="4000" spc="-1" strike="noStrike">
                <a:solidFill>
                  <a:srgbClr val="ff66ff"/>
                </a:solidFill>
                <a:latin typeface="Comic Sans MS"/>
              </a:rPr>
              <a:t>13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800320" y="1386000"/>
            <a:ext cx="248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1" lang="en-US" sz="4800" spc="-1" strike="noStrike">
                <a:solidFill>
                  <a:srgbClr val="ff66ff"/>
                </a:solidFill>
                <a:latin typeface="Comic Sans MS"/>
              </a:rPr>
              <a:t>M</a:t>
            </a: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512400" y="5043600"/>
            <a:ext cx="122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b00e4"/>
                </a:solidFill>
                <a:latin typeface="Comic Sans MS"/>
              </a:rPr>
              <a:t>1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5400000">
            <a:off x="2704680" y="2171520"/>
            <a:ext cx="228600" cy="167652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5400000">
            <a:off x="5829120" y="2171520"/>
            <a:ext cx="228600" cy="167616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5400000">
            <a:off x="5295600" y="3085920"/>
            <a:ext cx="228600" cy="167652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5400000">
            <a:off x="4266720" y="3352680"/>
            <a:ext cx="304920" cy="3048120"/>
          </a:xfrm>
          <a:custGeom>
            <a:avLst/>
            <a:gdLst>
              <a:gd name="textAreaLeft" fmla="*/ 0 w 304920"/>
              <a:gd name="textAreaRight" fmla="*/ 110160 w 30492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802080" y="1366920"/>
            <a:ext cx="1758960" cy="1252080"/>
            <a:chOff x="802080" y="1366920"/>
            <a:chExt cx="1758960" cy="1252080"/>
          </a:xfrm>
        </p:grpSpPr>
        <p:sp>
          <p:nvSpPr>
            <p:cNvPr id="749" name=""/>
            <p:cNvSpPr/>
            <p:nvPr/>
          </p:nvSpPr>
          <p:spPr>
            <a:xfrm rot="20897400">
              <a:off x="861480" y="1585440"/>
              <a:ext cx="1650960" cy="3812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0897400">
              <a:off x="881280" y="1519200"/>
              <a:ext cx="1600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914400" y="144792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Geometric Formul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2057400" y="2590920"/>
            <a:ext cx="525132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2627640" y="712800"/>
            <a:ext cx="35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09480" y="2514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ions of shapes found in everyday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477120" y="4191120"/>
            <a:ext cx="2057400" cy="2057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qu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429000" y="3429000"/>
            <a:ext cx="3200400" cy="1447920"/>
          </a:xfrm>
          <a:prstGeom prst="rect">
            <a:avLst/>
          </a:prstGeom>
          <a:solidFill>
            <a:srgbClr val="25d7d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ta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4495680"/>
            <a:ext cx="4343400" cy="1524240"/>
          </a:xfrm>
          <a:prstGeom prst="parallelogram">
            <a:avLst>
              <a:gd name="adj" fmla="val 712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05120" y="14479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Geometric Fig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09480" y="5410080"/>
            <a:ext cx="3200400" cy="914400"/>
          </a:xfrm>
          <a:prstGeom prst="parallelogram">
            <a:avLst>
              <a:gd name="adj" fmla="val 87500"/>
            </a:avLst>
          </a:prstGeom>
          <a:solidFill>
            <a:srgbClr val="25d7d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= l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627640" y="712800"/>
            <a:ext cx="35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1752480"/>
            <a:ext cx="2514600" cy="160020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ormul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00200" y="3200400"/>
            <a:ext cx="5943600" cy="236232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Comic Sans MS"/>
              </a:rPr>
              <a:t>a mathematic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Comic Sans MS"/>
              </a:rPr>
              <a:t>description of so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Comic Sans MS"/>
              </a:rPr>
              <a:t>proced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1523880"/>
            <a:ext cx="3352680" cy="17528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 = lw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6553080" y="4876920"/>
            <a:ext cx="2210040" cy="1600200"/>
            <a:chOff x="6553080" y="4876920"/>
            <a:chExt cx="2210040" cy="1600200"/>
          </a:xfrm>
        </p:grpSpPr>
        <p:sp>
          <p:nvSpPr>
            <p:cNvPr id="765" name=""/>
            <p:cNvSpPr/>
            <p:nvPr/>
          </p:nvSpPr>
          <p:spPr>
            <a:xfrm>
              <a:off x="6553080" y="4876920"/>
              <a:ext cx="1905120" cy="16002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29400" y="5257800"/>
              <a:ext cx="2133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P = 4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5791320" y="3809880"/>
            <a:ext cx="2514600" cy="7642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0 in.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627640" y="712800"/>
            <a:ext cx="35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121932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9933"/>
                </a:solidFill>
                <a:uFillTx/>
                <a:latin typeface="Comic Sans MS"/>
              </a:rPr>
              <a:t>Per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distance around a geometrical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38080" y="3352680"/>
            <a:ext cx="4496040" cy="2819520"/>
          </a:xfrm>
          <a:prstGeom prst="pentagon">
            <a:avLst/>
          </a:prstGeom>
          <a:solidFill>
            <a:srgbClr val="25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267080" y="5562720"/>
            <a:ext cx="2591280" cy="685800"/>
            <a:chOff x="4267080" y="5562720"/>
            <a:chExt cx="2591280" cy="685800"/>
          </a:xfrm>
        </p:grpSpPr>
        <p:sp>
          <p:nvSpPr>
            <p:cNvPr id="772" name=""/>
            <p:cNvSpPr/>
            <p:nvPr/>
          </p:nvSpPr>
          <p:spPr>
            <a:xfrm>
              <a:off x="4267080" y="60199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52000" y="5562720"/>
              <a:ext cx="120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33"/>
                  </a:solidFill>
                  <a:latin typeface="Comic Sans MS"/>
                </a:rPr>
                <a:t>Star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4" name=""/>
            <p:cNvCxnSpPr>
              <a:stCxn id="773" idx="1"/>
              <a:endCxn id="772" idx="6"/>
            </p:cNvCxnSpPr>
            <p:nvPr/>
          </p:nvCxnSpPr>
          <p:spPr>
            <a:xfrm flipV="1" rot="10800000">
              <a:off x="4494960" y="5882040"/>
              <a:ext cx="1067400" cy="251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</p:grpSp>
      <p:sp>
        <p:nvSpPr>
          <p:cNvPr id="775" name=""/>
          <p:cNvSpPr/>
          <p:nvPr/>
        </p:nvSpPr>
        <p:spPr>
          <a:xfrm flipH="1">
            <a:off x="1676520" y="6172200"/>
            <a:ext cx="2743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838080" y="4343400"/>
            <a:ext cx="914400" cy="1828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838080" y="3352680"/>
            <a:ext cx="2286000" cy="1067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048120" y="3352680"/>
            <a:ext cx="2286000" cy="1067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495320" y="4419720"/>
            <a:ext cx="838440" cy="1676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89480" y="56386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7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3900000">
            <a:off x="1045800" y="500976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6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20100000">
            <a:off x="1582560" y="373716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7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1500000">
            <a:off x="3426480" y="365796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6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7700000">
            <a:off x="4171320" y="47998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5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918040" y="3809880"/>
            <a:ext cx="2299320" cy="7642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7 in.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91320" y="3809880"/>
            <a:ext cx="2438280" cy="14346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3 in.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91320" y="3809880"/>
            <a:ext cx="2438280" cy="14346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0 in.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91320" y="3809880"/>
            <a:ext cx="2438280" cy="14346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6 in.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715000" y="3809880"/>
            <a:ext cx="2514600" cy="7642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31 in.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523880" y="3124080"/>
                <a:ext cx="2006640" cy="22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3200400" y="3352680"/>
            <a:ext cx="4267080" cy="0"/>
          </a:xfrm>
          <a:prstGeom prst="line">
            <a:avLst/>
          </a:prstGeom>
          <a:ln w="104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669400" y="2734560"/>
            <a:ext cx="4329720" cy="2721240"/>
            <a:chOff x="2669400" y="2734560"/>
            <a:chExt cx="4329720" cy="2721240"/>
          </a:xfrm>
        </p:grpSpPr>
        <p:sp>
          <p:nvSpPr>
            <p:cNvPr id="187" name=""/>
            <p:cNvSpPr/>
            <p:nvPr/>
          </p:nvSpPr>
          <p:spPr>
            <a:xfrm rot="761400">
              <a:off x="2827440" y="3152160"/>
              <a:ext cx="4013280" cy="1885680"/>
            </a:xfrm>
            <a:custGeom>
              <a:avLst/>
              <a:gdLst/>
              <a:ahLst/>
              <a:rect l="l" t="t" r="r" b="b"/>
              <a:pathLst>
                <a:path w="5056" h="2376">
                  <a:moveTo>
                    <a:pt x="0" y="1753"/>
                  </a:moveTo>
                  <a:lnTo>
                    <a:pt x="0" y="1667"/>
                  </a:lnTo>
                  <a:lnTo>
                    <a:pt x="474" y="1439"/>
                  </a:lnTo>
                  <a:lnTo>
                    <a:pt x="1339" y="1308"/>
                  </a:lnTo>
                  <a:lnTo>
                    <a:pt x="1635" y="1240"/>
                  </a:lnTo>
                  <a:lnTo>
                    <a:pt x="2211" y="917"/>
                  </a:lnTo>
                  <a:lnTo>
                    <a:pt x="2652" y="861"/>
                  </a:lnTo>
                  <a:lnTo>
                    <a:pt x="3009" y="951"/>
                  </a:lnTo>
                  <a:lnTo>
                    <a:pt x="3174" y="799"/>
                  </a:lnTo>
                  <a:lnTo>
                    <a:pt x="3271" y="551"/>
                  </a:lnTo>
                  <a:lnTo>
                    <a:pt x="3420" y="510"/>
                  </a:lnTo>
                  <a:lnTo>
                    <a:pt x="3558" y="524"/>
                  </a:lnTo>
                  <a:lnTo>
                    <a:pt x="3730" y="146"/>
                  </a:lnTo>
                  <a:lnTo>
                    <a:pt x="3929" y="104"/>
                  </a:lnTo>
                  <a:lnTo>
                    <a:pt x="4177" y="140"/>
                  </a:lnTo>
                  <a:lnTo>
                    <a:pt x="4265" y="180"/>
                  </a:lnTo>
                  <a:lnTo>
                    <a:pt x="4458" y="0"/>
                  </a:lnTo>
                  <a:lnTo>
                    <a:pt x="4622" y="63"/>
                  </a:lnTo>
                  <a:lnTo>
                    <a:pt x="4781" y="201"/>
                  </a:lnTo>
                  <a:lnTo>
                    <a:pt x="4809" y="393"/>
                  </a:lnTo>
                  <a:lnTo>
                    <a:pt x="4786" y="631"/>
                  </a:lnTo>
                  <a:lnTo>
                    <a:pt x="4954" y="716"/>
                  </a:lnTo>
                  <a:lnTo>
                    <a:pt x="5056" y="951"/>
                  </a:lnTo>
                  <a:lnTo>
                    <a:pt x="5036" y="1114"/>
                  </a:lnTo>
                  <a:lnTo>
                    <a:pt x="4046" y="1316"/>
                  </a:lnTo>
                  <a:lnTo>
                    <a:pt x="3585" y="1330"/>
                  </a:lnTo>
                  <a:lnTo>
                    <a:pt x="3215" y="1644"/>
                  </a:lnTo>
                  <a:lnTo>
                    <a:pt x="2871" y="1949"/>
                  </a:lnTo>
                  <a:lnTo>
                    <a:pt x="877" y="2376"/>
                  </a:lnTo>
                  <a:lnTo>
                    <a:pt x="336" y="2333"/>
                  </a:lnTo>
                  <a:lnTo>
                    <a:pt x="161" y="2238"/>
                  </a:lnTo>
                  <a:lnTo>
                    <a:pt x="158" y="2161"/>
                  </a:lnTo>
                  <a:lnTo>
                    <a:pt x="413" y="2127"/>
                  </a:lnTo>
                  <a:lnTo>
                    <a:pt x="782" y="1881"/>
                  </a:lnTo>
                  <a:lnTo>
                    <a:pt x="0" y="1753"/>
                  </a:lnTo>
                  <a:lnTo>
                    <a:pt x="0" y="17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761400">
              <a:off x="5468760" y="3891600"/>
              <a:ext cx="1347840" cy="773280"/>
            </a:xfrm>
            <a:custGeom>
              <a:avLst/>
              <a:gdLst/>
              <a:ahLst/>
              <a:rect l="l" t="t" r="r" b="b"/>
              <a:pathLst>
                <a:path w="1699" h="972">
                  <a:moveTo>
                    <a:pt x="10" y="767"/>
                  </a:moveTo>
                  <a:lnTo>
                    <a:pt x="383" y="510"/>
                  </a:lnTo>
                  <a:lnTo>
                    <a:pt x="554" y="326"/>
                  </a:lnTo>
                  <a:lnTo>
                    <a:pt x="488" y="532"/>
                  </a:lnTo>
                  <a:lnTo>
                    <a:pt x="655" y="415"/>
                  </a:lnTo>
                  <a:lnTo>
                    <a:pt x="655" y="544"/>
                  </a:lnTo>
                  <a:lnTo>
                    <a:pt x="772" y="488"/>
                  </a:lnTo>
                  <a:lnTo>
                    <a:pt x="843" y="598"/>
                  </a:lnTo>
                  <a:lnTo>
                    <a:pt x="905" y="627"/>
                  </a:lnTo>
                  <a:lnTo>
                    <a:pt x="777" y="372"/>
                  </a:lnTo>
                  <a:lnTo>
                    <a:pt x="667" y="282"/>
                  </a:lnTo>
                  <a:lnTo>
                    <a:pt x="777" y="93"/>
                  </a:lnTo>
                  <a:lnTo>
                    <a:pt x="882" y="22"/>
                  </a:lnTo>
                  <a:lnTo>
                    <a:pt x="988" y="0"/>
                  </a:lnTo>
                  <a:lnTo>
                    <a:pt x="1105" y="27"/>
                  </a:lnTo>
                  <a:lnTo>
                    <a:pt x="1144" y="81"/>
                  </a:lnTo>
                  <a:lnTo>
                    <a:pt x="1132" y="171"/>
                  </a:lnTo>
                  <a:lnTo>
                    <a:pt x="1049" y="154"/>
                  </a:lnTo>
                  <a:lnTo>
                    <a:pt x="1139" y="282"/>
                  </a:lnTo>
                  <a:lnTo>
                    <a:pt x="1100" y="360"/>
                  </a:lnTo>
                  <a:lnTo>
                    <a:pt x="1182" y="353"/>
                  </a:lnTo>
                  <a:lnTo>
                    <a:pt x="1260" y="421"/>
                  </a:lnTo>
                  <a:lnTo>
                    <a:pt x="1221" y="238"/>
                  </a:lnTo>
                  <a:lnTo>
                    <a:pt x="1299" y="188"/>
                  </a:lnTo>
                  <a:lnTo>
                    <a:pt x="1416" y="177"/>
                  </a:lnTo>
                  <a:lnTo>
                    <a:pt x="1510" y="204"/>
                  </a:lnTo>
                  <a:lnTo>
                    <a:pt x="1598" y="282"/>
                  </a:lnTo>
                  <a:lnTo>
                    <a:pt x="1676" y="410"/>
                  </a:lnTo>
                  <a:lnTo>
                    <a:pt x="1699" y="549"/>
                  </a:lnTo>
                  <a:lnTo>
                    <a:pt x="1632" y="644"/>
                  </a:lnTo>
                  <a:lnTo>
                    <a:pt x="1466" y="622"/>
                  </a:lnTo>
                  <a:lnTo>
                    <a:pt x="1365" y="816"/>
                  </a:lnTo>
                  <a:lnTo>
                    <a:pt x="1206" y="843"/>
                  </a:lnTo>
                  <a:lnTo>
                    <a:pt x="1005" y="733"/>
                  </a:lnTo>
                  <a:lnTo>
                    <a:pt x="927" y="904"/>
                  </a:lnTo>
                  <a:lnTo>
                    <a:pt x="728" y="921"/>
                  </a:lnTo>
                  <a:lnTo>
                    <a:pt x="561" y="816"/>
                  </a:lnTo>
                  <a:lnTo>
                    <a:pt x="461" y="760"/>
                  </a:lnTo>
                  <a:lnTo>
                    <a:pt x="0" y="972"/>
                  </a:lnTo>
                  <a:lnTo>
                    <a:pt x="10" y="767"/>
                  </a:lnTo>
                  <a:lnTo>
                    <a:pt x="10" y="767"/>
                  </a:lnTo>
                  <a:close/>
                </a:path>
              </a:pathLst>
            </a:custGeom>
            <a:solidFill>
              <a:srgbClr val="64b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61400">
              <a:off x="5443920" y="3549960"/>
              <a:ext cx="1244520" cy="857160"/>
            </a:xfrm>
            <a:custGeom>
              <a:avLst/>
              <a:gdLst/>
              <a:ahLst/>
              <a:rect l="l" t="t" r="r" b="b"/>
              <a:pathLst>
                <a:path w="1567" h="1080">
                  <a:moveTo>
                    <a:pt x="0" y="985"/>
                  </a:moveTo>
                  <a:lnTo>
                    <a:pt x="29" y="679"/>
                  </a:lnTo>
                  <a:lnTo>
                    <a:pt x="139" y="463"/>
                  </a:lnTo>
                  <a:lnTo>
                    <a:pt x="228" y="429"/>
                  </a:lnTo>
                  <a:lnTo>
                    <a:pt x="323" y="451"/>
                  </a:lnTo>
                  <a:lnTo>
                    <a:pt x="406" y="512"/>
                  </a:lnTo>
                  <a:lnTo>
                    <a:pt x="467" y="334"/>
                  </a:lnTo>
                  <a:lnTo>
                    <a:pt x="517" y="211"/>
                  </a:lnTo>
                  <a:lnTo>
                    <a:pt x="573" y="128"/>
                  </a:lnTo>
                  <a:lnTo>
                    <a:pt x="651" y="67"/>
                  </a:lnTo>
                  <a:lnTo>
                    <a:pt x="722" y="45"/>
                  </a:lnTo>
                  <a:lnTo>
                    <a:pt x="806" y="34"/>
                  </a:lnTo>
                  <a:lnTo>
                    <a:pt x="894" y="50"/>
                  </a:lnTo>
                  <a:lnTo>
                    <a:pt x="977" y="89"/>
                  </a:lnTo>
                  <a:lnTo>
                    <a:pt x="1022" y="118"/>
                  </a:lnTo>
                  <a:lnTo>
                    <a:pt x="1105" y="62"/>
                  </a:lnTo>
                  <a:lnTo>
                    <a:pt x="1212" y="17"/>
                  </a:lnTo>
                  <a:lnTo>
                    <a:pt x="1301" y="0"/>
                  </a:lnTo>
                  <a:lnTo>
                    <a:pt x="1384" y="28"/>
                  </a:lnTo>
                  <a:lnTo>
                    <a:pt x="1440" y="84"/>
                  </a:lnTo>
                  <a:lnTo>
                    <a:pt x="1482" y="162"/>
                  </a:lnTo>
                  <a:lnTo>
                    <a:pt x="1528" y="245"/>
                  </a:lnTo>
                  <a:lnTo>
                    <a:pt x="1567" y="407"/>
                  </a:lnTo>
                  <a:lnTo>
                    <a:pt x="1561" y="468"/>
                  </a:lnTo>
                  <a:lnTo>
                    <a:pt x="1411" y="483"/>
                  </a:lnTo>
                  <a:lnTo>
                    <a:pt x="1251" y="341"/>
                  </a:lnTo>
                  <a:lnTo>
                    <a:pt x="1039" y="307"/>
                  </a:lnTo>
                  <a:lnTo>
                    <a:pt x="828" y="373"/>
                  </a:lnTo>
                  <a:lnTo>
                    <a:pt x="755" y="505"/>
                  </a:lnTo>
                  <a:lnTo>
                    <a:pt x="734" y="647"/>
                  </a:lnTo>
                  <a:lnTo>
                    <a:pt x="578" y="674"/>
                  </a:lnTo>
                  <a:lnTo>
                    <a:pt x="428" y="740"/>
                  </a:lnTo>
                  <a:lnTo>
                    <a:pt x="350" y="919"/>
                  </a:lnTo>
                  <a:lnTo>
                    <a:pt x="95" y="1080"/>
                  </a:lnTo>
                  <a:lnTo>
                    <a:pt x="0" y="985"/>
                  </a:lnTo>
                  <a:lnTo>
                    <a:pt x="0" y="985"/>
                  </a:lnTo>
                  <a:close/>
                </a:path>
              </a:pathLst>
            </a:custGeom>
            <a:solidFill>
              <a:srgbClr val="64b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61400">
              <a:off x="2761560" y="3745440"/>
              <a:ext cx="2649600" cy="1133280"/>
            </a:xfrm>
            <a:custGeom>
              <a:avLst/>
              <a:gdLst/>
              <a:ahLst/>
              <a:rect l="l" t="t" r="r" b="b"/>
              <a:pathLst>
                <a:path w="3337" h="1429">
                  <a:moveTo>
                    <a:pt x="161" y="879"/>
                  </a:moveTo>
                  <a:lnTo>
                    <a:pt x="0" y="806"/>
                  </a:lnTo>
                  <a:lnTo>
                    <a:pt x="110" y="767"/>
                  </a:lnTo>
                  <a:lnTo>
                    <a:pt x="338" y="696"/>
                  </a:lnTo>
                  <a:lnTo>
                    <a:pt x="632" y="573"/>
                  </a:lnTo>
                  <a:lnTo>
                    <a:pt x="698" y="669"/>
                  </a:lnTo>
                  <a:lnTo>
                    <a:pt x="732" y="740"/>
                  </a:lnTo>
                  <a:lnTo>
                    <a:pt x="788" y="774"/>
                  </a:lnTo>
                  <a:lnTo>
                    <a:pt x="743" y="623"/>
                  </a:lnTo>
                  <a:lnTo>
                    <a:pt x="693" y="578"/>
                  </a:lnTo>
                  <a:lnTo>
                    <a:pt x="843" y="584"/>
                  </a:lnTo>
                  <a:lnTo>
                    <a:pt x="943" y="657"/>
                  </a:lnTo>
                  <a:lnTo>
                    <a:pt x="938" y="539"/>
                  </a:lnTo>
                  <a:lnTo>
                    <a:pt x="1088" y="534"/>
                  </a:lnTo>
                  <a:lnTo>
                    <a:pt x="1132" y="706"/>
                  </a:lnTo>
                  <a:lnTo>
                    <a:pt x="1166" y="684"/>
                  </a:lnTo>
                  <a:lnTo>
                    <a:pt x="1304" y="662"/>
                  </a:lnTo>
                  <a:lnTo>
                    <a:pt x="1266" y="578"/>
                  </a:lnTo>
                  <a:lnTo>
                    <a:pt x="1176" y="546"/>
                  </a:lnTo>
                  <a:lnTo>
                    <a:pt x="1266" y="522"/>
                  </a:lnTo>
                  <a:lnTo>
                    <a:pt x="1404" y="517"/>
                  </a:lnTo>
                  <a:lnTo>
                    <a:pt x="1555" y="500"/>
                  </a:lnTo>
                  <a:lnTo>
                    <a:pt x="1693" y="551"/>
                  </a:lnTo>
                  <a:lnTo>
                    <a:pt x="1622" y="434"/>
                  </a:lnTo>
                  <a:lnTo>
                    <a:pt x="1805" y="334"/>
                  </a:lnTo>
                  <a:lnTo>
                    <a:pt x="1899" y="345"/>
                  </a:lnTo>
                  <a:lnTo>
                    <a:pt x="1992" y="378"/>
                  </a:lnTo>
                  <a:lnTo>
                    <a:pt x="2021" y="451"/>
                  </a:lnTo>
                  <a:lnTo>
                    <a:pt x="2075" y="351"/>
                  </a:lnTo>
                  <a:lnTo>
                    <a:pt x="1943" y="301"/>
                  </a:lnTo>
                  <a:lnTo>
                    <a:pt x="2021" y="240"/>
                  </a:lnTo>
                  <a:lnTo>
                    <a:pt x="2181" y="179"/>
                  </a:lnTo>
                  <a:lnTo>
                    <a:pt x="2399" y="73"/>
                  </a:lnTo>
                  <a:lnTo>
                    <a:pt x="2570" y="5"/>
                  </a:lnTo>
                  <a:lnTo>
                    <a:pt x="2703" y="0"/>
                  </a:lnTo>
                  <a:lnTo>
                    <a:pt x="2847" y="33"/>
                  </a:lnTo>
                  <a:lnTo>
                    <a:pt x="2997" y="89"/>
                  </a:lnTo>
                  <a:lnTo>
                    <a:pt x="3104" y="101"/>
                  </a:lnTo>
                  <a:lnTo>
                    <a:pt x="3170" y="216"/>
                  </a:lnTo>
                  <a:lnTo>
                    <a:pt x="3337" y="590"/>
                  </a:lnTo>
                  <a:lnTo>
                    <a:pt x="3031" y="973"/>
                  </a:lnTo>
                  <a:lnTo>
                    <a:pt x="2803" y="1095"/>
                  </a:lnTo>
                  <a:lnTo>
                    <a:pt x="1960" y="1213"/>
                  </a:lnTo>
                  <a:lnTo>
                    <a:pt x="1215" y="1335"/>
                  </a:lnTo>
                  <a:lnTo>
                    <a:pt x="877" y="1429"/>
                  </a:lnTo>
                  <a:lnTo>
                    <a:pt x="504" y="1413"/>
                  </a:lnTo>
                  <a:lnTo>
                    <a:pt x="404" y="1374"/>
                  </a:lnTo>
                  <a:lnTo>
                    <a:pt x="260" y="1379"/>
                  </a:lnTo>
                  <a:lnTo>
                    <a:pt x="161" y="1291"/>
                  </a:lnTo>
                  <a:lnTo>
                    <a:pt x="460" y="1240"/>
                  </a:lnTo>
                  <a:lnTo>
                    <a:pt x="549" y="1179"/>
                  </a:lnTo>
                  <a:lnTo>
                    <a:pt x="576" y="1274"/>
                  </a:lnTo>
                  <a:lnTo>
                    <a:pt x="654" y="1168"/>
                  </a:lnTo>
                  <a:lnTo>
                    <a:pt x="889" y="1051"/>
                  </a:lnTo>
                  <a:lnTo>
                    <a:pt x="1026" y="1163"/>
                  </a:lnTo>
                  <a:lnTo>
                    <a:pt x="1009" y="1061"/>
                  </a:lnTo>
                  <a:lnTo>
                    <a:pt x="938" y="1019"/>
                  </a:lnTo>
                  <a:lnTo>
                    <a:pt x="1227" y="963"/>
                  </a:lnTo>
                  <a:lnTo>
                    <a:pt x="1259" y="1123"/>
                  </a:lnTo>
                  <a:lnTo>
                    <a:pt x="1304" y="980"/>
                  </a:lnTo>
                  <a:lnTo>
                    <a:pt x="1338" y="934"/>
                  </a:lnTo>
                  <a:lnTo>
                    <a:pt x="1605" y="879"/>
                  </a:lnTo>
                  <a:lnTo>
                    <a:pt x="1853" y="828"/>
                  </a:lnTo>
                  <a:lnTo>
                    <a:pt x="2021" y="811"/>
                  </a:lnTo>
                  <a:lnTo>
                    <a:pt x="2104" y="828"/>
                  </a:lnTo>
                  <a:lnTo>
                    <a:pt x="2154" y="867"/>
                  </a:lnTo>
                  <a:lnTo>
                    <a:pt x="2176" y="912"/>
                  </a:lnTo>
                  <a:lnTo>
                    <a:pt x="2181" y="951"/>
                  </a:lnTo>
                  <a:lnTo>
                    <a:pt x="2254" y="912"/>
                  </a:lnTo>
                  <a:lnTo>
                    <a:pt x="2115" y="767"/>
                  </a:lnTo>
                  <a:lnTo>
                    <a:pt x="2154" y="669"/>
                  </a:lnTo>
                  <a:lnTo>
                    <a:pt x="2315" y="551"/>
                  </a:lnTo>
                  <a:lnTo>
                    <a:pt x="2453" y="490"/>
                  </a:lnTo>
                  <a:lnTo>
                    <a:pt x="2604" y="446"/>
                  </a:lnTo>
                  <a:lnTo>
                    <a:pt x="2708" y="713"/>
                  </a:lnTo>
                  <a:lnTo>
                    <a:pt x="2747" y="840"/>
                  </a:lnTo>
                  <a:lnTo>
                    <a:pt x="2842" y="946"/>
                  </a:lnTo>
                  <a:lnTo>
                    <a:pt x="2876" y="828"/>
                  </a:lnTo>
                  <a:lnTo>
                    <a:pt x="2825" y="696"/>
                  </a:lnTo>
                  <a:lnTo>
                    <a:pt x="2737" y="629"/>
                  </a:lnTo>
                  <a:lnTo>
                    <a:pt x="2676" y="451"/>
                  </a:lnTo>
                  <a:lnTo>
                    <a:pt x="2876" y="568"/>
                  </a:lnTo>
                  <a:lnTo>
                    <a:pt x="2715" y="373"/>
                  </a:lnTo>
                  <a:lnTo>
                    <a:pt x="2881" y="368"/>
                  </a:lnTo>
                  <a:lnTo>
                    <a:pt x="3009" y="378"/>
                  </a:lnTo>
                  <a:lnTo>
                    <a:pt x="3143" y="451"/>
                  </a:lnTo>
                  <a:lnTo>
                    <a:pt x="3193" y="529"/>
                  </a:lnTo>
                  <a:lnTo>
                    <a:pt x="3204" y="424"/>
                  </a:lnTo>
                  <a:lnTo>
                    <a:pt x="3097" y="267"/>
                  </a:lnTo>
                  <a:lnTo>
                    <a:pt x="2847" y="223"/>
                  </a:lnTo>
                  <a:lnTo>
                    <a:pt x="2438" y="317"/>
                  </a:lnTo>
                  <a:lnTo>
                    <a:pt x="1764" y="701"/>
                  </a:lnTo>
                  <a:lnTo>
                    <a:pt x="782" y="934"/>
                  </a:lnTo>
                  <a:lnTo>
                    <a:pt x="532" y="934"/>
                  </a:lnTo>
                  <a:lnTo>
                    <a:pt x="161" y="879"/>
                  </a:lnTo>
                  <a:lnTo>
                    <a:pt x="161" y="879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61400">
              <a:off x="2829960" y="3621960"/>
              <a:ext cx="2487600" cy="695160"/>
            </a:xfrm>
            <a:custGeom>
              <a:avLst/>
              <a:gdLst/>
              <a:ahLst/>
              <a:rect l="l" t="t" r="r" b="b"/>
              <a:pathLst>
                <a:path w="3134" h="876">
                  <a:moveTo>
                    <a:pt x="0" y="876"/>
                  </a:moveTo>
                  <a:lnTo>
                    <a:pt x="39" y="833"/>
                  </a:lnTo>
                  <a:lnTo>
                    <a:pt x="94" y="786"/>
                  </a:lnTo>
                  <a:lnTo>
                    <a:pt x="112" y="774"/>
                  </a:lnTo>
                  <a:lnTo>
                    <a:pt x="131" y="760"/>
                  </a:lnTo>
                  <a:lnTo>
                    <a:pt x="153" y="745"/>
                  </a:lnTo>
                  <a:lnTo>
                    <a:pt x="177" y="730"/>
                  </a:lnTo>
                  <a:lnTo>
                    <a:pt x="201" y="714"/>
                  </a:lnTo>
                  <a:lnTo>
                    <a:pt x="228" y="701"/>
                  </a:lnTo>
                  <a:lnTo>
                    <a:pt x="257" y="685"/>
                  </a:lnTo>
                  <a:lnTo>
                    <a:pt x="287" y="668"/>
                  </a:lnTo>
                  <a:lnTo>
                    <a:pt x="320" y="653"/>
                  </a:lnTo>
                  <a:lnTo>
                    <a:pt x="355" y="638"/>
                  </a:lnTo>
                  <a:lnTo>
                    <a:pt x="391" y="624"/>
                  </a:lnTo>
                  <a:lnTo>
                    <a:pt x="430" y="607"/>
                  </a:lnTo>
                  <a:lnTo>
                    <a:pt x="471" y="594"/>
                  </a:lnTo>
                  <a:lnTo>
                    <a:pt x="515" y="580"/>
                  </a:lnTo>
                  <a:lnTo>
                    <a:pt x="561" y="566"/>
                  </a:lnTo>
                  <a:lnTo>
                    <a:pt x="609" y="553"/>
                  </a:lnTo>
                  <a:lnTo>
                    <a:pt x="712" y="529"/>
                  </a:lnTo>
                  <a:lnTo>
                    <a:pt x="825" y="510"/>
                  </a:lnTo>
                  <a:lnTo>
                    <a:pt x="933" y="493"/>
                  </a:lnTo>
                  <a:lnTo>
                    <a:pt x="1027" y="481"/>
                  </a:lnTo>
                  <a:lnTo>
                    <a:pt x="1175" y="468"/>
                  </a:lnTo>
                  <a:lnTo>
                    <a:pt x="1345" y="468"/>
                  </a:lnTo>
                  <a:lnTo>
                    <a:pt x="1433" y="471"/>
                  </a:lnTo>
                  <a:lnTo>
                    <a:pt x="1534" y="439"/>
                  </a:lnTo>
                  <a:lnTo>
                    <a:pt x="1573" y="420"/>
                  </a:lnTo>
                  <a:lnTo>
                    <a:pt x="1620" y="395"/>
                  </a:lnTo>
                  <a:lnTo>
                    <a:pt x="1646" y="379"/>
                  </a:lnTo>
                  <a:lnTo>
                    <a:pt x="1673" y="364"/>
                  </a:lnTo>
                  <a:lnTo>
                    <a:pt x="1704" y="345"/>
                  </a:lnTo>
                  <a:lnTo>
                    <a:pt x="1734" y="328"/>
                  </a:lnTo>
                  <a:lnTo>
                    <a:pt x="1767" y="308"/>
                  </a:lnTo>
                  <a:lnTo>
                    <a:pt x="1799" y="289"/>
                  </a:lnTo>
                  <a:lnTo>
                    <a:pt x="1835" y="269"/>
                  </a:lnTo>
                  <a:lnTo>
                    <a:pt x="1870" y="248"/>
                  </a:lnTo>
                  <a:lnTo>
                    <a:pt x="1908" y="228"/>
                  </a:lnTo>
                  <a:lnTo>
                    <a:pt x="1945" y="208"/>
                  </a:lnTo>
                  <a:lnTo>
                    <a:pt x="1982" y="187"/>
                  </a:lnTo>
                  <a:lnTo>
                    <a:pt x="2022" y="167"/>
                  </a:lnTo>
                  <a:lnTo>
                    <a:pt x="2061" y="146"/>
                  </a:lnTo>
                  <a:lnTo>
                    <a:pt x="2101" y="128"/>
                  </a:lnTo>
                  <a:lnTo>
                    <a:pt x="2142" y="109"/>
                  </a:lnTo>
                  <a:lnTo>
                    <a:pt x="2183" y="92"/>
                  </a:lnTo>
                  <a:lnTo>
                    <a:pt x="2224" y="75"/>
                  </a:lnTo>
                  <a:lnTo>
                    <a:pt x="2265" y="60"/>
                  </a:lnTo>
                  <a:lnTo>
                    <a:pt x="2307" y="44"/>
                  </a:lnTo>
                  <a:lnTo>
                    <a:pt x="2348" y="32"/>
                  </a:lnTo>
                  <a:lnTo>
                    <a:pt x="2430" y="12"/>
                  </a:lnTo>
                  <a:lnTo>
                    <a:pt x="2510" y="0"/>
                  </a:lnTo>
                  <a:lnTo>
                    <a:pt x="2663" y="4"/>
                  </a:lnTo>
                  <a:lnTo>
                    <a:pt x="2793" y="27"/>
                  </a:lnTo>
                  <a:lnTo>
                    <a:pt x="2901" y="55"/>
                  </a:lnTo>
                  <a:lnTo>
                    <a:pt x="2981" y="82"/>
                  </a:lnTo>
                  <a:lnTo>
                    <a:pt x="3042" y="109"/>
                  </a:lnTo>
                  <a:lnTo>
                    <a:pt x="3084" y="136"/>
                  </a:lnTo>
                  <a:lnTo>
                    <a:pt x="3113" y="162"/>
                  </a:lnTo>
                  <a:lnTo>
                    <a:pt x="3134" y="206"/>
                  </a:lnTo>
                  <a:lnTo>
                    <a:pt x="3132" y="240"/>
                  </a:lnTo>
                  <a:lnTo>
                    <a:pt x="3117" y="255"/>
                  </a:lnTo>
                  <a:lnTo>
                    <a:pt x="3077" y="245"/>
                  </a:lnTo>
                  <a:lnTo>
                    <a:pt x="3049" y="230"/>
                  </a:lnTo>
                  <a:lnTo>
                    <a:pt x="3011" y="206"/>
                  </a:lnTo>
                  <a:lnTo>
                    <a:pt x="2989" y="192"/>
                  </a:lnTo>
                  <a:lnTo>
                    <a:pt x="2964" y="177"/>
                  </a:lnTo>
                  <a:lnTo>
                    <a:pt x="2935" y="162"/>
                  </a:lnTo>
                  <a:lnTo>
                    <a:pt x="2904" y="148"/>
                  </a:lnTo>
                  <a:lnTo>
                    <a:pt x="2868" y="136"/>
                  </a:lnTo>
                  <a:lnTo>
                    <a:pt x="2831" y="124"/>
                  </a:lnTo>
                  <a:lnTo>
                    <a:pt x="2749" y="107"/>
                  </a:lnTo>
                  <a:lnTo>
                    <a:pt x="2654" y="100"/>
                  </a:lnTo>
                  <a:lnTo>
                    <a:pt x="2552" y="109"/>
                  </a:lnTo>
                  <a:lnTo>
                    <a:pt x="2440" y="136"/>
                  </a:lnTo>
                  <a:lnTo>
                    <a:pt x="2380" y="157"/>
                  </a:lnTo>
                  <a:lnTo>
                    <a:pt x="2319" y="184"/>
                  </a:lnTo>
                  <a:lnTo>
                    <a:pt x="2289" y="197"/>
                  </a:lnTo>
                  <a:lnTo>
                    <a:pt x="2258" y="213"/>
                  </a:lnTo>
                  <a:lnTo>
                    <a:pt x="2226" y="226"/>
                  </a:lnTo>
                  <a:lnTo>
                    <a:pt x="2193" y="242"/>
                  </a:lnTo>
                  <a:lnTo>
                    <a:pt x="2163" y="255"/>
                  </a:lnTo>
                  <a:lnTo>
                    <a:pt x="2132" y="269"/>
                  </a:lnTo>
                  <a:lnTo>
                    <a:pt x="2069" y="296"/>
                  </a:lnTo>
                  <a:lnTo>
                    <a:pt x="2008" y="322"/>
                  </a:lnTo>
                  <a:lnTo>
                    <a:pt x="1948" y="345"/>
                  </a:lnTo>
                  <a:lnTo>
                    <a:pt x="1892" y="369"/>
                  </a:lnTo>
                  <a:lnTo>
                    <a:pt x="1840" y="391"/>
                  </a:lnTo>
                  <a:lnTo>
                    <a:pt x="1790" y="412"/>
                  </a:lnTo>
                  <a:lnTo>
                    <a:pt x="1744" y="429"/>
                  </a:lnTo>
                  <a:lnTo>
                    <a:pt x="1702" y="446"/>
                  </a:lnTo>
                  <a:lnTo>
                    <a:pt x="1666" y="461"/>
                  </a:lnTo>
                  <a:lnTo>
                    <a:pt x="1614" y="483"/>
                  </a:lnTo>
                  <a:lnTo>
                    <a:pt x="1586" y="498"/>
                  </a:lnTo>
                  <a:lnTo>
                    <a:pt x="1564" y="551"/>
                  </a:lnTo>
                  <a:lnTo>
                    <a:pt x="1564" y="585"/>
                  </a:lnTo>
                  <a:lnTo>
                    <a:pt x="1442" y="592"/>
                  </a:lnTo>
                  <a:lnTo>
                    <a:pt x="1165" y="612"/>
                  </a:lnTo>
                  <a:lnTo>
                    <a:pt x="859" y="639"/>
                  </a:lnTo>
                  <a:lnTo>
                    <a:pt x="649" y="674"/>
                  </a:lnTo>
                  <a:lnTo>
                    <a:pt x="581" y="694"/>
                  </a:lnTo>
                  <a:lnTo>
                    <a:pt x="541" y="709"/>
                  </a:lnTo>
                  <a:lnTo>
                    <a:pt x="498" y="723"/>
                  </a:lnTo>
                  <a:lnTo>
                    <a:pt x="454" y="740"/>
                  </a:lnTo>
                  <a:lnTo>
                    <a:pt x="408" y="755"/>
                  </a:lnTo>
                  <a:lnTo>
                    <a:pt x="362" y="772"/>
                  </a:lnTo>
                  <a:lnTo>
                    <a:pt x="318" y="789"/>
                  </a:lnTo>
                  <a:lnTo>
                    <a:pt x="274" y="804"/>
                  </a:lnTo>
                  <a:lnTo>
                    <a:pt x="235" y="820"/>
                  </a:lnTo>
                  <a:lnTo>
                    <a:pt x="167" y="847"/>
                  </a:lnTo>
                  <a:lnTo>
                    <a:pt x="121" y="864"/>
                  </a:lnTo>
                  <a:lnTo>
                    <a:pt x="104" y="871"/>
                  </a:lnTo>
                  <a:lnTo>
                    <a:pt x="0" y="876"/>
                  </a:lnTo>
                  <a:lnTo>
                    <a:pt x="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761400">
              <a:off x="2803320" y="4172760"/>
              <a:ext cx="503280" cy="101520"/>
            </a:xfrm>
            <a:custGeom>
              <a:avLst/>
              <a:gdLst/>
              <a:ahLst/>
              <a:rect l="l" t="t" r="r" b="b"/>
              <a:pathLst>
                <a:path w="634" h="127">
                  <a:moveTo>
                    <a:pt x="0" y="1"/>
                  </a:moveTo>
                  <a:lnTo>
                    <a:pt x="60" y="15"/>
                  </a:lnTo>
                  <a:lnTo>
                    <a:pt x="124" y="27"/>
                  </a:lnTo>
                  <a:lnTo>
                    <a:pt x="199" y="40"/>
                  </a:lnTo>
                  <a:lnTo>
                    <a:pt x="277" y="52"/>
                  </a:lnTo>
                  <a:lnTo>
                    <a:pt x="354" y="61"/>
                  </a:lnTo>
                  <a:lnTo>
                    <a:pt x="466" y="54"/>
                  </a:lnTo>
                  <a:lnTo>
                    <a:pt x="529" y="29"/>
                  </a:lnTo>
                  <a:lnTo>
                    <a:pt x="578" y="8"/>
                  </a:lnTo>
                  <a:lnTo>
                    <a:pt x="614" y="0"/>
                  </a:lnTo>
                  <a:lnTo>
                    <a:pt x="634" y="6"/>
                  </a:lnTo>
                  <a:lnTo>
                    <a:pt x="634" y="68"/>
                  </a:lnTo>
                  <a:lnTo>
                    <a:pt x="607" y="102"/>
                  </a:lnTo>
                  <a:lnTo>
                    <a:pt x="583" y="115"/>
                  </a:lnTo>
                  <a:lnTo>
                    <a:pt x="553" y="124"/>
                  </a:lnTo>
                  <a:lnTo>
                    <a:pt x="354" y="127"/>
                  </a:lnTo>
                  <a:lnTo>
                    <a:pt x="145" y="90"/>
                  </a:lnTo>
                  <a:lnTo>
                    <a:pt x="78" y="61"/>
                  </a:lnTo>
                  <a:lnTo>
                    <a:pt x="34" y="3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761400">
              <a:off x="3339000" y="4078080"/>
              <a:ext cx="14760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0" y="1"/>
                  </a:moveTo>
                  <a:lnTo>
                    <a:pt x="34" y="32"/>
                  </a:lnTo>
                  <a:lnTo>
                    <a:pt x="63" y="112"/>
                  </a:lnTo>
                  <a:lnTo>
                    <a:pt x="68" y="161"/>
                  </a:lnTo>
                  <a:lnTo>
                    <a:pt x="85" y="195"/>
                  </a:lnTo>
                  <a:lnTo>
                    <a:pt x="114" y="205"/>
                  </a:lnTo>
                  <a:lnTo>
                    <a:pt x="158" y="183"/>
                  </a:lnTo>
                  <a:lnTo>
                    <a:pt x="185" y="137"/>
                  </a:lnTo>
                  <a:lnTo>
                    <a:pt x="182" y="90"/>
                  </a:lnTo>
                  <a:lnTo>
                    <a:pt x="157" y="49"/>
                  </a:lnTo>
                  <a:lnTo>
                    <a:pt x="123" y="20"/>
                  </a:lnTo>
                  <a:lnTo>
                    <a:pt x="83" y="5"/>
                  </a:lnTo>
                  <a:lnTo>
                    <a:pt x="44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761400">
              <a:off x="3682080" y="4130640"/>
              <a:ext cx="123840" cy="114480"/>
            </a:xfrm>
            <a:custGeom>
              <a:avLst/>
              <a:gdLst/>
              <a:ahLst/>
              <a:rect l="l" t="t" r="r" b="b"/>
              <a:pathLst>
                <a:path w="157" h="145">
                  <a:moveTo>
                    <a:pt x="12" y="128"/>
                  </a:moveTo>
                  <a:lnTo>
                    <a:pt x="0" y="4"/>
                  </a:lnTo>
                  <a:lnTo>
                    <a:pt x="41" y="0"/>
                  </a:lnTo>
                  <a:lnTo>
                    <a:pt x="92" y="16"/>
                  </a:lnTo>
                  <a:lnTo>
                    <a:pt x="157" y="75"/>
                  </a:lnTo>
                  <a:lnTo>
                    <a:pt x="152" y="102"/>
                  </a:lnTo>
                  <a:lnTo>
                    <a:pt x="131" y="124"/>
                  </a:lnTo>
                  <a:lnTo>
                    <a:pt x="104" y="140"/>
                  </a:lnTo>
                  <a:lnTo>
                    <a:pt x="82" y="145"/>
                  </a:lnTo>
                  <a:lnTo>
                    <a:pt x="38" y="136"/>
                  </a:lnTo>
                  <a:lnTo>
                    <a:pt x="12" y="128"/>
                  </a:lnTo>
                  <a:lnTo>
                    <a:pt x="12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761400">
              <a:off x="4354200" y="4017960"/>
              <a:ext cx="147600" cy="125640"/>
            </a:xfrm>
            <a:custGeom>
              <a:avLst/>
              <a:gdLst/>
              <a:ahLst/>
              <a:rect l="l" t="t" r="r" b="b"/>
              <a:pathLst>
                <a:path w="187" h="158">
                  <a:moveTo>
                    <a:pt x="112" y="158"/>
                  </a:moveTo>
                  <a:lnTo>
                    <a:pt x="116" y="124"/>
                  </a:lnTo>
                  <a:lnTo>
                    <a:pt x="99" y="97"/>
                  </a:lnTo>
                  <a:lnTo>
                    <a:pt x="82" y="85"/>
                  </a:lnTo>
                  <a:lnTo>
                    <a:pt x="54" y="77"/>
                  </a:lnTo>
                  <a:lnTo>
                    <a:pt x="8" y="60"/>
                  </a:lnTo>
                  <a:lnTo>
                    <a:pt x="0" y="39"/>
                  </a:lnTo>
                  <a:lnTo>
                    <a:pt x="42" y="7"/>
                  </a:lnTo>
                  <a:lnTo>
                    <a:pt x="82" y="0"/>
                  </a:lnTo>
                  <a:lnTo>
                    <a:pt x="127" y="3"/>
                  </a:lnTo>
                  <a:lnTo>
                    <a:pt x="187" y="70"/>
                  </a:lnTo>
                  <a:lnTo>
                    <a:pt x="178" y="119"/>
                  </a:lnTo>
                  <a:lnTo>
                    <a:pt x="151" y="145"/>
                  </a:lnTo>
                  <a:lnTo>
                    <a:pt x="112" y="158"/>
                  </a:lnTo>
                  <a:lnTo>
                    <a:pt x="112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761400">
              <a:off x="2869920" y="3867840"/>
              <a:ext cx="2600280" cy="1074600"/>
            </a:xfrm>
            <a:custGeom>
              <a:avLst/>
              <a:gdLst/>
              <a:ahLst/>
              <a:rect l="l" t="t" r="r" b="b"/>
              <a:pathLst>
                <a:path w="3277" h="1353">
                  <a:moveTo>
                    <a:pt x="203" y="1089"/>
                  </a:moveTo>
                  <a:lnTo>
                    <a:pt x="269" y="1021"/>
                  </a:lnTo>
                  <a:lnTo>
                    <a:pt x="347" y="950"/>
                  </a:lnTo>
                  <a:lnTo>
                    <a:pt x="396" y="909"/>
                  </a:lnTo>
                  <a:lnTo>
                    <a:pt x="453" y="865"/>
                  </a:lnTo>
                  <a:lnTo>
                    <a:pt x="481" y="845"/>
                  </a:lnTo>
                  <a:lnTo>
                    <a:pt x="514" y="822"/>
                  </a:lnTo>
                  <a:lnTo>
                    <a:pt x="546" y="802"/>
                  </a:lnTo>
                  <a:lnTo>
                    <a:pt x="580" y="780"/>
                  </a:lnTo>
                  <a:lnTo>
                    <a:pt x="616" y="760"/>
                  </a:lnTo>
                  <a:lnTo>
                    <a:pt x="653" y="739"/>
                  </a:lnTo>
                  <a:lnTo>
                    <a:pt x="691" y="719"/>
                  </a:lnTo>
                  <a:lnTo>
                    <a:pt x="730" y="700"/>
                  </a:lnTo>
                  <a:lnTo>
                    <a:pt x="771" y="683"/>
                  </a:lnTo>
                  <a:lnTo>
                    <a:pt x="811" y="666"/>
                  </a:lnTo>
                  <a:lnTo>
                    <a:pt x="856" y="651"/>
                  </a:lnTo>
                  <a:lnTo>
                    <a:pt x="898" y="637"/>
                  </a:lnTo>
                  <a:lnTo>
                    <a:pt x="988" y="615"/>
                  </a:lnTo>
                  <a:lnTo>
                    <a:pt x="1082" y="600"/>
                  </a:lnTo>
                  <a:lnTo>
                    <a:pt x="1262" y="573"/>
                  </a:lnTo>
                  <a:lnTo>
                    <a:pt x="1347" y="557"/>
                  </a:lnTo>
                  <a:lnTo>
                    <a:pt x="1427" y="539"/>
                  </a:lnTo>
                  <a:lnTo>
                    <a:pt x="1503" y="520"/>
                  </a:lnTo>
                  <a:lnTo>
                    <a:pt x="1575" y="499"/>
                  </a:lnTo>
                  <a:lnTo>
                    <a:pt x="1643" y="476"/>
                  </a:lnTo>
                  <a:lnTo>
                    <a:pt x="1707" y="452"/>
                  </a:lnTo>
                  <a:lnTo>
                    <a:pt x="1767" y="428"/>
                  </a:lnTo>
                  <a:lnTo>
                    <a:pt x="1825" y="403"/>
                  </a:lnTo>
                  <a:lnTo>
                    <a:pt x="1877" y="377"/>
                  </a:lnTo>
                  <a:lnTo>
                    <a:pt x="1928" y="351"/>
                  </a:lnTo>
                  <a:lnTo>
                    <a:pt x="1974" y="324"/>
                  </a:lnTo>
                  <a:lnTo>
                    <a:pt x="2017" y="297"/>
                  </a:lnTo>
                  <a:lnTo>
                    <a:pt x="2056" y="270"/>
                  </a:lnTo>
                  <a:lnTo>
                    <a:pt x="2093" y="244"/>
                  </a:lnTo>
                  <a:lnTo>
                    <a:pt x="2129" y="219"/>
                  </a:lnTo>
                  <a:lnTo>
                    <a:pt x="2166" y="193"/>
                  </a:lnTo>
                  <a:lnTo>
                    <a:pt x="2204" y="170"/>
                  </a:lnTo>
                  <a:lnTo>
                    <a:pt x="2243" y="146"/>
                  </a:lnTo>
                  <a:lnTo>
                    <a:pt x="2282" y="124"/>
                  </a:lnTo>
                  <a:lnTo>
                    <a:pt x="2321" y="102"/>
                  </a:lnTo>
                  <a:lnTo>
                    <a:pt x="2364" y="83"/>
                  </a:lnTo>
                  <a:lnTo>
                    <a:pt x="2404" y="64"/>
                  </a:lnTo>
                  <a:lnTo>
                    <a:pt x="2445" y="49"/>
                  </a:lnTo>
                  <a:lnTo>
                    <a:pt x="2486" y="35"/>
                  </a:lnTo>
                  <a:lnTo>
                    <a:pt x="2569" y="13"/>
                  </a:lnTo>
                  <a:lnTo>
                    <a:pt x="2649" y="1"/>
                  </a:lnTo>
                  <a:lnTo>
                    <a:pt x="2727" y="0"/>
                  </a:lnTo>
                  <a:lnTo>
                    <a:pt x="2881" y="15"/>
                  </a:lnTo>
                  <a:lnTo>
                    <a:pt x="3023" y="47"/>
                  </a:lnTo>
                  <a:lnTo>
                    <a:pt x="3086" y="71"/>
                  </a:lnTo>
                  <a:lnTo>
                    <a:pt x="3141" y="100"/>
                  </a:lnTo>
                  <a:lnTo>
                    <a:pt x="3215" y="175"/>
                  </a:lnTo>
                  <a:lnTo>
                    <a:pt x="3265" y="299"/>
                  </a:lnTo>
                  <a:lnTo>
                    <a:pt x="3277" y="481"/>
                  </a:lnTo>
                  <a:lnTo>
                    <a:pt x="3253" y="583"/>
                  </a:lnTo>
                  <a:lnTo>
                    <a:pt x="3229" y="634"/>
                  </a:lnTo>
                  <a:lnTo>
                    <a:pt x="3198" y="686"/>
                  </a:lnTo>
                  <a:lnTo>
                    <a:pt x="3158" y="739"/>
                  </a:lnTo>
                  <a:lnTo>
                    <a:pt x="3107" y="790"/>
                  </a:lnTo>
                  <a:lnTo>
                    <a:pt x="3045" y="841"/>
                  </a:lnTo>
                  <a:lnTo>
                    <a:pt x="3010" y="867"/>
                  </a:lnTo>
                  <a:lnTo>
                    <a:pt x="2972" y="891"/>
                  </a:lnTo>
                  <a:lnTo>
                    <a:pt x="2932" y="914"/>
                  </a:lnTo>
                  <a:lnTo>
                    <a:pt x="2887" y="936"/>
                  </a:lnTo>
                  <a:lnTo>
                    <a:pt x="2843" y="955"/>
                  </a:lnTo>
                  <a:lnTo>
                    <a:pt x="2797" y="974"/>
                  </a:lnTo>
                  <a:lnTo>
                    <a:pt x="2750" y="991"/>
                  </a:lnTo>
                  <a:lnTo>
                    <a:pt x="2700" y="1006"/>
                  </a:lnTo>
                  <a:lnTo>
                    <a:pt x="2651" y="1023"/>
                  </a:lnTo>
                  <a:lnTo>
                    <a:pt x="2600" y="1035"/>
                  </a:lnTo>
                  <a:lnTo>
                    <a:pt x="2496" y="1059"/>
                  </a:lnTo>
                  <a:lnTo>
                    <a:pt x="2391" y="1079"/>
                  </a:lnTo>
                  <a:lnTo>
                    <a:pt x="2284" y="1096"/>
                  </a:lnTo>
                  <a:lnTo>
                    <a:pt x="2178" y="1110"/>
                  </a:lnTo>
                  <a:lnTo>
                    <a:pt x="1976" y="1132"/>
                  </a:lnTo>
                  <a:lnTo>
                    <a:pt x="1792" y="1151"/>
                  </a:lnTo>
                  <a:lnTo>
                    <a:pt x="1529" y="1193"/>
                  </a:lnTo>
                  <a:lnTo>
                    <a:pt x="1483" y="1208"/>
                  </a:lnTo>
                  <a:lnTo>
                    <a:pt x="1432" y="1224"/>
                  </a:lnTo>
                  <a:lnTo>
                    <a:pt x="1378" y="1239"/>
                  </a:lnTo>
                  <a:lnTo>
                    <a:pt x="1320" y="1256"/>
                  </a:lnTo>
                  <a:lnTo>
                    <a:pt x="1257" y="1271"/>
                  </a:lnTo>
                  <a:lnTo>
                    <a:pt x="1194" y="1287"/>
                  </a:lnTo>
                  <a:lnTo>
                    <a:pt x="1128" y="1302"/>
                  </a:lnTo>
                  <a:lnTo>
                    <a:pt x="1063" y="1317"/>
                  </a:lnTo>
                  <a:lnTo>
                    <a:pt x="995" y="1331"/>
                  </a:lnTo>
                  <a:lnTo>
                    <a:pt x="930" y="1343"/>
                  </a:lnTo>
                  <a:lnTo>
                    <a:pt x="799" y="1353"/>
                  </a:lnTo>
                  <a:lnTo>
                    <a:pt x="679" y="1353"/>
                  </a:lnTo>
                  <a:lnTo>
                    <a:pt x="570" y="1353"/>
                  </a:lnTo>
                  <a:lnTo>
                    <a:pt x="410" y="1353"/>
                  </a:lnTo>
                  <a:lnTo>
                    <a:pt x="323" y="1326"/>
                  </a:lnTo>
                  <a:lnTo>
                    <a:pt x="279" y="1287"/>
                  </a:lnTo>
                  <a:lnTo>
                    <a:pt x="216" y="1295"/>
                  </a:lnTo>
                  <a:lnTo>
                    <a:pt x="152" y="1287"/>
                  </a:lnTo>
                  <a:lnTo>
                    <a:pt x="75" y="1251"/>
                  </a:lnTo>
                  <a:lnTo>
                    <a:pt x="0" y="1171"/>
                  </a:lnTo>
                  <a:lnTo>
                    <a:pt x="5" y="1140"/>
                  </a:lnTo>
                  <a:lnTo>
                    <a:pt x="28" y="1157"/>
                  </a:lnTo>
                  <a:lnTo>
                    <a:pt x="51" y="1173"/>
                  </a:lnTo>
                  <a:lnTo>
                    <a:pt x="82" y="1190"/>
                  </a:lnTo>
                  <a:lnTo>
                    <a:pt x="116" y="1207"/>
                  </a:lnTo>
                  <a:lnTo>
                    <a:pt x="152" y="1217"/>
                  </a:lnTo>
                  <a:lnTo>
                    <a:pt x="220" y="1217"/>
                  </a:lnTo>
                  <a:lnTo>
                    <a:pt x="325" y="1188"/>
                  </a:lnTo>
                  <a:lnTo>
                    <a:pt x="378" y="1207"/>
                  </a:lnTo>
                  <a:lnTo>
                    <a:pt x="437" y="1222"/>
                  </a:lnTo>
                  <a:lnTo>
                    <a:pt x="515" y="1239"/>
                  </a:lnTo>
                  <a:lnTo>
                    <a:pt x="606" y="1249"/>
                  </a:lnTo>
                  <a:lnTo>
                    <a:pt x="706" y="1251"/>
                  </a:lnTo>
                  <a:lnTo>
                    <a:pt x="811" y="1239"/>
                  </a:lnTo>
                  <a:lnTo>
                    <a:pt x="918" y="1210"/>
                  </a:lnTo>
                  <a:lnTo>
                    <a:pt x="973" y="1191"/>
                  </a:lnTo>
                  <a:lnTo>
                    <a:pt x="1029" y="1173"/>
                  </a:lnTo>
                  <a:lnTo>
                    <a:pt x="1085" y="1154"/>
                  </a:lnTo>
                  <a:lnTo>
                    <a:pt x="1146" y="1135"/>
                  </a:lnTo>
                  <a:lnTo>
                    <a:pt x="1207" y="1118"/>
                  </a:lnTo>
                  <a:lnTo>
                    <a:pt x="1272" y="1101"/>
                  </a:lnTo>
                  <a:lnTo>
                    <a:pt x="1340" y="1084"/>
                  </a:lnTo>
                  <a:lnTo>
                    <a:pt x="1412" y="1067"/>
                  </a:lnTo>
                  <a:lnTo>
                    <a:pt x="1486" y="1052"/>
                  </a:lnTo>
                  <a:lnTo>
                    <a:pt x="1565" y="1038"/>
                  </a:lnTo>
                  <a:lnTo>
                    <a:pt x="1648" y="1023"/>
                  </a:lnTo>
                  <a:lnTo>
                    <a:pt x="1733" y="1010"/>
                  </a:lnTo>
                  <a:lnTo>
                    <a:pt x="1825" y="996"/>
                  </a:lnTo>
                  <a:lnTo>
                    <a:pt x="1920" y="984"/>
                  </a:lnTo>
                  <a:lnTo>
                    <a:pt x="2129" y="960"/>
                  </a:lnTo>
                  <a:lnTo>
                    <a:pt x="2325" y="940"/>
                  </a:lnTo>
                  <a:lnTo>
                    <a:pt x="2481" y="923"/>
                  </a:lnTo>
                  <a:lnTo>
                    <a:pt x="2700" y="879"/>
                  </a:lnTo>
                  <a:lnTo>
                    <a:pt x="2778" y="846"/>
                  </a:lnTo>
                  <a:lnTo>
                    <a:pt x="2813" y="826"/>
                  </a:lnTo>
                  <a:lnTo>
                    <a:pt x="2843" y="802"/>
                  </a:lnTo>
                  <a:lnTo>
                    <a:pt x="2901" y="744"/>
                  </a:lnTo>
                  <a:lnTo>
                    <a:pt x="2960" y="669"/>
                  </a:lnTo>
                  <a:lnTo>
                    <a:pt x="3011" y="586"/>
                  </a:lnTo>
                  <a:lnTo>
                    <a:pt x="3044" y="508"/>
                  </a:lnTo>
                  <a:lnTo>
                    <a:pt x="3062" y="372"/>
                  </a:lnTo>
                  <a:lnTo>
                    <a:pt x="3051" y="316"/>
                  </a:lnTo>
                  <a:lnTo>
                    <a:pt x="3030" y="266"/>
                  </a:lnTo>
                  <a:lnTo>
                    <a:pt x="2998" y="227"/>
                  </a:lnTo>
                  <a:lnTo>
                    <a:pt x="2960" y="197"/>
                  </a:lnTo>
                  <a:lnTo>
                    <a:pt x="2913" y="176"/>
                  </a:lnTo>
                  <a:lnTo>
                    <a:pt x="2853" y="161"/>
                  </a:lnTo>
                  <a:lnTo>
                    <a:pt x="2707" y="156"/>
                  </a:lnTo>
                  <a:lnTo>
                    <a:pt x="2532" y="181"/>
                  </a:lnTo>
                  <a:lnTo>
                    <a:pt x="2440" y="209"/>
                  </a:lnTo>
                  <a:lnTo>
                    <a:pt x="2391" y="224"/>
                  </a:lnTo>
                  <a:lnTo>
                    <a:pt x="2343" y="244"/>
                  </a:lnTo>
                  <a:lnTo>
                    <a:pt x="2294" y="266"/>
                  </a:lnTo>
                  <a:lnTo>
                    <a:pt x="2245" y="292"/>
                  </a:lnTo>
                  <a:lnTo>
                    <a:pt x="2194" y="321"/>
                  </a:lnTo>
                  <a:lnTo>
                    <a:pt x="2170" y="334"/>
                  </a:lnTo>
                  <a:lnTo>
                    <a:pt x="2144" y="350"/>
                  </a:lnTo>
                  <a:lnTo>
                    <a:pt x="2119" y="365"/>
                  </a:lnTo>
                  <a:lnTo>
                    <a:pt x="2095" y="380"/>
                  </a:lnTo>
                  <a:lnTo>
                    <a:pt x="2071" y="396"/>
                  </a:lnTo>
                  <a:lnTo>
                    <a:pt x="2046" y="413"/>
                  </a:lnTo>
                  <a:lnTo>
                    <a:pt x="2024" y="428"/>
                  </a:lnTo>
                  <a:lnTo>
                    <a:pt x="2001" y="443"/>
                  </a:lnTo>
                  <a:lnTo>
                    <a:pt x="1978" y="459"/>
                  </a:lnTo>
                  <a:lnTo>
                    <a:pt x="1956" y="476"/>
                  </a:lnTo>
                  <a:lnTo>
                    <a:pt x="1937" y="491"/>
                  </a:lnTo>
                  <a:lnTo>
                    <a:pt x="1915" y="505"/>
                  </a:lnTo>
                  <a:lnTo>
                    <a:pt x="1877" y="532"/>
                  </a:lnTo>
                  <a:lnTo>
                    <a:pt x="1816" y="579"/>
                  </a:lnTo>
                  <a:lnTo>
                    <a:pt x="1762" y="624"/>
                  </a:lnTo>
                  <a:lnTo>
                    <a:pt x="1653" y="646"/>
                  </a:lnTo>
                  <a:lnTo>
                    <a:pt x="1536" y="669"/>
                  </a:lnTo>
                  <a:lnTo>
                    <a:pt x="1469" y="683"/>
                  </a:lnTo>
                  <a:lnTo>
                    <a:pt x="1396" y="698"/>
                  </a:lnTo>
                  <a:lnTo>
                    <a:pt x="1323" y="714"/>
                  </a:lnTo>
                  <a:lnTo>
                    <a:pt x="1248" y="729"/>
                  </a:lnTo>
                  <a:lnTo>
                    <a:pt x="1175" y="744"/>
                  </a:lnTo>
                  <a:lnTo>
                    <a:pt x="1104" y="761"/>
                  </a:lnTo>
                  <a:lnTo>
                    <a:pt x="978" y="788"/>
                  </a:lnTo>
                  <a:lnTo>
                    <a:pt x="883" y="809"/>
                  </a:lnTo>
                  <a:lnTo>
                    <a:pt x="798" y="834"/>
                  </a:lnTo>
                  <a:lnTo>
                    <a:pt x="747" y="853"/>
                  </a:lnTo>
                  <a:lnTo>
                    <a:pt x="694" y="873"/>
                  </a:lnTo>
                  <a:lnTo>
                    <a:pt x="638" y="894"/>
                  </a:lnTo>
                  <a:lnTo>
                    <a:pt x="582" y="918"/>
                  </a:lnTo>
                  <a:lnTo>
                    <a:pt x="524" y="942"/>
                  </a:lnTo>
                  <a:lnTo>
                    <a:pt x="470" y="967"/>
                  </a:lnTo>
                  <a:lnTo>
                    <a:pt x="415" y="989"/>
                  </a:lnTo>
                  <a:lnTo>
                    <a:pt x="366" y="1013"/>
                  </a:lnTo>
                  <a:lnTo>
                    <a:pt x="320" y="1033"/>
                  </a:lnTo>
                  <a:lnTo>
                    <a:pt x="281" y="1052"/>
                  </a:lnTo>
                  <a:lnTo>
                    <a:pt x="225" y="1078"/>
                  </a:lnTo>
                  <a:lnTo>
                    <a:pt x="203" y="1089"/>
                  </a:lnTo>
                  <a:lnTo>
                    <a:pt x="203" y="10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761400">
              <a:off x="3157200" y="4503600"/>
              <a:ext cx="77760" cy="125640"/>
            </a:xfrm>
            <a:custGeom>
              <a:avLst/>
              <a:gdLst/>
              <a:ahLst/>
              <a:rect l="l" t="t" r="r" b="b"/>
              <a:pathLst>
                <a:path w="98" h="156">
                  <a:moveTo>
                    <a:pt x="45" y="0"/>
                  </a:moveTo>
                  <a:lnTo>
                    <a:pt x="0" y="81"/>
                  </a:lnTo>
                  <a:lnTo>
                    <a:pt x="93" y="156"/>
                  </a:lnTo>
                  <a:lnTo>
                    <a:pt x="98" y="119"/>
                  </a:lnTo>
                  <a:lnTo>
                    <a:pt x="93" y="63"/>
                  </a:lnTo>
                  <a:lnTo>
                    <a:pt x="62" y="23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761400">
              <a:off x="3438720" y="4416480"/>
              <a:ext cx="123840" cy="142920"/>
            </a:xfrm>
            <a:custGeom>
              <a:avLst/>
              <a:gdLst/>
              <a:ahLst/>
              <a:rect l="l" t="t" r="r" b="b"/>
              <a:pathLst>
                <a:path w="155" h="181">
                  <a:moveTo>
                    <a:pt x="0" y="0"/>
                  </a:moveTo>
                  <a:lnTo>
                    <a:pt x="68" y="14"/>
                  </a:lnTo>
                  <a:lnTo>
                    <a:pt x="119" y="35"/>
                  </a:lnTo>
                  <a:lnTo>
                    <a:pt x="152" y="65"/>
                  </a:lnTo>
                  <a:lnTo>
                    <a:pt x="155" y="140"/>
                  </a:lnTo>
                  <a:lnTo>
                    <a:pt x="140" y="181"/>
                  </a:lnTo>
                  <a:lnTo>
                    <a:pt x="101" y="152"/>
                  </a:lnTo>
                  <a:lnTo>
                    <a:pt x="94" y="116"/>
                  </a:lnTo>
                  <a:lnTo>
                    <a:pt x="84" y="87"/>
                  </a:lnTo>
                  <a:lnTo>
                    <a:pt x="65" y="65"/>
                  </a:lnTo>
                  <a:lnTo>
                    <a:pt x="22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61400">
              <a:off x="3702960" y="4490280"/>
              <a:ext cx="115920" cy="174600"/>
            </a:xfrm>
            <a:custGeom>
              <a:avLst/>
              <a:gdLst/>
              <a:ahLst/>
              <a:rect l="l" t="t" r="r" b="b"/>
              <a:pathLst>
                <a:path w="146" h="221">
                  <a:moveTo>
                    <a:pt x="28" y="0"/>
                  </a:moveTo>
                  <a:lnTo>
                    <a:pt x="0" y="115"/>
                  </a:lnTo>
                  <a:lnTo>
                    <a:pt x="127" y="221"/>
                  </a:lnTo>
                  <a:lnTo>
                    <a:pt x="146" y="12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761400">
              <a:off x="4398120" y="4423680"/>
              <a:ext cx="185760" cy="201600"/>
            </a:xfrm>
            <a:custGeom>
              <a:avLst/>
              <a:gdLst/>
              <a:ahLst/>
              <a:rect l="l" t="t" r="r" b="b"/>
              <a:pathLst>
                <a:path w="233" h="255">
                  <a:moveTo>
                    <a:pt x="0" y="22"/>
                  </a:moveTo>
                  <a:lnTo>
                    <a:pt x="17" y="13"/>
                  </a:lnTo>
                  <a:lnTo>
                    <a:pt x="59" y="0"/>
                  </a:lnTo>
                  <a:lnTo>
                    <a:pt x="112" y="0"/>
                  </a:lnTo>
                  <a:lnTo>
                    <a:pt x="156" y="27"/>
                  </a:lnTo>
                  <a:lnTo>
                    <a:pt x="192" y="88"/>
                  </a:lnTo>
                  <a:lnTo>
                    <a:pt x="223" y="161"/>
                  </a:lnTo>
                  <a:lnTo>
                    <a:pt x="233" y="222"/>
                  </a:lnTo>
                  <a:lnTo>
                    <a:pt x="214" y="255"/>
                  </a:lnTo>
                  <a:lnTo>
                    <a:pt x="172" y="253"/>
                  </a:lnTo>
                  <a:lnTo>
                    <a:pt x="127" y="239"/>
                  </a:lnTo>
                  <a:lnTo>
                    <a:pt x="93" y="222"/>
                  </a:lnTo>
                  <a:lnTo>
                    <a:pt x="80" y="214"/>
                  </a:lnTo>
                  <a:lnTo>
                    <a:pt x="95" y="181"/>
                  </a:lnTo>
                  <a:lnTo>
                    <a:pt x="97" y="147"/>
                  </a:lnTo>
                  <a:lnTo>
                    <a:pt x="80" y="108"/>
                  </a:lnTo>
                  <a:lnTo>
                    <a:pt x="25" y="45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761400">
              <a:off x="4920840" y="4240080"/>
              <a:ext cx="155520" cy="168120"/>
            </a:xfrm>
            <a:custGeom>
              <a:avLst/>
              <a:gdLst/>
              <a:ahLst/>
              <a:rect l="l" t="t" r="r" b="b"/>
              <a:pathLst>
                <a:path w="198" h="213">
                  <a:moveTo>
                    <a:pt x="0" y="3"/>
                  </a:moveTo>
                  <a:lnTo>
                    <a:pt x="58" y="0"/>
                  </a:lnTo>
                  <a:lnTo>
                    <a:pt x="147" y="27"/>
                  </a:lnTo>
                  <a:lnTo>
                    <a:pt x="181" y="73"/>
                  </a:lnTo>
                  <a:lnTo>
                    <a:pt x="196" y="136"/>
                  </a:lnTo>
                  <a:lnTo>
                    <a:pt x="198" y="213"/>
                  </a:lnTo>
                  <a:lnTo>
                    <a:pt x="162" y="184"/>
                  </a:lnTo>
                  <a:lnTo>
                    <a:pt x="87" y="102"/>
                  </a:lnTo>
                  <a:lnTo>
                    <a:pt x="51" y="58"/>
                  </a:lnTo>
                  <a:lnTo>
                    <a:pt x="24" y="27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761400">
              <a:off x="4891320" y="4481280"/>
              <a:ext cx="136800" cy="263520"/>
            </a:xfrm>
            <a:custGeom>
              <a:avLst/>
              <a:gdLst/>
              <a:ahLst/>
              <a:rect l="l" t="t" r="r" b="b"/>
              <a:pathLst>
                <a:path w="173" h="332">
                  <a:moveTo>
                    <a:pt x="159" y="332"/>
                  </a:moveTo>
                  <a:lnTo>
                    <a:pt x="105" y="284"/>
                  </a:lnTo>
                  <a:lnTo>
                    <a:pt x="42" y="175"/>
                  </a:lnTo>
                  <a:lnTo>
                    <a:pt x="45" y="136"/>
                  </a:lnTo>
                  <a:lnTo>
                    <a:pt x="64" y="129"/>
                  </a:lnTo>
                  <a:lnTo>
                    <a:pt x="95" y="146"/>
                  </a:lnTo>
                  <a:lnTo>
                    <a:pt x="30" y="95"/>
                  </a:lnTo>
                  <a:lnTo>
                    <a:pt x="0" y="51"/>
                  </a:lnTo>
                  <a:lnTo>
                    <a:pt x="13" y="12"/>
                  </a:lnTo>
                  <a:lnTo>
                    <a:pt x="37" y="0"/>
                  </a:lnTo>
                  <a:lnTo>
                    <a:pt x="61" y="2"/>
                  </a:lnTo>
                  <a:lnTo>
                    <a:pt x="102" y="32"/>
                  </a:lnTo>
                  <a:lnTo>
                    <a:pt x="164" y="139"/>
                  </a:lnTo>
                  <a:lnTo>
                    <a:pt x="173" y="262"/>
                  </a:lnTo>
                  <a:lnTo>
                    <a:pt x="159" y="332"/>
                  </a:lnTo>
                  <a:lnTo>
                    <a:pt x="159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761400">
              <a:off x="5370120" y="3380400"/>
              <a:ext cx="1398600" cy="753840"/>
            </a:xfrm>
            <a:custGeom>
              <a:avLst/>
              <a:gdLst/>
              <a:ahLst/>
              <a:rect l="l" t="t" r="r" b="b"/>
              <a:pathLst>
                <a:path w="1761" h="950">
                  <a:moveTo>
                    <a:pt x="0" y="933"/>
                  </a:moveTo>
                  <a:lnTo>
                    <a:pt x="32" y="775"/>
                  </a:lnTo>
                  <a:lnTo>
                    <a:pt x="56" y="712"/>
                  </a:lnTo>
                  <a:lnTo>
                    <a:pt x="88" y="651"/>
                  </a:lnTo>
                  <a:lnTo>
                    <a:pt x="132" y="599"/>
                  </a:lnTo>
                  <a:lnTo>
                    <a:pt x="158" y="578"/>
                  </a:lnTo>
                  <a:lnTo>
                    <a:pt x="187" y="561"/>
                  </a:lnTo>
                  <a:lnTo>
                    <a:pt x="245" y="539"/>
                  </a:lnTo>
                  <a:lnTo>
                    <a:pt x="297" y="527"/>
                  </a:lnTo>
                  <a:lnTo>
                    <a:pt x="381" y="527"/>
                  </a:lnTo>
                  <a:lnTo>
                    <a:pt x="454" y="549"/>
                  </a:lnTo>
                  <a:lnTo>
                    <a:pt x="462" y="391"/>
                  </a:lnTo>
                  <a:lnTo>
                    <a:pt x="481" y="325"/>
                  </a:lnTo>
                  <a:lnTo>
                    <a:pt x="513" y="260"/>
                  </a:lnTo>
                  <a:lnTo>
                    <a:pt x="561" y="201"/>
                  </a:lnTo>
                  <a:lnTo>
                    <a:pt x="591" y="175"/>
                  </a:lnTo>
                  <a:lnTo>
                    <a:pt x="629" y="153"/>
                  </a:lnTo>
                  <a:lnTo>
                    <a:pt x="668" y="136"/>
                  </a:lnTo>
                  <a:lnTo>
                    <a:pt x="707" y="122"/>
                  </a:lnTo>
                  <a:lnTo>
                    <a:pt x="782" y="105"/>
                  </a:lnTo>
                  <a:lnTo>
                    <a:pt x="921" y="105"/>
                  </a:lnTo>
                  <a:lnTo>
                    <a:pt x="1027" y="129"/>
                  </a:lnTo>
                  <a:lnTo>
                    <a:pt x="1083" y="153"/>
                  </a:lnTo>
                  <a:lnTo>
                    <a:pt x="1108" y="168"/>
                  </a:lnTo>
                  <a:lnTo>
                    <a:pt x="1130" y="180"/>
                  </a:lnTo>
                  <a:lnTo>
                    <a:pt x="1153" y="189"/>
                  </a:lnTo>
                  <a:lnTo>
                    <a:pt x="1176" y="141"/>
                  </a:lnTo>
                  <a:lnTo>
                    <a:pt x="1207" y="95"/>
                  </a:lnTo>
                  <a:lnTo>
                    <a:pt x="1251" y="51"/>
                  </a:lnTo>
                  <a:lnTo>
                    <a:pt x="1280" y="31"/>
                  </a:lnTo>
                  <a:lnTo>
                    <a:pt x="1311" y="15"/>
                  </a:lnTo>
                  <a:lnTo>
                    <a:pt x="1346" y="5"/>
                  </a:lnTo>
                  <a:lnTo>
                    <a:pt x="1386" y="0"/>
                  </a:lnTo>
                  <a:lnTo>
                    <a:pt x="1476" y="14"/>
                  </a:lnTo>
                  <a:lnTo>
                    <a:pt x="1527" y="34"/>
                  </a:lnTo>
                  <a:lnTo>
                    <a:pt x="1583" y="66"/>
                  </a:lnTo>
                  <a:lnTo>
                    <a:pt x="1676" y="148"/>
                  </a:lnTo>
                  <a:lnTo>
                    <a:pt x="1732" y="238"/>
                  </a:lnTo>
                  <a:lnTo>
                    <a:pt x="1760" y="326"/>
                  </a:lnTo>
                  <a:lnTo>
                    <a:pt x="1761" y="413"/>
                  </a:lnTo>
                  <a:lnTo>
                    <a:pt x="1751" y="490"/>
                  </a:lnTo>
                  <a:lnTo>
                    <a:pt x="1734" y="553"/>
                  </a:lnTo>
                  <a:lnTo>
                    <a:pt x="1710" y="609"/>
                  </a:lnTo>
                  <a:lnTo>
                    <a:pt x="1709" y="406"/>
                  </a:lnTo>
                  <a:lnTo>
                    <a:pt x="1693" y="326"/>
                  </a:lnTo>
                  <a:lnTo>
                    <a:pt x="1661" y="252"/>
                  </a:lnTo>
                  <a:lnTo>
                    <a:pt x="1613" y="189"/>
                  </a:lnTo>
                  <a:lnTo>
                    <a:pt x="1596" y="177"/>
                  </a:lnTo>
                  <a:lnTo>
                    <a:pt x="1581" y="165"/>
                  </a:lnTo>
                  <a:lnTo>
                    <a:pt x="1542" y="148"/>
                  </a:lnTo>
                  <a:lnTo>
                    <a:pt x="1462" y="133"/>
                  </a:lnTo>
                  <a:lnTo>
                    <a:pt x="1391" y="143"/>
                  </a:lnTo>
                  <a:lnTo>
                    <a:pt x="1326" y="170"/>
                  </a:lnTo>
                  <a:lnTo>
                    <a:pt x="1299" y="187"/>
                  </a:lnTo>
                  <a:lnTo>
                    <a:pt x="1273" y="207"/>
                  </a:lnTo>
                  <a:lnTo>
                    <a:pt x="1197" y="286"/>
                  </a:lnTo>
                  <a:lnTo>
                    <a:pt x="1170" y="323"/>
                  </a:lnTo>
                  <a:lnTo>
                    <a:pt x="1153" y="299"/>
                  </a:lnTo>
                  <a:lnTo>
                    <a:pt x="1102" y="247"/>
                  </a:lnTo>
                  <a:lnTo>
                    <a:pt x="1083" y="233"/>
                  </a:lnTo>
                  <a:lnTo>
                    <a:pt x="1064" y="219"/>
                  </a:lnTo>
                  <a:lnTo>
                    <a:pt x="1042" y="206"/>
                  </a:lnTo>
                  <a:lnTo>
                    <a:pt x="1017" y="194"/>
                  </a:lnTo>
                  <a:lnTo>
                    <a:pt x="964" y="179"/>
                  </a:lnTo>
                  <a:lnTo>
                    <a:pt x="903" y="170"/>
                  </a:lnTo>
                  <a:lnTo>
                    <a:pt x="789" y="192"/>
                  </a:lnTo>
                  <a:lnTo>
                    <a:pt x="743" y="216"/>
                  </a:lnTo>
                  <a:lnTo>
                    <a:pt x="705" y="248"/>
                  </a:lnTo>
                  <a:lnTo>
                    <a:pt x="648" y="333"/>
                  </a:lnTo>
                  <a:lnTo>
                    <a:pt x="605" y="439"/>
                  </a:lnTo>
                  <a:lnTo>
                    <a:pt x="568" y="604"/>
                  </a:lnTo>
                  <a:lnTo>
                    <a:pt x="564" y="655"/>
                  </a:lnTo>
                  <a:lnTo>
                    <a:pt x="540" y="634"/>
                  </a:lnTo>
                  <a:lnTo>
                    <a:pt x="513" y="614"/>
                  </a:lnTo>
                  <a:lnTo>
                    <a:pt x="478" y="595"/>
                  </a:lnTo>
                  <a:lnTo>
                    <a:pt x="438" y="578"/>
                  </a:lnTo>
                  <a:lnTo>
                    <a:pt x="396" y="571"/>
                  </a:lnTo>
                  <a:lnTo>
                    <a:pt x="352" y="575"/>
                  </a:lnTo>
                  <a:lnTo>
                    <a:pt x="309" y="597"/>
                  </a:lnTo>
                  <a:lnTo>
                    <a:pt x="229" y="687"/>
                  </a:lnTo>
                  <a:lnTo>
                    <a:pt x="195" y="745"/>
                  </a:lnTo>
                  <a:lnTo>
                    <a:pt x="165" y="804"/>
                  </a:lnTo>
                  <a:lnTo>
                    <a:pt x="122" y="908"/>
                  </a:lnTo>
                  <a:lnTo>
                    <a:pt x="105" y="950"/>
                  </a:lnTo>
                  <a:lnTo>
                    <a:pt x="0" y="933"/>
                  </a:lnTo>
                  <a:lnTo>
                    <a:pt x="0" y="9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761400">
              <a:off x="5447520" y="3852000"/>
              <a:ext cx="171720" cy="258840"/>
            </a:xfrm>
            <a:custGeom>
              <a:avLst/>
              <a:gdLst/>
              <a:ahLst/>
              <a:rect l="l" t="t" r="r" b="b"/>
              <a:pathLst>
                <a:path w="216" h="327">
                  <a:moveTo>
                    <a:pt x="216" y="0"/>
                  </a:moveTo>
                  <a:lnTo>
                    <a:pt x="53" y="106"/>
                  </a:lnTo>
                  <a:lnTo>
                    <a:pt x="3" y="255"/>
                  </a:lnTo>
                  <a:lnTo>
                    <a:pt x="0" y="327"/>
                  </a:lnTo>
                  <a:lnTo>
                    <a:pt x="139" y="303"/>
                  </a:lnTo>
                  <a:lnTo>
                    <a:pt x="134" y="140"/>
                  </a:lnTo>
                  <a:lnTo>
                    <a:pt x="160" y="80"/>
                  </a:lnTo>
                  <a:lnTo>
                    <a:pt x="185" y="36"/>
                  </a:lnTo>
                  <a:lnTo>
                    <a:pt x="216" y="0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761400">
              <a:off x="5637240" y="3985920"/>
              <a:ext cx="519120" cy="270000"/>
            </a:xfrm>
            <a:custGeom>
              <a:avLst/>
              <a:gdLst/>
              <a:ahLst/>
              <a:rect l="l" t="t" r="r" b="b"/>
              <a:pathLst>
                <a:path w="653" h="338">
                  <a:moveTo>
                    <a:pt x="0" y="338"/>
                  </a:moveTo>
                  <a:lnTo>
                    <a:pt x="13" y="240"/>
                  </a:lnTo>
                  <a:lnTo>
                    <a:pt x="51" y="148"/>
                  </a:lnTo>
                  <a:lnTo>
                    <a:pt x="85" y="98"/>
                  </a:lnTo>
                  <a:lnTo>
                    <a:pt x="127" y="53"/>
                  </a:lnTo>
                  <a:lnTo>
                    <a:pt x="155" y="32"/>
                  </a:lnTo>
                  <a:lnTo>
                    <a:pt x="182" y="17"/>
                  </a:lnTo>
                  <a:lnTo>
                    <a:pt x="243" y="0"/>
                  </a:lnTo>
                  <a:lnTo>
                    <a:pt x="367" y="8"/>
                  </a:lnTo>
                  <a:lnTo>
                    <a:pt x="427" y="27"/>
                  </a:lnTo>
                  <a:lnTo>
                    <a:pt x="484" y="49"/>
                  </a:lnTo>
                  <a:lnTo>
                    <a:pt x="532" y="73"/>
                  </a:lnTo>
                  <a:lnTo>
                    <a:pt x="571" y="92"/>
                  </a:lnTo>
                  <a:lnTo>
                    <a:pt x="620" y="134"/>
                  </a:lnTo>
                  <a:lnTo>
                    <a:pt x="644" y="184"/>
                  </a:lnTo>
                  <a:lnTo>
                    <a:pt x="653" y="238"/>
                  </a:lnTo>
                  <a:lnTo>
                    <a:pt x="620" y="209"/>
                  </a:lnTo>
                  <a:lnTo>
                    <a:pt x="583" y="180"/>
                  </a:lnTo>
                  <a:lnTo>
                    <a:pt x="561" y="165"/>
                  </a:lnTo>
                  <a:lnTo>
                    <a:pt x="537" y="148"/>
                  </a:lnTo>
                  <a:lnTo>
                    <a:pt x="512" y="132"/>
                  </a:lnTo>
                  <a:lnTo>
                    <a:pt x="484" y="119"/>
                  </a:lnTo>
                  <a:lnTo>
                    <a:pt x="456" y="105"/>
                  </a:lnTo>
                  <a:lnTo>
                    <a:pt x="427" y="95"/>
                  </a:lnTo>
                  <a:lnTo>
                    <a:pt x="367" y="85"/>
                  </a:lnTo>
                  <a:lnTo>
                    <a:pt x="309" y="92"/>
                  </a:lnTo>
                  <a:lnTo>
                    <a:pt x="257" y="115"/>
                  </a:lnTo>
                  <a:lnTo>
                    <a:pt x="214" y="146"/>
                  </a:lnTo>
                  <a:lnTo>
                    <a:pt x="153" y="221"/>
                  </a:lnTo>
                  <a:lnTo>
                    <a:pt x="110" y="314"/>
                  </a:lnTo>
                  <a:lnTo>
                    <a:pt x="0" y="338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761400">
              <a:off x="5432400" y="4100040"/>
              <a:ext cx="420840" cy="301680"/>
            </a:xfrm>
            <a:custGeom>
              <a:avLst/>
              <a:gdLst/>
              <a:ahLst/>
              <a:rect l="l" t="t" r="r" b="b"/>
              <a:pathLst>
                <a:path w="528" h="379">
                  <a:moveTo>
                    <a:pt x="528" y="0"/>
                  </a:moveTo>
                  <a:lnTo>
                    <a:pt x="498" y="27"/>
                  </a:lnTo>
                  <a:lnTo>
                    <a:pt x="421" y="88"/>
                  </a:lnTo>
                  <a:lnTo>
                    <a:pt x="398" y="107"/>
                  </a:lnTo>
                  <a:lnTo>
                    <a:pt x="372" y="124"/>
                  </a:lnTo>
                  <a:lnTo>
                    <a:pt x="346" y="143"/>
                  </a:lnTo>
                  <a:lnTo>
                    <a:pt x="321" y="160"/>
                  </a:lnTo>
                  <a:lnTo>
                    <a:pt x="294" y="175"/>
                  </a:lnTo>
                  <a:lnTo>
                    <a:pt x="268" y="189"/>
                  </a:lnTo>
                  <a:lnTo>
                    <a:pt x="221" y="209"/>
                  </a:lnTo>
                  <a:lnTo>
                    <a:pt x="176" y="223"/>
                  </a:lnTo>
                  <a:lnTo>
                    <a:pt x="134" y="235"/>
                  </a:lnTo>
                  <a:lnTo>
                    <a:pt x="64" y="252"/>
                  </a:lnTo>
                  <a:lnTo>
                    <a:pt x="0" y="262"/>
                  </a:lnTo>
                  <a:lnTo>
                    <a:pt x="29" y="379"/>
                  </a:lnTo>
                  <a:lnTo>
                    <a:pt x="149" y="355"/>
                  </a:lnTo>
                  <a:lnTo>
                    <a:pt x="204" y="335"/>
                  </a:lnTo>
                  <a:lnTo>
                    <a:pt x="263" y="308"/>
                  </a:lnTo>
                  <a:lnTo>
                    <a:pt x="295" y="291"/>
                  </a:lnTo>
                  <a:lnTo>
                    <a:pt x="324" y="270"/>
                  </a:lnTo>
                  <a:lnTo>
                    <a:pt x="384" y="221"/>
                  </a:lnTo>
                  <a:lnTo>
                    <a:pt x="471" y="124"/>
                  </a:lnTo>
                  <a:lnTo>
                    <a:pt x="513" y="56"/>
                  </a:lnTo>
                  <a:lnTo>
                    <a:pt x="528" y="0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761400">
              <a:off x="5852520" y="4296240"/>
              <a:ext cx="236520" cy="145800"/>
            </a:xfrm>
            <a:custGeom>
              <a:avLst/>
              <a:gdLst/>
              <a:ahLst/>
              <a:rect l="l" t="t" r="r" b="b"/>
              <a:pathLst>
                <a:path w="297" h="186">
                  <a:moveTo>
                    <a:pt x="18" y="0"/>
                  </a:moveTo>
                  <a:lnTo>
                    <a:pt x="25" y="21"/>
                  </a:lnTo>
                  <a:lnTo>
                    <a:pt x="49" y="58"/>
                  </a:lnTo>
                  <a:lnTo>
                    <a:pt x="71" y="75"/>
                  </a:lnTo>
                  <a:lnTo>
                    <a:pt x="102" y="84"/>
                  </a:lnTo>
                  <a:lnTo>
                    <a:pt x="192" y="65"/>
                  </a:lnTo>
                  <a:lnTo>
                    <a:pt x="241" y="46"/>
                  </a:lnTo>
                  <a:lnTo>
                    <a:pt x="272" y="46"/>
                  </a:lnTo>
                  <a:lnTo>
                    <a:pt x="297" y="73"/>
                  </a:lnTo>
                  <a:lnTo>
                    <a:pt x="292" y="114"/>
                  </a:lnTo>
                  <a:lnTo>
                    <a:pt x="287" y="135"/>
                  </a:lnTo>
                  <a:lnTo>
                    <a:pt x="241" y="175"/>
                  </a:lnTo>
                  <a:lnTo>
                    <a:pt x="214" y="184"/>
                  </a:lnTo>
                  <a:lnTo>
                    <a:pt x="180" y="186"/>
                  </a:lnTo>
                  <a:lnTo>
                    <a:pt x="88" y="152"/>
                  </a:lnTo>
                  <a:lnTo>
                    <a:pt x="15" y="92"/>
                  </a:lnTo>
                  <a:lnTo>
                    <a:pt x="0" y="43"/>
                  </a:lnTo>
                  <a:lnTo>
                    <a:pt x="10" y="11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761400">
              <a:off x="5502960" y="3762000"/>
              <a:ext cx="1406520" cy="966960"/>
            </a:xfrm>
            <a:custGeom>
              <a:avLst/>
              <a:gdLst/>
              <a:ahLst/>
              <a:rect l="l" t="t" r="r" b="b"/>
              <a:pathLst>
                <a:path w="1772" h="1218">
                  <a:moveTo>
                    <a:pt x="570" y="366"/>
                  </a:moveTo>
                  <a:lnTo>
                    <a:pt x="558" y="198"/>
                  </a:lnTo>
                  <a:lnTo>
                    <a:pt x="584" y="154"/>
                  </a:lnTo>
                  <a:lnTo>
                    <a:pt x="618" y="109"/>
                  </a:lnTo>
                  <a:lnTo>
                    <a:pt x="657" y="72"/>
                  </a:lnTo>
                  <a:lnTo>
                    <a:pt x="679" y="55"/>
                  </a:lnTo>
                  <a:lnTo>
                    <a:pt x="703" y="41"/>
                  </a:lnTo>
                  <a:lnTo>
                    <a:pt x="726" y="26"/>
                  </a:lnTo>
                  <a:lnTo>
                    <a:pt x="755" y="16"/>
                  </a:lnTo>
                  <a:lnTo>
                    <a:pt x="811" y="0"/>
                  </a:lnTo>
                  <a:lnTo>
                    <a:pt x="942" y="6"/>
                  </a:lnTo>
                  <a:lnTo>
                    <a:pt x="1010" y="26"/>
                  </a:lnTo>
                  <a:lnTo>
                    <a:pt x="1070" y="55"/>
                  </a:lnTo>
                  <a:lnTo>
                    <a:pt x="1097" y="72"/>
                  </a:lnTo>
                  <a:lnTo>
                    <a:pt x="1124" y="89"/>
                  </a:lnTo>
                  <a:lnTo>
                    <a:pt x="1170" y="125"/>
                  </a:lnTo>
                  <a:lnTo>
                    <a:pt x="1233" y="188"/>
                  </a:lnTo>
                  <a:lnTo>
                    <a:pt x="1257" y="215"/>
                  </a:lnTo>
                  <a:lnTo>
                    <a:pt x="1412" y="232"/>
                  </a:lnTo>
                  <a:lnTo>
                    <a:pt x="1478" y="254"/>
                  </a:lnTo>
                  <a:lnTo>
                    <a:pt x="1546" y="290"/>
                  </a:lnTo>
                  <a:lnTo>
                    <a:pt x="1663" y="414"/>
                  </a:lnTo>
                  <a:lnTo>
                    <a:pt x="1706" y="492"/>
                  </a:lnTo>
                  <a:lnTo>
                    <a:pt x="1740" y="565"/>
                  </a:lnTo>
                  <a:lnTo>
                    <a:pt x="1772" y="689"/>
                  </a:lnTo>
                  <a:lnTo>
                    <a:pt x="1757" y="786"/>
                  </a:lnTo>
                  <a:lnTo>
                    <a:pt x="1731" y="823"/>
                  </a:lnTo>
                  <a:lnTo>
                    <a:pt x="1692" y="856"/>
                  </a:lnTo>
                  <a:lnTo>
                    <a:pt x="1648" y="878"/>
                  </a:lnTo>
                  <a:lnTo>
                    <a:pt x="1609" y="888"/>
                  </a:lnTo>
                  <a:lnTo>
                    <a:pt x="1539" y="885"/>
                  </a:lnTo>
                  <a:lnTo>
                    <a:pt x="1493" y="866"/>
                  </a:lnTo>
                  <a:lnTo>
                    <a:pt x="1478" y="856"/>
                  </a:lnTo>
                  <a:lnTo>
                    <a:pt x="1502" y="890"/>
                  </a:lnTo>
                  <a:lnTo>
                    <a:pt x="1531" y="973"/>
                  </a:lnTo>
                  <a:lnTo>
                    <a:pt x="1529" y="1021"/>
                  </a:lnTo>
                  <a:lnTo>
                    <a:pt x="1505" y="1067"/>
                  </a:lnTo>
                  <a:lnTo>
                    <a:pt x="1451" y="1109"/>
                  </a:lnTo>
                  <a:lnTo>
                    <a:pt x="1412" y="1126"/>
                  </a:lnTo>
                  <a:lnTo>
                    <a:pt x="1361" y="1141"/>
                  </a:lnTo>
                  <a:lnTo>
                    <a:pt x="1264" y="1157"/>
                  </a:lnTo>
                  <a:lnTo>
                    <a:pt x="1189" y="1155"/>
                  </a:lnTo>
                  <a:lnTo>
                    <a:pt x="1136" y="1140"/>
                  </a:lnTo>
                  <a:lnTo>
                    <a:pt x="1102" y="1118"/>
                  </a:lnTo>
                  <a:lnTo>
                    <a:pt x="1070" y="1067"/>
                  </a:lnTo>
                  <a:lnTo>
                    <a:pt x="1065" y="1041"/>
                  </a:lnTo>
                  <a:lnTo>
                    <a:pt x="1051" y="1079"/>
                  </a:lnTo>
                  <a:lnTo>
                    <a:pt x="1031" y="1113"/>
                  </a:lnTo>
                  <a:lnTo>
                    <a:pt x="1000" y="1150"/>
                  </a:lnTo>
                  <a:lnTo>
                    <a:pt x="980" y="1167"/>
                  </a:lnTo>
                  <a:lnTo>
                    <a:pt x="956" y="1182"/>
                  </a:lnTo>
                  <a:lnTo>
                    <a:pt x="927" y="1196"/>
                  </a:lnTo>
                  <a:lnTo>
                    <a:pt x="895" y="1204"/>
                  </a:lnTo>
                  <a:lnTo>
                    <a:pt x="818" y="1208"/>
                  </a:lnTo>
                  <a:lnTo>
                    <a:pt x="721" y="1187"/>
                  </a:lnTo>
                  <a:lnTo>
                    <a:pt x="672" y="1170"/>
                  </a:lnTo>
                  <a:lnTo>
                    <a:pt x="631" y="1152"/>
                  </a:lnTo>
                  <a:lnTo>
                    <a:pt x="568" y="1118"/>
                  </a:lnTo>
                  <a:lnTo>
                    <a:pt x="510" y="1053"/>
                  </a:lnTo>
                  <a:lnTo>
                    <a:pt x="505" y="1007"/>
                  </a:lnTo>
                  <a:lnTo>
                    <a:pt x="512" y="990"/>
                  </a:lnTo>
                  <a:lnTo>
                    <a:pt x="478" y="999"/>
                  </a:lnTo>
                  <a:lnTo>
                    <a:pt x="397" y="1022"/>
                  </a:lnTo>
                  <a:lnTo>
                    <a:pt x="346" y="1038"/>
                  </a:lnTo>
                  <a:lnTo>
                    <a:pt x="293" y="1056"/>
                  </a:lnTo>
                  <a:lnTo>
                    <a:pt x="243" y="1075"/>
                  </a:lnTo>
                  <a:lnTo>
                    <a:pt x="198" y="1096"/>
                  </a:lnTo>
                  <a:lnTo>
                    <a:pt x="157" y="1114"/>
                  </a:lnTo>
                  <a:lnTo>
                    <a:pt x="119" y="1136"/>
                  </a:lnTo>
                  <a:lnTo>
                    <a:pt x="87" y="1157"/>
                  </a:lnTo>
                  <a:lnTo>
                    <a:pt x="56" y="1175"/>
                  </a:lnTo>
                  <a:lnTo>
                    <a:pt x="33" y="1192"/>
                  </a:lnTo>
                  <a:lnTo>
                    <a:pt x="16" y="1206"/>
                  </a:lnTo>
                  <a:lnTo>
                    <a:pt x="0" y="1218"/>
                  </a:lnTo>
                  <a:lnTo>
                    <a:pt x="17" y="1096"/>
                  </a:lnTo>
                  <a:lnTo>
                    <a:pt x="38" y="1073"/>
                  </a:lnTo>
                  <a:lnTo>
                    <a:pt x="97" y="1022"/>
                  </a:lnTo>
                  <a:lnTo>
                    <a:pt x="118" y="1005"/>
                  </a:lnTo>
                  <a:lnTo>
                    <a:pt x="141" y="992"/>
                  </a:lnTo>
                  <a:lnTo>
                    <a:pt x="167" y="976"/>
                  </a:lnTo>
                  <a:lnTo>
                    <a:pt x="194" y="961"/>
                  </a:lnTo>
                  <a:lnTo>
                    <a:pt x="225" y="948"/>
                  </a:lnTo>
                  <a:lnTo>
                    <a:pt x="255" y="936"/>
                  </a:lnTo>
                  <a:lnTo>
                    <a:pt x="327" y="914"/>
                  </a:lnTo>
                  <a:lnTo>
                    <a:pt x="442" y="891"/>
                  </a:lnTo>
                  <a:lnTo>
                    <a:pt x="507" y="888"/>
                  </a:lnTo>
                  <a:lnTo>
                    <a:pt x="541" y="897"/>
                  </a:lnTo>
                  <a:lnTo>
                    <a:pt x="556" y="925"/>
                  </a:lnTo>
                  <a:lnTo>
                    <a:pt x="602" y="987"/>
                  </a:lnTo>
                  <a:lnTo>
                    <a:pt x="636" y="1016"/>
                  </a:lnTo>
                  <a:lnTo>
                    <a:pt x="655" y="1029"/>
                  </a:lnTo>
                  <a:lnTo>
                    <a:pt x="675" y="1039"/>
                  </a:lnTo>
                  <a:lnTo>
                    <a:pt x="721" y="1050"/>
                  </a:lnTo>
                  <a:lnTo>
                    <a:pt x="774" y="1041"/>
                  </a:lnTo>
                  <a:lnTo>
                    <a:pt x="859" y="1000"/>
                  </a:lnTo>
                  <a:lnTo>
                    <a:pt x="907" y="951"/>
                  </a:lnTo>
                  <a:lnTo>
                    <a:pt x="930" y="897"/>
                  </a:lnTo>
                  <a:lnTo>
                    <a:pt x="825" y="728"/>
                  </a:lnTo>
                  <a:lnTo>
                    <a:pt x="859" y="740"/>
                  </a:lnTo>
                  <a:lnTo>
                    <a:pt x="895" y="754"/>
                  </a:lnTo>
                  <a:lnTo>
                    <a:pt x="937" y="774"/>
                  </a:lnTo>
                  <a:lnTo>
                    <a:pt x="985" y="796"/>
                  </a:lnTo>
                  <a:lnTo>
                    <a:pt x="1032" y="823"/>
                  </a:lnTo>
                  <a:lnTo>
                    <a:pt x="1111" y="885"/>
                  </a:lnTo>
                  <a:lnTo>
                    <a:pt x="1167" y="941"/>
                  </a:lnTo>
                  <a:lnTo>
                    <a:pt x="1194" y="959"/>
                  </a:lnTo>
                  <a:lnTo>
                    <a:pt x="1219" y="971"/>
                  </a:lnTo>
                  <a:lnTo>
                    <a:pt x="1276" y="966"/>
                  </a:lnTo>
                  <a:lnTo>
                    <a:pt x="1344" y="914"/>
                  </a:lnTo>
                  <a:lnTo>
                    <a:pt x="1388" y="829"/>
                  </a:lnTo>
                  <a:lnTo>
                    <a:pt x="1379" y="740"/>
                  </a:lnTo>
                  <a:lnTo>
                    <a:pt x="1354" y="674"/>
                  </a:lnTo>
                  <a:lnTo>
                    <a:pt x="1338" y="645"/>
                  </a:lnTo>
                  <a:lnTo>
                    <a:pt x="1366" y="674"/>
                  </a:lnTo>
                  <a:lnTo>
                    <a:pt x="1434" y="728"/>
                  </a:lnTo>
                  <a:lnTo>
                    <a:pt x="1454" y="740"/>
                  </a:lnTo>
                  <a:lnTo>
                    <a:pt x="1476" y="750"/>
                  </a:lnTo>
                  <a:lnTo>
                    <a:pt x="1522" y="764"/>
                  </a:lnTo>
                  <a:lnTo>
                    <a:pt x="1568" y="762"/>
                  </a:lnTo>
                  <a:lnTo>
                    <a:pt x="1612" y="740"/>
                  </a:lnTo>
                  <a:lnTo>
                    <a:pt x="1641" y="694"/>
                  </a:lnTo>
                  <a:lnTo>
                    <a:pt x="1650" y="636"/>
                  </a:lnTo>
                  <a:lnTo>
                    <a:pt x="1641" y="568"/>
                  </a:lnTo>
                  <a:lnTo>
                    <a:pt x="1619" y="497"/>
                  </a:lnTo>
                  <a:lnTo>
                    <a:pt x="1587" y="431"/>
                  </a:lnTo>
                  <a:lnTo>
                    <a:pt x="1549" y="373"/>
                  </a:lnTo>
                  <a:lnTo>
                    <a:pt x="1507" y="330"/>
                  </a:lnTo>
                  <a:lnTo>
                    <a:pt x="1486" y="317"/>
                  </a:lnTo>
                  <a:lnTo>
                    <a:pt x="1466" y="308"/>
                  </a:lnTo>
                  <a:lnTo>
                    <a:pt x="1372" y="308"/>
                  </a:lnTo>
                  <a:lnTo>
                    <a:pt x="1267" y="329"/>
                  </a:lnTo>
                  <a:lnTo>
                    <a:pt x="1182" y="354"/>
                  </a:lnTo>
                  <a:lnTo>
                    <a:pt x="1146" y="366"/>
                  </a:lnTo>
                  <a:lnTo>
                    <a:pt x="1199" y="227"/>
                  </a:lnTo>
                  <a:lnTo>
                    <a:pt x="1172" y="199"/>
                  </a:lnTo>
                  <a:lnTo>
                    <a:pt x="1141" y="174"/>
                  </a:lnTo>
                  <a:lnTo>
                    <a:pt x="1123" y="160"/>
                  </a:lnTo>
                  <a:lnTo>
                    <a:pt x="1100" y="147"/>
                  </a:lnTo>
                  <a:lnTo>
                    <a:pt x="1075" y="135"/>
                  </a:lnTo>
                  <a:lnTo>
                    <a:pt x="1049" y="125"/>
                  </a:lnTo>
                  <a:lnTo>
                    <a:pt x="990" y="111"/>
                  </a:lnTo>
                  <a:lnTo>
                    <a:pt x="924" y="113"/>
                  </a:lnTo>
                  <a:lnTo>
                    <a:pt x="849" y="133"/>
                  </a:lnTo>
                  <a:lnTo>
                    <a:pt x="813" y="150"/>
                  </a:lnTo>
                  <a:lnTo>
                    <a:pt x="782" y="169"/>
                  </a:lnTo>
                  <a:lnTo>
                    <a:pt x="754" y="188"/>
                  </a:lnTo>
                  <a:lnTo>
                    <a:pt x="730" y="208"/>
                  </a:lnTo>
                  <a:lnTo>
                    <a:pt x="665" y="286"/>
                  </a:lnTo>
                  <a:lnTo>
                    <a:pt x="635" y="373"/>
                  </a:lnTo>
                  <a:lnTo>
                    <a:pt x="570" y="366"/>
                  </a:lnTo>
                  <a:lnTo>
                    <a:pt x="570" y="3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761400">
              <a:off x="6104160" y="3940560"/>
              <a:ext cx="266400" cy="230040"/>
            </a:xfrm>
            <a:custGeom>
              <a:avLst/>
              <a:gdLst/>
              <a:ahLst/>
              <a:rect l="l" t="t" r="r" b="b"/>
              <a:pathLst>
                <a:path w="337" h="290">
                  <a:moveTo>
                    <a:pt x="87" y="261"/>
                  </a:moveTo>
                  <a:lnTo>
                    <a:pt x="0" y="139"/>
                  </a:lnTo>
                  <a:lnTo>
                    <a:pt x="12" y="117"/>
                  </a:lnTo>
                  <a:lnTo>
                    <a:pt x="44" y="69"/>
                  </a:lnTo>
                  <a:lnTo>
                    <a:pt x="101" y="22"/>
                  </a:lnTo>
                  <a:lnTo>
                    <a:pt x="138" y="5"/>
                  </a:lnTo>
                  <a:lnTo>
                    <a:pt x="180" y="0"/>
                  </a:lnTo>
                  <a:lnTo>
                    <a:pt x="257" y="15"/>
                  </a:lnTo>
                  <a:lnTo>
                    <a:pt x="305" y="51"/>
                  </a:lnTo>
                  <a:lnTo>
                    <a:pt x="337" y="103"/>
                  </a:lnTo>
                  <a:lnTo>
                    <a:pt x="323" y="96"/>
                  </a:lnTo>
                  <a:lnTo>
                    <a:pt x="291" y="83"/>
                  </a:lnTo>
                  <a:lnTo>
                    <a:pt x="247" y="74"/>
                  </a:lnTo>
                  <a:lnTo>
                    <a:pt x="204" y="81"/>
                  </a:lnTo>
                  <a:lnTo>
                    <a:pt x="162" y="127"/>
                  </a:lnTo>
                  <a:lnTo>
                    <a:pt x="157" y="156"/>
                  </a:lnTo>
                  <a:lnTo>
                    <a:pt x="169" y="146"/>
                  </a:lnTo>
                  <a:lnTo>
                    <a:pt x="201" y="129"/>
                  </a:lnTo>
                  <a:lnTo>
                    <a:pt x="245" y="124"/>
                  </a:lnTo>
                  <a:lnTo>
                    <a:pt x="296" y="151"/>
                  </a:lnTo>
                  <a:lnTo>
                    <a:pt x="330" y="198"/>
                  </a:lnTo>
                  <a:lnTo>
                    <a:pt x="333" y="244"/>
                  </a:lnTo>
                  <a:lnTo>
                    <a:pt x="320" y="290"/>
                  </a:lnTo>
                  <a:lnTo>
                    <a:pt x="306" y="243"/>
                  </a:lnTo>
                  <a:lnTo>
                    <a:pt x="279" y="210"/>
                  </a:lnTo>
                  <a:lnTo>
                    <a:pt x="255" y="204"/>
                  </a:lnTo>
                  <a:lnTo>
                    <a:pt x="226" y="204"/>
                  </a:lnTo>
                  <a:lnTo>
                    <a:pt x="124" y="236"/>
                  </a:lnTo>
                  <a:lnTo>
                    <a:pt x="87" y="261"/>
                  </a:lnTo>
                  <a:lnTo>
                    <a:pt x="87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761400">
              <a:off x="6210360" y="4248000"/>
              <a:ext cx="301680" cy="220680"/>
            </a:xfrm>
            <a:custGeom>
              <a:avLst/>
              <a:gdLst/>
              <a:ahLst/>
              <a:rect l="l" t="t" r="r" b="b"/>
              <a:pathLst>
                <a:path w="380" h="279">
                  <a:moveTo>
                    <a:pt x="0" y="24"/>
                  </a:moveTo>
                  <a:lnTo>
                    <a:pt x="17" y="46"/>
                  </a:lnTo>
                  <a:lnTo>
                    <a:pt x="58" y="90"/>
                  </a:lnTo>
                  <a:lnTo>
                    <a:pt x="85" y="111"/>
                  </a:lnTo>
                  <a:lnTo>
                    <a:pt x="116" y="126"/>
                  </a:lnTo>
                  <a:lnTo>
                    <a:pt x="181" y="122"/>
                  </a:lnTo>
                  <a:lnTo>
                    <a:pt x="227" y="82"/>
                  </a:lnTo>
                  <a:lnTo>
                    <a:pt x="239" y="43"/>
                  </a:lnTo>
                  <a:lnTo>
                    <a:pt x="228" y="0"/>
                  </a:lnTo>
                  <a:lnTo>
                    <a:pt x="380" y="197"/>
                  </a:lnTo>
                  <a:lnTo>
                    <a:pt x="366" y="216"/>
                  </a:lnTo>
                  <a:lnTo>
                    <a:pt x="325" y="253"/>
                  </a:lnTo>
                  <a:lnTo>
                    <a:pt x="296" y="270"/>
                  </a:lnTo>
                  <a:lnTo>
                    <a:pt x="261" y="279"/>
                  </a:lnTo>
                  <a:lnTo>
                    <a:pt x="176" y="262"/>
                  </a:lnTo>
                  <a:lnTo>
                    <a:pt x="94" y="197"/>
                  </a:lnTo>
                  <a:lnTo>
                    <a:pt x="41" y="117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761400">
              <a:off x="6453000" y="4136760"/>
              <a:ext cx="314280" cy="241200"/>
            </a:xfrm>
            <a:custGeom>
              <a:avLst/>
              <a:gdLst/>
              <a:ahLst/>
              <a:rect l="l" t="t" r="r" b="b"/>
              <a:pathLst>
                <a:path w="394" h="303">
                  <a:moveTo>
                    <a:pt x="27" y="53"/>
                  </a:moveTo>
                  <a:lnTo>
                    <a:pt x="47" y="119"/>
                  </a:lnTo>
                  <a:lnTo>
                    <a:pt x="87" y="158"/>
                  </a:lnTo>
                  <a:lnTo>
                    <a:pt x="115" y="167"/>
                  </a:lnTo>
                  <a:lnTo>
                    <a:pt x="155" y="161"/>
                  </a:lnTo>
                  <a:lnTo>
                    <a:pt x="189" y="146"/>
                  </a:lnTo>
                  <a:lnTo>
                    <a:pt x="207" y="126"/>
                  </a:lnTo>
                  <a:lnTo>
                    <a:pt x="207" y="70"/>
                  </a:lnTo>
                  <a:lnTo>
                    <a:pt x="185" y="20"/>
                  </a:lnTo>
                  <a:lnTo>
                    <a:pt x="172" y="0"/>
                  </a:lnTo>
                  <a:lnTo>
                    <a:pt x="214" y="17"/>
                  </a:lnTo>
                  <a:lnTo>
                    <a:pt x="255" y="39"/>
                  </a:lnTo>
                  <a:lnTo>
                    <a:pt x="302" y="66"/>
                  </a:lnTo>
                  <a:lnTo>
                    <a:pt x="381" y="134"/>
                  </a:lnTo>
                  <a:lnTo>
                    <a:pt x="394" y="216"/>
                  </a:lnTo>
                  <a:lnTo>
                    <a:pt x="370" y="252"/>
                  </a:lnTo>
                  <a:lnTo>
                    <a:pt x="342" y="277"/>
                  </a:lnTo>
                  <a:lnTo>
                    <a:pt x="311" y="294"/>
                  </a:lnTo>
                  <a:lnTo>
                    <a:pt x="275" y="303"/>
                  </a:lnTo>
                  <a:lnTo>
                    <a:pt x="199" y="294"/>
                  </a:lnTo>
                  <a:lnTo>
                    <a:pt x="126" y="262"/>
                  </a:lnTo>
                  <a:lnTo>
                    <a:pt x="20" y="180"/>
                  </a:lnTo>
                  <a:lnTo>
                    <a:pt x="0" y="143"/>
                  </a:lnTo>
                  <a:lnTo>
                    <a:pt x="3" y="104"/>
                  </a:lnTo>
                  <a:lnTo>
                    <a:pt x="27" y="53"/>
                  </a:lnTo>
                  <a:lnTo>
                    <a:pt x="2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761400">
              <a:off x="4756320" y="4271400"/>
              <a:ext cx="225360" cy="188640"/>
            </a:xfrm>
            <a:custGeom>
              <a:avLst/>
              <a:gdLst/>
              <a:ahLst/>
              <a:rect l="l" t="t" r="r" b="b"/>
              <a:pathLst>
                <a:path w="282" h="238">
                  <a:moveTo>
                    <a:pt x="100" y="0"/>
                  </a:moveTo>
                  <a:lnTo>
                    <a:pt x="172" y="5"/>
                  </a:lnTo>
                  <a:lnTo>
                    <a:pt x="282" y="199"/>
                  </a:lnTo>
                  <a:lnTo>
                    <a:pt x="133" y="194"/>
                  </a:lnTo>
                  <a:lnTo>
                    <a:pt x="0" y="238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 txBox="1"/>
          <p:nvPr/>
        </p:nvSpPr>
        <p:spPr>
          <a:xfrm>
            <a:off x="2666880" y="2438280"/>
            <a:ext cx="42674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Comic Sans MS"/>
              </a:rPr>
              <a:t>Square Roo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2627640" y="712800"/>
            <a:ext cx="35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7800" y="1219320"/>
            <a:ext cx="5213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9933"/>
                </a:solidFill>
                <a:uFillTx/>
                <a:latin typeface="Comic Sans MS"/>
              </a:rPr>
              <a:t>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measure of the surface of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14400" y="3352680"/>
            <a:ext cx="7162920" cy="2210040"/>
          </a:xfrm>
          <a:prstGeom prst="parallelogram">
            <a:avLst>
              <a:gd name="adj" fmla="val 8102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14400" y="3352680"/>
            <a:ext cx="7162920" cy="2210040"/>
          </a:xfrm>
          <a:prstGeom prst="parallelogram">
            <a:avLst>
              <a:gd name="adj" fmla="val 81027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049400" y="58975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asured in “squared units”  (ft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2627640" y="712800"/>
            <a:ext cx="35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219320" y="3429000"/>
            <a:ext cx="3352680" cy="3048120"/>
          </a:xfrm>
          <a:prstGeom prst="cube">
            <a:avLst>
              <a:gd name="adj" fmla="val 2034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33520" y="12193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9933"/>
                </a:solidFill>
                <a:uFillTx/>
                <a:latin typeface="Comic Sans MS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amount of 3D space occupied by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219320" y="3429000"/>
            <a:ext cx="3352680" cy="3048120"/>
          </a:xfrm>
          <a:prstGeom prst="cube">
            <a:avLst>
              <a:gd name="adj" fmla="val 20347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29200" y="4191120"/>
            <a:ext cx="352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measured in “units cubed” (ft</a:t>
            </a:r>
            <a:r>
              <a:rPr b="0" lang="en-US" sz="40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2621880" y="712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670200" y="2952720"/>
            <a:ext cx="179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305720" y="3809880"/>
            <a:ext cx="5046120" cy="22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rea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Comic Sans MS"/>
              </a:rPr>
              <a:t>a = s</a:t>
            </a:r>
            <a:r>
              <a:rPr b="1" lang="en-US" sz="4800" spc="-1" strike="noStrike">
                <a:solidFill>
                  <a:srgbClr val="00cc00"/>
                </a:solidFill>
                <a:latin typeface="Comic Sans MS"/>
                <a:ea typeface="Tahoma"/>
              </a:rPr>
              <a:t>•s = s</a:t>
            </a:r>
            <a:r>
              <a:rPr b="1" lang="en-US" sz="4800" spc="-1" strike="noStrike" baseline="30000">
                <a:solidFill>
                  <a:srgbClr val="00cc00"/>
                </a:solidFill>
                <a:latin typeface="Comic Sans MS"/>
                <a:ea typeface="Tahom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a =</a:t>
            </a: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3 ft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ahoma"/>
              </a:rPr>
              <a:t>• 3 ft = 9 ft</a:t>
            </a:r>
            <a:r>
              <a:rPr b="1" lang="en-US" sz="4000" spc="-1" strike="noStrike" baseline="30000">
                <a:solidFill>
                  <a:srgbClr val="3333cc"/>
                </a:solidFill>
                <a:latin typeface="Comic Sans MS"/>
                <a:ea typeface="Tahoma"/>
              </a:rPr>
              <a:t>2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520" y="1371600"/>
            <a:ext cx="41907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Squa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having four equal sides and four right 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4950360" y="1674720"/>
            <a:ext cx="3126960" cy="3112920"/>
            <a:chOff x="4950360" y="1674720"/>
            <a:chExt cx="3126960" cy="3112920"/>
          </a:xfrm>
        </p:grpSpPr>
        <p:grpSp>
          <p:nvGrpSpPr>
            <p:cNvPr id="805" name=""/>
            <p:cNvGrpSpPr/>
            <p:nvPr/>
          </p:nvGrpSpPr>
          <p:grpSpPr>
            <a:xfrm>
              <a:off x="5562720" y="1674720"/>
              <a:ext cx="2424960" cy="2515680"/>
              <a:chOff x="5562720" y="1674720"/>
              <a:chExt cx="2424960" cy="2515680"/>
            </a:xfrm>
          </p:grpSpPr>
          <p:sp>
            <p:nvSpPr>
              <p:cNvPr id="806" name=""/>
              <p:cNvSpPr/>
              <p:nvPr/>
            </p:nvSpPr>
            <p:spPr>
              <a:xfrm>
                <a:off x="5562720" y="1674720"/>
                <a:ext cx="762480" cy="78984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393600" y="1674720"/>
                <a:ext cx="763200" cy="78984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225200" y="1674720"/>
                <a:ext cx="762480" cy="78984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62720" y="2538360"/>
                <a:ext cx="762480" cy="79056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393600" y="2538360"/>
                <a:ext cx="763200" cy="79056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225200" y="2538360"/>
                <a:ext cx="762480" cy="79056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562720" y="3399840"/>
                <a:ext cx="762480" cy="79056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93600" y="3399840"/>
                <a:ext cx="763200" cy="79056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225200" y="3399840"/>
                <a:ext cx="762480" cy="790560"/>
              </a:xfrm>
              <a:prstGeom prst="rect">
                <a:avLst/>
              </a:prstGeom>
              <a:solidFill>
                <a:srgbClr val="808080"/>
              </a:solidFill>
              <a:ln w="507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6253200" y="2173320"/>
              <a:ext cx="1810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357960" y="4114800"/>
              <a:ext cx="1158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3 f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5400000">
              <a:off x="5136480" y="2013840"/>
              <a:ext cx="483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00"/>
                  </a:solidFill>
                  <a:latin typeface="Comic Sans MS"/>
                </a:rPr>
                <a:t>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42160" y="3962520"/>
              <a:ext cx="483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00"/>
                  </a:solidFill>
                  <a:latin typeface="Comic Sans MS"/>
                </a:rPr>
                <a:t>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5400000">
              <a:off x="4689720" y="2959200"/>
              <a:ext cx="1158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3 f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5562720" y="4419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696080" y="441972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57800" y="4038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5334120" y="167616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2621880" y="712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5562720" y="1674720"/>
            <a:ext cx="2424960" cy="2515680"/>
            <a:chOff x="5562720" y="1674720"/>
            <a:chExt cx="2424960" cy="2515680"/>
          </a:xfrm>
        </p:grpSpPr>
        <p:sp>
          <p:nvSpPr>
            <p:cNvPr id="826" name=""/>
            <p:cNvSpPr/>
            <p:nvPr/>
          </p:nvSpPr>
          <p:spPr>
            <a:xfrm>
              <a:off x="5562720" y="1674720"/>
              <a:ext cx="762480" cy="78984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93600" y="1674720"/>
              <a:ext cx="763200" cy="78984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25200" y="1674720"/>
              <a:ext cx="762480" cy="78984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62720" y="2538360"/>
              <a:ext cx="76248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393600" y="2538360"/>
              <a:ext cx="76320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25200" y="2538360"/>
              <a:ext cx="76248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562720" y="3399840"/>
              <a:ext cx="76248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93600" y="3399840"/>
              <a:ext cx="76320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25200" y="3399840"/>
              <a:ext cx="76248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6253200" y="2173320"/>
            <a:ext cx="181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670200" y="2952720"/>
            <a:ext cx="179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357960" y="4114800"/>
            <a:ext cx="1158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3 f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239840" y="3886200"/>
            <a:ext cx="5762520" cy="22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erimeter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Comic Sans MS"/>
              </a:rPr>
              <a:t>p = s </a:t>
            </a:r>
            <a:r>
              <a:rPr b="1" lang="en-US" sz="4800" spc="-1" strike="noStrike">
                <a:solidFill>
                  <a:srgbClr val="00cc00"/>
                </a:solidFill>
                <a:latin typeface="Comic Sans MS"/>
                <a:ea typeface="Tahoma"/>
              </a:rPr>
              <a:t>+ s + s + s = 4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=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3 ft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ahoma"/>
              </a:rPr>
              <a:t>+ 3 ft + 3 ft + 3 ft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33520" y="1371600"/>
            <a:ext cx="41907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Squar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having four equal sides and four right 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5136480" y="201384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Comic Sans MS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942160" y="396252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Comic Sans MS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5400000">
            <a:off x="4689720" y="2959200"/>
            <a:ext cx="1158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3 f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62720" y="4419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96080" y="44197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257800" y="4038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5334120" y="16761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22000" y="5659560"/>
            <a:ext cx="14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  <a:ea typeface="Tahoma"/>
              </a:rPr>
              <a:t>12 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758880" y="4038480"/>
            <a:ext cx="644508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rea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a = length x width = l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 =</a:t>
            </a: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3 ft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  <a:ea typeface="Tahoma"/>
              </a:rPr>
              <a:t>• 4 ft = 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  <a:ea typeface="Tahoma"/>
              </a:rPr>
              <a:t>12 ft</a:t>
            </a:r>
            <a:r>
              <a:rPr b="1" lang="en-US" sz="4400" spc="-1" strike="noStrike" baseline="30000">
                <a:solidFill>
                  <a:srgbClr val="3333cc"/>
                </a:solidFill>
                <a:latin typeface="Comic Sans MS"/>
                <a:ea typeface="Tahoma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621880" y="712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670200" y="2952720"/>
            <a:ext cx="179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57200" y="1371600"/>
            <a:ext cx="41911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Rectangle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ur sided figure having right angles at each cor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4418280" y="1674720"/>
            <a:ext cx="4039920" cy="3112920"/>
            <a:chOff x="4418280" y="1674720"/>
            <a:chExt cx="4039920" cy="3112920"/>
          </a:xfrm>
        </p:grpSpPr>
        <p:sp>
          <p:nvSpPr>
            <p:cNvPr id="853" name=""/>
            <p:cNvSpPr/>
            <p:nvPr/>
          </p:nvSpPr>
          <p:spPr>
            <a:xfrm>
              <a:off x="5181480" y="167472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13440" y="1674720"/>
              <a:ext cx="76212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43600" y="167472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81480" y="253836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013440" y="2538360"/>
              <a:ext cx="76212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843600" y="253836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81480" y="340056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13440" y="3400560"/>
              <a:ext cx="76212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843600" y="340056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72320" y="2173320"/>
              <a:ext cx="1807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57960" y="4114800"/>
              <a:ext cx="1158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4 f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5400000">
              <a:off x="4647600" y="1949040"/>
              <a:ext cx="36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00"/>
                  </a:solidFill>
                  <a:latin typeface="Comic Sans MS"/>
                </a:rPr>
                <a:t>l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664960" y="3962520"/>
              <a:ext cx="70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00"/>
                  </a:solidFill>
                  <a:latin typeface="Comic Sans MS"/>
                </a:rPr>
                <a:t>w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5400000">
              <a:off x="4310280" y="2959200"/>
              <a:ext cx="1158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3 f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5181480" y="44197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696080" y="44197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76920" y="4038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4876920" y="167616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94640" y="167472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94640" y="253836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94640" y="340056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1083960" y="4038480"/>
            <a:ext cx="678024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erimet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p = l + w + l + w = 2l + 2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p =</a:t>
            </a: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3 ft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ahoma"/>
              </a:rPr>
              <a:t>+ 4 ft + 3 ft+ 4 ft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  <a:ea typeface="Tahoma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621880" y="712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1674720"/>
            <a:ext cx="763560" cy="790560"/>
          </a:xfrm>
          <a:prstGeom prst="rect">
            <a:avLst/>
          </a:prstGeom>
          <a:solidFill>
            <a:srgbClr val="80808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13440" y="1674720"/>
            <a:ext cx="762120" cy="790560"/>
          </a:xfrm>
          <a:prstGeom prst="rect">
            <a:avLst/>
          </a:prstGeom>
          <a:solidFill>
            <a:srgbClr val="80808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0" y="1674720"/>
            <a:ext cx="763560" cy="790560"/>
          </a:xfrm>
          <a:prstGeom prst="rect">
            <a:avLst/>
          </a:prstGeom>
          <a:solidFill>
            <a:srgbClr val="80808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181480" y="2538360"/>
            <a:ext cx="763560" cy="790560"/>
          </a:xfrm>
          <a:prstGeom prst="rect">
            <a:avLst/>
          </a:prstGeom>
          <a:solidFill>
            <a:srgbClr val="80808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013440" y="2538360"/>
            <a:ext cx="762120" cy="790560"/>
          </a:xfrm>
          <a:prstGeom prst="rect">
            <a:avLst/>
          </a:prstGeom>
          <a:solidFill>
            <a:srgbClr val="80808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43600" y="2538360"/>
            <a:ext cx="763560" cy="790560"/>
          </a:xfrm>
          <a:prstGeom prst="rect">
            <a:avLst/>
          </a:prstGeom>
          <a:solidFill>
            <a:srgbClr val="80808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181480" y="3400560"/>
            <a:ext cx="763560" cy="790560"/>
          </a:xfrm>
          <a:prstGeom prst="rect">
            <a:avLst/>
          </a:prstGeom>
          <a:solidFill>
            <a:srgbClr val="80808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13440" y="3400560"/>
            <a:ext cx="762120" cy="790560"/>
          </a:xfrm>
          <a:prstGeom prst="rect">
            <a:avLst/>
          </a:prstGeom>
          <a:solidFill>
            <a:srgbClr val="80808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43600" y="3400560"/>
            <a:ext cx="763560" cy="790560"/>
          </a:xfrm>
          <a:prstGeom prst="rect">
            <a:avLst/>
          </a:prstGeom>
          <a:solidFill>
            <a:srgbClr val="80808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872320" y="2173320"/>
            <a:ext cx="180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670200" y="2952720"/>
            <a:ext cx="179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357960" y="4114800"/>
            <a:ext cx="1158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4 f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57200" y="1371600"/>
            <a:ext cx="41911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Rectangle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ur sided figure having right angles at each cor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rot="5400000">
            <a:off x="4647600" y="1949040"/>
            <a:ext cx="36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Comic Sans MS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664960" y="3962520"/>
            <a:ext cx="70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00"/>
                </a:solidFill>
                <a:latin typeface="Comic Sans MS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rot="5400000">
            <a:off x="4310280" y="2959200"/>
            <a:ext cx="1158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3 f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5181480" y="4419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696080" y="4419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876920" y="4038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4876920" y="16761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694640" y="1674720"/>
            <a:ext cx="763560" cy="790560"/>
          </a:xfrm>
          <a:prstGeom prst="rect">
            <a:avLst/>
          </a:prstGeom>
          <a:solidFill>
            <a:srgbClr val="80808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694640" y="2538360"/>
            <a:ext cx="763560" cy="790560"/>
          </a:xfrm>
          <a:prstGeom prst="rect">
            <a:avLst/>
          </a:prstGeom>
          <a:solidFill>
            <a:srgbClr val="80808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694640" y="3400560"/>
            <a:ext cx="763560" cy="790560"/>
          </a:xfrm>
          <a:prstGeom prst="rect">
            <a:avLst/>
          </a:prstGeom>
          <a:solidFill>
            <a:srgbClr val="80808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49360" y="541008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  <a:ea typeface="Tahoma"/>
              </a:rPr>
              <a:t>14 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3809880" y="3048120"/>
            <a:ext cx="4648320" cy="2590560"/>
          </a:xfrm>
          <a:prstGeom prst="parallelogram">
            <a:avLst>
              <a:gd name="adj" fmla="val 448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621880" y="712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1371600"/>
            <a:ext cx="41911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Parallelogr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our sided figure having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wo sets of parall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3428640" y="5505480"/>
            <a:ext cx="3505320" cy="825120"/>
            <a:chOff x="3428640" y="5505480"/>
            <a:chExt cx="3505320" cy="825120"/>
          </a:xfrm>
        </p:grpSpPr>
        <p:sp>
          <p:nvSpPr>
            <p:cNvPr id="904" name=""/>
            <p:cNvSpPr/>
            <p:nvPr/>
          </p:nvSpPr>
          <p:spPr>
            <a:xfrm>
              <a:off x="4707720" y="5657760"/>
              <a:ext cx="1158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4 f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003200" y="5505480"/>
              <a:ext cx="566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3428640" y="5962680"/>
              <a:ext cx="66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183000" y="5962680"/>
              <a:ext cx="750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4570560" y="3066840"/>
            <a:ext cx="825120" cy="2590920"/>
            <a:chOff x="4570560" y="3066840"/>
            <a:chExt cx="825120" cy="2590920"/>
          </a:xfrm>
        </p:grpSpPr>
        <p:sp>
          <p:nvSpPr>
            <p:cNvPr id="909" name=""/>
            <p:cNvSpPr/>
            <p:nvPr/>
          </p:nvSpPr>
          <p:spPr>
            <a:xfrm rot="5400000">
              <a:off x="4692240" y="3432240"/>
              <a:ext cx="581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00"/>
                  </a:solidFill>
                  <a:latin typeface="Comic Sans MS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5400000">
              <a:off x="4464360" y="4349880"/>
              <a:ext cx="1158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3 f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31000" y="54291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031000" y="306684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743760" y="4137120"/>
            <a:ext cx="238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00"/>
                </a:solidFill>
                <a:latin typeface="Comic Sans MS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6000" spc="-1" strike="noStrike">
                <a:solidFill>
                  <a:srgbClr val="00cc00"/>
                </a:solidFill>
                <a:latin typeface="Comic Sans MS"/>
              </a:rPr>
              <a:t>b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4379400" y="2741760"/>
            <a:ext cx="4078800" cy="2896920"/>
            <a:chOff x="4379400" y="2741760"/>
            <a:chExt cx="4078800" cy="2896920"/>
          </a:xfrm>
        </p:grpSpPr>
        <p:sp>
          <p:nvSpPr>
            <p:cNvPr id="915" name=""/>
            <p:cNvSpPr/>
            <p:nvPr/>
          </p:nvSpPr>
          <p:spPr>
            <a:xfrm flipV="1">
              <a:off x="7315200" y="3048120"/>
              <a:ext cx="1143000" cy="2590560"/>
            </a:xfrm>
            <a:prstGeom prst="rtTriangle">
              <a:avLst/>
            </a:prstGeom>
            <a:solidFill>
              <a:srgbClr val="25d7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6" name=""/>
            <p:cNvCxnSpPr>
              <a:endCxn id="917" idx="3"/>
            </p:cNvCxnSpPr>
            <p:nvPr/>
          </p:nvCxnSpPr>
          <p:spPr>
            <a:xfrm rot="5400000">
              <a:off x="6172560" y="1178640"/>
              <a:ext cx="76680" cy="3663360"/>
            </a:xfrm>
            <a:prstGeom prst="curvedConnector5">
              <a:avLst>
                <a:gd name="adj1" fmla="val -301415"/>
                <a:gd name="adj2" fmla="val 49995"/>
                <a:gd name="adj3" fmla="val -301415"/>
              </a:avLst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</p:grpSp>
      <p:grpSp>
        <p:nvGrpSpPr>
          <p:cNvPr id="918" name=""/>
          <p:cNvGrpSpPr/>
          <p:nvPr/>
        </p:nvGrpSpPr>
        <p:grpSpPr>
          <a:xfrm>
            <a:off x="3809880" y="2895480"/>
            <a:ext cx="4724640" cy="2819520"/>
            <a:chOff x="3809880" y="2895480"/>
            <a:chExt cx="4724640" cy="2819520"/>
          </a:xfrm>
        </p:grpSpPr>
        <p:sp>
          <p:nvSpPr>
            <p:cNvPr id="917" name=""/>
            <p:cNvSpPr/>
            <p:nvPr/>
          </p:nvSpPr>
          <p:spPr>
            <a:xfrm flipV="1">
              <a:off x="3809880" y="3048120"/>
              <a:ext cx="1143000" cy="2590560"/>
            </a:xfrm>
            <a:prstGeom prst="rtTriangle">
              <a:avLst/>
            </a:prstGeom>
            <a:solidFill>
              <a:srgbClr val="25d7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15200" y="2895480"/>
              <a:ext cx="1219320" cy="2819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3733920" y="1676520"/>
            <a:ext cx="4724280" cy="2438280"/>
          </a:xfrm>
          <a:prstGeom prst="parallelogram">
            <a:avLst>
              <a:gd name="adj" fmla="val 484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42760" y="4114800"/>
            <a:ext cx="620424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rea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a = base x height = b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 =</a:t>
            </a: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3 ft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  <a:ea typeface="Tahoma"/>
              </a:rPr>
              <a:t>• 4 ft =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ahoma"/>
              </a:rPr>
              <a:t>12 ft</a:t>
            </a:r>
            <a:r>
              <a:rPr b="1" lang="en-US" sz="4000" spc="-1" strike="noStrike" baseline="30000">
                <a:solidFill>
                  <a:srgbClr val="3333cc"/>
                </a:solidFill>
                <a:latin typeface="Comic Sans MS"/>
                <a:ea typeface="Tahoma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621880" y="712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872320" y="2173320"/>
            <a:ext cx="180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670200" y="2952720"/>
            <a:ext cx="179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57200" y="1371600"/>
            <a:ext cx="41911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Parallelogr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ur sided figure having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wo sets of parall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3733560" y="3886200"/>
            <a:ext cx="3504960" cy="825120"/>
            <a:chOff x="3733560" y="3886200"/>
            <a:chExt cx="3504960" cy="825120"/>
          </a:xfrm>
        </p:grpSpPr>
        <p:sp>
          <p:nvSpPr>
            <p:cNvPr id="927" name=""/>
            <p:cNvSpPr/>
            <p:nvPr/>
          </p:nvSpPr>
          <p:spPr>
            <a:xfrm>
              <a:off x="5012280" y="4038480"/>
              <a:ext cx="1158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4 f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308120" y="3886200"/>
              <a:ext cx="566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3733560" y="4343400"/>
              <a:ext cx="66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87560" y="4343400"/>
              <a:ext cx="750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4505400" y="1676160"/>
            <a:ext cx="825120" cy="2514600"/>
            <a:chOff x="4505400" y="1676160"/>
            <a:chExt cx="825120" cy="2514600"/>
          </a:xfrm>
        </p:grpSpPr>
        <p:sp>
          <p:nvSpPr>
            <p:cNvPr id="932" name=""/>
            <p:cNvSpPr/>
            <p:nvPr/>
          </p:nvSpPr>
          <p:spPr>
            <a:xfrm rot="5400000">
              <a:off x="4627080" y="2023560"/>
              <a:ext cx="581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00"/>
                  </a:solidFill>
                  <a:latin typeface="Comic Sans MS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5400000">
              <a:off x="4400640" y="2930400"/>
              <a:ext cx="1158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3 f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969080" y="3969000"/>
              <a:ext cx="0" cy="22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4969080" y="1676160"/>
              <a:ext cx="0" cy="51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733920" y="1523880"/>
            <a:ext cx="4724280" cy="2286000"/>
          </a:xfrm>
          <a:prstGeom prst="parallelogram">
            <a:avLst>
              <a:gd name="adj" fmla="val 516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271520" y="4038480"/>
            <a:ext cx="640548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erimet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p = b + l + b + l = 2b + 2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p =</a:t>
            </a: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4 ft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  <a:ea typeface="Tahoma"/>
              </a:rPr>
              <a:t>+ 5 ft + 4 ft+ 5 ft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  <a:ea typeface="Tahoma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621880" y="712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872320" y="2173320"/>
            <a:ext cx="180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670200" y="2952720"/>
            <a:ext cx="179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57200" y="1371600"/>
            <a:ext cx="4191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Parallelogr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ur sided figure having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wo sets of parall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3733560" y="3505320"/>
            <a:ext cx="3504960" cy="825120"/>
            <a:chOff x="3733560" y="3505320"/>
            <a:chExt cx="3504960" cy="825120"/>
          </a:xfrm>
        </p:grpSpPr>
        <p:sp>
          <p:nvSpPr>
            <p:cNvPr id="943" name=""/>
            <p:cNvSpPr/>
            <p:nvPr/>
          </p:nvSpPr>
          <p:spPr>
            <a:xfrm>
              <a:off x="5012280" y="3657600"/>
              <a:ext cx="1158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4 f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08120" y="3505320"/>
              <a:ext cx="566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3733560" y="3962520"/>
              <a:ext cx="66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487560" y="3962520"/>
              <a:ext cx="750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7538040" y="1477080"/>
            <a:ext cx="1267920" cy="2332440"/>
            <a:chOff x="7538040" y="1477080"/>
            <a:chExt cx="1267920" cy="2332440"/>
          </a:xfrm>
        </p:grpSpPr>
        <p:sp>
          <p:nvSpPr>
            <p:cNvPr id="948" name=""/>
            <p:cNvSpPr/>
            <p:nvPr/>
          </p:nvSpPr>
          <p:spPr>
            <a:xfrm rot="6780000">
              <a:off x="8171280" y="1759320"/>
              <a:ext cx="36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00"/>
                  </a:solidFill>
                  <a:latin typeface="Comic Sans MS"/>
                </a:rPr>
                <a:t>l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rot="6780000">
              <a:off x="7478640" y="2613240"/>
              <a:ext cx="1158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5 f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7683840" y="3603960"/>
              <a:ext cx="87120" cy="20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8469720" y="1477080"/>
              <a:ext cx="204120" cy="48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6849360" y="541008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  <a:ea typeface="Tahoma"/>
              </a:rPr>
              <a:t>18 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2621880" y="712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04560" y="1295280"/>
            <a:ext cx="461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omic Sans MS"/>
              </a:rPr>
              <a:t>Boxes (prism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35040" y="2158920"/>
            <a:ext cx="3911400" cy="4216320"/>
          </a:xfrm>
          <a:prstGeom prst="cube">
            <a:avLst>
              <a:gd name="adj" fmla="val 24995"/>
            </a:avLst>
          </a:prstGeom>
          <a:solidFill>
            <a:srgbClr val="25d7db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205240" y="1523880"/>
            <a:ext cx="3329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Volum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ight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dth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gth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V = h•w•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V = h w 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809880" y="289548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358128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3581280" y="441972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09480" y="41148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09480" y="533412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371600" y="312408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666880" y="312408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2666880" y="2133360"/>
            <a:ext cx="106704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1371600" y="2133360"/>
            <a:ext cx="91440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838080" y="289548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218960" y="25146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308640" y="52117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91120" y="4419720"/>
            <a:ext cx="914400" cy="1295280"/>
          </a:xfrm>
          <a:prstGeom prst="cube">
            <a:avLst>
              <a:gd name="adj" fmla="val 347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85440" y="3505320"/>
            <a:ext cx="289548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200400" y="3124080"/>
            <a:ext cx="0" cy="32004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862360" y="4191120"/>
            <a:ext cx="7315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611720" y="2867040"/>
            <a:ext cx="89928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581280" y="2590920"/>
            <a:ext cx="914400" cy="9144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9112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796920" y="2638440"/>
            <a:ext cx="4374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9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9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9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9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9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9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9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048120" cy="16700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819520" y="28954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ing a number by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64360" y="1828800"/>
            <a:ext cx="26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qu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457200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Comic Sans MS"/>
              </a:rPr>
              <a:t>4 x 4 =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562720" y="4267080"/>
            <a:ext cx="2209680" cy="1905120"/>
            <a:chOff x="5562720" y="4267080"/>
            <a:chExt cx="2209680" cy="1905120"/>
          </a:xfrm>
        </p:grpSpPr>
        <p:sp>
          <p:nvSpPr>
            <p:cNvPr id="219" name=""/>
            <p:cNvSpPr/>
            <p:nvPr/>
          </p:nvSpPr>
          <p:spPr>
            <a:xfrm>
              <a:off x="6095880" y="4267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562720" y="4267080"/>
              <a:ext cx="2209680" cy="1905120"/>
              <a:chOff x="5562720" y="4267080"/>
              <a:chExt cx="2209680" cy="1905120"/>
            </a:xfrm>
          </p:grpSpPr>
          <p:sp>
            <p:nvSpPr>
              <p:cNvPr id="221" name=""/>
              <p:cNvSpPr/>
              <p:nvPr/>
            </p:nvSpPr>
            <p:spPr>
              <a:xfrm>
                <a:off x="5562720" y="4267080"/>
                <a:ext cx="2209680" cy="1905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629400" y="42670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162920" y="42670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562720" y="5257800"/>
                <a:ext cx="220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62720" y="5715000"/>
                <a:ext cx="220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562720" y="4800600"/>
                <a:ext cx="220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095880" y="42670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2621880" y="712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2480" y="1295280"/>
            <a:ext cx="513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omic Sans MS"/>
              </a:rPr>
              <a:t>Boxes (volum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2158920"/>
            <a:ext cx="3200400" cy="4216320"/>
          </a:xfrm>
          <a:prstGeom prst="cube">
            <a:avLst>
              <a:gd name="adj" fmla="val 24995"/>
            </a:avLst>
          </a:prstGeom>
          <a:solidFill>
            <a:srgbClr val="25d7db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425240" y="2867040"/>
            <a:ext cx="1011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3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18660000">
            <a:off x="2984760" y="2549880"/>
            <a:ext cx="1011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2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576040" y="1552680"/>
            <a:ext cx="26701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Volume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ight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gth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d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308640" y="52117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648320" y="426708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V = h w 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rot="5400000">
            <a:off x="2327760" y="4303080"/>
            <a:ext cx="1011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4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21000" y="5486400"/>
            <a:ext cx="8079480" cy="703440"/>
          </a:xfrm>
          <a:prstGeom prst="rect">
            <a:avLst/>
          </a:prstGeom>
          <a:solidFill>
            <a:srgbClr val="00ffff"/>
          </a:solidFill>
          <a:ln w="381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 = hwl = 2 m • 4 m • 3 m = 24 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2621880" y="712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33520" y="1752480"/>
            <a:ext cx="809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parallelogram has an area of 27 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If its base is 9 ft. What is its heigh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2120" y="3962520"/>
            <a:ext cx="4419360" cy="1676160"/>
          </a:xfrm>
          <a:prstGeom prst="parallelogram">
            <a:avLst>
              <a:gd name="adj" fmla="val 659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33520" y="1752480"/>
            <a:ext cx="809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parallelogram has an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area of 27 ft</a:t>
            </a:r>
            <a:r>
              <a:rPr b="0" lang="en-US" sz="4000" spc="-1" strike="noStrike" baseline="30000">
                <a:solidFill>
                  <a:srgbClr val="00cc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If its base is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9 ft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hat is its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eigh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62120" y="3962520"/>
            <a:ext cx="4419360" cy="1676160"/>
          </a:xfrm>
          <a:prstGeom prst="parallelogram">
            <a:avLst>
              <a:gd name="adj" fmla="val 6591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762120" y="5665680"/>
            <a:ext cx="3276360" cy="581400"/>
            <a:chOff x="762120" y="5665680"/>
            <a:chExt cx="3276360" cy="581400"/>
          </a:xfrm>
        </p:grpSpPr>
        <p:sp>
          <p:nvSpPr>
            <p:cNvPr id="993" name=""/>
            <p:cNvSpPr/>
            <p:nvPr/>
          </p:nvSpPr>
          <p:spPr>
            <a:xfrm>
              <a:off x="1825920" y="5665680"/>
              <a:ext cx="80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00"/>
                  </a:solidFill>
                  <a:latin typeface="Comic Sans MS"/>
                </a:rPr>
                <a:t>9 f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62120" y="5791320"/>
              <a:ext cx="327636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700560" y="3886200"/>
            <a:ext cx="1128240" cy="1752480"/>
            <a:chOff x="700560" y="3886200"/>
            <a:chExt cx="1128240" cy="1752480"/>
          </a:xfrm>
        </p:grpSpPr>
        <p:sp>
          <p:nvSpPr>
            <p:cNvPr id="996" name=""/>
            <p:cNvSpPr/>
            <p:nvPr/>
          </p:nvSpPr>
          <p:spPr>
            <a:xfrm>
              <a:off x="700560" y="4114800"/>
              <a:ext cx="768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h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828800" y="3886200"/>
              <a:ext cx="0" cy="1752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3025800" y="403848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Comic Sans MS"/>
              </a:rPr>
              <a:t>27ft</a:t>
            </a:r>
            <a:r>
              <a:rPr b="0" lang="en-US" sz="4800" spc="-1" strike="noStrike" baseline="30000">
                <a:solidFill>
                  <a:srgbClr val="00cc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5410080" y="3733920"/>
            <a:ext cx="2819520" cy="2625480"/>
            <a:chOff x="5410080" y="3733920"/>
            <a:chExt cx="2819520" cy="2625480"/>
          </a:xfrm>
        </p:grpSpPr>
        <p:sp>
          <p:nvSpPr>
            <p:cNvPr id="1000" name=""/>
            <p:cNvSpPr/>
            <p:nvPr/>
          </p:nvSpPr>
          <p:spPr>
            <a:xfrm>
              <a:off x="5410080" y="3733920"/>
              <a:ext cx="2597400" cy="2625480"/>
            </a:xfrm>
            <a:custGeom>
              <a:avLst/>
              <a:gdLst>
                <a:gd name="textAreaLeft" fmla="*/ 126720 w 2597400"/>
                <a:gd name="textAreaRight" fmla="*/ 2470680 w 2597400"/>
                <a:gd name="textAreaTop" fmla="*/ 126720 h 2625480"/>
                <a:gd name="textAreaBottom" fmla="*/ 2498760 h 2625480"/>
              </a:gdLst>
              <a:ahLst/>
              <a:rect l="textAreaLeft" t="textAreaTop" r="textAreaRight" b="textAreaBottom"/>
              <a:pathLst>
                <a:path w="21600" h="21833">
                  <a:moveTo>
                    <a:pt x="3600" y="0"/>
                  </a:moveTo>
                  <a:arcTo wR="3600" hR="3600" stAng="16200000" swAng="-5400000"/>
                  <a:lnTo>
                    <a:pt x="0" y="18233"/>
                  </a:lnTo>
                  <a:arcTo wR="3600" hR="3600" stAng="10800000" swAng="-5400000"/>
                  <a:lnTo>
                    <a:pt x="18000" y="218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632560" y="3733920"/>
              <a:ext cx="259704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nalysis:  Use area formula and solve for the heigh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344880" y="1138320"/>
            <a:ext cx="1758960" cy="1252080"/>
            <a:chOff x="344880" y="1138320"/>
            <a:chExt cx="1758960" cy="1252080"/>
          </a:xfrm>
        </p:grpSpPr>
        <p:sp>
          <p:nvSpPr>
            <p:cNvPr id="1003" name=""/>
            <p:cNvSpPr/>
            <p:nvPr/>
          </p:nvSpPr>
          <p:spPr>
            <a:xfrm rot="20897400">
              <a:off x="404280" y="1356840"/>
              <a:ext cx="1650960" cy="3812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20897400">
              <a:off x="424080" y="1290600"/>
              <a:ext cx="1600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4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"/>
          <p:cNvGrpSpPr/>
          <p:nvPr/>
        </p:nvGrpSpPr>
        <p:grpSpPr>
          <a:xfrm>
            <a:off x="5553000" y="3352680"/>
            <a:ext cx="2981520" cy="2717640"/>
            <a:chOff x="5553000" y="3352680"/>
            <a:chExt cx="2981520" cy="2717640"/>
          </a:xfrm>
        </p:grpSpPr>
        <p:sp>
          <p:nvSpPr>
            <p:cNvPr id="1006" name=""/>
            <p:cNvSpPr/>
            <p:nvPr/>
          </p:nvSpPr>
          <p:spPr>
            <a:xfrm>
              <a:off x="5900760" y="3352680"/>
              <a:ext cx="26337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975280" y="3360600"/>
              <a:ext cx="248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Do unto each side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808600" y="3352680"/>
              <a:ext cx="2421000" cy="1047600"/>
            </a:xfrm>
            <a:custGeom>
              <a:avLst/>
              <a:gdLst/>
              <a:ahLst/>
              <a:rect l="l" t="t" r="r" b="b"/>
              <a:pathLst>
                <a:path w="1525" h="660">
                  <a:moveTo>
                    <a:pt x="0" y="660"/>
                  </a:moveTo>
                  <a:lnTo>
                    <a:pt x="186" y="267"/>
                  </a:lnTo>
                  <a:lnTo>
                    <a:pt x="59" y="267"/>
                  </a:lnTo>
                  <a:lnTo>
                    <a:pt x="59" y="222"/>
                  </a:lnTo>
                  <a:lnTo>
                    <a:pt x="720" y="222"/>
                  </a:lnTo>
                  <a:lnTo>
                    <a:pt x="737" y="0"/>
                  </a:lnTo>
                  <a:lnTo>
                    <a:pt x="771" y="0"/>
                  </a:lnTo>
                  <a:lnTo>
                    <a:pt x="813" y="222"/>
                  </a:lnTo>
                  <a:lnTo>
                    <a:pt x="932" y="222"/>
                  </a:lnTo>
                  <a:lnTo>
                    <a:pt x="1440" y="222"/>
                  </a:lnTo>
                  <a:lnTo>
                    <a:pt x="1432" y="267"/>
                  </a:lnTo>
                  <a:lnTo>
                    <a:pt x="1330" y="267"/>
                  </a:lnTo>
                  <a:lnTo>
                    <a:pt x="1525" y="660"/>
                  </a:lnTo>
                  <a:lnTo>
                    <a:pt x="1466" y="660"/>
                  </a:lnTo>
                  <a:lnTo>
                    <a:pt x="1305" y="274"/>
                  </a:lnTo>
                  <a:lnTo>
                    <a:pt x="1152" y="660"/>
                  </a:lnTo>
                  <a:lnTo>
                    <a:pt x="1101" y="660"/>
                  </a:lnTo>
                  <a:lnTo>
                    <a:pt x="1279" y="267"/>
                  </a:lnTo>
                  <a:lnTo>
                    <a:pt x="246" y="267"/>
                  </a:lnTo>
                  <a:lnTo>
                    <a:pt x="424" y="660"/>
                  </a:lnTo>
                  <a:lnTo>
                    <a:pt x="364" y="660"/>
                  </a:lnTo>
                  <a:lnTo>
                    <a:pt x="212" y="289"/>
                  </a:lnTo>
                  <a:lnTo>
                    <a:pt x="59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727960" y="4400280"/>
              <a:ext cx="174600" cy="17640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0" y="111"/>
                  </a:moveTo>
                  <a:lnTo>
                    <a:pt x="51" y="0"/>
                  </a:lnTo>
                  <a:lnTo>
                    <a:pt x="110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386760" y="4400280"/>
              <a:ext cx="174600" cy="17640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43" y="111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110" y="111"/>
                  </a:lnTo>
                  <a:lnTo>
                    <a:pt x="43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477200" y="4400280"/>
              <a:ext cx="160200" cy="17640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0" y="111"/>
                  </a:moveTo>
                  <a:lnTo>
                    <a:pt x="50" y="0"/>
                  </a:lnTo>
                  <a:lnTo>
                    <a:pt x="101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136000" y="4400280"/>
              <a:ext cx="174600" cy="17640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1" y="111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110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553000" y="4576680"/>
              <a:ext cx="1184400" cy="76500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110" y="0"/>
                  </a:moveTo>
                  <a:lnTo>
                    <a:pt x="8" y="207"/>
                  </a:lnTo>
                  <a:lnTo>
                    <a:pt x="0" y="222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8" y="304"/>
                  </a:lnTo>
                  <a:lnTo>
                    <a:pt x="25" y="326"/>
                  </a:lnTo>
                  <a:lnTo>
                    <a:pt x="34" y="348"/>
                  </a:lnTo>
                  <a:lnTo>
                    <a:pt x="51" y="370"/>
                  </a:lnTo>
                  <a:lnTo>
                    <a:pt x="76" y="393"/>
                  </a:lnTo>
                  <a:lnTo>
                    <a:pt x="102" y="415"/>
                  </a:lnTo>
                  <a:lnTo>
                    <a:pt x="127" y="430"/>
                  </a:lnTo>
                  <a:lnTo>
                    <a:pt x="161" y="452"/>
                  </a:lnTo>
                  <a:lnTo>
                    <a:pt x="203" y="467"/>
                  </a:lnTo>
                  <a:lnTo>
                    <a:pt x="246" y="474"/>
                  </a:lnTo>
                  <a:lnTo>
                    <a:pt x="297" y="482"/>
                  </a:lnTo>
                  <a:lnTo>
                    <a:pt x="356" y="482"/>
                  </a:lnTo>
                  <a:lnTo>
                    <a:pt x="407" y="482"/>
                  </a:lnTo>
                  <a:lnTo>
                    <a:pt x="449" y="474"/>
                  </a:lnTo>
                  <a:lnTo>
                    <a:pt x="491" y="467"/>
                  </a:lnTo>
                  <a:lnTo>
                    <a:pt x="534" y="459"/>
                  </a:lnTo>
                  <a:lnTo>
                    <a:pt x="576" y="444"/>
                  </a:lnTo>
                  <a:lnTo>
                    <a:pt x="610" y="430"/>
                  </a:lnTo>
                  <a:lnTo>
                    <a:pt x="635" y="407"/>
                  </a:lnTo>
                  <a:lnTo>
                    <a:pt x="669" y="393"/>
                  </a:lnTo>
                  <a:lnTo>
                    <a:pt x="686" y="370"/>
                  </a:lnTo>
                  <a:lnTo>
                    <a:pt x="712" y="348"/>
                  </a:lnTo>
                  <a:lnTo>
                    <a:pt x="729" y="326"/>
                  </a:lnTo>
                  <a:lnTo>
                    <a:pt x="737" y="304"/>
                  </a:lnTo>
                  <a:lnTo>
                    <a:pt x="746" y="281"/>
                  </a:lnTo>
                  <a:lnTo>
                    <a:pt x="746" y="259"/>
                  </a:lnTo>
                  <a:lnTo>
                    <a:pt x="746" y="230"/>
                  </a:lnTo>
                  <a:lnTo>
                    <a:pt x="737" y="207"/>
                  </a:lnTo>
                  <a:lnTo>
                    <a:pt x="635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9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15200" y="4576680"/>
              <a:ext cx="1170000" cy="765000"/>
            </a:xfrm>
            <a:custGeom>
              <a:avLst/>
              <a:gdLst/>
              <a:ahLst/>
              <a:rect l="l" t="t" r="r" b="b"/>
              <a:pathLst>
                <a:path w="737" h="482">
                  <a:moveTo>
                    <a:pt x="102" y="0"/>
                  </a:moveTo>
                  <a:lnTo>
                    <a:pt x="8" y="200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17" y="304"/>
                  </a:lnTo>
                  <a:lnTo>
                    <a:pt x="25" y="326"/>
                  </a:lnTo>
                  <a:lnTo>
                    <a:pt x="42" y="356"/>
                  </a:lnTo>
                  <a:lnTo>
                    <a:pt x="59" y="378"/>
                  </a:lnTo>
                  <a:lnTo>
                    <a:pt x="85" y="400"/>
                  </a:lnTo>
                  <a:lnTo>
                    <a:pt x="110" y="415"/>
                  </a:lnTo>
                  <a:lnTo>
                    <a:pt x="144" y="437"/>
                  </a:lnTo>
                  <a:lnTo>
                    <a:pt x="178" y="452"/>
                  </a:lnTo>
                  <a:lnTo>
                    <a:pt x="220" y="467"/>
                  </a:lnTo>
                  <a:lnTo>
                    <a:pt x="263" y="474"/>
                  </a:lnTo>
                  <a:lnTo>
                    <a:pt x="313" y="482"/>
                  </a:lnTo>
                  <a:lnTo>
                    <a:pt x="364" y="482"/>
                  </a:lnTo>
                  <a:lnTo>
                    <a:pt x="424" y="482"/>
                  </a:lnTo>
                  <a:lnTo>
                    <a:pt x="474" y="474"/>
                  </a:lnTo>
                  <a:lnTo>
                    <a:pt x="517" y="459"/>
                  </a:lnTo>
                  <a:lnTo>
                    <a:pt x="559" y="452"/>
                  </a:lnTo>
                  <a:lnTo>
                    <a:pt x="593" y="430"/>
                  </a:lnTo>
                  <a:lnTo>
                    <a:pt x="627" y="415"/>
                  </a:lnTo>
                  <a:lnTo>
                    <a:pt x="652" y="393"/>
                  </a:lnTo>
                  <a:lnTo>
                    <a:pt x="678" y="370"/>
                  </a:lnTo>
                  <a:lnTo>
                    <a:pt x="695" y="348"/>
                  </a:lnTo>
                  <a:lnTo>
                    <a:pt x="712" y="318"/>
                  </a:lnTo>
                  <a:lnTo>
                    <a:pt x="720" y="296"/>
                  </a:lnTo>
                  <a:lnTo>
                    <a:pt x="729" y="274"/>
                  </a:lnTo>
                  <a:lnTo>
                    <a:pt x="737" y="259"/>
                  </a:lnTo>
                  <a:lnTo>
                    <a:pt x="737" y="237"/>
                  </a:lnTo>
                  <a:lnTo>
                    <a:pt x="737" y="222"/>
                  </a:lnTo>
                  <a:lnTo>
                    <a:pt x="737" y="207"/>
                  </a:lnTo>
                  <a:lnTo>
                    <a:pt x="627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43960" y="3811320"/>
              <a:ext cx="336240" cy="130320"/>
            </a:xfrm>
            <a:custGeom>
              <a:avLst/>
              <a:gdLst/>
              <a:ahLst/>
              <a:rect l="l" t="t" r="r" b="b"/>
              <a:pathLst>
                <a:path w="212" h="82">
                  <a:moveTo>
                    <a:pt x="26" y="0"/>
                  </a:moveTo>
                  <a:lnTo>
                    <a:pt x="187" y="0"/>
                  </a:lnTo>
                  <a:lnTo>
                    <a:pt x="195" y="0"/>
                  </a:lnTo>
                  <a:lnTo>
                    <a:pt x="204" y="7"/>
                  </a:lnTo>
                  <a:lnTo>
                    <a:pt x="212" y="15"/>
                  </a:lnTo>
                  <a:lnTo>
                    <a:pt x="212" y="22"/>
                  </a:lnTo>
                  <a:lnTo>
                    <a:pt x="212" y="59"/>
                  </a:lnTo>
                  <a:lnTo>
                    <a:pt x="212" y="67"/>
                  </a:lnTo>
                  <a:lnTo>
                    <a:pt x="204" y="74"/>
                  </a:lnTo>
                  <a:lnTo>
                    <a:pt x="195" y="82"/>
                  </a:lnTo>
                  <a:lnTo>
                    <a:pt x="187" y="82"/>
                  </a:lnTo>
                  <a:lnTo>
                    <a:pt x="26" y="82"/>
                  </a:lnTo>
                  <a:lnTo>
                    <a:pt x="17" y="82"/>
                  </a:lnTo>
                  <a:lnTo>
                    <a:pt x="9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9" y="7"/>
                  </a:lnTo>
                  <a:lnTo>
                    <a:pt x="1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939000" y="3976560"/>
              <a:ext cx="147600" cy="16113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02400" y="5611680"/>
              <a:ext cx="833400" cy="164880"/>
            </a:xfrm>
            <a:custGeom>
              <a:avLst/>
              <a:gdLst/>
              <a:ahLst/>
              <a:rect l="l" t="t" r="r" b="b"/>
              <a:pathLst>
                <a:path w="525" h="104">
                  <a:moveTo>
                    <a:pt x="51" y="0"/>
                  </a:moveTo>
                  <a:lnTo>
                    <a:pt x="466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00" y="7"/>
                  </a:lnTo>
                  <a:lnTo>
                    <a:pt x="508" y="15"/>
                  </a:lnTo>
                  <a:lnTo>
                    <a:pt x="517" y="22"/>
                  </a:lnTo>
                  <a:lnTo>
                    <a:pt x="517" y="30"/>
                  </a:lnTo>
                  <a:lnTo>
                    <a:pt x="517" y="37"/>
                  </a:lnTo>
                  <a:lnTo>
                    <a:pt x="525" y="44"/>
                  </a:lnTo>
                  <a:lnTo>
                    <a:pt x="525" y="52"/>
                  </a:lnTo>
                  <a:lnTo>
                    <a:pt x="517" y="67"/>
                  </a:lnTo>
                  <a:lnTo>
                    <a:pt x="517" y="74"/>
                  </a:lnTo>
                  <a:lnTo>
                    <a:pt x="517" y="81"/>
                  </a:lnTo>
                  <a:lnTo>
                    <a:pt x="508" y="89"/>
                  </a:lnTo>
                  <a:lnTo>
                    <a:pt x="500" y="96"/>
                  </a:lnTo>
                  <a:lnTo>
                    <a:pt x="491" y="96"/>
                  </a:lnTo>
                  <a:lnTo>
                    <a:pt x="474" y="104"/>
                  </a:lnTo>
                  <a:lnTo>
                    <a:pt x="466" y="104"/>
                  </a:lnTo>
                  <a:lnTo>
                    <a:pt x="51" y="104"/>
                  </a:lnTo>
                  <a:lnTo>
                    <a:pt x="42" y="104"/>
                  </a:lnTo>
                  <a:lnTo>
                    <a:pt x="34" y="96"/>
                  </a:lnTo>
                  <a:lnTo>
                    <a:pt x="25" y="96"/>
                  </a:lnTo>
                  <a:lnTo>
                    <a:pt x="17" y="89"/>
                  </a:lnTo>
                  <a:lnTo>
                    <a:pt x="8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7" y="15"/>
                  </a:lnTo>
                  <a:lnTo>
                    <a:pt x="25" y="7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145200" y="5800320"/>
              <a:ext cx="1747800" cy="2700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" name=""/>
          <p:cNvSpPr/>
          <p:nvPr/>
        </p:nvSpPr>
        <p:spPr>
          <a:xfrm>
            <a:off x="2621880" y="712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105520" y="1523880"/>
            <a:ext cx="3527280" cy="106884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= base x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= b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011040" y="5257800"/>
            <a:ext cx="240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h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3 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33520" y="411480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Comic Sans MS"/>
              </a:rPr>
              <a:t>9 f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 = </a:t>
            </a:r>
            <a:r>
              <a:rPr b="0" lang="en-US" sz="4400" spc="-1" strike="noStrike">
                <a:solidFill>
                  <a:srgbClr val="339933"/>
                </a:solidFill>
                <a:latin typeface="Comic Sans MS"/>
              </a:rPr>
              <a:t>27ft</a:t>
            </a:r>
            <a:r>
              <a:rPr b="0" lang="en-US" sz="4400" spc="-1" strike="noStrike" baseline="30000">
                <a:solidFill>
                  <a:srgbClr val="339933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6009120" y="3902040"/>
            <a:ext cx="2066040" cy="1434600"/>
            <a:chOff x="6009120" y="3902040"/>
            <a:chExt cx="2066040" cy="1434600"/>
          </a:xfrm>
        </p:grpSpPr>
        <p:sp>
          <p:nvSpPr>
            <p:cNvPr id="1024" name=""/>
            <p:cNvSpPr/>
            <p:nvPr/>
          </p:nvSpPr>
          <p:spPr>
            <a:xfrm>
              <a:off x="6009120" y="3902040"/>
              <a:ext cx="2066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9h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4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2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9     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764760" y="42213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457200" y="1600200"/>
            <a:ext cx="4419360" cy="2287800"/>
            <a:chOff x="457200" y="1600200"/>
            <a:chExt cx="4419360" cy="2287800"/>
          </a:xfrm>
        </p:grpSpPr>
        <p:sp>
          <p:nvSpPr>
            <p:cNvPr id="1027" name=""/>
            <p:cNvSpPr/>
            <p:nvPr/>
          </p:nvSpPr>
          <p:spPr>
            <a:xfrm>
              <a:off x="457200" y="1600200"/>
              <a:ext cx="4419360" cy="1676160"/>
            </a:xfrm>
            <a:prstGeom prst="parallelogram">
              <a:avLst>
                <a:gd name="adj" fmla="val 6591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523880" y="1600200"/>
              <a:ext cx="0" cy="1676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54080" y="1600200"/>
              <a:ext cx="151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9933"/>
                  </a:solidFill>
                  <a:latin typeface="Comic Sans MS"/>
                </a:rPr>
                <a:t>27ft</a:t>
              </a:r>
              <a:r>
                <a:rPr b="0" lang="en-US" sz="4800" spc="-1" strike="noStrike" baseline="30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97320" y="3306600"/>
              <a:ext cx="80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9933"/>
                  </a:solidFill>
                  <a:latin typeface="Comic Sans MS"/>
                </a:rPr>
                <a:t>9 f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38640" y="1914480"/>
              <a:ext cx="768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h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380880" y="335268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2621880" y="712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33520" y="172260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hn’s back yard is rectangular area of 600 ft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If the length is 25 ft, how wide is his yard?  What is the perime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85800" y="3809880"/>
            <a:ext cx="3200400" cy="1981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761760" y="5759280"/>
            <a:ext cx="3124080" cy="642600"/>
            <a:chOff x="761760" y="5759280"/>
            <a:chExt cx="3124080" cy="642600"/>
          </a:xfrm>
        </p:grpSpPr>
        <p:sp>
          <p:nvSpPr>
            <p:cNvPr id="1037" name=""/>
            <p:cNvSpPr/>
            <p:nvPr/>
          </p:nvSpPr>
          <p:spPr>
            <a:xfrm>
              <a:off x="1849320" y="57592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5 f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021840" y="6006960"/>
              <a:ext cx="86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761760" y="6006960"/>
              <a:ext cx="99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4170600" y="3809880"/>
            <a:ext cx="1070640" cy="2044440"/>
            <a:chOff x="4170600" y="3809880"/>
            <a:chExt cx="1070640" cy="2044440"/>
          </a:xfrm>
        </p:grpSpPr>
        <p:sp>
          <p:nvSpPr>
            <p:cNvPr id="1041" name=""/>
            <p:cNvSpPr/>
            <p:nvPr/>
          </p:nvSpPr>
          <p:spPr>
            <a:xfrm>
              <a:off x="4170600" y="4449960"/>
              <a:ext cx="1070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w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4267080" y="3809880"/>
              <a:ext cx="0" cy="70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267080" y="5151600"/>
              <a:ext cx="0" cy="70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685800" y="3809880"/>
            <a:ext cx="3200400" cy="1968480"/>
            <a:chOff x="685800" y="3809880"/>
            <a:chExt cx="3200400" cy="1968480"/>
          </a:xfrm>
        </p:grpSpPr>
        <p:sp>
          <p:nvSpPr>
            <p:cNvPr id="1045" name=""/>
            <p:cNvSpPr/>
            <p:nvPr/>
          </p:nvSpPr>
          <p:spPr>
            <a:xfrm>
              <a:off x="685800" y="3809880"/>
              <a:ext cx="3200400" cy="1968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352520" y="4507920"/>
              <a:ext cx="219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600 ft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533520" y="172260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hn’s back yard is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rectangular ar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600 ft </a:t>
            </a:r>
            <a:r>
              <a:rPr b="0" lang="en-US" sz="3200" spc="-1" strike="noStrike" baseline="30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If the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ngth is 25 f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how wide is his yard?  What is the perime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33520" y="172260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hn’s back yard is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rectangular ar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600 ft </a:t>
            </a:r>
            <a:r>
              <a:rPr b="0" lang="en-US" sz="3200" spc="-1" strike="noStrike" baseline="30000">
                <a:solidFill>
                  <a:srgbClr val="00cc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If the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length is 25 f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how wi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his yard?  What is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erime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5627520" y="3276720"/>
            <a:ext cx="3211560" cy="3276360"/>
            <a:chOff x="5627520" y="3276720"/>
            <a:chExt cx="3211560" cy="3276360"/>
          </a:xfrm>
        </p:grpSpPr>
        <p:sp>
          <p:nvSpPr>
            <p:cNvPr id="1050" name=""/>
            <p:cNvSpPr/>
            <p:nvPr/>
          </p:nvSpPr>
          <p:spPr>
            <a:xfrm>
              <a:off x="5627520" y="3276720"/>
              <a:ext cx="3044880" cy="3276360"/>
            </a:xfrm>
            <a:custGeom>
              <a:avLst/>
              <a:gdLst>
                <a:gd name="textAreaLeft" fmla="*/ 148320 w 3044880"/>
                <a:gd name="textAreaRight" fmla="*/ 2896560 w 3044880"/>
                <a:gd name="textAreaTop" fmla="*/ 148320 h 3276360"/>
                <a:gd name="textAreaBottom" fmla="*/ 3128040 h 3276360"/>
              </a:gdLst>
              <a:ahLst/>
              <a:rect l="textAreaLeft" t="textAreaTop" r="textAreaRight" b="textAreaBottom"/>
              <a:pathLst>
                <a:path w="21600" h="23242">
                  <a:moveTo>
                    <a:pt x="3600" y="0"/>
                  </a:moveTo>
                  <a:arcTo wR="3600" hR="3600" stAng="16200000" swAng="-5400000"/>
                  <a:lnTo>
                    <a:pt x="0" y="19642"/>
                  </a:lnTo>
                  <a:arcTo wR="3600" hR="3600" stAng="10800000" swAng="-5400000"/>
                  <a:lnTo>
                    <a:pt x="18000" y="232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790960" y="3350880"/>
              <a:ext cx="30481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nalysis:  Use area formula to find width; use length and width to find perimet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344880" y="986040"/>
            <a:ext cx="1758960" cy="1252080"/>
            <a:chOff x="344880" y="986040"/>
            <a:chExt cx="1758960" cy="1252080"/>
          </a:xfrm>
        </p:grpSpPr>
        <p:sp>
          <p:nvSpPr>
            <p:cNvPr id="1053" name=""/>
            <p:cNvSpPr/>
            <p:nvPr/>
          </p:nvSpPr>
          <p:spPr>
            <a:xfrm rot="20897400">
              <a:off x="404280" y="1204560"/>
              <a:ext cx="1650960" cy="3812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20897400">
              <a:off x="424080" y="1138320"/>
              <a:ext cx="1600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5638680" y="3657600"/>
            <a:ext cx="2895480" cy="2641320"/>
            <a:chOff x="5638680" y="3657600"/>
            <a:chExt cx="2895480" cy="2641320"/>
          </a:xfrm>
        </p:grpSpPr>
        <p:sp>
          <p:nvSpPr>
            <p:cNvPr id="1056" name=""/>
            <p:cNvSpPr/>
            <p:nvPr/>
          </p:nvSpPr>
          <p:spPr>
            <a:xfrm>
              <a:off x="5976360" y="3657600"/>
              <a:ext cx="25578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048360" y="3665160"/>
              <a:ext cx="248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Do unto each side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886720" y="3657600"/>
              <a:ext cx="2351160" cy="1018080"/>
            </a:xfrm>
            <a:custGeom>
              <a:avLst/>
              <a:gdLst/>
              <a:ahLst/>
              <a:rect l="l" t="t" r="r" b="b"/>
              <a:pathLst>
                <a:path w="1525" h="660">
                  <a:moveTo>
                    <a:pt x="0" y="660"/>
                  </a:moveTo>
                  <a:lnTo>
                    <a:pt x="186" y="267"/>
                  </a:lnTo>
                  <a:lnTo>
                    <a:pt x="59" y="267"/>
                  </a:lnTo>
                  <a:lnTo>
                    <a:pt x="59" y="222"/>
                  </a:lnTo>
                  <a:lnTo>
                    <a:pt x="720" y="222"/>
                  </a:lnTo>
                  <a:lnTo>
                    <a:pt x="737" y="0"/>
                  </a:lnTo>
                  <a:lnTo>
                    <a:pt x="771" y="0"/>
                  </a:lnTo>
                  <a:lnTo>
                    <a:pt x="813" y="222"/>
                  </a:lnTo>
                  <a:lnTo>
                    <a:pt x="932" y="222"/>
                  </a:lnTo>
                  <a:lnTo>
                    <a:pt x="1440" y="222"/>
                  </a:lnTo>
                  <a:lnTo>
                    <a:pt x="1432" y="267"/>
                  </a:lnTo>
                  <a:lnTo>
                    <a:pt x="1330" y="267"/>
                  </a:lnTo>
                  <a:lnTo>
                    <a:pt x="1525" y="660"/>
                  </a:lnTo>
                  <a:lnTo>
                    <a:pt x="1466" y="660"/>
                  </a:lnTo>
                  <a:lnTo>
                    <a:pt x="1305" y="274"/>
                  </a:lnTo>
                  <a:lnTo>
                    <a:pt x="1152" y="660"/>
                  </a:lnTo>
                  <a:lnTo>
                    <a:pt x="1101" y="660"/>
                  </a:lnTo>
                  <a:lnTo>
                    <a:pt x="1279" y="267"/>
                  </a:lnTo>
                  <a:lnTo>
                    <a:pt x="246" y="267"/>
                  </a:lnTo>
                  <a:lnTo>
                    <a:pt x="424" y="660"/>
                  </a:lnTo>
                  <a:lnTo>
                    <a:pt x="364" y="660"/>
                  </a:lnTo>
                  <a:lnTo>
                    <a:pt x="212" y="289"/>
                  </a:lnTo>
                  <a:lnTo>
                    <a:pt x="59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808600" y="4675680"/>
              <a:ext cx="169560" cy="17136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0" y="111"/>
                  </a:moveTo>
                  <a:lnTo>
                    <a:pt x="51" y="0"/>
                  </a:lnTo>
                  <a:lnTo>
                    <a:pt x="110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448320" y="4675680"/>
              <a:ext cx="169560" cy="17136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43" y="111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110" y="111"/>
                  </a:lnTo>
                  <a:lnTo>
                    <a:pt x="43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507440" y="4675680"/>
              <a:ext cx="155520" cy="17136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0" y="111"/>
                  </a:moveTo>
                  <a:lnTo>
                    <a:pt x="50" y="0"/>
                  </a:lnTo>
                  <a:lnTo>
                    <a:pt x="101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47160" y="4675680"/>
              <a:ext cx="169560" cy="17136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1" y="111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110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638680" y="4847040"/>
              <a:ext cx="1150200" cy="74340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110" y="0"/>
                  </a:moveTo>
                  <a:lnTo>
                    <a:pt x="8" y="207"/>
                  </a:lnTo>
                  <a:lnTo>
                    <a:pt x="0" y="222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8" y="304"/>
                  </a:lnTo>
                  <a:lnTo>
                    <a:pt x="25" y="326"/>
                  </a:lnTo>
                  <a:lnTo>
                    <a:pt x="34" y="348"/>
                  </a:lnTo>
                  <a:lnTo>
                    <a:pt x="51" y="370"/>
                  </a:lnTo>
                  <a:lnTo>
                    <a:pt x="76" y="393"/>
                  </a:lnTo>
                  <a:lnTo>
                    <a:pt x="102" y="415"/>
                  </a:lnTo>
                  <a:lnTo>
                    <a:pt x="127" y="430"/>
                  </a:lnTo>
                  <a:lnTo>
                    <a:pt x="161" y="452"/>
                  </a:lnTo>
                  <a:lnTo>
                    <a:pt x="203" y="467"/>
                  </a:lnTo>
                  <a:lnTo>
                    <a:pt x="246" y="474"/>
                  </a:lnTo>
                  <a:lnTo>
                    <a:pt x="297" y="482"/>
                  </a:lnTo>
                  <a:lnTo>
                    <a:pt x="356" y="482"/>
                  </a:lnTo>
                  <a:lnTo>
                    <a:pt x="407" y="482"/>
                  </a:lnTo>
                  <a:lnTo>
                    <a:pt x="449" y="474"/>
                  </a:lnTo>
                  <a:lnTo>
                    <a:pt x="491" y="467"/>
                  </a:lnTo>
                  <a:lnTo>
                    <a:pt x="534" y="459"/>
                  </a:lnTo>
                  <a:lnTo>
                    <a:pt x="576" y="444"/>
                  </a:lnTo>
                  <a:lnTo>
                    <a:pt x="610" y="430"/>
                  </a:lnTo>
                  <a:lnTo>
                    <a:pt x="635" y="407"/>
                  </a:lnTo>
                  <a:lnTo>
                    <a:pt x="669" y="393"/>
                  </a:lnTo>
                  <a:lnTo>
                    <a:pt x="686" y="370"/>
                  </a:lnTo>
                  <a:lnTo>
                    <a:pt x="712" y="348"/>
                  </a:lnTo>
                  <a:lnTo>
                    <a:pt x="729" y="326"/>
                  </a:lnTo>
                  <a:lnTo>
                    <a:pt x="737" y="304"/>
                  </a:lnTo>
                  <a:lnTo>
                    <a:pt x="746" y="281"/>
                  </a:lnTo>
                  <a:lnTo>
                    <a:pt x="746" y="259"/>
                  </a:lnTo>
                  <a:lnTo>
                    <a:pt x="746" y="230"/>
                  </a:lnTo>
                  <a:lnTo>
                    <a:pt x="737" y="207"/>
                  </a:lnTo>
                  <a:lnTo>
                    <a:pt x="635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9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350120" y="4847040"/>
              <a:ext cx="1136160" cy="743400"/>
            </a:xfrm>
            <a:custGeom>
              <a:avLst/>
              <a:gdLst/>
              <a:ahLst/>
              <a:rect l="l" t="t" r="r" b="b"/>
              <a:pathLst>
                <a:path w="737" h="482">
                  <a:moveTo>
                    <a:pt x="102" y="0"/>
                  </a:moveTo>
                  <a:lnTo>
                    <a:pt x="8" y="200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17" y="304"/>
                  </a:lnTo>
                  <a:lnTo>
                    <a:pt x="25" y="326"/>
                  </a:lnTo>
                  <a:lnTo>
                    <a:pt x="42" y="356"/>
                  </a:lnTo>
                  <a:lnTo>
                    <a:pt x="59" y="378"/>
                  </a:lnTo>
                  <a:lnTo>
                    <a:pt x="85" y="400"/>
                  </a:lnTo>
                  <a:lnTo>
                    <a:pt x="110" y="415"/>
                  </a:lnTo>
                  <a:lnTo>
                    <a:pt x="144" y="437"/>
                  </a:lnTo>
                  <a:lnTo>
                    <a:pt x="178" y="452"/>
                  </a:lnTo>
                  <a:lnTo>
                    <a:pt x="220" y="467"/>
                  </a:lnTo>
                  <a:lnTo>
                    <a:pt x="263" y="474"/>
                  </a:lnTo>
                  <a:lnTo>
                    <a:pt x="313" y="482"/>
                  </a:lnTo>
                  <a:lnTo>
                    <a:pt x="364" y="482"/>
                  </a:lnTo>
                  <a:lnTo>
                    <a:pt x="424" y="482"/>
                  </a:lnTo>
                  <a:lnTo>
                    <a:pt x="474" y="474"/>
                  </a:lnTo>
                  <a:lnTo>
                    <a:pt x="517" y="459"/>
                  </a:lnTo>
                  <a:lnTo>
                    <a:pt x="559" y="452"/>
                  </a:lnTo>
                  <a:lnTo>
                    <a:pt x="593" y="430"/>
                  </a:lnTo>
                  <a:lnTo>
                    <a:pt x="627" y="415"/>
                  </a:lnTo>
                  <a:lnTo>
                    <a:pt x="652" y="393"/>
                  </a:lnTo>
                  <a:lnTo>
                    <a:pt x="678" y="370"/>
                  </a:lnTo>
                  <a:lnTo>
                    <a:pt x="695" y="348"/>
                  </a:lnTo>
                  <a:lnTo>
                    <a:pt x="712" y="318"/>
                  </a:lnTo>
                  <a:lnTo>
                    <a:pt x="720" y="296"/>
                  </a:lnTo>
                  <a:lnTo>
                    <a:pt x="729" y="274"/>
                  </a:lnTo>
                  <a:lnTo>
                    <a:pt x="737" y="259"/>
                  </a:lnTo>
                  <a:lnTo>
                    <a:pt x="737" y="237"/>
                  </a:lnTo>
                  <a:lnTo>
                    <a:pt x="737" y="222"/>
                  </a:lnTo>
                  <a:lnTo>
                    <a:pt x="737" y="207"/>
                  </a:lnTo>
                  <a:lnTo>
                    <a:pt x="627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92200" y="4103280"/>
              <a:ext cx="326520" cy="126360"/>
            </a:xfrm>
            <a:custGeom>
              <a:avLst/>
              <a:gdLst/>
              <a:ahLst/>
              <a:rect l="l" t="t" r="r" b="b"/>
              <a:pathLst>
                <a:path w="212" h="82">
                  <a:moveTo>
                    <a:pt x="26" y="0"/>
                  </a:moveTo>
                  <a:lnTo>
                    <a:pt x="187" y="0"/>
                  </a:lnTo>
                  <a:lnTo>
                    <a:pt x="195" y="0"/>
                  </a:lnTo>
                  <a:lnTo>
                    <a:pt x="204" y="7"/>
                  </a:lnTo>
                  <a:lnTo>
                    <a:pt x="212" y="15"/>
                  </a:lnTo>
                  <a:lnTo>
                    <a:pt x="212" y="22"/>
                  </a:lnTo>
                  <a:lnTo>
                    <a:pt x="212" y="59"/>
                  </a:lnTo>
                  <a:lnTo>
                    <a:pt x="212" y="67"/>
                  </a:lnTo>
                  <a:lnTo>
                    <a:pt x="204" y="74"/>
                  </a:lnTo>
                  <a:lnTo>
                    <a:pt x="195" y="82"/>
                  </a:lnTo>
                  <a:lnTo>
                    <a:pt x="187" y="82"/>
                  </a:lnTo>
                  <a:lnTo>
                    <a:pt x="26" y="82"/>
                  </a:lnTo>
                  <a:lnTo>
                    <a:pt x="17" y="82"/>
                  </a:lnTo>
                  <a:lnTo>
                    <a:pt x="9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9" y="7"/>
                  </a:lnTo>
                  <a:lnTo>
                    <a:pt x="1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984720" y="4263840"/>
              <a:ext cx="143280" cy="15660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57840" y="5853240"/>
              <a:ext cx="809280" cy="160200"/>
            </a:xfrm>
            <a:custGeom>
              <a:avLst/>
              <a:gdLst/>
              <a:ahLst/>
              <a:rect l="l" t="t" r="r" b="b"/>
              <a:pathLst>
                <a:path w="525" h="104">
                  <a:moveTo>
                    <a:pt x="51" y="0"/>
                  </a:moveTo>
                  <a:lnTo>
                    <a:pt x="466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00" y="7"/>
                  </a:lnTo>
                  <a:lnTo>
                    <a:pt x="508" y="15"/>
                  </a:lnTo>
                  <a:lnTo>
                    <a:pt x="517" y="22"/>
                  </a:lnTo>
                  <a:lnTo>
                    <a:pt x="517" y="30"/>
                  </a:lnTo>
                  <a:lnTo>
                    <a:pt x="517" y="37"/>
                  </a:lnTo>
                  <a:lnTo>
                    <a:pt x="525" y="44"/>
                  </a:lnTo>
                  <a:lnTo>
                    <a:pt x="525" y="52"/>
                  </a:lnTo>
                  <a:lnTo>
                    <a:pt x="517" y="67"/>
                  </a:lnTo>
                  <a:lnTo>
                    <a:pt x="517" y="74"/>
                  </a:lnTo>
                  <a:lnTo>
                    <a:pt x="517" y="81"/>
                  </a:lnTo>
                  <a:lnTo>
                    <a:pt x="508" y="89"/>
                  </a:lnTo>
                  <a:lnTo>
                    <a:pt x="500" y="96"/>
                  </a:lnTo>
                  <a:lnTo>
                    <a:pt x="491" y="96"/>
                  </a:lnTo>
                  <a:lnTo>
                    <a:pt x="474" y="104"/>
                  </a:lnTo>
                  <a:lnTo>
                    <a:pt x="466" y="104"/>
                  </a:lnTo>
                  <a:lnTo>
                    <a:pt x="51" y="104"/>
                  </a:lnTo>
                  <a:lnTo>
                    <a:pt x="42" y="104"/>
                  </a:lnTo>
                  <a:lnTo>
                    <a:pt x="34" y="96"/>
                  </a:lnTo>
                  <a:lnTo>
                    <a:pt x="25" y="96"/>
                  </a:lnTo>
                  <a:lnTo>
                    <a:pt x="17" y="89"/>
                  </a:lnTo>
                  <a:lnTo>
                    <a:pt x="8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7" y="15"/>
                  </a:lnTo>
                  <a:lnTo>
                    <a:pt x="25" y="7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213600" y="6036480"/>
              <a:ext cx="1697400" cy="2624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2621880" y="712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0948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880920" y="2090880"/>
            <a:ext cx="2850840" cy="2101320"/>
            <a:chOff x="880920" y="2090880"/>
            <a:chExt cx="2850840" cy="2101320"/>
          </a:xfrm>
        </p:grpSpPr>
        <p:sp>
          <p:nvSpPr>
            <p:cNvPr id="1072" name=""/>
            <p:cNvSpPr/>
            <p:nvPr/>
          </p:nvSpPr>
          <p:spPr>
            <a:xfrm>
              <a:off x="880920" y="2090880"/>
              <a:ext cx="2286000" cy="1447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600 ft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386000" y="35496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5 f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5400000">
              <a:off x="2919960" y="252900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w f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5294880" y="1981080"/>
            <a:ext cx="20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33"/>
                </a:solidFill>
                <a:latin typeface="Comic Sans MS"/>
              </a:rPr>
              <a:t>a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ff66ff"/>
                </a:solidFill>
                <a:latin typeface="Comic Sans MS"/>
              </a:rPr>
              <a:t>l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37440" y="2971800"/>
            <a:ext cx="35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600 ft</a:t>
            </a:r>
            <a:r>
              <a:rPr b="0" lang="en-US" sz="3600" spc="-1" strike="noStrike" baseline="30000">
                <a:solidFill>
                  <a:srgbClr val="00cc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 25 f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556240" y="3962520"/>
            <a:ext cx="29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00   = 25 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5713200" y="4572000"/>
            <a:ext cx="2564280" cy="1191240"/>
            <a:chOff x="5713200" y="4572000"/>
            <a:chExt cx="2564280" cy="1191240"/>
          </a:xfrm>
        </p:grpSpPr>
        <p:sp>
          <p:nvSpPr>
            <p:cNvPr id="1079" name=""/>
            <p:cNvSpPr/>
            <p:nvPr/>
          </p:nvSpPr>
          <p:spPr>
            <a:xfrm>
              <a:off x="5713200" y="4572000"/>
              <a:ext cx="256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600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25 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5       2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845400" y="4800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1066680" y="4876920"/>
            <a:ext cx="3733920" cy="9169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9933"/>
                </a:solidFill>
                <a:latin typeface="Comic Sans MS"/>
              </a:rPr>
              <a:t>w  = 24 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948600" y="1320840"/>
            <a:ext cx="68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width of the rectang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8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2621880" y="712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0948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33520" y="1417680"/>
            <a:ext cx="820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the perimet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862800" y="213372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4400" spc="-1" strike="noStrike">
                <a:solidFill>
                  <a:srgbClr val="00cc00"/>
                </a:solidFill>
                <a:latin typeface="Comic Sans MS"/>
              </a:rPr>
              <a:t>2l + 2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911760" y="3108240"/>
            <a:ext cx="523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2•25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ft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cc00"/>
                </a:solidFill>
                <a:latin typeface="Comic Sans MS"/>
              </a:rPr>
              <a:t>+ 2•24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26320" y="4114800"/>
            <a:ext cx="37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50 ft + 48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733920" y="5181480"/>
            <a:ext cx="3886200" cy="9169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p = 98 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85800" y="2362320"/>
            <a:ext cx="2286000" cy="1447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600 ft</a:t>
            </a:r>
            <a:r>
              <a:rPr b="0" lang="en-US" sz="3600" spc="-1" strike="noStrike" baseline="30000">
                <a:solidFill>
                  <a:srgbClr val="00cc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215720" y="38098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25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rot="5400000">
            <a:off x="2738880" y="288828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24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3544200" y="68580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33520" y="12636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62120" y="193356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square root of a perfect 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4133880" cy="3078000"/>
          </a:xfrm>
          <a:prstGeom prst="rect">
            <a:avLst/>
          </a:prstGeom>
          <a:ln w="0">
            <a:noFill/>
          </a:ln>
        </p:spPr>
      </p:pic>
      <p:grpSp>
        <p:nvGrpSpPr>
          <p:cNvPr id="1097" name=""/>
          <p:cNvGrpSpPr/>
          <p:nvPr/>
        </p:nvGrpSpPr>
        <p:grpSpPr>
          <a:xfrm>
            <a:off x="1066680" y="3352680"/>
            <a:ext cx="2210040" cy="2971800"/>
            <a:chOff x="1066680" y="3352680"/>
            <a:chExt cx="2210040" cy="2971800"/>
          </a:xfrm>
        </p:grpSpPr>
        <p:sp>
          <p:nvSpPr>
            <p:cNvPr id="1098" name=""/>
            <p:cNvSpPr/>
            <p:nvPr/>
          </p:nvSpPr>
          <p:spPr>
            <a:xfrm>
              <a:off x="1066680" y="3352680"/>
              <a:ext cx="221004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074600" y="3364920"/>
              <a:ext cx="219384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691640" y="33897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815840" y="34023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716480" y="34272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890360" y="34459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64880" y="34707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026800" y="34830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093040" y="34894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175840" y="35265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25400" y="35452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571400" y="35514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592280" y="35514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600560" y="35514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246040" y="35640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316600" y="35827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366280" y="35949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424240" y="36136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465640" y="36262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873800" y="37692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05640" y="38250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886040" y="38563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952280" y="38685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122200" y="38995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993680" y="39121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51000" y="3936960"/>
              <a:ext cx="6624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179800" y="39679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53560" y="42415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741320" y="42850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747160" y="43848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575720" y="4421880"/>
              <a:ext cx="120852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360440" y="45028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534320" y="45464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567440" y="45586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579680" y="4558680"/>
              <a:ext cx="124164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389240" y="46519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380960" y="47080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560680" y="47142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622960" y="47268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457360" y="47451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675080" y="47764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289880" y="48135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343880" y="48322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411640" y="4838760"/>
              <a:ext cx="3312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5480" y="48510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559160" y="48571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385280" y="48945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120320" y="51120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252800" y="51120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17760" y="51184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492920" y="51368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459800" y="51555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175840" y="53172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250360" y="53420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262600" y="53794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291760" y="54230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596240" y="55972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3544200" y="68580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33520" y="1339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33520" y="193356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complex expressions containing brackets, exponents/roots, multiplication/ division, and addition/sub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3504960" cy="2631960"/>
          </a:xfrm>
          <a:prstGeom prst="rect">
            <a:avLst/>
          </a:prstGeom>
          <a:ln w="0">
            <a:noFill/>
          </a:ln>
        </p:spPr>
      </p:pic>
      <p:grpSp>
        <p:nvGrpSpPr>
          <p:cNvPr id="1159" name=""/>
          <p:cNvGrpSpPr/>
          <p:nvPr/>
        </p:nvGrpSpPr>
        <p:grpSpPr>
          <a:xfrm>
            <a:off x="1066680" y="3352680"/>
            <a:ext cx="2210040" cy="2971800"/>
            <a:chOff x="1066680" y="3352680"/>
            <a:chExt cx="2210040" cy="2971800"/>
          </a:xfrm>
        </p:grpSpPr>
        <p:sp>
          <p:nvSpPr>
            <p:cNvPr id="1160" name=""/>
            <p:cNvSpPr/>
            <p:nvPr/>
          </p:nvSpPr>
          <p:spPr>
            <a:xfrm>
              <a:off x="1066680" y="3352680"/>
              <a:ext cx="221004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074600" y="3364920"/>
              <a:ext cx="219384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691640" y="33897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815840" y="34023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716480" y="34272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890360" y="34459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964880" y="34707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26800" y="34830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093040" y="34894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175840" y="35265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625400" y="35452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571400" y="35514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592280" y="35514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600560" y="35514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246040" y="35640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316600" y="35827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366280" y="35949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424240" y="36136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465640" y="36262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73800" y="37692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105640" y="38250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886040" y="38563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952280" y="38685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22200" y="38995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993680" y="39121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151000" y="3936960"/>
              <a:ext cx="6624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179800" y="39679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753560" y="42415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741320" y="42850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747160" y="43848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575720" y="4421880"/>
              <a:ext cx="120852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360440" y="45028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534320" y="45464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567440" y="45586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579680" y="4558680"/>
              <a:ext cx="124164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389240" y="46519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380960" y="47080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560680" y="47142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22960" y="47268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57360" y="47451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75080" y="47764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289880" y="48135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343880" y="48322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11640" y="4838760"/>
              <a:ext cx="3312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095480" y="48510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559160" y="48571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385280" y="48945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120320" y="51120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252800" y="51120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517760" y="51184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492920" y="51368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459800" y="51555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75840" y="53172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250360" y="53420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262600" y="53794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291760" y="54230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596240" y="55972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7" name=""/>
          <p:cNvGrpSpPr/>
          <p:nvPr/>
        </p:nvGrpSpPr>
        <p:grpSpPr>
          <a:xfrm>
            <a:off x="1143000" y="3657600"/>
            <a:ext cx="2057400" cy="2666880"/>
            <a:chOff x="1143000" y="3657600"/>
            <a:chExt cx="2057400" cy="2666880"/>
          </a:xfrm>
        </p:grpSpPr>
        <p:sp>
          <p:nvSpPr>
            <p:cNvPr id="1218" name=""/>
            <p:cNvSpPr/>
            <p:nvPr/>
          </p:nvSpPr>
          <p:spPr>
            <a:xfrm>
              <a:off x="1143000" y="3657600"/>
              <a:ext cx="205740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150560" y="3668760"/>
              <a:ext cx="2042280" cy="2644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724760" y="3690720"/>
              <a:ext cx="107640" cy="1728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840320" y="3701880"/>
              <a:ext cx="61560" cy="189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747800" y="3724560"/>
              <a:ext cx="46080" cy="8892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909800" y="3741120"/>
              <a:ext cx="61560" cy="1728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978920" y="3763440"/>
              <a:ext cx="53640" cy="16740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036880" y="3774600"/>
              <a:ext cx="69120" cy="1728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098440" y="3780360"/>
              <a:ext cx="65160" cy="155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75480" y="3813840"/>
              <a:ext cx="50040" cy="1504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663200" y="3830400"/>
              <a:ext cx="793800" cy="10598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12800" y="3835800"/>
              <a:ext cx="104040" cy="7585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632240" y="3835800"/>
              <a:ext cx="111600" cy="7754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639800" y="3835800"/>
              <a:ext cx="134640" cy="976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241000" y="3847320"/>
              <a:ext cx="53640" cy="1281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306520" y="3863880"/>
              <a:ext cx="38520" cy="1227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352960" y="3875040"/>
              <a:ext cx="38520" cy="1170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406600" y="3891960"/>
              <a:ext cx="26640" cy="1004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445120" y="3903120"/>
              <a:ext cx="34560" cy="105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94320" y="4031280"/>
              <a:ext cx="207720" cy="3571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109960" y="4081680"/>
              <a:ext cx="173160" cy="36792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905840" y="4109400"/>
              <a:ext cx="161640" cy="2563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967400" y="4120560"/>
              <a:ext cx="80640" cy="1112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25440" y="4148280"/>
              <a:ext cx="142560" cy="2790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005920" y="4159440"/>
              <a:ext cx="19080" cy="277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52440" y="4181760"/>
              <a:ext cx="61560" cy="8892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179440" y="4209840"/>
              <a:ext cx="19080" cy="334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82360" y="4455360"/>
              <a:ext cx="53640" cy="334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70840" y="4494240"/>
              <a:ext cx="481680" cy="1562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707200" y="4583520"/>
              <a:ext cx="319680" cy="267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616760" y="4617000"/>
              <a:ext cx="1125000" cy="41832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416240" y="4689720"/>
              <a:ext cx="157680" cy="1839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578240" y="4728600"/>
              <a:ext cx="23040" cy="94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609200" y="4739760"/>
              <a:ext cx="26640" cy="94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620720" y="4739760"/>
              <a:ext cx="1155960" cy="3960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443240" y="4823640"/>
              <a:ext cx="300240" cy="5076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435680" y="4873680"/>
              <a:ext cx="96120" cy="1562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534040" y="4879440"/>
              <a:ext cx="69120" cy="1562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591640" y="4890600"/>
              <a:ext cx="111600" cy="1281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437560" y="4907160"/>
              <a:ext cx="92160" cy="16740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709280" y="4935240"/>
              <a:ext cx="770400" cy="22860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351080" y="4968720"/>
              <a:ext cx="69120" cy="3013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401120" y="4985640"/>
              <a:ext cx="34560" cy="250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395080" y="4991040"/>
              <a:ext cx="30600" cy="500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169640" y="5002200"/>
              <a:ext cx="211680" cy="3513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601280" y="5007600"/>
              <a:ext cx="778320" cy="77004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439640" y="5041080"/>
              <a:ext cx="19080" cy="1000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193040" y="5236560"/>
              <a:ext cx="134640" cy="94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316160" y="5236560"/>
              <a:ext cx="34560" cy="3888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562760" y="5241960"/>
              <a:ext cx="42120" cy="49644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539720" y="5258880"/>
              <a:ext cx="42120" cy="47412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508760" y="5275440"/>
              <a:ext cx="42120" cy="4237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175480" y="5420520"/>
              <a:ext cx="246600" cy="8478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244960" y="5442840"/>
              <a:ext cx="38520" cy="723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256480" y="5476320"/>
              <a:ext cx="26640" cy="442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283480" y="5515560"/>
              <a:ext cx="11520" cy="165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636200" y="5671800"/>
              <a:ext cx="288720" cy="61920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"/>
          <p:cNvSpPr/>
          <p:nvPr/>
        </p:nvSpPr>
        <p:spPr>
          <a:xfrm>
            <a:off x="3544200" y="68580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33520" y="13716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914400" y="17524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990720" y="205740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y formulas to find the area, perimeter and volume  of squares, rectangles. parallelograms and box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9" name="" descr=""/>
          <p:cNvPicPr/>
          <p:nvPr/>
        </p:nvPicPr>
        <p:blipFill>
          <a:blip r:embed="rId1"/>
          <a:stretch/>
        </p:blipFill>
        <p:spPr>
          <a:xfrm>
            <a:off x="4952880" y="4014720"/>
            <a:ext cx="333396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5867280" y="20574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1675440" y="4114440"/>
            <a:ext cx="1067760" cy="778320"/>
            <a:chOff x="1675440" y="4114440"/>
            <a:chExt cx="1067760" cy="778320"/>
          </a:xfrm>
        </p:grpSpPr>
        <p:cxnSp>
          <p:nvCxnSpPr>
            <p:cNvPr id="1282" name=""/>
            <p:cNvCxnSpPr/>
            <p:nvPr/>
          </p:nvCxnSpPr>
          <p:spPr>
            <a:xfrm flipH="1" rot="16200000">
              <a:off x="1819800" y="3970080"/>
              <a:ext cx="778680" cy="10674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283" name=""/>
            <p:cNvSpPr/>
            <p:nvPr/>
          </p:nvSpPr>
          <p:spPr>
            <a:xfrm>
              <a:off x="2509920" y="4888080"/>
              <a:ext cx="23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457440" cy="2597400"/>
          </a:xfrm>
          <a:prstGeom prst="rect">
            <a:avLst/>
          </a:prstGeom>
          <a:ln w="0">
            <a:noFill/>
          </a:ln>
        </p:spPr>
      </p:pic>
      <p:pic>
        <p:nvPicPr>
          <p:cNvPr id="1285" name="" descr=""/>
          <p:cNvPicPr/>
          <p:nvPr/>
        </p:nvPicPr>
        <p:blipFill>
          <a:blip r:embed="rId2"/>
          <a:stretch/>
        </p:blipFill>
        <p:spPr>
          <a:xfrm>
            <a:off x="3809880" y="2743200"/>
            <a:ext cx="4724640" cy="3560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410080" y="2743200"/>
            <a:ext cx="3056040" cy="2743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5400" y="70020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721400" y="2879280"/>
            <a:ext cx="581400" cy="2645280"/>
            <a:chOff x="4721400" y="2879280"/>
            <a:chExt cx="581400" cy="2645280"/>
          </a:xfrm>
        </p:grpSpPr>
        <p:sp>
          <p:nvSpPr>
            <p:cNvPr id="231" name=""/>
            <p:cNvSpPr/>
            <p:nvPr/>
          </p:nvSpPr>
          <p:spPr>
            <a:xfrm rot="16200000">
              <a:off x="4080240" y="3639600"/>
              <a:ext cx="186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 foo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81480" y="5029200"/>
              <a:ext cx="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145120" y="2879280"/>
              <a:ext cx="0" cy="73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769720" y="3352680"/>
            <a:ext cx="188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ccff"/>
                </a:solidFill>
                <a:latin typeface="Comic Sans MS"/>
              </a:rPr>
              <a:t>1 ft</a:t>
            </a:r>
            <a:r>
              <a:rPr b="1" lang="en-US" sz="7200" spc="-1" strike="noStrike" baseline="30000">
                <a:solidFill>
                  <a:srgbClr val="ccccff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14280" y="1644480"/>
            <a:ext cx="34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Comic Sans MS"/>
              </a:rPr>
              <a:t>1 ft x 1 ft =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1 ft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960" y="2651040"/>
            <a:ext cx="337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1 x 1 =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 1</a:t>
            </a:r>
            <a:r>
              <a:rPr b="0" lang="en-US" sz="60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=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0560" y="4724280"/>
            <a:ext cx="371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One </a:t>
            </a: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quared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quals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9440" y="1447920"/>
            <a:ext cx="26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qu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562720" y="5562720"/>
            <a:ext cx="2919240" cy="581400"/>
            <a:chOff x="5562720" y="5562720"/>
            <a:chExt cx="2919240" cy="581400"/>
          </a:xfrm>
        </p:grpSpPr>
        <p:sp>
          <p:nvSpPr>
            <p:cNvPr id="240" name=""/>
            <p:cNvSpPr/>
            <p:nvPr/>
          </p:nvSpPr>
          <p:spPr>
            <a:xfrm>
              <a:off x="6400800" y="5562720"/>
              <a:ext cx="191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 foo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72400" y="5943600"/>
              <a:ext cx="70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5562720" y="5943600"/>
              <a:ext cx="86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425400" y="70020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270400" y="5437080"/>
            <a:ext cx="3352320" cy="581400"/>
            <a:chOff x="5270400" y="5437080"/>
            <a:chExt cx="3352320" cy="581400"/>
          </a:xfrm>
        </p:grpSpPr>
        <p:sp>
          <p:nvSpPr>
            <p:cNvPr id="245" name=""/>
            <p:cNvSpPr/>
            <p:nvPr/>
          </p:nvSpPr>
          <p:spPr>
            <a:xfrm>
              <a:off x="6132240" y="5437080"/>
              <a:ext cx="191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 fe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270400" y="5726520"/>
              <a:ext cx="86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60880" y="5726520"/>
              <a:ext cx="86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516560" y="2362680"/>
            <a:ext cx="581400" cy="3179520"/>
            <a:chOff x="4516560" y="2362680"/>
            <a:chExt cx="581400" cy="3179520"/>
          </a:xfrm>
        </p:grpSpPr>
        <p:sp>
          <p:nvSpPr>
            <p:cNvPr id="249" name=""/>
            <p:cNvSpPr/>
            <p:nvPr/>
          </p:nvSpPr>
          <p:spPr>
            <a:xfrm rot="16200000">
              <a:off x="3767400" y="3289680"/>
              <a:ext cx="207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 fe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56840" y="4724640"/>
              <a:ext cx="0" cy="81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956840" y="2362680"/>
              <a:ext cx="0" cy="81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989960" y="1600200"/>
            <a:ext cx="30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2 ft x 2 ft =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4 ft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960" y="2575080"/>
            <a:ext cx="3571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2 x 2 = 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= 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194440" y="2438280"/>
            <a:ext cx="3352320" cy="2971440"/>
            <a:chOff x="5194440" y="2438280"/>
            <a:chExt cx="3352320" cy="2971440"/>
          </a:xfrm>
        </p:grpSpPr>
        <p:sp>
          <p:nvSpPr>
            <p:cNvPr id="255" name=""/>
            <p:cNvSpPr/>
            <p:nvPr/>
          </p:nvSpPr>
          <p:spPr>
            <a:xfrm>
              <a:off x="5194440" y="2438280"/>
              <a:ext cx="1637280" cy="1449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09480" y="2438280"/>
              <a:ext cx="1637280" cy="1449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94440" y="3960360"/>
              <a:ext cx="1637280" cy="1449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09480" y="3960360"/>
              <a:ext cx="1637280" cy="1449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50560" y="3380400"/>
              <a:ext cx="199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ccccff"/>
                  </a:solidFill>
                  <a:latin typeface="Comic Sans MS"/>
                </a:rPr>
                <a:t>4 ft</a:t>
              </a:r>
              <a:r>
                <a:rPr b="1" lang="en-US" sz="7200" spc="-1" strike="noStrike" baseline="30000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51800" y="4648320"/>
            <a:ext cx="37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Two </a:t>
            </a: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quared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quals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f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9440" y="1447920"/>
            <a:ext cx="26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qu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425400" y="70020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257440" y="5745240"/>
            <a:ext cx="3200400" cy="581400"/>
            <a:chOff x="5257440" y="5745240"/>
            <a:chExt cx="3200400" cy="581400"/>
          </a:xfrm>
        </p:grpSpPr>
        <p:sp>
          <p:nvSpPr>
            <p:cNvPr id="264" name=""/>
            <p:cNvSpPr/>
            <p:nvPr/>
          </p:nvSpPr>
          <p:spPr>
            <a:xfrm>
              <a:off x="6080400" y="574524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 fe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257440" y="6034680"/>
              <a:ext cx="82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5240" y="6034680"/>
              <a:ext cx="82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562640" y="2444760"/>
            <a:ext cx="581400" cy="3249720"/>
            <a:chOff x="4562640" y="2444760"/>
            <a:chExt cx="581400" cy="3249720"/>
          </a:xfrm>
        </p:grpSpPr>
        <p:sp>
          <p:nvSpPr>
            <p:cNvPr id="268" name=""/>
            <p:cNvSpPr/>
            <p:nvPr/>
          </p:nvSpPr>
          <p:spPr>
            <a:xfrm rot="16200000">
              <a:off x="3791160" y="3395520"/>
              <a:ext cx="21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 fe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27400" y="4858920"/>
              <a:ext cx="0" cy="83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027400" y="2444760"/>
              <a:ext cx="0" cy="83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259600" y="1684440"/>
            <a:ext cx="26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3 ft x 3 ft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9 ft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8960" y="2514600"/>
            <a:ext cx="3571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3 x 3 = 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60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= 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2438280"/>
            <a:ext cx="990720" cy="1067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3581280"/>
            <a:ext cx="99072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4724280"/>
            <a:ext cx="990720" cy="1067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2438280"/>
            <a:ext cx="990720" cy="1067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91520" y="2438280"/>
            <a:ext cx="990360" cy="10670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3581280"/>
            <a:ext cx="990720" cy="10670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91520" y="3581280"/>
            <a:ext cx="990360" cy="1067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4480" y="4724280"/>
            <a:ext cx="990720" cy="10670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91520" y="4724280"/>
            <a:ext cx="990360" cy="10670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16360" y="3459240"/>
            <a:ext cx="199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ccff"/>
                </a:solidFill>
                <a:latin typeface="Comic Sans MS"/>
              </a:rPr>
              <a:t>9 ft</a:t>
            </a:r>
            <a:r>
              <a:rPr b="1" lang="en-US" sz="7200" spc="-1" strike="noStrike" baseline="30000">
                <a:solidFill>
                  <a:srgbClr val="ccccff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4560" y="4648320"/>
            <a:ext cx="410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Three </a:t>
            </a: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quared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quals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9440" y="1447920"/>
            <a:ext cx="26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qu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425400" y="70020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2286000"/>
            <a:ext cx="99072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3429000"/>
            <a:ext cx="99072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4572000"/>
            <a:ext cx="990720" cy="1066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8120" y="2286000"/>
            <a:ext cx="990360" cy="1066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14800" y="2286000"/>
            <a:ext cx="990720" cy="1066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3429000"/>
            <a:ext cx="990360" cy="1066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3429000"/>
            <a:ext cx="990720" cy="10666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8120" y="4572000"/>
            <a:ext cx="990360" cy="10666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14800" y="4572000"/>
            <a:ext cx="990720" cy="10666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62960" y="338292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ccff"/>
                </a:solidFill>
                <a:latin typeface="Comic Sans MS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09480" y="1676520"/>
                <a:ext cx="2210040" cy="44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10280" y="2209680"/>
            <a:ext cx="990720" cy="10670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3352680"/>
            <a:ext cx="990720" cy="10670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10280" y="4495680"/>
            <a:ext cx="990720" cy="10670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82360" y="327672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ccff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675760" y="2940120"/>
            <a:ext cx="950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38680" y="1219320"/>
            <a:ext cx="358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quare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82120" y="5770440"/>
            <a:ext cx="65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verse operation of squ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16:37:36Z</dcterms:created>
  <dc:creator>Community Campus</dc:creator>
  <dc:description/>
  <dc:language>en-US</dc:language>
  <cp:lastModifiedBy>iddcws</cp:lastModifiedBy>
  <dcterms:modified xsi:type="dcterms:W3CDTF">2003-01-28T18:49:33Z</dcterms:modified>
  <cp:revision>92</cp:revision>
  <dc:subject/>
  <dc:title>PowerPoint Presentation</dc:title>
</cp:coreProperties>
</file>