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4  Unit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1589040"/>
            <a:ext cx="7391160" cy="4583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1589040"/>
            <a:ext cx="6096240" cy="38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Graph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inear Equa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160800" y="2590920"/>
                <a:ext cx="302400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2807640" y="137160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x,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62880" y="1371600"/>
            <a:ext cx="13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5800" y="1752480"/>
            <a:ext cx="60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232240" y="2084400"/>
            <a:ext cx="536760" cy="77472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arrow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51680" y="2666880"/>
            <a:ext cx="5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97720" y="2666880"/>
            <a:ext cx="53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809880"/>
            <a:ext cx="84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coordinate pair (6,5) a solution to the eq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940200" y="2084040"/>
            <a:ext cx="1224000" cy="6937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18560" y="5562720"/>
            <a:ext cx="13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Comic Sans MS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914400" y="4343400"/>
                <a:ext cx="31384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15000" y="4572000"/>
                <a:ext cx="1981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840120" y="5680080"/>
                <a:ext cx="15699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2164320" y="7621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 Solutions – 2 Unkn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62120" y="1589040"/>
            <a:ext cx="7391160" cy="45831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1371600" y="838080"/>
            <a:ext cx="631512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inding Solu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-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Graphing Equa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818440" y="1325520"/>
            <a:ext cx="317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 = 2x +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7880" y="26971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276720" y="2697120"/>
          <a:ext cx="1523880" cy="280044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4114800" y="350532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32960" y="2514600"/>
            <a:ext cx="309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 = 2(   ) +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429000" y="2666880"/>
            <a:ext cx="3809880" cy="1324080"/>
            <a:chOff x="3429000" y="2666880"/>
            <a:chExt cx="3809880" cy="1324080"/>
          </a:xfrm>
        </p:grpSpPr>
        <p:sp>
          <p:nvSpPr>
            <p:cNvPr id="309" name=""/>
            <p:cNvSpPr/>
            <p:nvPr/>
          </p:nvSpPr>
          <p:spPr>
            <a:xfrm>
              <a:off x="3429000" y="3505320"/>
              <a:ext cx="457200" cy="48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81680" y="2666880"/>
              <a:ext cx="457200" cy="48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4114800" y="4213080"/>
            <a:ext cx="457200" cy="4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429000" y="2666880"/>
            <a:ext cx="3809880" cy="2009880"/>
            <a:chOff x="3429000" y="2666880"/>
            <a:chExt cx="3809880" cy="2009880"/>
          </a:xfrm>
        </p:grpSpPr>
        <p:sp>
          <p:nvSpPr>
            <p:cNvPr id="313" name=""/>
            <p:cNvSpPr/>
            <p:nvPr/>
          </p:nvSpPr>
          <p:spPr>
            <a:xfrm>
              <a:off x="3429000" y="4191120"/>
              <a:ext cx="457200" cy="48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81680" y="2666880"/>
              <a:ext cx="457200" cy="48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114800" y="487692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429000" y="2666880"/>
            <a:ext cx="3809880" cy="2695680"/>
            <a:chOff x="3429000" y="2666880"/>
            <a:chExt cx="3809880" cy="2695680"/>
          </a:xfrm>
        </p:grpSpPr>
        <p:sp>
          <p:nvSpPr>
            <p:cNvPr id="317" name=""/>
            <p:cNvSpPr/>
            <p:nvPr/>
          </p:nvSpPr>
          <p:spPr>
            <a:xfrm>
              <a:off x="3429000" y="4876920"/>
              <a:ext cx="457200" cy="48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81680" y="2666880"/>
              <a:ext cx="457200" cy="48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320120" y="5821200"/>
            <a:ext cx="63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ue of y depends on value of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61760" y="237636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74640" y="3048120"/>
            <a:ext cx="1916280" cy="3124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124080" y="2895480"/>
            <a:ext cx="5029200" cy="312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oose a value for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one of the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ve the result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equation for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other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7360" y="1630440"/>
            <a:ext cx="63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ing equations in 2 variab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818440" y="1325520"/>
            <a:ext cx="317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 = 2x +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990720" y="2438280"/>
          <a:ext cx="1523880" cy="280044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1828800" y="324648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324648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395460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393228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461808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461808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96920" y="310824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,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47600" y="2514600"/>
            <a:ext cx="34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ordered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96920" y="379404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,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32920" y="449568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105520" cy="41385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 flipV="1">
            <a:off x="4033800" y="2260440"/>
            <a:ext cx="2900520" cy="3616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69160" y="33019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84960" y="2819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0920" y="310824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Comic Sans MS"/>
              </a:rPr>
              <a:t>(0,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0920" y="379404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(1,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6920" y="449568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(2,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1240" y="1447920"/>
            <a:ext cx="3173760" cy="9169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 = 2x +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3809880"/>
            <a:ext cx="15228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69960" y="2286000"/>
            <a:ext cx="2682720" cy="3429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99680" y="1249200"/>
            <a:ext cx="52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ing linear equ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1920960"/>
            <a:ext cx="4190760" cy="4501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3 order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pairs that are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solutions for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 the solu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as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 by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traigh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838080" y="2362320"/>
                <a:ext cx="304812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76920" y="2308320"/>
                <a:ext cx="30477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1219320" y="282744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9400" y="278928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760" y="1371600"/>
            <a:ext cx="703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asy 2 points -&gt; let x or y = 0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219320" y="3809880"/>
                <a:ext cx="177156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231920" y="5562720"/>
                <a:ext cx="1758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5257800" y="3881520"/>
                <a:ext cx="180324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5334120"/>
                <a:ext cx="26668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990240" y="2832120"/>
            <a:ext cx="261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 = 4 - 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60200" y="132552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x + y =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-7632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90720" y="3078000"/>
          <a:ext cx="1980720" cy="2800440"/>
        </p:xfrm>
        <a:graphic>
          <a:graphicData uri="http://schemas.openxmlformats.org/drawingml/2006/table">
            <a:tbl>
              <a:tblPr/>
              <a:tblGrid>
                <a:gridCol w="990000"/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2209680" y="388620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43000" y="3048120"/>
            <a:ext cx="5562360" cy="1323360"/>
            <a:chOff x="1143000" y="3048120"/>
            <a:chExt cx="5562360" cy="1323360"/>
          </a:xfrm>
        </p:grpSpPr>
        <p:sp>
          <p:nvSpPr>
            <p:cNvPr id="369" name=""/>
            <p:cNvSpPr/>
            <p:nvPr/>
          </p:nvSpPr>
          <p:spPr>
            <a:xfrm>
              <a:off x="1143000" y="3886200"/>
              <a:ext cx="667440" cy="48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37920" y="3048120"/>
              <a:ext cx="667440" cy="48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209680" y="459432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143000" y="3048120"/>
            <a:ext cx="5562360" cy="2009160"/>
            <a:chOff x="1143000" y="3048120"/>
            <a:chExt cx="5562360" cy="2009160"/>
          </a:xfrm>
        </p:grpSpPr>
        <p:sp>
          <p:nvSpPr>
            <p:cNvPr id="373" name=""/>
            <p:cNvSpPr/>
            <p:nvPr/>
          </p:nvSpPr>
          <p:spPr>
            <a:xfrm>
              <a:off x="1143000" y="4572000"/>
              <a:ext cx="667440" cy="48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37920" y="3048120"/>
              <a:ext cx="667440" cy="48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525780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143000" y="3048120"/>
            <a:ext cx="5562360" cy="2694960"/>
            <a:chOff x="1143000" y="3048120"/>
            <a:chExt cx="5562360" cy="2694960"/>
          </a:xfrm>
        </p:grpSpPr>
        <p:sp>
          <p:nvSpPr>
            <p:cNvPr id="377" name=""/>
            <p:cNvSpPr/>
            <p:nvPr/>
          </p:nvSpPr>
          <p:spPr>
            <a:xfrm>
              <a:off x="1143000" y="5257800"/>
              <a:ext cx="667440" cy="485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37920" y="3048120"/>
              <a:ext cx="667440" cy="48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569680" y="1981080"/>
            <a:ext cx="4119840" cy="916920"/>
            <a:chOff x="2569680" y="1981080"/>
            <a:chExt cx="4119840" cy="916920"/>
          </a:xfrm>
        </p:grpSpPr>
        <p:sp>
          <p:nvSpPr>
            <p:cNvPr id="380" name=""/>
            <p:cNvSpPr/>
            <p:nvPr/>
          </p:nvSpPr>
          <p:spPr>
            <a:xfrm>
              <a:off x="2569680" y="1981080"/>
              <a:ext cx="76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-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47040" y="1981080"/>
              <a:ext cx="942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-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43200" y="281952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166200" y="377820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,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51080" y="446400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,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99680" y="516564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105520" cy="41385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125960" y="2232000"/>
            <a:ext cx="3697200" cy="2193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6480" y="1371600"/>
            <a:ext cx="2782080" cy="9169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x + y =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70640" y="362592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,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55520" y="431172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,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04120" y="501336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49040" y="2895480"/>
            <a:ext cx="11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(x,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362320" y="3048120"/>
            <a:ext cx="3352680" cy="914040"/>
            <a:chOff x="2362320" y="3048120"/>
            <a:chExt cx="3352680" cy="914040"/>
          </a:xfrm>
        </p:grpSpPr>
        <p:sp>
          <p:nvSpPr>
            <p:cNvPr id="396" name=""/>
            <p:cNvSpPr/>
            <p:nvPr/>
          </p:nvSpPr>
          <p:spPr>
            <a:xfrm>
              <a:off x="5562720" y="304812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7" name=""/>
            <p:cNvCxnSpPr>
              <a:endCxn id="396" idx="2"/>
            </p:cNvCxnSpPr>
            <p:nvPr/>
          </p:nvCxnSpPr>
          <p:spPr>
            <a:xfrm flipV="1">
              <a:off x="2362320" y="3123360"/>
              <a:ext cx="3201120" cy="83916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8" name=""/>
          <p:cNvGrpSpPr/>
          <p:nvPr/>
        </p:nvGrpSpPr>
        <p:grpSpPr>
          <a:xfrm>
            <a:off x="2273400" y="3301920"/>
            <a:ext cx="3848040" cy="1360080"/>
            <a:chOff x="2273400" y="3301920"/>
            <a:chExt cx="3848040" cy="1360080"/>
          </a:xfrm>
        </p:grpSpPr>
        <p:sp>
          <p:nvSpPr>
            <p:cNvPr id="399" name=""/>
            <p:cNvSpPr/>
            <p:nvPr/>
          </p:nvSpPr>
          <p:spPr>
            <a:xfrm>
              <a:off x="5969160" y="3301920"/>
              <a:ext cx="15228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0" name=""/>
            <p:cNvCxnSpPr>
              <a:stCxn id="391" idx="3"/>
              <a:endCxn id="399" idx="2"/>
            </p:cNvCxnSpPr>
            <p:nvPr/>
          </p:nvCxnSpPr>
          <p:spPr>
            <a:xfrm flipV="1">
              <a:off x="2273400" y="3377520"/>
              <a:ext cx="3696480" cy="1284840"/>
            </a:xfrm>
            <a:prstGeom prst="curvedConnector5">
              <a:avLst>
                <a:gd name="adj1" fmla="val 49995"/>
                <a:gd name="adj2" fmla="val 50000"/>
                <a:gd name="adj3" fmla="val 4999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01" name=""/>
          <p:cNvGrpSpPr/>
          <p:nvPr/>
        </p:nvGrpSpPr>
        <p:grpSpPr>
          <a:xfrm>
            <a:off x="2362320" y="3556080"/>
            <a:ext cx="4174920" cy="1807560"/>
            <a:chOff x="2362320" y="3556080"/>
            <a:chExt cx="4174920" cy="1807560"/>
          </a:xfrm>
        </p:grpSpPr>
        <p:sp>
          <p:nvSpPr>
            <p:cNvPr id="402" name=""/>
            <p:cNvSpPr/>
            <p:nvPr/>
          </p:nvSpPr>
          <p:spPr>
            <a:xfrm>
              <a:off x="6384960" y="35560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3" name=""/>
            <p:cNvCxnSpPr>
              <a:stCxn id="392" idx="3"/>
              <a:endCxn id="402" idx="2"/>
            </p:cNvCxnSpPr>
            <p:nvPr/>
          </p:nvCxnSpPr>
          <p:spPr>
            <a:xfrm flipV="1">
              <a:off x="2362320" y="3631320"/>
              <a:ext cx="4023360" cy="1732680"/>
            </a:xfrm>
            <a:prstGeom prst="curvedConnector5">
              <a:avLst>
                <a:gd name="adj1" fmla="val 49995"/>
                <a:gd name="adj2" fmla="val 50000"/>
                <a:gd name="adj3" fmla="val 4999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424240"/>
            <a:ext cx="55627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whether a coordinate pair is a solution to an equation in two unkn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solutions to equations in two unkn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9520" y="1828800"/>
                <a:ext cx="266688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05" name=""/>
          <p:cNvGraphicFramePr/>
          <p:nvPr/>
        </p:nvGraphicFramePr>
        <p:xfrm>
          <a:off x="762120" y="3524400"/>
          <a:ext cx="1980720" cy="2800080"/>
        </p:xfrm>
        <a:graphic>
          <a:graphicData uri="http://schemas.openxmlformats.org/drawingml/2006/table">
            <a:tbl>
              <a:tblPr/>
              <a:tblGrid>
                <a:gridCol w="990000"/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6" name=""/>
          <p:cNvGrpSpPr/>
          <p:nvPr/>
        </p:nvGrpSpPr>
        <p:grpSpPr>
          <a:xfrm>
            <a:off x="914400" y="2333520"/>
            <a:ext cx="2876400" cy="2495520"/>
            <a:chOff x="914400" y="2333520"/>
            <a:chExt cx="2876400" cy="2495520"/>
          </a:xfrm>
        </p:grpSpPr>
        <p:sp>
          <p:nvSpPr>
            <p:cNvPr id="407" name=""/>
            <p:cNvSpPr/>
            <p:nvPr/>
          </p:nvSpPr>
          <p:spPr>
            <a:xfrm>
              <a:off x="914400" y="4343400"/>
              <a:ext cx="666720" cy="48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76720" y="2333520"/>
              <a:ext cx="514080" cy="48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733920" y="3200400"/>
                <a:ext cx="1771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1981080" y="4114800"/>
            <a:ext cx="3733920" cy="685800"/>
            <a:chOff x="1981080" y="4114800"/>
            <a:chExt cx="3733920" cy="685800"/>
          </a:xfrm>
        </p:grpSpPr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4127400" y="4114800"/>
                  <a:ext cx="158760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"/>
            <p:cNvSpPr/>
            <p:nvPr/>
          </p:nvSpPr>
          <p:spPr>
            <a:xfrm>
              <a:off x="1981080" y="4343400"/>
              <a:ext cx="5209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3809880" y="1447920"/>
                <a:ext cx="266724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15" name=""/>
          <p:cNvGraphicFramePr/>
          <p:nvPr/>
        </p:nvGraphicFramePr>
        <p:xfrm>
          <a:off x="762120" y="3524400"/>
          <a:ext cx="1980720" cy="2800080"/>
        </p:xfrm>
        <a:graphic>
          <a:graphicData uri="http://schemas.openxmlformats.org/drawingml/2006/table">
            <a:tbl>
              <a:tblPr/>
              <a:tblGrid>
                <a:gridCol w="990000"/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"/>
          <p:cNvSpPr/>
          <p:nvPr/>
        </p:nvSpPr>
        <p:spPr>
          <a:xfrm>
            <a:off x="914400" y="4343400"/>
            <a:ext cx="66672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981080" y="1952640"/>
            <a:ext cx="3562560" cy="3562200"/>
            <a:chOff x="1981080" y="1952640"/>
            <a:chExt cx="3562560" cy="3562200"/>
          </a:xfrm>
        </p:grpSpPr>
        <p:sp>
          <p:nvSpPr>
            <p:cNvPr id="418" name=""/>
            <p:cNvSpPr/>
            <p:nvPr/>
          </p:nvSpPr>
          <p:spPr>
            <a:xfrm>
              <a:off x="5118120" y="1952640"/>
              <a:ext cx="425520" cy="48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81080" y="5029200"/>
              <a:ext cx="514440" cy="48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886200" y="3048120"/>
                <a:ext cx="161928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276720" y="4495680"/>
                <a:ext cx="27432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05240" y="5791320"/>
                <a:ext cx="1409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3" name=""/>
          <p:cNvSpPr/>
          <p:nvPr/>
        </p:nvSpPr>
        <p:spPr>
          <a:xfrm>
            <a:off x="1981080" y="4343400"/>
            <a:ext cx="51444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02920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09880" y="1447920"/>
                <a:ext cx="266724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7" name=""/>
          <p:cNvGraphicFramePr/>
          <p:nvPr/>
        </p:nvGraphicFramePr>
        <p:xfrm>
          <a:off x="762120" y="3524400"/>
          <a:ext cx="1980720" cy="2800080"/>
        </p:xfrm>
        <a:graphic>
          <a:graphicData uri="http://schemas.openxmlformats.org/drawingml/2006/table">
            <a:tbl>
              <a:tblPr/>
              <a:tblGrid>
                <a:gridCol w="990000"/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"/>
          <p:cNvSpPr/>
          <p:nvPr/>
        </p:nvSpPr>
        <p:spPr>
          <a:xfrm>
            <a:off x="914400" y="4343400"/>
            <a:ext cx="66672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81080" y="5029200"/>
            <a:ext cx="51444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981080" y="4343400"/>
            <a:ext cx="51444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502920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90720" y="1905120"/>
            <a:ext cx="3714480" cy="4295520"/>
            <a:chOff x="990720" y="1905120"/>
            <a:chExt cx="3714480" cy="4295520"/>
          </a:xfrm>
        </p:grpSpPr>
        <p:sp>
          <p:nvSpPr>
            <p:cNvPr id="433" name=""/>
            <p:cNvSpPr/>
            <p:nvPr/>
          </p:nvSpPr>
          <p:spPr>
            <a:xfrm>
              <a:off x="990720" y="5715000"/>
              <a:ext cx="514080" cy="48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91120" y="1905120"/>
              <a:ext cx="514080" cy="48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3886200" y="3147840"/>
                <a:ext cx="200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6" name=""/>
          <p:cNvGrpSpPr/>
          <p:nvPr/>
        </p:nvGrpSpPr>
        <p:grpSpPr>
          <a:xfrm>
            <a:off x="3505320" y="3992400"/>
            <a:ext cx="2514600" cy="655920"/>
            <a:chOff x="3505320" y="3992400"/>
            <a:chExt cx="2514600" cy="655920"/>
          </a:xfrm>
        </p:grpSpPr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3505320" y="3992400"/>
                  <a:ext cx="6858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5181480" y="3992400"/>
                  <a:ext cx="6858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9" name=""/>
            <p:cNvSpPr/>
            <p:nvPr/>
          </p:nvSpPr>
          <p:spPr>
            <a:xfrm>
              <a:off x="3632040" y="4648320"/>
              <a:ext cx="23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241880" y="4915080"/>
                <a:ext cx="165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641840" y="5715000"/>
                <a:ext cx="1606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2000160" y="5715000"/>
            <a:ext cx="51444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276720" y="1447920"/>
                <a:ext cx="266688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45" name=""/>
          <p:cNvGraphicFramePr/>
          <p:nvPr/>
        </p:nvGraphicFramePr>
        <p:xfrm>
          <a:off x="2571840" y="3371760"/>
          <a:ext cx="1980720" cy="2800440"/>
        </p:xfrm>
        <a:graphic>
          <a:graphicData uri="http://schemas.openxmlformats.org/drawingml/2006/table">
            <a:tbl>
              <a:tblPr/>
              <a:tblGrid>
                <a:gridCol w="990000"/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"/>
          <p:cNvSpPr/>
          <p:nvPr/>
        </p:nvSpPr>
        <p:spPr>
          <a:xfrm>
            <a:off x="2724120" y="4191120"/>
            <a:ext cx="66672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90800" y="4876920"/>
            <a:ext cx="51444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90800" y="4191120"/>
            <a:ext cx="51444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00440" y="4876920"/>
            <a:ext cx="51444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00440" y="5562720"/>
            <a:ext cx="51444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5562720"/>
            <a:ext cx="51444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84640" y="408312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0, -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02200" y="4768920"/>
            <a:ext cx="14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27, 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84640" y="548640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3, -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10200" y="326088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(x, 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3657600" y="1512720"/>
            <a:ext cx="4746600" cy="458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295280" y="1371600"/>
                <a:ext cx="266724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9" name=""/>
          <p:cNvGrpSpPr/>
          <p:nvPr/>
        </p:nvGrpSpPr>
        <p:grpSpPr>
          <a:xfrm>
            <a:off x="1209600" y="3048120"/>
            <a:ext cx="1483920" cy="2868120"/>
            <a:chOff x="1209600" y="3048120"/>
            <a:chExt cx="1483920" cy="2868120"/>
          </a:xfrm>
        </p:grpSpPr>
        <p:sp>
          <p:nvSpPr>
            <p:cNvPr id="460" name=""/>
            <p:cNvSpPr/>
            <p:nvPr/>
          </p:nvSpPr>
          <p:spPr>
            <a:xfrm>
              <a:off x="1224000" y="387036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(0, -9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11400" y="4556160"/>
              <a:ext cx="148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ccff"/>
                  </a:solidFill>
                  <a:latin typeface="Comic Sans MS"/>
                </a:rPr>
                <a:t>(27, 0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24000" y="527364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ff"/>
                  </a:solidFill>
                  <a:latin typeface="Comic Sans MS"/>
                </a:rPr>
                <a:t>(3, -8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09600" y="3048120"/>
              <a:ext cx="1280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(x, y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597120" y="3870360"/>
            <a:ext cx="48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06960" y="1447920"/>
            <a:ext cx="0" cy="487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92360" y="3809880"/>
            <a:ext cx="48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0   -20    -10             10     20   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484240" y="1295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77760" y="20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75600" y="2870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466240" y="44197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38520" y="51814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38520" y="58672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32960" y="1219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410320" y="36576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913200" y="3801960"/>
            <a:ext cx="4473720" cy="144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84800" y="4419720"/>
            <a:ext cx="152640" cy="152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43600" y="4495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77320" y="3809880"/>
            <a:ext cx="15228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762120" y="2743200"/>
          <a:ext cx="1980720" cy="2800440"/>
        </p:xfrm>
        <a:graphic>
          <a:graphicData uri="http://schemas.openxmlformats.org/drawingml/2006/table">
            <a:tbl>
              <a:tblPr/>
              <a:tblGrid>
                <a:gridCol w="990000"/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1981080" y="3552840"/>
            <a:ext cx="51444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81080" y="4314960"/>
            <a:ext cx="51444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4952880"/>
            <a:ext cx="762120" cy="4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105520" cy="413856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7620120" y="2154240"/>
            <a:ext cx="0" cy="40417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569360" y="57913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69360" y="3316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0" y="4038480"/>
            <a:ext cx="152640" cy="1526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81080" y="1595520"/>
                <a:ext cx="182880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4495680" y="1447920"/>
            <a:ext cx="2667240" cy="2104920"/>
          </a:xfrm>
          <a:prstGeom prst="wedgeRoundRectCallout">
            <a:avLst>
              <a:gd name="adj1" fmla="val 64106"/>
              <a:gd name="adj2" fmla="val 6214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ical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"/>
          <p:cNvGraphicFramePr/>
          <p:nvPr/>
        </p:nvGraphicFramePr>
        <p:xfrm>
          <a:off x="762120" y="2743200"/>
          <a:ext cx="1980720" cy="2800440"/>
        </p:xfrm>
        <a:graphic>
          <a:graphicData uri="http://schemas.openxmlformats.org/drawingml/2006/table">
            <a:tbl>
              <a:tblPr/>
              <a:tblGrid>
                <a:gridCol w="990000"/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"/>
          <p:cNvSpPr/>
          <p:nvPr/>
        </p:nvSpPr>
        <p:spPr>
          <a:xfrm>
            <a:off x="1019160" y="4267080"/>
            <a:ext cx="514440" cy="4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09800" y="355284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8080" y="4952880"/>
            <a:ext cx="762120" cy="4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105520" cy="41385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 flipV="1">
            <a:off x="3208320" y="4836960"/>
            <a:ext cx="4856040" cy="648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35520" y="47671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75560" y="4754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53000" y="4778280"/>
            <a:ext cx="152640" cy="1526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57800" y="1447920"/>
            <a:ext cx="2962440" cy="2104920"/>
          </a:xfrm>
          <a:prstGeom prst="wedgeRoundRectCallout">
            <a:avLst>
              <a:gd name="adj1" fmla="val -62699"/>
              <a:gd name="adj2" fmla="val 10557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-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rizontal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384200" y="1447920"/>
                <a:ext cx="21211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677960" y="2971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58640" y="1981080"/>
          <a:ext cx="1523880" cy="280044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1297080" y="278928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1280" y="278928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7080" y="349740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1280" y="347508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97080" y="416088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4160880"/>
            <a:ext cx="45720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05880" y="2651040"/>
            <a:ext cx="11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0,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15880" y="2057400"/>
            <a:ext cx="34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ordered pai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05880" y="3336840"/>
            <a:ext cx="11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5,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49080" y="4038480"/>
            <a:ext cx="152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cc66ff"/>
                </a:solidFill>
                <a:latin typeface="Comic Sans MS"/>
              </a:rPr>
              <a:t>-2,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3467160" y="1295280"/>
                <a:ext cx="1942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081320" y="2681280"/>
            <a:ext cx="4453200" cy="37958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 flipH="1">
            <a:off x="4350960" y="3214800"/>
            <a:ext cx="3992760" cy="2536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62840" y="33526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189840" y="4468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99000" y="4915080"/>
            <a:ext cx="152640" cy="1522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09480" y="1542960"/>
            <a:ext cx="7848720" cy="47055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 txBox="1"/>
          <p:nvPr/>
        </p:nvSpPr>
        <p:spPr>
          <a:xfrm>
            <a:off x="1143000" y="1676520"/>
            <a:ext cx="67816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X and 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ntercep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276720" y="1419120"/>
                <a:ext cx="2355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26" name=""/>
          <p:cNvGraphicFramePr/>
          <p:nvPr/>
        </p:nvGraphicFramePr>
        <p:xfrm>
          <a:off x="762120" y="2362320"/>
          <a:ext cx="1980720" cy="2800080"/>
        </p:xfrm>
        <a:graphic>
          <a:graphicData uri="http://schemas.openxmlformats.org/drawingml/2006/table">
            <a:tbl>
              <a:tblPr/>
              <a:tblGrid>
                <a:gridCol w="990000"/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"/>
          <p:cNvSpPr/>
          <p:nvPr/>
        </p:nvSpPr>
        <p:spPr>
          <a:xfrm>
            <a:off x="990720" y="317196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388620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05120" y="317196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90720" y="388620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048280" y="2438280"/>
                <a:ext cx="2800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3149280" y="269712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Comic Sans MS"/>
              </a:rPr>
              <a:t>Y = 0  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155040" y="434340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Comic Sans MS"/>
              </a:rPr>
              <a:t>x = 1  -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5065560" y="4392720"/>
                <a:ext cx="1792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48280" y="5162400"/>
                <a:ext cx="1047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1905120" y="457200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0720" y="457200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424240"/>
            <a:ext cx="55627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linear equations in two unknowns using a rectangular coordinat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x and y intercepts of a linear equation in two unkn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3276720" y="1419120"/>
                <a:ext cx="23558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40" name=""/>
          <p:cNvGraphicFramePr/>
          <p:nvPr/>
        </p:nvGraphicFramePr>
        <p:xfrm>
          <a:off x="762120" y="2362320"/>
          <a:ext cx="1980720" cy="2800080"/>
        </p:xfrm>
        <a:graphic>
          <a:graphicData uri="http://schemas.openxmlformats.org/drawingml/2006/table">
            <a:tbl>
              <a:tblPr/>
              <a:tblGrid>
                <a:gridCol w="990000"/>
                <a:gridCol w="9907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"/>
          <p:cNvSpPr/>
          <p:nvPr/>
        </p:nvSpPr>
        <p:spPr>
          <a:xfrm>
            <a:off x="990720" y="317196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5120" y="388620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05120" y="317196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90720" y="388620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05120" y="457200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4572000"/>
            <a:ext cx="514080" cy="48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105520" cy="41385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5256360" y="2070000"/>
            <a:ext cx="2379600" cy="40230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969160" y="330192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84960" y="4029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62720" y="2590920"/>
            <a:ext cx="15228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21440" y="1419120"/>
            <a:ext cx="2565360" cy="1643040"/>
          </a:xfrm>
          <a:prstGeom prst="wedgeRoundRectCallout">
            <a:avLst>
              <a:gd name="adj1" fmla="val -68564"/>
              <a:gd name="adj2" fmla="val 2526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intercep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01920" y="4800600"/>
            <a:ext cx="2565360" cy="1357200"/>
          </a:xfrm>
          <a:prstGeom prst="wedgeRoundRectCallout">
            <a:avLst>
              <a:gd name="adj1" fmla="val 72773"/>
              <a:gd name="adj2" fmla="val -101578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intercep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72680" y="7621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–Y Inter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048120" cy="36576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564480" y="1347840"/>
            <a:ext cx="41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and y intercep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220968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Comic Sans MS"/>
              </a:rPr>
              <a:t>x intercept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where the line intercepts the x axis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 (y 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14800" y="418932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00"/>
                </a:solidFill>
                <a:uFillTx/>
                <a:latin typeface="Comic Sans MS"/>
              </a:rPr>
              <a:t>y intercep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point where the line intercepts the y axis </a:t>
            </a:r>
            <a:r>
              <a:rPr b="0" lang="en-US" sz="2800" spc="-1" strike="noStrike">
                <a:solidFill>
                  <a:srgbClr val="cc66ff"/>
                </a:solidFill>
                <a:latin typeface="Comic Sans MS"/>
              </a:rPr>
              <a:t>(x 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72680" y="7621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–Y Inter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771480" y="1523880"/>
            <a:ext cx="7610400" cy="48769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1295280" y="609480"/>
            <a:ext cx="632484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pplica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Graphing Equa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533520" y="3292560"/>
          <a:ext cx="4267080" cy="2727360"/>
        </p:xfrm>
        <a:graphic>
          <a:graphicData uri="http://schemas.openxmlformats.org/drawingml/2006/table">
            <a:tbl>
              <a:tblPr/>
              <a:tblGrid>
                <a:gridCol w="2093760"/>
                <a:gridCol w="1127160"/>
                <a:gridCol w="104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e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i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ther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62120" y="1905120"/>
                <a:ext cx="247644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"/>
          <p:cNvSpPr/>
          <p:nvPr/>
        </p:nvSpPr>
        <p:spPr>
          <a:xfrm>
            <a:off x="1948680" y="12952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sius to Fahrenheit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05280" y="3873600"/>
            <a:ext cx="496800" cy="59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924360" y="3873600"/>
            <a:ext cx="747720" cy="59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410080" y="2489040"/>
                <a:ext cx="24768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410080" y="3868560"/>
                <a:ext cx="25527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5486400" y="5327640"/>
                <a:ext cx="1352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1991160" y="76212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– Graphing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533520" y="3292560"/>
          <a:ext cx="4267080" cy="2727360"/>
        </p:xfrm>
        <a:graphic>
          <a:graphicData uri="http://schemas.openxmlformats.org/drawingml/2006/table">
            <a:tbl>
              <a:tblPr/>
              <a:tblGrid>
                <a:gridCol w="2093760"/>
                <a:gridCol w="1127160"/>
                <a:gridCol w="104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e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i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ther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762120" y="1905120"/>
                <a:ext cx="247644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>
            <a:off x="1948680" y="12952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sius to Fahrenheit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05280" y="3873600"/>
            <a:ext cx="496800" cy="59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24360" y="3873600"/>
            <a:ext cx="747720" cy="59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09880" y="4591080"/>
            <a:ext cx="947880" cy="59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51120" y="4603680"/>
            <a:ext cx="947880" cy="59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5410080" y="2209680"/>
                <a:ext cx="24768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410080" y="3429000"/>
                <a:ext cx="28767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410080" y="4724280"/>
                <a:ext cx="23637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410080" y="5638680"/>
                <a:ext cx="14623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1991160" y="76212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– Graphing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"/>
          <p:cNvGraphicFramePr/>
          <p:nvPr/>
        </p:nvGraphicFramePr>
        <p:xfrm>
          <a:off x="533520" y="3292560"/>
          <a:ext cx="4267080" cy="2727360"/>
        </p:xfrm>
        <a:graphic>
          <a:graphicData uri="http://schemas.openxmlformats.org/drawingml/2006/table">
            <a:tbl>
              <a:tblPr/>
              <a:tblGrid>
                <a:gridCol w="2093760"/>
                <a:gridCol w="1127160"/>
                <a:gridCol w="104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ez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i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ther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762120" y="1905120"/>
                <a:ext cx="247644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1948680" y="12952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sius to Fahrenheit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05280" y="3873600"/>
            <a:ext cx="496800" cy="59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24360" y="3873600"/>
            <a:ext cx="747720" cy="59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59120" y="5334120"/>
            <a:ext cx="646200" cy="58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97280" y="5334120"/>
            <a:ext cx="936720" cy="556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9880" y="4591080"/>
            <a:ext cx="947880" cy="59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51120" y="4603680"/>
            <a:ext cx="947880" cy="59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410080" y="2209680"/>
                <a:ext cx="24768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5410080" y="3505320"/>
                <a:ext cx="29005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451480" y="4800600"/>
                <a:ext cx="23972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451480" y="5715000"/>
                <a:ext cx="16351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>
            <a:off x="1991160" y="76212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– Graphing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762120" y="2117880"/>
                <a:ext cx="1971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1948680" y="12952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sius to Fahrenheit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1981080" cy="26668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3657600" y="1817640"/>
            <a:ext cx="4746600" cy="458316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3597120" y="4175280"/>
            <a:ext cx="48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06960" y="1752480"/>
            <a:ext cx="0" cy="487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51800" y="411480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00    -50             5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53560" y="23623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29080" y="31748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91200" y="47242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15680" y="54864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409600" y="38656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061880" y="1952640"/>
            <a:ext cx="4146840" cy="37321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40360" y="386568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730920" y="313704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31200" y="2438280"/>
            <a:ext cx="152280" cy="1526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19280" y="1563840"/>
            <a:ext cx="3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3200" y="3276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17960" y="3244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6324480" y="4844880"/>
            <a:ext cx="2476800" cy="1098720"/>
            <a:chOff x="6324480" y="4844880"/>
            <a:chExt cx="2476800" cy="1098720"/>
          </a:xfrm>
        </p:grpSpPr>
        <p:sp>
          <p:nvSpPr>
            <p:cNvPr id="617" name=""/>
            <p:cNvSpPr/>
            <p:nvPr/>
          </p:nvSpPr>
          <p:spPr>
            <a:xfrm>
              <a:off x="6324480" y="4876920"/>
              <a:ext cx="2476800" cy="1066680"/>
            </a:xfrm>
            <a:prstGeom prst="wedgeRoundRectCallout">
              <a:avLst>
                <a:gd name="adj1" fmla="val -71412"/>
                <a:gd name="adj2" fmla="val -113245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When f =0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-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352000" y="4844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31520" y="523224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991160" y="76212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– Graphing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948680" y="12952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sius to Fahrenheit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514440" y="1817640"/>
            <a:ext cx="4746600" cy="4583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434880" y="4175280"/>
            <a:ext cx="486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44720" y="1752480"/>
            <a:ext cx="0" cy="487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89560" y="411480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00    -50             50 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191320" y="236232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166840" y="31748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028960" y="472428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53440" y="54864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247000" y="38656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899640" y="1952640"/>
            <a:ext cx="4146840" cy="37321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78120" y="38656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68680" y="313704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68960" y="2438280"/>
            <a:ext cx="152280" cy="1526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56680" y="1563840"/>
            <a:ext cx="3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162240" y="4844880"/>
            <a:ext cx="2476440" cy="1098720"/>
            <a:chOff x="3162240" y="4844880"/>
            <a:chExt cx="2476440" cy="1098720"/>
          </a:xfrm>
        </p:grpSpPr>
        <p:sp>
          <p:nvSpPr>
            <p:cNvPr id="637" name=""/>
            <p:cNvSpPr/>
            <p:nvPr/>
          </p:nvSpPr>
          <p:spPr>
            <a:xfrm>
              <a:off x="3162240" y="4876920"/>
              <a:ext cx="2476440" cy="1066680"/>
            </a:xfrm>
            <a:prstGeom prst="wedgeRoundRectCallout">
              <a:avLst>
                <a:gd name="adj1" fmla="val -71412"/>
                <a:gd name="adj2" fmla="val -113245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When f =0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-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89400" y="4844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768920" y="523224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6248520" y="2133720"/>
                <a:ext cx="19922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5856120" y="3429000"/>
                <a:ext cx="26006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6213600" y="4572000"/>
                <a:ext cx="19396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09480" y="2057400"/>
                <a:ext cx="1971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400800" y="5824440"/>
                <a:ext cx="16765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7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1991160" y="762120"/>
            <a:ext cx="51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– Graphing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64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95640" y="1828800"/>
            <a:ext cx="65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whether a coordinate pair is a solution to an equation in two unkn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3429000" y="3638520"/>
            <a:ext cx="4952880" cy="26100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482920" y="2057400"/>
            <a:ext cx="589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solutions to equ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in two unkn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711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3735360" y="3249720"/>
            <a:ext cx="4537080" cy="306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67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242424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graphing equations in two unknowns in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2287440" y="1981080"/>
            <a:ext cx="617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linear equations in two unknowns using a rectangular coordinat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77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3681360" y="3710160"/>
            <a:ext cx="4548240" cy="2482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3352680" y="20430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x and 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intercepts of a linea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equation in tw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unkn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3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3733920" y="4084560"/>
            <a:ext cx="4572000" cy="23097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3048120" y="2027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y graph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equations in tw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unkn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9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3429000" y="3773520"/>
            <a:ext cx="4843440" cy="27036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752480" y="1447920"/>
            <a:ext cx="5562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sting Solutions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wo Unknown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3429000"/>
            <a:ext cx="1219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c0c0c0"/>
                  </a:outerShdw>
                </a:effectLst>
                <a:latin typeface="Arial Black"/>
              </a:rPr>
              <a:t>X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391520" y="3505320"/>
            <a:ext cx="121896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c0c0c0"/>
                  </a:outerShdw>
                </a:effectLst>
                <a:latin typeface="Arial Black"/>
              </a:rPr>
              <a:t>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181840" cy="5029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056920" y="4876920"/>
            <a:ext cx="3173760" cy="91692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 = 2x +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0040" y="1447920"/>
            <a:ext cx="11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(x,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89360" y="1603080"/>
            <a:ext cx="3076560" cy="4167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4960" y="3492360"/>
            <a:ext cx="4062600" cy="2011680"/>
            <a:chOff x="534960" y="3492360"/>
            <a:chExt cx="4062600" cy="2011680"/>
          </a:xfrm>
        </p:grpSpPr>
        <p:sp>
          <p:nvSpPr>
            <p:cNvPr id="234" name=""/>
            <p:cNvSpPr/>
            <p:nvPr/>
          </p:nvSpPr>
          <p:spPr>
            <a:xfrm>
              <a:off x="534960" y="4800600"/>
              <a:ext cx="12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8000"/>
                  </a:solidFill>
                  <a:latin typeface="Comic Sans MS"/>
                </a:rPr>
                <a:t>(0,1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44920" y="3492360"/>
              <a:ext cx="152640" cy="1526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" name=""/>
            <p:cNvCxnSpPr>
              <a:stCxn id="234" idx="3"/>
              <a:endCxn id="235" idx="3"/>
            </p:cNvCxnSpPr>
            <p:nvPr/>
          </p:nvCxnSpPr>
          <p:spPr>
            <a:xfrm flipV="1">
              <a:off x="1752120" y="3621960"/>
              <a:ext cx="2715480" cy="15296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37" name=""/>
          <p:cNvGrpSpPr/>
          <p:nvPr/>
        </p:nvGrpSpPr>
        <p:grpSpPr>
          <a:xfrm>
            <a:off x="534960" y="2895480"/>
            <a:ext cx="4494240" cy="1389240"/>
            <a:chOff x="534960" y="2895480"/>
            <a:chExt cx="4494240" cy="1389240"/>
          </a:xfrm>
        </p:grpSpPr>
        <p:sp>
          <p:nvSpPr>
            <p:cNvPr id="238" name=""/>
            <p:cNvSpPr/>
            <p:nvPr/>
          </p:nvSpPr>
          <p:spPr>
            <a:xfrm>
              <a:off x="534960" y="3581280"/>
              <a:ext cx="12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(1,3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6920" y="2895480"/>
              <a:ext cx="15228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0" name=""/>
            <p:cNvCxnSpPr>
              <a:stCxn id="238" idx="3"/>
              <a:endCxn id="239" idx="2"/>
            </p:cNvCxnSpPr>
            <p:nvPr/>
          </p:nvCxnSpPr>
          <p:spPr>
            <a:xfrm flipV="1">
              <a:off x="1752120" y="2971440"/>
              <a:ext cx="3125160" cy="961200"/>
            </a:xfrm>
            <a:prstGeom prst="curvedConnector5">
              <a:avLst>
                <a:gd name="adj1" fmla="val 50000"/>
                <a:gd name="adj2" fmla="val 49981"/>
                <a:gd name="adj3" fmla="val 5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41" name=""/>
          <p:cNvGrpSpPr/>
          <p:nvPr/>
        </p:nvGrpSpPr>
        <p:grpSpPr>
          <a:xfrm>
            <a:off x="537120" y="2311560"/>
            <a:ext cx="4898520" cy="830160"/>
            <a:chOff x="537120" y="2311560"/>
            <a:chExt cx="4898520" cy="830160"/>
          </a:xfrm>
        </p:grpSpPr>
        <p:sp>
          <p:nvSpPr>
            <p:cNvPr id="242" name=""/>
            <p:cNvSpPr/>
            <p:nvPr/>
          </p:nvSpPr>
          <p:spPr>
            <a:xfrm>
              <a:off x="537120" y="2438280"/>
              <a:ext cx="12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Comic Sans MS"/>
                </a:rPr>
                <a:t>(2,5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83360" y="2311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4" name=""/>
            <p:cNvCxnSpPr>
              <a:stCxn id="242" idx="3"/>
              <a:endCxn id="243" idx="2"/>
            </p:cNvCxnSpPr>
            <p:nvPr/>
          </p:nvCxnSpPr>
          <p:spPr>
            <a:xfrm flipV="1">
              <a:off x="1794960" y="2387160"/>
              <a:ext cx="3488760" cy="402480"/>
            </a:xfrm>
            <a:prstGeom prst="curvedConnector5">
              <a:avLst>
                <a:gd name="adj1" fmla="val 49969"/>
                <a:gd name="adj2" fmla="val 49955"/>
                <a:gd name="adj3" fmla="val 49969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45" name=""/>
          <p:cNvSpPr/>
          <p:nvPr/>
        </p:nvSpPr>
        <p:spPr>
          <a:xfrm>
            <a:off x="2164320" y="7621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 Solutions – 2 Unkn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426400" y="167652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x,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20080" y="1676520"/>
            <a:ext cx="13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133720"/>
            <a:ext cx="1197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491000" y="2367000"/>
            <a:ext cx="1693800" cy="66816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arrow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842200" y="2743200"/>
            <a:ext cx="2720520" cy="990360"/>
            <a:chOff x="2842200" y="2743200"/>
            <a:chExt cx="2720520" cy="990360"/>
          </a:xfrm>
        </p:grpSpPr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2908440" y="2914560"/>
                  <a:ext cx="265428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2" name=""/>
            <p:cNvSpPr/>
            <p:nvPr/>
          </p:nvSpPr>
          <p:spPr>
            <a:xfrm>
              <a:off x="2842200" y="274320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4600" y="2755800"/>
              <a:ext cx="53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907560" y="3809880"/>
            <a:ext cx="70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the coordinate pair (2,3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olution to the equation, x + y = 5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63760" y="2352600"/>
            <a:ext cx="2433600" cy="6825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60800" y="502920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05040" y="57754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=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47160" y="5334120"/>
            <a:ext cx="13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Comic Sans MS"/>
              </a:rPr>
              <a:t>Y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64320" y="7621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 Solutions – 2 Unkn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426400" y="1676520"/>
            <a:ext cx="12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x,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20080" y="1676520"/>
            <a:ext cx="13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2133720"/>
            <a:ext cx="1197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491000" y="2367000"/>
            <a:ext cx="1693800" cy="66816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arrow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908440" y="2914560"/>
                <a:ext cx="26542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2842200" y="2743200"/>
            <a:ext cx="5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4600" y="2755800"/>
            <a:ext cx="53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7560" y="3809880"/>
            <a:ext cx="70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the coordinate pair (0,8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olution to the equation, x + y = 5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263760" y="2352600"/>
            <a:ext cx="2433600" cy="6825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60800" y="502920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63868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omic Sans MS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MGCRelMath"/>
                <a:ea typeface="MGCRelMath"/>
              </a:rPr>
              <a:t>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68680" y="5410080"/>
            <a:ext cx="123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Comic Sans MS"/>
              </a:rPr>
              <a:t>N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64320" y="7621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 Solutions – 2 Unkn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823320" y="1600200"/>
            <a:ext cx="4198680" cy="2057400"/>
            <a:chOff x="823320" y="1600200"/>
            <a:chExt cx="4198680" cy="2057400"/>
          </a:xfrm>
        </p:grpSpPr>
        <p:sp>
          <p:nvSpPr>
            <p:cNvPr id="274" name=""/>
            <p:cNvSpPr/>
            <p:nvPr/>
          </p:nvSpPr>
          <p:spPr>
            <a:xfrm>
              <a:off x="823320" y="1600200"/>
              <a:ext cx="124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x,y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16280" y="1600200"/>
              <a:ext cx="1305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8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82760" y="2057400"/>
              <a:ext cx="11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887560" y="2290680"/>
              <a:ext cx="1693440" cy="668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headEnd len="med" type="arrow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1305000" y="2838240"/>
                  <a:ext cx="2653920" cy="81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1238400" y="266688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50800" y="2679480"/>
              <a:ext cx="53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660320" y="2276280"/>
              <a:ext cx="2433240" cy="682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arrow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084640" y="1600200"/>
            <a:ext cx="337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 coordinate pair a solution to an eq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2840" y="4054320"/>
            <a:ext cx="6788160" cy="2043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lace the variables by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values in the coordinate pai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if the equal sign still is va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64320" y="7621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 Solutions – 2 Unkn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7:02Z</dcterms:modified>
  <cp:revision>258</cp:revision>
  <dc:subject/>
  <dc:title>PowerPoint Presentation</dc:title>
</cp:coreProperties>
</file>