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9905760" cy="7696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1400" y="53352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99720" y="51768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4  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24480" y="4738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Po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2781360"/>
            <a:ext cx="5334120" cy="140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Simplyfying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Polynomial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984480"/>
            <a:ext cx="2590920" cy="25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4305240"/>
            <a:ext cx="2781360" cy="2095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5987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ancy Po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228600" y="190980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z - 3z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2819520" y="2057400"/>
            <a:ext cx="2286000" cy="838080"/>
            <a:chOff x="2819520" y="2057400"/>
            <a:chExt cx="2286000" cy="838080"/>
          </a:xfrm>
        </p:grpSpPr>
        <p:sp>
          <p:nvSpPr>
            <p:cNvPr id="1001" name=""/>
            <p:cNvSpPr/>
            <p:nvPr/>
          </p:nvSpPr>
          <p:spPr>
            <a:xfrm>
              <a:off x="2819520" y="2057400"/>
              <a:ext cx="609480" cy="838080"/>
            </a:xfrm>
            <a:prstGeom prst="ellipse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95680" y="2057400"/>
              <a:ext cx="609840" cy="838080"/>
            </a:xfrm>
            <a:prstGeom prst="ellipse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533520" y="3124080"/>
            <a:ext cx="82296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the algebraic parts ar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ACT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sa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SUBTRACT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91320" y="1757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5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33520" y="27432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implify monomials, combine terms  with algebraic parts that ar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14400" y="4267080"/>
            <a:ext cx="7620120" cy="11703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the same algebraic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(or subtract) the coeffic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2438280" y="2558880"/>
            <a:ext cx="4267440" cy="1447920"/>
            <a:chOff x="2438280" y="2558880"/>
            <a:chExt cx="4267440" cy="1447920"/>
          </a:xfrm>
        </p:grpSpPr>
        <p:sp>
          <p:nvSpPr>
            <p:cNvPr id="1009" name=""/>
            <p:cNvSpPr/>
            <p:nvPr/>
          </p:nvSpPr>
          <p:spPr>
            <a:xfrm>
              <a:off x="2438280" y="2558880"/>
              <a:ext cx="152424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05520" y="2558880"/>
              <a:ext cx="1600200" cy="1447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429000" y="3980880"/>
            <a:ext cx="4876920" cy="1324080"/>
            <a:chOff x="3429000" y="3980880"/>
            <a:chExt cx="4876920" cy="1324080"/>
          </a:xfrm>
        </p:grpSpPr>
        <p:sp>
          <p:nvSpPr>
            <p:cNvPr id="1012" name=""/>
            <p:cNvSpPr/>
            <p:nvPr/>
          </p:nvSpPr>
          <p:spPr>
            <a:xfrm>
              <a:off x="6095880" y="4479840"/>
              <a:ext cx="221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SAM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3" name=""/>
            <p:cNvCxnSpPr>
              <a:stCxn id="1012" idx="1"/>
              <a:endCxn id="1009" idx="4"/>
            </p:cNvCxnSpPr>
            <p:nvPr/>
          </p:nvCxnSpPr>
          <p:spPr>
            <a:xfrm rot="10800000">
              <a:off x="3429000" y="4193640"/>
              <a:ext cx="2667240" cy="699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4" name=""/>
            <p:cNvCxnSpPr>
              <a:stCxn id="1012" idx="1"/>
              <a:endCxn id="1010" idx="3"/>
            </p:cNvCxnSpPr>
            <p:nvPr/>
          </p:nvCxnSpPr>
          <p:spPr>
            <a:xfrm rot="10800000">
              <a:off x="5568120" y="3980880"/>
              <a:ext cx="527760" cy="9118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15" name=""/>
          <p:cNvSpPr/>
          <p:nvPr/>
        </p:nvSpPr>
        <p:spPr>
          <a:xfrm>
            <a:off x="1676520" y="263520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- 5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124080" y="53784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29480" y="1381320"/>
            <a:ext cx="3172320" cy="1199880"/>
            <a:chOff x="429480" y="1381320"/>
            <a:chExt cx="3172320" cy="1199880"/>
          </a:xfrm>
        </p:grpSpPr>
        <p:sp>
          <p:nvSpPr>
            <p:cNvPr id="1019" name=""/>
            <p:cNvSpPr/>
            <p:nvPr/>
          </p:nvSpPr>
          <p:spPr>
            <a:xfrm rot="20897400">
              <a:off x="460080" y="167616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20897400">
              <a:off x="457200" y="17143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219320" y="198108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y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?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320040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parts 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xactly the s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066680" y="46483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onents of x and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di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09480" y="56386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e:  expression is NOT a mo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-152280" y="1219320"/>
            <a:ext cx="2590560" cy="1371600"/>
            <a:chOff x="-152280" y="1219320"/>
            <a:chExt cx="2590560" cy="1371600"/>
          </a:xfrm>
        </p:grpSpPr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-152280" y="1219320"/>
              <a:ext cx="25905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 rot="20568600">
              <a:off x="533160" y="1582920"/>
              <a:ext cx="159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Comic Sans MS"/>
                </a:rPr>
                <a:t>NOTE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14400" y="220968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y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43783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y</a:t>
            </a:r>
            <a:r>
              <a:rPr b="0" lang="en-US" sz="66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6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3333ff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38280" y="1600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impli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438280" y="35434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ays the s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533520" y="26478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6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– 12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30200" y="1416960"/>
            <a:ext cx="3387960" cy="1279080"/>
            <a:chOff x="430200" y="1416960"/>
            <a:chExt cx="3387960" cy="1279080"/>
          </a:xfrm>
        </p:grpSpPr>
        <p:sp>
          <p:nvSpPr>
            <p:cNvPr id="1036" name=""/>
            <p:cNvSpPr/>
            <p:nvPr/>
          </p:nvSpPr>
          <p:spPr>
            <a:xfrm rot="20897400">
              <a:off x="457560" y="1759680"/>
              <a:ext cx="327996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20897400">
              <a:off x="664200" y="1729440"/>
              <a:ext cx="31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295280" y="3333600"/>
            <a:ext cx="6324840" cy="1267200"/>
            <a:chOff x="1295280" y="3333600"/>
            <a:chExt cx="6324840" cy="1267200"/>
          </a:xfrm>
        </p:grpSpPr>
        <p:sp>
          <p:nvSpPr>
            <p:cNvPr id="1039" name=""/>
            <p:cNvSpPr/>
            <p:nvPr/>
          </p:nvSpPr>
          <p:spPr>
            <a:xfrm rot="5400000">
              <a:off x="1638000" y="2990520"/>
              <a:ext cx="381240" cy="10670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5400000">
              <a:off x="4228560" y="3066840"/>
              <a:ext cx="380880" cy="10666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5400000">
              <a:off x="6896160" y="3066840"/>
              <a:ext cx="380880" cy="10670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1905120" y="3485880"/>
              <a:ext cx="5180040" cy="1114920"/>
              <a:chOff x="1905120" y="3485880"/>
              <a:chExt cx="5180040" cy="1114920"/>
            </a:xfrm>
          </p:grpSpPr>
          <p:sp>
            <p:nvSpPr>
              <p:cNvPr id="1043" name=""/>
              <p:cNvSpPr/>
              <p:nvPr/>
            </p:nvSpPr>
            <p:spPr>
              <a:xfrm>
                <a:off x="2362320" y="4019400"/>
                <a:ext cx="426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same algebraic par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4" name=""/>
              <p:cNvCxnSpPr>
                <a:endCxn id="1043" idx="1"/>
              </p:cNvCxnSpPr>
              <p:nvPr/>
            </p:nvCxnSpPr>
            <p:spPr>
              <a:xfrm flipH="1" rot="16200000">
                <a:off x="1701720" y="3688920"/>
                <a:ext cx="864360" cy="457920"/>
              </a:xfrm>
              <a:prstGeom prst="curvedConnector2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1045" name=""/>
              <p:cNvCxnSpPr>
                <a:stCxn id="1041" idx="1"/>
                <a:endCxn id="1043" idx="3"/>
              </p:cNvCxnSpPr>
              <p:nvPr/>
            </p:nvCxnSpPr>
            <p:spPr>
              <a:xfrm rot="5400000">
                <a:off x="6585840" y="3851280"/>
                <a:ext cx="542160" cy="456480"/>
              </a:xfrm>
              <a:prstGeom prst="curvedConnector2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  <p:cxnSp>
            <p:nvCxnSpPr>
              <p:cNvPr id="1046" name=""/>
              <p:cNvCxnSpPr>
                <a:stCxn id="1040" idx="1"/>
              </p:cNvCxnSpPr>
              <p:nvPr/>
            </p:nvCxnSpPr>
            <p:spPr>
              <a:xfrm flipH="1" rot="16200000">
                <a:off x="4236120" y="3989160"/>
                <a:ext cx="364320" cy="2520"/>
              </a:xfrm>
              <a:prstGeom prst="curvedConnector5">
                <a:avLst>
                  <a:gd name="adj1" fmla="val 47576"/>
                  <a:gd name="adj2" fmla="val 50000"/>
                  <a:gd name="adj3" fmla="val 47576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047" name=""/>
          <p:cNvSpPr/>
          <p:nvPr/>
        </p:nvSpPr>
        <p:spPr>
          <a:xfrm>
            <a:off x="304920" y="51084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 coefficients like integers on num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90920" y="56386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1 + 6 -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990720" y="16002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 (-1) + 6 + (-12)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10280" y="1600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05120" y="487692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–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7a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b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04920" y="2895480"/>
            <a:ext cx="8458200" cy="1483920"/>
            <a:chOff x="304920" y="2895480"/>
            <a:chExt cx="8458200" cy="1483920"/>
          </a:xfrm>
        </p:grpSpPr>
        <p:sp>
          <p:nvSpPr>
            <p:cNvPr id="1054" name=""/>
            <p:cNvSpPr/>
            <p:nvPr/>
          </p:nvSpPr>
          <p:spPr>
            <a:xfrm>
              <a:off x="304920" y="3554280"/>
              <a:ext cx="845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(-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) + 6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(–12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5800" y="28954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ref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6019920" y="4648320"/>
            <a:ext cx="1828800" cy="1828800"/>
            <a:chOff x="6019920" y="4648320"/>
            <a:chExt cx="1828800" cy="1828800"/>
          </a:xfrm>
        </p:grpSpPr>
        <p:pic>
          <p:nvPicPr>
            <p:cNvPr id="1057" name="" descr=""/>
            <p:cNvPicPr/>
            <p:nvPr/>
          </p:nvPicPr>
          <p:blipFill>
            <a:blip r:embed="rId1"/>
            <a:stretch/>
          </p:blipFill>
          <p:spPr>
            <a:xfrm>
              <a:off x="6019920" y="46483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 txBox="1"/>
            <p:nvPr/>
          </p:nvSpPr>
          <p:spPr>
            <a:xfrm>
              <a:off x="6172560" y="5181840"/>
              <a:ext cx="1523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88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monomial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1523880" y="198108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z – 5z + 4z – 3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066680" y="4190760"/>
            <a:ext cx="4495680" cy="1492200"/>
            <a:chOff x="1066680" y="4190760"/>
            <a:chExt cx="4495680" cy="1492200"/>
          </a:xfrm>
        </p:grpSpPr>
        <p:sp>
          <p:nvSpPr>
            <p:cNvPr id="1062" name=""/>
            <p:cNvSpPr/>
            <p:nvPr/>
          </p:nvSpPr>
          <p:spPr>
            <a:xfrm>
              <a:off x="1066680" y="4857840"/>
              <a:ext cx="4114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z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2971080" y="4190760"/>
              <a:ext cx="2591280" cy="819360"/>
              <a:chOff x="2971080" y="4190760"/>
              <a:chExt cx="2591280" cy="819360"/>
            </a:xfrm>
          </p:grpSpPr>
          <p:sp>
            <p:nvSpPr>
              <p:cNvPr id="1064" name=""/>
              <p:cNvSpPr/>
              <p:nvPr/>
            </p:nvSpPr>
            <p:spPr>
              <a:xfrm flipV="1" rot="16200000">
                <a:off x="4257360" y="3285360"/>
                <a:ext cx="399960" cy="2210040"/>
              </a:xfrm>
              <a:custGeom>
                <a:avLst/>
                <a:gdLst>
                  <a:gd name="textAreaLeft" fmla="*/ 255600 w 399960"/>
                  <a:gd name="textAreaRight" fmla="*/ 400320 w 399960"/>
                  <a:gd name="textAreaTop" fmla="*/ 57600 h 2210040"/>
                  <a:gd name="textAreaBottom" fmla="*/ 2152440 h 221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5" name=""/>
              <p:cNvCxnSpPr/>
              <p:nvPr/>
            </p:nvCxnSpPr>
            <p:spPr>
              <a:xfrm rot="5400000">
                <a:off x="3551400" y="4067640"/>
                <a:ext cx="362520" cy="1523160"/>
              </a:xfrm>
              <a:prstGeom prst="curvedConnector5">
                <a:avLst>
                  <a:gd name="adj1" fmla="val 47316"/>
                  <a:gd name="adj2" fmla="val 50000"/>
                  <a:gd name="adj3" fmla="val 47316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66" name=""/>
          <p:cNvGrpSpPr/>
          <p:nvPr/>
        </p:nvGrpSpPr>
        <p:grpSpPr>
          <a:xfrm>
            <a:off x="2438280" y="5567400"/>
            <a:ext cx="3505320" cy="1140480"/>
            <a:chOff x="2438280" y="5567400"/>
            <a:chExt cx="3505320" cy="1140480"/>
          </a:xfrm>
        </p:grpSpPr>
        <p:sp>
          <p:nvSpPr>
            <p:cNvPr id="1067" name=""/>
            <p:cNvSpPr/>
            <p:nvPr/>
          </p:nvSpPr>
          <p:spPr>
            <a:xfrm flipV="1" rot="16200000">
              <a:off x="3429000" y="4576680"/>
              <a:ext cx="304560" cy="2286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3580200" y="5790960"/>
              <a:ext cx="2363400" cy="916920"/>
              <a:chOff x="3580200" y="5790960"/>
              <a:chExt cx="2363400" cy="916920"/>
            </a:xfrm>
          </p:grpSpPr>
          <p:sp>
            <p:nvSpPr>
              <p:cNvPr id="1069" name=""/>
              <p:cNvSpPr/>
              <p:nvPr/>
            </p:nvSpPr>
            <p:spPr>
              <a:xfrm>
                <a:off x="4649760" y="5790960"/>
                <a:ext cx="1293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00cc"/>
                    </a:solidFill>
                    <a:latin typeface="Comic Sans MS"/>
                  </a:rPr>
                  <a:t>6z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0" name=""/>
              <p:cNvCxnSpPr/>
              <p:nvPr/>
            </p:nvCxnSpPr>
            <p:spPr>
              <a:xfrm flipH="1" rot="16200000">
                <a:off x="4006800" y="5440680"/>
                <a:ext cx="443520" cy="129636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71" name=""/>
          <p:cNvGrpSpPr/>
          <p:nvPr/>
        </p:nvGrpSpPr>
        <p:grpSpPr>
          <a:xfrm>
            <a:off x="2133000" y="2774520"/>
            <a:ext cx="2439000" cy="1555920"/>
            <a:chOff x="2133000" y="2774520"/>
            <a:chExt cx="2439000" cy="1555920"/>
          </a:xfrm>
        </p:grpSpPr>
        <p:sp>
          <p:nvSpPr>
            <p:cNvPr id="1072" name=""/>
            <p:cNvSpPr/>
            <p:nvPr/>
          </p:nvSpPr>
          <p:spPr>
            <a:xfrm flipH="1" flipV="1" rot="5400000">
              <a:off x="3056400" y="1850400"/>
              <a:ext cx="304920" cy="2152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800 h 2152440"/>
                <a:gd name="textAreaBottom" fmla="*/ 2096640 h 215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76720" y="35053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5z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4" name=""/>
            <p:cNvCxnSpPr>
              <a:stCxn id="1072" idx="1"/>
              <a:endCxn id="1073" idx="0"/>
            </p:cNvCxnSpPr>
            <p:nvPr/>
          </p:nvCxnSpPr>
          <p:spPr>
            <a:xfrm flipH="1" rot="16200000">
              <a:off x="3362760" y="2944440"/>
              <a:ext cx="407160" cy="715320"/>
            </a:xfrm>
            <a:prstGeom prst="curvedConnector5">
              <a:avLst>
                <a:gd name="adj1" fmla="val 47610"/>
                <a:gd name="adj2" fmla="val 50000"/>
                <a:gd name="adj3" fmla="val 4761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5" name=""/>
          <p:cNvGrpSpPr/>
          <p:nvPr/>
        </p:nvGrpSpPr>
        <p:grpSpPr>
          <a:xfrm>
            <a:off x="4343400" y="3020760"/>
            <a:ext cx="1981080" cy="1358640"/>
            <a:chOff x="4343400" y="3020760"/>
            <a:chExt cx="1981080" cy="1358640"/>
          </a:xfrm>
        </p:grpSpPr>
        <p:sp>
          <p:nvSpPr>
            <p:cNvPr id="1076" name=""/>
            <p:cNvSpPr/>
            <p:nvPr/>
          </p:nvSpPr>
          <p:spPr>
            <a:xfrm>
              <a:off x="4343400" y="3554280"/>
              <a:ext cx="1981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4z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7" name=""/>
            <p:cNvCxnSpPr/>
            <p:nvPr/>
          </p:nvCxnSpPr>
          <p:spPr>
            <a:xfrm>
              <a:off x="5257440" y="3020760"/>
              <a:ext cx="1080" cy="5338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8" name=""/>
          <p:cNvGrpSpPr/>
          <p:nvPr/>
        </p:nvGrpSpPr>
        <p:grpSpPr>
          <a:xfrm>
            <a:off x="3505320" y="2819520"/>
            <a:ext cx="3504960" cy="2958480"/>
            <a:chOff x="3505320" y="2819520"/>
            <a:chExt cx="3504960" cy="2958480"/>
          </a:xfrm>
        </p:grpSpPr>
        <p:sp>
          <p:nvSpPr>
            <p:cNvPr id="1079" name=""/>
            <p:cNvSpPr/>
            <p:nvPr/>
          </p:nvSpPr>
          <p:spPr>
            <a:xfrm>
              <a:off x="4648320" y="2819520"/>
              <a:ext cx="2361960" cy="2681280"/>
            </a:xfrm>
            <a:custGeom>
              <a:avLst/>
              <a:gdLst/>
              <a:ahLst/>
              <a:rect l="l" t="t" r="r" b="b"/>
              <a:pathLst>
                <a:path w="1796" h="1881">
                  <a:moveTo>
                    <a:pt x="1712" y="0"/>
                  </a:moveTo>
                  <a:cubicBezTo>
                    <a:pt x="1733" y="64"/>
                    <a:pt x="1751" y="130"/>
                    <a:pt x="1768" y="196"/>
                  </a:cubicBezTo>
                  <a:cubicBezTo>
                    <a:pt x="1778" y="287"/>
                    <a:pt x="1796" y="435"/>
                    <a:pt x="1796" y="519"/>
                  </a:cubicBezTo>
                  <a:cubicBezTo>
                    <a:pt x="1796" y="622"/>
                    <a:pt x="1789" y="725"/>
                    <a:pt x="1782" y="828"/>
                  </a:cubicBezTo>
                  <a:cubicBezTo>
                    <a:pt x="1776" y="899"/>
                    <a:pt x="1743" y="969"/>
                    <a:pt x="1726" y="1039"/>
                  </a:cubicBezTo>
                  <a:cubicBezTo>
                    <a:pt x="1679" y="1224"/>
                    <a:pt x="1572" y="1478"/>
                    <a:pt x="1375" y="1544"/>
                  </a:cubicBezTo>
                  <a:cubicBezTo>
                    <a:pt x="1279" y="1615"/>
                    <a:pt x="1163" y="1642"/>
                    <a:pt x="1053" y="1684"/>
                  </a:cubicBezTo>
                  <a:cubicBezTo>
                    <a:pt x="991" y="1706"/>
                    <a:pt x="934" y="1738"/>
                    <a:pt x="870" y="1755"/>
                  </a:cubicBezTo>
                  <a:cubicBezTo>
                    <a:pt x="771" y="1779"/>
                    <a:pt x="673" y="1800"/>
                    <a:pt x="575" y="1825"/>
                  </a:cubicBezTo>
                  <a:cubicBezTo>
                    <a:pt x="499" y="1843"/>
                    <a:pt x="428" y="1868"/>
                    <a:pt x="351" y="1881"/>
                  </a:cubicBezTo>
                  <a:cubicBezTo>
                    <a:pt x="102" y="1863"/>
                    <a:pt x="219" y="1867"/>
                    <a:pt x="0" y="18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505320" y="495288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3z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629400" y="4648320"/>
            <a:ext cx="1828800" cy="1828800"/>
            <a:chOff x="6629400" y="4648320"/>
            <a:chExt cx="1828800" cy="1828800"/>
          </a:xfrm>
        </p:grpSpPr>
        <p:pic>
          <p:nvPicPr>
            <p:cNvPr id="1082" name="" descr=""/>
            <p:cNvPicPr/>
            <p:nvPr/>
          </p:nvPicPr>
          <p:blipFill>
            <a:blip r:embed="rId1"/>
            <a:stretch/>
          </p:blipFill>
          <p:spPr>
            <a:xfrm>
              <a:off x="6629400" y="46483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 txBox="1"/>
            <p:nvPr/>
          </p:nvSpPr>
          <p:spPr>
            <a:xfrm>
              <a:off x="6782040" y="5181840"/>
              <a:ext cx="1523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88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monomial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200880" y="1228680"/>
            <a:ext cx="3172320" cy="1200240"/>
            <a:chOff x="200880" y="1228680"/>
            <a:chExt cx="3172320" cy="1200240"/>
          </a:xfrm>
        </p:grpSpPr>
        <p:sp>
          <p:nvSpPr>
            <p:cNvPr id="1085" name=""/>
            <p:cNvSpPr/>
            <p:nvPr/>
          </p:nvSpPr>
          <p:spPr>
            <a:xfrm rot="20897400">
              <a:off x="23184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20897400">
              <a:off x="22860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 flipV="1" rot="16200000">
            <a:off x="3238560" y="145404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 rot="16200000">
            <a:off x="4266720" y="3015360"/>
            <a:ext cx="381240" cy="403884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5800" y="2558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8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2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4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57400" y="4083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6a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00400" y="553068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-2a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5</a:t>
            </a:r>
            <a:r>
              <a:rPr b="0" lang="en-US" sz="6600" spc="-1" strike="noStrike">
                <a:solidFill>
                  <a:srgbClr val="6600cc"/>
                </a:solidFill>
                <a:latin typeface="Comic Sans MS"/>
              </a:rPr>
              <a:t>b</a:t>
            </a:r>
            <a:r>
              <a:rPr b="0" lang="en-US" sz="6600" spc="-1" strike="noStrike" baseline="30000">
                <a:solidFill>
                  <a:srgbClr val="6600cc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4267080" y="3625920"/>
            <a:ext cx="2895480" cy="1393200"/>
            <a:chOff x="4267080" y="3625920"/>
            <a:chExt cx="2895480" cy="1393200"/>
          </a:xfrm>
        </p:grpSpPr>
        <p:sp>
          <p:nvSpPr>
            <p:cNvPr id="1094" name=""/>
            <p:cNvSpPr/>
            <p:nvPr/>
          </p:nvSpPr>
          <p:spPr>
            <a:xfrm>
              <a:off x="4267080" y="410220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 4a</a:t>
              </a:r>
              <a:r>
                <a:rPr b="0" lang="en-US" sz="5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54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866920" y="3625920"/>
              <a:ext cx="12956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00800" y="4648320"/>
            <a:ext cx="1828800" cy="1828800"/>
            <a:chOff x="6400800" y="4648320"/>
            <a:chExt cx="1828800" cy="1828800"/>
          </a:xfrm>
        </p:grpSpPr>
        <p:pic>
          <p:nvPicPr>
            <p:cNvPr id="1097" name="" descr=""/>
            <p:cNvPicPr/>
            <p:nvPr/>
          </p:nvPicPr>
          <p:blipFill>
            <a:blip r:embed="rId1"/>
            <a:stretch/>
          </p:blipFill>
          <p:spPr>
            <a:xfrm>
              <a:off x="6400800" y="46483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8" name=""/>
            <p:cNvSpPr txBox="1"/>
            <p:nvPr/>
          </p:nvSpPr>
          <p:spPr>
            <a:xfrm>
              <a:off x="6553440" y="5181840"/>
              <a:ext cx="1523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88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monomial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353160" y="1305000"/>
            <a:ext cx="3172320" cy="1199880"/>
            <a:chOff x="353160" y="1305000"/>
            <a:chExt cx="3172320" cy="1199880"/>
          </a:xfrm>
        </p:grpSpPr>
        <p:sp>
          <p:nvSpPr>
            <p:cNvPr id="1100" name=""/>
            <p:cNvSpPr/>
            <p:nvPr/>
          </p:nvSpPr>
          <p:spPr>
            <a:xfrm rot="20897400">
              <a:off x="383760" y="159984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20897400">
              <a:off x="380880" y="16380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4320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1066680" y="2209680"/>
            <a:ext cx="6782040" cy="381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Simplifying Polynomial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2976480" y="3124080"/>
            <a:ext cx="31910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62120" y="1447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124080"/>
            <a:ext cx="571500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monomial expressions by combin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609480" y="160020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Simplest form of a polynomial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8080" y="2666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s the least number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876920" y="5715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Po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006640" cy="281952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1143000" y="59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Fancy Po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2"/>
          <a:stretch/>
        </p:blipFill>
        <p:spPr>
          <a:xfrm>
            <a:off x="5943600" y="3429000"/>
            <a:ext cx="2440080" cy="3011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"/>
          <p:cNvGrpSpPr/>
          <p:nvPr/>
        </p:nvGrpSpPr>
        <p:grpSpPr>
          <a:xfrm>
            <a:off x="3163320" y="3220920"/>
            <a:ext cx="3094200" cy="2186280"/>
            <a:chOff x="3163320" y="3220920"/>
            <a:chExt cx="3094200" cy="2186280"/>
          </a:xfrm>
        </p:grpSpPr>
        <p:grpSp>
          <p:nvGrpSpPr>
            <p:cNvPr id="1114" name=""/>
            <p:cNvGrpSpPr/>
            <p:nvPr/>
          </p:nvGrpSpPr>
          <p:grpSpPr>
            <a:xfrm>
              <a:off x="3163320" y="3220920"/>
              <a:ext cx="2374200" cy="1163520"/>
              <a:chOff x="3163320" y="3220920"/>
              <a:chExt cx="2374200" cy="1163520"/>
            </a:xfrm>
          </p:grpSpPr>
          <p:sp>
            <p:nvSpPr>
              <p:cNvPr id="1115" name=""/>
              <p:cNvSpPr/>
              <p:nvPr/>
            </p:nvSpPr>
            <p:spPr>
              <a:xfrm rot="20949600">
                <a:off x="3276000" y="3421440"/>
                <a:ext cx="2209680" cy="761760"/>
              </a:xfrm>
              <a:prstGeom prst="wedgeEllipseCallout">
                <a:avLst>
                  <a:gd name="adj1" fmla="val -70976"/>
                  <a:gd name="adj2" fmla="val 18958"/>
                </a:avLst>
              </a:prstGeom>
              <a:solidFill>
                <a:srgbClr val="3366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20949600">
                <a:off x="3191760" y="350532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66"/>
                    </a:solidFill>
                    <a:latin typeface="Comic Sans MS"/>
                  </a:rPr>
                  <a:t>I’m  Poll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3877200" y="3889440"/>
              <a:ext cx="2380320" cy="1517760"/>
              <a:chOff x="3877200" y="3889440"/>
              <a:chExt cx="2380320" cy="1517760"/>
            </a:xfrm>
          </p:grpSpPr>
          <p:sp>
            <p:nvSpPr>
              <p:cNvPr id="1118" name=""/>
              <p:cNvSpPr/>
              <p:nvPr/>
            </p:nvSpPr>
            <p:spPr>
              <a:xfrm flipH="1" rot="20585400">
                <a:off x="3962160" y="4190760"/>
                <a:ext cx="2209680" cy="914760"/>
              </a:xfrm>
              <a:prstGeom prst="wedgeEllipseCallout">
                <a:avLst>
                  <a:gd name="adj1" fmla="val -70976"/>
                  <a:gd name="adj2" fmla="val 24129"/>
                </a:avLst>
              </a:prstGeom>
              <a:solidFill>
                <a:srgbClr val="3366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20145600">
                <a:off x="4191120" y="434304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66"/>
                    </a:solidFill>
                    <a:latin typeface="Comic Sans MS"/>
                  </a:rPr>
                  <a:t>I’m  Poll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609480" y="160020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Simplest form of a polynomial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7200" y="40258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(-3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+ (-4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+ (-8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19320" y="518148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y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- 3y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- 4y -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38080" y="2895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s the least number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0492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writing polynomials in simplest 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90720" y="4267080"/>
            <a:ext cx="7391160" cy="1657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bine like terms and write the fewest symbol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in descending order of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6683400" y="2971800"/>
            <a:ext cx="2079720" cy="8730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1447920" y="176688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Degree of a Poly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47920" y="327672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egree of the highest term in the poly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2"/>
          <a:stretch/>
        </p:blipFill>
        <p:spPr>
          <a:xfrm>
            <a:off x="5562720" y="4321080"/>
            <a:ext cx="933480" cy="133524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3"/>
          <a:stretch/>
        </p:blipFill>
        <p:spPr>
          <a:xfrm>
            <a:off x="6172200" y="3200400"/>
            <a:ext cx="2440080" cy="301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371600" y="1523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Degree of a Poly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62120" y="27432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degree of the highest term in the poly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38080" y="42559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 + 4x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y +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676520" y="5105520"/>
            <a:ext cx="6095880" cy="1175760"/>
            <a:chOff x="1676520" y="5105520"/>
            <a:chExt cx="6095880" cy="1175760"/>
          </a:xfrm>
        </p:grpSpPr>
        <p:sp>
          <p:nvSpPr>
            <p:cNvPr id="1139" name=""/>
            <p:cNvSpPr/>
            <p:nvPr/>
          </p:nvSpPr>
          <p:spPr>
            <a:xfrm>
              <a:off x="4032360" y="5638680"/>
              <a:ext cx="374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gree 4 = 3+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0" name=""/>
            <p:cNvCxnSpPr>
              <a:stCxn id="1141" idx="1"/>
              <a:endCxn id="1139" idx="1"/>
            </p:cNvCxnSpPr>
            <p:nvPr/>
          </p:nvCxnSpPr>
          <p:spPr>
            <a:xfrm flipH="1" rot="16200000">
              <a:off x="2929680" y="4857480"/>
              <a:ext cx="456120" cy="1748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1" name=""/>
            <p:cNvSpPr/>
            <p:nvPr/>
          </p:nvSpPr>
          <p:spPr>
            <a:xfrm rot="5400000">
              <a:off x="2095560" y="4686480"/>
              <a:ext cx="380880" cy="1218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7315200" y="4343400"/>
            <a:ext cx="914400" cy="1191240"/>
            <a:chOff x="7315200" y="4343400"/>
            <a:chExt cx="914400" cy="1191240"/>
          </a:xfrm>
        </p:grpSpPr>
        <p:sp>
          <p:nvSpPr>
            <p:cNvPr id="1144" name=""/>
            <p:cNvSpPr/>
            <p:nvPr/>
          </p:nvSpPr>
          <p:spPr>
            <a:xfrm>
              <a:off x="7315200" y="43434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15200" y="4381560"/>
              <a:ext cx="533520" cy="533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762120" y="166068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 + 4x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y +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38080" y="1447920"/>
            <a:ext cx="1828800" cy="1523880"/>
          </a:xfrm>
          <a:prstGeom prst="ellipse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057400" y="3200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gre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9" name=""/>
          <p:cNvCxnSpPr>
            <a:endCxn id="1147" idx="4"/>
          </p:cNvCxnSpPr>
          <p:nvPr/>
        </p:nvCxnSpPr>
        <p:spPr>
          <a:xfrm rot="10800000">
            <a:off x="1751760" y="2971080"/>
            <a:ext cx="534240" cy="534240"/>
          </a:xfrm>
          <a:prstGeom prst="curvedConnector2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</p:cxnSp>
      <p:grpSp>
        <p:nvGrpSpPr>
          <p:cNvPr id="1150" name=""/>
          <p:cNvGrpSpPr/>
          <p:nvPr/>
        </p:nvGrpSpPr>
        <p:grpSpPr>
          <a:xfrm>
            <a:off x="1600200" y="1523880"/>
            <a:ext cx="3581280" cy="2885760"/>
            <a:chOff x="1600200" y="1523880"/>
            <a:chExt cx="3581280" cy="2885760"/>
          </a:xfrm>
        </p:grpSpPr>
        <p:sp>
          <p:nvSpPr>
            <p:cNvPr id="1151" name=""/>
            <p:cNvSpPr/>
            <p:nvPr/>
          </p:nvSpPr>
          <p:spPr>
            <a:xfrm>
              <a:off x="3352680" y="1523880"/>
              <a:ext cx="1828800" cy="1524240"/>
            </a:xfrm>
            <a:prstGeom prst="ellipse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600200" y="376704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52" idx="3"/>
              <a:endCxn id="1151" idx="4"/>
            </p:cNvCxnSpPr>
            <p:nvPr/>
          </p:nvCxnSpPr>
          <p:spPr>
            <a:xfrm flipV="1">
              <a:off x="4038120" y="3047760"/>
              <a:ext cx="229320" cy="1085040"/>
            </a:xfrm>
            <a:prstGeom prst="curvedConnector2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</p:grpSp>
      <p:grpSp>
        <p:nvGrpSpPr>
          <p:cNvPr id="1154" name=""/>
          <p:cNvGrpSpPr/>
          <p:nvPr/>
        </p:nvGrpSpPr>
        <p:grpSpPr>
          <a:xfrm>
            <a:off x="4038480" y="1523880"/>
            <a:ext cx="2971800" cy="2471400"/>
            <a:chOff x="4038480" y="1523880"/>
            <a:chExt cx="2971800" cy="2471400"/>
          </a:xfrm>
        </p:grpSpPr>
        <p:sp>
          <p:nvSpPr>
            <p:cNvPr id="1155" name=""/>
            <p:cNvSpPr/>
            <p:nvPr/>
          </p:nvSpPr>
          <p:spPr>
            <a:xfrm>
              <a:off x="5791320" y="1523880"/>
              <a:ext cx="1218960" cy="1219320"/>
            </a:xfrm>
            <a:prstGeom prst="ellipse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38480" y="3352680"/>
              <a:ext cx="243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gree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7" name=""/>
            <p:cNvCxnSpPr>
              <a:endCxn id="1155" idx="4"/>
            </p:cNvCxnSpPr>
            <p:nvPr/>
          </p:nvCxnSpPr>
          <p:spPr>
            <a:xfrm flipV="1">
              <a:off x="6248160" y="2742840"/>
              <a:ext cx="153000" cy="915120"/>
            </a:xfrm>
            <a:prstGeom prst="curvedConnector2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</p:grpSp>
      <p:grpSp>
        <p:nvGrpSpPr>
          <p:cNvPr id="1158" name=""/>
          <p:cNvGrpSpPr/>
          <p:nvPr/>
        </p:nvGrpSpPr>
        <p:grpSpPr>
          <a:xfrm>
            <a:off x="5029200" y="1676520"/>
            <a:ext cx="3352680" cy="2809440"/>
            <a:chOff x="5029200" y="1676520"/>
            <a:chExt cx="3352680" cy="2809440"/>
          </a:xfrm>
        </p:grpSpPr>
        <p:sp>
          <p:nvSpPr>
            <p:cNvPr id="1159" name=""/>
            <p:cNvSpPr/>
            <p:nvPr/>
          </p:nvSpPr>
          <p:spPr>
            <a:xfrm>
              <a:off x="7391520" y="1676520"/>
              <a:ext cx="990360" cy="1143000"/>
            </a:xfrm>
            <a:prstGeom prst="ellipse">
              <a:avLst/>
            </a:prstGeom>
            <a:noFill/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29200" y="384336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gree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1" name=""/>
            <p:cNvCxnSpPr>
              <a:endCxn id="1159" idx="4"/>
            </p:cNvCxnSpPr>
            <p:nvPr/>
          </p:nvCxnSpPr>
          <p:spPr>
            <a:xfrm flipH="1" flipV="1" rot="5400000">
              <a:off x="6914880" y="3142800"/>
              <a:ext cx="1296000" cy="648360"/>
            </a:xfrm>
            <a:prstGeom prst="curvedConnector5">
              <a:avLst>
                <a:gd name="adj1" fmla="val 49986"/>
                <a:gd name="adj2" fmla="val 50000"/>
                <a:gd name="adj3" fmla="val 49986"/>
              </a:avLst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</p:grpSp>
      <p:grpSp>
        <p:nvGrpSpPr>
          <p:cNvPr id="1162" name=""/>
          <p:cNvGrpSpPr/>
          <p:nvPr/>
        </p:nvGrpSpPr>
        <p:grpSpPr>
          <a:xfrm>
            <a:off x="914400" y="4757760"/>
            <a:ext cx="6934320" cy="1371240"/>
            <a:chOff x="914400" y="4757760"/>
            <a:chExt cx="6934320" cy="1371240"/>
          </a:xfrm>
        </p:grpSpPr>
        <p:sp>
          <p:nvSpPr>
            <p:cNvPr id="1163" name=""/>
            <p:cNvSpPr/>
            <p:nvPr/>
          </p:nvSpPr>
          <p:spPr>
            <a:xfrm>
              <a:off x="914400" y="4757760"/>
              <a:ext cx="640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Degree of highest term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90720" y="548640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degree of the polynomi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523880" y="146196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Descending Or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34120" y="26668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highest to lowest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257800" y="43434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left to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781680" y="4876920"/>
            <a:ext cx="1600200" cy="7617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291600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 rot="1727400">
            <a:off x="1371240" y="4495680"/>
            <a:ext cx="1600200" cy="3049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1295280" y="207180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Descending Or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762120" y="4038480"/>
            <a:ext cx="1981080" cy="2219760"/>
            <a:chOff x="762120" y="4038480"/>
            <a:chExt cx="1981080" cy="2219760"/>
          </a:xfrm>
        </p:grpSpPr>
        <p:sp>
          <p:nvSpPr>
            <p:cNvPr id="1175" name=""/>
            <p:cNvSpPr/>
            <p:nvPr/>
          </p:nvSpPr>
          <p:spPr>
            <a:xfrm>
              <a:off x="762120" y="567684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43000" y="4038480"/>
              <a:ext cx="24768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2743200" y="4038480"/>
            <a:ext cx="1981080" cy="1495800"/>
            <a:chOff x="2743200" y="4038480"/>
            <a:chExt cx="1981080" cy="1495800"/>
          </a:xfrm>
        </p:grpSpPr>
        <p:sp>
          <p:nvSpPr>
            <p:cNvPr id="1178" name=""/>
            <p:cNvSpPr/>
            <p:nvPr/>
          </p:nvSpPr>
          <p:spPr>
            <a:xfrm>
              <a:off x="2743200" y="49528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33920" y="4038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5105520" y="4038480"/>
            <a:ext cx="1828800" cy="2707200"/>
            <a:chOff x="5105520" y="4038480"/>
            <a:chExt cx="1828800" cy="2707200"/>
          </a:xfrm>
        </p:grpSpPr>
        <p:sp>
          <p:nvSpPr>
            <p:cNvPr id="1181" name=""/>
            <p:cNvSpPr/>
            <p:nvPr/>
          </p:nvSpPr>
          <p:spPr>
            <a:xfrm>
              <a:off x="5105520" y="5676840"/>
              <a:ext cx="182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43600" y="4038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629400" y="4114800"/>
            <a:ext cx="1981080" cy="1419480"/>
            <a:chOff x="6629400" y="4114800"/>
            <a:chExt cx="1981080" cy="1419480"/>
          </a:xfrm>
        </p:grpSpPr>
        <p:sp>
          <p:nvSpPr>
            <p:cNvPr id="1184" name=""/>
            <p:cNvSpPr/>
            <p:nvPr/>
          </p:nvSpPr>
          <p:spPr>
            <a:xfrm>
              <a:off x="6629400" y="49528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7543440" y="4114800"/>
              <a:ext cx="1522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57200" y="30481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xy + 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y – 4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781680" y="2133720"/>
            <a:ext cx="1600200" cy="7617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22640" y="1381320"/>
            <a:ext cx="1758960" cy="1252080"/>
            <a:chOff x="422640" y="1381320"/>
            <a:chExt cx="1758960" cy="1252080"/>
          </a:xfrm>
        </p:grpSpPr>
        <p:sp>
          <p:nvSpPr>
            <p:cNvPr id="1190" name=""/>
            <p:cNvSpPr/>
            <p:nvPr/>
          </p:nvSpPr>
          <p:spPr>
            <a:xfrm rot="20897400">
              <a:off x="482040" y="159984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20897400">
              <a:off x="501840" y="153360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457200" y="2133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xy + 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y – 4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62120" y="16160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=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d=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d=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d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457200" y="4195800"/>
            <a:ext cx="8153280" cy="1754280"/>
            <a:chOff x="457200" y="4195800"/>
            <a:chExt cx="8153280" cy="1754280"/>
          </a:xfrm>
        </p:grpSpPr>
        <p:sp>
          <p:nvSpPr>
            <p:cNvPr id="1195" name=""/>
            <p:cNvSpPr/>
            <p:nvPr/>
          </p:nvSpPr>
          <p:spPr>
            <a:xfrm>
              <a:off x="457200" y="4941720"/>
              <a:ext cx="815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– 4y</a:t>
              </a:r>
              <a:r>
                <a:rPr b="0" lang="en-US" sz="60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+ 2xy + 2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2120" y="4195800"/>
              <a:ext cx="78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=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    d=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     d=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d=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685800" y="3352680"/>
            <a:ext cx="1600200" cy="7621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2437920" y="3276720"/>
            <a:ext cx="11430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4267080" y="3200400"/>
            <a:ext cx="3657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57400" y="3200400"/>
            <a:ext cx="3962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19920" y="3276720"/>
            <a:ext cx="198108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66880" y="7002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9" dur="1" fill="hold"/>
                                  <p:tgtEl>
                                    <p:spTgt spid="1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1219320" y="3691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=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038480" y="3691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467480" y="3691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91320" y="3691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514600" y="3691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0880" y="262404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144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3 + 47a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5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7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0880" y="533412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7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 + 47a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44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9480" y="45291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in descending 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562720" y="4605480"/>
            <a:ext cx="1143000" cy="4572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743200" y="762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31280" y="1303920"/>
            <a:ext cx="3170520" cy="1157400"/>
            <a:chOff x="431280" y="1303920"/>
            <a:chExt cx="3170520" cy="1157400"/>
          </a:xfrm>
        </p:grpSpPr>
        <p:sp>
          <p:nvSpPr>
            <p:cNvPr id="1214" name=""/>
            <p:cNvSpPr/>
            <p:nvPr/>
          </p:nvSpPr>
          <p:spPr>
            <a:xfrm rot="20897400">
              <a:off x="448920" y="1600200"/>
              <a:ext cx="2971800" cy="48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20897400">
              <a:off x="457200" y="16290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76720" y="609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971800" y="3048120"/>
            <a:ext cx="556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degree of a polynomial and write it with terms in descending order of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447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2971800" y="12952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520" y="22096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simplify polynomials with terms of different degr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09480" y="3733920"/>
            <a:ext cx="8077320" cy="2404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mbine like terms with identical algebraic parts by adding (or subtracting)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dentify degree of each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range in order of descending degree from left to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600200" y="14479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Descending Or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34120" y="26668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highest to lowest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257800" y="43434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left to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781680" y="5334120"/>
            <a:ext cx="1600200" cy="7617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66688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29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685800" y="32767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4y  + 7y  - 5y  + 3y  + 8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1676520" y="3276720"/>
            <a:ext cx="6476760" cy="459720"/>
            <a:chOff x="1676520" y="3276720"/>
            <a:chExt cx="6476760" cy="459720"/>
          </a:xfrm>
        </p:grpSpPr>
        <p:sp>
          <p:nvSpPr>
            <p:cNvPr id="1228" name=""/>
            <p:cNvSpPr/>
            <p:nvPr/>
          </p:nvSpPr>
          <p:spPr>
            <a:xfrm>
              <a:off x="16765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24280" y="3276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77240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32004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2485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362320" y="2971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410080" y="2971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962520" y="1447920"/>
            <a:ext cx="121896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85800" y="1600200"/>
            <a:ext cx="7696080" cy="2895480"/>
            <a:chOff x="685800" y="1600200"/>
            <a:chExt cx="7696080" cy="2895480"/>
          </a:xfrm>
        </p:grpSpPr>
        <p:grpSp>
          <p:nvGrpSpPr>
            <p:cNvPr id="1237" name=""/>
            <p:cNvGrpSpPr/>
            <p:nvPr/>
          </p:nvGrpSpPr>
          <p:grpSpPr>
            <a:xfrm>
              <a:off x="685800" y="3048120"/>
              <a:ext cx="7696080" cy="1447560"/>
              <a:chOff x="685800" y="3048120"/>
              <a:chExt cx="7696080" cy="1447560"/>
            </a:xfrm>
          </p:grpSpPr>
          <p:sp>
            <p:nvSpPr>
              <p:cNvPr id="1238" name=""/>
              <p:cNvSpPr/>
              <p:nvPr/>
            </p:nvSpPr>
            <p:spPr>
              <a:xfrm>
                <a:off x="685800" y="3048120"/>
                <a:ext cx="1447920" cy="144756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809880" y="3048120"/>
                <a:ext cx="1447920" cy="144756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34320" y="3048120"/>
                <a:ext cx="1447560" cy="144756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1" name=""/>
            <p:cNvSpPr/>
            <p:nvPr/>
          </p:nvSpPr>
          <p:spPr>
            <a:xfrm>
              <a:off x="2514600" y="1600200"/>
              <a:ext cx="40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degree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2" name=""/>
            <p:cNvCxnSpPr/>
            <p:nvPr/>
          </p:nvCxnSpPr>
          <p:spPr>
            <a:xfrm rot="5400000">
              <a:off x="2656800" y="1114560"/>
              <a:ext cx="667440" cy="3162960"/>
            </a:xfrm>
            <a:prstGeom prst="curvedConnector5">
              <a:avLst>
                <a:gd name="adj1" fmla="val 51430"/>
                <a:gd name="adj2" fmla="val 49994"/>
                <a:gd name="adj3" fmla="val 51430"/>
              </a:avLst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1243" name=""/>
            <p:cNvCxnSpPr/>
            <p:nvPr/>
          </p:nvCxnSpPr>
          <p:spPr>
            <a:xfrm flipH="1">
              <a:off x="4533480" y="2362320"/>
              <a:ext cx="38880" cy="667440"/>
            </a:xfrm>
            <a:prstGeom prst="straightConnector1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  <p:cxnSp>
          <p:nvCxnSpPr>
            <p:cNvPr id="1244" name=""/>
            <p:cNvCxnSpPr/>
            <p:nvPr/>
          </p:nvCxnSpPr>
          <p:spPr>
            <a:xfrm flipH="1" rot="16200000">
              <a:off x="5780880" y="1152360"/>
              <a:ext cx="667440" cy="3087000"/>
            </a:xfrm>
            <a:prstGeom prst="curvedConnector5">
              <a:avLst>
                <a:gd name="adj1" fmla="val 51430"/>
                <a:gd name="adj2" fmla="val 50000"/>
                <a:gd name="adj3" fmla="val 51430"/>
              </a:avLst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</p:cxnSp>
      </p:grpSp>
      <p:sp>
        <p:nvSpPr>
          <p:cNvPr id="1245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438280" y="2895480"/>
            <a:ext cx="4419360" cy="2869920"/>
            <a:chOff x="2438280" y="2895480"/>
            <a:chExt cx="4419360" cy="2869920"/>
          </a:xfrm>
        </p:grpSpPr>
        <p:sp>
          <p:nvSpPr>
            <p:cNvPr id="1247" name=""/>
            <p:cNvSpPr/>
            <p:nvPr/>
          </p:nvSpPr>
          <p:spPr>
            <a:xfrm>
              <a:off x="2819160" y="5122800"/>
              <a:ext cx="4038480" cy="642600"/>
            </a:xfrm>
            <a:prstGeom prst="rect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degree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8" name=""/>
            <p:cNvCxnSpPr>
              <a:stCxn id="1247" idx="0"/>
              <a:endCxn id="1233" idx="4"/>
            </p:cNvCxnSpPr>
            <p:nvPr/>
          </p:nvCxnSpPr>
          <p:spPr>
            <a:xfrm flipV="1" rot="16200000">
              <a:off x="3629160" y="3913200"/>
              <a:ext cx="704160" cy="1715040"/>
            </a:xfrm>
            <a:prstGeom prst="curvedConnector5">
              <a:avLst>
                <a:gd name="adj1" fmla="val 49872"/>
                <a:gd name="adj2" fmla="val 49989"/>
                <a:gd name="adj3" fmla="val 49872"/>
              </a:avLst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1249" name=""/>
            <p:cNvCxnSpPr>
              <a:stCxn id="1247" idx="0"/>
              <a:endCxn id="1234" idx="4"/>
            </p:cNvCxnSpPr>
            <p:nvPr/>
          </p:nvCxnSpPr>
          <p:spPr>
            <a:xfrm flipH="1" flipV="1" rot="5400000">
              <a:off x="5153040" y="4104000"/>
              <a:ext cx="704160" cy="1334160"/>
            </a:xfrm>
            <a:prstGeom prst="curvedConnector5">
              <a:avLst>
                <a:gd name="adj1" fmla="val 49872"/>
                <a:gd name="adj2" fmla="val 49986"/>
                <a:gd name="adj3" fmla="val 49872"/>
              </a:avLst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  <p:sp>
          <p:nvSpPr>
            <p:cNvPr id="1250" name=""/>
            <p:cNvSpPr/>
            <p:nvPr/>
          </p:nvSpPr>
          <p:spPr>
            <a:xfrm>
              <a:off x="2438280" y="2895480"/>
              <a:ext cx="1218960" cy="16002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86040" y="2895480"/>
              <a:ext cx="1219320" cy="160020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533520" y="57150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highest to lowest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81680" y="5715000"/>
            <a:ext cx="1600200" cy="7621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286920" y="1380240"/>
            <a:ext cx="3170520" cy="1157400"/>
            <a:chOff x="286920" y="1380240"/>
            <a:chExt cx="3170520" cy="1157400"/>
          </a:xfrm>
        </p:grpSpPr>
        <p:sp>
          <p:nvSpPr>
            <p:cNvPr id="1255" name=""/>
            <p:cNvSpPr/>
            <p:nvPr/>
          </p:nvSpPr>
          <p:spPr>
            <a:xfrm rot="20897400">
              <a:off x="304560" y="1676520"/>
              <a:ext cx="2971800" cy="48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20897400">
              <a:off x="312840" y="17053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/>
          <p:nvPr/>
        </p:nvSpPr>
        <p:spPr>
          <a:xfrm>
            <a:off x="609480" y="236232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7y</a:t>
            </a:r>
            <a:r>
              <a:rPr b="0" lang="en-US" sz="54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 + 3y</a:t>
            </a:r>
            <a:r>
              <a:rPr b="0" lang="en-US" sz="54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3333ff"/>
                </a:solidFill>
                <a:latin typeface="Comic Sans MS"/>
              </a:rPr>
              <a:t>– 4y –5y + 8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1142640" y="1295280"/>
            <a:ext cx="3200760" cy="1219320"/>
            <a:chOff x="1142640" y="1295280"/>
            <a:chExt cx="3200760" cy="1219320"/>
          </a:xfrm>
        </p:grpSpPr>
        <p:sp>
          <p:nvSpPr>
            <p:cNvPr id="1259" name=""/>
            <p:cNvSpPr/>
            <p:nvPr/>
          </p:nvSpPr>
          <p:spPr>
            <a:xfrm>
              <a:off x="1295280" y="12952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       </a:t>
              </a: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 rot="16200000">
              <a:off x="2399400" y="799920"/>
              <a:ext cx="457200" cy="297180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4419720" y="1295280"/>
            <a:ext cx="3657600" cy="1295640"/>
            <a:chOff x="4419720" y="1295280"/>
            <a:chExt cx="3657600" cy="1295640"/>
          </a:xfrm>
        </p:grpSpPr>
        <p:sp>
          <p:nvSpPr>
            <p:cNvPr id="1262" name=""/>
            <p:cNvSpPr/>
            <p:nvPr/>
          </p:nvSpPr>
          <p:spPr>
            <a:xfrm>
              <a:off x="4952880" y="129528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     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degree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 rot="16200000">
              <a:off x="5981760" y="495360"/>
              <a:ext cx="533520" cy="365760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838080" y="3124080"/>
            <a:ext cx="2971800" cy="1412280"/>
            <a:chOff x="838080" y="3124080"/>
            <a:chExt cx="2971800" cy="1412280"/>
          </a:xfrm>
        </p:grpSpPr>
        <p:sp>
          <p:nvSpPr>
            <p:cNvPr id="1265" name=""/>
            <p:cNvSpPr/>
            <p:nvPr/>
          </p:nvSpPr>
          <p:spPr>
            <a:xfrm rot="16200000">
              <a:off x="2095200" y="1866600"/>
              <a:ext cx="457200" cy="29718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66680" y="3619440"/>
              <a:ext cx="2438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10y</a:t>
              </a:r>
              <a:r>
                <a:rPr b="0" lang="en-US" sz="5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4343400" y="3200400"/>
            <a:ext cx="3352680" cy="1335960"/>
            <a:chOff x="4343400" y="3200400"/>
            <a:chExt cx="3352680" cy="1335960"/>
          </a:xfrm>
        </p:grpSpPr>
        <p:sp>
          <p:nvSpPr>
            <p:cNvPr id="1268" name=""/>
            <p:cNvSpPr/>
            <p:nvPr/>
          </p:nvSpPr>
          <p:spPr>
            <a:xfrm rot="16200000">
              <a:off x="5333760" y="2209680"/>
              <a:ext cx="457200" cy="243828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238880" y="3200400"/>
              <a:ext cx="152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876920" y="3619440"/>
              <a:ext cx="2819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ff"/>
                  </a:solidFill>
                  <a:latin typeface="Comic Sans MS"/>
                </a:rPr>
                <a:t>-9y + 8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5029200" y="4419720"/>
            <a:ext cx="2514600" cy="1221480"/>
            <a:chOff x="5029200" y="4419720"/>
            <a:chExt cx="2514600" cy="1221480"/>
          </a:xfrm>
        </p:grpSpPr>
        <p:sp>
          <p:nvSpPr>
            <p:cNvPr id="1272" name=""/>
            <p:cNvSpPr/>
            <p:nvPr/>
          </p:nvSpPr>
          <p:spPr>
            <a:xfrm rot="16200000">
              <a:off x="6134040" y="3314520"/>
              <a:ext cx="304560" cy="2514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410080" y="4724280"/>
              <a:ext cx="175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Comic Sans MS"/>
                </a:rPr>
                <a:t>-1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1676520" y="3733920"/>
            <a:ext cx="144756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138400" y="5262480"/>
            <a:ext cx="303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10y</a:t>
            </a:r>
            <a:r>
              <a:rPr b="0" lang="en-US" sz="6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6000" spc="-1" strike="noStrike" baseline="30000">
                <a:solidFill>
                  <a:srgbClr val="cc66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- 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6" name=""/>
          <p:cNvCxnSpPr/>
          <p:nvPr/>
        </p:nvCxnSpPr>
        <p:spPr>
          <a:xfrm flipH="1" rot="16200000">
            <a:off x="2454840" y="4478760"/>
            <a:ext cx="615240" cy="1257840"/>
          </a:xfrm>
          <a:prstGeom prst="curvedConnector5">
            <a:avLst>
              <a:gd name="adj1" fmla="val 49824"/>
              <a:gd name="adj2" fmla="val 49985"/>
              <a:gd name="adj3" fmla="val 49824"/>
            </a:avLst>
          </a:prstGeom>
          <a:ln w="381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277" name=""/>
          <p:cNvCxnSpPr/>
          <p:nvPr/>
        </p:nvCxnSpPr>
        <p:spPr>
          <a:xfrm rot="5400000">
            <a:off x="5393160" y="5045760"/>
            <a:ext cx="300600" cy="1334160"/>
          </a:xfrm>
          <a:prstGeom prst="curvedConnector2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</p:cxnSp>
      <p:sp>
        <p:nvSpPr>
          <p:cNvPr id="1278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09480" y="144792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276720" y="167652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expressions with more than one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3520" y="3733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t mixed variables in alphabetica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990720" y="4495680"/>
            <a:ext cx="7848360" cy="1846440"/>
            <a:chOff x="990720" y="4495680"/>
            <a:chExt cx="7848360" cy="1846440"/>
          </a:xfrm>
        </p:grpSpPr>
        <p:sp>
          <p:nvSpPr>
            <p:cNvPr id="1284" name=""/>
            <p:cNvSpPr/>
            <p:nvPr/>
          </p:nvSpPr>
          <p:spPr>
            <a:xfrm>
              <a:off x="990720" y="480060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Examples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114800" y="4724280"/>
              <a:ext cx="21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a,b,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34120" y="556272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m,n,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819520" y="563868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33"/>
                  </a:solidFill>
                  <a:latin typeface="Comic Sans MS"/>
                </a:rPr>
                <a:t>r,s,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05720" y="449568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x,y,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152280" y="1447920"/>
            <a:ext cx="2667240" cy="1687320"/>
            <a:chOff x="152280" y="1447920"/>
            <a:chExt cx="2667240" cy="1687320"/>
          </a:xfrm>
        </p:grpSpPr>
        <p:pic>
          <p:nvPicPr>
            <p:cNvPr id="129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2667240" cy="16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 rot="20568600">
              <a:off x="838080" y="20710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Comic Sans MS"/>
                </a:rPr>
                <a:t>NOTE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762120" y="4754520"/>
            <a:ext cx="7772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-4d e  + 3d e  - 5d e  + 7d e  + 5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23880" y="4678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905120" y="46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200400" y="46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657600" y="46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477120" y="46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934320" y="4678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153280" y="4678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4876920" y="4678200"/>
            <a:ext cx="761400" cy="459720"/>
            <a:chOff x="4876920" y="4678200"/>
            <a:chExt cx="761400" cy="459720"/>
          </a:xfrm>
        </p:grpSpPr>
        <p:sp>
          <p:nvSpPr>
            <p:cNvPr id="1301" name=""/>
            <p:cNvSpPr/>
            <p:nvPr/>
          </p:nvSpPr>
          <p:spPr>
            <a:xfrm>
              <a:off x="4876920" y="46782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257440" y="4678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685800" y="5439960"/>
            <a:ext cx="2514600" cy="1038960"/>
            <a:chOff x="685800" y="5439960"/>
            <a:chExt cx="2514600" cy="1038960"/>
          </a:xfrm>
        </p:grpSpPr>
        <p:sp>
          <p:nvSpPr>
            <p:cNvPr id="1304" name=""/>
            <p:cNvSpPr/>
            <p:nvPr/>
          </p:nvSpPr>
          <p:spPr>
            <a:xfrm>
              <a:off x="685800" y="589752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</a:t>
              </a:r>
              <a:r>
                <a:rPr b="1" lang="en-US" sz="3200" spc="-1" strike="noStrike">
                  <a:solidFill>
                    <a:srgbClr val="3333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1600200" y="5439960"/>
              <a:ext cx="1526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2819520" y="3611520"/>
            <a:ext cx="2514600" cy="1143000"/>
            <a:chOff x="2819520" y="3611520"/>
            <a:chExt cx="2514600" cy="1143000"/>
          </a:xfrm>
        </p:grpSpPr>
        <p:sp>
          <p:nvSpPr>
            <p:cNvPr id="1307" name=""/>
            <p:cNvSpPr/>
            <p:nvPr/>
          </p:nvSpPr>
          <p:spPr>
            <a:xfrm>
              <a:off x="2819520" y="361152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276720" y="422100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3733920" y="5364000"/>
            <a:ext cx="2514600" cy="962280"/>
            <a:chOff x="3733920" y="5364000"/>
            <a:chExt cx="2514600" cy="962280"/>
          </a:xfrm>
        </p:grpSpPr>
        <p:sp>
          <p:nvSpPr>
            <p:cNvPr id="1310" name=""/>
            <p:cNvSpPr/>
            <p:nvPr/>
          </p:nvSpPr>
          <p:spPr>
            <a:xfrm>
              <a:off x="3733920" y="574488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</a:t>
              </a:r>
              <a:r>
                <a:rPr b="1" lang="en-US" sz="3200" spc="-1" strike="noStrike">
                  <a:solidFill>
                    <a:srgbClr val="996633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4876920" y="5364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562720" y="3306600"/>
            <a:ext cx="2514600" cy="1371600"/>
            <a:chOff x="5562720" y="3306600"/>
            <a:chExt cx="2514600" cy="1371600"/>
          </a:xfrm>
        </p:grpSpPr>
        <p:sp>
          <p:nvSpPr>
            <p:cNvPr id="1313" name=""/>
            <p:cNvSpPr/>
            <p:nvPr/>
          </p:nvSpPr>
          <p:spPr>
            <a:xfrm>
              <a:off x="5562720" y="330660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</a:t>
              </a:r>
              <a:r>
                <a:rPr b="1" lang="en-US" sz="3200" spc="-1" strike="noStrike">
                  <a:solidFill>
                    <a:srgbClr val="3333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6476760" y="3992400"/>
              <a:ext cx="152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6858000" y="5516640"/>
            <a:ext cx="1981080" cy="962640"/>
            <a:chOff x="6858000" y="5516640"/>
            <a:chExt cx="1981080" cy="962640"/>
          </a:xfrm>
        </p:grpSpPr>
        <p:sp>
          <p:nvSpPr>
            <p:cNvPr id="1316" name=""/>
            <p:cNvSpPr/>
            <p:nvPr/>
          </p:nvSpPr>
          <p:spPr>
            <a:xfrm>
              <a:off x="6858000" y="58978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</a:t>
              </a:r>
              <a:r>
                <a:rPr b="1" lang="en-US" sz="3200" spc="-1" strike="noStrike">
                  <a:solidFill>
                    <a:srgbClr val="996633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619760" y="5516640"/>
              <a:ext cx="2282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266688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057400" y="2666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degree of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-76320" y="1295280"/>
            <a:ext cx="2819160" cy="1676520"/>
            <a:chOff x="-76320" y="1295280"/>
            <a:chExt cx="2819160" cy="1676520"/>
          </a:xfrm>
        </p:grpSpPr>
        <p:pic>
          <p:nvPicPr>
            <p:cNvPr id="1321" name="" descr=""/>
            <p:cNvPicPr/>
            <p:nvPr/>
          </p:nvPicPr>
          <p:blipFill>
            <a:blip r:embed="rId1"/>
            <a:stretch/>
          </p:blipFill>
          <p:spPr>
            <a:xfrm>
              <a:off x="-76320" y="1295280"/>
              <a:ext cx="2819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 rot="20568600">
              <a:off x="648360" y="1914480"/>
              <a:ext cx="144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Comic Sans MS"/>
                </a:rPr>
                <a:t>NOTE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2666880" y="708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2819520" y="3505320"/>
            <a:ext cx="2895480" cy="810000"/>
            <a:chOff x="2819520" y="3505320"/>
            <a:chExt cx="2895480" cy="810000"/>
          </a:xfrm>
        </p:grpSpPr>
        <p:sp>
          <p:nvSpPr>
            <p:cNvPr id="1325" name=""/>
            <p:cNvSpPr/>
            <p:nvPr/>
          </p:nvSpPr>
          <p:spPr>
            <a:xfrm flipV="1" rot="16200000">
              <a:off x="3962520" y="2362320"/>
              <a:ext cx="380880" cy="26668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69480 h 2666880"/>
                <a:gd name="textAreaBottom" fmla="*/ 25974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124440" y="373392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</a:t>
              </a:r>
              <a:r>
                <a:rPr b="1" lang="en-US" sz="3200" spc="-1" strike="noStrike">
                  <a:solidFill>
                    <a:srgbClr val="3333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6095880" y="1905120"/>
            <a:ext cx="2514600" cy="1066680"/>
            <a:chOff x="6095880" y="1905120"/>
            <a:chExt cx="2514600" cy="1066680"/>
          </a:xfrm>
        </p:grpSpPr>
        <p:sp>
          <p:nvSpPr>
            <p:cNvPr id="1328" name=""/>
            <p:cNvSpPr/>
            <p:nvPr/>
          </p:nvSpPr>
          <p:spPr>
            <a:xfrm rot="5400000">
              <a:off x="7048440" y="1638000"/>
              <a:ext cx="380880" cy="22860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53080" y="19051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</a:t>
              </a:r>
              <a:r>
                <a:rPr b="1" lang="en-US" sz="3200" spc="-1" strike="noStrike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609480" y="2057400"/>
            <a:ext cx="2133720" cy="914400"/>
            <a:chOff x="609480" y="2057400"/>
            <a:chExt cx="2133720" cy="914400"/>
          </a:xfrm>
        </p:grpSpPr>
        <p:sp>
          <p:nvSpPr>
            <p:cNvPr id="1331" name=""/>
            <p:cNvSpPr/>
            <p:nvPr/>
          </p:nvSpPr>
          <p:spPr>
            <a:xfrm>
              <a:off x="609480" y="205740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</a:t>
              </a:r>
              <a:r>
                <a:rPr b="0" lang="en-US" sz="32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5400000">
              <a:off x="1371600" y="2057400"/>
              <a:ext cx="380880" cy="1447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762120" y="537696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3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3d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5de + 5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57200" y="28954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3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4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7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5de + 5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914400" y="1371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up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320" y="28954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+3d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d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7d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– 5de + 5e</a:t>
            </a:r>
            <a:r>
              <a:rPr b="0" lang="en-US" sz="40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2120" y="537696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+3d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en-US" sz="44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3d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 5de + 5e</a:t>
            </a:r>
            <a:r>
              <a:rPr b="0" lang="en-US" sz="44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838080" y="4648320"/>
            <a:ext cx="7848360" cy="761760"/>
            <a:chOff x="838080" y="4648320"/>
            <a:chExt cx="7848360" cy="761760"/>
          </a:xfrm>
        </p:grpSpPr>
        <p:sp>
          <p:nvSpPr>
            <p:cNvPr id="1339" name=""/>
            <p:cNvSpPr/>
            <p:nvPr/>
          </p:nvSpPr>
          <p:spPr>
            <a:xfrm>
              <a:off x="838080" y="4648320"/>
              <a:ext cx="62481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86240" y="4648320"/>
              <a:ext cx="1600200" cy="761760"/>
            </a:xfrm>
            <a:custGeom>
              <a:avLst/>
              <a:gdLst>
                <a:gd name="textAreaLeft" fmla="*/ 249840 w 1600200"/>
                <a:gd name="textAreaRight" fmla="*/ 1400400 w 16002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533520" y="4419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in descending order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2" name=""/>
          <p:cNvGrpSpPr/>
          <p:nvPr/>
        </p:nvGrpSpPr>
        <p:grpSpPr>
          <a:xfrm>
            <a:off x="5029200" y="3581280"/>
            <a:ext cx="3392640" cy="2911320"/>
            <a:chOff x="5029200" y="3581280"/>
            <a:chExt cx="3392640" cy="2911320"/>
          </a:xfrm>
        </p:grpSpPr>
        <p:sp>
          <p:nvSpPr>
            <p:cNvPr id="1343" name=""/>
            <p:cNvSpPr/>
            <p:nvPr/>
          </p:nvSpPr>
          <p:spPr>
            <a:xfrm>
              <a:off x="5029200" y="3952440"/>
              <a:ext cx="3392640" cy="230760"/>
            </a:xfrm>
            <a:custGeom>
              <a:avLst/>
              <a:gdLst/>
              <a:ahLst/>
              <a:rect l="l" t="t" r="r" b="b"/>
              <a:pathLst>
                <a:path w="2233" h="153">
                  <a:moveTo>
                    <a:pt x="2233" y="119"/>
                  </a:moveTo>
                  <a:lnTo>
                    <a:pt x="0" y="0"/>
                  </a:lnTo>
                  <a:lnTo>
                    <a:pt x="3" y="55"/>
                  </a:lnTo>
                  <a:lnTo>
                    <a:pt x="2225" y="153"/>
                  </a:lnTo>
                  <a:lnTo>
                    <a:pt x="2233" y="119"/>
                  </a:lnTo>
                  <a:lnTo>
                    <a:pt x="2233" y="119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029200" y="3952440"/>
              <a:ext cx="3392640" cy="230760"/>
            </a:xfrm>
            <a:custGeom>
              <a:avLst/>
              <a:gdLst/>
              <a:ahLst/>
              <a:rect l="l" t="t" r="r" b="b"/>
              <a:pathLst>
                <a:path w="2233" h="153">
                  <a:moveTo>
                    <a:pt x="0" y="0"/>
                  </a:moveTo>
                  <a:lnTo>
                    <a:pt x="2233" y="119"/>
                  </a:lnTo>
                  <a:lnTo>
                    <a:pt x="2225" y="153"/>
                  </a:lnTo>
                  <a:lnTo>
                    <a:pt x="3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41080" y="4291560"/>
              <a:ext cx="3328560" cy="230760"/>
            </a:xfrm>
            <a:custGeom>
              <a:avLst/>
              <a:gdLst/>
              <a:ahLst/>
              <a:rect l="l" t="t" r="r" b="b"/>
              <a:pathLst>
                <a:path w="2191" h="153">
                  <a:moveTo>
                    <a:pt x="0" y="0"/>
                  </a:moveTo>
                  <a:lnTo>
                    <a:pt x="2191" y="121"/>
                  </a:lnTo>
                  <a:lnTo>
                    <a:pt x="2183" y="153"/>
                  </a:lnTo>
                  <a:lnTo>
                    <a:pt x="6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22240" y="3581280"/>
              <a:ext cx="145440" cy="2818080"/>
            </a:xfrm>
            <a:custGeom>
              <a:avLst/>
              <a:gdLst/>
              <a:ahLst/>
              <a:rect l="l" t="t" r="r" b="b"/>
              <a:pathLst>
                <a:path w="96" h="1868">
                  <a:moveTo>
                    <a:pt x="0" y="0"/>
                  </a:moveTo>
                  <a:lnTo>
                    <a:pt x="36" y="4"/>
                  </a:lnTo>
                  <a:lnTo>
                    <a:pt x="96" y="1868"/>
                  </a:lnTo>
                  <a:lnTo>
                    <a:pt x="70" y="18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645880" y="3606840"/>
              <a:ext cx="93960" cy="2796840"/>
            </a:xfrm>
            <a:custGeom>
              <a:avLst/>
              <a:gdLst/>
              <a:ahLst/>
              <a:rect l="l" t="t" r="r" b="b"/>
              <a:pathLst>
                <a:path w="62" h="1854">
                  <a:moveTo>
                    <a:pt x="0" y="0"/>
                  </a:moveTo>
                  <a:lnTo>
                    <a:pt x="32" y="2"/>
                  </a:lnTo>
                  <a:lnTo>
                    <a:pt x="62" y="1854"/>
                  </a:lnTo>
                  <a:lnTo>
                    <a:pt x="35" y="18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974200" y="3630960"/>
              <a:ext cx="49680" cy="2774160"/>
            </a:xfrm>
            <a:custGeom>
              <a:avLst/>
              <a:gdLst/>
              <a:ahLst/>
              <a:rect l="l" t="t" r="r" b="b"/>
              <a:pathLst>
                <a:path w="33" h="1839">
                  <a:moveTo>
                    <a:pt x="0" y="0"/>
                  </a:moveTo>
                  <a:lnTo>
                    <a:pt x="33" y="0"/>
                  </a:lnTo>
                  <a:lnTo>
                    <a:pt x="30" y="1839"/>
                  </a:lnTo>
                  <a:lnTo>
                    <a:pt x="5" y="18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68440" y="6334560"/>
              <a:ext cx="110880" cy="9036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40" y="0"/>
                  </a:moveTo>
                  <a:lnTo>
                    <a:pt x="18" y="15"/>
                  </a:lnTo>
                  <a:lnTo>
                    <a:pt x="0" y="43"/>
                  </a:lnTo>
                  <a:lnTo>
                    <a:pt x="30" y="58"/>
                  </a:lnTo>
                  <a:lnTo>
                    <a:pt x="73" y="6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243040" y="3964320"/>
              <a:ext cx="2637720" cy="2507040"/>
            </a:xfrm>
            <a:custGeom>
              <a:avLst/>
              <a:gdLst/>
              <a:ahLst/>
              <a:rect l="l" t="t" r="r" b="b"/>
              <a:pathLst>
                <a:path w="1736" h="1662">
                  <a:moveTo>
                    <a:pt x="0" y="1658"/>
                  </a:moveTo>
                  <a:lnTo>
                    <a:pt x="109" y="1459"/>
                  </a:lnTo>
                  <a:lnTo>
                    <a:pt x="109" y="1457"/>
                  </a:lnTo>
                  <a:lnTo>
                    <a:pt x="113" y="1456"/>
                  </a:lnTo>
                  <a:lnTo>
                    <a:pt x="116" y="1453"/>
                  </a:lnTo>
                  <a:lnTo>
                    <a:pt x="123" y="1450"/>
                  </a:lnTo>
                  <a:lnTo>
                    <a:pt x="126" y="1448"/>
                  </a:lnTo>
                  <a:lnTo>
                    <a:pt x="130" y="1446"/>
                  </a:lnTo>
                  <a:lnTo>
                    <a:pt x="135" y="1444"/>
                  </a:lnTo>
                  <a:lnTo>
                    <a:pt x="138" y="1444"/>
                  </a:lnTo>
                  <a:lnTo>
                    <a:pt x="143" y="1441"/>
                  </a:lnTo>
                  <a:lnTo>
                    <a:pt x="149" y="1439"/>
                  </a:lnTo>
                  <a:lnTo>
                    <a:pt x="155" y="1438"/>
                  </a:lnTo>
                  <a:lnTo>
                    <a:pt x="162" y="1438"/>
                  </a:lnTo>
                  <a:lnTo>
                    <a:pt x="167" y="1437"/>
                  </a:lnTo>
                  <a:lnTo>
                    <a:pt x="176" y="1435"/>
                  </a:lnTo>
                  <a:lnTo>
                    <a:pt x="185" y="1435"/>
                  </a:lnTo>
                  <a:lnTo>
                    <a:pt x="198" y="1435"/>
                  </a:lnTo>
                  <a:lnTo>
                    <a:pt x="208" y="1435"/>
                  </a:lnTo>
                  <a:lnTo>
                    <a:pt x="221" y="1435"/>
                  </a:lnTo>
                  <a:lnTo>
                    <a:pt x="234" y="1435"/>
                  </a:lnTo>
                  <a:lnTo>
                    <a:pt x="247" y="1435"/>
                  </a:lnTo>
                  <a:lnTo>
                    <a:pt x="258" y="1435"/>
                  </a:lnTo>
                  <a:lnTo>
                    <a:pt x="270" y="1435"/>
                  </a:lnTo>
                  <a:lnTo>
                    <a:pt x="280" y="1435"/>
                  </a:lnTo>
                  <a:lnTo>
                    <a:pt x="291" y="1435"/>
                  </a:lnTo>
                  <a:lnTo>
                    <a:pt x="299" y="1435"/>
                  </a:lnTo>
                  <a:lnTo>
                    <a:pt x="306" y="1435"/>
                  </a:lnTo>
                  <a:lnTo>
                    <a:pt x="310" y="1435"/>
                  </a:lnTo>
                  <a:lnTo>
                    <a:pt x="311" y="1435"/>
                  </a:lnTo>
                  <a:lnTo>
                    <a:pt x="426" y="1166"/>
                  </a:lnTo>
                  <a:lnTo>
                    <a:pt x="497" y="1127"/>
                  </a:lnTo>
                  <a:lnTo>
                    <a:pt x="653" y="1127"/>
                  </a:lnTo>
                  <a:lnTo>
                    <a:pt x="808" y="802"/>
                  </a:lnTo>
                  <a:lnTo>
                    <a:pt x="809" y="800"/>
                  </a:lnTo>
                  <a:lnTo>
                    <a:pt x="814" y="798"/>
                  </a:lnTo>
                  <a:lnTo>
                    <a:pt x="816" y="795"/>
                  </a:lnTo>
                  <a:lnTo>
                    <a:pt x="819" y="792"/>
                  </a:lnTo>
                  <a:lnTo>
                    <a:pt x="823" y="791"/>
                  </a:lnTo>
                  <a:lnTo>
                    <a:pt x="828" y="790"/>
                  </a:lnTo>
                  <a:lnTo>
                    <a:pt x="831" y="785"/>
                  </a:lnTo>
                  <a:lnTo>
                    <a:pt x="836" y="783"/>
                  </a:lnTo>
                  <a:lnTo>
                    <a:pt x="840" y="780"/>
                  </a:lnTo>
                  <a:lnTo>
                    <a:pt x="845" y="777"/>
                  </a:lnTo>
                  <a:lnTo>
                    <a:pt x="850" y="776"/>
                  </a:lnTo>
                  <a:lnTo>
                    <a:pt x="854" y="773"/>
                  </a:lnTo>
                  <a:lnTo>
                    <a:pt x="859" y="770"/>
                  </a:lnTo>
                  <a:lnTo>
                    <a:pt x="864" y="769"/>
                  </a:lnTo>
                  <a:lnTo>
                    <a:pt x="871" y="764"/>
                  </a:lnTo>
                  <a:lnTo>
                    <a:pt x="878" y="761"/>
                  </a:lnTo>
                  <a:lnTo>
                    <a:pt x="883" y="758"/>
                  </a:lnTo>
                  <a:lnTo>
                    <a:pt x="888" y="757"/>
                  </a:lnTo>
                  <a:lnTo>
                    <a:pt x="894" y="755"/>
                  </a:lnTo>
                  <a:lnTo>
                    <a:pt x="897" y="755"/>
                  </a:lnTo>
                  <a:lnTo>
                    <a:pt x="994" y="809"/>
                  </a:lnTo>
                  <a:lnTo>
                    <a:pt x="995" y="806"/>
                  </a:lnTo>
                  <a:lnTo>
                    <a:pt x="999" y="800"/>
                  </a:lnTo>
                  <a:lnTo>
                    <a:pt x="1003" y="792"/>
                  </a:lnTo>
                  <a:lnTo>
                    <a:pt x="1011" y="780"/>
                  </a:lnTo>
                  <a:lnTo>
                    <a:pt x="1020" y="766"/>
                  </a:lnTo>
                  <a:lnTo>
                    <a:pt x="1030" y="751"/>
                  </a:lnTo>
                  <a:lnTo>
                    <a:pt x="1042" y="732"/>
                  </a:lnTo>
                  <a:lnTo>
                    <a:pt x="1055" y="713"/>
                  </a:lnTo>
                  <a:lnTo>
                    <a:pt x="1066" y="693"/>
                  </a:lnTo>
                  <a:lnTo>
                    <a:pt x="1080" y="672"/>
                  </a:lnTo>
                  <a:lnTo>
                    <a:pt x="1092" y="652"/>
                  </a:lnTo>
                  <a:lnTo>
                    <a:pt x="1106" y="631"/>
                  </a:lnTo>
                  <a:lnTo>
                    <a:pt x="1117" y="611"/>
                  </a:lnTo>
                  <a:lnTo>
                    <a:pt x="1130" y="592"/>
                  </a:lnTo>
                  <a:lnTo>
                    <a:pt x="1141" y="574"/>
                  </a:lnTo>
                  <a:lnTo>
                    <a:pt x="1152" y="557"/>
                  </a:lnTo>
                  <a:lnTo>
                    <a:pt x="1160" y="542"/>
                  </a:lnTo>
                  <a:lnTo>
                    <a:pt x="1169" y="529"/>
                  </a:lnTo>
                  <a:lnTo>
                    <a:pt x="1176" y="518"/>
                  </a:lnTo>
                  <a:lnTo>
                    <a:pt x="1181" y="508"/>
                  </a:lnTo>
                  <a:lnTo>
                    <a:pt x="1185" y="500"/>
                  </a:lnTo>
                  <a:lnTo>
                    <a:pt x="1190" y="492"/>
                  </a:lnTo>
                  <a:lnTo>
                    <a:pt x="1192" y="486"/>
                  </a:lnTo>
                  <a:lnTo>
                    <a:pt x="1195" y="482"/>
                  </a:lnTo>
                  <a:lnTo>
                    <a:pt x="1198" y="475"/>
                  </a:lnTo>
                  <a:lnTo>
                    <a:pt x="1199" y="473"/>
                  </a:lnTo>
                  <a:lnTo>
                    <a:pt x="1199" y="471"/>
                  </a:lnTo>
                  <a:lnTo>
                    <a:pt x="1297" y="428"/>
                  </a:lnTo>
                  <a:lnTo>
                    <a:pt x="1385" y="492"/>
                  </a:lnTo>
                  <a:lnTo>
                    <a:pt x="1385" y="490"/>
                  </a:lnTo>
                  <a:lnTo>
                    <a:pt x="1387" y="488"/>
                  </a:lnTo>
                  <a:lnTo>
                    <a:pt x="1391" y="482"/>
                  </a:lnTo>
                  <a:lnTo>
                    <a:pt x="1396" y="477"/>
                  </a:lnTo>
                  <a:lnTo>
                    <a:pt x="1403" y="467"/>
                  </a:lnTo>
                  <a:lnTo>
                    <a:pt x="1408" y="458"/>
                  </a:lnTo>
                  <a:lnTo>
                    <a:pt x="1417" y="447"/>
                  </a:lnTo>
                  <a:lnTo>
                    <a:pt x="1427" y="434"/>
                  </a:lnTo>
                  <a:lnTo>
                    <a:pt x="1436" y="419"/>
                  </a:lnTo>
                  <a:lnTo>
                    <a:pt x="1447" y="403"/>
                  </a:lnTo>
                  <a:lnTo>
                    <a:pt x="1458" y="385"/>
                  </a:lnTo>
                  <a:lnTo>
                    <a:pt x="1471" y="368"/>
                  </a:lnTo>
                  <a:lnTo>
                    <a:pt x="1483" y="348"/>
                  </a:lnTo>
                  <a:lnTo>
                    <a:pt x="1497" y="328"/>
                  </a:lnTo>
                  <a:lnTo>
                    <a:pt x="1510" y="306"/>
                  </a:lnTo>
                  <a:lnTo>
                    <a:pt x="1525" y="284"/>
                  </a:lnTo>
                  <a:lnTo>
                    <a:pt x="1538" y="260"/>
                  </a:lnTo>
                  <a:lnTo>
                    <a:pt x="1552" y="237"/>
                  </a:lnTo>
                  <a:lnTo>
                    <a:pt x="1567" y="212"/>
                  </a:lnTo>
                  <a:lnTo>
                    <a:pt x="1581" y="187"/>
                  </a:lnTo>
                  <a:lnTo>
                    <a:pt x="1595" y="164"/>
                  </a:lnTo>
                  <a:lnTo>
                    <a:pt x="1607" y="140"/>
                  </a:lnTo>
                  <a:lnTo>
                    <a:pt x="1620" y="118"/>
                  </a:lnTo>
                  <a:lnTo>
                    <a:pt x="1632" y="96"/>
                  </a:lnTo>
                  <a:lnTo>
                    <a:pt x="1642" y="75"/>
                  </a:lnTo>
                  <a:lnTo>
                    <a:pt x="1653" y="58"/>
                  </a:lnTo>
                  <a:lnTo>
                    <a:pt x="1662" y="40"/>
                  </a:lnTo>
                  <a:lnTo>
                    <a:pt x="1670" y="28"/>
                  </a:lnTo>
                  <a:lnTo>
                    <a:pt x="1676" y="15"/>
                  </a:lnTo>
                  <a:lnTo>
                    <a:pt x="1681" y="7"/>
                  </a:lnTo>
                  <a:lnTo>
                    <a:pt x="1683" y="2"/>
                  </a:lnTo>
                  <a:lnTo>
                    <a:pt x="1685" y="0"/>
                  </a:lnTo>
                  <a:lnTo>
                    <a:pt x="1736" y="164"/>
                  </a:lnTo>
                  <a:lnTo>
                    <a:pt x="1515" y="628"/>
                  </a:lnTo>
                  <a:lnTo>
                    <a:pt x="1306" y="617"/>
                  </a:lnTo>
                  <a:lnTo>
                    <a:pt x="1223" y="1091"/>
                  </a:lnTo>
                  <a:lnTo>
                    <a:pt x="839" y="1061"/>
                  </a:lnTo>
                  <a:lnTo>
                    <a:pt x="841" y="1332"/>
                  </a:lnTo>
                  <a:lnTo>
                    <a:pt x="543" y="1312"/>
                  </a:lnTo>
                  <a:lnTo>
                    <a:pt x="519" y="1553"/>
                  </a:lnTo>
                  <a:lnTo>
                    <a:pt x="130" y="1662"/>
                  </a:lnTo>
                  <a:lnTo>
                    <a:pt x="0" y="1658"/>
                  </a:lnTo>
                  <a:lnTo>
                    <a:pt x="0" y="1658"/>
                  </a:lnTo>
                  <a:close/>
                </a:path>
              </a:pathLst>
            </a:custGeom>
            <a:solidFill>
              <a:srgbClr val="ff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08080" y="4385520"/>
              <a:ext cx="328320" cy="471960"/>
            </a:xfrm>
            <a:custGeom>
              <a:avLst/>
              <a:gdLst/>
              <a:ahLst/>
              <a:rect l="l" t="t" r="r" b="b"/>
              <a:pathLst>
                <a:path w="216" h="313">
                  <a:moveTo>
                    <a:pt x="0" y="186"/>
                  </a:moveTo>
                  <a:lnTo>
                    <a:pt x="43" y="172"/>
                  </a:lnTo>
                  <a:lnTo>
                    <a:pt x="42" y="149"/>
                  </a:lnTo>
                  <a:lnTo>
                    <a:pt x="42" y="146"/>
                  </a:lnTo>
                  <a:lnTo>
                    <a:pt x="45" y="140"/>
                  </a:lnTo>
                  <a:lnTo>
                    <a:pt x="46" y="136"/>
                  </a:lnTo>
                  <a:lnTo>
                    <a:pt x="49" y="131"/>
                  </a:lnTo>
                  <a:lnTo>
                    <a:pt x="51" y="127"/>
                  </a:lnTo>
                  <a:lnTo>
                    <a:pt x="56" y="121"/>
                  </a:lnTo>
                  <a:lnTo>
                    <a:pt x="59" y="115"/>
                  </a:lnTo>
                  <a:lnTo>
                    <a:pt x="64" y="109"/>
                  </a:lnTo>
                  <a:lnTo>
                    <a:pt x="68" y="102"/>
                  </a:lnTo>
                  <a:lnTo>
                    <a:pt x="75" y="95"/>
                  </a:lnTo>
                  <a:lnTo>
                    <a:pt x="81" y="87"/>
                  </a:lnTo>
                  <a:lnTo>
                    <a:pt x="89" y="80"/>
                  </a:lnTo>
                  <a:lnTo>
                    <a:pt x="95" y="74"/>
                  </a:lnTo>
                  <a:lnTo>
                    <a:pt x="104" y="67"/>
                  </a:lnTo>
                  <a:lnTo>
                    <a:pt x="113" y="60"/>
                  </a:lnTo>
                  <a:lnTo>
                    <a:pt x="121" y="53"/>
                  </a:lnTo>
                  <a:lnTo>
                    <a:pt x="130" y="46"/>
                  </a:lnTo>
                  <a:lnTo>
                    <a:pt x="139" y="41"/>
                  </a:lnTo>
                  <a:lnTo>
                    <a:pt x="148" y="34"/>
                  </a:lnTo>
                  <a:lnTo>
                    <a:pt x="158" y="30"/>
                  </a:lnTo>
                  <a:lnTo>
                    <a:pt x="167" y="24"/>
                  </a:lnTo>
                  <a:lnTo>
                    <a:pt x="175" y="20"/>
                  </a:lnTo>
                  <a:lnTo>
                    <a:pt x="184" y="15"/>
                  </a:lnTo>
                  <a:lnTo>
                    <a:pt x="192" y="11"/>
                  </a:lnTo>
                  <a:lnTo>
                    <a:pt x="198" y="7"/>
                  </a:lnTo>
                  <a:lnTo>
                    <a:pt x="205" y="5"/>
                  </a:lnTo>
                  <a:lnTo>
                    <a:pt x="209" y="3"/>
                  </a:lnTo>
                  <a:lnTo>
                    <a:pt x="213" y="1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71" y="313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34080" y="5705280"/>
              <a:ext cx="303840" cy="4402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0" y="275"/>
                  </a:moveTo>
                  <a:lnTo>
                    <a:pt x="68" y="235"/>
                  </a:lnTo>
                  <a:lnTo>
                    <a:pt x="58" y="219"/>
                  </a:lnTo>
                  <a:lnTo>
                    <a:pt x="58" y="217"/>
                  </a:lnTo>
                  <a:lnTo>
                    <a:pt x="59" y="214"/>
                  </a:lnTo>
                  <a:lnTo>
                    <a:pt x="59" y="210"/>
                  </a:lnTo>
                  <a:lnTo>
                    <a:pt x="61" y="206"/>
                  </a:lnTo>
                  <a:lnTo>
                    <a:pt x="63" y="199"/>
                  </a:lnTo>
                  <a:lnTo>
                    <a:pt x="67" y="193"/>
                  </a:lnTo>
                  <a:lnTo>
                    <a:pt x="69" y="184"/>
                  </a:lnTo>
                  <a:lnTo>
                    <a:pt x="74" y="176"/>
                  </a:lnTo>
                  <a:lnTo>
                    <a:pt x="77" y="165"/>
                  </a:lnTo>
                  <a:lnTo>
                    <a:pt x="82" y="156"/>
                  </a:lnTo>
                  <a:lnTo>
                    <a:pt x="88" y="145"/>
                  </a:lnTo>
                  <a:lnTo>
                    <a:pt x="94" y="135"/>
                  </a:lnTo>
                  <a:lnTo>
                    <a:pt x="98" y="124"/>
                  </a:lnTo>
                  <a:lnTo>
                    <a:pt x="105" y="113"/>
                  </a:lnTo>
                  <a:lnTo>
                    <a:pt x="111" y="102"/>
                  </a:lnTo>
                  <a:lnTo>
                    <a:pt x="119" y="93"/>
                  </a:lnTo>
                  <a:lnTo>
                    <a:pt x="125" y="83"/>
                  </a:lnTo>
                  <a:lnTo>
                    <a:pt x="132" y="72"/>
                  </a:lnTo>
                  <a:lnTo>
                    <a:pt x="139" y="63"/>
                  </a:lnTo>
                  <a:lnTo>
                    <a:pt x="146" y="55"/>
                  </a:lnTo>
                  <a:lnTo>
                    <a:pt x="152" y="47"/>
                  </a:lnTo>
                  <a:lnTo>
                    <a:pt x="159" y="38"/>
                  </a:lnTo>
                  <a:lnTo>
                    <a:pt x="166" y="31"/>
                  </a:lnTo>
                  <a:lnTo>
                    <a:pt x="173" y="26"/>
                  </a:lnTo>
                  <a:lnTo>
                    <a:pt x="177" y="19"/>
                  </a:lnTo>
                  <a:lnTo>
                    <a:pt x="183" y="14"/>
                  </a:lnTo>
                  <a:lnTo>
                    <a:pt x="187" y="8"/>
                  </a:lnTo>
                  <a:lnTo>
                    <a:pt x="191" y="7"/>
                  </a:lnTo>
                  <a:lnTo>
                    <a:pt x="197" y="1"/>
                  </a:lnTo>
                  <a:lnTo>
                    <a:pt x="200" y="0"/>
                  </a:lnTo>
                  <a:lnTo>
                    <a:pt x="134" y="292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294520" y="6120360"/>
              <a:ext cx="331200" cy="351000"/>
            </a:xfrm>
            <a:custGeom>
              <a:avLst/>
              <a:gdLst/>
              <a:ahLst/>
              <a:rect l="l" t="t" r="r" b="b"/>
              <a:pathLst>
                <a:path w="218" h="233">
                  <a:moveTo>
                    <a:pt x="218" y="4"/>
                  </a:moveTo>
                  <a:lnTo>
                    <a:pt x="215" y="1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84" y="1"/>
                  </a:lnTo>
                  <a:lnTo>
                    <a:pt x="177" y="2"/>
                  </a:lnTo>
                  <a:lnTo>
                    <a:pt x="168" y="2"/>
                  </a:lnTo>
                  <a:lnTo>
                    <a:pt x="159" y="2"/>
                  </a:lnTo>
                  <a:lnTo>
                    <a:pt x="152" y="4"/>
                  </a:lnTo>
                  <a:lnTo>
                    <a:pt x="145" y="4"/>
                  </a:lnTo>
                  <a:lnTo>
                    <a:pt x="139" y="6"/>
                  </a:lnTo>
                  <a:lnTo>
                    <a:pt x="135" y="6"/>
                  </a:lnTo>
                  <a:lnTo>
                    <a:pt x="130" y="8"/>
                  </a:lnTo>
                  <a:lnTo>
                    <a:pt x="128" y="8"/>
                  </a:lnTo>
                  <a:lnTo>
                    <a:pt x="128" y="9"/>
                  </a:lnTo>
                  <a:lnTo>
                    <a:pt x="118" y="76"/>
                  </a:lnTo>
                  <a:lnTo>
                    <a:pt x="0" y="228"/>
                  </a:lnTo>
                  <a:lnTo>
                    <a:pt x="145" y="233"/>
                  </a:lnTo>
                  <a:lnTo>
                    <a:pt x="218" y="4"/>
                  </a:lnTo>
                  <a:lnTo>
                    <a:pt x="218" y="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820200" y="4706640"/>
              <a:ext cx="356760" cy="613800"/>
            </a:xfrm>
            <a:custGeom>
              <a:avLst/>
              <a:gdLst/>
              <a:ahLst/>
              <a:rect l="l" t="t" r="r" b="b"/>
              <a:pathLst>
                <a:path w="235" h="407">
                  <a:moveTo>
                    <a:pt x="0" y="288"/>
                  </a:moveTo>
                  <a:lnTo>
                    <a:pt x="61" y="246"/>
                  </a:lnTo>
                  <a:lnTo>
                    <a:pt x="48" y="218"/>
                  </a:lnTo>
                  <a:lnTo>
                    <a:pt x="48" y="217"/>
                  </a:lnTo>
                  <a:lnTo>
                    <a:pt x="48" y="214"/>
                  </a:lnTo>
                  <a:lnTo>
                    <a:pt x="49" y="209"/>
                  </a:lnTo>
                  <a:lnTo>
                    <a:pt x="53" y="202"/>
                  </a:lnTo>
                  <a:lnTo>
                    <a:pt x="54" y="196"/>
                  </a:lnTo>
                  <a:lnTo>
                    <a:pt x="56" y="191"/>
                  </a:lnTo>
                  <a:lnTo>
                    <a:pt x="61" y="186"/>
                  </a:lnTo>
                  <a:lnTo>
                    <a:pt x="64" y="179"/>
                  </a:lnTo>
                  <a:lnTo>
                    <a:pt x="69" y="172"/>
                  </a:lnTo>
                  <a:lnTo>
                    <a:pt x="76" y="164"/>
                  </a:lnTo>
                  <a:lnTo>
                    <a:pt x="84" y="154"/>
                  </a:lnTo>
                  <a:lnTo>
                    <a:pt x="92" y="145"/>
                  </a:lnTo>
                  <a:lnTo>
                    <a:pt x="100" y="134"/>
                  </a:lnTo>
                  <a:lnTo>
                    <a:pt x="111" y="121"/>
                  </a:lnTo>
                  <a:lnTo>
                    <a:pt x="122" y="110"/>
                  </a:lnTo>
                  <a:lnTo>
                    <a:pt x="134" y="100"/>
                  </a:lnTo>
                  <a:lnTo>
                    <a:pt x="145" y="87"/>
                  </a:lnTo>
                  <a:lnTo>
                    <a:pt x="157" y="75"/>
                  </a:lnTo>
                  <a:lnTo>
                    <a:pt x="169" y="63"/>
                  </a:lnTo>
                  <a:lnTo>
                    <a:pt x="181" y="53"/>
                  </a:lnTo>
                  <a:lnTo>
                    <a:pt x="191" y="41"/>
                  </a:lnTo>
                  <a:lnTo>
                    <a:pt x="202" y="31"/>
                  </a:lnTo>
                  <a:lnTo>
                    <a:pt x="211" y="22"/>
                  </a:lnTo>
                  <a:lnTo>
                    <a:pt x="219" y="15"/>
                  </a:lnTo>
                  <a:lnTo>
                    <a:pt x="225" y="8"/>
                  </a:lnTo>
                  <a:lnTo>
                    <a:pt x="231" y="4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147" y="407"/>
                  </a:lnTo>
                  <a:lnTo>
                    <a:pt x="0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068440" y="6334560"/>
              <a:ext cx="223560" cy="15804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50" y="0"/>
                  </a:moveTo>
                  <a:lnTo>
                    <a:pt x="47" y="0"/>
                  </a:lnTo>
                  <a:lnTo>
                    <a:pt x="45" y="1"/>
                  </a:lnTo>
                  <a:lnTo>
                    <a:pt x="39" y="4"/>
                  </a:lnTo>
                  <a:lnTo>
                    <a:pt x="33" y="8"/>
                  </a:lnTo>
                  <a:lnTo>
                    <a:pt x="28" y="13"/>
                  </a:lnTo>
                  <a:lnTo>
                    <a:pt x="22" y="19"/>
                  </a:lnTo>
                  <a:lnTo>
                    <a:pt x="17" y="24"/>
                  </a:lnTo>
                  <a:lnTo>
                    <a:pt x="16" y="25"/>
                  </a:lnTo>
                  <a:lnTo>
                    <a:pt x="36" y="43"/>
                  </a:lnTo>
                  <a:lnTo>
                    <a:pt x="9" y="32"/>
                  </a:lnTo>
                  <a:lnTo>
                    <a:pt x="0" y="43"/>
                  </a:lnTo>
                  <a:lnTo>
                    <a:pt x="33" y="66"/>
                  </a:lnTo>
                  <a:lnTo>
                    <a:pt x="46" y="64"/>
                  </a:lnTo>
                  <a:lnTo>
                    <a:pt x="47" y="64"/>
                  </a:lnTo>
                  <a:lnTo>
                    <a:pt x="51" y="68"/>
                  </a:lnTo>
                  <a:lnTo>
                    <a:pt x="54" y="75"/>
                  </a:lnTo>
                  <a:lnTo>
                    <a:pt x="60" y="83"/>
                  </a:lnTo>
                  <a:lnTo>
                    <a:pt x="65" y="90"/>
                  </a:lnTo>
                  <a:lnTo>
                    <a:pt x="71" y="95"/>
                  </a:lnTo>
                  <a:lnTo>
                    <a:pt x="74" y="99"/>
                  </a:lnTo>
                  <a:lnTo>
                    <a:pt x="75" y="101"/>
                  </a:lnTo>
                  <a:lnTo>
                    <a:pt x="107" y="105"/>
                  </a:lnTo>
                  <a:lnTo>
                    <a:pt x="147" y="105"/>
                  </a:lnTo>
                  <a:lnTo>
                    <a:pt x="147" y="103"/>
                  </a:lnTo>
                  <a:lnTo>
                    <a:pt x="147" y="98"/>
                  </a:lnTo>
                  <a:lnTo>
                    <a:pt x="146" y="92"/>
                  </a:lnTo>
                  <a:lnTo>
                    <a:pt x="143" y="87"/>
                  </a:lnTo>
                  <a:lnTo>
                    <a:pt x="138" y="84"/>
                  </a:lnTo>
                  <a:lnTo>
                    <a:pt x="133" y="81"/>
                  </a:lnTo>
                  <a:lnTo>
                    <a:pt x="129" y="79"/>
                  </a:lnTo>
                  <a:lnTo>
                    <a:pt x="123" y="76"/>
                  </a:lnTo>
                  <a:lnTo>
                    <a:pt x="117" y="73"/>
                  </a:lnTo>
                  <a:lnTo>
                    <a:pt x="111" y="69"/>
                  </a:lnTo>
                  <a:lnTo>
                    <a:pt x="107" y="64"/>
                  </a:lnTo>
                  <a:lnTo>
                    <a:pt x="102" y="60"/>
                  </a:lnTo>
                  <a:lnTo>
                    <a:pt x="97" y="53"/>
                  </a:lnTo>
                  <a:lnTo>
                    <a:pt x="94" y="46"/>
                  </a:lnTo>
                  <a:lnTo>
                    <a:pt x="92" y="39"/>
                  </a:lnTo>
                  <a:lnTo>
                    <a:pt x="90" y="34"/>
                  </a:lnTo>
                  <a:lnTo>
                    <a:pt x="89" y="28"/>
                  </a:lnTo>
                  <a:lnTo>
                    <a:pt x="89" y="24"/>
                  </a:lnTo>
                  <a:lnTo>
                    <a:pt x="89" y="2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13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089680" y="5513760"/>
              <a:ext cx="789840" cy="888480"/>
            </a:xfrm>
            <a:custGeom>
              <a:avLst/>
              <a:gdLst/>
              <a:ahLst/>
              <a:rect l="l" t="t" r="r" b="b"/>
              <a:pathLst>
                <a:path w="520" h="589">
                  <a:moveTo>
                    <a:pt x="218" y="32"/>
                  </a:moveTo>
                  <a:lnTo>
                    <a:pt x="220" y="32"/>
                  </a:lnTo>
                  <a:lnTo>
                    <a:pt x="225" y="34"/>
                  </a:lnTo>
                  <a:lnTo>
                    <a:pt x="228" y="34"/>
                  </a:lnTo>
                  <a:lnTo>
                    <a:pt x="232" y="36"/>
                  </a:lnTo>
                  <a:lnTo>
                    <a:pt x="237" y="37"/>
                  </a:lnTo>
                  <a:lnTo>
                    <a:pt x="243" y="38"/>
                  </a:lnTo>
                  <a:lnTo>
                    <a:pt x="249" y="40"/>
                  </a:lnTo>
                  <a:lnTo>
                    <a:pt x="255" y="41"/>
                  </a:lnTo>
                  <a:lnTo>
                    <a:pt x="261" y="42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4" y="45"/>
                  </a:lnTo>
                  <a:lnTo>
                    <a:pt x="292" y="45"/>
                  </a:lnTo>
                  <a:lnTo>
                    <a:pt x="300" y="45"/>
                  </a:lnTo>
                  <a:lnTo>
                    <a:pt x="307" y="44"/>
                  </a:lnTo>
                  <a:lnTo>
                    <a:pt x="314" y="42"/>
                  </a:lnTo>
                  <a:lnTo>
                    <a:pt x="321" y="41"/>
                  </a:lnTo>
                  <a:lnTo>
                    <a:pt x="328" y="38"/>
                  </a:lnTo>
                  <a:lnTo>
                    <a:pt x="335" y="36"/>
                  </a:lnTo>
                  <a:lnTo>
                    <a:pt x="342" y="34"/>
                  </a:lnTo>
                  <a:lnTo>
                    <a:pt x="348" y="32"/>
                  </a:lnTo>
                  <a:lnTo>
                    <a:pt x="355" y="29"/>
                  </a:lnTo>
                  <a:lnTo>
                    <a:pt x="360" y="26"/>
                  </a:lnTo>
                  <a:lnTo>
                    <a:pt x="365" y="23"/>
                  </a:lnTo>
                  <a:lnTo>
                    <a:pt x="369" y="22"/>
                  </a:lnTo>
                  <a:lnTo>
                    <a:pt x="373" y="21"/>
                  </a:lnTo>
                  <a:lnTo>
                    <a:pt x="379" y="16"/>
                  </a:lnTo>
                  <a:lnTo>
                    <a:pt x="381" y="16"/>
                  </a:lnTo>
                  <a:lnTo>
                    <a:pt x="383" y="18"/>
                  </a:lnTo>
                  <a:lnTo>
                    <a:pt x="390" y="23"/>
                  </a:lnTo>
                  <a:lnTo>
                    <a:pt x="393" y="26"/>
                  </a:lnTo>
                  <a:lnTo>
                    <a:pt x="398" y="32"/>
                  </a:lnTo>
                  <a:lnTo>
                    <a:pt x="404" y="36"/>
                  </a:lnTo>
                  <a:lnTo>
                    <a:pt x="411" y="41"/>
                  </a:lnTo>
                  <a:lnTo>
                    <a:pt x="416" y="47"/>
                  </a:lnTo>
                  <a:lnTo>
                    <a:pt x="423" y="53"/>
                  </a:lnTo>
                  <a:lnTo>
                    <a:pt x="430" y="60"/>
                  </a:lnTo>
                  <a:lnTo>
                    <a:pt x="438" y="68"/>
                  </a:lnTo>
                  <a:lnTo>
                    <a:pt x="444" y="75"/>
                  </a:lnTo>
                  <a:lnTo>
                    <a:pt x="452" y="83"/>
                  </a:lnTo>
                  <a:lnTo>
                    <a:pt x="459" y="92"/>
                  </a:lnTo>
                  <a:lnTo>
                    <a:pt x="468" y="100"/>
                  </a:lnTo>
                  <a:lnTo>
                    <a:pt x="472" y="107"/>
                  </a:lnTo>
                  <a:lnTo>
                    <a:pt x="478" y="115"/>
                  </a:lnTo>
                  <a:lnTo>
                    <a:pt x="484" y="123"/>
                  </a:lnTo>
                  <a:lnTo>
                    <a:pt x="488" y="131"/>
                  </a:lnTo>
                  <a:lnTo>
                    <a:pt x="493" y="138"/>
                  </a:lnTo>
                  <a:lnTo>
                    <a:pt x="498" y="146"/>
                  </a:lnTo>
                  <a:lnTo>
                    <a:pt x="501" y="153"/>
                  </a:lnTo>
                  <a:lnTo>
                    <a:pt x="506" y="160"/>
                  </a:lnTo>
                  <a:lnTo>
                    <a:pt x="507" y="165"/>
                  </a:lnTo>
                  <a:lnTo>
                    <a:pt x="511" y="171"/>
                  </a:lnTo>
                  <a:lnTo>
                    <a:pt x="513" y="175"/>
                  </a:lnTo>
                  <a:lnTo>
                    <a:pt x="516" y="180"/>
                  </a:lnTo>
                  <a:lnTo>
                    <a:pt x="518" y="186"/>
                  </a:lnTo>
                  <a:lnTo>
                    <a:pt x="520" y="187"/>
                  </a:lnTo>
                  <a:lnTo>
                    <a:pt x="519" y="187"/>
                  </a:lnTo>
                  <a:lnTo>
                    <a:pt x="518" y="190"/>
                  </a:lnTo>
                  <a:lnTo>
                    <a:pt x="516" y="193"/>
                  </a:lnTo>
                  <a:lnTo>
                    <a:pt x="515" y="198"/>
                  </a:lnTo>
                  <a:lnTo>
                    <a:pt x="512" y="202"/>
                  </a:lnTo>
                  <a:lnTo>
                    <a:pt x="509" y="210"/>
                  </a:lnTo>
                  <a:lnTo>
                    <a:pt x="507" y="217"/>
                  </a:lnTo>
                  <a:lnTo>
                    <a:pt x="506" y="225"/>
                  </a:lnTo>
                  <a:lnTo>
                    <a:pt x="501" y="234"/>
                  </a:lnTo>
                  <a:lnTo>
                    <a:pt x="499" y="242"/>
                  </a:lnTo>
                  <a:lnTo>
                    <a:pt x="495" y="251"/>
                  </a:lnTo>
                  <a:lnTo>
                    <a:pt x="493" y="261"/>
                  </a:lnTo>
                  <a:lnTo>
                    <a:pt x="491" y="269"/>
                  </a:lnTo>
                  <a:lnTo>
                    <a:pt x="487" y="279"/>
                  </a:lnTo>
                  <a:lnTo>
                    <a:pt x="485" y="287"/>
                  </a:lnTo>
                  <a:lnTo>
                    <a:pt x="483" y="298"/>
                  </a:lnTo>
                  <a:lnTo>
                    <a:pt x="480" y="305"/>
                  </a:lnTo>
                  <a:lnTo>
                    <a:pt x="478" y="311"/>
                  </a:lnTo>
                  <a:lnTo>
                    <a:pt x="476" y="317"/>
                  </a:lnTo>
                  <a:lnTo>
                    <a:pt x="475" y="324"/>
                  </a:lnTo>
                  <a:lnTo>
                    <a:pt x="472" y="329"/>
                  </a:lnTo>
                  <a:lnTo>
                    <a:pt x="471" y="335"/>
                  </a:lnTo>
                  <a:lnTo>
                    <a:pt x="470" y="339"/>
                  </a:lnTo>
                  <a:lnTo>
                    <a:pt x="470" y="344"/>
                  </a:lnTo>
                  <a:lnTo>
                    <a:pt x="468" y="350"/>
                  </a:lnTo>
                  <a:lnTo>
                    <a:pt x="468" y="355"/>
                  </a:lnTo>
                  <a:lnTo>
                    <a:pt x="468" y="358"/>
                  </a:lnTo>
                  <a:lnTo>
                    <a:pt x="468" y="359"/>
                  </a:lnTo>
                  <a:lnTo>
                    <a:pt x="465" y="359"/>
                  </a:lnTo>
                  <a:lnTo>
                    <a:pt x="461" y="361"/>
                  </a:lnTo>
                  <a:lnTo>
                    <a:pt x="457" y="361"/>
                  </a:lnTo>
                  <a:lnTo>
                    <a:pt x="452" y="362"/>
                  </a:lnTo>
                  <a:lnTo>
                    <a:pt x="449" y="362"/>
                  </a:lnTo>
                  <a:lnTo>
                    <a:pt x="444" y="365"/>
                  </a:lnTo>
                  <a:lnTo>
                    <a:pt x="438" y="365"/>
                  </a:lnTo>
                  <a:lnTo>
                    <a:pt x="434" y="366"/>
                  </a:lnTo>
                  <a:lnTo>
                    <a:pt x="428" y="366"/>
                  </a:lnTo>
                  <a:lnTo>
                    <a:pt x="423" y="367"/>
                  </a:lnTo>
                  <a:lnTo>
                    <a:pt x="417" y="369"/>
                  </a:lnTo>
                  <a:lnTo>
                    <a:pt x="413" y="369"/>
                  </a:lnTo>
                  <a:lnTo>
                    <a:pt x="407" y="370"/>
                  </a:lnTo>
                  <a:lnTo>
                    <a:pt x="402" y="372"/>
                  </a:lnTo>
                  <a:lnTo>
                    <a:pt x="397" y="370"/>
                  </a:lnTo>
                  <a:lnTo>
                    <a:pt x="392" y="370"/>
                  </a:lnTo>
                  <a:lnTo>
                    <a:pt x="387" y="369"/>
                  </a:lnTo>
                  <a:lnTo>
                    <a:pt x="384" y="369"/>
                  </a:lnTo>
                  <a:lnTo>
                    <a:pt x="377" y="369"/>
                  </a:lnTo>
                  <a:lnTo>
                    <a:pt x="371" y="367"/>
                  </a:lnTo>
                  <a:lnTo>
                    <a:pt x="366" y="366"/>
                  </a:lnTo>
                  <a:lnTo>
                    <a:pt x="364" y="365"/>
                  </a:lnTo>
                  <a:lnTo>
                    <a:pt x="362" y="365"/>
                  </a:lnTo>
                  <a:lnTo>
                    <a:pt x="362" y="363"/>
                  </a:lnTo>
                  <a:lnTo>
                    <a:pt x="363" y="361"/>
                  </a:lnTo>
                  <a:lnTo>
                    <a:pt x="364" y="355"/>
                  </a:lnTo>
                  <a:lnTo>
                    <a:pt x="366" y="350"/>
                  </a:lnTo>
                  <a:lnTo>
                    <a:pt x="367" y="346"/>
                  </a:lnTo>
                  <a:lnTo>
                    <a:pt x="369" y="341"/>
                  </a:lnTo>
                  <a:lnTo>
                    <a:pt x="371" y="337"/>
                  </a:lnTo>
                  <a:lnTo>
                    <a:pt x="373" y="332"/>
                  </a:lnTo>
                  <a:lnTo>
                    <a:pt x="374" y="326"/>
                  </a:lnTo>
                  <a:lnTo>
                    <a:pt x="377" y="322"/>
                  </a:lnTo>
                  <a:lnTo>
                    <a:pt x="379" y="317"/>
                  </a:lnTo>
                  <a:lnTo>
                    <a:pt x="381" y="311"/>
                  </a:lnTo>
                  <a:lnTo>
                    <a:pt x="383" y="305"/>
                  </a:lnTo>
                  <a:lnTo>
                    <a:pt x="385" y="298"/>
                  </a:lnTo>
                  <a:lnTo>
                    <a:pt x="386" y="291"/>
                  </a:lnTo>
                  <a:lnTo>
                    <a:pt x="388" y="284"/>
                  </a:lnTo>
                  <a:lnTo>
                    <a:pt x="390" y="277"/>
                  </a:lnTo>
                  <a:lnTo>
                    <a:pt x="392" y="272"/>
                  </a:lnTo>
                  <a:lnTo>
                    <a:pt x="394" y="265"/>
                  </a:lnTo>
                  <a:lnTo>
                    <a:pt x="397" y="260"/>
                  </a:lnTo>
                  <a:lnTo>
                    <a:pt x="398" y="254"/>
                  </a:lnTo>
                  <a:lnTo>
                    <a:pt x="399" y="249"/>
                  </a:lnTo>
                  <a:lnTo>
                    <a:pt x="400" y="243"/>
                  </a:lnTo>
                  <a:lnTo>
                    <a:pt x="402" y="240"/>
                  </a:lnTo>
                  <a:lnTo>
                    <a:pt x="404" y="235"/>
                  </a:lnTo>
                  <a:lnTo>
                    <a:pt x="405" y="234"/>
                  </a:lnTo>
                  <a:lnTo>
                    <a:pt x="305" y="206"/>
                  </a:lnTo>
                  <a:lnTo>
                    <a:pt x="303" y="208"/>
                  </a:lnTo>
                  <a:lnTo>
                    <a:pt x="301" y="213"/>
                  </a:lnTo>
                  <a:lnTo>
                    <a:pt x="299" y="216"/>
                  </a:lnTo>
                  <a:lnTo>
                    <a:pt x="296" y="220"/>
                  </a:lnTo>
                  <a:lnTo>
                    <a:pt x="294" y="224"/>
                  </a:lnTo>
                  <a:lnTo>
                    <a:pt x="292" y="229"/>
                  </a:lnTo>
                  <a:lnTo>
                    <a:pt x="288" y="235"/>
                  </a:lnTo>
                  <a:lnTo>
                    <a:pt x="284" y="242"/>
                  </a:lnTo>
                  <a:lnTo>
                    <a:pt x="280" y="250"/>
                  </a:lnTo>
                  <a:lnTo>
                    <a:pt x="277" y="258"/>
                  </a:lnTo>
                  <a:lnTo>
                    <a:pt x="272" y="266"/>
                  </a:lnTo>
                  <a:lnTo>
                    <a:pt x="267" y="275"/>
                  </a:lnTo>
                  <a:lnTo>
                    <a:pt x="263" y="284"/>
                  </a:lnTo>
                  <a:lnTo>
                    <a:pt x="259" y="295"/>
                  </a:lnTo>
                  <a:lnTo>
                    <a:pt x="255" y="305"/>
                  </a:lnTo>
                  <a:lnTo>
                    <a:pt x="249" y="314"/>
                  </a:lnTo>
                  <a:lnTo>
                    <a:pt x="244" y="325"/>
                  </a:lnTo>
                  <a:lnTo>
                    <a:pt x="238" y="336"/>
                  </a:lnTo>
                  <a:lnTo>
                    <a:pt x="232" y="347"/>
                  </a:lnTo>
                  <a:lnTo>
                    <a:pt x="227" y="358"/>
                  </a:lnTo>
                  <a:lnTo>
                    <a:pt x="221" y="369"/>
                  </a:lnTo>
                  <a:lnTo>
                    <a:pt x="216" y="381"/>
                  </a:lnTo>
                  <a:lnTo>
                    <a:pt x="210" y="392"/>
                  </a:lnTo>
                  <a:lnTo>
                    <a:pt x="203" y="404"/>
                  </a:lnTo>
                  <a:lnTo>
                    <a:pt x="197" y="414"/>
                  </a:lnTo>
                  <a:lnTo>
                    <a:pt x="192" y="426"/>
                  </a:lnTo>
                  <a:lnTo>
                    <a:pt x="186" y="438"/>
                  </a:lnTo>
                  <a:lnTo>
                    <a:pt x="180" y="449"/>
                  </a:lnTo>
                  <a:lnTo>
                    <a:pt x="174" y="462"/>
                  </a:lnTo>
                  <a:lnTo>
                    <a:pt x="168" y="474"/>
                  </a:lnTo>
                  <a:lnTo>
                    <a:pt x="161" y="483"/>
                  </a:lnTo>
                  <a:lnTo>
                    <a:pt x="156" y="496"/>
                  </a:lnTo>
                  <a:lnTo>
                    <a:pt x="150" y="505"/>
                  </a:lnTo>
                  <a:lnTo>
                    <a:pt x="145" y="516"/>
                  </a:lnTo>
                  <a:lnTo>
                    <a:pt x="138" y="526"/>
                  </a:lnTo>
                  <a:lnTo>
                    <a:pt x="133" y="535"/>
                  </a:lnTo>
                  <a:lnTo>
                    <a:pt x="128" y="544"/>
                  </a:lnTo>
                  <a:lnTo>
                    <a:pt x="124" y="553"/>
                  </a:lnTo>
                  <a:lnTo>
                    <a:pt x="119" y="559"/>
                  </a:lnTo>
                  <a:lnTo>
                    <a:pt x="116" y="565"/>
                  </a:lnTo>
                  <a:lnTo>
                    <a:pt x="111" y="571"/>
                  </a:lnTo>
                  <a:lnTo>
                    <a:pt x="109" y="576"/>
                  </a:lnTo>
                  <a:lnTo>
                    <a:pt x="104" y="583"/>
                  </a:lnTo>
                  <a:lnTo>
                    <a:pt x="104" y="586"/>
                  </a:lnTo>
                  <a:lnTo>
                    <a:pt x="103" y="586"/>
                  </a:lnTo>
                  <a:lnTo>
                    <a:pt x="101" y="587"/>
                  </a:lnTo>
                  <a:lnTo>
                    <a:pt x="97" y="587"/>
                  </a:lnTo>
                  <a:lnTo>
                    <a:pt x="93" y="589"/>
                  </a:lnTo>
                  <a:lnTo>
                    <a:pt x="86" y="589"/>
                  </a:lnTo>
                  <a:lnTo>
                    <a:pt x="80" y="589"/>
                  </a:lnTo>
                  <a:lnTo>
                    <a:pt x="75" y="587"/>
                  </a:lnTo>
                  <a:lnTo>
                    <a:pt x="71" y="587"/>
                  </a:lnTo>
                  <a:lnTo>
                    <a:pt x="67" y="587"/>
                  </a:lnTo>
                  <a:lnTo>
                    <a:pt x="62" y="586"/>
                  </a:lnTo>
                  <a:lnTo>
                    <a:pt x="57" y="585"/>
                  </a:lnTo>
                  <a:lnTo>
                    <a:pt x="52" y="583"/>
                  </a:lnTo>
                  <a:lnTo>
                    <a:pt x="46" y="580"/>
                  </a:lnTo>
                  <a:lnTo>
                    <a:pt x="41" y="579"/>
                  </a:lnTo>
                  <a:lnTo>
                    <a:pt x="36" y="578"/>
                  </a:lnTo>
                  <a:lnTo>
                    <a:pt x="31" y="575"/>
                  </a:lnTo>
                  <a:lnTo>
                    <a:pt x="25" y="574"/>
                  </a:lnTo>
                  <a:lnTo>
                    <a:pt x="21" y="572"/>
                  </a:lnTo>
                  <a:lnTo>
                    <a:pt x="16" y="569"/>
                  </a:lnTo>
                  <a:lnTo>
                    <a:pt x="12" y="568"/>
                  </a:lnTo>
                  <a:lnTo>
                    <a:pt x="8" y="567"/>
                  </a:lnTo>
                  <a:lnTo>
                    <a:pt x="5" y="565"/>
                  </a:lnTo>
                  <a:lnTo>
                    <a:pt x="2" y="564"/>
                  </a:lnTo>
                  <a:lnTo>
                    <a:pt x="0" y="564"/>
                  </a:lnTo>
                  <a:lnTo>
                    <a:pt x="23" y="514"/>
                  </a:lnTo>
                  <a:lnTo>
                    <a:pt x="24" y="511"/>
                  </a:lnTo>
                  <a:lnTo>
                    <a:pt x="28" y="504"/>
                  </a:lnTo>
                  <a:lnTo>
                    <a:pt x="30" y="498"/>
                  </a:lnTo>
                  <a:lnTo>
                    <a:pt x="33" y="493"/>
                  </a:lnTo>
                  <a:lnTo>
                    <a:pt x="37" y="486"/>
                  </a:lnTo>
                  <a:lnTo>
                    <a:pt x="41" y="478"/>
                  </a:lnTo>
                  <a:lnTo>
                    <a:pt x="45" y="468"/>
                  </a:lnTo>
                  <a:lnTo>
                    <a:pt x="50" y="460"/>
                  </a:lnTo>
                  <a:lnTo>
                    <a:pt x="54" y="451"/>
                  </a:lnTo>
                  <a:lnTo>
                    <a:pt x="59" y="441"/>
                  </a:lnTo>
                  <a:lnTo>
                    <a:pt x="64" y="429"/>
                  </a:lnTo>
                  <a:lnTo>
                    <a:pt x="69" y="419"/>
                  </a:lnTo>
                  <a:lnTo>
                    <a:pt x="73" y="407"/>
                  </a:lnTo>
                  <a:lnTo>
                    <a:pt x="80" y="396"/>
                  </a:lnTo>
                  <a:lnTo>
                    <a:pt x="83" y="384"/>
                  </a:lnTo>
                  <a:lnTo>
                    <a:pt x="89" y="372"/>
                  </a:lnTo>
                  <a:lnTo>
                    <a:pt x="94" y="359"/>
                  </a:lnTo>
                  <a:lnTo>
                    <a:pt x="100" y="347"/>
                  </a:lnTo>
                  <a:lnTo>
                    <a:pt x="104" y="335"/>
                  </a:lnTo>
                  <a:lnTo>
                    <a:pt x="109" y="322"/>
                  </a:lnTo>
                  <a:lnTo>
                    <a:pt x="114" y="310"/>
                  </a:lnTo>
                  <a:lnTo>
                    <a:pt x="119" y="299"/>
                  </a:lnTo>
                  <a:lnTo>
                    <a:pt x="123" y="285"/>
                  </a:lnTo>
                  <a:lnTo>
                    <a:pt x="128" y="275"/>
                  </a:lnTo>
                  <a:lnTo>
                    <a:pt x="131" y="262"/>
                  </a:lnTo>
                  <a:lnTo>
                    <a:pt x="135" y="250"/>
                  </a:lnTo>
                  <a:lnTo>
                    <a:pt x="138" y="239"/>
                  </a:lnTo>
                  <a:lnTo>
                    <a:pt x="142" y="228"/>
                  </a:lnTo>
                  <a:lnTo>
                    <a:pt x="145" y="217"/>
                  </a:lnTo>
                  <a:lnTo>
                    <a:pt x="147" y="206"/>
                  </a:lnTo>
                  <a:lnTo>
                    <a:pt x="149" y="195"/>
                  </a:lnTo>
                  <a:lnTo>
                    <a:pt x="150" y="186"/>
                  </a:lnTo>
                  <a:lnTo>
                    <a:pt x="151" y="175"/>
                  </a:lnTo>
                  <a:lnTo>
                    <a:pt x="153" y="167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6" y="141"/>
                  </a:lnTo>
                  <a:lnTo>
                    <a:pt x="156" y="133"/>
                  </a:lnTo>
                  <a:lnTo>
                    <a:pt x="156" y="124"/>
                  </a:lnTo>
                  <a:lnTo>
                    <a:pt x="157" y="116"/>
                  </a:lnTo>
                  <a:lnTo>
                    <a:pt x="158" y="109"/>
                  </a:lnTo>
                  <a:lnTo>
                    <a:pt x="159" y="104"/>
                  </a:lnTo>
                  <a:lnTo>
                    <a:pt x="160" y="96"/>
                  </a:lnTo>
                  <a:lnTo>
                    <a:pt x="161" y="89"/>
                  </a:lnTo>
                  <a:lnTo>
                    <a:pt x="161" y="83"/>
                  </a:lnTo>
                  <a:lnTo>
                    <a:pt x="164" y="78"/>
                  </a:lnTo>
                  <a:lnTo>
                    <a:pt x="166" y="71"/>
                  </a:lnTo>
                  <a:lnTo>
                    <a:pt x="168" y="64"/>
                  </a:lnTo>
                  <a:lnTo>
                    <a:pt x="170" y="59"/>
                  </a:lnTo>
                  <a:lnTo>
                    <a:pt x="174" y="52"/>
                  </a:lnTo>
                  <a:lnTo>
                    <a:pt x="177" y="45"/>
                  </a:lnTo>
                  <a:lnTo>
                    <a:pt x="180" y="38"/>
                  </a:lnTo>
                  <a:lnTo>
                    <a:pt x="184" y="32"/>
                  </a:lnTo>
                  <a:lnTo>
                    <a:pt x="187" y="26"/>
                  </a:lnTo>
                  <a:lnTo>
                    <a:pt x="189" y="21"/>
                  </a:lnTo>
                  <a:lnTo>
                    <a:pt x="193" y="15"/>
                  </a:lnTo>
                  <a:lnTo>
                    <a:pt x="195" y="11"/>
                  </a:lnTo>
                  <a:lnTo>
                    <a:pt x="197" y="7"/>
                  </a:lnTo>
                  <a:lnTo>
                    <a:pt x="202" y="1"/>
                  </a:lnTo>
                  <a:lnTo>
                    <a:pt x="203" y="0"/>
                  </a:lnTo>
                  <a:lnTo>
                    <a:pt x="218" y="32"/>
                  </a:lnTo>
                  <a:lnTo>
                    <a:pt x="218" y="3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75720" y="4838040"/>
              <a:ext cx="247680" cy="235080"/>
            </a:xfrm>
            <a:custGeom>
              <a:avLst/>
              <a:gdLst/>
              <a:ahLst/>
              <a:rect l="l" t="t" r="r" b="b"/>
              <a:pathLst>
                <a:path w="163" h="156">
                  <a:moveTo>
                    <a:pt x="0" y="116"/>
                  </a:moveTo>
                  <a:lnTo>
                    <a:pt x="42" y="74"/>
                  </a:lnTo>
                  <a:lnTo>
                    <a:pt x="42" y="73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2" y="62"/>
                  </a:lnTo>
                  <a:lnTo>
                    <a:pt x="42" y="56"/>
                  </a:lnTo>
                  <a:lnTo>
                    <a:pt x="44" y="49"/>
                  </a:lnTo>
                  <a:lnTo>
                    <a:pt x="47" y="44"/>
                  </a:lnTo>
                  <a:lnTo>
                    <a:pt x="49" y="38"/>
                  </a:lnTo>
                  <a:lnTo>
                    <a:pt x="53" y="33"/>
                  </a:lnTo>
                  <a:lnTo>
                    <a:pt x="56" y="29"/>
                  </a:lnTo>
                  <a:lnTo>
                    <a:pt x="60" y="26"/>
                  </a:lnTo>
                  <a:lnTo>
                    <a:pt x="63" y="25"/>
                  </a:lnTo>
                  <a:lnTo>
                    <a:pt x="71" y="22"/>
                  </a:lnTo>
                  <a:lnTo>
                    <a:pt x="78" y="21"/>
                  </a:lnTo>
                  <a:lnTo>
                    <a:pt x="85" y="15"/>
                  </a:lnTo>
                  <a:lnTo>
                    <a:pt x="91" y="10"/>
                  </a:lnTo>
                  <a:lnTo>
                    <a:pt x="96" y="6"/>
                  </a:lnTo>
                  <a:lnTo>
                    <a:pt x="97" y="4"/>
                  </a:lnTo>
                  <a:lnTo>
                    <a:pt x="105" y="8"/>
                  </a:lnTo>
                  <a:lnTo>
                    <a:pt x="100" y="18"/>
                  </a:lnTo>
                  <a:lnTo>
                    <a:pt x="144" y="0"/>
                  </a:lnTo>
                  <a:lnTo>
                    <a:pt x="151" y="8"/>
                  </a:lnTo>
                  <a:lnTo>
                    <a:pt x="163" y="8"/>
                  </a:lnTo>
                  <a:lnTo>
                    <a:pt x="163" y="34"/>
                  </a:lnTo>
                  <a:lnTo>
                    <a:pt x="126" y="67"/>
                  </a:lnTo>
                  <a:lnTo>
                    <a:pt x="86" y="88"/>
                  </a:lnTo>
                  <a:lnTo>
                    <a:pt x="84" y="85"/>
                  </a:lnTo>
                  <a:lnTo>
                    <a:pt x="79" y="84"/>
                  </a:lnTo>
                  <a:lnTo>
                    <a:pt x="72" y="82"/>
                  </a:lnTo>
                  <a:lnTo>
                    <a:pt x="65" y="84"/>
                  </a:lnTo>
                  <a:lnTo>
                    <a:pt x="63" y="85"/>
                  </a:lnTo>
                  <a:lnTo>
                    <a:pt x="61" y="88"/>
                  </a:lnTo>
                  <a:lnTo>
                    <a:pt x="57" y="90"/>
                  </a:lnTo>
                  <a:lnTo>
                    <a:pt x="53" y="96"/>
                  </a:lnTo>
                  <a:lnTo>
                    <a:pt x="49" y="101"/>
                  </a:lnTo>
                  <a:lnTo>
                    <a:pt x="44" y="107"/>
                  </a:lnTo>
                  <a:lnTo>
                    <a:pt x="40" y="114"/>
                  </a:lnTo>
                  <a:lnTo>
                    <a:pt x="36" y="120"/>
                  </a:lnTo>
                  <a:lnTo>
                    <a:pt x="30" y="127"/>
                  </a:lnTo>
                  <a:lnTo>
                    <a:pt x="26" y="133"/>
                  </a:lnTo>
                  <a:lnTo>
                    <a:pt x="21" y="138"/>
                  </a:lnTo>
                  <a:lnTo>
                    <a:pt x="19" y="144"/>
                  </a:lnTo>
                  <a:lnTo>
                    <a:pt x="15" y="149"/>
                  </a:lnTo>
                  <a:lnTo>
                    <a:pt x="14" y="152"/>
                  </a:lnTo>
                  <a:lnTo>
                    <a:pt x="13" y="155"/>
                  </a:lnTo>
                  <a:lnTo>
                    <a:pt x="13" y="156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595280" y="3748680"/>
              <a:ext cx="330840" cy="479520"/>
            </a:xfrm>
            <a:custGeom>
              <a:avLst/>
              <a:gdLst/>
              <a:ahLst/>
              <a:rect l="l" t="t" r="r" b="b"/>
              <a:pathLst>
                <a:path w="218" h="318">
                  <a:moveTo>
                    <a:pt x="57" y="0"/>
                  </a:moveTo>
                  <a:lnTo>
                    <a:pt x="56" y="0"/>
                  </a:lnTo>
                  <a:lnTo>
                    <a:pt x="56" y="5"/>
                  </a:lnTo>
                  <a:lnTo>
                    <a:pt x="55" y="12"/>
                  </a:lnTo>
                  <a:lnTo>
                    <a:pt x="55" y="20"/>
                  </a:lnTo>
                  <a:lnTo>
                    <a:pt x="54" y="24"/>
                  </a:lnTo>
                  <a:lnTo>
                    <a:pt x="52" y="30"/>
                  </a:lnTo>
                  <a:lnTo>
                    <a:pt x="52" y="35"/>
                  </a:lnTo>
                  <a:lnTo>
                    <a:pt x="52" y="41"/>
                  </a:lnTo>
                  <a:lnTo>
                    <a:pt x="50" y="45"/>
                  </a:lnTo>
                  <a:lnTo>
                    <a:pt x="50" y="50"/>
                  </a:lnTo>
                  <a:lnTo>
                    <a:pt x="49" y="56"/>
                  </a:lnTo>
                  <a:lnTo>
                    <a:pt x="48" y="61"/>
                  </a:lnTo>
                  <a:lnTo>
                    <a:pt x="45" y="64"/>
                  </a:lnTo>
                  <a:lnTo>
                    <a:pt x="43" y="70"/>
                  </a:lnTo>
                  <a:lnTo>
                    <a:pt x="40" y="75"/>
                  </a:lnTo>
                  <a:lnTo>
                    <a:pt x="36" y="82"/>
                  </a:lnTo>
                  <a:lnTo>
                    <a:pt x="32" y="87"/>
                  </a:lnTo>
                  <a:lnTo>
                    <a:pt x="28" y="94"/>
                  </a:lnTo>
                  <a:lnTo>
                    <a:pt x="25" y="100"/>
                  </a:lnTo>
                  <a:lnTo>
                    <a:pt x="21" y="106"/>
                  </a:lnTo>
                  <a:lnTo>
                    <a:pt x="16" y="112"/>
                  </a:lnTo>
                  <a:lnTo>
                    <a:pt x="12" y="116"/>
                  </a:lnTo>
                  <a:lnTo>
                    <a:pt x="8" y="121"/>
                  </a:lnTo>
                  <a:lnTo>
                    <a:pt x="6" y="127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6" y="136"/>
                  </a:lnTo>
                  <a:lnTo>
                    <a:pt x="8" y="136"/>
                  </a:lnTo>
                  <a:lnTo>
                    <a:pt x="13" y="139"/>
                  </a:lnTo>
                  <a:lnTo>
                    <a:pt x="18" y="141"/>
                  </a:lnTo>
                  <a:lnTo>
                    <a:pt x="23" y="143"/>
                  </a:lnTo>
                  <a:lnTo>
                    <a:pt x="27" y="145"/>
                  </a:lnTo>
                  <a:lnTo>
                    <a:pt x="32" y="147"/>
                  </a:lnTo>
                  <a:lnTo>
                    <a:pt x="37" y="150"/>
                  </a:lnTo>
                  <a:lnTo>
                    <a:pt x="42" y="154"/>
                  </a:lnTo>
                  <a:lnTo>
                    <a:pt x="47" y="157"/>
                  </a:lnTo>
                  <a:lnTo>
                    <a:pt x="51" y="160"/>
                  </a:lnTo>
                  <a:lnTo>
                    <a:pt x="55" y="164"/>
                  </a:lnTo>
                  <a:lnTo>
                    <a:pt x="59" y="168"/>
                  </a:lnTo>
                  <a:lnTo>
                    <a:pt x="65" y="175"/>
                  </a:lnTo>
                  <a:lnTo>
                    <a:pt x="72" y="183"/>
                  </a:lnTo>
                  <a:lnTo>
                    <a:pt x="78" y="191"/>
                  </a:lnTo>
                  <a:lnTo>
                    <a:pt x="84" y="201"/>
                  </a:lnTo>
                  <a:lnTo>
                    <a:pt x="87" y="206"/>
                  </a:lnTo>
                  <a:lnTo>
                    <a:pt x="91" y="213"/>
                  </a:lnTo>
                  <a:lnTo>
                    <a:pt x="93" y="216"/>
                  </a:lnTo>
                  <a:lnTo>
                    <a:pt x="94" y="218"/>
                  </a:lnTo>
                  <a:lnTo>
                    <a:pt x="87" y="231"/>
                  </a:lnTo>
                  <a:lnTo>
                    <a:pt x="93" y="318"/>
                  </a:lnTo>
                  <a:lnTo>
                    <a:pt x="218" y="123"/>
                  </a:lnTo>
                  <a:lnTo>
                    <a:pt x="148" y="3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89720" y="3717000"/>
              <a:ext cx="490680" cy="188280"/>
            </a:xfrm>
            <a:custGeom>
              <a:avLst/>
              <a:gdLst/>
              <a:ahLst/>
              <a:rect l="l" t="t" r="r" b="b"/>
              <a:pathLst>
                <a:path w="323" h="125">
                  <a:moveTo>
                    <a:pt x="0" y="45"/>
                  </a:move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11" y="43"/>
                  </a:lnTo>
                  <a:lnTo>
                    <a:pt x="15" y="41"/>
                  </a:lnTo>
                  <a:lnTo>
                    <a:pt x="22" y="40"/>
                  </a:lnTo>
                  <a:lnTo>
                    <a:pt x="29" y="40"/>
                  </a:lnTo>
                  <a:lnTo>
                    <a:pt x="37" y="39"/>
                  </a:lnTo>
                  <a:lnTo>
                    <a:pt x="44" y="37"/>
                  </a:lnTo>
                  <a:lnTo>
                    <a:pt x="54" y="36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79" y="33"/>
                  </a:lnTo>
                  <a:lnTo>
                    <a:pt x="87" y="32"/>
                  </a:lnTo>
                  <a:lnTo>
                    <a:pt x="94" y="32"/>
                  </a:lnTo>
                  <a:lnTo>
                    <a:pt x="102" y="32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20" y="29"/>
                  </a:lnTo>
                  <a:lnTo>
                    <a:pt x="126" y="29"/>
                  </a:lnTo>
                  <a:lnTo>
                    <a:pt x="130" y="28"/>
                  </a:lnTo>
                  <a:lnTo>
                    <a:pt x="135" y="28"/>
                  </a:lnTo>
                  <a:lnTo>
                    <a:pt x="140" y="26"/>
                  </a:lnTo>
                  <a:lnTo>
                    <a:pt x="146" y="26"/>
                  </a:lnTo>
                  <a:lnTo>
                    <a:pt x="153" y="24"/>
                  </a:lnTo>
                  <a:lnTo>
                    <a:pt x="160" y="21"/>
                  </a:lnTo>
                  <a:lnTo>
                    <a:pt x="167" y="18"/>
                  </a:lnTo>
                  <a:lnTo>
                    <a:pt x="174" y="17"/>
                  </a:lnTo>
                  <a:lnTo>
                    <a:pt x="178" y="14"/>
                  </a:lnTo>
                  <a:lnTo>
                    <a:pt x="183" y="11"/>
                  </a:lnTo>
                  <a:lnTo>
                    <a:pt x="186" y="9"/>
                  </a:lnTo>
                  <a:lnTo>
                    <a:pt x="190" y="6"/>
                  </a:lnTo>
                  <a:lnTo>
                    <a:pt x="193" y="2"/>
                  </a:lnTo>
                  <a:lnTo>
                    <a:pt x="196" y="0"/>
                  </a:lnTo>
                  <a:lnTo>
                    <a:pt x="198" y="2"/>
                  </a:lnTo>
                  <a:lnTo>
                    <a:pt x="201" y="3"/>
                  </a:lnTo>
                  <a:lnTo>
                    <a:pt x="207" y="5"/>
                  </a:lnTo>
                  <a:lnTo>
                    <a:pt x="211" y="6"/>
                  </a:lnTo>
                  <a:lnTo>
                    <a:pt x="217" y="7"/>
                  </a:lnTo>
                  <a:lnTo>
                    <a:pt x="224" y="7"/>
                  </a:lnTo>
                  <a:lnTo>
                    <a:pt x="229" y="9"/>
                  </a:lnTo>
                  <a:lnTo>
                    <a:pt x="235" y="7"/>
                  </a:lnTo>
                  <a:lnTo>
                    <a:pt x="240" y="7"/>
                  </a:lnTo>
                  <a:lnTo>
                    <a:pt x="246" y="7"/>
                  </a:lnTo>
                  <a:lnTo>
                    <a:pt x="251" y="9"/>
                  </a:lnTo>
                  <a:lnTo>
                    <a:pt x="256" y="9"/>
                  </a:lnTo>
                  <a:lnTo>
                    <a:pt x="261" y="10"/>
                  </a:lnTo>
                  <a:lnTo>
                    <a:pt x="267" y="11"/>
                  </a:lnTo>
                  <a:lnTo>
                    <a:pt x="274" y="14"/>
                  </a:lnTo>
                  <a:lnTo>
                    <a:pt x="279" y="15"/>
                  </a:lnTo>
                  <a:lnTo>
                    <a:pt x="286" y="21"/>
                  </a:lnTo>
                  <a:lnTo>
                    <a:pt x="291" y="24"/>
                  </a:lnTo>
                  <a:lnTo>
                    <a:pt x="296" y="26"/>
                  </a:lnTo>
                  <a:lnTo>
                    <a:pt x="299" y="29"/>
                  </a:lnTo>
                  <a:lnTo>
                    <a:pt x="304" y="33"/>
                  </a:lnTo>
                  <a:lnTo>
                    <a:pt x="310" y="39"/>
                  </a:lnTo>
                  <a:lnTo>
                    <a:pt x="317" y="44"/>
                  </a:lnTo>
                  <a:lnTo>
                    <a:pt x="320" y="48"/>
                  </a:lnTo>
                  <a:lnTo>
                    <a:pt x="323" y="50"/>
                  </a:lnTo>
                  <a:lnTo>
                    <a:pt x="221" y="36"/>
                  </a:lnTo>
                  <a:lnTo>
                    <a:pt x="192" y="40"/>
                  </a:lnTo>
                  <a:lnTo>
                    <a:pt x="190" y="54"/>
                  </a:lnTo>
                  <a:lnTo>
                    <a:pt x="193" y="58"/>
                  </a:lnTo>
                  <a:lnTo>
                    <a:pt x="197" y="62"/>
                  </a:lnTo>
                  <a:lnTo>
                    <a:pt x="198" y="63"/>
                  </a:lnTo>
                  <a:lnTo>
                    <a:pt x="198" y="67"/>
                  </a:lnTo>
                  <a:lnTo>
                    <a:pt x="199" y="70"/>
                  </a:lnTo>
                  <a:lnTo>
                    <a:pt x="200" y="77"/>
                  </a:lnTo>
                  <a:lnTo>
                    <a:pt x="200" y="81"/>
                  </a:lnTo>
                  <a:lnTo>
                    <a:pt x="201" y="86"/>
                  </a:lnTo>
                  <a:lnTo>
                    <a:pt x="200" y="91"/>
                  </a:lnTo>
                  <a:lnTo>
                    <a:pt x="200" y="96"/>
                  </a:lnTo>
                  <a:lnTo>
                    <a:pt x="198" y="103"/>
                  </a:lnTo>
                  <a:lnTo>
                    <a:pt x="196" y="108"/>
                  </a:lnTo>
                  <a:lnTo>
                    <a:pt x="193" y="106"/>
                  </a:lnTo>
                  <a:lnTo>
                    <a:pt x="192" y="101"/>
                  </a:lnTo>
                  <a:lnTo>
                    <a:pt x="189" y="95"/>
                  </a:lnTo>
                  <a:lnTo>
                    <a:pt x="184" y="89"/>
                  </a:lnTo>
                  <a:lnTo>
                    <a:pt x="180" y="85"/>
                  </a:lnTo>
                  <a:lnTo>
                    <a:pt x="177" y="84"/>
                  </a:lnTo>
                  <a:lnTo>
                    <a:pt x="174" y="82"/>
                  </a:lnTo>
                  <a:lnTo>
                    <a:pt x="169" y="81"/>
                  </a:lnTo>
                  <a:lnTo>
                    <a:pt x="162" y="80"/>
                  </a:lnTo>
                  <a:lnTo>
                    <a:pt x="156" y="78"/>
                  </a:lnTo>
                  <a:lnTo>
                    <a:pt x="153" y="73"/>
                  </a:lnTo>
                  <a:lnTo>
                    <a:pt x="151" y="67"/>
                  </a:lnTo>
                  <a:lnTo>
                    <a:pt x="151" y="63"/>
                  </a:lnTo>
                  <a:lnTo>
                    <a:pt x="151" y="62"/>
                  </a:lnTo>
                  <a:lnTo>
                    <a:pt x="150" y="62"/>
                  </a:lnTo>
                  <a:lnTo>
                    <a:pt x="148" y="63"/>
                  </a:lnTo>
                  <a:lnTo>
                    <a:pt x="143" y="63"/>
                  </a:lnTo>
                  <a:lnTo>
                    <a:pt x="139" y="67"/>
                  </a:lnTo>
                  <a:lnTo>
                    <a:pt x="135" y="67"/>
                  </a:lnTo>
                  <a:lnTo>
                    <a:pt x="132" y="70"/>
                  </a:lnTo>
                  <a:lnTo>
                    <a:pt x="128" y="73"/>
                  </a:lnTo>
                  <a:lnTo>
                    <a:pt x="125" y="76"/>
                  </a:lnTo>
                  <a:lnTo>
                    <a:pt x="120" y="78"/>
                  </a:lnTo>
                  <a:lnTo>
                    <a:pt x="115" y="81"/>
                  </a:lnTo>
                  <a:lnTo>
                    <a:pt x="111" y="85"/>
                  </a:lnTo>
                  <a:lnTo>
                    <a:pt x="107" y="89"/>
                  </a:lnTo>
                  <a:lnTo>
                    <a:pt x="101" y="92"/>
                  </a:lnTo>
                  <a:lnTo>
                    <a:pt x="94" y="96"/>
                  </a:lnTo>
                  <a:lnTo>
                    <a:pt x="89" y="99"/>
                  </a:lnTo>
                  <a:lnTo>
                    <a:pt x="82" y="103"/>
                  </a:lnTo>
                  <a:lnTo>
                    <a:pt x="73" y="106"/>
                  </a:lnTo>
                  <a:lnTo>
                    <a:pt x="66" y="108"/>
                  </a:lnTo>
                  <a:lnTo>
                    <a:pt x="58" y="111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7" y="118"/>
                  </a:lnTo>
                  <a:lnTo>
                    <a:pt x="30" y="121"/>
                  </a:lnTo>
                  <a:lnTo>
                    <a:pt x="26" y="122"/>
                  </a:lnTo>
                  <a:lnTo>
                    <a:pt x="21" y="122"/>
                  </a:lnTo>
                  <a:lnTo>
                    <a:pt x="19" y="123"/>
                  </a:lnTo>
                  <a:lnTo>
                    <a:pt x="16" y="125"/>
                  </a:lnTo>
                  <a:lnTo>
                    <a:pt x="16" y="12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62840" y="4145760"/>
              <a:ext cx="308160" cy="357480"/>
            </a:xfrm>
            <a:custGeom>
              <a:avLst/>
              <a:gdLst/>
              <a:ahLst/>
              <a:rect l="l" t="t" r="r" b="b"/>
              <a:pathLst>
                <a:path w="203" h="237">
                  <a:moveTo>
                    <a:pt x="101" y="0"/>
                  </a:moveTo>
                  <a:lnTo>
                    <a:pt x="103" y="3"/>
                  </a:lnTo>
                  <a:lnTo>
                    <a:pt x="105" y="6"/>
                  </a:lnTo>
                  <a:lnTo>
                    <a:pt x="110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2" y="32"/>
                  </a:lnTo>
                  <a:lnTo>
                    <a:pt x="129" y="41"/>
                  </a:lnTo>
                  <a:lnTo>
                    <a:pt x="135" y="50"/>
                  </a:lnTo>
                  <a:lnTo>
                    <a:pt x="142" y="59"/>
                  </a:lnTo>
                  <a:lnTo>
                    <a:pt x="148" y="70"/>
                  </a:lnTo>
                  <a:lnTo>
                    <a:pt x="154" y="81"/>
                  </a:lnTo>
                  <a:lnTo>
                    <a:pt x="161" y="92"/>
                  </a:lnTo>
                  <a:lnTo>
                    <a:pt x="167" y="101"/>
                  </a:lnTo>
                  <a:lnTo>
                    <a:pt x="171" y="114"/>
                  </a:lnTo>
                  <a:lnTo>
                    <a:pt x="177" y="125"/>
                  </a:lnTo>
                  <a:lnTo>
                    <a:pt x="182" y="136"/>
                  </a:lnTo>
                  <a:lnTo>
                    <a:pt x="185" y="147"/>
                  </a:lnTo>
                  <a:lnTo>
                    <a:pt x="188" y="156"/>
                  </a:lnTo>
                  <a:lnTo>
                    <a:pt x="191" y="167"/>
                  </a:lnTo>
                  <a:lnTo>
                    <a:pt x="193" y="177"/>
                  </a:lnTo>
                  <a:lnTo>
                    <a:pt x="196" y="186"/>
                  </a:lnTo>
                  <a:lnTo>
                    <a:pt x="197" y="194"/>
                  </a:lnTo>
                  <a:lnTo>
                    <a:pt x="198" y="204"/>
                  </a:lnTo>
                  <a:lnTo>
                    <a:pt x="199" y="209"/>
                  </a:lnTo>
                  <a:lnTo>
                    <a:pt x="200" y="216"/>
                  </a:lnTo>
                  <a:lnTo>
                    <a:pt x="200" y="222"/>
                  </a:lnTo>
                  <a:lnTo>
                    <a:pt x="202" y="227"/>
                  </a:lnTo>
                  <a:lnTo>
                    <a:pt x="202" y="234"/>
                  </a:lnTo>
                  <a:lnTo>
                    <a:pt x="203" y="237"/>
                  </a:lnTo>
                  <a:lnTo>
                    <a:pt x="113" y="237"/>
                  </a:lnTo>
                  <a:lnTo>
                    <a:pt x="0" y="17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184880" y="4944960"/>
              <a:ext cx="551520" cy="297000"/>
            </a:xfrm>
            <a:custGeom>
              <a:avLst/>
              <a:gdLst/>
              <a:ahLst/>
              <a:rect l="l" t="t" r="r" b="b"/>
              <a:pathLst>
                <a:path w="363" h="197">
                  <a:moveTo>
                    <a:pt x="363" y="179"/>
                  </a:moveTo>
                  <a:lnTo>
                    <a:pt x="362" y="178"/>
                  </a:lnTo>
                  <a:lnTo>
                    <a:pt x="359" y="178"/>
                  </a:lnTo>
                  <a:lnTo>
                    <a:pt x="352" y="178"/>
                  </a:lnTo>
                  <a:lnTo>
                    <a:pt x="345" y="178"/>
                  </a:lnTo>
                  <a:lnTo>
                    <a:pt x="340" y="176"/>
                  </a:lnTo>
                  <a:lnTo>
                    <a:pt x="335" y="176"/>
                  </a:lnTo>
                  <a:lnTo>
                    <a:pt x="328" y="176"/>
                  </a:lnTo>
                  <a:lnTo>
                    <a:pt x="324" y="176"/>
                  </a:lnTo>
                  <a:lnTo>
                    <a:pt x="318" y="176"/>
                  </a:lnTo>
                  <a:lnTo>
                    <a:pt x="312" y="176"/>
                  </a:lnTo>
                  <a:lnTo>
                    <a:pt x="305" y="178"/>
                  </a:lnTo>
                  <a:lnTo>
                    <a:pt x="299" y="179"/>
                  </a:lnTo>
                  <a:lnTo>
                    <a:pt x="291" y="179"/>
                  </a:lnTo>
                  <a:lnTo>
                    <a:pt x="284" y="180"/>
                  </a:lnTo>
                  <a:lnTo>
                    <a:pt x="277" y="182"/>
                  </a:lnTo>
                  <a:lnTo>
                    <a:pt x="270" y="183"/>
                  </a:lnTo>
                  <a:lnTo>
                    <a:pt x="263" y="185"/>
                  </a:lnTo>
                  <a:lnTo>
                    <a:pt x="256" y="186"/>
                  </a:lnTo>
                  <a:lnTo>
                    <a:pt x="249" y="187"/>
                  </a:lnTo>
                  <a:lnTo>
                    <a:pt x="244" y="190"/>
                  </a:lnTo>
                  <a:lnTo>
                    <a:pt x="237" y="190"/>
                  </a:lnTo>
                  <a:lnTo>
                    <a:pt x="233" y="191"/>
                  </a:lnTo>
                  <a:lnTo>
                    <a:pt x="228" y="193"/>
                  </a:lnTo>
                  <a:lnTo>
                    <a:pt x="225" y="194"/>
                  </a:lnTo>
                  <a:lnTo>
                    <a:pt x="219" y="195"/>
                  </a:lnTo>
                  <a:lnTo>
                    <a:pt x="218" y="197"/>
                  </a:lnTo>
                  <a:lnTo>
                    <a:pt x="215" y="195"/>
                  </a:lnTo>
                  <a:lnTo>
                    <a:pt x="211" y="193"/>
                  </a:lnTo>
                  <a:lnTo>
                    <a:pt x="206" y="191"/>
                  </a:lnTo>
                  <a:lnTo>
                    <a:pt x="203" y="190"/>
                  </a:lnTo>
                  <a:lnTo>
                    <a:pt x="198" y="187"/>
                  </a:lnTo>
                  <a:lnTo>
                    <a:pt x="193" y="186"/>
                  </a:lnTo>
                  <a:lnTo>
                    <a:pt x="186" y="183"/>
                  </a:lnTo>
                  <a:lnTo>
                    <a:pt x="179" y="182"/>
                  </a:lnTo>
                  <a:lnTo>
                    <a:pt x="172" y="179"/>
                  </a:lnTo>
                  <a:lnTo>
                    <a:pt x="164" y="178"/>
                  </a:lnTo>
                  <a:lnTo>
                    <a:pt x="156" y="175"/>
                  </a:lnTo>
                  <a:lnTo>
                    <a:pt x="147" y="175"/>
                  </a:lnTo>
                  <a:lnTo>
                    <a:pt x="137" y="172"/>
                  </a:lnTo>
                  <a:lnTo>
                    <a:pt x="128" y="172"/>
                  </a:lnTo>
                  <a:lnTo>
                    <a:pt x="118" y="171"/>
                  </a:lnTo>
                  <a:lnTo>
                    <a:pt x="107" y="171"/>
                  </a:lnTo>
                  <a:lnTo>
                    <a:pt x="95" y="171"/>
                  </a:lnTo>
                  <a:lnTo>
                    <a:pt x="85" y="171"/>
                  </a:lnTo>
                  <a:lnTo>
                    <a:pt x="73" y="171"/>
                  </a:lnTo>
                  <a:lnTo>
                    <a:pt x="63" y="171"/>
                  </a:lnTo>
                  <a:lnTo>
                    <a:pt x="52" y="172"/>
                  </a:lnTo>
                  <a:lnTo>
                    <a:pt x="44" y="174"/>
                  </a:lnTo>
                  <a:lnTo>
                    <a:pt x="34" y="174"/>
                  </a:lnTo>
                  <a:lnTo>
                    <a:pt x="26" y="175"/>
                  </a:lnTo>
                  <a:lnTo>
                    <a:pt x="19" y="175"/>
                  </a:lnTo>
                  <a:lnTo>
                    <a:pt x="13" y="176"/>
                  </a:lnTo>
                  <a:lnTo>
                    <a:pt x="7" y="178"/>
                  </a:lnTo>
                  <a:lnTo>
                    <a:pt x="4" y="178"/>
                  </a:lnTo>
                  <a:lnTo>
                    <a:pt x="0" y="179"/>
                  </a:lnTo>
                  <a:lnTo>
                    <a:pt x="70" y="0"/>
                  </a:lnTo>
                  <a:lnTo>
                    <a:pt x="363" y="148"/>
                  </a:lnTo>
                  <a:lnTo>
                    <a:pt x="363" y="179"/>
                  </a:lnTo>
                  <a:lnTo>
                    <a:pt x="363" y="179"/>
                  </a:lnTo>
                  <a:close/>
                </a:path>
              </a:pathLst>
            </a:cu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27160" y="5519880"/>
              <a:ext cx="690840" cy="274320"/>
            </a:xfrm>
            <a:custGeom>
              <a:avLst/>
              <a:gdLst/>
              <a:ahLst/>
              <a:rect l="l" t="t" r="r" b="b"/>
              <a:pathLst>
                <a:path w="455" h="182">
                  <a:moveTo>
                    <a:pt x="455" y="142"/>
                  </a:moveTo>
                  <a:lnTo>
                    <a:pt x="278" y="182"/>
                  </a:lnTo>
                  <a:lnTo>
                    <a:pt x="0" y="154"/>
                  </a:lnTo>
                  <a:lnTo>
                    <a:pt x="114" y="0"/>
                  </a:lnTo>
                  <a:lnTo>
                    <a:pt x="455" y="142"/>
                  </a:lnTo>
                  <a:lnTo>
                    <a:pt x="455" y="142"/>
                  </a:lnTo>
                  <a:close/>
                </a:path>
              </a:pathLst>
            </a:cu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077160" y="5951160"/>
              <a:ext cx="607680" cy="194400"/>
            </a:xfrm>
            <a:custGeom>
              <a:avLst/>
              <a:gdLst/>
              <a:ahLst/>
              <a:rect l="l" t="t" r="r" b="b"/>
              <a:pathLst>
                <a:path w="400" h="129">
                  <a:moveTo>
                    <a:pt x="400" y="122"/>
                  </a:moveTo>
                  <a:lnTo>
                    <a:pt x="259" y="129"/>
                  </a:lnTo>
                  <a:lnTo>
                    <a:pt x="0" y="129"/>
                  </a:lnTo>
                  <a:lnTo>
                    <a:pt x="31" y="0"/>
                  </a:lnTo>
                  <a:lnTo>
                    <a:pt x="354" y="83"/>
                  </a:lnTo>
                  <a:lnTo>
                    <a:pt x="400" y="122"/>
                  </a:lnTo>
                  <a:lnTo>
                    <a:pt x="400" y="122"/>
                  </a:lnTo>
                  <a:close/>
                </a:path>
              </a:pathLst>
            </a:cu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11160" y="4466880"/>
              <a:ext cx="312840" cy="364680"/>
            </a:xfrm>
            <a:custGeom>
              <a:avLst/>
              <a:gdLst/>
              <a:ahLst/>
              <a:rect l="l" t="t" r="r" b="b"/>
              <a:pathLst>
                <a:path w="206" h="242">
                  <a:moveTo>
                    <a:pt x="206" y="44"/>
                  </a:moveTo>
                  <a:lnTo>
                    <a:pt x="206" y="44"/>
                  </a:lnTo>
                  <a:lnTo>
                    <a:pt x="206" y="47"/>
                  </a:lnTo>
                  <a:lnTo>
                    <a:pt x="204" y="50"/>
                  </a:lnTo>
                  <a:lnTo>
                    <a:pt x="203" y="56"/>
                  </a:lnTo>
                  <a:lnTo>
                    <a:pt x="199" y="62"/>
                  </a:lnTo>
                  <a:lnTo>
                    <a:pt x="196" y="69"/>
                  </a:lnTo>
                  <a:lnTo>
                    <a:pt x="192" y="73"/>
                  </a:lnTo>
                  <a:lnTo>
                    <a:pt x="189" y="77"/>
                  </a:lnTo>
                  <a:lnTo>
                    <a:pt x="185" y="80"/>
                  </a:lnTo>
                  <a:lnTo>
                    <a:pt x="182" y="85"/>
                  </a:lnTo>
                  <a:lnTo>
                    <a:pt x="176" y="89"/>
                  </a:lnTo>
                  <a:lnTo>
                    <a:pt x="170" y="93"/>
                  </a:lnTo>
                  <a:lnTo>
                    <a:pt x="164" y="97"/>
                  </a:lnTo>
                  <a:lnTo>
                    <a:pt x="158" y="101"/>
                  </a:lnTo>
                  <a:lnTo>
                    <a:pt x="151" y="104"/>
                  </a:lnTo>
                  <a:lnTo>
                    <a:pt x="144" y="108"/>
                  </a:lnTo>
                  <a:lnTo>
                    <a:pt x="138" y="112"/>
                  </a:lnTo>
                  <a:lnTo>
                    <a:pt x="133" y="117"/>
                  </a:lnTo>
                  <a:lnTo>
                    <a:pt x="126" y="119"/>
                  </a:lnTo>
                  <a:lnTo>
                    <a:pt x="121" y="122"/>
                  </a:lnTo>
                  <a:lnTo>
                    <a:pt x="116" y="125"/>
                  </a:lnTo>
                  <a:lnTo>
                    <a:pt x="113" y="127"/>
                  </a:lnTo>
                  <a:lnTo>
                    <a:pt x="107" y="130"/>
                  </a:lnTo>
                  <a:lnTo>
                    <a:pt x="105" y="132"/>
                  </a:lnTo>
                  <a:lnTo>
                    <a:pt x="105" y="134"/>
                  </a:lnTo>
                  <a:lnTo>
                    <a:pt x="107" y="141"/>
                  </a:lnTo>
                  <a:lnTo>
                    <a:pt x="108" y="149"/>
                  </a:lnTo>
                  <a:lnTo>
                    <a:pt x="108" y="156"/>
                  </a:lnTo>
                  <a:lnTo>
                    <a:pt x="106" y="162"/>
                  </a:lnTo>
                  <a:lnTo>
                    <a:pt x="102" y="166"/>
                  </a:lnTo>
                  <a:lnTo>
                    <a:pt x="101" y="168"/>
                  </a:lnTo>
                  <a:lnTo>
                    <a:pt x="100" y="172"/>
                  </a:lnTo>
                  <a:lnTo>
                    <a:pt x="98" y="175"/>
                  </a:lnTo>
                  <a:lnTo>
                    <a:pt x="98" y="182"/>
                  </a:lnTo>
                  <a:lnTo>
                    <a:pt x="95" y="186"/>
                  </a:lnTo>
                  <a:lnTo>
                    <a:pt x="94" y="192"/>
                  </a:lnTo>
                  <a:lnTo>
                    <a:pt x="94" y="197"/>
                  </a:lnTo>
                  <a:lnTo>
                    <a:pt x="94" y="204"/>
                  </a:lnTo>
                  <a:lnTo>
                    <a:pt x="94" y="209"/>
                  </a:lnTo>
                  <a:lnTo>
                    <a:pt x="94" y="213"/>
                  </a:lnTo>
                  <a:lnTo>
                    <a:pt x="94" y="218"/>
                  </a:lnTo>
                  <a:lnTo>
                    <a:pt x="94" y="219"/>
                  </a:lnTo>
                  <a:lnTo>
                    <a:pt x="81" y="219"/>
                  </a:lnTo>
                  <a:lnTo>
                    <a:pt x="79" y="174"/>
                  </a:lnTo>
                  <a:lnTo>
                    <a:pt x="77" y="174"/>
                  </a:lnTo>
                  <a:lnTo>
                    <a:pt x="76" y="178"/>
                  </a:lnTo>
                  <a:lnTo>
                    <a:pt x="72" y="182"/>
                  </a:lnTo>
                  <a:lnTo>
                    <a:pt x="69" y="186"/>
                  </a:lnTo>
                  <a:lnTo>
                    <a:pt x="63" y="192"/>
                  </a:lnTo>
                  <a:lnTo>
                    <a:pt x="57" y="198"/>
                  </a:lnTo>
                  <a:lnTo>
                    <a:pt x="51" y="207"/>
                  </a:lnTo>
                  <a:lnTo>
                    <a:pt x="47" y="213"/>
                  </a:lnTo>
                  <a:lnTo>
                    <a:pt x="41" y="219"/>
                  </a:lnTo>
                  <a:lnTo>
                    <a:pt x="35" y="224"/>
                  </a:lnTo>
                  <a:lnTo>
                    <a:pt x="30" y="228"/>
                  </a:lnTo>
                  <a:lnTo>
                    <a:pt x="27" y="234"/>
                  </a:lnTo>
                  <a:lnTo>
                    <a:pt x="20" y="239"/>
                  </a:lnTo>
                  <a:lnTo>
                    <a:pt x="19" y="242"/>
                  </a:lnTo>
                  <a:lnTo>
                    <a:pt x="0" y="219"/>
                  </a:lnTo>
                  <a:lnTo>
                    <a:pt x="13" y="178"/>
                  </a:lnTo>
                  <a:lnTo>
                    <a:pt x="12" y="164"/>
                  </a:lnTo>
                  <a:lnTo>
                    <a:pt x="12" y="162"/>
                  </a:lnTo>
                  <a:lnTo>
                    <a:pt x="13" y="157"/>
                  </a:lnTo>
                  <a:lnTo>
                    <a:pt x="14" y="153"/>
                  </a:lnTo>
                  <a:lnTo>
                    <a:pt x="17" y="149"/>
                  </a:lnTo>
                  <a:lnTo>
                    <a:pt x="22" y="144"/>
                  </a:lnTo>
                  <a:lnTo>
                    <a:pt x="28" y="140"/>
                  </a:lnTo>
                  <a:lnTo>
                    <a:pt x="30" y="137"/>
                  </a:lnTo>
                  <a:lnTo>
                    <a:pt x="34" y="134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6" y="122"/>
                  </a:lnTo>
                  <a:lnTo>
                    <a:pt x="60" y="119"/>
                  </a:lnTo>
                  <a:lnTo>
                    <a:pt x="67" y="115"/>
                  </a:lnTo>
                  <a:lnTo>
                    <a:pt x="74" y="112"/>
                  </a:lnTo>
                  <a:lnTo>
                    <a:pt x="78" y="111"/>
                  </a:lnTo>
                  <a:lnTo>
                    <a:pt x="80" y="111"/>
                  </a:lnTo>
                  <a:lnTo>
                    <a:pt x="80" y="110"/>
                  </a:lnTo>
                  <a:lnTo>
                    <a:pt x="83" y="107"/>
                  </a:lnTo>
                  <a:lnTo>
                    <a:pt x="85" y="103"/>
                  </a:lnTo>
                  <a:lnTo>
                    <a:pt x="90" y="97"/>
                  </a:lnTo>
                  <a:lnTo>
                    <a:pt x="94" y="91"/>
                  </a:lnTo>
                  <a:lnTo>
                    <a:pt x="100" y="84"/>
                  </a:lnTo>
                  <a:lnTo>
                    <a:pt x="107" y="74"/>
                  </a:lnTo>
                  <a:lnTo>
                    <a:pt x="114" y="66"/>
                  </a:lnTo>
                  <a:lnTo>
                    <a:pt x="118" y="61"/>
                  </a:lnTo>
                  <a:lnTo>
                    <a:pt x="120" y="54"/>
                  </a:lnTo>
                  <a:lnTo>
                    <a:pt x="123" y="48"/>
                  </a:lnTo>
                  <a:lnTo>
                    <a:pt x="127" y="43"/>
                  </a:lnTo>
                  <a:lnTo>
                    <a:pt x="130" y="37"/>
                  </a:lnTo>
                  <a:lnTo>
                    <a:pt x="133" y="32"/>
                  </a:lnTo>
                  <a:lnTo>
                    <a:pt x="136" y="26"/>
                  </a:lnTo>
                  <a:lnTo>
                    <a:pt x="138" y="22"/>
                  </a:lnTo>
                  <a:lnTo>
                    <a:pt x="143" y="13"/>
                  </a:lnTo>
                  <a:lnTo>
                    <a:pt x="147" y="6"/>
                  </a:lnTo>
                  <a:lnTo>
                    <a:pt x="149" y="2"/>
                  </a:lnTo>
                  <a:lnTo>
                    <a:pt x="151" y="0"/>
                  </a:lnTo>
                  <a:lnTo>
                    <a:pt x="206" y="44"/>
                  </a:lnTo>
                  <a:lnTo>
                    <a:pt x="206" y="44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39560" y="4138200"/>
              <a:ext cx="701640" cy="968400"/>
            </a:xfrm>
            <a:custGeom>
              <a:avLst/>
              <a:gdLst/>
              <a:ahLst/>
              <a:rect l="l" t="t" r="r" b="b"/>
              <a:pathLst>
                <a:path w="462" h="642">
                  <a:moveTo>
                    <a:pt x="309" y="18"/>
                  </a:moveTo>
                  <a:lnTo>
                    <a:pt x="309" y="18"/>
                  </a:lnTo>
                  <a:lnTo>
                    <a:pt x="314" y="15"/>
                  </a:lnTo>
                  <a:lnTo>
                    <a:pt x="316" y="14"/>
                  </a:lnTo>
                  <a:lnTo>
                    <a:pt x="321" y="12"/>
                  </a:lnTo>
                  <a:lnTo>
                    <a:pt x="324" y="11"/>
                  </a:lnTo>
                  <a:lnTo>
                    <a:pt x="329" y="10"/>
                  </a:lnTo>
                  <a:lnTo>
                    <a:pt x="333" y="8"/>
                  </a:lnTo>
                  <a:lnTo>
                    <a:pt x="337" y="7"/>
                  </a:lnTo>
                  <a:lnTo>
                    <a:pt x="343" y="5"/>
                  </a:lnTo>
                  <a:lnTo>
                    <a:pt x="349" y="5"/>
                  </a:lnTo>
                  <a:lnTo>
                    <a:pt x="355" y="3"/>
                  </a:lnTo>
                  <a:lnTo>
                    <a:pt x="361" y="3"/>
                  </a:lnTo>
                  <a:lnTo>
                    <a:pt x="366" y="3"/>
                  </a:lnTo>
                  <a:lnTo>
                    <a:pt x="373" y="3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0" y="0"/>
                  </a:lnTo>
                  <a:lnTo>
                    <a:pt x="407" y="0"/>
                  </a:lnTo>
                  <a:lnTo>
                    <a:pt x="413" y="1"/>
                  </a:lnTo>
                  <a:lnTo>
                    <a:pt x="420" y="3"/>
                  </a:lnTo>
                  <a:lnTo>
                    <a:pt x="427" y="4"/>
                  </a:lnTo>
                  <a:lnTo>
                    <a:pt x="432" y="4"/>
                  </a:lnTo>
                  <a:lnTo>
                    <a:pt x="437" y="5"/>
                  </a:lnTo>
                  <a:lnTo>
                    <a:pt x="441" y="5"/>
                  </a:lnTo>
                  <a:lnTo>
                    <a:pt x="446" y="7"/>
                  </a:lnTo>
                  <a:lnTo>
                    <a:pt x="451" y="8"/>
                  </a:lnTo>
                  <a:lnTo>
                    <a:pt x="454" y="10"/>
                  </a:lnTo>
                  <a:lnTo>
                    <a:pt x="462" y="56"/>
                  </a:lnTo>
                  <a:lnTo>
                    <a:pt x="453" y="284"/>
                  </a:lnTo>
                  <a:lnTo>
                    <a:pt x="369" y="296"/>
                  </a:lnTo>
                  <a:lnTo>
                    <a:pt x="340" y="285"/>
                  </a:lnTo>
                  <a:lnTo>
                    <a:pt x="340" y="258"/>
                  </a:lnTo>
                  <a:lnTo>
                    <a:pt x="356" y="246"/>
                  </a:lnTo>
                  <a:lnTo>
                    <a:pt x="392" y="128"/>
                  </a:lnTo>
                  <a:lnTo>
                    <a:pt x="219" y="208"/>
                  </a:lnTo>
                  <a:lnTo>
                    <a:pt x="134" y="337"/>
                  </a:lnTo>
                  <a:lnTo>
                    <a:pt x="99" y="642"/>
                  </a:lnTo>
                  <a:lnTo>
                    <a:pt x="0" y="640"/>
                  </a:lnTo>
                  <a:lnTo>
                    <a:pt x="12" y="419"/>
                  </a:lnTo>
                  <a:lnTo>
                    <a:pt x="12" y="415"/>
                  </a:lnTo>
                  <a:lnTo>
                    <a:pt x="12" y="408"/>
                  </a:lnTo>
                  <a:lnTo>
                    <a:pt x="12" y="403"/>
                  </a:lnTo>
                  <a:lnTo>
                    <a:pt x="15" y="397"/>
                  </a:lnTo>
                  <a:lnTo>
                    <a:pt x="15" y="390"/>
                  </a:lnTo>
                  <a:lnTo>
                    <a:pt x="17" y="382"/>
                  </a:lnTo>
                  <a:lnTo>
                    <a:pt x="18" y="374"/>
                  </a:lnTo>
                  <a:lnTo>
                    <a:pt x="21" y="365"/>
                  </a:lnTo>
                  <a:lnTo>
                    <a:pt x="23" y="355"/>
                  </a:lnTo>
                  <a:lnTo>
                    <a:pt x="25" y="347"/>
                  </a:lnTo>
                  <a:lnTo>
                    <a:pt x="26" y="336"/>
                  </a:lnTo>
                  <a:lnTo>
                    <a:pt x="30" y="326"/>
                  </a:lnTo>
                  <a:lnTo>
                    <a:pt x="33" y="317"/>
                  </a:lnTo>
                  <a:lnTo>
                    <a:pt x="37" y="307"/>
                  </a:lnTo>
                  <a:lnTo>
                    <a:pt x="39" y="296"/>
                  </a:lnTo>
                  <a:lnTo>
                    <a:pt x="43" y="287"/>
                  </a:lnTo>
                  <a:lnTo>
                    <a:pt x="46" y="277"/>
                  </a:lnTo>
                  <a:lnTo>
                    <a:pt x="50" y="268"/>
                  </a:lnTo>
                  <a:lnTo>
                    <a:pt x="53" y="258"/>
                  </a:lnTo>
                  <a:lnTo>
                    <a:pt x="57" y="251"/>
                  </a:lnTo>
                  <a:lnTo>
                    <a:pt x="60" y="243"/>
                  </a:lnTo>
                  <a:lnTo>
                    <a:pt x="64" y="236"/>
                  </a:lnTo>
                  <a:lnTo>
                    <a:pt x="67" y="228"/>
                  </a:lnTo>
                  <a:lnTo>
                    <a:pt x="70" y="223"/>
                  </a:lnTo>
                  <a:lnTo>
                    <a:pt x="72" y="216"/>
                  </a:lnTo>
                  <a:lnTo>
                    <a:pt x="75" y="212"/>
                  </a:lnTo>
                  <a:lnTo>
                    <a:pt x="78" y="206"/>
                  </a:lnTo>
                  <a:lnTo>
                    <a:pt x="80" y="203"/>
                  </a:lnTo>
                  <a:lnTo>
                    <a:pt x="78" y="202"/>
                  </a:lnTo>
                  <a:lnTo>
                    <a:pt x="77" y="198"/>
                  </a:lnTo>
                  <a:lnTo>
                    <a:pt x="75" y="191"/>
                  </a:lnTo>
                  <a:lnTo>
                    <a:pt x="78" y="184"/>
                  </a:lnTo>
                  <a:lnTo>
                    <a:pt x="80" y="179"/>
                  </a:lnTo>
                  <a:lnTo>
                    <a:pt x="82" y="173"/>
                  </a:lnTo>
                  <a:lnTo>
                    <a:pt x="86" y="169"/>
                  </a:lnTo>
                  <a:lnTo>
                    <a:pt x="89" y="164"/>
                  </a:lnTo>
                  <a:lnTo>
                    <a:pt x="95" y="154"/>
                  </a:lnTo>
                  <a:lnTo>
                    <a:pt x="99" y="152"/>
                  </a:lnTo>
                  <a:lnTo>
                    <a:pt x="235" y="137"/>
                  </a:lnTo>
                  <a:lnTo>
                    <a:pt x="309" y="18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703200" y="4145760"/>
              <a:ext cx="653040" cy="995400"/>
            </a:xfrm>
            <a:custGeom>
              <a:avLst/>
              <a:gdLst/>
              <a:ahLst/>
              <a:rect l="l" t="t" r="r" b="b"/>
              <a:pathLst>
                <a:path w="430" h="660">
                  <a:moveTo>
                    <a:pt x="77" y="660"/>
                  </a:moveTo>
                  <a:lnTo>
                    <a:pt x="146" y="650"/>
                  </a:lnTo>
                  <a:lnTo>
                    <a:pt x="146" y="622"/>
                  </a:lnTo>
                  <a:lnTo>
                    <a:pt x="138" y="619"/>
                  </a:lnTo>
                  <a:lnTo>
                    <a:pt x="140" y="614"/>
                  </a:lnTo>
                  <a:lnTo>
                    <a:pt x="140" y="605"/>
                  </a:lnTo>
                  <a:lnTo>
                    <a:pt x="140" y="600"/>
                  </a:lnTo>
                  <a:lnTo>
                    <a:pt x="141" y="593"/>
                  </a:lnTo>
                  <a:lnTo>
                    <a:pt x="141" y="586"/>
                  </a:lnTo>
                  <a:lnTo>
                    <a:pt x="142" y="577"/>
                  </a:lnTo>
                  <a:lnTo>
                    <a:pt x="142" y="564"/>
                  </a:lnTo>
                  <a:lnTo>
                    <a:pt x="142" y="552"/>
                  </a:lnTo>
                  <a:lnTo>
                    <a:pt x="142" y="538"/>
                  </a:lnTo>
                  <a:lnTo>
                    <a:pt x="142" y="523"/>
                  </a:lnTo>
                  <a:lnTo>
                    <a:pt x="142" y="508"/>
                  </a:lnTo>
                  <a:lnTo>
                    <a:pt x="142" y="493"/>
                  </a:lnTo>
                  <a:lnTo>
                    <a:pt x="142" y="478"/>
                  </a:lnTo>
                  <a:lnTo>
                    <a:pt x="144" y="465"/>
                  </a:lnTo>
                  <a:lnTo>
                    <a:pt x="144" y="450"/>
                  </a:lnTo>
                  <a:lnTo>
                    <a:pt x="144" y="437"/>
                  </a:lnTo>
                  <a:lnTo>
                    <a:pt x="144" y="425"/>
                  </a:lnTo>
                  <a:lnTo>
                    <a:pt x="144" y="416"/>
                  </a:lnTo>
                  <a:lnTo>
                    <a:pt x="144" y="407"/>
                  </a:lnTo>
                  <a:lnTo>
                    <a:pt x="144" y="401"/>
                  </a:lnTo>
                  <a:lnTo>
                    <a:pt x="144" y="398"/>
                  </a:lnTo>
                  <a:lnTo>
                    <a:pt x="144" y="396"/>
                  </a:lnTo>
                  <a:lnTo>
                    <a:pt x="144" y="395"/>
                  </a:lnTo>
                  <a:lnTo>
                    <a:pt x="145" y="392"/>
                  </a:lnTo>
                  <a:lnTo>
                    <a:pt x="146" y="387"/>
                  </a:lnTo>
                  <a:lnTo>
                    <a:pt x="148" y="383"/>
                  </a:lnTo>
                  <a:lnTo>
                    <a:pt x="149" y="375"/>
                  </a:lnTo>
                  <a:lnTo>
                    <a:pt x="153" y="368"/>
                  </a:lnTo>
                  <a:lnTo>
                    <a:pt x="156" y="358"/>
                  </a:lnTo>
                  <a:lnTo>
                    <a:pt x="161" y="350"/>
                  </a:lnTo>
                  <a:lnTo>
                    <a:pt x="166" y="339"/>
                  </a:lnTo>
                  <a:lnTo>
                    <a:pt x="172" y="328"/>
                  </a:lnTo>
                  <a:lnTo>
                    <a:pt x="178" y="317"/>
                  </a:lnTo>
                  <a:lnTo>
                    <a:pt x="187" y="305"/>
                  </a:lnTo>
                  <a:lnTo>
                    <a:pt x="195" y="293"/>
                  </a:lnTo>
                  <a:lnTo>
                    <a:pt x="204" y="283"/>
                  </a:lnTo>
                  <a:lnTo>
                    <a:pt x="215" y="271"/>
                  </a:lnTo>
                  <a:lnTo>
                    <a:pt x="226" y="261"/>
                  </a:lnTo>
                  <a:lnTo>
                    <a:pt x="239" y="249"/>
                  </a:lnTo>
                  <a:lnTo>
                    <a:pt x="252" y="238"/>
                  </a:lnTo>
                  <a:lnTo>
                    <a:pt x="266" y="228"/>
                  </a:lnTo>
                  <a:lnTo>
                    <a:pt x="281" y="219"/>
                  </a:lnTo>
                  <a:lnTo>
                    <a:pt x="294" y="209"/>
                  </a:lnTo>
                  <a:lnTo>
                    <a:pt x="309" y="201"/>
                  </a:lnTo>
                  <a:lnTo>
                    <a:pt x="323" y="193"/>
                  </a:lnTo>
                  <a:lnTo>
                    <a:pt x="337" y="189"/>
                  </a:lnTo>
                  <a:lnTo>
                    <a:pt x="348" y="181"/>
                  </a:lnTo>
                  <a:lnTo>
                    <a:pt x="361" y="177"/>
                  </a:lnTo>
                  <a:lnTo>
                    <a:pt x="372" y="171"/>
                  </a:lnTo>
                  <a:lnTo>
                    <a:pt x="381" y="168"/>
                  </a:lnTo>
                  <a:lnTo>
                    <a:pt x="388" y="164"/>
                  </a:lnTo>
                  <a:lnTo>
                    <a:pt x="394" y="162"/>
                  </a:lnTo>
                  <a:lnTo>
                    <a:pt x="397" y="162"/>
                  </a:lnTo>
                  <a:lnTo>
                    <a:pt x="399" y="162"/>
                  </a:lnTo>
                  <a:lnTo>
                    <a:pt x="382" y="230"/>
                  </a:lnTo>
                  <a:lnTo>
                    <a:pt x="382" y="227"/>
                  </a:lnTo>
                  <a:lnTo>
                    <a:pt x="386" y="222"/>
                  </a:lnTo>
                  <a:lnTo>
                    <a:pt x="388" y="216"/>
                  </a:lnTo>
                  <a:lnTo>
                    <a:pt x="390" y="211"/>
                  </a:lnTo>
                  <a:lnTo>
                    <a:pt x="393" y="205"/>
                  </a:lnTo>
                  <a:lnTo>
                    <a:pt x="397" y="200"/>
                  </a:lnTo>
                  <a:lnTo>
                    <a:pt x="399" y="192"/>
                  </a:lnTo>
                  <a:lnTo>
                    <a:pt x="403" y="185"/>
                  </a:lnTo>
                  <a:lnTo>
                    <a:pt x="405" y="178"/>
                  </a:lnTo>
                  <a:lnTo>
                    <a:pt x="410" y="171"/>
                  </a:lnTo>
                  <a:lnTo>
                    <a:pt x="411" y="163"/>
                  </a:lnTo>
                  <a:lnTo>
                    <a:pt x="415" y="156"/>
                  </a:lnTo>
                  <a:lnTo>
                    <a:pt x="418" y="148"/>
                  </a:lnTo>
                  <a:lnTo>
                    <a:pt x="421" y="141"/>
                  </a:lnTo>
                  <a:lnTo>
                    <a:pt x="422" y="134"/>
                  </a:lnTo>
                  <a:lnTo>
                    <a:pt x="424" y="127"/>
                  </a:lnTo>
                  <a:lnTo>
                    <a:pt x="425" y="121"/>
                  </a:lnTo>
                  <a:lnTo>
                    <a:pt x="426" y="115"/>
                  </a:lnTo>
                  <a:lnTo>
                    <a:pt x="428" y="110"/>
                  </a:lnTo>
                  <a:lnTo>
                    <a:pt x="429" y="104"/>
                  </a:lnTo>
                  <a:lnTo>
                    <a:pt x="429" y="99"/>
                  </a:lnTo>
                  <a:lnTo>
                    <a:pt x="430" y="95"/>
                  </a:lnTo>
                  <a:lnTo>
                    <a:pt x="430" y="86"/>
                  </a:lnTo>
                  <a:lnTo>
                    <a:pt x="430" y="82"/>
                  </a:lnTo>
                  <a:lnTo>
                    <a:pt x="430" y="80"/>
                  </a:lnTo>
                  <a:lnTo>
                    <a:pt x="430" y="78"/>
                  </a:lnTo>
                  <a:lnTo>
                    <a:pt x="410" y="110"/>
                  </a:lnTo>
                  <a:lnTo>
                    <a:pt x="407" y="77"/>
                  </a:lnTo>
                  <a:lnTo>
                    <a:pt x="404" y="77"/>
                  </a:lnTo>
                  <a:lnTo>
                    <a:pt x="400" y="80"/>
                  </a:lnTo>
                  <a:lnTo>
                    <a:pt x="396" y="80"/>
                  </a:lnTo>
                  <a:lnTo>
                    <a:pt x="393" y="82"/>
                  </a:lnTo>
                  <a:lnTo>
                    <a:pt x="388" y="85"/>
                  </a:lnTo>
                  <a:lnTo>
                    <a:pt x="383" y="88"/>
                  </a:lnTo>
                  <a:lnTo>
                    <a:pt x="378" y="91"/>
                  </a:lnTo>
                  <a:lnTo>
                    <a:pt x="372" y="93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53" y="103"/>
                  </a:lnTo>
                  <a:lnTo>
                    <a:pt x="347" y="107"/>
                  </a:lnTo>
                  <a:lnTo>
                    <a:pt x="341" y="111"/>
                  </a:lnTo>
                  <a:lnTo>
                    <a:pt x="336" y="117"/>
                  </a:lnTo>
                  <a:lnTo>
                    <a:pt x="330" y="119"/>
                  </a:lnTo>
                  <a:lnTo>
                    <a:pt x="323" y="123"/>
                  </a:lnTo>
                  <a:lnTo>
                    <a:pt x="317" y="129"/>
                  </a:lnTo>
                  <a:lnTo>
                    <a:pt x="312" y="134"/>
                  </a:lnTo>
                  <a:lnTo>
                    <a:pt x="308" y="137"/>
                  </a:lnTo>
                  <a:lnTo>
                    <a:pt x="303" y="141"/>
                  </a:lnTo>
                  <a:lnTo>
                    <a:pt x="298" y="147"/>
                  </a:lnTo>
                  <a:lnTo>
                    <a:pt x="295" y="151"/>
                  </a:lnTo>
                  <a:lnTo>
                    <a:pt x="288" y="157"/>
                  </a:lnTo>
                  <a:lnTo>
                    <a:pt x="283" y="163"/>
                  </a:lnTo>
                  <a:lnTo>
                    <a:pt x="280" y="166"/>
                  </a:lnTo>
                  <a:lnTo>
                    <a:pt x="279" y="168"/>
                  </a:lnTo>
                  <a:lnTo>
                    <a:pt x="279" y="166"/>
                  </a:lnTo>
                  <a:lnTo>
                    <a:pt x="281" y="164"/>
                  </a:lnTo>
                  <a:lnTo>
                    <a:pt x="282" y="159"/>
                  </a:lnTo>
                  <a:lnTo>
                    <a:pt x="286" y="153"/>
                  </a:lnTo>
                  <a:lnTo>
                    <a:pt x="288" y="147"/>
                  </a:lnTo>
                  <a:lnTo>
                    <a:pt x="294" y="137"/>
                  </a:lnTo>
                  <a:lnTo>
                    <a:pt x="296" y="132"/>
                  </a:lnTo>
                  <a:lnTo>
                    <a:pt x="298" y="126"/>
                  </a:lnTo>
                  <a:lnTo>
                    <a:pt x="302" y="119"/>
                  </a:lnTo>
                  <a:lnTo>
                    <a:pt x="305" y="114"/>
                  </a:lnTo>
                  <a:lnTo>
                    <a:pt x="308" y="107"/>
                  </a:lnTo>
                  <a:lnTo>
                    <a:pt x="311" y="99"/>
                  </a:lnTo>
                  <a:lnTo>
                    <a:pt x="314" y="92"/>
                  </a:lnTo>
                  <a:lnTo>
                    <a:pt x="317" y="84"/>
                  </a:lnTo>
                  <a:lnTo>
                    <a:pt x="319" y="77"/>
                  </a:lnTo>
                  <a:lnTo>
                    <a:pt x="323" y="69"/>
                  </a:lnTo>
                  <a:lnTo>
                    <a:pt x="326" y="62"/>
                  </a:lnTo>
                  <a:lnTo>
                    <a:pt x="330" y="55"/>
                  </a:lnTo>
                  <a:lnTo>
                    <a:pt x="332" y="47"/>
                  </a:lnTo>
                  <a:lnTo>
                    <a:pt x="334" y="41"/>
                  </a:lnTo>
                  <a:lnTo>
                    <a:pt x="337" y="36"/>
                  </a:lnTo>
                  <a:lnTo>
                    <a:pt x="339" y="32"/>
                  </a:lnTo>
                  <a:lnTo>
                    <a:pt x="343" y="25"/>
                  </a:lnTo>
                  <a:lnTo>
                    <a:pt x="344" y="24"/>
                  </a:lnTo>
                  <a:lnTo>
                    <a:pt x="367" y="0"/>
                  </a:lnTo>
                  <a:lnTo>
                    <a:pt x="329" y="0"/>
                  </a:lnTo>
                  <a:lnTo>
                    <a:pt x="259" y="106"/>
                  </a:lnTo>
                  <a:lnTo>
                    <a:pt x="123" y="144"/>
                  </a:lnTo>
                  <a:lnTo>
                    <a:pt x="123" y="144"/>
                  </a:lnTo>
                  <a:lnTo>
                    <a:pt x="126" y="147"/>
                  </a:lnTo>
                  <a:lnTo>
                    <a:pt x="127" y="149"/>
                  </a:lnTo>
                  <a:lnTo>
                    <a:pt x="130" y="152"/>
                  </a:lnTo>
                  <a:lnTo>
                    <a:pt x="130" y="156"/>
                  </a:lnTo>
                  <a:lnTo>
                    <a:pt x="130" y="163"/>
                  </a:lnTo>
                  <a:lnTo>
                    <a:pt x="128" y="164"/>
                  </a:lnTo>
                  <a:lnTo>
                    <a:pt x="126" y="166"/>
                  </a:lnTo>
                  <a:lnTo>
                    <a:pt x="121" y="167"/>
                  </a:lnTo>
                  <a:lnTo>
                    <a:pt x="118" y="170"/>
                  </a:lnTo>
                  <a:lnTo>
                    <a:pt x="113" y="172"/>
                  </a:lnTo>
                  <a:lnTo>
                    <a:pt x="110" y="177"/>
                  </a:lnTo>
                  <a:lnTo>
                    <a:pt x="106" y="183"/>
                  </a:lnTo>
                  <a:lnTo>
                    <a:pt x="106" y="192"/>
                  </a:lnTo>
                  <a:lnTo>
                    <a:pt x="110" y="193"/>
                  </a:lnTo>
                  <a:lnTo>
                    <a:pt x="117" y="189"/>
                  </a:lnTo>
                  <a:lnTo>
                    <a:pt x="120" y="186"/>
                  </a:lnTo>
                  <a:lnTo>
                    <a:pt x="125" y="183"/>
                  </a:lnTo>
                  <a:lnTo>
                    <a:pt x="128" y="183"/>
                  </a:lnTo>
                  <a:lnTo>
                    <a:pt x="133" y="185"/>
                  </a:lnTo>
                  <a:lnTo>
                    <a:pt x="128" y="192"/>
                  </a:lnTo>
                  <a:lnTo>
                    <a:pt x="126" y="201"/>
                  </a:lnTo>
                  <a:lnTo>
                    <a:pt x="125" y="209"/>
                  </a:lnTo>
                  <a:lnTo>
                    <a:pt x="125" y="219"/>
                  </a:lnTo>
                  <a:lnTo>
                    <a:pt x="125" y="226"/>
                  </a:lnTo>
                  <a:lnTo>
                    <a:pt x="127" y="233"/>
                  </a:lnTo>
                  <a:lnTo>
                    <a:pt x="127" y="237"/>
                  </a:lnTo>
                  <a:lnTo>
                    <a:pt x="128" y="238"/>
                  </a:lnTo>
                  <a:lnTo>
                    <a:pt x="128" y="241"/>
                  </a:lnTo>
                  <a:lnTo>
                    <a:pt x="128" y="245"/>
                  </a:lnTo>
                  <a:lnTo>
                    <a:pt x="130" y="250"/>
                  </a:lnTo>
                  <a:lnTo>
                    <a:pt x="130" y="256"/>
                  </a:lnTo>
                  <a:lnTo>
                    <a:pt x="130" y="263"/>
                  </a:lnTo>
                  <a:lnTo>
                    <a:pt x="130" y="271"/>
                  </a:lnTo>
                  <a:lnTo>
                    <a:pt x="130" y="279"/>
                  </a:lnTo>
                  <a:lnTo>
                    <a:pt x="130" y="287"/>
                  </a:lnTo>
                  <a:lnTo>
                    <a:pt x="130" y="297"/>
                  </a:lnTo>
                  <a:lnTo>
                    <a:pt x="127" y="305"/>
                  </a:lnTo>
                  <a:lnTo>
                    <a:pt x="127" y="314"/>
                  </a:lnTo>
                  <a:lnTo>
                    <a:pt x="125" y="323"/>
                  </a:lnTo>
                  <a:lnTo>
                    <a:pt x="123" y="330"/>
                  </a:lnTo>
                  <a:lnTo>
                    <a:pt x="119" y="338"/>
                  </a:lnTo>
                  <a:lnTo>
                    <a:pt x="117" y="345"/>
                  </a:lnTo>
                  <a:lnTo>
                    <a:pt x="112" y="350"/>
                  </a:lnTo>
                  <a:lnTo>
                    <a:pt x="107" y="355"/>
                  </a:lnTo>
                  <a:lnTo>
                    <a:pt x="104" y="360"/>
                  </a:lnTo>
                  <a:lnTo>
                    <a:pt x="102" y="364"/>
                  </a:lnTo>
                  <a:lnTo>
                    <a:pt x="96" y="369"/>
                  </a:lnTo>
                  <a:lnTo>
                    <a:pt x="91" y="375"/>
                  </a:lnTo>
                  <a:lnTo>
                    <a:pt x="87" y="379"/>
                  </a:lnTo>
                  <a:lnTo>
                    <a:pt x="83" y="383"/>
                  </a:lnTo>
                  <a:lnTo>
                    <a:pt x="78" y="388"/>
                  </a:lnTo>
                  <a:lnTo>
                    <a:pt x="74" y="395"/>
                  </a:lnTo>
                  <a:lnTo>
                    <a:pt x="70" y="401"/>
                  </a:lnTo>
                  <a:lnTo>
                    <a:pt x="68" y="407"/>
                  </a:lnTo>
                  <a:lnTo>
                    <a:pt x="66" y="414"/>
                  </a:lnTo>
                  <a:lnTo>
                    <a:pt x="67" y="422"/>
                  </a:lnTo>
                  <a:lnTo>
                    <a:pt x="67" y="426"/>
                  </a:lnTo>
                  <a:lnTo>
                    <a:pt x="68" y="432"/>
                  </a:lnTo>
                  <a:lnTo>
                    <a:pt x="69" y="435"/>
                  </a:lnTo>
                  <a:lnTo>
                    <a:pt x="70" y="436"/>
                  </a:lnTo>
                  <a:lnTo>
                    <a:pt x="70" y="437"/>
                  </a:lnTo>
                  <a:lnTo>
                    <a:pt x="73" y="444"/>
                  </a:lnTo>
                  <a:lnTo>
                    <a:pt x="73" y="450"/>
                  </a:lnTo>
                  <a:lnTo>
                    <a:pt x="74" y="454"/>
                  </a:lnTo>
                  <a:lnTo>
                    <a:pt x="76" y="461"/>
                  </a:lnTo>
                  <a:lnTo>
                    <a:pt x="78" y="469"/>
                  </a:lnTo>
                  <a:lnTo>
                    <a:pt x="80" y="476"/>
                  </a:lnTo>
                  <a:lnTo>
                    <a:pt x="81" y="484"/>
                  </a:lnTo>
                  <a:lnTo>
                    <a:pt x="83" y="492"/>
                  </a:lnTo>
                  <a:lnTo>
                    <a:pt x="84" y="500"/>
                  </a:lnTo>
                  <a:lnTo>
                    <a:pt x="87" y="508"/>
                  </a:lnTo>
                  <a:lnTo>
                    <a:pt x="89" y="517"/>
                  </a:lnTo>
                  <a:lnTo>
                    <a:pt x="90" y="525"/>
                  </a:lnTo>
                  <a:lnTo>
                    <a:pt x="91" y="533"/>
                  </a:lnTo>
                  <a:lnTo>
                    <a:pt x="92" y="541"/>
                  </a:lnTo>
                  <a:lnTo>
                    <a:pt x="94" y="548"/>
                  </a:lnTo>
                  <a:lnTo>
                    <a:pt x="94" y="553"/>
                  </a:lnTo>
                  <a:lnTo>
                    <a:pt x="94" y="562"/>
                  </a:lnTo>
                  <a:lnTo>
                    <a:pt x="94" y="566"/>
                  </a:lnTo>
                  <a:lnTo>
                    <a:pt x="94" y="573"/>
                  </a:lnTo>
                  <a:lnTo>
                    <a:pt x="94" y="578"/>
                  </a:lnTo>
                  <a:lnTo>
                    <a:pt x="95" y="583"/>
                  </a:lnTo>
                  <a:lnTo>
                    <a:pt x="94" y="590"/>
                  </a:lnTo>
                  <a:lnTo>
                    <a:pt x="94" y="597"/>
                  </a:lnTo>
                  <a:lnTo>
                    <a:pt x="94" y="601"/>
                  </a:lnTo>
                  <a:lnTo>
                    <a:pt x="94" y="603"/>
                  </a:lnTo>
                  <a:lnTo>
                    <a:pt x="119" y="618"/>
                  </a:lnTo>
                  <a:lnTo>
                    <a:pt x="68" y="608"/>
                  </a:lnTo>
                  <a:lnTo>
                    <a:pt x="28" y="605"/>
                  </a:lnTo>
                  <a:lnTo>
                    <a:pt x="31" y="594"/>
                  </a:lnTo>
                  <a:lnTo>
                    <a:pt x="32" y="583"/>
                  </a:lnTo>
                  <a:lnTo>
                    <a:pt x="33" y="574"/>
                  </a:lnTo>
                  <a:lnTo>
                    <a:pt x="34" y="563"/>
                  </a:lnTo>
                  <a:lnTo>
                    <a:pt x="34" y="552"/>
                  </a:lnTo>
                  <a:lnTo>
                    <a:pt x="35" y="543"/>
                  </a:lnTo>
                  <a:lnTo>
                    <a:pt x="35" y="533"/>
                  </a:lnTo>
                  <a:lnTo>
                    <a:pt x="36" y="523"/>
                  </a:lnTo>
                  <a:lnTo>
                    <a:pt x="35" y="512"/>
                  </a:lnTo>
                  <a:lnTo>
                    <a:pt x="35" y="503"/>
                  </a:lnTo>
                  <a:lnTo>
                    <a:pt x="35" y="493"/>
                  </a:lnTo>
                  <a:lnTo>
                    <a:pt x="35" y="484"/>
                  </a:lnTo>
                  <a:lnTo>
                    <a:pt x="35" y="473"/>
                  </a:lnTo>
                  <a:lnTo>
                    <a:pt x="35" y="463"/>
                  </a:lnTo>
                  <a:lnTo>
                    <a:pt x="35" y="452"/>
                  </a:lnTo>
                  <a:lnTo>
                    <a:pt x="36" y="443"/>
                  </a:lnTo>
                  <a:lnTo>
                    <a:pt x="14" y="605"/>
                  </a:lnTo>
                  <a:lnTo>
                    <a:pt x="7" y="611"/>
                  </a:lnTo>
                  <a:lnTo>
                    <a:pt x="0" y="631"/>
                  </a:lnTo>
                  <a:lnTo>
                    <a:pt x="77" y="660"/>
                  </a:lnTo>
                  <a:lnTo>
                    <a:pt x="77" y="66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68400" y="4161960"/>
              <a:ext cx="195480" cy="433080"/>
            </a:xfrm>
            <a:custGeom>
              <a:avLst/>
              <a:gdLst/>
              <a:ahLst/>
              <a:rect l="l" t="t" r="r" b="b"/>
              <a:pathLst>
                <a:path w="129" h="287">
                  <a:moveTo>
                    <a:pt x="106" y="0"/>
                  </a:moveTo>
                  <a:lnTo>
                    <a:pt x="106" y="2"/>
                  </a:lnTo>
                  <a:lnTo>
                    <a:pt x="107" y="6"/>
                  </a:lnTo>
                  <a:lnTo>
                    <a:pt x="107" y="10"/>
                  </a:lnTo>
                  <a:lnTo>
                    <a:pt x="107" y="15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7" y="32"/>
                  </a:lnTo>
                  <a:lnTo>
                    <a:pt x="107" y="40"/>
                  </a:lnTo>
                  <a:lnTo>
                    <a:pt x="106" y="47"/>
                  </a:lnTo>
                  <a:lnTo>
                    <a:pt x="106" y="56"/>
                  </a:lnTo>
                  <a:lnTo>
                    <a:pt x="103" y="63"/>
                  </a:lnTo>
                  <a:lnTo>
                    <a:pt x="102" y="73"/>
                  </a:lnTo>
                  <a:lnTo>
                    <a:pt x="100" y="82"/>
                  </a:lnTo>
                  <a:lnTo>
                    <a:pt x="98" y="93"/>
                  </a:lnTo>
                  <a:lnTo>
                    <a:pt x="94" y="103"/>
                  </a:lnTo>
                  <a:lnTo>
                    <a:pt x="91" y="112"/>
                  </a:lnTo>
                  <a:lnTo>
                    <a:pt x="86" y="123"/>
                  </a:lnTo>
                  <a:lnTo>
                    <a:pt x="82" y="134"/>
                  </a:lnTo>
                  <a:lnTo>
                    <a:pt x="78" y="144"/>
                  </a:lnTo>
                  <a:lnTo>
                    <a:pt x="73" y="155"/>
                  </a:lnTo>
                  <a:lnTo>
                    <a:pt x="68" y="164"/>
                  </a:lnTo>
                  <a:lnTo>
                    <a:pt x="65" y="174"/>
                  </a:lnTo>
                  <a:lnTo>
                    <a:pt x="60" y="182"/>
                  </a:lnTo>
                  <a:lnTo>
                    <a:pt x="56" y="190"/>
                  </a:lnTo>
                  <a:lnTo>
                    <a:pt x="51" y="197"/>
                  </a:lnTo>
                  <a:lnTo>
                    <a:pt x="49" y="202"/>
                  </a:lnTo>
                  <a:lnTo>
                    <a:pt x="46" y="208"/>
                  </a:lnTo>
                  <a:lnTo>
                    <a:pt x="44" y="212"/>
                  </a:lnTo>
                  <a:lnTo>
                    <a:pt x="43" y="213"/>
                  </a:lnTo>
                  <a:lnTo>
                    <a:pt x="43" y="215"/>
                  </a:lnTo>
                  <a:lnTo>
                    <a:pt x="88" y="245"/>
                  </a:lnTo>
                  <a:lnTo>
                    <a:pt x="31" y="226"/>
                  </a:lnTo>
                  <a:lnTo>
                    <a:pt x="27" y="241"/>
                  </a:lnTo>
                  <a:lnTo>
                    <a:pt x="1" y="268"/>
                  </a:lnTo>
                  <a:lnTo>
                    <a:pt x="0" y="269"/>
                  </a:lnTo>
                  <a:lnTo>
                    <a:pt x="2" y="275"/>
                  </a:lnTo>
                  <a:lnTo>
                    <a:pt x="4" y="278"/>
                  </a:lnTo>
                  <a:lnTo>
                    <a:pt x="10" y="282"/>
                  </a:lnTo>
                  <a:lnTo>
                    <a:pt x="13" y="282"/>
                  </a:lnTo>
                  <a:lnTo>
                    <a:pt x="16" y="283"/>
                  </a:lnTo>
                  <a:lnTo>
                    <a:pt x="21" y="284"/>
                  </a:lnTo>
                  <a:lnTo>
                    <a:pt x="27" y="286"/>
                  </a:lnTo>
                  <a:lnTo>
                    <a:pt x="32" y="286"/>
                  </a:lnTo>
                  <a:lnTo>
                    <a:pt x="39" y="286"/>
                  </a:lnTo>
                  <a:lnTo>
                    <a:pt x="46" y="286"/>
                  </a:lnTo>
                  <a:lnTo>
                    <a:pt x="54" y="287"/>
                  </a:lnTo>
                  <a:lnTo>
                    <a:pt x="61" y="286"/>
                  </a:lnTo>
                  <a:lnTo>
                    <a:pt x="70" y="286"/>
                  </a:lnTo>
                  <a:lnTo>
                    <a:pt x="77" y="284"/>
                  </a:lnTo>
                  <a:lnTo>
                    <a:pt x="85" y="284"/>
                  </a:lnTo>
                  <a:lnTo>
                    <a:pt x="92" y="284"/>
                  </a:lnTo>
                  <a:lnTo>
                    <a:pt x="99" y="283"/>
                  </a:lnTo>
                  <a:lnTo>
                    <a:pt x="105" y="283"/>
                  </a:lnTo>
                  <a:lnTo>
                    <a:pt x="110" y="283"/>
                  </a:lnTo>
                  <a:lnTo>
                    <a:pt x="114" y="282"/>
                  </a:lnTo>
                  <a:lnTo>
                    <a:pt x="117" y="282"/>
                  </a:lnTo>
                  <a:lnTo>
                    <a:pt x="120" y="282"/>
                  </a:lnTo>
                  <a:lnTo>
                    <a:pt x="121" y="282"/>
                  </a:lnTo>
                  <a:lnTo>
                    <a:pt x="129" y="252"/>
                  </a:lnTo>
                  <a:lnTo>
                    <a:pt x="120" y="231"/>
                  </a:lnTo>
                  <a:lnTo>
                    <a:pt x="118" y="228"/>
                  </a:lnTo>
                  <a:lnTo>
                    <a:pt x="118" y="222"/>
                  </a:lnTo>
                  <a:lnTo>
                    <a:pt x="117" y="216"/>
                  </a:lnTo>
                  <a:lnTo>
                    <a:pt x="117" y="211"/>
                  </a:lnTo>
                  <a:lnTo>
                    <a:pt x="117" y="205"/>
                  </a:lnTo>
                  <a:lnTo>
                    <a:pt x="117" y="198"/>
                  </a:lnTo>
                  <a:lnTo>
                    <a:pt x="117" y="190"/>
                  </a:lnTo>
                  <a:lnTo>
                    <a:pt x="117" y="183"/>
                  </a:lnTo>
                  <a:lnTo>
                    <a:pt x="117" y="175"/>
                  </a:lnTo>
                  <a:lnTo>
                    <a:pt x="117" y="168"/>
                  </a:lnTo>
                  <a:lnTo>
                    <a:pt x="117" y="160"/>
                  </a:lnTo>
                  <a:lnTo>
                    <a:pt x="117" y="153"/>
                  </a:lnTo>
                  <a:lnTo>
                    <a:pt x="118" y="145"/>
                  </a:lnTo>
                  <a:lnTo>
                    <a:pt x="120" y="140"/>
                  </a:lnTo>
                  <a:lnTo>
                    <a:pt x="120" y="131"/>
                  </a:lnTo>
                  <a:lnTo>
                    <a:pt x="120" y="126"/>
                  </a:lnTo>
                  <a:lnTo>
                    <a:pt x="120" y="121"/>
                  </a:lnTo>
                  <a:lnTo>
                    <a:pt x="121" y="115"/>
                  </a:lnTo>
                  <a:lnTo>
                    <a:pt x="122" y="106"/>
                  </a:lnTo>
                  <a:lnTo>
                    <a:pt x="123" y="96"/>
                  </a:lnTo>
                  <a:lnTo>
                    <a:pt x="124" y="88"/>
                  </a:lnTo>
                  <a:lnTo>
                    <a:pt x="124" y="80"/>
                  </a:lnTo>
                  <a:lnTo>
                    <a:pt x="124" y="71"/>
                  </a:lnTo>
                  <a:lnTo>
                    <a:pt x="124" y="62"/>
                  </a:lnTo>
                  <a:lnTo>
                    <a:pt x="122" y="56"/>
                  </a:lnTo>
                  <a:lnTo>
                    <a:pt x="121" y="51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7" y="36"/>
                  </a:lnTo>
                  <a:lnTo>
                    <a:pt x="116" y="30"/>
                  </a:lnTo>
                  <a:lnTo>
                    <a:pt x="114" y="26"/>
                  </a:lnTo>
                  <a:lnTo>
                    <a:pt x="113" y="21"/>
                  </a:lnTo>
                  <a:lnTo>
                    <a:pt x="109" y="13"/>
                  </a:lnTo>
                  <a:lnTo>
                    <a:pt x="107" y="6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501240" y="3756240"/>
              <a:ext cx="915840" cy="793080"/>
            </a:xfrm>
            <a:custGeom>
              <a:avLst/>
              <a:gdLst/>
              <a:ahLst/>
              <a:rect l="l" t="t" r="r" b="b"/>
              <a:pathLst>
                <a:path w="603" h="526">
                  <a:moveTo>
                    <a:pt x="600" y="65"/>
                  </a:moveTo>
                  <a:lnTo>
                    <a:pt x="603" y="4"/>
                  </a:lnTo>
                  <a:lnTo>
                    <a:pt x="566" y="0"/>
                  </a:lnTo>
                  <a:lnTo>
                    <a:pt x="509" y="18"/>
                  </a:lnTo>
                  <a:lnTo>
                    <a:pt x="502" y="45"/>
                  </a:lnTo>
                  <a:lnTo>
                    <a:pt x="501" y="45"/>
                  </a:lnTo>
                  <a:lnTo>
                    <a:pt x="500" y="45"/>
                  </a:lnTo>
                  <a:lnTo>
                    <a:pt x="497" y="45"/>
                  </a:lnTo>
                  <a:lnTo>
                    <a:pt x="493" y="47"/>
                  </a:lnTo>
                  <a:lnTo>
                    <a:pt x="487" y="47"/>
                  </a:lnTo>
                  <a:lnTo>
                    <a:pt x="483" y="47"/>
                  </a:lnTo>
                  <a:lnTo>
                    <a:pt x="476" y="48"/>
                  </a:lnTo>
                  <a:lnTo>
                    <a:pt x="470" y="51"/>
                  </a:lnTo>
                  <a:lnTo>
                    <a:pt x="462" y="52"/>
                  </a:lnTo>
                  <a:lnTo>
                    <a:pt x="455" y="54"/>
                  </a:lnTo>
                  <a:lnTo>
                    <a:pt x="445" y="56"/>
                  </a:lnTo>
                  <a:lnTo>
                    <a:pt x="437" y="59"/>
                  </a:lnTo>
                  <a:lnTo>
                    <a:pt x="427" y="62"/>
                  </a:lnTo>
                  <a:lnTo>
                    <a:pt x="419" y="66"/>
                  </a:lnTo>
                  <a:lnTo>
                    <a:pt x="409" y="70"/>
                  </a:lnTo>
                  <a:lnTo>
                    <a:pt x="400" y="74"/>
                  </a:lnTo>
                  <a:lnTo>
                    <a:pt x="391" y="78"/>
                  </a:lnTo>
                  <a:lnTo>
                    <a:pt x="380" y="84"/>
                  </a:lnTo>
                  <a:lnTo>
                    <a:pt x="372" y="88"/>
                  </a:lnTo>
                  <a:lnTo>
                    <a:pt x="363" y="93"/>
                  </a:lnTo>
                  <a:lnTo>
                    <a:pt x="353" y="99"/>
                  </a:lnTo>
                  <a:lnTo>
                    <a:pt x="345" y="104"/>
                  </a:lnTo>
                  <a:lnTo>
                    <a:pt x="338" y="110"/>
                  </a:lnTo>
                  <a:lnTo>
                    <a:pt x="331" y="114"/>
                  </a:lnTo>
                  <a:lnTo>
                    <a:pt x="324" y="118"/>
                  </a:lnTo>
                  <a:lnTo>
                    <a:pt x="318" y="122"/>
                  </a:lnTo>
                  <a:lnTo>
                    <a:pt x="313" y="126"/>
                  </a:lnTo>
                  <a:lnTo>
                    <a:pt x="309" y="130"/>
                  </a:lnTo>
                  <a:lnTo>
                    <a:pt x="302" y="134"/>
                  </a:lnTo>
                  <a:lnTo>
                    <a:pt x="301" y="137"/>
                  </a:lnTo>
                  <a:lnTo>
                    <a:pt x="201" y="238"/>
                  </a:lnTo>
                  <a:lnTo>
                    <a:pt x="201" y="238"/>
                  </a:lnTo>
                  <a:lnTo>
                    <a:pt x="199" y="238"/>
                  </a:lnTo>
                  <a:lnTo>
                    <a:pt x="196" y="238"/>
                  </a:lnTo>
                  <a:lnTo>
                    <a:pt x="193" y="241"/>
                  </a:lnTo>
                  <a:lnTo>
                    <a:pt x="187" y="245"/>
                  </a:lnTo>
                  <a:lnTo>
                    <a:pt x="180" y="252"/>
                  </a:lnTo>
                  <a:lnTo>
                    <a:pt x="175" y="256"/>
                  </a:lnTo>
                  <a:lnTo>
                    <a:pt x="172" y="261"/>
                  </a:lnTo>
                  <a:lnTo>
                    <a:pt x="165" y="268"/>
                  </a:lnTo>
                  <a:lnTo>
                    <a:pt x="160" y="276"/>
                  </a:lnTo>
                  <a:lnTo>
                    <a:pt x="152" y="284"/>
                  </a:lnTo>
                  <a:lnTo>
                    <a:pt x="145" y="294"/>
                  </a:lnTo>
                  <a:lnTo>
                    <a:pt x="138" y="304"/>
                  </a:lnTo>
                  <a:lnTo>
                    <a:pt x="130" y="316"/>
                  </a:lnTo>
                  <a:lnTo>
                    <a:pt x="122" y="325"/>
                  </a:lnTo>
                  <a:lnTo>
                    <a:pt x="115" y="338"/>
                  </a:lnTo>
                  <a:lnTo>
                    <a:pt x="107" y="349"/>
                  </a:lnTo>
                  <a:lnTo>
                    <a:pt x="100" y="359"/>
                  </a:lnTo>
                  <a:lnTo>
                    <a:pt x="91" y="369"/>
                  </a:lnTo>
                  <a:lnTo>
                    <a:pt x="84" y="380"/>
                  </a:lnTo>
                  <a:lnTo>
                    <a:pt x="79" y="387"/>
                  </a:lnTo>
                  <a:lnTo>
                    <a:pt x="74" y="396"/>
                  </a:lnTo>
                  <a:lnTo>
                    <a:pt x="71" y="402"/>
                  </a:lnTo>
                  <a:lnTo>
                    <a:pt x="67" y="407"/>
                  </a:lnTo>
                  <a:lnTo>
                    <a:pt x="65" y="410"/>
                  </a:lnTo>
                  <a:lnTo>
                    <a:pt x="65" y="411"/>
                  </a:lnTo>
                  <a:lnTo>
                    <a:pt x="45" y="420"/>
                  </a:lnTo>
                  <a:lnTo>
                    <a:pt x="0" y="493"/>
                  </a:lnTo>
                  <a:lnTo>
                    <a:pt x="34" y="510"/>
                  </a:lnTo>
                  <a:lnTo>
                    <a:pt x="80" y="526"/>
                  </a:lnTo>
                  <a:lnTo>
                    <a:pt x="109" y="510"/>
                  </a:lnTo>
                  <a:lnTo>
                    <a:pt x="130" y="488"/>
                  </a:lnTo>
                  <a:lnTo>
                    <a:pt x="130" y="471"/>
                  </a:lnTo>
                  <a:lnTo>
                    <a:pt x="195" y="422"/>
                  </a:lnTo>
                  <a:lnTo>
                    <a:pt x="235" y="407"/>
                  </a:lnTo>
                  <a:lnTo>
                    <a:pt x="237" y="406"/>
                  </a:lnTo>
                  <a:lnTo>
                    <a:pt x="243" y="406"/>
                  </a:lnTo>
                  <a:lnTo>
                    <a:pt x="246" y="405"/>
                  </a:lnTo>
                  <a:lnTo>
                    <a:pt x="252" y="405"/>
                  </a:lnTo>
                  <a:lnTo>
                    <a:pt x="256" y="405"/>
                  </a:lnTo>
                  <a:lnTo>
                    <a:pt x="263" y="405"/>
                  </a:lnTo>
                  <a:lnTo>
                    <a:pt x="268" y="405"/>
                  </a:lnTo>
                  <a:lnTo>
                    <a:pt x="275" y="405"/>
                  </a:lnTo>
                  <a:lnTo>
                    <a:pt x="282" y="405"/>
                  </a:lnTo>
                  <a:lnTo>
                    <a:pt x="289" y="405"/>
                  </a:lnTo>
                  <a:lnTo>
                    <a:pt x="296" y="403"/>
                  </a:lnTo>
                  <a:lnTo>
                    <a:pt x="302" y="403"/>
                  </a:lnTo>
                  <a:lnTo>
                    <a:pt x="309" y="403"/>
                  </a:lnTo>
                  <a:lnTo>
                    <a:pt x="317" y="403"/>
                  </a:lnTo>
                  <a:lnTo>
                    <a:pt x="323" y="402"/>
                  </a:lnTo>
                  <a:lnTo>
                    <a:pt x="329" y="402"/>
                  </a:lnTo>
                  <a:lnTo>
                    <a:pt x="334" y="402"/>
                  </a:lnTo>
                  <a:lnTo>
                    <a:pt x="341" y="402"/>
                  </a:lnTo>
                  <a:lnTo>
                    <a:pt x="345" y="402"/>
                  </a:lnTo>
                  <a:lnTo>
                    <a:pt x="351" y="402"/>
                  </a:lnTo>
                  <a:lnTo>
                    <a:pt x="356" y="400"/>
                  </a:lnTo>
                  <a:lnTo>
                    <a:pt x="362" y="399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4" y="395"/>
                  </a:lnTo>
                  <a:lnTo>
                    <a:pt x="379" y="392"/>
                  </a:lnTo>
                  <a:lnTo>
                    <a:pt x="384" y="390"/>
                  </a:lnTo>
                  <a:lnTo>
                    <a:pt x="388" y="387"/>
                  </a:lnTo>
                  <a:lnTo>
                    <a:pt x="393" y="383"/>
                  </a:lnTo>
                  <a:lnTo>
                    <a:pt x="398" y="380"/>
                  </a:lnTo>
                  <a:lnTo>
                    <a:pt x="401" y="375"/>
                  </a:lnTo>
                  <a:lnTo>
                    <a:pt x="405" y="369"/>
                  </a:lnTo>
                  <a:lnTo>
                    <a:pt x="408" y="362"/>
                  </a:lnTo>
                  <a:lnTo>
                    <a:pt x="413" y="357"/>
                  </a:lnTo>
                  <a:lnTo>
                    <a:pt x="416" y="351"/>
                  </a:lnTo>
                  <a:lnTo>
                    <a:pt x="421" y="344"/>
                  </a:lnTo>
                  <a:lnTo>
                    <a:pt x="426" y="339"/>
                  </a:lnTo>
                  <a:lnTo>
                    <a:pt x="430" y="332"/>
                  </a:lnTo>
                  <a:lnTo>
                    <a:pt x="434" y="325"/>
                  </a:lnTo>
                  <a:lnTo>
                    <a:pt x="437" y="320"/>
                  </a:lnTo>
                  <a:lnTo>
                    <a:pt x="442" y="313"/>
                  </a:lnTo>
                  <a:lnTo>
                    <a:pt x="445" y="306"/>
                  </a:lnTo>
                  <a:lnTo>
                    <a:pt x="450" y="299"/>
                  </a:lnTo>
                  <a:lnTo>
                    <a:pt x="454" y="295"/>
                  </a:lnTo>
                  <a:lnTo>
                    <a:pt x="457" y="290"/>
                  </a:lnTo>
                  <a:lnTo>
                    <a:pt x="462" y="286"/>
                  </a:lnTo>
                  <a:lnTo>
                    <a:pt x="469" y="276"/>
                  </a:lnTo>
                  <a:lnTo>
                    <a:pt x="476" y="271"/>
                  </a:lnTo>
                  <a:lnTo>
                    <a:pt x="480" y="264"/>
                  </a:lnTo>
                  <a:lnTo>
                    <a:pt x="486" y="261"/>
                  </a:lnTo>
                  <a:lnTo>
                    <a:pt x="490" y="258"/>
                  </a:lnTo>
                  <a:lnTo>
                    <a:pt x="494" y="258"/>
                  </a:lnTo>
                  <a:lnTo>
                    <a:pt x="495" y="257"/>
                  </a:lnTo>
                  <a:lnTo>
                    <a:pt x="497" y="257"/>
                  </a:lnTo>
                  <a:lnTo>
                    <a:pt x="497" y="256"/>
                  </a:lnTo>
                  <a:lnTo>
                    <a:pt x="497" y="254"/>
                  </a:lnTo>
                  <a:lnTo>
                    <a:pt x="494" y="252"/>
                  </a:lnTo>
                  <a:lnTo>
                    <a:pt x="494" y="250"/>
                  </a:lnTo>
                  <a:lnTo>
                    <a:pt x="492" y="246"/>
                  </a:lnTo>
                  <a:lnTo>
                    <a:pt x="491" y="242"/>
                  </a:lnTo>
                  <a:lnTo>
                    <a:pt x="487" y="235"/>
                  </a:lnTo>
                  <a:lnTo>
                    <a:pt x="486" y="228"/>
                  </a:lnTo>
                  <a:lnTo>
                    <a:pt x="484" y="222"/>
                  </a:lnTo>
                  <a:lnTo>
                    <a:pt x="481" y="216"/>
                  </a:lnTo>
                  <a:lnTo>
                    <a:pt x="478" y="208"/>
                  </a:lnTo>
                  <a:lnTo>
                    <a:pt x="477" y="204"/>
                  </a:lnTo>
                  <a:lnTo>
                    <a:pt x="476" y="201"/>
                  </a:lnTo>
                  <a:lnTo>
                    <a:pt x="476" y="198"/>
                  </a:lnTo>
                  <a:lnTo>
                    <a:pt x="479" y="196"/>
                  </a:lnTo>
                  <a:lnTo>
                    <a:pt x="485" y="189"/>
                  </a:lnTo>
                  <a:lnTo>
                    <a:pt x="492" y="183"/>
                  </a:lnTo>
                  <a:lnTo>
                    <a:pt x="497" y="178"/>
                  </a:lnTo>
                  <a:lnTo>
                    <a:pt x="500" y="174"/>
                  </a:lnTo>
                  <a:lnTo>
                    <a:pt x="505" y="170"/>
                  </a:lnTo>
                  <a:lnTo>
                    <a:pt x="509" y="166"/>
                  </a:lnTo>
                  <a:lnTo>
                    <a:pt x="513" y="161"/>
                  </a:lnTo>
                  <a:lnTo>
                    <a:pt x="518" y="159"/>
                  </a:lnTo>
                  <a:lnTo>
                    <a:pt x="521" y="153"/>
                  </a:lnTo>
                  <a:lnTo>
                    <a:pt x="526" y="151"/>
                  </a:lnTo>
                  <a:lnTo>
                    <a:pt x="532" y="141"/>
                  </a:lnTo>
                  <a:lnTo>
                    <a:pt x="538" y="134"/>
                  </a:lnTo>
                  <a:lnTo>
                    <a:pt x="543" y="129"/>
                  </a:lnTo>
                  <a:lnTo>
                    <a:pt x="547" y="125"/>
                  </a:lnTo>
                  <a:lnTo>
                    <a:pt x="551" y="118"/>
                  </a:lnTo>
                  <a:lnTo>
                    <a:pt x="554" y="116"/>
                  </a:lnTo>
                  <a:lnTo>
                    <a:pt x="570" y="119"/>
                  </a:lnTo>
                  <a:lnTo>
                    <a:pt x="600" y="116"/>
                  </a:lnTo>
                  <a:lnTo>
                    <a:pt x="600" y="65"/>
                  </a:lnTo>
                  <a:lnTo>
                    <a:pt x="600" y="65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513120" y="3804480"/>
              <a:ext cx="915840" cy="757080"/>
            </a:xfrm>
            <a:custGeom>
              <a:avLst/>
              <a:gdLst/>
              <a:ahLst/>
              <a:rect l="l" t="t" r="r" b="b"/>
              <a:pathLst>
                <a:path w="603" h="502">
                  <a:moveTo>
                    <a:pt x="0" y="468"/>
                  </a:moveTo>
                  <a:lnTo>
                    <a:pt x="63" y="483"/>
                  </a:lnTo>
                  <a:lnTo>
                    <a:pt x="64" y="482"/>
                  </a:lnTo>
                  <a:lnTo>
                    <a:pt x="67" y="480"/>
                  </a:lnTo>
                  <a:lnTo>
                    <a:pt x="68" y="478"/>
                  </a:lnTo>
                  <a:lnTo>
                    <a:pt x="70" y="476"/>
                  </a:lnTo>
                  <a:lnTo>
                    <a:pt x="71" y="472"/>
                  </a:lnTo>
                  <a:lnTo>
                    <a:pt x="71" y="468"/>
                  </a:lnTo>
                  <a:lnTo>
                    <a:pt x="68" y="461"/>
                  </a:lnTo>
                  <a:lnTo>
                    <a:pt x="65" y="454"/>
                  </a:lnTo>
                  <a:lnTo>
                    <a:pt x="61" y="448"/>
                  </a:lnTo>
                  <a:lnTo>
                    <a:pt x="59" y="441"/>
                  </a:lnTo>
                  <a:lnTo>
                    <a:pt x="56" y="433"/>
                  </a:lnTo>
                  <a:lnTo>
                    <a:pt x="53" y="429"/>
                  </a:lnTo>
                  <a:lnTo>
                    <a:pt x="53" y="424"/>
                  </a:lnTo>
                  <a:lnTo>
                    <a:pt x="56" y="423"/>
                  </a:lnTo>
                  <a:lnTo>
                    <a:pt x="58" y="423"/>
                  </a:lnTo>
                  <a:lnTo>
                    <a:pt x="63" y="427"/>
                  </a:lnTo>
                  <a:lnTo>
                    <a:pt x="67" y="431"/>
                  </a:lnTo>
                  <a:lnTo>
                    <a:pt x="74" y="437"/>
                  </a:lnTo>
                  <a:lnTo>
                    <a:pt x="80" y="441"/>
                  </a:lnTo>
                  <a:lnTo>
                    <a:pt x="86" y="445"/>
                  </a:lnTo>
                  <a:lnTo>
                    <a:pt x="89" y="448"/>
                  </a:lnTo>
                  <a:lnTo>
                    <a:pt x="94" y="449"/>
                  </a:lnTo>
                  <a:lnTo>
                    <a:pt x="94" y="445"/>
                  </a:lnTo>
                  <a:lnTo>
                    <a:pt x="93" y="441"/>
                  </a:lnTo>
                  <a:lnTo>
                    <a:pt x="89" y="434"/>
                  </a:lnTo>
                  <a:lnTo>
                    <a:pt x="87" y="430"/>
                  </a:lnTo>
                  <a:lnTo>
                    <a:pt x="83" y="422"/>
                  </a:lnTo>
                  <a:lnTo>
                    <a:pt x="81" y="418"/>
                  </a:lnTo>
                  <a:lnTo>
                    <a:pt x="79" y="414"/>
                  </a:lnTo>
                  <a:lnTo>
                    <a:pt x="79" y="412"/>
                  </a:lnTo>
                  <a:lnTo>
                    <a:pt x="110" y="392"/>
                  </a:lnTo>
                  <a:lnTo>
                    <a:pt x="111" y="390"/>
                  </a:lnTo>
                  <a:lnTo>
                    <a:pt x="117" y="388"/>
                  </a:lnTo>
                  <a:lnTo>
                    <a:pt x="122" y="385"/>
                  </a:lnTo>
                  <a:lnTo>
                    <a:pt x="125" y="383"/>
                  </a:lnTo>
                  <a:lnTo>
                    <a:pt x="130" y="381"/>
                  </a:lnTo>
                  <a:lnTo>
                    <a:pt x="136" y="379"/>
                  </a:lnTo>
                  <a:lnTo>
                    <a:pt x="141" y="377"/>
                  </a:lnTo>
                  <a:lnTo>
                    <a:pt x="144" y="374"/>
                  </a:lnTo>
                  <a:lnTo>
                    <a:pt x="149" y="371"/>
                  </a:lnTo>
                  <a:lnTo>
                    <a:pt x="153" y="368"/>
                  </a:lnTo>
                  <a:lnTo>
                    <a:pt x="158" y="364"/>
                  </a:lnTo>
                  <a:lnTo>
                    <a:pt x="159" y="362"/>
                  </a:lnTo>
                  <a:lnTo>
                    <a:pt x="157" y="359"/>
                  </a:lnTo>
                  <a:lnTo>
                    <a:pt x="152" y="358"/>
                  </a:lnTo>
                  <a:lnTo>
                    <a:pt x="145" y="358"/>
                  </a:lnTo>
                  <a:lnTo>
                    <a:pt x="138" y="358"/>
                  </a:lnTo>
                  <a:lnTo>
                    <a:pt x="131" y="356"/>
                  </a:lnTo>
                  <a:lnTo>
                    <a:pt x="125" y="355"/>
                  </a:lnTo>
                  <a:lnTo>
                    <a:pt x="121" y="353"/>
                  </a:lnTo>
                  <a:lnTo>
                    <a:pt x="118" y="352"/>
                  </a:lnTo>
                  <a:lnTo>
                    <a:pt x="118" y="349"/>
                  </a:lnTo>
                  <a:lnTo>
                    <a:pt x="121" y="348"/>
                  </a:lnTo>
                  <a:lnTo>
                    <a:pt x="124" y="345"/>
                  </a:lnTo>
                  <a:lnTo>
                    <a:pt x="131" y="343"/>
                  </a:lnTo>
                  <a:lnTo>
                    <a:pt x="137" y="338"/>
                  </a:lnTo>
                  <a:lnTo>
                    <a:pt x="144" y="336"/>
                  </a:lnTo>
                  <a:lnTo>
                    <a:pt x="152" y="333"/>
                  </a:lnTo>
                  <a:lnTo>
                    <a:pt x="159" y="332"/>
                  </a:lnTo>
                  <a:lnTo>
                    <a:pt x="164" y="329"/>
                  </a:lnTo>
                  <a:lnTo>
                    <a:pt x="170" y="327"/>
                  </a:lnTo>
                  <a:lnTo>
                    <a:pt x="173" y="325"/>
                  </a:lnTo>
                  <a:lnTo>
                    <a:pt x="177" y="325"/>
                  </a:lnTo>
                  <a:lnTo>
                    <a:pt x="180" y="323"/>
                  </a:lnTo>
                  <a:lnTo>
                    <a:pt x="185" y="322"/>
                  </a:lnTo>
                  <a:lnTo>
                    <a:pt x="189" y="321"/>
                  </a:lnTo>
                  <a:lnTo>
                    <a:pt x="195" y="318"/>
                  </a:lnTo>
                  <a:lnTo>
                    <a:pt x="201" y="315"/>
                  </a:lnTo>
                  <a:lnTo>
                    <a:pt x="208" y="311"/>
                  </a:lnTo>
                  <a:lnTo>
                    <a:pt x="216" y="308"/>
                  </a:lnTo>
                  <a:lnTo>
                    <a:pt x="223" y="306"/>
                  </a:lnTo>
                  <a:lnTo>
                    <a:pt x="229" y="302"/>
                  </a:lnTo>
                  <a:lnTo>
                    <a:pt x="235" y="299"/>
                  </a:lnTo>
                  <a:lnTo>
                    <a:pt x="238" y="297"/>
                  </a:lnTo>
                  <a:lnTo>
                    <a:pt x="239" y="297"/>
                  </a:lnTo>
                  <a:lnTo>
                    <a:pt x="238" y="296"/>
                  </a:lnTo>
                  <a:lnTo>
                    <a:pt x="235" y="293"/>
                  </a:lnTo>
                  <a:lnTo>
                    <a:pt x="230" y="288"/>
                  </a:lnTo>
                  <a:lnTo>
                    <a:pt x="226" y="284"/>
                  </a:lnTo>
                  <a:lnTo>
                    <a:pt x="220" y="278"/>
                  </a:lnTo>
                  <a:lnTo>
                    <a:pt x="216" y="273"/>
                  </a:lnTo>
                  <a:lnTo>
                    <a:pt x="214" y="266"/>
                  </a:lnTo>
                  <a:lnTo>
                    <a:pt x="214" y="261"/>
                  </a:lnTo>
                  <a:lnTo>
                    <a:pt x="216" y="255"/>
                  </a:lnTo>
                  <a:lnTo>
                    <a:pt x="221" y="251"/>
                  </a:lnTo>
                  <a:lnTo>
                    <a:pt x="227" y="247"/>
                  </a:lnTo>
                  <a:lnTo>
                    <a:pt x="234" y="246"/>
                  </a:lnTo>
                  <a:lnTo>
                    <a:pt x="239" y="243"/>
                  </a:lnTo>
                  <a:lnTo>
                    <a:pt x="245" y="241"/>
                  </a:lnTo>
                  <a:lnTo>
                    <a:pt x="250" y="241"/>
                  </a:lnTo>
                  <a:lnTo>
                    <a:pt x="252" y="241"/>
                  </a:lnTo>
                  <a:lnTo>
                    <a:pt x="263" y="308"/>
                  </a:lnTo>
                  <a:lnTo>
                    <a:pt x="288" y="281"/>
                  </a:lnTo>
                  <a:lnTo>
                    <a:pt x="279" y="263"/>
                  </a:lnTo>
                  <a:lnTo>
                    <a:pt x="306" y="267"/>
                  </a:lnTo>
                  <a:lnTo>
                    <a:pt x="306" y="266"/>
                  </a:lnTo>
                  <a:lnTo>
                    <a:pt x="308" y="263"/>
                  </a:lnTo>
                  <a:lnTo>
                    <a:pt x="310" y="258"/>
                  </a:lnTo>
                  <a:lnTo>
                    <a:pt x="313" y="251"/>
                  </a:lnTo>
                  <a:lnTo>
                    <a:pt x="315" y="246"/>
                  </a:lnTo>
                  <a:lnTo>
                    <a:pt x="316" y="241"/>
                  </a:lnTo>
                  <a:lnTo>
                    <a:pt x="317" y="236"/>
                  </a:lnTo>
                  <a:lnTo>
                    <a:pt x="320" y="232"/>
                  </a:lnTo>
                  <a:lnTo>
                    <a:pt x="320" y="226"/>
                  </a:lnTo>
                  <a:lnTo>
                    <a:pt x="322" y="221"/>
                  </a:lnTo>
                  <a:lnTo>
                    <a:pt x="322" y="214"/>
                  </a:lnTo>
                  <a:lnTo>
                    <a:pt x="323" y="209"/>
                  </a:lnTo>
                  <a:lnTo>
                    <a:pt x="323" y="200"/>
                  </a:lnTo>
                  <a:lnTo>
                    <a:pt x="323" y="194"/>
                  </a:lnTo>
                  <a:lnTo>
                    <a:pt x="323" y="185"/>
                  </a:lnTo>
                  <a:lnTo>
                    <a:pt x="323" y="179"/>
                  </a:lnTo>
                  <a:lnTo>
                    <a:pt x="323" y="172"/>
                  </a:lnTo>
                  <a:lnTo>
                    <a:pt x="322" y="164"/>
                  </a:lnTo>
                  <a:lnTo>
                    <a:pt x="322" y="157"/>
                  </a:lnTo>
                  <a:lnTo>
                    <a:pt x="322" y="151"/>
                  </a:lnTo>
                  <a:lnTo>
                    <a:pt x="320" y="145"/>
                  </a:lnTo>
                  <a:lnTo>
                    <a:pt x="320" y="139"/>
                  </a:lnTo>
                  <a:lnTo>
                    <a:pt x="319" y="134"/>
                  </a:lnTo>
                  <a:lnTo>
                    <a:pt x="319" y="131"/>
                  </a:lnTo>
                  <a:lnTo>
                    <a:pt x="317" y="125"/>
                  </a:lnTo>
                  <a:lnTo>
                    <a:pt x="317" y="124"/>
                  </a:lnTo>
                  <a:lnTo>
                    <a:pt x="320" y="124"/>
                  </a:lnTo>
                  <a:lnTo>
                    <a:pt x="324" y="124"/>
                  </a:lnTo>
                  <a:lnTo>
                    <a:pt x="327" y="124"/>
                  </a:lnTo>
                  <a:lnTo>
                    <a:pt x="331" y="125"/>
                  </a:lnTo>
                  <a:lnTo>
                    <a:pt x="335" y="127"/>
                  </a:lnTo>
                  <a:lnTo>
                    <a:pt x="340" y="129"/>
                  </a:lnTo>
                  <a:lnTo>
                    <a:pt x="347" y="135"/>
                  </a:lnTo>
                  <a:lnTo>
                    <a:pt x="352" y="142"/>
                  </a:lnTo>
                  <a:lnTo>
                    <a:pt x="356" y="147"/>
                  </a:lnTo>
                  <a:lnTo>
                    <a:pt x="358" y="151"/>
                  </a:lnTo>
                  <a:lnTo>
                    <a:pt x="359" y="147"/>
                  </a:lnTo>
                  <a:lnTo>
                    <a:pt x="361" y="142"/>
                  </a:lnTo>
                  <a:lnTo>
                    <a:pt x="361" y="136"/>
                  </a:lnTo>
                  <a:lnTo>
                    <a:pt x="361" y="132"/>
                  </a:lnTo>
                  <a:lnTo>
                    <a:pt x="359" y="127"/>
                  </a:lnTo>
                  <a:lnTo>
                    <a:pt x="358" y="121"/>
                  </a:lnTo>
                  <a:lnTo>
                    <a:pt x="356" y="116"/>
                  </a:lnTo>
                  <a:lnTo>
                    <a:pt x="351" y="110"/>
                  </a:lnTo>
                  <a:lnTo>
                    <a:pt x="348" y="105"/>
                  </a:lnTo>
                  <a:lnTo>
                    <a:pt x="344" y="102"/>
                  </a:lnTo>
                  <a:lnTo>
                    <a:pt x="337" y="94"/>
                  </a:lnTo>
                  <a:lnTo>
                    <a:pt x="335" y="93"/>
                  </a:lnTo>
                  <a:lnTo>
                    <a:pt x="336" y="91"/>
                  </a:lnTo>
                  <a:lnTo>
                    <a:pt x="343" y="89"/>
                  </a:lnTo>
                  <a:lnTo>
                    <a:pt x="348" y="87"/>
                  </a:lnTo>
                  <a:lnTo>
                    <a:pt x="354" y="84"/>
                  </a:lnTo>
                  <a:lnTo>
                    <a:pt x="357" y="84"/>
                  </a:lnTo>
                  <a:lnTo>
                    <a:pt x="361" y="83"/>
                  </a:lnTo>
                  <a:lnTo>
                    <a:pt x="364" y="82"/>
                  </a:lnTo>
                  <a:lnTo>
                    <a:pt x="369" y="82"/>
                  </a:lnTo>
                  <a:lnTo>
                    <a:pt x="372" y="80"/>
                  </a:lnTo>
                  <a:lnTo>
                    <a:pt x="377" y="79"/>
                  </a:lnTo>
                  <a:lnTo>
                    <a:pt x="380" y="78"/>
                  </a:lnTo>
                  <a:lnTo>
                    <a:pt x="385" y="78"/>
                  </a:lnTo>
                  <a:lnTo>
                    <a:pt x="390" y="76"/>
                  </a:lnTo>
                  <a:lnTo>
                    <a:pt x="393" y="76"/>
                  </a:lnTo>
                  <a:lnTo>
                    <a:pt x="398" y="76"/>
                  </a:lnTo>
                  <a:lnTo>
                    <a:pt x="402" y="76"/>
                  </a:lnTo>
                  <a:lnTo>
                    <a:pt x="411" y="76"/>
                  </a:lnTo>
                  <a:lnTo>
                    <a:pt x="418" y="79"/>
                  </a:lnTo>
                  <a:lnTo>
                    <a:pt x="423" y="82"/>
                  </a:lnTo>
                  <a:lnTo>
                    <a:pt x="429" y="90"/>
                  </a:lnTo>
                  <a:lnTo>
                    <a:pt x="432" y="95"/>
                  </a:lnTo>
                  <a:lnTo>
                    <a:pt x="434" y="104"/>
                  </a:lnTo>
                  <a:lnTo>
                    <a:pt x="434" y="112"/>
                  </a:lnTo>
                  <a:lnTo>
                    <a:pt x="436" y="121"/>
                  </a:lnTo>
                  <a:lnTo>
                    <a:pt x="436" y="129"/>
                  </a:lnTo>
                  <a:lnTo>
                    <a:pt x="437" y="136"/>
                  </a:lnTo>
                  <a:lnTo>
                    <a:pt x="440" y="142"/>
                  </a:lnTo>
                  <a:lnTo>
                    <a:pt x="444" y="145"/>
                  </a:lnTo>
                  <a:lnTo>
                    <a:pt x="448" y="143"/>
                  </a:lnTo>
                  <a:lnTo>
                    <a:pt x="456" y="139"/>
                  </a:lnTo>
                  <a:lnTo>
                    <a:pt x="458" y="135"/>
                  </a:lnTo>
                  <a:lnTo>
                    <a:pt x="463" y="132"/>
                  </a:lnTo>
                  <a:lnTo>
                    <a:pt x="468" y="128"/>
                  </a:lnTo>
                  <a:lnTo>
                    <a:pt x="471" y="124"/>
                  </a:lnTo>
                  <a:lnTo>
                    <a:pt x="475" y="120"/>
                  </a:lnTo>
                  <a:lnTo>
                    <a:pt x="478" y="114"/>
                  </a:lnTo>
                  <a:lnTo>
                    <a:pt x="482" y="109"/>
                  </a:lnTo>
                  <a:lnTo>
                    <a:pt x="486" y="105"/>
                  </a:lnTo>
                  <a:lnTo>
                    <a:pt x="491" y="95"/>
                  </a:lnTo>
                  <a:lnTo>
                    <a:pt x="494" y="87"/>
                  </a:lnTo>
                  <a:lnTo>
                    <a:pt x="496" y="79"/>
                  </a:lnTo>
                  <a:lnTo>
                    <a:pt x="496" y="74"/>
                  </a:lnTo>
                  <a:lnTo>
                    <a:pt x="494" y="67"/>
                  </a:lnTo>
                  <a:lnTo>
                    <a:pt x="492" y="64"/>
                  </a:lnTo>
                  <a:lnTo>
                    <a:pt x="487" y="60"/>
                  </a:lnTo>
                  <a:lnTo>
                    <a:pt x="486" y="58"/>
                  </a:lnTo>
                  <a:lnTo>
                    <a:pt x="490" y="57"/>
                  </a:lnTo>
                  <a:lnTo>
                    <a:pt x="497" y="58"/>
                  </a:lnTo>
                  <a:lnTo>
                    <a:pt x="501" y="58"/>
                  </a:lnTo>
                  <a:lnTo>
                    <a:pt x="506" y="58"/>
                  </a:lnTo>
                  <a:lnTo>
                    <a:pt x="510" y="57"/>
                  </a:lnTo>
                  <a:lnTo>
                    <a:pt x="513" y="57"/>
                  </a:lnTo>
                  <a:lnTo>
                    <a:pt x="514" y="50"/>
                  </a:lnTo>
                  <a:lnTo>
                    <a:pt x="513" y="43"/>
                  </a:lnTo>
                  <a:lnTo>
                    <a:pt x="512" y="37"/>
                  </a:lnTo>
                  <a:lnTo>
                    <a:pt x="511" y="35"/>
                  </a:lnTo>
                  <a:lnTo>
                    <a:pt x="530" y="54"/>
                  </a:lnTo>
                  <a:lnTo>
                    <a:pt x="530" y="53"/>
                  </a:lnTo>
                  <a:lnTo>
                    <a:pt x="530" y="49"/>
                  </a:lnTo>
                  <a:lnTo>
                    <a:pt x="530" y="43"/>
                  </a:lnTo>
                  <a:lnTo>
                    <a:pt x="530" y="38"/>
                  </a:lnTo>
                  <a:lnTo>
                    <a:pt x="530" y="30"/>
                  </a:lnTo>
                  <a:lnTo>
                    <a:pt x="532" y="24"/>
                  </a:lnTo>
                  <a:lnTo>
                    <a:pt x="533" y="20"/>
                  </a:lnTo>
                  <a:lnTo>
                    <a:pt x="535" y="19"/>
                  </a:lnTo>
                  <a:lnTo>
                    <a:pt x="536" y="19"/>
                  </a:lnTo>
                  <a:lnTo>
                    <a:pt x="539" y="22"/>
                  </a:lnTo>
                  <a:lnTo>
                    <a:pt x="541" y="27"/>
                  </a:lnTo>
                  <a:lnTo>
                    <a:pt x="546" y="34"/>
                  </a:lnTo>
                  <a:lnTo>
                    <a:pt x="547" y="39"/>
                  </a:lnTo>
                  <a:lnTo>
                    <a:pt x="550" y="45"/>
                  </a:lnTo>
                  <a:lnTo>
                    <a:pt x="554" y="49"/>
                  </a:lnTo>
                  <a:lnTo>
                    <a:pt x="556" y="52"/>
                  </a:lnTo>
                  <a:lnTo>
                    <a:pt x="562" y="50"/>
                  </a:lnTo>
                  <a:lnTo>
                    <a:pt x="568" y="48"/>
                  </a:lnTo>
                  <a:lnTo>
                    <a:pt x="575" y="42"/>
                  </a:lnTo>
                  <a:lnTo>
                    <a:pt x="581" y="35"/>
                  </a:lnTo>
                  <a:lnTo>
                    <a:pt x="583" y="28"/>
                  </a:lnTo>
                  <a:lnTo>
                    <a:pt x="585" y="23"/>
                  </a:lnTo>
                  <a:lnTo>
                    <a:pt x="588" y="18"/>
                  </a:lnTo>
                  <a:lnTo>
                    <a:pt x="590" y="12"/>
                  </a:lnTo>
                  <a:lnTo>
                    <a:pt x="590" y="7"/>
                  </a:lnTo>
                  <a:lnTo>
                    <a:pt x="592" y="3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5" y="37"/>
                  </a:lnTo>
                  <a:lnTo>
                    <a:pt x="603" y="67"/>
                  </a:lnTo>
                  <a:lnTo>
                    <a:pt x="598" y="86"/>
                  </a:lnTo>
                  <a:lnTo>
                    <a:pt x="583" y="90"/>
                  </a:lnTo>
                  <a:lnTo>
                    <a:pt x="570" y="98"/>
                  </a:lnTo>
                  <a:lnTo>
                    <a:pt x="550" y="93"/>
                  </a:lnTo>
                  <a:lnTo>
                    <a:pt x="549" y="94"/>
                  </a:lnTo>
                  <a:lnTo>
                    <a:pt x="546" y="98"/>
                  </a:lnTo>
                  <a:lnTo>
                    <a:pt x="542" y="101"/>
                  </a:lnTo>
                  <a:lnTo>
                    <a:pt x="539" y="106"/>
                  </a:lnTo>
                  <a:lnTo>
                    <a:pt x="533" y="112"/>
                  </a:lnTo>
                  <a:lnTo>
                    <a:pt x="527" y="120"/>
                  </a:lnTo>
                  <a:lnTo>
                    <a:pt x="522" y="123"/>
                  </a:lnTo>
                  <a:lnTo>
                    <a:pt x="518" y="127"/>
                  </a:lnTo>
                  <a:lnTo>
                    <a:pt x="513" y="131"/>
                  </a:lnTo>
                  <a:lnTo>
                    <a:pt x="510" y="136"/>
                  </a:lnTo>
                  <a:lnTo>
                    <a:pt x="505" y="139"/>
                  </a:lnTo>
                  <a:lnTo>
                    <a:pt x="501" y="145"/>
                  </a:lnTo>
                  <a:lnTo>
                    <a:pt x="497" y="149"/>
                  </a:lnTo>
                  <a:lnTo>
                    <a:pt x="492" y="153"/>
                  </a:lnTo>
                  <a:lnTo>
                    <a:pt x="485" y="160"/>
                  </a:lnTo>
                  <a:lnTo>
                    <a:pt x="479" y="166"/>
                  </a:lnTo>
                  <a:lnTo>
                    <a:pt x="476" y="170"/>
                  </a:lnTo>
                  <a:lnTo>
                    <a:pt x="475" y="172"/>
                  </a:lnTo>
                  <a:lnTo>
                    <a:pt x="478" y="175"/>
                  </a:lnTo>
                  <a:lnTo>
                    <a:pt x="478" y="176"/>
                  </a:lnTo>
                  <a:lnTo>
                    <a:pt x="480" y="180"/>
                  </a:lnTo>
                  <a:lnTo>
                    <a:pt x="482" y="184"/>
                  </a:lnTo>
                  <a:lnTo>
                    <a:pt x="484" y="188"/>
                  </a:lnTo>
                  <a:lnTo>
                    <a:pt x="485" y="194"/>
                  </a:lnTo>
                  <a:lnTo>
                    <a:pt x="486" y="200"/>
                  </a:lnTo>
                  <a:lnTo>
                    <a:pt x="486" y="206"/>
                  </a:lnTo>
                  <a:lnTo>
                    <a:pt x="487" y="211"/>
                  </a:lnTo>
                  <a:lnTo>
                    <a:pt x="487" y="216"/>
                  </a:lnTo>
                  <a:lnTo>
                    <a:pt x="489" y="221"/>
                  </a:lnTo>
                  <a:lnTo>
                    <a:pt x="489" y="224"/>
                  </a:lnTo>
                  <a:lnTo>
                    <a:pt x="489" y="225"/>
                  </a:lnTo>
                  <a:lnTo>
                    <a:pt x="471" y="239"/>
                  </a:lnTo>
                  <a:lnTo>
                    <a:pt x="470" y="240"/>
                  </a:lnTo>
                  <a:lnTo>
                    <a:pt x="465" y="244"/>
                  </a:lnTo>
                  <a:lnTo>
                    <a:pt x="463" y="247"/>
                  </a:lnTo>
                  <a:lnTo>
                    <a:pt x="461" y="251"/>
                  </a:lnTo>
                  <a:lnTo>
                    <a:pt x="457" y="255"/>
                  </a:lnTo>
                  <a:lnTo>
                    <a:pt x="455" y="261"/>
                  </a:lnTo>
                  <a:lnTo>
                    <a:pt x="452" y="266"/>
                  </a:lnTo>
                  <a:lnTo>
                    <a:pt x="449" y="272"/>
                  </a:lnTo>
                  <a:lnTo>
                    <a:pt x="446" y="277"/>
                  </a:lnTo>
                  <a:lnTo>
                    <a:pt x="442" y="285"/>
                  </a:lnTo>
                  <a:lnTo>
                    <a:pt x="437" y="292"/>
                  </a:lnTo>
                  <a:lnTo>
                    <a:pt x="434" y="300"/>
                  </a:lnTo>
                  <a:lnTo>
                    <a:pt x="429" y="307"/>
                  </a:lnTo>
                  <a:lnTo>
                    <a:pt x="426" y="315"/>
                  </a:lnTo>
                  <a:lnTo>
                    <a:pt x="421" y="322"/>
                  </a:lnTo>
                  <a:lnTo>
                    <a:pt x="415" y="329"/>
                  </a:lnTo>
                  <a:lnTo>
                    <a:pt x="411" y="336"/>
                  </a:lnTo>
                  <a:lnTo>
                    <a:pt x="405" y="343"/>
                  </a:lnTo>
                  <a:lnTo>
                    <a:pt x="398" y="349"/>
                  </a:lnTo>
                  <a:lnTo>
                    <a:pt x="392" y="355"/>
                  </a:lnTo>
                  <a:lnTo>
                    <a:pt x="385" y="360"/>
                  </a:lnTo>
                  <a:lnTo>
                    <a:pt x="379" y="366"/>
                  </a:lnTo>
                  <a:lnTo>
                    <a:pt x="371" y="370"/>
                  </a:lnTo>
                  <a:lnTo>
                    <a:pt x="364" y="373"/>
                  </a:lnTo>
                  <a:lnTo>
                    <a:pt x="359" y="374"/>
                  </a:lnTo>
                  <a:lnTo>
                    <a:pt x="355" y="375"/>
                  </a:lnTo>
                  <a:lnTo>
                    <a:pt x="350" y="375"/>
                  </a:lnTo>
                  <a:lnTo>
                    <a:pt x="347" y="378"/>
                  </a:lnTo>
                  <a:lnTo>
                    <a:pt x="341" y="378"/>
                  </a:lnTo>
                  <a:lnTo>
                    <a:pt x="336" y="378"/>
                  </a:lnTo>
                  <a:lnTo>
                    <a:pt x="331" y="378"/>
                  </a:lnTo>
                  <a:lnTo>
                    <a:pt x="327" y="379"/>
                  </a:lnTo>
                  <a:lnTo>
                    <a:pt x="322" y="379"/>
                  </a:lnTo>
                  <a:lnTo>
                    <a:pt x="317" y="379"/>
                  </a:lnTo>
                  <a:lnTo>
                    <a:pt x="312" y="379"/>
                  </a:lnTo>
                  <a:lnTo>
                    <a:pt x="307" y="379"/>
                  </a:lnTo>
                  <a:lnTo>
                    <a:pt x="301" y="379"/>
                  </a:lnTo>
                  <a:lnTo>
                    <a:pt x="297" y="378"/>
                  </a:lnTo>
                  <a:lnTo>
                    <a:pt x="290" y="378"/>
                  </a:lnTo>
                  <a:lnTo>
                    <a:pt x="286" y="378"/>
                  </a:lnTo>
                  <a:lnTo>
                    <a:pt x="280" y="377"/>
                  </a:lnTo>
                  <a:lnTo>
                    <a:pt x="276" y="377"/>
                  </a:lnTo>
                  <a:lnTo>
                    <a:pt x="271" y="375"/>
                  </a:lnTo>
                  <a:lnTo>
                    <a:pt x="266" y="375"/>
                  </a:lnTo>
                  <a:lnTo>
                    <a:pt x="263" y="375"/>
                  </a:lnTo>
                  <a:lnTo>
                    <a:pt x="258" y="374"/>
                  </a:lnTo>
                  <a:lnTo>
                    <a:pt x="255" y="373"/>
                  </a:lnTo>
                  <a:lnTo>
                    <a:pt x="252" y="373"/>
                  </a:lnTo>
                  <a:lnTo>
                    <a:pt x="248" y="373"/>
                  </a:lnTo>
                  <a:lnTo>
                    <a:pt x="248" y="373"/>
                  </a:lnTo>
                  <a:lnTo>
                    <a:pt x="250" y="373"/>
                  </a:lnTo>
                  <a:lnTo>
                    <a:pt x="256" y="373"/>
                  </a:lnTo>
                  <a:lnTo>
                    <a:pt x="260" y="371"/>
                  </a:lnTo>
                  <a:lnTo>
                    <a:pt x="265" y="370"/>
                  </a:lnTo>
                  <a:lnTo>
                    <a:pt x="270" y="367"/>
                  </a:lnTo>
                  <a:lnTo>
                    <a:pt x="276" y="366"/>
                  </a:lnTo>
                  <a:lnTo>
                    <a:pt x="279" y="362"/>
                  </a:lnTo>
                  <a:lnTo>
                    <a:pt x="283" y="358"/>
                  </a:lnTo>
                  <a:lnTo>
                    <a:pt x="285" y="353"/>
                  </a:lnTo>
                  <a:lnTo>
                    <a:pt x="288" y="349"/>
                  </a:lnTo>
                  <a:lnTo>
                    <a:pt x="291" y="341"/>
                  </a:lnTo>
                  <a:lnTo>
                    <a:pt x="292" y="337"/>
                  </a:lnTo>
                  <a:lnTo>
                    <a:pt x="288" y="336"/>
                  </a:lnTo>
                  <a:lnTo>
                    <a:pt x="283" y="340"/>
                  </a:lnTo>
                  <a:lnTo>
                    <a:pt x="276" y="345"/>
                  </a:lnTo>
                  <a:lnTo>
                    <a:pt x="269" y="351"/>
                  </a:lnTo>
                  <a:lnTo>
                    <a:pt x="265" y="352"/>
                  </a:lnTo>
                  <a:lnTo>
                    <a:pt x="260" y="355"/>
                  </a:lnTo>
                  <a:lnTo>
                    <a:pt x="257" y="355"/>
                  </a:lnTo>
                  <a:lnTo>
                    <a:pt x="255" y="356"/>
                  </a:lnTo>
                  <a:lnTo>
                    <a:pt x="248" y="358"/>
                  </a:lnTo>
                  <a:lnTo>
                    <a:pt x="243" y="358"/>
                  </a:lnTo>
                  <a:lnTo>
                    <a:pt x="238" y="360"/>
                  </a:lnTo>
                  <a:lnTo>
                    <a:pt x="234" y="366"/>
                  </a:lnTo>
                  <a:lnTo>
                    <a:pt x="230" y="370"/>
                  </a:lnTo>
                  <a:lnTo>
                    <a:pt x="227" y="375"/>
                  </a:lnTo>
                  <a:lnTo>
                    <a:pt x="223" y="378"/>
                  </a:lnTo>
                  <a:lnTo>
                    <a:pt x="217" y="381"/>
                  </a:lnTo>
                  <a:lnTo>
                    <a:pt x="213" y="383"/>
                  </a:lnTo>
                  <a:lnTo>
                    <a:pt x="208" y="388"/>
                  </a:lnTo>
                  <a:lnTo>
                    <a:pt x="201" y="392"/>
                  </a:lnTo>
                  <a:lnTo>
                    <a:pt x="195" y="398"/>
                  </a:lnTo>
                  <a:lnTo>
                    <a:pt x="189" y="401"/>
                  </a:lnTo>
                  <a:lnTo>
                    <a:pt x="185" y="404"/>
                  </a:lnTo>
                  <a:lnTo>
                    <a:pt x="179" y="407"/>
                  </a:lnTo>
                  <a:lnTo>
                    <a:pt x="174" y="412"/>
                  </a:lnTo>
                  <a:lnTo>
                    <a:pt x="168" y="415"/>
                  </a:lnTo>
                  <a:lnTo>
                    <a:pt x="164" y="419"/>
                  </a:lnTo>
                  <a:lnTo>
                    <a:pt x="159" y="422"/>
                  </a:lnTo>
                  <a:lnTo>
                    <a:pt x="154" y="426"/>
                  </a:lnTo>
                  <a:lnTo>
                    <a:pt x="149" y="429"/>
                  </a:lnTo>
                  <a:lnTo>
                    <a:pt x="144" y="431"/>
                  </a:lnTo>
                  <a:lnTo>
                    <a:pt x="141" y="434"/>
                  </a:lnTo>
                  <a:lnTo>
                    <a:pt x="138" y="437"/>
                  </a:lnTo>
                  <a:lnTo>
                    <a:pt x="134" y="439"/>
                  </a:lnTo>
                  <a:lnTo>
                    <a:pt x="132" y="442"/>
                  </a:lnTo>
                  <a:lnTo>
                    <a:pt x="131" y="442"/>
                  </a:lnTo>
                  <a:lnTo>
                    <a:pt x="130" y="448"/>
                  </a:lnTo>
                  <a:lnTo>
                    <a:pt x="128" y="452"/>
                  </a:lnTo>
                  <a:lnTo>
                    <a:pt x="128" y="460"/>
                  </a:lnTo>
                  <a:lnTo>
                    <a:pt x="125" y="465"/>
                  </a:lnTo>
                  <a:lnTo>
                    <a:pt x="123" y="474"/>
                  </a:lnTo>
                  <a:lnTo>
                    <a:pt x="120" y="476"/>
                  </a:lnTo>
                  <a:lnTo>
                    <a:pt x="117" y="480"/>
                  </a:lnTo>
                  <a:lnTo>
                    <a:pt x="113" y="485"/>
                  </a:lnTo>
                  <a:lnTo>
                    <a:pt x="108" y="489"/>
                  </a:lnTo>
                  <a:lnTo>
                    <a:pt x="102" y="491"/>
                  </a:lnTo>
                  <a:lnTo>
                    <a:pt x="96" y="494"/>
                  </a:lnTo>
                  <a:lnTo>
                    <a:pt x="89" y="495"/>
                  </a:lnTo>
                  <a:lnTo>
                    <a:pt x="82" y="498"/>
                  </a:lnTo>
                  <a:lnTo>
                    <a:pt x="75" y="500"/>
                  </a:lnTo>
                  <a:lnTo>
                    <a:pt x="71" y="501"/>
                  </a:lnTo>
                  <a:lnTo>
                    <a:pt x="68" y="501"/>
                  </a:lnTo>
                  <a:lnTo>
                    <a:pt x="67" y="502"/>
                  </a:lnTo>
                  <a:lnTo>
                    <a:pt x="66" y="501"/>
                  </a:lnTo>
                  <a:lnTo>
                    <a:pt x="63" y="500"/>
                  </a:lnTo>
                  <a:lnTo>
                    <a:pt x="58" y="497"/>
                  </a:lnTo>
                  <a:lnTo>
                    <a:pt x="52" y="495"/>
                  </a:lnTo>
                  <a:lnTo>
                    <a:pt x="45" y="491"/>
                  </a:lnTo>
                  <a:lnTo>
                    <a:pt x="39" y="489"/>
                  </a:lnTo>
                  <a:lnTo>
                    <a:pt x="32" y="486"/>
                  </a:lnTo>
                  <a:lnTo>
                    <a:pt x="26" y="483"/>
                  </a:lnTo>
                  <a:lnTo>
                    <a:pt x="19" y="479"/>
                  </a:lnTo>
                  <a:lnTo>
                    <a:pt x="14" y="476"/>
                  </a:lnTo>
                  <a:lnTo>
                    <a:pt x="9" y="474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947640" y="4221000"/>
              <a:ext cx="63720" cy="705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16"/>
                  </a:moveTo>
                  <a:lnTo>
                    <a:pt x="19" y="0"/>
                  </a:lnTo>
                  <a:lnTo>
                    <a:pt x="42" y="12"/>
                  </a:lnTo>
                  <a:lnTo>
                    <a:pt x="26" y="47"/>
                  </a:lnTo>
                  <a:lnTo>
                    <a:pt x="16" y="4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6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864480" y="4275360"/>
              <a:ext cx="150120" cy="646920"/>
            </a:xfrm>
            <a:custGeom>
              <a:avLst/>
              <a:gdLst/>
              <a:ahLst/>
              <a:rect l="l" t="t" r="r" b="b"/>
              <a:pathLst>
                <a:path w="99" h="429">
                  <a:moveTo>
                    <a:pt x="81" y="11"/>
                  </a:moveTo>
                  <a:lnTo>
                    <a:pt x="82" y="13"/>
                  </a:lnTo>
                  <a:lnTo>
                    <a:pt x="83" y="18"/>
                  </a:lnTo>
                  <a:lnTo>
                    <a:pt x="84" y="25"/>
                  </a:lnTo>
                  <a:lnTo>
                    <a:pt x="85" y="32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2" y="41"/>
                  </a:lnTo>
                  <a:lnTo>
                    <a:pt x="81" y="48"/>
                  </a:lnTo>
                  <a:lnTo>
                    <a:pt x="81" y="51"/>
                  </a:lnTo>
                  <a:lnTo>
                    <a:pt x="79" y="54"/>
                  </a:lnTo>
                  <a:lnTo>
                    <a:pt x="79" y="58"/>
                  </a:lnTo>
                  <a:lnTo>
                    <a:pt x="79" y="63"/>
                  </a:lnTo>
                  <a:lnTo>
                    <a:pt x="79" y="67"/>
                  </a:lnTo>
                  <a:lnTo>
                    <a:pt x="79" y="74"/>
                  </a:lnTo>
                  <a:lnTo>
                    <a:pt x="79" y="81"/>
                  </a:lnTo>
                  <a:lnTo>
                    <a:pt x="81" y="91"/>
                  </a:lnTo>
                  <a:lnTo>
                    <a:pt x="82" y="97"/>
                  </a:lnTo>
                  <a:lnTo>
                    <a:pt x="83" y="107"/>
                  </a:lnTo>
                  <a:lnTo>
                    <a:pt x="84" y="118"/>
                  </a:lnTo>
                  <a:lnTo>
                    <a:pt x="86" y="127"/>
                  </a:lnTo>
                  <a:lnTo>
                    <a:pt x="89" y="138"/>
                  </a:lnTo>
                  <a:lnTo>
                    <a:pt x="91" y="151"/>
                  </a:lnTo>
                  <a:lnTo>
                    <a:pt x="92" y="162"/>
                  </a:lnTo>
                  <a:lnTo>
                    <a:pt x="95" y="175"/>
                  </a:lnTo>
                  <a:lnTo>
                    <a:pt x="95" y="188"/>
                  </a:lnTo>
                  <a:lnTo>
                    <a:pt x="97" y="200"/>
                  </a:lnTo>
                  <a:lnTo>
                    <a:pt x="97" y="212"/>
                  </a:lnTo>
                  <a:lnTo>
                    <a:pt x="99" y="224"/>
                  </a:lnTo>
                  <a:lnTo>
                    <a:pt x="99" y="234"/>
                  </a:lnTo>
                  <a:lnTo>
                    <a:pt x="99" y="246"/>
                  </a:lnTo>
                  <a:lnTo>
                    <a:pt x="98" y="257"/>
                  </a:lnTo>
                  <a:lnTo>
                    <a:pt x="98" y="267"/>
                  </a:lnTo>
                  <a:lnTo>
                    <a:pt x="96" y="275"/>
                  </a:lnTo>
                  <a:lnTo>
                    <a:pt x="93" y="283"/>
                  </a:lnTo>
                  <a:lnTo>
                    <a:pt x="91" y="291"/>
                  </a:lnTo>
                  <a:lnTo>
                    <a:pt x="89" y="299"/>
                  </a:lnTo>
                  <a:lnTo>
                    <a:pt x="84" y="305"/>
                  </a:lnTo>
                  <a:lnTo>
                    <a:pt x="82" y="312"/>
                  </a:lnTo>
                  <a:lnTo>
                    <a:pt x="78" y="317"/>
                  </a:lnTo>
                  <a:lnTo>
                    <a:pt x="75" y="324"/>
                  </a:lnTo>
                  <a:lnTo>
                    <a:pt x="70" y="328"/>
                  </a:lnTo>
                  <a:lnTo>
                    <a:pt x="67" y="334"/>
                  </a:lnTo>
                  <a:lnTo>
                    <a:pt x="63" y="339"/>
                  </a:lnTo>
                  <a:lnTo>
                    <a:pt x="60" y="343"/>
                  </a:lnTo>
                  <a:lnTo>
                    <a:pt x="56" y="349"/>
                  </a:lnTo>
                  <a:lnTo>
                    <a:pt x="53" y="353"/>
                  </a:lnTo>
                  <a:lnTo>
                    <a:pt x="50" y="358"/>
                  </a:lnTo>
                  <a:lnTo>
                    <a:pt x="48" y="364"/>
                  </a:lnTo>
                  <a:lnTo>
                    <a:pt x="47" y="368"/>
                  </a:lnTo>
                  <a:lnTo>
                    <a:pt x="45" y="373"/>
                  </a:lnTo>
                  <a:lnTo>
                    <a:pt x="42" y="379"/>
                  </a:lnTo>
                  <a:lnTo>
                    <a:pt x="42" y="386"/>
                  </a:lnTo>
                  <a:lnTo>
                    <a:pt x="41" y="391"/>
                  </a:lnTo>
                  <a:lnTo>
                    <a:pt x="41" y="395"/>
                  </a:lnTo>
                  <a:lnTo>
                    <a:pt x="41" y="401"/>
                  </a:lnTo>
                  <a:lnTo>
                    <a:pt x="42" y="406"/>
                  </a:lnTo>
                  <a:lnTo>
                    <a:pt x="42" y="416"/>
                  </a:lnTo>
                  <a:lnTo>
                    <a:pt x="42" y="422"/>
                  </a:lnTo>
                  <a:lnTo>
                    <a:pt x="43" y="426"/>
                  </a:lnTo>
                  <a:lnTo>
                    <a:pt x="45" y="429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5"/>
                  </a:lnTo>
                  <a:lnTo>
                    <a:pt x="0" y="347"/>
                  </a:lnTo>
                  <a:lnTo>
                    <a:pt x="0" y="339"/>
                  </a:lnTo>
                  <a:lnTo>
                    <a:pt x="0" y="332"/>
                  </a:lnTo>
                  <a:lnTo>
                    <a:pt x="0" y="327"/>
                  </a:lnTo>
                  <a:lnTo>
                    <a:pt x="1" y="321"/>
                  </a:lnTo>
                  <a:lnTo>
                    <a:pt x="3" y="316"/>
                  </a:lnTo>
                  <a:lnTo>
                    <a:pt x="5" y="306"/>
                  </a:lnTo>
                  <a:lnTo>
                    <a:pt x="11" y="299"/>
                  </a:lnTo>
                  <a:lnTo>
                    <a:pt x="14" y="291"/>
                  </a:lnTo>
                  <a:lnTo>
                    <a:pt x="19" y="284"/>
                  </a:lnTo>
                  <a:lnTo>
                    <a:pt x="24" y="276"/>
                  </a:lnTo>
                  <a:lnTo>
                    <a:pt x="29" y="268"/>
                  </a:lnTo>
                  <a:lnTo>
                    <a:pt x="31" y="263"/>
                  </a:lnTo>
                  <a:lnTo>
                    <a:pt x="33" y="259"/>
                  </a:lnTo>
                  <a:lnTo>
                    <a:pt x="35" y="253"/>
                  </a:lnTo>
                  <a:lnTo>
                    <a:pt x="38" y="248"/>
                  </a:lnTo>
                  <a:lnTo>
                    <a:pt x="39" y="242"/>
                  </a:lnTo>
                  <a:lnTo>
                    <a:pt x="41" y="235"/>
                  </a:lnTo>
                  <a:lnTo>
                    <a:pt x="42" y="230"/>
                  </a:lnTo>
                  <a:lnTo>
                    <a:pt x="45" y="223"/>
                  </a:lnTo>
                  <a:lnTo>
                    <a:pt x="45" y="215"/>
                  </a:lnTo>
                  <a:lnTo>
                    <a:pt x="45" y="208"/>
                  </a:lnTo>
                  <a:lnTo>
                    <a:pt x="45" y="200"/>
                  </a:lnTo>
                  <a:lnTo>
                    <a:pt x="46" y="193"/>
                  </a:lnTo>
                  <a:lnTo>
                    <a:pt x="45" y="185"/>
                  </a:lnTo>
                  <a:lnTo>
                    <a:pt x="45" y="177"/>
                  </a:lnTo>
                  <a:lnTo>
                    <a:pt x="45" y="168"/>
                  </a:lnTo>
                  <a:lnTo>
                    <a:pt x="45" y="160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3" y="136"/>
                  </a:lnTo>
                  <a:lnTo>
                    <a:pt x="43" y="127"/>
                  </a:lnTo>
                  <a:lnTo>
                    <a:pt x="43" y="119"/>
                  </a:lnTo>
                  <a:lnTo>
                    <a:pt x="43" y="112"/>
                  </a:lnTo>
                  <a:lnTo>
                    <a:pt x="43" y="106"/>
                  </a:lnTo>
                  <a:lnTo>
                    <a:pt x="45" y="100"/>
                  </a:lnTo>
                  <a:lnTo>
                    <a:pt x="45" y="93"/>
                  </a:lnTo>
                  <a:lnTo>
                    <a:pt x="45" y="88"/>
                  </a:lnTo>
                  <a:lnTo>
                    <a:pt x="45" y="82"/>
                  </a:lnTo>
                  <a:lnTo>
                    <a:pt x="45" y="80"/>
                  </a:lnTo>
                  <a:lnTo>
                    <a:pt x="47" y="70"/>
                  </a:lnTo>
                  <a:lnTo>
                    <a:pt x="48" y="65"/>
                  </a:lnTo>
                  <a:lnTo>
                    <a:pt x="50" y="58"/>
                  </a:lnTo>
                  <a:lnTo>
                    <a:pt x="53" y="52"/>
                  </a:lnTo>
                  <a:lnTo>
                    <a:pt x="56" y="46"/>
                  </a:lnTo>
                  <a:lnTo>
                    <a:pt x="59" y="40"/>
                  </a:lnTo>
                  <a:lnTo>
                    <a:pt x="61" y="33"/>
                  </a:lnTo>
                  <a:lnTo>
                    <a:pt x="63" y="28"/>
                  </a:lnTo>
                  <a:lnTo>
                    <a:pt x="66" y="20"/>
                  </a:lnTo>
                  <a:lnTo>
                    <a:pt x="69" y="14"/>
                  </a:lnTo>
                  <a:lnTo>
                    <a:pt x="70" y="9"/>
                  </a:lnTo>
                  <a:lnTo>
                    <a:pt x="72" y="5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81" y="11"/>
                  </a:lnTo>
                  <a:lnTo>
                    <a:pt x="81" y="11"/>
                  </a:lnTo>
                  <a:close/>
                </a:path>
              </a:pathLst>
            </a:custGeom>
            <a:solidFill>
              <a:srgbClr val="996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881040" y="4335480"/>
              <a:ext cx="109440" cy="451080"/>
            </a:xfrm>
            <a:custGeom>
              <a:avLst/>
              <a:gdLst/>
              <a:ahLst/>
              <a:rect l="l" t="t" r="r" b="b"/>
              <a:pathLst>
                <a:path w="72" h="299">
                  <a:moveTo>
                    <a:pt x="39" y="33"/>
                  </a:moveTo>
                  <a:lnTo>
                    <a:pt x="38" y="36"/>
                  </a:lnTo>
                  <a:lnTo>
                    <a:pt x="37" y="42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9" y="60"/>
                  </a:lnTo>
                  <a:lnTo>
                    <a:pt x="39" y="66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5" y="79"/>
                  </a:lnTo>
                  <a:lnTo>
                    <a:pt x="48" y="85"/>
                  </a:lnTo>
                  <a:lnTo>
                    <a:pt x="50" y="87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8" y="79"/>
                  </a:lnTo>
                  <a:lnTo>
                    <a:pt x="48" y="75"/>
                  </a:lnTo>
                  <a:lnTo>
                    <a:pt x="48" y="70"/>
                  </a:lnTo>
                  <a:lnTo>
                    <a:pt x="46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5"/>
                  </a:lnTo>
                  <a:lnTo>
                    <a:pt x="48" y="40"/>
                  </a:lnTo>
                  <a:lnTo>
                    <a:pt x="50" y="33"/>
                  </a:lnTo>
                  <a:lnTo>
                    <a:pt x="52" y="27"/>
                  </a:lnTo>
                  <a:lnTo>
                    <a:pt x="55" y="23"/>
                  </a:lnTo>
                  <a:lnTo>
                    <a:pt x="57" y="19"/>
                  </a:lnTo>
                  <a:lnTo>
                    <a:pt x="58" y="15"/>
                  </a:lnTo>
                  <a:lnTo>
                    <a:pt x="59" y="15"/>
                  </a:lnTo>
                  <a:lnTo>
                    <a:pt x="58" y="15"/>
                  </a:lnTo>
                  <a:lnTo>
                    <a:pt x="58" y="18"/>
                  </a:lnTo>
                  <a:lnTo>
                    <a:pt x="58" y="22"/>
                  </a:lnTo>
                  <a:lnTo>
                    <a:pt x="58" y="27"/>
                  </a:lnTo>
                  <a:lnTo>
                    <a:pt x="58" y="34"/>
                  </a:lnTo>
                  <a:lnTo>
                    <a:pt x="58" y="42"/>
                  </a:lnTo>
                  <a:lnTo>
                    <a:pt x="58" y="46"/>
                  </a:lnTo>
                  <a:lnTo>
                    <a:pt x="58" y="52"/>
                  </a:lnTo>
                  <a:lnTo>
                    <a:pt x="58" y="57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63" y="97"/>
                  </a:lnTo>
                  <a:lnTo>
                    <a:pt x="63" y="102"/>
                  </a:lnTo>
                  <a:lnTo>
                    <a:pt x="64" y="111"/>
                  </a:lnTo>
                  <a:lnTo>
                    <a:pt x="64" y="117"/>
                  </a:lnTo>
                  <a:lnTo>
                    <a:pt x="65" y="124"/>
                  </a:lnTo>
                  <a:lnTo>
                    <a:pt x="65" y="130"/>
                  </a:lnTo>
                  <a:lnTo>
                    <a:pt x="66" y="137"/>
                  </a:lnTo>
                  <a:lnTo>
                    <a:pt x="67" y="143"/>
                  </a:lnTo>
                  <a:lnTo>
                    <a:pt x="67" y="149"/>
                  </a:lnTo>
                  <a:lnTo>
                    <a:pt x="68" y="156"/>
                  </a:lnTo>
                  <a:lnTo>
                    <a:pt x="70" y="161"/>
                  </a:lnTo>
                  <a:lnTo>
                    <a:pt x="70" y="167"/>
                  </a:lnTo>
                  <a:lnTo>
                    <a:pt x="71" y="172"/>
                  </a:lnTo>
                  <a:lnTo>
                    <a:pt x="71" y="178"/>
                  </a:lnTo>
                  <a:lnTo>
                    <a:pt x="71" y="182"/>
                  </a:lnTo>
                  <a:lnTo>
                    <a:pt x="71" y="190"/>
                  </a:lnTo>
                  <a:lnTo>
                    <a:pt x="72" y="199"/>
                  </a:lnTo>
                  <a:lnTo>
                    <a:pt x="71" y="206"/>
                  </a:lnTo>
                  <a:lnTo>
                    <a:pt x="71" y="213"/>
                  </a:lnTo>
                  <a:lnTo>
                    <a:pt x="70" y="219"/>
                  </a:lnTo>
                  <a:lnTo>
                    <a:pt x="68" y="225"/>
                  </a:lnTo>
                  <a:lnTo>
                    <a:pt x="65" y="231"/>
                  </a:lnTo>
                  <a:lnTo>
                    <a:pt x="60" y="236"/>
                  </a:lnTo>
                  <a:lnTo>
                    <a:pt x="57" y="242"/>
                  </a:lnTo>
                  <a:lnTo>
                    <a:pt x="53" y="247"/>
                  </a:lnTo>
                  <a:lnTo>
                    <a:pt x="49" y="253"/>
                  </a:lnTo>
                  <a:lnTo>
                    <a:pt x="44" y="259"/>
                  </a:lnTo>
                  <a:lnTo>
                    <a:pt x="41" y="266"/>
                  </a:lnTo>
                  <a:lnTo>
                    <a:pt x="37" y="276"/>
                  </a:lnTo>
                  <a:lnTo>
                    <a:pt x="34" y="281"/>
                  </a:lnTo>
                  <a:lnTo>
                    <a:pt x="31" y="287"/>
                  </a:lnTo>
                  <a:lnTo>
                    <a:pt x="28" y="291"/>
                  </a:lnTo>
                  <a:lnTo>
                    <a:pt x="27" y="295"/>
                  </a:lnTo>
                  <a:lnTo>
                    <a:pt x="23" y="299"/>
                  </a:lnTo>
                  <a:lnTo>
                    <a:pt x="22" y="299"/>
                  </a:lnTo>
                  <a:lnTo>
                    <a:pt x="0" y="259"/>
                  </a:lnTo>
                  <a:lnTo>
                    <a:pt x="0" y="258"/>
                  </a:lnTo>
                  <a:lnTo>
                    <a:pt x="2" y="254"/>
                  </a:lnTo>
                  <a:lnTo>
                    <a:pt x="3" y="247"/>
                  </a:lnTo>
                  <a:lnTo>
                    <a:pt x="8" y="240"/>
                  </a:lnTo>
                  <a:lnTo>
                    <a:pt x="10" y="235"/>
                  </a:lnTo>
                  <a:lnTo>
                    <a:pt x="13" y="231"/>
                  </a:lnTo>
                  <a:lnTo>
                    <a:pt x="14" y="227"/>
                  </a:lnTo>
                  <a:lnTo>
                    <a:pt x="16" y="221"/>
                  </a:lnTo>
                  <a:lnTo>
                    <a:pt x="18" y="217"/>
                  </a:lnTo>
                  <a:lnTo>
                    <a:pt x="21" y="212"/>
                  </a:lnTo>
                  <a:lnTo>
                    <a:pt x="23" y="206"/>
                  </a:lnTo>
                  <a:lnTo>
                    <a:pt x="25" y="202"/>
                  </a:lnTo>
                  <a:lnTo>
                    <a:pt x="27" y="197"/>
                  </a:lnTo>
                  <a:lnTo>
                    <a:pt x="29" y="191"/>
                  </a:lnTo>
                  <a:lnTo>
                    <a:pt x="30" y="186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6" y="163"/>
                  </a:lnTo>
                  <a:lnTo>
                    <a:pt x="36" y="153"/>
                  </a:lnTo>
                  <a:lnTo>
                    <a:pt x="36" y="145"/>
                  </a:lnTo>
                  <a:lnTo>
                    <a:pt x="36" y="135"/>
                  </a:lnTo>
                  <a:lnTo>
                    <a:pt x="35" y="127"/>
                  </a:lnTo>
                  <a:lnTo>
                    <a:pt x="34" y="122"/>
                  </a:lnTo>
                  <a:lnTo>
                    <a:pt x="32" y="117"/>
                  </a:lnTo>
                  <a:lnTo>
                    <a:pt x="31" y="112"/>
                  </a:lnTo>
                  <a:lnTo>
                    <a:pt x="31" y="108"/>
                  </a:lnTo>
                  <a:lnTo>
                    <a:pt x="30" y="102"/>
                  </a:lnTo>
                  <a:lnTo>
                    <a:pt x="29" y="97"/>
                  </a:lnTo>
                  <a:lnTo>
                    <a:pt x="29" y="93"/>
                  </a:lnTo>
                  <a:lnTo>
                    <a:pt x="29" y="87"/>
                  </a:lnTo>
                  <a:lnTo>
                    <a:pt x="28" y="82"/>
                  </a:lnTo>
                  <a:lnTo>
                    <a:pt x="28" y="78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8" y="59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1" y="40"/>
                  </a:lnTo>
                  <a:lnTo>
                    <a:pt x="32" y="36"/>
                  </a:lnTo>
                  <a:lnTo>
                    <a:pt x="35" y="30"/>
                  </a:lnTo>
                  <a:lnTo>
                    <a:pt x="37" y="23"/>
                  </a:lnTo>
                  <a:lnTo>
                    <a:pt x="41" y="15"/>
                  </a:lnTo>
                  <a:lnTo>
                    <a:pt x="43" y="8"/>
                  </a:lnTo>
                  <a:lnTo>
                    <a:pt x="45" y="4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39" y="33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64040" y="3891960"/>
              <a:ext cx="250200" cy="324000"/>
            </a:xfrm>
            <a:custGeom>
              <a:avLst/>
              <a:gdLst/>
              <a:ahLst/>
              <a:rect l="l" t="t" r="r" b="b"/>
              <a:pathLst>
                <a:path w="165" h="215">
                  <a:moveTo>
                    <a:pt x="147" y="41"/>
                  </a:moveTo>
                  <a:lnTo>
                    <a:pt x="148" y="44"/>
                  </a:lnTo>
                  <a:lnTo>
                    <a:pt x="149" y="48"/>
                  </a:lnTo>
                  <a:lnTo>
                    <a:pt x="151" y="54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58" y="74"/>
                  </a:lnTo>
                  <a:lnTo>
                    <a:pt x="161" y="81"/>
                  </a:lnTo>
                  <a:lnTo>
                    <a:pt x="161" y="89"/>
                  </a:lnTo>
                  <a:lnTo>
                    <a:pt x="163" y="99"/>
                  </a:lnTo>
                  <a:lnTo>
                    <a:pt x="163" y="106"/>
                  </a:lnTo>
                  <a:lnTo>
                    <a:pt x="165" y="115"/>
                  </a:lnTo>
                  <a:lnTo>
                    <a:pt x="165" y="122"/>
                  </a:lnTo>
                  <a:lnTo>
                    <a:pt x="165" y="130"/>
                  </a:lnTo>
                  <a:lnTo>
                    <a:pt x="165" y="137"/>
                  </a:lnTo>
                  <a:lnTo>
                    <a:pt x="165" y="144"/>
                  </a:lnTo>
                  <a:lnTo>
                    <a:pt x="165" y="148"/>
                  </a:lnTo>
                  <a:lnTo>
                    <a:pt x="165" y="153"/>
                  </a:lnTo>
                  <a:lnTo>
                    <a:pt x="165" y="158"/>
                  </a:lnTo>
                  <a:lnTo>
                    <a:pt x="165" y="163"/>
                  </a:lnTo>
                  <a:lnTo>
                    <a:pt x="165" y="170"/>
                  </a:lnTo>
                  <a:lnTo>
                    <a:pt x="163" y="179"/>
                  </a:lnTo>
                  <a:lnTo>
                    <a:pt x="158" y="183"/>
                  </a:lnTo>
                  <a:lnTo>
                    <a:pt x="157" y="189"/>
                  </a:lnTo>
                  <a:lnTo>
                    <a:pt x="154" y="194"/>
                  </a:lnTo>
                  <a:lnTo>
                    <a:pt x="151" y="200"/>
                  </a:lnTo>
                  <a:lnTo>
                    <a:pt x="148" y="204"/>
                  </a:lnTo>
                  <a:lnTo>
                    <a:pt x="147" y="208"/>
                  </a:lnTo>
                  <a:lnTo>
                    <a:pt x="145" y="209"/>
                  </a:lnTo>
                  <a:lnTo>
                    <a:pt x="145" y="212"/>
                  </a:lnTo>
                  <a:lnTo>
                    <a:pt x="114" y="205"/>
                  </a:lnTo>
                  <a:lnTo>
                    <a:pt x="101" y="215"/>
                  </a:lnTo>
                  <a:lnTo>
                    <a:pt x="84" y="215"/>
                  </a:lnTo>
                  <a:lnTo>
                    <a:pt x="66" y="201"/>
                  </a:lnTo>
                  <a:lnTo>
                    <a:pt x="56" y="207"/>
                  </a:lnTo>
                  <a:lnTo>
                    <a:pt x="36" y="174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43" y="51"/>
                  </a:lnTo>
                  <a:lnTo>
                    <a:pt x="95" y="0"/>
                  </a:lnTo>
                  <a:lnTo>
                    <a:pt x="121" y="17"/>
                  </a:lnTo>
                  <a:lnTo>
                    <a:pt x="147" y="41"/>
                  </a:lnTo>
                  <a:lnTo>
                    <a:pt x="147" y="41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732000" y="3818160"/>
              <a:ext cx="268560" cy="319680"/>
            </a:xfrm>
            <a:custGeom>
              <a:avLst/>
              <a:gdLst/>
              <a:ahLst/>
              <a:rect l="l" t="t" r="r" b="b"/>
              <a:pathLst>
                <a:path w="177" h="212">
                  <a:moveTo>
                    <a:pt x="128" y="100"/>
                  </a:moveTo>
                  <a:lnTo>
                    <a:pt x="144" y="122"/>
                  </a:lnTo>
                  <a:lnTo>
                    <a:pt x="144" y="120"/>
                  </a:lnTo>
                  <a:lnTo>
                    <a:pt x="144" y="118"/>
                  </a:lnTo>
                  <a:lnTo>
                    <a:pt x="144" y="112"/>
                  </a:lnTo>
                  <a:lnTo>
                    <a:pt x="144" y="108"/>
                  </a:lnTo>
                  <a:lnTo>
                    <a:pt x="144" y="103"/>
                  </a:lnTo>
                  <a:lnTo>
                    <a:pt x="146" y="97"/>
                  </a:lnTo>
                  <a:lnTo>
                    <a:pt x="146" y="93"/>
                  </a:lnTo>
                  <a:lnTo>
                    <a:pt x="148" y="90"/>
                  </a:lnTo>
                  <a:lnTo>
                    <a:pt x="151" y="88"/>
                  </a:lnTo>
                  <a:lnTo>
                    <a:pt x="156" y="89"/>
                  </a:lnTo>
                  <a:lnTo>
                    <a:pt x="161" y="93"/>
                  </a:lnTo>
                  <a:lnTo>
                    <a:pt x="165" y="101"/>
                  </a:lnTo>
                  <a:lnTo>
                    <a:pt x="168" y="108"/>
                  </a:lnTo>
                  <a:lnTo>
                    <a:pt x="170" y="116"/>
                  </a:lnTo>
                  <a:lnTo>
                    <a:pt x="171" y="120"/>
                  </a:lnTo>
                  <a:lnTo>
                    <a:pt x="172" y="123"/>
                  </a:lnTo>
                  <a:lnTo>
                    <a:pt x="173" y="120"/>
                  </a:lnTo>
                  <a:lnTo>
                    <a:pt x="175" y="115"/>
                  </a:lnTo>
                  <a:lnTo>
                    <a:pt x="176" y="111"/>
                  </a:lnTo>
                  <a:lnTo>
                    <a:pt x="176" y="105"/>
                  </a:lnTo>
                  <a:lnTo>
                    <a:pt x="176" y="99"/>
                  </a:lnTo>
                  <a:lnTo>
                    <a:pt x="177" y="93"/>
                  </a:lnTo>
                  <a:lnTo>
                    <a:pt x="175" y="85"/>
                  </a:lnTo>
                  <a:lnTo>
                    <a:pt x="173" y="78"/>
                  </a:lnTo>
                  <a:lnTo>
                    <a:pt x="170" y="70"/>
                  </a:lnTo>
                  <a:lnTo>
                    <a:pt x="168" y="63"/>
                  </a:lnTo>
                  <a:lnTo>
                    <a:pt x="163" y="55"/>
                  </a:lnTo>
                  <a:lnTo>
                    <a:pt x="158" y="48"/>
                  </a:lnTo>
                  <a:lnTo>
                    <a:pt x="155" y="41"/>
                  </a:lnTo>
                  <a:lnTo>
                    <a:pt x="150" y="37"/>
                  </a:lnTo>
                  <a:lnTo>
                    <a:pt x="146" y="32"/>
                  </a:lnTo>
                  <a:lnTo>
                    <a:pt x="141" y="29"/>
                  </a:lnTo>
                  <a:lnTo>
                    <a:pt x="136" y="26"/>
                  </a:lnTo>
                  <a:lnTo>
                    <a:pt x="134" y="25"/>
                  </a:lnTo>
                  <a:lnTo>
                    <a:pt x="127" y="24"/>
                  </a:lnTo>
                  <a:lnTo>
                    <a:pt x="125" y="24"/>
                  </a:lnTo>
                  <a:lnTo>
                    <a:pt x="122" y="21"/>
                  </a:lnTo>
                  <a:lnTo>
                    <a:pt x="118" y="15"/>
                  </a:lnTo>
                  <a:lnTo>
                    <a:pt x="111" y="9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4"/>
                  </a:lnTo>
                  <a:lnTo>
                    <a:pt x="47" y="6"/>
                  </a:lnTo>
                  <a:lnTo>
                    <a:pt x="41" y="9"/>
                  </a:lnTo>
                  <a:lnTo>
                    <a:pt x="35" y="13"/>
                  </a:lnTo>
                  <a:lnTo>
                    <a:pt x="30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3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7"/>
                  </a:lnTo>
                  <a:lnTo>
                    <a:pt x="8" y="75"/>
                  </a:lnTo>
                  <a:lnTo>
                    <a:pt x="7" y="81"/>
                  </a:lnTo>
                  <a:lnTo>
                    <a:pt x="6" y="88"/>
                  </a:lnTo>
                  <a:lnTo>
                    <a:pt x="5" y="95"/>
                  </a:lnTo>
                  <a:lnTo>
                    <a:pt x="5" y="103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0"/>
                  </a:lnTo>
                  <a:lnTo>
                    <a:pt x="2" y="137"/>
                  </a:lnTo>
                  <a:lnTo>
                    <a:pt x="2" y="142"/>
                  </a:lnTo>
                  <a:lnTo>
                    <a:pt x="2" y="148"/>
                  </a:lnTo>
                  <a:lnTo>
                    <a:pt x="2" y="155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1" y="175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9" y="187"/>
                  </a:lnTo>
                  <a:lnTo>
                    <a:pt x="14" y="190"/>
                  </a:lnTo>
                  <a:lnTo>
                    <a:pt x="20" y="194"/>
                  </a:lnTo>
                  <a:lnTo>
                    <a:pt x="26" y="197"/>
                  </a:lnTo>
                  <a:lnTo>
                    <a:pt x="31" y="200"/>
                  </a:lnTo>
                  <a:lnTo>
                    <a:pt x="36" y="202"/>
                  </a:lnTo>
                  <a:lnTo>
                    <a:pt x="42" y="207"/>
                  </a:lnTo>
                  <a:lnTo>
                    <a:pt x="47" y="208"/>
                  </a:lnTo>
                  <a:lnTo>
                    <a:pt x="54" y="211"/>
                  </a:lnTo>
                  <a:lnTo>
                    <a:pt x="56" y="211"/>
                  </a:lnTo>
                  <a:lnTo>
                    <a:pt x="59" y="212"/>
                  </a:lnTo>
                  <a:lnTo>
                    <a:pt x="64" y="212"/>
                  </a:lnTo>
                  <a:lnTo>
                    <a:pt x="68" y="212"/>
                  </a:lnTo>
                  <a:lnTo>
                    <a:pt x="75" y="209"/>
                  </a:lnTo>
                  <a:lnTo>
                    <a:pt x="82" y="205"/>
                  </a:lnTo>
                  <a:lnTo>
                    <a:pt x="88" y="197"/>
                  </a:lnTo>
                  <a:lnTo>
                    <a:pt x="95" y="190"/>
                  </a:lnTo>
                  <a:lnTo>
                    <a:pt x="98" y="186"/>
                  </a:lnTo>
                  <a:lnTo>
                    <a:pt x="100" y="182"/>
                  </a:lnTo>
                  <a:lnTo>
                    <a:pt x="101" y="176"/>
                  </a:lnTo>
                  <a:lnTo>
                    <a:pt x="105" y="172"/>
                  </a:lnTo>
                  <a:lnTo>
                    <a:pt x="106" y="167"/>
                  </a:lnTo>
                  <a:lnTo>
                    <a:pt x="108" y="163"/>
                  </a:lnTo>
                  <a:lnTo>
                    <a:pt x="109" y="157"/>
                  </a:lnTo>
                  <a:lnTo>
                    <a:pt x="111" y="152"/>
                  </a:lnTo>
                  <a:lnTo>
                    <a:pt x="111" y="148"/>
                  </a:lnTo>
                  <a:lnTo>
                    <a:pt x="112" y="142"/>
                  </a:lnTo>
                  <a:lnTo>
                    <a:pt x="113" y="137"/>
                  </a:lnTo>
                  <a:lnTo>
                    <a:pt x="114" y="133"/>
                  </a:lnTo>
                  <a:lnTo>
                    <a:pt x="118" y="123"/>
                  </a:lnTo>
                  <a:lnTo>
                    <a:pt x="121" y="116"/>
                  </a:lnTo>
                  <a:lnTo>
                    <a:pt x="122" y="108"/>
                  </a:lnTo>
                  <a:lnTo>
                    <a:pt x="125" y="104"/>
                  </a:lnTo>
                  <a:lnTo>
                    <a:pt x="127" y="100"/>
                  </a:lnTo>
                  <a:lnTo>
                    <a:pt x="128" y="100"/>
                  </a:lnTo>
                  <a:lnTo>
                    <a:pt x="128" y="10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320440" y="4925160"/>
              <a:ext cx="837000" cy="690840"/>
            </a:xfrm>
            <a:custGeom>
              <a:avLst/>
              <a:gdLst/>
              <a:ahLst/>
              <a:rect l="l" t="t" r="r" b="b"/>
              <a:pathLst>
                <a:path w="551" h="458">
                  <a:moveTo>
                    <a:pt x="56" y="406"/>
                  </a:moveTo>
                  <a:lnTo>
                    <a:pt x="57" y="417"/>
                  </a:lnTo>
                  <a:lnTo>
                    <a:pt x="62" y="430"/>
                  </a:lnTo>
                  <a:lnTo>
                    <a:pt x="54" y="439"/>
                  </a:lnTo>
                  <a:lnTo>
                    <a:pt x="20" y="458"/>
                  </a:lnTo>
                  <a:lnTo>
                    <a:pt x="11" y="428"/>
                  </a:lnTo>
                  <a:lnTo>
                    <a:pt x="12" y="391"/>
                  </a:lnTo>
                  <a:lnTo>
                    <a:pt x="0" y="292"/>
                  </a:lnTo>
                  <a:lnTo>
                    <a:pt x="0" y="271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2" y="259"/>
                  </a:lnTo>
                  <a:lnTo>
                    <a:pt x="6" y="252"/>
                  </a:lnTo>
                  <a:lnTo>
                    <a:pt x="7" y="247"/>
                  </a:lnTo>
                  <a:lnTo>
                    <a:pt x="9" y="241"/>
                  </a:lnTo>
                  <a:lnTo>
                    <a:pt x="12" y="236"/>
                  </a:lnTo>
                  <a:lnTo>
                    <a:pt x="16" y="230"/>
                  </a:lnTo>
                  <a:lnTo>
                    <a:pt x="19" y="222"/>
                  </a:lnTo>
                  <a:lnTo>
                    <a:pt x="23" y="217"/>
                  </a:lnTo>
                  <a:lnTo>
                    <a:pt x="28" y="210"/>
                  </a:lnTo>
                  <a:lnTo>
                    <a:pt x="34" y="204"/>
                  </a:lnTo>
                  <a:lnTo>
                    <a:pt x="38" y="196"/>
                  </a:lnTo>
                  <a:lnTo>
                    <a:pt x="44" y="188"/>
                  </a:lnTo>
                  <a:lnTo>
                    <a:pt x="51" y="180"/>
                  </a:lnTo>
                  <a:lnTo>
                    <a:pt x="58" y="173"/>
                  </a:lnTo>
                  <a:lnTo>
                    <a:pt x="65" y="165"/>
                  </a:lnTo>
                  <a:lnTo>
                    <a:pt x="71" y="158"/>
                  </a:lnTo>
                  <a:lnTo>
                    <a:pt x="78" y="151"/>
                  </a:lnTo>
                  <a:lnTo>
                    <a:pt x="85" y="144"/>
                  </a:lnTo>
                  <a:lnTo>
                    <a:pt x="90" y="137"/>
                  </a:lnTo>
                  <a:lnTo>
                    <a:pt x="97" y="132"/>
                  </a:lnTo>
                  <a:lnTo>
                    <a:pt x="101" y="127"/>
                  </a:lnTo>
                  <a:lnTo>
                    <a:pt x="107" y="124"/>
                  </a:lnTo>
                  <a:lnTo>
                    <a:pt x="113" y="117"/>
                  </a:lnTo>
                  <a:lnTo>
                    <a:pt x="115" y="116"/>
                  </a:lnTo>
                  <a:lnTo>
                    <a:pt x="118" y="116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4" y="116"/>
                  </a:lnTo>
                  <a:lnTo>
                    <a:pt x="140" y="116"/>
                  </a:lnTo>
                  <a:lnTo>
                    <a:pt x="147" y="116"/>
                  </a:lnTo>
                  <a:lnTo>
                    <a:pt x="151" y="113"/>
                  </a:lnTo>
                  <a:lnTo>
                    <a:pt x="156" y="112"/>
                  </a:lnTo>
                  <a:lnTo>
                    <a:pt x="161" y="109"/>
                  </a:lnTo>
                  <a:lnTo>
                    <a:pt x="165" y="107"/>
                  </a:lnTo>
                  <a:lnTo>
                    <a:pt x="171" y="103"/>
                  </a:lnTo>
                  <a:lnTo>
                    <a:pt x="175" y="103"/>
                  </a:lnTo>
                  <a:lnTo>
                    <a:pt x="196" y="88"/>
                  </a:lnTo>
                  <a:lnTo>
                    <a:pt x="212" y="112"/>
                  </a:lnTo>
                  <a:lnTo>
                    <a:pt x="245" y="146"/>
                  </a:lnTo>
                  <a:lnTo>
                    <a:pt x="255" y="112"/>
                  </a:lnTo>
                  <a:lnTo>
                    <a:pt x="271" y="120"/>
                  </a:lnTo>
                  <a:lnTo>
                    <a:pt x="271" y="118"/>
                  </a:lnTo>
                  <a:lnTo>
                    <a:pt x="274" y="118"/>
                  </a:lnTo>
                  <a:lnTo>
                    <a:pt x="276" y="116"/>
                  </a:lnTo>
                  <a:lnTo>
                    <a:pt x="281" y="116"/>
                  </a:lnTo>
                  <a:lnTo>
                    <a:pt x="285" y="113"/>
                  </a:lnTo>
                  <a:lnTo>
                    <a:pt x="292" y="112"/>
                  </a:lnTo>
                  <a:lnTo>
                    <a:pt x="295" y="110"/>
                  </a:lnTo>
                  <a:lnTo>
                    <a:pt x="298" y="109"/>
                  </a:lnTo>
                  <a:lnTo>
                    <a:pt x="303" y="109"/>
                  </a:lnTo>
                  <a:lnTo>
                    <a:pt x="307" y="109"/>
                  </a:lnTo>
                  <a:lnTo>
                    <a:pt x="311" y="107"/>
                  </a:lnTo>
                  <a:lnTo>
                    <a:pt x="314" y="106"/>
                  </a:lnTo>
                  <a:lnTo>
                    <a:pt x="319" y="106"/>
                  </a:lnTo>
                  <a:lnTo>
                    <a:pt x="324" y="105"/>
                  </a:lnTo>
                  <a:lnTo>
                    <a:pt x="327" y="103"/>
                  </a:lnTo>
                  <a:lnTo>
                    <a:pt x="332" y="103"/>
                  </a:lnTo>
                  <a:lnTo>
                    <a:pt x="336" y="102"/>
                  </a:lnTo>
                  <a:lnTo>
                    <a:pt x="342" y="101"/>
                  </a:lnTo>
                  <a:lnTo>
                    <a:pt x="347" y="99"/>
                  </a:lnTo>
                  <a:lnTo>
                    <a:pt x="352" y="98"/>
                  </a:lnTo>
                  <a:lnTo>
                    <a:pt x="357" y="97"/>
                  </a:lnTo>
                  <a:lnTo>
                    <a:pt x="364" y="95"/>
                  </a:lnTo>
                  <a:lnTo>
                    <a:pt x="370" y="91"/>
                  </a:lnTo>
                  <a:lnTo>
                    <a:pt x="377" y="88"/>
                  </a:lnTo>
                  <a:lnTo>
                    <a:pt x="383" y="86"/>
                  </a:lnTo>
                  <a:lnTo>
                    <a:pt x="391" y="84"/>
                  </a:lnTo>
                  <a:lnTo>
                    <a:pt x="398" y="79"/>
                  </a:lnTo>
                  <a:lnTo>
                    <a:pt x="405" y="73"/>
                  </a:lnTo>
                  <a:lnTo>
                    <a:pt x="412" y="69"/>
                  </a:lnTo>
                  <a:lnTo>
                    <a:pt x="421" y="65"/>
                  </a:lnTo>
                  <a:lnTo>
                    <a:pt x="428" y="60"/>
                  </a:lnTo>
                  <a:lnTo>
                    <a:pt x="435" y="54"/>
                  </a:lnTo>
                  <a:lnTo>
                    <a:pt x="444" y="50"/>
                  </a:lnTo>
                  <a:lnTo>
                    <a:pt x="451" y="46"/>
                  </a:lnTo>
                  <a:lnTo>
                    <a:pt x="456" y="41"/>
                  </a:lnTo>
                  <a:lnTo>
                    <a:pt x="463" y="36"/>
                  </a:lnTo>
                  <a:lnTo>
                    <a:pt x="468" y="32"/>
                  </a:lnTo>
                  <a:lnTo>
                    <a:pt x="474" y="30"/>
                  </a:lnTo>
                  <a:lnTo>
                    <a:pt x="477" y="27"/>
                  </a:lnTo>
                  <a:lnTo>
                    <a:pt x="480" y="24"/>
                  </a:lnTo>
                  <a:lnTo>
                    <a:pt x="482" y="24"/>
                  </a:lnTo>
                  <a:lnTo>
                    <a:pt x="483" y="24"/>
                  </a:lnTo>
                  <a:lnTo>
                    <a:pt x="506" y="21"/>
                  </a:lnTo>
                  <a:lnTo>
                    <a:pt x="537" y="0"/>
                  </a:lnTo>
                  <a:lnTo>
                    <a:pt x="545" y="19"/>
                  </a:lnTo>
                  <a:lnTo>
                    <a:pt x="551" y="61"/>
                  </a:lnTo>
                  <a:lnTo>
                    <a:pt x="532" y="79"/>
                  </a:lnTo>
                  <a:lnTo>
                    <a:pt x="531" y="79"/>
                  </a:lnTo>
                  <a:lnTo>
                    <a:pt x="531" y="83"/>
                  </a:lnTo>
                  <a:lnTo>
                    <a:pt x="529" y="87"/>
                  </a:lnTo>
                  <a:lnTo>
                    <a:pt x="526" y="94"/>
                  </a:lnTo>
                  <a:lnTo>
                    <a:pt x="522" y="101"/>
                  </a:lnTo>
                  <a:lnTo>
                    <a:pt x="516" y="109"/>
                  </a:lnTo>
                  <a:lnTo>
                    <a:pt x="512" y="112"/>
                  </a:lnTo>
                  <a:lnTo>
                    <a:pt x="509" y="116"/>
                  </a:lnTo>
                  <a:lnTo>
                    <a:pt x="504" y="118"/>
                  </a:lnTo>
                  <a:lnTo>
                    <a:pt x="499" y="124"/>
                  </a:lnTo>
                  <a:lnTo>
                    <a:pt x="494" y="127"/>
                  </a:lnTo>
                  <a:lnTo>
                    <a:pt x="489" y="129"/>
                  </a:lnTo>
                  <a:lnTo>
                    <a:pt x="482" y="132"/>
                  </a:lnTo>
                  <a:lnTo>
                    <a:pt x="476" y="136"/>
                  </a:lnTo>
                  <a:lnTo>
                    <a:pt x="468" y="139"/>
                  </a:lnTo>
                  <a:lnTo>
                    <a:pt x="461" y="140"/>
                  </a:lnTo>
                  <a:lnTo>
                    <a:pt x="454" y="144"/>
                  </a:lnTo>
                  <a:lnTo>
                    <a:pt x="446" y="148"/>
                  </a:lnTo>
                  <a:lnTo>
                    <a:pt x="438" y="153"/>
                  </a:lnTo>
                  <a:lnTo>
                    <a:pt x="430" y="157"/>
                  </a:lnTo>
                  <a:lnTo>
                    <a:pt x="420" y="162"/>
                  </a:lnTo>
                  <a:lnTo>
                    <a:pt x="411" y="168"/>
                  </a:lnTo>
                  <a:lnTo>
                    <a:pt x="402" y="173"/>
                  </a:lnTo>
                  <a:lnTo>
                    <a:pt x="392" y="180"/>
                  </a:lnTo>
                  <a:lnTo>
                    <a:pt x="383" y="187"/>
                  </a:lnTo>
                  <a:lnTo>
                    <a:pt x="374" y="196"/>
                  </a:lnTo>
                  <a:lnTo>
                    <a:pt x="363" y="203"/>
                  </a:lnTo>
                  <a:lnTo>
                    <a:pt x="354" y="213"/>
                  </a:lnTo>
                  <a:lnTo>
                    <a:pt x="343" y="221"/>
                  </a:lnTo>
                  <a:lnTo>
                    <a:pt x="334" y="230"/>
                  </a:lnTo>
                  <a:lnTo>
                    <a:pt x="325" y="240"/>
                  </a:lnTo>
                  <a:lnTo>
                    <a:pt x="316" y="249"/>
                  </a:lnTo>
                  <a:lnTo>
                    <a:pt x="307" y="260"/>
                  </a:lnTo>
                  <a:lnTo>
                    <a:pt x="300" y="270"/>
                  </a:lnTo>
                  <a:lnTo>
                    <a:pt x="292" y="278"/>
                  </a:lnTo>
                  <a:lnTo>
                    <a:pt x="286" y="286"/>
                  </a:lnTo>
                  <a:lnTo>
                    <a:pt x="279" y="293"/>
                  </a:lnTo>
                  <a:lnTo>
                    <a:pt x="276" y="300"/>
                  </a:lnTo>
                  <a:lnTo>
                    <a:pt x="271" y="304"/>
                  </a:lnTo>
                  <a:lnTo>
                    <a:pt x="269" y="310"/>
                  </a:lnTo>
                  <a:lnTo>
                    <a:pt x="267" y="311"/>
                  </a:lnTo>
                  <a:lnTo>
                    <a:pt x="267" y="312"/>
                  </a:lnTo>
                  <a:lnTo>
                    <a:pt x="242" y="411"/>
                  </a:lnTo>
                  <a:lnTo>
                    <a:pt x="120" y="449"/>
                  </a:lnTo>
                  <a:lnTo>
                    <a:pt x="56" y="406"/>
                  </a:lnTo>
                  <a:lnTo>
                    <a:pt x="56" y="406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685480" y="4961520"/>
              <a:ext cx="464760" cy="484200"/>
            </a:xfrm>
            <a:custGeom>
              <a:avLst/>
              <a:gdLst/>
              <a:ahLst/>
              <a:rect l="l" t="t" r="r" b="b"/>
              <a:pathLst>
                <a:path w="306" h="321">
                  <a:moveTo>
                    <a:pt x="15" y="88"/>
                  </a:moveTo>
                  <a:lnTo>
                    <a:pt x="0" y="113"/>
                  </a:lnTo>
                  <a:lnTo>
                    <a:pt x="10" y="135"/>
                  </a:lnTo>
                  <a:lnTo>
                    <a:pt x="23" y="321"/>
                  </a:lnTo>
                  <a:lnTo>
                    <a:pt x="23" y="318"/>
                  </a:lnTo>
                  <a:lnTo>
                    <a:pt x="27" y="314"/>
                  </a:lnTo>
                  <a:lnTo>
                    <a:pt x="30" y="307"/>
                  </a:lnTo>
                  <a:lnTo>
                    <a:pt x="35" y="299"/>
                  </a:lnTo>
                  <a:lnTo>
                    <a:pt x="37" y="294"/>
                  </a:lnTo>
                  <a:lnTo>
                    <a:pt x="39" y="288"/>
                  </a:lnTo>
                  <a:lnTo>
                    <a:pt x="42" y="283"/>
                  </a:lnTo>
                  <a:lnTo>
                    <a:pt x="44" y="279"/>
                  </a:lnTo>
                  <a:lnTo>
                    <a:pt x="46" y="273"/>
                  </a:lnTo>
                  <a:lnTo>
                    <a:pt x="49" y="268"/>
                  </a:lnTo>
                  <a:lnTo>
                    <a:pt x="51" y="262"/>
                  </a:lnTo>
                  <a:lnTo>
                    <a:pt x="55" y="258"/>
                  </a:lnTo>
                  <a:lnTo>
                    <a:pt x="55" y="253"/>
                  </a:lnTo>
                  <a:lnTo>
                    <a:pt x="57" y="249"/>
                  </a:lnTo>
                  <a:lnTo>
                    <a:pt x="57" y="246"/>
                  </a:lnTo>
                  <a:lnTo>
                    <a:pt x="59" y="243"/>
                  </a:lnTo>
                  <a:lnTo>
                    <a:pt x="62" y="240"/>
                  </a:lnTo>
                  <a:lnTo>
                    <a:pt x="65" y="239"/>
                  </a:lnTo>
                  <a:lnTo>
                    <a:pt x="67" y="238"/>
                  </a:lnTo>
                  <a:lnTo>
                    <a:pt x="71" y="236"/>
                  </a:lnTo>
                  <a:lnTo>
                    <a:pt x="74" y="235"/>
                  </a:lnTo>
                  <a:lnTo>
                    <a:pt x="80" y="232"/>
                  </a:lnTo>
                  <a:lnTo>
                    <a:pt x="85" y="227"/>
                  </a:lnTo>
                  <a:lnTo>
                    <a:pt x="92" y="220"/>
                  </a:lnTo>
                  <a:lnTo>
                    <a:pt x="99" y="212"/>
                  </a:lnTo>
                  <a:lnTo>
                    <a:pt x="107" y="204"/>
                  </a:lnTo>
                  <a:lnTo>
                    <a:pt x="110" y="198"/>
                  </a:lnTo>
                  <a:lnTo>
                    <a:pt x="114" y="194"/>
                  </a:lnTo>
                  <a:lnTo>
                    <a:pt x="119" y="190"/>
                  </a:lnTo>
                  <a:lnTo>
                    <a:pt x="123" y="186"/>
                  </a:lnTo>
                  <a:lnTo>
                    <a:pt x="128" y="180"/>
                  </a:lnTo>
                  <a:lnTo>
                    <a:pt x="133" y="176"/>
                  </a:lnTo>
                  <a:lnTo>
                    <a:pt x="137" y="172"/>
                  </a:lnTo>
                  <a:lnTo>
                    <a:pt x="143" y="169"/>
                  </a:lnTo>
                  <a:lnTo>
                    <a:pt x="148" y="165"/>
                  </a:lnTo>
                  <a:lnTo>
                    <a:pt x="151" y="163"/>
                  </a:lnTo>
                  <a:lnTo>
                    <a:pt x="156" y="160"/>
                  </a:lnTo>
                  <a:lnTo>
                    <a:pt x="161" y="157"/>
                  </a:lnTo>
                  <a:lnTo>
                    <a:pt x="165" y="154"/>
                  </a:lnTo>
                  <a:lnTo>
                    <a:pt x="171" y="153"/>
                  </a:lnTo>
                  <a:lnTo>
                    <a:pt x="174" y="152"/>
                  </a:lnTo>
                  <a:lnTo>
                    <a:pt x="180" y="150"/>
                  </a:lnTo>
                  <a:lnTo>
                    <a:pt x="185" y="148"/>
                  </a:lnTo>
                  <a:lnTo>
                    <a:pt x="190" y="146"/>
                  </a:lnTo>
                  <a:lnTo>
                    <a:pt x="194" y="144"/>
                  </a:lnTo>
                  <a:lnTo>
                    <a:pt x="199" y="144"/>
                  </a:lnTo>
                  <a:lnTo>
                    <a:pt x="204" y="142"/>
                  </a:lnTo>
                  <a:lnTo>
                    <a:pt x="208" y="139"/>
                  </a:lnTo>
                  <a:lnTo>
                    <a:pt x="213" y="138"/>
                  </a:lnTo>
                  <a:lnTo>
                    <a:pt x="219" y="137"/>
                  </a:lnTo>
                  <a:lnTo>
                    <a:pt x="222" y="134"/>
                  </a:lnTo>
                  <a:lnTo>
                    <a:pt x="227" y="131"/>
                  </a:lnTo>
                  <a:lnTo>
                    <a:pt x="232" y="130"/>
                  </a:lnTo>
                  <a:lnTo>
                    <a:pt x="236" y="127"/>
                  </a:lnTo>
                  <a:lnTo>
                    <a:pt x="240" y="124"/>
                  </a:lnTo>
                  <a:lnTo>
                    <a:pt x="244" y="122"/>
                  </a:lnTo>
                  <a:lnTo>
                    <a:pt x="248" y="119"/>
                  </a:lnTo>
                  <a:lnTo>
                    <a:pt x="252" y="116"/>
                  </a:lnTo>
                  <a:lnTo>
                    <a:pt x="259" y="109"/>
                  </a:lnTo>
                  <a:lnTo>
                    <a:pt x="265" y="104"/>
                  </a:lnTo>
                  <a:lnTo>
                    <a:pt x="271" y="97"/>
                  </a:lnTo>
                  <a:lnTo>
                    <a:pt x="277" y="92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6" y="71"/>
                  </a:lnTo>
                  <a:lnTo>
                    <a:pt x="289" y="67"/>
                  </a:lnTo>
                  <a:lnTo>
                    <a:pt x="290" y="62"/>
                  </a:lnTo>
                  <a:lnTo>
                    <a:pt x="291" y="58"/>
                  </a:lnTo>
                  <a:lnTo>
                    <a:pt x="291" y="55"/>
                  </a:lnTo>
                  <a:lnTo>
                    <a:pt x="292" y="55"/>
                  </a:lnTo>
                  <a:lnTo>
                    <a:pt x="306" y="36"/>
                  </a:lnTo>
                  <a:lnTo>
                    <a:pt x="305" y="6"/>
                  </a:lnTo>
                  <a:lnTo>
                    <a:pt x="287" y="0"/>
                  </a:lnTo>
                  <a:lnTo>
                    <a:pt x="277" y="8"/>
                  </a:lnTo>
                  <a:lnTo>
                    <a:pt x="284" y="41"/>
                  </a:lnTo>
                  <a:lnTo>
                    <a:pt x="272" y="25"/>
                  </a:lnTo>
                  <a:lnTo>
                    <a:pt x="268" y="58"/>
                  </a:lnTo>
                  <a:lnTo>
                    <a:pt x="266" y="55"/>
                  </a:lnTo>
                  <a:lnTo>
                    <a:pt x="263" y="55"/>
                  </a:lnTo>
                  <a:lnTo>
                    <a:pt x="259" y="53"/>
                  </a:lnTo>
                  <a:lnTo>
                    <a:pt x="257" y="52"/>
                  </a:lnTo>
                  <a:lnTo>
                    <a:pt x="252" y="52"/>
                  </a:lnTo>
                  <a:lnTo>
                    <a:pt x="248" y="53"/>
                  </a:lnTo>
                  <a:lnTo>
                    <a:pt x="240" y="53"/>
                  </a:lnTo>
                  <a:lnTo>
                    <a:pt x="234" y="55"/>
                  </a:lnTo>
                  <a:lnTo>
                    <a:pt x="227" y="58"/>
                  </a:lnTo>
                  <a:lnTo>
                    <a:pt x="220" y="60"/>
                  </a:lnTo>
                  <a:lnTo>
                    <a:pt x="213" y="63"/>
                  </a:lnTo>
                  <a:lnTo>
                    <a:pt x="206" y="66"/>
                  </a:lnTo>
                  <a:lnTo>
                    <a:pt x="200" y="68"/>
                  </a:lnTo>
                  <a:lnTo>
                    <a:pt x="197" y="73"/>
                  </a:lnTo>
                  <a:lnTo>
                    <a:pt x="192" y="77"/>
                  </a:lnTo>
                  <a:lnTo>
                    <a:pt x="193" y="81"/>
                  </a:lnTo>
                  <a:lnTo>
                    <a:pt x="195" y="82"/>
                  </a:lnTo>
                  <a:lnTo>
                    <a:pt x="200" y="82"/>
                  </a:lnTo>
                  <a:lnTo>
                    <a:pt x="205" y="83"/>
                  </a:lnTo>
                  <a:lnTo>
                    <a:pt x="213" y="85"/>
                  </a:lnTo>
                  <a:lnTo>
                    <a:pt x="219" y="83"/>
                  </a:lnTo>
                  <a:lnTo>
                    <a:pt x="228" y="82"/>
                  </a:lnTo>
                  <a:lnTo>
                    <a:pt x="235" y="82"/>
                  </a:lnTo>
                  <a:lnTo>
                    <a:pt x="243" y="82"/>
                  </a:lnTo>
                  <a:lnTo>
                    <a:pt x="249" y="79"/>
                  </a:lnTo>
                  <a:lnTo>
                    <a:pt x="255" y="79"/>
                  </a:lnTo>
                  <a:lnTo>
                    <a:pt x="259" y="79"/>
                  </a:lnTo>
                  <a:lnTo>
                    <a:pt x="262" y="79"/>
                  </a:lnTo>
                  <a:lnTo>
                    <a:pt x="261" y="79"/>
                  </a:lnTo>
                  <a:lnTo>
                    <a:pt x="259" y="82"/>
                  </a:lnTo>
                  <a:lnTo>
                    <a:pt x="256" y="86"/>
                  </a:lnTo>
                  <a:lnTo>
                    <a:pt x="252" y="92"/>
                  </a:lnTo>
                  <a:lnTo>
                    <a:pt x="247" y="96"/>
                  </a:lnTo>
                  <a:lnTo>
                    <a:pt x="241" y="101"/>
                  </a:lnTo>
                  <a:lnTo>
                    <a:pt x="234" y="104"/>
                  </a:lnTo>
                  <a:lnTo>
                    <a:pt x="226" y="107"/>
                  </a:lnTo>
                  <a:lnTo>
                    <a:pt x="221" y="105"/>
                  </a:lnTo>
                  <a:lnTo>
                    <a:pt x="216" y="105"/>
                  </a:lnTo>
                  <a:lnTo>
                    <a:pt x="213" y="104"/>
                  </a:lnTo>
                  <a:lnTo>
                    <a:pt x="208" y="104"/>
                  </a:lnTo>
                  <a:lnTo>
                    <a:pt x="205" y="103"/>
                  </a:lnTo>
                  <a:lnTo>
                    <a:pt x="200" y="101"/>
                  </a:lnTo>
                  <a:lnTo>
                    <a:pt x="195" y="100"/>
                  </a:lnTo>
                  <a:lnTo>
                    <a:pt x="191" y="98"/>
                  </a:lnTo>
                  <a:lnTo>
                    <a:pt x="186" y="96"/>
                  </a:lnTo>
                  <a:lnTo>
                    <a:pt x="181" y="94"/>
                  </a:lnTo>
                  <a:lnTo>
                    <a:pt x="177" y="93"/>
                  </a:lnTo>
                  <a:lnTo>
                    <a:pt x="172" y="93"/>
                  </a:lnTo>
                  <a:lnTo>
                    <a:pt x="164" y="92"/>
                  </a:lnTo>
                  <a:lnTo>
                    <a:pt x="158" y="94"/>
                  </a:lnTo>
                  <a:lnTo>
                    <a:pt x="151" y="96"/>
                  </a:lnTo>
                  <a:lnTo>
                    <a:pt x="148" y="101"/>
                  </a:lnTo>
                  <a:lnTo>
                    <a:pt x="143" y="107"/>
                  </a:lnTo>
                  <a:lnTo>
                    <a:pt x="140" y="113"/>
                  </a:lnTo>
                  <a:lnTo>
                    <a:pt x="136" y="119"/>
                  </a:lnTo>
                  <a:lnTo>
                    <a:pt x="133" y="127"/>
                  </a:lnTo>
                  <a:lnTo>
                    <a:pt x="129" y="133"/>
                  </a:lnTo>
                  <a:lnTo>
                    <a:pt x="126" y="139"/>
                  </a:lnTo>
                  <a:lnTo>
                    <a:pt x="121" y="142"/>
                  </a:lnTo>
                  <a:lnTo>
                    <a:pt x="115" y="145"/>
                  </a:lnTo>
                  <a:lnTo>
                    <a:pt x="109" y="146"/>
                  </a:lnTo>
                  <a:lnTo>
                    <a:pt x="105" y="148"/>
                  </a:lnTo>
                  <a:lnTo>
                    <a:pt x="99" y="146"/>
                  </a:lnTo>
                  <a:lnTo>
                    <a:pt x="94" y="145"/>
                  </a:lnTo>
                  <a:lnTo>
                    <a:pt x="90" y="142"/>
                  </a:lnTo>
                  <a:lnTo>
                    <a:pt x="86" y="141"/>
                  </a:lnTo>
                  <a:lnTo>
                    <a:pt x="84" y="135"/>
                  </a:lnTo>
                  <a:lnTo>
                    <a:pt x="83" y="131"/>
                  </a:lnTo>
                  <a:lnTo>
                    <a:pt x="80" y="127"/>
                  </a:lnTo>
                  <a:lnTo>
                    <a:pt x="80" y="122"/>
                  </a:lnTo>
                  <a:lnTo>
                    <a:pt x="78" y="116"/>
                  </a:lnTo>
                  <a:lnTo>
                    <a:pt x="78" y="112"/>
                  </a:lnTo>
                  <a:lnTo>
                    <a:pt x="76" y="109"/>
                  </a:lnTo>
                  <a:lnTo>
                    <a:pt x="73" y="107"/>
                  </a:lnTo>
                  <a:lnTo>
                    <a:pt x="70" y="104"/>
                  </a:lnTo>
                  <a:lnTo>
                    <a:pt x="65" y="103"/>
                  </a:lnTo>
                  <a:lnTo>
                    <a:pt x="58" y="103"/>
                  </a:lnTo>
                  <a:lnTo>
                    <a:pt x="55" y="103"/>
                  </a:lnTo>
                  <a:lnTo>
                    <a:pt x="49" y="103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46" y="107"/>
                  </a:lnTo>
                  <a:lnTo>
                    <a:pt x="50" y="111"/>
                  </a:lnTo>
                  <a:lnTo>
                    <a:pt x="56" y="116"/>
                  </a:lnTo>
                  <a:lnTo>
                    <a:pt x="57" y="124"/>
                  </a:lnTo>
                  <a:lnTo>
                    <a:pt x="57" y="134"/>
                  </a:lnTo>
                  <a:lnTo>
                    <a:pt x="56" y="141"/>
                  </a:lnTo>
                  <a:lnTo>
                    <a:pt x="56" y="144"/>
                  </a:lnTo>
                  <a:lnTo>
                    <a:pt x="31" y="116"/>
                  </a:lnTo>
                  <a:lnTo>
                    <a:pt x="15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d1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394960" y="5124600"/>
              <a:ext cx="312840" cy="473400"/>
            </a:xfrm>
            <a:custGeom>
              <a:avLst/>
              <a:gdLst/>
              <a:ahLst/>
              <a:rect l="l" t="t" r="r" b="b"/>
              <a:pathLst>
                <a:path w="206" h="314">
                  <a:moveTo>
                    <a:pt x="7" y="265"/>
                  </a:moveTo>
                  <a:lnTo>
                    <a:pt x="14" y="228"/>
                  </a:lnTo>
                  <a:lnTo>
                    <a:pt x="13" y="160"/>
                  </a:lnTo>
                  <a:lnTo>
                    <a:pt x="0" y="132"/>
                  </a:lnTo>
                  <a:lnTo>
                    <a:pt x="14" y="134"/>
                  </a:lnTo>
                  <a:lnTo>
                    <a:pt x="51" y="107"/>
                  </a:lnTo>
                  <a:lnTo>
                    <a:pt x="99" y="40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5"/>
                  </a:lnTo>
                  <a:lnTo>
                    <a:pt x="104" y="59"/>
                  </a:lnTo>
                  <a:lnTo>
                    <a:pt x="105" y="66"/>
                  </a:lnTo>
                  <a:lnTo>
                    <a:pt x="105" y="71"/>
                  </a:lnTo>
                  <a:lnTo>
                    <a:pt x="106" y="78"/>
                  </a:lnTo>
                  <a:lnTo>
                    <a:pt x="106" y="83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5" y="105"/>
                  </a:lnTo>
                  <a:lnTo>
                    <a:pt x="104" y="113"/>
                  </a:lnTo>
                  <a:lnTo>
                    <a:pt x="102" y="120"/>
                  </a:lnTo>
                  <a:lnTo>
                    <a:pt x="99" y="127"/>
                  </a:lnTo>
                  <a:lnTo>
                    <a:pt x="97" y="134"/>
                  </a:lnTo>
                  <a:lnTo>
                    <a:pt x="93" y="141"/>
                  </a:lnTo>
                  <a:lnTo>
                    <a:pt x="91" y="148"/>
                  </a:lnTo>
                  <a:lnTo>
                    <a:pt x="87" y="153"/>
                  </a:lnTo>
                  <a:lnTo>
                    <a:pt x="85" y="158"/>
                  </a:lnTo>
                  <a:lnTo>
                    <a:pt x="81" y="164"/>
                  </a:lnTo>
                  <a:lnTo>
                    <a:pt x="79" y="171"/>
                  </a:lnTo>
                  <a:lnTo>
                    <a:pt x="74" y="179"/>
                  </a:lnTo>
                  <a:lnTo>
                    <a:pt x="71" y="187"/>
                  </a:lnTo>
                  <a:lnTo>
                    <a:pt x="70" y="193"/>
                  </a:lnTo>
                  <a:lnTo>
                    <a:pt x="71" y="197"/>
                  </a:lnTo>
                  <a:lnTo>
                    <a:pt x="74" y="198"/>
                  </a:lnTo>
                  <a:lnTo>
                    <a:pt x="81" y="198"/>
                  </a:lnTo>
                  <a:lnTo>
                    <a:pt x="85" y="198"/>
                  </a:lnTo>
                  <a:lnTo>
                    <a:pt x="90" y="198"/>
                  </a:lnTo>
                  <a:lnTo>
                    <a:pt x="93" y="197"/>
                  </a:lnTo>
                  <a:lnTo>
                    <a:pt x="98" y="197"/>
                  </a:lnTo>
                  <a:lnTo>
                    <a:pt x="106" y="195"/>
                  </a:lnTo>
                  <a:lnTo>
                    <a:pt x="113" y="195"/>
                  </a:lnTo>
                  <a:lnTo>
                    <a:pt x="118" y="197"/>
                  </a:lnTo>
                  <a:lnTo>
                    <a:pt x="120" y="201"/>
                  </a:lnTo>
                  <a:lnTo>
                    <a:pt x="118" y="205"/>
                  </a:lnTo>
                  <a:lnTo>
                    <a:pt x="113" y="213"/>
                  </a:lnTo>
                  <a:lnTo>
                    <a:pt x="106" y="221"/>
                  </a:lnTo>
                  <a:lnTo>
                    <a:pt x="98" y="231"/>
                  </a:lnTo>
                  <a:lnTo>
                    <a:pt x="93" y="235"/>
                  </a:lnTo>
                  <a:lnTo>
                    <a:pt x="90" y="240"/>
                  </a:lnTo>
                  <a:lnTo>
                    <a:pt x="85" y="244"/>
                  </a:lnTo>
                  <a:lnTo>
                    <a:pt x="81" y="250"/>
                  </a:lnTo>
                  <a:lnTo>
                    <a:pt x="74" y="257"/>
                  </a:lnTo>
                  <a:lnTo>
                    <a:pt x="71" y="264"/>
                  </a:lnTo>
                  <a:lnTo>
                    <a:pt x="69" y="266"/>
                  </a:lnTo>
                  <a:lnTo>
                    <a:pt x="71" y="268"/>
                  </a:lnTo>
                  <a:lnTo>
                    <a:pt x="73" y="266"/>
                  </a:lnTo>
                  <a:lnTo>
                    <a:pt x="79" y="266"/>
                  </a:lnTo>
                  <a:lnTo>
                    <a:pt x="84" y="265"/>
                  </a:lnTo>
                  <a:lnTo>
                    <a:pt x="91" y="264"/>
                  </a:lnTo>
                  <a:lnTo>
                    <a:pt x="97" y="262"/>
                  </a:lnTo>
                  <a:lnTo>
                    <a:pt x="104" y="264"/>
                  </a:lnTo>
                  <a:lnTo>
                    <a:pt x="107" y="265"/>
                  </a:lnTo>
                  <a:lnTo>
                    <a:pt x="111" y="268"/>
                  </a:lnTo>
                  <a:lnTo>
                    <a:pt x="114" y="270"/>
                  </a:lnTo>
                  <a:lnTo>
                    <a:pt x="116" y="276"/>
                  </a:lnTo>
                  <a:lnTo>
                    <a:pt x="119" y="280"/>
                  </a:lnTo>
                  <a:lnTo>
                    <a:pt x="122" y="283"/>
                  </a:lnTo>
                  <a:lnTo>
                    <a:pt x="126" y="284"/>
                  </a:lnTo>
                  <a:lnTo>
                    <a:pt x="132" y="285"/>
                  </a:lnTo>
                  <a:lnTo>
                    <a:pt x="136" y="283"/>
                  </a:lnTo>
                  <a:lnTo>
                    <a:pt x="142" y="280"/>
                  </a:lnTo>
                  <a:lnTo>
                    <a:pt x="148" y="274"/>
                  </a:lnTo>
                  <a:lnTo>
                    <a:pt x="155" y="269"/>
                  </a:lnTo>
                  <a:lnTo>
                    <a:pt x="159" y="262"/>
                  </a:lnTo>
                  <a:lnTo>
                    <a:pt x="165" y="254"/>
                  </a:lnTo>
                  <a:lnTo>
                    <a:pt x="169" y="247"/>
                  </a:lnTo>
                  <a:lnTo>
                    <a:pt x="171" y="242"/>
                  </a:lnTo>
                  <a:lnTo>
                    <a:pt x="171" y="236"/>
                  </a:lnTo>
                  <a:lnTo>
                    <a:pt x="170" y="231"/>
                  </a:lnTo>
                  <a:lnTo>
                    <a:pt x="166" y="227"/>
                  </a:lnTo>
                  <a:lnTo>
                    <a:pt x="163" y="224"/>
                  </a:lnTo>
                  <a:lnTo>
                    <a:pt x="157" y="217"/>
                  </a:lnTo>
                  <a:lnTo>
                    <a:pt x="156" y="212"/>
                  </a:lnTo>
                  <a:lnTo>
                    <a:pt x="156" y="206"/>
                  </a:lnTo>
                  <a:lnTo>
                    <a:pt x="159" y="202"/>
                  </a:lnTo>
                  <a:lnTo>
                    <a:pt x="162" y="197"/>
                  </a:lnTo>
                  <a:lnTo>
                    <a:pt x="166" y="193"/>
                  </a:lnTo>
                  <a:lnTo>
                    <a:pt x="170" y="187"/>
                  </a:lnTo>
                  <a:lnTo>
                    <a:pt x="175" y="182"/>
                  </a:lnTo>
                  <a:lnTo>
                    <a:pt x="178" y="176"/>
                  </a:lnTo>
                  <a:lnTo>
                    <a:pt x="182" y="172"/>
                  </a:lnTo>
                  <a:lnTo>
                    <a:pt x="183" y="163"/>
                  </a:lnTo>
                  <a:lnTo>
                    <a:pt x="180" y="158"/>
                  </a:lnTo>
                  <a:lnTo>
                    <a:pt x="178" y="153"/>
                  </a:lnTo>
                  <a:lnTo>
                    <a:pt x="177" y="150"/>
                  </a:lnTo>
                  <a:lnTo>
                    <a:pt x="177" y="146"/>
                  </a:lnTo>
                  <a:lnTo>
                    <a:pt x="180" y="142"/>
                  </a:lnTo>
                  <a:lnTo>
                    <a:pt x="183" y="138"/>
                  </a:lnTo>
                  <a:lnTo>
                    <a:pt x="184" y="135"/>
                  </a:lnTo>
                  <a:lnTo>
                    <a:pt x="186" y="130"/>
                  </a:lnTo>
                  <a:lnTo>
                    <a:pt x="189" y="124"/>
                  </a:lnTo>
                  <a:lnTo>
                    <a:pt x="189" y="116"/>
                  </a:lnTo>
                  <a:lnTo>
                    <a:pt x="191" y="109"/>
                  </a:lnTo>
                  <a:lnTo>
                    <a:pt x="191" y="101"/>
                  </a:lnTo>
                  <a:lnTo>
                    <a:pt x="191" y="93"/>
                  </a:lnTo>
                  <a:lnTo>
                    <a:pt x="191" y="86"/>
                  </a:lnTo>
                  <a:lnTo>
                    <a:pt x="191" y="81"/>
                  </a:lnTo>
                  <a:lnTo>
                    <a:pt x="191" y="76"/>
                  </a:lnTo>
                  <a:lnTo>
                    <a:pt x="191" y="76"/>
                  </a:lnTo>
                  <a:lnTo>
                    <a:pt x="168" y="86"/>
                  </a:lnTo>
                  <a:lnTo>
                    <a:pt x="134" y="0"/>
                  </a:lnTo>
                  <a:lnTo>
                    <a:pt x="173" y="66"/>
                  </a:lnTo>
                  <a:lnTo>
                    <a:pt x="197" y="34"/>
                  </a:lnTo>
                  <a:lnTo>
                    <a:pt x="206" y="71"/>
                  </a:lnTo>
                  <a:lnTo>
                    <a:pt x="206" y="72"/>
                  </a:lnTo>
                  <a:lnTo>
                    <a:pt x="206" y="78"/>
                  </a:lnTo>
                  <a:lnTo>
                    <a:pt x="205" y="81"/>
                  </a:lnTo>
                  <a:lnTo>
                    <a:pt x="205" y="86"/>
                  </a:lnTo>
                  <a:lnTo>
                    <a:pt x="205" y="92"/>
                  </a:lnTo>
                  <a:lnTo>
                    <a:pt x="205" y="98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3" y="113"/>
                  </a:lnTo>
                  <a:lnTo>
                    <a:pt x="203" y="120"/>
                  </a:lnTo>
                  <a:lnTo>
                    <a:pt x="201" y="124"/>
                  </a:lnTo>
                  <a:lnTo>
                    <a:pt x="201" y="130"/>
                  </a:lnTo>
                  <a:lnTo>
                    <a:pt x="200" y="132"/>
                  </a:lnTo>
                  <a:lnTo>
                    <a:pt x="200" y="138"/>
                  </a:lnTo>
                  <a:lnTo>
                    <a:pt x="194" y="143"/>
                  </a:lnTo>
                  <a:lnTo>
                    <a:pt x="191" y="148"/>
                  </a:lnTo>
                  <a:lnTo>
                    <a:pt x="187" y="150"/>
                  </a:lnTo>
                  <a:lnTo>
                    <a:pt x="186" y="153"/>
                  </a:lnTo>
                  <a:lnTo>
                    <a:pt x="187" y="158"/>
                  </a:lnTo>
                  <a:lnTo>
                    <a:pt x="189" y="167"/>
                  </a:lnTo>
                  <a:lnTo>
                    <a:pt x="191" y="175"/>
                  </a:lnTo>
                  <a:lnTo>
                    <a:pt x="190" y="183"/>
                  </a:lnTo>
                  <a:lnTo>
                    <a:pt x="185" y="187"/>
                  </a:lnTo>
                  <a:lnTo>
                    <a:pt x="179" y="191"/>
                  </a:lnTo>
                  <a:lnTo>
                    <a:pt x="176" y="194"/>
                  </a:lnTo>
                  <a:lnTo>
                    <a:pt x="173" y="198"/>
                  </a:lnTo>
                  <a:lnTo>
                    <a:pt x="171" y="202"/>
                  </a:lnTo>
                  <a:lnTo>
                    <a:pt x="171" y="208"/>
                  </a:lnTo>
                  <a:lnTo>
                    <a:pt x="172" y="213"/>
                  </a:lnTo>
                  <a:lnTo>
                    <a:pt x="173" y="220"/>
                  </a:lnTo>
                  <a:lnTo>
                    <a:pt x="176" y="228"/>
                  </a:lnTo>
                  <a:lnTo>
                    <a:pt x="179" y="235"/>
                  </a:lnTo>
                  <a:lnTo>
                    <a:pt x="182" y="240"/>
                  </a:lnTo>
                  <a:lnTo>
                    <a:pt x="184" y="246"/>
                  </a:lnTo>
                  <a:lnTo>
                    <a:pt x="185" y="250"/>
                  </a:lnTo>
                  <a:lnTo>
                    <a:pt x="186" y="251"/>
                  </a:lnTo>
                  <a:lnTo>
                    <a:pt x="147" y="303"/>
                  </a:lnTo>
                  <a:lnTo>
                    <a:pt x="144" y="303"/>
                  </a:lnTo>
                  <a:lnTo>
                    <a:pt x="141" y="305"/>
                  </a:lnTo>
                  <a:lnTo>
                    <a:pt x="136" y="307"/>
                  </a:lnTo>
                  <a:lnTo>
                    <a:pt x="129" y="310"/>
                  </a:lnTo>
                  <a:lnTo>
                    <a:pt x="126" y="310"/>
                  </a:lnTo>
                  <a:lnTo>
                    <a:pt x="121" y="311"/>
                  </a:lnTo>
                  <a:lnTo>
                    <a:pt x="116" y="311"/>
                  </a:lnTo>
                  <a:lnTo>
                    <a:pt x="112" y="313"/>
                  </a:lnTo>
                  <a:lnTo>
                    <a:pt x="106" y="313"/>
                  </a:lnTo>
                  <a:lnTo>
                    <a:pt x="101" y="314"/>
                  </a:lnTo>
                  <a:lnTo>
                    <a:pt x="95" y="314"/>
                  </a:lnTo>
                  <a:lnTo>
                    <a:pt x="91" y="314"/>
                  </a:lnTo>
                  <a:lnTo>
                    <a:pt x="84" y="313"/>
                  </a:lnTo>
                  <a:lnTo>
                    <a:pt x="79" y="311"/>
                  </a:lnTo>
                  <a:lnTo>
                    <a:pt x="72" y="310"/>
                  </a:lnTo>
                  <a:lnTo>
                    <a:pt x="67" y="310"/>
                  </a:lnTo>
                  <a:lnTo>
                    <a:pt x="62" y="307"/>
                  </a:lnTo>
                  <a:lnTo>
                    <a:pt x="57" y="306"/>
                  </a:lnTo>
                  <a:lnTo>
                    <a:pt x="52" y="305"/>
                  </a:lnTo>
                  <a:lnTo>
                    <a:pt x="48" y="302"/>
                  </a:lnTo>
                  <a:lnTo>
                    <a:pt x="43" y="299"/>
                  </a:lnTo>
                  <a:lnTo>
                    <a:pt x="40" y="298"/>
                  </a:lnTo>
                  <a:lnTo>
                    <a:pt x="36" y="296"/>
                  </a:lnTo>
                  <a:lnTo>
                    <a:pt x="34" y="295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30" y="292"/>
                  </a:lnTo>
                  <a:lnTo>
                    <a:pt x="33" y="292"/>
                  </a:lnTo>
                  <a:lnTo>
                    <a:pt x="37" y="291"/>
                  </a:lnTo>
                  <a:lnTo>
                    <a:pt x="43" y="291"/>
                  </a:lnTo>
                  <a:lnTo>
                    <a:pt x="48" y="290"/>
                  </a:lnTo>
                  <a:lnTo>
                    <a:pt x="52" y="287"/>
                  </a:lnTo>
                  <a:lnTo>
                    <a:pt x="56" y="285"/>
                  </a:lnTo>
                  <a:lnTo>
                    <a:pt x="58" y="284"/>
                  </a:lnTo>
                  <a:lnTo>
                    <a:pt x="58" y="280"/>
                  </a:lnTo>
                  <a:lnTo>
                    <a:pt x="56" y="277"/>
                  </a:lnTo>
                  <a:lnTo>
                    <a:pt x="52" y="274"/>
                  </a:lnTo>
                  <a:lnTo>
                    <a:pt x="49" y="272"/>
                  </a:lnTo>
                  <a:lnTo>
                    <a:pt x="43" y="269"/>
                  </a:lnTo>
                  <a:lnTo>
                    <a:pt x="37" y="266"/>
                  </a:lnTo>
                  <a:lnTo>
                    <a:pt x="30" y="265"/>
                  </a:lnTo>
                  <a:lnTo>
                    <a:pt x="26" y="264"/>
                  </a:lnTo>
                  <a:lnTo>
                    <a:pt x="21" y="262"/>
                  </a:lnTo>
                  <a:lnTo>
                    <a:pt x="17" y="262"/>
                  </a:lnTo>
                  <a:lnTo>
                    <a:pt x="14" y="262"/>
                  </a:lnTo>
                  <a:lnTo>
                    <a:pt x="12" y="262"/>
                  </a:lnTo>
                  <a:lnTo>
                    <a:pt x="7" y="264"/>
                  </a:lnTo>
                  <a:lnTo>
                    <a:pt x="7" y="265"/>
                  </a:lnTo>
                  <a:lnTo>
                    <a:pt x="7" y="265"/>
                  </a:lnTo>
                  <a:close/>
                </a:path>
              </a:pathLst>
            </a:custGeom>
            <a:solidFill>
              <a:srgbClr val="d1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639400" y="5807880"/>
              <a:ext cx="236880" cy="285120"/>
            </a:xfrm>
            <a:custGeom>
              <a:avLst/>
              <a:gdLst/>
              <a:ahLst/>
              <a:rect l="l" t="t" r="r" b="b"/>
              <a:pathLst>
                <a:path w="156" h="189">
                  <a:moveTo>
                    <a:pt x="0" y="170"/>
                  </a:moveTo>
                  <a:lnTo>
                    <a:pt x="0" y="168"/>
                  </a:lnTo>
                  <a:lnTo>
                    <a:pt x="4" y="167"/>
                  </a:lnTo>
                  <a:lnTo>
                    <a:pt x="9" y="164"/>
                  </a:lnTo>
                  <a:lnTo>
                    <a:pt x="16" y="161"/>
                  </a:lnTo>
                  <a:lnTo>
                    <a:pt x="23" y="157"/>
                  </a:lnTo>
                  <a:lnTo>
                    <a:pt x="31" y="155"/>
                  </a:lnTo>
                  <a:lnTo>
                    <a:pt x="35" y="152"/>
                  </a:lnTo>
                  <a:lnTo>
                    <a:pt x="39" y="152"/>
                  </a:lnTo>
                  <a:lnTo>
                    <a:pt x="43" y="151"/>
                  </a:lnTo>
                  <a:lnTo>
                    <a:pt x="46" y="151"/>
                  </a:lnTo>
                  <a:lnTo>
                    <a:pt x="52" y="148"/>
                  </a:lnTo>
                  <a:lnTo>
                    <a:pt x="57" y="148"/>
                  </a:lnTo>
                  <a:lnTo>
                    <a:pt x="61" y="148"/>
                  </a:lnTo>
                  <a:lnTo>
                    <a:pt x="66" y="149"/>
                  </a:lnTo>
                  <a:lnTo>
                    <a:pt x="69" y="151"/>
                  </a:lnTo>
                  <a:lnTo>
                    <a:pt x="72" y="152"/>
                  </a:lnTo>
                  <a:lnTo>
                    <a:pt x="74" y="152"/>
                  </a:lnTo>
                  <a:lnTo>
                    <a:pt x="76" y="148"/>
                  </a:lnTo>
                  <a:lnTo>
                    <a:pt x="80" y="142"/>
                  </a:lnTo>
                  <a:lnTo>
                    <a:pt x="82" y="138"/>
                  </a:lnTo>
                  <a:lnTo>
                    <a:pt x="86" y="134"/>
                  </a:lnTo>
                  <a:lnTo>
                    <a:pt x="88" y="129"/>
                  </a:lnTo>
                  <a:lnTo>
                    <a:pt x="93" y="123"/>
                  </a:lnTo>
                  <a:lnTo>
                    <a:pt x="97" y="115"/>
                  </a:lnTo>
                  <a:lnTo>
                    <a:pt x="102" y="107"/>
                  </a:lnTo>
                  <a:lnTo>
                    <a:pt x="106" y="97"/>
                  </a:lnTo>
                  <a:lnTo>
                    <a:pt x="111" y="88"/>
                  </a:lnTo>
                  <a:lnTo>
                    <a:pt x="116" y="77"/>
                  </a:lnTo>
                  <a:lnTo>
                    <a:pt x="122" y="67"/>
                  </a:lnTo>
                  <a:lnTo>
                    <a:pt x="126" y="56"/>
                  </a:lnTo>
                  <a:lnTo>
                    <a:pt x="132" y="47"/>
                  </a:lnTo>
                  <a:lnTo>
                    <a:pt x="137" y="37"/>
                  </a:lnTo>
                  <a:lnTo>
                    <a:pt x="142" y="29"/>
                  </a:lnTo>
                  <a:lnTo>
                    <a:pt x="145" y="21"/>
                  </a:lnTo>
                  <a:lnTo>
                    <a:pt x="149" y="14"/>
                  </a:lnTo>
                  <a:lnTo>
                    <a:pt x="151" y="7"/>
                  </a:lnTo>
                  <a:lnTo>
                    <a:pt x="154" y="4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4" y="3"/>
                  </a:lnTo>
                  <a:lnTo>
                    <a:pt x="153" y="7"/>
                  </a:lnTo>
                  <a:lnTo>
                    <a:pt x="152" y="13"/>
                  </a:lnTo>
                  <a:lnTo>
                    <a:pt x="150" y="18"/>
                  </a:lnTo>
                  <a:lnTo>
                    <a:pt x="147" y="25"/>
                  </a:lnTo>
                  <a:lnTo>
                    <a:pt x="145" y="32"/>
                  </a:lnTo>
                  <a:lnTo>
                    <a:pt x="143" y="40"/>
                  </a:lnTo>
                  <a:lnTo>
                    <a:pt x="139" y="48"/>
                  </a:lnTo>
                  <a:lnTo>
                    <a:pt x="137" y="58"/>
                  </a:lnTo>
                  <a:lnTo>
                    <a:pt x="133" y="67"/>
                  </a:lnTo>
                  <a:lnTo>
                    <a:pt x="131" y="77"/>
                  </a:lnTo>
                  <a:lnTo>
                    <a:pt x="129" y="85"/>
                  </a:lnTo>
                  <a:lnTo>
                    <a:pt x="126" y="95"/>
                  </a:lnTo>
                  <a:lnTo>
                    <a:pt x="124" y="104"/>
                  </a:lnTo>
                  <a:lnTo>
                    <a:pt x="122" y="112"/>
                  </a:lnTo>
                  <a:lnTo>
                    <a:pt x="121" y="119"/>
                  </a:lnTo>
                  <a:lnTo>
                    <a:pt x="118" y="126"/>
                  </a:lnTo>
                  <a:lnTo>
                    <a:pt x="116" y="131"/>
                  </a:lnTo>
                  <a:lnTo>
                    <a:pt x="115" y="138"/>
                  </a:lnTo>
                  <a:lnTo>
                    <a:pt x="114" y="142"/>
                  </a:lnTo>
                  <a:lnTo>
                    <a:pt x="113" y="148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1" y="161"/>
                  </a:lnTo>
                  <a:lnTo>
                    <a:pt x="111" y="164"/>
                  </a:lnTo>
                  <a:lnTo>
                    <a:pt x="111" y="167"/>
                  </a:lnTo>
                  <a:lnTo>
                    <a:pt x="111" y="168"/>
                  </a:lnTo>
                  <a:lnTo>
                    <a:pt x="59" y="189"/>
                  </a:lnTo>
                  <a:lnTo>
                    <a:pt x="58" y="187"/>
                  </a:lnTo>
                  <a:lnTo>
                    <a:pt x="55" y="187"/>
                  </a:lnTo>
                  <a:lnTo>
                    <a:pt x="51" y="187"/>
                  </a:lnTo>
                  <a:lnTo>
                    <a:pt x="46" y="187"/>
                  </a:lnTo>
                  <a:lnTo>
                    <a:pt x="40" y="186"/>
                  </a:lnTo>
                  <a:lnTo>
                    <a:pt x="33" y="186"/>
                  </a:lnTo>
                  <a:lnTo>
                    <a:pt x="28" y="185"/>
                  </a:lnTo>
                  <a:lnTo>
                    <a:pt x="22" y="183"/>
                  </a:lnTo>
                  <a:lnTo>
                    <a:pt x="17" y="181"/>
                  </a:lnTo>
                  <a:lnTo>
                    <a:pt x="12" y="179"/>
                  </a:lnTo>
                  <a:lnTo>
                    <a:pt x="8" y="177"/>
                  </a:lnTo>
                  <a:lnTo>
                    <a:pt x="5" y="175"/>
                  </a:lnTo>
                  <a:lnTo>
                    <a:pt x="1" y="171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642640" y="6064560"/>
              <a:ext cx="230760" cy="58680"/>
            </a:xfrm>
            <a:custGeom>
              <a:avLst/>
              <a:gdLst/>
              <a:ahLst/>
              <a:rect l="l" t="t" r="r" b="b"/>
              <a:pathLst>
                <a:path w="152" h="39">
                  <a:moveTo>
                    <a:pt x="19" y="0"/>
                  </a:moveTo>
                  <a:lnTo>
                    <a:pt x="5" y="20"/>
                  </a:lnTo>
                  <a:lnTo>
                    <a:pt x="0" y="39"/>
                  </a:lnTo>
                  <a:lnTo>
                    <a:pt x="152" y="31"/>
                  </a:lnTo>
                  <a:lnTo>
                    <a:pt x="140" y="13"/>
                  </a:lnTo>
                  <a:lnTo>
                    <a:pt x="138" y="13"/>
                  </a:lnTo>
                  <a:lnTo>
                    <a:pt x="136" y="13"/>
                  </a:lnTo>
                  <a:lnTo>
                    <a:pt x="131" y="13"/>
                  </a:lnTo>
                  <a:lnTo>
                    <a:pt x="128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3"/>
                  </a:lnTo>
                  <a:lnTo>
                    <a:pt x="104" y="13"/>
                  </a:lnTo>
                  <a:lnTo>
                    <a:pt x="97" y="12"/>
                  </a:lnTo>
                  <a:lnTo>
                    <a:pt x="91" y="9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37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13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601600" y="4772880"/>
              <a:ext cx="206640" cy="37224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97" y="0"/>
                  </a:moveTo>
                  <a:lnTo>
                    <a:pt x="122" y="47"/>
                  </a:lnTo>
                  <a:lnTo>
                    <a:pt x="121" y="61"/>
                  </a:lnTo>
                  <a:lnTo>
                    <a:pt x="136" y="91"/>
                  </a:lnTo>
                  <a:lnTo>
                    <a:pt x="125" y="107"/>
                  </a:lnTo>
                  <a:lnTo>
                    <a:pt x="125" y="154"/>
                  </a:lnTo>
                  <a:lnTo>
                    <a:pt x="92" y="183"/>
                  </a:lnTo>
                  <a:lnTo>
                    <a:pt x="60" y="247"/>
                  </a:lnTo>
                  <a:lnTo>
                    <a:pt x="7" y="198"/>
                  </a:lnTo>
                  <a:lnTo>
                    <a:pt x="7" y="195"/>
                  </a:lnTo>
                  <a:lnTo>
                    <a:pt x="8" y="192"/>
                  </a:lnTo>
                  <a:lnTo>
                    <a:pt x="9" y="188"/>
                  </a:lnTo>
                  <a:lnTo>
                    <a:pt x="12" y="183"/>
                  </a:lnTo>
                  <a:lnTo>
                    <a:pt x="13" y="174"/>
                  </a:lnTo>
                  <a:lnTo>
                    <a:pt x="14" y="166"/>
                  </a:lnTo>
                  <a:lnTo>
                    <a:pt x="14" y="161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4" y="144"/>
                  </a:lnTo>
                  <a:lnTo>
                    <a:pt x="14" y="136"/>
                  </a:lnTo>
                  <a:lnTo>
                    <a:pt x="13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9"/>
                  </a:lnTo>
                  <a:lnTo>
                    <a:pt x="8" y="103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36" y="2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682240" y="5165280"/>
              <a:ext cx="40680" cy="705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8" y="2"/>
                  </a:moveTo>
                  <a:lnTo>
                    <a:pt x="17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5" y="18"/>
                  </a:lnTo>
                  <a:lnTo>
                    <a:pt x="27" y="21"/>
                  </a:lnTo>
                  <a:lnTo>
                    <a:pt x="15" y="47"/>
                  </a:lnTo>
                  <a:lnTo>
                    <a:pt x="0" y="21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e9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39560" y="5081040"/>
              <a:ext cx="135000" cy="5544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0" y="18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8" y="3"/>
                  </a:lnTo>
                  <a:lnTo>
                    <a:pt x="64" y="6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9" y="13"/>
                  </a:lnTo>
                  <a:lnTo>
                    <a:pt x="81" y="15"/>
                  </a:lnTo>
                  <a:lnTo>
                    <a:pt x="89" y="37"/>
                  </a:lnTo>
                  <a:lnTo>
                    <a:pt x="33" y="37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69840" y="4549680"/>
              <a:ext cx="139680" cy="95040"/>
            </a:xfrm>
            <a:custGeom>
              <a:avLst/>
              <a:gdLst/>
              <a:ahLst/>
              <a:rect l="l" t="t" r="r" b="b"/>
              <a:pathLst>
                <a:path w="92" h="63">
                  <a:moveTo>
                    <a:pt x="0" y="34"/>
                  </a:moveTo>
                  <a:lnTo>
                    <a:pt x="1" y="33"/>
                  </a:lnTo>
                  <a:lnTo>
                    <a:pt x="5" y="33"/>
                  </a:lnTo>
                  <a:lnTo>
                    <a:pt x="9" y="29"/>
                  </a:lnTo>
                  <a:lnTo>
                    <a:pt x="15" y="25"/>
                  </a:lnTo>
                  <a:lnTo>
                    <a:pt x="20" y="19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31" y="3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2" y="7"/>
                  </a:lnTo>
                  <a:lnTo>
                    <a:pt x="69" y="10"/>
                  </a:lnTo>
                  <a:lnTo>
                    <a:pt x="73" y="12"/>
                  </a:lnTo>
                  <a:lnTo>
                    <a:pt x="79" y="14"/>
                  </a:lnTo>
                  <a:lnTo>
                    <a:pt x="81" y="15"/>
                  </a:lnTo>
                  <a:lnTo>
                    <a:pt x="83" y="16"/>
                  </a:lnTo>
                  <a:lnTo>
                    <a:pt x="92" y="51"/>
                  </a:lnTo>
                  <a:lnTo>
                    <a:pt x="57" y="6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566400" y="5085360"/>
              <a:ext cx="318960" cy="78120"/>
            </a:xfrm>
            <a:custGeom>
              <a:avLst/>
              <a:gdLst/>
              <a:ahLst/>
              <a:rect l="l" t="t" r="r" b="b"/>
              <a:pathLst>
                <a:path w="210" h="52">
                  <a:moveTo>
                    <a:pt x="3" y="22"/>
                  </a:moveTo>
                  <a:lnTo>
                    <a:pt x="1" y="18"/>
                  </a:lnTo>
                  <a:lnTo>
                    <a:pt x="0" y="14"/>
                  </a:lnTo>
                  <a:lnTo>
                    <a:pt x="1" y="6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5" y="8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7" y="6"/>
                  </a:lnTo>
                  <a:lnTo>
                    <a:pt x="110" y="6"/>
                  </a:lnTo>
                  <a:lnTo>
                    <a:pt x="115" y="6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4" y="7"/>
                  </a:lnTo>
                  <a:lnTo>
                    <a:pt x="130" y="15"/>
                  </a:lnTo>
                  <a:lnTo>
                    <a:pt x="133" y="19"/>
                  </a:lnTo>
                  <a:lnTo>
                    <a:pt x="139" y="23"/>
                  </a:lnTo>
                  <a:lnTo>
                    <a:pt x="143" y="26"/>
                  </a:lnTo>
                  <a:lnTo>
                    <a:pt x="150" y="27"/>
                  </a:lnTo>
                  <a:lnTo>
                    <a:pt x="154" y="27"/>
                  </a:lnTo>
                  <a:lnTo>
                    <a:pt x="161" y="26"/>
                  </a:lnTo>
                  <a:lnTo>
                    <a:pt x="164" y="25"/>
                  </a:lnTo>
                  <a:lnTo>
                    <a:pt x="168" y="25"/>
                  </a:lnTo>
                  <a:lnTo>
                    <a:pt x="173" y="25"/>
                  </a:lnTo>
                  <a:lnTo>
                    <a:pt x="177" y="25"/>
                  </a:lnTo>
                  <a:lnTo>
                    <a:pt x="184" y="22"/>
                  </a:lnTo>
                  <a:lnTo>
                    <a:pt x="191" y="22"/>
                  </a:lnTo>
                  <a:lnTo>
                    <a:pt x="194" y="21"/>
                  </a:lnTo>
                  <a:lnTo>
                    <a:pt x="196" y="21"/>
                  </a:lnTo>
                  <a:lnTo>
                    <a:pt x="197" y="23"/>
                  </a:lnTo>
                  <a:lnTo>
                    <a:pt x="202" y="31"/>
                  </a:lnTo>
                  <a:lnTo>
                    <a:pt x="204" y="36"/>
                  </a:lnTo>
                  <a:lnTo>
                    <a:pt x="207" y="41"/>
                  </a:lnTo>
                  <a:lnTo>
                    <a:pt x="209" y="47"/>
                  </a:lnTo>
                  <a:lnTo>
                    <a:pt x="210" y="52"/>
                  </a:lnTo>
                  <a:lnTo>
                    <a:pt x="23" y="14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40680" y="3635640"/>
              <a:ext cx="2866680" cy="2851200"/>
            </a:xfrm>
            <a:custGeom>
              <a:avLst/>
              <a:gdLst/>
              <a:ahLst/>
              <a:rect l="l" t="t" r="r" b="b"/>
              <a:pathLst>
                <a:path w="1887" h="1890">
                  <a:moveTo>
                    <a:pt x="0" y="1880"/>
                  </a:moveTo>
                  <a:lnTo>
                    <a:pt x="0" y="1877"/>
                  </a:lnTo>
                  <a:lnTo>
                    <a:pt x="1" y="1875"/>
                  </a:lnTo>
                  <a:lnTo>
                    <a:pt x="3" y="1870"/>
                  </a:lnTo>
                  <a:lnTo>
                    <a:pt x="6" y="1864"/>
                  </a:lnTo>
                  <a:lnTo>
                    <a:pt x="8" y="1855"/>
                  </a:lnTo>
                  <a:lnTo>
                    <a:pt x="12" y="1846"/>
                  </a:lnTo>
                  <a:lnTo>
                    <a:pt x="15" y="1835"/>
                  </a:lnTo>
                  <a:lnTo>
                    <a:pt x="20" y="1825"/>
                  </a:lnTo>
                  <a:lnTo>
                    <a:pt x="24" y="1813"/>
                  </a:lnTo>
                  <a:lnTo>
                    <a:pt x="28" y="1801"/>
                  </a:lnTo>
                  <a:lnTo>
                    <a:pt x="34" y="1787"/>
                  </a:lnTo>
                  <a:lnTo>
                    <a:pt x="39" y="1775"/>
                  </a:lnTo>
                  <a:lnTo>
                    <a:pt x="43" y="1761"/>
                  </a:lnTo>
                  <a:lnTo>
                    <a:pt x="49" y="1750"/>
                  </a:lnTo>
                  <a:lnTo>
                    <a:pt x="54" y="1738"/>
                  </a:lnTo>
                  <a:lnTo>
                    <a:pt x="60" y="1728"/>
                  </a:lnTo>
                  <a:lnTo>
                    <a:pt x="63" y="1716"/>
                  </a:lnTo>
                  <a:lnTo>
                    <a:pt x="68" y="1707"/>
                  </a:lnTo>
                  <a:lnTo>
                    <a:pt x="72" y="1698"/>
                  </a:lnTo>
                  <a:lnTo>
                    <a:pt x="77" y="1690"/>
                  </a:lnTo>
                  <a:lnTo>
                    <a:pt x="81" y="1682"/>
                  </a:lnTo>
                  <a:lnTo>
                    <a:pt x="85" y="1675"/>
                  </a:lnTo>
                  <a:lnTo>
                    <a:pt x="89" y="1668"/>
                  </a:lnTo>
                  <a:lnTo>
                    <a:pt x="92" y="1664"/>
                  </a:lnTo>
                  <a:lnTo>
                    <a:pt x="95" y="1659"/>
                  </a:lnTo>
                  <a:lnTo>
                    <a:pt x="97" y="1656"/>
                  </a:lnTo>
                  <a:lnTo>
                    <a:pt x="99" y="1652"/>
                  </a:lnTo>
                  <a:lnTo>
                    <a:pt x="102" y="1649"/>
                  </a:lnTo>
                  <a:lnTo>
                    <a:pt x="104" y="1647"/>
                  </a:lnTo>
                  <a:lnTo>
                    <a:pt x="106" y="1647"/>
                  </a:lnTo>
                  <a:lnTo>
                    <a:pt x="107" y="1645"/>
                  </a:lnTo>
                  <a:lnTo>
                    <a:pt x="113" y="1645"/>
                  </a:lnTo>
                  <a:lnTo>
                    <a:pt x="117" y="1644"/>
                  </a:lnTo>
                  <a:lnTo>
                    <a:pt x="122" y="1644"/>
                  </a:lnTo>
                  <a:lnTo>
                    <a:pt x="128" y="1644"/>
                  </a:lnTo>
                  <a:lnTo>
                    <a:pt x="135" y="1644"/>
                  </a:lnTo>
                  <a:lnTo>
                    <a:pt x="142" y="1644"/>
                  </a:lnTo>
                  <a:lnTo>
                    <a:pt x="149" y="1644"/>
                  </a:lnTo>
                  <a:lnTo>
                    <a:pt x="156" y="1642"/>
                  </a:lnTo>
                  <a:lnTo>
                    <a:pt x="166" y="1642"/>
                  </a:lnTo>
                  <a:lnTo>
                    <a:pt x="175" y="1642"/>
                  </a:lnTo>
                  <a:lnTo>
                    <a:pt x="184" y="1642"/>
                  </a:lnTo>
                  <a:lnTo>
                    <a:pt x="192" y="1642"/>
                  </a:lnTo>
                  <a:lnTo>
                    <a:pt x="203" y="1642"/>
                  </a:lnTo>
                  <a:lnTo>
                    <a:pt x="211" y="1641"/>
                  </a:lnTo>
                  <a:lnTo>
                    <a:pt x="219" y="1641"/>
                  </a:lnTo>
                  <a:lnTo>
                    <a:pt x="228" y="1641"/>
                  </a:lnTo>
                  <a:lnTo>
                    <a:pt x="238" y="1641"/>
                  </a:lnTo>
                  <a:lnTo>
                    <a:pt x="246" y="1641"/>
                  </a:lnTo>
                  <a:lnTo>
                    <a:pt x="254" y="1641"/>
                  </a:lnTo>
                  <a:lnTo>
                    <a:pt x="262" y="1641"/>
                  </a:lnTo>
                  <a:lnTo>
                    <a:pt x="269" y="1641"/>
                  </a:lnTo>
                  <a:lnTo>
                    <a:pt x="275" y="1641"/>
                  </a:lnTo>
                  <a:lnTo>
                    <a:pt x="281" y="1641"/>
                  </a:lnTo>
                  <a:lnTo>
                    <a:pt x="285" y="1641"/>
                  </a:lnTo>
                  <a:lnTo>
                    <a:pt x="291" y="1641"/>
                  </a:lnTo>
                  <a:lnTo>
                    <a:pt x="297" y="1641"/>
                  </a:lnTo>
                  <a:lnTo>
                    <a:pt x="299" y="1642"/>
                  </a:lnTo>
                  <a:lnTo>
                    <a:pt x="299" y="1641"/>
                  </a:lnTo>
                  <a:lnTo>
                    <a:pt x="299" y="1638"/>
                  </a:lnTo>
                  <a:lnTo>
                    <a:pt x="299" y="1633"/>
                  </a:lnTo>
                  <a:lnTo>
                    <a:pt x="302" y="1626"/>
                  </a:lnTo>
                  <a:lnTo>
                    <a:pt x="303" y="1618"/>
                  </a:lnTo>
                  <a:lnTo>
                    <a:pt x="304" y="1610"/>
                  </a:lnTo>
                  <a:lnTo>
                    <a:pt x="306" y="1599"/>
                  </a:lnTo>
                  <a:lnTo>
                    <a:pt x="310" y="1588"/>
                  </a:lnTo>
                  <a:lnTo>
                    <a:pt x="312" y="1574"/>
                  </a:lnTo>
                  <a:lnTo>
                    <a:pt x="315" y="1562"/>
                  </a:lnTo>
                  <a:lnTo>
                    <a:pt x="317" y="1548"/>
                  </a:lnTo>
                  <a:lnTo>
                    <a:pt x="320" y="1535"/>
                  </a:lnTo>
                  <a:lnTo>
                    <a:pt x="323" y="1520"/>
                  </a:lnTo>
                  <a:lnTo>
                    <a:pt x="326" y="1505"/>
                  </a:lnTo>
                  <a:lnTo>
                    <a:pt x="330" y="1490"/>
                  </a:lnTo>
                  <a:lnTo>
                    <a:pt x="333" y="1477"/>
                  </a:lnTo>
                  <a:lnTo>
                    <a:pt x="335" y="1462"/>
                  </a:lnTo>
                  <a:lnTo>
                    <a:pt x="339" y="1450"/>
                  </a:lnTo>
                  <a:lnTo>
                    <a:pt x="341" y="1436"/>
                  </a:lnTo>
                  <a:lnTo>
                    <a:pt x="345" y="1424"/>
                  </a:lnTo>
                  <a:lnTo>
                    <a:pt x="348" y="1412"/>
                  </a:lnTo>
                  <a:lnTo>
                    <a:pt x="351" y="1401"/>
                  </a:lnTo>
                  <a:lnTo>
                    <a:pt x="353" y="1391"/>
                  </a:lnTo>
                  <a:lnTo>
                    <a:pt x="356" y="1383"/>
                  </a:lnTo>
                  <a:lnTo>
                    <a:pt x="358" y="1373"/>
                  </a:lnTo>
                  <a:lnTo>
                    <a:pt x="360" y="1365"/>
                  </a:lnTo>
                  <a:lnTo>
                    <a:pt x="361" y="1358"/>
                  </a:lnTo>
                  <a:lnTo>
                    <a:pt x="363" y="1354"/>
                  </a:lnTo>
                  <a:lnTo>
                    <a:pt x="366" y="1346"/>
                  </a:lnTo>
                  <a:lnTo>
                    <a:pt x="367" y="1345"/>
                  </a:lnTo>
                  <a:lnTo>
                    <a:pt x="367" y="1343"/>
                  </a:lnTo>
                  <a:lnTo>
                    <a:pt x="369" y="1343"/>
                  </a:lnTo>
                  <a:lnTo>
                    <a:pt x="372" y="1342"/>
                  </a:lnTo>
                  <a:lnTo>
                    <a:pt x="376" y="1341"/>
                  </a:lnTo>
                  <a:lnTo>
                    <a:pt x="380" y="1339"/>
                  </a:lnTo>
                  <a:lnTo>
                    <a:pt x="386" y="1338"/>
                  </a:lnTo>
                  <a:lnTo>
                    <a:pt x="391" y="1337"/>
                  </a:lnTo>
                  <a:lnTo>
                    <a:pt x="400" y="1337"/>
                  </a:lnTo>
                  <a:lnTo>
                    <a:pt x="408" y="1334"/>
                  </a:lnTo>
                  <a:lnTo>
                    <a:pt x="417" y="1331"/>
                  </a:lnTo>
                  <a:lnTo>
                    <a:pt x="426" y="1330"/>
                  </a:lnTo>
                  <a:lnTo>
                    <a:pt x="438" y="1328"/>
                  </a:lnTo>
                  <a:lnTo>
                    <a:pt x="450" y="1326"/>
                  </a:lnTo>
                  <a:lnTo>
                    <a:pt x="462" y="1324"/>
                  </a:lnTo>
                  <a:lnTo>
                    <a:pt x="475" y="1323"/>
                  </a:lnTo>
                  <a:lnTo>
                    <a:pt x="489" y="1323"/>
                  </a:lnTo>
                  <a:lnTo>
                    <a:pt x="502" y="1322"/>
                  </a:lnTo>
                  <a:lnTo>
                    <a:pt x="517" y="1320"/>
                  </a:lnTo>
                  <a:lnTo>
                    <a:pt x="532" y="1320"/>
                  </a:lnTo>
                  <a:lnTo>
                    <a:pt x="547" y="1320"/>
                  </a:lnTo>
                  <a:lnTo>
                    <a:pt x="561" y="1320"/>
                  </a:lnTo>
                  <a:lnTo>
                    <a:pt x="576" y="1320"/>
                  </a:lnTo>
                  <a:lnTo>
                    <a:pt x="589" y="1320"/>
                  </a:lnTo>
                  <a:lnTo>
                    <a:pt x="603" y="1320"/>
                  </a:lnTo>
                  <a:lnTo>
                    <a:pt x="615" y="1320"/>
                  </a:lnTo>
                  <a:lnTo>
                    <a:pt x="627" y="1320"/>
                  </a:lnTo>
                  <a:lnTo>
                    <a:pt x="636" y="1320"/>
                  </a:lnTo>
                  <a:lnTo>
                    <a:pt x="645" y="1322"/>
                  </a:lnTo>
                  <a:lnTo>
                    <a:pt x="652" y="1322"/>
                  </a:lnTo>
                  <a:lnTo>
                    <a:pt x="657" y="1322"/>
                  </a:lnTo>
                  <a:lnTo>
                    <a:pt x="660" y="1322"/>
                  </a:lnTo>
                  <a:lnTo>
                    <a:pt x="663" y="1323"/>
                  </a:lnTo>
                  <a:lnTo>
                    <a:pt x="663" y="1322"/>
                  </a:lnTo>
                  <a:lnTo>
                    <a:pt x="663" y="1317"/>
                  </a:lnTo>
                  <a:lnTo>
                    <a:pt x="663" y="1311"/>
                  </a:lnTo>
                  <a:lnTo>
                    <a:pt x="665" y="1304"/>
                  </a:lnTo>
                  <a:lnTo>
                    <a:pt x="667" y="1294"/>
                  </a:lnTo>
                  <a:lnTo>
                    <a:pt x="670" y="1283"/>
                  </a:lnTo>
                  <a:lnTo>
                    <a:pt x="671" y="1271"/>
                  </a:lnTo>
                  <a:lnTo>
                    <a:pt x="675" y="1259"/>
                  </a:lnTo>
                  <a:lnTo>
                    <a:pt x="678" y="1244"/>
                  </a:lnTo>
                  <a:lnTo>
                    <a:pt x="681" y="1229"/>
                  </a:lnTo>
                  <a:lnTo>
                    <a:pt x="686" y="1212"/>
                  </a:lnTo>
                  <a:lnTo>
                    <a:pt x="691" y="1197"/>
                  </a:lnTo>
                  <a:lnTo>
                    <a:pt x="694" y="1180"/>
                  </a:lnTo>
                  <a:lnTo>
                    <a:pt x="699" y="1163"/>
                  </a:lnTo>
                  <a:lnTo>
                    <a:pt x="703" y="1145"/>
                  </a:lnTo>
                  <a:lnTo>
                    <a:pt x="709" y="1130"/>
                  </a:lnTo>
                  <a:lnTo>
                    <a:pt x="714" y="1113"/>
                  </a:lnTo>
                  <a:lnTo>
                    <a:pt x="717" y="1096"/>
                  </a:lnTo>
                  <a:lnTo>
                    <a:pt x="723" y="1080"/>
                  </a:lnTo>
                  <a:lnTo>
                    <a:pt x="728" y="1068"/>
                  </a:lnTo>
                  <a:lnTo>
                    <a:pt x="732" y="1053"/>
                  </a:lnTo>
                  <a:lnTo>
                    <a:pt x="738" y="1040"/>
                  </a:lnTo>
                  <a:lnTo>
                    <a:pt x="743" y="1028"/>
                  </a:lnTo>
                  <a:lnTo>
                    <a:pt x="748" y="1018"/>
                  </a:lnTo>
                  <a:lnTo>
                    <a:pt x="751" y="1008"/>
                  </a:lnTo>
                  <a:lnTo>
                    <a:pt x="756" y="998"/>
                  </a:lnTo>
                  <a:lnTo>
                    <a:pt x="758" y="991"/>
                  </a:lnTo>
                  <a:lnTo>
                    <a:pt x="762" y="984"/>
                  </a:lnTo>
                  <a:lnTo>
                    <a:pt x="763" y="979"/>
                  </a:lnTo>
                  <a:lnTo>
                    <a:pt x="765" y="976"/>
                  </a:lnTo>
                  <a:lnTo>
                    <a:pt x="766" y="973"/>
                  </a:lnTo>
                  <a:lnTo>
                    <a:pt x="767" y="973"/>
                  </a:lnTo>
                  <a:lnTo>
                    <a:pt x="1018" y="1027"/>
                  </a:lnTo>
                  <a:lnTo>
                    <a:pt x="1018" y="1025"/>
                  </a:lnTo>
                  <a:lnTo>
                    <a:pt x="1019" y="1021"/>
                  </a:lnTo>
                  <a:lnTo>
                    <a:pt x="1020" y="1014"/>
                  </a:lnTo>
                  <a:lnTo>
                    <a:pt x="1022" y="1006"/>
                  </a:lnTo>
                  <a:lnTo>
                    <a:pt x="1025" y="995"/>
                  </a:lnTo>
                  <a:lnTo>
                    <a:pt x="1028" y="984"/>
                  </a:lnTo>
                  <a:lnTo>
                    <a:pt x="1032" y="971"/>
                  </a:lnTo>
                  <a:lnTo>
                    <a:pt x="1036" y="958"/>
                  </a:lnTo>
                  <a:lnTo>
                    <a:pt x="1041" y="941"/>
                  </a:lnTo>
                  <a:lnTo>
                    <a:pt x="1046" y="926"/>
                  </a:lnTo>
                  <a:lnTo>
                    <a:pt x="1051" y="908"/>
                  </a:lnTo>
                  <a:lnTo>
                    <a:pt x="1057" y="890"/>
                  </a:lnTo>
                  <a:lnTo>
                    <a:pt x="1063" y="871"/>
                  </a:lnTo>
                  <a:lnTo>
                    <a:pt x="1070" y="855"/>
                  </a:lnTo>
                  <a:lnTo>
                    <a:pt x="1076" y="835"/>
                  </a:lnTo>
                  <a:lnTo>
                    <a:pt x="1084" y="819"/>
                  </a:lnTo>
                  <a:lnTo>
                    <a:pt x="1091" y="800"/>
                  </a:lnTo>
                  <a:lnTo>
                    <a:pt x="1097" y="784"/>
                  </a:lnTo>
                  <a:lnTo>
                    <a:pt x="1104" y="767"/>
                  </a:lnTo>
                  <a:lnTo>
                    <a:pt x="1112" y="751"/>
                  </a:lnTo>
                  <a:lnTo>
                    <a:pt x="1119" y="736"/>
                  </a:lnTo>
                  <a:lnTo>
                    <a:pt x="1125" y="721"/>
                  </a:lnTo>
                  <a:lnTo>
                    <a:pt x="1132" y="707"/>
                  </a:lnTo>
                  <a:lnTo>
                    <a:pt x="1139" y="696"/>
                  </a:lnTo>
                  <a:lnTo>
                    <a:pt x="1143" y="684"/>
                  </a:lnTo>
                  <a:lnTo>
                    <a:pt x="1150" y="674"/>
                  </a:lnTo>
                  <a:lnTo>
                    <a:pt x="1154" y="666"/>
                  </a:lnTo>
                  <a:lnTo>
                    <a:pt x="1158" y="658"/>
                  </a:lnTo>
                  <a:lnTo>
                    <a:pt x="1162" y="652"/>
                  </a:lnTo>
                  <a:lnTo>
                    <a:pt x="1164" y="648"/>
                  </a:lnTo>
                  <a:lnTo>
                    <a:pt x="1167" y="646"/>
                  </a:lnTo>
                  <a:lnTo>
                    <a:pt x="1167" y="646"/>
                  </a:lnTo>
                  <a:lnTo>
                    <a:pt x="1169" y="646"/>
                  </a:lnTo>
                  <a:lnTo>
                    <a:pt x="1176" y="647"/>
                  </a:lnTo>
                  <a:lnTo>
                    <a:pt x="1179" y="648"/>
                  </a:lnTo>
                  <a:lnTo>
                    <a:pt x="1185" y="650"/>
                  </a:lnTo>
                  <a:lnTo>
                    <a:pt x="1191" y="651"/>
                  </a:lnTo>
                  <a:lnTo>
                    <a:pt x="1198" y="654"/>
                  </a:lnTo>
                  <a:lnTo>
                    <a:pt x="1205" y="655"/>
                  </a:lnTo>
                  <a:lnTo>
                    <a:pt x="1212" y="658"/>
                  </a:lnTo>
                  <a:lnTo>
                    <a:pt x="1219" y="661"/>
                  </a:lnTo>
                  <a:lnTo>
                    <a:pt x="1228" y="663"/>
                  </a:lnTo>
                  <a:lnTo>
                    <a:pt x="1236" y="666"/>
                  </a:lnTo>
                  <a:lnTo>
                    <a:pt x="1245" y="669"/>
                  </a:lnTo>
                  <a:lnTo>
                    <a:pt x="1253" y="673"/>
                  </a:lnTo>
                  <a:lnTo>
                    <a:pt x="1262" y="676"/>
                  </a:lnTo>
                  <a:lnTo>
                    <a:pt x="1270" y="678"/>
                  </a:lnTo>
                  <a:lnTo>
                    <a:pt x="1278" y="683"/>
                  </a:lnTo>
                  <a:lnTo>
                    <a:pt x="1285" y="687"/>
                  </a:lnTo>
                  <a:lnTo>
                    <a:pt x="1294" y="691"/>
                  </a:lnTo>
                  <a:lnTo>
                    <a:pt x="1301" y="695"/>
                  </a:lnTo>
                  <a:lnTo>
                    <a:pt x="1309" y="698"/>
                  </a:lnTo>
                  <a:lnTo>
                    <a:pt x="1314" y="702"/>
                  </a:lnTo>
                  <a:lnTo>
                    <a:pt x="1321" y="706"/>
                  </a:lnTo>
                  <a:lnTo>
                    <a:pt x="1326" y="708"/>
                  </a:lnTo>
                  <a:lnTo>
                    <a:pt x="1332" y="711"/>
                  </a:lnTo>
                  <a:lnTo>
                    <a:pt x="1335" y="714"/>
                  </a:lnTo>
                  <a:lnTo>
                    <a:pt x="1340" y="717"/>
                  </a:lnTo>
                  <a:lnTo>
                    <a:pt x="1345" y="719"/>
                  </a:lnTo>
                  <a:lnTo>
                    <a:pt x="1347" y="721"/>
                  </a:lnTo>
                  <a:lnTo>
                    <a:pt x="1347" y="718"/>
                  </a:lnTo>
                  <a:lnTo>
                    <a:pt x="1351" y="713"/>
                  </a:lnTo>
                  <a:lnTo>
                    <a:pt x="1354" y="702"/>
                  </a:lnTo>
                  <a:lnTo>
                    <a:pt x="1360" y="689"/>
                  </a:lnTo>
                  <a:lnTo>
                    <a:pt x="1367" y="673"/>
                  </a:lnTo>
                  <a:lnTo>
                    <a:pt x="1375" y="654"/>
                  </a:lnTo>
                  <a:lnTo>
                    <a:pt x="1384" y="633"/>
                  </a:lnTo>
                  <a:lnTo>
                    <a:pt x="1395" y="612"/>
                  </a:lnTo>
                  <a:lnTo>
                    <a:pt x="1405" y="586"/>
                  </a:lnTo>
                  <a:lnTo>
                    <a:pt x="1418" y="561"/>
                  </a:lnTo>
                  <a:lnTo>
                    <a:pt x="1429" y="534"/>
                  </a:lnTo>
                  <a:lnTo>
                    <a:pt x="1443" y="508"/>
                  </a:lnTo>
                  <a:lnTo>
                    <a:pt x="1454" y="482"/>
                  </a:lnTo>
                  <a:lnTo>
                    <a:pt x="1468" y="455"/>
                  </a:lnTo>
                  <a:lnTo>
                    <a:pt x="1481" y="430"/>
                  </a:lnTo>
                  <a:lnTo>
                    <a:pt x="1494" y="405"/>
                  </a:lnTo>
                  <a:lnTo>
                    <a:pt x="1504" y="382"/>
                  </a:lnTo>
                  <a:lnTo>
                    <a:pt x="1517" y="360"/>
                  </a:lnTo>
                  <a:lnTo>
                    <a:pt x="1528" y="340"/>
                  </a:lnTo>
                  <a:lnTo>
                    <a:pt x="1539" y="321"/>
                  </a:lnTo>
                  <a:lnTo>
                    <a:pt x="1548" y="303"/>
                  </a:lnTo>
                  <a:lnTo>
                    <a:pt x="1559" y="287"/>
                  </a:lnTo>
                  <a:lnTo>
                    <a:pt x="1568" y="272"/>
                  </a:lnTo>
                  <a:lnTo>
                    <a:pt x="1578" y="259"/>
                  </a:lnTo>
                  <a:lnTo>
                    <a:pt x="1585" y="247"/>
                  </a:lnTo>
                  <a:lnTo>
                    <a:pt x="1590" y="236"/>
                  </a:lnTo>
                  <a:lnTo>
                    <a:pt x="1597" y="228"/>
                  </a:lnTo>
                  <a:lnTo>
                    <a:pt x="1602" y="221"/>
                  </a:lnTo>
                  <a:lnTo>
                    <a:pt x="1606" y="214"/>
                  </a:lnTo>
                  <a:lnTo>
                    <a:pt x="1609" y="211"/>
                  </a:lnTo>
                  <a:lnTo>
                    <a:pt x="1610" y="209"/>
                  </a:lnTo>
                  <a:lnTo>
                    <a:pt x="1612" y="209"/>
                  </a:lnTo>
                  <a:lnTo>
                    <a:pt x="1610" y="206"/>
                  </a:lnTo>
                  <a:lnTo>
                    <a:pt x="1607" y="202"/>
                  </a:lnTo>
                  <a:lnTo>
                    <a:pt x="1603" y="198"/>
                  </a:lnTo>
                  <a:lnTo>
                    <a:pt x="1600" y="194"/>
                  </a:lnTo>
                  <a:lnTo>
                    <a:pt x="1596" y="190"/>
                  </a:lnTo>
                  <a:lnTo>
                    <a:pt x="1593" y="186"/>
                  </a:lnTo>
                  <a:lnTo>
                    <a:pt x="1587" y="179"/>
                  </a:lnTo>
                  <a:lnTo>
                    <a:pt x="1582" y="175"/>
                  </a:lnTo>
                  <a:lnTo>
                    <a:pt x="1578" y="169"/>
                  </a:lnTo>
                  <a:lnTo>
                    <a:pt x="1572" y="164"/>
                  </a:lnTo>
                  <a:lnTo>
                    <a:pt x="1566" y="157"/>
                  </a:lnTo>
                  <a:lnTo>
                    <a:pt x="1560" y="151"/>
                  </a:lnTo>
                  <a:lnTo>
                    <a:pt x="1554" y="147"/>
                  </a:lnTo>
                  <a:lnTo>
                    <a:pt x="1548" y="142"/>
                  </a:lnTo>
                  <a:lnTo>
                    <a:pt x="1541" y="135"/>
                  </a:lnTo>
                  <a:lnTo>
                    <a:pt x="1534" y="130"/>
                  </a:lnTo>
                  <a:lnTo>
                    <a:pt x="1528" y="125"/>
                  </a:lnTo>
                  <a:lnTo>
                    <a:pt x="1522" y="121"/>
                  </a:lnTo>
                  <a:lnTo>
                    <a:pt x="1515" y="117"/>
                  </a:lnTo>
                  <a:lnTo>
                    <a:pt x="1509" y="113"/>
                  </a:lnTo>
                  <a:lnTo>
                    <a:pt x="1502" y="109"/>
                  </a:lnTo>
                  <a:lnTo>
                    <a:pt x="1498" y="108"/>
                  </a:lnTo>
                  <a:lnTo>
                    <a:pt x="1491" y="104"/>
                  </a:lnTo>
                  <a:lnTo>
                    <a:pt x="1488" y="101"/>
                  </a:lnTo>
                  <a:lnTo>
                    <a:pt x="1483" y="99"/>
                  </a:lnTo>
                  <a:lnTo>
                    <a:pt x="1481" y="97"/>
                  </a:lnTo>
                  <a:lnTo>
                    <a:pt x="1476" y="94"/>
                  </a:lnTo>
                  <a:lnTo>
                    <a:pt x="1475" y="94"/>
                  </a:lnTo>
                  <a:lnTo>
                    <a:pt x="1475" y="94"/>
                  </a:lnTo>
                  <a:lnTo>
                    <a:pt x="1477" y="93"/>
                  </a:lnTo>
                  <a:lnTo>
                    <a:pt x="1481" y="91"/>
                  </a:lnTo>
                  <a:lnTo>
                    <a:pt x="1488" y="90"/>
                  </a:lnTo>
                  <a:lnTo>
                    <a:pt x="1495" y="87"/>
                  </a:lnTo>
                  <a:lnTo>
                    <a:pt x="1504" y="86"/>
                  </a:lnTo>
                  <a:lnTo>
                    <a:pt x="1515" y="83"/>
                  </a:lnTo>
                  <a:lnTo>
                    <a:pt x="1526" y="82"/>
                  </a:lnTo>
                  <a:lnTo>
                    <a:pt x="1538" y="78"/>
                  </a:lnTo>
                  <a:lnTo>
                    <a:pt x="1552" y="75"/>
                  </a:lnTo>
                  <a:lnTo>
                    <a:pt x="1567" y="71"/>
                  </a:lnTo>
                  <a:lnTo>
                    <a:pt x="1582" y="68"/>
                  </a:lnTo>
                  <a:lnTo>
                    <a:pt x="1599" y="63"/>
                  </a:lnTo>
                  <a:lnTo>
                    <a:pt x="1616" y="60"/>
                  </a:lnTo>
                  <a:lnTo>
                    <a:pt x="1633" y="54"/>
                  </a:lnTo>
                  <a:lnTo>
                    <a:pt x="1652" y="52"/>
                  </a:lnTo>
                  <a:lnTo>
                    <a:pt x="1670" y="46"/>
                  </a:lnTo>
                  <a:lnTo>
                    <a:pt x="1688" y="42"/>
                  </a:lnTo>
                  <a:lnTo>
                    <a:pt x="1707" y="38"/>
                  </a:lnTo>
                  <a:lnTo>
                    <a:pt x="1725" y="33"/>
                  </a:lnTo>
                  <a:lnTo>
                    <a:pt x="1743" y="27"/>
                  </a:lnTo>
                  <a:lnTo>
                    <a:pt x="1760" y="24"/>
                  </a:lnTo>
                  <a:lnTo>
                    <a:pt x="1778" y="20"/>
                  </a:lnTo>
                  <a:lnTo>
                    <a:pt x="1794" y="16"/>
                  </a:lnTo>
                  <a:lnTo>
                    <a:pt x="1808" y="12"/>
                  </a:lnTo>
                  <a:lnTo>
                    <a:pt x="1823" y="9"/>
                  </a:lnTo>
                  <a:lnTo>
                    <a:pt x="1834" y="7"/>
                  </a:lnTo>
                  <a:lnTo>
                    <a:pt x="1845" y="4"/>
                  </a:lnTo>
                  <a:lnTo>
                    <a:pt x="1853" y="1"/>
                  </a:lnTo>
                  <a:lnTo>
                    <a:pt x="1859" y="0"/>
                  </a:lnTo>
                  <a:lnTo>
                    <a:pt x="1863" y="0"/>
                  </a:lnTo>
                  <a:lnTo>
                    <a:pt x="1865" y="0"/>
                  </a:lnTo>
                  <a:lnTo>
                    <a:pt x="1865" y="3"/>
                  </a:lnTo>
                  <a:lnTo>
                    <a:pt x="1865" y="9"/>
                  </a:lnTo>
                  <a:lnTo>
                    <a:pt x="1866" y="19"/>
                  </a:lnTo>
                  <a:lnTo>
                    <a:pt x="1869" y="34"/>
                  </a:lnTo>
                  <a:lnTo>
                    <a:pt x="1870" y="52"/>
                  </a:lnTo>
                  <a:lnTo>
                    <a:pt x="1871" y="72"/>
                  </a:lnTo>
                  <a:lnTo>
                    <a:pt x="1873" y="94"/>
                  </a:lnTo>
                  <a:lnTo>
                    <a:pt x="1876" y="120"/>
                  </a:lnTo>
                  <a:lnTo>
                    <a:pt x="1878" y="146"/>
                  </a:lnTo>
                  <a:lnTo>
                    <a:pt x="1880" y="175"/>
                  </a:lnTo>
                  <a:lnTo>
                    <a:pt x="1881" y="203"/>
                  </a:lnTo>
                  <a:lnTo>
                    <a:pt x="1884" y="233"/>
                  </a:lnTo>
                  <a:lnTo>
                    <a:pt x="1884" y="262"/>
                  </a:lnTo>
                  <a:lnTo>
                    <a:pt x="1886" y="292"/>
                  </a:lnTo>
                  <a:lnTo>
                    <a:pt x="1886" y="321"/>
                  </a:lnTo>
                  <a:lnTo>
                    <a:pt x="1887" y="349"/>
                  </a:lnTo>
                  <a:lnTo>
                    <a:pt x="1886" y="375"/>
                  </a:lnTo>
                  <a:lnTo>
                    <a:pt x="1885" y="400"/>
                  </a:lnTo>
                  <a:lnTo>
                    <a:pt x="1884" y="422"/>
                  </a:lnTo>
                  <a:lnTo>
                    <a:pt x="1881" y="445"/>
                  </a:lnTo>
                  <a:lnTo>
                    <a:pt x="1880" y="464"/>
                  </a:lnTo>
                  <a:lnTo>
                    <a:pt x="1878" y="482"/>
                  </a:lnTo>
                  <a:lnTo>
                    <a:pt x="1876" y="500"/>
                  </a:lnTo>
                  <a:lnTo>
                    <a:pt x="1873" y="515"/>
                  </a:lnTo>
                  <a:lnTo>
                    <a:pt x="1871" y="528"/>
                  </a:lnTo>
                  <a:lnTo>
                    <a:pt x="1870" y="541"/>
                  </a:lnTo>
                  <a:lnTo>
                    <a:pt x="1867" y="550"/>
                  </a:lnTo>
                  <a:lnTo>
                    <a:pt x="1865" y="560"/>
                  </a:lnTo>
                  <a:lnTo>
                    <a:pt x="1863" y="565"/>
                  </a:lnTo>
                  <a:lnTo>
                    <a:pt x="1863" y="571"/>
                  </a:lnTo>
                  <a:lnTo>
                    <a:pt x="1863" y="573"/>
                  </a:lnTo>
                  <a:lnTo>
                    <a:pt x="1863" y="575"/>
                  </a:lnTo>
                  <a:lnTo>
                    <a:pt x="1860" y="572"/>
                  </a:lnTo>
                  <a:lnTo>
                    <a:pt x="1858" y="566"/>
                  </a:lnTo>
                  <a:lnTo>
                    <a:pt x="1857" y="562"/>
                  </a:lnTo>
                  <a:lnTo>
                    <a:pt x="1855" y="560"/>
                  </a:lnTo>
                  <a:lnTo>
                    <a:pt x="1852" y="554"/>
                  </a:lnTo>
                  <a:lnTo>
                    <a:pt x="1850" y="549"/>
                  </a:lnTo>
                  <a:lnTo>
                    <a:pt x="1846" y="542"/>
                  </a:lnTo>
                  <a:lnTo>
                    <a:pt x="1844" y="535"/>
                  </a:lnTo>
                  <a:lnTo>
                    <a:pt x="1839" y="528"/>
                  </a:lnTo>
                  <a:lnTo>
                    <a:pt x="1837" y="521"/>
                  </a:lnTo>
                  <a:lnTo>
                    <a:pt x="1833" y="512"/>
                  </a:lnTo>
                  <a:lnTo>
                    <a:pt x="1828" y="504"/>
                  </a:lnTo>
                  <a:lnTo>
                    <a:pt x="1823" y="497"/>
                  </a:lnTo>
                  <a:lnTo>
                    <a:pt x="1819" y="489"/>
                  </a:lnTo>
                  <a:lnTo>
                    <a:pt x="1813" y="479"/>
                  </a:lnTo>
                  <a:lnTo>
                    <a:pt x="1808" y="470"/>
                  </a:lnTo>
                  <a:lnTo>
                    <a:pt x="1802" y="460"/>
                  </a:lnTo>
                  <a:lnTo>
                    <a:pt x="1795" y="452"/>
                  </a:lnTo>
                  <a:lnTo>
                    <a:pt x="1789" y="442"/>
                  </a:lnTo>
                  <a:lnTo>
                    <a:pt x="1784" y="434"/>
                  </a:lnTo>
                  <a:lnTo>
                    <a:pt x="1778" y="426"/>
                  </a:lnTo>
                  <a:lnTo>
                    <a:pt x="1773" y="419"/>
                  </a:lnTo>
                  <a:lnTo>
                    <a:pt x="1767" y="411"/>
                  </a:lnTo>
                  <a:lnTo>
                    <a:pt x="1763" y="405"/>
                  </a:lnTo>
                  <a:lnTo>
                    <a:pt x="1758" y="399"/>
                  </a:lnTo>
                  <a:lnTo>
                    <a:pt x="1756" y="394"/>
                  </a:lnTo>
                  <a:lnTo>
                    <a:pt x="1750" y="388"/>
                  </a:lnTo>
                  <a:lnTo>
                    <a:pt x="1749" y="385"/>
                  </a:lnTo>
                  <a:lnTo>
                    <a:pt x="1748" y="386"/>
                  </a:lnTo>
                  <a:lnTo>
                    <a:pt x="1745" y="390"/>
                  </a:lnTo>
                  <a:lnTo>
                    <a:pt x="1743" y="396"/>
                  </a:lnTo>
                  <a:lnTo>
                    <a:pt x="1738" y="404"/>
                  </a:lnTo>
                  <a:lnTo>
                    <a:pt x="1734" y="414"/>
                  </a:lnTo>
                  <a:lnTo>
                    <a:pt x="1728" y="427"/>
                  </a:lnTo>
                  <a:lnTo>
                    <a:pt x="1721" y="441"/>
                  </a:lnTo>
                  <a:lnTo>
                    <a:pt x="1715" y="459"/>
                  </a:lnTo>
                  <a:lnTo>
                    <a:pt x="1706" y="476"/>
                  </a:lnTo>
                  <a:lnTo>
                    <a:pt x="1697" y="497"/>
                  </a:lnTo>
                  <a:lnTo>
                    <a:pt x="1688" y="519"/>
                  </a:lnTo>
                  <a:lnTo>
                    <a:pt x="1679" y="543"/>
                  </a:lnTo>
                  <a:lnTo>
                    <a:pt x="1668" y="569"/>
                  </a:lnTo>
                  <a:lnTo>
                    <a:pt x="1658" y="597"/>
                  </a:lnTo>
                  <a:lnTo>
                    <a:pt x="1646" y="625"/>
                  </a:lnTo>
                  <a:lnTo>
                    <a:pt x="1636" y="657"/>
                  </a:lnTo>
                  <a:lnTo>
                    <a:pt x="1624" y="688"/>
                  </a:lnTo>
                  <a:lnTo>
                    <a:pt x="1612" y="721"/>
                  </a:lnTo>
                  <a:lnTo>
                    <a:pt x="1601" y="754"/>
                  </a:lnTo>
                  <a:lnTo>
                    <a:pt x="1590" y="788"/>
                  </a:lnTo>
                  <a:lnTo>
                    <a:pt x="1580" y="819"/>
                  </a:lnTo>
                  <a:lnTo>
                    <a:pt x="1569" y="852"/>
                  </a:lnTo>
                  <a:lnTo>
                    <a:pt x="1559" y="883"/>
                  </a:lnTo>
                  <a:lnTo>
                    <a:pt x="1551" y="913"/>
                  </a:lnTo>
                  <a:lnTo>
                    <a:pt x="1543" y="941"/>
                  </a:lnTo>
                  <a:lnTo>
                    <a:pt x="1533" y="967"/>
                  </a:lnTo>
                  <a:lnTo>
                    <a:pt x="1528" y="988"/>
                  </a:lnTo>
                  <a:lnTo>
                    <a:pt x="1522" y="1009"/>
                  </a:lnTo>
                  <a:lnTo>
                    <a:pt x="1517" y="1024"/>
                  </a:lnTo>
                  <a:lnTo>
                    <a:pt x="1514" y="1036"/>
                  </a:lnTo>
                  <a:lnTo>
                    <a:pt x="1511" y="1044"/>
                  </a:lnTo>
                  <a:lnTo>
                    <a:pt x="1511" y="1047"/>
                  </a:lnTo>
                  <a:lnTo>
                    <a:pt x="1509" y="1046"/>
                  </a:lnTo>
                  <a:lnTo>
                    <a:pt x="1503" y="1043"/>
                  </a:lnTo>
                  <a:lnTo>
                    <a:pt x="1498" y="1040"/>
                  </a:lnTo>
                  <a:lnTo>
                    <a:pt x="1494" y="1038"/>
                  </a:lnTo>
                  <a:lnTo>
                    <a:pt x="1488" y="1033"/>
                  </a:lnTo>
                  <a:lnTo>
                    <a:pt x="1481" y="1031"/>
                  </a:lnTo>
                  <a:lnTo>
                    <a:pt x="1473" y="1027"/>
                  </a:lnTo>
                  <a:lnTo>
                    <a:pt x="1465" y="1023"/>
                  </a:lnTo>
                  <a:lnTo>
                    <a:pt x="1455" y="1018"/>
                  </a:lnTo>
                  <a:lnTo>
                    <a:pt x="1445" y="1013"/>
                  </a:lnTo>
                  <a:lnTo>
                    <a:pt x="1434" y="1009"/>
                  </a:lnTo>
                  <a:lnTo>
                    <a:pt x="1423" y="1003"/>
                  </a:lnTo>
                  <a:lnTo>
                    <a:pt x="1411" y="998"/>
                  </a:lnTo>
                  <a:lnTo>
                    <a:pt x="1398" y="994"/>
                  </a:lnTo>
                  <a:lnTo>
                    <a:pt x="1384" y="988"/>
                  </a:lnTo>
                  <a:lnTo>
                    <a:pt x="1369" y="983"/>
                  </a:lnTo>
                  <a:lnTo>
                    <a:pt x="1354" y="976"/>
                  </a:lnTo>
                  <a:lnTo>
                    <a:pt x="1340" y="971"/>
                  </a:lnTo>
                  <a:lnTo>
                    <a:pt x="1325" y="967"/>
                  </a:lnTo>
                  <a:lnTo>
                    <a:pt x="1312" y="961"/>
                  </a:lnTo>
                  <a:lnTo>
                    <a:pt x="1298" y="956"/>
                  </a:lnTo>
                  <a:lnTo>
                    <a:pt x="1285" y="952"/>
                  </a:lnTo>
                  <a:lnTo>
                    <a:pt x="1273" y="946"/>
                  </a:lnTo>
                  <a:lnTo>
                    <a:pt x="1262" y="943"/>
                  </a:lnTo>
                  <a:lnTo>
                    <a:pt x="1252" y="941"/>
                  </a:lnTo>
                  <a:lnTo>
                    <a:pt x="1243" y="938"/>
                  </a:lnTo>
                  <a:lnTo>
                    <a:pt x="1236" y="935"/>
                  </a:lnTo>
                  <a:lnTo>
                    <a:pt x="1231" y="934"/>
                  </a:lnTo>
                  <a:lnTo>
                    <a:pt x="1228" y="932"/>
                  </a:lnTo>
                  <a:lnTo>
                    <a:pt x="1227" y="932"/>
                  </a:lnTo>
                  <a:lnTo>
                    <a:pt x="1226" y="934"/>
                  </a:lnTo>
                  <a:lnTo>
                    <a:pt x="1226" y="939"/>
                  </a:lnTo>
                  <a:lnTo>
                    <a:pt x="1224" y="947"/>
                  </a:lnTo>
                  <a:lnTo>
                    <a:pt x="1223" y="958"/>
                  </a:lnTo>
                  <a:lnTo>
                    <a:pt x="1220" y="973"/>
                  </a:lnTo>
                  <a:lnTo>
                    <a:pt x="1218" y="990"/>
                  </a:lnTo>
                  <a:lnTo>
                    <a:pt x="1216" y="1008"/>
                  </a:lnTo>
                  <a:lnTo>
                    <a:pt x="1214" y="1028"/>
                  </a:lnTo>
                  <a:lnTo>
                    <a:pt x="1211" y="1050"/>
                  </a:lnTo>
                  <a:lnTo>
                    <a:pt x="1209" y="1073"/>
                  </a:lnTo>
                  <a:lnTo>
                    <a:pt x="1205" y="1095"/>
                  </a:lnTo>
                  <a:lnTo>
                    <a:pt x="1203" y="1119"/>
                  </a:lnTo>
                  <a:lnTo>
                    <a:pt x="1199" y="1143"/>
                  </a:lnTo>
                  <a:lnTo>
                    <a:pt x="1196" y="1167"/>
                  </a:lnTo>
                  <a:lnTo>
                    <a:pt x="1195" y="1189"/>
                  </a:lnTo>
                  <a:lnTo>
                    <a:pt x="1192" y="1212"/>
                  </a:lnTo>
                  <a:lnTo>
                    <a:pt x="1188" y="1233"/>
                  </a:lnTo>
                  <a:lnTo>
                    <a:pt x="1185" y="1252"/>
                  </a:lnTo>
                  <a:lnTo>
                    <a:pt x="1184" y="1270"/>
                  </a:lnTo>
                  <a:lnTo>
                    <a:pt x="1182" y="1287"/>
                  </a:lnTo>
                  <a:lnTo>
                    <a:pt x="1179" y="1302"/>
                  </a:lnTo>
                  <a:lnTo>
                    <a:pt x="1177" y="1319"/>
                  </a:lnTo>
                  <a:lnTo>
                    <a:pt x="1176" y="1331"/>
                  </a:lnTo>
                  <a:lnTo>
                    <a:pt x="1175" y="1343"/>
                  </a:lnTo>
                  <a:lnTo>
                    <a:pt x="1174" y="1353"/>
                  </a:lnTo>
                  <a:lnTo>
                    <a:pt x="1172" y="1364"/>
                  </a:lnTo>
                  <a:lnTo>
                    <a:pt x="1171" y="1371"/>
                  </a:lnTo>
                  <a:lnTo>
                    <a:pt x="1171" y="1379"/>
                  </a:lnTo>
                  <a:lnTo>
                    <a:pt x="1170" y="1383"/>
                  </a:lnTo>
                  <a:lnTo>
                    <a:pt x="1170" y="1388"/>
                  </a:lnTo>
                  <a:lnTo>
                    <a:pt x="1170" y="1390"/>
                  </a:lnTo>
                  <a:lnTo>
                    <a:pt x="1170" y="1391"/>
                  </a:lnTo>
                  <a:lnTo>
                    <a:pt x="1169" y="1391"/>
                  </a:lnTo>
                  <a:lnTo>
                    <a:pt x="1164" y="1390"/>
                  </a:lnTo>
                  <a:lnTo>
                    <a:pt x="1160" y="1387"/>
                  </a:lnTo>
                  <a:lnTo>
                    <a:pt x="1153" y="1386"/>
                  </a:lnTo>
                  <a:lnTo>
                    <a:pt x="1143" y="1382"/>
                  </a:lnTo>
                  <a:lnTo>
                    <a:pt x="1134" y="1379"/>
                  </a:lnTo>
                  <a:lnTo>
                    <a:pt x="1122" y="1376"/>
                  </a:lnTo>
                  <a:lnTo>
                    <a:pt x="1111" y="1373"/>
                  </a:lnTo>
                  <a:lnTo>
                    <a:pt x="1097" y="1368"/>
                  </a:lnTo>
                  <a:lnTo>
                    <a:pt x="1083" y="1364"/>
                  </a:lnTo>
                  <a:lnTo>
                    <a:pt x="1068" y="1360"/>
                  </a:lnTo>
                  <a:lnTo>
                    <a:pt x="1053" y="1356"/>
                  </a:lnTo>
                  <a:lnTo>
                    <a:pt x="1037" y="1352"/>
                  </a:lnTo>
                  <a:lnTo>
                    <a:pt x="1022" y="1349"/>
                  </a:lnTo>
                  <a:lnTo>
                    <a:pt x="1007" y="1343"/>
                  </a:lnTo>
                  <a:lnTo>
                    <a:pt x="993" y="1341"/>
                  </a:lnTo>
                  <a:lnTo>
                    <a:pt x="977" y="1338"/>
                  </a:lnTo>
                  <a:lnTo>
                    <a:pt x="964" y="1335"/>
                  </a:lnTo>
                  <a:lnTo>
                    <a:pt x="950" y="1332"/>
                  </a:lnTo>
                  <a:lnTo>
                    <a:pt x="937" y="1331"/>
                  </a:lnTo>
                  <a:lnTo>
                    <a:pt x="925" y="1328"/>
                  </a:lnTo>
                  <a:lnTo>
                    <a:pt x="913" y="1327"/>
                  </a:lnTo>
                  <a:lnTo>
                    <a:pt x="901" y="1326"/>
                  </a:lnTo>
                  <a:lnTo>
                    <a:pt x="893" y="1326"/>
                  </a:lnTo>
                  <a:lnTo>
                    <a:pt x="883" y="1323"/>
                  </a:lnTo>
                  <a:lnTo>
                    <a:pt x="876" y="1323"/>
                  </a:lnTo>
                  <a:lnTo>
                    <a:pt x="867" y="1323"/>
                  </a:lnTo>
                  <a:lnTo>
                    <a:pt x="863" y="1323"/>
                  </a:lnTo>
                  <a:lnTo>
                    <a:pt x="857" y="1323"/>
                  </a:lnTo>
                  <a:lnTo>
                    <a:pt x="855" y="1323"/>
                  </a:lnTo>
                  <a:lnTo>
                    <a:pt x="852" y="1323"/>
                  </a:lnTo>
                  <a:lnTo>
                    <a:pt x="851" y="1323"/>
                  </a:lnTo>
                  <a:lnTo>
                    <a:pt x="851" y="1326"/>
                  </a:lnTo>
                  <a:lnTo>
                    <a:pt x="850" y="1330"/>
                  </a:lnTo>
                  <a:lnTo>
                    <a:pt x="850" y="1337"/>
                  </a:lnTo>
                  <a:lnTo>
                    <a:pt x="849" y="1343"/>
                  </a:lnTo>
                  <a:lnTo>
                    <a:pt x="849" y="1352"/>
                  </a:lnTo>
                  <a:lnTo>
                    <a:pt x="848" y="1363"/>
                  </a:lnTo>
                  <a:lnTo>
                    <a:pt x="848" y="1373"/>
                  </a:lnTo>
                  <a:lnTo>
                    <a:pt x="847" y="1386"/>
                  </a:lnTo>
                  <a:lnTo>
                    <a:pt x="844" y="1398"/>
                  </a:lnTo>
                  <a:lnTo>
                    <a:pt x="843" y="1412"/>
                  </a:lnTo>
                  <a:lnTo>
                    <a:pt x="842" y="1427"/>
                  </a:lnTo>
                  <a:lnTo>
                    <a:pt x="841" y="1440"/>
                  </a:lnTo>
                  <a:lnTo>
                    <a:pt x="840" y="1455"/>
                  </a:lnTo>
                  <a:lnTo>
                    <a:pt x="838" y="1472"/>
                  </a:lnTo>
                  <a:lnTo>
                    <a:pt x="838" y="1487"/>
                  </a:lnTo>
                  <a:lnTo>
                    <a:pt x="836" y="1502"/>
                  </a:lnTo>
                  <a:lnTo>
                    <a:pt x="834" y="1518"/>
                  </a:lnTo>
                  <a:lnTo>
                    <a:pt x="831" y="1533"/>
                  </a:lnTo>
                  <a:lnTo>
                    <a:pt x="830" y="1550"/>
                  </a:lnTo>
                  <a:lnTo>
                    <a:pt x="828" y="1563"/>
                  </a:lnTo>
                  <a:lnTo>
                    <a:pt x="828" y="1577"/>
                  </a:lnTo>
                  <a:lnTo>
                    <a:pt x="826" y="1591"/>
                  </a:lnTo>
                  <a:lnTo>
                    <a:pt x="826" y="1604"/>
                  </a:lnTo>
                  <a:lnTo>
                    <a:pt x="823" y="1614"/>
                  </a:lnTo>
                  <a:lnTo>
                    <a:pt x="822" y="1625"/>
                  </a:lnTo>
                  <a:lnTo>
                    <a:pt x="821" y="1634"/>
                  </a:lnTo>
                  <a:lnTo>
                    <a:pt x="821" y="1642"/>
                  </a:lnTo>
                  <a:lnTo>
                    <a:pt x="819" y="1648"/>
                  </a:lnTo>
                  <a:lnTo>
                    <a:pt x="819" y="1653"/>
                  </a:lnTo>
                  <a:lnTo>
                    <a:pt x="819" y="1656"/>
                  </a:lnTo>
                  <a:lnTo>
                    <a:pt x="819" y="1657"/>
                  </a:lnTo>
                  <a:lnTo>
                    <a:pt x="816" y="1656"/>
                  </a:lnTo>
                  <a:lnTo>
                    <a:pt x="813" y="1656"/>
                  </a:lnTo>
                  <a:lnTo>
                    <a:pt x="807" y="1653"/>
                  </a:lnTo>
                  <a:lnTo>
                    <a:pt x="799" y="1652"/>
                  </a:lnTo>
                  <a:lnTo>
                    <a:pt x="787" y="1649"/>
                  </a:lnTo>
                  <a:lnTo>
                    <a:pt x="777" y="1647"/>
                  </a:lnTo>
                  <a:lnTo>
                    <a:pt x="763" y="1644"/>
                  </a:lnTo>
                  <a:lnTo>
                    <a:pt x="749" y="1641"/>
                  </a:lnTo>
                  <a:lnTo>
                    <a:pt x="732" y="1637"/>
                  </a:lnTo>
                  <a:lnTo>
                    <a:pt x="717" y="1634"/>
                  </a:lnTo>
                  <a:lnTo>
                    <a:pt x="700" y="1632"/>
                  </a:lnTo>
                  <a:lnTo>
                    <a:pt x="682" y="1629"/>
                  </a:lnTo>
                  <a:lnTo>
                    <a:pt x="665" y="1625"/>
                  </a:lnTo>
                  <a:lnTo>
                    <a:pt x="647" y="1622"/>
                  </a:lnTo>
                  <a:lnTo>
                    <a:pt x="631" y="1619"/>
                  </a:lnTo>
                  <a:lnTo>
                    <a:pt x="615" y="1618"/>
                  </a:lnTo>
                  <a:lnTo>
                    <a:pt x="597" y="1615"/>
                  </a:lnTo>
                  <a:lnTo>
                    <a:pt x="582" y="1614"/>
                  </a:lnTo>
                  <a:lnTo>
                    <a:pt x="567" y="1611"/>
                  </a:lnTo>
                  <a:lnTo>
                    <a:pt x="556" y="1611"/>
                  </a:lnTo>
                  <a:lnTo>
                    <a:pt x="542" y="1611"/>
                  </a:lnTo>
                  <a:lnTo>
                    <a:pt x="530" y="1611"/>
                  </a:lnTo>
                  <a:lnTo>
                    <a:pt x="519" y="1611"/>
                  </a:lnTo>
                  <a:lnTo>
                    <a:pt x="510" y="1611"/>
                  </a:lnTo>
                  <a:lnTo>
                    <a:pt x="501" y="1611"/>
                  </a:lnTo>
                  <a:lnTo>
                    <a:pt x="493" y="1611"/>
                  </a:lnTo>
                  <a:lnTo>
                    <a:pt x="486" y="1611"/>
                  </a:lnTo>
                  <a:lnTo>
                    <a:pt x="481" y="1612"/>
                  </a:lnTo>
                  <a:lnTo>
                    <a:pt x="476" y="1612"/>
                  </a:lnTo>
                  <a:lnTo>
                    <a:pt x="474" y="1614"/>
                  </a:lnTo>
                  <a:lnTo>
                    <a:pt x="472" y="1614"/>
                  </a:lnTo>
                  <a:lnTo>
                    <a:pt x="472" y="1614"/>
                  </a:lnTo>
                  <a:lnTo>
                    <a:pt x="472" y="1618"/>
                  </a:lnTo>
                  <a:lnTo>
                    <a:pt x="472" y="1622"/>
                  </a:lnTo>
                  <a:lnTo>
                    <a:pt x="473" y="1629"/>
                  </a:lnTo>
                  <a:lnTo>
                    <a:pt x="473" y="1636"/>
                  </a:lnTo>
                  <a:lnTo>
                    <a:pt x="475" y="1645"/>
                  </a:lnTo>
                  <a:lnTo>
                    <a:pt x="475" y="1655"/>
                  </a:lnTo>
                  <a:lnTo>
                    <a:pt x="478" y="1666"/>
                  </a:lnTo>
                  <a:lnTo>
                    <a:pt x="478" y="1677"/>
                  </a:lnTo>
                  <a:lnTo>
                    <a:pt x="479" y="1690"/>
                  </a:lnTo>
                  <a:lnTo>
                    <a:pt x="480" y="1704"/>
                  </a:lnTo>
                  <a:lnTo>
                    <a:pt x="481" y="1718"/>
                  </a:lnTo>
                  <a:lnTo>
                    <a:pt x="482" y="1731"/>
                  </a:lnTo>
                  <a:lnTo>
                    <a:pt x="483" y="1743"/>
                  </a:lnTo>
                  <a:lnTo>
                    <a:pt x="483" y="1757"/>
                  </a:lnTo>
                  <a:lnTo>
                    <a:pt x="486" y="1771"/>
                  </a:lnTo>
                  <a:lnTo>
                    <a:pt x="486" y="1783"/>
                  </a:lnTo>
                  <a:lnTo>
                    <a:pt x="486" y="1795"/>
                  </a:lnTo>
                  <a:lnTo>
                    <a:pt x="486" y="1806"/>
                  </a:lnTo>
                  <a:lnTo>
                    <a:pt x="486" y="1817"/>
                  </a:lnTo>
                  <a:lnTo>
                    <a:pt x="486" y="1828"/>
                  </a:lnTo>
                  <a:lnTo>
                    <a:pt x="486" y="1838"/>
                  </a:lnTo>
                  <a:lnTo>
                    <a:pt x="484" y="1847"/>
                  </a:lnTo>
                  <a:lnTo>
                    <a:pt x="484" y="1855"/>
                  </a:lnTo>
                  <a:lnTo>
                    <a:pt x="483" y="1862"/>
                  </a:lnTo>
                  <a:lnTo>
                    <a:pt x="483" y="1869"/>
                  </a:lnTo>
                  <a:lnTo>
                    <a:pt x="483" y="1875"/>
                  </a:lnTo>
                  <a:lnTo>
                    <a:pt x="483" y="1880"/>
                  </a:lnTo>
                  <a:lnTo>
                    <a:pt x="482" y="1887"/>
                  </a:lnTo>
                  <a:lnTo>
                    <a:pt x="482" y="1890"/>
                  </a:lnTo>
                  <a:lnTo>
                    <a:pt x="0" y="1880"/>
                  </a:lnTo>
                  <a:lnTo>
                    <a:pt x="0" y="1880"/>
                  </a:lnTo>
                  <a:close/>
                </a:path>
              </a:pathLst>
            </a:custGeom>
            <a:solidFill>
              <a:srgbClr val="f3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239600" y="4582800"/>
              <a:ext cx="261000" cy="159840"/>
            </a:xfrm>
            <a:custGeom>
              <a:avLst/>
              <a:gdLst/>
              <a:ahLst/>
              <a:rect l="l" t="t" r="r" b="b"/>
              <a:pathLst>
                <a:path w="172" h="106">
                  <a:moveTo>
                    <a:pt x="0" y="23"/>
                  </a:moveTo>
                  <a:lnTo>
                    <a:pt x="1" y="20"/>
                  </a:lnTo>
                  <a:lnTo>
                    <a:pt x="5" y="15"/>
                  </a:lnTo>
                  <a:lnTo>
                    <a:pt x="11" y="8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57" y="20"/>
                  </a:lnTo>
                  <a:lnTo>
                    <a:pt x="86" y="0"/>
                  </a:lnTo>
                  <a:lnTo>
                    <a:pt x="110" y="7"/>
                  </a:lnTo>
                  <a:lnTo>
                    <a:pt x="110" y="8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8" y="26"/>
                  </a:lnTo>
                  <a:lnTo>
                    <a:pt x="124" y="33"/>
                  </a:lnTo>
                  <a:lnTo>
                    <a:pt x="130" y="41"/>
                  </a:lnTo>
                  <a:lnTo>
                    <a:pt x="137" y="49"/>
                  </a:lnTo>
                  <a:lnTo>
                    <a:pt x="146" y="57"/>
                  </a:lnTo>
                  <a:lnTo>
                    <a:pt x="151" y="65"/>
                  </a:lnTo>
                  <a:lnTo>
                    <a:pt x="158" y="72"/>
                  </a:lnTo>
                  <a:lnTo>
                    <a:pt x="163" y="79"/>
                  </a:lnTo>
                  <a:lnTo>
                    <a:pt x="168" y="85"/>
                  </a:lnTo>
                  <a:lnTo>
                    <a:pt x="170" y="87"/>
                  </a:lnTo>
                  <a:lnTo>
                    <a:pt x="172" y="90"/>
                  </a:lnTo>
                  <a:lnTo>
                    <a:pt x="164" y="106"/>
                  </a:lnTo>
                  <a:lnTo>
                    <a:pt x="136" y="101"/>
                  </a:lnTo>
                  <a:lnTo>
                    <a:pt x="135" y="100"/>
                  </a:lnTo>
                  <a:lnTo>
                    <a:pt x="133" y="98"/>
                  </a:lnTo>
                  <a:lnTo>
                    <a:pt x="128" y="95"/>
                  </a:lnTo>
                  <a:lnTo>
                    <a:pt x="122" y="93"/>
                  </a:lnTo>
                  <a:lnTo>
                    <a:pt x="115" y="87"/>
                  </a:lnTo>
                  <a:lnTo>
                    <a:pt x="108" y="83"/>
                  </a:lnTo>
                  <a:lnTo>
                    <a:pt x="101" y="78"/>
                  </a:lnTo>
                  <a:lnTo>
                    <a:pt x="94" y="72"/>
                  </a:lnTo>
                  <a:lnTo>
                    <a:pt x="90" y="67"/>
                  </a:lnTo>
                  <a:lnTo>
                    <a:pt x="85" y="64"/>
                  </a:lnTo>
                  <a:lnTo>
                    <a:pt x="82" y="61"/>
                  </a:lnTo>
                  <a:lnTo>
                    <a:pt x="78" y="59"/>
                  </a:lnTo>
                  <a:lnTo>
                    <a:pt x="71" y="53"/>
                  </a:lnTo>
                  <a:lnTo>
                    <a:pt x="65" y="50"/>
                  </a:lnTo>
                  <a:lnTo>
                    <a:pt x="61" y="48"/>
                  </a:lnTo>
                  <a:lnTo>
                    <a:pt x="57" y="45"/>
                  </a:lnTo>
                  <a:lnTo>
                    <a:pt x="54" y="45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145840" y="5519880"/>
              <a:ext cx="683640" cy="883800"/>
            </a:xfrm>
            <a:custGeom>
              <a:avLst/>
              <a:gdLst/>
              <a:ahLst/>
              <a:rect l="l" t="t" r="r" b="b"/>
              <a:pathLst>
                <a:path w="450" h="586">
                  <a:moveTo>
                    <a:pt x="171" y="12"/>
                  </a:moveTo>
                  <a:lnTo>
                    <a:pt x="171" y="15"/>
                  </a:lnTo>
                  <a:lnTo>
                    <a:pt x="173" y="19"/>
                  </a:lnTo>
                  <a:lnTo>
                    <a:pt x="176" y="25"/>
                  </a:lnTo>
                  <a:lnTo>
                    <a:pt x="179" y="32"/>
                  </a:lnTo>
                  <a:lnTo>
                    <a:pt x="184" y="40"/>
                  </a:lnTo>
                  <a:lnTo>
                    <a:pt x="186" y="44"/>
                  </a:lnTo>
                  <a:lnTo>
                    <a:pt x="188" y="48"/>
                  </a:lnTo>
                  <a:lnTo>
                    <a:pt x="191" y="53"/>
                  </a:lnTo>
                  <a:lnTo>
                    <a:pt x="194" y="60"/>
                  </a:lnTo>
                  <a:lnTo>
                    <a:pt x="198" y="64"/>
                  </a:lnTo>
                  <a:lnTo>
                    <a:pt x="201" y="68"/>
                  </a:lnTo>
                  <a:lnTo>
                    <a:pt x="205" y="73"/>
                  </a:lnTo>
                  <a:lnTo>
                    <a:pt x="209" y="77"/>
                  </a:lnTo>
                  <a:lnTo>
                    <a:pt x="218" y="82"/>
                  </a:lnTo>
                  <a:lnTo>
                    <a:pt x="226" y="88"/>
                  </a:lnTo>
                  <a:lnTo>
                    <a:pt x="231" y="89"/>
                  </a:lnTo>
                  <a:lnTo>
                    <a:pt x="237" y="92"/>
                  </a:lnTo>
                  <a:lnTo>
                    <a:pt x="241" y="93"/>
                  </a:lnTo>
                  <a:lnTo>
                    <a:pt x="243" y="94"/>
                  </a:lnTo>
                  <a:lnTo>
                    <a:pt x="241" y="94"/>
                  </a:lnTo>
                  <a:lnTo>
                    <a:pt x="240" y="100"/>
                  </a:lnTo>
                  <a:lnTo>
                    <a:pt x="236" y="109"/>
                  </a:lnTo>
                  <a:lnTo>
                    <a:pt x="233" y="120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5" y="165"/>
                  </a:lnTo>
                  <a:lnTo>
                    <a:pt x="209" y="183"/>
                  </a:lnTo>
                  <a:lnTo>
                    <a:pt x="202" y="202"/>
                  </a:lnTo>
                  <a:lnTo>
                    <a:pt x="197" y="221"/>
                  </a:lnTo>
                  <a:lnTo>
                    <a:pt x="190" y="241"/>
                  </a:lnTo>
                  <a:lnTo>
                    <a:pt x="183" y="260"/>
                  </a:lnTo>
                  <a:lnTo>
                    <a:pt x="176" y="277"/>
                  </a:lnTo>
                  <a:lnTo>
                    <a:pt x="171" y="294"/>
                  </a:lnTo>
                  <a:lnTo>
                    <a:pt x="166" y="309"/>
                  </a:lnTo>
                  <a:lnTo>
                    <a:pt x="163" y="322"/>
                  </a:lnTo>
                  <a:lnTo>
                    <a:pt x="158" y="333"/>
                  </a:lnTo>
                  <a:lnTo>
                    <a:pt x="156" y="346"/>
                  </a:lnTo>
                  <a:lnTo>
                    <a:pt x="155" y="352"/>
                  </a:lnTo>
                  <a:lnTo>
                    <a:pt x="152" y="362"/>
                  </a:lnTo>
                  <a:lnTo>
                    <a:pt x="151" y="368"/>
                  </a:lnTo>
                  <a:lnTo>
                    <a:pt x="150" y="376"/>
                  </a:lnTo>
                  <a:lnTo>
                    <a:pt x="150" y="380"/>
                  </a:lnTo>
                  <a:lnTo>
                    <a:pt x="150" y="387"/>
                  </a:lnTo>
                  <a:lnTo>
                    <a:pt x="148" y="391"/>
                  </a:lnTo>
                  <a:lnTo>
                    <a:pt x="147" y="396"/>
                  </a:lnTo>
                  <a:lnTo>
                    <a:pt x="144" y="402"/>
                  </a:lnTo>
                  <a:lnTo>
                    <a:pt x="143" y="407"/>
                  </a:lnTo>
                  <a:lnTo>
                    <a:pt x="140" y="413"/>
                  </a:lnTo>
                  <a:lnTo>
                    <a:pt x="135" y="421"/>
                  </a:lnTo>
                  <a:lnTo>
                    <a:pt x="131" y="428"/>
                  </a:lnTo>
                  <a:lnTo>
                    <a:pt x="126" y="437"/>
                  </a:lnTo>
                  <a:lnTo>
                    <a:pt x="117" y="445"/>
                  </a:lnTo>
                  <a:lnTo>
                    <a:pt x="108" y="456"/>
                  </a:lnTo>
                  <a:lnTo>
                    <a:pt x="99" y="467"/>
                  </a:lnTo>
                  <a:lnTo>
                    <a:pt x="89" y="478"/>
                  </a:lnTo>
                  <a:lnTo>
                    <a:pt x="79" y="489"/>
                  </a:lnTo>
                  <a:lnTo>
                    <a:pt x="69" y="501"/>
                  </a:lnTo>
                  <a:lnTo>
                    <a:pt x="58" y="511"/>
                  </a:lnTo>
                  <a:lnTo>
                    <a:pt x="49" y="525"/>
                  </a:lnTo>
                  <a:lnTo>
                    <a:pt x="38" y="534"/>
                  </a:lnTo>
                  <a:lnTo>
                    <a:pt x="29" y="544"/>
                  </a:lnTo>
                  <a:lnTo>
                    <a:pt x="20" y="552"/>
                  </a:lnTo>
                  <a:lnTo>
                    <a:pt x="14" y="560"/>
                  </a:lnTo>
                  <a:lnTo>
                    <a:pt x="7" y="565"/>
                  </a:lnTo>
                  <a:lnTo>
                    <a:pt x="3" y="571"/>
                  </a:lnTo>
                  <a:lnTo>
                    <a:pt x="0" y="574"/>
                  </a:lnTo>
                  <a:lnTo>
                    <a:pt x="0" y="576"/>
                  </a:lnTo>
                  <a:lnTo>
                    <a:pt x="30" y="586"/>
                  </a:lnTo>
                  <a:lnTo>
                    <a:pt x="77" y="586"/>
                  </a:lnTo>
                  <a:lnTo>
                    <a:pt x="77" y="583"/>
                  </a:lnTo>
                  <a:lnTo>
                    <a:pt x="79" y="581"/>
                  </a:lnTo>
                  <a:lnTo>
                    <a:pt x="81" y="574"/>
                  </a:lnTo>
                  <a:lnTo>
                    <a:pt x="86" y="567"/>
                  </a:lnTo>
                  <a:lnTo>
                    <a:pt x="91" y="557"/>
                  </a:lnTo>
                  <a:lnTo>
                    <a:pt x="95" y="548"/>
                  </a:lnTo>
                  <a:lnTo>
                    <a:pt x="101" y="537"/>
                  </a:lnTo>
                  <a:lnTo>
                    <a:pt x="108" y="526"/>
                  </a:lnTo>
                  <a:lnTo>
                    <a:pt x="114" y="514"/>
                  </a:lnTo>
                  <a:lnTo>
                    <a:pt x="120" y="503"/>
                  </a:lnTo>
                  <a:lnTo>
                    <a:pt x="124" y="492"/>
                  </a:lnTo>
                  <a:lnTo>
                    <a:pt x="131" y="482"/>
                  </a:lnTo>
                  <a:lnTo>
                    <a:pt x="135" y="474"/>
                  </a:lnTo>
                  <a:lnTo>
                    <a:pt x="140" y="467"/>
                  </a:lnTo>
                  <a:lnTo>
                    <a:pt x="142" y="462"/>
                  </a:lnTo>
                  <a:lnTo>
                    <a:pt x="144" y="459"/>
                  </a:lnTo>
                  <a:lnTo>
                    <a:pt x="148" y="452"/>
                  </a:lnTo>
                  <a:lnTo>
                    <a:pt x="152" y="445"/>
                  </a:lnTo>
                  <a:lnTo>
                    <a:pt x="158" y="436"/>
                  </a:lnTo>
                  <a:lnTo>
                    <a:pt x="165" y="428"/>
                  </a:lnTo>
                  <a:lnTo>
                    <a:pt x="166" y="422"/>
                  </a:lnTo>
                  <a:lnTo>
                    <a:pt x="170" y="417"/>
                  </a:lnTo>
                  <a:lnTo>
                    <a:pt x="173" y="413"/>
                  </a:lnTo>
                  <a:lnTo>
                    <a:pt x="176" y="410"/>
                  </a:lnTo>
                  <a:lnTo>
                    <a:pt x="180" y="404"/>
                  </a:lnTo>
                  <a:lnTo>
                    <a:pt x="181" y="403"/>
                  </a:lnTo>
                  <a:lnTo>
                    <a:pt x="259" y="234"/>
                  </a:lnTo>
                  <a:lnTo>
                    <a:pt x="275" y="220"/>
                  </a:lnTo>
                  <a:lnTo>
                    <a:pt x="278" y="220"/>
                  </a:lnTo>
                  <a:lnTo>
                    <a:pt x="282" y="220"/>
                  </a:lnTo>
                  <a:lnTo>
                    <a:pt x="287" y="221"/>
                  </a:lnTo>
                  <a:lnTo>
                    <a:pt x="293" y="221"/>
                  </a:lnTo>
                  <a:lnTo>
                    <a:pt x="300" y="224"/>
                  </a:lnTo>
                  <a:lnTo>
                    <a:pt x="308" y="224"/>
                  </a:lnTo>
                  <a:lnTo>
                    <a:pt x="316" y="225"/>
                  </a:lnTo>
                  <a:lnTo>
                    <a:pt x="320" y="225"/>
                  </a:lnTo>
                  <a:lnTo>
                    <a:pt x="325" y="227"/>
                  </a:lnTo>
                  <a:lnTo>
                    <a:pt x="329" y="228"/>
                  </a:lnTo>
                  <a:lnTo>
                    <a:pt x="334" y="228"/>
                  </a:lnTo>
                  <a:lnTo>
                    <a:pt x="337" y="230"/>
                  </a:lnTo>
                  <a:lnTo>
                    <a:pt x="341" y="231"/>
                  </a:lnTo>
                  <a:lnTo>
                    <a:pt x="344" y="231"/>
                  </a:lnTo>
                  <a:lnTo>
                    <a:pt x="349" y="234"/>
                  </a:lnTo>
                  <a:lnTo>
                    <a:pt x="355" y="235"/>
                  </a:lnTo>
                  <a:lnTo>
                    <a:pt x="361" y="236"/>
                  </a:lnTo>
                  <a:lnTo>
                    <a:pt x="364" y="238"/>
                  </a:lnTo>
                  <a:lnTo>
                    <a:pt x="365" y="238"/>
                  </a:lnTo>
                  <a:lnTo>
                    <a:pt x="405" y="202"/>
                  </a:lnTo>
                  <a:lnTo>
                    <a:pt x="368" y="202"/>
                  </a:lnTo>
                  <a:lnTo>
                    <a:pt x="398" y="189"/>
                  </a:lnTo>
                  <a:lnTo>
                    <a:pt x="397" y="186"/>
                  </a:lnTo>
                  <a:lnTo>
                    <a:pt x="394" y="185"/>
                  </a:lnTo>
                  <a:lnTo>
                    <a:pt x="391" y="182"/>
                  </a:lnTo>
                  <a:lnTo>
                    <a:pt x="387" y="179"/>
                  </a:lnTo>
                  <a:lnTo>
                    <a:pt x="380" y="175"/>
                  </a:lnTo>
                  <a:lnTo>
                    <a:pt x="374" y="171"/>
                  </a:lnTo>
                  <a:lnTo>
                    <a:pt x="370" y="168"/>
                  </a:lnTo>
                  <a:lnTo>
                    <a:pt x="365" y="167"/>
                  </a:lnTo>
                  <a:lnTo>
                    <a:pt x="361" y="164"/>
                  </a:lnTo>
                  <a:lnTo>
                    <a:pt x="357" y="163"/>
                  </a:lnTo>
                  <a:lnTo>
                    <a:pt x="350" y="160"/>
                  </a:lnTo>
                  <a:lnTo>
                    <a:pt x="344" y="157"/>
                  </a:lnTo>
                  <a:lnTo>
                    <a:pt x="339" y="154"/>
                  </a:lnTo>
                  <a:lnTo>
                    <a:pt x="333" y="153"/>
                  </a:lnTo>
                  <a:lnTo>
                    <a:pt x="326" y="150"/>
                  </a:lnTo>
                  <a:lnTo>
                    <a:pt x="320" y="149"/>
                  </a:lnTo>
                  <a:lnTo>
                    <a:pt x="314" y="146"/>
                  </a:lnTo>
                  <a:lnTo>
                    <a:pt x="308" y="146"/>
                  </a:lnTo>
                  <a:lnTo>
                    <a:pt x="302" y="144"/>
                  </a:lnTo>
                  <a:lnTo>
                    <a:pt x="298" y="144"/>
                  </a:lnTo>
                  <a:lnTo>
                    <a:pt x="293" y="142"/>
                  </a:lnTo>
                  <a:lnTo>
                    <a:pt x="291" y="142"/>
                  </a:lnTo>
                  <a:lnTo>
                    <a:pt x="285" y="141"/>
                  </a:lnTo>
                  <a:lnTo>
                    <a:pt x="284" y="141"/>
                  </a:lnTo>
                  <a:lnTo>
                    <a:pt x="296" y="92"/>
                  </a:lnTo>
                  <a:lnTo>
                    <a:pt x="296" y="90"/>
                  </a:lnTo>
                  <a:lnTo>
                    <a:pt x="297" y="86"/>
                  </a:lnTo>
                  <a:lnTo>
                    <a:pt x="299" y="79"/>
                  </a:lnTo>
                  <a:lnTo>
                    <a:pt x="302" y="74"/>
                  </a:lnTo>
                  <a:lnTo>
                    <a:pt x="306" y="66"/>
                  </a:lnTo>
                  <a:lnTo>
                    <a:pt x="312" y="58"/>
                  </a:lnTo>
                  <a:lnTo>
                    <a:pt x="316" y="52"/>
                  </a:lnTo>
                  <a:lnTo>
                    <a:pt x="323" y="48"/>
                  </a:lnTo>
                  <a:lnTo>
                    <a:pt x="328" y="43"/>
                  </a:lnTo>
                  <a:lnTo>
                    <a:pt x="334" y="43"/>
                  </a:lnTo>
                  <a:lnTo>
                    <a:pt x="340" y="43"/>
                  </a:lnTo>
                  <a:lnTo>
                    <a:pt x="347" y="45"/>
                  </a:lnTo>
                  <a:lnTo>
                    <a:pt x="353" y="47"/>
                  </a:lnTo>
                  <a:lnTo>
                    <a:pt x="358" y="49"/>
                  </a:lnTo>
                  <a:lnTo>
                    <a:pt x="363" y="52"/>
                  </a:lnTo>
                  <a:lnTo>
                    <a:pt x="369" y="56"/>
                  </a:lnTo>
                  <a:lnTo>
                    <a:pt x="372" y="58"/>
                  </a:lnTo>
                  <a:lnTo>
                    <a:pt x="376" y="59"/>
                  </a:lnTo>
                  <a:lnTo>
                    <a:pt x="379" y="60"/>
                  </a:lnTo>
                  <a:lnTo>
                    <a:pt x="383" y="62"/>
                  </a:lnTo>
                  <a:lnTo>
                    <a:pt x="386" y="64"/>
                  </a:lnTo>
                  <a:lnTo>
                    <a:pt x="391" y="67"/>
                  </a:lnTo>
                  <a:lnTo>
                    <a:pt x="394" y="70"/>
                  </a:lnTo>
                  <a:lnTo>
                    <a:pt x="401" y="75"/>
                  </a:lnTo>
                  <a:lnTo>
                    <a:pt x="407" y="81"/>
                  </a:lnTo>
                  <a:lnTo>
                    <a:pt x="415" y="88"/>
                  </a:lnTo>
                  <a:lnTo>
                    <a:pt x="419" y="92"/>
                  </a:lnTo>
                  <a:lnTo>
                    <a:pt x="424" y="96"/>
                  </a:lnTo>
                  <a:lnTo>
                    <a:pt x="427" y="100"/>
                  </a:lnTo>
                  <a:lnTo>
                    <a:pt x="432" y="104"/>
                  </a:lnTo>
                  <a:lnTo>
                    <a:pt x="439" y="109"/>
                  </a:lnTo>
                  <a:lnTo>
                    <a:pt x="445" y="116"/>
                  </a:lnTo>
                  <a:lnTo>
                    <a:pt x="448" y="119"/>
                  </a:lnTo>
                  <a:lnTo>
                    <a:pt x="450" y="122"/>
                  </a:lnTo>
                  <a:lnTo>
                    <a:pt x="448" y="119"/>
                  </a:lnTo>
                  <a:lnTo>
                    <a:pt x="445" y="115"/>
                  </a:lnTo>
                  <a:lnTo>
                    <a:pt x="439" y="107"/>
                  </a:lnTo>
                  <a:lnTo>
                    <a:pt x="432" y="99"/>
                  </a:lnTo>
                  <a:lnTo>
                    <a:pt x="427" y="92"/>
                  </a:lnTo>
                  <a:lnTo>
                    <a:pt x="422" y="88"/>
                  </a:lnTo>
                  <a:lnTo>
                    <a:pt x="418" y="81"/>
                  </a:lnTo>
                  <a:lnTo>
                    <a:pt x="413" y="75"/>
                  </a:lnTo>
                  <a:lnTo>
                    <a:pt x="408" y="70"/>
                  </a:lnTo>
                  <a:lnTo>
                    <a:pt x="404" y="63"/>
                  </a:lnTo>
                  <a:lnTo>
                    <a:pt x="399" y="58"/>
                  </a:lnTo>
                  <a:lnTo>
                    <a:pt x="394" y="52"/>
                  </a:lnTo>
                  <a:lnTo>
                    <a:pt x="390" y="47"/>
                  </a:lnTo>
                  <a:lnTo>
                    <a:pt x="385" y="40"/>
                  </a:lnTo>
                  <a:lnTo>
                    <a:pt x="380" y="34"/>
                  </a:lnTo>
                  <a:lnTo>
                    <a:pt x="377" y="30"/>
                  </a:lnTo>
                  <a:lnTo>
                    <a:pt x="370" y="21"/>
                  </a:lnTo>
                  <a:lnTo>
                    <a:pt x="364" y="14"/>
                  </a:lnTo>
                  <a:lnTo>
                    <a:pt x="358" y="7"/>
                  </a:lnTo>
                  <a:lnTo>
                    <a:pt x="355" y="3"/>
                  </a:lnTo>
                  <a:lnTo>
                    <a:pt x="353" y="0"/>
                  </a:lnTo>
                  <a:lnTo>
                    <a:pt x="350" y="0"/>
                  </a:lnTo>
                  <a:lnTo>
                    <a:pt x="347" y="6"/>
                  </a:lnTo>
                  <a:lnTo>
                    <a:pt x="342" y="7"/>
                  </a:lnTo>
                  <a:lnTo>
                    <a:pt x="340" y="10"/>
                  </a:lnTo>
                  <a:lnTo>
                    <a:pt x="335" y="14"/>
                  </a:lnTo>
                  <a:lnTo>
                    <a:pt x="330" y="18"/>
                  </a:lnTo>
                  <a:lnTo>
                    <a:pt x="325" y="21"/>
                  </a:lnTo>
                  <a:lnTo>
                    <a:pt x="319" y="25"/>
                  </a:lnTo>
                  <a:lnTo>
                    <a:pt x="313" y="28"/>
                  </a:lnTo>
                  <a:lnTo>
                    <a:pt x="306" y="32"/>
                  </a:lnTo>
                  <a:lnTo>
                    <a:pt x="298" y="33"/>
                  </a:lnTo>
                  <a:lnTo>
                    <a:pt x="291" y="36"/>
                  </a:lnTo>
                  <a:lnTo>
                    <a:pt x="283" y="37"/>
                  </a:lnTo>
                  <a:lnTo>
                    <a:pt x="275" y="40"/>
                  </a:lnTo>
                  <a:lnTo>
                    <a:pt x="266" y="38"/>
                  </a:lnTo>
                  <a:lnTo>
                    <a:pt x="257" y="37"/>
                  </a:lnTo>
                  <a:lnTo>
                    <a:pt x="248" y="36"/>
                  </a:lnTo>
                  <a:lnTo>
                    <a:pt x="238" y="34"/>
                  </a:lnTo>
                  <a:lnTo>
                    <a:pt x="230" y="32"/>
                  </a:lnTo>
                  <a:lnTo>
                    <a:pt x="222" y="30"/>
                  </a:lnTo>
                  <a:lnTo>
                    <a:pt x="213" y="28"/>
                  </a:lnTo>
                  <a:lnTo>
                    <a:pt x="206" y="26"/>
                  </a:lnTo>
                  <a:lnTo>
                    <a:pt x="198" y="23"/>
                  </a:lnTo>
                  <a:lnTo>
                    <a:pt x="191" y="21"/>
                  </a:lnTo>
                  <a:lnTo>
                    <a:pt x="185" y="18"/>
                  </a:lnTo>
                  <a:lnTo>
                    <a:pt x="180" y="17"/>
                  </a:lnTo>
                  <a:lnTo>
                    <a:pt x="176" y="15"/>
                  </a:lnTo>
                  <a:lnTo>
                    <a:pt x="173" y="14"/>
                  </a:lnTo>
                  <a:lnTo>
                    <a:pt x="171" y="12"/>
                  </a:lnTo>
                  <a:lnTo>
                    <a:pt x="171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607720" y="5221080"/>
              <a:ext cx="136440" cy="404280"/>
            </a:xfrm>
            <a:custGeom>
              <a:avLst/>
              <a:gdLst/>
              <a:ahLst/>
              <a:rect l="l" t="t" r="r" b="b"/>
              <a:pathLst>
                <a:path w="90" h="268">
                  <a:moveTo>
                    <a:pt x="66" y="0"/>
                  </a:moveTo>
                  <a:lnTo>
                    <a:pt x="66" y="2"/>
                  </a:lnTo>
                  <a:lnTo>
                    <a:pt x="68" y="7"/>
                  </a:lnTo>
                  <a:lnTo>
                    <a:pt x="70" y="10"/>
                  </a:lnTo>
                  <a:lnTo>
                    <a:pt x="72" y="14"/>
                  </a:lnTo>
                  <a:lnTo>
                    <a:pt x="74" y="19"/>
                  </a:lnTo>
                  <a:lnTo>
                    <a:pt x="76" y="26"/>
                  </a:lnTo>
                  <a:lnTo>
                    <a:pt x="78" y="32"/>
                  </a:lnTo>
                  <a:lnTo>
                    <a:pt x="80" y="38"/>
                  </a:lnTo>
                  <a:lnTo>
                    <a:pt x="81" y="47"/>
                  </a:lnTo>
                  <a:lnTo>
                    <a:pt x="83" y="53"/>
                  </a:lnTo>
                  <a:lnTo>
                    <a:pt x="85" y="62"/>
                  </a:lnTo>
                  <a:lnTo>
                    <a:pt x="87" y="70"/>
                  </a:lnTo>
                  <a:lnTo>
                    <a:pt x="88" y="79"/>
                  </a:lnTo>
                  <a:lnTo>
                    <a:pt x="89" y="88"/>
                  </a:lnTo>
                  <a:lnTo>
                    <a:pt x="89" y="96"/>
                  </a:lnTo>
                  <a:lnTo>
                    <a:pt x="90" y="104"/>
                  </a:lnTo>
                  <a:lnTo>
                    <a:pt x="90" y="112"/>
                  </a:lnTo>
                  <a:lnTo>
                    <a:pt x="90" y="122"/>
                  </a:lnTo>
                  <a:lnTo>
                    <a:pt x="89" y="129"/>
                  </a:lnTo>
                  <a:lnTo>
                    <a:pt x="89" y="137"/>
                  </a:lnTo>
                  <a:lnTo>
                    <a:pt x="87" y="146"/>
                  </a:lnTo>
                  <a:lnTo>
                    <a:pt x="87" y="155"/>
                  </a:lnTo>
                  <a:lnTo>
                    <a:pt x="85" y="161"/>
                  </a:lnTo>
                  <a:lnTo>
                    <a:pt x="82" y="170"/>
                  </a:lnTo>
                  <a:lnTo>
                    <a:pt x="80" y="176"/>
                  </a:lnTo>
                  <a:lnTo>
                    <a:pt x="78" y="185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67" y="204"/>
                  </a:lnTo>
                  <a:lnTo>
                    <a:pt x="65" y="210"/>
                  </a:lnTo>
                  <a:lnTo>
                    <a:pt x="60" y="216"/>
                  </a:lnTo>
                  <a:lnTo>
                    <a:pt x="56" y="220"/>
                  </a:lnTo>
                  <a:lnTo>
                    <a:pt x="51" y="226"/>
                  </a:lnTo>
                  <a:lnTo>
                    <a:pt x="47" y="231"/>
                  </a:lnTo>
                  <a:lnTo>
                    <a:pt x="43" y="235"/>
                  </a:lnTo>
                  <a:lnTo>
                    <a:pt x="38" y="241"/>
                  </a:lnTo>
                  <a:lnTo>
                    <a:pt x="33" y="246"/>
                  </a:lnTo>
                  <a:lnTo>
                    <a:pt x="29" y="250"/>
                  </a:lnTo>
                  <a:lnTo>
                    <a:pt x="24" y="253"/>
                  </a:lnTo>
                  <a:lnTo>
                    <a:pt x="19" y="257"/>
                  </a:lnTo>
                  <a:lnTo>
                    <a:pt x="16" y="260"/>
                  </a:lnTo>
                  <a:lnTo>
                    <a:pt x="14" y="262"/>
                  </a:lnTo>
                  <a:lnTo>
                    <a:pt x="9" y="266"/>
                  </a:lnTo>
                  <a:lnTo>
                    <a:pt x="8" y="268"/>
                  </a:lnTo>
                  <a:lnTo>
                    <a:pt x="0" y="217"/>
                  </a:lnTo>
                  <a:lnTo>
                    <a:pt x="1" y="216"/>
                  </a:lnTo>
                  <a:lnTo>
                    <a:pt x="4" y="213"/>
                  </a:lnTo>
                  <a:lnTo>
                    <a:pt x="10" y="208"/>
                  </a:lnTo>
                  <a:lnTo>
                    <a:pt x="17" y="202"/>
                  </a:lnTo>
                  <a:lnTo>
                    <a:pt x="24" y="194"/>
                  </a:lnTo>
                  <a:lnTo>
                    <a:pt x="32" y="186"/>
                  </a:lnTo>
                  <a:lnTo>
                    <a:pt x="36" y="179"/>
                  </a:lnTo>
                  <a:lnTo>
                    <a:pt x="39" y="174"/>
                  </a:lnTo>
                  <a:lnTo>
                    <a:pt x="43" y="168"/>
                  </a:lnTo>
                  <a:lnTo>
                    <a:pt x="46" y="164"/>
                  </a:lnTo>
                  <a:lnTo>
                    <a:pt x="49" y="156"/>
                  </a:lnTo>
                  <a:lnTo>
                    <a:pt x="51" y="150"/>
                  </a:lnTo>
                  <a:lnTo>
                    <a:pt x="52" y="144"/>
                  </a:lnTo>
                  <a:lnTo>
                    <a:pt x="54" y="138"/>
                  </a:lnTo>
                  <a:lnTo>
                    <a:pt x="54" y="131"/>
                  </a:lnTo>
                  <a:lnTo>
                    <a:pt x="56" y="124"/>
                  </a:lnTo>
                  <a:lnTo>
                    <a:pt x="57" y="119"/>
                  </a:lnTo>
                  <a:lnTo>
                    <a:pt x="58" y="112"/>
                  </a:lnTo>
                  <a:lnTo>
                    <a:pt x="58" y="105"/>
                  </a:lnTo>
                  <a:lnTo>
                    <a:pt x="58" y="99"/>
                  </a:lnTo>
                  <a:lnTo>
                    <a:pt x="58" y="92"/>
                  </a:lnTo>
                  <a:lnTo>
                    <a:pt x="59" y="86"/>
                  </a:lnTo>
                  <a:lnTo>
                    <a:pt x="59" y="81"/>
                  </a:lnTo>
                  <a:lnTo>
                    <a:pt x="59" y="74"/>
                  </a:lnTo>
                  <a:lnTo>
                    <a:pt x="59" y="68"/>
                  </a:lnTo>
                  <a:lnTo>
                    <a:pt x="59" y="64"/>
                  </a:lnTo>
                  <a:lnTo>
                    <a:pt x="59" y="59"/>
                  </a:lnTo>
                  <a:lnTo>
                    <a:pt x="59" y="53"/>
                  </a:lnTo>
                  <a:lnTo>
                    <a:pt x="59" y="49"/>
                  </a:lnTo>
                  <a:lnTo>
                    <a:pt x="59" y="47"/>
                  </a:lnTo>
                  <a:lnTo>
                    <a:pt x="59" y="40"/>
                  </a:lnTo>
                  <a:lnTo>
                    <a:pt x="59" y="34"/>
                  </a:lnTo>
                  <a:lnTo>
                    <a:pt x="59" y="29"/>
                  </a:lnTo>
                  <a:lnTo>
                    <a:pt x="59" y="26"/>
                  </a:lnTo>
                  <a:lnTo>
                    <a:pt x="59" y="25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e9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337360" y="5563800"/>
              <a:ext cx="144360" cy="17028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37" y="0"/>
                  </a:moveTo>
                  <a:lnTo>
                    <a:pt x="51" y="41"/>
                  </a:lnTo>
                  <a:lnTo>
                    <a:pt x="68" y="31"/>
                  </a:lnTo>
                  <a:lnTo>
                    <a:pt x="95" y="44"/>
                  </a:lnTo>
                  <a:lnTo>
                    <a:pt x="86" y="63"/>
                  </a:lnTo>
                  <a:lnTo>
                    <a:pt x="62" y="60"/>
                  </a:lnTo>
                  <a:lnTo>
                    <a:pt x="75" y="90"/>
                  </a:lnTo>
                  <a:lnTo>
                    <a:pt x="7" y="113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7" y="83"/>
                  </a:lnTo>
                  <a:lnTo>
                    <a:pt x="10" y="78"/>
                  </a:lnTo>
                  <a:lnTo>
                    <a:pt x="14" y="72"/>
                  </a:lnTo>
                  <a:lnTo>
                    <a:pt x="15" y="65"/>
                  </a:lnTo>
                  <a:lnTo>
                    <a:pt x="17" y="60"/>
                  </a:lnTo>
                  <a:lnTo>
                    <a:pt x="16" y="52"/>
                  </a:lnTo>
                  <a:lnTo>
                    <a:pt x="16" y="44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0" y="26"/>
                  </a:lnTo>
                  <a:lnTo>
                    <a:pt x="9" y="22"/>
                  </a:lnTo>
                  <a:lnTo>
                    <a:pt x="7" y="1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1320" y="5643360"/>
              <a:ext cx="51480" cy="5580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7"/>
                  </a:moveTo>
                  <a:lnTo>
                    <a:pt x="0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3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13" y="3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46960" y="6076440"/>
              <a:ext cx="45720" cy="27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1" y="0"/>
                  </a:moveTo>
                  <a:lnTo>
                    <a:pt x="30" y="14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650200" y="4765320"/>
              <a:ext cx="136440" cy="379800"/>
            </a:xfrm>
            <a:custGeom>
              <a:avLst/>
              <a:gdLst/>
              <a:ahLst/>
              <a:rect l="l" t="t" r="r" b="b"/>
              <a:pathLst>
                <a:path w="90" h="252">
                  <a:moveTo>
                    <a:pt x="48" y="0"/>
                  </a:moveTo>
                  <a:lnTo>
                    <a:pt x="66" y="47"/>
                  </a:lnTo>
                  <a:lnTo>
                    <a:pt x="54" y="73"/>
                  </a:lnTo>
                  <a:lnTo>
                    <a:pt x="73" y="73"/>
                  </a:lnTo>
                  <a:lnTo>
                    <a:pt x="90" y="99"/>
                  </a:lnTo>
                  <a:lnTo>
                    <a:pt x="75" y="104"/>
                  </a:lnTo>
                  <a:lnTo>
                    <a:pt x="73" y="103"/>
                  </a:lnTo>
                  <a:lnTo>
                    <a:pt x="72" y="103"/>
                  </a:lnTo>
                  <a:lnTo>
                    <a:pt x="68" y="103"/>
                  </a:lnTo>
                  <a:lnTo>
                    <a:pt x="65" y="103"/>
                  </a:lnTo>
                  <a:lnTo>
                    <a:pt x="60" y="103"/>
                  </a:lnTo>
                  <a:lnTo>
                    <a:pt x="55" y="103"/>
                  </a:lnTo>
                  <a:lnTo>
                    <a:pt x="51" y="106"/>
                  </a:lnTo>
                  <a:lnTo>
                    <a:pt x="48" y="110"/>
                  </a:lnTo>
                  <a:lnTo>
                    <a:pt x="45" y="114"/>
                  </a:lnTo>
                  <a:lnTo>
                    <a:pt x="43" y="119"/>
                  </a:lnTo>
                  <a:lnTo>
                    <a:pt x="42" y="125"/>
                  </a:lnTo>
                  <a:lnTo>
                    <a:pt x="43" y="133"/>
                  </a:lnTo>
                  <a:lnTo>
                    <a:pt x="43" y="138"/>
                  </a:lnTo>
                  <a:lnTo>
                    <a:pt x="45" y="145"/>
                  </a:lnTo>
                  <a:lnTo>
                    <a:pt x="48" y="151"/>
                  </a:lnTo>
                  <a:lnTo>
                    <a:pt x="52" y="155"/>
                  </a:lnTo>
                  <a:lnTo>
                    <a:pt x="55" y="157"/>
                  </a:lnTo>
                  <a:lnTo>
                    <a:pt x="60" y="160"/>
                  </a:lnTo>
                  <a:lnTo>
                    <a:pt x="65" y="162"/>
                  </a:lnTo>
                  <a:lnTo>
                    <a:pt x="71" y="163"/>
                  </a:lnTo>
                  <a:lnTo>
                    <a:pt x="74" y="163"/>
                  </a:lnTo>
                  <a:lnTo>
                    <a:pt x="78" y="163"/>
                  </a:lnTo>
                  <a:lnTo>
                    <a:pt x="80" y="163"/>
                  </a:lnTo>
                  <a:lnTo>
                    <a:pt x="81" y="163"/>
                  </a:lnTo>
                  <a:lnTo>
                    <a:pt x="60" y="188"/>
                  </a:lnTo>
                  <a:lnTo>
                    <a:pt x="28" y="252"/>
                  </a:lnTo>
                  <a:lnTo>
                    <a:pt x="9" y="237"/>
                  </a:lnTo>
                  <a:lnTo>
                    <a:pt x="9" y="234"/>
                  </a:lnTo>
                  <a:lnTo>
                    <a:pt x="10" y="228"/>
                  </a:lnTo>
                  <a:lnTo>
                    <a:pt x="10" y="224"/>
                  </a:lnTo>
                  <a:lnTo>
                    <a:pt x="12" y="220"/>
                  </a:lnTo>
                  <a:lnTo>
                    <a:pt x="12" y="215"/>
                  </a:lnTo>
                  <a:lnTo>
                    <a:pt x="15" y="209"/>
                  </a:lnTo>
                  <a:lnTo>
                    <a:pt x="15" y="204"/>
                  </a:lnTo>
                  <a:lnTo>
                    <a:pt x="16" y="198"/>
                  </a:lnTo>
                  <a:lnTo>
                    <a:pt x="16" y="193"/>
                  </a:lnTo>
                  <a:lnTo>
                    <a:pt x="17" y="188"/>
                  </a:lnTo>
                  <a:lnTo>
                    <a:pt x="17" y="182"/>
                  </a:lnTo>
                  <a:lnTo>
                    <a:pt x="18" y="178"/>
                  </a:lnTo>
                  <a:lnTo>
                    <a:pt x="18" y="172"/>
                  </a:lnTo>
                  <a:lnTo>
                    <a:pt x="18" y="170"/>
                  </a:lnTo>
                  <a:lnTo>
                    <a:pt x="16" y="162"/>
                  </a:lnTo>
                  <a:lnTo>
                    <a:pt x="15" y="156"/>
                  </a:lnTo>
                  <a:lnTo>
                    <a:pt x="12" y="152"/>
                  </a:lnTo>
                  <a:lnTo>
                    <a:pt x="10" y="151"/>
                  </a:lnTo>
                  <a:lnTo>
                    <a:pt x="4" y="148"/>
                  </a:lnTo>
                  <a:lnTo>
                    <a:pt x="2" y="144"/>
                  </a:lnTo>
                  <a:lnTo>
                    <a:pt x="3" y="137"/>
                  </a:lnTo>
                  <a:lnTo>
                    <a:pt x="7" y="129"/>
                  </a:lnTo>
                  <a:lnTo>
                    <a:pt x="10" y="122"/>
                  </a:lnTo>
                  <a:lnTo>
                    <a:pt x="12" y="119"/>
                  </a:lnTo>
                  <a:lnTo>
                    <a:pt x="10" y="117"/>
                  </a:lnTo>
                  <a:lnTo>
                    <a:pt x="7" y="112"/>
                  </a:lnTo>
                  <a:lnTo>
                    <a:pt x="4" y="107"/>
                  </a:lnTo>
                  <a:lnTo>
                    <a:pt x="3" y="103"/>
                  </a:lnTo>
                  <a:lnTo>
                    <a:pt x="2" y="96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2" y="48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63800" y="4724640"/>
              <a:ext cx="215640" cy="257760"/>
            </a:xfrm>
            <a:custGeom>
              <a:avLst/>
              <a:gdLst/>
              <a:ahLst/>
              <a:rect l="l" t="t" r="r" b="b"/>
              <a:pathLst>
                <a:path w="142" h="171">
                  <a:moveTo>
                    <a:pt x="107" y="45"/>
                  </a:moveTo>
                  <a:lnTo>
                    <a:pt x="108" y="48"/>
                  </a:lnTo>
                  <a:lnTo>
                    <a:pt x="114" y="51"/>
                  </a:lnTo>
                  <a:lnTo>
                    <a:pt x="117" y="48"/>
                  </a:lnTo>
                  <a:lnTo>
                    <a:pt x="119" y="47"/>
                  </a:lnTo>
                  <a:lnTo>
                    <a:pt x="122" y="44"/>
                  </a:lnTo>
                  <a:lnTo>
                    <a:pt x="123" y="42"/>
                  </a:lnTo>
                  <a:lnTo>
                    <a:pt x="136" y="55"/>
                  </a:lnTo>
                  <a:lnTo>
                    <a:pt x="137" y="53"/>
                  </a:lnTo>
                  <a:lnTo>
                    <a:pt x="138" y="49"/>
                  </a:lnTo>
                  <a:lnTo>
                    <a:pt x="140" y="44"/>
                  </a:lnTo>
                  <a:lnTo>
                    <a:pt x="142" y="38"/>
                  </a:lnTo>
                  <a:lnTo>
                    <a:pt x="138" y="32"/>
                  </a:lnTo>
                  <a:lnTo>
                    <a:pt x="133" y="27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6" y="21"/>
                  </a:lnTo>
                  <a:lnTo>
                    <a:pt x="126" y="15"/>
                  </a:lnTo>
                  <a:lnTo>
                    <a:pt x="124" y="10"/>
                  </a:lnTo>
                  <a:lnTo>
                    <a:pt x="122" y="6"/>
                  </a:lnTo>
                  <a:lnTo>
                    <a:pt x="116" y="1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6" y="3"/>
                  </a:lnTo>
                  <a:lnTo>
                    <a:pt x="93" y="6"/>
                  </a:lnTo>
                  <a:lnTo>
                    <a:pt x="88" y="7"/>
                  </a:lnTo>
                  <a:lnTo>
                    <a:pt x="83" y="10"/>
                  </a:lnTo>
                  <a:lnTo>
                    <a:pt x="80" y="14"/>
                  </a:lnTo>
                  <a:lnTo>
                    <a:pt x="75" y="17"/>
                  </a:lnTo>
                  <a:lnTo>
                    <a:pt x="68" y="23"/>
                  </a:lnTo>
                  <a:lnTo>
                    <a:pt x="61" y="27"/>
                  </a:lnTo>
                  <a:lnTo>
                    <a:pt x="54" y="29"/>
                  </a:lnTo>
                  <a:lnTo>
                    <a:pt x="48" y="27"/>
                  </a:lnTo>
                  <a:lnTo>
                    <a:pt x="40" y="27"/>
                  </a:lnTo>
                  <a:lnTo>
                    <a:pt x="33" y="30"/>
                  </a:lnTo>
                  <a:lnTo>
                    <a:pt x="29" y="32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9" y="53"/>
                  </a:lnTo>
                  <a:lnTo>
                    <a:pt x="5" y="57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3" y="81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2" y="93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3" y="131"/>
                  </a:lnTo>
                  <a:lnTo>
                    <a:pt x="5" y="139"/>
                  </a:lnTo>
                  <a:lnTo>
                    <a:pt x="8" y="148"/>
                  </a:lnTo>
                  <a:lnTo>
                    <a:pt x="12" y="153"/>
                  </a:lnTo>
                  <a:lnTo>
                    <a:pt x="18" y="160"/>
                  </a:lnTo>
                  <a:lnTo>
                    <a:pt x="25" y="165"/>
                  </a:lnTo>
                  <a:lnTo>
                    <a:pt x="32" y="168"/>
                  </a:lnTo>
                  <a:lnTo>
                    <a:pt x="38" y="169"/>
                  </a:lnTo>
                  <a:lnTo>
                    <a:pt x="41" y="171"/>
                  </a:lnTo>
                  <a:lnTo>
                    <a:pt x="51" y="146"/>
                  </a:lnTo>
                  <a:lnTo>
                    <a:pt x="50" y="142"/>
                  </a:lnTo>
                  <a:lnTo>
                    <a:pt x="48" y="135"/>
                  </a:lnTo>
                  <a:lnTo>
                    <a:pt x="46" y="127"/>
                  </a:lnTo>
                  <a:lnTo>
                    <a:pt x="45" y="123"/>
                  </a:lnTo>
                  <a:lnTo>
                    <a:pt x="46" y="115"/>
                  </a:lnTo>
                  <a:lnTo>
                    <a:pt x="52" y="113"/>
                  </a:lnTo>
                  <a:lnTo>
                    <a:pt x="57" y="115"/>
                  </a:lnTo>
                  <a:lnTo>
                    <a:pt x="61" y="118"/>
                  </a:lnTo>
                  <a:lnTo>
                    <a:pt x="66" y="119"/>
                  </a:lnTo>
                  <a:lnTo>
                    <a:pt x="71" y="120"/>
                  </a:lnTo>
                  <a:lnTo>
                    <a:pt x="74" y="118"/>
                  </a:lnTo>
                  <a:lnTo>
                    <a:pt x="78" y="115"/>
                  </a:lnTo>
                  <a:lnTo>
                    <a:pt x="80" y="109"/>
                  </a:lnTo>
                  <a:lnTo>
                    <a:pt x="82" y="104"/>
                  </a:lnTo>
                  <a:lnTo>
                    <a:pt x="81" y="98"/>
                  </a:lnTo>
                  <a:lnTo>
                    <a:pt x="80" y="94"/>
                  </a:lnTo>
                  <a:lnTo>
                    <a:pt x="80" y="90"/>
                  </a:lnTo>
                  <a:lnTo>
                    <a:pt x="82" y="86"/>
                  </a:lnTo>
                  <a:lnTo>
                    <a:pt x="85" y="82"/>
                  </a:lnTo>
                  <a:lnTo>
                    <a:pt x="90" y="78"/>
                  </a:lnTo>
                  <a:lnTo>
                    <a:pt x="96" y="71"/>
                  </a:lnTo>
                  <a:lnTo>
                    <a:pt x="101" y="66"/>
                  </a:lnTo>
                  <a:lnTo>
                    <a:pt x="103" y="59"/>
                  </a:lnTo>
                  <a:lnTo>
                    <a:pt x="105" y="52"/>
                  </a:lnTo>
                  <a:lnTo>
                    <a:pt x="105" y="47"/>
                  </a:lnTo>
                  <a:lnTo>
                    <a:pt x="107" y="45"/>
                  </a:lnTo>
                  <a:lnTo>
                    <a:pt x="107" y="4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148800" y="4880160"/>
              <a:ext cx="167040" cy="11916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0" y="49"/>
                  </a:moveTo>
                  <a:lnTo>
                    <a:pt x="1" y="46"/>
                  </a:lnTo>
                  <a:lnTo>
                    <a:pt x="5" y="41"/>
                  </a:lnTo>
                  <a:lnTo>
                    <a:pt x="8" y="36"/>
                  </a:lnTo>
                  <a:lnTo>
                    <a:pt x="13" y="34"/>
                  </a:lnTo>
                  <a:lnTo>
                    <a:pt x="17" y="32"/>
                  </a:lnTo>
                  <a:lnTo>
                    <a:pt x="24" y="30"/>
                  </a:lnTo>
                  <a:lnTo>
                    <a:pt x="30" y="27"/>
                  </a:lnTo>
                  <a:lnTo>
                    <a:pt x="36" y="27"/>
                  </a:lnTo>
                  <a:lnTo>
                    <a:pt x="43" y="24"/>
                  </a:lnTo>
                  <a:lnTo>
                    <a:pt x="51" y="24"/>
                  </a:lnTo>
                  <a:lnTo>
                    <a:pt x="56" y="24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6" y="24"/>
                  </a:lnTo>
                  <a:lnTo>
                    <a:pt x="110" y="0"/>
                  </a:lnTo>
                  <a:lnTo>
                    <a:pt x="108" y="12"/>
                  </a:lnTo>
                  <a:lnTo>
                    <a:pt x="78" y="39"/>
                  </a:lnTo>
                  <a:lnTo>
                    <a:pt x="17" y="60"/>
                  </a:lnTo>
                  <a:lnTo>
                    <a:pt x="1" y="7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29080" y="4849920"/>
              <a:ext cx="75960" cy="316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0" y="15"/>
                  </a:moveTo>
                  <a:lnTo>
                    <a:pt x="43" y="0"/>
                  </a:lnTo>
                  <a:lnTo>
                    <a:pt x="50" y="0"/>
                  </a:lnTo>
                  <a:lnTo>
                    <a:pt x="11" y="2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343120" y="5676840"/>
              <a:ext cx="108000" cy="5688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0"/>
                  </a:moveTo>
                  <a:lnTo>
                    <a:pt x="29" y="0"/>
                  </a:lnTo>
                  <a:lnTo>
                    <a:pt x="41" y="8"/>
                  </a:lnTo>
                  <a:lnTo>
                    <a:pt x="50" y="3"/>
                  </a:lnTo>
                  <a:lnTo>
                    <a:pt x="58" y="5"/>
                  </a:lnTo>
                  <a:lnTo>
                    <a:pt x="71" y="15"/>
                  </a:lnTo>
                  <a:lnTo>
                    <a:pt x="7" y="3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191560" y="5661360"/>
              <a:ext cx="447840" cy="431640"/>
            </a:xfrm>
            <a:custGeom>
              <a:avLst/>
              <a:gdLst/>
              <a:ahLst/>
              <a:rect l="l" t="t" r="r" b="b"/>
              <a:pathLst>
                <a:path w="295" h="286">
                  <a:moveTo>
                    <a:pt x="2" y="60"/>
                  </a:moveTo>
                  <a:lnTo>
                    <a:pt x="283" y="0"/>
                  </a:lnTo>
                  <a:lnTo>
                    <a:pt x="295" y="227"/>
                  </a:lnTo>
                  <a:lnTo>
                    <a:pt x="282" y="235"/>
                  </a:lnTo>
                  <a:lnTo>
                    <a:pt x="47" y="286"/>
                  </a:lnTo>
                  <a:lnTo>
                    <a:pt x="28" y="283"/>
                  </a:lnTo>
                  <a:lnTo>
                    <a:pt x="27" y="282"/>
                  </a:lnTo>
                  <a:lnTo>
                    <a:pt x="27" y="274"/>
                  </a:lnTo>
                  <a:lnTo>
                    <a:pt x="25" y="264"/>
                  </a:lnTo>
                  <a:lnTo>
                    <a:pt x="23" y="252"/>
                  </a:lnTo>
                  <a:lnTo>
                    <a:pt x="21" y="235"/>
                  </a:lnTo>
                  <a:lnTo>
                    <a:pt x="19" y="219"/>
                  </a:lnTo>
                  <a:lnTo>
                    <a:pt x="16" y="200"/>
                  </a:lnTo>
                  <a:lnTo>
                    <a:pt x="14" y="182"/>
                  </a:lnTo>
                  <a:lnTo>
                    <a:pt x="11" y="162"/>
                  </a:lnTo>
                  <a:lnTo>
                    <a:pt x="8" y="142"/>
                  </a:lnTo>
                  <a:lnTo>
                    <a:pt x="6" y="125"/>
                  </a:lnTo>
                  <a:lnTo>
                    <a:pt x="4" y="110"/>
                  </a:lnTo>
                  <a:lnTo>
                    <a:pt x="2" y="96"/>
                  </a:lnTo>
                  <a:lnTo>
                    <a:pt x="1" y="85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2" y="60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451480" y="5661360"/>
              <a:ext cx="189720" cy="357840"/>
            </a:xfrm>
            <a:custGeom>
              <a:avLst/>
              <a:gdLst/>
              <a:ahLst/>
              <a:rect l="l" t="t" r="r" b="b"/>
              <a:pathLst>
                <a:path w="125" h="237">
                  <a:moveTo>
                    <a:pt x="0" y="24"/>
                  </a:moveTo>
                  <a:lnTo>
                    <a:pt x="112" y="0"/>
                  </a:lnTo>
                  <a:lnTo>
                    <a:pt x="125" y="228"/>
                  </a:lnTo>
                  <a:lnTo>
                    <a:pt x="92" y="237"/>
                  </a:lnTo>
                  <a:lnTo>
                    <a:pt x="84" y="2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1905120" y="1752480"/>
            <a:ext cx="5486400" cy="1676520"/>
          </a:xfrm>
          <a:prstGeom prst="wedgeEllipseCallout">
            <a:avLst>
              <a:gd name="adj1" fmla="val -31597"/>
              <a:gd name="adj2" fmla="val 87027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14600" y="1905120"/>
            <a:ext cx="44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problems may require many ste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746000" cy="21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"/>
          <p:cNvGrpSpPr/>
          <p:nvPr/>
        </p:nvGrpSpPr>
        <p:grpSpPr>
          <a:xfrm>
            <a:off x="5029200" y="3581280"/>
            <a:ext cx="3392640" cy="2911320"/>
            <a:chOff x="5029200" y="3581280"/>
            <a:chExt cx="3392640" cy="2911320"/>
          </a:xfrm>
        </p:grpSpPr>
        <p:sp>
          <p:nvSpPr>
            <p:cNvPr id="1403" name=""/>
            <p:cNvSpPr/>
            <p:nvPr/>
          </p:nvSpPr>
          <p:spPr>
            <a:xfrm>
              <a:off x="5029200" y="3952440"/>
              <a:ext cx="3392640" cy="230760"/>
            </a:xfrm>
            <a:custGeom>
              <a:avLst/>
              <a:gdLst/>
              <a:ahLst/>
              <a:rect l="l" t="t" r="r" b="b"/>
              <a:pathLst>
                <a:path w="2233" h="153">
                  <a:moveTo>
                    <a:pt x="2233" y="119"/>
                  </a:moveTo>
                  <a:lnTo>
                    <a:pt x="0" y="0"/>
                  </a:lnTo>
                  <a:lnTo>
                    <a:pt x="3" y="55"/>
                  </a:lnTo>
                  <a:lnTo>
                    <a:pt x="2225" y="153"/>
                  </a:lnTo>
                  <a:lnTo>
                    <a:pt x="2233" y="119"/>
                  </a:lnTo>
                  <a:lnTo>
                    <a:pt x="2233" y="119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029200" y="3952440"/>
              <a:ext cx="3392640" cy="230760"/>
            </a:xfrm>
            <a:custGeom>
              <a:avLst/>
              <a:gdLst/>
              <a:ahLst/>
              <a:rect l="l" t="t" r="r" b="b"/>
              <a:pathLst>
                <a:path w="2233" h="153">
                  <a:moveTo>
                    <a:pt x="0" y="0"/>
                  </a:moveTo>
                  <a:lnTo>
                    <a:pt x="2233" y="119"/>
                  </a:lnTo>
                  <a:lnTo>
                    <a:pt x="2225" y="153"/>
                  </a:lnTo>
                  <a:lnTo>
                    <a:pt x="3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41080" y="4291560"/>
              <a:ext cx="3328560" cy="230760"/>
            </a:xfrm>
            <a:custGeom>
              <a:avLst/>
              <a:gdLst/>
              <a:ahLst/>
              <a:rect l="l" t="t" r="r" b="b"/>
              <a:pathLst>
                <a:path w="2191" h="153">
                  <a:moveTo>
                    <a:pt x="0" y="0"/>
                  </a:moveTo>
                  <a:lnTo>
                    <a:pt x="2191" y="121"/>
                  </a:lnTo>
                  <a:lnTo>
                    <a:pt x="2183" y="153"/>
                  </a:lnTo>
                  <a:lnTo>
                    <a:pt x="6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322240" y="3581280"/>
              <a:ext cx="145440" cy="2818080"/>
            </a:xfrm>
            <a:custGeom>
              <a:avLst/>
              <a:gdLst/>
              <a:ahLst/>
              <a:rect l="l" t="t" r="r" b="b"/>
              <a:pathLst>
                <a:path w="96" h="1868">
                  <a:moveTo>
                    <a:pt x="0" y="0"/>
                  </a:moveTo>
                  <a:lnTo>
                    <a:pt x="36" y="4"/>
                  </a:lnTo>
                  <a:lnTo>
                    <a:pt x="96" y="1868"/>
                  </a:lnTo>
                  <a:lnTo>
                    <a:pt x="70" y="18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45880" y="3606840"/>
              <a:ext cx="93960" cy="2796840"/>
            </a:xfrm>
            <a:custGeom>
              <a:avLst/>
              <a:gdLst/>
              <a:ahLst/>
              <a:rect l="l" t="t" r="r" b="b"/>
              <a:pathLst>
                <a:path w="62" h="1854">
                  <a:moveTo>
                    <a:pt x="0" y="0"/>
                  </a:moveTo>
                  <a:lnTo>
                    <a:pt x="32" y="2"/>
                  </a:lnTo>
                  <a:lnTo>
                    <a:pt x="62" y="1854"/>
                  </a:lnTo>
                  <a:lnTo>
                    <a:pt x="35" y="18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974200" y="3630960"/>
              <a:ext cx="49680" cy="2774160"/>
            </a:xfrm>
            <a:custGeom>
              <a:avLst/>
              <a:gdLst/>
              <a:ahLst/>
              <a:rect l="l" t="t" r="r" b="b"/>
              <a:pathLst>
                <a:path w="33" h="1839">
                  <a:moveTo>
                    <a:pt x="0" y="0"/>
                  </a:moveTo>
                  <a:lnTo>
                    <a:pt x="33" y="0"/>
                  </a:lnTo>
                  <a:lnTo>
                    <a:pt x="30" y="1839"/>
                  </a:lnTo>
                  <a:lnTo>
                    <a:pt x="5" y="18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68440" y="6334560"/>
              <a:ext cx="110880" cy="9036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40" y="0"/>
                  </a:moveTo>
                  <a:lnTo>
                    <a:pt x="18" y="15"/>
                  </a:lnTo>
                  <a:lnTo>
                    <a:pt x="0" y="43"/>
                  </a:lnTo>
                  <a:lnTo>
                    <a:pt x="30" y="58"/>
                  </a:lnTo>
                  <a:lnTo>
                    <a:pt x="73" y="6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43040" y="3964320"/>
              <a:ext cx="2637720" cy="2507040"/>
            </a:xfrm>
            <a:custGeom>
              <a:avLst/>
              <a:gdLst/>
              <a:ahLst/>
              <a:rect l="l" t="t" r="r" b="b"/>
              <a:pathLst>
                <a:path w="1736" h="1662">
                  <a:moveTo>
                    <a:pt x="0" y="1658"/>
                  </a:moveTo>
                  <a:lnTo>
                    <a:pt x="109" y="1459"/>
                  </a:lnTo>
                  <a:lnTo>
                    <a:pt x="109" y="1457"/>
                  </a:lnTo>
                  <a:lnTo>
                    <a:pt x="113" y="1456"/>
                  </a:lnTo>
                  <a:lnTo>
                    <a:pt x="116" y="1453"/>
                  </a:lnTo>
                  <a:lnTo>
                    <a:pt x="123" y="1450"/>
                  </a:lnTo>
                  <a:lnTo>
                    <a:pt x="126" y="1448"/>
                  </a:lnTo>
                  <a:lnTo>
                    <a:pt x="130" y="1446"/>
                  </a:lnTo>
                  <a:lnTo>
                    <a:pt x="135" y="1444"/>
                  </a:lnTo>
                  <a:lnTo>
                    <a:pt x="138" y="1444"/>
                  </a:lnTo>
                  <a:lnTo>
                    <a:pt x="143" y="1441"/>
                  </a:lnTo>
                  <a:lnTo>
                    <a:pt x="149" y="1439"/>
                  </a:lnTo>
                  <a:lnTo>
                    <a:pt x="155" y="1438"/>
                  </a:lnTo>
                  <a:lnTo>
                    <a:pt x="162" y="1438"/>
                  </a:lnTo>
                  <a:lnTo>
                    <a:pt x="167" y="1437"/>
                  </a:lnTo>
                  <a:lnTo>
                    <a:pt x="176" y="1435"/>
                  </a:lnTo>
                  <a:lnTo>
                    <a:pt x="185" y="1435"/>
                  </a:lnTo>
                  <a:lnTo>
                    <a:pt x="198" y="1435"/>
                  </a:lnTo>
                  <a:lnTo>
                    <a:pt x="208" y="1435"/>
                  </a:lnTo>
                  <a:lnTo>
                    <a:pt x="221" y="1435"/>
                  </a:lnTo>
                  <a:lnTo>
                    <a:pt x="234" y="1435"/>
                  </a:lnTo>
                  <a:lnTo>
                    <a:pt x="247" y="1435"/>
                  </a:lnTo>
                  <a:lnTo>
                    <a:pt x="258" y="1435"/>
                  </a:lnTo>
                  <a:lnTo>
                    <a:pt x="270" y="1435"/>
                  </a:lnTo>
                  <a:lnTo>
                    <a:pt x="280" y="1435"/>
                  </a:lnTo>
                  <a:lnTo>
                    <a:pt x="291" y="1435"/>
                  </a:lnTo>
                  <a:lnTo>
                    <a:pt x="299" y="1435"/>
                  </a:lnTo>
                  <a:lnTo>
                    <a:pt x="306" y="1435"/>
                  </a:lnTo>
                  <a:lnTo>
                    <a:pt x="310" y="1435"/>
                  </a:lnTo>
                  <a:lnTo>
                    <a:pt x="311" y="1435"/>
                  </a:lnTo>
                  <a:lnTo>
                    <a:pt x="426" y="1166"/>
                  </a:lnTo>
                  <a:lnTo>
                    <a:pt x="497" y="1127"/>
                  </a:lnTo>
                  <a:lnTo>
                    <a:pt x="653" y="1127"/>
                  </a:lnTo>
                  <a:lnTo>
                    <a:pt x="808" y="802"/>
                  </a:lnTo>
                  <a:lnTo>
                    <a:pt x="809" y="800"/>
                  </a:lnTo>
                  <a:lnTo>
                    <a:pt x="814" y="798"/>
                  </a:lnTo>
                  <a:lnTo>
                    <a:pt x="816" y="795"/>
                  </a:lnTo>
                  <a:lnTo>
                    <a:pt x="819" y="792"/>
                  </a:lnTo>
                  <a:lnTo>
                    <a:pt x="823" y="791"/>
                  </a:lnTo>
                  <a:lnTo>
                    <a:pt x="828" y="790"/>
                  </a:lnTo>
                  <a:lnTo>
                    <a:pt x="831" y="785"/>
                  </a:lnTo>
                  <a:lnTo>
                    <a:pt x="836" y="783"/>
                  </a:lnTo>
                  <a:lnTo>
                    <a:pt x="840" y="780"/>
                  </a:lnTo>
                  <a:lnTo>
                    <a:pt x="845" y="777"/>
                  </a:lnTo>
                  <a:lnTo>
                    <a:pt x="850" y="776"/>
                  </a:lnTo>
                  <a:lnTo>
                    <a:pt x="854" y="773"/>
                  </a:lnTo>
                  <a:lnTo>
                    <a:pt x="859" y="770"/>
                  </a:lnTo>
                  <a:lnTo>
                    <a:pt x="864" y="769"/>
                  </a:lnTo>
                  <a:lnTo>
                    <a:pt x="871" y="764"/>
                  </a:lnTo>
                  <a:lnTo>
                    <a:pt x="878" y="761"/>
                  </a:lnTo>
                  <a:lnTo>
                    <a:pt x="883" y="758"/>
                  </a:lnTo>
                  <a:lnTo>
                    <a:pt x="888" y="757"/>
                  </a:lnTo>
                  <a:lnTo>
                    <a:pt x="894" y="755"/>
                  </a:lnTo>
                  <a:lnTo>
                    <a:pt x="897" y="755"/>
                  </a:lnTo>
                  <a:lnTo>
                    <a:pt x="994" y="809"/>
                  </a:lnTo>
                  <a:lnTo>
                    <a:pt x="995" y="806"/>
                  </a:lnTo>
                  <a:lnTo>
                    <a:pt x="999" y="800"/>
                  </a:lnTo>
                  <a:lnTo>
                    <a:pt x="1003" y="792"/>
                  </a:lnTo>
                  <a:lnTo>
                    <a:pt x="1011" y="780"/>
                  </a:lnTo>
                  <a:lnTo>
                    <a:pt x="1020" y="766"/>
                  </a:lnTo>
                  <a:lnTo>
                    <a:pt x="1030" y="751"/>
                  </a:lnTo>
                  <a:lnTo>
                    <a:pt x="1042" y="732"/>
                  </a:lnTo>
                  <a:lnTo>
                    <a:pt x="1055" y="713"/>
                  </a:lnTo>
                  <a:lnTo>
                    <a:pt x="1066" y="693"/>
                  </a:lnTo>
                  <a:lnTo>
                    <a:pt x="1080" y="672"/>
                  </a:lnTo>
                  <a:lnTo>
                    <a:pt x="1092" y="652"/>
                  </a:lnTo>
                  <a:lnTo>
                    <a:pt x="1106" y="631"/>
                  </a:lnTo>
                  <a:lnTo>
                    <a:pt x="1117" y="611"/>
                  </a:lnTo>
                  <a:lnTo>
                    <a:pt x="1130" y="592"/>
                  </a:lnTo>
                  <a:lnTo>
                    <a:pt x="1141" y="574"/>
                  </a:lnTo>
                  <a:lnTo>
                    <a:pt x="1152" y="557"/>
                  </a:lnTo>
                  <a:lnTo>
                    <a:pt x="1160" y="542"/>
                  </a:lnTo>
                  <a:lnTo>
                    <a:pt x="1169" y="529"/>
                  </a:lnTo>
                  <a:lnTo>
                    <a:pt x="1176" y="518"/>
                  </a:lnTo>
                  <a:lnTo>
                    <a:pt x="1181" y="508"/>
                  </a:lnTo>
                  <a:lnTo>
                    <a:pt x="1185" y="500"/>
                  </a:lnTo>
                  <a:lnTo>
                    <a:pt x="1190" y="492"/>
                  </a:lnTo>
                  <a:lnTo>
                    <a:pt x="1192" y="486"/>
                  </a:lnTo>
                  <a:lnTo>
                    <a:pt x="1195" y="482"/>
                  </a:lnTo>
                  <a:lnTo>
                    <a:pt x="1198" y="475"/>
                  </a:lnTo>
                  <a:lnTo>
                    <a:pt x="1199" y="473"/>
                  </a:lnTo>
                  <a:lnTo>
                    <a:pt x="1199" y="471"/>
                  </a:lnTo>
                  <a:lnTo>
                    <a:pt x="1297" y="428"/>
                  </a:lnTo>
                  <a:lnTo>
                    <a:pt x="1385" y="492"/>
                  </a:lnTo>
                  <a:lnTo>
                    <a:pt x="1385" y="490"/>
                  </a:lnTo>
                  <a:lnTo>
                    <a:pt x="1387" y="488"/>
                  </a:lnTo>
                  <a:lnTo>
                    <a:pt x="1391" y="482"/>
                  </a:lnTo>
                  <a:lnTo>
                    <a:pt x="1396" y="477"/>
                  </a:lnTo>
                  <a:lnTo>
                    <a:pt x="1403" y="467"/>
                  </a:lnTo>
                  <a:lnTo>
                    <a:pt x="1408" y="458"/>
                  </a:lnTo>
                  <a:lnTo>
                    <a:pt x="1417" y="447"/>
                  </a:lnTo>
                  <a:lnTo>
                    <a:pt x="1427" y="434"/>
                  </a:lnTo>
                  <a:lnTo>
                    <a:pt x="1436" y="419"/>
                  </a:lnTo>
                  <a:lnTo>
                    <a:pt x="1447" y="403"/>
                  </a:lnTo>
                  <a:lnTo>
                    <a:pt x="1458" y="385"/>
                  </a:lnTo>
                  <a:lnTo>
                    <a:pt x="1471" y="368"/>
                  </a:lnTo>
                  <a:lnTo>
                    <a:pt x="1483" y="348"/>
                  </a:lnTo>
                  <a:lnTo>
                    <a:pt x="1497" y="328"/>
                  </a:lnTo>
                  <a:lnTo>
                    <a:pt x="1510" y="306"/>
                  </a:lnTo>
                  <a:lnTo>
                    <a:pt x="1525" y="284"/>
                  </a:lnTo>
                  <a:lnTo>
                    <a:pt x="1538" y="260"/>
                  </a:lnTo>
                  <a:lnTo>
                    <a:pt x="1552" y="237"/>
                  </a:lnTo>
                  <a:lnTo>
                    <a:pt x="1567" y="212"/>
                  </a:lnTo>
                  <a:lnTo>
                    <a:pt x="1581" y="187"/>
                  </a:lnTo>
                  <a:lnTo>
                    <a:pt x="1595" y="164"/>
                  </a:lnTo>
                  <a:lnTo>
                    <a:pt x="1607" y="140"/>
                  </a:lnTo>
                  <a:lnTo>
                    <a:pt x="1620" y="118"/>
                  </a:lnTo>
                  <a:lnTo>
                    <a:pt x="1632" y="96"/>
                  </a:lnTo>
                  <a:lnTo>
                    <a:pt x="1642" y="75"/>
                  </a:lnTo>
                  <a:lnTo>
                    <a:pt x="1653" y="58"/>
                  </a:lnTo>
                  <a:lnTo>
                    <a:pt x="1662" y="40"/>
                  </a:lnTo>
                  <a:lnTo>
                    <a:pt x="1670" y="28"/>
                  </a:lnTo>
                  <a:lnTo>
                    <a:pt x="1676" y="15"/>
                  </a:lnTo>
                  <a:lnTo>
                    <a:pt x="1681" y="7"/>
                  </a:lnTo>
                  <a:lnTo>
                    <a:pt x="1683" y="2"/>
                  </a:lnTo>
                  <a:lnTo>
                    <a:pt x="1685" y="0"/>
                  </a:lnTo>
                  <a:lnTo>
                    <a:pt x="1736" y="164"/>
                  </a:lnTo>
                  <a:lnTo>
                    <a:pt x="1515" y="628"/>
                  </a:lnTo>
                  <a:lnTo>
                    <a:pt x="1306" y="617"/>
                  </a:lnTo>
                  <a:lnTo>
                    <a:pt x="1223" y="1091"/>
                  </a:lnTo>
                  <a:lnTo>
                    <a:pt x="839" y="1061"/>
                  </a:lnTo>
                  <a:lnTo>
                    <a:pt x="841" y="1332"/>
                  </a:lnTo>
                  <a:lnTo>
                    <a:pt x="543" y="1312"/>
                  </a:lnTo>
                  <a:lnTo>
                    <a:pt x="519" y="1553"/>
                  </a:lnTo>
                  <a:lnTo>
                    <a:pt x="130" y="1662"/>
                  </a:lnTo>
                  <a:lnTo>
                    <a:pt x="0" y="1658"/>
                  </a:lnTo>
                  <a:lnTo>
                    <a:pt x="0" y="1658"/>
                  </a:lnTo>
                  <a:close/>
                </a:path>
              </a:pathLst>
            </a:custGeom>
            <a:solidFill>
              <a:srgbClr val="ff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408080" y="4385520"/>
              <a:ext cx="328320" cy="471960"/>
            </a:xfrm>
            <a:custGeom>
              <a:avLst/>
              <a:gdLst/>
              <a:ahLst/>
              <a:rect l="l" t="t" r="r" b="b"/>
              <a:pathLst>
                <a:path w="216" h="313">
                  <a:moveTo>
                    <a:pt x="0" y="186"/>
                  </a:moveTo>
                  <a:lnTo>
                    <a:pt x="43" y="172"/>
                  </a:lnTo>
                  <a:lnTo>
                    <a:pt x="42" y="149"/>
                  </a:lnTo>
                  <a:lnTo>
                    <a:pt x="42" y="146"/>
                  </a:lnTo>
                  <a:lnTo>
                    <a:pt x="45" y="140"/>
                  </a:lnTo>
                  <a:lnTo>
                    <a:pt x="46" y="136"/>
                  </a:lnTo>
                  <a:lnTo>
                    <a:pt x="49" y="131"/>
                  </a:lnTo>
                  <a:lnTo>
                    <a:pt x="51" y="127"/>
                  </a:lnTo>
                  <a:lnTo>
                    <a:pt x="56" y="121"/>
                  </a:lnTo>
                  <a:lnTo>
                    <a:pt x="59" y="115"/>
                  </a:lnTo>
                  <a:lnTo>
                    <a:pt x="64" y="109"/>
                  </a:lnTo>
                  <a:lnTo>
                    <a:pt x="68" y="102"/>
                  </a:lnTo>
                  <a:lnTo>
                    <a:pt x="75" y="95"/>
                  </a:lnTo>
                  <a:lnTo>
                    <a:pt x="81" y="87"/>
                  </a:lnTo>
                  <a:lnTo>
                    <a:pt x="89" y="80"/>
                  </a:lnTo>
                  <a:lnTo>
                    <a:pt x="95" y="74"/>
                  </a:lnTo>
                  <a:lnTo>
                    <a:pt x="104" y="67"/>
                  </a:lnTo>
                  <a:lnTo>
                    <a:pt x="113" y="60"/>
                  </a:lnTo>
                  <a:lnTo>
                    <a:pt x="121" y="53"/>
                  </a:lnTo>
                  <a:lnTo>
                    <a:pt x="130" y="46"/>
                  </a:lnTo>
                  <a:lnTo>
                    <a:pt x="139" y="41"/>
                  </a:lnTo>
                  <a:lnTo>
                    <a:pt x="148" y="34"/>
                  </a:lnTo>
                  <a:lnTo>
                    <a:pt x="158" y="30"/>
                  </a:lnTo>
                  <a:lnTo>
                    <a:pt x="167" y="24"/>
                  </a:lnTo>
                  <a:lnTo>
                    <a:pt x="175" y="20"/>
                  </a:lnTo>
                  <a:lnTo>
                    <a:pt x="184" y="15"/>
                  </a:lnTo>
                  <a:lnTo>
                    <a:pt x="192" y="11"/>
                  </a:lnTo>
                  <a:lnTo>
                    <a:pt x="198" y="7"/>
                  </a:lnTo>
                  <a:lnTo>
                    <a:pt x="205" y="5"/>
                  </a:lnTo>
                  <a:lnTo>
                    <a:pt x="209" y="3"/>
                  </a:lnTo>
                  <a:lnTo>
                    <a:pt x="213" y="1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71" y="313"/>
                  </a:lnTo>
                  <a:lnTo>
                    <a:pt x="0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34080" y="5705280"/>
              <a:ext cx="303840" cy="4402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0" y="275"/>
                  </a:moveTo>
                  <a:lnTo>
                    <a:pt x="68" y="235"/>
                  </a:lnTo>
                  <a:lnTo>
                    <a:pt x="58" y="219"/>
                  </a:lnTo>
                  <a:lnTo>
                    <a:pt x="58" y="217"/>
                  </a:lnTo>
                  <a:lnTo>
                    <a:pt x="59" y="214"/>
                  </a:lnTo>
                  <a:lnTo>
                    <a:pt x="59" y="210"/>
                  </a:lnTo>
                  <a:lnTo>
                    <a:pt x="61" y="206"/>
                  </a:lnTo>
                  <a:lnTo>
                    <a:pt x="63" y="199"/>
                  </a:lnTo>
                  <a:lnTo>
                    <a:pt x="67" y="193"/>
                  </a:lnTo>
                  <a:lnTo>
                    <a:pt x="69" y="184"/>
                  </a:lnTo>
                  <a:lnTo>
                    <a:pt x="74" y="176"/>
                  </a:lnTo>
                  <a:lnTo>
                    <a:pt x="77" y="165"/>
                  </a:lnTo>
                  <a:lnTo>
                    <a:pt x="82" y="156"/>
                  </a:lnTo>
                  <a:lnTo>
                    <a:pt x="88" y="145"/>
                  </a:lnTo>
                  <a:lnTo>
                    <a:pt x="94" y="135"/>
                  </a:lnTo>
                  <a:lnTo>
                    <a:pt x="98" y="124"/>
                  </a:lnTo>
                  <a:lnTo>
                    <a:pt x="105" y="113"/>
                  </a:lnTo>
                  <a:lnTo>
                    <a:pt x="111" y="102"/>
                  </a:lnTo>
                  <a:lnTo>
                    <a:pt x="119" y="93"/>
                  </a:lnTo>
                  <a:lnTo>
                    <a:pt x="125" y="83"/>
                  </a:lnTo>
                  <a:lnTo>
                    <a:pt x="132" y="72"/>
                  </a:lnTo>
                  <a:lnTo>
                    <a:pt x="139" y="63"/>
                  </a:lnTo>
                  <a:lnTo>
                    <a:pt x="146" y="55"/>
                  </a:lnTo>
                  <a:lnTo>
                    <a:pt x="152" y="47"/>
                  </a:lnTo>
                  <a:lnTo>
                    <a:pt x="159" y="38"/>
                  </a:lnTo>
                  <a:lnTo>
                    <a:pt x="166" y="31"/>
                  </a:lnTo>
                  <a:lnTo>
                    <a:pt x="173" y="26"/>
                  </a:lnTo>
                  <a:lnTo>
                    <a:pt x="177" y="19"/>
                  </a:lnTo>
                  <a:lnTo>
                    <a:pt x="183" y="14"/>
                  </a:lnTo>
                  <a:lnTo>
                    <a:pt x="187" y="8"/>
                  </a:lnTo>
                  <a:lnTo>
                    <a:pt x="191" y="7"/>
                  </a:lnTo>
                  <a:lnTo>
                    <a:pt x="197" y="1"/>
                  </a:lnTo>
                  <a:lnTo>
                    <a:pt x="200" y="0"/>
                  </a:lnTo>
                  <a:lnTo>
                    <a:pt x="134" y="292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94520" y="6120360"/>
              <a:ext cx="331200" cy="351000"/>
            </a:xfrm>
            <a:custGeom>
              <a:avLst/>
              <a:gdLst/>
              <a:ahLst/>
              <a:rect l="l" t="t" r="r" b="b"/>
              <a:pathLst>
                <a:path w="218" h="233">
                  <a:moveTo>
                    <a:pt x="218" y="4"/>
                  </a:moveTo>
                  <a:lnTo>
                    <a:pt x="215" y="1"/>
                  </a:lnTo>
                  <a:lnTo>
                    <a:pt x="210" y="0"/>
                  </a:lnTo>
                  <a:lnTo>
                    <a:pt x="204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84" y="1"/>
                  </a:lnTo>
                  <a:lnTo>
                    <a:pt x="177" y="2"/>
                  </a:lnTo>
                  <a:lnTo>
                    <a:pt x="168" y="2"/>
                  </a:lnTo>
                  <a:lnTo>
                    <a:pt x="159" y="2"/>
                  </a:lnTo>
                  <a:lnTo>
                    <a:pt x="152" y="4"/>
                  </a:lnTo>
                  <a:lnTo>
                    <a:pt x="145" y="4"/>
                  </a:lnTo>
                  <a:lnTo>
                    <a:pt x="139" y="6"/>
                  </a:lnTo>
                  <a:lnTo>
                    <a:pt x="135" y="6"/>
                  </a:lnTo>
                  <a:lnTo>
                    <a:pt x="130" y="8"/>
                  </a:lnTo>
                  <a:lnTo>
                    <a:pt x="128" y="8"/>
                  </a:lnTo>
                  <a:lnTo>
                    <a:pt x="128" y="9"/>
                  </a:lnTo>
                  <a:lnTo>
                    <a:pt x="118" y="76"/>
                  </a:lnTo>
                  <a:lnTo>
                    <a:pt x="0" y="228"/>
                  </a:lnTo>
                  <a:lnTo>
                    <a:pt x="145" y="233"/>
                  </a:lnTo>
                  <a:lnTo>
                    <a:pt x="218" y="4"/>
                  </a:lnTo>
                  <a:lnTo>
                    <a:pt x="218" y="4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20200" y="4706640"/>
              <a:ext cx="356760" cy="613800"/>
            </a:xfrm>
            <a:custGeom>
              <a:avLst/>
              <a:gdLst/>
              <a:ahLst/>
              <a:rect l="l" t="t" r="r" b="b"/>
              <a:pathLst>
                <a:path w="235" h="407">
                  <a:moveTo>
                    <a:pt x="0" y="288"/>
                  </a:moveTo>
                  <a:lnTo>
                    <a:pt x="61" y="246"/>
                  </a:lnTo>
                  <a:lnTo>
                    <a:pt x="48" y="218"/>
                  </a:lnTo>
                  <a:lnTo>
                    <a:pt x="48" y="217"/>
                  </a:lnTo>
                  <a:lnTo>
                    <a:pt x="48" y="214"/>
                  </a:lnTo>
                  <a:lnTo>
                    <a:pt x="49" y="209"/>
                  </a:lnTo>
                  <a:lnTo>
                    <a:pt x="53" y="202"/>
                  </a:lnTo>
                  <a:lnTo>
                    <a:pt x="54" y="196"/>
                  </a:lnTo>
                  <a:lnTo>
                    <a:pt x="56" y="191"/>
                  </a:lnTo>
                  <a:lnTo>
                    <a:pt x="61" y="186"/>
                  </a:lnTo>
                  <a:lnTo>
                    <a:pt x="64" y="179"/>
                  </a:lnTo>
                  <a:lnTo>
                    <a:pt x="69" y="172"/>
                  </a:lnTo>
                  <a:lnTo>
                    <a:pt x="76" y="164"/>
                  </a:lnTo>
                  <a:lnTo>
                    <a:pt x="84" y="154"/>
                  </a:lnTo>
                  <a:lnTo>
                    <a:pt x="92" y="145"/>
                  </a:lnTo>
                  <a:lnTo>
                    <a:pt x="100" y="134"/>
                  </a:lnTo>
                  <a:lnTo>
                    <a:pt x="111" y="121"/>
                  </a:lnTo>
                  <a:lnTo>
                    <a:pt x="122" y="110"/>
                  </a:lnTo>
                  <a:lnTo>
                    <a:pt x="134" y="100"/>
                  </a:lnTo>
                  <a:lnTo>
                    <a:pt x="145" y="87"/>
                  </a:lnTo>
                  <a:lnTo>
                    <a:pt x="157" y="75"/>
                  </a:lnTo>
                  <a:lnTo>
                    <a:pt x="169" y="63"/>
                  </a:lnTo>
                  <a:lnTo>
                    <a:pt x="181" y="53"/>
                  </a:lnTo>
                  <a:lnTo>
                    <a:pt x="191" y="41"/>
                  </a:lnTo>
                  <a:lnTo>
                    <a:pt x="202" y="31"/>
                  </a:lnTo>
                  <a:lnTo>
                    <a:pt x="211" y="22"/>
                  </a:lnTo>
                  <a:lnTo>
                    <a:pt x="219" y="15"/>
                  </a:lnTo>
                  <a:lnTo>
                    <a:pt x="225" y="8"/>
                  </a:lnTo>
                  <a:lnTo>
                    <a:pt x="231" y="4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147" y="407"/>
                  </a:lnTo>
                  <a:lnTo>
                    <a:pt x="0" y="288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68440" y="6334560"/>
              <a:ext cx="223560" cy="15804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50" y="0"/>
                  </a:moveTo>
                  <a:lnTo>
                    <a:pt x="47" y="0"/>
                  </a:lnTo>
                  <a:lnTo>
                    <a:pt x="45" y="1"/>
                  </a:lnTo>
                  <a:lnTo>
                    <a:pt x="39" y="4"/>
                  </a:lnTo>
                  <a:lnTo>
                    <a:pt x="33" y="8"/>
                  </a:lnTo>
                  <a:lnTo>
                    <a:pt x="28" y="13"/>
                  </a:lnTo>
                  <a:lnTo>
                    <a:pt x="22" y="19"/>
                  </a:lnTo>
                  <a:lnTo>
                    <a:pt x="17" y="24"/>
                  </a:lnTo>
                  <a:lnTo>
                    <a:pt x="16" y="25"/>
                  </a:lnTo>
                  <a:lnTo>
                    <a:pt x="36" y="43"/>
                  </a:lnTo>
                  <a:lnTo>
                    <a:pt x="9" y="32"/>
                  </a:lnTo>
                  <a:lnTo>
                    <a:pt x="0" y="43"/>
                  </a:lnTo>
                  <a:lnTo>
                    <a:pt x="33" y="66"/>
                  </a:lnTo>
                  <a:lnTo>
                    <a:pt x="46" y="64"/>
                  </a:lnTo>
                  <a:lnTo>
                    <a:pt x="47" y="64"/>
                  </a:lnTo>
                  <a:lnTo>
                    <a:pt x="51" y="68"/>
                  </a:lnTo>
                  <a:lnTo>
                    <a:pt x="54" y="75"/>
                  </a:lnTo>
                  <a:lnTo>
                    <a:pt x="60" y="83"/>
                  </a:lnTo>
                  <a:lnTo>
                    <a:pt x="65" y="90"/>
                  </a:lnTo>
                  <a:lnTo>
                    <a:pt x="71" y="95"/>
                  </a:lnTo>
                  <a:lnTo>
                    <a:pt x="74" y="99"/>
                  </a:lnTo>
                  <a:lnTo>
                    <a:pt x="75" y="101"/>
                  </a:lnTo>
                  <a:lnTo>
                    <a:pt x="107" y="105"/>
                  </a:lnTo>
                  <a:lnTo>
                    <a:pt x="147" y="105"/>
                  </a:lnTo>
                  <a:lnTo>
                    <a:pt x="147" y="103"/>
                  </a:lnTo>
                  <a:lnTo>
                    <a:pt x="147" y="98"/>
                  </a:lnTo>
                  <a:lnTo>
                    <a:pt x="146" y="92"/>
                  </a:lnTo>
                  <a:lnTo>
                    <a:pt x="143" y="87"/>
                  </a:lnTo>
                  <a:lnTo>
                    <a:pt x="138" y="84"/>
                  </a:lnTo>
                  <a:lnTo>
                    <a:pt x="133" y="81"/>
                  </a:lnTo>
                  <a:lnTo>
                    <a:pt x="129" y="79"/>
                  </a:lnTo>
                  <a:lnTo>
                    <a:pt x="123" y="76"/>
                  </a:lnTo>
                  <a:lnTo>
                    <a:pt x="117" y="73"/>
                  </a:lnTo>
                  <a:lnTo>
                    <a:pt x="111" y="69"/>
                  </a:lnTo>
                  <a:lnTo>
                    <a:pt x="107" y="64"/>
                  </a:lnTo>
                  <a:lnTo>
                    <a:pt x="102" y="60"/>
                  </a:lnTo>
                  <a:lnTo>
                    <a:pt x="97" y="53"/>
                  </a:lnTo>
                  <a:lnTo>
                    <a:pt x="94" y="46"/>
                  </a:lnTo>
                  <a:lnTo>
                    <a:pt x="92" y="39"/>
                  </a:lnTo>
                  <a:lnTo>
                    <a:pt x="90" y="34"/>
                  </a:lnTo>
                  <a:lnTo>
                    <a:pt x="89" y="28"/>
                  </a:lnTo>
                  <a:lnTo>
                    <a:pt x="89" y="24"/>
                  </a:lnTo>
                  <a:lnTo>
                    <a:pt x="89" y="2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913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89680" y="5513760"/>
              <a:ext cx="789840" cy="888480"/>
            </a:xfrm>
            <a:custGeom>
              <a:avLst/>
              <a:gdLst/>
              <a:ahLst/>
              <a:rect l="l" t="t" r="r" b="b"/>
              <a:pathLst>
                <a:path w="520" h="589">
                  <a:moveTo>
                    <a:pt x="218" y="32"/>
                  </a:moveTo>
                  <a:lnTo>
                    <a:pt x="220" y="32"/>
                  </a:lnTo>
                  <a:lnTo>
                    <a:pt x="225" y="34"/>
                  </a:lnTo>
                  <a:lnTo>
                    <a:pt x="228" y="34"/>
                  </a:lnTo>
                  <a:lnTo>
                    <a:pt x="232" y="36"/>
                  </a:lnTo>
                  <a:lnTo>
                    <a:pt x="237" y="37"/>
                  </a:lnTo>
                  <a:lnTo>
                    <a:pt x="243" y="38"/>
                  </a:lnTo>
                  <a:lnTo>
                    <a:pt x="249" y="40"/>
                  </a:lnTo>
                  <a:lnTo>
                    <a:pt x="255" y="41"/>
                  </a:lnTo>
                  <a:lnTo>
                    <a:pt x="261" y="42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4" y="45"/>
                  </a:lnTo>
                  <a:lnTo>
                    <a:pt x="292" y="45"/>
                  </a:lnTo>
                  <a:lnTo>
                    <a:pt x="300" y="45"/>
                  </a:lnTo>
                  <a:lnTo>
                    <a:pt x="307" y="44"/>
                  </a:lnTo>
                  <a:lnTo>
                    <a:pt x="314" y="42"/>
                  </a:lnTo>
                  <a:lnTo>
                    <a:pt x="321" y="41"/>
                  </a:lnTo>
                  <a:lnTo>
                    <a:pt x="328" y="38"/>
                  </a:lnTo>
                  <a:lnTo>
                    <a:pt x="335" y="36"/>
                  </a:lnTo>
                  <a:lnTo>
                    <a:pt x="342" y="34"/>
                  </a:lnTo>
                  <a:lnTo>
                    <a:pt x="348" y="32"/>
                  </a:lnTo>
                  <a:lnTo>
                    <a:pt x="355" y="29"/>
                  </a:lnTo>
                  <a:lnTo>
                    <a:pt x="360" y="26"/>
                  </a:lnTo>
                  <a:lnTo>
                    <a:pt x="365" y="23"/>
                  </a:lnTo>
                  <a:lnTo>
                    <a:pt x="369" y="22"/>
                  </a:lnTo>
                  <a:lnTo>
                    <a:pt x="373" y="21"/>
                  </a:lnTo>
                  <a:lnTo>
                    <a:pt x="379" y="16"/>
                  </a:lnTo>
                  <a:lnTo>
                    <a:pt x="381" y="16"/>
                  </a:lnTo>
                  <a:lnTo>
                    <a:pt x="383" y="18"/>
                  </a:lnTo>
                  <a:lnTo>
                    <a:pt x="390" y="23"/>
                  </a:lnTo>
                  <a:lnTo>
                    <a:pt x="393" y="26"/>
                  </a:lnTo>
                  <a:lnTo>
                    <a:pt x="398" y="32"/>
                  </a:lnTo>
                  <a:lnTo>
                    <a:pt x="404" y="36"/>
                  </a:lnTo>
                  <a:lnTo>
                    <a:pt x="411" y="41"/>
                  </a:lnTo>
                  <a:lnTo>
                    <a:pt x="416" y="47"/>
                  </a:lnTo>
                  <a:lnTo>
                    <a:pt x="423" y="53"/>
                  </a:lnTo>
                  <a:lnTo>
                    <a:pt x="430" y="60"/>
                  </a:lnTo>
                  <a:lnTo>
                    <a:pt x="438" y="68"/>
                  </a:lnTo>
                  <a:lnTo>
                    <a:pt x="444" y="75"/>
                  </a:lnTo>
                  <a:lnTo>
                    <a:pt x="452" y="83"/>
                  </a:lnTo>
                  <a:lnTo>
                    <a:pt x="459" y="92"/>
                  </a:lnTo>
                  <a:lnTo>
                    <a:pt x="468" y="100"/>
                  </a:lnTo>
                  <a:lnTo>
                    <a:pt x="472" y="107"/>
                  </a:lnTo>
                  <a:lnTo>
                    <a:pt x="478" y="115"/>
                  </a:lnTo>
                  <a:lnTo>
                    <a:pt x="484" y="123"/>
                  </a:lnTo>
                  <a:lnTo>
                    <a:pt x="488" y="131"/>
                  </a:lnTo>
                  <a:lnTo>
                    <a:pt x="493" y="138"/>
                  </a:lnTo>
                  <a:lnTo>
                    <a:pt x="498" y="146"/>
                  </a:lnTo>
                  <a:lnTo>
                    <a:pt x="501" y="153"/>
                  </a:lnTo>
                  <a:lnTo>
                    <a:pt x="506" y="160"/>
                  </a:lnTo>
                  <a:lnTo>
                    <a:pt x="507" y="165"/>
                  </a:lnTo>
                  <a:lnTo>
                    <a:pt x="511" y="171"/>
                  </a:lnTo>
                  <a:lnTo>
                    <a:pt x="513" y="175"/>
                  </a:lnTo>
                  <a:lnTo>
                    <a:pt x="516" y="180"/>
                  </a:lnTo>
                  <a:lnTo>
                    <a:pt x="518" y="186"/>
                  </a:lnTo>
                  <a:lnTo>
                    <a:pt x="520" y="187"/>
                  </a:lnTo>
                  <a:lnTo>
                    <a:pt x="519" y="187"/>
                  </a:lnTo>
                  <a:lnTo>
                    <a:pt x="518" y="190"/>
                  </a:lnTo>
                  <a:lnTo>
                    <a:pt x="516" y="193"/>
                  </a:lnTo>
                  <a:lnTo>
                    <a:pt x="515" y="198"/>
                  </a:lnTo>
                  <a:lnTo>
                    <a:pt x="512" y="202"/>
                  </a:lnTo>
                  <a:lnTo>
                    <a:pt x="509" y="210"/>
                  </a:lnTo>
                  <a:lnTo>
                    <a:pt x="507" y="217"/>
                  </a:lnTo>
                  <a:lnTo>
                    <a:pt x="506" y="225"/>
                  </a:lnTo>
                  <a:lnTo>
                    <a:pt x="501" y="234"/>
                  </a:lnTo>
                  <a:lnTo>
                    <a:pt x="499" y="242"/>
                  </a:lnTo>
                  <a:lnTo>
                    <a:pt x="495" y="251"/>
                  </a:lnTo>
                  <a:lnTo>
                    <a:pt x="493" y="261"/>
                  </a:lnTo>
                  <a:lnTo>
                    <a:pt x="491" y="269"/>
                  </a:lnTo>
                  <a:lnTo>
                    <a:pt x="487" y="279"/>
                  </a:lnTo>
                  <a:lnTo>
                    <a:pt x="485" y="287"/>
                  </a:lnTo>
                  <a:lnTo>
                    <a:pt x="483" y="298"/>
                  </a:lnTo>
                  <a:lnTo>
                    <a:pt x="480" y="305"/>
                  </a:lnTo>
                  <a:lnTo>
                    <a:pt x="478" y="311"/>
                  </a:lnTo>
                  <a:lnTo>
                    <a:pt x="476" y="317"/>
                  </a:lnTo>
                  <a:lnTo>
                    <a:pt x="475" y="324"/>
                  </a:lnTo>
                  <a:lnTo>
                    <a:pt x="472" y="329"/>
                  </a:lnTo>
                  <a:lnTo>
                    <a:pt x="471" y="335"/>
                  </a:lnTo>
                  <a:lnTo>
                    <a:pt x="470" y="339"/>
                  </a:lnTo>
                  <a:lnTo>
                    <a:pt x="470" y="344"/>
                  </a:lnTo>
                  <a:lnTo>
                    <a:pt x="468" y="350"/>
                  </a:lnTo>
                  <a:lnTo>
                    <a:pt x="468" y="355"/>
                  </a:lnTo>
                  <a:lnTo>
                    <a:pt x="468" y="358"/>
                  </a:lnTo>
                  <a:lnTo>
                    <a:pt x="468" y="359"/>
                  </a:lnTo>
                  <a:lnTo>
                    <a:pt x="465" y="359"/>
                  </a:lnTo>
                  <a:lnTo>
                    <a:pt x="461" y="361"/>
                  </a:lnTo>
                  <a:lnTo>
                    <a:pt x="457" y="361"/>
                  </a:lnTo>
                  <a:lnTo>
                    <a:pt x="452" y="362"/>
                  </a:lnTo>
                  <a:lnTo>
                    <a:pt x="449" y="362"/>
                  </a:lnTo>
                  <a:lnTo>
                    <a:pt x="444" y="365"/>
                  </a:lnTo>
                  <a:lnTo>
                    <a:pt x="438" y="365"/>
                  </a:lnTo>
                  <a:lnTo>
                    <a:pt x="434" y="366"/>
                  </a:lnTo>
                  <a:lnTo>
                    <a:pt x="428" y="366"/>
                  </a:lnTo>
                  <a:lnTo>
                    <a:pt x="423" y="367"/>
                  </a:lnTo>
                  <a:lnTo>
                    <a:pt x="417" y="369"/>
                  </a:lnTo>
                  <a:lnTo>
                    <a:pt x="413" y="369"/>
                  </a:lnTo>
                  <a:lnTo>
                    <a:pt x="407" y="370"/>
                  </a:lnTo>
                  <a:lnTo>
                    <a:pt x="402" y="372"/>
                  </a:lnTo>
                  <a:lnTo>
                    <a:pt x="397" y="370"/>
                  </a:lnTo>
                  <a:lnTo>
                    <a:pt x="392" y="370"/>
                  </a:lnTo>
                  <a:lnTo>
                    <a:pt x="387" y="369"/>
                  </a:lnTo>
                  <a:lnTo>
                    <a:pt x="384" y="369"/>
                  </a:lnTo>
                  <a:lnTo>
                    <a:pt x="377" y="369"/>
                  </a:lnTo>
                  <a:lnTo>
                    <a:pt x="371" y="367"/>
                  </a:lnTo>
                  <a:lnTo>
                    <a:pt x="366" y="366"/>
                  </a:lnTo>
                  <a:lnTo>
                    <a:pt x="364" y="365"/>
                  </a:lnTo>
                  <a:lnTo>
                    <a:pt x="362" y="365"/>
                  </a:lnTo>
                  <a:lnTo>
                    <a:pt x="362" y="363"/>
                  </a:lnTo>
                  <a:lnTo>
                    <a:pt x="363" y="361"/>
                  </a:lnTo>
                  <a:lnTo>
                    <a:pt x="364" y="355"/>
                  </a:lnTo>
                  <a:lnTo>
                    <a:pt x="366" y="350"/>
                  </a:lnTo>
                  <a:lnTo>
                    <a:pt x="367" y="346"/>
                  </a:lnTo>
                  <a:lnTo>
                    <a:pt x="369" y="341"/>
                  </a:lnTo>
                  <a:lnTo>
                    <a:pt x="371" y="337"/>
                  </a:lnTo>
                  <a:lnTo>
                    <a:pt x="373" y="332"/>
                  </a:lnTo>
                  <a:lnTo>
                    <a:pt x="374" y="326"/>
                  </a:lnTo>
                  <a:lnTo>
                    <a:pt x="377" y="322"/>
                  </a:lnTo>
                  <a:lnTo>
                    <a:pt x="379" y="317"/>
                  </a:lnTo>
                  <a:lnTo>
                    <a:pt x="381" y="311"/>
                  </a:lnTo>
                  <a:lnTo>
                    <a:pt x="383" y="305"/>
                  </a:lnTo>
                  <a:lnTo>
                    <a:pt x="385" y="298"/>
                  </a:lnTo>
                  <a:lnTo>
                    <a:pt x="386" y="291"/>
                  </a:lnTo>
                  <a:lnTo>
                    <a:pt x="388" y="284"/>
                  </a:lnTo>
                  <a:lnTo>
                    <a:pt x="390" y="277"/>
                  </a:lnTo>
                  <a:lnTo>
                    <a:pt x="392" y="272"/>
                  </a:lnTo>
                  <a:lnTo>
                    <a:pt x="394" y="265"/>
                  </a:lnTo>
                  <a:lnTo>
                    <a:pt x="397" y="260"/>
                  </a:lnTo>
                  <a:lnTo>
                    <a:pt x="398" y="254"/>
                  </a:lnTo>
                  <a:lnTo>
                    <a:pt x="399" y="249"/>
                  </a:lnTo>
                  <a:lnTo>
                    <a:pt x="400" y="243"/>
                  </a:lnTo>
                  <a:lnTo>
                    <a:pt x="402" y="240"/>
                  </a:lnTo>
                  <a:lnTo>
                    <a:pt x="404" y="235"/>
                  </a:lnTo>
                  <a:lnTo>
                    <a:pt x="405" y="234"/>
                  </a:lnTo>
                  <a:lnTo>
                    <a:pt x="305" y="206"/>
                  </a:lnTo>
                  <a:lnTo>
                    <a:pt x="303" y="208"/>
                  </a:lnTo>
                  <a:lnTo>
                    <a:pt x="301" y="213"/>
                  </a:lnTo>
                  <a:lnTo>
                    <a:pt x="299" y="216"/>
                  </a:lnTo>
                  <a:lnTo>
                    <a:pt x="296" y="220"/>
                  </a:lnTo>
                  <a:lnTo>
                    <a:pt x="294" y="224"/>
                  </a:lnTo>
                  <a:lnTo>
                    <a:pt x="292" y="229"/>
                  </a:lnTo>
                  <a:lnTo>
                    <a:pt x="288" y="235"/>
                  </a:lnTo>
                  <a:lnTo>
                    <a:pt x="284" y="242"/>
                  </a:lnTo>
                  <a:lnTo>
                    <a:pt x="280" y="250"/>
                  </a:lnTo>
                  <a:lnTo>
                    <a:pt x="277" y="258"/>
                  </a:lnTo>
                  <a:lnTo>
                    <a:pt x="272" y="266"/>
                  </a:lnTo>
                  <a:lnTo>
                    <a:pt x="267" y="275"/>
                  </a:lnTo>
                  <a:lnTo>
                    <a:pt x="263" y="284"/>
                  </a:lnTo>
                  <a:lnTo>
                    <a:pt x="259" y="295"/>
                  </a:lnTo>
                  <a:lnTo>
                    <a:pt x="255" y="305"/>
                  </a:lnTo>
                  <a:lnTo>
                    <a:pt x="249" y="314"/>
                  </a:lnTo>
                  <a:lnTo>
                    <a:pt x="244" y="325"/>
                  </a:lnTo>
                  <a:lnTo>
                    <a:pt x="238" y="336"/>
                  </a:lnTo>
                  <a:lnTo>
                    <a:pt x="232" y="347"/>
                  </a:lnTo>
                  <a:lnTo>
                    <a:pt x="227" y="358"/>
                  </a:lnTo>
                  <a:lnTo>
                    <a:pt x="221" y="369"/>
                  </a:lnTo>
                  <a:lnTo>
                    <a:pt x="216" y="381"/>
                  </a:lnTo>
                  <a:lnTo>
                    <a:pt x="210" y="392"/>
                  </a:lnTo>
                  <a:lnTo>
                    <a:pt x="203" y="404"/>
                  </a:lnTo>
                  <a:lnTo>
                    <a:pt x="197" y="414"/>
                  </a:lnTo>
                  <a:lnTo>
                    <a:pt x="192" y="426"/>
                  </a:lnTo>
                  <a:lnTo>
                    <a:pt x="186" y="438"/>
                  </a:lnTo>
                  <a:lnTo>
                    <a:pt x="180" y="449"/>
                  </a:lnTo>
                  <a:lnTo>
                    <a:pt x="174" y="462"/>
                  </a:lnTo>
                  <a:lnTo>
                    <a:pt x="168" y="474"/>
                  </a:lnTo>
                  <a:lnTo>
                    <a:pt x="161" y="483"/>
                  </a:lnTo>
                  <a:lnTo>
                    <a:pt x="156" y="496"/>
                  </a:lnTo>
                  <a:lnTo>
                    <a:pt x="150" y="505"/>
                  </a:lnTo>
                  <a:lnTo>
                    <a:pt x="145" y="516"/>
                  </a:lnTo>
                  <a:lnTo>
                    <a:pt x="138" y="526"/>
                  </a:lnTo>
                  <a:lnTo>
                    <a:pt x="133" y="535"/>
                  </a:lnTo>
                  <a:lnTo>
                    <a:pt x="128" y="544"/>
                  </a:lnTo>
                  <a:lnTo>
                    <a:pt x="124" y="553"/>
                  </a:lnTo>
                  <a:lnTo>
                    <a:pt x="119" y="559"/>
                  </a:lnTo>
                  <a:lnTo>
                    <a:pt x="116" y="565"/>
                  </a:lnTo>
                  <a:lnTo>
                    <a:pt x="111" y="571"/>
                  </a:lnTo>
                  <a:lnTo>
                    <a:pt x="109" y="576"/>
                  </a:lnTo>
                  <a:lnTo>
                    <a:pt x="104" y="583"/>
                  </a:lnTo>
                  <a:lnTo>
                    <a:pt x="104" y="586"/>
                  </a:lnTo>
                  <a:lnTo>
                    <a:pt x="103" y="586"/>
                  </a:lnTo>
                  <a:lnTo>
                    <a:pt x="101" y="587"/>
                  </a:lnTo>
                  <a:lnTo>
                    <a:pt x="97" y="587"/>
                  </a:lnTo>
                  <a:lnTo>
                    <a:pt x="93" y="589"/>
                  </a:lnTo>
                  <a:lnTo>
                    <a:pt x="86" y="589"/>
                  </a:lnTo>
                  <a:lnTo>
                    <a:pt x="80" y="589"/>
                  </a:lnTo>
                  <a:lnTo>
                    <a:pt x="75" y="587"/>
                  </a:lnTo>
                  <a:lnTo>
                    <a:pt x="71" y="587"/>
                  </a:lnTo>
                  <a:lnTo>
                    <a:pt x="67" y="587"/>
                  </a:lnTo>
                  <a:lnTo>
                    <a:pt x="62" y="586"/>
                  </a:lnTo>
                  <a:lnTo>
                    <a:pt x="57" y="585"/>
                  </a:lnTo>
                  <a:lnTo>
                    <a:pt x="52" y="583"/>
                  </a:lnTo>
                  <a:lnTo>
                    <a:pt x="46" y="580"/>
                  </a:lnTo>
                  <a:lnTo>
                    <a:pt x="41" y="579"/>
                  </a:lnTo>
                  <a:lnTo>
                    <a:pt x="36" y="578"/>
                  </a:lnTo>
                  <a:lnTo>
                    <a:pt x="31" y="575"/>
                  </a:lnTo>
                  <a:lnTo>
                    <a:pt x="25" y="574"/>
                  </a:lnTo>
                  <a:lnTo>
                    <a:pt x="21" y="572"/>
                  </a:lnTo>
                  <a:lnTo>
                    <a:pt x="16" y="569"/>
                  </a:lnTo>
                  <a:lnTo>
                    <a:pt x="12" y="568"/>
                  </a:lnTo>
                  <a:lnTo>
                    <a:pt x="8" y="567"/>
                  </a:lnTo>
                  <a:lnTo>
                    <a:pt x="5" y="565"/>
                  </a:lnTo>
                  <a:lnTo>
                    <a:pt x="2" y="564"/>
                  </a:lnTo>
                  <a:lnTo>
                    <a:pt x="0" y="564"/>
                  </a:lnTo>
                  <a:lnTo>
                    <a:pt x="23" y="514"/>
                  </a:lnTo>
                  <a:lnTo>
                    <a:pt x="24" y="511"/>
                  </a:lnTo>
                  <a:lnTo>
                    <a:pt x="28" y="504"/>
                  </a:lnTo>
                  <a:lnTo>
                    <a:pt x="30" y="498"/>
                  </a:lnTo>
                  <a:lnTo>
                    <a:pt x="33" y="493"/>
                  </a:lnTo>
                  <a:lnTo>
                    <a:pt x="37" y="486"/>
                  </a:lnTo>
                  <a:lnTo>
                    <a:pt x="41" y="478"/>
                  </a:lnTo>
                  <a:lnTo>
                    <a:pt x="45" y="468"/>
                  </a:lnTo>
                  <a:lnTo>
                    <a:pt x="50" y="460"/>
                  </a:lnTo>
                  <a:lnTo>
                    <a:pt x="54" y="451"/>
                  </a:lnTo>
                  <a:lnTo>
                    <a:pt x="59" y="441"/>
                  </a:lnTo>
                  <a:lnTo>
                    <a:pt x="64" y="429"/>
                  </a:lnTo>
                  <a:lnTo>
                    <a:pt x="69" y="419"/>
                  </a:lnTo>
                  <a:lnTo>
                    <a:pt x="73" y="407"/>
                  </a:lnTo>
                  <a:lnTo>
                    <a:pt x="80" y="396"/>
                  </a:lnTo>
                  <a:lnTo>
                    <a:pt x="83" y="384"/>
                  </a:lnTo>
                  <a:lnTo>
                    <a:pt x="89" y="372"/>
                  </a:lnTo>
                  <a:lnTo>
                    <a:pt x="94" y="359"/>
                  </a:lnTo>
                  <a:lnTo>
                    <a:pt x="100" y="347"/>
                  </a:lnTo>
                  <a:lnTo>
                    <a:pt x="104" y="335"/>
                  </a:lnTo>
                  <a:lnTo>
                    <a:pt x="109" y="322"/>
                  </a:lnTo>
                  <a:lnTo>
                    <a:pt x="114" y="310"/>
                  </a:lnTo>
                  <a:lnTo>
                    <a:pt x="119" y="299"/>
                  </a:lnTo>
                  <a:lnTo>
                    <a:pt x="123" y="285"/>
                  </a:lnTo>
                  <a:lnTo>
                    <a:pt x="128" y="275"/>
                  </a:lnTo>
                  <a:lnTo>
                    <a:pt x="131" y="262"/>
                  </a:lnTo>
                  <a:lnTo>
                    <a:pt x="135" y="250"/>
                  </a:lnTo>
                  <a:lnTo>
                    <a:pt x="138" y="239"/>
                  </a:lnTo>
                  <a:lnTo>
                    <a:pt x="142" y="228"/>
                  </a:lnTo>
                  <a:lnTo>
                    <a:pt x="145" y="217"/>
                  </a:lnTo>
                  <a:lnTo>
                    <a:pt x="147" y="206"/>
                  </a:lnTo>
                  <a:lnTo>
                    <a:pt x="149" y="195"/>
                  </a:lnTo>
                  <a:lnTo>
                    <a:pt x="150" y="186"/>
                  </a:lnTo>
                  <a:lnTo>
                    <a:pt x="151" y="175"/>
                  </a:lnTo>
                  <a:lnTo>
                    <a:pt x="153" y="167"/>
                  </a:lnTo>
                  <a:lnTo>
                    <a:pt x="153" y="157"/>
                  </a:lnTo>
                  <a:lnTo>
                    <a:pt x="154" y="148"/>
                  </a:lnTo>
                  <a:lnTo>
                    <a:pt x="156" y="141"/>
                  </a:lnTo>
                  <a:lnTo>
                    <a:pt x="156" y="133"/>
                  </a:lnTo>
                  <a:lnTo>
                    <a:pt x="156" y="124"/>
                  </a:lnTo>
                  <a:lnTo>
                    <a:pt x="157" y="116"/>
                  </a:lnTo>
                  <a:lnTo>
                    <a:pt x="158" y="109"/>
                  </a:lnTo>
                  <a:lnTo>
                    <a:pt x="159" y="104"/>
                  </a:lnTo>
                  <a:lnTo>
                    <a:pt x="160" y="96"/>
                  </a:lnTo>
                  <a:lnTo>
                    <a:pt x="161" y="89"/>
                  </a:lnTo>
                  <a:lnTo>
                    <a:pt x="161" y="83"/>
                  </a:lnTo>
                  <a:lnTo>
                    <a:pt x="164" y="78"/>
                  </a:lnTo>
                  <a:lnTo>
                    <a:pt x="166" y="71"/>
                  </a:lnTo>
                  <a:lnTo>
                    <a:pt x="168" y="64"/>
                  </a:lnTo>
                  <a:lnTo>
                    <a:pt x="170" y="59"/>
                  </a:lnTo>
                  <a:lnTo>
                    <a:pt x="174" y="52"/>
                  </a:lnTo>
                  <a:lnTo>
                    <a:pt x="177" y="45"/>
                  </a:lnTo>
                  <a:lnTo>
                    <a:pt x="180" y="38"/>
                  </a:lnTo>
                  <a:lnTo>
                    <a:pt x="184" y="32"/>
                  </a:lnTo>
                  <a:lnTo>
                    <a:pt x="187" y="26"/>
                  </a:lnTo>
                  <a:lnTo>
                    <a:pt x="189" y="21"/>
                  </a:lnTo>
                  <a:lnTo>
                    <a:pt x="193" y="15"/>
                  </a:lnTo>
                  <a:lnTo>
                    <a:pt x="195" y="11"/>
                  </a:lnTo>
                  <a:lnTo>
                    <a:pt x="197" y="7"/>
                  </a:lnTo>
                  <a:lnTo>
                    <a:pt x="202" y="1"/>
                  </a:lnTo>
                  <a:lnTo>
                    <a:pt x="203" y="0"/>
                  </a:lnTo>
                  <a:lnTo>
                    <a:pt x="218" y="32"/>
                  </a:lnTo>
                  <a:lnTo>
                    <a:pt x="218" y="3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075720" y="4838040"/>
              <a:ext cx="247680" cy="235080"/>
            </a:xfrm>
            <a:custGeom>
              <a:avLst/>
              <a:gdLst/>
              <a:ahLst/>
              <a:rect l="l" t="t" r="r" b="b"/>
              <a:pathLst>
                <a:path w="163" h="156">
                  <a:moveTo>
                    <a:pt x="0" y="116"/>
                  </a:moveTo>
                  <a:lnTo>
                    <a:pt x="42" y="74"/>
                  </a:lnTo>
                  <a:lnTo>
                    <a:pt x="42" y="73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2" y="62"/>
                  </a:lnTo>
                  <a:lnTo>
                    <a:pt x="42" y="56"/>
                  </a:lnTo>
                  <a:lnTo>
                    <a:pt x="44" y="49"/>
                  </a:lnTo>
                  <a:lnTo>
                    <a:pt x="47" y="44"/>
                  </a:lnTo>
                  <a:lnTo>
                    <a:pt x="49" y="38"/>
                  </a:lnTo>
                  <a:lnTo>
                    <a:pt x="53" y="33"/>
                  </a:lnTo>
                  <a:lnTo>
                    <a:pt x="56" y="29"/>
                  </a:lnTo>
                  <a:lnTo>
                    <a:pt x="60" y="26"/>
                  </a:lnTo>
                  <a:lnTo>
                    <a:pt x="63" y="25"/>
                  </a:lnTo>
                  <a:lnTo>
                    <a:pt x="71" y="22"/>
                  </a:lnTo>
                  <a:lnTo>
                    <a:pt x="78" y="21"/>
                  </a:lnTo>
                  <a:lnTo>
                    <a:pt x="85" y="15"/>
                  </a:lnTo>
                  <a:lnTo>
                    <a:pt x="91" y="10"/>
                  </a:lnTo>
                  <a:lnTo>
                    <a:pt x="96" y="6"/>
                  </a:lnTo>
                  <a:lnTo>
                    <a:pt x="97" y="4"/>
                  </a:lnTo>
                  <a:lnTo>
                    <a:pt x="105" y="8"/>
                  </a:lnTo>
                  <a:lnTo>
                    <a:pt x="100" y="18"/>
                  </a:lnTo>
                  <a:lnTo>
                    <a:pt x="144" y="0"/>
                  </a:lnTo>
                  <a:lnTo>
                    <a:pt x="151" y="8"/>
                  </a:lnTo>
                  <a:lnTo>
                    <a:pt x="163" y="8"/>
                  </a:lnTo>
                  <a:lnTo>
                    <a:pt x="163" y="34"/>
                  </a:lnTo>
                  <a:lnTo>
                    <a:pt x="126" y="67"/>
                  </a:lnTo>
                  <a:lnTo>
                    <a:pt x="86" y="88"/>
                  </a:lnTo>
                  <a:lnTo>
                    <a:pt x="84" y="85"/>
                  </a:lnTo>
                  <a:lnTo>
                    <a:pt x="79" y="84"/>
                  </a:lnTo>
                  <a:lnTo>
                    <a:pt x="72" y="82"/>
                  </a:lnTo>
                  <a:lnTo>
                    <a:pt x="65" y="84"/>
                  </a:lnTo>
                  <a:lnTo>
                    <a:pt x="63" y="85"/>
                  </a:lnTo>
                  <a:lnTo>
                    <a:pt x="61" y="88"/>
                  </a:lnTo>
                  <a:lnTo>
                    <a:pt x="57" y="90"/>
                  </a:lnTo>
                  <a:lnTo>
                    <a:pt x="53" y="96"/>
                  </a:lnTo>
                  <a:lnTo>
                    <a:pt x="49" y="101"/>
                  </a:lnTo>
                  <a:lnTo>
                    <a:pt x="44" y="107"/>
                  </a:lnTo>
                  <a:lnTo>
                    <a:pt x="40" y="114"/>
                  </a:lnTo>
                  <a:lnTo>
                    <a:pt x="36" y="120"/>
                  </a:lnTo>
                  <a:lnTo>
                    <a:pt x="30" y="127"/>
                  </a:lnTo>
                  <a:lnTo>
                    <a:pt x="26" y="133"/>
                  </a:lnTo>
                  <a:lnTo>
                    <a:pt x="21" y="138"/>
                  </a:lnTo>
                  <a:lnTo>
                    <a:pt x="19" y="144"/>
                  </a:lnTo>
                  <a:lnTo>
                    <a:pt x="15" y="149"/>
                  </a:lnTo>
                  <a:lnTo>
                    <a:pt x="14" y="152"/>
                  </a:lnTo>
                  <a:lnTo>
                    <a:pt x="13" y="155"/>
                  </a:lnTo>
                  <a:lnTo>
                    <a:pt x="13" y="156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95280" y="3748680"/>
              <a:ext cx="330840" cy="479520"/>
            </a:xfrm>
            <a:custGeom>
              <a:avLst/>
              <a:gdLst/>
              <a:ahLst/>
              <a:rect l="l" t="t" r="r" b="b"/>
              <a:pathLst>
                <a:path w="218" h="318">
                  <a:moveTo>
                    <a:pt x="57" y="0"/>
                  </a:moveTo>
                  <a:lnTo>
                    <a:pt x="56" y="0"/>
                  </a:lnTo>
                  <a:lnTo>
                    <a:pt x="56" y="5"/>
                  </a:lnTo>
                  <a:lnTo>
                    <a:pt x="55" y="12"/>
                  </a:lnTo>
                  <a:lnTo>
                    <a:pt x="55" y="20"/>
                  </a:lnTo>
                  <a:lnTo>
                    <a:pt x="54" y="24"/>
                  </a:lnTo>
                  <a:lnTo>
                    <a:pt x="52" y="30"/>
                  </a:lnTo>
                  <a:lnTo>
                    <a:pt x="52" y="35"/>
                  </a:lnTo>
                  <a:lnTo>
                    <a:pt x="52" y="41"/>
                  </a:lnTo>
                  <a:lnTo>
                    <a:pt x="50" y="45"/>
                  </a:lnTo>
                  <a:lnTo>
                    <a:pt x="50" y="50"/>
                  </a:lnTo>
                  <a:lnTo>
                    <a:pt x="49" y="56"/>
                  </a:lnTo>
                  <a:lnTo>
                    <a:pt x="48" y="61"/>
                  </a:lnTo>
                  <a:lnTo>
                    <a:pt x="45" y="64"/>
                  </a:lnTo>
                  <a:lnTo>
                    <a:pt x="43" y="70"/>
                  </a:lnTo>
                  <a:lnTo>
                    <a:pt x="40" y="75"/>
                  </a:lnTo>
                  <a:lnTo>
                    <a:pt x="36" y="82"/>
                  </a:lnTo>
                  <a:lnTo>
                    <a:pt x="32" y="87"/>
                  </a:lnTo>
                  <a:lnTo>
                    <a:pt x="28" y="94"/>
                  </a:lnTo>
                  <a:lnTo>
                    <a:pt x="25" y="100"/>
                  </a:lnTo>
                  <a:lnTo>
                    <a:pt x="21" y="106"/>
                  </a:lnTo>
                  <a:lnTo>
                    <a:pt x="16" y="112"/>
                  </a:lnTo>
                  <a:lnTo>
                    <a:pt x="12" y="116"/>
                  </a:lnTo>
                  <a:lnTo>
                    <a:pt x="8" y="121"/>
                  </a:lnTo>
                  <a:lnTo>
                    <a:pt x="6" y="127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6" y="136"/>
                  </a:lnTo>
                  <a:lnTo>
                    <a:pt x="8" y="136"/>
                  </a:lnTo>
                  <a:lnTo>
                    <a:pt x="13" y="139"/>
                  </a:lnTo>
                  <a:lnTo>
                    <a:pt x="18" y="141"/>
                  </a:lnTo>
                  <a:lnTo>
                    <a:pt x="23" y="143"/>
                  </a:lnTo>
                  <a:lnTo>
                    <a:pt x="27" y="145"/>
                  </a:lnTo>
                  <a:lnTo>
                    <a:pt x="32" y="147"/>
                  </a:lnTo>
                  <a:lnTo>
                    <a:pt x="37" y="150"/>
                  </a:lnTo>
                  <a:lnTo>
                    <a:pt x="42" y="154"/>
                  </a:lnTo>
                  <a:lnTo>
                    <a:pt x="47" y="157"/>
                  </a:lnTo>
                  <a:lnTo>
                    <a:pt x="51" y="160"/>
                  </a:lnTo>
                  <a:lnTo>
                    <a:pt x="55" y="164"/>
                  </a:lnTo>
                  <a:lnTo>
                    <a:pt x="59" y="168"/>
                  </a:lnTo>
                  <a:lnTo>
                    <a:pt x="65" y="175"/>
                  </a:lnTo>
                  <a:lnTo>
                    <a:pt x="72" y="183"/>
                  </a:lnTo>
                  <a:lnTo>
                    <a:pt x="78" y="191"/>
                  </a:lnTo>
                  <a:lnTo>
                    <a:pt x="84" y="201"/>
                  </a:lnTo>
                  <a:lnTo>
                    <a:pt x="87" y="206"/>
                  </a:lnTo>
                  <a:lnTo>
                    <a:pt x="91" y="213"/>
                  </a:lnTo>
                  <a:lnTo>
                    <a:pt x="93" y="216"/>
                  </a:lnTo>
                  <a:lnTo>
                    <a:pt x="94" y="218"/>
                  </a:lnTo>
                  <a:lnTo>
                    <a:pt x="87" y="231"/>
                  </a:lnTo>
                  <a:lnTo>
                    <a:pt x="93" y="318"/>
                  </a:lnTo>
                  <a:lnTo>
                    <a:pt x="218" y="123"/>
                  </a:lnTo>
                  <a:lnTo>
                    <a:pt x="148" y="3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89720" y="3717000"/>
              <a:ext cx="490680" cy="188280"/>
            </a:xfrm>
            <a:custGeom>
              <a:avLst/>
              <a:gdLst/>
              <a:ahLst/>
              <a:rect l="l" t="t" r="r" b="b"/>
              <a:pathLst>
                <a:path w="323" h="125">
                  <a:moveTo>
                    <a:pt x="0" y="45"/>
                  </a:move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11" y="43"/>
                  </a:lnTo>
                  <a:lnTo>
                    <a:pt x="15" y="41"/>
                  </a:lnTo>
                  <a:lnTo>
                    <a:pt x="22" y="40"/>
                  </a:lnTo>
                  <a:lnTo>
                    <a:pt x="29" y="40"/>
                  </a:lnTo>
                  <a:lnTo>
                    <a:pt x="37" y="39"/>
                  </a:lnTo>
                  <a:lnTo>
                    <a:pt x="44" y="37"/>
                  </a:lnTo>
                  <a:lnTo>
                    <a:pt x="54" y="36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79" y="33"/>
                  </a:lnTo>
                  <a:lnTo>
                    <a:pt x="87" y="32"/>
                  </a:lnTo>
                  <a:lnTo>
                    <a:pt x="94" y="32"/>
                  </a:lnTo>
                  <a:lnTo>
                    <a:pt x="102" y="32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20" y="29"/>
                  </a:lnTo>
                  <a:lnTo>
                    <a:pt x="126" y="29"/>
                  </a:lnTo>
                  <a:lnTo>
                    <a:pt x="130" y="28"/>
                  </a:lnTo>
                  <a:lnTo>
                    <a:pt x="135" y="28"/>
                  </a:lnTo>
                  <a:lnTo>
                    <a:pt x="140" y="26"/>
                  </a:lnTo>
                  <a:lnTo>
                    <a:pt x="146" y="26"/>
                  </a:lnTo>
                  <a:lnTo>
                    <a:pt x="153" y="24"/>
                  </a:lnTo>
                  <a:lnTo>
                    <a:pt x="160" y="21"/>
                  </a:lnTo>
                  <a:lnTo>
                    <a:pt x="167" y="18"/>
                  </a:lnTo>
                  <a:lnTo>
                    <a:pt x="174" y="17"/>
                  </a:lnTo>
                  <a:lnTo>
                    <a:pt x="178" y="14"/>
                  </a:lnTo>
                  <a:lnTo>
                    <a:pt x="183" y="11"/>
                  </a:lnTo>
                  <a:lnTo>
                    <a:pt x="186" y="9"/>
                  </a:lnTo>
                  <a:lnTo>
                    <a:pt x="190" y="6"/>
                  </a:lnTo>
                  <a:lnTo>
                    <a:pt x="193" y="2"/>
                  </a:lnTo>
                  <a:lnTo>
                    <a:pt x="196" y="0"/>
                  </a:lnTo>
                  <a:lnTo>
                    <a:pt x="198" y="2"/>
                  </a:lnTo>
                  <a:lnTo>
                    <a:pt x="201" y="3"/>
                  </a:lnTo>
                  <a:lnTo>
                    <a:pt x="207" y="5"/>
                  </a:lnTo>
                  <a:lnTo>
                    <a:pt x="211" y="6"/>
                  </a:lnTo>
                  <a:lnTo>
                    <a:pt x="217" y="7"/>
                  </a:lnTo>
                  <a:lnTo>
                    <a:pt x="224" y="7"/>
                  </a:lnTo>
                  <a:lnTo>
                    <a:pt x="229" y="9"/>
                  </a:lnTo>
                  <a:lnTo>
                    <a:pt x="235" y="7"/>
                  </a:lnTo>
                  <a:lnTo>
                    <a:pt x="240" y="7"/>
                  </a:lnTo>
                  <a:lnTo>
                    <a:pt x="246" y="7"/>
                  </a:lnTo>
                  <a:lnTo>
                    <a:pt x="251" y="9"/>
                  </a:lnTo>
                  <a:lnTo>
                    <a:pt x="256" y="9"/>
                  </a:lnTo>
                  <a:lnTo>
                    <a:pt x="261" y="10"/>
                  </a:lnTo>
                  <a:lnTo>
                    <a:pt x="267" y="11"/>
                  </a:lnTo>
                  <a:lnTo>
                    <a:pt x="274" y="14"/>
                  </a:lnTo>
                  <a:lnTo>
                    <a:pt x="279" y="15"/>
                  </a:lnTo>
                  <a:lnTo>
                    <a:pt x="286" y="21"/>
                  </a:lnTo>
                  <a:lnTo>
                    <a:pt x="291" y="24"/>
                  </a:lnTo>
                  <a:lnTo>
                    <a:pt x="296" y="26"/>
                  </a:lnTo>
                  <a:lnTo>
                    <a:pt x="299" y="29"/>
                  </a:lnTo>
                  <a:lnTo>
                    <a:pt x="304" y="33"/>
                  </a:lnTo>
                  <a:lnTo>
                    <a:pt x="310" y="39"/>
                  </a:lnTo>
                  <a:lnTo>
                    <a:pt x="317" y="44"/>
                  </a:lnTo>
                  <a:lnTo>
                    <a:pt x="320" y="48"/>
                  </a:lnTo>
                  <a:lnTo>
                    <a:pt x="323" y="50"/>
                  </a:lnTo>
                  <a:lnTo>
                    <a:pt x="221" y="36"/>
                  </a:lnTo>
                  <a:lnTo>
                    <a:pt x="192" y="40"/>
                  </a:lnTo>
                  <a:lnTo>
                    <a:pt x="190" y="54"/>
                  </a:lnTo>
                  <a:lnTo>
                    <a:pt x="193" y="58"/>
                  </a:lnTo>
                  <a:lnTo>
                    <a:pt x="197" y="62"/>
                  </a:lnTo>
                  <a:lnTo>
                    <a:pt x="198" y="63"/>
                  </a:lnTo>
                  <a:lnTo>
                    <a:pt x="198" y="67"/>
                  </a:lnTo>
                  <a:lnTo>
                    <a:pt x="199" y="70"/>
                  </a:lnTo>
                  <a:lnTo>
                    <a:pt x="200" y="77"/>
                  </a:lnTo>
                  <a:lnTo>
                    <a:pt x="200" y="81"/>
                  </a:lnTo>
                  <a:lnTo>
                    <a:pt x="201" y="86"/>
                  </a:lnTo>
                  <a:lnTo>
                    <a:pt x="200" y="91"/>
                  </a:lnTo>
                  <a:lnTo>
                    <a:pt x="200" y="96"/>
                  </a:lnTo>
                  <a:lnTo>
                    <a:pt x="198" y="103"/>
                  </a:lnTo>
                  <a:lnTo>
                    <a:pt x="196" y="108"/>
                  </a:lnTo>
                  <a:lnTo>
                    <a:pt x="193" y="106"/>
                  </a:lnTo>
                  <a:lnTo>
                    <a:pt x="192" y="101"/>
                  </a:lnTo>
                  <a:lnTo>
                    <a:pt x="189" y="95"/>
                  </a:lnTo>
                  <a:lnTo>
                    <a:pt x="184" y="89"/>
                  </a:lnTo>
                  <a:lnTo>
                    <a:pt x="180" y="85"/>
                  </a:lnTo>
                  <a:lnTo>
                    <a:pt x="177" y="84"/>
                  </a:lnTo>
                  <a:lnTo>
                    <a:pt x="174" y="82"/>
                  </a:lnTo>
                  <a:lnTo>
                    <a:pt x="169" y="81"/>
                  </a:lnTo>
                  <a:lnTo>
                    <a:pt x="162" y="80"/>
                  </a:lnTo>
                  <a:lnTo>
                    <a:pt x="156" y="78"/>
                  </a:lnTo>
                  <a:lnTo>
                    <a:pt x="153" y="73"/>
                  </a:lnTo>
                  <a:lnTo>
                    <a:pt x="151" y="67"/>
                  </a:lnTo>
                  <a:lnTo>
                    <a:pt x="151" y="63"/>
                  </a:lnTo>
                  <a:lnTo>
                    <a:pt x="151" y="62"/>
                  </a:lnTo>
                  <a:lnTo>
                    <a:pt x="150" y="62"/>
                  </a:lnTo>
                  <a:lnTo>
                    <a:pt x="148" y="63"/>
                  </a:lnTo>
                  <a:lnTo>
                    <a:pt x="143" y="63"/>
                  </a:lnTo>
                  <a:lnTo>
                    <a:pt x="139" y="67"/>
                  </a:lnTo>
                  <a:lnTo>
                    <a:pt x="135" y="67"/>
                  </a:lnTo>
                  <a:lnTo>
                    <a:pt x="132" y="70"/>
                  </a:lnTo>
                  <a:lnTo>
                    <a:pt x="128" y="73"/>
                  </a:lnTo>
                  <a:lnTo>
                    <a:pt x="125" y="76"/>
                  </a:lnTo>
                  <a:lnTo>
                    <a:pt x="120" y="78"/>
                  </a:lnTo>
                  <a:lnTo>
                    <a:pt x="115" y="81"/>
                  </a:lnTo>
                  <a:lnTo>
                    <a:pt x="111" y="85"/>
                  </a:lnTo>
                  <a:lnTo>
                    <a:pt x="107" y="89"/>
                  </a:lnTo>
                  <a:lnTo>
                    <a:pt x="101" y="92"/>
                  </a:lnTo>
                  <a:lnTo>
                    <a:pt x="94" y="96"/>
                  </a:lnTo>
                  <a:lnTo>
                    <a:pt x="89" y="99"/>
                  </a:lnTo>
                  <a:lnTo>
                    <a:pt x="82" y="103"/>
                  </a:lnTo>
                  <a:lnTo>
                    <a:pt x="73" y="106"/>
                  </a:lnTo>
                  <a:lnTo>
                    <a:pt x="66" y="108"/>
                  </a:lnTo>
                  <a:lnTo>
                    <a:pt x="58" y="111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7" y="118"/>
                  </a:lnTo>
                  <a:lnTo>
                    <a:pt x="30" y="121"/>
                  </a:lnTo>
                  <a:lnTo>
                    <a:pt x="26" y="122"/>
                  </a:lnTo>
                  <a:lnTo>
                    <a:pt x="21" y="122"/>
                  </a:lnTo>
                  <a:lnTo>
                    <a:pt x="19" y="123"/>
                  </a:lnTo>
                  <a:lnTo>
                    <a:pt x="16" y="125"/>
                  </a:lnTo>
                  <a:lnTo>
                    <a:pt x="16" y="12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962840" y="4145760"/>
              <a:ext cx="308160" cy="357480"/>
            </a:xfrm>
            <a:custGeom>
              <a:avLst/>
              <a:gdLst/>
              <a:ahLst/>
              <a:rect l="l" t="t" r="r" b="b"/>
              <a:pathLst>
                <a:path w="203" h="237">
                  <a:moveTo>
                    <a:pt x="101" y="0"/>
                  </a:moveTo>
                  <a:lnTo>
                    <a:pt x="103" y="3"/>
                  </a:lnTo>
                  <a:lnTo>
                    <a:pt x="105" y="6"/>
                  </a:lnTo>
                  <a:lnTo>
                    <a:pt x="110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2" y="32"/>
                  </a:lnTo>
                  <a:lnTo>
                    <a:pt x="129" y="41"/>
                  </a:lnTo>
                  <a:lnTo>
                    <a:pt x="135" y="50"/>
                  </a:lnTo>
                  <a:lnTo>
                    <a:pt x="142" y="59"/>
                  </a:lnTo>
                  <a:lnTo>
                    <a:pt x="148" y="70"/>
                  </a:lnTo>
                  <a:lnTo>
                    <a:pt x="154" y="81"/>
                  </a:lnTo>
                  <a:lnTo>
                    <a:pt x="161" y="92"/>
                  </a:lnTo>
                  <a:lnTo>
                    <a:pt x="167" y="101"/>
                  </a:lnTo>
                  <a:lnTo>
                    <a:pt x="171" y="114"/>
                  </a:lnTo>
                  <a:lnTo>
                    <a:pt x="177" y="125"/>
                  </a:lnTo>
                  <a:lnTo>
                    <a:pt x="182" y="136"/>
                  </a:lnTo>
                  <a:lnTo>
                    <a:pt x="185" y="147"/>
                  </a:lnTo>
                  <a:lnTo>
                    <a:pt x="188" y="156"/>
                  </a:lnTo>
                  <a:lnTo>
                    <a:pt x="191" y="167"/>
                  </a:lnTo>
                  <a:lnTo>
                    <a:pt x="193" y="177"/>
                  </a:lnTo>
                  <a:lnTo>
                    <a:pt x="196" y="186"/>
                  </a:lnTo>
                  <a:lnTo>
                    <a:pt x="197" y="194"/>
                  </a:lnTo>
                  <a:lnTo>
                    <a:pt x="198" y="204"/>
                  </a:lnTo>
                  <a:lnTo>
                    <a:pt x="199" y="209"/>
                  </a:lnTo>
                  <a:lnTo>
                    <a:pt x="200" y="216"/>
                  </a:lnTo>
                  <a:lnTo>
                    <a:pt x="200" y="222"/>
                  </a:lnTo>
                  <a:lnTo>
                    <a:pt x="202" y="227"/>
                  </a:lnTo>
                  <a:lnTo>
                    <a:pt x="202" y="234"/>
                  </a:lnTo>
                  <a:lnTo>
                    <a:pt x="203" y="237"/>
                  </a:lnTo>
                  <a:lnTo>
                    <a:pt x="113" y="237"/>
                  </a:lnTo>
                  <a:lnTo>
                    <a:pt x="0" y="17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84880" y="4944960"/>
              <a:ext cx="551520" cy="297000"/>
            </a:xfrm>
            <a:custGeom>
              <a:avLst/>
              <a:gdLst/>
              <a:ahLst/>
              <a:rect l="l" t="t" r="r" b="b"/>
              <a:pathLst>
                <a:path w="363" h="197">
                  <a:moveTo>
                    <a:pt x="363" y="179"/>
                  </a:moveTo>
                  <a:lnTo>
                    <a:pt x="362" y="178"/>
                  </a:lnTo>
                  <a:lnTo>
                    <a:pt x="359" y="178"/>
                  </a:lnTo>
                  <a:lnTo>
                    <a:pt x="352" y="178"/>
                  </a:lnTo>
                  <a:lnTo>
                    <a:pt x="345" y="178"/>
                  </a:lnTo>
                  <a:lnTo>
                    <a:pt x="340" y="176"/>
                  </a:lnTo>
                  <a:lnTo>
                    <a:pt x="335" y="176"/>
                  </a:lnTo>
                  <a:lnTo>
                    <a:pt x="328" y="176"/>
                  </a:lnTo>
                  <a:lnTo>
                    <a:pt x="324" y="176"/>
                  </a:lnTo>
                  <a:lnTo>
                    <a:pt x="318" y="176"/>
                  </a:lnTo>
                  <a:lnTo>
                    <a:pt x="312" y="176"/>
                  </a:lnTo>
                  <a:lnTo>
                    <a:pt x="305" y="178"/>
                  </a:lnTo>
                  <a:lnTo>
                    <a:pt x="299" y="179"/>
                  </a:lnTo>
                  <a:lnTo>
                    <a:pt x="291" y="179"/>
                  </a:lnTo>
                  <a:lnTo>
                    <a:pt x="284" y="180"/>
                  </a:lnTo>
                  <a:lnTo>
                    <a:pt x="277" y="182"/>
                  </a:lnTo>
                  <a:lnTo>
                    <a:pt x="270" y="183"/>
                  </a:lnTo>
                  <a:lnTo>
                    <a:pt x="263" y="185"/>
                  </a:lnTo>
                  <a:lnTo>
                    <a:pt x="256" y="186"/>
                  </a:lnTo>
                  <a:lnTo>
                    <a:pt x="249" y="187"/>
                  </a:lnTo>
                  <a:lnTo>
                    <a:pt x="244" y="190"/>
                  </a:lnTo>
                  <a:lnTo>
                    <a:pt x="237" y="190"/>
                  </a:lnTo>
                  <a:lnTo>
                    <a:pt x="233" y="191"/>
                  </a:lnTo>
                  <a:lnTo>
                    <a:pt x="228" y="193"/>
                  </a:lnTo>
                  <a:lnTo>
                    <a:pt x="225" y="194"/>
                  </a:lnTo>
                  <a:lnTo>
                    <a:pt x="219" y="195"/>
                  </a:lnTo>
                  <a:lnTo>
                    <a:pt x="218" y="197"/>
                  </a:lnTo>
                  <a:lnTo>
                    <a:pt x="215" y="195"/>
                  </a:lnTo>
                  <a:lnTo>
                    <a:pt x="211" y="193"/>
                  </a:lnTo>
                  <a:lnTo>
                    <a:pt x="206" y="191"/>
                  </a:lnTo>
                  <a:lnTo>
                    <a:pt x="203" y="190"/>
                  </a:lnTo>
                  <a:lnTo>
                    <a:pt x="198" y="187"/>
                  </a:lnTo>
                  <a:lnTo>
                    <a:pt x="193" y="186"/>
                  </a:lnTo>
                  <a:lnTo>
                    <a:pt x="186" y="183"/>
                  </a:lnTo>
                  <a:lnTo>
                    <a:pt x="179" y="182"/>
                  </a:lnTo>
                  <a:lnTo>
                    <a:pt x="172" y="179"/>
                  </a:lnTo>
                  <a:lnTo>
                    <a:pt x="164" y="178"/>
                  </a:lnTo>
                  <a:lnTo>
                    <a:pt x="156" y="175"/>
                  </a:lnTo>
                  <a:lnTo>
                    <a:pt x="147" y="175"/>
                  </a:lnTo>
                  <a:lnTo>
                    <a:pt x="137" y="172"/>
                  </a:lnTo>
                  <a:lnTo>
                    <a:pt x="128" y="172"/>
                  </a:lnTo>
                  <a:lnTo>
                    <a:pt x="118" y="171"/>
                  </a:lnTo>
                  <a:lnTo>
                    <a:pt x="107" y="171"/>
                  </a:lnTo>
                  <a:lnTo>
                    <a:pt x="95" y="171"/>
                  </a:lnTo>
                  <a:lnTo>
                    <a:pt x="85" y="171"/>
                  </a:lnTo>
                  <a:lnTo>
                    <a:pt x="73" y="171"/>
                  </a:lnTo>
                  <a:lnTo>
                    <a:pt x="63" y="171"/>
                  </a:lnTo>
                  <a:lnTo>
                    <a:pt x="52" y="172"/>
                  </a:lnTo>
                  <a:lnTo>
                    <a:pt x="44" y="174"/>
                  </a:lnTo>
                  <a:lnTo>
                    <a:pt x="34" y="174"/>
                  </a:lnTo>
                  <a:lnTo>
                    <a:pt x="26" y="175"/>
                  </a:lnTo>
                  <a:lnTo>
                    <a:pt x="19" y="175"/>
                  </a:lnTo>
                  <a:lnTo>
                    <a:pt x="13" y="176"/>
                  </a:lnTo>
                  <a:lnTo>
                    <a:pt x="7" y="178"/>
                  </a:lnTo>
                  <a:lnTo>
                    <a:pt x="4" y="178"/>
                  </a:lnTo>
                  <a:lnTo>
                    <a:pt x="0" y="179"/>
                  </a:lnTo>
                  <a:lnTo>
                    <a:pt x="70" y="0"/>
                  </a:lnTo>
                  <a:lnTo>
                    <a:pt x="363" y="148"/>
                  </a:lnTo>
                  <a:lnTo>
                    <a:pt x="363" y="179"/>
                  </a:lnTo>
                  <a:lnTo>
                    <a:pt x="363" y="179"/>
                  </a:lnTo>
                  <a:close/>
                </a:path>
              </a:pathLst>
            </a:cu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527160" y="5519880"/>
              <a:ext cx="690840" cy="274320"/>
            </a:xfrm>
            <a:custGeom>
              <a:avLst/>
              <a:gdLst/>
              <a:ahLst/>
              <a:rect l="l" t="t" r="r" b="b"/>
              <a:pathLst>
                <a:path w="455" h="182">
                  <a:moveTo>
                    <a:pt x="455" y="142"/>
                  </a:moveTo>
                  <a:lnTo>
                    <a:pt x="278" y="182"/>
                  </a:lnTo>
                  <a:lnTo>
                    <a:pt x="0" y="154"/>
                  </a:lnTo>
                  <a:lnTo>
                    <a:pt x="114" y="0"/>
                  </a:lnTo>
                  <a:lnTo>
                    <a:pt x="455" y="142"/>
                  </a:lnTo>
                  <a:lnTo>
                    <a:pt x="455" y="142"/>
                  </a:lnTo>
                  <a:close/>
                </a:path>
              </a:pathLst>
            </a:cu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077160" y="5951160"/>
              <a:ext cx="607680" cy="194400"/>
            </a:xfrm>
            <a:custGeom>
              <a:avLst/>
              <a:gdLst/>
              <a:ahLst/>
              <a:rect l="l" t="t" r="r" b="b"/>
              <a:pathLst>
                <a:path w="400" h="129">
                  <a:moveTo>
                    <a:pt x="400" y="122"/>
                  </a:moveTo>
                  <a:lnTo>
                    <a:pt x="259" y="129"/>
                  </a:lnTo>
                  <a:lnTo>
                    <a:pt x="0" y="129"/>
                  </a:lnTo>
                  <a:lnTo>
                    <a:pt x="31" y="0"/>
                  </a:lnTo>
                  <a:lnTo>
                    <a:pt x="354" y="83"/>
                  </a:lnTo>
                  <a:lnTo>
                    <a:pt x="400" y="122"/>
                  </a:lnTo>
                  <a:lnTo>
                    <a:pt x="400" y="122"/>
                  </a:lnTo>
                  <a:close/>
                </a:path>
              </a:pathLst>
            </a:custGeom>
            <a:solidFill>
              <a:srgbClr val="a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11160" y="4466880"/>
              <a:ext cx="312840" cy="364680"/>
            </a:xfrm>
            <a:custGeom>
              <a:avLst/>
              <a:gdLst/>
              <a:ahLst/>
              <a:rect l="l" t="t" r="r" b="b"/>
              <a:pathLst>
                <a:path w="206" h="242">
                  <a:moveTo>
                    <a:pt x="206" y="44"/>
                  </a:moveTo>
                  <a:lnTo>
                    <a:pt x="206" y="44"/>
                  </a:lnTo>
                  <a:lnTo>
                    <a:pt x="206" y="47"/>
                  </a:lnTo>
                  <a:lnTo>
                    <a:pt x="204" y="50"/>
                  </a:lnTo>
                  <a:lnTo>
                    <a:pt x="203" y="56"/>
                  </a:lnTo>
                  <a:lnTo>
                    <a:pt x="199" y="62"/>
                  </a:lnTo>
                  <a:lnTo>
                    <a:pt x="196" y="69"/>
                  </a:lnTo>
                  <a:lnTo>
                    <a:pt x="192" y="73"/>
                  </a:lnTo>
                  <a:lnTo>
                    <a:pt x="189" y="77"/>
                  </a:lnTo>
                  <a:lnTo>
                    <a:pt x="185" y="80"/>
                  </a:lnTo>
                  <a:lnTo>
                    <a:pt x="182" y="85"/>
                  </a:lnTo>
                  <a:lnTo>
                    <a:pt x="176" y="89"/>
                  </a:lnTo>
                  <a:lnTo>
                    <a:pt x="170" y="93"/>
                  </a:lnTo>
                  <a:lnTo>
                    <a:pt x="164" y="97"/>
                  </a:lnTo>
                  <a:lnTo>
                    <a:pt x="158" y="101"/>
                  </a:lnTo>
                  <a:lnTo>
                    <a:pt x="151" y="104"/>
                  </a:lnTo>
                  <a:lnTo>
                    <a:pt x="144" y="108"/>
                  </a:lnTo>
                  <a:lnTo>
                    <a:pt x="138" y="112"/>
                  </a:lnTo>
                  <a:lnTo>
                    <a:pt x="133" y="117"/>
                  </a:lnTo>
                  <a:lnTo>
                    <a:pt x="126" y="119"/>
                  </a:lnTo>
                  <a:lnTo>
                    <a:pt x="121" y="122"/>
                  </a:lnTo>
                  <a:lnTo>
                    <a:pt x="116" y="125"/>
                  </a:lnTo>
                  <a:lnTo>
                    <a:pt x="113" y="127"/>
                  </a:lnTo>
                  <a:lnTo>
                    <a:pt x="107" y="130"/>
                  </a:lnTo>
                  <a:lnTo>
                    <a:pt x="105" y="132"/>
                  </a:lnTo>
                  <a:lnTo>
                    <a:pt x="105" y="134"/>
                  </a:lnTo>
                  <a:lnTo>
                    <a:pt x="107" y="141"/>
                  </a:lnTo>
                  <a:lnTo>
                    <a:pt x="108" y="149"/>
                  </a:lnTo>
                  <a:lnTo>
                    <a:pt x="108" y="156"/>
                  </a:lnTo>
                  <a:lnTo>
                    <a:pt x="106" y="162"/>
                  </a:lnTo>
                  <a:lnTo>
                    <a:pt x="102" y="166"/>
                  </a:lnTo>
                  <a:lnTo>
                    <a:pt x="101" y="168"/>
                  </a:lnTo>
                  <a:lnTo>
                    <a:pt x="100" y="172"/>
                  </a:lnTo>
                  <a:lnTo>
                    <a:pt x="98" y="175"/>
                  </a:lnTo>
                  <a:lnTo>
                    <a:pt x="98" y="182"/>
                  </a:lnTo>
                  <a:lnTo>
                    <a:pt x="95" y="186"/>
                  </a:lnTo>
                  <a:lnTo>
                    <a:pt x="94" y="192"/>
                  </a:lnTo>
                  <a:lnTo>
                    <a:pt x="94" y="197"/>
                  </a:lnTo>
                  <a:lnTo>
                    <a:pt x="94" y="204"/>
                  </a:lnTo>
                  <a:lnTo>
                    <a:pt x="94" y="209"/>
                  </a:lnTo>
                  <a:lnTo>
                    <a:pt x="94" y="213"/>
                  </a:lnTo>
                  <a:lnTo>
                    <a:pt x="94" y="218"/>
                  </a:lnTo>
                  <a:lnTo>
                    <a:pt x="94" y="219"/>
                  </a:lnTo>
                  <a:lnTo>
                    <a:pt x="81" y="219"/>
                  </a:lnTo>
                  <a:lnTo>
                    <a:pt x="79" y="174"/>
                  </a:lnTo>
                  <a:lnTo>
                    <a:pt x="77" y="174"/>
                  </a:lnTo>
                  <a:lnTo>
                    <a:pt x="76" y="178"/>
                  </a:lnTo>
                  <a:lnTo>
                    <a:pt x="72" y="182"/>
                  </a:lnTo>
                  <a:lnTo>
                    <a:pt x="69" y="186"/>
                  </a:lnTo>
                  <a:lnTo>
                    <a:pt x="63" y="192"/>
                  </a:lnTo>
                  <a:lnTo>
                    <a:pt x="57" y="198"/>
                  </a:lnTo>
                  <a:lnTo>
                    <a:pt x="51" y="207"/>
                  </a:lnTo>
                  <a:lnTo>
                    <a:pt x="47" y="213"/>
                  </a:lnTo>
                  <a:lnTo>
                    <a:pt x="41" y="219"/>
                  </a:lnTo>
                  <a:lnTo>
                    <a:pt x="35" y="224"/>
                  </a:lnTo>
                  <a:lnTo>
                    <a:pt x="30" y="228"/>
                  </a:lnTo>
                  <a:lnTo>
                    <a:pt x="27" y="234"/>
                  </a:lnTo>
                  <a:lnTo>
                    <a:pt x="20" y="239"/>
                  </a:lnTo>
                  <a:lnTo>
                    <a:pt x="19" y="242"/>
                  </a:lnTo>
                  <a:lnTo>
                    <a:pt x="0" y="219"/>
                  </a:lnTo>
                  <a:lnTo>
                    <a:pt x="13" y="178"/>
                  </a:lnTo>
                  <a:lnTo>
                    <a:pt x="12" y="164"/>
                  </a:lnTo>
                  <a:lnTo>
                    <a:pt x="12" y="162"/>
                  </a:lnTo>
                  <a:lnTo>
                    <a:pt x="13" y="157"/>
                  </a:lnTo>
                  <a:lnTo>
                    <a:pt x="14" y="153"/>
                  </a:lnTo>
                  <a:lnTo>
                    <a:pt x="17" y="149"/>
                  </a:lnTo>
                  <a:lnTo>
                    <a:pt x="22" y="144"/>
                  </a:lnTo>
                  <a:lnTo>
                    <a:pt x="28" y="140"/>
                  </a:lnTo>
                  <a:lnTo>
                    <a:pt x="30" y="137"/>
                  </a:lnTo>
                  <a:lnTo>
                    <a:pt x="34" y="134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6" y="122"/>
                  </a:lnTo>
                  <a:lnTo>
                    <a:pt x="60" y="119"/>
                  </a:lnTo>
                  <a:lnTo>
                    <a:pt x="67" y="115"/>
                  </a:lnTo>
                  <a:lnTo>
                    <a:pt x="74" y="112"/>
                  </a:lnTo>
                  <a:lnTo>
                    <a:pt x="78" y="111"/>
                  </a:lnTo>
                  <a:lnTo>
                    <a:pt x="80" y="111"/>
                  </a:lnTo>
                  <a:lnTo>
                    <a:pt x="80" y="110"/>
                  </a:lnTo>
                  <a:lnTo>
                    <a:pt x="83" y="107"/>
                  </a:lnTo>
                  <a:lnTo>
                    <a:pt x="85" y="103"/>
                  </a:lnTo>
                  <a:lnTo>
                    <a:pt x="90" y="97"/>
                  </a:lnTo>
                  <a:lnTo>
                    <a:pt x="94" y="91"/>
                  </a:lnTo>
                  <a:lnTo>
                    <a:pt x="100" y="84"/>
                  </a:lnTo>
                  <a:lnTo>
                    <a:pt x="107" y="74"/>
                  </a:lnTo>
                  <a:lnTo>
                    <a:pt x="114" y="66"/>
                  </a:lnTo>
                  <a:lnTo>
                    <a:pt x="118" y="61"/>
                  </a:lnTo>
                  <a:lnTo>
                    <a:pt x="120" y="54"/>
                  </a:lnTo>
                  <a:lnTo>
                    <a:pt x="123" y="48"/>
                  </a:lnTo>
                  <a:lnTo>
                    <a:pt x="127" y="43"/>
                  </a:lnTo>
                  <a:lnTo>
                    <a:pt x="130" y="37"/>
                  </a:lnTo>
                  <a:lnTo>
                    <a:pt x="133" y="32"/>
                  </a:lnTo>
                  <a:lnTo>
                    <a:pt x="136" y="26"/>
                  </a:lnTo>
                  <a:lnTo>
                    <a:pt x="138" y="22"/>
                  </a:lnTo>
                  <a:lnTo>
                    <a:pt x="143" y="13"/>
                  </a:lnTo>
                  <a:lnTo>
                    <a:pt x="147" y="6"/>
                  </a:lnTo>
                  <a:lnTo>
                    <a:pt x="149" y="2"/>
                  </a:lnTo>
                  <a:lnTo>
                    <a:pt x="151" y="0"/>
                  </a:lnTo>
                  <a:lnTo>
                    <a:pt x="206" y="44"/>
                  </a:lnTo>
                  <a:lnTo>
                    <a:pt x="206" y="44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39560" y="4138200"/>
              <a:ext cx="701640" cy="968400"/>
            </a:xfrm>
            <a:custGeom>
              <a:avLst/>
              <a:gdLst/>
              <a:ahLst/>
              <a:rect l="l" t="t" r="r" b="b"/>
              <a:pathLst>
                <a:path w="462" h="642">
                  <a:moveTo>
                    <a:pt x="309" y="18"/>
                  </a:moveTo>
                  <a:lnTo>
                    <a:pt x="309" y="18"/>
                  </a:lnTo>
                  <a:lnTo>
                    <a:pt x="314" y="15"/>
                  </a:lnTo>
                  <a:lnTo>
                    <a:pt x="316" y="14"/>
                  </a:lnTo>
                  <a:lnTo>
                    <a:pt x="321" y="12"/>
                  </a:lnTo>
                  <a:lnTo>
                    <a:pt x="324" y="11"/>
                  </a:lnTo>
                  <a:lnTo>
                    <a:pt x="329" y="10"/>
                  </a:lnTo>
                  <a:lnTo>
                    <a:pt x="333" y="8"/>
                  </a:lnTo>
                  <a:lnTo>
                    <a:pt x="337" y="7"/>
                  </a:lnTo>
                  <a:lnTo>
                    <a:pt x="343" y="5"/>
                  </a:lnTo>
                  <a:lnTo>
                    <a:pt x="349" y="5"/>
                  </a:lnTo>
                  <a:lnTo>
                    <a:pt x="355" y="3"/>
                  </a:lnTo>
                  <a:lnTo>
                    <a:pt x="361" y="3"/>
                  </a:lnTo>
                  <a:lnTo>
                    <a:pt x="366" y="3"/>
                  </a:lnTo>
                  <a:lnTo>
                    <a:pt x="373" y="3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3" y="0"/>
                  </a:lnTo>
                  <a:lnTo>
                    <a:pt x="400" y="0"/>
                  </a:lnTo>
                  <a:lnTo>
                    <a:pt x="407" y="0"/>
                  </a:lnTo>
                  <a:lnTo>
                    <a:pt x="413" y="1"/>
                  </a:lnTo>
                  <a:lnTo>
                    <a:pt x="420" y="3"/>
                  </a:lnTo>
                  <a:lnTo>
                    <a:pt x="427" y="4"/>
                  </a:lnTo>
                  <a:lnTo>
                    <a:pt x="432" y="4"/>
                  </a:lnTo>
                  <a:lnTo>
                    <a:pt x="437" y="5"/>
                  </a:lnTo>
                  <a:lnTo>
                    <a:pt x="441" y="5"/>
                  </a:lnTo>
                  <a:lnTo>
                    <a:pt x="446" y="7"/>
                  </a:lnTo>
                  <a:lnTo>
                    <a:pt x="451" y="8"/>
                  </a:lnTo>
                  <a:lnTo>
                    <a:pt x="454" y="10"/>
                  </a:lnTo>
                  <a:lnTo>
                    <a:pt x="462" y="56"/>
                  </a:lnTo>
                  <a:lnTo>
                    <a:pt x="453" y="284"/>
                  </a:lnTo>
                  <a:lnTo>
                    <a:pt x="369" y="296"/>
                  </a:lnTo>
                  <a:lnTo>
                    <a:pt x="340" y="285"/>
                  </a:lnTo>
                  <a:lnTo>
                    <a:pt x="340" y="258"/>
                  </a:lnTo>
                  <a:lnTo>
                    <a:pt x="356" y="246"/>
                  </a:lnTo>
                  <a:lnTo>
                    <a:pt x="392" y="128"/>
                  </a:lnTo>
                  <a:lnTo>
                    <a:pt x="219" y="208"/>
                  </a:lnTo>
                  <a:lnTo>
                    <a:pt x="134" y="337"/>
                  </a:lnTo>
                  <a:lnTo>
                    <a:pt x="99" y="642"/>
                  </a:lnTo>
                  <a:lnTo>
                    <a:pt x="0" y="640"/>
                  </a:lnTo>
                  <a:lnTo>
                    <a:pt x="12" y="419"/>
                  </a:lnTo>
                  <a:lnTo>
                    <a:pt x="12" y="415"/>
                  </a:lnTo>
                  <a:lnTo>
                    <a:pt x="12" y="408"/>
                  </a:lnTo>
                  <a:lnTo>
                    <a:pt x="12" y="403"/>
                  </a:lnTo>
                  <a:lnTo>
                    <a:pt x="15" y="397"/>
                  </a:lnTo>
                  <a:lnTo>
                    <a:pt x="15" y="390"/>
                  </a:lnTo>
                  <a:lnTo>
                    <a:pt x="17" y="382"/>
                  </a:lnTo>
                  <a:lnTo>
                    <a:pt x="18" y="374"/>
                  </a:lnTo>
                  <a:lnTo>
                    <a:pt x="21" y="365"/>
                  </a:lnTo>
                  <a:lnTo>
                    <a:pt x="23" y="355"/>
                  </a:lnTo>
                  <a:lnTo>
                    <a:pt x="25" y="347"/>
                  </a:lnTo>
                  <a:lnTo>
                    <a:pt x="26" y="336"/>
                  </a:lnTo>
                  <a:lnTo>
                    <a:pt x="30" y="326"/>
                  </a:lnTo>
                  <a:lnTo>
                    <a:pt x="33" y="317"/>
                  </a:lnTo>
                  <a:lnTo>
                    <a:pt x="37" y="307"/>
                  </a:lnTo>
                  <a:lnTo>
                    <a:pt x="39" y="296"/>
                  </a:lnTo>
                  <a:lnTo>
                    <a:pt x="43" y="287"/>
                  </a:lnTo>
                  <a:lnTo>
                    <a:pt x="46" y="277"/>
                  </a:lnTo>
                  <a:lnTo>
                    <a:pt x="50" y="268"/>
                  </a:lnTo>
                  <a:lnTo>
                    <a:pt x="53" y="258"/>
                  </a:lnTo>
                  <a:lnTo>
                    <a:pt x="57" y="251"/>
                  </a:lnTo>
                  <a:lnTo>
                    <a:pt x="60" y="243"/>
                  </a:lnTo>
                  <a:lnTo>
                    <a:pt x="64" y="236"/>
                  </a:lnTo>
                  <a:lnTo>
                    <a:pt x="67" y="228"/>
                  </a:lnTo>
                  <a:lnTo>
                    <a:pt x="70" y="223"/>
                  </a:lnTo>
                  <a:lnTo>
                    <a:pt x="72" y="216"/>
                  </a:lnTo>
                  <a:lnTo>
                    <a:pt x="75" y="212"/>
                  </a:lnTo>
                  <a:lnTo>
                    <a:pt x="78" y="206"/>
                  </a:lnTo>
                  <a:lnTo>
                    <a:pt x="80" y="203"/>
                  </a:lnTo>
                  <a:lnTo>
                    <a:pt x="78" y="202"/>
                  </a:lnTo>
                  <a:lnTo>
                    <a:pt x="77" y="198"/>
                  </a:lnTo>
                  <a:lnTo>
                    <a:pt x="75" y="191"/>
                  </a:lnTo>
                  <a:lnTo>
                    <a:pt x="78" y="184"/>
                  </a:lnTo>
                  <a:lnTo>
                    <a:pt x="80" y="179"/>
                  </a:lnTo>
                  <a:lnTo>
                    <a:pt x="82" y="173"/>
                  </a:lnTo>
                  <a:lnTo>
                    <a:pt x="86" y="169"/>
                  </a:lnTo>
                  <a:lnTo>
                    <a:pt x="89" y="164"/>
                  </a:lnTo>
                  <a:lnTo>
                    <a:pt x="95" y="154"/>
                  </a:lnTo>
                  <a:lnTo>
                    <a:pt x="99" y="152"/>
                  </a:lnTo>
                  <a:lnTo>
                    <a:pt x="235" y="137"/>
                  </a:lnTo>
                  <a:lnTo>
                    <a:pt x="309" y="18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03200" y="4145760"/>
              <a:ext cx="653040" cy="995400"/>
            </a:xfrm>
            <a:custGeom>
              <a:avLst/>
              <a:gdLst/>
              <a:ahLst/>
              <a:rect l="l" t="t" r="r" b="b"/>
              <a:pathLst>
                <a:path w="430" h="660">
                  <a:moveTo>
                    <a:pt x="77" y="660"/>
                  </a:moveTo>
                  <a:lnTo>
                    <a:pt x="146" y="650"/>
                  </a:lnTo>
                  <a:lnTo>
                    <a:pt x="146" y="622"/>
                  </a:lnTo>
                  <a:lnTo>
                    <a:pt x="138" y="619"/>
                  </a:lnTo>
                  <a:lnTo>
                    <a:pt x="140" y="614"/>
                  </a:lnTo>
                  <a:lnTo>
                    <a:pt x="140" y="605"/>
                  </a:lnTo>
                  <a:lnTo>
                    <a:pt x="140" y="600"/>
                  </a:lnTo>
                  <a:lnTo>
                    <a:pt x="141" y="593"/>
                  </a:lnTo>
                  <a:lnTo>
                    <a:pt x="141" y="586"/>
                  </a:lnTo>
                  <a:lnTo>
                    <a:pt x="142" y="577"/>
                  </a:lnTo>
                  <a:lnTo>
                    <a:pt x="142" y="564"/>
                  </a:lnTo>
                  <a:lnTo>
                    <a:pt x="142" y="552"/>
                  </a:lnTo>
                  <a:lnTo>
                    <a:pt x="142" y="538"/>
                  </a:lnTo>
                  <a:lnTo>
                    <a:pt x="142" y="523"/>
                  </a:lnTo>
                  <a:lnTo>
                    <a:pt x="142" y="508"/>
                  </a:lnTo>
                  <a:lnTo>
                    <a:pt x="142" y="493"/>
                  </a:lnTo>
                  <a:lnTo>
                    <a:pt x="142" y="478"/>
                  </a:lnTo>
                  <a:lnTo>
                    <a:pt x="144" y="465"/>
                  </a:lnTo>
                  <a:lnTo>
                    <a:pt x="144" y="450"/>
                  </a:lnTo>
                  <a:lnTo>
                    <a:pt x="144" y="437"/>
                  </a:lnTo>
                  <a:lnTo>
                    <a:pt x="144" y="425"/>
                  </a:lnTo>
                  <a:lnTo>
                    <a:pt x="144" y="416"/>
                  </a:lnTo>
                  <a:lnTo>
                    <a:pt x="144" y="407"/>
                  </a:lnTo>
                  <a:lnTo>
                    <a:pt x="144" y="401"/>
                  </a:lnTo>
                  <a:lnTo>
                    <a:pt x="144" y="398"/>
                  </a:lnTo>
                  <a:lnTo>
                    <a:pt x="144" y="396"/>
                  </a:lnTo>
                  <a:lnTo>
                    <a:pt x="144" y="395"/>
                  </a:lnTo>
                  <a:lnTo>
                    <a:pt x="145" y="392"/>
                  </a:lnTo>
                  <a:lnTo>
                    <a:pt x="146" y="387"/>
                  </a:lnTo>
                  <a:lnTo>
                    <a:pt x="148" y="383"/>
                  </a:lnTo>
                  <a:lnTo>
                    <a:pt x="149" y="375"/>
                  </a:lnTo>
                  <a:lnTo>
                    <a:pt x="153" y="368"/>
                  </a:lnTo>
                  <a:lnTo>
                    <a:pt x="156" y="358"/>
                  </a:lnTo>
                  <a:lnTo>
                    <a:pt x="161" y="350"/>
                  </a:lnTo>
                  <a:lnTo>
                    <a:pt x="166" y="339"/>
                  </a:lnTo>
                  <a:lnTo>
                    <a:pt x="172" y="328"/>
                  </a:lnTo>
                  <a:lnTo>
                    <a:pt x="178" y="317"/>
                  </a:lnTo>
                  <a:lnTo>
                    <a:pt x="187" y="305"/>
                  </a:lnTo>
                  <a:lnTo>
                    <a:pt x="195" y="293"/>
                  </a:lnTo>
                  <a:lnTo>
                    <a:pt x="204" y="283"/>
                  </a:lnTo>
                  <a:lnTo>
                    <a:pt x="215" y="271"/>
                  </a:lnTo>
                  <a:lnTo>
                    <a:pt x="226" y="261"/>
                  </a:lnTo>
                  <a:lnTo>
                    <a:pt x="239" y="249"/>
                  </a:lnTo>
                  <a:lnTo>
                    <a:pt x="252" y="238"/>
                  </a:lnTo>
                  <a:lnTo>
                    <a:pt x="266" y="228"/>
                  </a:lnTo>
                  <a:lnTo>
                    <a:pt x="281" y="219"/>
                  </a:lnTo>
                  <a:lnTo>
                    <a:pt x="294" y="209"/>
                  </a:lnTo>
                  <a:lnTo>
                    <a:pt x="309" y="201"/>
                  </a:lnTo>
                  <a:lnTo>
                    <a:pt x="323" y="193"/>
                  </a:lnTo>
                  <a:lnTo>
                    <a:pt x="337" y="189"/>
                  </a:lnTo>
                  <a:lnTo>
                    <a:pt x="348" y="181"/>
                  </a:lnTo>
                  <a:lnTo>
                    <a:pt x="361" y="177"/>
                  </a:lnTo>
                  <a:lnTo>
                    <a:pt x="372" y="171"/>
                  </a:lnTo>
                  <a:lnTo>
                    <a:pt x="381" y="168"/>
                  </a:lnTo>
                  <a:lnTo>
                    <a:pt x="388" y="164"/>
                  </a:lnTo>
                  <a:lnTo>
                    <a:pt x="394" y="162"/>
                  </a:lnTo>
                  <a:lnTo>
                    <a:pt x="397" y="162"/>
                  </a:lnTo>
                  <a:lnTo>
                    <a:pt x="399" y="162"/>
                  </a:lnTo>
                  <a:lnTo>
                    <a:pt x="382" y="230"/>
                  </a:lnTo>
                  <a:lnTo>
                    <a:pt x="382" y="227"/>
                  </a:lnTo>
                  <a:lnTo>
                    <a:pt x="386" y="222"/>
                  </a:lnTo>
                  <a:lnTo>
                    <a:pt x="388" y="216"/>
                  </a:lnTo>
                  <a:lnTo>
                    <a:pt x="390" y="211"/>
                  </a:lnTo>
                  <a:lnTo>
                    <a:pt x="393" y="205"/>
                  </a:lnTo>
                  <a:lnTo>
                    <a:pt x="397" y="200"/>
                  </a:lnTo>
                  <a:lnTo>
                    <a:pt x="399" y="192"/>
                  </a:lnTo>
                  <a:lnTo>
                    <a:pt x="403" y="185"/>
                  </a:lnTo>
                  <a:lnTo>
                    <a:pt x="405" y="178"/>
                  </a:lnTo>
                  <a:lnTo>
                    <a:pt x="410" y="171"/>
                  </a:lnTo>
                  <a:lnTo>
                    <a:pt x="411" y="163"/>
                  </a:lnTo>
                  <a:lnTo>
                    <a:pt x="415" y="156"/>
                  </a:lnTo>
                  <a:lnTo>
                    <a:pt x="418" y="148"/>
                  </a:lnTo>
                  <a:lnTo>
                    <a:pt x="421" y="141"/>
                  </a:lnTo>
                  <a:lnTo>
                    <a:pt x="422" y="134"/>
                  </a:lnTo>
                  <a:lnTo>
                    <a:pt x="424" y="127"/>
                  </a:lnTo>
                  <a:lnTo>
                    <a:pt x="425" y="121"/>
                  </a:lnTo>
                  <a:lnTo>
                    <a:pt x="426" y="115"/>
                  </a:lnTo>
                  <a:lnTo>
                    <a:pt x="428" y="110"/>
                  </a:lnTo>
                  <a:lnTo>
                    <a:pt x="429" y="104"/>
                  </a:lnTo>
                  <a:lnTo>
                    <a:pt x="429" y="99"/>
                  </a:lnTo>
                  <a:lnTo>
                    <a:pt x="430" y="95"/>
                  </a:lnTo>
                  <a:lnTo>
                    <a:pt x="430" y="86"/>
                  </a:lnTo>
                  <a:lnTo>
                    <a:pt x="430" y="82"/>
                  </a:lnTo>
                  <a:lnTo>
                    <a:pt x="430" y="80"/>
                  </a:lnTo>
                  <a:lnTo>
                    <a:pt x="430" y="78"/>
                  </a:lnTo>
                  <a:lnTo>
                    <a:pt x="410" y="110"/>
                  </a:lnTo>
                  <a:lnTo>
                    <a:pt x="407" y="77"/>
                  </a:lnTo>
                  <a:lnTo>
                    <a:pt x="404" y="77"/>
                  </a:lnTo>
                  <a:lnTo>
                    <a:pt x="400" y="80"/>
                  </a:lnTo>
                  <a:lnTo>
                    <a:pt x="396" y="80"/>
                  </a:lnTo>
                  <a:lnTo>
                    <a:pt x="393" y="82"/>
                  </a:lnTo>
                  <a:lnTo>
                    <a:pt x="388" y="85"/>
                  </a:lnTo>
                  <a:lnTo>
                    <a:pt x="383" y="88"/>
                  </a:lnTo>
                  <a:lnTo>
                    <a:pt x="378" y="91"/>
                  </a:lnTo>
                  <a:lnTo>
                    <a:pt x="372" y="93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53" y="103"/>
                  </a:lnTo>
                  <a:lnTo>
                    <a:pt x="347" y="107"/>
                  </a:lnTo>
                  <a:lnTo>
                    <a:pt x="341" y="111"/>
                  </a:lnTo>
                  <a:lnTo>
                    <a:pt x="336" y="117"/>
                  </a:lnTo>
                  <a:lnTo>
                    <a:pt x="330" y="119"/>
                  </a:lnTo>
                  <a:lnTo>
                    <a:pt x="323" y="123"/>
                  </a:lnTo>
                  <a:lnTo>
                    <a:pt x="317" y="129"/>
                  </a:lnTo>
                  <a:lnTo>
                    <a:pt x="312" y="134"/>
                  </a:lnTo>
                  <a:lnTo>
                    <a:pt x="308" y="137"/>
                  </a:lnTo>
                  <a:lnTo>
                    <a:pt x="303" y="141"/>
                  </a:lnTo>
                  <a:lnTo>
                    <a:pt x="298" y="147"/>
                  </a:lnTo>
                  <a:lnTo>
                    <a:pt x="295" y="151"/>
                  </a:lnTo>
                  <a:lnTo>
                    <a:pt x="288" y="157"/>
                  </a:lnTo>
                  <a:lnTo>
                    <a:pt x="283" y="163"/>
                  </a:lnTo>
                  <a:lnTo>
                    <a:pt x="280" y="166"/>
                  </a:lnTo>
                  <a:lnTo>
                    <a:pt x="279" y="168"/>
                  </a:lnTo>
                  <a:lnTo>
                    <a:pt x="279" y="166"/>
                  </a:lnTo>
                  <a:lnTo>
                    <a:pt x="281" y="164"/>
                  </a:lnTo>
                  <a:lnTo>
                    <a:pt x="282" y="159"/>
                  </a:lnTo>
                  <a:lnTo>
                    <a:pt x="286" y="153"/>
                  </a:lnTo>
                  <a:lnTo>
                    <a:pt x="288" y="147"/>
                  </a:lnTo>
                  <a:lnTo>
                    <a:pt x="294" y="137"/>
                  </a:lnTo>
                  <a:lnTo>
                    <a:pt x="296" y="132"/>
                  </a:lnTo>
                  <a:lnTo>
                    <a:pt x="298" y="126"/>
                  </a:lnTo>
                  <a:lnTo>
                    <a:pt x="302" y="119"/>
                  </a:lnTo>
                  <a:lnTo>
                    <a:pt x="305" y="114"/>
                  </a:lnTo>
                  <a:lnTo>
                    <a:pt x="308" y="107"/>
                  </a:lnTo>
                  <a:lnTo>
                    <a:pt x="311" y="99"/>
                  </a:lnTo>
                  <a:lnTo>
                    <a:pt x="314" y="92"/>
                  </a:lnTo>
                  <a:lnTo>
                    <a:pt x="317" y="84"/>
                  </a:lnTo>
                  <a:lnTo>
                    <a:pt x="319" y="77"/>
                  </a:lnTo>
                  <a:lnTo>
                    <a:pt x="323" y="69"/>
                  </a:lnTo>
                  <a:lnTo>
                    <a:pt x="326" y="62"/>
                  </a:lnTo>
                  <a:lnTo>
                    <a:pt x="330" y="55"/>
                  </a:lnTo>
                  <a:lnTo>
                    <a:pt x="332" y="47"/>
                  </a:lnTo>
                  <a:lnTo>
                    <a:pt x="334" y="41"/>
                  </a:lnTo>
                  <a:lnTo>
                    <a:pt x="337" y="36"/>
                  </a:lnTo>
                  <a:lnTo>
                    <a:pt x="339" y="32"/>
                  </a:lnTo>
                  <a:lnTo>
                    <a:pt x="343" y="25"/>
                  </a:lnTo>
                  <a:lnTo>
                    <a:pt x="344" y="24"/>
                  </a:lnTo>
                  <a:lnTo>
                    <a:pt x="367" y="0"/>
                  </a:lnTo>
                  <a:lnTo>
                    <a:pt x="329" y="0"/>
                  </a:lnTo>
                  <a:lnTo>
                    <a:pt x="259" y="106"/>
                  </a:lnTo>
                  <a:lnTo>
                    <a:pt x="123" y="144"/>
                  </a:lnTo>
                  <a:lnTo>
                    <a:pt x="123" y="144"/>
                  </a:lnTo>
                  <a:lnTo>
                    <a:pt x="126" y="147"/>
                  </a:lnTo>
                  <a:lnTo>
                    <a:pt x="127" y="149"/>
                  </a:lnTo>
                  <a:lnTo>
                    <a:pt x="130" y="152"/>
                  </a:lnTo>
                  <a:lnTo>
                    <a:pt x="130" y="156"/>
                  </a:lnTo>
                  <a:lnTo>
                    <a:pt x="130" y="163"/>
                  </a:lnTo>
                  <a:lnTo>
                    <a:pt x="128" y="164"/>
                  </a:lnTo>
                  <a:lnTo>
                    <a:pt x="126" y="166"/>
                  </a:lnTo>
                  <a:lnTo>
                    <a:pt x="121" y="167"/>
                  </a:lnTo>
                  <a:lnTo>
                    <a:pt x="118" y="170"/>
                  </a:lnTo>
                  <a:lnTo>
                    <a:pt x="113" y="172"/>
                  </a:lnTo>
                  <a:lnTo>
                    <a:pt x="110" y="177"/>
                  </a:lnTo>
                  <a:lnTo>
                    <a:pt x="106" y="183"/>
                  </a:lnTo>
                  <a:lnTo>
                    <a:pt x="106" y="192"/>
                  </a:lnTo>
                  <a:lnTo>
                    <a:pt x="110" y="193"/>
                  </a:lnTo>
                  <a:lnTo>
                    <a:pt x="117" y="189"/>
                  </a:lnTo>
                  <a:lnTo>
                    <a:pt x="120" y="186"/>
                  </a:lnTo>
                  <a:lnTo>
                    <a:pt x="125" y="183"/>
                  </a:lnTo>
                  <a:lnTo>
                    <a:pt x="128" y="183"/>
                  </a:lnTo>
                  <a:lnTo>
                    <a:pt x="133" y="185"/>
                  </a:lnTo>
                  <a:lnTo>
                    <a:pt x="128" y="192"/>
                  </a:lnTo>
                  <a:lnTo>
                    <a:pt x="126" y="201"/>
                  </a:lnTo>
                  <a:lnTo>
                    <a:pt x="125" y="209"/>
                  </a:lnTo>
                  <a:lnTo>
                    <a:pt x="125" y="219"/>
                  </a:lnTo>
                  <a:lnTo>
                    <a:pt x="125" y="226"/>
                  </a:lnTo>
                  <a:lnTo>
                    <a:pt x="127" y="233"/>
                  </a:lnTo>
                  <a:lnTo>
                    <a:pt x="127" y="237"/>
                  </a:lnTo>
                  <a:lnTo>
                    <a:pt x="128" y="238"/>
                  </a:lnTo>
                  <a:lnTo>
                    <a:pt x="128" y="241"/>
                  </a:lnTo>
                  <a:lnTo>
                    <a:pt x="128" y="245"/>
                  </a:lnTo>
                  <a:lnTo>
                    <a:pt x="130" y="250"/>
                  </a:lnTo>
                  <a:lnTo>
                    <a:pt x="130" y="256"/>
                  </a:lnTo>
                  <a:lnTo>
                    <a:pt x="130" y="263"/>
                  </a:lnTo>
                  <a:lnTo>
                    <a:pt x="130" y="271"/>
                  </a:lnTo>
                  <a:lnTo>
                    <a:pt x="130" y="279"/>
                  </a:lnTo>
                  <a:lnTo>
                    <a:pt x="130" y="287"/>
                  </a:lnTo>
                  <a:lnTo>
                    <a:pt x="130" y="297"/>
                  </a:lnTo>
                  <a:lnTo>
                    <a:pt x="127" y="305"/>
                  </a:lnTo>
                  <a:lnTo>
                    <a:pt x="127" y="314"/>
                  </a:lnTo>
                  <a:lnTo>
                    <a:pt x="125" y="323"/>
                  </a:lnTo>
                  <a:lnTo>
                    <a:pt x="123" y="330"/>
                  </a:lnTo>
                  <a:lnTo>
                    <a:pt x="119" y="338"/>
                  </a:lnTo>
                  <a:lnTo>
                    <a:pt x="117" y="345"/>
                  </a:lnTo>
                  <a:lnTo>
                    <a:pt x="112" y="350"/>
                  </a:lnTo>
                  <a:lnTo>
                    <a:pt x="107" y="355"/>
                  </a:lnTo>
                  <a:lnTo>
                    <a:pt x="104" y="360"/>
                  </a:lnTo>
                  <a:lnTo>
                    <a:pt x="102" y="364"/>
                  </a:lnTo>
                  <a:lnTo>
                    <a:pt x="96" y="369"/>
                  </a:lnTo>
                  <a:lnTo>
                    <a:pt x="91" y="375"/>
                  </a:lnTo>
                  <a:lnTo>
                    <a:pt x="87" y="379"/>
                  </a:lnTo>
                  <a:lnTo>
                    <a:pt x="83" y="383"/>
                  </a:lnTo>
                  <a:lnTo>
                    <a:pt x="78" y="388"/>
                  </a:lnTo>
                  <a:lnTo>
                    <a:pt x="74" y="395"/>
                  </a:lnTo>
                  <a:lnTo>
                    <a:pt x="70" y="401"/>
                  </a:lnTo>
                  <a:lnTo>
                    <a:pt x="68" y="407"/>
                  </a:lnTo>
                  <a:lnTo>
                    <a:pt x="66" y="414"/>
                  </a:lnTo>
                  <a:lnTo>
                    <a:pt x="67" y="422"/>
                  </a:lnTo>
                  <a:lnTo>
                    <a:pt x="67" y="426"/>
                  </a:lnTo>
                  <a:lnTo>
                    <a:pt x="68" y="432"/>
                  </a:lnTo>
                  <a:lnTo>
                    <a:pt x="69" y="435"/>
                  </a:lnTo>
                  <a:lnTo>
                    <a:pt x="70" y="436"/>
                  </a:lnTo>
                  <a:lnTo>
                    <a:pt x="70" y="437"/>
                  </a:lnTo>
                  <a:lnTo>
                    <a:pt x="73" y="444"/>
                  </a:lnTo>
                  <a:lnTo>
                    <a:pt x="73" y="450"/>
                  </a:lnTo>
                  <a:lnTo>
                    <a:pt x="74" y="454"/>
                  </a:lnTo>
                  <a:lnTo>
                    <a:pt x="76" y="461"/>
                  </a:lnTo>
                  <a:lnTo>
                    <a:pt x="78" y="469"/>
                  </a:lnTo>
                  <a:lnTo>
                    <a:pt x="80" y="476"/>
                  </a:lnTo>
                  <a:lnTo>
                    <a:pt x="81" y="484"/>
                  </a:lnTo>
                  <a:lnTo>
                    <a:pt x="83" y="492"/>
                  </a:lnTo>
                  <a:lnTo>
                    <a:pt x="84" y="500"/>
                  </a:lnTo>
                  <a:lnTo>
                    <a:pt x="87" y="508"/>
                  </a:lnTo>
                  <a:lnTo>
                    <a:pt x="89" y="517"/>
                  </a:lnTo>
                  <a:lnTo>
                    <a:pt x="90" y="525"/>
                  </a:lnTo>
                  <a:lnTo>
                    <a:pt x="91" y="533"/>
                  </a:lnTo>
                  <a:lnTo>
                    <a:pt x="92" y="541"/>
                  </a:lnTo>
                  <a:lnTo>
                    <a:pt x="94" y="548"/>
                  </a:lnTo>
                  <a:lnTo>
                    <a:pt x="94" y="553"/>
                  </a:lnTo>
                  <a:lnTo>
                    <a:pt x="94" y="562"/>
                  </a:lnTo>
                  <a:lnTo>
                    <a:pt x="94" y="566"/>
                  </a:lnTo>
                  <a:lnTo>
                    <a:pt x="94" y="573"/>
                  </a:lnTo>
                  <a:lnTo>
                    <a:pt x="94" y="578"/>
                  </a:lnTo>
                  <a:lnTo>
                    <a:pt x="95" y="583"/>
                  </a:lnTo>
                  <a:lnTo>
                    <a:pt x="94" y="590"/>
                  </a:lnTo>
                  <a:lnTo>
                    <a:pt x="94" y="597"/>
                  </a:lnTo>
                  <a:lnTo>
                    <a:pt x="94" y="601"/>
                  </a:lnTo>
                  <a:lnTo>
                    <a:pt x="94" y="603"/>
                  </a:lnTo>
                  <a:lnTo>
                    <a:pt x="119" y="618"/>
                  </a:lnTo>
                  <a:lnTo>
                    <a:pt x="68" y="608"/>
                  </a:lnTo>
                  <a:lnTo>
                    <a:pt x="28" y="605"/>
                  </a:lnTo>
                  <a:lnTo>
                    <a:pt x="31" y="594"/>
                  </a:lnTo>
                  <a:lnTo>
                    <a:pt x="32" y="583"/>
                  </a:lnTo>
                  <a:lnTo>
                    <a:pt x="33" y="574"/>
                  </a:lnTo>
                  <a:lnTo>
                    <a:pt x="34" y="563"/>
                  </a:lnTo>
                  <a:lnTo>
                    <a:pt x="34" y="552"/>
                  </a:lnTo>
                  <a:lnTo>
                    <a:pt x="35" y="543"/>
                  </a:lnTo>
                  <a:lnTo>
                    <a:pt x="35" y="533"/>
                  </a:lnTo>
                  <a:lnTo>
                    <a:pt x="36" y="523"/>
                  </a:lnTo>
                  <a:lnTo>
                    <a:pt x="35" y="512"/>
                  </a:lnTo>
                  <a:lnTo>
                    <a:pt x="35" y="503"/>
                  </a:lnTo>
                  <a:lnTo>
                    <a:pt x="35" y="493"/>
                  </a:lnTo>
                  <a:lnTo>
                    <a:pt x="35" y="484"/>
                  </a:lnTo>
                  <a:lnTo>
                    <a:pt x="35" y="473"/>
                  </a:lnTo>
                  <a:lnTo>
                    <a:pt x="35" y="463"/>
                  </a:lnTo>
                  <a:lnTo>
                    <a:pt x="35" y="452"/>
                  </a:lnTo>
                  <a:lnTo>
                    <a:pt x="36" y="443"/>
                  </a:lnTo>
                  <a:lnTo>
                    <a:pt x="14" y="605"/>
                  </a:lnTo>
                  <a:lnTo>
                    <a:pt x="7" y="611"/>
                  </a:lnTo>
                  <a:lnTo>
                    <a:pt x="0" y="631"/>
                  </a:lnTo>
                  <a:lnTo>
                    <a:pt x="77" y="660"/>
                  </a:lnTo>
                  <a:lnTo>
                    <a:pt x="77" y="66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68400" y="4161960"/>
              <a:ext cx="195480" cy="433080"/>
            </a:xfrm>
            <a:custGeom>
              <a:avLst/>
              <a:gdLst/>
              <a:ahLst/>
              <a:rect l="l" t="t" r="r" b="b"/>
              <a:pathLst>
                <a:path w="129" h="287">
                  <a:moveTo>
                    <a:pt x="106" y="0"/>
                  </a:moveTo>
                  <a:lnTo>
                    <a:pt x="106" y="2"/>
                  </a:lnTo>
                  <a:lnTo>
                    <a:pt x="107" y="6"/>
                  </a:lnTo>
                  <a:lnTo>
                    <a:pt x="107" y="10"/>
                  </a:lnTo>
                  <a:lnTo>
                    <a:pt x="107" y="15"/>
                  </a:lnTo>
                  <a:lnTo>
                    <a:pt x="107" y="19"/>
                  </a:lnTo>
                  <a:lnTo>
                    <a:pt x="107" y="26"/>
                  </a:lnTo>
                  <a:lnTo>
                    <a:pt x="107" y="32"/>
                  </a:lnTo>
                  <a:lnTo>
                    <a:pt x="107" y="40"/>
                  </a:lnTo>
                  <a:lnTo>
                    <a:pt x="106" y="47"/>
                  </a:lnTo>
                  <a:lnTo>
                    <a:pt x="106" y="56"/>
                  </a:lnTo>
                  <a:lnTo>
                    <a:pt x="103" y="63"/>
                  </a:lnTo>
                  <a:lnTo>
                    <a:pt x="102" y="73"/>
                  </a:lnTo>
                  <a:lnTo>
                    <a:pt x="100" y="82"/>
                  </a:lnTo>
                  <a:lnTo>
                    <a:pt x="98" y="93"/>
                  </a:lnTo>
                  <a:lnTo>
                    <a:pt x="94" y="103"/>
                  </a:lnTo>
                  <a:lnTo>
                    <a:pt x="91" y="112"/>
                  </a:lnTo>
                  <a:lnTo>
                    <a:pt x="86" y="123"/>
                  </a:lnTo>
                  <a:lnTo>
                    <a:pt x="82" y="134"/>
                  </a:lnTo>
                  <a:lnTo>
                    <a:pt x="78" y="144"/>
                  </a:lnTo>
                  <a:lnTo>
                    <a:pt x="73" y="155"/>
                  </a:lnTo>
                  <a:lnTo>
                    <a:pt x="68" y="164"/>
                  </a:lnTo>
                  <a:lnTo>
                    <a:pt x="65" y="174"/>
                  </a:lnTo>
                  <a:lnTo>
                    <a:pt x="60" y="182"/>
                  </a:lnTo>
                  <a:lnTo>
                    <a:pt x="56" y="190"/>
                  </a:lnTo>
                  <a:lnTo>
                    <a:pt x="51" y="197"/>
                  </a:lnTo>
                  <a:lnTo>
                    <a:pt x="49" y="202"/>
                  </a:lnTo>
                  <a:lnTo>
                    <a:pt x="46" y="208"/>
                  </a:lnTo>
                  <a:lnTo>
                    <a:pt x="44" y="212"/>
                  </a:lnTo>
                  <a:lnTo>
                    <a:pt x="43" y="213"/>
                  </a:lnTo>
                  <a:lnTo>
                    <a:pt x="43" y="215"/>
                  </a:lnTo>
                  <a:lnTo>
                    <a:pt x="88" y="245"/>
                  </a:lnTo>
                  <a:lnTo>
                    <a:pt x="31" y="226"/>
                  </a:lnTo>
                  <a:lnTo>
                    <a:pt x="27" y="241"/>
                  </a:lnTo>
                  <a:lnTo>
                    <a:pt x="1" y="268"/>
                  </a:lnTo>
                  <a:lnTo>
                    <a:pt x="0" y="269"/>
                  </a:lnTo>
                  <a:lnTo>
                    <a:pt x="2" y="275"/>
                  </a:lnTo>
                  <a:lnTo>
                    <a:pt x="4" y="278"/>
                  </a:lnTo>
                  <a:lnTo>
                    <a:pt x="10" y="282"/>
                  </a:lnTo>
                  <a:lnTo>
                    <a:pt x="13" y="282"/>
                  </a:lnTo>
                  <a:lnTo>
                    <a:pt x="16" y="283"/>
                  </a:lnTo>
                  <a:lnTo>
                    <a:pt x="21" y="284"/>
                  </a:lnTo>
                  <a:lnTo>
                    <a:pt x="27" y="286"/>
                  </a:lnTo>
                  <a:lnTo>
                    <a:pt x="32" y="286"/>
                  </a:lnTo>
                  <a:lnTo>
                    <a:pt x="39" y="286"/>
                  </a:lnTo>
                  <a:lnTo>
                    <a:pt x="46" y="286"/>
                  </a:lnTo>
                  <a:lnTo>
                    <a:pt x="54" y="287"/>
                  </a:lnTo>
                  <a:lnTo>
                    <a:pt x="61" y="286"/>
                  </a:lnTo>
                  <a:lnTo>
                    <a:pt x="70" y="286"/>
                  </a:lnTo>
                  <a:lnTo>
                    <a:pt x="77" y="284"/>
                  </a:lnTo>
                  <a:lnTo>
                    <a:pt x="85" y="284"/>
                  </a:lnTo>
                  <a:lnTo>
                    <a:pt x="92" y="284"/>
                  </a:lnTo>
                  <a:lnTo>
                    <a:pt x="99" y="283"/>
                  </a:lnTo>
                  <a:lnTo>
                    <a:pt x="105" y="283"/>
                  </a:lnTo>
                  <a:lnTo>
                    <a:pt x="110" y="283"/>
                  </a:lnTo>
                  <a:lnTo>
                    <a:pt x="114" y="282"/>
                  </a:lnTo>
                  <a:lnTo>
                    <a:pt x="117" y="282"/>
                  </a:lnTo>
                  <a:lnTo>
                    <a:pt x="120" y="282"/>
                  </a:lnTo>
                  <a:lnTo>
                    <a:pt x="121" y="282"/>
                  </a:lnTo>
                  <a:lnTo>
                    <a:pt x="129" y="252"/>
                  </a:lnTo>
                  <a:lnTo>
                    <a:pt x="120" y="231"/>
                  </a:lnTo>
                  <a:lnTo>
                    <a:pt x="118" y="228"/>
                  </a:lnTo>
                  <a:lnTo>
                    <a:pt x="118" y="222"/>
                  </a:lnTo>
                  <a:lnTo>
                    <a:pt x="117" y="216"/>
                  </a:lnTo>
                  <a:lnTo>
                    <a:pt x="117" y="211"/>
                  </a:lnTo>
                  <a:lnTo>
                    <a:pt x="117" y="205"/>
                  </a:lnTo>
                  <a:lnTo>
                    <a:pt x="117" y="198"/>
                  </a:lnTo>
                  <a:lnTo>
                    <a:pt x="117" y="190"/>
                  </a:lnTo>
                  <a:lnTo>
                    <a:pt x="117" y="183"/>
                  </a:lnTo>
                  <a:lnTo>
                    <a:pt x="117" y="175"/>
                  </a:lnTo>
                  <a:lnTo>
                    <a:pt x="117" y="168"/>
                  </a:lnTo>
                  <a:lnTo>
                    <a:pt x="117" y="160"/>
                  </a:lnTo>
                  <a:lnTo>
                    <a:pt x="117" y="153"/>
                  </a:lnTo>
                  <a:lnTo>
                    <a:pt x="118" y="145"/>
                  </a:lnTo>
                  <a:lnTo>
                    <a:pt x="120" y="140"/>
                  </a:lnTo>
                  <a:lnTo>
                    <a:pt x="120" y="131"/>
                  </a:lnTo>
                  <a:lnTo>
                    <a:pt x="120" y="126"/>
                  </a:lnTo>
                  <a:lnTo>
                    <a:pt x="120" y="121"/>
                  </a:lnTo>
                  <a:lnTo>
                    <a:pt x="121" y="115"/>
                  </a:lnTo>
                  <a:lnTo>
                    <a:pt x="122" y="106"/>
                  </a:lnTo>
                  <a:lnTo>
                    <a:pt x="123" y="96"/>
                  </a:lnTo>
                  <a:lnTo>
                    <a:pt x="124" y="88"/>
                  </a:lnTo>
                  <a:lnTo>
                    <a:pt x="124" y="80"/>
                  </a:lnTo>
                  <a:lnTo>
                    <a:pt x="124" y="71"/>
                  </a:lnTo>
                  <a:lnTo>
                    <a:pt x="124" y="62"/>
                  </a:lnTo>
                  <a:lnTo>
                    <a:pt x="122" y="56"/>
                  </a:lnTo>
                  <a:lnTo>
                    <a:pt x="121" y="51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7" y="36"/>
                  </a:lnTo>
                  <a:lnTo>
                    <a:pt x="116" y="30"/>
                  </a:lnTo>
                  <a:lnTo>
                    <a:pt x="114" y="26"/>
                  </a:lnTo>
                  <a:lnTo>
                    <a:pt x="113" y="21"/>
                  </a:lnTo>
                  <a:lnTo>
                    <a:pt x="109" y="13"/>
                  </a:lnTo>
                  <a:lnTo>
                    <a:pt x="107" y="6"/>
                  </a:lnTo>
                  <a:lnTo>
                    <a:pt x="106" y="2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8a8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501240" y="3756240"/>
              <a:ext cx="915840" cy="793080"/>
            </a:xfrm>
            <a:custGeom>
              <a:avLst/>
              <a:gdLst/>
              <a:ahLst/>
              <a:rect l="l" t="t" r="r" b="b"/>
              <a:pathLst>
                <a:path w="603" h="526">
                  <a:moveTo>
                    <a:pt x="600" y="65"/>
                  </a:moveTo>
                  <a:lnTo>
                    <a:pt x="603" y="4"/>
                  </a:lnTo>
                  <a:lnTo>
                    <a:pt x="566" y="0"/>
                  </a:lnTo>
                  <a:lnTo>
                    <a:pt x="509" y="18"/>
                  </a:lnTo>
                  <a:lnTo>
                    <a:pt x="502" y="45"/>
                  </a:lnTo>
                  <a:lnTo>
                    <a:pt x="501" y="45"/>
                  </a:lnTo>
                  <a:lnTo>
                    <a:pt x="500" y="45"/>
                  </a:lnTo>
                  <a:lnTo>
                    <a:pt x="497" y="45"/>
                  </a:lnTo>
                  <a:lnTo>
                    <a:pt x="493" y="47"/>
                  </a:lnTo>
                  <a:lnTo>
                    <a:pt x="487" y="47"/>
                  </a:lnTo>
                  <a:lnTo>
                    <a:pt x="483" y="47"/>
                  </a:lnTo>
                  <a:lnTo>
                    <a:pt x="476" y="48"/>
                  </a:lnTo>
                  <a:lnTo>
                    <a:pt x="470" y="51"/>
                  </a:lnTo>
                  <a:lnTo>
                    <a:pt x="462" y="52"/>
                  </a:lnTo>
                  <a:lnTo>
                    <a:pt x="455" y="54"/>
                  </a:lnTo>
                  <a:lnTo>
                    <a:pt x="445" y="56"/>
                  </a:lnTo>
                  <a:lnTo>
                    <a:pt x="437" y="59"/>
                  </a:lnTo>
                  <a:lnTo>
                    <a:pt x="427" y="62"/>
                  </a:lnTo>
                  <a:lnTo>
                    <a:pt x="419" y="66"/>
                  </a:lnTo>
                  <a:lnTo>
                    <a:pt x="409" y="70"/>
                  </a:lnTo>
                  <a:lnTo>
                    <a:pt x="400" y="74"/>
                  </a:lnTo>
                  <a:lnTo>
                    <a:pt x="391" y="78"/>
                  </a:lnTo>
                  <a:lnTo>
                    <a:pt x="380" y="84"/>
                  </a:lnTo>
                  <a:lnTo>
                    <a:pt x="372" y="88"/>
                  </a:lnTo>
                  <a:lnTo>
                    <a:pt x="363" y="93"/>
                  </a:lnTo>
                  <a:lnTo>
                    <a:pt x="353" y="99"/>
                  </a:lnTo>
                  <a:lnTo>
                    <a:pt x="345" y="104"/>
                  </a:lnTo>
                  <a:lnTo>
                    <a:pt x="338" y="110"/>
                  </a:lnTo>
                  <a:lnTo>
                    <a:pt x="331" y="114"/>
                  </a:lnTo>
                  <a:lnTo>
                    <a:pt x="324" y="118"/>
                  </a:lnTo>
                  <a:lnTo>
                    <a:pt x="318" y="122"/>
                  </a:lnTo>
                  <a:lnTo>
                    <a:pt x="313" y="126"/>
                  </a:lnTo>
                  <a:lnTo>
                    <a:pt x="309" y="130"/>
                  </a:lnTo>
                  <a:lnTo>
                    <a:pt x="302" y="134"/>
                  </a:lnTo>
                  <a:lnTo>
                    <a:pt x="301" y="137"/>
                  </a:lnTo>
                  <a:lnTo>
                    <a:pt x="201" y="238"/>
                  </a:lnTo>
                  <a:lnTo>
                    <a:pt x="201" y="238"/>
                  </a:lnTo>
                  <a:lnTo>
                    <a:pt x="199" y="238"/>
                  </a:lnTo>
                  <a:lnTo>
                    <a:pt x="196" y="238"/>
                  </a:lnTo>
                  <a:lnTo>
                    <a:pt x="193" y="241"/>
                  </a:lnTo>
                  <a:lnTo>
                    <a:pt x="187" y="245"/>
                  </a:lnTo>
                  <a:lnTo>
                    <a:pt x="180" y="252"/>
                  </a:lnTo>
                  <a:lnTo>
                    <a:pt x="175" y="256"/>
                  </a:lnTo>
                  <a:lnTo>
                    <a:pt x="172" y="261"/>
                  </a:lnTo>
                  <a:lnTo>
                    <a:pt x="165" y="268"/>
                  </a:lnTo>
                  <a:lnTo>
                    <a:pt x="160" y="276"/>
                  </a:lnTo>
                  <a:lnTo>
                    <a:pt x="152" y="284"/>
                  </a:lnTo>
                  <a:lnTo>
                    <a:pt x="145" y="294"/>
                  </a:lnTo>
                  <a:lnTo>
                    <a:pt x="138" y="304"/>
                  </a:lnTo>
                  <a:lnTo>
                    <a:pt x="130" y="316"/>
                  </a:lnTo>
                  <a:lnTo>
                    <a:pt x="122" y="325"/>
                  </a:lnTo>
                  <a:lnTo>
                    <a:pt x="115" y="338"/>
                  </a:lnTo>
                  <a:lnTo>
                    <a:pt x="107" y="349"/>
                  </a:lnTo>
                  <a:lnTo>
                    <a:pt x="100" y="359"/>
                  </a:lnTo>
                  <a:lnTo>
                    <a:pt x="91" y="369"/>
                  </a:lnTo>
                  <a:lnTo>
                    <a:pt x="84" y="380"/>
                  </a:lnTo>
                  <a:lnTo>
                    <a:pt x="79" y="387"/>
                  </a:lnTo>
                  <a:lnTo>
                    <a:pt x="74" y="396"/>
                  </a:lnTo>
                  <a:lnTo>
                    <a:pt x="71" y="402"/>
                  </a:lnTo>
                  <a:lnTo>
                    <a:pt x="67" y="407"/>
                  </a:lnTo>
                  <a:lnTo>
                    <a:pt x="65" y="410"/>
                  </a:lnTo>
                  <a:lnTo>
                    <a:pt x="65" y="411"/>
                  </a:lnTo>
                  <a:lnTo>
                    <a:pt x="45" y="420"/>
                  </a:lnTo>
                  <a:lnTo>
                    <a:pt x="0" y="493"/>
                  </a:lnTo>
                  <a:lnTo>
                    <a:pt x="34" y="510"/>
                  </a:lnTo>
                  <a:lnTo>
                    <a:pt x="80" y="526"/>
                  </a:lnTo>
                  <a:lnTo>
                    <a:pt x="109" y="510"/>
                  </a:lnTo>
                  <a:lnTo>
                    <a:pt x="130" y="488"/>
                  </a:lnTo>
                  <a:lnTo>
                    <a:pt x="130" y="471"/>
                  </a:lnTo>
                  <a:lnTo>
                    <a:pt x="195" y="422"/>
                  </a:lnTo>
                  <a:lnTo>
                    <a:pt x="235" y="407"/>
                  </a:lnTo>
                  <a:lnTo>
                    <a:pt x="237" y="406"/>
                  </a:lnTo>
                  <a:lnTo>
                    <a:pt x="243" y="406"/>
                  </a:lnTo>
                  <a:lnTo>
                    <a:pt x="246" y="405"/>
                  </a:lnTo>
                  <a:lnTo>
                    <a:pt x="252" y="405"/>
                  </a:lnTo>
                  <a:lnTo>
                    <a:pt x="256" y="405"/>
                  </a:lnTo>
                  <a:lnTo>
                    <a:pt x="263" y="405"/>
                  </a:lnTo>
                  <a:lnTo>
                    <a:pt x="268" y="405"/>
                  </a:lnTo>
                  <a:lnTo>
                    <a:pt x="275" y="405"/>
                  </a:lnTo>
                  <a:lnTo>
                    <a:pt x="282" y="405"/>
                  </a:lnTo>
                  <a:lnTo>
                    <a:pt x="289" y="405"/>
                  </a:lnTo>
                  <a:lnTo>
                    <a:pt x="296" y="403"/>
                  </a:lnTo>
                  <a:lnTo>
                    <a:pt x="302" y="403"/>
                  </a:lnTo>
                  <a:lnTo>
                    <a:pt x="309" y="403"/>
                  </a:lnTo>
                  <a:lnTo>
                    <a:pt x="317" y="403"/>
                  </a:lnTo>
                  <a:lnTo>
                    <a:pt x="323" y="402"/>
                  </a:lnTo>
                  <a:lnTo>
                    <a:pt x="329" y="402"/>
                  </a:lnTo>
                  <a:lnTo>
                    <a:pt x="334" y="402"/>
                  </a:lnTo>
                  <a:lnTo>
                    <a:pt x="341" y="402"/>
                  </a:lnTo>
                  <a:lnTo>
                    <a:pt x="345" y="402"/>
                  </a:lnTo>
                  <a:lnTo>
                    <a:pt x="351" y="402"/>
                  </a:lnTo>
                  <a:lnTo>
                    <a:pt x="356" y="400"/>
                  </a:lnTo>
                  <a:lnTo>
                    <a:pt x="362" y="399"/>
                  </a:lnTo>
                  <a:lnTo>
                    <a:pt x="365" y="398"/>
                  </a:lnTo>
                  <a:lnTo>
                    <a:pt x="370" y="396"/>
                  </a:lnTo>
                  <a:lnTo>
                    <a:pt x="374" y="395"/>
                  </a:lnTo>
                  <a:lnTo>
                    <a:pt x="379" y="392"/>
                  </a:lnTo>
                  <a:lnTo>
                    <a:pt x="384" y="390"/>
                  </a:lnTo>
                  <a:lnTo>
                    <a:pt x="388" y="387"/>
                  </a:lnTo>
                  <a:lnTo>
                    <a:pt x="393" y="383"/>
                  </a:lnTo>
                  <a:lnTo>
                    <a:pt x="398" y="380"/>
                  </a:lnTo>
                  <a:lnTo>
                    <a:pt x="401" y="375"/>
                  </a:lnTo>
                  <a:lnTo>
                    <a:pt x="405" y="369"/>
                  </a:lnTo>
                  <a:lnTo>
                    <a:pt x="408" y="362"/>
                  </a:lnTo>
                  <a:lnTo>
                    <a:pt x="413" y="357"/>
                  </a:lnTo>
                  <a:lnTo>
                    <a:pt x="416" y="351"/>
                  </a:lnTo>
                  <a:lnTo>
                    <a:pt x="421" y="344"/>
                  </a:lnTo>
                  <a:lnTo>
                    <a:pt x="426" y="339"/>
                  </a:lnTo>
                  <a:lnTo>
                    <a:pt x="430" y="332"/>
                  </a:lnTo>
                  <a:lnTo>
                    <a:pt x="434" y="325"/>
                  </a:lnTo>
                  <a:lnTo>
                    <a:pt x="437" y="320"/>
                  </a:lnTo>
                  <a:lnTo>
                    <a:pt x="442" y="313"/>
                  </a:lnTo>
                  <a:lnTo>
                    <a:pt x="445" y="306"/>
                  </a:lnTo>
                  <a:lnTo>
                    <a:pt x="450" y="299"/>
                  </a:lnTo>
                  <a:lnTo>
                    <a:pt x="454" y="295"/>
                  </a:lnTo>
                  <a:lnTo>
                    <a:pt x="457" y="290"/>
                  </a:lnTo>
                  <a:lnTo>
                    <a:pt x="462" y="286"/>
                  </a:lnTo>
                  <a:lnTo>
                    <a:pt x="469" y="276"/>
                  </a:lnTo>
                  <a:lnTo>
                    <a:pt x="476" y="271"/>
                  </a:lnTo>
                  <a:lnTo>
                    <a:pt x="480" y="264"/>
                  </a:lnTo>
                  <a:lnTo>
                    <a:pt x="486" y="261"/>
                  </a:lnTo>
                  <a:lnTo>
                    <a:pt x="490" y="258"/>
                  </a:lnTo>
                  <a:lnTo>
                    <a:pt x="494" y="258"/>
                  </a:lnTo>
                  <a:lnTo>
                    <a:pt x="495" y="257"/>
                  </a:lnTo>
                  <a:lnTo>
                    <a:pt x="497" y="257"/>
                  </a:lnTo>
                  <a:lnTo>
                    <a:pt x="497" y="256"/>
                  </a:lnTo>
                  <a:lnTo>
                    <a:pt x="497" y="254"/>
                  </a:lnTo>
                  <a:lnTo>
                    <a:pt x="494" y="252"/>
                  </a:lnTo>
                  <a:lnTo>
                    <a:pt x="494" y="250"/>
                  </a:lnTo>
                  <a:lnTo>
                    <a:pt x="492" y="246"/>
                  </a:lnTo>
                  <a:lnTo>
                    <a:pt x="491" y="242"/>
                  </a:lnTo>
                  <a:lnTo>
                    <a:pt x="487" y="235"/>
                  </a:lnTo>
                  <a:lnTo>
                    <a:pt x="486" y="228"/>
                  </a:lnTo>
                  <a:lnTo>
                    <a:pt x="484" y="222"/>
                  </a:lnTo>
                  <a:lnTo>
                    <a:pt x="481" y="216"/>
                  </a:lnTo>
                  <a:lnTo>
                    <a:pt x="478" y="208"/>
                  </a:lnTo>
                  <a:lnTo>
                    <a:pt x="477" y="204"/>
                  </a:lnTo>
                  <a:lnTo>
                    <a:pt x="476" y="201"/>
                  </a:lnTo>
                  <a:lnTo>
                    <a:pt x="476" y="198"/>
                  </a:lnTo>
                  <a:lnTo>
                    <a:pt x="479" y="196"/>
                  </a:lnTo>
                  <a:lnTo>
                    <a:pt x="485" y="189"/>
                  </a:lnTo>
                  <a:lnTo>
                    <a:pt x="492" y="183"/>
                  </a:lnTo>
                  <a:lnTo>
                    <a:pt x="497" y="178"/>
                  </a:lnTo>
                  <a:lnTo>
                    <a:pt x="500" y="174"/>
                  </a:lnTo>
                  <a:lnTo>
                    <a:pt x="505" y="170"/>
                  </a:lnTo>
                  <a:lnTo>
                    <a:pt x="509" y="166"/>
                  </a:lnTo>
                  <a:lnTo>
                    <a:pt x="513" y="161"/>
                  </a:lnTo>
                  <a:lnTo>
                    <a:pt x="518" y="159"/>
                  </a:lnTo>
                  <a:lnTo>
                    <a:pt x="521" y="153"/>
                  </a:lnTo>
                  <a:lnTo>
                    <a:pt x="526" y="151"/>
                  </a:lnTo>
                  <a:lnTo>
                    <a:pt x="532" y="141"/>
                  </a:lnTo>
                  <a:lnTo>
                    <a:pt x="538" y="134"/>
                  </a:lnTo>
                  <a:lnTo>
                    <a:pt x="543" y="129"/>
                  </a:lnTo>
                  <a:lnTo>
                    <a:pt x="547" y="125"/>
                  </a:lnTo>
                  <a:lnTo>
                    <a:pt x="551" y="118"/>
                  </a:lnTo>
                  <a:lnTo>
                    <a:pt x="554" y="116"/>
                  </a:lnTo>
                  <a:lnTo>
                    <a:pt x="570" y="119"/>
                  </a:lnTo>
                  <a:lnTo>
                    <a:pt x="600" y="116"/>
                  </a:lnTo>
                  <a:lnTo>
                    <a:pt x="600" y="65"/>
                  </a:lnTo>
                  <a:lnTo>
                    <a:pt x="600" y="65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513120" y="3804480"/>
              <a:ext cx="915840" cy="757080"/>
            </a:xfrm>
            <a:custGeom>
              <a:avLst/>
              <a:gdLst/>
              <a:ahLst/>
              <a:rect l="l" t="t" r="r" b="b"/>
              <a:pathLst>
                <a:path w="603" h="502">
                  <a:moveTo>
                    <a:pt x="0" y="468"/>
                  </a:moveTo>
                  <a:lnTo>
                    <a:pt x="63" y="483"/>
                  </a:lnTo>
                  <a:lnTo>
                    <a:pt x="64" y="482"/>
                  </a:lnTo>
                  <a:lnTo>
                    <a:pt x="67" y="480"/>
                  </a:lnTo>
                  <a:lnTo>
                    <a:pt x="68" y="478"/>
                  </a:lnTo>
                  <a:lnTo>
                    <a:pt x="70" y="476"/>
                  </a:lnTo>
                  <a:lnTo>
                    <a:pt x="71" y="472"/>
                  </a:lnTo>
                  <a:lnTo>
                    <a:pt x="71" y="468"/>
                  </a:lnTo>
                  <a:lnTo>
                    <a:pt x="68" y="461"/>
                  </a:lnTo>
                  <a:lnTo>
                    <a:pt x="65" y="454"/>
                  </a:lnTo>
                  <a:lnTo>
                    <a:pt x="61" y="448"/>
                  </a:lnTo>
                  <a:lnTo>
                    <a:pt x="59" y="441"/>
                  </a:lnTo>
                  <a:lnTo>
                    <a:pt x="56" y="433"/>
                  </a:lnTo>
                  <a:lnTo>
                    <a:pt x="53" y="429"/>
                  </a:lnTo>
                  <a:lnTo>
                    <a:pt x="53" y="424"/>
                  </a:lnTo>
                  <a:lnTo>
                    <a:pt x="56" y="423"/>
                  </a:lnTo>
                  <a:lnTo>
                    <a:pt x="58" y="423"/>
                  </a:lnTo>
                  <a:lnTo>
                    <a:pt x="63" y="427"/>
                  </a:lnTo>
                  <a:lnTo>
                    <a:pt x="67" y="431"/>
                  </a:lnTo>
                  <a:lnTo>
                    <a:pt x="74" y="437"/>
                  </a:lnTo>
                  <a:lnTo>
                    <a:pt x="80" y="441"/>
                  </a:lnTo>
                  <a:lnTo>
                    <a:pt x="86" y="445"/>
                  </a:lnTo>
                  <a:lnTo>
                    <a:pt x="89" y="448"/>
                  </a:lnTo>
                  <a:lnTo>
                    <a:pt x="94" y="449"/>
                  </a:lnTo>
                  <a:lnTo>
                    <a:pt x="94" y="445"/>
                  </a:lnTo>
                  <a:lnTo>
                    <a:pt x="93" y="441"/>
                  </a:lnTo>
                  <a:lnTo>
                    <a:pt x="89" y="434"/>
                  </a:lnTo>
                  <a:lnTo>
                    <a:pt x="87" y="430"/>
                  </a:lnTo>
                  <a:lnTo>
                    <a:pt x="83" y="422"/>
                  </a:lnTo>
                  <a:lnTo>
                    <a:pt x="81" y="418"/>
                  </a:lnTo>
                  <a:lnTo>
                    <a:pt x="79" y="414"/>
                  </a:lnTo>
                  <a:lnTo>
                    <a:pt x="79" y="412"/>
                  </a:lnTo>
                  <a:lnTo>
                    <a:pt x="110" y="392"/>
                  </a:lnTo>
                  <a:lnTo>
                    <a:pt x="111" y="390"/>
                  </a:lnTo>
                  <a:lnTo>
                    <a:pt x="117" y="388"/>
                  </a:lnTo>
                  <a:lnTo>
                    <a:pt x="122" y="385"/>
                  </a:lnTo>
                  <a:lnTo>
                    <a:pt x="125" y="383"/>
                  </a:lnTo>
                  <a:lnTo>
                    <a:pt x="130" y="381"/>
                  </a:lnTo>
                  <a:lnTo>
                    <a:pt x="136" y="379"/>
                  </a:lnTo>
                  <a:lnTo>
                    <a:pt x="141" y="377"/>
                  </a:lnTo>
                  <a:lnTo>
                    <a:pt x="144" y="374"/>
                  </a:lnTo>
                  <a:lnTo>
                    <a:pt x="149" y="371"/>
                  </a:lnTo>
                  <a:lnTo>
                    <a:pt x="153" y="368"/>
                  </a:lnTo>
                  <a:lnTo>
                    <a:pt x="158" y="364"/>
                  </a:lnTo>
                  <a:lnTo>
                    <a:pt x="159" y="362"/>
                  </a:lnTo>
                  <a:lnTo>
                    <a:pt x="157" y="359"/>
                  </a:lnTo>
                  <a:lnTo>
                    <a:pt x="152" y="358"/>
                  </a:lnTo>
                  <a:lnTo>
                    <a:pt x="145" y="358"/>
                  </a:lnTo>
                  <a:lnTo>
                    <a:pt x="138" y="358"/>
                  </a:lnTo>
                  <a:lnTo>
                    <a:pt x="131" y="356"/>
                  </a:lnTo>
                  <a:lnTo>
                    <a:pt x="125" y="355"/>
                  </a:lnTo>
                  <a:lnTo>
                    <a:pt x="121" y="353"/>
                  </a:lnTo>
                  <a:lnTo>
                    <a:pt x="118" y="352"/>
                  </a:lnTo>
                  <a:lnTo>
                    <a:pt x="118" y="349"/>
                  </a:lnTo>
                  <a:lnTo>
                    <a:pt x="121" y="348"/>
                  </a:lnTo>
                  <a:lnTo>
                    <a:pt x="124" y="345"/>
                  </a:lnTo>
                  <a:lnTo>
                    <a:pt x="131" y="343"/>
                  </a:lnTo>
                  <a:lnTo>
                    <a:pt x="137" y="338"/>
                  </a:lnTo>
                  <a:lnTo>
                    <a:pt x="144" y="336"/>
                  </a:lnTo>
                  <a:lnTo>
                    <a:pt x="152" y="333"/>
                  </a:lnTo>
                  <a:lnTo>
                    <a:pt x="159" y="332"/>
                  </a:lnTo>
                  <a:lnTo>
                    <a:pt x="164" y="329"/>
                  </a:lnTo>
                  <a:lnTo>
                    <a:pt x="170" y="327"/>
                  </a:lnTo>
                  <a:lnTo>
                    <a:pt x="173" y="325"/>
                  </a:lnTo>
                  <a:lnTo>
                    <a:pt x="177" y="325"/>
                  </a:lnTo>
                  <a:lnTo>
                    <a:pt x="180" y="323"/>
                  </a:lnTo>
                  <a:lnTo>
                    <a:pt x="185" y="322"/>
                  </a:lnTo>
                  <a:lnTo>
                    <a:pt x="189" y="321"/>
                  </a:lnTo>
                  <a:lnTo>
                    <a:pt x="195" y="318"/>
                  </a:lnTo>
                  <a:lnTo>
                    <a:pt x="201" y="315"/>
                  </a:lnTo>
                  <a:lnTo>
                    <a:pt x="208" y="311"/>
                  </a:lnTo>
                  <a:lnTo>
                    <a:pt x="216" y="308"/>
                  </a:lnTo>
                  <a:lnTo>
                    <a:pt x="223" y="306"/>
                  </a:lnTo>
                  <a:lnTo>
                    <a:pt x="229" y="302"/>
                  </a:lnTo>
                  <a:lnTo>
                    <a:pt x="235" y="299"/>
                  </a:lnTo>
                  <a:lnTo>
                    <a:pt x="238" y="297"/>
                  </a:lnTo>
                  <a:lnTo>
                    <a:pt x="239" y="297"/>
                  </a:lnTo>
                  <a:lnTo>
                    <a:pt x="238" y="296"/>
                  </a:lnTo>
                  <a:lnTo>
                    <a:pt x="235" y="293"/>
                  </a:lnTo>
                  <a:lnTo>
                    <a:pt x="230" y="288"/>
                  </a:lnTo>
                  <a:lnTo>
                    <a:pt x="226" y="284"/>
                  </a:lnTo>
                  <a:lnTo>
                    <a:pt x="220" y="278"/>
                  </a:lnTo>
                  <a:lnTo>
                    <a:pt x="216" y="273"/>
                  </a:lnTo>
                  <a:lnTo>
                    <a:pt x="214" y="266"/>
                  </a:lnTo>
                  <a:lnTo>
                    <a:pt x="214" y="261"/>
                  </a:lnTo>
                  <a:lnTo>
                    <a:pt x="216" y="255"/>
                  </a:lnTo>
                  <a:lnTo>
                    <a:pt x="221" y="251"/>
                  </a:lnTo>
                  <a:lnTo>
                    <a:pt x="227" y="247"/>
                  </a:lnTo>
                  <a:lnTo>
                    <a:pt x="234" y="246"/>
                  </a:lnTo>
                  <a:lnTo>
                    <a:pt x="239" y="243"/>
                  </a:lnTo>
                  <a:lnTo>
                    <a:pt x="245" y="241"/>
                  </a:lnTo>
                  <a:lnTo>
                    <a:pt x="250" y="241"/>
                  </a:lnTo>
                  <a:lnTo>
                    <a:pt x="252" y="241"/>
                  </a:lnTo>
                  <a:lnTo>
                    <a:pt x="263" y="308"/>
                  </a:lnTo>
                  <a:lnTo>
                    <a:pt x="288" y="281"/>
                  </a:lnTo>
                  <a:lnTo>
                    <a:pt x="279" y="263"/>
                  </a:lnTo>
                  <a:lnTo>
                    <a:pt x="306" y="267"/>
                  </a:lnTo>
                  <a:lnTo>
                    <a:pt x="306" y="266"/>
                  </a:lnTo>
                  <a:lnTo>
                    <a:pt x="308" y="263"/>
                  </a:lnTo>
                  <a:lnTo>
                    <a:pt x="310" y="258"/>
                  </a:lnTo>
                  <a:lnTo>
                    <a:pt x="313" y="251"/>
                  </a:lnTo>
                  <a:lnTo>
                    <a:pt x="315" y="246"/>
                  </a:lnTo>
                  <a:lnTo>
                    <a:pt x="316" y="241"/>
                  </a:lnTo>
                  <a:lnTo>
                    <a:pt x="317" y="236"/>
                  </a:lnTo>
                  <a:lnTo>
                    <a:pt x="320" y="232"/>
                  </a:lnTo>
                  <a:lnTo>
                    <a:pt x="320" y="226"/>
                  </a:lnTo>
                  <a:lnTo>
                    <a:pt x="322" y="221"/>
                  </a:lnTo>
                  <a:lnTo>
                    <a:pt x="322" y="214"/>
                  </a:lnTo>
                  <a:lnTo>
                    <a:pt x="323" y="209"/>
                  </a:lnTo>
                  <a:lnTo>
                    <a:pt x="323" y="200"/>
                  </a:lnTo>
                  <a:lnTo>
                    <a:pt x="323" y="194"/>
                  </a:lnTo>
                  <a:lnTo>
                    <a:pt x="323" y="185"/>
                  </a:lnTo>
                  <a:lnTo>
                    <a:pt x="323" y="179"/>
                  </a:lnTo>
                  <a:lnTo>
                    <a:pt x="323" y="172"/>
                  </a:lnTo>
                  <a:lnTo>
                    <a:pt x="322" y="164"/>
                  </a:lnTo>
                  <a:lnTo>
                    <a:pt x="322" y="157"/>
                  </a:lnTo>
                  <a:lnTo>
                    <a:pt x="322" y="151"/>
                  </a:lnTo>
                  <a:lnTo>
                    <a:pt x="320" y="145"/>
                  </a:lnTo>
                  <a:lnTo>
                    <a:pt x="320" y="139"/>
                  </a:lnTo>
                  <a:lnTo>
                    <a:pt x="319" y="134"/>
                  </a:lnTo>
                  <a:lnTo>
                    <a:pt x="319" y="131"/>
                  </a:lnTo>
                  <a:lnTo>
                    <a:pt x="317" y="125"/>
                  </a:lnTo>
                  <a:lnTo>
                    <a:pt x="317" y="124"/>
                  </a:lnTo>
                  <a:lnTo>
                    <a:pt x="320" y="124"/>
                  </a:lnTo>
                  <a:lnTo>
                    <a:pt x="324" y="124"/>
                  </a:lnTo>
                  <a:lnTo>
                    <a:pt x="327" y="124"/>
                  </a:lnTo>
                  <a:lnTo>
                    <a:pt x="331" y="125"/>
                  </a:lnTo>
                  <a:lnTo>
                    <a:pt x="335" y="127"/>
                  </a:lnTo>
                  <a:lnTo>
                    <a:pt x="340" y="129"/>
                  </a:lnTo>
                  <a:lnTo>
                    <a:pt x="347" y="135"/>
                  </a:lnTo>
                  <a:lnTo>
                    <a:pt x="352" y="142"/>
                  </a:lnTo>
                  <a:lnTo>
                    <a:pt x="356" y="147"/>
                  </a:lnTo>
                  <a:lnTo>
                    <a:pt x="358" y="151"/>
                  </a:lnTo>
                  <a:lnTo>
                    <a:pt x="359" y="147"/>
                  </a:lnTo>
                  <a:lnTo>
                    <a:pt x="361" y="142"/>
                  </a:lnTo>
                  <a:lnTo>
                    <a:pt x="361" y="136"/>
                  </a:lnTo>
                  <a:lnTo>
                    <a:pt x="361" y="132"/>
                  </a:lnTo>
                  <a:lnTo>
                    <a:pt x="359" y="127"/>
                  </a:lnTo>
                  <a:lnTo>
                    <a:pt x="358" y="121"/>
                  </a:lnTo>
                  <a:lnTo>
                    <a:pt x="356" y="116"/>
                  </a:lnTo>
                  <a:lnTo>
                    <a:pt x="351" y="110"/>
                  </a:lnTo>
                  <a:lnTo>
                    <a:pt x="348" y="105"/>
                  </a:lnTo>
                  <a:lnTo>
                    <a:pt x="344" y="102"/>
                  </a:lnTo>
                  <a:lnTo>
                    <a:pt x="337" y="94"/>
                  </a:lnTo>
                  <a:lnTo>
                    <a:pt x="335" y="93"/>
                  </a:lnTo>
                  <a:lnTo>
                    <a:pt x="336" y="91"/>
                  </a:lnTo>
                  <a:lnTo>
                    <a:pt x="343" y="89"/>
                  </a:lnTo>
                  <a:lnTo>
                    <a:pt x="348" y="87"/>
                  </a:lnTo>
                  <a:lnTo>
                    <a:pt x="354" y="84"/>
                  </a:lnTo>
                  <a:lnTo>
                    <a:pt x="357" y="84"/>
                  </a:lnTo>
                  <a:lnTo>
                    <a:pt x="361" y="83"/>
                  </a:lnTo>
                  <a:lnTo>
                    <a:pt x="364" y="82"/>
                  </a:lnTo>
                  <a:lnTo>
                    <a:pt x="369" y="82"/>
                  </a:lnTo>
                  <a:lnTo>
                    <a:pt x="372" y="80"/>
                  </a:lnTo>
                  <a:lnTo>
                    <a:pt x="377" y="79"/>
                  </a:lnTo>
                  <a:lnTo>
                    <a:pt x="380" y="78"/>
                  </a:lnTo>
                  <a:lnTo>
                    <a:pt x="385" y="78"/>
                  </a:lnTo>
                  <a:lnTo>
                    <a:pt x="390" y="76"/>
                  </a:lnTo>
                  <a:lnTo>
                    <a:pt x="393" y="76"/>
                  </a:lnTo>
                  <a:lnTo>
                    <a:pt x="398" y="76"/>
                  </a:lnTo>
                  <a:lnTo>
                    <a:pt x="402" y="76"/>
                  </a:lnTo>
                  <a:lnTo>
                    <a:pt x="411" y="76"/>
                  </a:lnTo>
                  <a:lnTo>
                    <a:pt x="418" y="79"/>
                  </a:lnTo>
                  <a:lnTo>
                    <a:pt x="423" y="82"/>
                  </a:lnTo>
                  <a:lnTo>
                    <a:pt x="429" y="90"/>
                  </a:lnTo>
                  <a:lnTo>
                    <a:pt x="432" y="95"/>
                  </a:lnTo>
                  <a:lnTo>
                    <a:pt x="434" y="104"/>
                  </a:lnTo>
                  <a:lnTo>
                    <a:pt x="434" y="112"/>
                  </a:lnTo>
                  <a:lnTo>
                    <a:pt x="436" y="121"/>
                  </a:lnTo>
                  <a:lnTo>
                    <a:pt x="436" y="129"/>
                  </a:lnTo>
                  <a:lnTo>
                    <a:pt x="437" y="136"/>
                  </a:lnTo>
                  <a:lnTo>
                    <a:pt x="440" y="142"/>
                  </a:lnTo>
                  <a:lnTo>
                    <a:pt x="444" y="145"/>
                  </a:lnTo>
                  <a:lnTo>
                    <a:pt x="448" y="143"/>
                  </a:lnTo>
                  <a:lnTo>
                    <a:pt x="456" y="139"/>
                  </a:lnTo>
                  <a:lnTo>
                    <a:pt x="458" y="135"/>
                  </a:lnTo>
                  <a:lnTo>
                    <a:pt x="463" y="132"/>
                  </a:lnTo>
                  <a:lnTo>
                    <a:pt x="468" y="128"/>
                  </a:lnTo>
                  <a:lnTo>
                    <a:pt x="471" y="124"/>
                  </a:lnTo>
                  <a:lnTo>
                    <a:pt x="475" y="120"/>
                  </a:lnTo>
                  <a:lnTo>
                    <a:pt x="478" y="114"/>
                  </a:lnTo>
                  <a:lnTo>
                    <a:pt x="482" y="109"/>
                  </a:lnTo>
                  <a:lnTo>
                    <a:pt x="486" y="105"/>
                  </a:lnTo>
                  <a:lnTo>
                    <a:pt x="491" y="95"/>
                  </a:lnTo>
                  <a:lnTo>
                    <a:pt x="494" y="87"/>
                  </a:lnTo>
                  <a:lnTo>
                    <a:pt x="496" y="79"/>
                  </a:lnTo>
                  <a:lnTo>
                    <a:pt x="496" y="74"/>
                  </a:lnTo>
                  <a:lnTo>
                    <a:pt x="494" y="67"/>
                  </a:lnTo>
                  <a:lnTo>
                    <a:pt x="492" y="64"/>
                  </a:lnTo>
                  <a:lnTo>
                    <a:pt x="487" y="60"/>
                  </a:lnTo>
                  <a:lnTo>
                    <a:pt x="486" y="58"/>
                  </a:lnTo>
                  <a:lnTo>
                    <a:pt x="490" y="57"/>
                  </a:lnTo>
                  <a:lnTo>
                    <a:pt x="497" y="58"/>
                  </a:lnTo>
                  <a:lnTo>
                    <a:pt x="501" y="58"/>
                  </a:lnTo>
                  <a:lnTo>
                    <a:pt x="506" y="58"/>
                  </a:lnTo>
                  <a:lnTo>
                    <a:pt x="510" y="57"/>
                  </a:lnTo>
                  <a:lnTo>
                    <a:pt x="513" y="57"/>
                  </a:lnTo>
                  <a:lnTo>
                    <a:pt x="514" y="50"/>
                  </a:lnTo>
                  <a:lnTo>
                    <a:pt x="513" y="43"/>
                  </a:lnTo>
                  <a:lnTo>
                    <a:pt x="512" y="37"/>
                  </a:lnTo>
                  <a:lnTo>
                    <a:pt x="511" y="35"/>
                  </a:lnTo>
                  <a:lnTo>
                    <a:pt x="530" y="54"/>
                  </a:lnTo>
                  <a:lnTo>
                    <a:pt x="530" y="53"/>
                  </a:lnTo>
                  <a:lnTo>
                    <a:pt x="530" y="49"/>
                  </a:lnTo>
                  <a:lnTo>
                    <a:pt x="530" y="43"/>
                  </a:lnTo>
                  <a:lnTo>
                    <a:pt x="530" y="38"/>
                  </a:lnTo>
                  <a:lnTo>
                    <a:pt x="530" y="30"/>
                  </a:lnTo>
                  <a:lnTo>
                    <a:pt x="532" y="24"/>
                  </a:lnTo>
                  <a:lnTo>
                    <a:pt x="533" y="20"/>
                  </a:lnTo>
                  <a:lnTo>
                    <a:pt x="535" y="19"/>
                  </a:lnTo>
                  <a:lnTo>
                    <a:pt x="536" y="19"/>
                  </a:lnTo>
                  <a:lnTo>
                    <a:pt x="539" y="22"/>
                  </a:lnTo>
                  <a:lnTo>
                    <a:pt x="541" y="27"/>
                  </a:lnTo>
                  <a:lnTo>
                    <a:pt x="546" y="34"/>
                  </a:lnTo>
                  <a:lnTo>
                    <a:pt x="547" y="39"/>
                  </a:lnTo>
                  <a:lnTo>
                    <a:pt x="550" y="45"/>
                  </a:lnTo>
                  <a:lnTo>
                    <a:pt x="554" y="49"/>
                  </a:lnTo>
                  <a:lnTo>
                    <a:pt x="556" y="52"/>
                  </a:lnTo>
                  <a:lnTo>
                    <a:pt x="562" y="50"/>
                  </a:lnTo>
                  <a:lnTo>
                    <a:pt x="568" y="48"/>
                  </a:lnTo>
                  <a:lnTo>
                    <a:pt x="575" y="42"/>
                  </a:lnTo>
                  <a:lnTo>
                    <a:pt x="581" y="35"/>
                  </a:lnTo>
                  <a:lnTo>
                    <a:pt x="583" y="28"/>
                  </a:lnTo>
                  <a:lnTo>
                    <a:pt x="585" y="23"/>
                  </a:lnTo>
                  <a:lnTo>
                    <a:pt x="588" y="18"/>
                  </a:lnTo>
                  <a:lnTo>
                    <a:pt x="590" y="12"/>
                  </a:lnTo>
                  <a:lnTo>
                    <a:pt x="590" y="7"/>
                  </a:lnTo>
                  <a:lnTo>
                    <a:pt x="592" y="3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5" y="37"/>
                  </a:lnTo>
                  <a:lnTo>
                    <a:pt x="603" y="67"/>
                  </a:lnTo>
                  <a:lnTo>
                    <a:pt x="598" y="86"/>
                  </a:lnTo>
                  <a:lnTo>
                    <a:pt x="583" y="90"/>
                  </a:lnTo>
                  <a:lnTo>
                    <a:pt x="570" y="98"/>
                  </a:lnTo>
                  <a:lnTo>
                    <a:pt x="550" y="93"/>
                  </a:lnTo>
                  <a:lnTo>
                    <a:pt x="549" y="94"/>
                  </a:lnTo>
                  <a:lnTo>
                    <a:pt x="546" y="98"/>
                  </a:lnTo>
                  <a:lnTo>
                    <a:pt x="542" y="101"/>
                  </a:lnTo>
                  <a:lnTo>
                    <a:pt x="539" y="106"/>
                  </a:lnTo>
                  <a:lnTo>
                    <a:pt x="533" y="112"/>
                  </a:lnTo>
                  <a:lnTo>
                    <a:pt x="527" y="120"/>
                  </a:lnTo>
                  <a:lnTo>
                    <a:pt x="522" y="123"/>
                  </a:lnTo>
                  <a:lnTo>
                    <a:pt x="518" y="127"/>
                  </a:lnTo>
                  <a:lnTo>
                    <a:pt x="513" y="131"/>
                  </a:lnTo>
                  <a:lnTo>
                    <a:pt x="510" y="136"/>
                  </a:lnTo>
                  <a:lnTo>
                    <a:pt x="505" y="139"/>
                  </a:lnTo>
                  <a:lnTo>
                    <a:pt x="501" y="145"/>
                  </a:lnTo>
                  <a:lnTo>
                    <a:pt x="497" y="149"/>
                  </a:lnTo>
                  <a:lnTo>
                    <a:pt x="492" y="153"/>
                  </a:lnTo>
                  <a:lnTo>
                    <a:pt x="485" y="160"/>
                  </a:lnTo>
                  <a:lnTo>
                    <a:pt x="479" y="166"/>
                  </a:lnTo>
                  <a:lnTo>
                    <a:pt x="476" y="170"/>
                  </a:lnTo>
                  <a:lnTo>
                    <a:pt x="475" y="172"/>
                  </a:lnTo>
                  <a:lnTo>
                    <a:pt x="478" y="175"/>
                  </a:lnTo>
                  <a:lnTo>
                    <a:pt x="478" y="176"/>
                  </a:lnTo>
                  <a:lnTo>
                    <a:pt x="480" y="180"/>
                  </a:lnTo>
                  <a:lnTo>
                    <a:pt x="482" y="184"/>
                  </a:lnTo>
                  <a:lnTo>
                    <a:pt x="484" y="188"/>
                  </a:lnTo>
                  <a:lnTo>
                    <a:pt x="485" y="194"/>
                  </a:lnTo>
                  <a:lnTo>
                    <a:pt x="486" y="200"/>
                  </a:lnTo>
                  <a:lnTo>
                    <a:pt x="486" y="206"/>
                  </a:lnTo>
                  <a:lnTo>
                    <a:pt x="487" y="211"/>
                  </a:lnTo>
                  <a:lnTo>
                    <a:pt x="487" y="216"/>
                  </a:lnTo>
                  <a:lnTo>
                    <a:pt x="489" y="221"/>
                  </a:lnTo>
                  <a:lnTo>
                    <a:pt x="489" y="224"/>
                  </a:lnTo>
                  <a:lnTo>
                    <a:pt x="489" y="225"/>
                  </a:lnTo>
                  <a:lnTo>
                    <a:pt x="471" y="239"/>
                  </a:lnTo>
                  <a:lnTo>
                    <a:pt x="470" y="240"/>
                  </a:lnTo>
                  <a:lnTo>
                    <a:pt x="465" y="244"/>
                  </a:lnTo>
                  <a:lnTo>
                    <a:pt x="463" y="247"/>
                  </a:lnTo>
                  <a:lnTo>
                    <a:pt x="461" y="251"/>
                  </a:lnTo>
                  <a:lnTo>
                    <a:pt x="457" y="255"/>
                  </a:lnTo>
                  <a:lnTo>
                    <a:pt x="455" y="261"/>
                  </a:lnTo>
                  <a:lnTo>
                    <a:pt x="452" y="266"/>
                  </a:lnTo>
                  <a:lnTo>
                    <a:pt x="449" y="272"/>
                  </a:lnTo>
                  <a:lnTo>
                    <a:pt x="446" y="277"/>
                  </a:lnTo>
                  <a:lnTo>
                    <a:pt x="442" y="285"/>
                  </a:lnTo>
                  <a:lnTo>
                    <a:pt x="437" y="292"/>
                  </a:lnTo>
                  <a:lnTo>
                    <a:pt x="434" y="300"/>
                  </a:lnTo>
                  <a:lnTo>
                    <a:pt x="429" y="307"/>
                  </a:lnTo>
                  <a:lnTo>
                    <a:pt x="426" y="315"/>
                  </a:lnTo>
                  <a:lnTo>
                    <a:pt x="421" y="322"/>
                  </a:lnTo>
                  <a:lnTo>
                    <a:pt x="415" y="329"/>
                  </a:lnTo>
                  <a:lnTo>
                    <a:pt x="411" y="336"/>
                  </a:lnTo>
                  <a:lnTo>
                    <a:pt x="405" y="343"/>
                  </a:lnTo>
                  <a:lnTo>
                    <a:pt x="398" y="349"/>
                  </a:lnTo>
                  <a:lnTo>
                    <a:pt x="392" y="355"/>
                  </a:lnTo>
                  <a:lnTo>
                    <a:pt x="385" y="360"/>
                  </a:lnTo>
                  <a:lnTo>
                    <a:pt x="379" y="366"/>
                  </a:lnTo>
                  <a:lnTo>
                    <a:pt x="371" y="370"/>
                  </a:lnTo>
                  <a:lnTo>
                    <a:pt x="364" y="373"/>
                  </a:lnTo>
                  <a:lnTo>
                    <a:pt x="359" y="374"/>
                  </a:lnTo>
                  <a:lnTo>
                    <a:pt x="355" y="375"/>
                  </a:lnTo>
                  <a:lnTo>
                    <a:pt x="350" y="375"/>
                  </a:lnTo>
                  <a:lnTo>
                    <a:pt x="347" y="378"/>
                  </a:lnTo>
                  <a:lnTo>
                    <a:pt x="341" y="378"/>
                  </a:lnTo>
                  <a:lnTo>
                    <a:pt x="336" y="378"/>
                  </a:lnTo>
                  <a:lnTo>
                    <a:pt x="331" y="378"/>
                  </a:lnTo>
                  <a:lnTo>
                    <a:pt x="327" y="379"/>
                  </a:lnTo>
                  <a:lnTo>
                    <a:pt x="322" y="379"/>
                  </a:lnTo>
                  <a:lnTo>
                    <a:pt x="317" y="379"/>
                  </a:lnTo>
                  <a:lnTo>
                    <a:pt x="312" y="379"/>
                  </a:lnTo>
                  <a:lnTo>
                    <a:pt x="307" y="379"/>
                  </a:lnTo>
                  <a:lnTo>
                    <a:pt x="301" y="379"/>
                  </a:lnTo>
                  <a:lnTo>
                    <a:pt x="297" y="378"/>
                  </a:lnTo>
                  <a:lnTo>
                    <a:pt x="290" y="378"/>
                  </a:lnTo>
                  <a:lnTo>
                    <a:pt x="286" y="378"/>
                  </a:lnTo>
                  <a:lnTo>
                    <a:pt x="280" y="377"/>
                  </a:lnTo>
                  <a:lnTo>
                    <a:pt x="276" y="377"/>
                  </a:lnTo>
                  <a:lnTo>
                    <a:pt x="271" y="375"/>
                  </a:lnTo>
                  <a:lnTo>
                    <a:pt x="266" y="375"/>
                  </a:lnTo>
                  <a:lnTo>
                    <a:pt x="263" y="375"/>
                  </a:lnTo>
                  <a:lnTo>
                    <a:pt x="258" y="374"/>
                  </a:lnTo>
                  <a:lnTo>
                    <a:pt x="255" y="373"/>
                  </a:lnTo>
                  <a:lnTo>
                    <a:pt x="252" y="373"/>
                  </a:lnTo>
                  <a:lnTo>
                    <a:pt x="248" y="373"/>
                  </a:lnTo>
                  <a:lnTo>
                    <a:pt x="248" y="373"/>
                  </a:lnTo>
                  <a:lnTo>
                    <a:pt x="250" y="373"/>
                  </a:lnTo>
                  <a:lnTo>
                    <a:pt x="256" y="373"/>
                  </a:lnTo>
                  <a:lnTo>
                    <a:pt x="260" y="371"/>
                  </a:lnTo>
                  <a:lnTo>
                    <a:pt x="265" y="370"/>
                  </a:lnTo>
                  <a:lnTo>
                    <a:pt x="270" y="367"/>
                  </a:lnTo>
                  <a:lnTo>
                    <a:pt x="276" y="366"/>
                  </a:lnTo>
                  <a:lnTo>
                    <a:pt x="279" y="362"/>
                  </a:lnTo>
                  <a:lnTo>
                    <a:pt x="283" y="358"/>
                  </a:lnTo>
                  <a:lnTo>
                    <a:pt x="285" y="353"/>
                  </a:lnTo>
                  <a:lnTo>
                    <a:pt x="288" y="349"/>
                  </a:lnTo>
                  <a:lnTo>
                    <a:pt x="291" y="341"/>
                  </a:lnTo>
                  <a:lnTo>
                    <a:pt x="292" y="337"/>
                  </a:lnTo>
                  <a:lnTo>
                    <a:pt x="288" y="336"/>
                  </a:lnTo>
                  <a:lnTo>
                    <a:pt x="283" y="340"/>
                  </a:lnTo>
                  <a:lnTo>
                    <a:pt x="276" y="345"/>
                  </a:lnTo>
                  <a:lnTo>
                    <a:pt x="269" y="351"/>
                  </a:lnTo>
                  <a:lnTo>
                    <a:pt x="265" y="352"/>
                  </a:lnTo>
                  <a:lnTo>
                    <a:pt x="260" y="355"/>
                  </a:lnTo>
                  <a:lnTo>
                    <a:pt x="257" y="355"/>
                  </a:lnTo>
                  <a:lnTo>
                    <a:pt x="255" y="356"/>
                  </a:lnTo>
                  <a:lnTo>
                    <a:pt x="248" y="358"/>
                  </a:lnTo>
                  <a:lnTo>
                    <a:pt x="243" y="358"/>
                  </a:lnTo>
                  <a:lnTo>
                    <a:pt x="238" y="360"/>
                  </a:lnTo>
                  <a:lnTo>
                    <a:pt x="234" y="366"/>
                  </a:lnTo>
                  <a:lnTo>
                    <a:pt x="230" y="370"/>
                  </a:lnTo>
                  <a:lnTo>
                    <a:pt x="227" y="375"/>
                  </a:lnTo>
                  <a:lnTo>
                    <a:pt x="223" y="378"/>
                  </a:lnTo>
                  <a:lnTo>
                    <a:pt x="217" y="381"/>
                  </a:lnTo>
                  <a:lnTo>
                    <a:pt x="213" y="383"/>
                  </a:lnTo>
                  <a:lnTo>
                    <a:pt x="208" y="388"/>
                  </a:lnTo>
                  <a:lnTo>
                    <a:pt x="201" y="392"/>
                  </a:lnTo>
                  <a:lnTo>
                    <a:pt x="195" y="398"/>
                  </a:lnTo>
                  <a:lnTo>
                    <a:pt x="189" y="401"/>
                  </a:lnTo>
                  <a:lnTo>
                    <a:pt x="185" y="404"/>
                  </a:lnTo>
                  <a:lnTo>
                    <a:pt x="179" y="407"/>
                  </a:lnTo>
                  <a:lnTo>
                    <a:pt x="174" y="412"/>
                  </a:lnTo>
                  <a:lnTo>
                    <a:pt x="168" y="415"/>
                  </a:lnTo>
                  <a:lnTo>
                    <a:pt x="164" y="419"/>
                  </a:lnTo>
                  <a:lnTo>
                    <a:pt x="159" y="422"/>
                  </a:lnTo>
                  <a:lnTo>
                    <a:pt x="154" y="426"/>
                  </a:lnTo>
                  <a:lnTo>
                    <a:pt x="149" y="429"/>
                  </a:lnTo>
                  <a:lnTo>
                    <a:pt x="144" y="431"/>
                  </a:lnTo>
                  <a:lnTo>
                    <a:pt x="141" y="434"/>
                  </a:lnTo>
                  <a:lnTo>
                    <a:pt x="138" y="437"/>
                  </a:lnTo>
                  <a:lnTo>
                    <a:pt x="134" y="439"/>
                  </a:lnTo>
                  <a:lnTo>
                    <a:pt x="132" y="442"/>
                  </a:lnTo>
                  <a:lnTo>
                    <a:pt x="131" y="442"/>
                  </a:lnTo>
                  <a:lnTo>
                    <a:pt x="130" y="448"/>
                  </a:lnTo>
                  <a:lnTo>
                    <a:pt x="128" y="452"/>
                  </a:lnTo>
                  <a:lnTo>
                    <a:pt x="128" y="460"/>
                  </a:lnTo>
                  <a:lnTo>
                    <a:pt x="125" y="465"/>
                  </a:lnTo>
                  <a:lnTo>
                    <a:pt x="123" y="474"/>
                  </a:lnTo>
                  <a:lnTo>
                    <a:pt x="120" y="476"/>
                  </a:lnTo>
                  <a:lnTo>
                    <a:pt x="117" y="480"/>
                  </a:lnTo>
                  <a:lnTo>
                    <a:pt x="113" y="485"/>
                  </a:lnTo>
                  <a:lnTo>
                    <a:pt x="108" y="489"/>
                  </a:lnTo>
                  <a:lnTo>
                    <a:pt x="102" y="491"/>
                  </a:lnTo>
                  <a:lnTo>
                    <a:pt x="96" y="494"/>
                  </a:lnTo>
                  <a:lnTo>
                    <a:pt x="89" y="495"/>
                  </a:lnTo>
                  <a:lnTo>
                    <a:pt x="82" y="498"/>
                  </a:lnTo>
                  <a:lnTo>
                    <a:pt x="75" y="500"/>
                  </a:lnTo>
                  <a:lnTo>
                    <a:pt x="71" y="501"/>
                  </a:lnTo>
                  <a:lnTo>
                    <a:pt x="68" y="501"/>
                  </a:lnTo>
                  <a:lnTo>
                    <a:pt x="67" y="502"/>
                  </a:lnTo>
                  <a:lnTo>
                    <a:pt x="66" y="501"/>
                  </a:lnTo>
                  <a:lnTo>
                    <a:pt x="63" y="500"/>
                  </a:lnTo>
                  <a:lnTo>
                    <a:pt x="58" y="497"/>
                  </a:lnTo>
                  <a:lnTo>
                    <a:pt x="52" y="495"/>
                  </a:lnTo>
                  <a:lnTo>
                    <a:pt x="45" y="491"/>
                  </a:lnTo>
                  <a:lnTo>
                    <a:pt x="39" y="489"/>
                  </a:lnTo>
                  <a:lnTo>
                    <a:pt x="32" y="486"/>
                  </a:lnTo>
                  <a:lnTo>
                    <a:pt x="26" y="483"/>
                  </a:lnTo>
                  <a:lnTo>
                    <a:pt x="19" y="479"/>
                  </a:lnTo>
                  <a:lnTo>
                    <a:pt x="14" y="476"/>
                  </a:lnTo>
                  <a:lnTo>
                    <a:pt x="9" y="474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947640" y="4221000"/>
              <a:ext cx="63720" cy="705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16"/>
                  </a:moveTo>
                  <a:lnTo>
                    <a:pt x="19" y="0"/>
                  </a:lnTo>
                  <a:lnTo>
                    <a:pt x="42" y="12"/>
                  </a:lnTo>
                  <a:lnTo>
                    <a:pt x="26" y="47"/>
                  </a:lnTo>
                  <a:lnTo>
                    <a:pt x="16" y="4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6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864480" y="4275360"/>
              <a:ext cx="150120" cy="646920"/>
            </a:xfrm>
            <a:custGeom>
              <a:avLst/>
              <a:gdLst/>
              <a:ahLst/>
              <a:rect l="l" t="t" r="r" b="b"/>
              <a:pathLst>
                <a:path w="99" h="429">
                  <a:moveTo>
                    <a:pt x="81" y="11"/>
                  </a:moveTo>
                  <a:lnTo>
                    <a:pt x="82" y="13"/>
                  </a:lnTo>
                  <a:lnTo>
                    <a:pt x="83" y="18"/>
                  </a:lnTo>
                  <a:lnTo>
                    <a:pt x="84" y="25"/>
                  </a:lnTo>
                  <a:lnTo>
                    <a:pt x="85" y="32"/>
                  </a:lnTo>
                  <a:lnTo>
                    <a:pt x="84" y="35"/>
                  </a:lnTo>
                  <a:lnTo>
                    <a:pt x="84" y="37"/>
                  </a:lnTo>
                  <a:lnTo>
                    <a:pt x="82" y="41"/>
                  </a:lnTo>
                  <a:lnTo>
                    <a:pt x="81" y="48"/>
                  </a:lnTo>
                  <a:lnTo>
                    <a:pt x="81" y="51"/>
                  </a:lnTo>
                  <a:lnTo>
                    <a:pt x="79" y="54"/>
                  </a:lnTo>
                  <a:lnTo>
                    <a:pt x="79" y="58"/>
                  </a:lnTo>
                  <a:lnTo>
                    <a:pt x="79" y="63"/>
                  </a:lnTo>
                  <a:lnTo>
                    <a:pt x="79" y="67"/>
                  </a:lnTo>
                  <a:lnTo>
                    <a:pt x="79" y="74"/>
                  </a:lnTo>
                  <a:lnTo>
                    <a:pt x="79" y="81"/>
                  </a:lnTo>
                  <a:lnTo>
                    <a:pt x="81" y="91"/>
                  </a:lnTo>
                  <a:lnTo>
                    <a:pt x="82" y="97"/>
                  </a:lnTo>
                  <a:lnTo>
                    <a:pt x="83" y="107"/>
                  </a:lnTo>
                  <a:lnTo>
                    <a:pt x="84" y="118"/>
                  </a:lnTo>
                  <a:lnTo>
                    <a:pt x="86" y="127"/>
                  </a:lnTo>
                  <a:lnTo>
                    <a:pt x="89" y="138"/>
                  </a:lnTo>
                  <a:lnTo>
                    <a:pt x="91" y="151"/>
                  </a:lnTo>
                  <a:lnTo>
                    <a:pt x="92" y="162"/>
                  </a:lnTo>
                  <a:lnTo>
                    <a:pt x="95" y="175"/>
                  </a:lnTo>
                  <a:lnTo>
                    <a:pt x="95" y="188"/>
                  </a:lnTo>
                  <a:lnTo>
                    <a:pt x="97" y="200"/>
                  </a:lnTo>
                  <a:lnTo>
                    <a:pt x="97" y="212"/>
                  </a:lnTo>
                  <a:lnTo>
                    <a:pt x="99" y="224"/>
                  </a:lnTo>
                  <a:lnTo>
                    <a:pt x="99" y="234"/>
                  </a:lnTo>
                  <a:lnTo>
                    <a:pt x="99" y="246"/>
                  </a:lnTo>
                  <a:lnTo>
                    <a:pt x="98" y="257"/>
                  </a:lnTo>
                  <a:lnTo>
                    <a:pt x="98" y="267"/>
                  </a:lnTo>
                  <a:lnTo>
                    <a:pt x="96" y="275"/>
                  </a:lnTo>
                  <a:lnTo>
                    <a:pt x="93" y="283"/>
                  </a:lnTo>
                  <a:lnTo>
                    <a:pt x="91" y="291"/>
                  </a:lnTo>
                  <a:lnTo>
                    <a:pt x="89" y="299"/>
                  </a:lnTo>
                  <a:lnTo>
                    <a:pt x="84" y="305"/>
                  </a:lnTo>
                  <a:lnTo>
                    <a:pt x="82" y="312"/>
                  </a:lnTo>
                  <a:lnTo>
                    <a:pt x="78" y="317"/>
                  </a:lnTo>
                  <a:lnTo>
                    <a:pt x="75" y="324"/>
                  </a:lnTo>
                  <a:lnTo>
                    <a:pt x="70" y="328"/>
                  </a:lnTo>
                  <a:lnTo>
                    <a:pt x="67" y="334"/>
                  </a:lnTo>
                  <a:lnTo>
                    <a:pt x="63" y="339"/>
                  </a:lnTo>
                  <a:lnTo>
                    <a:pt x="60" y="343"/>
                  </a:lnTo>
                  <a:lnTo>
                    <a:pt x="56" y="349"/>
                  </a:lnTo>
                  <a:lnTo>
                    <a:pt x="53" y="353"/>
                  </a:lnTo>
                  <a:lnTo>
                    <a:pt x="50" y="358"/>
                  </a:lnTo>
                  <a:lnTo>
                    <a:pt x="48" y="364"/>
                  </a:lnTo>
                  <a:lnTo>
                    <a:pt x="47" y="368"/>
                  </a:lnTo>
                  <a:lnTo>
                    <a:pt x="45" y="373"/>
                  </a:lnTo>
                  <a:lnTo>
                    <a:pt x="42" y="379"/>
                  </a:lnTo>
                  <a:lnTo>
                    <a:pt x="42" y="386"/>
                  </a:lnTo>
                  <a:lnTo>
                    <a:pt x="41" y="391"/>
                  </a:lnTo>
                  <a:lnTo>
                    <a:pt x="41" y="395"/>
                  </a:lnTo>
                  <a:lnTo>
                    <a:pt x="41" y="401"/>
                  </a:lnTo>
                  <a:lnTo>
                    <a:pt x="42" y="406"/>
                  </a:lnTo>
                  <a:lnTo>
                    <a:pt x="42" y="416"/>
                  </a:lnTo>
                  <a:lnTo>
                    <a:pt x="42" y="422"/>
                  </a:lnTo>
                  <a:lnTo>
                    <a:pt x="43" y="426"/>
                  </a:lnTo>
                  <a:lnTo>
                    <a:pt x="45" y="429"/>
                  </a:lnTo>
                  <a:lnTo>
                    <a:pt x="0" y="364"/>
                  </a:lnTo>
                  <a:lnTo>
                    <a:pt x="0" y="361"/>
                  </a:lnTo>
                  <a:lnTo>
                    <a:pt x="0" y="355"/>
                  </a:lnTo>
                  <a:lnTo>
                    <a:pt x="0" y="347"/>
                  </a:lnTo>
                  <a:lnTo>
                    <a:pt x="0" y="339"/>
                  </a:lnTo>
                  <a:lnTo>
                    <a:pt x="0" y="332"/>
                  </a:lnTo>
                  <a:lnTo>
                    <a:pt x="0" y="327"/>
                  </a:lnTo>
                  <a:lnTo>
                    <a:pt x="1" y="321"/>
                  </a:lnTo>
                  <a:lnTo>
                    <a:pt x="3" y="316"/>
                  </a:lnTo>
                  <a:lnTo>
                    <a:pt x="5" y="306"/>
                  </a:lnTo>
                  <a:lnTo>
                    <a:pt x="11" y="299"/>
                  </a:lnTo>
                  <a:lnTo>
                    <a:pt x="14" y="291"/>
                  </a:lnTo>
                  <a:lnTo>
                    <a:pt x="19" y="284"/>
                  </a:lnTo>
                  <a:lnTo>
                    <a:pt x="24" y="276"/>
                  </a:lnTo>
                  <a:lnTo>
                    <a:pt x="29" y="268"/>
                  </a:lnTo>
                  <a:lnTo>
                    <a:pt x="31" y="263"/>
                  </a:lnTo>
                  <a:lnTo>
                    <a:pt x="33" y="259"/>
                  </a:lnTo>
                  <a:lnTo>
                    <a:pt x="35" y="253"/>
                  </a:lnTo>
                  <a:lnTo>
                    <a:pt x="38" y="248"/>
                  </a:lnTo>
                  <a:lnTo>
                    <a:pt x="39" y="242"/>
                  </a:lnTo>
                  <a:lnTo>
                    <a:pt x="41" y="235"/>
                  </a:lnTo>
                  <a:lnTo>
                    <a:pt x="42" y="230"/>
                  </a:lnTo>
                  <a:lnTo>
                    <a:pt x="45" y="223"/>
                  </a:lnTo>
                  <a:lnTo>
                    <a:pt x="45" y="215"/>
                  </a:lnTo>
                  <a:lnTo>
                    <a:pt x="45" y="208"/>
                  </a:lnTo>
                  <a:lnTo>
                    <a:pt x="45" y="200"/>
                  </a:lnTo>
                  <a:lnTo>
                    <a:pt x="46" y="193"/>
                  </a:lnTo>
                  <a:lnTo>
                    <a:pt x="45" y="185"/>
                  </a:lnTo>
                  <a:lnTo>
                    <a:pt x="45" y="177"/>
                  </a:lnTo>
                  <a:lnTo>
                    <a:pt x="45" y="168"/>
                  </a:lnTo>
                  <a:lnTo>
                    <a:pt x="45" y="160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3" y="136"/>
                  </a:lnTo>
                  <a:lnTo>
                    <a:pt x="43" y="127"/>
                  </a:lnTo>
                  <a:lnTo>
                    <a:pt x="43" y="119"/>
                  </a:lnTo>
                  <a:lnTo>
                    <a:pt x="43" y="112"/>
                  </a:lnTo>
                  <a:lnTo>
                    <a:pt x="43" y="106"/>
                  </a:lnTo>
                  <a:lnTo>
                    <a:pt x="45" y="100"/>
                  </a:lnTo>
                  <a:lnTo>
                    <a:pt x="45" y="93"/>
                  </a:lnTo>
                  <a:lnTo>
                    <a:pt x="45" y="88"/>
                  </a:lnTo>
                  <a:lnTo>
                    <a:pt x="45" y="82"/>
                  </a:lnTo>
                  <a:lnTo>
                    <a:pt x="45" y="80"/>
                  </a:lnTo>
                  <a:lnTo>
                    <a:pt x="47" y="70"/>
                  </a:lnTo>
                  <a:lnTo>
                    <a:pt x="48" y="65"/>
                  </a:lnTo>
                  <a:lnTo>
                    <a:pt x="50" y="58"/>
                  </a:lnTo>
                  <a:lnTo>
                    <a:pt x="53" y="52"/>
                  </a:lnTo>
                  <a:lnTo>
                    <a:pt x="56" y="46"/>
                  </a:lnTo>
                  <a:lnTo>
                    <a:pt x="59" y="40"/>
                  </a:lnTo>
                  <a:lnTo>
                    <a:pt x="61" y="33"/>
                  </a:lnTo>
                  <a:lnTo>
                    <a:pt x="63" y="28"/>
                  </a:lnTo>
                  <a:lnTo>
                    <a:pt x="66" y="20"/>
                  </a:lnTo>
                  <a:lnTo>
                    <a:pt x="69" y="14"/>
                  </a:lnTo>
                  <a:lnTo>
                    <a:pt x="70" y="9"/>
                  </a:lnTo>
                  <a:lnTo>
                    <a:pt x="72" y="5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81" y="11"/>
                  </a:lnTo>
                  <a:lnTo>
                    <a:pt x="81" y="11"/>
                  </a:lnTo>
                  <a:close/>
                </a:path>
              </a:pathLst>
            </a:custGeom>
            <a:solidFill>
              <a:srgbClr val="996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881040" y="4335480"/>
              <a:ext cx="109440" cy="451080"/>
            </a:xfrm>
            <a:custGeom>
              <a:avLst/>
              <a:gdLst/>
              <a:ahLst/>
              <a:rect l="l" t="t" r="r" b="b"/>
              <a:pathLst>
                <a:path w="72" h="299">
                  <a:moveTo>
                    <a:pt x="39" y="33"/>
                  </a:moveTo>
                  <a:lnTo>
                    <a:pt x="38" y="36"/>
                  </a:lnTo>
                  <a:lnTo>
                    <a:pt x="37" y="42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5"/>
                  </a:lnTo>
                  <a:lnTo>
                    <a:pt x="39" y="60"/>
                  </a:lnTo>
                  <a:lnTo>
                    <a:pt x="39" y="66"/>
                  </a:lnTo>
                  <a:lnTo>
                    <a:pt x="42" y="70"/>
                  </a:lnTo>
                  <a:lnTo>
                    <a:pt x="43" y="75"/>
                  </a:lnTo>
                  <a:lnTo>
                    <a:pt x="45" y="79"/>
                  </a:lnTo>
                  <a:lnTo>
                    <a:pt x="48" y="85"/>
                  </a:lnTo>
                  <a:lnTo>
                    <a:pt x="50" y="87"/>
                  </a:lnTo>
                  <a:lnTo>
                    <a:pt x="49" y="86"/>
                  </a:lnTo>
                  <a:lnTo>
                    <a:pt x="49" y="85"/>
                  </a:lnTo>
                  <a:lnTo>
                    <a:pt x="48" y="79"/>
                  </a:lnTo>
                  <a:lnTo>
                    <a:pt x="48" y="75"/>
                  </a:lnTo>
                  <a:lnTo>
                    <a:pt x="48" y="70"/>
                  </a:lnTo>
                  <a:lnTo>
                    <a:pt x="46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5"/>
                  </a:lnTo>
                  <a:lnTo>
                    <a:pt x="48" y="40"/>
                  </a:lnTo>
                  <a:lnTo>
                    <a:pt x="50" y="33"/>
                  </a:lnTo>
                  <a:lnTo>
                    <a:pt x="52" y="27"/>
                  </a:lnTo>
                  <a:lnTo>
                    <a:pt x="55" y="23"/>
                  </a:lnTo>
                  <a:lnTo>
                    <a:pt x="57" y="19"/>
                  </a:lnTo>
                  <a:lnTo>
                    <a:pt x="58" y="15"/>
                  </a:lnTo>
                  <a:lnTo>
                    <a:pt x="59" y="15"/>
                  </a:lnTo>
                  <a:lnTo>
                    <a:pt x="58" y="15"/>
                  </a:lnTo>
                  <a:lnTo>
                    <a:pt x="58" y="18"/>
                  </a:lnTo>
                  <a:lnTo>
                    <a:pt x="58" y="22"/>
                  </a:lnTo>
                  <a:lnTo>
                    <a:pt x="58" y="27"/>
                  </a:lnTo>
                  <a:lnTo>
                    <a:pt x="58" y="34"/>
                  </a:lnTo>
                  <a:lnTo>
                    <a:pt x="58" y="42"/>
                  </a:lnTo>
                  <a:lnTo>
                    <a:pt x="58" y="46"/>
                  </a:lnTo>
                  <a:lnTo>
                    <a:pt x="58" y="52"/>
                  </a:lnTo>
                  <a:lnTo>
                    <a:pt x="58" y="57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63" y="97"/>
                  </a:lnTo>
                  <a:lnTo>
                    <a:pt x="63" y="102"/>
                  </a:lnTo>
                  <a:lnTo>
                    <a:pt x="64" y="111"/>
                  </a:lnTo>
                  <a:lnTo>
                    <a:pt x="64" y="117"/>
                  </a:lnTo>
                  <a:lnTo>
                    <a:pt x="65" y="124"/>
                  </a:lnTo>
                  <a:lnTo>
                    <a:pt x="65" y="130"/>
                  </a:lnTo>
                  <a:lnTo>
                    <a:pt x="66" y="137"/>
                  </a:lnTo>
                  <a:lnTo>
                    <a:pt x="67" y="143"/>
                  </a:lnTo>
                  <a:lnTo>
                    <a:pt x="67" y="149"/>
                  </a:lnTo>
                  <a:lnTo>
                    <a:pt x="68" y="156"/>
                  </a:lnTo>
                  <a:lnTo>
                    <a:pt x="70" y="161"/>
                  </a:lnTo>
                  <a:lnTo>
                    <a:pt x="70" y="167"/>
                  </a:lnTo>
                  <a:lnTo>
                    <a:pt x="71" y="172"/>
                  </a:lnTo>
                  <a:lnTo>
                    <a:pt x="71" y="178"/>
                  </a:lnTo>
                  <a:lnTo>
                    <a:pt x="71" y="182"/>
                  </a:lnTo>
                  <a:lnTo>
                    <a:pt x="71" y="190"/>
                  </a:lnTo>
                  <a:lnTo>
                    <a:pt x="72" y="199"/>
                  </a:lnTo>
                  <a:lnTo>
                    <a:pt x="71" y="206"/>
                  </a:lnTo>
                  <a:lnTo>
                    <a:pt x="71" y="213"/>
                  </a:lnTo>
                  <a:lnTo>
                    <a:pt x="70" y="219"/>
                  </a:lnTo>
                  <a:lnTo>
                    <a:pt x="68" y="225"/>
                  </a:lnTo>
                  <a:lnTo>
                    <a:pt x="65" y="231"/>
                  </a:lnTo>
                  <a:lnTo>
                    <a:pt x="60" y="236"/>
                  </a:lnTo>
                  <a:lnTo>
                    <a:pt x="57" y="242"/>
                  </a:lnTo>
                  <a:lnTo>
                    <a:pt x="53" y="247"/>
                  </a:lnTo>
                  <a:lnTo>
                    <a:pt x="49" y="253"/>
                  </a:lnTo>
                  <a:lnTo>
                    <a:pt x="44" y="259"/>
                  </a:lnTo>
                  <a:lnTo>
                    <a:pt x="41" y="266"/>
                  </a:lnTo>
                  <a:lnTo>
                    <a:pt x="37" y="276"/>
                  </a:lnTo>
                  <a:lnTo>
                    <a:pt x="34" y="281"/>
                  </a:lnTo>
                  <a:lnTo>
                    <a:pt x="31" y="287"/>
                  </a:lnTo>
                  <a:lnTo>
                    <a:pt x="28" y="291"/>
                  </a:lnTo>
                  <a:lnTo>
                    <a:pt x="27" y="295"/>
                  </a:lnTo>
                  <a:lnTo>
                    <a:pt x="23" y="299"/>
                  </a:lnTo>
                  <a:lnTo>
                    <a:pt x="22" y="299"/>
                  </a:lnTo>
                  <a:lnTo>
                    <a:pt x="0" y="259"/>
                  </a:lnTo>
                  <a:lnTo>
                    <a:pt x="0" y="258"/>
                  </a:lnTo>
                  <a:lnTo>
                    <a:pt x="2" y="254"/>
                  </a:lnTo>
                  <a:lnTo>
                    <a:pt x="3" y="247"/>
                  </a:lnTo>
                  <a:lnTo>
                    <a:pt x="8" y="240"/>
                  </a:lnTo>
                  <a:lnTo>
                    <a:pt x="10" y="235"/>
                  </a:lnTo>
                  <a:lnTo>
                    <a:pt x="13" y="231"/>
                  </a:lnTo>
                  <a:lnTo>
                    <a:pt x="14" y="227"/>
                  </a:lnTo>
                  <a:lnTo>
                    <a:pt x="16" y="221"/>
                  </a:lnTo>
                  <a:lnTo>
                    <a:pt x="18" y="217"/>
                  </a:lnTo>
                  <a:lnTo>
                    <a:pt x="21" y="212"/>
                  </a:lnTo>
                  <a:lnTo>
                    <a:pt x="23" y="206"/>
                  </a:lnTo>
                  <a:lnTo>
                    <a:pt x="25" y="202"/>
                  </a:lnTo>
                  <a:lnTo>
                    <a:pt x="27" y="197"/>
                  </a:lnTo>
                  <a:lnTo>
                    <a:pt x="29" y="191"/>
                  </a:lnTo>
                  <a:lnTo>
                    <a:pt x="30" y="186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6" y="163"/>
                  </a:lnTo>
                  <a:lnTo>
                    <a:pt x="36" y="153"/>
                  </a:lnTo>
                  <a:lnTo>
                    <a:pt x="36" y="145"/>
                  </a:lnTo>
                  <a:lnTo>
                    <a:pt x="36" y="135"/>
                  </a:lnTo>
                  <a:lnTo>
                    <a:pt x="35" y="127"/>
                  </a:lnTo>
                  <a:lnTo>
                    <a:pt x="34" y="122"/>
                  </a:lnTo>
                  <a:lnTo>
                    <a:pt x="32" y="117"/>
                  </a:lnTo>
                  <a:lnTo>
                    <a:pt x="31" y="112"/>
                  </a:lnTo>
                  <a:lnTo>
                    <a:pt x="31" y="108"/>
                  </a:lnTo>
                  <a:lnTo>
                    <a:pt x="30" y="102"/>
                  </a:lnTo>
                  <a:lnTo>
                    <a:pt x="29" y="97"/>
                  </a:lnTo>
                  <a:lnTo>
                    <a:pt x="29" y="93"/>
                  </a:lnTo>
                  <a:lnTo>
                    <a:pt x="29" y="87"/>
                  </a:lnTo>
                  <a:lnTo>
                    <a:pt x="28" y="82"/>
                  </a:lnTo>
                  <a:lnTo>
                    <a:pt x="28" y="78"/>
                  </a:lnTo>
                  <a:lnTo>
                    <a:pt x="28" y="72"/>
                  </a:lnTo>
                  <a:lnTo>
                    <a:pt x="28" y="68"/>
                  </a:lnTo>
                  <a:lnTo>
                    <a:pt x="28" y="59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1" y="40"/>
                  </a:lnTo>
                  <a:lnTo>
                    <a:pt x="32" y="36"/>
                  </a:lnTo>
                  <a:lnTo>
                    <a:pt x="35" y="30"/>
                  </a:lnTo>
                  <a:lnTo>
                    <a:pt x="37" y="23"/>
                  </a:lnTo>
                  <a:lnTo>
                    <a:pt x="41" y="15"/>
                  </a:lnTo>
                  <a:lnTo>
                    <a:pt x="43" y="8"/>
                  </a:lnTo>
                  <a:lnTo>
                    <a:pt x="45" y="4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39" y="33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764040" y="3891960"/>
              <a:ext cx="250200" cy="324000"/>
            </a:xfrm>
            <a:custGeom>
              <a:avLst/>
              <a:gdLst/>
              <a:ahLst/>
              <a:rect l="l" t="t" r="r" b="b"/>
              <a:pathLst>
                <a:path w="165" h="215">
                  <a:moveTo>
                    <a:pt x="147" y="41"/>
                  </a:moveTo>
                  <a:lnTo>
                    <a:pt x="148" y="44"/>
                  </a:lnTo>
                  <a:lnTo>
                    <a:pt x="149" y="48"/>
                  </a:lnTo>
                  <a:lnTo>
                    <a:pt x="151" y="54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58" y="74"/>
                  </a:lnTo>
                  <a:lnTo>
                    <a:pt x="161" y="81"/>
                  </a:lnTo>
                  <a:lnTo>
                    <a:pt x="161" y="89"/>
                  </a:lnTo>
                  <a:lnTo>
                    <a:pt x="163" y="99"/>
                  </a:lnTo>
                  <a:lnTo>
                    <a:pt x="163" y="106"/>
                  </a:lnTo>
                  <a:lnTo>
                    <a:pt x="165" y="115"/>
                  </a:lnTo>
                  <a:lnTo>
                    <a:pt x="165" y="122"/>
                  </a:lnTo>
                  <a:lnTo>
                    <a:pt x="165" y="130"/>
                  </a:lnTo>
                  <a:lnTo>
                    <a:pt x="165" y="137"/>
                  </a:lnTo>
                  <a:lnTo>
                    <a:pt x="165" y="144"/>
                  </a:lnTo>
                  <a:lnTo>
                    <a:pt x="165" y="148"/>
                  </a:lnTo>
                  <a:lnTo>
                    <a:pt x="165" y="153"/>
                  </a:lnTo>
                  <a:lnTo>
                    <a:pt x="165" y="158"/>
                  </a:lnTo>
                  <a:lnTo>
                    <a:pt x="165" y="163"/>
                  </a:lnTo>
                  <a:lnTo>
                    <a:pt x="165" y="170"/>
                  </a:lnTo>
                  <a:lnTo>
                    <a:pt x="163" y="179"/>
                  </a:lnTo>
                  <a:lnTo>
                    <a:pt x="158" y="183"/>
                  </a:lnTo>
                  <a:lnTo>
                    <a:pt x="157" y="189"/>
                  </a:lnTo>
                  <a:lnTo>
                    <a:pt x="154" y="194"/>
                  </a:lnTo>
                  <a:lnTo>
                    <a:pt x="151" y="200"/>
                  </a:lnTo>
                  <a:lnTo>
                    <a:pt x="148" y="204"/>
                  </a:lnTo>
                  <a:lnTo>
                    <a:pt x="147" y="208"/>
                  </a:lnTo>
                  <a:lnTo>
                    <a:pt x="145" y="209"/>
                  </a:lnTo>
                  <a:lnTo>
                    <a:pt x="145" y="212"/>
                  </a:lnTo>
                  <a:lnTo>
                    <a:pt x="114" y="205"/>
                  </a:lnTo>
                  <a:lnTo>
                    <a:pt x="101" y="215"/>
                  </a:lnTo>
                  <a:lnTo>
                    <a:pt x="84" y="215"/>
                  </a:lnTo>
                  <a:lnTo>
                    <a:pt x="66" y="201"/>
                  </a:lnTo>
                  <a:lnTo>
                    <a:pt x="56" y="207"/>
                  </a:lnTo>
                  <a:lnTo>
                    <a:pt x="36" y="174"/>
                  </a:lnTo>
                  <a:lnTo>
                    <a:pt x="10" y="166"/>
                  </a:lnTo>
                  <a:lnTo>
                    <a:pt x="0" y="125"/>
                  </a:lnTo>
                  <a:lnTo>
                    <a:pt x="43" y="51"/>
                  </a:lnTo>
                  <a:lnTo>
                    <a:pt x="95" y="0"/>
                  </a:lnTo>
                  <a:lnTo>
                    <a:pt x="121" y="17"/>
                  </a:lnTo>
                  <a:lnTo>
                    <a:pt x="147" y="41"/>
                  </a:lnTo>
                  <a:lnTo>
                    <a:pt x="147" y="41"/>
                  </a:lnTo>
                  <a:close/>
                </a:path>
              </a:pathLst>
            </a:cu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732000" y="3818160"/>
              <a:ext cx="268560" cy="319680"/>
            </a:xfrm>
            <a:custGeom>
              <a:avLst/>
              <a:gdLst/>
              <a:ahLst/>
              <a:rect l="l" t="t" r="r" b="b"/>
              <a:pathLst>
                <a:path w="177" h="212">
                  <a:moveTo>
                    <a:pt x="128" y="100"/>
                  </a:moveTo>
                  <a:lnTo>
                    <a:pt x="144" y="122"/>
                  </a:lnTo>
                  <a:lnTo>
                    <a:pt x="144" y="120"/>
                  </a:lnTo>
                  <a:lnTo>
                    <a:pt x="144" y="118"/>
                  </a:lnTo>
                  <a:lnTo>
                    <a:pt x="144" y="112"/>
                  </a:lnTo>
                  <a:lnTo>
                    <a:pt x="144" y="108"/>
                  </a:lnTo>
                  <a:lnTo>
                    <a:pt x="144" y="103"/>
                  </a:lnTo>
                  <a:lnTo>
                    <a:pt x="146" y="97"/>
                  </a:lnTo>
                  <a:lnTo>
                    <a:pt x="146" y="93"/>
                  </a:lnTo>
                  <a:lnTo>
                    <a:pt x="148" y="90"/>
                  </a:lnTo>
                  <a:lnTo>
                    <a:pt x="151" y="88"/>
                  </a:lnTo>
                  <a:lnTo>
                    <a:pt x="156" y="89"/>
                  </a:lnTo>
                  <a:lnTo>
                    <a:pt x="161" y="93"/>
                  </a:lnTo>
                  <a:lnTo>
                    <a:pt x="165" y="101"/>
                  </a:lnTo>
                  <a:lnTo>
                    <a:pt x="168" y="108"/>
                  </a:lnTo>
                  <a:lnTo>
                    <a:pt x="170" y="116"/>
                  </a:lnTo>
                  <a:lnTo>
                    <a:pt x="171" y="120"/>
                  </a:lnTo>
                  <a:lnTo>
                    <a:pt x="172" y="123"/>
                  </a:lnTo>
                  <a:lnTo>
                    <a:pt x="173" y="120"/>
                  </a:lnTo>
                  <a:lnTo>
                    <a:pt x="175" y="115"/>
                  </a:lnTo>
                  <a:lnTo>
                    <a:pt x="176" y="111"/>
                  </a:lnTo>
                  <a:lnTo>
                    <a:pt x="176" y="105"/>
                  </a:lnTo>
                  <a:lnTo>
                    <a:pt x="176" y="99"/>
                  </a:lnTo>
                  <a:lnTo>
                    <a:pt x="177" y="93"/>
                  </a:lnTo>
                  <a:lnTo>
                    <a:pt x="175" y="85"/>
                  </a:lnTo>
                  <a:lnTo>
                    <a:pt x="173" y="78"/>
                  </a:lnTo>
                  <a:lnTo>
                    <a:pt x="170" y="70"/>
                  </a:lnTo>
                  <a:lnTo>
                    <a:pt x="168" y="63"/>
                  </a:lnTo>
                  <a:lnTo>
                    <a:pt x="163" y="55"/>
                  </a:lnTo>
                  <a:lnTo>
                    <a:pt x="158" y="48"/>
                  </a:lnTo>
                  <a:lnTo>
                    <a:pt x="155" y="41"/>
                  </a:lnTo>
                  <a:lnTo>
                    <a:pt x="150" y="37"/>
                  </a:lnTo>
                  <a:lnTo>
                    <a:pt x="146" y="32"/>
                  </a:lnTo>
                  <a:lnTo>
                    <a:pt x="141" y="29"/>
                  </a:lnTo>
                  <a:lnTo>
                    <a:pt x="136" y="26"/>
                  </a:lnTo>
                  <a:lnTo>
                    <a:pt x="134" y="25"/>
                  </a:lnTo>
                  <a:lnTo>
                    <a:pt x="127" y="24"/>
                  </a:lnTo>
                  <a:lnTo>
                    <a:pt x="125" y="24"/>
                  </a:lnTo>
                  <a:lnTo>
                    <a:pt x="122" y="21"/>
                  </a:lnTo>
                  <a:lnTo>
                    <a:pt x="118" y="15"/>
                  </a:lnTo>
                  <a:lnTo>
                    <a:pt x="111" y="9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4"/>
                  </a:lnTo>
                  <a:lnTo>
                    <a:pt x="47" y="6"/>
                  </a:lnTo>
                  <a:lnTo>
                    <a:pt x="41" y="9"/>
                  </a:lnTo>
                  <a:lnTo>
                    <a:pt x="35" y="13"/>
                  </a:lnTo>
                  <a:lnTo>
                    <a:pt x="30" y="18"/>
                  </a:lnTo>
                  <a:lnTo>
                    <a:pt x="26" y="24"/>
                  </a:lnTo>
                  <a:lnTo>
                    <a:pt x="21" y="30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3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7"/>
                  </a:lnTo>
                  <a:lnTo>
                    <a:pt x="8" y="75"/>
                  </a:lnTo>
                  <a:lnTo>
                    <a:pt x="7" y="81"/>
                  </a:lnTo>
                  <a:lnTo>
                    <a:pt x="6" y="88"/>
                  </a:lnTo>
                  <a:lnTo>
                    <a:pt x="5" y="95"/>
                  </a:lnTo>
                  <a:lnTo>
                    <a:pt x="5" y="103"/>
                  </a:lnTo>
                  <a:lnTo>
                    <a:pt x="4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0"/>
                  </a:lnTo>
                  <a:lnTo>
                    <a:pt x="2" y="137"/>
                  </a:lnTo>
                  <a:lnTo>
                    <a:pt x="2" y="142"/>
                  </a:lnTo>
                  <a:lnTo>
                    <a:pt x="2" y="148"/>
                  </a:lnTo>
                  <a:lnTo>
                    <a:pt x="2" y="155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1" y="175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9" y="187"/>
                  </a:lnTo>
                  <a:lnTo>
                    <a:pt x="14" y="190"/>
                  </a:lnTo>
                  <a:lnTo>
                    <a:pt x="20" y="194"/>
                  </a:lnTo>
                  <a:lnTo>
                    <a:pt x="26" y="197"/>
                  </a:lnTo>
                  <a:lnTo>
                    <a:pt x="31" y="200"/>
                  </a:lnTo>
                  <a:lnTo>
                    <a:pt x="36" y="202"/>
                  </a:lnTo>
                  <a:lnTo>
                    <a:pt x="42" y="207"/>
                  </a:lnTo>
                  <a:lnTo>
                    <a:pt x="47" y="208"/>
                  </a:lnTo>
                  <a:lnTo>
                    <a:pt x="54" y="211"/>
                  </a:lnTo>
                  <a:lnTo>
                    <a:pt x="56" y="211"/>
                  </a:lnTo>
                  <a:lnTo>
                    <a:pt x="59" y="212"/>
                  </a:lnTo>
                  <a:lnTo>
                    <a:pt x="64" y="212"/>
                  </a:lnTo>
                  <a:lnTo>
                    <a:pt x="68" y="212"/>
                  </a:lnTo>
                  <a:lnTo>
                    <a:pt x="75" y="209"/>
                  </a:lnTo>
                  <a:lnTo>
                    <a:pt x="82" y="205"/>
                  </a:lnTo>
                  <a:lnTo>
                    <a:pt x="88" y="197"/>
                  </a:lnTo>
                  <a:lnTo>
                    <a:pt x="95" y="190"/>
                  </a:lnTo>
                  <a:lnTo>
                    <a:pt x="98" y="186"/>
                  </a:lnTo>
                  <a:lnTo>
                    <a:pt x="100" y="182"/>
                  </a:lnTo>
                  <a:lnTo>
                    <a:pt x="101" y="176"/>
                  </a:lnTo>
                  <a:lnTo>
                    <a:pt x="105" y="172"/>
                  </a:lnTo>
                  <a:lnTo>
                    <a:pt x="106" y="167"/>
                  </a:lnTo>
                  <a:lnTo>
                    <a:pt x="108" y="163"/>
                  </a:lnTo>
                  <a:lnTo>
                    <a:pt x="109" y="157"/>
                  </a:lnTo>
                  <a:lnTo>
                    <a:pt x="111" y="152"/>
                  </a:lnTo>
                  <a:lnTo>
                    <a:pt x="111" y="148"/>
                  </a:lnTo>
                  <a:lnTo>
                    <a:pt x="112" y="142"/>
                  </a:lnTo>
                  <a:lnTo>
                    <a:pt x="113" y="137"/>
                  </a:lnTo>
                  <a:lnTo>
                    <a:pt x="114" y="133"/>
                  </a:lnTo>
                  <a:lnTo>
                    <a:pt x="118" y="123"/>
                  </a:lnTo>
                  <a:lnTo>
                    <a:pt x="121" y="116"/>
                  </a:lnTo>
                  <a:lnTo>
                    <a:pt x="122" y="108"/>
                  </a:lnTo>
                  <a:lnTo>
                    <a:pt x="125" y="104"/>
                  </a:lnTo>
                  <a:lnTo>
                    <a:pt x="127" y="100"/>
                  </a:lnTo>
                  <a:lnTo>
                    <a:pt x="128" y="100"/>
                  </a:lnTo>
                  <a:lnTo>
                    <a:pt x="128" y="10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320440" y="4925160"/>
              <a:ext cx="837000" cy="690840"/>
            </a:xfrm>
            <a:custGeom>
              <a:avLst/>
              <a:gdLst/>
              <a:ahLst/>
              <a:rect l="l" t="t" r="r" b="b"/>
              <a:pathLst>
                <a:path w="551" h="458">
                  <a:moveTo>
                    <a:pt x="56" y="406"/>
                  </a:moveTo>
                  <a:lnTo>
                    <a:pt x="57" y="417"/>
                  </a:lnTo>
                  <a:lnTo>
                    <a:pt x="62" y="430"/>
                  </a:lnTo>
                  <a:lnTo>
                    <a:pt x="54" y="439"/>
                  </a:lnTo>
                  <a:lnTo>
                    <a:pt x="20" y="458"/>
                  </a:lnTo>
                  <a:lnTo>
                    <a:pt x="11" y="428"/>
                  </a:lnTo>
                  <a:lnTo>
                    <a:pt x="12" y="391"/>
                  </a:lnTo>
                  <a:lnTo>
                    <a:pt x="0" y="292"/>
                  </a:lnTo>
                  <a:lnTo>
                    <a:pt x="0" y="271"/>
                  </a:lnTo>
                  <a:lnTo>
                    <a:pt x="0" y="270"/>
                  </a:lnTo>
                  <a:lnTo>
                    <a:pt x="1" y="264"/>
                  </a:lnTo>
                  <a:lnTo>
                    <a:pt x="2" y="259"/>
                  </a:lnTo>
                  <a:lnTo>
                    <a:pt x="6" y="252"/>
                  </a:lnTo>
                  <a:lnTo>
                    <a:pt x="7" y="247"/>
                  </a:lnTo>
                  <a:lnTo>
                    <a:pt x="9" y="241"/>
                  </a:lnTo>
                  <a:lnTo>
                    <a:pt x="12" y="236"/>
                  </a:lnTo>
                  <a:lnTo>
                    <a:pt x="16" y="230"/>
                  </a:lnTo>
                  <a:lnTo>
                    <a:pt x="19" y="222"/>
                  </a:lnTo>
                  <a:lnTo>
                    <a:pt x="23" y="217"/>
                  </a:lnTo>
                  <a:lnTo>
                    <a:pt x="28" y="210"/>
                  </a:lnTo>
                  <a:lnTo>
                    <a:pt x="34" y="204"/>
                  </a:lnTo>
                  <a:lnTo>
                    <a:pt x="38" y="196"/>
                  </a:lnTo>
                  <a:lnTo>
                    <a:pt x="44" y="188"/>
                  </a:lnTo>
                  <a:lnTo>
                    <a:pt x="51" y="180"/>
                  </a:lnTo>
                  <a:lnTo>
                    <a:pt x="58" y="173"/>
                  </a:lnTo>
                  <a:lnTo>
                    <a:pt x="65" y="165"/>
                  </a:lnTo>
                  <a:lnTo>
                    <a:pt x="71" y="158"/>
                  </a:lnTo>
                  <a:lnTo>
                    <a:pt x="78" y="151"/>
                  </a:lnTo>
                  <a:lnTo>
                    <a:pt x="85" y="144"/>
                  </a:lnTo>
                  <a:lnTo>
                    <a:pt x="90" y="137"/>
                  </a:lnTo>
                  <a:lnTo>
                    <a:pt x="97" y="132"/>
                  </a:lnTo>
                  <a:lnTo>
                    <a:pt x="101" y="127"/>
                  </a:lnTo>
                  <a:lnTo>
                    <a:pt x="107" y="124"/>
                  </a:lnTo>
                  <a:lnTo>
                    <a:pt x="113" y="117"/>
                  </a:lnTo>
                  <a:lnTo>
                    <a:pt x="115" y="116"/>
                  </a:lnTo>
                  <a:lnTo>
                    <a:pt x="118" y="116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4" y="116"/>
                  </a:lnTo>
                  <a:lnTo>
                    <a:pt x="140" y="116"/>
                  </a:lnTo>
                  <a:lnTo>
                    <a:pt x="147" y="116"/>
                  </a:lnTo>
                  <a:lnTo>
                    <a:pt x="151" y="113"/>
                  </a:lnTo>
                  <a:lnTo>
                    <a:pt x="156" y="112"/>
                  </a:lnTo>
                  <a:lnTo>
                    <a:pt x="161" y="109"/>
                  </a:lnTo>
                  <a:lnTo>
                    <a:pt x="165" y="107"/>
                  </a:lnTo>
                  <a:lnTo>
                    <a:pt x="171" y="103"/>
                  </a:lnTo>
                  <a:lnTo>
                    <a:pt x="175" y="103"/>
                  </a:lnTo>
                  <a:lnTo>
                    <a:pt x="196" y="88"/>
                  </a:lnTo>
                  <a:lnTo>
                    <a:pt x="212" y="112"/>
                  </a:lnTo>
                  <a:lnTo>
                    <a:pt x="245" y="146"/>
                  </a:lnTo>
                  <a:lnTo>
                    <a:pt x="255" y="112"/>
                  </a:lnTo>
                  <a:lnTo>
                    <a:pt x="271" y="120"/>
                  </a:lnTo>
                  <a:lnTo>
                    <a:pt x="271" y="118"/>
                  </a:lnTo>
                  <a:lnTo>
                    <a:pt x="274" y="118"/>
                  </a:lnTo>
                  <a:lnTo>
                    <a:pt x="276" y="116"/>
                  </a:lnTo>
                  <a:lnTo>
                    <a:pt x="281" y="116"/>
                  </a:lnTo>
                  <a:lnTo>
                    <a:pt x="285" y="113"/>
                  </a:lnTo>
                  <a:lnTo>
                    <a:pt x="292" y="112"/>
                  </a:lnTo>
                  <a:lnTo>
                    <a:pt x="295" y="110"/>
                  </a:lnTo>
                  <a:lnTo>
                    <a:pt x="298" y="109"/>
                  </a:lnTo>
                  <a:lnTo>
                    <a:pt x="303" y="109"/>
                  </a:lnTo>
                  <a:lnTo>
                    <a:pt x="307" y="109"/>
                  </a:lnTo>
                  <a:lnTo>
                    <a:pt x="311" y="107"/>
                  </a:lnTo>
                  <a:lnTo>
                    <a:pt x="314" y="106"/>
                  </a:lnTo>
                  <a:lnTo>
                    <a:pt x="319" y="106"/>
                  </a:lnTo>
                  <a:lnTo>
                    <a:pt x="324" y="105"/>
                  </a:lnTo>
                  <a:lnTo>
                    <a:pt x="327" y="103"/>
                  </a:lnTo>
                  <a:lnTo>
                    <a:pt x="332" y="103"/>
                  </a:lnTo>
                  <a:lnTo>
                    <a:pt x="336" y="102"/>
                  </a:lnTo>
                  <a:lnTo>
                    <a:pt x="342" y="101"/>
                  </a:lnTo>
                  <a:lnTo>
                    <a:pt x="347" y="99"/>
                  </a:lnTo>
                  <a:lnTo>
                    <a:pt x="352" y="98"/>
                  </a:lnTo>
                  <a:lnTo>
                    <a:pt x="357" y="97"/>
                  </a:lnTo>
                  <a:lnTo>
                    <a:pt x="364" y="95"/>
                  </a:lnTo>
                  <a:lnTo>
                    <a:pt x="370" y="91"/>
                  </a:lnTo>
                  <a:lnTo>
                    <a:pt x="377" y="88"/>
                  </a:lnTo>
                  <a:lnTo>
                    <a:pt x="383" y="86"/>
                  </a:lnTo>
                  <a:lnTo>
                    <a:pt x="391" y="84"/>
                  </a:lnTo>
                  <a:lnTo>
                    <a:pt x="398" y="79"/>
                  </a:lnTo>
                  <a:lnTo>
                    <a:pt x="405" y="73"/>
                  </a:lnTo>
                  <a:lnTo>
                    <a:pt x="412" y="69"/>
                  </a:lnTo>
                  <a:lnTo>
                    <a:pt x="421" y="65"/>
                  </a:lnTo>
                  <a:lnTo>
                    <a:pt x="428" y="60"/>
                  </a:lnTo>
                  <a:lnTo>
                    <a:pt x="435" y="54"/>
                  </a:lnTo>
                  <a:lnTo>
                    <a:pt x="444" y="50"/>
                  </a:lnTo>
                  <a:lnTo>
                    <a:pt x="451" y="46"/>
                  </a:lnTo>
                  <a:lnTo>
                    <a:pt x="456" y="41"/>
                  </a:lnTo>
                  <a:lnTo>
                    <a:pt x="463" y="36"/>
                  </a:lnTo>
                  <a:lnTo>
                    <a:pt x="468" y="32"/>
                  </a:lnTo>
                  <a:lnTo>
                    <a:pt x="474" y="30"/>
                  </a:lnTo>
                  <a:lnTo>
                    <a:pt x="477" y="27"/>
                  </a:lnTo>
                  <a:lnTo>
                    <a:pt x="480" y="24"/>
                  </a:lnTo>
                  <a:lnTo>
                    <a:pt x="482" y="24"/>
                  </a:lnTo>
                  <a:lnTo>
                    <a:pt x="483" y="24"/>
                  </a:lnTo>
                  <a:lnTo>
                    <a:pt x="506" y="21"/>
                  </a:lnTo>
                  <a:lnTo>
                    <a:pt x="537" y="0"/>
                  </a:lnTo>
                  <a:lnTo>
                    <a:pt x="545" y="19"/>
                  </a:lnTo>
                  <a:lnTo>
                    <a:pt x="551" y="61"/>
                  </a:lnTo>
                  <a:lnTo>
                    <a:pt x="532" y="79"/>
                  </a:lnTo>
                  <a:lnTo>
                    <a:pt x="531" y="79"/>
                  </a:lnTo>
                  <a:lnTo>
                    <a:pt x="531" y="83"/>
                  </a:lnTo>
                  <a:lnTo>
                    <a:pt x="529" y="87"/>
                  </a:lnTo>
                  <a:lnTo>
                    <a:pt x="526" y="94"/>
                  </a:lnTo>
                  <a:lnTo>
                    <a:pt x="522" y="101"/>
                  </a:lnTo>
                  <a:lnTo>
                    <a:pt x="516" y="109"/>
                  </a:lnTo>
                  <a:lnTo>
                    <a:pt x="512" y="112"/>
                  </a:lnTo>
                  <a:lnTo>
                    <a:pt x="509" y="116"/>
                  </a:lnTo>
                  <a:lnTo>
                    <a:pt x="504" y="118"/>
                  </a:lnTo>
                  <a:lnTo>
                    <a:pt x="499" y="124"/>
                  </a:lnTo>
                  <a:lnTo>
                    <a:pt x="494" y="127"/>
                  </a:lnTo>
                  <a:lnTo>
                    <a:pt x="489" y="129"/>
                  </a:lnTo>
                  <a:lnTo>
                    <a:pt x="482" y="132"/>
                  </a:lnTo>
                  <a:lnTo>
                    <a:pt x="476" y="136"/>
                  </a:lnTo>
                  <a:lnTo>
                    <a:pt x="468" y="139"/>
                  </a:lnTo>
                  <a:lnTo>
                    <a:pt x="461" y="140"/>
                  </a:lnTo>
                  <a:lnTo>
                    <a:pt x="454" y="144"/>
                  </a:lnTo>
                  <a:lnTo>
                    <a:pt x="446" y="148"/>
                  </a:lnTo>
                  <a:lnTo>
                    <a:pt x="438" y="153"/>
                  </a:lnTo>
                  <a:lnTo>
                    <a:pt x="430" y="157"/>
                  </a:lnTo>
                  <a:lnTo>
                    <a:pt x="420" y="162"/>
                  </a:lnTo>
                  <a:lnTo>
                    <a:pt x="411" y="168"/>
                  </a:lnTo>
                  <a:lnTo>
                    <a:pt x="402" y="173"/>
                  </a:lnTo>
                  <a:lnTo>
                    <a:pt x="392" y="180"/>
                  </a:lnTo>
                  <a:lnTo>
                    <a:pt x="383" y="187"/>
                  </a:lnTo>
                  <a:lnTo>
                    <a:pt x="374" y="196"/>
                  </a:lnTo>
                  <a:lnTo>
                    <a:pt x="363" y="203"/>
                  </a:lnTo>
                  <a:lnTo>
                    <a:pt x="354" y="213"/>
                  </a:lnTo>
                  <a:lnTo>
                    <a:pt x="343" y="221"/>
                  </a:lnTo>
                  <a:lnTo>
                    <a:pt x="334" y="230"/>
                  </a:lnTo>
                  <a:lnTo>
                    <a:pt x="325" y="240"/>
                  </a:lnTo>
                  <a:lnTo>
                    <a:pt x="316" y="249"/>
                  </a:lnTo>
                  <a:lnTo>
                    <a:pt x="307" y="260"/>
                  </a:lnTo>
                  <a:lnTo>
                    <a:pt x="300" y="270"/>
                  </a:lnTo>
                  <a:lnTo>
                    <a:pt x="292" y="278"/>
                  </a:lnTo>
                  <a:lnTo>
                    <a:pt x="286" y="286"/>
                  </a:lnTo>
                  <a:lnTo>
                    <a:pt x="279" y="293"/>
                  </a:lnTo>
                  <a:lnTo>
                    <a:pt x="276" y="300"/>
                  </a:lnTo>
                  <a:lnTo>
                    <a:pt x="271" y="304"/>
                  </a:lnTo>
                  <a:lnTo>
                    <a:pt x="269" y="310"/>
                  </a:lnTo>
                  <a:lnTo>
                    <a:pt x="267" y="311"/>
                  </a:lnTo>
                  <a:lnTo>
                    <a:pt x="267" y="312"/>
                  </a:lnTo>
                  <a:lnTo>
                    <a:pt x="242" y="411"/>
                  </a:lnTo>
                  <a:lnTo>
                    <a:pt x="120" y="449"/>
                  </a:lnTo>
                  <a:lnTo>
                    <a:pt x="56" y="406"/>
                  </a:lnTo>
                  <a:lnTo>
                    <a:pt x="56" y="406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685480" y="4961520"/>
              <a:ext cx="464760" cy="484200"/>
            </a:xfrm>
            <a:custGeom>
              <a:avLst/>
              <a:gdLst/>
              <a:ahLst/>
              <a:rect l="l" t="t" r="r" b="b"/>
              <a:pathLst>
                <a:path w="306" h="321">
                  <a:moveTo>
                    <a:pt x="15" y="88"/>
                  </a:moveTo>
                  <a:lnTo>
                    <a:pt x="0" y="113"/>
                  </a:lnTo>
                  <a:lnTo>
                    <a:pt x="10" y="135"/>
                  </a:lnTo>
                  <a:lnTo>
                    <a:pt x="23" y="321"/>
                  </a:lnTo>
                  <a:lnTo>
                    <a:pt x="23" y="318"/>
                  </a:lnTo>
                  <a:lnTo>
                    <a:pt x="27" y="314"/>
                  </a:lnTo>
                  <a:lnTo>
                    <a:pt x="30" y="307"/>
                  </a:lnTo>
                  <a:lnTo>
                    <a:pt x="35" y="299"/>
                  </a:lnTo>
                  <a:lnTo>
                    <a:pt x="37" y="294"/>
                  </a:lnTo>
                  <a:lnTo>
                    <a:pt x="39" y="288"/>
                  </a:lnTo>
                  <a:lnTo>
                    <a:pt x="42" y="283"/>
                  </a:lnTo>
                  <a:lnTo>
                    <a:pt x="44" y="279"/>
                  </a:lnTo>
                  <a:lnTo>
                    <a:pt x="46" y="273"/>
                  </a:lnTo>
                  <a:lnTo>
                    <a:pt x="49" y="268"/>
                  </a:lnTo>
                  <a:lnTo>
                    <a:pt x="51" y="262"/>
                  </a:lnTo>
                  <a:lnTo>
                    <a:pt x="55" y="258"/>
                  </a:lnTo>
                  <a:lnTo>
                    <a:pt x="55" y="253"/>
                  </a:lnTo>
                  <a:lnTo>
                    <a:pt x="57" y="249"/>
                  </a:lnTo>
                  <a:lnTo>
                    <a:pt x="57" y="246"/>
                  </a:lnTo>
                  <a:lnTo>
                    <a:pt x="59" y="243"/>
                  </a:lnTo>
                  <a:lnTo>
                    <a:pt x="62" y="240"/>
                  </a:lnTo>
                  <a:lnTo>
                    <a:pt x="65" y="239"/>
                  </a:lnTo>
                  <a:lnTo>
                    <a:pt x="67" y="238"/>
                  </a:lnTo>
                  <a:lnTo>
                    <a:pt x="71" y="236"/>
                  </a:lnTo>
                  <a:lnTo>
                    <a:pt x="74" y="235"/>
                  </a:lnTo>
                  <a:lnTo>
                    <a:pt x="80" y="232"/>
                  </a:lnTo>
                  <a:lnTo>
                    <a:pt x="85" y="227"/>
                  </a:lnTo>
                  <a:lnTo>
                    <a:pt x="92" y="220"/>
                  </a:lnTo>
                  <a:lnTo>
                    <a:pt x="99" y="212"/>
                  </a:lnTo>
                  <a:lnTo>
                    <a:pt x="107" y="204"/>
                  </a:lnTo>
                  <a:lnTo>
                    <a:pt x="110" y="198"/>
                  </a:lnTo>
                  <a:lnTo>
                    <a:pt x="114" y="194"/>
                  </a:lnTo>
                  <a:lnTo>
                    <a:pt x="119" y="190"/>
                  </a:lnTo>
                  <a:lnTo>
                    <a:pt x="123" y="186"/>
                  </a:lnTo>
                  <a:lnTo>
                    <a:pt x="128" y="180"/>
                  </a:lnTo>
                  <a:lnTo>
                    <a:pt x="133" y="176"/>
                  </a:lnTo>
                  <a:lnTo>
                    <a:pt x="137" y="172"/>
                  </a:lnTo>
                  <a:lnTo>
                    <a:pt x="143" y="169"/>
                  </a:lnTo>
                  <a:lnTo>
                    <a:pt x="148" y="165"/>
                  </a:lnTo>
                  <a:lnTo>
                    <a:pt x="151" y="163"/>
                  </a:lnTo>
                  <a:lnTo>
                    <a:pt x="156" y="160"/>
                  </a:lnTo>
                  <a:lnTo>
                    <a:pt x="161" y="157"/>
                  </a:lnTo>
                  <a:lnTo>
                    <a:pt x="165" y="154"/>
                  </a:lnTo>
                  <a:lnTo>
                    <a:pt x="171" y="153"/>
                  </a:lnTo>
                  <a:lnTo>
                    <a:pt x="174" y="152"/>
                  </a:lnTo>
                  <a:lnTo>
                    <a:pt x="180" y="150"/>
                  </a:lnTo>
                  <a:lnTo>
                    <a:pt x="185" y="148"/>
                  </a:lnTo>
                  <a:lnTo>
                    <a:pt x="190" y="146"/>
                  </a:lnTo>
                  <a:lnTo>
                    <a:pt x="194" y="144"/>
                  </a:lnTo>
                  <a:lnTo>
                    <a:pt x="199" y="144"/>
                  </a:lnTo>
                  <a:lnTo>
                    <a:pt x="204" y="142"/>
                  </a:lnTo>
                  <a:lnTo>
                    <a:pt x="208" y="139"/>
                  </a:lnTo>
                  <a:lnTo>
                    <a:pt x="213" y="138"/>
                  </a:lnTo>
                  <a:lnTo>
                    <a:pt x="219" y="137"/>
                  </a:lnTo>
                  <a:lnTo>
                    <a:pt x="222" y="134"/>
                  </a:lnTo>
                  <a:lnTo>
                    <a:pt x="227" y="131"/>
                  </a:lnTo>
                  <a:lnTo>
                    <a:pt x="232" y="130"/>
                  </a:lnTo>
                  <a:lnTo>
                    <a:pt x="236" y="127"/>
                  </a:lnTo>
                  <a:lnTo>
                    <a:pt x="240" y="124"/>
                  </a:lnTo>
                  <a:lnTo>
                    <a:pt x="244" y="122"/>
                  </a:lnTo>
                  <a:lnTo>
                    <a:pt x="248" y="119"/>
                  </a:lnTo>
                  <a:lnTo>
                    <a:pt x="252" y="116"/>
                  </a:lnTo>
                  <a:lnTo>
                    <a:pt x="259" y="109"/>
                  </a:lnTo>
                  <a:lnTo>
                    <a:pt x="265" y="104"/>
                  </a:lnTo>
                  <a:lnTo>
                    <a:pt x="271" y="97"/>
                  </a:lnTo>
                  <a:lnTo>
                    <a:pt x="277" y="92"/>
                  </a:lnTo>
                  <a:lnTo>
                    <a:pt x="280" y="85"/>
                  </a:lnTo>
                  <a:lnTo>
                    <a:pt x="284" y="77"/>
                  </a:lnTo>
                  <a:lnTo>
                    <a:pt x="286" y="71"/>
                  </a:lnTo>
                  <a:lnTo>
                    <a:pt x="289" y="67"/>
                  </a:lnTo>
                  <a:lnTo>
                    <a:pt x="290" y="62"/>
                  </a:lnTo>
                  <a:lnTo>
                    <a:pt x="291" y="58"/>
                  </a:lnTo>
                  <a:lnTo>
                    <a:pt x="291" y="55"/>
                  </a:lnTo>
                  <a:lnTo>
                    <a:pt x="292" y="55"/>
                  </a:lnTo>
                  <a:lnTo>
                    <a:pt x="306" y="36"/>
                  </a:lnTo>
                  <a:lnTo>
                    <a:pt x="305" y="6"/>
                  </a:lnTo>
                  <a:lnTo>
                    <a:pt x="287" y="0"/>
                  </a:lnTo>
                  <a:lnTo>
                    <a:pt x="277" y="8"/>
                  </a:lnTo>
                  <a:lnTo>
                    <a:pt x="284" y="41"/>
                  </a:lnTo>
                  <a:lnTo>
                    <a:pt x="272" y="25"/>
                  </a:lnTo>
                  <a:lnTo>
                    <a:pt x="268" y="58"/>
                  </a:lnTo>
                  <a:lnTo>
                    <a:pt x="266" y="55"/>
                  </a:lnTo>
                  <a:lnTo>
                    <a:pt x="263" y="55"/>
                  </a:lnTo>
                  <a:lnTo>
                    <a:pt x="259" y="53"/>
                  </a:lnTo>
                  <a:lnTo>
                    <a:pt x="257" y="52"/>
                  </a:lnTo>
                  <a:lnTo>
                    <a:pt x="252" y="52"/>
                  </a:lnTo>
                  <a:lnTo>
                    <a:pt x="248" y="53"/>
                  </a:lnTo>
                  <a:lnTo>
                    <a:pt x="240" y="53"/>
                  </a:lnTo>
                  <a:lnTo>
                    <a:pt x="234" y="55"/>
                  </a:lnTo>
                  <a:lnTo>
                    <a:pt x="227" y="58"/>
                  </a:lnTo>
                  <a:lnTo>
                    <a:pt x="220" y="60"/>
                  </a:lnTo>
                  <a:lnTo>
                    <a:pt x="213" y="63"/>
                  </a:lnTo>
                  <a:lnTo>
                    <a:pt x="206" y="66"/>
                  </a:lnTo>
                  <a:lnTo>
                    <a:pt x="200" y="68"/>
                  </a:lnTo>
                  <a:lnTo>
                    <a:pt x="197" y="73"/>
                  </a:lnTo>
                  <a:lnTo>
                    <a:pt x="192" y="77"/>
                  </a:lnTo>
                  <a:lnTo>
                    <a:pt x="193" y="81"/>
                  </a:lnTo>
                  <a:lnTo>
                    <a:pt x="195" y="82"/>
                  </a:lnTo>
                  <a:lnTo>
                    <a:pt x="200" y="82"/>
                  </a:lnTo>
                  <a:lnTo>
                    <a:pt x="205" y="83"/>
                  </a:lnTo>
                  <a:lnTo>
                    <a:pt x="213" y="85"/>
                  </a:lnTo>
                  <a:lnTo>
                    <a:pt x="219" y="83"/>
                  </a:lnTo>
                  <a:lnTo>
                    <a:pt x="228" y="82"/>
                  </a:lnTo>
                  <a:lnTo>
                    <a:pt x="235" y="82"/>
                  </a:lnTo>
                  <a:lnTo>
                    <a:pt x="243" y="82"/>
                  </a:lnTo>
                  <a:lnTo>
                    <a:pt x="249" y="79"/>
                  </a:lnTo>
                  <a:lnTo>
                    <a:pt x="255" y="79"/>
                  </a:lnTo>
                  <a:lnTo>
                    <a:pt x="259" y="79"/>
                  </a:lnTo>
                  <a:lnTo>
                    <a:pt x="262" y="79"/>
                  </a:lnTo>
                  <a:lnTo>
                    <a:pt x="261" y="79"/>
                  </a:lnTo>
                  <a:lnTo>
                    <a:pt x="259" y="82"/>
                  </a:lnTo>
                  <a:lnTo>
                    <a:pt x="256" y="86"/>
                  </a:lnTo>
                  <a:lnTo>
                    <a:pt x="252" y="92"/>
                  </a:lnTo>
                  <a:lnTo>
                    <a:pt x="247" y="96"/>
                  </a:lnTo>
                  <a:lnTo>
                    <a:pt x="241" y="101"/>
                  </a:lnTo>
                  <a:lnTo>
                    <a:pt x="234" y="104"/>
                  </a:lnTo>
                  <a:lnTo>
                    <a:pt x="226" y="107"/>
                  </a:lnTo>
                  <a:lnTo>
                    <a:pt x="221" y="105"/>
                  </a:lnTo>
                  <a:lnTo>
                    <a:pt x="216" y="105"/>
                  </a:lnTo>
                  <a:lnTo>
                    <a:pt x="213" y="104"/>
                  </a:lnTo>
                  <a:lnTo>
                    <a:pt x="208" y="104"/>
                  </a:lnTo>
                  <a:lnTo>
                    <a:pt x="205" y="103"/>
                  </a:lnTo>
                  <a:lnTo>
                    <a:pt x="200" y="101"/>
                  </a:lnTo>
                  <a:lnTo>
                    <a:pt x="195" y="100"/>
                  </a:lnTo>
                  <a:lnTo>
                    <a:pt x="191" y="98"/>
                  </a:lnTo>
                  <a:lnTo>
                    <a:pt x="186" y="96"/>
                  </a:lnTo>
                  <a:lnTo>
                    <a:pt x="181" y="94"/>
                  </a:lnTo>
                  <a:lnTo>
                    <a:pt x="177" y="93"/>
                  </a:lnTo>
                  <a:lnTo>
                    <a:pt x="172" y="93"/>
                  </a:lnTo>
                  <a:lnTo>
                    <a:pt x="164" y="92"/>
                  </a:lnTo>
                  <a:lnTo>
                    <a:pt x="158" y="94"/>
                  </a:lnTo>
                  <a:lnTo>
                    <a:pt x="151" y="96"/>
                  </a:lnTo>
                  <a:lnTo>
                    <a:pt x="148" y="101"/>
                  </a:lnTo>
                  <a:lnTo>
                    <a:pt x="143" y="107"/>
                  </a:lnTo>
                  <a:lnTo>
                    <a:pt x="140" y="113"/>
                  </a:lnTo>
                  <a:lnTo>
                    <a:pt x="136" y="119"/>
                  </a:lnTo>
                  <a:lnTo>
                    <a:pt x="133" y="127"/>
                  </a:lnTo>
                  <a:lnTo>
                    <a:pt x="129" y="133"/>
                  </a:lnTo>
                  <a:lnTo>
                    <a:pt x="126" y="139"/>
                  </a:lnTo>
                  <a:lnTo>
                    <a:pt x="121" y="142"/>
                  </a:lnTo>
                  <a:lnTo>
                    <a:pt x="115" y="145"/>
                  </a:lnTo>
                  <a:lnTo>
                    <a:pt x="109" y="146"/>
                  </a:lnTo>
                  <a:lnTo>
                    <a:pt x="105" y="148"/>
                  </a:lnTo>
                  <a:lnTo>
                    <a:pt x="99" y="146"/>
                  </a:lnTo>
                  <a:lnTo>
                    <a:pt x="94" y="145"/>
                  </a:lnTo>
                  <a:lnTo>
                    <a:pt x="90" y="142"/>
                  </a:lnTo>
                  <a:lnTo>
                    <a:pt x="86" y="141"/>
                  </a:lnTo>
                  <a:lnTo>
                    <a:pt x="84" y="135"/>
                  </a:lnTo>
                  <a:lnTo>
                    <a:pt x="83" y="131"/>
                  </a:lnTo>
                  <a:lnTo>
                    <a:pt x="80" y="127"/>
                  </a:lnTo>
                  <a:lnTo>
                    <a:pt x="80" y="122"/>
                  </a:lnTo>
                  <a:lnTo>
                    <a:pt x="78" y="116"/>
                  </a:lnTo>
                  <a:lnTo>
                    <a:pt x="78" y="112"/>
                  </a:lnTo>
                  <a:lnTo>
                    <a:pt x="76" y="109"/>
                  </a:lnTo>
                  <a:lnTo>
                    <a:pt x="73" y="107"/>
                  </a:lnTo>
                  <a:lnTo>
                    <a:pt x="70" y="104"/>
                  </a:lnTo>
                  <a:lnTo>
                    <a:pt x="65" y="103"/>
                  </a:lnTo>
                  <a:lnTo>
                    <a:pt x="58" y="103"/>
                  </a:lnTo>
                  <a:lnTo>
                    <a:pt x="55" y="103"/>
                  </a:lnTo>
                  <a:lnTo>
                    <a:pt x="49" y="103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42" y="104"/>
                  </a:lnTo>
                  <a:lnTo>
                    <a:pt x="46" y="107"/>
                  </a:lnTo>
                  <a:lnTo>
                    <a:pt x="50" y="111"/>
                  </a:lnTo>
                  <a:lnTo>
                    <a:pt x="56" y="116"/>
                  </a:lnTo>
                  <a:lnTo>
                    <a:pt x="57" y="124"/>
                  </a:lnTo>
                  <a:lnTo>
                    <a:pt x="57" y="134"/>
                  </a:lnTo>
                  <a:lnTo>
                    <a:pt x="56" y="141"/>
                  </a:lnTo>
                  <a:lnTo>
                    <a:pt x="56" y="144"/>
                  </a:lnTo>
                  <a:lnTo>
                    <a:pt x="31" y="116"/>
                  </a:lnTo>
                  <a:lnTo>
                    <a:pt x="15" y="88"/>
                  </a:lnTo>
                  <a:lnTo>
                    <a:pt x="15" y="88"/>
                  </a:lnTo>
                  <a:close/>
                </a:path>
              </a:pathLst>
            </a:custGeom>
            <a:solidFill>
              <a:srgbClr val="d1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394960" y="5124600"/>
              <a:ext cx="312840" cy="473400"/>
            </a:xfrm>
            <a:custGeom>
              <a:avLst/>
              <a:gdLst/>
              <a:ahLst/>
              <a:rect l="l" t="t" r="r" b="b"/>
              <a:pathLst>
                <a:path w="206" h="314">
                  <a:moveTo>
                    <a:pt x="7" y="265"/>
                  </a:moveTo>
                  <a:lnTo>
                    <a:pt x="14" y="228"/>
                  </a:lnTo>
                  <a:lnTo>
                    <a:pt x="13" y="160"/>
                  </a:lnTo>
                  <a:lnTo>
                    <a:pt x="0" y="132"/>
                  </a:lnTo>
                  <a:lnTo>
                    <a:pt x="14" y="134"/>
                  </a:lnTo>
                  <a:lnTo>
                    <a:pt x="51" y="107"/>
                  </a:lnTo>
                  <a:lnTo>
                    <a:pt x="99" y="40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5"/>
                  </a:lnTo>
                  <a:lnTo>
                    <a:pt x="104" y="59"/>
                  </a:lnTo>
                  <a:lnTo>
                    <a:pt x="105" y="66"/>
                  </a:lnTo>
                  <a:lnTo>
                    <a:pt x="105" y="71"/>
                  </a:lnTo>
                  <a:lnTo>
                    <a:pt x="106" y="78"/>
                  </a:lnTo>
                  <a:lnTo>
                    <a:pt x="106" y="83"/>
                  </a:lnTo>
                  <a:lnTo>
                    <a:pt x="106" y="92"/>
                  </a:lnTo>
                  <a:lnTo>
                    <a:pt x="106" y="98"/>
                  </a:lnTo>
                  <a:lnTo>
                    <a:pt x="105" y="105"/>
                  </a:lnTo>
                  <a:lnTo>
                    <a:pt x="104" y="113"/>
                  </a:lnTo>
                  <a:lnTo>
                    <a:pt x="102" y="120"/>
                  </a:lnTo>
                  <a:lnTo>
                    <a:pt x="99" y="127"/>
                  </a:lnTo>
                  <a:lnTo>
                    <a:pt x="97" y="134"/>
                  </a:lnTo>
                  <a:lnTo>
                    <a:pt x="93" y="141"/>
                  </a:lnTo>
                  <a:lnTo>
                    <a:pt x="91" y="148"/>
                  </a:lnTo>
                  <a:lnTo>
                    <a:pt x="87" y="153"/>
                  </a:lnTo>
                  <a:lnTo>
                    <a:pt x="85" y="158"/>
                  </a:lnTo>
                  <a:lnTo>
                    <a:pt x="81" y="164"/>
                  </a:lnTo>
                  <a:lnTo>
                    <a:pt x="79" y="171"/>
                  </a:lnTo>
                  <a:lnTo>
                    <a:pt x="74" y="179"/>
                  </a:lnTo>
                  <a:lnTo>
                    <a:pt x="71" y="187"/>
                  </a:lnTo>
                  <a:lnTo>
                    <a:pt x="70" y="193"/>
                  </a:lnTo>
                  <a:lnTo>
                    <a:pt x="71" y="197"/>
                  </a:lnTo>
                  <a:lnTo>
                    <a:pt x="74" y="198"/>
                  </a:lnTo>
                  <a:lnTo>
                    <a:pt x="81" y="198"/>
                  </a:lnTo>
                  <a:lnTo>
                    <a:pt x="85" y="198"/>
                  </a:lnTo>
                  <a:lnTo>
                    <a:pt x="90" y="198"/>
                  </a:lnTo>
                  <a:lnTo>
                    <a:pt x="93" y="197"/>
                  </a:lnTo>
                  <a:lnTo>
                    <a:pt x="98" y="197"/>
                  </a:lnTo>
                  <a:lnTo>
                    <a:pt x="106" y="195"/>
                  </a:lnTo>
                  <a:lnTo>
                    <a:pt x="113" y="195"/>
                  </a:lnTo>
                  <a:lnTo>
                    <a:pt x="118" y="197"/>
                  </a:lnTo>
                  <a:lnTo>
                    <a:pt x="120" y="201"/>
                  </a:lnTo>
                  <a:lnTo>
                    <a:pt x="118" y="205"/>
                  </a:lnTo>
                  <a:lnTo>
                    <a:pt x="113" y="213"/>
                  </a:lnTo>
                  <a:lnTo>
                    <a:pt x="106" y="221"/>
                  </a:lnTo>
                  <a:lnTo>
                    <a:pt x="98" y="231"/>
                  </a:lnTo>
                  <a:lnTo>
                    <a:pt x="93" y="235"/>
                  </a:lnTo>
                  <a:lnTo>
                    <a:pt x="90" y="240"/>
                  </a:lnTo>
                  <a:lnTo>
                    <a:pt x="85" y="244"/>
                  </a:lnTo>
                  <a:lnTo>
                    <a:pt x="81" y="250"/>
                  </a:lnTo>
                  <a:lnTo>
                    <a:pt x="74" y="257"/>
                  </a:lnTo>
                  <a:lnTo>
                    <a:pt x="71" y="264"/>
                  </a:lnTo>
                  <a:lnTo>
                    <a:pt x="69" y="266"/>
                  </a:lnTo>
                  <a:lnTo>
                    <a:pt x="71" y="268"/>
                  </a:lnTo>
                  <a:lnTo>
                    <a:pt x="73" y="266"/>
                  </a:lnTo>
                  <a:lnTo>
                    <a:pt x="79" y="266"/>
                  </a:lnTo>
                  <a:lnTo>
                    <a:pt x="84" y="265"/>
                  </a:lnTo>
                  <a:lnTo>
                    <a:pt x="91" y="264"/>
                  </a:lnTo>
                  <a:lnTo>
                    <a:pt x="97" y="262"/>
                  </a:lnTo>
                  <a:lnTo>
                    <a:pt x="104" y="264"/>
                  </a:lnTo>
                  <a:lnTo>
                    <a:pt x="107" y="265"/>
                  </a:lnTo>
                  <a:lnTo>
                    <a:pt x="111" y="268"/>
                  </a:lnTo>
                  <a:lnTo>
                    <a:pt x="114" y="270"/>
                  </a:lnTo>
                  <a:lnTo>
                    <a:pt x="116" y="276"/>
                  </a:lnTo>
                  <a:lnTo>
                    <a:pt x="119" y="280"/>
                  </a:lnTo>
                  <a:lnTo>
                    <a:pt x="122" y="283"/>
                  </a:lnTo>
                  <a:lnTo>
                    <a:pt x="126" y="284"/>
                  </a:lnTo>
                  <a:lnTo>
                    <a:pt x="132" y="285"/>
                  </a:lnTo>
                  <a:lnTo>
                    <a:pt x="136" y="283"/>
                  </a:lnTo>
                  <a:lnTo>
                    <a:pt x="142" y="280"/>
                  </a:lnTo>
                  <a:lnTo>
                    <a:pt x="148" y="274"/>
                  </a:lnTo>
                  <a:lnTo>
                    <a:pt x="155" y="269"/>
                  </a:lnTo>
                  <a:lnTo>
                    <a:pt x="159" y="262"/>
                  </a:lnTo>
                  <a:lnTo>
                    <a:pt x="165" y="254"/>
                  </a:lnTo>
                  <a:lnTo>
                    <a:pt x="169" y="247"/>
                  </a:lnTo>
                  <a:lnTo>
                    <a:pt x="171" y="242"/>
                  </a:lnTo>
                  <a:lnTo>
                    <a:pt x="171" y="236"/>
                  </a:lnTo>
                  <a:lnTo>
                    <a:pt x="170" y="231"/>
                  </a:lnTo>
                  <a:lnTo>
                    <a:pt x="166" y="227"/>
                  </a:lnTo>
                  <a:lnTo>
                    <a:pt x="163" y="224"/>
                  </a:lnTo>
                  <a:lnTo>
                    <a:pt x="157" y="217"/>
                  </a:lnTo>
                  <a:lnTo>
                    <a:pt x="156" y="212"/>
                  </a:lnTo>
                  <a:lnTo>
                    <a:pt x="156" y="206"/>
                  </a:lnTo>
                  <a:lnTo>
                    <a:pt x="159" y="202"/>
                  </a:lnTo>
                  <a:lnTo>
                    <a:pt x="162" y="197"/>
                  </a:lnTo>
                  <a:lnTo>
                    <a:pt x="166" y="193"/>
                  </a:lnTo>
                  <a:lnTo>
                    <a:pt x="170" y="187"/>
                  </a:lnTo>
                  <a:lnTo>
                    <a:pt x="175" y="182"/>
                  </a:lnTo>
                  <a:lnTo>
                    <a:pt x="178" y="176"/>
                  </a:lnTo>
                  <a:lnTo>
                    <a:pt x="182" y="172"/>
                  </a:lnTo>
                  <a:lnTo>
                    <a:pt x="183" y="163"/>
                  </a:lnTo>
                  <a:lnTo>
                    <a:pt x="180" y="158"/>
                  </a:lnTo>
                  <a:lnTo>
                    <a:pt x="178" y="153"/>
                  </a:lnTo>
                  <a:lnTo>
                    <a:pt x="177" y="150"/>
                  </a:lnTo>
                  <a:lnTo>
                    <a:pt x="177" y="146"/>
                  </a:lnTo>
                  <a:lnTo>
                    <a:pt x="180" y="142"/>
                  </a:lnTo>
                  <a:lnTo>
                    <a:pt x="183" y="138"/>
                  </a:lnTo>
                  <a:lnTo>
                    <a:pt x="184" y="135"/>
                  </a:lnTo>
                  <a:lnTo>
                    <a:pt x="186" y="130"/>
                  </a:lnTo>
                  <a:lnTo>
                    <a:pt x="189" y="124"/>
                  </a:lnTo>
                  <a:lnTo>
                    <a:pt x="189" y="116"/>
                  </a:lnTo>
                  <a:lnTo>
                    <a:pt x="191" y="109"/>
                  </a:lnTo>
                  <a:lnTo>
                    <a:pt x="191" y="101"/>
                  </a:lnTo>
                  <a:lnTo>
                    <a:pt x="191" y="93"/>
                  </a:lnTo>
                  <a:lnTo>
                    <a:pt x="191" y="86"/>
                  </a:lnTo>
                  <a:lnTo>
                    <a:pt x="191" y="81"/>
                  </a:lnTo>
                  <a:lnTo>
                    <a:pt x="191" y="76"/>
                  </a:lnTo>
                  <a:lnTo>
                    <a:pt x="191" y="76"/>
                  </a:lnTo>
                  <a:lnTo>
                    <a:pt x="168" y="86"/>
                  </a:lnTo>
                  <a:lnTo>
                    <a:pt x="134" y="0"/>
                  </a:lnTo>
                  <a:lnTo>
                    <a:pt x="173" y="66"/>
                  </a:lnTo>
                  <a:lnTo>
                    <a:pt x="197" y="34"/>
                  </a:lnTo>
                  <a:lnTo>
                    <a:pt x="206" y="71"/>
                  </a:lnTo>
                  <a:lnTo>
                    <a:pt x="206" y="72"/>
                  </a:lnTo>
                  <a:lnTo>
                    <a:pt x="206" y="78"/>
                  </a:lnTo>
                  <a:lnTo>
                    <a:pt x="205" y="81"/>
                  </a:lnTo>
                  <a:lnTo>
                    <a:pt x="205" y="86"/>
                  </a:lnTo>
                  <a:lnTo>
                    <a:pt x="205" y="92"/>
                  </a:lnTo>
                  <a:lnTo>
                    <a:pt x="205" y="98"/>
                  </a:lnTo>
                  <a:lnTo>
                    <a:pt x="204" y="104"/>
                  </a:lnTo>
                  <a:lnTo>
                    <a:pt x="204" y="108"/>
                  </a:lnTo>
                  <a:lnTo>
                    <a:pt x="203" y="113"/>
                  </a:lnTo>
                  <a:lnTo>
                    <a:pt x="203" y="120"/>
                  </a:lnTo>
                  <a:lnTo>
                    <a:pt x="201" y="124"/>
                  </a:lnTo>
                  <a:lnTo>
                    <a:pt x="201" y="130"/>
                  </a:lnTo>
                  <a:lnTo>
                    <a:pt x="200" y="132"/>
                  </a:lnTo>
                  <a:lnTo>
                    <a:pt x="200" y="138"/>
                  </a:lnTo>
                  <a:lnTo>
                    <a:pt x="194" y="143"/>
                  </a:lnTo>
                  <a:lnTo>
                    <a:pt x="191" y="148"/>
                  </a:lnTo>
                  <a:lnTo>
                    <a:pt x="187" y="150"/>
                  </a:lnTo>
                  <a:lnTo>
                    <a:pt x="186" y="153"/>
                  </a:lnTo>
                  <a:lnTo>
                    <a:pt x="187" y="158"/>
                  </a:lnTo>
                  <a:lnTo>
                    <a:pt x="189" y="167"/>
                  </a:lnTo>
                  <a:lnTo>
                    <a:pt x="191" y="175"/>
                  </a:lnTo>
                  <a:lnTo>
                    <a:pt x="190" y="183"/>
                  </a:lnTo>
                  <a:lnTo>
                    <a:pt x="185" y="187"/>
                  </a:lnTo>
                  <a:lnTo>
                    <a:pt x="179" y="191"/>
                  </a:lnTo>
                  <a:lnTo>
                    <a:pt x="176" y="194"/>
                  </a:lnTo>
                  <a:lnTo>
                    <a:pt x="173" y="198"/>
                  </a:lnTo>
                  <a:lnTo>
                    <a:pt x="171" y="202"/>
                  </a:lnTo>
                  <a:lnTo>
                    <a:pt x="171" y="208"/>
                  </a:lnTo>
                  <a:lnTo>
                    <a:pt x="172" y="213"/>
                  </a:lnTo>
                  <a:lnTo>
                    <a:pt x="173" y="220"/>
                  </a:lnTo>
                  <a:lnTo>
                    <a:pt x="176" y="228"/>
                  </a:lnTo>
                  <a:lnTo>
                    <a:pt x="179" y="235"/>
                  </a:lnTo>
                  <a:lnTo>
                    <a:pt x="182" y="240"/>
                  </a:lnTo>
                  <a:lnTo>
                    <a:pt x="184" y="246"/>
                  </a:lnTo>
                  <a:lnTo>
                    <a:pt x="185" y="250"/>
                  </a:lnTo>
                  <a:lnTo>
                    <a:pt x="186" y="251"/>
                  </a:lnTo>
                  <a:lnTo>
                    <a:pt x="147" y="303"/>
                  </a:lnTo>
                  <a:lnTo>
                    <a:pt x="144" y="303"/>
                  </a:lnTo>
                  <a:lnTo>
                    <a:pt x="141" y="305"/>
                  </a:lnTo>
                  <a:lnTo>
                    <a:pt x="136" y="307"/>
                  </a:lnTo>
                  <a:lnTo>
                    <a:pt x="129" y="310"/>
                  </a:lnTo>
                  <a:lnTo>
                    <a:pt x="126" y="310"/>
                  </a:lnTo>
                  <a:lnTo>
                    <a:pt x="121" y="311"/>
                  </a:lnTo>
                  <a:lnTo>
                    <a:pt x="116" y="311"/>
                  </a:lnTo>
                  <a:lnTo>
                    <a:pt x="112" y="313"/>
                  </a:lnTo>
                  <a:lnTo>
                    <a:pt x="106" y="313"/>
                  </a:lnTo>
                  <a:lnTo>
                    <a:pt x="101" y="314"/>
                  </a:lnTo>
                  <a:lnTo>
                    <a:pt x="95" y="314"/>
                  </a:lnTo>
                  <a:lnTo>
                    <a:pt x="91" y="314"/>
                  </a:lnTo>
                  <a:lnTo>
                    <a:pt x="84" y="313"/>
                  </a:lnTo>
                  <a:lnTo>
                    <a:pt x="79" y="311"/>
                  </a:lnTo>
                  <a:lnTo>
                    <a:pt x="72" y="310"/>
                  </a:lnTo>
                  <a:lnTo>
                    <a:pt x="67" y="310"/>
                  </a:lnTo>
                  <a:lnTo>
                    <a:pt x="62" y="307"/>
                  </a:lnTo>
                  <a:lnTo>
                    <a:pt x="57" y="306"/>
                  </a:lnTo>
                  <a:lnTo>
                    <a:pt x="52" y="305"/>
                  </a:lnTo>
                  <a:lnTo>
                    <a:pt x="48" y="302"/>
                  </a:lnTo>
                  <a:lnTo>
                    <a:pt x="43" y="299"/>
                  </a:lnTo>
                  <a:lnTo>
                    <a:pt x="40" y="298"/>
                  </a:lnTo>
                  <a:lnTo>
                    <a:pt x="36" y="296"/>
                  </a:lnTo>
                  <a:lnTo>
                    <a:pt x="34" y="295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30" y="292"/>
                  </a:lnTo>
                  <a:lnTo>
                    <a:pt x="33" y="292"/>
                  </a:lnTo>
                  <a:lnTo>
                    <a:pt x="37" y="291"/>
                  </a:lnTo>
                  <a:lnTo>
                    <a:pt x="43" y="291"/>
                  </a:lnTo>
                  <a:lnTo>
                    <a:pt x="48" y="290"/>
                  </a:lnTo>
                  <a:lnTo>
                    <a:pt x="52" y="287"/>
                  </a:lnTo>
                  <a:lnTo>
                    <a:pt x="56" y="285"/>
                  </a:lnTo>
                  <a:lnTo>
                    <a:pt x="58" y="284"/>
                  </a:lnTo>
                  <a:lnTo>
                    <a:pt x="58" y="280"/>
                  </a:lnTo>
                  <a:lnTo>
                    <a:pt x="56" y="277"/>
                  </a:lnTo>
                  <a:lnTo>
                    <a:pt x="52" y="274"/>
                  </a:lnTo>
                  <a:lnTo>
                    <a:pt x="49" y="272"/>
                  </a:lnTo>
                  <a:lnTo>
                    <a:pt x="43" y="269"/>
                  </a:lnTo>
                  <a:lnTo>
                    <a:pt x="37" y="266"/>
                  </a:lnTo>
                  <a:lnTo>
                    <a:pt x="30" y="265"/>
                  </a:lnTo>
                  <a:lnTo>
                    <a:pt x="26" y="264"/>
                  </a:lnTo>
                  <a:lnTo>
                    <a:pt x="21" y="262"/>
                  </a:lnTo>
                  <a:lnTo>
                    <a:pt x="17" y="262"/>
                  </a:lnTo>
                  <a:lnTo>
                    <a:pt x="14" y="262"/>
                  </a:lnTo>
                  <a:lnTo>
                    <a:pt x="12" y="262"/>
                  </a:lnTo>
                  <a:lnTo>
                    <a:pt x="7" y="264"/>
                  </a:lnTo>
                  <a:lnTo>
                    <a:pt x="7" y="265"/>
                  </a:lnTo>
                  <a:lnTo>
                    <a:pt x="7" y="265"/>
                  </a:lnTo>
                  <a:close/>
                </a:path>
              </a:pathLst>
            </a:custGeom>
            <a:solidFill>
              <a:srgbClr val="d1d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639400" y="5807880"/>
              <a:ext cx="236880" cy="285120"/>
            </a:xfrm>
            <a:custGeom>
              <a:avLst/>
              <a:gdLst/>
              <a:ahLst/>
              <a:rect l="l" t="t" r="r" b="b"/>
              <a:pathLst>
                <a:path w="156" h="189">
                  <a:moveTo>
                    <a:pt x="0" y="170"/>
                  </a:moveTo>
                  <a:lnTo>
                    <a:pt x="0" y="168"/>
                  </a:lnTo>
                  <a:lnTo>
                    <a:pt x="4" y="167"/>
                  </a:lnTo>
                  <a:lnTo>
                    <a:pt x="9" y="164"/>
                  </a:lnTo>
                  <a:lnTo>
                    <a:pt x="16" y="161"/>
                  </a:lnTo>
                  <a:lnTo>
                    <a:pt x="23" y="157"/>
                  </a:lnTo>
                  <a:lnTo>
                    <a:pt x="31" y="155"/>
                  </a:lnTo>
                  <a:lnTo>
                    <a:pt x="35" y="152"/>
                  </a:lnTo>
                  <a:lnTo>
                    <a:pt x="39" y="152"/>
                  </a:lnTo>
                  <a:lnTo>
                    <a:pt x="43" y="151"/>
                  </a:lnTo>
                  <a:lnTo>
                    <a:pt x="46" y="151"/>
                  </a:lnTo>
                  <a:lnTo>
                    <a:pt x="52" y="148"/>
                  </a:lnTo>
                  <a:lnTo>
                    <a:pt x="57" y="148"/>
                  </a:lnTo>
                  <a:lnTo>
                    <a:pt x="61" y="148"/>
                  </a:lnTo>
                  <a:lnTo>
                    <a:pt x="66" y="149"/>
                  </a:lnTo>
                  <a:lnTo>
                    <a:pt x="69" y="151"/>
                  </a:lnTo>
                  <a:lnTo>
                    <a:pt x="72" y="152"/>
                  </a:lnTo>
                  <a:lnTo>
                    <a:pt x="74" y="152"/>
                  </a:lnTo>
                  <a:lnTo>
                    <a:pt x="76" y="148"/>
                  </a:lnTo>
                  <a:lnTo>
                    <a:pt x="80" y="142"/>
                  </a:lnTo>
                  <a:lnTo>
                    <a:pt x="82" y="138"/>
                  </a:lnTo>
                  <a:lnTo>
                    <a:pt x="86" y="134"/>
                  </a:lnTo>
                  <a:lnTo>
                    <a:pt x="88" y="129"/>
                  </a:lnTo>
                  <a:lnTo>
                    <a:pt x="93" y="123"/>
                  </a:lnTo>
                  <a:lnTo>
                    <a:pt x="97" y="115"/>
                  </a:lnTo>
                  <a:lnTo>
                    <a:pt x="102" y="107"/>
                  </a:lnTo>
                  <a:lnTo>
                    <a:pt x="106" y="97"/>
                  </a:lnTo>
                  <a:lnTo>
                    <a:pt x="111" y="88"/>
                  </a:lnTo>
                  <a:lnTo>
                    <a:pt x="116" y="77"/>
                  </a:lnTo>
                  <a:lnTo>
                    <a:pt x="122" y="67"/>
                  </a:lnTo>
                  <a:lnTo>
                    <a:pt x="126" y="56"/>
                  </a:lnTo>
                  <a:lnTo>
                    <a:pt x="132" y="47"/>
                  </a:lnTo>
                  <a:lnTo>
                    <a:pt x="137" y="37"/>
                  </a:lnTo>
                  <a:lnTo>
                    <a:pt x="142" y="29"/>
                  </a:lnTo>
                  <a:lnTo>
                    <a:pt x="145" y="21"/>
                  </a:lnTo>
                  <a:lnTo>
                    <a:pt x="149" y="14"/>
                  </a:lnTo>
                  <a:lnTo>
                    <a:pt x="151" y="7"/>
                  </a:lnTo>
                  <a:lnTo>
                    <a:pt x="154" y="4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4" y="3"/>
                  </a:lnTo>
                  <a:lnTo>
                    <a:pt x="153" y="7"/>
                  </a:lnTo>
                  <a:lnTo>
                    <a:pt x="152" y="13"/>
                  </a:lnTo>
                  <a:lnTo>
                    <a:pt x="150" y="18"/>
                  </a:lnTo>
                  <a:lnTo>
                    <a:pt x="147" y="25"/>
                  </a:lnTo>
                  <a:lnTo>
                    <a:pt x="145" y="32"/>
                  </a:lnTo>
                  <a:lnTo>
                    <a:pt x="143" y="40"/>
                  </a:lnTo>
                  <a:lnTo>
                    <a:pt x="139" y="48"/>
                  </a:lnTo>
                  <a:lnTo>
                    <a:pt x="137" y="58"/>
                  </a:lnTo>
                  <a:lnTo>
                    <a:pt x="133" y="67"/>
                  </a:lnTo>
                  <a:lnTo>
                    <a:pt x="131" y="77"/>
                  </a:lnTo>
                  <a:lnTo>
                    <a:pt x="129" y="85"/>
                  </a:lnTo>
                  <a:lnTo>
                    <a:pt x="126" y="95"/>
                  </a:lnTo>
                  <a:lnTo>
                    <a:pt x="124" y="104"/>
                  </a:lnTo>
                  <a:lnTo>
                    <a:pt x="122" y="112"/>
                  </a:lnTo>
                  <a:lnTo>
                    <a:pt x="121" y="119"/>
                  </a:lnTo>
                  <a:lnTo>
                    <a:pt x="118" y="126"/>
                  </a:lnTo>
                  <a:lnTo>
                    <a:pt x="116" y="131"/>
                  </a:lnTo>
                  <a:lnTo>
                    <a:pt x="115" y="138"/>
                  </a:lnTo>
                  <a:lnTo>
                    <a:pt x="114" y="142"/>
                  </a:lnTo>
                  <a:lnTo>
                    <a:pt x="113" y="148"/>
                  </a:lnTo>
                  <a:lnTo>
                    <a:pt x="113" y="152"/>
                  </a:lnTo>
                  <a:lnTo>
                    <a:pt x="113" y="156"/>
                  </a:lnTo>
                  <a:lnTo>
                    <a:pt x="111" y="161"/>
                  </a:lnTo>
                  <a:lnTo>
                    <a:pt x="111" y="164"/>
                  </a:lnTo>
                  <a:lnTo>
                    <a:pt x="111" y="167"/>
                  </a:lnTo>
                  <a:lnTo>
                    <a:pt x="111" y="168"/>
                  </a:lnTo>
                  <a:lnTo>
                    <a:pt x="59" y="189"/>
                  </a:lnTo>
                  <a:lnTo>
                    <a:pt x="58" y="187"/>
                  </a:lnTo>
                  <a:lnTo>
                    <a:pt x="55" y="187"/>
                  </a:lnTo>
                  <a:lnTo>
                    <a:pt x="51" y="187"/>
                  </a:lnTo>
                  <a:lnTo>
                    <a:pt x="46" y="187"/>
                  </a:lnTo>
                  <a:lnTo>
                    <a:pt x="40" y="186"/>
                  </a:lnTo>
                  <a:lnTo>
                    <a:pt x="33" y="186"/>
                  </a:lnTo>
                  <a:lnTo>
                    <a:pt x="28" y="185"/>
                  </a:lnTo>
                  <a:lnTo>
                    <a:pt x="22" y="183"/>
                  </a:lnTo>
                  <a:lnTo>
                    <a:pt x="17" y="181"/>
                  </a:lnTo>
                  <a:lnTo>
                    <a:pt x="12" y="179"/>
                  </a:lnTo>
                  <a:lnTo>
                    <a:pt x="8" y="177"/>
                  </a:lnTo>
                  <a:lnTo>
                    <a:pt x="5" y="175"/>
                  </a:lnTo>
                  <a:lnTo>
                    <a:pt x="1" y="171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42640" y="6064560"/>
              <a:ext cx="230760" cy="58680"/>
            </a:xfrm>
            <a:custGeom>
              <a:avLst/>
              <a:gdLst/>
              <a:ahLst/>
              <a:rect l="l" t="t" r="r" b="b"/>
              <a:pathLst>
                <a:path w="152" h="39">
                  <a:moveTo>
                    <a:pt x="19" y="0"/>
                  </a:moveTo>
                  <a:lnTo>
                    <a:pt x="5" y="20"/>
                  </a:lnTo>
                  <a:lnTo>
                    <a:pt x="0" y="39"/>
                  </a:lnTo>
                  <a:lnTo>
                    <a:pt x="152" y="31"/>
                  </a:lnTo>
                  <a:lnTo>
                    <a:pt x="140" y="13"/>
                  </a:lnTo>
                  <a:lnTo>
                    <a:pt x="138" y="13"/>
                  </a:lnTo>
                  <a:lnTo>
                    <a:pt x="136" y="13"/>
                  </a:lnTo>
                  <a:lnTo>
                    <a:pt x="131" y="13"/>
                  </a:lnTo>
                  <a:lnTo>
                    <a:pt x="128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3"/>
                  </a:lnTo>
                  <a:lnTo>
                    <a:pt x="104" y="13"/>
                  </a:lnTo>
                  <a:lnTo>
                    <a:pt x="97" y="12"/>
                  </a:lnTo>
                  <a:lnTo>
                    <a:pt x="91" y="9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37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13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601600" y="4772880"/>
              <a:ext cx="206640" cy="372240"/>
            </a:xfrm>
            <a:custGeom>
              <a:avLst/>
              <a:gdLst/>
              <a:ahLst/>
              <a:rect l="l" t="t" r="r" b="b"/>
              <a:pathLst>
                <a:path w="136" h="247">
                  <a:moveTo>
                    <a:pt x="97" y="0"/>
                  </a:moveTo>
                  <a:lnTo>
                    <a:pt x="122" y="47"/>
                  </a:lnTo>
                  <a:lnTo>
                    <a:pt x="121" y="61"/>
                  </a:lnTo>
                  <a:lnTo>
                    <a:pt x="136" y="91"/>
                  </a:lnTo>
                  <a:lnTo>
                    <a:pt x="125" y="107"/>
                  </a:lnTo>
                  <a:lnTo>
                    <a:pt x="125" y="154"/>
                  </a:lnTo>
                  <a:lnTo>
                    <a:pt x="92" y="183"/>
                  </a:lnTo>
                  <a:lnTo>
                    <a:pt x="60" y="247"/>
                  </a:lnTo>
                  <a:lnTo>
                    <a:pt x="7" y="198"/>
                  </a:lnTo>
                  <a:lnTo>
                    <a:pt x="7" y="195"/>
                  </a:lnTo>
                  <a:lnTo>
                    <a:pt x="8" y="192"/>
                  </a:lnTo>
                  <a:lnTo>
                    <a:pt x="9" y="188"/>
                  </a:lnTo>
                  <a:lnTo>
                    <a:pt x="12" y="183"/>
                  </a:lnTo>
                  <a:lnTo>
                    <a:pt x="13" y="174"/>
                  </a:lnTo>
                  <a:lnTo>
                    <a:pt x="14" y="166"/>
                  </a:lnTo>
                  <a:lnTo>
                    <a:pt x="14" y="161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4" y="144"/>
                  </a:lnTo>
                  <a:lnTo>
                    <a:pt x="14" y="136"/>
                  </a:lnTo>
                  <a:lnTo>
                    <a:pt x="13" y="129"/>
                  </a:lnTo>
                  <a:lnTo>
                    <a:pt x="13" y="122"/>
                  </a:lnTo>
                  <a:lnTo>
                    <a:pt x="12" y="116"/>
                  </a:lnTo>
                  <a:lnTo>
                    <a:pt x="11" y="109"/>
                  </a:lnTo>
                  <a:lnTo>
                    <a:pt x="8" y="103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36" y="2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682240" y="5165280"/>
              <a:ext cx="40680" cy="7056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8" y="2"/>
                  </a:moveTo>
                  <a:lnTo>
                    <a:pt x="17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5" y="18"/>
                  </a:lnTo>
                  <a:lnTo>
                    <a:pt x="27" y="21"/>
                  </a:lnTo>
                  <a:lnTo>
                    <a:pt x="15" y="47"/>
                  </a:lnTo>
                  <a:lnTo>
                    <a:pt x="0" y="21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e9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39560" y="5081040"/>
              <a:ext cx="135000" cy="55440"/>
            </a:xfrm>
            <a:custGeom>
              <a:avLst/>
              <a:gdLst/>
              <a:ahLst/>
              <a:rect l="l" t="t" r="r" b="b"/>
              <a:pathLst>
                <a:path w="89" h="37">
                  <a:moveTo>
                    <a:pt x="0" y="18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8" y="3"/>
                  </a:lnTo>
                  <a:lnTo>
                    <a:pt x="64" y="6"/>
                  </a:lnTo>
                  <a:lnTo>
                    <a:pt x="68" y="7"/>
                  </a:lnTo>
                  <a:lnTo>
                    <a:pt x="73" y="10"/>
                  </a:lnTo>
                  <a:lnTo>
                    <a:pt x="79" y="13"/>
                  </a:lnTo>
                  <a:lnTo>
                    <a:pt x="81" y="15"/>
                  </a:lnTo>
                  <a:lnTo>
                    <a:pt x="89" y="37"/>
                  </a:lnTo>
                  <a:lnTo>
                    <a:pt x="33" y="37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269840" y="4549680"/>
              <a:ext cx="139680" cy="95040"/>
            </a:xfrm>
            <a:custGeom>
              <a:avLst/>
              <a:gdLst/>
              <a:ahLst/>
              <a:rect l="l" t="t" r="r" b="b"/>
              <a:pathLst>
                <a:path w="92" h="63">
                  <a:moveTo>
                    <a:pt x="0" y="34"/>
                  </a:moveTo>
                  <a:lnTo>
                    <a:pt x="1" y="33"/>
                  </a:lnTo>
                  <a:lnTo>
                    <a:pt x="5" y="33"/>
                  </a:lnTo>
                  <a:lnTo>
                    <a:pt x="9" y="29"/>
                  </a:lnTo>
                  <a:lnTo>
                    <a:pt x="15" y="25"/>
                  </a:lnTo>
                  <a:lnTo>
                    <a:pt x="20" y="19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31" y="3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62" y="7"/>
                  </a:lnTo>
                  <a:lnTo>
                    <a:pt x="69" y="10"/>
                  </a:lnTo>
                  <a:lnTo>
                    <a:pt x="73" y="12"/>
                  </a:lnTo>
                  <a:lnTo>
                    <a:pt x="79" y="14"/>
                  </a:lnTo>
                  <a:lnTo>
                    <a:pt x="81" y="15"/>
                  </a:lnTo>
                  <a:lnTo>
                    <a:pt x="83" y="16"/>
                  </a:lnTo>
                  <a:lnTo>
                    <a:pt x="92" y="51"/>
                  </a:lnTo>
                  <a:lnTo>
                    <a:pt x="57" y="6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566400" y="5085360"/>
              <a:ext cx="318960" cy="78120"/>
            </a:xfrm>
            <a:custGeom>
              <a:avLst/>
              <a:gdLst/>
              <a:ahLst/>
              <a:rect l="l" t="t" r="r" b="b"/>
              <a:pathLst>
                <a:path w="210" h="52">
                  <a:moveTo>
                    <a:pt x="3" y="22"/>
                  </a:moveTo>
                  <a:lnTo>
                    <a:pt x="1" y="18"/>
                  </a:lnTo>
                  <a:lnTo>
                    <a:pt x="0" y="14"/>
                  </a:lnTo>
                  <a:lnTo>
                    <a:pt x="1" y="6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65" y="6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1" y="8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5" y="8"/>
                  </a:lnTo>
                  <a:lnTo>
                    <a:pt x="99" y="7"/>
                  </a:lnTo>
                  <a:lnTo>
                    <a:pt x="103" y="7"/>
                  </a:lnTo>
                  <a:lnTo>
                    <a:pt x="107" y="6"/>
                  </a:lnTo>
                  <a:lnTo>
                    <a:pt x="110" y="6"/>
                  </a:lnTo>
                  <a:lnTo>
                    <a:pt x="115" y="6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4" y="7"/>
                  </a:lnTo>
                  <a:lnTo>
                    <a:pt x="130" y="15"/>
                  </a:lnTo>
                  <a:lnTo>
                    <a:pt x="133" y="19"/>
                  </a:lnTo>
                  <a:lnTo>
                    <a:pt x="139" y="23"/>
                  </a:lnTo>
                  <a:lnTo>
                    <a:pt x="143" y="26"/>
                  </a:lnTo>
                  <a:lnTo>
                    <a:pt x="150" y="27"/>
                  </a:lnTo>
                  <a:lnTo>
                    <a:pt x="154" y="27"/>
                  </a:lnTo>
                  <a:lnTo>
                    <a:pt x="161" y="26"/>
                  </a:lnTo>
                  <a:lnTo>
                    <a:pt x="164" y="25"/>
                  </a:lnTo>
                  <a:lnTo>
                    <a:pt x="168" y="25"/>
                  </a:lnTo>
                  <a:lnTo>
                    <a:pt x="173" y="25"/>
                  </a:lnTo>
                  <a:lnTo>
                    <a:pt x="177" y="25"/>
                  </a:lnTo>
                  <a:lnTo>
                    <a:pt x="184" y="22"/>
                  </a:lnTo>
                  <a:lnTo>
                    <a:pt x="191" y="22"/>
                  </a:lnTo>
                  <a:lnTo>
                    <a:pt x="194" y="21"/>
                  </a:lnTo>
                  <a:lnTo>
                    <a:pt x="196" y="21"/>
                  </a:lnTo>
                  <a:lnTo>
                    <a:pt x="197" y="23"/>
                  </a:lnTo>
                  <a:lnTo>
                    <a:pt x="202" y="31"/>
                  </a:lnTo>
                  <a:lnTo>
                    <a:pt x="204" y="36"/>
                  </a:lnTo>
                  <a:lnTo>
                    <a:pt x="207" y="41"/>
                  </a:lnTo>
                  <a:lnTo>
                    <a:pt x="209" y="47"/>
                  </a:lnTo>
                  <a:lnTo>
                    <a:pt x="210" y="52"/>
                  </a:lnTo>
                  <a:lnTo>
                    <a:pt x="23" y="14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440680" y="3635640"/>
              <a:ext cx="2866680" cy="2851200"/>
            </a:xfrm>
            <a:custGeom>
              <a:avLst/>
              <a:gdLst/>
              <a:ahLst/>
              <a:rect l="l" t="t" r="r" b="b"/>
              <a:pathLst>
                <a:path w="1887" h="1890">
                  <a:moveTo>
                    <a:pt x="0" y="1880"/>
                  </a:moveTo>
                  <a:lnTo>
                    <a:pt x="0" y="1877"/>
                  </a:lnTo>
                  <a:lnTo>
                    <a:pt x="1" y="1875"/>
                  </a:lnTo>
                  <a:lnTo>
                    <a:pt x="3" y="1870"/>
                  </a:lnTo>
                  <a:lnTo>
                    <a:pt x="6" y="1864"/>
                  </a:lnTo>
                  <a:lnTo>
                    <a:pt x="8" y="1855"/>
                  </a:lnTo>
                  <a:lnTo>
                    <a:pt x="12" y="1846"/>
                  </a:lnTo>
                  <a:lnTo>
                    <a:pt x="15" y="1835"/>
                  </a:lnTo>
                  <a:lnTo>
                    <a:pt x="20" y="1825"/>
                  </a:lnTo>
                  <a:lnTo>
                    <a:pt x="24" y="1813"/>
                  </a:lnTo>
                  <a:lnTo>
                    <a:pt x="28" y="1801"/>
                  </a:lnTo>
                  <a:lnTo>
                    <a:pt x="34" y="1787"/>
                  </a:lnTo>
                  <a:lnTo>
                    <a:pt x="39" y="1775"/>
                  </a:lnTo>
                  <a:lnTo>
                    <a:pt x="43" y="1761"/>
                  </a:lnTo>
                  <a:lnTo>
                    <a:pt x="49" y="1750"/>
                  </a:lnTo>
                  <a:lnTo>
                    <a:pt x="54" y="1738"/>
                  </a:lnTo>
                  <a:lnTo>
                    <a:pt x="60" y="1728"/>
                  </a:lnTo>
                  <a:lnTo>
                    <a:pt x="63" y="1716"/>
                  </a:lnTo>
                  <a:lnTo>
                    <a:pt x="68" y="1707"/>
                  </a:lnTo>
                  <a:lnTo>
                    <a:pt x="72" y="1698"/>
                  </a:lnTo>
                  <a:lnTo>
                    <a:pt x="77" y="1690"/>
                  </a:lnTo>
                  <a:lnTo>
                    <a:pt x="81" y="1682"/>
                  </a:lnTo>
                  <a:lnTo>
                    <a:pt x="85" y="1675"/>
                  </a:lnTo>
                  <a:lnTo>
                    <a:pt x="89" y="1668"/>
                  </a:lnTo>
                  <a:lnTo>
                    <a:pt x="92" y="1664"/>
                  </a:lnTo>
                  <a:lnTo>
                    <a:pt x="95" y="1659"/>
                  </a:lnTo>
                  <a:lnTo>
                    <a:pt x="97" y="1656"/>
                  </a:lnTo>
                  <a:lnTo>
                    <a:pt x="99" y="1652"/>
                  </a:lnTo>
                  <a:lnTo>
                    <a:pt x="102" y="1649"/>
                  </a:lnTo>
                  <a:lnTo>
                    <a:pt x="104" y="1647"/>
                  </a:lnTo>
                  <a:lnTo>
                    <a:pt x="106" y="1647"/>
                  </a:lnTo>
                  <a:lnTo>
                    <a:pt x="107" y="1645"/>
                  </a:lnTo>
                  <a:lnTo>
                    <a:pt x="113" y="1645"/>
                  </a:lnTo>
                  <a:lnTo>
                    <a:pt x="117" y="1644"/>
                  </a:lnTo>
                  <a:lnTo>
                    <a:pt x="122" y="1644"/>
                  </a:lnTo>
                  <a:lnTo>
                    <a:pt x="128" y="1644"/>
                  </a:lnTo>
                  <a:lnTo>
                    <a:pt x="135" y="1644"/>
                  </a:lnTo>
                  <a:lnTo>
                    <a:pt x="142" y="1644"/>
                  </a:lnTo>
                  <a:lnTo>
                    <a:pt x="149" y="1644"/>
                  </a:lnTo>
                  <a:lnTo>
                    <a:pt x="156" y="1642"/>
                  </a:lnTo>
                  <a:lnTo>
                    <a:pt x="166" y="1642"/>
                  </a:lnTo>
                  <a:lnTo>
                    <a:pt x="175" y="1642"/>
                  </a:lnTo>
                  <a:lnTo>
                    <a:pt x="184" y="1642"/>
                  </a:lnTo>
                  <a:lnTo>
                    <a:pt x="192" y="1642"/>
                  </a:lnTo>
                  <a:lnTo>
                    <a:pt x="203" y="1642"/>
                  </a:lnTo>
                  <a:lnTo>
                    <a:pt x="211" y="1641"/>
                  </a:lnTo>
                  <a:lnTo>
                    <a:pt x="219" y="1641"/>
                  </a:lnTo>
                  <a:lnTo>
                    <a:pt x="228" y="1641"/>
                  </a:lnTo>
                  <a:lnTo>
                    <a:pt x="238" y="1641"/>
                  </a:lnTo>
                  <a:lnTo>
                    <a:pt x="246" y="1641"/>
                  </a:lnTo>
                  <a:lnTo>
                    <a:pt x="254" y="1641"/>
                  </a:lnTo>
                  <a:lnTo>
                    <a:pt x="262" y="1641"/>
                  </a:lnTo>
                  <a:lnTo>
                    <a:pt x="269" y="1641"/>
                  </a:lnTo>
                  <a:lnTo>
                    <a:pt x="275" y="1641"/>
                  </a:lnTo>
                  <a:lnTo>
                    <a:pt x="281" y="1641"/>
                  </a:lnTo>
                  <a:lnTo>
                    <a:pt x="285" y="1641"/>
                  </a:lnTo>
                  <a:lnTo>
                    <a:pt x="291" y="1641"/>
                  </a:lnTo>
                  <a:lnTo>
                    <a:pt x="297" y="1641"/>
                  </a:lnTo>
                  <a:lnTo>
                    <a:pt x="299" y="1642"/>
                  </a:lnTo>
                  <a:lnTo>
                    <a:pt x="299" y="1641"/>
                  </a:lnTo>
                  <a:lnTo>
                    <a:pt x="299" y="1638"/>
                  </a:lnTo>
                  <a:lnTo>
                    <a:pt x="299" y="1633"/>
                  </a:lnTo>
                  <a:lnTo>
                    <a:pt x="302" y="1626"/>
                  </a:lnTo>
                  <a:lnTo>
                    <a:pt x="303" y="1618"/>
                  </a:lnTo>
                  <a:lnTo>
                    <a:pt x="304" y="1610"/>
                  </a:lnTo>
                  <a:lnTo>
                    <a:pt x="306" y="1599"/>
                  </a:lnTo>
                  <a:lnTo>
                    <a:pt x="310" y="1588"/>
                  </a:lnTo>
                  <a:lnTo>
                    <a:pt x="312" y="1574"/>
                  </a:lnTo>
                  <a:lnTo>
                    <a:pt x="315" y="1562"/>
                  </a:lnTo>
                  <a:lnTo>
                    <a:pt x="317" y="1548"/>
                  </a:lnTo>
                  <a:lnTo>
                    <a:pt x="320" y="1535"/>
                  </a:lnTo>
                  <a:lnTo>
                    <a:pt x="323" y="1520"/>
                  </a:lnTo>
                  <a:lnTo>
                    <a:pt x="326" y="1505"/>
                  </a:lnTo>
                  <a:lnTo>
                    <a:pt x="330" y="1490"/>
                  </a:lnTo>
                  <a:lnTo>
                    <a:pt x="333" y="1477"/>
                  </a:lnTo>
                  <a:lnTo>
                    <a:pt x="335" y="1462"/>
                  </a:lnTo>
                  <a:lnTo>
                    <a:pt x="339" y="1450"/>
                  </a:lnTo>
                  <a:lnTo>
                    <a:pt x="341" y="1436"/>
                  </a:lnTo>
                  <a:lnTo>
                    <a:pt x="345" y="1424"/>
                  </a:lnTo>
                  <a:lnTo>
                    <a:pt x="348" y="1412"/>
                  </a:lnTo>
                  <a:lnTo>
                    <a:pt x="351" y="1401"/>
                  </a:lnTo>
                  <a:lnTo>
                    <a:pt x="353" y="1391"/>
                  </a:lnTo>
                  <a:lnTo>
                    <a:pt x="356" y="1383"/>
                  </a:lnTo>
                  <a:lnTo>
                    <a:pt x="358" y="1373"/>
                  </a:lnTo>
                  <a:lnTo>
                    <a:pt x="360" y="1365"/>
                  </a:lnTo>
                  <a:lnTo>
                    <a:pt x="361" y="1358"/>
                  </a:lnTo>
                  <a:lnTo>
                    <a:pt x="363" y="1354"/>
                  </a:lnTo>
                  <a:lnTo>
                    <a:pt x="366" y="1346"/>
                  </a:lnTo>
                  <a:lnTo>
                    <a:pt x="367" y="1345"/>
                  </a:lnTo>
                  <a:lnTo>
                    <a:pt x="367" y="1343"/>
                  </a:lnTo>
                  <a:lnTo>
                    <a:pt x="369" y="1343"/>
                  </a:lnTo>
                  <a:lnTo>
                    <a:pt x="372" y="1342"/>
                  </a:lnTo>
                  <a:lnTo>
                    <a:pt x="376" y="1341"/>
                  </a:lnTo>
                  <a:lnTo>
                    <a:pt x="380" y="1339"/>
                  </a:lnTo>
                  <a:lnTo>
                    <a:pt x="386" y="1338"/>
                  </a:lnTo>
                  <a:lnTo>
                    <a:pt x="391" y="1337"/>
                  </a:lnTo>
                  <a:lnTo>
                    <a:pt x="400" y="1337"/>
                  </a:lnTo>
                  <a:lnTo>
                    <a:pt x="408" y="1334"/>
                  </a:lnTo>
                  <a:lnTo>
                    <a:pt x="417" y="1331"/>
                  </a:lnTo>
                  <a:lnTo>
                    <a:pt x="426" y="1330"/>
                  </a:lnTo>
                  <a:lnTo>
                    <a:pt x="438" y="1328"/>
                  </a:lnTo>
                  <a:lnTo>
                    <a:pt x="450" y="1326"/>
                  </a:lnTo>
                  <a:lnTo>
                    <a:pt x="462" y="1324"/>
                  </a:lnTo>
                  <a:lnTo>
                    <a:pt x="475" y="1323"/>
                  </a:lnTo>
                  <a:lnTo>
                    <a:pt x="489" y="1323"/>
                  </a:lnTo>
                  <a:lnTo>
                    <a:pt x="502" y="1322"/>
                  </a:lnTo>
                  <a:lnTo>
                    <a:pt x="517" y="1320"/>
                  </a:lnTo>
                  <a:lnTo>
                    <a:pt x="532" y="1320"/>
                  </a:lnTo>
                  <a:lnTo>
                    <a:pt x="547" y="1320"/>
                  </a:lnTo>
                  <a:lnTo>
                    <a:pt x="561" y="1320"/>
                  </a:lnTo>
                  <a:lnTo>
                    <a:pt x="576" y="1320"/>
                  </a:lnTo>
                  <a:lnTo>
                    <a:pt x="589" y="1320"/>
                  </a:lnTo>
                  <a:lnTo>
                    <a:pt x="603" y="1320"/>
                  </a:lnTo>
                  <a:lnTo>
                    <a:pt x="615" y="1320"/>
                  </a:lnTo>
                  <a:lnTo>
                    <a:pt x="627" y="1320"/>
                  </a:lnTo>
                  <a:lnTo>
                    <a:pt x="636" y="1320"/>
                  </a:lnTo>
                  <a:lnTo>
                    <a:pt x="645" y="1322"/>
                  </a:lnTo>
                  <a:lnTo>
                    <a:pt x="652" y="1322"/>
                  </a:lnTo>
                  <a:lnTo>
                    <a:pt x="657" y="1322"/>
                  </a:lnTo>
                  <a:lnTo>
                    <a:pt x="660" y="1322"/>
                  </a:lnTo>
                  <a:lnTo>
                    <a:pt x="663" y="1323"/>
                  </a:lnTo>
                  <a:lnTo>
                    <a:pt x="663" y="1322"/>
                  </a:lnTo>
                  <a:lnTo>
                    <a:pt x="663" y="1317"/>
                  </a:lnTo>
                  <a:lnTo>
                    <a:pt x="663" y="1311"/>
                  </a:lnTo>
                  <a:lnTo>
                    <a:pt x="665" y="1304"/>
                  </a:lnTo>
                  <a:lnTo>
                    <a:pt x="667" y="1294"/>
                  </a:lnTo>
                  <a:lnTo>
                    <a:pt x="670" y="1283"/>
                  </a:lnTo>
                  <a:lnTo>
                    <a:pt x="671" y="1271"/>
                  </a:lnTo>
                  <a:lnTo>
                    <a:pt x="675" y="1259"/>
                  </a:lnTo>
                  <a:lnTo>
                    <a:pt x="678" y="1244"/>
                  </a:lnTo>
                  <a:lnTo>
                    <a:pt x="681" y="1229"/>
                  </a:lnTo>
                  <a:lnTo>
                    <a:pt x="686" y="1212"/>
                  </a:lnTo>
                  <a:lnTo>
                    <a:pt x="691" y="1197"/>
                  </a:lnTo>
                  <a:lnTo>
                    <a:pt x="694" y="1180"/>
                  </a:lnTo>
                  <a:lnTo>
                    <a:pt x="699" y="1163"/>
                  </a:lnTo>
                  <a:lnTo>
                    <a:pt x="703" y="1145"/>
                  </a:lnTo>
                  <a:lnTo>
                    <a:pt x="709" y="1130"/>
                  </a:lnTo>
                  <a:lnTo>
                    <a:pt x="714" y="1113"/>
                  </a:lnTo>
                  <a:lnTo>
                    <a:pt x="717" y="1096"/>
                  </a:lnTo>
                  <a:lnTo>
                    <a:pt x="723" y="1080"/>
                  </a:lnTo>
                  <a:lnTo>
                    <a:pt x="728" y="1068"/>
                  </a:lnTo>
                  <a:lnTo>
                    <a:pt x="732" y="1053"/>
                  </a:lnTo>
                  <a:lnTo>
                    <a:pt x="738" y="1040"/>
                  </a:lnTo>
                  <a:lnTo>
                    <a:pt x="743" y="1028"/>
                  </a:lnTo>
                  <a:lnTo>
                    <a:pt x="748" y="1018"/>
                  </a:lnTo>
                  <a:lnTo>
                    <a:pt x="751" y="1008"/>
                  </a:lnTo>
                  <a:lnTo>
                    <a:pt x="756" y="998"/>
                  </a:lnTo>
                  <a:lnTo>
                    <a:pt x="758" y="991"/>
                  </a:lnTo>
                  <a:lnTo>
                    <a:pt x="762" y="984"/>
                  </a:lnTo>
                  <a:lnTo>
                    <a:pt x="763" y="979"/>
                  </a:lnTo>
                  <a:lnTo>
                    <a:pt x="765" y="976"/>
                  </a:lnTo>
                  <a:lnTo>
                    <a:pt x="766" y="973"/>
                  </a:lnTo>
                  <a:lnTo>
                    <a:pt x="767" y="973"/>
                  </a:lnTo>
                  <a:lnTo>
                    <a:pt x="1018" y="1027"/>
                  </a:lnTo>
                  <a:lnTo>
                    <a:pt x="1018" y="1025"/>
                  </a:lnTo>
                  <a:lnTo>
                    <a:pt x="1019" y="1021"/>
                  </a:lnTo>
                  <a:lnTo>
                    <a:pt x="1020" y="1014"/>
                  </a:lnTo>
                  <a:lnTo>
                    <a:pt x="1022" y="1006"/>
                  </a:lnTo>
                  <a:lnTo>
                    <a:pt x="1025" y="995"/>
                  </a:lnTo>
                  <a:lnTo>
                    <a:pt x="1028" y="984"/>
                  </a:lnTo>
                  <a:lnTo>
                    <a:pt x="1032" y="971"/>
                  </a:lnTo>
                  <a:lnTo>
                    <a:pt x="1036" y="958"/>
                  </a:lnTo>
                  <a:lnTo>
                    <a:pt x="1041" y="941"/>
                  </a:lnTo>
                  <a:lnTo>
                    <a:pt x="1046" y="926"/>
                  </a:lnTo>
                  <a:lnTo>
                    <a:pt x="1051" y="908"/>
                  </a:lnTo>
                  <a:lnTo>
                    <a:pt x="1057" y="890"/>
                  </a:lnTo>
                  <a:lnTo>
                    <a:pt x="1063" y="871"/>
                  </a:lnTo>
                  <a:lnTo>
                    <a:pt x="1070" y="855"/>
                  </a:lnTo>
                  <a:lnTo>
                    <a:pt x="1076" y="835"/>
                  </a:lnTo>
                  <a:lnTo>
                    <a:pt x="1084" y="819"/>
                  </a:lnTo>
                  <a:lnTo>
                    <a:pt x="1091" y="800"/>
                  </a:lnTo>
                  <a:lnTo>
                    <a:pt x="1097" y="784"/>
                  </a:lnTo>
                  <a:lnTo>
                    <a:pt x="1104" y="767"/>
                  </a:lnTo>
                  <a:lnTo>
                    <a:pt x="1112" y="751"/>
                  </a:lnTo>
                  <a:lnTo>
                    <a:pt x="1119" y="736"/>
                  </a:lnTo>
                  <a:lnTo>
                    <a:pt x="1125" y="721"/>
                  </a:lnTo>
                  <a:lnTo>
                    <a:pt x="1132" y="707"/>
                  </a:lnTo>
                  <a:lnTo>
                    <a:pt x="1139" y="696"/>
                  </a:lnTo>
                  <a:lnTo>
                    <a:pt x="1143" y="684"/>
                  </a:lnTo>
                  <a:lnTo>
                    <a:pt x="1150" y="674"/>
                  </a:lnTo>
                  <a:lnTo>
                    <a:pt x="1154" y="666"/>
                  </a:lnTo>
                  <a:lnTo>
                    <a:pt x="1158" y="658"/>
                  </a:lnTo>
                  <a:lnTo>
                    <a:pt x="1162" y="652"/>
                  </a:lnTo>
                  <a:lnTo>
                    <a:pt x="1164" y="648"/>
                  </a:lnTo>
                  <a:lnTo>
                    <a:pt x="1167" y="646"/>
                  </a:lnTo>
                  <a:lnTo>
                    <a:pt x="1167" y="646"/>
                  </a:lnTo>
                  <a:lnTo>
                    <a:pt x="1169" y="646"/>
                  </a:lnTo>
                  <a:lnTo>
                    <a:pt x="1176" y="647"/>
                  </a:lnTo>
                  <a:lnTo>
                    <a:pt x="1179" y="648"/>
                  </a:lnTo>
                  <a:lnTo>
                    <a:pt x="1185" y="650"/>
                  </a:lnTo>
                  <a:lnTo>
                    <a:pt x="1191" y="651"/>
                  </a:lnTo>
                  <a:lnTo>
                    <a:pt x="1198" y="654"/>
                  </a:lnTo>
                  <a:lnTo>
                    <a:pt x="1205" y="655"/>
                  </a:lnTo>
                  <a:lnTo>
                    <a:pt x="1212" y="658"/>
                  </a:lnTo>
                  <a:lnTo>
                    <a:pt x="1219" y="661"/>
                  </a:lnTo>
                  <a:lnTo>
                    <a:pt x="1228" y="663"/>
                  </a:lnTo>
                  <a:lnTo>
                    <a:pt x="1236" y="666"/>
                  </a:lnTo>
                  <a:lnTo>
                    <a:pt x="1245" y="669"/>
                  </a:lnTo>
                  <a:lnTo>
                    <a:pt x="1253" y="673"/>
                  </a:lnTo>
                  <a:lnTo>
                    <a:pt x="1262" y="676"/>
                  </a:lnTo>
                  <a:lnTo>
                    <a:pt x="1270" y="678"/>
                  </a:lnTo>
                  <a:lnTo>
                    <a:pt x="1278" y="683"/>
                  </a:lnTo>
                  <a:lnTo>
                    <a:pt x="1285" y="687"/>
                  </a:lnTo>
                  <a:lnTo>
                    <a:pt x="1294" y="691"/>
                  </a:lnTo>
                  <a:lnTo>
                    <a:pt x="1301" y="695"/>
                  </a:lnTo>
                  <a:lnTo>
                    <a:pt x="1309" y="698"/>
                  </a:lnTo>
                  <a:lnTo>
                    <a:pt x="1314" y="702"/>
                  </a:lnTo>
                  <a:lnTo>
                    <a:pt x="1321" y="706"/>
                  </a:lnTo>
                  <a:lnTo>
                    <a:pt x="1326" y="708"/>
                  </a:lnTo>
                  <a:lnTo>
                    <a:pt x="1332" y="711"/>
                  </a:lnTo>
                  <a:lnTo>
                    <a:pt x="1335" y="714"/>
                  </a:lnTo>
                  <a:lnTo>
                    <a:pt x="1340" y="717"/>
                  </a:lnTo>
                  <a:lnTo>
                    <a:pt x="1345" y="719"/>
                  </a:lnTo>
                  <a:lnTo>
                    <a:pt x="1347" y="721"/>
                  </a:lnTo>
                  <a:lnTo>
                    <a:pt x="1347" y="718"/>
                  </a:lnTo>
                  <a:lnTo>
                    <a:pt x="1351" y="713"/>
                  </a:lnTo>
                  <a:lnTo>
                    <a:pt x="1354" y="702"/>
                  </a:lnTo>
                  <a:lnTo>
                    <a:pt x="1360" y="689"/>
                  </a:lnTo>
                  <a:lnTo>
                    <a:pt x="1367" y="673"/>
                  </a:lnTo>
                  <a:lnTo>
                    <a:pt x="1375" y="654"/>
                  </a:lnTo>
                  <a:lnTo>
                    <a:pt x="1384" y="633"/>
                  </a:lnTo>
                  <a:lnTo>
                    <a:pt x="1395" y="612"/>
                  </a:lnTo>
                  <a:lnTo>
                    <a:pt x="1405" y="586"/>
                  </a:lnTo>
                  <a:lnTo>
                    <a:pt x="1418" y="561"/>
                  </a:lnTo>
                  <a:lnTo>
                    <a:pt x="1429" y="534"/>
                  </a:lnTo>
                  <a:lnTo>
                    <a:pt x="1443" y="508"/>
                  </a:lnTo>
                  <a:lnTo>
                    <a:pt x="1454" y="482"/>
                  </a:lnTo>
                  <a:lnTo>
                    <a:pt x="1468" y="455"/>
                  </a:lnTo>
                  <a:lnTo>
                    <a:pt x="1481" y="430"/>
                  </a:lnTo>
                  <a:lnTo>
                    <a:pt x="1494" y="405"/>
                  </a:lnTo>
                  <a:lnTo>
                    <a:pt x="1504" y="382"/>
                  </a:lnTo>
                  <a:lnTo>
                    <a:pt x="1517" y="360"/>
                  </a:lnTo>
                  <a:lnTo>
                    <a:pt x="1528" y="340"/>
                  </a:lnTo>
                  <a:lnTo>
                    <a:pt x="1539" y="321"/>
                  </a:lnTo>
                  <a:lnTo>
                    <a:pt x="1548" y="303"/>
                  </a:lnTo>
                  <a:lnTo>
                    <a:pt x="1559" y="287"/>
                  </a:lnTo>
                  <a:lnTo>
                    <a:pt x="1568" y="272"/>
                  </a:lnTo>
                  <a:lnTo>
                    <a:pt x="1578" y="259"/>
                  </a:lnTo>
                  <a:lnTo>
                    <a:pt x="1585" y="247"/>
                  </a:lnTo>
                  <a:lnTo>
                    <a:pt x="1590" y="236"/>
                  </a:lnTo>
                  <a:lnTo>
                    <a:pt x="1597" y="228"/>
                  </a:lnTo>
                  <a:lnTo>
                    <a:pt x="1602" y="221"/>
                  </a:lnTo>
                  <a:lnTo>
                    <a:pt x="1606" y="214"/>
                  </a:lnTo>
                  <a:lnTo>
                    <a:pt x="1609" y="211"/>
                  </a:lnTo>
                  <a:lnTo>
                    <a:pt x="1610" y="209"/>
                  </a:lnTo>
                  <a:lnTo>
                    <a:pt x="1612" y="209"/>
                  </a:lnTo>
                  <a:lnTo>
                    <a:pt x="1610" y="206"/>
                  </a:lnTo>
                  <a:lnTo>
                    <a:pt x="1607" y="202"/>
                  </a:lnTo>
                  <a:lnTo>
                    <a:pt x="1603" y="198"/>
                  </a:lnTo>
                  <a:lnTo>
                    <a:pt x="1600" y="194"/>
                  </a:lnTo>
                  <a:lnTo>
                    <a:pt x="1596" y="190"/>
                  </a:lnTo>
                  <a:lnTo>
                    <a:pt x="1593" y="186"/>
                  </a:lnTo>
                  <a:lnTo>
                    <a:pt x="1587" y="179"/>
                  </a:lnTo>
                  <a:lnTo>
                    <a:pt x="1582" y="175"/>
                  </a:lnTo>
                  <a:lnTo>
                    <a:pt x="1578" y="169"/>
                  </a:lnTo>
                  <a:lnTo>
                    <a:pt x="1572" y="164"/>
                  </a:lnTo>
                  <a:lnTo>
                    <a:pt x="1566" y="157"/>
                  </a:lnTo>
                  <a:lnTo>
                    <a:pt x="1560" y="151"/>
                  </a:lnTo>
                  <a:lnTo>
                    <a:pt x="1554" y="147"/>
                  </a:lnTo>
                  <a:lnTo>
                    <a:pt x="1548" y="142"/>
                  </a:lnTo>
                  <a:lnTo>
                    <a:pt x="1541" y="135"/>
                  </a:lnTo>
                  <a:lnTo>
                    <a:pt x="1534" y="130"/>
                  </a:lnTo>
                  <a:lnTo>
                    <a:pt x="1528" y="125"/>
                  </a:lnTo>
                  <a:lnTo>
                    <a:pt x="1522" y="121"/>
                  </a:lnTo>
                  <a:lnTo>
                    <a:pt x="1515" y="117"/>
                  </a:lnTo>
                  <a:lnTo>
                    <a:pt x="1509" y="113"/>
                  </a:lnTo>
                  <a:lnTo>
                    <a:pt x="1502" y="109"/>
                  </a:lnTo>
                  <a:lnTo>
                    <a:pt x="1498" y="108"/>
                  </a:lnTo>
                  <a:lnTo>
                    <a:pt x="1491" y="104"/>
                  </a:lnTo>
                  <a:lnTo>
                    <a:pt x="1488" y="101"/>
                  </a:lnTo>
                  <a:lnTo>
                    <a:pt x="1483" y="99"/>
                  </a:lnTo>
                  <a:lnTo>
                    <a:pt x="1481" y="97"/>
                  </a:lnTo>
                  <a:lnTo>
                    <a:pt x="1476" y="94"/>
                  </a:lnTo>
                  <a:lnTo>
                    <a:pt x="1475" y="94"/>
                  </a:lnTo>
                  <a:lnTo>
                    <a:pt x="1475" y="94"/>
                  </a:lnTo>
                  <a:lnTo>
                    <a:pt x="1477" y="93"/>
                  </a:lnTo>
                  <a:lnTo>
                    <a:pt x="1481" y="91"/>
                  </a:lnTo>
                  <a:lnTo>
                    <a:pt x="1488" y="90"/>
                  </a:lnTo>
                  <a:lnTo>
                    <a:pt x="1495" y="87"/>
                  </a:lnTo>
                  <a:lnTo>
                    <a:pt x="1504" y="86"/>
                  </a:lnTo>
                  <a:lnTo>
                    <a:pt x="1515" y="83"/>
                  </a:lnTo>
                  <a:lnTo>
                    <a:pt x="1526" y="82"/>
                  </a:lnTo>
                  <a:lnTo>
                    <a:pt x="1538" y="78"/>
                  </a:lnTo>
                  <a:lnTo>
                    <a:pt x="1552" y="75"/>
                  </a:lnTo>
                  <a:lnTo>
                    <a:pt x="1567" y="71"/>
                  </a:lnTo>
                  <a:lnTo>
                    <a:pt x="1582" y="68"/>
                  </a:lnTo>
                  <a:lnTo>
                    <a:pt x="1599" y="63"/>
                  </a:lnTo>
                  <a:lnTo>
                    <a:pt x="1616" y="60"/>
                  </a:lnTo>
                  <a:lnTo>
                    <a:pt x="1633" y="54"/>
                  </a:lnTo>
                  <a:lnTo>
                    <a:pt x="1652" y="52"/>
                  </a:lnTo>
                  <a:lnTo>
                    <a:pt x="1670" y="46"/>
                  </a:lnTo>
                  <a:lnTo>
                    <a:pt x="1688" y="42"/>
                  </a:lnTo>
                  <a:lnTo>
                    <a:pt x="1707" y="38"/>
                  </a:lnTo>
                  <a:lnTo>
                    <a:pt x="1725" y="33"/>
                  </a:lnTo>
                  <a:lnTo>
                    <a:pt x="1743" y="27"/>
                  </a:lnTo>
                  <a:lnTo>
                    <a:pt x="1760" y="24"/>
                  </a:lnTo>
                  <a:lnTo>
                    <a:pt x="1778" y="20"/>
                  </a:lnTo>
                  <a:lnTo>
                    <a:pt x="1794" y="16"/>
                  </a:lnTo>
                  <a:lnTo>
                    <a:pt x="1808" y="12"/>
                  </a:lnTo>
                  <a:lnTo>
                    <a:pt x="1823" y="9"/>
                  </a:lnTo>
                  <a:lnTo>
                    <a:pt x="1834" y="7"/>
                  </a:lnTo>
                  <a:lnTo>
                    <a:pt x="1845" y="4"/>
                  </a:lnTo>
                  <a:lnTo>
                    <a:pt x="1853" y="1"/>
                  </a:lnTo>
                  <a:lnTo>
                    <a:pt x="1859" y="0"/>
                  </a:lnTo>
                  <a:lnTo>
                    <a:pt x="1863" y="0"/>
                  </a:lnTo>
                  <a:lnTo>
                    <a:pt x="1865" y="0"/>
                  </a:lnTo>
                  <a:lnTo>
                    <a:pt x="1865" y="3"/>
                  </a:lnTo>
                  <a:lnTo>
                    <a:pt x="1865" y="9"/>
                  </a:lnTo>
                  <a:lnTo>
                    <a:pt x="1866" y="19"/>
                  </a:lnTo>
                  <a:lnTo>
                    <a:pt x="1869" y="34"/>
                  </a:lnTo>
                  <a:lnTo>
                    <a:pt x="1870" y="52"/>
                  </a:lnTo>
                  <a:lnTo>
                    <a:pt x="1871" y="72"/>
                  </a:lnTo>
                  <a:lnTo>
                    <a:pt x="1873" y="94"/>
                  </a:lnTo>
                  <a:lnTo>
                    <a:pt x="1876" y="120"/>
                  </a:lnTo>
                  <a:lnTo>
                    <a:pt x="1878" y="146"/>
                  </a:lnTo>
                  <a:lnTo>
                    <a:pt x="1880" y="175"/>
                  </a:lnTo>
                  <a:lnTo>
                    <a:pt x="1881" y="203"/>
                  </a:lnTo>
                  <a:lnTo>
                    <a:pt x="1884" y="233"/>
                  </a:lnTo>
                  <a:lnTo>
                    <a:pt x="1884" y="262"/>
                  </a:lnTo>
                  <a:lnTo>
                    <a:pt x="1886" y="292"/>
                  </a:lnTo>
                  <a:lnTo>
                    <a:pt x="1886" y="321"/>
                  </a:lnTo>
                  <a:lnTo>
                    <a:pt x="1887" y="349"/>
                  </a:lnTo>
                  <a:lnTo>
                    <a:pt x="1886" y="375"/>
                  </a:lnTo>
                  <a:lnTo>
                    <a:pt x="1885" y="400"/>
                  </a:lnTo>
                  <a:lnTo>
                    <a:pt x="1884" y="422"/>
                  </a:lnTo>
                  <a:lnTo>
                    <a:pt x="1881" y="445"/>
                  </a:lnTo>
                  <a:lnTo>
                    <a:pt x="1880" y="464"/>
                  </a:lnTo>
                  <a:lnTo>
                    <a:pt x="1878" y="482"/>
                  </a:lnTo>
                  <a:lnTo>
                    <a:pt x="1876" y="500"/>
                  </a:lnTo>
                  <a:lnTo>
                    <a:pt x="1873" y="515"/>
                  </a:lnTo>
                  <a:lnTo>
                    <a:pt x="1871" y="528"/>
                  </a:lnTo>
                  <a:lnTo>
                    <a:pt x="1870" y="541"/>
                  </a:lnTo>
                  <a:lnTo>
                    <a:pt x="1867" y="550"/>
                  </a:lnTo>
                  <a:lnTo>
                    <a:pt x="1865" y="560"/>
                  </a:lnTo>
                  <a:lnTo>
                    <a:pt x="1863" y="565"/>
                  </a:lnTo>
                  <a:lnTo>
                    <a:pt x="1863" y="571"/>
                  </a:lnTo>
                  <a:lnTo>
                    <a:pt x="1863" y="573"/>
                  </a:lnTo>
                  <a:lnTo>
                    <a:pt x="1863" y="575"/>
                  </a:lnTo>
                  <a:lnTo>
                    <a:pt x="1860" y="572"/>
                  </a:lnTo>
                  <a:lnTo>
                    <a:pt x="1858" y="566"/>
                  </a:lnTo>
                  <a:lnTo>
                    <a:pt x="1857" y="562"/>
                  </a:lnTo>
                  <a:lnTo>
                    <a:pt x="1855" y="560"/>
                  </a:lnTo>
                  <a:lnTo>
                    <a:pt x="1852" y="554"/>
                  </a:lnTo>
                  <a:lnTo>
                    <a:pt x="1850" y="549"/>
                  </a:lnTo>
                  <a:lnTo>
                    <a:pt x="1846" y="542"/>
                  </a:lnTo>
                  <a:lnTo>
                    <a:pt x="1844" y="535"/>
                  </a:lnTo>
                  <a:lnTo>
                    <a:pt x="1839" y="528"/>
                  </a:lnTo>
                  <a:lnTo>
                    <a:pt x="1837" y="521"/>
                  </a:lnTo>
                  <a:lnTo>
                    <a:pt x="1833" y="512"/>
                  </a:lnTo>
                  <a:lnTo>
                    <a:pt x="1828" y="504"/>
                  </a:lnTo>
                  <a:lnTo>
                    <a:pt x="1823" y="497"/>
                  </a:lnTo>
                  <a:lnTo>
                    <a:pt x="1819" y="489"/>
                  </a:lnTo>
                  <a:lnTo>
                    <a:pt x="1813" y="479"/>
                  </a:lnTo>
                  <a:lnTo>
                    <a:pt x="1808" y="470"/>
                  </a:lnTo>
                  <a:lnTo>
                    <a:pt x="1802" y="460"/>
                  </a:lnTo>
                  <a:lnTo>
                    <a:pt x="1795" y="452"/>
                  </a:lnTo>
                  <a:lnTo>
                    <a:pt x="1789" y="442"/>
                  </a:lnTo>
                  <a:lnTo>
                    <a:pt x="1784" y="434"/>
                  </a:lnTo>
                  <a:lnTo>
                    <a:pt x="1778" y="426"/>
                  </a:lnTo>
                  <a:lnTo>
                    <a:pt x="1773" y="419"/>
                  </a:lnTo>
                  <a:lnTo>
                    <a:pt x="1767" y="411"/>
                  </a:lnTo>
                  <a:lnTo>
                    <a:pt x="1763" y="405"/>
                  </a:lnTo>
                  <a:lnTo>
                    <a:pt x="1758" y="399"/>
                  </a:lnTo>
                  <a:lnTo>
                    <a:pt x="1756" y="394"/>
                  </a:lnTo>
                  <a:lnTo>
                    <a:pt x="1750" y="388"/>
                  </a:lnTo>
                  <a:lnTo>
                    <a:pt x="1749" y="385"/>
                  </a:lnTo>
                  <a:lnTo>
                    <a:pt x="1748" y="386"/>
                  </a:lnTo>
                  <a:lnTo>
                    <a:pt x="1745" y="390"/>
                  </a:lnTo>
                  <a:lnTo>
                    <a:pt x="1743" y="396"/>
                  </a:lnTo>
                  <a:lnTo>
                    <a:pt x="1738" y="404"/>
                  </a:lnTo>
                  <a:lnTo>
                    <a:pt x="1734" y="414"/>
                  </a:lnTo>
                  <a:lnTo>
                    <a:pt x="1728" y="427"/>
                  </a:lnTo>
                  <a:lnTo>
                    <a:pt x="1721" y="441"/>
                  </a:lnTo>
                  <a:lnTo>
                    <a:pt x="1715" y="459"/>
                  </a:lnTo>
                  <a:lnTo>
                    <a:pt x="1706" y="476"/>
                  </a:lnTo>
                  <a:lnTo>
                    <a:pt x="1697" y="497"/>
                  </a:lnTo>
                  <a:lnTo>
                    <a:pt x="1688" y="519"/>
                  </a:lnTo>
                  <a:lnTo>
                    <a:pt x="1679" y="543"/>
                  </a:lnTo>
                  <a:lnTo>
                    <a:pt x="1668" y="569"/>
                  </a:lnTo>
                  <a:lnTo>
                    <a:pt x="1658" y="597"/>
                  </a:lnTo>
                  <a:lnTo>
                    <a:pt x="1646" y="625"/>
                  </a:lnTo>
                  <a:lnTo>
                    <a:pt x="1636" y="657"/>
                  </a:lnTo>
                  <a:lnTo>
                    <a:pt x="1624" y="688"/>
                  </a:lnTo>
                  <a:lnTo>
                    <a:pt x="1612" y="721"/>
                  </a:lnTo>
                  <a:lnTo>
                    <a:pt x="1601" y="754"/>
                  </a:lnTo>
                  <a:lnTo>
                    <a:pt x="1590" y="788"/>
                  </a:lnTo>
                  <a:lnTo>
                    <a:pt x="1580" y="819"/>
                  </a:lnTo>
                  <a:lnTo>
                    <a:pt x="1569" y="852"/>
                  </a:lnTo>
                  <a:lnTo>
                    <a:pt x="1559" y="883"/>
                  </a:lnTo>
                  <a:lnTo>
                    <a:pt x="1551" y="913"/>
                  </a:lnTo>
                  <a:lnTo>
                    <a:pt x="1543" y="941"/>
                  </a:lnTo>
                  <a:lnTo>
                    <a:pt x="1533" y="967"/>
                  </a:lnTo>
                  <a:lnTo>
                    <a:pt x="1528" y="988"/>
                  </a:lnTo>
                  <a:lnTo>
                    <a:pt x="1522" y="1009"/>
                  </a:lnTo>
                  <a:lnTo>
                    <a:pt x="1517" y="1024"/>
                  </a:lnTo>
                  <a:lnTo>
                    <a:pt x="1514" y="1036"/>
                  </a:lnTo>
                  <a:lnTo>
                    <a:pt x="1511" y="1044"/>
                  </a:lnTo>
                  <a:lnTo>
                    <a:pt x="1511" y="1047"/>
                  </a:lnTo>
                  <a:lnTo>
                    <a:pt x="1509" y="1046"/>
                  </a:lnTo>
                  <a:lnTo>
                    <a:pt x="1503" y="1043"/>
                  </a:lnTo>
                  <a:lnTo>
                    <a:pt x="1498" y="1040"/>
                  </a:lnTo>
                  <a:lnTo>
                    <a:pt x="1494" y="1038"/>
                  </a:lnTo>
                  <a:lnTo>
                    <a:pt x="1488" y="1033"/>
                  </a:lnTo>
                  <a:lnTo>
                    <a:pt x="1481" y="1031"/>
                  </a:lnTo>
                  <a:lnTo>
                    <a:pt x="1473" y="1027"/>
                  </a:lnTo>
                  <a:lnTo>
                    <a:pt x="1465" y="1023"/>
                  </a:lnTo>
                  <a:lnTo>
                    <a:pt x="1455" y="1018"/>
                  </a:lnTo>
                  <a:lnTo>
                    <a:pt x="1445" y="1013"/>
                  </a:lnTo>
                  <a:lnTo>
                    <a:pt x="1434" y="1009"/>
                  </a:lnTo>
                  <a:lnTo>
                    <a:pt x="1423" y="1003"/>
                  </a:lnTo>
                  <a:lnTo>
                    <a:pt x="1411" y="998"/>
                  </a:lnTo>
                  <a:lnTo>
                    <a:pt x="1398" y="994"/>
                  </a:lnTo>
                  <a:lnTo>
                    <a:pt x="1384" y="988"/>
                  </a:lnTo>
                  <a:lnTo>
                    <a:pt x="1369" y="983"/>
                  </a:lnTo>
                  <a:lnTo>
                    <a:pt x="1354" y="976"/>
                  </a:lnTo>
                  <a:lnTo>
                    <a:pt x="1340" y="971"/>
                  </a:lnTo>
                  <a:lnTo>
                    <a:pt x="1325" y="967"/>
                  </a:lnTo>
                  <a:lnTo>
                    <a:pt x="1312" y="961"/>
                  </a:lnTo>
                  <a:lnTo>
                    <a:pt x="1298" y="956"/>
                  </a:lnTo>
                  <a:lnTo>
                    <a:pt x="1285" y="952"/>
                  </a:lnTo>
                  <a:lnTo>
                    <a:pt x="1273" y="946"/>
                  </a:lnTo>
                  <a:lnTo>
                    <a:pt x="1262" y="943"/>
                  </a:lnTo>
                  <a:lnTo>
                    <a:pt x="1252" y="941"/>
                  </a:lnTo>
                  <a:lnTo>
                    <a:pt x="1243" y="938"/>
                  </a:lnTo>
                  <a:lnTo>
                    <a:pt x="1236" y="935"/>
                  </a:lnTo>
                  <a:lnTo>
                    <a:pt x="1231" y="934"/>
                  </a:lnTo>
                  <a:lnTo>
                    <a:pt x="1228" y="932"/>
                  </a:lnTo>
                  <a:lnTo>
                    <a:pt x="1227" y="932"/>
                  </a:lnTo>
                  <a:lnTo>
                    <a:pt x="1226" y="934"/>
                  </a:lnTo>
                  <a:lnTo>
                    <a:pt x="1226" y="939"/>
                  </a:lnTo>
                  <a:lnTo>
                    <a:pt x="1224" y="947"/>
                  </a:lnTo>
                  <a:lnTo>
                    <a:pt x="1223" y="958"/>
                  </a:lnTo>
                  <a:lnTo>
                    <a:pt x="1220" y="973"/>
                  </a:lnTo>
                  <a:lnTo>
                    <a:pt x="1218" y="990"/>
                  </a:lnTo>
                  <a:lnTo>
                    <a:pt x="1216" y="1008"/>
                  </a:lnTo>
                  <a:lnTo>
                    <a:pt x="1214" y="1028"/>
                  </a:lnTo>
                  <a:lnTo>
                    <a:pt x="1211" y="1050"/>
                  </a:lnTo>
                  <a:lnTo>
                    <a:pt x="1209" y="1073"/>
                  </a:lnTo>
                  <a:lnTo>
                    <a:pt x="1205" y="1095"/>
                  </a:lnTo>
                  <a:lnTo>
                    <a:pt x="1203" y="1119"/>
                  </a:lnTo>
                  <a:lnTo>
                    <a:pt x="1199" y="1143"/>
                  </a:lnTo>
                  <a:lnTo>
                    <a:pt x="1196" y="1167"/>
                  </a:lnTo>
                  <a:lnTo>
                    <a:pt x="1195" y="1189"/>
                  </a:lnTo>
                  <a:lnTo>
                    <a:pt x="1192" y="1212"/>
                  </a:lnTo>
                  <a:lnTo>
                    <a:pt x="1188" y="1233"/>
                  </a:lnTo>
                  <a:lnTo>
                    <a:pt x="1185" y="1252"/>
                  </a:lnTo>
                  <a:lnTo>
                    <a:pt x="1184" y="1270"/>
                  </a:lnTo>
                  <a:lnTo>
                    <a:pt x="1182" y="1287"/>
                  </a:lnTo>
                  <a:lnTo>
                    <a:pt x="1179" y="1302"/>
                  </a:lnTo>
                  <a:lnTo>
                    <a:pt x="1177" y="1319"/>
                  </a:lnTo>
                  <a:lnTo>
                    <a:pt x="1176" y="1331"/>
                  </a:lnTo>
                  <a:lnTo>
                    <a:pt x="1175" y="1343"/>
                  </a:lnTo>
                  <a:lnTo>
                    <a:pt x="1174" y="1353"/>
                  </a:lnTo>
                  <a:lnTo>
                    <a:pt x="1172" y="1364"/>
                  </a:lnTo>
                  <a:lnTo>
                    <a:pt x="1171" y="1371"/>
                  </a:lnTo>
                  <a:lnTo>
                    <a:pt x="1171" y="1379"/>
                  </a:lnTo>
                  <a:lnTo>
                    <a:pt x="1170" y="1383"/>
                  </a:lnTo>
                  <a:lnTo>
                    <a:pt x="1170" y="1388"/>
                  </a:lnTo>
                  <a:lnTo>
                    <a:pt x="1170" y="1390"/>
                  </a:lnTo>
                  <a:lnTo>
                    <a:pt x="1170" y="1391"/>
                  </a:lnTo>
                  <a:lnTo>
                    <a:pt x="1169" y="1391"/>
                  </a:lnTo>
                  <a:lnTo>
                    <a:pt x="1164" y="1390"/>
                  </a:lnTo>
                  <a:lnTo>
                    <a:pt x="1160" y="1387"/>
                  </a:lnTo>
                  <a:lnTo>
                    <a:pt x="1153" y="1386"/>
                  </a:lnTo>
                  <a:lnTo>
                    <a:pt x="1143" y="1382"/>
                  </a:lnTo>
                  <a:lnTo>
                    <a:pt x="1134" y="1379"/>
                  </a:lnTo>
                  <a:lnTo>
                    <a:pt x="1122" y="1376"/>
                  </a:lnTo>
                  <a:lnTo>
                    <a:pt x="1111" y="1373"/>
                  </a:lnTo>
                  <a:lnTo>
                    <a:pt x="1097" y="1368"/>
                  </a:lnTo>
                  <a:lnTo>
                    <a:pt x="1083" y="1364"/>
                  </a:lnTo>
                  <a:lnTo>
                    <a:pt x="1068" y="1360"/>
                  </a:lnTo>
                  <a:lnTo>
                    <a:pt x="1053" y="1356"/>
                  </a:lnTo>
                  <a:lnTo>
                    <a:pt x="1037" y="1352"/>
                  </a:lnTo>
                  <a:lnTo>
                    <a:pt x="1022" y="1349"/>
                  </a:lnTo>
                  <a:lnTo>
                    <a:pt x="1007" y="1343"/>
                  </a:lnTo>
                  <a:lnTo>
                    <a:pt x="993" y="1341"/>
                  </a:lnTo>
                  <a:lnTo>
                    <a:pt x="977" y="1338"/>
                  </a:lnTo>
                  <a:lnTo>
                    <a:pt x="964" y="1335"/>
                  </a:lnTo>
                  <a:lnTo>
                    <a:pt x="950" y="1332"/>
                  </a:lnTo>
                  <a:lnTo>
                    <a:pt x="937" y="1331"/>
                  </a:lnTo>
                  <a:lnTo>
                    <a:pt x="925" y="1328"/>
                  </a:lnTo>
                  <a:lnTo>
                    <a:pt x="913" y="1327"/>
                  </a:lnTo>
                  <a:lnTo>
                    <a:pt x="901" y="1326"/>
                  </a:lnTo>
                  <a:lnTo>
                    <a:pt x="893" y="1326"/>
                  </a:lnTo>
                  <a:lnTo>
                    <a:pt x="883" y="1323"/>
                  </a:lnTo>
                  <a:lnTo>
                    <a:pt x="876" y="1323"/>
                  </a:lnTo>
                  <a:lnTo>
                    <a:pt x="867" y="1323"/>
                  </a:lnTo>
                  <a:lnTo>
                    <a:pt x="863" y="1323"/>
                  </a:lnTo>
                  <a:lnTo>
                    <a:pt x="857" y="1323"/>
                  </a:lnTo>
                  <a:lnTo>
                    <a:pt x="855" y="1323"/>
                  </a:lnTo>
                  <a:lnTo>
                    <a:pt x="852" y="1323"/>
                  </a:lnTo>
                  <a:lnTo>
                    <a:pt x="851" y="1323"/>
                  </a:lnTo>
                  <a:lnTo>
                    <a:pt x="851" y="1326"/>
                  </a:lnTo>
                  <a:lnTo>
                    <a:pt x="850" y="1330"/>
                  </a:lnTo>
                  <a:lnTo>
                    <a:pt x="850" y="1337"/>
                  </a:lnTo>
                  <a:lnTo>
                    <a:pt x="849" y="1343"/>
                  </a:lnTo>
                  <a:lnTo>
                    <a:pt x="849" y="1352"/>
                  </a:lnTo>
                  <a:lnTo>
                    <a:pt x="848" y="1363"/>
                  </a:lnTo>
                  <a:lnTo>
                    <a:pt x="848" y="1373"/>
                  </a:lnTo>
                  <a:lnTo>
                    <a:pt x="847" y="1386"/>
                  </a:lnTo>
                  <a:lnTo>
                    <a:pt x="844" y="1398"/>
                  </a:lnTo>
                  <a:lnTo>
                    <a:pt x="843" y="1412"/>
                  </a:lnTo>
                  <a:lnTo>
                    <a:pt x="842" y="1427"/>
                  </a:lnTo>
                  <a:lnTo>
                    <a:pt x="841" y="1440"/>
                  </a:lnTo>
                  <a:lnTo>
                    <a:pt x="840" y="1455"/>
                  </a:lnTo>
                  <a:lnTo>
                    <a:pt x="838" y="1472"/>
                  </a:lnTo>
                  <a:lnTo>
                    <a:pt x="838" y="1487"/>
                  </a:lnTo>
                  <a:lnTo>
                    <a:pt x="836" y="1502"/>
                  </a:lnTo>
                  <a:lnTo>
                    <a:pt x="834" y="1518"/>
                  </a:lnTo>
                  <a:lnTo>
                    <a:pt x="831" y="1533"/>
                  </a:lnTo>
                  <a:lnTo>
                    <a:pt x="830" y="1550"/>
                  </a:lnTo>
                  <a:lnTo>
                    <a:pt x="828" y="1563"/>
                  </a:lnTo>
                  <a:lnTo>
                    <a:pt x="828" y="1577"/>
                  </a:lnTo>
                  <a:lnTo>
                    <a:pt x="826" y="1591"/>
                  </a:lnTo>
                  <a:lnTo>
                    <a:pt x="826" y="1604"/>
                  </a:lnTo>
                  <a:lnTo>
                    <a:pt x="823" y="1614"/>
                  </a:lnTo>
                  <a:lnTo>
                    <a:pt x="822" y="1625"/>
                  </a:lnTo>
                  <a:lnTo>
                    <a:pt x="821" y="1634"/>
                  </a:lnTo>
                  <a:lnTo>
                    <a:pt x="821" y="1642"/>
                  </a:lnTo>
                  <a:lnTo>
                    <a:pt x="819" y="1648"/>
                  </a:lnTo>
                  <a:lnTo>
                    <a:pt x="819" y="1653"/>
                  </a:lnTo>
                  <a:lnTo>
                    <a:pt x="819" y="1656"/>
                  </a:lnTo>
                  <a:lnTo>
                    <a:pt x="819" y="1657"/>
                  </a:lnTo>
                  <a:lnTo>
                    <a:pt x="816" y="1656"/>
                  </a:lnTo>
                  <a:lnTo>
                    <a:pt x="813" y="1656"/>
                  </a:lnTo>
                  <a:lnTo>
                    <a:pt x="807" y="1653"/>
                  </a:lnTo>
                  <a:lnTo>
                    <a:pt x="799" y="1652"/>
                  </a:lnTo>
                  <a:lnTo>
                    <a:pt x="787" y="1649"/>
                  </a:lnTo>
                  <a:lnTo>
                    <a:pt x="777" y="1647"/>
                  </a:lnTo>
                  <a:lnTo>
                    <a:pt x="763" y="1644"/>
                  </a:lnTo>
                  <a:lnTo>
                    <a:pt x="749" y="1641"/>
                  </a:lnTo>
                  <a:lnTo>
                    <a:pt x="732" y="1637"/>
                  </a:lnTo>
                  <a:lnTo>
                    <a:pt x="717" y="1634"/>
                  </a:lnTo>
                  <a:lnTo>
                    <a:pt x="700" y="1632"/>
                  </a:lnTo>
                  <a:lnTo>
                    <a:pt x="682" y="1629"/>
                  </a:lnTo>
                  <a:lnTo>
                    <a:pt x="665" y="1625"/>
                  </a:lnTo>
                  <a:lnTo>
                    <a:pt x="647" y="1622"/>
                  </a:lnTo>
                  <a:lnTo>
                    <a:pt x="631" y="1619"/>
                  </a:lnTo>
                  <a:lnTo>
                    <a:pt x="615" y="1618"/>
                  </a:lnTo>
                  <a:lnTo>
                    <a:pt x="597" y="1615"/>
                  </a:lnTo>
                  <a:lnTo>
                    <a:pt x="582" y="1614"/>
                  </a:lnTo>
                  <a:lnTo>
                    <a:pt x="567" y="1611"/>
                  </a:lnTo>
                  <a:lnTo>
                    <a:pt x="556" y="1611"/>
                  </a:lnTo>
                  <a:lnTo>
                    <a:pt x="542" y="1611"/>
                  </a:lnTo>
                  <a:lnTo>
                    <a:pt x="530" y="1611"/>
                  </a:lnTo>
                  <a:lnTo>
                    <a:pt x="519" y="1611"/>
                  </a:lnTo>
                  <a:lnTo>
                    <a:pt x="510" y="1611"/>
                  </a:lnTo>
                  <a:lnTo>
                    <a:pt x="501" y="1611"/>
                  </a:lnTo>
                  <a:lnTo>
                    <a:pt x="493" y="1611"/>
                  </a:lnTo>
                  <a:lnTo>
                    <a:pt x="486" y="1611"/>
                  </a:lnTo>
                  <a:lnTo>
                    <a:pt x="481" y="1612"/>
                  </a:lnTo>
                  <a:lnTo>
                    <a:pt x="476" y="1612"/>
                  </a:lnTo>
                  <a:lnTo>
                    <a:pt x="474" y="1614"/>
                  </a:lnTo>
                  <a:lnTo>
                    <a:pt x="472" y="1614"/>
                  </a:lnTo>
                  <a:lnTo>
                    <a:pt x="472" y="1614"/>
                  </a:lnTo>
                  <a:lnTo>
                    <a:pt x="472" y="1618"/>
                  </a:lnTo>
                  <a:lnTo>
                    <a:pt x="472" y="1622"/>
                  </a:lnTo>
                  <a:lnTo>
                    <a:pt x="473" y="1629"/>
                  </a:lnTo>
                  <a:lnTo>
                    <a:pt x="473" y="1636"/>
                  </a:lnTo>
                  <a:lnTo>
                    <a:pt x="475" y="1645"/>
                  </a:lnTo>
                  <a:lnTo>
                    <a:pt x="475" y="1655"/>
                  </a:lnTo>
                  <a:lnTo>
                    <a:pt x="478" y="1666"/>
                  </a:lnTo>
                  <a:lnTo>
                    <a:pt x="478" y="1677"/>
                  </a:lnTo>
                  <a:lnTo>
                    <a:pt x="479" y="1690"/>
                  </a:lnTo>
                  <a:lnTo>
                    <a:pt x="480" y="1704"/>
                  </a:lnTo>
                  <a:lnTo>
                    <a:pt x="481" y="1718"/>
                  </a:lnTo>
                  <a:lnTo>
                    <a:pt x="482" y="1731"/>
                  </a:lnTo>
                  <a:lnTo>
                    <a:pt x="483" y="1743"/>
                  </a:lnTo>
                  <a:lnTo>
                    <a:pt x="483" y="1757"/>
                  </a:lnTo>
                  <a:lnTo>
                    <a:pt x="486" y="1771"/>
                  </a:lnTo>
                  <a:lnTo>
                    <a:pt x="486" y="1783"/>
                  </a:lnTo>
                  <a:lnTo>
                    <a:pt x="486" y="1795"/>
                  </a:lnTo>
                  <a:lnTo>
                    <a:pt x="486" y="1806"/>
                  </a:lnTo>
                  <a:lnTo>
                    <a:pt x="486" y="1817"/>
                  </a:lnTo>
                  <a:lnTo>
                    <a:pt x="486" y="1828"/>
                  </a:lnTo>
                  <a:lnTo>
                    <a:pt x="486" y="1838"/>
                  </a:lnTo>
                  <a:lnTo>
                    <a:pt x="484" y="1847"/>
                  </a:lnTo>
                  <a:lnTo>
                    <a:pt x="484" y="1855"/>
                  </a:lnTo>
                  <a:lnTo>
                    <a:pt x="483" y="1862"/>
                  </a:lnTo>
                  <a:lnTo>
                    <a:pt x="483" y="1869"/>
                  </a:lnTo>
                  <a:lnTo>
                    <a:pt x="483" y="1875"/>
                  </a:lnTo>
                  <a:lnTo>
                    <a:pt x="483" y="1880"/>
                  </a:lnTo>
                  <a:lnTo>
                    <a:pt x="482" y="1887"/>
                  </a:lnTo>
                  <a:lnTo>
                    <a:pt x="482" y="1890"/>
                  </a:lnTo>
                  <a:lnTo>
                    <a:pt x="0" y="1880"/>
                  </a:lnTo>
                  <a:lnTo>
                    <a:pt x="0" y="1880"/>
                  </a:lnTo>
                  <a:close/>
                </a:path>
              </a:pathLst>
            </a:custGeom>
            <a:solidFill>
              <a:srgbClr val="f3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39600" y="4582800"/>
              <a:ext cx="261000" cy="159840"/>
            </a:xfrm>
            <a:custGeom>
              <a:avLst/>
              <a:gdLst/>
              <a:ahLst/>
              <a:rect l="l" t="t" r="r" b="b"/>
              <a:pathLst>
                <a:path w="172" h="106">
                  <a:moveTo>
                    <a:pt x="0" y="23"/>
                  </a:moveTo>
                  <a:lnTo>
                    <a:pt x="1" y="20"/>
                  </a:lnTo>
                  <a:lnTo>
                    <a:pt x="5" y="15"/>
                  </a:lnTo>
                  <a:lnTo>
                    <a:pt x="11" y="8"/>
                  </a:lnTo>
                  <a:lnTo>
                    <a:pt x="16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57" y="20"/>
                  </a:lnTo>
                  <a:lnTo>
                    <a:pt x="86" y="0"/>
                  </a:lnTo>
                  <a:lnTo>
                    <a:pt x="110" y="7"/>
                  </a:lnTo>
                  <a:lnTo>
                    <a:pt x="110" y="8"/>
                  </a:lnTo>
                  <a:lnTo>
                    <a:pt x="112" y="15"/>
                  </a:lnTo>
                  <a:lnTo>
                    <a:pt x="114" y="19"/>
                  </a:lnTo>
                  <a:lnTo>
                    <a:pt x="118" y="26"/>
                  </a:lnTo>
                  <a:lnTo>
                    <a:pt x="124" y="33"/>
                  </a:lnTo>
                  <a:lnTo>
                    <a:pt x="130" y="41"/>
                  </a:lnTo>
                  <a:lnTo>
                    <a:pt x="137" y="49"/>
                  </a:lnTo>
                  <a:lnTo>
                    <a:pt x="146" y="57"/>
                  </a:lnTo>
                  <a:lnTo>
                    <a:pt x="151" y="65"/>
                  </a:lnTo>
                  <a:lnTo>
                    <a:pt x="158" y="72"/>
                  </a:lnTo>
                  <a:lnTo>
                    <a:pt x="163" y="79"/>
                  </a:lnTo>
                  <a:lnTo>
                    <a:pt x="168" y="85"/>
                  </a:lnTo>
                  <a:lnTo>
                    <a:pt x="170" y="87"/>
                  </a:lnTo>
                  <a:lnTo>
                    <a:pt x="172" y="90"/>
                  </a:lnTo>
                  <a:lnTo>
                    <a:pt x="164" y="106"/>
                  </a:lnTo>
                  <a:lnTo>
                    <a:pt x="136" y="101"/>
                  </a:lnTo>
                  <a:lnTo>
                    <a:pt x="135" y="100"/>
                  </a:lnTo>
                  <a:lnTo>
                    <a:pt x="133" y="98"/>
                  </a:lnTo>
                  <a:lnTo>
                    <a:pt x="128" y="95"/>
                  </a:lnTo>
                  <a:lnTo>
                    <a:pt x="122" y="93"/>
                  </a:lnTo>
                  <a:lnTo>
                    <a:pt x="115" y="87"/>
                  </a:lnTo>
                  <a:lnTo>
                    <a:pt x="108" y="83"/>
                  </a:lnTo>
                  <a:lnTo>
                    <a:pt x="101" y="78"/>
                  </a:lnTo>
                  <a:lnTo>
                    <a:pt x="94" y="72"/>
                  </a:lnTo>
                  <a:lnTo>
                    <a:pt x="90" y="67"/>
                  </a:lnTo>
                  <a:lnTo>
                    <a:pt x="85" y="64"/>
                  </a:lnTo>
                  <a:lnTo>
                    <a:pt x="82" y="61"/>
                  </a:lnTo>
                  <a:lnTo>
                    <a:pt x="78" y="59"/>
                  </a:lnTo>
                  <a:lnTo>
                    <a:pt x="71" y="53"/>
                  </a:lnTo>
                  <a:lnTo>
                    <a:pt x="65" y="50"/>
                  </a:lnTo>
                  <a:lnTo>
                    <a:pt x="61" y="48"/>
                  </a:lnTo>
                  <a:lnTo>
                    <a:pt x="57" y="45"/>
                  </a:lnTo>
                  <a:lnTo>
                    <a:pt x="54" y="45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145840" y="5519880"/>
              <a:ext cx="683640" cy="883800"/>
            </a:xfrm>
            <a:custGeom>
              <a:avLst/>
              <a:gdLst/>
              <a:ahLst/>
              <a:rect l="l" t="t" r="r" b="b"/>
              <a:pathLst>
                <a:path w="450" h="586">
                  <a:moveTo>
                    <a:pt x="171" y="12"/>
                  </a:moveTo>
                  <a:lnTo>
                    <a:pt x="171" y="15"/>
                  </a:lnTo>
                  <a:lnTo>
                    <a:pt x="173" y="19"/>
                  </a:lnTo>
                  <a:lnTo>
                    <a:pt x="176" y="25"/>
                  </a:lnTo>
                  <a:lnTo>
                    <a:pt x="179" y="32"/>
                  </a:lnTo>
                  <a:lnTo>
                    <a:pt x="184" y="40"/>
                  </a:lnTo>
                  <a:lnTo>
                    <a:pt x="186" y="44"/>
                  </a:lnTo>
                  <a:lnTo>
                    <a:pt x="188" y="48"/>
                  </a:lnTo>
                  <a:lnTo>
                    <a:pt x="191" y="53"/>
                  </a:lnTo>
                  <a:lnTo>
                    <a:pt x="194" y="60"/>
                  </a:lnTo>
                  <a:lnTo>
                    <a:pt x="198" y="64"/>
                  </a:lnTo>
                  <a:lnTo>
                    <a:pt x="201" y="68"/>
                  </a:lnTo>
                  <a:lnTo>
                    <a:pt x="205" y="73"/>
                  </a:lnTo>
                  <a:lnTo>
                    <a:pt x="209" y="77"/>
                  </a:lnTo>
                  <a:lnTo>
                    <a:pt x="218" y="82"/>
                  </a:lnTo>
                  <a:lnTo>
                    <a:pt x="226" y="88"/>
                  </a:lnTo>
                  <a:lnTo>
                    <a:pt x="231" y="89"/>
                  </a:lnTo>
                  <a:lnTo>
                    <a:pt x="237" y="92"/>
                  </a:lnTo>
                  <a:lnTo>
                    <a:pt x="241" y="93"/>
                  </a:lnTo>
                  <a:lnTo>
                    <a:pt x="243" y="94"/>
                  </a:lnTo>
                  <a:lnTo>
                    <a:pt x="241" y="94"/>
                  </a:lnTo>
                  <a:lnTo>
                    <a:pt x="240" y="100"/>
                  </a:lnTo>
                  <a:lnTo>
                    <a:pt x="236" y="109"/>
                  </a:lnTo>
                  <a:lnTo>
                    <a:pt x="233" y="120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5" y="165"/>
                  </a:lnTo>
                  <a:lnTo>
                    <a:pt x="209" y="183"/>
                  </a:lnTo>
                  <a:lnTo>
                    <a:pt x="202" y="202"/>
                  </a:lnTo>
                  <a:lnTo>
                    <a:pt x="197" y="221"/>
                  </a:lnTo>
                  <a:lnTo>
                    <a:pt x="190" y="241"/>
                  </a:lnTo>
                  <a:lnTo>
                    <a:pt x="183" y="260"/>
                  </a:lnTo>
                  <a:lnTo>
                    <a:pt x="176" y="277"/>
                  </a:lnTo>
                  <a:lnTo>
                    <a:pt x="171" y="294"/>
                  </a:lnTo>
                  <a:lnTo>
                    <a:pt x="166" y="309"/>
                  </a:lnTo>
                  <a:lnTo>
                    <a:pt x="163" y="322"/>
                  </a:lnTo>
                  <a:lnTo>
                    <a:pt x="158" y="333"/>
                  </a:lnTo>
                  <a:lnTo>
                    <a:pt x="156" y="346"/>
                  </a:lnTo>
                  <a:lnTo>
                    <a:pt x="155" y="352"/>
                  </a:lnTo>
                  <a:lnTo>
                    <a:pt x="152" y="362"/>
                  </a:lnTo>
                  <a:lnTo>
                    <a:pt x="151" y="368"/>
                  </a:lnTo>
                  <a:lnTo>
                    <a:pt x="150" y="376"/>
                  </a:lnTo>
                  <a:lnTo>
                    <a:pt x="150" y="380"/>
                  </a:lnTo>
                  <a:lnTo>
                    <a:pt x="150" y="387"/>
                  </a:lnTo>
                  <a:lnTo>
                    <a:pt x="148" y="391"/>
                  </a:lnTo>
                  <a:lnTo>
                    <a:pt x="147" y="396"/>
                  </a:lnTo>
                  <a:lnTo>
                    <a:pt x="144" y="402"/>
                  </a:lnTo>
                  <a:lnTo>
                    <a:pt x="143" y="407"/>
                  </a:lnTo>
                  <a:lnTo>
                    <a:pt x="140" y="413"/>
                  </a:lnTo>
                  <a:lnTo>
                    <a:pt x="135" y="421"/>
                  </a:lnTo>
                  <a:lnTo>
                    <a:pt x="131" y="428"/>
                  </a:lnTo>
                  <a:lnTo>
                    <a:pt x="126" y="437"/>
                  </a:lnTo>
                  <a:lnTo>
                    <a:pt x="117" y="445"/>
                  </a:lnTo>
                  <a:lnTo>
                    <a:pt x="108" y="456"/>
                  </a:lnTo>
                  <a:lnTo>
                    <a:pt x="99" y="467"/>
                  </a:lnTo>
                  <a:lnTo>
                    <a:pt x="89" y="478"/>
                  </a:lnTo>
                  <a:lnTo>
                    <a:pt x="79" y="489"/>
                  </a:lnTo>
                  <a:lnTo>
                    <a:pt x="69" y="501"/>
                  </a:lnTo>
                  <a:lnTo>
                    <a:pt x="58" y="511"/>
                  </a:lnTo>
                  <a:lnTo>
                    <a:pt x="49" y="525"/>
                  </a:lnTo>
                  <a:lnTo>
                    <a:pt x="38" y="534"/>
                  </a:lnTo>
                  <a:lnTo>
                    <a:pt x="29" y="544"/>
                  </a:lnTo>
                  <a:lnTo>
                    <a:pt x="20" y="552"/>
                  </a:lnTo>
                  <a:lnTo>
                    <a:pt x="14" y="560"/>
                  </a:lnTo>
                  <a:lnTo>
                    <a:pt x="7" y="565"/>
                  </a:lnTo>
                  <a:lnTo>
                    <a:pt x="3" y="571"/>
                  </a:lnTo>
                  <a:lnTo>
                    <a:pt x="0" y="574"/>
                  </a:lnTo>
                  <a:lnTo>
                    <a:pt x="0" y="576"/>
                  </a:lnTo>
                  <a:lnTo>
                    <a:pt x="30" y="586"/>
                  </a:lnTo>
                  <a:lnTo>
                    <a:pt x="77" y="586"/>
                  </a:lnTo>
                  <a:lnTo>
                    <a:pt x="77" y="583"/>
                  </a:lnTo>
                  <a:lnTo>
                    <a:pt x="79" y="581"/>
                  </a:lnTo>
                  <a:lnTo>
                    <a:pt x="81" y="574"/>
                  </a:lnTo>
                  <a:lnTo>
                    <a:pt x="86" y="567"/>
                  </a:lnTo>
                  <a:lnTo>
                    <a:pt x="91" y="557"/>
                  </a:lnTo>
                  <a:lnTo>
                    <a:pt x="95" y="548"/>
                  </a:lnTo>
                  <a:lnTo>
                    <a:pt x="101" y="537"/>
                  </a:lnTo>
                  <a:lnTo>
                    <a:pt x="108" y="526"/>
                  </a:lnTo>
                  <a:lnTo>
                    <a:pt x="114" y="514"/>
                  </a:lnTo>
                  <a:lnTo>
                    <a:pt x="120" y="503"/>
                  </a:lnTo>
                  <a:lnTo>
                    <a:pt x="124" y="492"/>
                  </a:lnTo>
                  <a:lnTo>
                    <a:pt x="131" y="482"/>
                  </a:lnTo>
                  <a:lnTo>
                    <a:pt x="135" y="474"/>
                  </a:lnTo>
                  <a:lnTo>
                    <a:pt x="140" y="467"/>
                  </a:lnTo>
                  <a:lnTo>
                    <a:pt x="142" y="462"/>
                  </a:lnTo>
                  <a:lnTo>
                    <a:pt x="144" y="459"/>
                  </a:lnTo>
                  <a:lnTo>
                    <a:pt x="148" y="452"/>
                  </a:lnTo>
                  <a:lnTo>
                    <a:pt x="152" y="445"/>
                  </a:lnTo>
                  <a:lnTo>
                    <a:pt x="158" y="436"/>
                  </a:lnTo>
                  <a:lnTo>
                    <a:pt x="165" y="428"/>
                  </a:lnTo>
                  <a:lnTo>
                    <a:pt x="166" y="422"/>
                  </a:lnTo>
                  <a:lnTo>
                    <a:pt x="170" y="417"/>
                  </a:lnTo>
                  <a:lnTo>
                    <a:pt x="173" y="413"/>
                  </a:lnTo>
                  <a:lnTo>
                    <a:pt x="176" y="410"/>
                  </a:lnTo>
                  <a:lnTo>
                    <a:pt x="180" y="404"/>
                  </a:lnTo>
                  <a:lnTo>
                    <a:pt x="181" y="403"/>
                  </a:lnTo>
                  <a:lnTo>
                    <a:pt x="259" y="234"/>
                  </a:lnTo>
                  <a:lnTo>
                    <a:pt x="275" y="220"/>
                  </a:lnTo>
                  <a:lnTo>
                    <a:pt x="278" y="220"/>
                  </a:lnTo>
                  <a:lnTo>
                    <a:pt x="282" y="220"/>
                  </a:lnTo>
                  <a:lnTo>
                    <a:pt x="287" y="221"/>
                  </a:lnTo>
                  <a:lnTo>
                    <a:pt x="293" y="221"/>
                  </a:lnTo>
                  <a:lnTo>
                    <a:pt x="300" y="224"/>
                  </a:lnTo>
                  <a:lnTo>
                    <a:pt x="308" y="224"/>
                  </a:lnTo>
                  <a:lnTo>
                    <a:pt x="316" y="225"/>
                  </a:lnTo>
                  <a:lnTo>
                    <a:pt x="320" y="225"/>
                  </a:lnTo>
                  <a:lnTo>
                    <a:pt x="325" y="227"/>
                  </a:lnTo>
                  <a:lnTo>
                    <a:pt x="329" y="228"/>
                  </a:lnTo>
                  <a:lnTo>
                    <a:pt x="334" y="228"/>
                  </a:lnTo>
                  <a:lnTo>
                    <a:pt x="337" y="230"/>
                  </a:lnTo>
                  <a:lnTo>
                    <a:pt x="341" y="231"/>
                  </a:lnTo>
                  <a:lnTo>
                    <a:pt x="344" y="231"/>
                  </a:lnTo>
                  <a:lnTo>
                    <a:pt x="349" y="234"/>
                  </a:lnTo>
                  <a:lnTo>
                    <a:pt x="355" y="235"/>
                  </a:lnTo>
                  <a:lnTo>
                    <a:pt x="361" y="236"/>
                  </a:lnTo>
                  <a:lnTo>
                    <a:pt x="364" y="238"/>
                  </a:lnTo>
                  <a:lnTo>
                    <a:pt x="365" y="238"/>
                  </a:lnTo>
                  <a:lnTo>
                    <a:pt x="405" y="202"/>
                  </a:lnTo>
                  <a:lnTo>
                    <a:pt x="368" y="202"/>
                  </a:lnTo>
                  <a:lnTo>
                    <a:pt x="398" y="189"/>
                  </a:lnTo>
                  <a:lnTo>
                    <a:pt x="397" y="186"/>
                  </a:lnTo>
                  <a:lnTo>
                    <a:pt x="394" y="185"/>
                  </a:lnTo>
                  <a:lnTo>
                    <a:pt x="391" y="182"/>
                  </a:lnTo>
                  <a:lnTo>
                    <a:pt x="387" y="179"/>
                  </a:lnTo>
                  <a:lnTo>
                    <a:pt x="380" y="175"/>
                  </a:lnTo>
                  <a:lnTo>
                    <a:pt x="374" y="171"/>
                  </a:lnTo>
                  <a:lnTo>
                    <a:pt x="370" y="168"/>
                  </a:lnTo>
                  <a:lnTo>
                    <a:pt x="365" y="167"/>
                  </a:lnTo>
                  <a:lnTo>
                    <a:pt x="361" y="164"/>
                  </a:lnTo>
                  <a:lnTo>
                    <a:pt x="357" y="163"/>
                  </a:lnTo>
                  <a:lnTo>
                    <a:pt x="350" y="160"/>
                  </a:lnTo>
                  <a:lnTo>
                    <a:pt x="344" y="157"/>
                  </a:lnTo>
                  <a:lnTo>
                    <a:pt x="339" y="154"/>
                  </a:lnTo>
                  <a:lnTo>
                    <a:pt x="333" y="153"/>
                  </a:lnTo>
                  <a:lnTo>
                    <a:pt x="326" y="150"/>
                  </a:lnTo>
                  <a:lnTo>
                    <a:pt x="320" y="149"/>
                  </a:lnTo>
                  <a:lnTo>
                    <a:pt x="314" y="146"/>
                  </a:lnTo>
                  <a:lnTo>
                    <a:pt x="308" y="146"/>
                  </a:lnTo>
                  <a:lnTo>
                    <a:pt x="302" y="144"/>
                  </a:lnTo>
                  <a:lnTo>
                    <a:pt x="298" y="144"/>
                  </a:lnTo>
                  <a:lnTo>
                    <a:pt x="293" y="142"/>
                  </a:lnTo>
                  <a:lnTo>
                    <a:pt x="291" y="142"/>
                  </a:lnTo>
                  <a:lnTo>
                    <a:pt x="285" y="141"/>
                  </a:lnTo>
                  <a:lnTo>
                    <a:pt x="284" y="141"/>
                  </a:lnTo>
                  <a:lnTo>
                    <a:pt x="296" y="92"/>
                  </a:lnTo>
                  <a:lnTo>
                    <a:pt x="296" y="90"/>
                  </a:lnTo>
                  <a:lnTo>
                    <a:pt x="297" y="86"/>
                  </a:lnTo>
                  <a:lnTo>
                    <a:pt x="299" y="79"/>
                  </a:lnTo>
                  <a:lnTo>
                    <a:pt x="302" y="74"/>
                  </a:lnTo>
                  <a:lnTo>
                    <a:pt x="306" y="66"/>
                  </a:lnTo>
                  <a:lnTo>
                    <a:pt x="312" y="58"/>
                  </a:lnTo>
                  <a:lnTo>
                    <a:pt x="316" y="52"/>
                  </a:lnTo>
                  <a:lnTo>
                    <a:pt x="323" y="48"/>
                  </a:lnTo>
                  <a:lnTo>
                    <a:pt x="328" y="43"/>
                  </a:lnTo>
                  <a:lnTo>
                    <a:pt x="334" y="43"/>
                  </a:lnTo>
                  <a:lnTo>
                    <a:pt x="340" y="43"/>
                  </a:lnTo>
                  <a:lnTo>
                    <a:pt x="347" y="45"/>
                  </a:lnTo>
                  <a:lnTo>
                    <a:pt x="353" y="47"/>
                  </a:lnTo>
                  <a:lnTo>
                    <a:pt x="358" y="49"/>
                  </a:lnTo>
                  <a:lnTo>
                    <a:pt x="363" y="52"/>
                  </a:lnTo>
                  <a:lnTo>
                    <a:pt x="369" y="56"/>
                  </a:lnTo>
                  <a:lnTo>
                    <a:pt x="372" y="58"/>
                  </a:lnTo>
                  <a:lnTo>
                    <a:pt x="376" y="59"/>
                  </a:lnTo>
                  <a:lnTo>
                    <a:pt x="379" y="60"/>
                  </a:lnTo>
                  <a:lnTo>
                    <a:pt x="383" y="62"/>
                  </a:lnTo>
                  <a:lnTo>
                    <a:pt x="386" y="64"/>
                  </a:lnTo>
                  <a:lnTo>
                    <a:pt x="391" y="67"/>
                  </a:lnTo>
                  <a:lnTo>
                    <a:pt x="394" y="70"/>
                  </a:lnTo>
                  <a:lnTo>
                    <a:pt x="401" y="75"/>
                  </a:lnTo>
                  <a:lnTo>
                    <a:pt x="407" y="81"/>
                  </a:lnTo>
                  <a:lnTo>
                    <a:pt x="415" y="88"/>
                  </a:lnTo>
                  <a:lnTo>
                    <a:pt x="419" y="92"/>
                  </a:lnTo>
                  <a:lnTo>
                    <a:pt x="424" y="96"/>
                  </a:lnTo>
                  <a:lnTo>
                    <a:pt x="427" y="100"/>
                  </a:lnTo>
                  <a:lnTo>
                    <a:pt x="432" y="104"/>
                  </a:lnTo>
                  <a:lnTo>
                    <a:pt x="439" y="109"/>
                  </a:lnTo>
                  <a:lnTo>
                    <a:pt x="445" y="116"/>
                  </a:lnTo>
                  <a:lnTo>
                    <a:pt x="448" y="119"/>
                  </a:lnTo>
                  <a:lnTo>
                    <a:pt x="450" y="122"/>
                  </a:lnTo>
                  <a:lnTo>
                    <a:pt x="448" y="119"/>
                  </a:lnTo>
                  <a:lnTo>
                    <a:pt x="445" y="115"/>
                  </a:lnTo>
                  <a:lnTo>
                    <a:pt x="439" y="107"/>
                  </a:lnTo>
                  <a:lnTo>
                    <a:pt x="432" y="99"/>
                  </a:lnTo>
                  <a:lnTo>
                    <a:pt x="427" y="92"/>
                  </a:lnTo>
                  <a:lnTo>
                    <a:pt x="422" y="88"/>
                  </a:lnTo>
                  <a:lnTo>
                    <a:pt x="418" y="81"/>
                  </a:lnTo>
                  <a:lnTo>
                    <a:pt x="413" y="75"/>
                  </a:lnTo>
                  <a:lnTo>
                    <a:pt x="408" y="70"/>
                  </a:lnTo>
                  <a:lnTo>
                    <a:pt x="404" y="63"/>
                  </a:lnTo>
                  <a:lnTo>
                    <a:pt x="399" y="58"/>
                  </a:lnTo>
                  <a:lnTo>
                    <a:pt x="394" y="52"/>
                  </a:lnTo>
                  <a:lnTo>
                    <a:pt x="390" y="47"/>
                  </a:lnTo>
                  <a:lnTo>
                    <a:pt x="385" y="40"/>
                  </a:lnTo>
                  <a:lnTo>
                    <a:pt x="380" y="34"/>
                  </a:lnTo>
                  <a:lnTo>
                    <a:pt x="377" y="30"/>
                  </a:lnTo>
                  <a:lnTo>
                    <a:pt x="370" y="21"/>
                  </a:lnTo>
                  <a:lnTo>
                    <a:pt x="364" y="14"/>
                  </a:lnTo>
                  <a:lnTo>
                    <a:pt x="358" y="7"/>
                  </a:lnTo>
                  <a:lnTo>
                    <a:pt x="355" y="3"/>
                  </a:lnTo>
                  <a:lnTo>
                    <a:pt x="353" y="0"/>
                  </a:lnTo>
                  <a:lnTo>
                    <a:pt x="350" y="0"/>
                  </a:lnTo>
                  <a:lnTo>
                    <a:pt x="347" y="6"/>
                  </a:lnTo>
                  <a:lnTo>
                    <a:pt x="342" y="7"/>
                  </a:lnTo>
                  <a:lnTo>
                    <a:pt x="340" y="10"/>
                  </a:lnTo>
                  <a:lnTo>
                    <a:pt x="335" y="14"/>
                  </a:lnTo>
                  <a:lnTo>
                    <a:pt x="330" y="18"/>
                  </a:lnTo>
                  <a:lnTo>
                    <a:pt x="325" y="21"/>
                  </a:lnTo>
                  <a:lnTo>
                    <a:pt x="319" y="25"/>
                  </a:lnTo>
                  <a:lnTo>
                    <a:pt x="313" y="28"/>
                  </a:lnTo>
                  <a:lnTo>
                    <a:pt x="306" y="32"/>
                  </a:lnTo>
                  <a:lnTo>
                    <a:pt x="298" y="33"/>
                  </a:lnTo>
                  <a:lnTo>
                    <a:pt x="291" y="36"/>
                  </a:lnTo>
                  <a:lnTo>
                    <a:pt x="283" y="37"/>
                  </a:lnTo>
                  <a:lnTo>
                    <a:pt x="275" y="40"/>
                  </a:lnTo>
                  <a:lnTo>
                    <a:pt x="266" y="38"/>
                  </a:lnTo>
                  <a:lnTo>
                    <a:pt x="257" y="37"/>
                  </a:lnTo>
                  <a:lnTo>
                    <a:pt x="248" y="36"/>
                  </a:lnTo>
                  <a:lnTo>
                    <a:pt x="238" y="34"/>
                  </a:lnTo>
                  <a:lnTo>
                    <a:pt x="230" y="32"/>
                  </a:lnTo>
                  <a:lnTo>
                    <a:pt x="222" y="30"/>
                  </a:lnTo>
                  <a:lnTo>
                    <a:pt x="213" y="28"/>
                  </a:lnTo>
                  <a:lnTo>
                    <a:pt x="206" y="26"/>
                  </a:lnTo>
                  <a:lnTo>
                    <a:pt x="198" y="23"/>
                  </a:lnTo>
                  <a:lnTo>
                    <a:pt x="191" y="21"/>
                  </a:lnTo>
                  <a:lnTo>
                    <a:pt x="185" y="18"/>
                  </a:lnTo>
                  <a:lnTo>
                    <a:pt x="180" y="17"/>
                  </a:lnTo>
                  <a:lnTo>
                    <a:pt x="176" y="15"/>
                  </a:lnTo>
                  <a:lnTo>
                    <a:pt x="173" y="14"/>
                  </a:lnTo>
                  <a:lnTo>
                    <a:pt x="171" y="12"/>
                  </a:lnTo>
                  <a:lnTo>
                    <a:pt x="171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607720" y="5221080"/>
              <a:ext cx="136440" cy="404280"/>
            </a:xfrm>
            <a:custGeom>
              <a:avLst/>
              <a:gdLst/>
              <a:ahLst/>
              <a:rect l="l" t="t" r="r" b="b"/>
              <a:pathLst>
                <a:path w="90" h="268">
                  <a:moveTo>
                    <a:pt x="66" y="0"/>
                  </a:moveTo>
                  <a:lnTo>
                    <a:pt x="66" y="2"/>
                  </a:lnTo>
                  <a:lnTo>
                    <a:pt x="68" y="7"/>
                  </a:lnTo>
                  <a:lnTo>
                    <a:pt x="70" y="10"/>
                  </a:lnTo>
                  <a:lnTo>
                    <a:pt x="72" y="14"/>
                  </a:lnTo>
                  <a:lnTo>
                    <a:pt x="74" y="19"/>
                  </a:lnTo>
                  <a:lnTo>
                    <a:pt x="76" y="26"/>
                  </a:lnTo>
                  <a:lnTo>
                    <a:pt x="78" y="32"/>
                  </a:lnTo>
                  <a:lnTo>
                    <a:pt x="80" y="38"/>
                  </a:lnTo>
                  <a:lnTo>
                    <a:pt x="81" y="47"/>
                  </a:lnTo>
                  <a:lnTo>
                    <a:pt x="83" y="53"/>
                  </a:lnTo>
                  <a:lnTo>
                    <a:pt x="85" y="62"/>
                  </a:lnTo>
                  <a:lnTo>
                    <a:pt x="87" y="70"/>
                  </a:lnTo>
                  <a:lnTo>
                    <a:pt x="88" y="79"/>
                  </a:lnTo>
                  <a:lnTo>
                    <a:pt x="89" y="88"/>
                  </a:lnTo>
                  <a:lnTo>
                    <a:pt x="89" y="96"/>
                  </a:lnTo>
                  <a:lnTo>
                    <a:pt x="90" y="104"/>
                  </a:lnTo>
                  <a:lnTo>
                    <a:pt x="90" y="112"/>
                  </a:lnTo>
                  <a:lnTo>
                    <a:pt x="90" y="122"/>
                  </a:lnTo>
                  <a:lnTo>
                    <a:pt x="89" y="129"/>
                  </a:lnTo>
                  <a:lnTo>
                    <a:pt x="89" y="137"/>
                  </a:lnTo>
                  <a:lnTo>
                    <a:pt x="87" y="146"/>
                  </a:lnTo>
                  <a:lnTo>
                    <a:pt x="87" y="155"/>
                  </a:lnTo>
                  <a:lnTo>
                    <a:pt x="85" y="161"/>
                  </a:lnTo>
                  <a:lnTo>
                    <a:pt x="82" y="170"/>
                  </a:lnTo>
                  <a:lnTo>
                    <a:pt x="80" y="176"/>
                  </a:lnTo>
                  <a:lnTo>
                    <a:pt x="78" y="185"/>
                  </a:lnTo>
                  <a:lnTo>
                    <a:pt x="74" y="190"/>
                  </a:lnTo>
                  <a:lnTo>
                    <a:pt x="72" y="198"/>
                  </a:lnTo>
                  <a:lnTo>
                    <a:pt x="67" y="204"/>
                  </a:lnTo>
                  <a:lnTo>
                    <a:pt x="65" y="210"/>
                  </a:lnTo>
                  <a:lnTo>
                    <a:pt x="60" y="216"/>
                  </a:lnTo>
                  <a:lnTo>
                    <a:pt x="56" y="220"/>
                  </a:lnTo>
                  <a:lnTo>
                    <a:pt x="51" y="226"/>
                  </a:lnTo>
                  <a:lnTo>
                    <a:pt x="47" y="231"/>
                  </a:lnTo>
                  <a:lnTo>
                    <a:pt x="43" y="235"/>
                  </a:lnTo>
                  <a:lnTo>
                    <a:pt x="38" y="241"/>
                  </a:lnTo>
                  <a:lnTo>
                    <a:pt x="33" y="246"/>
                  </a:lnTo>
                  <a:lnTo>
                    <a:pt x="29" y="250"/>
                  </a:lnTo>
                  <a:lnTo>
                    <a:pt x="24" y="253"/>
                  </a:lnTo>
                  <a:lnTo>
                    <a:pt x="19" y="257"/>
                  </a:lnTo>
                  <a:lnTo>
                    <a:pt x="16" y="260"/>
                  </a:lnTo>
                  <a:lnTo>
                    <a:pt x="14" y="262"/>
                  </a:lnTo>
                  <a:lnTo>
                    <a:pt x="9" y="266"/>
                  </a:lnTo>
                  <a:lnTo>
                    <a:pt x="8" y="268"/>
                  </a:lnTo>
                  <a:lnTo>
                    <a:pt x="0" y="217"/>
                  </a:lnTo>
                  <a:lnTo>
                    <a:pt x="1" y="216"/>
                  </a:lnTo>
                  <a:lnTo>
                    <a:pt x="4" y="213"/>
                  </a:lnTo>
                  <a:lnTo>
                    <a:pt x="10" y="208"/>
                  </a:lnTo>
                  <a:lnTo>
                    <a:pt x="17" y="202"/>
                  </a:lnTo>
                  <a:lnTo>
                    <a:pt x="24" y="194"/>
                  </a:lnTo>
                  <a:lnTo>
                    <a:pt x="32" y="186"/>
                  </a:lnTo>
                  <a:lnTo>
                    <a:pt x="36" y="179"/>
                  </a:lnTo>
                  <a:lnTo>
                    <a:pt x="39" y="174"/>
                  </a:lnTo>
                  <a:lnTo>
                    <a:pt x="43" y="168"/>
                  </a:lnTo>
                  <a:lnTo>
                    <a:pt x="46" y="164"/>
                  </a:lnTo>
                  <a:lnTo>
                    <a:pt x="49" y="156"/>
                  </a:lnTo>
                  <a:lnTo>
                    <a:pt x="51" y="150"/>
                  </a:lnTo>
                  <a:lnTo>
                    <a:pt x="52" y="144"/>
                  </a:lnTo>
                  <a:lnTo>
                    <a:pt x="54" y="138"/>
                  </a:lnTo>
                  <a:lnTo>
                    <a:pt x="54" y="131"/>
                  </a:lnTo>
                  <a:lnTo>
                    <a:pt x="56" y="124"/>
                  </a:lnTo>
                  <a:lnTo>
                    <a:pt x="57" y="119"/>
                  </a:lnTo>
                  <a:lnTo>
                    <a:pt x="58" y="112"/>
                  </a:lnTo>
                  <a:lnTo>
                    <a:pt x="58" y="105"/>
                  </a:lnTo>
                  <a:lnTo>
                    <a:pt x="58" y="99"/>
                  </a:lnTo>
                  <a:lnTo>
                    <a:pt x="58" y="92"/>
                  </a:lnTo>
                  <a:lnTo>
                    <a:pt x="59" y="86"/>
                  </a:lnTo>
                  <a:lnTo>
                    <a:pt x="59" y="81"/>
                  </a:lnTo>
                  <a:lnTo>
                    <a:pt x="59" y="74"/>
                  </a:lnTo>
                  <a:lnTo>
                    <a:pt x="59" y="68"/>
                  </a:lnTo>
                  <a:lnTo>
                    <a:pt x="59" y="64"/>
                  </a:lnTo>
                  <a:lnTo>
                    <a:pt x="59" y="59"/>
                  </a:lnTo>
                  <a:lnTo>
                    <a:pt x="59" y="53"/>
                  </a:lnTo>
                  <a:lnTo>
                    <a:pt x="59" y="49"/>
                  </a:lnTo>
                  <a:lnTo>
                    <a:pt x="59" y="47"/>
                  </a:lnTo>
                  <a:lnTo>
                    <a:pt x="59" y="40"/>
                  </a:lnTo>
                  <a:lnTo>
                    <a:pt x="59" y="34"/>
                  </a:lnTo>
                  <a:lnTo>
                    <a:pt x="59" y="29"/>
                  </a:lnTo>
                  <a:lnTo>
                    <a:pt x="59" y="26"/>
                  </a:lnTo>
                  <a:lnTo>
                    <a:pt x="59" y="25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7e94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37360" y="5563800"/>
              <a:ext cx="144360" cy="17028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37" y="0"/>
                  </a:moveTo>
                  <a:lnTo>
                    <a:pt x="51" y="41"/>
                  </a:lnTo>
                  <a:lnTo>
                    <a:pt x="68" y="31"/>
                  </a:lnTo>
                  <a:lnTo>
                    <a:pt x="95" y="44"/>
                  </a:lnTo>
                  <a:lnTo>
                    <a:pt x="86" y="63"/>
                  </a:lnTo>
                  <a:lnTo>
                    <a:pt x="62" y="60"/>
                  </a:lnTo>
                  <a:lnTo>
                    <a:pt x="75" y="90"/>
                  </a:lnTo>
                  <a:lnTo>
                    <a:pt x="7" y="113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7" y="83"/>
                  </a:lnTo>
                  <a:lnTo>
                    <a:pt x="10" y="78"/>
                  </a:lnTo>
                  <a:lnTo>
                    <a:pt x="14" y="72"/>
                  </a:lnTo>
                  <a:lnTo>
                    <a:pt x="15" y="65"/>
                  </a:lnTo>
                  <a:lnTo>
                    <a:pt x="17" y="60"/>
                  </a:lnTo>
                  <a:lnTo>
                    <a:pt x="16" y="52"/>
                  </a:lnTo>
                  <a:lnTo>
                    <a:pt x="16" y="44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0" y="26"/>
                  </a:lnTo>
                  <a:lnTo>
                    <a:pt x="9" y="22"/>
                  </a:lnTo>
                  <a:lnTo>
                    <a:pt x="7" y="1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1320" y="5643360"/>
              <a:ext cx="51480" cy="5580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7"/>
                  </a:moveTo>
                  <a:lnTo>
                    <a:pt x="0" y="6"/>
                  </a:lnTo>
                  <a:lnTo>
                    <a:pt x="4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0" y="3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4" y="17"/>
                  </a:lnTo>
                  <a:lnTo>
                    <a:pt x="34" y="21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13" y="3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46960" y="6076440"/>
              <a:ext cx="45720" cy="27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1" y="0"/>
                  </a:moveTo>
                  <a:lnTo>
                    <a:pt x="30" y="14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650200" y="4765320"/>
              <a:ext cx="136440" cy="379800"/>
            </a:xfrm>
            <a:custGeom>
              <a:avLst/>
              <a:gdLst/>
              <a:ahLst/>
              <a:rect l="l" t="t" r="r" b="b"/>
              <a:pathLst>
                <a:path w="90" h="252">
                  <a:moveTo>
                    <a:pt x="48" y="0"/>
                  </a:moveTo>
                  <a:lnTo>
                    <a:pt x="66" y="47"/>
                  </a:lnTo>
                  <a:lnTo>
                    <a:pt x="54" y="73"/>
                  </a:lnTo>
                  <a:lnTo>
                    <a:pt x="73" y="73"/>
                  </a:lnTo>
                  <a:lnTo>
                    <a:pt x="90" y="99"/>
                  </a:lnTo>
                  <a:lnTo>
                    <a:pt x="75" y="104"/>
                  </a:lnTo>
                  <a:lnTo>
                    <a:pt x="73" y="103"/>
                  </a:lnTo>
                  <a:lnTo>
                    <a:pt x="72" y="103"/>
                  </a:lnTo>
                  <a:lnTo>
                    <a:pt x="68" y="103"/>
                  </a:lnTo>
                  <a:lnTo>
                    <a:pt x="65" y="103"/>
                  </a:lnTo>
                  <a:lnTo>
                    <a:pt x="60" y="103"/>
                  </a:lnTo>
                  <a:lnTo>
                    <a:pt x="55" y="103"/>
                  </a:lnTo>
                  <a:lnTo>
                    <a:pt x="51" y="106"/>
                  </a:lnTo>
                  <a:lnTo>
                    <a:pt x="48" y="110"/>
                  </a:lnTo>
                  <a:lnTo>
                    <a:pt x="45" y="114"/>
                  </a:lnTo>
                  <a:lnTo>
                    <a:pt x="43" y="119"/>
                  </a:lnTo>
                  <a:lnTo>
                    <a:pt x="42" y="125"/>
                  </a:lnTo>
                  <a:lnTo>
                    <a:pt x="43" y="133"/>
                  </a:lnTo>
                  <a:lnTo>
                    <a:pt x="43" y="138"/>
                  </a:lnTo>
                  <a:lnTo>
                    <a:pt x="45" y="145"/>
                  </a:lnTo>
                  <a:lnTo>
                    <a:pt x="48" y="151"/>
                  </a:lnTo>
                  <a:lnTo>
                    <a:pt x="52" y="155"/>
                  </a:lnTo>
                  <a:lnTo>
                    <a:pt x="55" y="157"/>
                  </a:lnTo>
                  <a:lnTo>
                    <a:pt x="60" y="160"/>
                  </a:lnTo>
                  <a:lnTo>
                    <a:pt x="65" y="162"/>
                  </a:lnTo>
                  <a:lnTo>
                    <a:pt x="71" y="163"/>
                  </a:lnTo>
                  <a:lnTo>
                    <a:pt x="74" y="163"/>
                  </a:lnTo>
                  <a:lnTo>
                    <a:pt x="78" y="163"/>
                  </a:lnTo>
                  <a:lnTo>
                    <a:pt x="80" y="163"/>
                  </a:lnTo>
                  <a:lnTo>
                    <a:pt x="81" y="163"/>
                  </a:lnTo>
                  <a:lnTo>
                    <a:pt x="60" y="188"/>
                  </a:lnTo>
                  <a:lnTo>
                    <a:pt x="28" y="252"/>
                  </a:lnTo>
                  <a:lnTo>
                    <a:pt x="9" y="237"/>
                  </a:lnTo>
                  <a:lnTo>
                    <a:pt x="9" y="234"/>
                  </a:lnTo>
                  <a:lnTo>
                    <a:pt x="10" y="228"/>
                  </a:lnTo>
                  <a:lnTo>
                    <a:pt x="10" y="224"/>
                  </a:lnTo>
                  <a:lnTo>
                    <a:pt x="12" y="220"/>
                  </a:lnTo>
                  <a:lnTo>
                    <a:pt x="12" y="215"/>
                  </a:lnTo>
                  <a:lnTo>
                    <a:pt x="15" y="209"/>
                  </a:lnTo>
                  <a:lnTo>
                    <a:pt x="15" y="204"/>
                  </a:lnTo>
                  <a:lnTo>
                    <a:pt x="16" y="198"/>
                  </a:lnTo>
                  <a:lnTo>
                    <a:pt x="16" y="193"/>
                  </a:lnTo>
                  <a:lnTo>
                    <a:pt x="17" y="188"/>
                  </a:lnTo>
                  <a:lnTo>
                    <a:pt x="17" y="182"/>
                  </a:lnTo>
                  <a:lnTo>
                    <a:pt x="18" y="178"/>
                  </a:lnTo>
                  <a:lnTo>
                    <a:pt x="18" y="172"/>
                  </a:lnTo>
                  <a:lnTo>
                    <a:pt x="18" y="170"/>
                  </a:lnTo>
                  <a:lnTo>
                    <a:pt x="16" y="162"/>
                  </a:lnTo>
                  <a:lnTo>
                    <a:pt x="15" y="156"/>
                  </a:lnTo>
                  <a:lnTo>
                    <a:pt x="12" y="152"/>
                  </a:lnTo>
                  <a:lnTo>
                    <a:pt x="10" y="151"/>
                  </a:lnTo>
                  <a:lnTo>
                    <a:pt x="4" y="148"/>
                  </a:lnTo>
                  <a:lnTo>
                    <a:pt x="2" y="144"/>
                  </a:lnTo>
                  <a:lnTo>
                    <a:pt x="3" y="137"/>
                  </a:lnTo>
                  <a:lnTo>
                    <a:pt x="7" y="129"/>
                  </a:lnTo>
                  <a:lnTo>
                    <a:pt x="10" y="122"/>
                  </a:lnTo>
                  <a:lnTo>
                    <a:pt x="12" y="119"/>
                  </a:lnTo>
                  <a:lnTo>
                    <a:pt x="10" y="117"/>
                  </a:lnTo>
                  <a:lnTo>
                    <a:pt x="7" y="112"/>
                  </a:lnTo>
                  <a:lnTo>
                    <a:pt x="4" y="107"/>
                  </a:lnTo>
                  <a:lnTo>
                    <a:pt x="3" y="103"/>
                  </a:lnTo>
                  <a:lnTo>
                    <a:pt x="2" y="96"/>
                  </a:lnTo>
                  <a:lnTo>
                    <a:pt x="2" y="88"/>
                  </a:lnTo>
                  <a:lnTo>
                    <a:pt x="1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2" y="48"/>
                  </a:lnTo>
                  <a:lnTo>
                    <a:pt x="2" y="39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563800" y="4724640"/>
              <a:ext cx="215640" cy="257760"/>
            </a:xfrm>
            <a:custGeom>
              <a:avLst/>
              <a:gdLst/>
              <a:ahLst/>
              <a:rect l="l" t="t" r="r" b="b"/>
              <a:pathLst>
                <a:path w="142" h="171">
                  <a:moveTo>
                    <a:pt x="107" y="45"/>
                  </a:moveTo>
                  <a:lnTo>
                    <a:pt x="108" y="48"/>
                  </a:lnTo>
                  <a:lnTo>
                    <a:pt x="114" y="51"/>
                  </a:lnTo>
                  <a:lnTo>
                    <a:pt x="117" y="48"/>
                  </a:lnTo>
                  <a:lnTo>
                    <a:pt x="119" y="47"/>
                  </a:lnTo>
                  <a:lnTo>
                    <a:pt x="122" y="44"/>
                  </a:lnTo>
                  <a:lnTo>
                    <a:pt x="123" y="42"/>
                  </a:lnTo>
                  <a:lnTo>
                    <a:pt x="136" y="55"/>
                  </a:lnTo>
                  <a:lnTo>
                    <a:pt x="137" y="53"/>
                  </a:lnTo>
                  <a:lnTo>
                    <a:pt x="138" y="49"/>
                  </a:lnTo>
                  <a:lnTo>
                    <a:pt x="140" y="44"/>
                  </a:lnTo>
                  <a:lnTo>
                    <a:pt x="142" y="38"/>
                  </a:lnTo>
                  <a:lnTo>
                    <a:pt x="138" y="32"/>
                  </a:lnTo>
                  <a:lnTo>
                    <a:pt x="133" y="27"/>
                  </a:lnTo>
                  <a:lnTo>
                    <a:pt x="129" y="23"/>
                  </a:lnTo>
                  <a:lnTo>
                    <a:pt x="128" y="23"/>
                  </a:lnTo>
                  <a:lnTo>
                    <a:pt x="126" y="21"/>
                  </a:lnTo>
                  <a:lnTo>
                    <a:pt x="126" y="15"/>
                  </a:lnTo>
                  <a:lnTo>
                    <a:pt x="124" y="10"/>
                  </a:lnTo>
                  <a:lnTo>
                    <a:pt x="122" y="6"/>
                  </a:lnTo>
                  <a:lnTo>
                    <a:pt x="116" y="1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6" y="3"/>
                  </a:lnTo>
                  <a:lnTo>
                    <a:pt x="93" y="6"/>
                  </a:lnTo>
                  <a:lnTo>
                    <a:pt x="88" y="7"/>
                  </a:lnTo>
                  <a:lnTo>
                    <a:pt x="83" y="10"/>
                  </a:lnTo>
                  <a:lnTo>
                    <a:pt x="80" y="14"/>
                  </a:lnTo>
                  <a:lnTo>
                    <a:pt x="75" y="17"/>
                  </a:lnTo>
                  <a:lnTo>
                    <a:pt x="68" y="23"/>
                  </a:lnTo>
                  <a:lnTo>
                    <a:pt x="61" y="27"/>
                  </a:lnTo>
                  <a:lnTo>
                    <a:pt x="54" y="29"/>
                  </a:lnTo>
                  <a:lnTo>
                    <a:pt x="48" y="27"/>
                  </a:lnTo>
                  <a:lnTo>
                    <a:pt x="40" y="27"/>
                  </a:lnTo>
                  <a:lnTo>
                    <a:pt x="33" y="30"/>
                  </a:lnTo>
                  <a:lnTo>
                    <a:pt x="29" y="32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6" y="44"/>
                  </a:lnTo>
                  <a:lnTo>
                    <a:pt x="12" y="48"/>
                  </a:lnTo>
                  <a:lnTo>
                    <a:pt x="9" y="53"/>
                  </a:lnTo>
                  <a:lnTo>
                    <a:pt x="5" y="57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3" y="81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2" y="93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3" y="131"/>
                  </a:lnTo>
                  <a:lnTo>
                    <a:pt x="5" y="139"/>
                  </a:lnTo>
                  <a:lnTo>
                    <a:pt x="8" y="148"/>
                  </a:lnTo>
                  <a:lnTo>
                    <a:pt x="12" y="153"/>
                  </a:lnTo>
                  <a:lnTo>
                    <a:pt x="18" y="160"/>
                  </a:lnTo>
                  <a:lnTo>
                    <a:pt x="25" y="165"/>
                  </a:lnTo>
                  <a:lnTo>
                    <a:pt x="32" y="168"/>
                  </a:lnTo>
                  <a:lnTo>
                    <a:pt x="38" y="169"/>
                  </a:lnTo>
                  <a:lnTo>
                    <a:pt x="41" y="171"/>
                  </a:lnTo>
                  <a:lnTo>
                    <a:pt x="51" y="146"/>
                  </a:lnTo>
                  <a:lnTo>
                    <a:pt x="50" y="142"/>
                  </a:lnTo>
                  <a:lnTo>
                    <a:pt x="48" y="135"/>
                  </a:lnTo>
                  <a:lnTo>
                    <a:pt x="46" y="127"/>
                  </a:lnTo>
                  <a:lnTo>
                    <a:pt x="45" y="123"/>
                  </a:lnTo>
                  <a:lnTo>
                    <a:pt x="46" y="115"/>
                  </a:lnTo>
                  <a:lnTo>
                    <a:pt x="52" y="113"/>
                  </a:lnTo>
                  <a:lnTo>
                    <a:pt x="57" y="115"/>
                  </a:lnTo>
                  <a:lnTo>
                    <a:pt x="61" y="118"/>
                  </a:lnTo>
                  <a:lnTo>
                    <a:pt x="66" y="119"/>
                  </a:lnTo>
                  <a:lnTo>
                    <a:pt x="71" y="120"/>
                  </a:lnTo>
                  <a:lnTo>
                    <a:pt x="74" y="118"/>
                  </a:lnTo>
                  <a:lnTo>
                    <a:pt x="78" y="115"/>
                  </a:lnTo>
                  <a:lnTo>
                    <a:pt x="80" y="109"/>
                  </a:lnTo>
                  <a:lnTo>
                    <a:pt x="82" y="104"/>
                  </a:lnTo>
                  <a:lnTo>
                    <a:pt x="81" y="98"/>
                  </a:lnTo>
                  <a:lnTo>
                    <a:pt x="80" y="94"/>
                  </a:lnTo>
                  <a:lnTo>
                    <a:pt x="80" y="90"/>
                  </a:lnTo>
                  <a:lnTo>
                    <a:pt x="82" y="86"/>
                  </a:lnTo>
                  <a:lnTo>
                    <a:pt x="85" y="82"/>
                  </a:lnTo>
                  <a:lnTo>
                    <a:pt x="90" y="78"/>
                  </a:lnTo>
                  <a:lnTo>
                    <a:pt x="96" y="71"/>
                  </a:lnTo>
                  <a:lnTo>
                    <a:pt x="101" y="66"/>
                  </a:lnTo>
                  <a:lnTo>
                    <a:pt x="103" y="59"/>
                  </a:lnTo>
                  <a:lnTo>
                    <a:pt x="105" y="52"/>
                  </a:lnTo>
                  <a:lnTo>
                    <a:pt x="105" y="47"/>
                  </a:lnTo>
                  <a:lnTo>
                    <a:pt x="107" y="45"/>
                  </a:lnTo>
                  <a:lnTo>
                    <a:pt x="107" y="4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48800" y="4880160"/>
              <a:ext cx="167040" cy="11916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0" y="49"/>
                  </a:moveTo>
                  <a:lnTo>
                    <a:pt x="1" y="46"/>
                  </a:lnTo>
                  <a:lnTo>
                    <a:pt x="5" y="41"/>
                  </a:lnTo>
                  <a:lnTo>
                    <a:pt x="8" y="36"/>
                  </a:lnTo>
                  <a:lnTo>
                    <a:pt x="13" y="34"/>
                  </a:lnTo>
                  <a:lnTo>
                    <a:pt x="17" y="32"/>
                  </a:lnTo>
                  <a:lnTo>
                    <a:pt x="24" y="30"/>
                  </a:lnTo>
                  <a:lnTo>
                    <a:pt x="30" y="27"/>
                  </a:lnTo>
                  <a:lnTo>
                    <a:pt x="36" y="27"/>
                  </a:lnTo>
                  <a:lnTo>
                    <a:pt x="43" y="24"/>
                  </a:lnTo>
                  <a:lnTo>
                    <a:pt x="51" y="24"/>
                  </a:lnTo>
                  <a:lnTo>
                    <a:pt x="56" y="24"/>
                  </a:lnTo>
                  <a:lnTo>
                    <a:pt x="62" y="24"/>
                  </a:lnTo>
                  <a:lnTo>
                    <a:pt x="64" y="24"/>
                  </a:lnTo>
                  <a:lnTo>
                    <a:pt x="66" y="24"/>
                  </a:lnTo>
                  <a:lnTo>
                    <a:pt x="110" y="0"/>
                  </a:lnTo>
                  <a:lnTo>
                    <a:pt x="108" y="12"/>
                  </a:lnTo>
                  <a:lnTo>
                    <a:pt x="78" y="39"/>
                  </a:lnTo>
                  <a:lnTo>
                    <a:pt x="17" y="60"/>
                  </a:lnTo>
                  <a:lnTo>
                    <a:pt x="1" y="7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29080" y="4849920"/>
              <a:ext cx="75960" cy="3168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0" y="15"/>
                  </a:moveTo>
                  <a:lnTo>
                    <a:pt x="43" y="0"/>
                  </a:lnTo>
                  <a:lnTo>
                    <a:pt x="50" y="0"/>
                  </a:lnTo>
                  <a:lnTo>
                    <a:pt x="11" y="2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43120" y="5676840"/>
              <a:ext cx="108000" cy="5688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0"/>
                  </a:moveTo>
                  <a:lnTo>
                    <a:pt x="29" y="0"/>
                  </a:lnTo>
                  <a:lnTo>
                    <a:pt x="41" y="8"/>
                  </a:lnTo>
                  <a:lnTo>
                    <a:pt x="50" y="3"/>
                  </a:lnTo>
                  <a:lnTo>
                    <a:pt x="58" y="5"/>
                  </a:lnTo>
                  <a:lnTo>
                    <a:pt x="71" y="15"/>
                  </a:lnTo>
                  <a:lnTo>
                    <a:pt x="7" y="3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91560" y="5661360"/>
              <a:ext cx="447840" cy="431640"/>
            </a:xfrm>
            <a:custGeom>
              <a:avLst/>
              <a:gdLst/>
              <a:ahLst/>
              <a:rect l="l" t="t" r="r" b="b"/>
              <a:pathLst>
                <a:path w="295" h="286">
                  <a:moveTo>
                    <a:pt x="2" y="60"/>
                  </a:moveTo>
                  <a:lnTo>
                    <a:pt x="283" y="0"/>
                  </a:lnTo>
                  <a:lnTo>
                    <a:pt x="295" y="227"/>
                  </a:lnTo>
                  <a:lnTo>
                    <a:pt x="282" y="235"/>
                  </a:lnTo>
                  <a:lnTo>
                    <a:pt x="47" y="286"/>
                  </a:lnTo>
                  <a:lnTo>
                    <a:pt x="28" y="283"/>
                  </a:lnTo>
                  <a:lnTo>
                    <a:pt x="27" y="282"/>
                  </a:lnTo>
                  <a:lnTo>
                    <a:pt x="27" y="274"/>
                  </a:lnTo>
                  <a:lnTo>
                    <a:pt x="25" y="264"/>
                  </a:lnTo>
                  <a:lnTo>
                    <a:pt x="23" y="252"/>
                  </a:lnTo>
                  <a:lnTo>
                    <a:pt x="21" y="235"/>
                  </a:lnTo>
                  <a:lnTo>
                    <a:pt x="19" y="219"/>
                  </a:lnTo>
                  <a:lnTo>
                    <a:pt x="16" y="200"/>
                  </a:lnTo>
                  <a:lnTo>
                    <a:pt x="14" y="182"/>
                  </a:lnTo>
                  <a:lnTo>
                    <a:pt x="11" y="162"/>
                  </a:lnTo>
                  <a:lnTo>
                    <a:pt x="8" y="142"/>
                  </a:lnTo>
                  <a:lnTo>
                    <a:pt x="6" y="125"/>
                  </a:lnTo>
                  <a:lnTo>
                    <a:pt x="4" y="110"/>
                  </a:lnTo>
                  <a:lnTo>
                    <a:pt x="2" y="96"/>
                  </a:lnTo>
                  <a:lnTo>
                    <a:pt x="1" y="85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1" y="66"/>
                  </a:lnTo>
                  <a:lnTo>
                    <a:pt x="1" y="62"/>
                  </a:lnTo>
                  <a:lnTo>
                    <a:pt x="2" y="60"/>
                  </a:lnTo>
                  <a:lnTo>
                    <a:pt x="2" y="60"/>
                  </a:lnTo>
                  <a:close/>
                </a:path>
              </a:pathLst>
            </a:cu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451480" y="5661360"/>
              <a:ext cx="189720" cy="357840"/>
            </a:xfrm>
            <a:custGeom>
              <a:avLst/>
              <a:gdLst/>
              <a:ahLst/>
              <a:rect l="l" t="t" r="r" b="b"/>
              <a:pathLst>
                <a:path w="125" h="237">
                  <a:moveTo>
                    <a:pt x="0" y="24"/>
                  </a:moveTo>
                  <a:lnTo>
                    <a:pt x="112" y="0"/>
                  </a:lnTo>
                  <a:lnTo>
                    <a:pt x="125" y="228"/>
                  </a:lnTo>
                  <a:lnTo>
                    <a:pt x="92" y="237"/>
                  </a:lnTo>
                  <a:lnTo>
                    <a:pt x="84" y="2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86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9" name=""/>
          <p:cNvSpPr/>
          <p:nvPr/>
        </p:nvSpPr>
        <p:spPr>
          <a:xfrm>
            <a:off x="1905120" y="1752480"/>
            <a:ext cx="5486400" cy="1676520"/>
          </a:xfrm>
          <a:prstGeom prst="wedgeEllipseCallout">
            <a:avLst>
              <a:gd name="adj1" fmla="val -31597"/>
              <a:gd name="adj2" fmla="val 87027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514600" y="19051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ceed systematicall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746000" cy="21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533520" y="3619440"/>
            <a:ext cx="8076960" cy="665640"/>
            <a:chOff x="533520" y="3619440"/>
            <a:chExt cx="8076960" cy="665640"/>
          </a:xfrm>
        </p:grpSpPr>
        <p:sp>
          <p:nvSpPr>
            <p:cNvPr id="1463" name=""/>
            <p:cNvSpPr/>
            <p:nvPr/>
          </p:nvSpPr>
          <p:spPr>
            <a:xfrm>
              <a:off x="533520" y="3657600"/>
              <a:ext cx="80769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8q  + 3q r  + q  - 4q r  + 9q  - 3q  -5q r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0060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2468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35268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1028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1066680" y="3619440"/>
            <a:ext cx="7696440" cy="459720"/>
            <a:chOff x="1066680" y="3619440"/>
            <a:chExt cx="7696440" cy="459720"/>
          </a:xfrm>
        </p:grpSpPr>
        <p:sp>
          <p:nvSpPr>
            <p:cNvPr id="1470" name=""/>
            <p:cNvSpPr/>
            <p:nvPr/>
          </p:nvSpPr>
          <p:spPr>
            <a:xfrm>
              <a:off x="106668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51460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1972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4360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305920" y="3619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33520" y="2590920"/>
            <a:ext cx="1904760" cy="990360"/>
            <a:chOff x="533520" y="2590920"/>
            <a:chExt cx="1904760" cy="990360"/>
          </a:xfrm>
        </p:grpSpPr>
        <p:sp>
          <p:nvSpPr>
            <p:cNvPr id="1476" name=""/>
            <p:cNvSpPr/>
            <p:nvPr/>
          </p:nvSpPr>
          <p:spPr>
            <a:xfrm>
              <a:off x="533520" y="259092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1218960" y="312408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1447920" y="4190760"/>
            <a:ext cx="1981080" cy="1038960"/>
            <a:chOff x="1447920" y="4190760"/>
            <a:chExt cx="1981080" cy="1038960"/>
          </a:xfrm>
        </p:grpSpPr>
        <p:sp>
          <p:nvSpPr>
            <p:cNvPr id="1479" name=""/>
            <p:cNvSpPr/>
            <p:nvPr/>
          </p:nvSpPr>
          <p:spPr>
            <a:xfrm>
              <a:off x="1447920" y="46483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2286000" y="41907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514600" y="2133720"/>
            <a:ext cx="1981080" cy="1523880"/>
            <a:chOff x="2514600" y="2133720"/>
            <a:chExt cx="1981080" cy="1523880"/>
          </a:xfrm>
        </p:grpSpPr>
        <p:sp>
          <p:nvSpPr>
            <p:cNvPr id="1482" name=""/>
            <p:cNvSpPr/>
            <p:nvPr/>
          </p:nvSpPr>
          <p:spPr>
            <a:xfrm>
              <a:off x="2514600" y="21337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52680" y="26668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3581280" y="4191120"/>
            <a:ext cx="1981440" cy="1343160"/>
            <a:chOff x="3581280" y="4191120"/>
            <a:chExt cx="1981440" cy="1343160"/>
          </a:xfrm>
        </p:grpSpPr>
        <p:sp>
          <p:nvSpPr>
            <p:cNvPr id="1485" name=""/>
            <p:cNvSpPr/>
            <p:nvPr/>
          </p:nvSpPr>
          <p:spPr>
            <a:xfrm>
              <a:off x="3581280" y="495288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4267080" y="4191120"/>
              <a:ext cx="3049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4724280" y="2743200"/>
            <a:ext cx="1905120" cy="990720"/>
            <a:chOff x="4724280" y="2743200"/>
            <a:chExt cx="1905120" cy="990720"/>
          </a:xfrm>
        </p:grpSpPr>
        <p:sp>
          <p:nvSpPr>
            <p:cNvPr id="1488" name=""/>
            <p:cNvSpPr/>
            <p:nvPr/>
          </p:nvSpPr>
          <p:spPr>
            <a:xfrm>
              <a:off x="4724280" y="274320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62720" y="327672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6324480" y="4267080"/>
            <a:ext cx="1981440" cy="1114920"/>
            <a:chOff x="6324480" y="4267080"/>
            <a:chExt cx="1981440" cy="1114920"/>
          </a:xfrm>
        </p:grpSpPr>
        <p:sp>
          <p:nvSpPr>
            <p:cNvPr id="1491" name=""/>
            <p:cNvSpPr/>
            <p:nvPr/>
          </p:nvSpPr>
          <p:spPr>
            <a:xfrm>
              <a:off x="6324480" y="480060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6781320" y="4267080"/>
              <a:ext cx="3812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6705720" y="2209680"/>
            <a:ext cx="1981080" cy="1371600"/>
            <a:chOff x="6705720" y="2209680"/>
            <a:chExt cx="1981080" cy="1371600"/>
          </a:xfrm>
        </p:grpSpPr>
        <p:sp>
          <p:nvSpPr>
            <p:cNvPr id="1494" name=""/>
            <p:cNvSpPr/>
            <p:nvPr/>
          </p:nvSpPr>
          <p:spPr>
            <a:xfrm>
              <a:off x="6705720" y="22096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772400" y="2743200"/>
              <a:ext cx="3808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277560" y="1339920"/>
            <a:ext cx="3386520" cy="1145880"/>
            <a:chOff x="277560" y="1339920"/>
            <a:chExt cx="3386520" cy="1145880"/>
          </a:xfrm>
        </p:grpSpPr>
        <p:sp>
          <p:nvSpPr>
            <p:cNvPr id="1498" name=""/>
            <p:cNvSpPr/>
            <p:nvPr/>
          </p:nvSpPr>
          <p:spPr>
            <a:xfrm rot="20897400">
              <a:off x="289800" y="1682640"/>
              <a:ext cx="327960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20897400">
              <a:off x="510120" y="1652400"/>
              <a:ext cx="31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0" name=""/>
          <p:cNvSpPr/>
          <p:nvPr/>
        </p:nvSpPr>
        <p:spPr>
          <a:xfrm>
            <a:off x="762120" y="5821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rearrange in descending ord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467480" y="579132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495680" y="15238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Identify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17524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Why simplify polynomi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52560" y="2895480"/>
            <a:ext cx="7238880" cy="3191040"/>
            <a:chOff x="952560" y="2895480"/>
            <a:chExt cx="7238880" cy="3191040"/>
          </a:xfrm>
        </p:grpSpPr>
        <p:sp>
          <p:nvSpPr>
            <p:cNvPr id="171" name=""/>
            <p:cNvSpPr/>
            <p:nvPr/>
          </p:nvSpPr>
          <p:spPr>
            <a:xfrm>
              <a:off x="952560" y="3276720"/>
              <a:ext cx="3352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to make calculating easier!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305240" y="2895480"/>
              <a:ext cx="3886200" cy="3191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3" name=""/>
          <p:cNvGrpSpPr/>
          <p:nvPr/>
        </p:nvGrpSpPr>
        <p:grpSpPr>
          <a:xfrm>
            <a:off x="838080" y="4511160"/>
            <a:ext cx="5639040" cy="745560"/>
            <a:chOff x="838080" y="4511160"/>
            <a:chExt cx="5639040" cy="745560"/>
          </a:xfrm>
        </p:grpSpPr>
        <p:sp>
          <p:nvSpPr>
            <p:cNvPr id="1504" name=""/>
            <p:cNvSpPr/>
            <p:nvPr/>
          </p:nvSpPr>
          <p:spPr>
            <a:xfrm flipV="1" rot="16200000">
              <a:off x="3528000" y="1820520"/>
              <a:ext cx="258840" cy="5639040"/>
            </a:xfrm>
            <a:custGeom>
              <a:avLst/>
              <a:gdLst>
                <a:gd name="textAreaLeft" fmla="*/ 165600 w 258840"/>
                <a:gd name="textAreaRight" fmla="*/ 259200 w 258840"/>
                <a:gd name="textAreaTop" fmla="*/ 146880 h 5639040"/>
                <a:gd name="textAreaBottom" fmla="*/ 5492160 h 563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66880" y="467532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6781680" y="4511160"/>
            <a:ext cx="2210040" cy="745560"/>
            <a:chOff x="6781680" y="4511160"/>
            <a:chExt cx="2210040" cy="745560"/>
          </a:xfrm>
        </p:grpSpPr>
        <p:sp>
          <p:nvSpPr>
            <p:cNvPr id="1507" name=""/>
            <p:cNvSpPr/>
            <p:nvPr/>
          </p:nvSpPr>
          <p:spPr>
            <a:xfrm>
              <a:off x="6781680" y="467532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gree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 rot="16200000">
              <a:off x="7657920" y="3786840"/>
              <a:ext cx="228600" cy="16761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152280" y="17524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3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4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9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3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5q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80880" y="393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+ 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3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5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+ 8q + 9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533520" y="2971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+ 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3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5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+ 8q + 9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33520" y="2940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3q</a:t>
            </a:r>
            <a:r>
              <a:rPr b="0" lang="en-US" sz="36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3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5q</a:t>
            </a:r>
            <a:r>
              <a:rPr b="0" lang="en-US" sz="36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8q + 9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62120" y="2933640"/>
            <a:ext cx="9903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828800" y="293364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895480" y="293364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114800" y="293364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57800" y="293364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477120" y="3009960"/>
            <a:ext cx="9903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7480" y="2933640"/>
            <a:ext cx="99072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990720" y="1523880"/>
            <a:ext cx="4762800" cy="1410120"/>
            <a:chOff x="990720" y="1523880"/>
            <a:chExt cx="4762800" cy="1410120"/>
          </a:xfrm>
        </p:grpSpPr>
        <p:sp>
          <p:nvSpPr>
            <p:cNvPr id="1522" name=""/>
            <p:cNvSpPr/>
            <p:nvPr/>
          </p:nvSpPr>
          <p:spPr>
            <a:xfrm>
              <a:off x="990720" y="152388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80"/>
                  </a:solidFill>
                  <a:latin typeface="Comic Sans MS"/>
                </a:rPr>
                <a:t>like te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3" name=""/>
            <p:cNvCxnSpPr>
              <a:stCxn id="1522" idx="2"/>
              <a:endCxn id="1514" idx="0"/>
            </p:cNvCxnSpPr>
            <p:nvPr/>
          </p:nvCxnSpPr>
          <p:spPr>
            <a:xfrm rot="5400000">
              <a:off x="1298880" y="2061360"/>
              <a:ext cx="830880" cy="915120"/>
            </a:xfrm>
            <a:prstGeom prst="curvedConnector5">
              <a:avLst>
                <a:gd name="adj1" fmla="val 49891"/>
                <a:gd name="adj2" fmla="val 49980"/>
                <a:gd name="adj3" fmla="val 49891"/>
              </a:avLst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</p:cxnSp>
        <p:cxnSp>
          <p:nvCxnSpPr>
            <p:cNvPr id="1524" name=""/>
            <p:cNvCxnSpPr>
              <a:stCxn id="1522" idx="2"/>
              <a:endCxn id="1518" idx="0"/>
            </p:cNvCxnSpPr>
            <p:nvPr/>
          </p:nvCxnSpPr>
          <p:spPr>
            <a:xfrm flipH="1" rot="16200000">
              <a:off x="3547440" y="727560"/>
              <a:ext cx="830880" cy="3582000"/>
            </a:xfrm>
            <a:prstGeom prst="curvedConnector5">
              <a:avLst>
                <a:gd name="adj1" fmla="val 49891"/>
                <a:gd name="adj2" fmla="val 49994"/>
                <a:gd name="adj3" fmla="val 49891"/>
              </a:avLst>
            </a:prstGeom>
            <a:ln w="38160">
              <a:solidFill>
                <a:srgbClr val="008080"/>
              </a:solidFill>
              <a:miter/>
              <a:tailEnd len="med" type="triangle" w="med"/>
            </a:ln>
          </p:spPr>
        </p:cxnSp>
      </p:grpSp>
      <p:grpSp>
        <p:nvGrpSpPr>
          <p:cNvPr id="1525" name=""/>
          <p:cNvGrpSpPr/>
          <p:nvPr/>
        </p:nvGrpSpPr>
        <p:grpSpPr>
          <a:xfrm>
            <a:off x="2247840" y="3580920"/>
            <a:ext cx="2400480" cy="962640"/>
            <a:chOff x="2247840" y="3580920"/>
            <a:chExt cx="2400480" cy="962640"/>
          </a:xfrm>
        </p:grpSpPr>
        <p:sp>
          <p:nvSpPr>
            <p:cNvPr id="1526" name=""/>
            <p:cNvSpPr/>
            <p:nvPr/>
          </p:nvSpPr>
          <p:spPr>
            <a:xfrm>
              <a:off x="2247840" y="396216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like te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7" name=""/>
            <p:cNvCxnSpPr>
              <a:stCxn id="1526" idx="0"/>
              <a:endCxn id="1515" idx="4"/>
            </p:cNvCxnSpPr>
            <p:nvPr/>
          </p:nvCxnSpPr>
          <p:spPr>
            <a:xfrm flipV="1" rot="16200000">
              <a:off x="2704680" y="3237840"/>
              <a:ext cx="381600" cy="10674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8" name=""/>
            <p:cNvCxnSpPr>
              <a:stCxn id="1526" idx="0"/>
              <a:endCxn id="1517" idx="4"/>
            </p:cNvCxnSpPr>
            <p:nvPr/>
          </p:nvCxnSpPr>
          <p:spPr>
            <a:xfrm flipH="1" flipV="1" rot="5400000">
              <a:off x="3847680" y="3161520"/>
              <a:ext cx="381600" cy="122004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529" name=""/>
          <p:cNvGrpSpPr/>
          <p:nvPr/>
        </p:nvGrpSpPr>
        <p:grpSpPr>
          <a:xfrm>
            <a:off x="6019920" y="1523880"/>
            <a:ext cx="2361960" cy="1486440"/>
            <a:chOff x="6019920" y="1523880"/>
            <a:chExt cx="2361960" cy="1486440"/>
          </a:xfrm>
        </p:grpSpPr>
        <p:sp>
          <p:nvSpPr>
            <p:cNvPr id="1530" name=""/>
            <p:cNvSpPr/>
            <p:nvPr/>
          </p:nvSpPr>
          <p:spPr>
            <a:xfrm>
              <a:off x="6019920" y="152388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33"/>
                  </a:solidFill>
                  <a:latin typeface="Comic Sans MS"/>
                </a:rPr>
                <a:t>like</a:t>
              </a: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990033"/>
                  </a:solidFill>
                  <a:latin typeface="Comic Sans MS"/>
                </a:rPr>
                <a:t>te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1" name=""/>
            <p:cNvCxnSpPr>
              <a:stCxn id="1530" idx="2"/>
              <a:endCxn id="1519" idx="0"/>
            </p:cNvCxnSpPr>
            <p:nvPr/>
          </p:nvCxnSpPr>
          <p:spPr>
            <a:xfrm rot="5400000">
              <a:off x="6632640" y="2442240"/>
              <a:ext cx="907200" cy="229320"/>
            </a:xfrm>
            <a:prstGeom prst="curvedConnector5">
              <a:avLst>
                <a:gd name="adj1" fmla="val 49900"/>
                <a:gd name="adj2" fmla="val 50000"/>
                <a:gd name="adj3" fmla="val 49900"/>
              </a:avLst>
            </a:prstGeom>
            <a:ln w="38160">
              <a:solidFill>
                <a:srgbClr val="990033"/>
              </a:solidFill>
              <a:miter/>
              <a:tailEnd len="med" type="triangle" w="med"/>
            </a:ln>
          </p:spPr>
        </p:cxnSp>
        <p:cxnSp>
          <p:nvCxnSpPr>
            <p:cNvPr id="1532" name=""/>
            <p:cNvCxnSpPr>
              <a:stCxn id="1530" idx="2"/>
              <a:endCxn id="1520" idx="0"/>
            </p:cNvCxnSpPr>
            <p:nvPr/>
          </p:nvCxnSpPr>
          <p:spPr>
            <a:xfrm flipH="1" rot="16200000">
              <a:off x="7166880" y="2137320"/>
              <a:ext cx="830880" cy="762480"/>
            </a:xfrm>
            <a:prstGeom prst="curvedConnector5">
              <a:avLst>
                <a:gd name="adj1" fmla="val 49891"/>
                <a:gd name="adj2" fmla="val 49976"/>
                <a:gd name="adj3" fmla="val 49891"/>
              </a:avLst>
            </a:prstGeom>
            <a:ln w="38160">
              <a:solidFill>
                <a:srgbClr val="990033"/>
              </a:solidFill>
              <a:miter/>
              <a:tailEnd len="med" type="triangle" w="med"/>
            </a:ln>
          </p:spPr>
        </p:cxnSp>
      </p:grpSp>
      <p:sp>
        <p:nvSpPr>
          <p:cNvPr id="1533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33520" y="2940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3q</a:t>
            </a:r>
            <a:r>
              <a:rPr b="1" lang="en-US" sz="3600" spc="-1" strike="noStrike" baseline="30000">
                <a:solidFill>
                  <a:srgbClr val="00808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+ q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– 3q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– 5q</a:t>
            </a:r>
            <a:r>
              <a:rPr b="1" lang="en-US" sz="3600" spc="-1" strike="noStrike" baseline="30000">
                <a:solidFill>
                  <a:srgbClr val="00808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q + 9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457200" y="4800600"/>
            <a:ext cx="8077320" cy="762120"/>
            <a:chOff x="457200" y="4800600"/>
            <a:chExt cx="8077320" cy="762120"/>
          </a:xfrm>
        </p:grpSpPr>
        <p:sp>
          <p:nvSpPr>
            <p:cNvPr id="1536" name=""/>
            <p:cNvSpPr/>
            <p:nvPr/>
          </p:nvSpPr>
          <p:spPr>
            <a:xfrm>
              <a:off x="6781680" y="5518440"/>
              <a:ext cx="167652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09480" y="5562720"/>
              <a:ext cx="228600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57200" y="480060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80"/>
                  </a:solidFill>
                  <a:latin typeface="Comic Sans MS"/>
                </a:rPr>
                <a:t>3q</a:t>
              </a:r>
              <a:r>
                <a:rPr b="1" lang="en-US" sz="3600" spc="-1" strike="noStrike" baseline="30000">
                  <a:solidFill>
                    <a:srgbClr val="00808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8080"/>
                  </a:solidFill>
                  <a:latin typeface="Comic Sans MS"/>
                </a:rPr>
                <a:t>r – 5q</a:t>
              </a:r>
              <a:r>
                <a:rPr b="1" lang="en-US" sz="3600" spc="-1" strike="noStrike" baseline="30000">
                  <a:solidFill>
                    <a:srgbClr val="00808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8080"/>
                  </a:solidFill>
                  <a:latin typeface="Comic Sans MS"/>
                </a:rPr>
                <a:t>r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 q</a:t>
              </a:r>
              <a:r>
                <a:rPr b="1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– 3q</a:t>
              </a:r>
              <a:r>
                <a:rPr b="1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4qr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990033"/>
                  </a:solidFill>
                  <a:latin typeface="Comic Sans MS"/>
                </a:rPr>
                <a:t>+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990033"/>
                  </a:solidFill>
                  <a:latin typeface="Comic Sans MS"/>
                </a:rPr>
                <a:t>8q + 9q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29000" y="5562720"/>
              <a:ext cx="1523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>
            <a:off x="533520" y="2971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3q</a:t>
            </a:r>
            <a:r>
              <a:rPr b="1" lang="en-US" sz="3600" spc="-1" strike="noStrike" baseline="30000">
                <a:solidFill>
                  <a:srgbClr val="00808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+ q</a:t>
            </a:r>
            <a:r>
              <a:rPr b="1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– 3q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– 5q</a:t>
            </a:r>
            <a:r>
              <a:rPr b="1" lang="en-US" sz="3600" spc="-1" strike="noStrike" baseline="30000">
                <a:solidFill>
                  <a:srgbClr val="00808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8080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8q + 9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762120" y="3276720"/>
            <a:ext cx="99036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819520" y="3886200"/>
            <a:ext cx="9903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257800" y="3276720"/>
            <a:ext cx="9907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477120" y="3352680"/>
            <a:ext cx="9903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086600" y="3962520"/>
            <a:ext cx="9907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029200" y="3733920"/>
            <a:ext cx="14479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858000" y="3962520"/>
            <a:ext cx="144792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971800" y="3962520"/>
            <a:ext cx="1447920" cy="799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6705720" y="2971440"/>
            <a:ext cx="1676160" cy="1542240"/>
            <a:chOff x="6705720" y="2971440"/>
            <a:chExt cx="1676160" cy="1542240"/>
          </a:xfrm>
        </p:grpSpPr>
        <p:sp>
          <p:nvSpPr>
            <p:cNvPr id="1550" name=""/>
            <p:cNvSpPr/>
            <p:nvPr/>
          </p:nvSpPr>
          <p:spPr>
            <a:xfrm>
              <a:off x="7010280" y="3886200"/>
              <a:ext cx="121932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6600cc"/>
                  </a:solidFill>
                  <a:latin typeface="Comic Sans MS"/>
                </a:rPr>
                <a:t>+17q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1" name=""/>
            <p:cNvGrpSpPr/>
            <p:nvPr/>
          </p:nvGrpSpPr>
          <p:grpSpPr>
            <a:xfrm>
              <a:off x="6705720" y="2971440"/>
              <a:ext cx="1676160" cy="991080"/>
              <a:chOff x="6705720" y="2971440"/>
              <a:chExt cx="1676160" cy="991080"/>
            </a:xfrm>
          </p:grpSpPr>
          <p:sp>
            <p:nvSpPr>
              <p:cNvPr id="1552" name=""/>
              <p:cNvSpPr/>
              <p:nvPr/>
            </p:nvSpPr>
            <p:spPr>
              <a:xfrm flipV="1" rot="16200000">
                <a:off x="7429320" y="2247120"/>
                <a:ext cx="228600" cy="16761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3560 h 1676160"/>
                  <a:gd name="textAreaBottom" fmla="*/ 163260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53" name=""/>
              <p:cNvCxnSpPr>
                <a:endCxn id="1547" idx="0"/>
              </p:cNvCxnSpPr>
              <p:nvPr/>
            </p:nvCxnSpPr>
            <p:spPr>
              <a:xfrm flipH="1" rot="16200000">
                <a:off x="7181640" y="3561840"/>
                <a:ext cx="762840" cy="38880"/>
              </a:xfrm>
              <a:prstGeom prst="curvedConnector5">
                <a:avLst>
                  <a:gd name="adj1" fmla="val 50000"/>
                  <a:gd name="adj2" fmla="val 49532"/>
                  <a:gd name="adj3" fmla="val 5000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554" name=""/>
          <p:cNvSpPr/>
          <p:nvPr/>
        </p:nvSpPr>
        <p:spPr>
          <a:xfrm>
            <a:off x="457200" y="233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– 5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+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q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8q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9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838080" y="2971440"/>
            <a:ext cx="2133360" cy="1525680"/>
            <a:chOff x="838080" y="2971440"/>
            <a:chExt cx="2133360" cy="1525680"/>
          </a:xfrm>
        </p:grpSpPr>
        <p:grpSp>
          <p:nvGrpSpPr>
            <p:cNvPr id="1556" name=""/>
            <p:cNvGrpSpPr/>
            <p:nvPr/>
          </p:nvGrpSpPr>
          <p:grpSpPr>
            <a:xfrm>
              <a:off x="914040" y="2971440"/>
              <a:ext cx="2057400" cy="991440"/>
              <a:chOff x="914040" y="2971440"/>
              <a:chExt cx="2057400" cy="991440"/>
            </a:xfrm>
          </p:grpSpPr>
          <p:sp>
            <p:nvSpPr>
              <p:cNvPr id="1557" name=""/>
              <p:cNvSpPr/>
              <p:nvPr/>
            </p:nvSpPr>
            <p:spPr>
              <a:xfrm flipV="1" rot="16200000">
                <a:off x="1828440" y="2056680"/>
                <a:ext cx="228600" cy="20574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53640 h 2057400"/>
                  <a:gd name="textAreaBottom" fmla="*/ 2003760 h 205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58" name=""/>
              <p:cNvCxnSpPr>
                <a:stCxn id="1557" idx="1"/>
              </p:cNvCxnSpPr>
              <p:nvPr/>
            </p:nvCxnSpPr>
            <p:spPr>
              <a:xfrm rot="5400000">
                <a:off x="1417680" y="3439440"/>
                <a:ext cx="743760" cy="303840"/>
              </a:xfrm>
              <a:prstGeom prst="curvedConnector5">
                <a:avLst>
                  <a:gd name="adj1" fmla="val 48716"/>
                  <a:gd name="adj2" fmla="val 49940"/>
                  <a:gd name="adj3" fmla="val 48716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559" name=""/>
            <p:cNvSpPr/>
            <p:nvPr/>
          </p:nvSpPr>
          <p:spPr>
            <a:xfrm>
              <a:off x="838080" y="385452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q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2895480" y="2971440"/>
            <a:ext cx="2133360" cy="1525680"/>
            <a:chOff x="2895480" y="2971440"/>
            <a:chExt cx="2133360" cy="1525680"/>
          </a:xfrm>
        </p:grpSpPr>
        <p:grpSp>
          <p:nvGrpSpPr>
            <p:cNvPr id="1561" name=""/>
            <p:cNvGrpSpPr/>
            <p:nvPr/>
          </p:nvGrpSpPr>
          <p:grpSpPr>
            <a:xfrm>
              <a:off x="3352320" y="2971440"/>
              <a:ext cx="1676520" cy="991440"/>
              <a:chOff x="3352320" y="2971440"/>
              <a:chExt cx="1676520" cy="991440"/>
            </a:xfrm>
          </p:grpSpPr>
          <p:sp>
            <p:nvSpPr>
              <p:cNvPr id="1562" name=""/>
              <p:cNvSpPr/>
              <p:nvPr/>
            </p:nvSpPr>
            <p:spPr>
              <a:xfrm flipV="1" rot="16200000">
                <a:off x="4076280" y="2247120"/>
                <a:ext cx="228600" cy="16765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63" name=""/>
              <p:cNvCxnSpPr>
                <a:stCxn id="1562" idx="1"/>
                <a:endCxn id="1548" idx="0"/>
              </p:cNvCxnSpPr>
              <p:nvPr/>
            </p:nvCxnSpPr>
            <p:spPr>
              <a:xfrm rot="5400000">
                <a:off x="3570120" y="3344040"/>
                <a:ext cx="743760" cy="494280"/>
              </a:xfrm>
              <a:prstGeom prst="curvedConnector5">
                <a:avLst>
                  <a:gd name="adj1" fmla="val 48716"/>
                  <a:gd name="adj2" fmla="val 50000"/>
                  <a:gd name="adj3" fmla="val 48716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564" name=""/>
            <p:cNvSpPr/>
            <p:nvPr/>
          </p:nvSpPr>
          <p:spPr>
            <a:xfrm>
              <a:off x="2895480" y="3854520"/>
              <a:ext cx="152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2q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5" name=""/>
          <p:cNvSpPr/>
          <p:nvPr/>
        </p:nvSpPr>
        <p:spPr>
          <a:xfrm>
            <a:off x="5105520" y="3854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4q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14400" y="52261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q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– 2q</a:t>
            </a:r>
            <a:r>
              <a:rPr b="0" lang="en-US" sz="4800" spc="-1" strike="noStrike" baseline="30000">
                <a:solidFill>
                  <a:srgbClr val="3333ff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4q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+ 17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3808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ending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724280" y="1447920"/>
            <a:ext cx="1600200" cy="7617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0" name=""/>
          <p:cNvGrpSpPr/>
          <p:nvPr/>
        </p:nvGrpSpPr>
        <p:grpSpPr>
          <a:xfrm>
            <a:off x="1066680" y="1676520"/>
            <a:ext cx="4419720" cy="1371600"/>
            <a:chOff x="1066680" y="1676520"/>
            <a:chExt cx="4419720" cy="1371600"/>
          </a:xfrm>
        </p:grpSpPr>
        <p:sp>
          <p:nvSpPr>
            <p:cNvPr id="1571" name=""/>
            <p:cNvSpPr/>
            <p:nvPr/>
          </p:nvSpPr>
          <p:spPr>
            <a:xfrm>
              <a:off x="1219320" y="1676520"/>
              <a:ext cx="4114800" cy="1371600"/>
            </a:xfrm>
            <a:prstGeom prst="wedgeEllipseCallout">
              <a:avLst>
                <a:gd name="adj1" fmla="val -20370"/>
                <a:gd name="adj2" fmla="val 13831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066680" y="210168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ere’s a real test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746000" cy="214020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"/>
          <a:stretch/>
        </p:blipFill>
        <p:spPr>
          <a:xfrm>
            <a:off x="5392800" y="2286000"/>
            <a:ext cx="27194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5" name=""/>
          <p:cNvGrpSpPr/>
          <p:nvPr/>
        </p:nvGrpSpPr>
        <p:grpSpPr>
          <a:xfrm>
            <a:off x="609480" y="2209680"/>
            <a:ext cx="8153640" cy="4421160"/>
            <a:chOff x="609480" y="2209680"/>
            <a:chExt cx="8153640" cy="4421160"/>
          </a:xfrm>
        </p:grpSpPr>
        <p:sp>
          <p:nvSpPr>
            <p:cNvPr id="1576" name=""/>
            <p:cNvSpPr/>
            <p:nvPr/>
          </p:nvSpPr>
          <p:spPr>
            <a:xfrm>
              <a:off x="609480" y="5927400"/>
              <a:ext cx="419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243m 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8 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38080" y="3565440"/>
              <a:ext cx="792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1357m n  - 7m 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12684m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38080" y="486072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63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3   + 78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– 175m n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219320" y="2209680"/>
              <a:ext cx="7086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75m n  - 385m 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– 253m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2438280" y="2209680"/>
            <a:ext cx="6019920" cy="4192200"/>
            <a:chOff x="2438280" y="2209680"/>
            <a:chExt cx="6019920" cy="4192200"/>
          </a:xfrm>
        </p:grpSpPr>
        <p:sp>
          <p:nvSpPr>
            <p:cNvPr id="1581" name=""/>
            <p:cNvSpPr/>
            <p:nvPr/>
          </p:nvSpPr>
          <p:spPr>
            <a:xfrm>
              <a:off x="7315200" y="48146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2438280" y="2209680"/>
              <a:ext cx="6019920" cy="4192200"/>
              <a:chOff x="2438280" y="2209680"/>
              <a:chExt cx="6019920" cy="4192200"/>
            </a:xfrm>
          </p:grpSpPr>
          <p:sp>
            <p:nvSpPr>
              <p:cNvPr id="1583" name=""/>
              <p:cNvSpPr/>
              <p:nvPr/>
            </p:nvSpPr>
            <p:spPr>
              <a:xfrm>
                <a:off x="2514600" y="588132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4" name=""/>
              <p:cNvGrpSpPr/>
              <p:nvPr/>
            </p:nvGrpSpPr>
            <p:grpSpPr>
              <a:xfrm>
                <a:off x="2438280" y="2209680"/>
                <a:ext cx="6019920" cy="3111120"/>
                <a:chOff x="2438280" y="2209680"/>
                <a:chExt cx="6019920" cy="31111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3124080" y="351936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86" name=""/>
                <p:cNvGrpSpPr/>
                <p:nvPr/>
              </p:nvGrpSpPr>
              <p:grpSpPr>
                <a:xfrm>
                  <a:off x="2438280" y="2209680"/>
                  <a:ext cx="6019920" cy="3111120"/>
                  <a:chOff x="2438280" y="2209680"/>
                  <a:chExt cx="6019920" cy="3111120"/>
                </a:xfrm>
              </p:grpSpPr>
              <p:sp>
                <p:nvSpPr>
                  <p:cNvPr id="1587" name=""/>
                  <p:cNvSpPr/>
                  <p:nvPr/>
                </p:nvSpPr>
                <p:spPr>
                  <a:xfrm>
                    <a:off x="2438280" y="2209680"/>
                    <a:ext cx="685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88" name=""/>
                  <p:cNvGrpSpPr/>
                  <p:nvPr/>
                </p:nvGrpSpPr>
                <p:grpSpPr>
                  <a:xfrm>
                    <a:off x="2743200" y="2209680"/>
                    <a:ext cx="5715000" cy="3111120"/>
                    <a:chOff x="2743200" y="2209680"/>
                    <a:chExt cx="5715000" cy="3111120"/>
                  </a:xfrm>
                </p:grpSpPr>
                <p:sp>
                  <p:nvSpPr>
                    <p:cNvPr id="1589" name=""/>
                    <p:cNvSpPr/>
                    <p:nvPr/>
                  </p:nvSpPr>
                  <p:spPr>
                    <a:xfrm>
                      <a:off x="2819520" y="220968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0" name=""/>
                    <p:cNvSpPr/>
                    <p:nvPr/>
                  </p:nvSpPr>
                  <p:spPr>
                    <a:xfrm>
                      <a:off x="4800600" y="220968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1" name=""/>
                    <p:cNvSpPr/>
                    <p:nvPr/>
                  </p:nvSpPr>
                  <p:spPr>
                    <a:xfrm>
                      <a:off x="7772400" y="220968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2" name=""/>
                    <p:cNvSpPr/>
                    <p:nvPr/>
                  </p:nvSpPr>
                  <p:spPr>
                    <a:xfrm>
                      <a:off x="6858000" y="480024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3" name=""/>
                    <p:cNvSpPr/>
                    <p:nvPr/>
                  </p:nvSpPr>
                  <p:spPr>
                    <a:xfrm>
                      <a:off x="4495680" y="351936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4" name=""/>
                    <p:cNvSpPr/>
                    <p:nvPr/>
                  </p:nvSpPr>
                  <p:spPr>
                    <a:xfrm>
                      <a:off x="2743200" y="351936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595" name=""/>
          <p:cNvGrpSpPr/>
          <p:nvPr/>
        </p:nvGrpSpPr>
        <p:grpSpPr>
          <a:xfrm>
            <a:off x="3200400" y="4861080"/>
            <a:ext cx="1828800" cy="1770120"/>
            <a:chOff x="3200400" y="4861080"/>
            <a:chExt cx="1828800" cy="1770120"/>
          </a:xfrm>
        </p:grpSpPr>
        <p:sp>
          <p:nvSpPr>
            <p:cNvPr id="1596" name=""/>
            <p:cNvSpPr/>
            <p:nvPr/>
          </p:nvSpPr>
          <p:spPr>
            <a:xfrm>
              <a:off x="3200400" y="486108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38480" y="592776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2057400" y="178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572000" y="178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34320" y="1782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36232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9568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08660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82880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64832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55308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200400" y="4419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09680" y="551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038480" y="55166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213840" y="1203840"/>
            <a:ext cx="3170520" cy="1157400"/>
            <a:chOff x="213840" y="1203840"/>
            <a:chExt cx="3170520" cy="1157400"/>
          </a:xfrm>
        </p:grpSpPr>
        <p:sp>
          <p:nvSpPr>
            <p:cNvPr id="1612" name=""/>
            <p:cNvSpPr/>
            <p:nvPr/>
          </p:nvSpPr>
          <p:spPr>
            <a:xfrm rot="20897400">
              <a:off x="231480" y="1500120"/>
              <a:ext cx="2971800" cy="4816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20897400">
              <a:off x="239760" y="1528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838080" y="1828800"/>
            <a:ext cx="76201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Reor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highest to lowest degree, marking off terms as you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838080" y="52578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Descending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724280" y="5181480"/>
            <a:ext cx="1600200" cy="7621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10552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8580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order from highest to lowest degree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457200" y="2362320"/>
            <a:ext cx="4038480" cy="1755000"/>
            <a:chOff x="457200" y="2362320"/>
            <a:chExt cx="4038480" cy="1755000"/>
          </a:xfrm>
        </p:grpSpPr>
        <p:sp>
          <p:nvSpPr>
            <p:cNvPr id="1634" name=""/>
            <p:cNvSpPr/>
            <p:nvPr/>
          </p:nvSpPr>
          <p:spPr>
            <a:xfrm>
              <a:off x="457200" y="36576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Comic Sans MS"/>
                </a:rPr>
                <a:t>D5: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066320" y="2362320"/>
              <a:ext cx="380520" cy="76176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457200" y="1295280"/>
            <a:ext cx="6705720" cy="3202920"/>
            <a:chOff x="457200" y="1295280"/>
            <a:chExt cx="6705720" cy="3202920"/>
          </a:xfrm>
        </p:grpSpPr>
        <p:sp>
          <p:nvSpPr>
            <p:cNvPr id="1637" name=""/>
            <p:cNvSpPr/>
            <p:nvPr/>
          </p:nvSpPr>
          <p:spPr>
            <a:xfrm>
              <a:off x="457200" y="403848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Comic Sans MS"/>
                </a:rPr>
                <a:t>D4: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-38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- 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24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243864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67057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67820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57200" y="1295280"/>
            <a:ext cx="6705720" cy="4117320"/>
            <a:chOff x="457200" y="1295280"/>
            <a:chExt cx="6705720" cy="4117320"/>
          </a:xfrm>
        </p:grpSpPr>
        <p:sp>
          <p:nvSpPr>
            <p:cNvPr id="1642" name=""/>
            <p:cNvSpPr/>
            <p:nvPr/>
          </p:nvSpPr>
          <p:spPr>
            <a:xfrm flipH="1">
              <a:off x="53341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3" name=""/>
            <p:cNvGrpSpPr/>
            <p:nvPr/>
          </p:nvGrpSpPr>
          <p:grpSpPr>
            <a:xfrm>
              <a:off x="457200" y="1295280"/>
              <a:ext cx="6705720" cy="4117320"/>
              <a:chOff x="457200" y="1295280"/>
              <a:chExt cx="6705720" cy="4117320"/>
            </a:xfrm>
          </p:grpSpPr>
          <p:sp>
            <p:nvSpPr>
              <p:cNvPr id="1644" name=""/>
              <p:cNvSpPr/>
              <p:nvPr/>
            </p:nvSpPr>
            <p:spPr>
              <a:xfrm>
                <a:off x="457200" y="4952880"/>
                <a:ext cx="670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600cc"/>
                    </a:solidFill>
                    <a:latin typeface="Comic Sans MS"/>
                  </a:rPr>
                  <a:t>D2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175m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+ 1357m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– 175m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>
                <a:off x="990720" y="1295280"/>
                <a:ext cx="380880" cy="762120"/>
              </a:xfrm>
              <a:prstGeom prst="line">
                <a:avLst/>
              </a:prstGeom>
              <a:ln w="7632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H="1">
                <a:off x="5334120" y="2209680"/>
                <a:ext cx="380880" cy="762120"/>
              </a:xfrm>
              <a:prstGeom prst="line">
                <a:avLst/>
              </a:prstGeom>
              <a:ln w="7632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7" name=""/>
          <p:cNvSpPr/>
          <p:nvPr/>
        </p:nvSpPr>
        <p:spPr>
          <a:xfrm>
            <a:off x="457200" y="5410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D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457200" y="1295280"/>
            <a:ext cx="6705720" cy="3660120"/>
            <a:chOff x="457200" y="1295280"/>
            <a:chExt cx="6705720" cy="3660120"/>
          </a:xfrm>
        </p:grpSpPr>
        <p:sp>
          <p:nvSpPr>
            <p:cNvPr id="1650" name=""/>
            <p:cNvSpPr/>
            <p:nvPr/>
          </p:nvSpPr>
          <p:spPr>
            <a:xfrm>
              <a:off x="457200" y="449568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Comic Sans MS"/>
                </a:rPr>
                <a:t>D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6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7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809520" y="1295280"/>
              <a:ext cx="38124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259092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4266720" y="2209680"/>
              <a:ext cx="38124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457200" y="2209680"/>
            <a:ext cx="7924680" cy="4117320"/>
            <a:chOff x="457200" y="2209680"/>
            <a:chExt cx="7924680" cy="4117320"/>
          </a:xfrm>
        </p:grpSpPr>
        <p:sp>
          <p:nvSpPr>
            <p:cNvPr id="1655" name=""/>
            <p:cNvSpPr/>
            <p:nvPr/>
          </p:nvSpPr>
          <p:spPr>
            <a:xfrm flipH="1">
              <a:off x="342900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5720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cc"/>
                  </a:solidFill>
                  <a:latin typeface="Comic Sans MS"/>
                </a:rPr>
                <a:t>D0: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800100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8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2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380880" y="3505320"/>
            <a:ext cx="25146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8580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write highest to lowest degree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457200" y="2209680"/>
            <a:ext cx="4038480" cy="1755360"/>
            <a:chOff x="457200" y="2209680"/>
            <a:chExt cx="4038480" cy="1755360"/>
          </a:xfrm>
        </p:grpSpPr>
        <p:sp>
          <p:nvSpPr>
            <p:cNvPr id="1676" name=""/>
            <p:cNvSpPr/>
            <p:nvPr/>
          </p:nvSpPr>
          <p:spPr>
            <a:xfrm>
              <a:off x="45720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10663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457200" y="1295280"/>
            <a:ext cx="6705720" cy="3202920"/>
            <a:chOff x="457200" y="1295280"/>
            <a:chExt cx="6705720" cy="3202920"/>
          </a:xfrm>
        </p:grpSpPr>
        <p:sp>
          <p:nvSpPr>
            <p:cNvPr id="1679" name=""/>
            <p:cNvSpPr/>
            <p:nvPr/>
          </p:nvSpPr>
          <p:spPr>
            <a:xfrm>
              <a:off x="457200" y="403848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38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- 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24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243864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67057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7820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457200" y="1295280"/>
            <a:ext cx="6705720" cy="3660120"/>
            <a:chOff x="457200" y="1295280"/>
            <a:chExt cx="6705720" cy="3660120"/>
          </a:xfrm>
        </p:grpSpPr>
        <p:sp>
          <p:nvSpPr>
            <p:cNvPr id="1684" name=""/>
            <p:cNvSpPr/>
            <p:nvPr/>
          </p:nvSpPr>
          <p:spPr>
            <a:xfrm>
              <a:off x="457200" y="449568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6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7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381024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259092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42674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457200" y="1295280"/>
            <a:ext cx="6705720" cy="4117320"/>
            <a:chOff x="457200" y="1295280"/>
            <a:chExt cx="6705720" cy="4117320"/>
          </a:xfrm>
        </p:grpSpPr>
        <p:sp>
          <p:nvSpPr>
            <p:cNvPr id="1689" name=""/>
            <p:cNvSpPr/>
            <p:nvPr/>
          </p:nvSpPr>
          <p:spPr>
            <a:xfrm>
              <a:off x="457200" y="495288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9907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3341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533412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3" name=""/>
          <p:cNvSpPr/>
          <p:nvPr/>
        </p:nvSpPr>
        <p:spPr>
          <a:xfrm>
            <a:off x="457200" y="5410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4" name=""/>
          <p:cNvGrpSpPr/>
          <p:nvPr/>
        </p:nvGrpSpPr>
        <p:grpSpPr>
          <a:xfrm>
            <a:off x="457200" y="2209680"/>
            <a:ext cx="7924320" cy="4117320"/>
            <a:chOff x="457200" y="2209680"/>
            <a:chExt cx="7924320" cy="4117320"/>
          </a:xfrm>
        </p:grpSpPr>
        <p:sp>
          <p:nvSpPr>
            <p:cNvPr id="1695" name=""/>
            <p:cNvSpPr/>
            <p:nvPr/>
          </p:nvSpPr>
          <p:spPr>
            <a:xfrm>
              <a:off x="45720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34286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80006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3352680" y="3505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ly on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4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380880" y="4038480"/>
            <a:ext cx="47246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457200" y="2209680"/>
            <a:ext cx="4038480" cy="1755360"/>
            <a:chOff x="457200" y="2209680"/>
            <a:chExt cx="4038480" cy="1755360"/>
          </a:xfrm>
        </p:grpSpPr>
        <p:sp>
          <p:nvSpPr>
            <p:cNvPr id="1717" name=""/>
            <p:cNvSpPr/>
            <p:nvPr/>
          </p:nvSpPr>
          <p:spPr>
            <a:xfrm>
              <a:off x="45720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663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457200" y="1295280"/>
            <a:ext cx="6705720" cy="3202920"/>
            <a:chOff x="457200" y="1295280"/>
            <a:chExt cx="6705720" cy="3202920"/>
          </a:xfrm>
        </p:grpSpPr>
        <p:sp>
          <p:nvSpPr>
            <p:cNvPr id="1720" name=""/>
            <p:cNvSpPr/>
            <p:nvPr/>
          </p:nvSpPr>
          <p:spPr>
            <a:xfrm>
              <a:off x="457200" y="403848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38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- 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24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243864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67057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67820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57200" y="1295280"/>
            <a:ext cx="6705720" cy="3660120"/>
            <a:chOff x="457200" y="1295280"/>
            <a:chExt cx="6705720" cy="3660120"/>
          </a:xfrm>
        </p:grpSpPr>
        <p:sp>
          <p:nvSpPr>
            <p:cNvPr id="1725" name=""/>
            <p:cNvSpPr/>
            <p:nvPr/>
          </p:nvSpPr>
          <p:spPr>
            <a:xfrm>
              <a:off x="457200" y="449568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6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7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381024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259092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2674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57200" y="1295280"/>
            <a:ext cx="6705720" cy="4117320"/>
            <a:chOff x="457200" y="1295280"/>
            <a:chExt cx="6705720" cy="4117320"/>
          </a:xfrm>
        </p:grpSpPr>
        <p:sp>
          <p:nvSpPr>
            <p:cNvPr id="1730" name=""/>
            <p:cNvSpPr/>
            <p:nvPr/>
          </p:nvSpPr>
          <p:spPr>
            <a:xfrm>
              <a:off x="457200" y="4952880"/>
              <a:ext cx="67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9907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334120" y="12952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533412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4" name=""/>
          <p:cNvSpPr/>
          <p:nvPr/>
        </p:nvSpPr>
        <p:spPr>
          <a:xfrm>
            <a:off x="457200" y="5410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457200" y="2209680"/>
            <a:ext cx="7924320" cy="4117320"/>
            <a:chOff x="457200" y="2209680"/>
            <a:chExt cx="7924320" cy="4117320"/>
          </a:xfrm>
        </p:grpSpPr>
        <p:sp>
          <p:nvSpPr>
            <p:cNvPr id="1736" name=""/>
            <p:cNvSpPr/>
            <p:nvPr/>
          </p:nvSpPr>
          <p:spPr>
            <a:xfrm>
              <a:off x="45720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34286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800064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380880" y="310824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4: -385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895480" y="3733920"/>
            <a:ext cx="5410440" cy="0"/>
            <a:chOff x="2895480" y="3733920"/>
            <a:chExt cx="5410440" cy="0"/>
          </a:xfrm>
        </p:grpSpPr>
        <p:sp>
          <p:nvSpPr>
            <p:cNvPr id="1743" name=""/>
            <p:cNvSpPr/>
            <p:nvPr/>
          </p:nvSpPr>
          <p:spPr>
            <a:xfrm>
              <a:off x="2895480" y="37339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724280" y="373392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238880" y="373392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"/>
          <p:cNvSpPr/>
          <p:nvPr/>
        </p:nvSpPr>
        <p:spPr>
          <a:xfrm>
            <a:off x="3124080" y="3048120"/>
            <a:ext cx="114300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029200" y="3048120"/>
            <a:ext cx="114300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467480" y="3048120"/>
            <a:ext cx="114300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2590920" y="1600200"/>
            <a:ext cx="5447520" cy="1592280"/>
            <a:chOff x="2590920" y="1600200"/>
            <a:chExt cx="5447520" cy="1592280"/>
          </a:xfrm>
        </p:grpSpPr>
        <p:sp>
          <p:nvSpPr>
            <p:cNvPr id="1750" name=""/>
            <p:cNvSpPr/>
            <p:nvPr/>
          </p:nvSpPr>
          <p:spPr>
            <a:xfrm>
              <a:off x="2590920" y="16002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ike te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1" name=""/>
            <p:cNvCxnSpPr>
              <a:stCxn id="1750" idx="2"/>
              <a:endCxn id="1746" idx="0"/>
            </p:cNvCxnSpPr>
            <p:nvPr/>
          </p:nvCxnSpPr>
          <p:spPr>
            <a:xfrm rot="5400000">
              <a:off x="3299400" y="2575800"/>
              <a:ext cx="869040" cy="76680"/>
            </a:xfrm>
            <a:prstGeom prst="curvedConnector5">
              <a:avLst>
                <a:gd name="adj1" fmla="val 49896"/>
                <a:gd name="adj2" fmla="val 50000"/>
                <a:gd name="adj3" fmla="val 4989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2" name=""/>
            <p:cNvCxnSpPr>
              <a:stCxn id="1750" idx="2"/>
              <a:endCxn id="1747" idx="1"/>
            </p:cNvCxnSpPr>
            <p:nvPr/>
          </p:nvCxnSpPr>
          <p:spPr>
            <a:xfrm flipH="1" rot="16200000">
              <a:off x="3976560" y="1973880"/>
              <a:ext cx="1013400" cy="1424520"/>
            </a:xfrm>
            <a:prstGeom prst="curvedConnector5">
              <a:avLst>
                <a:gd name="adj1" fmla="val 42786"/>
                <a:gd name="adj2" fmla="val 50000"/>
                <a:gd name="adj3" fmla="val 4278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3" name=""/>
            <p:cNvCxnSpPr>
              <a:stCxn id="1750" idx="2"/>
              <a:endCxn id="1748" idx="0"/>
            </p:cNvCxnSpPr>
            <p:nvPr/>
          </p:nvCxnSpPr>
          <p:spPr>
            <a:xfrm flipH="1" rot="16200000">
              <a:off x="5470560" y="480240"/>
              <a:ext cx="869040" cy="4267800"/>
            </a:xfrm>
            <a:prstGeom prst="curvedConnector5">
              <a:avLst>
                <a:gd name="adj1" fmla="val 49896"/>
                <a:gd name="adj2" fmla="val 50000"/>
                <a:gd name="adj3" fmla="val 4989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54" name=""/>
          <p:cNvSpPr/>
          <p:nvPr/>
        </p:nvSpPr>
        <p:spPr>
          <a:xfrm>
            <a:off x="3809880" y="4495680"/>
            <a:ext cx="129564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809880" y="5410080"/>
            <a:ext cx="99072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2057040" y="3809520"/>
            <a:ext cx="6553440" cy="1373760"/>
            <a:chOff x="2057040" y="3809520"/>
            <a:chExt cx="6553440" cy="1373760"/>
          </a:xfrm>
        </p:grpSpPr>
        <p:sp>
          <p:nvSpPr>
            <p:cNvPr id="1757" name=""/>
            <p:cNvSpPr/>
            <p:nvPr/>
          </p:nvSpPr>
          <p:spPr>
            <a:xfrm flipV="1" rot="16200000">
              <a:off x="3847680" y="2018520"/>
              <a:ext cx="381240" cy="39625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8" name=""/>
            <p:cNvCxnSpPr>
              <a:stCxn id="1757" idx="1"/>
              <a:endCxn id="1754" idx="0"/>
            </p:cNvCxnSpPr>
            <p:nvPr/>
          </p:nvCxnSpPr>
          <p:spPr>
            <a:xfrm flipH="1" rot="16200000">
              <a:off x="4103640" y="4142160"/>
              <a:ext cx="286200" cy="421560"/>
            </a:xfrm>
            <a:prstGeom prst="curvedConnector5">
              <a:avLst>
                <a:gd name="adj1" fmla="val 46599"/>
                <a:gd name="adj2" fmla="val 50000"/>
                <a:gd name="adj3" fmla="val 4659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9" name=""/>
            <p:cNvSpPr/>
            <p:nvPr/>
          </p:nvSpPr>
          <p:spPr>
            <a:xfrm>
              <a:off x="3200400" y="4479840"/>
              <a:ext cx="541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392m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243m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2438280" y="5028840"/>
            <a:ext cx="5638680" cy="1221480"/>
            <a:chOff x="2438280" y="5028840"/>
            <a:chExt cx="5638680" cy="1221480"/>
          </a:xfrm>
        </p:grpSpPr>
        <p:sp>
          <p:nvSpPr>
            <p:cNvPr id="1761" name=""/>
            <p:cNvSpPr/>
            <p:nvPr/>
          </p:nvSpPr>
          <p:spPr>
            <a:xfrm flipV="1" rot="16200000">
              <a:off x="5752800" y="3009240"/>
              <a:ext cx="304920" cy="43434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13040 h 4343400"/>
                <a:gd name="textAreaBottom" fmla="*/ 423036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62" name=""/>
            <p:cNvCxnSpPr>
              <a:stCxn id="1761" idx="1"/>
              <a:endCxn id="1755" idx="6"/>
            </p:cNvCxnSpPr>
            <p:nvPr/>
          </p:nvCxnSpPr>
          <p:spPr>
            <a:xfrm rot="5400000">
              <a:off x="5113440" y="5039280"/>
              <a:ext cx="477000" cy="1104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3" name=""/>
            <p:cNvSpPr/>
            <p:nvPr/>
          </p:nvSpPr>
          <p:spPr>
            <a:xfrm>
              <a:off x="2438280" y="554688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49m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057400" y="25909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simplify polynom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3809880"/>
            <a:ext cx="7620120" cy="14770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e the fewest terms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order by alphabet and deg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1523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/>
          <p:nvPr/>
        </p:nvSpPr>
        <p:spPr>
          <a:xfrm>
            <a:off x="380880" y="4038480"/>
            <a:ext cx="213372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1781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1784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1789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6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7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1794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1800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"/>
          <p:cNvSpPr/>
          <p:nvPr/>
        </p:nvSpPr>
        <p:spPr>
          <a:xfrm>
            <a:off x="457200" y="4495680"/>
            <a:ext cx="419112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85800" y="3048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write highest to lowest degree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1822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1825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1830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6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7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1835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0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1841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380880" y="31240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3: -253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 + 63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V="1" rot="16200000">
            <a:off x="6133680" y="2399760"/>
            <a:ext cx="304920" cy="2819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809880" y="5410080"/>
            <a:ext cx="99072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648320" y="3200400"/>
            <a:ext cx="8380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095880" y="3200400"/>
            <a:ext cx="83844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3086280" y="1600200"/>
            <a:ext cx="3922920" cy="1600200"/>
            <a:chOff x="3086280" y="1600200"/>
            <a:chExt cx="3922920" cy="1600200"/>
          </a:xfrm>
        </p:grpSpPr>
        <p:sp>
          <p:nvSpPr>
            <p:cNvPr id="1852" name=""/>
            <p:cNvSpPr/>
            <p:nvPr/>
          </p:nvSpPr>
          <p:spPr>
            <a:xfrm>
              <a:off x="3086280" y="1600200"/>
              <a:ext cx="23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ike te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3" name=""/>
            <p:cNvCxnSpPr>
              <a:stCxn id="1852" idx="2"/>
              <a:endCxn id="1849" idx="0"/>
            </p:cNvCxnSpPr>
            <p:nvPr/>
          </p:nvCxnSpPr>
          <p:spPr>
            <a:xfrm flipH="1" rot="16200000">
              <a:off x="4403160" y="2042280"/>
              <a:ext cx="1021320" cy="1295640"/>
            </a:xfrm>
            <a:prstGeom prst="curvedConnector5">
              <a:avLst>
                <a:gd name="adj1" fmla="val 49894"/>
                <a:gd name="adj2" fmla="val 50000"/>
                <a:gd name="adj3" fmla="val 498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54" name=""/>
            <p:cNvCxnSpPr>
              <a:stCxn id="1852" idx="2"/>
              <a:endCxn id="1850" idx="0"/>
            </p:cNvCxnSpPr>
            <p:nvPr/>
          </p:nvCxnSpPr>
          <p:spPr>
            <a:xfrm flipH="1" rot="16200000">
              <a:off x="5127120" y="1318320"/>
              <a:ext cx="1021320" cy="2743560"/>
            </a:xfrm>
            <a:prstGeom prst="curvedConnector5">
              <a:avLst>
                <a:gd name="adj1" fmla="val 49894"/>
                <a:gd name="adj2" fmla="val 50000"/>
                <a:gd name="adj3" fmla="val 498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5" name=""/>
          <p:cNvSpPr/>
          <p:nvPr/>
        </p:nvSpPr>
        <p:spPr>
          <a:xfrm>
            <a:off x="2438280" y="41911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253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 + 141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380880" y="4495680"/>
            <a:ext cx="327672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1873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1876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1881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41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1886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1892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80880" y="4952880"/>
            <a:ext cx="49532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1913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1916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1921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41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1926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– 175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1932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5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"/>
          <p:cNvSpPr/>
          <p:nvPr/>
        </p:nvSpPr>
        <p:spPr>
          <a:xfrm>
            <a:off x="2819520" y="3200400"/>
            <a:ext cx="5331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648320" y="3200400"/>
            <a:ext cx="5331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705720" y="3200400"/>
            <a:ext cx="5331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2590920" y="1600200"/>
            <a:ext cx="4381920" cy="1600200"/>
            <a:chOff x="2590920" y="1600200"/>
            <a:chExt cx="4381920" cy="1600200"/>
          </a:xfrm>
        </p:grpSpPr>
        <p:sp>
          <p:nvSpPr>
            <p:cNvPr id="1941" name=""/>
            <p:cNvSpPr/>
            <p:nvPr/>
          </p:nvSpPr>
          <p:spPr>
            <a:xfrm>
              <a:off x="2590920" y="16002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ike term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2" name=""/>
            <p:cNvCxnSpPr>
              <a:stCxn id="1941" idx="2"/>
              <a:endCxn id="1937" idx="0"/>
            </p:cNvCxnSpPr>
            <p:nvPr/>
          </p:nvCxnSpPr>
          <p:spPr>
            <a:xfrm rot="5400000">
              <a:off x="2918160" y="2346840"/>
              <a:ext cx="1021320" cy="686520"/>
            </a:xfrm>
            <a:prstGeom prst="curvedConnector5">
              <a:avLst>
                <a:gd name="adj1" fmla="val 49894"/>
                <a:gd name="adj2" fmla="val 50000"/>
                <a:gd name="adj3" fmla="val 498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3" name=""/>
            <p:cNvCxnSpPr>
              <a:stCxn id="1941" idx="2"/>
              <a:endCxn id="1938" idx="0"/>
            </p:cNvCxnSpPr>
            <p:nvPr/>
          </p:nvCxnSpPr>
          <p:spPr>
            <a:xfrm flipH="1" rot="16200000">
              <a:off x="3832200" y="2118240"/>
              <a:ext cx="1021320" cy="1143720"/>
            </a:xfrm>
            <a:prstGeom prst="curvedConnector5">
              <a:avLst>
                <a:gd name="adj1" fmla="val 49894"/>
                <a:gd name="adj2" fmla="val 50000"/>
                <a:gd name="adj3" fmla="val 498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4" name=""/>
            <p:cNvCxnSpPr>
              <a:stCxn id="1941" idx="2"/>
              <a:endCxn id="1939" idx="0"/>
            </p:cNvCxnSpPr>
            <p:nvPr/>
          </p:nvCxnSpPr>
          <p:spPr>
            <a:xfrm flipH="1" rot="16200000">
              <a:off x="4861800" y="1089360"/>
              <a:ext cx="1021320" cy="3201120"/>
            </a:xfrm>
            <a:prstGeom prst="curvedConnector5">
              <a:avLst>
                <a:gd name="adj1" fmla="val 49894"/>
                <a:gd name="adj2" fmla="val 49994"/>
                <a:gd name="adj3" fmla="val 4989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45" name=""/>
          <p:cNvSpPr/>
          <p:nvPr/>
        </p:nvSpPr>
        <p:spPr>
          <a:xfrm>
            <a:off x="3657600" y="4343400"/>
            <a:ext cx="5335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057040" y="3657240"/>
            <a:ext cx="4953240" cy="1983240"/>
            <a:chOff x="2057040" y="3657240"/>
            <a:chExt cx="4953240" cy="1983240"/>
          </a:xfrm>
        </p:grpSpPr>
        <p:sp>
          <p:nvSpPr>
            <p:cNvPr id="1947" name=""/>
            <p:cNvSpPr/>
            <p:nvPr/>
          </p:nvSpPr>
          <p:spPr>
            <a:xfrm>
              <a:off x="2819520" y="4327560"/>
              <a:ext cx="4190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32mn – 175m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 rot="16200000">
              <a:off x="3885840" y="1828080"/>
              <a:ext cx="304920" cy="39625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03320 h 3962520"/>
                <a:gd name="textAreaBottom" fmla="*/ 385920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49" name=""/>
            <p:cNvCxnSpPr>
              <a:stCxn id="1948" idx="1"/>
              <a:endCxn id="1945" idx="0"/>
            </p:cNvCxnSpPr>
            <p:nvPr/>
          </p:nvCxnSpPr>
          <p:spPr>
            <a:xfrm rot="5400000">
              <a:off x="3799080" y="4105800"/>
              <a:ext cx="362520" cy="113400"/>
            </a:xfrm>
            <a:prstGeom prst="curvedConnector5">
              <a:avLst>
                <a:gd name="adj1" fmla="val 47316"/>
                <a:gd name="adj2" fmla="val 50000"/>
                <a:gd name="adj3" fmla="val 4731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50" name=""/>
          <p:cNvSpPr/>
          <p:nvPr/>
        </p:nvSpPr>
        <p:spPr>
          <a:xfrm>
            <a:off x="4572000" y="5486400"/>
            <a:ext cx="5335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62120" y="310824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2: 175mn + 1357mn – 175m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2971440" y="4952520"/>
            <a:ext cx="3886200" cy="1846800"/>
            <a:chOff x="2971440" y="4952520"/>
            <a:chExt cx="3886200" cy="1846800"/>
          </a:xfrm>
        </p:grpSpPr>
        <p:sp>
          <p:nvSpPr>
            <p:cNvPr id="1953" name=""/>
            <p:cNvSpPr/>
            <p:nvPr/>
          </p:nvSpPr>
          <p:spPr>
            <a:xfrm flipV="1" rot="16200000">
              <a:off x="4800240" y="3123360"/>
              <a:ext cx="228600" cy="3886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01160 h 3886200"/>
                <a:gd name="textAreaBottom" fmla="*/ 378504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4" name=""/>
            <p:cNvCxnSpPr>
              <a:stCxn id="1953" idx="1"/>
              <a:endCxn id="1950" idx="0"/>
            </p:cNvCxnSpPr>
            <p:nvPr/>
          </p:nvCxnSpPr>
          <p:spPr>
            <a:xfrm rot="5400000">
              <a:off x="4732200" y="5306040"/>
              <a:ext cx="286560" cy="75240"/>
            </a:xfrm>
            <a:prstGeom prst="curvedConnector5">
              <a:avLst>
                <a:gd name="adj1" fmla="val 46666"/>
                <a:gd name="adj2" fmla="val 50000"/>
                <a:gd name="adj3" fmla="val 4666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5" name=""/>
            <p:cNvSpPr/>
            <p:nvPr/>
          </p:nvSpPr>
          <p:spPr>
            <a:xfrm>
              <a:off x="3657600" y="5486400"/>
              <a:ext cx="259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13572m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380880" y="4952880"/>
            <a:ext cx="2210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2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1973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1976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0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1981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41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1986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1992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5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380880" y="5410080"/>
            <a:ext cx="47246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2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2013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2016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2021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41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2026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2032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"/>
          <p:cNvSpPr/>
          <p:nvPr/>
        </p:nvSpPr>
        <p:spPr>
          <a:xfrm>
            <a:off x="380880" y="5867280"/>
            <a:ext cx="221004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2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2053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2056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2061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41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5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2066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2072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3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8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5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/>
          <p:nvPr/>
        </p:nvSpPr>
        <p:spPr>
          <a:xfrm>
            <a:off x="2819520" y="2225520"/>
            <a:ext cx="53316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648320" y="2225520"/>
            <a:ext cx="53316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6705720" y="2225520"/>
            <a:ext cx="53316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657600" y="4343400"/>
            <a:ext cx="5335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962520" y="4114800"/>
            <a:ext cx="6858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791320" y="5486400"/>
            <a:ext cx="6858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343400" y="5181480"/>
            <a:ext cx="76212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666880" y="21337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0: 3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3962520" y="2682360"/>
            <a:ext cx="2133360" cy="1069200"/>
            <a:chOff x="3962520" y="2682360"/>
            <a:chExt cx="2133360" cy="1069200"/>
          </a:xfrm>
        </p:grpSpPr>
        <p:sp>
          <p:nvSpPr>
            <p:cNvPr id="2086" name=""/>
            <p:cNvSpPr/>
            <p:nvPr/>
          </p:nvSpPr>
          <p:spPr>
            <a:xfrm flipV="1" rot="16200000">
              <a:off x="4876560" y="1767600"/>
              <a:ext cx="304920" cy="2133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267080" y="304812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1n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276720" y="3580920"/>
            <a:ext cx="2361600" cy="1237320"/>
            <a:chOff x="3276720" y="3580920"/>
            <a:chExt cx="2361600" cy="1237320"/>
          </a:xfrm>
        </p:grpSpPr>
        <p:sp>
          <p:nvSpPr>
            <p:cNvPr id="2089" name=""/>
            <p:cNvSpPr/>
            <p:nvPr/>
          </p:nvSpPr>
          <p:spPr>
            <a:xfrm flipV="1" rot="16200000">
              <a:off x="4914360" y="3161520"/>
              <a:ext cx="304920" cy="11430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0" name=""/>
            <p:cNvCxnSpPr/>
            <p:nvPr/>
          </p:nvCxnSpPr>
          <p:spPr>
            <a:xfrm rot="5400000">
              <a:off x="4551120" y="3906000"/>
              <a:ext cx="534240" cy="4942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091" name=""/>
            <p:cNvGrpSpPr/>
            <p:nvPr/>
          </p:nvGrpSpPr>
          <p:grpSpPr>
            <a:xfrm>
              <a:off x="3276720" y="3962520"/>
              <a:ext cx="1447560" cy="855720"/>
              <a:chOff x="3276720" y="3962520"/>
              <a:chExt cx="1447560" cy="855720"/>
            </a:xfrm>
          </p:grpSpPr>
          <p:sp>
            <p:nvSpPr>
              <p:cNvPr id="2092" name=""/>
              <p:cNvSpPr/>
              <p:nvPr/>
            </p:nvSpPr>
            <p:spPr>
              <a:xfrm>
                <a:off x="3276720" y="4114800"/>
                <a:ext cx="1447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1  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962160" y="3962520"/>
                <a:ext cx="228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4" name=""/>
          <p:cNvGrpSpPr/>
          <p:nvPr/>
        </p:nvGrpSpPr>
        <p:grpSpPr>
          <a:xfrm>
            <a:off x="3924360" y="4952880"/>
            <a:ext cx="1104840" cy="916200"/>
            <a:chOff x="3924360" y="4952880"/>
            <a:chExt cx="1104840" cy="916200"/>
          </a:xfrm>
        </p:grpSpPr>
        <p:cxnSp>
          <p:nvCxnSpPr>
            <p:cNvPr id="2095" name=""/>
            <p:cNvCxnSpPr>
              <a:stCxn id="2080" idx="4"/>
              <a:endCxn id="2083" idx="2"/>
            </p:cNvCxnSpPr>
            <p:nvPr/>
          </p:nvCxnSpPr>
          <p:spPr>
            <a:xfrm flipH="1" rot="16200000">
              <a:off x="3867120" y="5009760"/>
              <a:ext cx="534240" cy="419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6" name=""/>
            <p:cNvSpPr/>
            <p:nvPr/>
          </p:nvSpPr>
          <p:spPr>
            <a:xfrm>
              <a:off x="4191120" y="516564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7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09680" y="232416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32416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232416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232416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361944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619440"/>
            <a:ext cx="8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2209680"/>
            <a:ext cx="5105520" cy="2743200"/>
            <a:chOff x="838080" y="2209680"/>
            <a:chExt cx="5105520" cy="2743200"/>
          </a:xfrm>
        </p:grpSpPr>
        <p:sp>
          <p:nvSpPr>
            <p:cNvPr id="184" name=""/>
            <p:cNvSpPr/>
            <p:nvPr/>
          </p:nvSpPr>
          <p:spPr>
            <a:xfrm>
              <a:off x="838080" y="2209680"/>
              <a:ext cx="1524240" cy="1371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220968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43200" y="3581280"/>
              <a:ext cx="1371600" cy="1371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724280" y="2362320"/>
            <a:ext cx="1066680" cy="1066680"/>
            <a:chOff x="4724280" y="2362320"/>
            <a:chExt cx="1066680" cy="1066680"/>
          </a:xfrm>
        </p:grpSpPr>
        <p:sp>
          <p:nvSpPr>
            <p:cNvPr id="188" name=""/>
            <p:cNvSpPr/>
            <p:nvPr/>
          </p:nvSpPr>
          <p:spPr>
            <a:xfrm>
              <a:off x="4724280" y="2362320"/>
              <a:ext cx="1066680" cy="10666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26672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0280" y="3022560"/>
              <a:ext cx="622080" cy="177840"/>
            </a:xfrm>
            <a:custGeom>
              <a:avLst/>
              <a:gdLst/>
              <a:ahLst/>
              <a:rect l="l" t="t" r="r" b="b"/>
              <a:pathLst>
                <a:path w="392" h="112">
                  <a:moveTo>
                    <a:pt x="24" y="16"/>
                  </a:moveTo>
                  <a:cubicBezTo>
                    <a:pt x="48" y="0"/>
                    <a:pt x="328" y="0"/>
                    <a:pt x="360" y="16"/>
                  </a:cubicBezTo>
                  <a:cubicBezTo>
                    <a:pt x="392" y="32"/>
                    <a:pt x="280" y="112"/>
                    <a:pt x="216" y="112"/>
                  </a:cubicBezTo>
                  <a:cubicBezTo>
                    <a:pt x="152" y="112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3760" y="266724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95480" y="3733920"/>
            <a:ext cx="1066680" cy="1066680"/>
            <a:chOff x="2895480" y="3733920"/>
            <a:chExt cx="1066680" cy="1066680"/>
          </a:xfrm>
        </p:grpSpPr>
        <p:sp>
          <p:nvSpPr>
            <p:cNvPr id="193" name=""/>
            <p:cNvSpPr/>
            <p:nvPr/>
          </p:nvSpPr>
          <p:spPr>
            <a:xfrm>
              <a:off x="2895480" y="3733920"/>
              <a:ext cx="1066680" cy="10666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0388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11480" y="4394160"/>
              <a:ext cx="622080" cy="177840"/>
            </a:xfrm>
            <a:custGeom>
              <a:avLst/>
              <a:gdLst/>
              <a:ahLst/>
              <a:rect l="l" t="t" r="r" b="b"/>
              <a:pathLst>
                <a:path w="392" h="112">
                  <a:moveTo>
                    <a:pt x="24" y="16"/>
                  </a:moveTo>
                  <a:cubicBezTo>
                    <a:pt x="48" y="0"/>
                    <a:pt x="328" y="0"/>
                    <a:pt x="360" y="16"/>
                  </a:cubicBezTo>
                  <a:cubicBezTo>
                    <a:pt x="392" y="32"/>
                    <a:pt x="280" y="112"/>
                    <a:pt x="216" y="112"/>
                  </a:cubicBezTo>
                  <a:cubicBezTo>
                    <a:pt x="152" y="112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4960" y="403884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95480" y="2362320"/>
            <a:ext cx="1067040" cy="1066680"/>
            <a:chOff x="2895480" y="2362320"/>
            <a:chExt cx="1067040" cy="1066680"/>
          </a:xfrm>
        </p:grpSpPr>
        <p:sp>
          <p:nvSpPr>
            <p:cNvPr id="198" name=""/>
            <p:cNvSpPr/>
            <p:nvPr/>
          </p:nvSpPr>
          <p:spPr>
            <a:xfrm>
              <a:off x="2895480" y="2362320"/>
              <a:ext cx="1067040" cy="10666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24080" y="266724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26672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86280" y="3048120"/>
              <a:ext cx="609480" cy="177840"/>
            </a:xfrm>
            <a:custGeom>
              <a:avLst/>
              <a:gdLst/>
              <a:ahLst/>
              <a:rect l="l" t="t" r="r" b="b"/>
              <a:pathLst>
                <a:path w="384" h="112">
                  <a:moveTo>
                    <a:pt x="24" y="96"/>
                  </a:moveTo>
                  <a:cubicBezTo>
                    <a:pt x="0" y="80"/>
                    <a:pt x="160" y="0"/>
                    <a:pt x="216" y="0"/>
                  </a:cubicBezTo>
                  <a:cubicBezTo>
                    <a:pt x="272" y="0"/>
                    <a:pt x="384" y="80"/>
                    <a:pt x="360" y="96"/>
                  </a:cubicBezTo>
                  <a:cubicBezTo>
                    <a:pt x="336" y="112"/>
                    <a:pt x="48" y="112"/>
                    <a:pt x="24" y="9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66680" y="2362320"/>
            <a:ext cx="1066680" cy="1066680"/>
            <a:chOff x="1066680" y="2362320"/>
            <a:chExt cx="1066680" cy="1066680"/>
          </a:xfrm>
        </p:grpSpPr>
        <p:sp>
          <p:nvSpPr>
            <p:cNvPr id="203" name=""/>
            <p:cNvSpPr/>
            <p:nvPr/>
          </p:nvSpPr>
          <p:spPr>
            <a:xfrm>
              <a:off x="1066680" y="2362320"/>
              <a:ext cx="1066680" cy="10666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26672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82680" y="3022560"/>
              <a:ext cx="622080" cy="177840"/>
            </a:xfrm>
            <a:custGeom>
              <a:avLst/>
              <a:gdLst/>
              <a:ahLst/>
              <a:rect l="l" t="t" r="r" b="b"/>
              <a:pathLst>
                <a:path w="392" h="112">
                  <a:moveTo>
                    <a:pt x="24" y="16"/>
                  </a:moveTo>
                  <a:cubicBezTo>
                    <a:pt x="48" y="0"/>
                    <a:pt x="328" y="0"/>
                    <a:pt x="360" y="16"/>
                  </a:cubicBezTo>
                  <a:cubicBezTo>
                    <a:pt x="392" y="32"/>
                    <a:pt x="280" y="112"/>
                    <a:pt x="216" y="112"/>
                  </a:cubicBezTo>
                  <a:cubicBezTo>
                    <a:pt x="152" y="112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160" y="266724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77120" y="2438280"/>
            <a:ext cx="1066680" cy="1066680"/>
            <a:chOff x="6477120" y="2438280"/>
            <a:chExt cx="1066680" cy="1066680"/>
          </a:xfrm>
        </p:grpSpPr>
        <p:sp>
          <p:nvSpPr>
            <p:cNvPr id="208" name=""/>
            <p:cNvSpPr/>
            <p:nvPr/>
          </p:nvSpPr>
          <p:spPr>
            <a:xfrm>
              <a:off x="6477120" y="2438280"/>
              <a:ext cx="1066680" cy="10666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05720" y="2742840"/>
              <a:ext cx="15228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86600" y="2742840"/>
              <a:ext cx="15228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3047760"/>
              <a:ext cx="76212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74284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066680" y="3733920"/>
            <a:ext cx="1067040" cy="1066680"/>
            <a:chOff x="1066680" y="3733920"/>
            <a:chExt cx="1067040" cy="1066680"/>
          </a:xfrm>
        </p:grpSpPr>
        <p:sp>
          <p:nvSpPr>
            <p:cNvPr id="214" name=""/>
            <p:cNvSpPr/>
            <p:nvPr/>
          </p:nvSpPr>
          <p:spPr>
            <a:xfrm>
              <a:off x="1066680" y="3733920"/>
              <a:ext cx="1067040" cy="1066680"/>
            </a:xfrm>
            <a:prstGeom prst="ellipse">
              <a:avLst/>
            </a:pr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280" y="4038840"/>
              <a:ext cx="15264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6520" y="4038840"/>
              <a:ext cx="15228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9320" y="4343400"/>
              <a:ext cx="761760" cy="381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403884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914400" y="2362320"/>
            <a:ext cx="6781680" cy="2514600"/>
            <a:chOff x="914400" y="2362320"/>
            <a:chExt cx="6781680" cy="2514600"/>
          </a:xfrm>
        </p:grpSpPr>
        <p:sp>
          <p:nvSpPr>
            <p:cNvPr id="220" name=""/>
            <p:cNvSpPr/>
            <p:nvPr/>
          </p:nvSpPr>
          <p:spPr>
            <a:xfrm>
              <a:off x="914400" y="3657600"/>
              <a:ext cx="13716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2362320"/>
              <a:ext cx="1371600" cy="1219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219320" y="5059440"/>
            <a:ext cx="1828440" cy="1191240"/>
            <a:chOff x="1219320" y="5059440"/>
            <a:chExt cx="1828440" cy="1191240"/>
          </a:xfrm>
        </p:grpSpPr>
        <p:grpSp>
          <p:nvGrpSpPr>
            <p:cNvPr id="223" name=""/>
            <p:cNvGrpSpPr/>
            <p:nvPr/>
          </p:nvGrpSpPr>
          <p:grpSpPr>
            <a:xfrm>
              <a:off x="1981080" y="5059440"/>
              <a:ext cx="1066680" cy="1066680"/>
              <a:chOff x="1981080" y="5059440"/>
              <a:chExt cx="1066680" cy="1066680"/>
            </a:xfrm>
          </p:grpSpPr>
          <p:sp>
            <p:nvSpPr>
              <p:cNvPr id="224" name=""/>
              <p:cNvSpPr/>
              <p:nvPr/>
            </p:nvSpPr>
            <p:spPr>
              <a:xfrm>
                <a:off x="1981080" y="5059440"/>
                <a:ext cx="1066680" cy="1066680"/>
              </a:xfrm>
              <a:prstGeom prst="ellipse">
                <a:avLst/>
              </a:prstGeom>
              <a:solidFill>
                <a:srgbClr val="00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09680" y="5364360"/>
                <a:ext cx="15228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97080" y="5719680"/>
                <a:ext cx="622080" cy="177840"/>
              </a:xfrm>
              <a:custGeom>
                <a:avLst/>
                <a:gdLst/>
                <a:ahLst/>
                <a:rect l="l" t="t" r="r" b="b"/>
                <a:pathLst>
                  <a:path w="392" h="112">
                    <a:moveTo>
                      <a:pt x="24" y="16"/>
                    </a:moveTo>
                    <a:cubicBezTo>
                      <a:pt x="48" y="0"/>
                      <a:pt x="328" y="0"/>
                      <a:pt x="360" y="16"/>
                    </a:cubicBezTo>
                    <a:cubicBezTo>
                      <a:pt x="392" y="32"/>
                      <a:pt x="280" y="112"/>
                      <a:pt x="216" y="112"/>
                    </a:cubicBezTo>
                    <a:cubicBezTo>
                      <a:pt x="152" y="112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0560" y="5364360"/>
                <a:ext cx="15264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219320" y="5059440"/>
              <a:ext cx="83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24080" y="5059440"/>
            <a:ext cx="2743200" cy="1191240"/>
            <a:chOff x="3124080" y="5059440"/>
            <a:chExt cx="2743200" cy="1191240"/>
          </a:xfrm>
        </p:grpSpPr>
        <p:grpSp>
          <p:nvGrpSpPr>
            <p:cNvPr id="230" name=""/>
            <p:cNvGrpSpPr/>
            <p:nvPr/>
          </p:nvGrpSpPr>
          <p:grpSpPr>
            <a:xfrm>
              <a:off x="4800600" y="5059440"/>
              <a:ext cx="1066680" cy="1066680"/>
              <a:chOff x="4800600" y="5059440"/>
              <a:chExt cx="1066680" cy="1066680"/>
            </a:xfrm>
          </p:grpSpPr>
          <p:sp>
            <p:nvSpPr>
              <p:cNvPr id="231" name=""/>
              <p:cNvSpPr/>
              <p:nvPr/>
            </p:nvSpPr>
            <p:spPr>
              <a:xfrm>
                <a:off x="4800600" y="5059440"/>
                <a:ext cx="1066680" cy="1066680"/>
              </a:xfrm>
              <a:prstGeom prst="ellipse">
                <a:avLst/>
              </a:prstGeom>
              <a:solidFill>
                <a:srgbClr val="0066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29200" y="5364360"/>
                <a:ext cx="15228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10080" y="5364360"/>
                <a:ext cx="15264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52880" y="5668920"/>
                <a:ext cx="762120" cy="3812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76920" y="5364360"/>
                <a:ext cx="9144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124080" y="505944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 2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791320" y="4983120"/>
            <a:ext cx="2666880" cy="1267560"/>
            <a:chOff x="5791320" y="4983120"/>
            <a:chExt cx="2666880" cy="1267560"/>
          </a:xfrm>
        </p:grpSpPr>
        <p:grpSp>
          <p:nvGrpSpPr>
            <p:cNvPr id="238" name=""/>
            <p:cNvGrpSpPr/>
            <p:nvPr/>
          </p:nvGrpSpPr>
          <p:grpSpPr>
            <a:xfrm>
              <a:off x="7391520" y="4983120"/>
              <a:ext cx="1066680" cy="1066680"/>
              <a:chOff x="7391520" y="4983120"/>
              <a:chExt cx="1066680" cy="1066680"/>
            </a:xfrm>
          </p:grpSpPr>
          <p:sp>
            <p:nvSpPr>
              <p:cNvPr id="239" name=""/>
              <p:cNvSpPr/>
              <p:nvPr/>
            </p:nvSpPr>
            <p:spPr>
              <a:xfrm>
                <a:off x="7391520" y="4983120"/>
                <a:ext cx="1066680" cy="1066680"/>
              </a:xfrm>
              <a:prstGeom prst="ellipse">
                <a:avLst/>
              </a:prstGeom>
              <a:solidFill>
                <a:srgbClr val="ffff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19760" y="5288040"/>
                <a:ext cx="15228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01000" y="5288040"/>
                <a:ext cx="151920" cy="15228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81960" y="5668920"/>
                <a:ext cx="609120" cy="177840"/>
              </a:xfrm>
              <a:custGeom>
                <a:avLst/>
                <a:gdLst/>
                <a:ahLst/>
                <a:rect l="l" t="t" r="r" b="b"/>
                <a:pathLst>
                  <a:path w="384" h="112">
                    <a:moveTo>
                      <a:pt x="24" y="96"/>
                    </a:moveTo>
                    <a:cubicBezTo>
                      <a:pt x="0" y="80"/>
                      <a:pt x="160" y="0"/>
                      <a:pt x="216" y="0"/>
                    </a:cubicBezTo>
                    <a:cubicBezTo>
                      <a:pt x="272" y="0"/>
                      <a:pt x="384" y="80"/>
                      <a:pt x="360" y="96"/>
                    </a:cubicBezTo>
                    <a:cubicBezTo>
                      <a:pt x="336" y="112"/>
                      <a:pt x="48" y="112"/>
                      <a:pt x="24" y="9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5791320" y="505944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+ 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666880" y="7761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1523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39625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fewest possible number of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/>
          <p:nvPr/>
        </p:nvSpPr>
        <p:spPr>
          <a:xfrm>
            <a:off x="533520" y="5867280"/>
            <a:ext cx="11430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80880" y="1676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38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08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6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7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175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24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8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38080" y="13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2860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65760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1814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6553080" y="1295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914400" y="22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36232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0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1148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18148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629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77240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533520" y="2209680"/>
            <a:ext cx="4038480" cy="1755360"/>
            <a:chOff x="533520" y="2209680"/>
            <a:chExt cx="4038480" cy="1755360"/>
          </a:xfrm>
        </p:grpSpPr>
        <p:sp>
          <p:nvSpPr>
            <p:cNvPr id="2114" name=""/>
            <p:cNvSpPr/>
            <p:nvPr/>
          </p:nvSpPr>
          <p:spPr>
            <a:xfrm>
              <a:off x="533520" y="3505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5:  12684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1142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533520" y="1295280"/>
            <a:ext cx="6704640" cy="3202920"/>
            <a:chOff x="533520" y="1295280"/>
            <a:chExt cx="6704640" cy="3202920"/>
          </a:xfrm>
        </p:grpSpPr>
        <p:sp>
          <p:nvSpPr>
            <p:cNvPr id="2117" name=""/>
            <p:cNvSpPr/>
            <p:nvPr/>
          </p:nvSpPr>
          <p:spPr>
            <a:xfrm>
              <a:off x="533520" y="40384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4:  -149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25142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6781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68576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533520" y="1295280"/>
            <a:ext cx="6705360" cy="3660120"/>
            <a:chOff x="533520" y="1295280"/>
            <a:chExt cx="6705360" cy="3660120"/>
          </a:xfrm>
        </p:grpSpPr>
        <p:sp>
          <p:nvSpPr>
            <p:cNvPr id="2122" name=""/>
            <p:cNvSpPr/>
            <p:nvPr/>
          </p:nvSpPr>
          <p:spPr>
            <a:xfrm>
              <a:off x="533520" y="44956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3:  -253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+ 141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388584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26665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434304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33520" y="1295280"/>
            <a:ext cx="6705360" cy="4117320"/>
            <a:chOff x="533520" y="1295280"/>
            <a:chExt cx="6705360" cy="4117320"/>
          </a:xfrm>
        </p:grpSpPr>
        <p:sp>
          <p:nvSpPr>
            <p:cNvPr id="2127" name=""/>
            <p:cNvSpPr/>
            <p:nvPr/>
          </p:nvSpPr>
          <p:spPr>
            <a:xfrm>
              <a:off x="533520" y="4952880"/>
              <a:ext cx="67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2:  1357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10663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5409720" y="12952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5409720" y="2209680"/>
              <a:ext cx="38052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1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533520" y="2209680"/>
            <a:ext cx="7924320" cy="4117320"/>
            <a:chOff x="533520" y="2209680"/>
            <a:chExt cx="7924320" cy="4117320"/>
          </a:xfrm>
        </p:grpSpPr>
        <p:sp>
          <p:nvSpPr>
            <p:cNvPr id="2133" name=""/>
            <p:cNvSpPr/>
            <p:nvPr/>
          </p:nvSpPr>
          <p:spPr>
            <a:xfrm>
              <a:off x="533520" y="58672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0: 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3504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8076960" y="2209680"/>
              <a:ext cx="380880" cy="76212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/>
          <p:nvPr/>
        </p:nvSpPr>
        <p:spPr>
          <a:xfrm>
            <a:off x="533520" y="3505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5:  12684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33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4:  -149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33520" y="4495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3:  -25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141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33520" y="4952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2:  1357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33520" y="5410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1:  -- No first degree term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33520" y="5867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0: 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0880" y="19051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990720" y="152388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12684m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 – 149m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 – 253m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+ 141n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 + 1357m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 +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590920" y="77616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705720" y="4495680"/>
            <a:ext cx="1371600" cy="60984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214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6" name=""/>
          <p:cNvSpPr/>
          <p:nvPr/>
        </p:nvSpPr>
        <p:spPr>
          <a:xfrm>
            <a:off x="685800" y="1447920"/>
            <a:ext cx="75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743200" y="23623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monomials by combin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9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3733920" cy="2820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221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209680" y="205740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degree of a polynomial and write it with terms in descending order of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1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3886200" cy="29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352680" cy="2543040"/>
          </a:xfrm>
          <a:prstGeom prst="rect">
            <a:avLst/>
          </a:prstGeom>
          <a:ln w="0">
            <a:noFill/>
          </a:ln>
        </p:spPr>
      </p:pic>
      <p:grpSp>
        <p:nvGrpSpPr>
          <p:cNvPr id="2273" name=""/>
          <p:cNvGrpSpPr/>
          <p:nvPr/>
        </p:nvGrpSpPr>
        <p:grpSpPr>
          <a:xfrm>
            <a:off x="1218240" y="1905120"/>
            <a:ext cx="5411160" cy="3428640"/>
            <a:chOff x="1218240" y="1905120"/>
            <a:chExt cx="5411160" cy="3428640"/>
          </a:xfrm>
        </p:grpSpPr>
        <p:sp>
          <p:nvSpPr>
            <p:cNvPr id="2274" name=""/>
            <p:cNvSpPr/>
            <p:nvPr/>
          </p:nvSpPr>
          <p:spPr>
            <a:xfrm>
              <a:off x="4572000" y="19051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5" name=""/>
            <p:cNvGrpSpPr/>
            <p:nvPr/>
          </p:nvGrpSpPr>
          <p:grpSpPr>
            <a:xfrm>
              <a:off x="1218240" y="3962160"/>
              <a:ext cx="1905480" cy="1371600"/>
              <a:chOff x="1218240" y="3962160"/>
              <a:chExt cx="1905480" cy="1371600"/>
            </a:xfrm>
          </p:grpSpPr>
          <p:cxnSp>
            <p:nvCxnSpPr>
              <p:cNvPr id="2276" name=""/>
              <p:cNvCxnSpPr/>
              <p:nvPr/>
            </p:nvCxnSpPr>
            <p:spPr>
              <a:xfrm flipH="1" rot="16200000">
                <a:off x="1485000" y="3695400"/>
                <a:ext cx="1371960" cy="190548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2277" name=""/>
              <p:cNvSpPr/>
              <p:nvPr/>
            </p:nvSpPr>
            <p:spPr>
              <a:xfrm>
                <a:off x="2707560" y="5325480"/>
                <a:ext cx="41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78" name="" descr=""/>
          <p:cNvPicPr/>
          <p:nvPr/>
        </p:nvPicPr>
        <p:blipFill>
          <a:blip r:embed="rId2"/>
          <a:stretch/>
        </p:blipFill>
        <p:spPr>
          <a:xfrm>
            <a:off x="3124080" y="2703600"/>
            <a:ext cx="5029200" cy="380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743200" y="762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20416800">
            <a:off x="1066680" y="2933640"/>
            <a:ext cx="655344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Simplifying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onomial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858000" y="4724280"/>
            <a:ext cx="1828800" cy="1828800"/>
            <a:chOff x="6858000" y="4724280"/>
            <a:chExt cx="1828800" cy="182880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858000" y="4724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 txBox="1"/>
            <p:nvPr/>
          </p:nvSpPr>
          <p:spPr>
            <a:xfrm>
              <a:off x="7010640" y="5257800"/>
              <a:ext cx="1523880" cy="914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288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monomial</a:t>
              </a:r>
              <a:endPara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978200" y="4721400"/>
            <a:ext cx="1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44400" y="1519920"/>
            <a:ext cx="1793880" cy="1797840"/>
            <a:chOff x="644400" y="1519920"/>
            <a:chExt cx="1793880" cy="1797840"/>
          </a:xfrm>
        </p:grpSpPr>
        <p:grpSp>
          <p:nvGrpSpPr>
            <p:cNvPr id="254" name=""/>
            <p:cNvGrpSpPr/>
            <p:nvPr/>
          </p:nvGrpSpPr>
          <p:grpSpPr>
            <a:xfrm>
              <a:off x="644400" y="1519920"/>
              <a:ext cx="1793880" cy="1797840"/>
              <a:chOff x="644400" y="1519920"/>
              <a:chExt cx="1793880" cy="17978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644400" y="1523880"/>
                <a:ext cx="1793880" cy="1793880"/>
                <a:chOff x="644400" y="1523880"/>
                <a:chExt cx="1793880" cy="1793880"/>
              </a:xfrm>
            </p:grpSpPr>
            <p:grpSp>
              <p:nvGrpSpPr>
                <p:cNvPr id="256" name=""/>
                <p:cNvGrpSpPr/>
                <p:nvPr/>
              </p:nvGrpSpPr>
              <p:grpSpPr>
                <a:xfrm>
                  <a:off x="647640" y="1527120"/>
                  <a:ext cx="1787400" cy="1787400"/>
                  <a:chOff x="647640" y="1527120"/>
                  <a:chExt cx="1787400" cy="1787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2171520" y="2908080"/>
                    <a:ext cx="11736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92">
                        <a:moveTo>
                          <a:pt x="0" y="92"/>
                        </a:moveTo>
                        <a:lnTo>
                          <a:pt x="9" y="81"/>
                        </a:lnTo>
                        <a:lnTo>
                          <a:pt x="20" y="70"/>
                        </a:lnTo>
                        <a:lnTo>
                          <a:pt x="29" y="58"/>
                        </a:lnTo>
                        <a:lnTo>
                          <a:pt x="38" y="47"/>
                        </a:lnTo>
                        <a:lnTo>
                          <a:pt x="47" y="36"/>
                        </a:lnTo>
                        <a:lnTo>
                          <a:pt x="56" y="25"/>
                        </a:lnTo>
                        <a:lnTo>
                          <a:pt x="65" y="11"/>
                        </a:lnTo>
                        <a:lnTo>
                          <a:pt x="74" y="0"/>
                        </a:lnTo>
                        <a:lnTo>
                          <a:pt x="33" y="54"/>
                        </a:lnTo>
                        <a:lnTo>
                          <a:pt x="0" y="92"/>
                        </a:lnTo>
                        <a:close/>
                      </a:path>
                    </a:pathLst>
                  </a:custGeom>
                  <a:solidFill>
                    <a:srgbClr val="dcb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082600" y="2793960"/>
                    <a:ext cx="26676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11">
                        <a:moveTo>
                          <a:pt x="0" y="211"/>
                        </a:moveTo>
                        <a:lnTo>
                          <a:pt x="27" y="191"/>
                        </a:lnTo>
                        <a:lnTo>
                          <a:pt x="51" y="166"/>
                        </a:lnTo>
                        <a:lnTo>
                          <a:pt x="74" y="142"/>
                        </a:lnTo>
                        <a:lnTo>
                          <a:pt x="96" y="117"/>
                        </a:lnTo>
                        <a:lnTo>
                          <a:pt x="116" y="90"/>
                        </a:lnTo>
                        <a:lnTo>
                          <a:pt x="136" y="61"/>
                        </a:lnTo>
                        <a:lnTo>
                          <a:pt x="154" y="32"/>
                        </a:lnTo>
                        <a:lnTo>
                          <a:pt x="168" y="0"/>
                        </a:lnTo>
                        <a:lnTo>
                          <a:pt x="134" y="56"/>
                        </a:lnTo>
                        <a:lnTo>
                          <a:pt x="87" y="124"/>
                        </a:lnTo>
                        <a:lnTo>
                          <a:pt x="31" y="182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dcb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036520" y="2727000"/>
                    <a:ext cx="34452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275">
                        <a:moveTo>
                          <a:pt x="188" y="65"/>
                        </a:moveTo>
                        <a:lnTo>
                          <a:pt x="195" y="49"/>
                        </a:lnTo>
                        <a:lnTo>
                          <a:pt x="203" y="33"/>
                        </a:lnTo>
                        <a:lnTo>
                          <a:pt x="210" y="15"/>
                        </a:lnTo>
                        <a:lnTo>
                          <a:pt x="217" y="0"/>
                        </a:lnTo>
                        <a:lnTo>
                          <a:pt x="203" y="27"/>
                        </a:lnTo>
                        <a:lnTo>
                          <a:pt x="161" y="96"/>
                        </a:lnTo>
                        <a:lnTo>
                          <a:pt x="112" y="161"/>
                        </a:lnTo>
                        <a:lnTo>
                          <a:pt x="58" y="222"/>
                        </a:lnTo>
                        <a:lnTo>
                          <a:pt x="0" y="275"/>
                        </a:lnTo>
                        <a:lnTo>
                          <a:pt x="15" y="264"/>
                        </a:lnTo>
                        <a:lnTo>
                          <a:pt x="31" y="251"/>
                        </a:lnTo>
                        <a:lnTo>
                          <a:pt x="47" y="240"/>
                        </a:lnTo>
                        <a:lnTo>
                          <a:pt x="62" y="226"/>
                        </a:lnTo>
                        <a:lnTo>
                          <a:pt x="116" y="166"/>
                        </a:lnTo>
                        <a:lnTo>
                          <a:pt x="165" y="101"/>
                        </a:lnTo>
                        <a:lnTo>
                          <a:pt x="188" y="65"/>
                        </a:lnTo>
                        <a:close/>
                      </a:path>
                    </a:pathLst>
                  </a:custGeom>
                  <a:solidFill>
                    <a:srgbClr val="dcb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974600" y="2676240"/>
                    <a:ext cx="420840" cy="52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330">
                        <a:moveTo>
                          <a:pt x="245" y="61"/>
                        </a:moveTo>
                        <a:lnTo>
                          <a:pt x="249" y="45"/>
                        </a:lnTo>
                        <a:lnTo>
                          <a:pt x="256" y="30"/>
                        </a:lnTo>
                        <a:lnTo>
                          <a:pt x="260" y="14"/>
                        </a:lnTo>
                        <a:lnTo>
                          <a:pt x="265" y="0"/>
                        </a:lnTo>
                        <a:lnTo>
                          <a:pt x="238" y="56"/>
                        </a:lnTo>
                        <a:lnTo>
                          <a:pt x="195" y="126"/>
                        </a:lnTo>
                        <a:lnTo>
                          <a:pt x="148" y="191"/>
                        </a:lnTo>
                        <a:lnTo>
                          <a:pt x="92" y="251"/>
                        </a:lnTo>
                        <a:lnTo>
                          <a:pt x="34" y="305"/>
                        </a:lnTo>
                        <a:lnTo>
                          <a:pt x="0" y="330"/>
                        </a:lnTo>
                        <a:lnTo>
                          <a:pt x="14" y="323"/>
                        </a:lnTo>
                        <a:lnTo>
                          <a:pt x="27" y="314"/>
                        </a:lnTo>
                        <a:lnTo>
                          <a:pt x="39" y="305"/>
                        </a:lnTo>
                        <a:lnTo>
                          <a:pt x="52" y="298"/>
                        </a:lnTo>
                        <a:lnTo>
                          <a:pt x="97" y="256"/>
                        </a:lnTo>
                        <a:lnTo>
                          <a:pt x="153" y="195"/>
                        </a:lnTo>
                        <a:lnTo>
                          <a:pt x="202" y="130"/>
                        </a:lnTo>
                        <a:lnTo>
                          <a:pt x="242" y="61"/>
                        </a:lnTo>
                        <a:lnTo>
                          <a:pt x="245" y="61"/>
                        </a:lnTo>
                        <a:close/>
                      </a:path>
                    </a:pathLst>
                  </a:custGeom>
                  <a:solidFill>
                    <a:srgbClr val="deb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939680" y="2630160"/>
                    <a:ext cx="469800" cy="59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372">
                        <a:moveTo>
                          <a:pt x="282" y="43"/>
                        </a:moveTo>
                        <a:lnTo>
                          <a:pt x="287" y="32"/>
                        </a:lnTo>
                        <a:lnTo>
                          <a:pt x="289" y="23"/>
                        </a:lnTo>
                        <a:lnTo>
                          <a:pt x="294" y="11"/>
                        </a:lnTo>
                        <a:lnTo>
                          <a:pt x="296" y="0"/>
                        </a:lnTo>
                        <a:lnTo>
                          <a:pt x="291" y="11"/>
                        </a:lnTo>
                        <a:lnTo>
                          <a:pt x="256" y="85"/>
                        </a:lnTo>
                        <a:lnTo>
                          <a:pt x="215" y="153"/>
                        </a:lnTo>
                        <a:lnTo>
                          <a:pt x="166" y="218"/>
                        </a:lnTo>
                        <a:lnTo>
                          <a:pt x="112" y="276"/>
                        </a:lnTo>
                        <a:lnTo>
                          <a:pt x="54" y="330"/>
                        </a:lnTo>
                        <a:lnTo>
                          <a:pt x="0" y="372"/>
                        </a:lnTo>
                        <a:lnTo>
                          <a:pt x="9" y="366"/>
                        </a:lnTo>
                        <a:lnTo>
                          <a:pt x="20" y="361"/>
                        </a:lnTo>
                        <a:lnTo>
                          <a:pt x="29" y="354"/>
                        </a:lnTo>
                        <a:lnTo>
                          <a:pt x="38" y="350"/>
                        </a:lnTo>
                        <a:lnTo>
                          <a:pt x="56" y="336"/>
                        </a:lnTo>
                        <a:lnTo>
                          <a:pt x="117" y="280"/>
                        </a:lnTo>
                        <a:lnTo>
                          <a:pt x="170" y="222"/>
                        </a:lnTo>
                        <a:lnTo>
                          <a:pt x="220" y="157"/>
                        </a:lnTo>
                        <a:lnTo>
                          <a:pt x="262" y="88"/>
                        </a:lnTo>
                        <a:lnTo>
                          <a:pt x="282" y="43"/>
                        </a:lnTo>
                        <a:close/>
                      </a:path>
                    </a:pathLst>
                  </a:custGeom>
                  <a:solidFill>
                    <a:srgbClr val="deb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3600" y="2584440"/>
                    <a:ext cx="52704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2" h="412">
                        <a:moveTo>
                          <a:pt x="320" y="45"/>
                        </a:moveTo>
                        <a:lnTo>
                          <a:pt x="323" y="34"/>
                        </a:lnTo>
                        <a:lnTo>
                          <a:pt x="325" y="23"/>
                        </a:lnTo>
                        <a:lnTo>
                          <a:pt x="329" y="11"/>
                        </a:lnTo>
                        <a:lnTo>
                          <a:pt x="332" y="0"/>
                        </a:lnTo>
                        <a:lnTo>
                          <a:pt x="316" y="38"/>
                        </a:lnTo>
                        <a:lnTo>
                          <a:pt x="282" y="112"/>
                        </a:lnTo>
                        <a:lnTo>
                          <a:pt x="240" y="179"/>
                        </a:lnTo>
                        <a:lnTo>
                          <a:pt x="193" y="244"/>
                        </a:lnTo>
                        <a:lnTo>
                          <a:pt x="139" y="303"/>
                        </a:lnTo>
                        <a:lnTo>
                          <a:pt x="78" y="356"/>
                        </a:lnTo>
                        <a:lnTo>
                          <a:pt x="16" y="404"/>
                        </a:lnTo>
                        <a:lnTo>
                          <a:pt x="0" y="412"/>
                        </a:lnTo>
                        <a:lnTo>
                          <a:pt x="11" y="408"/>
                        </a:lnTo>
                        <a:lnTo>
                          <a:pt x="20" y="404"/>
                        </a:lnTo>
                        <a:lnTo>
                          <a:pt x="29" y="399"/>
                        </a:lnTo>
                        <a:lnTo>
                          <a:pt x="40" y="395"/>
                        </a:lnTo>
                        <a:lnTo>
                          <a:pt x="83" y="361"/>
                        </a:lnTo>
                        <a:lnTo>
                          <a:pt x="143" y="307"/>
                        </a:lnTo>
                        <a:lnTo>
                          <a:pt x="197" y="249"/>
                        </a:lnTo>
                        <a:lnTo>
                          <a:pt x="244" y="184"/>
                        </a:lnTo>
                        <a:lnTo>
                          <a:pt x="287" y="114"/>
                        </a:lnTo>
                        <a:lnTo>
                          <a:pt x="320" y="45"/>
                        </a:lnTo>
                        <a:close/>
                      </a:path>
                    </a:pathLst>
                  </a:custGeom>
                  <a:solidFill>
                    <a:srgbClr val="deb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857240" y="2549520"/>
                    <a:ext cx="566640" cy="70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446">
                        <a:moveTo>
                          <a:pt x="350" y="36"/>
                        </a:moveTo>
                        <a:lnTo>
                          <a:pt x="352" y="27"/>
                        </a:lnTo>
                        <a:lnTo>
                          <a:pt x="355" y="18"/>
                        </a:lnTo>
                        <a:lnTo>
                          <a:pt x="357" y="9"/>
                        </a:lnTo>
                        <a:lnTo>
                          <a:pt x="357" y="0"/>
                        </a:lnTo>
                        <a:lnTo>
                          <a:pt x="337" y="60"/>
                        </a:lnTo>
                        <a:lnTo>
                          <a:pt x="301" y="132"/>
                        </a:lnTo>
                        <a:lnTo>
                          <a:pt x="258" y="199"/>
                        </a:lnTo>
                        <a:lnTo>
                          <a:pt x="211" y="264"/>
                        </a:lnTo>
                        <a:lnTo>
                          <a:pt x="157" y="322"/>
                        </a:lnTo>
                        <a:lnTo>
                          <a:pt x="99" y="376"/>
                        </a:lnTo>
                        <a:lnTo>
                          <a:pt x="36" y="423"/>
                        </a:lnTo>
                        <a:lnTo>
                          <a:pt x="0" y="446"/>
                        </a:lnTo>
                        <a:lnTo>
                          <a:pt x="9" y="441"/>
                        </a:lnTo>
                        <a:lnTo>
                          <a:pt x="21" y="437"/>
                        </a:lnTo>
                        <a:lnTo>
                          <a:pt x="30" y="432"/>
                        </a:lnTo>
                        <a:lnTo>
                          <a:pt x="41" y="428"/>
                        </a:lnTo>
                        <a:lnTo>
                          <a:pt x="104" y="381"/>
                        </a:lnTo>
                        <a:lnTo>
                          <a:pt x="162" y="327"/>
                        </a:lnTo>
                        <a:lnTo>
                          <a:pt x="216" y="266"/>
                        </a:lnTo>
                        <a:lnTo>
                          <a:pt x="265" y="204"/>
                        </a:lnTo>
                        <a:lnTo>
                          <a:pt x="305" y="134"/>
                        </a:lnTo>
                        <a:lnTo>
                          <a:pt x="341" y="62"/>
                        </a:lnTo>
                        <a:lnTo>
                          <a:pt x="350" y="36"/>
                        </a:lnTo>
                        <a:close/>
                      </a:path>
                    </a:pathLst>
                  </a:custGeom>
                  <a:solidFill>
                    <a:srgbClr val="deb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825560" y="2512800"/>
                    <a:ext cx="604800" cy="75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81" h="475">
                        <a:moveTo>
                          <a:pt x="377" y="32"/>
                        </a:moveTo>
                        <a:lnTo>
                          <a:pt x="377" y="25"/>
                        </a:lnTo>
                        <a:lnTo>
                          <a:pt x="379" y="16"/>
                        </a:lnTo>
                        <a:lnTo>
                          <a:pt x="379" y="9"/>
                        </a:lnTo>
                        <a:lnTo>
                          <a:pt x="381" y="0"/>
                        </a:lnTo>
                        <a:lnTo>
                          <a:pt x="379" y="5"/>
                        </a:lnTo>
                        <a:lnTo>
                          <a:pt x="352" y="81"/>
                        </a:lnTo>
                        <a:lnTo>
                          <a:pt x="316" y="153"/>
                        </a:lnTo>
                        <a:lnTo>
                          <a:pt x="276" y="220"/>
                        </a:lnTo>
                        <a:lnTo>
                          <a:pt x="229" y="283"/>
                        </a:lnTo>
                        <a:lnTo>
                          <a:pt x="175" y="341"/>
                        </a:lnTo>
                        <a:lnTo>
                          <a:pt x="117" y="395"/>
                        </a:lnTo>
                        <a:lnTo>
                          <a:pt x="54" y="442"/>
                        </a:lnTo>
                        <a:lnTo>
                          <a:pt x="0" y="475"/>
                        </a:lnTo>
                        <a:lnTo>
                          <a:pt x="7" y="473"/>
                        </a:lnTo>
                        <a:lnTo>
                          <a:pt x="16" y="469"/>
                        </a:lnTo>
                        <a:lnTo>
                          <a:pt x="23" y="466"/>
                        </a:lnTo>
                        <a:lnTo>
                          <a:pt x="32" y="464"/>
                        </a:lnTo>
                        <a:lnTo>
                          <a:pt x="56" y="446"/>
                        </a:lnTo>
                        <a:lnTo>
                          <a:pt x="121" y="399"/>
                        </a:lnTo>
                        <a:lnTo>
                          <a:pt x="180" y="345"/>
                        </a:lnTo>
                        <a:lnTo>
                          <a:pt x="233" y="287"/>
                        </a:lnTo>
                        <a:lnTo>
                          <a:pt x="280" y="224"/>
                        </a:lnTo>
                        <a:lnTo>
                          <a:pt x="323" y="155"/>
                        </a:lnTo>
                        <a:lnTo>
                          <a:pt x="357" y="83"/>
                        </a:lnTo>
                        <a:lnTo>
                          <a:pt x="377" y="32"/>
                        </a:lnTo>
                        <a:close/>
                      </a:path>
                    </a:pathLst>
                  </a:custGeom>
                  <a:solidFill>
                    <a:srgbClr val="deb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796760" y="2474640"/>
                    <a:ext cx="633600" cy="80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9" h="504">
                        <a:moveTo>
                          <a:pt x="397" y="35"/>
                        </a:moveTo>
                        <a:lnTo>
                          <a:pt x="397" y="27"/>
                        </a:lnTo>
                        <a:lnTo>
                          <a:pt x="399" y="18"/>
                        </a:lnTo>
                        <a:lnTo>
                          <a:pt x="399" y="9"/>
                        </a:lnTo>
                        <a:lnTo>
                          <a:pt x="399" y="0"/>
                        </a:lnTo>
                        <a:lnTo>
                          <a:pt x="393" y="29"/>
                        </a:lnTo>
                        <a:lnTo>
                          <a:pt x="366" y="103"/>
                        </a:lnTo>
                        <a:lnTo>
                          <a:pt x="332" y="174"/>
                        </a:lnTo>
                        <a:lnTo>
                          <a:pt x="289" y="242"/>
                        </a:lnTo>
                        <a:lnTo>
                          <a:pt x="242" y="304"/>
                        </a:lnTo>
                        <a:lnTo>
                          <a:pt x="191" y="363"/>
                        </a:lnTo>
                        <a:lnTo>
                          <a:pt x="133" y="416"/>
                        </a:lnTo>
                        <a:lnTo>
                          <a:pt x="70" y="464"/>
                        </a:lnTo>
                        <a:lnTo>
                          <a:pt x="3" y="504"/>
                        </a:lnTo>
                        <a:lnTo>
                          <a:pt x="0" y="504"/>
                        </a:lnTo>
                        <a:lnTo>
                          <a:pt x="7" y="504"/>
                        </a:lnTo>
                        <a:lnTo>
                          <a:pt x="14" y="502"/>
                        </a:lnTo>
                        <a:lnTo>
                          <a:pt x="21" y="497"/>
                        </a:lnTo>
                        <a:lnTo>
                          <a:pt x="27" y="495"/>
                        </a:lnTo>
                        <a:lnTo>
                          <a:pt x="72" y="468"/>
                        </a:lnTo>
                        <a:lnTo>
                          <a:pt x="137" y="421"/>
                        </a:lnTo>
                        <a:lnTo>
                          <a:pt x="195" y="367"/>
                        </a:lnTo>
                        <a:lnTo>
                          <a:pt x="249" y="309"/>
                        </a:lnTo>
                        <a:lnTo>
                          <a:pt x="296" y="246"/>
                        </a:lnTo>
                        <a:lnTo>
                          <a:pt x="337" y="177"/>
                        </a:lnTo>
                        <a:lnTo>
                          <a:pt x="372" y="105"/>
                        </a:lnTo>
                        <a:lnTo>
                          <a:pt x="397" y="35"/>
                        </a:lnTo>
                        <a:close/>
                      </a:path>
                    </a:pathLst>
                  </a:custGeom>
                  <a:solidFill>
                    <a:srgbClr val="deb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758600" y="2441520"/>
                    <a:ext cx="67644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532">
                        <a:moveTo>
                          <a:pt x="423" y="34"/>
                        </a:moveTo>
                        <a:lnTo>
                          <a:pt x="423" y="25"/>
                        </a:lnTo>
                        <a:lnTo>
                          <a:pt x="426" y="16"/>
                        </a:lnTo>
                        <a:lnTo>
                          <a:pt x="426" y="9"/>
                        </a:lnTo>
                        <a:lnTo>
                          <a:pt x="426" y="0"/>
                        </a:lnTo>
                        <a:lnTo>
                          <a:pt x="412" y="48"/>
                        </a:lnTo>
                        <a:lnTo>
                          <a:pt x="385" y="121"/>
                        </a:lnTo>
                        <a:lnTo>
                          <a:pt x="352" y="193"/>
                        </a:lnTo>
                        <a:lnTo>
                          <a:pt x="311" y="260"/>
                        </a:lnTo>
                        <a:lnTo>
                          <a:pt x="264" y="323"/>
                        </a:lnTo>
                        <a:lnTo>
                          <a:pt x="210" y="381"/>
                        </a:lnTo>
                        <a:lnTo>
                          <a:pt x="154" y="433"/>
                        </a:lnTo>
                        <a:lnTo>
                          <a:pt x="92" y="480"/>
                        </a:lnTo>
                        <a:lnTo>
                          <a:pt x="24" y="520"/>
                        </a:lnTo>
                        <a:lnTo>
                          <a:pt x="0" y="532"/>
                        </a:lnTo>
                        <a:lnTo>
                          <a:pt x="9" y="529"/>
                        </a:lnTo>
                        <a:lnTo>
                          <a:pt x="18" y="527"/>
                        </a:lnTo>
                        <a:lnTo>
                          <a:pt x="24" y="525"/>
                        </a:lnTo>
                        <a:lnTo>
                          <a:pt x="33" y="523"/>
                        </a:lnTo>
                        <a:lnTo>
                          <a:pt x="94" y="485"/>
                        </a:lnTo>
                        <a:lnTo>
                          <a:pt x="159" y="437"/>
                        </a:lnTo>
                        <a:lnTo>
                          <a:pt x="217" y="386"/>
                        </a:lnTo>
                        <a:lnTo>
                          <a:pt x="269" y="328"/>
                        </a:lnTo>
                        <a:lnTo>
                          <a:pt x="316" y="265"/>
                        </a:lnTo>
                        <a:lnTo>
                          <a:pt x="358" y="195"/>
                        </a:lnTo>
                        <a:lnTo>
                          <a:pt x="392" y="124"/>
                        </a:lnTo>
                        <a:lnTo>
                          <a:pt x="419" y="50"/>
                        </a:lnTo>
                        <a:lnTo>
                          <a:pt x="423" y="34"/>
                        </a:lnTo>
                        <a:close/>
                      </a:path>
                    </a:pathLst>
                  </a:custGeom>
                  <a:solidFill>
                    <a:srgbClr val="deb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730160" y="2417760"/>
                    <a:ext cx="704880" cy="874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551">
                        <a:moveTo>
                          <a:pt x="444" y="24"/>
                        </a:moveTo>
                        <a:lnTo>
                          <a:pt x="444" y="20"/>
                        </a:lnTo>
                        <a:lnTo>
                          <a:pt x="444" y="13"/>
                        </a:lnTo>
                        <a:lnTo>
                          <a:pt x="444" y="6"/>
                        </a:lnTo>
                        <a:lnTo>
                          <a:pt x="444" y="2"/>
                        </a:lnTo>
                        <a:lnTo>
                          <a:pt x="444" y="2"/>
                        </a:lnTo>
                        <a:lnTo>
                          <a:pt x="444" y="2"/>
                        </a:lnTo>
                        <a:lnTo>
                          <a:pt x="444" y="0"/>
                        </a:lnTo>
                        <a:lnTo>
                          <a:pt x="444" y="0"/>
                        </a:lnTo>
                        <a:lnTo>
                          <a:pt x="428" y="60"/>
                        </a:lnTo>
                        <a:lnTo>
                          <a:pt x="401" y="136"/>
                        </a:lnTo>
                        <a:lnTo>
                          <a:pt x="365" y="206"/>
                        </a:lnTo>
                        <a:lnTo>
                          <a:pt x="325" y="273"/>
                        </a:lnTo>
                        <a:lnTo>
                          <a:pt x="278" y="336"/>
                        </a:lnTo>
                        <a:lnTo>
                          <a:pt x="226" y="392"/>
                        </a:lnTo>
                        <a:lnTo>
                          <a:pt x="168" y="446"/>
                        </a:lnTo>
                        <a:lnTo>
                          <a:pt x="107" y="491"/>
                        </a:lnTo>
                        <a:lnTo>
                          <a:pt x="40" y="533"/>
                        </a:lnTo>
                        <a:lnTo>
                          <a:pt x="0" y="551"/>
                        </a:lnTo>
                        <a:lnTo>
                          <a:pt x="7" y="551"/>
                        </a:lnTo>
                        <a:lnTo>
                          <a:pt x="13" y="549"/>
                        </a:lnTo>
                        <a:lnTo>
                          <a:pt x="22" y="547"/>
                        </a:lnTo>
                        <a:lnTo>
                          <a:pt x="29" y="544"/>
                        </a:lnTo>
                        <a:lnTo>
                          <a:pt x="42" y="538"/>
                        </a:lnTo>
                        <a:lnTo>
                          <a:pt x="110" y="497"/>
                        </a:lnTo>
                        <a:lnTo>
                          <a:pt x="172" y="450"/>
                        </a:lnTo>
                        <a:lnTo>
                          <a:pt x="231" y="396"/>
                        </a:lnTo>
                        <a:lnTo>
                          <a:pt x="284" y="340"/>
                        </a:lnTo>
                        <a:lnTo>
                          <a:pt x="331" y="278"/>
                        </a:lnTo>
                        <a:lnTo>
                          <a:pt x="372" y="208"/>
                        </a:lnTo>
                        <a:lnTo>
                          <a:pt x="405" y="139"/>
                        </a:lnTo>
                        <a:lnTo>
                          <a:pt x="432" y="63"/>
                        </a:lnTo>
                        <a:lnTo>
                          <a:pt x="444" y="24"/>
                        </a:lnTo>
                        <a:close/>
                      </a:path>
                    </a:pathLst>
                  </a:custGeom>
                  <a:solidFill>
                    <a:srgbClr val="de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701720" y="2392200"/>
                    <a:ext cx="733320" cy="90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2" h="572">
                        <a:moveTo>
                          <a:pt x="462" y="22"/>
                        </a:moveTo>
                        <a:lnTo>
                          <a:pt x="462" y="20"/>
                        </a:lnTo>
                        <a:lnTo>
                          <a:pt x="462" y="20"/>
                        </a:lnTo>
                        <a:lnTo>
                          <a:pt x="462" y="18"/>
                        </a:lnTo>
                        <a:lnTo>
                          <a:pt x="462" y="18"/>
                        </a:lnTo>
                        <a:lnTo>
                          <a:pt x="462" y="14"/>
                        </a:lnTo>
                        <a:lnTo>
                          <a:pt x="462" y="9"/>
                        </a:lnTo>
                        <a:lnTo>
                          <a:pt x="462" y="5"/>
                        </a:lnTo>
                        <a:lnTo>
                          <a:pt x="462" y="0"/>
                        </a:lnTo>
                        <a:lnTo>
                          <a:pt x="462" y="0"/>
                        </a:lnTo>
                        <a:lnTo>
                          <a:pt x="441" y="76"/>
                        </a:lnTo>
                        <a:lnTo>
                          <a:pt x="414" y="150"/>
                        </a:lnTo>
                        <a:lnTo>
                          <a:pt x="381" y="220"/>
                        </a:lnTo>
                        <a:lnTo>
                          <a:pt x="341" y="287"/>
                        </a:lnTo>
                        <a:lnTo>
                          <a:pt x="293" y="350"/>
                        </a:lnTo>
                        <a:lnTo>
                          <a:pt x="242" y="406"/>
                        </a:lnTo>
                        <a:lnTo>
                          <a:pt x="184" y="457"/>
                        </a:lnTo>
                        <a:lnTo>
                          <a:pt x="123" y="504"/>
                        </a:lnTo>
                        <a:lnTo>
                          <a:pt x="56" y="545"/>
                        </a:lnTo>
                        <a:lnTo>
                          <a:pt x="0" y="572"/>
                        </a:lnTo>
                        <a:lnTo>
                          <a:pt x="7" y="569"/>
                        </a:lnTo>
                        <a:lnTo>
                          <a:pt x="13" y="569"/>
                        </a:lnTo>
                        <a:lnTo>
                          <a:pt x="20" y="567"/>
                        </a:lnTo>
                        <a:lnTo>
                          <a:pt x="27" y="565"/>
                        </a:lnTo>
                        <a:lnTo>
                          <a:pt x="58" y="549"/>
                        </a:lnTo>
                        <a:lnTo>
                          <a:pt x="125" y="509"/>
                        </a:lnTo>
                        <a:lnTo>
                          <a:pt x="188" y="462"/>
                        </a:lnTo>
                        <a:lnTo>
                          <a:pt x="246" y="410"/>
                        </a:lnTo>
                        <a:lnTo>
                          <a:pt x="298" y="352"/>
                        </a:lnTo>
                        <a:lnTo>
                          <a:pt x="345" y="289"/>
                        </a:lnTo>
                        <a:lnTo>
                          <a:pt x="385" y="224"/>
                        </a:lnTo>
                        <a:lnTo>
                          <a:pt x="419" y="152"/>
                        </a:lnTo>
                        <a:lnTo>
                          <a:pt x="448" y="79"/>
                        </a:lnTo>
                        <a:lnTo>
                          <a:pt x="462" y="22"/>
                        </a:lnTo>
                        <a:close/>
                      </a:path>
                    </a:pathLst>
                  </a:custGeom>
                  <a:solidFill>
                    <a:srgbClr val="de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679400" y="2360520"/>
                    <a:ext cx="75564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594">
                        <a:moveTo>
                          <a:pt x="0" y="594"/>
                        </a:moveTo>
                        <a:lnTo>
                          <a:pt x="5" y="594"/>
                        </a:lnTo>
                        <a:lnTo>
                          <a:pt x="12" y="592"/>
                        </a:lnTo>
                        <a:lnTo>
                          <a:pt x="16" y="592"/>
                        </a:lnTo>
                        <a:lnTo>
                          <a:pt x="23" y="589"/>
                        </a:lnTo>
                        <a:lnTo>
                          <a:pt x="70" y="567"/>
                        </a:lnTo>
                        <a:lnTo>
                          <a:pt x="137" y="527"/>
                        </a:lnTo>
                        <a:lnTo>
                          <a:pt x="200" y="480"/>
                        </a:lnTo>
                        <a:lnTo>
                          <a:pt x="256" y="428"/>
                        </a:lnTo>
                        <a:lnTo>
                          <a:pt x="310" y="370"/>
                        </a:lnTo>
                        <a:lnTo>
                          <a:pt x="355" y="307"/>
                        </a:lnTo>
                        <a:lnTo>
                          <a:pt x="395" y="242"/>
                        </a:lnTo>
                        <a:lnTo>
                          <a:pt x="431" y="170"/>
                        </a:lnTo>
                        <a:lnTo>
                          <a:pt x="458" y="96"/>
                        </a:lnTo>
                        <a:lnTo>
                          <a:pt x="476" y="27"/>
                        </a:lnTo>
                        <a:lnTo>
                          <a:pt x="476" y="20"/>
                        </a:lnTo>
                        <a:lnTo>
                          <a:pt x="476" y="13"/>
                        </a:lnTo>
                        <a:lnTo>
                          <a:pt x="476" y="7"/>
                        </a:lnTo>
                        <a:lnTo>
                          <a:pt x="473" y="0"/>
                        </a:lnTo>
                        <a:lnTo>
                          <a:pt x="471" y="20"/>
                        </a:lnTo>
                        <a:lnTo>
                          <a:pt x="451" y="94"/>
                        </a:lnTo>
                        <a:lnTo>
                          <a:pt x="424" y="168"/>
                        </a:lnTo>
                        <a:lnTo>
                          <a:pt x="390" y="237"/>
                        </a:lnTo>
                        <a:lnTo>
                          <a:pt x="350" y="305"/>
                        </a:lnTo>
                        <a:lnTo>
                          <a:pt x="305" y="365"/>
                        </a:lnTo>
                        <a:lnTo>
                          <a:pt x="254" y="423"/>
                        </a:lnTo>
                        <a:lnTo>
                          <a:pt x="195" y="475"/>
                        </a:lnTo>
                        <a:lnTo>
                          <a:pt x="135" y="520"/>
                        </a:lnTo>
                        <a:lnTo>
                          <a:pt x="68" y="560"/>
                        </a:lnTo>
                        <a:lnTo>
                          <a:pt x="0" y="594"/>
                        </a:lnTo>
                        <a:close/>
                      </a:path>
                    </a:pathLst>
                  </a:custGeom>
                  <a:solidFill>
                    <a:srgbClr val="de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647720" y="2331720"/>
                    <a:ext cx="787320" cy="9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614">
                        <a:moveTo>
                          <a:pt x="0" y="614"/>
                        </a:moveTo>
                        <a:lnTo>
                          <a:pt x="7" y="614"/>
                        </a:lnTo>
                        <a:lnTo>
                          <a:pt x="14" y="612"/>
                        </a:lnTo>
                        <a:lnTo>
                          <a:pt x="20" y="612"/>
                        </a:lnTo>
                        <a:lnTo>
                          <a:pt x="27" y="610"/>
                        </a:lnTo>
                        <a:lnTo>
                          <a:pt x="90" y="580"/>
                        </a:lnTo>
                        <a:lnTo>
                          <a:pt x="155" y="540"/>
                        </a:lnTo>
                        <a:lnTo>
                          <a:pt x="218" y="495"/>
                        </a:lnTo>
                        <a:lnTo>
                          <a:pt x="274" y="441"/>
                        </a:lnTo>
                        <a:lnTo>
                          <a:pt x="325" y="385"/>
                        </a:lnTo>
                        <a:lnTo>
                          <a:pt x="372" y="323"/>
                        </a:lnTo>
                        <a:lnTo>
                          <a:pt x="413" y="258"/>
                        </a:lnTo>
                        <a:lnTo>
                          <a:pt x="446" y="188"/>
                        </a:lnTo>
                        <a:lnTo>
                          <a:pt x="473" y="114"/>
                        </a:lnTo>
                        <a:lnTo>
                          <a:pt x="493" y="38"/>
                        </a:lnTo>
                        <a:lnTo>
                          <a:pt x="496" y="27"/>
                        </a:lnTo>
                        <a:lnTo>
                          <a:pt x="493" y="20"/>
                        </a:lnTo>
                        <a:lnTo>
                          <a:pt x="493" y="13"/>
                        </a:lnTo>
                        <a:lnTo>
                          <a:pt x="493" y="7"/>
                        </a:lnTo>
                        <a:lnTo>
                          <a:pt x="493" y="0"/>
                        </a:lnTo>
                        <a:lnTo>
                          <a:pt x="487" y="38"/>
                        </a:lnTo>
                        <a:lnTo>
                          <a:pt x="466" y="112"/>
                        </a:lnTo>
                        <a:lnTo>
                          <a:pt x="440" y="184"/>
                        </a:lnTo>
                        <a:lnTo>
                          <a:pt x="406" y="253"/>
                        </a:lnTo>
                        <a:lnTo>
                          <a:pt x="368" y="320"/>
                        </a:lnTo>
                        <a:lnTo>
                          <a:pt x="321" y="381"/>
                        </a:lnTo>
                        <a:lnTo>
                          <a:pt x="269" y="437"/>
                        </a:lnTo>
                        <a:lnTo>
                          <a:pt x="213" y="489"/>
                        </a:lnTo>
                        <a:lnTo>
                          <a:pt x="153" y="536"/>
                        </a:lnTo>
                        <a:lnTo>
                          <a:pt x="85" y="576"/>
                        </a:lnTo>
                        <a:lnTo>
                          <a:pt x="16" y="607"/>
                        </a:lnTo>
                        <a:lnTo>
                          <a:pt x="0" y="614"/>
                        </a:lnTo>
                        <a:close/>
                      </a:path>
                    </a:pathLst>
                  </a:custGeom>
                  <a:solidFill>
                    <a:srgbClr val="de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618920" y="2306520"/>
                    <a:ext cx="811440" cy="10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632">
                        <a:moveTo>
                          <a:pt x="0" y="632"/>
                        </a:moveTo>
                        <a:lnTo>
                          <a:pt x="7" y="632"/>
                        </a:lnTo>
                        <a:lnTo>
                          <a:pt x="14" y="630"/>
                        </a:lnTo>
                        <a:lnTo>
                          <a:pt x="20" y="630"/>
                        </a:lnTo>
                        <a:lnTo>
                          <a:pt x="27" y="630"/>
                        </a:lnTo>
                        <a:lnTo>
                          <a:pt x="36" y="626"/>
                        </a:lnTo>
                        <a:lnTo>
                          <a:pt x="106" y="592"/>
                        </a:lnTo>
                        <a:lnTo>
                          <a:pt x="171" y="554"/>
                        </a:lnTo>
                        <a:lnTo>
                          <a:pt x="231" y="507"/>
                        </a:lnTo>
                        <a:lnTo>
                          <a:pt x="289" y="455"/>
                        </a:lnTo>
                        <a:lnTo>
                          <a:pt x="341" y="399"/>
                        </a:lnTo>
                        <a:lnTo>
                          <a:pt x="386" y="336"/>
                        </a:lnTo>
                        <a:lnTo>
                          <a:pt x="426" y="271"/>
                        </a:lnTo>
                        <a:lnTo>
                          <a:pt x="460" y="202"/>
                        </a:lnTo>
                        <a:lnTo>
                          <a:pt x="487" y="128"/>
                        </a:lnTo>
                        <a:lnTo>
                          <a:pt x="507" y="54"/>
                        </a:lnTo>
                        <a:lnTo>
                          <a:pt x="511" y="23"/>
                        </a:lnTo>
                        <a:lnTo>
                          <a:pt x="511" y="18"/>
                        </a:lnTo>
                        <a:lnTo>
                          <a:pt x="509" y="11"/>
                        </a:lnTo>
                        <a:lnTo>
                          <a:pt x="509" y="5"/>
                        </a:lnTo>
                        <a:lnTo>
                          <a:pt x="509" y="0"/>
                        </a:lnTo>
                        <a:lnTo>
                          <a:pt x="500" y="52"/>
                        </a:lnTo>
                        <a:lnTo>
                          <a:pt x="480" y="126"/>
                        </a:lnTo>
                        <a:lnTo>
                          <a:pt x="455" y="200"/>
                        </a:lnTo>
                        <a:lnTo>
                          <a:pt x="422" y="269"/>
                        </a:lnTo>
                        <a:lnTo>
                          <a:pt x="381" y="334"/>
                        </a:lnTo>
                        <a:lnTo>
                          <a:pt x="336" y="395"/>
                        </a:lnTo>
                        <a:lnTo>
                          <a:pt x="285" y="451"/>
                        </a:lnTo>
                        <a:lnTo>
                          <a:pt x="229" y="502"/>
                        </a:lnTo>
                        <a:lnTo>
                          <a:pt x="166" y="547"/>
                        </a:lnTo>
                        <a:lnTo>
                          <a:pt x="101" y="587"/>
                        </a:lnTo>
                        <a:lnTo>
                          <a:pt x="32" y="621"/>
                        </a:lnTo>
                        <a:lnTo>
                          <a:pt x="0" y="632"/>
                        </a:lnTo>
                        <a:close/>
                      </a:path>
                    </a:pathLst>
                  </a:custGeom>
                  <a:solidFill>
                    <a:srgbClr val="e1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595160" y="2282760"/>
                    <a:ext cx="831960" cy="10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4" h="650">
                        <a:moveTo>
                          <a:pt x="0" y="650"/>
                        </a:moveTo>
                        <a:lnTo>
                          <a:pt x="6" y="647"/>
                        </a:lnTo>
                        <a:lnTo>
                          <a:pt x="13" y="647"/>
                        </a:lnTo>
                        <a:lnTo>
                          <a:pt x="18" y="647"/>
                        </a:lnTo>
                        <a:lnTo>
                          <a:pt x="24" y="647"/>
                        </a:lnTo>
                        <a:lnTo>
                          <a:pt x="49" y="638"/>
                        </a:lnTo>
                        <a:lnTo>
                          <a:pt x="118" y="605"/>
                        </a:lnTo>
                        <a:lnTo>
                          <a:pt x="183" y="564"/>
                        </a:lnTo>
                        <a:lnTo>
                          <a:pt x="244" y="520"/>
                        </a:lnTo>
                        <a:lnTo>
                          <a:pt x="300" y="468"/>
                        </a:lnTo>
                        <a:lnTo>
                          <a:pt x="351" y="412"/>
                        </a:lnTo>
                        <a:lnTo>
                          <a:pt x="399" y="349"/>
                        </a:lnTo>
                        <a:lnTo>
                          <a:pt x="437" y="284"/>
                        </a:lnTo>
                        <a:lnTo>
                          <a:pt x="470" y="215"/>
                        </a:lnTo>
                        <a:lnTo>
                          <a:pt x="497" y="143"/>
                        </a:lnTo>
                        <a:lnTo>
                          <a:pt x="517" y="69"/>
                        </a:lnTo>
                        <a:lnTo>
                          <a:pt x="524" y="22"/>
                        </a:lnTo>
                        <a:lnTo>
                          <a:pt x="524" y="18"/>
                        </a:lnTo>
                        <a:lnTo>
                          <a:pt x="524" y="11"/>
                        </a:lnTo>
                        <a:lnTo>
                          <a:pt x="522" y="6"/>
                        </a:lnTo>
                        <a:lnTo>
                          <a:pt x="522" y="0"/>
                        </a:lnTo>
                        <a:lnTo>
                          <a:pt x="511" y="67"/>
                        </a:lnTo>
                        <a:lnTo>
                          <a:pt x="493" y="141"/>
                        </a:lnTo>
                        <a:lnTo>
                          <a:pt x="466" y="213"/>
                        </a:lnTo>
                        <a:lnTo>
                          <a:pt x="432" y="282"/>
                        </a:lnTo>
                        <a:lnTo>
                          <a:pt x="392" y="347"/>
                        </a:lnTo>
                        <a:lnTo>
                          <a:pt x="347" y="407"/>
                        </a:lnTo>
                        <a:lnTo>
                          <a:pt x="295" y="464"/>
                        </a:lnTo>
                        <a:lnTo>
                          <a:pt x="242" y="513"/>
                        </a:lnTo>
                        <a:lnTo>
                          <a:pt x="179" y="560"/>
                        </a:lnTo>
                        <a:lnTo>
                          <a:pt x="114" y="598"/>
                        </a:lnTo>
                        <a:lnTo>
                          <a:pt x="47" y="632"/>
                        </a:lnTo>
                        <a:lnTo>
                          <a:pt x="0" y="650"/>
                        </a:lnTo>
                        <a:close/>
                      </a:path>
                    </a:pathLst>
                  </a:custGeom>
                  <a:solidFill>
                    <a:srgbClr val="e1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573200" y="2260440"/>
                    <a:ext cx="850680" cy="10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664">
                        <a:moveTo>
                          <a:pt x="0" y="664"/>
                        </a:moveTo>
                        <a:lnTo>
                          <a:pt x="5" y="664"/>
                        </a:lnTo>
                        <a:lnTo>
                          <a:pt x="11" y="664"/>
                        </a:lnTo>
                        <a:lnTo>
                          <a:pt x="16" y="664"/>
                        </a:lnTo>
                        <a:lnTo>
                          <a:pt x="23" y="661"/>
                        </a:lnTo>
                        <a:lnTo>
                          <a:pt x="61" y="648"/>
                        </a:lnTo>
                        <a:lnTo>
                          <a:pt x="130" y="614"/>
                        </a:lnTo>
                        <a:lnTo>
                          <a:pt x="195" y="574"/>
                        </a:lnTo>
                        <a:lnTo>
                          <a:pt x="256" y="529"/>
                        </a:lnTo>
                        <a:lnTo>
                          <a:pt x="312" y="478"/>
                        </a:lnTo>
                        <a:lnTo>
                          <a:pt x="363" y="421"/>
                        </a:lnTo>
                        <a:lnTo>
                          <a:pt x="408" y="361"/>
                        </a:lnTo>
                        <a:lnTo>
                          <a:pt x="448" y="296"/>
                        </a:lnTo>
                        <a:lnTo>
                          <a:pt x="482" y="227"/>
                        </a:lnTo>
                        <a:lnTo>
                          <a:pt x="509" y="155"/>
                        </a:lnTo>
                        <a:lnTo>
                          <a:pt x="527" y="81"/>
                        </a:lnTo>
                        <a:lnTo>
                          <a:pt x="536" y="20"/>
                        </a:lnTo>
                        <a:lnTo>
                          <a:pt x="536" y="16"/>
                        </a:lnTo>
                        <a:lnTo>
                          <a:pt x="536" y="11"/>
                        </a:lnTo>
                        <a:lnTo>
                          <a:pt x="534" y="5"/>
                        </a:lnTo>
                        <a:lnTo>
                          <a:pt x="534" y="0"/>
                        </a:lnTo>
                        <a:lnTo>
                          <a:pt x="534" y="2"/>
                        </a:lnTo>
                        <a:lnTo>
                          <a:pt x="520" y="81"/>
                        </a:lnTo>
                        <a:lnTo>
                          <a:pt x="502" y="153"/>
                        </a:lnTo>
                        <a:lnTo>
                          <a:pt x="475" y="224"/>
                        </a:lnTo>
                        <a:lnTo>
                          <a:pt x="442" y="294"/>
                        </a:lnTo>
                        <a:lnTo>
                          <a:pt x="404" y="359"/>
                        </a:lnTo>
                        <a:lnTo>
                          <a:pt x="359" y="419"/>
                        </a:lnTo>
                        <a:lnTo>
                          <a:pt x="307" y="473"/>
                        </a:lnTo>
                        <a:lnTo>
                          <a:pt x="251" y="525"/>
                        </a:lnTo>
                        <a:lnTo>
                          <a:pt x="191" y="569"/>
                        </a:lnTo>
                        <a:lnTo>
                          <a:pt x="128" y="610"/>
                        </a:lnTo>
                        <a:lnTo>
                          <a:pt x="58" y="641"/>
                        </a:lnTo>
                        <a:lnTo>
                          <a:pt x="0" y="664"/>
                        </a:lnTo>
                        <a:close/>
                      </a:path>
                    </a:pathLst>
                  </a:custGeom>
                  <a:solidFill>
                    <a:srgbClr val="e1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552320" y="2232000"/>
                    <a:ext cx="868320" cy="10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682">
                        <a:moveTo>
                          <a:pt x="0" y="682"/>
                        </a:moveTo>
                        <a:lnTo>
                          <a:pt x="4" y="682"/>
                        </a:lnTo>
                        <a:lnTo>
                          <a:pt x="9" y="682"/>
                        </a:lnTo>
                        <a:lnTo>
                          <a:pt x="15" y="682"/>
                        </a:lnTo>
                        <a:lnTo>
                          <a:pt x="20" y="682"/>
                        </a:lnTo>
                        <a:lnTo>
                          <a:pt x="71" y="661"/>
                        </a:lnTo>
                        <a:lnTo>
                          <a:pt x="141" y="628"/>
                        </a:lnTo>
                        <a:lnTo>
                          <a:pt x="206" y="590"/>
                        </a:lnTo>
                        <a:lnTo>
                          <a:pt x="266" y="545"/>
                        </a:lnTo>
                        <a:lnTo>
                          <a:pt x="322" y="493"/>
                        </a:lnTo>
                        <a:lnTo>
                          <a:pt x="372" y="437"/>
                        </a:lnTo>
                        <a:lnTo>
                          <a:pt x="419" y="377"/>
                        </a:lnTo>
                        <a:lnTo>
                          <a:pt x="457" y="312"/>
                        </a:lnTo>
                        <a:lnTo>
                          <a:pt x="491" y="245"/>
                        </a:lnTo>
                        <a:lnTo>
                          <a:pt x="517" y="171"/>
                        </a:lnTo>
                        <a:lnTo>
                          <a:pt x="535" y="99"/>
                        </a:lnTo>
                        <a:lnTo>
                          <a:pt x="547" y="25"/>
                        </a:lnTo>
                        <a:lnTo>
                          <a:pt x="547" y="20"/>
                        </a:lnTo>
                        <a:lnTo>
                          <a:pt x="544" y="14"/>
                        </a:lnTo>
                        <a:lnTo>
                          <a:pt x="544" y="7"/>
                        </a:lnTo>
                        <a:lnTo>
                          <a:pt x="542" y="0"/>
                        </a:lnTo>
                        <a:lnTo>
                          <a:pt x="542" y="20"/>
                        </a:lnTo>
                        <a:lnTo>
                          <a:pt x="531" y="97"/>
                        </a:lnTo>
                        <a:lnTo>
                          <a:pt x="511" y="171"/>
                        </a:lnTo>
                        <a:lnTo>
                          <a:pt x="484" y="240"/>
                        </a:lnTo>
                        <a:lnTo>
                          <a:pt x="452" y="310"/>
                        </a:lnTo>
                        <a:lnTo>
                          <a:pt x="412" y="375"/>
                        </a:lnTo>
                        <a:lnTo>
                          <a:pt x="367" y="433"/>
                        </a:lnTo>
                        <a:lnTo>
                          <a:pt x="318" y="489"/>
                        </a:lnTo>
                        <a:lnTo>
                          <a:pt x="262" y="538"/>
                        </a:lnTo>
                        <a:lnTo>
                          <a:pt x="201" y="583"/>
                        </a:lnTo>
                        <a:lnTo>
                          <a:pt x="139" y="623"/>
                        </a:lnTo>
                        <a:lnTo>
                          <a:pt x="69" y="657"/>
                        </a:lnTo>
                        <a:lnTo>
                          <a:pt x="0" y="682"/>
                        </a:lnTo>
                        <a:close/>
                      </a:path>
                    </a:pathLst>
                  </a:custGeom>
                  <a:solidFill>
                    <a:srgbClr val="e1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30000" y="2211120"/>
                    <a:ext cx="885960" cy="11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8" h="695">
                        <a:moveTo>
                          <a:pt x="20" y="695"/>
                        </a:moveTo>
                        <a:lnTo>
                          <a:pt x="16" y="695"/>
                        </a:lnTo>
                        <a:lnTo>
                          <a:pt x="14" y="695"/>
                        </a:lnTo>
                        <a:lnTo>
                          <a:pt x="9" y="695"/>
                        </a:lnTo>
                        <a:lnTo>
                          <a:pt x="7" y="695"/>
                        </a:lnTo>
                        <a:lnTo>
                          <a:pt x="7" y="695"/>
                        </a:lnTo>
                        <a:lnTo>
                          <a:pt x="5" y="695"/>
                        </a:lnTo>
                        <a:lnTo>
                          <a:pt x="3" y="695"/>
                        </a:lnTo>
                        <a:lnTo>
                          <a:pt x="0" y="695"/>
                        </a:lnTo>
                        <a:lnTo>
                          <a:pt x="11" y="690"/>
                        </a:lnTo>
                        <a:lnTo>
                          <a:pt x="81" y="665"/>
                        </a:lnTo>
                        <a:lnTo>
                          <a:pt x="150" y="632"/>
                        </a:lnTo>
                        <a:lnTo>
                          <a:pt x="213" y="594"/>
                        </a:lnTo>
                        <a:lnTo>
                          <a:pt x="274" y="549"/>
                        </a:lnTo>
                        <a:lnTo>
                          <a:pt x="327" y="500"/>
                        </a:lnTo>
                        <a:lnTo>
                          <a:pt x="379" y="444"/>
                        </a:lnTo>
                        <a:lnTo>
                          <a:pt x="424" y="383"/>
                        </a:lnTo>
                        <a:lnTo>
                          <a:pt x="462" y="320"/>
                        </a:lnTo>
                        <a:lnTo>
                          <a:pt x="496" y="253"/>
                        </a:lnTo>
                        <a:lnTo>
                          <a:pt x="520" y="181"/>
                        </a:lnTo>
                        <a:lnTo>
                          <a:pt x="540" y="110"/>
                        </a:lnTo>
                        <a:lnTo>
                          <a:pt x="552" y="31"/>
                        </a:lnTo>
                        <a:lnTo>
                          <a:pt x="554" y="0"/>
                        </a:lnTo>
                        <a:lnTo>
                          <a:pt x="554" y="4"/>
                        </a:lnTo>
                        <a:lnTo>
                          <a:pt x="556" y="11"/>
                        </a:lnTo>
                        <a:lnTo>
                          <a:pt x="556" y="15"/>
                        </a:lnTo>
                        <a:lnTo>
                          <a:pt x="558" y="22"/>
                        </a:lnTo>
                        <a:lnTo>
                          <a:pt x="558" y="33"/>
                        </a:lnTo>
                        <a:lnTo>
                          <a:pt x="547" y="110"/>
                        </a:lnTo>
                        <a:lnTo>
                          <a:pt x="527" y="184"/>
                        </a:lnTo>
                        <a:lnTo>
                          <a:pt x="500" y="255"/>
                        </a:lnTo>
                        <a:lnTo>
                          <a:pt x="466" y="323"/>
                        </a:lnTo>
                        <a:lnTo>
                          <a:pt x="428" y="388"/>
                        </a:lnTo>
                        <a:lnTo>
                          <a:pt x="384" y="448"/>
                        </a:lnTo>
                        <a:lnTo>
                          <a:pt x="332" y="504"/>
                        </a:lnTo>
                        <a:lnTo>
                          <a:pt x="278" y="553"/>
                        </a:lnTo>
                        <a:lnTo>
                          <a:pt x="218" y="598"/>
                        </a:lnTo>
                        <a:lnTo>
                          <a:pt x="153" y="639"/>
                        </a:lnTo>
                        <a:lnTo>
                          <a:pt x="85" y="670"/>
                        </a:lnTo>
                        <a:lnTo>
                          <a:pt x="20" y="695"/>
                        </a:lnTo>
                        <a:close/>
                      </a:path>
                    </a:pathLst>
                  </a:custGeom>
                  <a:solidFill>
                    <a:srgbClr val="e1c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506240" y="2189160"/>
                    <a:ext cx="903240" cy="11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9" h="709">
                        <a:moveTo>
                          <a:pt x="0" y="709"/>
                        </a:moveTo>
                        <a:lnTo>
                          <a:pt x="4" y="709"/>
                        </a:lnTo>
                        <a:lnTo>
                          <a:pt x="11" y="709"/>
                        </a:lnTo>
                        <a:lnTo>
                          <a:pt x="18" y="709"/>
                        </a:lnTo>
                        <a:lnTo>
                          <a:pt x="22" y="709"/>
                        </a:lnTo>
                        <a:lnTo>
                          <a:pt x="26" y="706"/>
                        </a:lnTo>
                        <a:lnTo>
                          <a:pt x="98" y="682"/>
                        </a:lnTo>
                        <a:lnTo>
                          <a:pt x="165" y="648"/>
                        </a:lnTo>
                        <a:lnTo>
                          <a:pt x="230" y="610"/>
                        </a:lnTo>
                        <a:lnTo>
                          <a:pt x="289" y="565"/>
                        </a:lnTo>
                        <a:lnTo>
                          <a:pt x="345" y="514"/>
                        </a:lnTo>
                        <a:lnTo>
                          <a:pt x="396" y="460"/>
                        </a:lnTo>
                        <a:lnTo>
                          <a:pt x="439" y="399"/>
                        </a:lnTo>
                        <a:lnTo>
                          <a:pt x="479" y="334"/>
                        </a:lnTo>
                        <a:lnTo>
                          <a:pt x="511" y="267"/>
                        </a:lnTo>
                        <a:lnTo>
                          <a:pt x="537" y="195"/>
                        </a:lnTo>
                        <a:lnTo>
                          <a:pt x="558" y="124"/>
                        </a:lnTo>
                        <a:lnTo>
                          <a:pt x="569" y="47"/>
                        </a:lnTo>
                        <a:lnTo>
                          <a:pt x="569" y="20"/>
                        </a:lnTo>
                        <a:lnTo>
                          <a:pt x="569" y="16"/>
                        </a:lnTo>
                        <a:lnTo>
                          <a:pt x="567" y="9"/>
                        </a:lnTo>
                        <a:lnTo>
                          <a:pt x="567" y="5"/>
                        </a:lnTo>
                        <a:lnTo>
                          <a:pt x="564" y="0"/>
                        </a:lnTo>
                        <a:lnTo>
                          <a:pt x="562" y="45"/>
                        </a:lnTo>
                        <a:lnTo>
                          <a:pt x="551" y="121"/>
                        </a:lnTo>
                        <a:lnTo>
                          <a:pt x="531" y="193"/>
                        </a:lnTo>
                        <a:lnTo>
                          <a:pt x="506" y="265"/>
                        </a:lnTo>
                        <a:lnTo>
                          <a:pt x="472" y="332"/>
                        </a:lnTo>
                        <a:lnTo>
                          <a:pt x="434" y="395"/>
                        </a:lnTo>
                        <a:lnTo>
                          <a:pt x="390" y="455"/>
                        </a:lnTo>
                        <a:lnTo>
                          <a:pt x="340" y="509"/>
                        </a:lnTo>
                        <a:lnTo>
                          <a:pt x="286" y="561"/>
                        </a:lnTo>
                        <a:lnTo>
                          <a:pt x="226" y="603"/>
                        </a:lnTo>
                        <a:lnTo>
                          <a:pt x="163" y="644"/>
                        </a:lnTo>
                        <a:lnTo>
                          <a:pt x="96" y="675"/>
                        </a:lnTo>
                        <a:lnTo>
                          <a:pt x="24" y="702"/>
                        </a:lnTo>
                        <a:lnTo>
                          <a:pt x="0" y="709"/>
                        </a:lnTo>
                        <a:close/>
                      </a:path>
                    </a:pathLst>
                  </a:custGeom>
                  <a:solidFill>
                    <a:srgbClr val="e1c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484280" y="2168280"/>
                    <a:ext cx="922320" cy="11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1" h="722">
                        <a:moveTo>
                          <a:pt x="0" y="719"/>
                        </a:moveTo>
                        <a:lnTo>
                          <a:pt x="5" y="722"/>
                        </a:lnTo>
                        <a:lnTo>
                          <a:pt x="11" y="722"/>
                        </a:lnTo>
                        <a:lnTo>
                          <a:pt x="16" y="722"/>
                        </a:lnTo>
                        <a:lnTo>
                          <a:pt x="20" y="722"/>
                        </a:lnTo>
                        <a:lnTo>
                          <a:pt x="38" y="717"/>
                        </a:lnTo>
                        <a:lnTo>
                          <a:pt x="110" y="690"/>
                        </a:lnTo>
                        <a:lnTo>
                          <a:pt x="177" y="657"/>
                        </a:lnTo>
                        <a:lnTo>
                          <a:pt x="242" y="618"/>
                        </a:lnTo>
                        <a:lnTo>
                          <a:pt x="300" y="574"/>
                        </a:lnTo>
                        <a:lnTo>
                          <a:pt x="356" y="524"/>
                        </a:lnTo>
                        <a:lnTo>
                          <a:pt x="406" y="468"/>
                        </a:lnTo>
                        <a:lnTo>
                          <a:pt x="451" y="410"/>
                        </a:lnTo>
                        <a:lnTo>
                          <a:pt x="489" y="345"/>
                        </a:lnTo>
                        <a:lnTo>
                          <a:pt x="522" y="278"/>
                        </a:lnTo>
                        <a:lnTo>
                          <a:pt x="547" y="208"/>
                        </a:lnTo>
                        <a:lnTo>
                          <a:pt x="567" y="137"/>
                        </a:lnTo>
                        <a:lnTo>
                          <a:pt x="578" y="58"/>
                        </a:lnTo>
                        <a:lnTo>
                          <a:pt x="581" y="20"/>
                        </a:lnTo>
                        <a:lnTo>
                          <a:pt x="578" y="13"/>
                        </a:lnTo>
                        <a:lnTo>
                          <a:pt x="578" y="9"/>
                        </a:lnTo>
                        <a:lnTo>
                          <a:pt x="576" y="4"/>
                        </a:lnTo>
                        <a:lnTo>
                          <a:pt x="576" y="0"/>
                        </a:lnTo>
                        <a:lnTo>
                          <a:pt x="572" y="58"/>
                        </a:lnTo>
                        <a:lnTo>
                          <a:pt x="560" y="134"/>
                        </a:lnTo>
                        <a:lnTo>
                          <a:pt x="543" y="206"/>
                        </a:lnTo>
                        <a:lnTo>
                          <a:pt x="516" y="276"/>
                        </a:lnTo>
                        <a:lnTo>
                          <a:pt x="484" y="343"/>
                        </a:lnTo>
                        <a:lnTo>
                          <a:pt x="446" y="406"/>
                        </a:lnTo>
                        <a:lnTo>
                          <a:pt x="401" y="466"/>
                        </a:lnTo>
                        <a:lnTo>
                          <a:pt x="352" y="520"/>
                        </a:lnTo>
                        <a:lnTo>
                          <a:pt x="298" y="569"/>
                        </a:lnTo>
                        <a:lnTo>
                          <a:pt x="238" y="614"/>
                        </a:lnTo>
                        <a:lnTo>
                          <a:pt x="175" y="652"/>
                        </a:lnTo>
                        <a:lnTo>
                          <a:pt x="108" y="683"/>
                        </a:lnTo>
                        <a:lnTo>
                          <a:pt x="38" y="710"/>
                        </a:lnTo>
                        <a:lnTo>
                          <a:pt x="0" y="719"/>
                        </a:lnTo>
                        <a:close/>
                      </a:path>
                    </a:pathLst>
                  </a:custGeom>
                  <a:solidFill>
                    <a:srgbClr val="e1c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463400" y="2151000"/>
                    <a:ext cx="935280" cy="11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733">
                        <a:moveTo>
                          <a:pt x="0" y="730"/>
                        </a:moveTo>
                        <a:lnTo>
                          <a:pt x="4" y="730"/>
                        </a:lnTo>
                        <a:lnTo>
                          <a:pt x="9" y="730"/>
                        </a:lnTo>
                        <a:lnTo>
                          <a:pt x="15" y="733"/>
                        </a:lnTo>
                        <a:lnTo>
                          <a:pt x="20" y="733"/>
                        </a:lnTo>
                        <a:lnTo>
                          <a:pt x="51" y="724"/>
                        </a:lnTo>
                        <a:lnTo>
                          <a:pt x="121" y="697"/>
                        </a:lnTo>
                        <a:lnTo>
                          <a:pt x="188" y="665"/>
                        </a:lnTo>
                        <a:lnTo>
                          <a:pt x="253" y="627"/>
                        </a:lnTo>
                        <a:lnTo>
                          <a:pt x="311" y="582"/>
                        </a:lnTo>
                        <a:lnTo>
                          <a:pt x="365" y="533"/>
                        </a:lnTo>
                        <a:lnTo>
                          <a:pt x="417" y="477"/>
                        </a:lnTo>
                        <a:lnTo>
                          <a:pt x="459" y="419"/>
                        </a:lnTo>
                        <a:lnTo>
                          <a:pt x="499" y="356"/>
                        </a:lnTo>
                        <a:lnTo>
                          <a:pt x="531" y="289"/>
                        </a:lnTo>
                        <a:lnTo>
                          <a:pt x="558" y="217"/>
                        </a:lnTo>
                        <a:lnTo>
                          <a:pt x="576" y="145"/>
                        </a:lnTo>
                        <a:lnTo>
                          <a:pt x="587" y="69"/>
                        </a:lnTo>
                        <a:lnTo>
                          <a:pt x="589" y="18"/>
                        </a:lnTo>
                        <a:lnTo>
                          <a:pt x="589" y="13"/>
                        </a:lnTo>
                        <a:lnTo>
                          <a:pt x="587" y="9"/>
                        </a:lnTo>
                        <a:lnTo>
                          <a:pt x="587" y="4"/>
                        </a:lnTo>
                        <a:lnTo>
                          <a:pt x="585" y="0"/>
                        </a:lnTo>
                        <a:lnTo>
                          <a:pt x="580" y="69"/>
                        </a:lnTo>
                        <a:lnTo>
                          <a:pt x="569" y="145"/>
                        </a:lnTo>
                        <a:lnTo>
                          <a:pt x="551" y="215"/>
                        </a:lnTo>
                        <a:lnTo>
                          <a:pt x="524" y="287"/>
                        </a:lnTo>
                        <a:lnTo>
                          <a:pt x="493" y="352"/>
                        </a:lnTo>
                        <a:lnTo>
                          <a:pt x="455" y="414"/>
                        </a:lnTo>
                        <a:lnTo>
                          <a:pt x="410" y="473"/>
                        </a:lnTo>
                        <a:lnTo>
                          <a:pt x="361" y="529"/>
                        </a:lnTo>
                        <a:lnTo>
                          <a:pt x="307" y="578"/>
                        </a:lnTo>
                        <a:lnTo>
                          <a:pt x="248" y="620"/>
                        </a:lnTo>
                        <a:lnTo>
                          <a:pt x="186" y="659"/>
                        </a:lnTo>
                        <a:lnTo>
                          <a:pt x="118" y="692"/>
                        </a:lnTo>
                        <a:lnTo>
                          <a:pt x="49" y="717"/>
                        </a:lnTo>
                        <a:lnTo>
                          <a:pt x="0" y="730"/>
                        </a:lnTo>
                        <a:close/>
                      </a:path>
                    </a:pathLst>
                  </a:custGeom>
                  <a:solidFill>
                    <a:srgbClr val="e1c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441440" y="2128680"/>
                    <a:ext cx="954000" cy="11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744">
                        <a:moveTo>
                          <a:pt x="0" y="742"/>
                        </a:moveTo>
                        <a:lnTo>
                          <a:pt x="5" y="744"/>
                        </a:lnTo>
                        <a:lnTo>
                          <a:pt x="9" y="744"/>
                        </a:lnTo>
                        <a:lnTo>
                          <a:pt x="16" y="744"/>
                        </a:lnTo>
                        <a:lnTo>
                          <a:pt x="20" y="744"/>
                        </a:lnTo>
                        <a:lnTo>
                          <a:pt x="63" y="733"/>
                        </a:lnTo>
                        <a:lnTo>
                          <a:pt x="135" y="706"/>
                        </a:lnTo>
                        <a:lnTo>
                          <a:pt x="200" y="675"/>
                        </a:lnTo>
                        <a:lnTo>
                          <a:pt x="265" y="637"/>
                        </a:lnTo>
                        <a:lnTo>
                          <a:pt x="323" y="592"/>
                        </a:lnTo>
                        <a:lnTo>
                          <a:pt x="377" y="543"/>
                        </a:lnTo>
                        <a:lnTo>
                          <a:pt x="426" y="489"/>
                        </a:lnTo>
                        <a:lnTo>
                          <a:pt x="471" y="431"/>
                        </a:lnTo>
                        <a:lnTo>
                          <a:pt x="509" y="368"/>
                        </a:lnTo>
                        <a:lnTo>
                          <a:pt x="540" y="301"/>
                        </a:lnTo>
                        <a:lnTo>
                          <a:pt x="567" y="231"/>
                        </a:lnTo>
                        <a:lnTo>
                          <a:pt x="585" y="159"/>
                        </a:lnTo>
                        <a:lnTo>
                          <a:pt x="596" y="83"/>
                        </a:lnTo>
                        <a:lnTo>
                          <a:pt x="601" y="18"/>
                        </a:lnTo>
                        <a:lnTo>
                          <a:pt x="599" y="16"/>
                        </a:lnTo>
                        <a:lnTo>
                          <a:pt x="599" y="11"/>
                        </a:lnTo>
                        <a:lnTo>
                          <a:pt x="596" y="9"/>
                        </a:lnTo>
                        <a:lnTo>
                          <a:pt x="596" y="5"/>
                        </a:lnTo>
                        <a:lnTo>
                          <a:pt x="594" y="5"/>
                        </a:lnTo>
                        <a:lnTo>
                          <a:pt x="594" y="0"/>
                        </a:lnTo>
                        <a:lnTo>
                          <a:pt x="594" y="2"/>
                        </a:lnTo>
                        <a:lnTo>
                          <a:pt x="594" y="2"/>
                        </a:lnTo>
                        <a:lnTo>
                          <a:pt x="596" y="5"/>
                        </a:lnTo>
                        <a:lnTo>
                          <a:pt x="596" y="5"/>
                        </a:lnTo>
                        <a:lnTo>
                          <a:pt x="594" y="5"/>
                        </a:lnTo>
                        <a:lnTo>
                          <a:pt x="590" y="83"/>
                        </a:lnTo>
                        <a:lnTo>
                          <a:pt x="578" y="157"/>
                        </a:lnTo>
                        <a:lnTo>
                          <a:pt x="561" y="229"/>
                        </a:lnTo>
                        <a:lnTo>
                          <a:pt x="536" y="298"/>
                        </a:lnTo>
                        <a:lnTo>
                          <a:pt x="502" y="363"/>
                        </a:lnTo>
                        <a:lnTo>
                          <a:pt x="464" y="426"/>
                        </a:lnTo>
                        <a:lnTo>
                          <a:pt x="422" y="484"/>
                        </a:lnTo>
                        <a:lnTo>
                          <a:pt x="372" y="538"/>
                        </a:lnTo>
                        <a:lnTo>
                          <a:pt x="319" y="587"/>
                        </a:lnTo>
                        <a:lnTo>
                          <a:pt x="260" y="632"/>
                        </a:lnTo>
                        <a:lnTo>
                          <a:pt x="197" y="670"/>
                        </a:lnTo>
                        <a:lnTo>
                          <a:pt x="132" y="702"/>
                        </a:lnTo>
                        <a:lnTo>
                          <a:pt x="63" y="726"/>
                        </a:lnTo>
                        <a:lnTo>
                          <a:pt x="0" y="742"/>
                        </a:lnTo>
                        <a:close/>
                      </a:path>
                    </a:pathLst>
                  </a:custGeom>
                  <a:solidFill>
                    <a:srgbClr val="e1c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423800" y="2108160"/>
                    <a:ext cx="963720" cy="12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7" h="757">
                        <a:moveTo>
                          <a:pt x="0" y="755"/>
                        </a:moveTo>
                        <a:lnTo>
                          <a:pt x="5" y="755"/>
                        </a:lnTo>
                        <a:lnTo>
                          <a:pt x="9" y="755"/>
                        </a:lnTo>
                        <a:lnTo>
                          <a:pt x="13" y="757"/>
                        </a:lnTo>
                        <a:lnTo>
                          <a:pt x="18" y="757"/>
                        </a:lnTo>
                        <a:lnTo>
                          <a:pt x="74" y="742"/>
                        </a:lnTo>
                        <a:lnTo>
                          <a:pt x="143" y="717"/>
                        </a:lnTo>
                        <a:lnTo>
                          <a:pt x="211" y="683"/>
                        </a:lnTo>
                        <a:lnTo>
                          <a:pt x="273" y="645"/>
                        </a:lnTo>
                        <a:lnTo>
                          <a:pt x="332" y="603"/>
                        </a:lnTo>
                        <a:lnTo>
                          <a:pt x="386" y="553"/>
                        </a:lnTo>
                        <a:lnTo>
                          <a:pt x="435" y="500"/>
                        </a:lnTo>
                        <a:lnTo>
                          <a:pt x="477" y="441"/>
                        </a:lnTo>
                        <a:lnTo>
                          <a:pt x="516" y="379"/>
                        </a:lnTo>
                        <a:lnTo>
                          <a:pt x="549" y="311"/>
                        </a:lnTo>
                        <a:lnTo>
                          <a:pt x="574" y="242"/>
                        </a:lnTo>
                        <a:lnTo>
                          <a:pt x="592" y="172"/>
                        </a:lnTo>
                        <a:lnTo>
                          <a:pt x="603" y="96"/>
                        </a:lnTo>
                        <a:lnTo>
                          <a:pt x="607" y="20"/>
                        </a:lnTo>
                        <a:lnTo>
                          <a:pt x="607" y="20"/>
                        </a:lnTo>
                        <a:lnTo>
                          <a:pt x="607" y="20"/>
                        </a:lnTo>
                        <a:lnTo>
                          <a:pt x="607" y="18"/>
                        </a:lnTo>
                        <a:lnTo>
                          <a:pt x="607" y="18"/>
                        </a:lnTo>
                        <a:lnTo>
                          <a:pt x="601" y="18"/>
                        </a:lnTo>
                        <a:lnTo>
                          <a:pt x="601" y="0"/>
                        </a:lnTo>
                        <a:lnTo>
                          <a:pt x="603" y="4"/>
                        </a:lnTo>
                        <a:lnTo>
                          <a:pt x="603" y="9"/>
                        </a:lnTo>
                        <a:lnTo>
                          <a:pt x="605" y="13"/>
                        </a:lnTo>
                        <a:lnTo>
                          <a:pt x="607" y="18"/>
                        </a:lnTo>
                        <a:lnTo>
                          <a:pt x="601" y="18"/>
                        </a:lnTo>
                        <a:lnTo>
                          <a:pt x="598" y="96"/>
                        </a:lnTo>
                        <a:lnTo>
                          <a:pt x="585" y="170"/>
                        </a:lnTo>
                        <a:lnTo>
                          <a:pt x="567" y="240"/>
                        </a:lnTo>
                        <a:lnTo>
                          <a:pt x="542" y="309"/>
                        </a:lnTo>
                        <a:lnTo>
                          <a:pt x="511" y="374"/>
                        </a:lnTo>
                        <a:lnTo>
                          <a:pt x="473" y="437"/>
                        </a:lnTo>
                        <a:lnTo>
                          <a:pt x="430" y="495"/>
                        </a:lnTo>
                        <a:lnTo>
                          <a:pt x="381" y="549"/>
                        </a:lnTo>
                        <a:lnTo>
                          <a:pt x="327" y="598"/>
                        </a:lnTo>
                        <a:lnTo>
                          <a:pt x="269" y="641"/>
                        </a:lnTo>
                        <a:lnTo>
                          <a:pt x="206" y="679"/>
                        </a:lnTo>
                        <a:lnTo>
                          <a:pt x="141" y="710"/>
                        </a:lnTo>
                        <a:lnTo>
                          <a:pt x="74" y="735"/>
                        </a:lnTo>
                        <a:lnTo>
                          <a:pt x="2" y="755"/>
                        </a:lnTo>
                        <a:lnTo>
                          <a:pt x="0" y="755"/>
                        </a:lnTo>
                        <a:close/>
                      </a:path>
                    </a:pathLst>
                  </a:custGeom>
                  <a:solidFill>
                    <a:srgbClr val="e1c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403280" y="2090520"/>
                    <a:ext cx="977760" cy="12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766">
                        <a:moveTo>
                          <a:pt x="0" y="764"/>
                        </a:moveTo>
                        <a:lnTo>
                          <a:pt x="4" y="764"/>
                        </a:lnTo>
                        <a:lnTo>
                          <a:pt x="9" y="766"/>
                        </a:lnTo>
                        <a:lnTo>
                          <a:pt x="15" y="766"/>
                        </a:lnTo>
                        <a:lnTo>
                          <a:pt x="20" y="766"/>
                        </a:lnTo>
                        <a:lnTo>
                          <a:pt x="87" y="748"/>
                        </a:lnTo>
                        <a:lnTo>
                          <a:pt x="154" y="723"/>
                        </a:lnTo>
                        <a:lnTo>
                          <a:pt x="221" y="692"/>
                        </a:lnTo>
                        <a:lnTo>
                          <a:pt x="284" y="654"/>
                        </a:lnTo>
                        <a:lnTo>
                          <a:pt x="340" y="609"/>
                        </a:lnTo>
                        <a:lnTo>
                          <a:pt x="394" y="562"/>
                        </a:lnTo>
                        <a:lnTo>
                          <a:pt x="443" y="508"/>
                        </a:lnTo>
                        <a:lnTo>
                          <a:pt x="488" y="450"/>
                        </a:lnTo>
                        <a:lnTo>
                          <a:pt x="526" y="387"/>
                        </a:lnTo>
                        <a:lnTo>
                          <a:pt x="558" y="320"/>
                        </a:lnTo>
                        <a:lnTo>
                          <a:pt x="582" y="251"/>
                        </a:lnTo>
                        <a:lnTo>
                          <a:pt x="600" y="181"/>
                        </a:lnTo>
                        <a:lnTo>
                          <a:pt x="614" y="107"/>
                        </a:lnTo>
                        <a:lnTo>
                          <a:pt x="616" y="29"/>
                        </a:lnTo>
                        <a:lnTo>
                          <a:pt x="609" y="29"/>
                        </a:lnTo>
                        <a:lnTo>
                          <a:pt x="609" y="0"/>
                        </a:lnTo>
                        <a:lnTo>
                          <a:pt x="611" y="4"/>
                        </a:lnTo>
                        <a:lnTo>
                          <a:pt x="611" y="9"/>
                        </a:lnTo>
                        <a:lnTo>
                          <a:pt x="614" y="13"/>
                        </a:lnTo>
                        <a:lnTo>
                          <a:pt x="616" y="17"/>
                        </a:lnTo>
                        <a:lnTo>
                          <a:pt x="616" y="29"/>
                        </a:lnTo>
                        <a:lnTo>
                          <a:pt x="609" y="29"/>
                        </a:lnTo>
                        <a:lnTo>
                          <a:pt x="607" y="105"/>
                        </a:lnTo>
                        <a:lnTo>
                          <a:pt x="596" y="181"/>
                        </a:lnTo>
                        <a:lnTo>
                          <a:pt x="576" y="251"/>
                        </a:lnTo>
                        <a:lnTo>
                          <a:pt x="551" y="318"/>
                        </a:lnTo>
                        <a:lnTo>
                          <a:pt x="520" y="385"/>
                        </a:lnTo>
                        <a:lnTo>
                          <a:pt x="481" y="446"/>
                        </a:lnTo>
                        <a:lnTo>
                          <a:pt x="439" y="504"/>
                        </a:lnTo>
                        <a:lnTo>
                          <a:pt x="390" y="558"/>
                        </a:lnTo>
                        <a:lnTo>
                          <a:pt x="338" y="605"/>
                        </a:lnTo>
                        <a:lnTo>
                          <a:pt x="280" y="650"/>
                        </a:lnTo>
                        <a:lnTo>
                          <a:pt x="217" y="685"/>
                        </a:lnTo>
                        <a:lnTo>
                          <a:pt x="152" y="717"/>
                        </a:lnTo>
                        <a:lnTo>
                          <a:pt x="85" y="744"/>
                        </a:lnTo>
                        <a:lnTo>
                          <a:pt x="13" y="762"/>
                        </a:lnTo>
                        <a:lnTo>
                          <a:pt x="0" y="764"/>
                        </a:lnTo>
                        <a:close/>
                      </a:path>
                    </a:pathLst>
                  </a:custGeom>
                  <a:solidFill>
                    <a:srgbClr val="e1c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380960" y="2071440"/>
                    <a:ext cx="992160" cy="12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25" h="776">
                        <a:moveTo>
                          <a:pt x="0" y="774"/>
                        </a:moveTo>
                        <a:lnTo>
                          <a:pt x="5" y="774"/>
                        </a:lnTo>
                        <a:lnTo>
                          <a:pt x="9" y="776"/>
                        </a:lnTo>
                        <a:lnTo>
                          <a:pt x="16" y="776"/>
                        </a:lnTo>
                        <a:lnTo>
                          <a:pt x="20" y="776"/>
                        </a:lnTo>
                        <a:lnTo>
                          <a:pt x="27" y="776"/>
                        </a:lnTo>
                        <a:lnTo>
                          <a:pt x="101" y="758"/>
                        </a:lnTo>
                        <a:lnTo>
                          <a:pt x="166" y="731"/>
                        </a:lnTo>
                        <a:lnTo>
                          <a:pt x="233" y="700"/>
                        </a:lnTo>
                        <a:lnTo>
                          <a:pt x="294" y="662"/>
                        </a:lnTo>
                        <a:lnTo>
                          <a:pt x="352" y="619"/>
                        </a:lnTo>
                        <a:lnTo>
                          <a:pt x="406" y="570"/>
                        </a:lnTo>
                        <a:lnTo>
                          <a:pt x="455" y="518"/>
                        </a:lnTo>
                        <a:lnTo>
                          <a:pt x="498" y="460"/>
                        </a:lnTo>
                        <a:lnTo>
                          <a:pt x="536" y="397"/>
                        </a:lnTo>
                        <a:lnTo>
                          <a:pt x="567" y="332"/>
                        </a:lnTo>
                        <a:lnTo>
                          <a:pt x="592" y="263"/>
                        </a:lnTo>
                        <a:lnTo>
                          <a:pt x="612" y="193"/>
                        </a:lnTo>
                        <a:lnTo>
                          <a:pt x="623" y="117"/>
                        </a:lnTo>
                        <a:lnTo>
                          <a:pt x="625" y="41"/>
                        </a:lnTo>
                        <a:lnTo>
                          <a:pt x="621" y="41"/>
                        </a:lnTo>
                        <a:lnTo>
                          <a:pt x="619" y="0"/>
                        </a:lnTo>
                        <a:lnTo>
                          <a:pt x="619" y="5"/>
                        </a:lnTo>
                        <a:lnTo>
                          <a:pt x="621" y="7"/>
                        </a:lnTo>
                        <a:lnTo>
                          <a:pt x="623" y="14"/>
                        </a:lnTo>
                        <a:lnTo>
                          <a:pt x="625" y="18"/>
                        </a:lnTo>
                        <a:lnTo>
                          <a:pt x="625" y="41"/>
                        </a:lnTo>
                        <a:lnTo>
                          <a:pt x="621" y="41"/>
                        </a:lnTo>
                        <a:lnTo>
                          <a:pt x="616" y="117"/>
                        </a:lnTo>
                        <a:lnTo>
                          <a:pt x="605" y="191"/>
                        </a:lnTo>
                        <a:lnTo>
                          <a:pt x="587" y="260"/>
                        </a:lnTo>
                        <a:lnTo>
                          <a:pt x="560" y="330"/>
                        </a:lnTo>
                        <a:lnTo>
                          <a:pt x="529" y="395"/>
                        </a:lnTo>
                        <a:lnTo>
                          <a:pt x="493" y="455"/>
                        </a:lnTo>
                        <a:lnTo>
                          <a:pt x="451" y="514"/>
                        </a:lnTo>
                        <a:lnTo>
                          <a:pt x="401" y="565"/>
                        </a:lnTo>
                        <a:lnTo>
                          <a:pt x="348" y="614"/>
                        </a:lnTo>
                        <a:lnTo>
                          <a:pt x="292" y="657"/>
                        </a:lnTo>
                        <a:lnTo>
                          <a:pt x="229" y="695"/>
                        </a:lnTo>
                        <a:lnTo>
                          <a:pt x="164" y="727"/>
                        </a:lnTo>
                        <a:lnTo>
                          <a:pt x="99" y="751"/>
                        </a:lnTo>
                        <a:lnTo>
                          <a:pt x="27" y="769"/>
                        </a:lnTo>
                        <a:lnTo>
                          <a:pt x="0" y="774"/>
                        </a:lnTo>
                        <a:close/>
                      </a:path>
                    </a:pathLst>
                  </a:custGeom>
                  <a:solidFill>
                    <a:srgbClr val="e1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360440" y="2054160"/>
                    <a:ext cx="1006200" cy="12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34" h="785">
                        <a:moveTo>
                          <a:pt x="0" y="782"/>
                        </a:moveTo>
                        <a:lnTo>
                          <a:pt x="6" y="782"/>
                        </a:lnTo>
                        <a:lnTo>
                          <a:pt x="11" y="785"/>
                        </a:lnTo>
                        <a:lnTo>
                          <a:pt x="15" y="785"/>
                        </a:lnTo>
                        <a:lnTo>
                          <a:pt x="20" y="785"/>
                        </a:lnTo>
                        <a:lnTo>
                          <a:pt x="40" y="782"/>
                        </a:lnTo>
                        <a:lnTo>
                          <a:pt x="112" y="764"/>
                        </a:lnTo>
                        <a:lnTo>
                          <a:pt x="179" y="738"/>
                        </a:lnTo>
                        <a:lnTo>
                          <a:pt x="244" y="706"/>
                        </a:lnTo>
                        <a:lnTo>
                          <a:pt x="305" y="670"/>
                        </a:lnTo>
                        <a:lnTo>
                          <a:pt x="363" y="628"/>
                        </a:lnTo>
                        <a:lnTo>
                          <a:pt x="417" y="578"/>
                        </a:lnTo>
                        <a:lnTo>
                          <a:pt x="464" y="525"/>
                        </a:lnTo>
                        <a:lnTo>
                          <a:pt x="508" y="469"/>
                        </a:lnTo>
                        <a:lnTo>
                          <a:pt x="544" y="406"/>
                        </a:lnTo>
                        <a:lnTo>
                          <a:pt x="576" y="341"/>
                        </a:lnTo>
                        <a:lnTo>
                          <a:pt x="600" y="271"/>
                        </a:lnTo>
                        <a:lnTo>
                          <a:pt x="621" y="202"/>
                        </a:lnTo>
                        <a:lnTo>
                          <a:pt x="632" y="128"/>
                        </a:lnTo>
                        <a:lnTo>
                          <a:pt x="634" y="52"/>
                        </a:lnTo>
                        <a:lnTo>
                          <a:pt x="629" y="52"/>
                        </a:lnTo>
                        <a:lnTo>
                          <a:pt x="625" y="0"/>
                        </a:lnTo>
                        <a:lnTo>
                          <a:pt x="627" y="5"/>
                        </a:lnTo>
                        <a:lnTo>
                          <a:pt x="629" y="7"/>
                        </a:lnTo>
                        <a:lnTo>
                          <a:pt x="632" y="11"/>
                        </a:lnTo>
                        <a:lnTo>
                          <a:pt x="634" y="16"/>
                        </a:lnTo>
                        <a:lnTo>
                          <a:pt x="634" y="52"/>
                        </a:lnTo>
                        <a:lnTo>
                          <a:pt x="629" y="52"/>
                        </a:lnTo>
                        <a:lnTo>
                          <a:pt x="625" y="128"/>
                        </a:lnTo>
                        <a:lnTo>
                          <a:pt x="614" y="202"/>
                        </a:lnTo>
                        <a:lnTo>
                          <a:pt x="596" y="269"/>
                        </a:lnTo>
                        <a:lnTo>
                          <a:pt x="571" y="339"/>
                        </a:lnTo>
                        <a:lnTo>
                          <a:pt x="540" y="404"/>
                        </a:lnTo>
                        <a:lnTo>
                          <a:pt x="502" y="464"/>
                        </a:lnTo>
                        <a:lnTo>
                          <a:pt x="459" y="520"/>
                        </a:lnTo>
                        <a:lnTo>
                          <a:pt x="412" y="574"/>
                        </a:lnTo>
                        <a:lnTo>
                          <a:pt x="358" y="621"/>
                        </a:lnTo>
                        <a:lnTo>
                          <a:pt x="302" y="664"/>
                        </a:lnTo>
                        <a:lnTo>
                          <a:pt x="240" y="702"/>
                        </a:lnTo>
                        <a:lnTo>
                          <a:pt x="177" y="733"/>
                        </a:lnTo>
                        <a:lnTo>
                          <a:pt x="110" y="758"/>
                        </a:lnTo>
                        <a:lnTo>
                          <a:pt x="40" y="776"/>
                        </a:lnTo>
                        <a:lnTo>
                          <a:pt x="0" y="782"/>
                        </a:lnTo>
                        <a:close/>
                      </a:path>
                    </a:pathLst>
                  </a:custGeom>
                  <a:solidFill>
                    <a:srgbClr val="e1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341360" y="2036520"/>
                    <a:ext cx="1022400" cy="125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793">
                        <a:moveTo>
                          <a:pt x="0" y="791"/>
                        </a:moveTo>
                        <a:lnTo>
                          <a:pt x="5" y="791"/>
                        </a:lnTo>
                        <a:lnTo>
                          <a:pt x="9" y="793"/>
                        </a:lnTo>
                        <a:lnTo>
                          <a:pt x="14" y="793"/>
                        </a:lnTo>
                        <a:lnTo>
                          <a:pt x="18" y="793"/>
                        </a:lnTo>
                        <a:lnTo>
                          <a:pt x="52" y="789"/>
                        </a:lnTo>
                        <a:lnTo>
                          <a:pt x="124" y="771"/>
                        </a:lnTo>
                        <a:lnTo>
                          <a:pt x="189" y="746"/>
                        </a:lnTo>
                        <a:lnTo>
                          <a:pt x="254" y="715"/>
                        </a:lnTo>
                        <a:lnTo>
                          <a:pt x="314" y="677"/>
                        </a:lnTo>
                        <a:lnTo>
                          <a:pt x="373" y="634"/>
                        </a:lnTo>
                        <a:lnTo>
                          <a:pt x="424" y="587"/>
                        </a:lnTo>
                        <a:lnTo>
                          <a:pt x="473" y="533"/>
                        </a:lnTo>
                        <a:lnTo>
                          <a:pt x="516" y="477"/>
                        </a:lnTo>
                        <a:lnTo>
                          <a:pt x="554" y="415"/>
                        </a:lnTo>
                        <a:lnTo>
                          <a:pt x="585" y="350"/>
                        </a:lnTo>
                        <a:lnTo>
                          <a:pt x="610" y="282"/>
                        </a:lnTo>
                        <a:lnTo>
                          <a:pt x="628" y="213"/>
                        </a:lnTo>
                        <a:lnTo>
                          <a:pt x="639" y="139"/>
                        </a:lnTo>
                        <a:lnTo>
                          <a:pt x="644" y="63"/>
                        </a:lnTo>
                        <a:lnTo>
                          <a:pt x="637" y="63"/>
                        </a:lnTo>
                        <a:lnTo>
                          <a:pt x="633" y="0"/>
                        </a:lnTo>
                        <a:lnTo>
                          <a:pt x="635" y="4"/>
                        </a:lnTo>
                        <a:lnTo>
                          <a:pt x="637" y="9"/>
                        </a:lnTo>
                        <a:lnTo>
                          <a:pt x="639" y="11"/>
                        </a:lnTo>
                        <a:lnTo>
                          <a:pt x="641" y="16"/>
                        </a:lnTo>
                        <a:lnTo>
                          <a:pt x="644" y="63"/>
                        </a:lnTo>
                        <a:lnTo>
                          <a:pt x="637" y="63"/>
                        </a:lnTo>
                        <a:lnTo>
                          <a:pt x="633" y="139"/>
                        </a:lnTo>
                        <a:lnTo>
                          <a:pt x="621" y="211"/>
                        </a:lnTo>
                        <a:lnTo>
                          <a:pt x="603" y="280"/>
                        </a:lnTo>
                        <a:lnTo>
                          <a:pt x="579" y="347"/>
                        </a:lnTo>
                        <a:lnTo>
                          <a:pt x="547" y="412"/>
                        </a:lnTo>
                        <a:lnTo>
                          <a:pt x="511" y="473"/>
                        </a:lnTo>
                        <a:lnTo>
                          <a:pt x="469" y="529"/>
                        </a:lnTo>
                        <a:lnTo>
                          <a:pt x="420" y="583"/>
                        </a:lnTo>
                        <a:lnTo>
                          <a:pt x="368" y="630"/>
                        </a:lnTo>
                        <a:lnTo>
                          <a:pt x="312" y="672"/>
                        </a:lnTo>
                        <a:lnTo>
                          <a:pt x="252" y="708"/>
                        </a:lnTo>
                        <a:lnTo>
                          <a:pt x="187" y="740"/>
                        </a:lnTo>
                        <a:lnTo>
                          <a:pt x="122" y="764"/>
                        </a:lnTo>
                        <a:lnTo>
                          <a:pt x="50" y="782"/>
                        </a:lnTo>
                        <a:lnTo>
                          <a:pt x="0" y="791"/>
                        </a:lnTo>
                        <a:close/>
                      </a:path>
                    </a:pathLst>
                  </a:custGeom>
                  <a:solidFill>
                    <a:srgbClr val="e1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328400" y="2022120"/>
                    <a:ext cx="1027440" cy="12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800">
                        <a:moveTo>
                          <a:pt x="0" y="798"/>
                        </a:moveTo>
                        <a:lnTo>
                          <a:pt x="2" y="798"/>
                        </a:lnTo>
                        <a:lnTo>
                          <a:pt x="6" y="798"/>
                        </a:lnTo>
                        <a:lnTo>
                          <a:pt x="11" y="800"/>
                        </a:lnTo>
                        <a:lnTo>
                          <a:pt x="15" y="800"/>
                        </a:lnTo>
                        <a:lnTo>
                          <a:pt x="58" y="793"/>
                        </a:lnTo>
                        <a:lnTo>
                          <a:pt x="130" y="775"/>
                        </a:lnTo>
                        <a:lnTo>
                          <a:pt x="195" y="751"/>
                        </a:lnTo>
                        <a:lnTo>
                          <a:pt x="260" y="719"/>
                        </a:lnTo>
                        <a:lnTo>
                          <a:pt x="320" y="684"/>
                        </a:lnTo>
                        <a:lnTo>
                          <a:pt x="378" y="641"/>
                        </a:lnTo>
                        <a:lnTo>
                          <a:pt x="430" y="592"/>
                        </a:lnTo>
                        <a:lnTo>
                          <a:pt x="477" y="540"/>
                        </a:lnTo>
                        <a:lnTo>
                          <a:pt x="519" y="484"/>
                        </a:lnTo>
                        <a:lnTo>
                          <a:pt x="558" y="421"/>
                        </a:lnTo>
                        <a:lnTo>
                          <a:pt x="589" y="356"/>
                        </a:lnTo>
                        <a:lnTo>
                          <a:pt x="614" y="289"/>
                        </a:lnTo>
                        <a:lnTo>
                          <a:pt x="632" y="222"/>
                        </a:lnTo>
                        <a:lnTo>
                          <a:pt x="643" y="148"/>
                        </a:lnTo>
                        <a:lnTo>
                          <a:pt x="647" y="72"/>
                        </a:lnTo>
                        <a:lnTo>
                          <a:pt x="641" y="72"/>
                        </a:lnTo>
                        <a:lnTo>
                          <a:pt x="636" y="0"/>
                        </a:lnTo>
                        <a:lnTo>
                          <a:pt x="638" y="4"/>
                        </a:lnTo>
                        <a:lnTo>
                          <a:pt x="641" y="7"/>
                        </a:lnTo>
                        <a:lnTo>
                          <a:pt x="643" y="11"/>
                        </a:lnTo>
                        <a:lnTo>
                          <a:pt x="643" y="13"/>
                        </a:lnTo>
                        <a:lnTo>
                          <a:pt x="647" y="72"/>
                        </a:lnTo>
                        <a:lnTo>
                          <a:pt x="641" y="72"/>
                        </a:lnTo>
                        <a:lnTo>
                          <a:pt x="636" y="148"/>
                        </a:lnTo>
                        <a:lnTo>
                          <a:pt x="625" y="220"/>
                        </a:lnTo>
                        <a:lnTo>
                          <a:pt x="607" y="287"/>
                        </a:lnTo>
                        <a:lnTo>
                          <a:pt x="582" y="354"/>
                        </a:lnTo>
                        <a:lnTo>
                          <a:pt x="551" y="419"/>
                        </a:lnTo>
                        <a:lnTo>
                          <a:pt x="515" y="480"/>
                        </a:lnTo>
                        <a:lnTo>
                          <a:pt x="472" y="536"/>
                        </a:lnTo>
                        <a:lnTo>
                          <a:pt x="425" y="587"/>
                        </a:lnTo>
                        <a:lnTo>
                          <a:pt x="374" y="634"/>
                        </a:lnTo>
                        <a:lnTo>
                          <a:pt x="318" y="677"/>
                        </a:lnTo>
                        <a:lnTo>
                          <a:pt x="257" y="715"/>
                        </a:lnTo>
                        <a:lnTo>
                          <a:pt x="192" y="744"/>
                        </a:lnTo>
                        <a:lnTo>
                          <a:pt x="127" y="769"/>
                        </a:lnTo>
                        <a:lnTo>
                          <a:pt x="58" y="789"/>
                        </a:lnTo>
                        <a:lnTo>
                          <a:pt x="0" y="798"/>
                        </a:lnTo>
                        <a:close/>
                      </a:path>
                    </a:pathLst>
                  </a:custGeom>
                  <a:solidFill>
                    <a:srgbClr val="e1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309680" y="2004840"/>
                    <a:ext cx="1039680" cy="12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5" h="809">
                        <a:moveTo>
                          <a:pt x="0" y="804"/>
                        </a:moveTo>
                        <a:lnTo>
                          <a:pt x="5" y="807"/>
                        </a:lnTo>
                        <a:lnTo>
                          <a:pt x="7" y="807"/>
                        </a:lnTo>
                        <a:lnTo>
                          <a:pt x="12" y="809"/>
                        </a:lnTo>
                        <a:lnTo>
                          <a:pt x="16" y="809"/>
                        </a:lnTo>
                        <a:lnTo>
                          <a:pt x="70" y="800"/>
                        </a:lnTo>
                        <a:lnTo>
                          <a:pt x="139" y="782"/>
                        </a:lnTo>
                        <a:lnTo>
                          <a:pt x="207" y="757"/>
                        </a:lnTo>
                        <a:lnTo>
                          <a:pt x="269" y="726"/>
                        </a:lnTo>
                        <a:lnTo>
                          <a:pt x="330" y="690"/>
                        </a:lnTo>
                        <a:lnTo>
                          <a:pt x="386" y="647"/>
                        </a:lnTo>
                        <a:lnTo>
                          <a:pt x="440" y="600"/>
                        </a:lnTo>
                        <a:lnTo>
                          <a:pt x="487" y="549"/>
                        </a:lnTo>
                        <a:lnTo>
                          <a:pt x="529" y="491"/>
                        </a:lnTo>
                        <a:lnTo>
                          <a:pt x="565" y="430"/>
                        </a:lnTo>
                        <a:lnTo>
                          <a:pt x="596" y="367"/>
                        </a:lnTo>
                        <a:lnTo>
                          <a:pt x="621" y="300"/>
                        </a:lnTo>
                        <a:lnTo>
                          <a:pt x="639" y="231"/>
                        </a:lnTo>
                        <a:lnTo>
                          <a:pt x="650" y="159"/>
                        </a:lnTo>
                        <a:lnTo>
                          <a:pt x="655" y="83"/>
                        </a:lnTo>
                        <a:lnTo>
                          <a:pt x="648" y="83"/>
                        </a:lnTo>
                        <a:lnTo>
                          <a:pt x="644" y="9"/>
                        </a:lnTo>
                        <a:lnTo>
                          <a:pt x="644" y="0"/>
                        </a:lnTo>
                        <a:lnTo>
                          <a:pt x="646" y="4"/>
                        </a:lnTo>
                        <a:lnTo>
                          <a:pt x="646" y="9"/>
                        </a:lnTo>
                        <a:lnTo>
                          <a:pt x="648" y="11"/>
                        </a:lnTo>
                        <a:lnTo>
                          <a:pt x="650" y="15"/>
                        </a:lnTo>
                        <a:lnTo>
                          <a:pt x="655" y="83"/>
                        </a:lnTo>
                        <a:lnTo>
                          <a:pt x="648" y="83"/>
                        </a:lnTo>
                        <a:lnTo>
                          <a:pt x="644" y="157"/>
                        </a:lnTo>
                        <a:lnTo>
                          <a:pt x="632" y="231"/>
                        </a:lnTo>
                        <a:lnTo>
                          <a:pt x="614" y="298"/>
                        </a:lnTo>
                        <a:lnTo>
                          <a:pt x="590" y="365"/>
                        </a:lnTo>
                        <a:lnTo>
                          <a:pt x="561" y="428"/>
                        </a:lnTo>
                        <a:lnTo>
                          <a:pt x="523" y="488"/>
                        </a:lnTo>
                        <a:lnTo>
                          <a:pt x="482" y="544"/>
                        </a:lnTo>
                        <a:lnTo>
                          <a:pt x="435" y="596"/>
                        </a:lnTo>
                        <a:lnTo>
                          <a:pt x="384" y="643"/>
                        </a:lnTo>
                        <a:lnTo>
                          <a:pt x="328" y="686"/>
                        </a:lnTo>
                        <a:lnTo>
                          <a:pt x="267" y="721"/>
                        </a:lnTo>
                        <a:lnTo>
                          <a:pt x="202" y="753"/>
                        </a:lnTo>
                        <a:lnTo>
                          <a:pt x="139" y="777"/>
                        </a:lnTo>
                        <a:lnTo>
                          <a:pt x="68" y="795"/>
                        </a:lnTo>
                        <a:lnTo>
                          <a:pt x="0" y="804"/>
                        </a:lnTo>
                        <a:close/>
                      </a:path>
                    </a:pathLst>
                  </a:custGeom>
                  <a:solidFill>
                    <a:srgbClr val="e1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292040" y="1987200"/>
                    <a:ext cx="1049400" cy="129888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818">
                        <a:moveTo>
                          <a:pt x="0" y="813"/>
                        </a:moveTo>
                        <a:lnTo>
                          <a:pt x="2" y="813"/>
                        </a:lnTo>
                        <a:lnTo>
                          <a:pt x="7" y="815"/>
                        </a:lnTo>
                        <a:lnTo>
                          <a:pt x="11" y="815"/>
                        </a:lnTo>
                        <a:lnTo>
                          <a:pt x="16" y="818"/>
                        </a:lnTo>
                        <a:lnTo>
                          <a:pt x="81" y="809"/>
                        </a:lnTo>
                        <a:lnTo>
                          <a:pt x="150" y="788"/>
                        </a:lnTo>
                        <a:lnTo>
                          <a:pt x="215" y="764"/>
                        </a:lnTo>
                        <a:lnTo>
                          <a:pt x="278" y="735"/>
                        </a:lnTo>
                        <a:lnTo>
                          <a:pt x="339" y="697"/>
                        </a:lnTo>
                        <a:lnTo>
                          <a:pt x="395" y="656"/>
                        </a:lnTo>
                        <a:lnTo>
                          <a:pt x="446" y="609"/>
                        </a:lnTo>
                        <a:lnTo>
                          <a:pt x="493" y="555"/>
                        </a:lnTo>
                        <a:lnTo>
                          <a:pt x="536" y="499"/>
                        </a:lnTo>
                        <a:lnTo>
                          <a:pt x="574" y="439"/>
                        </a:lnTo>
                        <a:lnTo>
                          <a:pt x="603" y="376"/>
                        </a:lnTo>
                        <a:lnTo>
                          <a:pt x="628" y="309"/>
                        </a:lnTo>
                        <a:lnTo>
                          <a:pt x="646" y="242"/>
                        </a:lnTo>
                        <a:lnTo>
                          <a:pt x="657" y="168"/>
                        </a:lnTo>
                        <a:lnTo>
                          <a:pt x="661" y="94"/>
                        </a:lnTo>
                        <a:lnTo>
                          <a:pt x="655" y="94"/>
                        </a:lnTo>
                        <a:lnTo>
                          <a:pt x="650" y="20"/>
                        </a:lnTo>
                        <a:lnTo>
                          <a:pt x="648" y="0"/>
                        </a:lnTo>
                        <a:lnTo>
                          <a:pt x="650" y="4"/>
                        </a:lnTo>
                        <a:lnTo>
                          <a:pt x="652" y="9"/>
                        </a:lnTo>
                        <a:lnTo>
                          <a:pt x="655" y="13"/>
                        </a:lnTo>
                        <a:lnTo>
                          <a:pt x="657" y="17"/>
                        </a:lnTo>
                        <a:lnTo>
                          <a:pt x="657" y="20"/>
                        </a:lnTo>
                        <a:lnTo>
                          <a:pt x="661" y="94"/>
                        </a:lnTo>
                        <a:lnTo>
                          <a:pt x="655" y="94"/>
                        </a:lnTo>
                        <a:lnTo>
                          <a:pt x="650" y="168"/>
                        </a:lnTo>
                        <a:lnTo>
                          <a:pt x="641" y="239"/>
                        </a:lnTo>
                        <a:lnTo>
                          <a:pt x="623" y="307"/>
                        </a:lnTo>
                        <a:lnTo>
                          <a:pt x="599" y="374"/>
                        </a:lnTo>
                        <a:lnTo>
                          <a:pt x="567" y="437"/>
                        </a:lnTo>
                        <a:lnTo>
                          <a:pt x="531" y="497"/>
                        </a:lnTo>
                        <a:lnTo>
                          <a:pt x="489" y="553"/>
                        </a:lnTo>
                        <a:lnTo>
                          <a:pt x="442" y="605"/>
                        </a:lnTo>
                        <a:lnTo>
                          <a:pt x="390" y="652"/>
                        </a:lnTo>
                        <a:lnTo>
                          <a:pt x="336" y="692"/>
                        </a:lnTo>
                        <a:lnTo>
                          <a:pt x="276" y="728"/>
                        </a:lnTo>
                        <a:lnTo>
                          <a:pt x="213" y="759"/>
                        </a:lnTo>
                        <a:lnTo>
                          <a:pt x="148" y="784"/>
                        </a:lnTo>
                        <a:lnTo>
                          <a:pt x="79" y="802"/>
                        </a:lnTo>
                        <a:lnTo>
                          <a:pt x="7" y="813"/>
                        </a:lnTo>
                        <a:lnTo>
                          <a:pt x="0" y="813"/>
                        </a:lnTo>
                        <a:close/>
                      </a:path>
                    </a:pathLst>
                  </a:custGeom>
                  <a:solidFill>
                    <a:srgbClr val="e1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1271520" y="1973160"/>
                    <a:ext cx="1063440" cy="13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0" h="824">
                        <a:moveTo>
                          <a:pt x="0" y="818"/>
                        </a:moveTo>
                        <a:lnTo>
                          <a:pt x="4" y="820"/>
                        </a:lnTo>
                        <a:lnTo>
                          <a:pt x="9" y="820"/>
                        </a:lnTo>
                        <a:lnTo>
                          <a:pt x="13" y="822"/>
                        </a:lnTo>
                        <a:lnTo>
                          <a:pt x="18" y="824"/>
                        </a:lnTo>
                        <a:lnTo>
                          <a:pt x="20" y="824"/>
                        </a:lnTo>
                        <a:lnTo>
                          <a:pt x="92" y="813"/>
                        </a:lnTo>
                        <a:lnTo>
                          <a:pt x="161" y="795"/>
                        </a:lnTo>
                        <a:lnTo>
                          <a:pt x="226" y="771"/>
                        </a:lnTo>
                        <a:lnTo>
                          <a:pt x="289" y="739"/>
                        </a:lnTo>
                        <a:lnTo>
                          <a:pt x="349" y="703"/>
                        </a:lnTo>
                        <a:lnTo>
                          <a:pt x="405" y="661"/>
                        </a:lnTo>
                        <a:lnTo>
                          <a:pt x="457" y="614"/>
                        </a:lnTo>
                        <a:lnTo>
                          <a:pt x="504" y="562"/>
                        </a:lnTo>
                        <a:lnTo>
                          <a:pt x="547" y="506"/>
                        </a:lnTo>
                        <a:lnTo>
                          <a:pt x="582" y="448"/>
                        </a:lnTo>
                        <a:lnTo>
                          <a:pt x="614" y="383"/>
                        </a:lnTo>
                        <a:lnTo>
                          <a:pt x="636" y="318"/>
                        </a:lnTo>
                        <a:lnTo>
                          <a:pt x="654" y="248"/>
                        </a:lnTo>
                        <a:lnTo>
                          <a:pt x="665" y="177"/>
                        </a:lnTo>
                        <a:lnTo>
                          <a:pt x="670" y="103"/>
                        </a:lnTo>
                        <a:lnTo>
                          <a:pt x="663" y="103"/>
                        </a:lnTo>
                        <a:lnTo>
                          <a:pt x="661" y="29"/>
                        </a:lnTo>
                        <a:lnTo>
                          <a:pt x="654" y="0"/>
                        </a:lnTo>
                        <a:lnTo>
                          <a:pt x="656" y="2"/>
                        </a:lnTo>
                        <a:lnTo>
                          <a:pt x="659" y="6"/>
                        </a:lnTo>
                        <a:lnTo>
                          <a:pt x="661" y="11"/>
                        </a:lnTo>
                        <a:lnTo>
                          <a:pt x="663" y="15"/>
                        </a:lnTo>
                        <a:lnTo>
                          <a:pt x="665" y="29"/>
                        </a:lnTo>
                        <a:lnTo>
                          <a:pt x="670" y="103"/>
                        </a:lnTo>
                        <a:lnTo>
                          <a:pt x="663" y="103"/>
                        </a:lnTo>
                        <a:lnTo>
                          <a:pt x="661" y="177"/>
                        </a:lnTo>
                        <a:lnTo>
                          <a:pt x="650" y="248"/>
                        </a:lnTo>
                        <a:lnTo>
                          <a:pt x="632" y="316"/>
                        </a:lnTo>
                        <a:lnTo>
                          <a:pt x="607" y="381"/>
                        </a:lnTo>
                        <a:lnTo>
                          <a:pt x="576" y="443"/>
                        </a:lnTo>
                        <a:lnTo>
                          <a:pt x="540" y="504"/>
                        </a:lnTo>
                        <a:lnTo>
                          <a:pt x="499" y="560"/>
                        </a:lnTo>
                        <a:lnTo>
                          <a:pt x="452" y="609"/>
                        </a:lnTo>
                        <a:lnTo>
                          <a:pt x="401" y="656"/>
                        </a:lnTo>
                        <a:lnTo>
                          <a:pt x="347" y="699"/>
                        </a:lnTo>
                        <a:lnTo>
                          <a:pt x="287" y="735"/>
                        </a:lnTo>
                        <a:lnTo>
                          <a:pt x="224" y="764"/>
                        </a:lnTo>
                        <a:lnTo>
                          <a:pt x="159" y="789"/>
                        </a:lnTo>
                        <a:lnTo>
                          <a:pt x="92" y="806"/>
                        </a:lnTo>
                        <a:lnTo>
                          <a:pt x="20" y="818"/>
                        </a:lnTo>
                        <a:lnTo>
                          <a:pt x="0" y="818"/>
                        </a:lnTo>
                        <a:close/>
                      </a:path>
                    </a:pathLst>
                  </a:custGeom>
                  <a:solidFill>
                    <a:srgbClr val="e3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1252440" y="1958760"/>
                    <a:ext cx="1074600" cy="13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829">
                        <a:moveTo>
                          <a:pt x="0" y="824"/>
                        </a:moveTo>
                        <a:lnTo>
                          <a:pt x="5" y="824"/>
                        </a:lnTo>
                        <a:lnTo>
                          <a:pt x="9" y="827"/>
                        </a:lnTo>
                        <a:lnTo>
                          <a:pt x="14" y="829"/>
                        </a:lnTo>
                        <a:lnTo>
                          <a:pt x="18" y="829"/>
                        </a:lnTo>
                        <a:lnTo>
                          <a:pt x="32" y="829"/>
                        </a:lnTo>
                        <a:lnTo>
                          <a:pt x="104" y="818"/>
                        </a:lnTo>
                        <a:lnTo>
                          <a:pt x="173" y="800"/>
                        </a:lnTo>
                        <a:lnTo>
                          <a:pt x="236" y="775"/>
                        </a:lnTo>
                        <a:lnTo>
                          <a:pt x="299" y="746"/>
                        </a:lnTo>
                        <a:lnTo>
                          <a:pt x="359" y="708"/>
                        </a:lnTo>
                        <a:lnTo>
                          <a:pt x="415" y="668"/>
                        </a:lnTo>
                        <a:lnTo>
                          <a:pt x="467" y="620"/>
                        </a:lnTo>
                        <a:lnTo>
                          <a:pt x="514" y="569"/>
                        </a:lnTo>
                        <a:lnTo>
                          <a:pt x="554" y="513"/>
                        </a:lnTo>
                        <a:lnTo>
                          <a:pt x="590" y="455"/>
                        </a:lnTo>
                        <a:lnTo>
                          <a:pt x="621" y="392"/>
                        </a:lnTo>
                        <a:lnTo>
                          <a:pt x="646" y="325"/>
                        </a:lnTo>
                        <a:lnTo>
                          <a:pt x="664" y="257"/>
                        </a:lnTo>
                        <a:lnTo>
                          <a:pt x="673" y="186"/>
                        </a:lnTo>
                        <a:lnTo>
                          <a:pt x="677" y="112"/>
                        </a:lnTo>
                        <a:lnTo>
                          <a:pt x="671" y="112"/>
                        </a:lnTo>
                        <a:lnTo>
                          <a:pt x="668" y="38"/>
                        </a:lnTo>
                        <a:lnTo>
                          <a:pt x="662" y="0"/>
                        </a:lnTo>
                        <a:lnTo>
                          <a:pt x="664" y="2"/>
                        </a:lnTo>
                        <a:lnTo>
                          <a:pt x="666" y="6"/>
                        </a:lnTo>
                        <a:lnTo>
                          <a:pt x="668" y="9"/>
                        </a:lnTo>
                        <a:lnTo>
                          <a:pt x="671" y="13"/>
                        </a:lnTo>
                        <a:lnTo>
                          <a:pt x="673" y="38"/>
                        </a:lnTo>
                        <a:lnTo>
                          <a:pt x="677" y="112"/>
                        </a:lnTo>
                        <a:lnTo>
                          <a:pt x="671" y="112"/>
                        </a:lnTo>
                        <a:lnTo>
                          <a:pt x="668" y="186"/>
                        </a:lnTo>
                        <a:lnTo>
                          <a:pt x="657" y="255"/>
                        </a:lnTo>
                        <a:lnTo>
                          <a:pt x="639" y="322"/>
                        </a:lnTo>
                        <a:lnTo>
                          <a:pt x="615" y="387"/>
                        </a:lnTo>
                        <a:lnTo>
                          <a:pt x="585" y="450"/>
                        </a:lnTo>
                        <a:lnTo>
                          <a:pt x="550" y="511"/>
                        </a:lnTo>
                        <a:lnTo>
                          <a:pt x="507" y="564"/>
                        </a:lnTo>
                        <a:lnTo>
                          <a:pt x="462" y="616"/>
                        </a:lnTo>
                        <a:lnTo>
                          <a:pt x="411" y="663"/>
                        </a:lnTo>
                        <a:lnTo>
                          <a:pt x="357" y="703"/>
                        </a:lnTo>
                        <a:lnTo>
                          <a:pt x="296" y="739"/>
                        </a:lnTo>
                        <a:lnTo>
                          <a:pt x="234" y="768"/>
                        </a:lnTo>
                        <a:lnTo>
                          <a:pt x="171" y="793"/>
                        </a:lnTo>
                        <a:lnTo>
                          <a:pt x="101" y="811"/>
                        </a:lnTo>
                        <a:lnTo>
                          <a:pt x="32" y="822"/>
                        </a:lnTo>
                        <a:lnTo>
                          <a:pt x="0" y="824"/>
                        </a:lnTo>
                        <a:close/>
                      </a:path>
                    </a:pathLst>
                  </a:custGeom>
                  <a:solidFill>
                    <a:srgbClr val="e3c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1238040" y="1939680"/>
                    <a:ext cx="1082880" cy="13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836">
                        <a:moveTo>
                          <a:pt x="0" y="832"/>
                        </a:moveTo>
                        <a:lnTo>
                          <a:pt x="3" y="834"/>
                        </a:lnTo>
                        <a:lnTo>
                          <a:pt x="7" y="834"/>
                        </a:lnTo>
                        <a:lnTo>
                          <a:pt x="12" y="836"/>
                        </a:lnTo>
                        <a:lnTo>
                          <a:pt x="16" y="836"/>
                        </a:lnTo>
                        <a:lnTo>
                          <a:pt x="41" y="836"/>
                        </a:lnTo>
                        <a:lnTo>
                          <a:pt x="110" y="825"/>
                        </a:lnTo>
                        <a:lnTo>
                          <a:pt x="180" y="807"/>
                        </a:lnTo>
                        <a:lnTo>
                          <a:pt x="245" y="783"/>
                        </a:lnTo>
                        <a:lnTo>
                          <a:pt x="308" y="753"/>
                        </a:lnTo>
                        <a:lnTo>
                          <a:pt x="366" y="718"/>
                        </a:lnTo>
                        <a:lnTo>
                          <a:pt x="422" y="675"/>
                        </a:lnTo>
                        <a:lnTo>
                          <a:pt x="471" y="630"/>
                        </a:lnTo>
                        <a:lnTo>
                          <a:pt x="518" y="579"/>
                        </a:lnTo>
                        <a:lnTo>
                          <a:pt x="561" y="523"/>
                        </a:lnTo>
                        <a:lnTo>
                          <a:pt x="597" y="464"/>
                        </a:lnTo>
                        <a:lnTo>
                          <a:pt x="626" y="402"/>
                        </a:lnTo>
                        <a:lnTo>
                          <a:pt x="650" y="334"/>
                        </a:lnTo>
                        <a:lnTo>
                          <a:pt x="668" y="269"/>
                        </a:lnTo>
                        <a:lnTo>
                          <a:pt x="680" y="198"/>
                        </a:lnTo>
                        <a:lnTo>
                          <a:pt x="682" y="124"/>
                        </a:lnTo>
                        <a:lnTo>
                          <a:pt x="675" y="124"/>
                        </a:lnTo>
                        <a:lnTo>
                          <a:pt x="673" y="52"/>
                        </a:lnTo>
                        <a:lnTo>
                          <a:pt x="664" y="0"/>
                        </a:lnTo>
                        <a:lnTo>
                          <a:pt x="666" y="5"/>
                        </a:lnTo>
                        <a:lnTo>
                          <a:pt x="668" y="7"/>
                        </a:lnTo>
                        <a:lnTo>
                          <a:pt x="671" y="12"/>
                        </a:lnTo>
                        <a:lnTo>
                          <a:pt x="673" y="16"/>
                        </a:lnTo>
                        <a:lnTo>
                          <a:pt x="680" y="50"/>
                        </a:lnTo>
                        <a:lnTo>
                          <a:pt x="682" y="124"/>
                        </a:lnTo>
                        <a:lnTo>
                          <a:pt x="675" y="124"/>
                        </a:lnTo>
                        <a:lnTo>
                          <a:pt x="673" y="198"/>
                        </a:lnTo>
                        <a:lnTo>
                          <a:pt x="662" y="267"/>
                        </a:lnTo>
                        <a:lnTo>
                          <a:pt x="644" y="334"/>
                        </a:lnTo>
                        <a:lnTo>
                          <a:pt x="619" y="399"/>
                        </a:lnTo>
                        <a:lnTo>
                          <a:pt x="590" y="460"/>
                        </a:lnTo>
                        <a:lnTo>
                          <a:pt x="554" y="520"/>
                        </a:lnTo>
                        <a:lnTo>
                          <a:pt x="514" y="574"/>
                        </a:lnTo>
                        <a:lnTo>
                          <a:pt x="467" y="626"/>
                        </a:lnTo>
                        <a:lnTo>
                          <a:pt x="417" y="671"/>
                        </a:lnTo>
                        <a:lnTo>
                          <a:pt x="361" y="711"/>
                        </a:lnTo>
                        <a:lnTo>
                          <a:pt x="303" y="747"/>
                        </a:lnTo>
                        <a:lnTo>
                          <a:pt x="240" y="778"/>
                        </a:lnTo>
                        <a:lnTo>
                          <a:pt x="178" y="801"/>
                        </a:lnTo>
                        <a:lnTo>
                          <a:pt x="110" y="818"/>
                        </a:lnTo>
                        <a:lnTo>
                          <a:pt x="39" y="830"/>
                        </a:lnTo>
                        <a:lnTo>
                          <a:pt x="0" y="832"/>
                        </a:lnTo>
                        <a:close/>
                      </a:path>
                    </a:pathLst>
                  </a:custGeom>
                  <a:solidFill>
                    <a:srgbClr val="e3c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1220760" y="1930320"/>
                    <a:ext cx="1091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840">
                        <a:moveTo>
                          <a:pt x="0" y="833"/>
                        </a:moveTo>
                        <a:lnTo>
                          <a:pt x="5" y="836"/>
                        </a:lnTo>
                        <a:lnTo>
                          <a:pt x="9" y="836"/>
                        </a:lnTo>
                        <a:lnTo>
                          <a:pt x="11" y="838"/>
                        </a:lnTo>
                        <a:lnTo>
                          <a:pt x="16" y="840"/>
                        </a:lnTo>
                        <a:lnTo>
                          <a:pt x="50" y="838"/>
                        </a:lnTo>
                        <a:lnTo>
                          <a:pt x="121" y="827"/>
                        </a:lnTo>
                        <a:lnTo>
                          <a:pt x="191" y="809"/>
                        </a:lnTo>
                        <a:lnTo>
                          <a:pt x="254" y="786"/>
                        </a:lnTo>
                        <a:lnTo>
                          <a:pt x="316" y="755"/>
                        </a:lnTo>
                        <a:lnTo>
                          <a:pt x="375" y="719"/>
                        </a:lnTo>
                        <a:lnTo>
                          <a:pt x="428" y="679"/>
                        </a:lnTo>
                        <a:lnTo>
                          <a:pt x="480" y="632"/>
                        </a:lnTo>
                        <a:lnTo>
                          <a:pt x="527" y="582"/>
                        </a:lnTo>
                        <a:lnTo>
                          <a:pt x="567" y="526"/>
                        </a:lnTo>
                        <a:lnTo>
                          <a:pt x="603" y="468"/>
                        </a:lnTo>
                        <a:lnTo>
                          <a:pt x="632" y="405"/>
                        </a:lnTo>
                        <a:lnTo>
                          <a:pt x="657" y="340"/>
                        </a:lnTo>
                        <a:lnTo>
                          <a:pt x="675" y="273"/>
                        </a:lnTo>
                        <a:lnTo>
                          <a:pt x="686" y="204"/>
                        </a:lnTo>
                        <a:lnTo>
                          <a:pt x="688" y="130"/>
                        </a:lnTo>
                        <a:lnTo>
                          <a:pt x="684" y="130"/>
                        </a:lnTo>
                        <a:lnTo>
                          <a:pt x="679" y="58"/>
                        </a:lnTo>
                        <a:lnTo>
                          <a:pt x="670" y="0"/>
                        </a:lnTo>
                        <a:lnTo>
                          <a:pt x="673" y="2"/>
                        </a:lnTo>
                        <a:lnTo>
                          <a:pt x="675" y="4"/>
                        </a:lnTo>
                        <a:lnTo>
                          <a:pt x="677" y="9"/>
                        </a:lnTo>
                        <a:lnTo>
                          <a:pt x="679" y="11"/>
                        </a:lnTo>
                        <a:lnTo>
                          <a:pt x="686" y="58"/>
                        </a:lnTo>
                        <a:lnTo>
                          <a:pt x="688" y="130"/>
                        </a:lnTo>
                        <a:lnTo>
                          <a:pt x="684" y="130"/>
                        </a:lnTo>
                        <a:lnTo>
                          <a:pt x="679" y="201"/>
                        </a:lnTo>
                        <a:lnTo>
                          <a:pt x="668" y="273"/>
                        </a:lnTo>
                        <a:lnTo>
                          <a:pt x="650" y="338"/>
                        </a:lnTo>
                        <a:lnTo>
                          <a:pt x="628" y="403"/>
                        </a:lnTo>
                        <a:lnTo>
                          <a:pt x="596" y="466"/>
                        </a:lnTo>
                        <a:lnTo>
                          <a:pt x="563" y="524"/>
                        </a:lnTo>
                        <a:lnTo>
                          <a:pt x="520" y="578"/>
                        </a:lnTo>
                        <a:lnTo>
                          <a:pt x="475" y="627"/>
                        </a:lnTo>
                        <a:lnTo>
                          <a:pt x="426" y="674"/>
                        </a:lnTo>
                        <a:lnTo>
                          <a:pt x="370" y="715"/>
                        </a:lnTo>
                        <a:lnTo>
                          <a:pt x="312" y="751"/>
                        </a:lnTo>
                        <a:lnTo>
                          <a:pt x="251" y="780"/>
                        </a:lnTo>
                        <a:lnTo>
                          <a:pt x="189" y="804"/>
                        </a:lnTo>
                        <a:lnTo>
                          <a:pt x="119" y="820"/>
                        </a:lnTo>
                        <a:lnTo>
                          <a:pt x="50" y="831"/>
                        </a:lnTo>
                        <a:lnTo>
                          <a:pt x="0" y="833"/>
                        </a:lnTo>
                        <a:close/>
                      </a:path>
                    </a:pathLst>
                  </a:custGeom>
                  <a:solidFill>
                    <a:srgbClr val="e3c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1206360" y="1915920"/>
                    <a:ext cx="1100160" cy="13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845">
                        <a:moveTo>
                          <a:pt x="0" y="840"/>
                        </a:moveTo>
                        <a:lnTo>
                          <a:pt x="5" y="840"/>
                        </a:lnTo>
                        <a:lnTo>
                          <a:pt x="7" y="842"/>
                        </a:lnTo>
                        <a:lnTo>
                          <a:pt x="12" y="842"/>
                        </a:lnTo>
                        <a:lnTo>
                          <a:pt x="14" y="845"/>
                        </a:lnTo>
                        <a:lnTo>
                          <a:pt x="59" y="842"/>
                        </a:lnTo>
                        <a:lnTo>
                          <a:pt x="130" y="831"/>
                        </a:lnTo>
                        <a:lnTo>
                          <a:pt x="198" y="813"/>
                        </a:lnTo>
                        <a:lnTo>
                          <a:pt x="260" y="791"/>
                        </a:lnTo>
                        <a:lnTo>
                          <a:pt x="323" y="760"/>
                        </a:lnTo>
                        <a:lnTo>
                          <a:pt x="381" y="726"/>
                        </a:lnTo>
                        <a:lnTo>
                          <a:pt x="435" y="683"/>
                        </a:lnTo>
                        <a:lnTo>
                          <a:pt x="487" y="638"/>
                        </a:lnTo>
                        <a:lnTo>
                          <a:pt x="531" y="587"/>
                        </a:lnTo>
                        <a:lnTo>
                          <a:pt x="572" y="533"/>
                        </a:lnTo>
                        <a:lnTo>
                          <a:pt x="608" y="475"/>
                        </a:lnTo>
                        <a:lnTo>
                          <a:pt x="639" y="412"/>
                        </a:lnTo>
                        <a:lnTo>
                          <a:pt x="661" y="347"/>
                        </a:lnTo>
                        <a:lnTo>
                          <a:pt x="679" y="282"/>
                        </a:lnTo>
                        <a:lnTo>
                          <a:pt x="691" y="213"/>
                        </a:lnTo>
                        <a:lnTo>
                          <a:pt x="693" y="139"/>
                        </a:lnTo>
                        <a:lnTo>
                          <a:pt x="688" y="139"/>
                        </a:lnTo>
                        <a:lnTo>
                          <a:pt x="684" y="67"/>
                        </a:lnTo>
                        <a:lnTo>
                          <a:pt x="673" y="0"/>
                        </a:lnTo>
                        <a:lnTo>
                          <a:pt x="675" y="2"/>
                        </a:lnTo>
                        <a:lnTo>
                          <a:pt x="677" y="6"/>
                        </a:lnTo>
                        <a:lnTo>
                          <a:pt x="679" y="9"/>
                        </a:lnTo>
                        <a:lnTo>
                          <a:pt x="682" y="13"/>
                        </a:lnTo>
                        <a:lnTo>
                          <a:pt x="691" y="67"/>
                        </a:lnTo>
                        <a:lnTo>
                          <a:pt x="693" y="139"/>
                        </a:lnTo>
                        <a:lnTo>
                          <a:pt x="688" y="139"/>
                        </a:lnTo>
                        <a:lnTo>
                          <a:pt x="684" y="210"/>
                        </a:lnTo>
                        <a:lnTo>
                          <a:pt x="673" y="280"/>
                        </a:lnTo>
                        <a:lnTo>
                          <a:pt x="657" y="345"/>
                        </a:lnTo>
                        <a:lnTo>
                          <a:pt x="632" y="410"/>
                        </a:lnTo>
                        <a:lnTo>
                          <a:pt x="603" y="473"/>
                        </a:lnTo>
                        <a:lnTo>
                          <a:pt x="567" y="531"/>
                        </a:lnTo>
                        <a:lnTo>
                          <a:pt x="527" y="585"/>
                        </a:lnTo>
                        <a:lnTo>
                          <a:pt x="482" y="634"/>
                        </a:lnTo>
                        <a:lnTo>
                          <a:pt x="431" y="679"/>
                        </a:lnTo>
                        <a:lnTo>
                          <a:pt x="377" y="719"/>
                        </a:lnTo>
                        <a:lnTo>
                          <a:pt x="319" y="755"/>
                        </a:lnTo>
                        <a:lnTo>
                          <a:pt x="258" y="784"/>
                        </a:lnTo>
                        <a:lnTo>
                          <a:pt x="195" y="809"/>
                        </a:lnTo>
                        <a:lnTo>
                          <a:pt x="128" y="825"/>
                        </a:lnTo>
                        <a:lnTo>
                          <a:pt x="59" y="836"/>
                        </a:lnTo>
                        <a:lnTo>
                          <a:pt x="0" y="840"/>
                        </a:lnTo>
                        <a:close/>
                      </a:path>
                    </a:pathLst>
                  </a:custGeom>
                  <a:solidFill>
                    <a:srgbClr val="e3c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1191960" y="1901520"/>
                    <a:ext cx="1111320" cy="13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0" h="849">
                        <a:moveTo>
                          <a:pt x="0" y="845"/>
                        </a:moveTo>
                        <a:lnTo>
                          <a:pt x="5" y="847"/>
                        </a:lnTo>
                        <a:lnTo>
                          <a:pt x="7" y="847"/>
                        </a:lnTo>
                        <a:lnTo>
                          <a:pt x="12" y="849"/>
                        </a:lnTo>
                        <a:lnTo>
                          <a:pt x="14" y="849"/>
                        </a:lnTo>
                        <a:lnTo>
                          <a:pt x="68" y="847"/>
                        </a:lnTo>
                        <a:lnTo>
                          <a:pt x="137" y="836"/>
                        </a:lnTo>
                        <a:lnTo>
                          <a:pt x="204" y="820"/>
                        </a:lnTo>
                        <a:lnTo>
                          <a:pt x="267" y="795"/>
                        </a:lnTo>
                        <a:lnTo>
                          <a:pt x="330" y="766"/>
                        </a:lnTo>
                        <a:lnTo>
                          <a:pt x="388" y="730"/>
                        </a:lnTo>
                        <a:lnTo>
                          <a:pt x="442" y="690"/>
                        </a:lnTo>
                        <a:lnTo>
                          <a:pt x="491" y="645"/>
                        </a:lnTo>
                        <a:lnTo>
                          <a:pt x="538" y="594"/>
                        </a:lnTo>
                        <a:lnTo>
                          <a:pt x="579" y="540"/>
                        </a:lnTo>
                        <a:lnTo>
                          <a:pt x="614" y="482"/>
                        </a:lnTo>
                        <a:lnTo>
                          <a:pt x="644" y="421"/>
                        </a:lnTo>
                        <a:lnTo>
                          <a:pt x="666" y="356"/>
                        </a:lnTo>
                        <a:lnTo>
                          <a:pt x="684" y="291"/>
                        </a:lnTo>
                        <a:lnTo>
                          <a:pt x="695" y="219"/>
                        </a:lnTo>
                        <a:lnTo>
                          <a:pt x="700" y="148"/>
                        </a:lnTo>
                        <a:lnTo>
                          <a:pt x="693" y="148"/>
                        </a:lnTo>
                        <a:lnTo>
                          <a:pt x="688" y="76"/>
                        </a:lnTo>
                        <a:lnTo>
                          <a:pt x="677" y="7"/>
                        </a:lnTo>
                        <a:lnTo>
                          <a:pt x="677" y="0"/>
                        </a:lnTo>
                        <a:lnTo>
                          <a:pt x="679" y="2"/>
                        </a:lnTo>
                        <a:lnTo>
                          <a:pt x="682" y="7"/>
                        </a:lnTo>
                        <a:lnTo>
                          <a:pt x="684" y="9"/>
                        </a:lnTo>
                        <a:lnTo>
                          <a:pt x="686" y="13"/>
                        </a:lnTo>
                        <a:lnTo>
                          <a:pt x="695" y="76"/>
                        </a:lnTo>
                        <a:lnTo>
                          <a:pt x="700" y="148"/>
                        </a:lnTo>
                        <a:lnTo>
                          <a:pt x="693" y="148"/>
                        </a:lnTo>
                        <a:lnTo>
                          <a:pt x="688" y="219"/>
                        </a:lnTo>
                        <a:lnTo>
                          <a:pt x="677" y="289"/>
                        </a:lnTo>
                        <a:lnTo>
                          <a:pt x="662" y="354"/>
                        </a:lnTo>
                        <a:lnTo>
                          <a:pt x="637" y="419"/>
                        </a:lnTo>
                        <a:lnTo>
                          <a:pt x="608" y="479"/>
                        </a:lnTo>
                        <a:lnTo>
                          <a:pt x="574" y="535"/>
                        </a:lnTo>
                        <a:lnTo>
                          <a:pt x="534" y="589"/>
                        </a:lnTo>
                        <a:lnTo>
                          <a:pt x="487" y="641"/>
                        </a:lnTo>
                        <a:lnTo>
                          <a:pt x="437" y="686"/>
                        </a:lnTo>
                        <a:lnTo>
                          <a:pt x="384" y="726"/>
                        </a:lnTo>
                        <a:lnTo>
                          <a:pt x="328" y="760"/>
                        </a:lnTo>
                        <a:lnTo>
                          <a:pt x="265" y="789"/>
                        </a:lnTo>
                        <a:lnTo>
                          <a:pt x="204" y="813"/>
                        </a:lnTo>
                        <a:lnTo>
                          <a:pt x="137" y="831"/>
                        </a:lnTo>
                        <a:lnTo>
                          <a:pt x="68" y="840"/>
                        </a:lnTo>
                        <a:lnTo>
                          <a:pt x="0" y="845"/>
                        </a:lnTo>
                        <a:close/>
                      </a:path>
                    </a:pathLst>
                  </a:custGeom>
                  <a:solidFill>
                    <a:srgbClr val="e3c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177920" y="1887480"/>
                    <a:ext cx="1117440" cy="13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704" h="856">
                        <a:moveTo>
                          <a:pt x="0" y="849"/>
                        </a:moveTo>
                        <a:lnTo>
                          <a:pt x="3" y="851"/>
                        </a:lnTo>
                        <a:lnTo>
                          <a:pt x="7" y="851"/>
                        </a:lnTo>
                        <a:lnTo>
                          <a:pt x="9" y="854"/>
                        </a:lnTo>
                        <a:lnTo>
                          <a:pt x="14" y="856"/>
                        </a:lnTo>
                        <a:lnTo>
                          <a:pt x="77" y="851"/>
                        </a:lnTo>
                        <a:lnTo>
                          <a:pt x="146" y="843"/>
                        </a:lnTo>
                        <a:lnTo>
                          <a:pt x="213" y="825"/>
                        </a:lnTo>
                        <a:lnTo>
                          <a:pt x="276" y="800"/>
                        </a:lnTo>
                        <a:lnTo>
                          <a:pt x="337" y="771"/>
                        </a:lnTo>
                        <a:lnTo>
                          <a:pt x="395" y="737"/>
                        </a:lnTo>
                        <a:lnTo>
                          <a:pt x="449" y="697"/>
                        </a:lnTo>
                        <a:lnTo>
                          <a:pt x="498" y="650"/>
                        </a:lnTo>
                        <a:lnTo>
                          <a:pt x="543" y="600"/>
                        </a:lnTo>
                        <a:lnTo>
                          <a:pt x="583" y="547"/>
                        </a:lnTo>
                        <a:lnTo>
                          <a:pt x="619" y="488"/>
                        </a:lnTo>
                        <a:lnTo>
                          <a:pt x="648" y="428"/>
                        </a:lnTo>
                        <a:lnTo>
                          <a:pt x="673" y="363"/>
                        </a:lnTo>
                        <a:lnTo>
                          <a:pt x="688" y="298"/>
                        </a:lnTo>
                        <a:lnTo>
                          <a:pt x="700" y="228"/>
                        </a:lnTo>
                        <a:lnTo>
                          <a:pt x="704" y="157"/>
                        </a:lnTo>
                        <a:lnTo>
                          <a:pt x="697" y="157"/>
                        </a:lnTo>
                        <a:lnTo>
                          <a:pt x="693" y="85"/>
                        </a:lnTo>
                        <a:lnTo>
                          <a:pt x="684" y="18"/>
                        </a:lnTo>
                        <a:lnTo>
                          <a:pt x="677" y="0"/>
                        </a:lnTo>
                        <a:lnTo>
                          <a:pt x="682" y="2"/>
                        </a:lnTo>
                        <a:lnTo>
                          <a:pt x="684" y="7"/>
                        </a:lnTo>
                        <a:lnTo>
                          <a:pt x="686" y="11"/>
                        </a:lnTo>
                        <a:lnTo>
                          <a:pt x="688" y="13"/>
                        </a:lnTo>
                        <a:lnTo>
                          <a:pt x="688" y="16"/>
                        </a:lnTo>
                        <a:lnTo>
                          <a:pt x="700" y="85"/>
                        </a:lnTo>
                        <a:lnTo>
                          <a:pt x="704" y="157"/>
                        </a:lnTo>
                        <a:lnTo>
                          <a:pt x="697" y="157"/>
                        </a:lnTo>
                        <a:lnTo>
                          <a:pt x="693" y="228"/>
                        </a:lnTo>
                        <a:lnTo>
                          <a:pt x="684" y="298"/>
                        </a:lnTo>
                        <a:lnTo>
                          <a:pt x="666" y="361"/>
                        </a:lnTo>
                        <a:lnTo>
                          <a:pt x="644" y="426"/>
                        </a:lnTo>
                        <a:lnTo>
                          <a:pt x="612" y="486"/>
                        </a:lnTo>
                        <a:lnTo>
                          <a:pt x="579" y="542"/>
                        </a:lnTo>
                        <a:lnTo>
                          <a:pt x="538" y="596"/>
                        </a:lnTo>
                        <a:lnTo>
                          <a:pt x="493" y="645"/>
                        </a:lnTo>
                        <a:lnTo>
                          <a:pt x="444" y="690"/>
                        </a:lnTo>
                        <a:lnTo>
                          <a:pt x="390" y="730"/>
                        </a:lnTo>
                        <a:lnTo>
                          <a:pt x="334" y="766"/>
                        </a:lnTo>
                        <a:lnTo>
                          <a:pt x="272" y="795"/>
                        </a:lnTo>
                        <a:lnTo>
                          <a:pt x="211" y="818"/>
                        </a:lnTo>
                        <a:lnTo>
                          <a:pt x="144" y="836"/>
                        </a:lnTo>
                        <a:lnTo>
                          <a:pt x="77" y="845"/>
                        </a:lnTo>
                        <a:lnTo>
                          <a:pt x="5" y="849"/>
                        </a:lnTo>
                        <a:lnTo>
                          <a:pt x="0" y="849"/>
                        </a:lnTo>
                        <a:close/>
                      </a:path>
                    </a:pathLst>
                  </a:custGeom>
                  <a:solidFill>
                    <a:srgbClr val="e3c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1160280" y="1873080"/>
                    <a:ext cx="1128600" cy="13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860">
                        <a:moveTo>
                          <a:pt x="0" y="854"/>
                        </a:moveTo>
                        <a:lnTo>
                          <a:pt x="5" y="856"/>
                        </a:lnTo>
                        <a:lnTo>
                          <a:pt x="9" y="856"/>
                        </a:lnTo>
                        <a:lnTo>
                          <a:pt x="11" y="858"/>
                        </a:lnTo>
                        <a:lnTo>
                          <a:pt x="16" y="860"/>
                        </a:lnTo>
                        <a:lnTo>
                          <a:pt x="88" y="856"/>
                        </a:lnTo>
                        <a:lnTo>
                          <a:pt x="157" y="847"/>
                        </a:lnTo>
                        <a:lnTo>
                          <a:pt x="222" y="829"/>
                        </a:lnTo>
                        <a:lnTo>
                          <a:pt x="285" y="807"/>
                        </a:lnTo>
                        <a:lnTo>
                          <a:pt x="345" y="775"/>
                        </a:lnTo>
                        <a:lnTo>
                          <a:pt x="404" y="742"/>
                        </a:lnTo>
                        <a:lnTo>
                          <a:pt x="457" y="701"/>
                        </a:lnTo>
                        <a:lnTo>
                          <a:pt x="507" y="657"/>
                        </a:lnTo>
                        <a:lnTo>
                          <a:pt x="552" y="607"/>
                        </a:lnTo>
                        <a:lnTo>
                          <a:pt x="592" y="553"/>
                        </a:lnTo>
                        <a:lnTo>
                          <a:pt x="625" y="495"/>
                        </a:lnTo>
                        <a:lnTo>
                          <a:pt x="655" y="435"/>
                        </a:lnTo>
                        <a:lnTo>
                          <a:pt x="679" y="372"/>
                        </a:lnTo>
                        <a:lnTo>
                          <a:pt x="695" y="307"/>
                        </a:lnTo>
                        <a:lnTo>
                          <a:pt x="706" y="237"/>
                        </a:lnTo>
                        <a:lnTo>
                          <a:pt x="711" y="166"/>
                        </a:lnTo>
                        <a:lnTo>
                          <a:pt x="704" y="166"/>
                        </a:lnTo>
                        <a:lnTo>
                          <a:pt x="699" y="96"/>
                        </a:lnTo>
                        <a:lnTo>
                          <a:pt x="690" y="27"/>
                        </a:lnTo>
                        <a:lnTo>
                          <a:pt x="684" y="0"/>
                        </a:lnTo>
                        <a:lnTo>
                          <a:pt x="686" y="2"/>
                        </a:lnTo>
                        <a:lnTo>
                          <a:pt x="688" y="7"/>
                        </a:lnTo>
                        <a:lnTo>
                          <a:pt x="690" y="9"/>
                        </a:lnTo>
                        <a:lnTo>
                          <a:pt x="693" y="13"/>
                        </a:lnTo>
                        <a:lnTo>
                          <a:pt x="695" y="25"/>
                        </a:lnTo>
                        <a:lnTo>
                          <a:pt x="706" y="94"/>
                        </a:lnTo>
                        <a:lnTo>
                          <a:pt x="711" y="166"/>
                        </a:lnTo>
                        <a:lnTo>
                          <a:pt x="704" y="166"/>
                        </a:lnTo>
                        <a:lnTo>
                          <a:pt x="699" y="237"/>
                        </a:lnTo>
                        <a:lnTo>
                          <a:pt x="690" y="305"/>
                        </a:lnTo>
                        <a:lnTo>
                          <a:pt x="673" y="370"/>
                        </a:lnTo>
                        <a:lnTo>
                          <a:pt x="650" y="432"/>
                        </a:lnTo>
                        <a:lnTo>
                          <a:pt x="621" y="493"/>
                        </a:lnTo>
                        <a:lnTo>
                          <a:pt x="585" y="549"/>
                        </a:lnTo>
                        <a:lnTo>
                          <a:pt x="547" y="603"/>
                        </a:lnTo>
                        <a:lnTo>
                          <a:pt x="502" y="652"/>
                        </a:lnTo>
                        <a:lnTo>
                          <a:pt x="453" y="697"/>
                        </a:lnTo>
                        <a:lnTo>
                          <a:pt x="399" y="737"/>
                        </a:lnTo>
                        <a:lnTo>
                          <a:pt x="343" y="771"/>
                        </a:lnTo>
                        <a:lnTo>
                          <a:pt x="283" y="800"/>
                        </a:lnTo>
                        <a:lnTo>
                          <a:pt x="220" y="822"/>
                        </a:lnTo>
                        <a:lnTo>
                          <a:pt x="155" y="840"/>
                        </a:lnTo>
                        <a:lnTo>
                          <a:pt x="85" y="852"/>
                        </a:lnTo>
                        <a:lnTo>
                          <a:pt x="16" y="854"/>
                        </a:lnTo>
                        <a:lnTo>
                          <a:pt x="0" y="854"/>
                        </a:lnTo>
                        <a:close/>
                      </a:path>
                    </a:pathLst>
                  </a:custGeom>
                  <a:solidFill>
                    <a:srgbClr val="e3c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1145880" y="1858680"/>
                    <a:ext cx="1135080" cy="13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865">
                        <a:moveTo>
                          <a:pt x="0" y="858"/>
                        </a:moveTo>
                        <a:lnTo>
                          <a:pt x="5" y="861"/>
                        </a:lnTo>
                        <a:lnTo>
                          <a:pt x="7" y="861"/>
                        </a:lnTo>
                        <a:lnTo>
                          <a:pt x="11" y="863"/>
                        </a:lnTo>
                        <a:lnTo>
                          <a:pt x="14" y="865"/>
                        </a:lnTo>
                        <a:lnTo>
                          <a:pt x="25" y="865"/>
                        </a:lnTo>
                        <a:lnTo>
                          <a:pt x="94" y="863"/>
                        </a:lnTo>
                        <a:lnTo>
                          <a:pt x="164" y="852"/>
                        </a:lnTo>
                        <a:lnTo>
                          <a:pt x="231" y="834"/>
                        </a:lnTo>
                        <a:lnTo>
                          <a:pt x="292" y="811"/>
                        </a:lnTo>
                        <a:lnTo>
                          <a:pt x="352" y="782"/>
                        </a:lnTo>
                        <a:lnTo>
                          <a:pt x="410" y="746"/>
                        </a:lnTo>
                        <a:lnTo>
                          <a:pt x="462" y="708"/>
                        </a:lnTo>
                        <a:lnTo>
                          <a:pt x="511" y="663"/>
                        </a:lnTo>
                        <a:lnTo>
                          <a:pt x="556" y="614"/>
                        </a:lnTo>
                        <a:lnTo>
                          <a:pt x="596" y="560"/>
                        </a:lnTo>
                        <a:lnTo>
                          <a:pt x="632" y="502"/>
                        </a:lnTo>
                        <a:lnTo>
                          <a:pt x="661" y="441"/>
                        </a:lnTo>
                        <a:lnTo>
                          <a:pt x="684" y="379"/>
                        </a:lnTo>
                        <a:lnTo>
                          <a:pt x="702" y="314"/>
                        </a:lnTo>
                        <a:lnTo>
                          <a:pt x="711" y="246"/>
                        </a:lnTo>
                        <a:lnTo>
                          <a:pt x="715" y="175"/>
                        </a:lnTo>
                        <a:lnTo>
                          <a:pt x="708" y="175"/>
                        </a:lnTo>
                        <a:lnTo>
                          <a:pt x="706" y="105"/>
                        </a:lnTo>
                        <a:lnTo>
                          <a:pt x="695" y="36"/>
                        </a:lnTo>
                        <a:lnTo>
                          <a:pt x="686" y="0"/>
                        </a:lnTo>
                        <a:lnTo>
                          <a:pt x="688" y="4"/>
                        </a:lnTo>
                        <a:lnTo>
                          <a:pt x="691" y="7"/>
                        </a:lnTo>
                        <a:lnTo>
                          <a:pt x="693" y="11"/>
                        </a:lnTo>
                        <a:lnTo>
                          <a:pt x="695" y="13"/>
                        </a:lnTo>
                        <a:lnTo>
                          <a:pt x="702" y="36"/>
                        </a:lnTo>
                        <a:lnTo>
                          <a:pt x="711" y="105"/>
                        </a:lnTo>
                        <a:lnTo>
                          <a:pt x="715" y="175"/>
                        </a:lnTo>
                        <a:lnTo>
                          <a:pt x="708" y="175"/>
                        </a:lnTo>
                        <a:lnTo>
                          <a:pt x="706" y="244"/>
                        </a:lnTo>
                        <a:lnTo>
                          <a:pt x="695" y="314"/>
                        </a:lnTo>
                        <a:lnTo>
                          <a:pt x="677" y="376"/>
                        </a:lnTo>
                        <a:lnTo>
                          <a:pt x="655" y="439"/>
                        </a:lnTo>
                        <a:lnTo>
                          <a:pt x="626" y="500"/>
                        </a:lnTo>
                        <a:lnTo>
                          <a:pt x="592" y="556"/>
                        </a:lnTo>
                        <a:lnTo>
                          <a:pt x="552" y="610"/>
                        </a:lnTo>
                        <a:lnTo>
                          <a:pt x="507" y="659"/>
                        </a:lnTo>
                        <a:lnTo>
                          <a:pt x="460" y="701"/>
                        </a:lnTo>
                        <a:lnTo>
                          <a:pt x="406" y="742"/>
                        </a:lnTo>
                        <a:lnTo>
                          <a:pt x="350" y="775"/>
                        </a:lnTo>
                        <a:lnTo>
                          <a:pt x="289" y="804"/>
                        </a:lnTo>
                        <a:lnTo>
                          <a:pt x="229" y="829"/>
                        </a:lnTo>
                        <a:lnTo>
                          <a:pt x="164" y="845"/>
                        </a:lnTo>
                        <a:lnTo>
                          <a:pt x="94" y="856"/>
                        </a:lnTo>
                        <a:lnTo>
                          <a:pt x="25" y="858"/>
                        </a:lnTo>
                        <a:lnTo>
                          <a:pt x="0" y="858"/>
                        </a:lnTo>
                        <a:close/>
                      </a:path>
                    </a:pathLst>
                  </a:custGeom>
                  <a:solidFill>
                    <a:srgbClr val="e3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131840" y="1847520"/>
                    <a:ext cx="1143000" cy="137808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868">
                        <a:moveTo>
                          <a:pt x="0" y="861"/>
                        </a:moveTo>
                        <a:lnTo>
                          <a:pt x="2" y="863"/>
                        </a:lnTo>
                        <a:lnTo>
                          <a:pt x="7" y="863"/>
                        </a:lnTo>
                        <a:lnTo>
                          <a:pt x="9" y="865"/>
                        </a:lnTo>
                        <a:lnTo>
                          <a:pt x="14" y="868"/>
                        </a:lnTo>
                        <a:lnTo>
                          <a:pt x="34" y="868"/>
                        </a:lnTo>
                        <a:lnTo>
                          <a:pt x="103" y="865"/>
                        </a:lnTo>
                        <a:lnTo>
                          <a:pt x="173" y="854"/>
                        </a:lnTo>
                        <a:lnTo>
                          <a:pt x="238" y="836"/>
                        </a:lnTo>
                        <a:lnTo>
                          <a:pt x="298" y="814"/>
                        </a:lnTo>
                        <a:lnTo>
                          <a:pt x="359" y="785"/>
                        </a:lnTo>
                        <a:lnTo>
                          <a:pt x="417" y="751"/>
                        </a:lnTo>
                        <a:lnTo>
                          <a:pt x="469" y="711"/>
                        </a:lnTo>
                        <a:lnTo>
                          <a:pt x="518" y="666"/>
                        </a:lnTo>
                        <a:lnTo>
                          <a:pt x="563" y="617"/>
                        </a:lnTo>
                        <a:lnTo>
                          <a:pt x="603" y="565"/>
                        </a:lnTo>
                        <a:lnTo>
                          <a:pt x="637" y="507"/>
                        </a:lnTo>
                        <a:lnTo>
                          <a:pt x="666" y="448"/>
                        </a:lnTo>
                        <a:lnTo>
                          <a:pt x="688" y="383"/>
                        </a:lnTo>
                        <a:lnTo>
                          <a:pt x="706" y="321"/>
                        </a:lnTo>
                        <a:lnTo>
                          <a:pt x="715" y="253"/>
                        </a:lnTo>
                        <a:lnTo>
                          <a:pt x="720" y="182"/>
                        </a:lnTo>
                        <a:lnTo>
                          <a:pt x="713" y="182"/>
                        </a:lnTo>
                        <a:lnTo>
                          <a:pt x="711" y="112"/>
                        </a:lnTo>
                        <a:lnTo>
                          <a:pt x="700" y="45"/>
                        </a:lnTo>
                        <a:lnTo>
                          <a:pt x="688" y="0"/>
                        </a:lnTo>
                        <a:lnTo>
                          <a:pt x="691" y="2"/>
                        </a:lnTo>
                        <a:lnTo>
                          <a:pt x="693" y="7"/>
                        </a:lnTo>
                        <a:lnTo>
                          <a:pt x="695" y="9"/>
                        </a:lnTo>
                        <a:lnTo>
                          <a:pt x="697" y="11"/>
                        </a:lnTo>
                        <a:lnTo>
                          <a:pt x="706" y="43"/>
                        </a:lnTo>
                        <a:lnTo>
                          <a:pt x="715" y="112"/>
                        </a:lnTo>
                        <a:lnTo>
                          <a:pt x="720" y="182"/>
                        </a:lnTo>
                        <a:lnTo>
                          <a:pt x="713" y="182"/>
                        </a:lnTo>
                        <a:lnTo>
                          <a:pt x="711" y="251"/>
                        </a:lnTo>
                        <a:lnTo>
                          <a:pt x="700" y="318"/>
                        </a:lnTo>
                        <a:lnTo>
                          <a:pt x="684" y="383"/>
                        </a:lnTo>
                        <a:lnTo>
                          <a:pt x="659" y="446"/>
                        </a:lnTo>
                        <a:lnTo>
                          <a:pt x="632" y="504"/>
                        </a:lnTo>
                        <a:lnTo>
                          <a:pt x="596" y="560"/>
                        </a:lnTo>
                        <a:lnTo>
                          <a:pt x="558" y="614"/>
                        </a:lnTo>
                        <a:lnTo>
                          <a:pt x="514" y="661"/>
                        </a:lnTo>
                        <a:lnTo>
                          <a:pt x="464" y="706"/>
                        </a:lnTo>
                        <a:lnTo>
                          <a:pt x="413" y="744"/>
                        </a:lnTo>
                        <a:lnTo>
                          <a:pt x="357" y="780"/>
                        </a:lnTo>
                        <a:lnTo>
                          <a:pt x="296" y="809"/>
                        </a:lnTo>
                        <a:lnTo>
                          <a:pt x="236" y="832"/>
                        </a:lnTo>
                        <a:lnTo>
                          <a:pt x="171" y="847"/>
                        </a:lnTo>
                        <a:lnTo>
                          <a:pt x="103" y="859"/>
                        </a:lnTo>
                        <a:lnTo>
                          <a:pt x="34" y="861"/>
                        </a:lnTo>
                        <a:lnTo>
                          <a:pt x="0" y="861"/>
                        </a:lnTo>
                        <a:close/>
                      </a:path>
                    </a:pathLst>
                  </a:custGeom>
                  <a:solidFill>
                    <a:srgbClr val="e3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1117440" y="1836720"/>
                    <a:ext cx="1149480" cy="13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24" h="870">
                        <a:moveTo>
                          <a:pt x="0" y="863"/>
                        </a:moveTo>
                        <a:lnTo>
                          <a:pt x="3" y="863"/>
                        </a:lnTo>
                        <a:lnTo>
                          <a:pt x="7" y="866"/>
                        </a:lnTo>
                        <a:lnTo>
                          <a:pt x="9" y="868"/>
                        </a:lnTo>
                        <a:lnTo>
                          <a:pt x="14" y="870"/>
                        </a:lnTo>
                        <a:lnTo>
                          <a:pt x="43" y="870"/>
                        </a:lnTo>
                        <a:lnTo>
                          <a:pt x="112" y="868"/>
                        </a:lnTo>
                        <a:lnTo>
                          <a:pt x="180" y="857"/>
                        </a:lnTo>
                        <a:lnTo>
                          <a:pt x="247" y="841"/>
                        </a:lnTo>
                        <a:lnTo>
                          <a:pt x="307" y="816"/>
                        </a:lnTo>
                        <a:lnTo>
                          <a:pt x="366" y="789"/>
                        </a:lnTo>
                        <a:lnTo>
                          <a:pt x="424" y="753"/>
                        </a:lnTo>
                        <a:lnTo>
                          <a:pt x="475" y="715"/>
                        </a:lnTo>
                        <a:lnTo>
                          <a:pt x="525" y="671"/>
                        </a:lnTo>
                        <a:lnTo>
                          <a:pt x="567" y="621"/>
                        </a:lnTo>
                        <a:lnTo>
                          <a:pt x="608" y="570"/>
                        </a:lnTo>
                        <a:lnTo>
                          <a:pt x="641" y="514"/>
                        </a:lnTo>
                        <a:lnTo>
                          <a:pt x="670" y="453"/>
                        </a:lnTo>
                        <a:lnTo>
                          <a:pt x="693" y="390"/>
                        </a:lnTo>
                        <a:lnTo>
                          <a:pt x="711" y="328"/>
                        </a:lnTo>
                        <a:lnTo>
                          <a:pt x="722" y="258"/>
                        </a:lnTo>
                        <a:lnTo>
                          <a:pt x="724" y="189"/>
                        </a:lnTo>
                        <a:lnTo>
                          <a:pt x="717" y="189"/>
                        </a:lnTo>
                        <a:lnTo>
                          <a:pt x="715" y="119"/>
                        </a:lnTo>
                        <a:lnTo>
                          <a:pt x="704" y="52"/>
                        </a:lnTo>
                        <a:lnTo>
                          <a:pt x="691" y="0"/>
                        </a:lnTo>
                        <a:lnTo>
                          <a:pt x="693" y="3"/>
                        </a:lnTo>
                        <a:lnTo>
                          <a:pt x="695" y="5"/>
                        </a:lnTo>
                        <a:lnTo>
                          <a:pt x="697" y="7"/>
                        </a:lnTo>
                        <a:lnTo>
                          <a:pt x="700" y="12"/>
                        </a:lnTo>
                        <a:lnTo>
                          <a:pt x="711" y="52"/>
                        </a:lnTo>
                        <a:lnTo>
                          <a:pt x="722" y="119"/>
                        </a:lnTo>
                        <a:lnTo>
                          <a:pt x="724" y="189"/>
                        </a:lnTo>
                        <a:lnTo>
                          <a:pt x="717" y="189"/>
                        </a:lnTo>
                        <a:lnTo>
                          <a:pt x="715" y="258"/>
                        </a:lnTo>
                        <a:lnTo>
                          <a:pt x="704" y="325"/>
                        </a:lnTo>
                        <a:lnTo>
                          <a:pt x="688" y="388"/>
                        </a:lnTo>
                        <a:lnTo>
                          <a:pt x="666" y="451"/>
                        </a:lnTo>
                        <a:lnTo>
                          <a:pt x="637" y="509"/>
                        </a:lnTo>
                        <a:lnTo>
                          <a:pt x="603" y="565"/>
                        </a:lnTo>
                        <a:lnTo>
                          <a:pt x="563" y="617"/>
                        </a:lnTo>
                        <a:lnTo>
                          <a:pt x="520" y="666"/>
                        </a:lnTo>
                        <a:lnTo>
                          <a:pt x="471" y="709"/>
                        </a:lnTo>
                        <a:lnTo>
                          <a:pt x="419" y="749"/>
                        </a:lnTo>
                        <a:lnTo>
                          <a:pt x="363" y="783"/>
                        </a:lnTo>
                        <a:lnTo>
                          <a:pt x="305" y="812"/>
                        </a:lnTo>
                        <a:lnTo>
                          <a:pt x="245" y="834"/>
                        </a:lnTo>
                        <a:lnTo>
                          <a:pt x="180" y="850"/>
                        </a:lnTo>
                        <a:lnTo>
                          <a:pt x="112" y="861"/>
                        </a:lnTo>
                        <a:lnTo>
                          <a:pt x="43" y="866"/>
                        </a:lnTo>
                        <a:lnTo>
                          <a:pt x="0" y="863"/>
                        </a:lnTo>
                        <a:close/>
                      </a:path>
                    </a:pathLst>
                  </a:custGeom>
                  <a:solidFill>
                    <a:srgbClr val="e3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1103040" y="1827000"/>
                    <a:ext cx="1157400" cy="13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872">
                        <a:moveTo>
                          <a:pt x="0" y="863"/>
                        </a:moveTo>
                        <a:lnTo>
                          <a:pt x="3" y="865"/>
                        </a:lnTo>
                        <a:lnTo>
                          <a:pt x="7" y="867"/>
                        </a:lnTo>
                        <a:lnTo>
                          <a:pt x="9" y="869"/>
                        </a:lnTo>
                        <a:lnTo>
                          <a:pt x="14" y="872"/>
                        </a:lnTo>
                        <a:lnTo>
                          <a:pt x="52" y="872"/>
                        </a:lnTo>
                        <a:lnTo>
                          <a:pt x="121" y="869"/>
                        </a:lnTo>
                        <a:lnTo>
                          <a:pt x="189" y="858"/>
                        </a:lnTo>
                        <a:lnTo>
                          <a:pt x="254" y="842"/>
                        </a:lnTo>
                        <a:lnTo>
                          <a:pt x="314" y="820"/>
                        </a:lnTo>
                        <a:lnTo>
                          <a:pt x="372" y="791"/>
                        </a:lnTo>
                        <a:lnTo>
                          <a:pt x="428" y="757"/>
                        </a:lnTo>
                        <a:lnTo>
                          <a:pt x="482" y="717"/>
                        </a:lnTo>
                        <a:lnTo>
                          <a:pt x="529" y="674"/>
                        </a:lnTo>
                        <a:lnTo>
                          <a:pt x="574" y="625"/>
                        </a:lnTo>
                        <a:lnTo>
                          <a:pt x="612" y="573"/>
                        </a:lnTo>
                        <a:lnTo>
                          <a:pt x="648" y="517"/>
                        </a:lnTo>
                        <a:lnTo>
                          <a:pt x="675" y="457"/>
                        </a:lnTo>
                        <a:lnTo>
                          <a:pt x="700" y="394"/>
                        </a:lnTo>
                        <a:lnTo>
                          <a:pt x="715" y="331"/>
                        </a:lnTo>
                        <a:lnTo>
                          <a:pt x="726" y="264"/>
                        </a:lnTo>
                        <a:lnTo>
                          <a:pt x="729" y="195"/>
                        </a:lnTo>
                        <a:lnTo>
                          <a:pt x="722" y="195"/>
                        </a:lnTo>
                        <a:lnTo>
                          <a:pt x="720" y="125"/>
                        </a:lnTo>
                        <a:lnTo>
                          <a:pt x="709" y="60"/>
                        </a:lnTo>
                        <a:lnTo>
                          <a:pt x="693" y="0"/>
                        </a:lnTo>
                        <a:lnTo>
                          <a:pt x="695" y="2"/>
                        </a:lnTo>
                        <a:lnTo>
                          <a:pt x="697" y="4"/>
                        </a:lnTo>
                        <a:lnTo>
                          <a:pt x="700" y="6"/>
                        </a:lnTo>
                        <a:lnTo>
                          <a:pt x="702" y="9"/>
                        </a:lnTo>
                        <a:lnTo>
                          <a:pt x="715" y="58"/>
                        </a:lnTo>
                        <a:lnTo>
                          <a:pt x="726" y="125"/>
                        </a:lnTo>
                        <a:lnTo>
                          <a:pt x="729" y="195"/>
                        </a:lnTo>
                        <a:lnTo>
                          <a:pt x="722" y="195"/>
                        </a:lnTo>
                        <a:lnTo>
                          <a:pt x="720" y="264"/>
                        </a:lnTo>
                        <a:lnTo>
                          <a:pt x="709" y="331"/>
                        </a:lnTo>
                        <a:lnTo>
                          <a:pt x="693" y="392"/>
                        </a:lnTo>
                        <a:lnTo>
                          <a:pt x="670" y="455"/>
                        </a:lnTo>
                        <a:lnTo>
                          <a:pt x="641" y="513"/>
                        </a:lnTo>
                        <a:lnTo>
                          <a:pt x="608" y="569"/>
                        </a:lnTo>
                        <a:lnTo>
                          <a:pt x="570" y="621"/>
                        </a:lnTo>
                        <a:lnTo>
                          <a:pt x="525" y="670"/>
                        </a:lnTo>
                        <a:lnTo>
                          <a:pt x="478" y="712"/>
                        </a:lnTo>
                        <a:lnTo>
                          <a:pt x="426" y="751"/>
                        </a:lnTo>
                        <a:lnTo>
                          <a:pt x="370" y="784"/>
                        </a:lnTo>
                        <a:lnTo>
                          <a:pt x="312" y="813"/>
                        </a:lnTo>
                        <a:lnTo>
                          <a:pt x="251" y="836"/>
                        </a:lnTo>
                        <a:lnTo>
                          <a:pt x="186" y="854"/>
                        </a:lnTo>
                        <a:lnTo>
                          <a:pt x="121" y="863"/>
                        </a:lnTo>
                        <a:lnTo>
                          <a:pt x="52" y="867"/>
                        </a:lnTo>
                        <a:lnTo>
                          <a:pt x="0" y="863"/>
                        </a:lnTo>
                        <a:close/>
                      </a:path>
                    </a:pathLst>
                  </a:custGeom>
                  <a:solidFill>
                    <a:srgbClr val="e3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093680" y="1812600"/>
                    <a:ext cx="1158840" cy="13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0" h="878">
                        <a:moveTo>
                          <a:pt x="0" y="867"/>
                        </a:moveTo>
                        <a:lnTo>
                          <a:pt x="2" y="869"/>
                        </a:lnTo>
                        <a:lnTo>
                          <a:pt x="4" y="872"/>
                        </a:lnTo>
                        <a:lnTo>
                          <a:pt x="6" y="874"/>
                        </a:lnTo>
                        <a:lnTo>
                          <a:pt x="11" y="874"/>
                        </a:lnTo>
                        <a:lnTo>
                          <a:pt x="58" y="878"/>
                        </a:lnTo>
                        <a:lnTo>
                          <a:pt x="127" y="874"/>
                        </a:lnTo>
                        <a:lnTo>
                          <a:pt x="195" y="863"/>
                        </a:lnTo>
                        <a:lnTo>
                          <a:pt x="260" y="847"/>
                        </a:lnTo>
                        <a:lnTo>
                          <a:pt x="318" y="825"/>
                        </a:lnTo>
                        <a:lnTo>
                          <a:pt x="378" y="795"/>
                        </a:lnTo>
                        <a:lnTo>
                          <a:pt x="432" y="762"/>
                        </a:lnTo>
                        <a:lnTo>
                          <a:pt x="486" y="724"/>
                        </a:lnTo>
                        <a:lnTo>
                          <a:pt x="533" y="679"/>
                        </a:lnTo>
                        <a:lnTo>
                          <a:pt x="578" y="632"/>
                        </a:lnTo>
                        <a:lnTo>
                          <a:pt x="616" y="580"/>
                        </a:lnTo>
                        <a:lnTo>
                          <a:pt x="650" y="524"/>
                        </a:lnTo>
                        <a:lnTo>
                          <a:pt x="679" y="464"/>
                        </a:lnTo>
                        <a:lnTo>
                          <a:pt x="701" y="403"/>
                        </a:lnTo>
                        <a:lnTo>
                          <a:pt x="717" y="340"/>
                        </a:lnTo>
                        <a:lnTo>
                          <a:pt x="728" y="273"/>
                        </a:lnTo>
                        <a:lnTo>
                          <a:pt x="730" y="204"/>
                        </a:lnTo>
                        <a:lnTo>
                          <a:pt x="726" y="204"/>
                        </a:lnTo>
                        <a:lnTo>
                          <a:pt x="721" y="136"/>
                        </a:lnTo>
                        <a:lnTo>
                          <a:pt x="710" y="69"/>
                        </a:lnTo>
                        <a:lnTo>
                          <a:pt x="694" y="4"/>
                        </a:lnTo>
                        <a:lnTo>
                          <a:pt x="692" y="0"/>
                        </a:lnTo>
                        <a:lnTo>
                          <a:pt x="694" y="4"/>
                        </a:lnTo>
                        <a:lnTo>
                          <a:pt x="699" y="6"/>
                        </a:lnTo>
                        <a:lnTo>
                          <a:pt x="701" y="9"/>
                        </a:lnTo>
                        <a:lnTo>
                          <a:pt x="703" y="11"/>
                        </a:lnTo>
                        <a:lnTo>
                          <a:pt x="717" y="67"/>
                        </a:lnTo>
                        <a:lnTo>
                          <a:pt x="728" y="134"/>
                        </a:lnTo>
                        <a:lnTo>
                          <a:pt x="730" y="204"/>
                        </a:lnTo>
                        <a:lnTo>
                          <a:pt x="726" y="204"/>
                        </a:lnTo>
                        <a:lnTo>
                          <a:pt x="721" y="273"/>
                        </a:lnTo>
                        <a:lnTo>
                          <a:pt x="710" y="338"/>
                        </a:lnTo>
                        <a:lnTo>
                          <a:pt x="694" y="401"/>
                        </a:lnTo>
                        <a:lnTo>
                          <a:pt x="672" y="461"/>
                        </a:lnTo>
                        <a:lnTo>
                          <a:pt x="643" y="520"/>
                        </a:lnTo>
                        <a:lnTo>
                          <a:pt x="609" y="576"/>
                        </a:lnTo>
                        <a:lnTo>
                          <a:pt x="571" y="627"/>
                        </a:lnTo>
                        <a:lnTo>
                          <a:pt x="529" y="674"/>
                        </a:lnTo>
                        <a:lnTo>
                          <a:pt x="481" y="719"/>
                        </a:lnTo>
                        <a:lnTo>
                          <a:pt x="430" y="757"/>
                        </a:lnTo>
                        <a:lnTo>
                          <a:pt x="374" y="791"/>
                        </a:lnTo>
                        <a:lnTo>
                          <a:pt x="316" y="818"/>
                        </a:lnTo>
                        <a:lnTo>
                          <a:pt x="257" y="840"/>
                        </a:lnTo>
                        <a:lnTo>
                          <a:pt x="192" y="858"/>
                        </a:lnTo>
                        <a:lnTo>
                          <a:pt x="125" y="867"/>
                        </a:lnTo>
                        <a:lnTo>
                          <a:pt x="58" y="872"/>
                        </a:lnTo>
                        <a:lnTo>
                          <a:pt x="0" y="867"/>
                        </a:lnTo>
                        <a:close/>
                      </a:path>
                    </a:pathLst>
                  </a:custGeom>
                  <a:solidFill>
                    <a:srgbClr val="e6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079280" y="1801800"/>
                    <a:ext cx="1166760" cy="139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5" h="881">
                        <a:moveTo>
                          <a:pt x="0" y="870"/>
                        </a:moveTo>
                        <a:lnTo>
                          <a:pt x="2" y="872"/>
                        </a:lnTo>
                        <a:lnTo>
                          <a:pt x="6" y="874"/>
                        </a:lnTo>
                        <a:lnTo>
                          <a:pt x="9" y="876"/>
                        </a:lnTo>
                        <a:lnTo>
                          <a:pt x="11" y="879"/>
                        </a:lnTo>
                        <a:lnTo>
                          <a:pt x="67" y="881"/>
                        </a:lnTo>
                        <a:lnTo>
                          <a:pt x="134" y="876"/>
                        </a:lnTo>
                        <a:lnTo>
                          <a:pt x="201" y="867"/>
                        </a:lnTo>
                        <a:lnTo>
                          <a:pt x="266" y="849"/>
                        </a:lnTo>
                        <a:lnTo>
                          <a:pt x="325" y="827"/>
                        </a:lnTo>
                        <a:lnTo>
                          <a:pt x="385" y="800"/>
                        </a:lnTo>
                        <a:lnTo>
                          <a:pt x="439" y="767"/>
                        </a:lnTo>
                        <a:lnTo>
                          <a:pt x="490" y="726"/>
                        </a:lnTo>
                        <a:lnTo>
                          <a:pt x="540" y="684"/>
                        </a:lnTo>
                        <a:lnTo>
                          <a:pt x="582" y="637"/>
                        </a:lnTo>
                        <a:lnTo>
                          <a:pt x="620" y="585"/>
                        </a:lnTo>
                        <a:lnTo>
                          <a:pt x="654" y="529"/>
                        </a:lnTo>
                        <a:lnTo>
                          <a:pt x="683" y="471"/>
                        </a:lnTo>
                        <a:lnTo>
                          <a:pt x="706" y="408"/>
                        </a:lnTo>
                        <a:lnTo>
                          <a:pt x="721" y="345"/>
                        </a:lnTo>
                        <a:lnTo>
                          <a:pt x="733" y="280"/>
                        </a:lnTo>
                        <a:lnTo>
                          <a:pt x="735" y="211"/>
                        </a:lnTo>
                        <a:lnTo>
                          <a:pt x="730" y="211"/>
                        </a:lnTo>
                        <a:lnTo>
                          <a:pt x="726" y="143"/>
                        </a:lnTo>
                        <a:lnTo>
                          <a:pt x="717" y="76"/>
                        </a:lnTo>
                        <a:lnTo>
                          <a:pt x="699" y="13"/>
                        </a:lnTo>
                        <a:lnTo>
                          <a:pt x="694" y="0"/>
                        </a:lnTo>
                        <a:lnTo>
                          <a:pt x="697" y="2"/>
                        </a:lnTo>
                        <a:lnTo>
                          <a:pt x="701" y="7"/>
                        </a:lnTo>
                        <a:lnTo>
                          <a:pt x="703" y="9"/>
                        </a:lnTo>
                        <a:lnTo>
                          <a:pt x="706" y="11"/>
                        </a:lnTo>
                        <a:lnTo>
                          <a:pt x="721" y="76"/>
                        </a:lnTo>
                        <a:lnTo>
                          <a:pt x="733" y="143"/>
                        </a:lnTo>
                        <a:lnTo>
                          <a:pt x="735" y="211"/>
                        </a:lnTo>
                        <a:lnTo>
                          <a:pt x="730" y="211"/>
                        </a:lnTo>
                        <a:lnTo>
                          <a:pt x="726" y="278"/>
                        </a:lnTo>
                        <a:lnTo>
                          <a:pt x="717" y="345"/>
                        </a:lnTo>
                        <a:lnTo>
                          <a:pt x="699" y="406"/>
                        </a:lnTo>
                        <a:lnTo>
                          <a:pt x="676" y="468"/>
                        </a:lnTo>
                        <a:lnTo>
                          <a:pt x="650" y="527"/>
                        </a:lnTo>
                        <a:lnTo>
                          <a:pt x="616" y="581"/>
                        </a:lnTo>
                        <a:lnTo>
                          <a:pt x="578" y="632"/>
                        </a:lnTo>
                        <a:lnTo>
                          <a:pt x="535" y="679"/>
                        </a:lnTo>
                        <a:lnTo>
                          <a:pt x="488" y="722"/>
                        </a:lnTo>
                        <a:lnTo>
                          <a:pt x="437" y="760"/>
                        </a:lnTo>
                        <a:lnTo>
                          <a:pt x="381" y="793"/>
                        </a:lnTo>
                        <a:lnTo>
                          <a:pt x="322" y="823"/>
                        </a:lnTo>
                        <a:lnTo>
                          <a:pt x="264" y="845"/>
                        </a:lnTo>
                        <a:lnTo>
                          <a:pt x="201" y="861"/>
                        </a:lnTo>
                        <a:lnTo>
                          <a:pt x="134" y="870"/>
                        </a:lnTo>
                        <a:lnTo>
                          <a:pt x="67" y="874"/>
                        </a:lnTo>
                        <a:lnTo>
                          <a:pt x="0" y="870"/>
                        </a:lnTo>
                        <a:close/>
                      </a:path>
                    </a:pathLst>
                  </a:custGeom>
                  <a:solidFill>
                    <a:srgbClr val="e6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1064880" y="1790640"/>
                    <a:ext cx="1177920" cy="14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2" h="883">
                        <a:moveTo>
                          <a:pt x="0" y="872"/>
                        </a:moveTo>
                        <a:lnTo>
                          <a:pt x="2" y="874"/>
                        </a:lnTo>
                        <a:lnTo>
                          <a:pt x="6" y="877"/>
                        </a:lnTo>
                        <a:lnTo>
                          <a:pt x="9" y="879"/>
                        </a:lnTo>
                        <a:lnTo>
                          <a:pt x="13" y="879"/>
                        </a:lnTo>
                        <a:lnTo>
                          <a:pt x="76" y="883"/>
                        </a:lnTo>
                        <a:lnTo>
                          <a:pt x="143" y="879"/>
                        </a:lnTo>
                        <a:lnTo>
                          <a:pt x="210" y="870"/>
                        </a:lnTo>
                        <a:lnTo>
                          <a:pt x="273" y="852"/>
                        </a:lnTo>
                        <a:lnTo>
                          <a:pt x="334" y="830"/>
                        </a:lnTo>
                        <a:lnTo>
                          <a:pt x="392" y="803"/>
                        </a:lnTo>
                        <a:lnTo>
                          <a:pt x="446" y="769"/>
                        </a:lnTo>
                        <a:lnTo>
                          <a:pt x="497" y="731"/>
                        </a:lnTo>
                        <a:lnTo>
                          <a:pt x="544" y="688"/>
                        </a:lnTo>
                        <a:lnTo>
                          <a:pt x="589" y="639"/>
                        </a:lnTo>
                        <a:lnTo>
                          <a:pt x="627" y="590"/>
                        </a:lnTo>
                        <a:lnTo>
                          <a:pt x="661" y="534"/>
                        </a:lnTo>
                        <a:lnTo>
                          <a:pt x="688" y="475"/>
                        </a:lnTo>
                        <a:lnTo>
                          <a:pt x="710" y="415"/>
                        </a:lnTo>
                        <a:lnTo>
                          <a:pt x="728" y="352"/>
                        </a:lnTo>
                        <a:lnTo>
                          <a:pt x="737" y="287"/>
                        </a:lnTo>
                        <a:lnTo>
                          <a:pt x="742" y="218"/>
                        </a:lnTo>
                        <a:lnTo>
                          <a:pt x="735" y="218"/>
                        </a:lnTo>
                        <a:lnTo>
                          <a:pt x="730" y="150"/>
                        </a:lnTo>
                        <a:lnTo>
                          <a:pt x="721" y="85"/>
                        </a:lnTo>
                        <a:lnTo>
                          <a:pt x="703" y="20"/>
                        </a:lnTo>
                        <a:lnTo>
                          <a:pt x="697" y="0"/>
                        </a:lnTo>
                        <a:lnTo>
                          <a:pt x="699" y="3"/>
                        </a:lnTo>
                        <a:lnTo>
                          <a:pt x="701" y="5"/>
                        </a:lnTo>
                        <a:lnTo>
                          <a:pt x="703" y="7"/>
                        </a:lnTo>
                        <a:lnTo>
                          <a:pt x="708" y="12"/>
                        </a:lnTo>
                        <a:lnTo>
                          <a:pt x="710" y="20"/>
                        </a:lnTo>
                        <a:lnTo>
                          <a:pt x="728" y="83"/>
                        </a:lnTo>
                        <a:lnTo>
                          <a:pt x="737" y="150"/>
                        </a:lnTo>
                        <a:lnTo>
                          <a:pt x="742" y="218"/>
                        </a:lnTo>
                        <a:lnTo>
                          <a:pt x="735" y="218"/>
                        </a:lnTo>
                        <a:lnTo>
                          <a:pt x="730" y="285"/>
                        </a:lnTo>
                        <a:lnTo>
                          <a:pt x="721" y="352"/>
                        </a:lnTo>
                        <a:lnTo>
                          <a:pt x="703" y="413"/>
                        </a:lnTo>
                        <a:lnTo>
                          <a:pt x="683" y="473"/>
                        </a:lnTo>
                        <a:lnTo>
                          <a:pt x="654" y="531"/>
                        </a:lnTo>
                        <a:lnTo>
                          <a:pt x="620" y="585"/>
                        </a:lnTo>
                        <a:lnTo>
                          <a:pt x="582" y="637"/>
                        </a:lnTo>
                        <a:lnTo>
                          <a:pt x="540" y="684"/>
                        </a:lnTo>
                        <a:lnTo>
                          <a:pt x="493" y="726"/>
                        </a:lnTo>
                        <a:lnTo>
                          <a:pt x="443" y="765"/>
                        </a:lnTo>
                        <a:lnTo>
                          <a:pt x="387" y="796"/>
                        </a:lnTo>
                        <a:lnTo>
                          <a:pt x="331" y="825"/>
                        </a:lnTo>
                        <a:lnTo>
                          <a:pt x="273" y="847"/>
                        </a:lnTo>
                        <a:lnTo>
                          <a:pt x="208" y="863"/>
                        </a:lnTo>
                        <a:lnTo>
                          <a:pt x="143" y="872"/>
                        </a:lnTo>
                        <a:lnTo>
                          <a:pt x="76" y="877"/>
                        </a:lnTo>
                        <a:lnTo>
                          <a:pt x="9" y="872"/>
                        </a:lnTo>
                        <a:lnTo>
                          <a:pt x="0" y="872"/>
                        </a:lnTo>
                        <a:close/>
                      </a:path>
                    </a:pathLst>
                  </a:custGeom>
                  <a:solidFill>
                    <a:srgbClr val="e6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050840" y="1780920"/>
                    <a:ext cx="1184040" cy="1405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885">
                        <a:moveTo>
                          <a:pt x="0" y="871"/>
                        </a:moveTo>
                        <a:lnTo>
                          <a:pt x="4" y="874"/>
                        </a:lnTo>
                        <a:lnTo>
                          <a:pt x="6" y="876"/>
                        </a:lnTo>
                        <a:lnTo>
                          <a:pt x="11" y="878"/>
                        </a:lnTo>
                        <a:lnTo>
                          <a:pt x="13" y="880"/>
                        </a:lnTo>
                        <a:lnTo>
                          <a:pt x="18" y="880"/>
                        </a:lnTo>
                        <a:lnTo>
                          <a:pt x="85" y="885"/>
                        </a:lnTo>
                        <a:lnTo>
                          <a:pt x="152" y="880"/>
                        </a:lnTo>
                        <a:lnTo>
                          <a:pt x="217" y="871"/>
                        </a:lnTo>
                        <a:lnTo>
                          <a:pt x="282" y="856"/>
                        </a:lnTo>
                        <a:lnTo>
                          <a:pt x="340" y="833"/>
                        </a:lnTo>
                        <a:lnTo>
                          <a:pt x="399" y="804"/>
                        </a:lnTo>
                        <a:lnTo>
                          <a:pt x="452" y="771"/>
                        </a:lnTo>
                        <a:lnTo>
                          <a:pt x="504" y="732"/>
                        </a:lnTo>
                        <a:lnTo>
                          <a:pt x="551" y="690"/>
                        </a:lnTo>
                        <a:lnTo>
                          <a:pt x="594" y="643"/>
                        </a:lnTo>
                        <a:lnTo>
                          <a:pt x="632" y="591"/>
                        </a:lnTo>
                        <a:lnTo>
                          <a:pt x="665" y="537"/>
                        </a:lnTo>
                        <a:lnTo>
                          <a:pt x="692" y="479"/>
                        </a:lnTo>
                        <a:lnTo>
                          <a:pt x="715" y="419"/>
                        </a:lnTo>
                        <a:lnTo>
                          <a:pt x="733" y="358"/>
                        </a:lnTo>
                        <a:lnTo>
                          <a:pt x="742" y="291"/>
                        </a:lnTo>
                        <a:lnTo>
                          <a:pt x="746" y="224"/>
                        </a:lnTo>
                        <a:lnTo>
                          <a:pt x="739" y="224"/>
                        </a:lnTo>
                        <a:lnTo>
                          <a:pt x="735" y="156"/>
                        </a:lnTo>
                        <a:lnTo>
                          <a:pt x="726" y="91"/>
                        </a:lnTo>
                        <a:lnTo>
                          <a:pt x="710" y="29"/>
                        </a:lnTo>
                        <a:lnTo>
                          <a:pt x="699" y="0"/>
                        </a:lnTo>
                        <a:lnTo>
                          <a:pt x="701" y="2"/>
                        </a:lnTo>
                        <a:lnTo>
                          <a:pt x="703" y="4"/>
                        </a:lnTo>
                        <a:lnTo>
                          <a:pt x="706" y="6"/>
                        </a:lnTo>
                        <a:lnTo>
                          <a:pt x="708" y="9"/>
                        </a:lnTo>
                        <a:lnTo>
                          <a:pt x="715" y="26"/>
                        </a:lnTo>
                        <a:lnTo>
                          <a:pt x="733" y="89"/>
                        </a:lnTo>
                        <a:lnTo>
                          <a:pt x="742" y="156"/>
                        </a:lnTo>
                        <a:lnTo>
                          <a:pt x="746" y="224"/>
                        </a:lnTo>
                        <a:lnTo>
                          <a:pt x="739" y="224"/>
                        </a:lnTo>
                        <a:lnTo>
                          <a:pt x="735" y="291"/>
                        </a:lnTo>
                        <a:lnTo>
                          <a:pt x="726" y="356"/>
                        </a:lnTo>
                        <a:lnTo>
                          <a:pt x="710" y="416"/>
                        </a:lnTo>
                        <a:lnTo>
                          <a:pt x="688" y="477"/>
                        </a:lnTo>
                        <a:lnTo>
                          <a:pt x="659" y="535"/>
                        </a:lnTo>
                        <a:lnTo>
                          <a:pt x="627" y="589"/>
                        </a:lnTo>
                        <a:lnTo>
                          <a:pt x="589" y="638"/>
                        </a:lnTo>
                        <a:lnTo>
                          <a:pt x="547" y="685"/>
                        </a:lnTo>
                        <a:lnTo>
                          <a:pt x="500" y="728"/>
                        </a:lnTo>
                        <a:lnTo>
                          <a:pt x="450" y="766"/>
                        </a:lnTo>
                        <a:lnTo>
                          <a:pt x="394" y="800"/>
                        </a:lnTo>
                        <a:lnTo>
                          <a:pt x="338" y="827"/>
                        </a:lnTo>
                        <a:lnTo>
                          <a:pt x="280" y="849"/>
                        </a:lnTo>
                        <a:lnTo>
                          <a:pt x="217" y="865"/>
                        </a:lnTo>
                        <a:lnTo>
                          <a:pt x="152" y="876"/>
                        </a:lnTo>
                        <a:lnTo>
                          <a:pt x="85" y="878"/>
                        </a:lnTo>
                        <a:lnTo>
                          <a:pt x="18" y="876"/>
                        </a:lnTo>
                        <a:lnTo>
                          <a:pt x="0" y="871"/>
                        </a:lnTo>
                        <a:close/>
                      </a:path>
                    </a:pathLst>
                  </a:custGeom>
                  <a:solidFill>
                    <a:srgbClr val="e6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039680" y="1769760"/>
                    <a:ext cx="1189080" cy="140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887">
                        <a:moveTo>
                          <a:pt x="0" y="874"/>
                        </a:moveTo>
                        <a:lnTo>
                          <a:pt x="2" y="876"/>
                        </a:lnTo>
                        <a:lnTo>
                          <a:pt x="4" y="878"/>
                        </a:lnTo>
                        <a:lnTo>
                          <a:pt x="9" y="881"/>
                        </a:lnTo>
                        <a:lnTo>
                          <a:pt x="11" y="883"/>
                        </a:lnTo>
                        <a:lnTo>
                          <a:pt x="25" y="885"/>
                        </a:lnTo>
                        <a:lnTo>
                          <a:pt x="92" y="887"/>
                        </a:lnTo>
                        <a:lnTo>
                          <a:pt x="159" y="885"/>
                        </a:lnTo>
                        <a:lnTo>
                          <a:pt x="224" y="874"/>
                        </a:lnTo>
                        <a:lnTo>
                          <a:pt x="287" y="858"/>
                        </a:lnTo>
                        <a:lnTo>
                          <a:pt x="345" y="836"/>
                        </a:lnTo>
                        <a:lnTo>
                          <a:pt x="403" y="809"/>
                        </a:lnTo>
                        <a:lnTo>
                          <a:pt x="457" y="775"/>
                        </a:lnTo>
                        <a:lnTo>
                          <a:pt x="509" y="737"/>
                        </a:lnTo>
                        <a:lnTo>
                          <a:pt x="556" y="695"/>
                        </a:lnTo>
                        <a:lnTo>
                          <a:pt x="598" y="648"/>
                        </a:lnTo>
                        <a:lnTo>
                          <a:pt x="636" y="596"/>
                        </a:lnTo>
                        <a:lnTo>
                          <a:pt x="668" y="542"/>
                        </a:lnTo>
                        <a:lnTo>
                          <a:pt x="697" y="486"/>
                        </a:lnTo>
                        <a:lnTo>
                          <a:pt x="719" y="426"/>
                        </a:lnTo>
                        <a:lnTo>
                          <a:pt x="735" y="363"/>
                        </a:lnTo>
                        <a:lnTo>
                          <a:pt x="744" y="298"/>
                        </a:lnTo>
                        <a:lnTo>
                          <a:pt x="749" y="231"/>
                        </a:lnTo>
                        <a:lnTo>
                          <a:pt x="742" y="231"/>
                        </a:lnTo>
                        <a:lnTo>
                          <a:pt x="737" y="163"/>
                        </a:lnTo>
                        <a:lnTo>
                          <a:pt x="728" y="98"/>
                        </a:lnTo>
                        <a:lnTo>
                          <a:pt x="713" y="38"/>
                        </a:lnTo>
                        <a:lnTo>
                          <a:pt x="699" y="0"/>
                        </a:lnTo>
                        <a:lnTo>
                          <a:pt x="701" y="2"/>
                        </a:lnTo>
                        <a:lnTo>
                          <a:pt x="704" y="4"/>
                        </a:lnTo>
                        <a:lnTo>
                          <a:pt x="706" y="7"/>
                        </a:lnTo>
                        <a:lnTo>
                          <a:pt x="708" y="9"/>
                        </a:lnTo>
                        <a:lnTo>
                          <a:pt x="719" y="36"/>
                        </a:lnTo>
                        <a:lnTo>
                          <a:pt x="735" y="98"/>
                        </a:lnTo>
                        <a:lnTo>
                          <a:pt x="744" y="163"/>
                        </a:lnTo>
                        <a:lnTo>
                          <a:pt x="749" y="231"/>
                        </a:lnTo>
                        <a:lnTo>
                          <a:pt x="742" y="231"/>
                        </a:lnTo>
                        <a:lnTo>
                          <a:pt x="737" y="298"/>
                        </a:lnTo>
                        <a:lnTo>
                          <a:pt x="728" y="363"/>
                        </a:lnTo>
                        <a:lnTo>
                          <a:pt x="713" y="423"/>
                        </a:lnTo>
                        <a:lnTo>
                          <a:pt x="690" y="482"/>
                        </a:lnTo>
                        <a:lnTo>
                          <a:pt x="663" y="540"/>
                        </a:lnTo>
                        <a:lnTo>
                          <a:pt x="630" y="594"/>
                        </a:lnTo>
                        <a:lnTo>
                          <a:pt x="592" y="643"/>
                        </a:lnTo>
                        <a:lnTo>
                          <a:pt x="551" y="690"/>
                        </a:lnTo>
                        <a:lnTo>
                          <a:pt x="504" y="733"/>
                        </a:lnTo>
                        <a:lnTo>
                          <a:pt x="455" y="769"/>
                        </a:lnTo>
                        <a:lnTo>
                          <a:pt x="401" y="802"/>
                        </a:lnTo>
                        <a:lnTo>
                          <a:pt x="343" y="829"/>
                        </a:lnTo>
                        <a:lnTo>
                          <a:pt x="285" y="852"/>
                        </a:lnTo>
                        <a:lnTo>
                          <a:pt x="224" y="867"/>
                        </a:lnTo>
                        <a:lnTo>
                          <a:pt x="159" y="878"/>
                        </a:lnTo>
                        <a:lnTo>
                          <a:pt x="92" y="881"/>
                        </a:lnTo>
                        <a:lnTo>
                          <a:pt x="25" y="878"/>
                        </a:lnTo>
                        <a:lnTo>
                          <a:pt x="0" y="874"/>
                        </a:lnTo>
                        <a:close/>
                      </a:path>
                    </a:pathLst>
                  </a:custGeom>
                  <a:solidFill>
                    <a:srgbClr val="e6c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25280" y="1758600"/>
                    <a:ext cx="1195560" cy="14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3" h="890">
                        <a:moveTo>
                          <a:pt x="0" y="876"/>
                        </a:moveTo>
                        <a:lnTo>
                          <a:pt x="2" y="876"/>
                        </a:lnTo>
                        <a:lnTo>
                          <a:pt x="7" y="879"/>
                        </a:lnTo>
                        <a:lnTo>
                          <a:pt x="9" y="881"/>
                        </a:lnTo>
                        <a:lnTo>
                          <a:pt x="11" y="883"/>
                        </a:lnTo>
                        <a:lnTo>
                          <a:pt x="34" y="888"/>
                        </a:lnTo>
                        <a:lnTo>
                          <a:pt x="101" y="890"/>
                        </a:lnTo>
                        <a:lnTo>
                          <a:pt x="168" y="888"/>
                        </a:lnTo>
                        <a:lnTo>
                          <a:pt x="233" y="876"/>
                        </a:lnTo>
                        <a:lnTo>
                          <a:pt x="296" y="861"/>
                        </a:lnTo>
                        <a:lnTo>
                          <a:pt x="352" y="838"/>
                        </a:lnTo>
                        <a:lnTo>
                          <a:pt x="410" y="811"/>
                        </a:lnTo>
                        <a:lnTo>
                          <a:pt x="464" y="778"/>
                        </a:lnTo>
                        <a:lnTo>
                          <a:pt x="516" y="740"/>
                        </a:lnTo>
                        <a:lnTo>
                          <a:pt x="560" y="699"/>
                        </a:lnTo>
                        <a:lnTo>
                          <a:pt x="603" y="652"/>
                        </a:lnTo>
                        <a:lnTo>
                          <a:pt x="641" y="601"/>
                        </a:lnTo>
                        <a:lnTo>
                          <a:pt x="675" y="547"/>
                        </a:lnTo>
                        <a:lnTo>
                          <a:pt x="702" y="491"/>
                        </a:lnTo>
                        <a:lnTo>
                          <a:pt x="724" y="430"/>
                        </a:lnTo>
                        <a:lnTo>
                          <a:pt x="740" y="370"/>
                        </a:lnTo>
                        <a:lnTo>
                          <a:pt x="749" y="305"/>
                        </a:lnTo>
                        <a:lnTo>
                          <a:pt x="753" y="238"/>
                        </a:lnTo>
                        <a:lnTo>
                          <a:pt x="746" y="238"/>
                        </a:lnTo>
                        <a:lnTo>
                          <a:pt x="744" y="173"/>
                        </a:lnTo>
                        <a:lnTo>
                          <a:pt x="733" y="108"/>
                        </a:lnTo>
                        <a:lnTo>
                          <a:pt x="717" y="45"/>
                        </a:lnTo>
                        <a:lnTo>
                          <a:pt x="702" y="0"/>
                        </a:lnTo>
                        <a:lnTo>
                          <a:pt x="704" y="2"/>
                        </a:lnTo>
                        <a:lnTo>
                          <a:pt x="706" y="5"/>
                        </a:lnTo>
                        <a:lnTo>
                          <a:pt x="708" y="7"/>
                        </a:lnTo>
                        <a:lnTo>
                          <a:pt x="710" y="9"/>
                        </a:lnTo>
                        <a:lnTo>
                          <a:pt x="724" y="43"/>
                        </a:lnTo>
                        <a:lnTo>
                          <a:pt x="740" y="105"/>
                        </a:lnTo>
                        <a:lnTo>
                          <a:pt x="749" y="170"/>
                        </a:lnTo>
                        <a:lnTo>
                          <a:pt x="753" y="238"/>
                        </a:lnTo>
                        <a:lnTo>
                          <a:pt x="746" y="238"/>
                        </a:lnTo>
                        <a:lnTo>
                          <a:pt x="744" y="305"/>
                        </a:lnTo>
                        <a:lnTo>
                          <a:pt x="733" y="368"/>
                        </a:lnTo>
                        <a:lnTo>
                          <a:pt x="717" y="428"/>
                        </a:lnTo>
                        <a:lnTo>
                          <a:pt x="695" y="489"/>
                        </a:lnTo>
                        <a:lnTo>
                          <a:pt x="668" y="545"/>
                        </a:lnTo>
                        <a:lnTo>
                          <a:pt x="637" y="599"/>
                        </a:lnTo>
                        <a:lnTo>
                          <a:pt x="598" y="648"/>
                        </a:lnTo>
                        <a:lnTo>
                          <a:pt x="556" y="695"/>
                        </a:lnTo>
                        <a:lnTo>
                          <a:pt x="511" y="735"/>
                        </a:lnTo>
                        <a:lnTo>
                          <a:pt x="462" y="773"/>
                        </a:lnTo>
                        <a:lnTo>
                          <a:pt x="408" y="805"/>
                        </a:lnTo>
                        <a:lnTo>
                          <a:pt x="350" y="834"/>
                        </a:lnTo>
                        <a:lnTo>
                          <a:pt x="294" y="854"/>
                        </a:lnTo>
                        <a:lnTo>
                          <a:pt x="231" y="870"/>
                        </a:lnTo>
                        <a:lnTo>
                          <a:pt x="166" y="881"/>
                        </a:lnTo>
                        <a:lnTo>
                          <a:pt x="101" y="883"/>
                        </a:lnTo>
                        <a:lnTo>
                          <a:pt x="34" y="881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1014120" y="1747800"/>
                    <a:ext cx="1200240" cy="14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6" h="892">
                        <a:moveTo>
                          <a:pt x="0" y="877"/>
                        </a:moveTo>
                        <a:lnTo>
                          <a:pt x="3" y="879"/>
                        </a:lnTo>
                        <a:lnTo>
                          <a:pt x="5" y="881"/>
                        </a:lnTo>
                        <a:lnTo>
                          <a:pt x="7" y="883"/>
                        </a:lnTo>
                        <a:lnTo>
                          <a:pt x="12" y="886"/>
                        </a:lnTo>
                        <a:lnTo>
                          <a:pt x="41" y="890"/>
                        </a:lnTo>
                        <a:lnTo>
                          <a:pt x="108" y="892"/>
                        </a:lnTo>
                        <a:lnTo>
                          <a:pt x="175" y="890"/>
                        </a:lnTo>
                        <a:lnTo>
                          <a:pt x="238" y="879"/>
                        </a:lnTo>
                        <a:lnTo>
                          <a:pt x="301" y="863"/>
                        </a:lnTo>
                        <a:lnTo>
                          <a:pt x="359" y="841"/>
                        </a:lnTo>
                        <a:lnTo>
                          <a:pt x="415" y="814"/>
                        </a:lnTo>
                        <a:lnTo>
                          <a:pt x="469" y="783"/>
                        </a:lnTo>
                        <a:lnTo>
                          <a:pt x="518" y="744"/>
                        </a:lnTo>
                        <a:lnTo>
                          <a:pt x="565" y="702"/>
                        </a:lnTo>
                        <a:lnTo>
                          <a:pt x="608" y="657"/>
                        </a:lnTo>
                        <a:lnTo>
                          <a:pt x="646" y="606"/>
                        </a:lnTo>
                        <a:lnTo>
                          <a:pt x="677" y="552"/>
                        </a:lnTo>
                        <a:lnTo>
                          <a:pt x="704" y="496"/>
                        </a:lnTo>
                        <a:lnTo>
                          <a:pt x="726" y="435"/>
                        </a:lnTo>
                        <a:lnTo>
                          <a:pt x="742" y="377"/>
                        </a:lnTo>
                        <a:lnTo>
                          <a:pt x="753" y="312"/>
                        </a:lnTo>
                        <a:lnTo>
                          <a:pt x="756" y="245"/>
                        </a:lnTo>
                        <a:lnTo>
                          <a:pt x="749" y="245"/>
                        </a:lnTo>
                        <a:lnTo>
                          <a:pt x="747" y="180"/>
                        </a:lnTo>
                        <a:lnTo>
                          <a:pt x="735" y="115"/>
                        </a:lnTo>
                        <a:lnTo>
                          <a:pt x="720" y="54"/>
                        </a:lnTo>
                        <a:lnTo>
                          <a:pt x="702" y="0"/>
                        </a:lnTo>
                        <a:lnTo>
                          <a:pt x="704" y="3"/>
                        </a:lnTo>
                        <a:lnTo>
                          <a:pt x="706" y="5"/>
                        </a:lnTo>
                        <a:lnTo>
                          <a:pt x="709" y="7"/>
                        </a:lnTo>
                        <a:lnTo>
                          <a:pt x="711" y="9"/>
                        </a:lnTo>
                        <a:lnTo>
                          <a:pt x="726" y="52"/>
                        </a:lnTo>
                        <a:lnTo>
                          <a:pt x="742" y="115"/>
                        </a:lnTo>
                        <a:lnTo>
                          <a:pt x="753" y="177"/>
                        </a:lnTo>
                        <a:lnTo>
                          <a:pt x="756" y="245"/>
                        </a:lnTo>
                        <a:lnTo>
                          <a:pt x="749" y="245"/>
                        </a:lnTo>
                        <a:lnTo>
                          <a:pt x="747" y="310"/>
                        </a:lnTo>
                        <a:lnTo>
                          <a:pt x="735" y="375"/>
                        </a:lnTo>
                        <a:lnTo>
                          <a:pt x="720" y="435"/>
                        </a:lnTo>
                        <a:lnTo>
                          <a:pt x="700" y="493"/>
                        </a:lnTo>
                        <a:lnTo>
                          <a:pt x="670" y="550"/>
                        </a:lnTo>
                        <a:lnTo>
                          <a:pt x="639" y="603"/>
                        </a:lnTo>
                        <a:lnTo>
                          <a:pt x="603" y="653"/>
                        </a:lnTo>
                        <a:lnTo>
                          <a:pt x="561" y="697"/>
                        </a:lnTo>
                        <a:lnTo>
                          <a:pt x="516" y="740"/>
                        </a:lnTo>
                        <a:lnTo>
                          <a:pt x="466" y="776"/>
                        </a:lnTo>
                        <a:lnTo>
                          <a:pt x="413" y="809"/>
                        </a:lnTo>
                        <a:lnTo>
                          <a:pt x="357" y="836"/>
                        </a:lnTo>
                        <a:lnTo>
                          <a:pt x="298" y="859"/>
                        </a:lnTo>
                        <a:lnTo>
                          <a:pt x="238" y="874"/>
                        </a:lnTo>
                        <a:lnTo>
                          <a:pt x="173" y="883"/>
                        </a:lnTo>
                        <a:lnTo>
                          <a:pt x="108" y="886"/>
                        </a:lnTo>
                        <a:lnTo>
                          <a:pt x="43" y="883"/>
                        </a:lnTo>
                        <a:lnTo>
                          <a:pt x="0" y="877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1000080" y="1741320"/>
                    <a:ext cx="1206360" cy="14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92">
                        <a:moveTo>
                          <a:pt x="0" y="876"/>
                        </a:moveTo>
                        <a:lnTo>
                          <a:pt x="5" y="878"/>
                        </a:lnTo>
                        <a:lnTo>
                          <a:pt x="7" y="878"/>
                        </a:lnTo>
                        <a:lnTo>
                          <a:pt x="9" y="881"/>
                        </a:lnTo>
                        <a:lnTo>
                          <a:pt x="12" y="883"/>
                        </a:lnTo>
                        <a:lnTo>
                          <a:pt x="50" y="890"/>
                        </a:lnTo>
                        <a:lnTo>
                          <a:pt x="117" y="892"/>
                        </a:lnTo>
                        <a:lnTo>
                          <a:pt x="182" y="890"/>
                        </a:lnTo>
                        <a:lnTo>
                          <a:pt x="247" y="878"/>
                        </a:lnTo>
                        <a:lnTo>
                          <a:pt x="310" y="863"/>
                        </a:lnTo>
                        <a:lnTo>
                          <a:pt x="366" y="843"/>
                        </a:lnTo>
                        <a:lnTo>
                          <a:pt x="422" y="816"/>
                        </a:lnTo>
                        <a:lnTo>
                          <a:pt x="475" y="782"/>
                        </a:lnTo>
                        <a:lnTo>
                          <a:pt x="525" y="746"/>
                        </a:lnTo>
                        <a:lnTo>
                          <a:pt x="572" y="704"/>
                        </a:lnTo>
                        <a:lnTo>
                          <a:pt x="612" y="657"/>
                        </a:lnTo>
                        <a:lnTo>
                          <a:pt x="650" y="607"/>
                        </a:lnTo>
                        <a:lnTo>
                          <a:pt x="682" y="554"/>
                        </a:lnTo>
                        <a:lnTo>
                          <a:pt x="709" y="497"/>
                        </a:lnTo>
                        <a:lnTo>
                          <a:pt x="731" y="439"/>
                        </a:lnTo>
                        <a:lnTo>
                          <a:pt x="747" y="379"/>
                        </a:lnTo>
                        <a:lnTo>
                          <a:pt x="758" y="316"/>
                        </a:lnTo>
                        <a:lnTo>
                          <a:pt x="760" y="249"/>
                        </a:lnTo>
                        <a:lnTo>
                          <a:pt x="753" y="249"/>
                        </a:lnTo>
                        <a:lnTo>
                          <a:pt x="751" y="184"/>
                        </a:lnTo>
                        <a:lnTo>
                          <a:pt x="740" y="121"/>
                        </a:lnTo>
                        <a:lnTo>
                          <a:pt x="724" y="58"/>
                        </a:lnTo>
                        <a:lnTo>
                          <a:pt x="704" y="0"/>
                        </a:lnTo>
                        <a:lnTo>
                          <a:pt x="704" y="0"/>
                        </a:lnTo>
                        <a:lnTo>
                          <a:pt x="706" y="2"/>
                        </a:lnTo>
                        <a:lnTo>
                          <a:pt x="709" y="4"/>
                        </a:lnTo>
                        <a:lnTo>
                          <a:pt x="711" y="4"/>
                        </a:lnTo>
                        <a:lnTo>
                          <a:pt x="713" y="7"/>
                        </a:lnTo>
                        <a:lnTo>
                          <a:pt x="731" y="56"/>
                        </a:lnTo>
                        <a:lnTo>
                          <a:pt x="747" y="119"/>
                        </a:lnTo>
                        <a:lnTo>
                          <a:pt x="758" y="184"/>
                        </a:lnTo>
                        <a:lnTo>
                          <a:pt x="760" y="249"/>
                        </a:lnTo>
                        <a:lnTo>
                          <a:pt x="753" y="249"/>
                        </a:lnTo>
                        <a:lnTo>
                          <a:pt x="751" y="314"/>
                        </a:lnTo>
                        <a:lnTo>
                          <a:pt x="740" y="379"/>
                        </a:lnTo>
                        <a:lnTo>
                          <a:pt x="724" y="437"/>
                        </a:lnTo>
                        <a:lnTo>
                          <a:pt x="704" y="495"/>
                        </a:lnTo>
                        <a:lnTo>
                          <a:pt x="677" y="551"/>
                        </a:lnTo>
                        <a:lnTo>
                          <a:pt x="646" y="605"/>
                        </a:lnTo>
                        <a:lnTo>
                          <a:pt x="608" y="654"/>
                        </a:lnTo>
                        <a:lnTo>
                          <a:pt x="567" y="699"/>
                        </a:lnTo>
                        <a:lnTo>
                          <a:pt x="520" y="740"/>
                        </a:lnTo>
                        <a:lnTo>
                          <a:pt x="471" y="778"/>
                        </a:lnTo>
                        <a:lnTo>
                          <a:pt x="419" y="809"/>
                        </a:lnTo>
                        <a:lnTo>
                          <a:pt x="363" y="836"/>
                        </a:lnTo>
                        <a:lnTo>
                          <a:pt x="307" y="858"/>
                        </a:lnTo>
                        <a:lnTo>
                          <a:pt x="245" y="874"/>
                        </a:lnTo>
                        <a:lnTo>
                          <a:pt x="182" y="883"/>
                        </a:lnTo>
                        <a:lnTo>
                          <a:pt x="117" y="887"/>
                        </a:lnTo>
                        <a:lnTo>
                          <a:pt x="52" y="883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990360" y="1730160"/>
                    <a:ext cx="1209600" cy="14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762" h="894">
                        <a:moveTo>
                          <a:pt x="0" y="877"/>
                        </a:moveTo>
                        <a:lnTo>
                          <a:pt x="4" y="879"/>
                        </a:lnTo>
                        <a:lnTo>
                          <a:pt x="6" y="881"/>
                        </a:lnTo>
                        <a:lnTo>
                          <a:pt x="9" y="883"/>
                        </a:lnTo>
                        <a:lnTo>
                          <a:pt x="11" y="885"/>
                        </a:lnTo>
                        <a:lnTo>
                          <a:pt x="58" y="892"/>
                        </a:lnTo>
                        <a:lnTo>
                          <a:pt x="123" y="894"/>
                        </a:lnTo>
                        <a:lnTo>
                          <a:pt x="188" y="892"/>
                        </a:lnTo>
                        <a:lnTo>
                          <a:pt x="253" y="883"/>
                        </a:lnTo>
                        <a:lnTo>
                          <a:pt x="313" y="868"/>
                        </a:lnTo>
                        <a:lnTo>
                          <a:pt x="369" y="845"/>
                        </a:lnTo>
                        <a:lnTo>
                          <a:pt x="425" y="818"/>
                        </a:lnTo>
                        <a:lnTo>
                          <a:pt x="479" y="787"/>
                        </a:lnTo>
                        <a:lnTo>
                          <a:pt x="529" y="749"/>
                        </a:lnTo>
                        <a:lnTo>
                          <a:pt x="573" y="708"/>
                        </a:lnTo>
                        <a:lnTo>
                          <a:pt x="616" y="661"/>
                        </a:lnTo>
                        <a:lnTo>
                          <a:pt x="652" y="612"/>
                        </a:lnTo>
                        <a:lnTo>
                          <a:pt x="685" y="561"/>
                        </a:lnTo>
                        <a:lnTo>
                          <a:pt x="712" y="504"/>
                        </a:lnTo>
                        <a:lnTo>
                          <a:pt x="732" y="444"/>
                        </a:lnTo>
                        <a:lnTo>
                          <a:pt x="748" y="386"/>
                        </a:lnTo>
                        <a:lnTo>
                          <a:pt x="759" y="321"/>
                        </a:lnTo>
                        <a:lnTo>
                          <a:pt x="762" y="256"/>
                        </a:lnTo>
                        <a:lnTo>
                          <a:pt x="755" y="256"/>
                        </a:lnTo>
                        <a:lnTo>
                          <a:pt x="753" y="191"/>
                        </a:lnTo>
                        <a:lnTo>
                          <a:pt x="744" y="128"/>
                        </a:lnTo>
                        <a:lnTo>
                          <a:pt x="728" y="67"/>
                        </a:lnTo>
                        <a:lnTo>
                          <a:pt x="706" y="9"/>
                        </a:lnTo>
                        <a:lnTo>
                          <a:pt x="701" y="0"/>
                        </a:lnTo>
                        <a:lnTo>
                          <a:pt x="703" y="2"/>
                        </a:lnTo>
                        <a:lnTo>
                          <a:pt x="708" y="5"/>
                        </a:lnTo>
                        <a:lnTo>
                          <a:pt x="710" y="7"/>
                        </a:lnTo>
                        <a:lnTo>
                          <a:pt x="712" y="9"/>
                        </a:lnTo>
                        <a:lnTo>
                          <a:pt x="732" y="65"/>
                        </a:lnTo>
                        <a:lnTo>
                          <a:pt x="748" y="126"/>
                        </a:lnTo>
                        <a:lnTo>
                          <a:pt x="759" y="191"/>
                        </a:lnTo>
                        <a:lnTo>
                          <a:pt x="762" y="256"/>
                        </a:lnTo>
                        <a:lnTo>
                          <a:pt x="755" y="256"/>
                        </a:lnTo>
                        <a:lnTo>
                          <a:pt x="753" y="321"/>
                        </a:lnTo>
                        <a:lnTo>
                          <a:pt x="744" y="383"/>
                        </a:lnTo>
                        <a:lnTo>
                          <a:pt x="728" y="442"/>
                        </a:lnTo>
                        <a:lnTo>
                          <a:pt x="706" y="500"/>
                        </a:lnTo>
                        <a:lnTo>
                          <a:pt x="679" y="556"/>
                        </a:lnTo>
                        <a:lnTo>
                          <a:pt x="647" y="610"/>
                        </a:lnTo>
                        <a:lnTo>
                          <a:pt x="611" y="657"/>
                        </a:lnTo>
                        <a:lnTo>
                          <a:pt x="569" y="704"/>
                        </a:lnTo>
                        <a:lnTo>
                          <a:pt x="524" y="744"/>
                        </a:lnTo>
                        <a:lnTo>
                          <a:pt x="475" y="780"/>
                        </a:lnTo>
                        <a:lnTo>
                          <a:pt x="423" y="812"/>
                        </a:lnTo>
                        <a:lnTo>
                          <a:pt x="367" y="838"/>
                        </a:lnTo>
                        <a:lnTo>
                          <a:pt x="311" y="861"/>
                        </a:lnTo>
                        <a:lnTo>
                          <a:pt x="251" y="877"/>
                        </a:lnTo>
                        <a:lnTo>
                          <a:pt x="188" y="885"/>
                        </a:lnTo>
                        <a:lnTo>
                          <a:pt x="123" y="890"/>
                        </a:lnTo>
                        <a:lnTo>
                          <a:pt x="58" y="885"/>
                        </a:lnTo>
                        <a:lnTo>
                          <a:pt x="0" y="877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979200" y="1719000"/>
                    <a:ext cx="1212840" cy="14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899">
                        <a:moveTo>
                          <a:pt x="0" y="879"/>
                        </a:moveTo>
                        <a:lnTo>
                          <a:pt x="4" y="881"/>
                        </a:lnTo>
                        <a:lnTo>
                          <a:pt x="7" y="884"/>
                        </a:lnTo>
                        <a:lnTo>
                          <a:pt x="9" y="886"/>
                        </a:lnTo>
                        <a:lnTo>
                          <a:pt x="11" y="888"/>
                        </a:lnTo>
                        <a:lnTo>
                          <a:pt x="65" y="895"/>
                        </a:lnTo>
                        <a:lnTo>
                          <a:pt x="130" y="899"/>
                        </a:lnTo>
                        <a:lnTo>
                          <a:pt x="195" y="895"/>
                        </a:lnTo>
                        <a:lnTo>
                          <a:pt x="258" y="886"/>
                        </a:lnTo>
                        <a:lnTo>
                          <a:pt x="318" y="870"/>
                        </a:lnTo>
                        <a:lnTo>
                          <a:pt x="376" y="848"/>
                        </a:lnTo>
                        <a:lnTo>
                          <a:pt x="430" y="821"/>
                        </a:lnTo>
                        <a:lnTo>
                          <a:pt x="484" y="789"/>
                        </a:lnTo>
                        <a:lnTo>
                          <a:pt x="533" y="754"/>
                        </a:lnTo>
                        <a:lnTo>
                          <a:pt x="578" y="711"/>
                        </a:lnTo>
                        <a:lnTo>
                          <a:pt x="618" y="666"/>
                        </a:lnTo>
                        <a:lnTo>
                          <a:pt x="657" y="617"/>
                        </a:lnTo>
                        <a:lnTo>
                          <a:pt x="688" y="565"/>
                        </a:lnTo>
                        <a:lnTo>
                          <a:pt x="715" y="509"/>
                        </a:lnTo>
                        <a:lnTo>
                          <a:pt x="737" y="451"/>
                        </a:lnTo>
                        <a:lnTo>
                          <a:pt x="753" y="390"/>
                        </a:lnTo>
                        <a:lnTo>
                          <a:pt x="762" y="328"/>
                        </a:lnTo>
                        <a:lnTo>
                          <a:pt x="764" y="263"/>
                        </a:lnTo>
                        <a:lnTo>
                          <a:pt x="760" y="263"/>
                        </a:lnTo>
                        <a:lnTo>
                          <a:pt x="755" y="198"/>
                        </a:lnTo>
                        <a:lnTo>
                          <a:pt x="746" y="135"/>
                        </a:lnTo>
                        <a:lnTo>
                          <a:pt x="731" y="74"/>
                        </a:lnTo>
                        <a:lnTo>
                          <a:pt x="708" y="16"/>
                        </a:lnTo>
                        <a:lnTo>
                          <a:pt x="701" y="0"/>
                        </a:lnTo>
                        <a:lnTo>
                          <a:pt x="704" y="3"/>
                        </a:lnTo>
                        <a:lnTo>
                          <a:pt x="706" y="5"/>
                        </a:lnTo>
                        <a:lnTo>
                          <a:pt x="710" y="7"/>
                        </a:lnTo>
                        <a:lnTo>
                          <a:pt x="713" y="9"/>
                        </a:lnTo>
                        <a:lnTo>
                          <a:pt x="715" y="14"/>
                        </a:lnTo>
                        <a:lnTo>
                          <a:pt x="737" y="74"/>
                        </a:lnTo>
                        <a:lnTo>
                          <a:pt x="753" y="135"/>
                        </a:lnTo>
                        <a:lnTo>
                          <a:pt x="762" y="198"/>
                        </a:lnTo>
                        <a:lnTo>
                          <a:pt x="764" y="263"/>
                        </a:lnTo>
                        <a:lnTo>
                          <a:pt x="760" y="263"/>
                        </a:lnTo>
                        <a:lnTo>
                          <a:pt x="755" y="328"/>
                        </a:lnTo>
                        <a:lnTo>
                          <a:pt x="746" y="390"/>
                        </a:lnTo>
                        <a:lnTo>
                          <a:pt x="731" y="449"/>
                        </a:lnTo>
                        <a:lnTo>
                          <a:pt x="708" y="507"/>
                        </a:lnTo>
                        <a:lnTo>
                          <a:pt x="683" y="561"/>
                        </a:lnTo>
                        <a:lnTo>
                          <a:pt x="650" y="615"/>
                        </a:lnTo>
                        <a:lnTo>
                          <a:pt x="614" y="662"/>
                        </a:lnTo>
                        <a:lnTo>
                          <a:pt x="574" y="706"/>
                        </a:lnTo>
                        <a:lnTo>
                          <a:pt x="529" y="747"/>
                        </a:lnTo>
                        <a:lnTo>
                          <a:pt x="480" y="785"/>
                        </a:lnTo>
                        <a:lnTo>
                          <a:pt x="428" y="816"/>
                        </a:lnTo>
                        <a:lnTo>
                          <a:pt x="374" y="843"/>
                        </a:lnTo>
                        <a:lnTo>
                          <a:pt x="318" y="863"/>
                        </a:lnTo>
                        <a:lnTo>
                          <a:pt x="258" y="879"/>
                        </a:lnTo>
                        <a:lnTo>
                          <a:pt x="195" y="888"/>
                        </a:lnTo>
                        <a:lnTo>
                          <a:pt x="130" y="892"/>
                        </a:lnTo>
                        <a:lnTo>
                          <a:pt x="65" y="888"/>
                        </a:lnTo>
                        <a:lnTo>
                          <a:pt x="2" y="879"/>
                        </a:lnTo>
                        <a:lnTo>
                          <a:pt x="0" y="879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68040" y="1709640"/>
                    <a:ext cx="1217880" cy="14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901">
                        <a:moveTo>
                          <a:pt x="0" y="878"/>
                        </a:moveTo>
                        <a:lnTo>
                          <a:pt x="2" y="881"/>
                        </a:lnTo>
                        <a:lnTo>
                          <a:pt x="5" y="883"/>
                        </a:lnTo>
                        <a:lnTo>
                          <a:pt x="9" y="885"/>
                        </a:lnTo>
                        <a:lnTo>
                          <a:pt x="11" y="887"/>
                        </a:lnTo>
                        <a:lnTo>
                          <a:pt x="72" y="896"/>
                        </a:lnTo>
                        <a:lnTo>
                          <a:pt x="137" y="901"/>
                        </a:lnTo>
                        <a:lnTo>
                          <a:pt x="202" y="896"/>
                        </a:lnTo>
                        <a:lnTo>
                          <a:pt x="265" y="887"/>
                        </a:lnTo>
                        <a:lnTo>
                          <a:pt x="325" y="872"/>
                        </a:lnTo>
                        <a:lnTo>
                          <a:pt x="381" y="849"/>
                        </a:lnTo>
                        <a:lnTo>
                          <a:pt x="437" y="825"/>
                        </a:lnTo>
                        <a:lnTo>
                          <a:pt x="489" y="791"/>
                        </a:lnTo>
                        <a:lnTo>
                          <a:pt x="538" y="755"/>
                        </a:lnTo>
                        <a:lnTo>
                          <a:pt x="583" y="715"/>
                        </a:lnTo>
                        <a:lnTo>
                          <a:pt x="623" y="670"/>
                        </a:lnTo>
                        <a:lnTo>
                          <a:pt x="659" y="621"/>
                        </a:lnTo>
                        <a:lnTo>
                          <a:pt x="690" y="569"/>
                        </a:lnTo>
                        <a:lnTo>
                          <a:pt x="717" y="513"/>
                        </a:lnTo>
                        <a:lnTo>
                          <a:pt x="740" y="455"/>
                        </a:lnTo>
                        <a:lnTo>
                          <a:pt x="755" y="396"/>
                        </a:lnTo>
                        <a:lnTo>
                          <a:pt x="764" y="334"/>
                        </a:lnTo>
                        <a:lnTo>
                          <a:pt x="767" y="269"/>
                        </a:lnTo>
                        <a:lnTo>
                          <a:pt x="762" y="269"/>
                        </a:lnTo>
                        <a:lnTo>
                          <a:pt x="758" y="206"/>
                        </a:lnTo>
                        <a:lnTo>
                          <a:pt x="749" y="143"/>
                        </a:lnTo>
                        <a:lnTo>
                          <a:pt x="733" y="83"/>
                        </a:lnTo>
                        <a:lnTo>
                          <a:pt x="713" y="24"/>
                        </a:lnTo>
                        <a:lnTo>
                          <a:pt x="699" y="0"/>
                        </a:lnTo>
                        <a:lnTo>
                          <a:pt x="704" y="2"/>
                        </a:lnTo>
                        <a:lnTo>
                          <a:pt x="706" y="4"/>
                        </a:lnTo>
                        <a:lnTo>
                          <a:pt x="708" y="6"/>
                        </a:lnTo>
                        <a:lnTo>
                          <a:pt x="711" y="9"/>
                        </a:lnTo>
                        <a:lnTo>
                          <a:pt x="717" y="22"/>
                        </a:lnTo>
                        <a:lnTo>
                          <a:pt x="740" y="80"/>
                        </a:lnTo>
                        <a:lnTo>
                          <a:pt x="755" y="141"/>
                        </a:lnTo>
                        <a:lnTo>
                          <a:pt x="764" y="204"/>
                        </a:lnTo>
                        <a:lnTo>
                          <a:pt x="767" y="269"/>
                        </a:lnTo>
                        <a:lnTo>
                          <a:pt x="762" y="269"/>
                        </a:lnTo>
                        <a:lnTo>
                          <a:pt x="758" y="334"/>
                        </a:lnTo>
                        <a:lnTo>
                          <a:pt x="749" y="394"/>
                        </a:lnTo>
                        <a:lnTo>
                          <a:pt x="733" y="452"/>
                        </a:lnTo>
                        <a:lnTo>
                          <a:pt x="713" y="511"/>
                        </a:lnTo>
                        <a:lnTo>
                          <a:pt x="686" y="565"/>
                        </a:lnTo>
                        <a:lnTo>
                          <a:pt x="655" y="616"/>
                        </a:lnTo>
                        <a:lnTo>
                          <a:pt x="619" y="665"/>
                        </a:lnTo>
                        <a:lnTo>
                          <a:pt x="578" y="710"/>
                        </a:lnTo>
                        <a:lnTo>
                          <a:pt x="534" y="751"/>
                        </a:lnTo>
                        <a:lnTo>
                          <a:pt x="484" y="786"/>
                        </a:lnTo>
                        <a:lnTo>
                          <a:pt x="433" y="818"/>
                        </a:lnTo>
                        <a:lnTo>
                          <a:pt x="379" y="845"/>
                        </a:lnTo>
                        <a:lnTo>
                          <a:pt x="323" y="865"/>
                        </a:lnTo>
                        <a:lnTo>
                          <a:pt x="262" y="881"/>
                        </a:lnTo>
                        <a:lnTo>
                          <a:pt x="200" y="890"/>
                        </a:lnTo>
                        <a:lnTo>
                          <a:pt x="137" y="894"/>
                        </a:lnTo>
                        <a:lnTo>
                          <a:pt x="72" y="890"/>
                        </a:lnTo>
                        <a:lnTo>
                          <a:pt x="11" y="881"/>
                        </a:lnTo>
                        <a:lnTo>
                          <a:pt x="0" y="878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957240" y="1701720"/>
                    <a:ext cx="1223640" cy="14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901">
                        <a:moveTo>
                          <a:pt x="0" y="877"/>
                        </a:moveTo>
                        <a:lnTo>
                          <a:pt x="3" y="879"/>
                        </a:lnTo>
                        <a:lnTo>
                          <a:pt x="5" y="881"/>
                        </a:lnTo>
                        <a:lnTo>
                          <a:pt x="7" y="883"/>
                        </a:lnTo>
                        <a:lnTo>
                          <a:pt x="12" y="886"/>
                        </a:lnTo>
                        <a:lnTo>
                          <a:pt x="16" y="888"/>
                        </a:lnTo>
                        <a:lnTo>
                          <a:pt x="79" y="897"/>
                        </a:lnTo>
                        <a:lnTo>
                          <a:pt x="144" y="901"/>
                        </a:lnTo>
                        <a:lnTo>
                          <a:pt x="209" y="897"/>
                        </a:lnTo>
                        <a:lnTo>
                          <a:pt x="269" y="888"/>
                        </a:lnTo>
                        <a:lnTo>
                          <a:pt x="330" y="872"/>
                        </a:lnTo>
                        <a:lnTo>
                          <a:pt x="386" y="852"/>
                        </a:lnTo>
                        <a:lnTo>
                          <a:pt x="442" y="825"/>
                        </a:lnTo>
                        <a:lnTo>
                          <a:pt x="494" y="794"/>
                        </a:lnTo>
                        <a:lnTo>
                          <a:pt x="541" y="758"/>
                        </a:lnTo>
                        <a:lnTo>
                          <a:pt x="585" y="717"/>
                        </a:lnTo>
                        <a:lnTo>
                          <a:pt x="626" y="673"/>
                        </a:lnTo>
                        <a:lnTo>
                          <a:pt x="664" y="623"/>
                        </a:lnTo>
                        <a:lnTo>
                          <a:pt x="695" y="572"/>
                        </a:lnTo>
                        <a:lnTo>
                          <a:pt x="722" y="516"/>
                        </a:lnTo>
                        <a:lnTo>
                          <a:pt x="742" y="460"/>
                        </a:lnTo>
                        <a:lnTo>
                          <a:pt x="758" y="401"/>
                        </a:lnTo>
                        <a:lnTo>
                          <a:pt x="767" y="339"/>
                        </a:lnTo>
                        <a:lnTo>
                          <a:pt x="771" y="274"/>
                        </a:lnTo>
                        <a:lnTo>
                          <a:pt x="765" y="274"/>
                        </a:lnTo>
                        <a:lnTo>
                          <a:pt x="760" y="211"/>
                        </a:lnTo>
                        <a:lnTo>
                          <a:pt x="751" y="148"/>
                        </a:lnTo>
                        <a:lnTo>
                          <a:pt x="736" y="90"/>
                        </a:lnTo>
                        <a:lnTo>
                          <a:pt x="715" y="32"/>
                        </a:lnTo>
                        <a:lnTo>
                          <a:pt x="700" y="0"/>
                        </a:lnTo>
                        <a:lnTo>
                          <a:pt x="702" y="3"/>
                        </a:lnTo>
                        <a:lnTo>
                          <a:pt x="706" y="5"/>
                        </a:lnTo>
                        <a:lnTo>
                          <a:pt x="709" y="7"/>
                        </a:lnTo>
                        <a:lnTo>
                          <a:pt x="711" y="9"/>
                        </a:lnTo>
                        <a:lnTo>
                          <a:pt x="722" y="29"/>
                        </a:lnTo>
                        <a:lnTo>
                          <a:pt x="742" y="88"/>
                        </a:lnTo>
                        <a:lnTo>
                          <a:pt x="758" y="148"/>
                        </a:lnTo>
                        <a:lnTo>
                          <a:pt x="767" y="209"/>
                        </a:lnTo>
                        <a:lnTo>
                          <a:pt x="771" y="274"/>
                        </a:lnTo>
                        <a:lnTo>
                          <a:pt x="765" y="274"/>
                        </a:lnTo>
                        <a:lnTo>
                          <a:pt x="760" y="339"/>
                        </a:lnTo>
                        <a:lnTo>
                          <a:pt x="751" y="399"/>
                        </a:lnTo>
                        <a:lnTo>
                          <a:pt x="736" y="457"/>
                        </a:lnTo>
                        <a:lnTo>
                          <a:pt x="715" y="514"/>
                        </a:lnTo>
                        <a:lnTo>
                          <a:pt x="688" y="570"/>
                        </a:lnTo>
                        <a:lnTo>
                          <a:pt x="657" y="619"/>
                        </a:lnTo>
                        <a:lnTo>
                          <a:pt x="621" y="668"/>
                        </a:lnTo>
                        <a:lnTo>
                          <a:pt x="581" y="713"/>
                        </a:lnTo>
                        <a:lnTo>
                          <a:pt x="538" y="753"/>
                        </a:lnTo>
                        <a:lnTo>
                          <a:pt x="489" y="789"/>
                        </a:lnTo>
                        <a:lnTo>
                          <a:pt x="437" y="818"/>
                        </a:lnTo>
                        <a:lnTo>
                          <a:pt x="384" y="845"/>
                        </a:lnTo>
                        <a:lnTo>
                          <a:pt x="328" y="865"/>
                        </a:lnTo>
                        <a:lnTo>
                          <a:pt x="269" y="881"/>
                        </a:lnTo>
                        <a:lnTo>
                          <a:pt x="207" y="892"/>
                        </a:lnTo>
                        <a:lnTo>
                          <a:pt x="144" y="895"/>
                        </a:lnTo>
                        <a:lnTo>
                          <a:pt x="79" y="892"/>
                        </a:lnTo>
                        <a:lnTo>
                          <a:pt x="18" y="881"/>
                        </a:lnTo>
                        <a:lnTo>
                          <a:pt x="0" y="877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947520" y="1695240"/>
                    <a:ext cx="1227240" cy="14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3" h="901">
                        <a:moveTo>
                          <a:pt x="0" y="876"/>
                        </a:moveTo>
                        <a:lnTo>
                          <a:pt x="2" y="878"/>
                        </a:lnTo>
                        <a:lnTo>
                          <a:pt x="4" y="881"/>
                        </a:lnTo>
                        <a:lnTo>
                          <a:pt x="6" y="883"/>
                        </a:lnTo>
                        <a:lnTo>
                          <a:pt x="9" y="885"/>
                        </a:lnTo>
                        <a:lnTo>
                          <a:pt x="24" y="887"/>
                        </a:lnTo>
                        <a:lnTo>
                          <a:pt x="85" y="896"/>
                        </a:lnTo>
                        <a:lnTo>
                          <a:pt x="150" y="901"/>
                        </a:lnTo>
                        <a:lnTo>
                          <a:pt x="213" y="896"/>
                        </a:lnTo>
                        <a:lnTo>
                          <a:pt x="275" y="887"/>
                        </a:lnTo>
                        <a:lnTo>
                          <a:pt x="336" y="872"/>
                        </a:lnTo>
                        <a:lnTo>
                          <a:pt x="390" y="851"/>
                        </a:lnTo>
                        <a:lnTo>
                          <a:pt x="446" y="825"/>
                        </a:lnTo>
                        <a:lnTo>
                          <a:pt x="497" y="793"/>
                        </a:lnTo>
                        <a:lnTo>
                          <a:pt x="544" y="757"/>
                        </a:lnTo>
                        <a:lnTo>
                          <a:pt x="589" y="717"/>
                        </a:lnTo>
                        <a:lnTo>
                          <a:pt x="630" y="672"/>
                        </a:lnTo>
                        <a:lnTo>
                          <a:pt x="665" y="625"/>
                        </a:lnTo>
                        <a:lnTo>
                          <a:pt x="697" y="574"/>
                        </a:lnTo>
                        <a:lnTo>
                          <a:pt x="724" y="520"/>
                        </a:lnTo>
                        <a:lnTo>
                          <a:pt x="744" y="461"/>
                        </a:lnTo>
                        <a:lnTo>
                          <a:pt x="759" y="403"/>
                        </a:lnTo>
                        <a:lnTo>
                          <a:pt x="768" y="343"/>
                        </a:lnTo>
                        <a:lnTo>
                          <a:pt x="773" y="278"/>
                        </a:lnTo>
                        <a:lnTo>
                          <a:pt x="766" y="278"/>
                        </a:lnTo>
                        <a:lnTo>
                          <a:pt x="762" y="215"/>
                        </a:lnTo>
                        <a:lnTo>
                          <a:pt x="753" y="154"/>
                        </a:lnTo>
                        <a:lnTo>
                          <a:pt x="737" y="94"/>
                        </a:lnTo>
                        <a:lnTo>
                          <a:pt x="717" y="38"/>
                        </a:lnTo>
                        <a:lnTo>
                          <a:pt x="699" y="0"/>
                        </a:lnTo>
                        <a:lnTo>
                          <a:pt x="701" y="0"/>
                        </a:lnTo>
                        <a:lnTo>
                          <a:pt x="703" y="2"/>
                        </a:lnTo>
                        <a:lnTo>
                          <a:pt x="708" y="4"/>
                        </a:lnTo>
                        <a:lnTo>
                          <a:pt x="710" y="7"/>
                        </a:lnTo>
                        <a:lnTo>
                          <a:pt x="724" y="36"/>
                        </a:lnTo>
                        <a:lnTo>
                          <a:pt x="744" y="92"/>
                        </a:lnTo>
                        <a:lnTo>
                          <a:pt x="759" y="152"/>
                        </a:lnTo>
                        <a:lnTo>
                          <a:pt x="768" y="215"/>
                        </a:lnTo>
                        <a:lnTo>
                          <a:pt x="773" y="278"/>
                        </a:lnTo>
                        <a:lnTo>
                          <a:pt x="766" y="278"/>
                        </a:lnTo>
                        <a:lnTo>
                          <a:pt x="762" y="340"/>
                        </a:lnTo>
                        <a:lnTo>
                          <a:pt x="753" y="403"/>
                        </a:lnTo>
                        <a:lnTo>
                          <a:pt x="737" y="459"/>
                        </a:lnTo>
                        <a:lnTo>
                          <a:pt x="717" y="518"/>
                        </a:lnTo>
                        <a:lnTo>
                          <a:pt x="692" y="571"/>
                        </a:lnTo>
                        <a:lnTo>
                          <a:pt x="661" y="621"/>
                        </a:lnTo>
                        <a:lnTo>
                          <a:pt x="625" y="670"/>
                        </a:lnTo>
                        <a:lnTo>
                          <a:pt x="585" y="713"/>
                        </a:lnTo>
                        <a:lnTo>
                          <a:pt x="540" y="753"/>
                        </a:lnTo>
                        <a:lnTo>
                          <a:pt x="493" y="789"/>
                        </a:lnTo>
                        <a:lnTo>
                          <a:pt x="441" y="820"/>
                        </a:lnTo>
                        <a:lnTo>
                          <a:pt x="387" y="845"/>
                        </a:lnTo>
                        <a:lnTo>
                          <a:pt x="334" y="867"/>
                        </a:lnTo>
                        <a:lnTo>
                          <a:pt x="273" y="881"/>
                        </a:lnTo>
                        <a:lnTo>
                          <a:pt x="213" y="892"/>
                        </a:lnTo>
                        <a:lnTo>
                          <a:pt x="150" y="894"/>
                        </a:lnTo>
                        <a:lnTo>
                          <a:pt x="87" y="892"/>
                        </a:lnTo>
                        <a:lnTo>
                          <a:pt x="24" y="881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936360" y="1684080"/>
                    <a:ext cx="123048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5" h="903">
                        <a:moveTo>
                          <a:pt x="0" y="876"/>
                        </a:moveTo>
                        <a:lnTo>
                          <a:pt x="2" y="879"/>
                        </a:lnTo>
                        <a:lnTo>
                          <a:pt x="4" y="881"/>
                        </a:lnTo>
                        <a:lnTo>
                          <a:pt x="7" y="883"/>
                        </a:lnTo>
                        <a:lnTo>
                          <a:pt x="9" y="885"/>
                        </a:lnTo>
                        <a:lnTo>
                          <a:pt x="31" y="890"/>
                        </a:lnTo>
                        <a:lnTo>
                          <a:pt x="94" y="901"/>
                        </a:lnTo>
                        <a:lnTo>
                          <a:pt x="157" y="903"/>
                        </a:lnTo>
                        <a:lnTo>
                          <a:pt x="220" y="901"/>
                        </a:lnTo>
                        <a:lnTo>
                          <a:pt x="282" y="890"/>
                        </a:lnTo>
                        <a:lnTo>
                          <a:pt x="341" y="876"/>
                        </a:lnTo>
                        <a:lnTo>
                          <a:pt x="397" y="854"/>
                        </a:lnTo>
                        <a:lnTo>
                          <a:pt x="450" y="829"/>
                        </a:lnTo>
                        <a:lnTo>
                          <a:pt x="502" y="798"/>
                        </a:lnTo>
                        <a:lnTo>
                          <a:pt x="549" y="762"/>
                        </a:lnTo>
                        <a:lnTo>
                          <a:pt x="594" y="722"/>
                        </a:lnTo>
                        <a:lnTo>
                          <a:pt x="634" y="677"/>
                        </a:lnTo>
                        <a:lnTo>
                          <a:pt x="668" y="630"/>
                        </a:lnTo>
                        <a:lnTo>
                          <a:pt x="699" y="578"/>
                        </a:lnTo>
                        <a:lnTo>
                          <a:pt x="726" y="525"/>
                        </a:lnTo>
                        <a:lnTo>
                          <a:pt x="746" y="466"/>
                        </a:lnTo>
                        <a:lnTo>
                          <a:pt x="762" y="410"/>
                        </a:lnTo>
                        <a:lnTo>
                          <a:pt x="771" y="347"/>
                        </a:lnTo>
                        <a:lnTo>
                          <a:pt x="775" y="285"/>
                        </a:lnTo>
                        <a:lnTo>
                          <a:pt x="769" y="285"/>
                        </a:lnTo>
                        <a:lnTo>
                          <a:pt x="766" y="222"/>
                        </a:lnTo>
                        <a:lnTo>
                          <a:pt x="755" y="161"/>
                        </a:lnTo>
                        <a:lnTo>
                          <a:pt x="742" y="103"/>
                        </a:lnTo>
                        <a:lnTo>
                          <a:pt x="719" y="45"/>
                        </a:lnTo>
                        <a:lnTo>
                          <a:pt x="699" y="0"/>
                        </a:lnTo>
                        <a:lnTo>
                          <a:pt x="701" y="2"/>
                        </a:lnTo>
                        <a:lnTo>
                          <a:pt x="704" y="5"/>
                        </a:lnTo>
                        <a:lnTo>
                          <a:pt x="706" y="7"/>
                        </a:lnTo>
                        <a:lnTo>
                          <a:pt x="708" y="9"/>
                        </a:lnTo>
                        <a:lnTo>
                          <a:pt x="726" y="43"/>
                        </a:lnTo>
                        <a:lnTo>
                          <a:pt x="746" y="101"/>
                        </a:lnTo>
                        <a:lnTo>
                          <a:pt x="762" y="159"/>
                        </a:lnTo>
                        <a:lnTo>
                          <a:pt x="771" y="222"/>
                        </a:lnTo>
                        <a:lnTo>
                          <a:pt x="775" y="285"/>
                        </a:lnTo>
                        <a:lnTo>
                          <a:pt x="769" y="285"/>
                        </a:lnTo>
                        <a:lnTo>
                          <a:pt x="766" y="347"/>
                        </a:lnTo>
                        <a:lnTo>
                          <a:pt x="755" y="408"/>
                        </a:lnTo>
                        <a:lnTo>
                          <a:pt x="742" y="466"/>
                        </a:lnTo>
                        <a:lnTo>
                          <a:pt x="719" y="522"/>
                        </a:lnTo>
                        <a:lnTo>
                          <a:pt x="695" y="576"/>
                        </a:lnTo>
                        <a:lnTo>
                          <a:pt x="663" y="625"/>
                        </a:lnTo>
                        <a:lnTo>
                          <a:pt x="628" y="672"/>
                        </a:lnTo>
                        <a:lnTo>
                          <a:pt x="589" y="717"/>
                        </a:lnTo>
                        <a:lnTo>
                          <a:pt x="545" y="758"/>
                        </a:lnTo>
                        <a:lnTo>
                          <a:pt x="498" y="791"/>
                        </a:lnTo>
                        <a:lnTo>
                          <a:pt x="446" y="823"/>
                        </a:lnTo>
                        <a:lnTo>
                          <a:pt x="394" y="849"/>
                        </a:lnTo>
                        <a:lnTo>
                          <a:pt x="338" y="870"/>
                        </a:lnTo>
                        <a:lnTo>
                          <a:pt x="280" y="885"/>
                        </a:lnTo>
                        <a:lnTo>
                          <a:pt x="220" y="894"/>
                        </a:lnTo>
                        <a:lnTo>
                          <a:pt x="157" y="897"/>
                        </a:lnTo>
                        <a:lnTo>
                          <a:pt x="94" y="894"/>
                        </a:lnTo>
                        <a:lnTo>
                          <a:pt x="34" y="885"/>
                        </a:lnTo>
                        <a:lnTo>
                          <a:pt x="0" y="876"/>
                        </a:lnTo>
                        <a:close/>
                      </a:path>
                    </a:pathLst>
                  </a:custGeom>
                  <a:solidFill>
                    <a:srgbClr val="e6c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925200" y="1677960"/>
                    <a:ext cx="123516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903">
                        <a:moveTo>
                          <a:pt x="0" y="874"/>
                        </a:moveTo>
                        <a:lnTo>
                          <a:pt x="3" y="876"/>
                        </a:lnTo>
                        <a:lnTo>
                          <a:pt x="5" y="878"/>
                        </a:lnTo>
                        <a:lnTo>
                          <a:pt x="7" y="880"/>
                        </a:lnTo>
                        <a:lnTo>
                          <a:pt x="9" y="883"/>
                        </a:lnTo>
                        <a:lnTo>
                          <a:pt x="38" y="892"/>
                        </a:lnTo>
                        <a:lnTo>
                          <a:pt x="101" y="901"/>
                        </a:lnTo>
                        <a:lnTo>
                          <a:pt x="164" y="903"/>
                        </a:lnTo>
                        <a:lnTo>
                          <a:pt x="227" y="901"/>
                        </a:lnTo>
                        <a:lnTo>
                          <a:pt x="287" y="892"/>
                        </a:lnTo>
                        <a:lnTo>
                          <a:pt x="348" y="876"/>
                        </a:lnTo>
                        <a:lnTo>
                          <a:pt x="401" y="856"/>
                        </a:lnTo>
                        <a:lnTo>
                          <a:pt x="455" y="829"/>
                        </a:lnTo>
                        <a:lnTo>
                          <a:pt x="507" y="797"/>
                        </a:lnTo>
                        <a:lnTo>
                          <a:pt x="554" y="762"/>
                        </a:lnTo>
                        <a:lnTo>
                          <a:pt x="596" y="724"/>
                        </a:lnTo>
                        <a:lnTo>
                          <a:pt x="637" y="679"/>
                        </a:lnTo>
                        <a:lnTo>
                          <a:pt x="673" y="632"/>
                        </a:lnTo>
                        <a:lnTo>
                          <a:pt x="704" y="580"/>
                        </a:lnTo>
                        <a:lnTo>
                          <a:pt x="729" y="526"/>
                        </a:lnTo>
                        <a:lnTo>
                          <a:pt x="751" y="470"/>
                        </a:lnTo>
                        <a:lnTo>
                          <a:pt x="765" y="414"/>
                        </a:lnTo>
                        <a:lnTo>
                          <a:pt x="773" y="351"/>
                        </a:lnTo>
                        <a:lnTo>
                          <a:pt x="778" y="289"/>
                        </a:lnTo>
                        <a:lnTo>
                          <a:pt x="771" y="289"/>
                        </a:lnTo>
                        <a:lnTo>
                          <a:pt x="769" y="226"/>
                        </a:lnTo>
                        <a:lnTo>
                          <a:pt x="758" y="165"/>
                        </a:lnTo>
                        <a:lnTo>
                          <a:pt x="744" y="107"/>
                        </a:lnTo>
                        <a:lnTo>
                          <a:pt x="724" y="51"/>
                        </a:lnTo>
                        <a:lnTo>
                          <a:pt x="700" y="0"/>
                        </a:lnTo>
                        <a:lnTo>
                          <a:pt x="702" y="2"/>
                        </a:lnTo>
                        <a:lnTo>
                          <a:pt x="704" y="4"/>
                        </a:lnTo>
                        <a:lnTo>
                          <a:pt x="706" y="6"/>
                        </a:lnTo>
                        <a:lnTo>
                          <a:pt x="708" y="9"/>
                        </a:lnTo>
                        <a:lnTo>
                          <a:pt x="729" y="49"/>
                        </a:lnTo>
                        <a:lnTo>
                          <a:pt x="751" y="105"/>
                        </a:lnTo>
                        <a:lnTo>
                          <a:pt x="765" y="165"/>
                        </a:lnTo>
                        <a:lnTo>
                          <a:pt x="773" y="226"/>
                        </a:lnTo>
                        <a:lnTo>
                          <a:pt x="778" y="289"/>
                        </a:lnTo>
                        <a:lnTo>
                          <a:pt x="771" y="289"/>
                        </a:lnTo>
                        <a:lnTo>
                          <a:pt x="769" y="351"/>
                        </a:lnTo>
                        <a:lnTo>
                          <a:pt x="758" y="412"/>
                        </a:lnTo>
                        <a:lnTo>
                          <a:pt x="744" y="468"/>
                        </a:lnTo>
                        <a:lnTo>
                          <a:pt x="724" y="524"/>
                        </a:lnTo>
                        <a:lnTo>
                          <a:pt x="697" y="578"/>
                        </a:lnTo>
                        <a:lnTo>
                          <a:pt x="668" y="627"/>
                        </a:lnTo>
                        <a:lnTo>
                          <a:pt x="632" y="674"/>
                        </a:lnTo>
                        <a:lnTo>
                          <a:pt x="592" y="719"/>
                        </a:lnTo>
                        <a:lnTo>
                          <a:pt x="549" y="757"/>
                        </a:lnTo>
                        <a:lnTo>
                          <a:pt x="502" y="793"/>
                        </a:lnTo>
                        <a:lnTo>
                          <a:pt x="453" y="822"/>
                        </a:lnTo>
                        <a:lnTo>
                          <a:pt x="399" y="849"/>
                        </a:lnTo>
                        <a:lnTo>
                          <a:pt x="345" y="869"/>
                        </a:lnTo>
                        <a:lnTo>
                          <a:pt x="287" y="885"/>
                        </a:lnTo>
                        <a:lnTo>
                          <a:pt x="227" y="894"/>
                        </a:lnTo>
                        <a:lnTo>
                          <a:pt x="164" y="896"/>
                        </a:lnTo>
                        <a:lnTo>
                          <a:pt x="101" y="894"/>
                        </a:lnTo>
                        <a:lnTo>
                          <a:pt x="41" y="885"/>
                        </a:lnTo>
                        <a:lnTo>
                          <a:pt x="0" y="874"/>
                        </a:lnTo>
                        <a:close/>
                      </a:path>
                    </a:pathLst>
                  </a:custGeom>
                  <a:solidFill>
                    <a:srgbClr val="e6c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915840" y="1670040"/>
                    <a:ext cx="123660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9" h="903">
                        <a:moveTo>
                          <a:pt x="0" y="872"/>
                        </a:moveTo>
                        <a:lnTo>
                          <a:pt x="2" y="874"/>
                        </a:lnTo>
                        <a:lnTo>
                          <a:pt x="4" y="876"/>
                        </a:lnTo>
                        <a:lnTo>
                          <a:pt x="6" y="879"/>
                        </a:lnTo>
                        <a:lnTo>
                          <a:pt x="9" y="881"/>
                        </a:lnTo>
                        <a:lnTo>
                          <a:pt x="47" y="892"/>
                        </a:lnTo>
                        <a:lnTo>
                          <a:pt x="107" y="901"/>
                        </a:lnTo>
                        <a:lnTo>
                          <a:pt x="170" y="903"/>
                        </a:lnTo>
                        <a:lnTo>
                          <a:pt x="233" y="901"/>
                        </a:lnTo>
                        <a:lnTo>
                          <a:pt x="293" y="892"/>
                        </a:lnTo>
                        <a:lnTo>
                          <a:pt x="351" y="876"/>
                        </a:lnTo>
                        <a:lnTo>
                          <a:pt x="405" y="856"/>
                        </a:lnTo>
                        <a:lnTo>
                          <a:pt x="459" y="829"/>
                        </a:lnTo>
                        <a:lnTo>
                          <a:pt x="511" y="800"/>
                        </a:lnTo>
                        <a:lnTo>
                          <a:pt x="558" y="764"/>
                        </a:lnTo>
                        <a:lnTo>
                          <a:pt x="600" y="724"/>
                        </a:lnTo>
                        <a:lnTo>
                          <a:pt x="641" y="681"/>
                        </a:lnTo>
                        <a:lnTo>
                          <a:pt x="674" y="634"/>
                        </a:lnTo>
                        <a:lnTo>
                          <a:pt x="706" y="583"/>
                        </a:lnTo>
                        <a:lnTo>
                          <a:pt x="732" y="529"/>
                        </a:lnTo>
                        <a:lnTo>
                          <a:pt x="753" y="473"/>
                        </a:lnTo>
                        <a:lnTo>
                          <a:pt x="766" y="417"/>
                        </a:lnTo>
                        <a:lnTo>
                          <a:pt x="777" y="356"/>
                        </a:lnTo>
                        <a:lnTo>
                          <a:pt x="779" y="294"/>
                        </a:lnTo>
                        <a:lnTo>
                          <a:pt x="773" y="294"/>
                        </a:lnTo>
                        <a:lnTo>
                          <a:pt x="771" y="231"/>
                        </a:lnTo>
                        <a:lnTo>
                          <a:pt x="762" y="173"/>
                        </a:lnTo>
                        <a:lnTo>
                          <a:pt x="746" y="114"/>
                        </a:lnTo>
                        <a:lnTo>
                          <a:pt x="726" y="58"/>
                        </a:lnTo>
                        <a:lnTo>
                          <a:pt x="701" y="5"/>
                        </a:lnTo>
                        <a:lnTo>
                          <a:pt x="697" y="0"/>
                        </a:lnTo>
                        <a:lnTo>
                          <a:pt x="699" y="2"/>
                        </a:lnTo>
                        <a:lnTo>
                          <a:pt x="703" y="5"/>
                        </a:lnTo>
                        <a:lnTo>
                          <a:pt x="706" y="5"/>
                        </a:lnTo>
                        <a:lnTo>
                          <a:pt x="708" y="7"/>
                        </a:lnTo>
                        <a:lnTo>
                          <a:pt x="732" y="56"/>
                        </a:lnTo>
                        <a:lnTo>
                          <a:pt x="753" y="112"/>
                        </a:lnTo>
                        <a:lnTo>
                          <a:pt x="766" y="170"/>
                        </a:lnTo>
                        <a:lnTo>
                          <a:pt x="777" y="231"/>
                        </a:lnTo>
                        <a:lnTo>
                          <a:pt x="779" y="294"/>
                        </a:lnTo>
                        <a:lnTo>
                          <a:pt x="773" y="294"/>
                        </a:lnTo>
                        <a:lnTo>
                          <a:pt x="771" y="356"/>
                        </a:lnTo>
                        <a:lnTo>
                          <a:pt x="762" y="417"/>
                        </a:lnTo>
                        <a:lnTo>
                          <a:pt x="746" y="473"/>
                        </a:lnTo>
                        <a:lnTo>
                          <a:pt x="726" y="527"/>
                        </a:lnTo>
                        <a:lnTo>
                          <a:pt x="701" y="581"/>
                        </a:lnTo>
                        <a:lnTo>
                          <a:pt x="670" y="630"/>
                        </a:lnTo>
                        <a:lnTo>
                          <a:pt x="634" y="677"/>
                        </a:lnTo>
                        <a:lnTo>
                          <a:pt x="596" y="720"/>
                        </a:lnTo>
                        <a:lnTo>
                          <a:pt x="553" y="760"/>
                        </a:lnTo>
                        <a:lnTo>
                          <a:pt x="506" y="793"/>
                        </a:lnTo>
                        <a:lnTo>
                          <a:pt x="457" y="825"/>
                        </a:lnTo>
                        <a:lnTo>
                          <a:pt x="403" y="850"/>
                        </a:lnTo>
                        <a:lnTo>
                          <a:pt x="349" y="870"/>
                        </a:lnTo>
                        <a:lnTo>
                          <a:pt x="291" y="885"/>
                        </a:lnTo>
                        <a:lnTo>
                          <a:pt x="233" y="894"/>
                        </a:lnTo>
                        <a:lnTo>
                          <a:pt x="170" y="897"/>
                        </a:lnTo>
                        <a:lnTo>
                          <a:pt x="107" y="894"/>
                        </a:lnTo>
                        <a:lnTo>
                          <a:pt x="47" y="885"/>
                        </a:lnTo>
                        <a:lnTo>
                          <a:pt x="0" y="872"/>
                        </a:lnTo>
                        <a:close/>
                      </a:path>
                    </a:pathLst>
                  </a:custGeom>
                  <a:solidFill>
                    <a:srgbClr val="e6c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904680" y="1663560"/>
                    <a:ext cx="124128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903">
                        <a:moveTo>
                          <a:pt x="0" y="871"/>
                        </a:moveTo>
                        <a:lnTo>
                          <a:pt x="2" y="874"/>
                        </a:lnTo>
                        <a:lnTo>
                          <a:pt x="4" y="876"/>
                        </a:lnTo>
                        <a:lnTo>
                          <a:pt x="7" y="878"/>
                        </a:lnTo>
                        <a:lnTo>
                          <a:pt x="9" y="880"/>
                        </a:lnTo>
                        <a:lnTo>
                          <a:pt x="54" y="892"/>
                        </a:lnTo>
                        <a:lnTo>
                          <a:pt x="114" y="901"/>
                        </a:lnTo>
                        <a:lnTo>
                          <a:pt x="177" y="903"/>
                        </a:lnTo>
                        <a:lnTo>
                          <a:pt x="240" y="901"/>
                        </a:lnTo>
                        <a:lnTo>
                          <a:pt x="300" y="892"/>
                        </a:lnTo>
                        <a:lnTo>
                          <a:pt x="358" y="876"/>
                        </a:lnTo>
                        <a:lnTo>
                          <a:pt x="410" y="856"/>
                        </a:lnTo>
                        <a:lnTo>
                          <a:pt x="464" y="831"/>
                        </a:lnTo>
                        <a:lnTo>
                          <a:pt x="515" y="800"/>
                        </a:lnTo>
                        <a:lnTo>
                          <a:pt x="560" y="764"/>
                        </a:lnTo>
                        <a:lnTo>
                          <a:pt x="605" y="726"/>
                        </a:lnTo>
                        <a:lnTo>
                          <a:pt x="643" y="683"/>
                        </a:lnTo>
                        <a:lnTo>
                          <a:pt x="679" y="636"/>
                        </a:lnTo>
                        <a:lnTo>
                          <a:pt x="708" y="585"/>
                        </a:lnTo>
                        <a:lnTo>
                          <a:pt x="735" y="533"/>
                        </a:lnTo>
                        <a:lnTo>
                          <a:pt x="755" y="477"/>
                        </a:lnTo>
                        <a:lnTo>
                          <a:pt x="771" y="421"/>
                        </a:lnTo>
                        <a:lnTo>
                          <a:pt x="780" y="360"/>
                        </a:lnTo>
                        <a:lnTo>
                          <a:pt x="782" y="298"/>
                        </a:lnTo>
                        <a:lnTo>
                          <a:pt x="775" y="298"/>
                        </a:lnTo>
                        <a:lnTo>
                          <a:pt x="773" y="237"/>
                        </a:lnTo>
                        <a:lnTo>
                          <a:pt x="764" y="177"/>
                        </a:lnTo>
                        <a:lnTo>
                          <a:pt x="748" y="118"/>
                        </a:lnTo>
                        <a:lnTo>
                          <a:pt x="728" y="65"/>
                        </a:lnTo>
                        <a:lnTo>
                          <a:pt x="704" y="11"/>
                        </a:lnTo>
                        <a:lnTo>
                          <a:pt x="697" y="0"/>
                        </a:lnTo>
                        <a:lnTo>
                          <a:pt x="699" y="2"/>
                        </a:lnTo>
                        <a:lnTo>
                          <a:pt x="701" y="2"/>
                        </a:lnTo>
                        <a:lnTo>
                          <a:pt x="706" y="4"/>
                        </a:lnTo>
                        <a:lnTo>
                          <a:pt x="708" y="6"/>
                        </a:lnTo>
                        <a:lnTo>
                          <a:pt x="708" y="9"/>
                        </a:lnTo>
                        <a:lnTo>
                          <a:pt x="735" y="62"/>
                        </a:lnTo>
                        <a:lnTo>
                          <a:pt x="755" y="116"/>
                        </a:lnTo>
                        <a:lnTo>
                          <a:pt x="771" y="174"/>
                        </a:lnTo>
                        <a:lnTo>
                          <a:pt x="780" y="235"/>
                        </a:lnTo>
                        <a:lnTo>
                          <a:pt x="782" y="298"/>
                        </a:lnTo>
                        <a:lnTo>
                          <a:pt x="775" y="298"/>
                        </a:lnTo>
                        <a:lnTo>
                          <a:pt x="773" y="360"/>
                        </a:lnTo>
                        <a:lnTo>
                          <a:pt x="764" y="419"/>
                        </a:lnTo>
                        <a:lnTo>
                          <a:pt x="748" y="477"/>
                        </a:lnTo>
                        <a:lnTo>
                          <a:pt x="728" y="531"/>
                        </a:lnTo>
                        <a:lnTo>
                          <a:pt x="704" y="582"/>
                        </a:lnTo>
                        <a:lnTo>
                          <a:pt x="672" y="632"/>
                        </a:lnTo>
                        <a:lnTo>
                          <a:pt x="639" y="679"/>
                        </a:lnTo>
                        <a:lnTo>
                          <a:pt x="600" y="721"/>
                        </a:lnTo>
                        <a:lnTo>
                          <a:pt x="558" y="759"/>
                        </a:lnTo>
                        <a:lnTo>
                          <a:pt x="511" y="795"/>
                        </a:lnTo>
                        <a:lnTo>
                          <a:pt x="462" y="824"/>
                        </a:lnTo>
                        <a:lnTo>
                          <a:pt x="408" y="849"/>
                        </a:lnTo>
                        <a:lnTo>
                          <a:pt x="356" y="869"/>
                        </a:lnTo>
                        <a:lnTo>
                          <a:pt x="298" y="885"/>
                        </a:lnTo>
                        <a:lnTo>
                          <a:pt x="237" y="894"/>
                        </a:lnTo>
                        <a:lnTo>
                          <a:pt x="177" y="898"/>
                        </a:lnTo>
                        <a:lnTo>
                          <a:pt x="114" y="894"/>
                        </a:lnTo>
                        <a:lnTo>
                          <a:pt x="56" y="885"/>
                        </a:lnTo>
                        <a:lnTo>
                          <a:pt x="0" y="871"/>
                        </a:lnTo>
                        <a:close/>
                      </a:path>
                    </a:pathLst>
                  </a:custGeom>
                  <a:solidFill>
                    <a:srgbClr val="e6c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896760" y="1655640"/>
                    <a:ext cx="124308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3" h="903">
                        <a:moveTo>
                          <a:pt x="0" y="870"/>
                        </a:moveTo>
                        <a:lnTo>
                          <a:pt x="3" y="872"/>
                        </a:lnTo>
                        <a:lnTo>
                          <a:pt x="5" y="874"/>
                        </a:lnTo>
                        <a:lnTo>
                          <a:pt x="7" y="876"/>
                        </a:lnTo>
                        <a:lnTo>
                          <a:pt x="9" y="879"/>
                        </a:lnTo>
                        <a:lnTo>
                          <a:pt x="61" y="892"/>
                        </a:lnTo>
                        <a:lnTo>
                          <a:pt x="119" y="901"/>
                        </a:lnTo>
                        <a:lnTo>
                          <a:pt x="182" y="903"/>
                        </a:lnTo>
                        <a:lnTo>
                          <a:pt x="242" y="901"/>
                        </a:lnTo>
                        <a:lnTo>
                          <a:pt x="303" y="892"/>
                        </a:lnTo>
                        <a:lnTo>
                          <a:pt x="361" y="876"/>
                        </a:lnTo>
                        <a:lnTo>
                          <a:pt x="415" y="856"/>
                        </a:lnTo>
                        <a:lnTo>
                          <a:pt x="467" y="832"/>
                        </a:lnTo>
                        <a:lnTo>
                          <a:pt x="516" y="800"/>
                        </a:lnTo>
                        <a:lnTo>
                          <a:pt x="563" y="767"/>
                        </a:lnTo>
                        <a:lnTo>
                          <a:pt x="605" y="729"/>
                        </a:lnTo>
                        <a:lnTo>
                          <a:pt x="646" y="684"/>
                        </a:lnTo>
                        <a:lnTo>
                          <a:pt x="679" y="639"/>
                        </a:lnTo>
                        <a:lnTo>
                          <a:pt x="711" y="587"/>
                        </a:lnTo>
                        <a:lnTo>
                          <a:pt x="735" y="536"/>
                        </a:lnTo>
                        <a:lnTo>
                          <a:pt x="756" y="482"/>
                        </a:lnTo>
                        <a:lnTo>
                          <a:pt x="771" y="424"/>
                        </a:lnTo>
                        <a:lnTo>
                          <a:pt x="780" y="365"/>
                        </a:lnTo>
                        <a:lnTo>
                          <a:pt x="783" y="303"/>
                        </a:lnTo>
                        <a:lnTo>
                          <a:pt x="776" y="303"/>
                        </a:lnTo>
                        <a:lnTo>
                          <a:pt x="774" y="242"/>
                        </a:lnTo>
                        <a:lnTo>
                          <a:pt x="765" y="182"/>
                        </a:lnTo>
                        <a:lnTo>
                          <a:pt x="749" y="126"/>
                        </a:lnTo>
                        <a:lnTo>
                          <a:pt x="729" y="70"/>
                        </a:lnTo>
                        <a:lnTo>
                          <a:pt x="704" y="18"/>
                        </a:lnTo>
                        <a:lnTo>
                          <a:pt x="693" y="0"/>
                        </a:lnTo>
                        <a:lnTo>
                          <a:pt x="695" y="0"/>
                        </a:lnTo>
                        <a:lnTo>
                          <a:pt x="700" y="2"/>
                        </a:lnTo>
                        <a:lnTo>
                          <a:pt x="702" y="5"/>
                        </a:lnTo>
                        <a:lnTo>
                          <a:pt x="704" y="7"/>
                        </a:lnTo>
                        <a:lnTo>
                          <a:pt x="711" y="16"/>
                        </a:lnTo>
                        <a:lnTo>
                          <a:pt x="735" y="67"/>
                        </a:lnTo>
                        <a:lnTo>
                          <a:pt x="756" y="123"/>
                        </a:lnTo>
                        <a:lnTo>
                          <a:pt x="771" y="182"/>
                        </a:lnTo>
                        <a:lnTo>
                          <a:pt x="780" y="242"/>
                        </a:lnTo>
                        <a:lnTo>
                          <a:pt x="783" y="303"/>
                        </a:lnTo>
                        <a:lnTo>
                          <a:pt x="776" y="303"/>
                        </a:lnTo>
                        <a:lnTo>
                          <a:pt x="774" y="363"/>
                        </a:lnTo>
                        <a:lnTo>
                          <a:pt x="765" y="424"/>
                        </a:lnTo>
                        <a:lnTo>
                          <a:pt x="749" y="480"/>
                        </a:lnTo>
                        <a:lnTo>
                          <a:pt x="729" y="534"/>
                        </a:lnTo>
                        <a:lnTo>
                          <a:pt x="704" y="585"/>
                        </a:lnTo>
                        <a:lnTo>
                          <a:pt x="675" y="634"/>
                        </a:lnTo>
                        <a:lnTo>
                          <a:pt x="641" y="681"/>
                        </a:lnTo>
                        <a:lnTo>
                          <a:pt x="601" y="724"/>
                        </a:lnTo>
                        <a:lnTo>
                          <a:pt x="558" y="762"/>
                        </a:lnTo>
                        <a:lnTo>
                          <a:pt x="514" y="796"/>
                        </a:lnTo>
                        <a:lnTo>
                          <a:pt x="464" y="825"/>
                        </a:lnTo>
                        <a:lnTo>
                          <a:pt x="413" y="852"/>
                        </a:lnTo>
                        <a:lnTo>
                          <a:pt x="359" y="872"/>
                        </a:lnTo>
                        <a:lnTo>
                          <a:pt x="303" y="885"/>
                        </a:lnTo>
                        <a:lnTo>
                          <a:pt x="242" y="894"/>
                        </a:lnTo>
                        <a:lnTo>
                          <a:pt x="182" y="899"/>
                        </a:lnTo>
                        <a:lnTo>
                          <a:pt x="121" y="894"/>
                        </a:lnTo>
                        <a:lnTo>
                          <a:pt x="61" y="885"/>
                        </a:lnTo>
                        <a:lnTo>
                          <a:pt x="5" y="872"/>
                        </a:lnTo>
                        <a:lnTo>
                          <a:pt x="0" y="870"/>
                        </a:lnTo>
                        <a:close/>
                      </a:path>
                    </a:pathLst>
                  </a:custGeom>
                  <a:solidFill>
                    <a:srgbClr val="e9c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887400" y="1644480"/>
                    <a:ext cx="1244520" cy="144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84" h="908">
                        <a:moveTo>
                          <a:pt x="0" y="870"/>
                        </a:moveTo>
                        <a:lnTo>
                          <a:pt x="2" y="872"/>
                        </a:lnTo>
                        <a:lnTo>
                          <a:pt x="4" y="874"/>
                        </a:lnTo>
                        <a:lnTo>
                          <a:pt x="6" y="877"/>
                        </a:lnTo>
                        <a:lnTo>
                          <a:pt x="9" y="879"/>
                        </a:lnTo>
                        <a:lnTo>
                          <a:pt x="9" y="881"/>
                        </a:lnTo>
                        <a:lnTo>
                          <a:pt x="67" y="895"/>
                        </a:lnTo>
                        <a:lnTo>
                          <a:pt x="127" y="904"/>
                        </a:lnTo>
                        <a:lnTo>
                          <a:pt x="188" y="908"/>
                        </a:lnTo>
                        <a:lnTo>
                          <a:pt x="248" y="904"/>
                        </a:lnTo>
                        <a:lnTo>
                          <a:pt x="309" y="895"/>
                        </a:lnTo>
                        <a:lnTo>
                          <a:pt x="365" y="881"/>
                        </a:lnTo>
                        <a:lnTo>
                          <a:pt x="419" y="861"/>
                        </a:lnTo>
                        <a:lnTo>
                          <a:pt x="470" y="834"/>
                        </a:lnTo>
                        <a:lnTo>
                          <a:pt x="520" y="805"/>
                        </a:lnTo>
                        <a:lnTo>
                          <a:pt x="567" y="769"/>
                        </a:lnTo>
                        <a:lnTo>
                          <a:pt x="609" y="731"/>
                        </a:lnTo>
                        <a:lnTo>
                          <a:pt x="647" y="688"/>
                        </a:lnTo>
                        <a:lnTo>
                          <a:pt x="683" y="644"/>
                        </a:lnTo>
                        <a:lnTo>
                          <a:pt x="712" y="594"/>
                        </a:lnTo>
                        <a:lnTo>
                          <a:pt x="737" y="541"/>
                        </a:lnTo>
                        <a:lnTo>
                          <a:pt x="757" y="489"/>
                        </a:lnTo>
                        <a:lnTo>
                          <a:pt x="773" y="431"/>
                        </a:lnTo>
                        <a:lnTo>
                          <a:pt x="782" y="370"/>
                        </a:lnTo>
                        <a:lnTo>
                          <a:pt x="784" y="310"/>
                        </a:lnTo>
                        <a:lnTo>
                          <a:pt x="777" y="310"/>
                        </a:lnTo>
                        <a:lnTo>
                          <a:pt x="775" y="249"/>
                        </a:lnTo>
                        <a:lnTo>
                          <a:pt x="766" y="191"/>
                        </a:lnTo>
                        <a:lnTo>
                          <a:pt x="753" y="133"/>
                        </a:lnTo>
                        <a:lnTo>
                          <a:pt x="732" y="79"/>
                        </a:lnTo>
                        <a:lnTo>
                          <a:pt x="708" y="27"/>
                        </a:lnTo>
                        <a:lnTo>
                          <a:pt x="690" y="0"/>
                        </a:lnTo>
                        <a:lnTo>
                          <a:pt x="694" y="3"/>
                        </a:lnTo>
                        <a:lnTo>
                          <a:pt x="697" y="5"/>
                        </a:lnTo>
                        <a:lnTo>
                          <a:pt x="699" y="7"/>
                        </a:lnTo>
                        <a:lnTo>
                          <a:pt x="703" y="9"/>
                        </a:lnTo>
                        <a:lnTo>
                          <a:pt x="712" y="25"/>
                        </a:lnTo>
                        <a:lnTo>
                          <a:pt x="737" y="77"/>
                        </a:lnTo>
                        <a:lnTo>
                          <a:pt x="757" y="133"/>
                        </a:lnTo>
                        <a:lnTo>
                          <a:pt x="773" y="189"/>
                        </a:lnTo>
                        <a:lnTo>
                          <a:pt x="782" y="249"/>
                        </a:lnTo>
                        <a:lnTo>
                          <a:pt x="784" y="310"/>
                        </a:lnTo>
                        <a:lnTo>
                          <a:pt x="777" y="310"/>
                        </a:lnTo>
                        <a:lnTo>
                          <a:pt x="775" y="370"/>
                        </a:lnTo>
                        <a:lnTo>
                          <a:pt x="766" y="428"/>
                        </a:lnTo>
                        <a:lnTo>
                          <a:pt x="753" y="487"/>
                        </a:lnTo>
                        <a:lnTo>
                          <a:pt x="732" y="538"/>
                        </a:lnTo>
                        <a:lnTo>
                          <a:pt x="708" y="590"/>
                        </a:lnTo>
                        <a:lnTo>
                          <a:pt x="676" y="639"/>
                        </a:lnTo>
                        <a:lnTo>
                          <a:pt x="643" y="684"/>
                        </a:lnTo>
                        <a:lnTo>
                          <a:pt x="605" y="727"/>
                        </a:lnTo>
                        <a:lnTo>
                          <a:pt x="562" y="765"/>
                        </a:lnTo>
                        <a:lnTo>
                          <a:pt x="517" y="798"/>
                        </a:lnTo>
                        <a:lnTo>
                          <a:pt x="468" y="830"/>
                        </a:lnTo>
                        <a:lnTo>
                          <a:pt x="416" y="854"/>
                        </a:lnTo>
                        <a:lnTo>
                          <a:pt x="365" y="874"/>
                        </a:lnTo>
                        <a:lnTo>
                          <a:pt x="307" y="888"/>
                        </a:lnTo>
                        <a:lnTo>
                          <a:pt x="248" y="897"/>
                        </a:lnTo>
                        <a:lnTo>
                          <a:pt x="188" y="901"/>
                        </a:lnTo>
                        <a:lnTo>
                          <a:pt x="127" y="897"/>
                        </a:lnTo>
                        <a:lnTo>
                          <a:pt x="69" y="888"/>
                        </a:lnTo>
                        <a:lnTo>
                          <a:pt x="11" y="874"/>
                        </a:lnTo>
                        <a:lnTo>
                          <a:pt x="0" y="870"/>
                        </a:lnTo>
                        <a:close/>
                      </a:path>
                    </a:pathLst>
                  </a:custGeom>
                  <a:solidFill>
                    <a:srgbClr val="e9c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76240" y="1641240"/>
                    <a:ext cx="1249200" cy="14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787" h="906">
                        <a:moveTo>
                          <a:pt x="0" y="865"/>
                        </a:moveTo>
                        <a:lnTo>
                          <a:pt x="2" y="868"/>
                        </a:lnTo>
                        <a:lnTo>
                          <a:pt x="4" y="870"/>
                        </a:lnTo>
                        <a:lnTo>
                          <a:pt x="7" y="872"/>
                        </a:lnTo>
                        <a:lnTo>
                          <a:pt x="9" y="874"/>
                        </a:lnTo>
                        <a:lnTo>
                          <a:pt x="18" y="879"/>
                        </a:lnTo>
                        <a:lnTo>
                          <a:pt x="74" y="892"/>
                        </a:lnTo>
                        <a:lnTo>
                          <a:pt x="134" y="901"/>
                        </a:lnTo>
                        <a:lnTo>
                          <a:pt x="195" y="906"/>
                        </a:lnTo>
                        <a:lnTo>
                          <a:pt x="255" y="901"/>
                        </a:lnTo>
                        <a:lnTo>
                          <a:pt x="314" y="892"/>
                        </a:lnTo>
                        <a:lnTo>
                          <a:pt x="372" y="879"/>
                        </a:lnTo>
                        <a:lnTo>
                          <a:pt x="423" y="859"/>
                        </a:lnTo>
                        <a:lnTo>
                          <a:pt x="475" y="834"/>
                        </a:lnTo>
                        <a:lnTo>
                          <a:pt x="524" y="803"/>
                        </a:lnTo>
                        <a:lnTo>
                          <a:pt x="571" y="769"/>
                        </a:lnTo>
                        <a:lnTo>
                          <a:pt x="614" y="731"/>
                        </a:lnTo>
                        <a:lnTo>
                          <a:pt x="652" y="688"/>
                        </a:lnTo>
                        <a:lnTo>
                          <a:pt x="686" y="643"/>
                        </a:lnTo>
                        <a:lnTo>
                          <a:pt x="715" y="594"/>
                        </a:lnTo>
                        <a:lnTo>
                          <a:pt x="742" y="540"/>
                        </a:lnTo>
                        <a:lnTo>
                          <a:pt x="760" y="489"/>
                        </a:lnTo>
                        <a:lnTo>
                          <a:pt x="775" y="433"/>
                        </a:lnTo>
                        <a:lnTo>
                          <a:pt x="784" y="372"/>
                        </a:lnTo>
                        <a:lnTo>
                          <a:pt x="787" y="312"/>
                        </a:lnTo>
                        <a:lnTo>
                          <a:pt x="782" y="312"/>
                        </a:lnTo>
                        <a:lnTo>
                          <a:pt x="778" y="251"/>
                        </a:lnTo>
                        <a:lnTo>
                          <a:pt x="769" y="193"/>
                        </a:lnTo>
                        <a:lnTo>
                          <a:pt x="755" y="137"/>
                        </a:lnTo>
                        <a:lnTo>
                          <a:pt x="735" y="83"/>
                        </a:lnTo>
                        <a:lnTo>
                          <a:pt x="710" y="32"/>
                        </a:lnTo>
                        <a:lnTo>
                          <a:pt x="690" y="0"/>
                        </a:lnTo>
                        <a:lnTo>
                          <a:pt x="692" y="0"/>
                        </a:lnTo>
                        <a:lnTo>
                          <a:pt x="697" y="2"/>
                        </a:lnTo>
                        <a:lnTo>
                          <a:pt x="699" y="5"/>
                        </a:lnTo>
                        <a:lnTo>
                          <a:pt x="701" y="7"/>
                        </a:lnTo>
                        <a:lnTo>
                          <a:pt x="715" y="29"/>
                        </a:lnTo>
                        <a:lnTo>
                          <a:pt x="742" y="81"/>
                        </a:lnTo>
                        <a:lnTo>
                          <a:pt x="760" y="135"/>
                        </a:lnTo>
                        <a:lnTo>
                          <a:pt x="775" y="193"/>
                        </a:lnTo>
                        <a:lnTo>
                          <a:pt x="784" y="251"/>
                        </a:lnTo>
                        <a:lnTo>
                          <a:pt x="787" y="312"/>
                        </a:lnTo>
                        <a:lnTo>
                          <a:pt x="782" y="312"/>
                        </a:lnTo>
                        <a:lnTo>
                          <a:pt x="778" y="372"/>
                        </a:lnTo>
                        <a:lnTo>
                          <a:pt x="769" y="430"/>
                        </a:lnTo>
                        <a:lnTo>
                          <a:pt x="755" y="487"/>
                        </a:lnTo>
                        <a:lnTo>
                          <a:pt x="735" y="538"/>
                        </a:lnTo>
                        <a:lnTo>
                          <a:pt x="710" y="590"/>
                        </a:lnTo>
                        <a:lnTo>
                          <a:pt x="681" y="639"/>
                        </a:lnTo>
                        <a:lnTo>
                          <a:pt x="648" y="684"/>
                        </a:lnTo>
                        <a:lnTo>
                          <a:pt x="610" y="726"/>
                        </a:lnTo>
                        <a:lnTo>
                          <a:pt x="567" y="764"/>
                        </a:lnTo>
                        <a:lnTo>
                          <a:pt x="522" y="798"/>
                        </a:lnTo>
                        <a:lnTo>
                          <a:pt x="473" y="827"/>
                        </a:lnTo>
                        <a:lnTo>
                          <a:pt x="421" y="852"/>
                        </a:lnTo>
                        <a:lnTo>
                          <a:pt x="370" y="872"/>
                        </a:lnTo>
                        <a:lnTo>
                          <a:pt x="314" y="888"/>
                        </a:lnTo>
                        <a:lnTo>
                          <a:pt x="255" y="894"/>
                        </a:lnTo>
                        <a:lnTo>
                          <a:pt x="195" y="899"/>
                        </a:lnTo>
                        <a:lnTo>
                          <a:pt x="134" y="894"/>
                        </a:lnTo>
                        <a:lnTo>
                          <a:pt x="76" y="888"/>
                        </a:lnTo>
                        <a:lnTo>
                          <a:pt x="20" y="872"/>
                        </a:lnTo>
                        <a:lnTo>
                          <a:pt x="0" y="865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865080" y="1635120"/>
                    <a:ext cx="1255680" cy="1436400"/>
                  </a:xfrm>
                  <a:custGeom>
                    <a:avLst/>
                    <a:gdLst/>
                    <a:ahLst/>
                    <a:rect l="l" t="t" r="r" b="b"/>
                    <a:pathLst>
                      <a:path w="791" h="905">
                        <a:moveTo>
                          <a:pt x="0" y="863"/>
                        </a:moveTo>
                        <a:lnTo>
                          <a:pt x="2" y="865"/>
                        </a:lnTo>
                        <a:lnTo>
                          <a:pt x="5" y="867"/>
                        </a:lnTo>
                        <a:lnTo>
                          <a:pt x="7" y="869"/>
                        </a:lnTo>
                        <a:lnTo>
                          <a:pt x="9" y="872"/>
                        </a:lnTo>
                        <a:lnTo>
                          <a:pt x="25" y="878"/>
                        </a:lnTo>
                        <a:lnTo>
                          <a:pt x="83" y="892"/>
                        </a:lnTo>
                        <a:lnTo>
                          <a:pt x="141" y="901"/>
                        </a:lnTo>
                        <a:lnTo>
                          <a:pt x="202" y="905"/>
                        </a:lnTo>
                        <a:lnTo>
                          <a:pt x="262" y="901"/>
                        </a:lnTo>
                        <a:lnTo>
                          <a:pt x="321" y="892"/>
                        </a:lnTo>
                        <a:lnTo>
                          <a:pt x="377" y="878"/>
                        </a:lnTo>
                        <a:lnTo>
                          <a:pt x="428" y="858"/>
                        </a:lnTo>
                        <a:lnTo>
                          <a:pt x="482" y="833"/>
                        </a:lnTo>
                        <a:lnTo>
                          <a:pt x="529" y="804"/>
                        </a:lnTo>
                        <a:lnTo>
                          <a:pt x="576" y="771"/>
                        </a:lnTo>
                        <a:lnTo>
                          <a:pt x="617" y="733"/>
                        </a:lnTo>
                        <a:lnTo>
                          <a:pt x="655" y="690"/>
                        </a:lnTo>
                        <a:lnTo>
                          <a:pt x="688" y="643"/>
                        </a:lnTo>
                        <a:lnTo>
                          <a:pt x="720" y="596"/>
                        </a:lnTo>
                        <a:lnTo>
                          <a:pt x="744" y="544"/>
                        </a:lnTo>
                        <a:lnTo>
                          <a:pt x="764" y="493"/>
                        </a:lnTo>
                        <a:lnTo>
                          <a:pt x="778" y="434"/>
                        </a:lnTo>
                        <a:lnTo>
                          <a:pt x="787" y="376"/>
                        </a:lnTo>
                        <a:lnTo>
                          <a:pt x="791" y="316"/>
                        </a:lnTo>
                        <a:lnTo>
                          <a:pt x="785" y="316"/>
                        </a:lnTo>
                        <a:lnTo>
                          <a:pt x="780" y="255"/>
                        </a:lnTo>
                        <a:lnTo>
                          <a:pt x="771" y="199"/>
                        </a:lnTo>
                        <a:lnTo>
                          <a:pt x="758" y="143"/>
                        </a:lnTo>
                        <a:lnTo>
                          <a:pt x="738" y="89"/>
                        </a:lnTo>
                        <a:lnTo>
                          <a:pt x="713" y="38"/>
                        </a:lnTo>
                        <a:lnTo>
                          <a:pt x="690" y="0"/>
                        </a:lnTo>
                        <a:lnTo>
                          <a:pt x="693" y="0"/>
                        </a:lnTo>
                        <a:lnTo>
                          <a:pt x="695" y="2"/>
                        </a:lnTo>
                        <a:lnTo>
                          <a:pt x="699" y="4"/>
                        </a:lnTo>
                        <a:lnTo>
                          <a:pt x="702" y="6"/>
                        </a:lnTo>
                        <a:lnTo>
                          <a:pt x="720" y="33"/>
                        </a:lnTo>
                        <a:lnTo>
                          <a:pt x="744" y="87"/>
                        </a:lnTo>
                        <a:lnTo>
                          <a:pt x="764" y="141"/>
                        </a:lnTo>
                        <a:lnTo>
                          <a:pt x="778" y="197"/>
                        </a:lnTo>
                        <a:lnTo>
                          <a:pt x="787" y="255"/>
                        </a:lnTo>
                        <a:lnTo>
                          <a:pt x="791" y="316"/>
                        </a:lnTo>
                        <a:lnTo>
                          <a:pt x="785" y="316"/>
                        </a:lnTo>
                        <a:lnTo>
                          <a:pt x="780" y="376"/>
                        </a:lnTo>
                        <a:lnTo>
                          <a:pt x="771" y="434"/>
                        </a:lnTo>
                        <a:lnTo>
                          <a:pt x="758" y="491"/>
                        </a:lnTo>
                        <a:lnTo>
                          <a:pt x="738" y="542"/>
                        </a:lnTo>
                        <a:lnTo>
                          <a:pt x="713" y="591"/>
                        </a:lnTo>
                        <a:lnTo>
                          <a:pt x="684" y="641"/>
                        </a:lnTo>
                        <a:lnTo>
                          <a:pt x="650" y="686"/>
                        </a:lnTo>
                        <a:lnTo>
                          <a:pt x="612" y="728"/>
                        </a:lnTo>
                        <a:lnTo>
                          <a:pt x="572" y="764"/>
                        </a:lnTo>
                        <a:lnTo>
                          <a:pt x="527" y="798"/>
                        </a:lnTo>
                        <a:lnTo>
                          <a:pt x="478" y="829"/>
                        </a:lnTo>
                        <a:lnTo>
                          <a:pt x="426" y="851"/>
                        </a:lnTo>
                        <a:lnTo>
                          <a:pt x="374" y="872"/>
                        </a:lnTo>
                        <a:lnTo>
                          <a:pt x="318" y="887"/>
                        </a:lnTo>
                        <a:lnTo>
                          <a:pt x="262" y="896"/>
                        </a:lnTo>
                        <a:lnTo>
                          <a:pt x="202" y="898"/>
                        </a:lnTo>
                        <a:lnTo>
                          <a:pt x="141" y="896"/>
                        </a:lnTo>
                        <a:lnTo>
                          <a:pt x="83" y="887"/>
                        </a:lnTo>
                        <a:lnTo>
                          <a:pt x="27" y="872"/>
                        </a:lnTo>
                        <a:lnTo>
                          <a:pt x="0" y="863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858600" y="1626840"/>
                    <a:ext cx="1255680" cy="1438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1" h="906">
                        <a:moveTo>
                          <a:pt x="0" y="861"/>
                        </a:moveTo>
                        <a:lnTo>
                          <a:pt x="2" y="863"/>
                        </a:lnTo>
                        <a:lnTo>
                          <a:pt x="4" y="865"/>
                        </a:lnTo>
                        <a:lnTo>
                          <a:pt x="6" y="868"/>
                        </a:lnTo>
                        <a:lnTo>
                          <a:pt x="9" y="870"/>
                        </a:lnTo>
                        <a:lnTo>
                          <a:pt x="31" y="879"/>
                        </a:lnTo>
                        <a:lnTo>
                          <a:pt x="87" y="894"/>
                        </a:lnTo>
                        <a:lnTo>
                          <a:pt x="145" y="903"/>
                        </a:lnTo>
                        <a:lnTo>
                          <a:pt x="206" y="906"/>
                        </a:lnTo>
                        <a:lnTo>
                          <a:pt x="266" y="903"/>
                        </a:lnTo>
                        <a:lnTo>
                          <a:pt x="325" y="894"/>
                        </a:lnTo>
                        <a:lnTo>
                          <a:pt x="381" y="879"/>
                        </a:lnTo>
                        <a:lnTo>
                          <a:pt x="432" y="859"/>
                        </a:lnTo>
                        <a:lnTo>
                          <a:pt x="484" y="834"/>
                        </a:lnTo>
                        <a:lnTo>
                          <a:pt x="531" y="805"/>
                        </a:lnTo>
                        <a:lnTo>
                          <a:pt x="576" y="771"/>
                        </a:lnTo>
                        <a:lnTo>
                          <a:pt x="618" y="733"/>
                        </a:lnTo>
                        <a:lnTo>
                          <a:pt x="656" y="693"/>
                        </a:lnTo>
                        <a:lnTo>
                          <a:pt x="690" y="646"/>
                        </a:lnTo>
                        <a:lnTo>
                          <a:pt x="719" y="599"/>
                        </a:lnTo>
                        <a:lnTo>
                          <a:pt x="744" y="547"/>
                        </a:lnTo>
                        <a:lnTo>
                          <a:pt x="764" y="496"/>
                        </a:lnTo>
                        <a:lnTo>
                          <a:pt x="777" y="439"/>
                        </a:lnTo>
                        <a:lnTo>
                          <a:pt x="786" y="381"/>
                        </a:lnTo>
                        <a:lnTo>
                          <a:pt x="791" y="321"/>
                        </a:lnTo>
                        <a:lnTo>
                          <a:pt x="784" y="321"/>
                        </a:lnTo>
                        <a:lnTo>
                          <a:pt x="780" y="262"/>
                        </a:lnTo>
                        <a:lnTo>
                          <a:pt x="773" y="204"/>
                        </a:lnTo>
                        <a:lnTo>
                          <a:pt x="757" y="148"/>
                        </a:lnTo>
                        <a:lnTo>
                          <a:pt x="737" y="94"/>
                        </a:lnTo>
                        <a:lnTo>
                          <a:pt x="715" y="45"/>
                        </a:lnTo>
                        <a:lnTo>
                          <a:pt x="688" y="0"/>
                        </a:lnTo>
                        <a:lnTo>
                          <a:pt x="690" y="2"/>
                        </a:lnTo>
                        <a:lnTo>
                          <a:pt x="692" y="2"/>
                        </a:lnTo>
                        <a:lnTo>
                          <a:pt x="694" y="5"/>
                        </a:lnTo>
                        <a:lnTo>
                          <a:pt x="697" y="7"/>
                        </a:lnTo>
                        <a:lnTo>
                          <a:pt x="719" y="41"/>
                        </a:lnTo>
                        <a:lnTo>
                          <a:pt x="744" y="92"/>
                        </a:lnTo>
                        <a:lnTo>
                          <a:pt x="764" y="146"/>
                        </a:lnTo>
                        <a:lnTo>
                          <a:pt x="777" y="202"/>
                        </a:lnTo>
                        <a:lnTo>
                          <a:pt x="786" y="260"/>
                        </a:lnTo>
                        <a:lnTo>
                          <a:pt x="791" y="321"/>
                        </a:lnTo>
                        <a:lnTo>
                          <a:pt x="784" y="321"/>
                        </a:lnTo>
                        <a:lnTo>
                          <a:pt x="780" y="381"/>
                        </a:lnTo>
                        <a:lnTo>
                          <a:pt x="773" y="437"/>
                        </a:lnTo>
                        <a:lnTo>
                          <a:pt x="757" y="493"/>
                        </a:lnTo>
                        <a:lnTo>
                          <a:pt x="737" y="545"/>
                        </a:lnTo>
                        <a:lnTo>
                          <a:pt x="715" y="596"/>
                        </a:lnTo>
                        <a:lnTo>
                          <a:pt x="686" y="643"/>
                        </a:lnTo>
                        <a:lnTo>
                          <a:pt x="652" y="688"/>
                        </a:lnTo>
                        <a:lnTo>
                          <a:pt x="614" y="729"/>
                        </a:lnTo>
                        <a:lnTo>
                          <a:pt x="573" y="767"/>
                        </a:lnTo>
                        <a:lnTo>
                          <a:pt x="529" y="800"/>
                        </a:lnTo>
                        <a:lnTo>
                          <a:pt x="479" y="829"/>
                        </a:lnTo>
                        <a:lnTo>
                          <a:pt x="430" y="854"/>
                        </a:lnTo>
                        <a:lnTo>
                          <a:pt x="378" y="872"/>
                        </a:lnTo>
                        <a:lnTo>
                          <a:pt x="322" y="888"/>
                        </a:lnTo>
                        <a:lnTo>
                          <a:pt x="264" y="897"/>
                        </a:lnTo>
                        <a:lnTo>
                          <a:pt x="206" y="899"/>
                        </a:lnTo>
                        <a:lnTo>
                          <a:pt x="145" y="897"/>
                        </a:lnTo>
                        <a:lnTo>
                          <a:pt x="89" y="888"/>
                        </a:lnTo>
                        <a:lnTo>
                          <a:pt x="33" y="872"/>
                        </a:lnTo>
                        <a:lnTo>
                          <a:pt x="0" y="861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47440" y="1620720"/>
                    <a:ext cx="1258920" cy="14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905">
                        <a:moveTo>
                          <a:pt x="0" y="858"/>
                        </a:moveTo>
                        <a:lnTo>
                          <a:pt x="2" y="860"/>
                        </a:lnTo>
                        <a:lnTo>
                          <a:pt x="4" y="863"/>
                        </a:lnTo>
                        <a:lnTo>
                          <a:pt x="7" y="865"/>
                        </a:lnTo>
                        <a:lnTo>
                          <a:pt x="9" y="867"/>
                        </a:lnTo>
                        <a:lnTo>
                          <a:pt x="40" y="878"/>
                        </a:lnTo>
                        <a:lnTo>
                          <a:pt x="96" y="894"/>
                        </a:lnTo>
                        <a:lnTo>
                          <a:pt x="152" y="903"/>
                        </a:lnTo>
                        <a:lnTo>
                          <a:pt x="213" y="905"/>
                        </a:lnTo>
                        <a:lnTo>
                          <a:pt x="271" y="903"/>
                        </a:lnTo>
                        <a:lnTo>
                          <a:pt x="329" y="894"/>
                        </a:lnTo>
                        <a:lnTo>
                          <a:pt x="385" y="878"/>
                        </a:lnTo>
                        <a:lnTo>
                          <a:pt x="437" y="860"/>
                        </a:lnTo>
                        <a:lnTo>
                          <a:pt x="489" y="836"/>
                        </a:lnTo>
                        <a:lnTo>
                          <a:pt x="536" y="807"/>
                        </a:lnTo>
                        <a:lnTo>
                          <a:pt x="580" y="773"/>
                        </a:lnTo>
                        <a:lnTo>
                          <a:pt x="623" y="735"/>
                        </a:lnTo>
                        <a:lnTo>
                          <a:pt x="659" y="692"/>
                        </a:lnTo>
                        <a:lnTo>
                          <a:pt x="693" y="647"/>
                        </a:lnTo>
                        <a:lnTo>
                          <a:pt x="722" y="600"/>
                        </a:lnTo>
                        <a:lnTo>
                          <a:pt x="746" y="549"/>
                        </a:lnTo>
                        <a:lnTo>
                          <a:pt x="766" y="497"/>
                        </a:lnTo>
                        <a:lnTo>
                          <a:pt x="782" y="441"/>
                        </a:lnTo>
                        <a:lnTo>
                          <a:pt x="789" y="385"/>
                        </a:lnTo>
                        <a:lnTo>
                          <a:pt x="793" y="325"/>
                        </a:lnTo>
                        <a:lnTo>
                          <a:pt x="787" y="325"/>
                        </a:lnTo>
                        <a:lnTo>
                          <a:pt x="784" y="266"/>
                        </a:lnTo>
                        <a:lnTo>
                          <a:pt x="775" y="208"/>
                        </a:lnTo>
                        <a:lnTo>
                          <a:pt x="760" y="154"/>
                        </a:lnTo>
                        <a:lnTo>
                          <a:pt x="742" y="101"/>
                        </a:lnTo>
                        <a:lnTo>
                          <a:pt x="717" y="51"/>
                        </a:lnTo>
                        <a:lnTo>
                          <a:pt x="688" y="2"/>
                        </a:lnTo>
                        <a:lnTo>
                          <a:pt x="686" y="0"/>
                        </a:lnTo>
                        <a:lnTo>
                          <a:pt x="688" y="2"/>
                        </a:lnTo>
                        <a:lnTo>
                          <a:pt x="693" y="4"/>
                        </a:lnTo>
                        <a:lnTo>
                          <a:pt x="695" y="4"/>
                        </a:lnTo>
                        <a:lnTo>
                          <a:pt x="697" y="6"/>
                        </a:lnTo>
                        <a:lnTo>
                          <a:pt x="722" y="47"/>
                        </a:lnTo>
                        <a:lnTo>
                          <a:pt x="746" y="98"/>
                        </a:lnTo>
                        <a:lnTo>
                          <a:pt x="766" y="152"/>
                        </a:lnTo>
                        <a:lnTo>
                          <a:pt x="782" y="208"/>
                        </a:lnTo>
                        <a:lnTo>
                          <a:pt x="789" y="266"/>
                        </a:lnTo>
                        <a:lnTo>
                          <a:pt x="793" y="325"/>
                        </a:lnTo>
                        <a:lnTo>
                          <a:pt x="787" y="325"/>
                        </a:lnTo>
                        <a:lnTo>
                          <a:pt x="784" y="383"/>
                        </a:lnTo>
                        <a:lnTo>
                          <a:pt x="775" y="441"/>
                        </a:lnTo>
                        <a:lnTo>
                          <a:pt x="760" y="497"/>
                        </a:lnTo>
                        <a:lnTo>
                          <a:pt x="742" y="547"/>
                        </a:lnTo>
                        <a:lnTo>
                          <a:pt x="717" y="598"/>
                        </a:lnTo>
                        <a:lnTo>
                          <a:pt x="688" y="645"/>
                        </a:lnTo>
                        <a:lnTo>
                          <a:pt x="654" y="690"/>
                        </a:lnTo>
                        <a:lnTo>
                          <a:pt x="619" y="730"/>
                        </a:lnTo>
                        <a:lnTo>
                          <a:pt x="576" y="766"/>
                        </a:lnTo>
                        <a:lnTo>
                          <a:pt x="533" y="800"/>
                        </a:lnTo>
                        <a:lnTo>
                          <a:pt x="484" y="829"/>
                        </a:lnTo>
                        <a:lnTo>
                          <a:pt x="437" y="854"/>
                        </a:lnTo>
                        <a:lnTo>
                          <a:pt x="383" y="874"/>
                        </a:lnTo>
                        <a:lnTo>
                          <a:pt x="329" y="887"/>
                        </a:lnTo>
                        <a:lnTo>
                          <a:pt x="271" y="896"/>
                        </a:lnTo>
                        <a:lnTo>
                          <a:pt x="213" y="898"/>
                        </a:lnTo>
                        <a:lnTo>
                          <a:pt x="155" y="896"/>
                        </a:lnTo>
                        <a:lnTo>
                          <a:pt x="96" y="887"/>
                        </a:lnTo>
                        <a:lnTo>
                          <a:pt x="40" y="874"/>
                        </a:lnTo>
                        <a:lnTo>
                          <a:pt x="0" y="858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39520" y="1616040"/>
                    <a:ext cx="1260720" cy="14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4" h="904">
                        <a:moveTo>
                          <a:pt x="0" y="854"/>
                        </a:moveTo>
                        <a:lnTo>
                          <a:pt x="3" y="857"/>
                        </a:lnTo>
                        <a:lnTo>
                          <a:pt x="5" y="859"/>
                        </a:lnTo>
                        <a:lnTo>
                          <a:pt x="7" y="861"/>
                        </a:lnTo>
                        <a:lnTo>
                          <a:pt x="9" y="863"/>
                        </a:lnTo>
                        <a:lnTo>
                          <a:pt x="45" y="877"/>
                        </a:lnTo>
                        <a:lnTo>
                          <a:pt x="101" y="892"/>
                        </a:lnTo>
                        <a:lnTo>
                          <a:pt x="160" y="901"/>
                        </a:lnTo>
                        <a:lnTo>
                          <a:pt x="218" y="904"/>
                        </a:lnTo>
                        <a:lnTo>
                          <a:pt x="276" y="901"/>
                        </a:lnTo>
                        <a:lnTo>
                          <a:pt x="334" y="892"/>
                        </a:lnTo>
                        <a:lnTo>
                          <a:pt x="390" y="877"/>
                        </a:lnTo>
                        <a:lnTo>
                          <a:pt x="442" y="859"/>
                        </a:lnTo>
                        <a:lnTo>
                          <a:pt x="491" y="834"/>
                        </a:lnTo>
                        <a:lnTo>
                          <a:pt x="538" y="805"/>
                        </a:lnTo>
                        <a:lnTo>
                          <a:pt x="583" y="771"/>
                        </a:lnTo>
                        <a:lnTo>
                          <a:pt x="624" y="733"/>
                        </a:lnTo>
                        <a:lnTo>
                          <a:pt x="662" y="693"/>
                        </a:lnTo>
                        <a:lnTo>
                          <a:pt x="695" y="648"/>
                        </a:lnTo>
                        <a:lnTo>
                          <a:pt x="724" y="601"/>
                        </a:lnTo>
                        <a:lnTo>
                          <a:pt x="749" y="550"/>
                        </a:lnTo>
                        <a:lnTo>
                          <a:pt x="767" y="500"/>
                        </a:lnTo>
                        <a:lnTo>
                          <a:pt x="783" y="444"/>
                        </a:lnTo>
                        <a:lnTo>
                          <a:pt x="789" y="386"/>
                        </a:lnTo>
                        <a:lnTo>
                          <a:pt x="794" y="328"/>
                        </a:lnTo>
                        <a:lnTo>
                          <a:pt x="787" y="328"/>
                        </a:lnTo>
                        <a:lnTo>
                          <a:pt x="785" y="269"/>
                        </a:lnTo>
                        <a:lnTo>
                          <a:pt x="776" y="213"/>
                        </a:lnTo>
                        <a:lnTo>
                          <a:pt x="762" y="157"/>
                        </a:lnTo>
                        <a:lnTo>
                          <a:pt x="742" y="106"/>
                        </a:lnTo>
                        <a:lnTo>
                          <a:pt x="718" y="57"/>
                        </a:lnTo>
                        <a:lnTo>
                          <a:pt x="689" y="7"/>
                        </a:lnTo>
                        <a:lnTo>
                          <a:pt x="684" y="0"/>
                        </a:lnTo>
                        <a:lnTo>
                          <a:pt x="686" y="0"/>
                        </a:lnTo>
                        <a:lnTo>
                          <a:pt x="689" y="3"/>
                        </a:lnTo>
                        <a:lnTo>
                          <a:pt x="693" y="5"/>
                        </a:lnTo>
                        <a:lnTo>
                          <a:pt x="695" y="5"/>
                        </a:lnTo>
                        <a:lnTo>
                          <a:pt x="724" y="52"/>
                        </a:lnTo>
                        <a:lnTo>
                          <a:pt x="749" y="104"/>
                        </a:lnTo>
                        <a:lnTo>
                          <a:pt x="767" y="155"/>
                        </a:lnTo>
                        <a:lnTo>
                          <a:pt x="783" y="211"/>
                        </a:lnTo>
                        <a:lnTo>
                          <a:pt x="789" y="269"/>
                        </a:lnTo>
                        <a:lnTo>
                          <a:pt x="794" y="328"/>
                        </a:lnTo>
                        <a:lnTo>
                          <a:pt x="787" y="328"/>
                        </a:lnTo>
                        <a:lnTo>
                          <a:pt x="785" y="386"/>
                        </a:lnTo>
                        <a:lnTo>
                          <a:pt x="776" y="444"/>
                        </a:lnTo>
                        <a:lnTo>
                          <a:pt x="762" y="498"/>
                        </a:lnTo>
                        <a:lnTo>
                          <a:pt x="742" y="547"/>
                        </a:lnTo>
                        <a:lnTo>
                          <a:pt x="718" y="599"/>
                        </a:lnTo>
                        <a:lnTo>
                          <a:pt x="689" y="646"/>
                        </a:lnTo>
                        <a:lnTo>
                          <a:pt x="657" y="689"/>
                        </a:lnTo>
                        <a:lnTo>
                          <a:pt x="619" y="731"/>
                        </a:lnTo>
                        <a:lnTo>
                          <a:pt x="579" y="767"/>
                        </a:lnTo>
                        <a:lnTo>
                          <a:pt x="536" y="801"/>
                        </a:lnTo>
                        <a:lnTo>
                          <a:pt x="487" y="827"/>
                        </a:lnTo>
                        <a:lnTo>
                          <a:pt x="440" y="852"/>
                        </a:lnTo>
                        <a:lnTo>
                          <a:pt x="388" y="872"/>
                        </a:lnTo>
                        <a:lnTo>
                          <a:pt x="332" y="886"/>
                        </a:lnTo>
                        <a:lnTo>
                          <a:pt x="276" y="895"/>
                        </a:lnTo>
                        <a:lnTo>
                          <a:pt x="218" y="897"/>
                        </a:lnTo>
                        <a:lnTo>
                          <a:pt x="160" y="895"/>
                        </a:lnTo>
                        <a:lnTo>
                          <a:pt x="101" y="886"/>
                        </a:lnTo>
                        <a:lnTo>
                          <a:pt x="48" y="872"/>
                        </a:lnTo>
                        <a:lnTo>
                          <a:pt x="0" y="854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33400" y="1609560"/>
                    <a:ext cx="125892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903">
                        <a:moveTo>
                          <a:pt x="0" y="852"/>
                        </a:moveTo>
                        <a:lnTo>
                          <a:pt x="2" y="854"/>
                        </a:lnTo>
                        <a:lnTo>
                          <a:pt x="4" y="856"/>
                        </a:lnTo>
                        <a:lnTo>
                          <a:pt x="4" y="861"/>
                        </a:lnTo>
                        <a:lnTo>
                          <a:pt x="7" y="863"/>
                        </a:lnTo>
                        <a:lnTo>
                          <a:pt x="52" y="879"/>
                        </a:lnTo>
                        <a:lnTo>
                          <a:pt x="105" y="892"/>
                        </a:lnTo>
                        <a:lnTo>
                          <a:pt x="164" y="901"/>
                        </a:lnTo>
                        <a:lnTo>
                          <a:pt x="222" y="903"/>
                        </a:lnTo>
                        <a:lnTo>
                          <a:pt x="280" y="901"/>
                        </a:lnTo>
                        <a:lnTo>
                          <a:pt x="338" y="892"/>
                        </a:lnTo>
                        <a:lnTo>
                          <a:pt x="392" y="879"/>
                        </a:lnTo>
                        <a:lnTo>
                          <a:pt x="446" y="858"/>
                        </a:lnTo>
                        <a:lnTo>
                          <a:pt x="493" y="834"/>
                        </a:lnTo>
                        <a:lnTo>
                          <a:pt x="540" y="805"/>
                        </a:lnTo>
                        <a:lnTo>
                          <a:pt x="585" y="773"/>
                        </a:lnTo>
                        <a:lnTo>
                          <a:pt x="625" y="735"/>
                        </a:lnTo>
                        <a:lnTo>
                          <a:pt x="663" y="695"/>
                        </a:lnTo>
                        <a:lnTo>
                          <a:pt x="695" y="650"/>
                        </a:lnTo>
                        <a:lnTo>
                          <a:pt x="724" y="603"/>
                        </a:lnTo>
                        <a:lnTo>
                          <a:pt x="749" y="554"/>
                        </a:lnTo>
                        <a:lnTo>
                          <a:pt x="766" y="502"/>
                        </a:lnTo>
                        <a:lnTo>
                          <a:pt x="782" y="448"/>
                        </a:lnTo>
                        <a:lnTo>
                          <a:pt x="791" y="390"/>
                        </a:lnTo>
                        <a:lnTo>
                          <a:pt x="793" y="332"/>
                        </a:lnTo>
                        <a:lnTo>
                          <a:pt x="787" y="332"/>
                        </a:lnTo>
                        <a:lnTo>
                          <a:pt x="784" y="273"/>
                        </a:lnTo>
                        <a:lnTo>
                          <a:pt x="775" y="217"/>
                        </a:lnTo>
                        <a:lnTo>
                          <a:pt x="762" y="164"/>
                        </a:lnTo>
                        <a:lnTo>
                          <a:pt x="742" y="112"/>
                        </a:lnTo>
                        <a:lnTo>
                          <a:pt x="719" y="61"/>
                        </a:lnTo>
                        <a:lnTo>
                          <a:pt x="690" y="13"/>
                        </a:lnTo>
                        <a:lnTo>
                          <a:pt x="679" y="0"/>
                        </a:lnTo>
                        <a:lnTo>
                          <a:pt x="681" y="2"/>
                        </a:lnTo>
                        <a:lnTo>
                          <a:pt x="686" y="2"/>
                        </a:lnTo>
                        <a:lnTo>
                          <a:pt x="688" y="4"/>
                        </a:lnTo>
                        <a:lnTo>
                          <a:pt x="690" y="4"/>
                        </a:lnTo>
                        <a:lnTo>
                          <a:pt x="695" y="11"/>
                        </a:lnTo>
                        <a:lnTo>
                          <a:pt x="724" y="58"/>
                        </a:lnTo>
                        <a:lnTo>
                          <a:pt x="749" y="108"/>
                        </a:lnTo>
                        <a:lnTo>
                          <a:pt x="766" y="161"/>
                        </a:lnTo>
                        <a:lnTo>
                          <a:pt x="782" y="215"/>
                        </a:lnTo>
                        <a:lnTo>
                          <a:pt x="791" y="273"/>
                        </a:lnTo>
                        <a:lnTo>
                          <a:pt x="793" y="332"/>
                        </a:lnTo>
                        <a:lnTo>
                          <a:pt x="787" y="332"/>
                        </a:lnTo>
                        <a:lnTo>
                          <a:pt x="784" y="390"/>
                        </a:lnTo>
                        <a:lnTo>
                          <a:pt x="775" y="446"/>
                        </a:lnTo>
                        <a:lnTo>
                          <a:pt x="762" y="500"/>
                        </a:lnTo>
                        <a:lnTo>
                          <a:pt x="742" y="551"/>
                        </a:lnTo>
                        <a:lnTo>
                          <a:pt x="719" y="601"/>
                        </a:lnTo>
                        <a:lnTo>
                          <a:pt x="690" y="648"/>
                        </a:lnTo>
                        <a:lnTo>
                          <a:pt x="657" y="690"/>
                        </a:lnTo>
                        <a:lnTo>
                          <a:pt x="621" y="731"/>
                        </a:lnTo>
                        <a:lnTo>
                          <a:pt x="580" y="769"/>
                        </a:lnTo>
                        <a:lnTo>
                          <a:pt x="538" y="800"/>
                        </a:lnTo>
                        <a:lnTo>
                          <a:pt x="491" y="829"/>
                        </a:lnTo>
                        <a:lnTo>
                          <a:pt x="442" y="852"/>
                        </a:lnTo>
                        <a:lnTo>
                          <a:pt x="390" y="872"/>
                        </a:lnTo>
                        <a:lnTo>
                          <a:pt x="336" y="885"/>
                        </a:lnTo>
                        <a:lnTo>
                          <a:pt x="280" y="894"/>
                        </a:lnTo>
                        <a:lnTo>
                          <a:pt x="222" y="896"/>
                        </a:lnTo>
                        <a:lnTo>
                          <a:pt x="164" y="894"/>
                        </a:lnTo>
                        <a:lnTo>
                          <a:pt x="108" y="885"/>
                        </a:lnTo>
                        <a:lnTo>
                          <a:pt x="54" y="872"/>
                        </a:lnTo>
                        <a:lnTo>
                          <a:pt x="0" y="852"/>
                        </a:lnTo>
                        <a:lnTo>
                          <a:pt x="0" y="852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822240" y="1603080"/>
                    <a:ext cx="126360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903">
                        <a:moveTo>
                          <a:pt x="0" y="849"/>
                        </a:moveTo>
                        <a:lnTo>
                          <a:pt x="3" y="851"/>
                        </a:lnTo>
                        <a:lnTo>
                          <a:pt x="5" y="853"/>
                        </a:lnTo>
                        <a:lnTo>
                          <a:pt x="7" y="858"/>
                        </a:lnTo>
                        <a:lnTo>
                          <a:pt x="9" y="860"/>
                        </a:lnTo>
                        <a:lnTo>
                          <a:pt x="59" y="878"/>
                        </a:lnTo>
                        <a:lnTo>
                          <a:pt x="115" y="892"/>
                        </a:lnTo>
                        <a:lnTo>
                          <a:pt x="171" y="900"/>
                        </a:lnTo>
                        <a:lnTo>
                          <a:pt x="229" y="903"/>
                        </a:lnTo>
                        <a:lnTo>
                          <a:pt x="287" y="900"/>
                        </a:lnTo>
                        <a:lnTo>
                          <a:pt x="343" y="892"/>
                        </a:lnTo>
                        <a:lnTo>
                          <a:pt x="397" y="878"/>
                        </a:lnTo>
                        <a:lnTo>
                          <a:pt x="451" y="858"/>
                        </a:lnTo>
                        <a:lnTo>
                          <a:pt x="498" y="835"/>
                        </a:lnTo>
                        <a:lnTo>
                          <a:pt x="545" y="806"/>
                        </a:lnTo>
                        <a:lnTo>
                          <a:pt x="590" y="773"/>
                        </a:lnTo>
                        <a:lnTo>
                          <a:pt x="630" y="737"/>
                        </a:lnTo>
                        <a:lnTo>
                          <a:pt x="666" y="697"/>
                        </a:lnTo>
                        <a:lnTo>
                          <a:pt x="700" y="652"/>
                        </a:lnTo>
                        <a:lnTo>
                          <a:pt x="726" y="605"/>
                        </a:lnTo>
                        <a:lnTo>
                          <a:pt x="751" y="555"/>
                        </a:lnTo>
                        <a:lnTo>
                          <a:pt x="771" y="506"/>
                        </a:lnTo>
                        <a:lnTo>
                          <a:pt x="785" y="450"/>
                        </a:lnTo>
                        <a:lnTo>
                          <a:pt x="794" y="394"/>
                        </a:lnTo>
                        <a:lnTo>
                          <a:pt x="796" y="336"/>
                        </a:lnTo>
                        <a:lnTo>
                          <a:pt x="789" y="336"/>
                        </a:lnTo>
                        <a:lnTo>
                          <a:pt x="787" y="277"/>
                        </a:lnTo>
                        <a:lnTo>
                          <a:pt x="778" y="221"/>
                        </a:lnTo>
                        <a:lnTo>
                          <a:pt x="765" y="168"/>
                        </a:lnTo>
                        <a:lnTo>
                          <a:pt x="747" y="116"/>
                        </a:lnTo>
                        <a:lnTo>
                          <a:pt x="722" y="67"/>
                        </a:lnTo>
                        <a:lnTo>
                          <a:pt x="693" y="22"/>
                        </a:lnTo>
                        <a:lnTo>
                          <a:pt x="677" y="0"/>
                        </a:lnTo>
                        <a:lnTo>
                          <a:pt x="682" y="2"/>
                        </a:lnTo>
                        <a:lnTo>
                          <a:pt x="684" y="4"/>
                        </a:lnTo>
                        <a:lnTo>
                          <a:pt x="686" y="4"/>
                        </a:lnTo>
                        <a:lnTo>
                          <a:pt x="691" y="6"/>
                        </a:lnTo>
                        <a:lnTo>
                          <a:pt x="700" y="17"/>
                        </a:lnTo>
                        <a:lnTo>
                          <a:pt x="726" y="65"/>
                        </a:lnTo>
                        <a:lnTo>
                          <a:pt x="751" y="114"/>
                        </a:lnTo>
                        <a:lnTo>
                          <a:pt x="771" y="168"/>
                        </a:lnTo>
                        <a:lnTo>
                          <a:pt x="785" y="221"/>
                        </a:lnTo>
                        <a:lnTo>
                          <a:pt x="794" y="277"/>
                        </a:lnTo>
                        <a:lnTo>
                          <a:pt x="796" y="336"/>
                        </a:lnTo>
                        <a:lnTo>
                          <a:pt x="789" y="336"/>
                        </a:lnTo>
                        <a:lnTo>
                          <a:pt x="787" y="394"/>
                        </a:lnTo>
                        <a:lnTo>
                          <a:pt x="778" y="450"/>
                        </a:lnTo>
                        <a:lnTo>
                          <a:pt x="765" y="504"/>
                        </a:lnTo>
                        <a:lnTo>
                          <a:pt x="747" y="553"/>
                        </a:lnTo>
                        <a:lnTo>
                          <a:pt x="722" y="602"/>
                        </a:lnTo>
                        <a:lnTo>
                          <a:pt x="693" y="649"/>
                        </a:lnTo>
                        <a:lnTo>
                          <a:pt x="661" y="692"/>
                        </a:lnTo>
                        <a:lnTo>
                          <a:pt x="626" y="732"/>
                        </a:lnTo>
                        <a:lnTo>
                          <a:pt x="585" y="768"/>
                        </a:lnTo>
                        <a:lnTo>
                          <a:pt x="540" y="802"/>
                        </a:lnTo>
                        <a:lnTo>
                          <a:pt x="496" y="829"/>
                        </a:lnTo>
                        <a:lnTo>
                          <a:pt x="449" y="853"/>
                        </a:lnTo>
                        <a:lnTo>
                          <a:pt x="397" y="871"/>
                        </a:lnTo>
                        <a:lnTo>
                          <a:pt x="343" y="885"/>
                        </a:lnTo>
                        <a:lnTo>
                          <a:pt x="287" y="894"/>
                        </a:lnTo>
                        <a:lnTo>
                          <a:pt x="229" y="898"/>
                        </a:lnTo>
                        <a:lnTo>
                          <a:pt x="171" y="894"/>
                        </a:lnTo>
                        <a:lnTo>
                          <a:pt x="115" y="885"/>
                        </a:lnTo>
                        <a:lnTo>
                          <a:pt x="61" y="871"/>
                        </a:lnTo>
                        <a:lnTo>
                          <a:pt x="9" y="853"/>
                        </a:lnTo>
                        <a:lnTo>
                          <a:pt x="0" y="849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815760" y="1598400"/>
                    <a:ext cx="1262160" cy="14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5" h="901">
                        <a:moveTo>
                          <a:pt x="0" y="845"/>
                        </a:moveTo>
                        <a:lnTo>
                          <a:pt x="2" y="847"/>
                        </a:lnTo>
                        <a:lnTo>
                          <a:pt x="4" y="850"/>
                        </a:lnTo>
                        <a:lnTo>
                          <a:pt x="7" y="852"/>
                        </a:lnTo>
                        <a:lnTo>
                          <a:pt x="9" y="856"/>
                        </a:lnTo>
                        <a:lnTo>
                          <a:pt x="13" y="859"/>
                        </a:lnTo>
                        <a:lnTo>
                          <a:pt x="65" y="877"/>
                        </a:lnTo>
                        <a:lnTo>
                          <a:pt x="119" y="890"/>
                        </a:lnTo>
                        <a:lnTo>
                          <a:pt x="175" y="899"/>
                        </a:lnTo>
                        <a:lnTo>
                          <a:pt x="233" y="901"/>
                        </a:lnTo>
                        <a:lnTo>
                          <a:pt x="291" y="899"/>
                        </a:lnTo>
                        <a:lnTo>
                          <a:pt x="347" y="890"/>
                        </a:lnTo>
                        <a:lnTo>
                          <a:pt x="401" y="877"/>
                        </a:lnTo>
                        <a:lnTo>
                          <a:pt x="453" y="859"/>
                        </a:lnTo>
                        <a:lnTo>
                          <a:pt x="500" y="834"/>
                        </a:lnTo>
                        <a:lnTo>
                          <a:pt x="547" y="805"/>
                        </a:lnTo>
                        <a:lnTo>
                          <a:pt x="589" y="774"/>
                        </a:lnTo>
                        <a:lnTo>
                          <a:pt x="630" y="738"/>
                        </a:lnTo>
                        <a:lnTo>
                          <a:pt x="668" y="697"/>
                        </a:lnTo>
                        <a:lnTo>
                          <a:pt x="699" y="652"/>
                        </a:lnTo>
                        <a:lnTo>
                          <a:pt x="728" y="605"/>
                        </a:lnTo>
                        <a:lnTo>
                          <a:pt x="751" y="556"/>
                        </a:lnTo>
                        <a:lnTo>
                          <a:pt x="771" y="507"/>
                        </a:lnTo>
                        <a:lnTo>
                          <a:pt x="784" y="453"/>
                        </a:lnTo>
                        <a:lnTo>
                          <a:pt x="793" y="397"/>
                        </a:lnTo>
                        <a:lnTo>
                          <a:pt x="795" y="339"/>
                        </a:lnTo>
                        <a:lnTo>
                          <a:pt x="789" y="339"/>
                        </a:lnTo>
                        <a:lnTo>
                          <a:pt x="786" y="283"/>
                        </a:lnTo>
                        <a:lnTo>
                          <a:pt x="777" y="227"/>
                        </a:lnTo>
                        <a:lnTo>
                          <a:pt x="764" y="173"/>
                        </a:lnTo>
                        <a:lnTo>
                          <a:pt x="746" y="121"/>
                        </a:lnTo>
                        <a:lnTo>
                          <a:pt x="721" y="72"/>
                        </a:lnTo>
                        <a:lnTo>
                          <a:pt x="695" y="27"/>
                        </a:lnTo>
                        <a:lnTo>
                          <a:pt x="674" y="0"/>
                        </a:lnTo>
                        <a:lnTo>
                          <a:pt x="677" y="0"/>
                        </a:lnTo>
                        <a:lnTo>
                          <a:pt x="679" y="3"/>
                        </a:lnTo>
                        <a:lnTo>
                          <a:pt x="683" y="3"/>
                        </a:lnTo>
                        <a:lnTo>
                          <a:pt x="686" y="5"/>
                        </a:lnTo>
                        <a:lnTo>
                          <a:pt x="699" y="23"/>
                        </a:lnTo>
                        <a:lnTo>
                          <a:pt x="728" y="70"/>
                        </a:lnTo>
                        <a:lnTo>
                          <a:pt x="751" y="119"/>
                        </a:lnTo>
                        <a:lnTo>
                          <a:pt x="771" y="171"/>
                        </a:lnTo>
                        <a:lnTo>
                          <a:pt x="784" y="224"/>
                        </a:lnTo>
                        <a:lnTo>
                          <a:pt x="793" y="280"/>
                        </a:lnTo>
                        <a:lnTo>
                          <a:pt x="795" y="339"/>
                        </a:lnTo>
                        <a:lnTo>
                          <a:pt x="789" y="339"/>
                        </a:lnTo>
                        <a:lnTo>
                          <a:pt x="786" y="397"/>
                        </a:lnTo>
                        <a:lnTo>
                          <a:pt x="777" y="451"/>
                        </a:lnTo>
                        <a:lnTo>
                          <a:pt x="764" y="505"/>
                        </a:lnTo>
                        <a:lnTo>
                          <a:pt x="746" y="554"/>
                        </a:lnTo>
                        <a:lnTo>
                          <a:pt x="721" y="603"/>
                        </a:lnTo>
                        <a:lnTo>
                          <a:pt x="695" y="650"/>
                        </a:lnTo>
                        <a:lnTo>
                          <a:pt x="661" y="693"/>
                        </a:lnTo>
                        <a:lnTo>
                          <a:pt x="625" y="733"/>
                        </a:lnTo>
                        <a:lnTo>
                          <a:pt x="587" y="769"/>
                        </a:lnTo>
                        <a:lnTo>
                          <a:pt x="542" y="800"/>
                        </a:lnTo>
                        <a:lnTo>
                          <a:pt x="497" y="827"/>
                        </a:lnTo>
                        <a:lnTo>
                          <a:pt x="450" y="852"/>
                        </a:lnTo>
                        <a:lnTo>
                          <a:pt x="399" y="870"/>
                        </a:lnTo>
                        <a:lnTo>
                          <a:pt x="345" y="886"/>
                        </a:lnTo>
                        <a:lnTo>
                          <a:pt x="289" y="892"/>
                        </a:lnTo>
                        <a:lnTo>
                          <a:pt x="233" y="897"/>
                        </a:lnTo>
                        <a:lnTo>
                          <a:pt x="175" y="892"/>
                        </a:lnTo>
                        <a:lnTo>
                          <a:pt x="121" y="886"/>
                        </a:lnTo>
                        <a:lnTo>
                          <a:pt x="67" y="870"/>
                        </a:lnTo>
                        <a:lnTo>
                          <a:pt x="15" y="852"/>
                        </a:lnTo>
                        <a:lnTo>
                          <a:pt x="0" y="845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07840" y="1591920"/>
                    <a:ext cx="1263600" cy="14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903">
                        <a:moveTo>
                          <a:pt x="0" y="842"/>
                        </a:moveTo>
                        <a:lnTo>
                          <a:pt x="3" y="845"/>
                        </a:lnTo>
                        <a:lnTo>
                          <a:pt x="5" y="847"/>
                        </a:lnTo>
                        <a:lnTo>
                          <a:pt x="5" y="849"/>
                        </a:lnTo>
                        <a:lnTo>
                          <a:pt x="7" y="851"/>
                        </a:lnTo>
                        <a:lnTo>
                          <a:pt x="18" y="858"/>
                        </a:lnTo>
                        <a:lnTo>
                          <a:pt x="70" y="876"/>
                        </a:lnTo>
                        <a:lnTo>
                          <a:pt x="124" y="890"/>
                        </a:lnTo>
                        <a:lnTo>
                          <a:pt x="180" y="899"/>
                        </a:lnTo>
                        <a:lnTo>
                          <a:pt x="238" y="903"/>
                        </a:lnTo>
                        <a:lnTo>
                          <a:pt x="294" y="899"/>
                        </a:lnTo>
                        <a:lnTo>
                          <a:pt x="350" y="890"/>
                        </a:lnTo>
                        <a:lnTo>
                          <a:pt x="404" y="876"/>
                        </a:lnTo>
                        <a:lnTo>
                          <a:pt x="455" y="858"/>
                        </a:lnTo>
                        <a:lnTo>
                          <a:pt x="502" y="834"/>
                        </a:lnTo>
                        <a:lnTo>
                          <a:pt x="549" y="807"/>
                        </a:lnTo>
                        <a:lnTo>
                          <a:pt x="592" y="773"/>
                        </a:lnTo>
                        <a:lnTo>
                          <a:pt x="632" y="737"/>
                        </a:lnTo>
                        <a:lnTo>
                          <a:pt x="668" y="697"/>
                        </a:lnTo>
                        <a:lnTo>
                          <a:pt x="702" y="654"/>
                        </a:lnTo>
                        <a:lnTo>
                          <a:pt x="729" y="607"/>
                        </a:lnTo>
                        <a:lnTo>
                          <a:pt x="753" y="560"/>
                        </a:lnTo>
                        <a:lnTo>
                          <a:pt x="771" y="511"/>
                        </a:lnTo>
                        <a:lnTo>
                          <a:pt x="785" y="457"/>
                        </a:lnTo>
                        <a:lnTo>
                          <a:pt x="794" y="401"/>
                        </a:lnTo>
                        <a:lnTo>
                          <a:pt x="796" y="343"/>
                        </a:lnTo>
                        <a:lnTo>
                          <a:pt x="789" y="343"/>
                        </a:lnTo>
                        <a:lnTo>
                          <a:pt x="787" y="287"/>
                        </a:lnTo>
                        <a:lnTo>
                          <a:pt x="778" y="231"/>
                        </a:lnTo>
                        <a:lnTo>
                          <a:pt x="765" y="177"/>
                        </a:lnTo>
                        <a:lnTo>
                          <a:pt x="747" y="128"/>
                        </a:lnTo>
                        <a:lnTo>
                          <a:pt x="724" y="78"/>
                        </a:lnTo>
                        <a:lnTo>
                          <a:pt x="695" y="33"/>
                        </a:lnTo>
                        <a:lnTo>
                          <a:pt x="670" y="0"/>
                        </a:lnTo>
                        <a:lnTo>
                          <a:pt x="675" y="2"/>
                        </a:lnTo>
                        <a:lnTo>
                          <a:pt x="677" y="2"/>
                        </a:lnTo>
                        <a:lnTo>
                          <a:pt x="679" y="4"/>
                        </a:lnTo>
                        <a:lnTo>
                          <a:pt x="684" y="4"/>
                        </a:lnTo>
                        <a:lnTo>
                          <a:pt x="702" y="29"/>
                        </a:lnTo>
                        <a:lnTo>
                          <a:pt x="729" y="76"/>
                        </a:lnTo>
                        <a:lnTo>
                          <a:pt x="753" y="125"/>
                        </a:lnTo>
                        <a:lnTo>
                          <a:pt x="771" y="177"/>
                        </a:lnTo>
                        <a:lnTo>
                          <a:pt x="785" y="231"/>
                        </a:lnTo>
                        <a:lnTo>
                          <a:pt x="794" y="287"/>
                        </a:lnTo>
                        <a:lnTo>
                          <a:pt x="796" y="343"/>
                        </a:lnTo>
                        <a:lnTo>
                          <a:pt x="789" y="343"/>
                        </a:lnTo>
                        <a:lnTo>
                          <a:pt x="787" y="399"/>
                        </a:lnTo>
                        <a:lnTo>
                          <a:pt x="778" y="455"/>
                        </a:lnTo>
                        <a:lnTo>
                          <a:pt x="765" y="509"/>
                        </a:lnTo>
                        <a:lnTo>
                          <a:pt x="747" y="556"/>
                        </a:lnTo>
                        <a:lnTo>
                          <a:pt x="724" y="605"/>
                        </a:lnTo>
                        <a:lnTo>
                          <a:pt x="695" y="652"/>
                        </a:lnTo>
                        <a:lnTo>
                          <a:pt x="664" y="695"/>
                        </a:lnTo>
                        <a:lnTo>
                          <a:pt x="628" y="733"/>
                        </a:lnTo>
                        <a:lnTo>
                          <a:pt x="588" y="769"/>
                        </a:lnTo>
                        <a:lnTo>
                          <a:pt x="545" y="800"/>
                        </a:lnTo>
                        <a:lnTo>
                          <a:pt x="500" y="829"/>
                        </a:lnTo>
                        <a:lnTo>
                          <a:pt x="453" y="851"/>
                        </a:lnTo>
                        <a:lnTo>
                          <a:pt x="404" y="872"/>
                        </a:lnTo>
                        <a:lnTo>
                          <a:pt x="350" y="885"/>
                        </a:lnTo>
                        <a:lnTo>
                          <a:pt x="294" y="892"/>
                        </a:lnTo>
                        <a:lnTo>
                          <a:pt x="238" y="896"/>
                        </a:lnTo>
                        <a:lnTo>
                          <a:pt x="182" y="892"/>
                        </a:lnTo>
                        <a:lnTo>
                          <a:pt x="126" y="885"/>
                        </a:lnTo>
                        <a:lnTo>
                          <a:pt x="72" y="872"/>
                        </a:lnTo>
                        <a:lnTo>
                          <a:pt x="23" y="851"/>
                        </a:lnTo>
                        <a:lnTo>
                          <a:pt x="0" y="842"/>
                        </a:lnTo>
                        <a:close/>
                      </a:path>
                    </a:pathLst>
                  </a:custGeom>
                  <a:solidFill>
                    <a:srgbClr val="e9d2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01360" y="1589040"/>
                    <a:ext cx="1262160" cy="14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95" h="901">
                        <a:moveTo>
                          <a:pt x="0" y="838"/>
                        </a:moveTo>
                        <a:lnTo>
                          <a:pt x="2" y="840"/>
                        </a:lnTo>
                        <a:lnTo>
                          <a:pt x="2" y="842"/>
                        </a:lnTo>
                        <a:lnTo>
                          <a:pt x="4" y="844"/>
                        </a:lnTo>
                        <a:lnTo>
                          <a:pt x="7" y="847"/>
                        </a:lnTo>
                        <a:lnTo>
                          <a:pt x="24" y="856"/>
                        </a:lnTo>
                        <a:lnTo>
                          <a:pt x="76" y="874"/>
                        </a:lnTo>
                        <a:lnTo>
                          <a:pt x="130" y="889"/>
                        </a:lnTo>
                        <a:lnTo>
                          <a:pt x="184" y="896"/>
                        </a:lnTo>
                        <a:lnTo>
                          <a:pt x="242" y="901"/>
                        </a:lnTo>
                        <a:lnTo>
                          <a:pt x="298" y="896"/>
                        </a:lnTo>
                        <a:lnTo>
                          <a:pt x="354" y="889"/>
                        </a:lnTo>
                        <a:lnTo>
                          <a:pt x="408" y="874"/>
                        </a:lnTo>
                        <a:lnTo>
                          <a:pt x="459" y="856"/>
                        </a:lnTo>
                        <a:lnTo>
                          <a:pt x="504" y="833"/>
                        </a:lnTo>
                        <a:lnTo>
                          <a:pt x="551" y="804"/>
                        </a:lnTo>
                        <a:lnTo>
                          <a:pt x="594" y="773"/>
                        </a:lnTo>
                        <a:lnTo>
                          <a:pt x="634" y="737"/>
                        </a:lnTo>
                        <a:lnTo>
                          <a:pt x="670" y="697"/>
                        </a:lnTo>
                        <a:lnTo>
                          <a:pt x="701" y="654"/>
                        </a:lnTo>
                        <a:lnTo>
                          <a:pt x="728" y="609"/>
                        </a:lnTo>
                        <a:lnTo>
                          <a:pt x="753" y="560"/>
                        </a:lnTo>
                        <a:lnTo>
                          <a:pt x="771" y="511"/>
                        </a:lnTo>
                        <a:lnTo>
                          <a:pt x="784" y="457"/>
                        </a:lnTo>
                        <a:lnTo>
                          <a:pt x="793" y="403"/>
                        </a:lnTo>
                        <a:lnTo>
                          <a:pt x="795" y="345"/>
                        </a:lnTo>
                        <a:lnTo>
                          <a:pt x="791" y="345"/>
                        </a:lnTo>
                        <a:lnTo>
                          <a:pt x="786" y="289"/>
                        </a:lnTo>
                        <a:lnTo>
                          <a:pt x="780" y="235"/>
                        </a:lnTo>
                        <a:lnTo>
                          <a:pt x="766" y="181"/>
                        </a:lnTo>
                        <a:lnTo>
                          <a:pt x="746" y="130"/>
                        </a:lnTo>
                        <a:lnTo>
                          <a:pt x="724" y="82"/>
                        </a:lnTo>
                        <a:lnTo>
                          <a:pt x="697" y="38"/>
                        </a:lnTo>
                        <a:lnTo>
                          <a:pt x="668" y="0"/>
                        </a:lnTo>
                        <a:lnTo>
                          <a:pt x="670" y="2"/>
                        </a:lnTo>
                        <a:lnTo>
                          <a:pt x="674" y="2"/>
                        </a:lnTo>
                        <a:lnTo>
                          <a:pt x="677" y="4"/>
                        </a:lnTo>
                        <a:lnTo>
                          <a:pt x="679" y="4"/>
                        </a:lnTo>
                        <a:lnTo>
                          <a:pt x="701" y="33"/>
                        </a:lnTo>
                        <a:lnTo>
                          <a:pt x="728" y="80"/>
                        </a:lnTo>
                        <a:lnTo>
                          <a:pt x="753" y="127"/>
                        </a:lnTo>
                        <a:lnTo>
                          <a:pt x="771" y="179"/>
                        </a:lnTo>
                        <a:lnTo>
                          <a:pt x="784" y="233"/>
                        </a:lnTo>
                        <a:lnTo>
                          <a:pt x="793" y="289"/>
                        </a:lnTo>
                        <a:lnTo>
                          <a:pt x="795" y="345"/>
                        </a:lnTo>
                        <a:lnTo>
                          <a:pt x="791" y="345"/>
                        </a:lnTo>
                        <a:lnTo>
                          <a:pt x="786" y="401"/>
                        </a:lnTo>
                        <a:lnTo>
                          <a:pt x="780" y="457"/>
                        </a:lnTo>
                        <a:lnTo>
                          <a:pt x="766" y="508"/>
                        </a:lnTo>
                        <a:lnTo>
                          <a:pt x="746" y="558"/>
                        </a:lnTo>
                        <a:lnTo>
                          <a:pt x="724" y="605"/>
                        </a:lnTo>
                        <a:lnTo>
                          <a:pt x="697" y="650"/>
                        </a:lnTo>
                        <a:lnTo>
                          <a:pt x="663" y="692"/>
                        </a:lnTo>
                        <a:lnTo>
                          <a:pt x="630" y="732"/>
                        </a:lnTo>
                        <a:lnTo>
                          <a:pt x="589" y="768"/>
                        </a:lnTo>
                        <a:lnTo>
                          <a:pt x="547" y="800"/>
                        </a:lnTo>
                        <a:lnTo>
                          <a:pt x="502" y="827"/>
                        </a:lnTo>
                        <a:lnTo>
                          <a:pt x="455" y="851"/>
                        </a:lnTo>
                        <a:lnTo>
                          <a:pt x="405" y="869"/>
                        </a:lnTo>
                        <a:lnTo>
                          <a:pt x="352" y="883"/>
                        </a:lnTo>
                        <a:lnTo>
                          <a:pt x="298" y="892"/>
                        </a:lnTo>
                        <a:lnTo>
                          <a:pt x="242" y="894"/>
                        </a:lnTo>
                        <a:lnTo>
                          <a:pt x="186" y="892"/>
                        </a:lnTo>
                        <a:lnTo>
                          <a:pt x="130" y="883"/>
                        </a:lnTo>
                        <a:lnTo>
                          <a:pt x="78" y="869"/>
                        </a:lnTo>
                        <a:lnTo>
                          <a:pt x="27" y="851"/>
                        </a:lnTo>
                        <a:lnTo>
                          <a:pt x="0" y="838"/>
                        </a:lnTo>
                        <a:close/>
                      </a:path>
                    </a:pathLst>
                  </a:custGeom>
                  <a:solidFill>
                    <a:srgbClr val="e9d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93440" y="1584000"/>
                    <a:ext cx="1266840" cy="14274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99">
                        <a:moveTo>
                          <a:pt x="0" y="832"/>
                        </a:moveTo>
                        <a:lnTo>
                          <a:pt x="3" y="836"/>
                        </a:lnTo>
                        <a:lnTo>
                          <a:pt x="3" y="839"/>
                        </a:lnTo>
                        <a:lnTo>
                          <a:pt x="5" y="841"/>
                        </a:lnTo>
                        <a:lnTo>
                          <a:pt x="7" y="843"/>
                        </a:lnTo>
                        <a:lnTo>
                          <a:pt x="32" y="854"/>
                        </a:lnTo>
                        <a:lnTo>
                          <a:pt x="83" y="874"/>
                        </a:lnTo>
                        <a:lnTo>
                          <a:pt x="135" y="888"/>
                        </a:lnTo>
                        <a:lnTo>
                          <a:pt x="191" y="895"/>
                        </a:lnTo>
                        <a:lnTo>
                          <a:pt x="247" y="899"/>
                        </a:lnTo>
                        <a:lnTo>
                          <a:pt x="303" y="895"/>
                        </a:lnTo>
                        <a:lnTo>
                          <a:pt x="359" y="888"/>
                        </a:lnTo>
                        <a:lnTo>
                          <a:pt x="410" y="874"/>
                        </a:lnTo>
                        <a:lnTo>
                          <a:pt x="462" y="854"/>
                        </a:lnTo>
                        <a:lnTo>
                          <a:pt x="507" y="832"/>
                        </a:lnTo>
                        <a:lnTo>
                          <a:pt x="554" y="805"/>
                        </a:lnTo>
                        <a:lnTo>
                          <a:pt x="597" y="771"/>
                        </a:lnTo>
                        <a:lnTo>
                          <a:pt x="635" y="735"/>
                        </a:lnTo>
                        <a:lnTo>
                          <a:pt x="670" y="697"/>
                        </a:lnTo>
                        <a:lnTo>
                          <a:pt x="702" y="655"/>
                        </a:lnTo>
                        <a:lnTo>
                          <a:pt x="731" y="610"/>
                        </a:lnTo>
                        <a:lnTo>
                          <a:pt x="753" y="561"/>
                        </a:lnTo>
                        <a:lnTo>
                          <a:pt x="771" y="511"/>
                        </a:lnTo>
                        <a:lnTo>
                          <a:pt x="787" y="460"/>
                        </a:lnTo>
                        <a:lnTo>
                          <a:pt x="794" y="404"/>
                        </a:lnTo>
                        <a:lnTo>
                          <a:pt x="798" y="348"/>
                        </a:lnTo>
                        <a:lnTo>
                          <a:pt x="791" y="348"/>
                        </a:lnTo>
                        <a:lnTo>
                          <a:pt x="789" y="292"/>
                        </a:lnTo>
                        <a:lnTo>
                          <a:pt x="780" y="238"/>
                        </a:lnTo>
                        <a:lnTo>
                          <a:pt x="767" y="186"/>
                        </a:lnTo>
                        <a:lnTo>
                          <a:pt x="749" y="135"/>
                        </a:lnTo>
                        <a:lnTo>
                          <a:pt x="724" y="88"/>
                        </a:lnTo>
                        <a:lnTo>
                          <a:pt x="697" y="43"/>
                        </a:lnTo>
                        <a:lnTo>
                          <a:pt x="666" y="0"/>
                        </a:lnTo>
                        <a:lnTo>
                          <a:pt x="666" y="0"/>
                        </a:lnTo>
                        <a:lnTo>
                          <a:pt x="668" y="0"/>
                        </a:lnTo>
                        <a:lnTo>
                          <a:pt x="670" y="3"/>
                        </a:lnTo>
                        <a:lnTo>
                          <a:pt x="673" y="3"/>
                        </a:lnTo>
                        <a:lnTo>
                          <a:pt x="677" y="5"/>
                        </a:lnTo>
                        <a:lnTo>
                          <a:pt x="702" y="38"/>
                        </a:lnTo>
                        <a:lnTo>
                          <a:pt x="731" y="85"/>
                        </a:lnTo>
                        <a:lnTo>
                          <a:pt x="753" y="133"/>
                        </a:lnTo>
                        <a:lnTo>
                          <a:pt x="771" y="184"/>
                        </a:lnTo>
                        <a:lnTo>
                          <a:pt x="787" y="236"/>
                        </a:lnTo>
                        <a:lnTo>
                          <a:pt x="794" y="292"/>
                        </a:lnTo>
                        <a:lnTo>
                          <a:pt x="798" y="348"/>
                        </a:lnTo>
                        <a:lnTo>
                          <a:pt x="791" y="348"/>
                        </a:lnTo>
                        <a:lnTo>
                          <a:pt x="789" y="404"/>
                        </a:lnTo>
                        <a:lnTo>
                          <a:pt x="780" y="458"/>
                        </a:lnTo>
                        <a:lnTo>
                          <a:pt x="767" y="511"/>
                        </a:lnTo>
                        <a:lnTo>
                          <a:pt x="749" y="558"/>
                        </a:lnTo>
                        <a:lnTo>
                          <a:pt x="724" y="605"/>
                        </a:lnTo>
                        <a:lnTo>
                          <a:pt x="697" y="650"/>
                        </a:lnTo>
                        <a:lnTo>
                          <a:pt x="666" y="693"/>
                        </a:lnTo>
                        <a:lnTo>
                          <a:pt x="630" y="733"/>
                        </a:lnTo>
                        <a:lnTo>
                          <a:pt x="592" y="767"/>
                        </a:lnTo>
                        <a:lnTo>
                          <a:pt x="549" y="798"/>
                        </a:lnTo>
                        <a:lnTo>
                          <a:pt x="505" y="827"/>
                        </a:lnTo>
                        <a:lnTo>
                          <a:pt x="460" y="850"/>
                        </a:lnTo>
                        <a:lnTo>
                          <a:pt x="408" y="868"/>
                        </a:lnTo>
                        <a:lnTo>
                          <a:pt x="357" y="881"/>
                        </a:lnTo>
                        <a:lnTo>
                          <a:pt x="303" y="890"/>
                        </a:lnTo>
                        <a:lnTo>
                          <a:pt x="247" y="892"/>
                        </a:lnTo>
                        <a:lnTo>
                          <a:pt x="191" y="890"/>
                        </a:lnTo>
                        <a:lnTo>
                          <a:pt x="137" y="881"/>
                        </a:lnTo>
                        <a:lnTo>
                          <a:pt x="83" y="868"/>
                        </a:lnTo>
                        <a:lnTo>
                          <a:pt x="34" y="850"/>
                        </a:lnTo>
                        <a:lnTo>
                          <a:pt x="0" y="832"/>
                        </a:lnTo>
                        <a:close/>
                      </a:path>
                    </a:pathLst>
                  </a:custGeom>
                  <a:solidFill>
                    <a:srgbClr val="e9d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87320" y="1577880"/>
                    <a:ext cx="1266840" cy="14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99">
                        <a:moveTo>
                          <a:pt x="0" y="829"/>
                        </a:moveTo>
                        <a:lnTo>
                          <a:pt x="0" y="831"/>
                        </a:lnTo>
                        <a:lnTo>
                          <a:pt x="2" y="836"/>
                        </a:lnTo>
                        <a:lnTo>
                          <a:pt x="4" y="838"/>
                        </a:lnTo>
                        <a:lnTo>
                          <a:pt x="7" y="840"/>
                        </a:lnTo>
                        <a:lnTo>
                          <a:pt x="38" y="856"/>
                        </a:lnTo>
                        <a:lnTo>
                          <a:pt x="87" y="874"/>
                        </a:lnTo>
                        <a:lnTo>
                          <a:pt x="141" y="887"/>
                        </a:lnTo>
                        <a:lnTo>
                          <a:pt x="195" y="896"/>
                        </a:lnTo>
                        <a:lnTo>
                          <a:pt x="251" y="899"/>
                        </a:lnTo>
                        <a:lnTo>
                          <a:pt x="307" y="896"/>
                        </a:lnTo>
                        <a:lnTo>
                          <a:pt x="361" y="887"/>
                        </a:lnTo>
                        <a:lnTo>
                          <a:pt x="414" y="874"/>
                        </a:lnTo>
                        <a:lnTo>
                          <a:pt x="464" y="856"/>
                        </a:lnTo>
                        <a:lnTo>
                          <a:pt x="511" y="831"/>
                        </a:lnTo>
                        <a:lnTo>
                          <a:pt x="556" y="804"/>
                        </a:lnTo>
                        <a:lnTo>
                          <a:pt x="598" y="773"/>
                        </a:lnTo>
                        <a:lnTo>
                          <a:pt x="636" y="737"/>
                        </a:lnTo>
                        <a:lnTo>
                          <a:pt x="672" y="699"/>
                        </a:lnTo>
                        <a:lnTo>
                          <a:pt x="704" y="657"/>
                        </a:lnTo>
                        <a:lnTo>
                          <a:pt x="731" y="612"/>
                        </a:lnTo>
                        <a:lnTo>
                          <a:pt x="753" y="562"/>
                        </a:lnTo>
                        <a:lnTo>
                          <a:pt x="773" y="515"/>
                        </a:lnTo>
                        <a:lnTo>
                          <a:pt x="787" y="462"/>
                        </a:lnTo>
                        <a:lnTo>
                          <a:pt x="793" y="408"/>
                        </a:lnTo>
                        <a:lnTo>
                          <a:pt x="798" y="352"/>
                        </a:lnTo>
                        <a:lnTo>
                          <a:pt x="791" y="352"/>
                        </a:lnTo>
                        <a:lnTo>
                          <a:pt x="789" y="296"/>
                        </a:lnTo>
                        <a:lnTo>
                          <a:pt x="780" y="242"/>
                        </a:lnTo>
                        <a:lnTo>
                          <a:pt x="766" y="190"/>
                        </a:lnTo>
                        <a:lnTo>
                          <a:pt x="748" y="141"/>
                        </a:lnTo>
                        <a:lnTo>
                          <a:pt x="726" y="94"/>
                        </a:lnTo>
                        <a:lnTo>
                          <a:pt x="697" y="49"/>
                        </a:lnTo>
                        <a:lnTo>
                          <a:pt x="668" y="7"/>
                        </a:lnTo>
                        <a:lnTo>
                          <a:pt x="661" y="0"/>
                        </a:lnTo>
                        <a:lnTo>
                          <a:pt x="663" y="2"/>
                        </a:lnTo>
                        <a:lnTo>
                          <a:pt x="668" y="2"/>
                        </a:lnTo>
                        <a:lnTo>
                          <a:pt x="670" y="4"/>
                        </a:lnTo>
                        <a:lnTo>
                          <a:pt x="672" y="4"/>
                        </a:lnTo>
                        <a:lnTo>
                          <a:pt x="704" y="45"/>
                        </a:lnTo>
                        <a:lnTo>
                          <a:pt x="731" y="89"/>
                        </a:lnTo>
                        <a:lnTo>
                          <a:pt x="753" y="139"/>
                        </a:lnTo>
                        <a:lnTo>
                          <a:pt x="773" y="188"/>
                        </a:lnTo>
                        <a:lnTo>
                          <a:pt x="787" y="242"/>
                        </a:lnTo>
                        <a:lnTo>
                          <a:pt x="793" y="296"/>
                        </a:lnTo>
                        <a:lnTo>
                          <a:pt x="798" y="352"/>
                        </a:lnTo>
                        <a:lnTo>
                          <a:pt x="791" y="352"/>
                        </a:lnTo>
                        <a:lnTo>
                          <a:pt x="789" y="408"/>
                        </a:lnTo>
                        <a:lnTo>
                          <a:pt x="780" y="462"/>
                        </a:lnTo>
                        <a:lnTo>
                          <a:pt x="766" y="513"/>
                        </a:lnTo>
                        <a:lnTo>
                          <a:pt x="748" y="560"/>
                        </a:lnTo>
                        <a:lnTo>
                          <a:pt x="726" y="607"/>
                        </a:lnTo>
                        <a:lnTo>
                          <a:pt x="697" y="652"/>
                        </a:lnTo>
                        <a:lnTo>
                          <a:pt x="668" y="695"/>
                        </a:lnTo>
                        <a:lnTo>
                          <a:pt x="632" y="733"/>
                        </a:lnTo>
                        <a:lnTo>
                          <a:pt x="594" y="769"/>
                        </a:lnTo>
                        <a:lnTo>
                          <a:pt x="551" y="800"/>
                        </a:lnTo>
                        <a:lnTo>
                          <a:pt x="506" y="827"/>
                        </a:lnTo>
                        <a:lnTo>
                          <a:pt x="462" y="849"/>
                        </a:lnTo>
                        <a:lnTo>
                          <a:pt x="412" y="867"/>
                        </a:lnTo>
                        <a:lnTo>
                          <a:pt x="361" y="881"/>
                        </a:lnTo>
                        <a:lnTo>
                          <a:pt x="307" y="890"/>
                        </a:lnTo>
                        <a:lnTo>
                          <a:pt x="251" y="892"/>
                        </a:lnTo>
                        <a:lnTo>
                          <a:pt x="195" y="890"/>
                        </a:lnTo>
                        <a:lnTo>
                          <a:pt x="141" y="881"/>
                        </a:lnTo>
                        <a:lnTo>
                          <a:pt x="90" y="867"/>
                        </a:lnTo>
                        <a:lnTo>
                          <a:pt x="40" y="849"/>
                        </a:lnTo>
                        <a:lnTo>
                          <a:pt x="0" y="829"/>
                        </a:lnTo>
                        <a:close/>
                      </a:path>
                    </a:pathLst>
                  </a:custGeom>
                  <a:solidFill>
                    <a:srgbClr val="e9d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79400" y="1574640"/>
                    <a:ext cx="126684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96">
                        <a:moveTo>
                          <a:pt x="0" y="824"/>
                        </a:moveTo>
                        <a:lnTo>
                          <a:pt x="3" y="829"/>
                        </a:lnTo>
                        <a:lnTo>
                          <a:pt x="3" y="831"/>
                        </a:lnTo>
                        <a:lnTo>
                          <a:pt x="5" y="833"/>
                        </a:lnTo>
                        <a:lnTo>
                          <a:pt x="7" y="836"/>
                        </a:lnTo>
                        <a:lnTo>
                          <a:pt x="43" y="853"/>
                        </a:lnTo>
                        <a:lnTo>
                          <a:pt x="95" y="871"/>
                        </a:lnTo>
                        <a:lnTo>
                          <a:pt x="146" y="885"/>
                        </a:lnTo>
                        <a:lnTo>
                          <a:pt x="200" y="894"/>
                        </a:lnTo>
                        <a:lnTo>
                          <a:pt x="256" y="896"/>
                        </a:lnTo>
                        <a:lnTo>
                          <a:pt x="312" y="894"/>
                        </a:lnTo>
                        <a:lnTo>
                          <a:pt x="366" y="885"/>
                        </a:lnTo>
                        <a:lnTo>
                          <a:pt x="417" y="871"/>
                        </a:lnTo>
                        <a:lnTo>
                          <a:pt x="467" y="853"/>
                        </a:lnTo>
                        <a:lnTo>
                          <a:pt x="514" y="831"/>
                        </a:lnTo>
                        <a:lnTo>
                          <a:pt x="558" y="802"/>
                        </a:lnTo>
                        <a:lnTo>
                          <a:pt x="599" y="771"/>
                        </a:lnTo>
                        <a:lnTo>
                          <a:pt x="639" y="737"/>
                        </a:lnTo>
                        <a:lnTo>
                          <a:pt x="673" y="699"/>
                        </a:lnTo>
                        <a:lnTo>
                          <a:pt x="704" y="656"/>
                        </a:lnTo>
                        <a:lnTo>
                          <a:pt x="731" y="611"/>
                        </a:lnTo>
                        <a:lnTo>
                          <a:pt x="756" y="564"/>
                        </a:lnTo>
                        <a:lnTo>
                          <a:pt x="774" y="515"/>
                        </a:lnTo>
                        <a:lnTo>
                          <a:pt x="787" y="464"/>
                        </a:lnTo>
                        <a:lnTo>
                          <a:pt x="796" y="410"/>
                        </a:lnTo>
                        <a:lnTo>
                          <a:pt x="798" y="354"/>
                        </a:lnTo>
                        <a:lnTo>
                          <a:pt x="792" y="354"/>
                        </a:lnTo>
                        <a:lnTo>
                          <a:pt x="789" y="300"/>
                        </a:lnTo>
                        <a:lnTo>
                          <a:pt x="780" y="246"/>
                        </a:lnTo>
                        <a:lnTo>
                          <a:pt x="767" y="195"/>
                        </a:lnTo>
                        <a:lnTo>
                          <a:pt x="749" y="145"/>
                        </a:lnTo>
                        <a:lnTo>
                          <a:pt x="727" y="98"/>
                        </a:lnTo>
                        <a:lnTo>
                          <a:pt x="700" y="53"/>
                        </a:lnTo>
                        <a:lnTo>
                          <a:pt x="668" y="11"/>
                        </a:lnTo>
                        <a:lnTo>
                          <a:pt x="657" y="0"/>
                        </a:lnTo>
                        <a:lnTo>
                          <a:pt x="662" y="2"/>
                        </a:lnTo>
                        <a:lnTo>
                          <a:pt x="664" y="2"/>
                        </a:lnTo>
                        <a:lnTo>
                          <a:pt x="666" y="4"/>
                        </a:lnTo>
                        <a:lnTo>
                          <a:pt x="671" y="4"/>
                        </a:lnTo>
                        <a:lnTo>
                          <a:pt x="673" y="9"/>
                        </a:lnTo>
                        <a:lnTo>
                          <a:pt x="704" y="49"/>
                        </a:lnTo>
                        <a:lnTo>
                          <a:pt x="731" y="94"/>
                        </a:lnTo>
                        <a:lnTo>
                          <a:pt x="756" y="143"/>
                        </a:lnTo>
                        <a:lnTo>
                          <a:pt x="774" y="192"/>
                        </a:lnTo>
                        <a:lnTo>
                          <a:pt x="787" y="244"/>
                        </a:lnTo>
                        <a:lnTo>
                          <a:pt x="796" y="298"/>
                        </a:lnTo>
                        <a:lnTo>
                          <a:pt x="798" y="354"/>
                        </a:lnTo>
                        <a:lnTo>
                          <a:pt x="792" y="354"/>
                        </a:lnTo>
                        <a:lnTo>
                          <a:pt x="789" y="410"/>
                        </a:lnTo>
                        <a:lnTo>
                          <a:pt x="780" y="461"/>
                        </a:lnTo>
                        <a:lnTo>
                          <a:pt x="767" y="513"/>
                        </a:lnTo>
                        <a:lnTo>
                          <a:pt x="749" y="562"/>
                        </a:lnTo>
                        <a:lnTo>
                          <a:pt x="727" y="609"/>
                        </a:lnTo>
                        <a:lnTo>
                          <a:pt x="700" y="652"/>
                        </a:lnTo>
                        <a:lnTo>
                          <a:pt x="668" y="694"/>
                        </a:lnTo>
                        <a:lnTo>
                          <a:pt x="635" y="732"/>
                        </a:lnTo>
                        <a:lnTo>
                          <a:pt x="597" y="766"/>
                        </a:lnTo>
                        <a:lnTo>
                          <a:pt x="554" y="797"/>
                        </a:lnTo>
                        <a:lnTo>
                          <a:pt x="509" y="824"/>
                        </a:lnTo>
                        <a:lnTo>
                          <a:pt x="464" y="847"/>
                        </a:lnTo>
                        <a:lnTo>
                          <a:pt x="415" y="865"/>
                        </a:lnTo>
                        <a:lnTo>
                          <a:pt x="363" y="878"/>
                        </a:lnTo>
                        <a:lnTo>
                          <a:pt x="310" y="887"/>
                        </a:lnTo>
                        <a:lnTo>
                          <a:pt x="256" y="889"/>
                        </a:lnTo>
                        <a:lnTo>
                          <a:pt x="200" y="887"/>
                        </a:lnTo>
                        <a:lnTo>
                          <a:pt x="146" y="878"/>
                        </a:lnTo>
                        <a:lnTo>
                          <a:pt x="97" y="865"/>
                        </a:lnTo>
                        <a:lnTo>
                          <a:pt x="45" y="847"/>
                        </a:lnTo>
                        <a:lnTo>
                          <a:pt x="0" y="824"/>
                        </a:lnTo>
                        <a:close/>
                      </a:path>
                    </a:pathLst>
                  </a:custGeom>
                  <a:solidFill>
                    <a:srgbClr val="e9d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772920" y="1569960"/>
                    <a:ext cx="1266840" cy="142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95">
                        <a:moveTo>
                          <a:pt x="0" y="821"/>
                        </a:moveTo>
                        <a:lnTo>
                          <a:pt x="2" y="823"/>
                        </a:lnTo>
                        <a:lnTo>
                          <a:pt x="2" y="825"/>
                        </a:lnTo>
                        <a:lnTo>
                          <a:pt x="4" y="830"/>
                        </a:lnTo>
                        <a:lnTo>
                          <a:pt x="7" y="832"/>
                        </a:lnTo>
                        <a:lnTo>
                          <a:pt x="49" y="852"/>
                        </a:lnTo>
                        <a:lnTo>
                          <a:pt x="99" y="870"/>
                        </a:lnTo>
                        <a:lnTo>
                          <a:pt x="150" y="883"/>
                        </a:lnTo>
                        <a:lnTo>
                          <a:pt x="204" y="892"/>
                        </a:lnTo>
                        <a:lnTo>
                          <a:pt x="260" y="895"/>
                        </a:lnTo>
                        <a:lnTo>
                          <a:pt x="316" y="892"/>
                        </a:lnTo>
                        <a:lnTo>
                          <a:pt x="367" y="883"/>
                        </a:lnTo>
                        <a:lnTo>
                          <a:pt x="421" y="870"/>
                        </a:lnTo>
                        <a:lnTo>
                          <a:pt x="471" y="852"/>
                        </a:lnTo>
                        <a:lnTo>
                          <a:pt x="515" y="830"/>
                        </a:lnTo>
                        <a:lnTo>
                          <a:pt x="560" y="803"/>
                        </a:lnTo>
                        <a:lnTo>
                          <a:pt x="601" y="771"/>
                        </a:lnTo>
                        <a:lnTo>
                          <a:pt x="639" y="735"/>
                        </a:lnTo>
                        <a:lnTo>
                          <a:pt x="675" y="697"/>
                        </a:lnTo>
                        <a:lnTo>
                          <a:pt x="706" y="657"/>
                        </a:lnTo>
                        <a:lnTo>
                          <a:pt x="733" y="612"/>
                        </a:lnTo>
                        <a:lnTo>
                          <a:pt x="755" y="565"/>
                        </a:lnTo>
                        <a:lnTo>
                          <a:pt x="773" y="518"/>
                        </a:lnTo>
                        <a:lnTo>
                          <a:pt x="787" y="467"/>
                        </a:lnTo>
                        <a:lnTo>
                          <a:pt x="796" y="413"/>
                        </a:lnTo>
                        <a:lnTo>
                          <a:pt x="798" y="357"/>
                        </a:lnTo>
                        <a:lnTo>
                          <a:pt x="791" y="357"/>
                        </a:lnTo>
                        <a:lnTo>
                          <a:pt x="789" y="303"/>
                        </a:lnTo>
                        <a:lnTo>
                          <a:pt x="780" y="249"/>
                        </a:lnTo>
                        <a:lnTo>
                          <a:pt x="766" y="198"/>
                        </a:lnTo>
                        <a:lnTo>
                          <a:pt x="748" y="148"/>
                        </a:lnTo>
                        <a:lnTo>
                          <a:pt x="726" y="103"/>
                        </a:lnTo>
                        <a:lnTo>
                          <a:pt x="699" y="59"/>
                        </a:lnTo>
                        <a:lnTo>
                          <a:pt x="670" y="18"/>
                        </a:lnTo>
                        <a:lnTo>
                          <a:pt x="654" y="0"/>
                        </a:lnTo>
                        <a:lnTo>
                          <a:pt x="657" y="0"/>
                        </a:lnTo>
                        <a:lnTo>
                          <a:pt x="659" y="3"/>
                        </a:lnTo>
                        <a:lnTo>
                          <a:pt x="663" y="3"/>
                        </a:lnTo>
                        <a:lnTo>
                          <a:pt x="666" y="5"/>
                        </a:lnTo>
                        <a:lnTo>
                          <a:pt x="675" y="14"/>
                        </a:lnTo>
                        <a:lnTo>
                          <a:pt x="706" y="54"/>
                        </a:lnTo>
                        <a:lnTo>
                          <a:pt x="733" y="99"/>
                        </a:lnTo>
                        <a:lnTo>
                          <a:pt x="755" y="146"/>
                        </a:lnTo>
                        <a:lnTo>
                          <a:pt x="773" y="195"/>
                        </a:lnTo>
                        <a:lnTo>
                          <a:pt x="787" y="249"/>
                        </a:lnTo>
                        <a:lnTo>
                          <a:pt x="796" y="301"/>
                        </a:lnTo>
                        <a:lnTo>
                          <a:pt x="798" y="357"/>
                        </a:lnTo>
                        <a:lnTo>
                          <a:pt x="791" y="357"/>
                        </a:lnTo>
                        <a:lnTo>
                          <a:pt x="789" y="410"/>
                        </a:lnTo>
                        <a:lnTo>
                          <a:pt x="780" y="464"/>
                        </a:lnTo>
                        <a:lnTo>
                          <a:pt x="766" y="516"/>
                        </a:lnTo>
                        <a:lnTo>
                          <a:pt x="748" y="563"/>
                        </a:lnTo>
                        <a:lnTo>
                          <a:pt x="726" y="610"/>
                        </a:lnTo>
                        <a:lnTo>
                          <a:pt x="699" y="653"/>
                        </a:lnTo>
                        <a:lnTo>
                          <a:pt x="670" y="695"/>
                        </a:lnTo>
                        <a:lnTo>
                          <a:pt x="634" y="733"/>
                        </a:lnTo>
                        <a:lnTo>
                          <a:pt x="596" y="767"/>
                        </a:lnTo>
                        <a:lnTo>
                          <a:pt x="556" y="798"/>
                        </a:lnTo>
                        <a:lnTo>
                          <a:pt x="511" y="825"/>
                        </a:lnTo>
                        <a:lnTo>
                          <a:pt x="468" y="848"/>
                        </a:lnTo>
                        <a:lnTo>
                          <a:pt x="419" y="865"/>
                        </a:lnTo>
                        <a:lnTo>
                          <a:pt x="367" y="877"/>
                        </a:lnTo>
                        <a:lnTo>
                          <a:pt x="314" y="886"/>
                        </a:lnTo>
                        <a:lnTo>
                          <a:pt x="260" y="888"/>
                        </a:lnTo>
                        <a:lnTo>
                          <a:pt x="206" y="886"/>
                        </a:lnTo>
                        <a:lnTo>
                          <a:pt x="152" y="877"/>
                        </a:lnTo>
                        <a:lnTo>
                          <a:pt x="101" y="865"/>
                        </a:lnTo>
                        <a:lnTo>
                          <a:pt x="51" y="848"/>
                        </a:lnTo>
                        <a:lnTo>
                          <a:pt x="4" y="825"/>
                        </a:lnTo>
                        <a:lnTo>
                          <a:pt x="0" y="821"/>
                        </a:lnTo>
                        <a:close/>
                      </a:path>
                    </a:pathLst>
                  </a:custGeom>
                  <a:solidFill>
                    <a:srgbClr val="e9d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65000" y="1566720"/>
                    <a:ext cx="1266840" cy="14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92">
                        <a:moveTo>
                          <a:pt x="0" y="816"/>
                        </a:moveTo>
                        <a:lnTo>
                          <a:pt x="3" y="818"/>
                        </a:lnTo>
                        <a:lnTo>
                          <a:pt x="3" y="820"/>
                        </a:lnTo>
                        <a:lnTo>
                          <a:pt x="5" y="823"/>
                        </a:lnTo>
                        <a:lnTo>
                          <a:pt x="7" y="827"/>
                        </a:lnTo>
                        <a:lnTo>
                          <a:pt x="9" y="827"/>
                        </a:lnTo>
                        <a:lnTo>
                          <a:pt x="56" y="850"/>
                        </a:lnTo>
                        <a:lnTo>
                          <a:pt x="106" y="867"/>
                        </a:lnTo>
                        <a:lnTo>
                          <a:pt x="157" y="881"/>
                        </a:lnTo>
                        <a:lnTo>
                          <a:pt x="209" y="890"/>
                        </a:lnTo>
                        <a:lnTo>
                          <a:pt x="265" y="892"/>
                        </a:lnTo>
                        <a:lnTo>
                          <a:pt x="319" y="890"/>
                        </a:lnTo>
                        <a:lnTo>
                          <a:pt x="372" y="881"/>
                        </a:lnTo>
                        <a:lnTo>
                          <a:pt x="424" y="867"/>
                        </a:lnTo>
                        <a:lnTo>
                          <a:pt x="473" y="850"/>
                        </a:lnTo>
                        <a:lnTo>
                          <a:pt x="518" y="827"/>
                        </a:lnTo>
                        <a:lnTo>
                          <a:pt x="563" y="800"/>
                        </a:lnTo>
                        <a:lnTo>
                          <a:pt x="603" y="771"/>
                        </a:lnTo>
                        <a:lnTo>
                          <a:pt x="641" y="735"/>
                        </a:lnTo>
                        <a:lnTo>
                          <a:pt x="675" y="697"/>
                        </a:lnTo>
                        <a:lnTo>
                          <a:pt x="706" y="657"/>
                        </a:lnTo>
                        <a:lnTo>
                          <a:pt x="733" y="612"/>
                        </a:lnTo>
                        <a:lnTo>
                          <a:pt x="756" y="565"/>
                        </a:lnTo>
                        <a:lnTo>
                          <a:pt x="774" y="518"/>
                        </a:lnTo>
                        <a:lnTo>
                          <a:pt x="787" y="466"/>
                        </a:lnTo>
                        <a:lnTo>
                          <a:pt x="796" y="415"/>
                        </a:lnTo>
                        <a:lnTo>
                          <a:pt x="798" y="359"/>
                        </a:lnTo>
                        <a:lnTo>
                          <a:pt x="792" y="359"/>
                        </a:lnTo>
                        <a:lnTo>
                          <a:pt x="789" y="305"/>
                        </a:lnTo>
                        <a:lnTo>
                          <a:pt x="780" y="253"/>
                        </a:lnTo>
                        <a:lnTo>
                          <a:pt x="769" y="202"/>
                        </a:lnTo>
                        <a:lnTo>
                          <a:pt x="751" y="153"/>
                        </a:lnTo>
                        <a:lnTo>
                          <a:pt x="729" y="108"/>
                        </a:lnTo>
                        <a:lnTo>
                          <a:pt x="702" y="63"/>
                        </a:lnTo>
                        <a:lnTo>
                          <a:pt x="671" y="23"/>
                        </a:lnTo>
                        <a:lnTo>
                          <a:pt x="650" y="0"/>
                        </a:lnTo>
                        <a:lnTo>
                          <a:pt x="653" y="0"/>
                        </a:lnTo>
                        <a:lnTo>
                          <a:pt x="657" y="2"/>
                        </a:lnTo>
                        <a:lnTo>
                          <a:pt x="659" y="2"/>
                        </a:lnTo>
                        <a:lnTo>
                          <a:pt x="662" y="2"/>
                        </a:lnTo>
                        <a:lnTo>
                          <a:pt x="675" y="18"/>
                        </a:lnTo>
                        <a:lnTo>
                          <a:pt x="706" y="58"/>
                        </a:lnTo>
                        <a:lnTo>
                          <a:pt x="733" y="103"/>
                        </a:lnTo>
                        <a:lnTo>
                          <a:pt x="756" y="150"/>
                        </a:lnTo>
                        <a:lnTo>
                          <a:pt x="774" y="200"/>
                        </a:lnTo>
                        <a:lnTo>
                          <a:pt x="787" y="251"/>
                        </a:lnTo>
                        <a:lnTo>
                          <a:pt x="796" y="305"/>
                        </a:lnTo>
                        <a:lnTo>
                          <a:pt x="798" y="359"/>
                        </a:lnTo>
                        <a:lnTo>
                          <a:pt x="792" y="359"/>
                        </a:lnTo>
                        <a:lnTo>
                          <a:pt x="789" y="412"/>
                        </a:lnTo>
                        <a:lnTo>
                          <a:pt x="780" y="466"/>
                        </a:lnTo>
                        <a:lnTo>
                          <a:pt x="769" y="516"/>
                        </a:lnTo>
                        <a:lnTo>
                          <a:pt x="751" y="563"/>
                        </a:lnTo>
                        <a:lnTo>
                          <a:pt x="729" y="610"/>
                        </a:lnTo>
                        <a:lnTo>
                          <a:pt x="702" y="652"/>
                        </a:lnTo>
                        <a:lnTo>
                          <a:pt x="671" y="693"/>
                        </a:lnTo>
                        <a:lnTo>
                          <a:pt x="637" y="731"/>
                        </a:lnTo>
                        <a:lnTo>
                          <a:pt x="599" y="764"/>
                        </a:lnTo>
                        <a:lnTo>
                          <a:pt x="558" y="796"/>
                        </a:lnTo>
                        <a:lnTo>
                          <a:pt x="514" y="823"/>
                        </a:lnTo>
                        <a:lnTo>
                          <a:pt x="471" y="845"/>
                        </a:lnTo>
                        <a:lnTo>
                          <a:pt x="422" y="863"/>
                        </a:lnTo>
                        <a:lnTo>
                          <a:pt x="370" y="876"/>
                        </a:lnTo>
                        <a:lnTo>
                          <a:pt x="319" y="883"/>
                        </a:lnTo>
                        <a:lnTo>
                          <a:pt x="265" y="885"/>
                        </a:lnTo>
                        <a:lnTo>
                          <a:pt x="211" y="883"/>
                        </a:lnTo>
                        <a:lnTo>
                          <a:pt x="157" y="876"/>
                        </a:lnTo>
                        <a:lnTo>
                          <a:pt x="108" y="863"/>
                        </a:lnTo>
                        <a:lnTo>
                          <a:pt x="59" y="845"/>
                        </a:lnTo>
                        <a:lnTo>
                          <a:pt x="12" y="823"/>
                        </a:lnTo>
                        <a:lnTo>
                          <a:pt x="0" y="816"/>
                        </a:lnTo>
                        <a:close/>
                      </a:path>
                    </a:pathLst>
                  </a:custGeom>
                  <a:solidFill>
                    <a:srgbClr val="e9d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758520" y="1563480"/>
                    <a:ext cx="1266840" cy="14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90">
                        <a:moveTo>
                          <a:pt x="0" y="809"/>
                        </a:moveTo>
                        <a:lnTo>
                          <a:pt x="2" y="813"/>
                        </a:lnTo>
                        <a:lnTo>
                          <a:pt x="2" y="816"/>
                        </a:lnTo>
                        <a:lnTo>
                          <a:pt x="4" y="818"/>
                        </a:lnTo>
                        <a:lnTo>
                          <a:pt x="7" y="820"/>
                        </a:lnTo>
                        <a:lnTo>
                          <a:pt x="16" y="827"/>
                        </a:lnTo>
                        <a:lnTo>
                          <a:pt x="63" y="849"/>
                        </a:lnTo>
                        <a:lnTo>
                          <a:pt x="110" y="867"/>
                        </a:lnTo>
                        <a:lnTo>
                          <a:pt x="161" y="881"/>
                        </a:lnTo>
                        <a:lnTo>
                          <a:pt x="215" y="887"/>
                        </a:lnTo>
                        <a:lnTo>
                          <a:pt x="269" y="890"/>
                        </a:lnTo>
                        <a:lnTo>
                          <a:pt x="323" y="887"/>
                        </a:lnTo>
                        <a:lnTo>
                          <a:pt x="376" y="881"/>
                        </a:lnTo>
                        <a:lnTo>
                          <a:pt x="426" y="867"/>
                        </a:lnTo>
                        <a:lnTo>
                          <a:pt x="475" y="849"/>
                        </a:lnTo>
                        <a:lnTo>
                          <a:pt x="520" y="827"/>
                        </a:lnTo>
                        <a:lnTo>
                          <a:pt x="565" y="800"/>
                        </a:lnTo>
                        <a:lnTo>
                          <a:pt x="605" y="769"/>
                        </a:lnTo>
                        <a:lnTo>
                          <a:pt x="643" y="735"/>
                        </a:lnTo>
                        <a:lnTo>
                          <a:pt x="677" y="697"/>
                        </a:lnTo>
                        <a:lnTo>
                          <a:pt x="708" y="657"/>
                        </a:lnTo>
                        <a:lnTo>
                          <a:pt x="733" y="612"/>
                        </a:lnTo>
                        <a:lnTo>
                          <a:pt x="755" y="565"/>
                        </a:lnTo>
                        <a:lnTo>
                          <a:pt x="773" y="520"/>
                        </a:lnTo>
                        <a:lnTo>
                          <a:pt x="787" y="468"/>
                        </a:lnTo>
                        <a:lnTo>
                          <a:pt x="796" y="414"/>
                        </a:lnTo>
                        <a:lnTo>
                          <a:pt x="798" y="361"/>
                        </a:lnTo>
                        <a:lnTo>
                          <a:pt x="791" y="361"/>
                        </a:lnTo>
                        <a:lnTo>
                          <a:pt x="789" y="307"/>
                        </a:lnTo>
                        <a:lnTo>
                          <a:pt x="780" y="255"/>
                        </a:lnTo>
                        <a:lnTo>
                          <a:pt x="769" y="204"/>
                        </a:lnTo>
                        <a:lnTo>
                          <a:pt x="751" y="157"/>
                        </a:lnTo>
                        <a:lnTo>
                          <a:pt x="728" y="110"/>
                        </a:lnTo>
                        <a:lnTo>
                          <a:pt x="701" y="67"/>
                        </a:lnTo>
                        <a:lnTo>
                          <a:pt x="672" y="27"/>
                        </a:lnTo>
                        <a:lnTo>
                          <a:pt x="645" y="0"/>
                        </a:lnTo>
                        <a:lnTo>
                          <a:pt x="650" y="0"/>
                        </a:lnTo>
                        <a:lnTo>
                          <a:pt x="652" y="0"/>
                        </a:lnTo>
                        <a:lnTo>
                          <a:pt x="654" y="2"/>
                        </a:lnTo>
                        <a:lnTo>
                          <a:pt x="659" y="2"/>
                        </a:lnTo>
                        <a:lnTo>
                          <a:pt x="677" y="22"/>
                        </a:lnTo>
                        <a:lnTo>
                          <a:pt x="708" y="63"/>
                        </a:lnTo>
                        <a:lnTo>
                          <a:pt x="733" y="107"/>
                        </a:lnTo>
                        <a:lnTo>
                          <a:pt x="755" y="155"/>
                        </a:lnTo>
                        <a:lnTo>
                          <a:pt x="773" y="204"/>
                        </a:lnTo>
                        <a:lnTo>
                          <a:pt x="787" y="253"/>
                        </a:lnTo>
                        <a:lnTo>
                          <a:pt x="796" y="307"/>
                        </a:lnTo>
                        <a:lnTo>
                          <a:pt x="798" y="361"/>
                        </a:lnTo>
                        <a:lnTo>
                          <a:pt x="791" y="361"/>
                        </a:lnTo>
                        <a:lnTo>
                          <a:pt x="789" y="414"/>
                        </a:lnTo>
                        <a:lnTo>
                          <a:pt x="780" y="466"/>
                        </a:lnTo>
                        <a:lnTo>
                          <a:pt x="769" y="518"/>
                        </a:lnTo>
                        <a:lnTo>
                          <a:pt x="751" y="562"/>
                        </a:lnTo>
                        <a:lnTo>
                          <a:pt x="728" y="609"/>
                        </a:lnTo>
                        <a:lnTo>
                          <a:pt x="701" y="652"/>
                        </a:lnTo>
                        <a:lnTo>
                          <a:pt x="672" y="692"/>
                        </a:lnTo>
                        <a:lnTo>
                          <a:pt x="639" y="731"/>
                        </a:lnTo>
                        <a:lnTo>
                          <a:pt x="601" y="764"/>
                        </a:lnTo>
                        <a:lnTo>
                          <a:pt x="560" y="793"/>
                        </a:lnTo>
                        <a:lnTo>
                          <a:pt x="518" y="820"/>
                        </a:lnTo>
                        <a:lnTo>
                          <a:pt x="473" y="843"/>
                        </a:lnTo>
                        <a:lnTo>
                          <a:pt x="426" y="860"/>
                        </a:lnTo>
                        <a:lnTo>
                          <a:pt x="374" y="874"/>
                        </a:lnTo>
                        <a:lnTo>
                          <a:pt x="323" y="881"/>
                        </a:lnTo>
                        <a:lnTo>
                          <a:pt x="269" y="883"/>
                        </a:lnTo>
                        <a:lnTo>
                          <a:pt x="215" y="881"/>
                        </a:lnTo>
                        <a:lnTo>
                          <a:pt x="164" y="874"/>
                        </a:lnTo>
                        <a:lnTo>
                          <a:pt x="112" y="860"/>
                        </a:lnTo>
                        <a:lnTo>
                          <a:pt x="65" y="843"/>
                        </a:lnTo>
                        <a:lnTo>
                          <a:pt x="18" y="820"/>
                        </a:lnTo>
                        <a:lnTo>
                          <a:pt x="0" y="809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50600" y="1560240"/>
                    <a:ext cx="1266840" cy="140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87">
                        <a:moveTo>
                          <a:pt x="0" y="804"/>
                        </a:moveTo>
                        <a:lnTo>
                          <a:pt x="3" y="806"/>
                        </a:lnTo>
                        <a:lnTo>
                          <a:pt x="3" y="809"/>
                        </a:lnTo>
                        <a:lnTo>
                          <a:pt x="5" y="813"/>
                        </a:lnTo>
                        <a:lnTo>
                          <a:pt x="7" y="815"/>
                        </a:lnTo>
                        <a:lnTo>
                          <a:pt x="23" y="824"/>
                        </a:lnTo>
                        <a:lnTo>
                          <a:pt x="68" y="847"/>
                        </a:lnTo>
                        <a:lnTo>
                          <a:pt x="117" y="865"/>
                        </a:lnTo>
                        <a:lnTo>
                          <a:pt x="169" y="878"/>
                        </a:lnTo>
                        <a:lnTo>
                          <a:pt x="220" y="885"/>
                        </a:lnTo>
                        <a:lnTo>
                          <a:pt x="274" y="887"/>
                        </a:lnTo>
                        <a:lnTo>
                          <a:pt x="328" y="885"/>
                        </a:lnTo>
                        <a:lnTo>
                          <a:pt x="379" y="878"/>
                        </a:lnTo>
                        <a:lnTo>
                          <a:pt x="431" y="865"/>
                        </a:lnTo>
                        <a:lnTo>
                          <a:pt x="478" y="847"/>
                        </a:lnTo>
                        <a:lnTo>
                          <a:pt x="523" y="824"/>
                        </a:lnTo>
                        <a:lnTo>
                          <a:pt x="565" y="798"/>
                        </a:lnTo>
                        <a:lnTo>
                          <a:pt x="606" y="768"/>
                        </a:lnTo>
                        <a:lnTo>
                          <a:pt x="644" y="733"/>
                        </a:lnTo>
                        <a:lnTo>
                          <a:pt x="677" y="697"/>
                        </a:lnTo>
                        <a:lnTo>
                          <a:pt x="709" y="656"/>
                        </a:lnTo>
                        <a:lnTo>
                          <a:pt x="736" y="611"/>
                        </a:lnTo>
                        <a:lnTo>
                          <a:pt x="758" y="567"/>
                        </a:lnTo>
                        <a:lnTo>
                          <a:pt x="776" y="520"/>
                        </a:lnTo>
                        <a:lnTo>
                          <a:pt x="787" y="468"/>
                        </a:lnTo>
                        <a:lnTo>
                          <a:pt x="796" y="416"/>
                        </a:lnTo>
                        <a:lnTo>
                          <a:pt x="798" y="363"/>
                        </a:lnTo>
                        <a:lnTo>
                          <a:pt x="792" y="363"/>
                        </a:lnTo>
                        <a:lnTo>
                          <a:pt x="789" y="309"/>
                        </a:lnTo>
                        <a:lnTo>
                          <a:pt x="783" y="257"/>
                        </a:lnTo>
                        <a:lnTo>
                          <a:pt x="769" y="208"/>
                        </a:lnTo>
                        <a:lnTo>
                          <a:pt x="751" y="161"/>
                        </a:lnTo>
                        <a:lnTo>
                          <a:pt x="729" y="114"/>
                        </a:lnTo>
                        <a:lnTo>
                          <a:pt x="704" y="71"/>
                        </a:lnTo>
                        <a:lnTo>
                          <a:pt x="673" y="31"/>
                        </a:lnTo>
                        <a:lnTo>
                          <a:pt x="644" y="0"/>
                        </a:lnTo>
                        <a:lnTo>
                          <a:pt x="646" y="0"/>
                        </a:lnTo>
                        <a:lnTo>
                          <a:pt x="650" y="2"/>
                        </a:lnTo>
                        <a:lnTo>
                          <a:pt x="653" y="2"/>
                        </a:lnTo>
                        <a:lnTo>
                          <a:pt x="655" y="2"/>
                        </a:lnTo>
                        <a:lnTo>
                          <a:pt x="677" y="27"/>
                        </a:lnTo>
                        <a:lnTo>
                          <a:pt x="709" y="69"/>
                        </a:lnTo>
                        <a:lnTo>
                          <a:pt x="736" y="112"/>
                        </a:lnTo>
                        <a:lnTo>
                          <a:pt x="758" y="159"/>
                        </a:lnTo>
                        <a:lnTo>
                          <a:pt x="776" y="206"/>
                        </a:lnTo>
                        <a:lnTo>
                          <a:pt x="787" y="257"/>
                        </a:lnTo>
                        <a:lnTo>
                          <a:pt x="796" y="309"/>
                        </a:lnTo>
                        <a:lnTo>
                          <a:pt x="798" y="363"/>
                        </a:lnTo>
                        <a:lnTo>
                          <a:pt x="792" y="363"/>
                        </a:lnTo>
                        <a:lnTo>
                          <a:pt x="789" y="416"/>
                        </a:lnTo>
                        <a:lnTo>
                          <a:pt x="783" y="468"/>
                        </a:lnTo>
                        <a:lnTo>
                          <a:pt x="769" y="517"/>
                        </a:lnTo>
                        <a:lnTo>
                          <a:pt x="751" y="564"/>
                        </a:lnTo>
                        <a:lnTo>
                          <a:pt x="729" y="609"/>
                        </a:lnTo>
                        <a:lnTo>
                          <a:pt x="704" y="652"/>
                        </a:lnTo>
                        <a:lnTo>
                          <a:pt x="673" y="692"/>
                        </a:lnTo>
                        <a:lnTo>
                          <a:pt x="639" y="728"/>
                        </a:lnTo>
                        <a:lnTo>
                          <a:pt x="603" y="764"/>
                        </a:lnTo>
                        <a:lnTo>
                          <a:pt x="563" y="793"/>
                        </a:lnTo>
                        <a:lnTo>
                          <a:pt x="520" y="820"/>
                        </a:lnTo>
                        <a:lnTo>
                          <a:pt x="476" y="840"/>
                        </a:lnTo>
                        <a:lnTo>
                          <a:pt x="429" y="858"/>
                        </a:lnTo>
                        <a:lnTo>
                          <a:pt x="379" y="871"/>
                        </a:lnTo>
                        <a:lnTo>
                          <a:pt x="328" y="878"/>
                        </a:lnTo>
                        <a:lnTo>
                          <a:pt x="274" y="883"/>
                        </a:lnTo>
                        <a:lnTo>
                          <a:pt x="220" y="878"/>
                        </a:lnTo>
                        <a:lnTo>
                          <a:pt x="169" y="871"/>
                        </a:lnTo>
                        <a:lnTo>
                          <a:pt x="119" y="858"/>
                        </a:lnTo>
                        <a:lnTo>
                          <a:pt x="70" y="840"/>
                        </a:lnTo>
                        <a:lnTo>
                          <a:pt x="25" y="820"/>
                        </a:lnTo>
                        <a:lnTo>
                          <a:pt x="0" y="804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44480" y="1555560"/>
                    <a:ext cx="1266840" cy="14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88">
                        <a:moveTo>
                          <a:pt x="0" y="801"/>
                        </a:moveTo>
                        <a:lnTo>
                          <a:pt x="2" y="803"/>
                        </a:lnTo>
                        <a:lnTo>
                          <a:pt x="4" y="805"/>
                        </a:lnTo>
                        <a:lnTo>
                          <a:pt x="4" y="807"/>
                        </a:lnTo>
                        <a:lnTo>
                          <a:pt x="7" y="812"/>
                        </a:lnTo>
                        <a:lnTo>
                          <a:pt x="29" y="823"/>
                        </a:lnTo>
                        <a:lnTo>
                          <a:pt x="74" y="845"/>
                        </a:lnTo>
                        <a:lnTo>
                          <a:pt x="121" y="863"/>
                        </a:lnTo>
                        <a:lnTo>
                          <a:pt x="173" y="877"/>
                        </a:lnTo>
                        <a:lnTo>
                          <a:pt x="224" y="883"/>
                        </a:lnTo>
                        <a:lnTo>
                          <a:pt x="278" y="888"/>
                        </a:lnTo>
                        <a:lnTo>
                          <a:pt x="332" y="883"/>
                        </a:lnTo>
                        <a:lnTo>
                          <a:pt x="383" y="877"/>
                        </a:lnTo>
                        <a:lnTo>
                          <a:pt x="433" y="863"/>
                        </a:lnTo>
                        <a:lnTo>
                          <a:pt x="482" y="845"/>
                        </a:lnTo>
                        <a:lnTo>
                          <a:pt x="524" y="823"/>
                        </a:lnTo>
                        <a:lnTo>
                          <a:pt x="567" y="798"/>
                        </a:lnTo>
                        <a:lnTo>
                          <a:pt x="607" y="767"/>
                        </a:lnTo>
                        <a:lnTo>
                          <a:pt x="645" y="733"/>
                        </a:lnTo>
                        <a:lnTo>
                          <a:pt x="679" y="697"/>
                        </a:lnTo>
                        <a:lnTo>
                          <a:pt x="708" y="657"/>
                        </a:lnTo>
                        <a:lnTo>
                          <a:pt x="735" y="612"/>
                        </a:lnTo>
                        <a:lnTo>
                          <a:pt x="758" y="567"/>
                        </a:lnTo>
                        <a:lnTo>
                          <a:pt x="775" y="523"/>
                        </a:lnTo>
                        <a:lnTo>
                          <a:pt x="789" y="471"/>
                        </a:lnTo>
                        <a:lnTo>
                          <a:pt x="796" y="419"/>
                        </a:lnTo>
                        <a:lnTo>
                          <a:pt x="798" y="366"/>
                        </a:lnTo>
                        <a:lnTo>
                          <a:pt x="791" y="366"/>
                        </a:lnTo>
                        <a:lnTo>
                          <a:pt x="789" y="314"/>
                        </a:lnTo>
                        <a:lnTo>
                          <a:pt x="782" y="263"/>
                        </a:lnTo>
                        <a:lnTo>
                          <a:pt x="769" y="213"/>
                        </a:lnTo>
                        <a:lnTo>
                          <a:pt x="751" y="164"/>
                        </a:lnTo>
                        <a:lnTo>
                          <a:pt x="731" y="119"/>
                        </a:lnTo>
                        <a:lnTo>
                          <a:pt x="704" y="77"/>
                        </a:lnTo>
                        <a:lnTo>
                          <a:pt x="675" y="36"/>
                        </a:lnTo>
                        <a:lnTo>
                          <a:pt x="641" y="0"/>
                        </a:lnTo>
                        <a:lnTo>
                          <a:pt x="641" y="0"/>
                        </a:lnTo>
                        <a:lnTo>
                          <a:pt x="643" y="0"/>
                        </a:lnTo>
                        <a:lnTo>
                          <a:pt x="645" y="3"/>
                        </a:lnTo>
                        <a:lnTo>
                          <a:pt x="648" y="3"/>
                        </a:lnTo>
                        <a:lnTo>
                          <a:pt x="652" y="3"/>
                        </a:lnTo>
                        <a:lnTo>
                          <a:pt x="679" y="34"/>
                        </a:lnTo>
                        <a:lnTo>
                          <a:pt x="708" y="74"/>
                        </a:lnTo>
                        <a:lnTo>
                          <a:pt x="735" y="117"/>
                        </a:lnTo>
                        <a:lnTo>
                          <a:pt x="758" y="162"/>
                        </a:lnTo>
                        <a:lnTo>
                          <a:pt x="775" y="211"/>
                        </a:lnTo>
                        <a:lnTo>
                          <a:pt x="789" y="260"/>
                        </a:lnTo>
                        <a:lnTo>
                          <a:pt x="796" y="312"/>
                        </a:lnTo>
                        <a:lnTo>
                          <a:pt x="798" y="366"/>
                        </a:lnTo>
                        <a:lnTo>
                          <a:pt x="791" y="366"/>
                        </a:lnTo>
                        <a:lnTo>
                          <a:pt x="789" y="419"/>
                        </a:lnTo>
                        <a:lnTo>
                          <a:pt x="782" y="471"/>
                        </a:lnTo>
                        <a:lnTo>
                          <a:pt x="769" y="520"/>
                        </a:lnTo>
                        <a:lnTo>
                          <a:pt x="751" y="565"/>
                        </a:lnTo>
                        <a:lnTo>
                          <a:pt x="731" y="610"/>
                        </a:lnTo>
                        <a:lnTo>
                          <a:pt x="704" y="653"/>
                        </a:lnTo>
                        <a:lnTo>
                          <a:pt x="675" y="693"/>
                        </a:lnTo>
                        <a:lnTo>
                          <a:pt x="641" y="729"/>
                        </a:lnTo>
                        <a:lnTo>
                          <a:pt x="605" y="762"/>
                        </a:lnTo>
                        <a:lnTo>
                          <a:pt x="565" y="792"/>
                        </a:lnTo>
                        <a:lnTo>
                          <a:pt x="522" y="818"/>
                        </a:lnTo>
                        <a:lnTo>
                          <a:pt x="480" y="841"/>
                        </a:lnTo>
                        <a:lnTo>
                          <a:pt x="430" y="857"/>
                        </a:lnTo>
                        <a:lnTo>
                          <a:pt x="381" y="870"/>
                        </a:lnTo>
                        <a:lnTo>
                          <a:pt x="329" y="879"/>
                        </a:lnTo>
                        <a:lnTo>
                          <a:pt x="278" y="881"/>
                        </a:lnTo>
                        <a:lnTo>
                          <a:pt x="224" y="879"/>
                        </a:lnTo>
                        <a:lnTo>
                          <a:pt x="173" y="870"/>
                        </a:lnTo>
                        <a:lnTo>
                          <a:pt x="123" y="857"/>
                        </a:lnTo>
                        <a:lnTo>
                          <a:pt x="76" y="841"/>
                        </a:lnTo>
                        <a:lnTo>
                          <a:pt x="31" y="818"/>
                        </a:lnTo>
                        <a:lnTo>
                          <a:pt x="0" y="801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41240" y="1552320"/>
                    <a:ext cx="1262160" cy="1405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5" h="885">
                        <a:moveTo>
                          <a:pt x="0" y="796"/>
                        </a:moveTo>
                        <a:lnTo>
                          <a:pt x="0" y="798"/>
                        </a:lnTo>
                        <a:lnTo>
                          <a:pt x="2" y="800"/>
                        </a:lnTo>
                        <a:lnTo>
                          <a:pt x="4" y="803"/>
                        </a:lnTo>
                        <a:lnTo>
                          <a:pt x="4" y="805"/>
                        </a:lnTo>
                        <a:lnTo>
                          <a:pt x="33" y="823"/>
                        </a:lnTo>
                        <a:lnTo>
                          <a:pt x="78" y="843"/>
                        </a:lnTo>
                        <a:lnTo>
                          <a:pt x="125" y="861"/>
                        </a:lnTo>
                        <a:lnTo>
                          <a:pt x="175" y="874"/>
                        </a:lnTo>
                        <a:lnTo>
                          <a:pt x="226" y="881"/>
                        </a:lnTo>
                        <a:lnTo>
                          <a:pt x="280" y="885"/>
                        </a:lnTo>
                        <a:lnTo>
                          <a:pt x="334" y="881"/>
                        </a:lnTo>
                        <a:lnTo>
                          <a:pt x="385" y="874"/>
                        </a:lnTo>
                        <a:lnTo>
                          <a:pt x="435" y="861"/>
                        </a:lnTo>
                        <a:lnTo>
                          <a:pt x="482" y="843"/>
                        </a:lnTo>
                        <a:lnTo>
                          <a:pt x="524" y="823"/>
                        </a:lnTo>
                        <a:lnTo>
                          <a:pt x="567" y="796"/>
                        </a:lnTo>
                        <a:lnTo>
                          <a:pt x="607" y="767"/>
                        </a:lnTo>
                        <a:lnTo>
                          <a:pt x="645" y="733"/>
                        </a:lnTo>
                        <a:lnTo>
                          <a:pt x="679" y="695"/>
                        </a:lnTo>
                        <a:lnTo>
                          <a:pt x="708" y="657"/>
                        </a:lnTo>
                        <a:lnTo>
                          <a:pt x="733" y="612"/>
                        </a:lnTo>
                        <a:lnTo>
                          <a:pt x="755" y="567"/>
                        </a:lnTo>
                        <a:lnTo>
                          <a:pt x="773" y="522"/>
                        </a:lnTo>
                        <a:lnTo>
                          <a:pt x="786" y="473"/>
                        </a:lnTo>
                        <a:lnTo>
                          <a:pt x="793" y="421"/>
                        </a:lnTo>
                        <a:lnTo>
                          <a:pt x="795" y="368"/>
                        </a:lnTo>
                        <a:lnTo>
                          <a:pt x="791" y="368"/>
                        </a:lnTo>
                        <a:lnTo>
                          <a:pt x="786" y="316"/>
                        </a:lnTo>
                        <a:lnTo>
                          <a:pt x="780" y="265"/>
                        </a:lnTo>
                        <a:lnTo>
                          <a:pt x="766" y="215"/>
                        </a:lnTo>
                        <a:lnTo>
                          <a:pt x="751" y="168"/>
                        </a:lnTo>
                        <a:lnTo>
                          <a:pt x="728" y="123"/>
                        </a:lnTo>
                        <a:lnTo>
                          <a:pt x="703" y="81"/>
                        </a:lnTo>
                        <a:lnTo>
                          <a:pt x="672" y="43"/>
                        </a:lnTo>
                        <a:lnTo>
                          <a:pt x="641" y="5"/>
                        </a:lnTo>
                        <a:lnTo>
                          <a:pt x="634" y="0"/>
                        </a:lnTo>
                        <a:lnTo>
                          <a:pt x="636" y="0"/>
                        </a:lnTo>
                        <a:lnTo>
                          <a:pt x="641" y="2"/>
                        </a:lnTo>
                        <a:lnTo>
                          <a:pt x="643" y="2"/>
                        </a:lnTo>
                        <a:lnTo>
                          <a:pt x="645" y="2"/>
                        </a:lnTo>
                        <a:lnTo>
                          <a:pt x="679" y="38"/>
                        </a:lnTo>
                        <a:lnTo>
                          <a:pt x="708" y="79"/>
                        </a:lnTo>
                        <a:lnTo>
                          <a:pt x="733" y="121"/>
                        </a:lnTo>
                        <a:lnTo>
                          <a:pt x="755" y="166"/>
                        </a:lnTo>
                        <a:lnTo>
                          <a:pt x="773" y="213"/>
                        </a:lnTo>
                        <a:lnTo>
                          <a:pt x="786" y="262"/>
                        </a:lnTo>
                        <a:lnTo>
                          <a:pt x="793" y="314"/>
                        </a:lnTo>
                        <a:lnTo>
                          <a:pt x="795" y="368"/>
                        </a:lnTo>
                        <a:lnTo>
                          <a:pt x="791" y="368"/>
                        </a:lnTo>
                        <a:lnTo>
                          <a:pt x="786" y="421"/>
                        </a:lnTo>
                        <a:lnTo>
                          <a:pt x="780" y="471"/>
                        </a:lnTo>
                        <a:lnTo>
                          <a:pt x="766" y="520"/>
                        </a:lnTo>
                        <a:lnTo>
                          <a:pt x="751" y="565"/>
                        </a:lnTo>
                        <a:lnTo>
                          <a:pt x="728" y="610"/>
                        </a:lnTo>
                        <a:lnTo>
                          <a:pt x="703" y="652"/>
                        </a:lnTo>
                        <a:lnTo>
                          <a:pt x="672" y="693"/>
                        </a:lnTo>
                        <a:lnTo>
                          <a:pt x="641" y="729"/>
                        </a:lnTo>
                        <a:lnTo>
                          <a:pt x="603" y="762"/>
                        </a:lnTo>
                        <a:lnTo>
                          <a:pt x="565" y="791"/>
                        </a:lnTo>
                        <a:lnTo>
                          <a:pt x="522" y="816"/>
                        </a:lnTo>
                        <a:lnTo>
                          <a:pt x="479" y="838"/>
                        </a:lnTo>
                        <a:lnTo>
                          <a:pt x="432" y="856"/>
                        </a:lnTo>
                        <a:lnTo>
                          <a:pt x="383" y="867"/>
                        </a:lnTo>
                        <a:lnTo>
                          <a:pt x="331" y="876"/>
                        </a:lnTo>
                        <a:lnTo>
                          <a:pt x="280" y="879"/>
                        </a:lnTo>
                        <a:lnTo>
                          <a:pt x="226" y="876"/>
                        </a:lnTo>
                        <a:lnTo>
                          <a:pt x="177" y="867"/>
                        </a:lnTo>
                        <a:lnTo>
                          <a:pt x="127" y="856"/>
                        </a:lnTo>
                        <a:lnTo>
                          <a:pt x="80" y="838"/>
                        </a:lnTo>
                        <a:lnTo>
                          <a:pt x="36" y="816"/>
                        </a:lnTo>
                        <a:lnTo>
                          <a:pt x="0" y="796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33320" y="1549080"/>
                    <a:ext cx="1266840" cy="1401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883">
                        <a:moveTo>
                          <a:pt x="0" y="789"/>
                        </a:moveTo>
                        <a:lnTo>
                          <a:pt x="2" y="793"/>
                        </a:lnTo>
                        <a:lnTo>
                          <a:pt x="5" y="796"/>
                        </a:lnTo>
                        <a:lnTo>
                          <a:pt x="5" y="798"/>
                        </a:lnTo>
                        <a:lnTo>
                          <a:pt x="7" y="800"/>
                        </a:lnTo>
                        <a:lnTo>
                          <a:pt x="38" y="820"/>
                        </a:lnTo>
                        <a:lnTo>
                          <a:pt x="85" y="843"/>
                        </a:lnTo>
                        <a:lnTo>
                          <a:pt x="132" y="858"/>
                        </a:lnTo>
                        <a:lnTo>
                          <a:pt x="182" y="872"/>
                        </a:lnTo>
                        <a:lnTo>
                          <a:pt x="231" y="881"/>
                        </a:lnTo>
                        <a:lnTo>
                          <a:pt x="285" y="883"/>
                        </a:lnTo>
                        <a:lnTo>
                          <a:pt x="336" y="881"/>
                        </a:lnTo>
                        <a:lnTo>
                          <a:pt x="388" y="872"/>
                        </a:lnTo>
                        <a:lnTo>
                          <a:pt x="437" y="858"/>
                        </a:lnTo>
                        <a:lnTo>
                          <a:pt x="484" y="843"/>
                        </a:lnTo>
                        <a:lnTo>
                          <a:pt x="527" y="820"/>
                        </a:lnTo>
                        <a:lnTo>
                          <a:pt x="570" y="796"/>
                        </a:lnTo>
                        <a:lnTo>
                          <a:pt x="610" y="764"/>
                        </a:lnTo>
                        <a:lnTo>
                          <a:pt x="646" y="731"/>
                        </a:lnTo>
                        <a:lnTo>
                          <a:pt x="679" y="695"/>
                        </a:lnTo>
                        <a:lnTo>
                          <a:pt x="708" y="654"/>
                        </a:lnTo>
                        <a:lnTo>
                          <a:pt x="735" y="614"/>
                        </a:lnTo>
                        <a:lnTo>
                          <a:pt x="756" y="567"/>
                        </a:lnTo>
                        <a:lnTo>
                          <a:pt x="773" y="522"/>
                        </a:lnTo>
                        <a:lnTo>
                          <a:pt x="787" y="473"/>
                        </a:lnTo>
                        <a:lnTo>
                          <a:pt x="794" y="423"/>
                        </a:lnTo>
                        <a:lnTo>
                          <a:pt x="798" y="370"/>
                        </a:lnTo>
                        <a:lnTo>
                          <a:pt x="791" y="370"/>
                        </a:lnTo>
                        <a:lnTo>
                          <a:pt x="789" y="318"/>
                        </a:lnTo>
                        <a:lnTo>
                          <a:pt x="780" y="267"/>
                        </a:lnTo>
                        <a:lnTo>
                          <a:pt x="767" y="220"/>
                        </a:lnTo>
                        <a:lnTo>
                          <a:pt x="751" y="172"/>
                        </a:lnTo>
                        <a:lnTo>
                          <a:pt x="729" y="128"/>
                        </a:lnTo>
                        <a:lnTo>
                          <a:pt x="704" y="85"/>
                        </a:lnTo>
                        <a:lnTo>
                          <a:pt x="675" y="47"/>
                        </a:lnTo>
                        <a:lnTo>
                          <a:pt x="641" y="11"/>
                        </a:lnTo>
                        <a:lnTo>
                          <a:pt x="630" y="0"/>
                        </a:lnTo>
                        <a:lnTo>
                          <a:pt x="632" y="0"/>
                        </a:lnTo>
                        <a:lnTo>
                          <a:pt x="637" y="2"/>
                        </a:lnTo>
                        <a:lnTo>
                          <a:pt x="639" y="2"/>
                        </a:lnTo>
                        <a:lnTo>
                          <a:pt x="643" y="2"/>
                        </a:lnTo>
                        <a:lnTo>
                          <a:pt x="646" y="7"/>
                        </a:lnTo>
                        <a:lnTo>
                          <a:pt x="679" y="42"/>
                        </a:lnTo>
                        <a:lnTo>
                          <a:pt x="708" y="83"/>
                        </a:lnTo>
                        <a:lnTo>
                          <a:pt x="735" y="125"/>
                        </a:lnTo>
                        <a:lnTo>
                          <a:pt x="756" y="170"/>
                        </a:lnTo>
                        <a:lnTo>
                          <a:pt x="773" y="217"/>
                        </a:lnTo>
                        <a:lnTo>
                          <a:pt x="787" y="267"/>
                        </a:lnTo>
                        <a:lnTo>
                          <a:pt x="794" y="318"/>
                        </a:lnTo>
                        <a:lnTo>
                          <a:pt x="798" y="370"/>
                        </a:lnTo>
                        <a:lnTo>
                          <a:pt x="791" y="370"/>
                        </a:lnTo>
                        <a:lnTo>
                          <a:pt x="789" y="421"/>
                        </a:lnTo>
                        <a:lnTo>
                          <a:pt x="780" y="473"/>
                        </a:lnTo>
                        <a:lnTo>
                          <a:pt x="767" y="522"/>
                        </a:lnTo>
                        <a:lnTo>
                          <a:pt x="751" y="565"/>
                        </a:lnTo>
                        <a:lnTo>
                          <a:pt x="729" y="610"/>
                        </a:lnTo>
                        <a:lnTo>
                          <a:pt x="704" y="652"/>
                        </a:lnTo>
                        <a:lnTo>
                          <a:pt x="675" y="690"/>
                        </a:lnTo>
                        <a:lnTo>
                          <a:pt x="641" y="726"/>
                        </a:lnTo>
                        <a:lnTo>
                          <a:pt x="605" y="760"/>
                        </a:lnTo>
                        <a:lnTo>
                          <a:pt x="567" y="789"/>
                        </a:lnTo>
                        <a:lnTo>
                          <a:pt x="525" y="816"/>
                        </a:lnTo>
                        <a:lnTo>
                          <a:pt x="482" y="836"/>
                        </a:lnTo>
                        <a:lnTo>
                          <a:pt x="435" y="854"/>
                        </a:lnTo>
                        <a:lnTo>
                          <a:pt x="388" y="865"/>
                        </a:lnTo>
                        <a:lnTo>
                          <a:pt x="336" y="874"/>
                        </a:lnTo>
                        <a:lnTo>
                          <a:pt x="285" y="876"/>
                        </a:lnTo>
                        <a:lnTo>
                          <a:pt x="233" y="874"/>
                        </a:lnTo>
                        <a:lnTo>
                          <a:pt x="182" y="865"/>
                        </a:lnTo>
                        <a:lnTo>
                          <a:pt x="132" y="854"/>
                        </a:lnTo>
                        <a:lnTo>
                          <a:pt x="88" y="836"/>
                        </a:lnTo>
                        <a:lnTo>
                          <a:pt x="43" y="816"/>
                        </a:lnTo>
                        <a:lnTo>
                          <a:pt x="0" y="789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30080" y="1546200"/>
                    <a:ext cx="1263600" cy="139680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880">
                        <a:moveTo>
                          <a:pt x="0" y="784"/>
                        </a:moveTo>
                        <a:lnTo>
                          <a:pt x="0" y="786"/>
                        </a:lnTo>
                        <a:lnTo>
                          <a:pt x="2" y="789"/>
                        </a:lnTo>
                        <a:lnTo>
                          <a:pt x="2" y="793"/>
                        </a:lnTo>
                        <a:lnTo>
                          <a:pt x="4" y="795"/>
                        </a:lnTo>
                        <a:lnTo>
                          <a:pt x="43" y="818"/>
                        </a:lnTo>
                        <a:lnTo>
                          <a:pt x="87" y="840"/>
                        </a:lnTo>
                        <a:lnTo>
                          <a:pt x="134" y="858"/>
                        </a:lnTo>
                        <a:lnTo>
                          <a:pt x="184" y="869"/>
                        </a:lnTo>
                        <a:lnTo>
                          <a:pt x="235" y="878"/>
                        </a:lnTo>
                        <a:lnTo>
                          <a:pt x="287" y="880"/>
                        </a:lnTo>
                        <a:lnTo>
                          <a:pt x="338" y="878"/>
                        </a:lnTo>
                        <a:lnTo>
                          <a:pt x="390" y="869"/>
                        </a:lnTo>
                        <a:lnTo>
                          <a:pt x="439" y="858"/>
                        </a:lnTo>
                        <a:lnTo>
                          <a:pt x="486" y="840"/>
                        </a:lnTo>
                        <a:lnTo>
                          <a:pt x="527" y="818"/>
                        </a:lnTo>
                        <a:lnTo>
                          <a:pt x="569" y="793"/>
                        </a:lnTo>
                        <a:lnTo>
                          <a:pt x="610" y="764"/>
                        </a:lnTo>
                        <a:lnTo>
                          <a:pt x="645" y="730"/>
                        </a:lnTo>
                        <a:lnTo>
                          <a:pt x="679" y="694"/>
                        </a:lnTo>
                        <a:lnTo>
                          <a:pt x="708" y="654"/>
                        </a:lnTo>
                        <a:lnTo>
                          <a:pt x="733" y="614"/>
                        </a:lnTo>
                        <a:lnTo>
                          <a:pt x="755" y="569"/>
                        </a:lnTo>
                        <a:lnTo>
                          <a:pt x="771" y="524"/>
                        </a:lnTo>
                        <a:lnTo>
                          <a:pt x="784" y="475"/>
                        </a:lnTo>
                        <a:lnTo>
                          <a:pt x="791" y="423"/>
                        </a:lnTo>
                        <a:lnTo>
                          <a:pt x="796" y="372"/>
                        </a:lnTo>
                        <a:lnTo>
                          <a:pt x="789" y="372"/>
                        </a:lnTo>
                        <a:lnTo>
                          <a:pt x="787" y="320"/>
                        </a:lnTo>
                        <a:lnTo>
                          <a:pt x="778" y="271"/>
                        </a:lnTo>
                        <a:lnTo>
                          <a:pt x="767" y="222"/>
                        </a:lnTo>
                        <a:lnTo>
                          <a:pt x="749" y="177"/>
                        </a:lnTo>
                        <a:lnTo>
                          <a:pt x="728" y="132"/>
                        </a:lnTo>
                        <a:lnTo>
                          <a:pt x="702" y="89"/>
                        </a:lnTo>
                        <a:lnTo>
                          <a:pt x="672" y="51"/>
                        </a:lnTo>
                        <a:lnTo>
                          <a:pt x="641" y="15"/>
                        </a:lnTo>
                        <a:lnTo>
                          <a:pt x="623" y="0"/>
                        </a:lnTo>
                        <a:lnTo>
                          <a:pt x="628" y="2"/>
                        </a:lnTo>
                        <a:lnTo>
                          <a:pt x="630" y="2"/>
                        </a:lnTo>
                        <a:lnTo>
                          <a:pt x="632" y="2"/>
                        </a:lnTo>
                        <a:lnTo>
                          <a:pt x="637" y="2"/>
                        </a:lnTo>
                        <a:lnTo>
                          <a:pt x="645" y="11"/>
                        </a:lnTo>
                        <a:lnTo>
                          <a:pt x="679" y="47"/>
                        </a:lnTo>
                        <a:lnTo>
                          <a:pt x="708" y="87"/>
                        </a:lnTo>
                        <a:lnTo>
                          <a:pt x="733" y="130"/>
                        </a:lnTo>
                        <a:lnTo>
                          <a:pt x="755" y="172"/>
                        </a:lnTo>
                        <a:lnTo>
                          <a:pt x="771" y="219"/>
                        </a:lnTo>
                        <a:lnTo>
                          <a:pt x="784" y="269"/>
                        </a:lnTo>
                        <a:lnTo>
                          <a:pt x="791" y="320"/>
                        </a:lnTo>
                        <a:lnTo>
                          <a:pt x="796" y="372"/>
                        </a:lnTo>
                        <a:lnTo>
                          <a:pt x="789" y="372"/>
                        </a:lnTo>
                        <a:lnTo>
                          <a:pt x="787" y="423"/>
                        </a:lnTo>
                        <a:lnTo>
                          <a:pt x="778" y="473"/>
                        </a:lnTo>
                        <a:lnTo>
                          <a:pt x="767" y="522"/>
                        </a:lnTo>
                        <a:lnTo>
                          <a:pt x="749" y="567"/>
                        </a:lnTo>
                        <a:lnTo>
                          <a:pt x="728" y="609"/>
                        </a:lnTo>
                        <a:lnTo>
                          <a:pt x="702" y="652"/>
                        </a:lnTo>
                        <a:lnTo>
                          <a:pt x="672" y="690"/>
                        </a:lnTo>
                        <a:lnTo>
                          <a:pt x="641" y="726"/>
                        </a:lnTo>
                        <a:lnTo>
                          <a:pt x="605" y="759"/>
                        </a:lnTo>
                        <a:lnTo>
                          <a:pt x="567" y="789"/>
                        </a:lnTo>
                        <a:lnTo>
                          <a:pt x="524" y="813"/>
                        </a:lnTo>
                        <a:lnTo>
                          <a:pt x="482" y="833"/>
                        </a:lnTo>
                        <a:lnTo>
                          <a:pt x="437" y="851"/>
                        </a:lnTo>
                        <a:lnTo>
                          <a:pt x="388" y="865"/>
                        </a:lnTo>
                        <a:lnTo>
                          <a:pt x="338" y="871"/>
                        </a:lnTo>
                        <a:lnTo>
                          <a:pt x="287" y="874"/>
                        </a:lnTo>
                        <a:lnTo>
                          <a:pt x="235" y="871"/>
                        </a:lnTo>
                        <a:lnTo>
                          <a:pt x="186" y="865"/>
                        </a:lnTo>
                        <a:lnTo>
                          <a:pt x="137" y="851"/>
                        </a:lnTo>
                        <a:lnTo>
                          <a:pt x="90" y="833"/>
                        </a:lnTo>
                        <a:lnTo>
                          <a:pt x="47" y="813"/>
                        </a:lnTo>
                        <a:lnTo>
                          <a:pt x="4" y="789"/>
                        </a:lnTo>
                        <a:lnTo>
                          <a:pt x="0" y="784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23600" y="1546200"/>
                    <a:ext cx="1262160" cy="139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95" h="876">
                        <a:moveTo>
                          <a:pt x="0" y="775"/>
                        </a:moveTo>
                        <a:lnTo>
                          <a:pt x="2" y="780"/>
                        </a:lnTo>
                        <a:lnTo>
                          <a:pt x="2" y="782"/>
                        </a:lnTo>
                        <a:lnTo>
                          <a:pt x="4" y="784"/>
                        </a:lnTo>
                        <a:lnTo>
                          <a:pt x="6" y="789"/>
                        </a:lnTo>
                        <a:lnTo>
                          <a:pt x="8" y="789"/>
                        </a:lnTo>
                        <a:lnTo>
                          <a:pt x="49" y="815"/>
                        </a:lnTo>
                        <a:lnTo>
                          <a:pt x="94" y="836"/>
                        </a:lnTo>
                        <a:lnTo>
                          <a:pt x="141" y="854"/>
                        </a:lnTo>
                        <a:lnTo>
                          <a:pt x="188" y="865"/>
                        </a:lnTo>
                        <a:lnTo>
                          <a:pt x="239" y="874"/>
                        </a:lnTo>
                        <a:lnTo>
                          <a:pt x="291" y="876"/>
                        </a:lnTo>
                        <a:lnTo>
                          <a:pt x="342" y="874"/>
                        </a:lnTo>
                        <a:lnTo>
                          <a:pt x="392" y="865"/>
                        </a:lnTo>
                        <a:lnTo>
                          <a:pt x="441" y="854"/>
                        </a:lnTo>
                        <a:lnTo>
                          <a:pt x="488" y="836"/>
                        </a:lnTo>
                        <a:lnTo>
                          <a:pt x="531" y="815"/>
                        </a:lnTo>
                        <a:lnTo>
                          <a:pt x="571" y="789"/>
                        </a:lnTo>
                        <a:lnTo>
                          <a:pt x="611" y="759"/>
                        </a:lnTo>
                        <a:lnTo>
                          <a:pt x="647" y="728"/>
                        </a:lnTo>
                        <a:lnTo>
                          <a:pt x="679" y="692"/>
                        </a:lnTo>
                        <a:lnTo>
                          <a:pt x="708" y="652"/>
                        </a:lnTo>
                        <a:lnTo>
                          <a:pt x="732" y="612"/>
                        </a:lnTo>
                        <a:lnTo>
                          <a:pt x="755" y="567"/>
                        </a:lnTo>
                        <a:lnTo>
                          <a:pt x="773" y="522"/>
                        </a:lnTo>
                        <a:lnTo>
                          <a:pt x="784" y="475"/>
                        </a:lnTo>
                        <a:lnTo>
                          <a:pt x="793" y="423"/>
                        </a:lnTo>
                        <a:lnTo>
                          <a:pt x="795" y="372"/>
                        </a:lnTo>
                        <a:lnTo>
                          <a:pt x="788" y="372"/>
                        </a:lnTo>
                        <a:lnTo>
                          <a:pt x="786" y="320"/>
                        </a:lnTo>
                        <a:lnTo>
                          <a:pt x="777" y="271"/>
                        </a:lnTo>
                        <a:lnTo>
                          <a:pt x="766" y="224"/>
                        </a:lnTo>
                        <a:lnTo>
                          <a:pt x="748" y="177"/>
                        </a:lnTo>
                        <a:lnTo>
                          <a:pt x="728" y="134"/>
                        </a:lnTo>
                        <a:lnTo>
                          <a:pt x="703" y="92"/>
                        </a:lnTo>
                        <a:lnTo>
                          <a:pt x="674" y="53"/>
                        </a:lnTo>
                        <a:lnTo>
                          <a:pt x="643" y="18"/>
                        </a:lnTo>
                        <a:lnTo>
                          <a:pt x="620" y="0"/>
                        </a:lnTo>
                        <a:lnTo>
                          <a:pt x="623" y="0"/>
                        </a:lnTo>
                        <a:lnTo>
                          <a:pt x="625" y="0"/>
                        </a:lnTo>
                        <a:lnTo>
                          <a:pt x="629" y="0"/>
                        </a:lnTo>
                        <a:lnTo>
                          <a:pt x="632" y="2"/>
                        </a:lnTo>
                        <a:lnTo>
                          <a:pt x="647" y="13"/>
                        </a:lnTo>
                        <a:lnTo>
                          <a:pt x="679" y="49"/>
                        </a:lnTo>
                        <a:lnTo>
                          <a:pt x="708" y="89"/>
                        </a:lnTo>
                        <a:lnTo>
                          <a:pt x="732" y="130"/>
                        </a:lnTo>
                        <a:lnTo>
                          <a:pt x="755" y="174"/>
                        </a:lnTo>
                        <a:lnTo>
                          <a:pt x="773" y="222"/>
                        </a:lnTo>
                        <a:lnTo>
                          <a:pt x="784" y="271"/>
                        </a:lnTo>
                        <a:lnTo>
                          <a:pt x="793" y="320"/>
                        </a:lnTo>
                        <a:lnTo>
                          <a:pt x="795" y="372"/>
                        </a:lnTo>
                        <a:lnTo>
                          <a:pt x="788" y="372"/>
                        </a:lnTo>
                        <a:lnTo>
                          <a:pt x="786" y="423"/>
                        </a:lnTo>
                        <a:lnTo>
                          <a:pt x="777" y="473"/>
                        </a:lnTo>
                        <a:lnTo>
                          <a:pt x="766" y="520"/>
                        </a:lnTo>
                        <a:lnTo>
                          <a:pt x="748" y="564"/>
                        </a:lnTo>
                        <a:lnTo>
                          <a:pt x="728" y="607"/>
                        </a:lnTo>
                        <a:lnTo>
                          <a:pt x="703" y="650"/>
                        </a:lnTo>
                        <a:lnTo>
                          <a:pt x="674" y="688"/>
                        </a:lnTo>
                        <a:lnTo>
                          <a:pt x="643" y="724"/>
                        </a:lnTo>
                        <a:lnTo>
                          <a:pt x="607" y="755"/>
                        </a:lnTo>
                        <a:lnTo>
                          <a:pt x="569" y="784"/>
                        </a:lnTo>
                        <a:lnTo>
                          <a:pt x="526" y="809"/>
                        </a:lnTo>
                        <a:lnTo>
                          <a:pt x="486" y="831"/>
                        </a:lnTo>
                        <a:lnTo>
                          <a:pt x="439" y="847"/>
                        </a:lnTo>
                        <a:lnTo>
                          <a:pt x="392" y="860"/>
                        </a:lnTo>
                        <a:lnTo>
                          <a:pt x="342" y="867"/>
                        </a:lnTo>
                        <a:lnTo>
                          <a:pt x="291" y="869"/>
                        </a:lnTo>
                        <a:lnTo>
                          <a:pt x="239" y="867"/>
                        </a:lnTo>
                        <a:lnTo>
                          <a:pt x="190" y="860"/>
                        </a:lnTo>
                        <a:lnTo>
                          <a:pt x="143" y="847"/>
                        </a:lnTo>
                        <a:lnTo>
                          <a:pt x="96" y="831"/>
                        </a:lnTo>
                        <a:lnTo>
                          <a:pt x="53" y="809"/>
                        </a:lnTo>
                        <a:lnTo>
                          <a:pt x="11" y="784"/>
                        </a:lnTo>
                        <a:lnTo>
                          <a:pt x="0" y="775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18920" y="1541160"/>
                    <a:ext cx="1260360" cy="1387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4" h="874">
                        <a:moveTo>
                          <a:pt x="0" y="771"/>
                        </a:moveTo>
                        <a:lnTo>
                          <a:pt x="0" y="774"/>
                        </a:lnTo>
                        <a:lnTo>
                          <a:pt x="3" y="776"/>
                        </a:lnTo>
                        <a:lnTo>
                          <a:pt x="3" y="780"/>
                        </a:lnTo>
                        <a:lnTo>
                          <a:pt x="5" y="783"/>
                        </a:lnTo>
                        <a:lnTo>
                          <a:pt x="14" y="789"/>
                        </a:lnTo>
                        <a:lnTo>
                          <a:pt x="54" y="814"/>
                        </a:lnTo>
                        <a:lnTo>
                          <a:pt x="99" y="834"/>
                        </a:lnTo>
                        <a:lnTo>
                          <a:pt x="144" y="852"/>
                        </a:lnTo>
                        <a:lnTo>
                          <a:pt x="193" y="866"/>
                        </a:lnTo>
                        <a:lnTo>
                          <a:pt x="242" y="872"/>
                        </a:lnTo>
                        <a:lnTo>
                          <a:pt x="294" y="874"/>
                        </a:lnTo>
                        <a:lnTo>
                          <a:pt x="345" y="872"/>
                        </a:lnTo>
                        <a:lnTo>
                          <a:pt x="395" y="866"/>
                        </a:lnTo>
                        <a:lnTo>
                          <a:pt x="442" y="852"/>
                        </a:lnTo>
                        <a:lnTo>
                          <a:pt x="489" y="834"/>
                        </a:lnTo>
                        <a:lnTo>
                          <a:pt x="531" y="814"/>
                        </a:lnTo>
                        <a:lnTo>
                          <a:pt x="572" y="789"/>
                        </a:lnTo>
                        <a:lnTo>
                          <a:pt x="610" y="760"/>
                        </a:lnTo>
                        <a:lnTo>
                          <a:pt x="646" y="729"/>
                        </a:lnTo>
                        <a:lnTo>
                          <a:pt x="679" y="693"/>
                        </a:lnTo>
                        <a:lnTo>
                          <a:pt x="709" y="653"/>
                        </a:lnTo>
                        <a:lnTo>
                          <a:pt x="733" y="612"/>
                        </a:lnTo>
                        <a:lnTo>
                          <a:pt x="753" y="567"/>
                        </a:lnTo>
                        <a:lnTo>
                          <a:pt x="771" y="525"/>
                        </a:lnTo>
                        <a:lnTo>
                          <a:pt x="782" y="476"/>
                        </a:lnTo>
                        <a:lnTo>
                          <a:pt x="791" y="426"/>
                        </a:lnTo>
                        <a:lnTo>
                          <a:pt x="794" y="375"/>
                        </a:lnTo>
                        <a:lnTo>
                          <a:pt x="787" y="375"/>
                        </a:lnTo>
                        <a:lnTo>
                          <a:pt x="785" y="325"/>
                        </a:lnTo>
                        <a:lnTo>
                          <a:pt x="778" y="276"/>
                        </a:lnTo>
                        <a:lnTo>
                          <a:pt x="765" y="227"/>
                        </a:lnTo>
                        <a:lnTo>
                          <a:pt x="749" y="182"/>
                        </a:lnTo>
                        <a:lnTo>
                          <a:pt x="726" y="139"/>
                        </a:lnTo>
                        <a:lnTo>
                          <a:pt x="702" y="97"/>
                        </a:lnTo>
                        <a:lnTo>
                          <a:pt x="675" y="59"/>
                        </a:lnTo>
                        <a:lnTo>
                          <a:pt x="641" y="25"/>
                        </a:lnTo>
                        <a:lnTo>
                          <a:pt x="614" y="0"/>
                        </a:lnTo>
                        <a:lnTo>
                          <a:pt x="619" y="0"/>
                        </a:lnTo>
                        <a:lnTo>
                          <a:pt x="621" y="0"/>
                        </a:lnTo>
                        <a:lnTo>
                          <a:pt x="623" y="3"/>
                        </a:lnTo>
                        <a:lnTo>
                          <a:pt x="628" y="3"/>
                        </a:lnTo>
                        <a:lnTo>
                          <a:pt x="646" y="21"/>
                        </a:lnTo>
                        <a:lnTo>
                          <a:pt x="679" y="56"/>
                        </a:lnTo>
                        <a:lnTo>
                          <a:pt x="709" y="95"/>
                        </a:lnTo>
                        <a:lnTo>
                          <a:pt x="733" y="135"/>
                        </a:lnTo>
                        <a:lnTo>
                          <a:pt x="753" y="180"/>
                        </a:lnTo>
                        <a:lnTo>
                          <a:pt x="771" y="227"/>
                        </a:lnTo>
                        <a:lnTo>
                          <a:pt x="782" y="274"/>
                        </a:lnTo>
                        <a:lnTo>
                          <a:pt x="791" y="323"/>
                        </a:lnTo>
                        <a:lnTo>
                          <a:pt x="794" y="375"/>
                        </a:lnTo>
                        <a:lnTo>
                          <a:pt x="787" y="375"/>
                        </a:lnTo>
                        <a:lnTo>
                          <a:pt x="785" y="426"/>
                        </a:lnTo>
                        <a:lnTo>
                          <a:pt x="778" y="476"/>
                        </a:lnTo>
                        <a:lnTo>
                          <a:pt x="765" y="523"/>
                        </a:lnTo>
                        <a:lnTo>
                          <a:pt x="749" y="565"/>
                        </a:lnTo>
                        <a:lnTo>
                          <a:pt x="726" y="610"/>
                        </a:lnTo>
                        <a:lnTo>
                          <a:pt x="702" y="650"/>
                        </a:lnTo>
                        <a:lnTo>
                          <a:pt x="675" y="688"/>
                        </a:lnTo>
                        <a:lnTo>
                          <a:pt x="641" y="722"/>
                        </a:lnTo>
                        <a:lnTo>
                          <a:pt x="608" y="756"/>
                        </a:lnTo>
                        <a:lnTo>
                          <a:pt x="570" y="783"/>
                        </a:lnTo>
                        <a:lnTo>
                          <a:pt x="527" y="810"/>
                        </a:lnTo>
                        <a:lnTo>
                          <a:pt x="487" y="830"/>
                        </a:lnTo>
                        <a:lnTo>
                          <a:pt x="442" y="845"/>
                        </a:lnTo>
                        <a:lnTo>
                          <a:pt x="392" y="859"/>
                        </a:lnTo>
                        <a:lnTo>
                          <a:pt x="343" y="866"/>
                        </a:lnTo>
                        <a:lnTo>
                          <a:pt x="294" y="868"/>
                        </a:lnTo>
                        <a:lnTo>
                          <a:pt x="242" y="866"/>
                        </a:lnTo>
                        <a:lnTo>
                          <a:pt x="193" y="859"/>
                        </a:lnTo>
                        <a:lnTo>
                          <a:pt x="146" y="845"/>
                        </a:lnTo>
                        <a:lnTo>
                          <a:pt x="101" y="830"/>
                        </a:lnTo>
                        <a:lnTo>
                          <a:pt x="56" y="810"/>
                        </a:lnTo>
                        <a:lnTo>
                          <a:pt x="16" y="783"/>
                        </a:lnTo>
                        <a:lnTo>
                          <a:pt x="0" y="771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2440" y="1538280"/>
                    <a:ext cx="1258920" cy="13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872">
                        <a:moveTo>
                          <a:pt x="0" y="764"/>
                        </a:moveTo>
                        <a:lnTo>
                          <a:pt x="2" y="769"/>
                        </a:lnTo>
                        <a:lnTo>
                          <a:pt x="2" y="771"/>
                        </a:lnTo>
                        <a:lnTo>
                          <a:pt x="4" y="773"/>
                        </a:lnTo>
                        <a:lnTo>
                          <a:pt x="4" y="778"/>
                        </a:lnTo>
                        <a:lnTo>
                          <a:pt x="20" y="787"/>
                        </a:lnTo>
                        <a:lnTo>
                          <a:pt x="60" y="812"/>
                        </a:lnTo>
                        <a:lnTo>
                          <a:pt x="103" y="834"/>
                        </a:lnTo>
                        <a:lnTo>
                          <a:pt x="150" y="850"/>
                        </a:lnTo>
                        <a:lnTo>
                          <a:pt x="197" y="863"/>
                        </a:lnTo>
                        <a:lnTo>
                          <a:pt x="246" y="870"/>
                        </a:lnTo>
                        <a:lnTo>
                          <a:pt x="298" y="872"/>
                        </a:lnTo>
                        <a:lnTo>
                          <a:pt x="349" y="870"/>
                        </a:lnTo>
                        <a:lnTo>
                          <a:pt x="399" y="863"/>
                        </a:lnTo>
                        <a:lnTo>
                          <a:pt x="446" y="850"/>
                        </a:lnTo>
                        <a:lnTo>
                          <a:pt x="491" y="834"/>
                        </a:lnTo>
                        <a:lnTo>
                          <a:pt x="533" y="812"/>
                        </a:lnTo>
                        <a:lnTo>
                          <a:pt x="574" y="787"/>
                        </a:lnTo>
                        <a:lnTo>
                          <a:pt x="612" y="758"/>
                        </a:lnTo>
                        <a:lnTo>
                          <a:pt x="648" y="726"/>
                        </a:lnTo>
                        <a:lnTo>
                          <a:pt x="679" y="690"/>
                        </a:lnTo>
                        <a:lnTo>
                          <a:pt x="708" y="652"/>
                        </a:lnTo>
                        <a:lnTo>
                          <a:pt x="733" y="612"/>
                        </a:lnTo>
                        <a:lnTo>
                          <a:pt x="755" y="569"/>
                        </a:lnTo>
                        <a:lnTo>
                          <a:pt x="771" y="525"/>
                        </a:lnTo>
                        <a:lnTo>
                          <a:pt x="782" y="478"/>
                        </a:lnTo>
                        <a:lnTo>
                          <a:pt x="791" y="428"/>
                        </a:lnTo>
                        <a:lnTo>
                          <a:pt x="793" y="377"/>
                        </a:lnTo>
                        <a:lnTo>
                          <a:pt x="786" y="377"/>
                        </a:lnTo>
                        <a:lnTo>
                          <a:pt x="784" y="327"/>
                        </a:lnTo>
                        <a:lnTo>
                          <a:pt x="778" y="278"/>
                        </a:lnTo>
                        <a:lnTo>
                          <a:pt x="764" y="231"/>
                        </a:lnTo>
                        <a:lnTo>
                          <a:pt x="748" y="186"/>
                        </a:lnTo>
                        <a:lnTo>
                          <a:pt x="728" y="144"/>
                        </a:lnTo>
                        <a:lnTo>
                          <a:pt x="704" y="103"/>
                        </a:lnTo>
                        <a:lnTo>
                          <a:pt x="674" y="65"/>
                        </a:lnTo>
                        <a:lnTo>
                          <a:pt x="643" y="29"/>
                        </a:lnTo>
                        <a:lnTo>
                          <a:pt x="612" y="0"/>
                        </a:lnTo>
                        <a:lnTo>
                          <a:pt x="614" y="2"/>
                        </a:lnTo>
                        <a:lnTo>
                          <a:pt x="616" y="2"/>
                        </a:lnTo>
                        <a:lnTo>
                          <a:pt x="621" y="2"/>
                        </a:lnTo>
                        <a:lnTo>
                          <a:pt x="623" y="2"/>
                        </a:lnTo>
                        <a:lnTo>
                          <a:pt x="648" y="25"/>
                        </a:lnTo>
                        <a:lnTo>
                          <a:pt x="679" y="61"/>
                        </a:lnTo>
                        <a:lnTo>
                          <a:pt x="708" y="99"/>
                        </a:lnTo>
                        <a:lnTo>
                          <a:pt x="733" y="139"/>
                        </a:lnTo>
                        <a:lnTo>
                          <a:pt x="755" y="184"/>
                        </a:lnTo>
                        <a:lnTo>
                          <a:pt x="771" y="229"/>
                        </a:lnTo>
                        <a:lnTo>
                          <a:pt x="782" y="276"/>
                        </a:lnTo>
                        <a:lnTo>
                          <a:pt x="791" y="325"/>
                        </a:lnTo>
                        <a:lnTo>
                          <a:pt x="793" y="377"/>
                        </a:lnTo>
                        <a:lnTo>
                          <a:pt x="786" y="377"/>
                        </a:lnTo>
                        <a:lnTo>
                          <a:pt x="784" y="428"/>
                        </a:lnTo>
                        <a:lnTo>
                          <a:pt x="778" y="475"/>
                        </a:lnTo>
                        <a:lnTo>
                          <a:pt x="764" y="522"/>
                        </a:lnTo>
                        <a:lnTo>
                          <a:pt x="748" y="565"/>
                        </a:lnTo>
                        <a:lnTo>
                          <a:pt x="728" y="610"/>
                        </a:lnTo>
                        <a:lnTo>
                          <a:pt x="704" y="650"/>
                        </a:lnTo>
                        <a:lnTo>
                          <a:pt x="674" y="688"/>
                        </a:lnTo>
                        <a:lnTo>
                          <a:pt x="643" y="722"/>
                        </a:lnTo>
                        <a:lnTo>
                          <a:pt x="607" y="753"/>
                        </a:lnTo>
                        <a:lnTo>
                          <a:pt x="569" y="782"/>
                        </a:lnTo>
                        <a:lnTo>
                          <a:pt x="529" y="807"/>
                        </a:lnTo>
                        <a:lnTo>
                          <a:pt x="488" y="827"/>
                        </a:lnTo>
                        <a:lnTo>
                          <a:pt x="444" y="843"/>
                        </a:lnTo>
                        <a:lnTo>
                          <a:pt x="396" y="856"/>
                        </a:lnTo>
                        <a:lnTo>
                          <a:pt x="347" y="863"/>
                        </a:lnTo>
                        <a:lnTo>
                          <a:pt x="298" y="865"/>
                        </a:lnTo>
                        <a:lnTo>
                          <a:pt x="246" y="863"/>
                        </a:lnTo>
                        <a:lnTo>
                          <a:pt x="199" y="856"/>
                        </a:lnTo>
                        <a:lnTo>
                          <a:pt x="152" y="843"/>
                        </a:lnTo>
                        <a:lnTo>
                          <a:pt x="107" y="827"/>
                        </a:lnTo>
                        <a:lnTo>
                          <a:pt x="63" y="807"/>
                        </a:lnTo>
                        <a:lnTo>
                          <a:pt x="22" y="782"/>
                        </a:lnTo>
                        <a:lnTo>
                          <a:pt x="0" y="764"/>
                        </a:lnTo>
                        <a:close/>
                      </a:path>
                    </a:pathLst>
                  </a:custGeom>
                  <a:solidFill>
                    <a:srgbClr val="ebd7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09560" y="1538280"/>
                    <a:ext cx="1255680" cy="1377720"/>
                  </a:xfrm>
                  <a:custGeom>
                    <a:avLst/>
                    <a:gdLst/>
                    <a:ahLst/>
                    <a:rect l="l" t="t" r="r" b="b"/>
                    <a:pathLst>
                      <a:path w="791" h="868">
                        <a:moveTo>
                          <a:pt x="0" y="758"/>
                        </a:moveTo>
                        <a:lnTo>
                          <a:pt x="0" y="760"/>
                        </a:lnTo>
                        <a:lnTo>
                          <a:pt x="2" y="762"/>
                        </a:lnTo>
                        <a:lnTo>
                          <a:pt x="2" y="767"/>
                        </a:lnTo>
                        <a:lnTo>
                          <a:pt x="4" y="769"/>
                        </a:lnTo>
                        <a:lnTo>
                          <a:pt x="24" y="785"/>
                        </a:lnTo>
                        <a:lnTo>
                          <a:pt x="65" y="809"/>
                        </a:lnTo>
                        <a:lnTo>
                          <a:pt x="107" y="829"/>
                        </a:lnTo>
                        <a:lnTo>
                          <a:pt x="152" y="845"/>
                        </a:lnTo>
                        <a:lnTo>
                          <a:pt x="201" y="859"/>
                        </a:lnTo>
                        <a:lnTo>
                          <a:pt x="248" y="865"/>
                        </a:lnTo>
                        <a:lnTo>
                          <a:pt x="300" y="868"/>
                        </a:lnTo>
                        <a:lnTo>
                          <a:pt x="349" y="865"/>
                        </a:lnTo>
                        <a:lnTo>
                          <a:pt x="398" y="859"/>
                        </a:lnTo>
                        <a:lnTo>
                          <a:pt x="446" y="845"/>
                        </a:lnTo>
                        <a:lnTo>
                          <a:pt x="493" y="829"/>
                        </a:lnTo>
                        <a:lnTo>
                          <a:pt x="533" y="809"/>
                        </a:lnTo>
                        <a:lnTo>
                          <a:pt x="573" y="785"/>
                        </a:lnTo>
                        <a:lnTo>
                          <a:pt x="611" y="755"/>
                        </a:lnTo>
                        <a:lnTo>
                          <a:pt x="647" y="724"/>
                        </a:lnTo>
                        <a:lnTo>
                          <a:pt x="679" y="688"/>
                        </a:lnTo>
                        <a:lnTo>
                          <a:pt x="706" y="650"/>
                        </a:lnTo>
                        <a:lnTo>
                          <a:pt x="730" y="610"/>
                        </a:lnTo>
                        <a:lnTo>
                          <a:pt x="753" y="567"/>
                        </a:lnTo>
                        <a:lnTo>
                          <a:pt x="768" y="525"/>
                        </a:lnTo>
                        <a:lnTo>
                          <a:pt x="782" y="475"/>
                        </a:lnTo>
                        <a:lnTo>
                          <a:pt x="788" y="428"/>
                        </a:lnTo>
                        <a:lnTo>
                          <a:pt x="791" y="377"/>
                        </a:lnTo>
                        <a:lnTo>
                          <a:pt x="784" y="377"/>
                        </a:lnTo>
                        <a:lnTo>
                          <a:pt x="782" y="327"/>
                        </a:lnTo>
                        <a:lnTo>
                          <a:pt x="775" y="278"/>
                        </a:lnTo>
                        <a:lnTo>
                          <a:pt x="762" y="231"/>
                        </a:lnTo>
                        <a:lnTo>
                          <a:pt x="746" y="188"/>
                        </a:lnTo>
                        <a:lnTo>
                          <a:pt x="726" y="146"/>
                        </a:lnTo>
                        <a:lnTo>
                          <a:pt x="701" y="106"/>
                        </a:lnTo>
                        <a:lnTo>
                          <a:pt x="674" y="67"/>
                        </a:lnTo>
                        <a:lnTo>
                          <a:pt x="643" y="32"/>
                        </a:lnTo>
                        <a:lnTo>
                          <a:pt x="607" y="0"/>
                        </a:lnTo>
                        <a:lnTo>
                          <a:pt x="605" y="0"/>
                        </a:lnTo>
                        <a:lnTo>
                          <a:pt x="607" y="0"/>
                        </a:lnTo>
                        <a:lnTo>
                          <a:pt x="611" y="0"/>
                        </a:lnTo>
                        <a:lnTo>
                          <a:pt x="614" y="0"/>
                        </a:lnTo>
                        <a:lnTo>
                          <a:pt x="616" y="2"/>
                        </a:lnTo>
                        <a:lnTo>
                          <a:pt x="647" y="27"/>
                        </a:lnTo>
                        <a:lnTo>
                          <a:pt x="679" y="63"/>
                        </a:lnTo>
                        <a:lnTo>
                          <a:pt x="706" y="101"/>
                        </a:lnTo>
                        <a:lnTo>
                          <a:pt x="730" y="141"/>
                        </a:lnTo>
                        <a:lnTo>
                          <a:pt x="753" y="184"/>
                        </a:lnTo>
                        <a:lnTo>
                          <a:pt x="768" y="231"/>
                        </a:lnTo>
                        <a:lnTo>
                          <a:pt x="782" y="278"/>
                        </a:lnTo>
                        <a:lnTo>
                          <a:pt x="788" y="327"/>
                        </a:lnTo>
                        <a:lnTo>
                          <a:pt x="791" y="377"/>
                        </a:lnTo>
                        <a:lnTo>
                          <a:pt x="784" y="377"/>
                        </a:lnTo>
                        <a:lnTo>
                          <a:pt x="782" y="426"/>
                        </a:lnTo>
                        <a:lnTo>
                          <a:pt x="775" y="475"/>
                        </a:lnTo>
                        <a:lnTo>
                          <a:pt x="762" y="522"/>
                        </a:lnTo>
                        <a:lnTo>
                          <a:pt x="746" y="565"/>
                        </a:lnTo>
                        <a:lnTo>
                          <a:pt x="726" y="608"/>
                        </a:lnTo>
                        <a:lnTo>
                          <a:pt x="701" y="648"/>
                        </a:lnTo>
                        <a:lnTo>
                          <a:pt x="674" y="684"/>
                        </a:lnTo>
                        <a:lnTo>
                          <a:pt x="643" y="720"/>
                        </a:lnTo>
                        <a:lnTo>
                          <a:pt x="607" y="751"/>
                        </a:lnTo>
                        <a:lnTo>
                          <a:pt x="569" y="778"/>
                        </a:lnTo>
                        <a:lnTo>
                          <a:pt x="528" y="803"/>
                        </a:lnTo>
                        <a:lnTo>
                          <a:pt x="488" y="823"/>
                        </a:lnTo>
                        <a:lnTo>
                          <a:pt x="446" y="841"/>
                        </a:lnTo>
                        <a:lnTo>
                          <a:pt x="398" y="852"/>
                        </a:lnTo>
                        <a:lnTo>
                          <a:pt x="349" y="859"/>
                        </a:lnTo>
                        <a:lnTo>
                          <a:pt x="300" y="861"/>
                        </a:lnTo>
                        <a:lnTo>
                          <a:pt x="251" y="859"/>
                        </a:lnTo>
                        <a:lnTo>
                          <a:pt x="201" y="852"/>
                        </a:lnTo>
                        <a:lnTo>
                          <a:pt x="154" y="841"/>
                        </a:lnTo>
                        <a:lnTo>
                          <a:pt x="109" y="823"/>
                        </a:lnTo>
                        <a:lnTo>
                          <a:pt x="67" y="803"/>
                        </a:lnTo>
                        <a:lnTo>
                          <a:pt x="26" y="778"/>
                        </a:lnTo>
                        <a:lnTo>
                          <a:pt x="0" y="758"/>
                        </a:lnTo>
                        <a:close/>
                      </a:path>
                    </a:pathLst>
                  </a:custGeom>
                  <a:solidFill>
                    <a:srgbClr val="ebd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04520" y="1535040"/>
                    <a:ext cx="1252800" cy="13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865">
                        <a:moveTo>
                          <a:pt x="0" y="753"/>
                        </a:moveTo>
                        <a:lnTo>
                          <a:pt x="0" y="755"/>
                        </a:lnTo>
                        <a:lnTo>
                          <a:pt x="3" y="757"/>
                        </a:lnTo>
                        <a:lnTo>
                          <a:pt x="3" y="760"/>
                        </a:lnTo>
                        <a:lnTo>
                          <a:pt x="3" y="764"/>
                        </a:lnTo>
                        <a:lnTo>
                          <a:pt x="29" y="782"/>
                        </a:lnTo>
                        <a:lnTo>
                          <a:pt x="70" y="807"/>
                        </a:lnTo>
                        <a:lnTo>
                          <a:pt x="112" y="827"/>
                        </a:lnTo>
                        <a:lnTo>
                          <a:pt x="157" y="845"/>
                        </a:lnTo>
                        <a:lnTo>
                          <a:pt x="204" y="856"/>
                        </a:lnTo>
                        <a:lnTo>
                          <a:pt x="254" y="863"/>
                        </a:lnTo>
                        <a:lnTo>
                          <a:pt x="303" y="865"/>
                        </a:lnTo>
                        <a:lnTo>
                          <a:pt x="352" y="863"/>
                        </a:lnTo>
                        <a:lnTo>
                          <a:pt x="401" y="856"/>
                        </a:lnTo>
                        <a:lnTo>
                          <a:pt x="449" y="845"/>
                        </a:lnTo>
                        <a:lnTo>
                          <a:pt x="493" y="827"/>
                        </a:lnTo>
                        <a:lnTo>
                          <a:pt x="534" y="807"/>
                        </a:lnTo>
                        <a:lnTo>
                          <a:pt x="574" y="782"/>
                        </a:lnTo>
                        <a:lnTo>
                          <a:pt x="612" y="755"/>
                        </a:lnTo>
                        <a:lnTo>
                          <a:pt x="646" y="722"/>
                        </a:lnTo>
                        <a:lnTo>
                          <a:pt x="677" y="688"/>
                        </a:lnTo>
                        <a:lnTo>
                          <a:pt x="706" y="650"/>
                        </a:lnTo>
                        <a:lnTo>
                          <a:pt x="731" y="610"/>
                        </a:lnTo>
                        <a:lnTo>
                          <a:pt x="751" y="567"/>
                        </a:lnTo>
                        <a:lnTo>
                          <a:pt x="767" y="524"/>
                        </a:lnTo>
                        <a:lnTo>
                          <a:pt x="780" y="477"/>
                        </a:lnTo>
                        <a:lnTo>
                          <a:pt x="787" y="428"/>
                        </a:lnTo>
                        <a:lnTo>
                          <a:pt x="789" y="379"/>
                        </a:lnTo>
                        <a:lnTo>
                          <a:pt x="783" y="379"/>
                        </a:lnTo>
                        <a:lnTo>
                          <a:pt x="780" y="329"/>
                        </a:lnTo>
                        <a:lnTo>
                          <a:pt x="774" y="282"/>
                        </a:lnTo>
                        <a:lnTo>
                          <a:pt x="762" y="235"/>
                        </a:lnTo>
                        <a:lnTo>
                          <a:pt x="744" y="190"/>
                        </a:lnTo>
                        <a:lnTo>
                          <a:pt x="724" y="148"/>
                        </a:lnTo>
                        <a:lnTo>
                          <a:pt x="702" y="110"/>
                        </a:lnTo>
                        <a:lnTo>
                          <a:pt x="673" y="72"/>
                        </a:lnTo>
                        <a:lnTo>
                          <a:pt x="641" y="38"/>
                        </a:lnTo>
                        <a:lnTo>
                          <a:pt x="608" y="7"/>
                        </a:lnTo>
                        <a:lnTo>
                          <a:pt x="599" y="0"/>
                        </a:lnTo>
                        <a:lnTo>
                          <a:pt x="603" y="0"/>
                        </a:lnTo>
                        <a:lnTo>
                          <a:pt x="605" y="2"/>
                        </a:lnTo>
                        <a:lnTo>
                          <a:pt x="610" y="2"/>
                        </a:lnTo>
                        <a:lnTo>
                          <a:pt x="612" y="2"/>
                        </a:lnTo>
                        <a:lnTo>
                          <a:pt x="646" y="34"/>
                        </a:lnTo>
                        <a:lnTo>
                          <a:pt x="677" y="67"/>
                        </a:lnTo>
                        <a:lnTo>
                          <a:pt x="706" y="105"/>
                        </a:lnTo>
                        <a:lnTo>
                          <a:pt x="731" y="146"/>
                        </a:lnTo>
                        <a:lnTo>
                          <a:pt x="751" y="188"/>
                        </a:lnTo>
                        <a:lnTo>
                          <a:pt x="767" y="233"/>
                        </a:lnTo>
                        <a:lnTo>
                          <a:pt x="780" y="280"/>
                        </a:lnTo>
                        <a:lnTo>
                          <a:pt x="787" y="329"/>
                        </a:lnTo>
                        <a:lnTo>
                          <a:pt x="789" y="379"/>
                        </a:lnTo>
                        <a:lnTo>
                          <a:pt x="783" y="379"/>
                        </a:lnTo>
                        <a:lnTo>
                          <a:pt x="780" y="428"/>
                        </a:lnTo>
                        <a:lnTo>
                          <a:pt x="774" y="477"/>
                        </a:lnTo>
                        <a:lnTo>
                          <a:pt x="762" y="522"/>
                        </a:lnTo>
                        <a:lnTo>
                          <a:pt x="744" y="565"/>
                        </a:lnTo>
                        <a:lnTo>
                          <a:pt x="724" y="607"/>
                        </a:lnTo>
                        <a:lnTo>
                          <a:pt x="702" y="648"/>
                        </a:lnTo>
                        <a:lnTo>
                          <a:pt x="673" y="684"/>
                        </a:lnTo>
                        <a:lnTo>
                          <a:pt x="641" y="717"/>
                        </a:lnTo>
                        <a:lnTo>
                          <a:pt x="608" y="749"/>
                        </a:lnTo>
                        <a:lnTo>
                          <a:pt x="570" y="778"/>
                        </a:lnTo>
                        <a:lnTo>
                          <a:pt x="531" y="802"/>
                        </a:lnTo>
                        <a:lnTo>
                          <a:pt x="491" y="822"/>
                        </a:lnTo>
                        <a:lnTo>
                          <a:pt x="446" y="838"/>
                        </a:lnTo>
                        <a:lnTo>
                          <a:pt x="399" y="849"/>
                        </a:lnTo>
                        <a:lnTo>
                          <a:pt x="352" y="858"/>
                        </a:lnTo>
                        <a:lnTo>
                          <a:pt x="303" y="861"/>
                        </a:lnTo>
                        <a:lnTo>
                          <a:pt x="254" y="858"/>
                        </a:lnTo>
                        <a:lnTo>
                          <a:pt x="204" y="849"/>
                        </a:lnTo>
                        <a:lnTo>
                          <a:pt x="159" y="838"/>
                        </a:lnTo>
                        <a:lnTo>
                          <a:pt x="115" y="822"/>
                        </a:lnTo>
                        <a:lnTo>
                          <a:pt x="72" y="802"/>
                        </a:lnTo>
                        <a:lnTo>
                          <a:pt x="32" y="778"/>
                        </a:lnTo>
                        <a:lnTo>
                          <a:pt x="0" y="753"/>
                        </a:lnTo>
                        <a:close/>
                      </a:path>
                    </a:pathLst>
                  </a:custGeom>
                  <a:solidFill>
                    <a:srgbClr val="ebd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98400" y="1535040"/>
                    <a:ext cx="1252440" cy="13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863">
                        <a:moveTo>
                          <a:pt x="0" y="744"/>
                        </a:moveTo>
                        <a:lnTo>
                          <a:pt x="2" y="749"/>
                        </a:lnTo>
                        <a:lnTo>
                          <a:pt x="2" y="751"/>
                        </a:lnTo>
                        <a:lnTo>
                          <a:pt x="4" y="753"/>
                        </a:lnTo>
                        <a:lnTo>
                          <a:pt x="4" y="755"/>
                        </a:lnTo>
                        <a:lnTo>
                          <a:pt x="36" y="780"/>
                        </a:lnTo>
                        <a:lnTo>
                          <a:pt x="76" y="802"/>
                        </a:lnTo>
                        <a:lnTo>
                          <a:pt x="119" y="825"/>
                        </a:lnTo>
                        <a:lnTo>
                          <a:pt x="163" y="840"/>
                        </a:lnTo>
                        <a:lnTo>
                          <a:pt x="208" y="852"/>
                        </a:lnTo>
                        <a:lnTo>
                          <a:pt x="258" y="858"/>
                        </a:lnTo>
                        <a:lnTo>
                          <a:pt x="307" y="863"/>
                        </a:lnTo>
                        <a:lnTo>
                          <a:pt x="356" y="858"/>
                        </a:lnTo>
                        <a:lnTo>
                          <a:pt x="405" y="852"/>
                        </a:lnTo>
                        <a:lnTo>
                          <a:pt x="450" y="840"/>
                        </a:lnTo>
                        <a:lnTo>
                          <a:pt x="495" y="825"/>
                        </a:lnTo>
                        <a:lnTo>
                          <a:pt x="535" y="802"/>
                        </a:lnTo>
                        <a:lnTo>
                          <a:pt x="576" y="780"/>
                        </a:lnTo>
                        <a:lnTo>
                          <a:pt x="614" y="751"/>
                        </a:lnTo>
                        <a:lnTo>
                          <a:pt x="648" y="719"/>
                        </a:lnTo>
                        <a:lnTo>
                          <a:pt x="679" y="686"/>
                        </a:lnTo>
                        <a:lnTo>
                          <a:pt x="706" y="648"/>
                        </a:lnTo>
                        <a:lnTo>
                          <a:pt x="730" y="607"/>
                        </a:lnTo>
                        <a:lnTo>
                          <a:pt x="751" y="565"/>
                        </a:lnTo>
                        <a:lnTo>
                          <a:pt x="769" y="522"/>
                        </a:lnTo>
                        <a:lnTo>
                          <a:pt x="780" y="477"/>
                        </a:lnTo>
                        <a:lnTo>
                          <a:pt x="787" y="428"/>
                        </a:lnTo>
                        <a:lnTo>
                          <a:pt x="789" y="379"/>
                        </a:lnTo>
                        <a:lnTo>
                          <a:pt x="784" y="379"/>
                        </a:lnTo>
                        <a:lnTo>
                          <a:pt x="780" y="329"/>
                        </a:lnTo>
                        <a:lnTo>
                          <a:pt x="773" y="282"/>
                        </a:lnTo>
                        <a:lnTo>
                          <a:pt x="762" y="238"/>
                        </a:lnTo>
                        <a:lnTo>
                          <a:pt x="746" y="193"/>
                        </a:lnTo>
                        <a:lnTo>
                          <a:pt x="726" y="150"/>
                        </a:lnTo>
                        <a:lnTo>
                          <a:pt x="701" y="112"/>
                        </a:lnTo>
                        <a:lnTo>
                          <a:pt x="674" y="74"/>
                        </a:lnTo>
                        <a:lnTo>
                          <a:pt x="643" y="40"/>
                        </a:lnTo>
                        <a:lnTo>
                          <a:pt x="609" y="9"/>
                        </a:lnTo>
                        <a:lnTo>
                          <a:pt x="596" y="0"/>
                        </a:lnTo>
                        <a:lnTo>
                          <a:pt x="598" y="0"/>
                        </a:lnTo>
                        <a:lnTo>
                          <a:pt x="603" y="0"/>
                        </a:lnTo>
                        <a:lnTo>
                          <a:pt x="605" y="0"/>
                        </a:lnTo>
                        <a:lnTo>
                          <a:pt x="607" y="0"/>
                        </a:lnTo>
                        <a:lnTo>
                          <a:pt x="614" y="4"/>
                        </a:lnTo>
                        <a:lnTo>
                          <a:pt x="648" y="36"/>
                        </a:lnTo>
                        <a:lnTo>
                          <a:pt x="679" y="69"/>
                        </a:lnTo>
                        <a:lnTo>
                          <a:pt x="706" y="108"/>
                        </a:lnTo>
                        <a:lnTo>
                          <a:pt x="730" y="148"/>
                        </a:lnTo>
                        <a:lnTo>
                          <a:pt x="751" y="190"/>
                        </a:lnTo>
                        <a:lnTo>
                          <a:pt x="769" y="235"/>
                        </a:lnTo>
                        <a:lnTo>
                          <a:pt x="780" y="280"/>
                        </a:lnTo>
                        <a:lnTo>
                          <a:pt x="787" y="329"/>
                        </a:lnTo>
                        <a:lnTo>
                          <a:pt x="789" y="379"/>
                        </a:lnTo>
                        <a:lnTo>
                          <a:pt x="784" y="379"/>
                        </a:lnTo>
                        <a:lnTo>
                          <a:pt x="780" y="428"/>
                        </a:lnTo>
                        <a:lnTo>
                          <a:pt x="773" y="475"/>
                        </a:lnTo>
                        <a:lnTo>
                          <a:pt x="762" y="522"/>
                        </a:lnTo>
                        <a:lnTo>
                          <a:pt x="746" y="562"/>
                        </a:lnTo>
                        <a:lnTo>
                          <a:pt x="726" y="605"/>
                        </a:lnTo>
                        <a:lnTo>
                          <a:pt x="701" y="645"/>
                        </a:lnTo>
                        <a:lnTo>
                          <a:pt x="674" y="681"/>
                        </a:lnTo>
                        <a:lnTo>
                          <a:pt x="643" y="715"/>
                        </a:lnTo>
                        <a:lnTo>
                          <a:pt x="609" y="746"/>
                        </a:lnTo>
                        <a:lnTo>
                          <a:pt x="571" y="773"/>
                        </a:lnTo>
                        <a:lnTo>
                          <a:pt x="533" y="798"/>
                        </a:lnTo>
                        <a:lnTo>
                          <a:pt x="493" y="818"/>
                        </a:lnTo>
                        <a:lnTo>
                          <a:pt x="448" y="834"/>
                        </a:lnTo>
                        <a:lnTo>
                          <a:pt x="403" y="845"/>
                        </a:lnTo>
                        <a:lnTo>
                          <a:pt x="356" y="854"/>
                        </a:lnTo>
                        <a:lnTo>
                          <a:pt x="307" y="856"/>
                        </a:lnTo>
                        <a:lnTo>
                          <a:pt x="258" y="854"/>
                        </a:lnTo>
                        <a:lnTo>
                          <a:pt x="211" y="845"/>
                        </a:lnTo>
                        <a:lnTo>
                          <a:pt x="163" y="834"/>
                        </a:lnTo>
                        <a:lnTo>
                          <a:pt x="121" y="818"/>
                        </a:lnTo>
                        <a:lnTo>
                          <a:pt x="78" y="798"/>
                        </a:lnTo>
                        <a:lnTo>
                          <a:pt x="38" y="773"/>
                        </a:lnTo>
                        <a:lnTo>
                          <a:pt x="2" y="746"/>
                        </a:lnTo>
                        <a:lnTo>
                          <a:pt x="0" y="744"/>
                        </a:lnTo>
                        <a:close/>
                      </a:path>
                    </a:pathLst>
                  </a:custGeom>
                  <a:solidFill>
                    <a:srgbClr val="eed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95160" y="1531800"/>
                    <a:ext cx="1247760" cy="13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860">
                        <a:moveTo>
                          <a:pt x="0" y="739"/>
                        </a:moveTo>
                        <a:lnTo>
                          <a:pt x="2" y="742"/>
                        </a:lnTo>
                        <a:lnTo>
                          <a:pt x="2" y="744"/>
                        </a:lnTo>
                        <a:lnTo>
                          <a:pt x="2" y="748"/>
                        </a:lnTo>
                        <a:lnTo>
                          <a:pt x="4" y="751"/>
                        </a:lnTo>
                        <a:lnTo>
                          <a:pt x="40" y="777"/>
                        </a:lnTo>
                        <a:lnTo>
                          <a:pt x="80" y="802"/>
                        </a:lnTo>
                        <a:lnTo>
                          <a:pt x="121" y="822"/>
                        </a:lnTo>
                        <a:lnTo>
                          <a:pt x="165" y="838"/>
                        </a:lnTo>
                        <a:lnTo>
                          <a:pt x="213" y="849"/>
                        </a:lnTo>
                        <a:lnTo>
                          <a:pt x="260" y="858"/>
                        </a:lnTo>
                        <a:lnTo>
                          <a:pt x="309" y="860"/>
                        </a:lnTo>
                        <a:lnTo>
                          <a:pt x="358" y="858"/>
                        </a:lnTo>
                        <a:lnTo>
                          <a:pt x="405" y="849"/>
                        </a:lnTo>
                        <a:lnTo>
                          <a:pt x="452" y="838"/>
                        </a:lnTo>
                        <a:lnTo>
                          <a:pt x="495" y="822"/>
                        </a:lnTo>
                        <a:lnTo>
                          <a:pt x="535" y="802"/>
                        </a:lnTo>
                        <a:lnTo>
                          <a:pt x="576" y="777"/>
                        </a:lnTo>
                        <a:lnTo>
                          <a:pt x="611" y="751"/>
                        </a:lnTo>
                        <a:lnTo>
                          <a:pt x="647" y="719"/>
                        </a:lnTo>
                        <a:lnTo>
                          <a:pt x="676" y="686"/>
                        </a:lnTo>
                        <a:lnTo>
                          <a:pt x="706" y="647"/>
                        </a:lnTo>
                        <a:lnTo>
                          <a:pt x="730" y="607"/>
                        </a:lnTo>
                        <a:lnTo>
                          <a:pt x="750" y="567"/>
                        </a:lnTo>
                        <a:lnTo>
                          <a:pt x="766" y="524"/>
                        </a:lnTo>
                        <a:lnTo>
                          <a:pt x="777" y="477"/>
                        </a:lnTo>
                        <a:lnTo>
                          <a:pt x="784" y="430"/>
                        </a:lnTo>
                        <a:lnTo>
                          <a:pt x="786" y="381"/>
                        </a:lnTo>
                        <a:lnTo>
                          <a:pt x="782" y="381"/>
                        </a:lnTo>
                        <a:lnTo>
                          <a:pt x="777" y="334"/>
                        </a:lnTo>
                        <a:lnTo>
                          <a:pt x="771" y="284"/>
                        </a:lnTo>
                        <a:lnTo>
                          <a:pt x="759" y="240"/>
                        </a:lnTo>
                        <a:lnTo>
                          <a:pt x="744" y="197"/>
                        </a:lnTo>
                        <a:lnTo>
                          <a:pt x="724" y="154"/>
                        </a:lnTo>
                        <a:lnTo>
                          <a:pt x="699" y="116"/>
                        </a:lnTo>
                        <a:lnTo>
                          <a:pt x="672" y="78"/>
                        </a:lnTo>
                        <a:lnTo>
                          <a:pt x="643" y="45"/>
                        </a:lnTo>
                        <a:lnTo>
                          <a:pt x="609" y="15"/>
                        </a:lnTo>
                        <a:lnTo>
                          <a:pt x="589" y="0"/>
                        </a:lnTo>
                        <a:lnTo>
                          <a:pt x="591" y="0"/>
                        </a:lnTo>
                        <a:lnTo>
                          <a:pt x="596" y="2"/>
                        </a:lnTo>
                        <a:lnTo>
                          <a:pt x="598" y="2"/>
                        </a:lnTo>
                        <a:lnTo>
                          <a:pt x="600" y="2"/>
                        </a:lnTo>
                        <a:lnTo>
                          <a:pt x="611" y="11"/>
                        </a:lnTo>
                        <a:lnTo>
                          <a:pt x="647" y="40"/>
                        </a:lnTo>
                        <a:lnTo>
                          <a:pt x="676" y="76"/>
                        </a:lnTo>
                        <a:lnTo>
                          <a:pt x="706" y="112"/>
                        </a:lnTo>
                        <a:lnTo>
                          <a:pt x="730" y="152"/>
                        </a:lnTo>
                        <a:lnTo>
                          <a:pt x="750" y="195"/>
                        </a:lnTo>
                        <a:lnTo>
                          <a:pt x="766" y="237"/>
                        </a:lnTo>
                        <a:lnTo>
                          <a:pt x="777" y="284"/>
                        </a:lnTo>
                        <a:lnTo>
                          <a:pt x="784" y="331"/>
                        </a:lnTo>
                        <a:lnTo>
                          <a:pt x="786" y="381"/>
                        </a:lnTo>
                        <a:lnTo>
                          <a:pt x="782" y="381"/>
                        </a:lnTo>
                        <a:lnTo>
                          <a:pt x="777" y="430"/>
                        </a:lnTo>
                        <a:lnTo>
                          <a:pt x="771" y="477"/>
                        </a:lnTo>
                        <a:lnTo>
                          <a:pt x="759" y="522"/>
                        </a:lnTo>
                        <a:lnTo>
                          <a:pt x="744" y="562"/>
                        </a:lnTo>
                        <a:lnTo>
                          <a:pt x="724" y="605"/>
                        </a:lnTo>
                        <a:lnTo>
                          <a:pt x="699" y="643"/>
                        </a:lnTo>
                        <a:lnTo>
                          <a:pt x="672" y="681"/>
                        </a:lnTo>
                        <a:lnTo>
                          <a:pt x="643" y="715"/>
                        </a:lnTo>
                        <a:lnTo>
                          <a:pt x="609" y="744"/>
                        </a:lnTo>
                        <a:lnTo>
                          <a:pt x="571" y="773"/>
                        </a:lnTo>
                        <a:lnTo>
                          <a:pt x="533" y="795"/>
                        </a:lnTo>
                        <a:lnTo>
                          <a:pt x="493" y="816"/>
                        </a:lnTo>
                        <a:lnTo>
                          <a:pt x="450" y="831"/>
                        </a:lnTo>
                        <a:lnTo>
                          <a:pt x="405" y="842"/>
                        </a:lnTo>
                        <a:lnTo>
                          <a:pt x="356" y="851"/>
                        </a:lnTo>
                        <a:lnTo>
                          <a:pt x="309" y="854"/>
                        </a:lnTo>
                        <a:lnTo>
                          <a:pt x="260" y="851"/>
                        </a:lnTo>
                        <a:lnTo>
                          <a:pt x="213" y="842"/>
                        </a:lnTo>
                        <a:lnTo>
                          <a:pt x="168" y="831"/>
                        </a:lnTo>
                        <a:lnTo>
                          <a:pt x="125" y="816"/>
                        </a:lnTo>
                        <a:lnTo>
                          <a:pt x="83" y="795"/>
                        </a:lnTo>
                        <a:lnTo>
                          <a:pt x="44" y="773"/>
                        </a:lnTo>
                        <a:lnTo>
                          <a:pt x="6" y="744"/>
                        </a:lnTo>
                        <a:lnTo>
                          <a:pt x="0" y="739"/>
                        </a:lnTo>
                        <a:close/>
                      </a:path>
                    </a:pathLst>
                  </a:custGeom>
                  <a:solidFill>
                    <a:srgbClr val="eed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90480" y="1531800"/>
                    <a:ext cx="1245960" cy="13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5" h="856">
                        <a:moveTo>
                          <a:pt x="0" y="730"/>
                        </a:moveTo>
                        <a:lnTo>
                          <a:pt x="0" y="733"/>
                        </a:lnTo>
                        <a:lnTo>
                          <a:pt x="3" y="737"/>
                        </a:lnTo>
                        <a:lnTo>
                          <a:pt x="3" y="739"/>
                        </a:lnTo>
                        <a:lnTo>
                          <a:pt x="5" y="742"/>
                        </a:lnTo>
                        <a:lnTo>
                          <a:pt x="9" y="746"/>
                        </a:lnTo>
                        <a:lnTo>
                          <a:pt x="45" y="773"/>
                        </a:lnTo>
                        <a:lnTo>
                          <a:pt x="86" y="798"/>
                        </a:lnTo>
                        <a:lnTo>
                          <a:pt x="126" y="818"/>
                        </a:lnTo>
                        <a:lnTo>
                          <a:pt x="171" y="833"/>
                        </a:lnTo>
                        <a:lnTo>
                          <a:pt x="216" y="845"/>
                        </a:lnTo>
                        <a:lnTo>
                          <a:pt x="263" y="854"/>
                        </a:lnTo>
                        <a:lnTo>
                          <a:pt x="312" y="856"/>
                        </a:lnTo>
                        <a:lnTo>
                          <a:pt x="361" y="854"/>
                        </a:lnTo>
                        <a:lnTo>
                          <a:pt x="408" y="845"/>
                        </a:lnTo>
                        <a:lnTo>
                          <a:pt x="453" y="833"/>
                        </a:lnTo>
                        <a:lnTo>
                          <a:pt x="498" y="818"/>
                        </a:lnTo>
                        <a:lnTo>
                          <a:pt x="536" y="798"/>
                        </a:lnTo>
                        <a:lnTo>
                          <a:pt x="576" y="773"/>
                        </a:lnTo>
                        <a:lnTo>
                          <a:pt x="612" y="746"/>
                        </a:lnTo>
                        <a:lnTo>
                          <a:pt x="646" y="715"/>
                        </a:lnTo>
                        <a:lnTo>
                          <a:pt x="677" y="681"/>
                        </a:lnTo>
                        <a:lnTo>
                          <a:pt x="704" y="645"/>
                        </a:lnTo>
                        <a:lnTo>
                          <a:pt x="729" y="605"/>
                        </a:lnTo>
                        <a:lnTo>
                          <a:pt x="749" y="564"/>
                        </a:lnTo>
                        <a:lnTo>
                          <a:pt x="765" y="522"/>
                        </a:lnTo>
                        <a:lnTo>
                          <a:pt x="776" y="477"/>
                        </a:lnTo>
                        <a:lnTo>
                          <a:pt x="783" y="430"/>
                        </a:lnTo>
                        <a:lnTo>
                          <a:pt x="785" y="381"/>
                        </a:lnTo>
                        <a:lnTo>
                          <a:pt x="780" y="381"/>
                        </a:lnTo>
                        <a:lnTo>
                          <a:pt x="778" y="334"/>
                        </a:lnTo>
                        <a:lnTo>
                          <a:pt x="769" y="287"/>
                        </a:lnTo>
                        <a:lnTo>
                          <a:pt x="758" y="242"/>
                        </a:lnTo>
                        <a:lnTo>
                          <a:pt x="742" y="197"/>
                        </a:lnTo>
                        <a:lnTo>
                          <a:pt x="722" y="157"/>
                        </a:lnTo>
                        <a:lnTo>
                          <a:pt x="700" y="118"/>
                        </a:lnTo>
                        <a:lnTo>
                          <a:pt x="673" y="83"/>
                        </a:lnTo>
                        <a:lnTo>
                          <a:pt x="641" y="49"/>
                        </a:lnTo>
                        <a:lnTo>
                          <a:pt x="608" y="18"/>
                        </a:lnTo>
                        <a:lnTo>
                          <a:pt x="583" y="0"/>
                        </a:lnTo>
                        <a:lnTo>
                          <a:pt x="588" y="0"/>
                        </a:lnTo>
                        <a:lnTo>
                          <a:pt x="590" y="0"/>
                        </a:lnTo>
                        <a:lnTo>
                          <a:pt x="592" y="0"/>
                        </a:lnTo>
                        <a:lnTo>
                          <a:pt x="597" y="2"/>
                        </a:lnTo>
                        <a:lnTo>
                          <a:pt x="612" y="13"/>
                        </a:lnTo>
                        <a:lnTo>
                          <a:pt x="646" y="45"/>
                        </a:lnTo>
                        <a:lnTo>
                          <a:pt x="677" y="78"/>
                        </a:lnTo>
                        <a:lnTo>
                          <a:pt x="704" y="114"/>
                        </a:lnTo>
                        <a:lnTo>
                          <a:pt x="729" y="154"/>
                        </a:lnTo>
                        <a:lnTo>
                          <a:pt x="749" y="195"/>
                        </a:lnTo>
                        <a:lnTo>
                          <a:pt x="765" y="240"/>
                        </a:lnTo>
                        <a:lnTo>
                          <a:pt x="776" y="284"/>
                        </a:lnTo>
                        <a:lnTo>
                          <a:pt x="783" y="331"/>
                        </a:lnTo>
                        <a:lnTo>
                          <a:pt x="785" y="381"/>
                        </a:lnTo>
                        <a:lnTo>
                          <a:pt x="780" y="381"/>
                        </a:lnTo>
                        <a:lnTo>
                          <a:pt x="778" y="430"/>
                        </a:lnTo>
                        <a:lnTo>
                          <a:pt x="769" y="475"/>
                        </a:lnTo>
                        <a:lnTo>
                          <a:pt x="758" y="520"/>
                        </a:lnTo>
                        <a:lnTo>
                          <a:pt x="742" y="562"/>
                        </a:lnTo>
                        <a:lnTo>
                          <a:pt x="722" y="603"/>
                        </a:lnTo>
                        <a:lnTo>
                          <a:pt x="700" y="641"/>
                        </a:lnTo>
                        <a:lnTo>
                          <a:pt x="673" y="679"/>
                        </a:lnTo>
                        <a:lnTo>
                          <a:pt x="641" y="710"/>
                        </a:lnTo>
                        <a:lnTo>
                          <a:pt x="608" y="742"/>
                        </a:lnTo>
                        <a:lnTo>
                          <a:pt x="572" y="768"/>
                        </a:lnTo>
                        <a:lnTo>
                          <a:pt x="536" y="793"/>
                        </a:lnTo>
                        <a:lnTo>
                          <a:pt x="496" y="811"/>
                        </a:lnTo>
                        <a:lnTo>
                          <a:pt x="451" y="827"/>
                        </a:lnTo>
                        <a:lnTo>
                          <a:pt x="406" y="840"/>
                        </a:lnTo>
                        <a:lnTo>
                          <a:pt x="359" y="847"/>
                        </a:lnTo>
                        <a:lnTo>
                          <a:pt x="312" y="849"/>
                        </a:lnTo>
                        <a:lnTo>
                          <a:pt x="263" y="847"/>
                        </a:lnTo>
                        <a:lnTo>
                          <a:pt x="218" y="840"/>
                        </a:lnTo>
                        <a:lnTo>
                          <a:pt x="173" y="827"/>
                        </a:lnTo>
                        <a:lnTo>
                          <a:pt x="128" y="811"/>
                        </a:lnTo>
                        <a:lnTo>
                          <a:pt x="88" y="793"/>
                        </a:lnTo>
                        <a:lnTo>
                          <a:pt x="50" y="768"/>
                        </a:lnTo>
                        <a:lnTo>
                          <a:pt x="12" y="742"/>
                        </a:lnTo>
                        <a:lnTo>
                          <a:pt x="0" y="730"/>
                        </a:lnTo>
                        <a:close/>
                      </a:path>
                    </a:pathLst>
                  </a:custGeom>
                  <a:solidFill>
                    <a:srgbClr val="eed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87240" y="1531800"/>
                    <a:ext cx="1246320" cy="1351080"/>
                  </a:xfrm>
                  <a:custGeom>
                    <a:avLst/>
                    <a:gdLst/>
                    <a:ahLst/>
                    <a:rect l="l" t="t" r="r" b="b"/>
                    <a:pathLst>
                      <a:path w="785" h="851">
                        <a:moveTo>
                          <a:pt x="0" y="721"/>
                        </a:moveTo>
                        <a:lnTo>
                          <a:pt x="0" y="726"/>
                        </a:lnTo>
                        <a:lnTo>
                          <a:pt x="2" y="728"/>
                        </a:lnTo>
                        <a:lnTo>
                          <a:pt x="2" y="730"/>
                        </a:lnTo>
                        <a:lnTo>
                          <a:pt x="2" y="735"/>
                        </a:lnTo>
                        <a:lnTo>
                          <a:pt x="14" y="744"/>
                        </a:lnTo>
                        <a:lnTo>
                          <a:pt x="49" y="771"/>
                        </a:lnTo>
                        <a:lnTo>
                          <a:pt x="88" y="793"/>
                        </a:lnTo>
                        <a:lnTo>
                          <a:pt x="130" y="813"/>
                        </a:lnTo>
                        <a:lnTo>
                          <a:pt x="173" y="829"/>
                        </a:lnTo>
                        <a:lnTo>
                          <a:pt x="218" y="842"/>
                        </a:lnTo>
                        <a:lnTo>
                          <a:pt x="265" y="849"/>
                        </a:lnTo>
                        <a:lnTo>
                          <a:pt x="314" y="851"/>
                        </a:lnTo>
                        <a:lnTo>
                          <a:pt x="361" y="849"/>
                        </a:lnTo>
                        <a:lnTo>
                          <a:pt x="408" y="842"/>
                        </a:lnTo>
                        <a:lnTo>
                          <a:pt x="455" y="829"/>
                        </a:lnTo>
                        <a:lnTo>
                          <a:pt x="498" y="813"/>
                        </a:lnTo>
                        <a:lnTo>
                          <a:pt x="538" y="793"/>
                        </a:lnTo>
                        <a:lnTo>
                          <a:pt x="576" y="771"/>
                        </a:lnTo>
                        <a:lnTo>
                          <a:pt x="612" y="744"/>
                        </a:lnTo>
                        <a:lnTo>
                          <a:pt x="646" y="712"/>
                        </a:lnTo>
                        <a:lnTo>
                          <a:pt x="675" y="679"/>
                        </a:lnTo>
                        <a:lnTo>
                          <a:pt x="704" y="643"/>
                        </a:lnTo>
                        <a:lnTo>
                          <a:pt x="726" y="605"/>
                        </a:lnTo>
                        <a:lnTo>
                          <a:pt x="746" y="562"/>
                        </a:lnTo>
                        <a:lnTo>
                          <a:pt x="762" y="522"/>
                        </a:lnTo>
                        <a:lnTo>
                          <a:pt x="773" y="477"/>
                        </a:lnTo>
                        <a:lnTo>
                          <a:pt x="782" y="430"/>
                        </a:lnTo>
                        <a:lnTo>
                          <a:pt x="785" y="381"/>
                        </a:lnTo>
                        <a:lnTo>
                          <a:pt x="778" y="381"/>
                        </a:lnTo>
                        <a:lnTo>
                          <a:pt x="776" y="334"/>
                        </a:lnTo>
                        <a:lnTo>
                          <a:pt x="769" y="287"/>
                        </a:lnTo>
                        <a:lnTo>
                          <a:pt x="755" y="242"/>
                        </a:lnTo>
                        <a:lnTo>
                          <a:pt x="740" y="199"/>
                        </a:lnTo>
                        <a:lnTo>
                          <a:pt x="722" y="159"/>
                        </a:lnTo>
                        <a:lnTo>
                          <a:pt x="697" y="121"/>
                        </a:lnTo>
                        <a:lnTo>
                          <a:pt x="670" y="85"/>
                        </a:lnTo>
                        <a:lnTo>
                          <a:pt x="641" y="51"/>
                        </a:lnTo>
                        <a:lnTo>
                          <a:pt x="607" y="22"/>
                        </a:lnTo>
                        <a:lnTo>
                          <a:pt x="578" y="0"/>
                        </a:lnTo>
                        <a:lnTo>
                          <a:pt x="581" y="0"/>
                        </a:lnTo>
                        <a:lnTo>
                          <a:pt x="583" y="0"/>
                        </a:lnTo>
                        <a:lnTo>
                          <a:pt x="587" y="0"/>
                        </a:lnTo>
                        <a:lnTo>
                          <a:pt x="590" y="0"/>
                        </a:lnTo>
                        <a:lnTo>
                          <a:pt x="612" y="18"/>
                        </a:lnTo>
                        <a:lnTo>
                          <a:pt x="646" y="47"/>
                        </a:lnTo>
                        <a:lnTo>
                          <a:pt x="675" y="80"/>
                        </a:lnTo>
                        <a:lnTo>
                          <a:pt x="704" y="116"/>
                        </a:lnTo>
                        <a:lnTo>
                          <a:pt x="726" y="157"/>
                        </a:lnTo>
                        <a:lnTo>
                          <a:pt x="746" y="197"/>
                        </a:lnTo>
                        <a:lnTo>
                          <a:pt x="762" y="240"/>
                        </a:lnTo>
                        <a:lnTo>
                          <a:pt x="773" y="287"/>
                        </a:lnTo>
                        <a:lnTo>
                          <a:pt x="782" y="334"/>
                        </a:lnTo>
                        <a:lnTo>
                          <a:pt x="785" y="381"/>
                        </a:lnTo>
                        <a:lnTo>
                          <a:pt x="778" y="381"/>
                        </a:lnTo>
                        <a:lnTo>
                          <a:pt x="776" y="428"/>
                        </a:lnTo>
                        <a:lnTo>
                          <a:pt x="769" y="475"/>
                        </a:lnTo>
                        <a:lnTo>
                          <a:pt x="755" y="520"/>
                        </a:lnTo>
                        <a:lnTo>
                          <a:pt x="740" y="560"/>
                        </a:lnTo>
                        <a:lnTo>
                          <a:pt x="722" y="600"/>
                        </a:lnTo>
                        <a:lnTo>
                          <a:pt x="697" y="638"/>
                        </a:lnTo>
                        <a:lnTo>
                          <a:pt x="670" y="674"/>
                        </a:lnTo>
                        <a:lnTo>
                          <a:pt x="641" y="708"/>
                        </a:lnTo>
                        <a:lnTo>
                          <a:pt x="607" y="739"/>
                        </a:lnTo>
                        <a:lnTo>
                          <a:pt x="572" y="766"/>
                        </a:lnTo>
                        <a:lnTo>
                          <a:pt x="536" y="789"/>
                        </a:lnTo>
                        <a:lnTo>
                          <a:pt x="495" y="809"/>
                        </a:lnTo>
                        <a:lnTo>
                          <a:pt x="453" y="824"/>
                        </a:lnTo>
                        <a:lnTo>
                          <a:pt x="408" y="836"/>
                        </a:lnTo>
                        <a:lnTo>
                          <a:pt x="361" y="842"/>
                        </a:lnTo>
                        <a:lnTo>
                          <a:pt x="314" y="845"/>
                        </a:lnTo>
                        <a:lnTo>
                          <a:pt x="267" y="842"/>
                        </a:lnTo>
                        <a:lnTo>
                          <a:pt x="220" y="836"/>
                        </a:lnTo>
                        <a:lnTo>
                          <a:pt x="175" y="824"/>
                        </a:lnTo>
                        <a:lnTo>
                          <a:pt x="132" y="809"/>
                        </a:lnTo>
                        <a:lnTo>
                          <a:pt x="92" y="789"/>
                        </a:lnTo>
                        <a:lnTo>
                          <a:pt x="54" y="766"/>
                        </a:lnTo>
                        <a:lnTo>
                          <a:pt x="18" y="739"/>
                        </a:lnTo>
                        <a:lnTo>
                          <a:pt x="0" y="721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84000" y="1531800"/>
                    <a:ext cx="1241280" cy="134460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847">
                        <a:moveTo>
                          <a:pt x="0" y="715"/>
                        </a:moveTo>
                        <a:lnTo>
                          <a:pt x="0" y="717"/>
                        </a:lnTo>
                        <a:lnTo>
                          <a:pt x="0" y="721"/>
                        </a:lnTo>
                        <a:lnTo>
                          <a:pt x="2" y="724"/>
                        </a:lnTo>
                        <a:lnTo>
                          <a:pt x="2" y="726"/>
                        </a:lnTo>
                        <a:lnTo>
                          <a:pt x="18" y="739"/>
                        </a:lnTo>
                        <a:lnTo>
                          <a:pt x="54" y="766"/>
                        </a:lnTo>
                        <a:lnTo>
                          <a:pt x="92" y="791"/>
                        </a:lnTo>
                        <a:lnTo>
                          <a:pt x="134" y="811"/>
                        </a:lnTo>
                        <a:lnTo>
                          <a:pt x="177" y="827"/>
                        </a:lnTo>
                        <a:lnTo>
                          <a:pt x="222" y="838"/>
                        </a:lnTo>
                        <a:lnTo>
                          <a:pt x="267" y="845"/>
                        </a:lnTo>
                        <a:lnTo>
                          <a:pt x="316" y="847"/>
                        </a:lnTo>
                        <a:lnTo>
                          <a:pt x="363" y="845"/>
                        </a:lnTo>
                        <a:lnTo>
                          <a:pt x="410" y="838"/>
                        </a:lnTo>
                        <a:lnTo>
                          <a:pt x="455" y="827"/>
                        </a:lnTo>
                        <a:lnTo>
                          <a:pt x="497" y="811"/>
                        </a:lnTo>
                        <a:lnTo>
                          <a:pt x="538" y="791"/>
                        </a:lnTo>
                        <a:lnTo>
                          <a:pt x="576" y="766"/>
                        </a:lnTo>
                        <a:lnTo>
                          <a:pt x="612" y="739"/>
                        </a:lnTo>
                        <a:lnTo>
                          <a:pt x="645" y="710"/>
                        </a:lnTo>
                        <a:lnTo>
                          <a:pt x="674" y="677"/>
                        </a:lnTo>
                        <a:lnTo>
                          <a:pt x="701" y="641"/>
                        </a:lnTo>
                        <a:lnTo>
                          <a:pt x="726" y="603"/>
                        </a:lnTo>
                        <a:lnTo>
                          <a:pt x="744" y="560"/>
                        </a:lnTo>
                        <a:lnTo>
                          <a:pt x="760" y="520"/>
                        </a:lnTo>
                        <a:lnTo>
                          <a:pt x="773" y="475"/>
                        </a:lnTo>
                        <a:lnTo>
                          <a:pt x="780" y="428"/>
                        </a:lnTo>
                        <a:lnTo>
                          <a:pt x="782" y="381"/>
                        </a:lnTo>
                        <a:lnTo>
                          <a:pt x="775" y="381"/>
                        </a:lnTo>
                        <a:lnTo>
                          <a:pt x="773" y="334"/>
                        </a:lnTo>
                        <a:lnTo>
                          <a:pt x="766" y="289"/>
                        </a:lnTo>
                        <a:lnTo>
                          <a:pt x="755" y="244"/>
                        </a:lnTo>
                        <a:lnTo>
                          <a:pt x="739" y="201"/>
                        </a:lnTo>
                        <a:lnTo>
                          <a:pt x="719" y="161"/>
                        </a:lnTo>
                        <a:lnTo>
                          <a:pt x="697" y="123"/>
                        </a:lnTo>
                        <a:lnTo>
                          <a:pt x="670" y="87"/>
                        </a:lnTo>
                        <a:lnTo>
                          <a:pt x="641" y="53"/>
                        </a:lnTo>
                        <a:lnTo>
                          <a:pt x="607" y="24"/>
                        </a:lnTo>
                        <a:lnTo>
                          <a:pt x="571" y="0"/>
                        </a:lnTo>
                        <a:lnTo>
                          <a:pt x="576" y="0"/>
                        </a:lnTo>
                        <a:lnTo>
                          <a:pt x="578" y="0"/>
                        </a:lnTo>
                        <a:lnTo>
                          <a:pt x="580" y="0"/>
                        </a:lnTo>
                        <a:lnTo>
                          <a:pt x="585" y="0"/>
                        </a:lnTo>
                        <a:lnTo>
                          <a:pt x="612" y="20"/>
                        </a:lnTo>
                        <a:lnTo>
                          <a:pt x="645" y="49"/>
                        </a:lnTo>
                        <a:lnTo>
                          <a:pt x="674" y="83"/>
                        </a:lnTo>
                        <a:lnTo>
                          <a:pt x="701" y="118"/>
                        </a:lnTo>
                        <a:lnTo>
                          <a:pt x="726" y="159"/>
                        </a:lnTo>
                        <a:lnTo>
                          <a:pt x="744" y="199"/>
                        </a:lnTo>
                        <a:lnTo>
                          <a:pt x="760" y="242"/>
                        </a:lnTo>
                        <a:lnTo>
                          <a:pt x="773" y="287"/>
                        </a:lnTo>
                        <a:lnTo>
                          <a:pt x="780" y="334"/>
                        </a:lnTo>
                        <a:lnTo>
                          <a:pt x="782" y="381"/>
                        </a:lnTo>
                        <a:lnTo>
                          <a:pt x="775" y="381"/>
                        </a:lnTo>
                        <a:lnTo>
                          <a:pt x="773" y="428"/>
                        </a:lnTo>
                        <a:lnTo>
                          <a:pt x="766" y="475"/>
                        </a:lnTo>
                        <a:lnTo>
                          <a:pt x="755" y="517"/>
                        </a:lnTo>
                        <a:lnTo>
                          <a:pt x="739" y="560"/>
                        </a:lnTo>
                        <a:lnTo>
                          <a:pt x="719" y="598"/>
                        </a:lnTo>
                        <a:lnTo>
                          <a:pt x="697" y="636"/>
                        </a:lnTo>
                        <a:lnTo>
                          <a:pt x="670" y="672"/>
                        </a:lnTo>
                        <a:lnTo>
                          <a:pt x="641" y="706"/>
                        </a:lnTo>
                        <a:lnTo>
                          <a:pt x="607" y="735"/>
                        </a:lnTo>
                        <a:lnTo>
                          <a:pt x="571" y="762"/>
                        </a:lnTo>
                        <a:lnTo>
                          <a:pt x="536" y="784"/>
                        </a:lnTo>
                        <a:lnTo>
                          <a:pt x="495" y="804"/>
                        </a:lnTo>
                        <a:lnTo>
                          <a:pt x="453" y="820"/>
                        </a:lnTo>
                        <a:lnTo>
                          <a:pt x="408" y="831"/>
                        </a:lnTo>
                        <a:lnTo>
                          <a:pt x="363" y="838"/>
                        </a:lnTo>
                        <a:lnTo>
                          <a:pt x="316" y="840"/>
                        </a:lnTo>
                        <a:lnTo>
                          <a:pt x="269" y="838"/>
                        </a:lnTo>
                        <a:lnTo>
                          <a:pt x="222" y="831"/>
                        </a:lnTo>
                        <a:lnTo>
                          <a:pt x="179" y="820"/>
                        </a:lnTo>
                        <a:lnTo>
                          <a:pt x="137" y="804"/>
                        </a:lnTo>
                        <a:lnTo>
                          <a:pt x="96" y="784"/>
                        </a:lnTo>
                        <a:lnTo>
                          <a:pt x="58" y="762"/>
                        </a:lnTo>
                        <a:lnTo>
                          <a:pt x="22" y="735"/>
                        </a:lnTo>
                        <a:lnTo>
                          <a:pt x="0" y="715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80760" y="1527120"/>
                    <a:ext cx="1238400" cy="13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845">
                        <a:moveTo>
                          <a:pt x="0" y="709"/>
                        </a:moveTo>
                        <a:lnTo>
                          <a:pt x="0" y="713"/>
                        </a:lnTo>
                        <a:lnTo>
                          <a:pt x="2" y="715"/>
                        </a:lnTo>
                        <a:lnTo>
                          <a:pt x="2" y="718"/>
                        </a:lnTo>
                        <a:lnTo>
                          <a:pt x="2" y="722"/>
                        </a:lnTo>
                        <a:lnTo>
                          <a:pt x="22" y="740"/>
                        </a:lnTo>
                        <a:lnTo>
                          <a:pt x="58" y="767"/>
                        </a:lnTo>
                        <a:lnTo>
                          <a:pt x="96" y="789"/>
                        </a:lnTo>
                        <a:lnTo>
                          <a:pt x="136" y="810"/>
                        </a:lnTo>
                        <a:lnTo>
                          <a:pt x="179" y="825"/>
                        </a:lnTo>
                        <a:lnTo>
                          <a:pt x="224" y="836"/>
                        </a:lnTo>
                        <a:lnTo>
                          <a:pt x="271" y="843"/>
                        </a:lnTo>
                        <a:lnTo>
                          <a:pt x="318" y="845"/>
                        </a:lnTo>
                        <a:lnTo>
                          <a:pt x="365" y="843"/>
                        </a:lnTo>
                        <a:lnTo>
                          <a:pt x="412" y="836"/>
                        </a:lnTo>
                        <a:lnTo>
                          <a:pt x="455" y="825"/>
                        </a:lnTo>
                        <a:lnTo>
                          <a:pt x="497" y="810"/>
                        </a:lnTo>
                        <a:lnTo>
                          <a:pt x="540" y="789"/>
                        </a:lnTo>
                        <a:lnTo>
                          <a:pt x="576" y="767"/>
                        </a:lnTo>
                        <a:lnTo>
                          <a:pt x="609" y="740"/>
                        </a:lnTo>
                        <a:lnTo>
                          <a:pt x="643" y="709"/>
                        </a:lnTo>
                        <a:lnTo>
                          <a:pt x="674" y="677"/>
                        </a:lnTo>
                        <a:lnTo>
                          <a:pt x="701" y="641"/>
                        </a:lnTo>
                        <a:lnTo>
                          <a:pt x="724" y="603"/>
                        </a:lnTo>
                        <a:lnTo>
                          <a:pt x="744" y="563"/>
                        </a:lnTo>
                        <a:lnTo>
                          <a:pt x="759" y="523"/>
                        </a:lnTo>
                        <a:lnTo>
                          <a:pt x="771" y="478"/>
                        </a:lnTo>
                        <a:lnTo>
                          <a:pt x="777" y="431"/>
                        </a:lnTo>
                        <a:lnTo>
                          <a:pt x="780" y="384"/>
                        </a:lnTo>
                        <a:lnTo>
                          <a:pt x="773" y="384"/>
                        </a:lnTo>
                        <a:lnTo>
                          <a:pt x="771" y="337"/>
                        </a:lnTo>
                        <a:lnTo>
                          <a:pt x="764" y="292"/>
                        </a:lnTo>
                        <a:lnTo>
                          <a:pt x="753" y="247"/>
                        </a:lnTo>
                        <a:lnTo>
                          <a:pt x="737" y="207"/>
                        </a:lnTo>
                        <a:lnTo>
                          <a:pt x="717" y="166"/>
                        </a:lnTo>
                        <a:lnTo>
                          <a:pt x="694" y="128"/>
                        </a:lnTo>
                        <a:lnTo>
                          <a:pt x="668" y="92"/>
                        </a:lnTo>
                        <a:lnTo>
                          <a:pt x="638" y="61"/>
                        </a:lnTo>
                        <a:lnTo>
                          <a:pt x="607" y="32"/>
                        </a:lnTo>
                        <a:lnTo>
                          <a:pt x="571" y="5"/>
                        </a:lnTo>
                        <a:lnTo>
                          <a:pt x="564" y="0"/>
                        </a:lnTo>
                        <a:lnTo>
                          <a:pt x="569" y="0"/>
                        </a:lnTo>
                        <a:lnTo>
                          <a:pt x="571" y="0"/>
                        </a:lnTo>
                        <a:lnTo>
                          <a:pt x="576" y="3"/>
                        </a:lnTo>
                        <a:lnTo>
                          <a:pt x="578" y="3"/>
                        </a:lnTo>
                        <a:lnTo>
                          <a:pt x="609" y="25"/>
                        </a:lnTo>
                        <a:lnTo>
                          <a:pt x="643" y="56"/>
                        </a:lnTo>
                        <a:lnTo>
                          <a:pt x="674" y="88"/>
                        </a:lnTo>
                        <a:lnTo>
                          <a:pt x="701" y="124"/>
                        </a:lnTo>
                        <a:lnTo>
                          <a:pt x="724" y="162"/>
                        </a:lnTo>
                        <a:lnTo>
                          <a:pt x="744" y="204"/>
                        </a:lnTo>
                        <a:lnTo>
                          <a:pt x="759" y="247"/>
                        </a:lnTo>
                        <a:lnTo>
                          <a:pt x="771" y="290"/>
                        </a:lnTo>
                        <a:lnTo>
                          <a:pt x="777" y="337"/>
                        </a:lnTo>
                        <a:lnTo>
                          <a:pt x="780" y="384"/>
                        </a:lnTo>
                        <a:lnTo>
                          <a:pt x="773" y="384"/>
                        </a:lnTo>
                        <a:lnTo>
                          <a:pt x="771" y="431"/>
                        </a:lnTo>
                        <a:lnTo>
                          <a:pt x="764" y="476"/>
                        </a:lnTo>
                        <a:lnTo>
                          <a:pt x="753" y="520"/>
                        </a:lnTo>
                        <a:lnTo>
                          <a:pt x="737" y="563"/>
                        </a:lnTo>
                        <a:lnTo>
                          <a:pt x="717" y="599"/>
                        </a:lnTo>
                        <a:lnTo>
                          <a:pt x="694" y="637"/>
                        </a:lnTo>
                        <a:lnTo>
                          <a:pt x="668" y="673"/>
                        </a:lnTo>
                        <a:lnTo>
                          <a:pt x="638" y="704"/>
                        </a:lnTo>
                        <a:lnTo>
                          <a:pt x="607" y="736"/>
                        </a:lnTo>
                        <a:lnTo>
                          <a:pt x="571" y="760"/>
                        </a:lnTo>
                        <a:lnTo>
                          <a:pt x="535" y="785"/>
                        </a:lnTo>
                        <a:lnTo>
                          <a:pt x="495" y="803"/>
                        </a:lnTo>
                        <a:lnTo>
                          <a:pt x="455" y="819"/>
                        </a:lnTo>
                        <a:lnTo>
                          <a:pt x="410" y="830"/>
                        </a:lnTo>
                        <a:lnTo>
                          <a:pt x="365" y="836"/>
                        </a:lnTo>
                        <a:lnTo>
                          <a:pt x="318" y="839"/>
                        </a:lnTo>
                        <a:lnTo>
                          <a:pt x="271" y="836"/>
                        </a:lnTo>
                        <a:lnTo>
                          <a:pt x="226" y="830"/>
                        </a:lnTo>
                        <a:lnTo>
                          <a:pt x="181" y="819"/>
                        </a:lnTo>
                        <a:lnTo>
                          <a:pt x="139" y="803"/>
                        </a:lnTo>
                        <a:lnTo>
                          <a:pt x="100" y="785"/>
                        </a:lnTo>
                        <a:lnTo>
                          <a:pt x="62" y="760"/>
                        </a:lnTo>
                        <a:lnTo>
                          <a:pt x="27" y="736"/>
                        </a:lnTo>
                        <a:lnTo>
                          <a:pt x="0" y="709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76080" y="1527120"/>
                    <a:ext cx="1235160" cy="133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8" h="841">
                        <a:moveTo>
                          <a:pt x="0" y="702"/>
                        </a:moveTo>
                        <a:lnTo>
                          <a:pt x="0" y="704"/>
                        </a:lnTo>
                        <a:lnTo>
                          <a:pt x="3" y="709"/>
                        </a:lnTo>
                        <a:lnTo>
                          <a:pt x="3" y="711"/>
                        </a:lnTo>
                        <a:lnTo>
                          <a:pt x="3" y="713"/>
                        </a:lnTo>
                        <a:lnTo>
                          <a:pt x="27" y="736"/>
                        </a:lnTo>
                        <a:lnTo>
                          <a:pt x="63" y="762"/>
                        </a:lnTo>
                        <a:lnTo>
                          <a:pt x="101" y="785"/>
                        </a:lnTo>
                        <a:lnTo>
                          <a:pt x="142" y="805"/>
                        </a:lnTo>
                        <a:lnTo>
                          <a:pt x="184" y="821"/>
                        </a:lnTo>
                        <a:lnTo>
                          <a:pt x="229" y="832"/>
                        </a:lnTo>
                        <a:lnTo>
                          <a:pt x="274" y="839"/>
                        </a:lnTo>
                        <a:lnTo>
                          <a:pt x="321" y="841"/>
                        </a:lnTo>
                        <a:lnTo>
                          <a:pt x="368" y="839"/>
                        </a:lnTo>
                        <a:lnTo>
                          <a:pt x="413" y="832"/>
                        </a:lnTo>
                        <a:lnTo>
                          <a:pt x="458" y="821"/>
                        </a:lnTo>
                        <a:lnTo>
                          <a:pt x="500" y="805"/>
                        </a:lnTo>
                        <a:lnTo>
                          <a:pt x="541" y="785"/>
                        </a:lnTo>
                        <a:lnTo>
                          <a:pt x="576" y="762"/>
                        </a:lnTo>
                        <a:lnTo>
                          <a:pt x="610" y="736"/>
                        </a:lnTo>
                        <a:lnTo>
                          <a:pt x="644" y="706"/>
                        </a:lnTo>
                        <a:lnTo>
                          <a:pt x="673" y="675"/>
                        </a:lnTo>
                        <a:lnTo>
                          <a:pt x="700" y="639"/>
                        </a:lnTo>
                        <a:lnTo>
                          <a:pt x="722" y="601"/>
                        </a:lnTo>
                        <a:lnTo>
                          <a:pt x="742" y="563"/>
                        </a:lnTo>
                        <a:lnTo>
                          <a:pt x="758" y="520"/>
                        </a:lnTo>
                        <a:lnTo>
                          <a:pt x="769" y="476"/>
                        </a:lnTo>
                        <a:lnTo>
                          <a:pt x="776" y="431"/>
                        </a:lnTo>
                        <a:lnTo>
                          <a:pt x="778" y="384"/>
                        </a:lnTo>
                        <a:lnTo>
                          <a:pt x="771" y="384"/>
                        </a:lnTo>
                        <a:lnTo>
                          <a:pt x="769" y="337"/>
                        </a:lnTo>
                        <a:lnTo>
                          <a:pt x="762" y="292"/>
                        </a:lnTo>
                        <a:lnTo>
                          <a:pt x="751" y="249"/>
                        </a:lnTo>
                        <a:lnTo>
                          <a:pt x="736" y="207"/>
                        </a:lnTo>
                        <a:lnTo>
                          <a:pt x="718" y="169"/>
                        </a:lnTo>
                        <a:lnTo>
                          <a:pt x="695" y="130"/>
                        </a:lnTo>
                        <a:lnTo>
                          <a:pt x="668" y="95"/>
                        </a:lnTo>
                        <a:lnTo>
                          <a:pt x="639" y="63"/>
                        </a:lnTo>
                        <a:lnTo>
                          <a:pt x="608" y="34"/>
                        </a:lnTo>
                        <a:lnTo>
                          <a:pt x="572" y="7"/>
                        </a:lnTo>
                        <a:lnTo>
                          <a:pt x="561" y="0"/>
                        </a:lnTo>
                        <a:lnTo>
                          <a:pt x="563" y="0"/>
                        </a:lnTo>
                        <a:lnTo>
                          <a:pt x="565" y="0"/>
                        </a:lnTo>
                        <a:lnTo>
                          <a:pt x="570" y="0"/>
                        </a:lnTo>
                        <a:lnTo>
                          <a:pt x="572" y="0"/>
                        </a:lnTo>
                        <a:lnTo>
                          <a:pt x="576" y="3"/>
                        </a:lnTo>
                        <a:lnTo>
                          <a:pt x="610" y="30"/>
                        </a:lnTo>
                        <a:lnTo>
                          <a:pt x="644" y="59"/>
                        </a:lnTo>
                        <a:lnTo>
                          <a:pt x="673" y="92"/>
                        </a:lnTo>
                        <a:lnTo>
                          <a:pt x="700" y="126"/>
                        </a:lnTo>
                        <a:lnTo>
                          <a:pt x="722" y="164"/>
                        </a:lnTo>
                        <a:lnTo>
                          <a:pt x="742" y="204"/>
                        </a:lnTo>
                        <a:lnTo>
                          <a:pt x="758" y="247"/>
                        </a:lnTo>
                        <a:lnTo>
                          <a:pt x="769" y="292"/>
                        </a:lnTo>
                        <a:lnTo>
                          <a:pt x="776" y="337"/>
                        </a:lnTo>
                        <a:lnTo>
                          <a:pt x="778" y="384"/>
                        </a:lnTo>
                        <a:lnTo>
                          <a:pt x="771" y="384"/>
                        </a:lnTo>
                        <a:lnTo>
                          <a:pt x="769" y="431"/>
                        </a:lnTo>
                        <a:lnTo>
                          <a:pt x="762" y="476"/>
                        </a:lnTo>
                        <a:lnTo>
                          <a:pt x="751" y="518"/>
                        </a:lnTo>
                        <a:lnTo>
                          <a:pt x="736" y="561"/>
                        </a:lnTo>
                        <a:lnTo>
                          <a:pt x="718" y="599"/>
                        </a:lnTo>
                        <a:lnTo>
                          <a:pt x="695" y="635"/>
                        </a:lnTo>
                        <a:lnTo>
                          <a:pt x="668" y="671"/>
                        </a:lnTo>
                        <a:lnTo>
                          <a:pt x="639" y="702"/>
                        </a:lnTo>
                        <a:lnTo>
                          <a:pt x="608" y="731"/>
                        </a:lnTo>
                        <a:lnTo>
                          <a:pt x="572" y="758"/>
                        </a:lnTo>
                        <a:lnTo>
                          <a:pt x="536" y="780"/>
                        </a:lnTo>
                        <a:lnTo>
                          <a:pt x="498" y="798"/>
                        </a:lnTo>
                        <a:lnTo>
                          <a:pt x="455" y="814"/>
                        </a:lnTo>
                        <a:lnTo>
                          <a:pt x="413" y="825"/>
                        </a:lnTo>
                        <a:lnTo>
                          <a:pt x="368" y="832"/>
                        </a:lnTo>
                        <a:lnTo>
                          <a:pt x="321" y="834"/>
                        </a:lnTo>
                        <a:lnTo>
                          <a:pt x="274" y="832"/>
                        </a:lnTo>
                        <a:lnTo>
                          <a:pt x="229" y="825"/>
                        </a:lnTo>
                        <a:lnTo>
                          <a:pt x="186" y="814"/>
                        </a:lnTo>
                        <a:lnTo>
                          <a:pt x="144" y="798"/>
                        </a:lnTo>
                        <a:lnTo>
                          <a:pt x="103" y="780"/>
                        </a:lnTo>
                        <a:lnTo>
                          <a:pt x="68" y="758"/>
                        </a:lnTo>
                        <a:lnTo>
                          <a:pt x="32" y="731"/>
                        </a:lnTo>
                        <a:lnTo>
                          <a:pt x="0" y="702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840" y="1527120"/>
                    <a:ext cx="1231920" cy="132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836">
                        <a:moveTo>
                          <a:pt x="0" y="693"/>
                        </a:moveTo>
                        <a:lnTo>
                          <a:pt x="0" y="697"/>
                        </a:lnTo>
                        <a:lnTo>
                          <a:pt x="2" y="700"/>
                        </a:lnTo>
                        <a:lnTo>
                          <a:pt x="2" y="702"/>
                        </a:lnTo>
                        <a:lnTo>
                          <a:pt x="2" y="706"/>
                        </a:lnTo>
                        <a:lnTo>
                          <a:pt x="34" y="733"/>
                        </a:lnTo>
                        <a:lnTo>
                          <a:pt x="67" y="760"/>
                        </a:lnTo>
                        <a:lnTo>
                          <a:pt x="105" y="783"/>
                        </a:lnTo>
                        <a:lnTo>
                          <a:pt x="146" y="801"/>
                        </a:lnTo>
                        <a:lnTo>
                          <a:pt x="186" y="816"/>
                        </a:lnTo>
                        <a:lnTo>
                          <a:pt x="231" y="827"/>
                        </a:lnTo>
                        <a:lnTo>
                          <a:pt x="276" y="834"/>
                        </a:lnTo>
                        <a:lnTo>
                          <a:pt x="323" y="836"/>
                        </a:lnTo>
                        <a:lnTo>
                          <a:pt x="370" y="834"/>
                        </a:lnTo>
                        <a:lnTo>
                          <a:pt x="415" y="827"/>
                        </a:lnTo>
                        <a:lnTo>
                          <a:pt x="457" y="816"/>
                        </a:lnTo>
                        <a:lnTo>
                          <a:pt x="500" y="801"/>
                        </a:lnTo>
                        <a:lnTo>
                          <a:pt x="540" y="783"/>
                        </a:lnTo>
                        <a:lnTo>
                          <a:pt x="574" y="760"/>
                        </a:lnTo>
                        <a:lnTo>
                          <a:pt x="610" y="733"/>
                        </a:lnTo>
                        <a:lnTo>
                          <a:pt x="643" y="704"/>
                        </a:lnTo>
                        <a:lnTo>
                          <a:pt x="673" y="671"/>
                        </a:lnTo>
                        <a:lnTo>
                          <a:pt x="697" y="637"/>
                        </a:lnTo>
                        <a:lnTo>
                          <a:pt x="722" y="599"/>
                        </a:lnTo>
                        <a:lnTo>
                          <a:pt x="740" y="561"/>
                        </a:lnTo>
                        <a:lnTo>
                          <a:pt x="755" y="520"/>
                        </a:lnTo>
                        <a:lnTo>
                          <a:pt x="767" y="476"/>
                        </a:lnTo>
                        <a:lnTo>
                          <a:pt x="773" y="431"/>
                        </a:lnTo>
                        <a:lnTo>
                          <a:pt x="776" y="384"/>
                        </a:lnTo>
                        <a:lnTo>
                          <a:pt x="769" y="384"/>
                        </a:lnTo>
                        <a:lnTo>
                          <a:pt x="767" y="339"/>
                        </a:lnTo>
                        <a:lnTo>
                          <a:pt x="760" y="294"/>
                        </a:lnTo>
                        <a:lnTo>
                          <a:pt x="749" y="251"/>
                        </a:lnTo>
                        <a:lnTo>
                          <a:pt x="733" y="209"/>
                        </a:lnTo>
                        <a:lnTo>
                          <a:pt x="715" y="171"/>
                        </a:lnTo>
                        <a:lnTo>
                          <a:pt x="693" y="133"/>
                        </a:lnTo>
                        <a:lnTo>
                          <a:pt x="666" y="99"/>
                        </a:lnTo>
                        <a:lnTo>
                          <a:pt x="639" y="65"/>
                        </a:lnTo>
                        <a:lnTo>
                          <a:pt x="605" y="39"/>
                        </a:lnTo>
                        <a:lnTo>
                          <a:pt x="572" y="12"/>
                        </a:lnTo>
                        <a:lnTo>
                          <a:pt x="554" y="0"/>
                        </a:lnTo>
                        <a:lnTo>
                          <a:pt x="556" y="0"/>
                        </a:lnTo>
                        <a:lnTo>
                          <a:pt x="560" y="0"/>
                        </a:lnTo>
                        <a:lnTo>
                          <a:pt x="563" y="0"/>
                        </a:lnTo>
                        <a:lnTo>
                          <a:pt x="565" y="0"/>
                        </a:lnTo>
                        <a:lnTo>
                          <a:pt x="574" y="7"/>
                        </a:lnTo>
                        <a:lnTo>
                          <a:pt x="610" y="32"/>
                        </a:lnTo>
                        <a:lnTo>
                          <a:pt x="643" y="61"/>
                        </a:lnTo>
                        <a:lnTo>
                          <a:pt x="673" y="95"/>
                        </a:lnTo>
                        <a:lnTo>
                          <a:pt x="697" y="128"/>
                        </a:lnTo>
                        <a:lnTo>
                          <a:pt x="722" y="166"/>
                        </a:lnTo>
                        <a:lnTo>
                          <a:pt x="740" y="207"/>
                        </a:lnTo>
                        <a:lnTo>
                          <a:pt x="755" y="249"/>
                        </a:lnTo>
                        <a:lnTo>
                          <a:pt x="767" y="292"/>
                        </a:lnTo>
                        <a:lnTo>
                          <a:pt x="773" y="337"/>
                        </a:lnTo>
                        <a:lnTo>
                          <a:pt x="776" y="384"/>
                        </a:lnTo>
                        <a:lnTo>
                          <a:pt x="769" y="384"/>
                        </a:lnTo>
                        <a:lnTo>
                          <a:pt x="767" y="431"/>
                        </a:lnTo>
                        <a:lnTo>
                          <a:pt x="760" y="476"/>
                        </a:lnTo>
                        <a:lnTo>
                          <a:pt x="749" y="518"/>
                        </a:lnTo>
                        <a:lnTo>
                          <a:pt x="733" y="559"/>
                        </a:lnTo>
                        <a:lnTo>
                          <a:pt x="715" y="597"/>
                        </a:lnTo>
                        <a:lnTo>
                          <a:pt x="693" y="632"/>
                        </a:lnTo>
                        <a:lnTo>
                          <a:pt x="666" y="668"/>
                        </a:lnTo>
                        <a:lnTo>
                          <a:pt x="639" y="700"/>
                        </a:lnTo>
                        <a:lnTo>
                          <a:pt x="605" y="729"/>
                        </a:lnTo>
                        <a:lnTo>
                          <a:pt x="572" y="754"/>
                        </a:lnTo>
                        <a:lnTo>
                          <a:pt x="536" y="776"/>
                        </a:lnTo>
                        <a:lnTo>
                          <a:pt x="498" y="796"/>
                        </a:lnTo>
                        <a:lnTo>
                          <a:pt x="455" y="810"/>
                        </a:lnTo>
                        <a:lnTo>
                          <a:pt x="413" y="821"/>
                        </a:lnTo>
                        <a:lnTo>
                          <a:pt x="368" y="827"/>
                        </a:lnTo>
                        <a:lnTo>
                          <a:pt x="323" y="830"/>
                        </a:lnTo>
                        <a:lnTo>
                          <a:pt x="276" y="827"/>
                        </a:lnTo>
                        <a:lnTo>
                          <a:pt x="231" y="821"/>
                        </a:lnTo>
                        <a:lnTo>
                          <a:pt x="188" y="810"/>
                        </a:lnTo>
                        <a:lnTo>
                          <a:pt x="148" y="796"/>
                        </a:lnTo>
                        <a:lnTo>
                          <a:pt x="108" y="776"/>
                        </a:lnTo>
                        <a:lnTo>
                          <a:pt x="72" y="754"/>
                        </a:lnTo>
                        <a:lnTo>
                          <a:pt x="36" y="729"/>
                        </a:lnTo>
                        <a:lnTo>
                          <a:pt x="5" y="700"/>
                        </a:lnTo>
                        <a:lnTo>
                          <a:pt x="0" y="693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69600" y="1527120"/>
                    <a:ext cx="1227240" cy="13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3" h="832">
                        <a:moveTo>
                          <a:pt x="0" y="686"/>
                        </a:moveTo>
                        <a:lnTo>
                          <a:pt x="0" y="689"/>
                        </a:lnTo>
                        <a:lnTo>
                          <a:pt x="2" y="691"/>
                        </a:lnTo>
                        <a:lnTo>
                          <a:pt x="2" y="695"/>
                        </a:lnTo>
                        <a:lnTo>
                          <a:pt x="2" y="697"/>
                        </a:lnTo>
                        <a:lnTo>
                          <a:pt x="7" y="700"/>
                        </a:lnTo>
                        <a:lnTo>
                          <a:pt x="38" y="729"/>
                        </a:lnTo>
                        <a:lnTo>
                          <a:pt x="72" y="756"/>
                        </a:lnTo>
                        <a:lnTo>
                          <a:pt x="110" y="778"/>
                        </a:lnTo>
                        <a:lnTo>
                          <a:pt x="150" y="798"/>
                        </a:lnTo>
                        <a:lnTo>
                          <a:pt x="190" y="812"/>
                        </a:lnTo>
                        <a:lnTo>
                          <a:pt x="233" y="823"/>
                        </a:lnTo>
                        <a:lnTo>
                          <a:pt x="278" y="830"/>
                        </a:lnTo>
                        <a:lnTo>
                          <a:pt x="325" y="832"/>
                        </a:lnTo>
                        <a:lnTo>
                          <a:pt x="370" y="830"/>
                        </a:lnTo>
                        <a:lnTo>
                          <a:pt x="415" y="823"/>
                        </a:lnTo>
                        <a:lnTo>
                          <a:pt x="459" y="812"/>
                        </a:lnTo>
                        <a:lnTo>
                          <a:pt x="500" y="798"/>
                        </a:lnTo>
                        <a:lnTo>
                          <a:pt x="540" y="778"/>
                        </a:lnTo>
                        <a:lnTo>
                          <a:pt x="574" y="756"/>
                        </a:lnTo>
                        <a:lnTo>
                          <a:pt x="610" y="729"/>
                        </a:lnTo>
                        <a:lnTo>
                          <a:pt x="641" y="700"/>
                        </a:lnTo>
                        <a:lnTo>
                          <a:pt x="670" y="668"/>
                        </a:lnTo>
                        <a:lnTo>
                          <a:pt x="697" y="635"/>
                        </a:lnTo>
                        <a:lnTo>
                          <a:pt x="719" y="597"/>
                        </a:lnTo>
                        <a:lnTo>
                          <a:pt x="737" y="559"/>
                        </a:lnTo>
                        <a:lnTo>
                          <a:pt x="753" y="518"/>
                        </a:lnTo>
                        <a:lnTo>
                          <a:pt x="764" y="476"/>
                        </a:lnTo>
                        <a:lnTo>
                          <a:pt x="771" y="431"/>
                        </a:lnTo>
                        <a:lnTo>
                          <a:pt x="773" y="384"/>
                        </a:lnTo>
                        <a:lnTo>
                          <a:pt x="766" y="384"/>
                        </a:lnTo>
                        <a:lnTo>
                          <a:pt x="764" y="339"/>
                        </a:lnTo>
                        <a:lnTo>
                          <a:pt x="757" y="294"/>
                        </a:lnTo>
                        <a:lnTo>
                          <a:pt x="746" y="251"/>
                        </a:lnTo>
                        <a:lnTo>
                          <a:pt x="733" y="211"/>
                        </a:lnTo>
                        <a:lnTo>
                          <a:pt x="713" y="173"/>
                        </a:lnTo>
                        <a:lnTo>
                          <a:pt x="690" y="135"/>
                        </a:lnTo>
                        <a:lnTo>
                          <a:pt x="666" y="101"/>
                        </a:lnTo>
                        <a:lnTo>
                          <a:pt x="636" y="70"/>
                        </a:lnTo>
                        <a:lnTo>
                          <a:pt x="605" y="41"/>
                        </a:lnTo>
                        <a:lnTo>
                          <a:pt x="571" y="16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551" y="0"/>
                        </a:lnTo>
                        <a:lnTo>
                          <a:pt x="553" y="0"/>
                        </a:lnTo>
                        <a:lnTo>
                          <a:pt x="556" y="0"/>
                        </a:lnTo>
                        <a:lnTo>
                          <a:pt x="560" y="0"/>
                        </a:lnTo>
                        <a:lnTo>
                          <a:pt x="574" y="9"/>
                        </a:lnTo>
                        <a:lnTo>
                          <a:pt x="610" y="36"/>
                        </a:lnTo>
                        <a:lnTo>
                          <a:pt x="641" y="65"/>
                        </a:lnTo>
                        <a:lnTo>
                          <a:pt x="670" y="97"/>
                        </a:lnTo>
                        <a:lnTo>
                          <a:pt x="697" y="133"/>
                        </a:lnTo>
                        <a:lnTo>
                          <a:pt x="719" y="169"/>
                        </a:lnTo>
                        <a:lnTo>
                          <a:pt x="737" y="209"/>
                        </a:lnTo>
                        <a:lnTo>
                          <a:pt x="753" y="249"/>
                        </a:lnTo>
                        <a:lnTo>
                          <a:pt x="764" y="294"/>
                        </a:lnTo>
                        <a:lnTo>
                          <a:pt x="771" y="339"/>
                        </a:lnTo>
                        <a:lnTo>
                          <a:pt x="773" y="384"/>
                        </a:lnTo>
                        <a:lnTo>
                          <a:pt x="766" y="384"/>
                        </a:lnTo>
                        <a:lnTo>
                          <a:pt x="764" y="429"/>
                        </a:lnTo>
                        <a:lnTo>
                          <a:pt x="757" y="473"/>
                        </a:lnTo>
                        <a:lnTo>
                          <a:pt x="746" y="516"/>
                        </a:lnTo>
                        <a:lnTo>
                          <a:pt x="733" y="556"/>
                        </a:lnTo>
                        <a:lnTo>
                          <a:pt x="713" y="594"/>
                        </a:lnTo>
                        <a:lnTo>
                          <a:pt x="690" y="630"/>
                        </a:lnTo>
                        <a:lnTo>
                          <a:pt x="666" y="664"/>
                        </a:lnTo>
                        <a:lnTo>
                          <a:pt x="636" y="695"/>
                        </a:lnTo>
                        <a:lnTo>
                          <a:pt x="605" y="724"/>
                        </a:lnTo>
                        <a:lnTo>
                          <a:pt x="571" y="751"/>
                        </a:lnTo>
                        <a:lnTo>
                          <a:pt x="536" y="774"/>
                        </a:lnTo>
                        <a:lnTo>
                          <a:pt x="497" y="792"/>
                        </a:lnTo>
                        <a:lnTo>
                          <a:pt x="457" y="807"/>
                        </a:lnTo>
                        <a:lnTo>
                          <a:pt x="415" y="819"/>
                        </a:lnTo>
                        <a:lnTo>
                          <a:pt x="370" y="825"/>
                        </a:lnTo>
                        <a:lnTo>
                          <a:pt x="325" y="827"/>
                        </a:lnTo>
                        <a:lnTo>
                          <a:pt x="280" y="825"/>
                        </a:lnTo>
                        <a:lnTo>
                          <a:pt x="235" y="819"/>
                        </a:lnTo>
                        <a:lnTo>
                          <a:pt x="193" y="807"/>
                        </a:lnTo>
                        <a:lnTo>
                          <a:pt x="152" y="792"/>
                        </a:lnTo>
                        <a:lnTo>
                          <a:pt x="112" y="774"/>
                        </a:lnTo>
                        <a:lnTo>
                          <a:pt x="76" y="751"/>
                        </a:lnTo>
                        <a:lnTo>
                          <a:pt x="42" y="724"/>
                        </a:lnTo>
                        <a:lnTo>
                          <a:pt x="11" y="695"/>
                        </a:lnTo>
                        <a:lnTo>
                          <a:pt x="0" y="686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66720" y="1527120"/>
                    <a:ext cx="122364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830">
                        <a:moveTo>
                          <a:pt x="0" y="677"/>
                        </a:moveTo>
                        <a:lnTo>
                          <a:pt x="2" y="680"/>
                        </a:lnTo>
                        <a:lnTo>
                          <a:pt x="2" y="684"/>
                        </a:lnTo>
                        <a:lnTo>
                          <a:pt x="2" y="686"/>
                        </a:lnTo>
                        <a:lnTo>
                          <a:pt x="2" y="689"/>
                        </a:lnTo>
                        <a:lnTo>
                          <a:pt x="11" y="697"/>
                        </a:lnTo>
                        <a:lnTo>
                          <a:pt x="42" y="727"/>
                        </a:lnTo>
                        <a:lnTo>
                          <a:pt x="76" y="751"/>
                        </a:lnTo>
                        <a:lnTo>
                          <a:pt x="114" y="776"/>
                        </a:lnTo>
                        <a:lnTo>
                          <a:pt x="152" y="794"/>
                        </a:lnTo>
                        <a:lnTo>
                          <a:pt x="195" y="810"/>
                        </a:lnTo>
                        <a:lnTo>
                          <a:pt x="237" y="821"/>
                        </a:lnTo>
                        <a:lnTo>
                          <a:pt x="282" y="827"/>
                        </a:lnTo>
                        <a:lnTo>
                          <a:pt x="327" y="830"/>
                        </a:lnTo>
                        <a:lnTo>
                          <a:pt x="372" y="827"/>
                        </a:lnTo>
                        <a:lnTo>
                          <a:pt x="417" y="821"/>
                        </a:lnTo>
                        <a:lnTo>
                          <a:pt x="459" y="810"/>
                        </a:lnTo>
                        <a:lnTo>
                          <a:pt x="499" y="794"/>
                        </a:lnTo>
                        <a:lnTo>
                          <a:pt x="540" y="776"/>
                        </a:lnTo>
                        <a:lnTo>
                          <a:pt x="573" y="751"/>
                        </a:lnTo>
                        <a:lnTo>
                          <a:pt x="609" y="727"/>
                        </a:lnTo>
                        <a:lnTo>
                          <a:pt x="641" y="697"/>
                        </a:lnTo>
                        <a:lnTo>
                          <a:pt x="670" y="666"/>
                        </a:lnTo>
                        <a:lnTo>
                          <a:pt x="694" y="632"/>
                        </a:lnTo>
                        <a:lnTo>
                          <a:pt x="717" y="594"/>
                        </a:lnTo>
                        <a:lnTo>
                          <a:pt x="737" y="559"/>
                        </a:lnTo>
                        <a:lnTo>
                          <a:pt x="750" y="516"/>
                        </a:lnTo>
                        <a:lnTo>
                          <a:pt x="762" y="473"/>
                        </a:lnTo>
                        <a:lnTo>
                          <a:pt x="768" y="429"/>
                        </a:lnTo>
                        <a:lnTo>
                          <a:pt x="771" y="384"/>
                        </a:lnTo>
                        <a:lnTo>
                          <a:pt x="764" y="384"/>
                        </a:lnTo>
                        <a:lnTo>
                          <a:pt x="762" y="339"/>
                        </a:lnTo>
                        <a:lnTo>
                          <a:pt x="755" y="296"/>
                        </a:lnTo>
                        <a:lnTo>
                          <a:pt x="746" y="254"/>
                        </a:lnTo>
                        <a:lnTo>
                          <a:pt x="730" y="213"/>
                        </a:lnTo>
                        <a:lnTo>
                          <a:pt x="712" y="173"/>
                        </a:lnTo>
                        <a:lnTo>
                          <a:pt x="690" y="137"/>
                        </a:lnTo>
                        <a:lnTo>
                          <a:pt x="665" y="104"/>
                        </a:lnTo>
                        <a:lnTo>
                          <a:pt x="636" y="72"/>
                        </a:lnTo>
                        <a:lnTo>
                          <a:pt x="605" y="43"/>
                        </a:lnTo>
                        <a:lnTo>
                          <a:pt x="571" y="18"/>
                        </a:lnTo>
                        <a:lnTo>
                          <a:pt x="542" y="0"/>
                        </a:lnTo>
                        <a:lnTo>
                          <a:pt x="544" y="0"/>
                        </a:lnTo>
                        <a:lnTo>
                          <a:pt x="547" y="0"/>
                        </a:lnTo>
                        <a:lnTo>
                          <a:pt x="549" y="0"/>
                        </a:lnTo>
                        <a:lnTo>
                          <a:pt x="551" y="0"/>
                        </a:lnTo>
                        <a:lnTo>
                          <a:pt x="551" y="0"/>
                        </a:lnTo>
                        <a:lnTo>
                          <a:pt x="551" y="0"/>
                        </a:lnTo>
                        <a:lnTo>
                          <a:pt x="553" y="0"/>
                        </a:lnTo>
                        <a:lnTo>
                          <a:pt x="553" y="0"/>
                        </a:lnTo>
                        <a:lnTo>
                          <a:pt x="573" y="14"/>
                        </a:lnTo>
                        <a:lnTo>
                          <a:pt x="609" y="39"/>
                        </a:lnTo>
                        <a:lnTo>
                          <a:pt x="641" y="68"/>
                        </a:lnTo>
                        <a:lnTo>
                          <a:pt x="670" y="99"/>
                        </a:lnTo>
                        <a:lnTo>
                          <a:pt x="694" y="135"/>
                        </a:lnTo>
                        <a:lnTo>
                          <a:pt x="717" y="171"/>
                        </a:lnTo>
                        <a:lnTo>
                          <a:pt x="737" y="209"/>
                        </a:lnTo>
                        <a:lnTo>
                          <a:pt x="750" y="251"/>
                        </a:lnTo>
                        <a:lnTo>
                          <a:pt x="762" y="294"/>
                        </a:lnTo>
                        <a:lnTo>
                          <a:pt x="768" y="339"/>
                        </a:lnTo>
                        <a:lnTo>
                          <a:pt x="771" y="384"/>
                        </a:lnTo>
                        <a:lnTo>
                          <a:pt x="764" y="384"/>
                        </a:lnTo>
                        <a:lnTo>
                          <a:pt x="762" y="429"/>
                        </a:lnTo>
                        <a:lnTo>
                          <a:pt x="755" y="473"/>
                        </a:lnTo>
                        <a:lnTo>
                          <a:pt x="746" y="516"/>
                        </a:lnTo>
                        <a:lnTo>
                          <a:pt x="730" y="556"/>
                        </a:lnTo>
                        <a:lnTo>
                          <a:pt x="712" y="592"/>
                        </a:lnTo>
                        <a:lnTo>
                          <a:pt x="690" y="628"/>
                        </a:lnTo>
                        <a:lnTo>
                          <a:pt x="665" y="662"/>
                        </a:lnTo>
                        <a:lnTo>
                          <a:pt x="636" y="693"/>
                        </a:lnTo>
                        <a:lnTo>
                          <a:pt x="605" y="722"/>
                        </a:lnTo>
                        <a:lnTo>
                          <a:pt x="571" y="747"/>
                        </a:lnTo>
                        <a:lnTo>
                          <a:pt x="538" y="769"/>
                        </a:lnTo>
                        <a:lnTo>
                          <a:pt x="497" y="787"/>
                        </a:lnTo>
                        <a:lnTo>
                          <a:pt x="457" y="803"/>
                        </a:lnTo>
                        <a:lnTo>
                          <a:pt x="414" y="814"/>
                        </a:lnTo>
                        <a:lnTo>
                          <a:pt x="372" y="821"/>
                        </a:lnTo>
                        <a:lnTo>
                          <a:pt x="327" y="823"/>
                        </a:lnTo>
                        <a:lnTo>
                          <a:pt x="282" y="821"/>
                        </a:lnTo>
                        <a:lnTo>
                          <a:pt x="237" y="814"/>
                        </a:lnTo>
                        <a:lnTo>
                          <a:pt x="195" y="803"/>
                        </a:lnTo>
                        <a:lnTo>
                          <a:pt x="154" y="787"/>
                        </a:lnTo>
                        <a:lnTo>
                          <a:pt x="116" y="769"/>
                        </a:lnTo>
                        <a:lnTo>
                          <a:pt x="80" y="747"/>
                        </a:lnTo>
                        <a:lnTo>
                          <a:pt x="47" y="722"/>
                        </a:lnTo>
                        <a:lnTo>
                          <a:pt x="15" y="693"/>
                        </a:lnTo>
                        <a:lnTo>
                          <a:pt x="0" y="677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66720" y="1527120"/>
                    <a:ext cx="1215720" cy="1309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6" h="825">
                        <a:moveTo>
                          <a:pt x="0" y="668"/>
                        </a:moveTo>
                        <a:lnTo>
                          <a:pt x="0" y="673"/>
                        </a:lnTo>
                        <a:lnTo>
                          <a:pt x="0" y="675"/>
                        </a:lnTo>
                        <a:lnTo>
                          <a:pt x="0" y="677"/>
                        </a:lnTo>
                        <a:lnTo>
                          <a:pt x="2" y="682"/>
                        </a:lnTo>
                        <a:lnTo>
                          <a:pt x="13" y="695"/>
                        </a:lnTo>
                        <a:lnTo>
                          <a:pt x="44" y="722"/>
                        </a:lnTo>
                        <a:lnTo>
                          <a:pt x="80" y="749"/>
                        </a:lnTo>
                        <a:lnTo>
                          <a:pt x="116" y="771"/>
                        </a:lnTo>
                        <a:lnTo>
                          <a:pt x="154" y="789"/>
                        </a:lnTo>
                        <a:lnTo>
                          <a:pt x="195" y="805"/>
                        </a:lnTo>
                        <a:lnTo>
                          <a:pt x="237" y="816"/>
                        </a:lnTo>
                        <a:lnTo>
                          <a:pt x="282" y="823"/>
                        </a:lnTo>
                        <a:lnTo>
                          <a:pt x="327" y="825"/>
                        </a:lnTo>
                        <a:lnTo>
                          <a:pt x="372" y="823"/>
                        </a:lnTo>
                        <a:lnTo>
                          <a:pt x="417" y="816"/>
                        </a:lnTo>
                        <a:lnTo>
                          <a:pt x="459" y="805"/>
                        </a:lnTo>
                        <a:lnTo>
                          <a:pt x="499" y="789"/>
                        </a:lnTo>
                        <a:lnTo>
                          <a:pt x="538" y="771"/>
                        </a:lnTo>
                        <a:lnTo>
                          <a:pt x="571" y="749"/>
                        </a:lnTo>
                        <a:lnTo>
                          <a:pt x="605" y="722"/>
                        </a:lnTo>
                        <a:lnTo>
                          <a:pt x="636" y="695"/>
                        </a:lnTo>
                        <a:lnTo>
                          <a:pt x="665" y="664"/>
                        </a:lnTo>
                        <a:lnTo>
                          <a:pt x="692" y="628"/>
                        </a:lnTo>
                        <a:lnTo>
                          <a:pt x="715" y="592"/>
                        </a:lnTo>
                        <a:lnTo>
                          <a:pt x="733" y="556"/>
                        </a:lnTo>
                        <a:lnTo>
                          <a:pt x="748" y="516"/>
                        </a:lnTo>
                        <a:lnTo>
                          <a:pt x="757" y="473"/>
                        </a:lnTo>
                        <a:lnTo>
                          <a:pt x="764" y="429"/>
                        </a:lnTo>
                        <a:lnTo>
                          <a:pt x="766" y="384"/>
                        </a:lnTo>
                        <a:lnTo>
                          <a:pt x="762" y="384"/>
                        </a:lnTo>
                        <a:lnTo>
                          <a:pt x="759" y="339"/>
                        </a:lnTo>
                        <a:lnTo>
                          <a:pt x="753" y="296"/>
                        </a:lnTo>
                        <a:lnTo>
                          <a:pt x="742" y="254"/>
                        </a:lnTo>
                        <a:lnTo>
                          <a:pt x="726" y="213"/>
                        </a:lnTo>
                        <a:lnTo>
                          <a:pt x="708" y="175"/>
                        </a:lnTo>
                        <a:lnTo>
                          <a:pt x="685" y="139"/>
                        </a:lnTo>
                        <a:lnTo>
                          <a:pt x="661" y="106"/>
                        </a:lnTo>
                        <a:lnTo>
                          <a:pt x="634" y="74"/>
                        </a:lnTo>
                        <a:lnTo>
                          <a:pt x="603" y="48"/>
                        </a:lnTo>
                        <a:lnTo>
                          <a:pt x="569" y="23"/>
                        </a:lnTo>
                        <a:lnTo>
                          <a:pt x="535" y="0"/>
                        </a:lnTo>
                        <a:lnTo>
                          <a:pt x="538" y="0"/>
                        </a:lnTo>
                        <a:lnTo>
                          <a:pt x="542" y="0"/>
                        </a:lnTo>
                        <a:lnTo>
                          <a:pt x="544" y="0"/>
                        </a:lnTo>
                        <a:lnTo>
                          <a:pt x="547" y="0"/>
                        </a:lnTo>
                        <a:lnTo>
                          <a:pt x="571" y="16"/>
                        </a:lnTo>
                        <a:lnTo>
                          <a:pt x="605" y="43"/>
                        </a:lnTo>
                        <a:lnTo>
                          <a:pt x="636" y="72"/>
                        </a:lnTo>
                        <a:lnTo>
                          <a:pt x="665" y="104"/>
                        </a:lnTo>
                        <a:lnTo>
                          <a:pt x="692" y="137"/>
                        </a:lnTo>
                        <a:lnTo>
                          <a:pt x="715" y="173"/>
                        </a:lnTo>
                        <a:lnTo>
                          <a:pt x="733" y="211"/>
                        </a:lnTo>
                        <a:lnTo>
                          <a:pt x="748" y="251"/>
                        </a:lnTo>
                        <a:lnTo>
                          <a:pt x="757" y="294"/>
                        </a:lnTo>
                        <a:lnTo>
                          <a:pt x="764" y="339"/>
                        </a:lnTo>
                        <a:lnTo>
                          <a:pt x="766" y="384"/>
                        </a:lnTo>
                        <a:lnTo>
                          <a:pt x="762" y="384"/>
                        </a:lnTo>
                        <a:lnTo>
                          <a:pt x="759" y="429"/>
                        </a:lnTo>
                        <a:lnTo>
                          <a:pt x="753" y="471"/>
                        </a:lnTo>
                        <a:lnTo>
                          <a:pt x="742" y="514"/>
                        </a:lnTo>
                        <a:lnTo>
                          <a:pt x="726" y="554"/>
                        </a:lnTo>
                        <a:lnTo>
                          <a:pt x="708" y="590"/>
                        </a:lnTo>
                        <a:lnTo>
                          <a:pt x="685" y="626"/>
                        </a:lnTo>
                        <a:lnTo>
                          <a:pt x="661" y="659"/>
                        </a:lnTo>
                        <a:lnTo>
                          <a:pt x="634" y="691"/>
                        </a:lnTo>
                        <a:lnTo>
                          <a:pt x="603" y="718"/>
                        </a:lnTo>
                        <a:lnTo>
                          <a:pt x="569" y="745"/>
                        </a:lnTo>
                        <a:lnTo>
                          <a:pt x="535" y="765"/>
                        </a:lnTo>
                        <a:lnTo>
                          <a:pt x="497" y="783"/>
                        </a:lnTo>
                        <a:lnTo>
                          <a:pt x="457" y="798"/>
                        </a:lnTo>
                        <a:lnTo>
                          <a:pt x="414" y="810"/>
                        </a:lnTo>
                        <a:lnTo>
                          <a:pt x="372" y="816"/>
                        </a:lnTo>
                        <a:lnTo>
                          <a:pt x="327" y="819"/>
                        </a:lnTo>
                        <a:lnTo>
                          <a:pt x="282" y="816"/>
                        </a:lnTo>
                        <a:lnTo>
                          <a:pt x="239" y="810"/>
                        </a:lnTo>
                        <a:lnTo>
                          <a:pt x="197" y="798"/>
                        </a:lnTo>
                        <a:lnTo>
                          <a:pt x="157" y="783"/>
                        </a:lnTo>
                        <a:lnTo>
                          <a:pt x="118" y="765"/>
                        </a:lnTo>
                        <a:lnTo>
                          <a:pt x="83" y="745"/>
                        </a:lnTo>
                        <a:lnTo>
                          <a:pt x="49" y="718"/>
                        </a:lnTo>
                        <a:lnTo>
                          <a:pt x="18" y="691"/>
                        </a:lnTo>
                        <a:lnTo>
                          <a:pt x="0" y="668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61680" y="1527120"/>
                    <a:ext cx="1217880" cy="1303200"/>
                  </a:xfrm>
                  <a:custGeom>
                    <a:avLst/>
                    <a:gdLst/>
                    <a:ahLst/>
                    <a:rect l="l" t="t" r="r" b="b"/>
                    <a:pathLst>
                      <a:path w="767" h="821">
                        <a:moveTo>
                          <a:pt x="0" y="662"/>
                        </a:moveTo>
                        <a:lnTo>
                          <a:pt x="0" y="664"/>
                        </a:lnTo>
                        <a:lnTo>
                          <a:pt x="0" y="666"/>
                        </a:lnTo>
                        <a:lnTo>
                          <a:pt x="3" y="671"/>
                        </a:lnTo>
                        <a:lnTo>
                          <a:pt x="3" y="673"/>
                        </a:lnTo>
                        <a:lnTo>
                          <a:pt x="21" y="691"/>
                        </a:lnTo>
                        <a:lnTo>
                          <a:pt x="50" y="720"/>
                        </a:lnTo>
                        <a:lnTo>
                          <a:pt x="86" y="745"/>
                        </a:lnTo>
                        <a:lnTo>
                          <a:pt x="121" y="767"/>
                        </a:lnTo>
                        <a:lnTo>
                          <a:pt x="160" y="785"/>
                        </a:lnTo>
                        <a:lnTo>
                          <a:pt x="200" y="801"/>
                        </a:lnTo>
                        <a:lnTo>
                          <a:pt x="240" y="812"/>
                        </a:lnTo>
                        <a:lnTo>
                          <a:pt x="285" y="819"/>
                        </a:lnTo>
                        <a:lnTo>
                          <a:pt x="330" y="821"/>
                        </a:lnTo>
                        <a:lnTo>
                          <a:pt x="375" y="819"/>
                        </a:lnTo>
                        <a:lnTo>
                          <a:pt x="417" y="812"/>
                        </a:lnTo>
                        <a:lnTo>
                          <a:pt x="460" y="801"/>
                        </a:lnTo>
                        <a:lnTo>
                          <a:pt x="500" y="785"/>
                        </a:lnTo>
                        <a:lnTo>
                          <a:pt x="538" y="767"/>
                        </a:lnTo>
                        <a:lnTo>
                          <a:pt x="572" y="745"/>
                        </a:lnTo>
                        <a:lnTo>
                          <a:pt x="606" y="720"/>
                        </a:lnTo>
                        <a:lnTo>
                          <a:pt x="637" y="691"/>
                        </a:lnTo>
                        <a:lnTo>
                          <a:pt x="666" y="662"/>
                        </a:lnTo>
                        <a:lnTo>
                          <a:pt x="691" y="626"/>
                        </a:lnTo>
                        <a:lnTo>
                          <a:pt x="713" y="590"/>
                        </a:lnTo>
                        <a:lnTo>
                          <a:pt x="731" y="554"/>
                        </a:lnTo>
                        <a:lnTo>
                          <a:pt x="747" y="514"/>
                        </a:lnTo>
                        <a:lnTo>
                          <a:pt x="758" y="471"/>
                        </a:lnTo>
                        <a:lnTo>
                          <a:pt x="762" y="429"/>
                        </a:lnTo>
                        <a:lnTo>
                          <a:pt x="767" y="384"/>
                        </a:lnTo>
                        <a:lnTo>
                          <a:pt x="760" y="384"/>
                        </a:lnTo>
                        <a:lnTo>
                          <a:pt x="758" y="339"/>
                        </a:lnTo>
                        <a:lnTo>
                          <a:pt x="751" y="296"/>
                        </a:lnTo>
                        <a:lnTo>
                          <a:pt x="740" y="256"/>
                        </a:lnTo>
                        <a:lnTo>
                          <a:pt x="727" y="216"/>
                        </a:lnTo>
                        <a:lnTo>
                          <a:pt x="706" y="178"/>
                        </a:lnTo>
                        <a:lnTo>
                          <a:pt x="686" y="142"/>
                        </a:lnTo>
                        <a:lnTo>
                          <a:pt x="662" y="108"/>
                        </a:lnTo>
                        <a:lnTo>
                          <a:pt x="632" y="79"/>
                        </a:lnTo>
                        <a:lnTo>
                          <a:pt x="601" y="50"/>
                        </a:lnTo>
                        <a:lnTo>
                          <a:pt x="570" y="25"/>
                        </a:lnTo>
                        <a:lnTo>
                          <a:pt x="536" y="5"/>
                        </a:lnTo>
                        <a:lnTo>
                          <a:pt x="529" y="0"/>
                        </a:lnTo>
                        <a:lnTo>
                          <a:pt x="534" y="0"/>
                        </a:lnTo>
                        <a:lnTo>
                          <a:pt x="536" y="0"/>
                        </a:lnTo>
                        <a:lnTo>
                          <a:pt x="538" y="0"/>
                        </a:lnTo>
                        <a:lnTo>
                          <a:pt x="543" y="0"/>
                        </a:lnTo>
                        <a:lnTo>
                          <a:pt x="572" y="21"/>
                        </a:lnTo>
                        <a:lnTo>
                          <a:pt x="606" y="45"/>
                        </a:lnTo>
                        <a:lnTo>
                          <a:pt x="637" y="74"/>
                        </a:lnTo>
                        <a:lnTo>
                          <a:pt x="666" y="106"/>
                        </a:lnTo>
                        <a:lnTo>
                          <a:pt x="691" y="139"/>
                        </a:lnTo>
                        <a:lnTo>
                          <a:pt x="713" y="175"/>
                        </a:lnTo>
                        <a:lnTo>
                          <a:pt x="731" y="213"/>
                        </a:lnTo>
                        <a:lnTo>
                          <a:pt x="747" y="254"/>
                        </a:lnTo>
                        <a:lnTo>
                          <a:pt x="758" y="296"/>
                        </a:lnTo>
                        <a:lnTo>
                          <a:pt x="762" y="339"/>
                        </a:lnTo>
                        <a:lnTo>
                          <a:pt x="767" y="384"/>
                        </a:lnTo>
                        <a:lnTo>
                          <a:pt x="760" y="384"/>
                        </a:lnTo>
                        <a:lnTo>
                          <a:pt x="758" y="429"/>
                        </a:lnTo>
                        <a:lnTo>
                          <a:pt x="751" y="471"/>
                        </a:lnTo>
                        <a:lnTo>
                          <a:pt x="740" y="511"/>
                        </a:lnTo>
                        <a:lnTo>
                          <a:pt x="727" y="552"/>
                        </a:lnTo>
                        <a:lnTo>
                          <a:pt x="706" y="588"/>
                        </a:lnTo>
                        <a:lnTo>
                          <a:pt x="686" y="624"/>
                        </a:lnTo>
                        <a:lnTo>
                          <a:pt x="662" y="657"/>
                        </a:lnTo>
                        <a:lnTo>
                          <a:pt x="632" y="686"/>
                        </a:lnTo>
                        <a:lnTo>
                          <a:pt x="601" y="715"/>
                        </a:lnTo>
                        <a:lnTo>
                          <a:pt x="570" y="740"/>
                        </a:lnTo>
                        <a:lnTo>
                          <a:pt x="536" y="762"/>
                        </a:lnTo>
                        <a:lnTo>
                          <a:pt x="498" y="780"/>
                        </a:lnTo>
                        <a:lnTo>
                          <a:pt x="458" y="794"/>
                        </a:lnTo>
                        <a:lnTo>
                          <a:pt x="417" y="805"/>
                        </a:lnTo>
                        <a:lnTo>
                          <a:pt x="375" y="812"/>
                        </a:lnTo>
                        <a:lnTo>
                          <a:pt x="330" y="814"/>
                        </a:lnTo>
                        <a:lnTo>
                          <a:pt x="285" y="812"/>
                        </a:lnTo>
                        <a:lnTo>
                          <a:pt x="242" y="805"/>
                        </a:lnTo>
                        <a:lnTo>
                          <a:pt x="202" y="794"/>
                        </a:lnTo>
                        <a:lnTo>
                          <a:pt x="162" y="780"/>
                        </a:lnTo>
                        <a:lnTo>
                          <a:pt x="124" y="762"/>
                        </a:lnTo>
                        <a:lnTo>
                          <a:pt x="88" y="740"/>
                        </a:lnTo>
                        <a:lnTo>
                          <a:pt x="54" y="715"/>
                        </a:lnTo>
                        <a:lnTo>
                          <a:pt x="25" y="686"/>
                        </a:lnTo>
                        <a:lnTo>
                          <a:pt x="0" y="662"/>
                        </a:lnTo>
                        <a:close/>
                      </a:path>
                    </a:pathLst>
                  </a:custGeom>
                  <a:solidFill>
                    <a:srgbClr val="eed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58800" y="1527120"/>
                    <a:ext cx="1212840" cy="12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4" h="816">
                        <a:moveTo>
                          <a:pt x="0" y="653"/>
                        </a:moveTo>
                        <a:lnTo>
                          <a:pt x="0" y="657"/>
                        </a:lnTo>
                        <a:lnTo>
                          <a:pt x="2" y="659"/>
                        </a:lnTo>
                        <a:lnTo>
                          <a:pt x="2" y="662"/>
                        </a:lnTo>
                        <a:lnTo>
                          <a:pt x="2" y="664"/>
                        </a:lnTo>
                        <a:lnTo>
                          <a:pt x="25" y="689"/>
                        </a:lnTo>
                        <a:lnTo>
                          <a:pt x="56" y="718"/>
                        </a:lnTo>
                        <a:lnTo>
                          <a:pt x="90" y="742"/>
                        </a:lnTo>
                        <a:lnTo>
                          <a:pt x="126" y="762"/>
                        </a:lnTo>
                        <a:lnTo>
                          <a:pt x="162" y="783"/>
                        </a:lnTo>
                        <a:lnTo>
                          <a:pt x="202" y="796"/>
                        </a:lnTo>
                        <a:lnTo>
                          <a:pt x="244" y="807"/>
                        </a:lnTo>
                        <a:lnTo>
                          <a:pt x="287" y="814"/>
                        </a:lnTo>
                        <a:lnTo>
                          <a:pt x="332" y="816"/>
                        </a:lnTo>
                        <a:lnTo>
                          <a:pt x="377" y="814"/>
                        </a:lnTo>
                        <a:lnTo>
                          <a:pt x="419" y="807"/>
                        </a:lnTo>
                        <a:lnTo>
                          <a:pt x="460" y="796"/>
                        </a:lnTo>
                        <a:lnTo>
                          <a:pt x="500" y="783"/>
                        </a:lnTo>
                        <a:lnTo>
                          <a:pt x="538" y="762"/>
                        </a:lnTo>
                        <a:lnTo>
                          <a:pt x="572" y="742"/>
                        </a:lnTo>
                        <a:lnTo>
                          <a:pt x="605" y="718"/>
                        </a:lnTo>
                        <a:lnTo>
                          <a:pt x="637" y="689"/>
                        </a:lnTo>
                        <a:lnTo>
                          <a:pt x="664" y="657"/>
                        </a:lnTo>
                        <a:lnTo>
                          <a:pt x="690" y="624"/>
                        </a:lnTo>
                        <a:lnTo>
                          <a:pt x="711" y="588"/>
                        </a:lnTo>
                        <a:lnTo>
                          <a:pt x="729" y="552"/>
                        </a:lnTo>
                        <a:lnTo>
                          <a:pt x="744" y="514"/>
                        </a:lnTo>
                        <a:lnTo>
                          <a:pt x="755" y="471"/>
                        </a:lnTo>
                        <a:lnTo>
                          <a:pt x="762" y="429"/>
                        </a:lnTo>
                        <a:lnTo>
                          <a:pt x="764" y="384"/>
                        </a:lnTo>
                        <a:lnTo>
                          <a:pt x="758" y="384"/>
                        </a:lnTo>
                        <a:lnTo>
                          <a:pt x="755" y="341"/>
                        </a:lnTo>
                        <a:lnTo>
                          <a:pt x="749" y="299"/>
                        </a:lnTo>
                        <a:lnTo>
                          <a:pt x="738" y="256"/>
                        </a:lnTo>
                        <a:lnTo>
                          <a:pt x="724" y="218"/>
                        </a:lnTo>
                        <a:lnTo>
                          <a:pt x="706" y="180"/>
                        </a:lnTo>
                        <a:lnTo>
                          <a:pt x="684" y="144"/>
                        </a:lnTo>
                        <a:lnTo>
                          <a:pt x="659" y="113"/>
                        </a:lnTo>
                        <a:lnTo>
                          <a:pt x="632" y="81"/>
                        </a:lnTo>
                        <a:lnTo>
                          <a:pt x="601" y="54"/>
                        </a:lnTo>
                        <a:lnTo>
                          <a:pt x="569" y="30"/>
                        </a:lnTo>
                        <a:lnTo>
                          <a:pt x="536" y="7"/>
                        </a:lnTo>
                        <a:lnTo>
                          <a:pt x="522" y="3"/>
                        </a:lnTo>
                        <a:lnTo>
                          <a:pt x="527" y="0"/>
                        </a:lnTo>
                        <a:lnTo>
                          <a:pt x="529" y="0"/>
                        </a:lnTo>
                        <a:lnTo>
                          <a:pt x="534" y="0"/>
                        </a:lnTo>
                        <a:lnTo>
                          <a:pt x="536" y="0"/>
                        </a:lnTo>
                        <a:lnTo>
                          <a:pt x="538" y="3"/>
                        </a:lnTo>
                        <a:lnTo>
                          <a:pt x="572" y="23"/>
                        </a:lnTo>
                        <a:lnTo>
                          <a:pt x="605" y="50"/>
                        </a:lnTo>
                        <a:lnTo>
                          <a:pt x="637" y="77"/>
                        </a:lnTo>
                        <a:lnTo>
                          <a:pt x="664" y="108"/>
                        </a:lnTo>
                        <a:lnTo>
                          <a:pt x="690" y="142"/>
                        </a:lnTo>
                        <a:lnTo>
                          <a:pt x="711" y="178"/>
                        </a:lnTo>
                        <a:lnTo>
                          <a:pt x="729" y="216"/>
                        </a:lnTo>
                        <a:lnTo>
                          <a:pt x="744" y="256"/>
                        </a:lnTo>
                        <a:lnTo>
                          <a:pt x="755" y="296"/>
                        </a:lnTo>
                        <a:lnTo>
                          <a:pt x="762" y="339"/>
                        </a:lnTo>
                        <a:lnTo>
                          <a:pt x="764" y="384"/>
                        </a:lnTo>
                        <a:lnTo>
                          <a:pt x="758" y="384"/>
                        </a:lnTo>
                        <a:lnTo>
                          <a:pt x="755" y="429"/>
                        </a:lnTo>
                        <a:lnTo>
                          <a:pt x="749" y="471"/>
                        </a:lnTo>
                        <a:lnTo>
                          <a:pt x="738" y="511"/>
                        </a:lnTo>
                        <a:lnTo>
                          <a:pt x="724" y="550"/>
                        </a:lnTo>
                        <a:lnTo>
                          <a:pt x="706" y="585"/>
                        </a:lnTo>
                        <a:lnTo>
                          <a:pt x="684" y="621"/>
                        </a:lnTo>
                        <a:lnTo>
                          <a:pt x="659" y="655"/>
                        </a:lnTo>
                        <a:lnTo>
                          <a:pt x="632" y="684"/>
                        </a:lnTo>
                        <a:lnTo>
                          <a:pt x="601" y="711"/>
                        </a:lnTo>
                        <a:lnTo>
                          <a:pt x="569" y="736"/>
                        </a:lnTo>
                        <a:lnTo>
                          <a:pt x="536" y="758"/>
                        </a:lnTo>
                        <a:lnTo>
                          <a:pt x="498" y="776"/>
                        </a:lnTo>
                        <a:lnTo>
                          <a:pt x="460" y="789"/>
                        </a:lnTo>
                        <a:lnTo>
                          <a:pt x="417" y="801"/>
                        </a:lnTo>
                        <a:lnTo>
                          <a:pt x="374" y="807"/>
                        </a:lnTo>
                        <a:lnTo>
                          <a:pt x="332" y="810"/>
                        </a:lnTo>
                        <a:lnTo>
                          <a:pt x="287" y="807"/>
                        </a:lnTo>
                        <a:lnTo>
                          <a:pt x="244" y="801"/>
                        </a:lnTo>
                        <a:lnTo>
                          <a:pt x="204" y="789"/>
                        </a:lnTo>
                        <a:lnTo>
                          <a:pt x="166" y="776"/>
                        </a:lnTo>
                        <a:lnTo>
                          <a:pt x="128" y="758"/>
                        </a:lnTo>
                        <a:lnTo>
                          <a:pt x="92" y="736"/>
                        </a:lnTo>
                        <a:lnTo>
                          <a:pt x="58" y="711"/>
                        </a:lnTo>
                        <a:lnTo>
                          <a:pt x="29" y="684"/>
                        </a:lnTo>
                        <a:lnTo>
                          <a:pt x="2" y="655"/>
                        </a:lnTo>
                        <a:lnTo>
                          <a:pt x="0" y="653"/>
                        </a:lnTo>
                        <a:close/>
                      </a:path>
                    </a:pathLst>
                  </a:custGeom>
                  <a:solidFill>
                    <a:srgbClr val="eed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58800" y="1527120"/>
                    <a:ext cx="1206360" cy="12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760" h="812">
                        <a:moveTo>
                          <a:pt x="0" y="644"/>
                        </a:moveTo>
                        <a:lnTo>
                          <a:pt x="0" y="648"/>
                        </a:lnTo>
                        <a:lnTo>
                          <a:pt x="0" y="650"/>
                        </a:lnTo>
                        <a:lnTo>
                          <a:pt x="0" y="655"/>
                        </a:lnTo>
                        <a:lnTo>
                          <a:pt x="2" y="657"/>
                        </a:lnTo>
                        <a:lnTo>
                          <a:pt x="27" y="686"/>
                        </a:lnTo>
                        <a:lnTo>
                          <a:pt x="58" y="713"/>
                        </a:lnTo>
                        <a:lnTo>
                          <a:pt x="92" y="738"/>
                        </a:lnTo>
                        <a:lnTo>
                          <a:pt x="126" y="760"/>
                        </a:lnTo>
                        <a:lnTo>
                          <a:pt x="164" y="778"/>
                        </a:lnTo>
                        <a:lnTo>
                          <a:pt x="204" y="792"/>
                        </a:lnTo>
                        <a:lnTo>
                          <a:pt x="244" y="803"/>
                        </a:lnTo>
                        <a:lnTo>
                          <a:pt x="287" y="810"/>
                        </a:lnTo>
                        <a:lnTo>
                          <a:pt x="332" y="812"/>
                        </a:lnTo>
                        <a:lnTo>
                          <a:pt x="374" y="810"/>
                        </a:lnTo>
                        <a:lnTo>
                          <a:pt x="419" y="803"/>
                        </a:lnTo>
                        <a:lnTo>
                          <a:pt x="460" y="792"/>
                        </a:lnTo>
                        <a:lnTo>
                          <a:pt x="500" y="778"/>
                        </a:lnTo>
                        <a:lnTo>
                          <a:pt x="536" y="760"/>
                        </a:lnTo>
                        <a:lnTo>
                          <a:pt x="569" y="738"/>
                        </a:lnTo>
                        <a:lnTo>
                          <a:pt x="603" y="713"/>
                        </a:lnTo>
                        <a:lnTo>
                          <a:pt x="634" y="686"/>
                        </a:lnTo>
                        <a:lnTo>
                          <a:pt x="661" y="655"/>
                        </a:lnTo>
                        <a:lnTo>
                          <a:pt x="686" y="621"/>
                        </a:lnTo>
                        <a:lnTo>
                          <a:pt x="708" y="588"/>
                        </a:lnTo>
                        <a:lnTo>
                          <a:pt x="726" y="552"/>
                        </a:lnTo>
                        <a:lnTo>
                          <a:pt x="740" y="511"/>
                        </a:lnTo>
                        <a:lnTo>
                          <a:pt x="751" y="471"/>
                        </a:lnTo>
                        <a:lnTo>
                          <a:pt x="758" y="429"/>
                        </a:lnTo>
                        <a:lnTo>
                          <a:pt x="760" y="384"/>
                        </a:lnTo>
                        <a:lnTo>
                          <a:pt x="753" y="384"/>
                        </a:lnTo>
                        <a:lnTo>
                          <a:pt x="751" y="341"/>
                        </a:lnTo>
                        <a:lnTo>
                          <a:pt x="744" y="299"/>
                        </a:lnTo>
                        <a:lnTo>
                          <a:pt x="733" y="258"/>
                        </a:lnTo>
                        <a:lnTo>
                          <a:pt x="720" y="220"/>
                        </a:lnTo>
                        <a:lnTo>
                          <a:pt x="702" y="182"/>
                        </a:lnTo>
                        <a:lnTo>
                          <a:pt x="682" y="146"/>
                        </a:lnTo>
                        <a:lnTo>
                          <a:pt x="657" y="115"/>
                        </a:lnTo>
                        <a:lnTo>
                          <a:pt x="630" y="83"/>
                        </a:lnTo>
                        <a:lnTo>
                          <a:pt x="599" y="56"/>
                        </a:lnTo>
                        <a:lnTo>
                          <a:pt x="567" y="32"/>
                        </a:lnTo>
                        <a:lnTo>
                          <a:pt x="534" y="12"/>
                        </a:lnTo>
                        <a:lnTo>
                          <a:pt x="513" y="3"/>
                        </a:lnTo>
                        <a:lnTo>
                          <a:pt x="518" y="3"/>
                        </a:lnTo>
                        <a:lnTo>
                          <a:pt x="520" y="3"/>
                        </a:lnTo>
                        <a:lnTo>
                          <a:pt x="525" y="0"/>
                        </a:lnTo>
                        <a:lnTo>
                          <a:pt x="527" y="0"/>
                        </a:lnTo>
                        <a:lnTo>
                          <a:pt x="536" y="5"/>
                        </a:lnTo>
                        <a:lnTo>
                          <a:pt x="569" y="27"/>
                        </a:lnTo>
                        <a:lnTo>
                          <a:pt x="603" y="52"/>
                        </a:lnTo>
                        <a:lnTo>
                          <a:pt x="634" y="79"/>
                        </a:lnTo>
                        <a:lnTo>
                          <a:pt x="661" y="110"/>
                        </a:lnTo>
                        <a:lnTo>
                          <a:pt x="686" y="144"/>
                        </a:lnTo>
                        <a:lnTo>
                          <a:pt x="708" y="180"/>
                        </a:lnTo>
                        <a:lnTo>
                          <a:pt x="726" y="216"/>
                        </a:lnTo>
                        <a:lnTo>
                          <a:pt x="740" y="256"/>
                        </a:lnTo>
                        <a:lnTo>
                          <a:pt x="751" y="296"/>
                        </a:lnTo>
                        <a:lnTo>
                          <a:pt x="758" y="341"/>
                        </a:lnTo>
                        <a:lnTo>
                          <a:pt x="760" y="384"/>
                        </a:lnTo>
                        <a:lnTo>
                          <a:pt x="753" y="384"/>
                        </a:lnTo>
                        <a:lnTo>
                          <a:pt x="751" y="426"/>
                        </a:lnTo>
                        <a:lnTo>
                          <a:pt x="744" y="469"/>
                        </a:lnTo>
                        <a:lnTo>
                          <a:pt x="733" y="509"/>
                        </a:lnTo>
                        <a:lnTo>
                          <a:pt x="720" y="550"/>
                        </a:lnTo>
                        <a:lnTo>
                          <a:pt x="702" y="583"/>
                        </a:lnTo>
                        <a:lnTo>
                          <a:pt x="682" y="619"/>
                        </a:lnTo>
                        <a:lnTo>
                          <a:pt x="657" y="650"/>
                        </a:lnTo>
                        <a:lnTo>
                          <a:pt x="630" y="682"/>
                        </a:lnTo>
                        <a:lnTo>
                          <a:pt x="599" y="709"/>
                        </a:lnTo>
                        <a:lnTo>
                          <a:pt x="567" y="733"/>
                        </a:lnTo>
                        <a:lnTo>
                          <a:pt x="534" y="754"/>
                        </a:lnTo>
                        <a:lnTo>
                          <a:pt x="495" y="771"/>
                        </a:lnTo>
                        <a:lnTo>
                          <a:pt x="457" y="787"/>
                        </a:lnTo>
                        <a:lnTo>
                          <a:pt x="417" y="796"/>
                        </a:lnTo>
                        <a:lnTo>
                          <a:pt x="374" y="803"/>
                        </a:lnTo>
                        <a:lnTo>
                          <a:pt x="332" y="805"/>
                        </a:lnTo>
                        <a:lnTo>
                          <a:pt x="289" y="803"/>
                        </a:lnTo>
                        <a:lnTo>
                          <a:pt x="247" y="796"/>
                        </a:lnTo>
                        <a:lnTo>
                          <a:pt x="206" y="787"/>
                        </a:lnTo>
                        <a:lnTo>
                          <a:pt x="166" y="771"/>
                        </a:lnTo>
                        <a:lnTo>
                          <a:pt x="130" y="754"/>
                        </a:lnTo>
                        <a:lnTo>
                          <a:pt x="94" y="733"/>
                        </a:lnTo>
                        <a:lnTo>
                          <a:pt x="63" y="709"/>
                        </a:lnTo>
                        <a:lnTo>
                          <a:pt x="32" y="682"/>
                        </a:lnTo>
                        <a:lnTo>
                          <a:pt x="5" y="650"/>
                        </a:lnTo>
                        <a:lnTo>
                          <a:pt x="0" y="644"/>
                        </a:lnTo>
                        <a:close/>
                      </a:path>
                    </a:pathLst>
                  </a:custGeom>
                  <a:solidFill>
                    <a:srgbClr val="eed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55560" y="1531800"/>
                    <a:ext cx="1201680" cy="12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7" h="804">
                        <a:moveTo>
                          <a:pt x="0" y="632"/>
                        </a:moveTo>
                        <a:lnTo>
                          <a:pt x="0" y="636"/>
                        </a:lnTo>
                        <a:lnTo>
                          <a:pt x="0" y="638"/>
                        </a:lnTo>
                        <a:lnTo>
                          <a:pt x="2" y="643"/>
                        </a:lnTo>
                        <a:lnTo>
                          <a:pt x="2" y="645"/>
                        </a:lnTo>
                        <a:lnTo>
                          <a:pt x="4" y="650"/>
                        </a:lnTo>
                        <a:lnTo>
                          <a:pt x="34" y="679"/>
                        </a:lnTo>
                        <a:lnTo>
                          <a:pt x="63" y="708"/>
                        </a:lnTo>
                        <a:lnTo>
                          <a:pt x="96" y="733"/>
                        </a:lnTo>
                        <a:lnTo>
                          <a:pt x="130" y="753"/>
                        </a:lnTo>
                        <a:lnTo>
                          <a:pt x="168" y="771"/>
                        </a:lnTo>
                        <a:lnTo>
                          <a:pt x="206" y="784"/>
                        </a:lnTo>
                        <a:lnTo>
                          <a:pt x="249" y="795"/>
                        </a:lnTo>
                        <a:lnTo>
                          <a:pt x="289" y="802"/>
                        </a:lnTo>
                        <a:lnTo>
                          <a:pt x="334" y="804"/>
                        </a:lnTo>
                        <a:lnTo>
                          <a:pt x="376" y="802"/>
                        </a:lnTo>
                        <a:lnTo>
                          <a:pt x="419" y="795"/>
                        </a:lnTo>
                        <a:lnTo>
                          <a:pt x="459" y="784"/>
                        </a:lnTo>
                        <a:lnTo>
                          <a:pt x="500" y="771"/>
                        </a:lnTo>
                        <a:lnTo>
                          <a:pt x="536" y="753"/>
                        </a:lnTo>
                        <a:lnTo>
                          <a:pt x="569" y="733"/>
                        </a:lnTo>
                        <a:lnTo>
                          <a:pt x="603" y="708"/>
                        </a:lnTo>
                        <a:lnTo>
                          <a:pt x="632" y="679"/>
                        </a:lnTo>
                        <a:lnTo>
                          <a:pt x="659" y="650"/>
                        </a:lnTo>
                        <a:lnTo>
                          <a:pt x="684" y="616"/>
                        </a:lnTo>
                        <a:lnTo>
                          <a:pt x="706" y="582"/>
                        </a:lnTo>
                        <a:lnTo>
                          <a:pt x="724" y="547"/>
                        </a:lnTo>
                        <a:lnTo>
                          <a:pt x="737" y="508"/>
                        </a:lnTo>
                        <a:lnTo>
                          <a:pt x="749" y="466"/>
                        </a:lnTo>
                        <a:lnTo>
                          <a:pt x="755" y="426"/>
                        </a:lnTo>
                        <a:lnTo>
                          <a:pt x="757" y="381"/>
                        </a:lnTo>
                        <a:lnTo>
                          <a:pt x="751" y="381"/>
                        </a:lnTo>
                        <a:lnTo>
                          <a:pt x="749" y="338"/>
                        </a:lnTo>
                        <a:lnTo>
                          <a:pt x="742" y="296"/>
                        </a:lnTo>
                        <a:lnTo>
                          <a:pt x="733" y="255"/>
                        </a:lnTo>
                        <a:lnTo>
                          <a:pt x="717" y="217"/>
                        </a:lnTo>
                        <a:lnTo>
                          <a:pt x="699" y="181"/>
                        </a:lnTo>
                        <a:lnTo>
                          <a:pt x="679" y="145"/>
                        </a:lnTo>
                        <a:lnTo>
                          <a:pt x="654" y="114"/>
                        </a:lnTo>
                        <a:lnTo>
                          <a:pt x="627" y="85"/>
                        </a:lnTo>
                        <a:lnTo>
                          <a:pt x="598" y="58"/>
                        </a:lnTo>
                        <a:lnTo>
                          <a:pt x="565" y="33"/>
                        </a:lnTo>
                        <a:lnTo>
                          <a:pt x="533" y="13"/>
                        </a:lnTo>
                        <a:lnTo>
                          <a:pt x="509" y="0"/>
                        </a:lnTo>
                        <a:lnTo>
                          <a:pt x="511" y="0"/>
                        </a:lnTo>
                        <a:lnTo>
                          <a:pt x="513" y="0"/>
                        </a:lnTo>
                        <a:lnTo>
                          <a:pt x="518" y="0"/>
                        </a:lnTo>
                        <a:lnTo>
                          <a:pt x="520" y="0"/>
                        </a:lnTo>
                        <a:lnTo>
                          <a:pt x="536" y="6"/>
                        </a:lnTo>
                        <a:lnTo>
                          <a:pt x="569" y="29"/>
                        </a:lnTo>
                        <a:lnTo>
                          <a:pt x="603" y="53"/>
                        </a:lnTo>
                        <a:lnTo>
                          <a:pt x="632" y="80"/>
                        </a:lnTo>
                        <a:lnTo>
                          <a:pt x="659" y="110"/>
                        </a:lnTo>
                        <a:lnTo>
                          <a:pt x="684" y="143"/>
                        </a:lnTo>
                        <a:lnTo>
                          <a:pt x="706" y="179"/>
                        </a:lnTo>
                        <a:lnTo>
                          <a:pt x="724" y="215"/>
                        </a:lnTo>
                        <a:lnTo>
                          <a:pt x="737" y="255"/>
                        </a:lnTo>
                        <a:lnTo>
                          <a:pt x="749" y="296"/>
                        </a:lnTo>
                        <a:lnTo>
                          <a:pt x="755" y="338"/>
                        </a:lnTo>
                        <a:lnTo>
                          <a:pt x="757" y="381"/>
                        </a:lnTo>
                        <a:lnTo>
                          <a:pt x="751" y="381"/>
                        </a:lnTo>
                        <a:lnTo>
                          <a:pt x="749" y="423"/>
                        </a:lnTo>
                        <a:lnTo>
                          <a:pt x="742" y="466"/>
                        </a:lnTo>
                        <a:lnTo>
                          <a:pt x="733" y="506"/>
                        </a:lnTo>
                        <a:lnTo>
                          <a:pt x="717" y="544"/>
                        </a:lnTo>
                        <a:lnTo>
                          <a:pt x="699" y="578"/>
                        </a:lnTo>
                        <a:lnTo>
                          <a:pt x="679" y="614"/>
                        </a:lnTo>
                        <a:lnTo>
                          <a:pt x="654" y="645"/>
                        </a:lnTo>
                        <a:lnTo>
                          <a:pt x="627" y="674"/>
                        </a:lnTo>
                        <a:lnTo>
                          <a:pt x="598" y="701"/>
                        </a:lnTo>
                        <a:lnTo>
                          <a:pt x="565" y="726"/>
                        </a:lnTo>
                        <a:lnTo>
                          <a:pt x="533" y="748"/>
                        </a:lnTo>
                        <a:lnTo>
                          <a:pt x="497" y="766"/>
                        </a:lnTo>
                        <a:lnTo>
                          <a:pt x="459" y="780"/>
                        </a:lnTo>
                        <a:lnTo>
                          <a:pt x="419" y="789"/>
                        </a:lnTo>
                        <a:lnTo>
                          <a:pt x="376" y="795"/>
                        </a:lnTo>
                        <a:lnTo>
                          <a:pt x="334" y="798"/>
                        </a:lnTo>
                        <a:lnTo>
                          <a:pt x="291" y="795"/>
                        </a:lnTo>
                        <a:lnTo>
                          <a:pt x="249" y="789"/>
                        </a:lnTo>
                        <a:lnTo>
                          <a:pt x="208" y="780"/>
                        </a:lnTo>
                        <a:lnTo>
                          <a:pt x="170" y="766"/>
                        </a:lnTo>
                        <a:lnTo>
                          <a:pt x="134" y="748"/>
                        </a:lnTo>
                        <a:lnTo>
                          <a:pt x="99" y="726"/>
                        </a:lnTo>
                        <a:lnTo>
                          <a:pt x="67" y="701"/>
                        </a:lnTo>
                        <a:lnTo>
                          <a:pt x="38" y="674"/>
                        </a:lnTo>
                        <a:lnTo>
                          <a:pt x="11" y="645"/>
                        </a:lnTo>
                        <a:lnTo>
                          <a:pt x="0" y="632"/>
                        </a:lnTo>
                        <a:close/>
                      </a:path>
                    </a:pathLst>
                  </a:custGeom>
                  <a:solidFill>
                    <a:srgbClr val="eed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55560" y="1531800"/>
                    <a:ext cx="1195200" cy="12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753" h="800">
                        <a:moveTo>
                          <a:pt x="0" y="623"/>
                        </a:moveTo>
                        <a:lnTo>
                          <a:pt x="0" y="627"/>
                        </a:lnTo>
                        <a:lnTo>
                          <a:pt x="0" y="629"/>
                        </a:lnTo>
                        <a:lnTo>
                          <a:pt x="0" y="634"/>
                        </a:lnTo>
                        <a:lnTo>
                          <a:pt x="0" y="636"/>
                        </a:lnTo>
                        <a:lnTo>
                          <a:pt x="9" y="647"/>
                        </a:lnTo>
                        <a:lnTo>
                          <a:pt x="36" y="677"/>
                        </a:lnTo>
                        <a:lnTo>
                          <a:pt x="65" y="703"/>
                        </a:lnTo>
                        <a:lnTo>
                          <a:pt x="99" y="728"/>
                        </a:lnTo>
                        <a:lnTo>
                          <a:pt x="132" y="748"/>
                        </a:lnTo>
                        <a:lnTo>
                          <a:pt x="170" y="766"/>
                        </a:lnTo>
                        <a:lnTo>
                          <a:pt x="208" y="782"/>
                        </a:lnTo>
                        <a:lnTo>
                          <a:pt x="249" y="791"/>
                        </a:lnTo>
                        <a:lnTo>
                          <a:pt x="291" y="798"/>
                        </a:lnTo>
                        <a:lnTo>
                          <a:pt x="334" y="800"/>
                        </a:lnTo>
                        <a:lnTo>
                          <a:pt x="376" y="798"/>
                        </a:lnTo>
                        <a:lnTo>
                          <a:pt x="419" y="791"/>
                        </a:lnTo>
                        <a:lnTo>
                          <a:pt x="459" y="782"/>
                        </a:lnTo>
                        <a:lnTo>
                          <a:pt x="497" y="766"/>
                        </a:lnTo>
                        <a:lnTo>
                          <a:pt x="536" y="748"/>
                        </a:lnTo>
                        <a:lnTo>
                          <a:pt x="567" y="728"/>
                        </a:lnTo>
                        <a:lnTo>
                          <a:pt x="598" y="703"/>
                        </a:lnTo>
                        <a:lnTo>
                          <a:pt x="630" y="677"/>
                        </a:lnTo>
                        <a:lnTo>
                          <a:pt x="657" y="647"/>
                        </a:lnTo>
                        <a:lnTo>
                          <a:pt x="681" y="614"/>
                        </a:lnTo>
                        <a:lnTo>
                          <a:pt x="701" y="580"/>
                        </a:lnTo>
                        <a:lnTo>
                          <a:pt x="719" y="544"/>
                        </a:lnTo>
                        <a:lnTo>
                          <a:pt x="735" y="506"/>
                        </a:lnTo>
                        <a:lnTo>
                          <a:pt x="744" y="466"/>
                        </a:lnTo>
                        <a:lnTo>
                          <a:pt x="751" y="423"/>
                        </a:lnTo>
                        <a:lnTo>
                          <a:pt x="753" y="381"/>
                        </a:lnTo>
                        <a:lnTo>
                          <a:pt x="746" y="381"/>
                        </a:lnTo>
                        <a:lnTo>
                          <a:pt x="744" y="338"/>
                        </a:lnTo>
                        <a:lnTo>
                          <a:pt x="737" y="298"/>
                        </a:lnTo>
                        <a:lnTo>
                          <a:pt x="728" y="257"/>
                        </a:lnTo>
                        <a:lnTo>
                          <a:pt x="715" y="219"/>
                        </a:lnTo>
                        <a:lnTo>
                          <a:pt x="697" y="183"/>
                        </a:lnTo>
                        <a:lnTo>
                          <a:pt x="675" y="150"/>
                        </a:lnTo>
                        <a:lnTo>
                          <a:pt x="652" y="116"/>
                        </a:lnTo>
                        <a:lnTo>
                          <a:pt x="625" y="87"/>
                        </a:lnTo>
                        <a:lnTo>
                          <a:pt x="596" y="60"/>
                        </a:lnTo>
                        <a:lnTo>
                          <a:pt x="562" y="38"/>
                        </a:lnTo>
                        <a:lnTo>
                          <a:pt x="531" y="15"/>
                        </a:lnTo>
                        <a:lnTo>
                          <a:pt x="500" y="0"/>
                        </a:lnTo>
                        <a:lnTo>
                          <a:pt x="502" y="0"/>
                        </a:lnTo>
                        <a:lnTo>
                          <a:pt x="506" y="0"/>
                        </a:lnTo>
                        <a:lnTo>
                          <a:pt x="509" y="0"/>
                        </a:lnTo>
                        <a:lnTo>
                          <a:pt x="511" y="0"/>
                        </a:lnTo>
                        <a:lnTo>
                          <a:pt x="536" y="11"/>
                        </a:lnTo>
                        <a:lnTo>
                          <a:pt x="567" y="31"/>
                        </a:lnTo>
                        <a:lnTo>
                          <a:pt x="598" y="56"/>
                        </a:lnTo>
                        <a:lnTo>
                          <a:pt x="630" y="83"/>
                        </a:lnTo>
                        <a:lnTo>
                          <a:pt x="657" y="114"/>
                        </a:lnTo>
                        <a:lnTo>
                          <a:pt x="681" y="145"/>
                        </a:lnTo>
                        <a:lnTo>
                          <a:pt x="701" y="179"/>
                        </a:lnTo>
                        <a:lnTo>
                          <a:pt x="719" y="217"/>
                        </a:lnTo>
                        <a:lnTo>
                          <a:pt x="735" y="255"/>
                        </a:lnTo>
                        <a:lnTo>
                          <a:pt x="744" y="296"/>
                        </a:lnTo>
                        <a:lnTo>
                          <a:pt x="751" y="338"/>
                        </a:lnTo>
                        <a:lnTo>
                          <a:pt x="753" y="381"/>
                        </a:lnTo>
                        <a:lnTo>
                          <a:pt x="746" y="381"/>
                        </a:lnTo>
                        <a:lnTo>
                          <a:pt x="744" y="423"/>
                        </a:lnTo>
                        <a:lnTo>
                          <a:pt x="737" y="464"/>
                        </a:lnTo>
                        <a:lnTo>
                          <a:pt x="728" y="504"/>
                        </a:lnTo>
                        <a:lnTo>
                          <a:pt x="715" y="542"/>
                        </a:lnTo>
                        <a:lnTo>
                          <a:pt x="697" y="576"/>
                        </a:lnTo>
                        <a:lnTo>
                          <a:pt x="675" y="612"/>
                        </a:lnTo>
                        <a:lnTo>
                          <a:pt x="652" y="643"/>
                        </a:lnTo>
                        <a:lnTo>
                          <a:pt x="625" y="672"/>
                        </a:lnTo>
                        <a:lnTo>
                          <a:pt x="596" y="699"/>
                        </a:lnTo>
                        <a:lnTo>
                          <a:pt x="562" y="724"/>
                        </a:lnTo>
                        <a:lnTo>
                          <a:pt x="531" y="744"/>
                        </a:lnTo>
                        <a:lnTo>
                          <a:pt x="495" y="762"/>
                        </a:lnTo>
                        <a:lnTo>
                          <a:pt x="457" y="775"/>
                        </a:lnTo>
                        <a:lnTo>
                          <a:pt x="417" y="786"/>
                        </a:lnTo>
                        <a:lnTo>
                          <a:pt x="376" y="791"/>
                        </a:lnTo>
                        <a:lnTo>
                          <a:pt x="334" y="793"/>
                        </a:lnTo>
                        <a:lnTo>
                          <a:pt x="291" y="791"/>
                        </a:lnTo>
                        <a:lnTo>
                          <a:pt x="251" y="786"/>
                        </a:lnTo>
                        <a:lnTo>
                          <a:pt x="211" y="775"/>
                        </a:lnTo>
                        <a:lnTo>
                          <a:pt x="173" y="762"/>
                        </a:lnTo>
                        <a:lnTo>
                          <a:pt x="137" y="744"/>
                        </a:lnTo>
                        <a:lnTo>
                          <a:pt x="101" y="724"/>
                        </a:lnTo>
                        <a:lnTo>
                          <a:pt x="69" y="699"/>
                        </a:lnTo>
                        <a:lnTo>
                          <a:pt x="40" y="672"/>
                        </a:lnTo>
                        <a:lnTo>
                          <a:pt x="13" y="643"/>
                        </a:lnTo>
                        <a:lnTo>
                          <a:pt x="0" y="623"/>
                        </a:lnTo>
                        <a:close/>
                      </a:path>
                    </a:pathLst>
                  </a:custGeom>
                  <a:solidFill>
                    <a:srgbClr val="eed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52320" y="1531800"/>
                    <a:ext cx="11923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751" h="795">
                        <a:moveTo>
                          <a:pt x="0" y="616"/>
                        </a:moveTo>
                        <a:lnTo>
                          <a:pt x="0" y="618"/>
                        </a:lnTo>
                        <a:lnTo>
                          <a:pt x="2" y="623"/>
                        </a:lnTo>
                        <a:lnTo>
                          <a:pt x="2" y="625"/>
                        </a:lnTo>
                        <a:lnTo>
                          <a:pt x="2" y="627"/>
                        </a:lnTo>
                        <a:lnTo>
                          <a:pt x="13" y="645"/>
                        </a:lnTo>
                        <a:lnTo>
                          <a:pt x="40" y="674"/>
                        </a:lnTo>
                        <a:lnTo>
                          <a:pt x="69" y="701"/>
                        </a:lnTo>
                        <a:lnTo>
                          <a:pt x="103" y="724"/>
                        </a:lnTo>
                        <a:lnTo>
                          <a:pt x="136" y="746"/>
                        </a:lnTo>
                        <a:lnTo>
                          <a:pt x="172" y="764"/>
                        </a:lnTo>
                        <a:lnTo>
                          <a:pt x="213" y="777"/>
                        </a:lnTo>
                        <a:lnTo>
                          <a:pt x="251" y="786"/>
                        </a:lnTo>
                        <a:lnTo>
                          <a:pt x="293" y="793"/>
                        </a:lnTo>
                        <a:lnTo>
                          <a:pt x="336" y="795"/>
                        </a:lnTo>
                        <a:lnTo>
                          <a:pt x="378" y="793"/>
                        </a:lnTo>
                        <a:lnTo>
                          <a:pt x="419" y="786"/>
                        </a:lnTo>
                        <a:lnTo>
                          <a:pt x="459" y="777"/>
                        </a:lnTo>
                        <a:lnTo>
                          <a:pt x="497" y="764"/>
                        </a:lnTo>
                        <a:lnTo>
                          <a:pt x="535" y="746"/>
                        </a:lnTo>
                        <a:lnTo>
                          <a:pt x="567" y="724"/>
                        </a:lnTo>
                        <a:lnTo>
                          <a:pt x="598" y="701"/>
                        </a:lnTo>
                        <a:lnTo>
                          <a:pt x="629" y="674"/>
                        </a:lnTo>
                        <a:lnTo>
                          <a:pt x="656" y="645"/>
                        </a:lnTo>
                        <a:lnTo>
                          <a:pt x="679" y="612"/>
                        </a:lnTo>
                        <a:lnTo>
                          <a:pt x="701" y="578"/>
                        </a:lnTo>
                        <a:lnTo>
                          <a:pt x="717" y="544"/>
                        </a:lnTo>
                        <a:lnTo>
                          <a:pt x="733" y="504"/>
                        </a:lnTo>
                        <a:lnTo>
                          <a:pt x="742" y="466"/>
                        </a:lnTo>
                        <a:lnTo>
                          <a:pt x="748" y="423"/>
                        </a:lnTo>
                        <a:lnTo>
                          <a:pt x="751" y="381"/>
                        </a:lnTo>
                        <a:lnTo>
                          <a:pt x="744" y="381"/>
                        </a:lnTo>
                        <a:lnTo>
                          <a:pt x="742" y="338"/>
                        </a:lnTo>
                        <a:lnTo>
                          <a:pt x="737" y="298"/>
                        </a:lnTo>
                        <a:lnTo>
                          <a:pt x="726" y="260"/>
                        </a:lnTo>
                        <a:lnTo>
                          <a:pt x="712" y="222"/>
                        </a:lnTo>
                        <a:lnTo>
                          <a:pt x="694" y="186"/>
                        </a:lnTo>
                        <a:lnTo>
                          <a:pt x="674" y="152"/>
                        </a:lnTo>
                        <a:lnTo>
                          <a:pt x="650" y="118"/>
                        </a:lnTo>
                        <a:lnTo>
                          <a:pt x="625" y="89"/>
                        </a:lnTo>
                        <a:lnTo>
                          <a:pt x="596" y="65"/>
                        </a:lnTo>
                        <a:lnTo>
                          <a:pt x="562" y="40"/>
                        </a:lnTo>
                        <a:lnTo>
                          <a:pt x="531" y="20"/>
                        </a:lnTo>
                        <a:lnTo>
                          <a:pt x="495" y="2"/>
                        </a:lnTo>
                        <a:lnTo>
                          <a:pt x="493" y="2"/>
                        </a:lnTo>
                        <a:lnTo>
                          <a:pt x="497" y="2"/>
                        </a:lnTo>
                        <a:lnTo>
                          <a:pt x="499" y="2"/>
                        </a:lnTo>
                        <a:lnTo>
                          <a:pt x="504" y="0"/>
                        </a:lnTo>
                        <a:lnTo>
                          <a:pt x="506" y="0"/>
                        </a:lnTo>
                        <a:lnTo>
                          <a:pt x="535" y="13"/>
                        </a:lnTo>
                        <a:lnTo>
                          <a:pt x="567" y="36"/>
                        </a:lnTo>
                        <a:lnTo>
                          <a:pt x="598" y="58"/>
                        </a:lnTo>
                        <a:lnTo>
                          <a:pt x="629" y="85"/>
                        </a:lnTo>
                        <a:lnTo>
                          <a:pt x="656" y="116"/>
                        </a:lnTo>
                        <a:lnTo>
                          <a:pt x="679" y="148"/>
                        </a:lnTo>
                        <a:lnTo>
                          <a:pt x="701" y="181"/>
                        </a:lnTo>
                        <a:lnTo>
                          <a:pt x="717" y="219"/>
                        </a:lnTo>
                        <a:lnTo>
                          <a:pt x="733" y="257"/>
                        </a:lnTo>
                        <a:lnTo>
                          <a:pt x="742" y="298"/>
                        </a:lnTo>
                        <a:lnTo>
                          <a:pt x="748" y="338"/>
                        </a:lnTo>
                        <a:lnTo>
                          <a:pt x="751" y="381"/>
                        </a:lnTo>
                        <a:lnTo>
                          <a:pt x="744" y="381"/>
                        </a:lnTo>
                        <a:lnTo>
                          <a:pt x="742" y="423"/>
                        </a:lnTo>
                        <a:lnTo>
                          <a:pt x="737" y="464"/>
                        </a:lnTo>
                        <a:lnTo>
                          <a:pt x="726" y="504"/>
                        </a:lnTo>
                        <a:lnTo>
                          <a:pt x="712" y="540"/>
                        </a:lnTo>
                        <a:lnTo>
                          <a:pt x="694" y="576"/>
                        </a:lnTo>
                        <a:lnTo>
                          <a:pt x="674" y="609"/>
                        </a:lnTo>
                        <a:lnTo>
                          <a:pt x="650" y="641"/>
                        </a:lnTo>
                        <a:lnTo>
                          <a:pt x="625" y="670"/>
                        </a:lnTo>
                        <a:lnTo>
                          <a:pt x="596" y="697"/>
                        </a:lnTo>
                        <a:lnTo>
                          <a:pt x="562" y="719"/>
                        </a:lnTo>
                        <a:lnTo>
                          <a:pt x="531" y="739"/>
                        </a:lnTo>
                        <a:lnTo>
                          <a:pt x="495" y="757"/>
                        </a:lnTo>
                        <a:lnTo>
                          <a:pt x="457" y="771"/>
                        </a:lnTo>
                        <a:lnTo>
                          <a:pt x="419" y="782"/>
                        </a:lnTo>
                        <a:lnTo>
                          <a:pt x="378" y="789"/>
                        </a:lnTo>
                        <a:lnTo>
                          <a:pt x="336" y="789"/>
                        </a:lnTo>
                        <a:lnTo>
                          <a:pt x="293" y="789"/>
                        </a:lnTo>
                        <a:lnTo>
                          <a:pt x="253" y="782"/>
                        </a:lnTo>
                        <a:lnTo>
                          <a:pt x="213" y="771"/>
                        </a:lnTo>
                        <a:lnTo>
                          <a:pt x="177" y="757"/>
                        </a:lnTo>
                        <a:lnTo>
                          <a:pt x="139" y="739"/>
                        </a:lnTo>
                        <a:lnTo>
                          <a:pt x="105" y="719"/>
                        </a:lnTo>
                        <a:lnTo>
                          <a:pt x="74" y="697"/>
                        </a:lnTo>
                        <a:lnTo>
                          <a:pt x="45" y="670"/>
                        </a:lnTo>
                        <a:lnTo>
                          <a:pt x="18" y="641"/>
                        </a:lnTo>
                        <a:lnTo>
                          <a:pt x="0" y="616"/>
                        </a:lnTo>
                        <a:close/>
                      </a:path>
                    </a:pathLst>
                  </a:custGeom>
                  <a:solidFill>
                    <a:srgbClr val="eed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52320" y="1535040"/>
                    <a:ext cx="1184400" cy="12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789">
                        <a:moveTo>
                          <a:pt x="0" y="605"/>
                        </a:moveTo>
                        <a:lnTo>
                          <a:pt x="0" y="610"/>
                        </a:lnTo>
                        <a:lnTo>
                          <a:pt x="0" y="612"/>
                        </a:lnTo>
                        <a:lnTo>
                          <a:pt x="0" y="614"/>
                        </a:lnTo>
                        <a:lnTo>
                          <a:pt x="0" y="619"/>
                        </a:lnTo>
                        <a:lnTo>
                          <a:pt x="18" y="639"/>
                        </a:lnTo>
                        <a:lnTo>
                          <a:pt x="45" y="668"/>
                        </a:lnTo>
                        <a:lnTo>
                          <a:pt x="74" y="695"/>
                        </a:lnTo>
                        <a:lnTo>
                          <a:pt x="105" y="719"/>
                        </a:lnTo>
                        <a:lnTo>
                          <a:pt x="139" y="740"/>
                        </a:lnTo>
                        <a:lnTo>
                          <a:pt x="175" y="757"/>
                        </a:lnTo>
                        <a:lnTo>
                          <a:pt x="213" y="771"/>
                        </a:lnTo>
                        <a:lnTo>
                          <a:pt x="253" y="782"/>
                        </a:lnTo>
                        <a:lnTo>
                          <a:pt x="293" y="787"/>
                        </a:lnTo>
                        <a:lnTo>
                          <a:pt x="336" y="789"/>
                        </a:lnTo>
                        <a:lnTo>
                          <a:pt x="378" y="787"/>
                        </a:lnTo>
                        <a:lnTo>
                          <a:pt x="419" y="782"/>
                        </a:lnTo>
                        <a:lnTo>
                          <a:pt x="459" y="771"/>
                        </a:lnTo>
                        <a:lnTo>
                          <a:pt x="497" y="757"/>
                        </a:lnTo>
                        <a:lnTo>
                          <a:pt x="533" y="740"/>
                        </a:lnTo>
                        <a:lnTo>
                          <a:pt x="564" y="719"/>
                        </a:lnTo>
                        <a:lnTo>
                          <a:pt x="596" y="695"/>
                        </a:lnTo>
                        <a:lnTo>
                          <a:pt x="625" y="668"/>
                        </a:lnTo>
                        <a:lnTo>
                          <a:pt x="652" y="639"/>
                        </a:lnTo>
                        <a:lnTo>
                          <a:pt x="677" y="607"/>
                        </a:lnTo>
                        <a:lnTo>
                          <a:pt x="697" y="574"/>
                        </a:lnTo>
                        <a:lnTo>
                          <a:pt x="715" y="540"/>
                        </a:lnTo>
                        <a:lnTo>
                          <a:pt x="728" y="502"/>
                        </a:lnTo>
                        <a:lnTo>
                          <a:pt x="737" y="462"/>
                        </a:lnTo>
                        <a:lnTo>
                          <a:pt x="744" y="421"/>
                        </a:lnTo>
                        <a:lnTo>
                          <a:pt x="746" y="379"/>
                        </a:lnTo>
                        <a:lnTo>
                          <a:pt x="739" y="379"/>
                        </a:lnTo>
                        <a:lnTo>
                          <a:pt x="737" y="338"/>
                        </a:lnTo>
                        <a:lnTo>
                          <a:pt x="733" y="298"/>
                        </a:lnTo>
                        <a:lnTo>
                          <a:pt x="721" y="258"/>
                        </a:lnTo>
                        <a:lnTo>
                          <a:pt x="708" y="220"/>
                        </a:lnTo>
                        <a:lnTo>
                          <a:pt x="690" y="186"/>
                        </a:lnTo>
                        <a:lnTo>
                          <a:pt x="670" y="152"/>
                        </a:lnTo>
                        <a:lnTo>
                          <a:pt x="647" y="121"/>
                        </a:lnTo>
                        <a:lnTo>
                          <a:pt x="621" y="92"/>
                        </a:lnTo>
                        <a:lnTo>
                          <a:pt x="591" y="65"/>
                        </a:lnTo>
                        <a:lnTo>
                          <a:pt x="560" y="43"/>
                        </a:lnTo>
                        <a:lnTo>
                          <a:pt x="529" y="22"/>
                        </a:lnTo>
                        <a:lnTo>
                          <a:pt x="495" y="4"/>
                        </a:lnTo>
                        <a:lnTo>
                          <a:pt x="484" y="0"/>
                        </a:lnTo>
                        <a:lnTo>
                          <a:pt x="488" y="0"/>
                        </a:lnTo>
                        <a:lnTo>
                          <a:pt x="491" y="0"/>
                        </a:lnTo>
                        <a:lnTo>
                          <a:pt x="495" y="0"/>
                        </a:lnTo>
                        <a:lnTo>
                          <a:pt x="497" y="0"/>
                        </a:lnTo>
                        <a:lnTo>
                          <a:pt x="533" y="16"/>
                        </a:lnTo>
                        <a:lnTo>
                          <a:pt x="564" y="36"/>
                        </a:lnTo>
                        <a:lnTo>
                          <a:pt x="596" y="60"/>
                        </a:lnTo>
                        <a:lnTo>
                          <a:pt x="625" y="87"/>
                        </a:lnTo>
                        <a:lnTo>
                          <a:pt x="652" y="116"/>
                        </a:lnTo>
                        <a:lnTo>
                          <a:pt x="677" y="148"/>
                        </a:lnTo>
                        <a:lnTo>
                          <a:pt x="697" y="181"/>
                        </a:lnTo>
                        <a:lnTo>
                          <a:pt x="715" y="217"/>
                        </a:lnTo>
                        <a:lnTo>
                          <a:pt x="728" y="255"/>
                        </a:lnTo>
                        <a:lnTo>
                          <a:pt x="737" y="296"/>
                        </a:lnTo>
                        <a:lnTo>
                          <a:pt x="744" y="336"/>
                        </a:lnTo>
                        <a:lnTo>
                          <a:pt x="746" y="379"/>
                        </a:lnTo>
                        <a:lnTo>
                          <a:pt x="739" y="379"/>
                        </a:lnTo>
                        <a:lnTo>
                          <a:pt x="737" y="421"/>
                        </a:lnTo>
                        <a:lnTo>
                          <a:pt x="733" y="462"/>
                        </a:lnTo>
                        <a:lnTo>
                          <a:pt x="721" y="500"/>
                        </a:lnTo>
                        <a:lnTo>
                          <a:pt x="708" y="538"/>
                        </a:lnTo>
                        <a:lnTo>
                          <a:pt x="690" y="571"/>
                        </a:lnTo>
                        <a:lnTo>
                          <a:pt x="670" y="605"/>
                        </a:lnTo>
                        <a:lnTo>
                          <a:pt x="647" y="636"/>
                        </a:lnTo>
                        <a:lnTo>
                          <a:pt x="621" y="663"/>
                        </a:lnTo>
                        <a:lnTo>
                          <a:pt x="591" y="690"/>
                        </a:lnTo>
                        <a:lnTo>
                          <a:pt x="560" y="715"/>
                        </a:lnTo>
                        <a:lnTo>
                          <a:pt x="529" y="735"/>
                        </a:lnTo>
                        <a:lnTo>
                          <a:pt x="495" y="751"/>
                        </a:lnTo>
                        <a:lnTo>
                          <a:pt x="457" y="764"/>
                        </a:lnTo>
                        <a:lnTo>
                          <a:pt x="417" y="775"/>
                        </a:lnTo>
                        <a:lnTo>
                          <a:pt x="376" y="782"/>
                        </a:lnTo>
                        <a:lnTo>
                          <a:pt x="336" y="784"/>
                        </a:lnTo>
                        <a:lnTo>
                          <a:pt x="293" y="782"/>
                        </a:lnTo>
                        <a:lnTo>
                          <a:pt x="253" y="775"/>
                        </a:lnTo>
                        <a:lnTo>
                          <a:pt x="215" y="764"/>
                        </a:lnTo>
                        <a:lnTo>
                          <a:pt x="177" y="751"/>
                        </a:lnTo>
                        <a:lnTo>
                          <a:pt x="141" y="735"/>
                        </a:lnTo>
                        <a:lnTo>
                          <a:pt x="107" y="715"/>
                        </a:lnTo>
                        <a:lnTo>
                          <a:pt x="76" y="690"/>
                        </a:lnTo>
                        <a:lnTo>
                          <a:pt x="49" y="663"/>
                        </a:lnTo>
                        <a:lnTo>
                          <a:pt x="22" y="636"/>
                        </a:lnTo>
                        <a:lnTo>
                          <a:pt x="0" y="605"/>
                        </a:lnTo>
                        <a:close/>
                      </a:path>
                    </a:pathLst>
                  </a:custGeom>
                  <a:solidFill>
                    <a:srgbClr val="f0d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52320" y="1535040"/>
                    <a:ext cx="1177920" cy="12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742" h="784">
                        <a:moveTo>
                          <a:pt x="0" y="596"/>
                        </a:moveTo>
                        <a:lnTo>
                          <a:pt x="0" y="601"/>
                        </a:lnTo>
                        <a:lnTo>
                          <a:pt x="0" y="603"/>
                        </a:lnTo>
                        <a:lnTo>
                          <a:pt x="0" y="605"/>
                        </a:lnTo>
                        <a:lnTo>
                          <a:pt x="0" y="610"/>
                        </a:lnTo>
                        <a:lnTo>
                          <a:pt x="20" y="636"/>
                        </a:lnTo>
                        <a:lnTo>
                          <a:pt x="47" y="666"/>
                        </a:lnTo>
                        <a:lnTo>
                          <a:pt x="76" y="692"/>
                        </a:lnTo>
                        <a:lnTo>
                          <a:pt x="107" y="715"/>
                        </a:lnTo>
                        <a:lnTo>
                          <a:pt x="141" y="735"/>
                        </a:lnTo>
                        <a:lnTo>
                          <a:pt x="177" y="753"/>
                        </a:lnTo>
                        <a:lnTo>
                          <a:pt x="215" y="766"/>
                        </a:lnTo>
                        <a:lnTo>
                          <a:pt x="253" y="778"/>
                        </a:lnTo>
                        <a:lnTo>
                          <a:pt x="293" y="784"/>
                        </a:lnTo>
                        <a:lnTo>
                          <a:pt x="336" y="784"/>
                        </a:lnTo>
                        <a:lnTo>
                          <a:pt x="378" y="784"/>
                        </a:lnTo>
                        <a:lnTo>
                          <a:pt x="419" y="778"/>
                        </a:lnTo>
                        <a:lnTo>
                          <a:pt x="457" y="766"/>
                        </a:lnTo>
                        <a:lnTo>
                          <a:pt x="495" y="753"/>
                        </a:lnTo>
                        <a:lnTo>
                          <a:pt x="531" y="735"/>
                        </a:lnTo>
                        <a:lnTo>
                          <a:pt x="562" y="715"/>
                        </a:lnTo>
                        <a:lnTo>
                          <a:pt x="594" y="692"/>
                        </a:lnTo>
                        <a:lnTo>
                          <a:pt x="623" y="666"/>
                        </a:lnTo>
                        <a:lnTo>
                          <a:pt x="650" y="636"/>
                        </a:lnTo>
                        <a:lnTo>
                          <a:pt x="672" y="605"/>
                        </a:lnTo>
                        <a:lnTo>
                          <a:pt x="692" y="571"/>
                        </a:lnTo>
                        <a:lnTo>
                          <a:pt x="710" y="538"/>
                        </a:lnTo>
                        <a:lnTo>
                          <a:pt x="724" y="500"/>
                        </a:lnTo>
                        <a:lnTo>
                          <a:pt x="735" y="462"/>
                        </a:lnTo>
                        <a:lnTo>
                          <a:pt x="739" y="421"/>
                        </a:lnTo>
                        <a:lnTo>
                          <a:pt x="742" y="379"/>
                        </a:lnTo>
                        <a:lnTo>
                          <a:pt x="735" y="379"/>
                        </a:lnTo>
                        <a:lnTo>
                          <a:pt x="735" y="338"/>
                        </a:lnTo>
                        <a:lnTo>
                          <a:pt x="728" y="298"/>
                        </a:lnTo>
                        <a:lnTo>
                          <a:pt x="717" y="260"/>
                        </a:lnTo>
                        <a:lnTo>
                          <a:pt x="703" y="222"/>
                        </a:lnTo>
                        <a:lnTo>
                          <a:pt x="688" y="188"/>
                        </a:lnTo>
                        <a:lnTo>
                          <a:pt x="668" y="155"/>
                        </a:lnTo>
                        <a:lnTo>
                          <a:pt x="643" y="123"/>
                        </a:lnTo>
                        <a:lnTo>
                          <a:pt x="618" y="94"/>
                        </a:lnTo>
                        <a:lnTo>
                          <a:pt x="589" y="69"/>
                        </a:lnTo>
                        <a:lnTo>
                          <a:pt x="560" y="45"/>
                        </a:lnTo>
                        <a:lnTo>
                          <a:pt x="526" y="25"/>
                        </a:lnTo>
                        <a:lnTo>
                          <a:pt x="493" y="9"/>
                        </a:lnTo>
                        <a:lnTo>
                          <a:pt x="475" y="2"/>
                        </a:lnTo>
                        <a:lnTo>
                          <a:pt x="479" y="2"/>
                        </a:lnTo>
                        <a:lnTo>
                          <a:pt x="482" y="2"/>
                        </a:lnTo>
                        <a:lnTo>
                          <a:pt x="486" y="0"/>
                        </a:lnTo>
                        <a:lnTo>
                          <a:pt x="488" y="0"/>
                        </a:lnTo>
                        <a:lnTo>
                          <a:pt x="495" y="2"/>
                        </a:lnTo>
                        <a:lnTo>
                          <a:pt x="531" y="20"/>
                        </a:lnTo>
                        <a:lnTo>
                          <a:pt x="562" y="40"/>
                        </a:lnTo>
                        <a:lnTo>
                          <a:pt x="594" y="63"/>
                        </a:lnTo>
                        <a:lnTo>
                          <a:pt x="623" y="90"/>
                        </a:lnTo>
                        <a:lnTo>
                          <a:pt x="650" y="119"/>
                        </a:lnTo>
                        <a:lnTo>
                          <a:pt x="672" y="150"/>
                        </a:lnTo>
                        <a:lnTo>
                          <a:pt x="692" y="184"/>
                        </a:lnTo>
                        <a:lnTo>
                          <a:pt x="710" y="220"/>
                        </a:lnTo>
                        <a:lnTo>
                          <a:pt x="724" y="258"/>
                        </a:lnTo>
                        <a:lnTo>
                          <a:pt x="735" y="296"/>
                        </a:lnTo>
                        <a:lnTo>
                          <a:pt x="739" y="336"/>
                        </a:lnTo>
                        <a:lnTo>
                          <a:pt x="742" y="379"/>
                        </a:lnTo>
                        <a:lnTo>
                          <a:pt x="735" y="379"/>
                        </a:lnTo>
                        <a:lnTo>
                          <a:pt x="735" y="419"/>
                        </a:lnTo>
                        <a:lnTo>
                          <a:pt x="728" y="459"/>
                        </a:lnTo>
                        <a:lnTo>
                          <a:pt x="717" y="497"/>
                        </a:lnTo>
                        <a:lnTo>
                          <a:pt x="703" y="536"/>
                        </a:lnTo>
                        <a:lnTo>
                          <a:pt x="688" y="569"/>
                        </a:lnTo>
                        <a:lnTo>
                          <a:pt x="668" y="601"/>
                        </a:lnTo>
                        <a:lnTo>
                          <a:pt x="643" y="632"/>
                        </a:lnTo>
                        <a:lnTo>
                          <a:pt x="618" y="661"/>
                        </a:lnTo>
                        <a:lnTo>
                          <a:pt x="589" y="688"/>
                        </a:lnTo>
                        <a:lnTo>
                          <a:pt x="560" y="710"/>
                        </a:lnTo>
                        <a:lnTo>
                          <a:pt x="526" y="731"/>
                        </a:lnTo>
                        <a:lnTo>
                          <a:pt x="493" y="749"/>
                        </a:lnTo>
                        <a:lnTo>
                          <a:pt x="455" y="762"/>
                        </a:lnTo>
                        <a:lnTo>
                          <a:pt x="417" y="771"/>
                        </a:lnTo>
                        <a:lnTo>
                          <a:pt x="376" y="778"/>
                        </a:lnTo>
                        <a:lnTo>
                          <a:pt x="336" y="780"/>
                        </a:lnTo>
                        <a:lnTo>
                          <a:pt x="296" y="778"/>
                        </a:lnTo>
                        <a:lnTo>
                          <a:pt x="255" y="771"/>
                        </a:lnTo>
                        <a:lnTo>
                          <a:pt x="217" y="762"/>
                        </a:lnTo>
                        <a:lnTo>
                          <a:pt x="179" y="749"/>
                        </a:lnTo>
                        <a:lnTo>
                          <a:pt x="143" y="731"/>
                        </a:lnTo>
                        <a:lnTo>
                          <a:pt x="112" y="710"/>
                        </a:lnTo>
                        <a:lnTo>
                          <a:pt x="80" y="688"/>
                        </a:lnTo>
                        <a:lnTo>
                          <a:pt x="51" y="661"/>
                        </a:lnTo>
                        <a:lnTo>
                          <a:pt x="24" y="632"/>
                        </a:lnTo>
                        <a:lnTo>
                          <a:pt x="2" y="601"/>
                        </a:lnTo>
                        <a:lnTo>
                          <a:pt x="0" y="596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47640" y="1538280"/>
                    <a:ext cx="1174680" cy="12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740" h="780">
                        <a:moveTo>
                          <a:pt x="0" y="585"/>
                        </a:moveTo>
                        <a:lnTo>
                          <a:pt x="0" y="590"/>
                        </a:lnTo>
                        <a:lnTo>
                          <a:pt x="0" y="592"/>
                        </a:lnTo>
                        <a:lnTo>
                          <a:pt x="3" y="596"/>
                        </a:lnTo>
                        <a:lnTo>
                          <a:pt x="3" y="599"/>
                        </a:lnTo>
                        <a:lnTo>
                          <a:pt x="3" y="601"/>
                        </a:lnTo>
                        <a:lnTo>
                          <a:pt x="27" y="632"/>
                        </a:lnTo>
                        <a:lnTo>
                          <a:pt x="52" y="661"/>
                        </a:lnTo>
                        <a:lnTo>
                          <a:pt x="81" y="686"/>
                        </a:lnTo>
                        <a:lnTo>
                          <a:pt x="113" y="711"/>
                        </a:lnTo>
                        <a:lnTo>
                          <a:pt x="146" y="731"/>
                        </a:lnTo>
                        <a:lnTo>
                          <a:pt x="182" y="747"/>
                        </a:lnTo>
                        <a:lnTo>
                          <a:pt x="218" y="760"/>
                        </a:lnTo>
                        <a:lnTo>
                          <a:pt x="258" y="771"/>
                        </a:lnTo>
                        <a:lnTo>
                          <a:pt x="296" y="778"/>
                        </a:lnTo>
                        <a:lnTo>
                          <a:pt x="339" y="780"/>
                        </a:lnTo>
                        <a:lnTo>
                          <a:pt x="379" y="778"/>
                        </a:lnTo>
                        <a:lnTo>
                          <a:pt x="420" y="771"/>
                        </a:lnTo>
                        <a:lnTo>
                          <a:pt x="460" y="760"/>
                        </a:lnTo>
                        <a:lnTo>
                          <a:pt x="496" y="747"/>
                        </a:lnTo>
                        <a:lnTo>
                          <a:pt x="532" y="731"/>
                        </a:lnTo>
                        <a:lnTo>
                          <a:pt x="563" y="711"/>
                        </a:lnTo>
                        <a:lnTo>
                          <a:pt x="594" y="686"/>
                        </a:lnTo>
                        <a:lnTo>
                          <a:pt x="624" y="661"/>
                        </a:lnTo>
                        <a:lnTo>
                          <a:pt x="648" y="632"/>
                        </a:lnTo>
                        <a:lnTo>
                          <a:pt x="673" y="601"/>
                        </a:lnTo>
                        <a:lnTo>
                          <a:pt x="693" y="567"/>
                        </a:lnTo>
                        <a:lnTo>
                          <a:pt x="709" y="534"/>
                        </a:lnTo>
                        <a:lnTo>
                          <a:pt x="722" y="498"/>
                        </a:lnTo>
                        <a:lnTo>
                          <a:pt x="733" y="457"/>
                        </a:lnTo>
                        <a:lnTo>
                          <a:pt x="738" y="419"/>
                        </a:lnTo>
                        <a:lnTo>
                          <a:pt x="740" y="377"/>
                        </a:lnTo>
                        <a:lnTo>
                          <a:pt x="736" y="377"/>
                        </a:lnTo>
                        <a:lnTo>
                          <a:pt x="733" y="336"/>
                        </a:lnTo>
                        <a:lnTo>
                          <a:pt x="727" y="296"/>
                        </a:lnTo>
                        <a:lnTo>
                          <a:pt x="718" y="258"/>
                        </a:lnTo>
                        <a:lnTo>
                          <a:pt x="704" y="222"/>
                        </a:lnTo>
                        <a:lnTo>
                          <a:pt x="686" y="186"/>
                        </a:lnTo>
                        <a:lnTo>
                          <a:pt x="666" y="155"/>
                        </a:lnTo>
                        <a:lnTo>
                          <a:pt x="644" y="123"/>
                        </a:lnTo>
                        <a:lnTo>
                          <a:pt x="619" y="94"/>
                        </a:lnTo>
                        <a:lnTo>
                          <a:pt x="590" y="70"/>
                        </a:lnTo>
                        <a:lnTo>
                          <a:pt x="561" y="47"/>
                        </a:lnTo>
                        <a:lnTo>
                          <a:pt x="529" y="27"/>
                        </a:lnTo>
                        <a:lnTo>
                          <a:pt x="494" y="9"/>
                        </a:lnTo>
                        <a:lnTo>
                          <a:pt x="471" y="2"/>
                        </a:lnTo>
                        <a:lnTo>
                          <a:pt x="473" y="0"/>
                        </a:lnTo>
                        <a:lnTo>
                          <a:pt x="476" y="0"/>
                        </a:lnTo>
                        <a:lnTo>
                          <a:pt x="480" y="0"/>
                        </a:lnTo>
                        <a:lnTo>
                          <a:pt x="482" y="0"/>
                        </a:lnTo>
                        <a:lnTo>
                          <a:pt x="496" y="5"/>
                        </a:lnTo>
                        <a:lnTo>
                          <a:pt x="532" y="20"/>
                        </a:lnTo>
                        <a:lnTo>
                          <a:pt x="563" y="41"/>
                        </a:lnTo>
                        <a:lnTo>
                          <a:pt x="594" y="65"/>
                        </a:lnTo>
                        <a:lnTo>
                          <a:pt x="624" y="90"/>
                        </a:lnTo>
                        <a:lnTo>
                          <a:pt x="648" y="119"/>
                        </a:lnTo>
                        <a:lnTo>
                          <a:pt x="673" y="150"/>
                        </a:lnTo>
                        <a:lnTo>
                          <a:pt x="693" y="184"/>
                        </a:lnTo>
                        <a:lnTo>
                          <a:pt x="709" y="220"/>
                        </a:lnTo>
                        <a:lnTo>
                          <a:pt x="722" y="256"/>
                        </a:lnTo>
                        <a:lnTo>
                          <a:pt x="733" y="296"/>
                        </a:lnTo>
                        <a:lnTo>
                          <a:pt x="738" y="336"/>
                        </a:lnTo>
                        <a:lnTo>
                          <a:pt x="740" y="377"/>
                        </a:lnTo>
                        <a:lnTo>
                          <a:pt x="736" y="377"/>
                        </a:lnTo>
                        <a:lnTo>
                          <a:pt x="733" y="417"/>
                        </a:lnTo>
                        <a:lnTo>
                          <a:pt x="727" y="457"/>
                        </a:lnTo>
                        <a:lnTo>
                          <a:pt x="718" y="495"/>
                        </a:lnTo>
                        <a:lnTo>
                          <a:pt x="704" y="531"/>
                        </a:lnTo>
                        <a:lnTo>
                          <a:pt x="686" y="565"/>
                        </a:lnTo>
                        <a:lnTo>
                          <a:pt x="666" y="596"/>
                        </a:lnTo>
                        <a:lnTo>
                          <a:pt x="644" y="628"/>
                        </a:lnTo>
                        <a:lnTo>
                          <a:pt x="619" y="657"/>
                        </a:lnTo>
                        <a:lnTo>
                          <a:pt x="590" y="682"/>
                        </a:lnTo>
                        <a:lnTo>
                          <a:pt x="561" y="704"/>
                        </a:lnTo>
                        <a:lnTo>
                          <a:pt x="529" y="724"/>
                        </a:lnTo>
                        <a:lnTo>
                          <a:pt x="494" y="742"/>
                        </a:lnTo>
                        <a:lnTo>
                          <a:pt x="458" y="755"/>
                        </a:lnTo>
                        <a:lnTo>
                          <a:pt x="420" y="764"/>
                        </a:lnTo>
                        <a:lnTo>
                          <a:pt x="379" y="771"/>
                        </a:lnTo>
                        <a:lnTo>
                          <a:pt x="339" y="773"/>
                        </a:lnTo>
                        <a:lnTo>
                          <a:pt x="299" y="771"/>
                        </a:lnTo>
                        <a:lnTo>
                          <a:pt x="258" y="764"/>
                        </a:lnTo>
                        <a:lnTo>
                          <a:pt x="220" y="755"/>
                        </a:lnTo>
                        <a:lnTo>
                          <a:pt x="184" y="742"/>
                        </a:lnTo>
                        <a:lnTo>
                          <a:pt x="148" y="724"/>
                        </a:lnTo>
                        <a:lnTo>
                          <a:pt x="117" y="704"/>
                        </a:lnTo>
                        <a:lnTo>
                          <a:pt x="86" y="682"/>
                        </a:lnTo>
                        <a:lnTo>
                          <a:pt x="56" y="657"/>
                        </a:lnTo>
                        <a:lnTo>
                          <a:pt x="32" y="628"/>
                        </a:lnTo>
                        <a:lnTo>
                          <a:pt x="9" y="596"/>
                        </a:lnTo>
                        <a:lnTo>
                          <a:pt x="0" y="585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47640" y="1538280"/>
                    <a:ext cx="1171440" cy="12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38" h="776">
                        <a:moveTo>
                          <a:pt x="0" y="576"/>
                        </a:moveTo>
                        <a:lnTo>
                          <a:pt x="0" y="581"/>
                        </a:lnTo>
                        <a:lnTo>
                          <a:pt x="0" y="583"/>
                        </a:lnTo>
                        <a:lnTo>
                          <a:pt x="0" y="587"/>
                        </a:lnTo>
                        <a:lnTo>
                          <a:pt x="0" y="590"/>
                        </a:lnTo>
                        <a:lnTo>
                          <a:pt x="7" y="599"/>
                        </a:lnTo>
                        <a:lnTo>
                          <a:pt x="30" y="630"/>
                        </a:lnTo>
                        <a:lnTo>
                          <a:pt x="56" y="657"/>
                        </a:lnTo>
                        <a:lnTo>
                          <a:pt x="83" y="684"/>
                        </a:lnTo>
                        <a:lnTo>
                          <a:pt x="115" y="706"/>
                        </a:lnTo>
                        <a:lnTo>
                          <a:pt x="148" y="726"/>
                        </a:lnTo>
                        <a:lnTo>
                          <a:pt x="182" y="744"/>
                        </a:lnTo>
                        <a:lnTo>
                          <a:pt x="220" y="758"/>
                        </a:lnTo>
                        <a:lnTo>
                          <a:pt x="258" y="767"/>
                        </a:lnTo>
                        <a:lnTo>
                          <a:pt x="299" y="773"/>
                        </a:lnTo>
                        <a:lnTo>
                          <a:pt x="339" y="776"/>
                        </a:lnTo>
                        <a:lnTo>
                          <a:pt x="379" y="773"/>
                        </a:lnTo>
                        <a:lnTo>
                          <a:pt x="420" y="767"/>
                        </a:lnTo>
                        <a:lnTo>
                          <a:pt x="458" y="758"/>
                        </a:lnTo>
                        <a:lnTo>
                          <a:pt x="494" y="744"/>
                        </a:lnTo>
                        <a:lnTo>
                          <a:pt x="529" y="726"/>
                        </a:lnTo>
                        <a:lnTo>
                          <a:pt x="563" y="706"/>
                        </a:lnTo>
                        <a:lnTo>
                          <a:pt x="590" y="684"/>
                        </a:lnTo>
                        <a:lnTo>
                          <a:pt x="619" y="657"/>
                        </a:lnTo>
                        <a:lnTo>
                          <a:pt x="646" y="630"/>
                        </a:lnTo>
                        <a:lnTo>
                          <a:pt x="668" y="599"/>
                        </a:lnTo>
                        <a:lnTo>
                          <a:pt x="689" y="565"/>
                        </a:lnTo>
                        <a:lnTo>
                          <a:pt x="704" y="534"/>
                        </a:lnTo>
                        <a:lnTo>
                          <a:pt x="718" y="495"/>
                        </a:lnTo>
                        <a:lnTo>
                          <a:pt x="729" y="457"/>
                        </a:lnTo>
                        <a:lnTo>
                          <a:pt x="736" y="417"/>
                        </a:lnTo>
                        <a:lnTo>
                          <a:pt x="738" y="377"/>
                        </a:lnTo>
                        <a:lnTo>
                          <a:pt x="731" y="377"/>
                        </a:lnTo>
                        <a:lnTo>
                          <a:pt x="729" y="336"/>
                        </a:lnTo>
                        <a:lnTo>
                          <a:pt x="722" y="298"/>
                        </a:lnTo>
                        <a:lnTo>
                          <a:pt x="713" y="260"/>
                        </a:lnTo>
                        <a:lnTo>
                          <a:pt x="700" y="224"/>
                        </a:lnTo>
                        <a:lnTo>
                          <a:pt x="682" y="188"/>
                        </a:lnTo>
                        <a:lnTo>
                          <a:pt x="664" y="157"/>
                        </a:lnTo>
                        <a:lnTo>
                          <a:pt x="641" y="126"/>
                        </a:lnTo>
                        <a:lnTo>
                          <a:pt x="615" y="99"/>
                        </a:lnTo>
                        <a:lnTo>
                          <a:pt x="588" y="72"/>
                        </a:lnTo>
                        <a:lnTo>
                          <a:pt x="559" y="49"/>
                        </a:lnTo>
                        <a:lnTo>
                          <a:pt x="527" y="32"/>
                        </a:lnTo>
                        <a:lnTo>
                          <a:pt x="491" y="14"/>
                        </a:lnTo>
                        <a:lnTo>
                          <a:pt x="462" y="2"/>
                        </a:lnTo>
                        <a:lnTo>
                          <a:pt x="464" y="2"/>
                        </a:lnTo>
                        <a:lnTo>
                          <a:pt x="469" y="2"/>
                        </a:lnTo>
                        <a:lnTo>
                          <a:pt x="471" y="0"/>
                        </a:lnTo>
                        <a:lnTo>
                          <a:pt x="473" y="0"/>
                        </a:lnTo>
                        <a:lnTo>
                          <a:pt x="494" y="9"/>
                        </a:lnTo>
                        <a:lnTo>
                          <a:pt x="529" y="25"/>
                        </a:lnTo>
                        <a:lnTo>
                          <a:pt x="563" y="45"/>
                        </a:lnTo>
                        <a:lnTo>
                          <a:pt x="590" y="67"/>
                        </a:lnTo>
                        <a:lnTo>
                          <a:pt x="619" y="94"/>
                        </a:lnTo>
                        <a:lnTo>
                          <a:pt x="646" y="121"/>
                        </a:lnTo>
                        <a:lnTo>
                          <a:pt x="668" y="153"/>
                        </a:lnTo>
                        <a:lnTo>
                          <a:pt x="689" y="186"/>
                        </a:lnTo>
                        <a:lnTo>
                          <a:pt x="704" y="222"/>
                        </a:lnTo>
                        <a:lnTo>
                          <a:pt x="718" y="258"/>
                        </a:lnTo>
                        <a:lnTo>
                          <a:pt x="729" y="296"/>
                        </a:lnTo>
                        <a:lnTo>
                          <a:pt x="736" y="336"/>
                        </a:lnTo>
                        <a:lnTo>
                          <a:pt x="738" y="377"/>
                        </a:lnTo>
                        <a:lnTo>
                          <a:pt x="731" y="377"/>
                        </a:lnTo>
                        <a:lnTo>
                          <a:pt x="729" y="417"/>
                        </a:lnTo>
                        <a:lnTo>
                          <a:pt x="722" y="457"/>
                        </a:lnTo>
                        <a:lnTo>
                          <a:pt x="713" y="493"/>
                        </a:lnTo>
                        <a:lnTo>
                          <a:pt x="700" y="531"/>
                        </a:lnTo>
                        <a:lnTo>
                          <a:pt x="682" y="563"/>
                        </a:lnTo>
                        <a:lnTo>
                          <a:pt x="664" y="594"/>
                        </a:lnTo>
                        <a:lnTo>
                          <a:pt x="641" y="625"/>
                        </a:lnTo>
                        <a:lnTo>
                          <a:pt x="615" y="652"/>
                        </a:lnTo>
                        <a:lnTo>
                          <a:pt x="588" y="679"/>
                        </a:lnTo>
                        <a:lnTo>
                          <a:pt x="559" y="702"/>
                        </a:lnTo>
                        <a:lnTo>
                          <a:pt x="527" y="722"/>
                        </a:lnTo>
                        <a:lnTo>
                          <a:pt x="491" y="738"/>
                        </a:lnTo>
                        <a:lnTo>
                          <a:pt x="455" y="751"/>
                        </a:lnTo>
                        <a:lnTo>
                          <a:pt x="417" y="760"/>
                        </a:lnTo>
                        <a:lnTo>
                          <a:pt x="379" y="767"/>
                        </a:lnTo>
                        <a:lnTo>
                          <a:pt x="339" y="769"/>
                        </a:lnTo>
                        <a:lnTo>
                          <a:pt x="299" y="767"/>
                        </a:lnTo>
                        <a:lnTo>
                          <a:pt x="258" y="760"/>
                        </a:lnTo>
                        <a:lnTo>
                          <a:pt x="222" y="751"/>
                        </a:lnTo>
                        <a:lnTo>
                          <a:pt x="184" y="738"/>
                        </a:lnTo>
                        <a:lnTo>
                          <a:pt x="151" y="722"/>
                        </a:lnTo>
                        <a:lnTo>
                          <a:pt x="119" y="702"/>
                        </a:lnTo>
                        <a:lnTo>
                          <a:pt x="88" y="679"/>
                        </a:lnTo>
                        <a:lnTo>
                          <a:pt x="61" y="652"/>
                        </a:lnTo>
                        <a:lnTo>
                          <a:pt x="34" y="625"/>
                        </a:lnTo>
                        <a:lnTo>
                          <a:pt x="12" y="594"/>
                        </a:lnTo>
                        <a:lnTo>
                          <a:pt x="0" y="576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647640" y="1541160"/>
                    <a:ext cx="11635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3" h="769">
                        <a:moveTo>
                          <a:pt x="0" y="565"/>
                        </a:moveTo>
                        <a:lnTo>
                          <a:pt x="0" y="570"/>
                        </a:lnTo>
                        <a:lnTo>
                          <a:pt x="0" y="572"/>
                        </a:lnTo>
                        <a:lnTo>
                          <a:pt x="0" y="576"/>
                        </a:lnTo>
                        <a:lnTo>
                          <a:pt x="0" y="579"/>
                        </a:lnTo>
                        <a:lnTo>
                          <a:pt x="9" y="594"/>
                        </a:lnTo>
                        <a:lnTo>
                          <a:pt x="34" y="626"/>
                        </a:lnTo>
                        <a:lnTo>
                          <a:pt x="59" y="653"/>
                        </a:lnTo>
                        <a:lnTo>
                          <a:pt x="86" y="677"/>
                        </a:lnTo>
                        <a:lnTo>
                          <a:pt x="117" y="702"/>
                        </a:lnTo>
                        <a:lnTo>
                          <a:pt x="151" y="722"/>
                        </a:lnTo>
                        <a:lnTo>
                          <a:pt x="184" y="738"/>
                        </a:lnTo>
                        <a:lnTo>
                          <a:pt x="220" y="751"/>
                        </a:lnTo>
                        <a:lnTo>
                          <a:pt x="258" y="760"/>
                        </a:lnTo>
                        <a:lnTo>
                          <a:pt x="299" y="767"/>
                        </a:lnTo>
                        <a:lnTo>
                          <a:pt x="339" y="769"/>
                        </a:lnTo>
                        <a:lnTo>
                          <a:pt x="379" y="767"/>
                        </a:lnTo>
                        <a:lnTo>
                          <a:pt x="420" y="760"/>
                        </a:lnTo>
                        <a:lnTo>
                          <a:pt x="455" y="751"/>
                        </a:lnTo>
                        <a:lnTo>
                          <a:pt x="494" y="738"/>
                        </a:lnTo>
                        <a:lnTo>
                          <a:pt x="527" y="722"/>
                        </a:lnTo>
                        <a:lnTo>
                          <a:pt x="561" y="702"/>
                        </a:lnTo>
                        <a:lnTo>
                          <a:pt x="588" y="677"/>
                        </a:lnTo>
                        <a:lnTo>
                          <a:pt x="617" y="653"/>
                        </a:lnTo>
                        <a:lnTo>
                          <a:pt x="641" y="626"/>
                        </a:lnTo>
                        <a:lnTo>
                          <a:pt x="664" y="594"/>
                        </a:lnTo>
                        <a:lnTo>
                          <a:pt x="684" y="561"/>
                        </a:lnTo>
                        <a:lnTo>
                          <a:pt x="702" y="529"/>
                        </a:lnTo>
                        <a:lnTo>
                          <a:pt x="715" y="493"/>
                        </a:lnTo>
                        <a:lnTo>
                          <a:pt x="724" y="455"/>
                        </a:lnTo>
                        <a:lnTo>
                          <a:pt x="731" y="415"/>
                        </a:lnTo>
                        <a:lnTo>
                          <a:pt x="733" y="375"/>
                        </a:lnTo>
                        <a:lnTo>
                          <a:pt x="727" y="375"/>
                        </a:lnTo>
                        <a:lnTo>
                          <a:pt x="724" y="334"/>
                        </a:lnTo>
                        <a:lnTo>
                          <a:pt x="718" y="296"/>
                        </a:lnTo>
                        <a:lnTo>
                          <a:pt x="709" y="258"/>
                        </a:lnTo>
                        <a:lnTo>
                          <a:pt x="695" y="222"/>
                        </a:lnTo>
                        <a:lnTo>
                          <a:pt x="680" y="189"/>
                        </a:lnTo>
                        <a:lnTo>
                          <a:pt x="659" y="157"/>
                        </a:lnTo>
                        <a:lnTo>
                          <a:pt x="637" y="128"/>
                        </a:lnTo>
                        <a:lnTo>
                          <a:pt x="612" y="99"/>
                        </a:lnTo>
                        <a:lnTo>
                          <a:pt x="583" y="74"/>
                        </a:lnTo>
                        <a:lnTo>
                          <a:pt x="556" y="52"/>
                        </a:lnTo>
                        <a:lnTo>
                          <a:pt x="525" y="32"/>
                        </a:lnTo>
                        <a:lnTo>
                          <a:pt x="491" y="16"/>
                        </a:lnTo>
                        <a:lnTo>
                          <a:pt x="455" y="3"/>
                        </a:lnTo>
                        <a:lnTo>
                          <a:pt x="453" y="3"/>
                        </a:lnTo>
                        <a:lnTo>
                          <a:pt x="455" y="3"/>
                        </a:lnTo>
                        <a:lnTo>
                          <a:pt x="460" y="0"/>
                        </a:lnTo>
                        <a:lnTo>
                          <a:pt x="462" y="0"/>
                        </a:lnTo>
                        <a:lnTo>
                          <a:pt x="467" y="0"/>
                        </a:lnTo>
                        <a:lnTo>
                          <a:pt x="494" y="9"/>
                        </a:lnTo>
                        <a:lnTo>
                          <a:pt x="527" y="27"/>
                        </a:lnTo>
                        <a:lnTo>
                          <a:pt x="561" y="47"/>
                        </a:lnTo>
                        <a:lnTo>
                          <a:pt x="588" y="70"/>
                        </a:lnTo>
                        <a:lnTo>
                          <a:pt x="617" y="95"/>
                        </a:lnTo>
                        <a:lnTo>
                          <a:pt x="641" y="124"/>
                        </a:lnTo>
                        <a:lnTo>
                          <a:pt x="664" y="153"/>
                        </a:lnTo>
                        <a:lnTo>
                          <a:pt x="684" y="186"/>
                        </a:lnTo>
                        <a:lnTo>
                          <a:pt x="702" y="220"/>
                        </a:lnTo>
                        <a:lnTo>
                          <a:pt x="715" y="258"/>
                        </a:lnTo>
                        <a:lnTo>
                          <a:pt x="724" y="294"/>
                        </a:lnTo>
                        <a:lnTo>
                          <a:pt x="731" y="334"/>
                        </a:lnTo>
                        <a:lnTo>
                          <a:pt x="733" y="375"/>
                        </a:lnTo>
                        <a:lnTo>
                          <a:pt x="727" y="375"/>
                        </a:lnTo>
                        <a:lnTo>
                          <a:pt x="724" y="415"/>
                        </a:lnTo>
                        <a:lnTo>
                          <a:pt x="718" y="453"/>
                        </a:lnTo>
                        <a:lnTo>
                          <a:pt x="709" y="491"/>
                        </a:lnTo>
                        <a:lnTo>
                          <a:pt x="695" y="527"/>
                        </a:lnTo>
                        <a:lnTo>
                          <a:pt x="680" y="558"/>
                        </a:lnTo>
                        <a:lnTo>
                          <a:pt x="659" y="590"/>
                        </a:lnTo>
                        <a:lnTo>
                          <a:pt x="637" y="621"/>
                        </a:lnTo>
                        <a:lnTo>
                          <a:pt x="612" y="648"/>
                        </a:lnTo>
                        <a:lnTo>
                          <a:pt x="583" y="673"/>
                        </a:lnTo>
                        <a:lnTo>
                          <a:pt x="556" y="695"/>
                        </a:lnTo>
                        <a:lnTo>
                          <a:pt x="525" y="715"/>
                        </a:lnTo>
                        <a:lnTo>
                          <a:pt x="491" y="731"/>
                        </a:lnTo>
                        <a:lnTo>
                          <a:pt x="455" y="745"/>
                        </a:lnTo>
                        <a:lnTo>
                          <a:pt x="417" y="753"/>
                        </a:lnTo>
                        <a:lnTo>
                          <a:pt x="379" y="760"/>
                        </a:lnTo>
                        <a:lnTo>
                          <a:pt x="339" y="762"/>
                        </a:lnTo>
                        <a:lnTo>
                          <a:pt x="299" y="760"/>
                        </a:lnTo>
                        <a:lnTo>
                          <a:pt x="260" y="753"/>
                        </a:lnTo>
                        <a:lnTo>
                          <a:pt x="222" y="745"/>
                        </a:lnTo>
                        <a:lnTo>
                          <a:pt x="186" y="731"/>
                        </a:lnTo>
                        <a:lnTo>
                          <a:pt x="153" y="715"/>
                        </a:lnTo>
                        <a:lnTo>
                          <a:pt x="121" y="695"/>
                        </a:lnTo>
                        <a:lnTo>
                          <a:pt x="90" y="673"/>
                        </a:lnTo>
                        <a:lnTo>
                          <a:pt x="63" y="648"/>
                        </a:lnTo>
                        <a:lnTo>
                          <a:pt x="39" y="621"/>
                        </a:lnTo>
                        <a:lnTo>
                          <a:pt x="16" y="590"/>
                        </a:lnTo>
                        <a:lnTo>
                          <a:pt x="0" y="565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647640" y="1546200"/>
                    <a:ext cx="115704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9" h="762">
                        <a:moveTo>
                          <a:pt x="0" y="555"/>
                        </a:moveTo>
                        <a:lnTo>
                          <a:pt x="0" y="558"/>
                        </a:lnTo>
                        <a:lnTo>
                          <a:pt x="0" y="562"/>
                        </a:lnTo>
                        <a:lnTo>
                          <a:pt x="0" y="564"/>
                        </a:lnTo>
                        <a:lnTo>
                          <a:pt x="0" y="567"/>
                        </a:lnTo>
                        <a:lnTo>
                          <a:pt x="14" y="589"/>
                        </a:lnTo>
                        <a:lnTo>
                          <a:pt x="36" y="618"/>
                        </a:lnTo>
                        <a:lnTo>
                          <a:pt x="61" y="647"/>
                        </a:lnTo>
                        <a:lnTo>
                          <a:pt x="90" y="672"/>
                        </a:lnTo>
                        <a:lnTo>
                          <a:pt x="119" y="694"/>
                        </a:lnTo>
                        <a:lnTo>
                          <a:pt x="153" y="715"/>
                        </a:lnTo>
                        <a:lnTo>
                          <a:pt x="186" y="730"/>
                        </a:lnTo>
                        <a:lnTo>
                          <a:pt x="222" y="744"/>
                        </a:lnTo>
                        <a:lnTo>
                          <a:pt x="260" y="753"/>
                        </a:lnTo>
                        <a:lnTo>
                          <a:pt x="299" y="759"/>
                        </a:lnTo>
                        <a:lnTo>
                          <a:pt x="339" y="762"/>
                        </a:lnTo>
                        <a:lnTo>
                          <a:pt x="379" y="759"/>
                        </a:lnTo>
                        <a:lnTo>
                          <a:pt x="417" y="753"/>
                        </a:lnTo>
                        <a:lnTo>
                          <a:pt x="455" y="744"/>
                        </a:lnTo>
                        <a:lnTo>
                          <a:pt x="491" y="730"/>
                        </a:lnTo>
                        <a:lnTo>
                          <a:pt x="525" y="715"/>
                        </a:lnTo>
                        <a:lnTo>
                          <a:pt x="559" y="694"/>
                        </a:lnTo>
                        <a:lnTo>
                          <a:pt x="585" y="672"/>
                        </a:lnTo>
                        <a:lnTo>
                          <a:pt x="615" y="647"/>
                        </a:lnTo>
                        <a:lnTo>
                          <a:pt x="639" y="618"/>
                        </a:lnTo>
                        <a:lnTo>
                          <a:pt x="662" y="589"/>
                        </a:lnTo>
                        <a:lnTo>
                          <a:pt x="682" y="555"/>
                        </a:lnTo>
                        <a:lnTo>
                          <a:pt x="697" y="524"/>
                        </a:lnTo>
                        <a:lnTo>
                          <a:pt x="711" y="488"/>
                        </a:lnTo>
                        <a:lnTo>
                          <a:pt x="720" y="450"/>
                        </a:lnTo>
                        <a:lnTo>
                          <a:pt x="727" y="412"/>
                        </a:lnTo>
                        <a:lnTo>
                          <a:pt x="729" y="372"/>
                        </a:lnTo>
                        <a:lnTo>
                          <a:pt x="722" y="372"/>
                        </a:lnTo>
                        <a:lnTo>
                          <a:pt x="720" y="334"/>
                        </a:lnTo>
                        <a:lnTo>
                          <a:pt x="713" y="293"/>
                        </a:lnTo>
                        <a:lnTo>
                          <a:pt x="704" y="257"/>
                        </a:lnTo>
                        <a:lnTo>
                          <a:pt x="691" y="222"/>
                        </a:lnTo>
                        <a:lnTo>
                          <a:pt x="675" y="188"/>
                        </a:lnTo>
                        <a:lnTo>
                          <a:pt x="657" y="157"/>
                        </a:lnTo>
                        <a:lnTo>
                          <a:pt x="635" y="127"/>
                        </a:lnTo>
                        <a:lnTo>
                          <a:pt x="608" y="101"/>
                        </a:lnTo>
                        <a:lnTo>
                          <a:pt x="581" y="74"/>
                        </a:lnTo>
                        <a:lnTo>
                          <a:pt x="554" y="51"/>
                        </a:lnTo>
                        <a:lnTo>
                          <a:pt x="523" y="33"/>
                        </a:lnTo>
                        <a:lnTo>
                          <a:pt x="489" y="18"/>
                        </a:lnTo>
                        <a:lnTo>
                          <a:pt x="453" y="4"/>
                        </a:lnTo>
                        <a:lnTo>
                          <a:pt x="444" y="2"/>
                        </a:lnTo>
                        <a:lnTo>
                          <a:pt x="446" y="2"/>
                        </a:lnTo>
                        <a:lnTo>
                          <a:pt x="451" y="0"/>
                        </a:lnTo>
                        <a:lnTo>
                          <a:pt x="453" y="0"/>
                        </a:lnTo>
                        <a:lnTo>
                          <a:pt x="458" y="0"/>
                        </a:lnTo>
                        <a:lnTo>
                          <a:pt x="491" y="11"/>
                        </a:lnTo>
                        <a:lnTo>
                          <a:pt x="525" y="27"/>
                        </a:lnTo>
                        <a:lnTo>
                          <a:pt x="559" y="47"/>
                        </a:lnTo>
                        <a:lnTo>
                          <a:pt x="585" y="69"/>
                        </a:lnTo>
                        <a:lnTo>
                          <a:pt x="615" y="94"/>
                        </a:lnTo>
                        <a:lnTo>
                          <a:pt x="639" y="123"/>
                        </a:lnTo>
                        <a:lnTo>
                          <a:pt x="662" y="152"/>
                        </a:lnTo>
                        <a:lnTo>
                          <a:pt x="682" y="186"/>
                        </a:lnTo>
                        <a:lnTo>
                          <a:pt x="697" y="219"/>
                        </a:lnTo>
                        <a:lnTo>
                          <a:pt x="711" y="255"/>
                        </a:lnTo>
                        <a:lnTo>
                          <a:pt x="720" y="293"/>
                        </a:lnTo>
                        <a:lnTo>
                          <a:pt x="727" y="331"/>
                        </a:lnTo>
                        <a:lnTo>
                          <a:pt x="729" y="372"/>
                        </a:lnTo>
                        <a:lnTo>
                          <a:pt x="722" y="372"/>
                        </a:lnTo>
                        <a:lnTo>
                          <a:pt x="720" y="412"/>
                        </a:lnTo>
                        <a:lnTo>
                          <a:pt x="713" y="450"/>
                        </a:lnTo>
                        <a:lnTo>
                          <a:pt x="704" y="486"/>
                        </a:lnTo>
                        <a:lnTo>
                          <a:pt x="691" y="522"/>
                        </a:lnTo>
                        <a:lnTo>
                          <a:pt x="675" y="553"/>
                        </a:lnTo>
                        <a:lnTo>
                          <a:pt x="657" y="585"/>
                        </a:lnTo>
                        <a:lnTo>
                          <a:pt x="635" y="614"/>
                        </a:lnTo>
                        <a:lnTo>
                          <a:pt x="608" y="643"/>
                        </a:lnTo>
                        <a:lnTo>
                          <a:pt x="581" y="668"/>
                        </a:lnTo>
                        <a:lnTo>
                          <a:pt x="554" y="690"/>
                        </a:lnTo>
                        <a:lnTo>
                          <a:pt x="523" y="708"/>
                        </a:lnTo>
                        <a:lnTo>
                          <a:pt x="489" y="726"/>
                        </a:lnTo>
                        <a:lnTo>
                          <a:pt x="453" y="737"/>
                        </a:lnTo>
                        <a:lnTo>
                          <a:pt x="417" y="748"/>
                        </a:lnTo>
                        <a:lnTo>
                          <a:pt x="377" y="753"/>
                        </a:lnTo>
                        <a:lnTo>
                          <a:pt x="339" y="755"/>
                        </a:lnTo>
                        <a:lnTo>
                          <a:pt x="299" y="753"/>
                        </a:lnTo>
                        <a:lnTo>
                          <a:pt x="260" y="748"/>
                        </a:lnTo>
                        <a:lnTo>
                          <a:pt x="225" y="737"/>
                        </a:lnTo>
                        <a:lnTo>
                          <a:pt x="189" y="726"/>
                        </a:lnTo>
                        <a:lnTo>
                          <a:pt x="155" y="708"/>
                        </a:lnTo>
                        <a:lnTo>
                          <a:pt x="124" y="690"/>
                        </a:lnTo>
                        <a:lnTo>
                          <a:pt x="95" y="668"/>
                        </a:lnTo>
                        <a:lnTo>
                          <a:pt x="65" y="643"/>
                        </a:lnTo>
                        <a:lnTo>
                          <a:pt x="41" y="614"/>
                        </a:lnTo>
                        <a:lnTo>
                          <a:pt x="18" y="585"/>
                        </a:lnTo>
                        <a:lnTo>
                          <a:pt x="0" y="555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47640" y="1546200"/>
                    <a:ext cx="1149120" cy="12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724" h="757">
                        <a:moveTo>
                          <a:pt x="0" y="560"/>
                        </a:moveTo>
                        <a:lnTo>
                          <a:pt x="0" y="558"/>
                        </a:lnTo>
                        <a:lnTo>
                          <a:pt x="0" y="555"/>
                        </a:lnTo>
                        <a:lnTo>
                          <a:pt x="0" y="553"/>
                        </a:lnTo>
                        <a:lnTo>
                          <a:pt x="0" y="551"/>
                        </a:lnTo>
                        <a:lnTo>
                          <a:pt x="0" y="551"/>
                        </a:lnTo>
                        <a:lnTo>
                          <a:pt x="0" y="551"/>
                        </a:lnTo>
                        <a:lnTo>
                          <a:pt x="0" y="549"/>
                        </a:lnTo>
                        <a:lnTo>
                          <a:pt x="0" y="549"/>
                        </a:lnTo>
                        <a:lnTo>
                          <a:pt x="3" y="551"/>
                        </a:lnTo>
                        <a:lnTo>
                          <a:pt x="23" y="582"/>
                        </a:lnTo>
                        <a:lnTo>
                          <a:pt x="45" y="612"/>
                        </a:lnTo>
                        <a:lnTo>
                          <a:pt x="70" y="638"/>
                        </a:lnTo>
                        <a:lnTo>
                          <a:pt x="97" y="663"/>
                        </a:lnTo>
                        <a:lnTo>
                          <a:pt x="126" y="685"/>
                        </a:lnTo>
                        <a:lnTo>
                          <a:pt x="157" y="706"/>
                        </a:lnTo>
                        <a:lnTo>
                          <a:pt x="191" y="721"/>
                        </a:lnTo>
                        <a:lnTo>
                          <a:pt x="225" y="735"/>
                        </a:lnTo>
                        <a:lnTo>
                          <a:pt x="263" y="744"/>
                        </a:lnTo>
                        <a:lnTo>
                          <a:pt x="301" y="748"/>
                        </a:lnTo>
                        <a:lnTo>
                          <a:pt x="339" y="750"/>
                        </a:lnTo>
                        <a:lnTo>
                          <a:pt x="377" y="748"/>
                        </a:lnTo>
                        <a:lnTo>
                          <a:pt x="415" y="744"/>
                        </a:lnTo>
                        <a:lnTo>
                          <a:pt x="451" y="735"/>
                        </a:lnTo>
                        <a:lnTo>
                          <a:pt x="487" y="721"/>
                        </a:lnTo>
                        <a:lnTo>
                          <a:pt x="520" y="706"/>
                        </a:lnTo>
                        <a:lnTo>
                          <a:pt x="552" y="685"/>
                        </a:lnTo>
                        <a:lnTo>
                          <a:pt x="579" y="663"/>
                        </a:lnTo>
                        <a:lnTo>
                          <a:pt x="606" y="638"/>
                        </a:lnTo>
                        <a:lnTo>
                          <a:pt x="630" y="612"/>
                        </a:lnTo>
                        <a:lnTo>
                          <a:pt x="653" y="582"/>
                        </a:lnTo>
                        <a:lnTo>
                          <a:pt x="671" y="551"/>
                        </a:lnTo>
                        <a:lnTo>
                          <a:pt x="689" y="520"/>
                        </a:lnTo>
                        <a:lnTo>
                          <a:pt x="700" y="486"/>
                        </a:lnTo>
                        <a:lnTo>
                          <a:pt x="711" y="448"/>
                        </a:lnTo>
                        <a:lnTo>
                          <a:pt x="715" y="410"/>
                        </a:lnTo>
                        <a:lnTo>
                          <a:pt x="718" y="372"/>
                        </a:lnTo>
                        <a:lnTo>
                          <a:pt x="724" y="372"/>
                        </a:lnTo>
                        <a:lnTo>
                          <a:pt x="722" y="331"/>
                        </a:lnTo>
                        <a:lnTo>
                          <a:pt x="715" y="293"/>
                        </a:lnTo>
                        <a:lnTo>
                          <a:pt x="706" y="257"/>
                        </a:lnTo>
                        <a:lnTo>
                          <a:pt x="693" y="222"/>
                        </a:lnTo>
                        <a:lnTo>
                          <a:pt x="677" y="188"/>
                        </a:lnTo>
                        <a:lnTo>
                          <a:pt x="657" y="154"/>
                        </a:lnTo>
                        <a:lnTo>
                          <a:pt x="635" y="125"/>
                        </a:lnTo>
                        <a:lnTo>
                          <a:pt x="610" y="98"/>
                        </a:lnTo>
                        <a:lnTo>
                          <a:pt x="583" y="74"/>
                        </a:lnTo>
                        <a:lnTo>
                          <a:pt x="556" y="51"/>
                        </a:lnTo>
                        <a:lnTo>
                          <a:pt x="523" y="31"/>
                        </a:lnTo>
                        <a:lnTo>
                          <a:pt x="489" y="15"/>
                        </a:lnTo>
                        <a:lnTo>
                          <a:pt x="453" y="2"/>
                        </a:lnTo>
                        <a:lnTo>
                          <a:pt x="449" y="0"/>
                        </a:lnTo>
                        <a:lnTo>
                          <a:pt x="444" y="2"/>
                        </a:lnTo>
                        <a:lnTo>
                          <a:pt x="442" y="2"/>
                        </a:lnTo>
                        <a:lnTo>
                          <a:pt x="437" y="2"/>
                        </a:lnTo>
                        <a:lnTo>
                          <a:pt x="435" y="4"/>
                        </a:lnTo>
                        <a:lnTo>
                          <a:pt x="451" y="9"/>
                        </a:lnTo>
                        <a:lnTo>
                          <a:pt x="487" y="20"/>
                        </a:lnTo>
                        <a:lnTo>
                          <a:pt x="520" y="36"/>
                        </a:lnTo>
                        <a:lnTo>
                          <a:pt x="552" y="56"/>
                        </a:lnTo>
                        <a:lnTo>
                          <a:pt x="579" y="78"/>
                        </a:lnTo>
                        <a:lnTo>
                          <a:pt x="606" y="103"/>
                        </a:lnTo>
                        <a:lnTo>
                          <a:pt x="630" y="130"/>
                        </a:lnTo>
                        <a:lnTo>
                          <a:pt x="653" y="159"/>
                        </a:lnTo>
                        <a:lnTo>
                          <a:pt x="671" y="190"/>
                        </a:lnTo>
                        <a:lnTo>
                          <a:pt x="689" y="224"/>
                        </a:lnTo>
                        <a:lnTo>
                          <a:pt x="700" y="260"/>
                        </a:lnTo>
                        <a:lnTo>
                          <a:pt x="711" y="295"/>
                        </a:lnTo>
                        <a:lnTo>
                          <a:pt x="715" y="334"/>
                        </a:lnTo>
                        <a:lnTo>
                          <a:pt x="718" y="372"/>
                        </a:lnTo>
                        <a:lnTo>
                          <a:pt x="724" y="372"/>
                        </a:lnTo>
                        <a:lnTo>
                          <a:pt x="722" y="412"/>
                        </a:lnTo>
                        <a:lnTo>
                          <a:pt x="715" y="450"/>
                        </a:lnTo>
                        <a:lnTo>
                          <a:pt x="706" y="488"/>
                        </a:lnTo>
                        <a:lnTo>
                          <a:pt x="693" y="522"/>
                        </a:lnTo>
                        <a:lnTo>
                          <a:pt x="677" y="555"/>
                        </a:lnTo>
                        <a:lnTo>
                          <a:pt x="657" y="587"/>
                        </a:lnTo>
                        <a:lnTo>
                          <a:pt x="635" y="616"/>
                        </a:lnTo>
                        <a:lnTo>
                          <a:pt x="610" y="643"/>
                        </a:lnTo>
                        <a:lnTo>
                          <a:pt x="583" y="670"/>
                        </a:lnTo>
                        <a:lnTo>
                          <a:pt x="556" y="692"/>
                        </a:lnTo>
                        <a:lnTo>
                          <a:pt x="523" y="710"/>
                        </a:lnTo>
                        <a:lnTo>
                          <a:pt x="489" y="726"/>
                        </a:lnTo>
                        <a:lnTo>
                          <a:pt x="453" y="739"/>
                        </a:lnTo>
                        <a:lnTo>
                          <a:pt x="417" y="750"/>
                        </a:lnTo>
                        <a:lnTo>
                          <a:pt x="379" y="755"/>
                        </a:lnTo>
                        <a:lnTo>
                          <a:pt x="339" y="757"/>
                        </a:lnTo>
                        <a:lnTo>
                          <a:pt x="299" y="755"/>
                        </a:lnTo>
                        <a:lnTo>
                          <a:pt x="260" y="750"/>
                        </a:lnTo>
                        <a:lnTo>
                          <a:pt x="222" y="739"/>
                        </a:lnTo>
                        <a:lnTo>
                          <a:pt x="189" y="726"/>
                        </a:lnTo>
                        <a:lnTo>
                          <a:pt x="153" y="710"/>
                        </a:lnTo>
                        <a:lnTo>
                          <a:pt x="121" y="692"/>
                        </a:lnTo>
                        <a:lnTo>
                          <a:pt x="92" y="670"/>
                        </a:lnTo>
                        <a:lnTo>
                          <a:pt x="65" y="643"/>
                        </a:lnTo>
                        <a:lnTo>
                          <a:pt x="39" y="616"/>
                        </a:lnTo>
                        <a:lnTo>
                          <a:pt x="16" y="587"/>
                        </a:lnTo>
                        <a:lnTo>
                          <a:pt x="0" y="560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47640" y="1549080"/>
                    <a:ext cx="1143000" cy="11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0" h="751">
                        <a:moveTo>
                          <a:pt x="0" y="549"/>
                        </a:moveTo>
                        <a:lnTo>
                          <a:pt x="0" y="549"/>
                        </a:lnTo>
                        <a:lnTo>
                          <a:pt x="0" y="549"/>
                        </a:lnTo>
                        <a:lnTo>
                          <a:pt x="0" y="549"/>
                        </a:lnTo>
                        <a:lnTo>
                          <a:pt x="0" y="549"/>
                        </a:lnTo>
                        <a:lnTo>
                          <a:pt x="0" y="547"/>
                        </a:lnTo>
                        <a:lnTo>
                          <a:pt x="0" y="542"/>
                        </a:lnTo>
                        <a:lnTo>
                          <a:pt x="0" y="540"/>
                        </a:lnTo>
                        <a:lnTo>
                          <a:pt x="0" y="536"/>
                        </a:lnTo>
                        <a:lnTo>
                          <a:pt x="7" y="549"/>
                        </a:lnTo>
                        <a:lnTo>
                          <a:pt x="25" y="578"/>
                        </a:lnTo>
                        <a:lnTo>
                          <a:pt x="48" y="607"/>
                        </a:lnTo>
                        <a:lnTo>
                          <a:pt x="72" y="634"/>
                        </a:lnTo>
                        <a:lnTo>
                          <a:pt x="99" y="659"/>
                        </a:lnTo>
                        <a:lnTo>
                          <a:pt x="128" y="681"/>
                        </a:lnTo>
                        <a:lnTo>
                          <a:pt x="160" y="699"/>
                        </a:lnTo>
                        <a:lnTo>
                          <a:pt x="191" y="715"/>
                        </a:lnTo>
                        <a:lnTo>
                          <a:pt x="227" y="728"/>
                        </a:lnTo>
                        <a:lnTo>
                          <a:pt x="263" y="737"/>
                        </a:lnTo>
                        <a:lnTo>
                          <a:pt x="301" y="744"/>
                        </a:lnTo>
                        <a:lnTo>
                          <a:pt x="339" y="744"/>
                        </a:lnTo>
                        <a:lnTo>
                          <a:pt x="377" y="744"/>
                        </a:lnTo>
                        <a:lnTo>
                          <a:pt x="415" y="737"/>
                        </a:lnTo>
                        <a:lnTo>
                          <a:pt x="451" y="728"/>
                        </a:lnTo>
                        <a:lnTo>
                          <a:pt x="485" y="715"/>
                        </a:lnTo>
                        <a:lnTo>
                          <a:pt x="518" y="699"/>
                        </a:lnTo>
                        <a:lnTo>
                          <a:pt x="550" y="681"/>
                        </a:lnTo>
                        <a:lnTo>
                          <a:pt x="576" y="659"/>
                        </a:lnTo>
                        <a:lnTo>
                          <a:pt x="603" y="634"/>
                        </a:lnTo>
                        <a:lnTo>
                          <a:pt x="628" y="607"/>
                        </a:lnTo>
                        <a:lnTo>
                          <a:pt x="648" y="578"/>
                        </a:lnTo>
                        <a:lnTo>
                          <a:pt x="668" y="549"/>
                        </a:lnTo>
                        <a:lnTo>
                          <a:pt x="684" y="518"/>
                        </a:lnTo>
                        <a:lnTo>
                          <a:pt x="697" y="482"/>
                        </a:lnTo>
                        <a:lnTo>
                          <a:pt x="706" y="446"/>
                        </a:lnTo>
                        <a:lnTo>
                          <a:pt x="711" y="408"/>
                        </a:lnTo>
                        <a:lnTo>
                          <a:pt x="713" y="370"/>
                        </a:lnTo>
                        <a:lnTo>
                          <a:pt x="720" y="370"/>
                        </a:lnTo>
                        <a:lnTo>
                          <a:pt x="718" y="332"/>
                        </a:lnTo>
                        <a:lnTo>
                          <a:pt x="711" y="293"/>
                        </a:lnTo>
                        <a:lnTo>
                          <a:pt x="702" y="255"/>
                        </a:lnTo>
                        <a:lnTo>
                          <a:pt x="689" y="222"/>
                        </a:lnTo>
                        <a:lnTo>
                          <a:pt x="673" y="188"/>
                        </a:lnTo>
                        <a:lnTo>
                          <a:pt x="655" y="155"/>
                        </a:lnTo>
                        <a:lnTo>
                          <a:pt x="632" y="125"/>
                        </a:lnTo>
                        <a:lnTo>
                          <a:pt x="608" y="99"/>
                        </a:lnTo>
                        <a:lnTo>
                          <a:pt x="581" y="74"/>
                        </a:lnTo>
                        <a:lnTo>
                          <a:pt x="552" y="51"/>
                        </a:lnTo>
                        <a:lnTo>
                          <a:pt x="520" y="34"/>
                        </a:lnTo>
                        <a:lnTo>
                          <a:pt x="487" y="18"/>
                        </a:lnTo>
                        <a:lnTo>
                          <a:pt x="453" y="4"/>
                        </a:lnTo>
                        <a:lnTo>
                          <a:pt x="440" y="0"/>
                        </a:lnTo>
                        <a:lnTo>
                          <a:pt x="435" y="2"/>
                        </a:lnTo>
                        <a:lnTo>
                          <a:pt x="433" y="2"/>
                        </a:lnTo>
                        <a:lnTo>
                          <a:pt x="429" y="2"/>
                        </a:lnTo>
                        <a:lnTo>
                          <a:pt x="426" y="4"/>
                        </a:lnTo>
                        <a:lnTo>
                          <a:pt x="451" y="9"/>
                        </a:lnTo>
                        <a:lnTo>
                          <a:pt x="485" y="22"/>
                        </a:lnTo>
                        <a:lnTo>
                          <a:pt x="518" y="38"/>
                        </a:lnTo>
                        <a:lnTo>
                          <a:pt x="550" y="58"/>
                        </a:lnTo>
                        <a:lnTo>
                          <a:pt x="576" y="78"/>
                        </a:lnTo>
                        <a:lnTo>
                          <a:pt x="603" y="103"/>
                        </a:lnTo>
                        <a:lnTo>
                          <a:pt x="628" y="130"/>
                        </a:lnTo>
                        <a:lnTo>
                          <a:pt x="648" y="159"/>
                        </a:lnTo>
                        <a:lnTo>
                          <a:pt x="668" y="190"/>
                        </a:lnTo>
                        <a:lnTo>
                          <a:pt x="684" y="224"/>
                        </a:lnTo>
                        <a:lnTo>
                          <a:pt x="697" y="258"/>
                        </a:lnTo>
                        <a:lnTo>
                          <a:pt x="706" y="293"/>
                        </a:lnTo>
                        <a:lnTo>
                          <a:pt x="711" y="332"/>
                        </a:lnTo>
                        <a:lnTo>
                          <a:pt x="713" y="370"/>
                        </a:lnTo>
                        <a:lnTo>
                          <a:pt x="720" y="370"/>
                        </a:lnTo>
                        <a:lnTo>
                          <a:pt x="718" y="410"/>
                        </a:lnTo>
                        <a:lnTo>
                          <a:pt x="711" y="448"/>
                        </a:lnTo>
                        <a:lnTo>
                          <a:pt x="702" y="484"/>
                        </a:lnTo>
                        <a:lnTo>
                          <a:pt x="689" y="520"/>
                        </a:lnTo>
                        <a:lnTo>
                          <a:pt x="673" y="551"/>
                        </a:lnTo>
                        <a:lnTo>
                          <a:pt x="655" y="583"/>
                        </a:lnTo>
                        <a:lnTo>
                          <a:pt x="632" y="612"/>
                        </a:lnTo>
                        <a:lnTo>
                          <a:pt x="608" y="639"/>
                        </a:lnTo>
                        <a:lnTo>
                          <a:pt x="581" y="663"/>
                        </a:lnTo>
                        <a:lnTo>
                          <a:pt x="552" y="686"/>
                        </a:lnTo>
                        <a:lnTo>
                          <a:pt x="520" y="706"/>
                        </a:lnTo>
                        <a:lnTo>
                          <a:pt x="487" y="722"/>
                        </a:lnTo>
                        <a:lnTo>
                          <a:pt x="453" y="733"/>
                        </a:lnTo>
                        <a:lnTo>
                          <a:pt x="415" y="744"/>
                        </a:lnTo>
                        <a:lnTo>
                          <a:pt x="377" y="748"/>
                        </a:lnTo>
                        <a:lnTo>
                          <a:pt x="339" y="751"/>
                        </a:lnTo>
                        <a:lnTo>
                          <a:pt x="299" y="748"/>
                        </a:lnTo>
                        <a:lnTo>
                          <a:pt x="260" y="744"/>
                        </a:lnTo>
                        <a:lnTo>
                          <a:pt x="225" y="733"/>
                        </a:lnTo>
                        <a:lnTo>
                          <a:pt x="189" y="722"/>
                        </a:lnTo>
                        <a:lnTo>
                          <a:pt x="155" y="706"/>
                        </a:lnTo>
                        <a:lnTo>
                          <a:pt x="124" y="686"/>
                        </a:lnTo>
                        <a:lnTo>
                          <a:pt x="95" y="663"/>
                        </a:lnTo>
                        <a:lnTo>
                          <a:pt x="68" y="639"/>
                        </a:lnTo>
                        <a:lnTo>
                          <a:pt x="43" y="612"/>
                        </a:lnTo>
                        <a:lnTo>
                          <a:pt x="21" y="583"/>
                        </a:lnTo>
                        <a:lnTo>
                          <a:pt x="0" y="551"/>
                        </a:lnTo>
                        <a:lnTo>
                          <a:pt x="0" y="549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47640" y="1552320"/>
                    <a:ext cx="1135080" cy="11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744">
                        <a:moveTo>
                          <a:pt x="0" y="525"/>
                        </a:moveTo>
                        <a:lnTo>
                          <a:pt x="0" y="529"/>
                        </a:lnTo>
                        <a:lnTo>
                          <a:pt x="0" y="531"/>
                        </a:lnTo>
                        <a:lnTo>
                          <a:pt x="0" y="536"/>
                        </a:lnTo>
                        <a:lnTo>
                          <a:pt x="0" y="538"/>
                        </a:lnTo>
                        <a:lnTo>
                          <a:pt x="5" y="547"/>
                        </a:lnTo>
                        <a:lnTo>
                          <a:pt x="25" y="578"/>
                        </a:lnTo>
                        <a:lnTo>
                          <a:pt x="45" y="608"/>
                        </a:lnTo>
                        <a:lnTo>
                          <a:pt x="70" y="634"/>
                        </a:lnTo>
                        <a:lnTo>
                          <a:pt x="97" y="659"/>
                        </a:lnTo>
                        <a:lnTo>
                          <a:pt x="126" y="679"/>
                        </a:lnTo>
                        <a:lnTo>
                          <a:pt x="157" y="699"/>
                        </a:lnTo>
                        <a:lnTo>
                          <a:pt x="191" y="715"/>
                        </a:lnTo>
                        <a:lnTo>
                          <a:pt x="227" y="729"/>
                        </a:lnTo>
                        <a:lnTo>
                          <a:pt x="263" y="738"/>
                        </a:lnTo>
                        <a:lnTo>
                          <a:pt x="301" y="742"/>
                        </a:lnTo>
                        <a:lnTo>
                          <a:pt x="339" y="744"/>
                        </a:lnTo>
                        <a:lnTo>
                          <a:pt x="377" y="742"/>
                        </a:lnTo>
                        <a:lnTo>
                          <a:pt x="415" y="738"/>
                        </a:lnTo>
                        <a:lnTo>
                          <a:pt x="451" y="729"/>
                        </a:lnTo>
                        <a:lnTo>
                          <a:pt x="487" y="715"/>
                        </a:lnTo>
                        <a:lnTo>
                          <a:pt x="520" y="699"/>
                        </a:lnTo>
                        <a:lnTo>
                          <a:pt x="550" y="679"/>
                        </a:lnTo>
                        <a:lnTo>
                          <a:pt x="576" y="659"/>
                        </a:lnTo>
                        <a:lnTo>
                          <a:pt x="603" y="634"/>
                        </a:lnTo>
                        <a:lnTo>
                          <a:pt x="628" y="608"/>
                        </a:lnTo>
                        <a:lnTo>
                          <a:pt x="650" y="578"/>
                        </a:lnTo>
                        <a:lnTo>
                          <a:pt x="671" y="547"/>
                        </a:lnTo>
                        <a:lnTo>
                          <a:pt x="686" y="516"/>
                        </a:lnTo>
                        <a:lnTo>
                          <a:pt x="697" y="480"/>
                        </a:lnTo>
                        <a:lnTo>
                          <a:pt x="709" y="444"/>
                        </a:lnTo>
                        <a:lnTo>
                          <a:pt x="713" y="406"/>
                        </a:lnTo>
                        <a:lnTo>
                          <a:pt x="715" y="368"/>
                        </a:lnTo>
                        <a:lnTo>
                          <a:pt x="709" y="368"/>
                        </a:lnTo>
                        <a:lnTo>
                          <a:pt x="706" y="330"/>
                        </a:lnTo>
                        <a:lnTo>
                          <a:pt x="702" y="294"/>
                        </a:lnTo>
                        <a:lnTo>
                          <a:pt x="693" y="258"/>
                        </a:lnTo>
                        <a:lnTo>
                          <a:pt x="680" y="222"/>
                        </a:lnTo>
                        <a:lnTo>
                          <a:pt x="664" y="191"/>
                        </a:lnTo>
                        <a:lnTo>
                          <a:pt x="646" y="159"/>
                        </a:lnTo>
                        <a:lnTo>
                          <a:pt x="624" y="130"/>
                        </a:lnTo>
                        <a:lnTo>
                          <a:pt x="599" y="105"/>
                        </a:lnTo>
                        <a:lnTo>
                          <a:pt x="574" y="81"/>
                        </a:lnTo>
                        <a:lnTo>
                          <a:pt x="547" y="58"/>
                        </a:lnTo>
                        <a:lnTo>
                          <a:pt x="516" y="40"/>
                        </a:lnTo>
                        <a:lnTo>
                          <a:pt x="485" y="25"/>
                        </a:lnTo>
                        <a:lnTo>
                          <a:pt x="449" y="11"/>
                        </a:lnTo>
                        <a:lnTo>
                          <a:pt x="417" y="5"/>
                        </a:lnTo>
                        <a:lnTo>
                          <a:pt x="422" y="2"/>
                        </a:lnTo>
                        <a:lnTo>
                          <a:pt x="424" y="2"/>
                        </a:lnTo>
                        <a:lnTo>
                          <a:pt x="426" y="2"/>
                        </a:lnTo>
                        <a:lnTo>
                          <a:pt x="431" y="0"/>
                        </a:lnTo>
                        <a:lnTo>
                          <a:pt x="451" y="7"/>
                        </a:lnTo>
                        <a:lnTo>
                          <a:pt x="487" y="18"/>
                        </a:lnTo>
                        <a:lnTo>
                          <a:pt x="520" y="34"/>
                        </a:lnTo>
                        <a:lnTo>
                          <a:pt x="550" y="54"/>
                        </a:lnTo>
                        <a:lnTo>
                          <a:pt x="576" y="76"/>
                        </a:lnTo>
                        <a:lnTo>
                          <a:pt x="603" y="101"/>
                        </a:lnTo>
                        <a:lnTo>
                          <a:pt x="628" y="128"/>
                        </a:lnTo>
                        <a:lnTo>
                          <a:pt x="650" y="157"/>
                        </a:lnTo>
                        <a:lnTo>
                          <a:pt x="671" y="186"/>
                        </a:lnTo>
                        <a:lnTo>
                          <a:pt x="686" y="220"/>
                        </a:lnTo>
                        <a:lnTo>
                          <a:pt x="697" y="256"/>
                        </a:lnTo>
                        <a:lnTo>
                          <a:pt x="709" y="291"/>
                        </a:lnTo>
                        <a:lnTo>
                          <a:pt x="713" y="330"/>
                        </a:lnTo>
                        <a:lnTo>
                          <a:pt x="715" y="368"/>
                        </a:lnTo>
                        <a:lnTo>
                          <a:pt x="709" y="368"/>
                        </a:lnTo>
                        <a:lnTo>
                          <a:pt x="706" y="406"/>
                        </a:lnTo>
                        <a:lnTo>
                          <a:pt x="702" y="444"/>
                        </a:lnTo>
                        <a:lnTo>
                          <a:pt x="693" y="480"/>
                        </a:lnTo>
                        <a:lnTo>
                          <a:pt x="680" y="513"/>
                        </a:lnTo>
                        <a:lnTo>
                          <a:pt x="664" y="545"/>
                        </a:lnTo>
                        <a:lnTo>
                          <a:pt x="646" y="574"/>
                        </a:lnTo>
                        <a:lnTo>
                          <a:pt x="624" y="603"/>
                        </a:lnTo>
                        <a:lnTo>
                          <a:pt x="599" y="630"/>
                        </a:lnTo>
                        <a:lnTo>
                          <a:pt x="574" y="652"/>
                        </a:lnTo>
                        <a:lnTo>
                          <a:pt x="547" y="675"/>
                        </a:lnTo>
                        <a:lnTo>
                          <a:pt x="516" y="693"/>
                        </a:lnTo>
                        <a:lnTo>
                          <a:pt x="485" y="708"/>
                        </a:lnTo>
                        <a:lnTo>
                          <a:pt x="449" y="722"/>
                        </a:lnTo>
                        <a:lnTo>
                          <a:pt x="413" y="731"/>
                        </a:lnTo>
                        <a:lnTo>
                          <a:pt x="377" y="738"/>
                        </a:lnTo>
                        <a:lnTo>
                          <a:pt x="339" y="738"/>
                        </a:lnTo>
                        <a:lnTo>
                          <a:pt x="301" y="738"/>
                        </a:lnTo>
                        <a:lnTo>
                          <a:pt x="263" y="731"/>
                        </a:lnTo>
                        <a:lnTo>
                          <a:pt x="227" y="722"/>
                        </a:lnTo>
                        <a:lnTo>
                          <a:pt x="193" y="708"/>
                        </a:lnTo>
                        <a:lnTo>
                          <a:pt x="162" y="693"/>
                        </a:lnTo>
                        <a:lnTo>
                          <a:pt x="130" y="675"/>
                        </a:lnTo>
                        <a:lnTo>
                          <a:pt x="101" y="652"/>
                        </a:lnTo>
                        <a:lnTo>
                          <a:pt x="74" y="630"/>
                        </a:lnTo>
                        <a:lnTo>
                          <a:pt x="52" y="603"/>
                        </a:lnTo>
                        <a:lnTo>
                          <a:pt x="30" y="574"/>
                        </a:lnTo>
                        <a:lnTo>
                          <a:pt x="12" y="545"/>
                        </a:lnTo>
                        <a:lnTo>
                          <a:pt x="0" y="525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7640" y="1555560"/>
                    <a:ext cx="1128600" cy="117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1" h="738">
                        <a:moveTo>
                          <a:pt x="0" y="514"/>
                        </a:moveTo>
                        <a:lnTo>
                          <a:pt x="0" y="518"/>
                        </a:lnTo>
                        <a:lnTo>
                          <a:pt x="0" y="520"/>
                        </a:lnTo>
                        <a:lnTo>
                          <a:pt x="0" y="525"/>
                        </a:lnTo>
                        <a:lnTo>
                          <a:pt x="0" y="527"/>
                        </a:lnTo>
                        <a:lnTo>
                          <a:pt x="9" y="545"/>
                        </a:lnTo>
                        <a:lnTo>
                          <a:pt x="27" y="574"/>
                        </a:lnTo>
                        <a:lnTo>
                          <a:pt x="50" y="601"/>
                        </a:lnTo>
                        <a:lnTo>
                          <a:pt x="74" y="628"/>
                        </a:lnTo>
                        <a:lnTo>
                          <a:pt x="101" y="653"/>
                        </a:lnTo>
                        <a:lnTo>
                          <a:pt x="128" y="675"/>
                        </a:lnTo>
                        <a:lnTo>
                          <a:pt x="160" y="693"/>
                        </a:lnTo>
                        <a:lnTo>
                          <a:pt x="193" y="709"/>
                        </a:lnTo>
                        <a:lnTo>
                          <a:pt x="227" y="722"/>
                        </a:lnTo>
                        <a:lnTo>
                          <a:pt x="263" y="731"/>
                        </a:lnTo>
                        <a:lnTo>
                          <a:pt x="301" y="738"/>
                        </a:lnTo>
                        <a:lnTo>
                          <a:pt x="339" y="738"/>
                        </a:lnTo>
                        <a:lnTo>
                          <a:pt x="377" y="738"/>
                        </a:lnTo>
                        <a:lnTo>
                          <a:pt x="415" y="731"/>
                        </a:lnTo>
                        <a:lnTo>
                          <a:pt x="451" y="722"/>
                        </a:lnTo>
                        <a:lnTo>
                          <a:pt x="485" y="709"/>
                        </a:lnTo>
                        <a:lnTo>
                          <a:pt x="518" y="693"/>
                        </a:lnTo>
                        <a:lnTo>
                          <a:pt x="547" y="675"/>
                        </a:lnTo>
                        <a:lnTo>
                          <a:pt x="574" y="653"/>
                        </a:lnTo>
                        <a:lnTo>
                          <a:pt x="601" y="628"/>
                        </a:lnTo>
                        <a:lnTo>
                          <a:pt x="626" y="601"/>
                        </a:lnTo>
                        <a:lnTo>
                          <a:pt x="648" y="574"/>
                        </a:lnTo>
                        <a:lnTo>
                          <a:pt x="666" y="545"/>
                        </a:lnTo>
                        <a:lnTo>
                          <a:pt x="682" y="511"/>
                        </a:lnTo>
                        <a:lnTo>
                          <a:pt x="695" y="478"/>
                        </a:lnTo>
                        <a:lnTo>
                          <a:pt x="704" y="442"/>
                        </a:lnTo>
                        <a:lnTo>
                          <a:pt x="709" y="404"/>
                        </a:lnTo>
                        <a:lnTo>
                          <a:pt x="711" y="366"/>
                        </a:lnTo>
                        <a:lnTo>
                          <a:pt x="704" y="366"/>
                        </a:lnTo>
                        <a:lnTo>
                          <a:pt x="702" y="328"/>
                        </a:lnTo>
                        <a:lnTo>
                          <a:pt x="697" y="292"/>
                        </a:lnTo>
                        <a:lnTo>
                          <a:pt x="689" y="256"/>
                        </a:lnTo>
                        <a:lnTo>
                          <a:pt x="675" y="222"/>
                        </a:lnTo>
                        <a:lnTo>
                          <a:pt x="659" y="191"/>
                        </a:lnTo>
                        <a:lnTo>
                          <a:pt x="641" y="160"/>
                        </a:lnTo>
                        <a:lnTo>
                          <a:pt x="621" y="130"/>
                        </a:lnTo>
                        <a:lnTo>
                          <a:pt x="597" y="106"/>
                        </a:lnTo>
                        <a:lnTo>
                          <a:pt x="570" y="81"/>
                        </a:lnTo>
                        <a:lnTo>
                          <a:pt x="545" y="61"/>
                        </a:lnTo>
                        <a:lnTo>
                          <a:pt x="514" y="43"/>
                        </a:lnTo>
                        <a:lnTo>
                          <a:pt x="482" y="27"/>
                        </a:lnTo>
                        <a:lnTo>
                          <a:pt x="449" y="14"/>
                        </a:lnTo>
                        <a:lnTo>
                          <a:pt x="413" y="5"/>
                        </a:lnTo>
                        <a:lnTo>
                          <a:pt x="408" y="5"/>
                        </a:lnTo>
                        <a:lnTo>
                          <a:pt x="413" y="3"/>
                        </a:lnTo>
                        <a:lnTo>
                          <a:pt x="415" y="3"/>
                        </a:lnTo>
                        <a:lnTo>
                          <a:pt x="420" y="3"/>
                        </a:lnTo>
                        <a:lnTo>
                          <a:pt x="422" y="0"/>
                        </a:lnTo>
                        <a:lnTo>
                          <a:pt x="451" y="7"/>
                        </a:lnTo>
                        <a:lnTo>
                          <a:pt x="485" y="21"/>
                        </a:lnTo>
                        <a:lnTo>
                          <a:pt x="518" y="36"/>
                        </a:lnTo>
                        <a:lnTo>
                          <a:pt x="547" y="54"/>
                        </a:lnTo>
                        <a:lnTo>
                          <a:pt x="574" y="77"/>
                        </a:lnTo>
                        <a:lnTo>
                          <a:pt x="601" y="101"/>
                        </a:lnTo>
                        <a:lnTo>
                          <a:pt x="626" y="128"/>
                        </a:lnTo>
                        <a:lnTo>
                          <a:pt x="648" y="157"/>
                        </a:lnTo>
                        <a:lnTo>
                          <a:pt x="666" y="186"/>
                        </a:lnTo>
                        <a:lnTo>
                          <a:pt x="682" y="220"/>
                        </a:lnTo>
                        <a:lnTo>
                          <a:pt x="695" y="254"/>
                        </a:lnTo>
                        <a:lnTo>
                          <a:pt x="704" y="289"/>
                        </a:lnTo>
                        <a:lnTo>
                          <a:pt x="709" y="328"/>
                        </a:lnTo>
                        <a:lnTo>
                          <a:pt x="711" y="366"/>
                        </a:lnTo>
                        <a:lnTo>
                          <a:pt x="704" y="366"/>
                        </a:lnTo>
                        <a:lnTo>
                          <a:pt x="702" y="404"/>
                        </a:lnTo>
                        <a:lnTo>
                          <a:pt x="697" y="440"/>
                        </a:lnTo>
                        <a:lnTo>
                          <a:pt x="689" y="476"/>
                        </a:lnTo>
                        <a:lnTo>
                          <a:pt x="675" y="509"/>
                        </a:lnTo>
                        <a:lnTo>
                          <a:pt x="659" y="543"/>
                        </a:lnTo>
                        <a:lnTo>
                          <a:pt x="641" y="570"/>
                        </a:lnTo>
                        <a:lnTo>
                          <a:pt x="621" y="599"/>
                        </a:lnTo>
                        <a:lnTo>
                          <a:pt x="597" y="623"/>
                        </a:lnTo>
                        <a:lnTo>
                          <a:pt x="570" y="648"/>
                        </a:lnTo>
                        <a:lnTo>
                          <a:pt x="545" y="668"/>
                        </a:lnTo>
                        <a:lnTo>
                          <a:pt x="514" y="688"/>
                        </a:lnTo>
                        <a:lnTo>
                          <a:pt x="482" y="704"/>
                        </a:lnTo>
                        <a:lnTo>
                          <a:pt x="449" y="715"/>
                        </a:lnTo>
                        <a:lnTo>
                          <a:pt x="413" y="724"/>
                        </a:lnTo>
                        <a:lnTo>
                          <a:pt x="377" y="731"/>
                        </a:lnTo>
                        <a:lnTo>
                          <a:pt x="339" y="733"/>
                        </a:lnTo>
                        <a:lnTo>
                          <a:pt x="301" y="731"/>
                        </a:lnTo>
                        <a:lnTo>
                          <a:pt x="265" y="724"/>
                        </a:lnTo>
                        <a:lnTo>
                          <a:pt x="229" y="715"/>
                        </a:lnTo>
                        <a:lnTo>
                          <a:pt x="195" y="704"/>
                        </a:lnTo>
                        <a:lnTo>
                          <a:pt x="162" y="688"/>
                        </a:lnTo>
                        <a:lnTo>
                          <a:pt x="133" y="668"/>
                        </a:lnTo>
                        <a:lnTo>
                          <a:pt x="104" y="648"/>
                        </a:lnTo>
                        <a:lnTo>
                          <a:pt x="79" y="623"/>
                        </a:lnTo>
                        <a:lnTo>
                          <a:pt x="54" y="599"/>
                        </a:lnTo>
                        <a:lnTo>
                          <a:pt x="34" y="570"/>
                        </a:lnTo>
                        <a:lnTo>
                          <a:pt x="14" y="543"/>
                        </a:lnTo>
                        <a:lnTo>
                          <a:pt x="0" y="514"/>
                        </a:lnTo>
                        <a:close/>
                      </a:path>
                    </a:pathLst>
                  </a:custGeom>
                  <a:solidFill>
                    <a:srgbClr val="f0e1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7640" y="1560240"/>
                    <a:ext cx="1120680" cy="115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06" h="730">
                        <a:moveTo>
                          <a:pt x="3" y="502"/>
                        </a:moveTo>
                        <a:lnTo>
                          <a:pt x="3" y="506"/>
                        </a:lnTo>
                        <a:lnTo>
                          <a:pt x="0" y="508"/>
                        </a:lnTo>
                        <a:lnTo>
                          <a:pt x="0" y="513"/>
                        </a:lnTo>
                        <a:lnTo>
                          <a:pt x="0" y="515"/>
                        </a:lnTo>
                        <a:lnTo>
                          <a:pt x="12" y="540"/>
                        </a:lnTo>
                        <a:lnTo>
                          <a:pt x="32" y="569"/>
                        </a:lnTo>
                        <a:lnTo>
                          <a:pt x="52" y="596"/>
                        </a:lnTo>
                        <a:lnTo>
                          <a:pt x="77" y="623"/>
                        </a:lnTo>
                        <a:lnTo>
                          <a:pt x="104" y="647"/>
                        </a:lnTo>
                        <a:lnTo>
                          <a:pt x="130" y="668"/>
                        </a:lnTo>
                        <a:lnTo>
                          <a:pt x="162" y="688"/>
                        </a:lnTo>
                        <a:lnTo>
                          <a:pt x="195" y="701"/>
                        </a:lnTo>
                        <a:lnTo>
                          <a:pt x="229" y="715"/>
                        </a:lnTo>
                        <a:lnTo>
                          <a:pt x="265" y="724"/>
                        </a:lnTo>
                        <a:lnTo>
                          <a:pt x="301" y="730"/>
                        </a:lnTo>
                        <a:lnTo>
                          <a:pt x="339" y="730"/>
                        </a:lnTo>
                        <a:lnTo>
                          <a:pt x="377" y="730"/>
                        </a:lnTo>
                        <a:lnTo>
                          <a:pt x="413" y="724"/>
                        </a:lnTo>
                        <a:lnTo>
                          <a:pt x="449" y="715"/>
                        </a:lnTo>
                        <a:lnTo>
                          <a:pt x="482" y="701"/>
                        </a:lnTo>
                        <a:lnTo>
                          <a:pt x="516" y="688"/>
                        </a:lnTo>
                        <a:lnTo>
                          <a:pt x="545" y="668"/>
                        </a:lnTo>
                        <a:lnTo>
                          <a:pt x="572" y="647"/>
                        </a:lnTo>
                        <a:lnTo>
                          <a:pt x="599" y="623"/>
                        </a:lnTo>
                        <a:lnTo>
                          <a:pt x="621" y="596"/>
                        </a:lnTo>
                        <a:lnTo>
                          <a:pt x="644" y="569"/>
                        </a:lnTo>
                        <a:lnTo>
                          <a:pt x="662" y="540"/>
                        </a:lnTo>
                        <a:lnTo>
                          <a:pt x="677" y="506"/>
                        </a:lnTo>
                        <a:lnTo>
                          <a:pt x="691" y="473"/>
                        </a:lnTo>
                        <a:lnTo>
                          <a:pt x="700" y="437"/>
                        </a:lnTo>
                        <a:lnTo>
                          <a:pt x="704" y="401"/>
                        </a:lnTo>
                        <a:lnTo>
                          <a:pt x="706" y="363"/>
                        </a:lnTo>
                        <a:lnTo>
                          <a:pt x="700" y="363"/>
                        </a:lnTo>
                        <a:lnTo>
                          <a:pt x="700" y="325"/>
                        </a:lnTo>
                        <a:lnTo>
                          <a:pt x="693" y="289"/>
                        </a:lnTo>
                        <a:lnTo>
                          <a:pt x="684" y="255"/>
                        </a:lnTo>
                        <a:lnTo>
                          <a:pt x="673" y="222"/>
                        </a:lnTo>
                        <a:lnTo>
                          <a:pt x="657" y="190"/>
                        </a:lnTo>
                        <a:lnTo>
                          <a:pt x="639" y="159"/>
                        </a:lnTo>
                        <a:lnTo>
                          <a:pt x="617" y="132"/>
                        </a:lnTo>
                        <a:lnTo>
                          <a:pt x="594" y="105"/>
                        </a:lnTo>
                        <a:lnTo>
                          <a:pt x="567" y="83"/>
                        </a:lnTo>
                        <a:lnTo>
                          <a:pt x="543" y="60"/>
                        </a:lnTo>
                        <a:lnTo>
                          <a:pt x="511" y="42"/>
                        </a:lnTo>
                        <a:lnTo>
                          <a:pt x="480" y="27"/>
                        </a:lnTo>
                        <a:lnTo>
                          <a:pt x="446" y="15"/>
                        </a:lnTo>
                        <a:lnTo>
                          <a:pt x="413" y="6"/>
                        </a:lnTo>
                        <a:lnTo>
                          <a:pt x="399" y="4"/>
                        </a:lnTo>
                        <a:lnTo>
                          <a:pt x="404" y="4"/>
                        </a:lnTo>
                        <a:lnTo>
                          <a:pt x="406" y="2"/>
                        </a:lnTo>
                        <a:lnTo>
                          <a:pt x="411" y="2"/>
                        </a:lnTo>
                        <a:lnTo>
                          <a:pt x="413" y="0"/>
                        </a:lnTo>
                        <a:lnTo>
                          <a:pt x="449" y="9"/>
                        </a:lnTo>
                        <a:lnTo>
                          <a:pt x="482" y="22"/>
                        </a:lnTo>
                        <a:lnTo>
                          <a:pt x="516" y="38"/>
                        </a:lnTo>
                        <a:lnTo>
                          <a:pt x="545" y="56"/>
                        </a:lnTo>
                        <a:lnTo>
                          <a:pt x="572" y="78"/>
                        </a:lnTo>
                        <a:lnTo>
                          <a:pt x="599" y="100"/>
                        </a:lnTo>
                        <a:lnTo>
                          <a:pt x="621" y="127"/>
                        </a:lnTo>
                        <a:lnTo>
                          <a:pt x="644" y="157"/>
                        </a:lnTo>
                        <a:lnTo>
                          <a:pt x="662" y="186"/>
                        </a:lnTo>
                        <a:lnTo>
                          <a:pt x="677" y="219"/>
                        </a:lnTo>
                        <a:lnTo>
                          <a:pt x="691" y="253"/>
                        </a:lnTo>
                        <a:lnTo>
                          <a:pt x="700" y="289"/>
                        </a:lnTo>
                        <a:lnTo>
                          <a:pt x="704" y="325"/>
                        </a:lnTo>
                        <a:lnTo>
                          <a:pt x="706" y="363"/>
                        </a:lnTo>
                        <a:lnTo>
                          <a:pt x="700" y="363"/>
                        </a:lnTo>
                        <a:lnTo>
                          <a:pt x="700" y="401"/>
                        </a:lnTo>
                        <a:lnTo>
                          <a:pt x="693" y="437"/>
                        </a:lnTo>
                        <a:lnTo>
                          <a:pt x="684" y="470"/>
                        </a:lnTo>
                        <a:lnTo>
                          <a:pt x="673" y="504"/>
                        </a:lnTo>
                        <a:lnTo>
                          <a:pt x="657" y="538"/>
                        </a:lnTo>
                        <a:lnTo>
                          <a:pt x="639" y="564"/>
                        </a:lnTo>
                        <a:lnTo>
                          <a:pt x="617" y="594"/>
                        </a:lnTo>
                        <a:lnTo>
                          <a:pt x="594" y="618"/>
                        </a:lnTo>
                        <a:lnTo>
                          <a:pt x="567" y="643"/>
                        </a:lnTo>
                        <a:lnTo>
                          <a:pt x="543" y="663"/>
                        </a:lnTo>
                        <a:lnTo>
                          <a:pt x="511" y="681"/>
                        </a:lnTo>
                        <a:lnTo>
                          <a:pt x="480" y="697"/>
                        </a:lnTo>
                        <a:lnTo>
                          <a:pt x="446" y="708"/>
                        </a:lnTo>
                        <a:lnTo>
                          <a:pt x="413" y="717"/>
                        </a:lnTo>
                        <a:lnTo>
                          <a:pt x="377" y="724"/>
                        </a:lnTo>
                        <a:lnTo>
                          <a:pt x="339" y="726"/>
                        </a:lnTo>
                        <a:lnTo>
                          <a:pt x="301" y="724"/>
                        </a:lnTo>
                        <a:lnTo>
                          <a:pt x="265" y="717"/>
                        </a:lnTo>
                        <a:lnTo>
                          <a:pt x="231" y="708"/>
                        </a:lnTo>
                        <a:lnTo>
                          <a:pt x="198" y="697"/>
                        </a:lnTo>
                        <a:lnTo>
                          <a:pt x="164" y="681"/>
                        </a:lnTo>
                        <a:lnTo>
                          <a:pt x="135" y="663"/>
                        </a:lnTo>
                        <a:lnTo>
                          <a:pt x="106" y="643"/>
                        </a:lnTo>
                        <a:lnTo>
                          <a:pt x="81" y="618"/>
                        </a:lnTo>
                        <a:lnTo>
                          <a:pt x="56" y="594"/>
                        </a:lnTo>
                        <a:lnTo>
                          <a:pt x="36" y="564"/>
                        </a:lnTo>
                        <a:lnTo>
                          <a:pt x="18" y="538"/>
                        </a:lnTo>
                        <a:lnTo>
                          <a:pt x="3" y="504"/>
                        </a:lnTo>
                        <a:lnTo>
                          <a:pt x="3" y="502"/>
                        </a:lnTo>
                        <a:close/>
                      </a:path>
                    </a:pathLst>
                  </a:custGeom>
                  <a:solidFill>
                    <a:srgbClr val="f0e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47640" y="1563480"/>
                    <a:ext cx="1114200" cy="115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726">
                        <a:moveTo>
                          <a:pt x="3" y="491"/>
                        </a:moveTo>
                        <a:lnTo>
                          <a:pt x="3" y="493"/>
                        </a:lnTo>
                        <a:lnTo>
                          <a:pt x="3" y="497"/>
                        </a:lnTo>
                        <a:lnTo>
                          <a:pt x="3" y="502"/>
                        </a:lnTo>
                        <a:lnTo>
                          <a:pt x="0" y="504"/>
                        </a:lnTo>
                        <a:lnTo>
                          <a:pt x="16" y="536"/>
                        </a:lnTo>
                        <a:lnTo>
                          <a:pt x="34" y="565"/>
                        </a:lnTo>
                        <a:lnTo>
                          <a:pt x="56" y="592"/>
                        </a:lnTo>
                        <a:lnTo>
                          <a:pt x="79" y="618"/>
                        </a:lnTo>
                        <a:lnTo>
                          <a:pt x="106" y="641"/>
                        </a:lnTo>
                        <a:lnTo>
                          <a:pt x="133" y="663"/>
                        </a:lnTo>
                        <a:lnTo>
                          <a:pt x="164" y="681"/>
                        </a:lnTo>
                        <a:lnTo>
                          <a:pt x="195" y="697"/>
                        </a:lnTo>
                        <a:lnTo>
                          <a:pt x="229" y="708"/>
                        </a:lnTo>
                        <a:lnTo>
                          <a:pt x="265" y="717"/>
                        </a:lnTo>
                        <a:lnTo>
                          <a:pt x="301" y="724"/>
                        </a:lnTo>
                        <a:lnTo>
                          <a:pt x="339" y="726"/>
                        </a:lnTo>
                        <a:lnTo>
                          <a:pt x="377" y="724"/>
                        </a:lnTo>
                        <a:lnTo>
                          <a:pt x="413" y="717"/>
                        </a:lnTo>
                        <a:lnTo>
                          <a:pt x="446" y="708"/>
                        </a:lnTo>
                        <a:lnTo>
                          <a:pt x="482" y="697"/>
                        </a:lnTo>
                        <a:lnTo>
                          <a:pt x="514" y="681"/>
                        </a:lnTo>
                        <a:lnTo>
                          <a:pt x="543" y="663"/>
                        </a:lnTo>
                        <a:lnTo>
                          <a:pt x="570" y="641"/>
                        </a:lnTo>
                        <a:lnTo>
                          <a:pt x="597" y="618"/>
                        </a:lnTo>
                        <a:lnTo>
                          <a:pt x="619" y="592"/>
                        </a:lnTo>
                        <a:lnTo>
                          <a:pt x="639" y="565"/>
                        </a:lnTo>
                        <a:lnTo>
                          <a:pt x="659" y="536"/>
                        </a:lnTo>
                        <a:lnTo>
                          <a:pt x="675" y="504"/>
                        </a:lnTo>
                        <a:lnTo>
                          <a:pt x="686" y="471"/>
                        </a:lnTo>
                        <a:lnTo>
                          <a:pt x="695" y="435"/>
                        </a:lnTo>
                        <a:lnTo>
                          <a:pt x="702" y="399"/>
                        </a:lnTo>
                        <a:lnTo>
                          <a:pt x="702" y="361"/>
                        </a:lnTo>
                        <a:lnTo>
                          <a:pt x="697" y="361"/>
                        </a:lnTo>
                        <a:lnTo>
                          <a:pt x="695" y="325"/>
                        </a:lnTo>
                        <a:lnTo>
                          <a:pt x="689" y="289"/>
                        </a:lnTo>
                        <a:lnTo>
                          <a:pt x="680" y="253"/>
                        </a:lnTo>
                        <a:lnTo>
                          <a:pt x="668" y="222"/>
                        </a:lnTo>
                        <a:lnTo>
                          <a:pt x="653" y="190"/>
                        </a:lnTo>
                        <a:lnTo>
                          <a:pt x="635" y="159"/>
                        </a:lnTo>
                        <a:lnTo>
                          <a:pt x="615" y="132"/>
                        </a:lnTo>
                        <a:lnTo>
                          <a:pt x="590" y="105"/>
                        </a:lnTo>
                        <a:lnTo>
                          <a:pt x="565" y="83"/>
                        </a:lnTo>
                        <a:lnTo>
                          <a:pt x="541" y="63"/>
                        </a:lnTo>
                        <a:lnTo>
                          <a:pt x="509" y="45"/>
                        </a:lnTo>
                        <a:lnTo>
                          <a:pt x="478" y="29"/>
                        </a:lnTo>
                        <a:lnTo>
                          <a:pt x="446" y="18"/>
                        </a:lnTo>
                        <a:lnTo>
                          <a:pt x="411" y="9"/>
                        </a:lnTo>
                        <a:lnTo>
                          <a:pt x="390" y="4"/>
                        </a:lnTo>
                        <a:lnTo>
                          <a:pt x="395" y="4"/>
                        </a:lnTo>
                        <a:lnTo>
                          <a:pt x="397" y="2"/>
                        </a:lnTo>
                        <a:lnTo>
                          <a:pt x="402" y="2"/>
                        </a:lnTo>
                        <a:lnTo>
                          <a:pt x="404" y="0"/>
                        </a:lnTo>
                        <a:lnTo>
                          <a:pt x="413" y="2"/>
                        </a:lnTo>
                        <a:lnTo>
                          <a:pt x="446" y="11"/>
                        </a:lnTo>
                        <a:lnTo>
                          <a:pt x="482" y="22"/>
                        </a:lnTo>
                        <a:lnTo>
                          <a:pt x="514" y="38"/>
                        </a:lnTo>
                        <a:lnTo>
                          <a:pt x="543" y="58"/>
                        </a:lnTo>
                        <a:lnTo>
                          <a:pt x="570" y="78"/>
                        </a:lnTo>
                        <a:lnTo>
                          <a:pt x="597" y="101"/>
                        </a:lnTo>
                        <a:lnTo>
                          <a:pt x="619" y="128"/>
                        </a:lnTo>
                        <a:lnTo>
                          <a:pt x="639" y="157"/>
                        </a:lnTo>
                        <a:lnTo>
                          <a:pt x="659" y="186"/>
                        </a:lnTo>
                        <a:lnTo>
                          <a:pt x="675" y="217"/>
                        </a:lnTo>
                        <a:lnTo>
                          <a:pt x="686" y="253"/>
                        </a:lnTo>
                        <a:lnTo>
                          <a:pt x="695" y="287"/>
                        </a:lnTo>
                        <a:lnTo>
                          <a:pt x="702" y="323"/>
                        </a:lnTo>
                        <a:lnTo>
                          <a:pt x="702" y="361"/>
                        </a:lnTo>
                        <a:lnTo>
                          <a:pt x="697" y="361"/>
                        </a:lnTo>
                        <a:lnTo>
                          <a:pt x="695" y="399"/>
                        </a:lnTo>
                        <a:lnTo>
                          <a:pt x="689" y="435"/>
                        </a:lnTo>
                        <a:lnTo>
                          <a:pt x="680" y="468"/>
                        </a:lnTo>
                        <a:lnTo>
                          <a:pt x="668" y="502"/>
                        </a:lnTo>
                        <a:lnTo>
                          <a:pt x="653" y="533"/>
                        </a:lnTo>
                        <a:lnTo>
                          <a:pt x="635" y="560"/>
                        </a:lnTo>
                        <a:lnTo>
                          <a:pt x="615" y="587"/>
                        </a:lnTo>
                        <a:lnTo>
                          <a:pt x="590" y="614"/>
                        </a:lnTo>
                        <a:lnTo>
                          <a:pt x="565" y="636"/>
                        </a:lnTo>
                        <a:lnTo>
                          <a:pt x="541" y="657"/>
                        </a:lnTo>
                        <a:lnTo>
                          <a:pt x="509" y="674"/>
                        </a:lnTo>
                        <a:lnTo>
                          <a:pt x="478" y="690"/>
                        </a:lnTo>
                        <a:lnTo>
                          <a:pt x="446" y="704"/>
                        </a:lnTo>
                        <a:lnTo>
                          <a:pt x="411" y="713"/>
                        </a:lnTo>
                        <a:lnTo>
                          <a:pt x="375" y="717"/>
                        </a:lnTo>
                        <a:lnTo>
                          <a:pt x="339" y="719"/>
                        </a:lnTo>
                        <a:lnTo>
                          <a:pt x="301" y="717"/>
                        </a:lnTo>
                        <a:lnTo>
                          <a:pt x="265" y="713"/>
                        </a:lnTo>
                        <a:lnTo>
                          <a:pt x="231" y="704"/>
                        </a:lnTo>
                        <a:lnTo>
                          <a:pt x="198" y="690"/>
                        </a:lnTo>
                        <a:lnTo>
                          <a:pt x="166" y="674"/>
                        </a:lnTo>
                        <a:lnTo>
                          <a:pt x="137" y="657"/>
                        </a:lnTo>
                        <a:lnTo>
                          <a:pt x="110" y="636"/>
                        </a:lnTo>
                        <a:lnTo>
                          <a:pt x="83" y="614"/>
                        </a:lnTo>
                        <a:lnTo>
                          <a:pt x="61" y="587"/>
                        </a:lnTo>
                        <a:lnTo>
                          <a:pt x="41" y="560"/>
                        </a:lnTo>
                        <a:lnTo>
                          <a:pt x="23" y="533"/>
                        </a:lnTo>
                        <a:lnTo>
                          <a:pt x="7" y="502"/>
                        </a:lnTo>
                        <a:lnTo>
                          <a:pt x="3" y="491"/>
                        </a:lnTo>
                        <a:close/>
                      </a:path>
                    </a:pathLst>
                  </a:custGeom>
                  <a:solidFill>
                    <a:srgbClr val="f3e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52320" y="1569960"/>
                    <a:ext cx="1106280" cy="11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718">
                        <a:moveTo>
                          <a:pt x="2" y="473"/>
                        </a:moveTo>
                        <a:lnTo>
                          <a:pt x="0" y="478"/>
                        </a:lnTo>
                        <a:lnTo>
                          <a:pt x="0" y="482"/>
                        </a:lnTo>
                        <a:lnTo>
                          <a:pt x="0" y="487"/>
                        </a:lnTo>
                        <a:lnTo>
                          <a:pt x="0" y="491"/>
                        </a:lnTo>
                        <a:lnTo>
                          <a:pt x="2" y="498"/>
                        </a:lnTo>
                        <a:lnTo>
                          <a:pt x="18" y="529"/>
                        </a:lnTo>
                        <a:lnTo>
                          <a:pt x="36" y="556"/>
                        </a:lnTo>
                        <a:lnTo>
                          <a:pt x="56" y="585"/>
                        </a:lnTo>
                        <a:lnTo>
                          <a:pt x="80" y="610"/>
                        </a:lnTo>
                        <a:lnTo>
                          <a:pt x="105" y="635"/>
                        </a:lnTo>
                        <a:lnTo>
                          <a:pt x="134" y="655"/>
                        </a:lnTo>
                        <a:lnTo>
                          <a:pt x="163" y="673"/>
                        </a:lnTo>
                        <a:lnTo>
                          <a:pt x="195" y="688"/>
                        </a:lnTo>
                        <a:lnTo>
                          <a:pt x="228" y="700"/>
                        </a:lnTo>
                        <a:lnTo>
                          <a:pt x="262" y="709"/>
                        </a:lnTo>
                        <a:lnTo>
                          <a:pt x="298" y="715"/>
                        </a:lnTo>
                        <a:lnTo>
                          <a:pt x="336" y="718"/>
                        </a:lnTo>
                        <a:lnTo>
                          <a:pt x="372" y="715"/>
                        </a:lnTo>
                        <a:lnTo>
                          <a:pt x="408" y="709"/>
                        </a:lnTo>
                        <a:lnTo>
                          <a:pt x="443" y="700"/>
                        </a:lnTo>
                        <a:lnTo>
                          <a:pt x="477" y="688"/>
                        </a:lnTo>
                        <a:lnTo>
                          <a:pt x="508" y="673"/>
                        </a:lnTo>
                        <a:lnTo>
                          <a:pt x="538" y="655"/>
                        </a:lnTo>
                        <a:lnTo>
                          <a:pt x="564" y="635"/>
                        </a:lnTo>
                        <a:lnTo>
                          <a:pt x="589" y="610"/>
                        </a:lnTo>
                        <a:lnTo>
                          <a:pt x="614" y="585"/>
                        </a:lnTo>
                        <a:lnTo>
                          <a:pt x="634" y="556"/>
                        </a:lnTo>
                        <a:lnTo>
                          <a:pt x="652" y="529"/>
                        </a:lnTo>
                        <a:lnTo>
                          <a:pt x="668" y="498"/>
                        </a:lnTo>
                        <a:lnTo>
                          <a:pt x="679" y="464"/>
                        </a:lnTo>
                        <a:lnTo>
                          <a:pt x="688" y="431"/>
                        </a:lnTo>
                        <a:lnTo>
                          <a:pt x="694" y="395"/>
                        </a:lnTo>
                        <a:lnTo>
                          <a:pt x="697" y="357"/>
                        </a:lnTo>
                        <a:lnTo>
                          <a:pt x="690" y="357"/>
                        </a:lnTo>
                        <a:lnTo>
                          <a:pt x="681" y="285"/>
                        </a:lnTo>
                        <a:lnTo>
                          <a:pt x="661" y="218"/>
                        </a:lnTo>
                        <a:lnTo>
                          <a:pt x="627" y="157"/>
                        </a:lnTo>
                        <a:lnTo>
                          <a:pt x="585" y="106"/>
                        </a:lnTo>
                        <a:lnTo>
                          <a:pt x="535" y="61"/>
                        </a:lnTo>
                        <a:lnTo>
                          <a:pt x="475" y="29"/>
                        </a:lnTo>
                        <a:lnTo>
                          <a:pt x="408" y="9"/>
                        </a:lnTo>
                        <a:lnTo>
                          <a:pt x="376" y="5"/>
                        </a:lnTo>
                        <a:lnTo>
                          <a:pt x="378" y="5"/>
                        </a:lnTo>
                        <a:lnTo>
                          <a:pt x="383" y="3"/>
                        </a:lnTo>
                        <a:lnTo>
                          <a:pt x="387" y="0"/>
                        </a:lnTo>
                        <a:lnTo>
                          <a:pt x="392" y="0"/>
                        </a:lnTo>
                        <a:lnTo>
                          <a:pt x="408" y="3"/>
                        </a:lnTo>
                        <a:lnTo>
                          <a:pt x="443" y="12"/>
                        </a:lnTo>
                        <a:lnTo>
                          <a:pt x="477" y="23"/>
                        </a:lnTo>
                        <a:lnTo>
                          <a:pt x="508" y="38"/>
                        </a:lnTo>
                        <a:lnTo>
                          <a:pt x="538" y="56"/>
                        </a:lnTo>
                        <a:lnTo>
                          <a:pt x="564" y="77"/>
                        </a:lnTo>
                        <a:lnTo>
                          <a:pt x="589" y="101"/>
                        </a:lnTo>
                        <a:lnTo>
                          <a:pt x="614" y="126"/>
                        </a:lnTo>
                        <a:lnTo>
                          <a:pt x="634" y="155"/>
                        </a:lnTo>
                        <a:lnTo>
                          <a:pt x="652" y="184"/>
                        </a:lnTo>
                        <a:lnTo>
                          <a:pt x="668" y="216"/>
                        </a:lnTo>
                        <a:lnTo>
                          <a:pt x="679" y="249"/>
                        </a:lnTo>
                        <a:lnTo>
                          <a:pt x="688" y="285"/>
                        </a:lnTo>
                        <a:lnTo>
                          <a:pt x="694" y="321"/>
                        </a:lnTo>
                        <a:lnTo>
                          <a:pt x="697" y="357"/>
                        </a:lnTo>
                        <a:lnTo>
                          <a:pt x="690" y="357"/>
                        </a:lnTo>
                        <a:lnTo>
                          <a:pt x="681" y="428"/>
                        </a:lnTo>
                        <a:lnTo>
                          <a:pt x="661" y="496"/>
                        </a:lnTo>
                        <a:lnTo>
                          <a:pt x="627" y="554"/>
                        </a:lnTo>
                        <a:lnTo>
                          <a:pt x="585" y="605"/>
                        </a:lnTo>
                        <a:lnTo>
                          <a:pt x="535" y="650"/>
                        </a:lnTo>
                        <a:lnTo>
                          <a:pt x="475" y="682"/>
                        </a:lnTo>
                        <a:lnTo>
                          <a:pt x="408" y="704"/>
                        </a:lnTo>
                        <a:lnTo>
                          <a:pt x="336" y="711"/>
                        </a:lnTo>
                        <a:lnTo>
                          <a:pt x="264" y="704"/>
                        </a:lnTo>
                        <a:lnTo>
                          <a:pt x="197" y="682"/>
                        </a:lnTo>
                        <a:lnTo>
                          <a:pt x="136" y="650"/>
                        </a:lnTo>
                        <a:lnTo>
                          <a:pt x="85" y="605"/>
                        </a:lnTo>
                        <a:lnTo>
                          <a:pt x="40" y="554"/>
                        </a:lnTo>
                        <a:lnTo>
                          <a:pt x="9" y="496"/>
                        </a:lnTo>
                        <a:lnTo>
                          <a:pt x="2" y="473"/>
                        </a:lnTo>
                        <a:close/>
                      </a:path>
                    </a:pathLst>
                  </a:custGeom>
                  <a:solidFill>
                    <a:srgbClr val="f3e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52320" y="1574640"/>
                    <a:ext cx="1098360" cy="11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710">
                        <a:moveTo>
                          <a:pt x="2" y="461"/>
                        </a:moveTo>
                        <a:lnTo>
                          <a:pt x="2" y="466"/>
                        </a:lnTo>
                        <a:lnTo>
                          <a:pt x="2" y="470"/>
                        </a:lnTo>
                        <a:lnTo>
                          <a:pt x="0" y="475"/>
                        </a:lnTo>
                        <a:lnTo>
                          <a:pt x="0" y="477"/>
                        </a:lnTo>
                        <a:lnTo>
                          <a:pt x="6" y="493"/>
                        </a:lnTo>
                        <a:lnTo>
                          <a:pt x="20" y="524"/>
                        </a:lnTo>
                        <a:lnTo>
                          <a:pt x="38" y="551"/>
                        </a:lnTo>
                        <a:lnTo>
                          <a:pt x="60" y="580"/>
                        </a:lnTo>
                        <a:lnTo>
                          <a:pt x="83" y="605"/>
                        </a:lnTo>
                        <a:lnTo>
                          <a:pt x="107" y="627"/>
                        </a:lnTo>
                        <a:lnTo>
                          <a:pt x="136" y="650"/>
                        </a:lnTo>
                        <a:lnTo>
                          <a:pt x="166" y="667"/>
                        </a:lnTo>
                        <a:lnTo>
                          <a:pt x="197" y="681"/>
                        </a:lnTo>
                        <a:lnTo>
                          <a:pt x="228" y="694"/>
                        </a:lnTo>
                        <a:lnTo>
                          <a:pt x="264" y="703"/>
                        </a:lnTo>
                        <a:lnTo>
                          <a:pt x="300" y="708"/>
                        </a:lnTo>
                        <a:lnTo>
                          <a:pt x="336" y="710"/>
                        </a:lnTo>
                        <a:lnTo>
                          <a:pt x="408" y="703"/>
                        </a:lnTo>
                        <a:lnTo>
                          <a:pt x="475" y="681"/>
                        </a:lnTo>
                        <a:lnTo>
                          <a:pt x="535" y="650"/>
                        </a:lnTo>
                        <a:lnTo>
                          <a:pt x="587" y="605"/>
                        </a:lnTo>
                        <a:lnTo>
                          <a:pt x="629" y="551"/>
                        </a:lnTo>
                        <a:lnTo>
                          <a:pt x="663" y="493"/>
                        </a:lnTo>
                        <a:lnTo>
                          <a:pt x="683" y="425"/>
                        </a:lnTo>
                        <a:lnTo>
                          <a:pt x="692" y="354"/>
                        </a:lnTo>
                        <a:lnTo>
                          <a:pt x="686" y="354"/>
                        </a:lnTo>
                        <a:lnTo>
                          <a:pt x="679" y="284"/>
                        </a:lnTo>
                        <a:lnTo>
                          <a:pt x="656" y="217"/>
                        </a:lnTo>
                        <a:lnTo>
                          <a:pt x="625" y="156"/>
                        </a:lnTo>
                        <a:lnTo>
                          <a:pt x="582" y="105"/>
                        </a:lnTo>
                        <a:lnTo>
                          <a:pt x="533" y="62"/>
                        </a:lnTo>
                        <a:lnTo>
                          <a:pt x="473" y="31"/>
                        </a:lnTo>
                        <a:lnTo>
                          <a:pt x="405" y="9"/>
                        </a:lnTo>
                        <a:lnTo>
                          <a:pt x="365" y="6"/>
                        </a:lnTo>
                        <a:lnTo>
                          <a:pt x="369" y="4"/>
                        </a:lnTo>
                        <a:lnTo>
                          <a:pt x="374" y="2"/>
                        </a:lnTo>
                        <a:lnTo>
                          <a:pt x="378" y="2"/>
                        </a:lnTo>
                        <a:lnTo>
                          <a:pt x="383" y="0"/>
                        </a:lnTo>
                        <a:lnTo>
                          <a:pt x="408" y="4"/>
                        </a:lnTo>
                        <a:lnTo>
                          <a:pt x="441" y="13"/>
                        </a:lnTo>
                        <a:lnTo>
                          <a:pt x="475" y="24"/>
                        </a:lnTo>
                        <a:lnTo>
                          <a:pt x="506" y="40"/>
                        </a:lnTo>
                        <a:lnTo>
                          <a:pt x="535" y="58"/>
                        </a:lnTo>
                        <a:lnTo>
                          <a:pt x="560" y="78"/>
                        </a:lnTo>
                        <a:lnTo>
                          <a:pt x="587" y="100"/>
                        </a:lnTo>
                        <a:lnTo>
                          <a:pt x="609" y="127"/>
                        </a:lnTo>
                        <a:lnTo>
                          <a:pt x="629" y="154"/>
                        </a:lnTo>
                        <a:lnTo>
                          <a:pt x="647" y="183"/>
                        </a:lnTo>
                        <a:lnTo>
                          <a:pt x="663" y="215"/>
                        </a:lnTo>
                        <a:lnTo>
                          <a:pt x="674" y="248"/>
                        </a:lnTo>
                        <a:lnTo>
                          <a:pt x="683" y="282"/>
                        </a:lnTo>
                        <a:lnTo>
                          <a:pt x="690" y="318"/>
                        </a:lnTo>
                        <a:lnTo>
                          <a:pt x="692" y="354"/>
                        </a:lnTo>
                        <a:lnTo>
                          <a:pt x="686" y="354"/>
                        </a:lnTo>
                        <a:lnTo>
                          <a:pt x="679" y="425"/>
                        </a:lnTo>
                        <a:lnTo>
                          <a:pt x="656" y="490"/>
                        </a:lnTo>
                        <a:lnTo>
                          <a:pt x="625" y="549"/>
                        </a:lnTo>
                        <a:lnTo>
                          <a:pt x="582" y="600"/>
                        </a:lnTo>
                        <a:lnTo>
                          <a:pt x="533" y="643"/>
                        </a:lnTo>
                        <a:lnTo>
                          <a:pt x="473" y="676"/>
                        </a:lnTo>
                        <a:lnTo>
                          <a:pt x="405" y="697"/>
                        </a:lnTo>
                        <a:lnTo>
                          <a:pt x="336" y="703"/>
                        </a:lnTo>
                        <a:lnTo>
                          <a:pt x="264" y="697"/>
                        </a:lnTo>
                        <a:lnTo>
                          <a:pt x="199" y="676"/>
                        </a:lnTo>
                        <a:lnTo>
                          <a:pt x="139" y="643"/>
                        </a:lnTo>
                        <a:lnTo>
                          <a:pt x="87" y="600"/>
                        </a:lnTo>
                        <a:lnTo>
                          <a:pt x="45" y="549"/>
                        </a:lnTo>
                        <a:lnTo>
                          <a:pt x="11" y="490"/>
                        </a:lnTo>
                        <a:lnTo>
                          <a:pt x="2" y="461"/>
                        </a:lnTo>
                        <a:close/>
                      </a:path>
                    </a:pathLst>
                  </a:custGeom>
                  <a:solidFill>
                    <a:srgbClr val="f3e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55560" y="1581120"/>
                    <a:ext cx="1089000" cy="11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702">
                        <a:moveTo>
                          <a:pt x="2" y="446"/>
                        </a:moveTo>
                        <a:lnTo>
                          <a:pt x="0" y="451"/>
                        </a:lnTo>
                        <a:lnTo>
                          <a:pt x="0" y="455"/>
                        </a:lnTo>
                        <a:lnTo>
                          <a:pt x="0" y="457"/>
                        </a:lnTo>
                        <a:lnTo>
                          <a:pt x="0" y="462"/>
                        </a:lnTo>
                        <a:lnTo>
                          <a:pt x="7" y="489"/>
                        </a:lnTo>
                        <a:lnTo>
                          <a:pt x="40" y="545"/>
                        </a:lnTo>
                        <a:lnTo>
                          <a:pt x="83" y="598"/>
                        </a:lnTo>
                        <a:lnTo>
                          <a:pt x="137" y="641"/>
                        </a:lnTo>
                        <a:lnTo>
                          <a:pt x="195" y="675"/>
                        </a:lnTo>
                        <a:lnTo>
                          <a:pt x="262" y="695"/>
                        </a:lnTo>
                        <a:lnTo>
                          <a:pt x="334" y="702"/>
                        </a:lnTo>
                        <a:lnTo>
                          <a:pt x="406" y="695"/>
                        </a:lnTo>
                        <a:lnTo>
                          <a:pt x="471" y="675"/>
                        </a:lnTo>
                        <a:lnTo>
                          <a:pt x="531" y="641"/>
                        </a:lnTo>
                        <a:lnTo>
                          <a:pt x="580" y="598"/>
                        </a:lnTo>
                        <a:lnTo>
                          <a:pt x="625" y="545"/>
                        </a:lnTo>
                        <a:lnTo>
                          <a:pt x="657" y="489"/>
                        </a:lnTo>
                        <a:lnTo>
                          <a:pt x="677" y="421"/>
                        </a:lnTo>
                        <a:lnTo>
                          <a:pt x="686" y="350"/>
                        </a:lnTo>
                        <a:lnTo>
                          <a:pt x="679" y="350"/>
                        </a:lnTo>
                        <a:lnTo>
                          <a:pt x="672" y="280"/>
                        </a:lnTo>
                        <a:lnTo>
                          <a:pt x="652" y="215"/>
                        </a:lnTo>
                        <a:lnTo>
                          <a:pt x="619" y="155"/>
                        </a:lnTo>
                        <a:lnTo>
                          <a:pt x="576" y="105"/>
                        </a:lnTo>
                        <a:lnTo>
                          <a:pt x="527" y="63"/>
                        </a:lnTo>
                        <a:lnTo>
                          <a:pt x="468" y="29"/>
                        </a:lnTo>
                        <a:lnTo>
                          <a:pt x="403" y="9"/>
                        </a:lnTo>
                        <a:lnTo>
                          <a:pt x="356" y="5"/>
                        </a:lnTo>
                        <a:lnTo>
                          <a:pt x="359" y="5"/>
                        </a:lnTo>
                        <a:lnTo>
                          <a:pt x="363" y="2"/>
                        </a:lnTo>
                        <a:lnTo>
                          <a:pt x="365" y="0"/>
                        </a:lnTo>
                        <a:lnTo>
                          <a:pt x="367" y="0"/>
                        </a:lnTo>
                        <a:lnTo>
                          <a:pt x="406" y="5"/>
                        </a:lnTo>
                        <a:lnTo>
                          <a:pt x="471" y="25"/>
                        </a:lnTo>
                        <a:lnTo>
                          <a:pt x="531" y="56"/>
                        </a:lnTo>
                        <a:lnTo>
                          <a:pt x="580" y="101"/>
                        </a:lnTo>
                        <a:lnTo>
                          <a:pt x="625" y="152"/>
                        </a:lnTo>
                        <a:lnTo>
                          <a:pt x="657" y="213"/>
                        </a:lnTo>
                        <a:lnTo>
                          <a:pt x="677" y="278"/>
                        </a:lnTo>
                        <a:lnTo>
                          <a:pt x="686" y="350"/>
                        </a:lnTo>
                        <a:lnTo>
                          <a:pt x="679" y="350"/>
                        </a:lnTo>
                        <a:lnTo>
                          <a:pt x="672" y="419"/>
                        </a:lnTo>
                        <a:lnTo>
                          <a:pt x="652" y="484"/>
                        </a:lnTo>
                        <a:lnTo>
                          <a:pt x="619" y="542"/>
                        </a:lnTo>
                        <a:lnTo>
                          <a:pt x="576" y="594"/>
                        </a:lnTo>
                        <a:lnTo>
                          <a:pt x="527" y="637"/>
                        </a:lnTo>
                        <a:lnTo>
                          <a:pt x="468" y="668"/>
                        </a:lnTo>
                        <a:lnTo>
                          <a:pt x="403" y="688"/>
                        </a:lnTo>
                        <a:lnTo>
                          <a:pt x="334" y="695"/>
                        </a:lnTo>
                        <a:lnTo>
                          <a:pt x="264" y="688"/>
                        </a:lnTo>
                        <a:lnTo>
                          <a:pt x="199" y="668"/>
                        </a:lnTo>
                        <a:lnTo>
                          <a:pt x="139" y="637"/>
                        </a:lnTo>
                        <a:lnTo>
                          <a:pt x="87" y="594"/>
                        </a:lnTo>
                        <a:lnTo>
                          <a:pt x="45" y="542"/>
                        </a:lnTo>
                        <a:lnTo>
                          <a:pt x="13" y="484"/>
                        </a:lnTo>
                        <a:lnTo>
                          <a:pt x="2" y="446"/>
                        </a:lnTo>
                        <a:close/>
                      </a:path>
                    </a:pathLst>
                  </a:custGeom>
                  <a:solidFill>
                    <a:srgbClr val="f3e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55560" y="1584000"/>
                    <a:ext cx="1081080" cy="11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695">
                        <a:moveTo>
                          <a:pt x="2" y="435"/>
                        </a:moveTo>
                        <a:lnTo>
                          <a:pt x="2" y="440"/>
                        </a:lnTo>
                        <a:lnTo>
                          <a:pt x="2" y="442"/>
                        </a:lnTo>
                        <a:lnTo>
                          <a:pt x="2" y="446"/>
                        </a:lnTo>
                        <a:lnTo>
                          <a:pt x="0" y="451"/>
                        </a:lnTo>
                        <a:lnTo>
                          <a:pt x="11" y="484"/>
                        </a:lnTo>
                        <a:lnTo>
                          <a:pt x="45" y="540"/>
                        </a:lnTo>
                        <a:lnTo>
                          <a:pt x="87" y="592"/>
                        </a:lnTo>
                        <a:lnTo>
                          <a:pt x="139" y="635"/>
                        </a:lnTo>
                        <a:lnTo>
                          <a:pt x="197" y="668"/>
                        </a:lnTo>
                        <a:lnTo>
                          <a:pt x="262" y="688"/>
                        </a:lnTo>
                        <a:lnTo>
                          <a:pt x="334" y="695"/>
                        </a:lnTo>
                        <a:lnTo>
                          <a:pt x="403" y="688"/>
                        </a:lnTo>
                        <a:lnTo>
                          <a:pt x="471" y="668"/>
                        </a:lnTo>
                        <a:lnTo>
                          <a:pt x="529" y="635"/>
                        </a:lnTo>
                        <a:lnTo>
                          <a:pt x="578" y="592"/>
                        </a:lnTo>
                        <a:lnTo>
                          <a:pt x="621" y="540"/>
                        </a:lnTo>
                        <a:lnTo>
                          <a:pt x="654" y="484"/>
                        </a:lnTo>
                        <a:lnTo>
                          <a:pt x="675" y="419"/>
                        </a:lnTo>
                        <a:lnTo>
                          <a:pt x="681" y="348"/>
                        </a:lnTo>
                        <a:lnTo>
                          <a:pt x="675" y="348"/>
                        </a:lnTo>
                        <a:lnTo>
                          <a:pt x="668" y="278"/>
                        </a:lnTo>
                        <a:lnTo>
                          <a:pt x="648" y="213"/>
                        </a:lnTo>
                        <a:lnTo>
                          <a:pt x="616" y="157"/>
                        </a:lnTo>
                        <a:lnTo>
                          <a:pt x="574" y="106"/>
                        </a:lnTo>
                        <a:lnTo>
                          <a:pt x="524" y="63"/>
                        </a:lnTo>
                        <a:lnTo>
                          <a:pt x="466" y="32"/>
                        </a:lnTo>
                        <a:lnTo>
                          <a:pt x="403" y="12"/>
                        </a:lnTo>
                        <a:lnTo>
                          <a:pt x="347" y="7"/>
                        </a:lnTo>
                        <a:lnTo>
                          <a:pt x="350" y="5"/>
                        </a:lnTo>
                        <a:lnTo>
                          <a:pt x="354" y="3"/>
                        </a:lnTo>
                        <a:lnTo>
                          <a:pt x="356" y="3"/>
                        </a:lnTo>
                        <a:lnTo>
                          <a:pt x="361" y="0"/>
                        </a:lnTo>
                        <a:lnTo>
                          <a:pt x="403" y="5"/>
                        </a:lnTo>
                        <a:lnTo>
                          <a:pt x="471" y="25"/>
                        </a:lnTo>
                        <a:lnTo>
                          <a:pt x="529" y="59"/>
                        </a:lnTo>
                        <a:lnTo>
                          <a:pt x="578" y="101"/>
                        </a:lnTo>
                        <a:lnTo>
                          <a:pt x="621" y="153"/>
                        </a:lnTo>
                        <a:lnTo>
                          <a:pt x="654" y="211"/>
                        </a:lnTo>
                        <a:lnTo>
                          <a:pt x="675" y="278"/>
                        </a:lnTo>
                        <a:lnTo>
                          <a:pt x="681" y="348"/>
                        </a:lnTo>
                        <a:lnTo>
                          <a:pt x="675" y="348"/>
                        </a:lnTo>
                        <a:lnTo>
                          <a:pt x="668" y="417"/>
                        </a:lnTo>
                        <a:lnTo>
                          <a:pt x="648" y="482"/>
                        </a:lnTo>
                        <a:lnTo>
                          <a:pt x="616" y="538"/>
                        </a:lnTo>
                        <a:lnTo>
                          <a:pt x="574" y="588"/>
                        </a:lnTo>
                        <a:lnTo>
                          <a:pt x="524" y="630"/>
                        </a:lnTo>
                        <a:lnTo>
                          <a:pt x="466" y="661"/>
                        </a:lnTo>
                        <a:lnTo>
                          <a:pt x="403" y="682"/>
                        </a:lnTo>
                        <a:lnTo>
                          <a:pt x="334" y="688"/>
                        </a:lnTo>
                        <a:lnTo>
                          <a:pt x="264" y="682"/>
                        </a:lnTo>
                        <a:lnTo>
                          <a:pt x="199" y="661"/>
                        </a:lnTo>
                        <a:lnTo>
                          <a:pt x="141" y="630"/>
                        </a:lnTo>
                        <a:lnTo>
                          <a:pt x="92" y="588"/>
                        </a:lnTo>
                        <a:lnTo>
                          <a:pt x="49" y="538"/>
                        </a:lnTo>
                        <a:lnTo>
                          <a:pt x="18" y="482"/>
                        </a:lnTo>
                        <a:lnTo>
                          <a:pt x="2" y="435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58800" y="1591920"/>
                    <a:ext cx="1071360" cy="108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75" h="686">
                        <a:moveTo>
                          <a:pt x="2" y="421"/>
                        </a:moveTo>
                        <a:lnTo>
                          <a:pt x="2" y="426"/>
                        </a:lnTo>
                        <a:lnTo>
                          <a:pt x="2" y="428"/>
                        </a:lnTo>
                        <a:lnTo>
                          <a:pt x="0" y="432"/>
                        </a:lnTo>
                        <a:lnTo>
                          <a:pt x="0" y="435"/>
                        </a:lnTo>
                        <a:lnTo>
                          <a:pt x="14" y="477"/>
                        </a:lnTo>
                        <a:lnTo>
                          <a:pt x="45" y="533"/>
                        </a:lnTo>
                        <a:lnTo>
                          <a:pt x="88" y="585"/>
                        </a:lnTo>
                        <a:lnTo>
                          <a:pt x="139" y="627"/>
                        </a:lnTo>
                        <a:lnTo>
                          <a:pt x="197" y="659"/>
                        </a:lnTo>
                        <a:lnTo>
                          <a:pt x="262" y="679"/>
                        </a:lnTo>
                        <a:lnTo>
                          <a:pt x="332" y="686"/>
                        </a:lnTo>
                        <a:lnTo>
                          <a:pt x="401" y="679"/>
                        </a:lnTo>
                        <a:lnTo>
                          <a:pt x="466" y="659"/>
                        </a:lnTo>
                        <a:lnTo>
                          <a:pt x="525" y="627"/>
                        </a:lnTo>
                        <a:lnTo>
                          <a:pt x="574" y="585"/>
                        </a:lnTo>
                        <a:lnTo>
                          <a:pt x="617" y="533"/>
                        </a:lnTo>
                        <a:lnTo>
                          <a:pt x="648" y="477"/>
                        </a:lnTo>
                        <a:lnTo>
                          <a:pt x="668" y="412"/>
                        </a:lnTo>
                        <a:lnTo>
                          <a:pt x="675" y="343"/>
                        </a:lnTo>
                        <a:lnTo>
                          <a:pt x="668" y="343"/>
                        </a:lnTo>
                        <a:lnTo>
                          <a:pt x="661" y="275"/>
                        </a:lnTo>
                        <a:lnTo>
                          <a:pt x="641" y="210"/>
                        </a:lnTo>
                        <a:lnTo>
                          <a:pt x="610" y="154"/>
                        </a:lnTo>
                        <a:lnTo>
                          <a:pt x="569" y="103"/>
                        </a:lnTo>
                        <a:lnTo>
                          <a:pt x="520" y="63"/>
                        </a:lnTo>
                        <a:lnTo>
                          <a:pt x="464" y="31"/>
                        </a:lnTo>
                        <a:lnTo>
                          <a:pt x="399" y="11"/>
                        </a:lnTo>
                        <a:lnTo>
                          <a:pt x="336" y="4"/>
                        </a:lnTo>
                        <a:lnTo>
                          <a:pt x="339" y="4"/>
                        </a:lnTo>
                        <a:lnTo>
                          <a:pt x="343" y="2"/>
                        </a:lnTo>
                        <a:lnTo>
                          <a:pt x="345" y="0"/>
                        </a:lnTo>
                        <a:lnTo>
                          <a:pt x="350" y="0"/>
                        </a:lnTo>
                        <a:lnTo>
                          <a:pt x="401" y="4"/>
                        </a:lnTo>
                        <a:lnTo>
                          <a:pt x="466" y="24"/>
                        </a:lnTo>
                        <a:lnTo>
                          <a:pt x="525" y="56"/>
                        </a:lnTo>
                        <a:lnTo>
                          <a:pt x="574" y="98"/>
                        </a:lnTo>
                        <a:lnTo>
                          <a:pt x="617" y="150"/>
                        </a:lnTo>
                        <a:lnTo>
                          <a:pt x="648" y="208"/>
                        </a:lnTo>
                        <a:lnTo>
                          <a:pt x="668" y="273"/>
                        </a:lnTo>
                        <a:lnTo>
                          <a:pt x="675" y="343"/>
                        </a:lnTo>
                        <a:lnTo>
                          <a:pt x="668" y="343"/>
                        </a:lnTo>
                        <a:lnTo>
                          <a:pt x="661" y="412"/>
                        </a:lnTo>
                        <a:lnTo>
                          <a:pt x="641" y="475"/>
                        </a:lnTo>
                        <a:lnTo>
                          <a:pt x="610" y="531"/>
                        </a:lnTo>
                        <a:lnTo>
                          <a:pt x="569" y="580"/>
                        </a:lnTo>
                        <a:lnTo>
                          <a:pt x="520" y="621"/>
                        </a:lnTo>
                        <a:lnTo>
                          <a:pt x="464" y="652"/>
                        </a:lnTo>
                        <a:lnTo>
                          <a:pt x="399" y="672"/>
                        </a:lnTo>
                        <a:lnTo>
                          <a:pt x="332" y="679"/>
                        </a:lnTo>
                        <a:lnTo>
                          <a:pt x="262" y="672"/>
                        </a:lnTo>
                        <a:lnTo>
                          <a:pt x="200" y="652"/>
                        </a:lnTo>
                        <a:lnTo>
                          <a:pt x="141" y="621"/>
                        </a:lnTo>
                        <a:lnTo>
                          <a:pt x="92" y="580"/>
                        </a:lnTo>
                        <a:lnTo>
                          <a:pt x="52" y="531"/>
                        </a:lnTo>
                        <a:lnTo>
                          <a:pt x="20" y="475"/>
                        </a:lnTo>
                        <a:lnTo>
                          <a:pt x="2" y="421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61680" y="1595160"/>
                    <a:ext cx="1060560" cy="10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668" h="679">
                        <a:moveTo>
                          <a:pt x="3" y="410"/>
                        </a:moveTo>
                        <a:lnTo>
                          <a:pt x="3" y="415"/>
                        </a:lnTo>
                        <a:lnTo>
                          <a:pt x="0" y="417"/>
                        </a:lnTo>
                        <a:lnTo>
                          <a:pt x="0" y="421"/>
                        </a:lnTo>
                        <a:lnTo>
                          <a:pt x="0" y="424"/>
                        </a:lnTo>
                        <a:lnTo>
                          <a:pt x="16" y="473"/>
                        </a:lnTo>
                        <a:lnTo>
                          <a:pt x="47" y="529"/>
                        </a:lnTo>
                        <a:lnTo>
                          <a:pt x="88" y="581"/>
                        </a:lnTo>
                        <a:lnTo>
                          <a:pt x="139" y="621"/>
                        </a:lnTo>
                        <a:lnTo>
                          <a:pt x="198" y="652"/>
                        </a:lnTo>
                        <a:lnTo>
                          <a:pt x="260" y="672"/>
                        </a:lnTo>
                        <a:lnTo>
                          <a:pt x="330" y="679"/>
                        </a:lnTo>
                        <a:lnTo>
                          <a:pt x="399" y="672"/>
                        </a:lnTo>
                        <a:lnTo>
                          <a:pt x="462" y="652"/>
                        </a:lnTo>
                        <a:lnTo>
                          <a:pt x="520" y="621"/>
                        </a:lnTo>
                        <a:lnTo>
                          <a:pt x="567" y="581"/>
                        </a:lnTo>
                        <a:lnTo>
                          <a:pt x="610" y="529"/>
                        </a:lnTo>
                        <a:lnTo>
                          <a:pt x="641" y="473"/>
                        </a:lnTo>
                        <a:lnTo>
                          <a:pt x="662" y="410"/>
                        </a:lnTo>
                        <a:lnTo>
                          <a:pt x="668" y="341"/>
                        </a:lnTo>
                        <a:lnTo>
                          <a:pt x="662" y="341"/>
                        </a:lnTo>
                        <a:lnTo>
                          <a:pt x="655" y="273"/>
                        </a:lnTo>
                        <a:lnTo>
                          <a:pt x="635" y="211"/>
                        </a:lnTo>
                        <a:lnTo>
                          <a:pt x="606" y="155"/>
                        </a:lnTo>
                        <a:lnTo>
                          <a:pt x="563" y="105"/>
                        </a:lnTo>
                        <a:lnTo>
                          <a:pt x="516" y="63"/>
                        </a:lnTo>
                        <a:lnTo>
                          <a:pt x="460" y="34"/>
                        </a:lnTo>
                        <a:lnTo>
                          <a:pt x="397" y="13"/>
                        </a:lnTo>
                        <a:lnTo>
                          <a:pt x="330" y="7"/>
                        </a:lnTo>
                        <a:lnTo>
                          <a:pt x="325" y="7"/>
                        </a:lnTo>
                        <a:lnTo>
                          <a:pt x="328" y="5"/>
                        </a:lnTo>
                        <a:lnTo>
                          <a:pt x="332" y="5"/>
                        </a:lnTo>
                        <a:lnTo>
                          <a:pt x="334" y="2"/>
                        </a:lnTo>
                        <a:lnTo>
                          <a:pt x="339" y="0"/>
                        </a:lnTo>
                        <a:lnTo>
                          <a:pt x="399" y="7"/>
                        </a:lnTo>
                        <a:lnTo>
                          <a:pt x="462" y="27"/>
                        </a:lnTo>
                        <a:lnTo>
                          <a:pt x="520" y="58"/>
                        </a:lnTo>
                        <a:lnTo>
                          <a:pt x="567" y="101"/>
                        </a:lnTo>
                        <a:lnTo>
                          <a:pt x="610" y="150"/>
                        </a:lnTo>
                        <a:lnTo>
                          <a:pt x="641" y="208"/>
                        </a:lnTo>
                        <a:lnTo>
                          <a:pt x="662" y="271"/>
                        </a:lnTo>
                        <a:lnTo>
                          <a:pt x="668" y="341"/>
                        </a:lnTo>
                        <a:lnTo>
                          <a:pt x="662" y="341"/>
                        </a:lnTo>
                        <a:lnTo>
                          <a:pt x="655" y="408"/>
                        </a:lnTo>
                        <a:lnTo>
                          <a:pt x="635" y="471"/>
                        </a:lnTo>
                        <a:lnTo>
                          <a:pt x="606" y="527"/>
                        </a:lnTo>
                        <a:lnTo>
                          <a:pt x="563" y="576"/>
                        </a:lnTo>
                        <a:lnTo>
                          <a:pt x="516" y="616"/>
                        </a:lnTo>
                        <a:lnTo>
                          <a:pt x="460" y="648"/>
                        </a:lnTo>
                        <a:lnTo>
                          <a:pt x="397" y="666"/>
                        </a:lnTo>
                        <a:lnTo>
                          <a:pt x="330" y="672"/>
                        </a:lnTo>
                        <a:lnTo>
                          <a:pt x="263" y="666"/>
                        </a:lnTo>
                        <a:lnTo>
                          <a:pt x="200" y="648"/>
                        </a:lnTo>
                        <a:lnTo>
                          <a:pt x="142" y="616"/>
                        </a:lnTo>
                        <a:lnTo>
                          <a:pt x="92" y="576"/>
                        </a:lnTo>
                        <a:lnTo>
                          <a:pt x="52" y="527"/>
                        </a:lnTo>
                        <a:lnTo>
                          <a:pt x="21" y="471"/>
                        </a:lnTo>
                        <a:lnTo>
                          <a:pt x="3" y="410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61680" y="1603080"/>
                    <a:ext cx="1054080" cy="10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670">
                        <a:moveTo>
                          <a:pt x="5" y="394"/>
                        </a:moveTo>
                        <a:lnTo>
                          <a:pt x="5" y="398"/>
                        </a:lnTo>
                        <a:lnTo>
                          <a:pt x="3" y="401"/>
                        </a:lnTo>
                        <a:lnTo>
                          <a:pt x="3" y="405"/>
                        </a:lnTo>
                        <a:lnTo>
                          <a:pt x="0" y="410"/>
                        </a:lnTo>
                        <a:lnTo>
                          <a:pt x="18" y="468"/>
                        </a:lnTo>
                        <a:lnTo>
                          <a:pt x="50" y="522"/>
                        </a:lnTo>
                        <a:lnTo>
                          <a:pt x="92" y="571"/>
                        </a:lnTo>
                        <a:lnTo>
                          <a:pt x="142" y="614"/>
                        </a:lnTo>
                        <a:lnTo>
                          <a:pt x="198" y="645"/>
                        </a:lnTo>
                        <a:lnTo>
                          <a:pt x="263" y="663"/>
                        </a:lnTo>
                        <a:lnTo>
                          <a:pt x="330" y="670"/>
                        </a:lnTo>
                        <a:lnTo>
                          <a:pt x="397" y="663"/>
                        </a:lnTo>
                        <a:lnTo>
                          <a:pt x="460" y="645"/>
                        </a:lnTo>
                        <a:lnTo>
                          <a:pt x="518" y="614"/>
                        </a:lnTo>
                        <a:lnTo>
                          <a:pt x="565" y="571"/>
                        </a:lnTo>
                        <a:lnTo>
                          <a:pt x="606" y="522"/>
                        </a:lnTo>
                        <a:lnTo>
                          <a:pt x="637" y="468"/>
                        </a:lnTo>
                        <a:lnTo>
                          <a:pt x="657" y="403"/>
                        </a:lnTo>
                        <a:lnTo>
                          <a:pt x="664" y="336"/>
                        </a:lnTo>
                        <a:lnTo>
                          <a:pt x="657" y="336"/>
                        </a:lnTo>
                        <a:lnTo>
                          <a:pt x="650" y="268"/>
                        </a:lnTo>
                        <a:lnTo>
                          <a:pt x="632" y="208"/>
                        </a:lnTo>
                        <a:lnTo>
                          <a:pt x="601" y="152"/>
                        </a:lnTo>
                        <a:lnTo>
                          <a:pt x="561" y="103"/>
                        </a:lnTo>
                        <a:lnTo>
                          <a:pt x="514" y="62"/>
                        </a:lnTo>
                        <a:lnTo>
                          <a:pt x="458" y="31"/>
                        </a:lnTo>
                        <a:lnTo>
                          <a:pt x="397" y="13"/>
                        </a:lnTo>
                        <a:lnTo>
                          <a:pt x="330" y="6"/>
                        </a:lnTo>
                        <a:lnTo>
                          <a:pt x="314" y="6"/>
                        </a:lnTo>
                        <a:lnTo>
                          <a:pt x="319" y="6"/>
                        </a:lnTo>
                        <a:lnTo>
                          <a:pt x="321" y="4"/>
                        </a:lnTo>
                        <a:lnTo>
                          <a:pt x="325" y="2"/>
                        </a:lnTo>
                        <a:lnTo>
                          <a:pt x="330" y="0"/>
                        </a:lnTo>
                        <a:lnTo>
                          <a:pt x="397" y="6"/>
                        </a:lnTo>
                        <a:lnTo>
                          <a:pt x="460" y="26"/>
                        </a:lnTo>
                        <a:lnTo>
                          <a:pt x="518" y="58"/>
                        </a:lnTo>
                        <a:lnTo>
                          <a:pt x="565" y="98"/>
                        </a:lnTo>
                        <a:lnTo>
                          <a:pt x="606" y="147"/>
                        </a:lnTo>
                        <a:lnTo>
                          <a:pt x="637" y="206"/>
                        </a:lnTo>
                        <a:lnTo>
                          <a:pt x="657" y="268"/>
                        </a:lnTo>
                        <a:lnTo>
                          <a:pt x="664" y="336"/>
                        </a:lnTo>
                        <a:lnTo>
                          <a:pt x="657" y="336"/>
                        </a:lnTo>
                        <a:lnTo>
                          <a:pt x="650" y="403"/>
                        </a:lnTo>
                        <a:lnTo>
                          <a:pt x="632" y="463"/>
                        </a:lnTo>
                        <a:lnTo>
                          <a:pt x="601" y="519"/>
                        </a:lnTo>
                        <a:lnTo>
                          <a:pt x="561" y="567"/>
                        </a:lnTo>
                        <a:lnTo>
                          <a:pt x="514" y="607"/>
                        </a:lnTo>
                        <a:lnTo>
                          <a:pt x="458" y="638"/>
                        </a:lnTo>
                        <a:lnTo>
                          <a:pt x="397" y="658"/>
                        </a:lnTo>
                        <a:lnTo>
                          <a:pt x="330" y="665"/>
                        </a:lnTo>
                        <a:lnTo>
                          <a:pt x="263" y="658"/>
                        </a:lnTo>
                        <a:lnTo>
                          <a:pt x="200" y="638"/>
                        </a:lnTo>
                        <a:lnTo>
                          <a:pt x="144" y="607"/>
                        </a:lnTo>
                        <a:lnTo>
                          <a:pt x="97" y="567"/>
                        </a:lnTo>
                        <a:lnTo>
                          <a:pt x="56" y="519"/>
                        </a:lnTo>
                        <a:lnTo>
                          <a:pt x="25" y="463"/>
                        </a:lnTo>
                        <a:lnTo>
                          <a:pt x="5" y="403"/>
                        </a:lnTo>
                        <a:lnTo>
                          <a:pt x="5" y="394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66720" y="1609560"/>
                    <a:ext cx="1041120" cy="10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656" h="663">
                        <a:moveTo>
                          <a:pt x="4" y="377"/>
                        </a:moveTo>
                        <a:lnTo>
                          <a:pt x="4" y="381"/>
                        </a:lnTo>
                        <a:lnTo>
                          <a:pt x="2" y="385"/>
                        </a:lnTo>
                        <a:lnTo>
                          <a:pt x="2" y="392"/>
                        </a:lnTo>
                        <a:lnTo>
                          <a:pt x="0" y="397"/>
                        </a:lnTo>
                        <a:lnTo>
                          <a:pt x="2" y="399"/>
                        </a:lnTo>
                        <a:lnTo>
                          <a:pt x="20" y="462"/>
                        </a:lnTo>
                        <a:lnTo>
                          <a:pt x="51" y="515"/>
                        </a:lnTo>
                        <a:lnTo>
                          <a:pt x="92" y="565"/>
                        </a:lnTo>
                        <a:lnTo>
                          <a:pt x="141" y="605"/>
                        </a:lnTo>
                        <a:lnTo>
                          <a:pt x="197" y="637"/>
                        </a:lnTo>
                        <a:lnTo>
                          <a:pt x="260" y="654"/>
                        </a:lnTo>
                        <a:lnTo>
                          <a:pt x="327" y="663"/>
                        </a:lnTo>
                        <a:lnTo>
                          <a:pt x="394" y="654"/>
                        </a:lnTo>
                        <a:lnTo>
                          <a:pt x="457" y="637"/>
                        </a:lnTo>
                        <a:lnTo>
                          <a:pt x="513" y="605"/>
                        </a:lnTo>
                        <a:lnTo>
                          <a:pt x="560" y="565"/>
                        </a:lnTo>
                        <a:lnTo>
                          <a:pt x="600" y="515"/>
                        </a:lnTo>
                        <a:lnTo>
                          <a:pt x="632" y="462"/>
                        </a:lnTo>
                        <a:lnTo>
                          <a:pt x="650" y="399"/>
                        </a:lnTo>
                        <a:lnTo>
                          <a:pt x="656" y="332"/>
                        </a:lnTo>
                        <a:lnTo>
                          <a:pt x="650" y="332"/>
                        </a:lnTo>
                        <a:lnTo>
                          <a:pt x="645" y="267"/>
                        </a:lnTo>
                        <a:lnTo>
                          <a:pt x="625" y="204"/>
                        </a:lnTo>
                        <a:lnTo>
                          <a:pt x="596" y="150"/>
                        </a:lnTo>
                        <a:lnTo>
                          <a:pt x="555" y="101"/>
                        </a:lnTo>
                        <a:lnTo>
                          <a:pt x="508" y="61"/>
                        </a:lnTo>
                        <a:lnTo>
                          <a:pt x="455" y="31"/>
                        </a:lnTo>
                        <a:lnTo>
                          <a:pt x="392" y="11"/>
                        </a:lnTo>
                        <a:lnTo>
                          <a:pt x="327" y="7"/>
                        </a:lnTo>
                        <a:lnTo>
                          <a:pt x="300" y="9"/>
                        </a:lnTo>
                        <a:lnTo>
                          <a:pt x="304" y="7"/>
                        </a:lnTo>
                        <a:lnTo>
                          <a:pt x="309" y="4"/>
                        </a:lnTo>
                        <a:lnTo>
                          <a:pt x="311" y="2"/>
                        </a:lnTo>
                        <a:lnTo>
                          <a:pt x="316" y="0"/>
                        </a:lnTo>
                        <a:lnTo>
                          <a:pt x="327" y="0"/>
                        </a:lnTo>
                        <a:lnTo>
                          <a:pt x="394" y="7"/>
                        </a:lnTo>
                        <a:lnTo>
                          <a:pt x="457" y="25"/>
                        </a:lnTo>
                        <a:lnTo>
                          <a:pt x="513" y="56"/>
                        </a:lnTo>
                        <a:lnTo>
                          <a:pt x="560" y="96"/>
                        </a:lnTo>
                        <a:lnTo>
                          <a:pt x="600" y="146"/>
                        </a:lnTo>
                        <a:lnTo>
                          <a:pt x="632" y="202"/>
                        </a:lnTo>
                        <a:lnTo>
                          <a:pt x="650" y="264"/>
                        </a:lnTo>
                        <a:lnTo>
                          <a:pt x="656" y="332"/>
                        </a:lnTo>
                        <a:lnTo>
                          <a:pt x="650" y="332"/>
                        </a:lnTo>
                        <a:lnTo>
                          <a:pt x="645" y="397"/>
                        </a:lnTo>
                        <a:lnTo>
                          <a:pt x="625" y="459"/>
                        </a:lnTo>
                        <a:lnTo>
                          <a:pt x="596" y="511"/>
                        </a:lnTo>
                        <a:lnTo>
                          <a:pt x="555" y="560"/>
                        </a:lnTo>
                        <a:lnTo>
                          <a:pt x="508" y="601"/>
                        </a:lnTo>
                        <a:lnTo>
                          <a:pt x="455" y="630"/>
                        </a:lnTo>
                        <a:lnTo>
                          <a:pt x="392" y="650"/>
                        </a:lnTo>
                        <a:lnTo>
                          <a:pt x="327" y="657"/>
                        </a:lnTo>
                        <a:lnTo>
                          <a:pt x="262" y="650"/>
                        </a:lnTo>
                        <a:lnTo>
                          <a:pt x="199" y="630"/>
                        </a:lnTo>
                        <a:lnTo>
                          <a:pt x="145" y="601"/>
                        </a:lnTo>
                        <a:lnTo>
                          <a:pt x="96" y="560"/>
                        </a:lnTo>
                        <a:lnTo>
                          <a:pt x="56" y="511"/>
                        </a:lnTo>
                        <a:lnTo>
                          <a:pt x="27" y="459"/>
                        </a:lnTo>
                        <a:lnTo>
                          <a:pt x="6" y="397"/>
                        </a:lnTo>
                        <a:lnTo>
                          <a:pt x="4" y="377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72840" y="1616040"/>
                    <a:ext cx="1028880" cy="10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8" h="655">
                        <a:moveTo>
                          <a:pt x="5" y="361"/>
                        </a:moveTo>
                        <a:lnTo>
                          <a:pt x="2" y="366"/>
                        </a:lnTo>
                        <a:lnTo>
                          <a:pt x="2" y="370"/>
                        </a:lnTo>
                        <a:lnTo>
                          <a:pt x="0" y="375"/>
                        </a:lnTo>
                        <a:lnTo>
                          <a:pt x="0" y="379"/>
                        </a:lnTo>
                        <a:lnTo>
                          <a:pt x="0" y="395"/>
                        </a:lnTo>
                        <a:lnTo>
                          <a:pt x="20" y="455"/>
                        </a:lnTo>
                        <a:lnTo>
                          <a:pt x="49" y="509"/>
                        </a:lnTo>
                        <a:lnTo>
                          <a:pt x="90" y="559"/>
                        </a:lnTo>
                        <a:lnTo>
                          <a:pt x="139" y="599"/>
                        </a:lnTo>
                        <a:lnTo>
                          <a:pt x="195" y="628"/>
                        </a:lnTo>
                        <a:lnTo>
                          <a:pt x="256" y="648"/>
                        </a:lnTo>
                        <a:lnTo>
                          <a:pt x="323" y="655"/>
                        </a:lnTo>
                        <a:lnTo>
                          <a:pt x="388" y="648"/>
                        </a:lnTo>
                        <a:lnTo>
                          <a:pt x="451" y="628"/>
                        </a:lnTo>
                        <a:lnTo>
                          <a:pt x="507" y="599"/>
                        </a:lnTo>
                        <a:lnTo>
                          <a:pt x="551" y="559"/>
                        </a:lnTo>
                        <a:lnTo>
                          <a:pt x="592" y="509"/>
                        </a:lnTo>
                        <a:lnTo>
                          <a:pt x="623" y="455"/>
                        </a:lnTo>
                        <a:lnTo>
                          <a:pt x="641" y="395"/>
                        </a:lnTo>
                        <a:lnTo>
                          <a:pt x="648" y="328"/>
                        </a:lnTo>
                        <a:lnTo>
                          <a:pt x="643" y="328"/>
                        </a:lnTo>
                        <a:lnTo>
                          <a:pt x="637" y="263"/>
                        </a:lnTo>
                        <a:lnTo>
                          <a:pt x="616" y="202"/>
                        </a:lnTo>
                        <a:lnTo>
                          <a:pt x="587" y="148"/>
                        </a:lnTo>
                        <a:lnTo>
                          <a:pt x="547" y="101"/>
                        </a:lnTo>
                        <a:lnTo>
                          <a:pt x="502" y="61"/>
                        </a:lnTo>
                        <a:lnTo>
                          <a:pt x="448" y="32"/>
                        </a:lnTo>
                        <a:lnTo>
                          <a:pt x="388" y="12"/>
                        </a:lnTo>
                        <a:lnTo>
                          <a:pt x="323" y="5"/>
                        </a:lnTo>
                        <a:lnTo>
                          <a:pt x="285" y="9"/>
                        </a:lnTo>
                        <a:lnTo>
                          <a:pt x="289" y="7"/>
                        </a:lnTo>
                        <a:lnTo>
                          <a:pt x="294" y="5"/>
                        </a:lnTo>
                        <a:lnTo>
                          <a:pt x="298" y="3"/>
                        </a:lnTo>
                        <a:lnTo>
                          <a:pt x="300" y="3"/>
                        </a:lnTo>
                        <a:lnTo>
                          <a:pt x="323" y="0"/>
                        </a:lnTo>
                        <a:lnTo>
                          <a:pt x="388" y="7"/>
                        </a:lnTo>
                        <a:lnTo>
                          <a:pt x="451" y="25"/>
                        </a:lnTo>
                        <a:lnTo>
                          <a:pt x="507" y="57"/>
                        </a:lnTo>
                        <a:lnTo>
                          <a:pt x="551" y="97"/>
                        </a:lnTo>
                        <a:lnTo>
                          <a:pt x="592" y="144"/>
                        </a:lnTo>
                        <a:lnTo>
                          <a:pt x="623" y="200"/>
                        </a:lnTo>
                        <a:lnTo>
                          <a:pt x="641" y="263"/>
                        </a:lnTo>
                        <a:lnTo>
                          <a:pt x="648" y="328"/>
                        </a:lnTo>
                        <a:lnTo>
                          <a:pt x="643" y="328"/>
                        </a:lnTo>
                        <a:lnTo>
                          <a:pt x="637" y="393"/>
                        </a:lnTo>
                        <a:lnTo>
                          <a:pt x="616" y="453"/>
                        </a:lnTo>
                        <a:lnTo>
                          <a:pt x="587" y="507"/>
                        </a:lnTo>
                        <a:lnTo>
                          <a:pt x="547" y="554"/>
                        </a:lnTo>
                        <a:lnTo>
                          <a:pt x="502" y="592"/>
                        </a:lnTo>
                        <a:lnTo>
                          <a:pt x="448" y="621"/>
                        </a:lnTo>
                        <a:lnTo>
                          <a:pt x="388" y="641"/>
                        </a:lnTo>
                        <a:lnTo>
                          <a:pt x="323" y="648"/>
                        </a:lnTo>
                        <a:lnTo>
                          <a:pt x="258" y="641"/>
                        </a:lnTo>
                        <a:lnTo>
                          <a:pt x="197" y="621"/>
                        </a:lnTo>
                        <a:lnTo>
                          <a:pt x="144" y="592"/>
                        </a:lnTo>
                        <a:lnTo>
                          <a:pt x="94" y="554"/>
                        </a:lnTo>
                        <a:lnTo>
                          <a:pt x="56" y="507"/>
                        </a:lnTo>
                        <a:lnTo>
                          <a:pt x="27" y="453"/>
                        </a:lnTo>
                        <a:lnTo>
                          <a:pt x="7" y="393"/>
                        </a:lnTo>
                        <a:lnTo>
                          <a:pt x="5" y="361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676080" y="1623960"/>
                    <a:ext cx="1017720" cy="10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1" h="645">
                        <a:moveTo>
                          <a:pt x="5" y="345"/>
                        </a:moveTo>
                        <a:lnTo>
                          <a:pt x="5" y="350"/>
                        </a:lnTo>
                        <a:lnTo>
                          <a:pt x="3" y="354"/>
                        </a:lnTo>
                        <a:lnTo>
                          <a:pt x="3" y="359"/>
                        </a:lnTo>
                        <a:lnTo>
                          <a:pt x="0" y="361"/>
                        </a:lnTo>
                        <a:lnTo>
                          <a:pt x="3" y="388"/>
                        </a:lnTo>
                        <a:lnTo>
                          <a:pt x="23" y="448"/>
                        </a:lnTo>
                        <a:lnTo>
                          <a:pt x="52" y="502"/>
                        </a:lnTo>
                        <a:lnTo>
                          <a:pt x="92" y="549"/>
                        </a:lnTo>
                        <a:lnTo>
                          <a:pt x="139" y="589"/>
                        </a:lnTo>
                        <a:lnTo>
                          <a:pt x="195" y="619"/>
                        </a:lnTo>
                        <a:lnTo>
                          <a:pt x="256" y="639"/>
                        </a:lnTo>
                        <a:lnTo>
                          <a:pt x="321" y="645"/>
                        </a:lnTo>
                        <a:lnTo>
                          <a:pt x="386" y="639"/>
                        </a:lnTo>
                        <a:lnTo>
                          <a:pt x="446" y="619"/>
                        </a:lnTo>
                        <a:lnTo>
                          <a:pt x="502" y="589"/>
                        </a:lnTo>
                        <a:lnTo>
                          <a:pt x="547" y="549"/>
                        </a:lnTo>
                        <a:lnTo>
                          <a:pt x="588" y="502"/>
                        </a:lnTo>
                        <a:lnTo>
                          <a:pt x="617" y="448"/>
                        </a:lnTo>
                        <a:lnTo>
                          <a:pt x="637" y="388"/>
                        </a:lnTo>
                        <a:lnTo>
                          <a:pt x="641" y="323"/>
                        </a:lnTo>
                        <a:lnTo>
                          <a:pt x="637" y="323"/>
                        </a:lnTo>
                        <a:lnTo>
                          <a:pt x="630" y="260"/>
                        </a:lnTo>
                        <a:lnTo>
                          <a:pt x="610" y="199"/>
                        </a:lnTo>
                        <a:lnTo>
                          <a:pt x="581" y="146"/>
                        </a:lnTo>
                        <a:lnTo>
                          <a:pt x="545" y="99"/>
                        </a:lnTo>
                        <a:lnTo>
                          <a:pt x="498" y="60"/>
                        </a:lnTo>
                        <a:lnTo>
                          <a:pt x="444" y="31"/>
                        </a:lnTo>
                        <a:lnTo>
                          <a:pt x="384" y="11"/>
                        </a:lnTo>
                        <a:lnTo>
                          <a:pt x="321" y="4"/>
                        </a:lnTo>
                        <a:lnTo>
                          <a:pt x="274" y="11"/>
                        </a:lnTo>
                        <a:lnTo>
                          <a:pt x="278" y="9"/>
                        </a:lnTo>
                        <a:lnTo>
                          <a:pt x="281" y="7"/>
                        </a:lnTo>
                        <a:lnTo>
                          <a:pt x="285" y="4"/>
                        </a:lnTo>
                        <a:lnTo>
                          <a:pt x="287" y="2"/>
                        </a:lnTo>
                        <a:lnTo>
                          <a:pt x="321" y="0"/>
                        </a:lnTo>
                        <a:lnTo>
                          <a:pt x="386" y="4"/>
                        </a:lnTo>
                        <a:lnTo>
                          <a:pt x="446" y="25"/>
                        </a:lnTo>
                        <a:lnTo>
                          <a:pt x="502" y="54"/>
                        </a:lnTo>
                        <a:lnTo>
                          <a:pt x="547" y="94"/>
                        </a:lnTo>
                        <a:lnTo>
                          <a:pt x="588" y="141"/>
                        </a:lnTo>
                        <a:lnTo>
                          <a:pt x="617" y="197"/>
                        </a:lnTo>
                        <a:lnTo>
                          <a:pt x="637" y="258"/>
                        </a:lnTo>
                        <a:lnTo>
                          <a:pt x="641" y="323"/>
                        </a:lnTo>
                        <a:lnTo>
                          <a:pt x="637" y="323"/>
                        </a:lnTo>
                        <a:lnTo>
                          <a:pt x="630" y="388"/>
                        </a:lnTo>
                        <a:lnTo>
                          <a:pt x="610" y="446"/>
                        </a:lnTo>
                        <a:lnTo>
                          <a:pt x="581" y="500"/>
                        </a:lnTo>
                        <a:lnTo>
                          <a:pt x="545" y="545"/>
                        </a:lnTo>
                        <a:lnTo>
                          <a:pt x="498" y="585"/>
                        </a:lnTo>
                        <a:lnTo>
                          <a:pt x="444" y="614"/>
                        </a:lnTo>
                        <a:lnTo>
                          <a:pt x="384" y="632"/>
                        </a:lnTo>
                        <a:lnTo>
                          <a:pt x="321" y="639"/>
                        </a:lnTo>
                        <a:lnTo>
                          <a:pt x="256" y="632"/>
                        </a:lnTo>
                        <a:lnTo>
                          <a:pt x="198" y="614"/>
                        </a:lnTo>
                        <a:lnTo>
                          <a:pt x="144" y="585"/>
                        </a:lnTo>
                        <a:lnTo>
                          <a:pt x="97" y="545"/>
                        </a:lnTo>
                        <a:lnTo>
                          <a:pt x="56" y="500"/>
                        </a:lnTo>
                        <a:lnTo>
                          <a:pt x="27" y="446"/>
                        </a:lnTo>
                        <a:lnTo>
                          <a:pt x="9" y="388"/>
                        </a:lnTo>
                        <a:lnTo>
                          <a:pt x="5" y="345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680760" y="1626840"/>
                    <a:ext cx="1009800" cy="10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36" h="639">
                        <a:moveTo>
                          <a:pt x="4" y="332"/>
                        </a:moveTo>
                        <a:lnTo>
                          <a:pt x="4" y="336"/>
                        </a:lnTo>
                        <a:lnTo>
                          <a:pt x="2" y="341"/>
                        </a:lnTo>
                        <a:lnTo>
                          <a:pt x="2" y="345"/>
                        </a:lnTo>
                        <a:lnTo>
                          <a:pt x="0" y="348"/>
                        </a:lnTo>
                        <a:lnTo>
                          <a:pt x="4" y="386"/>
                        </a:lnTo>
                        <a:lnTo>
                          <a:pt x="22" y="446"/>
                        </a:lnTo>
                        <a:lnTo>
                          <a:pt x="53" y="500"/>
                        </a:lnTo>
                        <a:lnTo>
                          <a:pt x="92" y="545"/>
                        </a:lnTo>
                        <a:lnTo>
                          <a:pt x="139" y="583"/>
                        </a:lnTo>
                        <a:lnTo>
                          <a:pt x="192" y="614"/>
                        </a:lnTo>
                        <a:lnTo>
                          <a:pt x="253" y="632"/>
                        </a:lnTo>
                        <a:lnTo>
                          <a:pt x="318" y="639"/>
                        </a:lnTo>
                        <a:lnTo>
                          <a:pt x="383" y="632"/>
                        </a:lnTo>
                        <a:lnTo>
                          <a:pt x="441" y="614"/>
                        </a:lnTo>
                        <a:lnTo>
                          <a:pt x="497" y="583"/>
                        </a:lnTo>
                        <a:lnTo>
                          <a:pt x="542" y="545"/>
                        </a:lnTo>
                        <a:lnTo>
                          <a:pt x="580" y="500"/>
                        </a:lnTo>
                        <a:lnTo>
                          <a:pt x="609" y="446"/>
                        </a:lnTo>
                        <a:lnTo>
                          <a:pt x="629" y="386"/>
                        </a:lnTo>
                        <a:lnTo>
                          <a:pt x="636" y="321"/>
                        </a:lnTo>
                        <a:lnTo>
                          <a:pt x="629" y="321"/>
                        </a:lnTo>
                        <a:lnTo>
                          <a:pt x="623" y="258"/>
                        </a:lnTo>
                        <a:lnTo>
                          <a:pt x="605" y="200"/>
                        </a:lnTo>
                        <a:lnTo>
                          <a:pt x="576" y="146"/>
                        </a:lnTo>
                        <a:lnTo>
                          <a:pt x="540" y="99"/>
                        </a:lnTo>
                        <a:lnTo>
                          <a:pt x="493" y="61"/>
                        </a:lnTo>
                        <a:lnTo>
                          <a:pt x="439" y="32"/>
                        </a:lnTo>
                        <a:lnTo>
                          <a:pt x="381" y="14"/>
                        </a:lnTo>
                        <a:lnTo>
                          <a:pt x="318" y="7"/>
                        </a:lnTo>
                        <a:lnTo>
                          <a:pt x="262" y="14"/>
                        </a:lnTo>
                        <a:lnTo>
                          <a:pt x="266" y="11"/>
                        </a:lnTo>
                        <a:lnTo>
                          <a:pt x="269" y="9"/>
                        </a:lnTo>
                        <a:lnTo>
                          <a:pt x="273" y="7"/>
                        </a:lnTo>
                        <a:lnTo>
                          <a:pt x="275" y="5"/>
                        </a:lnTo>
                        <a:lnTo>
                          <a:pt x="318" y="0"/>
                        </a:lnTo>
                        <a:lnTo>
                          <a:pt x="383" y="7"/>
                        </a:lnTo>
                        <a:lnTo>
                          <a:pt x="441" y="27"/>
                        </a:lnTo>
                        <a:lnTo>
                          <a:pt x="497" y="56"/>
                        </a:lnTo>
                        <a:lnTo>
                          <a:pt x="542" y="94"/>
                        </a:lnTo>
                        <a:lnTo>
                          <a:pt x="580" y="141"/>
                        </a:lnTo>
                        <a:lnTo>
                          <a:pt x="609" y="197"/>
                        </a:lnTo>
                        <a:lnTo>
                          <a:pt x="629" y="256"/>
                        </a:lnTo>
                        <a:lnTo>
                          <a:pt x="636" y="321"/>
                        </a:lnTo>
                        <a:lnTo>
                          <a:pt x="629" y="321"/>
                        </a:lnTo>
                        <a:lnTo>
                          <a:pt x="623" y="383"/>
                        </a:lnTo>
                        <a:lnTo>
                          <a:pt x="605" y="444"/>
                        </a:lnTo>
                        <a:lnTo>
                          <a:pt x="576" y="496"/>
                        </a:lnTo>
                        <a:lnTo>
                          <a:pt x="540" y="540"/>
                        </a:lnTo>
                        <a:lnTo>
                          <a:pt x="493" y="578"/>
                        </a:lnTo>
                        <a:lnTo>
                          <a:pt x="439" y="608"/>
                        </a:lnTo>
                        <a:lnTo>
                          <a:pt x="381" y="626"/>
                        </a:lnTo>
                        <a:lnTo>
                          <a:pt x="318" y="632"/>
                        </a:lnTo>
                        <a:lnTo>
                          <a:pt x="255" y="626"/>
                        </a:lnTo>
                        <a:lnTo>
                          <a:pt x="195" y="608"/>
                        </a:lnTo>
                        <a:lnTo>
                          <a:pt x="143" y="578"/>
                        </a:lnTo>
                        <a:lnTo>
                          <a:pt x="96" y="540"/>
                        </a:lnTo>
                        <a:lnTo>
                          <a:pt x="58" y="496"/>
                        </a:lnTo>
                        <a:lnTo>
                          <a:pt x="29" y="444"/>
                        </a:lnTo>
                        <a:lnTo>
                          <a:pt x="11" y="383"/>
                        </a:lnTo>
                        <a:lnTo>
                          <a:pt x="4" y="332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87240" y="1635120"/>
                    <a:ext cx="996840" cy="9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629">
                        <a:moveTo>
                          <a:pt x="5" y="318"/>
                        </a:moveTo>
                        <a:lnTo>
                          <a:pt x="2" y="322"/>
                        </a:lnTo>
                        <a:lnTo>
                          <a:pt x="2" y="325"/>
                        </a:lnTo>
                        <a:lnTo>
                          <a:pt x="0" y="329"/>
                        </a:lnTo>
                        <a:lnTo>
                          <a:pt x="0" y="334"/>
                        </a:lnTo>
                        <a:lnTo>
                          <a:pt x="5" y="378"/>
                        </a:lnTo>
                        <a:lnTo>
                          <a:pt x="23" y="439"/>
                        </a:lnTo>
                        <a:lnTo>
                          <a:pt x="52" y="493"/>
                        </a:lnTo>
                        <a:lnTo>
                          <a:pt x="90" y="538"/>
                        </a:lnTo>
                        <a:lnTo>
                          <a:pt x="137" y="576"/>
                        </a:lnTo>
                        <a:lnTo>
                          <a:pt x="191" y="605"/>
                        </a:lnTo>
                        <a:lnTo>
                          <a:pt x="251" y="623"/>
                        </a:lnTo>
                        <a:lnTo>
                          <a:pt x="314" y="629"/>
                        </a:lnTo>
                        <a:lnTo>
                          <a:pt x="377" y="623"/>
                        </a:lnTo>
                        <a:lnTo>
                          <a:pt x="437" y="605"/>
                        </a:lnTo>
                        <a:lnTo>
                          <a:pt x="491" y="576"/>
                        </a:lnTo>
                        <a:lnTo>
                          <a:pt x="536" y="538"/>
                        </a:lnTo>
                        <a:lnTo>
                          <a:pt x="574" y="493"/>
                        </a:lnTo>
                        <a:lnTo>
                          <a:pt x="603" y="439"/>
                        </a:lnTo>
                        <a:lnTo>
                          <a:pt x="621" y="378"/>
                        </a:lnTo>
                        <a:lnTo>
                          <a:pt x="628" y="316"/>
                        </a:lnTo>
                        <a:lnTo>
                          <a:pt x="621" y="316"/>
                        </a:lnTo>
                        <a:lnTo>
                          <a:pt x="614" y="253"/>
                        </a:lnTo>
                        <a:lnTo>
                          <a:pt x="596" y="195"/>
                        </a:lnTo>
                        <a:lnTo>
                          <a:pt x="567" y="143"/>
                        </a:lnTo>
                        <a:lnTo>
                          <a:pt x="531" y="98"/>
                        </a:lnTo>
                        <a:lnTo>
                          <a:pt x="486" y="60"/>
                        </a:lnTo>
                        <a:lnTo>
                          <a:pt x="435" y="31"/>
                        </a:lnTo>
                        <a:lnTo>
                          <a:pt x="377" y="13"/>
                        </a:lnTo>
                        <a:lnTo>
                          <a:pt x="314" y="6"/>
                        </a:lnTo>
                        <a:lnTo>
                          <a:pt x="251" y="13"/>
                        </a:lnTo>
                        <a:lnTo>
                          <a:pt x="249" y="13"/>
                        </a:lnTo>
                        <a:lnTo>
                          <a:pt x="251" y="11"/>
                        </a:lnTo>
                        <a:lnTo>
                          <a:pt x="256" y="11"/>
                        </a:lnTo>
                        <a:lnTo>
                          <a:pt x="258" y="9"/>
                        </a:lnTo>
                        <a:lnTo>
                          <a:pt x="262" y="6"/>
                        </a:lnTo>
                        <a:lnTo>
                          <a:pt x="314" y="0"/>
                        </a:lnTo>
                        <a:lnTo>
                          <a:pt x="377" y="6"/>
                        </a:lnTo>
                        <a:lnTo>
                          <a:pt x="437" y="24"/>
                        </a:lnTo>
                        <a:lnTo>
                          <a:pt x="491" y="53"/>
                        </a:lnTo>
                        <a:lnTo>
                          <a:pt x="536" y="94"/>
                        </a:lnTo>
                        <a:lnTo>
                          <a:pt x="574" y="139"/>
                        </a:lnTo>
                        <a:lnTo>
                          <a:pt x="603" y="192"/>
                        </a:lnTo>
                        <a:lnTo>
                          <a:pt x="621" y="253"/>
                        </a:lnTo>
                        <a:lnTo>
                          <a:pt x="628" y="316"/>
                        </a:lnTo>
                        <a:lnTo>
                          <a:pt x="621" y="316"/>
                        </a:lnTo>
                        <a:lnTo>
                          <a:pt x="614" y="378"/>
                        </a:lnTo>
                        <a:lnTo>
                          <a:pt x="596" y="437"/>
                        </a:lnTo>
                        <a:lnTo>
                          <a:pt x="567" y="488"/>
                        </a:lnTo>
                        <a:lnTo>
                          <a:pt x="531" y="533"/>
                        </a:lnTo>
                        <a:lnTo>
                          <a:pt x="486" y="571"/>
                        </a:lnTo>
                        <a:lnTo>
                          <a:pt x="435" y="598"/>
                        </a:lnTo>
                        <a:lnTo>
                          <a:pt x="377" y="616"/>
                        </a:lnTo>
                        <a:lnTo>
                          <a:pt x="314" y="623"/>
                        </a:lnTo>
                        <a:lnTo>
                          <a:pt x="251" y="616"/>
                        </a:lnTo>
                        <a:lnTo>
                          <a:pt x="193" y="598"/>
                        </a:lnTo>
                        <a:lnTo>
                          <a:pt x="141" y="571"/>
                        </a:lnTo>
                        <a:lnTo>
                          <a:pt x="94" y="533"/>
                        </a:lnTo>
                        <a:lnTo>
                          <a:pt x="56" y="488"/>
                        </a:lnTo>
                        <a:lnTo>
                          <a:pt x="29" y="437"/>
                        </a:lnTo>
                        <a:lnTo>
                          <a:pt x="11" y="378"/>
                        </a:lnTo>
                        <a:lnTo>
                          <a:pt x="5" y="318"/>
                        </a:lnTo>
                        <a:close/>
                      </a:path>
                    </a:pathLst>
                  </a:custGeom>
                  <a:solidFill>
                    <a:srgbClr val="f3e6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90480" y="1641240"/>
                    <a:ext cx="98568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1" h="621">
                        <a:moveTo>
                          <a:pt x="7" y="298"/>
                        </a:moveTo>
                        <a:lnTo>
                          <a:pt x="7" y="303"/>
                        </a:lnTo>
                        <a:lnTo>
                          <a:pt x="5" y="309"/>
                        </a:lnTo>
                        <a:lnTo>
                          <a:pt x="3" y="314"/>
                        </a:lnTo>
                        <a:lnTo>
                          <a:pt x="0" y="318"/>
                        </a:lnTo>
                        <a:lnTo>
                          <a:pt x="7" y="374"/>
                        </a:lnTo>
                        <a:lnTo>
                          <a:pt x="25" y="433"/>
                        </a:lnTo>
                        <a:lnTo>
                          <a:pt x="54" y="487"/>
                        </a:lnTo>
                        <a:lnTo>
                          <a:pt x="92" y="529"/>
                        </a:lnTo>
                        <a:lnTo>
                          <a:pt x="137" y="567"/>
                        </a:lnTo>
                        <a:lnTo>
                          <a:pt x="191" y="596"/>
                        </a:lnTo>
                        <a:lnTo>
                          <a:pt x="249" y="614"/>
                        </a:lnTo>
                        <a:lnTo>
                          <a:pt x="312" y="621"/>
                        </a:lnTo>
                        <a:lnTo>
                          <a:pt x="375" y="614"/>
                        </a:lnTo>
                        <a:lnTo>
                          <a:pt x="433" y="596"/>
                        </a:lnTo>
                        <a:lnTo>
                          <a:pt x="487" y="567"/>
                        </a:lnTo>
                        <a:lnTo>
                          <a:pt x="532" y="529"/>
                        </a:lnTo>
                        <a:lnTo>
                          <a:pt x="567" y="487"/>
                        </a:lnTo>
                        <a:lnTo>
                          <a:pt x="597" y="433"/>
                        </a:lnTo>
                        <a:lnTo>
                          <a:pt x="614" y="374"/>
                        </a:lnTo>
                        <a:lnTo>
                          <a:pt x="621" y="312"/>
                        </a:lnTo>
                        <a:lnTo>
                          <a:pt x="614" y="312"/>
                        </a:lnTo>
                        <a:lnTo>
                          <a:pt x="608" y="251"/>
                        </a:lnTo>
                        <a:lnTo>
                          <a:pt x="590" y="193"/>
                        </a:lnTo>
                        <a:lnTo>
                          <a:pt x="563" y="141"/>
                        </a:lnTo>
                        <a:lnTo>
                          <a:pt x="527" y="97"/>
                        </a:lnTo>
                        <a:lnTo>
                          <a:pt x="482" y="58"/>
                        </a:lnTo>
                        <a:lnTo>
                          <a:pt x="431" y="32"/>
                        </a:lnTo>
                        <a:lnTo>
                          <a:pt x="372" y="14"/>
                        </a:lnTo>
                        <a:lnTo>
                          <a:pt x="312" y="7"/>
                        </a:lnTo>
                        <a:lnTo>
                          <a:pt x="249" y="14"/>
                        </a:lnTo>
                        <a:lnTo>
                          <a:pt x="231" y="18"/>
                        </a:lnTo>
                        <a:lnTo>
                          <a:pt x="236" y="16"/>
                        </a:lnTo>
                        <a:lnTo>
                          <a:pt x="242" y="14"/>
                        </a:lnTo>
                        <a:lnTo>
                          <a:pt x="247" y="9"/>
                        </a:lnTo>
                        <a:lnTo>
                          <a:pt x="251" y="7"/>
                        </a:lnTo>
                        <a:lnTo>
                          <a:pt x="312" y="0"/>
                        </a:lnTo>
                        <a:lnTo>
                          <a:pt x="375" y="7"/>
                        </a:lnTo>
                        <a:lnTo>
                          <a:pt x="433" y="25"/>
                        </a:lnTo>
                        <a:lnTo>
                          <a:pt x="487" y="54"/>
                        </a:lnTo>
                        <a:lnTo>
                          <a:pt x="532" y="92"/>
                        </a:lnTo>
                        <a:lnTo>
                          <a:pt x="567" y="137"/>
                        </a:lnTo>
                        <a:lnTo>
                          <a:pt x="597" y="191"/>
                        </a:lnTo>
                        <a:lnTo>
                          <a:pt x="614" y="249"/>
                        </a:lnTo>
                        <a:lnTo>
                          <a:pt x="621" y="312"/>
                        </a:lnTo>
                        <a:lnTo>
                          <a:pt x="614" y="312"/>
                        </a:lnTo>
                        <a:lnTo>
                          <a:pt x="608" y="374"/>
                        </a:lnTo>
                        <a:lnTo>
                          <a:pt x="590" y="430"/>
                        </a:lnTo>
                        <a:lnTo>
                          <a:pt x="563" y="482"/>
                        </a:lnTo>
                        <a:lnTo>
                          <a:pt x="527" y="525"/>
                        </a:lnTo>
                        <a:lnTo>
                          <a:pt x="482" y="563"/>
                        </a:lnTo>
                        <a:lnTo>
                          <a:pt x="431" y="590"/>
                        </a:lnTo>
                        <a:lnTo>
                          <a:pt x="372" y="608"/>
                        </a:lnTo>
                        <a:lnTo>
                          <a:pt x="312" y="614"/>
                        </a:lnTo>
                        <a:lnTo>
                          <a:pt x="249" y="608"/>
                        </a:lnTo>
                        <a:lnTo>
                          <a:pt x="193" y="590"/>
                        </a:lnTo>
                        <a:lnTo>
                          <a:pt x="142" y="563"/>
                        </a:lnTo>
                        <a:lnTo>
                          <a:pt x="97" y="525"/>
                        </a:lnTo>
                        <a:lnTo>
                          <a:pt x="59" y="482"/>
                        </a:lnTo>
                        <a:lnTo>
                          <a:pt x="32" y="430"/>
                        </a:lnTo>
                        <a:lnTo>
                          <a:pt x="14" y="374"/>
                        </a:lnTo>
                        <a:lnTo>
                          <a:pt x="7" y="312"/>
                        </a:lnTo>
                        <a:lnTo>
                          <a:pt x="7" y="298"/>
                        </a:lnTo>
                        <a:close/>
                      </a:path>
                    </a:pathLst>
                  </a:custGeom>
                  <a:solidFill>
                    <a:srgbClr val="f3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98400" y="1649160"/>
                    <a:ext cx="97164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12">
                        <a:moveTo>
                          <a:pt x="9" y="278"/>
                        </a:moveTo>
                        <a:lnTo>
                          <a:pt x="7" y="284"/>
                        </a:lnTo>
                        <a:lnTo>
                          <a:pt x="4" y="289"/>
                        </a:lnTo>
                        <a:lnTo>
                          <a:pt x="2" y="295"/>
                        </a:lnTo>
                        <a:lnTo>
                          <a:pt x="0" y="300"/>
                        </a:lnTo>
                        <a:lnTo>
                          <a:pt x="0" y="307"/>
                        </a:lnTo>
                        <a:lnTo>
                          <a:pt x="7" y="369"/>
                        </a:lnTo>
                        <a:lnTo>
                          <a:pt x="24" y="425"/>
                        </a:lnTo>
                        <a:lnTo>
                          <a:pt x="51" y="479"/>
                        </a:lnTo>
                        <a:lnTo>
                          <a:pt x="89" y="522"/>
                        </a:lnTo>
                        <a:lnTo>
                          <a:pt x="134" y="560"/>
                        </a:lnTo>
                        <a:lnTo>
                          <a:pt x="188" y="587"/>
                        </a:lnTo>
                        <a:lnTo>
                          <a:pt x="244" y="605"/>
                        </a:lnTo>
                        <a:lnTo>
                          <a:pt x="307" y="612"/>
                        </a:lnTo>
                        <a:lnTo>
                          <a:pt x="367" y="605"/>
                        </a:lnTo>
                        <a:lnTo>
                          <a:pt x="426" y="587"/>
                        </a:lnTo>
                        <a:lnTo>
                          <a:pt x="477" y="560"/>
                        </a:lnTo>
                        <a:lnTo>
                          <a:pt x="524" y="522"/>
                        </a:lnTo>
                        <a:lnTo>
                          <a:pt x="558" y="479"/>
                        </a:lnTo>
                        <a:lnTo>
                          <a:pt x="587" y="425"/>
                        </a:lnTo>
                        <a:lnTo>
                          <a:pt x="605" y="369"/>
                        </a:lnTo>
                        <a:lnTo>
                          <a:pt x="612" y="307"/>
                        </a:lnTo>
                        <a:lnTo>
                          <a:pt x="605" y="307"/>
                        </a:lnTo>
                        <a:lnTo>
                          <a:pt x="598" y="246"/>
                        </a:lnTo>
                        <a:lnTo>
                          <a:pt x="583" y="190"/>
                        </a:lnTo>
                        <a:lnTo>
                          <a:pt x="553" y="139"/>
                        </a:lnTo>
                        <a:lnTo>
                          <a:pt x="520" y="94"/>
                        </a:lnTo>
                        <a:lnTo>
                          <a:pt x="475" y="58"/>
                        </a:lnTo>
                        <a:lnTo>
                          <a:pt x="423" y="29"/>
                        </a:lnTo>
                        <a:lnTo>
                          <a:pt x="367" y="13"/>
                        </a:lnTo>
                        <a:lnTo>
                          <a:pt x="307" y="6"/>
                        </a:lnTo>
                        <a:lnTo>
                          <a:pt x="246" y="13"/>
                        </a:lnTo>
                        <a:lnTo>
                          <a:pt x="215" y="22"/>
                        </a:lnTo>
                        <a:lnTo>
                          <a:pt x="219" y="20"/>
                        </a:lnTo>
                        <a:lnTo>
                          <a:pt x="224" y="15"/>
                        </a:lnTo>
                        <a:lnTo>
                          <a:pt x="228" y="13"/>
                        </a:lnTo>
                        <a:lnTo>
                          <a:pt x="233" y="11"/>
                        </a:lnTo>
                        <a:lnTo>
                          <a:pt x="244" y="6"/>
                        </a:lnTo>
                        <a:lnTo>
                          <a:pt x="307" y="0"/>
                        </a:lnTo>
                        <a:lnTo>
                          <a:pt x="367" y="6"/>
                        </a:lnTo>
                        <a:lnTo>
                          <a:pt x="426" y="24"/>
                        </a:lnTo>
                        <a:lnTo>
                          <a:pt x="477" y="51"/>
                        </a:lnTo>
                        <a:lnTo>
                          <a:pt x="524" y="89"/>
                        </a:lnTo>
                        <a:lnTo>
                          <a:pt x="558" y="136"/>
                        </a:lnTo>
                        <a:lnTo>
                          <a:pt x="587" y="188"/>
                        </a:lnTo>
                        <a:lnTo>
                          <a:pt x="605" y="246"/>
                        </a:lnTo>
                        <a:lnTo>
                          <a:pt x="612" y="307"/>
                        </a:lnTo>
                        <a:lnTo>
                          <a:pt x="605" y="307"/>
                        </a:lnTo>
                        <a:lnTo>
                          <a:pt x="598" y="367"/>
                        </a:lnTo>
                        <a:lnTo>
                          <a:pt x="583" y="423"/>
                        </a:lnTo>
                        <a:lnTo>
                          <a:pt x="553" y="475"/>
                        </a:lnTo>
                        <a:lnTo>
                          <a:pt x="520" y="517"/>
                        </a:lnTo>
                        <a:lnTo>
                          <a:pt x="475" y="553"/>
                        </a:lnTo>
                        <a:lnTo>
                          <a:pt x="423" y="582"/>
                        </a:lnTo>
                        <a:lnTo>
                          <a:pt x="367" y="600"/>
                        </a:lnTo>
                        <a:lnTo>
                          <a:pt x="307" y="605"/>
                        </a:lnTo>
                        <a:lnTo>
                          <a:pt x="246" y="600"/>
                        </a:lnTo>
                        <a:lnTo>
                          <a:pt x="190" y="582"/>
                        </a:lnTo>
                        <a:lnTo>
                          <a:pt x="139" y="553"/>
                        </a:lnTo>
                        <a:lnTo>
                          <a:pt x="94" y="517"/>
                        </a:lnTo>
                        <a:lnTo>
                          <a:pt x="58" y="475"/>
                        </a:lnTo>
                        <a:lnTo>
                          <a:pt x="29" y="423"/>
                        </a:lnTo>
                        <a:lnTo>
                          <a:pt x="11" y="367"/>
                        </a:lnTo>
                        <a:lnTo>
                          <a:pt x="7" y="307"/>
                        </a:lnTo>
                        <a:lnTo>
                          <a:pt x="9" y="278"/>
                        </a:lnTo>
                        <a:close/>
                      </a:path>
                    </a:pathLst>
                  </a:custGeom>
                  <a:solidFill>
                    <a:srgbClr val="f3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04520" y="1655640"/>
                    <a:ext cx="957240" cy="9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3" h="603">
                        <a:moveTo>
                          <a:pt x="9" y="260"/>
                        </a:moveTo>
                        <a:lnTo>
                          <a:pt x="7" y="267"/>
                        </a:lnTo>
                        <a:lnTo>
                          <a:pt x="5" y="271"/>
                        </a:lnTo>
                        <a:lnTo>
                          <a:pt x="5" y="276"/>
                        </a:lnTo>
                        <a:lnTo>
                          <a:pt x="3" y="280"/>
                        </a:lnTo>
                        <a:lnTo>
                          <a:pt x="0" y="303"/>
                        </a:lnTo>
                        <a:lnTo>
                          <a:pt x="5" y="363"/>
                        </a:lnTo>
                        <a:lnTo>
                          <a:pt x="23" y="421"/>
                        </a:lnTo>
                        <a:lnTo>
                          <a:pt x="52" y="473"/>
                        </a:lnTo>
                        <a:lnTo>
                          <a:pt x="88" y="516"/>
                        </a:lnTo>
                        <a:lnTo>
                          <a:pt x="133" y="551"/>
                        </a:lnTo>
                        <a:lnTo>
                          <a:pt x="184" y="581"/>
                        </a:lnTo>
                        <a:lnTo>
                          <a:pt x="242" y="599"/>
                        </a:lnTo>
                        <a:lnTo>
                          <a:pt x="303" y="603"/>
                        </a:lnTo>
                        <a:lnTo>
                          <a:pt x="363" y="599"/>
                        </a:lnTo>
                        <a:lnTo>
                          <a:pt x="419" y="581"/>
                        </a:lnTo>
                        <a:lnTo>
                          <a:pt x="471" y="551"/>
                        </a:lnTo>
                        <a:lnTo>
                          <a:pt x="516" y="516"/>
                        </a:lnTo>
                        <a:lnTo>
                          <a:pt x="552" y="473"/>
                        </a:lnTo>
                        <a:lnTo>
                          <a:pt x="579" y="421"/>
                        </a:lnTo>
                        <a:lnTo>
                          <a:pt x="596" y="363"/>
                        </a:lnTo>
                        <a:lnTo>
                          <a:pt x="603" y="303"/>
                        </a:lnTo>
                        <a:lnTo>
                          <a:pt x="596" y="303"/>
                        </a:lnTo>
                        <a:lnTo>
                          <a:pt x="592" y="242"/>
                        </a:lnTo>
                        <a:lnTo>
                          <a:pt x="574" y="188"/>
                        </a:lnTo>
                        <a:lnTo>
                          <a:pt x="547" y="137"/>
                        </a:lnTo>
                        <a:lnTo>
                          <a:pt x="511" y="94"/>
                        </a:lnTo>
                        <a:lnTo>
                          <a:pt x="469" y="56"/>
                        </a:lnTo>
                        <a:lnTo>
                          <a:pt x="417" y="29"/>
                        </a:lnTo>
                        <a:lnTo>
                          <a:pt x="363" y="11"/>
                        </a:lnTo>
                        <a:lnTo>
                          <a:pt x="303" y="7"/>
                        </a:lnTo>
                        <a:lnTo>
                          <a:pt x="242" y="11"/>
                        </a:lnTo>
                        <a:lnTo>
                          <a:pt x="200" y="25"/>
                        </a:lnTo>
                        <a:lnTo>
                          <a:pt x="204" y="23"/>
                        </a:lnTo>
                        <a:lnTo>
                          <a:pt x="209" y="20"/>
                        </a:lnTo>
                        <a:lnTo>
                          <a:pt x="211" y="18"/>
                        </a:lnTo>
                        <a:lnTo>
                          <a:pt x="215" y="14"/>
                        </a:lnTo>
                        <a:lnTo>
                          <a:pt x="242" y="7"/>
                        </a:lnTo>
                        <a:lnTo>
                          <a:pt x="303" y="0"/>
                        </a:lnTo>
                        <a:lnTo>
                          <a:pt x="363" y="7"/>
                        </a:lnTo>
                        <a:lnTo>
                          <a:pt x="419" y="25"/>
                        </a:lnTo>
                        <a:lnTo>
                          <a:pt x="471" y="52"/>
                        </a:lnTo>
                        <a:lnTo>
                          <a:pt x="516" y="90"/>
                        </a:lnTo>
                        <a:lnTo>
                          <a:pt x="552" y="135"/>
                        </a:lnTo>
                        <a:lnTo>
                          <a:pt x="579" y="186"/>
                        </a:lnTo>
                        <a:lnTo>
                          <a:pt x="596" y="242"/>
                        </a:lnTo>
                        <a:lnTo>
                          <a:pt x="603" y="303"/>
                        </a:lnTo>
                        <a:lnTo>
                          <a:pt x="596" y="303"/>
                        </a:lnTo>
                        <a:lnTo>
                          <a:pt x="592" y="363"/>
                        </a:lnTo>
                        <a:lnTo>
                          <a:pt x="574" y="419"/>
                        </a:lnTo>
                        <a:lnTo>
                          <a:pt x="547" y="469"/>
                        </a:lnTo>
                        <a:lnTo>
                          <a:pt x="511" y="511"/>
                        </a:lnTo>
                        <a:lnTo>
                          <a:pt x="469" y="547"/>
                        </a:lnTo>
                        <a:lnTo>
                          <a:pt x="417" y="574"/>
                        </a:lnTo>
                        <a:lnTo>
                          <a:pt x="363" y="592"/>
                        </a:lnTo>
                        <a:lnTo>
                          <a:pt x="303" y="596"/>
                        </a:lnTo>
                        <a:lnTo>
                          <a:pt x="242" y="592"/>
                        </a:lnTo>
                        <a:lnTo>
                          <a:pt x="186" y="574"/>
                        </a:lnTo>
                        <a:lnTo>
                          <a:pt x="137" y="547"/>
                        </a:lnTo>
                        <a:lnTo>
                          <a:pt x="92" y="511"/>
                        </a:lnTo>
                        <a:lnTo>
                          <a:pt x="56" y="469"/>
                        </a:lnTo>
                        <a:lnTo>
                          <a:pt x="29" y="419"/>
                        </a:lnTo>
                        <a:lnTo>
                          <a:pt x="12" y="363"/>
                        </a:lnTo>
                        <a:lnTo>
                          <a:pt x="7" y="303"/>
                        </a:lnTo>
                        <a:lnTo>
                          <a:pt x="9" y="260"/>
                        </a:lnTo>
                        <a:close/>
                      </a:path>
                    </a:pathLst>
                  </a:custGeom>
                  <a:solidFill>
                    <a:srgbClr val="f3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712440" y="1663560"/>
                    <a:ext cx="9432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94">
                        <a:moveTo>
                          <a:pt x="11" y="244"/>
                        </a:moveTo>
                        <a:lnTo>
                          <a:pt x="9" y="248"/>
                        </a:lnTo>
                        <a:lnTo>
                          <a:pt x="7" y="253"/>
                        </a:lnTo>
                        <a:lnTo>
                          <a:pt x="4" y="257"/>
                        </a:lnTo>
                        <a:lnTo>
                          <a:pt x="2" y="262"/>
                        </a:lnTo>
                        <a:lnTo>
                          <a:pt x="0" y="298"/>
                        </a:lnTo>
                        <a:lnTo>
                          <a:pt x="4" y="358"/>
                        </a:lnTo>
                        <a:lnTo>
                          <a:pt x="22" y="414"/>
                        </a:lnTo>
                        <a:lnTo>
                          <a:pt x="49" y="466"/>
                        </a:lnTo>
                        <a:lnTo>
                          <a:pt x="87" y="506"/>
                        </a:lnTo>
                        <a:lnTo>
                          <a:pt x="130" y="544"/>
                        </a:lnTo>
                        <a:lnTo>
                          <a:pt x="181" y="571"/>
                        </a:lnTo>
                        <a:lnTo>
                          <a:pt x="237" y="589"/>
                        </a:lnTo>
                        <a:lnTo>
                          <a:pt x="298" y="594"/>
                        </a:lnTo>
                        <a:lnTo>
                          <a:pt x="358" y="589"/>
                        </a:lnTo>
                        <a:lnTo>
                          <a:pt x="414" y="571"/>
                        </a:lnTo>
                        <a:lnTo>
                          <a:pt x="464" y="544"/>
                        </a:lnTo>
                        <a:lnTo>
                          <a:pt x="509" y="506"/>
                        </a:lnTo>
                        <a:lnTo>
                          <a:pt x="542" y="466"/>
                        </a:lnTo>
                        <a:lnTo>
                          <a:pt x="571" y="414"/>
                        </a:lnTo>
                        <a:lnTo>
                          <a:pt x="587" y="358"/>
                        </a:lnTo>
                        <a:lnTo>
                          <a:pt x="594" y="298"/>
                        </a:lnTo>
                        <a:lnTo>
                          <a:pt x="587" y="298"/>
                        </a:lnTo>
                        <a:lnTo>
                          <a:pt x="583" y="239"/>
                        </a:lnTo>
                        <a:lnTo>
                          <a:pt x="565" y="183"/>
                        </a:lnTo>
                        <a:lnTo>
                          <a:pt x="538" y="134"/>
                        </a:lnTo>
                        <a:lnTo>
                          <a:pt x="504" y="92"/>
                        </a:lnTo>
                        <a:lnTo>
                          <a:pt x="461" y="56"/>
                        </a:lnTo>
                        <a:lnTo>
                          <a:pt x="412" y="29"/>
                        </a:lnTo>
                        <a:lnTo>
                          <a:pt x="356" y="11"/>
                        </a:lnTo>
                        <a:lnTo>
                          <a:pt x="298" y="6"/>
                        </a:lnTo>
                        <a:lnTo>
                          <a:pt x="240" y="11"/>
                        </a:lnTo>
                        <a:lnTo>
                          <a:pt x="184" y="29"/>
                        </a:lnTo>
                        <a:lnTo>
                          <a:pt x="188" y="27"/>
                        </a:lnTo>
                        <a:lnTo>
                          <a:pt x="193" y="22"/>
                        </a:lnTo>
                        <a:lnTo>
                          <a:pt x="195" y="20"/>
                        </a:lnTo>
                        <a:lnTo>
                          <a:pt x="199" y="18"/>
                        </a:lnTo>
                        <a:lnTo>
                          <a:pt x="237" y="6"/>
                        </a:lnTo>
                        <a:lnTo>
                          <a:pt x="298" y="0"/>
                        </a:lnTo>
                        <a:lnTo>
                          <a:pt x="358" y="6"/>
                        </a:lnTo>
                        <a:lnTo>
                          <a:pt x="414" y="22"/>
                        </a:lnTo>
                        <a:lnTo>
                          <a:pt x="464" y="51"/>
                        </a:lnTo>
                        <a:lnTo>
                          <a:pt x="509" y="87"/>
                        </a:lnTo>
                        <a:lnTo>
                          <a:pt x="542" y="132"/>
                        </a:lnTo>
                        <a:lnTo>
                          <a:pt x="571" y="181"/>
                        </a:lnTo>
                        <a:lnTo>
                          <a:pt x="587" y="237"/>
                        </a:lnTo>
                        <a:lnTo>
                          <a:pt x="594" y="298"/>
                        </a:lnTo>
                        <a:lnTo>
                          <a:pt x="587" y="298"/>
                        </a:lnTo>
                        <a:lnTo>
                          <a:pt x="583" y="356"/>
                        </a:lnTo>
                        <a:lnTo>
                          <a:pt x="565" y="412"/>
                        </a:lnTo>
                        <a:lnTo>
                          <a:pt x="538" y="461"/>
                        </a:lnTo>
                        <a:lnTo>
                          <a:pt x="504" y="502"/>
                        </a:lnTo>
                        <a:lnTo>
                          <a:pt x="461" y="538"/>
                        </a:lnTo>
                        <a:lnTo>
                          <a:pt x="412" y="564"/>
                        </a:lnTo>
                        <a:lnTo>
                          <a:pt x="356" y="582"/>
                        </a:lnTo>
                        <a:lnTo>
                          <a:pt x="298" y="589"/>
                        </a:lnTo>
                        <a:lnTo>
                          <a:pt x="240" y="582"/>
                        </a:lnTo>
                        <a:lnTo>
                          <a:pt x="184" y="564"/>
                        </a:lnTo>
                        <a:lnTo>
                          <a:pt x="134" y="538"/>
                        </a:lnTo>
                        <a:lnTo>
                          <a:pt x="92" y="502"/>
                        </a:lnTo>
                        <a:lnTo>
                          <a:pt x="56" y="461"/>
                        </a:lnTo>
                        <a:lnTo>
                          <a:pt x="29" y="412"/>
                        </a:lnTo>
                        <a:lnTo>
                          <a:pt x="11" y="356"/>
                        </a:lnTo>
                        <a:lnTo>
                          <a:pt x="4" y="298"/>
                        </a:lnTo>
                        <a:lnTo>
                          <a:pt x="11" y="244"/>
                        </a:lnTo>
                        <a:close/>
                      </a:path>
                    </a:pathLst>
                  </a:custGeom>
                  <a:solidFill>
                    <a:srgbClr val="f3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15680" y="1670040"/>
                    <a:ext cx="932040" cy="9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587">
                        <a:moveTo>
                          <a:pt x="18" y="220"/>
                        </a:moveTo>
                        <a:lnTo>
                          <a:pt x="16" y="226"/>
                        </a:lnTo>
                        <a:lnTo>
                          <a:pt x="11" y="233"/>
                        </a:lnTo>
                        <a:lnTo>
                          <a:pt x="9" y="240"/>
                        </a:lnTo>
                        <a:lnTo>
                          <a:pt x="7" y="247"/>
                        </a:lnTo>
                        <a:lnTo>
                          <a:pt x="0" y="294"/>
                        </a:lnTo>
                        <a:lnTo>
                          <a:pt x="7" y="354"/>
                        </a:lnTo>
                        <a:lnTo>
                          <a:pt x="25" y="408"/>
                        </a:lnTo>
                        <a:lnTo>
                          <a:pt x="52" y="460"/>
                        </a:lnTo>
                        <a:lnTo>
                          <a:pt x="87" y="500"/>
                        </a:lnTo>
                        <a:lnTo>
                          <a:pt x="130" y="536"/>
                        </a:lnTo>
                        <a:lnTo>
                          <a:pt x="182" y="563"/>
                        </a:lnTo>
                        <a:lnTo>
                          <a:pt x="235" y="581"/>
                        </a:lnTo>
                        <a:lnTo>
                          <a:pt x="296" y="587"/>
                        </a:lnTo>
                        <a:lnTo>
                          <a:pt x="354" y="581"/>
                        </a:lnTo>
                        <a:lnTo>
                          <a:pt x="410" y="563"/>
                        </a:lnTo>
                        <a:lnTo>
                          <a:pt x="459" y="536"/>
                        </a:lnTo>
                        <a:lnTo>
                          <a:pt x="504" y="500"/>
                        </a:lnTo>
                        <a:lnTo>
                          <a:pt x="538" y="460"/>
                        </a:lnTo>
                        <a:lnTo>
                          <a:pt x="565" y="408"/>
                        </a:lnTo>
                        <a:lnTo>
                          <a:pt x="583" y="354"/>
                        </a:lnTo>
                        <a:lnTo>
                          <a:pt x="587" y="294"/>
                        </a:lnTo>
                        <a:lnTo>
                          <a:pt x="581" y="294"/>
                        </a:lnTo>
                        <a:lnTo>
                          <a:pt x="576" y="235"/>
                        </a:lnTo>
                        <a:lnTo>
                          <a:pt x="558" y="182"/>
                        </a:lnTo>
                        <a:lnTo>
                          <a:pt x="531" y="132"/>
                        </a:lnTo>
                        <a:lnTo>
                          <a:pt x="500" y="90"/>
                        </a:lnTo>
                        <a:lnTo>
                          <a:pt x="457" y="56"/>
                        </a:lnTo>
                        <a:lnTo>
                          <a:pt x="408" y="29"/>
                        </a:lnTo>
                        <a:lnTo>
                          <a:pt x="354" y="11"/>
                        </a:lnTo>
                        <a:lnTo>
                          <a:pt x="296" y="7"/>
                        </a:lnTo>
                        <a:lnTo>
                          <a:pt x="238" y="11"/>
                        </a:lnTo>
                        <a:lnTo>
                          <a:pt x="184" y="29"/>
                        </a:lnTo>
                        <a:lnTo>
                          <a:pt x="161" y="40"/>
                        </a:lnTo>
                        <a:lnTo>
                          <a:pt x="168" y="36"/>
                        </a:lnTo>
                        <a:lnTo>
                          <a:pt x="175" y="31"/>
                        </a:lnTo>
                        <a:lnTo>
                          <a:pt x="179" y="25"/>
                        </a:lnTo>
                        <a:lnTo>
                          <a:pt x="186" y="20"/>
                        </a:lnTo>
                        <a:lnTo>
                          <a:pt x="235" y="5"/>
                        </a:lnTo>
                        <a:lnTo>
                          <a:pt x="296" y="0"/>
                        </a:lnTo>
                        <a:lnTo>
                          <a:pt x="354" y="5"/>
                        </a:lnTo>
                        <a:lnTo>
                          <a:pt x="410" y="23"/>
                        </a:lnTo>
                        <a:lnTo>
                          <a:pt x="459" y="49"/>
                        </a:lnTo>
                        <a:lnTo>
                          <a:pt x="504" y="85"/>
                        </a:lnTo>
                        <a:lnTo>
                          <a:pt x="538" y="130"/>
                        </a:lnTo>
                        <a:lnTo>
                          <a:pt x="565" y="179"/>
                        </a:lnTo>
                        <a:lnTo>
                          <a:pt x="583" y="235"/>
                        </a:lnTo>
                        <a:lnTo>
                          <a:pt x="587" y="294"/>
                        </a:lnTo>
                        <a:lnTo>
                          <a:pt x="581" y="294"/>
                        </a:lnTo>
                        <a:lnTo>
                          <a:pt x="576" y="352"/>
                        </a:lnTo>
                        <a:lnTo>
                          <a:pt x="558" y="406"/>
                        </a:lnTo>
                        <a:lnTo>
                          <a:pt x="531" y="455"/>
                        </a:lnTo>
                        <a:lnTo>
                          <a:pt x="500" y="495"/>
                        </a:lnTo>
                        <a:lnTo>
                          <a:pt x="457" y="531"/>
                        </a:lnTo>
                        <a:lnTo>
                          <a:pt x="408" y="558"/>
                        </a:lnTo>
                        <a:lnTo>
                          <a:pt x="354" y="574"/>
                        </a:lnTo>
                        <a:lnTo>
                          <a:pt x="296" y="581"/>
                        </a:lnTo>
                        <a:lnTo>
                          <a:pt x="238" y="574"/>
                        </a:lnTo>
                        <a:lnTo>
                          <a:pt x="184" y="558"/>
                        </a:lnTo>
                        <a:lnTo>
                          <a:pt x="135" y="531"/>
                        </a:lnTo>
                        <a:lnTo>
                          <a:pt x="92" y="495"/>
                        </a:lnTo>
                        <a:lnTo>
                          <a:pt x="56" y="455"/>
                        </a:lnTo>
                        <a:lnTo>
                          <a:pt x="29" y="406"/>
                        </a:lnTo>
                        <a:lnTo>
                          <a:pt x="13" y="352"/>
                        </a:lnTo>
                        <a:lnTo>
                          <a:pt x="7" y="294"/>
                        </a:lnTo>
                        <a:lnTo>
                          <a:pt x="13" y="235"/>
                        </a:lnTo>
                        <a:lnTo>
                          <a:pt x="18" y="220"/>
                        </a:lnTo>
                        <a:close/>
                      </a:path>
                    </a:pathLst>
                  </a:custGeom>
                  <a:solidFill>
                    <a:srgbClr val="f5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23600" y="1677960"/>
                    <a:ext cx="917640" cy="9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8" h="578">
                        <a:moveTo>
                          <a:pt x="24" y="195"/>
                        </a:moveTo>
                        <a:lnTo>
                          <a:pt x="20" y="204"/>
                        </a:lnTo>
                        <a:lnTo>
                          <a:pt x="15" y="210"/>
                        </a:lnTo>
                        <a:lnTo>
                          <a:pt x="11" y="217"/>
                        </a:lnTo>
                        <a:lnTo>
                          <a:pt x="8" y="226"/>
                        </a:lnTo>
                        <a:lnTo>
                          <a:pt x="6" y="230"/>
                        </a:lnTo>
                        <a:lnTo>
                          <a:pt x="0" y="289"/>
                        </a:lnTo>
                        <a:lnTo>
                          <a:pt x="6" y="347"/>
                        </a:lnTo>
                        <a:lnTo>
                          <a:pt x="24" y="401"/>
                        </a:lnTo>
                        <a:lnTo>
                          <a:pt x="51" y="450"/>
                        </a:lnTo>
                        <a:lnTo>
                          <a:pt x="85" y="493"/>
                        </a:lnTo>
                        <a:lnTo>
                          <a:pt x="130" y="526"/>
                        </a:lnTo>
                        <a:lnTo>
                          <a:pt x="179" y="553"/>
                        </a:lnTo>
                        <a:lnTo>
                          <a:pt x="233" y="571"/>
                        </a:lnTo>
                        <a:lnTo>
                          <a:pt x="291" y="578"/>
                        </a:lnTo>
                        <a:lnTo>
                          <a:pt x="349" y="571"/>
                        </a:lnTo>
                        <a:lnTo>
                          <a:pt x="403" y="553"/>
                        </a:lnTo>
                        <a:lnTo>
                          <a:pt x="452" y="526"/>
                        </a:lnTo>
                        <a:lnTo>
                          <a:pt x="495" y="493"/>
                        </a:lnTo>
                        <a:lnTo>
                          <a:pt x="528" y="450"/>
                        </a:lnTo>
                        <a:lnTo>
                          <a:pt x="555" y="401"/>
                        </a:lnTo>
                        <a:lnTo>
                          <a:pt x="573" y="347"/>
                        </a:lnTo>
                        <a:lnTo>
                          <a:pt x="578" y="289"/>
                        </a:lnTo>
                        <a:lnTo>
                          <a:pt x="573" y="289"/>
                        </a:lnTo>
                        <a:lnTo>
                          <a:pt x="567" y="233"/>
                        </a:lnTo>
                        <a:lnTo>
                          <a:pt x="551" y="179"/>
                        </a:lnTo>
                        <a:lnTo>
                          <a:pt x="524" y="130"/>
                        </a:lnTo>
                        <a:lnTo>
                          <a:pt x="490" y="89"/>
                        </a:lnTo>
                        <a:lnTo>
                          <a:pt x="450" y="53"/>
                        </a:lnTo>
                        <a:lnTo>
                          <a:pt x="401" y="26"/>
                        </a:lnTo>
                        <a:lnTo>
                          <a:pt x="347" y="11"/>
                        </a:lnTo>
                        <a:lnTo>
                          <a:pt x="291" y="4"/>
                        </a:lnTo>
                        <a:lnTo>
                          <a:pt x="233" y="11"/>
                        </a:lnTo>
                        <a:lnTo>
                          <a:pt x="181" y="26"/>
                        </a:lnTo>
                        <a:lnTo>
                          <a:pt x="141" y="49"/>
                        </a:lnTo>
                        <a:lnTo>
                          <a:pt x="147" y="42"/>
                        </a:lnTo>
                        <a:lnTo>
                          <a:pt x="154" y="38"/>
                        </a:lnTo>
                        <a:lnTo>
                          <a:pt x="161" y="33"/>
                        </a:lnTo>
                        <a:lnTo>
                          <a:pt x="165" y="29"/>
                        </a:lnTo>
                        <a:lnTo>
                          <a:pt x="179" y="22"/>
                        </a:lnTo>
                        <a:lnTo>
                          <a:pt x="233" y="4"/>
                        </a:lnTo>
                        <a:lnTo>
                          <a:pt x="291" y="0"/>
                        </a:lnTo>
                        <a:lnTo>
                          <a:pt x="349" y="4"/>
                        </a:lnTo>
                        <a:lnTo>
                          <a:pt x="403" y="22"/>
                        </a:lnTo>
                        <a:lnTo>
                          <a:pt x="452" y="49"/>
                        </a:lnTo>
                        <a:lnTo>
                          <a:pt x="495" y="85"/>
                        </a:lnTo>
                        <a:lnTo>
                          <a:pt x="528" y="127"/>
                        </a:lnTo>
                        <a:lnTo>
                          <a:pt x="555" y="177"/>
                        </a:lnTo>
                        <a:lnTo>
                          <a:pt x="573" y="230"/>
                        </a:lnTo>
                        <a:lnTo>
                          <a:pt x="578" y="289"/>
                        </a:lnTo>
                        <a:lnTo>
                          <a:pt x="573" y="289"/>
                        </a:lnTo>
                        <a:lnTo>
                          <a:pt x="567" y="347"/>
                        </a:lnTo>
                        <a:lnTo>
                          <a:pt x="551" y="399"/>
                        </a:lnTo>
                        <a:lnTo>
                          <a:pt x="524" y="448"/>
                        </a:lnTo>
                        <a:lnTo>
                          <a:pt x="490" y="488"/>
                        </a:lnTo>
                        <a:lnTo>
                          <a:pt x="450" y="522"/>
                        </a:lnTo>
                        <a:lnTo>
                          <a:pt x="401" y="549"/>
                        </a:lnTo>
                        <a:lnTo>
                          <a:pt x="347" y="564"/>
                        </a:lnTo>
                        <a:lnTo>
                          <a:pt x="291" y="571"/>
                        </a:lnTo>
                        <a:lnTo>
                          <a:pt x="233" y="564"/>
                        </a:lnTo>
                        <a:lnTo>
                          <a:pt x="181" y="549"/>
                        </a:lnTo>
                        <a:lnTo>
                          <a:pt x="132" y="522"/>
                        </a:lnTo>
                        <a:lnTo>
                          <a:pt x="89" y="488"/>
                        </a:lnTo>
                        <a:lnTo>
                          <a:pt x="56" y="448"/>
                        </a:lnTo>
                        <a:lnTo>
                          <a:pt x="29" y="399"/>
                        </a:lnTo>
                        <a:lnTo>
                          <a:pt x="13" y="347"/>
                        </a:lnTo>
                        <a:lnTo>
                          <a:pt x="6" y="289"/>
                        </a:lnTo>
                        <a:lnTo>
                          <a:pt x="13" y="233"/>
                        </a:lnTo>
                        <a:lnTo>
                          <a:pt x="24" y="195"/>
                        </a:lnTo>
                        <a:close/>
                      </a:path>
                    </a:pathLst>
                  </a:custGeom>
                  <a:solidFill>
                    <a:srgbClr val="f5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30080" y="1684080"/>
                    <a:ext cx="903240" cy="90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9" h="569">
                        <a:moveTo>
                          <a:pt x="31" y="170"/>
                        </a:moveTo>
                        <a:lnTo>
                          <a:pt x="27" y="177"/>
                        </a:lnTo>
                        <a:lnTo>
                          <a:pt x="22" y="186"/>
                        </a:lnTo>
                        <a:lnTo>
                          <a:pt x="18" y="193"/>
                        </a:lnTo>
                        <a:lnTo>
                          <a:pt x="16" y="200"/>
                        </a:lnTo>
                        <a:lnTo>
                          <a:pt x="7" y="226"/>
                        </a:lnTo>
                        <a:lnTo>
                          <a:pt x="0" y="285"/>
                        </a:lnTo>
                        <a:lnTo>
                          <a:pt x="7" y="343"/>
                        </a:lnTo>
                        <a:lnTo>
                          <a:pt x="22" y="397"/>
                        </a:lnTo>
                        <a:lnTo>
                          <a:pt x="49" y="444"/>
                        </a:lnTo>
                        <a:lnTo>
                          <a:pt x="85" y="484"/>
                        </a:lnTo>
                        <a:lnTo>
                          <a:pt x="128" y="520"/>
                        </a:lnTo>
                        <a:lnTo>
                          <a:pt x="175" y="547"/>
                        </a:lnTo>
                        <a:lnTo>
                          <a:pt x="229" y="563"/>
                        </a:lnTo>
                        <a:lnTo>
                          <a:pt x="287" y="569"/>
                        </a:lnTo>
                        <a:lnTo>
                          <a:pt x="345" y="563"/>
                        </a:lnTo>
                        <a:lnTo>
                          <a:pt x="397" y="547"/>
                        </a:lnTo>
                        <a:lnTo>
                          <a:pt x="446" y="520"/>
                        </a:lnTo>
                        <a:lnTo>
                          <a:pt x="489" y="484"/>
                        </a:lnTo>
                        <a:lnTo>
                          <a:pt x="522" y="444"/>
                        </a:lnTo>
                        <a:lnTo>
                          <a:pt x="547" y="397"/>
                        </a:lnTo>
                        <a:lnTo>
                          <a:pt x="565" y="343"/>
                        </a:lnTo>
                        <a:lnTo>
                          <a:pt x="569" y="285"/>
                        </a:lnTo>
                        <a:lnTo>
                          <a:pt x="565" y="285"/>
                        </a:lnTo>
                        <a:lnTo>
                          <a:pt x="558" y="229"/>
                        </a:lnTo>
                        <a:lnTo>
                          <a:pt x="542" y="177"/>
                        </a:lnTo>
                        <a:lnTo>
                          <a:pt x="515" y="128"/>
                        </a:lnTo>
                        <a:lnTo>
                          <a:pt x="484" y="87"/>
                        </a:lnTo>
                        <a:lnTo>
                          <a:pt x="444" y="54"/>
                        </a:lnTo>
                        <a:lnTo>
                          <a:pt x="394" y="27"/>
                        </a:lnTo>
                        <a:lnTo>
                          <a:pt x="343" y="11"/>
                        </a:lnTo>
                        <a:lnTo>
                          <a:pt x="287" y="5"/>
                        </a:lnTo>
                        <a:lnTo>
                          <a:pt x="231" y="11"/>
                        </a:lnTo>
                        <a:lnTo>
                          <a:pt x="177" y="27"/>
                        </a:lnTo>
                        <a:lnTo>
                          <a:pt x="130" y="54"/>
                        </a:lnTo>
                        <a:lnTo>
                          <a:pt x="117" y="65"/>
                        </a:lnTo>
                        <a:lnTo>
                          <a:pt x="123" y="58"/>
                        </a:lnTo>
                        <a:lnTo>
                          <a:pt x="130" y="52"/>
                        </a:lnTo>
                        <a:lnTo>
                          <a:pt x="137" y="45"/>
                        </a:lnTo>
                        <a:lnTo>
                          <a:pt x="146" y="38"/>
                        </a:lnTo>
                        <a:lnTo>
                          <a:pt x="175" y="22"/>
                        </a:lnTo>
                        <a:lnTo>
                          <a:pt x="229" y="5"/>
                        </a:lnTo>
                        <a:lnTo>
                          <a:pt x="287" y="0"/>
                        </a:lnTo>
                        <a:lnTo>
                          <a:pt x="345" y="5"/>
                        </a:lnTo>
                        <a:lnTo>
                          <a:pt x="397" y="22"/>
                        </a:lnTo>
                        <a:lnTo>
                          <a:pt x="446" y="47"/>
                        </a:lnTo>
                        <a:lnTo>
                          <a:pt x="489" y="83"/>
                        </a:lnTo>
                        <a:lnTo>
                          <a:pt x="522" y="126"/>
                        </a:lnTo>
                        <a:lnTo>
                          <a:pt x="547" y="175"/>
                        </a:lnTo>
                        <a:lnTo>
                          <a:pt x="565" y="226"/>
                        </a:lnTo>
                        <a:lnTo>
                          <a:pt x="569" y="285"/>
                        </a:lnTo>
                        <a:lnTo>
                          <a:pt x="565" y="285"/>
                        </a:lnTo>
                        <a:lnTo>
                          <a:pt x="558" y="341"/>
                        </a:lnTo>
                        <a:lnTo>
                          <a:pt x="542" y="395"/>
                        </a:lnTo>
                        <a:lnTo>
                          <a:pt x="515" y="442"/>
                        </a:lnTo>
                        <a:lnTo>
                          <a:pt x="484" y="480"/>
                        </a:lnTo>
                        <a:lnTo>
                          <a:pt x="444" y="516"/>
                        </a:lnTo>
                        <a:lnTo>
                          <a:pt x="394" y="540"/>
                        </a:lnTo>
                        <a:lnTo>
                          <a:pt x="343" y="556"/>
                        </a:lnTo>
                        <a:lnTo>
                          <a:pt x="287" y="563"/>
                        </a:lnTo>
                        <a:lnTo>
                          <a:pt x="231" y="556"/>
                        </a:lnTo>
                        <a:lnTo>
                          <a:pt x="177" y="540"/>
                        </a:lnTo>
                        <a:lnTo>
                          <a:pt x="130" y="516"/>
                        </a:lnTo>
                        <a:lnTo>
                          <a:pt x="90" y="480"/>
                        </a:lnTo>
                        <a:lnTo>
                          <a:pt x="54" y="442"/>
                        </a:lnTo>
                        <a:lnTo>
                          <a:pt x="29" y="395"/>
                        </a:lnTo>
                        <a:lnTo>
                          <a:pt x="13" y="341"/>
                        </a:lnTo>
                        <a:lnTo>
                          <a:pt x="7" y="285"/>
                        </a:lnTo>
                        <a:lnTo>
                          <a:pt x="13" y="229"/>
                        </a:lnTo>
                        <a:lnTo>
                          <a:pt x="29" y="177"/>
                        </a:lnTo>
                        <a:lnTo>
                          <a:pt x="31" y="170"/>
                        </a:lnTo>
                        <a:close/>
                      </a:path>
                    </a:pathLst>
                  </a:custGeom>
                  <a:solidFill>
                    <a:srgbClr val="f5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736560" y="1687320"/>
                    <a:ext cx="893520" cy="893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563">
                        <a:moveTo>
                          <a:pt x="52" y="130"/>
                        </a:moveTo>
                        <a:lnTo>
                          <a:pt x="45" y="144"/>
                        </a:lnTo>
                        <a:lnTo>
                          <a:pt x="36" y="155"/>
                        </a:lnTo>
                        <a:lnTo>
                          <a:pt x="27" y="168"/>
                        </a:lnTo>
                        <a:lnTo>
                          <a:pt x="21" y="182"/>
                        </a:lnTo>
                        <a:lnTo>
                          <a:pt x="7" y="227"/>
                        </a:lnTo>
                        <a:lnTo>
                          <a:pt x="0" y="283"/>
                        </a:lnTo>
                        <a:lnTo>
                          <a:pt x="7" y="339"/>
                        </a:lnTo>
                        <a:lnTo>
                          <a:pt x="23" y="393"/>
                        </a:lnTo>
                        <a:lnTo>
                          <a:pt x="50" y="440"/>
                        </a:lnTo>
                        <a:lnTo>
                          <a:pt x="83" y="480"/>
                        </a:lnTo>
                        <a:lnTo>
                          <a:pt x="126" y="514"/>
                        </a:lnTo>
                        <a:lnTo>
                          <a:pt x="173" y="540"/>
                        </a:lnTo>
                        <a:lnTo>
                          <a:pt x="227" y="556"/>
                        </a:lnTo>
                        <a:lnTo>
                          <a:pt x="283" y="563"/>
                        </a:lnTo>
                        <a:lnTo>
                          <a:pt x="339" y="556"/>
                        </a:lnTo>
                        <a:lnTo>
                          <a:pt x="393" y="540"/>
                        </a:lnTo>
                        <a:lnTo>
                          <a:pt x="440" y="514"/>
                        </a:lnTo>
                        <a:lnTo>
                          <a:pt x="482" y="480"/>
                        </a:lnTo>
                        <a:lnTo>
                          <a:pt x="514" y="440"/>
                        </a:lnTo>
                        <a:lnTo>
                          <a:pt x="541" y="393"/>
                        </a:lnTo>
                        <a:lnTo>
                          <a:pt x="556" y="339"/>
                        </a:lnTo>
                        <a:lnTo>
                          <a:pt x="563" y="283"/>
                        </a:lnTo>
                        <a:lnTo>
                          <a:pt x="556" y="283"/>
                        </a:lnTo>
                        <a:lnTo>
                          <a:pt x="550" y="227"/>
                        </a:lnTo>
                        <a:lnTo>
                          <a:pt x="534" y="175"/>
                        </a:lnTo>
                        <a:lnTo>
                          <a:pt x="509" y="128"/>
                        </a:lnTo>
                        <a:lnTo>
                          <a:pt x="478" y="88"/>
                        </a:lnTo>
                        <a:lnTo>
                          <a:pt x="438" y="54"/>
                        </a:lnTo>
                        <a:lnTo>
                          <a:pt x="390" y="29"/>
                        </a:lnTo>
                        <a:lnTo>
                          <a:pt x="339" y="14"/>
                        </a:lnTo>
                        <a:lnTo>
                          <a:pt x="283" y="7"/>
                        </a:lnTo>
                        <a:lnTo>
                          <a:pt x="227" y="14"/>
                        </a:lnTo>
                        <a:lnTo>
                          <a:pt x="175" y="29"/>
                        </a:lnTo>
                        <a:lnTo>
                          <a:pt x="128" y="54"/>
                        </a:lnTo>
                        <a:lnTo>
                          <a:pt x="88" y="88"/>
                        </a:lnTo>
                        <a:lnTo>
                          <a:pt x="97" y="79"/>
                        </a:lnTo>
                        <a:lnTo>
                          <a:pt x="108" y="68"/>
                        </a:lnTo>
                        <a:lnTo>
                          <a:pt x="117" y="59"/>
                        </a:lnTo>
                        <a:lnTo>
                          <a:pt x="128" y="47"/>
                        </a:lnTo>
                        <a:lnTo>
                          <a:pt x="173" y="23"/>
                        </a:lnTo>
                        <a:lnTo>
                          <a:pt x="227" y="7"/>
                        </a:lnTo>
                        <a:lnTo>
                          <a:pt x="283" y="0"/>
                        </a:lnTo>
                        <a:lnTo>
                          <a:pt x="339" y="7"/>
                        </a:lnTo>
                        <a:lnTo>
                          <a:pt x="393" y="23"/>
                        </a:lnTo>
                        <a:lnTo>
                          <a:pt x="440" y="50"/>
                        </a:lnTo>
                        <a:lnTo>
                          <a:pt x="482" y="83"/>
                        </a:lnTo>
                        <a:lnTo>
                          <a:pt x="514" y="126"/>
                        </a:lnTo>
                        <a:lnTo>
                          <a:pt x="541" y="173"/>
                        </a:lnTo>
                        <a:lnTo>
                          <a:pt x="556" y="227"/>
                        </a:lnTo>
                        <a:lnTo>
                          <a:pt x="563" y="283"/>
                        </a:lnTo>
                        <a:lnTo>
                          <a:pt x="556" y="283"/>
                        </a:lnTo>
                        <a:lnTo>
                          <a:pt x="550" y="339"/>
                        </a:lnTo>
                        <a:lnTo>
                          <a:pt x="534" y="390"/>
                        </a:lnTo>
                        <a:lnTo>
                          <a:pt x="509" y="437"/>
                        </a:lnTo>
                        <a:lnTo>
                          <a:pt x="478" y="475"/>
                        </a:lnTo>
                        <a:lnTo>
                          <a:pt x="438" y="509"/>
                        </a:lnTo>
                        <a:lnTo>
                          <a:pt x="390" y="534"/>
                        </a:lnTo>
                        <a:lnTo>
                          <a:pt x="339" y="549"/>
                        </a:lnTo>
                        <a:lnTo>
                          <a:pt x="283" y="556"/>
                        </a:lnTo>
                        <a:lnTo>
                          <a:pt x="227" y="549"/>
                        </a:lnTo>
                        <a:lnTo>
                          <a:pt x="175" y="534"/>
                        </a:lnTo>
                        <a:lnTo>
                          <a:pt x="128" y="509"/>
                        </a:lnTo>
                        <a:lnTo>
                          <a:pt x="88" y="475"/>
                        </a:lnTo>
                        <a:lnTo>
                          <a:pt x="54" y="437"/>
                        </a:lnTo>
                        <a:lnTo>
                          <a:pt x="30" y="390"/>
                        </a:lnTo>
                        <a:lnTo>
                          <a:pt x="12" y="339"/>
                        </a:lnTo>
                        <a:lnTo>
                          <a:pt x="7" y="283"/>
                        </a:lnTo>
                        <a:lnTo>
                          <a:pt x="12" y="227"/>
                        </a:lnTo>
                        <a:lnTo>
                          <a:pt x="30" y="175"/>
                        </a:lnTo>
                        <a:lnTo>
                          <a:pt x="52" y="130"/>
                        </a:lnTo>
                        <a:close/>
                      </a:path>
                    </a:pathLst>
                  </a:custGeom>
                  <a:solidFill>
                    <a:srgbClr val="f5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30160" y="1827000"/>
                    <a:ext cx="460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6">
                        <a:moveTo>
                          <a:pt x="0" y="36"/>
                        </a:moveTo>
                        <a:lnTo>
                          <a:pt x="6" y="27"/>
                        </a:lnTo>
                        <a:lnTo>
                          <a:pt x="13" y="18"/>
                        </a:lnTo>
                        <a:lnTo>
                          <a:pt x="22" y="9"/>
                        </a:lnTo>
                        <a:lnTo>
                          <a:pt x="29" y="0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f5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744480" y="1695240"/>
                    <a:ext cx="879480" cy="87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53">
                        <a:moveTo>
                          <a:pt x="94" y="72"/>
                        </a:moveTo>
                        <a:lnTo>
                          <a:pt x="85" y="80"/>
                        </a:lnTo>
                        <a:lnTo>
                          <a:pt x="78" y="89"/>
                        </a:lnTo>
                        <a:lnTo>
                          <a:pt x="72" y="96"/>
                        </a:lnTo>
                        <a:lnTo>
                          <a:pt x="65" y="105"/>
                        </a:lnTo>
                        <a:lnTo>
                          <a:pt x="58" y="114"/>
                        </a:lnTo>
                        <a:lnTo>
                          <a:pt x="52" y="123"/>
                        </a:lnTo>
                        <a:lnTo>
                          <a:pt x="45" y="132"/>
                        </a:lnTo>
                        <a:lnTo>
                          <a:pt x="38" y="141"/>
                        </a:lnTo>
                        <a:lnTo>
                          <a:pt x="22" y="170"/>
                        </a:lnTo>
                        <a:lnTo>
                          <a:pt x="7" y="222"/>
                        </a:lnTo>
                        <a:lnTo>
                          <a:pt x="0" y="278"/>
                        </a:lnTo>
                        <a:lnTo>
                          <a:pt x="7" y="334"/>
                        </a:lnTo>
                        <a:lnTo>
                          <a:pt x="22" y="385"/>
                        </a:lnTo>
                        <a:lnTo>
                          <a:pt x="47" y="432"/>
                        </a:lnTo>
                        <a:lnTo>
                          <a:pt x="81" y="473"/>
                        </a:lnTo>
                        <a:lnTo>
                          <a:pt x="123" y="506"/>
                        </a:lnTo>
                        <a:lnTo>
                          <a:pt x="170" y="531"/>
                        </a:lnTo>
                        <a:lnTo>
                          <a:pt x="222" y="547"/>
                        </a:lnTo>
                        <a:lnTo>
                          <a:pt x="278" y="553"/>
                        </a:lnTo>
                        <a:lnTo>
                          <a:pt x="334" y="547"/>
                        </a:lnTo>
                        <a:lnTo>
                          <a:pt x="385" y="531"/>
                        </a:lnTo>
                        <a:lnTo>
                          <a:pt x="433" y="506"/>
                        </a:lnTo>
                        <a:lnTo>
                          <a:pt x="473" y="473"/>
                        </a:lnTo>
                        <a:lnTo>
                          <a:pt x="506" y="432"/>
                        </a:lnTo>
                        <a:lnTo>
                          <a:pt x="531" y="385"/>
                        </a:lnTo>
                        <a:lnTo>
                          <a:pt x="547" y="334"/>
                        </a:lnTo>
                        <a:lnTo>
                          <a:pt x="554" y="278"/>
                        </a:lnTo>
                        <a:lnTo>
                          <a:pt x="547" y="278"/>
                        </a:lnTo>
                        <a:lnTo>
                          <a:pt x="540" y="224"/>
                        </a:lnTo>
                        <a:lnTo>
                          <a:pt x="524" y="172"/>
                        </a:lnTo>
                        <a:lnTo>
                          <a:pt x="502" y="128"/>
                        </a:lnTo>
                        <a:lnTo>
                          <a:pt x="468" y="87"/>
                        </a:lnTo>
                        <a:lnTo>
                          <a:pt x="428" y="54"/>
                        </a:lnTo>
                        <a:lnTo>
                          <a:pt x="383" y="29"/>
                        </a:lnTo>
                        <a:lnTo>
                          <a:pt x="332" y="13"/>
                        </a:lnTo>
                        <a:lnTo>
                          <a:pt x="278" y="7"/>
                        </a:lnTo>
                        <a:lnTo>
                          <a:pt x="224" y="13"/>
                        </a:lnTo>
                        <a:lnTo>
                          <a:pt x="173" y="29"/>
                        </a:lnTo>
                        <a:lnTo>
                          <a:pt x="125" y="54"/>
                        </a:lnTo>
                        <a:lnTo>
                          <a:pt x="85" y="87"/>
                        </a:lnTo>
                        <a:lnTo>
                          <a:pt x="54" y="128"/>
                        </a:lnTo>
                        <a:lnTo>
                          <a:pt x="27" y="172"/>
                        </a:lnTo>
                        <a:lnTo>
                          <a:pt x="11" y="224"/>
                        </a:lnTo>
                        <a:lnTo>
                          <a:pt x="7" y="278"/>
                        </a:lnTo>
                        <a:lnTo>
                          <a:pt x="11" y="331"/>
                        </a:lnTo>
                        <a:lnTo>
                          <a:pt x="27" y="383"/>
                        </a:lnTo>
                        <a:lnTo>
                          <a:pt x="54" y="430"/>
                        </a:lnTo>
                        <a:lnTo>
                          <a:pt x="85" y="468"/>
                        </a:lnTo>
                        <a:lnTo>
                          <a:pt x="125" y="500"/>
                        </a:lnTo>
                        <a:lnTo>
                          <a:pt x="173" y="526"/>
                        </a:lnTo>
                        <a:lnTo>
                          <a:pt x="224" y="542"/>
                        </a:lnTo>
                        <a:lnTo>
                          <a:pt x="278" y="547"/>
                        </a:lnTo>
                        <a:lnTo>
                          <a:pt x="332" y="542"/>
                        </a:lnTo>
                        <a:lnTo>
                          <a:pt x="383" y="526"/>
                        </a:lnTo>
                        <a:lnTo>
                          <a:pt x="428" y="500"/>
                        </a:lnTo>
                        <a:lnTo>
                          <a:pt x="468" y="468"/>
                        </a:lnTo>
                        <a:lnTo>
                          <a:pt x="502" y="430"/>
                        </a:lnTo>
                        <a:lnTo>
                          <a:pt x="524" y="383"/>
                        </a:lnTo>
                        <a:lnTo>
                          <a:pt x="540" y="331"/>
                        </a:lnTo>
                        <a:lnTo>
                          <a:pt x="547" y="278"/>
                        </a:lnTo>
                        <a:lnTo>
                          <a:pt x="554" y="278"/>
                        </a:lnTo>
                        <a:lnTo>
                          <a:pt x="547" y="222"/>
                        </a:lnTo>
                        <a:lnTo>
                          <a:pt x="531" y="170"/>
                        </a:lnTo>
                        <a:lnTo>
                          <a:pt x="506" y="123"/>
                        </a:lnTo>
                        <a:lnTo>
                          <a:pt x="473" y="83"/>
                        </a:lnTo>
                        <a:lnTo>
                          <a:pt x="433" y="47"/>
                        </a:lnTo>
                        <a:lnTo>
                          <a:pt x="385" y="22"/>
                        </a:lnTo>
                        <a:lnTo>
                          <a:pt x="334" y="7"/>
                        </a:lnTo>
                        <a:lnTo>
                          <a:pt x="278" y="0"/>
                        </a:lnTo>
                        <a:lnTo>
                          <a:pt x="222" y="7"/>
                        </a:lnTo>
                        <a:lnTo>
                          <a:pt x="170" y="22"/>
                        </a:lnTo>
                        <a:lnTo>
                          <a:pt x="123" y="47"/>
                        </a:lnTo>
                        <a:lnTo>
                          <a:pt x="94" y="72"/>
                        </a:lnTo>
                        <a:close/>
                      </a:path>
                    </a:pathLst>
                  </a:custGeom>
                  <a:solidFill>
                    <a:srgbClr val="f5e9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50600" y="1701720"/>
                    <a:ext cx="865440" cy="86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545">
                        <a:moveTo>
                          <a:pt x="545" y="274"/>
                        </a:moveTo>
                        <a:lnTo>
                          <a:pt x="538" y="220"/>
                        </a:lnTo>
                        <a:lnTo>
                          <a:pt x="523" y="168"/>
                        </a:lnTo>
                        <a:lnTo>
                          <a:pt x="498" y="121"/>
                        </a:lnTo>
                        <a:lnTo>
                          <a:pt x="467" y="81"/>
                        </a:lnTo>
                        <a:lnTo>
                          <a:pt x="426" y="47"/>
                        </a:lnTo>
                        <a:lnTo>
                          <a:pt x="379" y="23"/>
                        </a:lnTo>
                        <a:lnTo>
                          <a:pt x="328" y="7"/>
                        </a:lnTo>
                        <a:lnTo>
                          <a:pt x="274" y="0"/>
                        </a:lnTo>
                        <a:lnTo>
                          <a:pt x="218" y="7"/>
                        </a:lnTo>
                        <a:lnTo>
                          <a:pt x="166" y="23"/>
                        </a:lnTo>
                        <a:lnTo>
                          <a:pt x="121" y="47"/>
                        </a:lnTo>
                        <a:lnTo>
                          <a:pt x="81" y="81"/>
                        </a:lnTo>
                        <a:lnTo>
                          <a:pt x="48" y="121"/>
                        </a:lnTo>
                        <a:lnTo>
                          <a:pt x="23" y="168"/>
                        </a:lnTo>
                        <a:lnTo>
                          <a:pt x="5" y="220"/>
                        </a:lnTo>
                        <a:lnTo>
                          <a:pt x="0" y="274"/>
                        </a:lnTo>
                        <a:lnTo>
                          <a:pt x="5" y="330"/>
                        </a:lnTo>
                        <a:lnTo>
                          <a:pt x="23" y="381"/>
                        </a:lnTo>
                        <a:lnTo>
                          <a:pt x="48" y="426"/>
                        </a:lnTo>
                        <a:lnTo>
                          <a:pt x="81" y="464"/>
                        </a:lnTo>
                        <a:lnTo>
                          <a:pt x="121" y="498"/>
                        </a:lnTo>
                        <a:lnTo>
                          <a:pt x="166" y="522"/>
                        </a:lnTo>
                        <a:lnTo>
                          <a:pt x="218" y="540"/>
                        </a:lnTo>
                        <a:lnTo>
                          <a:pt x="274" y="545"/>
                        </a:lnTo>
                        <a:lnTo>
                          <a:pt x="328" y="540"/>
                        </a:lnTo>
                        <a:lnTo>
                          <a:pt x="379" y="522"/>
                        </a:lnTo>
                        <a:lnTo>
                          <a:pt x="426" y="498"/>
                        </a:lnTo>
                        <a:lnTo>
                          <a:pt x="467" y="464"/>
                        </a:lnTo>
                        <a:lnTo>
                          <a:pt x="498" y="426"/>
                        </a:lnTo>
                        <a:lnTo>
                          <a:pt x="523" y="381"/>
                        </a:lnTo>
                        <a:lnTo>
                          <a:pt x="538" y="330"/>
                        </a:lnTo>
                        <a:lnTo>
                          <a:pt x="545" y="274"/>
                        </a:lnTo>
                        <a:lnTo>
                          <a:pt x="538" y="274"/>
                        </a:lnTo>
                        <a:lnTo>
                          <a:pt x="534" y="220"/>
                        </a:lnTo>
                        <a:lnTo>
                          <a:pt x="518" y="171"/>
                        </a:lnTo>
                        <a:lnTo>
                          <a:pt x="496" y="126"/>
                        </a:lnTo>
                        <a:lnTo>
                          <a:pt x="462" y="85"/>
                        </a:lnTo>
                        <a:lnTo>
                          <a:pt x="422" y="52"/>
                        </a:lnTo>
                        <a:lnTo>
                          <a:pt x="377" y="27"/>
                        </a:lnTo>
                        <a:lnTo>
                          <a:pt x="328" y="11"/>
                        </a:lnTo>
                        <a:lnTo>
                          <a:pt x="274" y="7"/>
                        </a:lnTo>
                        <a:lnTo>
                          <a:pt x="220" y="11"/>
                        </a:lnTo>
                        <a:lnTo>
                          <a:pt x="171" y="27"/>
                        </a:lnTo>
                        <a:lnTo>
                          <a:pt x="124" y="52"/>
                        </a:lnTo>
                        <a:lnTo>
                          <a:pt x="86" y="85"/>
                        </a:lnTo>
                        <a:lnTo>
                          <a:pt x="52" y="126"/>
                        </a:lnTo>
                        <a:lnTo>
                          <a:pt x="27" y="171"/>
                        </a:lnTo>
                        <a:lnTo>
                          <a:pt x="12" y="220"/>
                        </a:lnTo>
                        <a:lnTo>
                          <a:pt x="7" y="274"/>
                        </a:lnTo>
                        <a:lnTo>
                          <a:pt x="12" y="327"/>
                        </a:lnTo>
                        <a:lnTo>
                          <a:pt x="27" y="377"/>
                        </a:lnTo>
                        <a:lnTo>
                          <a:pt x="52" y="424"/>
                        </a:lnTo>
                        <a:lnTo>
                          <a:pt x="86" y="460"/>
                        </a:lnTo>
                        <a:lnTo>
                          <a:pt x="124" y="493"/>
                        </a:lnTo>
                        <a:lnTo>
                          <a:pt x="171" y="518"/>
                        </a:lnTo>
                        <a:lnTo>
                          <a:pt x="220" y="534"/>
                        </a:lnTo>
                        <a:lnTo>
                          <a:pt x="274" y="538"/>
                        </a:lnTo>
                        <a:lnTo>
                          <a:pt x="328" y="534"/>
                        </a:lnTo>
                        <a:lnTo>
                          <a:pt x="377" y="518"/>
                        </a:lnTo>
                        <a:lnTo>
                          <a:pt x="422" y="493"/>
                        </a:lnTo>
                        <a:lnTo>
                          <a:pt x="462" y="460"/>
                        </a:lnTo>
                        <a:lnTo>
                          <a:pt x="496" y="424"/>
                        </a:lnTo>
                        <a:lnTo>
                          <a:pt x="518" y="377"/>
                        </a:lnTo>
                        <a:lnTo>
                          <a:pt x="534" y="327"/>
                        </a:lnTo>
                        <a:lnTo>
                          <a:pt x="538" y="274"/>
                        </a:lnTo>
                        <a:lnTo>
                          <a:pt x="545" y="274"/>
                        </a:lnTo>
                        <a:close/>
                      </a:path>
                    </a:pathLst>
                  </a:custGeom>
                  <a:solidFill>
                    <a:srgbClr val="f5e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58520" y="1709640"/>
                    <a:ext cx="851040" cy="84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535">
                        <a:moveTo>
                          <a:pt x="536" y="269"/>
                        </a:moveTo>
                        <a:lnTo>
                          <a:pt x="529" y="215"/>
                        </a:lnTo>
                        <a:lnTo>
                          <a:pt x="513" y="163"/>
                        </a:lnTo>
                        <a:lnTo>
                          <a:pt x="491" y="119"/>
                        </a:lnTo>
                        <a:lnTo>
                          <a:pt x="459" y="78"/>
                        </a:lnTo>
                        <a:lnTo>
                          <a:pt x="419" y="47"/>
                        </a:lnTo>
                        <a:lnTo>
                          <a:pt x="374" y="22"/>
                        </a:lnTo>
                        <a:lnTo>
                          <a:pt x="323" y="6"/>
                        </a:lnTo>
                        <a:lnTo>
                          <a:pt x="269" y="0"/>
                        </a:lnTo>
                        <a:lnTo>
                          <a:pt x="215" y="6"/>
                        </a:lnTo>
                        <a:lnTo>
                          <a:pt x="164" y="22"/>
                        </a:lnTo>
                        <a:lnTo>
                          <a:pt x="119" y="47"/>
                        </a:lnTo>
                        <a:lnTo>
                          <a:pt x="78" y="78"/>
                        </a:lnTo>
                        <a:lnTo>
                          <a:pt x="45" y="119"/>
                        </a:lnTo>
                        <a:lnTo>
                          <a:pt x="20" y="163"/>
                        </a:lnTo>
                        <a:lnTo>
                          <a:pt x="4" y="215"/>
                        </a:lnTo>
                        <a:lnTo>
                          <a:pt x="0" y="269"/>
                        </a:lnTo>
                        <a:lnTo>
                          <a:pt x="4" y="322"/>
                        </a:lnTo>
                        <a:lnTo>
                          <a:pt x="20" y="374"/>
                        </a:lnTo>
                        <a:lnTo>
                          <a:pt x="45" y="419"/>
                        </a:lnTo>
                        <a:lnTo>
                          <a:pt x="78" y="457"/>
                        </a:lnTo>
                        <a:lnTo>
                          <a:pt x="119" y="491"/>
                        </a:lnTo>
                        <a:lnTo>
                          <a:pt x="164" y="515"/>
                        </a:lnTo>
                        <a:lnTo>
                          <a:pt x="215" y="531"/>
                        </a:lnTo>
                        <a:lnTo>
                          <a:pt x="269" y="535"/>
                        </a:lnTo>
                        <a:lnTo>
                          <a:pt x="323" y="531"/>
                        </a:lnTo>
                        <a:lnTo>
                          <a:pt x="374" y="515"/>
                        </a:lnTo>
                        <a:lnTo>
                          <a:pt x="419" y="491"/>
                        </a:lnTo>
                        <a:lnTo>
                          <a:pt x="459" y="457"/>
                        </a:lnTo>
                        <a:lnTo>
                          <a:pt x="491" y="419"/>
                        </a:lnTo>
                        <a:lnTo>
                          <a:pt x="513" y="374"/>
                        </a:lnTo>
                        <a:lnTo>
                          <a:pt x="529" y="322"/>
                        </a:lnTo>
                        <a:lnTo>
                          <a:pt x="536" y="269"/>
                        </a:lnTo>
                        <a:lnTo>
                          <a:pt x="529" y="269"/>
                        </a:lnTo>
                        <a:lnTo>
                          <a:pt x="524" y="215"/>
                        </a:lnTo>
                        <a:lnTo>
                          <a:pt x="509" y="166"/>
                        </a:lnTo>
                        <a:lnTo>
                          <a:pt x="486" y="123"/>
                        </a:lnTo>
                        <a:lnTo>
                          <a:pt x="455" y="83"/>
                        </a:lnTo>
                        <a:lnTo>
                          <a:pt x="415" y="51"/>
                        </a:lnTo>
                        <a:lnTo>
                          <a:pt x="372" y="27"/>
                        </a:lnTo>
                        <a:lnTo>
                          <a:pt x="320" y="11"/>
                        </a:lnTo>
                        <a:lnTo>
                          <a:pt x="269" y="6"/>
                        </a:lnTo>
                        <a:lnTo>
                          <a:pt x="215" y="11"/>
                        </a:lnTo>
                        <a:lnTo>
                          <a:pt x="166" y="27"/>
                        </a:lnTo>
                        <a:lnTo>
                          <a:pt x="121" y="51"/>
                        </a:lnTo>
                        <a:lnTo>
                          <a:pt x="83" y="83"/>
                        </a:lnTo>
                        <a:lnTo>
                          <a:pt x="51" y="123"/>
                        </a:lnTo>
                        <a:lnTo>
                          <a:pt x="27" y="166"/>
                        </a:lnTo>
                        <a:lnTo>
                          <a:pt x="11" y="215"/>
                        </a:lnTo>
                        <a:lnTo>
                          <a:pt x="7" y="269"/>
                        </a:lnTo>
                        <a:lnTo>
                          <a:pt x="11" y="322"/>
                        </a:lnTo>
                        <a:lnTo>
                          <a:pt x="27" y="372"/>
                        </a:lnTo>
                        <a:lnTo>
                          <a:pt x="51" y="417"/>
                        </a:lnTo>
                        <a:lnTo>
                          <a:pt x="83" y="452"/>
                        </a:lnTo>
                        <a:lnTo>
                          <a:pt x="121" y="484"/>
                        </a:lnTo>
                        <a:lnTo>
                          <a:pt x="166" y="509"/>
                        </a:lnTo>
                        <a:lnTo>
                          <a:pt x="215" y="524"/>
                        </a:lnTo>
                        <a:lnTo>
                          <a:pt x="269" y="529"/>
                        </a:lnTo>
                        <a:lnTo>
                          <a:pt x="320" y="524"/>
                        </a:lnTo>
                        <a:lnTo>
                          <a:pt x="372" y="509"/>
                        </a:lnTo>
                        <a:lnTo>
                          <a:pt x="415" y="484"/>
                        </a:lnTo>
                        <a:lnTo>
                          <a:pt x="455" y="452"/>
                        </a:lnTo>
                        <a:lnTo>
                          <a:pt x="486" y="417"/>
                        </a:lnTo>
                        <a:lnTo>
                          <a:pt x="509" y="372"/>
                        </a:lnTo>
                        <a:lnTo>
                          <a:pt x="524" y="322"/>
                        </a:lnTo>
                        <a:lnTo>
                          <a:pt x="529" y="269"/>
                        </a:lnTo>
                        <a:lnTo>
                          <a:pt x="536" y="269"/>
                        </a:lnTo>
                        <a:close/>
                      </a:path>
                    </a:pathLst>
                  </a:custGeom>
                  <a:solidFill>
                    <a:srgbClr val="f5e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765000" y="1715760"/>
                    <a:ext cx="836640" cy="83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527">
                        <a:moveTo>
                          <a:pt x="527" y="265"/>
                        </a:moveTo>
                        <a:lnTo>
                          <a:pt x="523" y="211"/>
                        </a:lnTo>
                        <a:lnTo>
                          <a:pt x="507" y="162"/>
                        </a:lnTo>
                        <a:lnTo>
                          <a:pt x="485" y="117"/>
                        </a:lnTo>
                        <a:lnTo>
                          <a:pt x="451" y="79"/>
                        </a:lnTo>
                        <a:lnTo>
                          <a:pt x="413" y="45"/>
                        </a:lnTo>
                        <a:lnTo>
                          <a:pt x="368" y="20"/>
                        </a:lnTo>
                        <a:lnTo>
                          <a:pt x="319" y="5"/>
                        </a:lnTo>
                        <a:lnTo>
                          <a:pt x="265" y="0"/>
                        </a:lnTo>
                        <a:lnTo>
                          <a:pt x="211" y="5"/>
                        </a:lnTo>
                        <a:lnTo>
                          <a:pt x="162" y="20"/>
                        </a:lnTo>
                        <a:lnTo>
                          <a:pt x="117" y="45"/>
                        </a:lnTo>
                        <a:lnTo>
                          <a:pt x="77" y="79"/>
                        </a:lnTo>
                        <a:lnTo>
                          <a:pt x="45" y="117"/>
                        </a:lnTo>
                        <a:lnTo>
                          <a:pt x="21" y="162"/>
                        </a:lnTo>
                        <a:lnTo>
                          <a:pt x="5" y="211"/>
                        </a:lnTo>
                        <a:lnTo>
                          <a:pt x="0" y="265"/>
                        </a:lnTo>
                        <a:lnTo>
                          <a:pt x="5" y="318"/>
                        </a:lnTo>
                        <a:lnTo>
                          <a:pt x="21" y="368"/>
                        </a:lnTo>
                        <a:lnTo>
                          <a:pt x="45" y="413"/>
                        </a:lnTo>
                        <a:lnTo>
                          <a:pt x="77" y="451"/>
                        </a:lnTo>
                        <a:lnTo>
                          <a:pt x="117" y="482"/>
                        </a:lnTo>
                        <a:lnTo>
                          <a:pt x="162" y="507"/>
                        </a:lnTo>
                        <a:lnTo>
                          <a:pt x="211" y="522"/>
                        </a:lnTo>
                        <a:lnTo>
                          <a:pt x="265" y="527"/>
                        </a:lnTo>
                        <a:lnTo>
                          <a:pt x="319" y="522"/>
                        </a:lnTo>
                        <a:lnTo>
                          <a:pt x="368" y="507"/>
                        </a:lnTo>
                        <a:lnTo>
                          <a:pt x="413" y="482"/>
                        </a:lnTo>
                        <a:lnTo>
                          <a:pt x="451" y="451"/>
                        </a:lnTo>
                        <a:lnTo>
                          <a:pt x="485" y="413"/>
                        </a:lnTo>
                        <a:lnTo>
                          <a:pt x="507" y="368"/>
                        </a:lnTo>
                        <a:lnTo>
                          <a:pt x="523" y="318"/>
                        </a:lnTo>
                        <a:lnTo>
                          <a:pt x="527" y="265"/>
                        </a:lnTo>
                        <a:lnTo>
                          <a:pt x="520" y="265"/>
                        </a:lnTo>
                        <a:lnTo>
                          <a:pt x="516" y="213"/>
                        </a:lnTo>
                        <a:lnTo>
                          <a:pt x="500" y="164"/>
                        </a:lnTo>
                        <a:lnTo>
                          <a:pt x="478" y="121"/>
                        </a:lnTo>
                        <a:lnTo>
                          <a:pt x="446" y="83"/>
                        </a:lnTo>
                        <a:lnTo>
                          <a:pt x="408" y="50"/>
                        </a:lnTo>
                        <a:lnTo>
                          <a:pt x="366" y="27"/>
                        </a:lnTo>
                        <a:lnTo>
                          <a:pt x="316" y="11"/>
                        </a:lnTo>
                        <a:lnTo>
                          <a:pt x="265" y="7"/>
                        </a:lnTo>
                        <a:lnTo>
                          <a:pt x="213" y="11"/>
                        </a:lnTo>
                        <a:lnTo>
                          <a:pt x="164" y="27"/>
                        </a:lnTo>
                        <a:lnTo>
                          <a:pt x="119" y="50"/>
                        </a:lnTo>
                        <a:lnTo>
                          <a:pt x="81" y="83"/>
                        </a:lnTo>
                        <a:lnTo>
                          <a:pt x="50" y="121"/>
                        </a:lnTo>
                        <a:lnTo>
                          <a:pt x="27" y="164"/>
                        </a:lnTo>
                        <a:lnTo>
                          <a:pt x="12" y="213"/>
                        </a:lnTo>
                        <a:lnTo>
                          <a:pt x="7" y="265"/>
                        </a:lnTo>
                        <a:lnTo>
                          <a:pt x="12" y="316"/>
                        </a:lnTo>
                        <a:lnTo>
                          <a:pt x="27" y="366"/>
                        </a:lnTo>
                        <a:lnTo>
                          <a:pt x="50" y="410"/>
                        </a:lnTo>
                        <a:lnTo>
                          <a:pt x="81" y="446"/>
                        </a:lnTo>
                        <a:lnTo>
                          <a:pt x="119" y="478"/>
                        </a:lnTo>
                        <a:lnTo>
                          <a:pt x="164" y="500"/>
                        </a:lnTo>
                        <a:lnTo>
                          <a:pt x="213" y="516"/>
                        </a:lnTo>
                        <a:lnTo>
                          <a:pt x="265" y="520"/>
                        </a:lnTo>
                        <a:lnTo>
                          <a:pt x="316" y="516"/>
                        </a:lnTo>
                        <a:lnTo>
                          <a:pt x="366" y="500"/>
                        </a:lnTo>
                        <a:lnTo>
                          <a:pt x="408" y="478"/>
                        </a:lnTo>
                        <a:lnTo>
                          <a:pt x="446" y="446"/>
                        </a:lnTo>
                        <a:lnTo>
                          <a:pt x="478" y="410"/>
                        </a:lnTo>
                        <a:lnTo>
                          <a:pt x="500" y="366"/>
                        </a:lnTo>
                        <a:lnTo>
                          <a:pt x="516" y="316"/>
                        </a:lnTo>
                        <a:lnTo>
                          <a:pt x="520" y="265"/>
                        </a:lnTo>
                        <a:lnTo>
                          <a:pt x="527" y="265"/>
                        </a:lnTo>
                        <a:close/>
                      </a:path>
                    </a:pathLst>
                  </a:custGeom>
                  <a:solidFill>
                    <a:srgbClr val="f5e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772920" y="1723680"/>
                    <a:ext cx="8222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517">
                        <a:moveTo>
                          <a:pt x="518" y="260"/>
                        </a:moveTo>
                        <a:lnTo>
                          <a:pt x="513" y="208"/>
                        </a:lnTo>
                        <a:lnTo>
                          <a:pt x="497" y="159"/>
                        </a:lnTo>
                        <a:lnTo>
                          <a:pt x="475" y="114"/>
                        </a:lnTo>
                        <a:lnTo>
                          <a:pt x="444" y="76"/>
                        </a:lnTo>
                        <a:lnTo>
                          <a:pt x="406" y="45"/>
                        </a:lnTo>
                        <a:lnTo>
                          <a:pt x="361" y="20"/>
                        </a:lnTo>
                        <a:lnTo>
                          <a:pt x="311" y="4"/>
                        </a:lnTo>
                        <a:lnTo>
                          <a:pt x="260" y="0"/>
                        </a:lnTo>
                        <a:lnTo>
                          <a:pt x="206" y="4"/>
                        </a:lnTo>
                        <a:lnTo>
                          <a:pt x="159" y="20"/>
                        </a:lnTo>
                        <a:lnTo>
                          <a:pt x="114" y="45"/>
                        </a:lnTo>
                        <a:lnTo>
                          <a:pt x="76" y="76"/>
                        </a:lnTo>
                        <a:lnTo>
                          <a:pt x="42" y="114"/>
                        </a:lnTo>
                        <a:lnTo>
                          <a:pt x="20" y="159"/>
                        </a:lnTo>
                        <a:lnTo>
                          <a:pt x="4" y="208"/>
                        </a:lnTo>
                        <a:lnTo>
                          <a:pt x="0" y="260"/>
                        </a:lnTo>
                        <a:lnTo>
                          <a:pt x="4" y="313"/>
                        </a:lnTo>
                        <a:lnTo>
                          <a:pt x="20" y="361"/>
                        </a:lnTo>
                        <a:lnTo>
                          <a:pt x="42" y="405"/>
                        </a:lnTo>
                        <a:lnTo>
                          <a:pt x="76" y="441"/>
                        </a:lnTo>
                        <a:lnTo>
                          <a:pt x="114" y="475"/>
                        </a:lnTo>
                        <a:lnTo>
                          <a:pt x="159" y="497"/>
                        </a:lnTo>
                        <a:lnTo>
                          <a:pt x="206" y="513"/>
                        </a:lnTo>
                        <a:lnTo>
                          <a:pt x="260" y="517"/>
                        </a:lnTo>
                        <a:lnTo>
                          <a:pt x="311" y="513"/>
                        </a:lnTo>
                        <a:lnTo>
                          <a:pt x="361" y="497"/>
                        </a:lnTo>
                        <a:lnTo>
                          <a:pt x="406" y="475"/>
                        </a:lnTo>
                        <a:lnTo>
                          <a:pt x="444" y="441"/>
                        </a:lnTo>
                        <a:lnTo>
                          <a:pt x="475" y="405"/>
                        </a:lnTo>
                        <a:lnTo>
                          <a:pt x="497" y="361"/>
                        </a:lnTo>
                        <a:lnTo>
                          <a:pt x="513" y="313"/>
                        </a:lnTo>
                        <a:lnTo>
                          <a:pt x="518" y="260"/>
                        </a:lnTo>
                        <a:lnTo>
                          <a:pt x="511" y="260"/>
                        </a:lnTo>
                        <a:lnTo>
                          <a:pt x="506" y="208"/>
                        </a:lnTo>
                        <a:lnTo>
                          <a:pt x="491" y="161"/>
                        </a:lnTo>
                        <a:lnTo>
                          <a:pt x="471" y="119"/>
                        </a:lnTo>
                        <a:lnTo>
                          <a:pt x="439" y="80"/>
                        </a:lnTo>
                        <a:lnTo>
                          <a:pt x="401" y="49"/>
                        </a:lnTo>
                        <a:lnTo>
                          <a:pt x="358" y="27"/>
                        </a:lnTo>
                        <a:lnTo>
                          <a:pt x="311" y="11"/>
                        </a:lnTo>
                        <a:lnTo>
                          <a:pt x="260" y="6"/>
                        </a:lnTo>
                        <a:lnTo>
                          <a:pt x="208" y="11"/>
                        </a:lnTo>
                        <a:lnTo>
                          <a:pt x="161" y="27"/>
                        </a:lnTo>
                        <a:lnTo>
                          <a:pt x="119" y="49"/>
                        </a:lnTo>
                        <a:lnTo>
                          <a:pt x="81" y="80"/>
                        </a:lnTo>
                        <a:lnTo>
                          <a:pt x="49" y="119"/>
                        </a:lnTo>
                        <a:lnTo>
                          <a:pt x="25" y="161"/>
                        </a:lnTo>
                        <a:lnTo>
                          <a:pt x="11" y="208"/>
                        </a:lnTo>
                        <a:lnTo>
                          <a:pt x="4" y="260"/>
                        </a:lnTo>
                        <a:lnTo>
                          <a:pt x="11" y="311"/>
                        </a:lnTo>
                        <a:lnTo>
                          <a:pt x="25" y="358"/>
                        </a:lnTo>
                        <a:lnTo>
                          <a:pt x="49" y="401"/>
                        </a:lnTo>
                        <a:lnTo>
                          <a:pt x="81" y="439"/>
                        </a:lnTo>
                        <a:lnTo>
                          <a:pt x="119" y="468"/>
                        </a:lnTo>
                        <a:lnTo>
                          <a:pt x="161" y="493"/>
                        </a:lnTo>
                        <a:lnTo>
                          <a:pt x="208" y="506"/>
                        </a:lnTo>
                        <a:lnTo>
                          <a:pt x="260" y="513"/>
                        </a:lnTo>
                        <a:lnTo>
                          <a:pt x="311" y="506"/>
                        </a:lnTo>
                        <a:lnTo>
                          <a:pt x="358" y="493"/>
                        </a:lnTo>
                        <a:lnTo>
                          <a:pt x="401" y="468"/>
                        </a:lnTo>
                        <a:lnTo>
                          <a:pt x="439" y="439"/>
                        </a:lnTo>
                        <a:lnTo>
                          <a:pt x="471" y="401"/>
                        </a:lnTo>
                        <a:lnTo>
                          <a:pt x="491" y="358"/>
                        </a:lnTo>
                        <a:lnTo>
                          <a:pt x="506" y="311"/>
                        </a:lnTo>
                        <a:lnTo>
                          <a:pt x="511" y="260"/>
                        </a:lnTo>
                        <a:lnTo>
                          <a:pt x="518" y="260"/>
                        </a:lnTo>
                        <a:close/>
                      </a:path>
                    </a:pathLst>
                  </a:custGeom>
                  <a:solidFill>
                    <a:srgbClr val="f5e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79400" y="1730160"/>
                    <a:ext cx="807840" cy="808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509">
                        <a:moveTo>
                          <a:pt x="509" y="256"/>
                        </a:moveTo>
                        <a:lnTo>
                          <a:pt x="505" y="204"/>
                        </a:lnTo>
                        <a:lnTo>
                          <a:pt x="489" y="157"/>
                        </a:lnTo>
                        <a:lnTo>
                          <a:pt x="469" y="112"/>
                        </a:lnTo>
                        <a:lnTo>
                          <a:pt x="437" y="74"/>
                        </a:lnTo>
                        <a:lnTo>
                          <a:pt x="399" y="43"/>
                        </a:lnTo>
                        <a:lnTo>
                          <a:pt x="354" y="20"/>
                        </a:lnTo>
                        <a:lnTo>
                          <a:pt x="307" y="5"/>
                        </a:lnTo>
                        <a:lnTo>
                          <a:pt x="256" y="0"/>
                        </a:lnTo>
                        <a:lnTo>
                          <a:pt x="204" y="5"/>
                        </a:lnTo>
                        <a:lnTo>
                          <a:pt x="155" y="20"/>
                        </a:lnTo>
                        <a:lnTo>
                          <a:pt x="112" y="43"/>
                        </a:lnTo>
                        <a:lnTo>
                          <a:pt x="74" y="74"/>
                        </a:lnTo>
                        <a:lnTo>
                          <a:pt x="43" y="112"/>
                        </a:lnTo>
                        <a:lnTo>
                          <a:pt x="21" y="157"/>
                        </a:lnTo>
                        <a:lnTo>
                          <a:pt x="5" y="204"/>
                        </a:lnTo>
                        <a:lnTo>
                          <a:pt x="0" y="256"/>
                        </a:lnTo>
                        <a:lnTo>
                          <a:pt x="5" y="307"/>
                        </a:lnTo>
                        <a:lnTo>
                          <a:pt x="21" y="357"/>
                        </a:lnTo>
                        <a:lnTo>
                          <a:pt x="43" y="399"/>
                        </a:lnTo>
                        <a:lnTo>
                          <a:pt x="74" y="435"/>
                        </a:lnTo>
                        <a:lnTo>
                          <a:pt x="112" y="466"/>
                        </a:lnTo>
                        <a:lnTo>
                          <a:pt x="155" y="489"/>
                        </a:lnTo>
                        <a:lnTo>
                          <a:pt x="204" y="504"/>
                        </a:lnTo>
                        <a:lnTo>
                          <a:pt x="256" y="509"/>
                        </a:lnTo>
                        <a:lnTo>
                          <a:pt x="307" y="504"/>
                        </a:lnTo>
                        <a:lnTo>
                          <a:pt x="354" y="489"/>
                        </a:lnTo>
                        <a:lnTo>
                          <a:pt x="399" y="466"/>
                        </a:lnTo>
                        <a:lnTo>
                          <a:pt x="437" y="435"/>
                        </a:lnTo>
                        <a:lnTo>
                          <a:pt x="469" y="399"/>
                        </a:lnTo>
                        <a:lnTo>
                          <a:pt x="489" y="357"/>
                        </a:lnTo>
                        <a:lnTo>
                          <a:pt x="505" y="307"/>
                        </a:lnTo>
                        <a:lnTo>
                          <a:pt x="509" y="256"/>
                        </a:lnTo>
                        <a:lnTo>
                          <a:pt x="502" y="256"/>
                        </a:lnTo>
                        <a:lnTo>
                          <a:pt x="498" y="206"/>
                        </a:lnTo>
                        <a:lnTo>
                          <a:pt x="484" y="159"/>
                        </a:lnTo>
                        <a:lnTo>
                          <a:pt x="462" y="117"/>
                        </a:lnTo>
                        <a:lnTo>
                          <a:pt x="433" y="79"/>
                        </a:lnTo>
                        <a:lnTo>
                          <a:pt x="395" y="50"/>
                        </a:lnTo>
                        <a:lnTo>
                          <a:pt x="352" y="25"/>
                        </a:lnTo>
                        <a:lnTo>
                          <a:pt x="305" y="11"/>
                        </a:lnTo>
                        <a:lnTo>
                          <a:pt x="256" y="7"/>
                        </a:lnTo>
                        <a:lnTo>
                          <a:pt x="204" y="11"/>
                        </a:lnTo>
                        <a:lnTo>
                          <a:pt x="157" y="25"/>
                        </a:lnTo>
                        <a:lnTo>
                          <a:pt x="117" y="50"/>
                        </a:lnTo>
                        <a:lnTo>
                          <a:pt x="79" y="79"/>
                        </a:lnTo>
                        <a:lnTo>
                          <a:pt x="47" y="117"/>
                        </a:lnTo>
                        <a:lnTo>
                          <a:pt x="25" y="159"/>
                        </a:lnTo>
                        <a:lnTo>
                          <a:pt x="12" y="206"/>
                        </a:lnTo>
                        <a:lnTo>
                          <a:pt x="5" y="256"/>
                        </a:lnTo>
                        <a:lnTo>
                          <a:pt x="12" y="307"/>
                        </a:lnTo>
                        <a:lnTo>
                          <a:pt x="25" y="354"/>
                        </a:lnTo>
                        <a:lnTo>
                          <a:pt x="47" y="395"/>
                        </a:lnTo>
                        <a:lnTo>
                          <a:pt x="79" y="433"/>
                        </a:lnTo>
                        <a:lnTo>
                          <a:pt x="117" y="462"/>
                        </a:lnTo>
                        <a:lnTo>
                          <a:pt x="157" y="484"/>
                        </a:lnTo>
                        <a:lnTo>
                          <a:pt x="204" y="498"/>
                        </a:lnTo>
                        <a:lnTo>
                          <a:pt x="256" y="504"/>
                        </a:lnTo>
                        <a:lnTo>
                          <a:pt x="305" y="498"/>
                        </a:lnTo>
                        <a:lnTo>
                          <a:pt x="352" y="484"/>
                        </a:lnTo>
                        <a:lnTo>
                          <a:pt x="395" y="462"/>
                        </a:lnTo>
                        <a:lnTo>
                          <a:pt x="433" y="433"/>
                        </a:lnTo>
                        <a:lnTo>
                          <a:pt x="462" y="395"/>
                        </a:lnTo>
                        <a:lnTo>
                          <a:pt x="484" y="354"/>
                        </a:lnTo>
                        <a:lnTo>
                          <a:pt x="498" y="307"/>
                        </a:lnTo>
                        <a:lnTo>
                          <a:pt x="502" y="256"/>
                        </a:lnTo>
                        <a:lnTo>
                          <a:pt x="509" y="256"/>
                        </a:lnTo>
                        <a:close/>
                      </a:path>
                    </a:pathLst>
                  </a:custGeom>
                  <a:solidFill>
                    <a:srgbClr val="f5e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784080" y="1738080"/>
                    <a:ext cx="797040" cy="797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502">
                        <a:moveTo>
                          <a:pt x="502" y="251"/>
                        </a:moveTo>
                        <a:lnTo>
                          <a:pt x="497" y="199"/>
                        </a:lnTo>
                        <a:lnTo>
                          <a:pt x="481" y="152"/>
                        </a:lnTo>
                        <a:lnTo>
                          <a:pt x="461" y="110"/>
                        </a:lnTo>
                        <a:lnTo>
                          <a:pt x="430" y="74"/>
                        </a:lnTo>
                        <a:lnTo>
                          <a:pt x="394" y="42"/>
                        </a:lnTo>
                        <a:lnTo>
                          <a:pt x="351" y="20"/>
                        </a:lnTo>
                        <a:lnTo>
                          <a:pt x="304" y="4"/>
                        </a:lnTo>
                        <a:lnTo>
                          <a:pt x="253" y="0"/>
                        </a:lnTo>
                        <a:lnTo>
                          <a:pt x="201" y="4"/>
                        </a:lnTo>
                        <a:lnTo>
                          <a:pt x="154" y="20"/>
                        </a:lnTo>
                        <a:lnTo>
                          <a:pt x="112" y="42"/>
                        </a:lnTo>
                        <a:lnTo>
                          <a:pt x="74" y="74"/>
                        </a:lnTo>
                        <a:lnTo>
                          <a:pt x="44" y="110"/>
                        </a:lnTo>
                        <a:lnTo>
                          <a:pt x="20" y="152"/>
                        </a:lnTo>
                        <a:lnTo>
                          <a:pt x="6" y="199"/>
                        </a:lnTo>
                        <a:lnTo>
                          <a:pt x="0" y="251"/>
                        </a:lnTo>
                        <a:lnTo>
                          <a:pt x="6" y="302"/>
                        </a:lnTo>
                        <a:lnTo>
                          <a:pt x="20" y="349"/>
                        </a:lnTo>
                        <a:lnTo>
                          <a:pt x="44" y="392"/>
                        </a:lnTo>
                        <a:lnTo>
                          <a:pt x="74" y="430"/>
                        </a:lnTo>
                        <a:lnTo>
                          <a:pt x="112" y="457"/>
                        </a:lnTo>
                        <a:lnTo>
                          <a:pt x="154" y="482"/>
                        </a:lnTo>
                        <a:lnTo>
                          <a:pt x="201" y="495"/>
                        </a:lnTo>
                        <a:lnTo>
                          <a:pt x="253" y="502"/>
                        </a:lnTo>
                        <a:lnTo>
                          <a:pt x="304" y="495"/>
                        </a:lnTo>
                        <a:lnTo>
                          <a:pt x="351" y="482"/>
                        </a:lnTo>
                        <a:lnTo>
                          <a:pt x="394" y="457"/>
                        </a:lnTo>
                        <a:lnTo>
                          <a:pt x="430" y="430"/>
                        </a:lnTo>
                        <a:lnTo>
                          <a:pt x="461" y="392"/>
                        </a:lnTo>
                        <a:lnTo>
                          <a:pt x="481" y="349"/>
                        </a:lnTo>
                        <a:lnTo>
                          <a:pt x="497" y="302"/>
                        </a:lnTo>
                        <a:lnTo>
                          <a:pt x="502" y="251"/>
                        </a:lnTo>
                        <a:lnTo>
                          <a:pt x="497" y="251"/>
                        </a:lnTo>
                        <a:lnTo>
                          <a:pt x="490" y="201"/>
                        </a:lnTo>
                        <a:lnTo>
                          <a:pt x="477" y="154"/>
                        </a:lnTo>
                        <a:lnTo>
                          <a:pt x="457" y="114"/>
                        </a:lnTo>
                        <a:lnTo>
                          <a:pt x="425" y="78"/>
                        </a:lnTo>
                        <a:lnTo>
                          <a:pt x="390" y="47"/>
                        </a:lnTo>
                        <a:lnTo>
                          <a:pt x="349" y="24"/>
                        </a:lnTo>
                        <a:lnTo>
                          <a:pt x="302" y="11"/>
                        </a:lnTo>
                        <a:lnTo>
                          <a:pt x="253" y="4"/>
                        </a:lnTo>
                        <a:lnTo>
                          <a:pt x="204" y="11"/>
                        </a:lnTo>
                        <a:lnTo>
                          <a:pt x="157" y="24"/>
                        </a:lnTo>
                        <a:lnTo>
                          <a:pt x="116" y="47"/>
                        </a:lnTo>
                        <a:lnTo>
                          <a:pt x="78" y="78"/>
                        </a:lnTo>
                        <a:lnTo>
                          <a:pt x="49" y="114"/>
                        </a:lnTo>
                        <a:lnTo>
                          <a:pt x="27" y="154"/>
                        </a:lnTo>
                        <a:lnTo>
                          <a:pt x="11" y="201"/>
                        </a:lnTo>
                        <a:lnTo>
                          <a:pt x="6" y="251"/>
                        </a:lnTo>
                        <a:lnTo>
                          <a:pt x="11" y="300"/>
                        </a:lnTo>
                        <a:lnTo>
                          <a:pt x="27" y="347"/>
                        </a:lnTo>
                        <a:lnTo>
                          <a:pt x="49" y="387"/>
                        </a:lnTo>
                        <a:lnTo>
                          <a:pt x="78" y="426"/>
                        </a:lnTo>
                        <a:lnTo>
                          <a:pt x="116" y="452"/>
                        </a:lnTo>
                        <a:lnTo>
                          <a:pt x="157" y="475"/>
                        </a:lnTo>
                        <a:lnTo>
                          <a:pt x="204" y="491"/>
                        </a:lnTo>
                        <a:lnTo>
                          <a:pt x="253" y="495"/>
                        </a:lnTo>
                        <a:lnTo>
                          <a:pt x="302" y="491"/>
                        </a:lnTo>
                        <a:lnTo>
                          <a:pt x="349" y="475"/>
                        </a:lnTo>
                        <a:lnTo>
                          <a:pt x="390" y="452"/>
                        </a:lnTo>
                        <a:lnTo>
                          <a:pt x="425" y="426"/>
                        </a:lnTo>
                        <a:lnTo>
                          <a:pt x="457" y="387"/>
                        </a:lnTo>
                        <a:lnTo>
                          <a:pt x="477" y="347"/>
                        </a:lnTo>
                        <a:lnTo>
                          <a:pt x="490" y="300"/>
                        </a:lnTo>
                        <a:lnTo>
                          <a:pt x="497" y="251"/>
                        </a:lnTo>
                        <a:lnTo>
                          <a:pt x="502" y="251"/>
                        </a:lnTo>
                        <a:close/>
                      </a:path>
                    </a:pathLst>
                  </a:custGeom>
                  <a:solidFill>
                    <a:srgbClr val="f5eb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790560" y="1744560"/>
                    <a:ext cx="782640" cy="78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" h="493">
                        <a:moveTo>
                          <a:pt x="493" y="247"/>
                        </a:moveTo>
                        <a:lnTo>
                          <a:pt x="489" y="197"/>
                        </a:lnTo>
                        <a:lnTo>
                          <a:pt x="475" y="150"/>
                        </a:lnTo>
                        <a:lnTo>
                          <a:pt x="455" y="108"/>
                        </a:lnTo>
                        <a:lnTo>
                          <a:pt x="424" y="72"/>
                        </a:lnTo>
                        <a:lnTo>
                          <a:pt x="388" y="41"/>
                        </a:lnTo>
                        <a:lnTo>
                          <a:pt x="345" y="18"/>
                        </a:lnTo>
                        <a:lnTo>
                          <a:pt x="298" y="5"/>
                        </a:lnTo>
                        <a:lnTo>
                          <a:pt x="249" y="0"/>
                        </a:lnTo>
                        <a:lnTo>
                          <a:pt x="200" y="5"/>
                        </a:lnTo>
                        <a:lnTo>
                          <a:pt x="153" y="18"/>
                        </a:lnTo>
                        <a:lnTo>
                          <a:pt x="110" y="41"/>
                        </a:lnTo>
                        <a:lnTo>
                          <a:pt x="74" y="72"/>
                        </a:lnTo>
                        <a:lnTo>
                          <a:pt x="43" y="108"/>
                        </a:lnTo>
                        <a:lnTo>
                          <a:pt x="20" y="150"/>
                        </a:lnTo>
                        <a:lnTo>
                          <a:pt x="7" y="197"/>
                        </a:lnTo>
                        <a:lnTo>
                          <a:pt x="0" y="247"/>
                        </a:lnTo>
                        <a:lnTo>
                          <a:pt x="7" y="296"/>
                        </a:lnTo>
                        <a:lnTo>
                          <a:pt x="20" y="343"/>
                        </a:lnTo>
                        <a:lnTo>
                          <a:pt x="43" y="386"/>
                        </a:lnTo>
                        <a:lnTo>
                          <a:pt x="74" y="422"/>
                        </a:lnTo>
                        <a:lnTo>
                          <a:pt x="110" y="451"/>
                        </a:lnTo>
                        <a:lnTo>
                          <a:pt x="153" y="473"/>
                        </a:lnTo>
                        <a:lnTo>
                          <a:pt x="200" y="487"/>
                        </a:lnTo>
                        <a:lnTo>
                          <a:pt x="249" y="493"/>
                        </a:lnTo>
                        <a:lnTo>
                          <a:pt x="298" y="487"/>
                        </a:lnTo>
                        <a:lnTo>
                          <a:pt x="345" y="473"/>
                        </a:lnTo>
                        <a:lnTo>
                          <a:pt x="388" y="451"/>
                        </a:lnTo>
                        <a:lnTo>
                          <a:pt x="424" y="422"/>
                        </a:lnTo>
                        <a:lnTo>
                          <a:pt x="455" y="386"/>
                        </a:lnTo>
                        <a:lnTo>
                          <a:pt x="475" y="343"/>
                        </a:lnTo>
                        <a:lnTo>
                          <a:pt x="489" y="296"/>
                        </a:lnTo>
                        <a:lnTo>
                          <a:pt x="493" y="247"/>
                        </a:lnTo>
                        <a:lnTo>
                          <a:pt x="489" y="247"/>
                        </a:lnTo>
                        <a:lnTo>
                          <a:pt x="484" y="197"/>
                        </a:lnTo>
                        <a:lnTo>
                          <a:pt x="471" y="153"/>
                        </a:lnTo>
                        <a:lnTo>
                          <a:pt x="448" y="112"/>
                        </a:lnTo>
                        <a:lnTo>
                          <a:pt x="419" y="76"/>
                        </a:lnTo>
                        <a:lnTo>
                          <a:pt x="383" y="47"/>
                        </a:lnTo>
                        <a:lnTo>
                          <a:pt x="343" y="25"/>
                        </a:lnTo>
                        <a:lnTo>
                          <a:pt x="298" y="9"/>
                        </a:lnTo>
                        <a:lnTo>
                          <a:pt x="249" y="5"/>
                        </a:lnTo>
                        <a:lnTo>
                          <a:pt x="200" y="9"/>
                        </a:lnTo>
                        <a:lnTo>
                          <a:pt x="155" y="25"/>
                        </a:lnTo>
                        <a:lnTo>
                          <a:pt x="114" y="47"/>
                        </a:lnTo>
                        <a:lnTo>
                          <a:pt x="79" y="76"/>
                        </a:lnTo>
                        <a:lnTo>
                          <a:pt x="49" y="112"/>
                        </a:lnTo>
                        <a:lnTo>
                          <a:pt x="27" y="153"/>
                        </a:lnTo>
                        <a:lnTo>
                          <a:pt x="11" y="197"/>
                        </a:lnTo>
                        <a:lnTo>
                          <a:pt x="7" y="247"/>
                        </a:lnTo>
                        <a:lnTo>
                          <a:pt x="11" y="296"/>
                        </a:lnTo>
                        <a:lnTo>
                          <a:pt x="27" y="341"/>
                        </a:lnTo>
                        <a:lnTo>
                          <a:pt x="49" y="381"/>
                        </a:lnTo>
                        <a:lnTo>
                          <a:pt x="79" y="417"/>
                        </a:lnTo>
                        <a:lnTo>
                          <a:pt x="114" y="444"/>
                        </a:lnTo>
                        <a:lnTo>
                          <a:pt x="155" y="466"/>
                        </a:lnTo>
                        <a:lnTo>
                          <a:pt x="200" y="482"/>
                        </a:lnTo>
                        <a:lnTo>
                          <a:pt x="249" y="487"/>
                        </a:lnTo>
                        <a:lnTo>
                          <a:pt x="298" y="482"/>
                        </a:lnTo>
                        <a:lnTo>
                          <a:pt x="343" y="466"/>
                        </a:lnTo>
                        <a:lnTo>
                          <a:pt x="383" y="444"/>
                        </a:lnTo>
                        <a:lnTo>
                          <a:pt x="419" y="417"/>
                        </a:lnTo>
                        <a:lnTo>
                          <a:pt x="448" y="381"/>
                        </a:lnTo>
                        <a:lnTo>
                          <a:pt x="471" y="341"/>
                        </a:lnTo>
                        <a:lnTo>
                          <a:pt x="484" y="296"/>
                        </a:lnTo>
                        <a:lnTo>
                          <a:pt x="489" y="247"/>
                        </a:lnTo>
                        <a:lnTo>
                          <a:pt x="493" y="247"/>
                        </a:lnTo>
                        <a:close/>
                      </a:path>
                    </a:pathLst>
                  </a:custGeom>
                  <a:solidFill>
                    <a:srgbClr val="f5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798480" y="1747800"/>
                    <a:ext cx="771480" cy="77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87">
                        <a:moveTo>
                          <a:pt x="486" y="245"/>
                        </a:moveTo>
                        <a:lnTo>
                          <a:pt x="479" y="195"/>
                        </a:lnTo>
                        <a:lnTo>
                          <a:pt x="468" y="151"/>
                        </a:lnTo>
                        <a:lnTo>
                          <a:pt x="446" y="108"/>
                        </a:lnTo>
                        <a:lnTo>
                          <a:pt x="416" y="72"/>
                        </a:lnTo>
                        <a:lnTo>
                          <a:pt x="381" y="43"/>
                        </a:lnTo>
                        <a:lnTo>
                          <a:pt x="338" y="21"/>
                        </a:lnTo>
                        <a:lnTo>
                          <a:pt x="293" y="7"/>
                        </a:lnTo>
                        <a:lnTo>
                          <a:pt x="244" y="0"/>
                        </a:lnTo>
                        <a:lnTo>
                          <a:pt x="195" y="7"/>
                        </a:lnTo>
                        <a:lnTo>
                          <a:pt x="150" y="21"/>
                        </a:lnTo>
                        <a:lnTo>
                          <a:pt x="107" y="43"/>
                        </a:lnTo>
                        <a:lnTo>
                          <a:pt x="71" y="72"/>
                        </a:lnTo>
                        <a:lnTo>
                          <a:pt x="42" y="108"/>
                        </a:lnTo>
                        <a:lnTo>
                          <a:pt x="20" y="151"/>
                        </a:lnTo>
                        <a:lnTo>
                          <a:pt x="4" y="195"/>
                        </a:lnTo>
                        <a:lnTo>
                          <a:pt x="0" y="245"/>
                        </a:lnTo>
                        <a:lnTo>
                          <a:pt x="4" y="294"/>
                        </a:lnTo>
                        <a:lnTo>
                          <a:pt x="20" y="339"/>
                        </a:lnTo>
                        <a:lnTo>
                          <a:pt x="42" y="381"/>
                        </a:lnTo>
                        <a:lnTo>
                          <a:pt x="71" y="417"/>
                        </a:lnTo>
                        <a:lnTo>
                          <a:pt x="107" y="444"/>
                        </a:lnTo>
                        <a:lnTo>
                          <a:pt x="150" y="467"/>
                        </a:lnTo>
                        <a:lnTo>
                          <a:pt x="195" y="482"/>
                        </a:lnTo>
                        <a:lnTo>
                          <a:pt x="244" y="487"/>
                        </a:lnTo>
                        <a:lnTo>
                          <a:pt x="293" y="482"/>
                        </a:lnTo>
                        <a:lnTo>
                          <a:pt x="338" y="467"/>
                        </a:lnTo>
                        <a:lnTo>
                          <a:pt x="381" y="444"/>
                        </a:lnTo>
                        <a:lnTo>
                          <a:pt x="416" y="417"/>
                        </a:lnTo>
                        <a:lnTo>
                          <a:pt x="446" y="381"/>
                        </a:lnTo>
                        <a:lnTo>
                          <a:pt x="468" y="339"/>
                        </a:lnTo>
                        <a:lnTo>
                          <a:pt x="479" y="294"/>
                        </a:lnTo>
                        <a:lnTo>
                          <a:pt x="486" y="245"/>
                        </a:lnTo>
                        <a:lnTo>
                          <a:pt x="479" y="245"/>
                        </a:lnTo>
                        <a:lnTo>
                          <a:pt x="475" y="198"/>
                        </a:lnTo>
                        <a:lnTo>
                          <a:pt x="461" y="153"/>
                        </a:lnTo>
                        <a:lnTo>
                          <a:pt x="441" y="112"/>
                        </a:lnTo>
                        <a:lnTo>
                          <a:pt x="412" y="77"/>
                        </a:lnTo>
                        <a:lnTo>
                          <a:pt x="376" y="47"/>
                        </a:lnTo>
                        <a:lnTo>
                          <a:pt x="336" y="27"/>
                        </a:lnTo>
                        <a:lnTo>
                          <a:pt x="291" y="12"/>
                        </a:lnTo>
                        <a:lnTo>
                          <a:pt x="244" y="7"/>
                        </a:lnTo>
                        <a:lnTo>
                          <a:pt x="197" y="12"/>
                        </a:lnTo>
                        <a:lnTo>
                          <a:pt x="152" y="27"/>
                        </a:lnTo>
                        <a:lnTo>
                          <a:pt x="112" y="47"/>
                        </a:lnTo>
                        <a:lnTo>
                          <a:pt x="76" y="77"/>
                        </a:lnTo>
                        <a:lnTo>
                          <a:pt x="47" y="112"/>
                        </a:lnTo>
                        <a:lnTo>
                          <a:pt x="24" y="153"/>
                        </a:lnTo>
                        <a:lnTo>
                          <a:pt x="11" y="198"/>
                        </a:lnTo>
                        <a:lnTo>
                          <a:pt x="6" y="245"/>
                        </a:lnTo>
                        <a:lnTo>
                          <a:pt x="11" y="292"/>
                        </a:lnTo>
                        <a:lnTo>
                          <a:pt x="24" y="337"/>
                        </a:lnTo>
                        <a:lnTo>
                          <a:pt x="47" y="377"/>
                        </a:lnTo>
                        <a:lnTo>
                          <a:pt x="76" y="413"/>
                        </a:lnTo>
                        <a:lnTo>
                          <a:pt x="112" y="440"/>
                        </a:lnTo>
                        <a:lnTo>
                          <a:pt x="152" y="462"/>
                        </a:lnTo>
                        <a:lnTo>
                          <a:pt x="197" y="476"/>
                        </a:lnTo>
                        <a:lnTo>
                          <a:pt x="244" y="480"/>
                        </a:lnTo>
                        <a:lnTo>
                          <a:pt x="291" y="476"/>
                        </a:lnTo>
                        <a:lnTo>
                          <a:pt x="336" y="462"/>
                        </a:lnTo>
                        <a:lnTo>
                          <a:pt x="376" y="440"/>
                        </a:lnTo>
                        <a:lnTo>
                          <a:pt x="412" y="413"/>
                        </a:lnTo>
                        <a:lnTo>
                          <a:pt x="441" y="377"/>
                        </a:lnTo>
                        <a:lnTo>
                          <a:pt x="461" y="337"/>
                        </a:lnTo>
                        <a:lnTo>
                          <a:pt x="475" y="292"/>
                        </a:lnTo>
                        <a:lnTo>
                          <a:pt x="479" y="245"/>
                        </a:lnTo>
                        <a:lnTo>
                          <a:pt x="486" y="245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04600" y="1755720"/>
                    <a:ext cx="757440" cy="75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477">
                        <a:moveTo>
                          <a:pt x="477" y="240"/>
                        </a:moveTo>
                        <a:lnTo>
                          <a:pt x="471" y="193"/>
                        </a:lnTo>
                        <a:lnTo>
                          <a:pt x="460" y="148"/>
                        </a:lnTo>
                        <a:lnTo>
                          <a:pt x="437" y="105"/>
                        </a:lnTo>
                        <a:lnTo>
                          <a:pt x="408" y="72"/>
                        </a:lnTo>
                        <a:lnTo>
                          <a:pt x="374" y="42"/>
                        </a:lnTo>
                        <a:lnTo>
                          <a:pt x="332" y="20"/>
                        </a:lnTo>
                        <a:lnTo>
                          <a:pt x="287" y="4"/>
                        </a:lnTo>
                        <a:lnTo>
                          <a:pt x="240" y="0"/>
                        </a:lnTo>
                        <a:lnTo>
                          <a:pt x="191" y="4"/>
                        </a:lnTo>
                        <a:lnTo>
                          <a:pt x="146" y="20"/>
                        </a:lnTo>
                        <a:lnTo>
                          <a:pt x="105" y="42"/>
                        </a:lnTo>
                        <a:lnTo>
                          <a:pt x="70" y="72"/>
                        </a:lnTo>
                        <a:lnTo>
                          <a:pt x="40" y="105"/>
                        </a:lnTo>
                        <a:lnTo>
                          <a:pt x="20" y="148"/>
                        </a:lnTo>
                        <a:lnTo>
                          <a:pt x="5" y="193"/>
                        </a:lnTo>
                        <a:lnTo>
                          <a:pt x="0" y="240"/>
                        </a:lnTo>
                        <a:lnTo>
                          <a:pt x="5" y="289"/>
                        </a:lnTo>
                        <a:lnTo>
                          <a:pt x="20" y="334"/>
                        </a:lnTo>
                        <a:lnTo>
                          <a:pt x="40" y="374"/>
                        </a:lnTo>
                        <a:lnTo>
                          <a:pt x="70" y="410"/>
                        </a:lnTo>
                        <a:lnTo>
                          <a:pt x="105" y="437"/>
                        </a:lnTo>
                        <a:lnTo>
                          <a:pt x="146" y="457"/>
                        </a:lnTo>
                        <a:lnTo>
                          <a:pt x="191" y="473"/>
                        </a:lnTo>
                        <a:lnTo>
                          <a:pt x="240" y="477"/>
                        </a:lnTo>
                        <a:lnTo>
                          <a:pt x="287" y="473"/>
                        </a:lnTo>
                        <a:lnTo>
                          <a:pt x="332" y="457"/>
                        </a:lnTo>
                        <a:lnTo>
                          <a:pt x="374" y="437"/>
                        </a:lnTo>
                        <a:lnTo>
                          <a:pt x="408" y="410"/>
                        </a:lnTo>
                        <a:lnTo>
                          <a:pt x="437" y="374"/>
                        </a:lnTo>
                        <a:lnTo>
                          <a:pt x="460" y="334"/>
                        </a:lnTo>
                        <a:lnTo>
                          <a:pt x="471" y="289"/>
                        </a:lnTo>
                        <a:lnTo>
                          <a:pt x="477" y="240"/>
                        </a:lnTo>
                        <a:lnTo>
                          <a:pt x="471" y="240"/>
                        </a:lnTo>
                        <a:lnTo>
                          <a:pt x="466" y="193"/>
                        </a:lnTo>
                        <a:lnTo>
                          <a:pt x="455" y="150"/>
                        </a:lnTo>
                        <a:lnTo>
                          <a:pt x="433" y="110"/>
                        </a:lnTo>
                        <a:lnTo>
                          <a:pt x="403" y="76"/>
                        </a:lnTo>
                        <a:lnTo>
                          <a:pt x="370" y="47"/>
                        </a:lnTo>
                        <a:lnTo>
                          <a:pt x="330" y="25"/>
                        </a:lnTo>
                        <a:lnTo>
                          <a:pt x="287" y="11"/>
                        </a:lnTo>
                        <a:lnTo>
                          <a:pt x="240" y="7"/>
                        </a:lnTo>
                        <a:lnTo>
                          <a:pt x="193" y="11"/>
                        </a:lnTo>
                        <a:lnTo>
                          <a:pt x="148" y="25"/>
                        </a:lnTo>
                        <a:lnTo>
                          <a:pt x="110" y="47"/>
                        </a:lnTo>
                        <a:lnTo>
                          <a:pt x="74" y="76"/>
                        </a:lnTo>
                        <a:lnTo>
                          <a:pt x="47" y="110"/>
                        </a:lnTo>
                        <a:lnTo>
                          <a:pt x="25" y="150"/>
                        </a:lnTo>
                        <a:lnTo>
                          <a:pt x="11" y="193"/>
                        </a:lnTo>
                        <a:lnTo>
                          <a:pt x="7" y="240"/>
                        </a:lnTo>
                        <a:lnTo>
                          <a:pt x="11" y="287"/>
                        </a:lnTo>
                        <a:lnTo>
                          <a:pt x="25" y="332"/>
                        </a:lnTo>
                        <a:lnTo>
                          <a:pt x="47" y="370"/>
                        </a:lnTo>
                        <a:lnTo>
                          <a:pt x="74" y="406"/>
                        </a:lnTo>
                        <a:lnTo>
                          <a:pt x="110" y="430"/>
                        </a:lnTo>
                        <a:lnTo>
                          <a:pt x="148" y="453"/>
                        </a:lnTo>
                        <a:lnTo>
                          <a:pt x="193" y="466"/>
                        </a:lnTo>
                        <a:lnTo>
                          <a:pt x="240" y="471"/>
                        </a:lnTo>
                        <a:lnTo>
                          <a:pt x="287" y="466"/>
                        </a:lnTo>
                        <a:lnTo>
                          <a:pt x="330" y="453"/>
                        </a:lnTo>
                        <a:lnTo>
                          <a:pt x="370" y="430"/>
                        </a:lnTo>
                        <a:lnTo>
                          <a:pt x="403" y="406"/>
                        </a:lnTo>
                        <a:lnTo>
                          <a:pt x="433" y="370"/>
                        </a:lnTo>
                        <a:lnTo>
                          <a:pt x="455" y="332"/>
                        </a:lnTo>
                        <a:lnTo>
                          <a:pt x="466" y="287"/>
                        </a:lnTo>
                        <a:lnTo>
                          <a:pt x="471" y="240"/>
                        </a:lnTo>
                        <a:lnTo>
                          <a:pt x="477" y="240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12520" y="1761840"/>
                    <a:ext cx="74304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69">
                        <a:moveTo>
                          <a:pt x="468" y="236"/>
                        </a:moveTo>
                        <a:lnTo>
                          <a:pt x="463" y="189"/>
                        </a:lnTo>
                        <a:lnTo>
                          <a:pt x="452" y="144"/>
                        </a:lnTo>
                        <a:lnTo>
                          <a:pt x="430" y="106"/>
                        </a:lnTo>
                        <a:lnTo>
                          <a:pt x="401" y="70"/>
                        </a:lnTo>
                        <a:lnTo>
                          <a:pt x="365" y="41"/>
                        </a:lnTo>
                        <a:lnTo>
                          <a:pt x="327" y="18"/>
                        </a:lnTo>
                        <a:lnTo>
                          <a:pt x="282" y="5"/>
                        </a:lnTo>
                        <a:lnTo>
                          <a:pt x="235" y="0"/>
                        </a:lnTo>
                        <a:lnTo>
                          <a:pt x="188" y="5"/>
                        </a:lnTo>
                        <a:lnTo>
                          <a:pt x="143" y="18"/>
                        </a:lnTo>
                        <a:lnTo>
                          <a:pt x="103" y="41"/>
                        </a:lnTo>
                        <a:lnTo>
                          <a:pt x="69" y="70"/>
                        </a:lnTo>
                        <a:lnTo>
                          <a:pt x="40" y="106"/>
                        </a:lnTo>
                        <a:lnTo>
                          <a:pt x="17" y="144"/>
                        </a:lnTo>
                        <a:lnTo>
                          <a:pt x="4" y="189"/>
                        </a:lnTo>
                        <a:lnTo>
                          <a:pt x="0" y="236"/>
                        </a:lnTo>
                        <a:lnTo>
                          <a:pt x="4" y="283"/>
                        </a:lnTo>
                        <a:lnTo>
                          <a:pt x="17" y="328"/>
                        </a:lnTo>
                        <a:lnTo>
                          <a:pt x="40" y="368"/>
                        </a:lnTo>
                        <a:lnTo>
                          <a:pt x="69" y="402"/>
                        </a:lnTo>
                        <a:lnTo>
                          <a:pt x="103" y="428"/>
                        </a:lnTo>
                        <a:lnTo>
                          <a:pt x="143" y="451"/>
                        </a:lnTo>
                        <a:lnTo>
                          <a:pt x="188" y="464"/>
                        </a:lnTo>
                        <a:lnTo>
                          <a:pt x="235" y="469"/>
                        </a:lnTo>
                        <a:lnTo>
                          <a:pt x="282" y="464"/>
                        </a:lnTo>
                        <a:lnTo>
                          <a:pt x="327" y="451"/>
                        </a:lnTo>
                        <a:lnTo>
                          <a:pt x="365" y="428"/>
                        </a:lnTo>
                        <a:lnTo>
                          <a:pt x="401" y="402"/>
                        </a:lnTo>
                        <a:lnTo>
                          <a:pt x="430" y="368"/>
                        </a:lnTo>
                        <a:lnTo>
                          <a:pt x="452" y="328"/>
                        </a:lnTo>
                        <a:lnTo>
                          <a:pt x="463" y="283"/>
                        </a:lnTo>
                        <a:lnTo>
                          <a:pt x="468" y="236"/>
                        </a:lnTo>
                        <a:lnTo>
                          <a:pt x="461" y="236"/>
                        </a:lnTo>
                        <a:lnTo>
                          <a:pt x="459" y="191"/>
                        </a:lnTo>
                        <a:lnTo>
                          <a:pt x="446" y="146"/>
                        </a:lnTo>
                        <a:lnTo>
                          <a:pt x="425" y="108"/>
                        </a:lnTo>
                        <a:lnTo>
                          <a:pt x="396" y="74"/>
                        </a:lnTo>
                        <a:lnTo>
                          <a:pt x="363" y="45"/>
                        </a:lnTo>
                        <a:lnTo>
                          <a:pt x="325" y="25"/>
                        </a:lnTo>
                        <a:lnTo>
                          <a:pt x="280" y="12"/>
                        </a:lnTo>
                        <a:lnTo>
                          <a:pt x="235" y="7"/>
                        </a:lnTo>
                        <a:lnTo>
                          <a:pt x="188" y="12"/>
                        </a:lnTo>
                        <a:lnTo>
                          <a:pt x="145" y="25"/>
                        </a:lnTo>
                        <a:lnTo>
                          <a:pt x="107" y="45"/>
                        </a:lnTo>
                        <a:lnTo>
                          <a:pt x="74" y="74"/>
                        </a:lnTo>
                        <a:lnTo>
                          <a:pt x="44" y="108"/>
                        </a:lnTo>
                        <a:lnTo>
                          <a:pt x="24" y="146"/>
                        </a:lnTo>
                        <a:lnTo>
                          <a:pt x="11" y="191"/>
                        </a:lnTo>
                        <a:lnTo>
                          <a:pt x="6" y="236"/>
                        </a:lnTo>
                        <a:lnTo>
                          <a:pt x="11" y="283"/>
                        </a:lnTo>
                        <a:lnTo>
                          <a:pt x="24" y="325"/>
                        </a:lnTo>
                        <a:lnTo>
                          <a:pt x="44" y="363"/>
                        </a:lnTo>
                        <a:lnTo>
                          <a:pt x="74" y="397"/>
                        </a:lnTo>
                        <a:lnTo>
                          <a:pt x="107" y="424"/>
                        </a:lnTo>
                        <a:lnTo>
                          <a:pt x="145" y="444"/>
                        </a:lnTo>
                        <a:lnTo>
                          <a:pt x="188" y="458"/>
                        </a:lnTo>
                        <a:lnTo>
                          <a:pt x="235" y="462"/>
                        </a:lnTo>
                        <a:lnTo>
                          <a:pt x="280" y="458"/>
                        </a:lnTo>
                        <a:lnTo>
                          <a:pt x="325" y="444"/>
                        </a:lnTo>
                        <a:lnTo>
                          <a:pt x="363" y="424"/>
                        </a:lnTo>
                        <a:lnTo>
                          <a:pt x="396" y="397"/>
                        </a:lnTo>
                        <a:lnTo>
                          <a:pt x="425" y="363"/>
                        </a:lnTo>
                        <a:lnTo>
                          <a:pt x="446" y="325"/>
                        </a:lnTo>
                        <a:lnTo>
                          <a:pt x="459" y="283"/>
                        </a:lnTo>
                        <a:lnTo>
                          <a:pt x="461" y="236"/>
                        </a:lnTo>
                        <a:lnTo>
                          <a:pt x="468" y="236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19000" y="1769760"/>
                    <a:ext cx="728640" cy="72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9" h="459">
                        <a:moveTo>
                          <a:pt x="459" y="231"/>
                        </a:moveTo>
                        <a:lnTo>
                          <a:pt x="455" y="184"/>
                        </a:lnTo>
                        <a:lnTo>
                          <a:pt x="444" y="141"/>
                        </a:lnTo>
                        <a:lnTo>
                          <a:pt x="421" y="103"/>
                        </a:lnTo>
                        <a:lnTo>
                          <a:pt x="394" y="67"/>
                        </a:lnTo>
                        <a:lnTo>
                          <a:pt x="359" y="40"/>
                        </a:lnTo>
                        <a:lnTo>
                          <a:pt x="321" y="18"/>
                        </a:lnTo>
                        <a:lnTo>
                          <a:pt x="278" y="4"/>
                        </a:lnTo>
                        <a:lnTo>
                          <a:pt x="231" y="0"/>
                        </a:lnTo>
                        <a:lnTo>
                          <a:pt x="184" y="4"/>
                        </a:lnTo>
                        <a:lnTo>
                          <a:pt x="141" y="18"/>
                        </a:lnTo>
                        <a:lnTo>
                          <a:pt x="101" y="40"/>
                        </a:lnTo>
                        <a:lnTo>
                          <a:pt x="67" y="67"/>
                        </a:lnTo>
                        <a:lnTo>
                          <a:pt x="38" y="103"/>
                        </a:lnTo>
                        <a:lnTo>
                          <a:pt x="18" y="141"/>
                        </a:lnTo>
                        <a:lnTo>
                          <a:pt x="5" y="184"/>
                        </a:lnTo>
                        <a:lnTo>
                          <a:pt x="0" y="231"/>
                        </a:lnTo>
                        <a:lnTo>
                          <a:pt x="5" y="278"/>
                        </a:lnTo>
                        <a:lnTo>
                          <a:pt x="18" y="320"/>
                        </a:lnTo>
                        <a:lnTo>
                          <a:pt x="38" y="361"/>
                        </a:lnTo>
                        <a:lnTo>
                          <a:pt x="67" y="394"/>
                        </a:lnTo>
                        <a:lnTo>
                          <a:pt x="101" y="421"/>
                        </a:lnTo>
                        <a:lnTo>
                          <a:pt x="141" y="441"/>
                        </a:lnTo>
                        <a:lnTo>
                          <a:pt x="184" y="455"/>
                        </a:lnTo>
                        <a:lnTo>
                          <a:pt x="231" y="459"/>
                        </a:lnTo>
                        <a:lnTo>
                          <a:pt x="278" y="455"/>
                        </a:lnTo>
                        <a:lnTo>
                          <a:pt x="321" y="441"/>
                        </a:lnTo>
                        <a:lnTo>
                          <a:pt x="359" y="421"/>
                        </a:lnTo>
                        <a:lnTo>
                          <a:pt x="394" y="394"/>
                        </a:lnTo>
                        <a:lnTo>
                          <a:pt x="421" y="361"/>
                        </a:lnTo>
                        <a:lnTo>
                          <a:pt x="444" y="320"/>
                        </a:lnTo>
                        <a:lnTo>
                          <a:pt x="455" y="278"/>
                        </a:lnTo>
                        <a:lnTo>
                          <a:pt x="459" y="231"/>
                        </a:lnTo>
                        <a:lnTo>
                          <a:pt x="455" y="231"/>
                        </a:lnTo>
                        <a:lnTo>
                          <a:pt x="451" y="186"/>
                        </a:lnTo>
                        <a:lnTo>
                          <a:pt x="437" y="143"/>
                        </a:lnTo>
                        <a:lnTo>
                          <a:pt x="417" y="105"/>
                        </a:lnTo>
                        <a:lnTo>
                          <a:pt x="390" y="72"/>
                        </a:lnTo>
                        <a:lnTo>
                          <a:pt x="356" y="45"/>
                        </a:lnTo>
                        <a:lnTo>
                          <a:pt x="318" y="25"/>
                        </a:lnTo>
                        <a:lnTo>
                          <a:pt x="276" y="11"/>
                        </a:lnTo>
                        <a:lnTo>
                          <a:pt x="231" y="7"/>
                        </a:lnTo>
                        <a:lnTo>
                          <a:pt x="186" y="11"/>
                        </a:lnTo>
                        <a:lnTo>
                          <a:pt x="143" y="25"/>
                        </a:lnTo>
                        <a:lnTo>
                          <a:pt x="105" y="45"/>
                        </a:lnTo>
                        <a:lnTo>
                          <a:pt x="72" y="72"/>
                        </a:lnTo>
                        <a:lnTo>
                          <a:pt x="45" y="105"/>
                        </a:lnTo>
                        <a:lnTo>
                          <a:pt x="25" y="143"/>
                        </a:lnTo>
                        <a:lnTo>
                          <a:pt x="11" y="186"/>
                        </a:lnTo>
                        <a:lnTo>
                          <a:pt x="7" y="231"/>
                        </a:lnTo>
                        <a:lnTo>
                          <a:pt x="11" y="276"/>
                        </a:lnTo>
                        <a:lnTo>
                          <a:pt x="25" y="318"/>
                        </a:lnTo>
                        <a:lnTo>
                          <a:pt x="45" y="356"/>
                        </a:lnTo>
                        <a:lnTo>
                          <a:pt x="72" y="390"/>
                        </a:lnTo>
                        <a:lnTo>
                          <a:pt x="105" y="414"/>
                        </a:lnTo>
                        <a:lnTo>
                          <a:pt x="143" y="435"/>
                        </a:lnTo>
                        <a:lnTo>
                          <a:pt x="186" y="448"/>
                        </a:lnTo>
                        <a:lnTo>
                          <a:pt x="231" y="453"/>
                        </a:lnTo>
                        <a:lnTo>
                          <a:pt x="276" y="448"/>
                        </a:lnTo>
                        <a:lnTo>
                          <a:pt x="318" y="435"/>
                        </a:lnTo>
                        <a:lnTo>
                          <a:pt x="356" y="414"/>
                        </a:lnTo>
                        <a:lnTo>
                          <a:pt x="390" y="390"/>
                        </a:lnTo>
                        <a:lnTo>
                          <a:pt x="417" y="356"/>
                        </a:lnTo>
                        <a:lnTo>
                          <a:pt x="437" y="318"/>
                        </a:lnTo>
                        <a:lnTo>
                          <a:pt x="451" y="276"/>
                        </a:lnTo>
                        <a:lnTo>
                          <a:pt x="455" y="231"/>
                        </a:lnTo>
                        <a:lnTo>
                          <a:pt x="459" y="231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26920" y="1776240"/>
                    <a:ext cx="714240" cy="71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451">
                        <a:moveTo>
                          <a:pt x="450" y="227"/>
                        </a:moveTo>
                        <a:lnTo>
                          <a:pt x="448" y="182"/>
                        </a:lnTo>
                        <a:lnTo>
                          <a:pt x="434" y="139"/>
                        </a:lnTo>
                        <a:lnTo>
                          <a:pt x="414" y="101"/>
                        </a:lnTo>
                        <a:lnTo>
                          <a:pt x="385" y="68"/>
                        </a:lnTo>
                        <a:lnTo>
                          <a:pt x="351" y="38"/>
                        </a:lnTo>
                        <a:lnTo>
                          <a:pt x="313" y="18"/>
                        </a:lnTo>
                        <a:lnTo>
                          <a:pt x="271" y="5"/>
                        </a:lnTo>
                        <a:lnTo>
                          <a:pt x="226" y="0"/>
                        </a:lnTo>
                        <a:lnTo>
                          <a:pt x="181" y="5"/>
                        </a:lnTo>
                        <a:lnTo>
                          <a:pt x="138" y="18"/>
                        </a:lnTo>
                        <a:lnTo>
                          <a:pt x="98" y="38"/>
                        </a:lnTo>
                        <a:lnTo>
                          <a:pt x="65" y="68"/>
                        </a:lnTo>
                        <a:lnTo>
                          <a:pt x="38" y="101"/>
                        </a:lnTo>
                        <a:lnTo>
                          <a:pt x="17" y="139"/>
                        </a:lnTo>
                        <a:lnTo>
                          <a:pt x="4" y="182"/>
                        </a:lnTo>
                        <a:lnTo>
                          <a:pt x="0" y="227"/>
                        </a:lnTo>
                        <a:lnTo>
                          <a:pt x="4" y="272"/>
                        </a:lnTo>
                        <a:lnTo>
                          <a:pt x="17" y="314"/>
                        </a:lnTo>
                        <a:lnTo>
                          <a:pt x="38" y="354"/>
                        </a:lnTo>
                        <a:lnTo>
                          <a:pt x="65" y="388"/>
                        </a:lnTo>
                        <a:lnTo>
                          <a:pt x="98" y="413"/>
                        </a:lnTo>
                        <a:lnTo>
                          <a:pt x="138" y="433"/>
                        </a:lnTo>
                        <a:lnTo>
                          <a:pt x="181" y="446"/>
                        </a:lnTo>
                        <a:lnTo>
                          <a:pt x="226" y="451"/>
                        </a:lnTo>
                        <a:lnTo>
                          <a:pt x="271" y="446"/>
                        </a:lnTo>
                        <a:lnTo>
                          <a:pt x="313" y="433"/>
                        </a:lnTo>
                        <a:lnTo>
                          <a:pt x="351" y="413"/>
                        </a:lnTo>
                        <a:lnTo>
                          <a:pt x="385" y="388"/>
                        </a:lnTo>
                        <a:lnTo>
                          <a:pt x="414" y="354"/>
                        </a:lnTo>
                        <a:lnTo>
                          <a:pt x="434" y="314"/>
                        </a:lnTo>
                        <a:lnTo>
                          <a:pt x="448" y="272"/>
                        </a:lnTo>
                        <a:lnTo>
                          <a:pt x="450" y="227"/>
                        </a:lnTo>
                        <a:lnTo>
                          <a:pt x="446" y="227"/>
                        </a:lnTo>
                        <a:lnTo>
                          <a:pt x="441" y="182"/>
                        </a:lnTo>
                        <a:lnTo>
                          <a:pt x="428" y="142"/>
                        </a:lnTo>
                        <a:lnTo>
                          <a:pt x="407" y="103"/>
                        </a:lnTo>
                        <a:lnTo>
                          <a:pt x="381" y="72"/>
                        </a:lnTo>
                        <a:lnTo>
                          <a:pt x="349" y="45"/>
                        </a:lnTo>
                        <a:lnTo>
                          <a:pt x="311" y="25"/>
                        </a:lnTo>
                        <a:lnTo>
                          <a:pt x="271" y="12"/>
                        </a:lnTo>
                        <a:lnTo>
                          <a:pt x="226" y="7"/>
                        </a:lnTo>
                        <a:lnTo>
                          <a:pt x="181" y="12"/>
                        </a:lnTo>
                        <a:lnTo>
                          <a:pt x="141" y="25"/>
                        </a:lnTo>
                        <a:lnTo>
                          <a:pt x="103" y="45"/>
                        </a:lnTo>
                        <a:lnTo>
                          <a:pt x="69" y="72"/>
                        </a:lnTo>
                        <a:lnTo>
                          <a:pt x="42" y="103"/>
                        </a:lnTo>
                        <a:lnTo>
                          <a:pt x="22" y="142"/>
                        </a:lnTo>
                        <a:lnTo>
                          <a:pt x="11" y="182"/>
                        </a:lnTo>
                        <a:lnTo>
                          <a:pt x="6" y="227"/>
                        </a:lnTo>
                        <a:lnTo>
                          <a:pt x="11" y="272"/>
                        </a:lnTo>
                        <a:lnTo>
                          <a:pt x="22" y="312"/>
                        </a:lnTo>
                        <a:lnTo>
                          <a:pt x="42" y="350"/>
                        </a:lnTo>
                        <a:lnTo>
                          <a:pt x="69" y="384"/>
                        </a:lnTo>
                        <a:lnTo>
                          <a:pt x="103" y="408"/>
                        </a:lnTo>
                        <a:lnTo>
                          <a:pt x="141" y="428"/>
                        </a:lnTo>
                        <a:lnTo>
                          <a:pt x="181" y="440"/>
                        </a:lnTo>
                        <a:lnTo>
                          <a:pt x="226" y="444"/>
                        </a:lnTo>
                        <a:lnTo>
                          <a:pt x="271" y="440"/>
                        </a:lnTo>
                        <a:lnTo>
                          <a:pt x="311" y="428"/>
                        </a:lnTo>
                        <a:lnTo>
                          <a:pt x="349" y="408"/>
                        </a:lnTo>
                        <a:lnTo>
                          <a:pt x="381" y="384"/>
                        </a:lnTo>
                        <a:lnTo>
                          <a:pt x="407" y="350"/>
                        </a:lnTo>
                        <a:lnTo>
                          <a:pt x="428" y="312"/>
                        </a:lnTo>
                        <a:lnTo>
                          <a:pt x="441" y="272"/>
                        </a:lnTo>
                        <a:lnTo>
                          <a:pt x="446" y="227"/>
                        </a:lnTo>
                        <a:lnTo>
                          <a:pt x="450" y="227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33400" y="1784160"/>
                    <a:ext cx="704880" cy="70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441">
                        <a:moveTo>
                          <a:pt x="444" y="222"/>
                        </a:moveTo>
                        <a:lnTo>
                          <a:pt x="439" y="177"/>
                        </a:lnTo>
                        <a:lnTo>
                          <a:pt x="426" y="137"/>
                        </a:lnTo>
                        <a:lnTo>
                          <a:pt x="406" y="98"/>
                        </a:lnTo>
                        <a:lnTo>
                          <a:pt x="379" y="65"/>
                        </a:lnTo>
                        <a:lnTo>
                          <a:pt x="345" y="38"/>
                        </a:lnTo>
                        <a:lnTo>
                          <a:pt x="307" y="18"/>
                        </a:lnTo>
                        <a:lnTo>
                          <a:pt x="267" y="4"/>
                        </a:lnTo>
                        <a:lnTo>
                          <a:pt x="222" y="0"/>
                        </a:lnTo>
                        <a:lnTo>
                          <a:pt x="177" y="4"/>
                        </a:lnTo>
                        <a:lnTo>
                          <a:pt x="134" y="18"/>
                        </a:lnTo>
                        <a:lnTo>
                          <a:pt x="96" y="38"/>
                        </a:lnTo>
                        <a:lnTo>
                          <a:pt x="65" y="65"/>
                        </a:lnTo>
                        <a:lnTo>
                          <a:pt x="38" y="98"/>
                        </a:lnTo>
                        <a:lnTo>
                          <a:pt x="16" y="137"/>
                        </a:lnTo>
                        <a:lnTo>
                          <a:pt x="4" y="177"/>
                        </a:lnTo>
                        <a:lnTo>
                          <a:pt x="0" y="222"/>
                        </a:lnTo>
                        <a:lnTo>
                          <a:pt x="4" y="267"/>
                        </a:lnTo>
                        <a:lnTo>
                          <a:pt x="16" y="309"/>
                        </a:lnTo>
                        <a:lnTo>
                          <a:pt x="38" y="347"/>
                        </a:lnTo>
                        <a:lnTo>
                          <a:pt x="65" y="379"/>
                        </a:lnTo>
                        <a:lnTo>
                          <a:pt x="96" y="403"/>
                        </a:lnTo>
                        <a:lnTo>
                          <a:pt x="134" y="426"/>
                        </a:lnTo>
                        <a:lnTo>
                          <a:pt x="177" y="437"/>
                        </a:lnTo>
                        <a:lnTo>
                          <a:pt x="222" y="441"/>
                        </a:lnTo>
                        <a:lnTo>
                          <a:pt x="267" y="437"/>
                        </a:lnTo>
                        <a:lnTo>
                          <a:pt x="307" y="426"/>
                        </a:lnTo>
                        <a:lnTo>
                          <a:pt x="345" y="403"/>
                        </a:lnTo>
                        <a:lnTo>
                          <a:pt x="379" y="379"/>
                        </a:lnTo>
                        <a:lnTo>
                          <a:pt x="406" y="347"/>
                        </a:lnTo>
                        <a:lnTo>
                          <a:pt x="426" y="309"/>
                        </a:lnTo>
                        <a:lnTo>
                          <a:pt x="439" y="267"/>
                        </a:lnTo>
                        <a:lnTo>
                          <a:pt x="444" y="222"/>
                        </a:lnTo>
                        <a:lnTo>
                          <a:pt x="437" y="222"/>
                        </a:lnTo>
                        <a:lnTo>
                          <a:pt x="433" y="179"/>
                        </a:lnTo>
                        <a:lnTo>
                          <a:pt x="421" y="139"/>
                        </a:lnTo>
                        <a:lnTo>
                          <a:pt x="401" y="101"/>
                        </a:lnTo>
                        <a:lnTo>
                          <a:pt x="374" y="69"/>
                        </a:lnTo>
                        <a:lnTo>
                          <a:pt x="343" y="42"/>
                        </a:lnTo>
                        <a:lnTo>
                          <a:pt x="305" y="22"/>
                        </a:lnTo>
                        <a:lnTo>
                          <a:pt x="264" y="11"/>
                        </a:lnTo>
                        <a:lnTo>
                          <a:pt x="222" y="7"/>
                        </a:lnTo>
                        <a:lnTo>
                          <a:pt x="177" y="11"/>
                        </a:lnTo>
                        <a:lnTo>
                          <a:pt x="137" y="22"/>
                        </a:lnTo>
                        <a:lnTo>
                          <a:pt x="101" y="42"/>
                        </a:lnTo>
                        <a:lnTo>
                          <a:pt x="69" y="69"/>
                        </a:lnTo>
                        <a:lnTo>
                          <a:pt x="43" y="101"/>
                        </a:lnTo>
                        <a:lnTo>
                          <a:pt x="22" y="139"/>
                        </a:lnTo>
                        <a:lnTo>
                          <a:pt x="9" y="179"/>
                        </a:lnTo>
                        <a:lnTo>
                          <a:pt x="4" y="222"/>
                        </a:lnTo>
                        <a:lnTo>
                          <a:pt x="9" y="267"/>
                        </a:lnTo>
                        <a:lnTo>
                          <a:pt x="22" y="307"/>
                        </a:lnTo>
                        <a:lnTo>
                          <a:pt x="43" y="343"/>
                        </a:lnTo>
                        <a:lnTo>
                          <a:pt x="69" y="374"/>
                        </a:lnTo>
                        <a:lnTo>
                          <a:pt x="101" y="401"/>
                        </a:lnTo>
                        <a:lnTo>
                          <a:pt x="137" y="419"/>
                        </a:lnTo>
                        <a:lnTo>
                          <a:pt x="177" y="432"/>
                        </a:lnTo>
                        <a:lnTo>
                          <a:pt x="222" y="437"/>
                        </a:lnTo>
                        <a:lnTo>
                          <a:pt x="264" y="432"/>
                        </a:lnTo>
                        <a:lnTo>
                          <a:pt x="305" y="419"/>
                        </a:lnTo>
                        <a:lnTo>
                          <a:pt x="343" y="401"/>
                        </a:lnTo>
                        <a:lnTo>
                          <a:pt x="374" y="374"/>
                        </a:lnTo>
                        <a:lnTo>
                          <a:pt x="401" y="343"/>
                        </a:lnTo>
                        <a:lnTo>
                          <a:pt x="421" y="307"/>
                        </a:lnTo>
                        <a:lnTo>
                          <a:pt x="433" y="267"/>
                        </a:lnTo>
                        <a:lnTo>
                          <a:pt x="437" y="222"/>
                        </a:lnTo>
                        <a:lnTo>
                          <a:pt x="444" y="222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39520" y="1790640"/>
                    <a:ext cx="690480" cy="68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433">
                        <a:moveTo>
                          <a:pt x="435" y="218"/>
                        </a:moveTo>
                        <a:lnTo>
                          <a:pt x="431" y="175"/>
                        </a:lnTo>
                        <a:lnTo>
                          <a:pt x="420" y="133"/>
                        </a:lnTo>
                        <a:lnTo>
                          <a:pt x="399" y="97"/>
                        </a:lnTo>
                        <a:lnTo>
                          <a:pt x="373" y="63"/>
                        </a:lnTo>
                        <a:lnTo>
                          <a:pt x="339" y="36"/>
                        </a:lnTo>
                        <a:lnTo>
                          <a:pt x="303" y="16"/>
                        </a:lnTo>
                        <a:lnTo>
                          <a:pt x="260" y="5"/>
                        </a:lnTo>
                        <a:lnTo>
                          <a:pt x="218" y="0"/>
                        </a:lnTo>
                        <a:lnTo>
                          <a:pt x="173" y="5"/>
                        </a:lnTo>
                        <a:lnTo>
                          <a:pt x="133" y="16"/>
                        </a:lnTo>
                        <a:lnTo>
                          <a:pt x="95" y="36"/>
                        </a:lnTo>
                        <a:lnTo>
                          <a:pt x="63" y="63"/>
                        </a:lnTo>
                        <a:lnTo>
                          <a:pt x="36" y="97"/>
                        </a:lnTo>
                        <a:lnTo>
                          <a:pt x="16" y="133"/>
                        </a:lnTo>
                        <a:lnTo>
                          <a:pt x="3" y="175"/>
                        </a:lnTo>
                        <a:lnTo>
                          <a:pt x="0" y="218"/>
                        </a:lnTo>
                        <a:lnTo>
                          <a:pt x="3" y="263"/>
                        </a:lnTo>
                        <a:lnTo>
                          <a:pt x="16" y="303"/>
                        </a:lnTo>
                        <a:lnTo>
                          <a:pt x="36" y="341"/>
                        </a:lnTo>
                        <a:lnTo>
                          <a:pt x="63" y="372"/>
                        </a:lnTo>
                        <a:lnTo>
                          <a:pt x="95" y="397"/>
                        </a:lnTo>
                        <a:lnTo>
                          <a:pt x="133" y="417"/>
                        </a:lnTo>
                        <a:lnTo>
                          <a:pt x="173" y="431"/>
                        </a:lnTo>
                        <a:lnTo>
                          <a:pt x="218" y="433"/>
                        </a:lnTo>
                        <a:lnTo>
                          <a:pt x="260" y="431"/>
                        </a:lnTo>
                        <a:lnTo>
                          <a:pt x="303" y="417"/>
                        </a:lnTo>
                        <a:lnTo>
                          <a:pt x="339" y="397"/>
                        </a:lnTo>
                        <a:lnTo>
                          <a:pt x="373" y="372"/>
                        </a:lnTo>
                        <a:lnTo>
                          <a:pt x="399" y="341"/>
                        </a:lnTo>
                        <a:lnTo>
                          <a:pt x="420" y="303"/>
                        </a:lnTo>
                        <a:lnTo>
                          <a:pt x="431" y="263"/>
                        </a:lnTo>
                        <a:lnTo>
                          <a:pt x="435" y="218"/>
                        </a:lnTo>
                        <a:lnTo>
                          <a:pt x="429" y="218"/>
                        </a:lnTo>
                        <a:lnTo>
                          <a:pt x="424" y="175"/>
                        </a:lnTo>
                        <a:lnTo>
                          <a:pt x="413" y="135"/>
                        </a:lnTo>
                        <a:lnTo>
                          <a:pt x="393" y="99"/>
                        </a:lnTo>
                        <a:lnTo>
                          <a:pt x="368" y="68"/>
                        </a:lnTo>
                        <a:lnTo>
                          <a:pt x="337" y="43"/>
                        </a:lnTo>
                        <a:lnTo>
                          <a:pt x="301" y="23"/>
                        </a:lnTo>
                        <a:lnTo>
                          <a:pt x="260" y="12"/>
                        </a:lnTo>
                        <a:lnTo>
                          <a:pt x="218" y="7"/>
                        </a:lnTo>
                        <a:lnTo>
                          <a:pt x="175" y="12"/>
                        </a:lnTo>
                        <a:lnTo>
                          <a:pt x="135" y="23"/>
                        </a:lnTo>
                        <a:lnTo>
                          <a:pt x="99" y="43"/>
                        </a:lnTo>
                        <a:lnTo>
                          <a:pt x="68" y="68"/>
                        </a:lnTo>
                        <a:lnTo>
                          <a:pt x="41" y="99"/>
                        </a:lnTo>
                        <a:lnTo>
                          <a:pt x="23" y="135"/>
                        </a:lnTo>
                        <a:lnTo>
                          <a:pt x="9" y="175"/>
                        </a:lnTo>
                        <a:lnTo>
                          <a:pt x="5" y="218"/>
                        </a:lnTo>
                        <a:lnTo>
                          <a:pt x="9" y="260"/>
                        </a:lnTo>
                        <a:lnTo>
                          <a:pt x="23" y="301"/>
                        </a:lnTo>
                        <a:lnTo>
                          <a:pt x="41" y="336"/>
                        </a:lnTo>
                        <a:lnTo>
                          <a:pt x="68" y="368"/>
                        </a:lnTo>
                        <a:lnTo>
                          <a:pt x="99" y="395"/>
                        </a:lnTo>
                        <a:lnTo>
                          <a:pt x="135" y="410"/>
                        </a:lnTo>
                        <a:lnTo>
                          <a:pt x="175" y="424"/>
                        </a:lnTo>
                        <a:lnTo>
                          <a:pt x="218" y="428"/>
                        </a:lnTo>
                        <a:lnTo>
                          <a:pt x="260" y="424"/>
                        </a:lnTo>
                        <a:lnTo>
                          <a:pt x="301" y="410"/>
                        </a:lnTo>
                        <a:lnTo>
                          <a:pt x="337" y="395"/>
                        </a:lnTo>
                        <a:lnTo>
                          <a:pt x="368" y="368"/>
                        </a:lnTo>
                        <a:lnTo>
                          <a:pt x="393" y="336"/>
                        </a:lnTo>
                        <a:lnTo>
                          <a:pt x="413" y="301"/>
                        </a:lnTo>
                        <a:lnTo>
                          <a:pt x="424" y="260"/>
                        </a:lnTo>
                        <a:lnTo>
                          <a:pt x="429" y="218"/>
                        </a:lnTo>
                        <a:lnTo>
                          <a:pt x="435" y="218"/>
                        </a:lnTo>
                        <a:close/>
                      </a:path>
                    </a:pathLst>
                  </a:custGeom>
                  <a:solidFill>
                    <a:srgbClr val="f8ee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44200" y="1798560"/>
                    <a:ext cx="67968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426">
                        <a:moveTo>
                          <a:pt x="428" y="213"/>
                        </a:moveTo>
                        <a:lnTo>
                          <a:pt x="423" y="170"/>
                        </a:lnTo>
                        <a:lnTo>
                          <a:pt x="412" y="130"/>
                        </a:lnTo>
                        <a:lnTo>
                          <a:pt x="392" y="94"/>
                        </a:lnTo>
                        <a:lnTo>
                          <a:pt x="365" y="63"/>
                        </a:lnTo>
                        <a:lnTo>
                          <a:pt x="334" y="36"/>
                        </a:lnTo>
                        <a:lnTo>
                          <a:pt x="298" y="15"/>
                        </a:lnTo>
                        <a:lnTo>
                          <a:pt x="257" y="4"/>
                        </a:lnTo>
                        <a:lnTo>
                          <a:pt x="215" y="0"/>
                        </a:lnTo>
                        <a:lnTo>
                          <a:pt x="172" y="4"/>
                        </a:lnTo>
                        <a:lnTo>
                          <a:pt x="132" y="15"/>
                        </a:lnTo>
                        <a:lnTo>
                          <a:pt x="96" y="36"/>
                        </a:lnTo>
                        <a:lnTo>
                          <a:pt x="62" y="63"/>
                        </a:lnTo>
                        <a:lnTo>
                          <a:pt x="38" y="94"/>
                        </a:lnTo>
                        <a:lnTo>
                          <a:pt x="18" y="130"/>
                        </a:lnTo>
                        <a:lnTo>
                          <a:pt x="4" y="170"/>
                        </a:lnTo>
                        <a:lnTo>
                          <a:pt x="0" y="213"/>
                        </a:lnTo>
                        <a:lnTo>
                          <a:pt x="4" y="255"/>
                        </a:lnTo>
                        <a:lnTo>
                          <a:pt x="18" y="296"/>
                        </a:lnTo>
                        <a:lnTo>
                          <a:pt x="38" y="331"/>
                        </a:lnTo>
                        <a:lnTo>
                          <a:pt x="62" y="365"/>
                        </a:lnTo>
                        <a:lnTo>
                          <a:pt x="96" y="390"/>
                        </a:lnTo>
                        <a:lnTo>
                          <a:pt x="132" y="408"/>
                        </a:lnTo>
                        <a:lnTo>
                          <a:pt x="172" y="421"/>
                        </a:lnTo>
                        <a:lnTo>
                          <a:pt x="215" y="426"/>
                        </a:lnTo>
                        <a:lnTo>
                          <a:pt x="257" y="421"/>
                        </a:lnTo>
                        <a:lnTo>
                          <a:pt x="298" y="408"/>
                        </a:lnTo>
                        <a:lnTo>
                          <a:pt x="334" y="390"/>
                        </a:lnTo>
                        <a:lnTo>
                          <a:pt x="365" y="365"/>
                        </a:lnTo>
                        <a:lnTo>
                          <a:pt x="392" y="331"/>
                        </a:lnTo>
                        <a:lnTo>
                          <a:pt x="412" y="296"/>
                        </a:lnTo>
                        <a:lnTo>
                          <a:pt x="423" y="255"/>
                        </a:lnTo>
                        <a:lnTo>
                          <a:pt x="428" y="213"/>
                        </a:lnTo>
                        <a:lnTo>
                          <a:pt x="423" y="213"/>
                        </a:lnTo>
                        <a:lnTo>
                          <a:pt x="419" y="170"/>
                        </a:lnTo>
                        <a:lnTo>
                          <a:pt x="405" y="132"/>
                        </a:lnTo>
                        <a:lnTo>
                          <a:pt x="387" y="96"/>
                        </a:lnTo>
                        <a:lnTo>
                          <a:pt x="361" y="67"/>
                        </a:lnTo>
                        <a:lnTo>
                          <a:pt x="331" y="40"/>
                        </a:lnTo>
                        <a:lnTo>
                          <a:pt x="296" y="22"/>
                        </a:lnTo>
                        <a:lnTo>
                          <a:pt x="257" y="9"/>
                        </a:lnTo>
                        <a:lnTo>
                          <a:pt x="215" y="4"/>
                        </a:lnTo>
                        <a:lnTo>
                          <a:pt x="172" y="9"/>
                        </a:lnTo>
                        <a:lnTo>
                          <a:pt x="134" y="22"/>
                        </a:lnTo>
                        <a:lnTo>
                          <a:pt x="98" y="40"/>
                        </a:lnTo>
                        <a:lnTo>
                          <a:pt x="67" y="67"/>
                        </a:lnTo>
                        <a:lnTo>
                          <a:pt x="42" y="96"/>
                        </a:lnTo>
                        <a:lnTo>
                          <a:pt x="22" y="132"/>
                        </a:lnTo>
                        <a:lnTo>
                          <a:pt x="11" y="170"/>
                        </a:lnTo>
                        <a:lnTo>
                          <a:pt x="6" y="213"/>
                        </a:lnTo>
                        <a:lnTo>
                          <a:pt x="11" y="255"/>
                        </a:lnTo>
                        <a:lnTo>
                          <a:pt x="22" y="293"/>
                        </a:lnTo>
                        <a:lnTo>
                          <a:pt x="42" y="329"/>
                        </a:lnTo>
                        <a:lnTo>
                          <a:pt x="67" y="361"/>
                        </a:lnTo>
                        <a:lnTo>
                          <a:pt x="98" y="385"/>
                        </a:lnTo>
                        <a:lnTo>
                          <a:pt x="134" y="403"/>
                        </a:lnTo>
                        <a:lnTo>
                          <a:pt x="172" y="414"/>
                        </a:lnTo>
                        <a:lnTo>
                          <a:pt x="215" y="419"/>
                        </a:lnTo>
                        <a:lnTo>
                          <a:pt x="257" y="414"/>
                        </a:lnTo>
                        <a:lnTo>
                          <a:pt x="296" y="403"/>
                        </a:lnTo>
                        <a:lnTo>
                          <a:pt x="331" y="385"/>
                        </a:lnTo>
                        <a:lnTo>
                          <a:pt x="361" y="361"/>
                        </a:lnTo>
                        <a:lnTo>
                          <a:pt x="387" y="329"/>
                        </a:lnTo>
                        <a:lnTo>
                          <a:pt x="405" y="293"/>
                        </a:lnTo>
                        <a:lnTo>
                          <a:pt x="419" y="255"/>
                        </a:lnTo>
                        <a:lnTo>
                          <a:pt x="423" y="213"/>
                        </a:lnTo>
                        <a:lnTo>
                          <a:pt x="428" y="213"/>
                        </a:lnTo>
                        <a:close/>
                      </a:path>
                    </a:pathLst>
                  </a:custGeom>
                  <a:solidFill>
                    <a:srgbClr val="f8f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0680" y="1804680"/>
                    <a:ext cx="665280" cy="66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417">
                        <a:moveTo>
                          <a:pt x="419" y="209"/>
                        </a:moveTo>
                        <a:lnTo>
                          <a:pt x="417" y="166"/>
                        </a:lnTo>
                        <a:lnTo>
                          <a:pt x="404" y="128"/>
                        </a:lnTo>
                        <a:lnTo>
                          <a:pt x="383" y="92"/>
                        </a:lnTo>
                        <a:lnTo>
                          <a:pt x="359" y="61"/>
                        </a:lnTo>
                        <a:lnTo>
                          <a:pt x="327" y="34"/>
                        </a:lnTo>
                        <a:lnTo>
                          <a:pt x="292" y="16"/>
                        </a:lnTo>
                        <a:lnTo>
                          <a:pt x="253" y="3"/>
                        </a:lnTo>
                        <a:lnTo>
                          <a:pt x="211" y="0"/>
                        </a:lnTo>
                        <a:lnTo>
                          <a:pt x="168" y="3"/>
                        </a:lnTo>
                        <a:lnTo>
                          <a:pt x="128" y="16"/>
                        </a:lnTo>
                        <a:lnTo>
                          <a:pt x="94" y="34"/>
                        </a:lnTo>
                        <a:lnTo>
                          <a:pt x="63" y="61"/>
                        </a:lnTo>
                        <a:lnTo>
                          <a:pt x="36" y="92"/>
                        </a:lnTo>
                        <a:lnTo>
                          <a:pt x="18" y="128"/>
                        </a:lnTo>
                        <a:lnTo>
                          <a:pt x="5" y="166"/>
                        </a:lnTo>
                        <a:lnTo>
                          <a:pt x="0" y="209"/>
                        </a:lnTo>
                        <a:lnTo>
                          <a:pt x="5" y="251"/>
                        </a:lnTo>
                        <a:lnTo>
                          <a:pt x="18" y="292"/>
                        </a:lnTo>
                        <a:lnTo>
                          <a:pt x="36" y="325"/>
                        </a:lnTo>
                        <a:lnTo>
                          <a:pt x="63" y="357"/>
                        </a:lnTo>
                        <a:lnTo>
                          <a:pt x="94" y="384"/>
                        </a:lnTo>
                        <a:lnTo>
                          <a:pt x="128" y="399"/>
                        </a:lnTo>
                        <a:lnTo>
                          <a:pt x="168" y="413"/>
                        </a:lnTo>
                        <a:lnTo>
                          <a:pt x="211" y="417"/>
                        </a:lnTo>
                        <a:lnTo>
                          <a:pt x="253" y="413"/>
                        </a:lnTo>
                        <a:lnTo>
                          <a:pt x="292" y="399"/>
                        </a:lnTo>
                        <a:lnTo>
                          <a:pt x="327" y="384"/>
                        </a:lnTo>
                        <a:lnTo>
                          <a:pt x="359" y="357"/>
                        </a:lnTo>
                        <a:lnTo>
                          <a:pt x="383" y="325"/>
                        </a:lnTo>
                        <a:lnTo>
                          <a:pt x="404" y="292"/>
                        </a:lnTo>
                        <a:lnTo>
                          <a:pt x="417" y="251"/>
                        </a:lnTo>
                        <a:lnTo>
                          <a:pt x="419" y="209"/>
                        </a:lnTo>
                        <a:lnTo>
                          <a:pt x="415" y="209"/>
                        </a:lnTo>
                        <a:lnTo>
                          <a:pt x="410" y="168"/>
                        </a:lnTo>
                        <a:lnTo>
                          <a:pt x="397" y="130"/>
                        </a:lnTo>
                        <a:lnTo>
                          <a:pt x="379" y="94"/>
                        </a:lnTo>
                        <a:lnTo>
                          <a:pt x="354" y="65"/>
                        </a:lnTo>
                        <a:lnTo>
                          <a:pt x="325" y="41"/>
                        </a:lnTo>
                        <a:lnTo>
                          <a:pt x="289" y="23"/>
                        </a:lnTo>
                        <a:lnTo>
                          <a:pt x="251" y="9"/>
                        </a:lnTo>
                        <a:lnTo>
                          <a:pt x="211" y="5"/>
                        </a:lnTo>
                        <a:lnTo>
                          <a:pt x="171" y="9"/>
                        </a:lnTo>
                        <a:lnTo>
                          <a:pt x="132" y="23"/>
                        </a:lnTo>
                        <a:lnTo>
                          <a:pt x="97" y="41"/>
                        </a:lnTo>
                        <a:lnTo>
                          <a:pt x="67" y="65"/>
                        </a:lnTo>
                        <a:lnTo>
                          <a:pt x="43" y="94"/>
                        </a:lnTo>
                        <a:lnTo>
                          <a:pt x="23" y="130"/>
                        </a:lnTo>
                        <a:lnTo>
                          <a:pt x="11" y="168"/>
                        </a:lnTo>
                        <a:lnTo>
                          <a:pt x="7" y="209"/>
                        </a:lnTo>
                        <a:lnTo>
                          <a:pt x="11" y="249"/>
                        </a:lnTo>
                        <a:lnTo>
                          <a:pt x="23" y="287"/>
                        </a:lnTo>
                        <a:lnTo>
                          <a:pt x="43" y="323"/>
                        </a:lnTo>
                        <a:lnTo>
                          <a:pt x="67" y="352"/>
                        </a:lnTo>
                        <a:lnTo>
                          <a:pt x="97" y="377"/>
                        </a:lnTo>
                        <a:lnTo>
                          <a:pt x="132" y="395"/>
                        </a:lnTo>
                        <a:lnTo>
                          <a:pt x="171" y="406"/>
                        </a:lnTo>
                        <a:lnTo>
                          <a:pt x="211" y="410"/>
                        </a:lnTo>
                        <a:lnTo>
                          <a:pt x="251" y="406"/>
                        </a:lnTo>
                        <a:lnTo>
                          <a:pt x="289" y="395"/>
                        </a:lnTo>
                        <a:lnTo>
                          <a:pt x="325" y="377"/>
                        </a:lnTo>
                        <a:lnTo>
                          <a:pt x="354" y="352"/>
                        </a:lnTo>
                        <a:lnTo>
                          <a:pt x="379" y="323"/>
                        </a:lnTo>
                        <a:lnTo>
                          <a:pt x="397" y="287"/>
                        </a:lnTo>
                        <a:lnTo>
                          <a:pt x="410" y="249"/>
                        </a:lnTo>
                        <a:lnTo>
                          <a:pt x="415" y="209"/>
                        </a:lnTo>
                        <a:lnTo>
                          <a:pt x="419" y="209"/>
                        </a:lnTo>
                        <a:close/>
                      </a:path>
                    </a:pathLst>
                  </a:custGeom>
                  <a:solidFill>
                    <a:srgbClr val="f8f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58600" y="1809720"/>
                    <a:ext cx="654120" cy="65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410">
                        <a:moveTo>
                          <a:pt x="412" y="206"/>
                        </a:moveTo>
                        <a:lnTo>
                          <a:pt x="408" y="165"/>
                        </a:lnTo>
                        <a:lnTo>
                          <a:pt x="394" y="125"/>
                        </a:lnTo>
                        <a:lnTo>
                          <a:pt x="376" y="91"/>
                        </a:lnTo>
                        <a:lnTo>
                          <a:pt x="352" y="60"/>
                        </a:lnTo>
                        <a:lnTo>
                          <a:pt x="320" y="35"/>
                        </a:lnTo>
                        <a:lnTo>
                          <a:pt x="287" y="17"/>
                        </a:lnTo>
                        <a:lnTo>
                          <a:pt x="246" y="4"/>
                        </a:lnTo>
                        <a:lnTo>
                          <a:pt x="206" y="0"/>
                        </a:lnTo>
                        <a:lnTo>
                          <a:pt x="163" y="4"/>
                        </a:lnTo>
                        <a:lnTo>
                          <a:pt x="125" y="17"/>
                        </a:lnTo>
                        <a:lnTo>
                          <a:pt x="92" y="35"/>
                        </a:lnTo>
                        <a:lnTo>
                          <a:pt x="60" y="60"/>
                        </a:lnTo>
                        <a:lnTo>
                          <a:pt x="36" y="91"/>
                        </a:lnTo>
                        <a:lnTo>
                          <a:pt x="15" y="125"/>
                        </a:lnTo>
                        <a:lnTo>
                          <a:pt x="4" y="165"/>
                        </a:lnTo>
                        <a:lnTo>
                          <a:pt x="0" y="206"/>
                        </a:lnTo>
                        <a:lnTo>
                          <a:pt x="4" y="248"/>
                        </a:lnTo>
                        <a:lnTo>
                          <a:pt x="15" y="286"/>
                        </a:lnTo>
                        <a:lnTo>
                          <a:pt x="36" y="320"/>
                        </a:lnTo>
                        <a:lnTo>
                          <a:pt x="60" y="351"/>
                        </a:lnTo>
                        <a:lnTo>
                          <a:pt x="92" y="376"/>
                        </a:lnTo>
                        <a:lnTo>
                          <a:pt x="125" y="394"/>
                        </a:lnTo>
                        <a:lnTo>
                          <a:pt x="163" y="405"/>
                        </a:lnTo>
                        <a:lnTo>
                          <a:pt x="206" y="410"/>
                        </a:lnTo>
                        <a:lnTo>
                          <a:pt x="246" y="405"/>
                        </a:lnTo>
                        <a:lnTo>
                          <a:pt x="287" y="394"/>
                        </a:lnTo>
                        <a:lnTo>
                          <a:pt x="320" y="376"/>
                        </a:lnTo>
                        <a:lnTo>
                          <a:pt x="352" y="351"/>
                        </a:lnTo>
                        <a:lnTo>
                          <a:pt x="376" y="320"/>
                        </a:lnTo>
                        <a:lnTo>
                          <a:pt x="394" y="286"/>
                        </a:lnTo>
                        <a:lnTo>
                          <a:pt x="408" y="248"/>
                        </a:lnTo>
                        <a:lnTo>
                          <a:pt x="412" y="206"/>
                        </a:lnTo>
                        <a:lnTo>
                          <a:pt x="405" y="206"/>
                        </a:lnTo>
                        <a:lnTo>
                          <a:pt x="401" y="165"/>
                        </a:lnTo>
                        <a:lnTo>
                          <a:pt x="390" y="129"/>
                        </a:lnTo>
                        <a:lnTo>
                          <a:pt x="372" y="94"/>
                        </a:lnTo>
                        <a:lnTo>
                          <a:pt x="347" y="65"/>
                        </a:lnTo>
                        <a:lnTo>
                          <a:pt x="318" y="40"/>
                        </a:lnTo>
                        <a:lnTo>
                          <a:pt x="282" y="22"/>
                        </a:lnTo>
                        <a:lnTo>
                          <a:pt x="246" y="11"/>
                        </a:lnTo>
                        <a:lnTo>
                          <a:pt x="206" y="6"/>
                        </a:lnTo>
                        <a:lnTo>
                          <a:pt x="166" y="11"/>
                        </a:lnTo>
                        <a:lnTo>
                          <a:pt x="127" y="22"/>
                        </a:lnTo>
                        <a:lnTo>
                          <a:pt x="94" y="40"/>
                        </a:lnTo>
                        <a:lnTo>
                          <a:pt x="65" y="65"/>
                        </a:lnTo>
                        <a:lnTo>
                          <a:pt x="40" y="94"/>
                        </a:lnTo>
                        <a:lnTo>
                          <a:pt x="22" y="129"/>
                        </a:lnTo>
                        <a:lnTo>
                          <a:pt x="11" y="165"/>
                        </a:lnTo>
                        <a:lnTo>
                          <a:pt x="6" y="206"/>
                        </a:lnTo>
                        <a:lnTo>
                          <a:pt x="11" y="246"/>
                        </a:lnTo>
                        <a:lnTo>
                          <a:pt x="22" y="284"/>
                        </a:lnTo>
                        <a:lnTo>
                          <a:pt x="40" y="318"/>
                        </a:lnTo>
                        <a:lnTo>
                          <a:pt x="65" y="347"/>
                        </a:lnTo>
                        <a:lnTo>
                          <a:pt x="94" y="372"/>
                        </a:lnTo>
                        <a:lnTo>
                          <a:pt x="127" y="387"/>
                        </a:lnTo>
                        <a:lnTo>
                          <a:pt x="166" y="398"/>
                        </a:lnTo>
                        <a:lnTo>
                          <a:pt x="206" y="403"/>
                        </a:lnTo>
                        <a:lnTo>
                          <a:pt x="246" y="398"/>
                        </a:lnTo>
                        <a:lnTo>
                          <a:pt x="282" y="387"/>
                        </a:lnTo>
                        <a:lnTo>
                          <a:pt x="318" y="372"/>
                        </a:lnTo>
                        <a:lnTo>
                          <a:pt x="347" y="347"/>
                        </a:lnTo>
                        <a:lnTo>
                          <a:pt x="372" y="318"/>
                        </a:lnTo>
                        <a:lnTo>
                          <a:pt x="390" y="284"/>
                        </a:lnTo>
                        <a:lnTo>
                          <a:pt x="401" y="246"/>
                        </a:lnTo>
                        <a:lnTo>
                          <a:pt x="405" y="206"/>
                        </a:lnTo>
                        <a:lnTo>
                          <a:pt x="412" y="206"/>
                        </a:lnTo>
                        <a:close/>
                      </a:path>
                    </a:pathLst>
                  </a:custGeom>
                  <a:solidFill>
                    <a:srgbClr val="f8f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65080" y="1815840"/>
                    <a:ext cx="641160" cy="63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4" h="401">
                        <a:moveTo>
                          <a:pt x="404" y="202"/>
                        </a:moveTo>
                        <a:lnTo>
                          <a:pt x="399" y="161"/>
                        </a:lnTo>
                        <a:lnTo>
                          <a:pt x="388" y="123"/>
                        </a:lnTo>
                        <a:lnTo>
                          <a:pt x="368" y="90"/>
                        </a:lnTo>
                        <a:lnTo>
                          <a:pt x="343" y="61"/>
                        </a:lnTo>
                        <a:lnTo>
                          <a:pt x="314" y="36"/>
                        </a:lnTo>
                        <a:lnTo>
                          <a:pt x="280" y="16"/>
                        </a:lnTo>
                        <a:lnTo>
                          <a:pt x="242" y="4"/>
                        </a:lnTo>
                        <a:lnTo>
                          <a:pt x="202" y="0"/>
                        </a:lnTo>
                        <a:lnTo>
                          <a:pt x="162" y="4"/>
                        </a:lnTo>
                        <a:lnTo>
                          <a:pt x="123" y="16"/>
                        </a:lnTo>
                        <a:lnTo>
                          <a:pt x="90" y="36"/>
                        </a:lnTo>
                        <a:lnTo>
                          <a:pt x="58" y="61"/>
                        </a:lnTo>
                        <a:lnTo>
                          <a:pt x="34" y="90"/>
                        </a:lnTo>
                        <a:lnTo>
                          <a:pt x="16" y="123"/>
                        </a:lnTo>
                        <a:lnTo>
                          <a:pt x="5" y="161"/>
                        </a:lnTo>
                        <a:lnTo>
                          <a:pt x="0" y="202"/>
                        </a:lnTo>
                        <a:lnTo>
                          <a:pt x="5" y="242"/>
                        </a:lnTo>
                        <a:lnTo>
                          <a:pt x="16" y="280"/>
                        </a:lnTo>
                        <a:lnTo>
                          <a:pt x="34" y="314"/>
                        </a:lnTo>
                        <a:lnTo>
                          <a:pt x="58" y="345"/>
                        </a:lnTo>
                        <a:lnTo>
                          <a:pt x="90" y="370"/>
                        </a:lnTo>
                        <a:lnTo>
                          <a:pt x="123" y="385"/>
                        </a:lnTo>
                        <a:lnTo>
                          <a:pt x="162" y="397"/>
                        </a:lnTo>
                        <a:lnTo>
                          <a:pt x="202" y="401"/>
                        </a:lnTo>
                        <a:lnTo>
                          <a:pt x="242" y="397"/>
                        </a:lnTo>
                        <a:lnTo>
                          <a:pt x="280" y="385"/>
                        </a:lnTo>
                        <a:lnTo>
                          <a:pt x="314" y="370"/>
                        </a:lnTo>
                        <a:lnTo>
                          <a:pt x="343" y="345"/>
                        </a:lnTo>
                        <a:lnTo>
                          <a:pt x="368" y="314"/>
                        </a:lnTo>
                        <a:lnTo>
                          <a:pt x="388" y="280"/>
                        </a:lnTo>
                        <a:lnTo>
                          <a:pt x="399" y="242"/>
                        </a:lnTo>
                        <a:lnTo>
                          <a:pt x="404" y="202"/>
                        </a:lnTo>
                        <a:lnTo>
                          <a:pt x="397" y="202"/>
                        </a:lnTo>
                        <a:lnTo>
                          <a:pt x="392" y="164"/>
                        </a:lnTo>
                        <a:lnTo>
                          <a:pt x="381" y="125"/>
                        </a:lnTo>
                        <a:lnTo>
                          <a:pt x="363" y="94"/>
                        </a:lnTo>
                        <a:lnTo>
                          <a:pt x="339" y="65"/>
                        </a:lnTo>
                        <a:lnTo>
                          <a:pt x="309" y="40"/>
                        </a:lnTo>
                        <a:lnTo>
                          <a:pt x="278" y="22"/>
                        </a:lnTo>
                        <a:lnTo>
                          <a:pt x="240" y="11"/>
                        </a:lnTo>
                        <a:lnTo>
                          <a:pt x="202" y="7"/>
                        </a:lnTo>
                        <a:lnTo>
                          <a:pt x="162" y="11"/>
                        </a:lnTo>
                        <a:lnTo>
                          <a:pt x="126" y="22"/>
                        </a:lnTo>
                        <a:lnTo>
                          <a:pt x="92" y="40"/>
                        </a:lnTo>
                        <a:lnTo>
                          <a:pt x="63" y="65"/>
                        </a:lnTo>
                        <a:lnTo>
                          <a:pt x="41" y="94"/>
                        </a:lnTo>
                        <a:lnTo>
                          <a:pt x="23" y="125"/>
                        </a:lnTo>
                        <a:lnTo>
                          <a:pt x="11" y="164"/>
                        </a:lnTo>
                        <a:lnTo>
                          <a:pt x="7" y="202"/>
                        </a:lnTo>
                        <a:lnTo>
                          <a:pt x="11" y="242"/>
                        </a:lnTo>
                        <a:lnTo>
                          <a:pt x="23" y="278"/>
                        </a:lnTo>
                        <a:lnTo>
                          <a:pt x="41" y="312"/>
                        </a:lnTo>
                        <a:lnTo>
                          <a:pt x="63" y="341"/>
                        </a:lnTo>
                        <a:lnTo>
                          <a:pt x="92" y="363"/>
                        </a:lnTo>
                        <a:lnTo>
                          <a:pt x="126" y="381"/>
                        </a:lnTo>
                        <a:lnTo>
                          <a:pt x="162" y="390"/>
                        </a:lnTo>
                        <a:lnTo>
                          <a:pt x="202" y="394"/>
                        </a:lnTo>
                        <a:lnTo>
                          <a:pt x="240" y="390"/>
                        </a:lnTo>
                        <a:lnTo>
                          <a:pt x="278" y="381"/>
                        </a:lnTo>
                        <a:lnTo>
                          <a:pt x="309" y="363"/>
                        </a:lnTo>
                        <a:lnTo>
                          <a:pt x="339" y="341"/>
                        </a:lnTo>
                        <a:lnTo>
                          <a:pt x="363" y="312"/>
                        </a:lnTo>
                        <a:lnTo>
                          <a:pt x="381" y="278"/>
                        </a:lnTo>
                        <a:lnTo>
                          <a:pt x="392" y="242"/>
                        </a:lnTo>
                        <a:lnTo>
                          <a:pt x="397" y="202"/>
                        </a:lnTo>
                        <a:lnTo>
                          <a:pt x="404" y="202"/>
                        </a:lnTo>
                        <a:close/>
                      </a:path>
                    </a:pathLst>
                  </a:custGeom>
                  <a:solidFill>
                    <a:srgbClr val="f8f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873000" y="1822320"/>
                    <a:ext cx="625320" cy="6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393">
                        <a:moveTo>
                          <a:pt x="394" y="198"/>
                        </a:moveTo>
                        <a:lnTo>
                          <a:pt x="390" y="157"/>
                        </a:lnTo>
                        <a:lnTo>
                          <a:pt x="378" y="121"/>
                        </a:lnTo>
                        <a:lnTo>
                          <a:pt x="360" y="88"/>
                        </a:lnTo>
                        <a:lnTo>
                          <a:pt x="336" y="59"/>
                        </a:lnTo>
                        <a:lnTo>
                          <a:pt x="307" y="34"/>
                        </a:lnTo>
                        <a:lnTo>
                          <a:pt x="273" y="16"/>
                        </a:lnTo>
                        <a:lnTo>
                          <a:pt x="237" y="5"/>
                        </a:lnTo>
                        <a:lnTo>
                          <a:pt x="197" y="0"/>
                        </a:lnTo>
                        <a:lnTo>
                          <a:pt x="157" y="5"/>
                        </a:lnTo>
                        <a:lnTo>
                          <a:pt x="121" y="16"/>
                        </a:lnTo>
                        <a:lnTo>
                          <a:pt x="87" y="34"/>
                        </a:lnTo>
                        <a:lnTo>
                          <a:pt x="58" y="59"/>
                        </a:lnTo>
                        <a:lnTo>
                          <a:pt x="33" y="88"/>
                        </a:lnTo>
                        <a:lnTo>
                          <a:pt x="15" y="121"/>
                        </a:lnTo>
                        <a:lnTo>
                          <a:pt x="4" y="157"/>
                        </a:lnTo>
                        <a:lnTo>
                          <a:pt x="0" y="198"/>
                        </a:lnTo>
                        <a:lnTo>
                          <a:pt x="4" y="238"/>
                        </a:lnTo>
                        <a:lnTo>
                          <a:pt x="15" y="274"/>
                        </a:lnTo>
                        <a:lnTo>
                          <a:pt x="33" y="308"/>
                        </a:lnTo>
                        <a:lnTo>
                          <a:pt x="58" y="337"/>
                        </a:lnTo>
                        <a:lnTo>
                          <a:pt x="87" y="361"/>
                        </a:lnTo>
                        <a:lnTo>
                          <a:pt x="121" y="377"/>
                        </a:lnTo>
                        <a:lnTo>
                          <a:pt x="157" y="388"/>
                        </a:lnTo>
                        <a:lnTo>
                          <a:pt x="197" y="393"/>
                        </a:lnTo>
                        <a:lnTo>
                          <a:pt x="237" y="388"/>
                        </a:lnTo>
                        <a:lnTo>
                          <a:pt x="273" y="377"/>
                        </a:lnTo>
                        <a:lnTo>
                          <a:pt x="307" y="361"/>
                        </a:lnTo>
                        <a:lnTo>
                          <a:pt x="336" y="337"/>
                        </a:lnTo>
                        <a:lnTo>
                          <a:pt x="360" y="308"/>
                        </a:lnTo>
                        <a:lnTo>
                          <a:pt x="378" y="274"/>
                        </a:lnTo>
                        <a:lnTo>
                          <a:pt x="390" y="238"/>
                        </a:lnTo>
                        <a:lnTo>
                          <a:pt x="394" y="198"/>
                        </a:lnTo>
                        <a:lnTo>
                          <a:pt x="387" y="198"/>
                        </a:lnTo>
                        <a:lnTo>
                          <a:pt x="383" y="160"/>
                        </a:lnTo>
                        <a:lnTo>
                          <a:pt x="372" y="124"/>
                        </a:lnTo>
                        <a:lnTo>
                          <a:pt x="354" y="92"/>
                        </a:lnTo>
                        <a:lnTo>
                          <a:pt x="331" y="63"/>
                        </a:lnTo>
                        <a:lnTo>
                          <a:pt x="302" y="41"/>
                        </a:lnTo>
                        <a:lnTo>
                          <a:pt x="271" y="23"/>
                        </a:lnTo>
                        <a:lnTo>
                          <a:pt x="235" y="12"/>
                        </a:lnTo>
                        <a:lnTo>
                          <a:pt x="197" y="7"/>
                        </a:lnTo>
                        <a:lnTo>
                          <a:pt x="159" y="12"/>
                        </a:lnTo>
                        <a:lnTo>
                          <a:pt x="123" y="23"/>
                        </a:lnTo>
                        <a:lnTo>
                          <a:pt x="89" y="41"/>
                        </a:lnTo>
                        <a:lnTo>
                          <a:pt x="62" y="63"/>
                        </a:lnTo>
                        <a:lnTo>
                          <a:pt x="38" y="92"/>
                        </a:lnTo>
                        <a:lnTo>
                          <a:pt x="20" y="124"/>
                        </a:lnTo>
                        <a:lnTo>
                          <a:pt x="11" y="160"/>
                        </a:lnTo>
                        <a:lnTo>
                          <a:pt x="6" y="198"/>
                        </a:lnTo>
                        <a:lnTo>
                          <a:pt x="11" y="236"/>
                        </a:lnTo>
                        <a:lnTo>
                          <a:pt x="20" y="272"/>
                        </a:lnTo>
                        <a:lnTo>
                          <a:pt x="38" y="305"/>
                        </a:lnTo>
                        <a:lnTo>
                          <a:pt x="62" y="332"/>
                        </a:lnTo>
                        <a:lnTo>
                          <a:pt x="89" y="357"/>
                        </a:lnTo>
                        <a:lnTo>
                          <a:pt x="123" y="375"/>
                        </a:lnTo>
                        <a:lnTo>
                          <a:pt x="159" y="381"/>
                        </a:lnTo>
                        <a:lnTo>
                          <a:pt x="197" y="386"/>
                        </a:lnTo>
                        <a:lnTo>
                          <a:pt x="235" y="381"/>
                        </a:lnTo>
                        <a:lnTo>
                          <a:pt x="271" y="375"/>
                        </a:lnTo>
                        <a:lnTo>
                          <a:pt x="302" y="357"/>
                        </a:lnTo>
                        <a:lnTo>
                          <a:pt x="331" y="332"/>
                        </a:lnTo>
                        <a:lnTo>
                          <a:pt x="354" y="305"/>
                        </a:lnTo>
                        <a:lnTo>
                          <a:pt x="372" y="272"/>
                        </a:lnTo>
                        <a:lnTo>
                          <a:pt x="383" y="236"/>
                        </a:lnTo>
                        <a:lnTo>
                          <a:pt x="387" y="198"/>
                        </a:lnTo>
                        <a:lnTo>
                          <a:pt x="394" y="198"/>
                        </a:lnTo>
                        <a:close/>
                      </a:path>
                    </a:pathLst>
                  </a:custGeom>
                  <a:solidFill>
                    <a:srgbClr val="f8f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879120" y="1830240"/>
                    <a:ext cx="613080" cy="60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6" h="383">
                        <a:moveTo>
                          <a:pt x="386" y="193"/>
                        </a:moveTo>
                        <a:lnTo>
                          <a:pt x="381" y="155"/>
                        </a:lnTo>
                        <a:lnTo>
                          <a:pt x="370" y="119"/>
                        </a:lnTo>
                        <a:lnTo>
                          <a:pt x="352" y="85"/>
                        </a:lnTo>
                        <a:lnTo>
                          <a:pt x="330" y="56"/>
                        </a:lnTo>
                        <a:lnTo>
                          <a:pt x="300" y="34"/>
                        </a:lnTo>
                        <a:lnTo>
                          <a:pt x="267" y="16"/>
                        </a:lnTo>
                        <a:lnTo>
                          <a:pt x="231" y="4"/>
                        </a:lnTo>
                        <a:lnTo>
                          <a:pt x="193" y="0"/>
                        </a:lnTo>
                        <a:lnTo>
                          <a:pt x="155" y="4"/>
                        </a:lnTo>
                        <a:lnTo>
                          <a:pt x="117" y="16"/>
                        </a:lnTo>
                        <a:lnTo>
                          <a:pt x="85" y="34"/>
                        </a:lnTo>
                        <a:lnTo>
                          <a:pt x="56" y="56"/>
                        </a:lnTo>
                        <a:lnTo>
                          <a:pt x="34" y="85"/>
                        </a:lnTo>
                        <a:lnTo>
                          <a:pt x="16" y="119"/>
                        </a:lnTo>
                        <a:lnTo>
                          <a:pt x="5" y="155"/>
                        </a:lnTo>
                        <a:lnTo>
                          <a:pt x="0" y="193"/>
                        </a:lnTo>
                        <a:lnTo>
                          <a:pt x="5" y="231"/>
                        </a:lnTo>
                        <a:lnTo>
                          <a:pt x="16" y="269"/>
                        </a:lnTo>
                        <a:lnTo>
                          <a:pt x="34" y="300"/>
                        </a:lnTo>
                        <a:lnTo>
                          <a:pt x="56" y="329"/>
                        </a:lnTo>
                        <a:lnTo>
                          <a:pt x="85" y="352"/>
                        </a:lnTo>
                        <a:lnTo>
                          <a:pt x="117" y="370"/>
                        </a:lnTo>
                        <a:lnTo>
                          <a:pt x="155" y="379"/>
                        </a:lnTo>
                        <a:lnTo>
                          <a:pt x="193" y="383"/>
                        </a:lnTo>
                        <a:lnTo>
                          <a:pt x="231" y="379"/>
                        </a:lnTo>
                        <a:lnTo>
                          <a:pt x="267" y="370"/>
                        </a:lnTo>
                        <a:lnTo>
                          <a:pt x="300" y="352"/>
                        </a:lnTo>
                        <a:lnTo>
                          <a:pt x="330" y="329"/>
                        </a:lnTo>
                        <a:lnTo>
                          <a:pt x="352" y="300"/>
                        </a:lnTo>
                        <a:lnTo>
                          <a:pt x="370" y="269"/>
                        </a:lnTo>
                        <a:lnTo>
                          <a:pt x="381" y="231"/>
                        </a:lnTo>
                        <a:lnTo>
                          <a:pt x="386" y="193"/>
                        </a:lnTo>
                        <a:lnTo>
                          <a:pt x="379" y="193"/>
                        </a:lnTo>
                        <a:lnTo>
                          <a:pt x="374" y="155"/>
                        </a:lnTo>
                        <a:lnTo>
                          <a:pt x="363" y="121"/>
                        </a:lnTo>
                        <a:lnTo>
                          <a:pt x="348" y="90"/>
                        </a:lnTo>
                        <a:lnTo>
                          <a:pt x="325" y="60"/>
                        </a:lnTo>
                        <a:lnTo>
                          <a:pt x="296" y="38"/>
                        </a:lnTo>
                        <a:lnTo>
                          <a:pt x="265" y="22"/>
                        </a:lnTo>
                        <a:lnTo>
                          <a:pt x="231" y="11"/>
                        </a:lnTo>
                        <a:lnTo>
                          <a:pt x="193" y="7"/>
                        </a:lnTo>
                        <a:lnTo>
                          <a:pt x="155" y="11"/>
                        </a:lnTo>
                        <a:lnTo>
                          <a:pt x="121" y="22"/>
                        </a:lnTo>
                        <a:lnTo>
                          <a:pt x="88" y="38"/>
                        </a:lnTo>
                        <a:lnTo>
                          <a:pt x="61" y="60"/>
                        </a:lnTo>
                        <a:lnTo>
                          <a:pt x="38" y="90"/>
                        </a:lnTo>
                        <a:lnTo>
                          <a:pt x="20" y="121"/>
                        </a:lnTo>
                        <a:lnTo>
                          <a:pt x="9" y="155"/>
                        </a:lnTo>
                        <a:lnTo>
                          <a:pt x="7" y="193"/>
                        </a:lnTo>
                        <a:lnTo>
                          <a:pt x="9" y="231"/>
                        </a:lnTo>
                        <a:lnTo>
                          <a:pt x="20" y="264"/>
                        </a:lnTo>
                        <a:lnTo>
                          <a:pt x="38" y="298"/>
                        </a:lnTo>
                        <a:lnTo>
                          <a:pt x="61" y="325"/>
                        </a:lnTo>
                        <a:lnTo>
                          <a:pt x="88" y="347"/>
                        </a:lnTo>
                        <a:lnTo>
                          <a:pt x="121" y="365"/>
                        </a:lnTo>
                        <a:lnTo>
                          <a:pt x="155" y="374"/>
                        </a:lnTo>
                        <a:lnTo>
                          <a:pt x="193" y="376"/>
                        </a:lnTo>
                        <a:lnTo>
                          <a:pt x="231" y="374"/>
                        </a:lnTo>
                        <a:lnTo>
                          <a:pt x="265" y="365"/>
                        </a:lnTo>
                        <a:lnTo>
                          <a:pt x="296" y="347"/>
                        </a:lnTo>
                        <a:lnTo>
                          <a:pt x="325" y="325"/>
                        </a:lnTo>
                        <a:lnTo>
                          <a:pt x="348" y="298"/>
                        </a:lnTo>
                        <a:lnTo>
                          <a:pt x="363" y="264"/>
                        </a:lnTo>
                        <a:lnTo>
                          <a:pt x="374" y="231"/>
                        </a:lnTo>
                        <a:lnTo>
                          <a:pt x="379" y="193"/>
                        </a:lnTo>
                        <a:lnTo>
                          <a:pt x="386" y="193"/>
                        </a:lnTo>
                        <a:close/>
                      </a:path>
                    </a:pathLst>
                  </a:custGeom>
                  <a:solidFill>
                    <a:srgbClr val="f8f0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87400" y="1836720"/>
                    <a:ext cx="5968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76" h="375">
                        <a:moveTo>
                          <a:pt x="376" y="189"/>
                        </a:moveTo>
                        <a:lnTo>
                          <a:pt x="372" y="151"/>
                        </a:lnTo>
                        <a:lnTo>
                          <a:pt x="360" y="115"/>
                        </a:lnTo>
                        <a:lnTo>
                          <a:pt x="345" y="83"/>
                        </a:lnTo>
                        <a:lnTo>
                          <a:pt x="320" y="56"/>
                        </a:lnTo>
                        <a:lnTo>
                          <a:pt x="293" y="32"/>
                        </a:lnTo>
                        <a:lnTo>
                          <a:pt x="262" y="16"/>
                        </a:lnTo>
                        <a:lnTo>
                          <a:pt x="226" y="5"/>
                        </a:lnTo>
                        <a:lnTo>
                          <a:pt x="188" y="0"/>
                        </a:lnTo>
                        <a:lnTo>
                          <a:pt x="150" y="5"/>
                        </a:lnTo>
                        <a:lnTo>
                          <a:pt x="114" y="16"/>
                        </a:lnTo>
                        <a:lnTo>
                          <a:pt x="83" y="32"/>
                        </a:lnTo>
                        <a:lnTo>
                          <a:pt x="53" y="56"/>
                        </a:lnTo>
                        <a:lnTo>
                          <a:pt x="31" y="83"/>
                        </a:lnTo>
                        <a:lnTo>
                          <a:pt x="13" y="115"/>
                        </a:lnTo>
                        <a:lnTo>
                          <a:pt x="4" y="151"/>
                        </a:lnTo>
                        <a:lnTo>
                          <a:pt x="0" y="189"/>
                        </a:lnTo>
                        <a:lnTo>
                          <a:pt x="4" y="227"/>
                        </a:lnTo>
                        <a:lnTo>
                          <a:pt x="13" y="263"/>
                        </a:lnTo>
                        <a:lnTo>
                          <a:pt x="31" y="294"/>
                        </a:lnTo>
                        <a:lnTo>
                          <a:pt x="53" y="323"/>
                        </a:lnTo>
                        <a:lnTo>
                          <a:pt x="83" y="346"/>
                        </a:lnTo>
                        <a:lnTo>
                          <a:pt x="114" y="364"/>
                        </a:lnTo>
                        <a:lnTo>
                          <a:pt x="150" y="370"/>
                        </a:lnTo>
                        <a:lnTo>
                          <a:pt x="188" y="375"/>
                        </a:lnTo>
                        <a:lnTo>
                          <a:pt x="226" y="370"/>
                        </a:lnTo>
                        <a:lnTo>
                          <a:pt x="262" y="364"/>
                        </a:lnTo>
                        <a:lnTo>
                          <a:pt x="293" y="346"/>
                        </a:lnTo>
                        <a:lnTo>
                          <a:pt x="320" y="323"/>
                        </a:lnTo>
                        <a:lnTo>
                          <a:pt x="345" y="294"/>
                        </a:lnTo>
                        <a:lnTo>
                          <a:pt x="360" y="263"/>
                        </a:lnTo>
                        <a:lnTo>
                          <a:pt x="372" y="227"/>
                        </a:lnTo>
                        <a:lnTo>
                          <a:pt x="376" y="189"/>
                        </a:lnTo>
                        <a:lnTo>
                          <a:pt x="369" y="189"/>
                        </a:lnTo>
                        <a:lnTo>
                          <a:pt x="367" y="153"/>
                        </a:lnTo>
                        <a:lnTo>
                          <a:pt x="356" y="119"/>
                        </a:lnTo>
                        <a:lnTo>
                          <a:pt x="338" y="88"/>
                        </a:lnTo>
                        <a:lnTo>
                          <a:pt x="316" y="61"/>
                        </a:lnTo>
                        <a:lnTo>
                          <a:pt x="289" y="39"/>
                        </a:lnTo>
                        <a:lnTo>
                          <a:pt x="257" y="21"/>
                        </a:lnTo>
                        <a:lnTo>
                          <a:pt x="224" y="9"/>
                        </a:lnTo>
                        <a:lnTo>
                          <a:pt x="188" y="7"/>
                        </a:lnTo>
                        <a:lnTo>
                          <a:pt x="152" y="9"/>
                        </a:lnTo>
                        <a:lnTo>
                          <a:pt x="116" y="21"/>
                        </a:lnTo>
                        <a:lnTo>
                          <a:pt x="85" y="39"/>
                        </a:lnTo>
                        <a:lnTo>
                          <a:pt x="58" y="61"/>
                        </a:lnTo>
                        <a:lnTo>
                          <a:pt x="35" y="88"/>
                        </a:lnTo>
                        <a:lnTo>
                          <a:pt x="20" y="119"/>
                        </a:lnTo>
                        <a:lnTo>
                          <a:pt x="9" y="153"/>
                        </a:lnTo>
                        <a:lnTo>
                          <a:pt x="6" y="189"/>
                        </a:lnTo>
                        <a:lnTo>
                          <a:pt x="9" y="225"/>
                        </a:lnTo>
                        <a:lnTo>
                          <a:pt x="20" y="260"/>
                        </a:lnTo>
                        <a:lnTo>
                          <a:pt x="35" y="292"/>
                        </a:lnTo>
                        <a:lnTo>
                          <a:pt x="58" y="319"/>
                        </a:lnTo>
                        <a:lnTo>
                          <a:pt x="85" y="341"/>
                        </a:lnTo>
                        <a:lnTo>
                          <a:pt x="116" y="357"/>
                        </a:lnTo>
                        <a:lnTo>
                          <a:pt x="152" y="368"/>
                        </a:lnTo>
                        <a:lnTo>
                          <a:pt x="188" y="368"/>
                        </a:lnTo>
                        <a:lnTo>
                          <a:pt x="224" y="368"/>
                        </a:lnTo>
                        <a:lnTo>
                          <a:pt x="257" y="357"/>
                        </a:lnTo>
                        <a:lnTo>
                          <a:pt x="289" y="341"/>
                        </a:lnTo>
                        <a:lnTo>
                          <a:pt x="316" y="319"/>
                        </a:lnTo>
                        <a:lnTo>
                          <a:pt x="338" y="292"/>
                        </a:lnTo>
                        <a:lnTo>
                          <a:pt x="356" y="260"/>
                        </a:lnTo>
                        <a:lnTo>
                          <a:pt x="367" y="225"/>
                        </a:lnTo>
                        <a:lnTo>
                          <a:pt x="369" y="189"/>
                        </a:lnTo>
                        <a:lnTo>
                          <a:pt x="376" y="189"/>
                        </a:lnTo>
                        <a:close/>
                      </a:path>
                    </a:pathLst>
                  </a:custGeom>
                  <a:solidFill>
                    <a:srgbClr val="f8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893520" y="1844640"/>
                    <a:ext cx="584280" cy="57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365">
                        <a:moveTo>
                          <a:pt x="368" y="184"/>
                        </a:moveTo>
                        <a:lnTo>
                          <a:pt x="363" y="148"/>
                        </a:lnTo>
                        <a:lnTo>
                          <a:pt x="354" y="112"/>
                        </a:lnTo>
                        <a:lnTo>
                          <a:pt x="336" y="81"/>
                        </a:lnTo>
                        <a:lnTo>
                          <a:pt x="314" y="54"/>
                        </a:lnTo>
                        <a:lnTo>
                          <a:pt x="287" y="31"/>
                        </a:lnTo>
                        <a:lnTo>
                          <a:pt x="256" y="13"/>
                        </a:lnTo>
                        <a:lnTo>
                          <a:pt x="220" y="4"/>
                        </a:lnTo>
                        <a:lnTo>
                          <a:pt x="184" y="0"/>
                        </a:lnTo>
                        <a:lnTo>
                          <a:pt x="146" y="4"/>
                        </a:lnTo>
                        <a:lnTo>
                          <a:pt x="112" y="13"/>
                        </a:lnTo>
                        <a:lnTo>
                          <a:pt x="81" y="31"/>
                        </a:lnTo>
                        <a:lnTo>
                          <a:pt x="54" y="54"/>
                        </a:lnTo>
                        <a:lnTo>
                          <a:pt x="31" y="81"/>
                        </a:lnTo>
                        <a:lnTo>
                          <a:pt x="14" y="112"/>
                        </a:lnTo>
                        <a:lnTo>
                          <a:pt x="2" y="148"/>
                        </a:lnTo>
                        <a:lnTo>
                          <a:pt x="0" y="184"/>
                        </a:lnTo>
                        <a:lnTo>
                          <a:pt x="2" y="222"/>
                        </a:lnTo>
                        <a:lnTo>
                          <a:pt x="14" y="255"/>
                        </a:lnTo>
                        <a:lnTo>
                          <a:pt x="31" y="287"/>
                        </a:lnTo>
                        <a:lnTo>
                          <a:pt x="54" y="314"/>
                        </a:lnTo>
                        <a:lnTo>
                          <a:pt x="81" y="336"/>
                        </a:lnTo>
                        <a:lnTo>
                          <a:pt x="112" y="354"/>
                        </a:lnTo>
                        <a:lnTo>
                          <a:pt x="146" y="363"/>
                        </a:lnTo>
                        <a:lnTo>
                          <a:pt x="184" y="365"/>
                        </a:lnTo>
                        <a:lnTo>
                          <a:pt x="220" y="363"/>
                        </a:lnTo>
                        <a:lnTo>
                          <a:pt x="256" y="354"/>
                        </a:lnTo>
                        <a:lnTo>
                          <a:pt x="287" y="336"/>
                        </a:lnTo>
                        <a:lnTo>
                          <a:pt x="314" y="314"/>
                        </a:lnTo>
                        <a:lnTo>
                          <a:pt x="336" y="287"/>
                        </a:lnTo>
                        <a:lnTo>
                          <a:pt x="354" y="255"/>
                        </a:lnTo>
                        <a:lnTo>
                          <a:pt x="363" y="222"/>
                        </a:lnTo>
                        <a:lnTo>
                          <a:pt x="368" y="184"/>
                        </a:lnTo>
                        <a:lnTo>
                          <a:pt x="361" y="184"/>
                        </a:lnTo>
                        <a:lnTo>
                          <a:pt x="359" y="148"/>
                        </a:lnTo>
                        <a:lnTo>
                          <a:pt x="347" y="114"/>
                        </a:lnTo>
                        <a:lnTo>
                          <a:pt x="332" y="85"/>
                        </a:lnTo>
                        <a:lnTo>
                          <a:pt x="309" y="58"/>
                        </a:lnTo>
                        <a:lnTo>
                          <a:pt x="282" y="36"/>
                        </a:lnTo>
                        <a:lnTo>
                          <a:pt x="253" y="20"/>
                        </a:lnTo>
                        <a:lnTo>
                          <a:pt x="220" y="9"/>
                        </a:lnTo>
                        <a:lnTo>
                          <a:pt x="184" y="7"/>
                        </a:lnTo>
                        <a:lnTo>
                          <a:pt x="148" y="9"/>
                        </a:lnTo>
                        <a:lnTo>
                          <a:pt x="114" y="20"/>
                        </a:lnTo>
                        <a:lnTo>
                          <a:pt x="83" y="36"/>
                        </a:lnTo>
                        <a:lnTo>
                          <a:pt x="58" y="58"/>
                        </a:lnTo>
                        <a:lnTo>
                          <a:pt x="36" y="85"/>
                        </a:lnTo>
                        <a:lnTo>
                          <a:pt x="20" y="114"/>
                        </a:lnTo>
                        <a:lnTo>
                          <a:pt x="9" y="148"/>
                        </a:lnTo>
                        <a:lnTo>
                          <a:pt x="5" y="184"/>
                        </a:lnTo>
                        <a:lnTo>
                          <a:pt x="9" y="220"/>
                        </a:lnTo>
                        <a:lnTo>
                          <a:pt x="20" y="253"/>
                        </a:lnTo>
                        <a:lnTo>
                          <a:pt x="36" y="285"/>
                        </a:lnTo>
                        <a:lnTo>
                          <a:pt x="58" y="309"/>
                        </a:lnTo>
                        <a:lnTo>
                          <a:pt x="83" y="332"/>
                        </a:lnTo>
                        <a:lnTo>
                          <a:pt x="114" y="347"/>
                        </a:lnTo>
                        <a:lnTo>
                          <a:pt x="148" y="359"/>
                        </a:lnTo>
                        <a:lnTo>
                          <a:pt x="184" y="363"/>
                        </a:lnTo>
                        <a:lnTo>
                          <a:pt x="220" y="359"/>
                        </a:lnTo>
                        <a:lnTo>
                          <a:pt x="253" y="347"/>
                        </a:lnTo>
                        <a:lnTo>
                          <a:pt x="282" y="332"/>
                        </a:lnTo>
                        <a:lnTo>
                          <a:pt x="309" y="309"/>
                        </a:lnTo>
                        <a:lnTo>
                          <a:pt x="332" y="285"/>
                        </a:lnTo>
                        <a:lnTo>
                          <a:pt x="347" y="253"/>
                        </a:lnTo>
                        <a:lnTo>
                          <a:pt x="359" y="220"/>
                        </a:lnTo>
                        <a:lnTo>
                          <a:pt x="361" y="184"/>
                        </a:lnTo>
                        <a:lnTo>
                          <a:pt x="368" y="184"/>
                        </a:lnTo>
                        <a:close/>
                      </a:path>
                    </a:pathLst>
                  </a:custGeom>
                  <a:solidFill>
                    <a:srgbClr val="f8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01440" y="1850760"/>
                    <a:ext cx="56844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359">
                        <a:moveTo>
                          <a:pt x="358" y="180"/>
                        </a:moveTo>
                        <a:lnTo>
                          <a:pt x="356" y="144"/>
                        </a:lnTo>
                        <a:lnTo>
                          <a:pt x="345" y="110"/>
                        </a:lnTo>
                        <a:lnTo>
                          <a:pt x="327" y="79"/>
                        </a:lnTo>
                        <a:lnTo>
                          <a:pt x="307" y="52"/>
                        </a:lnTo>
                        <a:lnTo>
                          <a:pt x="280" y="32"/>
                        </a:lnTo>
                        <a:lnTo>
                          <a:pt x="248" y="14"/>
                        </a:lnTo>
                        <a:lnTo>
                          <a:pt x="215" y="3"/>
                        </a:lnTo>
                        <a:lnTo>
                          <a:pt x="179" y="0"/>
                        </a:lnTo>
                        <a:lnTo>
                          <a:pt x="143" y="3"/>
                        </a:lnTo>
                        <a:lnTo>
                          <a:pt x="109" y="14"/>
                        </a:lnTo>
                        <a:lnTo>
                          <a:pt x="78" y="32"/>
                        </a:lnTo>
                        <a:lnTo>
                          <a:pt x="51" y="52"/>
                        </a:lnTo>
                        <a:lnTo>
                          <a:pt x="29" y="79"/>
                        </a:lnTo>
                        <a:lnTo>
                          <a:pt x="13" y="110"/>
                        </a:lnTo>
                        <a:lnTo>
                          <a:pt x="2" y="144"/>
                        </a:lnTo>
                        <a:lnTo>
                          <a:pt x="0" y="180"/>
                        </a:lnTo>
                        <a:lnTo>
                          <a:pt x="2" y="216"/>
                        </a:lnTo>
                        <a:lnTo>
                          <a:pt x="13" y="249"/>
                        </a:lnTo>
                        <a:lnTo>
                          <a:pt x="29" y="281"/>
                        </a:lnTo>
                        <a:lnTo>
                          <a:pt x="51" y="307"/>
                        </a:lnTo>
                        <a:lnTo>
                          <a:pt x="78" y="330"/>
                        </a:lnTo>
                        <a:lnTo>
                          <a:pt x="109" y="346"/>
                        </a:lnTo>
                        <a:lnTo>
                          <a:pt x="143" y="357"/>
                        </a:lnTo>
                        <a:lnTo>
                          <a:pt x="179" y="359"/>
                        </a:lnTo>
                        <a:lnTo>
                          <a:pt x="215" y="357"/>
                        </a:lnTo>
                        <a:lnTo>
                          <a:pt x="248" y="346"/>
                        </a:lnTo>
                        <a:lnTo>
                          <a:pt x="280" y="330"/>
                        </a:lnTo>
                        <a:lnTo>
                          <a:pt x="307" y="307"/>
                        </a:lnTo>
                        <a:lnTo>
                          <a:pt x="327" y="281"/>
                        </a:lnTo>
                        <a:lnTo>
                          <a:pt x="345" y="249"/>
                        </a:lnTo>
                        <a:lnTo>
                          <a:pt x="356" y="216"/>
                        </a:lnTo>
                        <a:lnTo>
                          <a:pt x="358" y="180"/>
                        </a:lnTo>
                        <a:lnTo>
                          <a:pt x="351" y="180"/>
                        </a:lnTo>
                        <a:lnTo>
                          <a:pt x="349" y="144"/>
                        </a:lnTo>
                        <a:lnTo>
                          <a:pt x="338" y="112"/>
                        </a:lnTo>
                        <a:lnTo>
                          <a:pt x="322" y="83"/>
                        </a:lnTo>
                        <a:lnTo>
                          <a:pt x="302" y="56"/>
                        </a:lnTo>
                        <a:lnTo>
                          <a:pt x="275" y="36"/>
                        </a:lnTo>
                        <a:lnTo>
                          <a:pt x="246" y="21"/>
                        </a:lnTo>
                        <a:lnTo>
                          <a:pt x="215" y="9"/>
                        </a:lnTo>
                        <a:lnTo>
                          <a:pt x="179" y="7"/>
                        </a:lnTo>
                        <a:lnTo>
                          <a:pt x="143" y="9"/>
                        </a:lnTo>
                        <a:lnTo>
                          <a:pt x="112" y="21"/>
                        </a:lnTo>
                        <a:lnTo>
                          <a:pt x="83" y="36"/>
                        </a:lnTo>
                        <a:lnTo>
                          <a:pt x="56" y="56"/>
                        </a:lnTo>
                        <a:lnTo>
                          <a:pt x="35" y="83"/>
                        </a:lnTo>
                        <a:lnTo>
                          <a:pt x="18" y="112"/>
                        </a:lnTo>
                        <a:lnTo>
                          <a:pt x="9" y="144"/>
                        </a:lnTo>
                        <a:lnTo>
                          <a:pt x="4" y="180"/>
                        </a:lnTo>
                        <a:lnTo>
                          <a:pt x="9" y="216"/>
                        </a:lnTo>
                        <a:lnTo>
                          <a:pt x="18" y="247"/>
                        </a:lnTo>
                        <a:lnTo>
                          <a:pt x="35" y="276"/>
                        </a:lnTo>
                        <a:lnTo>
                          <a:pt x="56" y="303"/>
                        </a:lnTo>
                        <a:lnTo>
                          <a:pt x="83" y="323"/>
                        </a:lnTo>
                        <a:lnTo>
                          <a:pt x="112" y="341"/>
                        </a:lnTo>
                        <a:lnTo>
                          <a:pt x="143" y="350"/>
                        </a:lnTo>
                        <a:lnTo>
                          <a:pt x="179" y="355"/>
                        </a:lnTo>
                        <a:lnTo>
                          <a:pt x="215" y="350"/>
                        </a:lnTo>
                        <a:lnTo>
                          <a:pt x="246" y="341"/>
                        </a:lnTo>
                        <a:lnTo>
                          <a:pt x="275" y="323"/>
                        </a:lnTo>
                        <a:lnTo>
                          <a:pt x="302" y="303"/>
                        </a:lnTo>
                        <a:lnTo>
                          <a:pt x="322" y="276"/>
                        </a:lnTo>
                        <a:lnTo>
                          <a:pt x="338" y="247"/>
                        </a:lnTo>
                        <a:lnTo>
                          <a:pt x="349" y="216"/>
                        </a:lnTo>
                        <a:lnTo>
                          <a:pt x="351" y="180"/>
                        </a:lnTo>
                        <a:lnTo>
                          <a:pt x="358" y="180"/>
                        </a:lnTo>
                        <a:close/>
                      </a:path>
                    </a:pathLst>
                  </a:custGeom>
                  <a:solidFill>
                    <a:srgbClr val="f8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04680" y="1858680"/>
                    <a:ext cx="55872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352">
                        <a:moveTo>
                          <a:pt x="352" y="175"/>
                        </a:moveTo>
                        <a:lnTo>
                          <a:pt x="349" y="139"/>
                        </a:lnTo>
                        <a:lnTo>
                          <a:pt x="338" y="107"/>
                        </a:lnTo>
                        <a:lnTo>
                          <a:pt x="323" y="76"/>
                        </a:lnTo>
                        <a:lnTo>
                          <a:pt x="300" y="51"/>
                        </a:lnTo>
                        <a:lnTo>
                          <a:pt x="275" y="29"/>
                        </a:lnTo>
                        <a:lnTo>
                          <a:pt x="244" y="13"/>
                        </a:lnTo>
                        <a:lnTo>
                          <a:pt x="213" y="2"/>
                        </a:lnTo>
                        <a:lnTo>
                          <a:pt x="177" y="0"/>
                        </a:lnTo>
                        <a:lnTo>
                          <a:pt x="141" y="2"/>
                        </a:lnTo>
                        <a:lnTo>
                          <a:pt x="107" y="13"/>
                        </a:lnTo>
                        <a:lnTo>
                          <a:pt x="78" y="29"/>
                        </a:lnTo>
                        <a:lnTo>
                          <a:pt x="51" y="51"/>
                        </a:lnTo>
                        <a:lnTo>
                          <a:pt x="31" y="76"/>
                        </a:lnTo>
                        <a:lnTo>
                          <a:pt x="16" y="107"/>
                        </a:lnTo>
                        <a:lnTo>
                          <a:pt x="4" y="139"/>
                        </a:lnTo>
                        <a:lnTo>
                          <a:pt x="0" y="175"/>
                        </a:lnTo>
                        <a:lnTo>
                          <a:pt x="4" y="211"/>
                        </a:lnTo>
                        <a:lnTo>
                          <a:pt x="16" y="244"/>
                        </a:lnTo>
                        <a:lnTo>
                          <a:pt x="31" y="273"/>
                        </a:lnTo>
                        <a:lnTo>
                          <a:pt x="51" y="300"/>
                        </a:lnTo>
                        <a:lnTo>
                          <a:pt x="78" y="320"/>
                        </a:lnTo>
                        <a:lnTo>
                          <a:pt x="107" y="336"/>
                        </a:lnTo>
                        <a:lnTo>
                          <a:pt x="141" y="347"/>
                        </a:lnTo>
                        <a:lnTo>
                          <a:pt x="177" y="352"/>
                        </a:lnTo>
                        <a:lnTo>
                          <a:pt x="213" y="347"/>
                        </a:lnTo>
                        <a:lnTo>
                          <a:pt x="244" y="336"/>
                        </a:lnTo>
                        <a:lnTo>
                          <a:pt x="275" y="320"/>
                        </a:lnTo>
                        <a:lnTo>
                          <a:pt x="300" y="300"/>
                        </a:lnTo>
                        <a:lnTo>
                          <a:pt x="323" y="273"/>
                        </a:lnTo>
                        <a:lnTo>
                          <a:pt x="338" y="244"/>
                        </a:lnTo>
                        <a:lnTo>
                          <a:pt x="349" y="211"/>
                        </a:lnTo>
                        <a:lnTo>
                          <a:pt x="352" y="175"/>
                        </a:lnTo>
                        <a:lnTo>
                          <a:pt x="345" y="175"/>
                        </a:lnTo>
                        <a:lnTo>
                          <a:pt x="343" y="141"/>
                        </a:lnTo>
                        <a:lnTo>
                          <a:pt x="334" y="110"/>
                        </a:lnTo>
                        <a:lnTo>
                          <a:pt x="318" y="81"/>
                        </a:lnTo>
                        <a:lnTo>
                          <a:pt x="296" y="56"/>
                        </a:lnTo>
                        <a:lnTo>
                          <a:pt x="271" y="34"/>
                        </a:lnTo>
                        <a:lnTo>
                          <a:pt x="242" y="18"/>
                        </a:lnTo>
                        <a:lnTo>
                          <a:pt x="210" y="9"/>
                        </a:lnTo>
                        <a:lnTo>
                          <a:pt x="177" y="7"/>
                        </a:lnTo>
                        <a:lnTo>
                          <a:pt x="143" y="9"/>
                        </a:lnTo>
                        <a:lnTo>
                          <a:pt x="112" y="18"/>
                        </a:lnTo>
                        <a:lnTo>
                          <a:pt x="83" y="34"/>
                        </a:lnTo>
                        <a:lnTo>
                          <a:pt x="56" y="56"/>
                        </a:lnTo>
                        <a:lnTo>
                          <a:pt x="36" y="81"/>
                        </a:lnTo>
                        <a:lnTo>
                          <a:pt x="20" y="110"/>
                        </a:lnTo>
                        <a:lnTo>
                          <a:pt x="11" y="141"/>
                        </a:lnTo>
                        <a:lnTo>
                          <a:pt x="7" y="175"/>
                        </a:lnTo>
                        <a:lnTo>
                          <a:pt x="11" y="208"/>
                        </a:lnTo>
                        <a:lnTo>
                          <a:pt x="20" y="240"/>
                        </a:lnTo>
                        <a:lnTo>
                          <a:pt x="36" y="269"/>
                        </a:lnTo>
                        <a:lnTo>
                          <a:pt x="56" y="296"/>
                        </a:lnTo>
                        <a:lnTo>
                          <a:pt x="83" y="316"/>
                        </a:lnTo>
                        <a:lnTo>
                          <a:pt x="112" y="332"/>
                        </a:lnTo>
                        <a:lnTo>
                          <a:pt x="143" y="341"/>
                        </a:lnTo>
                        <a:lnTo>
                          <a:pt x="177" y="345"/>
                        </a:lnTo>
                        <a:lnTo>
                          <a:pt x="210" y="341"/>
                        </a:lnTo>
                        <a:lnTo>
                          <a:pt x="242" y="332"/>
                        </a:lnTo>
                        <a:lnTo>
                          <a:pt x="271" y="316"/>
                        </a:lnTo>
                        <a:lnTo>
                          <a:pt x="296" y="296"/>
                        </a:lnTo>
                        <a:lnTo>
                          <a:pt x="318" y="269"/>
                        </a:lnTo>
                        <a:lnTo>
                          <a:pt x="334" y="240"/>
                        </a:lnTo>
                        <a:lnTo>
                          <a:pt x="343" y="208"/>
                        </a:lnTo>
                        <a:lnTo>
                          <a:pt x="345" y="175"/>
                        </a:lnTo>
                        <a:lnTo>
                          <a:pt x="352" y="175"/>
                        </a:lnTo>
                        <a:close/>
                      </a:path>
                    </a:pathLst>
                  </a:custGeom>
                  <a:solidFill>
                    <a:srgbClr val="f8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11160" y="1865160"/>
                    <a:ext cx="544320" cy="54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343">
                        <a:moveTo>
                          <a:pt x="343" y="171"/>
                        </a:moveTo>
                        <a:lnTo>
                          <a:pt x="341" y="137"/>
                        </a:lnTo>
                        <a:lnTo>
                          <a:pt x="330" y="103"/>
                        </a:lnTo>
                        <a:lnTo>
                          <a:pt x="314" y="74"/>
                        </a:lnTo>
                        <a:lnTo>
                          <a:pt x="294" y="50"/>
                        </a:lnTo>
                        <a:lnTo>
                          <a:pt x="269" y="30"/>
                        </a:lnTo>
                        <a:lnTo>
                          <a:pt x="240" y="14"/>
                        </a:lnTo>
                        <a:lnTo>
                          <a:pt x="206" y="3"/>
                        </a:lnTo>
                        <a:lnTo>
                          <a:pt x="173" y="0"/>
                        </a:lnTo>
                        <a:lnTo>
                          <a:pt x="137" y="3"/>
                        </a:lnTo>
                        <a:lnTo>
                          <a:pt x="106" y="14"/>
                        </a:lnTo>
                        <a:lnTo>
                          <a:pt x="77" y="30"/>
                        </a:lnTo>
                        <a:lnTo>
                          <a:pt x="52" y="50"/>
                        </a:lnTo>
                        <a:lnTo>
                          <a:pt x="29" y="74"/>
                        </a:lnTo>
                        <a:lnTo>
                          <a:pt x="14" y="103"/>
                        </a:lnTo>
                        <a:lnTo>
                          <a:pt x="5" y="137"/>
                        </a:lnTo>
                        <a:lnTo>
                          <a:pt x="0" y="171"/>
                        </a:lnTo>
                        <a:lnTo>
                          <a:pt x="5" y="207"/>
                        </a:lnTo>
                        <a:lnTo>
                          <a:pt x="14" y="238"/>
                        </a:lnTo>
                        <a:lnTo>
                          <a:pt x="29" y="267"/>
                        </a:lnTo>
                        <a:lnTo>
                          <a:pt x="52" y="292"/>
                        </a:lnTo>
                        <a:lnTo>
                          <a:pt x="77" y="314"/>
                        </a:lnTo>
                        <a:lnTo>
                          <a:pt x="106" y="330"/>
                        </a:lnTo>
                        <a:lnTo>
                          <a:pt x="137" y="339"/>
                        </a:lnTo>
                        <a:lnTo>
                          <a:pt x="173" y="343"/>
                        </a:lnTo>
                        <a:lnTo>
                          <a:pt x="206" y="339"/>
                        </a:lnTo>
                        <a:lnTo>
                          <a:pt x="240" y="330"/>
                        </a:lnTo>
                        <a:lnTo>
                          <a:pt x="269" y="314"/>
                        </a:lnTo>
                        <a:lnTo>
                          <a:pt x="294" y="292"/>
                        </a:lnTo>
                        <a:lnTo>
                          <a:pt x="314" y="267"/>
                        </a:lnTo>
                        <a:lnTo>
                          <a:pt x="330" y="238"/>
                        </a:lnTo>
                        <a:lnTo>
                          <a:pt x="341" y="207"/>
                        </a:lnTo>
                        <a:lnTo>
                          <a:pt x="343" y="171"/>
                        </a:lnTo>
                        <a:lnTo>
                          <a:pt x="339" y="171"/>
                        </a:lnTo>
                        <a:lnTo>
                          <a:pt x="334" y="137"/>
                        </a:lnTo>
                        <a:lnTo>
                          <a:pt x="325" y="106"/>
                        </a:lnTo>
                        <a:lnTo>
                          <a:pt x="310" y="79"/>
                        </a:lnTo>
                        <a:lnTo>
                          <a:pt x="289" y="54"/>
                        </a:lnTo>
                        <a:lnTo>
                          <a:pt x="265" y="34"/>
                        </a:lnTo>
                        <a:lnTo>
                          <a:pt x="238" y="18"/>
                        </a:lnTo>
                        <a:lnTo>
                          <a:pt x="206" y="9"/>
                        </a:lnTo>
                        <a:lnTo>
                          <a:pt x="173" y="5"/>
                        </a:lnTo>
                        <a:lnTo>
                          <a:pt x="139" y="9"/>
                        </a:lnTo>
                        <a:lnTo>
                          <a:pt x="108" y="18"/>
                        </a:lnTo>
                        <a:lnTo>
                          <a:pt x="81" y="34"/>
                        </a:lnTo>
                        <a:lnTo>
                          <a:pt x="56" y="54"/>
                        </a:lnTo>
                        <a:lnTo>
                          <a:pt x="36" y="79"/>
                        </a:lnTo>
                        <a:lnTo>
                          <a:pt x="20" y="106"/>
                        </a:lnTo>
                        <a:lnTo>
                          <a:pt x="12" y="137"/>
                        </a:lnTo>
                        <a:lnTo>
                          <a:pt x="7" y="171"/>
                        </a:lnTo>
                        <a:lnTo>
                          <a:pt x="12" y="204"/>
                        </a:lnTo>
                        <a:lnTo>
                          <a:pt x="20" y="236"/>
                        </a:lnTo>
                        <a:lnTo>
                          <a:pt x="36" y="263"/>
                        </a:lnTo>
                        <a:lnTo>
                          <a:pt x="56" y="287"/>
                        </a:lnTo>
                        <a:lnTo>
                          <a:pt x="81" y="307"/>
                        </a:lnTo>
                        <a:lnTo>
                          <a:pt x="108" y="323"/>
                        </a:lnTo>
                        <a:lnTo>
                          <a:pt x="139" y="332"/>
                        </a:lnTo>
                        <a:lnTo>
                          <a:pt x="173" y="337"/>
                        </a:lnTo>
                        <a:lnTo>
                          <a:pt x="206" y="332"/>
                        </a:lnTo>
                        <a:lnTo>
                          <a:pt x="238" y="323"/>
                        </a:lnTo>
                        <a:lnTo>
                          <a:pt x="265" y="307"/>
                        </a:lnTo>
                        <a:lnTo>
                          <a:pt x="289" y="287"/>
                        </a:lnTo>
                        <a:lnTo>
                          <a:pt x="310" y="263"/>
                        </a:lnTo>
                        <a:lnTo>
                          <a:pt x="325" y="236"/>
                        </a:lnTo>
                        <a:lnTo>
                          <a:pt x="334" y="204"/>
                        </a:lnTo>
                        <a:lnTo>
                          <a:pt x="339" y="171"/>
                        </a:lnTo>
                        <a:lnTo>
                          <a:pt x="343" y="171"/>
                        </a:lnTo>
                        <a:close/>
                      </a:path>
                    </a:pathLst>
                  </a:custGeom>
                  <a:solidFill>
                    <a:srgbClr val="fa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919080" y="1869840"/>
                    <a:ext cx="533160" cy="5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36">
                        <a:moveTo>
                          <a:pt x="336" y="168"/>
                        </a:moveTo>
                        <a:lnTo>
                          <a:pt x="331" y="134"/>
                        </a:lnTo>
                        <a:lnTo>
                          <a:pt x="323" y="103"/>
                        </a:lnTo>
                        <a:lnTo>
                          <a:pt x="307" y="74"/>
                        </a:lnTo>
                        <a:lnTo>
                          <a:pt x="287" y="49"/>
                        </a:lnTo>
                        <a:lnTo>
                          <a:pt x="262" y="29"/>
                        </a:lnTo>
                        <a:lnTo>
                          <a:pt x="233" y="13"/>
                        </a:lnTo>
                        <a:lnTo>
                          <a:pt x="201" y="4"/>
                        </a:lnTo>
                        <a:lnTo>
                          <a:pt x="168" y="0"/>
                        </a:lnTo>
                        <a:lnTo>
                          <a:pt x="134" y="4"/>
                        </a:lnTo>
                        <a:lnTo>
                          <a:pt x="103" y="13"/>
                        </a:lnTo>
                        <a:lnTo>
                          <a:pt x="74" y="29"/>
                        </a:lnTo>
                        <a:lnTo>
                          <a:pt x="49" y="49"/>
                        </a:lnTo>
                        <a:lnTo>
                          <a:pt x="29" y="74"/>
                        </a:lnTo>
                        <a:lnTo>
                          <a:pt x="13" y="103"/>
                        </a:lnTo>
                        <a:lnTo>
                          <a:pt x="4" y="134"/>
                        </a:lnTo>
                        <a:lnTo>
                          <a:pt x="0" y="168"/>
                        </a:lnTo>
                        <a:lnTo>
                          <a:pt x="4" y="201"/>
                        </a:lnTo>
                        <a:lnTo>
                          <a:pt x="13" y="233"/>
                        </a:lnTo>
                        <a:lnTo>
                          <a:pt x="29" y="262"/>
                        </a:lnTo>
                        <a:lnTo>
                          <a:pt x="49" y="286"/>
                        </a:lnTo>
                        <a:lnTo>
                          <a:pt x="74" y="307"/>
                        </a:lnTo>
                        <a:lnTo>
                          <a:pt x="103" y="322"/>
                        </a:lnTo>
                        <a:lnTo>
                          <a:pt x="134" y="331"/>
                        </a:lnTo>
                        <a:lnTo>
                          <a:pt x="168" y="336"/>
                        </a:lnTo>
                        <a:lnTo>
                          <a:pt x="201" y="331"/>
                        </a:lnTo>
                        <a:lnTo>
                          <a:pt x="233" y="322"/>
                        </a:lnTo>
                        <a:lnTo>
                          <a:pt x="262" y="307"/>
                        </a:lnTo>
                        <a:lnTo>
                          <a:pt x="287" y="286"/>
                        </a:lnTo>
                        <a:lnTo>
                          <a:pt x="307" y="262"/>
                        </a:lnTo>
                        <a:lnTo>
                          <a:pt x="323" y="233"/>
                        </a:lnTo>
                        <a:lnTo>
                          <a:pt x="331" y="201"/>
                        </a:lnTo>
                        <a:lnTo>
                          <a:pt x="336" y="168"/>
                        </a:lnTo>
                        <a:lnTo>
                          <a:pt x="329" y="168"/>
                        </a:lnTo>
                        <a:lnTo>
                          <a:pt x="325" y="136"/>
                        </a:lnTo>
                        <a:lnTo>
                          <a:pt x="316" y="105"/>
                        </a:lnTo>
                        <a:lnTo>
                          <a:pt x="300" y="78"/>
                        </a:lnTo>
                        <a:lnTo>
                          <a:pt x="282" y="53"/>
                        </a:lnTo>
                        <a:lnTo>
                          <a:pt x="258" y="33"/>
                        </a:lnTo>
                        <a:lnTo>
                          <a:pt x="231" y="20"/>
                        </a:lnTo>
                        <a:lnTo>
                          <a:pt x="199" y="11"/>
                        </a:lnTo>
                        <a:lnTo>
                          <a:pt x="168" y="6"/>
                        </a:lnTo>
                        <a:lnTo>
                          <a:pt x="134" y="11"/>
                        </a:lnTo>
                        <a:lnTo>
                          <a:pt x="105" y="20"/>
                        </a:lnTo>
                        <a:lnTo>
                          <a:pt x="78" y="33"/>
                        </a:lnTo>
                        <a:lnTo>
                          <a:pt x="54" y="53"/>
                        </a:lnTo>
                        <a:lnTo>
                          <a:pt x="33" y="78"/>
                        </a:lnTo>
                        <a:lnTo>
                          <a:pt x="20" y="105"/>
                        </a:lnTo>
                        <a:lnTo>
                          <a:pt x="9" y="136"/>
                        </a:lnTo>
                        <a:lnTo>
                          <a:pt x="7" y="168"/>
                        </a:lnTo>
                        <a:lnTo>
                          <a:pt x="9" y="201"/>
                        </a:lnTo>
                        <a:lnTo>
                          <a:pt x="20" y="230"/>
                        </a:lnTo>
                        <a:lnTo>
                          <a:pt x="33" y="257"/>
                        </a:lnTo>
                        <a:lnTo>
                          <a:pt x="54" y="282"/>
                        </a:lnTo>
                        <a:lnTo>
                          <a:pt x="78" y="302"/>
                        </a:lnTo>
                        <a:lnTo>
                          <a:pt x="105" y="316"/>
                        </a:lnTo>
                        <a:lnTo>
                          <a:pt x="134" y="327"/>
                        </a:lnTo>
                        <a:lnTo>
                          <a:pt x="168" y="329"/>
                        </a:lnTo>
                        <a:lnTo>
                          <a:pt x="199" y="327"/>
                        </a:lnTo>
                        <a:lnTo>
                          <a:pt x="231" y="316"/>
                        </a:lnTo>
                        <a:lnTo>
                          <a:pt x="258" y="302"/>
                        </a:lnTo>
                        <a:lnTo>
                          <a:pt x="282" y="282"/>
                        </a:lnTo>
                        <a:lnTo>
                          <a:pt x="300" y="257"/>
                        </a:lnTo>
                        <a:lnTo>
                          <a:pt x="316" y="230"/>
                        </a:lnTo>
                        <a:lnTo>
                          <a:pt x="325" y="201"/>
                        </a:lnTo>
                        <a:lnTo>
                          <a:pt x="329" y="168"/>
                        </a:lnTo>
                        <a:lnTo>
                          <a:pt x="336" y="168"/>
                        </a:lnTo>
                        <a:close/>
                      </a:path>
                    </a:pathLst>
                  </a:custGeom>
                  <a:solidFill>
                    <a:srgbClr val="fa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925200" y="1876320"/>
                    <a:ext cx="51912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27">
                        <a:moveTo>
                          <a:pt x="327" y="164"/>
                        </a:moveTo>
                        <a:lnTo>
                          <a:pt x="323" y="130"/>
                        </a:lnTo>
                        <a:lnTo>
                          <a:pt x="314" y="101"/>
                        </a:lnTo>
                        <a:lnTo>
                          <a:pt x="298" y="72"/>
                        </a:lnTo>
                        <a:lnTo>
                          <a:pt x="278" y="49"/>
                        </a:lnTo>
                        <a:lnTo>
                          <a:pt x="256" y="29"/>
                        </a:lnTo>
                        <a:lnTo>
                          <a:pt x="227" y="14"/>
                        </a:lnTo>
                        <a:lnTo>
                          <a:pt x="197" y="5"/>
                        </a:lnTo>
                        <a:lnTo>
                          <a:pt x="164" y="0"/>
                        </a:lnTo>
                        <a:lnTo>
                          <a:pt x="130" y="5"/>
                        </a:lnTo>
                        <a:lnTo>
                          <a:pt x="101" y="14"/>
                        </a:lnTo>
                        <a:lnTo>
                          <a:pt x="72" y="29"/>
                        </a:lnTo>
                        <a:lnTo>
                          <a:pt x="47" y="49"/>
                        </a:lnTo>
                        <a:lnTo>
                          <a:pt x="29" y="72"/>
                        </a:lnTo>
                        <a:lnTo>
                          <a:pt x="14" y="101"/>
                        </a:lnTo>
                        <a:lnTo>
                          <a:pt x="5" y="130"/>
                        </a:lnTo>
                        <a:lnTo>
                          <a:pt x="0" y="164"/>
                        </a:lnTo>
                        <a:lnTo>
                          <a:pt x="5" y="197"/>
                        </a:lnTo>
                        <a:lnTo>
                          <a:pt x="14" y="226"/>
                        </a:lnTo>
                        <a:lnTo>
                          <a:pt x="29" y="256"/>
                        </a:lnTo>
                        <a:lnTo>
                          <a:pt x="47" y="280"/>
                        </a:lnTo>
                        <a:lnTo>
                          <a:pt x="72" y="298"/>
                        </a:lnTo>
                        <a:lnTo>
                          <a:pt x="101" y="314"/>
                        </a:lnTo>
                        <a:lnTo>
                          <a:pt x="130" y="323"/>
                        </a:lnTo>
                        <a:lnTo>
                          <a:pt x="164" y="327"/>
                        </a:lnTo>
                        <a:lnTo>
                          <a:pt x="197" y="323"/>
                        </a:lnTo>
                        <a:lnTo>
                          <a:pt x="227" y="314"/>
                        </a:lnTo>
                        <a:lnTo>
                          <a:pt x="256" y="298"/>
                        </a:lnTo>
                        <a:lnTo>
                          <a:pt x="278" y="280"/>
                        </a:lnTo>
                        <a:lnTo>
                          <a:pt x="298" y="256"/>
                        </a:lnTo>
                        <a:lnTo>
                          <a:pt x="314" y="226"/>
                        </a:lnTo>
                        <a:lnTo>
                          <a:pt x="323" y="197"/>
                        </a:lnTo>
                        <a:lnTo>
                          <a:pt x="327" y="164"/>
                        </a:lnTo>
                        <a:lnTo>
                          <a:pt x="321" y="164"/>
                        </a:lnTo>
                        <a:lnTo>
                          <a:pt x="316" y="132"/>
                        </a:lnTo>
                        <a:lnTo>
                          <a:pt x="307" y="103"/>
                        </a:lnTo>
                        <a:lnTo>
                          <a:pt x="294" y="76"/>
                        </a:lnTo>
                        <a:lnTo>
                          <a:pt x="274" y="54"/>
                        </a:lnTo>
                        <a:lnTo>
                          <a:pt x="251" y="34"/>
                        </a:lnTo>
                        <a:lnTo>
                          <a:pt x="224" y="20"/>
                        </a:lnTo>
                        <a:lnTo>
                          <a:pt x="195" y="11"/>
                        </a:lnTo>
                        <a:lnTo>
                          <a:pt x="164" y="7"/>
                        </a:lnTo>
                        <a:lnTo>
                          <a:pt x="132" y="11"/>
                        </a:lnTo>
                        <a:lnTo>
                          <a:pt x="103" y="20"/>
                        </a:lnTo>
                        <a:lnTo>
                          <a:pt x="76" y="34"/>
                        </a:lnTo>
                        <a:lnTo>
                          <a:pt x="52" y="54"/>
                        </a:lnTo>
                        <a:lnTo>
                          <a:pt x="34" y="76"/>
                        </a:lnTo>
                        <a:lnTo>
                          <a:pt x="18" y="103"/>
                        </a:lnTo>
                        <a:lnTo>
                          <a:pt x="9" y="132"/>
                        </a:lnTo>
                        <a:lnTo>
                          <a:pt x="7" y="164"/>
                        </a:lnTo>
                        <a:lnTo>
                          <a:pt x="9" y="195"/>
                        </a:lnTo>
                        <a:lnTo>
                          <a:pt x="18" y="224"/>
                        </a:lnTo>
                        <a:lnTo>
                          <a:pt x="34" y="251"/>
                        </a:lnTo>
                        <a:lnTo>
                          <a:pt x="52" y="276"/>
                        </a:lnTo>
                        <a:lnTo>
                          <a:pt x="76" y="294"/>
                        </a:lnTo>
                        <a:lnTo>
                          <a:pt x="103" y="309"/>
                        </a:lnTo>
                        <a:lnTo>
                          <a:pt x="132" y="318"/>
                        </a:lnTo>
                        <a:lnTo>
                          <a:pt x="164" y="321"/>
                        </a:lnTo>
                        <a:lnTo>
                          <a:pt x="195" y="318"/>
                        </a:lnTo>
                        <a:lnTo>
                          <a:pt x="224" y="309"/>
                        </a:lnTo>
                        <a:lnTo>
                          <a:pt x="251" y="294"/>
                        </a:lnTo>
                        <a:lnTo>
                          <a:pt x="274" y="276"/>
                        </a:lnTo>
                        <a:lnTo>
                          <a:pt x="294" y="251"/>
                        </a:lnTo>
                        <a:lnTo>
                          <a:pt x="307" y="224"/>
                        </a:lnTo>
                        <a:lnTo>
                          <a:pt x="316" y="195"/>
                        </a:lnTo>
                        <a:lnTo>
                          <a:pt x="321" y="164"/>
                        </a:lnTo>
                        <a:lnTo>
                          <a:pt x="327" y="164"/>
                        </a:lnTo>
                        <a:close/>
                      </a:path>
                    </a:pathLst>
                  </a:custGeom>
                  <a:solidFill>
                    <a:srgbClr val="fa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933120" y="1884240"/>
                    <a:ext cx="505080" cy="50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318">
                        <a:moveTo>
                          <a:pt x="318" y="159"/>
                        </a:moveTo>
                        <a:lnTo>
                          <a:pt x="314" y="127"/>
                        </a:lnTo>
                        <a:lnTo>
                          <a:pt x="305" y="98"/>
                        </a:lnTo>
                        <a:lnTo>
                          <a:pt x="291" y="71"/>
                        </a:lnTo>
                        <a:lnTo>
                          <a:pt x="271" y="47"/>
                        </a:lnTo>
                        <a:lnTo>
                          <a:pt x="246" y="26"/>
                        </a:lnTo>
                        <a:lnTo>
                          <a:pt x="219" y="13"/>
                        </a:lnTo>
                        <a:lnTo>
                          <a:pt x="190" y="4"/>
                        </a:lnTo>
                        <a:lnTo>
                          <a:pt x="159" y="0"/>
                        </a:lnTo>
                        <a:lnTo>
                          <a:pt x="127" y="4"/>
                        </a:lnTo>
                        <a:lnTo>
                          <a:pt x="96" y="13"/>
                        </a:lnTo>
                        <a:lnTo>
                          <a:pt x="69" y="26"/>
                        </a:lnTo>
                        <a:lnTo>
                          <a:pt x="47" y="47"/>
                        </a:lnTo>
                        <a:lnTo>
                          <a:pt x="27" y="71"/>
                        </a:lnTo>
                        <a:lnTo>
                          <a:pt x="13" y="98"/>
                        </a:lnTo>
                        <a:lnTo>
                          <a:pt x="2" y="127"/>
                        </a:lnTo>
                        <a:lnTo>
                          <a:pt x="0" y="159"/>
                        </a:lnTo>
                        <a:lnTo>
                          <a:pt x="2" y="190"/>
                        </a:lnTo>
                        <a:lnTo>
                          <a:pt x="13" y="221"/>
                        </a:lnTo>
                        <a:lnTo>
                          <a:pt x="27" y="248"/>
                        </a:lnTo>
                        <a:lnTo>
                          <a:pt x="47" y="271"/>
                        </a:lnTo>
                        <a:lnTo>
                          <a:pt x="69" y="291"/>
                        </a:lnTo>
                        <a:lnTo>
                          <a:pt x="96" y="304"/>
                        </a:lnTo>
                        <a:lnTo>
                          <a:pt x="127" y="316"/>
                        </a:lnTo>
                        <a:lnTo>
                          <a:pt x="159" y="318"/>
                        </a:lnTo>
                        <a:lnTo>
                          <a:pt x="190" y="316"/>
                        </a:lnTo>
                        <a:lnTo>
                          <a:pt x="219" y="304"/>
                        </a:lnTo>
                        <a:lnTo>
                          <a:pt x="246" y="291"/>
                        </a:lnTo>
                        <a:lnTo>
                          <a:pt x="271" y="271"/>
                        </a:lnTo>
                        <a:lnTo>
                          <a:pt x="291" y="248"/>
                        </a:lnTo>
                        <a:lnTo>
                          <a:pt x="305" y="221"/>
                        </a:lnTo>
                        <a:lnTo>
                          <a:pt x="314" y="190"/>
                        </a:lnTo>
                        <a:lnTo>
                          <a:pt x="318" y="159"/>
                        </a:lnTo>
                        <a:lnTo>
                          <a:pt x="311" y="159"/>
                        </a:lnTo>
                        <a:lnTo>
                          <a:pt x="309" y="127"/>
                        </a:lnTo>
                        <a:lnTo>
                          <a:pt x="300" y="100"/>
                        </a:lnTo>
                        <a:lnTo>
                          <a:pt x="284" y="74"/>
                        </a:lnTo>
                        <a:lnTo>
                          <a:pt x="266" y="51"/>
                        </a:lnTo>
                        <a:lnTo>
                          <a:pt x="244" y="33"/>
                        </a:lnTo>
                        <a:lnTo>
                          <a:pt x="217" y="18"/>
                        </a:lnTo>
                        <a:lnTo>
                          <a:pt x="190" y="9"/>
                        </a:lnTo>
                        <a:lnTo>
                          <a:pt x="159" y="6"/>
                        </a:lnTo>
                        <a:lnTo>
                          <a:pt x="127" y="9"/>
                        </a:lnTo>
                        <a:lnTo>
                          <a:pt x="98" y="18"/>
                        </a:lnTo>
                        <a:lnTo>
                          <a:pt x="74" y="33"/>
                        </a:lnTo>
                        <a:lnTo>
                          <a:pt x="51" y="51"/>
                        </a:lnTo>
                        <a:lnTo>
                          <a:pt x="33" y="74"/>
                        </a:lnTo>
                        <a:lnTo>
                          <a:pt x="18" y="100"/>
                        </a:lnTo>
                        <a:lnTo>
                          <a:pt x="9" y="127"/>
                        </a:lnTo>
                        <a:lnTo>
                          <a:pt x="6" y="159"/>
                        </a:lnTo>
                        <a:lnTo>
                          <a:pt x="9" y="190"/>
                        </a:lnTo>
                        <a:lnTo>
                          <a:pt x="18" y="219"/>
                        </a:lnTo>
                        <a:lnTo>
                          <a:pt x="33" y="244"/>
                        </a:lnTo>
                        <a:lnTo>
                          <a:pt x="51" y="266"/>
                        </a:lnTo>
                        <a:lnTo>
                          <a:pt x="74" y="284"/>
                        </a:lnTo>
                        <a:lnTo>
                          <a:pt x="98" y="300"/>
                        </a:lnTo>
                        <a:lnTo>
                          <a:pt x="127" y="309"/>
                        </a:lnTo>
                        <a:lnTo>
                          <a:pt x="159" y="311"/>
                        </a:lnTo>
                        <a:lnTo>
                          <a:pt x="190" y="309"/>
                        </a:lnTo>
                        <a:lnTo>
                          <a:pt x="217" y="300"/>
                        </a:lnTo>
                        <a:lnTo>
                          <a:pt x="244" y="284"/>
                        </a:lnTo>
                        <a:lnTo>
                          <a:pt x="266" y="266"/>
                        </a:lnTo>
                        <a:lnTo>
                          <a:pt x="284" y="244"/>
                        </a:lnTo>
                        <a:lnTo>
                          <a:pt x="300" y="219"/>
                        </a:lnTo>
                        <a:lnTo>
                          <a:pt x="309" y="190"/>
                        </a:lnTo>
                        <a:lnTo>
                          <a:pt x="311" y="159"/>
                        </a:lnTo>
                        <a:lnTo>
                          <a:pt x="318" y="159"/>
                        </a:lnTo>
                        <a:close/>
                      </a:path>
                    </a:pathLst>
                  </a:custGeom>
                  <a:solidFill>
                    <a:srgbClr val="fa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939600" y="1890360"/>
                    <a:ext cx="492120" cy="49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309">
                        <a:moveTo>
                          <a:pt x="310" y="155"/>
                        </a:moveTo>
                        <a:lnTo>
                          <a:pt x="305" y="123"/>
                        </a:lnTo>
                        <a:lnTo>
                          <a:pt x="296" y="94"/>
                        </a:lnTo>
                        <a:lnTo>
                          <a:pt x="283" y="70"/>
                        </a:lnTo>
                        <a:lnTo>
                          <a:pt x="265" y="45"/>
                        </a:lnTo>
                        <a:lnTo>
                          <a:pt x="240" y="27"/>
                        </a:lnTo>
                        <a:lnTo>
                          <a:pt x="215" y="14"/>
                        </a:lnTo>
                        <a:lnTo>
                          <a:pt x="186" y="5"/>
                        </a:lnTo>
                        <a:lnTo>
                          <a:pt x="155" y="0"/>
                        </a:lnTo>
                        <a:lnTo>
                          <a:pt x="123" y="5"/>
                        </a:lnTo>
                        <a:lnTo>
                          <a:pt x="94" y="14"/>
                        </a:lnTo>
                        <a:lnTo>
                          <a:pt x="67" y="27"/>
                        </a:lnTo>
                        <a:lnTo>
                          <a:pt x="45" y="45"/>
                        </a:lnTo>
                        <a:lnTo>
                          <a:pt x="27" y="70"/>
                        </a:lnTo>
                        <a:lnTo>
                          <a:pt x="11" y="94"/>
                        </a:lnTo>
                        <a:lnTo>
                          <a:pt x="2" y="123"/>
                        </a:lnTo>
                        <a:lnTo>
                          <a:pt x="0" y="155"/>
                        </a:lnTo>
                        <a:lnTo>
                          <a:pt x="2" y="186"/>
                        </a:lnTo>
                        <a:lnTo>
                          <a:pt x="11" y="215"/>
                        </a:lnTo>
                        <a:lnTo>
                          <a:pt x="27" y="242"/>
                        </a:lnTo>
                        <a:lnTo>
                          <a:pt x="45" y="265"/>
                        </a:lnTo>
                        <a:lnTo>
                          <a:pt x="67" y="282"/>
                        </a:lnTo>
                        <a:lnTo>
                          <a:pt x="94" y="298"/>
                        </a:lnTo>
                        <a:lnTo>
                          <a:pt x="123" y="307"/>
                        </a:lnTo>
                        <a:lnTo>
                          <a:pt x="155" y="309"/>
                        </a:lnTo>
                        <a:lnTo>
                          <a:pt x="186" y="307"/>
                        </a:lnTo>
                        <a:lnTo>
                          <a:pt x="215" y="298"/>
                        </a:lnTo>
                        <a:lnTo>
                          <a:pt x="240" y="282"/>
                        </a:lnTo>
                        <a:lnTo>
                          <a:pt x="265" y="265"/>
                        </a:lnTo>
                        <a:lnTo>
                          <a:pt x="283" y="242"/>
                        </a:lnTo>
                        <a:lnTo>
                          <a:pt x="296" y="215"/>
                        </a:lnTo>
                        <a:lnTo>
                          <a:pt x="305" y="186"/>
                        </a:lnTo>
                        <a:lnTo>
                          <a:pt x="310" y="155"/>
                        </a:lnTo>
                        <a:lnTo>
                          <a:pt x="303" y="155"/>
                        </a:lnTo>
                        <a:lnTo>
                          <a:pt x="301" y="126"/>
                        </a:lnTo>
                        <a:lnTo>
                          <a:pt x="292" y="96"/>
                        </a:lnTo>
                        <a:lnTo>
                          <a:pt x="278" y="72"/>
                        </a:lnTo>
                        <a:lnTo>
                          <a:pt x="260" y="49"/>
                        </a:lnTo>
                        <a:lnTo>
                          <a:pt x="238" y="31"/>
                        </a:lnTo>
                        <a:lnTo>
                          <a:pt x="213" y="18"/>
                        </a:lnTo>
                        <a:lnTo>
                          <a:pt x="184" y="9"/>
                        </a:lnTo>
                        <a:lnTo>
                          <a:pt x="155" y="7"/>
                        </a:lnTo>
                        <a:lnTo>
                          <a:pt x="126" y="9"/>
                        </a:lnTo>
                        <a:lnTo>
                          <a:pt x="97" y="18"/>
                        </a:lnTo>
                        <a:lnTo>
                          <a:pt x="72" y="31"/>
                        </a:lnTo>
                        <a:lnTo>
                          <a:pt x="50" y="49"/>
                        </a:lnTo>
                        <a:lnTo>
                          <a:pt x="32" y="72"/>
                        </a:lnTo>
                        <a:lnTo>
                          <a:pt x="18" y="96"/>
                        </a:lnTo>
                        <a:lnTo>
                          <a:pt x="9" y="126"/>
                        </a:lnTo>
                        <a:lnTo>
                          <a:pt x="7" y="155"/>
                        </a:lnTo>
                        <a:lnTo>
                          <a:pt x="9" y="184"/>
                        </a:lnTo>
                        <a:lnTo>
                          <a:pt x="18" y="213"/>
                        </a:lnTo>
                        <a:lnTo>
                          <a:pt x="32" y="238"/>
                        </a:lnTo>
                        <a:lnTo>
                          <a:pt x="50" y="260"/>
                        </a:lnTo>
                        <a:lnTo>
                          <a:pt x="72" y="278"/>
                        </a:lnTo>
                        <a:lnTo>
                          <a:pt x="97" y="291"/>
                        </a:lnTo>
                        <a:lnTo>
                          <a:pt x="126" y="300"/>
                        </a:lnTo>
                        <a:lnTo>
                          <a:pt x="155" y="303"/>
                        </a:lnTo>
                        <a:lnTo>
                          <a:pt x="184" y="300"/>
                        </a:lnTo>
                        <a:lnTo>
                          <a:pt x="213" y="291"/>
                        </a:lnTo>
                        <a:lnTo>
                          <a:pt x="238" y="278"/>
                        </a:lnTo>
                        <a:lnTo>
                          <a:pt x="260" y="260"/>
                        </a:lnTo>
                        <a:lnTo>
                          <a:pt x="278" y="238"/>
                        </a:lnTo>
                        <a:lnTo>
                          <a:pt x="292" y="213"/>
                        </a:lnTo>
                        <a:lnTo>
                          <a:pt x="301" y="184"/>
                        </a:lnTo>
                        <a:lnTo>
                          <a:pt x="303" y="155"/>
                        </a:lnTo>
                        <a:lnTo>
                          <a:pt x="310" y="155"/>
                        </a:lnTo>
                        <a:close/>
                      </a:path>
                    </a:pathLst>
                  </a:custGeom>
                  <a:solidFill>
                    <a:srgbClr val="faf3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947520" y="1898640"/>
                    <a:ext cx="476280" cy="47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00">
                        <a:moveTo>
                          <a:pt x="300" y="150"/>
                        </a:moveTo>
                        <a:lnTo>
                          <a:pt x="298" y="121"/>
                        </a:lnTo>
                        <a:lnTo>
                          <a:pt x="289" y="91"/>
                        </a:lnTo>
                        <a:lnTo>
                          <a:pt x="275" y="67"/>
                        </a:lnTo>
                        <a:lnTo>
                          <a:pt x="255" y="44"/>
                        </a:lnTo>
                        <a:lnTo>
                          <a:pt x="233" y="24"/>
                        </a:lnTo>
                        <a:lnTo>
                          <a:pt x="208" y="11"/>
                        </a:lnTo>
                        <a:lnTo>
                          <a:pt x="179" y="2"/>
                        </a:lnTo>
                        <a:lnTo>
                          <a:pt x="150" y="0"/>
                        </a:lnTo>
                        <a:lnTo>
                          <a:pt x="118" y="2"/>
                        </a:lnTo>
                        <a:lnTo>
                          <a:pt x="92" y="11"/>
                        </a:lnTo>
                        <a:lnTo>
                          <a:pt x="65" y="24"/>
                        </a:lnTo>
                        <a:lnTo>
                          <a:pt x="42" y="44"/>
                        </a:lnTo>
                        <a:lnTo>
                          <a:pt x="24" y="67"/>
                        </a:lnTo>
                        <a:lnTo>
                          <a:pt x="11" y="91"/>
                        </a:lnTo>
                        <a:lnTo>
                          <a:pt x="2" y="121"/>
                        </a:lnTo>
                        <a:lnTo>
                          <a:pt x="0" y="150"/>
                        </a:lnTo>
                        <a:lnTo>
                          <a:pt x="2" y="181"/>
                        </a:lnTo>
                        <a:lnTo>
                          <a:pt x="11" y="208"/>
                        </a:lnTo>
                        <a:lnTo>
                          <a:pt x="24" y="235"/>
                        </a:lnTo>
                        <a:lnTo>
                          <a:pt x="42" y="257"/>
                        </a:lnTo>
                        <a:lnTo>
                          <a:pt x="65" y="275"/>
                        </a:lnTo>
                        <a:lnTo>
                          <a:pt x="92" y="289"/>
                        </a:lnTo>
                        <a:lnTo>
                          <a:pt x="118" y="298"/>
                        </a:lnTo>
                        <a:lnTo>
                          <a:pt x="150" y="300"/>
                        </a:lnTo>
                        <a:lnTo>
                          <a:pt x="179" y="298"/>
                        </a:lnTo>
                        <a:lnTo>
                          <a:pt x="208" y="289"/>
                        </a:lnTo>
                        <a:lnTo>
                          <a:pt x="233" y="275"/>
                        </a:lnTo>
                        <a:lnTo>
                          <a:pt x="255" y="257"/>
                        </a:lnTo>
                        <a:lnTo>
                          <a:pt x="275" y="235"/>
                        </a:lnTo>
                        <a:lnTo>
                          <a:pt x="289" y="208"/>
                        </a:lnTo>
                        <a:lnTo>
                          <a:pt x="298" y="181"/>
                        </a:lnTo>
                        <a:lnTo>
                          <a:pt x="300" y="150"/>
                        </a:lnTo>
                        <a:lnTo>
                          <a:pt x="293" y="150"/>
                        </a:lnTo>
                        <a:lnTo>
                          <a:pt x="291" y="121"/>
                        </a:lnTo>
                        <a:lnTo>
                          <a:pt x="282" y="94"/>
                        </a:lnTo>
                        <a:lnTo>
                          <a:pt x="269" y="69"/>
                        </a:lnTo>
                        <a:lnTo>
                          <a:pt x="251" y="49"/>
                        </a:lnTo>
                        <a:lnTo>
                          <a:pt x="231" y="31"/>
                        </a:lnTo>
                        <a:lnTo>
                          <a:pt x="206" y="17"/>
                        </a:lnTo>
                        <a:lnTo>
                          <a:pt x="179" y="9"/>
                        </a:lnTo>
                        <a:lnTo>
                          <a:pt x="150" y="6"/>
                        </a:lnTo>
                        <a:lnTo>
                          <a:pt x="121" y="9"/>
                        </a:lnTo>
                        <a:lnTo>
                          <a:pt x="94" y="17"/>
                        </a:lnTo>
                        <a:lnTo>
                          <a:pt x="69" y="31"/>
                        </a:lnTo>
                        <a:lnTo>
                          <a:pt x="47" y="49"/>
                        </a:lnTo>
                        <a:lnTo>
                          <a:pt x="31" y="69"/>
                        </a:lnTo>
                        <a:lnTo>
                          <a:pt x="18" y="94"/>
                        </a:lnTo>
                        <a:lnTo>
                          <a:pt x="9" y="121"/>
                        </a:lnTo>
                        <a:lnTo>
                          <a:pt x="6" y="150"/>
                        </a:lnTo>
                        <a:lnTo>
                          <a:pt x="9" y="179"/>
                        </a:lnTo>
                        <a:lnTo>
                          <a:pt x="18" y="206"/>
                        </a:lnTo>
                        <a:lnTo>
                          <a:pt x="31" y="230"/>
                        </a:lnTo>
                        <a:lnTo>
                          <a:pt x="47" y="253"/>
                        </a:lnTo>
                        <a:lnTo>
                          <a:pt x="69" y="268"/>
                        </a:lnTo>
                        <a:lnTo>
                          <a:pt x="94" y="282"/>
                        </a:lnTo>
                        <a:lnTo>
                          <a:pt x="121" y="291"/>
                        </a:lnTo>
                        <a:lnTo>
                          <a:pt x="150" y="293"/>
                        </a:lnTo>
                        <a:lnTo>
                          <a:pt x="179" y="291"/>
                        </a:lnTo>
                        <a:lnTo>
                          <a:pt x="206" y="282"/>
                        </a:lnTo>
                        <a:lnTo>
                          <a:pt x="231" y="268"/>
                        </a:lnTo>
                        <a:lnTo>
                          <a:pt x="251" y="253"/>
                        </a:lnTo>
                        <a:lnTo>
                          <a:pt x="269" y="230"/>
                        </a:lnTo>
                        <a:lnTo>
                          <a:pt x="282" y="206"/>
                        </a:lnTo>
                        <a:lnTo>
                          <a:pt x="291" y="179"/>
                        </a:lnTo>
                        <a:lnTo>
                          <a:pt x="293" y="150"/>
                        </a:lnTo>
                        <a:lnTo>
                          <a:pt x="300" y="150"/>
                        </a:lnTo>
                        <a:close/>
                      </a:path>
                    </a:pathLst>
                  </a:custGeom>
                  <a:solidFill>
                    <a:srgbClr val="faf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954000" y="1904760"/>
                    <a:ext cx="46332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291">
                        <a:moveTo>
                          <a:pt x="292" y="146"/>
                        </a:moveTo>
                        <a:lnTo>
                          <a:pt x="289" y="117"/>
                        </a:lnTo>
                        <a:lnTo>
                          <a:pt x="280" y="90"/>
                        </a:lnTo>
                        <a:lnTo>
                          <a:pt x="267" y="65"/>
                        </a:lnTo>
                        <a:lnTo>
                          <a:pt x="249" y="43"/>
                        </a:lnTo>
                        <a:lnTo>
                          <a:pt x="227" y="25"/>
                        </a:lnTo>
                        <a:lnTo>
                          <a:pt x="202" y="11"/>
                        </a:lnTo>
                        <a:lnTo>
                          <a:pt x="175" y="2"/>
                        </a:lnTo>
                        <a:lnTo>
                          <a:pt x="146" y="0"/>
                        </a:lnTo>
                        <a:lnTo>
                          <a:pt x="117" y="2"/>
                        </a:lnTo>
                        <a:lnTo>
                          <a:pt x="90" y="11"/>
                        </a:lnTo>
                        <a:lnTo>
                          <a:pt x="63" y="25"/>
                        </a:lnTo>
                        <a:lnTo>
                          <a:pt x="43" y="43"/>
                        </a:lnTo>
                        <a:lnTo>
                          <a:pt x="25" y="65"/>
                        </a:lnTo>
                        <a:lnTo>
                          <a:pt x="11" y="90"/>
                        </a:lnTo>
                        <a:lnTo>
                          <a:pt x="2" y="117"/>
                        </a:lnTo>
                        <a:lnTo>
                          <a:pt x="0" y="146"/>
                        </a:lnTo>
                        <a:lnTo>
                          <a:pt x="2" y="175"/>
                        </a:lnTo>
                        <a:lnTo>
                          <a:pt x="11" y="202"/>
                        </a:lnTo>
                        <a:lnTo>
                          <a:pt x="25" y="229"/>
                        </a:lnTo>
                        <a:lnTo>
                          <a:pt x="43" y="249"/>
                        </a:lnTo>
                        <a:lnTo>
                          <a:pt x="63" y="267"/>
                        </a:lnTo>
                        <a:lnTo>
                          <a:pt x="90" y="280"/>
                        </a:lnTo>
                        <a:lnTo>
                          <a:pt x="117" y="289"/>
                        </a:lnTo>
                        <a:lnTo>
                          <a:pt x="146" y="291"/>
                        </a:lnTo>
                        <a:lnTo>
                          <a:pt x="175" y="289"/>
                        </a:lnTo>
                        <a:lnTo>
                          <a:pt x="202" y="280"/>
                        </a:lnTo>
                        <a:lnTo>
                          <a:pt x="227" y="267"/>
                        </a:lnTo>
                        <a:lnTo>
                          <a:pt x="249" y="249"/>
                        </a:lnTo>
                        <a:lnTo>
                          <a:pt x="267" y="229"/>
                        </a:lnTo>
                        <a:lnTo>
                          <a:pt x="280" y="202"/>
                        </a:lnTo>
                        <a:lnTo>
                          <a:pt x="289" y="175"/>
                        </a:lnTo>
                        <a:lnTo>
                          <a:pt x="292" y="146"/>
                        </a:lnTo>
                        <a:lnTo>
                          <a:pt x="285" y="146"/>
                        </a:lnTo>
                        <a:lnTo>
                          <a:pt x="283" y="119"/>
                        </a:lnTo>
                        <a:lnTo>
                          <a:pt x="274" y="92"/>
                        </a:lnTo>
                        <a:lnTo>
                          <a:pt x="262" y="67"/>
                        </a:lnTo>
                        <a:lnTo>
                          <a:pt x="244" y="47"/>
                        </a:lnTo>
                        <a:lnTo>
                          <a:pt x="224" y="29"/>
                        </a:lnTo>
                        <a:lnTo>
                          <a:pt x="200" y="18"/>
                        </a:lnTo>
                        <a:lnTo>
                          <a:pt x="173" y="9"/>
                        </a:lnTo>
                        <a:lnTo>
                          <a:pt x="146" y="7"/>
                        </a:lnTo>
                        <a:lnTo>
                          <a:pt x="117" y="9"/>
                        </a:lnTo>
                        <a:lnTo>
                          <a:pt x="92" y="18"/>
                        </a:lnTo>
                        <a:lnTo>
                          <a:pt x="67" y="29"/>
                        </a:lnTo>
                        <a:lnTo>
                          <a:pt x="47" y="47"/>
                        </a:lnTo>
                        <a:lnTo>
                          <a:pt x="29" y="67"/>
                        </a:lnTo>
                        <a:lnTo>
                          <a:pt x="16" y="92"/>
                        </a:lnTo>
                        <a:lnTo>
                          <a:pt x="9" y="119"/>
                        </a:lnTo>
                        <a:lnTo>
                          <a:pt x="5" y="146"/>
                        </a:lnTo>
                        <a:lnTo>
                          <a:pt x="9" y="175"/>
                        </a:lnTo>
                        <a:lnTo>
                          <a:pt x="16" y="199"/>
                        </a:lnTo>
                        <a:lnTo>
                          <a:pt x="29" y="224"/>
                        </a:lnTo>
                        <a:lnTo>
                          <a:pt x="47" y="244"/>
                        </a:lnTo>
                        <a:lnTo>
                          <a:pt x="67" y="262"/>
                        </a:lnTo>
                        <a:lnTo>
                          <a:pt x="92" y="276"/>
                        </a:lnTo>
                        <a:lnTo>
                          <a:pt x="117" y="282"/>
                        </a:lnTo>
                        <a:lnTo>
                          <a:pt x="146" y="287"/>
                        </a:lnTo>
                        <a:lnTo>
                          <a:pt x="173" y="282"/>
                        </a:lnTo>
                        <a:lnTo>
                          <a:pt x="200" y="276"/>
                        </a:lnTo>
                        <a:lnTo>
                          <a:pt x="224" y="262"/>
                        </a:lnTo>
                        <a:lnTo>
                          <a:pt x="244" y="244"/>
                        </a:lnTo>
                        <a:lnTo>
                          <a:pt x="262" y="224"/>
                        </a:lnTo>
                        <a:lnTo>
                          <a:pt x="274" y="199"/>
                        </a:lnTo>
                        <a:lnTo>
                          <a:pt x="283" y="175"/>
                        </a:lnTo>
                        <a:lnTo>
                          <a:pt x="285" y="146"/>
                        </a:lnTo>
                        <a:lnTo>
                          <a:pt x="292" y="146"/>
                        </a:lnTo>
                        <a:close/>
                      </a:path>
                    </a:pathLst>
                  </a:custGeom>
                  <a:solidFill>
                    <a:srgbClr val="faf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961920" y="1912680"/>
                    <a:ext cx="44748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282">
                        <a:moveTo>
                          <a:pt x="282" y="141"/>
                        </a:moveTo>
                        <a:lnTo>
                          <a:pt x="280" y="112"/>
                        </a:lnTo>
                        <a:lnTo>
                          <a:pt x="271" y="85"/>
                        </a:lnTo>
                        <a:lnTo>
                          <a:pt x="257" y="62"/>
                        </a:lnTo>
                        <a:lnTo>
                          <a:pt x="242" y="40"/>
                        </a:lnTo>
                        <a:lnTo>
                          <a:pt x="219" y="24"/>
                        </a:lnTo>
                        <a:lnTo>
                          <a:pt x="197" y="11"/>
                        </a:lnTo>
                        <a:lnTo>
                          <a:pt x="170" y="2"/>
                        </a:lnTo>
                        <a:lnTo>
                          <a:pt x="141" y="0"/>
                        </a:lnTo>
                        <a:lnTo>
                          <a:pt x="112" y="2"/>
                        </a:lnTo>
                        <a:lnTo>
                          <a:pt x="85" y="11"/>
                        </a:lnTo>
                        <a:lnTo>
                          <a:pt x="60" y="24"/>
                        </a:lnTo>
                        <a:lnTo>
                          <a:pt x="40" y="40"/>
                        </a:lnTo>
                        <a:lnTo>
                          <a:pt x="22" y="62"/>
                        </a:lnTo>
                        <a:lnTo>
                          <a:pt x="9" y="85"/>
                        </a:lnTo>
                        <a:lnTo>
                          <a:pt x="2" y="112"/>
                        </a:lnTo>
                        <a:lnTo>
                          <a:pt x="0" y="141"/>
                        </a:lnTo>
                        <a:lnTo>
                          <a:pt x="2" y="170"/>
                        </a:lnTo>
                        <a:lnTo>
                          <a:pt x="9" y="197"/>
                        </a:lnTo>
                        <a:lnTo>
                          <a:pt x="22" y="221"/>
                        </a:lnTo>
                        <a:lnTo>
                          <a:pt x="40" y="242"/>
                        </a:lnTo>
                        <a:lnTo>
                          <a:pt x="60" y="259"/>
                        </a:lnTo>
                        <a:lnTo>
                          <a:pt x="85" y="273"/>
                        </a:lnTo>
                        <a:lnTo>
                          <a:pt x="112" y="280"/>
                        </a:lnTo>
                        <a:lnTo>
                          <a:pt x="141" y="282"/>
                        </a:lnTo>
                        <a:lnTo>
                          <a:pt x="170" y="280"/>
                        </a:lnTo>
                        <a:lnTo>
                          <a:pt x="197" y="273"/>
                        </a:lnTo>
                        <a:lnTo>
                          <a:pt x="219" y="259"/>
                        </a:lnTo>
                        <a:lnTo>
                          <a:pt x="242" y="242"/>
                        </a:lnTo>
                        <a:lnTo>
                          <a:pt x="257" y="221"/>
                        </a:lnTo>
                        <a:lnTo>
                          <a:pt x="271" y="197"/>
                        </a:lnTo>
                        <a:lnTo>
                          <a:pt x="280" y="170"/>
                        </a:lnTo>
                        <a:lnTo>
                          <a:pt x="282" y="141"/>
                        </a:lnTo>
                        <a:lnTo>
                          <a:pt x="275" y="141"/>
                        </a:lnTo>
                        <a:lnTo>
                          <a:pt x="273" y="114"/>
                        </a:lnTo>
                        <a:lnTo>
                          <a:pt x="266" y="89"/>
                        </a:lnTo>
                        <a:lnTo>
                          <a:pt x="253" y="64"/>
                        </a:lnTo>
                        <a:lnTo>
                          <a:pt x="237" y="44"/>
                        </a:lnTo>
                        <a:lnTo>
                          <a:pt x="217" y="29"/>
                        </a:lnTo>
                        <a:lnTo>
                          <a:pt x="192" y="15"/>
                        </a:lnTo>
                        <a:lnTo>
                          <a:pt x="168" y="8"/>
                        </a:lnTo>
                        <a:lnTo>
                          <a:pt x="141" y="6"/>
                        </a:lnTo>
                        <a:lnTo>
                          <a:pt x="114" y="8"/>
                        </a:lnTo>
                        <a:lnTo>
                          <a:pt x="87" y="15"/>
                        </a:lnTo>
                        <a:lnTo>
                          <a:pt x="65" y="29"/>
                        </a:lnTo>
                        <a:lnTo>
                          <a:pt x="45" y="44"/>
                        </a:lnTo>
                        <a:lnTo>
                          <a:pt x="29" y="64"/>
                        </a:lnTo>
                        <a:lnTo>
                          <a:pt x="15" y="89"/>
                        </a:lnTo>
                        <a:lnTo>
                          <a:pt x="9" y="114"/>
                        </a:lnTo>
                        <a:lnTo>
                          <a:pt x="4" y="141"/>
                        </a:lnTo>
                        <a:lnTo>
                          <a:pt x="9" y="168"/>
                        </a:lnTo>
                        <a:lnTo>
                          <a:pt x="15" y="194"/>
                        </a:lnTo>
                        <a:lnTo>
                          <a:pt x="29" y="217"/>
                        </a:lnTo>
                        <a:lnTo>
                          <a:pt x="45" y="237"/>
                        </a:lnTo>
                        <a:lnTo>
                          <a:pt x="65" y="253"/>
                        </a:lnTo>
                        <a:lnTo>
                          <a:pt x="87" y="266"/>
                        </a:lnTo>
                        <a:lnTo>
                          <a:pt x="114" y="273"/>
                        </a:lnTo>
                        <a:lnTo>
                          <a:pt x="141" y="277"/>
                        </a:lnTo>
                        <a:lnTo>
                          <a:pt x="168" y="273"/>
                        </a:lnTo>
                        <a:lnTo>
                          <a:pt x="192" y="266"/>
                        </a:lnTo>
                        <a:lnTo>
                          <a:pt x="217" y="253"/>
                        </a:lnTo>
                        <a:lnTo>
                          <a:pt x="237" y="237"/>
                        </a:lnTo>
                        <a:lnTo>
                          <a:pt x="253" y="217"/>
                        </a:lnTo>
                        <a:lnTo>
                          <a:pt x="266" y="194"/>
                        </a:lnTo>
                        <a:lnTo>
                          <a:pt x="273" y="168"/>
                        </a:lnTo>
                        <a:lnTo>
                          <a:pt x="275" y="141"/>
                        </a:lnTo>
                        <a:lnTo>
                          <a:pt x="282" y="141"/>
                        </a:lnTo>
                        <a:close/>
                      </a:path>
                    </a:pathLst>
                  </a:custGeom>
                  <a:solidFill>
                    <a:srgbClr val="faf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965160" y="1919160"/>
                    <a:ext cx="43812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76">
                        <a:moveTo>
                          <a:pt x="276" y="137"/>
                        </a:moveTo>
                        <a:lnTo>
                          <a:pt x="273" y="110"/>
                        </a:lnTo>
                        <a:lnTo>
                          <a:pt x="264" y="83"/>
                        </a:lnTo>
                        <a:lnTo>
                          <a:pt x="253" y="60"/>
                        </a:lnTo>
                        <a:lnTo>
                          <a:pt x="235" y="40"/>
                        </a:lnTo>
                        <a:lnTo>
                          <a:pt x="215" y="22"/>
                        </a:lnTo>
                        <a:lnTo>
                          <a:pt x="193" y="11"/>
                        </a:lnTo>
                        <a:lnTo>
                          <a:pt x="166" y="2"/>
                        </a:lnTo>
                        <a:lnTo>
                          <a:pt x="139" y="0"/>
                        </a:lnTo>
                        <a:lnTo>
                          <a:pt x="110" y="2"/>
                        </a:lnTo>
                        <a:lnTo>
                          <a:pt x="85" y="11"/>
                        </a:lnTo>
                        <a:lnTo>
                          <a:pt x="63" y="22"/>
                        </a:lnTo>
                        <a:lnTo>
                          <a:pt x="40" y="40"/>
                        </a:lnTo>
                        <a:lnTo>
                          <a:pt x="25" y="60"/>
                        </a:lnTo>
                        <a:lnTo>
                          <a:pt x="11" y="83"/>
                        </a:lnTo>
                        <a:lnTo>
                          <a:pt x="4" y="110"/>
                        </a:lnTo>
                        <a:lnTo>
                          <a:pt x="0" y="137"/>
                        </a:lnTo>
                        <a:lnTo>
                          <a:pt x="4" y="164"/>
                        </a:lnTo>
                        <a:lnTo>
                          <a:pt x="11" y="190"/>
                        </a:lnTo>
                        <a:lnTo>
                          <a:pt x="25" y="213"/>
                        </a:lnTo>
                        <a:lnTo>
                          <a:pt x="40" y="235"/>
                        </a:lnTo>
                        <a:lnTo>
                          <a:pt x="63" y="251"/>
                        </a:lnTo>
                        <a:lnTo>
                          <a:pt x="85" y="264"/>
                        </a:lnTo>
                        <a:lnTo>
                          <a:pt x="110" y="271"/>
                        </a:lnTo>
                        <a:lnTo>
                          <a:pt x="139" y="276"/>
                        </a:lnTo>
                        <a:lnTo>
                          <a:pt x="166" y="271"/>
                        </a:lnTo>
                        <a:lnTo>
                          <a:pt x="193" y="264"/>
                        </a:lnTo>
                        <a:lnTo>
                          <a:pt x="215" y="251"/>
                        </a:lnTo>
                        <a:lnTo>
                          <a:pt x="235" y="235"/>
                        </a:lnTo>
                        <a:lnTo>
                          <a:pt x="253" y="213"/>
                        </a:lnTo>
                        <a:lnTo>
                          <a:pt x="264" y="190"/>
                        </a:lnTo>
                        <a:lnTo>
                          <a:pt x="273" y="164"/>
                        </a:lnTo>
                        <a:lnTo>
                          <a:pt x="276" y="137"/>
                        </a:lnTo>
                        <a:lnTo>
                          <a:pt x="269" y="137"/>
                        </a:lnTo>
                        <a:lnTo>
                          <a:pt x="267" y="110"/>
                        </a:lnTo>
                        <a:lnTo>
                          <a:pt x="260" y="85"/>
                        </a:lnTo>
                        <a:lnTo>
                          <a:pt x="246" y="63"/>
                        </a:lnTo>
                        <a:lnTo>
                          <a:pt x="231" y="45"/>
                        </a:lnTo>
                        <a:lnTo>
                          <a:pt x="213" y="29"/>
                        </a:lnTo>
                        <a:lnTo>
                          <a:pt x="190" y="16"/>
                        </a:lnTo>
                        <a:lnTo>
                          <a:pt x="166" y="9"/>
                        </a:lnTo>
                        <a:lnTo>
                          <a:pt x="139" y="7"/>
                        </a:lnTo>
                        <a:lnTo>
                          <a:pt x="112" y="9"/>
                        </a:lnTo>
                        <a:lnTo>
                          <a:pt x="87" y="16"/>
                        </a:lnTo>
                        <a:lnTo>
                          <a:pt x="65" y="29"/>
                        </a:lnTo>
                        <a:lnTo>
                          <a:pt x="45" y="45"/>
                        </a:lnTo>
                        <a:lnTo>
                          <a:pt x="29" y="63"/>
                        </a:lnTo>
                        <a:lnTo>
                          <a:pt x="18" y="85"/>
                        </a:lnTo>
                        <a:lnTo>
                          <a:pt x="9" y="110"/>
                        </a:lnTo>
                        <a:lnTo>
                          <a:pt x="7" y="137"/>
                        </a:lnTo>
                        <a:lnTo>
                          <a:pt x="9" y="164"/>
                        </a:lnTo>
                        <a:lnTo>
                          <a:pt x="18" y="188"/>
                        </a:lnTo>
                        <a:lnTo>
                          <a:pt x="29" y="211"/>
                        </a:lnTo>
                        <a:lnTo>
                          <a:pt x="45" y="231"/>
                        </a:lnTo>
                        <a:lnTo>
                          <a:pt x="65" y="247"/>
                        </a:lnTo>
                        <a:lnTo>
                          <a:pt x="87" y="258"/>
                        </a:lnTo>
                        <a:lnTo>
                          <a:pt x="112" y="264"/>
                        </a:lnTo>
                        <a:lnTo>
                          <a:pt x="139" y="269"/>
                        </a:lnTo>
                        <a:lnTo>
                          <a:pt x="166" y="264"/>
                        </a:lnTo>
                        <a:lnTo>
                          <a:pt x="190" y="258"/>
                        </a:lnTo>
                        <a:lnTo>
                          <a:pt x="213" y="247"/>
                        </a:lnTo>
                        <a:lnTo>
                          <a:pt x="231" y="231"/>
                        </a:lnTo>
                        <a:lnTo>
                          <a:pt x="246" y="211"/>
                        </a:lnTo>
                        <a:lnTo>
                          <a:pt x="260" y="188"/>
                        </a:lnTo>
                        <a:lnTo>
                          <a:pt x="267" y="164"/>
                        </a:lnTo>
                        <a:lnTo>
                          <a:pt x="269" y="137"/>
                        </a:lnTo>
                        <a:lnTo>
                          <a:pt x="276" y="137"/>
                        </a:lnTo>
                        <a:close/>
                      </a:path>
                    </a:pathLst>
                  </a:custGeom>
                  <a:solidFill>
                    <a:srgbClr val="faf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971280" y="1925640"/>
                    <a:ext cx="424080" cy="42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7" h="267">
                        <a:moveTo>
                          <a:pt x="267" y="133"/>
                        </a:moveTo>
                        <a:lnTo>
                          <a:pt x="265" y="106"/>
                        </a:lnTo>
                        <a:lnTo>
                          <a:pt x="258" y="81"/>
                        </a:lnTo>
                        <a:lnTo>
                          <a:pt x="245" y="59"/>
                        </a:lnTo>
                        <a:lnTo>
                          <a:pt x="229" y="39"/>
                        </a:lnTo>
                        <a:lnTo>
                          <a:pt x="209" y="23"/>
                        </a:lnTo>
                        <a:lnTo>
                          <a:pt x="186" y="9"/>
                        </a:lnTo>
                        <a:lnTo>
                          <a:pt x="162" y="3"/>
                        </a:lnTo>
                        <a:lnTo>
                          <a:pt x="135" y="0"/>
                        </a:lnTo>
                        <a:lnTo>
                          <a:pt x="108" y="3"/>
                        </a:lnTo>
                        <a:lnTo>
                          <a:pt x="83" y="9"/>
                        </a:lnTo>
                        <a:lnTo>
                          <a:pt x="61" y="23"/>
                        </a:lnTo>
                        <a:lnTo>
                          <a:pt x="41" y="39"/>
                        </a:lnTo>
                        <a:lnTo>
                          <a:pt x="23" y="59"/>
                        </a:lnTo>
                        <a:lnTo>
                          <a:pt x="12" y="81"/>
                        </a:lnTo>
                        <a:lnTo>
                          <a:pt x="5" y="106"/>
                        </a:lnTo>
                        <a:lnTo>
                          <a:pt x="0" y="133"/>
                        </a:lnTo>
                        <a:lnTo>
                          <a:pt x="5" y="160"/>
                        </a:lnTo>
                        <a:lnTo>
                          <a:pt x="12" y="184"/>
                        </a:lnTo>
                        <a:lnTo>
                          <a:pt x="23" y="207"/>
                        </a:lnTo>
                        <a:lnTo>
                          <a:pt x="41" y="227"/>
                        </a:lnTo>
                        <a:lnTo>
                          <a:pt x="61" y="245"/>
                        </a:lnTo>
                        <a:lnTo>
                          <a:pt x="83" y="256"/>
                        </a:lnTo>
                        <a:lnTo>
                          <a:pt x="108" y="263"/>
                        </a:lnTo>
                        <a:lnTo>
                          <a:pt x="135" y="267"/>
                        </a:lnTo>
                        <a:lnTo>
                          <a:pt x="162" y="263"/>
                        </a:lnTo>
                        <a:lnTo>
                          <a:pt x="186" y="256"/>
                        </a:lnTo>
                        <a:lnTo>
                          <a:pt x="209" y="245"/>
                        </a:lnTo>
                        <a:lnTo>
                          <a:pt x="229" y="227"/>
                        </a:lnTo>
                        <a:lnTo>
                          <a:pt x="245" y="207"/>
                        </a:lnTo>
                        <a:lnTo>
                          <a:pt x="258" y="184"/>
                        </a:lnTo>
                        <a:lnTo>
                          <a:pt x="265" y="160"/>
                        </a:lnTo>
                        <a:lnTo>
                          <a:pt x="267" y="133"/>
                        </a:lnTo>
                        <a:lnTo>
                          <a:pt x="263" y="133"/>
                        </a:lnTo>
                        <a:lnTo>
                          <a:pt x="258" y="108"/>
                        </a:lnTo>
                        <a:lnTo>
                          <a:pt x="251" y="83"/>
                        </a:lnTo>
                        <a:lnTo>
                          <a:pt x="240" y="61"/>
                        </a:lnTo>
                        <a:lnTo>
                          <a:pt x="225" y="43"/>
                        </a:lnTo>
                        <a:lnTo>
                          <a:pt x="207" y="27"/>
                        </a:lnTo>
                        <a:lnTo>
                          <a:pt x="184" y="16"/>
                        </a:lnTo>
                        <a:lnTo>
                          <a:pt x="160" y="9"/>
                        </a:lnTo>
                        <a:lnTo>
                          <a:pt x="135" y="5"/>
                        </a:lnTo>
                        <a:lnTo>
                          <a:pt x="108" y="9"/>
                        </a:lnTo>
                        <a:lnTo>
                          <a:pt x="86" y="16"/>
                        </a:lnTo>
                        <a:lnTo>
                          <a:pt x="63" y="27"/>
                        </a:lnTo>
                        <a:lnTo>
                          <a:pt x="45" y="43"/>
                        </a:lnTo>
                        <a:lnTo>
                          <a:pt x="30" y="61"/>
                        </a:lnTo>
                        <a:lnTo>
                          <a:pt x="18" y="83"/>
                        </a:lnTo>
                        <a:lnTo>
                          <a:pt x="9" y="108"/>
                        </a:lnTo>
                        <a:lnTo>
                          <a:pt x="7" y="133"/>
                        </a:lnTo>
                        <a:lnTo>
                          <a:pt x="9" y="160"/>
                        </a:lnTo>
                        <a:lnTo>
                          <a:pt x="18" y="182"/>
                        </a:lnTo>
                        <a:lnTo>
                          <a:pt x="30" y="204"/>
                        </a:lnTo>
                        <a:lnTo>
                          <a:pt x="45" y="222"/>
                        </a:lnTo>
                        <a:lnTo>
                          <a:pt x="63" y="238"/>
                        </a:lnTo>
                        <a:lnTo>
                          <a:pt x="86" y="249"/>
                        </a:lnTo>
                        <a:lnTo>
                          <a:pt x="108" y="258"/>
                        </a:lnTo>
                        <a:lnTo>
                          <a:pt x="135" y="260"/>
                        </a:lnTo>
                        <a:lnTo>
                          <a:pt x="160" y="258"/>
                        </a:lnTo>
                        <a:lnTo>
                          <a:pt x="184" y="249"/>
                        </a:lnTo>
                        <a:lnTo>
                          <a:pt x="207" y="238"/>
                        </a:lnTo>
                        <a:lnTo>
                          <a:pt x="225" y="222"/>
                        </a:lnTo>
                        <a:lnTo>
                          <a:pt x="240" y="204"/>
                        </a:lnTo>
                        <a:lnTo>
                          <a:pt x="251" y="182"/>
                        </a:lnTo>
                        <a:lnTo>
                          <a:pt x="258" y="160"/>
                        </a:lnTo>
                        <a:lnTo>
                          <a:pt x="263" y="133"/>
                        </a:lnTo>
                        <a:lnTo>
                          <a:pt x="267" y="133"/>
                        </a:lnTo>
                        <a:close/>
                      </a:path>
                    </a:pathLst>
                  </a:custGeom>
                  <a:solidFill>
                    <a:srgbClr val="faf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979200" y="1930320"/>
                    <a:ext cx="41292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260">
                        <a:moveTo>
                          <a:pt x="260" y="130"/>
                        </a:moveTo>
                        <a:lnTo>
                          <a:pt x="255" y="105"/>
                        </a:lnTo>
                        <a:lnTo>
                          <a:pt x="249" y="80"/>
                        </a:lnTo>
                        <a:lnTo>
                          <a:pt x="237" y="58"/>
                        </a:lnTo>
                        <a:lnTo>
                          <a:pt x="222" y="38"/>
                        </a:lnTo>
                        <a:lnTo>
                          <a:pt x="202" y="22"/>
                        </a:lnTo>
                        <a:lnTo>
                          <a:pt x="179" y="11"/>
                        </a:lnTo>
                        <a:lnTo>
                          <a:pt x="155" y="4"/>
                        </a:lnTo>
                        <a:lnTo>
                          <a:pt x="130" y="0"/>
                        </a:lnTo>
                        <a:lnTo>
                          <a:pt x="103" y="4"/>
                        </a:lnTo>
                        <a:lnTo>
                          <a:pt x="78" y="11"/>
                        </a:lnTo>
                        <a:lnTo>
                          <a:pt x="58" y="22"/>
                        </a:lnTo>
                        <a:lnTo>
                          <a:pt x="38" y="38"/>
                        </a:lnTo>
                        <a:lnTo>
                          <a:pt x="22" y="58"/>
                        </a:lnTo>
                        <a:lnTo>
                          <a:pt x="11" y="80"/>
                        </a:lnTo>
                        <a:lnTo>
                          <a:pt x="2" y="105"/>
                        </a:lnTo>
                        <a:lnTo>
                          <a:pt x="0" y="130"/>
                        </a:lnTo>
                        <a:lnTo>
                          <a:pt x="2" y="157"/>
                        </a:lnTo>
                        <a:lnTo>
                          <a:pt x="11" y="181"/>
                        </a:lnTo>
                        <a:lnTo>
                          <a:pt x="22" y="201"/>
                        </a:lnTo>
                        <a:lnTo>
                          <a:pt x="38" y="222"/>
                        </a:lnTo>
                        <a:lnTo>
                          <a:pt x="58" y="237"/>
                        </a:lnTo>
                        <a:lnTo>
                          <a:pt x="78" y="248"/>
                        </a:lnTo>
                        <a:lnTo>
                          <a:pt x="103" y="257"/>
                        </a:lnTo>
                        <a:lnTo>
                          <a:pt x="130" y="260"/>
                        </a:lnTo>
                        <a:lnTo>
                          <a:pt x="155" y="257"/>
                        </a:lnTo>
                        <a:lnTo>
                          <a:pt x="179" y="248"/>
                        </a:lnTo>
                        <a:lnTo>
                          <a:pt x="202" y="237"/>
                        </a:lnTo>
                        <a:lnTo>
                          <a:pt x="222" y="222"/>
                        </a:lnTo>
                        <a:lnTo>
                          <a:pt x="237" y="201"/>
                        </a:lnTo>
                        <a:lnTo>
                          <a:pt x="249" y="181"/>
                        </a:lnTo>
                        <a:lnTo>
                          <a:pt x="255" y="157"/>
                        </a:lnTo>
                        <a:lnTo>
                          <a:pt x="260" y="130"/>
                        </a:lnTo>
                        <a:lnTo>
                          <a:pt x="253" y="130"/>
                        </a:lnTo>
                        <a:lnTo>
                          <a:pt x="251" y="105"/>
                        </a:lnTo>
                        <a:lnTo>
                          <a:pt x="242" y="83"/>
                        </a:lnTo>
                        <a:lnTo>
                          <a:pt x="231" y="60"/>
                        </a:lnTo>
                        <a:lnTo>
                          <a:pt x="217" y="42"/>
                        </a:lnTo>
                        <a:lnTo>
                          <a:pt x="199" y="29"/>
                        </a:lnTo>
                        <a:lnTo>
                          <a:pt x="177" y="18"/>
                        </a:lnTo>
                        <a:lnTo>
                          <a:pt x="155" y="9"/>
                        </a:lnTo>
                        <a:lnTo>
                          <a:pt x="130" y="6"/>
                        </a:lnTo>
                        <a:lnTo>
                          <a:pt x="105" y="9"/>
                        </a:lnTo>
                        <a:lnTo>
                          <a:pt x="83" y="18"/>
                        </a:lnTo>
                        <a:lnTo>
                          <a:pt x="60" y="29"/>
                        </a:lnTo>
                        <a:lnTo>
                          <a:pt x="42" y="42"/>
                        </a:lnTo>
                        <a:lnTo>
                          <a:pt x="27" y="60"/>
                        </a:lnTo>
                        <a:lnTo>
                          <a:pt x="16" y="83"/>
                        </a:lnTo>
                        <a:lnTo>
                          <a:pt x="9" y="105"/>
                        </a:lnTo>
                        <a:lnTo>
                          <a:pt x="7" y="130"/>
                        </a:lnTo>
                        <a:lnTo>
                          <a:pt x="9" y="154"/>
                        </a:lnTo>
                        <a:lnTo>
                          <a:pt x="16" y="177"/>
                        </a:lnTo>
                        <a:lnTo>
                          <a:pt x="27" y="199"/>
                        </a:lnTo>
                        <a:lnTo>
                          <a:pt x="42" y="217"/>
                        </a:lnTo>
                        <a:lnTo>
                          <a:pt x="60" y="233"/>
                        </a:lnTo>
                        <a:lnTo>
                          <a:pt x="83" y="244"/>
                        </a:lnTo>
                        <a:lnTo>
                          <a:pt x="105" y="251"/>
                        </a:lnTo>
                        <a:lnTo>
                          <a:pt x="130" y="253"/>
                        </a:lnTo>
                        <a:lnTo>
                          <a:pt x="155" y="251"/>
                        </a:lnTo>
                        <a:lnTo>
                          <a:pt x="177" y="244"/>
                        </a:lnTo>
                        <a:lnTo>
                          <a:pt x="199" y="233"/>
                        </a:lnTo>
                        <a:lnTo>
                          <a:pt x="217" y="217"/>
                        </a:lnTo>
                        <a:lnTo>
                          <a:pt x="231" y="199"/>
                        </a:lnTo>
                        <a:lnTo>
                          <a:pt x="242" y="177"/>
                        </a:lnTo>
                        <a:lnTo>
                          <a:pt x="251" y="154"/>
                        </a:lnTo>
                        <a:lnTo>
                          <a:pt x="253" y="130"/>
                        </a:lnTo>
                        <a:lnTo>
                          <a:pt x="260" y="130"/>
                        </a:lnTo>
                        <a:close/>
                      </a:path>
                    </a:pathLst>
                  </a:custGeom>
                  <a:solidFill>
                    <a:srgbClr val="faf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985680" y="1936440"/>
                    <a:ext cx="39852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251">
                        <a:moveTo>
                          <a:pt x="251" y="126"/>
                        </a:moveTo>
                        <a:lnTo>
                          <a:pt x="249" y="101"/>
                        </a:lnTo>
                        <a:lnTo>
                          <a:pt x="240" y="76"/>
                        </a:lnTo>
                        <a:lnTo>
                          <a:pt x="229" y="56"/>
                        </a:lnTo>
                        <a:lnTo>
                          <a:pt x="213" y="38"/>
                        </a:lnTo>
                        <a:lnTo>
                          <a:pt x="195" y="23"/>
                        </a:lnTo>
                        <a:lnTo>
                          <a:pt x="175" y="11"/>
                        </a:lnTo>
                        <a:lnTo>
                          <a:pt x="151" y="2"/>
                        </a:lnTo>
                        <a:lnTo>
                          <a:pt x="126" y="0"/>
                        </a:lnTo>
                        <a:lnTo>
                          <a:pt x="101" y="2"/>
                        </a:lnTo>
                        <a:lnTo>
                          <a:pt x="77" y="11"/>
                        </a:lnTo>
                        <a:lnTo>
                          <a:pt x="56" y="23"/>
                        </a:lnTo>
                        <a:lnTo>
                          <a:pt x="36" y="38"/>
                        </a:lnTo>
                        <a:lnTo>
                          <a:pt x="23" y="56"/>
                        </a:lnTo>
                        <a:lnTo>
                          <a:pt x="9" y="76"/>
                        </a:lnTo>
                        <a:lnTo>
                          <a:pt x="3" y="101"/>
                        </a:lnTo>
                        <a:lnTo>
                          <a:pt x="0" y="126"/>
                        </a:lnTo>
                        <a:lnTo>
                          <a:pt x="3" y="150"/>
                        </a:lnTo>
                        <a:lnTo>
                          <a:pt x="9" y="175"/>
                        </a:lnTo>
                        <a:lnTo>
                          <a:pt x="23" y="195"/>
                        </a:lnTo>
                        <a:lnTo>
                          <a:pt x="36" y="215"/>
                        </a:lnTo>
                        <a:lnTo>
                          <a:pt x="56" y="229"/>
                        </a:lnTo>
                        <a:lnTo>
                          <a:pt x="77" y="242"/>
                        </a:lnTo>
                        <a:lnTo>
                          <a:pt x="101" y="249"/>
                        </a:lnTo>
                        <a:lnTo>
                          <a:pt x="126" y="251"/>
                        </a:lnTo>
                        <a:lnTo>
                          <a:pt x="151" y="249"/>
                        </a:lnTo>
                        <a:lnTo>
                          <a:pt x="175" y="242"/>
                        </a:lnTo>
                        <a:lnTo>
                          <a:pt x="195" y="229"/>
                        </a:lnTo>
                        <a:lnTo>
                          <a:pt x="213" y="215"/>
                        </a:lnTo>
                        <a:lnTo>
                          <a:pt x="229" y="195"/>
                        </a:lnTo>
                        <a:lnTo>
                          <a:pt x="240" y="175"/>
                        </a:lnTo>
                        <a:lnTo>
                          <a:pt x="249" y="150"/>
                        </a:lnTo>
                        <a:lnTo>
                          <a:pt x="251" y="126"/>
                        </a:lnTo>
                        <a:lnTo>
                          <a:pt x="245" y="126"/>
                        </a:lnTo>
                        <a:lnTo>
                          <a:pt x="242" y="101"/>
                        </a:lnTo>
                        <a:lnTo>
                          <a:pt x="236" y="81"/>
                        </a:lnTo>
                        <a:lnTo>
                          <a:pt x="224" y="61"/>
                        </a:lnTo>
                        <a:lnTo>
                          <a:pt x="209" y="43"/>
                        </a:lnTo>
                        <a:lnTo>
                          <a:pt x="191" y="27"/>
                        </a:lnTo>
                        <a:lnTo>
                          <a:pt x="171" y="16"/>
                        </a:lnTo>
                        <a:lnTo>
                          <a:pt x="151" y="9"/>
                        </a:lnTo>
                        <a:lnTo>
                          <a:pt x="126" y="7"/>
                        </a:lnTo>
                        <a:lnTo>
                          <a:pt x="101" y="9"/>
                        </a:lnTo>
                        <a:lnTo>
                          <a:pt x="79" y="16"/>
                        </a:lnTo>
                        <a:lnTo>
                          <a:pt x="59" y="27"/>
                        </a:lnTo>
                        <a:lnTo>
                          <a:pt x="43" y="43"/>
                        </a:lnTo>
                        <a:lnTo>
                          <a:pt x="27" y="61"/>
                        </a:lnTo>
                        <a:lnTo>
                          <a:pt x="16" y="81"/>
                        </a:lnTo>
                        <a:lnTo>
                          <a:pt x="9" y="101"/>
                        </a:lnTo>
                        <a:lnTo>
                          <a:pt x="7" y="126"/>
                        </a:lnTo>
                        <a:lnTo>
                          <a:pt x="9" y="150"/>
                        </a:lnTo>
                        <a:lnTo>
                          <a:pt x="16" y="173"/>
                        </a:lnTo>
                        <a:lnTo>
                          <a:pt x="27" y="193"/>
                        </a:lnTo>
                        <a:lnTo>
                          <a:pt x="43" y="209"/>
                        </a:lnTo>
                        <a:lnTo>
                          <a:pt x="59" y="224"/>
                        </a:lnTo>
                        <a:lnTo>
                          <a:pt x="79" y="236"/>
                        </a:lnTo>
                        <a:lnTo>
                          <a:pt x="101" y="242"/>
                        </a:lnTo>
                        <a:lnTo>
                          <a:pt x="126" y="244"/>
                        </a:lnTo>
                        <a:lnTo>
                          <a:pt x="151" y="242"/>
                        </a:lnTo>
                        <a:lnTo>
                          <a:pt x="171" y="236"/>
                        </a:lnTo>
                        <a:lnTo>
                          <a:pt x="191" y="224"/>
                        </a:lnTo>
                        <a:lnTo>
                          <a:pt x="209" y="209"/>
                        </a:lnTo>
                        <a:lnTo>
                          <a:pt x="224" y="193"/>
                        </a:lnTo>
                        <a:lnTo>
                          <a:pt x="236" y="173"/>
                        </a:lnTo>
                        <a:lnTo>
                          <a:pt x="242" y="150"/>
                        </a:lnTo>
                        <a:lnTo>
                          <a:pt x="245" y="126"/>
                        </a:lnTo>
                        <a:lnTo>
                          <a:pt x="251" y="126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993600" y="1944360"/>
                    <a:ext cx="384120" cy="38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242">
                        <a:moveTo>
                          <a:pt x="242" y="121"/>
                        </a:moveTo>
                        <a:lnTo>
                          <a:pt x="240" y="96"/>
                        </a:lnTo>
                        <a:lnTo>
                          <a:pt x="231" y="74"/>
                        </a:lnTo>
                        <a:lnTo>
                          <a:pt x="222" y="53"/>
                        </a:lnTo>
                        <a:lnTo>
                          <a:pt x="206" y="36"/>
                        </a:lnTo>
                        <a:lnTo>
                          <a:pt x="188" y="20"/>
                        </a:lnTo>
                        <a:lnTo>
                          <a:pt x="168" y="11"/>
                        </a:lnTo>
                        <a:lnTo>
                          <a:pt x="146" y="2"/>
                        </a:lnTo>
                        <a:lnTo>
                          <a:pt x="121" y="0"/>
                        </a:lnTo>
                        <a:lnTo>
                          <a:pt x="96" y="2"/>
                        </a:lnTo>
                        <a:lnTo>
                          <a:pt x="74" y="11"/>
                        </a:lnTo>
                        <a:lnTo>
                          <a:pt x="54" y="20"/>
                        </a:lnTo>
                        <a:lnTo>
                          <a:pt x="36" y="36"/>
                        </a:lnTo>
                        <a:lnTo>
                          <a:pt x="20" y="53"/>
                        </a:lnTo>
                        <a:lnTo>
                          <a:pt x="9" y="74"/>
                        </a:lnTo>
                        <a:lnTo>
                          <a:pt x="2" y="96"/>
                        </a:lnTo>
                        <a:lnTo>
                          <a:pt x="0" y="121"/>
                        </a:lnTo>
                        <a:lnTo>
                          <a:pt x="2" y="145"/>
                        </a:lnTo>
                        <a:lnTo>
                          <a:pt x="9" y="168"/>
                        </a:lnTo>
                        <a:lnTo>
                          <a:pt x="20" y="188"/>
                        </a:lnTo>
                        <a:lnTo>
                          <a:pt x="36" y="206"/>
                        </a:lnTo>
                        <a:lnTo>
                          <a:pt x="54" y="222"/>
                        </a:lnTo>
                        <a:lnTo>
                          <a:pt x="74" y="233"/>
                        </a:lnTo>
                        <a:lnTo>
                          <a:pt x="96" y="239"/>
                        </a:lnTo>
                        <a:lnTo>
                          <a:pt x="121" y="242"/>
                        </a:lnTo>
                        <a:lnTo>
                          <a:pt x="146" y="239"/>
                        </a:lnTo>
                        <a:lnTo>
                          <a:pt x="168" y="233"/>
                        </a:lnTo>
                        <a:lnTo>
                          <a:pt x="188" y="222"/>
                        </a:lnTo>
                        <a:lnTo>
                          <a:pt x="206" y="206"/>
                        </a:lnTo>
                        <a:lnTo>
                          <a:pt x="222" y="188"/>
                        </a:lnTo>
                        <a:lnTo>
                          <a:pt x="231" y="168"/>
                        </a:lnTo>
                        <a:lnTo>
                          <a:pt x="240" y="145"/>
                        </a:lnTo>
                        <a:lnTo>
                          <a:pt x="242" y="121"/>
                        </a:lnTo>
                        <a:lnTo>
                          <a:pt x="235" y="121"/>
                        </a:lnTo>
                        <a:lnTo>
                          <a:pt x="233" y="98"/>
                        </a:lnTo>
                        <a:lnTo>
                          <a:pt x="226" y="76"/>
                        </a:lnTo>
                        <a:lnTo>
                          <a:pt x="215" y="58"/>
                        </a:lnTo>
                        <a:lnTo>
                          <a:pt x="202" y="40"/>
                        </a:lnTo>
                        <a:lnTo>
                          <a:pt x="184" y="27"/>
                        </a:lnTo>
                        <a:lnTo>
                          <a:pt x="166" y="15"/>
                        </a:lnTo>
                        <a:lnTo>
                          <a:pt x="143" y="9"/>
                        </a:lnTo>
                        <a:lnTo>
                          <a:pt x="121" y="6"/>
                        </a:lnTo>
                        <a:lnTo>
                          <a:pt x="98" y="9"/>
                        </a:lnTo>
                        <a:lnTo>
                          <a:pt x="76" y="15"/>
                        </a:lnTo>
                        <a:lnTo>
                          <a:pt x="56" y="27"/>
                        </a:lnTo>
                        <a:lnTo>
                          <a:pt x="40" y="40"/>
                        </a:lnTo>
                        <a:lnTo>
                          <a:pt x="27" y="58"/>
                        </a:lnTo>
                        <a:lnTo>
                          <a:pt x="16" y="76"/>
                        </a:lnTo>
                        <a:lnTo>
                          <a:pt x="9" y="98"/>
                        </a:lnTo>
                        <a:lnTo>
                          <a:pt x="7" y="121"/>
                        </a:lnTo>
                        <a:lnTo>
                          <a:pt x="9" y="143"/>
                        </a:lnTo>
                        <a:lnTo>
                          <a:pt x="16" y="166"/>
                        </a:lnTo>
                        <a:lnTo>
                          <a:pt x="27" y="186"/>
                        </a:lnTo>
                        <a:lnTo>
                          <a:pt x="40" y="201"/>
                        </a:lnTo>
                        <a:lnTo>
                          <a:pt x="56" y="215"/>
                        </a:lnTo>
                        <a:lnTo>
                          <a:pt x="76" y="226"/>
                        </a:lnTo>
                        <a:lnTo>
                          <a:pt x="98" y="233"/>
                        </a:lnTo>
                        <a:lnTo>
                          <a:pt x="121" y="235"/>
                        </a:lnTo>
                        <a:lnTo>
                          <a:pt x="143" y="233"/>
                        </a:lnTo>
                        <a:lnTo>
                          <a:pt x="166" y="226"/>
                        </a:lnTo>
                        <a:lnTo>
                          <a:pt x="184" y="215"/>
                        </a:lnTo>
                        <a:lnTo>
                          <a:pt x="202" y="201"/>
                        </a:lnTo>
                        <a:lnTo>
                          <a:pt x="215" y="186"/>
                        </a:lnTo>
                        <a:lnTo>
                          <a:pt x="226" y="166"/>
                        </a:lnTo>
                        <a:lnTo>
                          <a:pt x="233" y="143"/>
                        </a:lnTo>
                        <a:lnTo>
                          <a:pt x="235" y="121"/>
                        </a:lnTo>
                        <a:lnTo>
                          <a:pt x="242" y="121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1000080" y="1950840"/>
                    <a:ext cx="369720" cy="3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33">
                        <a:moveTo>
                          <a:pt x="233" y="117"/>
                        </a:moveTo>
                        <a:lnTo>
                          <a:pt x="231" y="94"/>
                        </a:lnTo>
                        <a:lnTo>
                          <a:pt x="224" y="72"/>
                        </a:lnTo>
                        <a:lnTo>
                          <a:pt x="213" y="52"/>
                        </a:lnTo>
                        <a:lnTo>
                          <a:pt x="200" y="34"/>
                        </a:lnTo>
                        <a:lnTo>
                          <a:pt x="182" y="20"/>
                        </a:lnTo>
                        <a:lnTo>
                          <a:pt x="162" y="9"/>
                        </a:lnTo>
                        <a:lnTo>
                          <a:pt x="139" y="2"/>
                        </a:lnTo>
                        <a:lnTo>
                          <a:pt x="117" y="0"/>
                        </a:lnTo>
                        <a:lnTo>
                          <a:pt x="92" y="2"/>
                        </a:lnTo>
                        <a:lnTo>
                          <a:pt x="72" y="9"/>
                        </a:lnTo>
                        <a:lnTo>
                          <a:pt x="52" y="20"/>
                        </a:lnTo>
                        <a:lnTo>
                          <a:pt x="34" y="34"/>
                        </a:lnTo>
                        <a:lnTo>
                          <a:pt x="21" y="52"/>
                        </a:lnTo>
                        <a:lnTo>
                          <a:pt x="9" y="72"/>
                        </a:lnTo>
                        <a:lnTo>
                          <a:pt x="3" y="94"/>
                        </a:lnTo>
                        <a:lnTo>
                          <a:pt x="0" y="117"/>
                        </a:lnTo>
                        <a:lnTo>
                          <a:pt x="3" y="141"/>
                        </a:lnTo>
                        <a:lnTo>
                          <a:pt x="9" y="162"/>
                        </a:lnTo>
                        <a:lnTo>
                          <a:pt x="21" y="182"/>
                        </a:lnTo>
                        <a:lnTo>
                          <a:pt x="34" y="200"/>
                        </a:lnTo>
                        <a:lnTo>
                          <a:pt x="52" y="213"/>
                        </a:lnTo>
                        <a:lnTo>
                          <a:pt x="72" y="224"/>
                        </a:lnTo>
                        <a:lnTo>
                          <a:pt x="92" y="231"/>
                        </a:lnTo>
                        <a:lnTo>
                          <a:pt x="117" y="233"/>
                        </a:lnTo>
                        <a:lnTo>
                          <a:pt x="139" y="231"/>
                        </a:lnTo>
                        <a:lnTo>
                          <a:pt x="162" y="224"/>
                        </a:lnTo>
                        <a:lnTo>
                          <a:pt x="182" y="213"/>
                        </a:lnTo>
                        <a:lnTo>
                          <a:pt x="200" y="200"/>
                        </a:lnTo>
                        <a:lnTo>
                          <a:pt x="213" y="182"/>
                        </a:lnTo>
                        <a:lnTo>
                          <a:pt x="224" y="162"/>
                        </a:lnTo>
                        <a:lnTo>
                          <a:pt x="231" y="141"/>
                        </a:lnTo>
                        <a:lnTo>
                          <a:pt x="233" y="117"/>
                        </a:lnTo>
                        <a:lnTo>
                          <a:pt x="227" y="117"/>
                        </a:lnTo>
                        <a:lnTo>
                          <a:pt x="224" y="94"/>
                        </a:lnTo>
                        <a:lnTo>
                          <a:pt x="218" y="74"/>
                        </a:lnTo>
                        <a:lnTo>
                          <a:pt x="209" y="56"/>
                        </a:lnTo>
                        <a:lnTo>
                          <a:pt x="195" y="38"/>
                        </a:lnTo>
                        <a:lnTo>
                          <a:pt x="177" y="25"/>
                        </a:lnTo>
                        <a:lnTo>
                          <a:pt x="159" y="16"/>
                        </a:lnTo>
                        <a:lnTo>
                          <a:pt x="139" y="9"/>
                        </a:lnTo>
                        <a:lnTo>
                          <a:pt x="117" y="7"/>
                        </a:lnTo>
                        <a:lnTo>
                          <a:pt x="94" y="9"/>
                        </a:lnTo>
                        <a:lnTo>
                          <a:pt x="74" y="16"/>
                        </a:lnTo>
                        <a:lnTo>
                          <a:pt x="54" y="25"/>
                        </a:lnTo>
                        <a:lnTo>
                          <a:pt x="38" y="38"/>
                        </a:lnTo>
                        <a:lnTo>
                          <a:pt x="25" y="56"/>
                        </a:lnTo>
                        <a:lnTo>
                          <a:pt x="16" y="74"/>
                        </a:lnTo>
                        <a:lnTo>
                          <a:pt x="9" y="94"/>
                        </a:lnTo>
                        <a:lnTo>
                          <a:pt x="7" y="117"/>
                        </a:lnTo>
                        <a:lnTo>
                          <a:pt x="9" y="139"/>
                        </a:lnTo>
                        <a:lnTo>
                          <a:pt x="16" y="159"/>
                        </a:lnTo>
                        <a:lnTo>
                          <a:pt x="25" y="179"/>
                        </a:lnTo>
                        <a:lnTo>
                          <a:pt x="38" y="195"/>
                        </a:lnTo>
                        <a:lnTo>
                          <a:pt x="54" y="209"/>
                        </a:lnTo>
                        <a:lnTo>
                          <a:pt x="74" y="218"/>
                        </a:lnTo>
                        <a:lnTo>
                          <a:pt x="94" y="224"/>
                        </a:lnTo>
                        <a:lnTo>
                          <a:pt x="117" y="227"/>
                        </a:lnTo>
                        <a:lnTo>
                          <a:pt x="139" y="224"/>
                        </a:lnTo>
                        <a:lnTo>
                          <a:pt x="159" y="218"/>
                        </a:lnTo>
                        <a:lnTo>
                          <a:pt x="177" y="209"/>
                        </a:lnTo>
                        <a:lnTo>
                          <a:pt x="195" y="195"/>
                        </a:lnTo>
                        <a:lnTo>
                          <a:pt x="209" y="179"/>
                        </a:lnTo>
                        <a:lnTo>
                          <a:pt x="218" y="159"/>
                        </a:lnTo>
                        <a:lnTo>
                          <a:pt x="224" y="139"/>
                        </a:lnTo>
                        <a:lnTo>
                          <a:pt x="227" y="117"/>
                        </a:lnTo>
                        <a:lnTo>
                          <a:pt x="233" y="117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008000" y="1958760"/>
                    <a:ext cx="35532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224">
                        <a:moveTo>
                          <a:pt x="224" y="112"/>
                        </a:moveTo>
                        <a:lnTo>
                          <a:pt x="222" y="89"/>
                        </a:lnTo>
                        <a:lnTo>
                          <a:pt x="215" y="69"/>
                        </a:lnTo>
                        <a:lnTo>
                          <a:pt x="204" y="49"/>
                        </a:lnTo>
                        <a:lnTo>
                          <a:pt x="190" y="33"/>
                        </a:lnTo>
                        <a:lnTo>
                          <a:pt x="175" y="20"/>
                        </a:lnTo>
                        <a:lnTo>
                          <a:pt x="154" y="9"/>
                        </a:lnTo>
                        <a:lnTo>
                          <a:pt x="134" y="2"/>
                        </a:lnTo>
                        <a:lnTo>
                          <a:pt x="112" y="0"/>
                        </a:lnTo>
                        <a:lnTo>
                          <a:pt x="89" y="2"/>
                        </a:lnTo>
                        <a:lnTo>
                          <a:pt x="67" y="9"/>
                        </a:lnTo>
                        <a:lnTo>
                          <a:pt x="49" y="20"/>
                        </a:lnTo>
                        <a:lnTo>
                          <a:pt x="31" y="33"/>
                        </a:lnTo>
                        <a:lnTo>
                          <a:pt x="18" y="49"/>
                        </a:lnTo>
                        <a:lnTo>
                          <a:pt x="9" y="69"/>
                        </a:lnTo>
                        <a:lnTo>
                          <a:pt x="2" y="89"/>
                        </a:lnTo>
                        <a:lnTo>
                          <a:pt x="0" y="112"/>
                        </a:lnTo>
                        <a:lnTo>
                          <a:pt x="2" y="134"/>
                        </a:lnTo>
                        <a:lnTo>
                          <a:pt x="9" y="157"/>
                        </a:lnTo>
                        <a:lnTo>
                          <a:pt x="18" y="174"/>
                        </a:lnTo>
                        <a:lnTo>
                          <a:pt x="31" y="192"/>
                        </a:lnTo>
                        <a:lnTo>
                          <a:pt x="49" y="206"/>
                        </a:lnTo>
                        <a:lnTo>
                          <a:pt x="67" y="215"/>
                        </a:lnTo>
                        <a:lnTo>
                          <a:pt x="89" y="222"/>
                        </a:lnTo>
                        <a:lnTo>
                          <a:pt x="112" y="224"/>
                        </a:lnTo>
                        <a:lnTo>
                          <a:pt x="134" y="222"/>
                        </a:lnTo>
                        <a:lnTo>
                          <a:pt x="154" y="215"/>
                        </a:lnTo>
                        <a:lnTo>
                          <a:pt x="175" y="206"/>
                        </a:lnTo>
                        <a:lnTo>
                          <a:pt x="190" y="192"/>
                        </a:lnTo>
                        <a:lnTo>
                          <a:pt x="204" y="174"/>
                        </a:lnTo>
                        <a:lnTo>
                          <a:pt x="215" y="157"/>
                        </a:lnTo>
                        <a:lnTo>
                          <a:pt x="222" y="134"/>
                        </a:lnTo>
                        <a:lnTo>
                          <a:pt x="224" y="112"/>
                        </a:lnTo>
                        <a:lnTo>
                          <a:pt x="217" y="112"/>
                        </a:lnTo>
                        <a:lnTo>
                          <a:pt x="215" y="92"/>
                        </a:lnTo>
                        <a:lnTo>
                          <a:pt x="208" y="71"/>
                        </a:lnTo>
                        <a:lnTo>
                          <a:pt x="199" y="53"/>
                        </a:lnTo>
                        <a:lnTo>
                          <a:pt x="186" y="38"/>
                        </a:lnTo>
                        <a:lnTo>
                          <a:pt x="170" y="24"/>
                        </a:lnTo>
                        <a:lnTo>
                          <a:pt x="152" y="15"/>
                        </a:lnTo>
                        <a:lnTo>
                          <a:pt x="132" y="9"/>
                        </a:lnTo>
                        <a:lnTo>
                          <a:pt x="112" y="6"/>
                        </a:lnTo>
                        <a:lnTo>
                          <a:pt x="89" y="9"/>
                        </a:lnTo>
                        <a:lnTo>
                          <a:pt x="72" y="15"/>
                        </a:lnTo>
                        <a:lnTo>
                          <a:pt x="51" y="24"/>
                        </a:lnTo>
                        <a:lnTo>
                          <a:pt x="36" y="38"/>
                        </a:lnTo>
                        <a:lnTo>
                          <a:pt x="24" y="53"/>
                        </a:lnTo>
                        <a:lnTo>
                          <a:pt x="13" y="71"/>
                        </a:lnTo>
                        <a:lnTo>
                          <a:pt x="9" y="92"/>
                        </a:lnTo>
                        <a:lnTo>
                          <a:pt x="7" y="112"/>
                        </a:lnTo>
                        <a:lnTo>
                          <a:pt x="9" y="134"/>
                        </a:lnTo>
                        <a:lnTo>
                          <a:pt x="13" y="152"/>
                        </a:lnTo>
                        <a:lnTo>
                          <a:pt x="24" y="172"/>
                        </a:lnTo>
                        <a:lnTo>
                          <a:pt x="36" y="188"/>
                        </a:lnTo>
                        <a:lnTo>
                          <a:pt x="51" y="199"/>
                        </a:lnTo>
                        <a:lnTo>
                          <a:pt x="72" y="210"/>
                        </a:lnTo>
                        <a:lnTo>
                          <a:pt x="89" y="215"/>
                        </a:lnTo>
                        <a:lnTo>
                          <a:pt x="112" y="217"/>
                        </a:lnTo>
                        <a:lnTo>
                          <a:pt x="132" y="215"/>
                        </a:lnTo>
                        <a:lnTo>
                          <a:pt x="152" y="210"/>
                        </a:lnTo>
                        <a:lnTo>
                          <a:pt x="170" y="199"/>
                        </a:lnTo>
                        <a:lnTo>
                          <a:pt x="186" y="188"/>
                        </a:lnTo>
                        <a:lnTo>
                          <a:pt x="199" y="172"/>
                        </a:lnTo>
                        <a:lnTo>
                          <a:pt x="208" y="152"/>
                        </a:lnTo>
                        <a:lnTo>
                          <a:pt x="215" y="134"/>
                        </a:lnTo>
                        <a:lnTo>
                          <a:pt x="217" y="112"/>
                        </a:lnTo>
                        <a:lnTo>
                          <a:pt x="224" y="112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014120" y="1965240"/>
                    <a:ext cx="3412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15">
                        <a:moveTo>
                          <a:pt x="215" y="108"/>
                        </a:moveTo>
                        <a:lnTo>
                          <a:pt x="213" y="85"/>
                        </a:lnTo>
                        <a:lnTo>
                          <a:pt x="206" y="65"/>
                        </a:lnTo>
                        <a:lnTo>
                          <a:pt x="198" y="47"/>
                        </a:lnTo>
                        <a:lnTo>
                          <a:pt x="184" y="31"/>
                        </a:lnTo>
                        <a:lnTo>
                          <a:pt x="168" y="18"/>
                        </a:lnTo>
                        <a:lnTo>
                          <a:pt x="150" y="9"/>
                        </a:lnTo>
                        <a:lnTo>
                          <a:pt x="130" y="2"/>
                        </a:lnTo>
                        <a:lnTo>
                          <a:pt x="108" y="0"/>
                        </a:lnTo>
                        <a:lnTo>
                          <a:pt x="85" y="2"/>
                        </a:lnTo>
                        <a:lnTo>
                          <a:pt x="65" y="9"/>
                        </a:lnTo>
                        <a:lnTo>
                          <a:pt x="47" y="18"/>
                        </a:lnTo>
                        <a:lnTo>
                          <a:pt x="32" y="31"/>
                        </a:lnTo>
                        <a:lnTo>
                          <a:pt x="18" y="47"/>
                        </a:lnTo>
                        <a:lnTo>
                          <a:pt x="7" y="65"/>
                        </a:lnTo>
                        <a:lnTo>
                          <a:pt x="3" y="85"/>
                        </a:lnTo>
                        <a:lnTo>
                          <a:pt x="0" y="108"/>
                        </a:lnTo>
                        <a:lnTo>
                          <a:pt x="3" y="130"/>
                        </a:lnTo>
                        <a:lnTo>
                          <a:pt x="7" y="150"/>
                        </a:lnTo>
                        <a:lnTo>
                          <a:pt x="18" y="168"/>
                        </a:lnTo>
                        <a:lnTo>
                          <a:pt x="32" y="184"/>
                        </a:lnTo>
                        <a:lnTo>
                          <a:pt x="47" y="197"/>
                        </a:lnTo>
                        <a:lnTo>
                          <a:pt x="65" y="209"/>
                        </a:lnTo>
                        <a:lnTo>
                          <a:pt x="85" y="213"/>
                        </a:lnTo>
                        <a:lnTo>
                          <a:pt x="108" y="215"/>
                        </a:lnTo>
                        <a:lnTo>
                          <a:pt x="130" y="213"/>
                        </a:lnTo>
                        <a:lnTo>
                          <a:pt x="150" y="209"/>
                        </a:lnTo>
                        <a:lnTo>
                          <a:pt x="168" y="197"/>
                        </a:lnTo>
                        <a:lnTo>
                          <a:pt x="184" y="184"/>
                        </a:lnTo>
                        <a:lnTo>
                          <a:pt x="198" y="168"/>
                        </a:lnTo>
                        <a:lnTo>
                          <a:pt x="206" y="150"/>
                        </a:lnTo>
                        <a:lnTo>
                          <a:pt x="213" y="130"/>
                        </a:lnTo>
                        <a:lnTo>
                          <a:pt x="215" y="108"/>
                        </a:lnTo>
                        <a:lnTo>
                          <a:pt x="209" y="108"/>
                        </a:lnTo>
                        <a:lnTo>
                          <a:pt x="206" y="88"/>
                        </a:lnTo>
                        <a:lnTo>
                          <a:pt x="202" y="67"/>
                        </a:lnTo>
                        <a:lnTo>
                          <a:pt x="191" y="52"/>
                        </a:lnTo>
                        <a:lnTo>
                          <a:pt x="180" y="36"/>
                        </a:lnTo>
                        <a:lnTo>
                          <a:pt x="164" y="25"/>
                        </a:lnTo>
                        <a:lnTo>
                          <a:pt x="148" y="14"/>
                        </a:lnTo>
                        <a:lnTo>
                          <a:pt x="128" y="9"/>
                        </a:lnTo>
                        <a:lnTo>
                          <a:pt x="108" y="7"/>
                        </a:lnTo>
                        <a:lnTo>
                          <a:pt x="88" y="9"/>
                        </a:lnTo>
                        <a:lnTo>
                          <a:pt x="68" y="14"/>
                        </a:lnTo>
                        <a:lnTo>
                          <a:pt x="52" y="25"/>
                        </a:lnTo>
                        <a:lnTo>
                          <a:pt x="36" y="36"/>
                        </a:lnTo>
                        <a:lnTo>
                          <a:pt x="23" y="52"/>
                        </a:lnTo>
                        <a:lnTo>
                          <a:pt x="14" y="67"/>
                        </a:lnTo>
                        <a:lnTo>
                          <a:pt x="7" y="88"/>
                        </a:lnTo>
                        <a:lnTo>
                          <a:pt x="7" y="108"/>
                        </a:lnTo>
                        <a:lnTo>
                          <a:pt x="7" y="128"/>
                        </a:lnTo>
                        <a:lnTo>
                          <a:pt x="14" y="148"/>
                        </a:lnTo>
                        <a:lnTo>
                          <a:pt x="23" y="164"/>
                        </a:lnTo>
                        <a:lnTo>
                          <a:pt x="36" y="179"/>
                        </a:lnTo>
                        <a:lnTo>
                          <a:pt x="52" y="193"/>
                        </a:lnTo>
                        <a:lnTo>
                          <a:pt x="68" y="202"/>
                        </a:lnTo>
                        <a:lnTo>
                          <a:pt x="88" y="209"/>
                        </a:lnTo>
                        <a:lnTo>
                          <a:pt x="108" y="209"/>
                        </a:lnTo>
                        <a:lnTo>
                          <a:pt x="128" y="209"/>
                        </a:lnTo>
                        <a:lnTo>
                          <a:pt x="148" y="202"/>
                        </a:lnTo>
                        <a:lnTo>
                          <a:pt x="164" y="193"/>
                        </a:lnTo>
                        <a:lnTo>
                          <a:pt x="180" y="179"/>
                        </a:lnTo>
                        <a:lnTo>
                          <a:pt x="191" y="164"/>
                        </a:lnTo>
                        <a:lnTo>
                          <a:pt x="202" y="148"/>
                        </a:lnTo>
                        <a:lnTo>
                          <a:pt x="206" y="128"/>
                        </a:lnTo>
                        <a:lnTo>
                          <a:pt x="209" y="108"/>
                        </a:lnTo>
                        <a:lnTo>
                          <a:pt x="215" y="108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022040" y="1973160"/>
                    <a:ext cx="3272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206">
                        <a:moveTo>
                          <a:pt x="206" y="103"/>
                        </a:moveTo>
                        <a:lnTo>
                          <a:pt x="204" y="83"/>
                        </a:lnTo>
                        <a:lnTo>
                          <a:pt x="199" y="62"/>
                        </a:lnTo>
                        <a:lnTo>
                          <a:pt x="188" y="44"/>
                        </a:lnTo>
                        <a:lnTo>
                          <a:pt x="177" y="29"/>
                        </a:lnTo>
                        <a:lnTo>
                          <a:pt x="161" y="18"/>
                        </a:lnTo>
                        <a:lnTo>
                          <a:pt x="143" y="6"/>
                        </a:lnTo>
                        <a:lnTo>
                          <a:pt x="123" y="2"/>
                        </a:lnTo>
                        <a:lnTo>
                          <a:pt x="103" y="0"/>
                        </a:lnTo>
                        <a:lnTo>
                          <a:pt x="83" y="2"/>
                        </a:lnTo>
                        <a:lnTo>
                          <a:pt x="63" y="6"/>
                        </a:lnTo>
                        <a:lnTo>
                          <a:pt x="45" y="18"/>
                        </a:lnTo>
                        <a:lnTo>
                          <a:pt x="29" y="29"/>
                        </a:lnTo>
                        <a:lnTo>
                          <a:pt x="18" y="44"/>
                        </a:lnTo>
                        <a:lnTo>
                          <a:pt x="7" y="62"/>
                        </a:lnTo>
                        <a:lnTo>
                          <a:pt x="2" y="83"/>
                        </a:lnTo>
                        <a:lnTo>
                          <a:pt x="0" y="103"/>
                        </a:lnTo>
                        <a:lnTo>
                          <a:pt x="2" y="123"/>
                        </a:lnTo>
                        <a:lnTo>
                          <a:pt x="7" y="143"/>
                        </a:lnTo>
                        <a:lnTo>
                          <a:pt x="18" y="161"/>
                        </a:lnTo>
                        <a:lnTo>
                          <a:pt x="29" y="177"/>
                        </a:lnTo>
                        <a:lnTo>
                          <a:pt x="45" y="188"/>
                        </a:lnTo>
                        <a:lnTo>
                          <a:pt x="63" y="199"/>
                        </a:lnTo>
                        <a:lnTo>
                          <a:pt x="83" y="204"/>
                        </a:lnTo>
                        <a:lnTo>
                          <a:pt x="103" y="206"/>
                        </a:lnTo>
                        <a:lnTo>
                          <a:pt x="123" y="204"/>
                        </a:lnTo>
                        <a:lnTo>
                          <a:pt x="143" y="199"/>
                        </a:lnTo>
                        <a:lnTo>
                          <a:pt x="161" y="188"/>
                        </a:lnTo>
                        <a:lnTo>
                          <a:pt x="177" y="177"/>
                        </a:lnTo>
                        <a:lnTo>
                          <a:pt x="188" y="161"/>
                        </a:lnTo>
                        <a:lnTo>
                          <a:pt x="199" y="143"/>
                        </a:lnTo>
                        <a:lnTo>
                          <a:pt x="204" y="123"/>
                        </a:lnTo>
                        <a:lnTo>
                          <a:pt x="206" y="103"/>
                        </a:lnTo>
                        <a:lnTo>
                          <a:pt x="199" y="103"/>
                        </a:lnTo>
                        <a:lnTo>
                          <a:pt x="199" y="83"/>
                        </a:lnTo>
                        <a:lnTo>
                          <a:pt x="193" y="65"/>
                        </a:lnTo>
                        <a:lnTo>
                          <a:pt x="184" y="49"/>
                        </a:lnTo>
                        <a:lnTo>
                          <a:pt x="172" y="33"/>
                        </a:lnTo>
                        <a:lnTo>
                          <a:pt x="157" y="22"/>
                        </a:lnTo>
                        <a:lnTo>
                          <a:pt x="141" y="13"/>
                        </a:lnTo>
                        <a:lnTo>
                          <a:pt x="123" y="6"/>
                        </a:lnTo>
                        <a:lnTo>
                          <a:pt x="103" y="6"/>
                        </a:lnTo>
                        <a:lnTo>
                          <a:pt x="83" y="6"/>
                        </a:lnTo>
                        <a:lnTo>
                          <a:pt x="65" y="13"/>
                        </a:lnTo>
                        <a:lnTo>
                          <a:pt x="49" y="22"/>
                        </a:lnTo>
                        <a:lnTo>
                          <a:pt x="33" y="33"/>
                        </a:lnTo>
                        <a:lnTo>
                          <a:pt x="22" y="49"/>
                        </a:lnTo>
                        <a:lnTo>
                          <a:pt x="13" y="65"/>
                        </a:lnTo>
                        <a:lnTo>
                          <a:pt x="7" y="83"/>
                        </a:lnTo>
                        <a:lnTo>
                          <a:pt x="4" y="103"/>
                        </a:lnTo>
                        <a:lnTo>
                          <a:pt x="7" y="123"/>
                        </a:lnTo>
                        <a:lnTo>
                          <a:pt x="13" y="141"/>
                        </a:lnTo>
                        <a:lnTo>
                          <a:pt x="22" y="156"/>
                        </a:lnTo>
                        <a:lnTo>
                          <a:pt x="33" y="172"/>
                        </a:lnTo>
                        <a:lnTo>
                          <a:pt x="49" y="183"/>
                        </a:lnTo>
                        <a:lnTo>
                          <a:pt x="65" y="192"/>
                        </a:lnTo>
                        <a:lnTo>
                          <a:pt x="83" y="199"/>
                        </a:lnTo>
                        <a:lnTo>
                          <a:pt x="103" y="201"/>
                        </a:lnTo>
                        <a:lnTo>
                          <a:pt x="123" y="199"/>
                        </a:lnTo>
                        <a:lnTo>
                          <a:pt x="141" y="192"/>
                        </a:lnTo>
                        <a:lnTo>
                          <a:pt x="157" y="183"/>
                        </a:lnTo>
                        <a:lnTo>
                          <a:pt x="172" y="172"/>
                        </a:lnTo>
                        <a:lnTo>
                          <a:pt x="184" y="156"/>
                        </a:lnTo>
                        <a:lnTo>
                          <a:pt x="193" y="141"/>
                        </a:lnTo>
                        <a:lnTo>
                          <a:pt x="199" y="123"/>
                        </a:lnTo>
                        <a:lnTo>
                          <a:pt x="199" y="103"/>
                        </a:lnTo>
                        <a:lnTo>
                          <a:pt x="206" y="103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025280" y="1979280"/>
                    <a:ext cx="3160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00">
                        <a:moveTo>
                          <a:pt x="199" y="99"/>
                        </a:moveTo>
                        <a:lnTo>
                          <a:pt x="197" y="79"/>
                        </a:lnTo>
                        <a:lnTo>
                          <a:pt x="193" y="61"/>
                        </a:lnTo>
                        <a:lnTo>
                          <a:pt x="184" y="43"/>
                        </a:lnTo>
                        <a:lnTo>
                          <a:pt x="170" y="29"/>
                        </a:lnTo>
                        <a:lnTo>
                          <a:pt x="157" y="16"/>
                        </a:lnTo>
                        <a:lnTo>
                          <a:pt x="139" y="7"/>
                        </a:lnTo>
                        <a:lnTo>
                          <a:pt x="121" y="2"/>
                        </a:lnTo>
                        <a:lnTo>
                          <a:pt x="101" y="0"/>
                        </a:lnTo>
                        <a:lnTo>
                          <a:pt x="81" y="2"/>
                        </a:lnTo>
                        <a:lnTo>
                          <a:pt x="63" y="7"/>
                        </a:lnTo>
                        <a:lnTo>
                          <a:pt x="45" y="16"/>
                        </a:lnTo>
                        <a:lnTo>
                          <a:pt x="29" y="29"/>
                        </a:lnTo>
                        <a:lnTo>
                          <a:pt x="18" y="43"/>
                        </a:lnTo>
                        <a:lnTo>
                          <a:pt x="9" y="61"/>
                        </a:lnTo>
                        <a:lnTo>
                          <a:pt x="2" y="79"/>
                        </a:lnTo>
                        <a:lnTo>
                          <a:pt x="0" y="99"/>
                        </a:lnTo>
                        <a:lnTo>
                          <a:pt x="2" y="119"/>
                        </a:lnTo>
                        <a:lnTo>
                          <a:pt x="9" y="137"/>
                        </a:lnTo>
                        <a:lnTo>
                          <a:pt x="18" y="155"/>
                        </a:lnTo>
                        <a:lnTo>
                          <a:pt x="29" y="170"/>
                        </a:lnTo>
                        <a:lnTo>
                          <a:pt x="45" y="182"/>
                        </a:lnTo>
                        <a:lnTo>
                          <a:pt x="63" y="191"/>
                        </a:lnTo>
                        <a:lnTo>
                          <a:pt x="81" y="197"/>
                        </a:lnTo>
                        <a:lnTo>
                          <a:pt x="101" y="200"/>
                        </a:lnTo>
                        <a:lnTo>
                          <a:pt x="121" y="197"/>
                        </a:lnTo>
                        <a:lnTo>
                          <a:pt x="139" y="191"/>
                        </a:lnTo>
                        <a:lnTo>
                          <a:pt x="157" y="182"/>
                        </a:lnTo>
                        <a:lnTo>
                          <a:pt x="170" y="170"/>
                        </a:lnTo>
                        <a:lnTo>
                          <a:pt x="184" y="155"/>
                        </a:lnTo>
                        <a:lnTo>
                          <a:pt x="193" y="137"/>
                        </a:lnTo>
                        <a:lnTo>
                          <a:pt x="197" y="119"/>
                        </a:lnTo>
                        <a:lnTo>
                          <a:pt x="199" y="99"/>
                        </a:lnTo>
                        <a:lnTo>
                          <a:pt x="193" y="99"/>
                        </a:lnTo>
                        <a:lnTo>
                          <a:pt x="193" y="81"/>
                        </a:lnTo>
                        <a:lnTo>
                          <a:pt x="186" y="63"/>
                        </a:lnTo>
                        <a:lnTo>
                          <a:pt x="177" y="47"/>
                        </a:lnTo>
                        <a:lnTo>
                          <a:pt x="166" y="34"/>
                        </a:lnTo>
                        <a:lnTo>
                          <a:pt x="152" y="22"/>
                        </a:lnTo>
                        <a:lnTo>
                          <a:pt x="137" y="14"/>
                        </a:lnTo>
                        <a:lnTo>
                          <a:pt x="119" y="7"/>
                        </a:lnTo>
                        <a:lnTo>
                          <a:pt x="101" y="5"/>
                        </a:lnTo>
                        <a:lnTo>
                          <a:pt x="83" y="7"/>
                        </a:lnTo>
                        <a:lnTo>
                          <a:pt x="65" y="14"/>
                        </a:lnTo>
                        <a:lnTo>
                          <a:pt x="49" y="22"/>
                        </a:lnTo>
                        <a:lnTo>
                          <a:pt x="34" y="34"/>
                        </a:lnTo>
                        <a:lnTo>
                          <a:pt x="22" y="47"/>
                        </a:lnTo>
                        <a:lnTo>
                          <a:pt x="16" y="63"/>
                        </a:lnTo>
                        <a:lnTo>
                          <a:pt x="9" y="81"/>
                        </a:lnTo>
                        <a:lnTo>
                          <a:pt x="7" y="99"/>
                        </a:lnTo>
                        <a:lnTo>
                          <a:pt x="9" y="117"/>
                        </a:lnTo>
                        <a:lnTo>
                          <a:pt x="16" y="135"/>
                        </a:lnTo>
                        <a:lnTo>
                          <a:pt x="22" y="150"/>
                        </a:lnTo>
                        <a:lnTo>
                          <a:pt x="34" y="166"/>
                        </a:lnTo>
                        <a:lnTo>
                          <a:pt x="49" y="177"/>
                        </a:lnTo>
                        <a:lnTo>
                          <a:pt x="65" y="184"/>
                        </a:lnTo>
                        <a:lnTo>
                          <a:pt x="83" y="191"/>
                        </a:lnTo>
                        <a:lnTo>
                          <a:pt x="101" y="193"/>
                        </a:lnTo>
                        <a:lnTo>
                          <a:pt x="119" y="191"/>
                        </a:lnTo>
                        <a:lnTo>
                          <a:pt x="137" y="184"/>
                        </a:lnTo>
                        <a:lnTo>
                          <a:pt x="152" y="177"/>
                        </a:lnTo>
                        <a:lnTo>
                          <a:pt x="166" y="166"/>
                        </a:lnTo>
                        <a:lnTo>
                          <a:pt x="177" y="150"/>
                        </a:lnTo>
                        <a:lnTo>
                          <a:pt x="186" y="135"/>
                        </a:lnTo>
                        <a:lnTo>
                          <a:pt x="193" y="117"/>
                        </a:lnTo>
                        <a:lnTo>
                          <a:pt x="193" y="99"/>
                        </a:lnTo>
                        <a:lnTo>
                          <a:pt x="199" y="99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1033200" y="1987200"/>
                    <a:ext cx="30168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90">
                        <a:moveTo>
                          <a:pt x="190" y="94"/>
                        </a:moveTo>
                        <a:lnTo>
                          <a:pt x="190" y="76"/>
                        </a:lnTo>
                        <a:lnTo>
                          <a:pt x="183" y="58"/>
                        </a:lnTo>
                        <a:lnTo>
                          <a:pt x="174" y="40"/>
                        </a:lnTo>
                        <a:lnTo>
                          <a:pt x="163" y="26"/>
                        </a:lnTo>
                        <a:lnTo>
                          <a:pt x="150" y="15"/>
                        </a:lnTo>
                        <a:lnTo>
                          <a:pt x="132" y="6"/>
                        </a:lnTo>
                        <a:lnTo>
                          <a:pt x="114" y="0"/>
                        </a:lnTo>
                        <a:lnTo>
                          <a:pt x="96" y="0"/>
                        </a:lnTo>
                        <a:lnTo>
                          <a:pt x="76" y="0"/>
                        </a:lnTo>
                        <a:lnTo>
                          <a:pt x="58" y="6"/>
                        </a:lnTo>
                        <a:lnTo>
                          <a:pt x="42" y="15"/>
                        </a:lnTo>
                        <a:lnTo>
                          <a:pt x="29" y="26"/>
                        </a:lnTo>
                        <a:lnTo>
                          <a:pt x="17" y="40"/>
                        </a:lnTo>
                        <a:lnTo>
                          <a:pt x="8" y="58"/>
                        </a:lnTo>
                        <a:lnTo>
                          <a:pt x="2" y="76"/>
                        </a:lnTo>
                        <a:lnTo>
                          <a:pt x="0" y="94"/>
                        </a:lnTo>
                        <a:lnTo>
                          <a:pt x="2" y="114"/>
                        </a:lnTo>
                        <a:lnTo>
                          <a:pt x="8" y="132"/>
                        </a:lnTo>
                        <a:lnTo>
                          <a:pt x="17" y="147"/>
                        </a:lnTo>
                        <a:lnTo>
                          <a:pt x="29" y="161"/>
                        </a:lnTo>
                        <a:lnTo>
                          <a:pt x="42" y="172"/>
                        </a:lnTo>
                        <a:lnTo>
                          <a:pt x="58" y="181"/>
                        </a:lnTo>
                        <a:lnTo>
                          <a:pt x="76" y="188"/>
                        </a:lnTo>
                        <a:lnTo>
                          <a:pt x="96" y="190"/>
                        </a:lnTo>
                        <a:lnTo>
                          <a:pt x="114" y="188"/>
                        </a:lnTo>
                        <a:lnTo>
                          <a:pt x="132" y="181"/>
                        </a:lnTo>
                        <a:lnTo>
                          <a:pt x="150" y="172"/>
                        </a:lnTo>
                        <a:lnTo>
                          <a:pt x="163" y="161"/>
                        </a:lnTo>
                        <a:lnTo>
                          <a:pt x="174" y="147"/>
                        </a:lnTo>
                        <a:lnTo>
                          <a:pt x="183" y="132"/>
                        </a:lnTo>
                        <a:lnTo>
                          <a:pt x="190" y="114"/>
                        </a:lnTo>
                        <a:lnTo>
                          <a:pt x="190" y="94"/>
                        </a:lnTo>
                        <a:lnTo>
                          <a:pt x="186" y="94"/>
                        </a:lnTo>
                        <a:lnTo>
                          <a:pt x="183" y="76"/>
                        </a:lnTo>
                        <a:lnTo>
                          <a:pt x="179" y="60"/>
                        </a:lnTo>
                        <a:lnTo>
                          <a:pt x="170" y="44"/>
                        </a:lnTo>
                        <a:lnTo>
                          <a:pt x="159" y="31"/>
                        </a:lnTo>
                        <a:lnTo>
                          <a:pt x="145" y="20"/>
                        </a:lnTo>
                        <a:lnTo>
                          <a:pt x="129" y="11"/>
                        </a:lnTo>
                        <a:lnTo>
                          <a:pt x="114" y="6"/>
                        </a:lnTo>
                        <a:lnTo>
                          <a:pt x="96" y="4"/>
                        </a:lnTo>
                        <a:lnTo>
                          <a:pt x="78" y="6"/>
                        </a:lnTo>
                        <a:lnTo>
                          <a:pt x="60" y="11"/>
                        </a:lnTo>
                        <a:lnTo>
                          <a:pt x="47" y="20"/>
                        </a:lnTo>
                        <a:lnTo>
                          <a:pt x="33" y="31"/>
                        </a:lnTo>
                        <a:lnTo>
                          <a:pt x="22" y="44"/>
                        </a:lnTo>
                        <a:lnTo>
                          <a:pt x="13" y="60"/>
                        </a:lnTo>
                        <a:lnTo>
                          <a:pt x="8" y="76"/>
                        </a:lnTo>
                        <a:lnTo>
                          <a:pt x="6" y="94"/>
                        </a:lnTo>
                        <a:lnTo>
                          <a:pt x="8" y="112"/>
                        </a:lnTo>
                        <a:lnTo>
                          <a:pt x="13" y="130"/>
                        </a:lnTo>
                        <a:lnTo>
                          <a:pt x="22" y="143"/>
                        </a:lnTo>
                        <a:lnTo>
                          <a:pt x="33" y="156"/>
                        </a:lnTo>
                        <a:lnTo>
                          <a:pt x="47" y="168"/>
                        </a:lnTo>
                        <a:lnTo>
                          <a:pt x="60" y="177"/>
                        </a:lnTo>
                        <a:lnTo>
                          <a:pt x="78" y="181"/>
                        </a:lnTo>
                        <a:lnTo>
                          <a:pt x="96" y="183"/>
                        </a:lnTo>
                        <a:lnTo>
                          <a:pt x="114" y="181"/>
                        </a:lnTo>
                        <a:lnTo>
                          <a:pt x="129" y="177"/>
                        </a:lnTo>
                        <a:lnTo>
                          <a:pt x="145" y="168"/>
                        </a:lnTo>
                        <a:lnTo>
                          <a:pt x="159" y="156"/>
                        </a:lnTo>
                        <a:lnTo>
                          <a:pt x="170" y="143"/>
                        </a:lnTo>
                        <a:lnTo>
                          <a:pt x="179" y="130"/>
                        </a:lnTo>
                        <a:lnTo>
                          <a:pt x="183" y="112"/>
                        </a:lnTo>
                        <a:lnTo>
                          <a:pt x="186" y="94"/>
                        </a:lnTo>
                        <a:lnTo>
                          <a:pt x="190" y="94"/>
                        </a:lnTo>
                        <a:close/>
                      </a:path>
                    </a:pathLst>
                  </a:custGeom>
                  <a:solidFill>
                    <a:srgbClr val="fdf8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1039680" y="1990440"/>
                    <a:ext cx="29196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84">
                        <a:moveTo>
                          <a:pt x="184" y="92"/>
                        </a:moveTo>
                        <a:lnTo>
                          <a:pt x="182" y="74"/>
                        </a:lnTo>
                        <a:lnTo>
                          <a:pt x="175" y="56"/>
                        </a:lnTo>
                        <a:lnTo>
                          <a:pt x="168" y="40"/>
                        </a:lnTo>
                        <a:lnTo>
                          <a:pt x="157" y="27"/>
                        </a:lnTo>
                        <a:lnTo>
                          <a:pt x="143" y="15"/>
                        </a:lnTo>
                        <a:lnTo>
                          <a:pt x="128" y="9"/>
                        </a:lnTo>
                        <a:lnTo>
                          <a:pt x="110" y="2"/>
                        </a:lnTo>
                        <a:lnTo>
                          <a:pt x="92" y="0"/>
                        </a:lnTo>
                        <a:lnTo>
                          <a:pt x="74" y="2"/>
                        </a:lnTo>
                        <a:lnTo>
                          <a:pt x="56" y="9"/>
                        </a:lnTo>
                        <a:lnTo>
                          <a:pt x="40" y="15"/>
                        </a:lnTo>
                        <a:lnTo>
                          <a:pt x="27" y="27"/>
                        </a:lnTo>
                        <a:lnTo>
                          <a:pt x="16" y="40"/>
                        </a:lnTo>
                        <a:lnTo>
                          <a:pt x="7" y="56"/>
                        </a:lnTo>
                        <a:lnTo>
                          <a:pt x="2" y="74"/>
                        </a:lnTo>
                        <a:lnTo>
                          <a:pt x="0" y="92"/>
                        </a:lnTo>
                        <a:lnTo>
                          <a:pt x="2" y="110"/>
                        </a:lnTo>
                        <a:lnTo>
                          <a:pt x="7" y="128"/>
                        </a:lnTo>
                        <a:lnTo>
                          <a:pt x="16" y="143"/>
                        </a:lnTo>
                        <a:lnTo>
                          <a:pt x="27" y="157"/>
                        </a:lnTo>
                        <a:lnTo>
                          <a:pt x="40" y="168"/>
                        </a:lnTo>
                        <a:lnTo>
                          <a:pt x="56" y="177"/>
                        </a:lnTo>
                        <a:lnTo>
                          <a:pt x="74" y="181"/>
                        </a:lnTo>
                        <a:lnTo>
                          <a:pt x="92" y="184"/>
                        </a:lnTo>
                        <a:lnTo>
                          <a:pt x="110" y="181"/>
                        </a:lnTo>
                        <a:lnTo>
                          <a:pt x="128" y="177"/>
                        </a:lnTo>
                        <a:lnTo>
                          <a:pt x="143" y="168"/>
                        </a:lnTo>
                        <a:lnTo>
                          <a:pt x="157" y="157"/>
                        </a:lnTo>
                        <a:lnTo>
                          <a:pt x="168" y="143"/>
                        </a:lnTo>
                        <a:lnTo>
                          <a:pt x="175" y="128"/>
                        </a:lnTo>
                        <a:lnTo>
                          <a:pt x="182" y="110"/>
                        </a:lnTo>
                        <a:lnTo>
                          <a:pt x="184" y="92"/>
                        </a:lnTo>
                        <a:lnTo>
                          <a:pt x="177" y="92"/>
                        </a:lnTo>
                        <a:lnTo>
                          <a:pt x="175" y="74"/>
                        </a:lnTo>
                        <a:lnTo>
                          <a:pt x="170" y="58"/>
                        </a:lnTo>
                        <a:lnTo>
                          <a:pt x="161" y="45"/>
                        </a:lnTo>
                        <a:lnTo>
                          <a:pt x="152" y="31"/>
                        </a:lnTo>
                        <a:lnTo>
                          <a:pt x="139" y="22"/>
                        </a:lnTo>
                        <a:lnTo>
                          <a:pt x="125" y="13"/>
                        </a:lnTo>
                        <a:lnTo>
                          <a:pt x="110" y="9"/>
                        </a:lnTo>
                        <a:lnTo>
                          <a:pt x="92" y="7"/>
                        </a:lnTo>
                        <a:lnTo>
                          <a:pt x="74" y="9"/>
                        </a:lnTo>
                        <a:lnTo>
                          <a:pt x="58" y="13"/>
                        </a:lnTo>
                        <a:lnTo>
                          <a:pt x="45" y="22"/>
                        </a:lnTo>
                        <a:lnTo>
                          <a:pt x="31" y="31"/>
                        </a:lnTo>
                        <a:lnTo>
                          <a:pt x="22" y="45"/>
                        </a:lnTo>
                        <a:lnTo>
                          <a:pt x="13" y="58"/>
                        </a:lnTo>
                        <a:lnTo>
                          <a:pt x="9" y="74"/>
                        </a:lnTo>
                        <a:lnTo>
                          <a:pt x="7" y="92"/>
                        </a:lnTo>
                        <a:lnTo>
                          <a:pt x="9" y="110"/>
                        </a:lnTo>
                        <a:lnTo>
                          <a:pt x="13" y="125"/>
                        </a:lnTo>
                        <a:lnTo>
                          <a:pt x="22" y="139"/>
                        </a:lnTo>
                        <a:lnTo>
                          <a:pt x="31" y="152"/>
                        </a:lnTo>
                        <a:lnTo>
                          <a:pt x="45" y="161"/>
                        </a:lnTo>
                        <a:lnTo>
                          <a:pt x="58" y="170"/>
                        </a:lnTo>
                        <a:lnTo>
                          <a:pt x="74" y="175"/>
                        </a:lnTo>
                        <a:lnTo>
                          <a:pt x="92" y="177"/>
                        </a:lnTo>
                        <a:lnTo>
                          <a:pt x="110" y="175"/>
                        </a:lnTo>
                        <a:lnTo>
                          <a:pt x="125" y="170"/>
                        </a:lnTo>
                        <a:lnTo>
                          <a:pt x="139" y="161"/>
                        </a:lnTo>
                        <a:lnTo>
                          <a:pt x="152" y="152"/>
                        </a:lnTo>
                        <a:lnTo>
                          <a:pt x="161" y="139"/>
                        </a:lnTo>
                        <a:lnTo>
                          <a:pt x="170" y="125"/>
                        </a:lnTo>
                        <a:lnTo>
                          <a:pt x="175" y="110"/>
                        </a:lnTo>
                        <a:lnTo>
                          <a:pt x="177" y="92"/>
                        </a:lnTo>
                        <a:lnTo>
                          <a:pt x="184" y="92"/>
                        </a:lnTo>
                        <a:close/>
                      </a:path>
                    </a:pathLst>
                  </a:custGeom>
                  <a:solidFill>
                    <a:srgbClr val="fdf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1046160" y="1996920"/>
                    <a:ext cx="2775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75">
                        <a:moveTo>
                          <a:pt x="175" y="88"/>
                        </a:moveTo>
                        <a:lnTo>
                          <a:pt x="173" y="70"/>
                        </a:lnTo>
                        <a:lnTo>
                          <a:pt x="169" y="54"/>
                        </a:lnTo>
                        <a:lnTo>
                          <a:pt x="160" y="38"/>
                        </a:lnTo>
                        <a:lnTo>
                          <a:pt x="148" y="27"/>
                        </a:lnTo>
                        <a:lnTo>
                          <a:pt x="137" y="16"/>
                        </a:lnTo>
                        <a:lnTo>
                          <a:pt x="121" y="7"/>
                        </a:lnTo>
                        <a:lnTo>
                          <a:pt x="106" y="3"/>
                        </a:lnTo>
                        <a:lnTo>
                          <a:pt x="88" y="0"/>
                        </a:lnTo>
                        <a:lnTo>
                          <a:pt x="70" y="3"/>
                        </a:lnTo>
                        <a:lnTo>
                          <a:pt x="54" y="7"/>
                        </a:lnTo>
                        <a:lnTo>
                          <a:pt x="39" y="16"/>
                        </a:lnTo>
                        <a:lnTo>
                          <a:pt x="27" y="27"/>
                        </a:lnTo>
                        <a:lnTo>
                          <a:pt x="16" y="38"/>
                        </a:lnTo>
                        <a:lnTo>
                          <a:pt x="7" y="54"/>
                        </a:lnTo>
                        <a:lnTo>
                          <a:pt x="3" y="70"/>
                        </a:lnTo>
                        <a:lnTo>
                          <a:pt x="0" y="88"/>
                        </a:lnTo>
                        <a:lnTo>
                          <a:pt x="3" y="106"/>
                        </a:lnTo>
                        <a:lnTo>
                          <a:pt x="7" y="121"/>
                        </a:lnTo>
                        <a:lnTo>
                          <a:pt x="16" y="137"/>
                        </a:lnTo>
                        <a:lnTo>
                          <a:pt x="27" y="148"/>
                        </a:lnTo>
                        <a:lnTo>
                          <a:pt x="39" y="159"/>
                        </a:lnTo>
                        <a:lnTo>
                          <a:pt x="54" y="168"/>
                        </a:lnTo>
                        <a:lnTo>
                          <a:pt x="70" y="173"/>
                        </a:lnTo>
                        <a:lnTo>
                          <a:pt x="88" y="175"/>
                        </a:lnTo>
                        <a:lnTo>
                          <a:pt x="106" y="173"/>
                        </a:lnTo>
                        <a:lnTo>
                          <a:pt x="121" y="168"/>
                        </a:lnTo>
                        <a:lnTo>
                          <a:pt x="137" y="159"/>
                        </a:lnTo>
                        <a:lnTo>
                          <a:pt x="148" y="148"/>
                        </a:lnTo>
                        <a:lnTo>
                          <a:pt x="160" y="137"/>
                        </a:lnTo>
                        <a:lnTo>
                          <a:pt x="169" y="121"/>
                        </a:lnTo>
                        <a:lnTo>
                          <a:pt x="173" y="106"/>
                        </a:lnTo>
                        <a:lnTo>
                          <a:pt x="175" y="88"/>
                        </a:lnTo>
                        <a:lnTo>
                          <a:pt x="169" y="88"/>
                        </a:lnTo>
                        <a:lnTo>
                          <a:pt x="166" y="72"/>
                        </a:lnTo>
                        <a:lnTo>
                          <a:pt x="162" y="56"/>
                        </a:lnTo>
                        <a:lnTo>
                          <a:pt x="155" y="43"/>
                        </a:lnTo>
                        <a:lnTo>
                          <a:pt x="144" y="32"/>
                        </a:lnTo>
                        <a:lnTo>
                          <a:pt x="133" y="20"/>
                        </a:lnTo>
                        <a:lnTo>
                          <a:pt x="119" y="14"/>
                        </a:lnTo>
                        <a:lnTo>
                          <a:pt x="104" y="9"/>
                        </a:lnTo>
                        <a:lnTo>
                          <a:pt x="88" y="7"/>
                        </a:lnTo>
                        <a:lnTo>
                          <a:pt x="72" y="9"/>
                        </a:lnTo>
                        <a:lnTo>
                          <a:pt x="56" y="14"/>
                        </a:lnTo>
                        <a:lnTo>
                          <a:pt x="43" y="20"/>
                        </a:lnTo>
                        <a:lnTo>
                          <a:pt x="30" y="32"/>
                        </a:lnTo>
                        <a:lnTo>
                          <a:pt x="21" y="43"/>
                        </a:lnTo>
                        <a:lnTo>
                          <a:pt x="14" y="56"/>
                        </a:lnTo>
                        <a:lnTo>
                          <a:pt x="9" y="72"/>
                        </a:lnTo>
                        <a:lnTo>
                          <a:pt x="7" y="88"/>
                        </a:lnTo>
                        <a:lnTo>
                          <a:pt x="9" y="103"/>
                        </a:lnTo>
                        <a:lnTo>
                          <a:pt x="14" y="119"/>
                        </a:lnTo>
                        <a:lnTo>
                          <a:pt x="21" y="133"/>
                        </a:lnTo>
                        <a:lnTo>
                          <a:pt x="30" y="146"/>
                        </a:lnTo>
                        <a:lnTo>
                          <a:pt x="43" y="155"/>
                        </a:lnTo>
                        <a:lnTo>
                          <a:pt x="56" y="162"/>
                        </a:lnTo>
                        <a:lnTo>
                          <a:pt x="72" y="166"/>
                        </a:lnTo>
                        <a:lnTo>
                          <a:pt x="88" y="168"/>
                        </a:lnTo>
                        <a:lnTo>
                          <a:pt x="104" y="166"/>
                        </a:lnTo>
                        <a:lnTo>
                          <a:pt x="119" y="162"/>
                        </a:lnTo>
                        <a:lnTo>
                          <a:pt x="133" y="155"/>
                        </a:lnTo>
                        <a:lnTo>
                          <a:pt x="144" y="146"/>
                        </a:lnTo>
                        <a:lnTo>
                          <a:pt x="155" y="133"/>
                        </a:lnTo>
                        <a:lnTo>
                          <a:pt x="162" y="119"/>
                        </a:lnTo>
                        <a:lnTo>
                          <a:pt x="166" y="103"/>
                        </a:lnTo>
                        <a:lnTo>
                          <a:pt x="169" y="88"/>
                        </a:lnTo>
                        <a:lnTo>
                          <a:pt x="175" y="88"/>
                        </a:lnTo>
                        <a:close/>
                      </a:path>
                    </a:pathLst>
                  </a:custGeom>
                  <a:solidFill>
                    <a:srgbClr val="fdf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1054080" y="2004840"/>
                    <a:ext cx="2635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66">
                        <a:moveTo>
                          <a:pt x="166" y="83"/>
                        </a:moveTo>
                        <a:lnTo>
                          <a:pt x="164" y="67"/>
                        </a:lnTo>
                        <a:lnTo>
                          <a:pt x="159" y="51"/>
                        </a:lnTo>
                        <a:lnTo>
                          <a:pt x="150" y="38"/>
                        </a:lnTo>
                        <a:lnTo>
                          <a:pt x="141" y="24"/>
                        </a:lnTo>
                        <a:lnTo>
                          <a:pt x="128" y="15"/>
                        </a:lnTo>
                        <a:lnTo>
                          <a:pt x="114" y="6"/>
                        </a:lnTo>
                        <a:lnTo>
                          <a:pt x="99" y="2"/>
                        </a:lnTo>
                        <a:lnTo>
                          <a:pt x="83" y="0"/>
                        </a:lnTo>
                        <a:lnTo>
                          <a:pt x="65" y="2"/>
                        </a:lnTo>
                        <a:lnTo>
                          <a:pt x="51" y="6"/>
                        </a:lnTo>
                        <a:lnTo>
                          <a:pt x="36" y="15"/>
                        </a:lnTo>
                        <a:lnTo>
                          <a:pt x="25" y="24"/>
                        </a:lnTo>
                        <a:lnTo>
                          <a:pt x="13" y="38"/>
                        </a:lnTo>
                        <a:lnTo>
                          <a:pt x="7" y="51"/>
                        </a:lnTo>
                        <a:lnTo>
                          <a:pt x="2" y="67"/>
                        </a:lnTo>
                        <a:lnTo>
                          <a:pt x="0" y="83"/>
                        </a:lnTo>
                        <a:lnTo>
                          <a:pt x="2" y="101"/>
                        </a:lnTo>
                        <a:lnTo>
                          <a:pt x="7" y="114"/>
                        </a:lnTo>
                        <a:lnTo>
                          <a:pt x="13" y="130"/>
                        </a:lnTo>
                        <a:lnTo>
                          <a:pt x="25" y="141"/>
                        </a:lnTo>
                        <a:lnTo>
                          <a:pt x="36" y="152"/>
                        </a:lnTo>
                        <a:lnTo>
                          <a:pt x="51" y="159"/>
                        </a:lnTo>
                        <a:lnTo>
                          <a:pt x="65" y="163"/>
                        </a:lnTo>
                        <a:lnTo>
                          <a:pt x="83" y="166"/>
                        </a:lnTo>
                        <a:lnTo>
                          <a:pt x="99" y="163"/>
                        </a:lnTo>
                        <a:lnTo>
                          <a:pt x="114" y="159"/>
                        </a:lnTo>
                        <a:lnTo>
                          <a:pt x="128" y="152"/>
                        </a:lnTo>
                        <a:lnTo>
                          <a:pt x="141" y="141"/>
                        </a:lnTo>
                        <a:lnTo>
                          <a:pt x="150" y="130"/>
                        </a:lnTo>
                        <a:lnTo>
                          <a:pt x="159" y="114"/>
                        </a:lnTo>
                        <a:lnTo>
                          <a:pt x="164" y="101"/>
                        </a:lnTo>
                        <a:lnTo>
                          <a:pt x="166" y="83"/>
                        </a:lnTo>
                        <a:lnTo>
                          <a:pt x="159" y="83"/>
                        </a:lnTo>
                        <a:lnTo>
                          <a:pt x="157" y="67"/>
                        </a:lnTo>
                        <a:lnTo>
                          <a:pt x="152" y="54"/>
                        </a:lnTo>
                        <a:lnTo>
                          <a:pt x="146" y="40"/>
                        </a:lnTo>
                        <a:lnTo>
                          <a:pt x="137" y="29"/>
                        </a:lnTo>
                        <a:lnTo>
                          <a:pt x="125" y="20"/>
                        </a:lnTo>
                        <a:lnTo>
                          <a:pt x="112" y="13"/>
                        </a:lnTo>
                        <a:lnTo>
                          <a:pt x="99" y="9"/>
                        </a:lnTo>
                        <a:lnTo>
                          <a:pt x="83" y="6"/>
                        </a:lnTo>
                        <a:lnTo>
                          <a:pt x="67" y="9"/>
                        </a:lnTo>
                        <a:lnTo>
                          <a:pt x="54" y="13"/>
                        </a:lnTo>
                        <a:lnTo>
                          <a:pt x="40" y="20"/>
                        </a:lnTo>
                        <a:lnTo>
                          <a:pt x="29" y="29"/>
                        </a:lnTo>
                        <a:lnTo>
                          <a:pt x="20" y="40"/>
                        </a:lnTo>
                        <a:lnTo>
                          <a:pt x="11" y="54"/>
                        </a:lnTo>
                        <a:lnTo>
                          <a:pt x="9" y="67"/>
                        </a:lnTo>
                        <a:lnTo>
                          <a:pt x="7" y="83"/>
                        </a:lnTo>
                        <a:lnTo>
                          <a:pt x="9" y="98"/>
                        </a:lnTo>
                        <a:lnTo>
                          <a:pt x="11" y="112"/>
                        </a:lnTo>
                        <a:lnTo>
                          <a:pt x="20" y="125"/>
                        </a:lnTo>
                        <a:lnTo>
                          <a:pt x="29" y="136"/>
                        </a:lnTo>
                        <a:lnTo>
                          <a:pt x="40" y="145"/>
                        </a:lnTo>
                        <a:lnTo>
                          <a:pt x="54" y="154"/>
                        </a:lnTo>
                        <a:lnTo>
                          <a:pt x="67" y="157"/>
                        </a:lnTo>
                        <a:lnTo>
                          <a:pt x="83" y="159"/>
                        </a:lnTo>
                        <a:lnTo>
                          <a:pt x="99" y="157"/>
                        </a:lnTo>
                        <a:lnTo>
                          <a:pt x="112" y="154"/>
                        </a:lnTo>
                        <a:lnTo>
                          <a:pt x="125" y="145"/>
                        </a:lnTo>
                        <a:lnTo>
                          <a:pt x="137" y="136"/>
                        </a:lnTo>
                        <a:lnTo>
                          <a:pt x="146" y="125"/>
                        </a:lnTo>
                        <a:lnTo>
                          <a:pt x="152" y="112"/>
                        </a:lnTo>
                        <a:lnTo>
                          <a:pt x="157" y="98"/>
                        </a:lnTo>
                        <a:lnTo>
                          <a:pt x="159" y="83"/>
                        </a:lnTo>
                        <a:lnTo>
                          <a:pt x="166" y="83"/>
                        </a:lnTo>
                        <a:close/>
                      </a:path>
                    </a:pathLst>
                  </a:custGeom>
                  <a:solidFill>
                    <a:srgbClr val="fdf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1060200" y="2011320"/>
                    <a:ext cx="24948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57">
                        <a:moveTo>
                          <a:pt x="157" y="79"/>
                        </a:moveTo>
                        <a:lnTo>
                          <a:pt x="155" y="63"/>
                        </a:lnTo>
                        <a:lnTo>
                          <a:pt x="151" y="50"/>
                        </a:lnTo>
                        <a:lnTo>
                          <a:pt x="144" y="36"/>
                        </a:lnTo>
                        <a:lnTo>
                          <a:pt x="135" y="23"/>
                        </a:lnTo>
                        <a:lnTo>
                          <a:pt x="121" y="14"/>
                        </a:lnTo>
                        <a:lnTo>
                          <a:pt x="108" y="7"/>
                        </a:lnTo>
                        <a:lnTo>
                          <a:pt x="95" y="2"/>
                        </a:lnTo>
                        <a:lnTo>
                          <a:pt x="79" y="0"/>
                        </a:lnTo>
                        <a:lnTo>
                          <a:pt x="63" y="2"/>
                        </a:lnTo>
                        <a:lnTo>
                          <a:pt x="47" y="7"/>
                        </a:lnTo>
                        <a:lnTo>
                          <a:pt x="34" y="14"/>
                        </a:lnTo>
                        <a:lnTo>
                          <a:pt x="23" y="23"/>
                        </a:lnTo>
                        <a:lnTo>
                          <a:pt x="14" y="36"/>
                        </a:lnTo>
                        <a:lnTo>
                          <a:pt x="7" y="50"/>
                        </a:lnTo>
                        <a:lnTo>
                          <a:pt x="3" y="63"/>
                        </a:lnTo>
                        <a:lnTo>
                          <a:pt x="0" y="79"/>
                        </a:lnTo>
                        <a:lnTo>
                          <a:pt x="3" y="94"/>
                        </a:lnTo>
                        <a:lnTo>
                          <a:pt x="7" y="110"/>
                        </a:lnTo>
                        <a:lnTo>
                          <a:pt x="14" y="124"/>
                        </a:lnTo>
                        <a:lnTo>
                          <a:pt x="23" y="135"/>
                        </a:lnTo>
                        <a:lnTo>
                          <a:pt x="34" y="144"/>
                        </a:lnTo>
                        <a:lnTo>
                          <a:pt x="47" y="150"/>
                        </a:lnTo>
                        <a:lnTo>
                          <a:pt x="63" y="155"/>
                        </a:lnTo>
                        <a:lnTo>
                          <a:pt x="79" y="157"/>
                        </a:lnTo>
                        <a:lnTo>
                          <a:pt x="95" y="155"/>
                        </a:lnTo>
                        <a:lnTo>
                          <a:pt x="108" y="150"/>
                        </a:lnTo>
                        <a:lnTo>
                          <a:pt x="121" y="144"/>
                        </a:lnTo>
                        <a:lnTo>
                          <a:pt x="135" y="135"/>
                        </a:lnTo>
                        <a:lnTo>
                          <a:pt x="144" y="124"/>
                        </a:lnTo>
                        <a:lnTo>
                          <a:pt x="151" y="110"/>
                        </a:lnTo>
                        <a:lnTo>
                          <a:pt x="155" y="94"/>
                        </a:lnTo>
                        <a:lnTo>
                          <a:pt x="157" y="79"/>
                        </a:lnTo>
                        <a:lnTo>
                          <a:pt x="151" y="79"/>
                        </a:lnTo>
                        <a:lnTo>
                          <a:pt x="148" y="65"/>
                        </a:lnTo>
                        <a:lnTo>
                          <a:pt x="146" y="52"/>
                        </a:lnTo>
                        <a:lnTo>
                          <a:pt x="139" y="38"/>
                        </a:lnTo>
                        <a:lnTo>
                          <a:pt x="130" y="27"/>
                        </a:lnTo>
                        <a:lnTo>
                          <a:pt x="119" y="18"/>
                        </a:lnTo>
                        <a:lnTo>
                          <a:pt x="106" y="11"/>
                        </a:lnTo>
                        <a:lnTo>
                          <a:pt x="92" y="9"/>
                        </a:lnTo>
                        <a:lnTo>
                          <a:pt x="79" y="7"/>
                        </a:lnTo>
                        <a:lnTo>
                          <a:pt x="63" y="9"/>
                        </a:lnTo>
                        <a:lnTo>
                          <a:pt x="50" y="11"/>
                        </a:lnTo>
                        <a:lnTo>
                          <a:pt x="39" y="18"/>
                        </a:lnTo>
                        <a:lnTo>
                          <a:pt x="27" y="27"/>
                        </a:lnTo>
                        <a:lnTo>
                          <a:pt x="18" y="38"/>
                        </a:lnTo>
                        <a:lnTo>
                          <a:pt x="12" y="52"/>
                        </a:lnTo>
                        <a:lnTo>
                          <a:pt x="7" y="65"/>
                        </a:lnTo>
                        <a:lnTo>
                          <a:pt x="7" y="79"/>
                        </a:lnTo>
                        <a:lnTo>
                          <a:pt x="7" y="94"/>
                        </a:lnTo>
                        <a:lnTo>
                          <a:pt x="12" y="108"/>
                        </a:lnTo>
                        <a:lnTo>
                          <a:pt x="18" y="119"/>
                        </a:lnTo>
                        <a:lnTo>
                          <a:pt x="27" y="130"/>
                        </a:lnTo>
                        <a:lnTo>
                          <a:pt x="39" y="139"/>
                        </a:lnTo>
                        <a:lnTo>
                          <a:pt x="50" y="146"/>
                        </a:lnTo>
                        <a:lnTo>
                          <a:pt x="63" y="150"/>
                        </a:lnTo>
                        <a:lnTo>
                          <a:pt x="79" y="150"/>
                        </a:lnTo>
                        <a:lnTo>
                          <a:pt x="92" y="150"/>
                        </a:lnTo>
                        <a:lnTo>
                          <a:pt x="106" y="146"/>
                        </a:lnTo>
                        <a:lnTo>
                          <a:pt x="119" y="139"/>
                        </a:lnTo>
                        <a:lnTo>
                          <a:pt x="130" y="130"/>
                        </a:lnTo>
                        <a:lnTo>
                          <a:pt x="139" y="119"/>
                        </a:lnTo>
                        <a:lnTo>
                          <a:pt x="146" y="108"/>
                        </a:lnTo>
                        <a:lnTo>
                          <a:pt x="148" y="94"/>
                        </a:lnTo>
                        <a:lnTo>
                          <a:pt x="151" y="79"/>
                        </a:lnTo>
                        <a:lnTo>
                          <a:pt x="157" y="79"/>
                        </a:lnTo>
                        <a:close/>
                      </a:path>
                    </a:pathLst>
                  </a:custGeom>
                  <a:solidFill>
                    <a:srgbClr val="fdf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1068120" y="2019240"/>
                    <a:ext cx="23508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48">
                        <a:moveTo>
                          <a:pt x="148" y="74"/>
                        </a:moveTo>
                        <a:lnTo>
                          <a:pt x="146" y="58"/>
                        </a:lnTo>
                        <a:lnTo>
                          <a:pt x="141" y="45"/>
                        </a:lnTo>
                        <a:lnTo>
                          <a:pt x="134" y="33"/>
                        </a:lnTo>
                        <a:lnTo>
                          <a:pt x="125" y="22"/>
                        </a:lnTo>
                        <a:lnTo>
                          <a:pt x="114" y="13"/>
                        </a:lnTo>
                        <a:lnTo>
                          <a:pt x="103" y="6"/>
                        </a:lnTo>
                        <a:lnTo>
                          <a:pt x="90" y="2"/>
                        </a:lnTo>
                        <a:lnTo>
                          <a:pt x="74" y="0"/>
                        </a:lnTo>
                        <a:lnTo>
                          <a:pt x="58" y="2"/>
                        </a:lnTo>
                        <a:lnTo>
                          <a:pt x="45" y="6"/>
                        </a:lnTo>
                        <a:lnTo>
                          <a:pt x="31" y="13"/>
                        </a:lnTo>
                        <a:lnTo>
                          <a:pt x="20" y="22"/>
                        </a:lnTo>
                        <a:lnTo>
                          <a:pt x="11" y="33"/>
                        </a:lnTo>
                        <a:lnTo>
                          <a:pt x="4" y="45"/>
                        </a:lnTo>
                        <a:lnTo>
                          <a:pt x="0" y="58"/>
                        </a:lnTo>
                        <a:lnTo>
                          <a:pt x="0" y="74"/>
                        </a:lnTo>
                        <a:lnTo>
                          <a:pt x="0" y="89"/>
                        </a:lnTo>
                        <a:lnTo>
                          <a:pt x="4" y="103"/>
                        </a:lnTo>
                        <a:lnTo>
                          <a:pt x="11" y="116"/>
                        </a:lnTo>
                        <a:lnTo>
                          <a:pt x="20" y="127"/>
                        </a:lnTo>
                        <a:lnTo>
                          <a:pt x="31" y="136"/>
                        </a:lnTo>
                        <a:lnTo>
                          <a:pt x="45" y="143"/>
                        </a:lnTo>
                        <a:lnTo>
                          <a:pt x="58" y="148"/>
                        </a:lnTo>
                        <a:lnTo>
                          <a:pt x="74" y="148"/>
                        </a:lnTo>
                        <a:lnTo>
                          <a:pt x="90" y="148"/>
                        </a:lnTo>
                        <a:lnTo>
                          <a:pt x="103" y="143"/>
                        </a:lnTo>
                        <a:lnTo>
                          <a:pt x="114" y="136"/>
                        </a:lnTo>
                        <a:lnTo>
                          <a:pt x="125" y="127"/>
                        </a:lnTo>
                        <a:lnTo>
                          <a:pt x="134" y="116"/>
                        </a:lnTo>
                        <a:lnTo>
                          <a:pt x="141" y="103"/>
                        </a:lnTo>
                        <a:lnTo>
                          <a:pt x="146" y="89"/>
                        </a:lnTo>
                        <a:lnTo>
                          <a:pt x="148" y="74"/>
                        </a:lnTo>
                        <a:lnTo>
                          <a:pt x="141" y="74"/>
                        </a:lnTo>
                        <a:lnTo>
                          <a:pt x="139" y="60"/>
                        </a:lnTo>
                        <a:lnTo>
                          <a:pt x="137" y="47"/>
                        </a:lnTo>
                        <a:lnTo>
                          <a:pt x="130" y="36"/>
                        </a:lnTo>
                        <a:lnTo>
                          <a:pt x="121" y="27"/>
                        </a:lnTo>
                        <a:lnTo>
                          <a:pt x="112" y="18"/>
                        </a:lnTo>
                        <a:lnTo>
                          <a:pt x="101" y="11"/>
                        </a:lnTo>
                        <a:lnTo>
                          <a:pt x="87" y="9"/>
                        </a:lnTo>
                        <a:lnTo>
                          <a:pt x="74" y="6"/>
                        </a:lnTo>
                        <a:lnTo>
                          <a:pt x="60" y="9"/>
                        </a:lnTo>
                        <a:lnTo>
                          <a:pt x="47" y="11"/>
                        </a:lnTo>
                        <a:lnTo>
                          <a:pt x="36" y="18"/>
                        </a:lnTo>
                        <a:lnTo>
                          <a:pt x="25" y="27"/>
                        </a:lnTo>
                        <a:lnTo>
                          <a:pt x="18" y="36"/>
                        </a:lnTo>
                        <a:lnTo>
                          <a:pt x="11" y="47"/>
                        </a:lnTo>
                        <a:lnTo>
                          <a:pt x="7" y="60"/>
                        </a:lnTo>
                        <a:lnTo>
                          <a:pt x="7" y="74"/>
                        </a:lnTo>
                        <a:lnTo>
                          <a:pt x="7" y="87"/>
                        </a:lnTo>
                        <a:lnTo>
                          <a:pt x="11" y="101"/>
                        </a:lnTo>
                        <a:lnTo>
                          <a:pt x="18" y="112"/>
                        </a:lnTo>
                        <a:lnTo>
                          <a:pt x="25" y="121"/>
                        </a:lnTo>
                        <a:lnTo>
                          <a:pt x="36" y="130"/>
                        </a:lnTo>
                        <a:lnTo>
                          <a:pt x="47" y="136"/>
                        </a:lnTo>
                        <a:lnTo>
                          <a:pt x="60" y="141"/>
                        </a:lnTo>
                        <a:lnTo>
                          <a:pt x="74" y="141"/>
                        </a:lnTo>
                        <a:lnTo>
                          <a:pt x="87" y="141"/>
                        </a:lnTo>
                        <a:lnTo>
                          <a:pt x="101" y="136"/>
                        </a:lnTo>
                        <a:lnTo>
                          <a:pt x="112" y="130"/>
                        </a:lnTo>
                        <a:lnTo>
                          <a:pt x="121" y="121"/>
                        </a:lnTo>
                        <a:lnTo>
                          <a:pt x="130" y="112"/>
                        </a:lnTo>
                        <a:lnTo>
                          <a:pt x="137" y="101"/>
                        </a:lnTo>
                        <a:lnTo>
                          <a:pt x="139" y="87"/>
                        </a:lnTo>
                        <a:lnTo>
                          <a:pt x="141" y="74"/>
                        </a:lnTo>
                        <a:lnTo>
                          <a:pt x="148" y="74"/>
                        </a:lnTo>
                        <a:close/>
                      </a:path>
                    </a:pathLst>
                  </a:custGeom>
                  <a:solidFill>
                    <a:srgbClr val="fdf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1074600" y="2025360"/>
                    <a:ext cx="2206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39">
                        <a:moveTo>
                          <a:pt x="139" y="70"/>
                        </a:moveTo>
                        <a:lnTo>
                          <a:pt x="137" y="56"/>
                        </a:lnTo>
                        <a:lnTo>
                          <a:pt x="135" y="43"/>
                        </a:lnTo>
                        <a:lnTo>
                          <a:pt x="128" y="32"/>
                        </a:lnTo>
                        <a:lnTo>
                          <a:pt x="119" y="20"/>
                        </a:lnTo>
                        <a:lnTo>
                          <a:pt x="108" y="11"/>
                        </a:lnTo>
                        <a:lnTo>
                          <a:pt x="97" y="5"/>
                        </a:lnTo>
                        <a:lnTo>
                          <a:pt x="83" y="2"/>
                        </a:lnTo>
                        <a:lnTo>
                          <a:pt x="70" y="0"/>
                        </a:lnTo>
                        <a:lnTo>
                          <a:pt x="56" y="2"/>
                        </a:lnTo>
                        <a:lnTo>
                          <a:pt x="43" y="5"/>
                        </a:lnTo>
                        <a:lnTo>
                          <a:pt x="30" y="11"/>
                        </a:lnTo>
                        <a:lnTo>
                          <a:pt x="21" y="20"/>
                        </a:lnTo>
                        <a:lnTo>
                          <a:pt x="12" y="32"/>
                        </a:lnTo>
                        <a:lnTo>
                          <a:pt x="5" y="43"/>
                        </a:lnTo>
                        <a:lnTo>
                          <a:pt x="0" y="56"/>
                        </a:lnTo>
                        <a:lnTo>
                          <a:pt x="0" y="70"/>
                        </a:lnTo>
                        <a:lnTo>
                          <a:pt x="0" y="83"/>
                        </a:lnTo>
                        <a:lnTo>
                          <a:pt x="5" y="97"/>
                        </a:lnTo>
                        <a:lnTo>
                          <a:pt x="12" y="110"/>
                        </a:lnTo>
                        <a:lnTo>
                          <a:pt x="21" y="119"/>
                        </a:lnTo>
                        <a:lnTo>
                          <a:pt x="30" y="128"/>
                        </a:lnTo>
                        <a:lnTo>
                          <a:pt x="43" y="135"/>
                        </a:lnTo>
                        <a:lnTo>
                          <a:pt x="56" y="139"/>
                        </a:lnTo>
                        <a:lnTo>
                          <a:pt x="70" y="139"/>
                        </a:lnTo>
                        <a:lnTo>
                          <a:pt x="83" y="139"/>
                        </a:lnTo>
                        <a:lnTo>
                          <a:pt x="97" y="135"/>
                        </a:lnTo>
                        <a:lnTo>
                          <a:pt x="108" y="128"/>
                        </a:lnTo>
                        <a:lnTo>
                          <a:pt x="119" y="119"/>
                        </a:lnTo>
                        <a:lnTo>
                          <a:pt x="128" y="110"/>
                        </a:lnTo>
                        <a:lnTo>
                          <a:pt x="135" y="97"/>
                        </a:lnTo>
                        <a:lnTo>
                          <a:pt x="137" y="83"/>
                        </a:lnTo>
                        <a:lnTo>
                          <a:pt x="139" y="70"/>
                        </a:lnTo>
                        <a:lnTo>
                          <a:pt x="133" y="70"/>
                        </a:lnTo>
                        <a:lnTo>
                          <a:pt x="128" y="45"/>
                        </a:lnTo>
                        <a:lnTo>
                          <a:pt x="115" y="25"/>
                        </a:lnTo>
                        <a:lnTo>
                          <a:pt x="95" y="11"/>
                        </a:lnTo>
                        <a:lnTo>
                          <a:pt x="70" y="7"/>
                        </a:lnTo>
                        <a:lnTo>
                          <a:pt x="45" y="11"/>
                        </a:lnTo>
                        <a:lnTo>
                          <a:pt x="25" y="25"/>
                        </a:lnTo>
                        <a:lnTo>
                          <a:pt x="12" y="45"/>
                        </a:lnTo>
                        <a:lnTo>
                          <a:pt x="7" y="70"/>
                        </a:lnTo>
                        <a:lnTo>
                          <a:pt x="12" y="94"/>
                        </a:lnTo>
                        <a:lnTo>
                          <a:pt x="25" y="115"/>
                        </a:lnTo>
                        <a:lnTo>
                          <a:pt x="45" y="128"/>
                        </a:lnTo>
                        <a:lnTo>
                          <a:pt x="70" y="132"/>
                        </a:lnTo>
                        <a:lnTo>
                          <a:pt x="95" y="128"/>
                        </a:lnTo>
                        <a:lnTo>
                          <a:pt x="115" y="115"/>
                        </a:lnTo>
                        <a:lnTo>
                          <a:pt x="128" y="94"/>
                        </a:lnTo>
                        <a:lnTo>
                          <a:pt x="133" y="70"/>
                        </a:lnTo>
                        <a:lnTo>
                          <a:pt x="139" y="70"/>
                        </a:lnTo>
                        <a:close/>
                      </a:path>
                    </a:pathLst>
                  </a:custGeom>
                  <a:solidFill>
                    <a:srgbClr val="fdfa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082520" y="2033280"/>
                    <a:ext cx="20628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30">
                        <a:moveTo>
                          <a:pt x="130" y="65"/>
                        </a:moveTo>
                        <a:lnTo>
                          <a:pt x="125" y="40"/>
                        </a:lnTo>
                        <a:lnTo>
                          <a:pt x="112" y="18"/>
                        </a:lnTo>
                        <a:lnTo>
                          <a:pt x="90" y="4"/>
                        </a:lnTo>
                        <a:lnTo>
                          <a:pt x="65" y="0"/>
                        </a:lnTo>
                        <a:lnTo>
                          <a:pt x="40" y="4"/>
                        </a:lnTo>
                        <a:lnTo>
                          <a:pt x="18" y="18"/>
                        </a:lnTo>
                        <a:lnTo>
                          <a:pt x="4" y="40"/>
                        </a:lnTo>
                        <a:lnTo>
                          <a:pt x="0" y="65"/>
                        </a:lnTo>
                        <a:lnTo>
                          <a:pt x="4" y="89"/>
                        </a:lnTo>
                        <a:lnTo>
                          <a:pt x="18" y="112"/>
                        </a:lnTo>
                        <a:lnTo>
                          <a:pt x="40" y="125"/>
                        </a:lnTo>
                        <a:lnTo>
                          <a:pt x="65" y="130"/>
                        </a:lnTo>
                        <a:lnTo>
                          <a:pt x="90" y="125"/>
                        </a:lnTo>
                        <a:lnTo>
                          <a:pt x="112" y="112"/>
                        </a:lnTo>
                        <a:lnTo>
                          <a:pt x="125" y="89"/>
                        </a:lnTo>
                        <a:lnTo>
                          <a:pt x="130" y="65"/>
                        </a:lnTo>
                        <a:lnTo>
                          <a:pt x="123" y="65"/>
                        </a:lnTo>
                        <a:lnTo>
                          <a:pt x="119" y="42"/>
                        </a:lnTo>
                        <a:lnTo>
                          <a:pt x="107" y="22"/>
                        </a:lnTo>
                        <a:lnTo>
                          <a:pt x="87" y="11"/>
                        </a:lnTo>
                        <a:lnTo>
                          <a:pt x="65" y="6"/>
                        </a:lnTo>
                        <a:lnTo>
                          <a:pt x="42" y="11"/>
                        </a:lnTo>
                        <a:lnTo>
                          <a:pt x="22" y="22"/>
                        </a:lnTo>
                        <a:lnTo>
                          <a:pt x="9" y="42"/>
                        </a:lnTo>
                        <a:lnTo>
                          <a:pt x="4" y="65"/>
                        </a:lnTo>
                        <a:lnTo>
                          <a:pt x="9" y="87"/>
                        </a:lnTo>
                        <a:lnTo>
                          <a:pt x="22" y="107"/>
                        </a:lnTo>
                        <a:lnTo>
                          <a:pt x="42" y="121"/>
                        </a:lnTo>
                        <a:lnTo>
                          <a:pt x="65" y="125"/>
                        </a:lnTo>
                        <a:lnTo>
                          <a:pt x="87" y="121"/>
                        </a:lnTo>
                        <a:lnTo>
                          <a:pt x="107" y="107"/>
                        </a:lnTo>
                        <a:lnTo>
                          <a:pt x="119" y="87"/>
                        </a:lnTo>
                        <a:lnTo>
                          <a:pt x="123" y="65"/>
                        </a:lnTo>
                        <a:lnTo>
                          <a:pt x="130" y="65"/>
                        </a:lnTo>
                        <a:close/>
                      </a:path>
                    </a:pathLst>
                  </a:custGeom>
                  <a:solidFill>
                    <a:srgbClr val="fd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1085760" y="2039760"/>
                    <a:ext cx="1951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3">
                        <a:moveTo>
                          <a:pt x="123" y="61"/>
                        </a:moveTo>
                        <a:lnTo>
                          <a:pt x="119" y="36"/>
                        </a:lnTo>
                        <a:lnTo>
                          <a:pt x="105" y="18"/>
                        </a:lnTo>
                        <a:lnTo>
                          <a:pt x="88" y="5"/>
                        </a:lnTo>
                        <a:lnTo>
                          <a:pt x="63" y="0"/>
                        </a:lnTo>
                        <a:lnTo>
                          <a:pt x="38" y="5"/>
                        </a:lnTo>
                        <a:lnTo>
                          <a:pt x="20" y="18"/>
                        </a:lnTo>
                        <a:lnTo>
                          <a:pt x="7" y="36"/>
                        </a:lnTo>
                        <a:lnTo>
                          <a:pt x="0" y="61"/>
                        </a:lnTo>
                        <a:lnTo>
                          <a:pt x="7" y="85"/>
                        </a:lnTo>
                        <a:lnTo>
                          <a:pt x="20" y="103"/>
                        </a:lnTo>
                        <a:lnTo>
                          <a:pt x="38" y="117"/>
                        </a:lnTo>
                        <a:lnTo>
                          <a:pt x="63" y="123"/>
                        </a:lnTo>
                        <a:lnTo>
                          <a:pt x="88" y="117"/>
                        </a:lnTo>
                        <a:lnTo>
                          <a:pt x="105" y="103"/>
                        </a:lnTo>
                        <a:lnTo>
                          <a:pt x="119" y="85"/>
                        </a:lnTo>
                        <a:lnTo>
                          <a:pt x="123" y="61"/>
                        </a:lnTo>
                        <a:lnTo>
                          <a:pt x="119" y="61"/>
                        </a:lnTo>
                        <a:lnTo>
                          <a:pt x="114" y="41"/>
                        </a:lnTo>
                        <a:lnTo>
                          <a:pt x="101" y="23"/>
                        </a:lnTo>
                        <a:lnTo>
                          <a:pt x="83" y="9"/>
                        </a:lnTo>
                        <a:lnTo>
                          <a:pt x="63" y="5"/>
                        </a:lnTo>
                        <a:lnTo>
                          <a:pt x="40" y="9"/>
                        </a:lnTo>
                        <a:lnTo>
                          <a:pt x="25" y="23"/>
                        </a:lnTo>
                        <a:lnTo>
                          <a:pt x="11" y="41"/>
                        </a:lnTo>
                        <a:lnTo>
                          <a:pt x="7" y="61"/>
                        </a:lnTo>
                        <a:lnTo>
                          <a:pt x="11" y="83"/>
                        </a:lnTo>
                        <a:lnTo>
                          <a:pt x="25" y="99"/>
                        </a:lnTo>
                        <a:lnTo>
                          <a:pt x="40" y="112"/>
                        </a:lnTo>
                        <a:lnTo>
                          <a:pt x="63" y="117"/>
                        </a:lnTo>
                        <a:lnTo>
                          <a:pt x="83" y="112"/>
                        </a:lnTo>
                        <a:lnTo>
                          <a:pt x="101" y="99"/>
                        </a:lnTo>
                        <a:lnTo>
                          <a:pt x="114" y="83"/>
                        </a:lnTo>
                        <a:lnTo>
                          <a:pt x="119" y="61"/>
                        </a:lnTo>
                        <a:lnTo>
                          <a:pt x="123" y="61"/>
                        </a:lnTo>
                        <a:close/>
                      </a:path>
                    </a:pathLst>
                  </a:custGeom>
                  <a:solidFill>
                    <a:srgbClr val="fd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093680" y="2047680"/>
                    <a:ext cx="18108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14">
                        <a:moveTo>
                          <a:pt x="114" y="56"/>
                        </a:moveTo>
                        <a:lnTo>
                          <a:pt x="109" y="33"/>
                        </a:lnTo>
                        <a:lnTo>
                          <a:pt x="98" y="15"/>
                        </a:lnTo>
                        <a:lnTo>
                          <a:pt x="80" y="4"/>
                        </a:lnTo>
                        <a:lnTo>
                          <a:pt x="58" y="0"/>
                        </a:lnTo>
                        <a:lnTo>
                          <a:pt x="35" y="4"/>
                        </a:lnTo>
                        <a:lnTo>
                          <a:pt x="18" y="15"/>
                        </a:lnTo>
                        <a:lnTo>
                          <a:pt x="4" y="33"/>
                        </a:lnTo>
                        <a:lnTo>
                          <a:pt x="0" y="56"/>
                        </a:lnTo>
                        <a:lnTo>
                          <a:pt x="4" y="78"/>
                        </a:lnTo>
                        <a:lnTo>
                          <a:pt x="18" y="96"/>
                        </a:lnTo>
                        <a:lnTo>
                          <a:pt x="35" y="109"/>
                        </a:lnTo>
                        <a:lnTo>
                          <a:pt x="58" y="114"/>
                        </a:lnTo>
                        <a:lnTo>
                          <a:pt x="80" y="109"/>
                        </a:lnTo>
                        <a:lnTo>
                          <a:pt x="98" y="96"/>
                        </a:lnTo>
                        <a:lnTo>
                          <a:pt x="109" y="78"/>
                        </a:lnTo>
                        <a:lnTo>
                          <a:pt x="114" y="56"/>
                        </a:lnTo>
                        <a:lnTo>
                          <a:pt x="109" y="56"/>
                        </a:lnTo>
                        <a:lnTo>
                          <a:pt x="105" y="36"/>
                        </a:lnTo>
                        <a:lnTo>
                          <a:pt x="94" y="20"/>
                        </a:lnTo>
                        <a:lnTo>
                          <a:pt x="78" y="9"/>
                        </a:lnTo>
                        <a:lnTo>
                          <a:pt x="58" y="4"/>
                        </a:lnTo>
                        <a:lnTo>
                          <a:pt x="38" y="9"/>
                        </a:lnTo>
                        <a:lnTo>
                          <a:pt x="22" y="20"/>
                        </a:lnTo>
                        <a:lnTo>
                          <a:pt x="11" y="36"/>
                        </a:lnTo>
                        <a:lnTo>
                          <a:pt x="6" y="56"/>
                        </a:lnTo>
                        <a:lnTo>
                          <a:pt x="11" y="76"/>
                        </a:lnTo>
                        <a:lnTo>
                          <a:pt x="22" y="92"/>
                        </a:lnTo>
                        <a:lnTo>
                          <a:pt x="38" y="103"/>
                        </a:lnTo>
                        <a:lnTo>
                          <a:pt x="58" y="107"/>
                        </a:lnTo>
                        <a:lnTo>
                          <a:pt x="78" y="103"/>
                        </a:lnTo>
                        <a:lnTo>
                          <a:pt x="94" y="92"/>
                        </a:lnTo>
                        <a:lnTo>
                          <a:pt x="105" y="76"/>
                        </a:lnTo>
                        <a:lnTo>
                          <a:pt x="109" y="56"/>
                        </a:lnTo>
                        <a:lnTo>
                          <a:pt x="114" y="56"/>
                        </a:lnTo>
                        <a:close/>
                      </a:path>
                    </a:pathLst>
                  </a:custGeom>
                  <a:solidFill>
                    <a:srgbClr val="fd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099800" y="2050920"/>
                    <a:ext cx="16668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7">
                        <a:moveTo>
                          <a:pt x="105" y="54"/>
                        </a:moveTo>
                        <a:lnTo>
                          <a:pt x="103" y="34"/>
                        </a:lnTo>
                        <a:lnTo>
                          <a:pt x="92" y="16"/>
                        </a:lnTo>
                        <a:lnTo>
                          <a:pt x="74" y="4"/>
                        </a:lnTo>
                        <a:lnTo>
                          <a:pt x="54" y="0"/>
                        </a:lnTo>
                        <a:lnTo>
                          <a:pt x="34" y="4"/>
                        </a:lnTo>
                        <a:lnTo>
                          <a:pt x="16" y="16"/>
                        </a:lnTo>
                        <a:lnTo>
                          <a:pt x="5" y="34"/>
                        </a:lnTo>
                        <a:lnTo>
                          <a:pt x="0" y="54"/>
                        </a:lnTo>
                        <a:lnTo>
                          <a:pt x="5" y="74"/>
                        </a:lnTo>
                        <a:lnTo>
                          <a:pt x="16" y="92"/>
                        </a:lnTo>
                        <a:lnTo>
                          <a:pt x="34" y="103"/>
                        </a:lnTo>
                        <a:lnTo>
                          <a:pt x="54" y="107"/>
                        </a:lnTo>
                        <a:lnTo>
                          <a:pt x="74" y="103"/>
                        </a:lnTo>
                        <a:lnTo>
                          <a:pt x="92" y="92"/>
                        </a:lnTo>
                        <a:lnTo>
                          <a:pt x="103" y="74"/>
                        </a:lnTo>
                        <a:lnTo>
                          <a:pt x="105" y="54"/>
                        </a:lnTo>
                        <a:lnTo>
                          <a:pt x="101" y="54"/>
                        </a:lnTo>
                        <a:lnTo>
                          <a:pt x="96" y="36"/>
                        </a:lnTo>
                        <a:lnTo>
                          <a:pt x="87" y="20"/>
                        </a:lnTo>
                        <a:lnTo>
                          <a:pt x="72" y="11"/>
                        </a:lnTo>
                        <a:lnTo>
                          <a:pt x="54" y="7"/>
                        </a:lnTo>
                        <a:lnTo>
                          <a:pt x="36" y="11"/>
                        </a:lnTo>
                        <a:lnTo>
                          <a:pt x="20" y="20"/>
                        </a:lnTo>
                        <a:lnTo>
                          <a:pt x="11" y="36"/>
                        </a:lnTo>
                        <a:lnTo>
                          <a:pt x="7" y="54"/>
                        </a:lnTo>
                        <a:lnTo>
                          <a:pt x="11" y="72"/>
                        </a:lnTo>
                        <a:lnTo>
                          <a:pt x="20" y="87"/>
                        </a:lnTo>
                        <a:lnTo>
                          <a:pt x="36" y="96"/>
                        </a:lnTo>
                        <a:lnTo>
                          <a:pt x="54" y="101"/>
                        </a:lnTo>
                        <a:lnTo>
                          <a:pt x="72" y="96"/>
                        </a:lnTo>
                        <a:lnTo>
                          <a:pt x="87" y="87"/>
                        </a:lnTo>
                        <a:lnTo>
                          <a:pt x="96" y="72"/>
                        </a:lnTo>
                        <a:lnTo>
                          <a:pt x="101" y="54"/>
                        </a:lnTo>
                        <a:lnTo>
                          <a:pt x="105" y="54"/>
                        </a:lnTo>
                        <a:close/>
                      </a:path>
                    </a:pathLst>
                  </a:custGeom>
                  <a:solidFill>
                    <a:srgbClr val="ff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107720" y="2057400"/>
                    <a:ext cx="15588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99">
                        <a:moveTo>
                          <a:pt x="98" y="50"/>
                        </a:moveTo>
                        <a:lnTo>
                          <a:pt x="94" y="32"/>
                        </a:lnTo>
                        <a:lnTo>
                          <a:pt x="82" y="16"/>
                        </a:lnTo>
                        <a:lnTo>
                          <a:pt x="67" y="5"/>
                        </a:lnTo>
                        <a:lnTo>
                          <a:pt x="49" y="0"/>
                        </a:lnTo>
                        <a:lnTo>
                          <a:pt x="29" y="5"/>
                        </a:lnTo>
                        <a:lnTo>
                          <a:pt x="15" y="16"/>
                        </a:lnTo>
                        <a:lnTo>
                          <a:pt x="4" y="32"/>
                        </a:lnTo>
                        <a:lnTo>
                          <a:pt x="0" y="50"/>
                        </a:lnTo>
                        <a:lnTo>
                          <a:pt x="4" y="70"/>
                        </a:lnTo>
                        <a:lnTo>
                          <a:pt x="15" y="83"/>
                        </a:lnTo>
                        <a:lnTo>
                          <a:pt x="29" y="95"/>
                        </a:lnTo>
                        <a:lnTo>
                          <a:pt x="49" y="99"/>
                        </a:lnTo>
                        <a:lnTo>
                          <a:pt x="67" y="95"/>
                        </a:lnTo>
                        <a:lnTo>
                          <a:pt x="82" y="83"/>
                        </a:lnTo>
                        <a:lnTo>
                          <a:pt x="94" y="70"/>
                        </a:lnTo>
                        <a:lnTo>
                          <a:pt x="98" y="50"/>
                        </a:lnTo>
                        <a:lnTo>
                          <a:pt x="91" y="50"/>
                        </a:lnTo>
                        <a:lnTo>
                          <a:pt x="87" y="34"/>
                        </a:lnTo>
                        <a:lnTo>
                          <a:pt x="78" y="21"/>
                        </a:lnTo>
                        <a:lnTo>
                          <a:pt x="65" y="12"/>
                        </a:lnTo>
                        <a:lnTo>
                          <a:pt x="49" y="7"/>
                        </a:lnTo>
                        <a:lnTo>
                          <a:pt x="33" y="12"/>
                        </a:lnTo>
                        <a:lnTo>
                          <a:pt x="17" y="21"/>
                        </a:lnTo>
                        <a:lnTo>
                          <a:pt x="9" y="34"/>
                        </a:lnTo>
                        <a:lnTo>
                          <a:pt x="6" y="50"/>
                        </a:lnTo>
                        <a:lnTo>
                          <a:pt x="9" y="65"/>
                        </a:lnTo>
                        <a:lnTo>
                          <a:pt x="17" y="81"/>
                        </a:lnTo>
                        <a:lnTo>
                          <a:pt x="33" y="90"/>
                        </a:lnTo>
                        <a:lnTo>
                          <a:pt x="49" y="92"/>
                        </a:lnTo>
                        <a:lnTo>
                          <a:pt x="65" y="90"/>
                        </a:lnTo>
                        <a:lnTo>
                          <a:pt x="78" y="81"/>
                        </a:lnTo>
                        <a:lnTo>
                          <a:pt x="87" y="65"/>
                        </a:lnTo>
                        <a:lnTo>
                          <a:pt x="91" y="50"/>
                        </a:lnTo>
                        <a:lnTo>
                          <a:pt x="98" y="50"/>
                        </a:lnTo>
                        <a:close/>
                      </a:path>
                    </a:pathLst>
                  </a:custGeom>
                  <a:solidFill>
                    <a:srgbClr val="ff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114200" y="2065320"/>
                    <a:ext cx="1429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0">
                        <a:moveTo>
                          <a:pt x="90" y="45"/>
                        </a:moveTo>
                        <a:lnTo>
                          <a:pt x="85" y="27"/>
                        </a:lnTo>
                        <a:lnTo>
                          <a:pt x="76" y="13"/>
                        </a:lnTo>
                        <a:lnTo>
                          <a:pt x="63" y="4"/>
                        </a:lnTo>
                        <a:lnTo>
                          <a:pt x="45" y="0"/>
                        </a:lnTo>
                        <a:lnTo>
                          <a:pt x="27" y="4"/>
                        </a:lnTo>
                        <a:lnTo>
                          <a:pt x="13" y="13"/>
                        </a:lnTo>
                        <a:lnTo>
                          <a:pt x="5" y="27"/>
                        </a:lnTo>
                        <a:lnTo>
                          <a:pt x="0" y="45"/>
                        </a:lnTo>
                        <a:lnTo>
                          <a:pt x="5" y="63"/>
                        </a:lnTo>
                        <a:lnTo>
                          <a:pt x="13" y="76"/>
                        </a:lnTo>
                        <a:lnTo>
                          <a:pt x="27" y="85"/>
                        </a:lnTo>
                        <a:lnTo>
                          <a:pt x="45" y="90"/>
                        </a:lnTo>
                        <a:lnTo>
                          <a:pt x="63" y="85"/>
                        </a:lnTo>
                        <a:lnTo>
                          <a:pt x="76" y="76"/>
                        </a:lnTo>
                        <a:lnTo>
                          <a:pt x="85" y="63"/>
                        </a:lnTo>
                        <a:lnTo>
                          <a:pt x="90" y="45"/>
                        </a:lnTo>
                        <a:lnTo>
                          <a:pt x="83" y="45"/>
                        </a:lnTo>
                        <a:lnTo>
                          <a:pt x="81" y="29"/>
                        </a:lnTo>
                        <a:lnTo>
                          <a:pt x="72" y="18"/>
                        </a:lnTo>
                        <a:lnTo>
                          <a:pt x="61" y="9"/>
                        </a:lnTo>
                        <a:lnTo>
                          <a:pt x="45" y="7"/>
                        </a:lnTo>
                        <a:lnTo>
                          <a:pt x="29" y="9"/>
                        </a:lnTo>
                        <a:lnTo>
                          <a:pt x="18" y="18"/>
                        </a:lnTo>
                        <a:lnTo>
                          <a:pt x="9" y="29"/>
                        </a:lnTo>
                        <a:lnTo>
                          <a:pt x="7" y="45"/>
                        </a:lnTo>
                        <a:lnTo>
                          <a:pt x="9" y="60"/>
                        </a:lnTo>
                        <a:lnTo>
                          <a:pt x="18" y="72"/>
                        </a:lnTo>
                        <a:lnTo>
                          <a:pt x="29" y="81"/>
                        </a:lnTo>
                        <a:lnTo>
                          <a:pt x="45" y="83"/>
                        </a:lnTo>
                        <a:lnTo>
                          <a:pt x="61" y="81"/>
                        </a:lnTo>
                        <a:lnTo>
                          <a:pt x="72" y="72"/>
                        </a:lnTo>
                        <a:lnTo>
                          <a:pt x="81" y="60"/>
                        </a:lnTo>
                        <a:lnTo>
                          <a:pt x="83" y="45"/>
                        </a:lnTo>
                        <a:lnTo>
                          <a:pt x="90" y="45"/>
                        </a:lnTo>
                        <a:close/>
                      </a:path>
                    </a:pathLst>
                  </a:custGeom>
                  <a:solidFill>
                    <a:srgbClr val="ff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122120" y="2071440"/>
                    <a:ext cx="1270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1">
                        <a:moveTo>
                          <a:pt x="80" y="41"/>
                        </a:moveTo>
                        <a:lnTo>
                          <a:pt x="76" y="25"/>
                        </a:lnTo>
                        <a:lnTo>
                          <a:pt x="69" y="12"/>
                        </a:lnTo>
                        <a:lnTo>
                          <a:pt x="56" y="5"/>
                        </a:lnTo>
                        <a:lnTo>
                          <a:pt x="40" y="0"/>
                        </a:lnTo>
                        <a:lnTo>
                          <a:pt x="24" y="5"/>
                        </a:lnTo>
                        <a:lnTo>
                          <a:pt x="11" y="12"/>
                        </a:lnTo>
                        <a:lnTo>
                          <a:pt x="2" y="25"/>
                        </a:lnTo>
                        <a:lnTo>
                          <a:pt x="0" y="41"/>
                        </a:lnTo>
                        <a:lnTo>
                          <a:pt x="2" y="56"/>
                        </a:lnTo>
                        <a:lnTo>
                          <a:pt x="11" y="70"/>
                        </a:lnTo>
                        <a:lnTo>
                          <a:pt x="24" y="79"/>
                        </a:lnTo>
                        <a:lnTo>
                          <a:pt x="40" y="81"/>
                        </a:lnTo>
                        <a:lnTo>
                          <a:pt x="56" y="79"/>
                        </a:lnTo>
                        <a:lnTo>
                          <a:pt x="69" y="70"/>
                        </a:lnTo>
                        <a:lnTo>
                          <a:pt x="76" y="56"/>
                        </a:lnTo>
                        <a:lnTo>
                          <a:pt x="80" y="41"/>
                        </a:lnTo>
                        <a:lnTo>
                          <a:pt x="73" y="41"/>
                        </a:lnTo>
                        <a:lnTo>
                          <a:pt x="71" y="27"/>
                        </a:lnTo>
                        <a:lnTo>
                          <a:pt x="65" y="16"/>
                        </a:lnTo>
                        <a:lnTo>
                          <a:pt x="53" y="9"/>
                        </a:lnTo>
                        <a:lnTo>
                          <a:pt x="40" y="7"/>
                        </a:lnTo>
                        <a:lnTo>
                          <a:pt x="26" y="9"/>
                        </a:lnTo>
                        <a:lnTo>
                          <a:pt x="15" y="16"/>
                        </a:lnTo>
                        <a:lnTo>
                          <a:pt x="8" y="27"/>
                        </a:lnTo>
                        <a:lnTo>
                          <a:pt x="6" y="41"/>
                        </a:lnTo>
                        <a:lnTo>
                          <a:pt x="8" y="54"/>
                        </a:lnTo>
                        <a:lnTo>
                          <a:pt x="15" y="65"/>
                        </a:lnTo>
                        <a:lnTo>
                          <a:pt x="26" y="72"/>
                        </a:lnTo>
                        <a:lnTo>
                          <a:pt x="40" y="74"/>
                        </a:lnTo>
                        <a:lnTo>
                          <a:pt x="53" y="72"/>
                        </a:lnTo>
                        <a:lnTo>
                          <a:pt x="65" y="65"/>
                        </a:lnTo>
                        <a:lnTo>
                          <a:pt x="71" y="54"/>
                        </a:lnTo>
                        <a:lnTo>
                          <a:pt x="73" y="41"/>
                        </a:lnTo>
                        <a:lnTo>
                          <a:pt x="80" y="41"/>
                        </a:lnTo>
                        <a:close/>
                      </a:path>
                    </a:pathLst>
                  </a:custGeom>
                  <a:solidFill>
                    <a:srgbClr val="ff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128600" y="2079360"/>
                    <a:ext cx="11412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2">
                        <a:moveTo>
                          <a:pt x="72" y="36"/>
                        </a:moveTo>
                        <a:lnTo>
                          <a:pt x="69" y="22"/>
                        </a:lnTo>
                        <a:lnTo>
                          <a:pt x="61" y="11"/>
                        </a:lnTo>
                        <a:lnTo>
                          <a:pt x="49" y="2"/>
                        </a:lnTo>
                        <a:lnTo>
                          <a:pt x="36" y="0"/>
                        </a:lnTo>
                        <a:lnTo>
                          <a:pt x="22" y="2"/>
                        </a:lnTo>
                        <a:lnTo>
                          <a:pt x="11" y="11"/>
                        </a:lnTo>
                        <a:lnTo>
                          <a:pt x="2" y="22"/>
                        </a:lnTo>
                        <a:lnTo>
                          <a:pt x="0" y="36"/>
                        </a:lnTo>
                        <a:lnTo>
                          <a:pt x="2" y="49"/>
                        </a:lnTo>
                        <a:lnTo>
                          <a:pt x="11" y="60"/>
                        </a:lnTo>
                        <a:lnTo>
                          <a:pt x="22" y="69"/>
                        </a:lnTo>
                        <a:lnTo>
                          <a:pt x="36" y="72"/>
                        </a:lnTo>
                        <a:lnTo>
                          <a:pt x="49" y="69"/>
                        </a:lnTo>
                        <a:lnTo>
                          <a:pt x="61" y="60"/>
                        </a:lnTo>
                        <a:lnTo>
                          <a:pt x="69" y="49"/>
                        </a:lnTo>
                        <a:lnTo>
                          <a:pt x="72" y="36"/>
                        </a:lnTo>
                        <a:lnTo>
                          <a:pt x="65" y="36"/>
                        </a:lnTo>
                        <a:lnTo>
                          <a:pt x="63" y="24"/>
                        </a:lnTo>
                        <a:lnTo>
                          <a:pt x="56" y="16"/>
                        </a:lnTo>
                        <a:lnTo>
                          <a:pt x="47" y="9"/>
                        </a:lnTo>
                        <a:lnTo>
                          <a:pt x="36" y="7"/>
                        </a:lnTo>
                        <a:lnTo>
                          <a:pt x="25" y="9"/>
                        </a:lnTo>
                        <a:lnTo>
                          <a:pt x="16" y="16"/>
                        </a:lnTo>
                        <a:lnTo>
                          <a:pt x="9" y="24"/>
                        </a:lnTo>
                        <a:lnTo>
                          <a:pt x="7" y="36"/>
                        </a:lnTo>
                        <a:lnTo>
                          <a:pt x="9" y="47"/>
                        </a:lnTo>
                        <a:lnTo>
                          <a:pt x="16" y="56"/>
                        </a:lnTo>
                        <a:lnTo>
                          <a:pt x="25" y="63"/>
                        </a:lnTo>
                        <a:lnTo>
                          <a:pt x="36" y="65"/>
                        </a:lnTo>
                        <a:lnTo>
                          <a:pt x="47" y="63"/>
                        </a:lnTo>
                        <a:lnTo>
                          <a:pt x="56" y="56"/>
                        </a:lnTo>
                        <a:lnTo>
                          <a:pt x="63" y="47"/>
                        </a:lnTo>
                        <a:lnTo>
                          <a:pt x="65" y="36"/>
                        </a:lnTo>
                        <a:lnTo>
                          <a:pt x="72" y="36"/>
                        </a:lnTo>
                        <a:close/>
                      </a:path>
                    </a:pathLst>
                  </a:custGeom>
                  <a:solidFill>
                    <a:srgbClr val="ff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1134720" y="2085840"/>
                    <a:ext cx="100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3">
                        <a:moveTo>
                          <a:pt x="63" y="32"/>
                        </a:moveTo>
                        <a:lnTo>
                          <a:pt x="61" y="20"/>
                        </a:lnTo>
                        <a:lnTo>
                          <a:pt x="54" y="9"/>
                        </a:lnTo>
                        <a:lnTo>
                          <a:pt x="43" y="3"/>
                        </a:lnTo>
                        <a:lnTo>
                          <a:pt x="32" y="0"/>
                        </a:lnTo>
                        <a:lnTo>
                          <a:pt x="18" y="3"/>
                        </a:lnTo>
                        <a:lnTo>
                          <a:pt x="9" y="9"/>
                        </a:lnTo>
                        <a:lnTo>
                          <a:pt x="3" y="20"/>
                        </a:lnTo>
                        <a:lnTo>
                          <a:pt x="0" y="32"/>
                        </a:lnTo>
                        <a:lnTo>
                          <a:pt x="3" y="45"/>
                        </a:lnTo>
                        <a:lnTo>
                          <a:pt x="9" y="54"/>
                        </a:lnTo>
                        <a:lnTo>
                          <a:pt x="18" y="61"/>
                        </a:lnTo>
                        <a:lnTo>
                          <a:pt x="32" y="63"/>
                        </a:lnTo>
                        <a:lnTo>
                          <a:pt x="43" y="61"/>
                        </a:lnTo>
                        <a:lnTo>
                          <a:pt x="54" y="54"/>
                        </a:lnTo>
                        <a:lnTo>
                          <a:pt x="61" y="45"/>
                        </a:lnTo>
                        <a:lnTo>
                          <a:pt x="63" y="32"/>
                        </a:lnTo>
                        <a:lnTo>
                          <a:pt x="57" y="32"/>
                        </a:lnTo>
                        <a:lnTo>
                          <a:pt x="54" y="23"/>
                        </a:lnTo>
                        <a:lnTo>
                          <a:pt x="50" y="14"/>
                        </a:lnTo>
                        <a:lnTo>
                          <a:pt x="41" y="9"/>
                        </a:lnTo>
                        <a:lnTo>
                          <a:pt x="32" y="7"/>
                        </a:lnTo>
                        <a:lnTo>
                          <a:pt x="21" y="9"/>
                        </a:lnTo>
                        <a:lnTo>
                          <a:pt x="14" y="14"/>
                        </a:lnTo>
                        <a:lnTo>
                          <a:pt x="7" y="23"/>
                        </a:lnTo>
                        <a:lnTo>
                          <a:pt x="7" y="32"/>
                        </a:lnTo>
                        <a:lnTo>
                          <a:pt x="7" y="43"/>
                        </a:lnTo>
                        <a:lnTo>
                          <a:pt x="14" y="50"/>
                        </a:lnTo>
                        <a:lnTo>
                          <a:pt x="21" y="56"/>
                        </a:lnTo>
                        <a:lnTo>
                          <a:pt x="32" y="56"/>
                        </a:lnTo>
                        <a:lnTo>
                          <a:pt x="41" y="56"/>
                        </a:lnTo>
                        <a:lnTo>
                          <a:pt x="50" y="50"/>
                        </a:lnTo>
                        <a:lnTo>
                          <a:pt x="54" y="43"/>
                        </a:lnTo>
                        <a:lnTo>
                          <a:pt x="57" y="32"/>
                        </a:lnTo>
                        <a:lnTo>
                          <a:pt x="63" y="32"/>
                        </a:lnTo>
                        <a:close/>
                      </a:path>
                    </a:pathLst>
                  </a:custGeom>
                  <a:solidFill>
                    <a:srgbClr val="fffd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1142640" y="2093760"/>
                    <a:ext cx="860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4">
                        <a:moveTo>
                          <a:pt x="54" y="27"/>
                        </a:moveTo>
                        <a:lnTo>
                          <a:pt x="52" y="15"/>
                        </a:lnTo>
                        <a:lnTo>
                          <a:pt x="47" y="7"/>
                        </a:lnTo>
                        <a:lnTo>
                          <a:pt x="38" y="2"/>
                        </a:lnTo>
                        <a:lnTo>
                          <a:pt x="27" y="0"/>
                        </a:lnTo>
                        <a:lnTo>
                          <a:pt x="16" y="2"/>
                        </a:lnTo>
                        <a:lnTo>
                          <a:pt x="7" y="7"/>
                        </a:lnTo>
                        <a:lnTo>
                          <a:pt x="2" y="15"/>
                        </a:lnTo>
                        <a:lnTo>
                          <a:pt x="0" y="27"/>
                        </a:lnTo>
                        <a:lnTo>
                          <a:pt x="2" y="38"/>
                        </a:lnTo>
                        <a:lnTo>
                          <a:pt x="7" y="47"/>
                        </a:lnTo>
                        <a:lnTo>
                          <a:pt x="16" y="51"/>
                        </a:lnTo>
                        <a:lnTo>
                          <a:pt x="27" y="54"/>
                        </a:lnTo>
                        <a:lnTo>
                          <a:pt x="38" y="51"/>
                        </a:lnTo>
                        <a:lnTo>
                          <a:pt x="47" y="47"/>
                        </a:lnTo>
                        <a:lnTo>
                          <a:pt x="52" y="38"/>
                        </a:lnTo>
                        <a:lnTo>
                          <a:pt x="54" y="27"/>
                        </a:lnTo>
                        <a:lnTo>
                          <a:pt x="47" y="27"/>
                        </a:lnTo>
                        <a:lnTo>
                          <a:pt x="47" y="18"/>
                        </a:lnTo>
                        <a:lnTo>
                          <a:pt x="43" y="11"/>
                        </a:lnTo>
                        <a:lnTo>
                          <a:pt x="36" y="7"/>
                        </a:lnTo>
                        <a:lnTo>
                          <a:pt x="27" y="7"/>
                        </a:lnTo>
                        <a:lnTo>
                          <a:pt x="18" y="7"/>
                        </a:lnTo>
                        <a:lnTo>
                          <a:pt x="11" y="11"/>
                        </a:lnTo>
                        <a:lnTo>
                          <a:pt x="7" y="18"/>
                        </a:lnTo>
                        <a:lnTo>
                          <a:pt x="4" y="27"/>
                        </a:lnTo>
                        <a:lnTo>
                          <a:pt x="7" y="36"/>
                        </a:lnTo>
                        <a:lnTo>
                          <a:pt x="11" y="42"/>
                        </a:lnTo>
                        <a:lnTo>
                          <a:pt x="18" y="47"/>
                        </a:lnTo>
                        <a:lnTo>
                          <a:pt x="27" y="49"/>
                        </a:lnTo>
                        <a:lnTo>
                          <a:pt x="36" y="47"/>
                        </a:lnTo>
                        <a:lnTo>
                          <a:pt x="43" y="42"/>
                        </a:lnTo>
                        <a:lnTo>
                          <a:pt x="47" y="36"/>
                        </a:lnTo>
                        <a:lnTo>
                          <a:pt x="47" y="27"/>
                        </a:lnTo>
                        <a:lnTo>
                          <a:pt x="54" y="27"/>
                        </a:lnTo>
                        <a:close/>
                      </a:path>
                    </a:pathLst>
                  </a:custGeom>
                  <a:solidFill>
                    <a:srgbClr val="fff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145880" y="2100240"/>
                    <a:ext cx="74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7">
                        <a:moveTo>
                          <a:pt x="47" y="23"/>
                        </a:moveTo>
                        <a:lnTo>
                          <a:pt x="47" y="14"/>
                        </a:lnTo>
                        <a:lnTo>
                          <a:pt x="41" y="7"/>
                        </a:lnTo>
                        <a:lnTo>
                          <a:pt x="34" y="0"/>
                        </a:lnTo>
                        <a:lnTo>
                          <a:pt x="25" y="0"/>
                        </a:lnTo>
                        <a:lnTo>
                          <a:pt x="16" y="0"/>
                        </a:lnTo>
                        <a:lnTo>
                          <a:pt x="9" y="7"/>
                        </a:lnTo>
                        <a:lnTo>
                          <a:pt x="2" y="14"/>
                        </a:lnTo>
                        <a:lnTo>
                          <a:pt x="0" y="23"/>
                        </a:lnTo>
                        <a:lnTo>
                          <a:pt x="2" y="32"/>
                        </a:lnTo>
                        <a:lnTo>
                          <a:pt x="9" y="38"/>
                        </a:lnTo>
                        <a:lnTo>
                          <a:pt x="16" y="45"/>
                        </a:lnTo>
                        <a:lnTo>
                          <a:pt x="25" y="47"/>
                        </a:lnTo>
                        <a:lnTo>
                          <a:pt x="34" y="45"/>
                        </a:lnTo>
                        <a:lnTo>
                          <a:pt x="41" y="38"/>
                        </a:lnTo>
                        <a:lnTo>
                          <a:pt x="47" y="32"/>
                        </a:lnTo>
                        <a:lnTo>
                          <a:pt x="47" y="23"/>
                        </a:lnTo>
                        <a:lnTo>
                          <a:pt x="41" y="23"/>
                        </a:lnTo>
                        <a:lnTo>
                          <a:pt x="41" y="16"/>
                        </a:lnTo>
                        <a:lnTo>
                          <a:pt x="36" y="11"/>
                        </a:lnTo>
                        <a:lnTo>
                          <a:pt x="32" y="7"/>
                        </a:lnTo>
                        <a:lnTo>
                          <a:pt x="25" y="7"/>
                        </a:lnTo>
                        <a:lnTo>
                          <a:pt x="18" y="7"/>
                        </a:lnTo>
                        <a:lnTo>
                          <a:pt x="14" y="11"/>
                        </a:lnTo>
                        <a:lnTo>
                          <a:pt x="9" y="16"/>
                        </a:lnTo>
                        <a:lnTo>
                          <a:pt x="7" y="23"/>
                        </a:lnTo>
                        <a:lnTo>
                          <a:pt x="9" y="29"/>
                        </a:lnTo>
                        <a:lnTo>
                          <a:pt x="14" y="34"/>
                        </a:lnTo>
                        <a:lnTo>
                          <a:pt x="18" y="38"/>
                        </a:lnTo>
                        <a:lnTo>
                          <a:pt x="25" y="41"/>
                        </a:lnTo>
                        <a:lnTo>
                          <a:pt x="32" y="38"/>
                        </a:lnTo>
                        <a:lnTo>
                          <a:pt x="36" y="34"/>
                        </a:lnTo>
                        <a:lnTo>
                          <a:pt x="41" y="29"/>
                        </a:lnTo>
                        <a:lnTo>
                          <a:pt x="41" y="23"/>
                        </a:lnTo>
                        <a:lnTo>
                          <a:pt x="47" y="23"/>
                        </a:lnTo>
                        <a:close/>
                      </a:path>
                    </a:pathLst>
                  </a:custGeom>
                  <a:solidFill>
                    <a:srgbClr val="fff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1153800" y="21081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38" y="18"/>
                        </a:moveTo>
                        <a:lnTo>
                          <a:pt x="38" y="11"/>
                        </a:lnTo>
                        <a:lnTo>
                          <a:pt x="33" y="4"/>
                        </a:lnTo>
                        <a:lnTo>
                          <a:pt x="27" y="0"/>
                        </a:lnTo>
                        <a:lnTo>
                          <a:pt x="20" y="0"/>
                        </a:lnTo>
                        <a:lnTo>
                          <a:pt x="13" y="0"/>
                        </a:lnTo>
                        <a:lnTo>
                          <a:pt x="6" y="4"/>
                        </a:lnTo>
                        <a:lnTo>
                          <a:pt x="2" y="11"/>
                        </a:lnTo>
                        <a:lnTo>
                          <a:pt x="0" y="18"/>
                        </a:lnTo>
                        <a:lnTo>
                          <a:pt x="2" y="24"/>
                        </a:lnTo>
                        <a:lnTo>
                          <a:pt x="6" y="31"/>
                        </a:lnTo>
                        <a:lnTo>
                          <a:pt x="13" y="36"/>
                        </a:lnTo>
                        <a:lnTo>
                          <a:pt x="20" y="38"/>
                        </a:lnTo>
                        <a:lnTo>
                          <a:pt x="27" y="36"/>
                        </a:lnTo>
                        <a:lnTo>
                          <a:pt x="33" y="31"/>
                        </a:lnTo>
                        <a:lnTo>
                          <a:pt x="38" y="24"/>
                        </a:lnTo>
                        <a:lnTo>
                          <a:pt x="38" y="18"/>
                        </a:lnTo>
                        <a:lnTo>
                          <a:pt x="33" y="18"/>
                        </a:lnTo>
                        <a:lnTo>
                          <a:pt x="31" y="13"/>
                        </a:lnTo>
                        <a:lnTo>
                          <a:pt x="29" y="9"/>
                        </a:lnTo>
                        <a:lnTo>
                          <a:pt x="24" y="6"/>
                        </a:lnTo>
                        <a:lnTo>
                          <a:pt x="20" y="4"/>
                        </a:lnTo>
                        <a:lnTo>
                          <a:pt x="15" y="6"/>
                        </a:lnTo>
                        <a:lnTo>
                          <a:pt x="11" y="9"/>
                        </a:lnTo>
                        <a:lnTo>
                          <a:pt x="9" y="13"/>
                        </a:lnTo>
                        <a:lnTo>
                          <a:pt x="6" y="18"/>
                        </a:lnTo>
                        <a:lnTo>
                          <a:pt x="9" y="22"/>
                        </a:lnTo>
                        <a:lnTo>
                          <a:pt x="11" y="27"/>
                        </a:lnTo>
                        <a:lnTo>
                          <a:pt x="15" y="29"/>
                        </a:lnTo>
                        <a:lnTo>
                          <a:pt x="20" y="31"/>
                        </a:lnTo>
                        <a:lnTo>
                          <a:pt x="24" y="29"/>
                        </a:lnTo>
                        <a:lnTo>
                          <a:pt x="29" y="27"/>
                        </a:lnTo>
                        <a:lnTo>
                          <a:pt x="31" y="22"/>
                        </a:lnTo>
                        <a:lnTo>
                          <a:pt x="33" y="18"/>
                        </a:lnTo>
                        <a:lnTo>
                          <a:pt x="38" y="18"/>
                        </a:lnTo>
                        <a:close/>
                      </a:path>
                    </a:pathLst>
                  </a:custGeom>
                  <a:solidFill>
                    <a:srgbClr val="ffff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1160280" y="2111040"/>
                  <a:ext cx="50760" cy="49320"/>
                </a:xfrm>
                <a:custGeom>
                  <a:avLst/>
                  <a:gdLst/>
                  <a:ahLst/>
                  <a:rect l="l" t="t" r="r" b="b"/>
                  <a:pathLst>
                    <a:path w="32" h="31">
                      <a:moveTo>
                        <a:pt x="32" y="16"/>
                      </a:moveTo>
                      <a:lnTo>
                        <a:pt x="29" y="11"/>
                      </a:lnTo>
                      <a:lnTo>
                        <a:pt x="27" y="4"/>
                      </a:lnTo>
                      <a:lnTo>
                        <a:pt x="20" y="2"/>
                      </a:lnTo>
                      <a:lnTo>
                        <a:pt x="16" y="0"/>
                      </a:lnTo>
                      <a:lnTo>
                        <a:pt x="9" y="2"/>
                      </a:lnTo>
                      <a:lnTo>
                        <a:pt x="5" y="4"/>
                      </a:lnTo>
                      <a:lnTo>
                        <a:pt x="2" y="11"/>
                      </a:lnTo>
                      <a:lnTo>
                        <a:pt x="0" y="16"/>
                      </a:lnTo>
                      <a:lnTo>
                        <a:pt x="2" y="22"/>
                      </a:lnTo>
                      <a:lnTo>
                        <a:pt x="5" y="27"/>
                      </a:lnTo>
                      <a:lnTo>
                        <a:pt x="9" y="29"/>
                      </a:lnTo>
                      <a:lnTo>
                        <a:pt x="16" y="31"/>
                      </a:lnTo>
                      <a:lnTo>
                        <a:pt x="20" y="29"/>
                      </a:lnTo>
                      <a:lnTo>
                        <a:pt x="27" y="27"/>
                      </a:lnTo>
                      <a:lnTo>
                        <a:pt x="29" y="22"/>
                      </a:lnTo>
                      <a:lnTo>
                        <a:pt x="32" y="16"/>
                      </a:lnTo>
                      <a:lnTo>
                        <a:pt x="25" y="16"/>
                      </a:lnTo>
                      <a:lnTo>
                        <a:pt x="23" y="13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7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7" y="13"/>
                      </a:lnTo>
                      <a:lnTo>
                        <a:pt x="7" y="16"/>
                      </a:lnTo>
                      <a:lnTo>
                        <a:pt x="7" y="20"/>
                      </a:lnTo>
                      <a:lnTo>
                        <a:pt x="9" y="22"/>
                      </a:lnTo>
                      <a:lnTo>
                        <a:pt x="11" y="25"/>
                      </a:lnTo>
                      <a:lnTo>
                        <a:pt x="16" y="25"/>
                      </a:lnTo>
                      <a:lnTo>
                        <a:pt x="18" y="25"/>
                      </a:lnTo>
                      <a:lnTo>
                        <a:pt x="23" y="22"/>
                      </a:lnTo>
                      <a:lnTo>
                        <a:pt x="23" y="20"/>
                      </a:lnTo>
                      <a:lnTo>
                        <a:pt x="25" y="1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ffff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168200" y="2117520"/>
                  <a:ext cx="34920" cy="3672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22" y="12"/>
                      </a:moveTo>
                      <a:lnTo>
                        <a:pt x="20" y="7"/>
                      </a:lnTo>
                      <a:lnTo>
                        <a:pt x="18" y="5"/>
                      </a:lnTo>
                      <a:lnTo>
                        <a:pt x="15" y="3"/>
                      </a:lnTo>
                      <a:lnTo>
                        <a:pt x="11" y="0"/>
                      </a:lnTo>
                      <a:lnTo>
                        <a:pt x="6" y="3"/>
                      </a:lnTo>
                      <a:lnTo>
                        <a:pt x="4" y="5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4" y="18"/>
                      </a:lnTo>
                      <a:lnTo>
                        <a:pt x="6" y="23"/>
                      </a:lnTo>
                      <a:lnTo>
                        <a:pt x="11" y="23"/>
                      </a:lnTo>
                      <a:lnTo>
                        <a:pt x="15" y="23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2" y="12"/>
                      </a:lnTo>
                      <a:lnTo>
                        <a:pt x="22" y="12"/>
                      </a:lnTo>
                      <a:close/>
                    </a:path>
                  </a:pathLst>
                </a:custGeom>
                <a:solidFill>
                  <a:srgbClr val="ffff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174680" y="2125440"/>
                  <a:ext cx="21960" cy="2052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4" y="7"/>
                      </a:moveTo>
                      <a:lnTo>
                        <a:pt x="14" y="4"/>
                      </a:lnTo>
                      <a:lnTo>
                        <a:pt x="11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1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14" y="7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541160" y="2420640"/>
                  <a:ext cx="897120" cy="897120"/>
                </a:xfrm>
                <a:custGeom>
                  <a:avLst/>
                  <a:gdLst/>
                  <a:ahLst/>
                  <a:rect l="l" t="t" r="r" b="b"/>
                  <a:pathLst>
                    <a:path w="565" h="565">
                      <a:moveTo>
                        <a:pt x="0" y="565"/>
                      </a:moveTo>
                      <a:lnTo>
                        <a:pt x="0" y="565"/>
                      </a:lnTo>
                      <a:lnTo>
                        <a:pt x="56" y="563"/>
                      </a:lnTo>
                      <a:lnTo>
                        <a:pt x="112" y="554"/>
                      </a:lnTo>
                      <a:lnTo>
                        <a:pt x="166" y="538"/>
                      </a:lnTo>
                      <a:lnTo>
                        <a:pt x="220" y="520"/>
                      </a:lnTo>
                      <a:lnTo>
                        <a:pt x="269" y="495"/>
                      </a:lnTo>
                      <a:lnTo>
                        <a:pt x="314" y="468"/>
                      </a:lnTo>
                      <a:lnTo>
                        <a:pt x="359" y="435"/>
                      </a:lnTo>
                      <a:lnTo>
                        <a:pt x="399" y="399"/>
                      </a:lnTo>
                      <a:lnTo>
                        <a:pt x="435" y="359"/>
                      </a:lnTo>
                      <a:lnTo>
                        <a:pt x="468" y="314"/>
                      </a:lnTo>
                      <a:lnTo>
                        <a:pt x="495" y="269"/>
                      </a:lnTo>
                      <a:lnTo>
                        <a:pt x="520" y="220"/>
                      </a:lnTo>
                      <a:lnTo>
                        <a:pt x="538" y="166"/>
                      </a:lnTo>
                      <a:lnTo>
                        <a:pt x="554" y="112"/>
                      </a:lnTo>
                      <a:lnTo>
                        <a:pt x="563" y="56"/>
                      </a:lnTo>
                      <a:lnTo>
                        <a:pt x="565" y="0"/>
                      </a:lnTo>
                      <a:lnTo>
                        <a:pt x="560" y="0"/>
                      </a:lnTo>
                      <a:lnTo>
                        <a:pt x="558" y="56"/>
                      </a:lnTo>
                      <a:lnTo>
                        <a:pt x="549" y="112"/>
                      </a:lnTo>
                      <a:lnTo>
                        <a:pt x="536" y="166"/>
                      </a:lnTo>
                      <a:lnTo>
                        <a:pt x="515" y="217"/>
                      </a:lnTo>
                      <a:lnTo>
                        <a:pt x="493" y="267"/>
                      </a:lnTo>
                      <a:lnTo>
                        <a:pt x="464" y="312"/>
                      </a:lnTo>
                      <a:lnTo>
                        <a:pt x="433" y="356"/>
                      </a:lnTo>
                      <a:lnTo>
                        <a:pt x="397" y="397"/>
                      </a:lnTo>
                      <a:lnTo>
                        <a:pt x="356" y="433"/>
                      </a:lnTo>
                      <a:lnTo>
                        <a:pt x="312" y="464"/>
                      </a:lnTo>
                      <a:lnTo>
                        <a:pt x="267" y="493"/>
                      </a:lnTo>
                      <a:lnTo>
                        <a:pt x="217" y="515"/>
                      </a:lnTo>
                      <a:lnTo>
                        <a:pt x="166" y="536"/>
                      </a:lnTo>
                      <a:lnTo>
                        <a:pt x="112" y="549"/>
                      </a:lnTo>
                      <a:lnTo>
                        <a:pt x="56" y="558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44400" y="2420640"/>
                  <a:ext cx="896760" cy="897120"/>
                </a:xfrm>
                <a:custGeom>
                  <a:avLst/>
                  <a:gdLst/>
                  <a:ahLst/>
                  <a:rect l="l" t="t" r="r" b="b"/>
                  <a:pathLst>
                    <a:path w="565" h="56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6"/>
                      </a:lnTo>
                      <a:lnTo>
                        <a:pt x="11" y="112"/>
                      </a:lnTo>
                      <a:lnTo>
                        <a:pt x="27" y="166"/>
                      </a:lnTo>
                      <a:lnTo>
                        <a:pt x="45" y="220"/>
                      </a:lnTo>
                      <a:lnTo>
                        <a:pt x="70" y="269"/>
                      </a:lnTo>
                      <a:lnTo>
                        <a:pt x="97" y="314"/>
                      </a:lnTo>
                      <a:lnTo>
                        <a:pt x="130" y="359"/>
                      </a:lnTo>
                      <a:lnTo>
                        <a:pt x="166" y="399"/>
                      </a:lnTo>
                      <a:lnTo>
                        <a:pt x="206" y="435"/>
                      </a:lnTo>
                      <a:lnTo>
                        <a:pt x="251" y="468"/>
                      </a:lnTo>
                      <a:lnTo>
                        <a:pt x="296" y="495"/>
                      </a:lnTo>
                      <a:lnTo>
                        <a:pt x="345" y="520"/>
                      </a:lnTo>
                      <a:lnTo>
                        <a:pt x="399" y="538"/>
                      </a:lnTo>
                      <a:lnTo>
                        <a:pt x="453" y="554"/>
                      </a:lnTo>
                      <a:lnTo>
                        <a:pt x="509" y="563"/>
                      </a:lnTo>
                      <a:lnTo>
                        <a:pt x="565" y="565"/>
                      </a:lnTo>
                      <a:lnTo>
                        <a:pt x="565" y="560"/>
                      </a:lnTo>
                      <a:lnTo>
                        <a:pt x="509" y="558"/>
                      </a:lnTo>
                      <a:lnTo>
                        <a:pt x="453" y="549"/>
                      </a:lnTo>
                      <a:lnTo>
                        <a:pt x="399" y="536"/>
                      </a:lnTo>
                      <a:lnTo>
                        <a:pt x="348" y="515"/>
                      </a:lnTo>
                      <a:lnTo>
                        <a:pt x="298" y="493"/>
                      </a:lnTo>
                      <a:lnTo>
                        <a:pt x="253" y="464"/>
                      </a:lnTo>
                      <a:lnTo>
                        <a:pt x="209" y="433"/>
                      </a:lnTo>
                      <a:lnTo>
                        <a:pt x="168" y="397"/>
                      </a:lnTo>
                      <a:lnTo>
                        <a:pt x="132" y="356"/>
                      </a:lnTo>
                      <a:lnTo>
                        <a:pt x="101" y="312"/>
                      </a:lnTo>
                      <a:lnTo>
                        <a:pt x="72" y="267"/>
                      </a:lnTo>
                      <a:lnTo>
                        <a:pt x="50" y="217"/>
                      </a:lnTo>
                      <a:lnTo>
                        <a:pt x="29" y="166"/>
                      </a:lnTo>
                      <a:lnTo>
                        <a:pt x="16" y="112"/>
                      </a:lnTo>
                      <a:lnTo>
                        <a:pt x="7" y="56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44400" y="1523880"/>
                  <a:ext cx="896760" cy="896760"/>
                </a:xfrm>
                <a:custGeom>
                  <a:avLst/>
                  <a:gdLst/>
                  <a:ahLst/>
                  <a:rect l="l" t="t" r="r" b="b"/>
                  <a:pathLst>
                    <a:path w="565" h="565">
                      <a:moveTo>
                        <a:pt x="565" y="0"/>
                      </a:moveTo>
                      <a:lnTo>
                        <a:pt x="565" y="0"/>
                      </a:lnTo>
                      <a:lnTo>
                        <a:pt x="509" y="2"/>
                      </a:lnTo>
                      <a:lnTo>
                        <a:pt x="453" y="11"/>
                      </a:lnTo>
                      <a:lnTo>
                        <a:pt x="399" y="27"/>
                      </a:lnTo>
                      <a:lnTo>
                        <a:pt x="345" y="45"/>
                      </a:lnTo>
                      <a:lnTo>
                        <a:pt x="296" y="70"/>
                      </a:lnTo>
                      <a:lnTo>
                        <a:pt x="251" y="97"/>
                      </a:lnTo>
                      <a:lnTo>
                        <a:pt x="206" y="130"/>
                      </a:lnTo>
                      <a:lnTo>
                        <a:pt x="166" y="166"/>
                      </a:lnTo>
                      <a:lnTo>
                        <a:pt x="130" y="206"/>
                      </a:lnTo>
                      <a:lnTo>
                        <a:pt x="97" y="251"/>
                      </a:lnTo>
                      <a:lnTo>
                        <a:pt x="70" y="296"/>
                      </a:lnTo>
                      <a:lnTo>
                        <a:pt x="45" y="345"/>
                      </a:lnTo>
                      <a:lnTo>
                        <a:pt x="27" y="399"/>
                      </a:lnTo>
                      <a:lnTo>
                        <a:pt x="11" y="453"/>
                      </a:lnTo>
                      <a:lnTo>
                        <a:pt x="2" y="509"/>
                      </a:lnTo>
                      <a:lnTo>
                        <a:pt x="0" y="565"/>
                      </a:lnTo>
                      <a:lnTo>
                        <a:pt x="5" y="565"/>
                      </a:lnTo>
                      <a:lnTo>
                        <a:pt x="7" y="509"/>
                      </a:lnTo>
                      <a:lnTo>
                        <a:pt x="16" y="453"/>
                      </a:lnTo>
                      <a:lnTo>
                        <a:pt x="29" y="399"/>
                      </a:lnTo>
                      <a:lnTo>
                        <a:pt x="50" y="348"/>
                      </a:lnTo>
                      <a:lnTo>
                        <a:pt x="72" y="298"/>
                      </a:lnTo>
                      <a:lnTo>
                        <a:pt x="101" y="253"/>
                      </a:lnTo>
                      <a:lnTo>
                        <a:pt x="132" y="209"/>
                      </a:lnTo>
                      <a:lnTo>
                        <a:pt x="168" y="168"/>
                      </a:lnTo>
                      <a:lnTo>
                        <a:pt x="209" y="132"/>
                      </a:lnTo>
                      <a:lnTo>
                        <a:pt x="253" y="101"/>
                      </a:lnTo>
                      <a:lnTo>
                        <a:pt x="298" y="72"/>
                      </a:lnTo>
                      <a:lnTo>
                        <a:pt x="348" y="50"/>
                      </a:lnTo>
                      <a:lnTo>
                        <a:pt x="399" y="29"/>
                      </a:lnTo>
                      <a:lnTo>
                        <a:pt x="453" y="16"/>
                      </a:lnTo>
                      <a:lnTo>
                        <a:pt x="509" y="7"/>
                      </a:lnTo>
                      <a:lnTo>
                        <a:pt x="565" y="5"/>
                      </a:lnTo>
                      <a:lnTo>
                        <a:pt x="565" y="5"/>
                      </a:lnTo>
                      <a:lnTo>
                        <a:pt x="5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541160" y="1523880"/>
                  <a:ext cx="897120" cy="896760"/>
                </a:xfrm>
                <a:custGeom>
                  <a:avLst/>
                  <a:gdLst/>
                  <a:ahLst/>
                  <a:rect l="l" t="t" r="r" b="b"/>
                  <a:pathLst>
                    <a:path w="565" h="565">
                      <a:moveTo>
                        <a:pt x="565" y="565"/>
                      </a:moveTo>
                      <a:lnTo>
                        <a:pt x="565" y="565"/>
                      </a:lnTo>
                      <a:lnTo>
                        <a:pt x="563" y="509"/>
                      </a:lnTo>
                      <a:lnTo>
                        <a:pt x="554" y="453"/>
                      </a:lnTo>
                      <a:lnTo>
                        <a:pt x="538" y="399"/>
                      </a:lnTo>
                      <a:lnTo>
                        <a:pt x="520" y="345"/>
                      </a:lnTo>
                      <a:lnTo>
                        <a:pt x="495" y="296"/>
                      </a:lnTo>
                      <a:lnTo>
                        <a:pt x="468" y="251"/>
                      </a:lnTo>
                      <a:lnTo>
                        <a:pt x="435" y="206"/>
                      </a:lnTo>
                      <a:lnTo>
                        <a:pt x="399" y="166"/>
                      </a:lnTo>
                      <a:lnTo>
                        <a:pt x="359" y="130"/>
                      </a:lnTo>
                      <a:lnTo>
                        <a:pt x="314" y="97"/>
                      </a:lnTo>
                      <a:lnTo>
                        <a:pt x="269" y="70"/>
                      </a:lnTo>
                      <a:lnTo>
                        <a:pt x="220" y="45"/>
                      </a:lnTo>
                      <a:lnTo>
                        <a:pt x="166" y="27"/>
                      </a:lnTo>
                      <a:lnTo>
                        <a:pt x="112" y="11"/>
                      </a:lnTo>
                      <a:lnTo>
                        <a:pt x="56" y="2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6" y="7"/>
                      </a:lnTo>
                      <a:lnTo>
                        <a:pt x="112" y="16"/>
                      </a:lnTo>
                      <a:lnTo>
                        <a:pt x="166" y="29"/>
                      </a:lnTo>
                      <a:lnTo>
                        <a:pt x="217" y="50"/>
                      </a:lnTo>
                      <a:lnTo>
                        <a:pt x="267" y="72"/>
                      </a:lnTo>
                      <a:lnTo>
                        <a:pt x="312" y="101"/>
                      </a:lnTo>
                      <a:lnTo>
                        <a:pt x="356" y="132"/>
                      </a:lnTo>
                      <a:lnTo>
                        <a:pt x="397" y="168"/>
                      </a:lnTo>
                      <a:lnTo>
                        <a:pt x="433" y="209"/>
                      </a:lnTo>
                      <a:lnTo>
                        <a:pt x="464" y="253"/>
                      </a:lnTo>
                      <a:lnTo>
                        <a:pt x="493" y="298"/>
                      </a:lnTo>
                      <a:lnTo>
                        <a:pt x="515" y="348"/>
                      </a:lnTo>
                      <a:lnTo>
                        <a:pt x="536" y="399"/>
                      </a:lnTo>
                      <a:lnTo>
                        <a:pt x="549" y="453"/>
                      </a:lnTo>
                      <a:lnTo>
                        <a:pt x="558" y="509"/>
                      </a:lnTo>
                      <a:lnTo>
                        <a:pt x="560" y="565"/>
                      </a:lnTo>
                      <a:lnTo>
                        <a:pt x="560" y="565"/>
                      </a:lnTo>
                      <a:lnTo>
                        <a:pt x="565" y="5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1160280" y="1663560"/>
                <a:ext cx="885960" cy="880920"/>
                <a:chOff x="1160280" y="1663560"/>
                <a:chExt cx="885960" cy="88092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1160280" y="1850760"/>
                  <a:ext cx="885960" cy="693720"/>
                  <a:chOff x="1160280" y="1850760"/>
                  <a:chExt cx="885960" cy="6937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1541160" y="2541240"/>
                    <a:ext cx="120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2">
                        <a:moveTo>
                          <a:pt x="76" y="0"/>
                        </a:moveTo>
                        <a:lnTo>
                          <a:pt x="67" y="0"/>
                        </a:lnTo>
                        <a:lnTo>
                          <a:pt x="58" y="2"/>
                        </a:lnTo>
                        <a:lnTo>
                          <a:pt x="47" y="2"/>
                        </a:lnTo>
                        <a:lnTo>
                          <a:pt x="38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523880" y="2538360"/>
                    <a:ext cx="160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4">
                        <a:moveTo>
                          <a:pt x="65" y="4"/>
                        </a:moveTo>
                        <a:lnTo>
                          <a:pt x="74" y="4"/>
                        </a:lnTo>
                        <a:lnTo>
                          <a:pt x="83" y="2"/>
                        </a:lnTo>
                        <a:lnTo>
                          <a:pt x="92" y="2"/>
                        </a:lnTo>
                        <a:lnTo>
                          <a:pt x="101" y="0"/>
                        </a:lnTo>
                        <a:lnTo>
                          <a:pt x="0" y="0"/>
                        </a:lnTo>
                        <a:lnTo>
                          <a:pt x="9" y="2"/>
                        </a:lnTo>
                        <a:lnTo>
                          <a:pt x="15" y="2"/>
                        </a:lnTo>
                        <a:lnTo>
                          <a:pt x="24" y="4"/>
                        </a:lnTo>
                        <a:lnTo>
                          <a:pt x="33" y="4"/>
                        </a:lnTo>
                        <a:lnTo>
                          <a:pt x="65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1506240" y="2535120"/>
                    <a:ext cx="195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4">
                        <a:moveTo>
                          <a:pt x="98" y="4"/>
                        </a:moveTo>
                        <a:lnTo>
                          <a:pt x="105" y="2"/>
                        </a:lnTo>
                        <a:lnTo>
                          <a:pt x="109" y="2"/>
                        </a:lnTo>
                        <a:lnTo>
                          <a:pt x="116" y="0"/>
                        </a:lnTo>
                        <a:lnTo>
                          <a:pt x="123" y="0"/>
                        </a:ln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18" y="2"/>
                        </a:lnTo>
                        <a:lnTo>
                          <a:pt x="22" y="4"/>
                        </a:lnTo>
                        <a:lnTo>
                          <a:pt x="9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1492200" y="2530440"/>
                    <a:ext cx="223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">
                        <a:moveTo>
                          <a:pt x="121" y="5"/>
                        </a:moveTo>
                        <a:lnTo>
                          <a:pt x="125" y="3"/>
                        </a:lnTo>
                        <a:lnTo>
                          <a:pt x="130" y="3"/>
                        </a:lnTo>
                        <a:lnTo>
                          <a:pt x="136" y="0"/>
                        </a:lnTo>
                        <a:lnTo>
                          <a:pt x="141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9" y="3"/>
                        </a:lnTo>
                        <a:lnTo>
                          <a:pt x="15" y="3"/>
                        </a:lnTo>
                        <a:lnTo>
                          <a:pt x="20" y="5"/>
                        </a:lnTo>
                        <a:lnTo>
                          <a:pt x="121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1481040" y="2527200"/>
                    <a:ext cx="245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5">
                        <a:moveTo>
                          <a:pt x="139" y="5"/>
                        </a:moveTo>
                        <a:lnTo>
                          <a:pt x="143" y="2"/>
                        </a:lnTo>
                        <a:lnTo>
                          <a:pt x="146" y="2"/>
                        </a:lnTo>
                        <a:lnTo>
                          <a:pt x="150" y="0"/>
                        </a:lnTo>
                        <a:lnTo>
                          <a:pt x="155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7" y="2"/>
                        </a:lnTo>
                        <a:lnTo>
                          <a:pt x="11" y="2"/>
                        </a:lnTo>
                        <a:lnTo>
                          <a:pt x="16" y="5"/>
                        </a:lnTo>
                        <a:lnTo>
                          <a:pt x="139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1466640" y="2523960"/>
                    <a:ext cx="270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4">
                        <a:moveTo>
                          <a:pt x="157" y="4"/>
                        </a:moveTo>
                        <a:lnTo>
                          <a:pt x="159" y="2"/>
                        </a:lnTo>
                        <a:lnTo>
                          <a:pt x="164" y="2"/>
                        </a:lnTo>
                        <a:lnTo>
                          <a:pt x="168" y="0"/>
                        </a:lnTo>
                        <a:lnTo>
                          <a:pt x="170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9" y="2"/>
                        </a:lnTo>
                        <a:lnTo>
                          <a:pt x="11" y="2"/>
                        </a:lnTo>
                        <a:lnTo>
                          <a:pt x="16" y="4"/>
                        </a:lnTo>
                        <a:lnTo>
                          <a:pt x="157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1458720" y="2520720"/>
                    <a:ext cx="289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">
                        <a:moveTo>
                          <a:pt x="169" y="4"/>
                        </a:moveTo>
                        <a:lnTo>
                          <a:pt x="173" y="2"/>
                        </a:lnTo>
                        <a:lnTo>
                          <a:pt x="175" y="2"/>
                        </a:lnTo>
                        <a:lnTo>
                          <a:pt x="180" y="0"/>
                        </a:lnTo>
                        <a:lnTo>
                          <a:pt x="182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14" y="4"/>
                        </a:lnTo>
                        <a:lnTo>
                          <a:pt x="169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1449360" y="2517480"/>
                    <a:ext cx="309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">
                        <a:moveTo>
                          <a:pt x="181" y="4"/>
                        </a:moveTo>
                        <a:lnTo>
                          <a:pt x="186" y="2"/>
                        </a:lnTo>
                        <a:lnTo>
                          <a:pt x="188" y="2"/>
                        </a:lnTo>
                        <a:lnTo>
                          <a:pt x="190" y="0"/>
                        </a:lnTo>
                        <a:lnTo>
                          <a:pt x="195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6" y="2"/>
                        </a:lnTo>
                        <a:lnTo>
                          <a:pt x="9" y="2"/>
                        </a:lnTo>
                        <a:lnTo>
                          <a:pt x="11" y="4"/>
                        </a:lnTo>
                        <a:lnTo>
                          <a:pt x="181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1438200" y="2512800"/>
                    <a:ext cx="326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5">
                        <a:moveTo>
                          <a:pt x="195" y="5"/>
                        </a:moveTo>
                        <a:lnTo>
                          <a:pt x="197" y="5"/>
                        </a:lnTo>
                        <a:lnTo>
                          <a:pt x="202" y="3"/>
                        </a:lnTo>
                        <a:lnTo>
                          <a:pt x="204" y="0"/>
                        </a:lnTo>
                        <a:lnTo>
                          <a:pt x="206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9" y="5"/>
                        </a:lnTo>
                        <a:lnTo>
                          <a:pt x="13" y="5"/>
                        </a:lnTo>
                        <a:lnTo>
                          <a:pt x="195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1431720" y="2509560"/>
                    <a:ext cx="344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5">
                        <a:moveTo>
                          <a:pt x="206" y="5"/>
                        </a:moveTo>
                        <a:lnTo>
                          <a:pt x="208" y="5"/>
                        </a:lnTo>
                        <a:lnTo>
                          <a:pt x="210" y="2"/>
                        </a:lnTo>
                        <a:lnTo>
                          <a:pt x="212" y="2"/>
                        </a:lnTo>
                        <a:lnTo>
                          <a:pt x="217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6" y="2"/>
                        </a:lnTo>
                        <a:lnTo>
                          <a:pt x="8" y="5"/>
                        </a:lnTo>
                        <a:lnTo>
                          <a:pt x="11" y="5"/>
                        </a:lnTo>
                        <a:lnTo>
                          <a:pt x="20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1423800" y="2506320"/>
                    <a:ext cx="358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4">
                        <a:moveTo>
                          <a:pt x="215" y="4"/>
                        </a:moveTo>
                        <a:lnTo>
                          <a:pt x="217" y="4"/>
                        </a:lnTo>
                        <a:lnTo>
                          <a:pt x="222" y="2"/>
                        </a:lnTo>
                        <a:lnTo>
                          <a:pt x="224" y="2"/>
                        </a:lnTo>
                        <a:lnTo>
                          <a:pt x="226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5" y="2"/>
                        </a:lnTo>
                        <a:lnTo>
                          <a:pt x="7" y="4"/>
                        </a:lnTo>
                        <a:lnTo>
                          <a:pt x="9" y="4"/>
                        </a:lnTo>
                        <a:lnTo>
                          <a:pt x="215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1417320" y="2503440"/>
                    <a:ext cx="3733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">
                        <a:moveTo>
                          <a:pt x="226" y="4"/>
                        </a:moveTo>
                        <a:lnTo>
                          <a:pt x="228" y="4"/>
                        </a:lnTo>
                        <a:lnTo>
                          <a:pt x="230" y="2"/>
                        </a:lnTo>
                        <a:lnTo>
                          <a:pt x="233" y="2"/>
                        </a:lnTo>
                        <a:lnTo>
                          <a:pt x="235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9" y="4"/>
                        </a:lnTo>
                        <a:lnTo>
                          <a:pt x="22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1409400" y="2498400"/>
                    <a:ext cx="387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5">
                        <a:moveTo>
                          <a:pt x="235" y="5"/>
                        </a:moveTo>
                        <a:lnTo>
                          <a:pt x="238" y="5"/>
                        </a:lnTo>
                        <a:lnTo>
                          <a:pt x="240" y="3"/>
                        </a:lnTo>
                        <a:lnTo>
                          <a:pt x="242" y="3"/>
                        </a:lnTo>
                        <a:lnTo>
                          <a:pt x="244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5" y="3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  <a:lnTo>
                          <a:pt x="235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1403280" y="2495520"/>
                    <a:ext cx="401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5">
                        <a:moveTo>
                          <a:pt x="244" y="5"/>
                        </a:moveTo>
                        <a:lnTo>
                          <a:pt x="246" y="5"/>
                        </a:lnTo>
                        <a:lnTo>
                          <a:pt x="248" y="2"/>
                        </a:lnTo>
                        <a:lnTo>
                          <a:pt x="251" y="2"/>
                        </a:lnTo>
                        <a:lnTo>
                          <a:pt x="253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6" y="5"/>
                        </a:lnTo>
                        <a:lnTo>
                          <a:pt x="9" y="5"/>
                        </a:lnTo>
                        <a:lnTo>
                          <a:pt x="24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395360" y="2492280"/>
                    <a:ext cx="4158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4">
                        <a:moveTo>
                          <a:pt x="253" y="4"/>
                        </a:moveTo>
                        <a:lnTo>
                          <a:pt x="256" y="4"/>
                        </a:lnTo>
                        <a:lnTo>
                          <a:pt x="258" y="2"/>
                        </a:lnTo>
                        <a:lnTo>
                          <a:pt x="260" y="2"/>
                        </a:lnTo>
                        <a:lnTo>
                          <a:pt x="262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5" y="2"/>
                        </a:lnTo>
                        <a:lnTo>
                          <a:pt x="7" y="4"/>
                        </a:lnTo>
                        <a:lnTo>
                          <a:pt x="9" y="4"/>
                        </a:lnTo>
                        <a:lnTo>
                          <a:pt x="253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388880" y="2489040"/>
                    <a:ext cx="430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4">
                        <a:moveTo>
                          <a:pt x="262" y="4"/>
                        </a:moveTo>
                        <a:lnTo>
                          <a:pt x="264" y="4"/>
                        </a:lnTo>
                        <a:lnTo>
                          <a:pt x="266" y="2"/>
                        </a:lnTo>
                        <a:lnTo>
                          <a:pt x="269" y="2"/>
                        </a:lnTo>
                        <a:lnTo>
                          <a:pt x="271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9" y="4"/>
                        </a:lnTo>
                        <a:lnTo>
                          <a:pt x="262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1384200" y="2484360"/>
                    <a:ext cx="4381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5">
                        <a:moveTo>
                          <a:pt x="269" y="5"/>
                        </a:moveTo>
                        <a:lnTo>
                          <a:pt x="272" y="5"/>
                        </a:lnTo>
                        <a:lnTo>
                          <a:pt x="272" y="3"/>
                        </a:lnTo>
                        <a:lnTo>
                          <a:pt x="274" y="3"/>
                        </a:lnTo>
                        <a:lnTo>
                          <a:pt x="27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3" y="3"/>
                        </a:lnTo>
                        <a:lnTo>
                          <a:pt x="5" y="5"/>
                        </a:lnTo>
                        <a:lnTo>
                          <a:pt x="7" y="5"/>
                        </a:lnTo>
                        <a:lnTo>
                          <a:pt x="269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1377720" y="2481120"/>
                    <a:ext cx="452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5">
                        <a:moveTo>
                          <a:pt x="278" y="5"/>
                        </a:moveTo>
                        <a:lnTo>
                          <a:pt x="278" y="5"/>
                        </a:lnTo>
                        <a:lnTo>
                          <a:pt x="280" y="2"/>
                        </a:lnTo>
                        <a:lnTo>
                          <a:pt x="282" y="2"/>
                        </a:lnTo>
                        <a:lnTo>
                          <a:pt x="285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5"/>
                        </a:lnTo>
                        <a:lnTo>
                          <a:pt x="7" y="5"/>
                        </a:lnTo>
                        <a:lnTo>
                          <a:pt x="27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369800" y="2477880"/>
                    <a:ext cx="466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4">
                        <a:moveTo>
                          <a:pt x="285" y="4"/>
                        </a:moveTo>
                        <a:lnTo>
                          <a:pt x="287" y="4"/>
                        </a:lnTo>
                        <a:lnTo>
                          <a:pt x="290" y="2"/>
                        </a:lnTo>
                        <a:lnTo>
                          <a:pt x="292" y="2"/>
                        </a:lnTo>
                        <a:lnTo>
                          <a:pt x="294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7" y="4"/>
                        </a:lnTo>
                        <a:lnTo>
                          <a:pt x="9" y="4"/>
                        </a:lnTo>
                        <a:lnTo>
                          <a:pt x="285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366560" y="2474640"/>
                    <a:ext cx="473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">
                        <a:moveTo>
                          <a:pt x="292" y="4"/>
                        </a:moveTo>
                        <a:lnTo>
                          <a:pt x="294" y="4"/>
                        </a:lnTo>
                        <a:lnTo>
                          <a:pt x="294" y="2"/>
                        </a:lnTo>
                        <a:lnTo>
                          <a:pt x="296" y="2"/>
                        </a:lnTo>
                        <a:lnTo>
                          <a:pt x="298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292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1360440" y="2469960"/>
                    <a:ext cx="487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5">
                        <a:moveTo>
                          <a:pt x="300" y="5"/>
                        </a:moveTo>
                        <a:lnTo>
                          <a:pt x="300" y="5"/>
                        </a:lnTo>
                        <a:lnTo>
                          <a:pt x="302" y="3"/>
                        </a:lnTo>
                        <a:lnTo>
                          <a:pt x="305" y="3"/>
                        </a:lnTo>
                        <a:lnTo>
                          <a:pt x="307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30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1355400" y="2466720"/>
                    <a:ext cx="495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5">
                        <a:moveTo>
                          <a:pt x="305" y="5"/>
                        </a:moveTo>
                        <a:lnTo>
                          <a:pt x="308" y="5"/>
                        </a:lnTo>
                        <a:lnTo>
                          <a:pt x="310" y="2"/>
                        </a:lnTo>
                        <a:lnTo>
                          <a:pt x="310" y="2"/>
                        </a:lnTo>
                        <a:lnTo>
                          <a:pt x="312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5" y="5"/>
                        </a:lnTo>
                        <a:lnTo>
                          <a:pt x="7" y="5"/>
                        </a:lnTo>
                        <a:lnTo>
                          <a:pt x="305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1349280" y="2463480"/>
                    <a:ext cx="504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4">
                        <a:moveTo>
                          <a:pt x="314" y="4"/>
                        </a:moveTo>
                        <a:lnTo>
                          <a:pt x="314" y="4"/>
                        </a:lnTo>
                        <a:lnTo>
                          <a:pt x="316" y="2"/>
                        </a:lnTo>
                        <a:lnTo>
                          <a:pt x="318" y="2"/>
                        </a:lnTo>
                        <a:lnTo>
                          <a:pt x="318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7" y="4"/>
                        </a:lnTo>
                        <a:lnTo>
                          <a:pt x="31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346040" y="2460600"/>
                    <a:ext cx="51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4">
                        <a:moveTo>
                          <a:pt x="318" y="4"/>
                        </a:moveTo>
                        <a:lnTo>
                          <a:pt x="320" y="4"/>
                        </a:lnTo>
                        <a:lnTo>
                          <a:pt x="320" y="2"/>
                        </a:lnTo>
                        <a:lnTo>
                          <a:pt x="322" y="2"/>
                        </a:lnTo>
                        <a:lnTo>
                          <a:pt x="325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31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341360" y="2455560"/>
                    <a:ext cx="52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5">
                        <a:moveTo>
                          <a:pt x="323" y="5"/>
                        </a:moveTo>
                        <a:lnTo>
                          <a:pt x="325" y="5"/>
                        </a:lnTo>
                        <a:lnTo>
                          <a:pt x="328" y="3"/>
                        </a:lnTo>
                        <a:lnTo>
                          <a:pt x="328" y="3"/>
                        </a:lnTo>
                        <a:lnTo>
                          <a:pt x="33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3" y="3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32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1334880" y="2452680"/>
                    <a:ext cx="533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5">
                        <a:moveTo>
                          <a:pt x="332" y="5"/>
                        </a:moveTo>
                        <a:lnTo>
                          <a:pt x="332" y="5"/>
                        </a:lnTo>
                        <a:lnTo>
                          <a:pt x="334" y="2"/>
                        </a:lnTo>
                        <a:lnTo>
                          <a:pt x="336" y="2"/>
                        </a:lnTo>
                        <a:lnTo>
                          <a:pt x="336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5"/>
                        </a:lnTo>
                        <a:lnTo>
                          <a:pt x="7" y="5"/>
                        </a:lnTo>
                        <a:lnTo>
                          <a:pt x="33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1331640" y="2449440"/>
                    <a:ext cx="54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4">
                        <a:moveTo>
                          <a:pt x="336" y="4"/>
                        </a:moveTo>
                        <a:lnTo>
                          <a:pt x="338" y="4"/>
                        </a:lnTo>
                        <a:lnTo>
                          <a:pt x="338" y="2"/>
                        </a:lnTo>
                        <a:lnTo>
                          <a:pt x="340" y="2"/>
                        </a:lnTo>
                        <a:lnTo>
                          <a:pt x="343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33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1328400" y="2446200"/>
                    <a:ext cx="551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4">
                        <a:moveTo>
                          <a:pt x="340" y="4"/>
                        </a:moveTo>
                        <a:lnTo>
                          <a:pt x="342" y="4"/>
                        </a:lnTo>
                        <a:lnTo>
                          <a:pt x="345" y="2"/>
                        </a:lnTo>
                        <a:lnTo>
                          <a:pt x="345" y="2"/>
                        </a:lnTo>
                        <a:lnTo>
                          <a:pt x="34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34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1323720" y="2441520"/>
                    <a:ext cx="558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5">
                        <a:moveTo>
                          <a:pt x="348" y="5"/>
                        </a:moveTo>
                        <a:lnTo>
                          <a:pt x="348" y="5"/>
                        </a:lnTo>
                        <a:lnTo>
                          <a:pt x="350" y="3"/>
                        </a:lnTo>
                        <a:lnTo>
                          <a:pt x="352" y="3"/>
                        </a:lnTo>
                        <a:lnTo>
                          <a:pt x="35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34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1320480" y="2438280"/>
                    <a:ext cx="5652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5">
                        <a:moveTo>
                          <a:pt x="352" y="5"/>
                        </a:moveTo>
                        <a:lnTo>
                          <a:pt x="352" y="5"/>
                        </a:lnTo>
                        <a:lnTo>
                          <a:pt x="354" y="2"/>
                        </a:lnTo>
                        <a:lnTo>
                          <a:pt x="356" y="2"/>
                        </a:lnTo>
                        <a:lnTo>
                          <a:pt x="3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5" y="5"/>
                        </a:lnTo>
                        <a:lnTo>
                          <a:pt x="35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314360" y="2435040"/>
                    <a:ext cx="576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4">
                        <a:moveTo>
                          <a:pt x="358" y="4"/>
                        </a:moveTo>
                        <a:lnTo>
                          <a:pt x="360" y="4"/>
                        </a:lnTo>
                        <a:lnTo>
                          <a:pt x="360" y="2"/>
                        </a:lnTo>
                        <a:lnTo>
                          <a:pt x="363" y="2"/>
                        </a:lnTo>
                        <a:lnTo>
                          <a:pt x="363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35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1309680" y="2431800"/>
                    <a:ext cx="583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">
                        <a:moveTo>
                          <a:pt x="363" y="4"/>
                        </a:moveTo>
                        <a:lnTo>
                          <a:pt x="366" y="4"/>
                        </a:lnTo>
                        <a:lnTo>
                          <a:pt x="366" y="4"/>
                        </a:lnTo>
                        <a:lnTo>
                          <a:pt x="368" y="2"/>
                        </a:lnTo>
                        <a:lnTo>
                          <a:pt x="368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5" y="4"/>
                        </a:lnTo>
                        <a:lnTo>
                          <a:pt x="7" y="4"/>
                        </a:lnTo>
                        <a:lnTo>
                          <a:pt x="363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1306440" y="2427120"/>
                    <a:ext cx="593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5">
                        <a:moveTo>
                          <a:pt x="368" y="5"/>
                        </a:moveTo>
                        <a:lnTo>
                          <a:pt x="370" y="5"/>
                        </a:lnTo>
                        <a:lnTo>
                          <a:pt x="370" y="3"/>
                        </a:lnTo>
                        <a:lnTo>
                          <a:pt x="372" y="3"/>
                        </a:lnTo>
                        <a:lnTo>
                          <a:pt x="374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36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1303200" y="2423880"/>
                    <a:ext cx="601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5">
                        <a:moveTo>
                          <a:pt x="372" y="5"/>
                        </a:moveTo>
                        <a:lnTo>
                          <a:pt x="374" y="5"/>
                        </a:lnTo>
                        <a:lnTo>
                          <a:pt x="376" y="2"/>
                        </a:lnTo>
                        <a:lnTo>
                          <a:pt x="376" y="2"/>
                        </a:lnTo>
                        <a:lnTo>
                          <a:pt x="379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37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1299960" y="2423880"/>
                    <a:ext cx="6080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2">
                        <a:moveTo>
                          <a:pt x="378" y="2"/>
                        </a:moveTo>
                        <a:lnTo>
                          <a:pt x="378" y="2"/>
                        </a:lnTo>
                        <a:lnTo>
                          <a:pt x="381" y="2"/>
                        </a:lnTo>
                        <a:lnTo>
                          <a:pt x="381" y="0"/>
                        </a:lnTo>
                        <a:lnTo>
                          <a:pt x="383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78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295280" y="2420640"/>
                    <a:ext cx="615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8" h="2">
                        <a:moveTo>
                          <a:pt x="384" y="2"/>
                        </a:moveTo>
                        <a:lnTo>
                          <a:pt x="384" y="2"/>
                        </a:lnTo>
                        <a:lnTo>
                          <a:pt x="386" y="2"/>
                        </a:lnTo>
                        <a:lnTo>
                          <a:pt x="386" y="0"/>
                        </a:lnTo>
                        <a:lnTo>
                          <a:pt x="388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384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292040" y="2420640"/>
                    <a:ext cx="622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">
                        <a:moveTo>
                          <a:pt x="388" y="2"/>
                        </a:moveTo>
                        <a:lnTo>
                          <a:pt x="388" y="0"/>
                        </a:lnTo>
                        <a:lnTo>
                          <a:pt x="390" y="0"/>
                        </a:lnTo>
                        <a:lnTo>
                          <a:pt x="390" y="0"/>
                        </a:lnTo>
                        <a:lnTo>
                          <a:pt x="39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88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1288800" y="2417760"/>
                    <a:ext cx="63036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7" h="2">
                        <a:moveTo>
                          <a:pt x="392" y="2"/>
                        </a:moveTo>
                        <a:lnTo>
                          <a:pt x="392" y="2"/>
                        </a:lnTo>
                        <a:lnTo>
                          <a:pt x="394" y="2"/>
                        </a:lnTo>
                        <a:lnTo>
                          <a:pt x="394" y="0"/>
                        </a:lnTo>
                        <a:lnTo>
                          <a:pt x="397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92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285560" y="2414520"/>
                    <a:ext cx="6368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4">
                        <a:moveTo>
                          <a:pt x="396" y="4"/>
                        </a:moveTo>
                        <a:lnTo>
                          <a:pt x="396" y="2"/>
                        </a:lnTo>
                        <a:lnTo>
                          <a:pt x="399" y="2"/>
                        </a:lnTo>
                        <a:lnTo>
                          <a:pt x="399" y="0"/>
                        </a:lnTo>
                        <a:lnTo>
                          <a:pt x="40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39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280880" y="2409480"/>
                    <a:ext cx="6444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5">
                        <a:moveTo>
                          <a:pt x="402" y="5"/>
                        </a:moveTo>
                        <a:lnTo>
                          <a:pt x="402" y="3"/>
                        </a:lnTo>
                        <a:lnTo>
                          <a:pt x="404" y="3"/>
                        </a:lnTo>
                        <a:lnTo>
                          <a:pt x="404" y="0"/>
                        </a:lnTo>
                        <a:lnTo>
                          <a:pt x="406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40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1277640" y="2406600"/>
                    <a:ext cx="647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5">
                        <a:moveTo>
                          <a:pt x="406" y="5"/>
                        </a:moveTo>
                        <a:lnTo>
                          <a:pt x="406" y="2"/>
                        </a:lnTo>
                        <a:lnTo>
                          <a:pt x="408" y="2"/>
                        </a:lnTo>
                        <a:lnTo>
                          <a:pt x="408" y="0"/>
                        </a:lnTo>
                        <a:lnTo>
                          <a:pt x="408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5" y="2"/>
                        </a:lnTo>
                        <a:lnTo>
                          <a:pt x="5" y="5"/>
                        </a:lnTo>
                        <a:lnTo>
                          <a:pt x="40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1274760" y="2403360"/>
                    <a:ext cx="653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4">
                        <a:moveTo>
                          <a:pt x="410" y="4"/>
                        </a:moveTo>
                        <a:lnTo>
                          <a:pt x="410" y="2"/>
                        </a:lnTo>
                        <a:lnTo>
                          <a:pt x="410" y="2"/>
                        </a:lnTo>
                        <a:lnTo>
                          <a:pt x="412" y="0"/>
                        </a:lnTo>
                        <a:lnTo>
                          <a:pt x="41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41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1274760" y="2400120"/>
                    <a:ext cx="658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4">
                        <a:moveTo>
                          <a:pt x="410" y="4"/>
                        </a:moveTo>
                        <a:lnTo>
                          <a:pt x="412" y="2"/>
                        </a:lnTo>
                        <a:lnTo>
                          <a:pt x="412" y="2"/>
                        </a:lnTo>
                        <a:lnTo>
                          <a:pt x="415" y="0"/>
                        </a:lnTo>
                        <a:lnTo>
                          <a:pt x="41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41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1271520" y="2395440"/>
                    <a:ext cx="664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9" h="5">
                        <a:moveTo>
                          <a:pt x="414" y="5"/>
                        </a:moveTo>
                        <a:lnTo>
                          <a:pt x="417" y="3"/>
                        </a:lnTo>
                        <a:lnTo>
                          <a:pt x="417" y="3"/>
                        </a:lnTo>
                        <a:lnTo>
                          <a:pt x="419" y="0"/>
                        </a:lnTo>
                        <a:lnTo>
                          <a:pt x="4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41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1266480" y="2392200"/>
                    <a:ext cx="6732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5">
                        <a:moveTo>
                          <a:pt x="420" y="5"/>
                        </a:moveTo>
                        <a:lnTo>
                          <a:pt x="422" y="2"/>
                        </a:lnTo>
                        <a:lnTo>
                          <a:pt x="422" y="2"/>
                        </a:lnTo>
                        <a:lnTo>
                          <a:pt x="422" y="0"/>
                        </a:lnTo>
                        <a:lnTo>
                          <a:pt x="424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5" y="5"/>
                        </a:lnTo>
                        <a:lnTo>
                          <a:pt x="42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1263600" y="2388960"/>
                    <a:ext cx="6793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4">
                        <a:moveTo>
                          <a:pt x="424" y="4"/>
                        </a:moveTo>
                        <a:lnTo>
                          <a:pt x="424" y="2"/>
                        </a:lnTo>
                        <a:lnTo>
                          <a:pt x="426" y="2"/>
                        </a:lnTo>
                        <a:lnTo>
                          <a:pt x="426" y="0"/>
                        </a:lnTo>
                        <a:lnTo>
                          <a:pt x="42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5" y="4"/>
                        </a:lnTo>
                        <a:lnTo>
                          <a:pt x="42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1260360" y="2385720"/>
                    <a:ext cx="687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">
                        <a:moveTo>
                          <a:pt x="428" y="4"/>
                        </a:moveTo>
                        <a:lnTo>
                          <a:pt x="428" y="2"/>
                        </a:lnTo>
                        <a:lnTo>
                          <a:pt x="430" y="2"/>
                        </a:lnTo>
                        <a:lnTo>
                          <a:pt x="430" y="0"/>
                        </a:lnTo>
                        <a:lnTo>
                          <a:pt x="433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4"/>
                        </a:lnTo>
                        <a:lnTo>
                          <a:pt x="42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1257120" y="2381040"/>
                    <a:ext cx="690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5">
                        <a:moveTo>
                          <a:pt x="432" y="5"/>
                        </a:moveTo>
                        <a:lnTo>
                          <a:pt x="432" y="3"/>
                        </a:lnTo>
                        <a:lnTo>
                          <a:pt x="435" y="3"/>
                        </a:lnTo>
                        <a:lnTo>
                          <a:pt x="435" y="0"/>
                        </a:lnTo>
                        <a:lnTo>
                          <a:pt x="435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5"/>
                        </a:lnTo>
                        <a:lnTo>
                          <a:pt x="43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1257120" y="2377800"/>
                    <a:ext cx="693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5">
                        <a:moveTo>
                          <a:pt x="435" y="5"/>
                        </a:moveTo>
                        <a:lnTo>
                          <a:pt x="435" y="2"/>
                        </a:lnTo>
                        <a:lnTo>
                          <a:pt x="435" y="2"/>
                        </a:lnTo>
                        <a:lnTo>
                          <a:pt x="437" y="0"/>
                        </a:lnTo>
                        <a:lnTo>
                          <a:pt x="43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435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252440" y="2374560"/>
                    <a:ext cx="7016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2" h="4">
                        <a:moveTo>
                          <a:pt x="438" y="4"/>
                        </a:moveTo>
                        <a:lnTo>
                          <a:pt x="440" y="2"/>
                        </a:lnTo>
                        <a:lnTo>
                          <a:pt x="440" y="2"/>
                        </a:lnTo>
                        <a:lnTo>
                          <a:pt x="440" y="0"/>
                        </a:lnTo>
                        <a:lnTo>
                          <a:pt x="44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43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1249200" y="2371680"/>
                    <a:ext cx="708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4">
                        <a:moveTo>
                          <a:pt x="442" y="4"/>
                        </a:moveTo>
                        <a:lnTo>
                          <a:pt x="442" y="2"/>
                        </a:lnTo>
                        <a:lnTo>
                          <a:pt x="444" y="2"/>
                        </a:lnTo>
                        <a:lnTo>
                          <a:pt x="444" y="0"/>
                        </a:lnTo>
                        <a:lnTo>
                          <a:pt x="44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5" y="4"/>
                        </a:lnTo>
                        <a:lnTo>
                          <a:pt x="442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1245960" y="2366640"/>
                    <a:ext cx="711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48" h="5">
                        <a:moveTo>
                          <a:pt x="446" y="5"/>
                        </a:moveTo>
                        <a:lnTo>
                          <a:pt x="446" y="3"/>
                        </a:lnTo>
                        <a:lnTo>
                          <a:pt x="448" y="3"/>
                        </a:lnTo>
                        <a:lnTo>
                          <a:pt x="448" y="0"/>
                        </a:lnTo>
                        <a:lnTo>
                          <a:pt x="448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5"/>
                        </a:lnTo>
                        <a:lnTo>
                          <a:pt x="44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245960" y="2363760"/>
                    <a:ext cx="714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0" h="5">
                        <a:moveTo>
                          <a:pt x="448" y="5"/>
                        </a:moveTo>
                        <a:lnTo>
                          <a:pt x="448" y="2"/>
                        </a:lnTo>
                        <a:lnTo>
                          <a:pt x="448" y="2"/>
                        </a:lnTo>
                        <a:lnTo>
                          <a:pt x="450" y="0"/>
                        </a:lnTo>
                        <a:lnTo>
                          <a:pt x="45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44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1242720" y="2360520"/>
                    <a:ext cx="722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4">
                        <a:moveTo>
                          <a:pt x="450" y="4"/>
                        </a:moveTo>
                        <a:lnTo>
                          <a:pt x="452" y="2"/>
                        </a:lnTo>
                        <a:lnTo>
                          <a:pt x="452" y="2"/>
                        </a:lnTo>
                        <a:lnTo>
                          <a:pt x="452" y="0"/>
                        </a:lnTo>
                        <a:lnTo>
                          <a:pt x="45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45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238040" y="2357280"/>
                    <a:ext cx="72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">
                        <a:moveTo>
                          <a:pt x="455" y="4"/>
                        </a:moveTo>
                        <a:lnTo>
                          <a:pt x="455" y="2"/>
                        </a:lnTo>
                        <a:lnTo>
                          <a:pt x="458" y="2"/>
                        </a:lnTo>
                        <a:lnTo>
                          <a:pt x="458" y="0"/>
                        </a:lnTo>
                        <a:lnTo>
                          <a:pt x="458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5" y="4"/>
                        </a:lnTo>
                        <a:lnTo>
                          <a:pt x="455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238040" y="2352600"/>
                    <a:ext cx="73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5">
                        <a:moveTo>
                          <a:pt x="458" y="5"/>
                        </a:moveTo>
                        <a:lnTo>
                          <a:pt x="458" y="3"/>
                        </a:lnTo>
                        <a:lnTo>
                          <a:pt x="458" y="3"/>
                        </a:lnTo>
                        <a:lnTo>
                          <a:pt x="460" y="0"/>
                        </a:lnTo>
                        <a:lnTo>
                          <a:pt x="46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45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1234800" y="2349360"/>
                    <a:ext cx="736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5">
                        <a:moveTo>
                          <a:pt x="460" y="5"/>
                        </a:moveTo>
                        <a:lnTo>
                          <a:pt x="462" y="5"/>
                        </a:lnTo>
                        <a:lnTo>
                          <a:pt x="462" y="2"/>
                        </a:lnTo>
                        <a:lnTo>
                          <a:pt x="462" y="2"/>
                        </a:lnTo>
                        <a:lnTo>
                          <a:pt x="46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46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1231560" y="2346120"/>
                    <a:ext cx="739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4">
                        <a:moveTo>
                          <a:pt x="464" y="4"/>
                        </a:moveTo>
                        <a:lnTo>
                          <a:pt x="464" y="4"/>
                        </a:lnTo>
                        <a:lnTo>
                          <a:pt x="466" y="2"/>
                        </a:lnTo>
                        <a:lnTo>
                          <a:pt x="466" y="2"/>
                        </a:lnTo>
                        <a:lnTo>
                          <a:pt x="466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6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1231560" y="2342880"/>
                    <a:ext cx="743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4">
                        <a:moveTo>
                          <a:pt x="466" y="4"/>
                        </a:moveTo>
                        <a:lnTo>
                          <a:pt x="466" y="4"/>
                        </a:lnTo>
                        <a:lnTo>
                          <a:pt x="466" y="2"/>
                        </a:lnTo>
                        <a:lnTo>
                          <a:pt x="468" y="2"/>
                        </a:lnTo>
                        <a:lnTo>
                          <a:pt x="468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6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228680" y="2338200"/>
                    <a:ext cx="750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5">
                        <a:moveTo>
                          <a:pt x="468" y="5"/>
                        </a:moveTo>
                        <a:lnTo>
                          <a:pt x="470" y="5"/>
                        </a:lnTo>
                        <a:lnTo>
                          <a:pt x="470" y="3"/>
                        </a:lnTo>
                        <a:lnTo>
                          <a:pt x="470" y="3"/>
                        </a:lnTo>
                        <a:lnTo>
                          <a:pt x="473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46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1225440" y="2334960"/>
                    <a:ext cx="753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5">
                        <a:moveTo>
                          <a:pt x="472" y="5"/>
                        </a:moveTo>
                        <a:lnTo>
                          <a:pt x="472" y="5"/>
                        </a:lnTo>
                        <a:lnTo>
                          <a:pt x="475" y="2"/>
                        </a:lnTo>
                        <a:lnTo>
                          <a:pt x="475" y="2"/>
                        </a:lnTo>
                        <a:lnTo>
                          <a:pt x="475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47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1225440" y="2331720"/>
                    <a:ext cx="757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4">
                        <a:moveTo>
                          <a:pt x="475" y="4"/>
                        </a:moveTo>
                        <a:lnTo>
                          <a:pt x="475" y="4"/>
                        </a:lnTo>
                        <a:lnTo>
                          <a:pt x="475" y="2"/>
                        </a:lnTo>
                        <a:lnTo>
                          <a:pt x="477" y="2"/>
                        </a:lnTo>
                        <a:lnTo>
                          <a:pt x="477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75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220760" y="2328840"/>
                    <a:ext cx="761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4">
                        <a:moveTo>
                          <a:pt x="478" y="4"/>
                        </a:moveTo>
                        <a:lnTo>
                          <a:pt x="480" y="4"/>
                        </a:lnTo>
                        <a:lnTo>
                          <a:pt x="480" y="2"/>
                        </a:lnTo>
                        <a:lnTo>
                          <a:pt x="480" y="2"/>
                        </a:lnTo>
                        <a:lnTo>
                          <a:pt x="480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47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1220760" y="2323800"/>
                    <a:ext cx="765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2" h="5">
                        <a:moveTo>
                          <a:pt x="480" y="5"/>
                        </a:moveTo>
                        <a:lnTo>
                          <a:pt x="480" y="5"/>
                        </a:lnTo>
                        <a:lnTo>
                          <a:pt x="480" y="3"/>
                        </a:lnTo>
                        <a:lnTo>
                          <a:pt x="482" y="3"/>
                        </a:lnTo>
                        <a:lnTo>
                          <a:pt x="482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480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1217520" y="2320920"/>
                    <a:ext cx="771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5">
                        <a:moveTo>
                          <a:pt x="482" y="5"/>
                        </a:moveTo>
                        <a:lnTo>
                          <a:pt x="484" y="5"/>
                        </a:lnTo>
                        <a:lnTo>
                          <a:pt x="484" y="2"/>
                        </a:lnTo>
                        <a:lnTo>
                          <a:pt x="484" y="2"/>
                        </a:lnTo>
                        <a:lnTo>
                          <a:pt x="48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48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1217520" y="2317680"/>
                    <a:ext cx="771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">
                        <a:moveTo>
                          <a:pt x="484" y="4"/>
                        </a:moveTo>
                        <a:lnTo>
                          <a:pt x="484" y="4"/>
                        </a:lnTo>
                        <a:lnTo>
                          <a:pt x="486" y="2"/>
                        </a:lnTo>
                        <a:lnTo>
                          <a:pt x="486" y="2"/>
                        </a:lnTo>
                        <a:lnTo>
                          <a:pt x="48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48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1214280" y="2314440"/>
                    <a:ext cx="779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4">
                        <a:moveTo>
                          <a:pt x="488" y="4"/>
                        </a:moveTo>
                        <a:lnTo>
                          <a:pt x="488" y="4"/>
                        </a:lnTo>
                        <a:lnTo>
                          <a:pt x="488" y="2"/>
                        </a:lnTo>
                        <a:lnTo>
                          <a:pt x="488" y="2"/>
                        </a:lnTo>
                        <a:lnTo>
                          <a:pt x="49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8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1214280" y="2311200"/>
                    <a:ext cx="779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4">
                        <a:moveTo>
                          <a:pt x="488" y="4"/>
                        </a:moveTo>
                        <a:lnTo>
                          <a:pt x="488" y="4"/>
                        </a:lnTo>
                        <a:lnTo>
                          <a:pt x="491" y="2"/>
                        </a:lnTo>
                        <a:lnTo>
                          <a:pt x="491" y="2"/>
                        </a:lnTo>
                        <a:lnTo>
                          <a:pt x="49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48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211040" y="2306520"/>
                    <a:ext cx="785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5" h="5">
                        <a:moveTo>
                          <a:pt x="493" y="5"/>
                        </a:moveTo>
                        <a:lnTo>
                          <a:pt x="493" y="5"/>
                        </a:lnTo>
                        <a:lnTo>
                          <a:pt x="493" y="3"/>
                        </a:lnTo>
                        <a:lnTo>
                          <a:pt x="493" y="3"/>
                        </a:lnTo>
                        <a:lnTo>
                          <a:pt x="495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49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211040" y="2303280"/>
                    <a:ext cx="785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5" h="5">
                        <a:moveTo>
                          <a:pt x="493" y="5"/>
                        </a:moveTo>
                        <a:lnTo>
                          <a:pt x="493" y="5"/>
                        </a:lnTo>
                        <a:lnTo>
                          <a:pt x="495" y="2"/>
                        </a:lnTo>
                        <a:lnTo>
                          <a:pt x="495" y="2"/>
                        </a:lnTo>
                        <a:lnTo>
                          <a:pt x="495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493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1206360" y="2300040"/>
                    <a:ext cx="793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4">
                        <a:moveTo>
                          <a:pt x="498" y="4"/>
                        </a:moveTo>
                        <a:lnTo>
                          <a:pt x="498" y="4"/>
                        </a:lnTo>
                        <a:lnTo>
                          <a:pt x="498" y="2"/>
                        </a:lnTo>
                        <a:lnTo>
                          <a:pt x="498" y="2"/>
                        </a:lnTo>
                        <a:lnTo>
                          <a:pt x="50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49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1206360" y="2296800"/>
                    <a:ext cx="793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4">
                        <a:moveTo>
                          <a:pt x="498" y="4"/>
                        </a:moveTo>
                        <a:lnTo>
                          <a:pt x="498" y="4"/>
                        </a:lnTo>
                        <a:lnTo>
                          <a:pt x="500" y="2"/>
                        </a:lnTo>
                        <a:lnTo>
                          <a:pt x="500" y="2"/>
                        </a:lnTo>
                        <a:lnTo>
                          <a:pt x="50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3" y="4"/>
                        </a:lnTo>
                        <a:lnTo>
                          <a:pt x="49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1203120" y="2292120"/>
                    <a:ext cx="800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5">
                        <a:moveTo>
                          <a:pt x="502" y="5"/>
                        </a:moveTo>
                        <a:lnTo>
                          <a:pt x="502" y="5"/>
                        </a:lnTo>
                        <a:lnTo>
                          <a:pt x="502" y="3"/>
                        </a:lnTo>
                        <a:lnTo>
                          <a:pt x="502" y="3"/>
                        </a:lnTo>
                        <a:lnTo>
                          <a:pt x="504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50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1203120" y="2288880"/>
                    <a:ext cx="800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5">
                        <a:moveTo>
                          <a:pt x="502" y="5"/>
                        </a:moveTo>
                        <a:lnTo>
                          <a:pt x="502" y="5"/>
                        </a:lnTo>
                        <a:lnTo>
                          <a:pt x="504" y="2"/>
                        </a:lnTo>
                        <a:lnTo>
                          <a:pt x="504" y="2"/>
                        </a:lnTo>
                        <a:lnTo>
                          <a:pt x="50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50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1199880" y="2286000"/>
                    <a:ext cx="808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4">
                        <a:moveTo>
                          <a:pt x="506" y="4"/>
                        </a:moveTo>
                        <a:lnTo>
                          <a:pt x="506" y="4"/>
                        </a:lnTo>
                        <a:lnTo>
                          <a:pt x="506" y="2"/>
                        </a:lnTo>
                        <a:lnTo>
                          <a:pt x="506" y="2"/>
                        </a:lnTo>
                        <a:lnTo>
                          <a:pt x="509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50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199880" y="2282760"/>
                    <a:ext cx="8082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4">
                        <a:moveTo>
                          <a:pt x="506" y="4"/>
                        </a:moveTo>
                        <a:lnTo>
                          <a:pt x="506" y="4"/>
                        </a:lnTo>
                        <a:lnTo>
                          <a:pt x="509" y="2"/>
                        </a:lnTo>
                        <a:lnTo>
                          <a:pt x="509" y="2"/>
                        </a:lnTo>
                        <a:lnTo>
                          <a:pt x="509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50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1196640" y="2277720"/>
                    <a:ext cx="8114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5">
                        <a:moveTo>
                          <a:pt x="511" y="5"/>
                        </a:moveTo>
                        <a:lnTo>
                          <a:pt x="511" y="5"/>
                        </a:lnTo>
                        <a:lnTo>
                          <a:pt x="511" y="3"/>
                        </a:lnTo>
                        <a:lnTo>
                          <a:pt x="511" y="3"/>
                        </a:lnTo>
                        <a:lnTo>
                          <a:pt x="511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511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196640" y="2274840"/>
                    <a:ext cx="81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5">
                        <a:moveTo>
                          <a:pt x="511" y="5"/>
                        </a:moveTo>
                        <a:lnTo>
                          <a:pt x="511" y="5"/>
                        </a:lnTo>
                        <a:lnTo>
                          <a:pt x="511" y="2"/>
                        </a:lnTo>
                        <a:lnTo>
                          <a:pt x="513" y="2"/>
                        </a:lnTo>
                        <a:lnTo>
                          <a:pt x="513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511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1196640" y="2271600"/>
                    <a:ext cx="814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4">
                        <a:moveTo>
                          <a:pt x="511" y="4"/>
                        </a:moveTo>
                        <a:lnTo>
                          <a:pt x="513" y="4"/>
                        </a:lnTo>
                        <a:lnTo>
                          <a:pt x="513" y="2"/>
                        </a:lnTo>
                        <a:lnTo>
                          <a:pt x="513" y="2"/>
                        </a:lnTo>
                        <a:lnTo>
                          <a:pt x="513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11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191960" y="2268360"/>
                    <a:ext cx="822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4">
                        <a:moveTo>
                          <a:pt x="516" y="4"/>
                        </a:moveTo>
                        <a:lnTo>
                          <a:pt x="516" y="4"/>
                        </a:lnTo>
                        <a:lnTo>
                          <a:pt x="516" y="2"/>
                        </a:lnTo>
                        <a:lnTo>
                          <a:pt x="516" y="2"/>
                        </a:lnTo>
                        <a:lnTo>
                          <a:pt x="518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1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1191960" y="2263680"/>
                    <a:ext cx="82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5">
                        <a:moveTo>
                          <a:pt x="516" y="5"/>
                        </a:moveTo>
                        <a:lnTo>
                          <a:pt x="516" y="5"/>
                        </a:lnTo>
                        <a:lnTo>
                          <a:pt x="518" y="3"/>
                        </a:lnTo>
                        <a:lnTo>
                          <a:pt x="518" y="3"/>
                        </a:lnTo>
                        <a:lnTo>
                          <a:pt x="518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3" y="5"/>
                        </a:lnTo>
                        <a:lnTo>
                          <a:pt x="51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188720" y="2263680"/>
                    <a:ext cx="825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3">
                        <a:moveTo>
                          <a:pt x="520" y="3"/>
                        </a:moveTo>
                        <a:lnTo>
                          <a:pt x="520" y="3"/>
                        </a:lnTo>
                        <a:lnTo>
                          <a:pt x="520" y="3"/>
                        </a:lnTo>
                        <a:lnTo>
                          <a:pt x="520" y="0"/>
                        </a:lnTo>
                        <a:lnTo>
                          <a:pt x="52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520" y="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188720" y="2260440"/>
                    <a:ext cx="828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2" h="2">
                        <a:moveTo>
                          <a:pt x="520" y="2"/>
                        </a:moveTo>
                        <a:lnTo>
                          <a:pt x="520" y="2"/>
                        </a:lnTo>
                        <a:lnTo>
                          <a:pt x="520" y="2"/>
                        </a:lnTo>
                        <a:lnTo>
                          <a:pt x="522" y="0"/>
                        </a:lnTo>
                        <a:lnTo>
                          <a:pt x="52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520" y="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188720" y="2257200"/>
                    <a:ext cx="828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2" h="4">
                        <a:moveTo>
                          <a:pt x="520" y="4"/>
                        </a:moveTo>
                        <a:lnTo>
                          <a:pt x="522" y="2"/>
                        </a:lnTo>
                        <a:lnTo>
                          <a:pt x="522" y="2"/>
                        </a:lnTo>
                        <a:lnTo>
                          <a:pt x="522" y="0"/>
                        </a:lnTo>
                        <a:lnTo>
                          <a:pt x="52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2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185840" y="2253960"/>
                    <a:ext cx="831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4" h="4">
                        <a:moveTo>
                          <a:pt x="524" y="4"/>
                        </a:moveTo>
                        <a:lnTo>
                          <a:pt x="524" y="2"/>
                        </a:lnTo>
                        <a:lnTo>
                          <a:pt x="524" y="2"/>
                        </a:lnTo>
                        <a:lnTo>
                          <a:pt x="524" y="0"/>
                        </a:lnTo>
                        <a:lnTo>
                          <a:pt x="524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52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1185840" y="2249280"/>
                    <a:ext cx="836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5">
                        <a:moveTo>
                          <a:pt x="524" y="5"/>
                        </a:moveTo>
                        <a:lnTo>
                          <a:pt x="524" y="3"/>
                        </a:lnTo>
                        <a:lnTo>
                          <a:pt x="524" y="3"/>
                        </a:lnTo>
                        <a:lnTo>
                          <a:pt x="527" y="0"/>
                        </a:lnTo>
                        <a:lnTo>
                          <a:pt x="52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5"/>
                        </a:lnTo>
                        <a:lnTo>
                          <a:pt x="52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1185840" y="2246040"/>
                    <a:ext cx="836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5">
                        <a:moveTo>
                          <a:pt x="524" y="5"/>
                        </a:moveTo>
                        <a:lnTo>
                          <a:pt x="527" y="2"/>
                        </a:lnTo>
                        <a:lnTo>
                          <a:pt x="527" y="2"/>
                        </a:lnTo>
                        <a:lnTo>
                          <a:pt x="527" y="0"/>
                        </a:lnTo>
                        <a:lnTo>
                          <a:pt x="52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2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1182600" y="2242800"/>
                    <a:ext cx="839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9" h="4">
                        <a:moveTo>
                          <a:pt x="529" y="4"/>
                        </a:moveTo>
                        <a:lnTo>
                          <a:pt x="529" y="2"/>
                        </a:lnTo>
                        <a:lnTo>
                          <a:pt x="529" y="2"/>
                        </a:lnTo>
                        <a:lnTo>
                          <a:pt x="529" y="0"/>
                        </a:lnTo>
                        <a:lnTo>
                          <a:pt x="52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529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1182600" y="2239920"/>
                    <a:ext cx="842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4">
                        <a:moveTo>
                          <a:pt x="529" y="4"/>
                        </a:moveTo>
                        <a:lnTo>
                          <a:pt x="529" y="2"/>
                        </a:lnTo>
                        <a:lnTo>
                          <a:pt x="529" y="2"/>
                        </a:lnTo>
                        <a:lnTo>
                          <a:pt x="531" y="0"/>
                        </a:lnTo>
                        <a:lnTo>
                          <a:pt x="53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529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182600" y="2234880"/>
                    <a:ext cx="842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">
                        <a:moveTo>
                          <a:pt x="529" y="5"/>
                        </a:moveTo>
                        <a:lnTo>
                          <a:pt x="531" y="3"/>
                        </a:lnTo>
                        <a:lnTo>
                          <a:pt x="531" y="3"/>
                        </a:lnTo>
                        <a:lnTo>
                          <a:pt x="531" y="0"/>
                        </a:lnTo>
                        <a:lnTo>
                          <a:pt x="53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29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177920" y="2232000"/>
                    <a:ext cx="847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4" h="5">
                        <a:moveTo>
                          <a:pt x="534" y="5"/>
                        </a:moveTo>
                        <a:lnTo>
                          <a:pt x="534" y="2"/>
                        </a:lnTo>
                        <a:lnTo>
                          <a:pt x="534" y="2"/>
                        </a:lnTo>
                        <a:lnTo>
                          <a:pt x="534" y="0"/>
                        </a:lnTo>
                        <a:lnTo>
                          <a:pt x="534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5"/>
                        </a:lnTo>
                        <a:lnTo>
                          <a:pt x="53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177920" y="2228760"/>
                    <a:ext cx="850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4">
                        <a:moveTo>
                          <a:pt x="534" y="4"/>
                        </a:moveTo>
                        <a:lnTo>
                          <a:pt x="534" y="2"/>
                        </a:lnTo>
                        <a:lnTo>
                          <a:pt x="534" y="2"/>
                        </a:lnTo>
                        <a:lnTo>
                          <a:pt x="534" y="0"/>
                        </a:lnTo>
                        <a:lnTo>
                          <a:pt x="53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53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1177920" y="2225520"/>
                    <a:ext cx="8506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4">
                        <a:moveTo>
                          <a:pt x="534" y="4"/>
                        </a:moveTo>
                        <a:lnTo>
                          <a:pt x="534" y="2"/>
                        </a:lnTo>
                        <a:lnTo>
                          <a:pt x="536" y="2"/>
                        </a:lnTo>
                        <a:lnTo>
                          <a:pt x="536" y="0"/>
                        </a:lnTo>
                        <a:lnTo>
                          <a:pt x="53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3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1177920" y="2220840"/>
                    <a:ext cx="850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5">
                        <a:moveTo>
                          <a:pt x="536" y="5"/>
                        </a:moveTo>
                        <a:lnTo>
                          <a:pt x="536" y="3"/>
                        </a:lnTo>
                        <a:lnTo>
                          <a:pt x="536" y="3"/>
                        </a:lnTo>
                        <a:lnTo>
                          <a:pt x="536" y="0"/>
                        </a:lnTo>
                        <a:lnTo>
                          <a:pt x="536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3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1174680" y="2217600"/>
                    <a:ext cx="853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5">
                        <a:moveTo>
                          <a:pt x="538" y="5"/>
                        </a:moveTo>
                        <a:lnTo>
                          <a:pt x="538" y="2"/>
                        </a:lnTo>
                        <a:lnTo>
                          <a:pt x="538" y="2"/>
                        </a:lnTo>
                        <a:lnTo>
                          <a:pt x="538" y="0"/>
                        </a:lnTo>
                        <a:lnTo>
                          <a:pt x="538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53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1174680" y="2214360"/>
                    <a:ext cx="857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4">
                        <a:moveTo>
                          <a:pt x="538" y="4"/>
                        </a:moveTo>
                        <a:lnTo>
                          <a:pt x="538" y="2"/>
                        </a:lnTo>
                        <a:lnTo>
                          <a:pt x="538" y="2"/>
                        </a:lnTo>
                        <a:lnTo>
                          <a:pt x="540" y="0"/>
                        </a:lnTo>
                        <a:lnTo>
                          <a:pt x="54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4"/>
                        </a:lnTo>
                        <a:lnTo>
                          <a:pt x="53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1174680" y="2211120"/>
                    <a:ext cx="857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4">
                        <a:moveTo>
                          <a:pt x="538" y="4"/>
                        </a:moveTo>
                        <a:lnTo>
                          <a:pt x="540" y="2"/>
                        </a:lnTo>
                        <a:lnTo>
                          <a:pt x="540" y="2"/>
                        </a:lnTo>
                        <a:lnTo>
                          <a:pt x="540" y="0"/>
                        </a:lnTo>
                        <a:lnTo>
                          <a:pt x="54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38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174680" y="2207880"/>
                    <a:ext cx="857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4">
                        <a:moveTo>
                          <a:pt x="540" y="4"/>
                        </a:moveTo>
                        <a:lnTo>
                          <a:pt x="540" y="2"/>
                        </a:lnTo>
                        <a:lnTo>
                          <a:pt x="540" y="2"/>
                        </a:lnTo>
                        <a:lnTo>
                          <a:pt x="540" y="0"/>
                        </a:lnTo>
                        <a:lnTo>
                          <a:pt x="54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0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171440" y="2203200"/>
                    <a:ext cx="860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">
                        <a:moveTo>
                          <a:pt x="542" y="5"/>
                        </a:moveTo>
                        <a:lnTo>
                          <a:pt x="542" y="3"/>
                        </a:lnTo>
                        <a:lnTo>
                          <a:pt x="542" y="3"/>
                        </a:lnTo>
                        <a:lnTo>
                          <a:pt x="542" y="0"/>
                        </a:lnTo>
                        <a:lnTo>
                          <a:pt x="54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54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171440" y="2199960"/>
                    <a:ext cx="865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5">
                        <a:moveTo>
                          <a:pt x="542" y="5"/>
                        </a:moveTo>
                        <a:lnTo>
                          <a:pt x="542" y="2"/>
                        </a:lnTo>
                        <a:lnTo>
                          <a:pt x="542" y="2"/>
                        </a:lnTo>
                        <a:lnTo>
                          <a:pt x="545" y="0"/>
                        </a:lnTo>
                        <a:lnTo>
                          <a:pt x="54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lnTo>
                          <a:pt x="54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171440" y="2197080"/>
                    <a:ext cx="8650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4">
                        <a:moveTo>
                          <a:pt x="542" y="4"/>
                        </a:moveTo>
                        <a:lnTo>
                          <a:pt x="545" y="2"/>
                        </a:lnTo>
                        <a:lnTo>
                          <a:pt x="545" y="2"/>
                        </a:lnTo>
                        <a:lnTo>
                          <a:pt x="545" y="0"/>
                        </a:lnTo>
                        <a:lnTo>
                          <a:pt x="54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2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171440" y="2193840"/>
                    <a:ext cx="8650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4">
                        <a:moveTo>
                          <a:pt x="545" y="4"/>
                        </a:moveTo>
                        <a:lnTo>
                          <a:pt x="545" y="2"/>
                        </a:lnTo>
                        <a:lnTo>
                          <a:pt x="545" y="2"/>
                        </a:lnTo>
                        <a:lnTo>
                          <a:pt x="545" y="0"/>
                        </a:lnTo>
                        <a:lnTo>
                          <a:pt x="54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5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168200" y="2189160"/>
                    <a:ext cx="868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5">
                        <a:moveTo>
                          <a:pt x="547" y="5"/>
                        </a:moveTo>
                        <a:lnTo>
                          <a:pt x="547" y="3"/>
                        </a:lnTo>
                        <a:lnTo>
                          <a:pt x="547" y="3"/>
                        </a:lnTo>
                        <a:lnTo>
                          <a:pt x="547" y="0"/>
                        </a:lnTo>
                        <a:lnTo>
                          <a:pt x="547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547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168200" y="2185920"/>
                    <a:ext cx="868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5">
                        <a:moveTo>
                          <a:pt x="547" y="5"/>
                        </a:moveTo>
                        <a:lnTo>
                          <a:pt x="547" y="2"/>
                        </a:lnTo>
                        <a:lnTo>
                          <a:pt x="547" y="2"/>
                        </a:lnTo>
                        <a:lnTo>
                          <a:pt x="547" y="0"/>
                        </a:lnTo>
                        <a:lnTo>
                          <a:pt x="54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547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168200" y="2182680"/>
                    <a:ext cx="871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4">
                        <a:moveTo>
                          <a:pt x="547" y="4"/>
                        </a:moveTo>
                        <a:lnTo>
                          <a:pt x="547" y="4"/>
                        </a:lnTo>
                        <a:lnTo>
                          <a:pt x="547" y="2"/>
                        </a:lnTo>
                        <a:lnTo>
                          <a:pt x="549" y="2"/>
                        </a:lnTo>
                        <a:lnTo>
                          <a:pt x="549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47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168200" y="2179440"/>
                    <a:ext cx="871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4">
                        <a:moveTo>
                          <a:pt x="547" y="4"/>
                        </a:moveTo>
                        <a:lnTo>
                          <a:pt x="549" y="4"/>
                        </a:lnTo>
                        <a:lnTo>
                          <a:pt x="549" y="2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47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1168200" y="2174760"/>
                    <a:ext cx="871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5">
                        <a:moveTo>
                          <a:pt x="549" y="5"/>
                        </a:moveTo>
                        <a:lnTo>
                          <a:pt x="549" y="5"/>
                        </a:lnTo>
                        <a:lnTo>
                          <a:pt x="549" y="3"/>
                        </a:lnTo>
                        <a:lnTo>
                          <a:pt x="549" y="3"/>
                        </a:lnTo>
                        <a:lnTo>
                          <a:pt x="549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49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1168200" y="2171520"/>
                    <a:ext cx="871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5">
                        <a:moveTo>
                          <a:pt x="549" y="5"/>
                        </a:moveTo>
                        <a:lnTo>
                          <a:pt x="549" y="5"/>
                        </a:lnTo>
                        <a:lnTo>
                          <a:pt x="549" y="2"/>
                        </a:lnTo>
                        <a:lnTo>
                          <a:pt x="549" y="2"/>
                        </a:lnTo>
                        <a:lnTo>
                          <a:pt x="549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49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1163520" y="2168280"/>
                    <a:ext cx="87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4">
                        <a:moveTo>
                          <a:pt x="552" y="4"/>
                        </a:moveTo>
                        <a:lnTo>
                          <a:pt x="552" y="4"/>
                        </a:lnTo>
                        <a:lnTo>
                          <a:pt x="552" y="2"/>
                        </a:lnTo>
                        <a:lnTo>
                          <a:pt x="552" y="2"/>
                        </a:lnTo>
                        <a:lnTo>
                          <a:pt x="552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52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1163520" y="2165040"/>
                    <a:ext cx="87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4">
                        <a:moveTo>
                          <a:pt x="552" y="4"/>
                        </a:moveTo>
                        <a:lnTo>
                          <a:pt x="552" y="4"/>
                        </a:lnTo>
                        <a:lnTo>
                          <a:pt x="552" y="2"/>
                        </a:lnTo>
                        <a:lnTo>
                          <a:pt x="552" y="2"/>
                        </a:lnTo>
                        <a:lnTo>
                          <a:pt x="55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52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163520" y="216036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552" y="5"/>
                        </a:moveTo>
                        <a:lnTo>
                          <a:pt x="552" y="5"/>
                        </a:lnTo>
                        <a:lnTo>
                          <a:pt x="552" y="3"/>
                        </a:lnTo>
                        <a:lnTo>
                          <a:pt x="552" y="3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163520" y="215712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552" y="5"/>
                        </a:moveTo>
                        <a:lnTo>
                          <a:pt x="552" y="5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2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163520" y="2154240"/>
                    <a:ext cx="87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554" y="4"/>
                        </a:move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1163520" y="2151000"/>
                    <a:ext cx="87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554" y="4"/>
                        </a:move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1163520" y="2145960"/>
                    <a:ext cx="879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554" y="5"/>
                        </a:moveTo>
                        <a:lnTo>
                          <a:pt x="554" y="5"/>
                        </a:lnTo>
                        <a:lnTo>
                          <a:pt x="554" y="3"/>
                        </a:lnTo>
                        <a:lnTo>
                          <a:pt x="554" y="3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1163520" y="214308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554" y="5"/>
                        </a:moveTo>
                        <a:lnTo>
                          <a:pt x="554" y="5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4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163520" y="2139840"/>
                    <a:ext cx="87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554" y="4"/>
                        </a:move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1163520" y="2136600"/>
                    <a:ext cx="87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554" y="4"/>
                        </a:move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1160280" y="213192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556" y="5"/>
                        </a:moveTo>
                        <a:lnTo>
                          <a:pt x="556" y="5"/>
                        </a:lnTo>
                        <a:lnTo>
                          <a:pt x="556" y="3"/>
                        </a:lnTo>
                        <a:lnTo>
                          <a:pt x="556" y="3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55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160280" y="212868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556" y="5"/>
                        </a:moveTo>
                        <a:lnTo>
                          <a:pt x="556" y="5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55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1160280" y="2125440"/>
                    <a:ext cx="882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556" y="4"/>
                        </a:move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1160280" y="2122200"/>
                    <a:ext cx="882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556" y="4"/>
                        </a:move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160280" y="211752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556" y="5"/>
                        </a:moveTo>
                        <a:lnTo>
                          <a:pt x="556" y="5"/>
                        </a:lnTo>
                        <a:lnTo>
                          <a:pt x="556" y="3"/>
                        </a:lnTo>
                        <a:lnTo>
                          <a:pt x="556" y="3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1160280" y="211428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556" y="5"/>
                        </a:moveTo>
                        <a:lnTo>
                          <a:pt x="556" y="5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1160280" y="2111040"/>
                    <a:ext cx="882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556" y="4"/>
                        </a:move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160280" y="2108160"/>
                    <a:ext cx="882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556" y="4"/>
                        </a:move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160280" y="2104920"/>
                    <a:ext cx="8859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8" h="4">
                        <a:moveTo>
                          <a:pt x="556" y="4"/>
                        </a:moveTo>
                        <a:lnTo>
                          <a:pt x="556" y="4"/>
                        </a:lnTo>
                        <a:lnTo>
                          <a:pt x="558" y="2"/>
                        </a:lnTo>
                        <a:lnTo>
                          <a:pt x="558" y="2"/>
                        </a:lnTo>
                        <a:lnTo>
                          <a:pt x="558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160280" y="2100240"/>
                    <a:ext cx="885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8" h="5">
                        <a:moveTo>
                          <a:pt x="556" y="5"/>
                        </a:moveTo>
                        <a:lnTo>
                          <a:pt x="556" y="5"/>
                        </a:lnTo>
                        <a:lnTo>
                          <a:pt x="558" y="5"/>
                        </a:lnTo>
                        <a:lnTo>
                          <a:pt x="558" y="5"/>
                        </a:lnTo>
                        <a:lnTo>
                          <a:pt x="558" y="3"/>
                        </a:lnTo>
                        <a:lnTo>
                          <a:pt x="558" y="3"/>
                        </a:lnTo>
                        <a:lnTo>
                          <a:pt x="558" y="3"/>
                        </a:lnTo>
                        <a:lnTo>
                          <a:pt x="558" y="3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6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1160280" y="2097000"/>
                    <a:ext cx="8859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8" h="5">
                        <a:moveTo>
                          <a:pt x="558" y="5"/>
                        </a:moveTo>
                        <a:lnTo>
                          <a:pt x="558" y="5"/>
                        </a:lnTo>
                        <a:lnTo>
                          <a:pt x="558" y="5"/>
                        </a:lnTo>
                        <a:lnTo>
                          <a:pt x="558" y="5"/>
                        </a:lnTo>
                        <a:lnTo>
                          <a:pt x="558" y="5"/>
                        </a:lnTo>
                        <a:lnTo>
                          <a:pt x="558" y="5"/>
                        </a:lnTo>
                        <a:lnTo>
                          <a:pt x="558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58" y="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160280" y="2097000"/>
                    <a:ext cx="882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160280" y="2093760"/>
                    <a:ext cx="882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160280" y="2090520"/>
                    <a:ext cx="882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160280" y="208584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56" y="5"/>
                        </a:lnTo>
                        <a:lnTo>
                          <a:pt x="556" y="3"/>
                        </a:lnTo>
                        <a:lnTo>
                          <a:pt x="556" y="3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160280" y="208260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56" y="5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1160280" y="2079360"/>
                    <a:ext cx="882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1160280" y="2076120"/>
                    <a:ext cx="882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4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6" y="4"/>
                        </a:lnTo>
                        <a:lnTo>
                          <a:pt x="556" y="2"/>
                        </a:lnTo>
                        <a:lnTo>
                          <a:pt x="556" y="2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1160280" y="2071440"/>
                    <a:ext cx="882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5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556" y="5"/>
                        </a:lnTo>
                        <a:lnTo>
                          <a:pt x="556" y="3"/>
                        </a:lnTo>
                        <a:lnTo>
                          <a:pt x="556" y="3"/>
                        </a:lnTo>
                        <a:lnTo>
                          <a:pt x="556" y="0"/>
                        </a:lnTo>
                        <a:lnTo>
                          <a:pt x="556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1163520" y="206820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54" y="5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163520" y="2065320"/>
                    <a:ext cx="87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163520" y="2062080"/>
                    <a:ext cx="879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163520" y="205740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54" y="5"/>
                        </a:lnTo>
                        <a:lnTo>
                          <a:pt x="554" y="3"/>
                        </a:lnTo>
                        <a:lnTo>
                          <a:pt x="554" y="3"/>
                        </a:lnTo>
                        <a:lnTo>
                          <a:pt x="554" y="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163520" y="205416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54" y="5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1163520" y="2050920"/>
                    <a:ext cx="87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4" y="0"/>
                        </a:lnTo>
                        <a:lnTo>
                          <a:pt x="5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1163520" y="2047680"/>
                    <a:ext cx="879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54" y="4"/>
                        </a:lnTo>
                        <a:lnTo>
                          <a:pt x="554" y="2"/>
                        </a:lnTo>
                        <a:lnTo>
                          <a:pt x="554" y="2"/>
                        </a:lnTo>
                        <a:lnTo>
                          <a:pt x="552" y="0"/>
                        </a:lnTo>
                        <a:lnTo>
                          <a:pt x="5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1163520" y="2043000"/>
                    <a:ext cx="879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54" y="5"/>
                        </a:lnTo>
                        <a:lnTo>
                          <a:pt x="552" y="3"/>
                        </a:lnTo>
                        <a:lnTo>
                          <a:pt x="552" y="3"/>
                        </a:lnTo>
                        <a:lnTo>
                          <a:pt x="552" y="0"/>
                        </a:lnTo>
                        <a:lnTo>
                          <a:pt x="5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1163520" y="2039760"/>
                    <a:ext cx="876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5">
                        <a:moveTo>
                          <a:pt x="3" y="0"/>
                        </a:moveTo>
                        <a:lnTo>
                          <a:pt x="3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52" y="5"/>
                        </a:lnTo>
                        <a:lnTo>
                          <a:pt x="552" y="2"/>
                        </a:lnTo>
                        <a:lnTo>
                          <a:pt x="552" y="2"/>
                        </a:lnTo>
                        <a:lnTo>
                          <a:pt x="552" y="0"/>
                        </a:lnTo>
                        <a:lnTo>
                          <a:pt x="552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1163520" y="2036520"/>
                    <a:ext cx="876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4">
                        <a:moveTo>
                          <a:pt x="3" y="0"/>
                        </a:move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0" y="4"/>
                        </a:lnTo>
                        <a:lnTo>
                          <a:pt x="552" y="4"/>
                        </a:lnTo>
                        <a:lnTo>
                          <a:pt x="552" y="2"/>
                        </a:lnTo>
                        <a:lnTo>
                          <a:pt x="552" y="2"/>
                        </a:lnTo>
                        <a:lnTo>
                          <a:pt x="552" y="0"/>
                        </a:lnTo>
                        <a:lnTo>
                          <a:pt x="552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1168200" y="2033280"/>
                    <a:ext cx="871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9" y="4"/>
                        </a:lnTo>
                        <a:lnTo>
                          <a:pt x="549" y="2"/>
                        </a:lnTo>
                        <a:lnTo>
                          <a:pt x="549" y="2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1168200" y="2028600"/>
                    <a:ext cx="871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49" y="5"/>
                        </a:lnTo>
                        <a:lnTo>
                          <a:pt x="549" y="3"/>
                        </a:lnTo>
                        <a:lnTo>
                          <a:pt x="549" y="3"/>
                        </a:lnTo>
                        <a:lnTo>
                          <a:pt x="549" y="0"/>
                        </a:lnTo>
                        <a:lnTo>
                          <a:pt x="54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1168200" y="2025360"/>
                    <a:ext cx="8715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49" y="5"/>
                        </a:lnTo>
                        <a:lnTo>
                          <a:pt x="549" y="2"/>
                        </a:lnTo>
                        <a:lnTo>
                          <a:pt x="549" y="2"/>
                        </a:lnTo>
                        <a:lnTo>
                          <a:pt x="549" y="0"/>
                        </a:lnTo>
                        <a:lnTo>
                          <a:pt x="54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1168200" y="2022120"/>
                    <a:ext cx="871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9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9" y="4"/>
                        </a:lnTo>
                        <a:lnTo>
                          <a:pt x="549" y="2"/>
                        </a:lnTo>
                        <a:lnTo>
                          <a:pt x="547" y="2"/>
                        </a:lnTo>
                        <a:lnTo>
                          <a:pt x="547" y="0"/>
                        </a:lnTo>
                        <a:lnTo>
                          <a:pt x="54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1168200" y="2019240"/>
                    <a:ext cx="8683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7" y="4"/>
                        </a:lnTo>
                        <a:lnTo>
                          <a:pt x="547" y="2"/>
                        </a:lnTo>
                        <a:lnTo>
                          <a:pt x="547" y="2"/>
                        </a:lnTo>
                        <a:lnTo>
                          <a:pt x="547" y="0"/>
                        </a:lnTo>
                        <a:lnTo>
                          <a:pt x="54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1168200" y="2014200"/>
                    <a:ext cx="868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5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547" y="5"/>
                        </a:lnTo>
                        <a:lnTo>
                          <a:pt x="547" y="3"/>
                        </a:lnTo>
                        <a:lnTo>
                          <a:pt x="547" y="3"/>
                        </a:lnTo>
                        <a:lnTo>
                          <a:pt x="547" y="0"/>
                        </a:lnTo>
                        <a:lnTo>
                          <a:pt x="547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1171440" y="2011320"/>
                    <a:ext cx="8650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45" y="5"/>
                        </a:lnTo>
                        <a:lnTo>
                          <a:pt x="545" y="2"/>
                        </a:lnTo>
                        <a:lnTo>
                          <a:pt x="545" y="2"/>
                        </a:lnTo>
                        <a:lnTo>
                          <a:pt x="545" y="0"/>
                        </a:lnTo>
                        <a:lnTo>
                          <a:pt x="54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1171440" y="2008080"/>
                    <a:ext cx="8650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5" y="4"/>
                        </a:lnTo>
                        <a:lnTo>
                          <a:pt x="545" y="2"/>
                        </a:lnTo>
                        <a:lnTo>
                          <a:pt x="545" y="2"/>
                        </a:lnTo>
                        <a:lnTo>
                          <a:pt x="545" y="2"/>
                        </a:lnTo>
                        <a:lnTo>
                          <a:pt x="54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171440" y="2004840"/>
                    <a:ext cx="865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5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45" y="4"/>
                        </a:lnTo>
                        <a:lnTo>
                          <a:pt x="545" y="2"/>
                        </a:lnTo>
                        <a:lnTo>
                          <a:pt x="542" y="2"/>
                        </a:lnTo>
                        <a:lnTo>
                          <a:pt x="542" y="2"/>
                        </a:lnTo>
                        <a:lnTo>
                          <a:pt x="54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171440" y="2001600"/>
                    <a:ext cx="860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4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42" y="4"/>
                        </a:lnTo>
                        <a:lnTo>
                          <a:pt x="542" y="4"/>
                        </a:lnTo>
                        <a:lnTo>
                          <a:pt x="542" y="2"/>
                        </a:lnTo>
                        <a:lnTo>
                          <a:pt x="542" y="2"/>
                        </a:lnTo>
                        <a:lnTo>
                          <a:pt x="54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171440" y="1996920"/>
                    <a:ext cx="860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">
                        <a:moveTo>
                          <a:pt x="2" y="0"/>
                        </a:move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542" y="5"/>
                        </a:lnTo>
                        <a:lnTo>
                          <a:pt x="542" y="5"/>
                        </a:lnTo>
                        <a:lnTo>
                          <a:pt x="542" y="3"/>
                        </a:lnTo>
                        <a:lnTo>
                          <a:pt x="542" y="3"/>
                        </a:lnTo>
                        <a:lnTo>
                          <a:pt x="54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174680" y="1993680"/>
                    <a:ext cx="857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40" y="5"/>
                        </a:lnTo>
                        <a:lnTo>
                          <a:pt x="540" y="5"/>
                        </a:lnTo>
                        <a:lnTo>
                          <a:pt x="540" y="2"/>
                        </a:lnTo>
                        <a:lnTo>
                          <a:pt x="540" y="2"/>
                        </a:lnTo>
                        <a:lnTo>
                          <a:pt x="53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174680" y="1990440"/>
                    <a:ext cx="8571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0" h="4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40" y="4"/>
                        </a:lnTo>
                        <a:lnTo>
                          <a:pt x="540" y="4"/>
                        </a:lnTo>
                        <a:lnTo>
                          <a:pt x="538" y="2"/>
                        </a:lnTo>
                        <a:lnTo>
                          <a:pt x="538" y="2"/>
                        </a:lnTo>
                        <a:lnTo>
                          <a:pt x="53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174680" y="1987200"/>
                    <a:ext cx="853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4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38" y="4"/>
                        </a:lnTo>
                        <a:lnTo>
                          <a:pt x="538" y="4"/>
                        </a:lnTo>
                        <a:lnTo>
                          <a:pt x="538" y="2"/>
                        </a:lnTo>
                        <a:lnTo>
                          <a:pt x="538" y="2"/>
                        </a:lnTo>
                        <a:lnTo>
                          <a:pt x="53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177920" y="1982520"/>
                    <a:ext cx="850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36" y="5"/>
                        </a:lnTo>
                        <a:lnTo>
                          <a:pt x="536" y="5"/>
                        </a:lnTo>
                        <a:lnTo>
                          <a:pt x="536" y="3"/>
                        </a:lnTo>
                        <a:lnTo>
                          <a:pt x="536" y="3"/>
                        </a:lnTo>
                        <a:lnTo>
                          <a:pt x="53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177920" y="1979280"/>
                    <a:ext cx="850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36" y="5"/>
                        </a:lnTo>
                        <a:lnTo>
                          <a:pt x="536" y="5"/>
                        </a:lnTo>
                        <a:lnTo>
                          <a:pt x="536" y="2"/>
                        </a:lnTo>
                        <a:lnTo>
                          <a:pt x="536" y="2"/>
                        </a:lnTo>
                        <a:lnTo>
                          <a:pt x="5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177920" y="1976400"/>
                    <a:ext cx="850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6" h="4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36" y="4"/>
                        </a:lnTo>
                        <a:lnTo>
                          <a:pt x="536" y="4"/>
                        </a:lnTo>
                        <a:lnTo>
                          <a:pt x="534" y="2"/>
                        </a:lnTo>
                        <a:lnTo>
                          <a:pt x="534" y="2"/>
                        </a:lnTo>
                        <a:lnTo>
                          <a:pt x="53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1177920" y="1973160"/>
                    <a:ext cx="847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4" h="4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534" y="4"/>
                        </a:lnTo>
                        <a:lnTo>
                          <a:pt x="534" y="4"/>
                        </a:lnTo>
                        <a:lnTo>
                          <a:pt x="534" y="2"/>
                        </a:lnTo>
                        <a:lnTo>
                          <a:pt x="534" y="2"/>
                        </a:lnTo>
                        <a:lnTo>
                          <a:pt x="53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1182600" y="1968480"/>
                    <a:ext cx="842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31" y="5"/>
                        </a:lnTo>
                        <a:lnTo>
                          <a:pt x="531" y="5"/>
                        </a:lnTo>
                        <a:lnTo>
                          <a:pt x="531" y="3"/>
                        </a:lnTo>
                        <a:lnTo>
                          <a:pt x="531" y="3"/>
                        </a:lnTo>
                        <a:lnTo>
                          <a:pt x="52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1182600" y="1965240"/>
                    <a:ext cx="842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5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31" y="5"/>
                        </a:lnTo>
                        <a:lnTo>
                          <a:pt x="531" y="5"/>
                        </a:lnTo>
                        <a:lnTo>
                          <a:pt x="529" y="2"/>
                        </a:lnTo>
                        <a:lnTo>
                          <a:pt x="529" y="2"/>
                        </a:lnTo>
                        <a:lnTo>
                          <a:pt x="529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1182600" y="1962000"/>
                    <a:ext cx="839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9" h="4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29" y="4"/>
                        </a:lnTo>
                        <a:lnTo>
                          <a:pt x="529" y="4"/>
                        </a:lnTo>
                        <a:lnTo>
                          <a:pt x="529" y="2"/>
                        </a:lnTo>
                        <a:lnTo>
                          <a:pt x="529" y="2"/>
                        </a:lnTo>
                        <a:lnTo>
                          <a:pt x="529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1185840" y="1958760"/>
                    <a:ext cx="836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27" y="4"/>
                        </a:lnTo>
                        <a:lnTo>
                          <a:pt x="527" y="4"/>
                        </a:lnTo>
                        <a:lnTo>
                          <a:pt x="527" y="2"/>
                        </a:lnTo>
                        <a:lnTo>
                          <a:pt x="527" y="2"/>
                        </a:lnTo>
                        <a:lnTo>
                          <a:pt x="52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1185840" y="1954080"/>
                    <a:ext cx="836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5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27" y="5"/>
                        </a:lnTo>
                        <a:lnTo>
                          <a:pt x="527" y="5"/>
                        </a:lnTo>
                        <a:lnTo>
                          <a:pt x="527" y="3"/>
                        </a:lnTo>
                        <a:lnTo>
                          <a:pt x="524" y="3"/>
                        </a:lnTo>
                        <a:lnTo>
                          <a:pt x="52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185840" y="1950840"/>
                    <a:ext cx="831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4" h="5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24" y="5"/>
                        </a:lnTo>
                        <a:lnTo>
                          <a:pt x="524" y="5"/>
                        </a:lnTo>
                        <a:lnTo>
                          <a:pt x="524" y="2"/>
                        </a:lnTo>
                        <a:lnTo>
                          <a:pt x="524" y="2"/>
                        </a:lnTo>
                        <a:lnTo>
                          <a:pt x="52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188720" y="1947600"/>
                    <a:ext cx="828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2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22" y="4"/>
                        </a:lnTo>
                        <a:lnTo>
                          <a:pt x="522" y="4"/>
                        </a:lnTo>
                        <a:lnTo>
                          <a:pt x="522" y="2"/>
                        </a:lnTo>
                        <a:lnTo>
                          <a:pt x="522" y="2"/>
                        </a:lnTo>
                        <a:lnTo>
                          <a:pt x="5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188720" y="1944360"/>
                    <a:ext cx="828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2" h="4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22" y="4"/>
                        </a:lnTo>
                        <a:lnTo>
                          <a:pt x="522" y="4"/>
                        </a:lnTo>
                        <a:lnTo>
                          <a:pt x="520" y="2"/>
                        </a:lnTo>
                        <a:lnTo>
                          <a:pt x="520" y="2"/>
                        </a:lnTo>
                        <a:lnTo>
                          <a:pt x="52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1188720" y="1939680"/>
                    <a:ext cx="825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0" h="5">
                        <a:moveTo>
                          <a:pt x="2" y="0"/>
                        </a:move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520" y="5"/>
                        </a:lnTo>
                        <a:lnTo>
                          <a:pt x="520" y="5"/>
                        </a:lnTo>
                        <a:lnTo>
                          <a:pt x="520" y="3"/>
                        </a:lnTo>
                        <a:lnTo>
                          <a:pt x="520" y="3"/>
                        </a:lnTo>
                        <a:lnTo>
                          <a:pt x="52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191960" y="1936440"/>
                    <a:ext cx="82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5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518" y="5"/>
                        </a:lnTo>
                        <a:lnTo>
                          <a:pt x="518" y="5"/>
                        </a:lnTo>
                        <a:lnTo>
                          <a:pt x="518" y="2"/>
                        </a:lnTo>
                        <a:lnTo>
                          <a:pt x="516" y="2"/>
                        </a:lnTo>
                        <a:lnTo>
                          <a:pt x="5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1191960" y="1933560"/>
                    <a:ext cx="8222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8" h="4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518" y="4"/>
                        </a:lnTo>
                        <a:lnTo>
                          <a:pt x="516" y="4"/>
                        </a:lnTo>
                        <a:lnTo>
                          <a:pt x="516" y="2"/>
                        </a:lnTo>
                        <a:lnTo>
                          <a:pt x="516" y="2"/>
                        </a:lnTo>
                        <a:lnTo>
                          <a:pt x="516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1191960" y="1930320"/>
                    <a:ext cx="8193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4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0" y="4"/>
                        </a:lnTo>
                        <a:lnTo>
                          <a:pt x="516" y="4"/>
                        </a:lnTo>
                        <a:lnTo>
                          <a:pt x="516" y="4"/>
                        </a:lnTo>
                        <a:lnTo>
                          <a:pt x="516" y="2"/>
                        </a:lnTo>
                        <a:lnTo>
                          <a:pt x="516" y="2"/>
                        </a:lnTo>
                        <a:lnTo>
                          <a:pt x="514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196640" y="1930320"/>
                    <a:ext cx="81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2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513" y="2"/>
                        </a:lnTo>
                        <a:lnTo>
                          <a:pt x="513" y="2"/>
                        </a:lnTo>
                        <a:lnTo>
                          <a:pt x="511" y="0"/>
                        </a:lnTo>
                        <a:lnTo>
                          <a:pt x="511" y="0"/>
                        </a:lnTo>
                        <a:lnTo>
                          <a:pt x="511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1196640" y="1922400"/>
                    <a:ext cx="811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5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511" y="5"/>
                        </a:lnTo>
                        <a:lnTo>
                          <a:pt x="511" y="5"/>
                        </a:lnTo>
                        <a:lnTo>
                          <a:pt x="511" y="2"/>
                        </a:lnTo>
                        <a:lnTo>
                          <a:pt x="511" y="2"/>
                        </a:lnTo>
                        <a:lnTo>
                          <a:pt x="511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1199880" y="1922400"/>
                    <a:ext cx="8082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5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09" y="5"/>
                        </a:lnTo>
                        <a:lnTo>
                          <a:pt x="509" y="2"/>
                        </a:lnTo>
                        <a:lnTo>
                          <a:pt x="509" y="0"/>
                        </a:lnTo>
                        <a:lnTo>
                          <a:pt x="506" y="0"/>
                        </a:lnTo>
                        <a:lnTo>
                          <a:pt x="506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199880" y="1919160"/>
                    <a:ext cx="808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2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509" y="2"/>
                        </a:lnTo>
                        <a:lnTo>
                          <a:pt x="506" y="2"/>
                        </a:lnTo>
                        <a:lnTo>
                          <a:pt x="506" y="0"/>
                        </a:lnTo>
                        <a:lnTo>
                          <a:pt x="506" y="0"/>
                        </a:lnTo>
                        <a:lnTo>
                          <a:pt x="506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203120" y="1915920"/>
                    <a:ext cx="800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4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04" y="4"/>
                        </a:lnTo>
                        <a:lnTo>
                          <a:pt x="504" y="2"/>
                        </a:lnTo>
                        <a:lnTo>
                          <a:pt x="504" y="2"/>
                        </a:lnTo>
                        <a:lnTo>
                          <a:pt x="502" y="0"/>
                        </a:lnTo>
                        <a:lnTo>
                          <a:pt x="50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1203120" y="1912680"/>
                    <a:ext cx="800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4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504" y="4"/>
                        </a:lnTo>
                        <a:lnTo>
                          <a:pt x="502" y="2"/>
                        </a:lnTo>
                        <a:lnTo>
                          <a:pt x="502" y="2"/>
                        </a:lnTo>
                        <a:lnTo>
                          <a:pt x="502" y="0"/>
                        </a:lnTo>
                        <a:lnTo>
                          <a:pt x="50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1206360" y="1908000"/>
                    <a:ext cx="79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500" y="5"/>
                        </a:lnTo>
                        <a:lnTo>
                          <a:pt x="500" y="3"/>
                        </a:lnTo>
                        <a:lnTo>
                          <a:pt x="500" y="3"/>
                        </a:lnTo>
                        <a:lnTo>
                          <a:pt x="498" y="0"/>
                        </a:lnTo>
                        <a:lnTo>
                          <a:pt x="498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1206360" y="1904760"/>
                    <a:ext cx="793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5">
                        <a:moveTo>
                          <a:pt x="3" y="0"/>
                        </a:move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500" y="5"/>
                        </a:lnTo>
                        <a:lnTo>
                          <a:pt x="498" y="2"/>
                        </a:lnTo>
                        <a:lnTo>
                          <a:pt x="498" y="2"/>
                        </a:lnTo>
                        <a:lnTo>
                          <a:pt x="498" y="0"/>
                        </a:lnTo>
                        <a:lnTo>
                          <a:pt x="498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211040" y="1901520"/>
                    <a:ext cx="7858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5" h="4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495" y="4"/>
                        </a:lnTo>
                        <a:lnTo>
                          <a:pt x="495" y="2"/>
                        </a:lnTo>
                        <a:lnTo>
                          <a:pt x="495" y="2"/>
                        </a:lnTo>
                        <a:lnTo>
                          <a:pt x="493" y="0"/>
                        </a:lnTo>
                        <a:lnTo>
                          <a:pt x="493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1211040" y="1898640"/>
                    <a:ext cx="78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5" h="4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495" y="4"/>
                        </a:lnTo>
                        <a:lnTo>
                          <a:pt x="493" y="2"/>
                        </a:lnTo>
                        <a:lnTo>
                          <a:pt x="493" y="2"/>
                        </a:lnTo>
                        <a:lnTo>
                          <a:pt x="493" y="0"/>
                        </a:lnTo>
                        <a:lnTo>
                          <a:pt x="493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1214280" y="1893600"/>
                    <a:ext cx="779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491" y="5"/>
                        </a:lnTo>
                        <a:lnTo>
                          <a:pt x="491" y="3"/>
                        </a:lnTo>
                        <a:lnTo>
                          <a:pt x="491" y="3"/>
                        </a:lnTo>
                        <a:lnTo>
                          <a:pt x="488" y="0"/>
                        </a:lnTo>
                        <a:lnTo>
                          <a:pt x="48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1214280" y="1890360"/>
                    <a:ext cx="77940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491" y="5"/>
                        </a:lnTo>
                        <a:lnTo>
                          <a:pt x="488" y="2"/>
                        </a:lnTo>
                        <a:lnTo>
                          <a:pt x="488" y="2"/>
                        </a:lnTo>
                        <a:lnTo>
                          <a:pt x="488" y="0"/>
                        </a:lnTo>
                        <a:lnTo>
                          <a:pt x="48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217520" y="1887480"/>
                    <a:ext cx="771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486" y="4"/>
                        </a:lnTo>
                        <a:lnTo>
                          <a:pt x="486" y="2"/>
                        </a:lnTo>
                        <a:lnTo>
                          <a:pt x="486" y="2"/>
                        </a:lnTo>
                        <a:lnTo>
                          <a:pt x="484" y="0"/>
                        </a:lnTo>
                        <a:lnTo>
                          <a:pt x="48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217520" y="1884240"/>
                    <a:ext cx="771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4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486" y="4"/>
                        </a:lnTo>
                        <a:lnTo>
                          <a:pt x="484" y="2"/>
                        </a:lnTo>
                        <a:lnTo>
                          <a:pt x="484" y="2"/>
                        </a:lnTo>
                        <a:lnTo>
                          <a:pt x="484" y="0"/>
                        </a:lnTo>
                        <a:lnTo>
                          <a:pt x="48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220760" y="1879560"/>
                    <a:ext cx="7650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2" h="5">
                        <a:moveTo>
                          <a:pt x="3" y="0"/>
                        </a:move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482" y="5"/>
                        </a:lnTo>
                        <a:lnTo>
                          <a:pt x="482" y="3"/>
                        </a:lnTo>
                        <a:lnTo>
                          <a:pt x="482" y="3"/>
                        </a:lnTo>
                        <a:lnTo>
                          <a:pt x="480" y="0"/>
                        </a:lnTo>
                        <a:lnTo>
                          <a:pt x="48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220760" y="1876320"/>
                    <a:ext cx="761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5">
                        <a:moveTo>
                          <a:pt x="3" y="0"/>
                        </a:move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0" y="5"/>
                        </a:lnTo>
                        <a:lnTo>
                          <a:pt x="480" y="5"/>
                        </a:lnTo>
                        <a:lnTo>
                          <a:pt x="480" y="2"/>
                        </a:lnTo>
                        <a:lnTo>
                          <a:pt x="480" y="2"/>
                        </a:lnTo>
                        <a:lnTo>
                          <a:pt x="480" y="0"/>
                        </a:lnTo>
                        <a:lnTo>
                          <a:pt x="478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1225440" y="1873080"/>
                    <a:ext cx="757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7" h="4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477" y="4"/>
                        </a:lnTo>
                        <a:lnTo>
                          <a:pt x="477" y="2"/>
                        </a:lnTo>
                        <a:lnTo>
                          <a:pt x="475" y="2"/>
                        </a:lnTo>
                        <a:lnTo>
                          <a:pt x="475" y="0"/>
                        </a:lnTo>
                        <a:lnTo>
                          <a:pt x="475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1225440" y="1869840"/>
                    <a:ext cx="753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4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475" y="4"/>
                        </a:lnTo>
                        <a:lnTo>
                          <a:pt x="475" y="2"/>
                        </a:lnTo>
                        <a:lnTo>
                          <a:pt x="475" y="2"/>
                        </a:lnTo>
                        <a:lnTo>
                          <a:pt x="472" y="0"/>
                        </a:lnTo>
                        <a:lnTo>
                          <a:pt x="472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1228680" y="1865160"/>
                    <a:ext cx="750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5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473" y="5"/>
                        </a:lnTo>
                        <a:lnTo>
                          <a:pt x="470" y="3"/>
                        </a:lnTo>
                        <a:lnTo>
                          <a:pt x="470" y="3"/>
                        </a:lnTo>
                        <a:lnTo>
                          <a:pt x="470" y="0"/>
                        </a:lnTo>
                        <a:lnTo>
                          <a:pt x="468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1231560" y="1861920"/>
                    <a:ext cx="743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5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468" y="5"/>
                        </a:lnTo>
                        <a:lnTo>
                          <a:pt x="468" y="2"/>
                        </a:lnTo>
                        <a:lnTo>
                          <a:pt x="466" y="2"/>
                        </a:lnTo>
                        <a:lnTo>
                          <a:pt x="466" y="0"/>
                        </a:lnTo>
                        <a:lnTo>
                          <a:pt x="466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231560" y="1858680"/>
                    <a:ext cx="7398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4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466" y="4"/>
                        </a:lnTo>
                        <a:lnTo>
                          <a:pt x="466" y="2"/>
                        </a:lnTo>
                        <a:lnTo>
                          <a:pt x="466" y="2"/>
                        </a:lnTo>
                        <a:lnTo>
                          <a:pt x="464" y="0"/>
                        </a:lnTo>
                        <a:lnTo>
                          <a:pt x="464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234800" y="1855440"/>
                    <a:ext cx="7365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4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464" y="4"/>
                        </a:lnTo>
                        <a:lnTo>
                          <a:pt x="462" y="2"/>
                        </a:lnTo>
                        <a:lnTo>
                          <a:pt x="462" y="2"/>
                        </a:lnTo>
                        <a:lnTo>
                          <a:pt x="462" y="0"/>
                        </a:lnTo>
                        <a:lnTo>
                          <a:pt x="46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238040" y="1850760"/>
                    <a:ext cx="730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0" h="5">
                        <a:moveTo>
                          <a:pt x="3" y="0"/>
                        </a:moveTo>
                        <a:lnTo>
                          <a:pt x="3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460" y="5"/>
                        </a:lnTo>
                        <a:lnTo>
                          <a:pt x="460" y="3"/>
                        </a:lnTo>
                        <a:lnTo>
                          <a:pt x="458" y="3"/>
                        </a:lnTo>
                        <a:lnTo>
                          <a:pt x="458" y="0"/>
                        </a:lnTo>
                        <a:lnTo>
                          <a:pt x="458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6" name=""/>
                <p:cNvSpPr/>
                <p:nvPr/>
              </p:nvSpPr>
              <p:spPr>
                <a:xfrm>
                  <a:off x="1238040" y="1847520"/>
                  <a:ext cx="727200" cy="7920"/>
                </a:xfrm>
                <a:custGeom>
                  <a:avLst/>
                  <a:gdLst/>
                  <a:ahLst/>
                  <a:rect l="l" t="t" r="r" b="b"/>
                  <a:pathLst>
                    <a:path w="458" h="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458" y="5"/>
                      </a:lnTo>
                      <a:lnTo>
                        <a:pt x="458" y="2"/>
                      </a:lnTo>
                      <a:lnTo>
                        <a:pt x="458" y="2"/>
                      </a:lnTo>
                      <a:lnTo>
                        <a:pt x="455" y="0"/>
                      </a:lnTo>
                      <a:lnTo>
                        <a:pt x="45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242720" y="1844640"/>
                  <a:ext cx="722520" cy="6120"/>
                </a:xfrm>
                <a:custGeom>
                  <a:avLst/>
                  <a:gdLst/>
                  <a:ahLst/>
                  <a:rect l="l" t="t" r="r" b="b"/>
                  <a:pathLst>
                    <a:path w="455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55" y="4"/>
                      </a:lnTo>
                      <a:lnTo>
                        <a:pt x="452" y="2"/>
                      </a:lnTo>
                      <a:lnTo>
                        <a:pt x="452" y="2"/>
                      </a:lnTo>
                      <a:lnTo>
                        <a:pt x="452" y="0"/>
                      </a:lnTo>
                      <a:lnTo>
                        <a:pt x="45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245960" y="1841400"/>
                  <a:ext cx="714600" cy="6120"/>
                </a:xfrm>
                <a:custGeom>
                  <a:avLst/>
                  <a:gdLst/>
                  <a:ahLst/>
                  <a:rect l="l" t="t" r="r" b="b"/>
                  <a:pathLst>
                    <a:path w="450" h="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450" y="4"/>
                      </a:lnTo>
                      <a:lnTo>
                        <a:pt x="450" y="2"/>
                      </a:lnTo>
                      <a:lnTo>
                        <a:pt x="448" y="2"/>
                      </a:lnTo>
                      <a:lnTo>
                        <a:pt x="448" y="2"/>
                      </a:lnTo>
                      <a:lnTo>
                        <a:pt x="448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245960" y="1836720"/>
                  <a:ext cx="711360" cy="7920"/>
                </a:xfrm>
                <a:custGeom>
                  <a:avLst/>
                  <a:gdLst/>
                  <a:ahLst/>
                  <a:rect l="l" t="t" r="r" b="b"/>
                  <a:pathLst>
                    <a:path w="448" h="5">
                      <a:moveTo>
                        <a:pt x="4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448" y="5"/>
                      </a:lnTo>
                      <a:lnTo>
                        <a:pt x="448" y="3"/>
                      </a:lnTo>
                      <a:lnTo>
                        <a:pt x="448" y="3"/>
                      </a:lnTo>
                      <a:lnTo>
                        <a:pt x="446" y="3"/>
                      </a:lnTo>
                      <a:lnTo>
                        <a:pt x="44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1249200" y="1833480"/>
                  <a:ext cx="708120" cy="7920"/>
                </a:xfrm>
                <a:custGeom>
                  <a:avLst/>
                  <a:gdLst/>
                  <a:ahLst/>
                  <a:rect l="l" t="t" r="r" b="b"/>
                  <a:pathLst>
                    <a:path w="446" h="5">
                      <a:moveTo>
                        <a:pt x="5" y="0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446" y="5"/>
                      </a:lnTo>
                      <a:lnTo>
                        <a:pt x="444" y="5"/>
                      </a:lnTo>
                      <a:lnTo>
                        <a:pt x="444" y="2"/>
                      </a:lnTo>
                      <a:lnTo>
                        <a:pt x="444" y="2"/>
                      </a:lnTo>
                      <a:lnTo>
                        <a:pt x="44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52440" y="1830240"/>
                  <a:ext cx="701640" cy="6480"/>
                </a:xfrm>
                <a:custGeom>
                  <a:avLst/>
                  <a:gdLst/>
                  <a:ahLst/>
                  <a:rect l="l" t="t" r="r" b="b"/>
                  <a:pathLst>
                    <a:path w="442" h="4">
                      <a:moveTo>
                        <a:pt x="3" y="0"/>
                      </a:move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42" y="4"/>
                      </a:lnTo>
                      <a:lnTo>
                        <a:pt x="442" y="4"/>
                      </a:lnTo>
                      <a:lnTo>
                        <a:pt x="440" y="2"/>
                      </a:lnTo>
                      <a:lnTo>
                        <a:pt x="440" y="2"/>
                      </a:lnTo>
                      <a:lnTo>
                        <a:pt x="438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57120" y="1827000"/>
                  <a:ext cx="693720" cy="6480"/>
                </a:xfrm>
                <a:custGeom>
                  <a:avLst/>
                  <a:gdLst/>
                  <a:ahLst/>
                  <a:rect l="l" t="t" r="r" b="b"/>
                  <a:pathLst>
                    <a:path w="437" h="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37" y="4"/>
                      </a:lnTo>
                      <a:lnTo>
                        <a:pt x="437" y="4"/>
                      </a:lnTo>
                      <a:lnTo>
                        <a:pt x="435" y="2"/>
                      </a:lnTo>
                      <a:lnTo>
                        <a:pt x="435" y="2"/>
                      </a:lnTo>
                      <a:lnTo>
                        <a:pt x="435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257120" y="1822320"/>
                  <a:ext cx="690480" cy="7920"/>
                </a:xfrm>
                <a:custGeom>
                  <a:avLst/>
                  <a:gdLst/>
                  <a:ahLst/>
                  <a:rect l="l" t="t" r="r" b="b"/>
                  <a:pathLst>
                    <a:path w="435" h="5">
                      <a:moveTo>
                        <a:pt x="4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435" y="5"/>
                      </a:lnTo>
                      <a:lnTo>
                        <a:pt x="435" y="5"/>
                      </a:lnTo>
                      <a:lnTo>
                        <a:pt x="435" y="3"/>
                      </a:lnTo>
                      <a:lnTo>
                        <a:pt x="432" y="3"/>
                      </a:lnTo>
                      <a:lnTo>
                        <a:pt x="43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0360" y="1819080"/>
                  <a:ext cx="687240" cy="7920"/>
                </a:xfrm>
                <a:custGeom>
                  <a:avLst/>
                  <a:gdLst/>
                  <a:ahLst/>
                  <a:rect l="l" t="t" r="r" b="b"/>
                  <a:pathLst>
                    <a:path w="433" h="5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433" y="5"/>
                      </a:lnTo>
                      <a:lnTo>
                        <a:pt x="430" y="5"/>
                      </a:lnTo>
                      <a:lnTo>
                        <a:pt x="430" y="2"/>
                      </a:lnTo>
                      <a:lnTo>
                        <a:pt x="428" y="2"/>
                      </a:lnTo>
                      <a:lnTo>
                        <a:pt x="42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3600" y="1815840"/>
                  <a:ext cx="679320" cy="6480"/>
                </a:xfrm>
                <a:custGeom>
                  <a:avLst/>
                  <a:gdLst/>
                  <a:ahLst/>
                  <a:rect l="l" t="t" r="r" b="b"/>
                  <a:pathLst>
                    <a:path w="428" h="4">
                      <a:moveTo>
                        <a:pt x="5" y="0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28" y="4"/>
                      </a:lnTo>
                      <a:lnTo>
                        <a:pt x="426" y="4"/>
                      </a:lnTo>
                      <a:lnTo>
                        <a:pt x="426" y="2"/>
                      </a:lnTo>
                      <a:lnTo>
                        <a:pt x="426" y="2"/>
                      </a:lnTo>
                      <a:lnTo>
                        <a:pt x="424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66480" y="1812600"/>
                  <a:ext cx="673200" cy="6480"/>
                </a:xfrm>
                <a:custGeom>
                  <a:avLst/>
                  <a:gdLst/>
                  <a:ahLst/>
                  <a:rect l="l" t="t" r="r" b="b"/>
                  <a:pathLst>
                    <a:path w="424" h="4">
                      <a:moveTo>
                        <a:pt x="3" y="0"/>
                      </a:move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24" y="4"/>
                      </a:lnTo>
                      <a:lnTo>
                        <a:pt x="424" y="4"/>
                      </a:lnTo>
                      <a:lnTo>
                        <a:pt x="422" y="2"/>
                      </a:lnTo>
                      <a:lnTo>
                        <a:pt x="422" y="2"/>
                      </a:lnTo>
                      <a:lnTo>
                        <a:pt x="42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1520" y="1809720"/>
                  <a:ext cx="664920" cy="6120"/>
                </a:xfrm>
                <a:custGeom>
                  <a:avLst/>
                  <a:gdLst/>
                  <a:ahLst/>
                  <a:rect l="l" t="t" r="r" b="b"/>
                  <a:pathLst>
                    <a:path w="419" h="4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19" y="4"/>
                      </a:lnTo>
                      <a:lnTo>
                        <a:pt x="419" y="4"/>
                      </a:lnTo>
                      <a:lnTo>
                        <a:pt x="417" y="2"/>
                      </a:lnTo>
                      <a:lnTo>
                        <a:pt x="417" y="2"/>
                      </a:lnTo>
                      <a:lnTo>
                        <a:pt x="41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1520" y="1804680"/>
                  <a:ext cx="662040" cy="7920"/>
                </a:xfrm>
                <a:custGeom>
                  <a:avLst/>
                  <a:gdLst/>
                  <a:ahLst/>
                  <a:rect l="l" t="t" r="r" b="b"/>
                  <a:pathLst>
                    <a:path w="417" h="5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417" y="5"/>
                      </a:lnTo>
                      <a:lnTo>
                        <a:pt x="417" y="5"/>
                      </a:lnTo>
                      <a:lnTo>
                        <a:pt x="414" y="3"/>
                      </a:lnTo>
                      <a:lnTo>
                        <a:pt x="414" y="3"/>
                      </a:lnTo>
                      <a:lnTo>
                        <a:pt x="41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74760" y="1801800"/>
                  <a:ext cx="653760" cy="7920"/>
                </a:xfrm>
                <a:custGeom>
                  <a:avLst/>
                  <a:gdLst/>
                  <a:ahLst/>
                  <a:rect l="l" t="t" r="r" b="b"/>
                  <a:pathLst>
                    <a:path w="412" h="5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412" y="5"/>
                      </a:lnTo>
                      <a:lnTo>
                        <a:pt x="412" y="5"/>
                      </a:lnTo>
                      <a:lnTo>
                        <a:pt x="412" y="2"/>
                      </a:lnTo>
                      <a:lnTo>
                        <a:pt x="410" y="2"/>
                      </a:lnTo>
                      <a:lnTo>
                        <a:pt x="41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77640" y="1798560"/>
                  <a:ext cx="650880" cy="6120"/>
                </a:xfrm>
                <a:custGeom>
                  <a:avLst/>
                  <a:gdLst/>
                  <a:ahLst/>
                  <a:rect l="l" t="t" r="r" b="b"/>
                  <a:pathLst>
                    <a:path w="410" h="4">
                      <a:moveTo>
                        <a:pt x="5" y="0"/>
                      </a:move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410" y="4"/>
                      </a:lnTo>
                      <a:lnTo>
                        <a:pt x="408" y="4"/>
                      </a:lnTo>
                      <a:lnTo>
                        <a:pt x="408" y="2"/>
                      </a:lnTo>
                      <a:lnTo>
                        <a:pt x="406" y="2"/>
                      </a:lnTo>
                      <a:lnTo>
                        <a:pt x="406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80880" y="1795320"/>
                  <a:ext cx="644400" cy="6480"/>
                </a:xfrm>
                <a:custGeom>
                  <a:avLst/>
                  <a:gdLst/>
                  <a:ahLst/>
                  <a:rect l="l" t="t" r="r" b="b"/>
                  <a:pathLst>
                    <a:path w="406" h="4">
                      <a:moveTo>
                        <a:pt x="5" y="0"/>
                      </a:move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406" y="4"/>
                      </a:lnTo>
                      <a:lnTo>
                        <a:pt x="404" y="4"/>
                      </a:lnTo>
                      <a:lnTo>
                        <a:pt x="404" y="2"/>
                      </a:lnTo>
                      <a:lnTo>
                        <a:pt x="402" y="2"/>
                      </a:lnTo>
                      <a:lnTo>
                        <a:pt x="40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85560" y="1790640"/>
                  <a:ext cx="636840" cy="7920"/>
                </a:xfrm>
                <a:custGeom>
                  <a:avLst/>
                  <a:gdLst/>
                  <a:ahLst/>
                  <a:rect l="l" t="t" r="r" b="b"/>
                  <a:pathLst>
                    <a:path w="401" h="5">
                      <a:moveTo>
                        <a:pt x="4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401" y="5"/>
                      </a:lnTo>
                      <a:lnTo>
                        <a:pt x="399" y="5"/>
                      </a:lnTo>
                      <a:lnTo>
                        <a:pt x="399" y="3"/>
                      </a:lnTo>
                      <a:lnTo>
                        <a:pt x="396" y="3"/>
                      </a:lnTo>
                      <a:lnTo>
                        <a:pt x="39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288800" y="1787400"/>
                  <a:ext cx="630360" cy="7920"/>
                </a:xfrm>
                <a:custGeom>
                  <a:avLst/>
                  <a:gdLst/>
                  <a:ahLst/>
                  <a:rect l="l" t="t" r="r" b="b"/>
                  <a:pathLst>
                    <a:path w="397" h="5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97" y="5"/>
                      </a:lnTo>
                      <a:lnTo>
                        <a:pt x="394" y="5"/>
                      </a:lnTo>
                      <a:lnTo>
                        <a:pt x="394" y="2"/>
                      </a:lnTo>
                      <a:lnTo>
                        <a:pt x="392" y="2"/>
                      </a:lnTo>
                      <a:lnTo>
                        <a:pt x="39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292040" y="1784160"/>
                  <a:ext cx="622440" cy="6480"/>
                </a:xfrm>
                <a:custGeom>
                  <a:avLst/>
                  <a:gdLst/>
                  <a:ahLst/>
                  <a:rect l="l" t="t" r="r" b="b"/>
                  <a:pathLst>
                    <a:path w="392" h="4">
                      <a:moveTo>
                        <a:pt x="5" y="0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92" y="4"/>
                      </a:lnTo>
                      <a:lnTo>
                        <a:pt x="390" y="4"/>
                      </a:lnTo>
                      <a:lnTo>
                        <a:pt x="390" y="2"/>
                      </a:lnTo>
                      <a:lnTo>
                        <a:pt x="388" y="2"/>
                      </a:lnTo>
                      <a:lnTo>
                        <a:pt x="38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295280" y="1780920"/>
                  <a:ext cx="615960" cy="6480"/>
                </a:xfrm>
                <a:custGeom>
                  <a:avLst/>
                  <a:gdLst/>
                  <a:ahLst/>
                  <a:rect l="l" t="t" r="r" b="b"/>
                  <a:pathLst>
                    <a:path w="388" h="4">
                      <a:moveTo>
                        <a:pt x="5" y="0"/>
                      </a:move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88" y="4"/>
                      </a:lnTo>
                      <a:lnTo>
                        <a:pt x="386" y="4"/>
                      </a:lnTo>
                      <a:lnTo>
                        <a:pt x="386" y="2"/>
                      </a:lnTo>
                      <a:lnTo>
                        <a:pt x="384" y="2"/>
                      </a:lnTo>
                      <a:lnTo>
                        <a:pt x="384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299960" y="1776240"/>
                  <a:ext cx="608040" cy="7920"/>
                </a:xfrm>
                <a:custGeom>
                  <a:avLst/>
                  <a:gdLst/>
                  <a:ahLst/>
                  <a:rect l="l" t="t" r="r" b="b"/>
                  <a:pathLst>
                    <a:path w="383" h="5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383" y="5"/>
                      </a:lnTo>
                      <a:lnTo>
                        <a:pt x="381" y="5"/>
                      </a:lnTo>
                      <a:lnTo>
                        <a:pt x="381" y="3"/>
                      </a:lnTo>
                      <a:lnTo>
                        <a:pt x="378" y="3"/>
                      </a:lnTo>
                      <a:lnTo>
                        <a:pt x="378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03200" y="1773000"/>
                  <a:ext cx="601560" cy="7920"/>
                </a:xfrm>
                <a:custGeom>
                  <a:avLst/>
                  <a:gdLst/>
                  <a:ahLst/>
                  <a:rect l="l" t="t" r="r" b="b"/>
                  <a:pathLst>
                    <a:path w="379" h="5">
                      <a:moveTo>
                        <a:pt x="4" y="0"/>
                      </a:move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379" y="5"/>
                      </a:lnTo>
                      <a:lnTo>
                        <a:pt x="376" y="5"/>
                      </a:lnTo>
                      <a:lnTo>
                        <a:pt x="376" y="2"/>
                      </a:lnTo>
                      <a:lnTo>
                        <a:pt x="374" y="2"/>
                      </a:lnTo>
                      <a:lnTo>
                        <a:pt x="37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06440" y="1769760"/>
                  <a:ext cx="593640" cy="6480"/>
                </a:xfrm>
                <a:custGeom>
                  <a:avLst/>
                  <a:gdLst/>
                  <a:ahLst/>
                  <a:rect l="l" t="t" r="r" b="b"/>
                  <a:pathLst>
                    <a:path w="374" h="4">
                      <a:moveTo>
                        <a:pt x="5" y="0"/>
                      </a:move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374" y="4"/>
                      </a:lnTo>
                      <a:lnTo>
                        <a:pt x="372" y="4"/>
                      </a:lnTo>
                      <a:lnTo>
                        <a:pt x="372" y="2"/>
                      </a:lnTo>
                      <a:lnTo>
                        <a:pt x="370" y="2"/>
                      </a:lnTo>
                      <a:lnTo>
                        <a:pt x="37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09680" y="1766880"/>
                  <a:ext cx="587160" cy="6120"/>
                </a:xfrm>
                <a:custGeom>
                  <a:avLst/>
                  <a:gdLst/>
                  <a:ahLst/>
                  <a:rect l="l" t="t" r="r" b="b"/>
                  <a:pathLst>
                    <a:path w="370" h="4">
                      <a:moveTo>
                        <a:pt x="5" y="0"/>
                      </a:move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370" y="4"/>
                      </a:lnTo>
                      <a:lnTo>
                        <a:pt x="368" y="4"/>
                      </a:lnTo>
                      <a:lnTo>
                        <a:pt x="366" y="2"/>
                      </a:lnTo>
                      <a:lnTo>
                        <a:pt x="366" y="2"/>
                      </a:lnTo>
                      <a:lnTo>
                        <a:pt x="363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14360" y="1761840"/>
                  <a:ext cx="579240" cy="7920"/>
                </a:xfrm>
                <a:custGeom>
                  <a:avLst/>
                  <a:gdLst/>
                  <a:ahLst/>
                  <a:rect l="l" t="t" r="r" b="b"/>
                  <a:pathLst>
                    <a:path w="365" h="5">
                      <a:moveTo>
                        <a:pt x="6" y="0"/>
                      </a:move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365" y="5"/>
                      </a:lnTo>
                      <a:lnTo>
                        <a:pt x="363" y="5"/>
                      </a:lnTo>
                      <a:lnTo>
                        <a:pt x="360" y="3"/>
                      </a:lnTo>
                      <a:lnTo>
                        <a:pt x="360" y="3"/>
                      </a:lnTo>
                      <a:lnTo>
                        <a:pt x="35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17600" y="1758600"/>
                  <a:ext cx="568080" cy="8280"/>
                </a:xfrm>
                <a:custGeom>
                  <a:avLst/>
                  <a:gdLst/>
                  <a:ahLst/>
                  <a:rect l="l" t="t" r="r" b="b"/>
                  <a:pathLst>
                    <a:path w="358" h="5">
                      <a:moveTo>
                        <a:pt x="7" y="0"/>
                      </a:move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358" y="5"/>
                      </a:lnTo>
                      <a:lnTo>
                        <a:pt x="358" y="5"/>
                      </a:lnTo>
                      <a:lnTo>
                        <a:pt x="356" y="2"/>
                      </a:lnTo>
                      <a:lnTo>
                        <a:pt x="356" y="2"/>
                      </a:lnTo>
                      <a:lnTo>
                        <a:pt x="35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23720" y="1755720"/>
                  <a:ext cx="558720" cy="6120"/>
                </a:xfrm>
                <a:custGeom>
                  <a:avLst/>
                  <a:gdLst/>
                  <a:ahLst/>
                  <a:rect l="l" t="t" r="r" b="b"/>
                  <a:pathLst>
                    <a:path w="352" h="4">
                      <a:moveTo>
                        <a:pt x="5" y="0"/>
                      </a:move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52" y="4"/>
                      </a:lnTo>
                      <a:lnTo>
                        <a:pt x="352" y="4"/>
                      </a:lnTo>
                      <a:lnTo>
                        <a:pt x="350" y="2"/>
                      </a:lnTo>
                      <a:lnTo>
                        <a:pt x="348" y="2"/>
                      </a:lnTo>
                      <a:lnTo>
                        <a:pt x="34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28400" y="1755720"/>
                  <a:ext cx="551160" cy="2880"/>
                </a:xfrm>
                <a:custGeom>
                  <a:avLst/>
                  <a:gdLst/>
                  <a:ahLst/>
                  <a:rect l="l" t="t" r="r" b="b"/>
                  <a:pathLst>
                    <a:path w="347" h="2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47" y="2"/>
                      </a:lnTo>
                      <a:lnTo>
                        <a:pt x="345" y="2"/>
                      </a:lnTo>
                      <a:lnTo>
                        <a:pt x="345" y="0"/>
                      </a:lnTo>
                      <a:lnTo>
                        <a:pt x="342" y="0"/>
                      </a:lnTo>
                      <a:lnTo>
                        <a:pt x="34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31640" y="1752480"/>
                  <a:ext cx="544680" cy="3240"/>
                </a:xfrm>
                <a:custGeom>
                  <a:avLst/>
                  <a:gdLst/>
                  <a:ahLst/>
                  <a:rect l="l" t="t" r="r" b="b"/>
                  <a:pathLst>
                    <a:path w="343" h="2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343" y="2"/>
                      </a:lnTo>
                      <a:lnTo>
                        <a:pt x="340" y="2"/>
                      </a:lnTo>
                      <a:lnTo>
                        <a:pt x="338" y="0"/>
                      </a:lnTo>
                      <a:lnTo>
                        <a:pt x="338" y="0"/>
                      </a:lnTo>
                      <a:lnTo>
                        <a:pt x="33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34880" y="1747800"/>
                  <a:ext cx="533520" cy="7920"/>
                </a:xfrm>
                <a:custGeom>
                  <a:avLst/>
                  <a:gdLst/>
                  <a:ahLst/>
                  <a:rect l="l" t="t" r="r" b="b"/>
                  <a:pathLst>
                    <a:path w="336" h="5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336" y="5"/>
                      </a:lnTo>
                      <a:lnTo>
                        <a:pt x="336" y="3"/>
                      </a:lnTo>
                      <a:lnTo>
                        <a:pt x="334" y="3"/>
                      </a:lnTo>
                      <a:lnTo>
                        <a:pt x="334" y="0"/>
                      </a:lnTo>
                      <a:lnTo>
                        <a:pt x="332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41360" y="1744560"/>
                  <a:ext cx="523800" cy="7920"/>
                </a:xfrm>
                <a:custGeom>
                  <a:avLst/>
                  <a:gdLst/>
                  <a:ahLst/>
                  <a:rect l="l" t="t" r="r" b="b"/>
                  <a:pathLst>
                    <a:path w="330" h="5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30" y="5"/>
                      </a:lnTo>
                      <a:lnTo>
                        <a:pt x="330" y="2"/>
                      </a:lnTo>
                      <a:lnTo>
                        <a:pt x="328" y="2"/>
                      </a:lnTo>
                      <a:lnTo>
                        <a:pt x="325" y="0"/>
                      </a:lnTo>
                      <a:lnTo>
                        <a:pt x="32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46040" y="1741320"/>
                  <a:ext cx="515880" cy="6480"/>
                </a:xfrm>
                <a:custGeom>
                  <a:avLst/>
                  <a:gdLst/>
                  <a:ahLst/>
                  <a:rect l="l" t="t" r="r" b="b"/>
                  <a:pathLst>
                    <a:path w="325" h="4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325" y="4"/>
                      </a:lnTo>
                      <a:lnTo>
                        <a:pt x="322" y="2"/>
                      </a:lnTo>
                      <a:lnTo>
                        <a:pt x="322" y="2"/>
                      </a:lnTo>
                      <a:lnTo>
                        <a:pt x="320" y="0"/>
                      </a:lnTo>
                      <a:lnTo>
                        <a:pt x="31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49280" y="1738080"/>
                  <a:ext cx="507960" cy="6480"/>
                </a:xfrm>
                <a:custGeom>
                  <a:avLst/>
                  <a:gdLst/>
                  <a:ahLst/>
                  <a:rect l="l" t="t" r="r" b="b"/>
                  <a:pathLst>
                    <a:path w="320" h="4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320" y="4"/>
                      </a:lnTo>
                      <a:lnTo>
                        <a:pt x="318" y="2"/>
                      </a:lnTo>
                      <a:lnTo>
                        <a:pt x="316" y="2"/>
                      </a:lnTo>
                      <a:lnTo>
                        <a:pt x="314" y="0"/>
                      </a:lnTo>
                      <a:lnTo>
                        <a:pt x="314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55400" y="1733400"/>
                  <a:ext cx="495360" cy="7920"/>
                </a:xfrm>
                <a:custGeom>
                  <a:avLst/>
                  <a:gdLst/>
                  <a:ahLst/>
                  <a:rect l="l" t="t" r="r" b="b"/>
                  <a:pathLst>
                    <a:path w="312" h="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12" y="5"/>
                      </a:lnTo>
                      <a:lnTo>
                        <a:pt x="310" y="3"/>
                      </a:lnTo>
                      <a:lnTo>
                        <a:pt x="310" y="3"/>
                      </a:lnTo>
                      <a:lnTo>
                        <a:pt x="308" y="0"/>
                      </a:lnTo>
                      <a:lnTo>
                        <a:pt x="30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60440" y="1730160"/>
                  <a:ext cx="487080" cy="7920"/>
                </a:xfrm>
                <a:custGeom>
                  <a:avLst/>
                  <a:gdLst/>
                  <a:ahLst/>
                  <a:rect l="l" t="t" r="r" b="b"/>
                  <a:pathLst>
                    <a:path w="307" h="5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307" y="5"/>
                      </a:lnTo>
                      <a:lnTo>
                        <a:pt x="305" y="2"/>
                      </a:lnTo>
                      <a:lnTo>
                        <a:pt x="302" y="2"/>
                      </a:lnTo>
                      <a:lnTo>
                        <a:pt x="300" y="0"/>
                      </a:lnTo>
                      <a:lnTo>
                        <a:pt x="30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66560" y="1726920"/>
                  <a:ext cx="473040" cy="6480"/>
                </a:xfrm>
                <a:custGeom>
                  <a:avLst/>
                  <a:gdLst/>
                  <a:ahLst/>
                  <a:rect l="l" t="t" r="r" b="b"/>
                  <a:pathLst>
                    <a:path w="298" h="4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98" y="4"/>
                      </a:lnTo>
                      <a:lnTo>
                        <a:pt x="296" y="2"/>
                      </a:lnTo>
                      <a:lnTo>
                        <a:pt x="296" y="2"/>
                      </a:lnTo>
                      <a:lnTo>
                        <a:pt x="294" y="0"/>
                      </a:lnTo>
                      <a:lnTo>
                        <a:pt x="292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69800" y="1723680"/>
                  <a:ext cx="466920" cy="6480"/>
                </a:xfrm>
                <a:custGeom>
                  <a:avLst/>
                  <a:gdLst/>
                  <a:ahLst/>
                  <a:rect l="l" t="t" r="r" b="b"/>
                  <a:pathLst>
                    <a:path w="294" h="4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294" y="4"/>
                      </a:lnTo>
                      <a:lnTo>
                        <a:pt x="292" y="2"/>
                      </a:lnTo>
                      <a:lnTo>
                        <a:pt x="290" y="2"/>
                      </a:lnTo>
                      <a:lnTo>
                        <a:pt x="287" y="0"/>
                      </a:lnTo>
                      <a:lnTo>
                        <a:pt x="285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77720" y="1719000"/>
                  <a:ext cx="452520" cy="7920"/>
                </a:xfrm>
                <a:custGeom>
                  <a:avLst/>
                  <a:gdLst/>
                  <a:ahLst/>
                  <a:rect l="l" t="t" r="r" b="b"/>
                  <a:pathLst>
                    <a:path w="285" h="5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285" y="5"/>
                      </a:lnTo>
                      <a:lnTo>
                        <a:pt x="282" y="3"/>
                      </a:lnTo>
                      <a:lnTo>
                        <a:pt x="280" y="3"/>
                      </a:lnTo>
                      <a:lnTo>
                        <a:pt x="280" y="0"/>
                      </a:lnTo>
                      <a:lnTo>
                        <a:pt x="27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380960" y="1715760"/>
                  <a:ext cx="441360" cy="7920"/>
                </a:xfrm>
                <a:custGeom>
                  <a:avLst/>
                  <a:gdLst/>
                  <a:ahLst/>
                  <a:rect l="l" t="t" r="r" b="b"/>
                  <a:pathLst>
                    <a:path w="278" h="5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78" y="5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274" y="0"/>
                      </a:lnTo>
                      <a:lnTo>
                        <a:pt x="271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88880" y="1712880"/>
                  <a:ext cx="430200" cy="6120"/>
                </a:xfrm>
                <a:custGeom>
                  <a:avLst/>
                  <a:gdLst/>
                  <a:ahLst/>
                  <a:rect l="l" t="t" r="r" b="b"/>
                  <a:pathLst>
                    <a:path w="271" h="4">
                      <a:moveTo>
                        <a:pt x="9" y="0"/>
                      </a:move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71" y="4"/>
                      </a:lnTo>
                      <a:lnTo>
                        <a:pt x="269" y="2"/>
                      </a:lnTo>
                      <a:lnTo>
                        <a:pt x="266" y="2"/>
                      </a:lnTo>
                      <a:lnTo>
                        <a:pt x="264" y="0"/>
                      </a:lnTo>
                      <a:lnTo>
                        <a:pt x="262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95360" y="1709640"/>
                  <a:ext cx="415800" cy="6120"/>
                </a:xfrm>
                <a:custGeom>
                  <a:avLst/>
                  <a:gdLst/>
                  <a:ahLst/>
                  <a:rect l="l" t="t" r="r" b="b"/>
                  <a:pathLst>
                    <a:path w="262" h="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62" y="4"/>
                      </a:lnTo>
                      <a:lnTo>
                        <a:pt x="260" y="2"/>
                      </a:lnTo>
                      <a:lnTo>
                        <a:pt x="258" y="2"/>
                      </a:lnTo>
                      <a:lnTo>
                        <a:pt x="256" y="0"/>
                      </a:lnTo>
                      <a:lnTo>
                        <a:pt x="253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403280" y="1706400"/>
                  <a:ext cx="401400" cy="6480"/>
                </a:xfrm>
                <a:custGeom>
                  <a:avLst/>
                  <a:gdLst/>
                  <a:ahLst/>
                  <a:rect l="l" t="t" r="r" b="b"/>
                  <a:pathLst>
                    <a:path w="253" h="4">
                      <a:moveTo>
                        <a:pt x="9" y="0"/>
                      </a:move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53" y="4"/>
                      </a:lnTo>
                      <a:lnTo>
                        <a:pt x="251" y="2"/>
                      </a:lnTo>
                      <a:lnTo>
                        <a:pt x="248" y="2"/>
                      </a:lnTo>
                      <a:lnTo>
                        <a:pt x="246" y="0"/>
                      </a:lnTo>
                      <a:lnTo>
                        <a:pt x="24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409400" y="1701720"/>
                  <a:ext cx="387360" cy="7920"/>
                </a:xfrm>
                <a:custGeom>
                  <a:avLst/>
                  <a:gdLst/>
                  <a:ahLst/>
                  <a:rect l="l" t="t" r="r" b="b"/>
                  <a:pathLst>
                    <a:path w="244" h="5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244" y="5"/>
                      </a:lnTo>
                      <a:lnTo>
                        <a:pt x="242" y="3"/>
                      </a:lnTo>
                      <a:lnTo>
                        <a:pt x="240" y="3"/>
                      </a:lnTo>
                      <a:lnTo>
                        <a:pt x="238" y="0"/>
                      </a:lnTo>
                      <a:lnTo>
                        <a:pt x="23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417320" y="1698480"/>
                  <a:ext cx="373320" cy="7920"/>
                </a:xfrm>
                <a:custGeom>
                  <a:avLst/>
                  <a:gdLst/>
                  <a:ahLst/>
                  <a:rect l="l" t="t" r="r" b="b"/>
                  <a:pathLst>
                    <a:path w="235" h="5">
                      <a:moveTo>
                        <a:pt x="9" y="0"/>
                      </a:move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235" y="5"/>
                      </a:lnTo>
                      <a:lnTo>
                        <a:pt x="233" y="2"/>
                      </a:lnTo>
                      <a:lnTo>
                        <a:pt x="230" y="2"/>
                      </a:lnTo>
                      <a:lnTo>
                        <a:pt x="228" y="0"/>
                      </a:lnTo>
                      <a:lnTo>
                        <a:pt x="226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423800" y="1695240"/>
                  <a:ext cx="358920" cy="6480"/>
                </a:xfrm>
                <a:custGeom>
                  <a:avLst/>
                  <a:gdLst/>
                  <a:ahLst/>
                  <a:rect l="l" t="t" r="r" b="b"/>
                  <a:pathLst>
                    <a:path w="226" h="4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26" y="4"/>
                      </a:lnTo>
                      <a:lnTo>
                        <a:pt x="224" y="2"/>
                      </a:lnTo>
                      <a:lnTo>
                        <a:pt x="222" y="2"/>
                      </a:lnTo>
                      <a:lnTo>
                        <a:pt x="220" y="0"/>
                      </a:lnTo>
                      <a:lnTo>
                        <a:pt x="21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431720" y="1692000"/>
                  <a:ext cx="344520" cy="6480"/>
                </a:xfrm>
                <a:custGeom>
                  <a:avLst/>
                  <a:gdLst/>
                  <a:ahLst/>
                  <a:rect l="l" t="t" r="r" b="b"/>
                  <a:pathLst>
                    <a:path w="217" h="4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17" y="4"/>
                      </a:lnTo>
                      <a:lnTo>
                        <a:pt x="215" y="2"/>
                      </a:lnTo>
                      <a:lnTo>
                        <a:pt x="210" y="2"/>
                      </a:lnTo>
                      <a:lnTo>
                        <a:pt x="208" y="0"/>
                      </a:lnTo>
                      <a:lnTo>
                        <a:pt x="206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438200" y="1687320"/>
                  <a:ext cx="330120" cy="7920"/>
                </a:xfrm>
                <a:custGeom>
                  <a:avLst/>
                  <a:gdLst/>
                  <a:ahLst/>
                  <a:rect l="l" t="t" r="r" b="b"/>
                  <a:pathLst>
                    <a:path w="208" h="5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7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208" y="5"/>
                      </a:lnTo>
                      <a:lnTo>
                        <a:pt x="204" y="3"/>
                      </a:lnTo>
                      <a:lnTo>
                        <a:pt x="202" y="3"/>
                      </a:lnTo>
                      <a:lnTo>
                        <a:pt x="199" y="0"/>
                      </a:lnTo>
                      <a:lnTo>
                        <a:pt x="195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449360" y="1684080"/>
                  <a:ext cx="309240" cy="7920"/>
                </a:xfrm>
                <a:custGeom>
                  <a:avLst/>
                  <a:gdLst/>
                  <a:ahLst/>
                  <a:rect l="l" t="t" r="r" b="b"/>
                  <a:pathLst>
                    <a:path w="195" h="5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195" y="5"/>
                      </a:lnTo>
                      <a:lnTo>
                        <a:pt x="192" y="2"/>
                      </a:lnTo>
                      <a:lnTo>
                        <a:pt x="188" y="2"/>
                      </a:lnTo>
                      <a:lnTo>
                        <a:pt x="186" y="0"/>
                      </a:lnTo>
                      <a:lnTo>
                        <a:pt x="184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455480" y="1680840"/>
                  <a:ext cx="292320" cy="6480"/>
                </a:xfrm>
                <a:custGeom>
                  <a:avLst/>
                  <a:gdLst/>
                  <a:ahLst/>
                  <a:rect l="l" t="t" r="r" b="b"/>
                  <a:pathLst>
                    <a:path w="184" h="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0" y="4"/>
                      </a:lnTo>
                      <a:lnTo>
                        <a:pt x="184" y="4"/>
                      </a:lnTo>
                      <a:lnTo>
                        <a:pt x="182" y="2"/>
                      </a:lnTo>
                      <a:lnTo>
                        <a:pt x="177" y="2"/>
                      </a:lnTo>
                      <a:lnTo>
                        <a:pt x="175" y="0"/>
                      </a:lnTo>
                      <a:lnTo>
                        <a:pt x="171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66640" y="1677960"/>
                  <a:ext cx="274680" cy="6120"/>
                </a:xfrm>
                <a:custGeom>
                  <a:avLst/>
                  <a:gdLst/>
                  <a:ahLst/>
                  <a:rect l="l" t="t" r="r" b="b"/>
                  <a:pathLst>
                    <a:path w="173" h="4">
                      <a:moveTo>
                        <a:pt x="16" y="0"/>
                      </a:moveTo>
                      <a:lnTo>
                        <a:pt x="11" y="2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173" y="4"/>
                      </a:lnTo>
                      <a:lnTo>
                        <a:pt x="168" y="2"/>
                      </a:lnTo>
                      <a:lnTo>
                        <a:pt x="164" y="2"/>
                      </a:lnTo>
                      <a:lnTo>
                        <a:pt x="161" y="2"/>
                      </a:lnTo>
                      <a:lnTo>
                        <a:pt x="157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77800" y="1672920"/>
                  <a:ext cx="249120" cy="7920"/>
                </a:xfrm>
                <a:custGeom>
                  <a:avLst/>
                  <a:gdLst/>
                  <a:ahLst/>
                  <a:rect l="l" t="t" r="r" b="b"/>
                  <a:pathLst>
                    <a:path w="157" h="5">
                      <a:moveTo>
                        <a:pt x="18" y="0"/>
                      </a:moveTo>
                      <a:lnTo>
                        <a:pt x="13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0" y="5"/>
                      </a:lnTo>
                      <a:lnTo>
                        <a:pt x="157" y="5"/>
                      </a:lnTo>
                      <a:lnTo>
                        <a:pt x="154" y="3"/>
                      </a:lnTo>
                      <a:lnTo>
                        <a:pt x="150" y="3"/>
                      </a:lnTo>
                      <a:lnTo>
                        <a:pt x="145" y="0"/>
                      </a:lnTo>
                      <a:lnTo>
                        <a:pt x="141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492200" y="1670040"/>
                  <a:ext cx="223560" cy="7920"/>
                </a:xfrm>
                <a:custGeom>
                  <a:avLst/>
                  <a:gdLst/>
                  <a:ahLst/>
                  <a:rect l="l" t="t" r="r" b="b"/>
                  <a:pathLst>
                    <a:path w="141" h="5">
                      <a:moveTo>
                        <a:pt x="18" y="0"/>
                      </a:move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141" y="5"/>
                      </a:lnTo>
                      <a:lnTo>
                        <a:pt x="136" y="5"/>
                      </a:lnTo>
                      <a:lnTo>
                        <a:pt x="132" y="2"/>
                      </a:lnTo>
                      <a:lnTo>
                        <a:pt x="127" y="0"/>
                      </a:lnTo>
                      <a:lnTo>
                        <a:pt x="121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506240" y="1666800"/>
                  <a:ext cx="195480" cy="6120"/>
                </a:xfrm>
                <a:custGeom>
                  <a:avLst/>
                  <a:gdLst/>
                  <a:ahLst/>
                  <a:rect l="l" t="t" r="r" b="b"/>
                  <a:pathLst>
                    <a:path w="123" h="4">
                      <a:moveTo>
                        <a:pt x="22" y="0"/>
                      </a:moveTo>
                      <a:lnTo>
                        <a:pt x="15" y="0"/>
                      </a:lnTo>
                      <a:lnTo>
                        <a:pt x="11" y="2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123" y="4"/>
                      </a:lnTo>
                      <a:lnTo>
                        <a:pt x="118" y="4"/>
                      </a:lnTo>
                      <a:lnTo>
                        <a:pt x="112" y="2"/>
                      </a:lnTo>
                      <a:lnTo>
                        <a:pt x="105" y="0"/>
                      </a:lnTo>
                      <a:lnTo>
                        <a:pt x="100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520640" y="1663560"/>
                  <a:ext cx="163440" cy="6480"/>
                </a:xfrm>
                <a:custGeom>
                  <a:avLst/>
                  <a:gdLst/>
                  <a:ahLst/>
                  <a:rect l="l" t="t" r="r" b="b"/>
                  <a:pathLst>
                    <a:path w="103" h="4">
                      <a:moveTo>
                        <a:pt x="31" y="0"/>
                      </a:move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9" y="2"/>
                      </a:lnTo>
                      <a:lnTo>
                        <a:pt x="0" y="4"/>
                      </a:lnTo>
                      <a:lnTo>
                        <a:pt x="103" y="4"/>
                      </a:lnTo>
                      <a:lnTo>
                        <a:pt x="96" y="2"/>
                      </a:lnTo>
                      <a:lnTo>
                        <a:pt x="87" y="2"/>
                      </a:lnTo>
                      <a:lnTo>
                        <a:pt x="78" y="0"/>
                      </a:lnTo>
                      <a:lnTo>
                        <a:pt x="69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541160" y="1663560"/>
                  <a:ext cx="123840" cy="3240"/>
                </a:xfrm>
                <a:custGeom>
                  <a:avLst/>
                  <a:gdLst/>
                  <a:ahLst/>
                  <a:rect l="l" t="t" r="r" b="b"/>
                  <a:pathLst>
                    <a:path w="78" h="2">
                      <a:moveTo>
                        <a:pt x="0" y="2"/>
                      </a:moveTo>
                      <a:lnTo>
                        <a:pt x="7" y="2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8" y="0"/>
                      </a:lnTo>
                      <a:lnTo>
                        <a:pt x="47" y="0"/>
                      </a:lnTo>
                      <a:lnTo>
                        <a:pt x="58" y="0"/>
                      </a:lnTo>
                      <a:lnTo>
                        <a:pt x="67" y="2"/>
                      </a:lnTo>
                      <a:lnTo>
                        <a:pt x="78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569960" y="1663560"/>
                  <a:ext cx="60120" cy="1440"/>
                </a:xfrm>
                <a:custGeom>
                  <a:avLst/>
                  <a:gdLst/>
                  <a:ahLst/>
                  <a:rect l="l" t="t" r="r" b="b"/>
                  <a:pathLst>
                    <a:path w="38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4" y="0"/>
                      </a:lnTo>
                      <a:lnTo>
                        <a:pt x="3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160280" y="1663560"/>
                  <a:ext cx="885960" cy="880920"/>
                </a:xfrm>
                <a:custGeom>
                  <a:avLst/>
                  <a:gdLst/>
                  <a:ahLst/>
                  <a:rect l="l" t="t" r="r" b="b"/>
                  <a:pathLst>
                    <a:path w="558" h="555">
                      <a:moveTo>
                        <a:pt x="558" y="278"/>
                      </a:moveTo>
                      <a:lnTo>
                        <a:pt x="558" y="278"/>
                      </a:lnTo>
                      <a:lnTo>
                        <a:pt x="552" y="334"/>
                      </a:lnTo>
                      <a:lnTo>
                        <a:pt x="536" y="387"/>
                      </a:lnTo>
                      <a:lnTo>
                        <a:pt x="509" y="434"/>
                      </a:lnTo>
                      <a:lnTo>
                        <a:pt x="475" y="475"/>
                      </a:lnTo>
                      <a:lnTo>
                        <a:pt x="433" y="508"/>
                      </a:lnTo>
                      <a:lnTo>
                        <a:pt x="386" y="533"/>
                      </a:lnTo>
                      <a:lnTo>
                        <a:pt x="334" y="551"/>
                      </a:lnTo>
                      <a:lnTo>
                        <a:pt x="278" y="555"/>
                      </a:lnTo>
                      <a:lnTo>
                        <a:pt x="278" y="555"/>
                      </a:lnTo>
                      <a:lnTo>
                        <a:pt x="224" y="551"/>
                      </a:lnTo>
                      <a:lnTo>
                        <a:pt x="173" y="533"/>
                      </a:lnTo>
                      <a:lnTo>
                        <a:pt x="123" y="508"/>
                      </a:lnTo>
                      <a:lnTo>
                        <a:pt x="83" y="475"/>
                      </a:lnTo>
                      <a:lnTo>
                        <a:pt x="49" y="434"/>
                      </a:lnTo>
                      <a:lnTo>
                        <a:pt x="23" y="387"/>
                      </a:lnTo>
                      <a:lnTo>
                        <a:pt x="7" y="334"/>
                      </a:lnTo>
                      <a:lnTo>
                        <a:pt x="0" y="278"/>
                      </a:lnTo>
                      <a:lnTo>
                        <a:pt x="0" y="278"/>
                      </a:lnTo>
                      <a:lnTo>
                        <a:pt x="7" y="221"/>
                      </a:lnTo>
                      <a:lnTo>
                        <a:pt x="23" y="170"/>
                      </a:lnTo>
                      <a:lnTo>
                        <a:pt x="49" y="123"/>
                      </a:lnTo>
                      <a:lnTo>
                        <a:pt x="83" y="80"/>
                      </a:lnTo>
                      <a:lnTo>
                        <a:pt x="123" y="47"/>
                      </a:lnTo>
                      <a:lnTo>
                        <a:pt x="173" y="22"/>
                      </a:lnTo>
                      <a:lnTo>
                        <a:pt x="224" y="4"/>
                      </a:lnTo>
                      <a:lnTo>
                        <a:pt x="278" y="0"/>
                      </a:lnTo>
                      <a:lnTo>
                        <a:pt x="278" y="0"/>
                      </a:lnTo>
                      <a:lnTo>
                        <a:pt x="334" y="4"/>
                      </a:lnTo>
                      <a:lnTo>
                        <a:pt x="386" y="22"/>
                      </a:lnTo>
                      <a:lnTo>
                        <a:pt x="433" y="47"/>
                      </a:lnTo>
                      <a:lnTo>
                        <a:pt x="475" y="80"/>
                      </a:lnTo>
                      <a:lnTo>
                        <a:pt x="509" y="123"/>
                      </a:lnTo>
                      <a:lnTo>
                        <a:pt x="536" y="170"/>
                      </a:lnTo>
                      <a:lnTo>
                        <a:pt x="552" y="221"/>
                      </a:lnTo>
                      <a:lnTo>
                        <a:pt x="558" y="27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" name=""/>
              <p:cNvSpPr txBox="1"/>
              <p:nvPr/>
            </p:nvSpPr>
            <p:spPr>
              <a:xfrm>
                <a:off x="779400" y="2039760"/>
                <a:ext cx="1523880" cy="9144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22884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Comic Sans MS"/>
                  </a:rPr>
                  <a:t>monomial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285200">
                <a:off x="1218600" y="1582200"/>
                <a:ext cx="5335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948960" y="1752480"/>
              <a:ext cx="252360" cy="569880"/>
              <a:chOff x="948960" y="1752480"/>
              <a:chExt cx="252360" cy="5698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948960" y="1873080"/>
                <a:ext cx="223920" cy="449280"/>
                <a:chOff x="948960" y="1873080"/>
                <a:chExt cx="223920" cy="4492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1098360" y="2320920"/>
                  <a:ext cx="74520" cy="1440"/>
                </a:xfrm>
                <a:custGeom>
                  <a:avLst/>
                  <a:gdLst/>
                  <a:ahLst/>
                  <a:rect l="l" t="t" r="r" b="b"/>
                  <a:pathLst>
                    <a:path w="47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083960" y="2317680"/>
                  <a:ext cx="88920" cy="3240"/>
                </a:xfrm>
                <a:custGeom>
                  <a:avLst/>
                  <a:gdLst/>
                  <a:ahLst/>
                  <a:rect l="l" t="t" r="r" b="b"/>
                  <a:pathLst>
                    <a:path w="56" h="2">
                      <a:moveTo>
                        <a:pt x="0" y="0"/>
                      </a:moveTo>
                      <a:lnTo>
                        <a:pt x="16" y="2"/>
                      </a:lnTo>
                      <a:lnTo>
                        <a:pt x="56" y="2"/>
                      </a:lnTo>
                      <a:lnTo>
                        <a:pt x="5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069560" y="2314440"/>
                  <a:ext cx="103320" cy="6480"/>
                </a:xfrm>
                <a:custGeom>
                  <a:avLst/>
                  <a:gdLst/>
                  <a:ahLst/>
                  <a:rect l="l" t="t" r="r" b="b"/>
                  <a:pathLst>
                    <a:path w="65" h="4">
                      <a:moveTo>
                        <a:pt x="18" y="4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5" y="4"/>
                      </a:lnTo>
                      <a:lnTo>
                        <a:pt x="18" y="4"/>
                      </a:lnTo>
                      <a:close/>
                    </a:path>
                  </a:pathLst>
                </a:cu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058760" y="2314440"/>
                  <a:ext cx="110880" cy="3240"/>
                </a:xfrm>
                <a:custGeom>
                  <a:avLst/>
                  <a:gdLst/>
                  <a:ahLst/>
                  <a:rect l="l" t="t" r="r" b="b"/>
                  <a:pathLst>
                    <a:path w="70" h="2">
                      <a:moveTo>
                        <a:pt x="16" y="2"/>
                      </a:move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70" y="2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44360" y="2311200"/>
                  <a:ext cx="125280" cy="3240"/>
                </a:xfrm>
                <a:custGeom>
                  <a:avLst/>
                  <a:gdLst/>
                  <a:ahLst/>
                  <a:rect l="l" t="t" r="r" b="b"/>
                  <a:pathLst>
                    <a:path w="79" h="2">
                      <a:moveTo>
                        <a:pt x="16" y="2"/>
                      </a:moveTo>
                      <a:lnTo>
                        <a:pt x="0" y="0"/>
                      </a:ln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031760" y="2311200"/>
                  <a:ext cx="137880" cy="3240"/>
                </a:xfrm>
                <a:custGeom>
                  <a:avLst/>
                  <a:gdLst/>
                  <a:ahLst/>
                  <a:rect l="l" t="t" r="r" b="b"/>
                  <a:pathLst>
                    <a:path w="87" h="2">
                      <a:moveTo>
                        <a:pt x="17" y="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"/>
                      </a:lnTo>
                      <a:lnTo>
                        <a:pt x="17" y="2"/>
                      </a:lnTo>
                      <a:close/>
                    </a:path>
                  </a:pathLst>
                </a:cu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17360" y="2306520"/>
                  <a:ext cx="152280" cy="4680"/>
                </a:xfrm>
                <a:custGeom>
                  <a:avLst/>
                  <a:gdLst/>
                  <a:ahLst/>
                  <a:rect l="l" t="t" r="r" b="b"/>
                  <a:pathLst>
                    <a:path w="96" h="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17" y="3"/>
                      </a:lnTo>
                      <a:lnTo>
                        <a:pt x="96" y="3"/>
                      </a:lnTo>
                      <a:lnTo>
                        <a:pt x="9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012680" y="2303280"/>
                  <a:ext cx="156960" cy="7920"/>
                </a:xfrm>
                <a:custGeom>
                  <a:avLst/>
                  <a:gdLst/>
                  <a:ahLst/>
                  <a:rect l="l" t="t" r="r" b="b"/>
                  <a:pathLst>
                    <a:path w="99" h="5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2" y="5"/>
                      </a:lnTo>
                      <a:lnTo>
                        <a:pt x="99" y="5"/>
                      </a:lnTo>
                      <a:lnTo>
                        <a:pt x="9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009440" y="2303280"/>
                  <a:ext cx="160200" cy="3240"/>
                </a:xfrm>
                <a:custGeom>
                  <a:avLst/>
                  <a:gdLst/>
                  <a:ahLst/>
                  <a:rect l="l" t="t" r="r" b="b"/>
                  <a:pathLst>
                    <a:path w="101" h="2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99" y="0"/>
                      </a:lnTo>
                      <a:lnTo>
                        <a:pt x="10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006200" y="2300040"/>
                  <a:ext cx="160200" cy="3240"/>
                </a:xfrm>
                <a:custGeom>
                  <a:avLst/>
                  <a:gdLst/>
                  <a:ahLst/>
                  <a:rect l="l" t="t" r="r" b="b"/>
                  <a:pathLst>
                    <a:path w="101" h="2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101" y="0"/>
                      </a:lnTo>
                      <a:lnTo>
                        <a:pt x="10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998280" y="2297160"/>
                  <a:ext cx="168120" cy="6120"/>
                </a:xfrm>
                <a:custGeom>
                  <a:avLst/>
                  <a:gdLst/>
                  <a:ahLst/>
                  <a:rect l="l" t="t" r="r" b="b"/>
                  <a:pathLst>
                    <a:path w="106" h="4">
                      <a:moveTo>
                        <a:pt x="7" y="4"/>
                      </a:moveTo>
                      <a:lnTo>
                        <a:pt x="0" y="0"/>
                      </a:lnTo>
                      <a:lnTo>
                        <a:pt x="106" y="0"/>
                      </a:lnTo>
                      <a:lnTo>
                        <a:pt x="106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995040" y="2297160"/>
                  <a:ext cx="171360" cy="2880"/>
                </a:xfrm>
                <a:custGeom>
                  <a:avLst/>
                  <a:gdLst/>
                  <a:ahLst/>
                  <a:rect l="l" t="t" r="r" b="b"/>
                  <a:pathLst>
                    <a:path w="108" h="2">
                      <a:moveTo>
                        <a:pt x="7" y="2"/>
                      </a:moveTo>
                      <a:lnTo>
                        <a:pt x="0" y="0"/>
                      </a:lnTo>
                      <a:lnTo>
                        <a:pt x="108" y="0"/>
                      </a:lnTo>
                      <a:lnTo>
                        <a:pt x="108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991800" y="2292120"/>
                  <a:ext cx="174600" cy="5040"/>
                </a:xfrm>
                <a:custGeom>
                  <a:avLst/>
                  <a:gdLst/>
                  <a:ahLst/>
                  <a:rect l="l" t="t" r="r" b="b"/>
                  <a:pathLst>
                    <a:path w="110" h="3">
                      <a:moveTo>
                        <a:pt x="4" y="3"/>
                      </a:moveTo>
                      <a:lnTo>
                        <a:pt x="0" y="0"/>
                      </a:lnTo>
                      <a:lnTo>
                        <a:pt x="110" y="0"/>
                      </a:lnTo>
                      <a:lnTo>
                        <a:pt x="110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983880" y="2289240"/>
                  <a:ext cx="182520" cy="7920"/>
                </a:xfrm>
                <a:custGeom>
                  <a:avLst/>
                  <a:gdLst/>
                  <a:ahLst/>
                  <a:rect l="l" t="t" r="r" b="b"/>
                  <a:pathLst>
                    <a:path w="115" h="5">
                      <a:moveTo>
                        <a:pt x="7" y="5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980640" y="2289240"/>
                  <a:ext cx="185760" cy="2880"/>
                </a:xfrm>
                <a:custGeom>
                  <a:avLst/>
                  <a:gdLst/>
                  <a:ahLst/>
                  <a:rect l="l" t="t" r="r" b="b"/>
                  <a:pathLst>
                    <a:path w="117" h="2">
                      <a:moveTo>
                        <a:pt x="7" y="2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17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977760" y="2286000"/>
                  <a:ext cx="183960" cy="3240"/>
                </a:xfrm>
                <a:custGeom>
                  <a:avLst/>
                  <a:gdLst/>
                  <a:ahLst/>
                  <a:rect l="l" t="t" r="r" b="b"/>
                  <a:pathLst>
                    <a:path w="116" h="2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116" y="0"/>
                      </a:lnTo>
                      <a:lnTo>
                        <a:pt x="116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974520" y="2286000"/>
                  <a:ext cx="187200" cy="3240"/>
                </a:xfrm>
                <a:custGeom>
                  <a:avLst/>
                  <a:gdLst/>
                  <a:ahLst/>
                  <a:rect l="l" t="t" r="r" b="b"/>
                  <a:pathLst>
                    <a:path w="118" h="2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18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966600" y="2282760"/>
                  <a:ext cx="195120" cy="3240"/>
                </a:xfrm>
                <a:custGeom>
                  <a:avLst/>
                  <a:gdLst/>
                  <a:ahLst/>
                  <a:rect l="l" t="t" r="r" b="b"/>
                  <a:pathLst>
                    <a:path w="123" h="2">
                      <a:moveTo>
                        <a:pt x="7" y="2"/>
                      </a:moveTo>
                      <a:lnTo>
                        <a:pt x="0" y="0"/>
                      </a:lnTo>
                      <a:lnTo>
                        <a:pt x="123" y="0"/>
                      </a:lnTo>
                      <a:lnTo>
                        <a:pt x="123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963360" y="2278080"/>
                  <a:ext cx="198360" cy="7920"/>
                </a:xfrm>
                <a:custGeom>
                  <a:avLst/>
                  <a:gdLst/>
                  <a:ahLst/>
                  <a:rect l="l" t="t" r="r" b="b"/>
                  <a:pathLst>
                    <a:path w="125" h="5">
                      <a:moveTo>
                        <a:pt x="7" y="5"/>
                      </a:moveTo>
                      <a:lnTo>
                        <a:pt x="0" y="0"/>
                      </a:lnTo>
                      <a:lnTo>
                        <a:pt x="123" y="0"/>
                      </a:lnTo>
                      <a:lnTo>
                        <a:pt x="12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960120" y="2278080"/>
                  <a:ext cx="201600" cy="4680"/>
                </a:xfrm>
                <a:custGeom>
                  <a:avLst/>
                  <a:gdLst/>
                  <a:ahLst/>
                  <a:rect l="l" t="t" r="r" b="b"/>
                  <a:pathLst>
                    <a:path w="127" h="3">
                      <a:moveTo>
                        <a:pt x="4" y="3"/>
                      </a:moveTo>
                      <a:lnTo>
                        <a:pt x="0" y="0"/>
                      </a:lnTo>
                      <a:lnTo>
                        <a:pt x="125" y="0"/>
                      </a:lnTo>
                      <a:lnTo>
                        <a:pt x="127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955440" y="2274840"/>
                  <a:ext cx="203040" cy="3240"/>
                </a:xfrm>
                <a:custGeom>
                  <a:avLst/>
                  <a:gdLst/>
                  <a:ahLst/>
                  <a:rect l="l" t="t" r="r" b="b"/>
                  <a:pathLst>
                    <a:path w="128" h="2">
                      <a:moveTo>
                        <a:pt x="5" y="2"/>
                      </a:moveTo>
                      <a:lnTo>
                        <a:pt x="0" y="0"/>
                      </a:lnTo>
                      <a:lnTo>
                        <a:pt x="128" y="0"/>
                      </a:lnTo>
                      <a:lnTo>
                        <a:pt x="128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948960" y="2271600"/>
                  <a:ext cx="209520" cy="6480"/>
                </a:xfrm>
                <a:custGeom>
                  <a:avLst/>
                  <a:gdLst/>
                  <a:ahLst/>
                  <a:rect l="l" t="t" r="r" b="b"/>
                  <a:pathLst>
                    <a:path w="132" h="4">
                      <a:moveTo>
                        <a:pt x="7" y="4"/>
                      </a:move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132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48960" y="2271600"/>
                  <a:ext cx="209520" cy="3240"/>
                </a:xfrm>
                <a:custGeom>
                  <a:avLst/>
                  <a:gdLst/>
                  <a:ahLst/>
                  <a:rect l="l" t="t" r="r" b="b"/>
                  <a:pathLst>
                    <a:path w="132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132" y="2"/>
                      </a:lnTo>
                      <a:lnTo>
                        <a:pt x="13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948960" y="2268360"/>
                  <a:ext cx="209520" cy="3240"/>
                </a:xfrm>
                <a:custGeom>
                  <a:avLst/>
                  <a:gdLst/>
                  <a:ahLst/>
                  <a:rect l="l" t="t" r="r" b="b"/>
                  <a:pathLst>
                    <a:path w="132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32" y="2"/>
                      </a:lnTo>
                      <a:lnTo>
                        <a:pt x="13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948960" y="2268360"/>
                  <a:ext cx="209520" cy="3240"/>
                </a:xfrm>
                <a:custGeom>
                  <a:avLst/>
                  <a:gdLst/>
                  <a:ahLst/>
                  <a:rect l="l" t="t" r="r" b="b"/>
                  <a:pathLst>
                    <a:path w="132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30" y="0"/>
                      </a:lnTo>
                      <a:lnTo>
                        <a:pt x="13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948960" y="2263680"/>
                  <a:ext cx="209520" cy="4680"/>
                </a:xfrm>
                <a:custGeom>
                  <a:avLst/>
                  <a:gdLst/>
                  <a:ahLst/>
                  <a:rect l="l" t="t" r="r" b="b"/>
                  <a:pathLst>
                    <a:path w="132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130" y="0"/>
                      </a:lnTo>
                      <a:lnTo>
                        <a:pt x="13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948960" y="2260440"/>
                  <a:ext cx="206640" cy="7920"/>
                </a:xfrm>
                <a:prstGeom prst="rect">
                  <a:avLst/>
                </a:pr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948960" y="2260440"/>
                  <a:ext cx="206640" cy="3240"/>
                </a:xfrm>
                <a:prstGeom prst="rect">
                  <a:avLst/>
                </a:pr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948960" y="2257200"/>
                  <a:ext cx="206640" cy="3240"/>
                </a:xfrm>
                <a:prstGeom prst="rect">
                  <a:avLst/>
                </a:pr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948960" y="2254320"/>
                  <a:ext cx="206640" cy="6120"/>
                </a:xfrm>
                <a:prstGeom prst="rect">
                  <a:avLst/>
                </a:pr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948960" y="2254320"/>
                  <a:ext cx="206640" cy="2880"/>
                </a:xfrm>
                <a:custGeom>
                  <a:avLst/>
                  <a:gdLst/>
                  <a:ahLst/>
                  <a:rect l="l" t="t" r="r" b="b"/>
                  <a:pathLst>
                    <a:path w="130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28" y="0"/>
                      </a:lnTo>
                      <a:lnTo>
                        <a:pt x="13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948960" y="2249280"/>
                  <a:ext cx="206640" cy="5040"/>
                </a:xfrm>
                <a:custGeom>
                  <a:avLst/>
                  <a:gdLst/>
                  <a:ahLst/>
                  <a:rect l="l" t="t" r="r" b="b"/>
                  <a:pathLst>
                    <a:path w="130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28" y="0"/>
                      </a:lnTo>
                      <a:lnTo>
                        <a:pt x="13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948960" y="2249280"/>
                  <a:ext cx="203400" cy="5040"/>
                </a:xfrm>
                <a:custGeom>
                  <a:avLst/>
                  <a:gdLst/>
                  <a:ahLst/>
                  <a:rect l="l" t="t" r="r" b="b"/>
                  <a:pathLst>
                    <a:path w="128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28" y="0"/>
                      </a:lnTo>
                      <a:lnTo>
                        <a:pt x="12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52200" y="2246400"/>
                  <a:ext cx="200160" cy="288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952200" y="2243160"/>
                  <a:ext cx="200160" cy="612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952200" y="2243160"/>
                  <a:ext cx="200160" cy="3240"/>
                </a:xfrm>
                <a:custGeom>
                  <a:avLst/>
                  <a:gdLst/>
                  <a:ahLst/>
                  <a:rect l="l" t="t" r="r" b="b"/>
                  <a:pathLst>
                    <a:path w="126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23" y="0"/>
                      </a:lnTo>
                      <a:lnTo>
                        <a:pt x="12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952200" y="2239920"/>
                  <a:ext cx="200160" cy="3240"/>
                </a:xfrm>
                <a:custGeom>
                  <a:avLst/>
                  <a:gdLst/>
                  <a:ahLst/>
                  <a:rect l="l" t="t" r="r" b="b"/>
                  <a:pathLst>
                    <a:path w="126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23" y="0"/>
                      </a:lnTo>
                      <a:lnTo>
                        <a:pt x="12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952200" y="2236680"/>
                  <a:ext cx="195480" cy="648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952200" y="2236680"/>
                  <a:ext cx="195480" cy="324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52200" y="2232000"/>
                  <a:ext cx="195480" cy="468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52200" y="2228760"/>
                  <a:ext cx="195480" cy="792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952200" y="2228760"/>
                  <a:ext cx="195480" cy="3240"/>
                </a:xfrm>
                <a:custGeom>
                  <a:avLst/>
                  <a:gdLst/>
                  <a:ahLst/>
                  <a:rect l="l" t="t" r="r" b="b"/>
                  <a:pathLst>
                    <a:path w="123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952200" y="2225520"/>
                  <a:ext cx="195480" cy="3240"/>
                </a:xfrm>
                <a:custGeom>
                  <a:avLst/>
                  <a:gdLst/>
                  <a:ahLst/>
                  <a:rect l="l" t="t" r="r" b="b"/>
                  <a:pathLst>
                    <a:path w="123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952200" y="2225520"/>
                  <a:ext cx="192240" cy="3240"/>
                </a:xfrm>
                <a:prstGeom prst="rect">
                  <a:avLst/>
                </a:prstGeom>
                <a:solidFill>
                  <a:srgbClr val="ffff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952200" y="2222280"/>
                  <a:ext cx="192240" cy="3240"/>
                </a:xfrm>
                <a:custGeom>
                  <a:avLst/>
                  <a:gdLst/>
                  <a:ahLst/>
                  <a:rect l="l" t="t" r="r" b="b"/>
                  <a:pathLst>
                    <a:path w="12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952200" y="2217600"/>
                  <a:ext cx="192240" cy="7920"/>
                </a:xfrm>
                <a:custGeom>
                  <a:avLst/>
                  <a:gdLst/>
                  <a:ahLst/>
                  <a:rect l="l" t="t" r="r" b="b"/>
                  <a:pathLst>
                    <a:path w="12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1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952200" y="2217600"/>
                  <a:ext cx="192240" cy="468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952200" y="2214360"/>
                  <a:ext cx="192240" cy="3240"/>
                </a:xfrm>
                <a:custGeom>
                  <a:avLst/>
                  <a:gdLst/>
                  <a:ahLst/>
                  <a:rect l="l" t="t" r="r" b="b"/>
                  <a:pathLst>
                    <a:path w="121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121" y="0"/>
                      </a:lnTo>
                      <a:lnTo>
                        <a:pt x="12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955440" y="2211480"/>
                  <a:ext cx="189000" cy="6120"/>
                </a:xfrm>
                <a:prstGeom prst="rect">
                  <a:avLst/>
                </a:pr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955440" y="2211480"/>
                  <a:ext cx="189000" cy="2880"/>
                </a:xfrm>
                <a:prstGeom prst="rect">
                  <a:avLst/>
                </a:pr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955440" y="2208240"/>
                  <a:ext cx="189000" cy="3240"/>
                </a:xfrm>
                <a:prstGeom prst="rect">
                  <a:avLst/>
                </a:pr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955440" y="2208240"/>
                  <a:ext cx="189000" cy="3240"/>
                </a:xfrm>
                <a:prstGeom prst="rect">
                  <a:avLst/>
                </a:pr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955440" y="2203200"/>
                  <a:ext cx="189000" cy="5040"/>
                </a:xfrm>
                <a:custGeom>
                  <a:avLst/>
                  <a:gdLst/>
                  <a:ahLst/>
                  <a:rect l="l" t="t" r="r" b="b"/>
                  <a:pathLst>
                    <a:path w="119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117" y="0"/>
                      </a:lnTo>
                      <a:lnTo>
                        <a:pt x="11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955440" y="2200320"/>
                  <a:ext cx="189000" cy="7920"/>
                </a:xfrm>
                <a:custGeom>
                  <a:avLst/>
                  <a:gdLst/>
                  <a:ahLst/>
                  <a:rect l="l" t="t" r="r" b="b"/>
                  <a:pathLst>
                    <a:path w="119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117" y="0"/>
                      </a:lnTo>
                      <a:lnTo>
                        <a:pt x="11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955440" y="2200320"/>
                  <a:ext cx="185760" cy="2880"/>
                </a:xfrm>
                <a:prstGeom prst="rect">
                  <a:avLst/>
                </a:pr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955440" y="2197080"/>
                  <a:ext cx="185760" cy="3240"/>
                </a:xfrm>
                <a:prstGeom prst="rect">
                  <a:avLst/>
                </a:pr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955440" y="2193840"/>
                  <a:ext cx="185760" cy="6480"/>
                </a:xfrm>
                <a:custGeom>
                  <a:avLst/>
                  <a:gdLst/>
                  <a:ahLst/>
                  <a:rect l="l" t="t" r="r" b="b"/>
                  <a:pathLst>
                    <a:path w="117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17" y="4"/>
                      </a:lnTo>
                      <a:lnTo>
                        <a:pt x="1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955440" y="2193840"/>
                  <a:ext cx="185760" cy="3240"/>
                </a:xfrm>
                <a:custGeom>
                  <a:avLst/>
                  <a:gdLst/>
                  <a:ahLst/>
                  <a:rect l="l" t="t" r="r" b="b"/>
                  <a:pathLst>
                    <a:path w="117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17" y="2"/>
                      </a:lnTo>
                      <a:lnTo>
                        <a:pt x="1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955440" y="2189160"/>
                  <a:ext cx="185760" cy="4680"/>
                </a:xfrm>
                <a:custGeom>
                  <a:avLst/>
                  <a:gdLst/>
                  <a:ahLst/>
                  <a:rect l="l" t="t" r="r" b="b"/>
                  <a:pathLst>
                    <a:path w="117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117" y="0"/>
                      </a:lnTo>
                      <a:lnTo>
                        <a:pt x="11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955440" y="2189160"/>
                  <a:ext cx="185760" cy="4680"/>
                </a:xfrm>
                <a:custGeom>
                  <a:avLst/>
                  <a:gdLst/>
                  <a:ahLst/>
                  <a:rect l="l" t="t" r="r" b="b"/>
                  <a:pathLst>
                    <a:path w="117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117" y="0"/>
                      </a:lnTo>
                      <a:lnTo>
                        <a:pt x="11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960120" y="2185920"/>
                  <a:ext cx="181080" cy="3240"/>
                </a:xfrm>
                <a:prstGeom prst="rect">
                  <a:avLst/>
                </a:pr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960120" y="2182680"/>
                  <a:ext cx="181080" cy="6480"/>
                </a:xfrm>
                <a:prstGeom prst="rect">
                  <a:avLst/>
                </a:pr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960120" y="2182680"/>
                  <a:ext cx="181080" cy="3240"/>
                </a:xfrm>
                <a:prstGeom prst="rect">
                  <a:avLst/>
                </a:pr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960120" y="2179440"/>
                  <a:ext cx="181080" cy="3240"/>
                </a:xfrm>
                <a:prstGeom prst="rect">
                  <a:avLst/>
                </a:pr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960120" y="2174760"/>
                  <a:ext cx="181080" cy="7920"/>
                </a:xfrm>
                <a:custGeom>
                  <a:avLst/>
                  <a:gdLst/>
                  <a:ahLst/>
                  <a:rect l="l" t="t" r="r" b="b"/>
                  <a:pathLst>
                    <a:path w="114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114" y="0"/>
                      </a:lnTo>
                      <a:lnTo>
                        <a:pt x="11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960120" y="2174760"/>
                  <a:ext cx="181080" cy="4680"/>
                </a:xfrm>
                <a:custGeom>
                  <a:avLst/>
                  <a:gdLst/>
                  <a:ahLst/>
                  <a:rect l="l" t="t" r="r" b="b"/>
                  <a:pathLst>
                    <a:path w="114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14" y="0"/>
                      </a:lnTo>
                      <a:lnTo>
                        <a:pt x="11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963360" y="2171520"/>
                  <a:ext cx="177840" cy="3240"/>
                </a:xfrm>
                <a:prstGeom prst="rect">
                  <a:avLst/>
                </a:pr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963360" y="2168280"/>
                  <a:ext cx="177840" cy="6480"/>
                </a:xfrm>
                <a:prstGeom prst="rect">
                  <a:avLst/>
                </a:pr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963360" y="2168280"/>
                  <a:ext cx="177840" cy="324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963360" y="2165400"/>
                  <a:ext cx="177840" cy="288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963360" y="2165400"/>
                  <a:ext cx="177840" cy="288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963360" y="2160360"/>
                  <a:ext cx="177840" cy="5040"/>
                </a:xfrm>
                <a:custGeom>
                  <a:avLst/>
                  <a:gdLst/>
                  <a:ahLst/>
                  <a:rect l="l" t="t" r="r" b="b"/>
                  <a:pathLst>
                    <a:path w="112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12" y="0"/>
                      </a:lnTo>
                      <a:lnTo>
                        <a:pt x="11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963360" y="2157480"/>
                  <a:ext cx="177840" cy="7920"/>
                </a:xfrm>
                <a:custGeom>
                  <a:avLst/>
                  <a:gdLst/>
                  <a:ahLst/>
                  <a:rect l="l" t="t" r="r" b="b"/>
                  <a:pathLst>
                    <a:path w="112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110" y="0"/>
                      </a:lnTo>
                      <a:lnTo>
                        <a:pt x="11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966600" y="2157480"/>
                  <a:ext cx="174600" cy="2880"/>
                </a:xfrm>
                <a:custGeom>
                  <a:avLst/>
                  <a:gdLst/>
                  <a:ahLst/>
                  <a:rect l="l" t="t" r="r" b="b"/>
                  <a:pathLst>
                    <a:path w="110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08" y="0"/>
                      </a:lnTo>
                      <a:lnTo>
                        <a:pt x="11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966600" y="2154240"/>
                  <a:ext cx="171360" cy="324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966600" y="2151000"/>
                  <a:ext cx="171360" cy="648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966600" y="2151000"/>
                  <a:ext cx="171360" cy="3240"/>
                </a:xfrm>
                <a:prstGeom prst="rect">
                  <a:avLst/>
                </a:prstGeom>
                <a:solidFill>
                  <a:srgbClr val="fff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66600" y="2146320"/>
                  <a:ext cx="171360" cy="4680"/>
                </a:xfrm>
                <a:custGeom>
                  <a:avLst/>
                  <a:gdLst/>
                  <a:ahLst/>
                  <a:rect l="l" t="t" r="r" b="b"/>
                  <a:pathLst>
                    <a:path w="108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08" y="0"/>
                      </a:lnTo>
                      <a:lnTo>
                        <a:pt x="10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66600" y="2146320"/>
                  <a:ext cx="171360" cy="4680"/>
                </a:xfrm>
                <a:custGeom>
                  <a:avLst/>
                  <a:gdLst/>
                  <a:ahLst/>
                  <a:rect l="l" t="t" r="r" b="b"/>
                  <a:pathLst>
                    <a:path w="108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108" y="0"/>
                      </a:lnTo>
                      <a:lnTo>
                        <a:pt x="10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69840" y="2143080"/>
                  <a:ext cx="168120" cy="3240"/>
                </a:xfrm>
                <a:prstGeom prst="rect">
                  <a:avLst/>
                </a:prstGeom>
                <a:solidFill>
                  <a:srgbClr val="fff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69840" y="2139840"/>
                  <a:ext cx="168120" cy="6480"/>
                </a:xfrm>
                <a:prstGeom prst="rect">
                  <a:avLst/>
                </a:prstGeom>
                <a:solidFill>
                  <a:srgbClr val="fff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69840" y="2139840"/>
                  <a:ext cx="168120" cy="324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69840" y="2136600"/>
                  <a:ext cx="168120" cy="324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969840" y="2133360"/>
                  <a:ext cx="168120" cy="648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69840" y="2133360"/>
                  <a:ext cx="168120" cy="3240"/>
                </a:xfrm>
                <a:custGeom>
                  <a:avLst/>
                  <a:gdLst/>
                  <a:ahLst/>
                  <a:rect l="l" t="t" r="r" b="b"/>
                  <a:pathLst>
                    <a:path w="106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106" y="0"/>
                      </a:lnTo>
                      <a:lnTo>
                        <a:pt x="10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969840" y="2128680"/>
                  <a:ext cx="168120" cy="4680"/>
                </a:xfrm>
                <a:custGeom>
                  <a:avLst/>
                  <a:gdLst/>
                  <a:ahLst/>
                  <a:rect l="l" t="t" r="r" b="b"/>
                  <a:pathLst>
                    <a:path w="10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106" y="0"/>
                      </a:lnTo>
                      <a:lnTo>
                        <a:pt x="10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974520" y="2125440"/>
                  <a:ext cx="163440" cy="792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974520" y="2125440"/>
                  <a:ext cx="163440" cy="324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974520" y="2122560"/>
                  <a:ext cx="163440" cy="288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974520" y="2122560"/>
                  <a:ext cx="163440" cy="2880"/>
                </a:xfrm>
                <a:prstGeom prst="rect">
                  <a:avLst/>
                </a:pr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974520" y="2119320"/>
                  <a:ext cx="163440" cy="3240"/>
                </a:xfrm>
                <a:custGeom>
                  <a:avLst/>
                  <a:gdLst/>
                  <a:ahLst/>
                  <a:rect l="l" t="t" r="r" b="b"/>
                  <a:pathLst>
                    <a:path w="103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103" y="0"/>
                      </a:lnTo>
                      <a:lnTo>
                        <a:pt x="10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974520" y="2114640"/>
                  <a:ext cx="163440" cy="7920"/>
                </a:xfrm>
                <a:custGeom>
                  <a:avLst/>
                  <a:gdLst/>
                  <a:ahLst/>
                  <a:rect l="l" t="t" r="r" b="b"/>
                  <a:pathLst>
                    <a:path w="103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103" y="0"/>
                      </a:lnTo>
                      <a:lnTo>
                        <a:pt x="10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977760" y="2114640"/>
                  <a:ext cx="160200" cy="4680"/>
                </a:xfrm>
                <a:custGeom>
                  <a:avLst/>
                  <a:gdLst/>
                  <a:ahLst/>
                  <a:rect l="l" t="t" r="r" b="b"/>
                  <a:pathLst>
                    <a:path w="101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99" y="0"/>
                      </a:lnTo>
                      <a:lnTo>
                        <a:pt x="10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977760" y="2111400"/>
                  <a:ext cx="160200" cy="3240"/>
                </a:xfrm>
                <a:custGeom>
                  <a:avLst/>
                  <a:gdLst/>
                  <a:ahLst/>
                  <a:rect l="l" t="t" r="r" b="b"/>
                  <a:pathLst>
                    <a:path w="10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99" y="0"/>
                      </a:lnTo>
                      <a:lnTo>
                        <a:pt x="10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977760" y="2108160"/>
                  <a:ext cx="156960" cy="648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977760" y="2108160"/>
                  <a:ext cx="156960" cy="324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977760" y="2104920"/>
                  <a:ext cx="156960" cy="324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977760" y="2104920"/>
                  <a:ext cx="156960" cy="3240"/>
                </a:xfrm>
                <a:custGeom>
                  <a:avLst/>
                  <a:gdLst/>
                  <a:ahLst/>
                  <a:rect l="l" t="t" r="r" b="b"/>
                  <a:pathLst>
                    <a:path w="99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99" y="0"/>
                      </a:lnTo>
                      <a:lnTo>
                        <a:pt x="99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977760" y="2100240"/>
                  <a:ext cx="156960" cy="4680"/>
                </a:xfrm>
                <a:custGeom>
                  <a:avLst/>
                  <a:gdLst/>
                  <a:ahLst/>
                  <a:rect l="l" t="t" r="r" b="b"/>
                  <a:pathLst>
                    <a:path w="99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99" y="0"/>
                      </a:lnTo>
                      <a:lnTo>
                        <a:pt x="9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980640" y="2097000"/>
                  <a:ext cx="154080" cy="792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980640" y="2097000"/>
                  <a:ext cx="154080" cy="324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980640" y="2093760"/>
                  <a:ext cx="154080" cy="324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980640" y="2090520"/>
                  <a:ext cx="154080" cy="6480"/>
                </a:xfrm>
                <a:prstGeom prst="rect">
                  <a:avLst/>
                </a:prstGeom>
                <a:solidFill>
                  <a:srgbClr val="ff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980640" y="2090520"/>
                  <a:ext cx="154080" cy="3240"/>
                </a:xfrm>
                <a:custGeom>
                  <a:avLst/>
                  <a:gdLst/>
                  <a:ahLst/>
                  <a:rect l="l" t="t" r="r" b="b"/>
                  <a:pathLst>
                    <a:path w="97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97" y="0"/>
                      </a:lnTo>
                      <a:lnTo>
                        <a:pt x="97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980640" y="2085840"/>
                  <a:ext cx="154080" cy="4680"/>
                </a:xfrm>
                <a:custGeom>
                  <a:avLst/>
                  <a:gdLst/>
                  <a:ahLst/>
                  <a:rect l="l" t="t" r="r" b="b"/>
                  <a:pathLst>
                    <a:path w="97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97" y="0"/>
                      </a:lnTo>
                      <a:lnTo>
                        <a:pt x="9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983880" y="2085840"/>
                  <a:ext cx="150840" cy="4680"/>
                </a:xfrm>
                <a:prstGeom prst="rect">
                  <a:avLst/>
                </a:prstGeom>
                <a:solidFill>
                  <a:srgbClr val="ff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983880" y="2082600"/>
                  <a:ext cx="150840" cy="3240"/>
                </a:xfrm>
                <a:prstGeom prst="rect">
                  <a:avLst/>
                </a:prstGeom>
                <a:solidFill>
                  <a:srgbClr val="ffff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983880" y="2079720"/>
                  <a:ext cx="150840" cy="61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983880" y="2079720"/>
                  <a:ext cx="150840" cy="288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983880" y="2076480"/>
                  <a:ext cx="150840" cy="324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983880" y="2071440"/>
                  <a:ext cx="150840" cy="8280"/>
                </a:xfrm>
                <a:custGeom>
                  <a:avLst/>
                  <a:gdLst/>
                  <a:ahLst/>
                  <a:rect l="l" t="t" r="r" b="b"/>
                  <a:pathLst>
                    <a:path w="95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95" y="0"/>
                      </a:lnTo>
                      <a:lnTo>
                        <a:pt x="95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983880" y="2071440"/>
                  <a:ext cx="150840" cy="5040"/>
                </a:xfrm>
                <a:custGeom>
                  <a:avLst/>
                  <a:gdLst/>
                  <a:ahLst/>
                  <a:rect l="l" t="t" r="r" b="b"/>
                  <a:pathLst>
                    <a:path w="95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95" y="0"/>
                      </a:lnTo>
                      <a:lnTo>
                        <a:pt x="95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988920" y="2068560"/>
                  <a:ext cx="145800" cy="2880"/>
                </a:xfrm>
                <a:custGeom>
                  <a:avLst/>
                  <a:gdLst/>
                  <a:ahLst/>
                  <a:rect l="l" t="t" r="r" b="b"/>
                  <a:pathLst>
                    <a:path w="92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89" y="0"/>
                      </a:lnTo>
                      <a:lnTo>
                        <a:pt x="9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988920" y="2065320"/>
                  <a:ext cx="145800" cy="6120"/>
                </a:xfrm>
                <a:custGeom>
                  <a:avLst/>
                  <a:gdLst/>
                  <a:ahLst/>
                  <a:rect l="l" t="t" r="r" b="b"/>
                  <a:pathLst>
                    <a:path w="92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89" y="0"/>
                      </a:lnTo>
                      <a:lnTo>
                        <a:pt x="9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988920" y="2065320"/>
                  <a:ext cx="141120" cy="324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988920" y="2062080"/>
                  <a:ext cx="141120" cy="324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988920" y="2062080"/>
                  <a:ext cx="141120" cy="3240"/>
                </a:xfrm>
                <a:custGeom>
                  <a:avLst/>
                  <a:gdLst/>
                  <a:ahLst/>
                  <a:rect l="l" t="t" r="r" b="b"/>
                  <a:pathLst>
                    <a:path w="89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9" y="0"/>
                      </a:lnTo>
                      <a:lnTo>
                        <a:pt x="89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988920" y="2057400"/>
                  <a:ext cx="141120" cy="4680"/>
                </a:xfrm>
                <a:custGeom>
                  <a:avLst/>
                  <a:gdLst/>
                  <a:ahLst/>
                  <a:rect l="l" t="t" r="r" b="b"/>
                  <a:pathLst>
                    <a:path w="89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89" y="0"/>
                      </a:lnTo>
                      <a:lnTo>
                        <a:pt x="8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991800" y="2054160"/>
                  <a:ext cx="138240" cy="7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991800" y="2054160"/>
                  <a:ext cx="138240" cy="3240"/>
                </a:xfrm>
                <a:custGeom>
                  <a:avLst/>
                  <a:gdLst/>
                  <a:ahLst/>
                  <a:rect l="l" t="t" r="r" b="b"/>
                  <a:pathLst>
                    <a:path w="87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0"/>
                      </a:lnTo>
                      <a:lnTo>
                        <a:pt x="87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991800" y="2050920"/>
                  <a:ext cx="138240" cy="3240"/>
                </a:xfrm>
                <a:custGeom>
                  <a:avLst/>
                  <a:gdLst/>
                  <a:ahLst/>
                  <a:rect l="l" t="t" r="r" b="b"/>
                  <a:pathLst>
                    <a:path w="87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87" y="0"/>
                      </a:lnTo>
                      <a:lnTo>
                        <a:pt x="87" y="2"/>
                      </a:lnTo>
                      <a:lnTo>
                        <a:pt x="87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991800" y="2047680"/>
                  <a:ext cx="138240" cy="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991800" y="2047680"/>
                  <a:ext cx="138240" cy="3240"/>
                </a:xfrm>
                <a:custGeom>
                  <a:avLst/>
                  <a:gdLst/>
                  <a:ahLst/>
                  <a:rect l="l" t="t" r="r" b="b"/>
                  <a:pathLst>
                    <a:path w="87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7" y="0"/>
                      </a:lnTo>
                      <a:lnTo>
                        <a:pt x="87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991800" y="2043000"/>
                  <a:ext cx="138240" cy="4680"/>
                </a:xfrm>
                <a:custGeom>
                  <a:avLst/>
                  <a:gdLst/>
                  <a:ahLst/>
                  <a:rect l="l" t="t" r="r" b="b"/>
                  <a:pathLst>
                    <a:path w="87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87" y="0"/>
                      </a:lnTo>
                      <a:lnTo>
                        <a:pt x="8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995040" y="2043000"/>
                  <a:ext cx="139680" cy="4680"/>
                </a:xfrm>
                <a:custGeom>
                  <a:avLst/>
                  <a:gdLst/>
                  <a:ahLst/>
                  <a:rect l="l" t="t" r="r" b="b"/>
                  <a:pathLst>
                    <a:path w="88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85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995040" y="2039760"/>
                  <a:ext cx="139680" cy="3240"/>
                </a:xfrm>
                <a:custGeom>
                  <a:avLst/>
                  <a:gdLst/>
                  <a:ahLst/>
                  <a:rect l="l" t="t" r="r" b="b"/>
                  <a:pathLst>
                    <a:path w="88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85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995040" y="2036520"/>
                  <a:ext cx="139680" cy="6480"/>
                </a:xfrm>
                <a:prstGeom prst="rect">
                  <a:avLst/>
                </a:pr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995040" y="2036520"/>
                  <a:ext cx="139680" cy="3240"/>
                </a:xfrm>
                <a:prstGeom prst="rect">
                  <a:avLst/>
                </a:pr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995040" y="2033640"/>
                  <a:ext cx="139680" cy="2880"/>
                </a:xfrm>
                <a:prstGeom prst="rect">
                  <a:avLst/>
                </a:pr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995040" y="2030400"/>
                  <a:ext cx="139680" cy="6120"/>
                </a:xfrm>
                <a:custGeom>
                  <a:avLst/>
                  <a:gdLst/>
                  <a:ahLst/>
                  <a:rect l="l" t="t" r="r" b="b"/>
                  <a:pathLst>
                    <a:path w="88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995040" y="2030400"/>
                  <a:ext cx="139680" cy="3240"/>
                </a:xfrm>
                <a:custGeom>
                  <a:avLst/>
                  <a:gdLst/>
                  <a:ahLst/>
                  <a:rect l="l" t="t" r="r" b="b"/>
                  <a:pathLst>
                    <a:path w="88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8" y="0"/>
                      </a:lnTo>
                      <a:lnTo>
                        <a:pt x="88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998280" y="2025720"/>
                  <a:ext cx="136440" cy="468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86" y="3"/>
                      </a:lnTo>
                      <a:lnTo>
                        <a:pt x="8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998280" y="2022480"/>
                  <a:ext cx="136440" cy="7920"/>
                </a:xfrm>
                <a:custGeom>
                  <a:avLst/>
                  <a:gdLst/>
                  <a:ahLst/>
                  <a:rect l="l" t="t" r="r" b="b"/>
                  <a:pathLst>
                    <a:path w="86" h="5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86" y="5"/>
                      </a:lnTo>
                      <a:lnTo>
                        <a:pt x="8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998280" y="2022480"/>
                  <a:ext cx="136440" cy="3240"/>
                </a:xfrm>
                <a:custGeom>
                  <a:avLst/>
                  <a:gdLst/>
                  <a:ahLst/>
                  <a:rect l="l" t="t" r="r" b="b"/>
                  <a:pathLst>
                    <a:path w="86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86" y="0"/>
                      </a:lnTo>
                      <a:lnTo>
                        <a:pt x="8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998280" y="2019240"/>
                  <a:ext cx="136440" cy="3240"/>
                </a:xfrm>
                <a:custGeom>
                  <a:avLst/>
                  <a:gdLst/>
                  <a:ahLst/>
                  <a:rect l="l" t="t" r="r" b="b"/>
                  <a:pathLst>
                    <a:path w="86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86" y="0"/>
                      </a:lnTo>
                      <a:lnTo>
                        <a:pt x="8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002960" y="2019240"/>
                  <a:ext cx="131760" cy="3240"/>
                </a:xfrm>
                <a:prstGeom prst="rect">
                  <a:avLst/>
                </a:pr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002960" y="2016000"/>
                  <a:ext cx="131760" cy="3240"/>
                </a:xfrm>
                <a:custGeom>
                  <a:avLst/>
                  <a:gdLst/>
                  <a:ahLst/>
                  <a:rect l="l" t="t" r="r" b="b"/>
                  <a:pathLst>
                    <a:path w="83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3" y="0"/>
                      </a:lnTo>
                      <a:lnTo>
                        <a:pt x="8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002960" y="2011320"/>
                  <a:ext cx="131760" cy="7920"/>
                </a:xfrm>
                <a:custGeom>
                  <a:avLst/>
                  <a:gdLst/>
                  <a:ahLst/>
                  <a:rect l="l" t="t" r="r" b="b"/>
                  <a:pathLst>
                    <a:path w="83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83" y="0"/>
                      </a:lnTo>
                      <a:lnTo>
                        <a:pt x="8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006200" y="2011320"/>
                  <a:ext cx="128520" cy="4680"/>
                </a:xfrm>
                <a:prstGeom prst="rect">
                  <a:avLst/>
                </a:prstGeom>
                <a:solidFill>
                  <a:srgbClr val="fff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006200" y="2008080"/>
                  <a:ext cx="131760" cy="3240"/>
                </a:xfrm>
                <a:custGeom>
                  <a:avLst/>
                  <a:gdLst/>
                  <a:ahLst/>
                  <a:rect l="l" t="t" r="r" b="b"/>
                  <a:pathLst>
                    <a:path w="83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3" y="0"/>
                      </a:lnTo>
                      <a:lnTo>
                        <a:pt x="8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006200" y="2004840"/>
                  <a:ext cx="131760" cy="6480"/>
                </a:xfrm>
                <a:custGeom>
                  <a:avLst/>
                  <a:gdLst/>
                  <a:ahLst/>
                  <a:rect l="l" t="t" r="r" b="b"/>
                  <a:pathLst>
                    <a:path w="83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83" y="0"/>
                      </a:lnTo>
                      <a:lnTo>
                        <a:pt x="8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009440" y="2004840"/>
                  <a:ext cx="128520" cy="3240"/>
                </a:xfrm>
                <a:prstGeom prst="rect">
                  <a:avLst/>
                </a:prstGeom>
                <a:solidFill>
                  <a:srgbClr val="fff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009440" y="2001600"/>
                  <a:ext cx="128520" cy="3240"/>
                </a:xfrm>
                <a:custGeom>
                  <a:avLst/>
                  <a:gdLst/>
                  <a:ahLst/>
                  <a:rect l="l" t="t" r="r" b="b"/>
                  <a:pathLst>
                    <a:path w="81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1" y="0"/>
                      </a:lnTo>
                      <a:lnTo>
                        <a:pt x="8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009440" y="2001600"/>
                  <a:ext cx="128520" cy="3240"/>
                </a:xfrm>
                <a:custGeom>
                  <a:avLst/>
                  <a:gdLst/>
                  <a:ahLst/>
                  <a:rect l="l" t="t" r="r" b="b"/>
                  <a:pathLst>
                    <a:path w="81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81" y="0"/>
                      </a:lnTo>
                      <a:lnTo>
                        <a:pt x="8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012680" y="1996920"/>
                  <a:ext cx="125280" cy="4680"/>
                </a:xfrm>
                <a:prstGeom prst="rect">
                  <a:avLst/>
                </a:pr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012680" y="1993680"/>
                  <a:ext cx="125280" cy="7920"/>
                </a:xfrm>
                <a:custGeom>
                  <a:avLst/>
                  <a:gdLst/>
                  <a:ahLst/>
                  <a:rect l="l" t="t" r="r" b="b"/>
                  <a:pathLst>
                    <a:path w="79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9" y="0"/>
                      </a:lnTo>
                      <a:lnTo>
                        <a:pt x="79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1012680" y="1993680"/>
                  <a:ext cx="125280" cy="3240"/>
                </a:xfrm>
                <a:custGeom>
                  <a:avLst/>
                  <a:gdLst/>
                  <a:ahLst/>
                  <a:rect l="l" t="t" r="r" b="b"/>
                  <a:pathLst>
                    <a:path w="79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79" y="0"/>
                      </a:lnTo>
                      <a:lnTo>
                        <a:pt x="79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1017360" y="1990800"/>
                  <a:ext cx="120600" cy="2880"/>
                </a:xfrm>
                <a:prstGeom prst="rect">
                  <a:avLst/>
                </a:pr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017360" y="1987560"/>
                  <a:ext cx="120600" cy="6120"/>
                </a:xfrm>
                <a:custGeom>
                  <a:avLst/>
                  <a:gdLst/>
                  <a:ahLst/>
                  <a:rect l="l" t="t" r="r" b="b"/>
                  <a:pathLst>
                    <a:path w="76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76" y="0"/>
                      </a:lnTo>
                      <a:lnTo>
                        <a:pt x="76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017360" y="1987560"/>
                  <a:ext cx="120600" cy="3240"/>
                </a:xfrm>
                <a:custGeom>
                  <a:avLst/>
                  <a:gdLst/>
                  <a:ahLst/>
                  <a:rect l="l" t="t" r="r" b="b"/>
                  <a:pathLst>
                    <a:path w="76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76" y="0"/>
                      </a:lnTo>
                      <a:lnTo>
                        <a:pt x="7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1020600" y="1982880"/>
                  <a:ext cx="117360" cy="4680"/>
                </a:xfrm>
                <a:custGeom>
                  <a:avLst/>
                  <a:gdLst/>
                  <a:ahLst/>
                  <a:rect l="l" t="t" r="r" b="b"/>
                  <a:pathLst>
                    <a:path w="74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74" y="0"/>
                      </a:lnTo>
                      <a:lnTo>
                        <a:pt x="7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20600" y="1982880"/>
                  <a:ext cx="117360" cy="4680"/>
                </a:xfrm>
                <a:custGeom>
                  <a:avLst/>
                  <a:gdLst/>
                  <a:ahLst/>
                  <a:rect l="l" t="t" r="r" b="b"/>
                  <a:pathLst>
                    <a:path w="74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74" y="0"/>
                      </a:lnTo>
                      <a:lnTo>
                        <a:pt x="7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023840" y="1979640"/>
                  <a:ext cx="114120" cy="3240"/>
                </a:xfrm>
                <a:prstGeom prst="rect">
                  <a:avLst/>
                </a:prstGeom>
                <a:solidFill>
                  <a:srgbClr val="fff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023840" y="1976400"/>
                  <a:ext cx="114120" cy="6480"/>
                </a:xfrm>
                <a:custGeom>
                  <a:avLst/>
                  <a:gdLst/>
                  <a:ahLst/>
                  <a:rect l="l" t="t" r="r" b="b"/>
                  <a:pathLst>
                    <a:path w="72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1023840" y="1976400"/>
                  <a:ext cx="117360" cy="3240"/>
                </a:xfrm>
                <a:custGeom>
                  <a:avLst/>
                  <a:gdLst/>
                  <a:ahLst/>
                  <a:rect l="l" t="t" r="r" b="b"/>
                  <a:pathLst>
                    <a:path w="74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74" y="0"/>
                      </a:lnTo>
                      <a:lnTo>
                        <a:pt x="7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1026720" y="1973160"/>
                  <a:ext cx="114480" cy="3240"/>
                </a:xfrm>
                <a:custGeom>
                  <a:avLst/>
                  <a:gdLst/>
                  <a:ahLst/>
                  <a:rect l="l" t="t" r="r" b="b"/>
                  <a:pathLst>
                    <a:path w="72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1026720" y="1968480"/>
                  <a:ext cx="114480" cy="7920"/>
                </a:xfrm>
                <a:custGeom>
                  <a:avLst/>
                  <a:gdLst/>
                  <a:ahLst/>
                  <a:rect l="l" t="t" r="r" b="b"/>
                  <a:pathLst>
                    <a:path w="72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026720" y="1968480"/>
                  <a:ext cx="114480" cy="4680"/>
                </a:xfrm>
                <a:custGeom>
                  <a:avLst/>
                  <a:gdLst/>
                  <a:ahLst/>
                  <a:rect l="l" t="t" r="r" b="b"/>
                  <a:pathLst>
                    <a:path w="72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2" y="0"/>
                      </a:lnTo>
                      <a:lnTo>
                        <a:pt x="7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031760" y="1965240"/>
                  <a:ext cx="109440" cy="3240"/>
                </a:xfrm>
                <a:prstGeom prst="rect">
                  <a:avLst/>
                </a:pr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031760" y="1962000"/>
                  <a:ext cx="109440" cy="6480"/>
                </a:xfrm>
                <a:custGeom>
                  <a:avLst/>
                  <a:gdLst/>
                  <a:ahLst/>
                  <a:rect l="l" t="t" r="r" b="b"/>
                  <a:pathLst>
                    <a:path w="69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9" y="0"/>
                      </a:lnTo>
                      <a:lnTo>
                        <a:pt x="69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031760" y="1962000"/>
                  <a:ext cx="109440" cy="3240"/>
                </a:xfrm>
                <a:custGeom>
                  <a:avLst/>
                  <a:gdLst/>
                  <a:ahLst/>
                  <a:rect l="l" t="t" r="r" b="b"/>
                  <a:pathLst>
                    <a:path w="69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69" y="0"/>
                      </a:lnTo>
                      <a:lnTo>
                        <a:pt x="69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034640" y="1958760"/>
                  <a:ext cx="106560" cy="3240"/>
                </a:xfrm>
                <a:prstGeom prst="rect">
                  <a:avLst/>
                </a:pr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1034640" y="1958760"/>
                  <a:ext cx="106560" cy="3240"/>
                </a:xfrm>
                <a:custGeom>
                  <a:avLst/>
                  <a:gdLst/>
                  <a:ahLst/>
                  <a:rect l="l" t="t" r="r" b="b"/>
                  <a:pathLst>
                    <a:path w="67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67" y="0"/>
                      </a:lnTo>
                      <a:lnTo>
                        <a:pt x="67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034640" y="1954080"/>
                  <a:ext cx="106560" cy="4680"/>
                </a:xfrm>
                <a:custGeom>
                  <a:avLst/>
                  <a:gdLst/>
                  <a:ahLst/>
                  <a:rect l="l" t="t" r="r" b="b"/>
                  <a:pathLst>
                    <a:path w="67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7" y="0"/>
                      </a:lnTo>
                      <a:lnTo>
                        <a:pt x="6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037880" y="1950840"/>
                  <a:ext cx="103320" cy="7920"/>
                </a:xfrm>
                <a:prstGeom prst="rect">
                  <a:avLst/>
                </a:pr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037880" y="1950840"/>
                  <a:ext cx="103320" cy="3240"/>
                </a:xfrm>
                <a:custGeom>
                  <a:avLst/>
                  <a:gdLst/>
                  <a:ahLst/>
                  <a:rect l="l" t="t" r="r" b="b"/>
                  <a:pathLst>
                    <a:path w="65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65" y="0"/>
                      </a:lnTo>
                      <a:lnTo>
                        <a:pt x="65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037880" y="1947600"/>
                  <a:ext cx="103320" cy="3240"/>
                </a:xfrm>
                <a:custGeom>
                  <a:avLst/>
                  <a:gdLst/>
                  <a:ahLst/>
                  <a:rect l="l" t="t" r="r" b="b"/>
                  <a:pathLst>
                    <a:path w="65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65" y="0"/>
                      </a:lnTo>
                      <a:lnTo>
                        <a:pt x="65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041120" y="1944720"/>
                  <a:ext cx="100080" cy="6120"/>
                </a:xfrm>
                <a:prstGeom prst="rect">
                  <a:avLst/>
                </a:pr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1041120" y="1944720"/>
                  <a:ext cx="100080" cy="2880"/>
                </a:xfrm>
                <a:custGeom>
                  <a:avLst/>
                  <a:gdLst/>
                  <a:ahLst/>
                  <a:rect l="l" t="t" r="r" b="b"/>
                  <a:pathLst>
                    <a:path w="63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63" y="0"/>
                      </a:lnTo>
                      <a:lnTo>
                        <a:pt x="6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041120" y="1939680"/>
                  <a:ext cx="103320" cy="5040"/>
                </a:xfrm>
                <a:custGeom>
                  <a:avLst/>
                  <a:gdLst/>
                  <a:ahLst/>
                  <a:rect l="l" t="t" r="r" b="b"/>
                  <a:pathLst>
                    <a:path w="65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5" y="0"/>
                      </a:lnTo>
                      <a:lnTo>
                        <a:pt x="6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044360" y="1939680"/>
                  <a:ext cx="100080" cy="5040"/>
                </a:xfrm>
                <a:custGeom>
                  <a:avLst/>
                  <a:gdLst/>
                  <a:ahLst/>
                  <a:rect l="l" t="t" r="r" b="b"/>
                  <a:pathLst>
                    <a:path w="6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044360" y="1936800"/>
                  <a:ext cx="100080" cy="2880"/>
                </a:xfrm>
                <a:custGeom>
                  <a:avLst/>
                  <a:gdLst/>
                  <a:ahLst/>
                  <a:rect l="l" t="t" r="r" b="b"/>
                  <a:pathLst>
                    <a:path w="63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63" y="0"/>
                      </a:lnTo>
                      <a:lnTo>
                        <a:pt x="6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044360" y="1933560"/>
                  <a:ext cx="100080" cy="6120"/>
                </a:xfrm>
                <a:custGeom>
                  <a:avLst/>
                  <a:gdLst/>
                  <a:ahLst/>
                  <a:rect l="l" t="t" r="r" b="b"/>
                  <a:pathLst>
                    <a:path w="63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3" y="0"/>
                      </a:lnTo>
                      <a:lnTo>
                        <a:pt x="63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049040" y="1933560"/>
                  <a:ext cx="95400" cy="3240"/>
                </a:xfrm>
                <a:prstGeom prst="rect">
                  <a:avLst/>
                </a:pr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049040" y="1930320"/>
                  <a:ext cx="95400" cy="3240"/>
                </a:xfrm>
                <a:custGeom>
                  <a:avLst/>
                  <a:gdLst/>
                  <a:ahLst/>
                  <a:rect l="l" t="t" r="r" b="b"/>
                  <a:pathLst>
                    <a:path w="60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049040" y="1927080"/>
                  <a:ext cx="95400" cy="6480"/>
                </a:xfrm>
                <a:custGeom>
                  <a:avLst/>
                  <a:gdLst/>
                  <a:ahLst/>
                  <a:rect l="l" t="t" r="r" b="b"/>
                  <a:pathLst>
                    <a:path w="60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60" y="0"/>
                      </a:lnTo>
                      <a:lnTo>
                        <a:pt x="60" y="2"/>
                      </a:lnTo>
                      <a:lnTo>
                        <a:pt x="6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052280" y="1927080"/>
                  <a:ext cx="92160" cy="3240"/>
                </a:xfrm>
                <a:custGeom>
                  <a:avLst/>
                  <a:gdLst/>
                  <a:ahLst/>
                  <a:rect l="l" t="t" r="r" b="b"/>
                  <a:pathLst>
                    <a:path w="58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8" y="0"/>
                      </a:lnTo>
                      <a:lnTo>
                        <a:pt x="58" y="2"/>
                      </a:lnTo>
                      <a:lnTo>
                        <a:pt x="58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052280" y="1922400"/>
                  <a:ext cx="92160" cy="4680"/>
                </a:xfrm>
                <a:custGeom>
                  <a:avLst/>
                  <a:gdLst/>
                  <a:ahLst/>
                  <a:rect l="l" t="t" r="r" b="b"/>
                  <a:pathLst>
                    <a:path w="58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052280" y="1922400"/>
                  <a:ext cx="95400" cy="4680"/>
                </a:xfrm>
                <a:custGeom>
                  <a:avLst/>
                  <a:gdLst/>
                  <a:ahLst/>
                  <a:rect l="l" t="t" r="r" b="b"/>
                  <a:pathLst>
                    <a:path w="60" h="3">
                      <a:moveTo>
                        <a:pt x="0" y="3"/>
                      </a:moveTo>
                      <a:lnTo>
                        <a:pt x="2" y="0"/>
                      </a:lnTo>
                      <a:lnTo>
                        <a:pt x="60" y="0"/>
                      </a:lnTo>
                      <a:lnTo>
                        <a:pt x="5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055520" y="1919160"/>
                  <a:ext cx="92160" cy="3240"/>
                </a:xfrm>
                <a:custGeom>
                  <a:avLst/>
                  <a:gdLst/>
                  <a:ahLst/>
                  <a:rect l="l" t="t" r="r" b="b"/>
                  <a:pathLst>
                    <a:path w="58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8" y="0"/>
                      </a:lnTo>
                      <a:lnTo>
                        <a:pt x="5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055520" y="1915920"/>
                  <a:ext cx="92160" cy="6480"/>
                </a:xfrm>
                <a:custGeom>
                  <a:avLst/>
                  <a:gdLst/>
                  <a:ahLst/>
                  <a:rect l="l" t="t" r="r" b="b"/>
                  <a:pathLst>
                    <a:path w="58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58" y="0"/>
                      </a:lnTo>
                      <a:lnTo>
                        <a:pt x="58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055520" y="1915920"/>
                  <a:ext cx="92160" cy="3240"/>
                </a:xfrm>
                <a:custGeom>
                  <a:avLst/>
                  <a:gdLst/>
                  <a:ahLst/>
                  <a:rect l="l" t="t" r="r" b="b"/>
                  <a:pathLst>
                    <a:path w="58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8" y="0"/>
                      </a:lnTo>
                      <a:lnTo>
                        <a:pt x="58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058760" y="1912680"/>
                  <a:ext cx="88920" cy="3240"/>
                </a:xfrm>
                <a:prstGeom prst="rect">
                  <a:avLst/>
                </a:pr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058760" y="1908000"/>
                  <a:ext cx="88920" cy="7920"/>
                </a:xfrm>
                <a:custGeom>
                  <a:avLst/>
                  <a:gdLst/>
                  <a:ahLst/>
                  <a:rect l="l" t="t" r="r" b="b"/>
                  <a:pathLst>
                    <a:path w="5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56" y="0"/>
                      </a:lnTo>
                      <a:lnTo>
                        <a:pt x="5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058760" y="1908000"/>
                  <a:ext cx="93600" cy="4680"/>
                </a:xfrm>
                <a:custGeom>
                  <a:avLst/>
                  <a:gdLst/>
                  <a:ahLst/>
                  <a:rect l="l" t="t" r="r" b="b"/>
                  <a:pathLst>
                    <a:path w="59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59" y="0"/>
                      </a:lnTo>
                      <a:lnTo>
                        <a:pt x="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063440" y="1904760"/>
                  <a:ext cx="88920" cy="3240"/>
                </a:xfrm>
                <a:custGeom>
                  <a:avLst/>
                  <a:gdLst/>
                  <a:ahLst/>
                  <a:rect l="l" t="t" r="r" b="b"/>
                  <a:pathLst>
                    <a:path w="56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063440" y="1901880"/>
                  <a:ext cx="88920" cy="6120"/>
                </a:xfrm>
                <a:custGeom>
                  <a:avLst/>
                  <a:gdLst/>
                  <a:ahLst/>
                  <a:rect l="l" t="t" r="r" b="b"/>
                  <a:pathLst>
                    <a:path w="56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063440" y="1901880"/>
                  <a:ext cx="88920" cy="2880"/>
                </a:xfrm>
                <a:custGeom>
                  <a:avLst/>
                  <a:gdLst/>
                  <a:ahLst/>
                  <a:rect l="l" t="t" r="r" b="b"/>
                  <a:pathLst>
                    <a:path w="56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6" y="0"/>
                      </a:lnTo>
                      <a:lnTo>
                        <a:pt x="56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066680" y="1898640"/>
                  <a:ext cx="85680" cy="324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066680" y="1898640"/>
                  <a:ext cx="85680" cy="324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069560" y="1893960"/>
                  <a:ext cx="86040" cy="4680"/>
                </a:xfrm>
                <a:custGeom>
                  <a:avLst/>
                  <a:gdLst/>
                  <a:ahLst/>
                  <a:rect l="l" t="t" r="r" b="b"/>
                  <a:pathLst>
                    <a:path w="54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069560" y="1890720"/>
                  <a:ext cx="86040" cy="7920"/>
                </a:xfrm>
                <a:custGeom>
                  <a:avLst/>
                  <a:gdLst/>
                  <a:ahLst/>
                  <a:rect l="l" t="t" r="r" b="b"/>
                  <a:pathLst>
                    <a:path w="54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4" y="0"/>
                      </a:lnTo>
                      <a:lnTo>
                        <a:pt x="5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069560" y="1890720"/>
                  <a:ext cx="86040" cy="324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4" y="0"/>
                      </a:lnTo>
                      <a:lnTo>
                        <a:pt x="5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072800" y="1887480"/>
                  <a:ext cx="82800" cy="3240"/>
                </a:xfrm>
                <a:prstGeom prst="rect">
                  <a:avLst/>
                </a:pr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072800" y="1884240"/>
                  <a:ext cx="82800" cy="6480"/>
                </a:xfrm>
                <a:custGeom>
                  <a:avLst/>
                  <a:gdLst/>
                  <a:ahLst/>
                  <a:rect l="l" t="t" r="r" b="b"/>
                  <a:pathLst>
                    <a:path w="52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52" y="0"/>
                      </a:lnTo>
                      <a:lnTo>
                        <a:pt x="5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072800" y="1884240"/>
                  <a:ext cx="85680" cy="324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54" y="0"/>
                      </a:lnTo>
                      <a:lnTo>
                        <a:pt x="52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077480" y="1879560"/>
                  <a:ext cx="81000" cy="4680"/>
                </a:xfrm>
                <a:custGeom>
                  <a:avLst/>
                  <a:gdLst/>
                  <a:ahLst/>
                  <a:rect l="l" t="t" r="r" b="b"/>
                  <a:pathLst>
                    <a:path w="51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51" y="0"/>
                      </a:lnTo>
                      <a:lnTo>
                        <a:pt x="4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077480" y="1876320"/>
                  <a:ext cx="81000" cy="7920"/>
                </a:xfrm>
                <a:custGeom>
                  <a:avLst/>
                  <a:gdLst/>
                  <a:ahLst/>
                  <a:rect l="l" t="t" r="r" b="b"/>
                  <a:pathLst>
                    <a:path w="51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1" y="0"/>
                      </a:lnTo>
                      <a:lnTo>
                        <a:pt x="5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1077480" y="1876320"/>
                  <a:ext cx="81000" cy="3240"/>
                </a:xfrm>
                <a:custGeom>
                  <a:avLst/>
                  <a:gdLst/>
                  <a:ahLst/>
                  <a:rect l="l" t="t" r="r" b="b"/>
                  <a:pathLst>
                    <a:path w="51" h="2">
                      <a:moveTo>
                        <a:pt x="0" y="2"/>
                      </a:moveTo>
                      <a:lnTo>
                        <a:pt x="2" y="0"/>
                      </a:lnTo>
                      <a:lnTo>
                        <a:pt x="51" y="0"/>
                      </a:lnTo>
                      <a:lnTo>
                        <a:pt x="5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080720" y="1873080"/>
                  <a:ext cx="77760" cy="3240"/>
                </a:xfrm>
                <a:prstGeom prst="rect">
                  <a:avLst/>
                </a:prstGeom>
                <a:solidFill>
                  <a:srgbClr val="ffff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1080720" y="1873080"/>
                <a:ext cx="77760" cy="3240"/>
              </a:xfrm>
              <a:custGeom>
                <a:avLst/>
                <a:gdLst/>
                <a:ahLst/>
                <a:rect l="l" t="t" r="r" b="b"/>
                <a:pathLst>
                  <a:path w="49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80720" y="1869840"/>
                <a:ext cx="81000" cy="3240"/>
              </a:xfrm>
              <a:custGeom>
                <a:avLst/>
                <a:gdLst/>
                <a:ahLst/>
                <a:rect l="l" t="t" r="r" b="b"/>
                <a:pathLst>
                  <a:path w="51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49" y="2"/>
                    </a:lnTo>
                    <a:lnTo>
                      <a:pt x="5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083960" y="1865160"/>
                <a:ext cx="77760" cy="7920"/>
              </a:xfrm>
              <a:custGeom>
                <a:avLst/>
                <a:gdLst/>
                <a:ahLst/>
                <a:rect l="l" t="t" r="r" b="b"/>
                <a:pathLst>
                  <a:path w="49" h="5">
                    <a:moveTo>
                      <a:pt x="0" y="5"/>
                    </a:moveTo>
                    <a:lnTo>
                      <a:pt x="2" y="0"/>
                    </a:lnTo>
                    <a:lnTo>
                      <a:pt x="49" y="0"/>
                    </a:lnTo>
                    <a:lnTo>
                      <a:pt x="47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083960" y="1865160"/>
                <a:ext cx="77760" cy="468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0" y="3"/>
                    </a:moveTo>
                    <a:lnTo>
                      <a:pt x="5" y="0"/>
                    </a:lnTo>
                    <a:lnTo>
                      <a:pt x="49" y="0"/>
                    </a:lnTo>
                    <a:lnTo>
                      <a:pt x="49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087200" y="1861920"/>
                <a:ext cx="74520" cy="3240"/>
              </a:xfrm>
              <a:custGeom>
                <a:avLst/>
                <a:gdLst/>
                <a:ahLst/>
                <a:rect l="l" t="t" r="r" b="b"/>
                <a:pathLst>
                  <a:path w="47" h="2">
                    <a:moveTo>
                      <a:pt x="0" y="2"/>
                    </a:moveTo>
                    <a:lnTo>
                      <a:pt x="3" y="0"/>
                    </a:lnTo>
                    <a:lnTo>
                      <a:pt x="47" y="0"/>
                    </a:lnTo>
                    <a:lnTo>
                      <a:pt x="4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091880" y="1859040"/>
                <a:ext cx="69840" cy="6120"/>
              </a:xfrm>
              <a:custGeom>
                <a:avLst/>
                <a:gdLst/>
                <a:ahLst/>
                <a:rect l="l" t="t" r="r" b="b"/>
                <a:pathLst>
                  <a:path w="44" h="4">
                    <a:moveTo>
                      <a:pt x="0" y="4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91880" y="1859040"/>
                <a:ext cx="69840" cy="2880"/>
              </a:xfrm>
              <a:custGeom>
                <a:avLst/>
                <a:gdLst/>
                <a:ahLst/>
                <a:rect l="l" t="t" r="r" b="b"/>
                <a:pathLst>
                  <a:path w="44" h="2">
                    <a:moveTo>
                      <a:pt x="0" y="2"/>
                    </a:moveTo>
                    <a:lnTo>
                      <a:pt x="2" y="0"/>
                    </a:lnTo>
                    <a:lnTo>
                      <a:pt x="44" y="0"/>
                    </a:lnTo>
                    <a:lnTo>
                      <a:pt x="4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095120" y="18558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2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095120" y="1855800"/>
                <a:ext cx="71280" cy="3240"/>
              </a:xfrm>
              <a:custGeom>
                <a:avLst/>
                <a:gdLst/>
                <a:ahLst/>
                <a:rect l="l" t="t" r="r" b="b"/>
                <a:pathLst>
                  <a:path w="45" h="2">
                    <a:moveTo>
                      <a:pt x="0" y="2"/>
                    </a:moveTo>
                    <a:lnTo>
                      <a:pt x="4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098360" y="1851120"/>
                <a:ext cx="68040" cy="4680"/>
              </a:xfrm>
              <a:custGeom>
                <a:avLst/>
                <a:gdLst/>
                <a:ahLst/>
                <a:rect l="l" t="t" r="r" b="b"/>
                <a:pathLst>
                  <a:path w="43" h="3">
                    <a:moveTo>
                      <a:pt x="0" y="3"/>
                    </a:moveTo>
                    <a:lnTo>
                      <a:pt x="2" y="0"/>
                    </a:lnTo>
                    <a:lnTo>
                      <a:pt x="43" y="0"/>
                    </a:lnTo>
                    <a:lnTo>
                      <a:pt x="4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101600" y="1847880"/>
                <a:ext cx="6480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0" y="5"/>
                    </a:moveTo>
                    <a:lnTo>
                      <a:pt x="3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101600" y="1847880"/>
                <a:ext cx="64800" cy="3240"/>
              </a:xfrm>
              <a:custGeom>
                <a:avLst/>
                <a:gdLst/>
                <a:ahLst/>
                <a:rect l="l" t="t" r="r" b="b"/>
                <a:pathLst>
                  <a:path w="41" h="2">
                    <a:moveTo>
                      <a:pt x="0" y="2"/>
                    </a:moveTo>
                    <a:lnTo>
                      <a:pt x="5" y="0"/>
                    </a:lnTo>
                    <a:lnTo>
                      <a:pt x="41" y="0"/>
                    </a:lnTo>
                    <a:lnTo>
                      <a:pt x="4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106280" y="1844640"/>
                <a:ext cx="60120" cy="324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2"/>
                    </a:moveTo>
                    <a:lnTo>
                      <a:pt x="2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109520" y="1841400"/>
                <a:ext cx="60120" cy="648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0" y="4"/>
                    </a:moveTo>
                    <a:lnTo>
                      <a:pt x="2" y="0"/>
                    </a:lnTo>
                    <a:lnTo>
                      <a:pt x="38" y="0"/>
                    </a:lnTo>
                    <a:lnTo>
                      <a:pt x="36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109520" y="1841400"/>
                <a:ext cx="60120" cy="324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2"/>
                    </a:moveTo>
                    <a:lnTo>
                      <a:pt x="2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112400" y="1838160"/>
                <a:ext cx="57240" cy="324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0" y="2"/>
                    </a:moveTo>
                    <a:lnTo>
                      <a:pt x="2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12400" y="1838160"/>
                <a:ext cx="57240" cy="3240"/>
              </a:xfrm>
              <a:custGeom>
                <a:avLst/>
                <a:gdLst/>
                <a:ahLst/>
                <a:rect l="l" t="t" r="r" b="b"/>
                <a:pathLst>
                  <a:path w="36" h="2">
                    <a:moveTo>
                      <a:pt x="0" y="2"/>
                    </a:moveTo>
                    <a:lnTo>
                      <a:pt x="5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115640" y="1833480"/>
                <a:ext cx="54000" cy="4680"/>
              </a:xfrm>
              <a:custGeom>
                <a:avLst/>
                <a:gdLst/>
                <a:ahLst/>
                <a:rect l="l" t="t" r="r" b="b"/>
                <a:pathLst>
                  <a:path w="34" h="3">
                    <a:moveTo>
                      <a:pt x="0" y="3"/>
                    </a:moveTo>
                    <a:lnTo>
                      <a:pt x="3" y="0"/>
                    </a:lnTo>
                    <a:lnTo>
                      <a:pt x="34" y="0"/>
                    </a:lnTo>
                    <a:lnTo>
                      <a:pt x="34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120680" y="1830240"/>
                <a:ext cx="48960" cy="7920"/>
              </a:xfrm>
              <a:custGeom>
                <a:avLst/>
                <a:gdLst/>
                <a:ahLst/>
                <a:rect l="l" t="t" r="r" b="b"/>
                <a:pathLst>
                  <a:path w="31" h="5">
                    <a:moveTo>
                      <a:pt x="0" y="5"/>
                    </a:moveTo>
                    <a:lnTo>
                      <a:pt x="2" y="0"/>
                    </a:lnTo>
                    <a:lnTo>
                      <a:pt x="31" y="0"/>
                    </a:lnTo>
                    <a:lnTo>
                      <a:pt x="3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120680" y="18302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33" h="2">
                    <a:moveTo>
                      <a:pt x="0" y="2"/>
                    </a:moveTo>
                    <a:lnTo>
                      <a:pt x="4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123560" y="1827000"/>
                <a:ext cx="49320" cy="3240"/>
              </a:xfrm>
              <a:custGeom>
                <a:avLst/>
                <a:gdLst/>
                <a:ahLst/>
                <a:rect l="l" t="t" r="r" b="b"/>
                <a:pathLst>
                  <a:path w="31" h="2">
                    <a:moveTo>
                      <a:pt x="0" y="2"/>
                    </a:moveTo>
                    <a:lnTo>
                      <a:pt x="2" y="0"/>
                    </a:lnTo>
                    <a:lnTo>
                      <a:pt x="31" y="0"/>
                    </a:lnTo>
                    <a:lnTo>
                      <a:pt x="2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26800" y="1824120"/>
                <a:ext cx="46080" cy="612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0" y="4"/>
                    </a:moveTo>
                    <a:lnTo>
                      <a:pt x="2" y="0"/>
                    </a:lnTo>
                    <a:lnTo>
                      <a:pt x="29" y="0"/>
                    </a:lnTo>
                    <a:lnTo>
                      <a:pt x="2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126800" y="1824120"/>
                <a:ext cx="46080" cy="2880"/>
              </a:xfrm>
              <a:custGeom>
                <a:avLst/>
                <a:gdLst/>
                <a:ahLst/>
                <a:rect l="l" t="t" r="r" b="b"/>
                <a:pathLst>
                  <a:path w="29" h="2">
                    <a:moveTo>
                      <a:pt x="0" y="2"/>
                    </a:moveTo>
                    <a:lnTo>
                      <a:pt x="5" y="0"/>
                    </a:lnTo>
                    <a:lnTo>
                      <a:pt x="29" y="0"/>
                    </a:lnTo>
                    <a:lnTo>
                      <a:pt x="2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30040" y="1819080"/>
                <a:ext cx="42840" cy="5040"/>
              </a:xfrm>
              <a:custGeom>
                <a:avLst/>
                <a:gdLst/>
                <a:ahLst/>
                <a:rect l="l" t="t" r="r" b="b"/>
                <a:pathLst>
                  <a:path w="27" h="3">
                    <a:moveTo>
                      <a:pt x="0" y="3"/>
                    </a:moveTo>
                    <a:lnTo>
                      <a:pt x="3" y="0"/>
                    </a:lnTo>
                    <a:lnTo>
                      <a:pt x="27" y="0"/>
                    </a:lnTo>
                    <a:lnTo>
                      <a:pt x="27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134720" y="1815840"/>
                <a:ext cx="41400" cy="828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5"/>
                    </a:moveTo>
                    <a:lnTo>
                      <a:pt x="2" y="0"/>
                    </a:lnTo>
                    <a:lnTo>
                      <a:pt x="26" y="0"/>
                    </a:lnTo>
                    <a:lnTo>
                      <a:pt x="24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134720" y="1815840"/>
                <a:ext cx="41400" cy="3240"/>
              </a:xfrm>
              <a:custGeom>
                <a:avLst/>
                <a:gdLst/>
                <a:ahLst/>
                <a:rect l="l" t="t" r="r" b="b"/>
                <a:pathLst>
                  <a:path w="26" h="2">
                    <a:moveTo>
                      <a:pt x="0" y="2"/>
                    </a:moveTo>
                    <a:lnTo>
                      <a:pt x="2" y="0"/>
                    </a:lnTo>
                    <a:lnTo>
                      <a:pt x="26" y="0"/>
                    </a:lnTo>
                    <a:lnTo>
                      <a:pt x="2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37960" y="181296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2"/>
                    </a:moveTo>
                    <a:lnTo>
                      <a:pt x="2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137960" y="181296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2"/>
                    </a:moveTo>
                    <a:lnTo>
                      <a:pt x="4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41200" y="1809720"/>
                <a:ext cx="34920" cy="3240"/>
              </a:xfrm>
              <a:custGeom>
                <a:avLst/>
                <a:gdLst/>
                <a:ahLst/>
                <a:rect l="l" t="t" r="r" b="b"/>
                <a:pathLst>
                  <a:path w="22" h="2">
                    <a:moveTo>
                      <a:pt x="0" y="2"/>
                    </a:moveTo>
                    <a:lnTo>
                      <a:pt x="2" y="0"/>
                    </a:lnTo>
                    <a:lnTo>
                      <a:pt x="22" y="0"/>
                    </a:lnTo>
                    <a:lnTo>
                      <a:pt x="2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144440" y="1805040"/>
                <a:ext cx="31680" cy="792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5"/>
                    </a:moveTo>
                    <a:lnTo>
                      <a:pt x="2" y="0"/>
                    </a:lnTo>
                    <a:lnTo>
                      <a:pt x="20" y="0"/>
                    </a:lnTo>
                    <a:lnTo>
                      <a:pt x="2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144440" y="180504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3"/>
                    </a:moveTo>
                    <a:lnTo>
                      <a:pt x="5" y="0"/>
                    </a:lnTo>
                    <a:lnTo>
                      <a:pt x="23" y="0"/>
                    </a:lnTo>
                    <a:lnTo>
                      <a:pt x="2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147680" y="180180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152360" y="17985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0" y="4"/>
                    </a:moveTo>
                    <a:lnTo>
                      <a:pt x="2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52360" y="179856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2"/>
                    </a:moveTo>
                    <a:lnTo>
                      <a:pt x="4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155600" y="1795320"/>
                <a:ext cx="28440" cy="324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0" y="2"/>
                    </a:moveTo>
                    <a:lnTo>
                      <a:pt x="2" y="0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58480" y="1795320"/>
                <a:ext cx="25560" cy="32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2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158480" y="1790640"/>
                <a:ext cx="2556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2" y="0"/>
                    </a:lnTo>
                    <a:lnTo>
                      <a:pt x="16" y="0"/>
                    </a:lnTo>
                    <a:lnTo>
                      <a:pt x="16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161720" y="178740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5"/>
                    </a:moveTo>
                    <a:lnTo>
                      <a:pt x="3" y="0"/>
                    </a:lnTo>
                    <a:lnTo>
                      <a:pt x="16" y="0"/>
                    </a:lnTo>
                    <a:lnTo>
                      <a:pt x="14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161720" y="1787400"/>
                <a:ext cx="25560" cy="32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5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166400" y="178416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2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169640" y="178092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4"/>
                    </a:moveTo>
                    <a:lnTo>
                      <a:pt x="2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169640" y="178092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2"/>
                    </a:moveTo>
                    <a:lnTo>
                      <a:pt x="4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172880" y="1776240"/>
                <a:ext cx="17640" cy="46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2" y="0"/>
                    </a:lnTo>
                    <a:lnTo>
                      <a:pt x="11" y="0"/>
                    </a:lnTo>
                    <a:lnTo>
                      <a:pt x="9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176120" y="177624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3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176120" y="177300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3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180800" y="17701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2" y="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180800" y="1770120"/>
                <a:ext cx="1440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184040" y="1766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187280" y="17622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187280" y="17622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5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190520" y="1758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195200" y="1758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195200" y="17557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198440" y="17524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198440" y="1752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762120" y="171468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z + 4z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14400" y="3009960"/>
            <a:ext cx="765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z + z + z) + (z + z + z + z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" y="41911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 + z + z + z + z + z + z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2520" y="53989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7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2743200" y="2666520"/>
            <a:ext cx="2971080" cy="304920"/>
            <a:chOff x="2743200" y="2666520"/>
            <a:chExt cx="2971080" cy="304920"/>
          </a:xfrm>
        </p:grpSpPr>
        <p:sp>
          <p:nvSpPr>
            <p:cNvPr id="987" name=""/>
            <p:cNvSpPr/>
            <p:nvPr/>
          </p:nvSpPr>
          <p:spPr>
            <a:xfrm flipH="1" flipV="1" rot="5400000">
              <a:off x="3238200" y="217080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 rot="5400000">
              <a:off x="4951800" y="2208960"/>
              <a:ext cx="304920" cy="1219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 rot="5400000">
            <a:off x="4152240" y="2171520"/>
            <a:ext cx="457200" cy="6172200"/>
          </a:xfrm>
          <a:custGeom>
            <a:avLst/>
            <a:gdLst>
              <a:gd name="textAreaLeft" fmla="*/ 0 w 457200"/>
              <a:gd name="textAreaRight" fmla="*/ 164880 w 457200"/>
              <a:gd name="textAreaTop" fmla="*/ 160920 h 6172200"/>
              <a:gd name="textAreaBottom" fmla="*/ 6011280 h 617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91"/>
                </a:lnTo>
                <a:cubicBezTo>
                  <a:pt x="10800" y="10091"/>
                  <a:pt x="16200" y="10991"/>
                  <a:pt x="21600" y="10991"/>
                </a:cubicBezTo>
                <a:cubicBezTo>
                  <a:pt x="16200" y="10991"/>
                  <a:pt x="10800" y="11891"/>
                  <a:pt x="10800" y="1279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26960" y="1626120"/>
            <a:ext cx="2288880" cy="1387800"/>
            <a:chOff x="426960" y="1626120"/>
            <a:chExt cx="2288880" cy="1387800"/>
          </a:xfrm>
        </p:grpSpPr>
        <p:sp>
          <p:nvSpPr>
            <p:cNvPr id="991" name=""/>
            <p:cNvSpPr/>
            <p:nvPr/>
          </p:nvSpPr>
          <p:spPr>
            <a:xfrm rot="20897400">
              <a:off x="536400" y="1828440"/>
              <a:ext cx="20574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20897400">
              <a:off x="500760" y="1859400"/>
              <a:ext cx="214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228600" y="16765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z + 4z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2819520" y="1828800"/>
            <a:ext cx="2286000" cy="838080"/>
            <a:chOff x="2819520" y="1828800"/>
            <a:chExt cx="2286000" cy="838080"/>
          </a:xfrm>
        </p:grpSpPr>
        <p:sp>
          <p:nvSpPr>
            <p:cNvPr id="995" name=""/>
            <p:cNvSpPr/>
            <p:nvPr/>
          </p:nvSpPr>
          <p:spPr>
            <a:xfrm>
              <a:off x="2819520" y="1828800"/>
              <a:ext cx="609480" cy="838080"/>
            </a:xfrm>
            <a:prstGeom prst="ellipse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95680" y="1828800"/>
              <a:ext cx="609840" cy="838080"/>
            </a:xfrm>
            <a:prstGeom prst="ellipse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457200" y="32767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the algebraic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variables and exponent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ACT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sa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ADD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effic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791320" y="1523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cc"/>
                </a:solidFill>
                <a:latin typeface="Comic Sans MS"/>
              </a:rPr>
              <a:t>7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21:12:16Z</dcterms:created>
  <dc:creator>Community Campus</dc:creator>
  <dc:description/>
  <dc:language>en-US</dc:language>
  <cp:lastModifiedBy>iddcws</cp:lastModifiedBy>
  <dcterms:modified xsi:type="dcterms:W3CDTF">2003-01-28T18:51:14Z</dcterms:modified>
  <cp:revision>136</cp:revision>
  <dc:subject/>
  <dc:title>PowerPoint Presentation</dc:title>
</cp:coreProperties>
</file>